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A7D-579D-4A3E-95E1-3EC9C6B8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4F7-E210-4E53-BEAE-BF7D7ADD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136-1981-4613-BDAE-1542B39F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6C9-2B0D-4A5B-A3DA-06EDE22C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94B-6522-4B23-95D3-7CD58849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4ED-1A7E-47E3-B349-DF287AAF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079-B759-4FB8-84D9-FC66694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A22-3837-4B54-AF20-09464D29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95E-2350-4A75-9F0C-0F6E339C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83B-7751-46BE-99BE-4B4EB40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A3C-43B9-48A8-8427-AE2552E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48A-1274-46D7-BE1F-C0B606B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9A60-D6A1-49D6-A5DA-0A65874BA1B0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36364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ff"/>
                </a:solidFill>
                <a:latin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5C2A-F367-499D-8078-279EC2117D5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" name="Oval 52"/>
          <p:cNvSpPr/>
          <p:nvPr/>
        </p:nvSpPr>
        <p:spPr>
          <a:xfrm>
            <a:off x="8244000" y="6381720"/>
            <a:ext cx="214200" cy="2142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53"/>
          <p:cNvSpPr/>
          <p:nvPr/>
        </p:nvSpPr>
        <p:spPr>
          <a:xfrm>
            <a:off x="8532720" y="670068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54"/>
          <p:cNvSpPr/>
          <p:nvPr/>
        </p:nvSpPr>
        <p:spPr>
          <a:xfrm>
            <a:off x="8829720" y="65437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57"/>
          <p:cNvSpPr/>
          <p:nvPr/>
        </p:nvSpPr>
        <p:spPr>
          <a:xfrm>
            <a:off x="7740720" y="673884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58"/>
          <p:cNvSpPr/>
          <p:nvPr/>
        </p:nvSpPr>
        <p:spPr>
          <a:xfrm>
            <a:off x="5076720" y="765000"/>
            <a:ext cx="112680" cy="11304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59"/>
          <p:cNvSpPr/>
          <p:nvPr/>
        </p:nvSpPr>
        <p:spPr>
          <a:xfrm>
            <a:off x="4211640" y="54936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60" descr="院徽空心"/>
          <p:cNvPicPr/>
          <p:nvPr/>
        </p:nvPicPr>
        <p:blipFill>
          <a:blip r:embed="rId3"/>
          <a:stretch/>
        </p:blipFill>
        <p:spPr>
          <a:xfrm>
            <a:off x="5103720" y="6372360"/>
            <a:ext cx="433440" cy="41256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61"/>
          <p:cNvGrpSpPr/>
          <p:nvPr/>
        </p:nvGrpSpPr>
        <p:grpSpPr>
          <a:xfrm>
            <a:off x="7666200" y="6232680"/>
            <a:ext cx="1477800" cy="1193400"/>
            <a:chOff x="7666200" y="6232680"/>
            <a:chExt cx="1477800" cy="1193400"/>
          </a:xfrm>
        </p:grpSpPr>
        <p:pic>
          <p:nvPicPr>
            <p:cNvPr id="13" name="图片 8" descr="C:\Documents and Settings\Administrator\桌面\国庆 1-8.png"/>
            <p:cNvPicPr/>
            <p:nvPr/>
          </p:nvPicPr>
          <p:blipFill>
            <a:blip r:embed="rId4"/>
            <a:stretch/>
          </p:blipFill>
          <p:spPr>
            <a:xfrm>
              <a:off x="8728200" y="6232680"/>
              <a:ext cx="415800" cy="63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" name="Group 63"/>
            <p:cNvGrpSpPr/>
            <p:nvPr/>
          </p:nvGrpSpPr>
          <p:grpSpPr>
            <a:xfrm>
              <a:off x="7666200" y="6255360"/>
              <a:ext cx="1255320" cy="1170720"/>
              <a:chOff x="7666200" y="6255360"/>
              <a:chExt cx="1255320" cy="1170720"/>
            </a:xfrm>
          </p:grpSpPr>
          <p:pic>
            <p:nvPicPr>
              <p:cNvPr id="15" name="Picture 64" descr="60"/>
              <p:cNvPicPr/>
              <p:nvPr/>
            </p:nvPicPr>
            <p:blipFill>
              <a:blip r:embed="rId5"/>
              <a:srcRect l="49813" t="0" r="0" b="42867"/>
              <a:stretch/>
            </p:blipFill>
            <p:spPr>
              <a:xfrm>
                <a:off x="7666200" y="6255360"/>
                <a:ext cx="1255320" cy="117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" name="Oval 65"/>
              <p:cNvSpPr/>
              <p:nvPr/>
            </p:nvSpPr>
            <p:spPr>
              <a:xfrm>
                <a:off x="8547120" y="6519960"/>
                <a:ext cx="149040" cy="167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" name="Rectangle 66"/>
          <p:cNvSpPr/>
          <p:nvPr/>
        </p:nvSpPr>
        <p:spPr>
          <a:xfrm>
            <a:off x="468360" y="640080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fld id="{0DB3443D-B351-42C6-8B7B-4AE6E5FC148E}" type="slidenum">
              <a:rPr b="1" i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536400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封面底图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835280" y="21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1028880" y="16574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1514520" y="2414520"/>
            <a:ext cx="214200" cy="214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2556000" y="2962440"/>
            <a:ext cx="106200" cy="1062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6858000" y="147168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7526160" y="2408400"/>
            <a:ext cx="214560" cy="2142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3814920" y="18860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1395360" y="819000"/>
            <a:ext cx="695520" cy="69552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7583400" y="269568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4338720" y="214308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8558280" y="40957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086360" y="227664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5"/>
          <p:cNvSpPr/>
          <p:nvPr/>
        </p:nvSpPr>
        <p:spPr>
          <a:xfrm>
            <a:off x="6446880" y="1590840"/>
            <a:ext cx="144360" cy="1443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6"/>
          <p:cNvSpPr/>
          <p:nvPr/>
        </p:nvSpPr>
        <p:spPr>
          <a:xfrm>
            <a:off x="6558120" y="192420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7"/>
          <p:cNvSpPr/>
          <p:nvPr/>
        </p:nvSpPr>
        <p:spPr>
          <a:xfrm>
            <a:off x="1881360" y="338148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7164360" y="25351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4929120" y="22953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7881840" y="1514520"/>
            <a:ext cx="138240" cy="13824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1"/>
          <p:cNvSpPr/>
          <p:nvPr/>
        </p:nvSpPr>
        <p:spPr>
          <a:xfrm>
            <a:off x="7120080" y="63180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5919840" y="6764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3"/>
          <p:cNvSpPr/>
          <p:nvPr/>
        </p:nvSpPr>
        <p:spPr>
          <a:xfrm>
            <a:off x="8510760" y="720720"/>
            <a:ext cx="131760" cy="1317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4"/>
          <p:cNvSpPr/>
          <p:nvPr/>
        </p:nvSpPr>
        <p:spPr>
          <a:xfrm>
            <a:off x="1643040" y="95256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5"/>
          <p:cNvSpPr/>
          <p:nvPr/>
        </p:nvSpPr>
        <p:spPr>
          <a:xfrm>
            <a:off x="1735200" y="101268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1595520" y="178128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7653240" y="1089000"/>
            <a:ext cx="106560" cy="106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8339040" y="370512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2948040" y="117144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757080" y="3019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5767560" y="1876320"/>
            <a:ext cx="182520" cy="1825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5253120" y="1876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361800" y="628560"/>
            <a:ext cx="31464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4"/>
          <p:cNvSpPr/>
          <p:nvPr/>
        </p:nvSpPr>
        <p:spPr>
          <a:xfrm>
            <a:off x="966960" y="101916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5"/>
          <p:cNvSpPr/>
          <p:nvPr/>
        </p:nvSpPr>
        <p:spPr>
          <a:xfrm>
            <a:off x="452520" y="13622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6"/>
          <p:cNvSpPr/>
          <p:nvPr/>
        </p:nvSpPr>
        <p:spPr>
          <a:xfrm>
            <a:off x="4932360" y="260280"/>
            <a:ext cx="112680" cy="1126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7"/>
          <p:cNvSpPr/>
          <p:nvPr/>
        </p:nvSpPr>
        <p:spPr>
          <a:xfrm>
            <a:off x="4789440" y="9237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2"/>
          <p:cNvSpPr/>
          <p:nvPr/>
        </p:nvSpPr>
        <p:spPr>
          <a:xfrm>
            <a:off x="6877080" y="364500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6"/>
          <p:cNvSpPr/>
          <p:nvPr/>
        </p:nvSpPr>
        <p:spPr>
          <a:xfrm>
            <a:off x="1014480" y="28893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外科治疗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10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5"/>
          <p:cNvSpPr/>
          <p:nvPr/>
        </p:nvSpPr>
        <p:spPr>
          <a:xfrm>
            <a:off x="536400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805040"/>
            <a:ext cx="455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溃疡性结肠炎（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ulcerative colitis,UC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又称非特异性溃疡性结肠炎，是一种病因不明的直肠和结肠炎性疾病。病变主要在大肠粘膜与粘膜下层。临床表现为腹痛、腹泻、粘液脓血便。本病与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克隆恩病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Crohn’s Disea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合称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炎症性肠病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Inflammatory Bowel Disease,IB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溃疡性结肠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slide-3 copy"/>
          <p:cNvPicPr/>
          <p:nvPr/>
        </p:nvPicPr>
        <p:blipFill>
          <a:blip r:embed="rId1"/>
          <a:stretch/>
        </p:blipFill>
        <p:spPr>
          <a:xfrm>
            <a:off x="5148360" y="1773360"/>
            <a:ext cx="3529080" cy="439236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98" name="Text Box 9"/>
          <p:cNvSpPr/>
          <p:nvPr/>
        </p:nvSpPr>
        <p:spPr>
          <a:xfrm>
            <a:off x="712800" y="6384960"/>
            <a:ext cx="443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536400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封面底图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val 4"/>
          <p:cNvSpPr/>
          <p:nvPr/>
        </p:nvSpPr>
        <p:spPr>
          <a:xfrm>
            <a:off x="1028880" y="16574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1514520" y="2414520"/>
            <a:ext cx="214200" cy="214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29000" y="2879640"/>
            <a:ext cx="106200" cy="106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858000" y="147168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272280" y="2357280"/>
            <a:ext cx="214200" cy="214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3814920" y="18860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395360" y="819000"/>
            <a:ext cx="695520" cy="69552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6357960" y="263844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4338720" y="214308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8558280" y="40957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3932280" y="240984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6446880" y="1590840"/>
            <a:ext cx="144360" cy="1443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6558120" y="192420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1881360" y="338148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5910120" y="2476440"/>
            <a:ext cx="31464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4929120" y="22953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7881840" y="1514520"/>
            <a:ext cx="138240" cy="13824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7120080" y="63180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5919840" y="6764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8510760" y="720720"/>
            <a:ext cx="131760" cy="1317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1643040" y="95256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1735200" y="101268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6"/>
          <p:cNvSpPr/>
          <p:nvPr/>
        </p:nvSpPr>
        <p:spPr>
          <a:xfrm>
            <a:off x="1595520" y="178128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7"/>
          <p:cNvSpPr/>
          <p:nvPr/>
        </p:nvSpPr>
        <p:spPr>
          <a:xfrm>
            <a:off x="7653240" y="1089000"/>
            <a:ext cx="106560" cy="106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8"/>
          <p:cNvSpPr/>
          <p:nvPr/>
        </p:nvSpPr>
        <p:spPr>
          <a:xfrm>
            <a:off x="8339040" y="370512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9"/>
          <p:cNvSpPr/>
          <p:nvPr/>
        </p:nvSpPr>
        <p:spPr>
          <a:xfrm>
            <a:off x="2948040" y="117144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0"/>
          <p:cNvSpPr/>
          <p:nvPr/>
        </p:nvSpPr>
        <p:spPr>
          <a:xfrm>
            <a:off x="757080" y="3019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1"/>
          <p:cNvSpPr/>
          <p:nvPr/>
        </p:nvSpPr>
        <p:spPr>
          <a:xfrm>
            <a:off x="5767560" y="1876320"/>
            <a:ext cx="182520" cy="1825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5253120" y="1876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361800" y="628560"/>
            <a:ext cx="31464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966960" y="101916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452520" y="13622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4890960" y="270000"/>
            <a:ext cx="112680" cy="1126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7"/>
          <p:cNvSpPr/>
          <p:nvPr/>
        </p:nvSpPr>
        <p:spPr>
          <a:xfrm>
            <a:off x="4789440" y="9237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3384720" y="279864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5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5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50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5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5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10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49:58Z</dcterms:created>
  <dc:creator>微软用户</dc:creator>
  <dc:description/>
  <dc:language>en-US</dc:language>
  <cp:lastModifiedBy>王玉清</cp:lastModifiedBy>
  <dcterms:modified xsi:type="dcterms:W3CDTF">2016-02-25T02:45:19Z</dcterms:modified>
  <cp:revision>224</cp:revision>
  <dc:subject/>
  <dc:title>幻灯片 1</dc:title>
</cp:coreProperties>
</file>