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3.png" ContentType="image/png"/>
  <Override PartName="/ppt/media/hdphoto4.wdp" ContentType="image/vnd.ms-photo"/>
  <Override PartName="/ppt/media/image21.jpeg" ContentType="image/jpeg"/>
  <Override PartName="/ppt/media/image22.png" ContentType="image/png"/>
  <Override PartName="/ppt/media/image20.png" ContentType="image/png"/>
  <Override PartName="/ppt/media/hdphoto3.wdp" ContentType="image/vnd.ms-photo"/>
  <Override PartName="/ppt/media/image15.png" ContentType="image/png"/>
  <Override PartName="/ppt/media/hdphoto2.wdp" ContentType="image/vnd.ms-photo"/>
  <Override PartName="/ppt/media/image14.png" ContentType="image/png"/>
  <Override PartName="/ppt/media/image18.jpeg" ContentType="image/jpeg"/>
  <Override PartName="/ppt/media/image16.png" ContentType="image/png"/>
  <Override PartName="/ppt/media/hdphoto1.wdp" ContentType="image/vnd.ms-photo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EF67C0-B4E6-4F6D-8474-130B72D1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5BBD4C-1612-49C4-AD5E-E72113E8E1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DC8-4E9B-48D2-B63D-205A25BB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FC7-0716-4706-808E-BA0B0ADF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764-F4C6-492E-92CF-3762140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D81-38B2-4755-8BFC-10D87C6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CCBC-0BFC-46AA-B086-34179221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9F24-0009-4A6B-8D4B-6CB7C4F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DBE-7EFC-4605-B669-3DF80BF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8ED-E328-4027-91A1-BF2AD78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67C-7CC2-4E2A-9C95-9C022070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BB9C-3756-4F04-AE6E-C89E794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FCF2-61CD-4278-8B07-CFE77AC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79B-8476-4480-B455-F807662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EDD0-FE5B-4F63-821E-6639910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95CB-FFBA-4F38-A044-C145DA1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223-EC86-4500-B6D4-A90F467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8DA6-FD1E-4DDF-AECA-E0175347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9ECE-C1A5-4A7C-B5E5-C1256C77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EECC-C056-46BF-AD35-C1F2AF13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9B8A-247F-47C2-B039-A5035B14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A11F-640E-432F-A697-FFFC4B2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3471-8309-457A-8022-8F1BB89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35DC-9E6E-408B-9B11-E0AB646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9DA-5001-4CE5-B5E5-E1E31925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E728-FF38-4D52-BE8E-6E3C8CA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775B-658E-4F0D-B7A8-2DCF8DD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2228-F510-46E5-B452-7B9ECAF0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41B1-9D4A-434C-9B7C-82B8215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DE53-AED4-4168-8DCD-AD71156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AAAD-E103-4C38-B76C-E14098C7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8868-237D-47F7-B953-92830C4F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5E7-152B-4681-BA90-E974083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161-09B9-47C7-8E76-7C7DC77E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FCE-2391-43B6-B46D-F6E9D1A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ADA-6D45-4200-B40D-CCDA0B3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0D2-E3BD-4ED8-9F7B-EC178FB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824-F70E-4842-AAED-8D5FB6C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E40257-A1A4-435E-BBA7-2AE36A5C68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594C81-F29E-435F-BD10-29D83CD36D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615716-184C-4510-BA96-410D44D483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microsoft.com/office/2007/relationships/hdphoto" Target="../media/hdphoto1.wdp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microsoft.com/office/2007/relationships/hdphoto" Target="../media/hdphoto4.wdp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5"/>
          <p:cNvSpPr/>
          <p:nvPr/>
        </p:nvSpPr>
        <p:spPr>
          <a:xfrm>
            <a:off x="0" y="843480"/>
            <a:ext cx="9143640" cy="3528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33459" t="21990" r="28284" b="37450"/>
          <a:stretch/>
        </p:blipFill>
        <p:spPr>
          <a:xfrm>
            <a:off x="6444360" y="709920"/>
            <a:ext cx="2961720" cy="3723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1640520" y="86688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十年我们拼什么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icture 6"/>
          <p:cNvSpPr/>
          <p:nvPr/>
        </p:nvSpPr>
        <p:spPr>
          <a:xfrm>
            <a:off x="467640" y="1419480"/>
            <a:ext cx="2298240" cy="230400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3084840" y="2805120"/>
            <a:ext cx="46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SHOULD WE SPELL IN THE NEXT DEC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角三角形 17"/>
          <p:cNvSpPr/>
          <p:nvPr/>
        </p:nvSpPr>
        <p:spPr>
          <a:xfrm>
            <a:off x="0" y="1995840"/>
            <a:ext cx="2195280" cy="2376000"/>
          </a:xfrm>
          <a:prstGeom prst="rtTriangle">
            <a:avLst/>
          </a:prstGeom>
          <a:solidFill>
            <a:schemeClr val="tx1">
              <a:alpha val="3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41920" y="4840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3978000" y="345852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个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 rot="1672200">
            <a:off x="169164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4"/>
          <p:cNvSpPr/>
          <p:nvPr/>
        </p:nvSpPr>
        <p:spPr>
          <a:xfrm rot="1672200">
            <a:off x="336780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5"/>
          <p:cNvSpPr/>
          <p:nvPr/>
        </p:nvSpPr>
        <p:spPr>
          <a:xfrm rot="1672200">
            <a:off x="504396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 rot="1672200">
            <a:off x="672012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7"/>
          <p:cNvSpPr/>
          <p:nvPr/>
        </p:nvSpPr>
        <p:spPr>
          <a:xfrm rot="18004800">
            <a:off x="158040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 rot="18004800">
            <a:off x="327312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 rot="18004800">
            <a:off x="501480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rot="18004800">
            <a:off x="666828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3708000" y="4227840"/>
            <a:ext cx="1656000" cy="9151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3788640" y="4227840"/>
            <a:ext cx="150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U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2286000" y="21099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一：整；资源整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!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能整合多少资源，多少渠道，你将来就会得到多少财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0"/>
          <p:cNvGrpSpPr/>
          <p:nvPr/>
        </p:nvGrpSpPr>
        <p:grpSpPr>
          <a:xfrm>
            <a:off x="1340640" y="975960"/>
            <a:ext cx="2169360" cy="2071080"/>
            <a:chOff x="1340640" y="975960"/>
            <a:chExt cx="2169360" cy="2071080"/>
          </a:xfrm>
        </p:grpSpPr>
        <p:grpSp>
          <p:nvGrpSpPr>
            <p:cNvPr id="189" name="组合 5"/>
            <p:cNvGrpSpPr/>
            <p:nvPr/>
          </p:nvGrpSpPr>
          <p:grpSpPr>
            <a:xfrm>
              <a:off x="1340640" y="2011320"/>
              <a:ext cx="861480" cy="1035720"/>
              <a:chOff x="1340640" y="2011320"/>
              <a:chExt cx="861480" cy="1035720"/>
            </a:xfrm>
          </p:grpSpPr>
          <p:sp>
            <p:nvSpPr>
              <p:cNvPr id="190" name="矩形 3"/>
              <p:cNvSpPr/>
              <p:nvPr/>
            </p:nvSpPr>
            <p:spPr>
              <a:xfrm>
                <a:off x="1340640" y="2011320"/>
                <a:ext cx="503640" cy="100764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1007640"/>
                  <a:gd name="textAreaBottom" fmla="*/ 1008000 h 100764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311150" y="6350"/>
                    </a:moveTo>
                    <a:lnTo>
                      <a:pt x="504056" y="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311150" y="635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" name="矩形 4"/>
              <p:cNvSpPr/>
              <p:nvPr/>
            </p:nvSpPr>
            <p:spPr>
              <a:xfrm rot="16200000">
                <a:off x="1570680" y="2415600"/>
                <a:ext cx="401400" cy="86148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0" y="0"/>
                    </a:moveTo>
                    <a:lnTo>
                      <a:pt x="504056" y="14605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2" name="组合 6"/>
            <p:cNvGrpSpPr/>
            <p:nvPr/>
          </p:nvGrpSpPr>
          <p:grpSpPr>
            <a:xfrm>
              <a:off x="2648520" y="975960"/>
              <a:ext cx="861480" cy="1035360"/>
              <a:chOff x="2648520" y="975960"/>
              <a:chExt cx="861480" cy="1035360"/>
            </a:xfrm>
          </p:grpSpPr>
          <p:sp>
            <p:nvSpPr>
              <p:cNvPr id="193" name="矩形 3"/>
              <p:cNvSpPr/>
              <p:nvPr/>
            </p:nvSpPr>
            <p:spPr>
              <a:xfrm rot="10800000">
                <a:off x="3006360" y="1003680"/>
                <a:ext cx="503640" cy="100764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1007640"/>
                  <a:gd name="textAreaBottom" fmla="*/ 1008000 h 100764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311150" y="6350"/>
                    </a:moveTo>
                    <a:lnTo>
                      <a:pt x="504056" y="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311150" y="635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矩形 4"/>
              <p:cNvSpPr/>
              <p:nvPr/>
            </p:nvSpPr>
            <p:spPr>
              <a:xfrm rot="5400000">
                <a:off x="2878560" y="745920"/>
                <a:ext cx="401400" cy="86148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0" y="0"/>
                    </a:moveTo>
                    <a:lnTo>
                      <a:pt x="504056" y="14605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5" name="矩形 9"/>
            <p:cNvSpPr/>
            <p:nvPr/>
          </p:nvSpPr>
          <p:spPr>
            <a:xfrm>
              <a:off x="2090160" y="1407600"/>
              <a:ext cx="6840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整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" descr="c:\DOCUME~1\ADMINI~1\APPLIC~1\360se6\USERDA~1\Temp\063014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20" t="523" r="520" b="523"/>
          <a:stretch/>
        </p:blipFill>
        <p:spPr>
          <a:xfrm>
            <a:off x="4596840" y="963360"/>
            <a:ext cx="4451040" cy="3338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2"/>
          <p:cNvSpPr/>
          <p:nvPr/>
        </p:nvSpPr>
        <p:spPr>
          <a:xfrm>
            <a:off x="827640" y="3243240"/>
            <a:ext cx="324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能整合多少资源，多少渠道，你将来就会得到多少财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-15840" y="4845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1115640" y="2905560"/>
            <a:ext cx="2952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造船过河不如借船过河。</a:t>
            </a:r>
            <a:br>
              <a:rPr sz="1800"/>
            </a:b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趋势，无法阻挡；</a:t>
            </a:r>
            <a:br>
              <a:rPr sz="1800"/>
            </a:b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抉择，要有智慧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饼形 2"/>
          <p:cNvSpPr/>
          <p:nvPr/>
        </p:nvSpPr>
        <p:spPr>
          <a:xfrm>
            <a:off x="1547640" y="1105560"/>
            <a:ext cx="1511640" cy="15116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2424600" y="11178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~1\ADMINI~1\APPLIC~1\360se6\USERDA~1\Temp\141210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7845" t="2598" r="7845" b="2598"/>
          <a:stretch/>
        </p:blipFill>
        <p:spPr>
          <a:xfrm>
            <a:off x="4572000" y="994320"/>
            <a:ext cx="440712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1475640" y="2817000"/>
            <a:ext cx="1770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今天的企业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赢在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胜在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1676880" y="1305000"/>
            <a:ext cx="1367640" cy="1367640"/>
          </a:xfrm>
          <a:prstGeom prst="rect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05" name="直接连接符 5"/>
          <p:cNvCxnSpPr/>
          <p:nvPr/>
        </p:nvCxnSpPr>
        <p:spPr>
          <a:xfrm>
            <a:off x="1676520" y="1304640"/>
            <a:ext cx="136872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6" name="直接连接符 7"/>
          <p:cNvCxnSpPr/>
          <p:nvPr/>
        </p:nvCxnSpPr>
        <p:spPr>
          <a:xfrm flipV="1">
            <a:off x="1676520" y="1304640"/>
            <a:ext cx="136872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7" name="直接连接符 9"/>
          <p:cNvCxnSpPr>
            <a:stCxn id="204" idx="1"/>
            <a:endCxn id="204" idx="3"/>
          </p:cNvCxnSpPr>
          <p:nvPr/>
        </p:nvCxnSpPr>
        <p:spPr>
          <a:xfrm>
            <a:off x="1676520" y="1989000"/>
            <a:ext cx="1368720" cy="36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8" name="直接连接符 11"/>
          <p:cNvCxnSpPr>
            <a:stCxn id="204" idx="0"/>
            <a:endCxn id="204" idx="2"/>
          </p:cNvCxnSpPr>
          <p:nvPr/>
        </p:nvCxnSpPr>
        <p:spPr>
          <a:xfrm>
            <a:off x="2360880" y="1304640"/>
            <a:ext cx="36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sp>
        <p:nvSpPr>
          <p:cNvPr id="209" name="矩形 3"/>
          <p:cNvSpPr/>
          <p:nvPr/>
        </p:nvSpPr>
        <p:spPr>
          <a:xfrm>
            <a:off x="2018520" y="143496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~1\ADMINI~1\APPLIC~1\360se6\USERDA~1\Temp\T01F9D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669" t="0" r="5669" b="0"/>
          <a:stretch/>
        </p:blipFill>
        <p:spPr>
          <a:xfrm>
            <a:off x="4552560" y="987480"/>
            <a:ext cx="4417200" cy="33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"/>
          <p:cNvSpPr/>
          <p:nvPr/>
        </p:nvSpPr>
        <p:spPr>
          <a:xfrm>
            <a:off x="755640" y="2499840"/>
            <a:ext cx="36000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想改变口袋，先要改变脑袋！</a:t>
            </a:r>
            <a:br>
              <a:rPr sz="1200"/>
            </a:b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      这个社会一直在淘汰有学历的人，但是不会淘汰有学习力愿意改变的人</a:t>
            </a: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读万卷书不如行万里路，行万里路不如阅人无数，阅人无数不如明师指路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763640" y="1289520"/>
            <a:ext cx="1079640" cy="1079640"/>
          </a:xfrm>
          <a:prstGeom prst="rect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968840" y="127548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1771200" y="1289520"/>
            <a:ext cx="539640" cy="107964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20949" t="12196" r="49603" b="25365"/>
          <a:stretch/>
        </p:blipFill>
        <p:spPr>
          <a:xfrm>
            <a:off x="1763640" y="1275480"/>
            <a:ext cx="547200" cy="1107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~1\ADMINI~1\APPLIC~1\360se6\USERDA~1\Temp\201201~1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556" t="0" r="5556" b="0"/>
          <a:stretch/>
        </p:blipFill>
        <p:spPr>
          <a:xfrm>
            <a:off x="4572000" y="987480"/>
            <a:ext cx="4417200" cy="33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"/>
          <p:cNvSpPr/>
          <p:nvPr/>
        </p:nvSpPr>
        <p:spPr>
          <a:xfrm>
            <a:off x="3276000" y="843480"/>
            <a:ext cx="28080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马云说：成功就是三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"/>
          <p:cNvSpPr/>
          <p:nvPr/>
        </p:nvSpPr>
        <p:spPr>
          <a:xfrm>
            <a:off x="136764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椭圆 4"/>
          <p:cNvSpPr/>
          <p:nvPr/>
        </p:nvSpPr>
        <p:spPr>
          <a:xfrm>
            <a:off x="363600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590400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02464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424728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>
            <a:off x="655128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190764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410400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11"/>
          <p:cNvSpPr/>
          <p:nvPr/>
        </p:nvSpPr>
        <p:spPr>
          <a:xfrm>
            <a:off x="640836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12"/>
          <p:cNvSpPr/>
          <p:nvPr/>
        </p:nvSpPr>
        <p:spPr>
          <a:xfrm>
            <a:off x="2141280" y="28170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289400" y="28170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6579720" y="28170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3312000" y="0"/>
            <a:ext cx="2592000" cy="9151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 rot="20883000">
            <a:off x="597960" y="1279440"/>
            <a:ext cx="727236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今天很残酷、明天很美好、后天更美好、大多数人死在明天晚上、看不到后天的早晨的太阳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的圈子对了、你人生就对了、近墨者黑、近朱者赤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如果懂得选择正能量的人做朋友、我坚信你未来不会太差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改变会痛苦、但不改变会吃苦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改变很难、想改变、是一件很痛苦的事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很多时候、我们必须要改变自己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斩断自己的退路、才能更好地赢得出路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很多时候、我们都需要一种斩断自己退路的勇气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因为身后有退路、就会心存侥幸和安逸、身后无退路、才会为自己赢得出路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7"/>
          <p:cNvSpPr/>
          <p:nvPr/>
        </p:nvSpPr>
        <p:spPr>
          <a:xfrm>
            <a:off x="-21960" y="-9360"/>
            <a:ext cx="9194400" cy="1978560"/>
          </a:xfrm>
          <a:custGeom>
            <a:avLst/>
            <a:gdLst>
              <a:gd name="textAreaLeft" fmla="*/ 0 w 9194400"/>
              <a:gd name="textAreaRight" fmla="*/ 9194760 w 9194400"/>
              <a:gd name="textAreaTop" fmla="*/ 0 h 1978560"/>
              <a:gd name="textAreaBottom" fmla="*/ 1978920 h 1978560"/>
            </a:gdLst>
            <a:ahLst/>
            <a:rect l="textAreaLeft" t="textAreaTop" r="textAreaRight" b="textAreaBottom"/>
            <a:pathLst>
              <a:path w="9194651" h="1978943">
                <a:moveTo>
                  <a:pt x="9194651" y="0"/>
                </a:moveTo>
                <a:lnTo>
                  <a:pt x="0" y="16793"/>
                </a:lnTo>
                <a:lnTo>
                  <a:pt x="28575" y="1978943"/>
                </a:lnTo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任意多边形 8"/>
          <p:cNvSpPr/>
          <p:nvPr/>
        </p:nvSpPr>
        <p:spPr>
          <a:xfrm rot="10800000">
            <a:off x="-21960" y="3164760"/>
            <a:ext cx="9194400" cy="1978560"/>
          </a:xfrm>
          <a:custGeom>
            <a:avLst/>
            <a:gdLst>
              <a:gd name="textAreaLeft" fmla="*/ 0 w 9194400"/>
              <a:gd name="textAreaRight" fmla="*/ 9194760 w 9194400"/>
              <a:gd name="textAreaTop" fmla="*/ 0 h 1978560"/>
              <a:gd name="textAreaBottom" fmla="*/ 1978920 h 1978560"/>
            </a:gdLst>
            <a:ahLst/>
            <a:rect l="textAreaLeft" t="textAreaTop" r="textAreaRight" b="textAreaBottom"/>
            <a:pathLst>
              <a:path w="9194651" h="1978943">
                <a:moveTo>
                  <a:pt x="9194651" y="0"/>
                </a:moveTo>
                <a:lnTo>
                  <a:pt x="0" y="16793"/>
                </a:lnTo>
                <a:lnTo>
                  <a:pt x="28575" y="1978943"/>
                </a:lnTo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Picture 6"/>
          <p:cNvSpPr/>
          <p:nvPr/>
        </p:nvSpPr>
        <p:spPr>
          <a:xfrm>
            <a:off x="447840" y="267480"/>
            <a:ext cx="1220760" cy="122364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 rot="20841000">
            <a:off x="6954120" y="3516120"/>
            <a:ext cx="164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2"/>
          <p:cNvSpPr/>
          <p:nvPr/>
        </p:nvSpPr>
        <p:spPr>
          <a:xfrm rot="10800000">
            <a:off x="360" y="771840"/>
            <a:ext cx="4174920" cy="352872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w="7284318" h="5143500">
                <a:moveTo>
                  <a:pt x="729181" y="12693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729181" y="12693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Picture 6"/>
          <p:cNvSpPr/>
          <p:nvPr/>
        </p:nvSpPr>
        <p:spPr>
          <a:xfrm>
            <a:off x="1043640" y="1491480"/>
            <a:ext cx="1615680" cy="162000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4392360" y="827640"/>
            <a:ext cx="457164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功的人和不成功的人就差一点点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功的人可以无数次修改方法、但绝不轻易放弃目标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成功的人总改目标、就是不改方法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每一次逆境中、都隐藏着成功的契机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命运能给予你哭的境遇、也给了你笑的权力！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爬到山顶了、这座山才会支撑着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的境界提高了、这个境界才来提升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关心别人、别人才会关心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爱护这个环境了、这个环境才会爱护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的亲人幸福了、你才会幸福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自己成功了、朋友才会离你更近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切、从自己做起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8244360" y="771480"/>
            <a:ext cx="4174920" cy="352872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w="7284318" h="5143500">
                <a:moveTo>
                  <a:pt x="729181" y="12693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729181" y="12693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1517040" y="319212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-15840" y="4845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1691640" y="0"/>
            <a:ext cx="7452000" cy="51433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55520" y="-136440"/>
            <a:ext cx="2980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-1306440" y="-1820880"/>
            <a:ext cx="4675320" cy="90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90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1</a:t>
            </a:r>
            <a:endParaRPr b="0" lang="en-US" sz="5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2771640" y="858600"/>
            <a:ext cx="2039760" cy="2039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9"/>
          <p:cNvSpPr/>
          <p:nvPr/>
        </p:nvSpPr>
        <p:spPr>
          <a:xfrm>
            <a:off x="6270120" y="858600"/>
            <a:ext cx="2039760" cy="2039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1" name="Picture 2" descr="c:\DOCUME~1\ADMINI~1\APPLIC~1\360se6\USERDA~1\Temp\728692~1.JPG"/>
          <p:cNvPicPr/>
          <p:nvPr/>
        </p:nvPicPr>
        <p:blipFill>
          <a:blip r:embed="rId1"/>
          <a:stretch/>
        </p:blipFill>
        <p:spPr>
          <a:xfrm>
            <a:off x="2843640" y="1069920"/>
            <a:ext cx="1892520" cy="14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~1\ADMINI~1\APPLIC~1\360se6\USERDA~1\Temp\PIC225~1.JPG"/>
          <p:cNvPicPr/>
          <p:nvPr/>
        </p:nvPicPr>
        <p:blipFill>
          <a:blip r:embed="rId2"/>
          <a:srcRect l="0" t="0" r="0" b="13923"/>
          <a:stretch/>
        </p:blipFill>
        <p:spPr>
          <a:xfrm>
            <a:off x="6314400" y="1265400"/>
            <a:ext cx="2027880" cy="1020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7"/>
          <p:cNvSpPr/>
          <p:nvPr/>
        </p:nvSpPr>
        <p:spPr>
          <a:xfrm>
            <a:off x="2808360" y="34974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摩托罗拉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沉醉在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808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时候，不知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诺基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迎头赶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13"/>
          <p:cNvSpPr/>
          <p:nvPr/>
        </p:nvSpPr>
        <p:spPr>
          <a:xfrm>
            <a:off x="7139160" y="491040"/>
            <a:ext cx="378720" cy="32652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等腰三角形 14"/>
          <p:cNvSpPr/>
          <p:nvPr/>
        </p:nvSpPr>
        <p:spPr>
          <a:xfrm rot="10800000">
            <a:off x="3617640" y="2954880"/>
            <a:ext cx="378720" cy="32652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-204480" y="0"/>
            <a:ext cx="280080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44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2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251640" y="3435840"/>
            <a:ext cx="8892000" cy="660240"/>
          </a:xfrm>
          <a:custGeom>
            <a:avLst/>
            <a:gdLst>
              <a:gd name="textAreaLeft" fmla="*/ 0 w 8892000"/>
              <a:gd name="textAreaRight" fmla="*/ 8892360 w 889200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2051640" y="3535560"/>
            <a:ext cx="6859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诺基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在注重低端机市场时，乔布斯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潜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icture 2"/>
          <p:cNvSpPr/>
          <p:nvPr/>
        </p:nvSpPr>
        <p:spPr>
          <a:xfrm>
            <a:off x="2988000" y="1004400"/>
            <a:ext cx="2160720" cy="212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icture 4"/>
          <p:cNvSpPr/>
          <p:nvPr/>
        </p:nvSpPr>
        <p:spPr>
          <a:xfrm>
            <a:off x="5940000" y="1004400"/>
            <a:ext cx="2123640" cy="212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"/>
          <p:cNvSpPr/>
          <p:nvPr/>
        </p:nvSpPr>
        <p:spPr>
          <a:xfrm>
            <a:off x="6732360" y="0"/>
            <a:ext cx="2411280" cy="51433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33333" t="31138" r="31831" b="46357"/>
          <a:stretch/>
        </p:blipFill>
        <p:spPr>
          <a:xfrm>
            <a:off x="2489040" y="0"/>
            <a:ext cx="6451920" cy="5143320"/>
          </a:xfrm>
          <a:prstGeom prst="rect">
            <a:avLst/>
          </a:prstGeom>
          <a:ln w="0">
            <a:noFill/>
          </a:ln>
        </p:spPr>
      </p:pic>
      <p:sp>
        <p:nvSpPr>
          <p:cNvPr id="153" name="矩形 4"/>
          <p:cNvSpPr/>
          <p:nvPr/>
        </p:nvSpPr>
        <p:spPr>
          <a:xfrm>
            <a:off x="6732360" y="1294560"/>
            <a:ext cx="20725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街机的时候，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星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傲视天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icture 4"/>
          <p:cNvSpPr/>
          <p:nvPr/>
        </p:nvSpPr>
        <p:spPr>
          <a:xfrm>
            <a:off x="467640" y="1276200"/>
            <a:ext cx="2508480" cy="2490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rcRect l="24824" t="28429" r="30750" b="32311"/>
          <a:stretch/>
        </p:blipFill>
        <p:spPr>
          <a:xfrm>
            <a:off x="-1647360" y="0"/>
            <a:ext cx="6192360" cy="675576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0" y="3075840"/>
            <a:ext cx="9143640" cy="1223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3366360" y="3491640"/>
            <a:ext cx="496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移动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沾沾自喜为中国最大的通讯商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3366360" y="2217960"/>
            <a:ext cx="446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浑然不觉</a:t>
            </a:r>
            <a:r>
              <a:rPr b="0" lang="zh-CN" sz="4000" spc="-1" strike="noStrike">
                <a:solidFill>
                  <a:srgbClr val="c11920"/>
                </a:solidFill>
                <a:latin typeface="微软雅黑"/>
                <a:ea typeface="微软雅黑"/>
              </a:rPr>
              <a:t>微信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客户已突破</a:t>
            </a:r>
            <a:r>
              <a:rPr b="0" lang="en-US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个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cture 4"/>
          <p:cNvSpPr/>
          <p:nvPr/>
        </p:nvSpPr>
        <p:spPr>
          <a:xfrm>
            <a:off x="7661520" y="525240"/>
            <a:ext cx="1086480" cy="106884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c:\DOCUME~1\ADMINI~1\APPLIC~1\360se6\USERDA~1\Temp\T01DE6~1.JPG"/>
          <p:cNvPicPr/>
          <p:nvPr/>
        </p:nvPicPr>
        <p:blipFill>
          <a:blip r:embed="rId3"/>
          <a:srcRect l="0" t="0" r="0" b="3863"/>
          <a:stretch/>
        </p:blipFill>
        <p:spPr>
          <a:xfrm>
            <a:off x="5807880" y="339480"/>
            <a:ext cx="1497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rcRect l="36149" t="31469" r="32159" b="41813"/>
          <a:stretch/>
        </p:blipFill>
        <p:spPr>
          <a:xfrm>
            <a:off x="25920" y="0"/>
            <a:ext cx="4885920" cy="5091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2"/>
          <p:cNvSpPr/>
          <p:nvPr/>
        </p:nvSpPr>
        <p:spPr>
          <a:xfrm>
            <a:off x="4356000" y="627480"/>
            <a:ext cx="47876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当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中国银行业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赚的盆满钵满高歌猛进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阿里巴巴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已经推出网络虚拟信用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:\DOCUME~1\ADMINI~1\APPLIC~1\360se6\USERDA~1\Temp\632505~1.JPG"/>
          <p:cNvPicPr/>
          <p:nvPr/>
        </p:nvPicPr>
        <p:blipFill>
          <a:blip r:embed="rId2"/>
          <a:srcRect l="9950" t="8427" r="1640" b="66712"/>
          <a:stretch/>
        </p:blipFill>
        <p:spPr>
          <a:xfrm>
            <a:off x="4212000" y="2355840"/>
            <a:ext cx="5393880" cy="1764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539640" y="47768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4897440" y="-1892880"/>
            <a:ext cx="4713480" cy="9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95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6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684000" y="843120"/>
            <a:ext cx="4571640" cy="17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当</a:t>
            </a:r>
            <a:r>
              <a:rPr b="1" lang="zh-CN" sz="2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工商银行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独行天下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殊不知小弟</a:t>
            </a:r>
            <a:r>
              <a:rPr b="1" lang="zh-CN" sz="2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平安银行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已偷窥多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迅速在全国铺开</a:t>
            </a:r>
            <a:r>
              <a:rPr b="0" lang="en-US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icture 2"/>
          <p:cNvSpPr/>
          <p:nvPr/>
        </p:nvSpPr>
        <p:spPr>
          <a:xfrm>
            <a:off x="395640" y="2625480"/>
            <a:ext cx="1872000" cy="187200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~1\ADMINI~1\APPLIC~1\360se6\USERDA~1\Temp\196425~1.JPG"/>
          <p:cNvPicPr/>
          <p:nvPr/>
        </p:nvPicPr>
        <p:blipFill>
          <a:blip r:embed="rId2"/>
          <a:srcRect l="11210" t="8964" r="7150" b="19459"/>
          <a:stretch/>
        </p:blipFill>
        <p:spPr>
          <a:xfrm>
            <a:off x="2588400" y="2878920"/>
            <a:ext cx="26668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94840" y="228240"/>
            <a:ext cx="3326760" cy="63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13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7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859760" y="0"/>
            <a:ext cx="7283880" cy="5143320"/>
          </a:xfrm>
          <a:custGeom>
            <a:avLst/>
            <a:gdLst>
              <a:gd name="textAreaLeft" fmla="*/ 0 w 7283880"/>
              <a:gd name="textAreaRight" fmla="*/ 7284240 w 728388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7284318" h="5143500">
                <a:moveTo>
                  <a:pt x="1200150" y="0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1200150" y="0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3188520" y="2344320"/>
            <a:ext cx="56761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很多人还在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租个门面房开个小生意时，光棍节一天中国互联网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猫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创造天价成交额。不要说停止学习，就是慢一点都有可能被淘汰出局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DOCUME~1\ADMINI~1\APPLIC~1\360se6\USERDA~1\Temp\761844~1.JPG"/>
          <p:cNvPicPr/>
          <p:nvPr/>
        </p:nvPicPr>
        <p:blipFill>
          <a:blip r:embed="rId1"/>
          <a:srcRect l="4803" t="0" r="69804" b="59897"/>
          <a:stretch/>
        </p:blipFill>
        <p:spPr>
          <a:xfrm>
            <a:off x="683640" y="699480"/>
            <a:ext cx="1625040" cy="19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063440" y="1419480"/>
            <a:ext cx="739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未来十年拼什么</a:t>
            </a:r>
            <a:r>
              <a:rPr b="1" lang="en-US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703440" y="2643840"/>
            <a:ext cx="7756560" cy="863640"/>
          </a:xfrm>
          <a:custGeom>
            <a:avLst/>
            <a:gdLst>
              <a:gd name="textAreaLeft" fmla="*/ 0 w 7756560"/>
              <a:gd name="textAreaRight" fmla="*/ 7756920 w 77565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1475640" y="2830320"/>
            <a:ext cx="64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HAT SHOULD WE SPELL IN THE NEXT DEC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326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3T02:24:3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