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C042-A0D9-4612-904F-27201B18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311-5F92-4F5D-AFA4-D08E84A4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D2300-9D42-4665-A7F3-63EBE6DD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A7B35-2978-482A-9AD2-B5BA3B83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53A17-934A-444F-8AE5-43D22F7E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CC906-9764-4A49-AE0D-7A43B3D5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95E11-52EC-4134-BCC4-1C372F27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5ED2D-B700-4B49-A0BE-FBAAA83E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A6ACE-9D3E-418B-9A96-FA446E7E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D716F-BEA3-429F-89E5-630EEFFA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9C991-C80F-444F-B444-43A86A08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E5520-6A80-49E7-8EAE-8BEB7A39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7EBC-AC30-46BB-9078-75C3DEC0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2B13F-ACCB-4B27-937F-6487EC29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6DA70-3476-46C8-88C3-2875C679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4611A-BEA0-408A-A536-B3B018BB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9E717-8BFC-4456-B7D4-1BE76290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5743C-A26E-4999-A99A-4B95F75F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1B613-1FCA-424A-A9C8-980C4E35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91E67-1EB2-4334-A1BB-4C7F6581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BA1A2-6C69-47D5-95E3-D68411C1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0E5F9-AAC2-4471-AB8E-F57AD01E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8D414-2EAF-445A-9EC2-30F86964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BD9-B043-44FE-A749-F098BCF1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441A9-C1A8-4318-8A78-09B6392C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F0533-601B-4A2C-9C0E-8EF4ECD8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D00D1-76D5-4928-A588-1465DAC8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A8D94-B739-41EF-B035-2B769768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6DA9A-A38D-4173-85FD-E880FBF0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0C656-4DE3-4E4B-B3C2-B6707788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47693-CD23-4225-A5E0-F18F182A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EBC56-6239-4294-9048-0FF2ED80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0268D-917F-4C23-AB8A-22C8F45A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8E1F1-8DF8-4F5C-A9DD-243C9631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4A3B-7351-4DEC-BD24-29B8E455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CAE30-5CCC-4B5C-AF08-B6010EE1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6E38E-6C7A-4DA9-9CFC-E6905BE5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A7598-7F9B-4576-A6F3-EA33AAB0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7E68E-447E-470B-BC12-FCC8FA83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49545-1557-42D7-93B6-C1444BD6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AD233-E95E-413B-8CF9-A9131A5F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5A947-6401-482E-BAF5-80C0586B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BED4E-2C38-456A-AB04-D2B79145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809CD-E789-4DC6-B189-100C7D70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DFF0D-5D00-44FB-BA9A-F034567F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597E-0F4E-4013-8A2B-AA1707FF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F968D-AED7-4FA4-A302-319C1AA7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6DDAF3-FA5D-4C7A-A6AB-63C569E5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449EA-9158-40D6-B506-B338991D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9B09E-7CB8-41E6-BEEE-64B4FBCE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19E22-63DC-4E34-938F-CC251DF9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96D0-E376-4E0A-9500-C2CA6766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EDF0-11F7-43CF-BF60-F6BE96BE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1578-620F-40EB-A479-A9E7534E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7C8E-328D-47BB-A868-2402857B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101E-AC0D-4851-A7C1-86FB03FA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D1D4-0FF5-439E-AF0E-7093CCF4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E531-9DF0-44B4-AE5A-42D6655F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2653-BCD7-469A-AB7E-2DEC2EE6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6B1C-F682-4CE4-9178-9952E761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6833-3444-4F86-9D62-37FEC7F9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672A-FB59-4C1D-9906-5CF357C3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95268-1243-4F61-8D1B-2741A1B0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32B32-9610-4CAE-8845-D40BC97D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17528-0485-46FF-BB37-4D6704F0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C64E4-0C84-4AD2-B781-B6BECD55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3F90D-C453-44AF-A0DA-511225C7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5CD5-AEA5-4808-82BA-B08BAA6C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D25FF-7456-4C9B-96E3-6EEF74AD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3600B-6BF5-4012-B627-665863D2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2611E-9B9E-4E83-8402-81D552D8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8739A-AEFC-4BE7-8DA2-E2514621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75432-09B3-49DE-A635-2AF44334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C3D52-3D65-40B1-97D0-89F49FF4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7AEB9-7839-4BD4-9A98-4A282AAF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12887-CBA7-478C-B175-BC0AF70F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356DD-2603-44B7-8949-87E5B395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163A2-FE0F-4C2A-8A13-90CCFD5D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CCC6-2B26-45C2-A4B0-6BB8AE47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9E8B0-1AE0-435C-9C29-7CF34247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4465F-E98C-47AB-91F0-BE937E6F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5B88B-0BCF-4881-9027-D20E70CF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E4C6B-C5AD-4E82-BDC2-3B3E952E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04972-C56D-494D-9E7B-2B7B4025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83793-2AD1-46F3-80A6-8B59C6FA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F5873-E6AA-4E29-B62F-22BAA637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22BA1-8D2A-4C19-BA05-4D7A55BE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B24FF-9C52-4ECD-9A04-058F420D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424F0-4698-494A-A40C-542A9402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E258-602F-4980-B010-7CDA43CC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F451B-8EBF-4A92-AF9F-78A8BA8B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06C6E-020D-4594-86BD-8F4D535E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5BD08-273E-495E-868D-2B1A8DC5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67588-1C74-4C3A-BCAF-C03F9075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0FC14-7CEC-4837-AA16-4E6CE168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D4E3B-3206-4FBD-888D-0271FE31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81E86-D262-4210-B0D7-445B02AA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4B524-1FC6-4223-B0FC-A18677C6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44565-FA53-4C23-A23E-26B58E72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3E225-AF89-401E-91C5-0AB2E730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DFFE-EAA8-43FE-8ABB-4476E8D3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EAAC2-8CA4-41E9-BD0B-11983EFD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469E8-FAA5-4514-AC98-685A3FC4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19FC1-5C13-4032-9F55-ACDE06DD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FD7F1-3796-40C1-BB1E-82E77FF4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20C77-973D-4208-87FE-D8C65595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09415-075A-4B75-9EFF-87B0D76B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A5F2A-5590-4637-A4E9-FAB6E8C6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713BE-DCC3-4EB2-8879-6EC34F6E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D1AF1-3442-4758-AB63-AC821278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917DA-CA33-4EF7-90F3-E512CC16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D42B-A8B2-41AC-A2AB-BC6563B7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361A3-0EC8-4350-A9D8-FA847724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4D5C2-2A2A-44AF-8804-392701A5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E278D-8BF9-4B98-B865-75CDA4C5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87EB3-C110-44CE-9FAE-578F9AEF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B7A72-3B15-4982-9A10-B48C2F00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05961-AE3C-4CBE-8F0F-782456CE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04090-F4B6-4BA1-8291-58590A39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57151-C198-4C49-AC4B-61B25570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6AB6C-DF4F-4A9A-B49E-F397CA61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5D093-ED6E-497E-9224-C8664293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C747-6FFF-4DFF-AB59-F844064F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AC51E-EBD3-4099-897A-BD148EB5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B1DE0-E1DC-44A7-B6DA-BA1D04AF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8784E-47CE-4B39-BFB5-F0306C7C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B14DF-ACC3-4F17-BADC-E7EACA48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13787-87E5-4454-BBAD-D1B69114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BB18A-75C4-4A0B-A9AC-EDB40011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1F0F6-5904-4F31-8BC2-2FB08845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2B22A-0854-4CB3-97B7-E2791074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0C865-BCDE-42CC-B6F0-365516C5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6C66E-3F72-4A49-B778-6AF9DB7F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71A-644F-4C14-9B3A-740ABA6B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608A4-B11C-4A09-8B41-27686A02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4301E-E920-47A8-8FDE-CA01DAD4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EA9BE-FB6B-41AB-BEDB-1B2D5588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34150-796E-4F04-BEC8-2BB9594A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8DB07-963D-4898-82CE-E8277E89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7089C-6818-4E9D-ADB1-92F7E4F7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4474E-E4A3-4A47-9BF2-ACF5AB14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909BC-D601-4278-A808-DA7942A2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3D519-9BBD-43CC-8CE6-A31569B0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48505-89D8-4D6C-8E37-1CE0399F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215B-13B7-4CB7-871E-779CD90F1A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marL="394920" indent="-394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5360" indent="-327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264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46440" indent="-2642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5280"/>
            <a:ext cx="284508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10C1-8B9A-46D2-879F-3CACA5AD4B48}" type="datetime">
              <a:rPr b="0" lang="zh-CN" sz="15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7360" y="6245280"/>
            <a:ext cx="386064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5280"/>
            <a:ext cx="284472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2078-33CE-419B-BCBA-C890A94ADD59}" type="slidenum">
              <a:rPr b="0" lang="zh-CN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marL="394920" indent="-394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5360" indent="-327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264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46440" indent="-2642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5280"/>
            <a:ext cx="284508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7F3A-B84E-49BF-AF78-642D28FB1675}" type="datetime">
              <a:rPr b="0" lang="zh-CN" sz="15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7360" y="6245280"/>
            <a:ext cx="386064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5280"/>
            <a:ext cx="284472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B405-3181-4673-BDD0-DE64F846FA99}" type="slidenum">
              <a:rPr b="0" lang="zh-CN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marL="394920" indent="-394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5360" indent="-327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264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46440" indent="-2642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5280"/>
            <a:ext cx="284508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B195-A6AE-4A8B-85B8-4EC02AECA8EC}" type="datetime">
              <a:rPr b="0" lang="zh-CN" sz="15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7360" y="6245280"/>
            <a:ext cx="386064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5280"/>
            <a:ext cx="284472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86C6-5F63-446E-BCE4-E69FDA639F11}" type="slidenum">
              <a:rPr b="0" lang="zh-CN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marL="394920" indent="-394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5360" indent="-327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264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46440" indent="-2642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5280"/>
            <a:ext cx="284508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BF0C-18F3-486A-A1B0-39D27558EC51}" type="datetime">
              <a:rPr b="0" lang="zh-CN" sz="15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7360" y="6245280"/>
            <a:ext cx="386064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5280"/>
            <a:ext cx="284472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5B70-8C6B-40C1-9877-1A1089C8FBE9}" type="slidenum">
              <a:rPr b="0" lang="zh-CN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marL="394920" indent="-394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5360" indent="-327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264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46440" indent="-2642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5280"/>
            <a:ext cx="284508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1516-C7D3-41B8-8F07-716EA774EA79}" type="datetime">
              <a:rPr b="0" lang="zh-CN" sz="15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7360" y="6245280"/>
            <a:ext cx="386064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5280"/>
            <a:ext cx="284472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6A66-42A3-4606-94A1-C6CC7C0FB93E}" type="slidenum">
              <a:rPr b="0" lang="zh-CN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marL="394920" indent="-394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5360" indent="-327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264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46440" indent="-2642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5280"/>
            <a:ext cx="284508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7874-D9A0-4411-8F57-99C90E9D00AD}" type="datetime">
              <a:rPr b="0" lang="zh-CN" sz="15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7360" y="6245280"/>
            <a:ext cx="386064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5280"/>
            <a:ext cx="284472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9130-944A-484C-BA76-B17C11E51D82}" type="slidenum">
              <a:rPr b="0" lang="zh-CN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marL="394920" indent="-394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5360" indent="-327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264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46440" indent="-2642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5280"/>
            <a:ext cx="284508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0246-D44C-496E-8EC6-82F55BF16B9A}" type="datetime">
              <a:rPr b="0" lang="zh-CN" sz="15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7360" y="6245280"/>
            <a:ext cx="386064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5280"/>
            <a:ext cx="284472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1931-374D-4453-9997-812AF7459113}" type="slidenum">
              <a:rPr b="0" lang="zh-CN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marL="394920" indent="-394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5360" indent="-327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264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46440" indent="-2642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5280"/>
            <a:ext cx="284508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CCBD-6739-41FE-8686-EBEC22859799}" type="datetime">
              <a:rPr b="0" lang="zh-CN" sz="15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7360" y="6245280"/>
            <a:ext cx="386064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5280"/>
            <a:ext cx="284472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4E00-677C-40FA-9DF9-E79866B36A4C}" type="slidenum">
              <a:rPr b="0" lang="zh-CN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marL="394920" indent="-394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5360" indent="-327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264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46440" indent="-2642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5280"/>
            <a:ext cx="284508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8820-6820-4AEA-B93A-97D7C65E997C}" type="datetime">
              <a:rPr b="0" lang="zh-CN" sz="15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7360" y="6245280"/>
            <a:ext cx="386064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5280"/>
            <a:ext cx="284472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058E-0350-4C73-8987-31E4370F2EFF}" type="slidenum">
              <a:rPr b="0" lang="zh-CN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marL="394920" indent="-394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5360" indent="-327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264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46440" indent="-2642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5280"/>
            <a:ext cx="284508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5AB8-6FD6-4156-AA47-23C4A68C0D76}" type="datetime">
              <a:rPr b="0" lang="zh-CN" sz="15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7360" y="6245280"/>
            <a:ext cx="386064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5280"/>
            <a:ext cx="284472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0C5D-3ED7-4731-BDAF-0C3326D8A7D9}" type="slidenum">
              <a:rPr b="0" lang="zh-CN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marL="394920" indent="-394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5360" indent="-327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264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46440" indent="-2642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5280"/>
            <a:ext cx="284508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F1EF-BDE4-4EE9-8D5E-D942A7F1FC06}" type="datetime">
              <a:rPr b="0" lang="zh-CN" sz="15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7360" y="6245280"/>
            <a:ext cx="386064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5280"/>
            <a:ext cx="284472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F3C0-7BE0-4459-845C-918D28C1E57B}" type="slidenum">
              <a:rPr b="0" lang="zh-CN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wps封面1"/>
          <p:cNvPicPr/>
          <p:nvPr/>
        </p:nvPicPr>
        <p:blipFill>
          <a:blip r:embed="rId1"/>
          <a:stretch/>
        </p:blipFill>
        <p:spPr>
          <a:xfrm>
            <a:off x="14400" y="1440"/>
            <a:ext cx="12190320" cy="6855120"/>
          </a:xfrm>
          <a:prstGeom prst="rect">
            <a:avLst/>
          </a:prstGeom>
          <a:ln w="0">
            <a:noFill/>
          </a:ln>
        </p:spPr>
      </p:pic>
      <p:sp>
        <p:nvSpPr>
          <p:cNvPr id="493" name="AutoShape 4"/>
          <p:cNvSpPr/>
          <p:nvPr/>
        </p:nvSpPr>
        <p:spPr>
          <a:xfrm>
            <a:off x="987480" y="1006560"/>
            <a:ext cx="463320" cy="1019160"/>
          </a:xfrm>
          <a:prstGeom prst="triangle">
            <a:avLst>
              <a:gd name="adj" fmla="val 0"/>
            </a:avLst>
          </a:prstGeom>
          <a:solidFill>
            <a:srgbClr val="ffffff">
              <a:alpha val="43000"/>
            </a:srgb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AutoShape 5"/>
          <p:cNvSpPr/>
          <p:nvPr/>
        </p:nvSpPr>
        <p:spPr>
          <a:xfrm flipV="1">
            <a:off x="3478320" y="1276200"/>
            <a:ext cx="1230120" cy="673200"/>
          </a:xfrm>
          <a:prstGeom prst="triangle">
            <a:avLst>
              <a:gd name="adj" fmla="val 50000"/>
            </a:avLst>
          </a:prstGeom>
          <a:solidFill>
            <a:srgbClr val="ffffff">
              <a:alpha val="43000"/>
            </a:srgb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AutoShape 6"/>
          <p:cNvSpPr/>
          <p:nvPr/>
        </p:nvSpPr>
        <p:spPr>
          <a:xfrm>
            <a:off x="8939160" y="1846440"/>
            <a:ext cx="750960" cy="1035000"/>
          </a:xfrm>
          <a:prstGeom prst="triangle">
            <a:avLst>
              <a:gd name="adj" fmla="val 89815"/>
            </a:avLst>
          </a:prstGeom>
          <a:solidFill>
            <a:srgbClr val="ffffff">
              <a:alpha val="43000"/>
            </a:srgb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矩形 1"/>
          <p:cNvSpPr/>
          <p:nvPr/>
        </p:nvSpPr>
        <p:spPr>
          <a:xfrm>
            <a:off x="3610440" y="652320"/>
            <a:ext cx="49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黑体"/>
                <a:ea typeface="黑体"/>
              </a:rPr>
              <a:t>唯美艺术动态</a:t>
            </a:r>
            <a:r>
              <a:rPr b="0" lang="en-US" sz="4000" spc="-1" strike="noStrike">
                <a:solidFill>
                  <a:srgbClr val="262626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262626"/>
                </a:solidFill>
                <a:latin typeface="黑体"/>
                <a:ea typeface="黑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内容2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3"/>
          <p:cNvSpPr/>
          <p:nvPr/>
        </p:nvSpPr>
        <p:spPr>
          <a:xfrm>
            <a:off x="2209680" y="3961440"/>
            <a:ext cx="787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年，英国达人秀的舞台上，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岁女孩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Olivia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脖子上缠绕着她的好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友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Lucy——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一条蟒蛇，念了一首自己创作的               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2254320" y="1439640"/>
            <a:ext cx="790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Calibri"/>
              </a:rPr>
              <a:t>                            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以各种形式存在着，从唐诗宋词，到现代诗，多少诗句给予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我们力量、解答了我们的疑问、直击我们的痛楚、净化我们的心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2330280" y="3094200"/>
            <a:ext cx="75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Calibri"/>
              </a:rPr>
              <a:t>             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              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句不需要既定的形式，管他诗律、诗格、诗境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Oval 6"/>
          <p:cNvSpPr/>
          <p:nvPr/>
        </p:nvSpPr>
        <p:spPr>
          <a:xfrm>
            <a:off x="2841480" y="1173240"/>
            <a:ext cx="854280" cy="8236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Oval 7"/>
          <p:cNvSpPr/>
          <p:nvPr/>
        </p:nvSpPr>
        <p:spPr>
          <a:xfrm>
            <a:off x="2878200" y="2832120"/>
            <a:ext cx="853920" cy="8240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Oval 8"/>
          <p:cNvSpPr/>
          <p:nvPr/>
        </p:nvSpPr>
        <p:spPr>
          <a:xfrm>
            <a:off x="6832440" y="4280040"/>
            <a:ext cx="854280" cy="8236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0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40">
                                  <p:stCondLst>
                                    <p:cond delay="4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内容2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3"/>
          <p:cNvSpPr/>
          <p:nvPr/>
        </p:nvSpPr>
        <p:spPr>
          <a:xfrm>
            <a:off x="3150720" y="901800"/>
            <a:ext cx="6544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Come on,don't you have a </a:t>
            </a:r>
            <a:r>
              <a:rPr b="0" lang="zh-CN" sz="1800" spc="-1" strike="noStrike">
                <a:solidFill>
                  <a:srgbClr val="ff6699"/>
                </a:solidFill>
                <a:latin typeface="Microsoft Sans Serif"/>
              </a:rPr>
              <a:t>he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You don't want these animals to </a:t>
            </a:r>
            <a:r>
              <a:rPr b="0" lang="zh-CN" sz="1800" spc="-1" strike="noStrike">
                <a:solidFill>
                  <a:srgbClr val="ff6699"/>
                </a:solidFill>
                <a:latin typeface="Microsoft Sans Serif"/>
              </a:rPr>
              <a:t>dep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Forget the X Factor and the Top Ten singing </a:t>
            </a:r>
            <a:r>
              <a:rPr b="0" lang="zh-CN" sz="1800" spc="-1" strike="noStrike">
                <a:solidFill>
                  <a:srgbClr val="ff6699"/>
                </a:solidFill>
                <a:latin typeface="Microsoft Sans Serif"/>
              </a:rPr>
              <a:t>ch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Look at the most endangered animals and the poison </a:t>
            </a:r>
            <a:r>
              <a:rPr b="0" lang="zh-CN" sz="1800" spc="-1" strike="noStrike">
                <a:solidFill>
                  <a:srgbClr val="ff6699"/>
                </a:solidFill>
                <a:latin typeface="Microsoft Sans Serif"/>
              </a:rPr>
              <a:t>d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The leopard,siberian tiger and the polar b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They're so gorgeous,it is just not f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If I say their Latin names,will you listen m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Oh,Louis,please don't say this is b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Komodo dragon,by the 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Why does man have to take him all a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Man,you're such a f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Snakes skinned alive for handbag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That is just not c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Please listen to my pa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although it may not be in fash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I cannot sing it.You might la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I cannot dance.You'd say that I was </a:t>
            </a:r>
            <a:r>
              <a:rPr b="0" lang="zh-CN" sz="1800" spc="-1" strike="noStrike">
                <a:solidFill>
                  <a:srgbClr val="ff6699"/>
                </a:solidFill>
                <a:latin typeface="Microsoft Sans Serif"/>
              </a:rPr>
              <a:t>da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But I am an seven,and I want these animals to</a:t>
            </a:r>
            <a:r>
              <a:rPr b="0" lang="zh-CN" sz="1800" spc="-1" strike="noStrike">
                <a:solidFill>
                  <a:srgbClr val="ff6699"/>
                </a:solidFill>
                <a:latin typeface="Microsoft Sans Serif"/>
              </a:rPr>
              <a:t> l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灯泡"/>
          <p:cNvPicPr/>
          <p:nvPr/>
        </p:nvPicPr>
        <p:blipFill>
          <a:blip r:embed="rId1"/>
          <a:stretch/>
        </p:blipFill>
        <p:spPr>
          <a:xfrm>
            <a:off x="1965240" y="1755720"/>
            <a:ext cx="3805200" cy="42307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" descr="灯泡"/>
          <p:cNvPicPr/>
          <p:nvPr/>
        </p:nvPicPr>
        <p:blipFill>
          <a:blip r:embed="rId2"/>
          <a:stretch/>
        </p:blipFill>
        <p:spPr>
          <a:xfrm>
            <a:off x="10437840" y="-384120"/>
            <a:ext cx="1036440" cy="1149120"/>
          </a:xfrm>
          <a:prstGeom prst="rect">
            <a:avLst/>
          </a:prstGeom>
          <a:ln w="0">
            <a:noFill/>
          </a:ln>
        </p:spPr>
      </p:pic>
      <p:sp>
        <p:nvSpPr>
          <p:cNvPr id="616" name="Oval 4"/>
          <p:cNvSpPr/>
          <p:nvPr/>
        </p:nvSpPr>
        <p:spPr>
          <a:xfrm>
            <a:off x="2795760" y="3314880"/>
            <a:ext cx="2273040" cy="225900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Calibri"/>
                <a:ea typeface="微软雅黑"/>
              </a:rPr>
              <a:t>创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Microsoft Sans Serif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Picture 5" descr="灯泡"/>
          <p:cNvPicPr/>
          <p:nvPr/>
        </p:nvPicPr>
        <p:blipFill>
          <a:blip r:embed="rId3"/>
          <a:stretch/>
        </p:blipFill>
        <p:spPr>
          <a:xfrm>
            <a:off x="7188120" y="2305080"/>
            <a:ext cx="1036800" cy="115236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6" descr="灯泡"/>
          <p:cNvPicPr/>
          <p:nvPr/>
        </p:nvPicPr>
        <p:blipFill>
          <a:blip r:embed="rId4"/>
          <a:stretch/>
        </p:blipFill>
        <p:spPr>
          <a:xfrm>
            <a:off x="11090160" y="2695680"/>
            <a:ext cx="1036800" cy="11523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7" descr="灯泡"/>
          <p:cNvPicPr/>
          <p:nvPr/>
        </p:nvPicPr>
        <p:blipFill>
          <a:blip r:embed="rId5"/>
          <a:stretch/>
        </p:blipFill>
        <p:spPr>
          <a:xfrm>
            <a:off x="4195800" y="5762520"/>
            <a:ext cx="1036440" cy="11541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8" descr="灯泡"/>
          <p:cNvPicPr/>
          <p:nvPr/>
        </p:nvPicPr>
        <p:blipFill>
          <a:blip r:embed="rId6"/>
          <a:stretch/>
        </p:blipFill>
        <p:spPr>
          <a:xfrm>
            <a:off x="8305920" y="5537160"/>
            <a:ext cx="1038240" cy="11541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9" descr="灯泡"/>
          <p:cNvPicPr/>
          <p:nvPr/>
        </p:nvPicPr>
        <p:blipFill>
          <a:blip r:embed="rId7"/>
          <a:stretch/>
        </p:blipFill>
        <p:spPr>
          <a:xfrm>
            <a:off x="5035680" y="720720"/>
            <a:ext cx="1036440" cy="11541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0" descr="灯泡"/>
          <p:cNvPicPr/>
          <p:nvPr/>
        </p:nvPicPr>
        <p:blipFill>
          <a:blip r:embed="rId8"/>
          <a:stretch/>
        </p:blipFill>
        <p:spPr>
          <a:xfrm>
            <a:off x="803160" y="4562640"/>
            <a:ext cx="1036800" cy="11523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1" descr="灯泡"/>
          <p:cNvPicPr/>
          <p:nvPr/>
        </p:nvPicPr>
        <p:blipFill>
          <a:blip r:embed="rId9"/>
          <a:stretch/>
        </p:blipFill>
        <p:spPr>
          <a:xfrm>
            <a:off x="-61920" y="90360"/>
            <a:ext cx="1030320" cy="115416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12"/>
          <p:cNvSpPr/>
          <p:nvPr/>
        </p:nvSpPr>
        <p:spPr>
          <a:xfrm>
            <a:off x="5437080" y="4510800"/>
            <a:ext cx="59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Calibri"/>
              </a:rPr>
              <a:t>is simple,powerful and f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8" dur="50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1" dur="500" autoRev="1" fill="hold"/>
                                        <p:tgtEl>
                                          <p:spTgt spid="6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500" autoRev="1" fill="hold"/>
                                        <p:tgtEl>
                                          <p:spTgt spid="6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7" dur="500" autoRev="1" fill="hold"/>
                                        <p:tgtEl>
                                          <p:spTgt spid="6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0" dur="500" autoRev="1" fill="hold"/>
                                        <p:tgtEl>
                                          <p:spTgt spid="6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250" autoRev="1" fill="hold"/>
                                        <p:tgtEl>
                                          <p:spTgt spid="6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6" dur="250" autoRev="1" fill="hold"/>
                                        <p:tgtEl>
                                          <p:spTgt spid="6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6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" descr="内容2"/>
          <p:cNvPicPr/>
          <p:nvPr/>
        </p:nvPicPr>
        <p:blipFill>
          <a:blip r:embed="rId1"/>
          <a:stretch/>
        </p:blipFill>
        <p:spPr>
          <a:xfrm>
            <a:off x="1584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3"/>
          <p:cNvSpPr/>
          <p:nvPr/>
        </p:nvSpPr>
        <p:spPr>
          <a:xfrm>
            <a:off x="2328840" y="3013200"/>
            <a:ext cx="772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2533680" y="1739880"/>
            <a:ext cx="795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大                一定是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simple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的，复杂的是执行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2546280" y="3005640"/>
            <a:ext cx="785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不是好                   太宏大，只是你还没想到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世界上没有想不到的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，只有不行动的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2097000" y="4775040"/>
            <a:ext cx="79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创意经济时代，创意和市场挂钩，设计正戴着镣铐跳舞，但                  是无限的。不能在生活中自由，至少能在脑海里自由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7" descr="我型我塑gif小"/>
          <p:cNvPicPr/>
          <p:nvPr/>
        </p:nvPicPr>
        <p:blipFill>
          <a:blip r:embed="rId2"/>
          <a:stretch/>
        </p:blipFill>
        <p:spPr>
          <a:xfrm>
            <a:off x="7610400" y="1380960"/>
            <a:ext cx="2089080" cy="2955960"/>
          </a:xfrm>
          <a:prstGeom prst="rect">
            <a:avLst/>
          </a:prstGeom>
          <a:ln w="0">
            <a:noFill/>
          </a:ln>
        </p:spPr>
      </p:pic>
      <p:sp>
        <p:nvSpPr>
          <p:cNvPr id="631" name="Oval 8"/>
          <p:cNvSpPr/>
          <p:nvPr/>
        </p:nvSpPr>
        <p:spPr>
          <a:xfrm>
            <a:off x="3365640" y="2719440"/>
            <a:ext cx="853920" cy="8240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创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Oval 9"/>
          <p:cNvSpPr/>
          <p:nvPr/>
        </p:nvSpPr>
        <p:spPr>
          <a:xfrm>
            <a:off x="2968560" y="1527120"/>
            <a:ext cx="854280" cy="8240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创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Oval 10"/>
          <p:cNvSpPr/>
          <p:nvPr/>
        </p:nvSpPr>
        <p:spPr>
          <a:xfrm>
            <a:off x="8610480" y="4378320"/>
            <a:ext cx="854280" cy="8240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创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744480" y="643716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0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2"/>
          <p:cNvSpPr/>
          <p:nvPr/>
        </p:nvSpPr>
        <p:spPr>
          <a:xfrm>
            <a:off x="2044800" y="2149920"/>
            <a:ext cx="837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远远不只这些</a:t>
            </a:r>
            <a:r>
              <a:rPr b="0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What do you think of according "</a:t>
            </a:r>
            <a:r>
              <a:rPr b="0" lang="zh-CN" sz="24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simple</a:t>
            </a:r>
            <a:r>
              <a:rPr b="0" lang="zh-CN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powerful</a:t>
            </a:r>
            <a:r>
              <a:rPr b="0" lang="zh-CN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 and </a:t>
            </a:r>
            <a:r>
              <a:rPr b="0" lang="zh-CN" sz="24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free"</a:t>
            </a:r>
            <a:r>
              <a:rPr b="0" lang="zh-CN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这些都是我们创作的源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These are the </a:t>
            </a:r>
            <a:r>
              <a:rPr b="0" lang="zh-CN" sz="24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sources </a:t>
            </a:r>
            <a:r>
              <a:rPr b="0" lang="zh-CN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of our cre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8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wps封面1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3"/>
          <p:cNvSpPr/>
          <p:nvPr/>
        </p:nvSpPr>
        <p:spPr>
          <a:xfrm>
            <a:off x="544680" y="491040"/>
            <a:ext cx="633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8000"/>
                </a:solidFill>
                <a:latin typeface="Calibri"/>
                <a:ea typeface="微软雅黑"/>
              </a:rPr>
              <a:t>谢</a:t>
            </a:r>
            <a:r>
              <a:rPr b="0" lang="zh-CN" sz="8800" spc="-1" strike="noStrike">
                <a:solidFill>
                  <a:srgbClr val="ff6699"/>
                </a:solidFill>
                <a:latin typeface="Calibri"/>
                <a:ea typeface="微软雅黑"/>
              </a:rPr>
              <a:t>谢</a:t>
            </a:r>
            <a:r>
              <a:rPr b="0" lang="zh-CN" sz="8800" spc="-1" strike="noStrike">
                <a:solidFill>
                  <a:srgbClr val="008000"/>
                </a:solidFill>
                <a:latin typeface="Calibri"/>
                <a:ea typeface="微软雅黑"/>
              </a:rPr>
              <a:t>观看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7402680" y="2580840"/>
            <a:ext cx="280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TH</a:t>
            </a:r>
            <a:r>
              <a:rPr b="0" lang="zh-CN" sz="48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A</a:t>
            </a:r>
            <a:r>
              <a:rPr b="0" lang="zh-CN" sz="4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NK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wps目录页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499" name="AutoShape 3"/>
          <p:cNvSpPr/>
          <p:nvPr/>
        </p:nvSpPr>
        <p:spPr>
          <a:xfrm flipH="1">
            <a:off x="5000040" y="2311560"/>
            <a:ext cx="1996920" cy="4622760"/>
          </a:xfrm>
          <a:prstGeom prst="triangle">
            <a:avLst>
              <a:gd name="adj" fmla="val 50000"/>
            </a:avLst>
          </a:prstGeom>
          <a:solidFill>
            <a:srgbClr val="663300"/>
          </a:solidFill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0" name="AutoShape 4"/>
          <p:cNvCxnSpPr>
            <a:stCxn id="499" idx="5"/>
          </p:cNvCxnSpPr>
          <p:nvPr/>
        </p:nvCxnSpPr>
        <p:spPr>
          <a:xfrm rot="10800000">
            <a:off x="3378960" y="3555360"/>
            <a:ext cx="2120040" cy="1067400"/>
          </a:xfrm>
          <a:prstGeom prst="curvedConnector5">
            <a:avLst>
              <a:gd name="adj1" fmla="val 61735"/>
              <a:gd name="adj2" fmla="val 50000"/>
              <a:gd name="adj3" fmla="val 61735"/>
            </a:avLst>
          </a:prstGeom>
          <a:ln w="0">
            <a:solidFill>
              <a:srgbClr val="663300"/>
            </a:solidFill>
          </a:ln>
        </p:spPr>
      </p:cxnSp>
      <p:cxnSp>
        <p:nvCxnSpPr>
          <p:cNvPr id="501" name="AutoShape 5"/>
          <p:cNvCxnSpPr>
            <a:stCxn id="499" idx="1"/>
          </p:cNvCxnSpPr>
          <p:nvPr/>
        </p:nvCxnSpPr>
        <p:spPr>
          <a:xfrm flipV="1">
            <a:off x="6497280" y="3315600"/>
            <a:ext cx="1685160" cy="1307160"/>
          </a:xfrm>
          <a:prstGeom prst="curvedConnector5">
            <a:avLst>
              <a:gd name="adj1" fmla="val 64829"/>
              <a:gd name="adj2" fmla="val 50000"/>
              <a:gd name="adj3" fmla="val 64829"/>
            </a:avLst>
          </a:prstGeom>
          <a:ln w="0">
            <a:solidFill>
              <a:srgbClr val="663300"/>
            </a:solidFill>
          </a:ln>
        </p:spPr>
      </p:cxnSp>
      <p:sp>
        <p:nvSpPr>
          <p:cNvPr id="502" name="曲线 82"/>
          <p:cNvSpPr/>
          <p:nvPr/>
        </p:nvSpPr>
        <p:spPr>
          <a:xfrm>
            <a:off x="4332240" y="2468520"/>
            <a:ext cx="1419120" cy="1109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0574"/>
                </a:moveTo>
                <a:cubicBezTo>
                  <a:pt x="20913" y="20574"/>
                  <a:pt x="19076" y="21600"/>
                  <a:pt x="17481" y="20574"/>
                </a:cubicBezTo>
                <a:cubicBezTo>
                  <a:pt x="15885" y="19549"/>
                  <a:pt x="14242" y="16153"/>
                  <a:pt x="11998" y="14449"/>
                </a:cubicBezTo>
                <a:cubicBezTo>
                  <a:pt x="9755" y="12745"/>
                  <a:pt x="5907" y="12498"/>
                  <a:pt x="4002" y="10361"/>
                </a:cubicBezTo>
                <a:cubicBezTo>
                  <a:pt x="2098" y="8225"/>
                  <a:pt x="1140" y="3210"/>
                  <a:pt x="570" y="1605"/>
                </a:cubicBezTo>
                <a:cubicBezTo>
                  <a:pt x="0" y="0"/>
                  <a:pt x="570" y="876"/>
                  <a:pt x="570" y="728"/>
                </a:cubicBezTo>
              </a:path>
            </a:pathLst>
          </a:custGeom>
          <a:noFill/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曲线 83"/>
          <p:cNvSpPr/>
          <p:nvPr/>
        </p:nvSpPr>
        <p:spPr>
          <a:xfrm>
            <a:off x="6126120" y="2371680"/>
            <a:ext cx="1246320" cy="824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17" y="20685"/>
                  <a:pt x="1089" y="17343"/>
                  <a:pt x="3126" y="16096"/>
                </a:cubicBezTo>
                <a:cubicBezTo>
                  <a:pt x="5163" y="14848"/>
                  <a:pt x="9148" y="16811"/>
                  <a:pt x="12231" y="14133"/>
                </a:cubicBezTo>
                <a:cubicBezTo>
                  <a:pt x="15313" y="11456"/>
                  <a:pt x="20036" y="2361"/>
                  <a:pt x="21600" y="0"/>
                </a:cubicBezTo>
              </a:path>
            </a:pathLst>
          </a:custGeom>
          <a:noFill/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曲线 84"/>
          <p:cNvSpPr/>
          <p:nvPr/>
        </p:nvSpPr>
        <p:spPr>
          <a:xfrm>
            <a:off x="5499000" y="1530360"/>
            <a:ext cx="536760" cy="93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809" y="20848"/>
                  <a:pt x="18896" y="18061"/>
                  <a:pt x="16780" y="17073"/>
                </a:cubicBezTo>
                <a:cubicBezTo>
                  <a:pt x="14663" y="16085"/>
                  <a:pt x="11526" y="17545"/>
                  <a:pt x="8925" y="15687"/>
                </a:cubicBezTo>
                <a:cubicBezTo>
                  <a:pt x="6324" y="13829"/>
                  <a:pt x="2193" y="8536"/>
                  <a:pt x="1096" y="5927"/>
                </a:cubicBezTo>
                <a:cubicBezTo>
                  <a:pt x="0" y="3317"/>
                  <a:pt x="2091" y="987"/>
                  <a:pt x="2295" y="0"/>
                </a:cubicBezTo>
              </a:path>
            </a:pathLst>
          </a:custGeom>
          <a:noFill/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Oval 9"/>
          <p:cNvSpPr/>
          <p:nvPr/>
        </p:nvSpPr>
        <p:spPr>
          <a:xfrm>
            <a:off x="2238480" y="3197160"/>
            <a:ext cx="1320840" cy="12160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2298600" y="3278160"/>
            <a:ext cx="113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Calibri"/>
                <a:ea typeface="微软雅黑"/>
              </a:rPr>
              <a:t>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Microsoft Sans Serif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Oval 11"/>
          <p:cNvSpPr/>
          <p:nvPr/>
        </p:nvSpPr>
        <p:spPr>
          <a:xfrm>
            <a:off x="8183520" y="2732040"/>
            <a:ext cx="1335240" cy="127476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 Box 12"/>
          <p:cNvSpPr/>
          <p:nvPr/>
        </p:nvSpPr>
        <p:spPr>
          <a:xfrm>
            <a:off x="8211960" y="2902320"/>
            <a:ext cx="124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Calibri"/>
                <a:ea typeface="微软雅黑"/>
              </a:rPr>
              <a:t>眼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Microsoft Sans Serif"/>
              </a:rPr>
              <a:t>T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Oval 13"/>
          <p:cNvSpPr/>
          <p:nvPr/>
        </p:nvSpPr>
        <p:spPr>
          <a:xfrm>
            <a:off x="3222720" y="1568520"/>
            <a:ext cx="1320840" cy="12160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Oval 14"/>
          <p:cNvSpPr/>
          <p:nvPr/>
        </p:nvSpPr>
        <p:spPr>
          <a:xfrm>
            <a:off x="6981840" y="1258920"/>
            <a:ext cx="1320840" cy="12160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Oval 15"/>
          <p:cNvSpPr/>
          <p:nvPr/>
        </p:nvSpPr>
        <p:spPr>
          <a:xfrm>
            <a:off x="4917960" y="336600"/>
            <a:ext cx="1320840" cy="12160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 Box 16"/>
          <p:cNvSpPr/>
          <p:nvPr/>
        </p:nvSpPr>
        <p:spPr>
          <a:xfrm>
            <a:off x="3335400" y="1709280"/>
            <a:ext cx="104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Calibri"/>
                <a:ea typeface="微软雅黑"/>
              </a:rPr>
              <a:t>拥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Microsoft Sans Serif"/>
              </a:rPr>
              <a:t>Hu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 Box 17"/>
          <p:cNvSpPr/>
          <p:nvPr/>
        </p:nvSpPr>
        <p:spPr>
          <a:xfrm>
            <a:off x="7130880" y="1371960"/>
            <a:ext cx="111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微软雅黑"/>
                <a:ea typeface="微软雅黑"/>
              </a:rPr>
              <a:t>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Po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 Box 18"/>
          <p:cNvSpPr/>
          <p:nvPr/>
        </p:nvSpPr>
        <p:spPr>
          <a:xfrm>
            <a:off x="4986360" y="494280"/>
            <a:ext cx="118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微软雅黑"/>
                <a:ea typeface="微软雅黑"/>
              </a:rPr>
              <a:t>创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 Box 19"/>
          <p:cNvSpPr/>
          <p:nvPr/>
        </p:nvSpPr>
        <p:spPr>
          <a:xfrm>
            <a:off x="1519200" y="5708880"/>
            <a:ext cx="949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99"/>
                </a:solidFill>
                <a:latin typeface="Microsoft Sans Serif"/>
              </a:rPr>
              <a:t>What's Simple ,Powerful and Fr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9875880" y="56847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99"/>
                </a:solidFill>
                <a:latin typeface="Microsoft Sans Serif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6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6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6" presetSubtype="16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6" presetSubtype="16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Oval 2"/>
          <p:cNvSpPr/>
          <p:nvPr/>
        </p:nvSpPr>
        <p:spPr>
          <a:xfrm>
            <a:off x="3124080" y="3465360"/>
            <a:ext cx="2274840" cy="225900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ZhengBibo_2009-10-13 10:23:45"/>
          <p:cNvSpPr/>
          <p:nvPr/>
        </p:nvSpPr>
        <p:spPr>
          <a:xfrm rot="5400000">
            <a:off x="1767960" y="176040"/>
            <a:ext cx="839520" cy="4302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曲线 112"/>
          <p:cNvSpPr/>
          <p:nvPr/>
        </p:nvSpPr>
        <p:spPr>
          <a:xfrm>
            <a:off x="3352680" y="15840"/>
            <a:ext cx="1078200" cy="3478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903" y="0"/>
                </a:moveTo>
                <a:cubicBezTo>
                  <a:pt x="11905" y="656"/>
                  <a:pt x="3656" y="2500"/>
                  <a:pt x="1828" y="3960"/>
                </a:cubicBezTo>
                <a:cubicBezTo>
                  <a:pt x="0" y="5420"/>
                  <a:pt x="1020" y="7593"/>
                  <a:pt x="2848" y="8746"/>
                </a:cubicBezTo>
                <a:cubicBezTo>
                  <a:pt x="4677" y="9898"/>
                  <a:pt x="9864" y="9870"/>
                  <a:pt x="12883" y="10890"/>
                </a:cubicBezTo>
                <a:cubicBezTo>
                  <a:pt x="15902" y="11910"/>
                  <a:pt x="20239" y="13286"/>
                  <a:pt x="20919" y="14858"/>
                </a:cubicBezTo>
                <a:cubicBezTo>
                  <a:pt x="21600" y="16430"/>
                  <a:pt x="17220" y="19210"/>
                  <a:pt x="16880" y="20307"/>
                </a:cubicBezTo>
                <a:cubicBezTo>
                  <a:pt x="16540" y="21404"/>
                  <a:pt x="18581" y="21320"/>
                  <a:pt x="18921" y="21460"/>
                </a:cubicBezTo>
                <a:cubicBezTo>
                  <a:pt x="19261" y="21600"/>
                  <a:pt x="18921" y="21187"/>
                  <a:pt x="18921" y="21131"/>
                </a:cubicBezTo>
              </a:path>
            </a:pathLst>
          </a:custGeom>
          <a:noFill/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hengBibo_2009-10-13 10:23:45"/>
          <p:cNvSpPr/>
          <p:nvPr/>
        </p:nvSpPr>
        <p:spPr>
          <a:xfrm rot="5400000">
            <a:off x="8345160" y="749160"/>
            <a:ext cx="846000" cy="4302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hengBibo_2009-10-13 10:23:45"/>
          <p:cNvSpPr/>
          <p:nvPr/>
        </p:nvSpPr>
        <p:spPr>
          <a:xfrm rot="5400000">
            <a:off x="2567520" y="3013560"/>
            <a:ext cx="846360" cy="4320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ZhengBibo_2009-10-13 10:23:45"/>
          <p:cNvSpPr/>
          <p:nvPr/>
        </p:nvSpPr>
        <p:spPr>
          <a:xfrm rot="5400000">
            <a:off x="9913680" y="3862080"/>
            <a:ext cx="847800" cy="4320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hengBibo_2009-10-13 10:23:45"/>
          <p:cNvSpPr/>
          <p:nvPr/>
        </p:nvSpPr>
        <p:spPr>
          <a:xfrm rot="5400000">
            <a:off x="534240" y="3564000"/>
            <a:ext cx="846360" cy="4302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ZhengBibo_2009-10-13 10:23:45"/>
          <p:cNvSpPr/>
          <p:nvPr/>
        </p:nvSpPr>
        <p:spPr>
          <a:xfrm rot="5400000">
            <a:off x="4916880" y="6098400"/>
            <a:ext cx="846360" cy="43164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ZhengBibo_2009-10-13 10:23:45"/>
          <p:cNvSpPr/>
          <p:nvPr/>
        </p:nvSpPr>
        <p:spPr>
          <a:xfrm rot="5400000">
            <a:off x="6476400" y="2887560"/>
            <a:ext cx="846000" cy="4302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hengBibo_2009-10-13 10:23:45"/>
          <p:cNvSpPr/>
          <p:nvPr/>
        </p:nvSpPr>
        <p:spPr>
          <a:xfrm rot="5400000">
            <a:off x="10888920" y="1205640"/>
            <a:ext cx="846000" cy="43164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ZhengBibo_2009-10-13 10:23:45"/>
          <p:cNvSpPr/>
          <p:nvPr/>
        </p:nvSpPr>
        <p:spPr>
          <a:xfrm rot="5400000">
            <a:off x="4361400" y="1281600"/>
            <a:ext cx="846360" cy="4320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ZhengBibo_2009-10-13 10:23:45"/>
          <p:cNvSpPr/>
          <p:nvPr/>
        </p:nvSpPr>
        <p:spPr>
          <a:xfrm rot="5400000">
            <a:off x="8323560" y="5874480"/>
            <a:ext cx="846000" cy="43164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hengBibo_2009-10-13 10:23:45"/>
          <p:cNvSpPr/>
          <p:nvPr/>
        </p:nvSpPr>
        <p:spPr>
          <a:xfrm rot="5400000">
            <a:off x="999720" y="6294240"/>
            <a:ext cx="846000" cy="4302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ZhengBibo_2009-10-13 10:23:45"/>
          <p:cNvSpPr/>
          <p:nvPr/>
        </p:nvSpPr>
        <p:spPr>
          <a:xfrm rot="5400000">
            <a:off x="10978920" y="6399000"/>
            <a:ext cx="847800" cy="4320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 Box 16"/>
          <p:cNvSpPr/>
          <p:nvPr/>
        </p:nvSpPr>
        <p:spPr>
          <a:xfrm>
            <a:off x="3619440" y="4094280"/>
            <a:ext cx="1306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微软雅黑"/>
                <a:ea typeface="微软雅黑"/>
              </a:rPr>
              <a:t>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 Box 17"/>
          <p:cNvSpPr/>
          <p:nvPr/>
        </p:nvSpPr>
        <p:spPr>
          <a:xfrm>
            <a:off x="5721480" y="4676040"/>
            <a:ext cx="77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Calibri"/>
              </a:rPr>
              <a:t>is simple,powerful and f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0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6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内容2"/>
          <p:cNvPicPr/>
          <p:nvPr/>
        </p:nvPicPr>
        <p:blipFill>
          <a:blip r:embed="rId1"/>
          <a:stretch/>
        </p:blipFill>
        <p:spPr>
          <a:xfrm>
            <a:off x="3240" y="1440"/>
            <a:ext cx="12185640" cy="6855120"/>
          </a:xfrm>
          <a:prstGeom prst="rect">
            <a:avLst/>
          </a:prstGeom>
          <a:ln w="0">
            <a:noFill/>
          </a:ln>
        </p:spPr>
      </p:pic>
      <p:sp>
        <p:nvSpPr>
          <p:cNvPr id="534" name="Oval 3"/>
          <p:cNvSpPr/>
          <p:nvPr/>
        </p:nvSpPr>
        <p:spPr>
          <a:xfrm>
            <a:off x="2104920" y="3736800"/>
            <a:ext cx="854280" cy="8240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1325520" y="2389320"/>
            <a:ext cx="967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在人类的童年时期，对于              兼有养育与毁灭能力、不可捉摸的性情，产生了又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又怕的感情，产生了水崇拜。通过赋予水以神的灵性，祈祷水给人类带来安宁、丰收和幸福。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It's more</a:t>
            </a:r>
            <a:r>
              <a:rPr b="0" lang="zh-CN" sz="1800" spc="-1" strike="noStrike">
                <a:solidFill>
                  <a:srgbClr val="ff6699"/>
                </a:solidFill>
                <a:latin typeface="微软雅黑"/>
                <a:ea typeface="微软雅黑"/>
              </a:rPr>
              <a:t> powerful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than you thought.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Oval 5"/>
          <p:cNvSpPr/>
          <p:nvPr/>
        </p:nvSpPr>
        <p:spPr>
          <a:xfrm>
            <a:off x="2631960" y="1082520"/>
            <a:ext cx="854280" cy="8254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3484440" y="1376640"/>
            <a:ext cx="70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H₂O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）由氢（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H)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、氧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(O)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两种元素组成。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It's </a:t>
            </a:r>
            <a:r>
              <a:rPr b="0" lang="zh-CN" sz="1800" spc="-1" strike="noStrike">
                <a:solidFill>
                  <a:srgbClr val="ff6699"/>
                </a:solidFill>
                <a:latin typeface="微软雅黑"/>
                <a:ea typeface="微软雅黑"/>
              </a:rPr>
              <a:t>simple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enoug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Oval 7"/>
          <p:cNvSpPr/>
          <p:nvPr/>
        </p:nvSpPr>
        <p:spPr>
          <a:xfrm>
            <a:off x="4587840" y="1987560"/>
            <a:ext cx="855720" cy="8254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1368360" y="4028040"/>
            <a:ext cx="975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         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，由于它的灿烂透明，它的淡青色的光辉而令人迷恋，水把周围的一切如画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反映出来，把这一切委曲的摇曳着，我们看到的水是第一流的写生家。—— 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</a:rPr>
              <a:t>车尔尼雪夫斯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Calibri"/>
              </a:rPr>
              <a:t> 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0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0">
                                  <p:stCondLst>
                                    <p:cond delay="10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过渡2"/>
          <p:cNvPicPr/>
          <p:nvPr/>
        </p:nvPicPr>
        <p:blipFill>
          <a:blip r:embed="rId1"/>
          <a:stretch/>
        </p:blipFill>
        <p:spPr>
          <a:xfrm>
            <a:off x="-744480" y="1440"/>
            <a:ext cx="12183840" cy="68551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过渡2"/>
          <p:cNvPicPr/>
          <p:nvPr/>
        </p:nvPicPr>
        <p:blipFill>
          <a:blip r:embed="rId2"/>
          <a:stretch/>
        </p:blipFill>
        <p:spPr>
          <a:xfrm>
            <a:off x="5062680" y="0"/>
            <a:ext cx="12152160" cy="683568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4"/>
          <p:cNvSpPr/>
          <p:nvPr/>
        </p:nvSpPr>
        <p:spPr>
          <a:xfrm>
            <a:off x="5437080" y="4510800"/>
            <a:ext cx="59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Calibri"/>
              </a:rPr>
              <a:t>is simple,powerful and f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ZhengBibo_2009-10-13 10:23:45"/>
          <p:cNvSpPr/>
          <p:nvPr/>
        </p:nvSpPr>
        <p:spPr>
          <a:xfrm rot="5400000">
            <a:off x="1914840" y="1116720"/>
            <a:ext cx="846000" cy="43164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ZhengBibo_2009-10-13 10:23:45"/>
          <p:cNvSpPr/>
          <p:nvPr/>
        </p:nvSpPr>
        <p:spPr>
          <a:xfrm rot="5400000">
            <a:off x="1937160" y="2608920"/>
            <a:ext cx="846000" cy="43164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ZhengBibo_2009-10-13 10:23:45"/>
          <p:cNvSpPr/>
          <p:nvPr/>
        </p:nvSpPr>
        <p:spPr>
          <a:xfrm rot="5400000">
            <a:off x="1929600" y="4177440"/>
            <a:ext cx="846000" cy="4320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ZhengBibo_2009-10-13 10:23:45"/>
          <p:cNvSpPr/>
          <p:nvPr/>
        </p:nvSpPr>
        <p:spPr>
          <a:xfrm rot="5400000">
            <a:off x="1958400" y="5813280"/>
            <a:ext cx="846000" cy="4302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ZhengBibo_2009-10-13 10:23:45"/>
          <p:cNvSpPr/>
          <p:nvPr/>
        </p:nvSpPr>
        <p:spPr>
          <a:xfrm rot="5400000">
            <a:off x="9267480" y="966600"/>
            <a:ext cx="846000" cy="4302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ZhengBibo_2009-10-13 10:23:45"/>
          <p:cNvSpPr/>
          <p:nvPr/>
        </p:nvSpPr>
        <p:spPr>
          <a:xfrm rot="5400000">
            <a:off x="9297360" y="2452680"/>
            <a:ext cx="846360" cy="4302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ZhengBibo_2009-10-13 10:23:45"/>
          <p:cNvSpPr/>
          <p:nvPr/>
        </p:nvSpPr>
        <p:spPr>
          <a:xfrm rot="5400000">
            <a:off x="9357840" y="3922560"/>
            <a:ext cx="846000" cy="4302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ZhengBibo_2009-10-13 10:23:45"/>
          <p:cNvSpPr/>
          <p:nvPr/>
        </p:nvSpPr>
        <p:spPr>
          <a:xfrm rot="5400000">
            <a:off x="9357120" y="5693400"/>
            <a:ext cx="846000" cy="43164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曲线 200"/>
          <p:cNvSpPr/>
          <p:nvPr/>
        </p:nvSpPr>
        <p:spPr>
          <a:xfrm>
            <a:off x="4044960" y="-9360"/>
            <a:ext cx="1805040" cy="3355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090" y="0"/>
                </a:moveTo>
                <a:cubicBezTo>
                  <a:pt x="21090" y="738"/>
                  <a:pt x="21600" y="2990"/>
                  <a:pt x="21090" y="4435"/>
                </a:cubicBezTo>
                <a:cubicBezTo>
                  <a:pt x="20581" y="5879"/>
                  <a:pt x="19503" y="7278"/>
                  <a:pt x="18036" y="8678"/>
                </a:cubicBezTo>
                <a:cubicBezTo>
                  <a:pt x="16570" y="10077"/>
                  <a:pt x="14473" y="11424"/>
                  <a:pt x="12292" y="12823"/>
                </a:cubicBezTo>
                <a:cubicBezTo>
                  <a:pt x="10112" y="14223"/>
                  <a:pt x="6693" y="16087"/>
                  <a:pt x="4930" y="17067"/>
                </a:cubicBezTo>
                <a:cubicBezTo>
                  <a:pt x="3168" y="18046"/>
                  <a:pt x="2476" y="18050"/>
                  <a:pt x="1701" y="18707"/>
                </a:cubicBezTo>
                <a:cubicBezTo>
                  <a:pt x="926" y="19364"/>
                  <a:pt x="531" y="20539"/>
                  <a:pt x="265" y="21020"/>
                </a:cubicBezTo>
                <a:cubicBezTo>
                  <a:pt x="0" y="21502"/>
                  <a:pt x="113" y="21502"/>
                  <a:pt x="83" y="21600"/>
                </a:cubicBezTo>
              </a:path>
            </a:pathLst>
          </a:custGeom>
          <a:noFill/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Oval 14"/>
          <p:cNvSpPr/>
          <p:nvPr/>
        </p:nvSpPr>
        <p:spPr>
          <a:xfrm>
            <a:off x="2795760" y="3314880"/>
            <a:ext cx="2273040" cy="225900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Calibri"/>
                <a:ea typeface="微软雅黑"/>
              </a:rPr>
              <a:t>眼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Microsoft Sans Serif"/>
              </a:rPr>
              <a:t>T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6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内容2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3"/>
          <p:cNvSpPr/>
          <p:nvPr/>
        </p:nvSpPr>
        <p:spPr>
          <a:xfrm>
            <a:off x="2314440" y="1738800"/>
            <a:ext cx="808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是一种略咸的透明液体，每个人的眼睛里都有制造眼泪的“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工厂”——“泪腺”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2270160" y="2957040"/>
            <a:ext cx="816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严厉的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爸爸只要看见女儿的              心就融化了，好强的男生看见女生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眼泪就什么都愿意去做。</a:t>
            </a:r>
            <a:r>
              <a:rPr b="0" lang="zh-CN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It's </a:t>
            </a:r>
            <a:r>
              <a:rPr b="0" lang="zh-CN" sz="18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simple</a:t>
            </a:r>
            <a:r>
              <a:rPr b="0" lang="zh-CN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 but </a:t>
            </a:r>
            <a:r>
              <a:rPr b="0" lang="zh-CN" sz="18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powerfu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2809800" y="4450680"/>
            <a:ext cx="81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强忍              不利于健康。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You are</a:t>
            </a:r>
            <a:r>
              <a:rPr b="0" lang="zh-CN" sz="1800" spc="-1" strike="noStrike">
                <a:solidFill>
                  <a:srgbClr val="ff6699"/>
                </a:solidFill>
                <a:latin typeface="微软雅黑"/>
                <a:ea typeface="微软雅黑"/>
              </a:rPr>
              <a:t> free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to let it ou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Oval 6"/>
          <p:cNvSpPr/>
          <p:nvPr/>
        </p:nvSpPr>
        <p:spPr>
          <a:xfrm>
            <a:off x="2976480" y="1428840"/>
            <a:ext cx="855720" cy="8236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眼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Oval 7"/>
          <p:cNvSpPr/>
          <p:nvPr/>
        </p:nvSpPr>
        <p:spPr>
          <a:xfrm>
            <a:off x="5654520" y="2695680"/>
            <a:ext cx="855720" cy="8254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眼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Oval 8"/>
          <p:cNvSpPr/>
          <p:nvPr/>
        </p:nvSpPr>
        <p:spPr>
          <a:xfrm>
            <a:off x="3409920" y="4173480"/>
            <a:ext cx="855720" cy="8240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眼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469800" y="647856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0">
                                  <p:stCondLst>
                                    <p:cond delay="3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0">
                                  <p:stCondLst>
                                    <p:cond delay="8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拥抱2"/>
          <p:cNvPicPr/>
          <p:nvPr/>
        </p:nvPicPr>
        <p:blipFill>
          <a:blip r:embed="rId1"/>
          <a:stretch/>
        </p:blipFill>
        <p:spPr>
          <a:xfrm>
            <a:off x="4284720" y="2606760"/>
            <a:ext cx="2104920" cy="18097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3" descr="拥抱"/>
          <p:cNvPicPr/>
          <p:nvPr/>
        </p:nvPicPr>
        <p:blipFill>
          <a:blip r:embed="rId2"/>
          <a:stretch/>
        </p:blipFill>
        <p:spPr>
          <a:xfrm>
            <a:off x="1612800" y="2987640"/>
            <a:ext cx="1959120" cy="19684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拥抱"/>
          <p:cNvPicPr/>
          <p:nvPr/>
        </p:nvPicPr>
        <p:blipFill>
          <a:blip r:embed="rId3"/>
          <a:stretch/>
        </p:blipFill>
        <p:spPr>
          <a:xfrm>
            <a:off x="1297080" y="4500720"/>
            <a:ext cx="1958760" cy="1968480"/>
          </a:xfrm>
          <a:prstGeom prst="rect">
            <a:avLst/>
          </a:prstGeom>
          <a:ln w="0">
            <a:noFill/>
          </a:ln>
        </p:spPr>
      </p:pic>
      <p:sp>
        <p:nvSpPr>
          <p:cNvPr id="564" name="Oval 5"/>
          <p:cNvSpPr/>
          <p:nvPr/>
        </p:nvSpPr>
        <p:spPr>
          <a:xfrm>
            <a:off x="2795760" y="3314880"/>
            <a:ext cx="2273040" cy="225900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Calibri"/>
                <a:ea typeface="微软雅黑"/>
              </a:rPr>
              <a:t>拥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Microsoft Sans Serif"/>
              </a:rPr>
              <a:t>Hu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6" descr="拥抱"/>
          <p:cNvPicPr/>
          <p:nvPr/>
        </p:nvPicPr>
        <p:blipFill>
          <a:blip r:embed="rId4"/>
          <a:stretch/>
        </p:blipFill>
        <p:spPr>
          <a:xfrm>
            <a:off x="396720" y="2865600"/>
            <a:ext cx="1959120" cy="19684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7" descr="拥抱"/>
          <p:cNvPicPr/>
          <p:nvPr/>
        </p:nvPicPr>
        <p:blipFill>
          <a:blip r:embed="rId5"/>
          <a:stretch/>
        </p:blipFill>
        <p:spPr>
          <a:xfrm>
            <a:off x="6496200" y="3181320"/>
            <a:ext cx="1958760" cy="1968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8" descr="拥抱"/>
          <p:cNvPicPr/>
          <p:nvPr/>
        </p:nvPicPr>
        <p:blipFill>
          <a:blip r:embed="rId6"/>
          <a:stretch/>
        </p:blipFill>
        <p:spPr>
          <a:xfrm>
            <a:off x="7315200" y="1733400"/>
            <a:ext cx="1959120" cy="19684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9" descr="拥抱"/>
          <p:cNvPicPr/>
          <p:nvPr/>
        </p:nvPicPr>
        <p:blipFill>
          <a:blip r:embed="rId7"/>
          <a:stretch/>
        </p:blipFill>
        <p:spPr>
          <a:xfrm>
            <a:off x="5775480" y="1771560"/>
            <a:ext cx="1958760" cy="19684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0" descr="拥抱"/>
          <p:cNvPicPr/>
          <p:nvPr/>
        </p:nvPicPr>
        <p:blipFill>
          <a:blip r:embed="rId8"/>
          <a:stretch/>
        </p:blipFill>
        <p:spPr>
          <a:xfrm>
            <a:off x="3389400" y="1770120"/>
            <a:ext cx="1958760" cy="19684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1" descr="拥抱"/>
          <p:cNvPicPr/>
          <p:nvPr/>
        </p:nvPicPr>
        <p:blipFill>
          <a:blip r:embed="rId9"/>
          <a:stretch/>
        </p:blipFill>
        <p:spPr>
          <a:xfrm>
            <a:off x="4184640" y="4395960"/>
            <a:ext cx="1959120" cy="19684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2" descr="拥抱"/>
          <p:cNvPicPr/>
          <p:nvPr/>
        </p:nvPicPr>
        <p:blipFill>
          <a:blip r:embed="rId10"/>
          <a:stretch/>
        </p:blipFill>
        <p:spPr>
          <a:xfrm>
            <a:off x="9610560" y="4029120"/>
            <a:ext cx="1959120" cy="19684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3" descr="拥抱2"/>
          <p:cNvPicPr/>
          <p:nvPr/>
        </p:nvPicPr>
        <p:blipFill>
          <a:blip r:embed="rId11"/>
          <a:stretch/>
        </p:blipFill>
        <p:spPr>
          <a:xfrm>
            <a:off x="1785960" y="2014560"/>
            <a:ext cx="2104920" cy="18097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4" descr="拥抱2"/>
          <p:cNvPicPr/>
          <p:nvPr/>
        </p:nvPicPr>
        <p:blipFill>
          <a:blip r:embed="rId12"/>
          <a:stretch/>
        </p:blipFill>
        <p:spPr>
          <a:xfrm>
            <a:off x="5035680" y="3822840"/>
            <a:ext cx="2104920" cy="18097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5" descr="拥抱2"/>
          <p:cNvPicPr/>
          <p:nvPr/>
        </p:nvPicPr>
        <p:blipFill>
          <a:blip r:embed="rId13"/>
          <a:stretch/>
        </p:blipFill>
        <p:spPr>
          <a:xfrm>
            <a:off x="66600" y="3956040"/>
            <a:ext cx="2105280" cy="18097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6" descr="拥抱2"/>
          <p:cNvPicPr/>
          <p:nvPr/>
        </p:nvPicPr>
        <p:blipFill>
          <a:blip r:embed="rId14"/>
          <a:stretch/>
        </p:blipFill>
        <p:spPr>
          <a:xfrm>
            <a:off x="7959600" y="3462480"/>
            <a:ext cx="2105280" cy="18097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7" descr="拥抱2"/>
          <p:cNvPicPr/>
          <p:nvPr/>
        </p:nvPicPr>
        <p:blipFill>
          <a:blip r:embed="rId15"/>
          <a:stretch/>
        </p:blipFill>
        <p:spPr>
          <a:xfrm>
            <a:off x="9987120" y="3086280"/>
            <a:ext cx="2104920" cy="1809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8" descr="拥抱2"/>
          <p:cNvPicPr/>
          <p:nvPr/>
        </p:nvPicPr>
        <p:blipFill>
          <a:blip r:embed="rId16"/>
          <a:stretch/>
        </p:blipFill>
        <p:spPr>
          <a:xfrm>
            <a:off x="10933200" y="4708440"/>
            <a:ext cx="2104920" cy="18097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9" descr="拥抱2"/>
          <p:cNvPicPr/>
          <p:nvPr/>
        </p:nvPicPr>
        <p:blipFill>
          <a:blip r:embed="rId17"/>
          <a:stretch/>
        </p:blipFill>
        <p:spPr>
          <a:xfrm>
            <a:off x="-1263600" y="3102120"/>
            <a:ext cx="20988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内容2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580" name="Oval 3"/>
          <p:cNvSpPr/>
          <p:nvPr/>
        </p:nvSpPr>
        <p:spPr>
          <a:xfrm>
            <a:off x="5918040" y="1308240"/>
            <a:ext cx="854280" cy="8236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拥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2000160" y="1605600"/>
            <a:ext cx="852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美国心理学家赫洛德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傅斯说：“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可以消除沮丧——能使体内免疫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统的效能上升；拥抱能为倦怠的躯体注入新能量，使你变得更年轻，更有活力。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Oval 5"/>
          <p:cNvSpPr/>
          <p:nvPr/>
        </p:nvSpPr>
        <p:spPr>
          <a:xfrm>
            <a:off x="4994280" y="3040200"/>
            <a:ext cx="855720" cy="8254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拥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2014560" y="3309480"/>
            <a:ext cx="865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当生活欺骗了你，一个                就能给你重新注入力量，当他人对生活灰心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也请不要吝啬你的怀抱。</a:t>
            </a:r>
            <a:r>
              <a:rPr b="0" lang="zh-CN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Believe it or not,a hug has magical </a:t>
            </a:r>
            <a:r>
              <a:rPr b="0" lang="zh-CN" sz="18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power</a:t>
            </a:r>
            <a:r>
              <a:rPr b="0" lang="zh-CN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2075040" y="4962600"/>
            <a:ext cx="84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一个               又不花钱！</a:t>
            </a:r>
            <a:r>
              <a:rPr b="0" lang="zh-CN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You are </a:t>
            </a:r>
            <a:r>
              <a:rPr b="0" lang="zh-CN" sz="18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free </a:t>
            </a:r>
            <a:r>
              <a:rPr b="0" lang="zh-CN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to hug others for </a:t>
            </a:r>
            <a:r>
              <a:rPr b="0" lang="zh-CN" sz="18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free</a:t>
            </a:r>
            <a:r>
              <a:rPr b="0" lang="zh-CN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Oval 8"/>
          <p:cNvSpPr/>
          <p:nvPr/>
        </p:nvSpPr>
        <p:spPr>
          <a:xfrm>
            <a:off x="3095640" y="4713120"/>
            <a:ext cx="853920" cy="8258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拥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0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0">
                                  <p:stCondLst>
                                    <p:cond delay="9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Oval 2"/>
          <p:cNvSpPr/>
          <p:nvPr/>
        </p:nvSpPr>
        <p:spPr>
          <a:xfrm>
            <a:off x="2795760" y="3314880"/>
            <a:ext cx="2273040" cy="225900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Calibri"/>
                <a:ea typeface="微软雅黑"/>
              </a:rPr>
              <a:t>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Microsoft Sans Serif"/>
              </a:rPr>
              <a:t>Po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5437080" y="4510800"/>
            <a:ext cx="59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Calibri"/>
              </a:rPr>
              <a:t>is simple,powerful and f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Picture 4" descr="诗2"/>
          <p:cNvPicPr/>
          <p:nvPr/>
        </p:nvPicPr>
        <p:blipFill>
          <a:blip r:embed="rId1"/>
          <a:stretch/>
        </p:blipFill>
        <p:spPr>
          <a:xfrm>
            <a:off x="5769000" y="1738440"/>
            <a:ext cx="685800" cy="6188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" descr="诗2"/>
          <p:cNvPicPr/>
          <p:nvPr/>
        </p:nvPicPr>
        <p:blipFill>
          <a:blip r:embed="rId2"/>
          <a:stretch/>
        </p:blipFill>
        <p:spPr>
          <a:xfrm>
            <a:off x="8010360" y="1281240"/>
            <a:ext cx="685800" cy="6188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6" descr="诗2"/>
          <p:cNvPicPr/>
          <p:nvPr/>
        </p:nvPicPr>
        <p:blipFill>
          <a:blip r:embed="rId3"/>
          <a:stretch/>
        </p:blipFill>
        <p:spPr>
          <a:xfrm>
            <a:off x="1693800" y="114624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7" descr="诗2"/>
          <p:cNvPicPr/>
          <p:nvPr/>
        </p:nvPicPr>
        <p:blipFill>
          <a:blip r:embed="rId4"/>
          <a:stretch/>
        </p:blipFill>
        <p:spPr>
          <a:xfrm>
            <a:off x="7605720" y="375588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8" descr="诗2"/>
          <p:cNvPicPr/>
          <p:nvPr/>
        </p:nvPicPr>
        <p:blipFill>
          <a:blip r:embed="rId5"/>
          <a:stretch/>
        </p:blipFill>
        <p:spPr>
          <a:xfrm>
            <a:off x="2865600" y="267480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9" descr="诗2"/>
          <p:cNvPicPr/>
          <p:nvPr/>
        </p:nvPicPr>
        <p:blipFill>
          <a:blip r:embed="rId6"/>
          <a:stretch/>
        </p:blipFill>
        <p:spPr>
          <a:xfrm>
            <a:off x="10426680" y="46980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0" descr="诗2"/>
          <p:cNvPicPr/>
          <p:nvPr/>
        </p:nvPicPr>
        <p:blipFill>
          <a:blip r:embed="rId7"/>
          <a:stretch/>
        </p:blipFill>
        <p:spPr>
          <a:xfrm>
            <a:off x="733320" y="447660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1" descr="诗2"/>
          <p:cNvPicPr/>
          <p:nvPr/>
        </p:nvPicPr>
        <p:blipFill>
          <a:blip r:embed="rId8"/>
          <a:stretch/>
        </p:blipFill>
        <p:spPr>
          <a:xfrm>
            <a:off x="2833560" y="-351000"/>
            <a:ext cx="685800" cy="6145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2" descr="诗2"/>
          <p:cNvPicPr/>
          <p:nvPr/>
        </p:nvPicPr>
        <p:blipFill>
          <a:blip r:embed="rId9"/>
          <a:stretch/>
        </p:blipFill>
        <p:spPr>
          <a:xfrm>
            <a:off x="11147400" y="339552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3" descr="诗2"/>
          <p:cNvPicPr/>
          <p:nvPr/>
        </p:nvPicPr>
        <p:blipFill>
          <a:blip r:embed="rId10"/>
          <a:stretch/>
        </p:blipFill>
        <p:spPr>
          <a:xfrm>
            <a:off x="4664160" y="645804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4" descr="诗2"/>
          <p:cNvPicPr/>
          <p:nvPr/>
        </p:nvPicPr>
        <p:blipFill>
          <a:blip r:embed="rId11"/>
          <a:stretch/>
        </p:blipFill>
        <p:spPr>
          <a:xfrm>
            <a:off x="9331200" y="498780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5" descr="诗2"/>
          <p:cNvPicPr/>
          <p:nvPr/>
        </p:nvPicPr>
        <p:blipFill>
          <a:blip r:embed="rId12"/>
          <a:stretch/>
        </p:blipFill>
        <p:spPr>
          <a:xfrm>
            <a:off x="10877400" y="642780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6" descr="诗2"/>
          <p:cNvPicPr/>
          <p:nvPr/>
        </p:nvPicPr>
        <p:blipFill>
          <a:blip r:embed="rId13"/>
          <a:stretch/>
        </p:blipFill>
        <p:spPr>
          <a:xfrm>
            <a:off x="-208080" y="349200"/>
            <a:ext cx="681120" cy="6192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7" descr="诗2"/>
          <p:cNvPicPr/>
          <p:nvPr/>
        </p:nvPicPr>
        <p:blipFill>
          <a:blip r:embed="rId14"/>
          <a:stretch/>
        </p:blipFill>
        <p:spPr>
          <a:xfrm>
            <a:off x="1482840" y="642780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8" descr="诗2"/>
          <p:cNvPicPr/>
          <p:nvPr/>
        </p:nvPicPr>
        <p:blipFill>
          <a:blip r:embed="rId15"/>
          <a:stretch/>
        </p:blipFill>
        <p:spPr>
          <a:xfrm>
            <a:off x="6735600" y="-169920"/>
            <a:ext cx="685800" cy="614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9" descr="诗2"/>
          <p:cNvPicPr/>
          <p:nvPr/>
        </p:nvPicPr>
        <p:blipFill>
          <a:blip r:embed="rId16"/>
          <a:stretch/>
        </p:blipFill>
        <p:spPr>
          <a:xfrm>
            <a:off x="6675480" y="5527800"/>
            <a:ext cx="685800" cy="618840"/>
          </a:xfrm>
          <a:prstGeom prst="rect">
            <a:avLst/>
          </a:prstGeom>
          <a:ln w="0">
            <a:noFill/>
          </a:ln>
        </p:spPr>
      </p:pic>
      <p:sp>
        <p:nvSpPr>
          <p:cNvPr id="604" name="曲线 235"/>
          <p:cNvSpPr/>
          <p:nvPr/>
        </p:nvSpPr>
        <p:spPr>
          <a:xfrm>
            <a:off x="3424320" y="6480"/>
            <a:ext cx="636480" cy="3301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143" y="0"/>
                </a:moveTo>
                <a:cubicBezTo>
                  <a:pt x="8046" y="407"/>
                  <a:pt x="3807" y="1371"/>
                  <a:pt x="2538" y="2451"/>
                </a:cubicBezTo>
                <a:cubicBezTo>
                  <a:pt x="1269" y="3531"/>
                  <a:pt x="0" y="5363"/>
                  <a:pt x="1527" y="6477"/>
                </a:cubicBezTo>
                <a:cubicBezTo>
                  <a:pt x="3054" y="7590"/>
                  <a:pt x="8476" y="8064"/>
                  <a:pt x="11703" y="9127"/>
                </a:cubicBezTo>
                <a:cubicBezTo>
                  <a:pt x="14930" y="10191"/>
                  <a:pt x="20094" y="11616"/>
                  <a:pt x="20847" y="12858"/>
                </a:cubicBezTo>
                <a:cubicBezTo>
                  <a:pt x="21600" y="14100"/>
                  <a:pt x="17964" y="15426"/>
                  <a:pt x="16264" y="16589"/>
                </a:cubicBezTo>
                <a:cubicBezTo>
                  <a:pt x="14564" y="17752"/>
                  <a:pt x="11187" y="18995"/>
                  <a:pt x="10670" y="19830"/>
                </a:cubicBezTo>
                <a:cubicBezTo>
                  <a:pt x="10154" y="20665"/>
                  <a:pt x="12779" y="21305"/>
                  <a:pt x="13209" y="21600"/>
                </a:cubicBezTo>
              </a:path>
            </a:pathLst>
          </a:custGeom>
          <a:noFill/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王玉清</cp:lastModifiedBy>
  <dcterms:modified xsi:type="dcterms:W3CDTF">2016-02-19T07:35:06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