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6EC-8DB2-4C56-8F53-0BC8EDA9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97E-8361-4A89-8F10-80381817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D78-8A14-4EEC-A543-A14F69B5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D9F-50B7-44D5-8578-207472E8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376-F336-440B-8E74-2B57BDD5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C11-1EDF-4464-8E93-1433AA6C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0C9-A5A4-4569-A773-C576066D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1BB-760B-457F-82FF-9D85922E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EF5-5A6D-405E-A22B-014B2923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D86-B672-4C1D-BA79-02C7C930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9F6-0221-4AD9-8BD0-5C5A52B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35F-420B-4E21-8607-61F28BE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795B-7AA8-412A-8DD1-7513A1A08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休止的文件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4T05:53:11Z</dcterms:created>
  <dc:creator>ppt宝藏</dc:creator>
  <dc:description/>
  <dc:language>en-US</dc:language>
  <cp:lastModifiedBy>a</cp:lastModifiedBy>
  <dcterms:modified xsi:type="dcterms:W3CDTF">2015-07-25T03:13:09Z</dcterms:modified>
  <cp:revision>14</cp:revision>
  <dc:subject/>
  <dc:title>www.pptbz.com</dc:title>
</cp:coreProperties>
</file>