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E24F-C150-4352-89FC-1B2D772D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E021-681D-417F-9A6C-81B5796C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FD97-C9E1-4D29-8B27-5EB0606F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DB1-A279-48A3-9E21-7CC897E4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335D-1D1C-44AC-B8A7-F329CAD0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EFE-E003-4E91-8315-58304C0E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17E-1A8C-45F2-840D-5C4F6C4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95B-3E92-4E19-819D-BFC31022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F16A-D369-42B2-953F-A33221D8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234-2025-4337-A18F-14C2E519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FBA-7CB6-4B18-B4D5-E339BB0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DBA2-50C5-43C5-96EC-7C4627C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A2C0-8B4F-45E7-A540-5BFC93AD0F6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1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1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9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9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68436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9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4T00:50:03Z</dcterms:created>
  <dc:creator>www.pptbz.com</dc:creator>
  <dc:description/>
  <cp:keywords/>
  <dc:language>en-US</dc:language>
  <cp:lastModifiedBy>a</cp:lastModifiedBy>
  <dcterms:modified xsi:type="dcterms:W3CDTF">2015-07-25T02:36:5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