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9CC-0A05-4BA7-9D17-ECBC2AD2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960-3009-4CF8-9245-786009AC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67A-CDC5-4512-8481-4FFB1C3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F14-168A-431B-8BA7-E8193E7C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7477-ED2D-4EC1-BA1D-9D7B8287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18A-1265-4083-9EEB-C7CC3BF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4BCA-FCC8-4F65-AA81-79C70B3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E1D7-453F-4286-AC7A-FBF5312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C45C-FD17-42E9-A84E-5285CA3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0A8F-A494-4E1C-965C-20D57D6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B244-11AF-4979-94EB-23F0CEE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5AD-43F8-4253-8E4E-B0BCB81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0FCF-18E9-4ED4-8A1F-6DC5756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5C9-EDAD-4C5E-8752-6CBC4B7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CF35-25CF-4EC3-826B-A2413FA7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19EE-6425-4CC3-9FB3-F559B03E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60FF-AF07-4D2B-B276-E7FCA6AA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726-90EA-4DBD-BCF6-5C448EF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8FA-A9C2-4135-8309-8B771E9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45A-ED09-4C57-AF68-266E3CB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48A-2B9A-4E21-99AE-28AABB52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C68-DDA7-4451-AA33-2FD54FF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92F-690C-4013-8E05-2789987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A00-5E90-45E1-A0D7-2976728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9600" y="162000"/>
            <a:ext cx="9183600" cy="6696000"/>
            <a:chOff x="-39600" y="162000"/>
            <a:chExt cx="9183600" cy="6696000"/>
          </a:xfrm>
        </p:grpSpPr>
        <p:pic>
          <p:nvPicPr>
            <p:cNvPr id="1" name="Picture 3" descr="artplus_music_watermelody02_f"/>
            <p:cNvPicPr/>
            <p:nvPr/>
          </p:nvPicPr>
          <p:blipFill>
            <a:blip r:embed="rId3"/>
            <a:stretch/>
          </p:blipFill>
          <p:spPr>
            <a:xfrm>
              <a:off x="0" y="162000"/>
              <a:ext cx="9144000" cy="15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4"/>
            <p:cNvGrpSpPr/>
            <p:nvPr/>
          </p:nvGrpSpPr>
          <p:grpSpPr>
            <a:xfrm>
              <a:off x="-39600" y="181080"/>
              <a:ext cx="7950240" cy="6676920"/>
              <a:chOff x="-39600" y="181080"/>
              <a:chExt cx="7950240" cy="6676920"/>
            </a:xfrm>
          </p:grpSpPr>
          <p:pic>
            <p:nvPicPr>
              <p:cNvPr id="3" name="Picture 5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-39600" y="5397480"/>
                <a:ext cx="113976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6" descr="artplus_plant_butterfly03_i"/>
              <p:cNvPicPr/>
              <p:nvPr/>
            </p:nvPicPr>
            <p:blipFill>
              <a:blip r:embed="rId5"/>
              <a:stretch/>
            </p:blipFill>
            <p:spPr>
              <a:xfrm>
                <a:off x="6789600" y="181080"/>
                <a:ext cx="1121040" cy="113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618920" y="6576480"/>
            <a:ext cx="21337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739680" y="6566040"/>
            <a:ext cx="4691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527680" y="6568560"/>
            <a:ext cx="336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4DB1-C564-4B3A-B193-2B84C4229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569360" y="236520"/>
            <a:ext cx="1428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38040" y="295200"/>
            <a:ext cx="21225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0" y="374760"/>
            <a:ext cx="8742240" cy="6483240"/>
            <a:chOff x="0" y="374760"/>
            <a:chExt cx="8742240" cy="6483240"/>
          </a:xfrm>
        </p:grpSpPr>
        <p:pic>
          <p:nvPicPr>
            <p:cNvPr id="49" name="Picture 9" descr="artplus_plant_butterfly03_i"/>
            <p:cNvPicPr/>
            <p:nvPr/>
          </p:nvPicPr>
          <p:blipFill>
            <a:blip r:embed="rId3"/>
            <a:stretch/>
          </p:blipFill>
          <p:spPr>
            <a:xfrm>
              <a:off x="7223040" y="374760"/>
              <a:ext cx="1312920" cy="133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"/>
            <p:cNvGrpSpPr/>
            <p:nvPr/>
          </p:nvGrpSpPr>
          <p:grpSpPr>
            <a:xfrm>
              <a:off x="0" y="1120680"/>
              <a:ext cx="8742240" cy="5737320"/>
              <a:chOff x="0" y="1120680"/>
              <a:chExt cx="8742240" cy="5737320"/>
            </a:xfrm>
          </p:grpSpPr>
          <p:pic>
            <p:nvPicPr>
              <p:cNvPr id="51" name="Picture 11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7526160" y="5299200"/>
                <a:ext cx="1216080" cy="15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2" descr="artplus_music_watermelody02_d"/>
              <p:cNvPicPr/>
              <p:nvPr/>
            </p:nvPicPr>
            <p:blipFill>
              <a:blip r:embed="rId5"/>
              <a:stretch/>
            </p:blipFill>
            <p:spPr>
              <a:xfrm>
                <a:off x="0" y="1120680"/>
                <a:ext cx="3325680" cy="573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3" descr="artplus_plant_butterfly03_k"/>
              <p:cNvPicPr/>
              <p:nvPr/>
            </p:nvPicPr>
            <p:blipFill>
              <a:blip r:embed="rId6"/>
              <a:stretch/>
            </p:blipFill>
            <p:spPr>
              <a:xfrm>
                <a:off x="0" y="1192320"/>
                <a:ext cx="7758000" cy="477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4" descr="artplus_plant_butterfly03_e"/>
              <p:cNvPicPr/>
              <p:nvPr/>
            </p:nvPicPr>
            <p:blipFill>
              <a:blip r:embed="rId7"/>
              <a:stretch/>
            </p:blipFill>
            <p:spPr>
              <a:xfrm>
                <a:off x="2354400" y="3914640"/>
                <a:ext cx="2384280" cy="294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375160" y="6464160"/>
            <a:ext cx="2789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3784320" y="6479640"/>
            <a:ext cx="1569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5040" y="6478560"/>
            <a:ext cx="4431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052-512A-4CD4-9EFF-89717A68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944800" y="3728880"/>
            <a:ext cx="6199200" cy="362160"/>
          </a:xfrm>
          <a:prstGeom prst="rect">
            <a:avLst/>
          </a:prstGeom>
          <a:solidFill>
            <a:srgbClr val="94b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8999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向日葵舞蝶通用</a:t>
            </a:r>
            <a:r>
              <a:rPr b="1" lang="en-US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汉仪中宋简"/>
                <a:ea typeface="汉仪中宋简"/>
              </a:rPr>
              <a:t>模板免费下载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2"/>
          <p:cNvSpPr/>
          <p:nvPr/>
        </p:nvSpPr>
        <p:spPr>
          <a:xfrm flipV="1">
            <a:off x="1042920" y="5603760"/>
            <a:ext cx="3306960" cy="48744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 flipV="1">
            <a:off x="4611600" y="5576760"/>
            <a:ext cx="3305160" cy="48600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147680" y="2655720"/>
            <a:ext cx="3106800" cy="3076920"/>
            <a:chOff x="1147680" y="2655720"/>
            <a:chExt cx="3106800" cy="3076920"/>
          </a:xfrm>
        </p:grpSpPr>
        <p:sp>
          <p:nvSpPr>
            <p:cNvPr id="103" name="Rectangle 6"/>
            <p:cNvSpPr/>
            <p:nvPr/>
          </p:nvSpPr>
          <p:spPr>
            <a:xfrm>
              <a:off x="3757680" y="265896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1492200" y="265572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1147680" y="28544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"/>
            <p:cNvSpPr/>
            <p:nvPr/>
          </p:nvSpPr>
          <p:spPr>
            <a:xfrm>
              <a:off x="1147680" y="33876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0"/>
            <p:cNvSpPr/>
            <p:nvPr/>
          </p:nvSpPr>
          <p:spPr>
            <a:xfrm>
              <a:off x="1147680" y="39211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1147680" y="44546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2"/>
            <p:cNvSpPr/>
            <p:nvPr/>
          </p:nvSpPr>
          <p:spPr>
            <a:xfrm>
              <a:off x="1147680" y="4987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13"/>
          <p:cNvSpPr/>
          <p:nvPr/>
        </p:nvSpPr>
        <p:spPr>
          <a:xfrm>
            <a:off x="1273320" y="153684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4668840" y="2651040"/>
            <a:ext cx="3191040" cy="3081600"/>
            <a:chOff x="4668840" y="2651040"/>
            <a:chExt cx="3191040" cy="3081600"/>
          </a:xfrm>
        </p:grpSpPr>
        <p:sp>
          <p:nvSpPr>
            <p:cNvPr id="112" name="Rectangle 15"/>
            <p:cNvSpPr/>
            <p:nvPr/>
          </p:nvSpPr>
          <p:spPr>
            <a:xfrm>
              <a:off x="7399440" y="2651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5006880" y="2658960"/>
              <a:ext cx="120600" cy="3073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7"/>
            <p:cNvSpPr/>
            <p:nvPr/>
          </p:nvSpPr>
          <p:spPr>
            <a:xfrm>
              <a:off x="4668840" y="28591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4668840" y="33926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9"/>
            <p:cNvSpPr/>
            <p:nvPr/>
          </p:nvSpPr>
          <p:spPr>
            <a:xfrm>
              <a:off x="4668840" y="39258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0"/>
            <p:cNvSpPr/>
            <p:nvPr/>
          </p:nvSpPr>
          <p:spPr>
            <a:xfrm>
              <a:off x="4668840" y="44593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1"/>
            <p:cNvSpPr/>
            <p:nvPr/>
          </p:nvSpPr>
          <p:spPr>
            <a:xfrm>
              <a:off x="4668840" y="4992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2"/>
          <p:cNvSpPr/>
          <p:nvPr/>
        </p:nvSpPr>
        <p:spPr>
          <a:xfrm>
            <a:off x="2009880" y="56624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5575320" y="5622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37:58Z</dcterms:created>
  <dc:creator>a-dang</dc:creator>
  <dc:description/>
  <dc:language>en-US</dc:language>
  <cp:lastModifiedBy>王玉清</cp:lastModifiedBy>
  <dcterms:modified xsi:type="dcterms:W3CDTF">2016-02-22T03:24:10Z</dcterms:modified>
  <cp:revision>6</cp:revision>
  <dc:subject/>
  <dc:title>ThemeGallery  PowerTemplate </dc:title>
</cp:coreProperties>
</file>