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6D11-84C5-4345-A73B-EC1E9F518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5157-4454-4448-BC25-DED1BFDF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3E53-650C-437E-942D-E954950A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7BFF-FA16-49A7-B946-B18772B3B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A132-8616-4C03-8E8F-B848F25F5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BECB-9B92-47B5-B13A-182B6CED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562F-9D13-441F-B977-A7F562F0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6287-12EC-45FF-84C9-7A709EE6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D24D-14ED-4DEF-B58E-52F5C07C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0EE8-C0A4-4797-923C-CED52ADD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5198-BB35-4421-8E5D-65601B40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C862-7A0A-4EC2-BE36-4F042F7A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15A5-67AA-4BCE-AFE3-C4695C15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BB4B-9F11-48B2-BAE0-238A5DF9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46E4-1154-44C6-96CE-66E251CF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958D-F49C-42E2-B93C-7356CF89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E0A3-CDED-4198-BF14-AF8F89A2F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C4D0-9645-4162-BF91-1BA5EBD9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3F43-424A-4E23-9460-71C13E99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9FE7-151C-42F6-8E31-E7259A3B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BEBD-5FF3-43C2-AA4D-312C487C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450B-F806-4AE7-A7E7-FE6FE3A6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FF9D-6647-4EDC-A7CB-4D84B107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B662-FB4D-491C-B532-0044E228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CE5D-2E87-4B04-B664-8D8AAFAE3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255760" cy="21700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"/>
          <p:cNvPicPr/>
          <p:nvPr/>
        </p:nvPicPr>
        <p:blipFill>
          <a:blip r:embed="rId3"/>
          <a:stretch/>
        </p:blipFill>
        <p:spPr>
          <a:xfrm>
            <a:off x="8001000" y="228600"/>
            <a:ext cx="944640" cy="8190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1" descr=""/>
          <p:cNvPicPr/>
          <p:nvPr/>
        </p:nvPicPr>
        <p:blipFill>
          <a:blip r:embed="rId4"/>
          <a:stretch/>
        </p:blipFill>
        <p:spPr>
          <a:xfrm>
            <a:off x="8001000" y="2133720"/>
            <a:ext cx="984240" cy="9903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2" descr="clip_software_02"/>
          <p:cNvPicPr/>
          <p:nvPr/>
        </p:nvPicPr>
        <p:blipFill>
          <a:blip r:embed="rId5"/>
          <a:stretch/>
        </p:blipFill>
        <p:spPr>
          <a:xfrm>
            <a:off x="0" y="53341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3" descr="water"/>
          <p:cNvPicPr/>
          <p:nvPr/>
        </p:nvPicPr>
        <p:blipFill>
          <a:blip r:embed="rId6"/>
          <a:srcRect l="22412" t="16378" r="0" b="27484"/>
          <a:stretch/>
        </p:blipFill>
        <p:spPr>
          <a:xfrm rot="393000">
            <a:off x="762120" y="5638320"/>
            <a:ext cx="1447560" cy="13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2255760" cy="2170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water"/>
          <p:cNvPicPr/>
          <p:nvPr/>
        </p:nvPicPr>
        <p:blipFill>
          <a:blip r:embed="rId4"/>
          <a:srcRect l="22412" t="16378" r="0" b="27484"/>
          <a:stretch/>
        </p:blipFill>
        <p:spPr>
          <a:xfrm rot="393000">
            <a:off x="1143000" y="1447560"/>
            <a:ext cx="2209680" cy="2117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A3F2-8183-4FC7-9C80-8047D7ECA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1999800" y="106668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幸运草清新商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</cp:lastModifiedBy>
  <dcterms:modified xsi:type="dcterms:W3CDTF">2015-07-25T08:04:42Z</dcterms:modified>
  <cp:revision>16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  <property fmtid="{D5CDD505-2E9C-101B-9397-08002B2CF9AE}" pid="3" name="Version">
    <vt:r8>1</vt:r8>
  </property>
</Properties>
</file>