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070-25BD-4924-A417-1AD071A2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471-F767-44FF-BEE1-C0E4379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9D9-0FB1-45C3-AC4A-6343DCD3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081-A53F-4C92-922D-159A3EB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61EE3-E894-49CA-A7A2-FB671BED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5E085-651E-45AB-AF82-2A347AB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98E9-3223-481D-AD7E-737747DF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A3D75-0144-4B5F-90BA-214D3DC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60E2-4BBE-4423-8E66-2D46566F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6933960" cy="43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278D3-4518-4081-8B16-DB85E12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61E80-A0ED-4398-88BF-5C05CA4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147-4387-48F5-A7B4-70B8F039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80F43-17EF-4FB8-B635-347F4C7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82A9-CA6B-44F7-8A56-C8ECC1FE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208B0-722B-4CA3-9FC8-A3BF322D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2BAF8-0241-48B2-98E7-1798AD79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50E27-42C9-4BA3-B73D-8FE471C1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6A0-7670-430F-AE35-C2AC186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DFA-94DD-4B08-B71F-53A69AA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24E-3F8E-4B11-ADAF-B5FEBC9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6933960" cy="43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045-2B3C-4CF8-8B67-67D94D7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682-798A-4029-B0DE-FCDC135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232-D23D-4944-ABEA-C09E4685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32D-F945-4B9E-96D4-E1A3F7C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9" descr="7_!"/>
          <p:cNvPicPr/>
          <p:nvPr/>
        </p:nvPicPr>
        <p:blipFill>
          <a:blip r:embed="rId3"/>
          <a:stretch/>
        </p:blipFill>
        <p:spPr>
          <a:xfrm>
            <a:off x="0" y="6343560"/>
            <a:ext cx="9143640" cy="514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4" hidden="1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gradFill rotWithShape="0">
            <a:gsLst>
              <a:gs pos="0">
                <a:srgbClr val="cb999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2" descr="01_icon_f"/>
          <p:cNvPicPr/>
          <p:nvPr/>
        </p:nvPicPr>
        <p:blipFill>
          <a:blip r:embed="rId4"/>
          <a:stretch/>
        </p:blipFill>
        <p:spPr>
          <a:xfrm>
            <a:off x="7924680" y="216000"/>
            <a:ext cx="1053720" cy="105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8" descr="7"/>
          <p:cNvPicPr/>
          <p:nvPr/>
        </p:nvPicPr>
        <p:blipFill>
          <a:blip r:embed="rId5"/>
          <a:stretch/>
        </p:blipFill>
        <p:spPr>
          <a:xfrm>
            <a:off x="0" y="0"/>
            <a:ext cx="9143640" cy="50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807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5291280" y="6515280"/>
            <a:ext cx="183960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228600" y="6400800"/>
            <a:ext cx="3805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80C262-8DAB-4D98-9EDE-D63AF3CC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7086600" y="6445080"/>
            <a:ext cx="1142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b10f15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9" descr="7_!"/>
          <p:cNvPicPr/>
          <p:nvPr/>
        </p:nvPicPr>
        <p:blipFill>
          <a:blip r:embed="rId2"/>
          <a:stretch/>
        </p:blipFill>
        <p:spPr>
          <a:xfrm>
            <a:off x="0" y="6343560"/>
            <a:ext cx="9143640" cy="514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4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gradFill rotWithShape="0">
            <a:gsLst>
              <a:gs pos="0">
                <a:srgbClr val="cb999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2" descr="01_icon_f"/>
          <p:cNvPicPr/>
          <p:nvPr/>
        </p:nvPicPr>
        <p:blipFill>
          <a:blip r:embed="rId3"/>
          <a:stretch/>
        </p:blipFill>
        <p:spPr>
          <a:xfrm>
            <a:off x="7924680" y="216000"/>
            <a:ext cx="1053720" cy="105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7"/>
          <p:cNvPicPr/>
          <p:nvPr/>
        </p:nvPicPr>
        <p:blipFill>
          <a:blip r:embed="rId4"/>
          <a:stretch/>
        </p:blipFill>
        <p:spPr>
          <a:xfrm>
            <a:off x="0" y="0"/>
            <a:ext cx="9143640" cy="504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080" cy="510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b999a"/>
              </a:buClr>
              <a:buFont typeface="Wingdings" charset="2"/>
              <a:buChar char=""/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fb0e1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7720" cy="26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80E88F1-CB91-488F-93F0-D331540DC74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380880" y="65055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268640"/>
            <a:ext cx="7491240" cy="942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夕阳美景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533520" y="1940040"/>
            <a:ext cx="7238520" cy="3962160"/>
          </a:xfrm>
          <a:prstGeom prst="roundRect">
            <a:avLst>
              <a:gd name="adj" fmla="val 10375"/>
            </a:avLst>
          </a:prstGeom>
          <a:noFill/>
          <a:ln cap="rnd" w="1905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276720" y="262584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276720" y="315900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100000">
                <a:srgbClr val="b8df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276720" y="369252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276720" y="422604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100000">
                <a:srgbClr val="b8df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276720" y="475920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143000" y="277812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b999a"/>
              </a:gs>
              <a:gs pos="50000">
                <a:srgbClr val="d9b4b5"/>
              </a:gs>
              <a:gs pos="100000">
                <a:srgbClr val="cb999a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143000" y="331164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50000">
                <a:srgbClr val="7fc5e9"/>
              </a:gs>
              <a:gs pos="100000">
                <a:srgbClr val="4fb0e1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143000" y="384480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b999a"/>
              </a:gs>
              <a:gs pos="50000">
                <a:srgbClr val="d9b4b5"/>
              </a:gs>
              <a:gs pos="100000">
                <a:srgbClr val="cb999a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143000" y="437832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50000">
                <a:srgbClr val="7fc5e9"/>
              </a:gs>
              <a:gs pos="100000">
                <a:srgbClr val="4fb0e1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43000" y="491184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b999a"/>
              </a:gs>
              <a:gs pos="50000">
                <a:srgbClr val="d9b4b5"/>
              </a:gs>
              <a:gs pos="100000">
                <a:srgbClr val="cb999a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838080" y="1523880"/>
            <a:ext cx="6552720" cy="568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cap="rnd" w="1905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2292480" y="1447920"/>
            <a:ext cx="4495320" cy="4514400"/>
            <a:chOff x="2292480" y="1447920"/>
            <a:chExt cx="4495320" cy="4514400"/>
          </a:xfrm>
        </p:grpSpPr>
        <p:sp>
          <p:nvSpPr>
            <p:cNvPr id="109" name="Puzzle3"/>
            <p:cNvSpPr/>
            <p:nvPr/>
          </p:nvSpPr>
          <p:spPr>
            <a:xfrm>
              <a:off x="4481640" y="1447920"/>
              <a:ext cx="1766880" cy="2399040"/>
            </a:xfrm>
            <a:custGeom>
              <a:avLst/>
              <a:gdLst>
                <a:gd name="textAreaLeft" fmla="*/ 185760 w 1766880"/>
                <a:gd name="textAreaRight" fmla="*/ 1566360 w 1766880"/>
                <a:gd name="textAreaTop" fmla="*/ 857160 h 2399040"/>
                <a:gd name="textAreaBottom" fmla="*/ 224784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4"/>
                </a:gs>
              </a:gsLst>
              <a:lin ang="54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2"/>
            <p:cNvSpPr/>
            <p:nvPr/>
          </p:nvSpPr>
          <p:spPr>
            <a:xfrm>
              <a:off x="3967560" y="3195720"/>
              <a:ext cx="2820240" cy="2184840"/>
            </a:xfrm>
            <a:custGeom>
              <a:avLst/>
              <a:gdLst>
                <a:gd name="textAreaLeft" fmla="*/ 703440 w 2820240"/>
                <a:gd name="textAreaRight" fmla="*/ 2112120 w 2820240"/>
                <a:gd name="textAreaTop" fmla="*/ 68184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3"/>
                </a:gs>
              </a:gsLst>
              <a:lin ang="54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4"/>
            <p:cNvSpPr/>
            <p:nvPr/>
          </p:nvSpPr>
          <p:spPr>
            <a:xfrm>
              <a:off x="2876040" y="3168720"/>
              <a:ext cx="1700280" cy="2793600"/>
            </a:xfrm>
            <a:custGeom>
              <a:avLst/>
              <a:gdLst>
                <a:gd name="textAreaLeft" fmla="*/ 163440 w 1700280"/>
                <a:gd name="textAreaRight" fmla="*/ 1590480 w 1700280"/>
                <a:gd name="textAreaTop" fmla="*/ 732600 h 2793600"/>
                <a:gd name="textAreaBottom" fmla="*/ 206676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20ae3e"/>
                </a:gs>
                <a:gs pos="100000">
                  <a:srgbClr val="8cd59b"/>
                </a:gs>
              </a:gsLst>
              <a:lin ang="189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uzzle1"/>
            <p:cNvSpPr/>
            <p:nvPr/>
          </p:nvSpPr>
          <p:spPr>
            <a:xfrm>
              <a:off x="2292480" y="2173680"/>
              <a:ext cx="2855160" cy="1665000"/>
            </a:xfrm>
            <a:custGeom>
              <a:avLst/>
              <a:gdLst>
                <a:gd name="textAreaLeft" fmla="*/ 804240 w 2855160"/>
                <a:gd name="textAreaRight" fmla="*/ 2132640 w 2855160"/>
                <a:gd name="textAreaTop" fmla="*/ 198000 h 1665000"/>
                <a:gd name="textAreaBottom" fmla="*/ 1507320 h 16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6503760" y="3962520"/>
            <a:ext cx="170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844560" y="3352680"/>
            <a:ext cx="190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444760" y="1447920"/>
            <a:ext cx="243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73560" y="5638680"/>
            <a:ext cx="28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267000" y="1459080"/>
            <a:ext cx="2641320" cy="2644560"/>
          </a:xfrm>
          <a:prstGeom prst="ellipse">
            <a:avLst/>
          </a:prstGeom>
          <a:solidFill>
            <a:schemeClr val="accent2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206960" y="2851200"/>
            <a:ext cx="2642760" cy="2642760"/>
          </a:xfrm>
          <a:prstGeom prst="ellipse">
            <a:avLst/>
          </a:prstGeom>
          <a:solidFill>
            <a:schemeClr val="folHlink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224080" y="2816280"/>
            <a:ext cx="2644560" cy="2642760"/>
          </a:xfrm>
          <a:prstGeom prst="ellipse">
            <a:avLst/>
          </a:prstGeom>
          <a:solidFill>
            <a:schemeClr val="accent1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 flipV="1">
            <a:off x="2813040" y="2503440"/>
            <a:ext cx="1149120" cy="833400"/>
          </a:xfrm>
          <a:prstGeom prst="line">
            <a:avLst/>
          </a:prstGeom>
          <a:ln w="19050">
            <a:solidFill>
              <a:srgbClr val="4d4d4d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5317920" y="2536560"/>
            <a:ext cx="1217520" cy="765360"/>
          </a:xfrm>
          <a:prstGeom prst="line">
            <a:avLst/>
          </a:prstGeom>
          <a:ln w="19050">
            <a:solidFill>
              <a:srgbClr val="4d4d4d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4519440" y="4485960"/>
            <a:ext cx="25560" cy="1043280"/>
          </a:xfrm>
          <a:prstGeom prst="line">
            <a:avLst/>
          </a:prstGeom>
          <a:ln w="19050">
            <a:solidFill>
              <a:srgbClr val="4d4d4d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804120" y="3432240"/>
            <a:ext cx="1590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62120" y="1771560"/>
            <a:ext cx="20523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467400" y="1771560"/>
            <a:ext cx="20523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405240" y="5472000"/>
            <a:ext cx="2260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chemeClr val="hlink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633120" y="1800720"/>
            <a:ext cx="18237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428920" y="3905280"/>
            <a:ext cx="18237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862520" y="3944880"/>
            <a:ext cx="18237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969160" y="2563920"/>
            <a:ext cx="2273040" cy="2111040"/>
          </a:xfrm>
          <a:prstGeom prst="homePlate">
            <a:avLst>
              <a:gd name="adj" fmla="val 2691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251240" y="2563920"/>
            <a:ext cx="2273040" cy="2111040"/>
          </a:xfrm>
          <a:prstGeom prst="homePlate">
            <a:avLst>
              <a:gd name="adj" fmla="val 26917"/>
            </a:avLst>
          </a:pr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435400" y="2563920"/>
            <a:ext cx="2435040" cy="2111040"/>
          </a:xfrm>
          <a:prstGeom prst="homePlate">
            <a:avLst>
              <a:gd name="adj" fmla="val 2883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2220840" y="2184480"/>
            <a:ext cx="5492520" cy="423360"/>
          </a:xfrm>
          <a:custGeom>
            <a:avLst/>
            <a:gdLst>
              <a:gd name="textAreaLeft" fmla="*/ 0 w 5492520"/>
              <a:gd name="textAreaRight" fmla="*/ 5492880 w 5492520"/>
              <a:gd name="textAreaTop" fmla="*/ 0 h 423360"/>
              <a:gd name="textAreaBottom" fmla="*/ 423720 h 42336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187a9"/>
              </a:gs>
              <a:gs pos="100000">
                <a:srgbClr val="33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990720" y="2185920"/>
            <a:ext cx="2080800" cy="2487240"/>
          </a:xfrm>
          <a:prstGeom prst="homePlate">
            <a:avLst>
              <a:gd name="adj" fmla="val 25000"/>
            </a:avLst>
          </a:prstGeom>
          <a:gradFill rotWithShape="0">
            <a:gsLst>
              <a:gs pos="0">
                <a:srgbClr val="666699"/>
              </a:gs>
              <a:gs pos="100000">
                <a:srgbClr val="47476a"/>
              </a:gs>
            </a:gsLst>
            <a:lin ang="2700000"/>
          </a:gradFill>
          <a:ln w="0">
            <a:noFill/>
          </a:ln>
          <a:effectLst>
            <a:outerShdw algn="ctr" dir="3815863" dist="56671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098720" y="2773440"/>
            <a:ext cx="165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PT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750560" y="221148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873680" y="3232080"/>
            <a:ext cx="1447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482920" y="4781520"/>
            <a:ext cx="1787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018120" y="4781520"/>
            <a:ext cx="17870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003320" y="1749600"/>
            <a:ext cx="678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995400" y="1803240"/>
            <a:ext cx="42480" cy="294840"/>
          </a:xfrm>
          <a:prstGeom prst="rect">
            <a:avLst/>
          </a:prstGeom>
          <a:solidFill>
            <a:srgbClr val="ad9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33523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8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[ Add your company slogan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981080" y="3048120"/>
            <a:ext cx="495252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rPr>
              <a:t>Thank You !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夕阳风光[红]">
  <a:themeElements>
    <a:clrScheme name="206TGp_fall_light  2">
      <a:dk1>
        <a:srgbClr val="000000"/>
      </a:dk1>
      <a:lt1>
        <a:srgbClr val="ffffff"/>
      </a:lt1>
      <a:dk2>
        <a:srgbClr val="000000"/>
      </a:dk2>
      <a:lt2>
        <a:srgbClr val="c0c0c0"/>
      </a:lt2>
      <a:accent1>
        <a:srgbClr val="cb999a"/>
      </a:accent1>
      <a:accent2>
        <a:srgbClr val="4fb0e1"/>
      </a:accent2>
      <a:accent3>
        <a:srgbClr val="ffffff"/>
      </a:accent3>
      <a:accent4>
        <a:srgbClr val="000000"/>
      </a:accent4>
      <a:accent5>
        <a:srgbClr val="e2caca"/>
      </a:accent5>
      <a:accent6>
        <a:srgbClr val="479fcc"/>
      </a:accent6>
      <a:hlink>
        <a:srgbClr val="1a72d2"/>
      </a:hlink>
      <a:folHlink>
        <a:srgbClr val="aac8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夕阳风光[红]">
  <a:themeElements>
    <a:clrScheme name="206TGp_fall_light  2">
      <a:dk1>
        <a:srgbClr val="000000"/>
      </a:dk1>
      <a:lt1>
        <a:srgbClr val="ffffff"/>
      </a:lt1>
      <a:dk2>
        <a:srgbClr val="000000"/>
      </a:dk2>
      <a:lt2>
        <a:srgbClr val="c0c0c0"/>
      </a:lt2>
      <a:accent1>
        <a:srgbClr val="cb999a"/>
      </a:accent1>
      <a:accent2>
        <a:srgbClr val="4fb0e1"/>
      </a:accent2>
      <a:accent3>
        <a:srgbClr val="ffffff"/>
      </a:accent3>
      <a:accent4>
        <a:srgbClr val="000000"/>
      </a:accent4>
      <a:accent5>
        <a:srgbClr val="e2caca"/>
      </a:accent5>
      <a:accent6>
        <a:srgbClr val="479fcc"/>
      </a:accent6>
      <a:hlink>
        <a:srgbClr val="1a72d2"/>
      </a:hlink>
      <a:folHlink>
        <a:srgbClr val="aac8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夕阳风光[红]</Template>
  <TotalTime>279</TotalTime>
  <Application>LibreOffice/7.4.7.2$Linux_X86_64 LibreOffice_project/40$Build-2</Application>
  <AppVersion>15.0000</AppVersion>
  <Words>318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1:51:45Z</dcterms:created>
  <dc:creator>jccook</dc:creator>
  <dc:description/>
  <dc:language>en-US</dc:language>
  <cp:lastModifiedBy>王玉清</cp:lastModifiedBy>
  <dcterms:modified xsi:type="dcterms:W3CDTF">2016-02-22T03:33:50Z</dcterms:modified>
  <cp:revision>7</cp:revision>
  <dc:subject/>
  <dc:title>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