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3A6232-D781-4FC5-8E53-D3AADE77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CBC2A9-E648-47ED-BC8D-AAEB8CE6A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FCFBF0-5BFC-4AAA-9A50-DE269012C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786BC3-234F-4295-9080-9D7CF4FF3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17B605-A48F-4AD8-8BE3-2B6224085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EA1-E5B8-40D3-B765-0303E1A4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940-42B1-4FCC-BA6E-100D913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812-095E-45DB-A413-1FF244C6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76B-AB71-48F8-9559-7AE4DEC9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CC7-2210-4E60-95A9-C8B16A75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5884-7B58-4BEA-AFE8-6F2B15C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9ADE-856D-4240-A81B-8933B04E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D6D-D898-4A0A-A1FF-FEA3005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2C89-392F-413D-B988-A1AA34B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065-D767-4212-BA94-D35859C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DD9F-226A-4AEC-858A-2B32188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5C0-1C64-41BB-89A8-96C9484D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C57C-1488-4167-9252-65A44322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B8AF-4E63-454A-950C-D0A3B1D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3FC-07D4-4641-8A28-8EDCBDC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E27-557A-43F9-98B2-D5412B09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63B-F3F6-479D-B415-ECE8E9C6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EA19-A2CA-48CE-910E-E43EA50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2D7C-6A58-4635-AFCE-AFD94A5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D64C-2485-4491-84DF-06E1B823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7520-D1CF-461B-A473-C882A573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E21E-00B4-44F8-B4FD-77DA271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9D8-1ED2-441A-BFA3-6E1C0C77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29D8-3C0C-4D0F-86D8-54E0F972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3FB6-288D-4617-B4D5-21F1DF1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78C9-AB95-492D-9B4C-4B5CECE0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B15C-E333-4ED1-9822-0D88C0C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0E9A-3ADC-47CD-ACA3-59BF65A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4706-DCF2-454E-BC36-1D5BE9A6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FFF5-57AD-4CEF-9D88-06B8F4D0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306-F72B-4301-A5E8-F51E408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0D3-FAF2-4754-A8BB-74F89E4F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E08-D4D3-4928-A124-675D33D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60A-84C3-49A3-80C8-33B0C76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009-E06E-4E3D-A364-74189338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949-4359-4B4D-A6C0-DAC0E50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0" y="-93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574560" y="5479920"/>
            <a:ext cx="8569080" cy="136800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6360" y="5536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29BEB-738B-400A-8B47-CC38E68C12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56745B-5163-45AB-B216-6E24DA4479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211880" y="-9360"/>
            <a:ext cx="1931760" cy="144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7C0166-8EFE-44E1-9074-C2E6765D5F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82560" y="6259680"/>
            <a:ext cx="6400440" cy="47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247840" y="17726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夕阳下的跨海大桥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50920" y="1711440"/>
            <a:ext cx="69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50920" y="313992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495680" y="313992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150920" y="2608200"/>
            <a:ext cx="692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3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  <Words>202</Words>
  <Paragraphs>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a</cp:lastModifiedBy>
  <dcterms:modified xsi:type="dcterms:W3CDTF">2015-07-25T08:42:50Z</dcterms:modified>
  <cp:revision>15</cp:revision>
  <dc:subject/>
  <dc:title>sunset bridg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