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C07C2C-A18A-45C8-9DC8-EB80E91FF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74EE1A-4BF2-431E-9A17-803272856A7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AAEE44-5AC4-4244-9FD9-F861CAB7007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4B8A90-0978-4EA3-B9A5-A1C9F7D423C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B3167C-79BD-41C3-A7C9-DF10D4CC3EA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2437DA-F277-453E-99BF-A2F6FF5FA48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3A513D-8254-472D-9942-41CBF4E9FEE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16A-F5C1-4AFF-B232-64F1987E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305-1A58-434E-B759-36081E2D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31E-0FB9-44A2-92E1-784F5E76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AEF-C15C-436C-836F-DA62F4C2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8D7B-77A3-4210-861A-298A9440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6FD8-7ED9-4D1F-865F-76EC3991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13EF-7BE2-40DE-B42D-B9D08D58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1923-F027-4D6E-BB14-A5F3BE4B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53CA-427E-4D30-ABD4-35CC76E1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3C5C-863F-4911-925D-C7E68B76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A6CB-77B7-4A2F-B7CD-FFABF930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5A1-DE42-48AD-8358-268C63AB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FBC5-9DE9-4BCA-BA39-CB7C010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67FC-E8E3-4ABA-85E7-508B6E1F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1E27-5BC1-42F2-8CE0-3510625F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E118-A32F-4D71-8E5D-83A40AF3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E99B-3540-440D-96FD-34848D25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741-7185-405E-B135-3B4FF641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2E5-341C-4F87-8BC0-E81D5A2A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591-4BD0-42AD-B4F2-FAA344CF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40B-C5EF-4478-8C95-69E5F315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652-68FD-4A3D-8EBA-65CAD41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B4A-8275-4F27-9F96-95B8308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54C-B0BE-4A01-968D-E116278B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EC9602-DAAC-4912-9EAD-C92E9D361E1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E2E74A-5A39-4F58-B701-9BC2FFD318C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358"/>
            </a:gs>
            <a:gs pos="100000">
              <a:srgbClr val="f7596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25"/>
          <p:cNvGrpSpPr/>
          <p:nvPr/>
        </p:nvGrpSpPr>
        <p:grpSpPr>
          <a:xfrm>
            <a:off x="1906200" y="2122920"/>
            <a:ext cx="9774360" cy="2597040"/>
            <a:chOff x="1906200" y="2122920"/>
            <a:chExt cx="9774360" cy="2597040"/>
          </a:xfrm>
        </p:grpSpPr>
        <p:sp>
          <p:nvSpPr>
            <p:cNvPr id="89" name="文本框 3"/>
            <p:cNvSpPr/>
            <p:nvPr/>
          </p:nvSpPr>
          <p:spPr>
            <a:xfrm>
              <a:off x="3679560" y="2327400"/>
              <a:ext cx="4832640" cy="10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6000" spc="-1" strike="noStrike">
                <a:solidFill>
                  <a:srgbClr val="ffffff"/>
                </a:solidFill>
                <a:latin typeface="方正粗宋简体"/>
                <a:ea typeface="方正粗宋简体"/>
              </a:endParaRPr>
            </a:p>
          </p:txBody>
        </p:sp>
        <p:sp>
          <p:nvSpPr>
            <p:cNvPr id="90" name="文本框 4"/>
            <p:cNvSpPr/>
            <p:nvPr/>
          </p:nvSpPr>
          <p:spPr>
            <a:xfrm>
              <a:off x="1906200" y="2749680"/>
              <a:ext cx="9774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用户体验要素通用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完整版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3679560" y="2122920"/>
              <a:ext cx="4832640" cy="493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矩形 6"/>
            <p:cNvSpPr/>
            <p:nvPr/>
          </p:nvSpPr>
          <p:spPr>
            <a:xfrm>
              <a:off x="3679560" y="4009680"/>
              <a:ext cx="4832640" cy="493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文本框 9"/>
            <p:cNvSpPr/>
            <p:nvPr/>
          </p:nvSpPr>
          <p:spPr>
            <a:xfrm>
              <a:off x="5562720" y="4173840"/>
              <a:ext cx="2949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Jesse James Garrett  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范晓燕  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4"/>
          <p:cNvGrpSpPr/>
          <p:nvPr/>
        </p:nvGrpSpPr>
        <p:grpSpPr>
          <a:xfrm>
            <a:off x="321120" y="280440"/>
            <a:ext cx="2175480" cy="711720"/>
            <a:chOff x="321120" y="280440"/>
            <a:chExt cx="2175480" cy="711720"/>
          </a:xfrm>
        </p:grpSpPr>
        <p:grpSp>
          <p:nvGrpSpPr>
            <p:cNvPr id="95" name="组合 20"/>
            <p:cNvGrpSpPr/>
            <p:nvPr/>
          </p:nvGrpSpPr>
          <p:grpSpPr>
            <a:xfrm>
              <a:off x="321120" y="280440"/>
              <a:ext cx="473760" cy="507240"/>
              <a:chOff x="321120" y="280440"/>
              <a:chExt cx="473760" cy="507240"/>
            </a:xfrm>
          </p:grpSpPr>
          <p:sp>
            <p:nvSpPr>
              <p:cNvPr id="96" name="任意多边形 15"/>
              <p:cNvSpPr/>
              <p:nvPr/>
            </p:nvSpPr>
            <p:spPr>
              <a:xfrm>
                <a:off x="321120" y="280440"/>
                <a:ext cx="473760" cy="47376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473760"/>
                  <a:gd name="textAreaBottom" fmla="*/ 474120 h 473760"/>
                </a:gdLst>
                <a:ahLst/>
                <a:rect l="textAreaLeft" t="textAreaTop" r="textAreaRight" b="textAreaBottom"/>
                <a:pathLst>
                  <a:path w="796036" h="796036">
                    <a:moveTo>
                      <a:pt x="398018" y="124044"/>
                    </a:moveTo>
                    <a:cubicBezTo>
                      <a:pt x="246706" y="124044"/>
                      <a:pt x="124044" y="246706"/>
                      <a:pt x="124044" y="398018"/>
                    </a:cubicBezTo>
                    <a:cubicBezTo>
                      <a:pt x="124044" y="549330"/>
                      <a:pt x="246706" y="671992"/>
                      <a:pt x="398018" y="671992"/>
                    </a:cubicBezTo>
                    <a:cubicBezTo>
                      <a:pt x="549330" y="671992"/>
                      <a:pt x="671992" y="549330"/>
                      <a:pt x="671992" y="398018"/>
                    </a:cubicBezTo>
                    <a:cubicBezTo>
                      <a:pt x="671992" y="246706"/>
                      <a:pt x="549330" y="124044"/>
                      <a:pt x="398018" y="124044"/>
                    </a:cubicBezTo>
                    <a:close/>
                    <a:moveTo>
                      <a:pt x="398018" y="0"/>
                    </a:moveTo>
                    <a:lnTo>
                      <a:pt x="414230" y="1634"/>
                    </a:lnTo>
                    <a:lnTo>
                      <a:pt x="443506" y="52515"/>
                    </a:lnTo>
                    <a:lnTo>
                      <a:pt x="485540" y="10355"/>
                    </a:lnTo>
                    <a:lnTo>
                      <a:pt x="516430" y="19944"/>
                    </a:lnTo>
                    <a:lnTo>
                      <a:pt x="531377" y="76059"/>
                    </a:lnTo>
                    <a:lnTo>
                      <a:pt x="581718" y="46896"/>
                    </a:lnTo>
                    <a:lnTo>
                      <a:pt x="610250" y="62383"/>
                    </a:lnTo>
                    <a:lnTo>
                      <a:pt x="610162" y="121547"/>
                    </a:lnTo>
                    <a:lnTo>
                      <a:pt x="666936" y="106244"/>
                    </a:lnTo>
                    <a:lnTo>
                      <a:pt x="679459" y="116577"/>
                    </a:lnTo>
                    <a:lnTo>
                      <a:pt x="689792" y="129100"/>
                    </a:lnTo>
                    <a:lnTo>
                      <a:pt x="674489" y="185874"/>
                    </a:lnTo>
                    <a:lnTo>
                      <a:pt x="733654" y="185787"/>
                    </a:lnTo>
                    <a:lnTo>
                      <a:pt x="749140" y="214318"/>
                    </a:lnTo>
                    <a:lnTo>
                      <a:pt x="719977" y="264659"/>
                    </a:lnTo>
                    <a:lnTo>
                      <a:pt x="776093" y="279606"/>
                    </a:lnTo>
                    <a:lnTo>
                      <a:pt x="785681" y="310496"/>
                    </a:lnTo>
                    <a:lnTo>
                      <a:pt x="743521" y="352530"/>
                    </a:lnTo>
                    <a:lnTo>
                      <a:pt x="794402" y="381807"/>
                    </a:lnTo>
                    <a:lnTo>
                      <a:pt x="796036" y="398018"/>
                    </a:lnTo>
                    <a:lnTo>
                      <a:pt x="794402" y="414229"/>
                    </a:lnTo>
                    <a:lnTo>
                      <a:pt x="743521" y="443506"/>
                    </a:lnTo>
                    <a:lnTo>
                      <a:pt x="785681" y="485540"/>
                    </a:lnTo>
                    <a:lnTo>
                      <a:pt x="776093" y="516430"/>
                    </a:lnTo>
                    <a:lnTo>
                      <a:pt x="719977" y="531377"/>
                    </a:lnTo>
                    <a:lnTo>
                      <a:pt x="749140" y="581718"/>
                    </a:lnTo>
                    <a:lnTo>
                      <a:pt x="733654" y="610250"/>
                    </a:lnTo>
                    <a:lnTo>
                      <a:pt x="674489" y="610162"/>
                    </a:lnTo>
                    <a:lnTo>
                      <a:pt x="689792" y="666936"/>
                    </a:lnTo>
                    <a:lnTo>
                      <a:pt x="679459" y="679459"/>
                    </a:lnTo>
                    <a:lnTo>
                      <a:pt x="666936" y="689792"/>
                    </a:lnTo>
                    <a:lnTo>
                      <a:pt x="610162" y="674489"/>
                    </a:lnTo>
                    <a:lnTo>
                      <a:pt x="610250" y="733654"/>
                    </a:lnTo>
                    <a:lnTo>
                      <a:pt x="581718" y="749140"/>
                    </a:lnTo>
                    <a:lnTo>
                      <a:pt x="531377" y="719977"/>
                    </a:lnTo>
                    <a:lnTo>
                      <a:pt x="516430" y="776093"/>
                    </a:lnTo>
                    <a:lnTo>
                      <a:pt x="485540" y="785681"/>
                    </a:lnTo>
                    <a:lnTo>
                      <a:pt x="443506" y="743521"/>
                    </a:lnTo>
                    <a:lnTo>
                      <a:pt x="414230" y="794402"/>
                    </a:lnTo>
                    <a:lnTo>
                      <a:pt x="398018" y="796036"/>
                    </a:lnTo>
                    <a:lnTo>
                      <a:pt x="381807" y="794402"/>
                    </a:lnTo>
                    <a:lnTo>
                      <a:pt x="352530" y="743521"/>
                    </a:lnTo>
                    <a:lnTo>
                      <a:pt x="310496" y="785681"/>
                    </a:lnTo>
                    <a:lnTo>
                      <a:pt x="279606" y="776093"/>
                    </a:lnTo>
                    <a:lnTo>
                      <a:pt x="264659" y="719977"/>
                    </a:lnTo>
                    <a:lnTo>
                      <a:pt x="214318" y="749140"/>
                    </a:lnTo>
                    <a:lnTo>
                      <a:pt x="185787" y="733654"/>
                    </a:lnTo>
                    <a:lnTo>
                      <a:pt x="185874" y="674489"/>
                    </a:lnTo>
                    <a:lnTo>
                      <a:pt x="129101" y="689792"/>
                    </a:lnTo>
                    <a:lnTo>
                      <a:pt x="116577" y="679459"/>
                    </a:lnTo>
                    <a:lnTo>
                      <a:pt x="106244" y="666936"/>
                    </a:lnTo>
                    <a:lnTo>
                      <a:pt x="121547" y="610162"/>
                    </a:lnTo>
                    <a:lnTo>
                      <a:pt x="62383" y="610250"/>
                    </a:lnTo>
                    <a:lnTo>
                      <a:pt x="46896" y="581718"/>
                    </a:lnTo>
                    <a:lnTo>
                      <a:pt x="76059" y="531377"/>
                    </a:lnTo>
                    <a:lnTo>
                      <a:pt x="19944" y="516430"/>
                    </a:lnTo>
                    <a:lnTo>
                      <a:pt x="10355" y="485540"/>
                    </a:lnTo>
                    <a:lnTo>
                      <a:pt x="52515" y="443506"/>
                    </a:lnTo>
                    <a:lnTo>
                      <a:pt x="1635" y="414229"/>
                    </a:lnTo>
                    <a:lnTo>
                      <a:pt x="0" y="398018"/>
                    </a:lnTo>
                    <a:lnTo>
                      <a:pt x="1635" y="381807"/>
                    </a:lnTo>
                    <a:lnTo>
                      <a:pt x="52515" y="352530"/>
                    </a:lnTo>
                    <a:lnTo>
                      <a:pt x="10355" y="310496"/>
                    </a:lnTo>
                    <a:lnTo>
                      <a:pt x="19944" y="279606"/>
                    </a:lnTo>
                    <a:lnTo>
                      <a:pt x="76059" y="264659"/>
                    </a:lnTo>
                    <a:lnTo>
                      <a:pt x="46896" y="214318"/>
                    </a:lnTo>
                    <a:lnTo>
                      <a:pt x="62383" y="185787"/>
                    </a:lnTo>
                    <a:lnTo>
                      <a:pt x="121547" y="185874"/>
                    </a:lnTo>
                    <a:lnTo>
                      <a:pt x="106244" y="129100"/>
                    </a:lnTo>
                    <a:lnTo>
                      <a:pt x="116577" y="116577"/>
                    </a:lnTo>
                    <a:lnTo>
                      <a:pt x="129101" y="106244"/>
                    </a:lnTo>
                    <a:lnTo>
                      <a:pt x="185874" y="121547"/>
                    </a:lnTo>
                    <a:lnTo>
                      <a:pt x="185787" y="62383"/>
                    </a:lnTo>
                    <a:lnTo>
                      <a:pt x="214318" y="46896"/>
                    </a:lnTo>
                    <a:lnTo>
                      <a:pt x="264659" y="76059"/>
                    </a:lnTo>
                    <a:lnTo>
                      <a:pt x="279606" y="19944"/>
                    </a:lnTo>
                    <a:lnTo>
                      <a:pt x="310496" y="10355"/>
                    </a:lnTo>
                    <a:lnTo>
                      <a:pt x="352530" y="52515"/>
                    </a:lnTo>
                    <a:lnTo>
                      <a:pt x="381807" y="16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" name="五角星 16"/>
              <p:cNvSpPr/>
              <p:nvPr/>
            </p:nvSpPr>
            <p:spPr>
              <a:xfrm>
                <a:off x="492840" y="452160"/>
                <a:ext cx="130320" cy="130320"/>
              </a:xfrm>
              <a:prstGeom prst="star5">
                <a:avLst>
                  <a:gd name="adj" fmla="val 19098"/>
                  <a:gd name="hf" fmla="val 105146"/>
                  <a:gd name="vf" fmla="val 11055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8" name="组合 19"/>
              <p:cNvGrpSpPr/>
              <p:nvPr/>
            </p:nvGrpSpPr>
            <p:grpSpPr>
              <a:xfrm>
                <a:off x="424440" y="618480"/>
                <a:ext cx="266760" cy="169200"/>
                <a:chOff x="424440" y="618480"/>
                <a:chExt cx="266760" cy="169200"/>
              </a:xfrm>
            </p:grpSpPr>
            <p:sp>
              <p:nvSpPr>
                <p:cNvPr id="99" name="任意多边形 17"/>
                <p:cNvSpPr/>
                <p:nvPr/>
              </p:nvSpPr>
              <p:spPr>
                <a:xfrm>
                  <a:off x="424440" y="618480"/>
                  <a:ext cx="133200" cy="16920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169200"/>
                    <a:gd name="textAreaBottom" fmla="*/ 169560 h 169200"/>
                  </a:gdLst>
                  <a:ahLst/>
                  <a:rect l="textAreaLeft" t="textAreaTop" r="textAreaRight" b="textAreaBottom"/>
                  <a:pathLst>
                    <a:path w="228600" h="290512">
                      <a:moveTo>
                        <a:pt x="33338" y="23812"/>
                      </a:moveTo>
                      <a:cubicBezTo>
                        <a:pt x="24607" y="78581"/>
                        <a:pt x="7144" y="245269"/>
                        <a:pt x="0" y="285750"/>
                      </a:cubicBezTo>
                      <a:cubicBezTo>
                        <a:pt x="33338" y="279400"/>
                        <a:pt x="83741" y="263525"/>
                        <a:pt x="121444" y="264319"/>
                      </a:cubicBezTo>
                      <a:cubicBezTo>
                        <a:pt x="159147" y="265113"/>
                        <a:pt x="195262" y="277019"/>
                        <a:pt x="226218" y="290512"/>
                      </a:cubicBezTo>
                      <a:cubicBezTo>
                        <a:pt x="223837" y="203200"/>
                        <a:pt x="228600" y="57149"/>
                        <a:pt x="228600" y="19050"/>
                      </a:cubicBezTo>
                      <a:cubicBezTo>
                        <a:pt x="198438" y="5556"/>
                        <a:pt x="169069" y="0"/>
                        <a:pt x="138113" y="0"/>
                      </a:cubicBezTo>
                      <a:cubicBezTo>
                        <a:pt x="107157" y="0"/>
                        <a:pt x="77788" y="4762"/>
                        <a:pt x="33338" y="2381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solidFill>
                    <a:srgbClr val="fb895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" name="任意多边形 18"/>
                <p:cNvSpPr/>
                <p:nvPr/>
              </p:nvSpPr>
              <p:spPr>
                <a:xfrm flipH="1">
                  <a:off x="558000" y="618480"/>
                  <a:ext cx="133200" cy="169200"/>
                </a:xfrm>
                <a:custGeom>
                  <a:avLst/>
                  <a:gdLst>
                    <a:gd name="textAreaLeft" fmla="*/ 360 w 133200"/>
                    <a:gd name="textAreaRight" fmla="*/ 133920 w 133200"/>
                    <a:gd name="textAreaTop" fmla="*/ 0 h 169200"/>
                    <a:gd name="textAreaBottom" fmla="*/ 169560 h 169200"/>
                  </a:gdLst>
                  <a:ahLst/>
                  <a:rect l="textAreaLeft" t="textAreaTop" r="textAreaRight" b="textAreaBottom"/>
                  <a:pathLst>
                    <a:path w="228600" h="290512">
                      <a:moveTo>
                        <a:pt x="33338" y="23812"/>
                      </a:moveTo>
                      <a:cubicBezTo>
                        <a:pt x="24607" y="78581"/>
                        <a:pt x="7144" y="245269"/>
                        <a:pt x="0" y="285750"/>
                      </a:cubicBezTo>
                      <a:cubicBezTo>
                        <a:pt x="33338" y="279400"/>
                        <a:pt x="83741" y="263525"/>
                        <a:pt x="121444" y="264319"/>
                      </a:cubicBezTo>
                      <a:cubicBezTo>
                        <a:pt x="159147" y="265113"/>
                        <a:pt x="195262" y="277019"/>
                        <a:pt x="226218" y="290512"/>
                      </a:cubicBezTo>
                      <a:cubicBezTo>
                        <a:pt x="223837" y="203200"/>
                        <a:pt x="228600" y="57149"/>
                        <a:pt x="228600" y="19050"/>
                      </a:cubicBezTo>
                      <a:cubicBezTo>
                        <a:pt x="198438" y="5556"/>
                        <a:pt x="169069" y="0"/>
                        <a:pt x="138113" y="0"/>
                      </a:cubicBezTo>
                      <a:cubicBezTo>
                        <a:pt x="107157" y="0"/>
                        <a:pt x="77788" y="4762"/>
                        <a:pt x="33338" y="2381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solidFill>
                    <a:srgbClr val="fb895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01" name="文本框 21"/>
            <p:cNvSpPr/>
            <p:nvPr/>
          </p:nvSpPr>
          <p:spPr>
            <a:xfrm>
              <a:off x="691560" y="282960"/>
              <a:ext cx="1805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机械工业出版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2"/>
            <p:cNvSpPr/>
            <p:nvPr/>
          </p:nvSpPr>
          <p:spPr>
            <a:xfrm>
              <a:off x="831960" y="572760"/>
              <a:ext cx="1524240" cy="45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文本框 23"/>
            <p:cNvSpPr/>
            <p:nvPr/>
          </p:nvSpPr>
          <p:spPr>
            <a:xfrm>
              <a:off x="819360" y="582840"/>
              <a:ext cx="15498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China Machine Press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文本框 1"/>
          <p:cNvSpPr/>
          <p:nvPr/>
        </p:nvSpPr>
        <p:spPr>
          <a:xfrm>
            <a:off x="10096560" y="6305400"/>
            <a:ext cx="209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 @candy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c02d"/>
            </a:gs>
            <a:gs pos="100000">
              <a:srgbClr val="fbae2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20"/>
          <p:cNvGrpSpPr/>
          <p:nvPr/>
        </p:nvGrpSpPr>
        <p:grpSpPr>
          <a:xfrm>
            <a:off x="3512520" y="421200"/>
            <a:ext cx="5166360" cy="8987040"/>
            <a:chOff x="3512520" y="421200"/>
            <a:chExt cx="5166360" cy="8987040"/>
          </a:xfrm>
        </p:grpSpPr>
        <p:sp>
          <p:nvSpPr>
            <p:cNvPr id="457" name="任意多边形 22"/>
            <p:cNvSpPr/>
            <p:nvPr/>
          </p:nvSpPr>
          <p:spPr>
            <a:xfrm>
              <a:off x="3512520" y="421200"/>
              <a:ext cx="5166360" cy="7187040"/>
            </a:xfrm>
            <a:custGeom>
              <a:avLst/>
              <a:gdLst>
                <a:gd name="textAreaLeft" fmla="*/ 0 w 5166360"/>
                <a:gd name="textAreaRight" fmla="*/ 5166720 w 5166360"/>
                <a:gd name="textAreaTop" fmla="*/ 0 h 7187040"/>
                <a:gd name="textAreaBottom" fmla="*/ 7187400 h 7187040"/>
              </a:gdLst>
              <a:ahLst/>
              <a:rect l="textAreaLeft" t="textAreaTop" r="textAreaRight" b="textAreaBottom"/>
              <a:pathLst>
                <a:path w="820338" h="1141211">
                  <a:moveTo>
                    <a:pt x="228600" y="1141211"/>
                  </a:moveTo>
                  <a:cubicBezTo>
                    <a:pt x="228600" y="974519"/>
                    <a:pt x="188354" y="823608"/>
                    <a:pt x="123285" y="714369"/>
                  </a:cubicBezTo>
                  <a:lnTo>
                    <a:pt x="74084" y="646220"/>
                  </a:lnTo>
                  <a:lnTo>
                    <a:pt x="73427" y="643591"/>
                  </a:lnTo>
                  <a:lnTo>
                    <a:pt x="70051" y="639499"/>
                  </a:lnTo>
                  <a:cubicBezTo>
                    <a:pt x="25824" y="574035"/>
                    <a:pt x="0" y="495118"/>
                    <a:pt x="0" y="410169"/>
                  </a:cubicBezTo>
                  <a:cubicBezTo>
                    <a:pt x="0" y="183639"/>
                    <a:pt x="183639" y="0"/>
                    <a:pt x="410169" y="0"/>
                  </a:cubicBezTo>
                  <a:cubicBezTo>
                    <a:pt x="636699" y="0"/>
                    <a:pt x="820338" y="183639"/>
                    <a:pt x="820338" y="410169"/>
                  </a:cubicBezTo>
                  <a:cubicBezTo>
                    <a:pt x="820338" y="495118"/>
                    <a:pt x="794514" y="574035"/>
                    <a:pt x="750288" y="639499"/>
                  </a:cubicBezTo>
                  <a:lnTo>
                    <a:pt x="746911" y="643591"/>
                  </a:lnTo>
                  <a:lnTo>
                    <a:pt x="746254" y="646220"/>
                  </a:lnTo>
                  <a:lnTo>
                    <a:pt x="697054" y="714369"/>
                  </a:lnTo>
                  <a:cubicBezTo>
                    <a:pt x="631984" y="823608"/>
                    <a:pt x="591738" y="974519"/>
                    <a:pt x="591738" y="1141211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58" name="直接连接符 24"/>
            <p:cNvCxnSpPr/>
            <p:nvPr/>
          </p:nvCxnSpPr>
          <p:spPr>
            <a:xfrm flipV="1">
              <a:off x="4832280" y="7668720"/>
              <a:ext cx="900360" cy="450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459" name="直接连接符 26"/>
            <p:cNvCxnSpPr/>
            <p:nvPr/>
          </p:nvCxnSpPr>
          <p:spPr>
            <a:xfrm flipV="1">
              <a:off x="4832280" y="7668720"/>
              <a:ext cx="1923840" cy="105012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460" name="直接连接符 28"/>
            <p:cNvCxnSpPr/>
            <p:nvPr/>
          </p:nvCxnSpPr>
          <p:spPr>
            <a:xfrm flipV="1">
              <a:off x="4832280" y="8118720"/>
              <a:ext cx="2430000" cy="128988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461" name="直接连接符 29"/>
            <p:cNvCxnSpPr/>
            <p:nvPr/>
          </p:nvCxnSpPr>
          <p:spPr>
            <a:xfrm flipV="1">
              <a:off x="6095880" y="8763480"/>
              <a:ext cx="1166400" cy="64512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</p:grpSp>
      <p:sp>
        <p:nvSpPr>
          <p:cNvPr id="462" name="文本框 33"/>
          <p:cNvSpPr/>
          <p:nvPr/>
        </p:nvSpPr>
        <p:spPr>
          <a:xfrm>
            <a:off x="5564520" y="134136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9"/>
          <p:cNvSpPr/>
          <p:nvPr/>
        </p:nvSpPr>
        <p:spPr>
          <a:xfrm>
            <a:off x="4343400" y="398844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直接连接符 32"/>
          <p:cNvCxnSpPr>
            <a:stCxn id="465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cxnSp>
        <p:nvCxnSpPr>
          <p:cNvPr id="466" name="直接连接符 34"/>
          <p:cNvCxnSpPr>
            <a:stCxn id="465" idx="5"/>
            <a:endCxn id="467" idx="1"/>
          </p:cNvCxnSpPr>
          <p:nvPr/>
        </p:nvCxnSpPr>
        <p:spPr>
          <a:xfrm>
            <a:off x="3904200" y="2768400"/>
            <a:ext cx="6408720" cy="13212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68" name="圆角矩形 4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bae2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9" name="圆角矩形 5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70" name="文本框 8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472" name="直接连接符 35"/>
          <p:cNvCxnSpPr>
            <a:endCxn id="467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73" name="文本框 20"/>
          <p:cNvSpPr/>
          <p:nvPr/>
        </p:nvSpPr>
        <p:spPr>
          <a:xfrm>
            <a:off x="4741920" y="2030760"/>
            <a:ext cx="44168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要通过这个产品得到什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1"/>
          <p:cNvSpPr/>
          <p:nvPr/>
        </p:nvSpPr>
        <p:spPr>
          <a:xfrm>
            <a:off x="4311000" y="4316760"/>
            <a:ext cx="52790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用户要通过这个产品得到什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椭圆 18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65" name="椭圆 22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23"/>
          <p:cNvSpPr/>
          <p:nvPr/>
        </p:nvSpPr>
        <p:spPr>
          <a:xfrm>
            <a:off x="621360" y="1703520"/>
            <a:ext cx="355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战略层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4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30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圆角矩形 4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bae2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圆角矩形 5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480" name="直接连接符 25"/>
          <p:cNvCxnSpPr/>
          <p:nvPr/>
        </p:nvCxnSpPr>
        <p:spPr>
          <a:xfrm>
            <a:off x="3402720" y="4837680"/>
            <a:ext cx="701640" cy="36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cxnSp>
        <p:nvCxnSpPr>
          <p:cNvPr id="481" name="直接连接符 36"/>
          <p:cNvCxnSpPr/>
          <p:nvPr/>
        </p:nvCxnSpPr>
        <p:spPr>
          <a:xfrm>
            <a:off x="5226840" y="4830480"/>
            <a:ext cx="832680" cy="36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82" name="文本框 8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3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产品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具体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椭圆 27"/>
          <p:cNvSpPr/>
          <p:nvPr/>
        </p:nvSpPr>
        <p:spPr>
          <a:xfrm>
            <a:off x="3962520" y="411588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485" name="直接连接符 45"/>
          <p:cNvCxnSpPr/>
          <p:nvPr/>
        </p:nvCxnSpPr>
        <p:spPr>
          <a:xfrm>
            <a:off x="7151040" y="4830480"/>
            <a:ext cx="832680" cy="36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86" name="矩形 24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直接连接符 2"/>
          <p:cNvCxnSpPr/>
          <p:nvPr/>
        </p:nvCxnSpPr>
        <p:spPr>
          <a:xfrm>
            <a:off x="3421800" y="2968200"/>
            <a:ext cx="360" cy="186984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88" name="椭圆 28"/>
          <p:cNvSpPr/>
          <p:nvPr/>
        </p:nvSpPr>
        <p:spPr>
          <a:xfrm>
            <a:off x="5886720" y="411588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89" name="椭圆 29"/>
          <p:cNvSpPr/>
          <p:nvPr/>
        </p:nvSpPr>
        <p:spPr>
          <a:xfrm>
            <a:off x="7810920" y="411588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90" name="椭圆 17"/>
          <p:cNvSpPr/>
          <p:nvPr/>
        </p:nvSpPr>
        <p:spPr>
          <a:xfrm>
            <a:off x="412344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18"/>
          <p:cNvSpPr/>
          <p:nvPr/>
        </p:nvSpPr>
        <p:spPr>
          <a:xfrm>
            <a:off x="60595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识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19"/>
          <p:cNvSpPr/>
          <p:nvPr/>
        </p:nvSpPr>
        <p:spPr>
          <a:xfrm>
            <a:off x="79837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功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8"/>
          <p:cNvSpPr/>
          <p:nvPr/>
        </p:nvSpPr>
        <p:spPr>
          <a:xfrm>
            <a:off x="4741920" y="2030760"/>
            <a:ext cx="44168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要通过这个产品得到什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直接连接符 20"/>
          <p:cNvCxnSpPr>
            <a:stCxn id="495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96" name="椭圆 21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95" name="椭圆 26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圆角矩形 33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bae2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8" name="圆角矩形 36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99" name="文本框 37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9"/>
          <p:cNvSpPr/>
          <p:nvPr/>
        </p:nvSpPr>
        <p:spPr>
          <a:xfrm>
            <a:off x="3864600" y="12733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确定用户需求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20"/>
          <p:cNvSpPr/>
          <p:nvPr/>
        </p:nvSpPr>
        <p:spPr>
          <a:xfrm>
            <a:off x="5870160" y="12733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503" name="直接连接符 46"/>
          <p:cNvCxnSpPr/>
          <p:nvPr/>
        </p:nvCxnSpPr>
        <p:spPr>
          <a:xfrm>
            <a:off x="9155520" y="1981080"/>
            <a:ext cx="1655640" cy="36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504" name="椭圆 21"/>
          <p:cNvSpPr/>
          <p:nvPr/>
        </p:nvSpPr>
        <p:spPr>
          <a:xfrm>
            <a:off x="7871040" y="126288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05" name="矩形 31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40"/>
          <p:cNvSpPr/>
          <p:nvPr/>
        </p:nvSpPr>
        <p:spPr>
          <a:xfrm>
            <a:off x="4037040" y="144936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细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41"/>
          <p:cNvSpPr/>
          <p:nvPr/>
        </p:nvSpPr>
        <p:spPr>
          <a:xfrm>
            <a:off x="6042960" y="144936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42"/>
          <p:cNvSpPr/>
          <p:nvPr/>
        </p:nvSpPr>
        <p:spPr>
          <a:xfrm>
            <a:off x="8048520" y="144936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建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等腰三角形 6"/>
          <p:cNvSpPr/>
          <p:nvPr/>
        </p:nvSpPr>
        <p:spPr>
          <a:xfrm rot="5400000">
            <a:off x="5424120" y="1915560"/>
            <a:ext cx="323640" cy="158760"/>
          </a:xfrm>
          <a:prstGeom prst="triangle">
            <a:avLst>
              <a:gd name="adj" fmla="val 50000"/>
            </a:avLst>
          </a:prstGeom>
          <a:solidFill>
            <a:srgbClr val="f8912a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10" name="等腰三角形 43"/>
          <p:cNvSpPr/>
          <p:nvPr/>
        </p:nvSpPr>
        <p:spPr>
          <a:xfrm rot="5400000">
            <a:off x="7430040" y="1915560"/>
            <a:ext cx="323640" cy="158760"/>
          </a:xfrm>
          <a:prstGeom prst="triangle">
            <a:avLst>
              <a:gd name="adj" fmla="val 50000"/>
            </a:avLst>
          </a:prstGeom>
          <a:solidFill>
            <a:srgbClr val="f8912a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511" name="直接连接符 45"/>
          <p:cNvCxnSpPr/>
          <p:nvPr/>
        </p:nvCxnSpPr>
        <p:spPr>
          <a:xfrm>
            <a:off x="10792440" y="1981080"/>
            <a:ext cx="360" cy="190872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512" name="文本框 47"/>
          <p:cNvSpPr/>
          <p:nvPr/>
        </p:nvSpPr>
        <p:spPr>
          <a:xfrm>
            <a:off x="4311000" y="4316760"/>
            <a:ext cx="52790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用户要通过这个产品得到什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直接连接符 22"/>
          <p:cNvCxnSpPr>
            <a:endCxn id="514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515" name="椭圆 23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14" name="椭圆 24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dd0a"/>
            </a:gs>
            <a:gs pos="100000">
              <a:srgbClr val="5cc8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组合 3"/>
          <p:cNvGrpSpPr/>
          <p:nvPr/>
        </p:nvGrpSpPr>
        <p:grpSpPr>
          <a:xfrm>
            <a:off x="390960" y="449640"/>
            <a:ext cx="10346760" cy="5474520"/>
            <a:chOff x="390960" y="449640"/>
            <a:chExt cx="10346760" cy="5474520"/>
          </a:xfrm>
        </p:grpSpPr>
        <p:cxnSp>
          <p:nvCxnSpPr>
            <p:cNvPr id="517" name="直接连接符 4"/>
            <p:cNvCxnSpPr/>
            <p:nvPr/>
          </p:nvCxnSpPr>
          <p:spPr>
            <a:xfrm>
              <a:off x="2777400" y="864000"/>
              <a:ext cx="796068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sp>
          <p:nvSpPr>
            <p:cNvPr id="518" name="椭圆 5"/>
            <p:cNvSpPr/>
            <p:nvPr/>
          </p:nvSpPr>
          <p:spPr>
            <a:xfrm>
              <a:off x="390960" y="449640"/>
              <a:ext cx="828720" cy="828720"/>
            </a:xfrm>
            <a:prstGeom prst="ellipse">
              <a:avLst/>
            </a:prstGeom>
            <a:solidFill>
              <a:schemeClr val="bg1">
                <a:alpha val="25000"/>
              </a:schemeClr>
            </a:solidFill>
            <a:ln w="38100">
              <a:solidFill>
                <a:srgbClr val="ffffff">
                  <a:alpha val="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519" name="直接连接符 6"/>
            <p:cNvCxnSpPr/>
            <p:nvPr/>
          </p:nvCxnSpPr>
          <p:spPr>
            <a:xfrm>
              <a:off x="2777400" y="3173760"/>
              <a:ext cx="796068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sp>
          <p:nvSpPr>
            <p:cNvPr id="520" name="椭圆 7"/>
            <p:cNvSpPr/>
            <p:nvPr/>
          </p:nvSpPr>
          <p:spPr>
            <a:xfrm>
              <a:off x="390960" y="2759400"/>
              <a:ext cx="828720" cy="828720"/>
            </a:xfrm>
            <a:prstGeom prst="ellipse">
              <a:avLst/>
            </a:prstGeom>
            <a:solidFill>
              <a:schemeClr val="bg1">
                <a:alpha val="25000"/>
              </a:schemeClr>
            </a:solidFill>
            <a:ln w="38100">
              <a:solidFill>
                <a:srgbClr val="ffffff">
                  <a:alpha val="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521" name="直接连接符 8"/>
            <p:cNvCxnSpPr/>
            <p:nvPr/>
          </p:nvCxnSpPr>
          <p:spPr>
            <a:xfrm>
              <a:off x="2777400" y="5509800"/>
              <a:ext cx="796068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sp>
          <p:nvSpPr>
            <p:cNvPr id="522" name="椭圆 9"/>
            <p:cNvSpPr/>
            <p:nvPr/>
          </p:nvSpPr>
          <p:spPr>
            <a:xfrm>
              <a:off x="390960" y="5095440"/>
              <a:ext cx="828720" cy="828720"/>
            </a:xfrm>
            <a:prstGeom prst="ellipse">
              <a:avLst/>
            </a:prstGeom>
            <a:solidFill>
              <a:schemeClr val="bg1">
                <a:alpha val="25000"/>
              </a:schemeClr>
            </a:solidFill>
            <a:ln w="38100">
              <a:solidFill>
                <a:srgbClr val="ffffff">
                  <a:alpha val="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23" name="文本框 14"/>
          <p:cNvSpPr/>
          <p:nvPr/>
        </p:nvSpPr>
        <p:spPr>
          <a:xfrm>
            <a:off x="5564520" y="80676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5"/>
          <p:cNvSpPr/>
          <p:nvPr/>
        </p:nvSpPr>
        <p:spPr>
          <a:xfrm>
            <a:off x="4343400" y="375048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7ed4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6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27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直接连接符 14"/>
          <p:cNvCxnSpPr>
            <a:stCxn id="529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cxnSp>
        <p:nvCxnSpPr>
          <p:cNvPr id="530" name="直接连接符 15"/>
          <p:cNvCxnSpPr>
            <a:stCxn id="529" idx="5"/>
            <a:endCxn id="531" idx="1"/>
          </p:cNvCxnSpPr>
          <p:nvPr/>
        </p:nvCxnSpPr>
        <p:spPr>
          <a:xfrm>
            <a:off x="3904200" y="2768400"/>
            <a:ext cx="6408720" cy="13212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cxnSp>
        <p:nvCxnSpPr>
          <p:cNvPr id="532" name="直接连接符 16"/>
          <p:cNvCxnSpPr>
            <a:endCxn id="531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33" name="椭圆 20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34" name="椭圆 21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1360" y="1949760"/>
            <a:ext cx="355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范围层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椭圆 12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3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7"/>
          <p:cNvSpPr/>
          <p:nvPr/>
        </p:nvSpPr>
        <p:spPr>
          <a:xfrm>
            <a:off x="4741920" y="2030760"/>
            <a:ext cx="44168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产品功能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8"/>
          <p:cNvSpPr/>
          <p:nvPr/>
        </p:nvSpPr>
        <p:spPr>
          <a:xfrm>
            <a:off x="4311000" y="4112280"/>
            <a:ext cx="5279040" cy="910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项目中所要进行的全部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7ed4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0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1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5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实现过程价值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直接连接符 23"/>
          <p:cNvCxnSpPr/>
          <p:nvPr/>
        </p:nvCxnSpPr>
        <p:spPr>
          <a:xfrm>
            <a:off x="3417840" y="4837680"/>
            <a:ext cx="702000" cy="36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44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7"/>
          <p:cNvSpPr/>
          <p:nvPr/>
        </p:nvSpPr>
        <p:spPr>
          <a:xfrm>
            <a:off x="4741920" y="2030760"/>
            <a:ext cx="44168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产品功能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29"/>
          <p:cNvSpPr/>
          <p:nvPr/>
        </p:nvSpPr>
        <p:spPr>
          <a:xfrm>
            <a:off x="3948120" y="41191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47" name="椭圆 30"/>
          <p:cNvSpPr/>
          <p:nvPr/>
        </p:nvSpPr>
        <p:spPr>
          <a:xfrm>
            <a:off x="5901480" y="4128840"/>
            <a:ext cx="1407240" cy="1400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48" name="椭圆 31"/>
          <p:cNvSpPr/>
          <p:nvPr/>
        </p:nvSpPr>
        <p:spPr>
          <a:xfrm>
            <a:off x="7837560" y="4137480"/>
            <a:ext cx="1407240" cy="1400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549" name="直接连接符 19"/>
          <p:cNvCxnSpPr/>
          <p:nvPr/>
        </p:nvCxnSpPr>
        <p:spPr>
          <a:xfrm>
            <a:off x="3421800" y="2968200"/>
            <a:ext cx="360" cy="186984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50" name="椭圆 20"/>
          <p:cNvSpPr/>
          <p:nvPr/>
        </p:nvSpPr>
        <p:spPr>
          <a:xfrm>
            <a:off x="412344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21"/>
          <p:cNvSpPr/>
          <p:nvPr/>
        </p:nvSpPr>
        <p:spPr>
          <a:xfrm>
            <a:off x="60595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成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22"/>
          <p:cNvSpPr/>
          <p:nvPr/>
        </p:nvSpPr>
        <p:spPr>
          <a:xfrm>
            <a:off x="7995240" y="42832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53" name="文本框 2"/>
          <p:cNvSpPr/>
          <p:nvPr/>
        </p:nvSpPr>
        <p:spPr>
          <a:xfrm>
            <a:off x="7954560" y="4475160"/>
            <a:ext cx="1173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先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等腰三角形 26"/>
          <p:cNvSpPr/>
          <p:nvPr/>
        </p:nvSpPr>
        <p:spPr>
          <a:xfrm rot="5400000">
            <a:off x="5475600" y="4749480"/>
            <a:ext cx="323640" cy="15876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 w="38100">
            <a:solidFill>
              <a:srgbClr val="ffffff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55" name="等腰三角形 27"/>
          <p:cNvSpPr/>
          <p:nvPr/>
        </p:nvSpPr>
        <p:spPr>
          <a:xfrm rot="5400000">
            <a:off x="7411680" y="4749480"/>
            <a:ext cx="323640" cy="15876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 w="38100">
            <a:solidFill>
              <a:srgbClr val="ffffff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556" name="直接连接符 24"/>
          <p:cNvCxnSpPr>
            <a:stCxn id="557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58" name="椭圆 25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57" name="椭圆 28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691560" y="6853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0" name="直接连接符 39"/>
          <p:cNvCxnSpPr/>
          <p:nvPr/>
        </p:nvCxnSpPr>
        <p:spPr>
          <a:xfrm>
            <a:off x="5226840" y="1971000"/>
            <a:ext cx="832680" cy="36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cxnSp>
        <p:nvCxnSpPr>
          <p:cNvPr id="561" name="直接连接符 40"/>
          <p:cNvCxnSpPr/>
          <p:nvPr/>
        </p:nvCxnSpPr>
        <p:spPr>
          <a:xfrm>
            <a:off x="7151040" y="1971000"/>
            <a:ext cx="832680" cy="36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62" name="文本框 18"/>
          <p:cNvSpPr/>
          <p:nvPr/>
        </p:nvSpPr>
        <p:spPr>
          <a:xfrm>
            <a:off x="4311000" y="4112280"/>
            <a:ext cx="5279040" cy="910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项目中所要进行的全部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圆角矩形 23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7ed4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4" name="圆角矩形 24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5" name="文本框 25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1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定义产品价值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22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29"/>
          <p:cNvSpPr/>
          <p:nvPr/>
        </p:nvSpPr>
        <p:spPr>
          <a:xfrm>
            <a:off x="3948120" y="125964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直接连接符 32"/>
          <p:cNvCxnSpPr/>
          <p:nvPr/>
        </p:nvCxnSpPr>
        <p:spPr>
          <a:xfrm>
            <a:off x="10792440" y="1981080"/>
            <a:ext cx="360" cy="190872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cxnSp>
        <p:nvCxnSpPr>
          <p:cNvPr id="570" name="直接连接符 33"/>
          <p:cNvCxnSpPr>
            <a:stCxn id="571" idx="6"/>
          </p:cNvCxnSpPr>
          <p:nvPr/>
        </p:nvCxnSpPr>
        <p:spPr>
          <a:xfrm>
            <a:off x="9075240" y="1974960"/>
            <a:ext cx="1735920" cy="648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72" name="椭圆 30"/>
          <p:cNvSpPr/>
          <p:nvPr/>
        </p:nvSpPr>
        <p:spPr>
          <a:xfrm>
            <a:off x="5886720" y="125964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椭圆 36"/>
          <p:cNvSpPr/>
          <p:nvPr/>
        </p:nvSpPr>
        <p:spPr>
          <a:xfrm>
            <a:off x="412344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观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31"/>
          <p:cNvSpPr/>
          <p:nvPr/>
        </p:nvSpPr>
        <p:spPr>
          <a:xfrm>
            <a:off x="7810920" y="125964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37"/>
          <p:cNvSpPr/>
          <p:nvPr/>
        </p:nvSpPr>
        <p:spPr>
          <a:xfrm>
            <a:off x="605952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具体解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椭圆 38"/>
          <p:cNvSpPr/>
          <p:nvPr/>
        </p:nvSpPr>
        <p:spPr>
          <a:xfrm>
            <a:off x="798372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观语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6" name="直接连接符 26"/>
          <p:cNvCxnSpPr>
            <a:endCxn id="577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78" name="椭圆 27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77" name="椭圆 28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e8d7"/>
            </a:gs>
            <a:gs pos="100000">
              <a:srgbClr val="2bd5e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组合 4"/>
          <p:cNvGrpSpPr/>
          <p:nvPr/>
        </p:nvGrpSpPr>
        <p:grpSpPr>
          <a:xfrm>
            <a:off x="1073520" y="523440"/>
            <a:ext cx="10181520" cy="9872280"/>
            <a:chOff x="1073520" y="523440"/>
            <a:chExt cx="10181520" cy="9872280"/>
          </a:xfrm>
        </p:grpSpPr>
        <p:sp>
          <p:nvSpPr>
            <p:cNvPr id="580" name="矩形 5"/>
            <p:cNvSpPr/>
            <p:nvPr/>
          </p:nvSpPr>
          <p:spPr>
            <a:xfrm>
              <a:off x="3986640" y="523440"/>
              <a:ext cx="4219200" cy="2946600"/>
            </a:xfrm>
            <a:prstGeom prst="rect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81" name="矩形 6"/>
            <p:cNvSpPr/>
            <p:nvPr/>
          </p:nvSpPr>
          <p:spPr>
            <a:xfrm>
              <a:off x="1073520" y="7449120"/>
              <a:ext cx="4219200" cy="2946600"/>
            </a:xfrm>
            <a:prstGeom prst="rect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82" name="矩形 7"/>
            <p:cNvSpPr/>
            <p:nvPr/>
          </p:nvSpPr>
          <p:spPr>
            <a:xfrm>
              <a:off x="7035840" y="7449120"/>
              <a:ext cx="4219200" cy="2946600"/>
            </a:xfrm>
            <a:prstGeom prst="rect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583" name="直接连接符 8"/>
            <p:cNvCxnSpPr>
              <a:stCxn id="580" idx="2"/>
            </p:cNvCxnSpPr>
            <p:nvPr/>
          </p:nvCxnSpPr>
          <p:spPr>
            <a:xfrm>
              <a:off x="6096240" y="3470400"/>
              <a:ext cx="360" cy="205380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cxnSp>
          <p:nvCxnSpPr>
            <p:cNvPr id="584" name="直接连接符 9"/>
            <p:cNvCxnSpPr/>
            <p:nvPr/>
          </p:nvCxnSpPr>
          <p:spPr>
            <a:xfrm>
              <a:off x="3183120" y="5523840"/>
              <a:ext cx="596268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cxnSp>
          <p:nvCxnSpPr>
            <p:cNvPr id="585" name="直接连接符 10"/>
            <p:cNvCxnSpPr>
              <a:stCxn id="581" idx="0"/>
            </p:cNvCxnSpPr>
            <p:nvPr/>
          </p:nvCxnSpPr>
          <p:spPr>
            <a:xfrm flipV="1">
              <a:off x="3183120" y="5523840"/>
              <a:ext cx="360" cy="192528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cxnSp>
          <p:nvCxnSpPr>
            <p:cNvPr id="586" name="直接连接符 11"/>
            <p:cNvCxnSpPr>
              <a:stCxn id="582" idx="0"/>
            </p:cNvCxnSpPr>
            <p:nvPr/>
          </p:nvCxnSpPr>
          <p:spPr>
            <a:xfrm flipV="1">
              <a:off x="9145440" y="5523840"/>
              <a:ext cx="360" cy="192528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</p:grpSp>
      <p:sp>
        <p:nvSpPr>
          <p:cNvPr id="587" name="文本框 14"/>
          <p:cNvSpPr/>
          <p:nvPr/>
        </p:nvSpPr>
        <p:spPr>
          <a:xfrm>
            <a:off x="5564520" y="67356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5"/>
          <p:cNvSpPr/>
          <p:nvPr/>
        </p:nvSpPr>
        <p:spPr>
          <a:xfrm>
            <a:off x="4343400" y="398952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结构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40e4d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91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直接连接符 12"/>
          <p:cNvCxnSpPr>
            <a:stCxn id="593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594" name="直接连接符 13"/>
          <p:cNvCxnSpPr>
            <a:stCxn id="593" idx="5"/>
            <a:endCxn id="595" idx="1"/>
          </p:cNvCxnSpPr>
          <p:nvPr/>
        </p:nvCxnSpPr>
        <p:spPr>
          <a:xfrm>
            <a:off x="3904200" y="2768400"/>
            <a:ext cx="6408720" cy="13212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596" name="直接连接符 14"/>
          <p:cNvCxnSpPr>
            <a:endCxn id="595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597" name="椭圆 20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98" name="文本框 5"/>
          <p:cNvSpPr/>
          <p:nvPr/>
        </p:nvSpPr>
        <p:spPr>
          <a:xfrm>
            <a:off x="621360" y="1949760"/>
            <a:ext cx="355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结构层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40e4da"/>
              </a:gs>
              <a:gs pos="100000">
                <a:srgbClr val="14c4ee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10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椭圆 19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95" name="椭圆 11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架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5"/>
          <p:cNvSpPr/>
          <p:nvPr/>
        </p:nvSpPr>
        <p:spPr>
          <a:xfrm>
            <a:off x="4741920" y="2030760"/>
            <a:ext cx="455400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如何配合与响应用户的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6"/>
          <p:cNvSpPr/>
          <p:nvPr/>
        </p:nvSpPr>
        <p:spPr>
          <a:xfrm>
            <a:off x="4311000" y="4316760"/>
            <a:ext cx="52790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理组织有效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6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grpSp>
        <p:nvGrpSpPr>
          <p:cNvPr id="107" name="组合 137"/>
          <p:cNvGrpSpPr/>
          <p:nvPr/>
        </p:nvGrpSpPr>
        <p:grpSpPr>
          <a:xfrm>
            <a:off x="6680880" y="2453400"/>
            <a:ext cx="1132200" cy="1132200"/>
            <a:chOff x="6680880" y="2453400"/>
            <a:chExt cx="1132200" cy="1132200"/>
          </a:xfrm>
        </p:grpSpPr>
        <p:sp>
          <p:nvSpPr>
            <p:cNvPr id="108" name="椭圆 182"/>
            <p:cNvSpPr/>
            <p:nvPr/>
          </p:nvSpPr>
          <p:spPr>
            <a:xfrm>
              <a:off x="6680880" y="2453400"/>
              <a:ext cx="1132200" cy="1132200"/>
            </a:xfrm>
            <a:prstGeom prst="ellipse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09" name="Group 20"/>
            <p:cNvGrpSpPr/>
            <p:nvPr/>
          </p:nvGrpSpPr>
          <p:grpSpPr>
            <a:xfrm>
              <a:off x="6915240" y="2696040"/>
              <a:ext cx="681480" cy="683640"/>
              <a:chOff x="6915240" y="2696040"/>
              <a:chExt cx="681480" cy="683640"/>
            </a:xfrm>
          </p:grpSpPr>
          <p:sp>
            <p:nvSpPr>
              <p:cNvPr id="110" name="Rectangle 21"/>
              <p:cNvSpPr/>
              <p:nvPr/>
            </p:nvSpPr>
            <p:spPr>
              <a:xfrm>
                <a:off x="7230600" y="2824560"/>
                <a:ext cx="271080" cy="79200"/>
              </a:xfrm>
              <a:prstGeom prst="rect">
                <a:avLst/>
              </a:prstGeom>
              <a:solidFill>
                <a:schemeClr val="bg1"/>
              </a:solidFill>
              <a:ln w="190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2"/>
              <p:cNvSpPr/>
              <p:nvPr/>
            </p:nvSpPr>
            <p:spPr>
              <a:xfrm>
                <a:off x="7230600" y="2920680"/>
                <a:ext cx="366120" cy="283680"/>
              </a:xfrm>
              <a:custGeom>
                <a:avLst/>
                <a:gdLst>
                  <a:gd name="textAreaLeft" fmla="*/ 0 w 366120"/>
                  <a:gd name="textAreaRight" fmla="*/ 366480 w 36612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266" h="206">
                    <a:moveTo>
                      <a:pt x="266" y="32"/>
                    </a:moveTo>
                    <a:cubicBezTo>
                      <a:pt x="252" y="32"/>
                      <a:pt x="252" y="32"/>
                      <a:pt x="252" y="32"/>
                    </a:cubicBezTo>
                    <a:cubicBezTo>
                      <a:pt x="197" y="32"/>
                      <a:pt x="197" y="32"/>
                      <a:pt x="197" y="32"/>
                    </a:cubicBezTo>
                    <a:cubicBezTo>
                      <a:pt x="197" y="0"/>
                      <a:pt x="197" y="0"/>
                      <a:pt x="19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06"/>
                      <a:pt x="0" y="206"/>
                      <a:pt x="0" y="206"/>
                    </a:cubicBezTo>
                    <a:cubicBezTo>
                      <a:pt x="197" y="206"/>
                      <a:pt x="197" y="206"/>
                      <a:pt x="197" y="206"/>
                    </a:cubicBezTo>
                    <a:cubicBezTo>
                      <a:pt x="197" y="177"/>
                      <a:pt x="197" y="177"/>
                      <a:pt x="197" y="177"/>
                    </a:cubicBezTo>
                    <a:cubicBezTo>
                      <a:pt x="266" y="177"/>
                      <a:pt x="266" y="177"/>
                      <a:pt x="266" y="177"/>
                    </a:cubicBezTo>
                    <a:lnTo>
                      <a:pt x="266" y="32"/>
                    </a:lnTo>
                    <a:close/>
                    <a:moveTo>
                      <a:pt x="238" y="149"/>
                    </a:moveTo>
                    <a:cubicBezTo>
                      <a:pt x="226" y="149"/>
                      <a:pt x="208" y="149"/>
                      <a:pt x="197" y="149"/>
                    </a:cubicBezTo>
                    <a:cubicBezTo>
                      <a:pt x="197" y="60"/>
                      <a:pt x="197" y="60"/>
                      <a:pt x="197" y="60"/>
                    </a:cubicBezTo>
                    <a:cubicBezTo>
                      <a:pt x="206" y="60"/>
                      <a:pt x="225" y="60"/>
                      <a:pt x="238" y="60"/>
                    </a:cubicBezTo>
                    <a:cubicBezTo>
                      <a:pt x="238" y="79"/>
                      <a:pt x="238" y="130"/>
                      <a:pt x="238" y="149"/>
                    </a:cubicBezTo>
                    <a:close/>
                  </a:path>
                </a:pathLst>
              </a:custGeom>
              <a:solidFill>
                <a:schemeClr val="bg1"/>
              </a:solidFill>
              <a:ln w="190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3"/>
              <p:cNvSpPr/>
              <p:nvPr/>
            </p:nvSpPr>
            <p:spPr>
              <a:xfrm>
                <a:off x="6915240" y="2696040"/>
                <a:ext cx="521280" cy="4118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900" h="711">
                    <a:moveTo>
                      <a:pt x="449" y="136"/>
                    </a:moveTo>
                    <a:lnTo>
                      <a:pt x="900" y="136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0" y="711"/>
                    </a:lnTo>
                    <a:lnTo>
                      <a:pt x="449" y="711"/>
                    </a:lnTo>
                    <a:lnTo>
                      <a:pt x="449" y="136"/>
                    </a:lnTo>
                    <a:close/>
                    <a:moveTo>
                      <a:pt x="283" y="528"/>
                    </a:moveTo>
                    <a:lnTo>
                      <a:pt x="157" y="528"/>
                    </a:lnTo>
                    <a:lnTo>
                      <a:pt x="157" y="500"/>
                    </a:lnTo>
                    <a:lnTo>
                      <a:pt x="283" y="500"/>
                    </a:lnTo>
                    <a:lnTo>
                      <a:pt x="283" y="528"/>
                    </a:lnTo>
                    <a:close/>
                    <a:moveTo>
                      <a:pt x="283" y="421"/>
                    </a:moveTo>
                    <a:lnTo>
                      <a:pt x="157" y="421"/>
                    </a:lnTo>
                    <a:lnTo>
                      <a:pt x="157" y="393"/>
                    </a:lnTo>
                    <a:lnTo>
                      <a:pt x="283" y="393"/>
                    </a:lnTo>
                    <a:lnTo>
                      <a:pt x="283" y="421"/>
                    </a:lnTo>
                    <a:close/>
                    <a:moveTo>
                      <a:pt x="283" y="317"/>
                    </a:moveTo>
                    <a:lnTo>
                      <a:pt x="157" y="317"/>
                    </a:lnTo>
                    <a:lnTo>
                      <a:pt x="157" y="288"/>
                    </a:lnTo>
                    <a:lnTo>
                      <a:pt x="283" y="288"/>
                    </a:lnTo>
                    <a:lnTo>
                      <a:pt x="283" y="317"/>
                    </a:lnTo>
                    <a:close/>
                    <a:moveTo>
                      <a:pt x="283" y="212"/>
                    </a:moveTo>
                    <a:lnTo>
                      <a:pt x="157" y="212"/>
                    </a:lnTo>
                    <a:lnTo>
                      <a:pt x="157" y="184"/>
                    </a:lnTo>
                    <a:lnTo>
                      <a:pt x="283" y="184"/>
                    </a:lnTo>
                    <a:lnTo>
                      <a:pt x="283" y="212"/>
                    </a:ln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24"/>
              <p:cNvSpPr/>
              <p:nvPr/>
            </p:nvSpPr>
            <p:spPr>
              <a:xfrm>
                <a:off x="6915240" y="3158640"/>
                <a:ext cx="641520" cy="22104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466" h="161">
                    <a:moveTo>
                      <a:pt x="189" y="84"/>
                    </a:moveTo>
                    <a:cubicBezTo>
                      <a:pt x="189" y="0"/>
                      <a:pt x="189" y="0"/>
                      <a:pt x="18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466" y="161"/>
                      <a:pt x="466" y="161"/>
                      <a:pt x="466" y="161"/>
                    </a:cubicBezTo>
                    <a:cubicBezTo>
                      <a:pt x="466" y="84"/>
                      <a:pt x="466" y="84"/>
                      <a:pt x="466" y="84"/>
                    </a:cubicBezTo>
                    <a:lnTo>
                      <a:pt x="189" y="84"/>
                    </a:lnTo>
                    <a:close/>
                    <a:moveTo>
                      <a:pt x="92" y="121"/>
                    </a:moveTo>
                    <a:cubicBezTo>
                      <a:pt x="68" y="121"/>
                      <a:pt x="48" y="101"/>
                      <a:pt x="48" y="76"/>
                    </a:cubicBezTo>
                    <a:cubicBezTo>
                      <a:pt x="48" y="52"/>
                      <a:pt x="68" y="32"/>
                      <a:pt x="92" y="32"/>
                    </a:cubicBezTo>
                    <a:cubicBezTo>
                      <a:pt x="117" y="32"/>
                      <a:pt x="137" y="52"/>
                      <a:pt x="137" y="76"/>
                    </a:cubicBezTo>
                    <a:cubicBezTo>
                      <a:pt x="137" y="101"/>
                      <a:pt x="117" y="121"/>
                      <a:pt x="92" y="121"/>
                    </a:cubicBez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Oval 25"/>
              <p:cNvSpPr/>
              <p:nvPr/>
            </p:nvSpPr>
            <p:spPr>
              <a:xfrm>
                <a:off x="6998040" y="3196080"/>
                <a:ext cx="88920" cy="89640"/>
              </a:xfrm>
              <a:prstGeom prst="ellipse">
                <a:avLst/>
              </a:prstGeom>
              <a:noFill/>
              <a:ln w="190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cxnSp>
        <p:nvCxnSpPr>
          <p:cNvPr id="115" name="直接连接符 1037"/>
          <p:cNvCxnSpPr>
            <a:stCxn id="116" idx="0"/>
          </p:cNvCxnSpPr>
          <p:nvPr/>
        </p:nvCxnSpPr>
        <p:spPr>
          <a:xfrm flipV="1">
            <a:off x="7247160" y="-170640"/>
            <a:ext cx="360" cy="93924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117" name="直接连接符 209"/>
          <p:cNvCxnSpPr>
            <a:stCxn id="108" idx="0"/>
            <a:endCxn id="116" idx="4"/>
          </p:cNvCxnSpPr>
          <p:nvPr/>
        </p:nvCxnSpPr>
        <p:spPr>
          <a:xfrm flipV="1">
            <a:off x="7246800" y="1900800"/>
            <a:ext cx="720" cy="55260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118" name="直接连接符 211"/>
          <p:cNvCxnSpPr>
            <a:stCxn id="108" idx="4"/>
            <a:endCxn id="119" idx="0"/>
          </p:cNvCxnSpPr>
          <p:nvPr/>
        </p:nvCxnSpPr>
        <p:spPr>
          <a:xfrm>
            <a:off x="7246800" y="3585960"/>
            <a:ext cx="360" cy="55260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grpSp>
        <p:nvGrpSpPr>
          <p:cNvPr id="120" name="组合 1083"/>
          <p:cNvGrpSpPr/>
          <p:nvPr/>
        </p:nvGrpSpPr>
        <p:grpSpPr>
          <a:xfrm>
            <a:off x="6680880" y="768240"/>
            <a:ext cx="1132200" cy="1132200"/>
            <a:chOff x="6680880" y="768240"/>
            <a:chExt cx="1132200" cy="1132200"/>
          </a:xfrm>
        </p:grpSpPr>
        <p:sp>
          <p:nvSpPr>
            <p:cNvPr id="116" name="椭圆 123"/>
            <p:cNvSpPr/>
            <p:nvPr/>
          </p:nvSpPr>
          <p:spPr>
            <a:xfrm>
              <a:off x="6680880" y="768240"/>
              <a:ext cx="1132200" cy="1132200"/>
            </a:xfrm>
            <a:prstGeom prst="ellipse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1" name="组合 1072"/>
            <p:cNvGrpSpPr/>
            <p:nvPr/>
          </p:nvGrpSpPr>
          <p:grpSpPr>
            <a:xfrm>
              <a:off x="6923520" y="1010880"/>
              <a:ext cx="646560" cy="770040"/>
              <a:chOff x="6923520" y="1010880"/>
              <a:chExt cx="646560" cy="770040"/>
            </a:xfrm>
          </p:grpSpPr>
          <p:grpSp>
            <p:nvGrpSpPr>
              <p:cNvPr id="122" name="组合 1051"/>
              <p:cNvGrpSpPr/>
              <p:nvPr/>
            </p:nvGrpSpPr>
            <p:grpSpPr>
              <a:xfrm>
                <a:off x="6923520" y="1010880"/>
                <a:ext cx="646560" cy="646560"/>
                <a:chOff x="6923520" y="1010880"/>
                <a:chExt cx="646560" cy="646560"/>
              </a:xfrm>
            </p:grpSpPr>
            <p:sp>
              <p:nvSpPr>
                <p:cNvPr id="123" name="矩形 1050"/>
                <p:cNvSpPr/>
                <p:nvPr/>
              </p:nvSpPr>
              <p:spPr>
                <a:xfrm>
                  <a:off x="6923520" y="1010880"/>
                  <a:ext cx="646560" cy="646560"/>
                </a:xfrm>
                <a:prstGeom prst="rect">
                  <a:avLst/>
                </a:prstGeom>
                <a:noFill/>
                <a:ln w="28575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" name="矩形 1048"/>
                <p:cNvSpPr/>
                <p:nvPr/>
              </p:nvSpPr>
              <p:spPr>
                <a:xfrm>
                  <a:off x="7236360" y="1333080"/>
                  <a:ext cx="20880" cy="67320"/>
                </a:xfrm>
                <a:prstGeom prst="rect">
                  <a:avLst/>
                </a:prstGeom>
                <a:solidFill>
                  <a:schemeClr val="bg1">
                    <a:lumMod val="50000"/>
                  </a:schemeClr>
                </a:solidFill>
                <a:ln w="19050">
                  <a:solidFill>
                    <a:srgbClr val="ffffff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" name="矩形 222"/>
                <p:cNvSpPr/>
                <p:nvPr/>
              </p:nvSpPr>
              <p:spPr>
                <a:xfrm rot="19800000">
                  <a:off x="7174080" y="1465920"/>
                  <a:ext cx="20880" cy="67320"/>
                </a:xfrm>
                <a:prstGeom prst="rect">
                  <a:avLst/>
                </a:prstGeom>
                <a:solidFill>
                  <a:schemeClr val="bg1">
                    <a:lumMod val="50000"/>
                  </a:schemeClr>
                </a:solidFill>
                <a:ln w="19050">
                  <a:solidFill>
                    <a:srgbClr val="ffffff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" name="矩形 223"/>
                <p:cNvSpPr/>
                <p:nvPr/>
              </p:nvSpPr>
              <p:spPr>
                <a:xfrm flipH="1" rot="1800000">
                  <a:off x="7300440" y="1465920"/>
                  <a:ext cx="20880" cy="67320"/>
                </a:xfrm>
                <a:prstGeom prst="rect">
                  <a:avLst/>
                </a:prstGeom>
                <a:solidFill>
                  <a:schemeClr val="bg1">
                    <a:lumMod val="50000"/>
                  </a:schemeClr>
                </a:solidFill>
                <a:ln w="19050">
                  <a:solidFill>
                    <a:srgbClr val="ffffff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" name="任意多边形 229"/>
                <p:cNvSpPr/>
                <p:nvPr/>
              </p:nvSpPr>
              <p:spPr>
                <a:xfrm>
                  <a:off x="7137000" y="1134000"/>
                  <a:ext cx="58320" cy="6732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125982" h="145526">
                      <a:moveTo>
                        <a:pt x="80263" y="0"/>
                      </a:moveTo>
                      <a:lnTo>
                        <a:pt x="125982" y="0"/>
                      </a:lnTo>
                      <a:lnTo>
                        <a:pt x="125982" y="145526"/>
                      </a:lnTo>
                      <a:lnTo>
                        <a:pt x="80263" y="145526"/>
                      </a:lnTo>
                      <a:lnTo>
                        <a:pt x="80263" y="105776"/>
                      </a:lnTo>
                      <a:lnTo>
                        <a:pt x="80140" y="105958"/>
                      </a:lnTo>
                      <a:cubicBezTo>
                        <a:pt x="71645" y="114454"/>
                        <a:pt x="59908" y="119708"/>
                        <a:pt x="46945" y="119708"/>
                      </a:cubicBezTo>
                      <a:cubicBezTo>
                        <a:pt x="21018" y="119708"/>
                        <a:pt x="0" y="98690"/>
                        <a:pt x="0" y="72763"/>
                      </a:cubicBezTo>
                      <a:cubicBezTo>
                        <a:pt x="0" y="46836"/>
                        <a:pt x="21018" y="25818"/>
                        <a:pt x="46945" y="25818"/>
                      </a:cubicBezTo>
                      <a:cubicBezTo>
                        <a:pt x="59908" y="25818"/>
                        <a:pt x="71645" y="31073"/>
                        <a:pt x="80140" y="39568"/>
                      </a:cubicBezTo>
                      <a:lnTo>
                        <a:pt x="80263" y="3975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1905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" name="任意多边形 228"/>
                <p:cNvSpPr/>
                <p:nvPr/>
              </p:nvSpPr>
              <p:spPr>
                <a:xfrm>
                  <a:off x="7297560" y="1134000"/>
                  <a:ext cx="57240" cy="673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123600" h="145526">
                      <a:moveTo>
                        <a:pt x="0" y="0"/>
                      </a:moveTo>
                      <a:lnTo>
                        <a:pt x="45719" y="0"/>
                      </a:lnTo>
                      <a:lnTo>
                        <a:pt x="45719" y="38632"/>
                      </a:lnTo>
                      <a:lnTo>
                        <a:pt x="76655" y="25818"/>
                      </a:lnTo>
                      <a:cubicBezTo>
                        <a:pt x="102582" y="25818"/>
                        <a:pt x="123600" y="46836"/>
                        <a:pt x="123600" y="72763"/>
                      </a:cubicBezTo>
                      <a:cubicBezTo>
                        <a:pt x="123600" y="98690"/>
                        <a:pt x="102582" y="119708"/>
                        <a:pt x="76655" y="119708"/>
                      </a:cubicBezTo>
                      <a:lnTo>
                        <a:pt x="45719" y="106894"/>
                      </a:lnTo>
                      <a:lnTo>
                        <a:pt x="45719" y="145526"/>
                      </a:lnTo>
                      <a:lnTo>
                        <a:pt x="0" y="145526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1905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9" name="组合 1055"/>
              <p:cNvGrpSpPr/>
              <p:nvPr/>
            </p:nvGrpSpPr>
            <p:grpSpPr>
              <a:xfrm>
                <a:off x="7055640" y="1228320"/>
                <a:ext cx="396360" cy="552600"/>
                <a:chOff x="7055640" y="1228320"/>
                <a:chExt cx="396360" cy="552600"/>
              </a:xfrm>
            </p:grpSpPr>
            <p:sp>
              <p:nvSpPr>
                <p:cNvPr id="130" name="椭圆 1052"/>
                <p:cNvSpPr/>
                <p:nvPr/>
              </p:nvSpPr>
              <p:spPr>
                <a:xfrm>
                  <a:off x="7055640" y="1228320"/>
                  <a:ext cx="396360" cy="39636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" name="椭圆 236"/>
                <p:cNvSpPr/>
                <p:nvPr/>
              </p:nvSpPr>
              <p:spPr>
                <a:xfrm>
                  <a:off x="7112520" y="1284840"/>
                  <a:ext cx="282960" cy="282960"/>
                </a:xfrm>
                <a:prstGeom prst="ellipse">
                  <a:avLst/>
                </a:prstGeom>
                <a:solidFill>
                  <a:schemeClr val="bg1"/>
                </a:solidFill>
                <a:ln w="25400">
                  <a:solidFill>
                    <a:srgbClr val="f5466c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" name="椭圆 238"/>
                <p:cNvSpPr/>
                <p:nvPr/>
              </p:nvSpPr>
              <p:spPr>
                <a:xfrm flipH="1">
                  <a:off x="7219800" y="1393200"/>
                  <a:ext cx="66600" cy="66600"/>
                </a:xfrm>
                <a:prstGeom prst="ellipse">
                  <a:avLst/>
                </a:prstGeom>
                <a:solidFill>
                  <a:srgbClr val="f66080"/>
                </a:solidFill>
                <a:ln>
                  <a:solidFill>
                    <a:srgbClr val="f6608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" name="任意多边形 1053"/>
                <p:cNvSpPr/>
                <p:nvPr/>
              </p:nvSpPr>
              <p:spPr>
                <a:xfrm>
                  <a:off x="7240680" y="1411920"/>
                  <a:ext cx="28080" cy="3690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369000"/>
                    <a:gd name="textAreaBottom" fmla="*/ 369360 h 369000"/>
                  </a:gdLst>
                  <a:ahLst/>
                  <a:rect l="textAreaLeft" t="textAreaTop" r="textAreaRight" b="textAreaBottom"/>
                  <a:pathLst>
                    <a:path w="32235" h="419100">
                      <a:moveTo>
                        <a:pt x="0" y="0"/>
                      </a:moveTo>
                      <a:cubicBezTo>
                        <a:pt x="11708" y="5556"/>
                        <a:pt x="23416" y="11113"/>
                        <a:pt x="28575" y="80963"/>
                      </a:cubicBezTo>
                      <a:cubicBezTo>
                        <a:pt x="33734" y="150813"/>
                        <a:pt x="32345" y="284956"/>
                        <a:pt x="30956" y="419100"/>
                      </a:cubicBezTo>
                    </a:path>
                  </a:pathLst>
                </a:custGeom>
                <a:noFill/>
                <a:ln w="57150">
                  <a:solidFill>
                    <a:srgbClr val="f6608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cxnSp>
        <p:nvCxnSpPr>
          <p:cNvPr id="134" name="直接连接符 275"/>
          <p:cNvCxnSpPr>
            <a:endCxn id="119" idx="4"/>
          </p:cNvCxnSpPr>
          <p:nvPr/>
        </p:nvCxnSpPr>
        <p:spPr>
          <a:xfrm flipV="1">
            <a:off x="7246800" y="5270760"/>
            <a:ext cx="360" cy="158760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grpSp>
        <p:nvGrpSpPr>
          <p:cNvPr id="135" name="组合 152"/>
          <p:cNvGrpSpPr/>
          <p:nvPr/>
        </p:nvGrpSpPr>
        <p:grpSpPr>
          <a:xfrm>
            <a:off x="6680880" y="4138200"/>
            <a:ext cx="1132200" cy="1132200"/>
            <a:chOff x="6680880" y="4138200"/>
            <a:chExt cx="1132200" cy="1132200"/>
          </a:xfrm>
        </p:grpSpPr>
        <p:sp>
          <p:nvSpPr>
            <p:cNvPr id="119" name="椭圆 185"/>
            <p:cNvSpPr/>
            <p:nvPr/>
          </p:nvSpPr>
          <p:spPr>
            <a:xfrm>
              <a:off x="6680880" y="4138200"/>
              <a:ext cx="1132200" cy="1132200"/>
            </a:xfrm>
            <a:prstGeom prst="ellipse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36" name="组合 144"/>
            <p:cNvGrpSpPr/>
            <p:nvPr/>
          </p:nvGrpSpPr>
          <p:grpSpPr>
            <a:xfrm>
              <a:off x="6903720" y="4480200"/>
              <a:ext cx="685800" cy="437760"/>
              <a:chOff x="6903720" y="4480200"/>
              <a:chExt cx="685800" cy="437760"/>
            </a:xfrm>
          </p:grpSpPr>
          <p:sp>
            <p:nvSpPr>
              <p:cNvPr id="137" name="矩形 142"/>
              <p:cNvSpPr/>
              <p:nvPr/>
            </p:nvSpPr>
            <p:spPr>
              <a:xfrm>
                <a:off x="6962400" y="4480200"/>
                <a:ext cx="569520" cy="88560"/>
              </a:xfrm>
              <a:prstGeom prst="rect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8" name="矩形 278"/>
              <p:cNvSpPr/>
              <p:nvPr/>
            </p:nvSpPr>
            <p:spPr>
              <a:xfrm>
                <a:off x="6934680" y="4653720"/>
                <a:ext cx="628200" cy="88560"/>
              </a:xfrm>
              <a:prstGeom prst="rect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9" name="梯形 143"/>
              <p:cNvSpPr/>
              <p:nvPr/>
            </p:nvSpPr>
            <p:spPr>
              <a:xfrm>
                <a:off x="6933960" y="4566240"/>
                <a:ext cx="625680" cy="88920"/>
              </a:xfrm>
              <a:prstGeom prst="trapezoid">
                <a:avLst>
                  <a:gd name="adj" fmla="val 31963"/>
                </a:avLst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0" name="梯形 280"/>
              <p:cNvSpPr/>
              <p:nvPr/>
            </p:nvSpPr>
            <p:spPr>
              <a:xfrm>
                <a:off x="6903720" y="4742640"/>
                <a:ext cx="685800" cy="88920"/>
              </a:xfrm>
              <a:prstGeom prst="trapezoid">
                <a:avLst>
                  <a:gd name="adj" fmla="val 31963"/>
                </a:avLst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1" name="矩形 281"/>
              <p:cNvSpPr/>
              <p:nvPr/>
            </p:nvSpPr>
            <p:spPr>
              <a:xfrm>
                <a:off x="6903720" y="4829400"/>
                <a:ext cx="685080" cy="88560"/>
              </a:xfrm>
              <a:prstGeom prst="rect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42" name="组合 3"/>
          <p:cNvGrpSpPr/>
          <p:nvPr/>
        </p:nvGrpSpPr>
        <p:grpSpPr>
          <a:xfrm>
            <a:off x="2324880" y="1001880"/>
            <a:ext cx="553680" cy="4121640"/>
            <a:chOff x="2324880" y="1001880"/>
            <a:chExt cx="553680" cy="4121640"/>
          </a:xfrm>
        </p:grpSpPr>
        <p:sp>
          <p:nvSpPr>
            <p:cNvPr id="143" name="文本框 2"/>
            <p:cNvSpPr/>
            <p:nvPr/>
          </p:nvSpPr>
          <p:spPr>
            <a:xfrm>
              <a:off x="2324880" y="1001880"/>
              <a:ext cx="553680" cy="41216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是否遇到过这样的情况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半闭框 1"/>
            <p:cNvSpPr/>
            <p:nvPr/>
          </p:nvSpPr>
          <p:spPr>
            <a:xfrm>
              <a:off x="2327400" y="100332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5" name="半闭框 50"/>
            <p:cNvSpPr/>
            <p:nvPr/>
          </p:nvSpPr>
          <p:spPr>
            <a:xfrm flipH="1" flipV="1">
              <a:off x="2572560" y="482040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46" name="文本框 179"/>
          <p:cNvSpPr/>
          <p:nvPr/>
        </p:nvSpPr>
        <p:spPr>
          <a:xfrm>
            <a:off x="3728880" y="1134720"/>
            <a:ext cx="248652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两个插孔只能用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89"/>
          <p:cNvSpPr/>
          <p:nvPr/>
        </p:nvSpPr>
        <p:spPr>
          <a:xfrm>
            <a:off x="3724200" y="282456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误以为已打开咖啡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90"/>
          <p:cNvSpPr/>
          <p:nvPr/>
        </p:nvSpPr>
        <p:spPr>
          <a:xfrm>
            <a:off x="3728880" y="441072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轮椅不能上下楼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5"/>
          <p:cNvGrpSpPr/>
          <p:nvPr/>
        </p:nvGrpSpPr>
        <p:grpSpPr>
          <a:xfrm>
            <a:off x="91440" y="60120"/>
            <a:ext cx="1424520" cy="6737760"/>
            <a:chOff x="91440" y="60120"/>
            <a:chExt cx="1424520" cy="6737760"/>
          </a:xfrm>
        </p:grpSpPr>
        <p:sp>
          <p:nvSpPr>
            <p:cNvPr id="150" name="圆角矩形 53"/>
            <p:cNvSpPr/>
            <p:nvPr/>
          </p:nvSpPr>
          <p:spPr>
            <a:xfrm>
              <a:off x="91440" y="60120"/>
              <a:ext cx="1424520" cy="67377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85f6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文本框 54"/>
            <p:cNvSpPr/>
            <p:nvPr/>
          </p:nvSpPr>
          <p:spPr>
            <a:xfrm>
              <a:off x="621360" y="1041840"/>
              <a:ext cx="35568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什么是用户体验设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55"/>
            <p:cNvSpPr/>
            <p:nvPr/>
          </p:nvSpPr>
          <p:spPr>
            <a:xfrm>
              <a:off x="235080" y="5596920"/>
              <a:ext cx="1136880" cy="10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文本框 56"/>
            <p:cNvSpPr/>
            <p:nvPr/>
          </p:nvSpPr>
          <p:spPr>
            <a:xfrm>
              <a:off x="235080" y="5659200"/>
              <a:ext cx="1128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用户体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4"/>
            <p:cNvSpPr/>
            <p:nvPr/>
          </p:nvSpPr>
          <p:spPr>
            <a:xfrm>
              <a:off x="91440" y="387360"/>
              <a:ext cx="1424520" cy="4694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椭圆 52"/>
          <p:cNvSpPr/>
          <p:nvPr/>
        </p:nvSpPr>
        <p:spPr>
          <a:xfrm>
            <a:off x="6994440" y="3214800"/>
            <a:ext cx="96480" cy="964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03" name="直接连接符 18"/>
          <p:cNvCxnSpPr/>
          <p:nvPr/>
        </p:nvCxnSpPr>
        <p:spPr>
          <a:xfrm>
            <a:off x="3421800" y="2968200"/>
            <a:ext cx="360" cy="186984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04" name="直接连接符 22"/>
          <p:cNvCxnSpPr/>
          <p:nvPr/>
        </p:nvCxnSpPr>
        <p:spPr>
          <a:xfrm>
            <a:off x="3417840" y="4837680"/>
            <a:ext cx="70200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05" name="直接连接符 23"/>
          <p:cNvCxnSpPr/>
          <p:nvPr/>
        </p:nvCxnSpPr>
        <p:spPr>
          <a:xfrm>
            <a:off x="5226840" y="4830480"/>
            <a:ext cx="83268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06" name="直接连接符 24"/>
          <p:cNvCxnSpPr/>
          <p:nvPr/>
        </p:nvCxnSpPr>
        <p:spPr>
          <a:xfrm>
            <a:off x="7151040" y="4830480"/>
            <a:ext cx="83268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07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40e4d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8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09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5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交互设计组成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椭圆 26"/>
          <p:cNvSpPr/>
          <p:nvPr/>
        </p:nvSpPr>
        <p:spPr>
          <a:xfrm>
            <a:off x="3950640" y="41191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27"/>
          <p:cNvSpPr/>
          <p:nvPr/>
        </p:nvSpPr>
        <p:spPr>
          <a:xfrm>
            <a:off x="5886720" y="41191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28"/>
          <p:cNvSpPr/>
          <p:nvPr/>
        </p:nvSpPr>
        <p:spPr>
          <a:xfrm>
            <a:off x="7810920" y="41191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5"/>
          <p:cNvSpPr/>
          <p:nvPr/>
        </p:nvSpPr>
        <p:spPr>
          <a:xfrm>
            <a:off x="4741920" y="2030760"/>
            <a:ext cx="455400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如何配合与响应用户的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椭圆 19"/>
          <p:cNvSpPr/>
          <p:nvPr/>
        </p:nvSpPr>
        <p:spPr>
          <a:xfrm>
            <a:off x="412344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念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椭圆 20"/>
          <p:cNvSpPr/>
          <p:nvPr/>
        </p:nvSpPr>
        <p:spPr>
          <a:xfrm>
            <a:off x="60595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应错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椭圆 21"/>
          <p:cNvSpPr/>
          <p:nvPr/>
        </p:nvSpPr>
        <p:spPr>
          <a:xfrm>
            <a:off x="79837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19" name="文本框 25"/>
          <p:cNvSpPr/>
          <p:nvPr/>
        </p:nvSpPr>
        <p:spPr>
          <a:xfrm>
            <a:off x="7954560" y="4475160"/>
            <a:ext cx="1173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直接连接符 29"/>
          <p:cNvCxnSpPr>
            <a:stCxn id="621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22" name="椭圆 30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21" name="椭圆 31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40e4d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4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25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5"/>
          <p:cNvSpPr/>
          <p:nvPr/>
        </p:nvSpPr>
        <p:spPr>
          <a:xfrm>
            <a:off x="621360" y="1703520"/>
            <a:ext cx="355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信息架构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6"/>
          <p:cNvSpPr/>
          <p:nvPr/>
        </p:nvSpPr>
        <p:spPr>
          <a:xfrm>
            <a:off x="4311000" y="4316760"/>
            <a:ext cx="52790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理组织有效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椭圆 29"/>
          <p:cNvSpPr/>
          <p:nvPr/>
        </p:nvSpPr>
        <p:spPr>
          <a:xfrm>
            <a:off x="3950640" y="125280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椭圆 30"/>
          <p:cNvSpPr/>
          <p:nvPr/>
        </p:nvSpPr>
        <p:spPr>
          <a:xfrm>
            <a:off x="5886720" y="125280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31"/>
          <p:cNvSpPr/>
          <p:nvPr/>
        </p:nvSpPr>
        <p:spPr>
          <a:xfrm>
            <a:off x="7820640" y="125280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直接连接符 18"/>
          <p:cNvCxnSpPr/>
          <p:nvPr/>
        </p:nvCxnSpPr>
        <p:spPr>
          <a:xfrm>
            <a:off x="10792440" y="1981080"/>
            <a:ext cx="360" cy="190872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33" name="直接连接符 19"/>
          <p:cNvCxnSpPr>
            <a:stCxn id="634" idx="6"/>
          </p:cNvCxnSpPr>
          <p:nvPr/>
        </p:nvCxnSpPr>
        <p:spPr>
          <a:xfrm>
            <a:off x="9075240" y="1974960"/>
            <a:ext cx="1735920" cy="648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35" name="椭圆 20"/>
          <p:cNvSpPr/>
          <p:nvPr/>
        </p:nvSpPr>
        <p:spPr>
          <a:xfrm>
            <a:off x="412344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适用结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21"/>
          <p:cNvSpPr/>
          <p:nvPr/>
        </p:nvSpPr>
        <p:spPr>
          <a:xfrm>
            <a:off x="605952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4" name="椭圆 22"/>
          <p:cNvSpPr/>
          <p:nvPr/>
        </p:nvSpPr>
        <p:spPr>
          <a:xfrm>
            <a:off x="798372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导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直接连接符 23"/>
          <p:cNvCxnSpPr/>
          <p:nvPr/>
        </p:nvCxnSpPr>
        <p:spPr>
          <a:xfrm>
            <a:off x="5226840" y="1971000"/>
            <a:ext cx="83268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38" name="直接连接符 24"/>
          <p:cNvCxnSpPr/>
          <p:nvPr/>
        </p:nvCxnSpPr>
        <p:spPr>
          <a:xfrm>
            <a:off x="7151040" y="1971000"/>
            <a:ext cx="83268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39" name="文本框 25"/>
          <p:cNvSpPr/>
          <p:nvPr/>
        </p:nvSpPr>
        <p:spPr>
          <a:xfrm>
            <a:off x="6018480" y="1624320"/>
            <a:ext cx="1173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直接连接符 26"/>
          <p:cNvCxnSpPr>
            <a:endCxn id="641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42" name="椭圆 27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41" name="椭圆 28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架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5fd9"/>
            </a:gs>
            <a:gs pos="100000">
              <a:srgbClr val="9e55e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组合 12"/>
          <p:cNvGrpSpPr/>
          <p:nvPr/>
        </p:nvGrpSpPr>
        <p:grpSpPr>
          <a:xfrm>
            <a:off x="1683000" y="905040"/>
            <a:ext cx="8637480" cy="8491320"/>
            <a:chOff x="1683000" y="905040"/>
            <a:chExt cx="8637480" cy="8491320"/>
          </a:xfrm>
        </p:grpSpPr>
        <p:sp>
          <p:nvSpPr>
            <p:cNvPr id="644" name="矩形 13"/>
            <p:cNvSpPr/>
            <p:nvPr/>
          </p:nvSpPr>
          <p:spPr>
            <a:xfrm>
              <a:off x="1688040" y="905040"/>
              <a:ext cx="8632440" cy="8491320"/>
            </a:xfrm>
            <a:prstGeom prst="rect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645" name="直接连接符 16"/>
            <p:cNvCxnSpPr/>
            <p:nvPr/>
          </p:nvCxnSpPr>
          <p:spPr>
            <a:xfrm>
              <a:off x="1683000" y="2858040"/>
              <a:ext cx="863784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cxnSp>
          <p:nvCxnSpPr>
            <p:cNvPr id="646" name="直接连接符 17"/>
            <p:cNvCxnSpPr/>
            <p:nvPr/>
          </p:nvCxnSpPr>
          <p:spPr>
            <a:xfrm>
              <a:off x="3819960" y="2858040"/>
              <a:ext cx="360" cy="653868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</p:grpSp>
      <p:sp>
        <p:nvSpPr>
          <p:cNvPr id="647" name="文本框 18"/>
          <p:cNvSpPr/>
          <p:nvPr/>
        </p:nvSpPr>
        <p:spPr>
          <a:xfrm>
            <a:off x="5564520" y="67356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19"/>
          <p:cNvSpPr/>
          <p:nvPr/>
        </p:nvSpPr>
        <p:spPr>
          <a:xfrm>
            <a:off x="4343400" y="398952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691560" y="6853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50" name="直接连接符 19"/>
          <p:cNvCxnSpPr/>
          <p:nvPr/>
        </p:nvCxnSpPr>
        <p:spPr>
          <a:xfrm>
            <a:off x="6596640" y="4111200"/>
            <a:ext cx="360" cy="52524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51" name="直接连接符 20"/>
          <p:cNvCxnSpPr/>
          <p:nvPr/>
        </p:nvCxnSpPr>
        <p:spPr>
          <a:xfrm>
            <a:off x="6596640" y="6000840"/>
            <a:ext cx="360" cy="1116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52" name="直接连接符 17"/>
          <p:cNvCxnSpPr/>
          <p:nvPr/>
        </p:nvCxnSpPr>
        <p:spPr>
          <a:xfrm>
            <a:off x="6596640" y="2221560"/>
            <a:ext cx="360" cy="52524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53" name="直接连接符 13"/>
          <p:cNvCxnSpPr/>
          <p:nvPr/>
        </p:nvCxnSpPr>
        <p:spPr>
          <a:xfrm>
            <a:off x="6596640" y="-258840"/>
            <a:ext cx="360" cy="111600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654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5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6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5"/>
          <p:cNvSpPr/>
          <p:nvPr/>
        </p:nvSpPr>
        <p:spPr>
          <a:xfrm>
            <a:off x="621360" y="1949760"/>
            <a:ext cx="355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框架层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24"/>
          <p:cNvSpPr/>
          <p:nvPr/>
        </p:nvSpPr>
        <p:spPr>
          <a:xfrm>
            <a:off x="5730840" y="4464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59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15dda"/>
              </a:gs>
              <a:gs pos="100000">
                <a:srgbClr val="a156e0"/>
              </a:gs>
            </a:gsLst>
            <a:lin ang="54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25"/>
          <p:cNvSpPr/>
          <p:nvPr/>
        </p:nvSpPr>
        <p:spPr>
          <a:xfrm>
            <a:off x="5730840" y="2556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61" name="椭圆 26"/>
          <p:cNvSpPr/>
          <p:nvPr/>
        </p:nvSpPr>
        <p:spPr>
          <a:xfrm>
            <a:off x="5730840" y="466524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62" name="椭圆 10"/>
          <p:cNvSpPr/>
          <p:nvPr/>
        </p:nvSpPr>
        <p:spPr>
          <a:xfrm>
            <a:off x="5921640" y="63720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11"/>
          <p:cNvSpPr/>
          <p:nvPr/>
        </p:nvSpPr>
        <p:spPr>
          <a:xfrm>
            <a:off x="5921640" y="2746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2"/>
          <p:cNvSpPr/>
          <p:nvPr/>
        </p:nvSpPr>
        <p:spPr>
          <a:xfrm>
            <a:off x="5921640" y="48560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21"/>
          <p:cNvSpPr/>
          <p:nvPr/>
        </p:nvSpPr>
        <p:spPr>
          <a:xfrm>
            <a:off x="2224080" y="1119600"/>
            <a:ext cx="2990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做某些事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22"/>
          <p:cNvSpPr/>
          <p:nvPr/>
        </p:nvSpPr>
        <p:spPr>
          <a:xfrm>
            <a:off x="8228520" y="3198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去某个地方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23"/>
          <p:cNvSpPr/>
          <p:nvPr/>
        </p:nvSpPr>
        <p:spPr>
          <a:xfrm>
            <a:off x="2080800" y="53384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达想法给用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9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0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5"/>
          <p:cNvSpPr/>
          <p:nvPr/>
        </p:nvSpPr>
        <p:spPr>
          <a:xfrm>
            <a:off x="621360" y="1014120"/>
            <a:ext cx="355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框架层设计遵循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圆角矩形 26"/>
          <p:cNvSpPr/>
          <p:nvPr/>
        </p:nvSpPr>
        <p:spPr>
          <a:xfrm>
            <a:off x="3731040" y="1573200"/>
            <a:ext cx="6895440" cy="697680"/>
          </a:xfrm>
          <a:prstGeom prst="roundRect">
            <a:avLst>
              <a:gd name="adj" fmla="val 33740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74" name="椭圆 27"/>
          <p:cNvSpPr/>
          <p:nvPr/>
        </p:nvSpPr>
        <p:spPr>
          <a:xfrm>
            <a:off x="2879640" y="1266480"/>
            <a:ext cx="1310760" cy="131076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5" name="椭圆 28"/>
          <p:cNvSpPr/>
          <p:nvPr/>
        </p:nvSpPr>
        <p:spPr>
          <a:xfrm>
            <a:off x="2981880" y="1368720"/>
            <a:ext cx="1106280" cy="110628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25"/>
          <p:cNvSpPr/>
          <p:nvPr/>
        </p:nvSpPr>
        <p:spPr>
          <a:xfrm>
            <a:off x="5019840" y="1691280"/>
            <a:ext cx="441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遵循用户日常使用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椭圆 32"/>
          <p:cNvSpPr/>
          <p:nvPr/>
        </p:nvSpPr>
        <p:spPr>
          <a:xfrm>
            <a:off x="2879640" y="3974400"/>
            <a:ext cx="1310760" cy="131076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8" name="圆角矩形 33"/>
          <p:cNvSpPr/>
          <p:nvPr/>
        </p:nvSpPr>
        <p:spPr>
          <a:xfrm>
            <a:off x="3731040" y="4281120"/>
            <a:ext cx="6895440" cy="697680"/>
          </a:xfrm>
          <a:prstGeom prst="roundRect">
            <a:avLst>
              <a:gd name="adj" fmla="val 4105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9" name="椭圆 34"/>
          <p:cNvSpPr/>
          <p:nvPr/>
        </p:nvSpPr>
        <p:spPr>
          <a:xfrm>
            <a:off x="2981880" y="4076640"/>
            <a:ext cx="1106280" cy="110628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1"/>
          <p:cNvSpPr/>
          <p:nvPr/>
        </p:nvSpPr>
        <p:spPr>
          <a:xfrm>
            <a:off x="5019840" y="4399200"/>
            <a:ext cx="441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恰当使用生活中的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1" name="直接连接符 32"/>
          <p:cNvCxnSpPr/>
          <p:nvPr/>
        </p:nvCxnSpPr>
        <p:spPr>
          <a:xfrm>
            <a:off x="6596640" y="2221560"/>
            <a:ext cx="360" cy="401292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82" name="直接连接符 46"/>
          <p:cNvCxnSpPr/>
          <p:nvPr/>
        </p:nvCxnSpPr>
        <p:spPr>
          <a:xfrm>
            <a:off x="5982480" y="4907880"/>
            <a:ext cx="122868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83" name="直接连接符 47"/>
          <p:cNvCxnSpPr/>
          <p:nvPr/>
        </p:nvCxnSpPr>
        <p:spPr>
          <a:xfrm>
            <a:off x="6188400" y="5571000"/>
            <a:ext cx="96156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84" name="直接连接符 48"/>
          <p:cNvCxnSpPr/>
          <p:nvPr/>
        </p:nvCxnSpPr>
        <p:spPr>
          <a:xfrm>
            <a:off x="6188400" y="6234120"/>
            <a:ext cx="96156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685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6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7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5"/>
          <p:cNvSpPr/>
          <p:nvPr/>
        </p:nvSpPr>
        <p:spPr>
          <a:xfrm>
            <a:off x="621360" y="2397960"/>
            <a:ext cx="3556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界面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26"/>
          <p:cNvSpPr/>
          <p:nvPr/>
        </p:nvSpPr>
        <p:spPr>
          <a:xfrm>
            <a:off x="5885640" y="275256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21"/>
          <p:cNvSpPr/>
          <p:nvPr/>
        </p:nvSpPr>
        <p:spPr>
          <a:xfrm>
            <a:off x="2224080" y="1308600"/>
            <a:ext cx="2990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做某些事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34"/>
          <p:cNvSpPr/>
          <p:nvPr/>
        </p:nvSpPr>
        <p:spPr>
          <a:xfrm>
            <a:off x="6058080" y="29196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合适元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5"/>
          <p:cNvSpPr/>
          <p:nvPr/>
        </p:nvSpPr>
        <p:spPr>
          <a:xfrm>
            <a:off x="4819320" y="470952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选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圆角矩形 40"/>
          <p:cNvSpPr/>
          <p:nvPr/>
        </p:nvSpPr>
        <p:spPr>
          <a:xfrm>
            <a:off x="4819320" y="537228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选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圆角矩形 41"/>
          <p:cNvSpPr/>
          <p:nvPr/>
        </p:nvSpPr>
        <p:spPr>
          <a:xfrm>
            <a:off x="4819320" y="603540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圆角矩形 42"/>
          <p:cNvSpPr/>
          <p:nvPr/>
        </p:nvSpPr>
        <p:spPr>
          <a:xfrm>
            <a:off x="7004880" y="470952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拉菜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圆角矩形 43"/>
          <p:cNvSpPr/>
          <p:nvPr/>
        </p:nvSpPr>
        <p:spPr>
          <a:xfrm>
            <a:off x="7004880" y="537228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选菜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圆角矩形 44"/>
          <p:cNvSpPr/>
          <p:nvPr/>
        </p:nvSpPr>
        <p:spPr>
          <a:xfrm>
            <a:off x="7004880" y="603540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直接连接符 23"/>
          <p:cNvCxnSpPr/>
          <p:nvPr/>
        </p:nvCxnSpPr>
        <p:spPr>
          <a:xfrm>
            <a:off x="6596640" y="-258840"/>
            <a:ext cx="360" cy="111600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700" name="椭圆 24"/>
          <p:cNvSpPr/>
          <p:nvPr/>
        </p:nvSpPr>
        <p:spPr>
          <a:xfrm>
            <a:off x="5730840" y="666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1" name="椭圆 25"/>
          <p:cNvSpPr/>
          <p:nvPr/>
        </p:nvSpPr>
        <p:spPr>
          <a:xfrm>
            <a:off x="5921640" y="85680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2" name="直接连接符 51"/>
          <p:cNvCxnSpPr/>
          <p:nvPr/>
        </p:nvCxnSpPr>
        <p:spPr>
          <a:xfrm>
            <a:off x="6596640" y="3465360"/>
            <a:ext cx="360" cy="276912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3" name="直接连接符 59"/>
          <p:cNvCxnSpPr/>
          <p:nvPr/>
        </p:nvCxnSpPr>
        <p:spPr>
          <a:xfrm>
            <a:off x="5982480" y="4907880"/>
            <a:ext cx="122868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4" name="直接连接符 60"/>
          <p:cNvCxnSpPr/>
          <p:nvPr/>
        </p:nvCxnSpPr>
        <p:spPr>
          <a:xfrm>
            <a:off x="6188400" y="5571000"/>
            <a:ext cx="96156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5" name="直接连接符 61"/>
          <p:cNvCxnSpPr/>
          <p:nvPr/>
        </p:nvCxnSpPr>
        <p:spPr>
          <a:xfrm>
            <a:off x="6188400" y="6234120"/>
            <a:ext cx="96156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6" name="直接连接符 30"/>
          <p:cNvCxnSpPr/>
          <p:nvPr/>
        </p:nvCxnSpPr>
        <p:spPr>
          <a:xfrm>
            <a:off x="6603840" y="1412640"/>
            <a:ext cx="360" cy="13341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7" name="直接连接符 45"/>
          <p:cNvCxnSpPr>
            <a:stCxn id="708" idx="1"/>
            <a:endCxn id="709" idx="2"/>
          </p:cNvCxnSpPr>
          <p:nvPr/>
        </p:nvCxnSpPr>
        <p:spPr>
          <a:xfrm flipH="1" flipV="1">
            <a:off x="3423240" y="1639800"/>
            <a:ext cx="2698560" cy="130680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10" name="直接连接符 47"/>
          <p:cNvCxnSpPr>
            <a:stCxn id="708" idx="7"/>
            <a:endCxn id="711" idx="2"/>
          </p:cNvCxnSpPr>
          <p:nvPr/>
        </p:nvCxnSpPr>
        <p:spPr>
          <a:xfrm flipV="1">
            <a:off x="7086240" y="1642320"/>
            <a:ext cx="2785320" cy="130428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712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3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14" name="组合 52"/>
          <p:cNvGrpSpPr/>
          <p:nvPr/>
        </p:nvGrpSpPr>
        <p:grpSpPr>
          <a:xfrm>
            <a:off x="4819320" y="4709520"/>
            <a:ext cx="3554640" cy="1723320"/>
            <a:chOff x="4819320" y="4709520"/>
            <a:chExt cx="3554640" cy="1723320"/>
          </a:xfrm>
        </p:grpSpPr>
        <p:sp>
          <p:nvSpPr>
            <p:cNvPr id="715" name="圆角矩形 53"/>
            <p:cNvSpPr/>
            <p:nvPr/>
          </p:nvSpPr>
          <p:spPr>
            <a:xfrm>
              <a:off x="4819320" y="470952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局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圆角矩形 54"/>
            <p:cNvSpPr/>
            <p:nvPr/>
          </p:nvSpPr>
          <p:spPr>
            <a:xfrm>
              <a:off x="4819320" y="537228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局部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圆角矩形 55"/>
            <p:cNvSpPr/>
            <p:nvPr/>
          </p:nvSpPr>
          <p:spPr>
            <a:xfrm>
              <a:off x="4819320" y="603540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辅助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圆角矩形 56"/>
            <p:cNvSpPr/>
            <p:nvPr/>
          </p:nvSpPr>
          <p:spPr>
            <a:xfrm>
              <a:off x="7004880" y="470952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联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圆角矩形 57"/>
            <p:cNvSpPr/>
            <p:nvPr/>
          </p:nvSpPr>
          <p:spPr>
            <a:xfrm>
              <a:off x="7004880" y="537228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友好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圆角矩形 58"/>
            <p:cNvSpPr/>
            <p:nvPr/>
          </p:nvSpPr>
          <p:spPr>
            <a:xfrm>
              <a:off x="7004880" y="603540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··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椭圆 32"/>
          <p:cNvSpPr/>
          <p:nvPr/>
        </p:nvSpPr>
        <p:spPr>
          <a:xfrm>
            <a:off x="5730840" y="2556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621360" y="964800"/>
            <a:ext cx="355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导航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及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1"/>
          <p:cNvSpPr/>
          <p:nvPr/>
        </p:nvSpPr>
        <p:spPr>
          <a:xfrm>
            <a:off x="5921640" y="2746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2"/>
          <p:cNvSpPr/>
          <p:nvPr/>
        </p:nvSpPr>
        <p:spPr>
          <a:xfrm>
            <a:off x="8228520" y="3198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去某个地方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圆角矩形 26"/>
          <p:cNvSpPr/>
          <p:nvPr/>
        </p:nvSpPr>
        <p:spPr>
          <a:xfrm>
            <a:off x="2451240" y="920160"/>
            <a:ext cx="1943640" cy="7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供网页之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跳转方法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圆角矩形 31"/>
          <p:cNvSpPr/>
          <p:nvPr/>
        </p:nvSpPr>
        <p:spPr>
          <a:xfrm>
            <a:off x="5631840" y="922680"/>
            <a:ext cx="1943640" cy="7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达元素与内容之间的关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圆角矩形 33"/>
          <p:cNvSpPr/>
          <p:nvPr/>
        </p:nvSpPr>
        <p:spPr>
          <a:xfrm>
            <a:off x="8899200" y="922680"/>
            <a:ext cx="1943640" cy="7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达内容与页面之间关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48"/>
          <p:cNvSpPr/>
          <p:nvPr/>
        </p:nvSpPr>
        <p:spPr>
          <a:xfrm>
            <a:off x="4263840" y="740160"/>
            <a:ext cx="359640" cy="35964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49"/>
          <p:cNvSpPr/>
          <p:nvPr/>
        </p:nvSpPr>
        <p:spPr>
          <a:xfrm>
            <a:off x="7441560" y="740160"/>
            <a:ext cx="359640" cy="35964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50"/>
          <p:cNvSpPr/>
          <p:nvPr/>
        </p:nvSpPr>
        <p:spPr>
          <a:xfrm>
            <a:off x="10708920" y="740160"/>
            <a:ext cx="359640" cy="35964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30" name="直接连接符 20"/>
          <p:cNvCxnSpPr/>
          <p:nvPr/>
        </p:nvCxnSpPr>
        <p:spPr>
          <a:xfrm>
            <a:off x="6596640" y="6000840"/>
            <a:ext cx="360" cy="1116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31" name="直接连接符 13"/>
          <p:cNvCxnSpPr/>
          <p:nvPr/>
        </p:nvCxnSpPr>
        <p:spPr>
          <a:xfrm>
            <a:off x="6596640" y="-258840"/>
            <a:ext cx="360" cy="792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732" name="椭圆 12"/>
          <p:cNvSpPr/>
          <p:nvPr/>
        </p:nvSpPr>
        <p:spPr>
          <a:xfrm>
            <a:off x="5517000" y="387360"/>
            <a:ext cx="2174040" cy="594828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4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5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5"/>
          <p:cNvSpPr/>
          <p:nvPr/>
        </p:nvSpPr>
        <p:spPr>
          <a:xfrm>
            <a:off x="621360" y="2196000"/>
            <a:ext cx="3556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信息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10"/>
          <p:cNvSpPr/>
          <p:nvPr/>
        </p:nvSpPr>
        <p:spPr>
          <a:xfrm>
            <a:off x="5921640" y="856800"/>
            <a:ext cx="1364400" cy="136440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椭圆 11"/>
          <p:cNvSpPr/>
          <p:nvPr/>
        </p:nvSpPr>
        <p:spPr>
          <a:xfrm>
            <a:off x="5921640" y="2746440"/>
            <a:ext cx="1364400" cy="136440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21"/>
          <p:cNvSpPr/>
          <p:nvPr/>
        </p:nvSpPr>
        <p:spPr>
          <a:xfrm>
            <a:off x="2224080" y="1308600"/>
            <a:ext cx="2990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做某些事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22"/>
          <p:cNvSpPr/>
          <p:nvPr/>
        </p:nvSpPr>
        <p:spPr>
          <a:xfrm>
            <a:off x="8228520" y="3198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去某个地方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23"/>
          <p:cNvSpPr/>
          <p:nvPr/>
        </p:nvSpPr>
        <p:spPr>
          <a:xfrm>
            <a:off x="2080800" y="511848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达想法给用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2"/>
          <p:cNvSpPr/>
          <p:nvPr/>
        </p:nvSpPr>
        <p:spPr>
          <a:xfrm>
            <a:off x="5803920" y="5087880"/>
            <a:ext cx="1599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88e1"/>
            </a:gs>
            <a:gs pos="100000">
              <a:srgbClr val="f163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组合 7"/>
          <p:cNvGrpSpPr/>
          <p:nvPr/>
        </p:nvGrpSpPr>
        <p:grpSpPr>
          <a:xfrm>
            <a:off x="131400" y="658440"/>
            <a:ext cx="11928600" cy="5541120"/>
            <a:chOff x="131400" y="658440"/>
            <a:chExt cx="11928600" cy="5541120"/>
          </a:xfrm>
        </p:grpSpPr>
        <p:sp>
          <p:nvSpPr>
            <p:cNvPr id="745" name="椭圆 65"/>
            <p:cNvSpPr/>
            <p:nvPr/>
          </p:nvSpPr>
          <p:spPr>
            <a:xfrm>
              <a:off x="131400" y="658440"/>
              <a:ext cx="11928600" cy="5541120"/>
            </a:xfrm>
            <a:custGeom>
              <a:avLst/>
              <a:gdLst>
                <a:gd name="textAreaLeft" fmla="*/ 0 w 11928600"/>
                <a:gd name="textAreaRight" fmla="*/ 11928960 w 11928600"/>
                <a:gd name="textAreaTop" fmla="*/ 0 h 5541120"/>
                <a:gd name="textAreaBottom" fmla="*/ 5541480 h 5541120"/>
              </a:gdLst>
              <a:ahLst/>
              <a:rect l="textAreaLeft" t="textAreaTop" r="textAreaRight" b="textAreaBottom"/>
              <a:pathLst>
                <a:path w="897326" h="416836">
                  <a:moveTo>
                    <a:pt x="0" y="208418"/>
                  </a:moveTo>
                  <a:cubicBezTo>
                    <a:pt x="80962" y="79025"/>
                    <a:pt x="200873" y="0"/>
                    <a:pt x="448663" y="0"/>
                  </a:cubicBezTo>
                  <a:cubicBezTo>
                    <a:pt x="696453" y="0"/>
                    <a:pt x="835413" y="88549"/>
                    <a:pt x="897326" y="208418"/>
                  </a:cubicBezTo>
                  <a:cubicBezTo>
                    <a:pt x="854464" y="318761"/>
                    <a:pt x="696453" y="416836"/>
                    <a:pt x="448663" y="416836"/>
                  </a:cubicBezTo>
                  <a:cubicBezTo>
                    <a:pt x="200873" y="416836"/>
                    <a:pt x="52388" y="328286"/>
                    <a:pt x="0" y="208418"/>
                  </a:cubicBezTo>
                  <a:close/>
                </a:path>
              </a:pathLst>
            </a:cu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6" name="椭圆 9"/>
            <p:cNvSpPr/>
            <p:nvPr/>
          </p:nvSpPr>
          <p:spPr>
            <a:xfrm>
              <a:off x="3675240" y="1008000"/>
              <a:ext cx="4841280" cy="4841280"/>
            </a:xfrm>
            <a:prstGeom prst="ellipse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7" name="椭圆 10"/>
            <p:cNvSpPr/>
            <p:nvPr/>
          </p:nvSpPr>
          <p:spPr>
            <a:xfrm flipH="1">
              <a:off x="5444640" y="2803320"/>
              <a:ext cx="1250640" cy="1250640"/>
            </a:xfrm>
            <a:prstGeom prst="ellipse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748" name="文本框 11"/>
          <p:cNvSpPr/>
          <p:nvPr/>
        </p:nvSpPr>
        <p:spPr>
          <a:xfrm>
            <a:off x="5603040" y="65844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5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14"/>
          <p:cNvSpPr/>
          <p:nvPr/>
        </p:nvSpPr>
        <p:spPr>
          <a:xfrm>
            <a:off x="4350600" y="423720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表现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6fc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1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2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表现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22"/>
          <p:cNvSpPr/>
          <p:nvPr/>
        </p:nvSpPr>
        <p:spPr>
          <a:xfrm>
            <a:off x="5730120" y="2353320"/>
            <a:ext cx="1747080" cy="17470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54" name="文本框 5"/>
          <p:cNvSpPr/>
          <p:nvPr/>
        </p:nvSpPr>
        <p:spPr>
          <a:xfrm>
            <a:off x="621360" y="1949760"/>
            <a:ext cx="355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表现层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56fc8"/>
              </a:gs>
              <a:gs pos="100000">
                <a:srgbClr val="ed55ae"/>
              </a:gs>
            </a:gsLst>
            <a:lin ang="54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11"/>
          <p:cNvSpPr/>
          <p:nvPr/>
        </p:nvSpPr>
        <p:spPr>
          <a:xfrm>
            <a:off x="5921640" y="253656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知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3"/>
          <p:cNvSpPr/>
          <p:nvPr/>
        </p:nvSpPr>
        <p:spPr>
          <a:xfrm>
            <a:off x="4470480" y="1085040"/>
            <a:ext cx="4266720" cy="4266720"/>
          </a:xfrm>
          <a:prstGeom prst="ellipse">
            <a:avLst/>
          </a:pr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58" name="椭圆 23"/>
          <p:cNvSpPr/>
          <p:nvPr/>
        </p:nvSpPr>
        <p:spPr>
          <a:xfrm>
            <a:off x="8021520" y="24595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59" name="椭圆 24"/>
          <p:cNvSpPr/>
          <p:nvPr/>
        </p:nvSpPr>
        <p:spPr>
          <a:xfrm>
            <a:off x="3667680" y="24595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60" name="椭圆 25"/>
          <p:cNvSpPr/>
          <p:nvPr/>
        </p:nvSpPr>
        <p:spPr>
          <a:xfrm>
            <a:off x="5844600" y="45313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61" name="椭圆 20"/>
          <p:cNvSpPr/>
          <p:nvPr/>
        </p:nvSpPr>
        <p:spPr>
          <a:xfrm>
            <a:off x="5844600" y="38736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62" name="椭圆 14"/>
          <p:cNvSpPr/>
          <p:nvPr/>
        </p:nvSpPr>
        <p:spPr>
          <a:xfrm>
            <a:off x="8215560" y="265356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嗅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味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15"/>
          <p:cNvSpPr/>
          <p:nvPr/>
        </p:nvSpPr>
        <p:spPr>
          <a:xfrm>
            <a:off x="6039000" y="58140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椭圆 16"/>
          <p:cNvSpPr/>
          <p:nvPr/>
        </p:nvSpPr>
        <p:spPr>
          <a:xfrm>
            <a:off x="3862080" y="265356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触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17"/>
          <p:cNvSpPr/>
          <p:nvPr/>
        </p:nvSpPr>
        <p:spPr>
          <a:xfrm>
            <a:off x="6039000" y="472572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19"/>
          <p:cNvSpPr/>
          <p:nvPr/>
        </p:nvSpPr>
        <p:spPr>
          <a:xfrm>
            <a:off x="4965120" y="6195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五感角度考虑感知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6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157" name="文本框 179"/>
          <p:cNvSpPr/>
          <p:nvPr/>
        </p:nvSpPr>
        <p:spPr>
          <a:xfrm>
            <a:off x="3739320" y="114048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两个插孔只能用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89"/>
          <p:cNvSpPr/>
          <p:nvPr/>
        </p:nvSpPr>
        <p:spPr>
          <a:xfrm>
            <a:off x="3739320" y="282924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误以为已打开咖啡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0"/>
          <p:cNvSpPr/>
          <p:nvPr/>
        </p:nvSpPr>
        <p:spPr>
          <a:xfrm>
            <a:off x="3739320" y="441612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轮椅不能上下楼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94"/>
          <p:cNvSpPr/>
          <p:nvPr/>
        </p:nvSpPr>
        <p:spPr>
          <a:xfrm>
            <a:off x="8581320" y="114048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改变插孔的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95"/>
          <p:cNvSpPr/>
          <p:nvPr/>
        </p:nvSpPr>
        <p:spPr>
          <a:xfrm>
            <a:off x="8581320" y="2673720"/>
            <a:ext cx="2486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成功开启声音提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开启后点亮指示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6"/>
          <p:cNvSpPr/>
          <p:nvPr/>
        </p:nvSpPr>
        <p:spPr>
          <a:xfrm>
            <a:off x="8581320" y="4262040"/>
            <a:ext cx="2486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增加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宽度足够的斜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7"/>
          <p:cNvGrpSpPr/>
          <p:nvPr/>
        </p:nvGrpSpPr>
        <p:grpSpPr>
          <a:xfrm>
            <a:off x="6691320" y="-170640"/>
            <a:ext cx="1132200" cy="6704640"/>
            <a:chOff x="6691320" y="-170640"/>
            <a:chExt cx="1132200" cy="6704640"/>
          </a:xfrm>
        </p:grpSpPr>
        <p:cxnSp>
          <p:nvCxnSpPr>
            <p:cNvPr id="164" name="直接连接符 1037"/>
            <p:cNvCxnSpPr>
              <a:stCxn id="165" idx="0"/>
            </p:cNvCxnSpPr>
            <p:nvPr/>
          </p:nvCxnSpPr>
          <p:spPr>
            <a:xfrm flipV="1">
              <a:off x="7257600" y="-170640"/>
              <a:ext cx="360" cy="939240"/>
            </a:xfrm>
            <a:prstGeom prst="straightConnector1">
              <a:avLst/>
            </a:prstGeom>
            <a:ln w="38100">
              <a:solidFill>
                <a:srgbClr val="f53f6f"/>
              </a:solidFill>
            </a:ln>
          </p:spPr>
        </p:cxnSp>
        <p:cxnSp>
          <p:nvCxnSpPr>
            <p:cNvPr id="166" name="直接连接符 209"/>
            <p:cNvCxnSpPr>
              <a:stCxn id="167" idx="0"/>
              <a:endCxn id="165" idx="4"/>
            </p:cNvCxnSpPr>
            <p:nvPr/>
          </p:nvCxnSpPr>
          <p:spPr>
            <a:xfrm flipV="1">
              <a:off x="7257240" y="1900800"/>
              <a:ext cx="720" cy="560520"/>
            </a:xfrm>
            <a:prstGeom prst="straightConnector1">
              <a:avLst/>
            </a:prstGeom>
            <a:ln w="38100">
              <a:solidFill>
                <a:srgbClr val="f53f6f"/>
              </a:solidFill>
            </a:ln>
          </p:spPr>
        </p:cxnSp>
        <p:cxnSp>
          <p:nvCxnSpPr>
            <p:cNvPr id="168" name="直接连接符 211"/>
            <p:cNvCxnSpPr>
              <a:stCxn id="167" idx="4"/>
              <a:endCxn id="169" idx="0"/>
            </p:cNvCxnSpPr>
            <p:nvPr/>
          </p:nvCxnSpPr>
          <p:spPr>
            <a:xfrm>
              <a:off x="7257240" y="3593520"/>
              <a:ext cx="360" cy="455400"/>
            </a:xfrm>
            <a:prstGeom prst="straightConnector1">
              <a:avLst/>
            </a:prstGeom>
            <a:ln w="38100">
              <a:solidFill>
                <a:srgbClr val="f53f6f"/>
              </a:solidFill>
            </a:ln>
          </p:spPr>
        </p:cxnSp>
        <p:grpSp>
          <p:nvGrpSpPr>
            <p:cNvPr id="170" name="组合 7"/>
            <p:cNvGrpSpPr/>
            <p:nvPr/>
          </p:nvGrpSpPr>
          <p:grpSpPr>
            <a:xfrm>
              <a:off x="6691320" y="768240"/>
              <a:ext cx="1132200" cy="1132200"/>
              <a:chOff x="6691320" y="768240"/>
              <a:chExt cx="1132200" cy="1132200"/>
            </a:xfrm>
          </p:grpSpPr>
          <p:sp>
            <p:nvSpPr>
              <p:cNvPr id="165" name="椭圆 123"/>
              <p:cNvSpPr/>
              <p:nvPr/>
            </p:nvSpPr>
            <p:spPr>
              <a:xfrm>
                <a:off x="6691320" y="768240"/>
                <a:ext cx="1132200" cy="1132200"/>
              </a:xfrm>
              <a:prstGeom prst="ellipse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3810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71" name="组合 6"/>
              <p:cNvGrpSpPr/>
              <p:nvPr/>
            </p:nvGrpSpPr>
            <p:grpSpPr>
              <a:xfrm>
                <a:off x="6933960" y="1010880"/>
                <a:ext cx="646560" cy="729000"/>
                <a:chOff x="6933960" y="1010880"/>
                <a:chExt cx="646560" cy="729000"/>
              </a:xfrm>
            </p:grpSpPr>
            <p:grpSp>
              <p:nvGrpSpPr>
                <p:cNvPr id="172" name="组合 1051"/>
                <p:cNvGrpSpPr/>
                <p:nvPr/>
              </p:nvGrpSpPr>
              <p:grpSpPr>
                <a:xfrm>
                  <a:off x="6933960" y="1010880"/>
                  <a:ext cx="646560" cy="646560"/>
                  <a:chOff x="6933960" y="1010880"/>
                  <a:chExt cx="646560" cy="646560"/>
                </a:xfrm>
              </p:grpSpPr>
              <p:sp>
                <p:nvSpPr>
                  <p:cNvPr id="173" name="矩形 1050"/>
                  <p:cNvSpPr/>
                  <p:nvPr/>
                </p:nvSpPr>
                <p:spPr>
                  <a:xfrm>
                    <a:off x="6933960" y="1010880"/>
                    <a:ext cx="646560" cy="646560"/>
                  </a:xfrm>
                  <a:prstGeom prst="rect">
                    <a:avLst/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" name="任意多边形 229"/>
                  <p:cNvSpPr/>
                  <p:nvPr/>
                </p:nvSpPr>
                <p:spPr>
                  <a:xfrm>
                    <a:off x="7318800" y="1134000"/>
                    <a:ext cx="58320" cy="67320"/>
                  </a:xfrm>
                  <a:custGeom>
                    <a:avLst/>
                    <a:gdLst>
                      <a:gd name="textAreaLeft" fmla="*/ 0 w 58320"/>
                      <a:gd name="textAreaRight" fmla="*/ 58680 w 58320"/>
                      <a:gd name="textAreaTop" fmla="*/ 0 h 67320"/>
                      <a:gd name="textAreaBottom" fmla="*/ 67680 h 67320"/>
                    </a:gdLst>
                    <a:ahLst/>
                    <a:rect l="textAreaLeft" t="textAreaTop" r="textAreaRight" b="textAreaBottom"/>
                    <a:pathLst>
                      <a:path w="125982" h="145526">
                        <a:moveTo>
                          <a:pt x="80263" y="0"/>
                        </a:moveTo>
                        <a:lnTo>
                          <a:pt x="125982" y="0"/>
                        </a:lnTo>
                        <a:lnTo>
                          <a:pt x="125982" y="145526"/>
                        </a:lnTo>
                        <a:lnTo>
                          <a:pt x="80263" y="145526"/>
                        </a:lnTo>
                        <a:lnTo>
                          <a:pt x="80263" y="105776"/>
                        </a:lnTo>
                        <a:lnTo>
                          <a:pt x="80140" y="105958"/>
                        </a:lnTo>
                        <a:cubicBezTo>
                          <a:pt x="71645" y="114454"/>
                          <a:pt x="59908" y="119708"/>
                          <a:pt x="46945" y="119708"/>
                        </a:cubicBezTo>
                        <a:cubicBezTo>
                          <a:pt x="21018" y="119708"/>
                          <a:pt x="0" y="98690"/>
                          <a:pt x="0" y="72763"/>
                        </a:cubicBezTo>
                        <a:cubicBezTo>
                          <a:pt x="0" y="46836"/>
                          <a:pt x="21018" y="25818"/>
                          <a:pt x="46945" y="25818"/>
                        </a:cubicBezTo>
                        <a:cubicBezTo>
                          <a:pt x="59908" y="25818"/>
                          <a:pt x="71645" y="31073"/>
                          <a:pt x="80140" y="39568"/>
                        </a:cubicBezTo>
                        <a:lnTo>
                          <a:pt x="80263" y="3975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19050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" name="任意多边形 228"/>
                  <p:cNvSpPr/>
                  <p:nvPr/>
                </p:nvSpPr>
                <p:spPr>
                  <a:xfrm>
                    <a:off x="7479360" y="1134000"/>
                    <a:ext cx="57240" cy="673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67320"/>
                      <a:gd name="textAreaBottom" fmla="*/ 67680 h 67320"/>
                    </a:gdLst>
                    <a:ahLst/>
                    <a:rect l="textAreaLeft" t="textAreaTop" r="textAreaRight" b="textAreaBottom"/>
                    <a:pathLst>
                      <a:path w="123600" h="145526">
                        <a:moveTo>
                          <a:pt x="0" y="0"/>
                        </a:moveTo>
                        <a:lnTo>
                          <a:pt x="45719" y="0"/>
                        </a:lnTo>
                        <a:lnTo>
                          <a:pt x="45719" y="38632"/>
                        </a:lnTo>
                        <a:lnTo>
                          <a:pt x="76655" y="25818"/>
                        </a:lnTo>
                        <a:cubicBezTo>
                          <a:pt x="102582" y="25818"/>
                          <a:pt x="123600" y="46836"/>
                          <a:pt x="123600" y="72763"/>
                        </a:cubicBezTo>
                        <a:cubicBezTo>
                          <a:pt x="123600" y="98690"/>
                          <a:pt x="102582" y="119708"/>
                          <a:pt x="76655" y="119708"/>
                        </a:cubicBezTo>
                        <a:lnTo>
                          <a:pt x="45719" y="106894"/>
                        </a:lnTo>
                        <a:lnTo>
                          <a:pt x="45719" y="145526"/>
                        </a:lnTo>
                        <a:lnTo>
                          <a:pt x="0" y="145526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19050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76" name="组合 1055"/>
                <p:cNvGrpSpPr/>
                <p:nvPr/>
              </p:nvGrpSpPr>
              <p:grpSpPr>
                <a:xfrm>
                  <a:off x="7003440" y="1300680"/>
                  <a:ext cx="315000" cy="439200"/>
                  <a:chOff x="7003440" y="1300680"/>
                  <a:chExt cx="315000" cy="439200"/>
                </a:xfrm>
              </p:grpSpPr>
              <p:sp>
                <p:nvSpPr>
                  <p:cNvPr id="177" name="椭圆 1052"/>
                  <p:cNvSpPr/>
                  <p:nvPr/>
                </p:nvSpPr>
                <p:spPr>
                  <a:xfrm>
                    <a:off x="7003440" y="1300680"/>
                    <a:ext cx="315000" cy="3150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椭圆 236"/>
                  <p:cNvSpPr/>
                  <p:nvPr/>
                </p:nvSpPr>
                <p:spPr>
                  <a:xfrm>
                    <a:off x="7048440" y="1345680"/>
                    <a:ext cx="225000" cy="2250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19050">
                    <a:solidFill>
                      <a:srgbClr val="f53f6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椭圆 238"/>
                  <p:cNvSpPr/>
                  <p:nvPr/>
                </p:nvSpPr>
                <p:spPr>
                  <a:xfrm flipH="1">
                    <a:off x="7133760" y="1431720"/>
                    <a:ext cx="52920" cy="52920"/>
                  </a:xfrm>
                  <a:prstGeom prst="ellipse">
                    <a:avLst/>
                  </a:prstGeom>
                  <a:solidFill>
                    <a:schemeClr val="bg1">
                      <a:lumMod val="65000"/>
                    </a:schemeClr>
                  </a:solidFill>
                  <a:ln>
                    <a:solidFill>
                      <a:srgbClr val="f66080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任意多边形 1053"/>
                  <p:cNvSpPr/>
                  <p:nvPr/>
                </p:nvSpPr>
                <p:spPr>
                  <a:xfrm>
                    <a:off x="7150680" y="1446480"/>
                    <a:ext cx="22320" cy="29340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93400"/>
                      <a:gd name="textAreaBottom" fmla="*/ 293760 h 293400"/>
                    </a:gdLst>
                    <a:ahLst/>
                    <a:rect l="textAreaLeft" t="textAreaTop" r="textAreaRight" b="textAreaBottom"/>
                    <a:pathLst>
                      <a:path w="32235" h="419100">
                        <a:moveTo>
                          <a:pt x="0" y="0"/>
                        </a:moveTo>
                        <a:cubicBezTo>
                          <a:pt x="11708" y="5556"/>
                          <a:pt x="23416" y="11113"/>
                          <a:pt x="28575" y="80963"/>
                        </a:cubicBezTo>
                        <a:cubicBezTo>
                          <a:pt x="33734" y="150813"/>
                          <a:pt x="32345" y="284956"/>
                          <a:pt x="30956" y="419100"/>
                        </a:cubicBezTo>
                      </a:path>
                    </a:pathLst>
                  </a:custGeom>
                  <a:noFill/>
                  <a:ln w="57150">
                    <a:solidFill>
                      <a:srgbClr val="f66080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</p:grpSp>
        <p:cxnSp>
          <p:nvCxnSpPr>
            <p:cNvPr id="181" name="直接连接符 275"/>
            <p:cNvCxnSpPr/>
            <p:nvPr/>
          </p:nvCxnSpPr>
          <p:spPr>
            <a:xfrm flipV="1">
              <a:off x="7257600" y="5181120"/>
              <a:ext cx="360" cy="1353240"/>
            </a:xfrm>
            <a:prstGeom prst="straightConnector1">
              <a:avLst/>
            </a:prstGeom>
            <a:ln w="38100">
              <a:solidFill>
                <a:srgbClr val="f53f6f"/>
              </a:solidFill>
            </a:ln>
          </p:spPr>
        </p:cxnSp>
        <p:grpSp>
          <p:nvGrpSpPr>
            <p:cNvPr id="182" name="组合 5"/>
            <p:cNvGrpSpPr/>
            <p:nvPr/>
          </p:nvGrpSpPr>
          <p:grpSpPr>
            <a:xfrm>
              <a:off x="6691320" y="2461320"/>
              <a:ext cx="1132200" cy="1132200"/>
              <a:chOff x="6691320" y="2461320"/>
              <a:chExt cx="1132200" cy="1132200"/>
            </a:xfrm>
          </p:grpSpPr>
          <p:sp>
            <p:nvSpPr>
              <p:cNvPr id="167" name="椭圆 182"/>
              <p:cNvSpPr/>
              <p:nvPr/>
            </p:nvSpPr>
            <p:spPr>
              <a:xfrm>
                <a:off x="6691320" y="2461320"/>
                <a:ext cx="1132200" cy="1132200"/>
              </a:xfrm>
              <a:prstGeom prst="ellipse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3810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83" name="组合 4"/>
              <p:cNvGrpSpPr/>
              <p:nvPr/>
            </p:nvGrpSpPr>
            <p:grpSpPr>
              <a:xfrm>
                <a:off x="6925680" y="2703960"/>
                <a:ext cx="681480" cy="675000"/>
                <a:chOff x="6925680" y="2703960"/>
                <a:chExt cx="681480" cy="675000"/>
              </a:xfrm>
            </p:grpSpPr>
            <p:grpSp>
              <p:nvGrpSpPr>
                <p:cNvPr id="184" name="Group 20"/>
                <p:cNvGrpSpPr/>
                <p:nvPr/>
              </p:nvGrpSpPr>
              <p:grpSpPr>
                <a:xfrm>
                  <a:off x="6925680" y="2703960"/>
                  <a:ext cx="681480" cy="675000"/>
                  <a:chOff x="6925680" y="2703960"/>
                  <a:chExt cx="681480" cy="675000"/>
                </a:xfrm>
              </p:grpSpPr>
              <p:sp>
                <p:nvSpPr>
                  <p:cNvPr id="185" name="Rectangle 21"/>
                  <p:cNvSpPr/>
                  <p:nvPr/>
                </p:nvSpPr>
                <p:spPr>
                  <a:xfrm>
                    <a:off x="7241040" y="2832480"/>
                    <a:ext cx="271080" cy="79200"/>
                  </a:xfrm>
                  <a:prstGeom prst="rect">
                    <a:avLst/>
                  </a:prstGeom>
                  <a:solidFill>
                    <a:schemeClr val="bg1"/>
                  </a:solidFill>
                  <a:ln w="1905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9600" bIns="39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22"/>
                  <p:cNvSpPr/>
                  <p:nvPr/>
                </p:nvSpPr>
                <p:spPr>
                  <a:xfrm>
                    <a:off x="7241040" y="2928600"/>
                    <a:ext cx="366120" cy="283680"/>
                  </a:xfrm>
                  <a:custGeom>
                    <a:avLst/>
                    <a:gdLst>
                      <a:gd name="textAreaLeft" fmla="*/ 0 w 366120"/>
                      <a:gd name="textAreaRight" fmla="*/ 366480 w 366120"/>
                      <a:gd name="textAreaTop" fmla="*/ 0 h 283680"/>
                      <a:gd name="textAreaBottom" fmla="*/ 284040 h 283680"/>
                    </a:gdLst>
                    <a:ahLst/>
                    <a:rect l="textAreaLeft" t="textAreaTop" r="textAreaRight" b="textAreaBottom"/>
                    <a:pathLst>
                      <a:path w="266" h="206">
                        <a:moveTo>
                          <a:pt x="266" y="32"/>
                        </a:moveTo>
                        <a:cubicBezTo>
                          <a:pt x="252" y="32"/>
                          <a:pt x="252" y="32"/>
                          <a:pt x="252" y="32"/>
                        </a:cubicBezTo>
                        <a:cubicBezTo>
                          <a:pt x="197" y="32"/>
                          <a:pt x="197" y="32"/>
                          <a:pt x="197" y="32"/>
                        </a:cubicBezTo>
                        <a:cubicBezTo>
                          <a:pt x="197" y="0"/>
                          <a:pt x="197" y="0"/>
                          <a:pt x="197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206"/>
                          <a:pt x="0" y="206"/>
                          <a:pt x="0" y="206"/>
                        </a:cubicBezTo>
                        <a:cubicBezTo>
                          <a:pt x="197" y="206"/>
                          <a:pt x="197" y="206"/>
                          <a:pt x="197" y="206"/>
                        </a:cubicBezTo>
                        <a:cubicBezTo>
                          <a:pt x="197" y="177"/>
                          <a:pt x="197" y="177"/>
                          <a:pt x="197" y="177"/>
                        </a:cubicBezTo>
                        <a:cubicBezTo>
                          <a:pt x="266" y="177"/>
                          <a:pt x="266" y="177"/>
                          <a:pt x="266" y="177"/>
                        </a:cubicBezTo>
                        <a:lnTo>
                          <a:pt x="266" y="32"/>
                        </a:lnTo>
                        <a:close/>
                        <a:moveTo>
                          <a:pt x="238" y="149"/>
                        </a:moveTo>
                        <a:cubicBezTo>
                          <a:pt x="226" y="149"/>
                          <a:pt x="208" y="149"/>
                          <a:pt x="197" y="149"/>
                        </a:cubicBezTo>
                        <a:cubicBezTo>
                          <a:pt x="197" y="60"/>
                          <a:pt x="197" y="60"/>
                          <a:pt x="197" y="60"/>
                        </a:cubicBezTo>
                        <a:cubicBezTo>
                          <a:pt x="206" y="60"/>
                          <a:pt x="225" y="60"/>
                          <a:pt x="238" y="60"/>
                        </a:cubicBezTo>
                        <a:cubicBezTo>
                          <a:pt x="238" y="79"/>
                          <a:pt x="238" y="130"/>
                          <a:pt x="238" y="149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1905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23"/>
                  <p:cNvSpPr/>
                  <p:nvPr/>
                </p:nvSpPr>
                <p:spPr>
                  <a:xfrm>
                    <a:off x="6925680" y="2703960"/>
                    <a:ext cx="521280" cy="411840"/>
                  </a:xfrm>
                  <a:custGeom>
                    <a:avLst/>
                    <a:gdLst>
                      <a:gd name="textAreaLeft" fmla="*/ 0 w 521280"/>
                      <a:gd name="textAreaRight" fmla="*/ 521640 w 521280"/>
                      <a:gd name="textAreaTop" fmla="*/ 0 h 411840"/>
                      <a:gd name="textAreaBottom" fmla="*/ 412200 h 411840"/>
                    </a:gdLst>
                    <a:ahLst/>
                    <a:rect l="textAreaLeft" t="textAreaTop" r="textAreaRight" b="textAreaBottom"/>
                    <a:pathLst>
                      <a:path w="900" h="711">
                        <a:moveTo>
                          <a:pt x="449" y="136"/>
                        </a:moveTo>
                        <a:lnTo>
                          <a:pt x="900" y="136"/>
                        </a:lnTo>
                        <a:lnTo>
                          <a:pt x="900" y="0"/>
                        </a:lnTo>
                        <a:lnTo>
                          <a:pt x="0" y="0"/>
                        </a:lnTo>
                        <a:lnTo>
                          <a:pt x="0" y="711"/>
                        </a:lnTo>
                        <a:lnTo>
                          <a:pt x="449" y="711"/>
                        </a:lnTo>
                        <a:lnTo>
                          <a:pt x="449" y="136"/>
                        </a:lnTo>
                        <a:close/>
                        <a:moveTo>
                          <a:pt x="283" y="528"/>
                        </a:moveTo>
                        <a:lnTo>
                          <a:pt x="157" y="528"/>
                        </a:lnTo>
                        <a:lnTo>
                          <a:pt x="157" y="500"/>
                        </a:lnTo>
                        <a:lnTo>
                          <a:pt x="283" y="500"/>
                        </a:lnTo>
                        <a:lnTo>
                          <a:pt x="283" y="528"/>
                        </a:lnTo>
                        <a:close/>
                        <a:moveTo>
                          <a:pt x="283" y="421"/>
                        </a:moveTo>
                        <a:lnTo>
                          <a:pt x="157" y="421"/>
                        </a:lnTo>
                        <a:lnTo>
                          <a:pt x="157" y="393"/>
                        </a:lnTo>
                        <a:lnTo>
                          <a:pt x="283" y="393"/>
                        </a:lnTo>
                        <a:lnTo>
                          <a:pt x="283" y="421"/>
                        </a:lnTo>
                        <a:close/>
                        <a:moveTo>
                          <a:pt x="283" y="317"/>
                        </a:moveTo>
                        <a:lnTo>
                          <a:pt x="157" y="317"/>
                        </a:lnTo>
                        <a:lnTo>
                          <a:pt x="157" y="288"/>
                        </a:lnTo>
                        <a:lnTo>
                          <a:pt x="283" y="288"/>
                        </a:lnTo>
                        <a:lnTo>
                          <a:pt x="283" y="317"/>
                        </a:lnTo>
                        <a:close/>
                        <a:moveTo>
                          <a:pt x="283" y="212"/>
                        </a:moveTo>
                        <a:lnTo>
                          <a:pt x="157" y="212"/>
                        </a:lnTo>
                        <a:lnTo>
                          <a:pt x="157" y="184"/>
                        </a:lnTo>
                        <a:lnTo>
                          <a:pt x="283" y="184"/>
                        </a:lnTo>
                        <a:lnTo>
                          <a:pt x="283" y="212"/>
                        </a:lnTo>
                        <a:close/>
                      </a:path>
                    </a:pathLst>
                  </a:custGeom>
                  <a:noFill/>
                  <a:ln w="28575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Freeform 24"/>
                  <p:cNvSpPr/>
                  <p:nvPr/>
                </p:nvSpPr>
                <p:spPr>
                  <a:xfrm>
                    <a:off x="6925680" y="3157920"/>
                    <a:ext cx="641520" cy="221040"/>
                  </a:xfrm>
                  <a:custGeom>
                    <a:avLst/>
                    <a:gdLst>
                      <a:gd name="textAreaLeft" fmla="*/ 0 w 641520"/>
                      <a:gd name="textAreaRight" fmla="*/ 641880 w 641520"/>
                      <a:gd name="textAreaTop" fmla="*/ 0 h 221040"/>
                      <a:gd name="textAreaBottom" fmla="*/ 221400 h 221040"/>
                    </a:gdLst>
                    <a:ahLst/>
                    <a:rect l="textAreaLeft" t="textAreaTop" r="textAreaRight" b="textAreaBottom"/>
                    <a:pathLst>
                      <a:path w="466" h="161">
                        <a:moveTo>
                          <a:pt x="189" y="84"/>
                        </a:moveTo>
                        <a:cubicBezTo>
                          <a:pt x="189" y="0"/>
                          <a:pt x="189" y="0"/>
                          <a:pt x="189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61"/>
                          <a:pt x="0" y="161"/>
                          <a:pt x="0" y="161"/>
                        </a:cubicBezTo>
                        <a:cubicBezTo>
                          <a:pt x="466" y="161"/>
                          <a:pt x="466" y="161"/>
                          <a:pt x="466" y="161"/>
                        </a:cubicBezTo>
                        <a:cubicBezTo>
                          <a:pt x="466" y="84"/>
                          <a:pt x="466" y="84"/>
                          <a:pt x="466" y="84"/>
                        </a:cubicBezTo>
                        <a:lnTo>
                          <a:pt x="189" y="84"/>
                        </a:lnTo>
                        <a:close/>
                        <a:moveTo>
                          <a:pt x="92" y="121"/>
                        </a:moveTo>
                        <a:cubicBezTo>
                          <a:pt x="68" y="121"/>
                          <a:pt x="48" y="101"/>
                          <a:pt x="48" y="76"/>
                        </a:cubicBezTo>
                        <a:cubicBezTo>
                          <a:pt x="48" y="52"/>
                          <a:pt x="68" y="32"/>
                          <a:pt x="92" y="32"/>
                        </a:cubicBezTo>
                        <a:cubicBezTo>
                          <a:pt x="117" y="32"/>
                          <a:pt x="137" y="52"/>
                          <a:pt x="137" y="76"/>
                        </a:cubicBezTo>
                        <a:cubicBezTo>
                          <a:pt x="137" y="101"/>
                          <a:pt x="117" y="121"/>
                          <a:pt x="92" y="121"/>
                        </a:cubicBezTo>
                        <a:close/>
                      </a:path>
                    </a:pathLst>
                  </a:custGeom>
                  <a:noFill/>
                  <a:ln w="28575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Oval 25"/>
                  <p:cNvSpPr/>
                  <p:nvPr/>
                </p:nvSpPr>
                <p:spPr>
                  <a:xfrm>
                    <a:off x="7008840" y="3204000"/>
                    <a:ext cx="88920" cy="89640"/>
                  </a:xfrm>
                  <a:prstGeom prst="ellipse">
                    <a:avLst/>
                  </a:prstGeom>
                  <a:noFill/>
                  <a:ln w="1905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680" bIns="31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0" name="椭圆 1"/>
                <p:cNvSpPr/>
                <p:nvPr/>
              </p:nvSpPr>
              <p:spPr>
                <a:xfrm>
                  <a:off x="7009920" y="3216960"/>
                  <a:ext cx="96480" cy="96480"/>
                </a:xfrm>
                <a:prstGeom prst="ellipse">
                  <a:avLst/>
                </a:prstGeom>
                <a:solidFill>
                  <a:srgbClr val="ff000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1" name="组合 9"/>
            <p:cNvGrpSpPr/>
            <p:nvPr/>
          </p:nvGrpSpPr>
          <p:grpSpPr>
            <a:xfrm>
              <a:off x="6691320" y="4048560"/>
              <a:ext cx="1132200" cy="1132200"/>
              <a:chOff x="6691320" y="4048560"/>
              <a:chExt cx="1132200" cy="1132200"/>
            </a:xfrm>
          </p:grpSpPr>
          <p:sp>
            <p:nvSpPr>
              <p:cNvPr id="169" name="椭圆 185"/>
              <p:cNvSpPr/>
              <p:nvPr/>
            </p:nvSpPr>
            <p:spPr>
              <a:xfrm>
                <a:off x="6691320" y="4048560"/>
                <a:ext cx="1132200" cy="1132200"/>
              </a:xfrm>
              <a:prstGeom prst="ellipse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3810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92" name="组合 8"/>
              <p:cNvGrpSpPr/>
              <p:nvPr/>
            </p:nvGrpSpPr>
            <p:grpSpPr>
              <a:xfrm>
                <a:off x="6914160" y="4385520"/>
                <a:ext cx="685800" cy="462960"/>
                <a:chOff x="6914160" y="4385520"/>
                <a:chExt cx="685800" cy="462960"/>
              </a:xfrm>
            </p:grpSpPr>
            <p:grpSp>
              <p:nvGrpSpPr>
                <p:cNvPr id="193" name="组合 144"/>
                <p:cNvGrpSpPr/>
                <p:nvPr/>
              </p:nvGrpSpPr>
              <p:grpSpPr>
                <a:xfrm>
                  <a:off x="6914160" y="4390560"/>
                  <a:ext cx="685800" cy="439920"/>
                  <a:chOff x="6914160" y="4390560"/>
                  <a:chExt cx="685800" cy="439920"/>
                </a:xfrm>
              </p:grpSpPr>
              <p:sp>
                <p:nvSpPr>
                  <p:cNvPr id="194" name="矩形 142"/>
                  <p:cNvSpPr/>
                  <p:nvPr/>
                </p:nvSpPr>
                <p:spPr>
                  <a:xfrm>
                    <a:off x="6972840" y="4390560"/>
                    <a:ext cx="569520" cy="88560"/>
                  </a:xfrm>
                  <a:prstGeom prst="rect">
                    <a:avLst/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矩形 278"/>
                  <p:cNvSpPr/>
                  <p:nvPr/>
                </p:nvSpPr>
                <p:spPr>
                  <a:xfrm>
                    <a:off x="6945120" y="4564080"/>
                    <a:ext cx="628200" cy="88560"/>
                  </a:xfrm>
                  <a:prstGeom prst="rect">
                    <a:avLst/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梯形 143"/>
                  <p:cNvSpPr/>
                  <p:nvPr/>
                </p:nvSpPr>
                <p:spPr>
                  <a:xfrm>
                    <a:off x="6944400" y="4476600"/>
                    <a:ext cx="625680" cy="88920"/>
                  </a:xfrm>
                  <a:prstGeom prst="trapezoid">
                    <a:avLst>
                      <a:gd name="adj" fmla="val 31963"/>
                    </a:avLst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800" spc="-1" strike="noStrike">
                        <a:solidFill>
                          <a:schemeClr val="lt1"/>
                        </a:solidFill>
                        <a:latin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梯形 280"/>
                  <p:cNvSpPr/>
                  <p:nvPr/>
                </p:nvSpPr>
                <p:spPr>
                  <a:xfrm>
                    <a:off x="6914160" y="4653000"/>
                    <a:ext cx="685800" cy="88920"/>
                  </a:xfrm>
                  <a:prstGeom prst="trapezoid">
                    <a:avLst>
                      <a:gd name="adj" fmla="val 31963"/>
                    </a:avLst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矩形 281"/>
                  <p:cNvSpPr/>
                  <p:nvPr/>
                </p:nvSpPr>
                <p:spPr>
                  <a:xfrm>
                    <a:off x="6914160" y="4741920"/>
                    <a:ext cx="685080" cy="88560"/>
                  </a:xfrm>
                  <a:prstGeom prst="rect">
                    <a:avLst/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9" name="梯形 2"/>
                <p:cNvSpPr/>
                <p:nvPr/>
              </p:nvSpPr>
              <p:spPr>
                <a:xfrm>
                  <a:off x="7161120" y="4385520"/>
                  <a:ext cx="180000" cy="462960"/>
                </a:xfrm>
                <a:prstGeom prst="trapezoid">
                  <a:avLst>
                    <a:gd name="adj" fmla="val 14437"/>
                  </a:avLst>
                </a:prstGeom>
                <a:solidFill>
                  <a:schemeClr val="bg1"/>
                </a:solidFill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00" name="组合 20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201" name="任意多边形 138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文本框 14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用户体验设计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是解决产品使用过程中的难题，让产品变得简单易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54"/>
          <p:cNvGrpSpPr/>
          <p:nvPr/>
        </p:nvGrpSpPr>
        <p:grpSpPr>
          <a:xfrm>
            <a:off x="2324880" y="989640"/>
            <a:ext cx="553680" cy="4133880"/>
            <a:chOff x="2324880" y="989640"/>
            <a:chExt cx="553680" cy="4133880"/>
          </a:xfrm>
        </p:grpSpPr>
        <p:sp>
          <p:nvSpPr>
            <p:cNvPr id="204" name="文本框 55"/>
            <p:cNvSpPr/>
            <p:nvPr/>
          </p:nvSpPr>
          <p:spPr>
            <a:xfrm>
              <a:off x="2324880" y="1001880"/>
              <a:ext cx="553680" cy="41216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而这些其实很好解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半闭框 56"/>
            <p:cNvSpPr/>
            <p:nvPr/>
          </p:nvSpPr>
          <p:spPr>
            <a:xfrm>
              <a:off x="2324880" y="98964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6" name="半闭框 57"/>
            <p:cNvSpPr/>
            <p:nvPr/>
          </p:nvSpPr>
          <p:spPr>
            <a:xfrm flipH="1" flipV="1">
              <a:off x="2574720" y="482292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07" name="组合 74"/>
          <p:cNvGrpSpPr/>
          <p:nvPr/>
        </p:nvGrpSpPr>
        <p:grpSpPr>
          <a:xfrm>
            <a:off x="91440" y="60120"/>
            <a:ext cx="1424520" cy="6737760"/>
            <a:chOff x="91440" y="60120"/>
            <a:chExt cx="1424520" cy="6737760"/>
          </a:xfrm>
        </p:grpSpPr>
        <p:sp>
          <p:nvSpPr>
            <p:cNvPr id="208" name="圆角矩形 75"/>
            <p:cNvSpPr/>
            <p:nvPr/>
          </p:nvSpPr>
          <p:spPr>
            <a:xfrm>
              <a:off x="91440" y="60120"/>
              <a:ext cx="1424520" cy="67377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85f6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文本框 76"/>
            <p:cNvSpPr/>
            <p:nvPr/>
          </p:nvSpPr>
          <p:spPr>
            <a:xfrm>
              <a:off x="621360" y="1041840"/>
              <a:ext cx="35568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什么是用户体验设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圆角矩形 77"/>
            <p:cNvSpPr/>
            <p:nvPr/>
          </p:nvSpPr>
          <p:spPr>
            <a:xfrm>
              <a:off x="235080" y="5596920"/>
              <a:ext cx="1136880" cy="10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358"/>
                </a:gs>
                <a:gs pos="100000">
                  <a:srgbClr val="f86165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文本框 78"/>
            <p:cNvSpPr/>
            <p:nvPr/>
          </p:nvSpPr>
          <p:spPr>
            <a:xfrm>
              <a:off x="235080" y="5659200"/>
              <a:ext cx="1128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用户体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79"/>
            <p:cNvSpPr/>
            <p:nvPr/>
          </p:nvSpPr>
          <p:spPr>
            <a:xfrm>
              <a:off x="91440" y="387360"/>
              <a:ext cx="1424520" cy="4694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86165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6fc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8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9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表现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椭圆 22"/>
          <p:cNvSpPr/>
          <p:nvPr/>
        </p:nvSpPr>
        <p:spPr>
          <a:xfrm>
            <a:off x="5730120" y="2353320"/>
            <a:ext cx="1747080" cy="17470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56fc8"/>
              </a:gs>
              <a:gs pos="100000">
                <a:srgbClr val="ed55ae"/>
              </a:gs>
            </a:gsLst>
            <a:lin ang="54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 11"/>
          <p:cNvSpPr/>
          <p:nvPr/>
        </p:nvSpPr>
        <p:spPr>
          <a:xfrm>
            <a:off x="5921640" y="253656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知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 23"/>
          <p:cNvSpPr/>
          <p:nvPr/>
        </p:nvSpPr>
        <p:spPr>
          <a:xfrm>
            <a:off x="8021520" y="24595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>
                  <a:alpha val="50196"/>
                </a:srgbClr>
              </a:gs>
              <a:gs pos="100000">
                <a:srgbClr val="f163bc">
                  <a:alpha val="50196"/>
                </a:srgbClr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4" name="椭圆 24"/>
          <p:cNvSpPr/>
          <p:nvPr/>
        </p:nvSpPr>
        <p:spPr>
          <a:xfrm>
            <a:off x="3667680" y="24595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>
                  <a:alpha val="50196"/>
                </a:srgbClr>
              </a:gs>
              <a:gs pos="100000">
                <a:srgbClr val="f163bc">
                  <a:alpha val="50196"/>
                </a:srgbClr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5" name="椭圆 25"/>
          <p:cNvSpPr/>
          <p:nvPr/>
        </p:nvSpPr>
        <p:spPr>
          <a:xfrm>
            <a:off x="5844600" y="45313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>
                  <a:alpha val="50196"/>
                </a:srgbClr>
              </a:gs>
              <a:gs pos="100000">
                <a:srgbClr val="f163bc">
                  <a:alpha val="50196"/>
                </a:srgbClr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6" name="椭圆 20"/>
          <p:cNvSpPr/>
          <p:nvPr/>
        </p:nvSpPr>
        <p:spPr>
          <a:xfrm>
            <a:off x="5844600" y="38736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7" name="椭圆 14"/>
          <p:cNvSpPr/>
          <p:nvPr/>
        </p:nvSpPr>
        <p:spPr>
          <a:xfrm>
            <a:off x="8215560" y="2653560"/>
            <a:ext cx="1130040" cy="11300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嗅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味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15"/>
          <p:cNvSpPr/>
          <p:nvPr/>
        </p:nvSpPr>
        <p:spPr>
          <a:xfrm>
            <a:off x="6039000" y="58140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16"/>
          <p:cNvSpPr/>
          <p:nvPr/>
        </p:nvSpPr>
        <p:spPr>
          <a:xfrm>
            <a:off x="3862080" y="2653560"/>
            <a:ext cx="1130040" cy="11300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触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椭圆 17"/>
          <p:cNvSpPr/>
          <p:nvPr/>
        </p:nvSpPr>
        <p:spPr>
          <a:xfrm>
            <a:off x="6039000" y="4725720"/>
            <a:ext cx="1130040" cy="11300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8"/>
          <p:cNvSpPr/>
          <p:nvPr/>
        </p:nvSpPr>
        <p:spPr>
          <a:xfrm>
            <a:off x="621360" y="2187720"/>
            <a:ext cx="3556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忠于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21"/>
          <p:cNvSpPr/>
          <p:nvPr/>
        </p:nvSpPr>
        <p:spPr>
          <a:xfrm>
            <a:off x="4965120" y="6195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知设计主体是视觉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任意多边形 2"/>
          <p:cNvSpPr/>
          <p:nvPr/>
        </p:nvSpPr>
        <p:spPr>
          <a:xfrm>
            <a:off x="7360920" y="1211760"/>
            <a:ext cx="1257120" cy="127224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272240"/>
              <a:gd name="textAreaBottom" fmla="*/ 1272600 h 1272240"/>
            </a:gdLst>
            <a:ahLst/>
            <a:rect l="textAreaLeft" t="textAreaTop" r="textAreaRight" b="textAreaBottom"/>
            <a:pathLst>
              <a:path w="1257300" h="1272540">
                <a:moveTo>
                  <a:pt x="0" y="0"/>
                </a:moveTo>
                <a:cubicBezTo>
                  <a:pt x="647700" y="248920"/>
                  <a:pt x="1059180" y="756920"/>
                  <a:pt x="1257300" y="1272540"/>
                </a:cubicBezTo>
              </a:path>
            </a:pathLst>
          </a:cu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4" name="任意多边形 26"/>
          <p:cNvSpPr/>
          <p:nvPr/>
        </p:nvSpPr>
        <p:spPr>
          <a:xfrm flipH="1">
            <a:off x="4606200" y="1211760"/>
            <a:ext cx="1257120" cy="1272240"/>
          </a:xfrm>
          <a:custGeom>
            <a:avLst/>
            <a:gdLst>
              <a:gd name="textAreaLeft" fmla="*/ 360 w 1257120"/>
              <a:gd name="textAreaRight" fmla="*/ 1257840 w 1257120"/>
              <a:gd name="textAreaTop" fmla="*/ 0 h 1272240"/>
              <a:gd name="textAreaBottom" fmla="*/ 1272600 h 1272240"/>
            </a:gdLst>
            <a:ahLst/>
            <a:rect l="textAreaLeft" t="textAreaTop" r="textAreaRight" b="textAreaBottom"/>
            <a:pathLst>
              <a:path w="1257300" h="1272540">
                <a:moveTo>
                  <a:pt x="0" y="0"/>
                </a:moveTo>
                <a:cubicBezTo>
                  <a:pt x="647700" y="248920"/>
                  <a:pt x="1059180" y="756920"/>
                  <a:pt x="1257300" y="1272540"/>
                </a:cubicBezTo>
              </a:path>
            </a:pathLst>
          </a:cu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5" name="任意多边形 27"/>
          <p:cNvSpPr/>
          <p:nvPr/>
        </p:nvSpPr>
        <p:spPr>
          <a:xfrm flipH="1" flipV="1">
            <a:off x="4606200" y="3953520"/>
            <a:ext cx="1257120" cy="1272240"/>
          </a:xfrm>
          <a:custGeom>
            <a:avLst/>
            <a:gdLst>
              <a:gd name="textAreaLeft" fmla="*/ 360 w 1257120"/>
              <a:gd name="textAreaRight" fmla="*/ 1257840 w 1257120"/>
              <a:gd name="textAreaTop" fmla="*/ 360 h 1272240"/>
              <a:gd name="textAreaBottom" fmla="*/ 1272960 h 1272240"/>
            </a:gdLst>
            <a:ahLst/>
            <a:rect l="textAreaLeft" t="textAreaTop" r="textAreaRight" b="textAreaBottom"/>
            <a:pathLst>
              <a:path w="1257300" h="1272540">
                <a:moveTo>
                  <a:pt x="0" y="0"/>
                </a:moveTo>
                <a:cubicBezTo>
                  <a:pt x="647700" y="248920"/>
                  <a:pt x="1059180" y="756920"/>
                  <a:pt x="1257300" y="1272540"/>
                </a:cubicBezTo>
              </a:path>
            </a:pathLst>
          </a:cu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6" name="任意多边形 30"/>
          <p:cNvSpPr/>
          <p:nvPr/>
        </p:nvSpPr>
        <p:spPr>
          <a:xfrm flipV="1">
            <a:off x="7360920" y="3953520"/>
            <a:ext cx="1257120" cy="1272240"/>
          </a:xfrm>
          <a:custGeom>
            <a:avLst/>
            <a:gdLst>
              <a:gd name="textAreaLeft" fmla="*/ 0 w 1257120"/>
              <a:gd name="textAreaRight" fmla="*/ 1257480 w 1257120"/>
              <a:gd name="textAreaTop" fmla="*/ 360 h 1272240"/>
              <a:gd name="textAreaBottom" fmla="*/ 1272960 h 1272240"/>
            </a:gdLst>
            <a:ahLst/>
            <a:rect l="textAreaLeft" t="textAreaTop" r="textAreaRight" b="textAreaBottom"/>
            <a:pathLst>
              <a:path w="1257300" h="1272540">
                <a:moveTo>
                  <a:pt x="0" y="0"/>
                </a:moveTo>
                <a:cubicBezTo>
                  <a:pt x="647700" y="248920"/>
                  <a:pt x="1059180" y="756920"/>
                  <a:pt x="1257300" y="1272540"/>
                </a:cubicBezTo>
              </a:path>
            </a:pathLst>
          </a:cu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691560" y="6853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88" name="直接连接符 42"/>
          <p:cNvCxnSpPr>
            <a:stCxn id="789" idx="4"/>
            <a:endCxn id="790" idx="0"/>
          </p:cNvCxnSpPr>
          <p:nvPr/>
        </p:nvCxnSpPr>
        <p:spPr>
          <a:xfrm flipH="1">
            <a:off x="3640680" y="1693440"/>
            <a:ext cx="2963520" cy="45396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sp>
        <p:nvSpPr>
          <p:cNvPr id="791" name="椭圆 36"/>
          <p:cNvSpPr/>
          <p:nvPr/>
        </p:nvSpPr>
        <p:spPr>
          <a:xfrm>
            <a:off x="3075840" y="1985400"/>
            <a:ext cx="1128600" cy="11286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792" name="直接连接符 44"/>
          <p:cNvCxnSpPr>
            <a:stCxn id="789" idx="4"/>
            <a:endCxn id="793" idx="0"/>
          </p:cNvCxnSpPr>
          <p:nvPr/>
        </p:nvCxnSpPr>
        <p:spPr>
          <a:xfrm flipH="1">
            <a:off x="5616000" y="1693440"/>
            <a:ext cx="988200" cy="45396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794" name="直接连接符 46"/>
          <p:cNvCxnSpPr>
            <a:stCxn id="789" idx="4"/>
            <a:endCxn id="795" idx="0"/>
          </p:cNvCxnSpPr>
          <p:nvPr/>
        </p:nvCxnSpPr>
        <p:spPr>
          <a:xfrm>
            <a:off x="6603840" y="1693440"/>
            <a:ext cx="988200" cy="45396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796" name="直接连接符 48"/>
          <p:cNvCxnSpPr>
            <a:stCxn id="789" idx="4"/>
            <a:endCxn id="797" idx="0"/>
          </p:cNvCxnSpPr>
          <p:nvPr/>
        </p:nvCxnSpPr>
        <p:spPr>
          <a:xfrm>
            <a:off x="6603840" y="1693440"/>
            <a:ext cx="2963520" cy="45396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sp>
        <p:nvSpPr>
          <p:cNvPr id="798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6fc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9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0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表现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35"/>
          <p:cNvSpPr/>
          <p:nvPr/>
        </p:nvSpPr>
        <p:spPr>
          <a:xfrm>
            <a:off x="5844600" y="38736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02" name="文本框 5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视觉效果处理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15"/>
          <p:cNvSpPr/>
          <p:nvPr/>
        </p:nvSpPr>
        <p:spPr>
          <a:xfrm>
            <a:off x="6039000" y="56340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20"/>
          <p:cNvSpPr/>
          <p:nvPr/>
        </p:nvSpPr>
        <p:spPr>
          <a:xfrm>
            <a:off x="3238560" y="2147400"/>
            <a:ext cx="804240" cy="8042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47"/>
          <p:cNvSpPr/>
          <p:nvPr/>
        </p:nvSpPr>
        <p:spPr>
          <a:xfrm>
            <a:off x="5051160" y="1985400"/>
            <a:ext cx="1128600" cy="11286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05" name="椭圆 49"/>
          <p:cNvSpPr/>
          <p:nvPr/>
        </p:nvSpPr>
        <p:spPr>
          <a:xfrm>
            <a:off x="7021440" y="1985400"/>
            <a:ext cx="1128600" cy="11286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06" name="椭圆 50"/>
          <p:cNvSpPr/>
          <p:nvPr/>
        </p:nvSpPr>
        <p:spPr>
          <a:xfrm>
            <a:off x="9002160" y="1985400"/>
            <a:ext cx="1128600" cy="11286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93" name="椭圆 21"/>
          <p:cNvSpPr/>
          <p:nvPr/>
        </p:nvSpPr>
        <p:spPr>
          <a:xfrm>
            <a:off x="5213880" y="2147400"/>
            <a:ext cx="804240" cy="8042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椭圆 22"/>
          <p:cNvSpPr/>
          <p:nvPr/>
        </p:nvSpPr>
        <p:spPr>
          <a:xfrm>
            <a:off x="7189200" y="2147400"/>
            <a:ext cx="804240" cy="8042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23"/>
          <p:cNvSpPr/>
          <p:nvPr/>
        </p:nvSpPr>
        <p:spPr>
          <a:xfrm>
            <a:off x="9164880" y="2147400"/>
            <a:ext cx="804240" cy="8042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7" name="直接连接符 10"/>
          <p:cNvCxnSpPr>
            <a:stCxn id="790" idx="4"/>
          </p:cNvCxnSpPr>
          <p:nvPr/>
        </p:nvCxnSpPr>
        <p:spPr>
          <a:xfrm>
            <a:off x="3640680" y="2952000"/>
            <a:ext cx="360" cy="252972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808" name="直接连接符 25"/>
          <p:cNvCxnSpPr>
            <a:stCxn id="793" idx="4"/>
          </p:cNvCxnSpPr>
          <p:nvPr/>
        </p:nvCxnSpPr>
        <p:spPr>
          <a:xfrm>
            <a:off x="5616000" y="2952000"/>
            <a:ext cx="360" cy="338400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809" name="直接连接符 27"/>
          <p:cNvCxnSpPr/>
          <p:nvPr/>
        </p:nvCxnSpPr>
        <p:spPr>
          <a:xfrm>
            <a:off x="7590960" y="3067200"/>
            <a:ext cx="360" cy="241452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810" name="直接连接符 28"/>
          <p:cNvCxnSpPr/>
          <p:nvPr/>
        </p:nvCxnSpPr>
        <p:spPr>
          <a:xfrm>
            <a:off x="9565560" y="3067200"/>
            <a:ext cx="360" cy="241452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sp>
        <p:nvSpPr>
          <p:cNvPr id="811" name="圆角矩形 29"/>
          <p:cNvSpPr/>
          <p:nvPr/>
        </p:nvSpPr>
        <p:spPr>
          <a:xfrm>
            <a:off x="2927520" y="4340880"/>
            <a:ext cx="142632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畅的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圆角矩形 30"/>
          <p:cNvSpPr/>
          <p:nvPr/>
        </p:nvSpPr>
        <p:spPr>
          <a:xfrm>
            <a:off x="2927520" y="5163480"/>
            <a:ext cx="142632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导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圆角矩形 31"/>
          <p:cNvSpPr/>
          <p:nvPr/>
        </p:nvSpPr>
        <p:spPr>
          <a:xfrm>
            <a:off x="5097240" y="35182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亲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圆角矩形 32"/>
          <p:cNvSpPr/>
          <p:nvPr/>
        </p:nvSpPr>
        <p:spPr>
          <a:xfrm>
            <a:off x="5097240" y="43408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圆角矩形 33"/>
          <p:cNvSpPr/>
          <p:nvPr/>
        </p:nvSpPr>
        <p:spPr>
          <a:xfrm>
            <a:off x="5097240" y="51634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圆角矩形 34"/>
          <p:cNvSpPr/>
          <p:nvPr/>
        </p:nvSpPr>
        <p:spPr>
          <a:xfrm>
            <a:off x="5097240" y="598572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圆角矩形 37"/>
          <p:cNvSpPr/>
          <p:nvPr/>
        </p:nvSpPr>
        <p:spPr>
          <a:xfrm>
            <a:off x="7072560" y="43408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圆角矩形 38"/>
          <p:cNvSpPr/>
          <p:nvPr/>
        </p:nvSpPr>
        <p:spPr>
          <a:xfrm>
            <a:off x="7072560" y="51634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圆角矩形 39"/>
          <p:cNvSpPr/>
          <p:nvPr/>
        </p:nvSpPr>
        <p:spPr>
          <a:xfrm>
            <a:off x="8940960" y="4340880"/>
            <a:ext cx="124920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线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圆角矩形 40"/>
          <p:cNvSpPr/>
          <p:nvPr/>
        </p:nvSpPr>
        <p:spPr>
          <a:xfrm>
            <a:off x="8940960" y="5163480"/>
            <a:ext cx="124920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指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885b"/>
            </a:gs>
            <a:gs pos="100000">
              <a:srgbClr val="f5426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组合 25"/>
          <p:cNvGrpSpPr/>
          <p:nvPr/>
        </p:nvGrpSpPr>
        <p:grpSpPr>
          <a:xfrm>
            <a:off x="4406760" y="2122920"/>
            <a:ext cx="3377880" cy="1936080"/>
            <a:chOff x="4406760" y="2122920"/>
            <a:chExt cx="3377880" cy="1936080"/>
          </a:xfrm>
        </p:grpSpPr>
        <p:sp>
          <p:nvSpPr>
            <p:cNvPr id="822" name="文本框 3"/>
            <p:cNvSpPr/>
            <p:nvPr/>
          </p:nvSpPr>
          <p:spPr>
            <a:xfrm>
              <a:off x="4406760" y="2327400"/>
              <a:ext cx="33778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谢谢观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文本框 4"/>
            <p:cNvSpPr/>
            <p:nvPr/>
          </p:nvSpPr>
          <p:spPr>
            <a:xfrm>
              <a:off x="4406760" y="3265560"/>
              <a:ext cx="3377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 You</a:t>
              </a: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矩形 5"/>
            <p:cNvSpPr/>
            <p:nvPr/>
          </p:nvSpPr>
          <p:spPr>
            <a:xfrm>
              <a:off x="4406760" y="2122920"/>
              <a:ext cx="3377880" cy="493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5" name="矩形 6"/>
            <p:cNvSpPr/>
            <p:nvPr/>
          </p:nvSpPr>
          <p:spPr>
            <a:xfrm>
              <a:off x="4406760" y="4009680"/>
              <a:ext cx="3377880" cy="493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26" name="组合 24"/>
          <p:cNvGrpSpPr/>
          <p:nvPr/>
        </p:nvGrpSpPr>
        <p:grpSpPr>
          <a:xfrm>
            <a:off x="321120" y="280440"/>
            <a:ext cx="2175480" cy="711720"/>
            <a:chOff x="321120" y="280440"/>
            <a:chExt cx="2175480" cy="711720"/>
          </a:xfrm>
        </p:grpSpPr>
        <p:grpSp>
          <p:nvGrpSpPr>
            <p:cNvPr id="827" name="组合 20"/>
            <p:cNvGrpSpPr/>
            <p:nvPr/>
          </p:nvGrpSpPr>
          <p:grpSpPr>
            <a:xfrm>
              <a:off x="321120" y="280440"/>
              <a:ext cx="473760" cy="507240"/>
              <a:chOff x="321120" y="280440"/>
              <a:chExt cx="473760" cy="507240"/>
            </a:xfrm>
          </p:grpSpPr>
          <p:sp>
            <p:nvSpPr>
              <p:cNvPr id="828" name="任意多边形 15"/>
              <p:cNvSpPr/>
              <p:nvPr/>
            </p:nvSpPr>
            <p:spPr>
              <a:xfrm>
                <a:off x="321120" y="280440"/>
                <a:ext cx="473760" cy="47376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473760"/>
                  <a:gd name="textAreaBottom" fmla="*/ 474120 h 473760"/>
                </a:gdLst>
                <a:ahLst/>
                <a:rect l="textAreaLeft" t="textAreaTop" r="textAreaRight" b="textAreaBottom"/>
                <a:pathLst>
                  <a:path w="796036" h="796036">
                    <a:moveTo>
                      <a:pt x="398018" y="124044"/>
                    </a:moveTo>
                    <a:cubicBezTo>
                      <a:pt x="246706" y="124044"/>
                      <a:pt x="124044" y="246706"/>
                      <a:pt x="124044" y="398018"/>
                    </a:cubicBezTo>
                    <a:cubicBezTo>
                      <a:pt x="124044" y="549330"/>
                      <a:pt x="246706" y="671992"/>
                      <a:pt x="398018" y="671992"/>
                    </a:cubicBezTo>
                    <a:cubicBezTo>
                      <a:pt x="549330" y="671992"/>
                      <a:pt x="671992" y="549330"/>
                      <a:pt x="671992" y="398018"/>
                    </a:cubicBezTo>
                    <a:cubicBezTo>
                      <a:pt x="671992" y="246706"/>
                      <a:pt x="549330" y="124044"/>
                      <a:pt x="398018" y="124044"/>
                    </a:cubicBezTo>
                    <a:close/>
                    <a:moveTo>
                      <a:pt x="398018" y="0"/>
                    </a:moveTo>
                    <a:lnTo>
                      <a:pt x="414230" y="1634"/>
                    </a:lnTo>
                    <a:lnTo>
                      <a:pt x="443506" y="52515"/>
                    </a:lnTo>
                    <a:lnTo>
                      <a:pt x="485540" y="10355"/>
                    </a:lnTo>
                    <a:lnTo>
                      <a:pt x="516430" y="19944"/>
                    </a:lnTo>
                    <a:lnTo>
                      <a:pt x="531377" y="76059"/>
                    </a:lnTo>
                    <a:lnTo>
                      <a:pt x="581718" y="46896"/>
                    </a:lnTo>
                    <a:lnTo>
                      <a:pt x="610250" y="62383"/>
                    </a:lnTo>
                    <a:lnTo>
                      <a:pt x="610162" y="121547"/>
                    </a:lnTo>
                    <a:lnTo>
                      <a:pt x="666936" y="106244"/>
                    </a:lnTo>
                    <a:lnTo>
                      <a:pt x="679459" y="116577"/>
                    </a:lnTo>
                    <a:lnTo>
                      <a:pt x="689792" y="129100"/>
                    </a:lnTo>
                    <a:lnTo>
                      <a:pt x="674489" y="185874"/>
                    </a:lnTo>
                    <a:lnTo>
                      <a:pt x="733654" y="185787"/>
                    </a:lnTo>
                    <a:lnTo>
                      <a:pt x="749140" y="214318"/>
                    </a:lnTo>
                    <a:lnTo>
                      <a:pt x="719977" y="264659"/>
                    </a:lnTo>
                    <a:lnTo>
                      <a:pt x="776093" y="279606"/>
                    </a:lnTo>
                    <a:lnTo>
                      <a:pt x="785681" y="310496"/>
                    </a:lnTo>
                    <a:lnTo>
                      <a:pt x="743521" y="352530"/>
                    </a:lnTo>
                    <a:lnTo>
                      <a:pt x="794402" y="381807"/>
                    </a:lnTo>
                    <a:lnTo>
                      <a:pt x="796036" y="398018"/>
                    </a:lnTo>
                    <a:lnTo>
                      <a:pt x="794402" y="414229"/>
                    </a:lnTo>
                    <a:lnTo>
                      <a:pt x="743521" y="443506"/>
                    </a:lnTo>
                    <a:lnTo>
                      <a:pt x="785681" y="485540"/>
                    </a:lnTo>
                    <a:lnTo>
                      <a:pt x="776093" y="516430"/>
                    </a:lnTo>
                    <a:lnTo>
                      <a:pt x="719977" y="531377"/>
                    </a:lnTo>
                    <a:lnTo>
                      <a:pt x="749140" y="581718"/>
                    </a:lnTo>
                    <a:lnTo>
                      <a:pt x="733654" y="610250"/>
                    </a:lnTo>
                    <a:lnTo>
                      <a:pt x="674489" y="610162"/>
                    </a:lnTo>
                    <a:lnTo>
                      <a:pt x="689792" y="666936"/>
                    </a:lnTo>
                    <a:lnTo>
                      <a:pt x="679459" y="679459"/>
                    </a:lnTo>
                    <a:lnTo>
                      <a:pt x="666936" y="689792"/>
                    </a:lnTo>
                    <a:lnTo>
                      <a:pt x="610162" y="674489"/>
                    </a:lnTo>
                    <a:lnTo>
                      <a:pt x="610250" y="733654"/>
                    </a:lnTo>
                    <a:lnTo>
                      <a:pt x="581718" y="749140"/>
                    </a:lnTo>
                    <a:lnTo>
                      <a:pt x="531377" y="719977"/>
                    </a:lnTo>
                    <a:lnTo>
                      <a:pt x="516430" y="776093"/>
                    </a:lnTo>
                    <a:lnTo>
                      <a:pt x="485540" y="785681"/>
                    </a:lnTo>
                    <a:lnTo>
                      <a:pt x="443506" y="743521"/>
                    </a:lnTo>
                    <a:lnTo>
                      <a:pt x="414230" y="794402"/>
                    </a:lnTo>
                    <a:lnTo>
                      <a:pt x="398018" y="796036"/>
                    </a:lnTo>
                    <a:lnTo>
                      <a:pt x="381807" y="794402"/>
                    </a:lnTo>
                    <a:lnTo>
                      <a:pt x="352530" y="743521"/>
                    </a:lnTo>
                    <a:lnTo>
                      <a:pt x="310496" y="785681"/>
                    </a:lnTo>
                    <a:lnTo>
                      <a:pt x="279606" y="776093"/>
                    </a:lnTo>
                    <a:lnTo>
                      <a:pt x="264659" y="719977"/>
                    </a:lnTo>
                    <a:lnTo>
                      <a:pt x="214318" y="749140"/>
                    </a:lnTo>
                    <a:lnTo>
                      <a:pt x="185787" y="733654"/>
                    </a:lnTo>
                    <a:lnTo>
                      <a:pt x="185874" y="674489"/>
                    </a:lnTo>
                    <a:lnTo>
                      <a:pt x="129101" y="689792"/>
                    </a:lnTo>
                    <a:lnTo>
                      <a:pt x="116577" y="679459"/>
                    </a:lnTo>
                    <a:lnTo>
                      <a:pt x="106244" y="666936"/>
                    </a:lnTo>
                    <a:lnTo>
                      <a:pt x="121547" y="610162"/>
                    </a:lnTo>
                    <a:lnTo>
                      <a:pt x="62383" y="610250"/>
                    </a:lnTo>
                    <a:lnTo>
                      <a:pt x="46896" y="581718"/>
                    </a:lnTo>
                    <a:lnTo>
                      <a:pt x="76059" y="531377"/>
                    </a:lnTo>
                    <a:lnTo>
                      <a:pt x="19944" y="516430"/>
                    </a:lnTo>
                    <a:lnTo>
                      <a:pt x="10355" y="485540"/>
                    </a:lnTo>
                    <a:lnTo>
                      <a:pt x="52515" y="443506"/>
                    </a:lnTo>
                    <a:lnTo>
                      <a:pt x="1635" y="414229"/>
                    </a:lnTo>
                    <a:lnTo>
                      <a:pt x="0" y="398018"/>
                    </a:lnTo>
                    <a:lnTo>
                      <a:pt x="1635" y="381807"/>
                    </a:lnTo>
                    <a:lnTo>
                      <a:pt x="52515" y="352530"/>
                    </a:lnTo>
                    <a:lnTo>
                      <a:pt x="10355" y="310496"/>
                    </a:lnTo>
                    <a:lnTo>
                      <a:pt x="19944" y="279606"/>
                    </a:lnTo>
                    <a:lnTo>
                      <a:pt x="76059" y="264659"/>
                    </a:lnTo>
                    <a:lnTo>
                      <a:pt x="46896" y="214318"/>
                    </a:lnTo>
                    <a:lnTo>
                      <a:pt x="62383" y="185787"/>
                    </a:lnTo>
                    <a:lnTo>
                      <a:pt x="121547" y="185874"/>
                    </a:lnTo>
                    <a:lnTo>
                      <a:pt x="106244" y="129100"/>
                    </a:lnTo>
                    <a:lnTo>
                      <a:pt x="116577" y="116577"/>
                    </a:lnTo>
                    <a:lnTo>
                      <a:pt x="129101" y="106244"/>
                    </a:lnTo>
                    <a:lnTo>
                      <a:pt x="185874" y="121547"/>
                    </a:lnTo>
                    <a:lnTo>
                      <a:pt x="185787" y="62383"/>
                    </a:lnTo>
                    <a:lnTo>
                      <a:pt x="214318" y="46896"/>
                    </a:lnTo>
                    <a:lnTo>
                      <a:pt x="264659" y="76059"/>
                    </a:lnTo>
                    <a:lnTo>
                      <a:pt x="279606" y="19944"/>
                    </a:lnTo>
                    <a:lnTo>
                      <a:pt x="310496" y="10355"/>
                    </a:lnTo>
                    <a:lnTo>
                      <a:pt x="352530" y="52515"/>
                    </a:lnTo>
                    <a:lnTo>
                      <a:pt x="381807" y="16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>
                      <a:alpha val="1000"/>
                    </a:srgbClr>
                  </a:solidFill>
                  <a:latin typeface="Calibri"/>
                </a:endParaRPr>
              </a:p>
            </p:txBody>
          </p:sp>
          <p:sp>
            <p:nvSpPr>
              <p:cNvPr id="829" name="五角星 16"/>
              <p:cNvSpPr/>
              <p:nvPr/>
            </p:nvSpPr>
            <p:spPr>
              <a:xfrm>
                <a:off x="492840" y="452160"/>
                <a:ext cx="130320" cy="130320"/>
              </a:xfrm>
              <a:prstGeom prst="star5">
                <a:avLst>
                  <a:gd name="adj" fmla="val 19098"/>
                  <a:gd name="hf" fmla="val 105146"/>
                  <a:gd name="vf" fmla="val 11055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30" name="组合 19"/>
              <p:cNvGrpSpPr/>
              <p:nvPr/>
            </p:nvGrpSpPr>
            <p:grpSpPr>
              <a:xfrm>
                <a:off x="424440" y="618480"/>
                <a:ext cx="266760" cy="169200"/>
                <a:chOff x="424440" y="618480"/>
                <a:chExt cx="266760" cy="169200"/>
              </a:xfrm>
            </p:grpSpPr>
            <p:sp>
              <p:nvSpPr>
                <p:cNvPr id="831" name="任意多边形 17"/>
                <p:cNvSpPr/>
                <p:nvPr/>
              </p:nvSpPr>
              <p:spPr>
                <a:xfrm>
                  <a:off x="424440" y="618480"/>
                  <a:ext cx="133200" cy="16920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169200"/>
                    <a:gd name="textAreaBottom" fmla="*/ 169560 h 169200"/>
                  </a:gdLst>
                  <a:ahLst/>
                  <a:rect l="textAreaLeft" t="textAreaTop" r="textAreaRight" b="textAreaBottom"/>
                  <a:pathLst>
                    <a:path w="228600" h="290512">
                      <a:moveTo>
                        <a:pt x="33338" y="23812"/>
                      </a:moveTo>
                      <a:cubicBezTo>
                        <a:pt x="24607" y="78581"/>
                        <a:pt x="7144" y="245269"/>
                        <a:pt x="0" y="285750"/>
                      </a:cubicBezTo>
                      <a:cubicBezTo>
                        <a:pt x="33338" y="279400"/>
                        <a:pt x="83741" y="263525"/>
                        <a:pt x="121444" y="264319"/>
                      </a:cubicBezTo>
                      <a:cubicBezTo>
                        <a:pt x="159147" y="265113"/>
                        <a:pt x="195262" y="277019"/>
                        <a:pt x="226218" y="290512"/>
                      </a:cubicBezTo>
                      <a:cubicBezTo>
                        <a:pt x="223837" y="203200"/>
                        <a:pt x="228600" y="57149"/>
                        <a:pt x="228600" y="19050"/>
                      </a:cubicBezTo>
                      <a:cubicBezTo>
                        <a:pt x="198438" y="5556"/>
                        <a:pt x="169069" y="0"/>
                        <a:pt x="138113" y="0"/>
                      </a:cubicBezTo>
                      <a:cubicBezTo>
                        <a:pt x="107157" y="0"/>
                        <a:pt x="77788" y="4762"/>
                        <a:pt x="33338" y="2381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solidFill>
                    <a:srgbClr val="fb875e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2" name="任意多边形 18"/>
                <p:cNvSpPr/>
                <p:nvPr/>
              </p:nvSpPr>
              <p:spPr>
                <a:xfrm flipH="1">
                  <a:off x="558000" y="618480"/>
                  <a:ext cx="133200" cy="169200"/>
                </a:xfrm>
                <a:custGeom>
                  <a:avLst/>
                  <a:gdLst>
                    <a:gd name="textAreaLeft" fmla="*/ 360 w 133200"/>
                    <a:gd name="textAreaRight" fmla="*/ 133920 w 133200"/>
                    <a:gd name="textAreaTop" fmla="*/ 0 h 169200"/>
                    <a:gd name="textAreaBottom" fmla="*/ 169560 h 169200"/>
                  </a:gdLst>
                  <a:ahLst/>
                  <a:rect l="textAreaLeft" t="textAreaTop" r="textAreaRight" b="textAreaBottom"/>
                  <a:pathLst>
                    <a:path w="228600" h="290512">
                      <a:moveTo>
                        <a:pt x="33338" y="23812"/>
                      </a:moveTo>
                      <a:cubicBezTo>
                        <a:pt x="24607" y="78581"/>
                        <a:pt x="7144" y="245269"/>
                        <a:pt x="0" y="285750"/>
                      </a:cubicBezTo>
                      <a:cubicBezTo>
                        <a:pt x="33338" y="279400"/>
                        <a:pt x="83741" y="263525"/>
                        <a:pt x="121444" y="264319"/>
                      </a:cubicBezTo>
                      <a:cubicBezTo>
                        <a:pt x="159147" y="265113"/>
                        <a:pt x="195262" y="277019"/>
                        <a:pt x="226218" y="290512"/>
                      </a:cubicBezTo>
                      <a:cubicBezTo>
                        <a:pt x="223837" y="203200"/>
                        <a:pt x="228600" y="57149"/>
                        <a:pt x="228600" y="19050"/>
                      </a:cubicBezTo>
                      <a:cubicBezTo>
                        <a:pt x="198438" y="5556"/>
                        <a:pt x="169069" y="0"/>
                        <a:pt x="138113" y="0"/>
                      </a:cubicBezTo>
                      <a:cubicBezTo>
                        <a:pt x="107157" y="0"/>
                        <a:pt x="77788" y="4762"/>
                        <a:pt x="33338" y="2381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solidFill>
                    <a:srgbClr val="fb875e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33" name="文本框 21"/>
            <p:cNvSpPr/>
            <p:nvPr/>
          </p:nvSpPr>
          <p:spPr>
            <a:xfrm>
              <a:off x="691560" y="282960"/>
              <a:ext cx="1805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机械工业出版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22"/>
            <p:cNvSpPr/>
            <p:nvPr/>
          </p:nvSpPr>
          <p:spPr>
            <a:xfrm>
              <a:off x="831960" y="572760"/>
              <a:ext cx="1524240" cy="45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5" name="文本框 23"/>
            <p:cNvSpPr/>
            <p:nvPr/>
          </p:nvSpPr>
          <p:spPr>
            <a:xfrm>
              <a:off x="819360" y="582840"/>
              <a:ext cx="15498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China Machine Press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文本框 1"/>
          <p:cNvSpPr/>
          <p:nvPr/>
        </p:nvSpPr>
        <p:spPr>
          <a:xfrm>
            <a:off x="10096560" y="6305400"/>
            <a:ext cx="209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 @candy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3" name="直接连接符 42"/>
          <p:cNvCxnSpPr/>
          <p:nvPr/>
        </p:nvCxnSpPr>
        <p:spPr>
          <a:xfrm flipV="1">
            <a:off x="9420120" y="656280"/>
            <a:ext cx="968760" cy="210852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214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grpSp>
        <p:nvGrpSpPr>
          <p:cNvPr id="215" name="组合 99"/>
          <p:cNvGrpSpPr/>
          <p:nvPr/>
        </p:nvGrpSpPr>
        <p:grpSpPr>
          <a:xfrm>
            <a:off x="3014280" y="5453280"/>
            <a:ext cx="8518680" cy="1160280"/>
            <a:chOff x="3014280" y="5453280"/>
            <a:chExt cx="8518680" cy="1160280"/>
          </a:xfrm>
        </p:grpSpPr>
        <p:sp>
          <p:nvSpPr>
            <p:cNvPr id="216" name="任意多边形 100"/>
            <p:cNvSpPr/>
            <p:nvPr/>
          </p:nvSpPr>
          <p:spPr>
            <a:xfrm>
              <a:off x="3014280" y="545328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文本框 101"/>
            <p:cNvSpPr/>
            <p:nvPr/>
          </p:nvSpPr>
          <p:spPr>
            <a:xfrm>
              <a:off x="3219840" y="602964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用户体验设计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需要兼顾外形和功能设计，同时保证产品能够良好的工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圆角矩形 119"/>
          <p:cNvSpPr/>
          <p:nvPr/>
        </p:nvSpPr>
        <p:spPr>
          <a:xfrm>
            <a:off x="2374200" y="4547520"/>
            <a:ext cx="3304440" cy="65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7596a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9" name="组合 120"/>
          <p:cNvGrpSpPr/>
          <p:nvPr/>
        </p:nvGrpSpPr>
        <p:grpSpPr>
          <a:xfrm>
            <a:off x="2643840" y="4712760"/>
            <a:ext cx="285120" cy="214200"/>
            <a:chOff x="2643840" y="4712760"/>
            <a:chExt cx="285120" cy="214200"/>
          </a:xfrm>
        </p:grpSpPr>
        <p:sp>
          <p:nvSpPr>
            <p:cNvPr id="220" name="等腰三角形 131"/>
            <p:cNvSpPr/>
            <p:nvPr/>
          </p:nvSpPr>
          <p:spPr>
            <a:xfrm>
              <a:off x="2643840" y="4712760"/>
              <a:ext cx="285120" cy="80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矩形 132"/>
            <p:cNvSpPr/>
            <p:nvPr/>
          </p:nvSpPr>
          <p:spPr>
            <a:xfrm>
              <a:off x="2677680" y="4793040"/>
              <a:ext cx="217440" cy="1339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2" name="组合 121"/>
          <p:cNvGrpSpPr/>
          <p:nvPr/>
        </p:nvGrpSpPr>
        <p:grpSpPr>
          <a:xfrm>
            <a:off x="3483000" y="4712040"/>
            <a:ext cx="247320" cy="211680"/>
            <a:chOff x="3483000" y="4712040"/>
            <a:chExt cx="247320" cy="211680"/>
          </a:xfrm>
        </p:grpSpPr>
        <p:sp>
          <p:nvSpPr>
            <p:cNvPr id="223" name="椭圆 129"/>
            <p:cNvSpPr/>
            <p:nvPr/>
          </p:nvSpPr>
          <p:spPr>
            <a:xfrm>
              <a:off x="3540600" y="4712040"/>
              <a:ext cx="132840" cy="1328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任意多边形 130"/>
            <p:cNvSpPr/>
            <p:nvPr/>
          </p:nvSpPr>
          <p:spPr>
            <a:xfrm>
              <a:off x="3483000" y="4845240"/>
              <a:ext cx="247320" cy="78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89162" h="142173">
                  <a:moveTo>
                    <a:pt x="154556" y="0"/>
                  </a:moveTo>
                  <a:lnTo>
                    <a:pt x="225145" y="0"/>
                  </a:lnTo>
                  <a:cubicBezTo>
                    <a:pt x="271523" y="0"/>
                    <a:pt x="315018" y="12791"/>
                    <a:pt x="352530" y="35155"/>
                  </a:cubicBezTo>
                  <a:lnTo>
                    <a:pt x="389162" y="63898"/>
                  </a:lnTo>
                  <a:lnTo>
                    <a:pt x="389162" y="142173"/>
                  </a:lnTo>
                  <a:lnTo>
                    <a:pt x="0" y="142173"/>
                  </a:lnTo>
                  <a:lnTo>
                    <a:pt x="0" y="55695"/>
                  </a:lnTo>
                  <a:lnTo>
                    <a:pt x="66563" y="16101"/>
                  </a:lnTo>
                  <a:cubicBezTo>
                    <a:pt x="94001" y="5685"/>
                    <a:pt x="123638" y="0"/>
                    <a:pt x="154556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5" name="组合 122"/>
          <p:cNvGrpSpPr/>
          <p:nvPr/>
        </p:nvGrpSpPr>
        <p:grpSpPr>
          <a:xfrm>
            <a:off x="4353120" y="4709160"/>
            <a:ext cx="316800" cy="214200"/>
            <a:chOff x="4353120" y="4709160"/>
            <a:chExt cx="316800" cy="214200"/>
          </a:xfrm>
        </p:grpSpPr>
        <p:sp>
          <p:nvSpPr>
            <p:cNvPr id="226" name="等腰三角形 125"/>
            <p:cNvSpPr/>
            <p:nvPr/>
          </p:nvSpPr>
          <p:spPr>
            <a:xfrm rot="16200000">
              <a:off x="4590360" y="4775040"/>
              <a:ext cx="97920" cy="604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任意多边形 126"/>
            <p:cNvSpPr/>
            <p:nvPr/>
          </p:nvSpPr>
          <p:spPr>
            <a:xfrm>
              <a:off x="4353120" y="4817880"/>
              <a:ext cx="316440" cy="10548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403878" h="134734">
                  <a:moveTo>
                    <a:pt x="114478" y="0"/>
                  </a:moveTo>
                  <a:lnTo>
                    <a:pt x="115057" y="0"/>
                  </a:lnTo>
                  <a:lnTo>
                    <a:pt x="196310" y="67569"/>
                  </a:lnTo>
                  <a:cubicBezTo>
                    <a:pt x="200750" y="71575"/>
                    <a:pt x="202695" y="71586"/>
                    <a:pt x="206636" y="67604"/>
                  </a:cubicBezTo>
                  <a:lnTo>
                    <a:pt x="288059" y="0"/>
                  </a:lnTo>
                  <a:lnTo>
                    <a:pt x="289399" y="0"/>
                  </a:lnTo>
                  <a:lnTo>
                    <a:pt x="403878" y="92375"/>
                  </a:lnTo>
                  <a:lnTo>
                    <a:pt x="403878" y="134734"/>
                  </a:lnTo>
                  <a:lnTo>
                    <a:pt x="0" y="134734"/>
                  </a:lnTo>
                  <a:lnTo>
                    <a:pt x="0" y="9237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等腰三角形 127"/>
            <p:cNvSpPr/>
            <p:nvPr/>
          </p:nvSpPr>
          <p:spPr>
            <a:xfrm flipH="1" rot="5400000">
              <a:off x="4334400" y="4775040"/>
              <a:ext cx="97920" cy="604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任意多边形 128"/>
            <p:cNvSpPr/>
            <p:nvPr/>
          </p:nvSpPr>
          <p:spPr>
            <a:xfrm rot="10800000">
              <a:off x="4353480" y="4709160"/>
              <a:ext cx="316440" cy="14508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88597" h="178369">
                  <a:moveTo>
                    <a:pt x="388597" y="178369"/>
                  </a:moveTo>
                  <a:lnTo>
                    <a:pt x="0" y="178369"/>
                  </a:lnTo>
                  <a:lnTo>
                    <a:pt x="0" y="160436"/>
                  </a:lnTo>
                  <a:lnTo>
                    <a:pt x="189779" y="2865"/>
                  </a:lnTo>
                  <a:cubicBezTo>
                    <a:pt x="193571" y="-966"/>
                    <a:pt x="195443" y="-955"/>
                    <a:pt x="199715" y="2899"/>
                  </a:cubicBezTo>
                  <a:lnTo>
                    <a:pt x="388597" y="159972"/>
                  </a:lnTo>
                  <a:lnTo>
                    <a:pt x="388597" y="178369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0" name="十字形 124"/>
          <p:cNvSpPr/>
          <p:nvPr/>
        </p:nvSpPr>
        <p:spPr>
          <a:xfrm>
            <a:off x="5224680" y="4710240"/>
            <a:ext cx="218520" cy="218520"/>
          </a:xfrm>
          <a:prstGeom prst="plus">
            <a:avLst>
              <a:gd name="adj" fmla="val 33889"/>
            </a:avLst>
          </a:prstGeom>
          <a:solidFill>
            <a:schemeClr val="bg1"/>
          </a:solidFill>
          <a:ln>
            <a:noFill/>
          </a:ln>
          <a:effectLst>
            <a:outerShdw algn="ctr" blurRad="1260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文本框 28"/>
          <p:cNvSpPr/>
          <p:nvPr/>
        </p:nvSpPr>
        <p:spPr>
          <a:xfrm>
            <a:off x="2446200" y="4928400"/>
            <a:ext cx="648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34"/>
          <p:cNvSpPr/>
          <p:nvPr/>
        </p:nvSpPr>
        <p:spPr>
          <a:xfrm>
            <a:off x="3276720" y="4928400"/>
            <a:ext cx="648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35"/>
          <p:cNvSpPr/>
          <p:nvPr/>
        </p:nvSpPr>
        <p:spPr>
          <a:xfrm>
            <a:off x="4182840" y="4928400"/>
            <a:ext cx="648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36"/>
          <p:cNvSpPr/>
          <p:nvPr/>
        </p:nvSpPr>
        <p:spPr>
          <a:xfrm>
            <a:off x="5010120" y="4928400"/>
            <a:ext cx="648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4"/>
          <p:cNvGrpSpPr/>
          <p:nvPr/>
        </p:nvGrpSpPr>
        <p:grpSpPr>
          <a:xfrm>
            <a:off x="8917200" y="242280"/>
            <a:ext cx="2810160" cy="558000"/>
            <a:chOff x="8917200" y="242280"/>
            <a:chExt cx="2810160" cy="558000"/>
          </a:xfrm>
        </p:grpSpPr>
        <p:sp>
          <p:nvSpPr>
            <p:cNvPr id="236" name="圆角矩形 18"/>
            <p:cNvSpPr/>
            <p:nvPr/>
          </p:nvSpPr>
          <p:spPr>
            <a:xfrm>
              <a:off x="8917200" y="242280"/>
              <a:ext cx="2810160" cy="55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37" name="组合 21"/>
            <p:cNvGrpSpPr/>
            <p:nvPr/>
          </p:nvGrpSpPr>
          <p:grpSpPr>
            <a:xfrm>
              <a:off x="9077040" y="379800"/>
              <a:ext cx="380520" cy="286560"/>
              <a:chOff x="9077040" y="379800"/>
              <a:chExt cx="380520" cy="286560"/>
            </a:xfrm>
          </p:grpSpPr>
          <p:sp>
            <p:nvSpPr>
              <p:cNvPr id="238" name="等腰三角形 19"/>
              <p:cNvSpPr/>
              <p:nvPr/>
            </p:nvSpPr>
            <p:spPr>
              <a:xfrm>
                <a:off x="9077040" y="379800"/>
                <a:ext cx="380520" cy="1080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" name="矩形 20"/>
              <p:cNvSpPr/>
              <p:nvPr/>
            </p:nvSpPr>
            <p:spPr>
              <a:xfrm>
                <a:off x="9122400" y="487440"/>
                <a:ext cx="290520" cy="1789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0" name="组合 22"/>
            <p:cNvGrpSpPr/>
            <p:nvPr/>
          </p:nvGrpSpPr>
          <p:grpSpPr>
            <a:xfrm>
              <a:off x="9799920" y="379800"/>
              <a:ext cx="330120" cy="283320"/>
              <a:chOff x="9799920" y="379800"/>
              <a:chExt cx="330120" cy="283320"/>
            </a:xfrm>
          </p:grpSpPr>
          <p:sp>
            <p:nvSpPr>
              <p:cNvPr id="241" name="椭圆 106"/>
              <p:cNvSpPr/>
              <p:nvPr/>
            </p:nvSpPr>
            <p:spPr>
              <a:xfrm>
                <a:off x="9876960" y="379800"/>
                <a:ext cx="177480" cy="177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" name="任意多边形 107"/>
              <p:cNvSpPr/>
              <p:nvPr/>
            </p:nvSpPr>
            <p:spPr>
              <a:xfrm>
                <a:off x="9799920" y="558000"/>
                <a:ext cx="330120" cy="1051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389162" h="142173">
                    <a:moveTo>
                      <a:pt x="154556" y="0"/>
                    </a:moveTo>
                    <a:lnTo>
                      <a:pt x="225145" y="0"/>
                    </a:lnTo>
                    <a:cubicBezTo>
                      <a:pt x="271523" y="0"/>
                      <a:pt x="315018" y="12791"/>
                      <a:pt x="352530" y="35155"/>
                    </a:cubicBezTo>
                    <a:lnTo>
                      <a:pt x="389162" y="63898"/>
                    </a:lnTo>
                    <a:lnTo>
                      <a:pt x="389162" y="142173"/>
                    </a:lnTo>
                    <a:lnTo>
                      <a:pt x="0" y="142173"/>
                    </a:lnTo>
                    <a:lnTo>
                      <a:pt x="0" y="55695"/>
                    </a:lnTo>
                    <a:lnTo>
                      <a:pt x="66563" y="16101"/>
                    </a:lnTo>
                    <a:cubicBezTo>
                      <a:pt x="94001" y="5685"/>
                      <a:pt x="123638" y="0"/>
                      <a:pt x="154556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3" name="五角星 29"/>
            <p:cNvSpPr/>
            <p:nvPr/>
          </p:nvSpPr>
          <p:spPr>
            <a:xfrm>
              <a:off x="11269800" y="375120"/>
              <a:ext cx="292680" cy="29268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笑脸 30"/>
            <p:cNvSpPr/>
            <p:nvPr/>
          </p:nvSpPr>
          <p:spPr>
            <a:xfrm>
              <a:off x="10594080" y="375120"/>
              <a:ext cx="288000" cy="288000"/>
            </a:xfrm>
            <a:prstGeom prst="smileyFace">
              <a:avLst>
                <a:gd name="adj" fmla="val 4653"/>
              </a:avLst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椭圆 31"/>
            <p:cNvSpPr/>
            <p:nvPr/>
          </p:nvSpPr>
          <p:spPr>
            <a:xfrm>
              <a:off x="10658880" y="455760"/>
              <a:ext cx="62640" cy="6264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椭圆 140"/>
            <p:cNvSpPr/>
            <p:nvPr/>
          </p:nvSpPr>
          <p:spPr>
            <a:xfrm>
              <a:off x="10764000" y="455760"/>
              <a:ext cx="62640" cy="6264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弧形 33"/>
            <p:cNvSpPr/>
            <p:nvPr/>
          </p:nvSpPr>
          <p:spPr>
            <a:xfrm rot="8100000">
              <a:off x="10626480" y="369360"/>
              <a:ext cx="237600" cy="23760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ffffff">
                  <a:lumMod val="50000"/>
                </a:srgbClr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7"/>
          <p:cNvGrpSpPr/>
          <p:nvPr/>
        </p:nvGrpSpPr>
        <p:grpSpPr>
          <a:xfrm>
            <a:off x="5275440" y="740520"/>
            <a:ext cx="3996720" cy="3996720"/>
            <a:chOff x="5275440" y="740520"/>
            <a:chExt cx="3996720" cy="3996720"/>
          </a:xfrm>
        </p:grpSpPr>
        <p:sp>
          <p:nvSpPr>
            <p:cNvPr id="249" name="椭圆 11"/>
            <p:cNvSpPr/>
            <p:nvPr/>
          </p:nvSpPr>
          <p:spPr>
            <a:xfrm>
              <a:off x="5275440" y="740520"/>
              <a:ext cx="3996720" cy="39967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椭圆 10"/>
            <p:cNvSpPr/>
            <p:nvPr/>
          </p:nvSpPr>
          <p:spPr>
            <a:xfrm>
              <a:off x="5931720" y="1396800"/>
              <a:ext cx="2684160" cy="26841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任意多边形 93"/>
            <p:cNvSpPr/>
            <p:nvPr/>
          </p:nvSpPr>
          <p:spPr>
            <a:xfrm rot="10800000">
              <a:off x="6077160" y="1396800"/>
              <a:ext cx="2394360" cy="943560"/>
            </a:xfrm>
            <a:custGeom>
              <a:avLst/>
              <a:gdLst>
                <a:gd name="textAreaLeft" fmla="*/ 0 w 2394360"/>
                <a:gd name="textAreaRight" fmla="*/ 2394720 w 23943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3008528" h="1185746">
                  <a:moveTo>
                    <a:pt x="1504264" y="1185746"/>
                  </a:moveTo>
                  <a:cubicBezTo>
                    <a:pt x="863948" y="1185746"/>
                    <a:pt x="306982" y="828880"/>
                    <a:pt x="21410" y="303189"/>
                  </a:cubicBezTo>
                  <a:lnTo>
                    <a:pt x="0" y="258743"/>
                  </a:lnTo>
                  <a:lnTo>
                    <a:pt x="287808" y="258743"/>
                  </a:lnTo>
                  <a:lnTo>
                    <a:pt x="503296" y="0"/>
                  </a:lnTo>
                  <a:lnTo>
                    <a:pt x="718784" y="258743"/>
                  </a:lnTo>
                  <a:lnTo>
                    <a:pt x="3008528" y="258743"/>
                  </a:lnTo>
                  <a:lnTo>
                    <a:pt x="2987117" y="303189"/>
                  </a:lnTo>
                  <a:cubicBezTo>
                    <a:pt x="2701545" y="828880"/>
                    <a:pt x="2144580" y="1185746"/>
                    <a:pt x="1504264" y="1185746"/>
                  </a:cubicBez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文本框 14"/>
            <p:cNvSpPr/>
            <p:nvPr/>
          </p:nvSpPr>
          <p:spPr>
            <a:xfrm>
              <a:off x="6565320" y="1590480"/>
              <a:ext cx="14173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产品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97"/>
            <p:cNvSpPr/>
            <p:nvPr/>
          </p:nvSpPr>
          <p:spPr>
            <a:xfrm>
              <a:off x="6253920" y="922320"/>
              <a:ext cx="2040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用户体验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6"/>
            <p:cNvSpPr/>
            <p:nvPr/>
          </p:nvSpPr>
          <p:spPr>
            <a:xfrm>
              <a:off x="6748920" y="2520000"/>
              <a:ext cx="10497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外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98"/>
            <p:cNvSpPr/>
            <p:nvPr/>
          </p:nvSpPr>
          <p:spPr>
            <a:xfrm>
              <a:off x="6396840" y="4165560"/>
              <a:ext cx="1753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用户使用感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椭圆 48"/>
          <p:cNvSpPr/>
          <p:nvPr/>
        </p:nvSpPr>
        <p:spPr>
          <a:xfrm>
            <a:off x="8559000" y="2696040"/>
            <a:ext cx="114120" cy="11412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7596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57" name="直接连接符 165"/>
          <p:cNvCxnSpPr/>
          <p:nvPr/>
        </p:nvCxnSpPr>
        <p:spPr>
          <a:xfrm flipH="1">
            <a:off x="4937400" y="2738880"/>
            <a:ext cx="322560" cy="36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258" name="直接连接符 167"/>
          <p:cNvCxnSpPr/>
          <p:nvPr/>
        </p:nvCxnSpPr>
        <p:spPr>
          <a:xfrm flipH="1">
            <a:off x="4026600" y="2726640"/>
            <a:ext cx="926280" cy="182124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sp>
        <p:nvSpPr>
          <p:cNvPr id="259" name="椭圆 169"/>
          <p:cNvSpPr/>
          <p:nvPr/>
        </p:nvSpPr>
        <p:spPr>
          <a:xfrm>
            <a:off x="5216040" y="2681280"/>
            <a:ext cx="114120" cy="11412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7596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60" name="直接连接符 1030"/>
          <p:cNvCxnSpPr/>
          <p:nvPr/>
        </p:nvCxnSpPr>
        <p:spPr>
          <a:xfrm>
            <a:off x="8669520" y="2756160"/>
            <a:ext cx="767160" cy="36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sp>
        <p:nvSpPr>
          <p:cNvPr id="261" name="文本框 1035"/>
          <p:cNvSpPr/>
          <p:nvPr/>
        </p:nvSpPr>
        <p:spPr>
          <a:xfrm>
            <a:off x="10054800" y="968400"/>
            <a:ext cx="1927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但不知所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86"/>
          <p:cNvSpPr/>
          <p:nvPr/>
        </p:nvSpPr>
        <p:spPr>
          <a:xfrm>
            <a:off x="2312640" y="3660480"/>
            <a:ext cx="1927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美观欠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但更易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61"/>
          <p:cNvGrpSpPr/>
          <p:nvPr/>
        </p:nvGrpSpPr>
        <p:grpSpPr>
          <a:xfrm>
            <a:off x="91440" y="60120"/>
            <a:ext cx="1424520" cy="6737760"/>
            <a:chOff x="91440" y="60120"/>
            <a:chExt cx="1424520" cy="6737760"/>
          </a:xfrm>
        </p:grpSpPr>
        <p:sp>
          <p:nvSpPr>
            <p:cNvPr id="264" name="圆角矩形 62"/>
            <p:cNvSpPr/>
            <p:nvPr/>
          </p:nvSpPr>
          <p:spPr>
            <a:xfrm>
              <a:off x="91440" y="60120"/>
              <a:ext cx="1424520" cy="67377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8606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文本框 63"/>
            <p:cNvSpPr/>
            <p:nvPr/>
          </p:nvSpPr>
          <p:spPr>
            <a:xfrm>
              <a:off x="621360" y="1041840"/>
              <a:ext cx="35568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什么是用户体验设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64"/>
            <p:cNvSpPr/>
            <p:nvPr/>
          </p:nvSpPr>
          <p:spPr>
            <a:xfrm>
              <a:off x="235080" y="5596920"/>
              <a:ext cx="1136880" cy="10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358"/>
                </a:gs>
                <a:gs pos="100000">
                  <a:srgbClr val="f86165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文本框 65"/>
            <p:cNvSpPr/>
            <p:nvPr/>
          </p:nvSpPr>
          <p:spPr>
            <a:xfrm>
              <a:off x="235080" y="5659200"/>
              <a:ext cx="1128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用户体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66"/>
            <p:cNvSpPr/>
            <p:nvPr/>
          </p:nvSpPr>
          <p:spPr>
            <a:xfrm>
              <a:off x="91440" y="387360"/>
              <a:ext cx="1424520" cy="4694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86165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9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grpSp>
        <p:nvGrpSpPr>
          <p:cNvPr id="270" name="组合 99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271" name="任意多边形 100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文本框 101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户体验设计的好坏会</a:t>
              </a: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影响用户的忠诚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圆角矩形 1"/>
          <p:cNvSpPr/>
          <p:nvPr/>
        </p:nvSpPr>
        <p:spPr>
          <a:xfrm>
            <a:off x="3950640" y="32508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网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58"/>
          <p:cNvSpPr/>
          <p:nvPr/>
        </p:nvSpPr>
        <p:spPr>
          <a:xfrm>
            <a:off x="3950640" y="118908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一个栏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直接箭头连接符 3"/>
          <p:cNvCxnSpPr/>
          <p:nvPr/>
        </p:nvCxnSpPr>
        <p:spPr>
          <a:xfrm>
            <a:off x="4990680" y="813600"/>
            <a:ext cx="360" cy="37584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cxnSp>
        <p:nvCxnSpPr>
          <p:cNvPr id="276" name="肘形连接符 75"/>
          <p:cNvCxnSpPr/>
          <p:nvPr/>
        </p:nvCxnSpPr>
        <p:spPr>
          <a:xfrm>
            <a:off x="6070680" y="3013560"/>
            <a:ext cx="1411560" cy="694440"/>
          </a:xfrm>
          <a:prstGeom prst="bentConnector2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277" name="圆角矩形 82"/>
          <p:cNvSpPr/>
          <p:nvPr/>
        </p:nvSpPr>
        <p:spPr>
          <a:xfrm>
            <a:off x="3950640" y="200268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看它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直接箭头连接符 83"/>
          <p:cNvCxnSpPr/>
          <p:nvPr/>
        </p:nvCxnSpPr>
        <p:spPr>
          <a:xfrm>
            <a:off x="4990680" y="1642320"/>
            <a:ext cx="360" cy="37584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cxnSp>
        <p:nvCxnSpPr>
          <p:cNvPr id="279" name="直接箭头连接符 84"/>
          <p:cNvCxnSpPr/>
          <p:nvPr/>
        </p:nvCxnSpPr>
        <p:spPr>
          <a:xfrm>
            <a:off x="4990680" y="2463480"/>
            <a:ext cx="360" cy="37584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280" name="圆角矩形 85"/>
          <p:cNvSpPr/>
          <p:nvPr/>
        </p:nvSpPr>
        <p:spPr>
          <a:xfrm>
            <a:off x="3950640" y="281592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直接箭头连接符 86"/>
          <p:cNvCxnSpPr/>
          <p:nvPr/>
        </p:nvCxnSpPr>
        <p:spPr>
          <a:xfrm>
            <a:off x="4990680" y="3292200"/>
            <a:ext cx="360" cy="65340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282" name="圆角矩形 88"/>
          <p:cNvSpPr/>
          <p:nvPr/>
        </p:nvSpPr>
        <p:spPr>
          <a:xfrm>
            <a:off x="3950640" y="393012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开心地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38"/>
          <p:cNvSpPr/>
          <p:nvPr/>
        </p:nvSpPr>
        <p:spPr>
          <a:xfrm>
            <a:off x="4772880" y="3383280"/>
            <a:ext cx="428400" cy="333000"/>
          </a:xfrm>
          <a:prstGeom prst="rect">
            <a:avLst/>
          </a:prstGeom>
          <a:pattFill prst="lgGrid">
            <a:fgClr>
              <a:srgbClr val="d9d9d9"/>
            </a:fgClr>
            <a:bgClr>
              <a:srgbClr val="ffffff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02"/>
          <p:cNvSpPr/>
          <p:nvPr/>
        </p:nvSpPr>
        <p:spPr>
          <a:xfrm>
            <a:off x="7267680" y="3133800"/>
            <a:ext cx="428400" cy="333000"/>
          </a:xfrm>
          <a:prstGeom prst="rect">
            <a:avLst/>
          </a:prstGeom>
          <a:pattFill prst="lgGrid">
            <a:fgClr>
              <a:srgbClr val="d9d9d9"/>
            </a:fgClr>
            <a:bgClr>
              <a:srgbClr val="ffffff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55"/>
          <p:cNvSpPr/>
          <p:nvPr/>
        </p:nvSpPr>
        <p:spPr>
          <a:xfrm>
            <a:off x="6594120" y="3721680"/>
            <a:ext cx="177516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彻底绝望了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肘形连接符 104"/>
          <p:cNvCxnSpPr/>
          <p:nvPr/>
        </p:nvCxnSpPr>
        <p:spPr>
          <a:xfrm rot="10800000">
            <a:off x="6070320" y="1423080"/>
            <a:ext cx="3052080" cy="649800"/>
          </a:xfrm>
          <a:prstGeom prst="bentConnector2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cxnSp>
        <p:nvCxnSpPr>
          <p:cNvPr id="287" name="直接连接符 71"/>
          <p:cNvCxnSpPr/>
          <p:nvPr/>
        </p:nvCxnSpPr>
        <p:spPr>
          <a:xfrm>
            <a:off x="9103320" y="1949400"/>
            <a:ext cx="360" cy="201564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288" name="直接连接符 95"/>
          <p:cNvCxnSpPr/>
          <p:nvPr/>
        </p:nvCxnSpPr>
        <p:spPr>
          <a:xfrm>
            <a:off x="8369640" y="3964680"/>
            <a:ext cx="753120" cy="36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sp>
        <p:nvSpPr>
          <p:cNvPr id="289" name="文本框 133"/>
          <p:cNvSpPr/>
          <p:nvPr/>
        </p:nvSpPr>
        <p:spPr>
          <a:xfrm>
            <a:off x="8889120" y="2237760"/>
            <a:ext cx="428400" cy="576360"/>
          </a:xfrm>
          <a:prstGeom prst="rect">
            <a:avLst/>
          </a:prstGeom>
          <a:pattFill prst="lgGrid">
            <a:fgClr>
              <a:srgbClr val="d9d9d9"/>
            </a:fgClr>
            <a:bgClr>
              <a:srgbClr val="ffffff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没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137"/>
          <p:cNvCxnSpPr/>
          <p:nvPr/>
        </p:nvCxnSpPr>
        <p:spPr>
          <a:xfrm>
            <a:off x="7485120" y="4197240"/>
            <a:ext cx="360" cy="653400"/>
          </a:xfrm>
          <a:prstGeom prst="straightConnector1">
            <a:avLst/>
          </a:prstGeom>
          <a:ln w="38100">
            <a:solidFill>
              <a:srgbClr val="000000"/>
            </a:solidFill>
            <a:tailEnd len="med" type="triangle" w="med"/>
          </a:ln>
        </p:spPr>
      </p:cxnSp>
      <p:sp>
        <p:nvSpPr>
          <p:cNvPr id="291" name="文本框 138"/>
          <p:cNvSpPr/>
          <p:nvPr/>
        </p:nvSpPr>
        <p:spPr>
          <a:xfrm>
            <a:off x="7267680" y="4288320"/>
            <a:ext cx="428400" cy="333000"/>
          </a:xfrm>
          <a:prstGeom prst="rect">
            <a:avLst/>
          </a:prstGeom>
          <a:pattFill prst="lgGrid">
            <a:fgClr>
              <a:srgbClr val="d9d9d9"/>
            </a:fgClr>
            <a:bgClr>
              <a:srgbClr val="ffffff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139"/>
          <p:cNvSpPr/>
          <p:nvPr/>
        </p:nvSpPr>
        <p:spPr>
          <a:xfrm>
            <a:off x="6428160" y="487944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生气地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直接箭头连接符 42"/>
          <p:cNvCxnSpPr/>
          <p:nvPr/>
        </p:nvCxnSpPr>
        <p:spPr>
          <a:xfrm>
            <a:off x="8562600" y="5084280"/>
            <a:ext cx="653040" cy="36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294" name="圆角矩形 43"/>
          <p:cNvSpPr/>
          <p:nvPr/>
        </p:nvSpPr>
        <p:spPr>
          <a:xfrm>
            <a:off x="9192240" y="487944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不再访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2"/>
          <p:cNvGrpSpPr/>
          <p:nvPr/>
        </p:nvGrpSpPr>
        <p:grpSpPr>
          <a:xfrm>
            <a:off x="2324880" y="1001880"/>
            <a:ext cx="553680" cy="4121640"/>
            <a:chOff x="2324880" y="1001880"/>
            <a:chExt cx="553680" cy="4121640"/>
          </a:xfrm>
        </p:grpSpPr>
        <p:sp>
          <p:nvSpPr>
            <p:cNvPr id="296" name="文本框 33"/>
            <p:cNvSpPr/>
            <p:nvPr/>
          </p:nvSpPr>
          <p:spPr>
            <a:xfrm>
              <a:off x="2324880" y="1001880"/>
              <a:ext cx="553680" cy="41216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次使用某个网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半闭框 34"/>
            <p:cNvSpPr/>
            <p:nvPr/>
          </p:nvSpPr>
          <p:spPr>
            <a:xfrm>
              <a:off x="2324880" y="100332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98" name="半闭框 35"/>
            <p:cNvSpPr/>
            <p:nvPr/>
          </p:nvSpPr>
          <p:spPr>
            <a:xfrm flipH="1" flipV="1">
              <a:off x="2574720" y="482292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99" name="圆角矩形 45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文本框 46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47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文本框 48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9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4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grpSp>
        <p:nvGrpSpPr>
          <p:cNvPr id="305" name="组合 99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306" name="任意多边形 100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文本框 101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户体验设计影响用户忠诚度，而它最终会影响</a:t>
              </a: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企业的盈利能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8"/>
          <p:cNvGrpSpPr/>
          <p:nvPr/>
        </p:nvGrpSpPr>
        <p:grpSpPr>
          <a:xfrm>
            <a:off x="3687480" y="953280"/>
            <a:ext cx="1969560" cy="3742560"/>
            <a:chOff x="3687480" y="953280"/>
            <a:chExt cx="1969560" cy="3742560"/>
          </a:xfrm>
        </p:grpSpPr>
        <p:sp>
          <p:nvSpPr>
            <p:cNvPr id="309" name="圆角矩形 4"/>
            <p:cNvSpPr/>
            <p:nvPr/>
          </p:nvSpPr>
          <p:spPr>
            <a:xfrm>
              <a:off x="3687480" y="953280"/>
              <a:ext cx="1969560" cy="6130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户忠诚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角矩形 16"/>
            <p:cNvSpPr/>
            <p:nvPr/>
          </p:nvSpPr>
          <p:spPr>
            <a:xfrm>
              <a:off x="3687480" y="2517840"/>
              <a:ext cx="1969560" cy="6130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户转化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角矩形 17"/>
            <p:cNvSpPr/>
            <p:nvPr/>
          </p:nvSpPr>
          <p:spPr>
            <a:xfrm>
              <a:off x="3687480" y="4082760"/>
              <a:ext cx="1969560" cy="6130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资回报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直接箭头连接符 9"/>
            <p:cNvCxnSpPr/>
            <p:nvPr/>
          </p:nvCxnSpPr>
          <p:spPr>
            <a:xfrm>
              <a:off x="4664520" y="1566360"/>
              <a:ext cx="360" cy="951840"/>
            </a:xfrm>
            <a:prstGeom prst="straightConnector1">
              <a:avLst/>
            </a:prstGeom>
            <a:ln w="38100">
              <a:solidFill>
                <a:srgbClr val="f53f6f"/>
              </a:solidFill>
              <a:tailEnd len="med" type="triangle" w="med"/>
            </a:ln>
          </p:spPr>
        </p:cxnSp>
        <p:cxnSp>
          <p:nvCxnSpPr>
            <p:cNvPr id="313" name="直接箭头连接符 26"/>
            <p:cNvCxnSpPr/>
            <p:nvPr/>
          </p:nvCxnSpPr>
          <p:spPr>
            <a:xfrm>
              <a:off x="4664520" y="3131280"/>
              <a:ext cx="360" cy="951480"/>
            </a:xfrm>
            <a:prstGeom prst="straightConnector1">
              <a:avLst/>
            </a:prstGeom>
            <a:ln w="38100">
              <a:solidFill>
                <a:srgbClr val="f53f6f"/>
              </a:solidFill>
              <a:tailEnd len="med" type="triangle" w="med"/>
            </a:ln>
          </p:spPr>
        </p:cxnSp>
      </p:grpSp>
      <p:cxnSp>
        <p:nvCxnSpPr>
          <p:cNvPr id="314" name="直接箭头连接符 20"/>
          <p:cNvCxnSpPr>
            <a:stCxn id="310" idx="3"/>
          </p:cNvCxnSpPr>
          <p:nvPr/>
        </p:nvCxnSpPr>
        <p:spPr>
          <a:xfrm>
            <a:off x="5657040" y="2824560"/>
            <a:ext cx="1504080" cy="36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315" name="文本框 21"/>
          <p:cNvSpPr/>
          <p:nvPr/>
        </p:nvSpPr>
        <p:spPr>
          <a:xfrm>
            <a:off x="7394040" y="2624400"/>
            <a:ext cx="4811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36</a:t>
            </a: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个付费订阅者</a:t>
            </a:r>
            <a:r>
              <a:rPr b="1" lang="en-US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/360</a:t>
            </a: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个访问者</a:t>
            </a:r>
            <a:r>
              <a:rPr b="1" lang="en-US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=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直接箭头连接符 2"/>
          <p:cNvCxnSpPr>
            <a:stCxn id="315" idx="2"/>
            <a:endCxn id="311" idx="3"/>
          </p:cNvCxnSpPr>
          <p:nvPr/>
        </p:nvCxnSpPr>
        <p:spPr>
          <a:xfrm flipH="1">
            <a:off x="5657040" y="3024360"/>
            <a:ext cx="4143240" cy="136512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317" name="圆角矩形 29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文本框 30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圆角矩形 36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文本框 37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8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圆角矩形 6"/>
          <p:cNvSpPr/>
          <p:nvPr/>
        </p:nvSpPr>
        <p:spPr>
          <a:xfrm>
            <a:off x="2675520" y="436572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7"/>
          <p:cNvSpPr/>
          <p:nvPr/>
        </p:nvSpPr>
        <p:spPr>
          <a:xfrm>
            <a:off x="3360600" y="5366160"/>
            <a:ext cx="137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8"/>
          <p:cNvSpPr/>
          <p:nvPr/>
        </p:nvSpPr>
        <p:spPr>
          <a:xfrm>
            <a:off x="2675520" y="340380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10"/>
          <p:cNvSpPr/>
          <p:nvPr/>
        </p:nvSpPr>
        <p:spPr>
          <a:xfrm>
            <a:off x="2675520" y="244152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结构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12"/>
          <p:cNvSpPr/>
          <p:nvPr/>
        </p:nvSpPr>
        <p:spPr>
          <a:xfrm>
            <a:off x="2675520" y="147960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14"/>
          <p:cNvSpPr/>
          <p:nvPr/>
        </p:nvSpPr>
        <p:spPr>
          <a:xfrm>
            <a:off x="2675520" y="51732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表现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20"/>
          <p:cNvSpPr/>
          <p:nvPr/>
        </p:nvSpPr>
        <p:spPr>
          <a:xfrm>
            <a:off x="4978440" y="5421600"/>
            <a:ext cx="2008080" cy="91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404040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型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21"/>
          <p:cNvSpPr/>
          <p:nvPr/>
        </p:nvSpPr>
        <p:spPr>
          <a:xfrm>
            <a:off x="7223400" y="5421600"/>
            <a:ext cx="2008080" cy="91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404040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型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26"/>
          <p:cNvSpPr/>
          <p:nvPr/>
        </p:nvSpPr>
        <p:spPr>
          <a:xfrm>
            <a:off x="4978440" y="4365720"/>
            <a:ext cx="4253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28"/>
          <p:cNvSpPr/>
          <p:nvPr/>
        </p:nvSpPr>
        <p:spPr>
          <a:xfrm>
            <a:off x="4978440" y="3403800"/>
            <a:ext cx="200808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规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29"/>
          <p:cNvSpPr/>
          <p:nvPr/>
        </p:nvSpPr>
        <p:spPr>
          <a:xfrm>
            <a:off x="7223400" y="3403800"/>
            <a:ext cx="200808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32"/>
          <p:cNvSpPr/>
          <p:nvPr/>
        </p:nvSpPr>
        <p:spPr>
          <a:xfrm>
            <a:off x="4978440" y="2441520"/>
            <a:ext cx="200808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3"/>
          <p:cNvSpPr/>
          <p:nvPr/>
        </p:nvSpPr>
        <p:spPr>
          <a:xfrm>
            <a:off x="7223400" y="2441520"/>
            <a:ext cx="200808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架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6"/>
          <p:cNvSpPr/>
          <p:nvPr/>
        </p:nvSpPr>
        <p:spPr>
          <a:xfrm>
            <a:off x="4978440" y="1479600"/>
            <a:ext cx="2008080" cy="415440"/>
          </a:xfrm>
          <a:prstGeom prst="roundRect">
            <a:avLst>
              <a:gd name="adj" fmla="val 27358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7"/>
          <p:cNvSpPr/>
          <p:nvPr/>
        </p:nvSpPr>
        <p:spPr>
          <a:xfrm>
            <a:off x="7223400" y="1479600"/>
            <a:ext cx="2008080" cy="415440"/>
          </a:xfrm>
          <a:prstGeom prst="roundRect">
            <a:avLst>
              <a:gd name="adj" fmla="val 24304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8"/>
          <p:cNvSpPr/>
          <p:nvPr/>
        </p:nvSpPr>
        <p:spPr>
          <a:xfrm>
            <a:off x="4978440" y="1960560"/>
            <a:ext cx="4253040" cy="415440"/>
          </a:xfrm>
          <a:prstGeom prst="roundRect">
            <a:avLst>
              <a:gd name="adj" fmla="val 28885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39"/>
          <p:cNvSpPr/>
          <p:nvPr/>
        </p:nvSpPr>
        <p:spPr>
          <a:xfrm>
            <a:off x="4978440" y="517320"/>
            <a:ext cx="4253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知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直接箭头连接符 42"/>
          <p:cNvCxnSpPr/>
          <p:nvPr/>
        </p:nvCxnSpPr>
        <p:spPr>
          <a:xfrm>
            <a:off x="9905760" y="562320"/>
            <a:ext cx="360" cy="5778360"/>
          </a:xfrm>
          <a:prstGeom prst="straightConnector1">
            <a:avLst/>
          </a:prstGeom>
          <a:ln w="38100">
            <a:solidFill>
              <a:srgbClr val="f53f6f"/>
            </a:solidFill>
            <a:headEnd len="med" type="triangle" w="med"/>
            <a:tailEnd len="med" type="triangle" w="med"/>
          </a:ln>
        </p:spPr>
      </p:cxnSp>
      <p:sp>
        <p:nvSpPr>
          <p:cNvPr id="340" name="文本框 43"/>
          <p:cNvSpPr/>
          <p:nvPr/>
        </p:nvSpPr>
        <p:spPr>
          <a:xfrm>
            <a:off x="10161000" y="562320"/>
            <a:ext cx="837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6"/>
          <p:cNvSpPr/>
          <p:nvPr/>
        </p:nvSpPr>
        <p:spPr>
          <a:xfrm>
            <a:off x="10161000" y="5880960"/>
            <a:ext cx="837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抽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72"/>
          <p:cNvGrpSpPr/>
          <p:nvPr/>
        </p:nvGrpSpPr>
        <p:grpSpPr>
          <a:xfrm>
            <a:off x="2839680" y="1648080"/>
            <a:ext cx="615240" cy="599400"/>
            <a:chOff x="2839680" y="1648080"/>
            <a:chExt cx="615240" cy="599400"/>
          </a:xfrm>
        </p:grpSpPr>
        <p:cxnSp>
          <p:nvCxnSpPr>
            <p:cNvPr id="343" name="直接连接符 73"/>
            <p:cNvCxnSpPr/>
            <p:nvPr/>
          </p:nvCxnSpPr>
          <p:spPr>
            <a:xfrm>
              <a:off x="2981520" y="167256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44" name="椭圆 74"/>
            <p:cNvSpPr/>
            <p:nvPr/>
          </p:nvSpPr>
          <p:spPr>
            <a:xfrm>
              <a:off x="2839680" y="164808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45" name="直接连接符 75"/>
            <p:cNvCxnSpPr/>
            <p:nvPr/>
          </p:nvCxnSpPr>
          <p:spPr>
            <a:xfrm>
              <a:off x="2981520" y="180972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46" name="椭圆 76"/>
            <p:cNvSpPr/>
            <p:nvPr/>
          </p:nvSpPr>
          <p:spPr>
            <a:xfrm>
              <a:off x="2839680" y="178524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47" name="直接连接符 77"/>
            <p:cNvCxnSpPr/>
            <p:nvPr/>
          </p:nvCxnSpPr>
          <p:spPr>
            <a:xfrm>
              <a:off x="2981520" y="194868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48" name="椭圆 78"/>
            <p:cNvSpPr/>
            <p:nvPr/>
          </p:nvSpPr>
          <p:spPr>
            <a:xfrm>
              <a:off x="2839680" y="19242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49" name="直接连接符 79"/>
            <p:cNvCxnSpPr/>
            <p:nvPr/>
          </p:nvCxnSpPr>
          <p:spPr>
            <a:xfrm>
              <a:off x="2981520" y="208368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50" name="椭圆 80"/>
            <p:cNvSpPr/>
            <p:nvPr/>
          </p:nvSpPr>
          <p:spPr>
            <a:xfrm>
              <a:off x="2839680" y="20592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51" name="直接连接符 81"/>
            <p:cNvCxnSpPr/>
            <p:nvPr/>
          </p:nvCxnSpPr>
          <p:spPr>
            <a:xfrm>
              <a:off x="2981520" y="222300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52" name="椭圆 82"/>
            <p:cNvSpPr/>
            <p:nvPr/>
          </p:nvSpPr>
          <p:spPr>
            <a:xfrm>
              <a:off x="2839680" y="219852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53" name="组合 83"/>
          <p:cNvGrpSpPr/>
          <p:nvPr/>
        </p:nvGrpSpPr>
        <p:grpSpPr>
          <a:xfrm>
            <a:off x="2783160" y="2519280"/>
            <a:ext cx="713880" cy="691920"/>
            <a:chOff x="2783160" y="2519280"/>
            <a:chExt cx="713880" cy="691920"/>
          </a:xfrm>
        </p:grpSpPr>
        <p:sp>
          <p:nvSpPr>
            <p:cNvPr id="354" name="矩形 84"/>
            <p:cNvSpPr/>
            <p:nvPr/>
          </p:nvSpPr>
          <p:spPr>
            <a:xfrm>
              <a:off x="2987640" y="251928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5" name="矩形 85"/>
            <p:cNvSpPr/>
            <p:nvPr/>
          </p:nvSpPr>
          <p:spPr>
            <a:xfrm>
              <a:off x="2783160" y="300492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6" name="矩形 86"/>
            <p:cNvSpPr/>
            <p:nvPr/>
          </p:nvSpPr>
          <p:spPr>
            <a:xfrm>
              <a:off x="3201480" y="300492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57" name="直接连接符 87"/>
            <p:cNvCxnSpPr>
              <a:stCxn id="354" idx="2"/>
            </p:cNvCxnSpPr>
            <p:nvPr/>
          </p:nvCxnSpPr>
          <p:spPr>
            <a:xfrm>
              <a:off x="3135240" y="2725920"/>
              <a:ext cx="360" cy="144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358" name="直接连接符 88"/>
            <p:cNvCxnSpPr/>
            <p:nvPr/>
          </p:nvCxnSpPr>
          <p:spPr>
            <a:xfrm>
              <a:off x="2931120" y="2869920"/>
              <a:ext cx="418320" cy="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359" name="直接连接符 89"/>
            <p:cNvCxnSpPr>
              <a:stCxn id="355" idx="0"/>
            </p:cNvCxnSpPr>
            <p:nvPr/>
          </p:nvCxnSpPr>
          <p:spPr>
            <a:xfrm flipV="1">
              <a:off x="2931120" y="2856240"/>
              <a:ext cx="360" cy="14904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360" name="直接连接符 90"/>
            <p:cNvCxnSpPr>
              <a:stCxn id="356" idx="0"/>
            </p:cNvCxnSpPr>
            <p:nvPr/>
          </p:nvCxnSpPr>
          <p:spPr>
            <a:xfrm flipV="1">
              <a:off x="3349080" y="2856240"/>
              <a:ext cx="360" cy="14904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grpSp>
        <p:nvGrpSpPr>
          <p:cNvPr id="361" name="组合 91"/>
          <p:cNvGrpSpPr/>
          <p:nvPr/>
        </p:nvGrpSpPr>
        <p:grpSpPr>
          <a:xfrm>
            <a:off x="2848320" y="3563640"/>
            <a:ext cx="597600" cy="574920"/>
            <a:chOff x="2848320" y="3563640"/>
            <a:chExt cx="597600" cy="574920"/>
          </a:xfrm>
        </p:grpSpPr>
        <p:sp>
          <p:nvSpPr>
            <p:cNvPr id="362" name="矩形 92"/>
            <p:cNvSpPr/>
            <p:nvPr/>
          </p:nvSpPr>
          <p:spPr>
            <a:xfrm>
              <a:off x="2848680" y="3563640"/>
              <a:ext cx="584280" cy="57492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63" name="直接连接符 93"/>
            <p:cNvCxnSpPr/>
            <p:nvPr/>
          </p:nvCxnSpPr>
          <p:spPr>
            <a:xfrm>
              <a:off x="2848320" y="3695760"/>
              <a:ext cx="597960" cy="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364" name="直接连接符 94"/>
            <p:cNvCxnSpPr/>
            <p:nvPr/>
          </p:nvCxnSpPr>
          <p:spPr>
            <a:xfrm>
              <a:off x="2993040" y="3700800"/>
              <a:ext cx="360" cy="43812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grpSp>
        <p:nvGrpSpPr>
          <p:cNvPr id="365" name="组合 95"/>
          <p:cNvGrpSpPr/>
          <p:nvPr/>
        </p:nvGrpSpPr>
        <p:grpSpPr>
          <a:xfrm>
            <a:off x="2809800" y="4659120"/>
            <a:ext cx="663120" cy="307800"/>
            <a:chOff x="2809800" y="4659120"/>
            <a:chExt cx="663120" cy="307800"/>
          </a:xfrm>
        </p:grpSpPr>
        <p:sp>
          <p:nvSpPr>
            <p:cNvPr id="366" name="椭圆 65"/>
            <p:cNvSpPr/>
            <p:nvPr/>
          </p:nvSpPr>
          <p:spPr>
            <a:xfrm>
              <a:off x="2809800" y="4659120"/>
              <a:ext cx="663120" cy="30780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97326" h="416836">
                  <a:moveTo>
                    <a:pt x="0" y="208418"/>
                  </a:moveTo>
                  <a:cubicBezTo>
                    <a:pt x="80962" y="79025"/>
                    <a:pt x="200873" y="0"/>
                    <a:pt x="448663" y="0"/>
                  </a:cubicBezTo>
                  <a:cubicBezTo>
                    <a:pt x="696453" y="0"/>
                    <a:pt x="835413" y="88549"/>
                    <a:pt x="897326" y="208418"/>
                  </a:cubicBezTo>
                  <a:cubicBezTo>
                    <a:pt x="854464" y="318761"/>
                    <a:pt x="696453" y="416836"/>
                    <a:pt x="448663" y="416836"/>
                  </a:cubicBezTo>
                  <a:cubicBezTo>
                    <a:pt x="200873" y="416836"/>
                    <a:pt x="52388" y="328286"/>
                    <a:pt x="0" y="208418"/>
                  </a:cubicBezTo>
                  <a:close/>
                </a:path>
              </a:pathLst>
            </a:cu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67" name="椭圆 97"/>
            <p:cNvSpPr/>
            <p:nvPr/>
          </p:nvSpPr>
          <p:spPr>
            <a:xfrm>
              <a:off x="3007080" y="4678560"/>
              <a:ext cx="268920" cy="268920"/>
            </a:xfrm>
            <a:prstGeom prst="ellipse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68" name="椭圆 98"/>
            <p:cNvSpPr/>
            <p:nvPr/>
          </p:nvSpPr>
          <p:spPr>
            <a:xfrm flipH="1">
              <a:off x="3105360" y="4778280"/>
              <a:ext cx="69120" cy="69120"/>
            </a:xfrm>
            <a:prstGeom prst="ellipse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69" name="组合 99"/>
          <p:cNvGrpSpPr/>
          <p:nvPr/>
        </p:nvGrpSpPr>
        <p:grpSpPr>
          <a:xfrm>
            <a:off x="2940120" y="625320"/>
            <a:ext cx="389880" cy="678600"/>
            <a:chOff x="2940120" y="625320"/>
            <a:chExt cx="389880" cy="678600"/>
          </a:xfrm>
        </p:grpSpPr>
        <p:sp>
          <p:nvSpPr>
            <p:cNvPr id="370" name="任意多边形 100"/>
            <p:cNvSpPr/>
            <p:nvPr/>
          </p:nvSpPr>
          <p:spPr>
            <a:xfrm>
              <a:off x="2940120" y="625320"/>
              <a:ext cx="389880" cy="5425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820338" h="1141211">
                  <a:moveTo>
                    <a:pt x="228600" y="1141211"/>
                  </a:moveTo>
                  <a:cubicBezTo>
                    <a:pt x="228600" y="974519"/>
                    <a:pt x="188354" y="823608"/>
                    <a:pt x="123285" y="714369"/>
                  </a:cubicBezTo>
                  <a:lnTo>
                    <a:pt x="74084" y="646220"/>
                  </a:lnTo>
                  <a:lnTo>
                    <a:pt x="73427" y="643591"/>
                  </a:lnTo>
                  <a:lnTo>
                    <a:pt x="70051" y="639499"/>
                  </a:lnTo>
                  <a:cubicBezTo>
                    <a:pt x="25824" y="574035"/>
                    <a:pt x="0" y="495118"/>
                    <a:pt x="0" y="410169"/>
                  </a:cubicBezTo>
                  <a:cubicBezTo>
                    <a:pt x="0" y="183639"/>
                    <a:pt x="183639" y="0"/>
                    <a:pt x="410169" y="0"/>
                  </a:cubicBezTo>
                  <a:cubicBezTo>
                    <a:pt x="636699" y="0"/>
                    <a:pt x="820338" y="183639"/>
                    <a:pt x="820338" y="410169"/>
                  </a:cubicBezTo>
                  <a:cubicBezTo>
                    <a:pt x="820338" y="495118"/>
                    <a:pt x="794514" y="574035"/>
                    <a:pt x="750288" y="639499"/>
                  </a:cubicBezTo>
                  <a:lnTo>
                    <a:pt x="746911" y="643591"/>
                  </a:lnTo>
                  <a:lnTo>
                    <a:pt x="746254" y="646220"/>
                  </a:lnTo>
                  <a:lnTo>
                    <a:pt x="697054" y="714369"/>
                  </a:lnTo>
                  <a:cubicBezTo>
                    <a:pt x="631984" y="823608"/>
                    <a:pt x="591738" y="974519"/>
                    <a:pt x="591738" y="1141211"/>
                  </a:cubicBezTo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71" name="直接连接符 101"/>
            <p:cNvCxnSpPr/>
            <p:nvPr/>
          </p:nvCxnSpPr>
          <p:spPr>
            <a:xfrm flipV="1">
              <a:off x="3039840" y="1172520"/>
              <a:ext cx="68040" cy="3420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  <p:cxnSp>
          <p:nvCxnSpPr>
            <p:cNvPr id="372" name="直接连接符 102"/>
            <p:cNvCxnSpPr/>
            <p:nvPr/>
          </p:nvCxnSpPr>
          <p:spPr>
            <a:xfrm flipV="1">
              <a:off x="3039840" y="1172520"/>
              <a:ext cx="145440" cy="7956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  <p:cxnSp>
          <p:nvCxnSpPr>
            <p:cNvPr id="373" name="直接连接符 103"/>
            <p:cNvCxnSpPr/>
            <p:nvPr/>
          </p:nvCxnSpPr>
          <p:spPr>
            <a:xfrm flipV="1">
              <a:off x="3039840" y="1206360"/>
              <a:ext cx="183600" cy="9792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  <p:cxnSp>
          <p:nvCxnSpPr>
            <p:cNvPr id="374" name="直接连接符 104"/>
            <p:cNvCxnSpPr/>
            <p:nvPr/>
          </p:nvCxnSpPr>
          <p:spPr>
            <a:xfrm flipV="1">
              <a:off x="3135240" y="1255320"/>
              <a:ext cx="88200" cy="4896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</p:grpSp>
      <p:sp>
        <p:nvSpPr>
          <p:cNvPr id="375" name="文本框 105"/>
          <p:cNvSpPr/>
          <p:nvPr/>
        </p:nvSpPr>
        <p:spPr>
          <a:xfrm>
            <a:off x="10272240" y="2127960"/>
            <a:ext cx="6152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5466c"/>
                </a:solidFill>
                <a:latin typeface="微软雅黑"/>
                <a:ea typeface="微软雅黑"/>
              </a:rPr>
              <a:t>自下而上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圆角矩形 2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7" name="文本框 3"/>
          <p:cNvSpPr/>
          <p:nvPr/>
        </p:nvSpPr>
        <p:spPr>
          <a:xfrm>
            <a:off x="621360" y="1041840"/>
            <a:ext cx="355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五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角矩形 4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7596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9" name="文本框 5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67"/>
          <p:cNvSpPr/>
          <p:nvPr/>
        </p:nvSpPr>
        <p:spPr>
          <a:xfrm>
            <a:off x="89640" y="38880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任意多边形 76"/>
          <p:cNvSpPr/>
          <p:nvPr/>
        </p:nvSpPr>
        <p:spPr>
          <a:xfrm>
            <a:off x="255168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2306094" y="4815840"/>
                </a:moveTo>
                <a:lnTo>
                  <a:pt x="0" y="4815840"/>
                </a:ln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382" name="直接箭头连接符 85"/>
          <p:cNvCxnSpPr>
            <a:stCxn id="381" idx="1"/>
          </p:cNvCxnSpPr>
          <p:nvPr/>
        </p:nvCxnSpPr>
        <p:spPr>
          <a:xfrm>
            <a:off x="2551680" y="4581360"/>
            <a:ext cx="9416880" cy="36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383" name="任意多边形 82"/>
          <p:cNvSpPr/>
          <p:nvPr/>
        </p:nvSpPr>
        <p:spPr>
          <a:xfrm>
            <a:off x="419580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8">
                <a:moveTo>
                  <a:pt x="588819" y="0"/>
                </a:moveTo>
                <a:cubicBezTo>
                  <a:pt x="905438" y="0"/>
                  <a:pt x="1162109" y="256671"/>
                  <a:pt x="1162109" y="573290"/>
                </a:cubicBezTo>
                <a:cubicBezTo>
                  <a:pt x="1162109" y="692022"/>
                  <a:pt x="1126015" y="802324"/>
                  <a:pt x="1064200" y="893822"/>
                </a:cubicBezTo>
                <a:lnTo>
                  <a:pt x="1034284" y="930081"/>
                </a:lnTo>
                <a:lnTo>
                  <a:pt x="1049470" y="934795"/>
                </a:lnTo>
                <a:cubicBezTo>
                  <a:pt x="1124650" y="966593"/>
                  <a:pt x="1177400" y="1041034"/>
                  <a:pt x="1177400" y="1127796"/>
                </a:cubicBezTo>
                <a:cubicBezTo>
                  <a:pt x="1177400" y="1243479"/>
                  <a:pt x="1083621" y="1337258"/>
                  <a:pt x="967938" y="1337258"/>
                </a:cubicBezTo>
                <a:lnTo>
                  <a:pt x="209462" y="1337258"/>
                </a:lnTo>
                <a:cubicBezTo>
                  <a:pt x="93779" y="1337258"/>
                  <a:pt x="0" y="1243479"/>
                  <a:pt x="0" y="1127796"/>
                </a:cubicBezTo>
                <a:cubicBezTo>
                  <a:pt x="0" y="1041034"/>
                  <a:pt x="52751" y="966593"/>
                  <a:pt x="127930" y="934795"/>
                </a:cubicBezTo>
                <a:lnTo>
                  <a:pt x="143306" y="930022"/>
                </a:lnTo>
                <a:lnTo>
                  <a:pt x="113438" y="893822"/>
                </a:lnTo>
                <a:cubicBezTo>
                  <a:pt x="51624" y="802324"/>
                  <a:pt x="15529" y="692022"/>
                  <a:pt x="15529" y="573290"/>
                </a:cubicBezTo>
                <a:cubicBezTo>
                  <a:pt x="15529" y="256671"/>
                  <a:pt x="272200" y="0"/>
                  <a:pt x="588819" y="0"/>
                </a:cubicBezTo>
                <a:close/>
              </a:path>
            </a:pathLst>
          </a:cu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384" name="组合 5"/>
          <p:cNvGrpSpPr/>
          <p:nvPr/>
        </p:nvGrpSpPr>
        <p:grpSpPr>
          <a:xfrm>
            <a:off x="4476240" y="1851480"/>
            <a:ext cx="614880" cy="599400"/>
            <a:chOff x="4476240" y="1851480"/>
            <a:chExt cx="614880" cy="599400"/>
          </a:xfrm>
        </p:grpSpPr>
        <p:cxnSp>
          <p:nvCxnSpPr>
            <p:cNvPr id="385" name="直接连接符 3"/>
            <p:cNvCxnSpPr/>
            <p:nvPr/>
          </p:nvCxnSpPr>
          <p:spPr>
            <a:xfrm>
              <a:off x="4618080" y="187596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86" name="椭圆 4"/>
            <p:cNvSpPr/>
            <p:nvPr/>
          </p:nvSpPr>
          <p:spPr>
            <a:xfrm>
              <a:off x="4476240" y="185148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87" name="直接连接符 40"/>
            <p:cNvCxnSpPr/>
            <p:nvPr/>
          </p:nvCxnSpPr>
          <p:spPr>
            <a:xfrm>
              <a:off x="4618080" y="201348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88" name="椭圆 41"/>
            <p:cNvSpPr/>
            <p:nvPr/>
          </p:nvSpPr>
          <p:spPr>
            <a:xfrm>
              <a:off x="4476240" y="19890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89" name="直接连接符 42"/>
            <p:cNvCxnSpPr/>
            <p:nvPr/>
          </p:nvCxnSpPr>
          <p:spPr>
            <a:xfrm>
              <a:off x="4618080" y="215208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90" name="椭圆 43"/>
            <p:cNvSpPr/>
            <p:nvPr/>
          </p:nvSpPr>
          <p:spPr>
            <a:xfrm>
              <a:off x="4476240" y="21276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91" name="直接连接符 44"/>
            <p:cNvCxnSpPr/>
            <p:nvPr/>
          </p:nvCxnSpPr>
          <p:spPr>
            <a:xfrm>
              <a:off x="4618080" y="228708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92" name="椭圆 45"/>
            <p:cNvSpPr/>
            <p:nvPr/>
          </p:nvSpPr>
          <p:spPr>
            <a:xfrm>
              <a:off x="4476240" y="22626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93" name="直接连接符 46"/>
            <p:cNvCxnSpPr/>
            <p:nvPr/>
          </p:nvCxnSpPr>
          <p:spPr>
            <a:xfrm>
              <a:off x="4618080" y="242640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94" name="椭圆 47"/>
            <p:cNvSpPr/>
            <p:nvPr/>
          </p:nvSpPr>
          <p:spPr>
            <a:xfrm>
              <a:off x="4476240" y="240192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395" name="任意多边形 87"/>
          <p:cNvSpPr/>
          <p:nvPr/>
        </p:nvSpPr>
        <p:spPr>
          <a:xfrm>
            <a:off x="569736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8">
                <a:moveTo>
                  <a:pt x="588700" y="0"/>
                </a:moveTo>
                <a:cubicBezTo>
                  <a:pt x="905319" y="0"/>
                  <a:pt x="1161990" y="256671"/>
                  <a:pt x="1161990" y="573290"/>
                </a:cubicBezTo>
                <a:cubicBezTo>
                  <a:pt x="1161990" y="692022"/>
                  <a:pt x="1125896" y="802324"/>
                  <a:pt x="1064081" y="893822"/>
                </a:cubicBezTo>
                <a:lnTo>
                  <a:pt x="1034189" y="930051"/>
                </a:lnTo>
                <a:lnTo>
                  <a:pt x="1049470" y="934795"/>
                </a:lnTo>
                <a:cubicBezTo>
                  <a:pt x="1124650" y="966593"/>
                  <a:pt x="1177400" y="1041034"/>
                  <a:pt x="1177400" y="1127796"/>
                </a:cubicBezTo>
                <a:cubicBezTo>
                  <a:pt x="1177400" y="1243479"/>
                  <a:pt x="1083621" y="1337258"/>
                  <a:pt x="967938" y="1337258"/>
                </a:cubicBezTo>
                <a:lnTo>
                  <a:pt x="209462" y="1337258"/>
                </a:lnTo>
                <a:cubicBezTo>
                  <a:pt x="93779" y="1337258"/>
                  <a:pt x="0" y="1243479"/>
                  <a:pt x="0" y="1127796"/>
                </a:cubicBezTo>
                <a:cubicBezTo>
                  <a:pt x="0" y="1041034"/>
                  <a:pt x="52751" y="966593"/>
                  <a:pt x="127930" y="934795"/>
                </a:cubicBezTo>
                <a:lnTo>
                  <a:pt x="143211" y="930051"/>
                </a:lnTo>
                <a:lnTo>
                  <a:pt x="113319" y="893822"/>
                </a:lnTo>
                <a:cubicBezTo>
                  <a:pt x="51505" y="802324"/>
                  <a:pt x="15410" y="692022"/>
                  <a:pt x="15410" y="573290"/>
                </a:cubicBezTo>
                <a:cubicBezTo>
                  <a:pt x="15410" y="256671"/>
                  <a:pt x="272081" y="0"/>
                  <a:pt x="588700" y="0"/>
                </a:cubicBezTo>
                <a:close/>
              </a:path>
            </a:pathLst>
          </a:cu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396" name="组合 55"/>
          <p:cNvGrpSpPr/>
          <p:nvPr/>
        </p:nvGrpSpPr>
        <p:grpSpPr>
          <a:xfrm>
            <a:off x="5933880" y="1801800"/>
            <a:ext cx="713520" cy="691920"/>
            <a:chOff x="5933880" y="1801800"/>
            <a:chExt cx="713520" cy="691920"/>
          </a:xfrm>
        </p:grpSpPr>
        <p:sp>
          <p:nvSpPr>
            <p:cNvPr id="397" name="矩形 6"/>
            <p:cNvSpPr/>
            <p:nvPr/>
          </p:nvSpPr>
          <p:spPr>
            <a:xfrm>
              <a:off x="6138000" y="180180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8" name="矩形 48"/>
            <p:cNvSpPr/>
            <p:nvPr/>
          </p:nvSpPr>
          <p:spPr>
            <a:xfrm>
              <a:off x="5933880" y="228744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9" name="矩形 49"/>
            <p:cNvSpPr/>
            <p:nvPr/>
          </p:nvSpPr>
          <p:spPr>
            <a:xfrm>
              <a:off x="6351840" y="228744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400" name="直接连接符 8"/>
            <p:cNvCxnSpPr>
              <a:stCxn id="397" idx="2"/>
            </p:cNvCxnSpPr>
            <p:nvPr/>
          </p:nvCxnSpPr>
          <p:spPr>
            <a:xfrm>
              <a:off x="6285960" y="2008080"/>
              <a:ext cx="360" cy="144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01" name="直接连接符 50"/>
            <p:cNvCxnSpPr/>
            <p:nvPr/>
          </p:nvCxnSpPr>
          <p:spPr>
            <a:xfrm>
              <a:off x="6081480" y="2152080"/>
              <a:ext cx="418680" cy="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02" name="直接连接符 52"/>
            <p:cNvCxnSpPr>
              <a:stCxn id="398" idx="0"/>
            </p:cNvCxnSpPr>
            <p:nvPr/>
          </p:nvCxnSpPr>
          <p:spPr>
            <a:xfrm flipV="1">
              <a:off x="6081480" y="2138400"/>
              <a:ext cx="360" cy="14904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03" name="直接连接符 54"/>
            <p:cNvCxnSpPr>
              <a:stCxn id="399" idx="0"/>
            </p:cNvCxnSpPr>
            <p:nvPr/>
          </p:nvCxnSpPr>
          <p:spPr>
            <a:xfrm flipV="1">
              <a:off x="6499800" y="2138400"/>
              <a:ext cx="360" cy="14904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sp>
        <p:nvSpPr>
          <p:cNvPr id="404" name="任意多边形 88"/>
          <p:cNvSpPr/>
          <p:nvPr/>
        </p:nvSpPr>
        <p:spPr>
          <a:xfrm>
            <a:off x="719064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8">
                <a:moveTo>
                  <a:pt x="588700" y="0"/>
                </a:moveTo>
                <a:cubicBezTo>
                  <a:pt x="905319" y="0"/>
                  <a:pt x="1161990" y="256671"/>
                  <a:pt x="1161990" y="573290"/>
                </a:cubicBezTo>
                <a:cubicBezTo>
                  <a:pt x="1161990" y="692022"/>
                  <a:pt x="1125896" y="802324"/>
                  <a:pt x="1064081" y="893822"/>
                </a:cubicBezTo>
                <a:lnTo>
                  <a:pt x="1034189" y="930051"/>
                </a:lnTo>
                <a:lnTo>
                  <a:pt x="1049470" y="934795"/>
                </a:lnTo>
                <a:cubicBezTo>
                  <a:pt x="1124650" y="966593"/>
                  <a:pt x="1177400" y="1041034"/>
                  <a:pt x="1177400" y="1127796"/>
                </a:cubicBezTo>
                <a:cubicBezTo>
                  <a:pt x="1177400" y="1243479"/>
                  <a:pt x="1083621" y="1337258"/>
                  <a:pt x="967938" y="1337258"/>
                </a:cubicBezTo>
                <a:lnTo>
                  <a:pt x="209462" y="1337258"/>
                </a:lnTo>
                <a:cubicBezTo>
                  <a:pt x="93779" y="1337258"/>
                  <a:pt x="0" y="1243479"/>
                  <a:pt x="0" y="1127796"/>
                </a:cubicBezTo>
                <a:cubicBezTo>
                  <a:pt x="0" y="1041034"/>
                  <a:pt x="52751" y="966593"/>
                  <a:pt x="127930" y="934795"/>
                </a:cubicBezTo>
                <a:lnTo>
                  <a:pt x="143211" y="930051"/>
                </a:lnTo>
                <a:lnTo>
                  <a:pt x="113319" y="893822"/>
                </a:lnTo>
                <a:cubicBezTo>
                  <a:pt x="51505" y="802324"/>
                  <a:pt x="15410" y="692022"/>
                  <a:pt x="15410" y="573290"/>
                </a:cubicBezTo>
                <a:cubicBezTo>
                  <a:pt x="15410" y="256671"/>
                  <a:pt x="272081" y="0"/>
                  <a:pt x="588700" y="0"/>
                </a:cubicBezTo>
                <a:close/>
              </a:path>
            </a:pathLst>
          </a:cu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405" name="组合 64"/>
          <p:cNvGrpSpPr/>
          <p:nvPr/>
        </p:nvGrpSpPr>
        <p:grpSpPr>
          <a:xfrm>
            <a:off x="7489080" y="1875960"/>
            <a:ext cx="597960" cy="575280"/>
            <a:chOff x="7489080" y="1875960"/>
            <a:chExt cx="597960" cy="575280"/>
          </a:xfrm>
        </p:grpSpPr>
        <p:sp>
          <p:nvSpPr>
            <p:cNvPr id="406" name="矩形 59"/>
            <p:cNvSpPr/>
            <p:nvPr/>
          </p:nvSpPr>
          <p:spPr>
            <a:xfrm>
              <a:off x="7489800" y="1875960"/>
              <a:ext cx="584280" cy="57492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407" name="直接连接符 61"/>
            <p:cNvCxnSpPr/>
            <p:nvPr/>
          </p:nvCxnSpPr>
          <p:spPr>
            <a:xfrm>
              <a:off x="7489080" y="2008080"/>
              <a:ext cx="598320" cy="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08" name="直接连接符 63"/>
            <p:cNvCxnSpPr/>
            <p:nvPr/>
          </p:nvCxnSpPr>
          <p:spPr>
            <a:xfrm>
              <a:off x="7633800" y="2013480"/>
              <a:ext cx="360" cy="43812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sp>
        <p:nvSpPr>
          <p:cNvPr id="409" name="任意多边形 102"/>
          <p:cNvSpPr/>
          <p:nvPr/>
        </p:nvSpPr>
        <p:spPr>
          <a:xfrm>
            <a:off x="868608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8">
                <a:moveTo>
                  <a:pt x="588800" y="0"/>
                </a:moveTo>
                <a:cubicBezTo>
                  <a:pt x="905419" y="0"/>
                  <a:pt x="1162090" y="256671"/>
                  <a:pt x="1162090" y="573290"/>
                </a:cubicBezTo>
                <a:cubicBezTo>
                  <a:pt x="1162090" y="692022"/>
                  <a:pt x="1125996" y="802324"/>
                  <a:pt x="1064181" y="893822"/>
                </a:cubicBezTo>
                <a:lnTo>
                  <a:pt x="1034269" y="930076"/>
                </a:lnTo>
                <a:lnTo>
                  <a:pt x="1049470" y="934795"/>
                </a:lnTo>
                <a:cubicBezTo>
                  <a:pt x="1124649" y="966593"/>
                  <a:pt x="1177400" y="1041034"/>
                  <a:pt x="1177400" y="1127796"/>
                </a:cubicBezTo>
                <a:cubicBezTo>
                  <a:pt x="1177400" y="1243479"/>
                  <a:pt x="1083621" y="1337258"/>
                  <a:pt x="967938" y="1337258"/>
                </a:cubicBezTo>
                <a:lnTo>
                  <a:pt x="209462" y="1337258"/>
                </a:lnTo>
                <a:cubicBezTo>
                  <a:pt x="93779" y="1337258"/>
                  <a:pt x="0" y="1243479"/>
                  <a:pt x="0" y="1127796"/>
                </a:cubicBezTo>
                <a:cubicBezTo>
                  <a:pt x="0" y="1041034"/>
                  <a:pt x="52751" y="966593"/>
                  <a:pt x="127930" y="934795"/>
                </a:cubicBezTo>
                <a:lnTo>
                  <a:pt x="143291" y="930026"/>
                </a:lnTo>
                <a:lnTo>
                  <a:pt x="113419" y="893822"/>
                </a:lnTo>
                <a:cubicBezTo>
                  <a:pt x="51604" y="802324"/>
                  <a:pt x="15510" y="692022"/>
                  <a:pt x="15510" y="573290"/>
                </a:cubicBezTo>
                <a:cubicBezTo>
                  <a:pt x="15510" y="256671"/>
                  <a:pt x="272181" y="0"/>
                  <a:pt x="588800" y="0"/>
                </a:cubicBezTo>
                <a:close/>
              </a:path>
            </a:pathLst>
          </a:cu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410" name="组合 81"/>
          <p:cNvGrpSpPr/>
          <p:nvPr/>
        </p:nvGrpSpPr>
        <p:grpSpPr>
          <a:xfrm>
            <a:off x="8948520" y="2008440"/>
            <a:ext cx="663120" cy="307800"/>
            <a:chOff x="8948520" y="2008440"/>
            <a:chExt cx="663120" cy="307800"/>
          </a:xfrm>
        </p:grpSpPr>
        <p:sp>
          <p:nvSpPr>
            <p:cNvPr id="411" name="椭圆 65"/>
            <p:cNvSpPr/>
            <p:nvPr/>
          </p:nvSpPr>
          <p:spPr>
            <a:xfrm>
              <a:off x="8948520" y="2008440"/>
              <a:ext cx="663120" cy="30780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97326" h="416836">
                  <a:moveTo>
                    <a:pt x="0" y="208418"/>
                  </a:moveTo>
                  <a:cubicBezTo>
                    <a:pt x="80962" y="79025"/>
                    <a:pt x="200873" y="0"/>
                    <a:pt x="448663" y="0"/>
                  </a:cubicBezTo>
                  <a:cubicBezTo>
                    <a:pt x="696453" y="0"/>
                    <a:pt x="835413" y="88549"/>
                    <a:pt x="897326" y="208418"/>
                  </a:cubicBezTo>
                  <a:cubicBezTo>
                    <a:pt x="854464" y="318761"/>
                    <a:pt x="696453" y="416836"/>
                    <a:pt x="448663" y="416836"/>
                  </a:cubicBezTo>
                  <a:cubicBezTo>
                    <a:pt x="200873" y="416836"/>
                    <a:pt x="52388" y="328286"/>
                    <a:pt x="0" y="208418"/>
                  </a:cubicBezTo>
                  <a:close/>
                </a:path>
              </a:pathLst>
            </a:cu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12" name="椭圆 66"/>
            <p:cNvSpPr/>
            <p:nvPr/>
          </p:nvSpPr>
          <p:spPr>
            <a:xfrm>
              <a:off x="9145440" y="2027880"/>
              <a:ext cx="268920" cy="268920"/>
            </a:xfrm>
            <a:prstGeom prst="ellipse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13" name="椭圆 67"/>
            <p:cNvSpPr/>
            <p:nvPr/>
          </p:nvSpPr>
          <p:spPr>
            <a:xfrm flipH="1">
              <a:off x="9244080" y="2127600"/>
              <a:ext cx="69120" cy="69120"/>
            </a:xfrm>
            <a:prstGeom prst="ellipse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14" name="任意多边形 73"/>
          <p:cNvSpPr/>
          <p:nvPr/>
        </p:nvSpPr>
        <p:spPr>
          <a:xfrm>
            <a:off x="404064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0" y="4815840"/>
                </a:move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15" name="任意多边形 75"/>
          <p:cNvSpPr/>
          <p:nvPr/>
        </p:nvSpPr>
        <p:spPr>
          <a:xfrm>
            <a:off x="553428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2306094" y="4815840"/>
                </a:moveTo>
                <a:lnTo>
                  <a:pt x="0" y="4815840"/>
                </a:ln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16" name="任意多边形 83"/>
          <p:cNvSpPr/>
          <p:nvPr/>
        </p:nvSpPr>
        <p:spPr>
          <a:xfrm>
            <a:off x="702252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2306094" y="4815840"/>
                </a:moveTo>
                <a:lnTo>
                  <a:pt x="0" y="4815840"/>
                </a:ln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17" name="任意多边形 84"/>
          <p:cNvSpPr/>
          <p:nvPr/>
        </p:nvSpPr>
        <p:spPr>
          <a:xfrm>
            <a:off x="851400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2306094" y="4815840"/>
                </a:moveTo>
                <a:lnTo>
                  <a:pt x="0" y="4815840"/>
                </a:ln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18" name="任意多边形 62"/>
          <p:cNvSpPr/>
          <p:nvPr/>
        </p:nvSpPr>
        <p:spPr>
          <a:xfrm>
            <a:off x="271476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7">
                <a:moveTo>
                  <a:pt x="583136" y="0"/>
                </a:moveTo>
                <a:cubicBezTo>
                  <a:pt x="901050" y="0"/>
                  <a:pt x="1158770" y="257720"/>
                  <a:pt x="1158770" y="575634"/>
                </a:cubicBezTo>
                <a:cubicBezTo>
                  <a:pt x="1158770" y="694852"/>
                  <a:pt x="1122528" y="805605"/>
                  <a:pt x="1060461" y="897477"/>
                </a:cubicBezTo>
                <a:lnTo>
                  <a:pt x="1033708" y="929901"/>
                </a:lnTo>
                <a:lnTo>
                  <a:pt x="1049470" y="934794"/>
                </a:lnTo>
                <a:cubicBezTo>
                  <a:pt x="1124649" y="966592"/>
                  <a:pt x="1177400" y="1041033"/>
                  <a:pt x="1177400" y="1127795"/>
                </a:cubicBezTo>
                <a:cubicBezTo>
                  <a:pt x="1177400" y="1243478"/>
                  <a:pt x="1083621" y="1337257"/>
                  <a:pt x="967938" y="1337257"/>
                </a:cubicBezTo>
                <a:lnTo>
                  <a:pt x="209462" y="1337257"/>
                </a:lnTo>
                <a:cubicBezTo>
                  <a:pt x="93779" y="1337257"/>
                  <a:pt x="0" y="1243478"/>
                  <a:pt x="0" y="1127795"/>
                </a:cubicBezTo>
                <a:cubicBezTo>
                  <a:pt x="0" y="1041033"/>
                  <a:pt x="52751" y="966592"/>
                  <a:pt x="127930" y="934794"/>
                </a:cubicBezTo>
                <a:lnTo>
                  <a:pt x="134833" y="932651"/>
                </a:lnTo>
                <a:lnTo>
                  <a:pt x="105811" y="897477"/>
                </a:lnTo>
                <a:cubicBezTo>
                  <a:pt x="43744" y="805605"/>
                  <a:pt x="7502" y="694852"/>
                  <a:pt x="7502" y="575634"/>
                </a:cubicBezTo>
                <a:cubicBezTo>
                  <a:pt x="7502" y="257720"/>
                  <a:pt x="265222" y="0"/>
                  <a:pt x="583136" y="0"/>
                </a:cubicBezTo>
                <a:close/>
              </a:path>
            </a:pathLst>
          </a:cu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419" name="组合 34"/>
          <p:cNvGrpSpPr/>
          <p:nvPr/>
        </p:nvGrpSpPr>
        <p:grpSpPr>
          <a:xfrm>
            <a:off x="3102840" y="1825560"/>
            <a:ext cx="389880" cy="678600"/>
            <a:chOff x="3102840" y="1825560"/>
            <a:chExt cx="389880" cy="678600"/>
          </a:xfrm>
        </p:grpSpPr>
        <p:sp>
          <p:nvSpPr>
            <p:cNvPr id="420" name="任意多边形 35"/>
            <p:cNvSpPr/>
            <p:nvPr/>
          </p:nvSpPr>
          <p:spPr>
            <a:xfrm>
              <a:off x="3102840" y="1825560"/>
              <a:ext cx="389880" cy="5425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820338" h="1141211">
                  <a:moveTo>
                    <a:pt x="228600" y="1141211"/>
                  </a:moveTo>
                  <a:cubicBezTo>
                    <a:pt x="228600" y="974519"/>
                    <a:pt x="188354" y="823608"/>
                    <a:pt x="123285" y="714369"/>
                  </a:cubicBezTo>
                  <a:lnTo>
                    <a:pt x="74084" y="646220"/>
                  </a:lnTo>
                  <a:lnTo>
                    <a:pt x="73427" y="643591"/>
                  </a:lnTo>
                  <a:lnTo>
                    <a:pt x="70051" y="639499"/>
                  </a:lnTo>
                  <a:cubicBezTo>
                    <a:pt x="25824" y="574035"/>
                    <a:pt x="0" y="495118"/>
                    <a:pt x="0" y="410169"/>
                  </a:cubicBezTo>
                  <a:cubicBezTo>
                    <a:pt x="0" y="183639"/>
                    <a:pt x="183639" y="0"/>
                    <a:pt x="410169" y="0"/>
                  </a:cubicBezTo>
                  <a:cubicBezTo>
                    <a:pt x="636699" y="0"/>
                    <a:pt x="820338" y="183639"/>
                    <a:pt x="820338" y="410169"/>
                  </a:cubicBezTo>
                  <a:cubicBezTo>
                    <a:pt x="820338" y="495118"/>
                    <a:pt x="794514" y="574035"/>
                    <a:pt x="750288" y="639499"/>
                  </a:cubicBezTo>
                  <a:lnTo>
                    <a:pt x="746911" y="643591"/>
                  </a:lnTo>
                  <a:lnTo>
                    <a:pt x="746254" y="646220"/>
                  </a:lnTo>
                  <a:lnTo>
                    <a:pt x="697054" y="714369"/>
                  </a:lnTo>
                  <a:cubicBezTo>
                    <a:pt x="631984" y="823608"/>
                    <a:pt x="591738" y="974519"/>
                    <a:pt x="591738" y="1141211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21" name="直接连接符 36"/>
            <p:cNvCxnSpPr/>
            <p:nvPr/>
          </p:nvCxnSpPr>
          <p:spPr>
            <a:xfrm flipV="1">
              <a:off x="3202200" y="2372760"/>
              <a:ext cx="68400" cy="3420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22" name="直接连接符 37"/>
            <p:cNvCxnSpPr/>
            <p:nvPr/>
          </p:nvCxnSpPr>
          <p:spPr>
            <a:xfrm flipV="1">
              <a:off x="3202200" y="2372760"/>
              <a:ext cx="145800" cy="795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23" name="直接连接符 38"/>
            <p:cNvCxnSpPr/>
            <p:nvPr/>
          </p:nvCxnSpPr>
          <p:spPr>
            <a:xfrm flipV="1">
              <a:off x="3202200" y="2406600"/>
              <a:ext cx="183960" cy="9792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24" name="直接连接符 39"/>
            <p:cNvCxnSpPr/>
            <p:nvPr/>
          </p:nvCxnSpPr>
          <p:spPr>
            <a:xfrm flipV="1">
              <a:off x="3297600" y="2455200"/>
              <a:ext cx="88560" cy="4932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grpSp>
        <p:nvGrpSpPr>
          <p:cNvPr id="425" name="组合 93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426" name="任意多边形 94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7" name="文本框 95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一个产品项目中，对五要素的应用遵循</a:t>
              </a: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在下一个要素结束之前完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文本框 101"/>
          <p:cNvSpPr/>
          <p:nvPr/>
        </p:nvSpPr>
        <p:spPr>
          <a:xfrm>
            <a:off x="10881000" y="4702680"/>
            <a:ext cx="837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5466c"/>
                </a:solidFill>
                <a:latin typeface="微软雅黑"/>
                <a:ea typeface="微软雅黑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圆角矩形 96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文本框 97"/>
          <p:cNvSpPr/>
          <p:nvPr/>
        </p:nvSpPr>
        <p:spPr>
          <a:xfrm>
            <a:off x="621360" y="1041840"/>
            <a:ext cx="355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五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圆角矩形 98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2" name="文本框 99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00"/>
          <p:cNvSpPr/>
          <p:nvPr/>
        </p:nvSpPr>
        <p:spPr>
          <a:xfrm>
            <a:off x="89640" y="38880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圆角矩形 60"/>
          <p:cNvSpPr/>
          <p:nvPr/>
        </p:nvSpPr>
        <p:spPr>
          <a:xfrm>
            <a:off x="271476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圆角矩形 77"/>
          <p:cNvSpPr/>
          <p:nvPr/>
        </p:nvSpPr>
        <p:spPr>
          <a:xfrm>
            <a:off x="419580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范围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78"/>
          <p:cNvSpPr/>
          <p:nvPr/>
        </p:nvSpPr>
        <p:spPr>
          <a:xfrm>
            <a:off x="569736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圆角矩形 79"/>
          <p:cNvSpPr/>
          <p:nvPr/>
        </p:nvSpPr>
        <p:spPr>
          <a:xfrm>
            <a:off x="719064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80"/>
          <p:cNvSpPr/>
          <p:nvPr/>
        </p:nvSpPr>
        <p:spPr>
          <a:xfrm>
            <a:off x="868608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91560" y="6853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圆角矩形 2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1" name="文本框 3"/>
          <p:cNvSpPr/>
          <p:nvPr/>
        </p:nvSpPr>
        <p:spPr>
          <a:xfrm>
            <a:off x="621360" y="1041840"/>
            <a:ext cx="3556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其他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圆角矩形 4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3" name="圆角矩形 8"/>
          <p:cNvSpPr/>
          <p:nvPr/>
        </p:nvSpPr>
        <p:spPr>
          <a:xfrm>
            <a:off x="3731040" y="1125360"/>
            <a:ext cx="6895440" cy="697680"/>
          </a:xfrm>
          <a:prstGeom prst="roundRect">
            <a:avLst>
              <a:gd name="adj" fmla="val 33740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4" name="文本框 5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椭圆 6"/>
          <p:cNvSpPr/>
          <p:nvPr/>
        </p:nvSpPr>
        <p:spPr>
          <a:xfrm>
            <a:off x="2879640" y="819000"/>
            <a:ext cx="1310760" cy="131076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6" name="椭圆 9"/>
          <p:cNvSpPr/>
          <p:nvPr/>
        </p:nvSpPr>
        <p:spPr>
          <a:xfrm>
            <a:off x="2981880" y="921240"/>
            <a:ext cx="1106280" cy="110628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54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17"/>
          <p:cNvSpPr/>
          <p:nvPr/>
        </p:nvSpPr>
        <p:spPr>
          <a:xfrm>
            <a:off x="5019840" y="1243800"/>
            <a:ext cx="441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供有价值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14"/>
          <p:cNvSpPr/>
          <p:nvPr/>
        </p:nvSpPr>
        <p:spPr>
          <a:xfrm>
            <a:off x="3731040" y="3833280"/>
            <a:ext cx="6895440" cy="697680"/>
          </a:xfrm>
          <a:prstGeom prst="roundRect">
            <a:avLst>
              <a:gd name="adj" fmla="val 4105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椭圆 13"/>
          <p:cNvSpPr/>
          <p:nvPr/>
        </p:nvSpPr>
        <p:spPr>
          <a:xfrm>
            <a:off x="2879640" y="3526920"/>
            <a:ext cx="1310760" cy="131076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0" name="椭圆 15"/>
          <p:cNvSpPr/>
          <p:nvPr/>
        </p:nvSpPr>
        <p:spPr>
          <a:xfrm>
            <a:off x="2981880" y="3629160"/>
            <a:ext cx="1106280" cy="110628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54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8"/>
          <p:cNvSpPr/>
          <p:nvPr/>
        </p:nvSpPr>
        <p:spPr>
          <a:xfrm>
            <a:off x="5019840" y="3951720"/>
            <a:ext cx="441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现好的动态体验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组合 19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453" name="任意多边形 20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4" name="文本框 21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了合理地应用五要素，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内容和技术是基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矩形 33"/>
          <p:cNvSpPr/>
          <p:nvPr/>
        </p:nvSpPr>
        <p:spPr>
          <a:xfrm>
            <a:off x="91440" y="39024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  <Words>933</Words>
  <Paragraphs>3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3:30:21Z</dcterms:created>
  <dc:creator>candy</dc:creator>
  <dc:description/>
  <dc:language>en-US</dc:language>
  <cp:lastModifiedBy>王玉清</cp:lastModifiedBy>
  <dcterms:modified xsi:type="dcterms:W3CDTF">2016-02-23T03:36:46Z</dcterms:modified>
  <cp:revision>1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宽屏</vt:lpwstr>
  </property>
  <property fmtid="{D5CDD505-2E9C-101B-9397-08002B2CF9AE}" pid="4" name="Slides">
    <vt:r8>32</vt:r8>
  </property>
</Properties>
</file>