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2F8-28BE-4BCC-9E80-3EEF59E276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043A-AF82-40B6-9848-99AAB0367A1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B8A-A8F2-4C3E-BEA8-0EFA755C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C25-3B84-4E5E-B141-3734005A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BE-81AD-4FB6-BB39-E9BAA9D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2F9-195E-469A-AE79-DE12681A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D83A-6C08-4133-9D71-76CB8DAB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5E0E-41E1-4B9C-9CB3-D7A70590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74A5-9874-4B3B-B6E4-1E6A7D50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6BB7-1652-4F6C-99C5-5D550F63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6A7-9A38-46D6-951B-BE8AE20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D45D-DE55-48C6-8CED-3A92720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717D-45BA-400C-BC36-9A62192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175-33A1-4B18-A701-6C20F36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3B7F-131C-4BBF-9454-DD3FDA2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FED5-82A2-473D-A0D9-D103E25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782B-9542-4DC1-ADD6-C761D3DB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682E-0152-4D0E-8AD9-DDDE32B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7F2A-7FD9-4539-8B8A-5FD013EC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0BFB-EA80-4F2A-8A92-D6649E93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722C-CF66-4F4D-92A7-B942F828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B532-F506-46A7-8E56-BD1014A8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3B2F-EC63-436F-A262-884FDE4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9BA2-D659-4664-A2C0-4B24CD5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AC1-7A04-4614-80DC-1040E84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A1D3-1153-4D0C-AB4F-3F5C225E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EBEF-8BB3-4FD9-9FA0-B9C07D0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B977-AD17-491C-B67B-1C07216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B502-1ABB-4B4F-AF67-9BD978DA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3210-1F2D-492D-96D8-29809D4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33AD-2132-4B50-92A1-B35BCD8F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B4BE-BEF4-4B5B-95F5-4B11CEA7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83F-B656-40B2-ABD2-AA170D8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4A3-E80D-4942-A038-3C90E91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6EE-427E-441E-B7D5-29F123D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48D-8EC4-4923-9A5A-E9D8582A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E65-64E2-40F5-9DD4-9953B61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4A0-6494-403E-87CB-74E701A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ADD3-4F8B-480C-BAFF-585E7F910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A816-F0D3-46D8-8E3C-27A99A50B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494-C432-4156-830C-76823DC15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玉米秋天收获通用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428640" y="11426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049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王玉清</cp:lastModifiedBy>
  <dcterms:modified xsi:type="dcterms:W3CDTF">2016-02-22T03:40:00Z</dcterms:modified>
  <cp:revision>15</cp:revision>
  <dc:subject/>
  <dc:title>Thankful Turkey</dc:title>
</cp:coreProperties>
</file>