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F7C8-5ECD-4FCE-A778-BEFFCF4CB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6FE-56F5-49ED-BD35-0EA8E48009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DD28-9E24-4677-9A96-C834E8A006F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AF5-44FC-46C7-BF57-EA3F176C746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3100-E7AE-46C8-B33B-B0C99E9FEB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17A-5CE0-4ABC-944D-076500E5B0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4C6F-9D30-410E-BDF3-449EB5291A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12FA-0C82-494D-9EAC-8D09AC0E1A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C66-E8EB-4617-A79E-F6AFFC56FE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A59-B824-44B3-AC11-B9C22FE9D8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84F-5CA8-4328-BEBE-B3B864C8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6F2-E736-4DB9-B327-6EA7FE6A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EC8-12DC-4D09-80F9-C45B370B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DD3-875D-40E6-B9DE-D7816C6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0A7-2F95-45D4-BAC9-3495E40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1D0-65A2-4BB9-8216-C63922C4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A46-BBF4-4986-8E5E-713DEB4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92F-81AC-4ADC-8188-49401B4E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798-1B4E-4A6B-8FDC-14EC60F1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D8C-DBF9-4592-A7F0-2CCF0FD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349-B28D-4ED5-97F4-C68B197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48B-2E74-4009-88B0-F05A7958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orpor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8CA-B56F-44DD-8A65-3082179B7CDF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corporate1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0520" y="17409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雅致蓝色风格商务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  <a:ea typeface="宋体"/>
              </a:rPr>
              <a:t>Presenter Nam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Sub Bull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Colour sche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99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44000" y="2682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462320" y="2560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412000" y="2682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692880" y="2560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777920" y="2682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725440" y="268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659640" y="2560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740720" y="2558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Picture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0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 1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 2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4" descr="snowdrop"/>
          <p:cNvPicPr/>
          <p:nvPr/>
        </p:nvPicPr>
        <p:blipFill>
          <a:blip r:embed="rId1"/>
          <a:stretch/>
        </p:blipFill>
        <p:spPr>
          <a:xfrm>
            <a:off x="5805360" y="2152800"/>
            <a:ext cx="2094120" cy="352872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Sample Graph (3 colou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1374840" y="2062080"/>
          <a:ext cx="67323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062080"/>
                    <a:ext cx="67323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85800" y="6416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of a t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1640" y="2044800"/>
          <a:ext cx="6229440" cy="31687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9"/>
          <p:cNvSpPr/>
          <p:nvPr/>
        </p:nvSpPr>
        <p:spPr>
          <a:xfrm>
            <a:off x="2232000" y="562464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you to have nice default tables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– but you can cut and paste this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Two column bullet poi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1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s go in he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80720"/>
            <a:ext cx="381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And also in he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s of default sty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2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Text and lines are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99"/>
                </a:solidFill>
                <a:uFillTx/>
                <a:latin typeface="Verdana"/>
                <a:ea typeface="宋体"/>
              </a:rPr>
              <a:t>Hyperlinks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ccccff"/>
                </a:solidFill>
                <a:uFillTx/>
                <a:latin typeface="Verdana"/>
                <a:ea typeface="宋体"/>
              </a:rPr>
              <a:t>Visited hyperlinks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7480" y="2136600"/>
          <a:ext cx="2995560" cy="1251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ab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5"/>
          <p:cNvSpPr/>
          <p:nvPr/>
        </p:nvSpPr>
        <p:spPr>
          <a:xfrm>
            <a:off x="792000" y="4568760"/>
            <a:ext cx="223236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672000" y="4568760"/>
            <a:ext cx="223200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76440" y="19051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business present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41520" y="3459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33920" y="3459240"/>
            <a:ext cx="396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3200" y="5708520"/>
            <a:ext cx="839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00200" y="280188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pt宝藏</dc:creator>
  <dc:description/>
  <dc:language>en-US</dc:language>
  <cp:lastModifiedBy>a</cp:lastModifiedBy>
  <dcterms:modified xsi:type="dcterms:W3CDTF">2015-07-25T06:51:22Z</dcterms:modified>
  <cp:revision>6</cp:revision>
  <dc:subject/>
  <dc:title>www.pptbz.com</dc:title>
</cp:coreProperties>
</file>