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8A4-883D-4B4E-BC62-61C9FFED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2A1-1C36-43D0-89B4-60A5A83D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C42-AC1E-4CD7-B9CA-1FE6D1A0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E9B5-3C6D-4E65-91F1-0E1679A6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3E3-5269-4213-ABD8-08E8FCFD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B98E-28CE-4B0E-8ADA-24CD95D7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3E20-D9D1-4142-AE78-1A6FCF42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C4A5-1CEB-4D19-B0A2-5175538B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7CB5-EC5A-4086-B852-1DCED98F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7001-A968-4585-AEC0-2C569245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6F3-3E2F-4C0A-95F2-6810B56E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0449-EC1F-4CEC-8FCB-D8F195A0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DCE0-3004-4594-9DA5-1A045110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9617-4C93-4D19-A41D-C1D289B0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9EC5-2CA0-4D53-9FAC-113B2D6E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D9CF-6E9B-4443-8449-A0DFC2A8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2BA1-50A4-4CF6-9A16-D656BD75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CE33-0EAE-4185-A5C0-C7CDC6D8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F22-47FF-4B4F-84B8-F119364A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16C-322F-4196-AD4F-17DABA37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A8D8-0A9D-400B-9F6D-74A657DD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332-2EA6-4BBA-96DE-45CBC71C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93EC-E991-4B98-BD4D-A3216BC3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036-6EB6-4858-B3B4-F502D321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DEA1-E1F5-4726-AF10-9D9A3137D82F}" type="slidenum"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A9B2-FE33-48CD-A6D7-899958C2949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-138240" y="-27000"/>
            <a:ext cx="9282240" cy="6645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twist"/>
          <p:cNvPicPr/>
          <p:nvPr/>
        </p:nvPicPr>
        <p:blipFill>
          <a:blip r:embed="rId2"/>
          <a:stretch/>
        </p:blipFill>
        <p:spPr>
          <a:xfrm>
            <a:off x="1440" y="1854360"/>
            <a:ext cx="9142560" cy="3149280"/>
          </a:xfrm>
          <a:prstGeom prst="rect">
            <a:avLst/>
          </a:prstGeom>
          <a:ln w="0">
            <a:noFill/>
          </a:ln>
        </p:spPr>
      </p:pic>
      <p:sp>
        <p:nvSpPr>
          <p:cNvPr id="162" name="WordArt 4"/>
          <p:cNvSpPr txBox="1"/>
          <p:nvPr/>
        </p:nvSpPr>
        <p:spPr>
          <a:xfrm>
            <a:off x="2889360" y="2997360"/>
            <a:ext cx="33652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 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419640" y="361332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00"/>
                </a:solidFill>
                <a:latin typeface="微软雅黑"/>
                <a:ea typeface="微软雅黑"/>
              </a:rPr>
              <a:t>GUI</a:t>
            </a:r>
            <a:r>
              <a:rPr b="1" lang="zh-CN" sz="1800" spc="-1" strike="noStrike">
                <a:solidFill>
                  <a:srgbClr val="ffcc00"/>
                </a:solidFill>
                <a:latin typeface="微软雅黑"/>
                <a:ea typeface="微软雅黑"/>
              </a:rPr>
              <a:t>设计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star"/>
          <p:cNvPicPr/>
          <p:nvPr/>
        </p:nvPicPr>
        <p:blipFill>
          <a:blip r:embed="rId3"/>
          <a:stretch/>
        </p:blipFill>
        <p:spPr>
          <a:xfrm>
            <a:off x="2482920" y="202896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star"/>
          <p:cNvPicPr/>
          <p:nvPr/>
        </p:nvPicPr>
        <p:blipFill>
          <a:blip r:embed="rId4"/>
          <a:stretch/>
        </p:blipFill>
        <p:spPr>
          <a:xfrm rot="2940000">
            <a:off x="4611240" y="2349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66" name="矩形 1"/>
          <p:cNvSpPr/>
          <p:nvPr/>
        </p:nvSpPr>
        <p:spPr>
          <a:xfrm>
            <a:off x="1733040" y="111132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紫金韵律质感简约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menu_b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1908000" y="299736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什么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特点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准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用范围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别细分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●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范例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menu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2771640" y="3149640"/>
            <a:ext cx="357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什么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5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ontents_bg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460520" y="69228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33"/>
                </a:solidFill>
                <a:latin typeface="微软雅黑"/>
                <a:ea typeface="微软雅黑"/>
              </a:rPr>
              <a:t>GUI</a:t>
            </a:r>
            <a:r>
              <a:rPr b="1" lang="zh-CN" sz="1800" spc="-1" strike="noStrike">
                <a:solidFill>
                  <a:srgbClr val="996633"/>
                </a:solidFill>
                <a:latin typeface="微软雅黑"/>
                <a:ea typeface="微软雅黑"/>
              </a:rPr>
              <a:t>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460520" y="1413000"/>
            <a:ext cx="6208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由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Xerox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施乐）首先发明，如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以“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tel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”方式操作的，因为你可以用鼠标来点击按钮来进行操作，很直观。而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DOS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不具备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所以他只能输入命令。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DOS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这种界面叫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 (Command line User Interface )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命令行模式的人机接口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raphical User Interface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简称，即图形用户界面，通常人机交互图形化用户界面设计经常读做“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oo-ee”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准确来说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屏幕产品的视觉体验和互动操作部分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I </a:t>
            </a:r>
            <a:r>
              <a:rPr b="1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一种结合计算机科学、美学、心理学、行为学，及各商业领域需求分析的人机系统工程，强调人—机—环境三者作为一个系统进行总体设计。这种面向客户的系统工程设计其目的是优化产品的性能，使操作更人性化，减轻使用者的认知负担，使其更适合用户的操作需求，直接提升产品的市场竞争力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0240" y="651996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twist"/>
          <p:cNvPicPr/>
          <p:nvPr/>
        </p:nvPicPr>
        <p:blipFill>
          <a:blip r:embed="rId2"/>
          <a:stretch/>
        </p:blipFill>
        <p:spPr>
          <a:xfrm>
            <a:off x="0" y="1854360"/>
            <a:ext cx="9144000" cy="3149280"/>
          </a:xfrm>
          <a:prstGeom prst="rect">
            <a:avLst/>
          </a:prstGeom>
          <a:ln w="0">
            <a:noFill/>
          </a:ln>
        </p:spPr>
      </p:pic>
      <p:sp>
        <p:nvSpPr>
          <p:cNvPr id="181" name="WordArt 4"/>
          <p:cNvSpPr txBox="1"/>
          <p:nvPr/>
        </p:nvSpPr>
        <p:spPr>
          <a:xfrm>
            <a:off x="2889360" y="2997360"/>
            <a:ext cx="33652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419640" y="361332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c00"/>
                </a:solidFill>
                <a:latin typeface="微软雅黑"/>
                <a:ea typeface="微软雅黑"/>
              </a:rPr>
              <a:t>感谢观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star"/>
          <p:cNvPicPr/>
          <p:nvPr/>
        </p:nvPicPr>
        <p:blipFill>
          <a:blip r:embed="rId3"/>
          <a:stretch/>
        </p:blipFill>
        <p:spPr>
          <a:xfrm>
            <a:off x="2627280" y="234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star"/>
          <p:cNvPicPr/>
          <p:nvPr/>
        </p:nvPicPr>
        <p:blipFill>
          <a:blip r:embed="rId4"/>
          <a:stretch/>
        </p:blipFill>
        <p:spPr>
          <a:xfrm rot="2940000">
            <a:off x="5004000" y="204444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王玉清</cp:lastModifiedBy>
  <dcterms:modified xsi:type="dcterms:W3CDTF">2016-03-01T06:59:07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