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0DEE-6BD1-4587-A4E9-2972ED0F3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7C34-647B-4D69-9A40-08AC0836F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333B-DDCE-4207-B9BE-57FA9B05D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E6ED-B184-4C66-A44B-071751AD9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56799-2493-4C74-8752-20A9AD5AE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AA577-5FDE-480F-88DB-B078EF4C7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39B20-1B94-421A-BF45-F76B2240E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A7CBD-90CB-412D-A7D6-2EB3A35B4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BCA72-13EB-4868-8404-D3CC453FB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4B302-24AD-4783-8CB4-7178C6FA2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6E164-A561-4F22-8D21-42BBBAE6B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EDBE-3C47-47DF-994A-D1240FE91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D2D86-9DCE-4F9C-8AD8-2C2F34F07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4F439-239F-437F-B495-08670FB4A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DD8AD-CED4-47BC-BD6B-1130307CA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7AC36-A500-47A8-9902-C9D13E24A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47315-60CD-4A7D-8CDD-357AFC27C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3B9F-EE79-4AFB-8FF2-BBF763D8E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AC84-F2B3-4A24-BEC3-EF652A198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9546-C9E0-46A9-B5C9-BA421E0B3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3EC6-67E3-468D-ACEA-53B5A29E2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F488-5E4D-43E8-8E28-B38EEDCF7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DD1A-5C57-4E8B-93BE-75ECBA80D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7D50-CDFE-4BC9-A94F-84891743A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A85158F-D00F-43E5-8EAE-759EE87434EB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53A0E44-43E2-480A-BEE0-5182B4CF4D31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80720" y="1989000"/>
            <a:ext cx="878256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炫丽红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D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光盘通用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440" cy="175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8b8b8b"/>
              </a:solidFill>
              <a:latin typeface="Calibri"/>
            </a:endParaRPr>
          </a:p>
        </p:txBody>
      </p:sp>
      <p:sp>
        <p:nvSpPr>
          <p:cNvPr id="84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CD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CD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CD</Template>
  <TotalTime>3</TotalTime>
  <Application>LibreOffice/7.4.7.2$Linux_X86_64 LibreOffice_project/40$Build-2</Application>
  <AppVersion>15.0000</AppVersion>
  <Words>17</Words>
  <Paragraphs>2</Paragraphs>
  <Company>Microsof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5T11:20:59Z</dcterms:created>
  <dc:creator>haobaopc04</dc:creator>
  <dc:description/>
  <dc:language>en-US</dc:language>
  <cp:lastModifiedBy>王玉清</cp:lastModifiedBy>
  <dcterms:modified xsi:type="dcterms:W3CDTF">2016-02-29T07:51:14Z</dcterms:modified>
  <cp:revision>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3</vt:r8>
  </property>
</Properties>
</file>