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udio1.wav" ContentType="audio/x-wav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79358-8F60-4CA1-81E1-5564992CF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57AD90-90F3-4FF7-8C4E-9900A774F3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DBE9AD-899A-4B53-A2BB-4337987140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88E-922D-437B-A4DA-AF31A972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7C6-6C37-4689-94A9-4F695388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71D-4F5F-4FC4-B0F4-F19D6545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41E-BD0F-44A6-A348-BFDC4C96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6A96-840E-46BD-9F5B-A90806C9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7D59-80E2-45D4-A7F6-5D11FD3B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97B6-EAF4-485C-A533-1D8398B2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C4B4-3D46-42E4-AB2E-03353B3F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5E46-84D0-4586-B798-D2D0CD1A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FF7A-48E4-4D4A-AA05-D8C48A76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91BD-D447-4889-A7AF-593131A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B69-CB4F-4D04-BCAA-B2D0367E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A0AC-D97B-4AD8-85DD-5CBE0E8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7233-922A-4D64-A3C1-5C99E40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7E7D-45D4-4B86-B680-E3B0700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1301-A9F8-4B11-A7C6-D7CB856A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C216-8568-46DE-9788-AF03E55F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FD3-3AFD-4A96-8971-BDBDCC1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2AB-1614-4C3D-9DC3-675D008C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B14-426F-4C2B-99C3-2E0D48D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7B6-BA8D-4891-AB74-0ECE3313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83E-8651-4061-8977-4F8A5AE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9F1-1FE1-4B3D-BF91-04527B3F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6AB-DDD6-4398-914B-6A4F645E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EEB331-679C-4683-BB1E-B8DACD82D6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29DD4B-DF4E-4BC2-A67A-766CC279AF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6300360" y="5517360"/>
            <a:ext cx="2264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3"/>
                </a:solidFill>
                <a:latin typeface="Arial Black"/>
                <a:ea typeface="宋体"/>
              </a:rPr>
              <a:t>Star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>
            <a:hlinkClick r:id="" action="ppaction://hlinkshowjump?jump=nextslide"/>
          </p:cNvPr>
          <p:cNvSpPr/>
          <p:nvPr/>
        </p:nvSpPr>
        <p:spPr>
          <a:xfrm>
            <a:off x="6401880" y="5517360"/>
            <a:ext cx="19033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3"/>
                </a:solidFill>
                <a:latin typeface="Arial Black"/>
                <a:ea typeface="宋体"/>
              </a:rPr>
              <a:t>Star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01880" y="5517360"/>
            <a:ext cx="19033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3"/>
                </a:solidFill>
                <a:latin typeface="Arial Black"/>
                <a:ea typeface="宋体"/>
              </a:rPr>
              <a:t>Star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" name="直接连接符 99"/>
          <p:cNvCxnSpPr/>
          <p:nvPr/>
        </p:nvCxnSpPr>
        <p:spPr>
          <a:xfrm>
            <a:off x="1891440" y="955800"/>
            <a:ext cx="2556720" cy="1317960"/>
          </a:xfrm>
          <a:prstGeom prst="straightConnector1">
            <a:avLst/>
          </a:prstGeom>
          <a:ln cap="rnd" w="146050">
            <a:solidFill>
              <a:srgbClr val="ffff00"/>
            </a:solidFill>
            <a:round/>
            <a:headEnd len="lg" type="oval" w="lg"/>
          </a:ln>
        </p:spPr>
      </p:cxnSp>
      <p:cxnSp>
        <p:nvCxnSpPr>
          <p:cNvPr id="92" name="直接连接符 100"/>
          <p:cNvCxnSpPr/>
          <p:nvPr/>
        </p:nvCxnSpPr>
        <p:spPr>
          <a:xfrm>
            <a:off x="1187280" y="955800"/>
            <a:ext cx="2557080" cy="1317960"/>
          </a:xfrm>
          <a:prstGeom prst="straightConnector1">
            <a:avLst/>
          </a:prstGeom>
          <a:ln cap="rnd" w="146050">
            <a:solidFill>
              <a:srgbClr val="f79646">
                <a:lumMod val="40000"/>
                <a:lumOff val="60000"/>
              </a:srgbClr>
            </a:solidFill>
            <a:round/>
            <a:headEnd len="lg" type="oval" w="lg"/>
          </a:ln>
        </p:spPr>
      </p:cxnSp>
      <p:cxnSp>
        <p:nvCxnSpPr>
          <p:cNvPr id="93" name="直接连接符 101"/>
          <p:cNvCxnSpPr/>
          <p:nvPr/>
        </p:nvCxnSpPr>
        <p:spPr>
          <a:xfrm>
            <a:off x="2051640" y="1556640"/>
            <a:ext cx="3026160" cy="1604520"/>
          </a:xfrm>
          <a:prstGeom prst="straightConnector1">
            <a:avLst/>
          </a:prstGeom>
          <a:ln cap="rnd" w="152400">
            <a:solidFill>
              <a:srgbClr val="00b050"/>
            </a:solidFill>
            <a:round/>
            <a:headEnd len="lg" type="oval" w="lg"/>
          </a:ln>
        </p:spPr>
      </p:cxnSp>
      <p:cxnSp>
        <p:nvCxnSpPr>
          <p:cNvPr id="94" name="直接连接符 102"/>
          <p:cNvCxnSpPr/>
          <p:nvPr/>
        </p:nvCxnSpPr>
        <p:spPr>
          <a:xfrm>
            <a:off x="1474200" y="404640"/>
            <a:ext cx="2556720" cy="1317960"/>
          </a:xfrm>
          <a:prstGeom prst="straightConnector1">
            <a:avLst/>
          </a:prstGeom>
          <a:ln cap="rnd" w="66675">
            <a:solidFill>
              <a:srgbClr val="9bbb59">
                <a:lumMod val="75000"/>
              </a:srgbClr>
            </a:solidFill>
            <a:round/>
            <a:headEnd len="lg" type="oval" w="lg"/>
          </a:ln>
        </p:spPr>
      </p:cxnSp>
      <p:cxnSp>
        <p:nvCxnSpPr>
          <p:cNvPr id="95" name="直接连接符 103"/>
          <p:cNvCxnSpPr/>
          <p:nvPr/>
        </p:nvCxnSpPr>
        <p:spPr>
          <a:xfrm>
            <a:off x="1187280" y="2330640"/>
            <a:ext cx="2557080" cy="1318320"/>
          </a:xfrm>
          <a:prstGeom prst="straightConnector1">
            <a:avLst/>
          </a:prstGeom>
          <a:ln cap="rnd" w="146050">
            <a:solidFill>
              <a:srgbClr val="ff0000"/>
            </a:solidFill>
            <a:round/>
            <a:headEnd len="lg" type="oval" w="lg"/>
          </a:ln>
        </p:spPr>
      </p:cxnSp>
      <p:cxnSp>
        <p:nvCxnSpPr>
          <p:cNvPr id="96" name="直接连接符 104"/>
          <p:cNvCxnSpPr/>
          <p:nvPr/>
        </p:nvCxnSpPr>
        <p:spPr>
          <a:xfrm>
            <a:off x="1187280" y="2674440"/>
            <a:ext cx="2557080" cy="1317960"/>
          </a:xfrm>
          <a:prstGeom prst="straightConnector1">
            <a:avLst/>
          </a:prstGeom>
          <a:ln cap="rnd" w="146050">
            <a:solidFill>
              <a:srgbClr val="1f497d">
                <a:lumMod val="40000"/>
                <a:lumOff val="60000"/>
              </a:srgbClr>
            </a:solidFill>
            <a:round/>
            <a:headEnd len="lg" type="oval" w="lg"/>
          </a:ln>
        </p:spPr>
      </p:cxnSp>
      <p:cxnSp>
        <p:nvCxnSpPr>
          <p:cNvPr id="97" name="直接连接符 105"/>
          <p:cNvCxnSpPr/>
          <p:nvPr/>
        </p:nvCxnSpPr>
        <p:spPr>
          <a:xfrm>
            <a:off x="1422000" y="1929600"/>
            <a:ext cx="2556720" cy="1318320"/>
          </a:xfrm>
          <a:prstGeom prst="straightConnector1">
            <a:avLst/>
          </a:prstGeom>
          <a:ln cap="rnd" w="146050">
            <a:solidFill>
              <a:srgbClr val="eeece1">
                <a:lumMod val="50000"/>
              </a:srgbClr>
            </a:solidFill>
            <a:round/>
            <a:headEnd len="lg" type="oval" w="lg"/>
          </a:ln>
        </p:spPr>
      </p:cxnSp>
      <p:cxnSp>
        <p:nvCxnSpPr>
          <p:cNvPr id="98" name="直接连接符 106"/>
          <p:cNvCxnSpPr/>
          <p:nvPr/>
        </p:nvCxnSpPr>
        <p:spPr>
          <a:xfrm>
            <a:off x="1907640" y="2564640"/>
            <a:ext cx="3026160" cy="1604520"/>
          </a:xfrm>
          <a:prstGeom prst="straightConnector1">
            <a:avLst/>
          </a:prstGeom>
          <a:ln cap="rnd" w="82550">
            <a:solidFill>
              <a:srgbClr val="00cc00"/>
            </a:solidFill>
            <a:round/>
            <a:headEnd len="lg" type="oval" w="lg"/>
          </a:ln>
        </p:spPr>
      </p:cxnSp>
      <p:cxnSp>
        <p:nvCxnSpPr>
          <p:cNvPr id="99" name="直接连接符 107"/>
          <p:cNvCxnSpPr/>
          <p:nvPr/>
        </p:nvCxnSpPr>
        <p:spPr>
          <a:xfrm>
            <a:off x="1474200" y="612000"/>
            <a:ext cx="2556720" cy="1317960"/>
          </a:xfrm>
          <a:prstGeom prst="straightConnector1">
            <a:avLst/>
          </a:prstGeom>
          <a:ln cap="rnd" w="146050">
            <a:solidFill>
              <a:srgbClr val="c00000"/>
            </a:solidFill>
            <a:round/>
            <a:headEnd len="lg" type="oval" w="lg"/>
          </a:ln>
        </p:spPr>
      </p:cxnSp>
      <p:cxnSp>
        <p:nvCxnSpPr>
          <p:cNvPr id="100" name="直接连接符 108"/>
          <p:cNvCxnSpPr/>
          <p:nvPr/>
        </p:nvCxnSpPr>
        <p:spPr>
          <a:xfrm>
            <a:off x="1422000" y="1585800"/>
            <a:ext cx="2556720" cy="1318320"/>
          </a:xfrm>
          <a:prstGeom prst="straightConnector1">
            <a:avLst/>
          </a:prstGeom>
          <a:ln cap="rnd" w="146050">
            <a:solidFill>
              <a:srgbClr val="8064a2">
                <a:lumMod val="50000"/>
              </a:srgbClr>
            </a:solidFill>
            <a:round/>
            <a:headEnd len="lg" type="oval" w="lg"/>
          </a:ln>
        </p:spPr>
      </p:cxnSp>
      <p:sp>
        <p:nvSpPr>
          <p:cNvPr id="101" name="矩形 14"/>
          <p:cNvSpPr/>
          <p:nvPr/>
        </p:nvSpPr>
        <p:spPr>
          <a:xfrm>
            <a:off x="4426920" y="3141000"/>
            <a:ext cx="1457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soft">
                <a:rot lat="0" lon="0" rev="10800000"/>
              </a:lightRig>
            </a:scene3d>
            <a:sp3d>
              <a:bevelT w="27940" h="12700"/>
              <a:contourClr>
                <a:srgbClr val="dddddd"/>
              </a:contourClr>
            </a:sp3d>
          </a:bodyPr>
          <a:p>
            <a:pPr>
              <a:lnSpc>
                <a:spcPct val="100000"/>
              </a:lnSpc>
            </a:pPr>
            <a:r>
              <a:rPr b="1" lang="zh-CN" sz="4400" spc="148" strike="noStrike">
                <a:solidFill>
                  <a:srgbClr val="f8f8f8"/>
                </a:solidFill>
                <a:latin typeface="Calibri"/>
              </a:rPr>
              <a:t>追求</a:t>
            </a:r>
            <a:r>
              <a:rPr b="1" lang="zh-CN" sz="3600" spc="148" strike="noStrike">
                <a:solidFill>
                  <a:srgbClr val="f8f8f8"/>
                </a:solidFill>
                <a:latin typeface="Calibri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5436000" y="4077000"/>
            <a:ext cx="2592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soft">
                <a:rot lat="0" lon="0" rev="10800000"/>
              </a:lightRig>
            </a:scene3d>
            <a:sp3d>
              <a:bevelT w="27940" h="12700"/>
              <a:contourClr>
                <a:srgbClr val="dddddd"/>
              </a:contourClr>
            </a:sp3d>
          </a:bodyPr>
          <a:p>
            <a:pPr>
              <a:lnSpc>
                <a:spcPct val="100000"/>
              </a:lnSpc>
            </a:pPr>
            <a:r>
              <a:rPr b="1" lang="zh-CN" sz="3600" spc="148" strike="noStrike">
                <a:solidFill>
                  <a:srgbClr val="f8f8f8"/>
                </a:solidFill>
                <a:latin typeface="Calibri"/>
              </a:rPr>
              <a:t>挑战</a:t>
            </a:r>
            <a:r>
              <a:rPr b="1" lang="zh-CN" sz="4400" spc="148" strike="noStrike">
                <a:solidFill>
                  <a:srgbClr val="f8f8f8"/>
                </a:solidFill>
                <a:latin typeface="Calibri"/>
              </a:rPr>
              <a:t>未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2023920" y="24336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追求梦想挑战未来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3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1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810"/>
                            </p:stCondLst>
                            <p:childTnLst>
                              <p:par>
                                <p:cTn id="2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81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81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24"/>
          <p:cNvSpPr/>
          <p:nvPr/>
        </p:nvSpPr>
        <p:spPr>
          <a:xfrm>
            <a:off x="0" y="6021360"/>
            <a:ext cx="9143640" cy="35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9" name="Freeform 27"/>
          <p:cNvSpPr/>
          <p:nvPr/>
        </p:nvSpPr>
        <p:spPr>
          <a:xfrm>
            <a:off x="6732360" y="1556640"/>
            <a:ext cx="1499760" cy="146952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69520"/>
              <a:gd name="textAreaBottom" fmla="*/ 1469880 h 1469520"/>
            </a:gdLst>
            <a:ahLst/>
            <a:rect l="textAreaLeft" t="textAreaTop" r="textAreaRight" b="textAreaBottom"/>
            <a:pathLst>
              <a:path w="990" h="970">
                <a:moveTo>
                  <a:pt x="379" y="918"/>
                </a:moveTo>
                <a:cubicBezTo>
                  <a:pt x="379" y="915"/>
                  <a:pt x="376" y="914"/>
                  <a:pt x="377" y="910"/>
                </a:cubicBezTo>
                <a:cubicBezTo>
                  <a:pt x="367" y="909"/>
                  <a:pt x="367" y="924"/>
                  <a:pt x="359" y="925"/>
                </a:cubicBezTo>
                <a:cubicBezTo>
                  <a:pt x="359" y="922"/>
                  <a:pt x="359" y="922"/>
                  <a:pt x="359" y="922"/>
                </a:cubicBezTo>
                <a:cubicBezTo>
                  <a:pt x="356" y="921"/>
                  <a:pt x="356" y="921"/>
                  <a:pt x="356" y="921"/>
                </a:cubicBezTo>
                <a:cubicBezTo>
                  <a:pt x="348" y="918"/>
                  <a:pt x="343" y="918"/>
                  <a:pt x="336" y="921"/>
                </a:cubicBezTo>
                <a:cubicBezTo>
                  <a:pt x="335" y="921"/>
                  <a:pt x="332" y="923"/>
                  <a:pt x="332" y="923"/>
                </a:cubicBezTo>
                <a:cubicBezTo>
                  <a:pt x="325" y="925"/>
                  <a:pt x="317" y="926"/>
                  <a:pt x="311" y="930"/>
                </a:cubicBezTo>
                <a:cubicBezTo>
                  <a:pt x="303" y="927"/>
                  <a:pt x="297" y="923"/>
                  <a:pt x="291" y="918"/>
                </a:cubicBezTo>
                <a:cubicBezTo>
                  <a:pt x="275" y="919"/>
                  <a:pt x="253" y="929"/>
                  <a:pt x="240" y="919"/>
                </a:cubicBezTo>
                <a:cubicBezTo>
                  <a:pt x="245" y="897"/>
                  <a:pt x="262" y="894"/>
                  <a:pt x="281" y="893"/>
                </a:cubicBezTo>
                <a:cubicBezTo>
                  <a:pt x="281" y="897"/>
                  <a:pt x="288" y="897"/>
                  <a:pt x="287" y="902"/>
                </a:cubicBezTo>
                <a:cubicBezTo>
                  <a:pt x="290" y="904"/>
                  <a:pt x="287" y="910"/>
                  <a:pt x="292" y="911"/>
                </a:cubicBezTo>
                <a:cubicBezTo>
                  <a:pt x="297" y="914"/>
                  <a:pt x="298" y="909"/>
                  <a:pt x="300" y="909"/>
                </a:cubicBezTo>
                <a:cubicBezTo>
                  <a:pt x="302" y="909"/>
                  <a:pt x="307" y="911"/>
                  <a:pt x="308" y="910"/>
                </a:cubicBezTo>
                <a:cubicBezTo>
                  <a:pt x="311" y="908"/>
                  <a:pt x="308" y="903"/>
                  <a:pt x="313" y="904"/>
                </a:cubicBezTo>
                <a:cubicBezTo>
                  <a:pt x="316" y="904"/>
                  <a:pt x="321" y="901"/>
                  <a:pt x="322" y="898"/>
                </a:cubicBezTo>
                <a:cubicBezTo>
                  <a:pt x="330" y="901"/>
                  <a:pt x="338" y="901"/>
                  <a:pt x="345" y="899"/>
                </a:cubicBezTo>
                <a:cubicBezTo>
                  <a:pt x="347" y="899"/>
                  <a:pt x="351" y="898"/>
                  <a:pt x="353" y="897"/>
                </a:cubicBezTo>
                <a:cubicBezTo>
                  <a:pt x="354" y="897"/>
                  <a:pt x="353" y="894"/>
                  <a:pt x="354" y="893"/>
                </a:cubicBezTo>
                <a:cubicBezTo>
                  <a:pt x="358" y="892"/>
                  <a:pt x="362" y="894"/>
                  <a:pt x="366" y="892"/>
                </a:cubicBezTo>
                <a:cubicBezTo>
                  <a:pt x="372" y="888"/>
                  <a:pt x="376" y="881"/>
                  <a:pt x="381" y="876"/>
                </a:cubicBezTo>
                <a:cubicBezTo>
                  <a:pt x="386" y="867"/>
                  <a:pt x="375" y="867"/>
                  <a:pt x="377" y="860"/>
                </a:cubicBezTo>
                <a:cubicBezTo>
                  <a:pt x="384" y="829"/>
                  <a:pt x="360" y="818"/>
                  <a:pt x="347" y="799"/>
                </a:cubicBezTo>
                <a:cubicBezTo>
                  <a:pt x="348" y="791"/>
                  <a:pt x="359" y="798"/>
                  <a:pt x="361" y="791"/>
                </a:cubicBezTo>
                <a:cubicBezTo>
                  <a:pt x="362" y="785"/>
                  <a:pt x="362" y="776"/>
                  <a:pt x="367" y="777"/>
                </a:cubicBezTo>
                <a:cubicBezTo>
                  <a:pt x="367" y="772"/>
                  <a:pt x="363" y="770"/>
                  <a:pt x="362" y="764"/>
                </a:cubicBezTo>
                <a:cubicBezTo>
                  <a:pt x="361" y="753"/>
                  <a:pt x="369" y="738"/>
                  <a:pt x="358" y="732"/>
                </a:cubicBezTo>
                <a:cubicBezTo>
                  <a:pt x="352" y="731"/>
                  <a:pt x="345" y="734"/>
                  <a:pt x="341" y="737"/>
                </a:cubicBezTo>
                <a:cubicBezTo>
                  <a:pt x="340" y="737"/>
                  <a:pt x="341" y="743"/>
                  <a:pt x="340" y="744"/>
                </a:cubicBezTo>
                <a:cubicBezTo>
                  <a:pt x="338" y="745"/>
                  <a:pt x="334" y="746"/>
                  <a:pt x="332" y="746"/>
                </a:cubicBezTo>
                <a:cubicBezTo>
                  <a:pt x="327" y="745"/>
                  <a:pt x="330" y="751"/>
                  <a:pt x="326" y="753"/>
                </a:cubicBezTo>
                <a:cubicBezTo>
                  <a:pt x="321" y="755"/>
                  <a:pt x="316" y="756"/>
                  <a:pt x="309" y="760"/>
                </a:cubicBezTo>
                <a:cubicBezTo>
                  <a:pt x="308" y="761"/>
                  <a:pt x="306" y="766"/>
                  <a:pt x="304" y="767"/>
                </a:cubicBezTo>
                <a:cubicBezTo>
                  <a:pt x="303" y="768"/>
                  <a:pt x="298" y="765"/>
                  <a:pt x="297" y="765"/>
                </a:cubicBezTo>
                <a:cubicBezTo>
                  <a:pt x="292" y="769"/>
                  <a:pt x="287" y="774"/>
                  <a:pt x="273" y="768"/>
                </a:cubicBezTo>
                <a:cubicBezTo>
                  <a:pt x="275" y="764"/>
                  <a:pt x="274" y="761"/>
                  <a:pt x="271" y="760"/>
                </a:cubicBezTo>
                <a:cubicBezTo>
                  <a:pt x="270" y="747"/>
                  <a:pt x="284" y="745"/>
                  <a:pt x="290" y="741"/>
                </a:cubicBezTo>
                <a:cubicBezTo>
                  <a:pt x="294" y="739"/>
                  <a:pt x="297" y="733"/>
                  <a:pt x="300" y="732"/>
                </a:cubicBezTo>
                <a:cubicBezTo>
                  <a:pt x="301" y="731"/>
                  <a:pt x="305" y="729"/>
                  <a:pt x="305" y="729"/>
                </a:cubicBezTo>
                <a:cubicBezTo>
                  <a:pt x="306" y="728"/>
                  <a:pt x="310" y="731"/>
                  <a:pt x="312" y="730"/>
                </a:cubicBezTo>
                <a:cubicBezTo>
                  <a:pt x="313" y="730"/>
                  <a:pt x="312" y="727"/>
                  <a:pt x="313" y="727"/>
                </a:cubicBezTo>
                <a:cubicBezTo>
                  <a:pt x="314" y="726"/>
                  <a:pt x="316" y="728"/>
                  <a:pt x="316" y="727"/>
                </a:cubicBezTo>
                <a:cubicBezTo>
                  <a:pt x="317" y="727"/>
                  <a:pt x="317" y="724"/>
                  <a:pt x="317" y="724"/>
                </a:cubicBezTo>
                <a:cubicBezTo>
                  <a:pt x="318" y="723"/>
                  <a:pt x="325" y="722"/>
                  <a:pt x="325" y="722"/>
                </a:cubicBezTo>
                <a:cubicBezTo>
                  <a:pt x="326" y="720"/>
                  <a:pt x="326" y="715"/>
                  <a:pt x="327" y="714"/>
                </a:cubicBezTo>
                <a:cubicBezTo>
                  <a:pt x="328" y="713"/>
                  <a:pt x="333" y="717"/>
                  <a:pt x="334" y="716"/>
                </a:cubicBezTo>
                <a:cubicBezTo>
                  <a:pt x="335" y="715"/>
                  <a:pt x="334" y="713"/>
                  <a:pt x="335" y="712"/>
                </a:cubicBezTo>
                <a:cubicBezTo>
                  <a:pt x="336" y="712"/>
                  <a:pt x="338" y="713"/>
                  <a:pt x="339" y="713"/>
                </a:cubicBezTo>
                <a:cubicBezTo>
                  <a:pt x="343" y="710"/>
                  <a:pt x="344" y="705"/>
                  <a:pt x="351" y="708"/>
                </a:cubicBezTo>
                <a:cubicBezTo>
                  <a:pt x="356" y="699"/>
                  <a:pt x="365" y="696"/>
                  <a:pt x="371" y="689"/>
                </a:cubicBezTo>
                <a:cubicBezTo>
                  <a:pt x="380" y="691"/>
                  <a:pt x="389" y="693"/>
                  <a:pt x="394" y="690"/>
                </a:cubicBezTo>
                <a:cubicBezTo>
                  <a:pt x="398" y="690"/>
                  <a:pt x="398" y="684"/>
                  <a:pt x="400" y="680"/>
                </a:cubicBezTo>
                <a:cubicBezTo>
                  <a:pt x="401" y="677"/>
                  <a:pt x="404" y="677"/>
                  <a:pt x="405" y="673"/>
                </a:cubicBezTo>
                <a:cubicBezTo>
                  <a:pt x="411" y="678"/>
                  <a:pt x="408" y="688"/>
                  <a:pt x="417" y="691"/>
                </a:cubicBezTo>
                <a:cubicBezTo>
                  <a:pt x="422" y="691"/>
                  <a:pt x="424" y="685"/>
                  <a:pt x="429" y="686"/>
                </a:cubicBezTo>
                <a:cubicBezTo>
                  <a:pt x="430" y="686"/>
                  <a:pt x="432" y="687"/>
                  <a:pt x="433" y="687"/>
                </a:cubicBezTo>
                <a:cubicBezTo>
                  <a:pt x="438" y="685"/>
                  <a:pt x="443" y="679"/>
                  <a:pt x="447" y="675"/>
                </a:cubicBezTo>
                <a:cubicBezTo>
                  <a:pt x="452" y="676"/>
                  <a:pt x="457" y="677"/>
                  <a:pt x="462" y="678"/>
                </a:cubicBezTo>
                <a:cubicBezTo>
                  <a:pt x="465" y="667"/>
                  <a:pt x="453" y="665"/>
                  <a:pt x="446" y="663"/>
                </a:cubicBezTo>
                <a:cubicBezTo>
                  <a:pt x="438" y="660"/>
                  <a:pt x="434" y="668"/>
                  <a:pt x="428" y="659"/>
                </a:cubicBezTo>
                <a:cubicBezTo>
                  <a:pt x="424" y="661"/>
                  <a:pt x="421" y="664"/>
                  <a:pt x="418" y="668"/>
                </a:cubicBezTo>
                <a:cubicBezTo>
                  <a:pt x="414" y="667"/>
                  <a:pt x="416" y="661"/>
                  <a:pt x="417" y="656"/>
                </a:cubicBezTo>
                <a:cubicBezTo>
                  <a:pt x="395" y="647"/>
                  <a:pt x="381" y="659"/>
                  <a:pt x="368" y="650"/>
                </a:cubicBezTo>
                <a:cubicBezTo>
                  <a:pt x="363" y="633"/>
                  <a:pt x="380" y="629"/>
                  <a:pt x="384" y="611"/>
                </a:cubicBezTo>
                <a:cubicBezTo>
                  <a:pt x="388" y="598"/>
                  <a:pt x="377" y="590"/>
                  <a:pt x="371" y="581"/>
                </a:cubicBezTo>
                <a:cubicBezTo>
                  <a:pt x="371" y="580"/>
                  <a:pt x="372" y="578"/>
                  <a:pt x="372" y="577"/>
                </a:cubicBezTo>
                <a:cubicBezTo>
                  <a:pt x="371" y="577"/>
                  <a:pt x="369" y="577"/>
                  <a:pt x="368" y="577"/>
                </a:cubicBezTo>
                <a:cubicBezTo>
                  <a:pt x="368" y="576"/>
                  <a:pt x="369" y="574"/>
                  <a:pt x="369" y="573"/>
                </a:cubicBezTo>
                <a:cubicBezTo>
                  <a:pt x="369" y="572"/>
                  <a:pt x="366" y="573"/>
                  <a:pt x="365" y="572"/>
                </a:cubicBezTo>
                <a:cubicBezTo>
                  <a:pt x="365" y="572"/>
                  <a:pt x="367" y="569"/>
                  <a:pt x="366" y="568"/>
                </a:cubicBezTo>
                <a:cubicBezTo>
                  <a:pt x="365" y="567"/>
                  <a:pt x="360" y="568"/>
                  <a:pt x="359" y="567"/>
                </a:cubicBezTo>
                <a:cubicBezTo>
                  <a:pt x="355" y="565"/>
                  <a:pt x="358" y="564"/>
                  <a:pt x="356" y="562"/>
                </a:cubicBezTo>
                <a:cubicBezTo>
                  <a:pt x="355" y="562"/>
                  <a:pt x="349" y="562"/>
                  <a:pt x="348" y="561"/>
                </a:cubicBezTo>
                <a:cubicBezTo>
                  <a:pt x="348" y="560"/>
                  <a:pt x="350" y="557"/>
                  <a:pt x="349" y="557"/>
                </a:cubicBezTo>
                <a:cubicBezTo>
                  <a:pt x="348" y="556"/>
                  <a:pt x="343" y="557"/>
                  <a:pt x="342" y="556"/>
                </a:cubicBezTo>
                <a:cubicBezTo>
                  <a:pt x="342" y="555"/>
                  <a:pt x="343" y="552"/>
                  <a:pt x="343" y="552"/>
                </a:cubicBezTo>
                <a:cubicBezTo>
                  <a:pt x="342" y="551"/>
                  <a:pt x="336" y="552"/>
                  <a:pt x="335" y="550"/>
                </a:cubicBezTo>
                <a:cubicBezTo>
                  <a:pt x="335" y="550"/>
                  <a:pt x="336" y="547"/>
                  <a:pt x="336" y="547"/>
                </a:cubicBezTo>
                <a:cubicBezTo>
                  <a:pt x="329" y="542"/>
                  <a:pt x="318" y="541"/>
                  <a:pt x="311" y="537"/>
                </a:cubicBezTo>
                <a:cubicBezTo>
                  <a:pt x="311" y="528"/>
                  <a:pt x="301" y="525"/>
                  <a:pt x="300" y="516"/>
                </a:cubicBezTo>
                <a:cubicBezTo>
                  <a:pt x="289" y="511"/>
                  <a:pt x="290" y="525"/>
                  <a:pt x="277" y="518"/>
                </a:cubicBezTo>
                <a:cubicBezTo>
                  <a:pt x="279" y="507"/>
                  <a:pt x="285" y="502"/>
                  <a:pt x="290" y="494"/>
                </a:cubicBezTo>
                <a:cubicBezTo>
                  <a:pt x="291" y="496"/>
                  <a:pt x="291" y="496"/>
                  <a:pt x="291" y="496"/>
                </a:cubicBezTo>
                <a:cubicBezTo>
                  <a:pt x="293" y="495"/>
                  <a:pt x="293" y="495"/>
                  <a:pt x="293" y="495"/>
                </a:cubicBezTo>
                <a:cubicBezTo>
                  <a:pt x="304" y="497"/>
                  <a:pt x="315" y="500"/>
                  <a:pt x="326" y="502"/>
                </a:cubicBezTo>
                <a:cubicBezTo>
                  <a:pt x="337" y="502"/>
                  <a:pt x="332" y="511"/>
                  <a:pt x="340" y="513"/>
                </a:cubicBezTo>
                <a:cubicBezTo>
                  <a:pt x="341" y="508"/>
                  <a:pt x="347" y="511"/>
                  <a:pt x="351" y="511"/>
                </a:cubicBezTo>
                <a:cubicBezTo>
                  <a:pt x="353" y="507"/>
                  <a:pt x="358" y="508"/>
                  <a:pt x="360" y="506"/>
                </a:cubicBezTo>
                <a:cubicBezTo>
                  <a:pt x="368" y="500"/>
                  <a:pt x="371" y="494"/>
                  <a:pt x="376" y="486"/>
                </a:cubicBezTo>
                <a:cubicBezTo>
                  <a:pt x="365" y="474"/>
                  <a:pt x="347" y="467"/>
                  <a:pt x="346" y="448"/>
                </a:cubicBezTo>
                <a:cubicBezTo>
                  <a:pt x="331" y="445"/>
                  <a:pt x="325" y="434"/>
                  <a:pt x="313" y="438"/>
                </a:cubicBezTo>
                <a:cubicBezTo>
                  <a:pt x="311" y="438"/>
                  <a:pt x="310" y="443"/>
                  <a:pt x="308" y="444"/>
                </a:cubicBezTo>
                <a:cubicBezTo>
                  <a:pt x="307" y="445"/>
                  <a:pt x="303" y="443"/>
                  <a:pt x="304" y="447"/>
                </a:cubicBezTo>
                <a:cubicBezTo>
                  <a:pt x="300" y="446"/>
                  <a:pt x="300" y="446"/>
                  <a:pt x="300" y="446"/>
                </a:cubicBezTo>
                <a:cubicBezTo>
                  <a:pt x="299" y="450"/>
                  <a:pt x="299" y="450"/>
                  <a:pt x="299" y="450"/>
                </a:cubicBezTo>
                <a:cubicBezTo>
                  <a:pt x="296" y="449"/>
                  <a:pt x="297" y="445"/>
                  <a:pt x="297" y="442"/>
                </a:cubicBezTo>
                <a:cubicBezTo>
                  <a:pt x="297" y="439"/>
                  <a:pt x="294" y="437"/>
                  <a:pt x="295" y="434"/>
                </a:cubicBezTo>
                <a:cubicBezTo>
                  <a:pt x="287" y="431"/>
                  <a:pt x="281" y="431"/>
                  <a:pt x="276" y="433"/>
                </a:cubicBezTo>
                <a:cubicBezTo>
                  <a:pt x="268" y="450"/>
                  <a:pt x="288" y="449"/>
                  <a:pt x="280" y="465"/>
                </a:cubicBezTo>
                <a:cubicBezTo>
                  <a:pt x="269" y="471"/>
                  <a:pt x="266" y="454"/>
                  <a:pt x="253" y="452"/>
                </a:cubicBezTo>
                <a:cubicBezTo>
                  <a:pt x="247" y="452"/>
                  <a:pt x="245" y="457"/>
                  <a:pt x="240" y="457"/>
                </a:cubicBezTo>
                <a:cubicBezTo>
                  <a:pt x="238" y="472"/>
                  <a:pt x="251" y="477"/>
                  <a:pt x="261" y="484"/>
                </a:cubicBezTo>
                <a:cubicBezTo>
                  <a:pt x="258" y="501"/>
                  <a:pt x="265" y="511"/>
                  <a:pt x="259" y="530"/>
                </a:cubicBezTo>
                <a:cubicBezTo>
                  <a:pt x="250" y="532"/>
                  <a:pt x="255" y="523"/>
                  <a:pt x="253" y="521"/>
                </a:cubicBezTo>
                <a:cubicBezTo>
                  <a:pt x="251" y="519"/>
                  <a:pt x="244" y="521"/>
                  <a:pt x="242" y="519"/>
                </a:cubicBezTo>
                <a:cubicBezTo>
                  <a:pt x="241" y="518"/>
                  <a:pt x="243" y="516"/>
                  <a:pt x="243" y="515"/>
                </a:cubicBezTo>
                <a:cubicBezTo>
                  <a:pt x="242" y="514"/>
                  <a:pt x="240" y="515"/>
                  <a:pt x="239" y="514"/>
                </a:cubicBezTo>
                <a:cubicBezTo>
                  <a:pt x="239" y="513"/>
                  <a:pt x="240" y="511"/>
                  <a:pt x="240" y="510"/>
                </a:cubicBezTo>
                <a:cubicBezTo>
                  <a:pt x="239" y="510"/>
                  <a:pt x="237" y="510"/>
                  <a:pt x="236" y="510"/>
                </a:cubicBezTo>
                <a:cubicBezTo>
                  <a:pt x="236" y="509"/>
                  <a:pt x="237" y="507"/>
                  <a:pt x="237" y="506"/>
                </a:cubicBezTo>
                <a:cubicBezTo>
                  <a:pt x="237" y="505"/>
                  <a:pt x="234" y="506"/>
                  <a:pt x="233" y="505"/>
                </a:cubicBezTo>
                <a:cubicBezTo>
                  <a:pt x="233" y="504"/>
                  <a:pt x="235" y="502"/>
                  <a:pt x="234" y="501"/>
                </a:cubicBezTo>
                <a:cubicBezTo>
                  <a:pt x="233" y="499"/>
                  <a:pt x="224" y="488"/>
                  <a:pt x="223" y="480"/>
                </a:cubicBezTo>
                <a:cubicBezTo>
                  <a:pt x="217" y="478"/>
                  <a:pt x="210" y="483"/>
                  <a:pt x="203" y="483"/>
                </a:cubicBezTo>
                <a:cubicBezTo>
                  <a:pt x="195" y="484"/>
                  <a:pt x="184" y="477"/>
                  <a:pt x="180" y="486"/>
                </a:cubicBezTo>
                <a:cubicBezTo>
                  <a:pt x="173" y="483"/>
                  <a:pt x="172" y="476"/>
                  <a:pt x="163" y="475"/>
                </a:cubicBezTo>
                <a:cubicBezTo>
                  <a:pt x="160" y="475"/>
                  <a:pt x="158" y="477"/>
                  <a:pt x="155" y="477"/>
                </a:cubicBezTo>
                <a:cubicBezTo>
                  <a:pt x="146" y="474"/>
                  <a:pt x="148" y="486"/>
                  <a:pt x="141" y="485"/>
                </a:cubicBezTo>
                <a:cubicBezTo>
                  <a:pt x="135" y="505"/>
                  <a:pt x="144" y="524"/>
                  <a:pt x="124" y="528"/>
                </a:cubicBezTo>
                <a:cubicBezTo>
                  <a:pt x="97" y="517"/>
                  <a:pt x="130" y="498"/>
                  <a:pt x="129" y="471"/>
                </a:cubicBezTo>
                <a:cubicBezTo>
                  <a:pt x="128" y="465"/>
                  <a:pt x="125" y="461"/>
                  <a:pt x="120" y="458"/>
                </a:cubicBezTo>
                <a:cubicBezTo>
                  <a:pt x="104" y="456"/>
                  <a:pt x="97" y="468"/>
                  <a:pt x="77" y="460"/>
                </a:cubicBezTo>
                <a:cubicBezTo>
                  <a:pt x="76" y="454"/>
                  <a:pt x="71" y="450"/>
                  <a:pt x="69" y="443"/>
                </a:cubicBezTo>
                <a:cubicBezTo>
                  <a:pt x="69" y="441"/>
                  <a:pt x="71" y="438"/>
                  <a:pt x="71" y="436"/>
                </a:cubicBezTo>
                <a:cubicBezTo>
                  <a:pt x="71" y="430"/>
                  <a:pt x="66" y="428"/>
                  <a:pt x="66" y="423"/>
                </a:cubicBezTo>
                <a:cubicBezTo>
                  <a:pt x="46" y="417"/>
                  <a:pt x="32" y="424"/>
                  <a:pt x="23" y="410"/>
                </a:cubicBezTo>
                <a:cubicBezTo>
                  <a:pt x="22" y="396"/>
                  <a:pt x="31" y="397"/>
                  <a:pt x="32" y="385"/>
                </a:cubicBezTo>
                <a:cubicBezTo>
                  <a:pt x="35" y="374"/>
                  <a:pt x="26" y="370"/>
                  <a:pt x="21" y="363"/>
                </a:cubicBezTo>
                <a:cubicBezTo>
                  <a:pt x="19" y="361"/>
                  <a:pt x="23" y="360"/>
                  <a:pt x="18" y="359"/>
                </a:cubicBezTo>
                <a:cubicBezTo>
                  <a:pt x="13" y="357"/>
                  <a:pt x="12" y="349"/>
                  <a:pt x="10" y="345"/>
                </a:cubicBezTo>
                <a:cubicBezTo>
                  <a:pt x="9" y="345"/>
                  <a:pt x="6" y="345"/>
                  <a:pt x="6" y="344"/>
                </a:cubicBezTo>
                <a:cubicBezTo>
                  <a:pt x="5" y="343"/>
                  <a:pt x="9" y="338"/>
                  <a:pt x="8" y="337"/>
                </a:cubicBezTo>
                <a:cubicBezTo>
                  <a:pt x="7" y="337"/>
                  <a:pt x="4" y="337"/>
                  <a:pt x="4" y="336"/>
                </a:cubicBezTo>
                <a:cubicBezTo>
                  <a:pt x="3" y="330"/>
                  <a:pt x="6" y="325"/>
                  <a:pt x="0" y="320"/>
                </a:cubicBezTo>
                <a:cubicBezTo>
                  <a:pt x="12" y="306"/>
                  <a:pt x="31" y="303"/>
                  <a:pt x="42" y="287"/>
                </a:cubicBezTo>
                <a:cubicBezTo>
                  <a:pt x="45" y="269"/>
                  <a:pt x="28" y="264"/>
                  <a:pt x="31" y="246"/>
                </a:cubicBezTo>
                <a:cubicBezTo>
                  <a:pt x="35" y="247"/>
                  <a:pt x="34" y="241"/>
                  <a:pt x="36" y="239"/>
                </a:cubicBezTo>
                <a:cubicBezTo>
                  <a:pt x="38" y="237"/>
                  <a:pt x="42" y="239"/>
                  <a:pt x="44" y="237"/>
                </a:cubicBezTo>
                <a:cubicBezTo>
                  <a:pt x="48" y="235"/>
                  <a:pt x="52" y="227"/>
                  <a:pt x="58" y="228"/>
                </a:cubicBezTo>
                <a:cubicBezTo>
                  <a:pt x="61" y="229"/>
                  <a:pt x="67" y="224"/>
                  <a:pt x="77" y="229"/>
                </a:cubicBezTo>
                <a:cubicBezTo>
                  <a:pt x="82" y="227"/>
                  <a:pt x="87" y="226"/>
                  <a:pt x="91" y="220"/>
                </a:cubicBezTo>
                <a:cubicBezTo>
                  <a:pt x="92" y="217"/>
                  <a:pt x="95" y="208"/>
                  <a:pt x="97" y="206"/>
                </a:cubicBezTo>
                <a:cubicBezTo>
                  <a:pt x="98" y="206"/>
                  <a:pt x="101" y="207"/>
                  <a:pt x="101" y="207"/>
                </a:cubicBezTo>
                <a:cubicBezTo>
                  <a:pt x="102" y="206"/>
                  <a:pt x="101" y="200"/>
                  <a:pt x="103" y="200"/>
                </a:cubicBezTo>
                <a:cubicBezTo>
                  <a:pt x="103" y="199"/>
                  <a:pt x="106" y="201"/>
                  <a:pt x="106" y="200"/>
                </a:cubicBezTo>
                <a:cubicBezTo>
                  <a:pt x="109" y="195"/>
                  <a:pt x="108" y="187"/>
                  <a:pt x="110" y="182"/>
                </a:cubicBezTo>
                <a:cubicBezTo>
                  <a:pt x="114" y="172"/>
                  <a:pt x="125" y="164"/>
                  <a:pt x="124" y="154"/>
                </a:cubicBezTo>
                <a:cubicBezTo>
                  <a:pt x="127" y="149"/>
                  <a:pt x="122" y="148"/>
                  <a:pt x="122" y="146"/>
                </a:cubicBezTo>
                <a:cubicBezTo>
                  <a:pt x="122" y="144"/>
                  <a:pt x="124" y="140"/>
                  <a:pt x="124" y="139"/>
                </a:cubicBezTo>
                <a:cubicBezTo>
                  <a:pt x="123" y="138"/>
                  <a:pt x="120" y="138"/>
                  <a:pt x="120" y="138"/>
                </a:cubicBezTo>
                <a:cubicBezTo>
                  <a:pt x="118" y="132"/>
                  <a:pt x="125" y="125"/>
                  <a:pt x="115" y="125"/>
                </a:cubicBezTo>
                <a:cubicBezTo>
                  <a:pt x="114" y="114"/>
                  <a:pt x="124" y="119"/>
                  <a:pt x="125" y="112"/>
                </a:cubicBezTo>
                <a:cubicBezTo>
                  <a:pt x="127" y="103"/>
                  <a:pt x="129" y="95"/>
                  <a:pt x="131" y="86"/>
                </a:cubicBezTo>
                <a:cubicBezTo>
                  <a:pt x="139" y="89"/>
                  <a:pt x="136" y="97"/>
                  <a:pt x="139" y="103"/>
                </a:cubicBezTo>
                <a:cubicBezTo>
                  <a:pt x="141" y="107"/>
                  <a:pt x="142" y="109"/>
                  <a:pt x="145" y="112"/>
                </a:cubicBezTo>
                <a:cubicBezTo>
                  <a:pt x="146" y="115"/>
                  <a:pt x="148" y="112"/>
                  <a:pt x="147" y="117"/>
                </a:cubicBezTo>
                <a:cubicBezTo>
                  <a:pt x="147" y="122"/>
                  <a:pt x="156" y="129"/>
                  <a:pt x="155" y="137"/>
                </a:cubicBezTo>
                <a:cubicBezTo>
                  <a:pt x="161" y="133"/>
                  <a:pt x="175" y="130"/>
                  <a:pt x="181" y="139"/>
                </a:cubicBezTo>
                <a:cubicBezTo>
                  <a:pt x="191" y="143"/>
                  <a:pt x="188" y="126"/>
                  <a:pt x="195" y="127"/>
                </a:cubicBezTo>
                <a:cubicBezTo>
                  <a:pt x="198" y="122"/>
                  <a:pt x="203" y="119"/>
                  <a:pt x="206" y="114"/>
                </a:cubicBezTo>
                <a:cubicBezTo>
                  <a:pt x="208" y="103"/>
                  <a:pt x="200" y="98"/>
                  <a:pt x="195" y="92"/>
                </a:cubicBezTo>
                <a:cubicBezTo>
                  <a:pt x="197" y="75"/>
                  <a:pt x="186" y="66"/>
                  <a:pt x="194" y="46"/>
                </a:cubicBezTo>
                <a:cubicBezTo>
                  <a:pt x="211" y="47"/>
                  <a:pt x="208" y="62"/>
                  <a:pt x="215" y="70"/>
                </a:cubicBezTo>
                <a:cubicBezTo>
                  <a:pt x="215" y="74"/>
                  <a:pt x="222" y="74"/>
                  <a:pt x="221" y="79"/>
                </a:cubicBezTo>
                <a:cubicBezTo>
                  <a:pt x="240" y="75"/>
                  <a:pt x="223" y="51"/>
                  <a:pt x="222" y="40"/>
                </a:cubicBezTo>
                <a:cubicBezTo>
                  <a:pt x="220" y="36"/>
                  <a:pt x="220" y="31"/>
                  <a:pt x="221" y="25"/>
                </a:cubicBezTo>
                <a:cubicBezTo>
                  <a:pt x="231" y="30"/>
                  <a:pt x="229" y="29"/>
                  <a:pt x="236" y="28"/>
                </a:cubicBezTo>
                <a:cubicBezTo>
                  <a:pt x="238" y="27"/>
                  <a:pt x="244" y="17"/>
                  <a:pt x="252" y="24"/>
                </a:cubicBezTo>
                <a:cubicBezTo>
                  <a:pt x="254" y="32"/>
                  <a:pt x="257" y="40"/>
                  <a:pt x="259" y="48"/>
                </a:cubicBezTo>
                <a:cubicBezTo>
                  <a:pt x="255" y="47"/>
                  <a:pt x="255" y="47"/>
                  <a:pt x="255" y="47"/>
                </a:cubicBezTo>
                <a:cubicBezTo>
                  <a:pt x="254" y="51"/>
                  <a:pt x="254" y="51"/>
                  <a:pt x="254" y="51"/>
                </a:cubicBezTo>
                <a:cubicBezTo>
                  <a:pt x="240" y="42"/>
                  <a:pt x="245" y="78"/>
                  <a:pt x="247" y="84"/>
                </a:cubicBezTo>
                <a:cubicBezTo>
                  <a:pt x="258" y="87"/>
                  <a:pt x="263" y="80"/>
                  <a:pt x="271" y="78"/>
                </a:cubicBezTo>
                <a:cubicBezTo>
                  <a:pt x="276" y="67"/>
                  <a:pt x="264" y="66"/>
                  <a:pt x="264" y="57"/>
                </a:cubicBezTo>
                <a:cubicBezTo>
                  <a:pt x="268" y="58"/>
                  <a:pt x="268" y="58"/>
                  <a:pt x="268" y="58"/>
                </a:cubicBezTo>
                <a:cubicBezTo>
                  <a:pt x="269" y="54"/>
                  <a:pt x="269" y="54"/>
                  <a:pt x="269" y="54"/>
                </a:cubicBezTo>
                <a:cubicBezTo>
                  <a:pt x="274" y="54"/>
                  <a:pt x="277" y="51"/>
                  <a:pt x="279" y="45"/>
                </a:cubicBezTo>
                <a:cubicBezTo>
                  <a:pt x="285" y="51"/>
                  <a:pt x="280" y="65"/>
                  <a:pt x="284" y="73"/>
                </a:cubicBezTo>
                <a:cubicBezTo>
                  <a:pt x="287" y="73"/>
                  <a:pt x="289" y="70"/>
                  <a:pt x="292" y="71"/>
                </a:cubicBezTo>
                <a:cubicBezTo>
                  <a:pt x="295" y="71"/>
                  <a:pt x="295" y="76"/>
                  <a:pt x="299" y="76"/>
                </a:cubicBezTo>
                <a:cubicBezTo>
                  <a:pt x="310" y="77"/>
                  <a:pt x="321" y="69"/>
                  <a:pt x="337" y="77"/>
                </a:cubicBezTo>
                <a:cubicBezTo>
                  <a:pt x="345" y="77"/>
                  <a:pt x="348" y="69"/>
                  <a:pt x="351" y="64"/>
                </a:cubicBezTo>
                <a:cubicBezTo>
                  <a:pt x="353" y="63"/>
                  <a:pt x="355" y="66"/>
                  <a:pt x="356" y="61"/>
                </a:cubicBezTo>
                <a:cubicBezTo>
                  <a:pt x="357" y="58"/>
                  <a:pt x="362" y="57"/>
                  <a:pt x="362" y="51"/>
                </a:cubicBezTo>
                <a:cubicBezTo>
                  <a:pt x="372" y="57"/>
                  <a:pt x="373" y="57"/>
                  <a:pt x="384" y="56"/>
                </a:cubicBezTo>
                <a:cubicBezTo>
                  <a:pt x="386" y="47"/>
                  <a:pt x="388" y="39"/>
                  <a:pt x="390" y="30"/>
                </a:cubicBezTo>
                <a:cubicBezTo>
                  <a:pt x="401" y="23"/>
                  <a:pt x="400" y="42"/>
                  <a:pt x="409" y="46"/>
                </a:cubicBezTo>
                <a:cubicBezTo>
                  <a:pt x="416" y="47"/>
                  <a:pt x="422" y="49"/>
                  <a:pt x="428" y="50"/>
                </a:cubicBezTo>
                <a:cubicBezTo>
                  <a:pt x="427" y="58"/>
                  <a:pt x="441" y="56"/>
                  <a:pt x="440" y="64"/>
                </a:cubicBezTo>
                <a:cubicBezTo>
                  <a:pt x="447" y="65"/>
                  <a:pt x="450" y="60"/>
                  <a:pt x="451" y="51"/>
                </a:cubicBezTo>
                <a:cubicBezTo>
                  <a:pt x="452" y="53"/>
                  <a:pt x="452" y="53"/>
                  <a:pt x="452" y="53"/>
                </a:cubicBezTo>
                <a:cubicBezTo>
                  <a:pt x="454" y="52"/>
                  <a:pt x="454" y="52"/>
                  <a:pt x="454" y="52"/>
                </a:cubicBezTo>
                <a:cubicBezTo>
                  <a:pt x="456" y="52"/>
                  <a:pt x="457" y="52"/>
                  <a:pt x="458" y="53"/>
                </a:cubicBezTo>
                <a:cubicBezTo>
                  <a:pt x="471" y="48"/>
                  <a:pt x="465" y="35"/>
                  <a:pt x="468" y="24"/>
                </a:cubicBezTo>
                <a:cubicBezTo>
                  <a:pt x="470" y="16"/>
                  <a:pt x="475" y="11"/>
                  <a:pt x="477" y="3"/>
                </a:cubicBezTo>
                <a:cubicBezTo>
                  <a:pt x="480" y="3"/>
                  <a:pt x="480" y="3"/>
                  <a:pt x="480" y="3"/>
                </a:cubicBezTo>
                <a:cubicBezTo>
                  <a:pt x="481" y="0"/>
                  <a:pt x="481" y="0"/>
                  <a:pt x="481" y="0"/>
                </a:cubicBezTo>
                <a:cubicBezTo>
                  <a:pt x="485" y="1"/>
                  <a:pt x="483" y="7"/>
                  <a:pt x="482" y="12"/>
                </a:cubicBezTo>
                <a:cubicBezTo>
                  <a:pt x="480" y="23"/>
                  <a:pt x="500" y="19"/>
                  <a:pt x="498" y="30"/>
                </a:cubicBezTo>
                <a:cubicBezTo>
                  <a:pt x="509" y="31"/>
                  <a:pt x="505" y="42"/>
                  <a:pt x="514" y="45"/>
                </a:cubicBezTo>
                <a:cubicBezTo>
                  <a:pt x="526" y="47"/>
                  <a:pt x="543" y="55"/>
                  <a:pt x="551" y="50"/>
                </a:cubicBezTo>
                <a:cubicBezTo>
                  <a:pt x="552" y="46"/>
                  <a:pt x="553" y="42"/>
                  <a:pt x="554" y="39"/>
                </a:cubicBezTo>
                <a:cubicBezTo>
                  <a:pt x="555" y="41"/>
                  <a:pt x="555" y="41"/>
                  <a:pt x="555" y="41"/>
                </a:cubicBezTo>
                <a:cubicBezTo>
                  <a:pt x="557" y="39"/>
                  <a:pt x="557" y="39"/>
                  <a:pt x="557" y="39"/>
                </a:cubicBezTo>
                <a:cubicBezTo>
                  <a:pt x="567" y="33"/>
                  <a:pt x="569" y="42"/>
                  <a:pt x="575" y="47"/>
                </a:cubicBezTo>
                <a:cubicBezTo>
                  <a:pt x="586" y="48"/>
                  <a:pt x="587" y="33"/>
                  <a:pt x="597" y="33"/>
                </a:cubicBezTo>
                <a:cubicBezTo>
                  <a:pt x="602" y="22"/>
                  <a:pt x="593" y="20"/>
                  <a:pt x="598" y="10"/>
                </a:cubicBezTo>
                <a:cubicBezTo>
                  <a:pt x="608" y="17"/>
                  <a:pt x="613" y="28"/>
                  <a:pt x="606" y="46"/>
                </a:cubicBezTo>
                <a:cubicBezTo>
                  <a:pt x="613" y="48"/>
                  <a:pt x="621" y="49"/>
                  <a:pt x="628" y="51"/>
                </a:cubicBezTo>
                <a:cubicBezTo>
                  <a:pt x="629" y="54"/>
                  <a:pt x="630" y="58"/>
                  <a:pt x="634" y="60"/>
                </a:cubicBezTo>
                <a:cubicBezTo>
                  <a:pt x="632" y="64"/>
                  <a:pt x="633" y="66"/>
                  <a:pt x="636" y="68"/>
                </a:cubicBezTo>
                <a:cubicBezTo>
                  <a:pt x="633" y="77"/>
                  <a:pt x="632" y="85"/>
                  <a:pt x="635" y="91"/>
                </a:cubicBezTo>
                <a:cubicBezTo>
                  <a:pt x="649" y="95"/>
                  <a:pt x="649" y="77"/>
                  <a:pt x="664" y="82"/>
                </a:cubicBezTo>
                <a:cubicBezTo>
                  <a:pt x="667" y="91"/>
                  <a:pt x="667" y="92"/>
                  <a:pt x="664" y="101"/>
                </a:cubicBezTo>
                <a:cubicBezTo>
                  <a:pt x="662" y="105"/>
                  <a:pt x="660" y="109"/>
                  <a:pt x="657" y="111"/>
                </a:cubicBezTo>
                <a:cubicBezTo>
                  <a:pt x="657" y="111"/>
                  <a:pt x="654" y="110"/>
                  <a:pt x="654" y="110"/>
                </a:cubicBezTo>
                <a:cubicBezTo>
                  <a:pt x="653" y="113"/>
                  <a:pt x="656" y="115"/>
                  <a:pt x="656" y="118"/>
                </a:cubicBezTo>
                <a:cubicBezTo>
                  <a:pt x="656" y="123"/>
                  <a:pt x="651" y="132"/>
                  <a:pt x="656" y="138"/>
                </a:cubicBezTo>
                <a:cubicBezTo>
                  <a:pt x="676" y="145"/>
                  <a:pt x="681" y="129"/>
                  <a:pt x="702" y="136"/>
                </a:cubicBezTo>
                <a:cubicBezTo>
                  <a:pt x="705" y="149"/>
                  <a:pt x="700" y="149"/>
                  <a:pt x="697" y="162"/>
                </a:cubicBezTo>
                <a:cubicBezTo>
                  <a:pt x="688" y="161"/>
                  <a:pt x="686" y="171"/>
                  <a:pt x="679" y="173"/>
                </a:cubicBezTo>
                <a:cubicBezTo>
                  <a:pt x="680" y="188"/>
                  <a:pt x="701" y="191"/>
                  <a:pt x="703" y="206"/>
                </a:cubicBezTo>
                <a:cubicBezTo>
                  <a:pt x="703" y="215"/>
                  <a:pt x="695" y="218"/>
                  <a:pt x="691" y="222"/>
                </a:cubicBezTo>
                <a:cubicBezTo>
                  <a:pt x="690" y="224"/>
                  <a:pt x="691" y="229"/>
                  <a:pt x="690" y="230"/>
                </a:cubicBezTo>
                <a:cubicBezTo>
                  <a:pt x="686" y="231"/>
                  <a:pt x="682" y="231"/>
                  <a:pt x="681" y="235"/>
                </a:cubicBezTo>
                <a:cubicBezTo>
                  <a:pt x="682" y="247"/>
                  <a:pt x="697" y="238"/>
                  <a:pt x="703" y="240"/>
                </a:cubicBezTo>
                <a:cubicBezTo>
                  <a:pt x="703" y="255"/>
                  <a:pt x="684" y="241"/>
                  <a:pt x="684" y="256"/>
                </a:cubicBezTo>
                <a:cubicBezTo>
                  <a:pt x="683" y="259"/>
                  <a:pt x="688" y="259"/>
                  <a:pt x="691" y="261"/>
                </a:cubicBezTo>
                <a:cubicBezTo>
                  <a:pt x="688" y="262"/>
                  <a:pt x="688" y="262"/>
                  <a:pt x="688" y="262"/>
                </a:cubicBezTo>
                <a:cubicBezTo>
                  <a:pt x="690" y="264"/>
                  <a:pt x="690" y="264"/>
                  <a:pt x="690" y="264"/>
                </a:cubicBezTo>
                <a:cubicBezTo>
                  <a:pt x="690" y="266"/>
                  <a:pt x="689" y="267"/>
                  <a:pt x="689" y="268"/>
                </a:cubicBezTo>
                <a:cubicBezTo>
                  <a:pt x="691" y="271"/>
                  <a:pt x="698" y="276"/>
                  <a:pt x="700" y="271"/>
                </a:cubicBezTo>
                <a:cubicBezTo>
                  <a:pt x="697" y="271"/>
                  <a:pt x="697" y="268"/>
                  <a:pt x="697" y="266"/>
                </a:cubicBezTo>
                <a:cubicBezTo>
                  <a:pt x="698" y="262"/>
                  <a:pt x="698" y="262"/>
                  <a:pt x="698" y="262"/>
                </a:cubicBezTo>
                <a:cubicBezTo>
                  <a:pt x="694" y="262"/>
                  <a:pt x="694" y="262"/>
                  <a:pt x="694" y="262"/>
                </a:cubicBezTo>
                <a:cubicBezTo>
                  <a:pt x="694" y="253"/>
                  <a:pt x="705" y="258"/>
                  <a:pt x="711" y="257"/>
                </a:cubicBezTo>
                <a:cubicBezTo>
                  <a:pt x="712" y="257"/>
                  <a:pt x="711" y="254"/>
                  <a:pt x="715" y="254"/>
                </a:cubicBezTo>
                <a:cubicBezTo>
                  <a:pt x="723" y="256"/>
                  <a:pt x="741" y="250"/>
                  <a:pt x="752" y="262"/>
                </a:cubicBezTo>
                <a:cubicBezTo>
                  <a:pt x="746" y="281"/>
                  <a:pt x="725" y="277"/>
                  <a:pt x="704" y="271"/>
                </a:cubicBezTo>
                <a:cubicBezTo>
                  <a:pt x="705" y="282"/>
                  <a:pt x="721" y="284"/>
                  <a:pt x="731" y="289"/>
                </a:cubicBezTo>
                <a:cubicBezTo>
                  <a:pt x="735" y="290"/>
                  <a:pt x="734" y="284"/>
                  <a:pt x="736" y="282"/>
                </a:cubicBezTo>
                <a:cubicBezTo>
                  <a:pt x="738" y="280"/>
                  <a:pt x="742" y="282"/>
                  <a:pt x="744" y="280"/>
                </a:cubicBezTo>
                <a:cubicBezTo>
                  <a:pt x="747" y="278"/>
                  <a:pt x="745" y="276"/>
                  <a:pt x="749" y="277"/>
                </a:cubicBezTo>
                <a:cubicBezTo>
                  <a:pt x="753" y="278"/>
                  <a:pt x="753" y="271"/>
                  <a:pt x="755" y="267"/>
                </a:cubicBezTo>
                <a:cubicBezTo>
                  <a:pt x="763" y="267"/>
                  <a:pt x="762" y="274"/>
                  <a:pt x="764" y="277"/>
                </a:cubicBezTo>
                <a:cubicBezTo>
                  <a:pt x="767" y="280"/>
                  <a:pt x="773" y="281"/>
                  <a:pt x="774" y="286"/>
                </a:cubicBezTo>
                <a:cubicBezTo>
                  <a:pt x="781" y="282"/>
                  <a:pt x="790" y="285"/>
                  <a:pt x="797" y="284"/>
                </a:cubicBezTo>
                <a:cubicBezTo>
                  <a:pt x="806" y="283"/>
                  <a:pt x="813" y="281"/>
                  <a:pt x="821" y="281"/>
                </a:cubicBezTo>
                <a:cubicBezTo>
                  <a:pt x="826" y="290"/>
                  <a:pt x="825" y="302"/>
                  <a:pt x="830" y="310"/>
                </a:cubicBezTo>
                <a:cubicBezTo>
                  <a:pt x="845" y="311"/>
                  <a:pt x="843" y="323"/>
                  <a:pt x="858" y="324"/>
                </a:cubicBezTo>
                <a:cubicBezTo>
                  <a:pt x="852" y="345"/>
                  <a:pt x="860" y="357"/>
                  <a:pt x="868" y="368"/>
                </a:cubicBezTo>
                <a:cubicBezTo>
                  <a:pt x="862" y="391"/>
                  <a:pt x="873" y="403"/>
                  <a:pt x="871" y="423"/>
                </a:cubicBezTo>
                <a:cubicBezTo>
                  <a:pt x="869" y="436"/>
                  <a:pt x="856" y="433"/>
                  <a:pt x="852" y="442"/>
                </a:cubicBezTo>
                <a:cubicBezTo>
                  <a:pt x="855" y="456"/>
                  <a:pt x="881" y="455"/>
                  <a:pt x="876" y="474"/>
                </a:cubicBezTo>
                <a:cubicBezTo>
                  <a:pt x="870" y="476"/>
                  <a:pt x="868" y="479"/>
                  <a:pt x="860" y="478"/>
                </a:cubicBezTo>
                <a:cubicBezTo>
                  <a:pt x="853" y="478"/>
                  <a:pt x="847" y="475"/>
                  <a:pt x="841" y="474"/>
                </a:cubicBezTo>
                <a:cubicBezTo>
                  <a:pt x="836" y="487"/>
                  <a:pt x="853" y="483"/>
                  <a:pt x="858" y="486"/>
                </a:cubicBezTo>
                <a:cubicBezTo>
                  <a:pt x="859" y="487"/>
                  <a:pt x="857" y="489"/>
                  <a:pt x="861" y="490"/>
                </a:cubicBezTo>
                <a:cubicBezTo>
                  <a:pt x="867" y="492"/>
                  <a:pt x="864" y="502"/>
                  <a:pt x="878" y="501"/>
                </a:cubicBezTo>
                <a:cubicBezTo>
                  <a:pt x="876" y="509"/>
                  <a:pt x="887" y="508"/>
                  <a:pt x="882" y="518"/>
                </a:cubicBezTo>
                <a:cubicBezTo>
                  <a:pt x="890" y="517"/>
                  <a:pt x="889" y="525"/>
                  <a:pt x="891" y="528"/>
                </a:cubicBezTo>
                <a:cubicBezTo>
                  <a:pt x="898" y="533"/>
                  <a:pt x="911" y="533"/>
                  <a:pt x="911" y="543"/>
                </a:cubicBezTo>
                <a:cubicBezTo>
                  <a:pt x="917" y="545"/>
                  <a:pt x="918" y="542"/>
                  <a:pt x="923" y="542"/>
                </a:cubicBezTo>
                <a:cubicBezTo>
                  <a:pt x="927" y="543"/>
                  <a:pt x="924" y="546"/>
                  <a:pt x="926" y="547"/>
                </a:cubicBezTo>
                <a:cubicBezTo>
                  <a:pt x="930" y="548"/>
                  <a:pt x="929" y="544"/>
                  <a:pt x="930" y="544"/>
                </a:cubicBezTo>
                <a:cubicBezTo>
                  <a:pt x="937" y="544"/>
                  <a:pt x="952" y="552"/>
                  <a:pt x="957" y="546"/>
                </a:cubicBezTo>
                <a:cubicBezTo>
                  <a:pt x="968" y="554"/>
                  <a:pt x="948" y="555"/>
                  <a:pt x="946" y="562"/>
                </a:cubicBezTo>
                <a:cubicBezTo>
                  <a:pt x="945" y="565"/>
                  <a:pt x="939" y="567"/>
                  <a:pt x="939" y="573"/>
                </a:cubicBezTo>
                <a:cubicBezTo>
                  <a:pt x="939" y="584"/>
                  <a:pt x="944" y="591"/>
                  <a:pt x="954" y="595"/>
                </a:cubicBezTo>
                <a:cubicBezTo>
                  <a:pt x="952" y="596"/>
                  <a:pt x="952" y="596"/>
                  <a:pt x="952" y="596"/>
                </a:cubicBezTo>
                <a:cubicBezTo>
                  <a:pt x="953" y="599"/>
                  <a:pt x="953" y="599"/>
                  <a:pt x="953" y="599"/>
                </a:cubicBezTo>
                <a:cubicBezTo>
                  <a:pt x="955" y="601"/>
                  <a:pt x="949" y="602"/>
                  <a:pt x="949" y="602"/>
                </a:cubicBezTo>
                <a:cubicBezTo>
                  <a:pt x="952" y="613"/>
                  <a:pt x="969" y="624"/>
                  <a:pt x="981" y="632"/>
                </a:cubicBezTo>
                <a:cubicBezTo>
                  <a:pt x="983" y="635"/>
                  <a:pt x="990" y="636"/>
                  <a:pt x="990" y="641"/>
                </a:cubicBezTo>
                <a:cubicBezTo>
                  <a:pt x="989" y="644"/>
                  <a:pt x="990" y="647"/>
                  <a:pt x="989" y="649"/>
                </a:cubicBezTo>
                <a:cubicBezTo>
                  <a:pt x="987" y="653"/>
                  <a:pt x="983" y="653"/>
                  <a:pt x="980" y="654"/>
                </a:cubicBezTo>
                <a:cubicBezTo>
                  <a:pt x="974" y="657"/>
                  <a:pt x="972" y="654"/>
                  <a:pt x="960" y="654"/>
                </a:cubicBezTo>
                <a:cubicBezTo>
                  <a:pt x="957" y="654"/>
                  <a:pt x="956" y="657"/>
                  <a:pt x="952" y="656"/>
                </a:cubicBezTo>
                <a:cubicBezTo>
                  <a:pt x="947" y="656"/>
                  <a:pt x="942" y="653"/>
                  <a:pt x="938" y="653"/>
                </a:cubicBezTo>
                <a:cubicBezTo>
                  <a:pt x="933" y="653"/>
                  <a:pt x="935" y="656"/>
                  <a:pt x="933" y="656"/>
                </a:cubicBezTo>
                <a:cubicBezTo>
                  <a:pt x="931" y="656"/>
                  <a:pt x="928" y="654"/>
                  <a:pt x="926" y="654"/>
                </a:cubicBezTo>
                <a:cubicBezTo>
                  <a:pt x="921" y="656"/>
                  <a:pt x="920" y="658"/>
                  <a:pt x="917" y="660"/>
                </a:cubicBezTo>
                <a:cubicBezTo>
                  <a:pt x="914" y="662"/>
                  <a:pt x="909" y="661"/>
                  <a:pt x="908" y="666"/>
                </a:cubicBezTo>
                <a:cubicBezTo>
                  <a:pt x="907" y="670"/>
                  <a:pt x="904" y="667"/>
                  <a:pt x="903" y="669"/>
                </a:cubicBezTo>
                <a:cubicBezTo>
                  <a:pt x="899" y="676"/>
                  <a:pt x="904" y="687"/>
                  <a:pt x="893" y="698"/>
                </a:cubicBezTo>
                <a:cubicBezTo>
                  <a:pt x="894" y="706"/>
                  <a:pt x="898" y="714"/>
                  <a:pt x="895" y="725"/>
                </a:cubicBezTo>
                <a:cubicBezTo>
                  <a:pt x="888" y="729"/>
                  <a:pt x="888" y="728"/>
                  <a:pt x="875" y="728"/>
                </a:cubicBezTo>
                <a:cubicBezTo>
                  <a:pt x="867" y="728"/>
                  <a:pt x="861" y="724"/>
                  <a:pt x="856" y="728"/>
                </a:cubicBezTo>
                <a:cubicBezTo>
                  <a:pt x="858" y="742"/>
                  <a:pt x="881" y="743"/>
                  <a:pt x="880" y="760"/>
                </a:cubicBezTo>
                <a:cubicBezTo>
                  <a:pt x="878" y="770"/>
                  <a:pt x="868" y="772"/>
                  <a:pt x="861" y="775"/>
                </a:cubicBezTo>
                <a:cubicBezTo>
                  <a:pt x="857" y="777"/>
                  <a:pt x="853" y="775"/>
                  <a:pt x="849" y="777"/>
                </a:cubicBezTo>
                <a:cubicBezTo>
                  <a:pt x="846" y="778"/>
                  <a:pt x="845" y="784"/>
                  <a:pt x="840" y="782"/>
                </a:cubicBezTo>
                <a:cubicBezTo>
                  <a:pt x="839" y="789"/>
                  <a:pt x="838" y="795"/>
                  <a:pt x="836" y="801"/>
                </a:cubicBezTo>
                <a:cubicBezTo>
                  <a:pt x="825" y="797"/>
                  <a:pt x="824" y="808"/>
                  <a:pt x="818" y="812"/>
                </a:cubicBezTo>
                <a:cubicBezTo>
                  <a:pt x="821" y="817"/>
                  <a:pt x="819" y="823"/>
                  <a:pt x="823" y="829"/>
                </a:cubicBezTo>
                <a:cubicBezTo>
                  <a:pt x="825" y="833"/>
                  <a:pt x="834" y="832"/>
                  <a:pt x="832" y="838"/>
                </a:cubicBezTo>
                <a:cubicBezTo>
                  <a:pt x="841" y="840"/>
                  <a:pt x="849" y="842"/>
                  <a:pt x="858" y="844"/>
                </a:cubicBezTo>
                <a:cubicBezTo>
                  <a:pt x="857" y="853"/>
                  <a:pt x="869" y="854"/>
                  <a:pt x="865" y="865"/>
                </a:cubicBezTo>
                <a:cubicBezTo>
                  <a:pt x="845" y="861"/>
                  <a:pt x="838" y="844"/>
                  <a:pt x="821" y="855"/>
                </a:cubicBezTo>
                <a:cubicBezTo>
                  <a:pt x="820" y="858"/>
                  <a:pt x="820" y="860"/>
                  <a:pt x="819" y="863"/>
                </a:cubicBezTo>
                <a:cubicBezTo>
                  <a:pt x="815" y="862"/>
                  <a:pt x="815" y="862"/>
                  <a:pt x="815" y="862"/>
                </a:cubicBezTo>
                <a:cubicBezTo>
                  <a:pt x="815" y="866"/>
                  <a:pt x="815" y="866"/>
                  <a:pt x="815" y="866"/>
                </a:cubicBezTo>
                <a:cubicBezTo>
                  <a:pt x="811" y="866"/>
                  <a:pt x="813" y="863"/>
                  <a:pt x="812" y="861"/>
                </a:cubicBezTo>
                <a:cubicBezTo>
                  <a:pt x="810" y="856"/>
                  <a:pt x="806" y="844"/>
                  <a:pt x="788" y="844"/>
                </a:cubicBezTo>
                <a:cubicBezTo>
                  <a:pt x="787" y="845"/>
                  <a:pt x="787" y="848"/>
                  <a:pt x="784" y="847"/>
                </a:cubicBezTo>
                <a:cubicBezTo>
                  <a:pt x="771" y="845"/>
                  <a:pt x="753" y="864"/>
                  <a:pt x="750" y="879"/>
                </a:cubicBezTo>
                <a:cubicBezTo>
                  <a:pt x="746" y="877"/>
                  <a:pt x="743" y="878"/>
                  <a:pt x="742" y="881"/>
                </a:cubicBezTo>
                <a:cubicBezTo>
                  <a:pt x="737" y="885"/>
                  <a:pt x="731" y="877"/>
                  <a:pt x="724" y="877"/>
                </a:cubicBezTo>
                <a:cubicBezTo>
                  <a:pt x="720" y="877"/>
                  <a:pt x="717" y="881"/>
                  <a:pt x="712" y="878"/>
                </a:cubicBezTo>
                <a:cubicBezTo>
                  <a:pt x="701" y="883"/>
                  <a:pt x="697" y="897"/>
                  <a:pt x="684" y="899"/>
                </a:cubicBezTo>
                <a:cubicBezTo>
                  <a:pt x="684" y="904"/>
                  <a:pt x="682" y="905"/>
                  <a:pt x="679" y="906"/>
                </a:cubicBezTo>
                <a:cubicBezTo>
                  <a:pt x="677" y="912"/>
                  <a:pt x="676" y="918"/>
                  <a:pt x="675" y="924"/>
                </a:cubicBezTo>
                <a:cubicBezTo>
                  <a:pt x="660" y="915"/>
                  <a:pt x="652" y="918"/>
                  <a:pt x="637" y="920"/>
                </a:cubicBezTo>
                <a:cubicBezTo>
                  <a:pt x="635" y="914"/>
                  <a:pt x="629" y="910"/>
                  <a:pt x="625" y="906"/>
                </a:cubicBezTo>
                <a:cubicBezTo>
                  <a:pt x="614" y="903"/>
                  <a:pt x="603" y="901"/>
                  <a:pt x="592" y="898"/>
                </a:cubicBezTo>
                <a:cubicBezTo>
                  <a:pt x="587" y="890"/>
                  <a:pt x="592" y="875"/>
                  <a:pt x="578" y="872"/>
                </a:cubicBezTo>
                <a:cubicBezTo>
                  <a:pt x="569" y="868"/>
                  <a:pt x="569" y="878"/>
                  <a:pt x="565" y="881"/>
                </a:cubicBezTo>
                <a:cubicBezTo>
                  <a:pt x="560" y="883"/>
                  <a:pt x="552" y="883"/>
                  <a:pt x="548" y="885"/>
                </a:cubicBezTo>
                <a:cubicBezTo>
                  <a:pt x="547" y="886"/>
                  <a:pt x="548" y="892"/>
                  <a:pt x="547" y="893"/>
                </a:cubicBezTo>
                <a:cubicBezTo>
                  <a:pt x="546" y="893"/>
                  <a:pt x="544" y="891"/>
                  <a:pt x="543" y="892"/>
                </a:cubicBezTo>
                <a:cubicBezTo>
                  <a:pt x="542" y="892"/>
                  <a:pt x="543" y="895"/>
                  <a:pt x="542" y="896"/>
                </a:cubicBezTo>
                <a:cubicBezTo>
                  <a:pt x="542" y="896"/>
                  <a:pt x="539" y="894"/>
                  <a:pt x="539" y="895"/>
                </a:cubicBezTo>
                <a:cubicBezTo>
                  <a:pt x="533" y="900"/>
                  <a:pt x="538" y="908"/>
                  <a:pt x="531" y="912"/>
                </a:cubicBezTo>
                <a:cubicBezTo>
                  <a:pt x="528" y="914"/>
                  <a:pt x="529" y="913"/>
                  <a:pt x="526" y="915"/>
                </a:cubicBezTo>
                <a:cubicBezTo>
                  <a:pt x="524" y="917"/>
                  <a:pt x="523" y="919"/>
                  <a:pt x="521" y="922"/>
                </a:cubicBezTo>
                <a:cubicBezTo>
                  <a:pt x="519" y="937"/>
                  <a:pt x="529" y="957"/>
                  <a:pt x="515" y="970"/>
                </a:cubicBezTo>
                <a:cubicBezTo>
                  <a:pt x="503" y="962"/>
                  <a:pt x="507" y="943"/>
                  <a:pt x="504" y="930"/>
                </a:cubicBezTo>
                <a:cubicBezTo>
                  <a:pt x="501" y="927"/>
                  <a:pt x="487" y="929"/>
                  <a:pt x="486" y="926"/>
                </a:cubicBezTo>
                <a:cubicBezTo>
                  <a:pt x="486" y="925"/>
                  <a:pt x="487" y="922"/>
                  <a:pt x="486" y="922"/>
                </a:cubicBezTo>
                <a:cubicBezTo>
                  <a:pt x="478" y="921"/>
                  <a:pt x="469" y="933"/>
                  <a:pt x="464" y="921"/>
                </a:cubicBezTo>
                <a:cubicBezTo>
                  <a:pt x="458" y="921"/>
                  <a:pt x="456" y="926"/>
                  <a:pt x="451" y="926"/>
                </a:cubicBezTo>
                <a:cubicBezTo>
                  <a:pt x="444" y="933"/>
                  <a:pt x="441" y="930"/>
                  <a:pt x="432" y="926"/>
                </a:cubicBezTo>
                <a:cubicBezTo>
                  <a:pt x="420" y="921"/>
                  <a:pt x="426" y="944"/>
                  <a:pt x="414" y="937"/>
                </a:cubicBezTo>
                <a:cubicBezTo>
                  <a:pt x="411" y="928"/>
                  <a:pt x="412" y="915"/>
                  <a:pt x="409" y="905"/>
                </a:cubicBezTo>
                <a:cubicBezTo>
                  <a:pt x="396" y="903"/>
                  <a:pt x="389" y="910"/>
                  <a:pt x="383" y="919"/>
                </a:cubicBezTo>
                <a:cubicBezTo>
                  <a:pt x="382" y="917"/>
                  <a:pt x="382" y="917"/>
                  <a:pt x="382" y="917"/>
                </a:cubicBezTo>
                <a:lnTo>
                  <a:pt x="379" y="9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0" name="Freeform 32"/>
          <p:cNvSpPr/>
          <p:nvPr/>
        </p:nvSpPr>
        <p:spPr>
          <a:xfrm flipH="1" rot="16444800">
            <a:off x="5169960" y="3162240"/>
            <a:ext cx="48960" cy="186840"/>
          </a:xfrm>
          <a:custGeom>
            <a:avLst/>
            <a:gdLst>
              <a:gd name="textAreaLeft" fmla="*/ 360 w 48960"/>
              <a:gd name="textAreaRight" fmla="*/ 49680 w 4896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46" h="222">
                <a:moveTo>
                  <a:pt x="35" y="0"/>
                </a:moveTo>
                <a:cubicBezTo>
                  <a:pt x="46" y="1"/>
                  <a:pt x="42" y="13"/>
                  <a:pt x="42" y="20"/>
                </a:cubicBezTo>
                <a:cubicBezTo>
                  <a:pt x="42" y="24"/>
                  <a:pt x="44" y="27"/>
                  <a:pt x="44" y="32"/>
                </a:cubicBezTo>
                <a:cubicBezTo>
                  <a:pt x="42" y="43"/>
                  <a:pt x="43" y="43"/>
                  <a:pt x="42" y="55"/>
                </a:cubicBezTo>
                <a:cubicBezTo>
                  <a:pt x="42" y="56"/>
                  <a:pt x="40" y="62"/>
                  <a:pt x="41" y="63"/>
                </a:cubicBezTo>
                <a:cubicBezTo>
                  <a:pt x="41" y="63"/>
                  <a:pt x="45" y="63"/>
                  <a:pt x="45" y="63"/>
                </a:cubicBezTo>
                <a:cubicBezTo>
                  <a:pt x="45" y="68"/>
                  <a:pt x="41" y="73"/>
                  <a:pt x="41" y="78"/>
                </a:cubicBezTo>
                <a:cubicBezTo>
                  <a:pt x="41" y="81"/>
                  <a:pt x="44" y="82"/>
                  <a:pt x="43" y="86"/>
                </a:cubicBezTo>
                <a:cubicBezTo>
                  <a:pt x="42" y="98"/>
                  <a:pt x="37" y="111"/>
                  <a:pt x="36" y="123"/>
                </a:cubicBezTo>
                <a:cubicBezTo>
                  <a:pt x="35" y="131"/>
                  <a:pt x="36" y="139"/>
                  <a:pt x="34" y="146"/>
                </a:cubicBezTo>
                <a:cubicBezTo>
                  <a:pt x="31" y="161"/>
                  <a:pt x="22" y="171"/>
                  <a:pt x="21" y="189"/>
                </a:cubicBezTo>
                <a:cubicBezTo>
                  <a:pt x="21" y="193"/>
                  <a:pt x="26" y="206"/>
                  <a:pt x="19" y="216"/>
                </a:cubicBezTo>
                <a:cubicBezTo>
                  <a:pt x="18" y="218"/>
                  <a:pt x="10" y="217"/>
                  <a:pt x="10" y="222"/>
                </a:cubicBezTo>
                <a:cubicBezTo>
                  <a:pt x="7" y="219"/>
                  <a:pt x="2" y="215"/>
                  <a:pt x="2" y="208"/>
                </a:cubicBezTo>
                <a:cubicBezTo>
                  <a:pt x="2" y="206"/>
                  <a:pt x="4" y="203"/>
                  <a:pt x="3" y="201"/>
                </a:cubicBezTo>
                <a:cubicBezTo>
                  <a:pt x="1" y="189"/>
                  <a:pt x="0" y="176"/>
                  <a:pt x="1" y="158"/>
                </a:cubicBezTo>
                <a:cubicBezTo>
                  <a:pt x="1" y="153"/>
                  <a:pt x="4" y="148"/>
                  <a:pt x="4" y="143"/>
                </a:cubicBezTo>
                <a:cubicBezTo>
                  <a:pt x="4" y="142"/>
                  <a:pt x="1" y="142"/>
                  <a:pt x="1" y="139"/>
                </a:cubicBezTo>
                <a:cubicBezTo>
                  <a:pt x="3" y="128"/>
                  <a:pt x="10" y="103"/>
                  <a:pt x="13" y="84"/>
                </a:cubicBezTo>
                <a:cubicBezTo>
                  <a:pt x="15" y="75"/>
                  <a:pt x="12" y="74"/>
                  <a:pt x="14" y="61"/>
                </a:cubicBezTo>
                <a:cubicBezTo>
                  <a:pt x="17" y="45"/>
                  <a:pt x="22" y="32"/>
                  <a:pt x="27" y="17"/>
                </a:cubicBezTo>
                <a:cubicBezTo>
                  <a:pt x="30" y="11"/>
                  <a:pt x="29" y="4"/>
                  <a:pt x="35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1" name="Freeform 32"/>
          <p:cNvSpPr/>
          <p:nvPr/>
        </p:nvSpPr>
        <p:spPr>
          <a:xfrm flipH="1" rot="18085200">
            <a:off x="5105520" y="2429640"/>
            <a:ext cx="120240" cy="252000"/>
          </a:xfrm>
          <a:custGeom>
            <a:avLst/>
            <a:gdLst>
              <a:gd name="textAreaLeft" fmla="*/ 360 w 120240"/>
              <a:gd name="textAreaRight" fmla="*/ 120960 w 120240"/>
              <a:gd name="textAreaTop" fmla="*/ 0 h 252000"/>
              <a:gd name="textAreaBottom" fmla="*/ 252360 h 252000"/>
            </a:gdLst>
            <a:ahLst/>
            <a:rect l="textAreaLeft" t="textAreaTop" r="textAreaRight" b="textAreaBottom"/>
            <a:pathLst>
              <a:path w="46" h="222">
                <a:moveTo>
                  <a:pt x="35" y="0"/>
                </a:moveTo>
                <a:cubicBezTo>
                  <a:pt x="46" y="1"/>
                  <a:pt x="42" y="13"/>
                  <a:pt x="42" y="20"/>
                </a:cubicBezTo>
                <a:cubicBezTo>
                  <a:pt x="42" y="24"/>
                  <a:pt x="44" y="27"/>
                  <a:pt x="44" y="32"/>
                </a:cubicBezTo>
                <a:cubicBezTo>
                  <a:pt x="42" y="43"/>
                  <a:pt x="43" y="43"/>
                  <a:pt x="42" y="55"/>
                </a:cubicBezTo>
                <a:cubicBezTo>
                  <a:pt x="42" y="56"/>
                  <a:pt x="40" y="62"/>
                  <a:pt x="41" y="63"/>
                </a:cubicBezTo>
                <a:cubicBezTo>
                  <a:pt x="41" y="63"/>
                  <a:pt x="45" y="63"/>
                  <a:pt x="45" y="63"/>
                </a:cubicBezTo>
                <a:cubicBezTo>
                  <a:pt x="45" y="68"/>
                  <a:pt x="41" y="73"/>
                  <a:pt x="41" y="78"/>
                </a:cubicBezTo>
                <a:cubicBezTo>
                  <a:pt x="41" y="81"/>
                  <a:pt x="44" y="82"/>
                  <a:pt x="43" y="86"/>
                </a:cubicBezTo>
                <a:cubicBezTo>
                  <a:pt x="42" y="98"/>
                  <a:pt x="37" y="111"/>
                  <a:pt x="36" y="123"/>
                </a:cubicBezTo>
                <a:cubicBezTo>
                  <a:pt x="35" y="131"/>
                  <a:pt x="36" y="139"/>
                  <a:pt x="34" y="146"/>
                </a:cubicBezTo>
                <a:cubicBezTo>
                  <a:pt x="31" y="161"/>
                  <a:pt x="22" y="171"/>
                  <a:pt x="21" y="189"/>
                </a:cubicBezTo>
                <a:cubicBezTo>
                  <a:pt x="21" y="193"/>
                  <a:pt x="26" y="206"/>
                  <a:pt x="19" y="216"/>
                </a:cubicBezTo>
                <a:cubicBezTo>
                  <a:pt x="18" y="218"/>
                  <a:pt x="10" y="217"/>
                  <a:pt x="10" y="222"/>
                </a:cubicBezTo>
                <a:cubicBezTo>
                  <a:pt x="7" y="219"/>
                  <a:pt x="2" y="215"/>
                  <a:pt x="2" y="208"/>
                </a:cubicBezTo>
                <a:cubicBezTo>
                  <a:pt x="2" y="206"/>
                  <a:pt x="4" y="203"/>
                  <a:pt x="3" y="201"/>
                </a:cubicBezTo>
                <a:cubicBezTo>
                  <a:pt x="1" y="189"/>
                  <a:pt x="0" y="176"/>
                  <a:pt x="1" y="158"/>
                </a:cubicBezTo>
                <a:cubicBezTo>
                  <a:pt x="1" y="153"/>
                  <a:pt x="4" y="148"/>
                  <a:pt x="4" y="143"/>
                </a:cubicBezTo>
                <a:cubicBezTo>
                  <a:pt x="4" y="142"/>
                  <a:pt x="1" y="142"/>
                  <a:pt x="1" y="139"/>
                </a:cubicBezTo>
                <a:cubicBezTo>
                  <a:pt x="3" y="128"/>
                  <a:pt x="10" y="103"/>
                  <a:pt x="13" y="84"/>
                </a:cubicBezTo>
                <a:cubicBezTo>
                  <a:pt x="15" y="75"/>
                  <a:pt x="12" y="74"/>
                  <a:pt x="14" y="61"/>
                </a:cubicBezTo>
                <a:cubicBezTo>
                  <a:pt x="17" y="45"/>
                  <a:pt x="22" y="32"/>
                  <a:pt x="27" y="17"/>
                </a:cubicBezTo>
                <a:cubicBezTo>
                  <a:pt x="30" y="11"/>
                  <a:pt x="29" y="4"/>
                  <a:pt x="35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202" name="直接连接符 29"/>
          <p:cNvCxnSpPr/>
          <p:nvPr/>
        </p:nvCxnSpPr>
        <p:spPr>
          <a:xfrm>
            <a:off x="144360" y="5661000"/>
            <a:ext cx="9000000" cy="21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203" name="TextBox 30"/>
          <p:cNvSpPr/>
          <p:nvPr/>
        </p:nvSpPr>
        <p:spPr>
          <a:xfrm>
            <a:off x="1043640" y="1700640"/>
            <a:ext cx="71625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坚持  努力 奋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只为了那个白色的梦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1"/>
          <p:cNvSpPr/>
          <p:nvPr/>
        </p:nvSpPr>
        <p:spPr>
          <a:xfrm>
            <a:off x="1369080" y="3079440"/>
            <a:ext cx="619236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0" spc="199" strike="noStrike">
                <a:solidFill>
                  <a:srgbClr val="ffffff"/>
                </a:solidFill>
                <a:latin typeface="微软雅黑"/>
                <a:ea typeface="微软雅黑"/>
              </a:rPr>
              <a:t>let's go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3" presetSubtype="2">
                                  <p:stCondLst>
                                    <p:cond delay="1900"/>
                                  </p:stCondLst>
                                  <p:childTnLst>
                                    <p:animClr clrSpc="rgb">
                                      <p:cBhvr>
                                        <p:cTn id="372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1578600" y="4653000"/>
            <a:ext cx="5544720" cy="70920"/>
          </a:xfrm>
          <a:prstGeom prst="rect">
            <a:avLst/>
          </a:prstGeom>
          <a:noFill/>
          <a:ln cap="sq" w="127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3708000" y="0"/>
            <a:ext cx="457200" cy="415440"/>
          </a:xfrm>
          <a:prstGeom prst="ellipse">
            <a:avLst/>
          </a:prstGeom>
          <a:solidFill>
            <a:schemeClr val="bg1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578600" y="4653000"/>
            <a:ext cx="936360" cy="70920"/>
          </a:xfrm>
          <a:prstGeom prst="rect">
            <a:avLst/>
          </a:prstGeom>
          <a:solidFill>
            <a:srgbClr val="c0c0c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14960" y="4653000"/>
            <a:ext cx="1871280" cy="70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29292"/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383360" y="4653000"/>
            <a:ext cx="45720" cy="70920"/>
          </a:xfrm>
          <a:prstGeom prst="rect">
            <a:avLst/>
          </a:prstGeom>
          <a:solidFill>
            <a:srgbClr val="8e8e8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323320" y="4653000"/>
            <a:ext cx="1800000" cy="70920"/>
          </a:xfrm>
          <a:prstGeom prst="rect">
            <a:avLst/>
          </a:prstGeom>
          <a:gradFill rotWithShape="0">
            <a:gsLst>
              <a:gs pos="0">
                <a:srgbClr val="8e8e8e"/>
              </a:gs>
              <a:gs pos="100000">
                <a:srgbClr val="424242"/>
              </a:gs>
            </a:gsLst>
            <a:lin ang="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025880" y="4213440"/>
            <a:ext cx="67500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b2b2b2"/>
                </a:solidFill>
                <a:latin typeface="Calibri"/>
                <a:ea typeface="宋体"/>
              </a:rPr>
              <a:t>Lo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4428000" y="4653000"/>
            <a:ext cx="894960" cy="70920"/>
          </a:xfrm>
          <a:prstGeom prst="rect">
            <a:avLst/>
          </a:prstGeom>
          <a:solidFill>
            <a:srgbClr val="8e8e8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4500000" y="908640"/>
            <a:ext cx="457200" cy="4154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4140000" y="1989000"/>
            <a:ext cx="457200" cy="415440"/>
          </a:xfrm>
          <a:prstGeom prst="ellipse">
            <a:avLst/>
          </a:prstGeom>
          <a:solidFill>
            <a:srgbClr val="00b05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2195640" y="476640"/>
            <a:ext cx="457200" cy="415440"/>
          </a:xfrm>
          <a:prstGeom prst="ellipse">
            <a:avLst/>
          </a:prstGeom>
          <a:solidFill>
            <a:srgbClr val="7030a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5220000" y="548640"/>
            <a:ext cx="457200" cy="4154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652000" y="1484640"/>
            <a:ext cx="457200" cy="4154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1043640" y="332640"/>
            <a:ext cx="457200" cy="415440"/>
          </a:xfrm>
          <a:prstGeom prst="ellipse">
            <a:avLst/>
          </a:prstGeom>
          <a:solidFill>
            <a:srgbClr val="c000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611640" y="1268640"/>
            <a:ext cx="457200" cy="415440"/>
          </a:xfrm>
          <a:prstGeom prst="ellipse">
            <a:avLst/>
          </a:prstGeom>
          <a:solidFill>
            <a:srgbClr val="00cc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2051640" y="1628640"/>
            <a:ext cx="457200" cy="41544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3492000" y="1268640"/>
            <a:ext cx="457200" cy="415440"/>
          </a:xfrm>
          <a:prstGeom prst="ellipse">
            <a:avLst/>
          </a:prstGeom>
          <a:solidFill>
            <a:schemeClr val="accent6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</p:spTree>
  </p:cSld>
  <p:transition advTm="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3.61111E-006 0.54213 E">
                                      <p:cBhvr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54213 L 3.61111E-006 0.50648 E">
                                      <p:cBhvr>
                                        <p:cTn id="45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by x="100000" y="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850"/>
                                  </p:iterate>
                                  <p:childTnLst>
                                    <p:set>
                                      <p:cBhvr>
                                        <p:cTn id="60" dur="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305"/>
                            </p:stCondLst>
                            <p:childTnLst>
                              <p:par>
                                <p:cTn id="6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3" dur="8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45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95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95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94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95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7"/>
          <p:cNvSpPr/>
          <p:nvPr/>
        </p:nvSpPr>
        <p:spPr>
          <a:xfrm>
            <a:off x="3283200" y="4876920"/>
            <a:ext cx="1202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F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589720" y="1412640"/>
            <a:ext cx="1764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Dre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488680" y="3069000"/>
            <a:ext cx="770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f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563200" y="4365000"/>
            <a:ext cx="4239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Fight for the dreams challenge to the fu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117520" y="1700640"/>
            <a:ext cx="790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追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717880" y="3069000"/>
            <a:ext cx="790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梦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060000" y="3933000"/>
            <a:ext cx="273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追求梦想 挑战未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49720" y="3789000"/>
            <a:ext cx="21456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challe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933880" y="4437000"/>
            <a:ext cx="790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挑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917880" y="2205000"/>
            <a:ext cx="790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未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983600" y="5517360"/>
            <a:ext cx="6138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159880" y="5085360"/>
            <a:ext cx="2345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rPr>
              <a:t>The fu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03958 1.48148E-006 E">
                                      <p:cBhvr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03958 1.48148E-006 E">
                                      <p:cBhvr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6 1.48148E-006 L 0.1276 1.48148E-006 E">
                                      <p:cBhvr>
                                        <p:cTn id="1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6 1.48148E-006 L 0.1276 1.48148E-006 E">
                                      <p:cBhvr>
                                        <p:cTn id="1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0.05903 -1.85185E-006 E">
                                      <p:cBhvr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6 1.48148E-006 L 0.1276 1.48148E-006 E">
                                      <p:cBhvr>
                                        <p:cTn id="1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6 1.48148E-006 L 0.1276 1.48148E-006 E">
                                      <p:cBhvr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03958 1.48148E-006 E">
                                      <p:cBhvr>
                                        <p:cTn id="1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03958 1.48148E-006 E">
                                      <p:cBhvr>
                                        <p:cTn id="1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0.05903 -1.85185E-006 E">
                                      <p:cBhvr>
                                        <p:cTn id="1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6"/>
          <p:cNvSpPr/>
          <p:nvPr/>
        </p:nvSpPr>
        <p:spPr>
          <a:xfrm flipH="1">
            <a:off x="-720" y="3450240"/>
            <a:ext cx="287640" cy="28836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5" name="AutoShape 7">
            <a:hlinkClick r:id="" action="ppaction://hlinkshowjump?jump=nextslide"/>
          </p:cNvPr>
          <p:cNvSpPr/>
          <p:nvPr/>
        </p:nvSpPr>
        <p:spPr>
          <a:xfrm flipH="1">
            <a:off x="178920" y="4170240"/>
            <a:ext cx="287640" cy="288360"/>
          </a:xfrm>
          <a:prstGeom prst="flowChartAlternateProcess">
            <a:avLst/>
          </a:prstGeom>
          <a:solidFill>
            <a:srgbClr val="cc00cc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1114920" y="4746240"/>
            <a:ext cx="287640" cy="288360"/>
          </a:xfrm>
          <a:prstGeom prst="flowChartAlternateProcess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394920" y="3810240"/>
            <a:ext cx="287640" cy="288360"/>
          </a:xfrm>
          <a:prstGeom prst="flowChartAlternateProcess">
            <a:avLst/>
          </a:prstGeom>
          <a:solidFill>
            <a:srgbClr val="ff00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8" name="AutoShape 10"/>
          <p:cNvSpPr/>
          <p:nvPr/>
        </p:nvSpPr>
        <p:spPr>
          <a:xfrm flipH="1">
            <a:off x="1906920" y="6258600"/>
            <a:ext cx="287640" cy="288360"/>
          </a:xfrm>
          <a:prstGeom prst="flowChartAlternateProcess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39" name="AutoShape 11"/>
          <p:cNvSpPr/>
          <p:nvPr/>
        </p:nvSpPr>
        <p:spPr>
          <a:xfrm flipH="1">
            <a:off x="1330920" y="6330600"/>
            <a:ext cx="287640" cy="288360"/>
          </a:xfrm>
          <a:prstGeom prst="flowChartAlternateProcess">
            <a:avLst/>
          </a:prstGeom>
          <a:solidFill>
            <a:srgbClr val="ff00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0" name="AutoShape 12"/>
          <p:cNvSpPr/>
          <p:nvPr/>
        </p:nvSpPr>
        <p:spPr>
          <a:xfrm flipH="1">
            <a:off x="2410920" y="6569280"/>
            <a:ext cx="287640" cy="288360"/>
          </a:xfrm>
          <a:prstGeom prst="flowChartAlternateProcess">
            <a:avLst/>
          </a:prstGeom>
          <a:solidFill>
            <a:srgbClr val="0000ff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1" name="AutoShape 13"/>
          <p:cNvSpPr/>
          <p:nvPr/>
        </p:nvSpPr>
        <p:spPr>
          <a:xfrm flipH="1">
            <a:off x="826920" y="5394240"/>
            <a:ext cx="287640" cy="288360"/>
          </a:xfrm>
          <a:prstGeom prst="flowChartAlternateProcess">
            <a:avLst/>
          </a:prstGeom>
          <a:solidFill>
            <a:srgbClr val="660066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2" name="AutoShape 14"/>
          <p:cNvSpPr/>
          <p:nvPr/>
        </p:nvSpPr>
        <p:spPr>
          <a:xfrm flipH="1">
            <a:off x="826920" y="6569280"/>
            <a:ext cx="287640" cy="288360"/>
          </a:xfrm>
          <a:prstGeom prst="flowChartAlternateProcess">
            <a:avLst/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3" name="AutoShape 15"/>
          <p:cNvSpPr/>
          <p:nvPr/>
        </p:nvSpPr>
        <p:spPr>
          <a:xfrm flipH="1">
            <a:off x="1546920" y="5106240"/>
            <a:ext cx="287640" cy="288360"/>
          </a:xfrm>
          <a:prstGeom prst="flowChartAlternateProcess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4" name="AutoShape 16"/>
          <p:cNvSpPr/>
          <p:nvPr/>
        </p:nvSpPr>
        <p:spPr>
          <a:xfrm flipH="1">
            <a:off x="4355280" y="6569280"/>
            <a:ext cx="287640" cy="288360"/>
          </a:xfrm>
          <a:prstGeom prst="flowChartAlternateProcess">
            <a:avLst/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45" name="AutoShape 18"/>
          <p:cNvSpPr/>
          <p:nvPr/>
        </p:nvSpPr>
        <p:spPr>
          <a:xfrm flipH="1">
            <a:off x="1690920" y="5610600"/>
            <a:ext cx="287640" cy="288360"/>
          </a:xfrm>
          <a:prstGeom prst="flowChartAlternateProcess">
            <a:avLst/>
          </a:prstGeom>
          <a:solidFill>
            <a:schemeClr val="accent6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6" name="AutoShape 57"/>
          <p:cNvSpPr/>
          <p:nvPr/>
        </p:nvSpPr>
        <p:spPr>
          <a:xfrm flipH="1">
            <a:off x="250920" y="6569280"/>
            <a:ext cx="287640" cy="28836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7" name="AutoShape 58"/>
          <p:cNvSpPr/>
          <p:nvPr/>
        </p:nvSpPr>
        <p:spPr>
          <a:xfrm flipH="1">
            <a:off x="-720" y="4962240"/>
            <a:ext cx="287640" cy="288360"/>
          </a:xfrm>
          <a:prstGeom prst="flowChartAlternateProcess">
            <a:avLst/>
          </a:prstGeom>
          <a:solidFill>
            <a:schemeClr val="accent2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8" name="AutoShape 59"/>
          <p:cNvSpPr/>
          <p:nvPr/>
        </p:nvSpPr>
        <p:spPr>
          <a:xfrm flipH="1">
            <a:off x="538920" y="4746240"/>
            <a:ext cx="287640" cy="288360"/>
          </a:xfrm>
          <a:prstGeom prst="flowChartAlternateProcess">
            <a:avLst/>
          </a:prstGeom>
          <a:solidFill>
            <a:srgbClr val="00b05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9" name="AutoShape 60"/>
          <p:cNvSpPr/>
          <p:nvPr/>
        </p:nvSpPr>
        <p:spPr>
          <a:xfrm flipH="1">
            <a:off x="3635280" y="6569280"/>
            <a:ext cx="287640" cy="288360"/>
          </a:xfrm>
          <a:prstGeom prst="flowChartAlternateProcess">
            <a:avLst/>
          </a:prstGeom>
          <a:solidFill>
            <a:srgbClr val="9966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0" name="AutoShape 61"/>
          <p:cNvSpPr/>
          <p:nvPr/>
        </p:nvSpPr>
        <p:spPr>
          <a:xfrm flipH="1">
            <a:off x="5003280" y="6597360"/>
            <a:ext cx="287640" cy="26028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1" name="AutoShape 62"/>
          <p:cNvSpPr/>
          <p:nvPr/>
        </p:nvSpPr>
        <p:spPr>
          <a:xfrm flipH="1">
            <a:off x="250920" y="5466240"/>
            <a:ext cx="287640" cy="2883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2" name="AutoShape 63"/>
          <p:cNvSpPr/>
          <p:nvPr/>
        </p:nvSpPr>
        <p:spPr>
          <a:xfrm flipH="1">
            <a:off x="2626920" y="6042600"/>
            <a:ext cx="287640" cy="288360"/>
          </a:xfrm>
          <a:prstGeom prst="flowChartAlternateProcess">
            <a:avLst/>
          </a:prstGeom>
          <a:solidFill>
            <a:srgbClr val="ffc0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3" name="AutoShape 64"/>
          <p:cNvSpPr/>
          <p:nvPr/>
        </p:nvSpPr>
        <p:spPr>
          <a:xfrm flipH="1">
            <a:off x="3203280" y="6114600"/>
            <a:ext cx="287640" cy="288360"/>
          </a:xfrm>
          <a:prstGeom prst="flowChartAlternateProcess">
            <a:avLst/>
          </a:prstGeom>
          <a:solidFill>
            <a:schemeClr val="accent5">
              <a:lumMod val="50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4" name="AutoShape 65"/>
          <p:cNvSpPr/>
          <p:nvPr/>
        </p:nvSpPr>
        <p:spPr>
          <a:xfrm flipH="1">
            <a:off x="-720" y="2874240"/>
            <a:ext cx="287640" cy="288360"/>
          </a:xfrm>
          <a:prstGeom prst="flowChartAlternateProcess">
            <a:avLst/>
          </a:prstGeom>
          <a:solidFill>
            <a:srgbClr val="ff505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5" name="AutoShape 8"/>
          <p:cNvSpPr/>
          <p:nvPr/>
        </p:nvSpPr>
        <p:spPr>
          <a:xfrm flipH="1">
            <a:off x="1042920" y="3450240"/>
            <a:ext cx="287640" cy="288360"/>
          </a:xfrm>
          <a:prstGeom prst="flowChartAlternateProcess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56" name="AutoShape 9"/>
          <p:cNvSpPr/>
          <p:nvPr/>
        </p:nvSpPr>
        <p:spPr>
          <a:xfrm flipH="1">
            <a:off x="250920" y="6042600"/>
            <a:ext cx="287640" cy="288360"/>
          </a:xfrm>
          <a:prstGeom prst="flowChartAlternateProcess">
            <a:avLst/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57" name="AutoShape 13"/>
          <p:cNvSpPr/>
          <p:nvPr/>
        </p:nvSpPr>
        <p:spPr>
          <a:xfrm flipH="1">
            <a:off x="754920" y="4098240"/>
            <a:ext cx="287640" cy="288360"/>
          </a:xfrm>
          <a:prstGeom prst="flowChartAlternateProcess">
            <a:avLst/>
          </a:prstGeom>
          <a:solidFill>
            <a:srgbClr val="660066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58" name="AutoShape 15"/>
          <p:cNvSpPr/>
          <p:nvPr/>
        </p:nvSpPr>
        <p:spPr>
          <a:xfrm flipH="1">
            <a:off x="1474920" y="3810240"/>
            <a:ext cx="287640" cy="288360"/>
          </a:xfrm>
          <a:prstGeom prst="flowChartAlternateProcess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59" name="AutoShape 18"/>
          <p:cNvSpPr/>
          <p:nvPr/>
        </p:nvSpPr>
        <p:spPr>
          <a:xfrm flipH="1">
            <a:off x="1618920" y="4314240"/>
            <a:ext cx="287640" cy="288360"/>
          </a:xfrm>
          <a:prstGeom prst="flowChartAlternateProcess">
            <a:avLst/>
          </a:prstGeom>
          <a:solidFill>
            <a:schemeClr val="accent6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0" name="AutoShape 59"/>
          <p:cNvSpPr/>
          <p:nvPr/>
        </p:nvSpPr>
        <p:spPr>
          <a:xfrm flipH="1">
            <a:off x="466920" y="3450240"/>
            <a:ext cx="287640" cy="288360"/>
          </a:xfrm>
          <a:prstGeom prst="flowChartAlternateProcess">
            <a:avLst/>
          </a:prstGeom>
          <a:solidFill>
            <a:srgbClr val="00b05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AutoShape 62"/>
          <p:cNvSpPr/>
          <p:nvPr/>
        </p:nvSpPr>
        <p:spPr>
          <a:xfrm flipH="1">
            <a:off x="178920" y="4170240"/>
            <a:ext cx="287640" cy="2883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AutoShape 63"/>
          <p:cNvSpPr/>
          <p:nvPr/>
        </p:nvSpPr>
        <p:spPr>
          <a:xfrm flipH="1">
            <a:off x="2554920" y="4746240"/>
            <a:ext cx="287640" cy="288360"/>
          </a:xfrm>
          <a:prstGeom prst="flowChartAlternateProcess">
            <a:avLst/>
          </a:prstGeom>
          <a:solidFill>
            <a:srgbClr val="99ff33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TextBox 95"/>
          <p:cNvSpPr/>
          <p:nvPr/>
        </p:nvSpPr>
        <p:spPr>
          <a:xfrm>
            <a:off x="2123640" y="908640"/>
            <a:ext cx="5040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每个人都有一份属于自己的梦想，你把自己的梦想比作什么颜色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2869560" y="1924560"/>
            <a:ext cx="4871520" cy="154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856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,Microsoft Yahei,Simsun,sans-serif"/>
              </a:rPr>
              <a:t>是红色的热烈 与激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,Microsoft Yahei,Simsun,sans-serif"/>
              </a:rPr>
              <a:t> 是橙色的温暖和友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,Microsoft Yahei,Simsun,sans-serif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,Microsoft Yahei,Simsun,sans-serif"/>
              </a:rPr>
              <a:t>是黄色的单纯与活泼   是绿色的自然与成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,Microsoft Yahei,Simsun,sans-serif"/>
              </a:rPr>
              <a:t>还是青色真诚与清丽  还是蓝色的稳定与沉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,Microsoft Yahei,Simsun,sans-serif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,Microsoft Yahei,Simsun,sans-serif"/>
              </a:rPr>
              <a:t>亦或是紫色的神秘与高贵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1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4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8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2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6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32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42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42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92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32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52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等腰三角形 152"/>
          <p:cNvSpPr/>
          <p:nvPr/>
        </p:nvSpPr>
        <p:spPr>
          <a:xfrm>
            <a:off x="0" y="0"/>
            <a:ext cx="1403280" cy="6857640"/>
          </a:xfrm>
          <a:prstGeom prst="triangle">
            <a:avLst>
              <a:gd name="adj" fmla="val 20481"/>
            </a:avLst>
          </a:prstGeom>
          <a:solidFill>
            <a:srgbClr val="9bbb59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等腰三角形 153"/>
          <p:cNvSpPr/>
          <p:nvPr/>
        </p:nvSpPr>
        <p:spPr>
          <a:xfrm rot="20421600">
            <a:off x="7637040" y="-324360"/>
            <a:ext cx="691560" cy="6786720"/>
          </a:xfrm>
          <a:prstGeom prst="triangle">
            <a:avLst>
              <a:gd name="adj" fmla="val 41209"/>
            </a:avLst>
          </a:prstGeom>
          <a:solidFill>
            <a:srgbClr val="4f81b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等腰三角形 154"/>
          <p:cNvSpPr/>
          <p:nvPr/>
        </p:nvSpPr>
        <p:spPr>
          <a:xfrm rot="5014200">
            <a:off x="3804120" y="-4006800"/>
            <a:ext cx="1066680" cy="9552960"/>
          </a:xfrm>
          <a:prstGeom prst="triangle">
            <a:avLst>
              <a:gd name="adj" fmla="val 36372"/>
            </a:avLst>
          </a:prstGeom>
          <a:solidFill>
            <a:srgbClr val="f79646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矩形 156"/>
          <p:cNvSpPr/>
          <p:nvPr/>
        </p:nvSpPr>
        <p:spPr>
          <a:xfrm>
            <a:off x="1403640" y="1556640"/>
            <a:ext cx="360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让我形容我的梦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矩形 157"/>
          <p:cNvSpPr/>
          <p:nvPr/>
        </p:nvSpPr>
        <p:spPr>
          <a:xfrm>
            <a:off x="1763640" y="1989000"/>
            <a:ext cx="331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我会告诉你我的梦想是白色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矩形 158"/>
          <p:cNvSpPr/>
          <p:nvPr/>
        </p:nvSpPr>
        <p:spPr>
          <a:xfrm>
            <a:off x="899640" y="2493000"/>
            <a:ext cx="318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它看似最简单却最难实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59"/>
          <p:cNvSpPr/>
          <p:nvPr/>
        </p:nvSpPr>
        <p:spPr>
          <a:xfrm>
            <a:off x="1331640" y="2925000"/>
            <a:ext cx="364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却是我多彩生活的最终目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60"/>
          <p:cNvSpPr/>
          <p:nvPr/>
        </p:nvSpPr>
        <p:spPr>
          <a:xfrm>
            <a:off x="1115640" y="3429000"/>
            <a:ext cx="331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正如白色的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最终折射出五彩的彩虹一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61"/>
          <p:cNvSpPr/>
          <p:nvPr/>
        </p:nvSpPr>
        <p:spPr>
          <a:xfrm>
            <a:off x="1689120" y="4221000"/>
            <a:ext cx="120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最纯净 也最美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62"/>
          <p:cNvSpPr/>
          <p:nvPr/>
        </p:nvSpPr>
        <p:spPr>
          <a:xfrm>
            <a:off x="2555640" y="4665960"/>
            <a:ext cx="3525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的梦想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好好的经营自己的生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做中国文化的再创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683640" y="980640"/>
            <a:ext cx="40320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为了梦想 我需要多去观察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体验生活中的美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学习关于中国文化的知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还有未来走出国门的英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于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白色的梦想把生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变成了彩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有红色的激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有橙色的温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有黄色的活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有绿色的成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有青色的清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有蓝色的忧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有紫色的优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图片 5" descr="2007127122714652_2.jpg"/>
          <p:cNvPicPr/>
          <p:nvPr/>
        </p:nvPicPr>
        <p:blipFill>
          <a:blip r:embed="rId1"/>
          <a:srcRect l="0" t="8239" r="0" b="0"/>
          <a:stretch/>
        </p:blipFill>
        <p:spPr>
          <a:xfrm>
            <a:off x="3429000" y="2925000"/>
            <a:ext cx="5714640" cy="39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7"/>
          <p:cNvSpPr/>
          <p:nvPr/>
        </p:nvSpPr>
        <p:spPr>
          <a:xfrm>
            <a:off x="2555640" y="2277000"/>
            <a:ext cx="5040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多去看 多去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看好风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听好故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画画 摄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为我记录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生活的一点一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生活需要每个人去经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13"/>
          <p:cNvGrpSpPr/>
          <p:nvPr/>
        </p:nvGrpSpPr>
        <p:grpSpPr>
          <a:xfrm>
            <a:off x="2843640" y="333360"/>
            <a:ext cx="8494560" cy="1872000"/>
            <a:chOff x="2843640" y="333360"/>
            <a:chExt cx="8494560" cy="1872000"/>
          </a:xfrm>
        </p:grpSpPr>
        <p:sp>
          <p:nvSpPr>
            <p:cNvPr id="179" name="Film"/>
            <p:cNvSpPr/>
            <p:nvPr/>
          </p:nvSpPr>
          <p:spPr>
            <a:xfrm rot="5400000">
              <a:off x="3347640" y="-170640"/>
              <a:ext cx="1728360" cy="2736360"/>
            </a:xfrm>
            <a:custGeom>
              <a:avLst/>
              <a:gdLst>
                <a:gd name="textAreaLeft" fmla="*/ 397080 w 1728360"/>
                <a:gd name="textAreaRight" fmla="*/ 1366200 w 1728360"/>
                <a:gd name="textAreaTop" fmla="*/ 1029240 h 2736360"/>
                <a:gd name="textAreaBottom" fmla="*/ 1701360 h 27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ilm"/>
            <p:cNvSpPr/>
            <p:nvPr/>
          </p:nvSpPr>
          <p:spPr>
            <a:xfrm rot="5400000">
              <a:off x="6065280" y="-208800"/>
              <a:ext cx="1809360" cy="2895120"/>
            </a:xfrm>
            <a:custGeom>
              <a:avLst/>
              <a:gdLst>
                <a:gd name="textAreaLeft" fmla="*/ 415800 w 1809360"/>
                <a:gd name="textAreaRight" fmla="*/ 1430280 w 1809360"/>
                <a:gd name="textAreaTop" fmla="*/ 1089000 h 2895120"/>
                <a:gd name="textAreaBottom" fmla="*/ 1800000 h 28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ilm"/>
            <p:cNvSpPr/>
            <p:nvPr/>
          </p:nvSpPr>
          <p:spPr>
            <a:xfrm>
              <a:off x="8530200" y="334080"/>
              <a:ext cx="2808000" cy="1871280"/>
            </a:xfrm>
            <a:custGeom>
              <a:avLst/>
              <a:gdLst>
                <a:gd name="textAreaLeft" fmla="*/ 645120 w 2808000"/>
                <a:gd name="textAreaRight" fmla="*/ 2219400 w 2808000"/>
                <a:gd name="textAreaTop" fmla="*/ 703800 h 1871280"/>
                <a:gd name="textAreaBottom" fmla="*/ 1163520 h 18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blipFill rotWithShape="0">
              <a:blip r:embed="rId3">
                <a:alphaModFix amt="60000"/>
              </a:blip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-612000" y="4869000"/>
            <a:ext cx="8686080" cy="1809360"/>
            <a:chOff x="-612000" y="4869000"/>
            <a:chExt cx="8686080" cy="1809360"/>
          </a:xfrm>
        </p:grpSpPr>
        <p:sp>
          <p:nvSpPr>
            <p:cNvPr id="183" name="Film"/>
            <p:cNvSpPr/>
            <p:nvPr/>
          </p:nvSpPr>
          <p:spPr>
            <a:xfrm rot="5400000">
              <a:off x="-69120" y="4326120"/>
              <a:ext cx="1809360" cy="2895120"/>
            </a:xfrm>
            <a:custGeom>
              <a:avLst/>
              <a:gdLst>
                <a:gd name="textAreaLeft" fmla="*/ 415800 w 1809360"/>
                <a:gd name="textAreaRight" fmla="*/ 1430280 w 1809360"/>
                <a:gd name="textAreaTop" fmla="*/ 1089000 h 2895120"/>
                <a:gd name="textAreaBottom" fmla="*/ 1800000 h 28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ilm"/>
            <p:cNvSpPr/>
            <p:nvPr/>
          </p:nvSpPr>
          <p:spPr>
            <a:xfrm rot="5400000">
              <a:off x="2846880" y="4326120"/>
              <a:ext cx="1809360" cy="2895120"/>
            </a:xfrm>
            <a:custGeom>
              <a:avLst/>
              <a:gdLst>
                <a:gd name="textAreaLeft" fmla="*/ 415800 w 1809360"/>
                <a:gd name="textAreaRight" fmla="*/ 1430280 w 1809360"/>
                <a:gd name="textAreaTop" fmla="*/ 1089000 h 2895120"/>
                <a:gd name="textAreaBottom" fmla="*/ 1800000 h 28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ilm"/>
            <p:cNvSpPr/>
            <p:nvPr/>
          </p:nvSpPr>
          <p:spPr>
            <a:xfrm rot="5400000">
              <a:off x="5721840" y="4326120"/>
              <a:ext cx="1809360" cy="2895120"/>
            </a:xfrm>
            <a:custGeom>
              <a:avLst/>
              <a:gdLst>
                <a:gd name="textAreaLeft" fmla="*/ 415800 w 1809360"/>
                <a:gd name="textAreaRight" fmla="*/ 1430280 w 1809360"/>
                <a:gd name="textAreaTop" fmla="*/ 1089000 h 2895120"/>
                <a:gd name="textAreaBottom" fmla="*/ 1800000 h 28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Motion origin="layout" path="M 0 -1.09827E-006 L -0.31667 -1.09827E-006 E">
                                      <p:cBhvr>
                                        <p:cTn id="3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Motion origin="layout" path="M 0.31667 -3.00578E-006 L -3.33333E-006 -3.00578E-006 E">
                                      <p:cBhvr>
                                        <p:cTn id="32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img3.douban.com/view/photo/photo/public/p970719516.jpg"/>
          <p:cNvPicPr/>
          <p:nvPr/>
        </p:nvPicPr>
        <p:blipFill>
          <a:blip r:embed="rId1"/>
          <a:stretch/>
        </p:blipFill>
        <p:spPr>
          <a:xfrm>
            <a:off x="683640" y="620640"/>
            <a:ext cx="5760360" cy="4320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7020360" y="1556640"/>
            <a:ext cx="180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多读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才可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走的更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行万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读完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为未来做准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636000" y="908640"/>
            <a:ext cx="3744000" cy="5157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ddcbba"/>
              </a:gs>
              <a:gs pos="100000">
                <a:srgbClr val="996633"/>
              </a:gs>
            </a:gsLst>
            <a:lin ang="5400000"/>
          </a:gradFill>
          <a:ln w="9525">
            <a:noFill/>
          </a:ln>
          <a:scene3d>
            <a:camera prst="legacyOblique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99663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79640" y="908640"/>
            <a:ext cx="3456000" cy="5184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ddcbba"/>
              </a:gs>
              <a:gs pos="100000">
                <a:srgbClr val="996633"/>
              </a:gs>
            </a:gsLst>
            <a:lin ang="5400000"/>
          </a:gradFill>
          <a:ln w="9525">
            <a:noFill/>
          </a:ln>
          <a:scene3d>
            <a:camera prst="legacyObliqueLef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99663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636000" y="1196640"/>
            <a:ext cx="3528000" cy="4824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5640" y="1124640"/>
            <a:ext cx="6696360" cy="4896360"/>
            <a:chOff x="395640" y="1124640"/>
            <a:chExt cx="6696360" cy="4896360"/>
          </a:xfrm>
        </p:grpSpPr>
        <p:sp>
          <p:nvSpPr>
            <p:cNvPr id="193" name="AutoShape 8"/>
            <p:cNvSpPr/>
            <p:nvPr/>
          </p:nvSpPr>
          <p:spPr>
            <a:xfrm>
              <a:off x="3744000" y="1124640"/>
              <a:ext cx="3348000" cy="4896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8e9ce"/>
                </a:gs>
                <a:gs pos="100000">
                  <a:srgbClr val="ebbf6f"/>
                </a:gs>
              </a:gsLst>
              <a:lin ang="18900000"/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>
              <a:off x="395640" y="1124640"/>
              <a:ext cx="3348000" cy="4896360"/>
            </a:xfrm>
            <a:prstGeom prst="foldedCorner">
              <a:avLst>
                <a:gd name="adj" fmla="val 12500"/>
              </a:avLst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95" name="AutoShape 10"/>
          <p:cNvSpPr/>
          <p:nvPr/>
        </p:nvSpPr>
        <p:spPr>
          <a:xfrm>
            <a:off x="3708000" y="1124640"/>
            <a:ext cx="3528000" cy="48963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79640" y="1124640"/>
            <a:ext cx="3491640" cy="489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7" name="TextBox 11"/>
          <p:cNvSpPr/>
          <p:nvPr/>
        </p:nvSpPr>
        <p:spPr>
          <a:xfrm>
            <a:off x="7487640" y="2709000"/>
            <a:ext cx="1656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把生活中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滴记录下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做成绘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为生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留点记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为未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做好储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  <Words>321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0:16:54Z</dcterms:created>
  <dc:creator>china</dc:creator>
  <dc:description/>
  <dc:language>en-US</dc:language>
  <cp:lastModifiedBy>王玉清</cp:lastModifiedBy>
  <dcterms:modified xsi:type="dcterms:W3CDTF">2016-02-23T03:45:1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