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jpeg" ContentType="image/jpeg"/>
  <Override PartName="/ppt/media/image8.jpeg" ContentType="image/jpeg"/>
  <Override PartName="/ppt/media/image5.png" ContentType="image/png"/>
  <Override PartName="/ppt/media/image12.jpeg" ContentType="image/jpeg"/>
  <Override PartName="/ppt/media/image7.jpeg" ContentType="image/jpeg"/>
  <Override PartName="/ppt/media/image11.jpeg" ContentType="image/jpeg"/>
  <Override PartName="/ppt/media/image3.tif" ContentType="image/tiff"/>
  <Override PartName="/ppt/media/image6.jpeg" ContentType="image/jpeg"/>
  <Override PartName="/ppt/media/image10.png" ContentType="image/png"/>
  <Override PartName="/ppt/media/image4.jpeg" ContentType="image/jpeg"/>
  <Override PartName="/ppt/media/image25.jpeg" ContentType="image/jpeg"/>
  <Override PartName="/ppt/media/image24.png" ContentType="image/png"/>
  <Override PartName="/ppt/media/image18.jpeg" ContentType="image/jpeg"/>
  <Override PartName="/ppt/media/image2.jpeg" ContentType="image/jpeg"/>
  <Override PartName="/ppt/media/image23.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26.png" ContentType="image/png"/>
  <Override PartName="/ppt/media/image17.jpeg" ContentType="image/jpeg"/>
  <Override PartName="/ppt/media/image14.png" ContentType="image/png"/>
  <Override PartName="/ppt/media/image1.jpeg" ContentType="image/jpeg"/>
  <Override PartName="/ppt/media/image22.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6858000" cy="9906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6BCDE2-8C13-4159-8B4A-0AF3464A45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3080" y="396720"/>
            <a:ext cx="6171840" cy="16506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343080" y="2311560"/>
            <a:ext cx="6171840" cy="3117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343080" y="5726160"/>
            <a:ext cx="6171840" cy="3117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BD9833-D862-4F94-A901-206033C4B7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3080" y="396720"/>
            <a:ext cx="6171840" cy="16506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343080" y="2311560"/>
            <a:ext cx="3011760" cy="3117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3505680" y="2311560"/>
            <a:ext cx="3011760" cy="3117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343080" y="5726160"/>
            <a:ext cx="3011760" cy="3117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3505680" y="5726160"/>
            <a:ext cx="3011760" cy="3117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9BF664-94E0-486B-962B-BA05D667D0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3080" y="396720"/>
            <a:ext cx="6171840" cy="16506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343080" y="2311560"/>
            <a:ext cx="1987200" cy="3117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2430000" y="2311560"/>
            <a:ext cx="1987200" cy="3117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4516920" y="2311560"/>
            <a:ext cx="1987200" cy="3117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343080" y="5726160"/>
            <a:ext cx="1987200" cy="3117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2430000" y="5726160"/>
            <a:ext cx="1987200" cy="3117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4516920" y="5726160"/>
            <a:ext cx="1987200" cy="3117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AEF6CE-8A8C-4AB7-A0E7-8CC20826F4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85137A-22D1-4098-A10D-F9EBACE1CD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43080" y="396720"/>
            <a:ext cx="6171840" cy="16506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7" name="PlaceHolder 2"/>
          <p:cNvSpPr>
            <a:spLocks noGrp="1"/>
          </p:cNvSpPr>
          <p:nvPr>
            <p:ph type="subTitle"/>
          </p:nvPr>
        </p:nvSpPr>
        <p:spPr>
          <a:xfrm>
            <a:off x="343080" y="2311560"/>
            <a:ext cx="6171840" cy="65368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85A8B3-A185-4073-BF5B-A22F6FF098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43080" y="396720"/>
            <a:ext cx="6171840" cy="16506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9" name="PlaceHolder 2"/>
          <p:cNvSpPr>
            <a:spLocks noGrp="1"/>
          </p:cNvSpPr>
          <p:nvPr>
            <p:ph/>
          </p:nvPr>
        </p:nvSpPr>
        <p:spPr>
          <a:xfrm>
            <a:off x="343080" y="2311560"/>
            <a:ext cx="6171840" cy="6536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A22E6F-1BB5-45D2-8D86-9E673ED9AF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43080" y="396720"/>
            <a:ext cx="6171840" cy="16506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1" name="PlaceHolder 2"/>
          <p:cNvSpPr>
            <a:spLocks noGrp="1"/>
          </p:cNvSpPr>
          <p:nvPr>
            <p:ph/>
          </p:nvPr>
        </p:nvSpPr>
        <p:spPr>
          <a:xfrm>
            <a:off x="343080" y="2311560"/>
            <a:ext cx="3011760" cy="6536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2" name="PlaceHolder 3"/>
          <p:cNvSpPr>
            <a:spLocks noGrp="1"/>
          </p:cNvSpPr>
          <p:nvPr>
            <p:ph/>
          </p:nvPr>
        </p:nvSpPr>
        <p:spPr>
          <a:xfrm>
            <a:off x="3505680" y="2311560"/>
            <a:ext cx="3011760" cy="6536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BC3946-3874-4260-939C-5215CAEBFF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43080" y="396720"/>
            <a:ext cx="6171840" cy="16506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EF5638-6078-45E2-937B-D2EEC1CCC8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43080" y="396720"/>
            <a:ext cx="6171840" cy="76525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61492E-BD18-4FCF-84B6-223296E548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43080" y="396720"/>
            <a:ext cx="6171840" cy="16506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6" name="PlaceHolder 2"/>
          <p:cNvSpPr>
            <a:spLocks noGrp="1"/>
          </p:cNvSpPr>
          <p:nvPr>
            <p:ph/>
          </p:nvPr>
        </p:nvSpPr>
        <p:spPr>
          <a:xfrm>
            <a:off x="343080" y="2311560"/>
            <a:ext cx="3011760" cy="3117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3"/>
          <p:cNvSpPr>
            <a:spLocks noGrp="1"/>
          </p:cNvSpPr>
          <p:nvPr>
            <p:ph/>
          </p:nvPr>
        </p:nvSpPr>
        <p:spPr>
          <a:xfrm>
            <a:off x="3505680" y="2311560"/>
            <a:ext cx="3011760" cy="6536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 name="PlaceHolder 4"/>
          <p:cNvSpPr>
            <a:spLocks noGrp="1"/>
          </p:cNvSpPr>
          <p:nvPr>
            <p:ph/>
          </p:nvPr>
        </p:nvSpPr>
        <p:spPr>
          <a:xfrm>
            <a:off x="343080" y="5726160"/>
            <a:ext cx="3011760" cy="3117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9908F0-3685-4D3B-9C61-1B819960DB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3080" y="396720"/>
            <a:ext cx="6171840" cy="16506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343080" y="2311560"/>
            <a:ext cx="6171840" cy="65368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FB77A2-30EC-41A3-98B8-7E1E61BF07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43080" y="396720"/>
            <a:ext cx="6171840" cy="16506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0" name="PlaceHolder 2"/>
          <p:cNvSpPr>
            <a:spLocks noGrp="1"/>
          </p:cNvSpPr>
          <p:nvPr>
            <p:ph/>
          </p:nvPr>
        </p:nvSpPr>
        <p:spPr>
          <a:xfrm>
            <a:off x="343080" y="2311560"/>
            <a:ext cx="3011760" cy="6536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3"/>
          <p:cNvSpPr>
            <a:spLocks noGrp="1"/>
          </p:cNvSpPr>
          <p:nvPr>
            <p:ph/>
          </p:nvPr>
        </p:nvSpPr>
        <p:spPr>
          <a:xfrm>
            <a:off x="3505680" y="2311560"/>
            <a:ext cx="3011760" cy="3117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2" name="PlaceHolder 4"/>
          <p:cNvSpPr>
            <a:spLocks noGrp="1"/>
          </p:cNvSpPr>
          <p:nvPr>
            <p:ph/>
          </p:nvPr>
        </p:nvSpPr>
        <p:spPr>
          <a:xfrm>
            <a:off x="3505680" y="5726160"/>
            <a:ext cx="3011760" cy="3117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6B321F-31B8-419A-AE47-C2FA41C0C5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43080" y="396720"/>
            <a:ext cx="6171840" cy="16506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4" name="PlaceHolder 2"/>
          <p:cNvSpPr>
            <a:spLocks noGrp="1"/>
          </p:cNvSpPr>
          <p:nvPr>
            <p:ph/>
          </p:nvPr>
        </p:nvSpPr>
        <p:spPr>
          <a:xfrm>
            <a:off x="343080" y="2311560"/>
            <a:ext cx="3011760" cy="3117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3"/>
          <p:cNvSpPr>
            <a:spLocks noGrp="1"/>
          </p:cNvSpPr>
          <p:nvPr>
            <p:ph/>
          </p:nvPr>
        </p:nvSpPr>
        <p:spPr>
          <a:xfrm>
            <a:off x="3505680" y="2311560"/>
            <a:ext cx="3011760" cy="3117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6" name="PlaceHolder 4"/>
          <p:cNvSpPr>
            <a:spLocks noGrp="1"/>
          </p:cNvSpPr>
          <p:nvPr>
            <p:ph/>
          </p:nvPr>
        </p:nvSpPr>
        <p:spPr>
          <a:xfrm>
            <a:off x="343080" y="5726160"/>
            <a:ext cx="6171840" cy="3117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3129C1-B6A1-4C55-B7F7-01D08EFDE9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43080" y="396720"/>
            <a:ext cx="6171840" cy="16506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8" name="PlaceHolder 2"/>
          <p:cNvSpPr>
            <a:spLocks noGrp="1"/>
          </p:cNvSpPr>
          <p:nvPr>
            <p:ph/>
          </p:nvPr>
        </p:nvSpPr>
        <p:spPr>
          <a:xfrm>
            <a:off x="343080" y="2311560"/>
            <a:ext cx="6171840" cy="3117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3"/>
          <p:cNvSpPr>
            <a:spLocks noGrp="1"/>
          </p:cNvSpPr>
          <p:nvPr>
            <p:ph/>
          </p:nvPr>
        </p:nvSpPr>
        <p:spPr>
          <a:xfrm>
            <a:off x="343080" y="5726160"/>
            <a:ext cx="6171840" cy="3117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03A3B0-5D13-417F-BC22-18473D3BA1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43080" y="396720"/>
            <a:ext cx="6171840" cy="16506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1" name="PlaceHolder 2"/>
          <p:cNvSpPr>
            <a:spLocks noGrp="1"/>
          </p:cNvSpPr>
          <p:nvPr>
            <p:ph/>
          </p:nvPr>
        </p:nvSpPr>
        <p:spPr>
          <a:xfrm>
            <a:off x="343080" y="2311560"/>
            <a:ext cx="3011760" cy="3117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3"/>
          <p:cNvSpPr>
            <a:spLocks noGrp="1"/>
          </p:cNvSpPr>
          <p:nvPr>
            <p:ph/>
          </p:nvPr>
        </p:nvSpPr>
        <p:spPr>
          <a:xfrm>
            <a:off x="3505680" y="2311560"/>
            <a:ext cx="3011760" cy="3117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4"/>
          <p:cNvSpPr>
            <a:spLocks noGrp="1"/>
          </p:cNvSpPr>
          <p:nvPr>
            <p:ph/>
          </p:nvPr>
        </p:nvSpPr>
        <p:spPr>
          <a:xfrm>
            <a:off x="343080" y="5726160"/>
            <a:ext cx="3011760" cy="3117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 name="PlaceHolder 5"/>
          <p:cNvSpPr>
            <a:spLocks noGrp="1"/>
          </p:cNvSpPr>
          <p:nvPr>
            <p:ph/>
          </p:nvPr>
        </p:nvSpPr>
        <p:spPr>
          <a:xfrm>
            <a:off x="3505680" y="5726160"/>
            <a:ext cx="3011760" cy="3117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41370D-C4C6-4A8F-862E-4BF6DE87DE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43080" y="396720"/>
            <a:ext cx="6171840" cy="16506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6" name="PlaceHolder 2"/>
          <p:cNvSpPr>
            <a:spLocks noGrp="1"/>
          </p:cNvSpPr>
          <p:nvPr>
            <p:ph/>
          </p:nvPr>
        </p:nvSpPr>
        <p:spPr>
          <a:xfrm>
            <a:off x="343080" y="2311560"/>
            <a:ext cx="1987200" cy="3117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3"/>
          <p:cNvSpPr>
            <a:spLocks noGrp="1"/>
          </p:cNvSpPr>
          <p:nvPr>
            <p:ph/>
          </p:nvPr>
        </p:nvSpPr>
        <p:spPr>
          <a:xfrm>
            <a:off x="2430000" y="2311560"/>
            <a:ext cx="1987200" cy="3117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4"/>
          <p:cNvSpPr>
            <a:spLocks noGrp="1"/>
          </p:cNvSpPr>
          <p:nvPr>
            <p:ph/>
          </p:nvPr>
        </p:nvSpPr>
        <p:spPr>
          <a:xfrm>
            <a:off x="4516920" y="2311560"/>
            <a:ext cx="1987200" cy="3117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5"/>
          <p:cNvSpPr>
            <a:spLocks noGrp="1"/>
          </p:cNvSpPr>
          <p:nvPr>
            <p:ph/>
          </p:nvPr>
        </p:nvSpPr>
        <p:spPr>
          <a:xfrm>
            <a:off x="343080" y="5726160"/>
            <a:ext cx="1987200" cy="3117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6"/>
          <p:cNvSpPr>
            <a:spLocks noGrp="1"/>
          </p:cNvSpPr>
          <p:nvPr>
            <p:ph/>
          </p:nvPr>
        </p:nvSpPr>
        <p:spPr>
          <a:xfrm>
            <a:off x="2430000" y="5726160"/>
            <a:ext cx="1987200" cy="3117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7"/>
          <p:cNvSpPr>
            <a:spLocks noGrp="1"/>
          </p:cNvSpPr>
          <p:nvPr>
            <p:ph/>
          </p:nvPr>
        </p:nvSpPr>
        <p:spPr>
          <a:xfrm>
            <a:off x="4516920" y="5726160"/>
            <a:ext cx="1987200" cy="3117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2E430A-7C9F-4786-BBFF-4B4B9A7A77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3080" y="396720"/>
            <a:ext cx="6171840" cy="16506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343080" y="2311560"/>
            <a:ext cx="6171840" cy="6536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777F48-C3D1-4252-A04C-60B9C6210E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3080" y="396720"/>
            <a:ext cx="6171840" cy="16506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343080" y="2311560"/>
            <a:ext cx="3011760" cy="6536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3505680" y="2311560"/>
            <a:ext cx="3011760" cy="6536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9E4176-6FAD-46C4-B585-6A4F1DD765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3080" y="396720"/>
            <a:ext cx="6171840" cy="16506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C2695A-2DD1-4B9F-BD85-0523609811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3080" y="396720"/>
            <a:ext cx="6171840" cy="76525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741C18-B5B5-4D04-8589-1064238609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3080" y="396720"/>
            <a:ext cx="6171840" cy="16506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343080" y="2311560"/>
            <a:ext cx="3011760" cy="3117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3505680" y="2311560"/>
            <a:ext cx="3011760" cy="6536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343080" y="5726160"/>
            <a:ext cx="3011760" cy="3117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D0D9A-54F1-4824-98DC-4F1E522B72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3080" y="396720"/>
            <a:ext cx="6171840" cy="16506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343080" y="2311560"/>
            <a:ext cx="3011760" cy="6536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3505680" y="2311560"/>
            <a:ext cx="3011760" cy="3117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3505680" y="5726160"/>
            <a:ext cx="3011760" cy="3117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299C2-5280-4CD0-BA8E-F33DA1239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3080" y="396720"/>
            <a:ext cx="6171840" cy="16506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343080" y="2311560"/>
            <a:ext cx="3011760" cy="3117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3505680" y="2311560"/>
            <a:ext cx="3011760" cy="3117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343080" y="5726160"/>
            <a:ext cx="6171840" cy="3117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8DEBE-EF85-4F4C-8662-B21C132BFD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3076560"/>
            <a:ext cx="5829120" cy="2123640"/>
          </a:xfrm>
          <a:prstGeom prst="rect">
            <a:avLst/>
          </a:prstGeom>
          <a:noFill/>
          <a:ln w="0">
            <a:noFill/>
          </a:ln>
        </p:spPr>
        <p:txBody>
          <a:bodyPr numCol="1" spcCol="0" anchor="ctr">
            <a:noAutofit/>
          </a:bodyPr>
          <a:p>
            <a:pPr indent="0" algn="ctr">
              <a:lnSpc>
                <a:spcPct val="100000"/>
              </a:lnSpc>
              <a:buNone/>
            </a:pPr>
            <a:r>
              <a:rPr b="0" lang="zh-CN" sz="4400" spc="-1" strike="noStrike">
                <a:solidFill>
                  <a:srgbClr val="000000"/>
                </a:solidFill>
                <a:latin typeface="Arial"/>
                <a:ea typeface="宋体"/>
              </a:rPr>
              <a:t>单击此处编辑母版标题样式</a:t>
            </a:r>
            <a:endParaRPr b="0" lang="en-US" sz="4400" spc="-1" strike="noStrike">
              <a:solidFill>
                <a:srgbClr val="000000"/>
              </a:solidFill>
              <a:latin typeface="Arial"/>
            </a:endParaRPr>
          </a:p>
        </p:txBody>
      </p:sp>
      <p:sp>
        <p:nvSpPr>
          <p:cNvPr id="1" name="PlaceHolder 2"/>
          <p:cNvSpPr>
            <a:spLocks noGrp="1"/>
          </p:cNvSpPr>
          <p:nvPr>
            <p:ph type="dt" idx="1"/>
          </p:nvPr>
        </p:nvSpPr>
        <p:spPr>
          <a:xfrm>
            <a:off x="343080" y="9020160"/>
            <a:ext cx="1599840" cy="688680"/>
          </a:xfrm>
          <a:prstGeom prst="rect">
            <a:avLst/>
          </a:prstGeom>
          <a:noFill/>
          <a:ln w="0">
            <a:noFill/>
          </a:ln>
        </p:spPr>
        <p:txBody>
          <a:bodyPr numCol="1" spcCol="0" anchor="t">
            <a:noAutofit/>
          </a:bodyPr>
          <a:lstStyle>
            <a:lvl1pPr indent="0">
              <a:lnSpc>
                <a:spcPct val="100000"/>
              </a:lnSpc>
              <a:buNone/>
              <a:defRPr b="0" lang="en-US" sz="1400" spc="-1" strike="noStrike">
                <a:solidFill>
                  <a:srgbClr val="000000"/>
                </a:solidFill>
                <a:latin typeface="Arial"/>
                <a:ea typeface="宋体"/>
              </a:defRPr>
            </a:lvl1pPr>
          </a:lstStyle>
          <a:p>
            <a:pPr indent="0">
              <a:lnSpc>
                <a:spcPct val="100000"/>
              </a:lnSpc>
              <a:buNone/>
            </a:pPr>
            <a:r>
              <a:rPr b="0" lang="en-US" sz="1400" spc="-1" strike="noStrike">
                <a:solidFill>
                  <a:srgbClr val="000000"/>
                </a:solidFill>
                <a:latin typeface="Arial"/>
                <a:ea typeface="宋体"/>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2343240" y="9020160"/>
            <a:ext cx="2171520" cy="688680"/>
          </a:xfrm>
          <a:prstGeom prst="rect">
            <a:avLst/>
          </a:prstGeom>
          <a:noFill/>
          <a:ln w="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4915080" y="9020160"/>
            <a:ext cx="1599840" cy="688680"/>
          </a:xfrm>
          <a:prstGeom prst="rect">
            <a:avLst/>
          </a:prstGeom>
          <a:noFill/>
          <a:ln w="0">
            <a:noFill/>
          </a:ln>
        </p:spPr>
        <p:txBody>
          <a:bodyPr numCol="1" spcCol="0" anchor="t">
            <a:noAutofit/>
          </a:bodyPr>
          <a:lstStyle>
            <a:lvl1pPr indent="0" algn="r">
              <a:lnSpc>
                <a:spcPct val="100000"/>
              </a:lnSpc>
              <a:buNone/>
              <a:defRPr b="0" lang="en-US" sz="1400" spc="-1" strike="noStrike">
                <a:solidFill>
                  <a:srgbClr val="000000"/>
                </a:solidFill>
                <a:latin typeface="Arial"/>
                <a:ea typeface="宋体"/>
              </a:defRPr>
            </a:lvl1pPr>
          </a:lstStyle>
          <a:p>
            <a:pPr indent="0" algn="r">
              <a:lnSpc>
                <a:spcPct val="100000"/>
              </a:lnSpc>
              <a:buNone/>
            </a:pPr>
            <a:fld id="{7A68A44B-1FDC-43E0-B097-278BD7311FF2}" type="slidenum">
              <a:rPr b="0" lang="en-US"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4" name="PlaceHolder 5"/>
          <p:cNvSpPr>
            <a:spLocks noGrp="1"/>
          </p:cNvSpPr>
          <p:nvPr>
            <p:ph type="body"/>
          </p:nvPr>
        </p:nvSpPr>
        <p:spPr>
          <a:xfrm>
            <a:off x="342720" y="2317680"/>
            <a:ext cx="6171840" cy="57448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43080" y="396720"/>
            <a:ext cx="6171840" cy="1650600"/>
          </a:xfrm>
          <a:prstGeom prst="rect">
            <a:avLst/>
          </a:prstGeom>
          <a:noFill/>
          <a:ln w="0">
            <a:noFill/>
          </a:ln>
        </p:spPr>
        <p:txBody>
          <a:bodyPr numCol="1" spcCol="0" anchor="ctr">
            <a:noAutofit/>
          </a:bodyPr>
          <a:p>
            <a:pPr indent="0" algn="ctr">
              <a:lnSpc>
                <a:spcPct val="100000"/>
              </a:lnSpc>
              <a:buNone/>
            </a:pPr>
            <a:r>
              <a:rPr b="0" lang="zh-CN" sz="4400" spc="-1" strike="noStrike">
                <a:solidFill>
                  <a:srgbClr val="000000"/>
                </a:solidFill>
                <a:latin typeface="Arial"/>
                <a:ea typeface="宋体"/>
              </a:rPr>
              <a:t>单击此处编辑母版标题样式</a:t>
            </a:r>
            <a:endParaRPr b="0" lang="en-US" sz="4400" spc="-1" strike="noStrike">
              <a:solidFill>
                <a:srgbClr val="000000"/>
              </a:solidFill>
              <a:latin typeface="Arial"/>
            </a:endParaRPr>
          </a:p>
        </p:txBody>
      </p:sp>
      <p:sp>
        <p:nvSpPr>
          <p:cNvPr id="42" name="PlaceHolder 2"/>
          <p:cNvSpPr>
            <a:spLocks noGrp="1"/>
          </p:cNvSpPr>
          <p:nvPr>
            <p:ph type="body"/>
          </p:nvPr>
        </p:nvSpPr>
        <p:spPr>
          <a:xfrm>
            <a:off x="343080" y="2311560"/>
            <a:ext cx="6171840" cy="6536880"/>
          </a:xfrm>
          <a:prstGeom prst="rect">
            <a:avLst/>
          </a:prstGeom>
          <a:noFill/>
          <a:ln w="0">
            <a:noFill/>
          </a:ln>
        </p:spPr>
        <p:txBody>
          <a:bodyPr numCol="1" spcCol="0" anchor="t">
            <a:noAutofit/>
          </a:bodyPr>
          <a:p>
            <a:pPr marL="343080" indent="-343080">
              <a:lnSpc>
                <a:spcPct val="100000"/>
              </a:lnSpc>
              <a:spcBef>
                <a:spcPts val="641"/>
              </a:spcBef>
              <a:buClr>
                <a:srgbClr val="000000"/>
              </a:buClr>
              <a:buFont typeface="Symbol" charset="2"/>
              <a:buChar char=""/>
            </a:pPr>
            <a:r>
              <a:rPr b="0" lang="zh-CN" sz="3200" spc="-1" strike="noStrike">
                <a:solidFill>
                  <a:srgbClr val="000000"/>
                </a:solidFill>
                <a:latin typeface="Arial"/>
                <a:ea typeface="宋体"/>
              </a:rPr>
              <a:t>单击此处编辑母版文本样式</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zh-CN" sz="2800" spc="-1" strike="noStrike">
                <a:solidFill>
                  <a:srgbClr val="000000"/>
                </a:solidFill>
                <a:latin typeface="Arial"/>
                <a:ea typeface="宋体"/>
              </a:rPr>
              <a:t>第二级</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zh-CN" sz="2400" spc="-1" strike="noStrike">
                <a:solidFill>
                  <a:srgbClr val="000000"/>
                </a:solidFill>
                <a:latin typeface="Arial"/>
                <a:ea typeface="宋体"/>
              </a:rPr>
              <a:t>第三级</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zh-CN" sz="2000" spc="-1" strike="noStrike">
                <a:solidFill>
                  <a:srgbClr val="000000"/>
                </a:solidFill>
                <a:latin typeface="Arial"/>
                <a:ea typeface="宋体"/>
              </a:rPr>
              <a:t>第四级</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zh-CN" sz="2000" spc="-1" strike="noStrike">
                <a:solidFill>
                  <a:srgbClr val="000000"/>
                </a:solidFill>
                <a:latin typeface="Arial"/>
                <a:ea typeface="宋体"/>
              </a:rPr>
              <a:t>第五级</a:t>
            </a:r>
            <a:endParaRPr b="0" lang="en-US" sz="2000" spc="-1" strike="noStrike">
              <a:solidFill>
                <a:srgbClr val="000000"/>
              </a:solidFill>
              <a:latin typeface="Arial"/>
            </a:endParaRPr>
          </a:p>
        </p:txBody>
      </p:sp>
      <p:sp>
        <p:nvSpPr>
          <p:cNvPr id="43" name="PlaceHolder 3"/>
          <p:cNvSpPr>
            <a:spLocks noGrp="1"/>
          </p:cNvSpPr>
          <p:nvPr>
            <p:ph type="dt" idx="4"/>
          </p:nvPr>
        </p:nvSpPr>
        <p:spPr>
          <a:xfrm>
            <a:off x="343080" y="9020160"/>
            <a:ext cx="1599840" cy="688680"/>
          </a:xfrm>
          <a:prstGeom prst="rect">
            <a:avLst/>
          </a:prstGeom>
          <a:noFill/>
          <a:ln w="0">
            <a:noFill/>
          </a:ln>
        </p:spPr>
        <p:txBody>
          <a:bodyPr numCol="1" spcCol="0" anchor="t">
            <a:noAutofit/>
          </a:bodyPr>
          <a:lstStyle>
            <a:lvl1pPr indent="0">
              <a:lnSpc>
                <a:spcPct val="100000"/>
              </a:lnSpc>
              <a:buNone/>
              <a:defRPr b="0" lang="en-US" sz="1400" spc="-1" strike="noStrike">
                <a:solidFill>
                  <a:srgbClr val="000000"/>
                </a:solidFill>
                <a:latin typeface="Arial"/>
                <a:ea typeface="宋体"/>
              </a:defRPr>
            </a:lvl1pPr>
          </a:lstStyle>
          <a:p>
            <a:pPr indent="0">
              <a:lnSpc>
                <a:spcPct val="100000"/>
              </a:lnSpc>
              <a:buNone/>
            </a:pPr>
            <a:r>
              <a:rPr b="0" lang="en-US" sz="1400" spc="-1" strike="noStrike">
                <a:solidFill>
                  <a:srgbClr val="000000"/>
                </a:solidFill>
                <a:latin typeface="Arial"/>
                <a:ea typeface="宋体"/>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2343240" y="9020160"/>
            <a:ext cx="2171520" cy="688680"/>
          </a:xfrm>
          <a:prstGeom prst="rect">
            <a:avLst/>
          </a:prstGeom>
          <a:noFill/>
          <a:ln w="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4915080" y="9020160"/>
            <a:ext cx="1599840" cy="688680"/>
          </a:xfrm>
          <a:prstGeom prst="rect">
            <a:avLst/>
          </a:prstGeom>
          <a:noFill/>
          <a:ln w="0">
            <a:noFill/>
          </a:ln>
        </p:spPr>
        <p:txBody>
          <a:bodyPr numCol="1" spcCol="0" anchor="t">
            <a:noAutofit/>
          </a:bodyPr>
          <a:lstStyle>
            <a:lvl1pPr indent="0" algn="r">
              <a:lnSpc>
                <a:spcPct val="100000"/>
              </a:lnSpc>
              <a:buNone/>
              <a:defRPr b="0" lang="en-US" sz="1400" spc="-1" strike="noStrike">
                <a:solidFill>
                  <a:srgbClr val="000000"/>
                </a:solidFill>
                <a:latin typeface="Arial"/>
                <a:ea typeface="宋体"/>
              </a:defRPr>
            </a:lvl1pPr>
          </a:lstStyle>
          <a:p>
            <a:pPr indent="0" algn="r">
              <a:lnSpc>
                <a:spcPct val="100000"/>
              </a:lnSpc>
              <a:buNone/>
            </a:pPr>
            <a:fld id="{E998D204-3ADE-4A5D-A252-245A4F69C233}" type="slidenum">
              <a:rPr b="0" lang="en-US"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9.jpeg"/><Relationship Id="rId8" Type="http://schemas.openxmlformats.org/officeDocument/2006/relationships/image" Target="../media/image20.jpeg"/><Relationship Id="rId9" Type="http://schemas.openxmlformats.org/officeDocument/2006/relationships/image" Target="../media/image21.jpeg"/><Relationship Id="rId10" Type="http://schemas.openxmlformats.org/officeDocument/2006/relationships/image" Target="../media/image22.jpeg"/><Relationship Id="rId11" Type="http://schemas.openxmlformats.org/officeDocument/2006/relationships/image" Target="../media/image23.jpeg"/><Relationship Id="rId12" Type="http://schemas.openxmlformats.org/officeDocument/2006/relationships/image" Target="../media/image24.png"/><Relationship Id="rId13" Type="http://schemas.openxmlformats.org/officeDocument/2006/relationships/image" Target="../media/image25.jpeg"/><Relationship Id="rId14"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tif"/><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矩形 3"/>
          <p:cNvSpPr/>
          <p:nvPr/>
        </p:nvSpPr>
        <p:spPr>
          <a:xfrm>
            <a:off x="870840" y="1761840"/>
            <a:ext cx="5068080" cy="69912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4000" spc="-1" strike="noStrike" cap="all">
                <a:solidFill>
                  <a:srgbClr val="000000"/>
                </a:solidFill>
                <a:latin typeface="Arial"/>
                <a:ea typeface="宋体"/>
              </a:rPr>
              <a:t>咨询公司介绍动态</a:t>
            </a:r>
            <a:r>
              <a:rPr b="1" lang="en-US" sz="4000" spc="-1" strike="noStrike" cap="all">
                <a:solidFill>
                  <a:srgbClr val="000000"/>
                </a:solidFill>
                <a:latin typeface="Arial"/>
                <a:ea typeface="宋体"/>
              </a:rPr>
              <a:t>PPT</a:t>
            </a:r>
            <a:r>
              <a:rPr b="1" lang="zh-CN" sz="4000" spc="-1" strike="noStrike" cap="all">
                <a:solidFill>
                  <a:srgbClr val="000000"/>
                </a:solidFill>
                <a:latin typeface="Arial"/>
                <a:ea typeface="宋体"/>
              </a:rPr>
              <a:t>模板下载</a:t>
            </a:r>
            <a:endParaRPr b="0" lang="en-US" sz="4000" spc="-1" strike="noStrike">
              <a:solidFill>
                <a:srgbClr val="000000"/>
              </a:solidFill>
              <a:latin typeface="Arial"/>
            </a:endParaRPr>
          </a:p>
        </p:txBody>
      </p:sp>
      <p:sp>
        <p:nvSpPr>
          <p:cNvPr id="83" name="矩形 12"/>
          <p:cNvSpPr/>
          <p:nvPr/>
        </p:nvSpPr>
        <p:spPr>
          <a:xfrm>
            <a:off x="209160" y="87825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7" name="图片 9" descr="s2009-05-27-16-17-24-6875.jpg"/>
          <p:cNvPicPr/>
          <p:nvPr/>
        </p:nvPicPr>
        <p:blipFill>
          <a:blip r:embed="rId1"/>
          <a:stretch/>
        </p:blipFill>
        <p:spPr>
          <a:xfrm>
            <a:off x="109440" y="95400"/>
            <a:ext cx="6651720" cy="9719280"/>
          </a:xfrm>
          <a:prstGeom prst="rect">
            <a:avLst/>
          </a:prstGeom>
          <a:ln w="0">
            <a:noFill/>
          </a:ln>
        </p:spPr>
      </p:pic>
      <p:sp>
        <p:nvSpPr>
          <p:cNvPr id="578" name="矩形 28"/>
          <p:cNvSpPr/>
          <p:nvPr/>
        </p:nvSpPr>
        <p:spPr>
          <a:xfrm>
            <a:off x="2399400" y="5261040"/>
            <a:ext cx="1257840" cy="645120"/>
          </a:xfrm>
          <a:prstGeom prst="rect">
            <a:avLst/>
          </a:prstGeom>
          <a:solidFill>
            <a:schemeClr val="tx1">
              <a:alpha val="50000"/>
            </a:schemeClr>
          </a:solidFill>
          <a:ln w="0">
            <a:noFill/>
          </a:ln>
        </p:spPr>
        <p:style>
          <a:lnRef idx="0"/>
          <a:fillRef idx="0"/>
          <a:effectRef idx="0"/>
          <a:fontRef idx="minor"/>
        </p:style>
        <p:txBody>
          <a:bodyPr numCol="1" spcCol="0" anchor="ctr">
            <a:noAutofit/>
          </a:bodyPr>
          <a:p>
            <a:pPr>
              <a:lnSpc>
                <a:spcPct val="100000"/>
              </a:lnSpc>
              <a:tabLst>
                <a:tab algn="l" pos="0"/>
              </a:tabLst>
            </a:pPr>
            <a:endParaRPr b="0" lang="en-US" sz="1800" spc="-1" strike="noStrike">
              <a:solidFill>
                <a:srgbClr val="000000"/>
              </a:solidFill>
              <a:latin typeface="Arial"/>
              <a:ea typeface="宋体"/>
            </a:endParaRPr>
          </a:p>
        </p:txBody>
      </p:sp>
      <p:sp>
        <p:nvSpPr>
          <p:cNvPr id="579" name="矩形 27"/>
          <p:cNvSpPr/>
          <p:nvPr/>
        </p:nvSpPr>
        <p:spPr>
          <a:xfrm>
            <a:off x="2399400" y="4064040"/>
            <a:ext cx="1257840" cy="645120"/>
          </a:xfrm>
          <a:prstGeom prst="rect">
            <a:avLst/>
          </a:prstGeom>
          <a:solidFill>
            <a:schemeClr val="tx1">
              <a:alpha val="50000"/>
            </a:schemeClr>
          </a:solidFill>
          <a:ln w="0">
            <a:noFill/>
          </a:ln>
        </p:spPr>
        <p:style>
          <a:lnRef idx="0"/>
          <a:fillRef idx="0"/>
          <a:effectRef idx="0"/>
          <a:fontRef idx="minor"/>
        </p:style>
        <p:txBody>
          <a:bodyPr numCol="1" spcCol="0" anchor="ctr">
            <a:noAutofit/>
          </a:bodyPr>
          <a:p>
            <a:pPr>
              <a:lnSpc>
                <a:spcPct val="100000"/>
              </a:lnSpc>
              <a:tabLst>
                <a:tab algn="l" pos="0"/>
              </a:tabLst>
            </a:pPr>
            <a:endParaRPr b="0" lang="en-US" sz="1800" spc="-1" strike="noStrike">
              <a:solidFill>
                <a:srgbClr val="000000"/>
              </a:solidFill>
              <a:latin typeface="Arial"/>
              <a:ea typeface="宋体"/>
            </a:endParaRPr>
          </a:p>
        </p:txBody>
      </p:sp>
      <p:sp>
        <p:nvSpPr>
          <p:cNvPr id="580" name="任意多边形 11"/>
          <p:cNvSpPr/>
          <p:nvPr/>
        </p:nvSpPr>
        <p:spPr>
          <a:xfrm>
            <a:off x="1378080" y="81720"/>
            <a:ext cx="5432040" cy="2594520"/>
          </a:xfrm>
          <a:custGeom>
            <a:avLst/>
            <a:gdLst>
              <a:gd name="textAreaLeft" fmla="*/ 0 w 5432040"/>
              <a:gd name="textAreaRight" fmla="*/ 5432400 w 5432040"/>
              <a:gd name="textAreaTop" fmla="*/ 0 h 2594520"/>
              <a:gd name="textAreaBottom" fmla="*/ 2594880 h 2594520"/>
            </a:gdLst>
            <a:ahLst/>
            <a:rect l="textAreaLeft" t="textAreaTop" r="textAreaRight" b="textAreaBottom"/>
            <a:pathLst>
              <a:path w="5432404" h="2595052">
                <a:moveTo>
                  <a:pt x="3671841" y="13648"/>
                </a:moveTo>
                <a:lnTo>
                  <a:pt x="0" y="2595052"/>
                </a:lnTo>
                <a:lnTo>
                  <a:pt x="26505" y="2568547"/>
                </a:lnTo>
                <a:lnTo>
                  <a:pt x="5418756" y="2142698"/>
                </a:lnTo>
                <a:cubicBezTo>
                  <a:pt x="5423305" y="1428465"/>
                  <a:pt x="5427855" y="714233"/>
                  <a:pt x="5432404" y="0"/>
                </a:cubicBezTo>
                <a:lnTo>
                  <a:pt x="3671841" y="13648"/>
                </a:lnTo>
                <a:close/>
              </a:path>
            </a:pathLst>
          </a:custGeom>
          <a:gradFill rotWithShape="0">
            <a:gsLst>
              <a:gs pos="0">
                <a:srgbClr val="cfdef3">
                  <a:alpha val="59215"/>
                </a:srgbClr>
              </a:gs>
              <a:gs pos="100000">
                <a:srgbClr val="ffffff">
                  <a:alpha val="76078"/>
                </a:srgbClr>
              </a:gs>
            </a:gsLst>
            <a:lin ang="7200000"/>
          </a:gradFill>
          <a:ln w="0">
            <a:noFill/>
          </a:ln>
        </p:spPr>
        <p:style>
          <a:lnRef idx="0"/>
          <a:fillRef idx="0"/>
          <a:effectRef idx="0"/>
          <a:fontRef idx="minor"/>
        </p:style>
        <p:txBody>
          <a:bodyPr numCol="1" spcCol="0" anchor="ctr">
            <a:noAutofit/>
          </a:bodyPr>
          <a:p>
            <a:pPr>
              <a:lnSpc>
                <a:spcPct val="100000"/>
              </a:lnSpc>
              <a:tabLst>
                <a:tab algn="l" pos="0"/>
              </a:tabLst>
            </a:pPr>
            <a:endParaRPr b="0" lang="en-US" sz="1800" spc="-1" strike="noStrike">
              <a:solidFill>
                <a:srgbClr val="000000"/>
              </a:solidFill>
              <a:latin typeface="Arial"/>
              <a:ea typeface="宋体"/>
            </a:endParaRPr>
          </a:p>
        </p:txBody>
      </p:sp>
      <p:sp>
        <p:nvSpPr>
          <p:cNvPr id="581" name="矩形 12"/>
          <p:cNvSpPr/>
          <p:nvPr/>
        </p:nvSpPr>
        <p:spPr>
          <a:xfrm>
            <a:off x="3737160" y="610200"/>
            <a:ext cx="2457720" cy="1555560"/>
          </a:xfrm>
          <a:prstGeom prst="rect">
            <a:avLst/>
          </a:prstGeom>
          <a:solidFill>
            <a:schemeClr val="tx1"/>
          </a:solidFill>
          <a:ln w="0">
            <a:noFill/>
          </a:ln>
        </p:spPr>
        <p:style>
          <a:lnRef idx="0"/>
          <a:fillRef idx="0"/>
          <a:effectRef idx="0"/>
          <a:fontRef idx="minor"/>
        </p:style>
        <p:txBody>
          <a:bodyPr numCol="1" spcCol="0" anchor="ctr">
            <a:noAutofit/>
          </a:bodyPr>
          <a:p>
            <a:pPr>
              <a:lnSpc>
                <a:spcPct val="100000"/>
              </a:lnSpc>
              <a:tabLst>
                <a:tab algn="l" pos="0"/>
              </a:tabLst>
            </a:pPr>
            <a:endParaRPr b="0" lang="en-US" sz="1800" spc="-1" strike="noStrike">
              <a:solidFill>
                <a:srgbClr val="000000"/>
              </a:solidFill>
              <a:latin typeface="Arial"/>
              <a:ea typeface="宋体"/>
            </a:endParaRPr>
          </a:p>
        </p:txBody>
      </p:sp>
      <p:sp>
        <p:nvSpPr>
          <p:cNvPr id="582" name="TextBox 14"/>
          <p:cNvSpPr/>
          <p:nvPr/>
        </p:nvSpPr>
        <p:spPr>
          <a:xfrm>
            <a:off x="3876120" y="1171800"/>
            <a:ext cx="232380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200" spc="-1" strike="noStrike">
                <a:solidFill>
                  <a:srgbClr val="ffff00"/>
                </a:solidFill>
                <a:latin typeface="黑体"/>
                <a:ea typeface="黑体"/>
              </a:rPr>
              <a:t>使命与愿景</a:t>
            </a:r>
            <a:endParaRPr b="0" lang="en-US" sz="3200" spc="-1" strike="noStrike">
              <a:solidFill>
                <a:srgbClr val="000000"/>
              </a:solidFill>
              <a:latin typeface="Arial"/>
            </a:endParaRPr>
          </a:p>
        </p:txBody>
      </p:sp>
      <p:sp>
        <p:nvSpPr>
          <p:cNvPr id="583" name="TextBox 15"/>
          <p:cNvSpPr/>
          <p:nvPr/>
        </p:nvSpPr>
        <p:spPr>
          <a:xfrm>
            <a:off x="3876120" y="959760"/>
            <a:ext cx="23770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d79f00"/>
                </a:solidFill>
                <a:latin typeface="Arial"/>
                <a:ea typeface="宋体"/>
              </a:rPr>
              <a:t>MISSION &amp; VISION </a:t>
            </a:r>
            <a:endParaRPr b="0" lang="en-US" sz="1800" spc="-1" strike="noStrike">
              <a:solidFill>
                <a:srgbClr val="000000"/>
              </a:solidFill>
              <a:latin typeface="Arial"/>
            </a:endParaRPr>
          </a:p>
        </p:txBody>
      </p:sp>
      <p:sp>
        <p:nvSpPr>
          <p:cNvPr id="584" name="矩形 19"/>
          <p:cNvSpPr/>
          <p:nvPr/>
        </p:nvSpPr>
        <p:spPr>
          <a:xfrm>
            <a:off x="109440" y="95400"/>
            <a:ext cx="6651720" cy="9719280"/>
          </a:xfrm>
          <a:prstGeom prst="rect">
            <a:avLst/>
          </a:prstGeom>
          <a:noFill/>
          <a:ln w="76200">
            <a:solidFill>
              <a:srgbClr val="000000"/>
            </a:solidFill>
            <a:round/>
          </a:ln>
        </p:spPr>
        <p:style>
          <a:lnRef idx="0"/>
          <a:fillRef idx="0"/>
          <a:effectRef idx="0"/>
          <a:fontRef idx="minor"/>
        </p:style>
        <p:txBody>
          <a:bodyPr numCol="1" spcCol="0" anchor="ctr">
            <a:noAutofit/>
          </a:bodyPr>
          <a:p>
            <a:pPr>
              <a:lnSpc>
                <a:spcPct val="100000"/>
              </a:lnSpc>
              <a:tabLst>
                <a:tab algn="l" pos="0"/>
              </a:tabLst>
            </a:pPr>
            <a:endParaRPr b="0" lang="en-US" sz="1800" spc="-1" strike="noStrike">
              <a:solidFill>
                <a:srgbClr val="000000"/>
              </a:solidFill>
              <a:latin typeface="Arial"/>
              <a:ea typeface="宋体"/>
            </a:endParaRPr>
          </a:p>
        </p:txBody>
      </p:sp>
      <p:sp>
        <p:nvSpPr>
          <p:cNvPr id="585" name="TextBox 20"/>
          <p:cNvSpPr/>
          <p:nvPr/>
        </p:nvSpPr>
        <p:spPr>
          <a:xfrm>
            <a:off x="3745080" y="5261040"/>
            <a:ext cx="2688120" cy="3639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zh-CN" sz="1800" spc="-1" strike="noStrike">
                <a:solidFill>
                  <a:srgbClr val="000000"/>
                </a:solidFill>
                <a:latin typeface="微软雅黑"/>
                <a:ea typeface="微软雅黑"/>
              </a:rPr>
              <a:t>成为企业值得信赖的人力资源服务商。</a:t>
            </a:r>
            <a:endParaRPr b="0" lang="en-US" sz="1800" spc="-1" strike="noStrike">
              <a:solidFill>
                <a:srgbClr val="000000"/>
              </a:solidFill>
              <a:latin typeface="Arial"/>
            </a:endParaRPr>
          </a:p>
        </p:txBody>
      </p:sp>
      <p:sp>
        <p:nvSpPr>
          <p:cNvPr id="586" name="TextBox 21"/>
          <p:cNvSpPr/>
          <p:nvPr/>
        </p:nvSpPr>
        <p:spPr>
          <a:xfrm>
            <a:off x="2504880" y="4063320"/>
            <a:ext cx="115272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1800" spc="-1" strike="noStrike">
                <a:solidFill>
                  <a:srgbClr val="ff0000"/>
                </a:solidFill>
                <a:latin typeface="微软雅黑"/>
                <a:ea typeface="微软雅黑"/>
              </a:rPr>
              <a:t>公司使命</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微软雅黑"/>
              </a:rPr>
              <a:t>Mission</a:t>
            </a:r>
            <a:endParaRPr b="0" lang="en-US" sz="1800" spc="-1" strike="noStrike">
              <a:solidFill>
                <a:srgbClr val="000000"/>
              </a:solidFill>
              <a:latin typeface="Arial"/>
            </a:endParaRPr>
          </a:p>
        </p:txBody>
      </p:sp>
      <p:sp>
        <p:nvSpPr>
          <p:cNvPr id="587" name="TextBox 22"/>
          <p:cNvSpPr/>
          <p:nvPr/>
        </p:nvSpPr>
        <p:spPr>
          <a:xfrm>
            <a:off x="2504880" y="5261040"/>
            <a:ext cx="115272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1800" spc="-1" strike="noStrike">
                <a:solidFill>
                  <a:srgbClr val="ff0000"/>
                </a:solidFill>
                <a:latin typeface="微软雅黑"/>
                <a:ea typeface="微软雅黑"/>
              </a:rPr>
              <a:t>公司愿景</a:t>
            </a:r>
            <a:r>
              <a:rPr b="0" lang="en-US" sz="1800" spc="-1" strike="noStrike">
                <a:solidFill>
                  <a:srgbClr val="ffffff"/>
                </a:solidFill>
                <a:latin typeface="Arial"/>
                <a:ea typeface="微软雅黑"/>
              </a:rPr>
              <a:t>Vision</a:t>
            </a:r>
            <a:endParaRPr b="0" lang="en-US" sz="1800" spc="-1" strike="noStrike">
              <a:solidFill>
                <a:srgbClr val="000000"/>
              </a:solidFill>
              <a:latin typeface="Arial"/>
            </a:endParaRPr>
          </a:p>
        </p:txBody>
      </p:sp>
      <p:sp>
        <p:nvSpPr>
          <p:cNvPr id="588" name="TextBox 23"/>
          <p:cNvSpPr/>
          <p:nvPr/>
        </p:nvSpPr>
        <p:spPr>
          <a:xfrm>
            <a:off x="3745080" y="4063320"/>
            <a:ext cx="27676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为珠三角经济的崛起提供匹配的人力资源保障。</a:t>
            </a:r>
            <a:endParaRPr b="0" lang="en-US" sz="1800" spc="-1" strike="noStrike">
              <a:solidFill>
                <a:srgbClr val="000000"/>
              </a:solidFill>
              <a:latin typeface="Arial"/>
            </a:endParaRPr>
          </a:p>
        </p:txBody>
      </p:sp>
      <p:cxnSp>
        <p:nvCxnSpPr>
          <p:cNvPr id="589" name="直接连接符 25"/>
          <p:cNvCxnSpPr/>
          <p:nvPr/>
        </p:nvCxnSpPr>
        <p:spPr>
          <a:xfrm flipH="1">
            <a:off x="2397600" y="4064040"/>
            <a:ext cx="2160" cy="5752080"/>
          </a:xfrm>
          <a:prstGeom prst="straightConnector1">
            <a:avLst/>
          </a:prstGeom>
          <a:ln w="28575">
            <a:solidFill>
              <a:srgbClr val="000000"/>
            </a:solidFill>
            <a:round/>
          </a:ln>
        </p:spPr>
      </p:cxnSp>
    </p:spTree>
  </p:cSld>
  <p:transition spd="slow" advTm="5000">
    <p:push dir="u"/>
  </p:transition>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withEffect" fill="hold" presetClass="emph" presetID="35" repeatCount="indefinite">
                                  <p:stCondLst>
                                    <p:cond delay="0"/>
                                  </p:stCondLst>
                                  <p:childTnLst>
                                    <p:anim calcmode="discrete" valueType="num">
                                      <p:cBhvr additive="repl">
                                        <p:cTn id="212" dur="500" fill="hold"/>
                                        <p:tgtEl>
                                          <p:spTgt spid="580"/>
                                        </p:tgtEl>
                                        <p:attrNameLst>
                                          <p:attrName>style.visibility</p:attrName>
                                        </p:attrNameLst>
                                      </p:cBhvr>
                                      <p:tavLst>
                                        <p:tav tm="0">
                                          <p:val>
                                            <p:strVal val="hidden"/>
                                          </p:val>
                                        </p:tav>
                                        <p:tav tm="50000">
                                          <p:val>
                                            <p:strVal val="visible"/>
                                          </p:val>
                                        </p:tav>
                                      </p:tavLst>
                                    </p:anim>
                                  </p:childTnLst>
                                </p:cTn>
                              </p:par>
                            </p:childTnLst>
                          </p:cTn>
                        </p:par>
                        <p:par>
                          <p:cTn id="213" fill="hold">
                            <p:stCondLst>
                              <p:cond delay="1000"/>
                            </p:stCondLst>
                            <p:childTnLst>
                              <p:par>
                                <p:cTn id="214" nodeType="afterEffect" fill="hold" presetClass="entr" presetID="22" presetSubtype="8">
                                  <p:stCondLst>
                                    <p:cond delay="0"/>
                                  </p:stCondLst>
                                  <p:childTnLst>
                                    <p:set>
                                      <p:cBhvr>
                                        <p:cTn id="215" dur="1" fill="hold">
                                          <p:stCondLst>
                                            <p:cond delay="0"/>
                                          </p:stCondLst>
                                        </p:cTn>
                                        <p:tgtEl>
                                          <p:spTgt spid="578"/>
                                        </p:tgtEl>
                                        <p:attrNameLst>
                                          <p:attrName>style.visibility</p:attrName>
                                        </p:attrNameLst>
                                      </p:cBhvr>
                                      <p:to>
                                        <p:strVal val="visible"/>
                                      </p:to>
                                    </p:set>
                                    <p:animEffect filter="wipe(left)" transition="in">
                                      <p:cBhvr additive="repl">
                                        <p:cTn id="216" dur="1000"/>
                                        <p:tgtEl>
                                          <p:spTgt spid="578"/>
                                        </p:tgtEl>
                                      </p:cBhvr>
                                    </p:animEffect>
                                  </p:childTnLst>
                                </p:cTn>
                              </p:par>
                              <p:par>
                                <p:cTn id="217" nodeType="withEffect" fill="hold" presetClass="entr" presetID="22" presetSubtype="8">
                                  <p:stCondLst>
                                    <p:cond delay="0"/>
                                  </p:stCondLst>
                                  <p:childTnLst>
                                    <p:set>
                                      <p:cBhvr>
                                        <p:cTn id="218" dur="1" fill="hold">
                                          <p:stCondLst>
                                            <p:cond delay="0"/>
                                          </p:stCondLst>
                                        </p:cTn>
                                        <p:tgtEl>
                                          <p:spTgt spid="579"/>
                                        </p:tgtEl>
                                        <p:attrNameLst>
                                          <p:attrName>style.visibility</p:attrName>
                                        </p:attrNameLst>
                                      </p:cBhvr>
                                      <p:to>
                                        <p:strVal val="visible"/>
                                      </p:to>
                                    </p:set>
                                    <p:animEffect filter="wipe(left)" transition="in">
                                      <p:cBhvr additive="repl">
                                        <p:cTn id="219" dur="1000"/>
                                        <p:tgtEl>
                                          <p:spTgt spid="579"/>
                                        </p:tgtEl>
                                      </p:cBhvr>
                                    </p:animEffect>
                                  </p:childTnLst>
                                </p:cTn>
                              </p:par>
                              <p:par>
                                <p:cTn id="220" nodeType="withEffect" fill="hold" presetClass="entr" presetID="22" presetSubtype="8">
                                  <p:stCondLst>
                                    <p:cond delay="0"/>
                                  </p:stCondLst>
                                  <p:childTnLst>
                                    <p:set>
                                      <p:cBhvr>
                                        <p:cTn id="221" dur="1" fill="hold">
                                          <p:stCondLst>
                                            <p:cond delay="0"/>
                                          </p:stCondLst>
                                        </p:cTn>
                                        <p:tgtEl>
                                          <p:spTgt spid="586"/>
                                        </p:tgtEl>
                                        <p:attrNameLst>
                                          <p:attrName>style.visibility</p:attrName>
                                        </p:attrNameLst>
                                      </p:cBhvr>
                                      <p:to>
                                        <p:strVal val="visible"/>
                                      </p:to>
                                    </p:set>
                                    <p:animEffect filter="wipe(left)" transition="in">
                                      <p:cBhvr additive="repl">
                                        <p:cTn id="222" dur="1000"/>
                                        <p:tgtEl>
                                          <p:spTgt spid="586"/>
                                        </p:tgtEl>
                                      </p:cBhvr>
                                    </p:animEffect>
                                  </p:childTnLst>
                                </p:cTn>
                              </p:par>
                              <p:par>
                                <p:cTn id="223" nodeType="withEffect" fill="hold" presetClass="entr" presetID="22" presetSubtype="8">
                                  <p:stCondLst>
                                    <p:cond delay="0"/>
                                  </p:stCondLst>
                                  <p:childTnLst>
                                    <p:set>
                                      <p:cBhvr>
                                        <p:cTn id="224" dur="1" fill="hold">
                                          <p:stCondLst>
                                            <p:cond delay="0"/>
                                          </p:stCondLst>
                                        </p:cTn>
                                        <p:tgtEl>
                                          <p:spTgt spid="587"/>
                                        </p:tgtEl>
                                        <p:attrNameLst>
                                          <p:attrName>style.visibility</p:attrName>
                                        </p:attrNameLst>
                                      </p:cBhvr>
                                      <p:to>
                                        <p:strVal val="visible"/>
                                      </p:to>
                                    </p:set>
                                    <p:animEffect filter="wipe(left)" transition="in">
                                      <p:cBhvr additive="repl">
                                        <p:cTn id="225" dur="1000"/>
                                        <p:tgtEl>
                                          <p:spTgt spid="587"/>
                                        </p:tgtEl>
                                      </p:cBhvr>
                                    </p:animEffect>
                                  </p:childTnLst>
                                </p:cTn>
                              </p:par>
                            </p:childTnLst>
                          </p:cTn>
                        </p:par>
                        <p:par>
                          <p:cTn id="226" fill="hold">
                            <p:stCondLst>
                              <p:cond delay="2000"/>
                            </p:stCondLst>
                            <p:childTnLst>
                              <p:par>
                                <p:cTn id="227" nodeType="afterEffect" fill="hold" presetClass="entr" presetID="41">
                                  <p:stCondLst>
                                    <p:cond delay="0"/>
                                  </p:stCondLst>
                                  <p:iterate type="wd">
                                    <p:tmAbs val="100"/>
                                  </p:iterate>
                                  <p:childTnLst>
                                    <p:set>
                                      <p:cBhvr>
                                        <p:cTn id="228" dur="1" fill="hold">
                                          <p:stCondLst>
                                            <p:cond delay="0"/>
                                          </p:stCondLst>
                                        </p:cTn>
                                        <p:tgtEl>
                                          <p:spTgt spid="585"/>
                                        </p:tgtEl>
                                        <p:attrNameLst>
                                          <p:attrName>style.visibility</p:attrName>
                                        </p:attrNameLst>
                                      </p:cBhvr>
                                      <p:to>
                                        <p:strVal val="visible"/>
                                      </p:to>
                                    </p:set>
                                    <p:anim calcmode="lin" valueType="num">
                                      <p:cBhvr additive="repl">
                                        <p:cTn id="229" dur="1000" fill="hold"/>
                                        <p:tgtEl>
                                          <p:spTgt spid="585"/>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0" dur="1000" fill="hold"/>
                                        <p:tgtEl>
                                          <p:spTgt spid="585"/>
                                        </p:tgtEl>
                                        <p:attrNameLst>
                                          <p:attrName>ppt_y</p:attrName>
                                        </p:attrNameLst>
                                      </p:cBhvr>
                                      <p:tavLst>
                                        <p:tav tm="0">
                                          <p:val>
                                            <p:strVal val="#ppt_y"/>
                                          </p:val>
                                        </p:tav>
                                        <p:tav tm="100000">
                                          <p:val>
                                            <p:strVal val="#ppt_y"/>
                                          </p:val>
                                        </p:tav>
                                      </p:tavLst>
                                    </p:anim>
                                    <p:anim calcmode="lin" valueType="num">
                                      <p:cBhvr additive="repl">
                                        <p:cTn id="231" dur="1000" fill="hold"/>
                                        <p:tgtEl>
                                          <p:spTgt spid="58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2" dur="1000" fill="hold"/>
                                        <p:tgtEl>
                                          <p:spTgt spid="58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3" dur="1000"/>
                                        <p:tgtEl>
                                          <p:spTgt spid="585"/>
                                        </p:tgtEl>
                                      </p:cBhvr>
                                    </p:animEffect>
                                  </p:childTnLst>
                                </p:cTn>
                              </p:par>
                              <p:par>
                                <p:cTn id="234" nodeType="withEffect" fill="hold" presetClass="entr" presetID="41">
                                  <p:stCondLst>
                                    <p:cond delay="0"/>
                                  </p:stCondLst>
                                  <p:iterate type="wd">
                                    <p:tmAbs val="100"/>
                                  </p:iterate>
                                  <p:childTnLst>
                                    <p:set>
                                      <p:cBhvr>
                                        <p:cTn id="235" dur="1" fill="hold">
                                          <p:stCondLst>
                                            <p:cond delay="0"/>
                                          </p:stCondLst>
                                        </p:cTn>
                                        <p:tgtEl>
                                          <p:spTgt spid="588"/>
                                        </p:tgtEl>
                                        <p:attrNameLst>
                                          <p:attrName>style.visibility</p:attrName>
                                        </p:attrNameLst>
                                      </p:cBhvr>
                                      <p:to>
                                        <p:strVal val="visible"/>
                                      </p:to>
                                    </p:set>
                                    <p:anim calcmode="lin" valueType="num">
                                      <p:cBhvr additive="repl">
                                        <p:cTn id="236" dur="1000" fill="hold"/>
                                        <p:tgtEl>
                                          <p:spTgt spid="588"/>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7" dur="1000" fill="hold"/>
                                        <p:tgtEl>
                                          <p:spTgt spid="588"/>
                                        </p:tgtEl>
                                        <p:attrNameLst>
                                          <p:attrName>ppt_y</p:attrName>
                                        </p:attrNameLst>
                                      </p:cBhvr>
                                      <p:tavLst>
                                        <p:tav tm="0">
                                          <p:val>
                                            <p:strVal val="#ppt_y"/>
                                          </p:val>
                                        </p:tav>
                                        <p:tav tm="100000">
                                          <p:val>
                                            <p:strVal val="#ppt_y"/>
                                          </p:val>
                                        </p:tav>
                                      </p:tavLst>
                                    </p:anim>
                                    <p:anim calcmode="lin" valueType="num">
                                      <p:cBhvr additive="repl">
                                        <p:cTn id="238" dur="1000" fill="hold"/>
                                        <p:tgtEl>
                                          <p:spTgt spid="58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9" dur="1000" fill="hold"/>
                                        <p:tgtEl>
                                          <p:spTgt spid="58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0" dur="1000"/>
                                        <p:tgtEl>
                                          <p:spTgt spid="588"/>
                                        </p:tgtEl>
                                      </p:cBhvr>
                                    </p:animEffect>
                                  </p:childTnLst>
                                </p:cTn>
                              </p:par>
                            </p:childTnLst>
                          </p:cTn>
                        </p:par>
                        <p:par>
                          <p:cTn id="241" fill="hold">
                            <p:stCondLst>
                              <p:cond delay="4200"/>
                            </p:stCondLst>
                            <p:childTnLst>
                              <p:par>
                                <p:cTn id="242" nodeType="afterEffect" fill="hold" presetClass="entr" presetID="22" presetSubtype="1">
                                  <p:stCondLst>
                                    <p:cond delay="0"/>
                                  </p:stCondLst>
                                  <p:childTnLst>
                                    <p:set>
                                      <p:cBhvr>
                                        <p:cTn id="243" dur="1" fill="hold">
                                          <p:stCondLst>
                                            <p:cond delay="0"/>
                                          </p:stCondLst>
                                        </p:cTn>
                                        <p:tgtEl>
                                          <p:spTgt spid="589"/>
                                        </p:tgtEl>
                                        <p:attrNameLst>
                                          <p:attrName>style.visibility</p:attrName>
                                        </p:attrNameLst>
                                      </p:cBhvr>
                                      <p:to>
                                        <p:strVal val="visible"/>
                                      </p:to>
                                    </p:set>
                                    <p:animEffect filter="wipe(up)" transition="in">
                                      <p:cBhvr additive="repl">
                                        <p:cTn id="244" dur="1000"/>
                                        <p:tgtEl>
                                          <p:spTgt spid="5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9f00"/>
        </a:solidFill>
      </p:bgPr>
    </p:bg>
    <p:spTree>
      <p:nvGrpSpPr>
        <p:cNvPr id="1" name=""/>
        <p:cNvGrpSpPr/>
        <p:nvPr/>
      </p:nvGrpSpPr>
      <p:grpSpPr>
        <a:xfrm>
          <a:off x="0" y="0"/>
          <a:ext cx="0" cy="0"/>
          <a:chOff x="0" y="0"/>
          <a:chExt cx="0" cy="0"/>
        </a:xfrm>
      </p:grpSpPr>
      <p:sp>
        <p:nvSpPr>
          <p:cNvPr id="590" name="TextBox 3"/>
          <p:cNvSpPr/>
          <p:nvPr/>
        </p:nvSpPr>
        <p:spPr>
          <a:xfrm>
            <a:off x="4913280" y="4191480"/>
            <a:ext cx="158292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利用专业技能以较短的时间帮助客户解决管理问题。</a:t>
            </a:r>
            <a:endParaRPr b="0" lang="en-US" sz="1400" spc="-1" strike="noStrike">
              <a:solidFill>
                <a:srgbClr val="000000"/>
              </a:solidFill>
              <a:latin typeface="Arial"/>
            </a:endParaRPr>
          </a:p>
        </p:txBody>
      </p:sp>
      <p:pic>
        <p:nvPicPr>
          <p:cNvPr id="591" name="图片 6" descr="3130477_135637202114_2副本.png"/>
          <p:cNvPicPr/>
          <p:nvPr/>
        </p:nvPicPr>
        <p:blipFill>
          <a:blip r:embed="rId1"/>
          <a:stretch/>
        </p:blipFill>
        <p:spPr>
          <a:xfrm>
            <a:off x="1192680" y="5123160"/>
            <a:ext cx="4516920" cy="4782600"/>
          </a:xfrm>
          <a:prstGeom prst="rect">
            <a:avLst/>
          </a:prstGeom>
          <a:ln w="0">
            <a:noFill/>
          </a:ln>
        </p:spPr>
      </p:pic>
      <p:pic>
        <p:nvPicPr>
          <p:cNvPr id="592" name="图片 8" descr="3130477_135637202114_2副本.png"/>
          <p:cNvPicPr/>
          <p:nvPr/>
        </p:nvPicPr>
        <p:blipFill>
          <a:blip r:embed="rId2"/>
          <a:stretch/>
        </p:blipFill>
        <p:spPr>
          <a:xfrm>
            <a:off x="3074400" y="7061400"/>
            <a:ext cx="847080" cy="788040"/>
          </a:xfrm>
          <a:prstGeom prst="rect">
            <a:avLst/>
          </a:prstGeom>
          <a:ln w="0">
            <a:noFill/>
          </a:ln>
        </p:spPr>
      </p:pic>
      <p:sp>
        <p:nvSpPr>
          <p:cNvPr id="593" name="TextBox 9"/>
          <p:cNvSpPr/>
          <p:nvPr/>
        </p:nvSpPr>
        <p:spPr>
          <a:xfrm>
            <a:off x="2732400" y="2610000"/>
            <a:ext cx="1388880" cy="319572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zh-CN" sz="3400" spc="-1" strike="noStrike">
                <a:solidFill>
                  <a:srgbClr val="ff0000"/>
                </a:solidFill>
                <a:latin typeface="微软雅黑"/>
                <a:ea typeface="微软雅黑"/>
              </a:rPr>
              <a:t>专业</a:t>
            </a:r>
            <a:endParaRPr b="0" lang="en-US" sz="3400" spc="-1" strike="noStrike">
              <a:solidFill>
                <a:srgbClr val="000000"/>
              </a:solidFill>
              <a:latin typeface="Arial"/>
            </a:endParaRPr>
          </a:p>
          <a:p>
            <a:pPr algn="ctr">
              <a:lnSpc>
                <a:spcPct val="150000"/>
              </a:lnSpc>
            </a:pPr>
            <a:r>
              <a:rPr b="1" lang="zh-CN" sz="3400" spc="-1" strike="noStrike">
                <a:solidFill>
                  <a:srgbClr val="ff0000"/>
                </a:solidFill>
                <a:latin typeface="微软雅黑"/>
                <a:ea typeface="微软雅黑"/>
              </a:rPr>
              <a:t>专注</a:t>
            </a:r>
            <a:endParaRPr b="0" lang="en-US" sz="3400" spc="-1" strike="noStrike">
              <a:solidFill>
                <a:srgbClr val="000000"/>
              </a:solidFill>
              <a:latin typeface="Arial"/>
            </a:endParaRPr>
          </a:p>
          <a:p>
            <a:pPr algn="ctr">
              <a:lnSpc>
                <a:spcPct val="150000"/>
              </a:lnSpc>
            </a:pPr>
            <a:r>
              <a:rPr b="1" lang="zh-CN" sz="3400" spc="-1" strike="noStrike">
                <a:solidFill>
                  <a:srgbClr val="ff0000"/>
                </a:solidFill>
                <a:latin typeface="微软雅黑"/>
                <a:ea typeface="微软雅黑"/>
              </a:rPr>
              <a:t>专一</a:t>
            </a:r>
            <a:endParaRPr b="0" lang="en-US" sz="3400" spc="-1" strike="noStrike">
              <a:solidFill>
                <a:srgbClr val="000000"/>
              </a:solidFill>
              <a:latin typeface="Arial"/>
            </a:endParaRPr>
          </a:p>
          <a:p>
            <a:pPr algn="ctr">
              <a:lnSpc>
                <a:spcPct val="150000"/>
              </a:lnSpc>
            </a:pPr>
            <a:r>
              <a:rPr b="1" lang="zh-CN" sz="3400" spc="-1" strike="noStrike">
                <a:solidFill>
                  <a:srgbClr val="ff0000"/>
                </a:solidFill>
                <a:latin typeface="微软雅黑"/>
                <a:ea typeface="微软雅黑"/>
              </a:rPr>
              <a:t>高效</a:t>
            </a:r>
            <a:endParaRPr b="0" lang="en-US" sz="3400" spc="-1" strike="noStrike">
              <a:solidFill>
                <a:srgbClr val="000000"/>
              </a:solidFill>
              <a:latin typeface="Arial"/>
            </a:endParaRPr>
          </a:p>
        </p:txBody>
      </p:sp>
      <p:sp>
        <p:nvSpPr>
          <p:cNvPr id="594" name="TextBox 12"/>
          <p:cNvSpPr/>
          <p:nvPr/>
        </p:nvSpPr>
        <p:spPr>
          <a:xfrm>
            <a:off x="382320" y="2086560"/>
            <a:ext cx="1719360" cy="3027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提供经过实践检验的、系统化的、深入的知识体系及方法论。</a:t>
            </a:r>
            <a:endParaRPr b="0" lang="en-US" sz="1400" spc="-1" strike="noStrike">
              <a:solidFill>
                <a:srgbClr val="000000"/>
              </a:solidFill>
              <a:latin typeface="Arial"/>
            </a:endParaRPr>
          </a:p>
        </p:txBody>
      </p:sp>
      <p:sp>
        <p:nvSpPr>
          <p:cNvPr id="595" name="矩形 13"/>
          <p:cNvSpPr/>
          <p:nvPr/>
        </p:nvSpPr>
        <p:spPr>
          <a:xfrm>
            <a:off x="3018960" y="0"/>
            <a:ext cx="556200" cy="2609640"/>
          </a:xfrm>
          <a:prstGeom prst="rect">
            <a:avLst/>
          </a:prstGeom>
          <a:solidFill>
            <a:schemeClr val="tx1"/>
          </a:solidFill>
          <a:ln w="0">
            <a:noFill/>
          </a:ln>
        </p:spPr>
        <p:style>
          <a:lnRef idx="0"/>
          <a:fillRef idx="0"/>
          <a:effectRef idx="0"/>
          <a:fontRef idx="minor"/>
        </p:style>
        <p:txBody>
          <a:bodyPr numCol="1" spcCol="0" anchor="ctr">
            <a:noAutofit/>
          </a:bodyPr>
          <a:p>
            <a:pPr>
              <a:lnSpc>
                <a:spcPct val="100000"/>
              </a:lnSpc>
              <a:tabLst>
                <a:tab algn="l" pos="0"/>
              </a:tabLst>
            </a:pPr>
            <a:endParaRPr b="0" lang="en-US" sz="1800" spc="-1" strike="noStrike">
              <a:solidFill>
                <a:srgbClr val="000000"/>
              </a:solidFill>
              <a:latin typeface="Arial"/>
              <a:ea typeface="宋体"/>
            </a:endParaRPr>
          </a:p>
        </p:txBody>
      </p:sp>
      <p:sp>
        <p:nvSpPr>
          <p:cNvPr id="596" name="TextBox 14"/>
          <p:cNvSpPr/>
          <p:nvPr/>
        </p:nvSpPr>
        <p:spPr>
          <a:xfrm>
            <a:off x="3480120" y="81720"/>
            <a:ext cx="532080" cy="1309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000" spc="-1" strike="noStrike">
                <a:solidFill>
                  <a:srgbClr val="000000"/>
                </a:solidFill>
                <a:latin typeface="微软雅黑"/>
                <a:ea typeface="微软雅黑"/>
              </a:rPr>
              <a:t>公司品牌价值承诺</a:t>
            </a:r>
            <a:endParaRPr b="0" lang="en-US" sz="2000" spc="-1" strike="noStrike">
              <a:solidFill>
                <a:srgbClr val="000000"/>
              </a:solidFill>
              <a:latin typeface="Arial"/>
            </a:endParaRPr>
          </a:p>
        </p:txBody>
      </p:sp>
      <p:cxnSp>
        <p:nvCxnSpPr>
          <p:cNvPr id="597" name="直接箭头连接符 16"/>
          <p:cNvCxnSpPr/>
          <p:nvPr/>
        </p:nvCxnSpPr>
        <p:spPr>
          <a:xfrm flipH="1" flipV="1">
            <a:off x="2115360" y="2623320"/>
            <a:ext cx="712800" cy="311040"/>
          </a:xfrm>
          <a:prstGeom prst="straightConnector1">
            <a:avLst/>
          </a:prstGeom>
          <a:ln w="0">
            <a:solidFill>
              <a:srgbClr val="000000"/>
            </a:solidFill>
            <a:tailEnd len="med" type="arrow" w="med"/>
          </a:ln>
        </p:spPr>
      </p:cxnSp>
      <p:cxnSp>
        <p:nvCxnSpPr>
          <p:cNvPr id="598" name="直接箭头连接符 19"/>
          <p:cNvCxnSpPr/>
          <p:nvPr/>
        </p:nvCxnSpPr>
        <p:spPr>
          <a:xfrm flipV="1">
            <a:off x="3957840" y="3357000"/>
            <a:ext cx="600840" cy="455400"/>
          </a:xfrm>
          <a:prstGeom prst="straightConnector1">
            <a:avLst/>
          </a:prstGeom>
          <a:ln w="0">
            <a:solidFill>
              <a:srgbClr val="000000"/>
            </a:solidFill>
            <a:tailEnd len="med" type="arrow" w="med"/>
          </a:ln>
        </p:spPr>
      </p:cxnSp>
      <p:sp>
        <p:nvSpPr>
          <p:cNvPr id="599" name="TextBox 21"/>
          <p:cNvSpPr/>
          <p:nvPr/>
        </p:nvSpPr>
        <p:spPr>
          <a:xfrm>
            <a:off x="4626720" y="2838600"/>
            <a:ext cx="1637280" cy="3027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脚踏实地，敬业投入，用心服务。</a:t>
            </a:r>
            <a:endParaRPr b="0" lang="en-US" sz="1400" spc="-1" strike="noStrike">
              <a:solidFill>
                <a:srgbClr val="000000"/>
              </a:solidFill>
              <a:latin typeface="Arial"/>
            </a:endParaRPr>
          </a:p>
        </p:txBody>
      </p:sp>
      <p:sp>
        <p:nvSpPr>
          <p:cNvPr id="600" name="TextBox 22"/>
          <p:cNvSpPr/>
          <p:nvPr/>
        </p:nvSpPr>
        <p:spPr>
          <a:xfrm>
            <a:off x="708480" y="3850200"/>
            <a:ext cx="145980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专注职业经理人提升，为企业、人才架设绿色桥梁。</a:t>
            </a:r>
            <a:endParaRPr b="0" lang="en-US" sz="1400" spc="-1" strike="noStrike">
              <a:solidFill>
                <a:srgbClr val="000000"/>
              </a:solidFill>
              <a:latin typeface="Arial"/>
            </a:endParaRPr>
          </a:p>
        </p:txBody>
      </p:sp>
      <p:cxnSp>
        <p:nvCxnSpPr>
          <p:cNvPr id="601" name="直接箭头连接符 26"/>
          <p:cNvCxnSpPr/>
          <p:nvPr/>
        </p:nvCxnSpPr>
        <p:spPr>
          <a:xfrm flipH="1" flipV="1">
            <a:off x="2154960" y="4298760"/>
            <a:ext cx="754920" cy="259920"/>
          </a:xfrm>
          <a:prstGeom prst="straightConnector1">
            <a:avLst/>
          </a:prstGeom>
          <a:ln w="0">
            <a:solidFill>
              <a:srgbClr val="000000"/>
            </a:solidFill>
            <a:tailEnd len="med" type="arrow" w="med"/>
          </a:ln>
        </p:spPr>
      </p:cxnSp>
      <p:cxnSp>
        <p:nvCxnSpPr>
          <p:cNvPr id="602" name="直接箭头连接符 29"/>
          <p:cNvCxnSpPr/>
          <p:nvPr/>
        </p:nvCxnSpPr>
        <p:spPr>
          <a:xfrm flipV="1">
            <a:off x="3921840" y="4831200"/>
            <a:ext cx="1005120" cy="478080"/>
          </a:xfrm>
          <a:prstGeom prst="straightConnector1">
            <a:avLst/>
          </a:prstGeom>
          <a:ln w="0">
            <a:solidFill>
              <a:srgbClr val="000000"/>
            </a:solidFill>
            <a:tailEnd len="med" type="arrow" w="med"/>
          </a:ln>
        </p:spPr>
      </p:cxnSp>
      <p:cxnSp>
        <p:nvCxnSpPr>
          <p:cNvPr id="603" name="直接连接符 15"/>
          <p:cNvCxnSpPr/>
          <p:nvPr/>
        </p:nvCxnSpPr>
        <p:spPr>
          <a:xfrm>
            <a:off x="2399400" y="5400"/>
            <a:ext cx="360" cy="1776240"/>
          </a:xfrm>
          <a:prstGeom prst="straightConnector1">
            <a:avLst/>
          </a:prstGeom>
          <a:ln w="28575">
            <a:solidFill>
              <a:srgbClr val="000000"/>
            </a:solidFill>
            <a:round/>
          </a:ln>
        </p:spPr>
      </p:cxnSp>
    </p:spTree>
  </p:cSld>
  <p:transition spd="slow" advTm="5000">
    <p:push dir="u"/>
  </p:transition>
  <p:timing>
    <p:tnLst>
      <p:par>
        <p:cTn id="245" dur="indefinite" restart="never" nodeType="tmRoot">
          <p:childTnLst>
            <p:seq>
              <p:cTn id="246" dur="indefinite" nodeType="mainSeq">
                <p:childTnLst>
                  <p:par>
                    <p:cTn id="247" fill="hold">
                      <p:stCondLst>
                        <p:cond delay="0"/>
                      </p:stCondLst>
                      <p:childTnLst>
                        <p:par>
                          <p:cTn id="248" fill="hold">
                            <p:stCondLst>
                              <p:cond delay="0"/>
                            </p:stCondLst>
                            <p:childTnLst>
                              <p:par>
                                <p:cTn id="249" nodeType="withEffect" fill="hold" presetClass="entr" presetID="22" presetSubtype="1">
                                  <p:stCondLst>
                                    <p:cond delay="0"/>
                                  </p:stCondLst>
                                  <p:childTnLst>
                                    <p:set>
                                      <p:cBhvr>
                                        <p:cTn id="250" dur="1" fill="hold">
                                          <p:stCondLst>
                                            <p:cond delay="0"/>
                                          </p:stCondLst>
                                        </p:cTn>
                                        <p:tgtEl>
                                          <p:spTgt spid="603"/>
                                        </p:tgtEl>
                                        <p:attrNameLst>
                                          <p:attrName>style.visibility</p:attrName>
                                        </p:attrNameLst>
                                      </p:cBhvr>
                                      <p:to>
                                        <p:strVal val="visible"/>
                                      </p:to>
                                    </p:set>
                                    <p:animEffect filter="wipe(up)" transition="in">
                                      <p:cBhvr additive="repl">
                                        <p:cTn id="251" dur="1000"/>
                                        <p:tgtEl>
                                          <p:spTgt spid="603"/>
                                        </p:tgtEl>
                                      </p:cBhvr>
                                    </p:animEffect>
                                  </p:childTnLst>
                                </p:cTn>
                              </p:par>
                              <p:par>
                                <p:cTn id="252" nodeType="withEffect" fill="hold" presetClass="entr" presetID="22" presetSubtype="1">
                                  <p:stCondLst>
                                    <p:cond delay="0"/>
                                  </p:stCondLst>
                                  <p:childTnLst>
                                    <p:set>
                                      <p:cBhvr>
                                        <p:cTn id="253" dur="1" fill="hold">
                                          <p:stCondLst>
                                            <p:cond delay="0"/>
                                          </p:stCondLst>
                                        </p:cTn>
                                        <p:tgtEl>
                                          <p:spTgt spid="595"/>
                                        </p:tgtEl>
                                        <p:attrNameLst>
                                          <p:attrName>style.visibility</p:attrName>
                                        </p:attrNameLst>
                                      </p:cBhvr>
                                      <p:to>
                                        <p:strVal val="visible"/>
                                      </p:to>
                                    </p:set>
                                    <p:animEffect filter="wipe(up)" transition="in">
                                      <p:cBhvr additive="repl">
                                        <p:cTn id="254" dur="1000"/>
                                        <p:tgtEl>
                                          <p:spTgt spid="595"/>
                                        </p:tgtEl>
                                      </p:cBhvr>
                                    </p:animEffect>
                                  </p:childTnLst>
                                </p:cTn>
                              </p:par>
                              <p:par>
                                <p:cTn id="255" nodeType="withEffect" fill="hold" presetClass="entr" presetID="22" presetSubtype="1">
                                  <p:stCondLst>
                                    <p:cond delay="0"/>
                                  </p:stCondLst>
                                  <p:childTnLst>
                                    <p:set>
                                      <p:cBhvr>
                                        <p:cTn id="256" dur="1" fill="hold">
                                          <p:stCondLst>
                                            <p:cond delay="0"/>
                                          </p:stCondLst>
                                        </p:cTn>
                                        <p:tgtEl>
                                          <p:spTgt spid="596"/>
                                        </p:tgtEl>
                                        <p:attrNameLst>
                                          <p:attrName>style.visibility</p:attrName>
                                        </p:attrNameLst>
                                      </p:cBhvr>
                                      <p:to>
                                        <p:strVal val="visible"/>
                                      </p:to>
                                    </p:set>
                                    <p:animEffect filter="wipe(up)" transition="in">
                                      <p:cBhvr additive="repl">
                                        <p:cTn id="257" dur="1000"/>
                                        <p:tgtEl>
                                          <p:spTgt spid="596"/>
                                        </p:tgtEl>
                                      </p:cBhvr>
                                    </p:animEffect>
                                  </p:childTnLst>
                                </p:cTn>
                              </p:par>
                            </p:childTnLst>
                          </p:cTn>
                        </p:par>
                        <p:par>
                          <p:cTn id="258" fill="hold">
                            <p:stCondLst>
                              <p:cond delay="1000"/>
                            </p:stCondLst>
                            <p:childTnLst>
                              <p:par>
                                <p:cTn id="259" nodeType="afterEffect" fill="hold" presetClass="entr" presetID="26">
                                  <p:stCondLst>
                                    <p:cond delay="0"/>
                                  </p:stCondLst>
                                  <p:childTnLst>
                                    <p:set>
                                      <p:cBhvr>
                                        <p:cTn id="260" dur="1" fill="hold">
                                          <p:stCondLst>
                                            <p:cond delay="0"/>
                                          </p:stCondLst>
                                        </p:cTn>
                                        <p:tgtEl>
                                          <p:spTgt spid="593"/>
                                        </p:tgtEl>
                                        <p:attrNameLst>
                                          <p:attrName>style.visibility</p:attrName>
                                        </p:attrNameLst>
                                      </p:cBhvr>
                                      <p:to>
                                        <p:strVal val="visible"/>
                                      </p:to>
                                    </p:set>
                                    <p:animEffect filter="wipe(down)" transition="in">
                                      <p:cBhvr additive="repl">
                                        <p:cTn id="261" dur="290">
                                          <p:stCondLst>
                                            <p:cond delay="0"/>
                                          </p:stCondLst>
                                        </p:cTn>
                                        <p:tgtEl>
                                          <p:spTgt spid="593"/>
                                        </p:tgtEl>
                                      </p:cBhvr>
                                    </p:animEffect>
                                    <p:anim calcmode="lin" valueType="num">
                                      <p:cBhvr additive="repl">
                                        <p:cTn id="262" dur="911">
                                          <p:stCondLst>
                                            <p:cond delay="0"/>
                                          </p:stCondLst>
                                        </p:cTn>
                                        <p:tgtEl>
                                          <p:spTgt spid="593"/>
                                        </p:tgtEl>
                                        <p:attrNameLst>
                                          <p:attrName>ppt_x</p:attrName>
                                        </p:attrNameLst>
                                      </p:cBhvr>
                                      <p:tavLst>
                                        <p:tav tm="0">
                                          <p:val>
                                            <p:strVal val="#ppt_x-0.25"/>
                                          </p:val>
                                        </p:tav>
                                        <p:tav tm="100000">
                                          <p:val>
                                            <p:strVal val="#ppt_x"/>
                                          </p:val>
                                        </p:tav>
                                      </p:tavLst>
                                    </p:anim>
                                    <p:anim calcmode="lin" valueType="num">
                                      <p:cBhvr additive="repl">
                                        <p:cTn id="263" dur="332">
                                          <p:stCondLst>
                                            <p:cond delay="0"/>
                                          </p:stCondLst>
                                        </p:cTn>
                                        <p:tgtEl>
                                          <p:spTgt spid="593"/>
                                        </p:tgtEl>
                                        <p:attrNameLst>
                                          <p:attrName>ppt_y</p:attrName>
                                        </p:attrNameLst>
                                      </p:cBhvr>
                                      <p:tavLst>
                                        <p:tav fmla="y-sin(pi*$)/3" tm="0">
                                          <p:val>
                                            <p:fltVal val="0.5"/>
                                          </p:val>
                                        </p:tav>
                                        <p:tav fmla="y-sin(pi*$)/3" tm="100000">
                                          <p:val>
                                            <p:fltVal val="1"/>
                                          </p:val>
                                        </p:tav>
                                      </p:tavLst>
                                    </p:anim>
                                    <p:anim calcmode="lin" valueType="num">
                                      <p:cBhvr additive="repl">
                                        <p:cTn id="264" dur="332">
                                          <p:stCondLst>
                                            <p:cond delay="332"/>
                                          </p:stCondLst>
                                        </p:cTn>
                                        <p:tgtEl>
                                          <p:spTgt spid="593"/>
                                        </p:tgtEl>
                                        <p:attrNameLst>
                                          <p:attrName>ppt_y</p:attrName>
                                        </p:attrNameLst>
                                      </p:cBhvr>
                                      <p:tavLst>
                                        <p:tav fmla="y-sin(pi*$)/9" tm="0">
                                          <p:val>
                                            <p:fltVal val="0"/>
                                          </p:val>
                                        </p:tav>
                                        <p:tav fmla="y-sin(pi*$)/9" tm="100000">
                                          <p:val>
                                            <p:fltVal val="1"/>
                                          </p:val>
                                        </p:tav>
                                      </p:tavLst>
                                    </p:anim>
                                    <p:anim calcmode="lin" valueType="num">
                                      <p:cBhvr additive="repl">
                                        <p:cTn id="265" dur="166">
                                          <p:stCondLst>
                                            <p:cond delay="662"/>
                                          </p:stCondLst>
                                        </p:cTn>
                                        <p:tgtEl>
                                          <p:spTgt spid="593"/>
                                        </p:tgtEl>
                                        <p:attrNameLst>
                                          <p:attrName>ppt_y</p:attrName>
                                        </p:attrNameLst>
                                      </p:cBhvr>
                                      <p:tavLst>
                                        <p:tav fmla="y-sin(pi*$)/27" tm="0">
                                          <p:val>
                                            <p:fltVal val="0"/>
                                          </p:val>
                                        </p:tav>
                                        <p:tav fmla="y-sin(pi*$)/27" tm="100000">
                                          <p:val>
                                            <p:fltVal val="1"/>
                                          </p:val>
                                        </p:tav>
                                      </p:tavLst>
                                    </p:anim>
                                    <p:anim calcmode="lin" valueType="num">
                                      <p:cBhvr additive="repl">
                                        <p:cTn id="266" dur="82">
                                          <p:stCondLst>
                                            <p:cond delay="828"/>
                                          </p:stCondLst>
                                        </p:cTn>
                                        <p:tgtEl>
                                          <p:spTgt spid="593"/>
                                        </p:tgtEl>
                                        <p:attrNameLst>
                                          <p:attrName>ppt_y</p:attrName>
                                        </p:attrNameLst>
                                      </p:cBhvr>
                                      <p:tavLst>
                                        <p:tav fmla="y-sin(pi*$)/81" tm="0">
                                          <p:val>
                                            <p:fltVal val="0"/>
                                          </p:val>
                                        </p:tav>
                                        <p:tav fmla="y-sin(pi*$)/81" tm="100000">
                                          <p:val>
                                            <p:fltVal val="1"/>
                                          </p:val>
                                        </p:tav>
                                      </p:tavLst>
                                    </p:anim>
                                    <p:animScale>
                                      <p:cBhvr>
                                        <p:cTn id="267" dur="13" fill="hold">
                                          <p:stCondLst>
                                            <p:cond delay="325"/>
                                          </p:stCondLst>
                                        </p:cTn>
                                        <p:tgtEl>
                                          <p:spTgt spid="593"/>
                                        </p:tgtEl>
                                      </p:cBhvr>
                                      <p:to x="100000" y="60000"/>
                                    </p:animScale>
                                    <p:animScale>
                                      <p:cBhvr>
                                        <p:cTn id="268" dur="83" fill="hold">
                                          <p:stCondLst>
                                            <p:cond delay="338"/>
                                          </p:stCondLst>
                                        </p:cTn>
                                        <p:tgtEl>
                                          <p:spTgt spid="593"/>
                                        </p:tgtEl>
                                      </p:cBhvr>
                                      <p:to x="100000" y="100000"/>
                                    </p:animScale>
                                    <p:animScale>
                                      <p:cBhvr>
                                        <p:cTn id="269" dur="13" fill="hold">
                                          <p:stCondLst>
                                            <p:cond delay="656"/>
                                          </p:stCondLst>
                                        </p:cTn>
                                        <p:tgtEl>
                                          <p:spTgt spid="593"/>
                                        </p:tgtEl>
                                      </p:cBhvr>
                                      <p:to x="100000" y="80000"/>
                                    </p:animScale>
                                    <p:animScale>
                                      <p:cBhvr>
                                        <p:cTn id="270" dur="83" fill="hold">
                                          <p:stCondLst>
                                            <p:cond delay="669"/>
                                          </p:stCondLst>
                                        </p:cTn>
                                        <p:tgtEl>
                                          <p:spTgt spid="593"/>
                                        </p:tgtEl>
                                      </p:cBhvr>
                                      <p:to x="100000" y="100000"/>
                                    </p:animScale>
                                    <p:animScale>
                                      <p:cBhvr>
                                        <p:cTn id="271" dur="13" fill="hold">
                                          <p:stCondLst>
                                            <p:cond delay="821"/>
                                          </p:stCondLst>
                                        </p:cTn>
                                        <p:tgtEl>
                                          <p:spTgt spid="593"/>
                                        </p:tgtEl>
                                      </p:cBhvr>
                                      <p:to x="100000" y="90000"/>
                                    </p:animScale>
                                    <p:animScale>
                                      <p:cBhvr>
                                        <p:cTn id="272" dur="83" fill="hold">
                                          <p:stCondLst>
                                            <p:cond delay="834"/>
                                          </p:stCondLst>
                                        </p:cTn>
                                        <p:tgtEl>
                                          <p:spTgt spid="593"/>
                                        </p:tgtEl>
                                      </p:cBhvr>
                                      <p:to x="100000" y="100000"/>
                                    </p:animScale>
                                    <p:animScale>
                                      <p:cBhvr>
                                        <p:cTn id="273" dur="13" fill="hold">
                                          <p:stCondLst>
                                            <p:cond delay="904"/>
                                          </p:stCondLst>
                                        </p:cTn>
                                        <p:tgtEl>
                                          <p:spTgt spid="593"/>
                                        </p:tgtEl>
                                      </p:cBhvr>
                                      <p:to x="100000" y="95000"/>
                                    </p:animScale>
                                    <p:animScale>
                                      <p:cBhvr>
                                        <p:cTn id="274" dur="83" fill="hold">
                                          <p:stCondLst>
                                            <p:cond delay="917"/>
                                          </p:stCondLst>
                                        </p:cTn>
                                        <p:tgtEl>
                                          <p:spTgt spid="593"/>
                                        </p:tgtEl>
                                      </p:cBhvr>
                                      <p:to x="100000" y="100000"/>
                                    </p:animScale>
                                  </p:childTnLst>
                                </p:cTn>
                              </p:par>
                            </p:childTnLst>
                          </p:cTn>
                        </p:par>
                        <p:par>
                          <p:cTn id="275" fill="hold">
                            <p:stCondLst>
                              <p:cond delay="2000"/>
                            </p:stCondLst>
                            <p:childTnLst>
                              <p:par>
                                <p:cTn id="276" nodeType="afterEffect" fill="hold" presetClass="entr" presetID="22" presetSubtype="2">
                                  <p:stCondLst>
                                    <p:cond delay="0"/>
                                  </p:stCondLst>
                                  <p:childTnLst>
                                    <p:set>
                                      <p:cBhvr>
                                        <p:cTn id="277" dur="1" fill="hold">
                                          <p:stCondLst>
                                            <p:cond delay="0"/>
                                          </p:stCondLst>
                                        </p:cTn>
                                        <p:tgtEl>
                                          <p:spTgt spid="597"/>
                                        </p:tgtEl>
                                        <p:attrNameLst>
                                          <p:attrName>style.visibility</p:attrName>
                                        </p:attrNameLst>
                                      </p:cBhvr>
                                      <p:to>
                                        <p:strVal val="visible"/>
                                      </p:to>
                                    </p:set>
                                    <p:animEffect filter="wipe(right)" transition="in">
                                      <p:cBhvr additive="repl">
                                        <p:cTn id="278" dur="500"/>
                                        <p:tgtEl>
                                          <p:spTgt spid="597"/>
                                        </p:tgtEl>
                                      </p:cBhvr>
                                    </p:animEffect>
                                  </p:childTnLst>
                                </p:cTn>
                              </p:par>
                            </p:childTnLst>
                          </p:cTn>
                        </p:par>
                        <p:par>
                          <p:cTn id="279" fill="hold">
                            <p:stCondLst>
                              <p:cond delay="2500"/>
                            </p:stCondLst>
                            <p:childTnLst>
                              <p:par>
                                <p:cTn id="280" nodeType="afterEffect" fill="hold" presetClass="entr" presetID="1">
                                  <p:stCondLst>
                                    <p:cond delay="0"/>
                                  </p:stCondLst>
                                  <p:childTnLst>
                                    <p:set>
                                      <p:cBhvr>
                                        <p:cTn id="281" dur="1" fill="hold">
                                          <p:stCondLst>
                                            <p:cond delay="0"/>
                                          </p:stCondLst>
                                        </p:cTn>
                                        <p:tgtEl>
                                          <p:spTgt spid="594"/>
                                        </p:tgtEl>
                                        <p:attrNameLst>
                                          <p:attrName>style.visibility</p:attrName>
                                        </p:attrNameLst>
                                      </p:cBhvr>
                                      <p:to>
                                        <p:strVal val="visible"/>
                                      </p:to>
                                    </p:set>
                                  </p:childTnLst>
                                </p:cTn>
                              </p:par>
                            </p:childTnLst>
                          </p:cTn>
                        </p:par>
                        <p:par>
                          <p:cTn id="282" fill="hold">
                            <p:stCondLst>
                              <p:cond delay="2500"/>
                            </p:stCondLst>
                            <p:childTnLst>
                              <p:par>
                                <p:cTn id="283" nodeType="afterEffect" fill="hold" presetClass="entr" presetID="22" presetSubtype="8">
                                  <p:stCondLst>
                                    <p:cond delay="1000"/>
                                  </p:stCondLst>
                                  <p:childTnLst>
                                    <p:set>
                                      <p:cBhvr>
                                        <p:cTn id="284" dur="1" fill="hold">
                                          <p:stCondLst>
                                            <p:cond delay="0"/>
                                          </p:stCondLst>
                                        </p:cTn>
                                        <p:tgtEl>
                                          <p:spTgt spid="598"/>
                                        </p:tgtEl>
                                        <p:attrNameLst>
                                          <p:attrName>style.visibility</p:attrName>
                                        </p:attrNameLst>
                                      </p:cBhvr>
                                      <p:to>
                                        <p:strVal val="visible"/>
                                      </p:to>
                                    </p:set>
                                    <p:animEffect filter="wipe(left)" transition="in">
                                      <p:cBhvr additive="repl">
                                        <p:cTn id="285" dur="500"/>
                                        <p:tgtEl>
                                          <p:spTgt spid="598"/>
                                        </p:tgtEl>
                                      </p:cBhvr>
                                    </p:animEffect>
                                  </p:childTnLst>
                                </p:cTn>
                              </p:par>
                            </p:childTnLst>
                          </p:cTn>
                        </p:par>
                        <p:par>
                          <p:cTn id="286" fill="hold">
                            <p:stCondLst>
                              <p:cond delay="4000"/>
                            </p:stCondLst>
                            <p:childTnLst>
                              <p:par>
                                <p:cTn id="287" nodeType="afterEffect" fill="hold" presetClass="entr" presetID="1">
                                  <p:stCondLst>
                                    <p:cond delay="0"/>
                                  </p:stCondLst>
                                  <p:childTnLst>
                                    <p:set>
                                      <p:cBhvr>
                                        <p:cTn id="288" dur="1" fill="hold">
                                          <p:stCondLst>
                                            <p:cond delay="0"/>
                                          </p:stCondLst>
                                        </p:cTn>
                                        <p:tgtEl>
                                          <p:spTgt spid="599"/>
                                        </p:tgtEl>
                                        <p:attrNameLst>
                                          <p:attrName>style.visibility</p:attrName>
                                        </p:attrNameLst>
                                      </p:cBhvr>
                                      <p:to>
                                        <p:strVal val="visible"/>
                                      </p:to>
                                    </p:set>
                                  </p:childTnLst>
                                </p:cTn>
                              </p:par>
                            </p:childTnLst>
                          </p:cTn>
                        </p:par>
                        <p:par>
                          <p:cTn id="289" fill="hold">
                            <p:stCondLst>
                              <p:cond delay="4000"/>
                            </p:stCondLst>
                            <p:childTnLst>
                              <p:par>
                                <p:cTn id="290" nodeType="afterEffect" fill="hold" presetClass="entr" presetID="22" presetSubtype="4">
                                  <p:stCondLst>
                                    <p:cond delay="1000"/>
                                  </p:stCondLst>
                                  <p:childTnLst>
                                    <p:set>
                                      <p:cBhvr>
                                        <p:cTn id="291" dur="1" fill="hold">
                                          <p:stCondLst>
                                            <p:cond delay="0"/>
                                          </p:stCondLst>
                                        </p:cTn>
                                        <p:tgtEl>
                                          <p:spTgt spid="601"/>
                                        </p:tgtEl>
                                        <p:attrNameLst>
                                          <p:attrName>style.visibility</p:attrName>
                                        </p:attrNameLst>
                                      </p:cBhvr>
                                      <p:to>
                                        <p:strVal val="visible"/>
                                      </p:to>
                                    </p:set>
                                    <p:animEffect filter="wipe(down)" transition="in">
                                      <p:cBhvr additive="repl">
                                        <p:cTn id="292" dur="500"/>
                                        <p:tgtEl>
                                          <p:spTgt spid="601"/>
                                        </p:tgtEl>
                                      </p:cBhvr>
                                    </p:animEffect>
                                  </p:childTnLst>
                                </p:cTn>
                              </p:par>
                            </p:childTnLst>
                          </p:cTn>
                        </p:par>
                        <p:par>
                          <p:cTn id="293" fill="hold">
                            <p:stCondLst>
                              <p:cond delay="5500"/>
                            </p:stCondLst>
                            <p:childTnLst>
                              <p:par>
                                <p:cTn id="294" nodeType="afterEffect" fill="hold" presetClass="entr" presetID="1">
                                  <p:stCondLst>
                                    <p:cond delay="0"/>
                                  </p:stCondLst>
                                  <p:childTnLst>
                                    <p:set>
                                      <p:cBhvr>
                                        <p:cTn id="295" dur="1" fill="hold">
                                          <p:stCondLst>
                                            <p:cond delay="0"/>
                                          </p:stCondLst>
                                        </p:cTn>
                                        <p:tgtEl>
                                          <p:spTgt spid="600"/>
                                        </p:tgtEl>
                                        <p:attrNameLst>
                                          <p:attrName>style.visibility</p:attrName>
                                        </p:attrNameLst>
                                      </p:cBhvr>
                                      <p:to>
                                        <p:strVal val="visible"/>
                                      </p:to>
                                    </p:set>
                                  </p:childTnLst>
                                </p:cTn>
                              </p:par>
                            </p:childTnLst>
                          </p:cTn>
                        </p:par>
                        <p:par>
                          <p:cTn id="296" fill="hold">
                            <p:stCondLst>
                              <p:cond delay="5500"/>
                            </p:stCondLst>
                            <p:childTnLst>
                              <p:par>
                                <p:cTn id="297" nodeType="afterEffect" fill="hold" presetClass="entr" presetID="22" presetSubtype="8">
                                  <p:stCondLst>
                                    <p:cond delay="1000"/>
                                  </p:stCondLst>
                                  <p:childTnLst>
                                    <p:set>
                                      <p:cBhvr>
                                        <p:cTn id="298" dur="1" fill="hold">
                                          <p:stCondLst>
                                            <p:cond delay="0"/>
                                          </p:stCondLst>
                                        </p:cTn>
                                        <p:tgtEl>
                                          <p:spTgt spid="602"/>
                                        </p:tgtEl>
                                        <p:attrNameLst>
                                          <p:attrName>style.visibility</p:attrName>
                                        </p:attrNameLst>
                                      </p:cBhvr>
                                      <p:to>
                                        <p:strVal val="visible"/>
                                      </p:to>
                                    </p:set>
                                    <p:animEffect filter="wipe(left)" transition="in">
                                      <p:cBhvr additive="repl">
                                        <p:cTn id="299" dur="500"/>
                                        <p:tgtEl>
                                          <p:spTgt spid="602"/>
                                        </p:tgtEl>
                                      </p:cBhvr>
                                    </p:animEffect>
                                  </p:childTnLst>
                                </p:cTn>
                              </p:par>
                            </p:childTnLst>
                          </p:cTn>
                        </p:par>
                        <p:par>
                          <p:cTn id="300" fill="hold">
                            <p:stCondLst>
                              <p:cond delay="7000"/>
                            </p:stCondLst>
                            <p:childTnLst>
                              <p:par>
                                <p:cTn id="301" nodeType="afterEffect" fill="hold" presetClass="entr" presetID="1">
                                  <p:stCondLst>
                                    <p:cond delay="0"/>
                                  </p:stCondLst>
                                  <p:childTnLst>
                                    <p:set>
                                      <p:cBhvr>
                                        <p:cTn id="302" dur="1" fill="hold">
                                          <p:stCondLst>
                                            <p:cond delay="0"/>
                                          </p:stCondLst>
                                        </p:cTn>
                                        <p:tgtEl>
                                          <p:spTgt spid="590"/>
                                        </p:tgtEl>
                                        <p:attrNameLst>
                                          <p:attrName>style.visibility</p:attrName>
                                        </p:attrNameLst>
                                      </p:cBhvr>
                                      <p:to>
                                        <p:strVal val="visible"/>
                                      </p:to>
                                    </p:set>
                                  </p:childTnLst>
                                </p:cTn>
                              </p:par>
                            </p:childTnLst>
                          </p:cTn>
                        </p:par>
                        <p:par>
                          <p:cTn id="303" fill="hold">
                            <p:stCondLst>
                              <p:cond delay="7000"/>
                            </p:stCondLst>
                            <p:childTnLst>
                              <p:par>
                                <p:cTn id="304" nodeType="afterEffect" fill="hold" presetClass="entr" presetID="14" presetSubtype="10">
                                  <p:stCondLst>
                                    <p:cond delay="1000"/>
                                  </p:stCondLst>
                                  <p:childTnLst>
                                    <p:set>
                                      <p:cBhvr>
                                        <p:cTn id="305" dur="1" fill="hold">
                                          <p:stCondLst>
                                            <p:cond delay="0"/>
                                          </p:stCondLst>
                                        </p:cTn>
                                        <p:tgtEl>
                                          <p:spTgt spid="591"/>
                                        </p:tgtEl>
                                        <p:attrNameLst>
                                          <p:attrName>style.visibility</p:attrName>
                                        </p:attrNameLst>
                                      </p:cBhvr>
                                      <p:to>
                                        <p:strVal val="visible"/>
                                      </p:to>
                                    </p:set>
                                    <p:animEffect filter="randombar(horizontal)" transition="in">
                                      <p:cBhvr additive="repl">
                                        <p:cTn id="306" dur="1000"/>
                                        <p:tgtEl>
                                          <p:spTgt spid="591"/>
                                        </p:tgtEl>
                                      </p:cBhvr>
                                    </p:animEffect>
                                  </p:childTnLst>
                                </p:cTn>
                              </p:par>
                            </p:childTnLst>
                          </p:cTn>
                        </p:par>
                        <p:par>
                          <p:cTn id="307" fill="hold">
                            <p:stCondLst>
                              <p:cond delay="9000"/>
                            </p:stCondLst>
                            <p:childTnLst>
                              <p:par>
                                <p:cTn id="308" nodeType="afterEffect" fill="hold" presetClass="entr" presetID="53" presetSubtype="16">
                                  <p:stCondLst>
                                    <p:cond delay="0"/>
                                  </p:stCondLst>
                                  <p:childTnLst>
                                    <p:set>
                                      <p:cBhvr>
                                        <p:cTn id="309" dur="1" fill="hold">
                                          <p:stCondLst>
                                            <p:cond delay="0"/>
                                          </p:stCondLst>
                                        </p:cTn>
                                        <p:tgtEl>
                                          <p:spTgt spid="592"/>
                                        </p:tgtEl>
                                        <p:attrNameLst>
                                          <p:attrName>style.visibility</p:attrName>
                                        </p:attrNameLst>
                                      </p:cBhvr>
                                      <p:to>
                                        <p:strVal val="visible"/>
                                      </p:to>
                                    </p:set>
                                    <p:anim calcmode="lin" valueType="num">
                                      <p:cBhvr additive="repl">
                                        <p:cTn id="310" dur="500" fill="hold"/>
                                        <p:tgtEl>
                                          <p:spTgt spid="592"/>
                                        </p:tgtEl>
                                        <p:attrNameLst>
                                          <p:attrName>ppt_w</p:attrName>
                                        </p:attrNameLst>
                                      </p:cBhvr>
                                      <p:tavLst>
                                        <p:tav tm="0">
                                          <p:val>
                                            <p:fltVal val="0"/>
                                          </p:val>
                                        </p:tav>
                                        <p:tav tm="100000">
                                          <p:val>
                                            <p:strVal val="#ppt_w"/>
                                          </p:val>
                                        </p:tav>
                                      </p:tavLst>
                                    </p:anim>
                                    <p:anim calcmode="lin" valueType="num">
                                      <p:cBhvr additive="repl">
                                        <p:cTn id="311" dur="500" fill="hold"/>
                                        <p:tgtEl>
                                          <p:spTgt spid="592"/>
                                        </p:tgtEl>
                                        <p:attrNameLst>
                                          <p:attrName>ppt_h</p:attrName>
                                        </p:attrNameLst>
                                      </p:cBhvr>
                                      <p:tavLst>
                                        <p:tav tm="0">
                                          <p:val>
                                            <p:fltVal val="0"/>
                                          </p:val>
                                        </p:tav>
                                        <p:tav tm="100000">
                                          <p:val>
                                            <p:strVal val="#ppt_h"/>
                                          </p:val>
                                        </p:tav>
                                      </p:tavLst>
                                    </p:anim>
                                    <p:animEffect filter="fade" transition="in">
                                      <p:cBhvr additive="repl">
                                        <p:cTn id="312" dur="500"/>
                                        <p:tgtEl>
                                          <p:spTgt spid="5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矩形 21"/>
          <p:cNvSpPr/>
          <p:nvPr/>
        </p:nvSpPr>
        <p:spPr>
          <a:xfrm>
            <a:off x="0" y="424080"/>
            <a:ext cx="6864120" cy="2332080"/>
          </a:xfrm>
          <a:prstGeom prst="rect">
            <a:avLst/>
          </a:prstGeom>
          <a:solidFill>
            <a:schemeClr val="tx1"/>
          </a:solidFill>
          <a:ln w="0">
            <a:noFill/>
          </a:ln>
        </p:spPr>
        <p:style>
          <a:lnRef idx="0"/>
          <a:fillRef idx="0"/>
          <a:effectRef idx="0"/>
          <a:fontRef idx="minor"/>
        </p:style>
        <p:txBody>
          <a:bodyPr numCol="1" spcCol="0" anchor="ctr">
            <a:noAutofit/>
          </a:bodyPr>
          <a:p>
            <a:pPr>
              <a:lnSpc>
                <a:spcPct val="100000"/>
              </a:lnSpc>
              <a:tabLst>
                <a:tab algn="l" pos="0"/>
              </a:tabLst>
            </a:pPr>
            <a:endParaRPr b="0" lang="en-US" sz="1800" spc="-1" strike="noStrike">
              <a:solidFill>
                <a:srgbClr val="000000"/>
              </a:solidFill>
              <a:latin typeface="Arial"/>
              <a:ea typeface="宋体"/>
            </a:endParaRPr>
          </a:p>
        </p:txBody>
      </p:sp>
      <p:pic>
        <p:nvPicPr>
          <p:cNvPr id="605" name="图片 19" descr="11664993_142108341169_2.jpg"/>
          <p:cNvPicPr/>
          <p:nvPr/>
        </p:nvPicPr>
        <p:blipFill>
          <a:blip r:embed="rId1"/>
          <a:stretch/>
        </p:blipFill>
        <p:spPr>
          <a:xfrm>
            <a:off x="0" y="7076520"/>
            <a:ext cx="2851920" cy="2491200"/>
          </a:xfrm>
          <a:prstGeom prst="rect">
            <a:avLst/>
          </a:prstGeom>
          <a:ln w="0">
            <a:noFill/>
          </a:ln>
        </p:spPr>
      </p:pic>
      <p:sp>
        <p:nvSpPr>
          <p:cNvPr id="606" name="矩形 15"/>
          <p:cNvSpPr/>
          <p:nvPr/>
        </p:nvSpPr>
        <p:spPr>
          <a:xfrm>
            <a:off x="2676960" y="609480"/>
            <a:ext cx="4187160" cy="1982160"/>
          </a:xfrm>
          <a:prstGeom prst="rect">
            <a:avLst/>
          </a:prstGeom>
          <a:solidFill>
            <a:srgbClr val="d79f00"/>
          </a:solidFill>
          <a:ln w="0">
            <a:noFill/>
          </a:ln>
        </p:spPr>
        <p:style>
          <a:lnRef idx="0"/>
          <a:fillRef idx="0"/>
          <a:effectRef idx="0"/>
          <a:fontRef idx="minor"/>
        </p:style>
        <p:txBody>
          <a:bodyPr numCol="1" spcCol="0" anchor="ctr">
            <a:noAutofit/>
          </a:bodyPr>
          <a:p>
            <a:pPr>
              <a:lnSpc>
                <a:spcPct val="100000"/>
              </a:lnSpc>
              <a:tabLst>
                <a:tab algn="l" pos="0"/>
              </a:tabLst>
            </a:pPr>
            <a:endParaRPr b="0" lang="en-US" sz="1800" spc="-1" strike="noStrike">
              <a:solidFill>
                <a:srgbClr val="000000"/>
              </a:solidFill>
              <a:latin typeface="Arial"/>
              <a:ea typeface="宋体"/>
            </a:endParaRPr>
          </a:p>
        </p:txBody>
      </p:sp>
      <p:sp>
        <p:nvSpPr>
          <p:cNvPr id="607" name="TextBox 12"/>
          <p:cNvSpPr/>
          <p:nvPr/>
        </p:nvSpPr>
        <p:spPr>
          <a:xfrm>
            <a:off x="3015000" y="3114360"/>
            <a:ext cx="3729960" cy="6112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000000"/>
                </a:solidFill>
                <a:latin typeface="微软雅黑"/>
                <a:ea typeface="微软雅黑"/>
              </a:rPr>
              <a:t>深圳市艾比森光电股份有限公司、</a:t>
            </a:r>
            <a:endParaRPr b="0" lang="en-US" sz="1200" spc="-1" strike="noStrike">
              <a:solidFill>
                <a:srgbClr val="000000"/>
              </a:solidFill>
              <a:latin typeface="Arial"/>
            </a:endParaRPr>
          </a:p>
          <a:p>
            <a:pPr>
              <a:lnSpc>
                <a:spcPct val="100000"/>
              </a:lnSpc>
            </a:pPr>
            <a:r>
              <a:rPr b="0" lang="zh-CN" sz="1200" spc="-1" strike="noStrike">
                <a:solidFill>
                  <a:srgbClr val="000000"/>
                </a:solidFill>
                <a:latin typeface="微软雅黑"/>
                <a:ea typeface="微软雅黑"/>
              </a:rPr>
              <a:t>深圳市怡亚通供应链股份有限公司、</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0" lang="zh-CN" sz="1200" spc="-1" strike="noStrike">
                <a:solidFill>
                  <a:srgbClr val="000000"/>
                </a:solidFill>
                <a:latin typeface="微软雅黑"/>
                <a:ea typeface="微软雅黑"/>
              </a:rPr>
              <a:t>优讯时代（北京）网络技术有限公司、</a:t>
            </a:r>
            <a:endParaRPr b="0" lang="en-US" sz="1200" spc="-1" strike="noStrike">
              <a:solidFill>
                <a:srgbClr val="000000"/>
              </a:solidFill>
              <a:latin typeface="Arial"/>
            </a:endParaRPr>
          </a:p>
          <a:p>
            <a:pPr>
              <a:lnSpc>
                <a:spcPct val="100000"/>
              </a:lnSpc>
            </a:pPr>
            <a:r>
              <a:rPr b="0" lang="zh-CN" sz="1200" spc="-1" strike="noStrike">
                <a:solidFill>
                  <a:srgbClr val="000000"/>
                </a:solidFill>
                <a:latin typeface="微软雅黑"/>
                <a:ea typeface="微软雅黑"/>
              </a:rPr>
              <a:t>北京天大天科科技发展有限公司、</a:t>
            </a:r>
            <a:endParaRPr b="0" lang="en-US" sz="1200" spc="-1" strike="noStrike">
              <a:solidFill>
                <a:srgbClr val="000000"/>
              </a:solidFill>
              <a:latin typeface="Arial"/>
            </a:endParaRPr>
          </a:p>
          <a:p>
            <a:pPr>
              <a:lnSpc>
                <a:spcPct val="100000"/>
              </a:lnSpc>
            </a:pPr>
            <a:r>
              <a:rPr b="0" lang="zh-CN" sz="1200" spc="-1" strike="noStrike">
                <a:solidFill>
                  <a:srgbClr val="000000"/>
                </a:solidFill>
                <a:latin typeface="微软雅黑"/>
                <a:ea typeface="微软雅黑"/>
              </a:rPr>
              <a:t>北京海天瑞声科技有限公司</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0" lang="zh-CN" sz="1200" spc="-1" strike="noStrike">
                <a:solidFill>
                  <a:srgbClr val="000000"/>
                </a:solidFill>
                <a:latin typeface="微软雅黑"/>
                <a:ea typeface="微软雅黑"/>
              </a:rPr>
              <a:t>睿孚（上海）测试技术有限公司、</a:t>
            </a:r>
            <a:endParaRPr b="0" lang="en-US" sz="1200" spc="-1" strike="noStrike">
              <a:solidFill>
                <a:srgbClr val="000000"/>
              </a:solidFill>
              <a:latin typeface="Arial"/>
            </a:endParaRPr>
          </a:p>
          <a:p>
            <a:pPr>
              <a:lnSpc>
                <a:spcPct val="100000"/>
              </a:lnSpc>
            </a:pPr>
            <a:r>
              <a:rPr b="0" lang="zh-CN" sz="1200" spc="-1" strike="noStrike">
                <a:solidFill>
                  <a:srgbClr val="000000"/>
                </a:solidFill>
                <a:latin typeface="微软雅黑"/>
                <a:ea typeface="微软雅黑"/>
              </a:rPr>
              <a:t>上海法雷奥汽车电器系统有限公司、</a:t>
            </a:r>
            <a:endParaRPr b="0" lang="en-US" sz="1200" spc="-1" strike="noStrike">
              <a:solidFill>
                <a:srgbClr val="000000"/>
              </a:solidFill>
              <a:latin typeface="Arial"/>
            </a:endParaRPr>
          </a:p>
          <a:p>
            <a:pPr>
              <a:lnSpc>
                <a:spcPct val="100000"/>
              </a:lnSpc>
            </a:pPr>
            <a:r>
              <a:rPr b="0" lang="zh-CN" sz="1200" spc="-1" strike="noStrike">
                <a:solidFill>
                  <a:srgbClr val="000000"/>
                </a:solidFill>
                <a:latin typeface="微软雅黑"/>
                <a:ea typeface="微软雅黑"/>
              </a:rPr>
              <a:t>上海神开石油化工装备股份有限公司、</a:t>
            </a:r>
            <a:endParaRPr b="0" lang="en-US" sz="1200" spc="-1" strike="noStrike">
              <a:solidFill>
                <a:srgbClr val="000000"/>
              </a:solidFill>
              <a:latin typeface="Arial"/>
            </a:endParaRPr>
          </a:p>
          <a:p>
            <a:pPr>
              <a:lnSpc>
                <a:spcPct val="100000"/>
              </a:lnSpc>
            </a:pPr>
            <a:r>
              <a:rPr b="0" lang="zh-CN" sz="1200" spc="-1" strike="noStrike">
                <a:solidFill>
                  <a:srgbClr val="000000"/>
                </a:solidFill>
                <a:latin typeface="微软雅黑"/>
                <a:ea typeface="微软雅黑"/>
              </a:rPr>
              <a:t>上海怡亚通供应链股份有限公司、</a:t>
            </a:r>
            <a:endParaRPr b="0" lang="en-US" sz="1200" spc="-1" strike="noStrike">
              <a:solidFill>
                <a:srgbClr val="000000"/>
              </a:solidFill>
              <a:latin typeface="Arial"/>
            </a:endParaRPr>
          </a:p>
          <a:p>
            <a:pPr>
              <a:lnSpc>
                <a:spcPct val="100000"/>
              </a:lnSpc>
            </a:pPr>
            <a:r>
              <a:rPr b="0" lang="zh-CN" sz="1200" spc="-1" strike="noStrike">
                <a:solidFill>
                  <a:srgbClr val="000000"/>
                </a:solidFill>
                <a:latin typeface="微软雅黑"/>
                <a:ea typeface="微软雅黑"/>
              </a:rPr>
              <a:t>上海百营钢铁集团有限公司、</a:t>
            </a:r>
            <a:endParaRPr b="0" lang="en-US" sz="1200" spc="-1" strike="noStrike">
              <a:solidFill>
                <a:srgbClr val="000000"/>
              </a:solidFill>
              <a:latin typeface="Arial"/>
            </a:endParaRPr>
          </a:p>
          <a:p>
            <a:pPr>
              <a:lnSpc>
                <a:spcPct val="100000"/>
              </a:lnSpc>
            </a:pPr>
            <a:r>
              <a:rPr b="0" lang="zh-CN" sz="1200" spc="-1" strike="noStrike">
                <a:solidFill>
                  <a:srgbClr val="000000"/>
                </a:solidFill>
                <a:latin typeface="微软雅黑"/>
                <a:ea typeface="微软雅黑"/>
              </a:rPr>
              <a:t>上海爱数软件有限公司、</a:t>
            </a:r>
            <a:endParaRPr b="0" lang="en-US" sz="1200" spc="-1" strike="noStrike">
              <a:solidFill>
                <a:srgbClr val="000000"/>
              </a:solidFill>
              <a:latin typeface="Arial"/>
            </a:endParaRPr>
          </a:p>
          <a:p>
            <a:pPr>
              <a:lnSpc>
                <a:spcPct val="100000"/>
              </a:lnSpc>
            </a:pPr>
            <a:r>
              <a:rPr b="0" lang="zh-CN" sz="1200" spc="-1" strike="noStrike">
                <a:solidFill>
                  <a:srgbClr val="000000"/>
                </a:solidFill>
                <a:latin typeface="微软雅黑"/>
                <a:ea typeface="微软雅黑"/>
              </a:rPr>
              <a:t>上海易贸投资集团有限公司、</a:t>
            </a:r>
            <a:endParaRPr b="0" lang="en-US" sz="1200" spc="-1" strike="noStrike">
              <a:solidFill>
                <a:srgbClr val="000000"/>
              </a:solidFill>
              <a:latin typeface="Arial"/>
            </a:endParaRPr>
          </a:p>
          <a:p>
            <a:pPr>
              <a:lnSpc>
                <a:spcPct val="100000"/>
              </a:lnSpc>
            </a:pPr>
            <a:r>
              <a:rPr b="0" lang="zh-CN" sz="1200" spc="-1" strike="noStrike">
                <a:solidFill>
                  <a:srgbClr val="000000"/>
                </a:solidFill>
                <a:latin typeface="微软雅黑"/>
                <a:ea typeface="微软雅黑"/>
              </a:rPr>
              <a:t>上海复星医药（集团）股份有限公司、</a:t>
            </a:r>
            <a:endParaRPr b="0" lang="en-US" sz="1200" spc="-1" strike="noStrike">
              <a:solidFill>
                <a:srgbClr val="000000"/>
              </a:solidFill>
              <a:latin typeface="Arial"/>
            </a:endParaRPr>
          </a:p>
          <a:p>
            <a:pPr>
              <a:lnSpc>
                <a:spcPct val="100000"/>
              </a:lnSpc>
            </a:pPr>
            <a:r>
              <a:rPr b="0" lang="zh-CN" sz="1200" spc="-1" strike="noStrike">
                <a:solidFill>
                  <a:srgbClr val="000000"/>
                </a:solidFill>
                <a:latin typeface="微软雅黑"/>
                <a:ea typeface="微软雅黑"/>
              </a:rPr>
              <a:t>联想</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上海</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有限公司、</a:t>
            </a:r>
            <a:endParaRPr b="0" lang="en-US" sz="1200" spc="-1" strike="noStrike">
              <a:solidFill>
                <a:srgbClr val="000000"/>
              </a:solidFill>
              <a:latin typeface="Arial"/>
            </a:endParaRPr>
          </a:p>
          <a:p>
            <a:pPr>
              <a:lnSpc>
                <a:spcPct val="100000"/>
              </a:lnSpc>
            </a:pPr>
            <a:r>
              <a:rPr b="0" lang="zh-CN" sz="1200" spc="-1" strike="noStrike">
                <a:solidFill>
                  <a:srgbClr val="000000"/>
                </a:solidFill>
                <a:latin typeface="微软雅黑"/>
                <a:ea typeface="微软雅黑"/>
              </a:rPr>
              <a:t>上海锦湖日丽塑料有限公司</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0" lang="zh-CN" sz="1200" spc="-1" strike="noStrike">
                <a:solidFill>
                  <a:srgbClr val="000000"/>
                </a:solidFill>
                <a:latin typeface="微软雅黑"/>
                <a:ea typeface="微软雅黑"/>
              </a:rPr>
              <a:t>山东科瑞石油装备有限公司、</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0" lang="zh-CN" sz="1200" spc="-1" strike="noStrike">
                <a:solidFill>
                  <a:srgbClr val="000000"/>
                </a:solidFill>
                <a:latin typeface="微软雅黑"/>
                <a:ea typeface="微软雅黑"/>
              </a:rPr>
              <a:t>红星美凯龙家居集团股份有限公司、</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0" lang="zh-CN" sz="1200" spc="-1" strike="noStrike">
                <a:solidFill>
                  <a:srgbClr val="000000"/>
                </a:solidFill>
                <a:latin typeface="微软雅黑"/>
                <a:ea typeface="微软雅黑"/>
              </a:rPr>
              <a:t>苏州林华医疗器械有限公司、</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0" lang="zh-CN" sz="1200" spc="-1" strike="noStrike">
                <a:solidFill>
                  <a:srgbClr val="000000"/>
                </a:solidFill>
                <a:latin typeface="微软雅黑"/>
                <a:ea typeface="微软雅黑"/>
              </a:rPr>
              <a:t>厦门国际银行上海分行广州百田信息科技有限公司、</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0" lang="zh-CN" sz="1200" spc="-1" strike="noStrike">
                <a:solidFill>
                  <a:srgbClr val="000000"/>
                </a:solidFill>
                <a:latin typeface="微软雅黑"/>
                <a:ea typeface="微软雅黑"/>
              </a:rPr>
              <a:t>廊坊市中安科贸发展有限公司、</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0" lang="zh-CN" sz="1200" spc="-1" strike="noStrike">
                <a:solidFill>
                  <a:srgbClr val="000000"/>
                </a:solidFill>
                <a:latin typeface="微软雅黑"/>
                <a:ea typeface="微软雅黑"/>
              </a:rPr>
              <a:t>海门南黄海建设发展有限公司、</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0" lang="zh-CN" sz="1200" spc="-1" strike="noStrike">
                <a:solidFill>
                  <a:srgbClr val="000000"/>
                </a:solidFill>
                <a:latin typeface="微软雅黑"/>
                <a:ea typeface="微软雅黑"/>
              </a:rPr>
              <a:t>国药控股医疗投资管理有限公司</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p:txBody>
      </p:sp>
      <p:sp>
        <p:nvSpPr>
          <p:cNvPr id="608" name="TextBox 13"/>
          <p:cNvSpPr/>
          <p:nvPr/>
        </p:nvSpPr>
        <p:spPr>
          <a:xfrm>
            <a:off x="2710080" y="967320"/>
            <a:ext cx="318672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5400" spc="-1" strike="noStrike">
                <a:solidFill>
                  <a:srgbClr val="000000"/>
                </a:solidFill>
                <a:latin typeface="微软雅黑"/>
                <a:ea typeface="微软雅黑"/>
              </a:rPr>
              <a:t>部分客户</a:t>
            </a:r>
            <a:endParaRPr b="0" lang="en-US" sz="5400" spc="-1" strike="noStrike">
              <a:solidFill>
                <a:srgbClr val="000000"/>
              </a:solidFill>
              <a:latin typeface="Arial"/>
            </a:endParaRPr>
          </a:p>
        </p:txBody>
      </p:sp>
      <p:sp>
        <p:nvSpPr>
          <p:cNvPr id="609" name="TextBox 18"/>
          <p:cNvSpPr/>
          <p:nvPr/>
        </p:nvSpPr>
        <p:spPr>
          <a:xfrm>
            <a:off x="569880" y="5101200"/>
            <a:ext cx="2106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1800" spc="-1" strike="noStrike">
                <a:solidFill>
                  <a:srgbClr val="000000"/>
                </a:solidFill>
                <a:latin typeface="微软雅黑"/>
                <a:ea typeface="微软雅黑"/>
              </a:rPr>
              <a:t>外地客户（部分）：</a:t>
            </a:r>
            <a:endParaRPr b="0" lang="en-US" sz="1800" spc="-1" strike="noStrike">
              <a:solidFill>
                <a:srgbClr val="000000"/>
              </a:solidFill>
              <a:latin typeface="Arial"/>
            </a:endParaRPr>
          </a:p>
        </p:txBody>
      </p:sp>
      <p:sp>
        <p:nvSpPr>
          <p:cNvPr id="610" name="TextBox 20"/>
          <p:cNvSpPr/>
          <p:nvPr/>
        </p:nvSpPr>
        <p:spPr>
          <a:xfrm>
            <a:off x="2723400" y="1956960"/>
            <a:ext cx="36108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1600" spc="-1" strike="noStrike">
                <a:solidFill>
                  <a:srgbClr val="ffffff"/>
                </a:solidFill>
                <a:latin typeface="微软雅黑"/>
                <a:ea typeface="微软雅黑"/>
              </a:rPr>
              <a:t>外地客户</a:t>
            </a:r>
            <a:r>
              <a:rPr b="1" lang="zh-CN" sz="1600" spc="-1" strike="noStrike">
                <a:solidFill>
                  <a:srgbClr val="000000"/>
                </a:solidFill>
                <a:latin typeface="微软雅黑"/>
                <a:ea typeface="微软雅黑"/>
              </a:rPr>
              <a:t>（部分）</a:t>
            </a:r>
            <a:r>
              <a:rPr b="1" lang="en-US" sz="1600" spc="-1" strike="noStrike">
                <a:solidFill>
                  <a:srgbClr val="000000"/>
                </a:solidFill>
                <a:latin typeface="微软雅黑"/>
                <a:ea typeface="微软雅黑"/>
              </a:rPr>
              <a:t>,</a:t>
            </a:r>
            <a:r>
              <a:rPr b="1" lang="zh-CN" sz="1600" spc="-1" strike="noStrike">
                <a:solidFill>
                  <a:srgbClr val="ffffff"/>
                </a:solidFill>
                <a:latin typeface="微软雅黑"/>
                <a:ea typeface="微软雅黑"/>
              </a:rPr>
              <a:t>珠海客户</a:t>
            </a:r>
            <a:r>
              <a:rPr b="1" lang="zh-CN" sz="1600" spc="-1" strike="noStrike">
                <a:solidFill>
                  <a:srgbClr val="000000"/>
                </a:solidFill>
                <a:latin typeface="微软雅黑"/>
                <a:ea typeface="微软雅黑"/>
              </a:rPr>
              <a:t>（部分）</a:t>
            </a:r>
            <a:endParaRPr b="0" lang="en-US" sz="1600" spc="-1" strike="noStrike">
              <a:solidFill>
                <a:srgbClr val="000000"/>
              </a:solidFill>
              <a:latin typeface="Arial"/>
            </a:endParaRPr>
          </a:p>
        </p:txBody>
      </p:sp>
      <p:pic>
        <p:nvPicPr>
          <p:cNvPr id="611" name="图片 23" descr="xpic4468.jpg"/>
          <p:cNvPicPr/>
          <p:nvPr/>
        </p:nvPicPr>
        <p:blipFill>
          <a:blip r:embed="rId2"/>
          <a:stretch/>
        </p:blipFill>
        <p:spPr>
          <a:xfrm>
            <a:off x="132480" y="609480"/>
            <a:ext cx="2424960" cy="1980000"/>
          </a:xfrm>
          <a:prstGeom prst="rect">
            <a:avLst/>
          </a:prstGeom>
          <a:ln w="0">
            <a:noFill/>
          </a:ln>
        </p:spPr>
      </p:pic>
      <p:cxnSp>
        <p:nvCxnSpPr>
          <p:cNvPr id="612" name="直接连接符 26"/>
          <p:cNvCxnSpPr/>
          <p:nvPr/>
        </p:nvCxnSpPr>
        <p:spPr>
          <a:xfrm>
            <a:off x="2927880" y="5804280"/>
            <a:ext cx="360" cy="4051800"/>
          </a:xfrm>
          <a:prstGeom prst="straightConnector1">
            <a:avLst/>
          </a:prstGeom>
          <a:ln w="28575">
            <a:solidFill>
              <a:srgbClr val="000000"/>
            </a:solidFill>
            <a:round/>
          </a:ln>
        </p:spPr>
      </p:cxnSp>
    </p:spTree>
  </p:cSld>
  <p:transition spd="slow" advTm="5000">
    <p:push dir="u"/>
  </p:transition>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withEffect" fill="hold" presetClass="emph" presetID="32" repeatCount="indefinite">
                                  <p:stCondLst>
                                    <p:cond delay="0"/>
                                  </p:stCondLst>
                                  <p:childTnLst>
                                    <p:animRot by="120000">
                                      <p:cBhvr>
                                        <p:cTn id="318" dur="100" fill="hold">
                                          <p:stCondLst>
                                            <p:cond delay="0"/>
                                          </p:stCondLst>
                                        </p:cTn>
                                        <p:tgtEl>
                                          <p:spTgt spid="608"/>
                                        </p:tgtEl>
                                        <p:attrNameLst>
                                          <p:attrName>r</p:attrName>
                                        </p:attrNameLst>
                                      </p:cBhvr>
                                    </p:animRot>
                                    <p:animRot by="-240000">
                                      <p:cBhvr>
                                        <p:cTn id="319" dur="200" fill="hold">
                                          <p:stCondLst>
                                            <p:cond delay="200"/>
                                          </p:stCondLst>
                                        </p:cTn>
                                        <p:tgtEl>
                                          <p:spTgt spid="608"/>
                                        </p:tgtEl>
                                        <p:attrNameLst>
                                          <p:attrName>r</p:attrName>
                                        </p:attrNameLst>
                                      </p:cBhvr>
                                    </p:animRot>
                                    <p:animRot by="240000">
                                      <p:cBhvr>
                                        <p:cTn id="320" dur="200" fill="hold">
                                          <p:stCondLst>
                                            <p:cond delay="400"/>
                                          </p:stCondLst>
                                        </p:cTn>
                                        <p:tgtEl>
                                          <p:spTgt spid="608"/>
                                        </p:tgtEl>
                                        <p:attrNameLst>
                                          <p:attrName>r</p:attrName>
                                        </p:attrNameLst>
                                      </p:cBhvr>
                                    </p:animRot>
                                    <p:animRot by="-240000">
                                      <p:cBhvr>
                                        <p:cTn id="321" dur="200" fill="hold">
                                          <p:stCondLst>
                                            <p:cond delay="600"/>
                                          </p:stCondLst>
                                        </p:cTn>
                                        <p:tgtEl>
                                          <p:spTgt spid="608"/>
                                        </p:tgtEl>
                                        <p:attrNameLst>
                                          <p:attrName>r</p:attrName>
                                        </p:attrNameLst>
                                      </p:cBhvr>
                                    </p:animRot>
                                    <p:animRot by="120000">
                                      <p:cBhvr>
                                        <p:cTn id="322" dur="200" fill="hold">
                                          <p:stCondLst>
                                            <p:cond delay="800"/>
                                          </p:stCondLst>
                                        </p:cTn>
                                        <p:tgtEl>
                                          <p:spTgt spid="608"/>
                                        </p:tgtEl>
                                        <p:attrNameLst>
                                          <p:attrName>r</p:attrName>
                                        </p:attrNameLst>
                                      </p:cBhvr>
                                    </p:animRot>
                                  </p:childTnLst>
                                </p:cTn>
                              </p:par>
                            </p:childTnLst>
                          </p:cTn>
                        </p:par>
                        <p:par>
                          <p:cTn id="323" fill="hold">
                            <p:stCondLst>
                              <p:cond delay="1000"/>
                            </p:stCondLst>
                            <p:childTnLst>
                              <p:par>
                                <p:cTn id="324" nodeType="afterEffect" fill="hold" presetClass="entr" presetID="22" presetSubtype="1">
                                  <p:stCondLst>
                                    <p:cond delay="2000"/>
                                  </p:stCondLst>
                                  <p:childTnLst>
                                    <p:set>
                                      <p:cBhvr>
                                        <p:cTn id="325" dur="1" fill="hold">
                                          <p:stCondLst>
                                            <p:cond delay="0"/>
                                          </p:stCondLst>
                                        </p:cTn>
                                        <p:tgtEl>
                                          <p:spTgt spid="612"/>
                                        </p:tgtEl>
                                        <p:attrNameLst>
                                          <p:attrName>style.visibility</p:attrName>
                                        </p:attrNameLst>
                                      </p:cBhvr>
                                      <p:to>
                                        <p:strVal val="visible"/>
                                      </p:to>
                                    </p:set>
                                    <p:animEffect filter="wipe(up)" transition="in">
                                      <p:cBhvr additive="repl">
                                        <p:cTn id="326" dur="1000"/>
                                        <p:tgtEl>
                                          <p:spTgt spid="6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3" name="图片 3" descr="psds23871.jpg"/>
          <p:cNvPicPr/>
          <p:nvPr/>
        </p:nvPicPr>
        <p:blipFill>
          <a:blip r:embed="rId1"/>
          <a:stretch/>
        </p:blipFill>
        <p:spPr>
          <a:xfrm>
            <a:off x="0" y="5485680"/>
            <a:ext cx="6857640" cy="4420080"/>
          </a:xfrm>
          <a:prstGeom prst="rect">
            <a:avLst/>
          </a:prstGeom>
          <a:ln w="0">
            <a:noFill/>
          </a:ln>
        </p:spPr>
      </p:pic>
      <p:sp>
        <p:nvSpPr>
          <p:cNvPr id="614" name="TextBox 4"/>
          <p:cNvSpPr/>
          <p:nvPr/>
        </p:nvSpPr>
        <p:spPr>
          <a:xfrm>
            <a:off x="2014200" y="622800"/>
            <a:ext cx="2199600" cy="610884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200" spc="-1" strike="noStrike">
                <a:solidFill>
                  <a:srgbClr val="000000"/>
                </a:solidFill>
                <a:latin typeface="微软雅黑"/>
                <a:ea typeface="微软雅黑"/>
              </a:rPr>
              <a:t>格力电器、</a:t>
            </a:r>
            <a:endParaRPr b="0" lang="en-US" sz="1200" spc="-1" strike="noStrike">
              <a:solidFill>
                <a:srgbClr val="000000"/>
              </a:solidFill>
              <a:latin typeface="Arial"/>
            </a:endParaRPr>
          </a:p>
          <a:p>
            <a:pPr>
              <a:lnSpc>
                <a:spcPct val="150000"/>
              </a:lnSpc>
            </a:pPr>
            <a:r>
              <a:rPr b="0" lang="zh-CN" sz="1200" spc="-1" strike="noStrike">
                <a:solidFill>
                  <a:srgbClr val="000000"/>
                </a:solidFill>
                <a:latin typeface="微软雅黑"/>
                <a:ea typeface="微软雅黑"/>
              </a:rPr>
              <a:t>伟创力科技、</a:t>
            </a:r>
            <a:endParaRPr b="0" lang="en-US" sz="1200" spc="-1" strike="noStrike">
              <a:solidFill>
                <a:srgbClr val="000000"/>
              </a:solidFill>
              <a:latin typeface="Arial"/>
            </a:endParaRPr>
          </a:p>
          <a:p>
            <a:pPr>
              <a:lnSpc>
                <a:spcPct val="150000"/>
              </a:lnSpc>
            </a:pPr>
            <a:r>
              <a:rPr b="0" lang="zh-CN" sz="1200" spc="-1" strike="noStrike">
                <a:solidFill>
                  <a:srgbClr val="000000"/>
                </a:solidFill>
                <a:latin typeface="微软雅黑"/>
                <a:ea typeface="微软雅黑"/>
              </a:rPr>
              <a:t>爱婴岛、</a:t>
            </a:r>
            <a:endParaRPr b="0" lang="en-US" sz="1200" spc="-1" strike="noStrike">
              <a:solidFill>
                <a:srgbClr val="000000"/>
              </a:solidFill>
              <a:latin typeface="Arial"/>
            </a:endParaRPr>
          </a:p>
          <a:p>
            <a:pPr>
              <a:lnSpc>
                <a:spcPct val="150000"/>
              </a:lnSpc>
            </a:pPr>
            <a:r>
              <a:rPr b="0" lang="zh-CN" sz="1200" spc="-1" strike="noStrike">
                <a:solidFill>
                  <a:srgbClr val="000000"/>
                </a:solidFill>
                <a:latin typeface="微软雅黑"/>
                <a:ea typeface="微软雅黑"/>
              </a:rPr>
              <a:t>平安银行、</a:t>
            </a:r>
            <a:endParaRPr b="0" lang="en-US" sz="1200" spc="-1" strike="noStrike">
              <a:solidFill>
                <a:srgbClr val="000000"/>
              </a:solidFill>
              <a:latin typeface="Arial"/>
            </a:endParaRPr>
          </a:p>
          <a:p>
            <a:pPr>
              <a:lnSpc>
                <a:spcPct val="150000"/>
              </a:lnSpc>
            </a:pPr>
            <a:r>
              <a:rPr b="0" lang="zh-CN" sz="1200" spc="-1" strike="noStrike">
                <a:solidFill>
                  <a:srgbClr val="000000"/>
                </a:solidFill>
                <a:latin typeface="微软雅黑"/>
                <a:ea typeface="微软雅黑"/>
              </a:rPr>
              <a:t>瓦特电力、</a:t>
            </a:r>
            <a:endParaRPr b="0" lang="en-US" sz="1200" spc="-1" strike="noStrike">
              <a:solidFill>
                <a:srgbClr val="000000"/>
              </a:solidFill>
              <a:latin typeface="Arial"/>
            </a:endParaRPr>
          </a:p>
          <a:p>
            <a:pPr>
              <a:lnSpc>
                <a:spcPct val="150000"/>
              </a:lnSpc>
            </a:pPr>
            <a:r>
              <a:rPr b="0" lang="zh-CN" sz="1200" spc="-1" strike="noStrike">
                <a:solidFill>
                  <a:srgbClr val="000000"/>
                </a:solidFill>
                <a:latin typeface="微软雅黑"/>
                <a:ea typeface="微软雅黑"/>
              </a:rPr>
              <a:t>金轮子物流、</a:t>
            </a:r>
            <a:endParaRPr b="0" lang="en-US" sz="1200" spc="-1" strike="noStrike">
              <a:solidFill>
                <a:srgbClr val="000000"/>
              </a:solidFill>
              <a:latin typeface="Arial"/>
            </a:endParaRPr>
          </a:p>
          <a:p>
            <a:pPr>
              <a:lnSpc>
                <a:spcPct val="150000"/>
              </a:lnSpc>
            </a:pPr>
            <a:r>
              <a:rPr b="0" lang="zh-CN" sz="1200" spc="-1" strike="noStrike">
                <a:solidFill>
                  <a:srgbClr val="000000"/>
                </a:solidFill>
                <a:latin typeface="微软雅黑"/>
                <a:ea typeface="微软雅黑"/>
              </a:rPr>
              <a:t>翠湖高尔夫、</a:t>
            </a:r>
            <a:endParaRPr b="0" lang="en-US" sz="1200" spc="-1" strike="noStrike">
              <a:solidFill>
                <a:srgbClr val="000000"/>
              </a:solidFill>
              <a:latin typeface="Arial"/>
            </a:endParaRPr>
          </a:p>
          <a:p>
            <a:pPr>
              <a:lnSpc>
                <a:spcPct val="150000"/>
              </a:lnSpc>
            </a:pPr>
            <a:r>
              <a:rPr b="0" lang="zh-CN" sz="1200" spc="-1" strike="noStrike">
                <a:solidFill>
                  <a:srgbClr val="000000"/>
                </a:solidFill>
                <a:latin typeface="微软雅黑"/>
                <a:ea typeface="微软雅黑"/>
              </a:rPr>
              <a:t>安讯奔科技、</a:t>
            </a:r>
            <a:endParaRPr b="0" lang="en-US" sz="1200" spc="-1" strike="noStrike">
              <a:solidFill>
                <a:srgbClr val="000000"/>
              </a:solidFill>
              <a:latin typeface="Arial"/>
            </a:endParaRPr>
          </a:p>
          <a:p>
            <a:pPr>
              <a:lnSpc>
                <a:spcPct val="150000"/>
              </a:lnSpc>
            </a:pPr>
            <a:r>
              <a:rPr b="0" lang="zh-CN" sz="1200" spc="-1" strike="noStrike">
                <a:solidFill>
                  <a:srgbClr val="000000"/>
                </a:solidFill>
                <a:latin typeface="微软雅黑"/>
                <a:ea typeface="微软雅黑"/>
              </a:rPr>
              <a:t>天达电器、</a:t>
            </a:r>
            <a:endParaRPr b="0" lang="en-US" sz="1200" spc="-1" strike="noStrike">
              <a:solidFill>
                <a:srgbClr val="000000"/>
              </a:solidFill>
              <a:latin typeface="Arial"/>
            </a:endParaRPr>
          </a:p>
          <a:p>
            <a:pPr>
              <a:lnSpc>
                <a:spcPct val="150000"/>
              </a:lnSpc>
            </a:pPr>
            <a:r>
              <a:rPr b="0" lang="zh-CN" sz="1200" spc="-1" strike="noStrike">
                <a:solidFill>
                  <a:srgbClr val="000000"/>
                </a:solidFill>
                <a:latin typeface="微软雅黑"/>
                <a:ea typeface="微软雅黑"/>
              </a:rPr>
              <a:t>得理乐器、</a:t>
            </a:r>
            <a:endParaRPr b="0" lang="en-US" sz="1200" spc="-1" strike="noStrike">
              <a:solidFill>
                <a:srgbClr val="000000"/>
              </a:solidFill>
              <a:latin typeface="Arial"/>
            </a:endParaRPr>
          </a:p>
          <a:p>
            <a:pPr>
              <a:lnSpc>
                <a:spcPct val="150000"/>
              </a:lnSpc>
            </a:pPr>
            <a:r>
              <a:rPr b="0" lang="zh-CN" sz="1200" spc="-1" strike="noStrike">
                <a:solidFill>
                  <a:srgbClr val="000000"/>
                </a:solidFill>
                <a:latin typeface="微软雅黑"/>
                <a:ea typeface="微软雅黑"/>
              </a:rPr>
              <a:t>鑫诚科技、</a:t>
            </a:r>
            <a:endParaRPr b="0" lang="en-US" sz="1200" spc="-1" strike="noStrike">
              <a:solidFill>
                <a:srgbClr val="000000"/>
              </a:solidFill>
              <a:latin typeface="Arial"/>
            </a:endParaRPr>
          </a:p>
          <a:p>
            <a:pPr>
              <a:lnSpc>
                <a:spcPct val="150000"/>
              </a:lnSpc>
            </a:pPr>
            <a:r>
              <a:rPr b="0" lang="zh-CN" sz="1200" spc="-1" strike="noStrike">
                <a:solidFill>
                  <a:srgbClr val="000000"/>
                </a:solidFill>
                <a:latin typeface="微软雅黑"/>
                <a:ea typeface="微软雅黑"/>
              </a:rPr>
              <a:t>金冠酒店、</a:t>
            </a:r>
            <a:endParaRPr b="0" lang="en-US" sz="1200" spc="-1" strike="noStrike">
              <a:solidFill>
                <a:srgbClr val="000000"/>
              </a:solidFill>
              <a:latin typeface="Arial"/>
            </a:endParaRPr>
          </a:p>
          <a:p>
            <a:pPr>
              <a:lnSpc>
                <a:spcPct val="150000"/>
              </a:lnSpc>
            </a:pPr>
            <a:r>
              <a:rPr b="0" lang="zh-CN" sz="1200" spc="-1" strike="noStrike">
                <a:solidFill>
                  <a:srgbClr val="000000"/>
                </a:solidFill>
                <a:latin typeface="微软雅黑"/>
                <a:ea typeface="微软雅黑"/>
              </a:rPr>
              <a:t>双喜电器、</a:t>
            </a:r>
            <a:endParaRPr b="0" lang="en-US" sz="1200" spc="-1" strike="noStrike">
              <a:solidFill>
                <a:srgbClr val="000000"/>
              </a:solidFill>
              <a:latin typeface="Arial"/>
            </a:endParaRPr>
          </a:p>
          <a:p>
            <a:pPr>
              <a:lnSpc>
                <a:spcPct val="150000"/>
              </a:lnSpc>
            </a:pPr>
            <a:r>
              <a:rPr b="0" lang="zh-CN" sz="1200" spc="-1" strike="noStrike">
                <a:solidFill>
                  <a:srgbClr val="000000"/>
                </a:solidFill>
                <a:latin typeface="微软雅黑"/>
                <a:ea typeface="微软雅黑"/>
              </a:rPr>
              <a:t>亚泰电子、</a:t>
            </a:r>
            <a:endParaRPr b="0" lang="en-US" sz="1200" spc="-1" strike="noStrike">
              <a:solidFill>
                <a:srgbClr val="000000"/>
              </a:solidFill>
              <a:latin typeface="Arial"/>
            </a:endParaRPr>
          </a:p>
          <a:p>
            <a:pPr>
              <a:lnSpc>
                <a:spcPct val="150000"/>
              </a:lnSpc>
            </a:pPr>
            <a:r>
              <a:rPr b="0" lang="zh-CN" sz="1200" spc="-1" strike="noStrike">
                <a:solidFill>
                  <a:srgbClr val="000000"/>
                </a:solidFill>
                <a:latin typeface="微软雅黑"/>
                <a:ea typeface="微软雅黑"/>
              </a:rPr>
              <a:t>运泰利、</a:t>
            </a:r>
            <a:endParaRPr b="0" lang="en-US" sz="1200" spc="-1" strike="noStrike">
              <a:solidFill>
                <a:srgbClr val="000000"/>
              </a:solidFill>
              <a:latin typeface="Arial"/>
            </a:endParaRPr>
          </a:p>
          <a:p>
            <a:pPr>
              <a:lnSpc>
                <a:spcPct val="150000"/>
              </a:lnSpc>
            </a:pPr>
            <a:r>
              <a:rPr b="0" lang="zh-CN" sz="1200" spc="-1" strike="noStrike">
                <a:solidFill>
                  <a:srgbClr val="000000"/>
                </a:solidFill>
                <a:latin typeface="微软雅黑"/>
                <a:ea typeface="微软雅黑"/>
              </a:rPr>
              <a:t>佳创兴、</a:t>
            </a:r>
            <a:endParaRPr b="0" lang="en-US" sz="1200" spc="-1" strike="noStrike">
              <a:solidFill>
                <a:srgbClr val="000000"/>
              </a:solidFill>
              <a:latin typeface="Arial"/>
            </a:endParaRPr>
          </a:p>
          <a:p>
            <a:pPr>
              <a:lnSpc>
                <a:spcPct val="150000"/>
              </a:lnSpc>
            </a:pPr>
            <a:r>
              <a:rPr b="0" lang="zh-CN" sz="1200" spc="-1" strike="noStrike">
                <a:solidFill>
                  <a:srgbClr val="000000"/>
                </a:solidFill>
                <a:latin typeface="微软雅黑"/>
                <a:ea typeface="微软雅黑"/>
              </a:rPr>
              <a:t>光宇电池、</a:t>
            </a:r>
            <a:endParaRPr b="0" lang="en-US" sz="1200" spc="-1" strike="noStrike">
              <a:solidFill>
                <a:srgbClr val="000000"/>
              </a:solidFill>
              <a:latin typeface="Arial"/>
            </a:endParaRPr>
          </a:p>
          <a:p>
            <a:pPr>
              <a:lnSpc>
                <a:spcPct val="150000"/>
              </a:lnSpc>
            </a:pPr>
            <a:r>
              <a:rPr b="0" lang="zh-CN" sz="1200" spc="-1" strike="noStrike">
                <a:solidFill>
                  <a:srgbClr val="000000"/>
                </a:solidFill>
                <a:latin typeface="微软雅黑"/>
                <a:ea typeface="微软雅黑"/>
              </a:rPr>
              <a:t>创鸿电路板、</a:t>
            </a:r>
            <a:endParaRPr b="0" lang="en-US" sz="1200" spc="-1" strike="noStrike">
              <a:solidFill>
                <a:srgbClr val="000000"/>
              </a:solidFill>
              <a:latin typeface="Arial"/>
            </a:endParaRPr>
          </a:p>
          <a:p>
            <a:pPr>
              <a:lnSpc>
                <a:spcPct val="150000"/>
              </a:lnSpc>
            </a:pPr>
            <a:r>
              <a:rPr b="0" lang="zh-CN" sz="1200" spc="-1" strike="noStrike">
                <a:solidFill>
                  <a:srgbClr val="000000"/>
                </a:solidFill>
                <a:latin typeface="微软雅黑"/>
                <a:ea typeface="微软雅黑"/>
              </a:rPr>
              <a:t>硕鸿电路板、</a:t>
            </a:r>
            <a:endParaRPr b="0" lang="en-US" sz="1200" spc="-1" strike="noStrike">
              <a:solidFill>
                <a:srgbClr val="000000"/>
              </a:solidFill>
              <a:latin typeface="Arial"/>
            </a:endParaRPr>
          </a:p>
          <a:p>
            <a:pPr>
              <a:lnSpc>
                <a:spcPct val="150000"/>
              </a:lnSpc>
            </a:pPr>
            <a:r>
              <a:rPr b="0" lang="zh-CN" sz="1200" spc="-1" strike="noStrike">
                <a:solidFill>
                  <a:srgbClr val="000000"/>
                </a:solidFill>
                <a:latin typeface="微软雅黑"/>
                <a:ea typeface="微软雅黑"/>
              </a:rPr>
              <a:t>汤臣倍健、</a:t>
            </a:r>
            <a:endParaRPr b="0" lang="en-US" sz="1200" spc="-1" strike="noStrike">
              <a:solidFill>
                <a:srgbClr val="000000"/>
              </a:solidFill>
              <a:latin typeface="Arial"/>
            </a:endParaRPr>
          </a:p>
          <a:p>
            <a:pPr>
              <a:lnSpc>
                <a:spcPct val="150000"/>
              </a:lnSpc>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p>
            <a:pPr>
              <a:lnSpc>
                <a:spcPct val="150000"/>
              </a:lnSpc>
            </a:pPr>
            <a:endParaRPr b="0" lang="en-US" sz="1200" spc="-1" strike="noStrike">
              <a:solidFill>
                <a:srgbClr val="000000"/>
              </a:solidFill>
              <a:latin typeface="Arial"/>
            </a:endParaRPr>
          </a:p>
        </p:txBody>
      </p:sp>
      <p:sp>
        <p:nvSpPr>
          <p:cNvPr id="615" name="TextBox 9"/>
          <p:cNvSpPr/>
          <p:nvPr/>
        </p:nvSpPr>
        <p:spPr>
          <a:xfrm>
            <a:off x="549000" y="622800"/>
            <a:ext cx="676800" cy="1733400"/>
          </a:xfrm>
          <a:prstGeom prst="rect">
            <a:avLst/>
          </a:prstGeom>
          <a:noFill/>
          <a:ln w="0">
            <a:noFill/>
          </a:ln>
        </p:spPr>
        <p:style>
          <a:lnRef idx="0"/>
          <a:fillRef idx="0"/>
          <a:effectRef idx="0"/>
          <a:fontRef idx="minor"/>
        </p:style>
        <p:txBody>
          <a:bodyPr wrap="none" lIns="90000" rIns="90000" tIns="45000" bIns="45000" anchor="t" vert="vert" rot="5400000">
            <a:noAutofit/>
          </a:bodyPr>
          <a:p>
            <a:pPr>
              <a:lnSpc>
                <a:spcPct val="100000"/>
              </a:lnSpc>
            </a:pPr>
            <a:r>
              <a:rPr b="1" lang="zh-CN" sz="3200" spc="-1" strike="noStrike">
                <a:solidFill>
                  <a:srgbClr val="000000"/>
                </a:solidFill>
                <a:latin typeface="微软雅黑"/>
                <a:ea typeface="微软雅黑"/>
              </a:rPr>
              <a:t>部分客户</a:t>
            </a:r>
            <a:endParaRPr b="0" lang="en-US" sz="3200" spc="-1" strike="noStrike">
              <a:solidFill>
                <a:srgbClr val="000000"/>
              </a:solidFill>
              <a:latin typeface="Arial"/>
            </a:endParaRPr>
          </a:p>
        </p:txBody>
      </p:sp>
      <p:sp>
        <p:nvSpPr>
          <p:cNvPr id="616" name="矩形 10"/>
          <p:cNvSpPr/>
          <p:nvPr/>
        </p:nvSpPr>
        <p:spPr>
          <a:xfrm>
            <a:off x="622800" y="0"/>
            <a:ext cx="489960" cy="622440"/>
          </a:xfrm>
          <a:prstGeom prst="rect">
            <a:avLst/>
          </a:prstGeom>
          <a:solidFill>
            <a:srgbClr val="d79f00"/>
          </a:solidFill>
          <a:ln w="0">
            <a:noFill/>
          </a:ln>
        </p:spPr>
        <p:style>
          <a:lnRef idx="0"/>
          <a:fillRef idx="0"/>
          <a:effectRef idx="0"/>
          <a:fontRef idx="minor"/>
        </p:style>
        <p:txBody>
          <a:bodyPr numCol="1" spcCol="0" anchor="ctr">
            <a:noAutofit/>
          </a:bodyPr>
          <a:p>
            <a:pPr>
              <a:lnSpc>
                <a:spcPct val="100000"/>
              </a:lnSpc>
              <a:tabLst>
                <a:tab algn="l" pos="0"/>
              </a:tabLst>
            </a:pPr>
            <a:endParaRPr b="0" lang="en-US" sz="1800" spc="-1" strike="noStrike">
              <a:solidFill>
                <a:srgbClr val="000000"/>
              </a:solidFill>
              <a:latin typeface="Arial"/>
              <a:ea typeface="宋体"/>
            </a:endParaRPr>
          </a:p>
        </p:txBody>
      </p:sp>
      <p:cxnSp>
        <p:nvCxnSpPr>
          <p:cNvPr id="617" name="直接连接符 5"/>
          <p:cNvCxnSpPr/>
          <p:nvPr/>
        </p:nvCxnSpPr>
        <p:spPr>
          <a:xfrm>
            <a:off x="1232640" y="-58320"/>
            <a:ext cx="360" cy="2597400"/>
          </a:xfrm>
          <a:prstGeom prst="straightConnector1">
            <a:avLst/>
          </a:prstGeom>
          <a:ln w="28575">
            <a:solidFill>
              <a:srgbClr val="000000"/>
            </a:solidFill>
            <a:round/>
          </a:ln>
        </p:spPr>
      </p:cxnSp>
      <p:sp>
        <p:nvSpPr>
          <p:cNvPr id="618" name="TextBox 11"/>
          <p:cNvSpPr/>
          <p:nvPr/>
        </p:nvSpPr>
        <p:spPr>
          <a:xfrm>
            <a:off x="1274400" y="1802160"/>
            <a:ext cx="461160" cy="2186280"/>
          </a:xfrm>
          <a:prstGeom prst="rect">
            <a:avLst/>
          </a:prstGeom>
          <a:noFill/>
          <a:ln w="0">
            <a:noFill/>
          </a:ln>
        </p:spPr>
        <p:style>
          <a:lnRef idx="0"/>
          <a:fillRef idx="0"/>
          <a:effectRef idx="0"/>
          <a:fontRef idx="minor"/>
        </p:style>
        <p:txBody>
          <a:bodyPr lIns="90000" rIns="90000" tIns="45000" bIns="45000" anchor="t" vert="vert" rot="5400000">
            <a:noAutofit/>
          </a:bodyPr>
          <a:p>
            <a:pPr>
              <a:lnSpc>
                <a:spcPct val="100000"/>
              </a:lnSpc>
            </a:pPr>
            <a:r>
              <a:rPr b="1" lang="zh-CN" sz="1800" spc="-1" strike="noStrike">
                <a:solidFill>
                  <a:srgbClr val="000000"/>
                </a:solidFill>
                <a:latin typeface="微软雅黑"/>
                <a:ea typeface="微软雅黑"/>
              </a:rPr>
              <a:t>珠海客户（部分）：</a:t>
            </a:r>
            <a:endParaRPr b="0" lang="en-US" sz="1800" spc="-1" strike="noStrike">
              <a:solidFill>
                <a:srgbClr val="000000"/>
              </a:solidFill>
              <a:latin typeface="Arial"/>
            </a:endParaRPr>
          </a:p>
        </p:txBody>
      </p:sp>
      <p:grpSp>
        <p:nvGrpSpPr>
          <p:cNvPr id="619" name="组合 40"/>
          <p:cNvGrpSpPr/>
          <p:nvPr/>
        </p:nvGrpSpPr>
        <p:grpSpPr>
          <a:xfrm>
            <a:off x="3643560" y="916560"/>
            <a:ext cx="2549160" cy="4252680"/>
            <a:chOff x="3643560" y="916560"/>
            <a:chExt cx="2549160" cy="4252680"/>
          </a:xfrm>
        </p:grpSpPr>
        <p:pic>
          <p:nvPicPr>
            <p:cNvPr id="620" name="图片 33" descr="untitled.bmp"/>
            <p:cNvPicPr/>
            <p:nvPr/>
          </p:nvPicPr>
          <p:blipFill>
            <a:blip r:embed="rId2"/>
            <a:stretch/>
          </p:blipFill>
          <p:spPr>
            <a:xfrm>
              <a:off x="5636520" y="4812840"/>
              <a:ext cx="556200" cy="330120"/>
            </a:xfrm>
            <a:prstGeom prst="rect">
              <a:avLst/>
            </a:prstGeom>
            <a:ln w="0">
              <a:noFill/>
            </a:ln>
          </p:spPr>
        </p:pic>
        <p:pic>
          <p:nvPicPr>
            <p:cNvPr id="621" name="图片 12" descr="QQ截图20140613143944.jpg"/>
            <p:cNvPicPr/>
            <p:nvPr/>
          </p:nvPicPr>
          <p:blipFill>
            <a:blip r:embed="rId3"/>
            <a:stretch/>
          </p:blipFill>
          <p:spPr>
            <a:xfrm>
              <a:off x="4710960" y="916560"/>
              <a:ext cx="1481760" cy="371160"/>
            </a:xfrm>
            <a:prstGeom prst="rect">
              <a:avLst/>
            </a:prstGeom>
            <a:ln w="0">
              <a:noFill/>
            </a:ln>
          </p:spPr>
        </p:pic>
        <p:pic>
          <p:nvPicPr>
            <p:cNvPr id="622" name="图片 13" descr="QQ截图20140613144055.jpg"/>
            <p:cNvPicPr/>
            <p:nvPr/>
          </p:nvPicPr>
          <p:blipFill>
            <a:blip r:embed="rId4"/>
            <a:stretch/>
          </p:blipFill>
          <p:spPr>
            <a:xfrm>
              <a:off x="3662280" y="3988800"/>
              <a:ext cx="1927800" cy="223560"/>
            </a:xfrm>
            <a:prstGeom prst="rect">
              <a:avLst/>
            </a:prstGeom>
            <a:ln w="0">
              <a:noFill/>
            </a:ln>
          </p:spPr>
        </p:pic>
        <p:pic>
          <p:nvPicPr>
            <p:cNvPr id="623" name="图片 14" descr="QQ截图20140613144200.jpg"/>
            <p:cNvPicPr/>
            <p:nvPr/>
          </p:nvPicPr>
          <p:blipFill>
            <a:blip r:embed="rId5"/>
            <a:stretch/>
          </p:blipFill>
          <p:spPr>
            <a:xfrm>
              <a:off x="3643560" y="1333440"/>
              <a:ext cx="1078560" cy="583920"/>
            </a:xfrm>
            <a:prstGeom prst="rect">
              <a:avLst/>
            </a:prstGeom>
            <a:ln w="0">
              <a:noFill/>
            </a:ln>
          </p:spPr>
        </p:pic>
        <p:pic>
          <p:nvPicPr>
            <p:cNvPr id="624" name="图片 15" descr="QQ截图20140613144315.jpg"/>
            <p:cNvPicPr/>
            <p:nvPr/>
          </p:nvPicPr>
          <p:blipFill>
            <a:blip r:embed="rId6"/>
            <a:stretch/>
          </p:blipFill>
          <p:spPr>
            <a:xfrm>
              <a:off x="4890600" y="3340800"/>
              <a:ext cx="1301760" cy="560520"/>
            </a:xfrm>
            <a:prstGeom prst="rect">
              <a:avLst/>
            </a:prstGeom>
            <a:ln w="0">
              <a:noFill/>
            </a:ln>
          </p:spPr>
        </p:pic>
        <p:pic>
          <p:nvPicPr>
            <p:cNvPr id="625" name="图片 16" descr="QQ截图20140613144439.jpg"/>
            <p:cNvPicPr/>
            <p:nvPr/>
          </p:nvPicPr>
          <p:blipFill>
            <a:blip r:embed="rId7"/>
            <a:stretch/>
          </p:blipFill>
          <p:spPr>
            <a:xfrm>
              <a:off x="5157720" y="1955160"/>
              <a:ext cx="1035000" cy="390240"/>
            </a:xfrm>
            <a:prstGeom prst="rect">
              <a:avLst/>
            </a:prstGeom>
            <a:ln w="0">
              <a:noFill/>
            </a:ln>
          </p:spPr>
        </p:pic>
        <p:pic>
          <p:nvPicPr>
            <p:cNvPr id="626" name="图片 17" descr="QQ截图20140613144540.jpg"/>
            <p:cNvPicPr/>
            <p:nvPr/>
          </p:nvPicPr>
          <p:blipFill>
            <a:blip r:embed="rId8"/>
            <a:stretch/>
          </p:blipFill>
          <p:spPr>
            <a:xfrm>
              <a:off x="3643560" y="2426400"/>
              <a:ext cx="1335960" cy="347760"/>
            </a:xfrm>
            <a:prstGeom prst="rect">
              <a:avLst/>
            </a:prstGeom>
            <a:ln w="0">
              <a:noFill/>
            </a:ln>
          </p:spPr>
        </p:pic>
        <p:pic>
          <p:nvPicPr>
            <p:cNvPr id="627" name="图片 18" descr="QQ截图20140613144628.jpg"/>
            <p:cNvPicPr/>
            <p:nvPr/>
          </p:nvPicPr>
          <p:blipFill>
            <a:blip r:embed="rId9"/>
            <a:stretch/>
          </p:blipFill>
          <p:spPr>
            <a:xfrm>
              <a:off x="5455080" y="2870280"/>
              <a:ext cx="737640" cy="465840"/>
            </a:xfrm>
            <a:prstGeom prst="rect">
              <a:avLst/>
            </a:prstGeom>
            <a:ln w="0">
              <a:noFill/>
            </a:ln>
          </p:spPr>
        </p:pic>
        <p:sp>
          <p:nvSpPr>
            <p:cNvPr id="628" name="矩形 19"/>
            <p:cNvSpPr/>
            <p:nvPr/>
          </p:nvSpPr>
          <p:spPr>
            <a:xfrm>
              <a:off x="5043600" y="2426400"/>
              <a:ext cx="1149120" cy="347760"/>
            </a:xfrm>
            <a:prstGeom prst="rect">
              <a:avLst/>
            </a:prstGeom>
            <a:solidFill>
              <a:schemeClr val="bg1">
                <a:lumMod val="85000"/>
              </a:schemeClr>
            </a:solidFill>
            <a:ln w="0">
              <a:noFill/>
            </a:ln>
          </p:spPr>
          <p:style>
            <a:lnRef idx="0"/>
            <a:fillRef idx="0"/>
            <a:effectRef idx="0"/>
            <a:fontRef idx="minor"/>
          </p:style>
          <p:txBody>
            <a:bodyPr numCol="1" spcCol="0" anchor="ctr">
              <a:noAutofit/>
            </a:bodyPr>
            <a:p>
              <a:pPr>
                <a:lnSpc>
                  <a:spcPct val="100000"/>
                </a:lnSpc>
                <a:tabLst>
                  <a:tab algn="l" pos="0"/>
                </a:tabLst>
              </a:pPr>
              <a:endParaRPr b="0" lang="en-US" sz="1800" spc="-1" strike="noStrike">
                <a:solidFill>
                  <a:srgbClr val="000000"/>
                </a:solidFill>
                <a:latin typeface="Arial"/>
                <a:ea typeface="宋体"/>
              </a:endParaRPr>
            </a:p>
          </p:txBody>
        </p:sp>
        <p:pic>
          <p:nvPicPr>
            <p:cNvPr id="629" name="图片 22" descr="QQ截图20140613145459.jpg"/>
            <p:cNvPicPr/>
            <p:nvPr/>
          </p:nvPicPr>
          <p:blipFill>
            <a:blip r:embed="rId10"/>
            <a:stretch/>
          </p:blipFill>
          <p:spPr>
            <a:xfrm>
              <a:off x="3643560" y="2870280"/>
              <a:ext cx="671400" cy="486720"/>
            </a:xfrm>
            <a:prstGeom prst="rect">
              <a:avLst/>
            </a:prstGeom>
            <a:ln w="0">
              <a:noFill/>
            </a:ln>
          </p:spPr>
        </p:pic>
        <p:sp>
          <p:nvSpPr>
            <p:cNvPr id="630" name="矩形 23"/>
            <p:cNvSpPr/>
            <p:nvPr/>
          </p:nvSpPr>
          <p:spPr>
            <a:xfrm>
              <a:off x="3643560" y="1955160"/>
              <a:ext cx="1400040" cy="390240"/>
            </a:xfrm>
            <a:prstGeom prst="rect">
              <a:avLst/>
            </a:prstGeom>
            <a:solidFill>
              <a:schemeClr val="bg1">
                <a:lumMod val="85000"/>
              </a:schemeClr>
            </a:solidFill>
            <a:ln w="0">
              <a:noFill/>
            </a:ln>
          </p:spPr>
          <p:style>
            <a:lnRef idx="0"/>
            <a:fillRef idx="0"/>
            <a:effectRef idx="0"/>
            <a:fontRef idx="minor"/>
          </p:style>
          <p:txBody>
            <a:bodyPr numCol="1" spcCol="0" anchor="ctr">
              <a:noAutofit/>
            </a:bodyPr>
            <a:p>
              <a:pPr>
                <a:lnSpc>
                  <a:spcPct val="100000"/>
                </a:lnSpc>
                <a:tabLst>
                  <a:tab algn="l" pos="0"/>
                </a:tabLst>
              </a:pPr>
              <a:endParaRPr b="0" lang="en-US" sz="1800" spc="-1" strike="noStrike">
                <a:solidFill>
                  <a:srgbClr val="000000"/>
                </a:solidFill>
                <a:latin typeface="Arial"/>
                <a:ea typeface="宋体"/>
              </a:endParaRPr>
            </a:p>
          </p:txBody>
        </p:sp>
        <p:sp>
          <p:nvSpPr>
            <p:cNvPr id="631" name="矩形 24"/>
            <p:cNvSpPr/>
            <p:nvPr/>
          </p:nvSpPr>
          <p:spPr>
            <a:xfrm>
              <a:off x="3643560" y="916560"/>
              <a:ext cx="990720" cy="371160"/>
            </a:xfrm>
            <a:prstGeom prst="rect">
              <a:avLst/>
            </a:prstGeom>
            <a:solidFill>
              <a:schemeClr val="bg1">
                <a:lumMod val="85000"/>
              </a:schemeClr>
            </a:solidFill>
            <a:ln w="0">
              <a:noFill/>
            </a:ln>
          </p:spPr>
          <p:style>
            <a:lnRef idx="0"/>
            <a:fillRef idx="0"/>
            <a:effectRef idx="0"/>
            <a:fontRef idx="minor"/>
          </p:style>
          <p:txBody>
            <a:bodyPr numCol="1" spcCol="0" anchor="ctr">
              <a:noAutofit/>
            </a:bodyPr>
            <a:p>
              <a:pPr>
                <a:lnSpc>
                  <a:spcPct val="100000"/>
                </a:lnSpc>
                <a:tabLst>
                  <a:tab algn="l" pos="0"/>
                </a:tabLst>
              </a:pPr>
              <a:endParaRPr b="0" lang="en-US" sz="1800" spc="-1" strike="noStrike">
                <a:solidFill>
                  <a:srgbClr val="000000"/>
                </a:solidFill>
                <a:latin typeface="Arial"/>
                <a:ea typeface="宋体"/>
              </a:endParaRPr>
            </a:p>
          </p:txBody>
        </p:sp>
        <p:sp>
          <p:nvSpPr>
            <p:cNvPr id="632" name="矩形 25"/>
            <p:cNvSpPr/>
            <p:nvPr/>
          </p:nvSpPr>
          <p:spPr>
            <a:xfrm>
              <a:off x="3643560" y="3435480"/>
              <a:ext cx="1132560" cy="388440"/>
            </a:xfrm>
            <a:prstGeom prst="rect">
              <a:avLst/>
            </a:prstGeom>
            <a:solidFill>
              <a:schemeClr val="bg1">
                <a:lumMod val="85000"/>
              </a:schemeClr>
            </a:solidFill>
            <a:ln w="0">
              <a:noFill/>
            </a:ln>
          </p:spPr>
          <p:style>
            <a:lnRef idx="0"/>
            <a:fillRef idx="0"/>
            <a:effectRef idx="0"/>
            <a:fontRef idx="minor"/>
          </p:style>
          <p:txBody>
            <a:bodyPr numCol="1" spcCol="0" anchor="ctr">
              <a:noAutofit/>
            </a:bodyPr>
            <a:p>
              <a:pPr>
                <a:lnSpc>
                  <a:spcPct val="100000"/>
                </a:lnSpc>
                <a:tabLst>
                  <a:tab algn="l" pos="0"/>
                </a:tabLst>
              </a:pPr>
              <a:endParaRPr b="0" lang="en-US" sz="1800" spc="-1" strike="noStrike">
                <a:solidFill>
                  <a:srgbClr val="000000"/>
                </a:solidFill>
                <a:latin typeface="Arial"/>
                <a:ea typeface="宋体"/>
              </a:endParaRPr>
            </a:p>
          </p:txBody>
        </p:sp>
        <p:pic>
          <p:nvPicPr>
            <p:cNvPr id="633" name="图片 30" descr="QQ截图20140613150147.jpg"/>
            <p:cNvPicPr/>
            <p:nvPr/>
          </p:nvPicPr>
          <p:blipFill>
            <a:blip r:embed="rId11"/>
            <a:stretch/>
          </p:blipFill>
          <p:spPr>
            <a:xfrm>
              <a:off x="5238720" y="1374840"/>
              <a:ext cx="954000" cy="501480"/>
            </a:xfrm>
            <a:prstGeom prst="rect">
              <a:avLst/>
            </a:prstGeom>
            <a:ln w="0">
              <a:noFill/>
            </a:ln>
          </p:spPr>
        </p:pic>
        <p:pic>
          <p:nvPicPr>
            <p:cNvPr id="634" name="图片 31" descr="QQ截图20140613150448.jpg"/>
            <p:cNvPicPr/>
            <p:nvPr/>
          </p:nvPicPr>
          <p:blipFill>
            <a:blip r:embed="rId12"/>
            <a:stretch/>
          </p:blipFill>
          <p:spPr>
            <a:xfrm>
              <a:off x="4755960" y="4263480"/>
              <a:ext cx="1436760" cy="427680"/>
            </a:xfrm>
            <a:prstGeom prst="rect">
              <a:avLst/>
            </a:prstGeom>
            <a:ln w="0">
              <a:noFill/>
            </a:ln>
          </p:spPr>
        </p:pic>
        <p:pic>
          <p:nvPicPr>
            <p:cNvPr id="635" name="图片 32" descr="QQ截图20140613150536.jpg"/>
            <p:cNvPicPr/>
            <p:nvPr/>
          </p:nvPicPr>
          <p:blipFill>
            <a:blip r:embed="rId13"/>
            <a:stretch/>
          </p:blipFill>
          <p:spPr>
            <a:xfrm>
              <a:off x="3643560" y="4860720"/>
              <a:ext cx="1132560" cy="308520"/>
            </a:xfrm>
            <a:prstGeom prst="rect">
              <a:avLst/>
            </a:prstGeom>
            <a:ln w="0">
              <a:noFill/>
            </a:ln>
          </p:spPr>
        </p:pic>
        <p:sp>
          <p:nvSpPr>
            <p:cNvPr id="636" name="矩形 34"/>
            <p:cNvSpPr/>
            <p:nvPr/>
          </p:nvSpPr>
          <p:spPr>
            <a:xfrm>
              <a:off x="5588280" y="3997800"/>
              <a:ext cx="604080" cy="143280"/>
            </a:xfrm>
            <a:prstGeom prst="rect">
              <a:avLst/>
            </a:prstGeom>
            <a:solidFill>
              <a:schemeClr val="bg1">
                <a:lumMod val="85000"/>
              </a:schemeClr>
            </a:solidFill>
            <a:ln w="0">
              <a:noFill/>
            </a:ln>
          </p:spPr>
          <p:style>
            <a:lnRef idx="0"/>
            <a:fillRef idx="0"/>
            <a:effectRef idx="0"/>
            <a:fontRef idx="minor"/>
          </p:style>
          <p:txBody>
            <a:bodyPr numCol="1" spcCol="0" anchor="ctr">
              <a:noAutofit/>
            </a:bodyPr>
            <a:p>
              <a:pPr>
                <a:lnSpc>
                  <a:spcPct val="100000"/>
                </a:lnSpc>
                <a:tabLst>
                  <a:tab algn="l" pos="0"/>
                </a:tabLst>
              </a:pPr>
              <a:endParaRPr b="0" lang="en-US" sz="1800" spc="-1" strike="noStrike">
                <a:solidFill>
                  <a:srgbClr val="000000"/>
                </a:solidFill>
                <a:latin typeface="Arial"/>
                <a:ea typeface="宋体"/>
              </a:endParaRPr>
            </a:p>
          </p:txBody>
        </p:sp>
        <p:sp>
          <p:nvSpPr>
            <p:cNvPr id="637" name="矩形 35"/>
            <p:cNvSpPr/>
            <p:nvPr/>
          </p:nvSpPr>
          <p:spPr>
            <a:xfrm>
              <a:off x="3643560" y="4386240"/>
              <a:ext cx="1095840" cy="304920"/>
            </a:xfrm>
            <a:prstGeom prst="rect">
              <a:avLst/>
            </a:prstGeom>
            <a:solidFill>
              <a:schemeClr val="bg1">
                <a:lumMod val="85000"/>
              </a:schemeClr>
            </a:solidFill>
            <a:ln w="0">
              <a:noFill/>
            </a:ln>
          </p:spPr>
          <p:style>
            <a:lnRef idx="0"/>
            <a:fillRef idx="0"/>
            <a:effectRef idx="0"/>
            <a:fontRef idx="minor"/>
          </p:style>
          <p:txBody>
            <a:bodyPr numCol="1" spcCol="0" anchor="ctr">
              <a:noAutofit/>
            </a:bodyPr>
            <a:p>
              <a:pPr>
                <a:lnSpc>
                  <a:spcPct val="100000"/>
                </a:lnSpc>
                <a:tabLst>
                  <a:tab algn="l" pos="0"/>
                </a:tabLst>
              </a:pPr>
              <a:endParaRPr b="0" lang="en-US" sz="1800" spc="-1" strike="noStrike">
                <a:solidFill>
                  <a:srgbClr val="000000"/>
                </a:solidFill>
                <a:latin typeface="Arial"/>
                <a:ea typeface="宋体"/>
              </a:endParaRPr>
            </a:p>
          </p:txBody>
        </p:sp>
        <p:sp>
          <p:nvSpPr>
            <p:cNvPr id="638" name="矩形 37"/>
            <p:cNvSpPr/>
            <p:nvPr/>
          </p:nvSpPr>
          <p:spPr>
            <a:xfrm>
              <a:off x="4800240" y="4812840"/>
              <a:ext cx="770040" cy="330120"/>
            </a:xfrm>
            <a:prstGeom prst="rect">
              <a:avLst/>
            </a:prstGeom>
            <a:solidFill>
              <a:schemeClr val="bg1">
                <a:lumMod val="85000"/>
              </a:schemeClr>
            </a:solidFill>
            <a:ln w="0">
              <a:noFill/>
            </a:ln>
          </p:spPr>
          <p:style>
            <a:lnRef idx="0"/>
            <a:fillRef idx="0"/>
            <a:effectRef idx="0"/>
            <a:fontRef idx="minor"/>
          </p:style>
          <p:txBody>
            <a:bodyPr numCol="1" spcCol="0" anchor="ctr">
              <a:noAutofit/>
            </a:bodyPr>
            <a:p>
              <a:pPr>
                <a:lnSpc>
                  <a:spcPct val="100000"/>
                </a:lnSpc>
                <a:tabLst>
                  <a:tab algn="l" pos="0"/>
                </a:tabLst>
              </a:pPr>
              <a:endParaRPr b="0" lang="en-US" sz="1800" spc="-1" strike="noStrike">
                <a:solidFill>
                  <a:srgbClr val="000000"/>
                </a:solidFill>
                <a:latin typeface="Arial"/>
                <a:ea typeface="宋体"/>
              </a:endParaRPr>
            </a:p>
          </p:txBody>
        </p:sp>
        <p:sp>
          <p:nvSpPr>
            <p:cNvPr id="639" name="矩形 38"/>
            <p:cNvSpPr/>
            <p:nvPr/>
          </p:nvSpPr>
          <p:spPr>
            <a:xfrm>
              <a:off x="4453560" y="2874960"/>
              <a:ext cx="930600" cy="465840"/>
            </a:xfrm>
            <a:prstGeom prst="rect">
              <a:avLst/>
            </a:prstGeom>
            <a:solidFill>
              <a:schemeClr val="bg1">
                <a:lumMod val="85000"/>
              </a:schemeClr>
            </a:solidFill>
            <a:ln w="0">
              <a:noFill/>
            </a:ln>
          </p:spPr>
          <p:style>
            <a:lnRef idx="0"/>
            <a:fillRef idx="0"/>
            <a:effectRef idx="0"/>
            <a:fontRef idx="minor"/>
          </p:style>
          <p:txBody>
            <a:bodyPr numCol="1" spcCol="0" anchor="ctr">
              <a:noAutofit/>
            </a:bodyPr>
            <a:p>
              <a:pPr>
                <a:lnSpc>
                  <a:spcPct val="100000"/>
                </a:lnSpc>
                <a:tabLst>
                  <a:tab algn="l" pos="0"/>
                </a:tabLst>
              </a:pPr>
              <a:endParaRPr b="0" lang="en-US" sz="1800" spc="-1" strike="noStrike">
                <a:solidFill>
                  <a:srgbClr val="000000"/>
                </a:solidFill>
                <a:latin typeface="Arial"/>
                <a:ea typeface="宋体"/>
              </a:endParaRPr>
            </a:p>
          </p:txBody>
        </p:sp>
      </p:grpSp>
      <p:sp>
        <p:nvSpPr>
          <p:cNvPr id="640" name="矩形 12"/>
          <p:cNvSpPr/>
          <p:nvPr/>
        </p:nvSpPr>
        <p:spPr>
          <a:xfrm>
            <a:off x="472680" y="90291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p:transition spd="slow" advTm="5000">
    <p:cover dir="u"/>
  </p:transition>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withEffect" fill="hold" presetClass="entr" presetID="22" presetSubtype="1">
                                  <p:stCondLst>
                                    <p:cond delay="0"/>
                                  </p:stCondLst>
                                  <p:childTnLst>
                                    <p:set>
                                      <p:cBhvr>
                                        <p:cTn id="332" dur="1" fill="hold">
                                          <p:stCondLst>
                                            <p:cond delay="0"/>
                                          </p:stCondLst>
                                        </p:cTn>
                                        <p:tgtEl>
                                          <p:spTgt spid="617"/>
                                        </p:tgtEl>
                                        <p:attrNameLst>
                                          <p:attrName>style.visibility</p:attrName>
                                        </p:attrNameLst>
                                      </p:cBhvr>
                                      <p:to>
                                        <p:strVal val="visible"/>
                                      </p:to>
                                    </p:set>
                                    <p:animEffect filter="wipe(up)" transition="in">
                                      <p:cBhvr additive="repl">
                                        <p:cTn id="333" dur="1000"/>
                                        <p:tgtEl>
                                          <p:spTgt spid="6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1"/>
          <p:cNvSpPr/>
          <p:nvPr/>
        </p:nvSpPr>
        <p:spPr>
          <a:xfrm>
            <a:off x="2055240" y="8628120"/>
            <a:ext cx="4640400" cy="820800"/>
          </a:xfrm>
          <a:prstGeom prst="rect">
            <a:avLst/>
          </a:prstGeom>
          <a:noFill/>
          <a:ln w="9525">
            <a:noFill/>
          </a:ln>
        </p:spPr>
        <p:style>
          <a:lnRef idx="0"/>
          <a:fillRef idx="0"/>
          <a:effectRef idx="0"/>
          <a:fontRef idx="minor"/>
        </p:style>
        <p:txBody>
          <a:bodyPr numCol="1" spcCol="0" anchor="ctr">
            <a:spAutoFit/>
          </a:bodyPr>
          <a:p>
            <a:pPr>
              <a:lnSpc>
                <a:spcPct val="100000"/>
              </a:lnSpc>
              <a:tabLst>
                <a:tab algn="l" pos="0"/>
              </a:tabLst>
            </a:pPr>
            <a:r>
              <a:rPr b="1" lang="zh-CN" sz="1200" spc="-1" strike="noStrike">
                <a:solidFill>
                  <a:srgbClr val="000000"/>
                </a:solidFill>
                <a:latin typeface="微软雅黑"/>
                <a:ea typeface="微软雅黑"/>
              </a:rPr>
              <a:t>电话：</a:t>
            </a:r>
            <a:r>
              <a:rPr b="0" lang="en-US" sz="1200" spc="-1" strike="noStrike">
                <a:solidFill>
                  <a:srgbClr val="000000"/>
                </a:solidFill>
                <a:latin typeface="微软雅黑"/>
                <a:ea typeface="微软雅黑"/>
              </a:rPr>
              <a:t>0756-</a:t>
            </a:r>
            <a:r>
              <a:rPr b="0" lang="en-US" sz="1200" spc="-1" strike="noStrike">
                <a:solidFill>
                  <a:srgbClr val="000000"/>
                </a:solidFill>
                <a:latin typeface="微软雅黑"/>
                <a:ea typeface="微软雅黑"/>
              </a:rPr>
              <a:t>2298658 2293658 2292658 2290658 2282658</a:t>
            </a:r>
            <a:endParaRPr b="0" lang="en-US" sz="1200" spc="-1" strike="noStrike">
              <a:solidFill>
                <a:srgbClr val="000000"/>
              </a:solidFill>
              <a:latin typeface="Arial"/>
            </a:endParaRPr>
          </a:p>
          <a:p>
            <a:pPr>
              <a:lnSpc>
                <a:spcPct val="100000"/>
              </a:lnSpc>
              <a:tabLst>
                <a:tab algn="l" pos="0"/>
              </a:tabLst>
            </a:pPr>
            <a:r>
              <a:rPr b="1" lang="zh-CN" sz="1200" spc="-1" strike="noStrike">
                <a:solidFill>
                  <a:srgbClr val="000000"/>
                </a:solidFill>
                <a:latin typeface="微软雅黑"/>
                <a:ea typeface="微软雅黑"/>
              </a:rPr>
              <a:t>传真：</a:t>
            </a:r>
            <a:r>
              <a:rPr b="0" lang="en-US" sz="1200" spc="-1" strike="noStrike">
                <a:solidFill>
                  <a:srgbClr val="000000"/>
                </a:solidFill>
                <a:latin typeface="微软雅黑"/>
                <a:ea typeface="微软雅黑"/>
              </a:rPr>
              <a:t>0756-2280658</a:t>
            </a:r>
            <a:endParaRPr b="0" lang="en-US" sz="1200" spc="-1" strike="noStrike">
              <a:solidFill>
                <a:srgbClr val="000000"/>
              </a:solidFill>
              <a:latin typeface="Arial"/>
            </a:endParaRPr>
          </a:p>
          <a:p>
            <a:pPr>
              <a:lnSpc>
                <a:spcPct val="100000"/>
              </a:lnSpc>
              <a:tabLst>
                <a:tab algn="l" pos="0"/>
              </a:tabLst>
            </a:pPr>
            <a:r>
              <a:rPr b="1" lang="zh-CN" sz="1200" spc="-1" strike="noStrike">
                <a:solidFill>
                  <a:srgbClr val="000000"/>
                </a:solidFill>
                <a:latin typeface="微软雅黑"/>
                <a:ea typeface="微软雅黑"/>
              </a:rPr>
              <a:t>地址：</a:t>
            </a:r>
            <a:r>
              <a:rPr b="0" lang="zh-CN" sz="1200" spc="-1" strike="noStrike">
                <a:solidFill>
                  <a:srgbClr val="000000"/>
                </a:solidFill>
                <a:latin typeface="微软雅黑"/>
                <a:ea typeface="微软雅黑"/>
              </a:rPr>
              <a:t>珠海市香洲区柠溪路</a:t>
            </a:r>
            <a:r>
              <a:rPr b="0" lang="en-US" sz="1200" spc="-1" strike="noStrike">
                <a:solidFill>
                  <a:srgbClr val="000000"/>
                </a:solidFill>
                <a:latin typeface="微软雅黑"/>
                <a:ea typeface="微软雅黑"/>
              </a:rPr>
              <a:t>338</a:t>
            </a:r>
            <a:r>
              <a:rPr b="0" lang="zh-CN" sz="1200" spc="-1" strike="noStrike">
                <a:solidFill>
                  <a:srgbClr val="000000"/>
                </a:solidFill>
                <a:latin typeface="微软雅黑"/>
                <a:ea typeface="微软雅黑"/>
              </a:rPr>
              <a:t>号太和商务中心</a:t>
            </a:r>
            <a:r>
              <a:rPr b="0" lang="en-US" sz="1200" spc="-1" strike="noStrike">
                <a:solidFill>
                  <a:srgbClr val="000000"/>
                </a:solidFill>
                <a:latin typeface="微软雅黑"/>
                <a:ea typeface="微软雅黑"/>
              </a:rPr>
              <a:t>16</a:t>
            </a:r>
            <a:r>
              <a:rPr b="0" lang="zh-CN" sz="1200" spc="-1" strike="noStrike">
                <a:solidFill>
                  <a:srgbClr val="000000"/>
                </a:solidFill>
                <a:latin typeface="微软雅黑"/>
                <a:ea typeface="微软雅黑"/>
              </a:rPr>
              <a:t>楼</a:t>
            </a:r>
            <a:r>
              <a:rPr b="0" lang="en-US" sz="1200" spc="-1" strike="noStrike">
                <a:solidFill>
                  <a:srgbClr val="000000"/>
                </a:solidFill>
                <a:latin typeface="微软雅黑"/>
                <a:ea typeface="微软雅黑"/>
              </a:rPr>
              <a:t>F</a:t>
            </a:r>
            <a:r>
              <a:rPr b="0" lang="zh-CN" sz="1200" spc="-1" strike="noStrike">
                <a:solidFill>
                  <a:srgbClr val="000000"/>
                </a:solidFill>
                <a:latin typeface="微软雅黑"/>
                <a:ea typeface="微软雅黑"/>
              </a:rPr>
              <a:t>座</a:t>
            </a:r>
            <a:endParaRPr b="0" lang="en-US" sz="1200" spc="-1" strike="noStrike">
              <a:solidFill>
                <a:srgbClr val="000000"/>
              </a:solidFill>
              <a:latin typeface="Arial"/>
            </a:endParaRPr>
          </a:p>
          <a:p>
            <a:pPr>
              <a:lnSpc>
                <a:spcPct val="100000"/>
              </a:lnSpc>
              <a:tabLst>
                <a:tab algn="l" pos="0"/>
              </a:tabLst>
            </a:pPr>
            <a:r>
              <a:rPr b="1" lang="zh-CN" sz="1200" spc="-1" strike="noStrike">
                <a:solidFill>
                  <a:srgbClr val="000000"/>
                </a:solidFill>
                <a:latin typeface="微软雅黑"/>
                <a:ea typeface="微软雅黑"/>
              </a:rPr>
              <a:t>网站：</a:t>
            </a:r>
            <a:r>
              <a:rPr b="0" lang="en-US" sz="1200" spc="-1" strike="noStrike">
                <a:solidFill>
                  <a:srgbClr val="000000"/>
                </a:solidFill>
                <a:latin typeface="微软雅黑"/>
                <a:ea typeface="微软雅黑"/>
              </a:rPr>
              <a:t>www.jinlingzixun.com</a:t>
            </a:r>
            <a:endParaRPr b="0" lang="en-US" sz="1200" spc="-1" strike="noStrike">
              <a:solidFill>
                <a:srgbClr val="000000"/>
              </a:solidFill>
              <a:latin typeface="Arial"/>
            </a:endParaRPr>
          </a:p>
        </p:txBody>
      </p:sp>
      <p:grpSp>
        <p:nvGrpSpPr>
          <p:cNvPr id="642" name="Group 3"/>
          <p:cNvGrpSpPr/>
          <p:nvPr/>
        </p:nvGrpSpPr>
        <p:grpSpPr>
          <a:xfrm>
            <a:off x="482040" y="454320"/>
            <a:ext cx="2521440" cy="1076040"/>
            <a:chOff x="482040" y="454320"/>
            <a:chExt cx="2521440" cy="1076040"/>
          </a:xfrm>
        </p:grpSpPr>
        <p:grpSp>
          <p:nvGrpSpPr>
            <p:cNvPr id="643" name="Group 4"/>
            <p:cNvGrpSpPr/>
            <p:nvPr/>
          </p:nvGrpSpPr>
          <p:grpSpPr>
            <a:xfrm>
              <a:off x="483120" y="1285920"/>
              <a:ext cx="2520360" cy="244440"/>
              <a:chOff x="483120" y="1285920"/>
              <a:chExt cx="2520360" cy="244440"/>
            </a:xfrm>
          </p:grpSpPr>
          <p:sp>
            <p:nvSpPr>
              <p:cNvPr id="644" name="Freeform 11"/>
              <p:cNvSpPr/>
              <p:nvPr/>
            </p:nvSpPr>
            <p:spPr>
              <a:xfrm>
                <a:off x="483120" y="1291680"/>
                <a:ext cx="182160" cy="158040"/>
              </a:xfrm>
              <a:custGeom>
                <a:avLst/>
                <a:gdLst>
                  <a:gd name="textAreaLeft" fmla="*/ 0 w 182160"/>
                  <a:gd name="textAreaRight" fmla="*/ 182520 w 182160"/>
                  <a:gd name="textAreaTop" fmla="*/ 0 h 158040"/>
                  <a:gd name="textAreaBottom" fmla="*/ 158400 h 158040"/>
                </a:gdLst>
                <a:ahLst/>
                <a:rect l="textAreaLeft" t="textAreaTop" r="textAreaRight" b="textAreaBottom"/>
                <a:pathLst>
                  <a:path w="1227" h="1136">
                    <a:moveTo>
                      <a:pt x="540" y="176"/>
                    </a:moveTo>
                    <a:lnTo>
                      <a:pt x="551" y="181"/>
                    </a:lnTo>
                    <a:lnTo>
                      <a:pt x="562" y="188"/>
                    </a:lnTo>
                    <a:lnTo>
                      <a:pt x="573" y="193"/>
                    </a:lnTo>
                    <a:lnTo>
                      <a:pt x="585" y="198"/>
                    </a:lnTo>
                    <a:lnTo>
                      <a:pt x="611" y="208"/>
                    </a:lnTo>
                    <a:lnTo>
                      <a:pt x="640" y="215"/>
                    </a:lnTo>
                    <a:lnTo>
                      <a:pt x="635" y="224"/>
                    </a:lnTo>
                    <a:lnTo>
                      <a:pt x="628" y="231"/>
                    </a:lnTo>
                    <a:lnTo>
                      <a:pt x="623" y="240"/>
                    </a:lnTo>
                    <a:lnTo>
                      <a:pt x="619" y="248"/>
                    </a:lnTo>
                    <a:lnTo>
                      <a:pt x="615" y="257"/>
                    </a:lnTo>
                    <a:lnTo>
                      <a:pt x="611" y="266"/>
                    </a:lnTo>
                    <a:lnTo>
                      <a:pt x="608" y="276"/>
                    </a:lnTo>
                    <a:lnTo>
                      <a:pt x="605" y="285"/>
                    </a:lnTo>
                    <a:lnTo>
                      <a:pt x="604" y="293"/>
                    </a:lnTo>
                    <a:lnTo>
                      <a:pt x="603" y="301"/>
                    </a:lnTo>
                    <a:lnTo>
                      <a:pt x="600" y="309"/>
                    </a:lnTo>
                    <a:lnTo>
                      <a:pt x="596" y="316"/>
                    </a:lnTo>
                    <a:lnTo>
                      <a:pt x="615" y="313"/>
                    </a:lnTo>
                    <a:lnTo>
                      <a:pt x="637" y="309"/>
                    </a:lnTo>
                    <a:lnTo>
                      <a:pt x="662" y="302"/>
                    </a:lnTo>
                    <a:lnTo>
                      <a:pt x="690" y="296"/>
                    </a:lnTo>
                    <a:lnTo>
                      <a:pt x="702" y="292"/>
                    </a:lnTo>
                    <a:lnTo>
                      <a:pt x="710" y="291"/>
                    </a:lnTo>
                    <a:lnTo>
                      <a:pt x="710" y="243"/>
                    </a:lnTo>
                    <a:lnTo>
                      <a:pt x="708" y="197"/>
                    </a:lnTo>
                    <a:lnTo>
                      <a:pt x="705" y="156"/>
                    </a:lnTo>
                    <a:lnTo>
                      <a:pt x="700" y="118"/>
                    </a:lnTo>
                    <a:lnTo>
                      <a:pt x="695" y="84"/>
                    </a:lnTo>
                    <a:lnTo>
                      <a:pt x="688" y="52"/>
                    </a:lnTo>
                    <a:lnTo>
                      <a:pt x="683" y="38"/>
                    </a:lnTo>
                    <a:lnTo>
                      <a:pt x="679" y="25"/>
                    </a:lnTo>
                    <a:lnTo>
                      <a:pt x="675" y="12"/>
                    </a:lnTo>
                    <a:lnTo>
                      <a:pt x="671" y="0"/>
                    </a:lnTo>
                    <a:lnTo>
                      <a:pt x="688" y="7"/>
                    </a:lnTo>
                    <a:lnTo>
                      <a:pt x="705" y="11"/>
                    </a:lnTo>
                    <a:lnTo>
                      <a:pt x="722" y="15"/>
                    </a:lnTo>
                    <a:lnTo>
                      <a:pt x="739" y="18"/>
                    </a:lnTo>
                    <a:lnTo>
                      <a:pt x="755" y="20"/>
                    </a:lnTo>
                    <a:lnTo>
                      <a:pt x="772" y="21"/>
                    </a:lnTo>
                    <a:lnTo>
                      <a:pt x="789" y="21"/>
                    </a:lnTo>
                    <a:lnTo>
                      <a:pt x="805" y="20"/>
                    </a:lnTo>
                    <a:lnTo>
                      <a:pt x="800" y="44"/>
                    </a:lnTo>
                    <a:lnTo>
                      <a:pt x="795" y="70"/>
                    </a:lnTo>
                    <a:lnTo>
                      <a:pt x="790" y="99"/>
                    </a:lnTo>
                    <a:lnTo>
                      <a:pt x="786" y="129"/>
                    </a:lnTo>
                    <a:lnTo>
                      <a:pt x="784" y="162"/>
                    </a:lnTo>
                    <a:lnTo>
                      <a:pt x="782" y="198"/>
                    </a:lnTo>
                    <a:lnTo>
                      <a:pt x="781" y="235"/>
                    </a:lnTo>
                    <a:lnTo>
                      <a:pt x="780" y="276"/>
                    </a:lnTo>
                    <a:lnTo>
                      <a:pt x="811" y="268"/>
                    </a:lnTo>
                    <a:lnTo>
                      <a:pt x="841" y="261"/>
                    </a:lnTo>
                    <a:lnTo>
                      <a:pt x="873" y="253"/>
                    </a:lnTo>
                    <a:lnTo>
                      <a:pt x="906" y="246"/>
                    </a:lnTo>
                    <a:lnTo>
                      <a:pt x="913" y="244"/>
                    </a:lnTo>
                    <a:lnTo>
                      <a:pt x="921" y="244"/>
                    </a:lnTo>
                    <a:lnTo>
                      <a:pt x="928" y="247"/>
                    </a:lnTo>
                    <a:lnTo>
                      <a:pt x="936" y="250"/>
                    </a:lnTo>
                    <a:lnTo>
                      <a:pt x="936" y="249"/>
                    </a:lnTo>
                    <a:lnTo>
                      <a:pt x="937" y="248"/>
                    </a:lnTo>
                    <a:lnTo>
                      <a:pt x="938" y="249"/>
                    </a:lnTo>
                    <a:lnTo>
                      <a:pt x="941" y="250"/>
                    </a:lnTo>
                    <a:lnTo>
                      <a:pt x="945" y="257"/>
                    </a:lnTo>
                    <a:lnTo>
                      <a:pt x="950" y="266"/>
                    </a:lnTo>
                    <a:lnTo>
                      <a:pt x="960" y="276"/>
                    </a:lnTo>
                    <a:lnTo>
                      <a:pt x="966" y="284"/>
                    </a:lnTo>
                    <a:lnTo>
                      <a:pt x="972" y="293"/>
                    </a:lnTo>
                    <a:lnTo>
                      <a:pt x="976" y="301"/>
                    </a:lnTo>
                    <a:lnTo>
                      <a:pt x="979" y="305"/>
                    </a:lnTo>
                    <a:lnTo>
                      <a:pt x="981" y="309"/>
                    </a:lnTo>
                    <a:lnTo>
                      <a:pt x="982" y="310"/>
                    </a:lnTo>
                    <a:lnTo>
                      <a:pt x="982" y="311"/>
                    </a:lnTo>
                    <a:lnTo>
                      <a:pt x="981" y="311"/>
                    </a:lnTo>
                    <a:lnTo>
                      <a:pt x="980" y="311"/>
                    </a:lnTo>
                    <a:lnTo>
                      <a:pt x="979" y="313"/>
                    </a:lnTo>
                    <a:lnTo>
                      <a:pt x="977" y="315"/>
                    </a:lnTo>
                    <a:lnTo>
                      <a:pt x="972" y="315"/>
                    </a:lnTo>
                    <a:lnTo>
                      <a:pt x="965" y="316"/>
                    </a:lnTo>
                    <a:lnTo>
                      <a:pt x="943" y="321"/>
                    </a:lnTo>
                    <a:lnTo>
                      <a:pt x="915" y="327"/>
                    </a:lnTo>
                    <a:lnTo>
                      <a:pt x="883" y="334"/>
                    </a:lnTo>
                    <a:lnTo>
                      <a:pt x="845" y="340"/>
                    </a:lnTo>
                    <a:lnTo>
                      <a:pt x="824" y="343"/>
                    </a:lnTo>
                    <a:lnTo>
                      <a:pt x="806" y="346"/>
                    </a:lnTo>
                    <a:lnTo>
                      <a:pt x="791" y="348"/>
                    </a:lnTo>
                    <a:lnTo>
                      <a:pt x="780" y="351"/>
                    </a:lnTo>
                    <a:lnTo>
                      <a:pt x="780" y="384"/>
                    </a:lnTo>
                    <a:lnTo>
                      <a:pt x="780" y="417"/>
                    </a:lnTo>
                    <a:lnTo>
                      <a:pt x="780" y="452"/>
                    </a:lnTo>
                    <a:lnTo>
                      <a:pt x="780" y="486"/>
                    </a:lnTo>
                    <a:lnTo>
                      <a:pt x="806" y="480"/>
                    </a:lnTo>
                    <a:lnTo>
                      <a:pt x="834" y="474"/>
                    </a:lnTo>
                    <a:lnTo>
                      <a:pt x="860" y="467"/>
                    </a:lnTo>
                    <a:lnTo>
                      <a:pt x="888" y="462"/>
                    </a:lnTo>
                    <a:lnTo>
                      <a:pt x="915" y="457"/>
                    </a:lnTo>
                    <a:lnTo>
                      <a:pt x="943" y="452"/>
                    </a:lnTo>
                    <a:lnTo>
                      <a:pt x="972" y="446"/>
                    </a:lnTo>
                    <a:lnTo>
                      <a:pt x="1000" y="441"/>
                    </a:lnTo>
                    <a:lnTo>
                      <a:pt x="1005" y="440"/>
                    </a:lnTo>
                    <a:lnTo>
                      <a:pt x="1011" y="440"/>
                    </a:lnTo>
                    <a:lnTo>
                      <a:pt x="1015" y="440"/>
                    </a:lnTo>
                    <a:lnTo>
                      <a:pt x="1020" y="441"/>
                    </a:lnTo>
                    <a:lnTo>
                      <a:pt x="1026" y="442"/>
                    </a:lnTo>
                    <a:lnTo>
                      <a:pt x="1031" y="444"/>
                    </a:lnTo>
                    <a:lnTo>
                      <a:pt x="1035" y="447"/>
                    </a:lnTo>
                    <a:lnTo>
                      <a:pt x="1040" y="451"/>
                    </a:lnTo>
                    <a:lnTo>
                      <a:pt x="1047" y="458"/>
                    </a:lnTo>
                    <a:lnTo>
                      <a:pt x="1055" y="471"/>
                    </a:lnTo>
                    <a:lnTo>
                      <a:pt x="1068" y="491"/>
                    </a:lnTo>
                    <a:lnTo>
                      <a:pt x="1075" y="500"/>
                    </a:lnTo>
                    <a:lnTo>
                      <a:pt x="1080" y="508"/>
                    </a:lnTo>
                    <a:lnTo>
                      <a:pt x="1082" y="513"/>
                    </a:lnTo>
                    <a:lnTo>
                      <a:pt x="1082" y="517"/>
                    </a:lnTo>
                    <a:lnTo>
                      <a:pt x="1081" y="520"/>
                    </a:lnTo>
                    <a:lnTo>
                      <a:pt x="1080" y="523"/>
                    </a:lnTo>
                    <a:lnTo>
                      <a:pt x="1076" y="525"/>
                    </a:lnTo>
                    <a:lnTo>
                      <a:pt x="1072" y="526"/>
                    </a:lnTo>
                    <a:lnTo>
                      <a:pt x="1066" y="526"/>
                    </a:lnTo>
                    <a:lnTo>
                      <a:pt x="1049" y="526"/>
                    </a:lnTo>
                    <a:lnTo>
                      <a:pt x="1031" y="527"/>
                    </a:lnTo>
                    <a:lnTo>
                      <a:pt x="1011" y="528"/>
                    </a:lnTo>
                    <a:lnTo>
                      <a:pt x="987" y="530"/>
                    </a:lnTo>
                    <a:lnTo>
                      <a:pt x="963" y="532"/>
                    </a:lnTo>
                    <a:lnTo>
                      <a:pt x="936" y="534"/>
                    </a:lnTo>
                    <a:lnTo>
                      <a:pt x="907" y="537"/>
                    </a:lnTo>
                    <a:lnTo>
                      <a:pt x="875" y="541"/>
                    </a:lnTo>
                    <a:lnTo>
                      <a:pt x="850" y="544"/>
                    </a:lnTo>
                    <a:lnTo>
                      <a:pt x="827" y="546"/>
                    </a:lnTo>
                    <a:lnTo>
                      <a:pt x="809" y="548"/>
                    </a:lnTo>
                    <a:lnTo>
                      <a:pt x="796" y="551"/>
                    </a:lnTo>
                    <a:lnTo>
                      <a:pt x="812" y="568"/>
                    </a:lnTo>
                    <a:lnTo>
                      <a:pt x="831" y="588"/>
                    </a:lnTo>
                    <a:lnTo>
                      <a:pt x="852" y="613"/>
                    </a:lnTo>
                    <a:lnTo>
                      <a:pt x="875" y="641"/>
                    </a:lnTo>
                    <a:lnTo>
                      <a:pt x="902" y="671"/>
                    </a:lnTo>
                    <a:lnTo>
                      <a:pt x="927" y="696"/>
                    </a:lnTo>
                    <a:lnTo>
                      <a:pt x="950" y="720"/>
                    </a:lnTo>
                    <a:lnTo>
                      <a:pt x="972" y="740"/>
                    </a:lnTo>
                    <a:lnTo>
                      <a:pt x="992" y="757"/>
                    </a:lnTo>
                    <a:lnTo>
                      <a:pt x="1010" y="770"/>
                    </a:lnTo>
                    <a:lnTo>
                      <a:pt x="1018" y="775"/>
                    </a:lnTo>
                    <a:lnTo>
                      <a:pt x="1026" y="779"/>
                    </a:lnTo>
                    <a:lnTo>
                      <a:pt x="1033" y="783"/>
                    </a:lnTo>
                    <a:lnTo>
                      <a:pt x="1040" y="786"/>
                    </a:lnTo>
                    <a:lnTo>
                      <a:pt x="1064" y="797"/>
                    </a:lnTo>
                    <a:lnTo>
                      <a:pt x="1087" y="809"/>
                    </a:lnTo>
                    <a:lnTo>
                      <a:pt x="1109" y="821"/>
                    </a:lnTo>
                    <a:lnTo>
                      <a:pt x="1130" y="834"/>
                    </a:lnTo>
                    <a:lnTo>
                      <a:pt x="1152" y="846"/>
                    </a:lnTo>
                    <a:lnTo>
                      <a:pt x="1172" y="860"/>
                    </a:lnTo>
                    <a:lnTo>
                      <a:pt x="1191" y="872"/>
                    </a:lnTo>
                    <a:lnTo>
                      <a:pt x="1210" y="886"/>
                    </a:lnTo>
                    <a:lnTo>
                      <a:pt x="1218" y="896"/>
                    </a:lnTo>
                    <a:lnTo>
                      <a:pt x="1224" y="904"/>
                    </a:lnTo>
                    <a:lnTo>
                      <a:pt x="1226" y="907"/>
                    </a:lnTo>
                    <a:lnTo>
                      <a:pt x="1227" y="910"/>
                    </a:lnTo>
                    <a:lnTo>
                      <a:pt x="1227" y="914"/>
                    </a:lnTo>
                    <a:lnTo>
                      <a:pt x="1226" y="916"/>
                    </a:lnTo>
                    <a:lnTo>
                      <a:pt x="1225" y="919"/>
                    </a:lnTo>
                    <a:lnTo>
                      <a:pt x="1224" y="921"/>
                    </a:lnTo>
                    <a:lnTo>
                      <a:pt x="1221" y="922"/>
                    </a:lnTo>
                    <a:lnTo>
                      <a:pt x="1219" y="923"/>
                    </a:lnTo>
                    <a:lnTo>
                      <a:pt x="1211" y="925"/>
                    </a:lnTo>
                    <a:lnTo>
                      <a:pt x="1200" y="926"/>
                    </a:lnTo>
                    <a:lnTo>
                      <a:pt x="1152" y="927"/>
                    </a:lnTo>
                    <a:lnTo>
                      <a:pt x="1109" y="927"/>
                    </a:lnTo>
                    <a:lnTo>
                      <a:pt x="1089" y="927"/>
                    </a:lnTo>
                    <a:lnTo>
                      <a:pt x="1071" y="926"/>
                    </a:lnTo>
                    <a:lnTo>
                      <a:pt x="1054" y="924"/>
                    </a:lnTo>
                    <a:lnTo>
                      <a:pt x="1039" y="922"/>
                    </a:lnTo>
                    <a:lnTo>
                      <a:pt x="1026" y="920"/>
                    </a:lnTo>
                    <a:lnTo>
                      <a:pt x="1013" y="917"/>
                    </a:lnTo>
                    <a:lnTo>
                      <a:pt x="1001" y="914"/>
                    </a:lnTo>
                    <a:lnTo>
                      <a:pt x="992" y="910"/>
                    </a:lnTo>
                    <a:lnTo>
                      <a:pt x="983" y="906"/>
                    </a:lnTo>
                    <a:lnTo>
                      <a:pt x="976" y="902"/>
                    </a:lnTo>
                    <a:lnTo>
                      <a:pt x="969" y="897"/>
                    </a:lnTo>
                    <a:lnTo>
                      <a:pt x="965" y="891"/>
                    </a:lnTo>
                    <a:lnTo>
                      <a:pt x="946" y="867"/>
                    </a:lnTo>
                    <a:lnTo>
                      <a:pt x="922" y="833"/>
                    </a:lnTo>
                    <a:lnTo>
                      <a:pt x="893" y="792"/>
                    </a:lnTo>
                    <a:lnTo>
                      <a:pt x="860" y="741"/>
                    </a:lnTo>
                    <a:lnTo>
                      <a:pt x="839" y="704"/>
                    </a:lnTo>
                    <a:lnTo>
                      <a:pt x="819" y="671"/>
                    </a:lnTo>
                    <a:lnTo>
                      <a:pt x="801" y="643"/>
                    </a:lnTo>
                    <a:lnTo>
                      <a:pt x="785" y="621"/>
                    </a:lnTo>
                    <a:lnTo>
                      <a:pt x="785" y="636"/>
                    </a:lnTo>
                    <a:lnTo>
                      <a:pt x="785" y="652"/>
                    </a:lnTo>
                    <a:lnTo>
                      <a:pt x="785" y="671"/>
                    </a:lnTo>
                    <a:lnTo>
                      <a:pt x="785" y="691"/>
                    </a:lnTo>
                    <a:lnTo>
                      <a:pt x="785" y="713"/>
                    </a:lnTo>
                    <a:lnTo>
                      <a:pt x="785" y="738"/>
                    </a:lnTo>
                    <a:lnTo>
                      <a:pt x="785" y="763"/>
                    </a:lnTo>
                    <a:lnTo>
                      <a:pt x="785" y="791"/>
                    </a:lnTo>
                    <a:lnTo>
                      <a:pt x="786" y="820"/>
                    </a:lnTo>
                    <a:lnTo>
                      <a:pt x="787" y="848"/>
                    </a:lnTo>
                    <a:lnTo>
                      <a:pt x="788" y="873"/>
                    </a:lnTo>
                    <a:lnTo>
                      <a:pt x="789" y="898"/>
                    </a:lnTo>
                    <a:lnTo>
                      <a:pt x="789" y="920"/>
                    </a:lnTo>
                    <a:lnTo>
                      <a:pt x="790" y="940"/>
                    </a:lnTo>
                    <a:lnTo>
                      <a:pt x="790" y="959"/>
                    </a:lnTo>
                    <a:lnTo>
                      <a:pt x="790" y="976"/>
                    </a:lnTo>
                    <a:lnTo>
                      <a:pt x="793" y="1015"/>
                    </a:lnTo>
                    <a:lnTo>
                      <a:pt x="794" y="1048"/>
                    </a:lnTo>
                    <a:lnTo>
                      <a:pt x="795" y="1076"/>
                    </a:lnTo>
                    <a:lnTo>
                      <a:pt x="794" y="1099"/>
                    </a:lnTo>
                    <a:lnTo>
                      <a:pt x="793" y="1116"/>
                    </a:lnTo>
                    <a:lnTo>
                      <a:pt x="791" y="1128"/>
                    </a:lnTo>
                    <a:lnTo>
                      <a:pt x="790" y="1132"/>
                    </a:lnTo>
                    <a:lnTo>
                      <a:pt x="788" y="1135"/>
                    </a:lnTo>
                    <a:lnTo>
                      <a:pt x="787" y="1136"/>
                    </a:lnTo>
                    <a:lnTo>
                      <a:pt x="785" y="1136"/>
                    </a:lnTo>
                    <a:lnTo>
                      <a:pt x="770" y="1128"/>
                    </a:lnTo>
                    <a:lnTo>
                      <a:pt x="755" y="1118"/>
                    </a:lnTo>
                    <a:lnTo>
                      <a:pt x="741" y="1108"/>
                    </a:lnTo>
                    <a:lnTo>
                      <a:pt x="727" y="1095"/>
                    </a:lnTo>
                    <a:lnTo>
                      <a:pt x="712" y="1081"/>
                    </a:lnTo>
                    <a:lnTo>
                      <a:pt x="698" y="1066"/>
                    </a:lnTo>
                    <a:lnTo>
                      <a:pt x="684" y="1049"/>
                    </a:lnTo>
                    <a:lnTo>
                      <a:pt x="671" y="1031"/>
                    </a:lnTo>
                    <a:lnTo>
                      <a:pt x="675" y="1026"/>
                    </a:lnTo>
                    <a:lnTo>
                      <a:pt x="678" y="1019"/>
                    </a:lnTo>
                    <a:lnTo>
                      <a:pt x="682" y="1008"/>
                    </a:lnTo>
                    <a:lnTo>
                      <a:pt x="686" y="994"/>
                    </a:lnTo>
                    <a:lnTo>
                      <a:pt x="689" y="978"/>
                    </a:lnTo>
                    <a:lnTo>
                      <a:pt x="692" y="959"/>
                    </a:lnTo>
                    <a:lnTo>
                      <a:pt x="694" y="938"/>
                    </a:lnTo>
                    <a:lnTo>
                      <a:pt x="696" y="914"/>
                    </a:lnTo>
                    <a:lnTo>
                      <a:pt x="700" y="857"/>
                    </a:lnTo>
                    <a:lnTo>
                      <a:pt x="702" y="790"/>
                    </a:lnTo>
                    <a:lnTo>
                      <a:pt x="705" y="710"/>
                    </a:lnTo>
                    <a:lnTo>
                      <a:pt x="706" y="621"/>
                    </a:lnTo>
                    <a:lnTo>
                      <a:pt x="680" y="666"/>
                    </a:lnTo>
                    <a:lnTo>
                      <a:pt x="655" y="709"/>
                    </a:lnTo>
                    <a:lnTo>
                      <a:pt x="629" y="749"/>
                    </a:lnTo>
                    <a:lnTo>
                      <a:pt x="604" y="788"/>
                    </a:lnTo>
                    <a:lnTo>
                      <a:pt x="579" y="824"/>
                    </a:lnTo>
                    <a:lnTo>
                      <a:pt x="552" y="856"/>
                    </a:lnTo>
                    <a:lnTo>
                      <a:pt x="527" y="887"/>
                    </a:lnTo>
                    <a:lnTo>
                      <a:pt x="500" y="916"/>
                    </a:lnTo>
                    <a:lnTo>
                      <a:pt x="487" y="926"/>
                    </a:lnTo>
                    <a:lnTo>
                      <a:pt x="475" y="935"/>
                    </a:lnTo>
                    <a:lnTo>
                      <a:pt x="462" y="943"/>
                    </a:lnTo>
                    <a:lnTo>
                      <a:pt x="449" y="950"/>
                    </a:lnTo>
                    <a:lnTo>
                      <a:pt x="437" y="955"/>
                    </a:lnTo>
                    <a:lnTo>
                      <a:pt x="423" y="959"/>
                    </a:lnTo>
                    <a:lnTo>
                      <a:pt x="410" y="962"/>
                    </a:lnTo>
                    <a:lnTo>
                      <a:pt x="396" y="963"/>
                    </a:lnTo>
                    <a:lnTo>
                      <a:pt x="383" y="964"/>
                    </a:lnTo>
                    <a:lnTo>
                      <a:pt x="369" y="963"/>
                    </a:lnTo>
                    <a:lnTo>
                      <a:pt x="355" y="962"/>
                    </a:lnTo>
                    <a:lnTo>
                      <a:pt x="341" y="959"/>
                    </a:lnTo>
                    <a:lnTo>
                      <a:pt x="328" y="955"/>
                    </a:lnTo>
                    <a:lnTo>
                      <a:pt x="314" y="950"/>
                    </a:lnTo>
                    <a:lnTo>
                      <a:pt x="299" y="943"/>
                    </a:lnTo>
                    <a:lnTo>
                      <a:pt x="285" y="936"/>
                    </a:lnTo>
                    <a:lnTo>
                      <a:pt x="308" y="925"/>
                    </a:lnTo>
                    <a:lnTo>
                      <a:pt x="333" y="912"/>
                    </a:lnTo>
                    <a:lnTo>
                      <a:pt x="356" y="898"/>
                    </a:lnTo>
                    <a:lnTo>
                      <a:pt x="379" y="882"/>
                    </a:lnTo>
                    <a:lnTo>
                      <a:pt x="403" y="865"/>
                    </a:lnTo>
                    <a:lnTo>
                      <a:pt x="426" y="847"/>
                    </a:lnTo>
                    <a:lnTo>
                      <a:pt x="449" y="827"/>
                    </a:lnTo>
                    <a:lnTo>
                      <a:pt x="473" y="804"/>
                    </a:lnTo>
                    <a:lnTo>
                      <a:pt x="496" y="782"/>
                    </a:lnTo>
                    <a:lnTo>
                      <a:pt x="518" y="758"/>
                    </a:lnTo>
                    <a:lnTo>
                      <a:pt x="541" y="731"/>
                    </a:lnTo>
                    <a:lnTo>
                      <a:pt x="565" y="705"/>
                    </a:lnTo>
                    <a:lnTo>
                      <a:pt x="587" y="676"/>
                    </a:lnTo>
                    <a:lnTo>
                      <a:pt x="610" y="646"/>
                    </a:lnTo>
                    <a:lnTo>
                      <a:pt x="633" y="614"/>
                    </a:lnTo>
                    <a:lnTo>
                      <a:pt x="655" y="581"/>
                    </a:lnTo>
                    <a:lnTo>
                      <a:pt x="623" y="586"/>
                    </a:lnTo>
                    <a:lnTo>
                      <a:pt x="591" y="593"/>
                    </a:lnTo>
                    <a:lnTo>
                      <a:pt x="561" y="599"/>
                    </a:lnTo>
                    <a:lnTo>
                      <a:pt x="530" y="606"/>
                    </a:lnTo>
                    <a:lnTo>
                      <a:pt x="516" y="605"/>
                    </a:lnTo>
                    <a:lnTo>
                      <a:pt x="502" y="603"/>
                    </a:lnTo>
                    <a:lnTo>
                      <a:pt x="491" y="600"/>
                    </a:lnTo>
                    <a:lnTo>
                      <a:pt x="480" y="596"/>
                    </a:lnTo>
                    <a:lnTo>
                      <a:pt x="475" y="591"/>
                    </a:lnTo>
                    <a:lnTo>
                      <a:pt x="466" y="585"/>
                    </a:lnTo>
                    <a:lnTo>
                      <a:pt x="457" y="575"/>
                    </a:lnTo>
                    <a:lnTo>
                      <a:pt x="445" y="561"/>
                    </a:lnTo>
                    <a:lnTo>
                      <a:pt x="437" y="552"/>
                    </a:lnTo>
                    <a:lnTo>
                      <a:pt x="430" y="546"/>
                    </a:lnTo>
                    <a:lnTo>
                      <a:pt x="448" y="545"/>
                    </a:lnTo>
                    <a:lnTo>
                      <a:pt x="468" y="542"/>
                    </a:lnTo>
                    <a:lnTo>
                      <a:pt x="491" y="540"/>
                    </a:lnTo>
                    <a:lnTo>
                      <a:pt x="515" y="536"/>
                    </a:lnTo>
                    <a:lnTo>
                      <a:pt x="541" y="532"/>
                    </a:lnTo>
                    <a:lnTo>
                      <a:pt x="569" y="527"/>
                    </a:lnTo>
                    <a:lnTo>
                      <a:pt x="599" y="522"/>
                    </a:lnTo>
                    <a:lnTo>
                      <a:pt x="630" y="516"/>
                    </a:lnTo>
                    <a:lnTo>
                      <a:pt x="656" y="511"/>
                    </a:lnTo>
                    <a:lnTo>
                      <a:pt x="678" y="507"/>
                    </a:lnTo>
                    <a:lnTo>
                      <a:pt x="696" y="504"/>
                    </a:lnTo>
                    <a:lnTo>
                      <a:pt x="710" y="500"/>
                    </a:lnTo>
                    <a:lnTo>
                      <a:pt x="710" y="360"/>
                    </a:lnTo>
                    <a:lnTo>
                      <a:pt x="677" y="367"/>
                    </a:lnTo>
                    <a:lnTo>
                      <a:pt x="652" y="372"/>
                    </a:lnTo>
                    <a:lnTo>
                      <a:pt x="635" y="375"/>
                    </a:lnTo>
                    <a:lnTo>
                      <a:pt x="625" y="375"/>
                    </a:lnTo>
                    <a:lnTo>
                      <a:pt x="621" y="375"/>
                    </a:lnTo>
                    <a:lnTo>
                      <a:pt x="617" y="374"/>
                    </a:lnTo>
                    <a:lnTo>
                      <a:pt x="612" y="372"/>
                    </a:lnTo>
                    <a:lnTo>
                      <a:pt x="607" y="369"/>
                    </a:lnTo>
                    <a:lnTo>
                      <a:pt x="597" y="362"/>
                    </a:lnTo>
                    <a:lnTo>
                      <a:pt x="585" y="351"/>
                    </a:lnTo>
                    <a:lnTo>
                      <a:pt x="582" y="366"/>
                    </a:lnTo>
                    <a:lnTo>
                      <a:pt x="576" y="382"/>
                    </a:lnTo>
                    <a:lnTo>
                      <a:pt x="569" y="399"/>
                    </a:lnTo>
                    <a:lnTo>
                      <a:pt x="561" y="416"/>
                    </a:lnTo>
                    <a:lnTo>
                      <a:pt x="557" y="425"/>
                    </a:lnTo>
                    <a:lnTo>
                      <a:pt x="555" y="433"/>
                    </a:lnTo>
                    <a:lnTo>
                      <a:pt x="553" y="438"/>
                    </a:lnTo>
                    <a:lnTo>
                      <a:pt x="550" y="441"/>
                    </a:lnTo>
                    <a:lnTo>
                      <a:pt x="546" y="448"/>
                    </a:lnTo>
                    <a:lnTo>
                      <a:pt x="540" y="455"/>
                    </a:lnTo>
                    <a:lnTo>
                      <a:pt x="535" y="460"/>
                    </a:lnTo>
                    <a:lnTo>
                      <a:pt x="529" y="465"/>
                    </a:lnTo>
                    <a:lnTo>
                      <a:pt x="522" y="471"/>
                    </a:lnTo>
                    <a:lnTo>
                      <a:pt x="515" y="475"/>
                    </a:lnTo>
                    <a:lnTo>
                      <a:pt x="507" y="478"/>
                    </a:lnTo>
                    <a:lnTo>
                      <a:pt x="499" y="481"/>
                    </a:lnTo>
                    <a:lnTo>
                      <a:pt x="491" y="483"/>
                    </a:lnTo>
                    <a:lnTo>
                      <a:pt x="481" y="484"/>
                    </a:lnTo>
                    <a:lnTo>
                      <a:pt x="472" y="486"/>
                    </a:lnTo>
                    <a:lnTo>
                      <a:pt x="461" y="486"/>
                    </a:lnTo>
                    <a:lnTo>
                      <a:pt x="450" y="486"/>
                    </a:lnTo>
                    <a:lnTo>
                      <a:pt x="439" y="484"/>
                    </a:lnTo>
                    <a:lnTo>
                      <a:pt x="427" y="483"/>
                    </a:lnTo>
                    <a:lnTo>
                      <a:pt x="415" y="480"/>
                    </a:lnTo>
                    <a:lnTo>
                      <a:pt x="430" y="466"/>
                    </a:lnTo>
                    <a:lnTo>
                      <a:pt x="444" y="452"/>
                    </a:lnTo>
                    <a:lnTo>
                      <a:pt x="458" y="437"/>
                    </a:lnTo>
                    <a:lnTo>
                      <a:pt x="469" y="421"/>
                    </a:lnTo>
                    <a:lnTo>
                      <a:pt x="481" y="404"/>
                    </a:lnTo>
                    <a:lnTo>
                      <a:pt x="492" y="386"/>
                    </a:lnTo>
                    <a:lnTo>
                      <a:pt x="500" y="368"/>
                    </a:lnTo>
                    <a:lnTo>
                      <a:pt x="509" y="350"/>
                    </a:lnTo>
                    <a:lnTo>
                      <a:pt x="516" y="330"/>
                    </a:lnTo>
                    <a:lnTo>
                      <a:pt x="522" y="310"/>
                    </a:lnTo>
                    <a:lnTo>
                      <a:pt x="528" y="289"/>
                    </a:lnTo>
                    <a:lnTo>
                      <a:pt x="532" y="268"/>
                    </a:lnTo>
                    <a:lnTo>
                      <a:pt x="536" y="246"/>
                    </a:lnTo>
                    <a:lnTo>
                      <a:pt x="538" y="223"/>
                    </a:lnTo>
                    <a:lnTo>
                      <a:pt x="539" y="199"/>
                    </a:lnTo>
                    <a:lnTo>
                      <a:pt x="540" y="176"/>
                    </a:lnTo>
                    <a:close/>
                    <a:moveTo>
                      <a:pt x="436" y="520"/>
                    </a:moveTo>
                    <a:lnTo>
                      <a:pt x="399" y="528"/>
                    </a:lnTo>
                    <a:lnTo>
                      <a:pt x="361" y="536"/>
                    </a:lnTo>
                    <a:lnTo>
                      <a:pt x="325" y="544"/>
                    </a:lnTo>
                    <a:lnTo>
                      <a:pt x="290" y="551"/>
                    </a:lnTo>
                    <a:lnTo>
                      <a:pt x="290" y="569"/>
                    </a:lnTo>
                    <a:lnTo>
                      <a:pt x="290" y="588"/>
                    </a:lnTo>
                    <a:lnTo>
                      <a:pt x="290" y="608"/>
                    </a:lnTo>
                    <a:lnTo>
                      <a:pt x="290" y="630"/>
                    </a:lnTo>
                    <a:lnTo>
                      <a:pt x="290" y="652"/>
                    </a:lnTo>
                    <a:lnTo>
                      <a:pt x="290" y="675"/>
                    </a:lnTo>
                    <a:lnTo>
                      <a:pt x="290" y="701"/>
                    </a:lnTo>
                    <a:lnTo>
                      <a:pt x="290" y="726"/>
                    </a:lnTo>
                    <a:lnTo>
                      <a:pt x="325" y="706"/>
                    </a:lnTo>
                    <a:lnTo>
                      <a:pt x="361" y="687"/>
                    </a:lnTo>
                    <a:lnTo>
                      <a:pt x="399" y="669"/>
                    </a:lnTo>
                    <a:lnTo>
                      <a:pt x="436" y="651"/>
                    </a:lnTo>
                    <a:lnTo>
                      <a:pt x="439" y="650"/>
                    </a:lnTo>
                    <a:lnTo>
                      <a:pt x="442" y="650"/>
                    </a:lnTo>
                    <a:lnTo>
                      <a:pt x="446" y="650"/>
                    </a:lnTo>
                    <a:lnTo>
                      <a:pt x="449" y="651"/>
                    </a:lnTo>
                    <a:lnTo>
                      <a:pt x="451" y="653"/>
                    </a:lnTo>
                    <a:lnTo>
                      <a:pt x="455" y="655"/>
                    </a:lnTo>
                    <a:lnTo>
                      <a:pt x="458" y="657"/>
                    </a:lnTo>
                    <a:lnTo>
                      <a:pt x="460" y="661"/>
                    </a:lnTo>
                    <a:lnTo>
                      <a:pt x="462" y="665"/>
                    </a:lnTo>
                    <a:lnTo>
                      <a:pt x="463" y="668"/>
                    </a:lnTo>
                    <a:lnTo>
                      <a:pt x="464" y="672"/>
                    </a:lnTo>
                    <a:lnTo>
                      <a:pt x="464" y="675"/>
                    </a:lnTo>
                    <a:lnTo>
                      <a:pt x="463" y="677"/>
                    </a:lnTo>
                    <a:lnTo>
                      <a:pt x="461" y="680"/>
                    </a:lnTo>
                    <a:lnTo>
                      <a:pt x="459" y="684"/>
                    </a:lnTo>
                    <a:lnTo>
                      <a:pt x="455" y="686"/>
                    </a:lnTo>
                    <a:lnTo>
                      <a:pt x="386" y="733"/>
                    </a:lnTo>
                    <a:lnTo>
                      <a:pt x="323" y="778"/>
                    </a:lnTo>
                    <a:lnTo>
                      <a:pt x="268" y="818"/>
                    </a:lnTo>
                    <a:lnTo>
                      <a:pt x="221" y="853"/>
                    </a:lnTo>
                    <a:lnTo>
                      <a:pt x="178" y="885"/>
                    </a:lnTo>
                    <a:lnTo>
                      <a:pt x="144" y="913"/>
                    </a:lnTo>
                    <a:lnTo>
                      <a:pt x="116" y="937"/>
                    </a:lnTo>
                    <a:lnTo>
                      <a:pt x="96" y="956"/>
                    </a:lnTo>
                    <a:lnTo>
                      <a:pt x="85" y="940"/>
                    </a:lnTo>
                    <a:lnTo>
                      <a:pt x="74" y="925"/>
                    </a:lnTo>
                    <a:lnTo>
                      <a:pt x="63" y="910"/>
                    </a:lnTo>
                    <a:lnTo>
                      <a:pt x="51" y="897"/>
                    </a:lnTo>
                    <a:lnTo>
                      <a:pt x="39" y="883"/>
                    </a:lnTo>
                    <a:lnTo>
                      <a:pt x="27" y="870"/>
                    </a:lnTo>
                    <a:lnTo>
                      <a:pt x="14" y="857"/>
                    </a:lnTo>
                    <a:lnTo>
                      <a:pt x="0" y="846"/>
                    </a:lnTo>
                    <a:lnTo>
                      <a:pt x="22" y="838"/>
                    </a:lnTo>
                    <a:lnTo>
                      <a:pt x="46" y="829"/>
                    </a:lnTo>
                    <a:lnTo>
                      <a:pt x="70" y="819"/>
                    </a:lnTo>
                    <a:lnTo>
                      <a:pt x="97" y="809"/>
                    </a:lnTo>
                    <a:lnTo>
                      <a:pt x="124" y="797"/>
                    </a:lnTo>
                    <a:lnTo>
                      <a:pt x="153" y="784"/>
                    </a:lnTo>
                    <a:lnTo>
                      <a:pt x="183" y="771"/>
                    </a:lnTo>
                    <a:lnTo>
                      <a:pt x="215" y="756"/>
                    </a:lnTo>
                    <a:lnTo>
                      <a:pt x="215" y="737"/>
                    </a:lnTo>
                    <a:lnTo>
                      <a:pt x="216" y="713"/>
                    </a:lnTo>
                    <a:lnTo>
                      <a:pt x="217" y="687"/>
                    </a:lnTo>
                    <a:lnTo>
                      <a:pt x="221" y="656"/>
                    </a:lnTo>
                    <a:lnTo>
                      <a:pt x="221" y="628"/>
                    </a:lnTo>
                    <a:lnTo>
                      <a:pt x="221" y="603"/>
                    </a:lnTo>
                    <a:lnTo>
                      <a:pt x="221" y="583"/>
                    </a:lnTo>
                    <a:lnTo>
                      <a:pt x="221" y="566"/>
                    </a:lnTo>
                    <a:lnTo>
                      <a:pt x="209" y="568"/>
                    </a:lnTo>
                    <a:lnTo>
                      <a:pt x="197" y="571"/>
                    </a:lnTo>
                    <a:lnTo>
                      <a:pt x="185" y="573"/>
                    </a:lnTo>
                    <a:lnTo>
                      <a:pt x="170" y="576"/>
                    </a:lnTo>
                    <a:lnTo>
                      <a:pt x="147" y="580"/>
                    </a:lnTo>
                    <a:lnTo>
                      <a:pt x="132" y="582"/>
                    </a:lnTo>
                    <a:lnTo>
                      <a:pt x="125" y="583"/>
                    </a:lnTo>
                    <a:lnTo>
                      <a:pt x="120" y="583"/>
                    </a:lnTo>
                    <a:lnTo>
                      <a:pt x="117" y="582"/>
                    </a:lnTo>
                    <a:lnTo>
                      <a:pt x="115" y="581"/>
                    </a:lnTo>
                    <a:lnTo>
                      <a:pt x="104" y="575"/>
                    </a:lnTo>
                    <a:lnTo>
                      <a:pt x="90" y="564"/>
                    </a:lnTo>
                    <a:lnTo>
                      <a:pt x="73" y="549"/>
                    </a:lnTo>
                    <a:lnTo>
                      <a:pt x="55" y="531"/>
                    </a:lnTo>
                    <a:lnTo>
                      <a:pt x="72" y="528"/>
                    </a:lnTo>
                    <a:lnTo>
                      <a:pt x="95" y="524"/>
                    </a:lnTo>
                    <a:lnTo>
                      <a:pt x="122" y="517"/>
                    </a:lnTo>
                    <a:lnTo>
                      <a:pt x="155" y="511"/>
                    </a:lnTo>
                    <a:lnTo>
                      <a:pt x="174" y="509"/>
                    </a:lnTo>
                    <a:lnTo>
                      <a:pt x="190" y="506"/>
                    </a:lnTo>
                    <a:lnTo>
                      <a:pt x="204" y="504"/>
                    </a:lnTo>
                    <a:lnTo>
                      <a:pt x="215" y="500"/>
                    </a:lnTo>
                    <a:lnTo>
                      <a:pt x="215" y="475"/>
                    </a:lnTo>
                    <a:lnTo>
                      <a:pt x="214" y="451"/>
                    </a:lnTo>
                    <a:lnTo>
                      <a:pt x="213" y="427"/>
                    </a:lnTo>
                    <a:lnTo>
                      <a:pt x="211" y="405"/>
                    </a:lnTo>
                    <a:lnTo>
                      <a:pt x="209" y="383"/>
                    </a:lnTo>
                    <a:lnTo>
                      <a:pt x="207" y="363"/>
                    </a:lnTo>
                    <a:lnTo>
                      <a:pt x="204" y="343"/>
                    </a:lnTo>
                    <a:lnTo>
                      <a:pt x="200" y="325"/>
                    </a:lnTo>
                    <a:lnTo>
                      <a:pt x="165" y="332"/>
                    </a:lnTo>
                    <a:lnTo>
                      <a:pt x="137" y="337"/>
                    </a:lnTo>
                    <a:lnTo>
                      <a:pt x="113" y="339"/>
                    </a:lnTo>
                    <a:lnTo>
                      <a:pt x="96" y="340"/>
                    </a:lnTo>
                    <a:lnTo>
                      <a:pt x="91" y="339"/>
                    </a:lnTo>
                    <a:lnTo>
                      <a:pt x="87" y="337"/>
                    </a:lnTo>
                    <a:lnTo>
                      <a:pt x="83" y="334"/>
                    </a:lnTo>
                    <a:lnTo>
                      <a:pt x="79" y="330"/>
                    </a:lnTo>
                    <a:lnTo>
                      <a:pt x="70" y="319"/>
                    </a:lnTo>
                    <a:lnTo>
                      <a:pt x="60" y="305"/>
                    </a:lnTo>
                    <a:lnTo>
                      <a:pt x="48" y="293"/>
                    </a:lnTo>
                    <a:lnTo>
                      <a:pt x="40" y="285"/>
                    </a:lnTo>
                    <a:lnTo>
                      <a:pt x="77" y="279"/>
                    </a:lnTo>
                    <a:lnTo>
                      <a:pt x="115" y="271"/>
                    </a:lnTo>
                    <a:lnTo>
                      <a:pt x="156" y="262"/>
                    </a:lnTo>
                    <a:lnTo>
                      <a:pt x="198" y="252"/>
                    </a:lnTo>
                    <a:lnTo>
                      <a:pt x="244" y="241"/>
                    </a:lnTo>
                    <a:lnTo>
                      <a:pt x="293" y="228"/>
                    </a:lnTo>
                    <a:lnTo>
                      <a:pt x="342" y="215"/>
                    </a:lnTo>
                    <a:lnTo>
                      <a:pt x="395" y="200"/>
                    </a:lnTo>
                    <a:lnTo>
                      <a:pt x="407" y="212"/>
                    </a:lnTo>
                    <a:lnTo>
                      <a:pt x="418" y="223"/>
                    </a:lnTo>
                    <a:lnTo>
                      <a:pt x="427" y="232"/>
                    </a:lnTo>
                    <a:lnTo>
                      <a:pt x="436" y="242"/>
                    </a:lnTo>
                    <a:lnTo>
                      <a:pt x="442" y="251"/>
                    </a:lnTo>
                    <a:lnTo>
                      <a:pt x="447" y="260"/>
                    </a:lnTo>
                    <a:lnTo>
                      <a:pt x="451" y="268"/>
                    </a:lnTo>
                    <a:lnTo>
                      <a:pt x="455" y="276"/>
                    </a:lnTo>
                    <a:lnTo>
                      <a:pt x="426" y="282"/>
                    </a:lnTo>
                    <a:lnTo>
                      <a:pt x="397" y="287"/>
                    </a:lnTo>
                    <a:lnTo>
                      <a:pt x="370" y="293"/>
                    </a:lnTo>
                    <a:lnTo>
                      <a:pt x="343" y="298"/>
                    </a:lnTo>
                    <a:lnTo>
                      <a:pt x="319" y="303"/>
                    </a:lnTo>
                    <a:lnTo>
                      <a:pt x="295" y="307"/>
                    </a:lnTo>
                    <a:lnTo>
                      <a:pt x="271" y="312"/>
                    </a:lnTo>
                    <a:lnTo>
                      <a:pt x="250" y="316"/>
                    </a:lnTo>
                    <a:lnTo>
                      <a:pt x="263" y="318"/>
                    </a:lnTo>
                    <a:lnTo>
                      <a:pt x="278" y="319"/>
                    </a:lnTo>
                    <a:lnTo>
                      <a:pt x="294" y="320"/>
                    </a:lnTo>
                    <a:lnTo>
                      <a:pt x="311" y="320"/>
                    </a:lnTo>
                    <a:lnTo>
                      <a:pt x="306" y="332"/>
                    </a:lnTo>
                    <a:lnTo>
                      <a:pt x="303" y="346"/>
                    </a:lnTo>
                    <a:lnTo>
                      <a:pt x="300" y="362"/>
                    </a:lnTo>
                    <a:lnTo>
                      <a:pt x="298" y="381"/>
                    </a:lnTo>
                    <a:lnTo>
                      <a:pt x="296" y="402"/>
                    </a:lnTo>
                    <a:lnTo>
                      <a:pt x="294" y="426"/>
                    </a:lnTo>
                    <a:lnTo>
                      <a:pt x="292" y="452"/>
                    </a:lnTo>
                    <a:lnTo>
                      <a:pt x="290" y="480"/>
                    </a:lnTo>
                    <a:lnTo>
                      <a:pt x="313" y="476"/>
                    </a:lnTo>
                    <a:lnTo>
                      <a:pt x="335" y="470"/>
                    </a:lnTo>
                    <a:lnTo>
                      <a:pt x="357" y="463"/>
                    </a:lnTo>
                    <a:lnTo>
                      <a:pt x="380" y="456"/>
                    </a:lnTo>
                    <a:lnTo>
                      <a:pt x="390" y="463"/>
                    </a:lnTo>
                    <a:lnTo>
                      <a:pt x="399" y="471"/>
                    </a:lnTo>
                    <a:lnTo>
                      <a:pt x="407" y="479"/>
                    </a:lnTo>
                    <a:lnTo>
                      <a:pt x="414" y="488"/>
                    </a:lnTo>
                    <a:lnTo>
                      <a:pt x="421" y="495"/>
                    </a:lnTo>
                    <a:lnTo>
                      <a:pt x="426" y="504"/>
                    </a:lnTo>
                    <a:lnTo>
                      <a:pt x="431" y="512"/>
                    </a:lnTo>
                    <a:lnTo>
                      <a:pt x="436" y="520"/>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645" name="Freeform 12"/>
              <p:cNvSpPr/>
              <p:nvPr/>
            </p:nvSpPr>
            <p:spPr>
              <a:xfrm>
                <a:off x="672840" y="1290600"/>
                <a:ext cx="171000" cy="159120"/>
              </a:xfrm>
              <a:custGeom>
                <a:avLst/>
                <a:gdLst>
                  <a:gd name="textAreaLeft" fmla="*/ 0 w 171000"/>
                  <a:gd name="textAreaRight" fmla="*/ 171360 w 171000"/>
                  <a:gd name="textAreaTop" fmla="*/ 0 h 159120"/>
                  <a:gd name="textAreaBottom" fmla="*/ 159480 h 159120"/>
                </a:gdLst>
                <a:ahLst/>
                <a:rect l="textAreaLeft" t="textAreaTop" r="textAreaRight" b="textAreaBottom"/>
                <a:pathLst>
                  <a:path w="1146" h="1150">
                    <a:moveTo>
                      <a:pt x="1064" y="535"/>
                    </a:moveTo>
                    <a:lnTo>
                      <a:pt x="1067" y="534"/>
                    </a:lnTo>
                    <a:lnTo>
                      <a:pt x="1071" y="534"/>
                    </a:lnTo>
                    <a:lnTo>
                      <a:pt x="1075" y="534"/>
                    </a:lnTo>
                    <a:lnTo>
                      <a:pt x="1079" y="535"/>
                    </a:lnTo>
                    <a:lnTo>
                      <a:pt x="1086" y="539"/>
                    </a:lnTo>
                    <a:lnTo>
                      <a:pt x="1094" y="544"/>
                    </a:lnTo>
                    <a:lnTo>
                      <a:pt x="1099" y="549"/>
                    </a:lnTo>
                    <a:lnTo>
                      <a:pt x="1105" y="554"/>
                    </a:lnTo>
                    <a:lnTo>
                      <a:pt x="1112" y="561"/>
                    </a:lnTo>
                    <a:lnTo>
                      <a:pt x="1119" y="570"/>
                    </a:lnTo>
                    <a:lnTo>
                      <a:pt x="1125" y="577"/>
                    </a:lnTo>
                    <a:lnTo>
                      <a:pt x="1131" y="584"/>
                    </a:lnTo>
                    <a:lnTo>
                      <a:pt x="1136" y="590"/>
                    </a:lnTo>
                    <a:lnTo>
                      <a:pt x="1139" y="595"/>
                    </a:lnTo>
                    <a:lnTo>
                      <a:pt x="1142" y="599"/>
                    </a:lnTo>
                    <a:lnTo>
                      <a:pt x="1145" y="604"/>
                    </a:lnTo>
                    <a:lnTo>
                      <a:pt x="1146" y="607"/>
                    </a:lnTo>
                    <a:lnTo>
                      <a:pt x="1143" y="610"/>
                    </a:lnTo>
                    <a:lnTo>
                      <a:pt x="1140" y="612"/>
                    </a:lnTo>
                    <a:lnTo>
                      <a:pt x="1135" y="613"/>
                    </a:lnTo>
                    <a:lnTo>
                      <a:pt x="1128" y="614"/>
                    </a:lnTo>
                    <a:lnTo>
                      <a:pt x="1119" y="615"/>
                    </a:lnTo>
                    <a:lnTo>
                      <a:pt x="1104" y="615"/>
                    </a:lnTo>
                    <a:lnTo>
                      <a:pt x="1087" y="615"/>
                    </a:lnTo>
                    <a:lnTo>
                      <a:pt x="1068" y="615"/>
                    </a:lnTo>
                    <a:lnTo>
                      <a:pt x="1045" y="616"/>
                    </a:lnTo>
                    <a:lnTo>
                      <a:pt x="1020" y="616"/>
                    </a:lnTo>
                    <a:lnTo>
                      <a:pt x="990" y="617"/>
                    </a:lnTo>
                    <a:lnTo>
                      <a:pt x="958" y="618"/>
                    </a:lnTo>
                    <a:lnTo>
                      <a:pt x="923" y="620"/>
                    </a:lnTo>
                    <a:lnTo>
                      <a:pt x="907" y="622"/>
                    </a:lnTo>
                    <a:lnTo>
                      <a:pt x="894" y="624"/>
                    </a:lnTo>
                    <a:lnTo>
                      <a:pt x="883" y="625"/>
                    </a:lnTo>
                    <a:lnTo>
                      <a:pt x="873" y="625"/>
                    </a:lnTo>
                    <a:lnTo>
                      <a:pt x="871" y="646"/>
                    </a:lnTo>
                    <a:lnTo>
                      <a:pt x="867" y="673"/>
                    </a:lnTo>
                    <a:lnTo>
                      <a:pt x="864" y="705"/>
                    </a:lnTo>
                    <a:lnTo>
                      <a:pt x="859" y="745"/>
                    </a:lnTo>
                    <a:lnTo>
                      <a:pt x="856" y="766"/>
                    </a:lnTo>
                    <a:lnTo>
                      <a:pt x="853" y="785"/>
                    </a:lnTo>
                    <a:lnTo>
                      <a:pt x="851" y="802"/>
                    </a:lnTo>
                    <a:lnTo>
                      <a:pt x="849" y="816"/>
                    </a:lnTo>
                    <a:lnTo>
                      <a:pt x="863" y="816"/>
                    </a:lnTo>
                    <a:lnTo>
                      <a:pt x="879" y="816"/>
                    </a:lnTo>
                    <a:lnTo>
                      <a:pt x="898" y="816"/>
                    </a:lnTo>
                    <a:lnTo>
                      <a:pt x="919" y="816"/>
                    </a:lnTo>
                    <a:lnTo>
                      <a:pt x="942" y="818"/>
                    </a:lnTo>
                    <a:lnTo>
                      <a:pt x="961" y="819"/>
                    </a:lnTo>
                    <a:lnTo>
                      <a:pt x="977" y="820"/>
                    </a:lnTo>
                    <a:lnTo>
                      <a:pt x="989" y="820"/>
                    </a:lnTo>
                    <a:lnTo>
                      <a:pt x="994" y="820"/>
                    </a:lnTo>
                    <a:lnTo>
                      <a:pt x="1001" y="821"/>
                    </a:lnTo>
                    <a:lnTo>
                      <a:pt x="1005" y="822"/>
                    </a:lnTo>
                    <a:lnTo>
                      <a:pt x="1009" y="824"/>
                    </a:lnTo>
                    <a:lnTo>
                      <a:pt x="1012" y="826"/>
                    </a:lnTo>
                    <a:lnTo>
                      <a:pt x="1015" y="828"/>
                    </a:lnTo>
                    <a:lnTo>
                      <a:pt x="1017" y="831"/>
                    </a:lnTo>
                    <a:lnTo>
                      <a:pt x="1019" y="835"/>
                    </a:lnTo>
                    <a:lnTo>
                      <a:pt x="1030" y="852"/>
                    </a:lnTo>
                    <a:lnTo>
                      <a:pt x="1040" y="868"/>
                    </a:lnTo>
                    <a:lnTo>
                      <a:pt x="1048" y="882"/>
                    </a:lnTo>
                    <a:lnTo>
                      <a:pt x="1053" y="895"/>
                    </a:lnTo>
                    <a:lnTo>
                      <a:pt x="1056" y="902"/>
                    </a:lnTo>
                    <a:lnTo>
                      <a:pt x="1057" y="908"/>
                    </a:lnTo>
                    <a:lnTo>
                      <a:pt x="1056" y="912"/>
                    </a:lnTo>
                    <a:lnTo>
                      <a:pt x="1053" y="915"/>
                    </a:lnTo>
                    <a:lnTo>
                      <a:pt x="1050" y="917"/>
                    </a:lnTo>
                    <a:lnTo>
                      <a:pt x="1046" y="917"/>
                    </a:lnTo>
                    <a:lnTo>
                      <a:pt x="1041" y="917"/>
                    </a:lnTo>
                    <a:lnTo>
                      <a:pt x="1033" y="915"/>
                    </a:lnTo>
                    <a:lnTo>
                      <a:pt x="1011" y="911"/>
                    </a:lnTo>
                    <a:lnTo>
                      <a:pt x="988" y="906"/>
                    </a:lnTo>
                    <a:lnTo>
                      <a:pt x="964" y="902"/>
                    </a:lnTo>
                    <a:lnTo>
                      <a:pt x="940" y="899"/>
                    </a:lnTo>
                    <a:lnTo>
                      <a:pt x="916" y="896"/>
                    </a:lnTo>
                    <a:lnTo>
                      <a:pt x="890" y="894"/>
                    </a:lnTo>
                    <a:lnTo>
                      <a:pt x="865" y="892"/>
                    </a:lnTo>
                    <a:lnTo>
                      <a:pt x="838" y="890"/>
                    </a:lnTo>
                    <a:lnTo>
                      <a:pt x="836" y="898"/>
                    </a:lnTo>
                    <a:lnTo>
                      <a:pt x="835" y="908"/>
                    </a:lnTo>
                    <a:lnTo>
                      <a:pt x="834" y="918"/>
                    </a:lnTo>
                    <a:lnTo>
                      <a:pt x="833" y="930"/>
                    </a:lnTo>
                    <a:lnTo>
                      <a:pt x="831" y="940"/>
                    </a:lnTo>
                    <a:lnTo>
                      <a:pt x="830" y="949"/>
                    </a:lnTo>
                    <a:lnTo>
                      <a:pt x="829" y="958"/>
                    </a:lnTo>
                    <a:lnTo>
                      <a:pt x="829" y="965"/>
                    </a:lnTo>
                    <a:lnTo>
                      <a:pt x="824" y="1002"/>
                    </a:lnTo>
                    <a:lnTo>
                      <a:pt x="817" y="1035"/>
                    </a:lnTo>
                    <a:lnTo>
                      <a:pt x="812" y="1064"/>
                    </a:lnTo>
                    <a:lnTo>
                      <a:pt x="805" y="1089"/>
                    </a:lnTo>
                    <a:lnTo>
                      <a:pt x="798" y="1110"/>
                    </a:lnTo>
                    <a:lnTo>
                      <a:pt x="790" y="1127"/>
                    </a:lnTo>
                    <a:lnTo>
                      <a:pt x="787" y="1135"/>
                    </a:lnTo>
                    <a:lnTo>
                      <a:pt x="782" y="1141"/>
                    </a:lnTo>
                    <a:lnTo>
                      <a:pt x="778" y="1146"/>
                    </a:lnTo>
                    <a:lnTo>
                      <a:pt x="774" y="1150"/>
                    </a:lnTo>
                    <a:lnTo>
                      <a:pt x="765" y="1147"/>
                    </a:lnTo>
                    <a:lnTo>
                      <a:pt x="757" y="1144"/>
                    </a:lnTo>
                    <a:lnTo>
                      <a:pt x="747" y="1139"/>
                    </a:lnTo>
                    <a:lnTo>
                      <a:pt x="738" y="1134"/>
                    </a:lnTo>
                    <a:lnTo>
                      <a:pt x="717" y="1121"/>
                    </a:lnTo>
                    <a:lnTo>
                      <a:pt x="694" y="1104"/>
                    </a:lnTo>
                    <a:lnTo>
                      <a:pt x="671" y="1085"/>
                    </a:lnTo>
                    <a:lnTo>
                      <a:pt x="646" y="1061"/>
                    </a:lnTo>
                    <a:lnTo>
                      <a:pt x="618" y="1035"/>
                    </a:lnTo>
                    <a:lnTo>
                      <a:pt x="588" y="1005"/>
                    </a:lnTo>
                    <a:lnTo>
                      <a:pt x="582" y="999"/>
                    </a:lnTo>
                    <a:lnTo>
                      <a:pt x="579" y="993"/>
                    </a:lnTo>
                    <a:lnTo>
                      <a:pt x="578" y="990"/>
                    </a:lnTo>
                    <a:lnTo>
                      <a:pt x="577" y="988"/>
                    </a:lnTo>
                    <a:lnTo>
                      <a:pt x="578" y="986"/>
                    </a:lnTo>
                    <a:lnTo>
                      <a:pt x="579" y="985"/>
                    </a:lnTo>
                    <a:lnTo>
                      <a:pt x="579" y="983"/>
                    </a:lnTo>
                    <a:lnTo>
                      <a:pt x="580" y="981"/>
                    </a:lnTo>
                    <a:lnTo>
                      <a:pt x="581" y="980"/>
                    </a:lnTo>
                    <a:lnTo>
                      <a:pt x="583" y="979"/>
                    </a:lnTo>
                    <a:lnTo>
                      <a:pt x="590" y="979"/>
                    </a:lnTo>
                    <a:lnTo>
                      <a:pt x="599" y="980"/>
                    </a:lnTo>
                    <a:lnTo>
                      <a:pt x="626" y="986"/>
                    </a:lnTo>
                    <a:lnTo>
                      <a:pt x="649" y="990"/>
                    </a:lnTo>
                    <a:lnTo>
                      <a:pt x="669" y="993"/>
                    </a:lnTo>
                    <a:lnTo>
                      <a:pt x="686" y="993"/>
                    </a:lnTo>
                    <a:lnTo>
                      <a:pt x="693" y="992"/>
                    </a:lnTo>
                    <a:lnTo>
                      <a:pt x="700" y="990"/>
                    </a:lnTo>
                    <a:lnTo>
                      <a:pt x="705" y="988"/>
                    </a:lnTo>
                    <a:lnTo>
                      <a:pt x="709" y="986"/>
                    </a:lnTo>
                    <a:lnTo>
                      <a:pt x="712" y="983"/>
                    </a:lnTo>
                    <a:lnTo>
                      <a:pt x="716" y="979"/>
                    </a:lnTo>
                    <a:lnTo>
                      <a:pt x="718" y="975"/>
                    </a:lnTo>
                    <a:lnTo>
                      <a:pt x="719" y="970"/>
                    </a:lnTo>
                    <a:lnTo>
                      <a:pt x="723" y="953"/>
                    </a:lnTo>
                    <a:lnTo>
                      <a:pt x="727" y="934"/>
                    </a:lnTo>
                    <a:lnTo>
                      <a:pt x="730" y="911"/>
                    </a:lnTo>
                    <a:lnTo>
                      <a:pt x="734" y="886"/>
                    </a:lnTo>
                    <a:lnTo>
                      <a:pt x="674" y="886"/>
                    </a:lnTo>
                    <a:lnTo>
                      <a:pt x="617" y="888"/>
                    </a:lnTo>
                    <a:lnTo>
                      <a:pt x="562" y="891"/>
                    </a:lnTo>
                    <a:lnTo>
                      <a:pt x="511" y="895"/>
                    </a:lnTo>
                    <a:lnTo>
                      <a:pt x="462" y="900"/>
                    </a:lnTo>
                    <a:lnTo>
                      <a:pt x="417" y="908"/>
                    </a:lnTo>
                    <a:lnTo>
                      <a:pt x="373" y="916"/>
                    </a:lnTo>
                    <a:lnTo>
                      <a:pt x="333" y="925"/>
                    </a:lnTo>
                    <a:lnTo>
                      <a:pt x="333" y="913"/>
                    </a:lnTo>
                    <a:lnTo>
                      <a:pt x="331" y="900"/>
                    </a:lnTo>
                    <a:lnTo>
                      <a:pt x="329" y="889"/>
                    </a:lnTo>
                    <a:lnTo>
                      <a:pt x="325" y="876"/>
                    </a:lnTo>
                    <a:lnTo>
                      <a:pt x="319" y="864"/>
                    </a:lnTo>
                    <a:lnTo>
                      <a:pt x="314" y="853"/>
                    </a:lnTo>
                    <a:lnTo>
                      <a:pt x="307" y="841"/>
                    </a:lnTo>
                    <a:lnTo>
                      <a:pt x="298" y="830"/>
                    </a:lnTo>
                    <a:lnTo>
                      <a:pt x="310" y="820"/>
                    </a:lnTo>
                    <a:lnTo>
                      <a:pt x="322" y="807"/>
                    </a:lnTo>
                    <a:lnTo>
                      <a:pt x="333" y="791"/>
                    </a:lnTo>
                    <a:lnTo>
                      <a:pt x="346" y="772"/>
                    </a:lnTo>
                    <a:lnTo>
                      <a:pt x="359" y="751"/>
                    </a:lnTo>
                    <a:lnTo>
                      <a:pt x="371" y="727"/>
                    </a:lnTo>
                    <a:lnTo>
                      <a:pt x="385" y="700"/>
                    </a:lnTo>
                    <a:lnTo>
                      <a:pt x="399" y="670"/>
                    </a:lnTo>
                    <a:lnTo>
                      <a:pt x="384" y="675"/>
                    </a:lnTo>
                    <a:lnTo>
                      <a:pt x="368" y="678"/>
                    </a:lnTo>
                    <a:lnTo>
                      <a:pt x="353" y="679"/>
                    </a:lnTo>
                    <a:lnTo>
                      <a:pt x="339" y="680"/>
                    </a:lnTo>
                    <a:lnTo>
                      <a:pt x="331" y="680"/>
                    </a:lnTo>
                    <a:lnTo>
                      <a:pt x="324" y="679"/>
                    </a:lnTo>
                    <a:lnTo>
                      <a:pt x="316" y="677"/>
                    </a:lnTo>
                    <a:lnTo>
                      <a:pt x="309" y="675"/>
                    </a:lnTo>
                    <a:lnTo>
                      <a:pt x="294" y="662"/>
                    </a:lnTo>
                    <a:lnTo>
                      <a:pt x="281" y="649"/>
                    </a:lnTo>
                    <a:lnTo>
                      <a:pt x="270" y="634"/>
                    </a:lnTo>
                    <a:lnTo>
                      <a:pt x="258" y="620"/>
                    </a:lnTo>
                    <a:lnTo>
                      <a:pt x="277" y="620"/>
                    </a:lnTo>
                    <a:lnTo>
                      <a:pt x="296" y="620"/>
                    </a:lnTo>
                    <a:lnTo>
                      <a:pt x="316" y="618"/>
                    </a:lnTo>
                    <a:lnTo>
                      <a:pt x="336" y="617"/>
                    </a:lnTo>
                    <a:lnTo>
                      <a:pt x="357" y="616"/>
                    </a:lnTo>
                    <a:lnTo>
                      <a:pt x="377" y="614"/>
                    </a:lnTo>
                    <a:lnTo>
                      <a:pt x="398" y="612"/>
                    </a:lnTo>
                    <a:lnTo>
                      <a:pt x="419" y="610"/>
                    </a:lnTo>
                    <a:lnTo>
                      <a:pt x="429" y="574"/>
                    </a:lnTo>
                    <a:lnTo>
                      <a:pt x="438" y="540"/>
                    </a:lnTo>
                    <a:lnTo>
                      <a:pt x="445" y="506"/>
                    </a:lnTo>
                    <a:lnTo>
                      <a:pt x="451" y="473"/>
                    </a:lnTo>
                    <a:lnTo>
                      <a:pt x="455" y="443"/>
                    </a:lnTo>
                    <a:lnTo>
                      <a:pt x="458" y="412"/>
                    </a:lnTo>
                    <a:lnTo>
                      <a:pt x="459" y="383"/>
                    </a:lnTo>
                    <a:lnTo>
                      <a:pt x="458" y="355"/>
                    </a:lnTo>
                    <a:lnTo>
                      <a:pt x="544" y="395"/>
                    </a:lnTo>
                    <a:lnTo>
                      <a:pt x="580" y="391"/>
                    </a:lnTo>
                    <a:lnTo>
                      <a:pt x="615" y="385"/>
                    </a:lnTo>
                    <a:lnTo>
                      <a:pt x="647" y="379"/>
                    </a:lnTo>
                    <a:lnTo>
                      <a:pt x="677" y="371"/>
                    </a:lnTo>
                    <a:lnTo>
                      <a:pt x="706" y="362"/>
                    </a:lnTo>
                    <a:lnTo>
                      <a:pt x="733" y="352"/>
                    </a:lnTo>
                    <a:lnTo>
                      <a:pt x="757" y="342"/>
                    </a:lnTo>
                    <a:lnTo>
                      <a:pt x="779" y="329"/>
                    </a:lnTo>
                    <a:lnTo>
                      <a:pt x="781" y="330"/>
                    </a:lnTo>
                    <a:lnTo>
                      <a:pt x="783" y="331"/>
                    </a:lnTo>
                    <a:lnTo>
                      <a:pt x="787" y="332"/>
                    </a:lnTo>
                    <a:lnTo>
                      <a:pt x="789" y="334"/>
                    </a:lnTo>
                    <a:lnTo>
                      <a:pt x="813" y="346"/>
                    </a:lnTo>
                    <a:lnTo>
                      <a:pt x="835" y="357"/>
                    </a:lnTo>
                    <a:lnTo>
                      <a:pt x="856" y="366"/>
                    </a:lnTo>
                    <a:lnTo>
                      <a:pt x="877" y="374"/>
                    </a:lnTo>
                    <a:lnTo>
                      <a:pt x="895" y="380"/>
                    </a:lnTo>
                    <a:lnTo>
                      <a:pt x="910" y="384"/>
                    </a:lnTo>
                    <a:lnTo>
                      <a:pt x="925" y="387"/>
                    </a:lnTo>
                    <a:lnTo>
                      <a:pt x="939" y="390"/>
                    </a:lnTo>
                    <a:lnTo>
                      <a:pt x="932" y="403"/>
                    </a:lnTo>
                    <a:lnTo>
                      <a:pt x="924" y="418"/>
                    </a:lnTo>
                    <a:lnTo>
                      <a:pt x="918" y="436"/>
                    </a:lnTo>
                    <a:lnTo>
                      <a:pt x="912" y="455"/>
                    </a:lnTo>
                    <a:lnTo>
                      <a:pt x="905" y="475"/>
                    </a:lnTo>
                    <a:lnTo>
                      <a:pt x="899" y="499"/>
                    </a:lnTo>
                    <a:lnTo>
                      <a:pt x="894" y="523"/>
                    </a:lnTo>
                    <a:lnTo>
                      <a:pt x="888" y="550"/>
                    </a:lnTo>
                    <a:lnTo>
                      <a:pt x="910" y="547"/>
                    </a:lnTo>
                    <a:lnTo>
                      <a:pt x="932" y="545"/>
                    </a:lnTo>
                    <a:lnTo>
                      <a:pt x="953" y="543"/>
                    </a:lnTo>
                    <a:lnTo>
                      <a:pt x="975" y="541"/>
                    </a:lnTo>
                    <a:lnTo>
                      <a:pt x="997" y="539"/>
                    </a:lnTo>
                    <a:lnTo>
                      <a:pt x="1020" y="538"/>
                    </a:lnTo>
                    <a:lnTo>
                      <a:pt x="1042" y="536"/>
                    </a:lnTo>
                    <a:lnTo>
                      <a:pt x="1064" y="535"/>
                    </a:lnTo>
                    <a:close/>
                    <a:moveTo>
                      <a:pt x="544" y="0"/>
                    </a:moveTo>
                    <a:lnTo>
                      <a:pt x="559" y="9"/>
                    </a:lnTo>
                    <a:lnTo>
                      <a:pt x="574" y="19"/>
                    </a:lnTo>
                    <a:lnTo>
                      <a:pt x="588" y="27"/>
                    </a:lnTo>
                    <a:lnTo>
                      <a:pt x="603" y="35"/>
                    </a:lnTo>
                    <a:lnTo>
                      <a:pt x="618" y="42"/>
                    </a:lnTo>
                    <a:lnTo>
                      <a:pt x="634" y="48"/>
                    </a:lnTo>
                    <a:lnTo>
                      <a:pt x="649" y="55"/>
                    </a:lnTo>
                    <a:lnTo>
                      <a:pt x="664" y="60"/>
                    </a:lnTo>
                    <a:lnTo>
                      <a:pt x="655" y="66"/>
                    </a:lnTo>
                    <a:lnTo>
                      <a:pt x="646" y="74"/>
                    </a:lnTo>
                    <a:lnTo>
                      <a:pt x="637" y="82"/>
                    </a:lnTo>
                    <a:lnTo>
                      <a:pt x="629" y="92"/>
                    </a:lnTo>
                    <a:lnTo>
                      <a:pt x="620" y="102"/>
                    </a:lnTo>
                    <a:lnTo>
                      <a:pt x="611" y="114"/>
                    </a:lnTo>
                    <a:lnTo>
                      <a:pt x="602" y="127"/>
                    </a:lnTo>
                    <a:lnTo>
                      <a:pt x="594" y="139"/>
                    </a:lnTo>
                    <a:lnTo>
                      <a:pt x="587" y="152"/>
                    </a:lnTo>
                    <a:lnTo>
                      <a:pt x="579" y="169"/>
                    </a:lnTo>
                    <a:lnTo>
                      <a:pt x="572" y="184"/>
                    </a:lnTo>
                    <a:lnTo>
                      <a:pt x="565" y="196"/>
                    </a:lnTo>
                    <a:lnTo>
                      <a:pt x="559" y="206"/>
                    </a:lnTo>
                    <a:lnTo>
                      <a:pt x="554" y="215"/>
                    </a:lnTo>
                    <a:lnTo>
                      <a:pt x="577" y="208"/>
                    </a:lnTo>
                    <a:lnTo>
                      <a:pt x="604" y="201"/>
                    </a:lnTo>
                    <a:lnTo>
                      <a:pt x="639" y="191"/>
                    </a:lnTo>
                    <a:lnTo>
                      <a:pt x="679" y="180"/>
                    </a:lnTo>
                    <a:lnTo>
                      <a:pt x="708" y="172"/>
                    </a:lnTo>
                    <a:lnTo>
                      <a:pt x="736" y="166"/>
                    </a:lnTo>
                    <a:lnTo>
                      <a:pt x="761" y="160"/>
                    </a:lnTo>
                    <a:lnTo>
                      <a:pt x="787" y="153"/>
                    </a:lnTo>
                    <a:lnTo>
                      <a:pt x="809" y="148"/>
                    </a:lnTo>
                    <a:lnTo>
                      <a:pt x="831" y="143"/>
                    </a:lnTo>
                    <a:lnTo>
                      <a:pt x="850" y="138"/>
                    </a:lnTo>
                    <a:lnTo>
                      <a:pt x="868" y="134"/>
                    </a:lnTo>
                    <a:lnTo>
                      <a:pt x="876" y="133"/>
                    </a:lnTo>
                    <a:lnTo>
                      <a:pt x="882" y="133"/>
                    </a:lnTo>
                    <a:lnTo>
                      <a:pt x="888" y="135"/>
                    </a:lnTo>
                    <a:lnTo>
                      <a:pt x="894" y="139"/>
                    </a:lnTo>
                    <a:lnTo>
                      <a:pt x="895" y="137"/>
                    </a:lnTo>
                    <a:lnTo>
                      <a:pt x="897" y="137"/>
                    </a:lnTo>
                    <a:lnTo>
                      <a:pt x="899" y="139"/>
                    </a:lnTo>
                    <a:lnTo>
                      <a:pt x="913" y="151"/>
                    </a:lnTo>
                    <a:lnTo>
                      <a:pt x="923" y="162"/>
                    </a:lnTo>
                    <a:lnTo>
                      <a:pt x="933" y="171"/>
                    </a:lnTo>
                    <a:lnTo>
                      <a:pt x="939" y="180"/>
                    </a:lnTo>
                    <a:lnTo>
                      <a:pt x="942" y="183"/>
                    </a:lnTo>
                    <a:lnTo>
                      <a:pt x="944" y="186"/>
                    </a:lnTo>
                    <a:lnTo>
                      <a:pt x="945" y="189"/>
                    </a:lnTo>
                    <a:lnTo>
                      <a:pt x="945" y="192"/>
                    </a:lnTo>
                    <a:lnTo>
                      <a:pt x="943" y="195"/>
                    </a:lnTo>
                    <a:lnTo>
                      <a:pt x="941" y="197"/>
                    </a:lnTo>
                    <a:lnTo>
                      <a:pt x="938" y="198"/>
                    </a:lnTo>
                    <a:lnTo>
                      <a:pt x="934" y="200"/>
                    </a:lnTo>
                    <a:lnTo>
                      <a:pt x="871" y="212"/>
                    </a:lnTo>
                    <a:lnTo>
                      <a:pt x="815" y="222"/>
                    </a:lnTo>
                    <a:lnTo>
                      <a:pt x="765" y="232"/>
                    </a:lnTo>
                    <a:lnTo>
                      <a:pt x="721" y="239"/>
                    </a:lnTo>
                    <a:lnTo>
                      <a:pt x="683" y="247"/>
                    </a:lnTo>
                    <a:lnTo>
                      <a:pt x="651" y="252"/>
                    </a:lnTo>
                    <a:lnTo>
                      <a:pt x="624" y="256"/>
                    </a:lnTo>
                    <a:lnTo>
                      <a:pt x="603" y="259"/>
                    </a:lnTo>
                    <a:lnTo>
                      <a:pt x="593" y="256"/>
                    </a:lnTo>
                    <a:lnTo>
                      <a:pt x="580" y="251"/>
                    </a:lnTo>
                    <a:lnTo>
                      <a:pt x="565" y="243"/>
                    </a:lnTo>
                    <a:lnTo>
                      <a:pt x="548" y="235"/>
                    </a:lnTo>
                    <a:lnTo>
                      <a:pt x="545" y="231"/>
                    </a:lnTo>
                    <a:lnTo>
                      <a:pt x="544" y="230"/>
                    </a:lnTo>
                    <a:lnTo>
                      <a:pt x="538" y="238"/>
                    </a:lnTo>
                    <a:lnTo>
                      <a:pt x="531" y="249"/>
                    </a:lnTo>
                    <a:lnTo>
                      <a:pt x="523" y="260"/>
                    </a:lnTo>
                    <a:lnTo>
                      <a:pt x="513" y="275"/>
                    </a:lnTo>
                    <a:lnTo>
                      <a:pt x="497" y="302"/>
                    </a:lnTo>
                    <a:lnTo>
                      <a:pt x="484" y="324"/>
                    </a:lnTo>
                    <a:lnTo>
                      <a:pt x="472" y="340"/>
                    </a:lnTo>
                    <a:lnTo>
                      <a:pt x="463" y="349"/>
                    </a:lnTo>
                    <a:lnTo>
                      <a:pt x="456" y="359"/>
                    </a:lnTo>
                    <a:lnTo>
                      <a:pt x="448" y="367"/>
                    </a:lnTo>
                    <a:lnTo>
                      <a:pt x="440" y="375"/>
                    </a:lnTo>
                    <a:lnTo>
                      <a:pt x="431" y="381"/>
                    </a:lnTo>
                    <a:lnTo>
                      <a:pt x="422" y="386"/>
                    </a:lnTo>
                    <a:lnTo>
                      <a:pt x="413" y="391"/>
                    </a:lnTo>
                    <a:lnTo>
                      <a:pt x="403" y="394"/>
                    </a:lnTo>
                    <a:lnTo>
                      <a:pt x="394" y="396"/>
                    </a:lnTo>
                    <a:lnTo>
                      <a:pt x="383" y="397"/>
                    </a:lnTo>
                    <a:lnTo>
                      <a:pt x="373" y="397"/>
                    </a:lnTo>
                    <a:lnTo>
                      <a:pt x="362" y="396"/>
                    </a:lnTo>
                    <a:lnTo>
                      <a:pt x="351" y="394"/>
                    </a:lnTo>
                    <a:lnTo>
                      <a:pt x="340" y="391"/>
                    </a:lnTo>
                    <a:lnTo>
                      <a:pt x="328" y="386"/>
                    </a:lnTo>
                    <a:lnTo>
                      <a:pt x="316" y="381"/>
                    </a:lnTo>
                    <a:lnTo>
                      <a:pt x="304" y="375"/>
                    </a:lnTo>
                    <a:lnTo>
                      <a:pt x="327" y="357"/>
                    </a:lnTo>
                    <a:lnTo>
                      <a:pt x="350" y="339"/>
                    </a:lnTo>
                    <a:lnTo>
                      <a:pt x="371" y="319"/>
                    </a:lnTo>
                    <a:lnTo>
                      <a:pt x="391" y="298"/>
                    </a:lnTo>
                    <a:lnTo>
                      <a:pt x="411" y="278"/>
                    </a:lnTo>
                    <a:lnTo>
                      <a:pt x="429" y="256"/>
                    </a:lnTo>
                    <a:lnTo>
                      <a:pt x="445" y="234"/>
                    </a:lnTo>
                    <a:lnTo>
                      <a:pt x="461" y="210"/>
                    </a:lnTo>
                    <a:lnTo>
                      <a:pt x="475" y="187"/>
                    </a:lnTo>
                    <a:lnTo>
                      <a:pt x="489" y="163"/>
                    </a:lnTo>
                    <a:lnTo>
                      <a:pt x="501" y="137"/>
                    </a:lnTo>
                    <a:lnTo>
                      <a:pt x="511" y="111"/>
                    </a:lnTo>
                    <a:lnTo>
                      <a:pt x="522" y="84"/>
                    </a:lnTo>
                    <a:lnTo>
                      <a:pt x="530" y="57"/>
                    </a:lnTo>
                    <a:lnTo>
                      <a:pt x="538" y="28"/>
                    </a:lnTo>
                    <a:lnTo>
                      <a:pt x="544" y="0"/>
                    </a:lnTo>
                    <a:close/>
                    <a:moveTo>
                      <a:pt x="399" y="835"/>
                    </a:moveTo>
                    <a:lnTo>
                      <a:pt x="413" y="835"/>
                    </a:lnTo>
                    <a:lnTo>
                      <a:pt x="432" y="834"/>
                    </a:lnTo>
                    <a:lnTo>
                      <a:pt x="456" y="833"/>
                    </a:lnTo>
                    <a:lnTo>
                      <a:pt x="484" y="830"/>
                    </a:lnTo>
                    <a:lnTo>
                      <a:pt x="525" y="827"/>
                    </a:lnTo>
                    <a:lnTo>
                      <a:pt x="564" y="826"/>
                    </a:lnTo>
                    <a:lnTo>
                      <a:pt x="600" y="824"/>
                    </a:lnTo>
                    <a:lnTo>
                      <a:pt x="635" y="823"/>
                    </a:lnTo>
                    <a:lnTo>
                      <a:pt x="667" y="822"/>
                    </a:lnTo>
                    <a:lnTo>
                      <a:pt x="697" y="821"/>
                    </a:lnTo>
                    <a:lnTo>
                      <a:pt x="724" y="820"/>
                    </a:lnTo>
                    <a:lnTo>
                      <a:pt x="748" y="820"/>
                    </a:lnTo>
                    <a:lnTo>
                      <a:pt x="753" y="798"/>
                    </a:lnTo>
                    <a:lnTo>
                      <a:pt x="756" y="774"/>
                    </a:lnTo>
                    <a:lnTo>
                      <a:pt x="759" y="751"/>
                    </a:lnTo>
                    <a:lnTo>
                      <a:pt x="762" y="728"/>
                    </a:lnTo>
                    <a:lnTo>
                      <a:pt x="765" y="703"/>
                    </a:lnTo>
                    <a:lnTo>
                      <a:pt x="769" y="679"/>
                    </a:lnTo>
                    <a:lnTo>
                      <a:pt x="771" y="655"/>
                    </a:lnTo>
                    <a:lnTo>
                      <a:pt x="774" y="630"/>
                    </a:lnTo>
                    <a:lnTo>
                      <a:pt x="734" y="633"/>
                    </a:lnTo>
                    <a:lnTo>
                      <a:pt x="694" y="638"/>
                    </a:lnTo>
                    <a:lnTo>
                      <a:pt x="655" y="641"/>
                    </a:lnTo>
                    <a:lnTo>
                      <a:pt x="617" y="645"/>
                    </a:lnTo>
                    <a:lnTo>
                      <a:pt x="579" y="648"/>
                    </a:lnTo>
                    <a:lnTo>
                      <a:pt x="542" y="652"/>
                    </a:lnTo>
                    <a:lnTo>
                      <a:pt x="505" y="657"/>
                    </a:lnTo>
                    <a:lnTo>
                      <a:pt x="469" y="660"/>
                    </a:lnTo>
                    <a:lnTo>
                      <a:pt x="461" y="680"/>
                    </a:lnTo>
                    <a:lnTo>
                      <a:pt x="455" y="701"/>
                    </a:lnTo>
                    <a:lnTo>
                      <a:pt x="447" y="722"/>
                    </a:lnTo>
                    <a:lnTo>
                      <a:pt x="438" y="744"/>
                    </a:lnTo>
                    <a:lnTo>
                      <a:pt x="430" y="766"/>
                    </a:lnTo>
                    <a:lnTo>
                      <a:pt x="420" y="788"/>
                    </a:lnTo>
                    <a:lnTo>
                      <a:pt x="409" y="811"/>
                    </a:lnTo>
                    <a:lnTo>
                      <a:pt x="399" y="835"/>
                    </a:lnTo>
                    <a:close/>
                    <a:moveTo>
                      <a:pt x="544" y="425"/>
                    </a:moveTo>
                    <a:lnTo>
                      <a:pt x="541" y="437"/>
                    </a:lnTo>
                    <a:lnTo>
                      <a:pt x="537" y="452"/>
                    </a:lnTo>
                    <a:lnTo>
                      <a:pt x="532" y="470"/>
                    </a:lnTo>
                    <a:lnTo>
                      <a:pt x="526" y="491"/>
                    </a:lnTo>
                    <a:lnTo>
                      <a:pt x="520" y="515"/>
                    </a:lnTo>
                    <a:lnTo>
                      <a:pt x="512" y="540"/>
                    </a:lnTo>
                    <a:lnTo>
                      <a:pt x="503" y="569"/>
                    </a:lnTo>
                    <a:lnTo>
                      <a:pt x="493" y="599"/>
                    </a:lnTo>
                    <a:lnTo>
                      <a:pt x="516" y="597"/>
                    </a:lnTo>
                    <a:lnTo>
                      <a:pt x="544" y="594"/>
                    </a:lnTo>
                    <a:lnTo>
                      <a:pt x="576" y="590"/>
                    </a:lnTo>
                    <a:lnTo>
                      <a:pt x="614" y="585"/>
                    </a:lnTo>
                    <a:lnTo>
                      <a:pt x="641" y="581"/>
                    </a:lnTo>
                    <a:lnTo>
                      <a:pt x="668" y="578"/>
                    </a:lnTo>
                    <a:lnTo>
                      <a:pt x="691" y="575"/>
                    </a:lnTo>
                    <a:lnTo>
                      <a:pt x="713" y="573"/>
                    </a:lnTo>
                    <a:lnTo>
                      <a:pt x="734" y="570"/>
                    </a:lnTo>
                    <a:lnTo>
                      <a:pt x="753" y="568"/>
                    </a:lnTo>
                    <a:lnTo>
                      <a:pt x="769" y="567"/>
                    </a:lnTo>
                    <a:lnTo>
                      <a:pt x="783" y="564"/>
                    </a:lnTo>
                    <a:lnTo>
                      <a:pt x="789" y="521"/>
                    </a:lnTo>
                    <a:lnTo>
                      <a:pt x="793" y="481"/>
                    </a:lnTo>
                    <a:lnTo>
                      <a:pt x="796" y="444"/>
                    </a:lnTo>
                    <a:lnTo>
                      <a:pt x="798" y="410"/>
                    </a:lnTo>
                    <a:lnTo>
                      <a:pt x="798" y="407"/>
                    </a:lnTo>
                    <a:lnTo>
                      <a:pt x="798" y="403"/>
                    </a:lnTo>
                    <a:lnTo>
                      <a:pt x="796" y="401"/>
                    </a:lnTo>
                    <a:lnTo>
                      <a:pt x="795" y="400"/>
                    </a:lnTo>
                    <a:lnTo>
                      <a:pt x="793" y="399"/>
                    </a:lnTo>
                    <a:lnTo>
                      <a:pt x="790" y="398"/>
                    </a:lnTo>
                    <a:lnTo>
                      <a:pt x="788" y="399"/>
                    </a:lnTo>
                    <a:lnTo>
                      <a:pt x="783" y="400"/>
                    </a:lnTo>
                    <a:lnTo>
                      <a:pt x="764" y="401"/>
                    </a:lnTo>
                    <a:lnTo>
                      <a:pt x="743" y="404"/>
                    </a:lnTo>
                    <a:lnTo>
                      <a:pt x="720" y="409"/>
                    </a:lnTo>
                    <a:lnTo>
                      <a:pt x="694" y="414"/>
                    </a:lnTo>
                    <a:lnTo>
                      <a:pt x="668" y="419"/>
                    </a:lnTo>
                    <a:lnTo>
                      <a:pt x="640" y="427"/>
                    </a:lnTo>
                    <a:lnTo>
                      <a:pt x="611" y="435"/>
                    </a:lnTo>
                    <a:lnTo>
                      <a:pt x="579" y="445"/>
                    </a:lnTo>
                    <a:lnTo>
                      <a:pt x="573" y="442"/>
                    </a:lnTo>
                    <a:lnTo>
                      <a:pt x="565" y="437"/>
                    </a:lnTo>
                    <a:lnTo>
                      <a:pt x="556" y="432"/>
                    </a:lnTo>
                    <a:lnTo>
                      <a:pt x="544" y="425"/>
                    </a:lnTo>
                    <a:close/>
                    <a:moveTo>
                      <a:pt x="228" y="580"/>
                    </a:moveTo>
                    <a:lnTo>
                      <a:pt x="240" y="562"/>
                    </a:lnTo>
                    <a:lnTo>
                      <a:pt x="250" y="551"/>
                    </a:lnTo>
                    <a:lnTo>
                      <a:pt x="254" y="547"/>
                    </a:lnTo>
                    <a:lnTo>
                      <a:pt x="258" y="545"/>
                    </a:lnTo>
                    <a:lnTo>
                      <a:pt x="261" y="544"/>
                    </a:lnTo>
                    <a:lnTo>
                      <a:pt x="263" y="544"/>
                    </a:lnTo>
                    <a:lnTo>
                      <a:pt x="265" y="546"/>
                    </a:lnTo>
                    <a:lnTo>
                      <a:pt x="266" y="550"/>
                    </a:lnTo>
                    <a:lnTo>
                      <a:pt x="268" y="554"/>
                    </a:lnTo>
                    <a:lnTo>
                      <a:pt x="268" y="560"/>
                    </a:lnTo>
                    <a:lnTo>
                      <a:pt x="264" y="575"/>
                    </a:lnTo>
                    <a:lnTo>
                      <a:pt x="258" y="595"/>
                    </a:lnTo>
                    <a:lnTo>
                      <a:pt x="253" y="612"/>
                    </a:lnTo>
                    <a:lnTo>
                      <a:pt x="244" y="635"/>
                    </a:lnTo>
                    <a:lnTo>
                      <a:pt x="235" y="663"/>
                    </a:lnTo>
                    <a:lnTo>
                      <a:pt x="223" y="695"/>
                    </a:lnTo>
                    <a:lnTo>
                      <a:pt x="207" y="747"/>
                    </a:lnTo>
                    <a:lnTo>
                      <a:pt x="192" y="795"/>
                    </a:lnTo>
                    <a:lnTo>
                      <a:pt x="178" y="842"/>
                    </a:lnTo>
                    <a:lnTo>
                      <a:pt x="164" y="883"/>
                    </a:lnTo>
                    <a:lnTo>
                      <a:pt x="150" y="923"/>
                    </a:lnTo>
                    <a:lnTo>
                      <a:pt x="137" y="959"/>
                    </a:lnTo>
                    <a:lnTo>
                      <a:pt x="125" y="992"/>
                    </a:lnTo>
                    <a:lnTo>
                      <a:pt x="113" y="1020"/>
                    </a:lnTo>
                    <a:lnTo>
                      <a:pt x="101" y="1010"/>
                    </a:lnTo>
                    <a:lnTo>
                      <a:pt x="89" y="998"/>
                    </a:lnTo>
                    <a:lnTo>
                      <a:pt x="75" y="984"/>
                    </a:lnTo>
                    <a:lnTo>
                      <a:pt x="62" y="970"/>
                    </a:lnTo>
                    <a:lnTo>
                      <a:pt x="49" y="954"/>
                    </a:lnTo>
                    <a:lnTo>
                      <a:pt x="36" y="937"/>
                    </a:lnTo>
                    <a:lnTo>
                      <a:pt x="22" y="919"/>
                    </a:lnTo>
                    <a:lnTo>
                      <a:pt x="8" y="900"/>
                    </a:lnTo>
                    <a:lnTo>
                      <a:pt x="5" y="896"/>
                    </a:lnTo>
                    <a:lnTo>
                      <a:pt x="3" y="893"/>
                    </a:lnTo>
                    <a:lnTo>
                      <a:pt x="1" y="890"/>
                    </a:lnTo>
                    <a:lnTo>
                      <a:pt x="0" y="887"/>
                    </a:lnTo>
                    <a:lnTo>
                      <a:pt x="0" y="883"/>
                    </a:lnTo>
                    <a:lnTo>
                      <a:pt x="0" y="880"/>
                    </a:lnTo>
                    <a:lnTo>
                      <a:pt x="2" y="878"/>
                    </a:lnTo>
                    <a:lnTo>
                      <a:pt x="4" y="875"/>
                    </a:lnTo>
                    <a:lnTo>
                      <a:pt x="6" y="873"/>
                    </a:lnTo>
                    <a:lnTo>
                      <a:pt x="9" y="872"/>
                    </a:lnTo>
                    <a:lnTo>
                      <a:pt x="12" y="871"/>
                    </a:lnTo>
                    <a:lnTo>
                      <a:pt x="15" y="870"/>
                    </a:lnTo>
                    <a:lnTo>
                      <a:pt x="24" y="872"/>
                    </a:lnTo>
                    <a:lnTo>
                      <a:pt x="33" y="875"/>
                    </a:lnTo>
                    <a:lnTo>
                      <a:pt x="37" y="878"/>
                    </a:lnTo>
                    <a:lnTo>
                      <a:pt x="41" y="880"/>
                    </a:lnTo>
                    <a:lnTo>
                      <a:pt x="45" y="881"/>
                    </a:lnTo>
                    <a:lnTo>
                      <a:pt x="48" y="881"/>
                    </a:lnTo>
                    <a:lnTo>
                      <a:pt x="53" y="880"/>
                    </a:lnTo>
                    <a:lnTo>
                      <a:pt x="56" y="878"/>
                    </a:lnTo>
                    <a:lnTo>
                      <a:pt x="60" y="875"/>
                    </a:lnTo>
                    <a:lnTo>
                      <a:pt x="63" y="871"/>
                    </a:lnTo>
                    <a:lnTo>
                      <a:pt x="80" y="843"/>
                    </a:lnTo>
                    <a:lnTo>
                      <a:pt x="98" y="812"/>
                    </a:lnTo>
                    <a:lnTo>
                      <a:pt x="117" y="781"/>
                    </a:lnTo>
                    <a:lnTo>
                      <a:pt x="137" y="745"/>
                    </a:lnTo>
                    <a:lnTo>
                      <a:pt x="158" y="708"/>
                    </a:lnTo>
                    <a:lnTo>
                      <a:pt x="181" y="667"/>
                    </a:lnTo>
                    <a:lnTo>
                      <a:pt x="204" y="625"/>
                    </a:lnTo>
                    <a:lnTo>
                      <a:pt x="228" y="580"/>
                    </a:lnTo>
                    <a:close/>
                    <a:moveTo>
                      <a:pt x="43" y="355"/>
                    </a:moveTo>
                    <a:lnTo>
                      <a:pt x="100" y="382"/>
                    </a:lnTo>
                    <a:lnTo>
                      <a:pt x="143" y="403"/>
                    </a:lnTo>
                    <a:lnTo>
                      <a:pt x="157" y="412"/>
                    </a:lnTo>
                    <a:lnTo>
                      <a:pt x="168" y="419"/>
                    </a:lnTo>
                    <a:lnTo>
                      <a:pt x="175" y="426"/>
                    </a:lnTo>
                    <a:lnTo>
                      <a:pt x="179" y="430"/>
                    </a:lnTo>
                    <a:lnTo>
                      <a:pt x="181" y="438"/>
                    </a:lnTo>
                    <a:lnTo>
                      <a:pt x="182" y="448"/>
                    </a:lnTo>
                    <a:lnTo>
                      <a:pt x="181" y="457"/>
                    </a:lnTo>
                    <a:lnTo>
                      <a:pt x="180" y="467"/>
                    </a:lnTo>
                    <a:lnTo>
                      <a:pt x="178" y="478"/>
                    </a:lnTo>
                    <a:lnTo>
                      <a:pt x="173" y="488"/>
                    </a:lnTo>
                    <a:lnTo>
                      <a:pt x="169" y="499"/>
                    </a:lnTo>
                    <a:lnTo>
                      <a:pt x="164" y="509"/>
                    </a:lnTo>
                    <a:lnTo>
                      <a:pt x="158" y="521"/>
                    </a:lnTo>
                    <a:lnTo>
                      <a:pt x="153" y="528"/>
                    </a:lnTo>
                    <a:lnTo>
                      <a:pt x="151" y="532"/>
                    </a:lnTo>
                    <a:lnTo>
                      <a:pt x="149" y="534"/>
                    </a:lnTo>
                    <a:lnTo>
                      <a:pt x="146" y="535"/>
                    </a:lnTo>
                    <a:lnTo>
                      <a:pt x="144" y="535"/>
                    </a:lnTo>
                    <a:lnTo>
                      <a:pt x="140" y="534"/>
                    </a:lnTo>
                    <a:lnTo>
                      <a:pt x="136" y="532"/>
                    </a:lnTo>
                    <a:lnTo>
                      <a:pt x="130" y="526"/>
                    </a:lnTo>
                    <a:lnTo>
                      <a:pt x="123" y="520"/>
                    </a:lnTo>
                    <a:lnTo>
                      <a:pt x="112" y="507"/>
                    </a:lnTo>
                    <a:lnTo>
                      <a:pt x="100" y="492"/>
                    </a:lnTo>
                    <a:lnTo>
                      <a:pt x="89" y="476"/>
                    </a:lnTo>
                    <a:lnTo>
                      <a:pt x="76" y="460"/>
                    </a:lnTo>
                    <a:lnTo>
                      <a:pt x="50" y="422"/>
                    </a:lnTo>
                    <a:lnTo>
                      <a:pt x="24" y="380"/>
                    </a:lnTo>
                    <a:lnTo>
                      <a:pt x="18" y="371"/>
                    </a:lnTo>
                    <a:lnTo>
                      <a:pt x="13" y="363"/>
                    </a:lnTo>
                    <a:lnTo>
                      <a:pt x="12" y="361"/>
                    </a:lnTo>
                    <a:lnTo>
                      <a:pt x="12" y="358"/>
                    </a:lnTo>
                    <a:lnTo>
                      <a:pt x="12" y="357"/>
                    </a:lnTo>
                    <a:lnTo>
                      <a:pt x="13" y="355"/>
                    </a:lnTo>
                    <a:lnTo>
                      <a:pt x="15" y="352"/>
                    </a:lnTo>
                    <a:lnTo>
                      <a:pt x="18" y="351"/>
                    </a:lnTo>
                    <a:lnTo>
                      <a:pt x="20" y="350"/>
                    </a:lnTo>
                    <a:lnTo>
                      <a:pt x="23" y="349"/>
                    </a:lnTo>
                    <a:lnTo>
                      <a:pt x="32" y="351"/>
                    </a:lnTo>
                    <a:lnTo>
                      <a:pt x="43" y="355"/>
                    </a:lnTo>
                    <a:close/>
                    <a:moveTo>
                      <a:pt x="164" y="134"/>
                    </a:moveTo>
                    <a:lnTo>
                      <a:pt x="185" y="139"/>
                    </a:lnTo>
                    <a:lnTo>
                      <a:pt x="206" y="145"/>
                    </a:lnTo>
                    <a:lnTo>
                      <a:pt x="225" y="151"/>
                    </a:lnTo>
                    <a:lnTo>
                      <a:pt x="243" y="158"/>
                    </a:lnTo>
                    <a:lnTo>
                      <a:pt x="260" y="164"/>
                    </a:lnTo>
                    <a:lnTo>
                      <a:pt x="276" y="170"/>
                    </a:lnTo>
                    <a:lnTo>
                      <a:pt x="291" y="178"/>
                    </a:lnTo>
                    <a:lnTo>
                      <a:pt x="304" y="185"/>
                    </a:lnTo>
                    <a:lnTo>
                      <a:pt x="306" y="191"/>
                    </a:lnTo>
                    <a:lnTo>
                      <a:pt x="307" y="199"/>
                    </a:lnTo>
                    <a:lnTo>
                      <a:pt x="308" y="208"/>
                    </a:lnTo>
                    <a:lnTo>
                      <a:pt x="307" y="218"/>
                    </a:lnTo>
                    <a:lnTo>
                      <a:pt x="306" y="230"/>
                    </a:lnTo>
                    <a:lnTo>
                      <a:pt x="305" y="242"/>
                    </a:lnTo>
                    <a:lnTo>
                      <a:pt x="301" y="255"/>
                    </a:lnTo>
                    <a:lnTo>
                      <a:pt x="298" y="270"/>
                    </a:lnTo>
                    <a:lnTo>
                      <a:pt x="296" y="278"/>
                    </a:lnTo>
                    <a:lnTo>
                      <a:pt x="292" y="286"/>
                    </a:lnTo>
                    <a:lnTo>
                      <a:pt x="289" y="291"/>
                    </a:lnTo>
                    <a:lnTo>
                      <a:pt x="283" y="294"/>
                    </a:lnTo>
                    <a:lnTo>
                      <a:pt x="278" y="293"/>
                    </a:lnTo>
                    <a:lnTo>
                      <a:pt x="271" y="291"/>
                    </a:lnTo>
                    <a:lnTo>
                      <a:pt x="263" y="286"/>
                    </a:lnTo>
                    <a:lnTo>
                      <a:pt x="254" y="279"/>
                    </a:lnTo>
                    <a:lnTo>
                      <a:pt x="244" y="271"/>
                    </a:lnTo>
                    <a:lnTo>
                      <a:pt x="235" y="261"/>
                    </a:lnTo>
                    <a:lnTo>
                      <a:pt x="224" y="250"/>
                    </a:lnTo>
                    <a:lnTo>
                      <a:pt x="212" y="237"/>
                    </a:lnTo>
                    <a:lnTo>
                      <a:pt x="187" y="206"/>
                    </a:lnTo>
                    <a:lnTo>
                      <a:pt x="158" y="169"/>
                    </a:lnTo>
                    <a:lnTo>
                      <a:pt x="153" y="161"/>
                    </a:lnTo>
                    <a:lnTo>
                      <a:pt x="148" y="154"/>
                    </a:lnTo>
                    <a:lnTo>
                      <a:pt x="142" y="138"/>
                    </a:lnTo>
                    <a:lnTo>
                      <a:pt x="138" y="130"/>
                    </a:lnTo>
                    <a:lnTo>
                      <a:pt x="140" y="129"/>
                    </a:lnTo>
                    <a:lnTo>
                      <a:pt x="142" y="128"/>
                    </a:lnTo>
                    <a:lnTo>
                      <a:pt x="145" y="128"/>
                    </a:lnTo>
                    <a:lnTo>
                      <a:pt x="147" y="128"/>
                    </a:lnTo>
                    <a:lnTo>
                      <a:pt x="154" y="130"/>
                    </a:lnTo>
                    <a:lnTo>
                      <a:pt x="164" y="134"/>
                    </a:lnTo>
                    <a:close/>
                    <a:moveTo>
                      <a:pt x="559" y="675"/>
                    </a:moveTo>
                    <a:lnTo>
                      <a:pt x="591" y="687"/>
                    </a:lnTo>
                    <a:lnTo>
                      <a:pt x="618" y="699"/>
                    </a:lnTo>
                    <a:lnTo>
                      <a:pt x="641" y="710"/>
                    </a:lnTo>
                    <a:lnTo>
                      <a:pt x="658" y="720"/>
                    </a:lnTo>
                    <a:lnTo>
                      <a:pt x="659" y="723"/>
                    </a:lnTo>
                    <a:lnTo>
                      <a:pt x="659" y="729"/>
                    </a:lnTo>
                    <a:lnTo>
                      <a:pt x="659" y="735"/>
                    </a:lnTo>
                    <a:lnTo>
                      <a:pt x="658" y="742"/>
                    </a:lnTo>
                    <a:lnTo>
                      <a:pt x="655" y="764"/>
                    </a:lnTo>
                    <a:lnTo>
                      <a:pt x="649" y="790"/>
                    </a:lnTo>
                    <a:lnTo>
                      <a:pt x="646" y="797"/>
                    </a:lnTo>
                    <a:lnTo>
                      <a:pt x="644" y="803"/>
                    </a:lnTo>
                    <a:lnTo>
                      <a:pt x="641" y="807"/>
                    </a:lnTo>
                    <a:lnTo>
                      <a:pt x="638" y="810"/>
                    </a:lnTo>
                    <a:lnTo>
                      <a:pt x="634" y="809"/>
                    </a:lnTo>
                    <a:lnTo>
                      <a:pt x="629" y="807"/>
                    </a:lnTo>
                    <a:lnTo>
                      <a:pt x="623" y="805"/>
                    </a:lnTo>
                    <a:lnTo>
                      <a:pt x="619" y="800"/>
                    </a:lnTo>
                    <a:lnTo>
                      <a:pt x="609" y="788"/>
                    </a:lnTo>
                    <a:lnTo>
                      <a:pt x="599" y="776"/>
                    </a:lnTo>
                    <a:lnTo>
                      <a:pt x="590" y="763"/>
                    </a:lnTo>
                    <a:lnTo>
                      <a:pt x="580" y="749"/>
                    </a:lnTo>
                    <a:lnTo>
                      <a:pt x="570" y="734"/>
                    </a:lnTo>
                    <a:lnTo>
                      <a:pt x="561" y="718"/>
                    </a:lnTo>
                    <a:lnTo>
                      <a:pt x="552" y="702"/>
                    </a:lnTo>
                    <a:lnTo>
                      <a:pt x="544" y="685"/>
                    </a:lnTo>
                    <a:lnTo>
                      <a:pt x="542" y="681"/>
                    </a:lnTo>
                    <a:lnTo>
                      <a:pt x="541" y="678"/>
                    </a:lnTo>
                    <a:lnTo>
                      <a:pt x="542" y="676"/>
                    </a:lnTo>
                    <a:lnTo>
                      <a:pt x="544" y="675"/>
                    </a:lnTo>
                    <a:lnTo>
                      <a:pt x="544" y="674"/>
                    </a:lnTo>
                    <a:lnTo>
                      <a:pt x="547" y="673"/>
                    </a:lnTo>
                    <a:lnTo>
                      <a:pt x="552" y="674"/>
                    </a:lnTo>
                    <a:lnTo>
                      <a:pt x="559" y="675"/>
                    </a:lnTo>
                    <a:close/>
                    <a:moveTo>
                      <a:pt x="603" y="454"/>
                    </a:moveTo>
                    <a:lnTo>
                      <a:pt x="639" y="467"/>
                    </a:lnTo>
                    <a:lnTo>
                      <a:pt x="665" y="478"/>
                    </a:lnTo>
                    <a:lnTo>
                      <a:pt x="674" y="482"/>
                    </a:lnTo>
                    <a:lnTo>
                      <a:pt x="682" y="487"/>
                    </a:lnTo>
                    <a:lnTo>
                      <a:pt x="686" y="491"/>
                    </a:lnTo>
                    <a:lnTo>
                      <a:pt x="689" y="495"/>
                    </a:lnTo>
                    <a:lnTo>
                      <a:pt x="689" y="497"/>
                    </a:lnTo>
                    <a:lnTo>
                      <a:pt x="690" y="500"/>
                    </a:lnTo>
                    <a:lnTo>
                      <a:pt x="689" y="504"/>
                    </a:lnTo>
                    <a:lnTo>
                      <a:pt x="689" y="510"/>
                    </a:lnTo>
                    <a:lnTo>
                      <a:pt x="685" y="525"/>
                    </a:lnTo>
                    <a:lnTo>
                      <a:pt x="679" y="544"/>
                    </a:lnTo>
                    <a:lnTo>
                      <a:pt x="679" y="550"/>
                    </a:lnTo>
                    <a:lnTo>
                      <a:pt x="679" y="555"/>
                    </a:lnTo>
                    <a:lnTo>
                      <a:pt x="676" y="561"/>
                    </a:lnTo>
                    <a:lnTo>
                      <a:pt x="673" y="567"/>
                    </a:lnTo>
                    <a:lnTo>
                      <a:pt x="671" y="569"/>
                    </a:lnTo>
                    <a:lnTo>
                      <a:pt x="669" y="570"/>
                    </a:lnTo>
                    <a:lnTo>
                      <a:pt x="666" y="572"/>
                    </a:lnTo>
                    <a:lnTo>
                      <a:pt x="663" y="571"/>
                    </a:lnTo>
                    <a:lnTo>
                      <a:pt x="658" y="569"/>
                    </a:lnTo>
                    <a:lnTo>
                      <a:pt x="654" y="564"/>
                    </a:lnTo>
                    <a:lnTo>
                      <a:pt x="636" y="540"/>
                    </a:lnTo>
                    <a:lnTo>
                      <a:pt x="620" y="515"/>
                    </a:lnTo>
                    <a:lnTo>
                      <a:pt x="604" y="490"/>
                    </a:lnTo>
                    <a:lnTo>
                      <a:pt x="588" y="465"/>
                    </a:lnTo>
                    <a:lnTo>
                      <a:pt x="586" y="461"/>
                    </a:lnTo>
                    <a:lnTo>
                      <a:pt x="586" y="457"/>
                    </a:lnTo>
                    <a:lnTo>
                      <a:pt x="586" y="455"/>
                    </a:lnTo>
                    <a:lnTo>
                      <a:pt x="588" y="454"/>
                    </a:lnTo>
                    <a:lnTo>
                      <a:pt x="590" y="453"/>
                    </a:lnTo>
                    <a:lnTo>
                      <a:pt x="593" y="452"/>
                    </a:lnTo>
                    <a:lnTo>
                      <a:pt x="597" y="453"/>
                    </a:lnTo>
                    <a:lnTo>
                      <a:pt x="603" y="454"/>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646" name="Freeform 13"/>
              <p:cNvSpPr/>
              <p:nvPr/>
            </p:nvSpPr>
            <p:spPr>
              <a:xfrm>
                <a:off x="843120" y="1288800"/>
                <a:ext cx="185400" cy="152280"/>
              </a:xfrm>
              <a:custGeom>
                <a:avLst/>
                <a:gdLst>
                  <a:gd name="textAreaLeft" fmla="*/ 0 w 185400"/>
                  <a:gd name="textAreaRight" fmla="*/ 185760 w 185400"/>
                  <a:gd name="textAreaTop" fmla="*/ 0 h 152280"/>
                  <a:gd name="textAreaBottom" fmla="*/ 152640 h 152280"/>
                </a:gdLst>
                <a:ahLst/>
                <a:rect l="textAreaLeft" t="textAreaTop" r="textAreaRight" b="textAreaBottom"/>
                <a:pathLst>
                  <a:path w="1246" h="1097">
                    <a:moveTo>
                      <a:pt x="796" y="610"/>
                    </a:moveTo>
                    <a:lnTo>
                      <a:pt x="800" y="608"/>
                    </a:lnTo>
                    <a:lnTo>
                      <a:pt x="804" y="607"/>
                    </a:lnTo>
                    <a:lnTo>
                      <a:pt x="808" y="607"/>
                    </a:lnTo>
                    <a:lnTo>
                      <a:pt x="813" y="609"/>
                    </a:lnTo>
                    <a:lnTo>
                      <a:pt x="817" y="611"/>
                    </a:lnTo>
                    <a:lnTo>
                      <a:pt x="821" y="614"/>
                    </a:lnTo>
                    <a:lnTo>
                      <a:pt x="826" y="620"/>
                    </a:lnTo>
                    <a:lnTo>
                      <a:pt x="831" y="625"/>
                    </a:lnTo>
                    <a:lnTo>
                      <a:pt x="839" y="631"/>
                    </a:lnTo>
                    <a:lnTo>
                      <a:pt x="846" y="639"/>
                    </a:lnTo>
                    <a:lnTo>
                      <a:pt x="854" y="648"/>
                    </a:lnTo>
                    <a:lnTo>
                      <a:pt x="861" y="660"/>
                    </a:lnTo>
                    <a:lnTo>
                      <a:pt x="863" y="662"/>
                    </a:lnTo>
                    <a:lnTo>
                      <a:pt x="864" y="665"/>
                    </a:lnTo>
                    <a:lnTo>
                      <a:pt x="866" y="667"/>
                    </a:lnTo>
                    <a:lnTo>
                      <a:pt x="866" y="670"/>
                    </a:lnTo>
                    <a:lnTo>
                      <a:pt x="868" y="675"/>
                    </a:lnTo>
                    <a:lnTo>
                      <a:pt x="869" y="678"/>
                    </a:lnTo>
                    <a:lnTo>
                      <a:pt x="868" y="679"/>
                    </a:lnTo>
                    <a:lnTo>
                      <a:pt x="866" y="680"/>
                    </a:lnTo>
                    <a:lnTo>
                      <a:pt x="866" y="682"/>
                    </a:lnTo>
                    <a:lnTo>
                      <a:pt x="863" y="683"/>
                    </a:lnTo>
                    <a:lnTo>
                      <a:pt x="860" y="684"/>
                    </a:lnTo>
                    <a:lnTo>
                      <a:pt x="856" y="685"/>
                    </a:lnTo>
                    <a:lnTo>
                      <a:pt x="840" y="686"/>
                    </a:lnTo>
                    <a:lnTo>
                      <a:pt x="822" y="689"/>
                    </a:lnTo>
                    <a:lnTo>
                      <a:pt x="801" y="690"/>
                    </a:lnTo>
                    <a:lnTo>
                      <a:pt x="779" y="693"/>
                    </a:lnTo>
                    <a:lnTo>
                      <a:pt x="753" y="695"/>
                    </a:lnTo>
                    <a:lnTo>
                      <a:pt x="727" y="698"/>
                    </a:lnTo>
                    <a:lnTo>
                      <a:pt x="697" y="701"/>
                    </a:lnTo>
                    <a:lnTo>
                      <a:pt x="666" y="704"/>
                    </a:lnTo>
                    <a:lnTo>
                      <a:pt x="649" y="708"/>
                    </a:lnTo>
                    <a:lnTo>
                      <a:pt x="635" y="709"/>
                    </a:lnTo>
                    <a:lnTo>
                      <a:pt x="622" y="710"/>
                    </a:lnTo>
                    <a:lnTo>
                      <a:pt x="611" y="710"/>
                    </a:lnTo>
                    <a:lnTo>
                      <a:pt x="611" y="739"/>
                    </a:lnTo>
                    <a:lnTo>
                      <a:pt x="611" y="770"/>
                    </a:lnTo>
                    <a:lnTo>
                      <a:pt x="611" y="802"/>
                    </a:lnTo>
                    <a:lnTo>
                      <a:pt x="611" y="835"/>
                    </a:lnTo>
                    <a:lnTo>
                      <a:pt x="611" y="870"/>
                    </a:lnTo>
                    <a:lnTo>
                      <a:pt x="611" y="905"/>
                    </a:lnTo>
                    <a:lnTo>
                      <a:pt x="611" y="942"/>
                    </a:lnTo>
                    <a:lnTo>
                      <a:pt x="611" y="980"/>
                    </a:lnTo>
                    <a:lnTo>
                      <a:pt x="674" y="973"/>
                    </a:lnTo>
                    <a:lnTo>
                      <a:pt x="731" y="966"/>
                    </a:lnTo>
                    <a:lnTo>
                      <a:pt x="784" y="961"/>
                    </a:lnTo>
                    <a:lnTo>
                      <a:pt x="833" y="956"/>
                    </a:lnTo>
                    <a:lnTo>
                      <a:pt x="875" y="950"/>
                    </a:lnTo>
                    <a:lnTo>
                      <a:pt x="914" y="946"/>
                    </a:lnTo>
                    <a:lnTo>
                      <a:pt x="947" y="943"/>
                    </a:lnTo>
                    <a:lnTo>
                      <a:pt x="976" y="940"/>
                    </a:lnTo>
                    <a:lnTo>
                      <a:pt x="983" y="941"/>
                    </a:lnTo>
                    <a:lnTo>
                      <a:pt x="989" y="941"/>
                    </a:lnTo>
                    <a:lnTo>
                      <a:pt x="996" y="942"/>
                    </a:lnTo>
                    <a:lnTo>
                      <a:pt x="1001" y="944"/>
                    </a:lnTo>
                    <a:lnTo>
                      <a:pt x="1005" y="946"/>
                    </a:lnTo>
                    <a:lnTo>
                      <a:pt x="1010" y="948"/>
                    </a:lnTo>
                    <a:lnTo>
                      <a:pt x="1013" y="951"/>
                    </a:lnTo>
                    <a:lnTo>
                      <a:pt x="1016" y="956"/>
                    </a:lnTo>
                    <a:lnTo>
                      <a:pt x="1028" y="967"/>
                    </a:lnTo>
                    <a:lnTo>
                      <a:pt x="1041" y="985"/>
                    </a:lnTo>
                    <a:lnTo>
                      <a:pt x="1048" y="997"/>
                    </a:lnTo>
                    <a:lnTo>
                      <a:pt x="1053" y="1007"/>
                    </a:lnTo>
                    <a:lnTo>
                      <a:pt x="1058" y="1014"/>
                    </a:lnTo>
                    <a:lnTo>
                      <a:pt x="1062" y="1020"/>
                    </a:lnTo>
                    <a:lnTo>
                      <a:pt x="1063" y="1025"/>
                    </a:lnTo>
                    <a:lnTo>
                      <a:pt x="1064" y="1029"/>
                    </a:lnTo>
                    <a:lnTo>
                      <a:pt x="1063" y="1032"/>
                    </a:lnTo>
                    <a:lnTo>
                      <a:pt x="1062" y="1035"/>
                    </a:lnTo>
                    <a:lnTo>
                      <a:pt x="1060" y="1037"/>
                    </a:lnTo>
                    <a:lnTo>
                      <a:pt x="1057" y="1037"/>
                    </a:lnTo>
                    <a:lnTo>
                      <a:pt x="1053" y="1037"/>
                    </a:lnTo>
                    <a:lnTo>
                      <a:pt x="1047" y="1035"/>
                    </a:lnTo>
                    <a:lnTo>
                      <a:pt x="1002" y="1034"/>
                    </a:lnTo>
                    <a:lnTo>
                      <a:pt x="957" y="1034"/>
                    </a:lnTo>
                    <a:lnTo>
                      <a:pt x="911" y="1034"/>
                    </a:lnTo>
                    <a:lnTo>
                      <a:pt x="864" y="1035"/>
                    </a:lnTo>
                    <a:lnTo>
                      <a:pt x="818" y="1037"/>
                    </a:lnTo>
                    <a:lnTo>
                      <a:pt x="769" y="1039"/>
                    </a:lnTo>
                    <a:lnTo>
                      <a:pt x="720" y="1041"/>
                    </a:lnTo>
                    <a:lnTo>
                      <a:pt x="671" y="1046"/>
                    </a:lnTo>
                    <a:lnTo>
                      <a:pt x="621" y="1049"/>
                    </a:lnTo>
                    <a:lnTo>
                      <a:pt x="569" y="1054"/>
                    </a:lnTo>
                    <a:lnTo>
                      <a:pt x="517" y="1059"/>
                    </a:lnTo>
                    <a:lnTo>
                      <a:pt x="465" y="1065"/>
                    </a:lnTo>
                    <a:lnTo>
                      <a:pt x="411" y="1072"/>
                    </a:lnTo>
                    <a:lnTo>
                      <a:pt x="357" y="1079"/>
                    </a:lnTo>
                    <a:lnTo>
                      <a:pt x="302" y="1087"/>
                    </a:lnTo>
                    <a:lnTo>
                      <a:pt x="246" y="1096"/>
                    </a:lnTo>
                    <a:lnTo>
                      <a:pt x="240" y="1097"/>
                    </a:lnTo>
                    <a:lnTo>
                      <a:pt x="234" y="1097"/>
                    </a:lnTo>
                    <a:lnTo>
                      <a:pt x="229" y="1097"/>
                    </a:lnTo>
                    <a:lnTo>
                      <a:pt x="224" y="1096"/>
                    </a:lnTo>
                    <a:lnTo>
                      <a:pt x="218" y="1093"/>
                    </a:lnTo>
                    <a:lnTo>
                      <a:pt x="214" y="1091"/>
                    </a:lnTo>
                    <a:lnTo>
                      <a:pt x="210" y="1089"/>
                    </a:lnTo>
                    <a:lnTo>
                      <a:pt x="206" y="1085"/>
                    </a:lnTo>
                    <a:lnTo>
                      <a:pt x="197" y="1075"/>
                    </a:lnTo>
                    <a:lnTo>
                      <a:pt x="181" y="1055"/>
                    </a:lnTo>
                    <a:lnTo>
                      <a:pt x="172" y="1044"/>
                    </a:lnTo>
                    <a:lnTo>
                      <a:pt x="163" y="1035"/>
                    </a:lnTo>
                    <a:lnTo>
                      <a:pt x="157" y="1029"/>
                    </a:lnTo>
                    <a:lnTo>
                      <a:pt x="151" y="1026"/>
                    </a:lnTo>
                    <a:lnTo>
                      <a:pt x="187" y="1025"/>
                    </a:lnTo>
                    <a:lnTo>
                      <a:pt x="225" y="1023"/>
                    </a:lnTo>
                    <a:lnTo>
                      <a:pt x="267" y="1020"/>
                    </a:lnTo>
                    <a:lnTo>
                      <a:pt x="314" y="1016"/>
                    </a:lnTo>
                    <a:lnTo>
                      <a:pt x="362" y="1012"/>
                    </a:lnTo>
                    <a:lnTo>
                      <a:pt x="415" y="1005"/>
                    </a:lnTo>
                    <a:lnTo>
                      <a:pt x="472" y="998"/>
                    </a:lnTo>
                    <a:lnTo>
                      <a:pt x="531" y="991"/>
                    </a:lnTo>
                    <a:lnTo>
                      <a:pt x="531" y="973"/>
                    </a:lnTo>
                    <a:lnTo>
                      <a:pt x="531" y="954"/>
                    </a:lnTo>
                    <a:lnTo>
                      <a:pt x="532" y="932"/>
                    </a:lnTo>
                    <a:lnTo>
                      <a:pt x="532" y="911"/>
                    </a:lnTo>
                    <a:lnTo>
                      <a:pt x="533" y="889"/>
                    </a:lnTo>
                    <a:lnTo>
                      <a:pt x="534" y="866"/>
                    </a:lnTo>
                    <a:lnTo>
                      <a:pt x="535" y="841"/>
                    </a:lnTo>
                    <a:lnTo>
                      <a:pt x="536" y="815"/>
                    </a:lnTo>
                    <a:lnTo>
                      <a:pt x="536" y="785"/>
                    </a:lnTo>
                    <a:lnTo>
                      <a:pt x="536" y="760"/>
                    </a:lnTo>
                    <a:lnTo>
                      <a:pt x="536" y="741"/>
                    </a:lnTo>
                    <a:lnTo>
                      <a:pt x="536" y="725"/>
                    </a:lnTo>
                    <a:lnTo>
                      <a:pt x="496" y="733"/>
                    </a:lnTo>
                    <a:lnTo>
                      <a:pt x="457" y="741"/>
                    </a:lnTo>
                    <a:lnTo>
                      <a:pt x="419" y="748"/>
                    </a:lnTo>
                    <a:lnTo>
                      <a:pt x="382" y="755"/>
                    </a:lnTo>
                    <a:lnTo>
                      <a:pt x="373" y="754"/>
                    </a:lnTo>
                    <a:lnTo>
                      <a:pt x="363" y="751"/>
                    </a:lnTo>
                    <a:lnTo>
                      <a:pt x="353" y="747"/>
                    </a:lnTo>
                    <a:lnTo>
                      <a:pt x="341" y="741"/>
                    </a:lnTo>
                    <a:lnTo>
                      <a:pt x="334" y="736"/>
                    </a:lnTo>
                    <a:lnTo>
                      <a:pt x="326" y="732"/>
                    </a:lnTo>
                    <a:lnTo>
                      <a:pt x="320" y="727"/>
                    </a:lnTo>
                    <a:lnTo>
                      <a:pt x="314" y="721"/>
                    </a:lnTo>
                    <a:lnTo>
                      <a:pt x="307" y="715"/>
                    </a:lnTo>
                    <a:lnTo>
                      <a:pt x="301" y="709"/>
                    </a:lnTo>
                    <a:lnTo>
                      <a:pt x="296" y="702"/>
                    </a:lnTo>
                    <a:lnTo>
                      <a:pt x="290" y="695"/>
                    </a:lnTo>
                    <a:lnTo>
                      <a:pt x="317" y="693"/>
                    </a:lnTo>
                    <a:lnTo>
                      <a:pt x="343" y="691"/>
                    </a:lnTo>
                    <a:lnTo>
                      <a:pt x="372" y="686"/>
                    </a:lnTo>
                    <a:lnTo>
                      <a:pt x="401" y="682"/>
                    </a:lnTo>
                    <a:lnTo>
                      <a:pt x="431" y="677"/>
                    </a:lnTo>
                    <a:lnTo>
                      <a:pt x="463" y="671"/>
                    </a:lnTo>
                    <a:lnTo>
                      <a:pt x="497" y="663"/>
                    </a:lnTo>
                    <a:lnTo>
                      <a:pt x="531" y="655"/>
                    </a:lnTo>
                    <a:lnTo>
                      <a:pt x="530" y="622"/>
                    </a:lnTo>
                    <a:lnTo>
                      <a:pt x="528" y="591"/>
                    </a:lnTo>
                    <a:lnTo>
                      <a:pt x="526" y="577"/>
                    </a:lnTo>
                    <a:lnTo>
                      <a:pt x="522" y="564"/>
                    </a:lnTo>
                    <a:lnTo>
                      <a:pt x="519" y="552"/>
                    </a:lnTo>
                    <a:lnTo>
                      <a:pt x="516" y="540"/>
                    </a:lnTo>
                    <a:lnTo>
                      <a:pt x="499" y="542"/>
                    </a:lnTo>
                    <a:lnTo>
                      <a:pt x="482" y="547"/>
                    </a:lnTo>
                    <a:lnTo>
                      <a:pt x="466" y="550"/>
                    </a:lnTo>
                    <a:lnTo>
                      <a:pt x="451" y="555"/>
                    </a:lnTo>
                    <a:lnTo>
                      <a:pt x="447" y="556"/>
                    </a:lnTo>
                    <a:lnTo>
                      <a:pt x="443" y="556"/>
                    </a:lnTo>
                    <a:lnTo>
                      <a:pt x="439" y="556"/>
                    </a:lnTo>
                    <a:lnTo>
                      <a:pt x="434" y="555"/>
                    </a:lnTo>
                    <a:lnTo>
                      <a:pt x="426" y="551"/>
                    </a:lnTo>
                    <a:lnTo>
                      <a:pt x="416" y="544"/>
                    </a:lnTo>
                    <a:lnTo>
                      <a:pt x="397" y="531"/>
                    </a:lnTo>
                    <a:lnTo>
                      <a:pt x="383" y="519"/>
                    </a:lnTo>
                    <a:lnTo>
                      <a:pt x="370" y="508"/>
                    </a:lnTo>
                    <a:lnTo>
                      <a:pt x="361" y="500"/>
                    </a:lnTo>
                    <a:lnTo>
                      <a:pt x="377" y="497"/>
                    </a:lnTo>
                    <a:lnTo>
                      <a:pt x="395" y="494"/>
                    </a:lnTo>
                    <a:lnTo>
                      <a:pt x="415" y="489"/>
                    </a:lnTo>
                    <a:lnTo>
                      <a:pt x="439" y="485"/>
                    </a:lnTo>
                    <a:lnTo>
                      <a:pt x="463" y="480"/>
                    </a:lnTo>
                    <a:lnTo>
                      <a:pt x="491" y="473"/>
                    </a:lnTo>
                    <a:lnTo>
                      <a:pt x="519" y="467"/>
                    </a:lnTo>
                    <a:lnTo>
                      <a:pt x="551" y="460"/>
                    </a:lnTo>
                    <a:lnTo>
                      <a:pt x="580" y="452"/>
                    </a:lnTo>
                    <a:lnTo>
                      <a:pt x="607" y="446"/>
                    </a:lnTo>
                    <a:lnTo>
                      <a:pt x="634" y="441"/>
                    </a:lnTo>
                    <a:lnTo>
                      <a:pt x="657" y="435"/>
                    </a:lnTo>
                    <a:lnTo>
                      <a:pt x="679" y="430"/>
                    </a:lnTo>
                    <a:lnTo>
                      <a:pt x="700" y="426"/>
                    </a:lnTo>
                    <a:lnTo>
                      <a:pt x="719" y="423"/>
                    </a:lnTo>
                    <a:lnTo>
                      <a:pt x="736" y="419"/>
                    </a:lnTo>
                    <a:lnTo>
                      <a:pt x="741" y="418"/>
                    </a:lnTo>
                    <a:lnTo>
                      <a:pt x="746" y="417"/>
                    </a:lnTo>
                    <a:lnTo>
                      <a:pt x="751" y="417"/>
                    </a:lnTo>
                    <a:lnTo>
                      <a:pt x="756" y="418"/>
                    </a:lnTo>
                    <a:lnTo>
                      <a:pt x="761" y="420"/>
                    </a:lnTo>
                    <a:lnTo>
                      <a:pt x="766" y="425"/>
                    </a:lnTo>
                    <a:lnTo>
                      <a:pt x="771" y="429"/>
                    </a:lnTo>
                    <a:lnTo>
                      <a:pt x="776" y="434"/>
                    </a:lnTo>
                    <a:lnTo>
                      <a:pt x="777" y="437"/>
                    </a:lnTo>
                    <a:lnTo>
                      <a:pt x="778" y="440"/>
                    </a:lnTo>
                    <a:lnTo>
                      <a:pt x="779" y="443"/>
                    </a:lnTo>
                    <a:lnTo>
                      <a:pt x="781" y="445"/>
                    </a:lnTo>
                    <a:lnTo>
                      <a:pt x="788" y="452"/>
                    </a:lnTo>
                    <a:lnTo>
                      <a:pt x="794" y="460"/>
                    </a:lnTo>
                    <a:lnTo>
                      <a:pt x="798" y="467"/>
                    </a:lnTo>
                    <a:lnTo>
                      <a:pt x="801" y="475"/>
                    </a:lnTo>
                    <a:lnTo>
                      <a:pt x="805" y="484"/>
                    </a:lnTo>
                    <a:lnTo>
                      <a:pt x="806" y="489"/>
                    </a:lnTo>
                    <a:lnTo>
                      <a:pt x="803" y="493"/>
                    </a:lnTo>
                    <a:lnTo>
                      <a:pt x="800" y="494"/>
                    </a:lnTo>
                    <a:lnTo>
                      <a:pt x="796" y="495"/>
                    </a:lnTo>
                    <a:lnTo>
                      <a:pt x="791" y="495"/>
                    </a:lnTo>
                    <a:lnTo>
                      <a:pt x="767" y="497"/>
                    </a:lnTo>
                    <a:lnTo>
                      <a:pt x="743" y="499"/>
                    </a:lnTo>
                    <a:lnTo>
                      <a:pt x="715" y="502"/>
                    </a:lnTo>
                    <a:lnTo>
                      <a:pt x="685" y="506"/>
                    </a:lnTo>
                    <a:lnTo>
                      <a:pt x="655" y="511"/>
                    </a:lnTo>
                    <a:lnTo>
                      <a:pt x="622" y="517"/>
                    </a:lnTo>
                    <a:lnTo>
                      <a:pt x="587" y="523"/>
                    </a:lnTo>
                    <a:lnTo>
                      <a:pt x="551" y="530"/>
                    </a:lnTo>
                    <a:lnTo>
                      <a:pt x="573" y="537"/>
                    </a:lnTo>
                    <a:lnTo>
                      <a:pt x="595" y="542"/>
                    </a:lnTo>
                    <a:lnTo>
                      <a:pt x="619" y="547"/>
                    </a:lnTo>
                    <a:lnTo>
                      <a:pt x="641" y="550"/>
                    </a:lnTo>
                    <a:lnTo>
                      <a:pt x="638" y="556"/>
                    </a:lnTo>
                    <a:lnTo>
                      <a:pt x="634" y="562"/>
                    </a:lnTo>
                    <a:lnTo>
                      <a:pt x="631" y="572"/>
                    </a:lnTo>
                    <a:lnTo>
                      <a:pt x="628" y="583"/>
                    </a:lnTo>
                    <a:lnTo>
                      <a:pt x="624" y="608"/>
                    </a:lnTo>
                    <a:lnTo>
                      <a:pt x="621" y="640"/>
                    </a:lnTo>
                    <a:lnTo>
                      <a:pt x="633" y="638"/>
                    </a:lnTo>
                    <a:lnTo>
                      <a:pt x="647" y="635"/>
                    </a:lnTo>
                    <a:lnTo>
                      <a:pt x="665" y="632"/>
                    </a:lnTo>
                    <a:lnTo>
                      <a:pt x="685" y="630"/>
                    </a:lnTo>
                    <a:lnTo>
                      <a:pt x="722" y="623"/>
                    </a:lnTo>
                    <a:lnTo>
                      <a:pt x="751" y="618"/>
                    </a:lnTo>
                    <a:lnTo>
                      <a:pt x="777" y="613"/>
                    </a:lnTo>
                    <a:lnTo>
                      <a:pt x="796" y="610"/>
                    </a:lnTo>
                    <a:close/>
                    <a:moveTo>
                      <a:pt x="551" y="0"/>
                    </a:moveTo>
                    <a:lnTo>
                      <a:pt x="569" y="16"/>
                    </a:lnTo>
                    <a:lnTo>
                      <a:pt x="587" y="31"/>
                    </a:lnTo>
                    <a:lnTo>
                      <a:pt x="603" y="43"/>
                    </a:lnTo>
                    <a:lnTo>
                      <a:pt x="619" y="55"/>
                    </a:lnTo>
                    <a:lnTo>
                      <a:pt x="633" y="63"/>
                    </a:lnTo>
                    <a:lnTo>
                      <a:pt x="646" y="71"/>
                    </a:lnTo>
                    <a:lnTo>
                      <a:pt x="659" y="76"/>
                    </a:lnTo>
                    <a:lnTo>
                      <a:pt x="671" y="79"/>
                    </a:lnTo>
                    <a:lnTo>
                      <a:pt x="656" y="91"/>
                    </a:lnTo>
                    <a:lnTo>
                      <a:pt x="641" y="105"/>
                    </a:lnTo>
                    <a:lnTo>
                      <a:pt x="626" y="121"/>
                    </a:lnTo>
                    <a:lnTo>
                      <a:pt x="611" y="140"/>
                    </a:lnTo>
                    <a:lnTo>
                      <a:pt x="631" y="154"/>
                    </a:lnTo>
                    <a:lnTo>
                      <a:pt x="659" y="176"/>
                    </a:lnTo>
                    <a:lnTo>
                      <a:pt x="692" y="202"/>
                    </a:lnTo>
                    <a:lnTo>
                      <a:pt x="731" y="235"/>
                    </a:lnTo>
                    <a:lnTo>
                      <a:pt x="768" y="266"/>
                    </a:lnTo>
                    <a:lnTo>
                      <a:pt x="803" y="293"/>
                    </a:lnTo>
                    <a:lnTo>
                      <a:pt x="835" y="318"/>
                    </a:lnTo>
                    <a:lnTo>
                      <a:pt x="863" y="339"/>
                    </a:lnTo>
                    <a:lnTo>
                      <a:pt x="890" y="356"/>
                    </a:lnTo>
                    <a:lnTo>
                      <a:pt x="913" y="371"/>
                    </a:lnTo>
                    <a:lnTo>
                      <a:pt x="933" y="381"/>
                    </a:lnTo>
                    <a:lnTo>
                      <a:pt x="951" y="390"/>
                    </a:lnTo>
                    <a:lnTo>
                      <a:pt x="991" y="405"/>
                    </a:lnTo>
                    <a:lnTo>
                      <a:pt x="1028" y="420"/>
                    </a:lnTo>
                    <a:lnTo>
                      <a:pt x="1063" y="435"/>
                    </a:lnTo>
                    <a:lnTo>
                      <a:pt x="1096" y="451"/>
                    </a:lnTo>
                    <a:lnTo>
                      <a:pt x="1127" y="467"/>
                    </a:lnTo>
                    <a:lnTo>
                      <a:pt x="1158" y="483"/>
                    </a:lnTo>
                    <a:lnTo>
                      <a:pt x="1185" y="499"/>
                    </a:lnTo>
                    <a:lnTo>
                      <a:pt x="1211" y="515"/>
                    </a:lnTo>
                    <a:lnTo>
                      <a:pt x="1219" y="520"/>
                    </a:lnTo>
                    <a:lnTo>
                      <a:pt x="1227" y="524"/>
                    </a:lnTo>
                    <a:lnTo>
                      <a:pt x="1232" y="530"/>
                    </a:lnTo>
                    <a:lnTo>
                      <a:pt x="1237" y="535"/>
                    </a:lnTo>
                    <a:lnTo>
                      <a:pt x="1242" y="540"/>
                    </a:lnTo>
                    <a:lnTo>
                      <a:pt x="1244" y="544"/>
                    </a:lnTo>
                    <a:lnTo>
                      <a:pt x="1246" y="550"/>
                    </a:lnTo>
                    <a:lnTo>
                      <a:pt x="1246" y="555"/>
                    </a:lnTo>
                    <a:lnTo>
                      <a:pt x="1245" y="558"/>
                    </a:lnTo>
                    <a:lnTo>
                      <a:pt x="1242" y="561"/>
                    </a:lnTo>
                    <a:lnTo>
                      <a:pt x="1237" y="564"/>
                    </a:lnTo>
                    <a:lnTo>
                      <a:pt x="1232" y="566"/>
                    </a:lnTo>
                    <a:lnTo>
                      <a:pt x="1226" y="568"/>
                    </a:lnTo>
                    <a:lnTo>
                      <a:pt x="1219" y="569"/>
                    </a:lnTo>
                    <a:lnTo>
                      <a:pt x="1211" y="570"/>
                    </a:lnTo>
                    <a:lnTo>
                      <a:pt x="1201" y="570"/>
                    </a:lnTo>
                    <a:lnTo>
                      <a:pt x="1171" y="570"/>
                    </a:lnTo>
                    <a:lnTo>
                      <a:pt x="1141" y="569"/>
                    </a:lnTo>
                    <a:lnTo>
                      <a:pt x="1111" y="567"/>
                    </a:lnTo>
                    <a:lnTo>
                      <a:pt x="1084" y="565"/>
                    </a:lnTo>
                    <a:lnTo>
                      <a:pt x="1056" y="562"/>
                    </a:lnTo>
                    <a:lnTo>
                      <a:pt x="1031" y="558"/>
                    </a:lnTo>
                    <a:lnTo>
                      <a:pt x="1005" y="554"/>
                    </a:lnTo>
                    <a:lnTo>
                      <a:pt x="981" y="550"/>
                    </a:lnTo>
                    <a:lnTo>
                      <a:pt x="966" y="547"/>
                    </a:lnTo>
                    <a:lnTo>
                      <a:pt x="951" y="541"/>
                    </a:lnTo>
                    <a:lnTo>
                      <a:pt x="937" y="535"/>
                    </a:lnTo>
                    <a:lnTo>
                      <a:pt x="923" y="528"/>
                    </a:lnTo>
                    <a:lnTo>
                      <a:pt x="908" y="518"/>
                    </a:lnTo>
                    <a:lnTo>
                      <a:pt x="894" y="506"/>
                    </a:lnTo>
                    <a:lnTo>
                      <a:pt x="880" y="494"/>
                    </a:lnTo>
                    <a:lnTo>
                      <a:pt x="866" y="480"/>
                    </a:lnTo>
                    <a:lnTo>
                      <a:pt x="839" y="454"/>
                    </a:lnTo>
                    <a:lnTo>
                      <a:pt x="806" y="422"/>
                    </a:lnTo>
                    <a:lnTo>
                      <a:pt x="768" y="381"/>
                    </a:lnTo>
                    <a:lnTo>
                      <a:pt x="726" y="335"/>
                    </a:lnTo>
                    <a:lnTo>
                      <a:pt x="679" y="282"/>
                    </a:lnTo>
                    <a:lnTo>
                      <a:pt x="639" y="238"/>
                    </a:lnTo>
                    <a:lnTo>
                      <a:pt x="621" y="220"/>
                    </a:lnTo>
                    <a:lnTo>
                      <a:pt x="604" y="204"/>
                    </a:lnTo>
                    <a:lnTo>
                      <a:pt x="589" y="191"/>
                    </a:lnTo>
                    <a:lnTo>
                      <a:pt x="576" y="180"/>
                    </a:lnTo>
                    <a:lnTo>
                      <a:pt x="566" y="194"/>
                    </a:lnTo>
                    <a:lnTo>
                      <a:pt x="556" y="204"/>
                    </a:lnTo>
                    <a:lnTo>
                      <a:pt x="518" y="262"/>
                    </a:lnTo>
                    <a:lnTo>
                      <a:pt x="480" y="316"/>
                    </a:lnTo>
                    <a:lnTo>
                      <a:pt x="441" y="369"/>
                    </a:lnTo>
                    <a:lnTo>
                      <a:pt x="401" y="419"/>
                    </a:lnTo>
                    <a:lnTo>
                      <a:pt x="360" y="469"/>
                    </a:lnTo>
                    <a:lnTo>
                      <a:pt x="320" y="516"/>
                    </a:lnTo>
                    <a:lnTo>
                      <a:pt x="278" y="561"/>
                    </a:lnTo>
                    <a:lnTo>
                      <a:pt x="236" y="605"/>
                    </a:lnTo>
                    <a:lnTo>
                      <a:pt x="221" y="619"/>
                    </a:lnTo>
                    <a:lnTo>
                      <a:pt x="205" y="631"/>
                    </a:lnTo>
                    <a:lnTo>
                      <a:pt x="190" y="642"/>
                    </a:lnTo>
                    <a:lnTo>
                      <a:pt x="174" y="650"/>
                    </a:lnTo>
                    <a:lnTo>
                      <a:pt x="159" y="658"/>
                    </a:lnTo>
                    <a:lnTo>
                      <a:pt x="144" y="663"/>
                    </a:lnTo>
                    <a:lnTo>
                      <a:pt x="129" y="667"/>
                    </a:lnTo>
                    <a:lnTo>
                      <a:pt x="115" y="668"/>
                    </a:lnTo>
                    <a:lnTo>
                      <a:pt x="100" y="668"/>
                    </a:lnTo>
                    <a:lnTo>
                      <a:pt x="85" y="667"/>
                    </a:lnTo>
                    <a:lnTo>
                      <a:pt x="71" y="664"/>
                    </a:lnTo>
                    <a:lnTo>
                      <a:pt x="56" y="659"/>
                    </a:lnTo>
                    <a:lnTo>
                      <a:pt x="43" y="652"/>
                    </a:lnTo>
                    <a:lnTo>
                      <a:pt x="29" y="643"/>
                    </a:lnTo>
                    <a:lnTo>
                      <a:pt x="15" y="632"/>
                    </a:lnTo>
                    <a:lnTo>
                      <a:pt x="0" y="620"/>
                    </a:lnTo>
                    <a:lnTo>
                      <a:pt x="31" y="608"/>
                    </a:lnTo>
                    <a:lnTo>
                      <a:pt x="61" y="593"/>
                    </a:lnTo>
                    <a:lnTo>
                      <a:pt x="90" y="577"/>
                    </a:lnTo>
                    <a:lnTo>
                      <a:pt x="120" y="560"/>
                    </a:lnTo>
                    <a:lnTo>
                      <a:pt x="150" y="540"/>
                    </a:lnTo>
                    <a:lnTo>
                      <a:pt x="179" y="519"/>
                    </a:lnTo>
                    <a:lnTo>
                      <a:pt x="209" y="495"/>
                    </a:lnTo>
                    <a:lnTo>
                      <a:pt x="239" y="470"/>
                    </a:lnTo>
                    <a:lnTo>
                      <a:pt x="268" y="443"/>
                    </a:lnTo>
                    <a:lnTo>
                      <a:pt x="297" y="413"/>
                    </a:lnTo>
                    <a:lnTo>
                      <a:pt x="326" y="382"/>
                    </a:lnTo>
                    <a:lnTo>
                      <a:pt x="355" y="349"/>
                    </a:lnTo>
                    <a:lnTo>
                      <a:pt x="385" y="315"/>
                    </a:lnTo>
                    <a:lnTo>
                      <a:pt x="413" y="278"/>
                    </a:lnTo>
                    <a:lnTo>
                      <a:pt x="442" y="240"/>
                    </a:lnTo>
                    <a:lnTo>
                      <a:pt x="470" y="200"/>
                    </a:lnTo>
                    <a:lnTo>
                      <a:pt x="488" y="170"/>
                    </a:lnTo>
                    <a:lnTo>
                      <a:pt x="504" y="142"/>
                    </a:lnTo>
                    <a:lnTo>
                      <a:pt x="517" y="115"/>
                    </a:lnTo>
                    <a:lnTo>
                      <a:pt x="529" y="90"/>
                    </a:lnTo>
                    <a:lnTo>
                      <a:pt x="537" y="65"/>
                    </a:lnTo>
                    <a:lnTo>
                      <a:pt x="544" y="42"/>
                    </a:lnTo>
                    <a:lnTo>
                      <a:pt x="549" y="20"/>
                    </a:lnTo>
                    <a:lnTo>
                      <a:pt x="551" y="0"/>
                    </a:lnTo>
                    <a:close/>
                    <a:moveTo>
                      <a:pt x="641" y="915"/>
                    </a:moveTo>
                    <a:lnTo>
                      <a:pt x="630" y="901"/>
                    </a:lnTo>
                    <a:lnTo>
                      <a:pt x="662" y="875"/>
                    </a:lnTo>
                    <a:lnTo>
                      <a:pt x="689" y="851"/>
                    </a:lnTo>
                    <a:lnTo>
                      <a:pt x="701" y="839"/>
                    </a:lnTo>
                    <a:lnTo>
                      <a:pt x="713" y="827"/>
                    </a:lnTo>
                    <a:lnTo>
                      <a:pt x="724" y="816"/>
                    </a:lnTo>
                    <a:lnTo>
                      <a:pt x="733" y="804"/>
                    </a:lnTo>
                    <a:lnTo>
                      <a:pt x="743" y="792"/>
                    </a:lnTo>
                    <a:lnTo>
                      <a:pt x="750" y="781"/>
                    </a:lnTo>
                    <a:lnTo>
                      <a:pt x="758" y="769"/>
                    </a:lnTo>
                    <a:lnTo>
                      <a:pt x="764" y="759"/>
                    </a:lnTo>
                    <a:lnTo>
                      <a:pt x="769" y="748"/>
                    </a:lnTo>
                    <a:lnTo>
                      <a:pt x="774" y="736"/>
                    </a:lnTo>
                    <a:lnTo>
                      <a:pt x="778" y="726"/>
                    </a:lnTo>
                    <a:lnTo>
                      <a:pt x="781" y="715"/>
                    </a:lnTo>
                    <a:lnTo>
                      <a:pt x="791" y="731"/>
                    </a:lnTo>
                    <a:lnTo>
                      <a:pt x="804" y="746"/>
                    </a:lnTo>
                    <a:lnTo>
                      <a:pt x="817" y="760"/>
                    </a:lnTo>
                    <a:lnTo>
                      <a:pt x="831" y="772"/>
                    </a:lnTo>
                    <a:lnTo>
                      <a:pt x="846" y="785"/>
                    </a:lnTo>
                    <a:lnTo>
                      <a:pt x="863" y="796"/>
                    </a:lnTo>
                    <a:lnTo>
                      <a:pt x="881" y="806"/>
                    </a:lnTo>
                    <a:lnTo>
                      <a:pt x="902" y="815"/>
                    </a:lnTo>
                    <a:lnTo>
                      <a:pt x="890" y="817"/>
                    </a:lnTo>
                    <a:lnTo>
                      <a:pt x="878" y="820"/>
                    </a:lnTo>
                    <a:lnTo>
                      <a:pt x="864" y="824"/>
                    </a:lnTo>
                    <a:lnTo>
                      <a:pt x="850" y="828"/>
                    </a:lnTo>
                    <a:lnTo>
                      <a:pt x="816" y="842"/>
                    </a:lnTo>
                    <a:lnTo>
                      <a:pt x="776" y="860"/>
                    </a:lnTo>
                    <a:lnTo>
                      <a:pt x="735" y="878"/>
                    </a:lnTo>
                    <a:lnTo>
                      <a:pt x="700" y="894"/>
                    </a:lnTo>
                    <a:lnTo>
                      <a:pt x="669" y="906"/>
                    </a:lnTo>
                    <a:lnTo>
                      <a:pt x="641" y="915"/>
                    </a:lnTo>
                    <a:close/>
                    <a:moveTo>
                      <a:pt x="345" y="796"/>
                    </a:moveTo>
                    <a:lnTo>
                      <a:pt x="392" y="818"/>
                    </a:lnTo>
                    <a:lnTo>
                      <a:pt x="427" y="836"/>
                    </a:lnTo>
                    <a:lnTo>
                      <a:pt x="440" y="844"/>
                    </a:lnTo>
                    <a:lnTo>
                      <a:pt x="450" y="851"/>
                    </a:lnTo>
                    <a:lnTo>
                      <a:pt x="457" y="856"/>
                    </a:lnTo>
                    <a:lnTo>
                      <a:pt x="461" y="860"/>
                    </a:lnTo>
                    <a:lnTo>
                      <a:pt x="462" y="866"/>
                    </a:lnTo>
                    <a:lnTo>
                      <a:pt x="462" y="873"/>
                    </a:lnTo>
                    <a:lnTo>
                      <a:pt x="461" y="881"/>
                    </a:lnTo>
                    <a:lnTo>
                      <a:pt x="459" y="891"/>
                    </a:lnTo>
                    <a:lnTo>
                      <a:pt x="451" y="915"/>
                    </a:lnTo>
                    <a:lnTo>
                      <a:pt x="441" y="945"/>
                    </a:lnTo>
                    <a:lnTo>
                      <a:pt x="438" y="954"/>
                    </a:lnTo>
                    <a:lnTo>
                      <a:pt x="434" y="960"/>
                    </a:lnTo>
                    <a:lnTo>
                      <a:pt x="432" y="962"/>
                    </a:lnTo>
                    <a:lnTo>
                      <a:pt x="430" y="964"/>
                    </a:lnTo>
                    <a:lnTo>
                      <a:pt x="428" y="965"/>
                    </a:lnTo>
                    <a:lnTo>
                      <a:pt x="426" y="965"/>
                    </a:lnTo>
                    <a:lnTo>
                      <a:pt x="423" y="964"/>
                    </a:lnTo>
                    <a:lnTo>
                      <a:pt x="420" y="961"/>
                    </a:lnTo>
                    <a:lnTo>
                      <a:pt x="415" y="957"/>
                    </a:lnTo>
                    <a:lnTo>
                      <a:pt x="411" y="950"/>
                    </a:lnTo>
                    <a:lnTo>
                      <a:pt x="410" y="949"/>
                    </a:lnTo>
                    <a:lnTo>
                      <a:pt x="406" y="945"/>
                    </a:lnTo>
                    <a:lnTo>
                      <a:pt x="394" y="928"/>
                    </a:lnTo>
                    <a:lnTo>
                      <a:pt x="383" y="910"/>
                    </a:lnTo>
                    <a:lnTo>
                      <a:pt x="372" y="893"/>
                    </a:lnTo>
                    <a:lnTo>
                      <a:pt x="362" y="876"/>
                    </a:lnTo>
                    <a:lnTo>
                      <a:pt x="353" y="859"/>
                    </a:lnTo>
                    <a:lnTo>
                      <a:pt x="344" y="843"/>
                    </a:lnTo>
                    <a:lnTo>
                      <a:pt x="337" y="826"/>
                    </a:lnTo>
                    <a:lnTo>
                      <a:pt x="331" y="810"/>
                    </a:lnTo>
                    <a:lnTo>
                      <a:pt x="327" y="798"/>
                    </a:lnTo>
                    <a:lnTo>
                      <a:pt x="326" y="790"/>
                    </a:lnTo>
                    <a:lnTo>
                      <a:pt x="329" y="788"/>
                    </a:lnTo>
                    <a:lnTo>
                      <a:pt x="334" y="789"/>
                    </a:lnTo>
                    <a:lnTo>
                      <a:pt x="339" y="791"/>
                    </a:lnTo>
                    <a:lnTo>
                      <a:pt x="345" y="796"/>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647" name="Freeform 14"/>
              <p:cNvSpPr/>
              <p:nvPr/>
            </p:nvSpPr>
            <p:spPr>
              <a:xfrm>
                <a:off x="1026000" y="1295640"/>
                <a:ext cx="176040" cy="146520"/>
              </a:xfrm>
              <a:custGeom>
                <a:avLst/>
                <a:gdLst>
                  <a:gd name="textAreaLeft" fmla="*/ 0 w 176040"/>
                  <a:gd name="textAreaRight" fmla="*/ 176400 w 176040"/>
                  <a:gd name="textAreaTop" fmla="*/ 0 h 146520"/>
                  <a:gd name="textAreaBottom" fmla="*/ 146880 h 146520"/>
                </a:gdLst>
                <a:ahLst/>
                <a:rect l="textAreaLeft" t="textAreaTop" r="textAreaRight" b="textAreaBottom"/>
                <a:pathLst>
                  <a:path w="1185" h="1056">
                    <a:moveTo>
                      <a:pt x="695" y="800"/>
                    </a:moveTo>
                    <a:lnTo>
                      <a:pt x="687" y="792"/>
                    </a:lnTo>
                    <a:lnTo>
                      <a:pt x="674" y="781"/>
                    </a:lnTo>
                    <a:lnTo>
                      <a:pt x="659" y="766"/>
                    </a:lnTo>
                    <a:lnTo>
                      <a:pt x="647" y="754"/>
                    </a:lnTo>
                    <a:lnTo>
                      <a:pt x="643" y="749"/>
                    </a:lnTo>
                    <a:lnTo>
                      <a:pt x="638" y="744"/>
                    </a:lnTo>
                    <a:lnTo>
                      <a:pt x="636" y="739"/>
                    </a:lnTo>
                    <a:lnTo>
                      <a:pt x="634" y="735"/>
                    </a:lnTo>
                    <a:lnTo>
                      <a:pt x="639" y="714"/>
                    </a:lnTo>
                    <a:lnTo>
                      <a:pt x="644" y="693"/>
                    </a:lnTo>
                    <a:lnTo>
                      <a:pt x="648" y="670"/>
                    </a:lnTo>
                    <a:lnTo>
                      <a:pt x="651" y="648"/>
                    </a:lnTo>
                    <a:lnTo>
                      <a:pt x="653" y="626"/>
                    </a:lnTo>
                    <a:lnTo>
                      <a:pt x="655" y="603"/>
                    </a:lnTo>
                    <a:lnTo>
                      <a:pt x="656" y="578"/>
                    </a:lnTo>
                    <a:lnTo>
                      <a:pt x="656" y="554"/>
                    </a:lnTo>
                    <a:lnTo>
                      <a:pt x="656" y="528"/>
                    </a:lnTo>
                    <a:lnTo>
                      <a:pt x="655" y="503"/>
                    </a:lnTo>
                    <a:lnTo>
                      <a:pt x="653" y="478"/>
                    </a:lnTo>
                    <a:lnTo>
                      <a:pt x="651" y="451"/>
                    </a:lnTo>
                    <a:lnTo>
                      <a:pt x="648" y="423"/>
                    </a:lnTo>
                    <a:lnTo>
                      <a:pt x="644" y="396"/>
                    </a:lnTo>
                    <a:lnTo>
                      <a:pt x="639" y="368"/>
                    </a:lnTo>
                    <a:lnTo>
                      <a:pt x="634" y="340"/>
                    </a:lnTo>
                    <a:lnTo>
                      <a:pt x="655" y="347"/>
                    </a:lnTo>
                    <a:lnTo>
                      <a:pt x="677" y="355"/>
                    </a:lnTo>
                    <a:lnTo>
                      <a:pt x="700" y="362"/>
                    </a:lnTo>
                    <a:lnTo>
                      <a:pt x="724" y="369"/>
                    </a:lnTo>
                    <a:lnTo>
                      <a:pt x="731" y="369"/>
                    </a:lnTo>
                    <a:lnTo>
                      <a:pt x="739" y="369"/>
                    </a:lnTo>
                    <a:lnTo>
                      <a:pt x="753" y="366"/>
                    </a:lnTo>
                    <a:lnTo>
                      <a:pt x="764" y="365"/>
                    </a:lnTo>
                    <a:lnTo>
                      <a:pt x="775" y="341"/>
                    </a:lnTo>
                    <a:lnTo>
                      <a:pt x="785" y="316"/>
                    </a:lnTo>
                    <a:lnTo>
                      <a:pt x="792" y="294"/>
                    </a:lnTo>
                    <a:lnTo>
                      <a:pt x="798" y="273"/>
                    </a:lnTo>
                    <a:lnTo>
                      <a:pt x="803" y="253"/>
                    </a:lnTo>
                    <a:lnTo>
                      <a:pt x="807" y="234"/>
                    </a:lnTo>
                    <a:lnTo>
                      <a:pt x="809" y="217"/>
                    </a:lnTo>
                    <a:lnTo>
                      <a:pt x="810" y="200"/>
                    </a:lnTo>
                    <a:lnTo>
                      <a:pt x="764" y="206"/>
                    </a:lnTo>
                    <a:lnTo>
                      <a:pt x="723" y="213"/>
                    </a:lnTo>
                    <a:lnTo>
                      <a:pt x="686" y="217"/>
                    </a:lnTo>
                    <a:lnTo>
                      <a:pt x="654" y="220"/>
                    </a:lnTo>
                    <a:lnTo>
                      <a:pt x="647" y="218"/>
                    </a:lnTo>
                    <a:lnTo>
                      <a:pt x="638" y="215"/>
                    </a:lnTo>
                    <a:lnTo>
                      <a:pt x="630" y="209"/>
                    </a:lnTo>
                    <a:lnTo>
                      <a:pt x="620" y="203"/>
                    </a:lnTo>
                    <a:lnTo>
                      <a:pt x="611" y="196"/>
                    </a:lnTo>
                    <a:lnTo>
                      <a:pt x="601" y="187"/>
                    </a:lnTo>
                    <a:lnTo>
                      <a:pt x="591" y="177"/>
                    </a:lnTo>
                    <a:lnTo>
                      <a:pt x="579" y="165"/>
                    </a:lnTo>
                    <a:lnTo>
                      <a:pt x="605" y="161"/>
                    </a:lnTo>
                    <a:lnTo>
                      <a:pt x="637" y="155"/>
                    </a:lnTo>
                    <a:lnTo>
                      <a:pt x="679" y="148"/>
                    </a:lnTo>
                    <a:lnTo>
                      <a:pt x="728" y="138"/>
                    </a:lnTo>
                    <a:lnTo>
                      <a:pt x="786" y="127"/>
                    </a:lnTo>
                    <a:lnTo>
                      <a:pt x="850" y="113"/>
                    </a:lnTo>
                    <a:lnTo>
                      <a:pt x="923" y="97"/>
                    </a:lnTo>
                    <a:lnTo>
                      <a:pt x="1005" y="80"/>
                    </a:lnTo>
                    <a:lnTo>
                      <a:pt x="1037" y="71"/>
                    </a:lnTo>
                    <a:lnTo>
                      <a:pt x="1064" y="63"/>
                    </a:lnTo>
                    <a:lnTo>
                      <a:pt x="1088" y="58"/>
                    </a:lnTo>
                    <a:lnTo>
                      <a:pt x="1104" y="55"/>
                    </a:lnTo>
                    <a:lnTo>
                      <a:pt x="1108" y="53"/>
                    </a:lnTo>
                    <a:lnTo>
                      <a:pt x="1112" y="52"/>
                    </a:lnTo>
                    <a:lnTo>
                      <a:pt x="1115" y="50"/>
                    </a:lnTo>
                    <a:lnTo>
                      <a:pt x="1118" y="50"/>
                    </a:lnTo>
                    <a:lnTo>
                      <a:pt x="1121" y="52"/>
                    </a:lnTo>
                    <a:lnTo>
                      <a:pt x="1125" y="54"/>
                    </a:lnTo>
                    <a:lnTo>
                      <a:pt x="1127" y="56"/>
                    </a:lnTo>
                    <a:lnTo>
                      <a:pt x="1130" y="60"/>
                    </a:lnTo>
                    <a:lnTo>
                      <a:pt x="1136" y="66"/>
                    </a:lnTo>
                    <a:lnTo>
                      <a:pt x="1145" y="75"/>
                    </a:lnTo>
                    <a:lnTo>
                      <a:pt x="1150" y="79"/>
                    </a:lnTo>
                    <a:lnTo>
                      <a:pt x="1158" y="85"/>
                    </a:lnTo>
                    <a:lnTo>
                      <a:pt x="1168" y="96"/>
                    </a:lnTo>
                    <a:lnTo>
                      <a:pt x="1180" y="110"/>
                    </a:lnTo>
                    <a:lnTo>
                      <a:pt x="1183" y="118"/>
                    </a:lnTo>
                    <a:lnTo>
                      <a:pt x="1185" y="125"/>
                    </a:lnTo>
                    <a:lnTo>
                      <a:pt x="1182" y="127"/>
                    </a:lnTo>
                    <a:lnTo>
                      <a:pt x="1179" y="128"/>
                    </a:lnTo>
                    <a:lnTo>
                      <a:pt x="1174" y="129"/>
                    </a:lnTo>
                    <a:lnTo>
                      <a:pt x="1169" y="130"/>
                    </a:lnTo>
                    <a:lnTo>
                      <a:pt x="1139" y="135"/>
                    </a:lnTo>
                    <a:lnTo>
                      <a:pt x="1106" y="142"/>
                    </a:lnTo>
                    <a:lnTo>
                      <a:pt x="1068" y="148"/>
                    </a:lnTo>
                    <a:lnTo>
                      <a:pt x="1028" y="155"/>
                    </a:lnTo>
                    <a:lnTo>
                      <a:pt x="985" y="165"/>
                    </a:lnTo>
                    <a:lnTo>
                      <a:pt x="938" y="173"/>
                    </a:lnTo>
                    <a:lnTo>
                      <a:pt x="887" y="184"/>
                    </a:lnTo>
                    <a:lnTo>
                      <a:pt x="834" y="195"/>
                    </a:lnTo>
                    <a:lnTo>
                      <a:pt x="846" y="201"/>
                    </a:lnTo>
                    <a:lnTo>
                      <a:pt x="858" y="206"/>
                    </a:lnTo>
                    <a:lnTo>
                      <a:pt x="869" y="212"/>
                    </a:lnTo>
                    <a:lnTo>
                      <a:pt x="882" y="216"/>
                    </a:lnTo>
                    <a:lnTo>
                      <a:pt x="895" y="220"/>
                    </a:lnTo>
                    <a:lnTo>
                      <a:pt x="907" y="224"/>
                    </a:lnTo>
                    <a:lnTo>
                      <a:pt x="921" y="227"/>
                    </a:lnTo>
                    <a:lnTo>
                      <a:pt x="935" y="230"/>
                    </a:lnTo>
                    <a:lnTo>
                      <a:pt x="925" y="237"/>
                    </a:lnTo>
                    <a:lnTo>
                      <a:pt x="913" y="249"/>
                    </a:lnTo>
                    <a:lnTo>
                      <a:pt x="898" y="265"/>
                    </a:lnTo>
                    <a:lnTo>
                      <a:pt x="880" y="285"/>
                    </a:lnTo>
                    <a:lnTo>
                      <a:pt x="862" y="306"/>
                    </a:lnTo>
                    <a:lnTo>
                      <a:pt x="846" y="326"/>
                    </a:lnTo>
                    <a:lnTo>
                      <a:pt x="830" y="344"/>
                    </a:lnTo>
                    <a:lnTo>
                      <a:pt x="814" y="360"/>
                    </a:lnTo>
                    <a:lnTo>
                      <a:pt x="841" y="354"/>
                    </a:lnTo>
                    <a:lnTo>
                      <a:pt x="866" y="346"/>
                    </a:lnTo>
                    <a:lnTo>
                      <a:pt x="889" y="340"/>
                    </a:lnTo>
                    <a:lnTo>
                      <a:pt x="911" y="332"/>
                    </a:lnTo>
                    <a:lnTo>
                      <a:pt x="931" y="325"/>
                    </a:lnTo>
                    <a:lnTo>
                      <a:pt x="949" y="316"/>
                    </a:lnTo>
                    <a:lnTo>
                      <a:pt x="965" y="308"/>
                    </a:lnTo>
                    <a:lnTo>
                      <a:pt x="979" y="299"/>
                    </a:lnTo>
                    <a:lnTo>
                      <a:pt x="994" y="310"/>
                    </a:lnTo>
                    <a:lnTo>
                      <a:pt x="1009" y="320"/>
                    </a:lnTo>
                    <a:lnTo>
                      <a:pt x="1026" y="328"/>
                    </a:lnTo>
                    <a:lnTo>
                      <a:pt x="1043" y="336"/>
                    </a:lnTo>
                    <a:lnTo>
                      <a:pt x="1062" y="342"/>
                    </a:lnTo>
                    <a:lnTo>
                      <a:pt x="1081" y="347"/>
                    </a:lnTo>
                    <a:lnTo>
                      <a:pt x="1102" y="351"/>
                    </a:lnTo>
                    <a:lnTo>
                      <a:pt x="1125" y="355"/>
                    </a:lnTo>
                    <a:lnTo>
                      <a:pt x="1120" y="359"/>
                    </a:lnTo>
                    <a:lnTo>
                      <a:pt x="1117" y="365"/>
                    </a:lnTo>
                    <a:lnTo>
                      <a:pt x="1114" y="373"/>
                    </a:lnTo>
                    <a:lnTo>
                      <a:pt x="1112" y="382"/>
                    </a:lnTo>
                    <a:lnTo>
                      <a:pt x="1107" y="404"/>
                    </a:lnTo>
                    <a:lnTo>
                      <a:pt x="1103" y="434"/>
                    </a:lnTo>
                    <a:lnTo>
                      <a:pt x="1100" y="469"/>
                    </a:lnTo>
                    <a:lnTo>
                      <a:pt x="1099" y="509"/>
                    </a:lnTo>
                    <a:lnTo>
                      <a:pt x="1099" y="557"/>
                    </a:lnTo>
                    <a:lnTo>
                      <a:pt x="1099" y="610"/>
                    </a:lnTo>
                    <a:lnTo>
                      <a:pt x="1100" y="642"/>
                    </a:lnTo>
                    <a:lnTo>
                      <a:pt x="1101" y="670"/>
                    </a:lnTo>
                    <a:lnTo>
                      <a:pt x="1102" y="697"/>
                    </a:lnTo>
                    <a:lnTo>
                      <a:pt x="1102" y="721"/>
                    </a:lnTo>
                    <a:lnTo>
                      <a:pt x="1102" y="744"/>
                    </a:lnTo>
                    <a:lnTo>
                      <a:pt x="1101" y="763"/>
                    </a:lnTo>
                    <a:lnTo>
                      <a:pt x="1100" y="781"/>
                    </a:lnTo>
                    <a:lnTo>
                      <a:pt x="1099" y="795"/>
                    </a:lnTo>
                    <a:lnTo>
                      <a:pt x="1097" y="802"/>
                    </a:lnTo>
                    <a:lnTo>
                      <a:pt x="1095" y="807"/>
                    </a:lnTo>
                    <a:lnTo>
                      <a:pt x="1092" y="812"/>
                    </a:lnTo>
                    <a:lnTo>
                      <a:pt x="1090" y="816"/>
                    </a:lnTo>
                    <a:lnTo>
                      <a:pt x="1084" y="815"/>
                    </a:lnTo>
                    <a:lnTo>
                      <a:pt x="1078" y="811"/>
                    </a:lnTo>
                    <a:lnTo>
                      <a:pt x="1072" y="807"/>
                    </a:lnTo>
                    <a:lnTo>
                      <a:pt x="1064" y="800"/>
                    </a:lnTo>
                    <a:lnTo>
                      <a:pt x="1059" y="794"/>
                    </a:lnTo>
                    <a:lnTo>
                      <a:pt x="1050" y="786"/>
                    </a:lnTo>
                    <a:lnTo>
                      <a:pt x="1041" y="776"/>
                    </a:lnTo>
                    <a:lnTo>
                      <a:pt x="1029" y="765"/>
                    </a:lnTo>
                    <a:lnTo>
                      <a:pt x="1008" y="746"/>
                    </a:lnTo>
                    <a:lnTo>
                      <a:pt x="992" y="730"/>
                    </a:lnTo>
                    <a:lnTo>
                      <a:pt x="983" y="720"/>
                    </a:lnTo>
                    <a:lnTo>
                      <a:pt x="979" y="715"/>
                    </a:lnTo>
                    <a:lnTo>
                      <a:pt x="981" y="710"/>
                    </a:lnTo>
                    <a:lnTo>
                      <a:pt x="982" y="704"/>
                    </a:lnTo>
                    <a:lnTo>
                      <a:pt x="985" y="697"/>
                    </a:lnTo>
                    <a:lnTo>
                      <a:pt x="989" y="691"/>
                    </a:lnTo>
                    <a:lnTo>
                      <a:pt x="994" y="682"/>
                    </a:lnTo>
                    <a:lnTo>
                      <a:pt x="997" y="675"/>
                    </a:lnTo>
                    <a:lnTo>
                      <a:pt x="999" y="667"/>
                    </a:lnTo>
                    <a:lnTo>
                      <a:pt x="1000" y="660"/>
                    </a:lnTo>
                    <a:lnTo>
                      <a:pt x="1000" y="642"/>
                    </a:lnTo>
                    <a:lnTo>
                      <a:pt x="1000" y="623"/>
                    </a:lnTo>
                    <a:lnTo>
                      <a:pt x="1000" y="602"/>
                    </a:lnTo>
                    <a:lnTo>
                      <a:pt x="1000" y="580"/>
                    </a:lnTo>
                    <a:lnTo>
                      <a:pt x="1001" y="542"/>
                    </a:lnTo>
                    <a:lnTo>
                      <a:pt x="1001" y="506"/>
                    </a:lnTo>
                    <a:lnTo>
                      <a:pt x="999" y="470"/>
                    </a:lnTo>
                    <a:lnTo>
                      <a:pt x="994" y="435"/>
                    </a:lnTo>
                    <a:lnTo>
                      <a:pt x="993" y="418"/>
                    </a:lnTo>
                    <a:lnTo>
                      <a:pt x="991" y="404"/>
                    </a:lnTo>
                    <a:lnTo>
                      <a:pt x="989" y="393"/>
                    </a:lnTo>
                    <a:lnTo>
                      <a:pt x="987" y="383"/>
                    </a:lnTo>
                    <a:lnTo>
                      <a:pt x="985" y="377"/>
                    </a:lnTo>
                    <a:lnTo>
                      <a:pt x="982" y="372"/>
                    </a:lnTo>
                    <a:lnTo>
                      <a:pt x="979" y="370"/>
                    </a:lnTo>
                    <a:lnTo>
                      <a:pt x="978" y="369"/>
                    </a:lnTo>
                    <a:lnTo>
                      <a:pt x="976" y="369"/>
                    </a:lnTo>
                    <a:lnTo>
                      <a:pt x="974" y="369"/>
                    </a:lnTo>
                    <a:lnTo>
                      <a:pt x="959" y="374"/>
                    </a:lnTo>
                    <a:lnTo>
                      <a:pt x="939" y="379"/>
                    </a:lnTo>
                    <a:lnTo>
                      <a:pt x="915" y="385"/>
                    </a:lnTo>
                    <a:lnTo>
                      <a:pt x="884" y="395"/>
                    </a:lnTo>
                    <a:lnTo>
                      <a:pt x="839" y="407"/>
                    </a:lnTo>
                    <a:lnTo>
                      <a:pt x="799" y="416"/>
                    </a:lnTo>
                    <a:lnTo>
                      <a:pt x="768" y="423"/>
                    </a:lnTo>
                    <a:lnTo>
                      <a:pt x="744" y="430"/>
                    </a:lnTo>
                    <a:lnTo>
                      <a:pt x="724" y="404"/>
                    </a:lnTo>
                    <a:lnTo>
                      <a:pt x="724" y="418"/>
                    </a:lnTo>
                    <a:lnTo>
                      <a:pt x="724" y="435"/>
                    </a:lnTo>
                    <a:lnTo>
                      <a:pt x="724" y="453"/>
                    </a:lnTo>
                    <a:lnTo>
                      <a:pt x="724" y="474"/>
                    </a:lnTo>
                    <a:lnTo>
                      <a:pt x="724" y="499"/>
                    </a:lnTo>
                    <a:lnTo>
                      <a:pt x="724" y="525"/>
                    </a:lnTo>
                    <a:lnTo>
                      <a:pt x="724" y="554"/>
                    </a:lnTo>
                    <a:lnTo>
                      <a:pt x="724" y="585"/>
                    </a:lnTo>
                    <a:lnTo>
                      <a:pt x="723" y="620"/>
                    </a:lnTo>
                    <a:lnTo>
                      <a:pt x="722" y="652"/>
                    </a:lnTo>
                    <a:lnTo>
                      <a:pt x="721" y="682"/>
                    </a:lnTo>
                    <a:lnTo>
                      <a:pt x="721" y="709"/>
                    </a:lnTo>
                    <a:lnTo>
                      <a:pt x="720" y="733"/>
                    </a:lnTo>
                    <a:lnTo>
                      <a:pt x="720" y="755"/>
                    </a:lnTo>
                    <a:lnTo>
                      <a:pt x="720" y="774"/>
                    </a:lnTo>
                    <a:lnTo>
                      <a:pt x="720" y="790"/>
                    </a:lnTo>
                    <a:lnTo>
                      <a:pt x="719" y="796"/>
                    </a:lnTo>
                    <a:lnTo>
                      <a:pt x="717" y="802"/>
                    </a:lnTo>
                    <a:lnTo>
                      <a:pt x="716" y="803"/>
                    </a:lnTo>
                    <a:lnTo>
                      <a:pt x="714" y="804"/>
                    </a:lnTo>
                    <a:lnTo>
                      <a:pt x="712" y="805"/>
                    </a:lnTo>
                    <a:lnTo>
                      <a:pt x="709" y="805"/>
                    </a:lnTo>
                    <a:lnTo>
                      <a:pt x="706" y="807"/>
                    </a:lnTo>
                    <a:lnTo>
                      <a:pt x="703" y="806"/>
                    </a:lnTo>
                    <a:lnTo>
                      <a:pt x="699" y="804"/>
                    </a:lnTo>
                    <a:lnTo>
                      <a:pt x="695" y="800"/>
                    </a:lnTo>
                    <a:close/>
                    <a:moveTo>
                      <a:pt x="414" y="170"/>
                    </a:moveTo>
                    <a:lnTo>
                      <a:pt x="445" y="180"/>
                    </a:lnTo>
                    <a:lnTo>
                      <a:pt x="473" y="189"/>
                    </a:lnTo>
                    <a:lnTo>
                      <a:pt x="499" y="199"/>
                    </a:lnTo>
                    <a:lnTo>
                      <a:pt x="523" y="208"/>
                    </a:lnTo>
                    <a:lnTo>
                      <a:pt x="545" y="218"/>
                    </a:lnTo>
                    <a:lnTo>
                      <a:pt x="565" y="226"/>
                    </a:lnTo>
                    <a:lnTo>
                      <a:pt x="583" y="236"/>
                    </a:lnTo>
                    <a:lnTo>
                      <a:pt x="599" y="244"/>
                    </a:lnTo>
                    <a:lnTo>
                      <a:pt x="601" y="252"/>
                    </a:lnTo>
                    <a:lnTo>
                      <a:pt x="603" y="259"/>
                    </a:lnTo>
                    <a:lnTo>
                      <a:pt x="605" y="269"/>
                    </a:lnTo>
                    <a:lnTo>
                      <a:pt x="606" y="279"/>
                    </a:lnTo>
                    <a:lnTo>
                      <a:pt x="606" y="305"/>
                    </a:lnTo>
                    <a:lnTo>
                      <a:pt x="605" y="334"/>
                    </a:lnTo>
                    <a:lnTo>
                      <a:pt x="602" y="341"/>
                    </a:lnTo>
                    <a:lnTo>
                      <a:pt x="600" y="345"/>
                    </a:lnTo>
                    <a:lnTo>
                      <a:pt x="598" y="348"/>
                    </a:lnTo>
                    <a:lnTo>
                      <a:pt x="594" y="351"/>
                    </a:lnTo>
                    <a:lnTo>
                      <a:pt x="591" y="352"/>
                    </a:lnTo>
                    <a:lnTo>
                      <a:pt x="585" y="352"/>
                    </a:lnTo>
                    <a:lnTo>
                      <a:pt x="580" y="351"/>
                    </a:lnTo>
                    <a:lnTo>
                      <a:pt x="574" y="349"/>
                    </a:lnTo>
                    <a:lnTo>
                      <a:pt x="548" y="329"/>
                    </a:lnTo>
                    <a:lnTo>
                      <a:pt x="524" y="308"/>
                    </a:lnTo>
                    <a:lnTo>
                      <a:pt x="501" y="288"/>
                    </a:lnTo>
                    <a:lnTo>
                      <a:pt x="480" y="269"/>
                    </a:lnTo>
                    <a:lnTo>
                      <a:pt x="458" y="250"/>
                    </a:lnTo>
                    <a:lnTo>
                      <a:pt x="439" y="231"/>
                    </a:lnTo>
                    <a:lnTo>
                      <a:pt x="421" y="213"/>
                    </a:lnTo>
                    <a:lnTo>
                      <a:pt x="404" y="195"/>
                    </a:lnTo>
                    <a:lnTo>
                      <a:pt x="378" y="259"/>
                    </a:lnTo>
                    <a:lnTo>
                      <a:pt x="350" y="321"/>
                    </a:lnTo>
                    <a:lnTo>
                      <a:pt x="324" y="380"/>
                    </a:lnTo>
                    <a:lnTo>
                      <a:pt x="295" y="435"/>
                    </a:lnTo>
                    <a:lnTo>
                      <a:pt x="268" y="487"/>
                    </a:lnTo>
                    <a:lnTo>
                      <a:pt x="238" y="536"/>
                    </a:lnTo>
                    <a:lnTo>
                      <a:pt x="224" y="559"/>
                    </a:lnTo>
                    <a:lnTo>
                      <a:pt x="209" y="582"/>
                    </a:lnTo>
                    <a:lnTo>
                      <a:pt x="195" y="604"/>
                    </a:lnTo>
                    <a:lnTo>
                      <a:pt x="180" y="625"/>
                    </a:lnTo>
                    <a:lnTo>
                      <a:pt x="170" y="638"/>
                    </a:lnTo>
                    <a:lnTo>
                      <a:pt x="160" y="650"/>
                    </a:lnTo>
                    <a:lnTo>
                      <a:pt x="150" y="661"/>
                    </a:lnTo>
                    <a:lnTo>
                      <a:pt x="140" y="670"/>
                    </a:lnTo>
                    <a:lnTo>
                      <a:pt x="129" y="678"/>
                    </a:lnTo>
                    <a:lnTo>
                      <a:pt x="118" y="685"/>
                    </a:lnTo>
                    <a:lnTo>
                      <a:pt x="108" y="691"/>
                    </a:lnTo>
                    <a:lnTo>
                      <a:pt x="97" y="695"/>
                    </a:lnTo>
                    <a:lnTo>
                      <a:pt x="86" y="698"/>
                    </a:lnTo>
                    <a:lnTo>
                      <a:pt x="74" y="700"/>
                    </a:lnTo>
                    <a:lnTo>
                      <a:pt x="62" y="701"/>
                    </a:lnTo>
                    <a:lnTo>
                      <a:pt x="50" y="700"/>
                    </a:lnTo>
                    <a:lnTo>
                      <a:pt x="38" y="698"/>
                    </a:lnTo>
                    <a:lnTo>
                      <a:pt x="25" y="695"/>
                    </a:lnTo>
                    <a:lnTo>
                      <a:pt x="12" y="691"/>
                    </a:lnTo>
                    <a:lnTo>
                      <a:pt x="0" y="685"/>
                    </a:lnTo>
                    <a:lnTo>
                      <a:pt x="24" y="664"/>
                    </a:lnTo>
                    <a:lnTo>
                      <a:pt x="48" y="642"/>
                    </a:lnTo>
                    <a:lnTo>
                      <a:pt x="72" y="618"/>
                    </a:lnTo>
                    <a:lnTo>
                      <a:pt x="95" y="594"/>
                    </a:lnTo>
                    <a:lnTo>
                      <a:pt x="117" y="568"/>
                    </a:lnTo>
                    <a:lnTo>
                      <a:pt x="138" y="540"/>
                    </a:lnTo>
                    <a:lnTo>
                      <a:pt x="160" y="510"/>
                    </a:lnTo>
                    <a:lnTo>
                      <a:pt x="181" y="480"/>
                    </a:lnTo>
                    <a:lnTo>
                      <a:pt x="201" y="448"/>
                    </a:lnTo>
                    <a:lnTo>
                      <a:pt x="220" y="415"/>
                    </a:lnTo>
                    <a:lnTo>
                      <a:pt x="239" y="380"/>
                    </a:lnTo>
                    <a:lnTo>
                      <a:pt x="257" y="344"/>
                    </a:lnTo>
                    <a:lnTo>
                      <a:pt x="275" y="306"/>
                    </a:lnTo>
                    <a:lnTo>
                      <a:pt x="292" y="267"/>
                    </a:lnTo>
                    <a:lnTo>
                      <a:pt x="308" y="226"/>
                    </a:lnTo>
                    <a:lnTo>
                      <a:pt x="324" y="185"/>
                    </a:lnTo>
                    <a:lnTo>
                      <a:pt x="332" y="151"/>
                    </a:lnTo>
                    <a:lnTo>
                      <a:pt x="339" y="120"/>
                    </a:lnTo>
                    <a:lnTo>
                      <a:pt x="344" y="93"/>
                    </a:lnTo>
                    <a:lnTo>
                      <a:pt x="348" y="68"/>
                    </a:lnTo>
                    <a:lnTo>
                      <a:pt x="350" y="46"/>
                    </a:lnTo>
                    <a:lnTo>
                      <a:pt x="351" y="28"/>
                    </a:lnTo>
                    <a:lnTo>
                      <a:pt x="351" y="12"/>
                    </a:lnTo>
                    <a:lnTo>
                      <a:pt x="349" y="0"/>
                    </a:lnTo>
                    <a:lnTo>
                      <a:pt x="361" y="8"/>
                    </a:lnTo>
                    <a:lnTo>
                      <a:pt x="375" y="15"/>
                    </a:lnTo>
                    <a:lnTo>
                      <a:pt x="390" y="23"/>
                    </a:lnTo>
                    <a:lnTo>
                      <a:pt x="405" y="29"/>
                    </a:lnTo>
                    <a:lnTo>
                      <a:pt x="423" y="36"/>
                    </a:lnTo>
                    <a:lnTo>
                      <a:pt x="442" y="41"/>
                    </a:lnTo>
                    <a:lnTo>
                      <a:pt x="463" y="45"/>
                    </a:lnTo>
                    <a:lnTo>
                      <a:pt x="484" y="49"/>
                    </a:lnTo>
                    <a:lnTo>
                      <a:pt x="474" y="61"/>
                    </a:lnTo>
                    <a:lnTo>
                      <a:pt x="465" y="74"/>
                    </a:lnTo>
                    <a:lnTo>
                      <a:pt x="455" y="88"/>
                    </a:lnTo>
                    <a:lnTo>
                      <a:pt x="447" y="102"/>
                    </a:lnTo>
                    <a:lnTo>
                      <a:pt x="438" y="117"/>
                    </a:lnTo>
                    <a:lnTo>
                      <a:pt x="430" y="134"/>
                    </a:lnTo>
                    <a:lnTo>
                      <a:pt x="422" y="151"/>
                    </a:lnTo>
                    <a:lnTo>
                      <a:pt x="414" y="170"/>
                    </a:lnTo>
                    <a:close/>
                    <a:moveTo>
                      <a:pt x="799" y="460"/>
                    </a:moveTo>
                    <a:lnTo>
                      <a:pt x="818" y="467"/>
                    </a:lnTo>
                    <a:lnTo>
                      <a:pt x="838" y="472"/>
                    </a:lnTo>
                    <a:lnTo>
                      <a:pt x="855" y="478"/>
                    </a:lnTo>
                    <a:lnTo>
                      <a:pt x="870" y="481"/>
                    </a:lnTo>
                    <a:lnTo>
                      <a:pt x="886" y="484"/>
                    </a:lnTo>
                    <a:lnTo>
                      <a:pt x="900" y="485"/>
                    </a:lnTo>
                    <a:lnTo>
                      <a:pt x="913" y="486"/>
                    </a:lnTo>
                    <a:lnTo>
                      <a:pt x="924" y="485"/>
                    </a:lnTo>
                    <a:lnTo>
                      <a:pt x="919" y="497"/>
                    </a:lnTo>
                    <a:lnTo>
                      <a:pt x="915" y="509"/>
                    </a:lnTo>
                    <a:lnTo>
                      <a:pt x="911" y="522"/>
                    </a:lnTo>
                    <a:lnTo>
                      <a:pt x="906" y="536"/>
                    </a:lnTo>
                    <a:lnTo>
                      <a:pt x="900" y="567"/>
                    </a:lnTo>
                    <a:lnTo>
                      <a:pt x="895" y="599"/>
                    </a:lnTo>
                    <a:lnTo>
                      <a:pt x="891" y="635"/>
                    </a:lnTo>
                    <a:lnTo>
                      <a:pt x="884" y="669"/>
                    </a:lnTo>
                    <a:lnTo>
                      <a:pt x="878" y="703"/>
                    </a:lnTo>
                    <a:lnTo>
                      <a:pt x="870" y="734"/>
                    </a:lnTo>
                    <a:lnTo>
                      <a:pt x="862" y="765"/>
                    </a:lnTo>
                    <a:lnTo>
                      <a:pt x="851" y="793"/>
                    </a:lnTo>
                    <a:lnTo>
                      <a:pt x="841" y="821"/>
                    </a:lnTo>
                    <a:lnTo>
                      <a:pt x="828" y="847"/>
                    </a:lnTo>
                    <a:lnTo>
                      <a:pt x="814" y="873"/>
                    </a:lnTo>
                    <a:lnTo>
                      <a:pt x="800" y="896"/>
                    </a:lnTo>
                    <a:lnTo>
                      <a:pt x="785" y="918"/>
                    </a:lnTo>
                    <a:lnTo>
                      <a:pt x="768" y="940"/>
                    </a:lnTo>
                    <a:lnTo>
                      <a:pt x="750" y="960"/>
                    </a:lnTo>
                    <a:lnTo>
                      <a:pt x="731" y="978"/>
                    </a:lnTo>
                    <a:lnTo>
                      <a:pt x="710" y="995"/>
                    </a:lnTo>
                    <a:lnTo>
                      <a:pt x="689" y="1011"/>
                    </a:lnTo>
                    <a:lnTo>
                      <a:pt x="675" y="1021"/>
                    </a:lnTo>
                    <a:lnTo>
                      <a:pt x="662" y="1030"/>
                    </a:lnTo>
                    <a:lnTo>
                      <a:pt x="648" y="1038"/>
                    </a:lnTo>
                    <a:lnTo>
                      <a:pt x="634" y="1044"/>
                    </a:lnTo>
                    <a:lnTo>
                      <a:pt x="621" y="1050"/>
                    </a:lnTo>
                    <a:lnTo>
                      <a:pt x="608" y="1053"/>
                    </a:lnTo>
                    <a:lnTo>
                      <a:pt x="594" y="1055"/>
                    </a:lnTo>
                    <a:lnTo>
                      <a:pt x="580" y="1056"/>
                    </a:lnTo>
                    <a:lnTo>
                      <a:pt x="567" y="1056"/>
                    </a:lnTo>
                    <a:lnTo>
                      <a:pt x="554" y="1054"/>
                    </a:lnTo>
                    <a:lnTo>
                      <a:pt x="540" y="1051"/>
                    </a:lnTo>
                    <a:lnTo>
                      <a:pt x="527" y="1047"/>
                    </a:lnTo>
                    <a:lnTo>
                      <a:pt x="513" y="1041"/>
                    </a:lnTo>
                    <a:lnTo>
                      <a:pt x="501" y="1034"/>
                    </a:lnTo>
                    <a:lnTo>
                      <a:pt x="487" y="1025"/>
                    </a:lnTo>
                    <a:lnTo>
                      <a:pt x="474" y="1015"/>
                    </a:lnTo>
                    <a:lnTo>
                      <a:pt x="494" y="1009"/>
                    </a:lnTo>
                    <a:lnTo>
                      <a:pt x="513" y="1002"/>
                    </a:lnTo>
                    <a:lnTo>
                      <a:pt x="531" y="996"/>
                    </a:lnTo>
                    <a:lnTo>
                      <a:pt x="549" y="988"/>
                    </a:lnTo>
                    <a:lnTo>
                      <a:pt x="567" y="980"/>
                    </a:lnTo>
                    <a:lnTo>
                      <a:pt x="584" y="971"/>
                    </a:lnTo>
                    <a:lnTo>
                      <a:pt x="600" y="963"/>
                    </a:lnTo>
                    <a:lnTo>
                      <a:pt x="616" y="954"/>
                    </a:lnTo>
                    <a:lnTo>
                      <a:pt x="631" y="945"/>
                    </a:lnTo>
                    <a:lnTo>
                      <a:pt x="646" y="934"/>
                    </a:lnTo>
                    <a:lnTo>
                      <a:pt x="660" y="924"/>
                    </a:lnTo>
                    <a:lnTo>
                      <a:pt x="672" y="913"/>
                    </a:lnTo>
                    <a:lnTo>
                      <a:pt x="686" y="901"/>
                    </a:lnTo>
                    <a:lnTo>
                      <a:pt x="698" y="890"/>
                    </a:lnTo>
                    <a:lnTo>
                      <a:pt x="709" y="878"/>
                    </a:lnTo>
                    <a:lnTo>
                      <a:pt x="721" y="865"/>
                    </a:lnTo>
                    <a:lnTo>
                      <a:pt x="731" y="853"/>
                    </a:lnTo>
                    <a:lnTo>
                      <a:pt x="741" y="839"/>
                    </a:lnTo>
                    <a:lnTo>
                      <a:pt x="751" y="825"/>
                    </a:lnTo>
                    <a:lnTo>
                      <a:pt x="759" y="810"/>
                    </a:lnTo>
                    <a:lnTo>
                      <a:pt x="768" y="795"/>
                    </a:lnTo>
                    <a:lnTo>
                      <a:pt x="775" y="781"/>
                    </a:lnTo>
                    <a:lnTo>
                      <a:pt x="782" y="765"/>
                    </a:lnTo>
                    <a:lnTo>
                      <a:pt x="789" y="749"/>
                    </a:lnTo>
                    <a:lnTo>
                      <a:pt x="794" y="733"/>
                    </a:lnTo>
                    <a:lnTo>
                      <a:pt x="799" y="716"/>
                    </a:lnTo>
                    <a:lnTo>
                      <a:pt x="805" y="698"/>
                    </a:lnTo>
                    <a:lnTo>
                      <a:pt x="809" y="680"/>
                    </a:lnTo>
                    <a:lnTo>
                      <a:pt x="812" y="662"/>
                    </a:lnTo>
                    <a:lnTo>
                      <a:pt x="815" y="644"/>
                    </a:lnTo>
                    <a:lnTo>
                      <a:pt x="817" y="625"/>
                    </a:lnTo>
                    <a:lnTo>
                      <a:pt x="820" y="605"/>
                    </a:lnTo>
                    <a:lnTo>
                      <a:pt x="822" y="582"/>
                    </a:lnTo>
                    <a:lnTo>
                      <a:pt x="822" y="560"/>
                    </a:lnTo>
                    <a:lnTo>
                      <a:pt x="822" y="540"/>
                    </a:lnTo>
                    <a:lnTo>
                      <a:pt x="820" y="521"/>
                    </a:lnTo>
                    <a:lnTo>
                      <a:pt x="816" y="504"/>
                    </a:lnTo>
                    <a:lnTo>
                      <a:pt x="812" y="488"/>
                    </a:lnTo>
                    <a:lnTo>
                      <a:pt x="807" y="473"/>
                    </a:lnTo>
                    <a:lnTo>
                      <a:pt x="799" y="460"/>
                    </a:lnTo>
                    <a:close/>
                    <a:moveTo>
                      <a:pt x="294" y="760"/>
                    </a:moveTo>
                    <a:lnTo>
                      <a:pt x="297" y="763"/>
                    </a:lnTo>
                    <a:lnTo>
                      <a:pt x="302" y="765"/>
                    </a:lnTo>
                    <a:lnTo>
                      <a:pt x="307" y="768"/>
                    </a:lnTo>
                    <a:lnTo>
                      <a:pt x="314" y="770"/>
                    </a:lnTo>
                    <a:lnTo>
                      <a:pt x="321" y="773"/>
                    </a:lnTo>
                    <a:lnTo>
                      <a:pt x="332" y="778"/>
                    </a:lnTo>
                    <a:lnTo>
                      <a:pt x="346" y="786"/>
                    </a:lnTo>
                    <a:lnTo>
                      <a:pt x="364" y="795"/>
                    </a:lnTo>
                    <a:lnTo>
                      <a:pt x="379" y="769"/>
                    </a:lnTo>
                    <a:lnTo>
                      <a:pt x="393" y="745"/>
                    </a:lnTo>
                    <a:lnTo>
                      <a:pt x="405" y="720"/>
                    </a:lnTo>
                    <a:lnTo>
                      <a:pt x="418" y="696"/>
                    </a:lnTo>
                    <a:lnTo>
                      <a:pt x="430" y="674"/>
                    </a:lnTo>
                    <a:lnTo>
                      <a:pt x="440" y="651"/>
                    </a:lnTo>
                    <a:lnTo>
                      <a:pt x="450" y="630"/>
                    </a:lnTo>
                    <a:lnTo>
                      <a:pt x="459" y="610"/>
                    </a:lnTo>
                    <a:lnTo>
                      <a:pt x="434" y="616"/>
                    </a:lnTo>
                    <a:lnTo>
                      <a:pt x="410" y="624"/>
                    </a:lnTo>
                    <a:lnTo>
                      <a:pt x="384" y="631"/>
                    </a:lnTo>
                    <a:lnTo>
                      <a:pt x="360" y="640"/>
                    </a:lnTo>
                    <a:lnTo>
                      <a:pt x="334" y="649"/>
                    </a:lnTo>
                    <a:lnTo>
                      <a:pt x="309" y="659"/>
                    </a:lnTo>
                    <a:lnTo>
                      <a:pt x="285" y="669"/>
                    </a:lnTo>
                    <a:lnTo>
                      <a:pt x="259" y="680"/>
                    </a:lnTo>
                    <a:lnTo>
                      <a:pt x="244" y="666"/>
                    </a:lnTo>
                    <a:lnTo>
                      <a:pt x="229" y="651"/>
                    </a:lnTo>
                    <a:lnTo>
                      <a:pt x="212" y="634"/>
                    </a:lnTo>
                    <a:lnTo>
                      <a:pt x="195" y="615"/>
                    </a:lnTo>
                    <a:lnTo>
                      <a:pt x="235" y="610"/>
                    </a:lnTo>
                    <a:lnTo>
                      <a:pt x="273" y="605"/>
                    </a:lnTo>
                    <a:lnTo>
                      <a:pt x="309" y="596"/>
                    </a:lnTo>
                    <a:lnTo>
                      <a:pt x="344" y="588"/>
                    </a:lnTo>
                    <a:lnTo>
                      <a:pt x="361" y="582"/>
                    </a:lnTo>
                    <a:lnTo>
                      <a:pt x="377" y="577"/>
                    </a:lnTo>
                    <a:lnTo>
                      <a:pt x="393" y="571"/>
                    </a:lnTo>
                    <a:lnTo>
                      <a:pt x="408" y="564"/>
                    </a:lnTo>
                    <a:lnTo>
                      <a:pt x="422" y="558"/>
                    </a:lnTo>
                    <a:lnTo>
                      <a:pt x="437" y="551"/>
                    </a:lnTo>
                    <a:lnTo>
                      <a:pt x="451" y="543"/>
                    </a:lnTo>
                    <a:lnTo>
                      <a:pt x="465" y="535"/>
                    </a:lnTo>
                    <a:lnTo>
                      <a:pt x="480" y="550"/>
                    </a:lnTo>
                    <a:lnTo>
                      <a:pt x="495" y="563"/>
                    </a:lnTo>
                    <a:lnTo>
                      <a:pt x="512" y="576"/>
                    </a:lnTo>
                    <a:lnTo>
                      <a:pt x="529" y="588"/>
                    </a:lnTo>
                    <a:lnTo>
                      <a:pt x="547" y="598"/>
                    </a:lnTo>
                    <a:lnTo>
                      <a:pt x="565" y="608"/>
                    </a:lnTo>
                    <a:lnTo>
                      <a:pt x="584" y="617"/>
                    </a:lnTo>
                    <a:lnTo>
                      <a:pt x="605" y="625"/>
                    </a:lnTo>
                    <a:lnTo>
                      <a:pt x="576" y="648"/>
                    </a:lnTo>
                    <a:lnTo>
                      <a:pt x="547" y="670"/>
                    </a:lnTo>
                    <a:lnTo>
                      <a:pt x="520" y="694"/>
                    </a:lnTo>
                    <a:lnTo>
                      <a:pt x="493" y="717"/>
                    </a:lnTo>
                    <a:lnTo>
                      <a:pt x="467" y="741"/>
                    </a:lnTo>
                    <a:lnTo>
                      <a:pt x="440" y="766"/>
                    </a:lnTo>
                    <a:lnTo>
                      <a:pt x="415" y="790"/>
                    </a:lnTo>
                    <a:lnTo>
                      <a:pt x="390" y="816"/>
                    </a:lnTo>
                    <a:lnTo>
                      <a:pt x="413" y="827"/>
                    </a:lnTo>
                    <a:lnTo>
                      <a:pt x="434" y="840"/>
                    </a:lnTo>
                    <a:lnTo>
                      <a:pt x="453" y="853"/>
                    </a:lnTo>
                    <a:lnTo>
                      <a:pt x="469" y="865"/>
                    </a:lnTo>
                    <a:lnTo>
                      <a:pt x="471" y="870"/>
                    </a:lnTo>
                    <a:lnTo>
                      <a:pt x="472" y="876"/>
                    </a:lnTo>
                    <a:lnTo>
                      <a:pt x="472" y="884"/>
                    </a:lnTo>
                    <a:lnTo>
                      <a:pt x="472" y="895"/>
                    </a:lnTo>
                    <a:lnTo>
                      <a:pt x="470" y="908"/>
                    </a:lnTo>
                    <a:lnTo>
                      <a:pt x="468" y="922"/>
                    </a:lnTo>
                    <a:lnTo>
                      <a:pt x="464" y="937"/>
                    </a:lnTo>
                    <a:lnTo>
                      <a:pt x="459" y="955"/>
                    </a:lnTo>
                    <a:lnTo>
                      <a:pt x="457" y="961"/>
                    </a:lnTo>
                    <a:lnTo>
                      <a:pt x="455" y="965"/>
                    </a:lnTo>
                    <a:lnTo>
                      <a:pt x="452" y="968"/>
                    </a:lnTo>
                    <a:lnTo>
                      <a:pt x="448" y="970"/>
                    </a:lnTo>
                    <a:lnTo>
                      <a:pt x="444" y="971"/>
                    </a:lnTo>
                    <a:lnTo>
                      <a:pt x="438" y="970"/>
                    </a:lnTo>
                    <a:lnTo>
                      <a:pt x="432" y="968"/>
                    </a:lnTo>
                    <a:lnTo>
                      <a:pt x="424" y="965"/>
                    </a:lnTo>
                    <a:lnTo>
                      <a:pt x="405" y="946"/>
                    </a:lnTo>
                    <a:lnTo>
                      <a:pt x="387" y="926"/>
                    </a:lnTo>
                    <a:lnTo>
                      <a:pt x="368" y="905"/>
                    </a:lnTo>
                    <a:lnTo>
                      <a:pt x="350" y="881"/>
                    </a:lnTo>
                    <a:lnTo>
                      <a:pt x="332" y="858"/>
                    </a:lnTo>
                    <a:lnTo>
                      <a:pt x="314" y="833"/>
                    </a:lnTo>
                    <a:lnTo>
                      <a:pt x="296" y="807"/>
                    </a:lnTo>
                    <a:lnTo>
                      <a:pt x="279" y="781"/>
                    </a:lnTo>
                    <a:lnTo>
                      <a:pt x="275" y="773"/>
                    </a:lnTo>
                    <a:lnTo>
                      <a:pt x="273" y="768"/>
                    </a:lnTo>
                    <a:lnTo>
                      <a:pt x="273" y="764"/>
                    </a:lnTo>
                    <a:lnTo>
                      <a:pt x="274" y="760"/>
                    </a:lnTo>
                    <a:lnTo>
                      <a:pt x="277" y="758"/>
                    </a:lnTo>
                    <a:lnTo>
                      <a:pt x="281" y="757"/>
                    </a:lnTo>
                    <a:lnTo>
                      <a:pt x="288" y="758"/>
                    </a:lnTo>
                    <a:lnTo>
                      <a:pt x="294" y="760"/>
                    </a:lnTo>
                    <a:close/>
                    <a:moveTo>
                      <a:pt x="900" y="800"/>
                    </a:moveTo>
                    <a:lnTo>
                      <a:pt x="936" y="816"/>
                    </a:lnTo>
                    <a:lnTo>
                      <a:pt x="970" y="830"/>
                    </a:lnTo>
                    <a:lnTo>
                      <a:pt x="1003" y="845"/>
                    </a:lnTo>
                    <a:lnTo>
                      <a:pt x="1034" y="860"/>
                    </a:lnTo>
                    <a:lnTo>
                      <a:pt x="1061" y="875"/>
                    </a:lnTo>
                    <a:lnTo>
                      <a:pt x="1088" y="890"/>
                    </a:lnTo>
                    <a:lnTo>
                      <a:pt x="1112" y="906"/>
                    </a:lnTo>
                    <a:lnTo>
                      <a:pt x="1134" y="920"/>
                    </a:lnTo>
                    <a:lnTo>
                      <a:pt x="1138" y="927"/>
                    </a:lnTo>
                    <a:lnTo>
                      <a:pt x="1140" y="935"/>
                    </a:lnTo>
                    <a:lnTo>
                      <a:pt x="1143" y="945"/>
                    </a:lnTo>
                    <a:lnTo>
                      <a:pt x="1144" y="957"/>
                    </a:lnTo>
                    <a:lnTo>
                      <a:pt x="1144" y="969"/>
                    </a:lnTo>
                    <a:lnTo>
                      <a:pt x="1143" y="983"/>
                    </a:lnTo>
                    <a:lnTo>
                      <a:pt x="1142" y="999"/>
                    </a:lnTo>
                    <a:lnTo>
                      <a:pt x="1139" y="1015"/>
                    </a:lnTo>
                    <a:lnTo>
                      <a:pt x="1137" y="1026"/>
                    </a:lnTo>
                    <a:lnTo>
                      <a:pt x="1134" y="1035"/>
                    </a:lnTo>
                    <a:lnTo>
                      <a:pt x="1132" y="1041"/>
                    </a:lnTo>
                    <a:lnTo>
                      <a:pt x="1130" y="1046"/>
                    </a:lnTo>
                    <a:lnTo>
                      <a:pt x="1127" y="1047"/>
                    </a:lnTo>
                    <a:lnTo>
                      <a:pt x="1125" y="1047"/>
                    </a:lnTo>
                    <a:lnTo>
                      <a:pt x="1121" y="1047"/>
                    </a:lnTo>
                    <a:lnTo>
                      <a:pt x="1118" y="1046"/>
                    </a:lnTo>
                    <a:lnTo>
                      <a:pt x="1112" y="1041"/>
                    </a:lnTo>
                    <a:lnTo>
                      <a:pt x="1104" y="1035"/>
                    </a:lnTo>
                    <a:lnTo>
                      <a:pt x="1072" y="1007"/>
                    </a:lnTo>
                    <a:lnTo>
                      <a:pt x="1040" y="981"/>
                    </a:lnTo>
                    <a:lnTo>
                      <a:pt x="1010" y="954"/>
                    </a:lnTo>
                    <a:lnTo>
                      <a:pt x="982" y="928"/>
                    </a:lnTo>
                    <a:lnTo>
                      <a:pt x="955" y="901"/>
                    </a:lnTo>
                    <a:lnTo>
                      <a:pt x="930" y="876"/>
                    </a:lnTo>
                    <a:lnTo>
                      <a:pt x="906" y="851"/>
                    </a:lnTo>
                    <a:lnTo>
                      <a:pt x="884" y="825"/>
                    </a:lnTo>
                    <a:lnTo>
                      <a:pt x="878" y="818"/>
                    </a:lnTo>
                    <a:lnTo>
                      <a:pt x="875" y="811"/>
                    </a:lnTo>
                    <a:lnTo>
                      <a:pt x="874" y="808"/>
                    </a:lnTo>
                    <a:lnTo>
                      <a:pt x="874" y="805"/>
                    </a:lnTo>
                    <a:lnTo>
                      <a:pt x="874" y="803"/>
                    </a:lnTo>
                    <a:lnTo>
                      <a:pt x="875" y="800"/>
                    </a:lnTo>
                    <a:lnTo>
                      <a:pt x="876" y="798"/>
                    </a:lnTo>
                    <a:lnTo>
                      <a:pt x="878" y="796"/>
                    </a:lnTo>
                    <a:lnTo>
                      <a:pt x="880" y="795"/>
                    </a:lnTo>
                    <a:lnTo>
                      <a:pt x="883" y="795"/>
                    </a:lnTo>
                    <a:lnTo>
                      <a:pt x="891" y="796"/>
                    </a:lnTo>
                    <a:lnTo>
                      <a:pt x="900" y="800"/>
                    </a:lnTo>
                    <a:close/>
                    <a:moveTo>
                      <a:pt x="364" y="369"/>
                    </a:moveTo>
                    <a:lnTo>
                      <a:pt x="398" y="378"/>
                    </a:lnTo>
                    <a:lnTo>
                      <a:pt x="428" y="387"/>
                    </a:lnTo>
                    <a:lnTo>
                      <a:pt x="442" y="393"/>
                    </a:lnTo>
                    <a:lnTo>
                      <a:pt x="455" y="398"/>
                    </a:lnTo>
                    <a:lnTo>
                      <a:pt x="468" y="403"/>
                    </a:lnTo>
                    <a:lnTo>
                      <a:pt x="480" y="410"/>
                    </a:lnTo>
                    <a:lnTo>
                      <a:pt x="482" y="416"/>
                    </a:lnTo>
                    <a:lnTo>
                      <a:pt x="483" y="423"/>
                    </a:lnTo>
                    <a:lnTo>
                      <a:pt x="484" y="432"/>
                    </a:lnTo>
                    <a:lnTo>
                      <a:pt x="485" y="441"/>
                    </a:lnTo>
                    <a:lnTo>
                      <a:pt x="483" y="462"/>
                    </a:lnTo>
                    <a:lnTo>
                      <a:pt x="480" y="485"/>
                    </a:lnTo>
                    <a:lnTo>
                      <a:pt x="480" y="491"/>
                    </a:lnTo>
                    <a:lnTo>
                      <a:pt x="478" y="498"/>
                    </a:lnTo>
                    <a:lnTo>
                      <a:pt x="476" y="502"/>
                    </a:lnTo>
                    <a:lnTo>
                      <a:pt x="474" y="505"/>
                    </a:lnTo>
                    <a:lnTo>
                      <a:pt x="470" y="504"/>
                    </a:lnTo>
                    <a:lnTo>
                      <a:pt x="466" y="502"/>
                    </a:lnTo>
                    <a:lnTo>
                      <a:pt x="463" y="500"/>
                    </a:lnTo>
                    <a:lnTo>
                      <a:pt x="459" y="494"/>
                    </a:lnTo>
                    <a:lnTo>
                      <a:pt x="445" y="484"/>
                    </a:lnTo>
                    <a:lnTo>
                      <a:pt x="430" y="472"/>
                    </a:lnTo>
                    <a:lnTo>
                      <a:pt x="416" y="460"/>
                    </a:lnTo>
                    <a:lnTo>
                      <a:pt x="403" y="447"/>
                    </a:lnTo>
                    <a:lnTo>
                      <a:pt x="391" y="435"/>
                    </a:lnTo>
                    <a:lnTo>
                      <a:pt x="378" y="421"/>
                    </a:lnTo>
                    <a:lnTo>
                      <a:pt x="366" y="409"/>
                    </a:lnTo>
                    <a:lnTo>
                      <a:pt x="355" y="395"/>
                    </a:lnTo>
                    <a:lnTo>
                      <a:pt x="350" y="387"/>
                    </a:lnTo>
                    <a:lnTo>
                      <a:pt x="347" y="382"/>
                    </a:lnTo>
                    <a:lnTo>
                      <a:pt x="345" y="378"/>
                    </a:lnTo>
                    <a:lnTo>
                      <a:pt x="344" y="375"/>
                    </a:lnTo>
                    <a:lnTo>
                      <a:pt x="346" y="373"/>
                    </a:lnTo>
                    <a:lnTo>
                      <a:pt x="347" y="370"/>
                    </a:lnTo>
                    <a:lnTo>
                      <a:pt x="349" y="369"/>
                    </a:lnTo>
                    <a:lnTo>
                      <a:pt x="351" y="368"/>
                    </a:lnTo>
                    <a:lnTo>
                      <a:pt x="358" y="368"/>
                    </a:lnTo>
                    <a:lnTo>
                      <a:pt x="364" y="369"/>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648" name="Freeform 15"/>
              <p:cNvSpPr/>
              <p:nvPr/>
            </p:nvSpPr>
            <p:spPr>
              <a:xfrm>
                <a:off x="1214640" y="1291680"/>
                <a:ext cx="177120" cy="148320"/>
              </a:xfrm>
              <a:custGeom>
                <a:avLst/>
                <a:gdLst>
                  <a:gd name="textAreaLeft" fmla="*/ 0 w 177120"/>
                  <a:gd name="textAreaRight" fmla="*/ 177480 w 177120"/>
                  <a:gd name="textAreaTop" fmla="*/ 0 h 148320"/>
                  <a:gd name="textAreaBottom" fmla="*/ 148680 h 148320"/>
                </a:gdLst>
                <a:ahLst/>
                <a:rect l="textAreaLeft" t="textAreaTop" r="textAreaRight" b="textAreaBottom"/>
                <a:pathLst>
                  <a:path w="1196" h="1066">
                    <a:moveTo>
                      <a:pt x="146" y="1066"/>
                    </a:moveTo>
                    <a:lnTo>
                      <a:pt x="137" y="1060"/>
                    </a:lnTo>
                    <a:lnTo>
                      <a:pt x="129" y="1051"/>
                    </a:lnTo>
                    <a:lnTo>
                      <a:pt x="118" y="1040"/>
                    </a:lnTo>
                    <a:lnTo>
                      <a:pt x="105" y="1026"/>
                    </a:lnTo>
                    <a:lnTo>
                      <a:pt x="94" y="1017"/>
                    </a:lnTo>
                    <a:lnTo>
                      <a:pt x="84" y="1010"/>
                    </a:lnTo>
                    <a:lnTo>
                      <a:pt x="77" y="1005"/>
                    </a:lnTo>
                    <a:lnTo>
                      <a:pt x="70" y="1002"/>
                    </a:lnTo>
                    <a:lnTo>
                      <a:pt x="101" y="999"/>
                    </a:lnTo>
                    <a:lnTo>
                      <a:pt x="131" y="998"/>
                    </a:lnTo>
                    <a:lnTo>
                      <a:pt x="160" y="996"/>
                    </a:lnTo>
                    <a:lnTo>
                      <a:pt x="189" y="994"/>
                    </a:lnTo>
                    <a:lnTo>
                      <a:pt x="219" y="991"/>
                    </a:lnTo>
                    <a:lnTo>
                      <a:pt x="248" y="988"/>
                    </a:lnTo>
                    <a:lnTo>
                      <a:pt x="277" y="985"/>
                    </a:lnTo>
                    <a:lnTo>
                      <a:pt x="305" y="981"/>
                    </a:lnTo>
                    <a:lnTo>
                      <a:pt x="305" y="959"/>
                    </a:lnTo>
                    <a:lnTo>
                      <a:pt x="305" y="936"/>
                    </a:lnTo>
                    <a:lnTo>
                      <a:pt x="304" y="914"/>
                    </a:lnTo>
                    <a:lnTo>
                      <a:pt x="303" y="891"/>
                    </a:lnTo>
                    <a:lnTo>
                      <a:pt x="302" y="869"/>
                    </a:lnTo>
                    <a:lnTo>
                      <a:pt x="300" y="846"/>
                    </a:lnTo>
                    <a:lnTo>
                      <a:pt x="298" y="824"/>
                    </a:lnTo>
                    <a:lnTo>
                      <a:pt x="296" y="801"/>
                    </a:lnTo>
                    <a:lnTo>
                      <a:pt x="293" y="777"/>
                    </a:lnTo>
                    <a:lnTo>
                      <a:pt x="290" y="754"/>
                    </a:lnTo>
                    <a:lnTo>
                      <a:pt x="285" y="731"/>
                    </a:lnTo>
                    <a:lnTo>
                      <a:pt x="281" y="711"/>
                    </a:lnTo>
                    <a:lnTo>
                      <a:pt x="276" y="692"/>
                    </a:lnTo>
                    <a:lnTo>
                      <a:pt x="269" y="673"/>
                    </a:lnTo>
                    <a:lnTo>
                      <a:pt x="263" y="656"/>
                    </a:lnTo>
                    <a:lnTo>
                      <a:pt x="256" y="641"/>
                    </a:lnTo>
                    <a:lnTo>
                      <a:pt x="273" y="647"/>
                    </a:lnTo>
                    <a:lnTo>
                      <a:pt x="290" y="652"/>
                    </a:lnTo>
                    <a:lnTo>
                      <a:pt x="307" y="656"/>
                    </a:lnTo>
                    <a:lnTo>
                      <a:pt x="325" y="659"/>
                    </a:lnTo>
                    <a:lnTo>
                      <a:pt x="343" y="662"/>
                    </a:lnTo>
                    <a:lnTo>
                      <a:pt x="362" y="665"/>
                    </a:lnTo>
                    <a:lnTo>
                      <a:pt x="381" y="666"/>
                    </a:lnTo>
                    <a:lnTo>
                      <a:pt x="401" y="666"/>
                    </a:lnTo>
                    <a:lnTo>
                      <a:pt x="397" y="676"/>
                    </a:lnTo>
                    <a:lnTo>
                      <a:pt x="392" y="689"/>
                    </a:lnTo>
                    <a:lnTo>
                      <a:pt x="388" y="702"/>
                    </a:lnTo>
                    <a:lnTo>
                      <a:pt x="386" y="717"/>
                    </a:lnTo>
                    <a:lnTo>
                      <a:pt x="384" y="731"/>
                    </a:lnTo>
                    <a:lnTo>
                      <a:pt x="382" y="748"/>
                    </a:lnTo>
                    <a:lnTo>
                      <a:pt x="381" y="766"/>
                    </a:lnTo>
                    <a:lnTo>
                      <a:pt x="381" y="786"/>
                    </a:lnTo>
                    <a:lnTo>
                      <a:pt x="381" y="798"/>
                    </a:lnTo>
                    <a:lnTo>
                      <a:pt x="381" y="815"/>
                    </a:lnTo>
                    <a:lnTo>
                      <a:pt x="381" y="836"/>
                    </a:lnTo>
                    <a:lnTo>
                      <a:pt x="381" y="862"/>
                    </a:lnTo>
                    <a:lnTo>
                      <a:pt x="383" y="897"/>
                    </a:lnTo>
                    <a:lnTo>
                      <a:pt x="385" y="927"/>
                    </a:lnTo>
                    <a:lnTo>
                      <a:pt x="385" y="954"/>
                    </a:lnTo>
                    <a:lnTo>
                      <a:pt x="386" y="976"/>
                    </a:lnTo>
                    <a:lnTo>
                      <a:pt x="411" y="971"/>
                    </a:lnTo>
                    <a:lnTo>
                      <a:pt x="443" y="967"/>
                    </a:lnTo>
                    <a:lnTo>
                      <a:pt x="481" y="961"/>
                    </a:lnTo>
                    <a:lnTo>
                      <a:pt x="526" y="956"/>
                    </a:lnTo>
                    <a:lnTo>
                      <a:pt x="534" y="956"/>
                    </a:lnTo>
                    <a:lnTo>
                      <a:pt x="541" y="956"/>
                    </a:lnTo>
                    <a:lnTo>
                      <a:pt x="542" y="931"/>
                    </a:lnTo>
                    <a:lnTo>
                      <a:pt x="543" y="902"/>
                    </a:lnTo>
                    <a:lnTo>
                      <a:pt x="544" y="869"/>
                    </a:lnTo>
                    <a:lnTo>
                      <a:pt x="545" y="833"/>
                    </a:lnTo>
                    <a:lnTo>
                      <a:pt x="545" y="794"/>
                    </a:lnTo>
                    <a:lnTo>
                      <a:pt x="546" y="751"/>
                    </a:lnTo>
                    <a:lnTo>
                      <a:pt x="546" y="706"/>
                    </a:lnTo>
                    <a:lnTo>
                      <a:pt x="546" y="656"/>
                    </a:lnTo>
                    <a:lnTo>
                      <a:pt x="544" y="618"/>
                    </a:lnTo>
                    <a:lnTo>
                      <a:pt x="542" y="582"/>
                    </a:lnTo>
                    <a:lnTo>
                      <a:pt x="538" y="549"/>
                    </a:lnTo>
                    <a:lnTo>
                      <a:pt x="534" y="519"/>
                    </a:lnTo>
                    <a:lnTo>
                      <a:pt x="530" y="493"/>
                    </a:lnTo>
                    <a:lnTo>
                      <a:pt x="524" y="470"/>
                    </a:lnTo>
                    <a:lnTo>
                      <a:pt x="517" y="448"/>
                    </a:lnTo>
                    <a:lnTo>
                      <a:pt x="511" y="430"/>
                    </a:lnTo>
                    <a:lnTo>
                      <a:pt x="525" y="436"/>
                    </a:lnTo>
                    <a:lnTo>
                      <a:pt x="541" y="440"/>
                    </a:lnTo>
                    <a:lnTo>
                      <a:pt x="556" y="443"/>
                    </a:lnTo>
                    <a:lnTo>
                      <a:pt x="574" y="446"/>
                    </a:lnTo>
                    <a:lnTo>
                      <a:pt x="594" y="448"/>
                    </a:lnTo>
                    <a:lnTo>
                      <a:pt x="613" y="449"/>
                    </a:lnTo>
                    <a:lnTo>
                      <a:pt x="634" y="451"/>
                    </a:lnTo>
                    <a:lnTo>
                      <a:pt x="656" y="451"/>
                    </a:lnTo>
                    <a:lnTo>
                      <a:pt x="652" y="463"/>
                    </a:lnTo>
                    <a:lnTo>
                      <a:pt x="649" y="477"/>
                    </a:lnTo>
                    <a:lnTo>
                      <a:pt x="645" y="493"/>
                    </a:lnTo>
                    <a:lnTo>
                      <a:pt x="643" y="511"/>
                    </a:lnTo>
                    <a:lnTo>
                      <a:pt x="639" y="552"/>
                    </a:lnTo>
                    <a:lnTo>
                      <a:pt x="636" y="601"/>
                    </a:lnTo>
                    <a:lnTo>
                      <a:pt x="634" y="612"/>
                    </a:lnTo>
                    <a:lnTo>
                      <a:pt x="632" y="622"/>
                    </a:lnTo>
                    <a:lnTo>
                      <a:pt x="631" y="634"/>
                    </a:lnTo>
                    <a:lnTo>
                      <a:pt x="631" y="646"/>
                    </a:lnTo>
                    <a:lnTo>
                      <a:pt x="643" y="644"/>
                    </a:lnTo>
                    <a:lnTo>
                      <a:pt x="660" y="641"/>
                    </a:lnTo>
                    <a:lnTo>
                      <a:pt x="707" y="632"/>
                    </a:lnTo>
                    <a:lnTo>
                      <a:pt x="747" y="622"/>
                    </a:lnTo>
                    <a:lnTo>
                      <a:pt x="780" y="614"/>
                    </a:lnTo>
                    <a:lnTo>
                      <a:pt x="805" y="606"/>
                    </a:lnTo>
                    <a:lnTo>
                      <a:pt x="816" y="614"/>
                    </a:lnTo>
                    <a:lnTo>
                      <a:pt x="824" y="622"/>
                    </a:lnTo>
                    <a:lnTo>
                      <a:pt x="834" y="632"/>
                    </a:lnTo>
                    <a:lnTo>
                      <a:pt x="842" y="641"/>
                    </a:lnTo>
                    <a:lnTo>
                      <a:pt x="850" y="651"/>
                    </a:lnTo>
                    <a:lnTo>
                      <a:pt x="857" y="662"/>
                    </a:lnTo>
                    <a:lnTo>
                      <a:pt x="865" y="674"/>
                    </a:lnTo>
                    <a:lnTo>
                      <a:pt x="871" y="686"/>
                    </a:lnTo>
                    <a:lnTo>
                      <a:pt x="846" y="689"/>
                    </a:lnTo>
                    <a:lnTo>
                      <a:pt x="815" y="692"/>
                    </a:lnTo>
                    <a:lnTo>
                      <a:pt x="778" y="696"/>
                    </a:lnTo>
                    <a:lnTo>
                      <a:pt x="735" y="701"/>
                    </a:lnTo>
                    <a:lnTo>
                      <a:pt x="705" y="704"/>
                    </a:lnTo>
                    <a:lnTo>
                      <a:pt x="677" y="706"/>
                    </a:lnTo>
                    <a:lnTo>
                      <a:pt x="653" y="708"/>
                    </a:lnTo>
                    <a:lnTo>
                      <a:pt x="631" y="711"/>
                    </a:lnTo>
                    <a:lnTo>
                      <a:pt x="630" y="743"/>
                    </a:lnTo>
                    <a:lnTo>
                      <a:pt x="629" y="775"/>
                    </a:lnTo>
                    <a:lnTo>
                      <a:pt x="627" y="806"/>
                    </a:lnTo>
                    <a:lnTo>
                      <a:pt x="627" y="835"/>
                    </a:lnTo>
                    <a:lnTo>
                      <a:pt x="626" y="864"/>
                    </a:lnTo>
                    <a:lnTo>
                      <a:pt x="626" y="892"/>
                    </a:lnTo>
                    <a:lnTo>
                      <a:pt x="625" y="920"/>
                    </a:lnTo>
                    <a:lnTo>
                      <a:pt x="625" y="946"/>
                    </a:lnTo>
                    <a:lnTo>
                      <a:pt x="640" y="943"/>
                    </a:lnTo>
                    <a:lnTo>
                      <a:pt x="658" y="941"/>
                    </a:lnTo>
                    <a:lnTo>
                      <a:pt x="680" y="939"/>
                    </a:lnTo>
                    <a:lnTo>
                      <a:pt x="706" y="936"/>
                    </a:lnTo>
                    <a:lnTo>
                      <a:pt x="744" y="933"/>
                    </a:lnTo>
                    <a:lnTo>
                      <a:pt x="780" y="930"/>
                    </a:lnTo>
                    <a:lnTo>
                      <a:pt x="814" y="926"/>
                    </a:lnTo>
                    <a:lnTo>
                      <a:pt x="846" y="923"/>
                    </a:lnTo>
                    <a:lnTo>
                      <a:pt x="876" y="921"/>
                    </a:lnTo>
                    <a:lnTo>
                      <a:pt x="905" y="919"/>
                    </a:lnTo>
                    <a:lnTo>
                      <a:pt x="931" y="918"/>
                    </a:lnTo>
                    <a:lnTo>
                      <a:pt x="956" y="916"/>
                    </a:lnTo>
                    <a:lnTo>
                      <a:pt x="962" y="916"/>
                    </a:lnTo>
                    <a:lnTo>
                      <a:pt x="967" y="916"/>
                    </a:lnTo>
                    <a:lnTo>
                      <a:pt x="973" y="916"/>
                    </a:lnTo>
                    <a:lnTo>
                      <a:pt x="978" y="918"/>
                    </a:lnTo>
                    <a:lnTo>
                      <a:pt x="983" y="920"/>
                    </a:lnTo>
                    <a:lnTo>
                      <a:pt x="988" y="923"/>
                    </a:lnTo>
                    <a:lnTo>
                      <a:pt x="992" y="926"/>
                    </a:lnTo>
                    <a:lnTo>
                      <a:pt x="996" y="932"/>
                    </a:lnTo>
                    <a:lnTo>
                      <a:pt x="999" y="935"/>
                    </a:lnTo>
                    <a:lnTo>
                      <a:pt x="1005" y="942"/>
                    </a:lnTo>
                    <a:lnTo>
                      <a:pt x="1012" y="953"/>
                    </a:lnTo>
                    <a:lnTo>
                      <a:pt x="1020" y="967"/>
                    </a:lnTo>
                    <a:lnTo>
                      <a:pt x="1033" y="984"/>
                    </a:lnTo>
                    <a:lnTo>
                      <a:pt x="1041" y="996"/>
                    </a:lnTo>
                    <a:lnTo>
                      <a:pt x="1045" y="998"/>
                    </a:lnTo>
                    <a:lnTo>
                      <a:pt x="1047" y="1001"/>
                    </a:lnTo>
                    <a:lnTo>
                      <a:pt x="1048" y="1001"/>
                    </a:lnTo>
                    <a:lnTo>
                      <a:pt x="1046" y="1002"/>
                    </a:lnTo>
                    <a:lnTo>
                      <a:pt x="1043" y="1004"/>
                    </a:lnTo>
                    <a:lnTo>
                      <a:pt x="1037" y="1005"/>
                    </a:lnTo>
                    <a:lnTo>
                      <a:pt x="1030" y="1006"/>
                    </a:lnTo>
                    <a:lnTo>
                      <a:pt x="1020" y="1006"/>
                    </a:lnTo>
                    <a:lnTo>
                      <a:pt x="971" y="1005"/>
                    </a:lnTo>
                    <a:lnTo>
                      <a:pt x="920" y="1005"/>
                    </a:lnTo>
                    <a:lnTo>
                      <a:pt x="868" y="1005"/>
                    </a:lnTo>
                    <a:lnTo>
                      <a:pt x="816" y="1006"/>
                    </a:lnTo>
                    <a:lnTo>
                      <a:pt x="763" y="1008"/>
                    </a:lnTo>
                    <a:lnTo>
                      <a:pt x="710" y="1010"/>
                    </a:lnTo>
                    <a:lnTo>
                      <a:pt x="656" y="1013"/>
                    </a:lnTo>
                    <a:lnTo>
                      <a:pt x="602" y="1016"/>
                    </a:lnTo>
                    <a:lnTo>
                      <a:pt x="547" y="1021"/>
                    </a:lnTo>
                    <a:lnTo>
                      <a:pt x="492" y="1025"/>
                    </a:lnTo>
                    <a:lnTo>
                      <a:pt x="436" y="1030"/>
                    </a:lnTo>
                    <a:lnTo>
                      <a:pt x="379" y="1037"/>
                    </a:lnTo>
                    <a:lnTo>
                      <a:pt x="321" y="1043"/>
                    </a:lnTo>
                    <a:lnTo>
                      <a:pt x="263" y="1050"/>
                    </a:lnTo>
                    <a:lnTo>
                      <a:pt x="205" y="1058"/>
                    </a:lnTo>
                    <a:lnTo>
                      <a:pt x="146" y="1066"/>
                    </a:lnTo>
                    <a:close/>
                    <a:moveTo>
                      <a:pt x="500" y="0"/>
                    </a:moveTo>
                    <a:lnTo>
                      <a:pt x="515" y="11"/>
                    </a:lnTo>
                    <a:lnTo>
                      <a:pt x="530" y="21"/>
                    </a:lnTo>
                    <a:lnTo>
                      <a:pt x="545" y="30"/>
                    </a:lnTo>
                    <a:lnTo>
                      <a:pt x="560" y="38"/>
                    </a:lnTo>
                    <a:lnTo>
                      <a:pt x="573" y="45"/>
                    </a:lnTo>
                    <a:lnTo>
                      <a:pt x="588" y="51"/>
                    </a:lnTo>
                    <a:lnTo>
                      <a:pt x="602" y="56"/>
                    </a:lnTo>
                    <a:lnTo>
                      <a:pt x="616" y="61"/>
                    </a:lnTo>
                    <a:lnTo>
                      <a:pt x="597" y="81"/>
                    </a:lnTo>
                    <a:lnTo>
                      <a:pt x="581" y="101"/>
                    </a:lnTo>
                    <a:lnTo>
                      <a:pt x="567" y="121"/>
                    </a:lnTo>
                    <a:lnTo>
                      <a:pt x="555" y="141"/>
                    </a:lnTo>
                    <a:lnTo>
                      <a:pt x="583" y="161"/>
                    </a:lnTo>
                    <a:lnTo>
                      <a:pt x="616" y="188"/>
                    </a:lnTo>
                    <a:lnTo>
                      <a:pt x="653" y="222"/>
                    </a:lnTo>
                    <a:lnTo>
                      <a:pt x="696" y="261"/>
                    </a:lnTo>
                    <a:lnTo>
                      <a:pt x="734" y="297"/>
                    </a:lnTo>
                    <a:lnTo>
                      <a:pt x="771" y="329"/>
                    </a:lnTo>
                    <a:lnTo>
                      <a:pt x="805" y="357"/>
                    </a:lnTo>
                    <a:lnTo>
                      <a:pt x="837" y="382"/>
                    </a:lnTo>
                    <a:lnTo>
                      <a:pt x="867" y="403"/>
                    </a:lnTo>
                    <a:lnTo>
                      <a:pt x="893" y="421"/>
                    </a:lnTo>
                    <a:lnTo>
                      <a:pt x="906" y="428"/>
                    </a:lnTo>
                    <a:lnTo>
                      <a:pt x="919" y="436"/>
                    </a:lnTo>
                    <a:lnTo>
                      <a:pt x="930" y="441"/>
                    </a:lnTo>
                    <a:lnTo>
                      <a:pt x="941" y="445"/>
                    </a:lnTo>
                    <a:lnTo>
                      <a:pt x="973" y="458"/>
                    </a:lnTo>
                    <a:lnTo>
                      <a:pt x="1003" y="472"/>
                    </a:lnTo>
                    <a:lnTo>
                      <a:pt x="1033" y="484"/>
                    </a:lnTo>
                    <a:lnTo>
                      <a:pt x="1061" y="498"/>
                    </a:lnTo>
                    <a:lnTo>
                      <a:pt x="1088" y="512"/>
                    </a:lnTo>
                    <a:lnTo>
                      <a:pt x="1114" y="527"/>
                    </a:lnTo>
                    <a:lnTo>
                      <a:pt x="1138" y="541"/>
                    </a:lnTo>
                    <a:lnTo>
                      <a:pt x="1161" y="555"/>
                    </a:lnTo>
                    <a:lnTo>
                      <a:pt x="1176" y="566"/>
                    </a:lnTo>
                    <a:lnTo>
                      <a:pt x="1187" y="575"/>
                    </a:lnTo>
                    <a:lnTo>
                      <a:pt x="1191" y="579"/>
                    </a:lnTo>
                    <a:lnTo>
                      <a:pt x="1194" y="583"/>
                    </a:lnTo>
                    <a:lnTo>
                      <a:pt x="1195" y="587"/>
                    </a:lnTo>
                    <a:lnTo>
                      <a:pt x="1196" y="590"/>
                    </a:lnTo>
                    <a:lnTo>
                      <a:pt x="1195" y="595"/>
                    </a:lnTo>
                    <a:lnTo>
                      <a:pt x="1193" y="598"/>
                    </a:lnTo>
                    <a:lnTo>
                      <a:pt x="1190" y="600"/>
                    </a:lnTo>
                    <a:lnTo>
                      <a:pt x="1186" y="602"/>
                    </a:lnTo>
                    <a:lnTo>
                      <a:pt x="1180" y="604"/>
                    </a:lnTo>
                    <a:lnTo>
                      <a:pt x="1174" y="605"/>
                    </a:lnTo>
                    <a:lnTo>
                      <a:pt x="1166" y="605"/>
                    </a:lnTo>
                    <a:lnTo>
                      <a:pt x="1156" y="606"/>
                    </a:lnTo>
                    <a:lnTo>
                      <a:pt x="1108" y="605"/>
                    </a:lnTo>
                    <a:lnTo>
                      <a:pt x="1066" y="604"/>
                    </a:lnTo>
                    <a:lnTo>
                      <a:pt x="1029" y="602"/>
                    </a:lnTo>
                    <a:lnTo>
                      <a:pt x="997" y="599"/>
                    </a:lnTo>
                    <a:lnTo>
                      <a:pt x="971" y="595"/>
                    </a:lnTo>
                    <a:lnTo>
                      <a:pt x="948" y="589"/>
                    </a:lnTo>
                    <a:lnTo>
                      <a:pt x="940" y="586"/>
                    </a:lnTo>
                    <a:lnTo>
                      <a:pt x="932" y="583"/>
                    </a:lnTo>
                    <a:lnTo>
                      <a:pt x="926" y="580"/>
                    </a:lnTo>
                    <a:lnTo>
                      <a:pt x="921" y="576"/>
                    </a:lnTo>
                    <a:lnTo>
                      <a:pt x="903" y="563"/>
                    </a:lnTo>
                    <a:lnTo>
                      <a:pt x="882" y="545"/>
                    </a:lnTo>
                    <a:lnTo>
                      <a:pt x="856" y="522"/>
                    </a:lnTo>
                    <a:lnTo>
                      <a:pt x="829" y="495"/>
                    </a:lnTo>
                    <a:lnTo>
                      <a:pt x="797" y="463"/>
                    </a:lnTo>
                    <a:lnTo>
                      <a:pt x="761" y="427"/>
                    </a:lnTo>
                    <a:lnTo>
                      <a:pt x="723" y="386"/>
                    </a:lnTo>
                    <a:lnTo>
                      <a:pt x="680" y="340"/>
                    </a:lnTo>
                    <a:lnTo>
                      <a:pt x="633" y="288"/>
                    </a:lnTo>
                    <a:lnTo>
                      <a:pt x="592" y="246"/>
                    </a:lnTo>
                    <a:lnTo>
                      <a:pt x="560" y="213"/>
                    </a:lnTo>
                    <a:lnTo>
                      <a:pt x="536" y="191"/>
                    </a:lnTo>
                    <a:lnTo>
                      <a:pt x="518" y="223"/>
                    </a:lnTo>
                    <a:lnTo>
                      <a:pt x="501" y="254"/>
                    </a:lnTo>
                    <a:lnTo>
                      <a:pt x="484" y="284"/>
                    </a:lnTo>
                    <a:lnTo>
                      <a:pt x="466" y="314"/>
                    </a:lnTo>
                    <a:lnTo>
                      <a:pt x="448" y="343"/>
                    </a:lnTo>
                    <a:lnTo>
                      <a:pt x="429" y="371"/>
                    </a:lnTo>
                    <a:lnTo>
                      <a:pt x="411" y="399"/>
                    </a:lnTo>
                    <a:lnTo>
                      <a:pt x="392" y="425"/>
                    </a:lnTo>
                    <a:lnTo>
                      <a:pt x="373" y="451"/>
                    </a:lnTo>
                    <a:lnTo>
                      <a:pt x="353" y="475"/>
                    </a:lnTo>
                    <a:lnTo>
                      <a:pt x="334" y="498"/>
                    </a:lnTo>
                    <a:lnTo>
                      <a:pt x="314" y="522"/>
                    </a:lnTo>
                    <a:lnTo>
                      <a:pt x="293" y="544"/>
                    </a:lnTo>
                    <a:lnTo>
                      <a:pt x="273" y="565"/>
                    </a:lnTo>
                    <a:lnTo>
                      <a:pt x="251" y="586"/>
                    </a:lnTo>
                    <a:lnTo>
                      <a:pt x="230" y="606"/>
                    </a:lnTo>
                    <a:lnTo>
                      <a:pt x="218" y="617"/>
                    </a:lnTo>
                    <a:lnTo>
                      <a:pt x="205" y="626"/>
                    </a:lnTo>
                    <a:lnTo>
                      <a:pt x="192" y="635"/>
                    </a:lnTo>
                    <a:lnTo>
                      <a:pt x="178" y="642"/>
                    </a:lnTo>
                    <a:lnTo>
                      <a:pt x="166" y="648"/>
                    </a:lnTo>
                    <a:lnTo>
                      <a:pt x="152" y="653"/>
                    </a:lnTo>
                    <a:lnTo>
                      <a:pt x="137" y="657"/>
                    </a:lnTo>
                    <a:lnTo>
                      <a:pt x="123" y="659"/>
                    </a:lnTo>
                    <a:lnTo>
                      <a:pt x="108" y="661"/>
                    </a:lnTo>
                    <a:lnTo>
                      <a:pt x="94" y="661"/>
                    </a:lnTo>
                    <a:lnTo>
                      <a:pt x="79" y="661"/>
                    </a:lnTo>
                    <a:lnTo>
                      <a:pt x="64" y="659"/>
                    </a:lnTo>
                    <a:lnTo>
                      <a:pt x="48" y="656"/>
                    </a:lnTo>
                    <a:lnTo>
                      <a:pt x="32" y="652"/>
                    </a:lnTo>
                    <a:lnTo>
                      <a:pt x="16" y="648"/>
                    </a:lnTo>
                    <a:lnTo>
                      <a:pt x="0" y="641"/>
                    </a:lnTo>
                    <a:lnTo>
                      <a:pt x="33" y="624"/>
                    </a:lnTo>
                    <a:lnTo>
                      <a:pt x="65" y="605"/>
                    </a:lnTo>
                    <a:lnTo>
                      <a:pt x="97" y="586"/>
                    </a:lnTo>
                    <a:lnTo>
                      <a:pt x="128" y="565"/>
                    </a:lnTo>
                    <a:lnTo>
                      <a:pt x="157" y="542"/>
                    </a:lnTo>
                    <a:lnTo>
                      <a:pt x="187" y="518"/>
                    </a:lnTo>
                    <a:lnTo>
                      <a:pt x="215" y="493"/>
                    </a:lnTo>
                    <a:lnTo>
                      <a:pt x="243" y="465"/>
                    </a:lnTo>
                    <a:lnTo>
                      <a:pt x="270" y="438"/>
                    </a:lnTo>
                    <a:lnTo>
                      <a:pt x="297" y="408"/>
                    </a:lnTo>
                    <a:lnTo>
                      <a:pt x="322" y="377"/>
                    </a:lnTo>
                    <a:lnTo>
                      <a:pt x="348" y="345"/>
                    </a:lnTo>
                    <a:lnTo>
                      <a:pt x="372" y="311"/>
                    </a:lnTo>
                    <a:lnTo>
                      <a:pt x="395" y="276"/>
                    </a:lnTo>
                    <a:lnTo>
                      <a:pt x="419" y="239"/>
                    </a:lnTo>
                    <a:lnTo>
                      <a:pt x="441" y="200"/>
                    </a:lnTo>
                    <a:lnTo>
                      <a:pt x="455" y="171"/>
                    </a:lnTo>
                    <a:lnTo>
                      <a:pt x="466" y="143"/>
                    </a:lnTo>
                    <a:lnTo>
                      <a:pt x="477" y="116"/>
                    </a:lnTo>
                    <a:lnTo>
                      <a:pt x="486" y="90"/>
                    </a:lnTo>
                    <a:lnTo>
                      <a:pt x="492" y="66"/>
                    </a:lnTo>
                    <a:lnTo>
                      <a:pt x="497" y="43"/>
                    </a:lnTo>
                    <a:lnTo>
                      <a:pt x="499" y="21"/>
                    </a:lnTo>
                    <a:lnTo>
                      <a:pt x="500" y="0"/>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649" name="Freeform 16"/>
              <p:cNvSpPr/>
              <p:nvPr/>
            </p:nvSpPr>
            <p:spPr>
              <a:xfrm>
                <a:off x="1400760" y="1299240"/>
                <a:ext cx="164520" cy="131760"/>
              </a:xfrm>
              <a:custGeom>
                <a:avLst/>
                <a:gdLst>
                  <a:gd name="textAreaLeft" fmla="*/ 0 w 164520"/>
                  <a:gd name="textAreaRight" fmla="*/ 164880 w 164520"/>
                  <a:gd name="textAreaTop" fmla="*/ 0 h 131760"/>
                  <a:gd name="textAreaBottom" fmla="*/ 132120 h 131760"/>
                </a:gdLst>
                <a:ahLst/>
                <a:rect l="textAreaLeft" t="textAreaTop" r="textAreaRight" b="textAreaBottom"/>
                <a:pathLst>
                  <a:path w="1104" h="947">
                    <a:moveTo>
                      <a:pt x="708" y="35"/>
                    </a:moveTo>
                    <a:lnTo>
                      <a:pt x="701" y="55"/>
                    </a:lnTo>
                    <a:lnTo>
                      <a:pt x="696" y="79"/>
                    </a:lnTo>
                    <a:lnTo>
                      <a:pt x="691" y="104"/>
                    </a:lnTo>
                    <a:lnTo>
                      <a:pt x="688" y="133"/>
                    </a:lnTo>
                    <a:lnTo>
                      <a:pt x="683" y="165"/>
                    </a:lnTo>
                    <a:lnTo>
                      <a:pt x="681" y="198"/>
                    </a:lnTo>
                    <a:lnTo>
                      <a:pt x="679" y="236"/>
                    </a:lnTo>
                    <a:lnTo>
                      <a:pt x="677" y="276"/>
                    </a:lnTo>
                    <a:lnTo>
                      <a:pt x="677" y="313"/>
                    </a:lnTo>
                    <a:lnTo>
                      <a:pt x="677" y="349"/>
                    </a:lnTo>
                    <a:lnTo>
                      <a:pt x="677" y="385"/>
                    </a:lnTo>
                    <a:lnTo>
                      <a:pt x="677" y="420"/>
                    </a:lnTo>
                    <a:lnTo>
                      <a:pt x="677" y="454"/>
                    </a:lnTo>
                    <a:lnTo>
                      <a:pt x="677" y="487"/>
                    </a:lnTo>
                    <a:lnTo>
                      <a:pt x="677" y="520"/>
                    </a:lnTo>
                    <a:lnTo>
                      <a:pt x="677" y="551"/>
                    </a:lnTo>
                    <a:lnTo>
                      <a:pt x="695" y="531"/>
                    </a:lnTo>
                    <a:lnTo>
                      <a:pt x="713" y="511"/>
                    </a:lnTo>
                    <a:lnTo>
                      <a:pt x="729" y="492"/>
                    </a:lnTo>
                    <a:lnTo>
                      <a:pt x="745" y="472"/>
                    </a:lnTo>
                    <a:lnTo>
                      <a:pt x="760" y="453"/>
                    </a:lnTo>
                    <a:lnTo>
                      <a:pt x="773" y="435"/>
                    </a:lnTo>
                    <a:lnTo>
                      <a:pt x="786" y="416"/>
                    </a:lnTo>
                    <a:lnTo>
                      <a:pt x="799" y="397"/>
                    </a:lnTo>
                    <a:lnTo>
                      <a:pt x="809" y="379"/>
                    </a:lnTo>
                    <a:lnTo>
                      <a:pt x="820" y="361"/>
                    </a:lnTo>
                    <a:lnTo>
                      <a:pt x="830" y="343"/>
                    </a:lnTo>
                    <a:lnTo>
                      <a:pt x="838" y="325"/>
                    </a:lnTo>
                    <a:lnTo>
                      <a:pt x="845" y="308"/>
                    </a:lnTo>
                    <a:lnTo>
                      <a:pt x="852" y="290"/>
                    </a:lnTo>
                    <a:lnTo>
                      <a:pt x="857" y="273"/>
                    </a:lnTo>
                    <a:lnTo>
                      <a:pt x="862" y="256"/>
                    </a:lnTo>
                    <a:lnTo>
                      <a:pt x="875" y="268"/>
                    </a:lnTo>
                    <a:lnTo>
                      <a:pt x="892" y="285"/>
                    </a:lnTo>
                    <a:lnTo>
                      <a:pt x="905" y="301"/>
                    </a:lnTo>
                    <a:lnTo>
                      <a:pt x="916" y="315"/>
                    </a:lnTo>
                    <a:lnTo>
                      <a:pt x="929" y="328"/>
                    </a:lnTo>
                    <a:lnTo>
                      <a:pt x="941" y="339"/>
                    </a:lnTo>
                    <a:lnTo>
                      <a:pt x="952" y="349"/>
                    </a:lnTo>
                    <a:lnTo>
                      <a:pt x="964" y="358"/>
                    </a:lnTo>
                    <a:lnTo>
                      <a:pt x="976" y="365"/>
                    </a:lnTo>
                    <a:lnTo>
                      <a:pt x="987" y="371"/>
                    </a:lnTo>
                    <a:lnTo>
                      <a:pt x="975" y="376"/>
                    </a:lnTo>
                    <a:lnTo>
                      <a:pt x="962" y="383"/>
                    </a:lnTo>
                    <a:lnTo>
                      <a:pt x="949" y="390"/>
                    </a:lnTo>
                    <a:lnTo>
                      <a:pt x="937" y="400"/>
                    </a:lnTo>
                    <a:lnTo>
                      <a:pt x="923" y="409"/>
                    </a:lnTo>
                    <a:lnTo>
                      <a:pt x="909" y="421"/>
                    </a:lnTo>
                    <a:lnTo>
                      <a:pt x="896" y="433"/>
                    </a:lnTo>
                    <a:lnTo>
                      <a:pt x="882" y="445"/>
                    </a:lnTo>
                    <a:lnTo>
                      <a:pt x="858" y="468"/>
                    </a:lnTo>
                    <a:lnTo>
                      <a:pt x="834" y="490"/>
                    </a:lnTo>
                    <a:lnTo>
                      <a:pt x="808" y="511"/>
                    </a:lnTo>
                    <a:lnTo>
                      <a:pt x="783" y="531"/>
                    </a:lnTo>
                    <a:lnTo>
                      <a:pt x="758" y="550"/>
                    </a:lnTo>
                    <a:lnTo>
                      <a:pt x="731" y="569"/>
                    </a:lnTo>
                    <a:lnTo>
                      <a:pt x="705" y="588"/>
                    </a:lnTo>
                    <a:lnTo>
                      <a:pt x="677" y="606"/>
                    </a:lnTo>
                    <a:lnTo>
                      <a:pt x="677" y="807"/>
                    </a:lnTo>
                    <a:lnTo>
                      <a:pt x="702" y="804"/>
                    </a:lnTo>
                    <a:lnTo>
                      <a:pt x="733" y="800"/>
                    </a:lnTo>
                    <a:lnTo>
                      <a:pt x="770" y="796"/>
                    </a:lnTo>
                    <a:lnTo>
                      <a:pt x="813" y="791"/>
                    </a:lnTo>
                    <a:lnTo>
                      <a:pt x="845" y="788"/>
                    </a:lnTo>
                    <a:lnTo>
                      <a:pt x="876" y="784"/>
                    </a:lnTo>
                    <a:lnTo>
                      <a:pt x="905" y="781"/>
                    </a:lnTo>
                    <a:lnTo>
                      <a:pt x="931" y="779"/>
                    </a:lnTo>
                    <a:lnTo>
                      <a:pt x="956" y="776"/>
                    </a:lnTo>
                    <a:lnTo>
                      <a:pt x="978" y="774"/>
                    </a:lnTo>
                    <a:lnTo>
                      <a:pt x="999" y="773"/>
                    </a:lnTo>
                    <a:lnTo>
                      <a:pt x="1017" y="771"/>
                    </a:lnTo>
                    <a:lnTo>
                      <a:pt x="1024" y="772"/>
                    </a:lnTo>
                    <a:lnTo>
                      <a:pt x="1032" y="773"/>
                    </a:lnTo>
                    <a:lnTo>
                      <a:pt x="1038" y="774"/>
                    </a:lnTo>
                    <a:lnTo>
                      <a:pt x="1043" y="776"/>
                    </a:lnTo>
                    <a:lnTo>
                      <a:pt x="1049" y="779"/>
                    </a:lnTo>
                    <a:lnTo>
                      <a:pt x="1054" y="782"/>
                    </a:lnTo>
                    <a:lnTo>
                      <a:pt x="1058" y="787"/>
                    </a:lnTo>
                    <a:lnTo>
                      <a:pt x="1063" y="791"/>
                    </a:lnTo>
                    <a:lnTo>
                      <a:pt x="1074" y="811"/>
                    </a:lnTo>
                    <a:lnTo>
                      <a:pt x="1084" y="829"/>
                    </a:lnTo>
                    <a:lnTo>
                      <a:pt x="1091" y="846"/>
                    </a:lnTo>
                    <a:lnTo>
                      <a:pt x="1098" y="861"/>
                    </a:lnTo>
                    <a:lnTo>
                      <a:pt x="1102" y="872"/>
                    </a:lnTo>
                    <a:lnTo>
                      <a:pt x="1104" y="881"/>
                    </a:lnTo>
                    <a:lnTo>
                      <a:pt x="1104" y="887"/>
                    </a:lnTo>
                    <a:lnTo>
                      <a:pt x="1103" y="891"/>
                    </a:lnTo>
                    <a:lnTo>
                      <a:pt x="1101" y="894"/>
                    </a:lnTo>
                    <a:lnTo>
                      <a:pt x="1098" y="895"/>
                    </a:lnTo>
                    <a:lnTo>
                      <a:pt x="1091" y="896"/>
                    </a:lnTo>
                    <a:lnTo>
                      <a:pt x="1083" y="897"/>
                    </a:lnTo>
                    <a:lnTo>
                      <a:pt x="1041" y="891"/>
                    </a:lnTo>
                    <a:lnTo>
                      <a:pt x="997" y="887"/>
                    </a:lnTo>
                    <a:lnTo>
                      <a:pt x="950" y="884"/>
                    </a:lnTo>
                    <a:lnTo>
                      <a:pt x="900" y="883"/>
                    </a:lnTo>
                    <a:lnTo>
                      <a:pt x="849" y="882"/>
                    </a:lnTo>
                    <a:lnTo>
                      <a:pt x="794" y="882"/>
                    </a:lnTo>
                    <a:lnTo>
                      <a:pt x="736" y="884"/>
                    </a:lnTo>
                    <a:lnTo>
                      <a:pt x="676" y="886"/>
                    </a:lnTo>
                    <a:lnTo>
                      <a:pt x="613" y="890"/>
                    </a:lnTo>
                    <a:lnTo>
                      <a:pt x="548" y="895"/>
                    </a:lnTo>
                    <a:lnTo>
                      <a:pt x="479" y="901"/>
                    </a:lnTo>
                    <a:lnTo>
                      <a:pt x="408" y="907"/>
                    </a:lnTo>
                    <a:lnTo>
                      <a:pt x="335" y="916"/>
                    </a:lnTo>
                    <a:lnTo>
                      <a:pt x="258" y="924"/>
                    </a:lnTo>
                    <a:lnTo>
                      <a:pt x="179" y="935"/>
                    </a:lnTo>
                    <a:lnTo>
                      <a:pt x="97" y="947"/>
                    </a:lnTo>
                    <a:lnTo>
                      <a:pt x="90" y="946"/>
                    </a:lnTo>
                    <a:lnTo>
                      <a:pt x="83" y="942"/>
                    </a:lnTo>
                    <a:lnTo>
                      <a:pt x="73" y="938"/>
                    </a:lnTo>
                    <a:lnTo>
                      <a:pt x="64" y="933"/>
                    </a:lnTo>
                    <a:lnTo>
                      <a:pt x="52" y="924"/>
                    </a:lnTo>
                    <a:lnTo>
                      <a:pt x="39" y="915"/>
                    </a:lnTo>
                    <a:lnTo>
                      <a:pt x="27" y="904"/>
                    </a:lnTo>
                    <a:lnTo>
                      <a:pt x="12" y="891"/>
                    </a:lnTo>
                    <a:lnTo>
                      <a:pt x="5" y="884"/>
                    </a:lnTo>
                    <a:lnTo>
                      <a:pt x="2" y="879"/>
                    </a:lnTo>
                    <a:lnTo>
                      <a:pt x="1" y="877"/>
                    </a:lnTo>
                    <a:lnTo>
                      <a:pt x="0" y="875"/>
                    </a:lnTo>
                    <a:lnTo>
                      <a:pt x="1" y="872"/>
                    </a:lnTo>
                    <a:lnTo>
                      <a:pt x="2" y="871"/>
                    </a:lnTo>
                    <a:lnTo>
                      <a:pt x="2" y="870"/>
                    </a:lnTo>
                    <a:lnTo>
                      <a:pt x="3" y="869"/>
                    </a:lnTo>
                    <a:lnTo>
                      <a:pt x="4" y="869"/>
                    </a:lnTo>
                    <a:lnTo>
                      <a:pt x="7" y="869"/>
                    </a:lnTo>
                    <a:lnTo>
                      <a:pt x="13" y="869"/>
                    </a:lnTo>
                    <a:lnTo>
                      <a:pt x="22" y="871"/>
                    </a:lnTo>
                    <a:lnTo>
                      <a:pt x="61" y="868"/>
                    </a:lnTo>
                    <a:lnTo>
                      <a:pt x="101" y="865"/>
                    </a:lnTo>
                    <a:lnTo>
                      <a:pt x="142" y="862"/>
                    </a:lnTo>
                    <a:lnTo>
                      <a:pt x="186" y="859"/>
                    </a:lnTo>
                    <a:lnTo>
                      <a:pt x="231" y="854"/>
                    </a:lnTo>
                    <a:lnTo>
                      <a:pt x="278" y="850"/>
                    </a:lnTo>
                    <a:lnTo>
                      <a:pt x="326" y="846"/>
                    </a:lnTo>
                    <a:lnTo>
                      <a:pt x="377" y="842"/>
                    </a:lnTo>
                    <a:lnTo>
                      <a:pt x="377" y="793"/>
                    </a:lnTo>
                    <a:lnTo>
                      <a:pt x="377" y="747"/>
                    </a:lnTo>
                    <a:lnTo>
                      <a:pt x="377" y="704"/>
                    </a:lnTo>
                    <a:lnTo>
                      <a:pt x="377" y="665"/>
                    </a:lnTo>
                    <a:lnTo>
                      <a:pt x="377" y="628"/>
                    </a:lnTo>
                    <a:lnTo>
                      <a:pt x="377" y="595"/>
                    </a:lnTo>
                    <a:lnTo>
                      <a:pt x="377" y="564"/>
                    </a:lnTo>
                    <a:lnTo>
                      <a:pt x="377" y="535"/>
                    </a:lnTo>
                    <a:lnTo>
                      <a:pt x="377" y="505"/>
                    </a:lnTo>
                    <a:lnTo>
                      <a:pt x="377" y="475"/>
                    </a:lnTo>
                    <a:lnTo>
                      <a:pt x="376" y="445"/>
                    </a:lnTo>
                    <a:lnTo>
                      <a:pt x="376" y="416"/>
                    </a:lnTo>
                    <a:lnTo>
                      <a:pt x="375" y="387"/>
                    </a:lnTo>
                    <a:lnTo>
                      <a:pt x="374" y="359"/>
                    </a:lnTo>
                    <a:lnTo>
                      <a:pt x="373" y="332"/>
                    </a:lnTo>
                    <a:lnTo>
                      <a:pt x="372" y="305"/>
                    </a:lnTo>
                    <a:lnTo>
                      <a:pt x="371" y="273"/>
                    </a:lnTo>
                    <a:lnTo>
                      <a:pt x="368" y="241"/>
                    </a:lnTo>
                    <a:lnTo>
                      <a:pt x="365" y="211"/>
                    </a:lnTo>
                    <a:lnTo>
                      <a:pt x="359" y="184"/>
                    </a:lnTo>
                    <a:lnTo>
                      <a:pt x="354" y="156"/>
                    </a:lnTo>
                    <a:lnTo>
                      <a:pt x="348" y="132"/>
                    </a:lnTo>
                    <a:lnTo>
                      <a:pt x="340" y="107"/>
                    </a:lnTo>
                    <a:lnTo>
                      <a:pt x="332" y="86"/>
                    </a:lnTo>
                    <a:lnTo>
                      <a:pt x="345" y="91"/>
                    </a:lnTo>
                    <a:lnTo>
                      <a:pt x="360" y="97"/>
                    </a:lnTo>
                    <a:lnTo>
                      <a:pt x="376" y="102"/>
                    </a:lnTo>
                    <a:lnTo>
                      <a:pt x="394" y="107"/>
                    </a:lnTo>
                    <a:lnTo>
                      <a:pt x="414" y="112"/>
                    </a:lnTo>
                    <a:lnTo>
                      <a:pt x="436" y="115"/>
                    </a:lnTo>
                    <a:lnTo>
                      <a:pt x="458" y="118"/>
                    </a:lnTo>
                    <a:lnTo>
                      <a:pt x="482" y="121"/>
                    </a:lnTo>
                    <a:lnTo>
                      <a:pt x="476" y="141"/>
                    </a:lnTo>
                    <a:lnTo>
                      <a:pt x="470" y="163"/>
                    </a:lnTo>
                    <a:lnTo>
                      <a:pt x="466" y="190"/>
                    </a:lnTo>
                    <a:lnTo>
                      <a:pt x="462" y="219"/>
                    </a:lnTo>
                    <a:lnTo>
                      <a:pt x="459" y="249"/>
                    </a:lnTo>
                    <a:lnTo>
                      <a:pt x="456" y="284"/>
                    </a:lnTo>
                    <a:lnTo>
                      <a:pt x="454" y="321"/>
                    </a:lnTo>
                    <a:lnTo>
                      <a:pt x="452" y="361"/>
                    </a:lnTo>
                    <a:lnTo>
                      <a:pt x="454" y="382"/>
                    </a:lnTo>
                    <a:lnTo>
                      <a:pt x="455" y="405"/>
                    </a:lnTo>
                    <a:lnTo>
                      <a:pt x="456" y="432"/>
                    </a:lnTo>
                    <a:lnTo>
                      <a:pt x="456" y="459"/>
                    </a:lnTo>
                    <a:lnTo>
                      <a:pt x="457" y="490"/>
                    </a:lnTo>
                    <a:lnTo>
                      <a:pt x="457" y="523"/>
                    </a:lnTo>
                    <a:lnTo>
                      <a:pt x="457" y="559"/>
                    </a:lnTo>
                    <a:lnTo>
                      <a:pt x="457" y="596"/>
                    </a:lnTo>
                    <a:lnTo>
                      <a:pt x="457" y="633"/>
                    </a:lnTo>
                    <a:lnTo>
                      <a:pt x="457" y="667"/>
                    </a:lnTo>
                    <a:lnTo>
                      <a:pt x="457" y="700"/>
                    </a:lnTo>
                    <a:lnTo>
                      <a:pt x="457" y="729"/>
                    </a:lnTo>
                    <a:lnTo>
                      <a:pt x="457" y="758"/>
                    </a:lnTo>
                    <a:lnTo>
                      <a:pt x="457" y="784"/>
                    </a:lnTo>
                    <a:lnTo>
                      <a:pt x="457" y="809"/>
                    </a:lnTo>
                    <a:lnTo>
                      <a:pt x="457" y="831"/>
                    </a:lnTo>
                    <a:lnTo>
                      <a:pt x="491" y="827"/>
                    </a:lnTo>
                    <a:lnTo>
                      <a:pt x="524" y="823"/>
                    </a:lnTo>
                    <a:lnTo>
                      <a:pt x="560" y="819"/>
                    </a:lnTo>
                    <a:lnTo>
                      <a:pt x="598" y="816"/>
                    </a:lnTo>
                    <a:lnTo>
                      <a:pt x="597" y="745"/>
                    </a:lnTo>
                    <a:lnTo>
                      <a:pt x="597" y="674"/>
                    </a:lnTo>
                    <a:lnTo>
                      <a:pt x="595" y="601"/>
                    </a:lnTo>
                    <a:lnTo>
                      <a:pt x="594" y="527"/>
                    </a:lnTo>
                    <a:lnTo>
                      <a:pt x="593" y="453"/>
                    </a:lnTo>
                    <a:lnTo>
                      <a:pt x="591" y="376"/>
                    </a:lnTo>
                    <a:lnTo>
                      <a:pt x="589" y="299"/>
                    </a:lnTo>
                    <a:lnTo>
                      <a:pt x="587" y="221"/>
                    </a:lnTo>
                    <a:lnTo>
                      <a:pt x="588" y="183"/>
                    </a:lnTo>
                    <a:lnTo>
                      <a:pt x="587" y="146"/>
                    </a:lnTo>
                    <a:lnTo>
                      <a:pt x="585" y="115"/>
                    </a:lnTo>
                    <a:lnTo>
                      <a:pt x="582" y="86"/>
                    </a:lnTo>
                    <a:lnTo>
                      <a:pt x="577" y="60"/>
                    </a:lnTo>
                    <a:lnTo>
                      <a:pt x="572" y="36"/>
                    </a:lnTo>
                    <a:lnTo>
                      <a:pt x="569" y="27"/>
                    </a:lnTo>
                    <a:lnTo>
                      <a:pt x="566" y="17"/>
                    </a:lnTo>
                    <a:lnTo>
                      <a:pt x="562" y="9"/>
                    </a:lnTo>
                    <a:lnTo>
                      <a:pt x="557" y="0"/>
                    </a:lnTo>
                    <a:lnTo>
                      <a:pt x="570" y="7"/>
                    </a:lnTo>
                    <a:lnTo>
                      <a:pt x="585" y="12"/>
                    </a:lnTo>
                    <a:lnTo>
                      <a:pt x="602" y="17"/>
                    </a:lnTo>
                    <a:lnTo>
                      <a:pt x="620" y="21"/>
                    </a:lnTo>
                    <a:lnTo>
                      <a:pt x="639" y="26"/>
                    </a:lnTo>
                    <a:lnTo>
                      <a:pt x="660" y="30"/>
                    </a:lnTo>
                    <a:lnTo>
                      <a:pt x="683" y="33"/>
                    </a:lnTo>
                    <a:lnTo>
                      <a:pt x="708" y="35"/>
                    </a:lnTo>
                    <a:close/>
                    <a:moveTo>
                      <a:pt x="137" y="410"/>
                    </a:moveTo>
                    <a:lnTo>
                      <a:pt x="171" y="429"/>
                    </a:lnTo>
                    <a:lnTo>
                      <a:pt x="200" y="446"/>
                    </a:lnTo>
                    <a:lnTo>
                      <a:pt x="227" y="462"/>
                    </a:lnTo>
                    <a:lnTo>
                      <a:pt x="251" y="477"/>
                    </a:lnTo>
                    <a:lnTo>
                      <a:pt x="271" y="491"/>
                    </a:lnTo>
                    <a:lnTo>
                      <a:pt x="288" y="504"/>
                    </a:lnTo>
                    <a:lnTo>
                      <a:pt x="302" y="515"/>
                    </a:lnTo>
                    <a:lnTo>
                      <a:pt x="312" y="526"/>
                    </a:lnTo>
                    <a:lnTo>
                      <a:pt x="313" y="534"/>
                    </a:lnTo>
                    <a:lnTo>
                      <a:pt x="313" y="544"/>
                    </a:lnTo>
                    <a:lnTo>
                      <a:pt x="311" y="557"/>
                    </a:lnTo>
                    <a:lnTo>
                      <a:pt x="308" y="569"/>
                    </a:lnTo>
                    <a:lnTo>
                      <a:pt x="304" y="585"/>
                    </a:lnTo>
                    <a:lnTo>
                      <a:pt x="300" y="602"/>
                    </a:lnTo>
                    <a:lnTo>
                      <a:pt x="294" y="620"/>
                    </a:lnTo>
                    <a:lnTo>
                      <a:pt x="287" y="641"/>
                    </a:lnTo>
                    <a:lnTo>
                      <a:pt x="282" y="652"/>
                    </a:lnTo>
                    <a:lnTo>
                      <a:pt x="279" y="659"/>
                    </a:lnTo>
                    <a:lnTo>
                      <a:pt x="275" y="665"/>
                    </a:lnTo>
                    <a:lnTo>
                      <a:pt x="272" y="666"/>
                    </a:lnTo>
                    <a:lnTo>
                      <a:pt x="267" y="665"/>
                    </a:lnTo>
                    <a:lnTo>
                      <a:pt x="262" y="663"/>
                    </a:lnTo>
                    <a:lnTo>
                      <a:pt x="257" y="657"/>
                    </a:lnTo>
                    <a:lnTo>
                      <a:pt x="252" y="651"/>
                    </a:lnTo>
                    <a:lnTo>
                      <a:pt x="243" y="638"/>
                    </a:lnTo>
                    <a:lnTo>
                      <a:pt x="232" y="621"/>
                    </a:lnTo>
                    <a:lnTo>
                      <a:pt x="220" y="602"/>
                    </a:lnTo>
                    <a:lnTo>
                      <a:pt x="207" y="579"/>
                    </a:lnTo>
                    <a:lnTo>
                      <a:pt x="193" y="551"/>
                    </a:lnTo>
                    <a:lnTo>
                      <a:pt x="177" y="522"/>
                    </a:lnTo>
                    <a:lnTo>
                      <a:pt x="160" y="488"/>
                    </a:lnTo>
                    <a:lnTo>
                      <a:pt x="142" y="451"/>
                    </a:lnTo>
                    <a:lnTo>
                      <a:pt x="134" y="434"/>
                    </a:lnTo>
                    <a:lnTo>
                      <a:pt x="127" y="421"/>
                    </a:lnTo>
                    <a:lnTo>
                      <a:pt x="125" y="416"/>
                    </a:lnTo>
                    <a:lnTo>
                      <a:pt x="124" y="410"/>
                    </a:lnTo>
                    <a:lnTo>
                      <a:pt x="124" y="407"/>
                    </a:lnTo>
                    <a:lnTo>
                      <a:pt x="124" y="406"/>
                    </a:lnTo>
                    <a:lnTo>
                      <a:pt x="126" y="405"/>
                    </a:lnTo>
                    <a:lnTo>
                      <a:pt x="129" y="406"/>
                    </a:lnTo>
                    <a:lnTo>
                      <a:pt x="133" y="407"/>
                    </a:lnTo>
                    <a:lnTo>
                      <a:pt x="137" y="410"/>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650" name="Freeform 17"/>
              <p:cNvSpPr/>
              <p:nvPr/>
            </p:nvSpPr>
            <p:spPr>
              <a:xfrm>
                <a:off x="1590480" y="1285920"/>
                <a:ext cx="154080" cy="166680"/>
              </a:xfrm>
              <a:custGeom>
                <a:avLst/>
                <a:gdLst>
                  <a:gd name="textAreaLeft" fmla="*/ 0 w 154080"/>
                  <a:gd name="textAreaRight" fmla="*/ 154440 w 154080"/>
                  <a:gd name="textAreaTop" fmla="*/ 0 h 166680"/>
                  <a:gd name="textAreaBottom" fmla="*/ 167040 h 166680"/>
                </a:gdLst>
                <a:ahLst/>
                <a:rect l="textAreaLeft" t="textAreaTop" r="textAreaRight" b="textAreaBottom"/>
                <a:pathLst>
                  <a:path w="1037" h="1206">
                    <a:moveTo>
                      <a:pt x="246" y="560"/>
                    </a:moveTo>
                    <a:lnTo>
                      <a:pt x="263" y="566"/>
                    </a:lnTo>
                    <a:lnTo>
                      <a:pt x="282" y="573"/>
                    </a:lnTo>
                    <a:lnTo>
                      <a:pt x="303" y="580"/>
                    </a:lnTo>
                    <a:lnTo>
                      <a:pt x="326" y="590"/>
                    </a:lnTo>
                    <a:lnTo>
                      <a:pt x="335" y="594"/>
                    </a:lnTo>
                    <a:lnTo>
                      <a:pt x="341" y="595"/>
                    </a:lnTo>
                    <a:lnTo>
                      <a:pt x="389" y="588"/>
                    </a:lnTo>
                    <a:lnTo>
                      <a:pt x="432" y="579"/>
                    </a:lnTo>
                    <a:lnTo>
                      <a:pt x="470" y="572"/>
                    </a:lnTo>
                    <a:lnTo>
                      <a:pt x="504" y="563"/>
                    </a:lnTo>
                    <a:lnTo>
                      <a:pt x="533" y="555"/>
                    </a:lnTo>
                    <a:lnTo>
                      <a:pt x="557" y="548"/>
                    </a:lnTo>
                    <a:lnTo>
                      <a:pt x="568" y="543"/>
                    </a:lnTo>
                    <a:lnTo>
                      <a:pt x="576" y="539"/>
                    </a:lnTo>
                    <a:lnTo>
                      <a:pt x="585" y="534"/>
                    </a:lnTo>
                    <a:lnTo>
                      <a:pt x="591" y="530"/>
                    </a:lnTo>
                    <a:lnTo>
                      <a:pt x="607" y="541"/>
                    </a:lnTo>
                    <a:lnTo>
                      <a:pt x="624" y="551"/>
                    </a:lnTo>
                    <a:lnTo>
                      <a:pt x="642" y="560"/>
                    </a:lnTo>
                    <a:lnTo>
                      <a:pt x="661" y="569"/>
                    </a:lnTo>
                    <a:lnTo>
                      <a:pt x="682" y="576"/>
                    </a:lnTo>
                    <a:lnTo>
                      <a:pt x="705" y="584"/>
                    </a:lnTo>
                    <a:lnTo>
                      <a:pt x="727" y="590"/>
                    </a:lnTo>
                    <a:lnTo>
                      <a:pt x="751" y="595"/>
                    </a:lnTo>
                    <a:lnTo>
                      <a:pt x="738" y="601"/>
                    </a:lnTo>
                    <a:lnTo>
                      <a:pt x="726" y="609"/>
                    </a:lnTo>
                    <a:lnTo>
                      <a:pt x="713" y="620"/>
                    </a:lnTo>
                    <a:lnTo>
                      <a:pt x="699" y="631"/>
                    </a:lnTo>
                    <a:lnTo>
                      <a:pt x="686" y="645"/>
                    </a:lnTo>
                    <a:lnTo>
                      <a:pt x="671" y="662"/>
                    </a:lnTo>
                    <a:lnTo>
                      <a:pt x="657" y="680"/>
                    </a:lnTo>
                    <a:lnTo>
                      <a:pt x="642" y="700"/>
                    </a:lnTo>
                    <a:lnTo>
                      <a:pt x="651" y="705"/>
                    </a:lnTo>
                    <a:lnTo>
                      <a:pt x="658" y="711"/>
                    </a:lnTo>
                    <a:lnTo>
                      <a:pt x="665" y="717"/>
                    </a:lnTo>
                    <a:lnTo>
                      <a:pt x="673" y="723"/>
                    </a:lnTo>
                    <a:lnTo>
                      <a:pt x="679" y="731"/>
                    </a:lnTo>
                    <a:lnTo>
                      <a:pt x="686" y="738"/>
                    </a:lnTo>
                    <a:lnTo>
                      <a:pt x="692" y="747"/>
                    </a:lnTo>
                    <a:lnTo>
                      <a:pt x="697" y="755"/>
                    </a:lnTo>
                    <a:lnTo>
                      <a:pt x="658" y="757"/>
                    </a:lnTo>
                    <a:lnTo>
                      <a:pt x="619" y="761"/>
                    </a:lnTo>
                    <a:lnTo>
                      <a:pt x="577" y="765"/>
                    </a:lnTo>
                    <a:lnTo>
                      <a:pt x="535" y="769"/>
                    </a:lnTo>
                    <a:lnTo>
                      <a:pt x="492" y="773"/>
                    </a:lnTo>
                    <a:lnTo>
                      <a:pt x="446" y="779"/>
                    </a:lnTo>
                    <a:lnTo>
                      <a:pt x="400" y="784"/>
                    </a:lnTo>
                    <a:lnTo>
                      <a:pt x="352" y="790"/>
                    </a:lnTo>
                    <a:lnTo>
                      <a:pt x="352" y="895"/>
                    </a:lnTo>
                    <a:lnTo>
                      <a:pt x="415" y="886"/>
                    </a:lnTo>
                    <a:lnTo>
                      <a:pt x="472" y="876"/>
                    </a:lnTo>
                    <a:lnTo>
                      <a:pt x="520" y="868"/>
                    </a:lnTo>
                    <a:lnTo>
                      <a:pt x="562" y="859"/>
                    </a:lnTo>
                    <a:lnTo>
                      <a:pt x="595" y="851"/>
                    </a:lnTo>
                    <a:lnTo>
                      <a:pt x="622" y="843"/>
                    </a:lnTo>
                    <a:lnTo>
                      <a:pt x="631" y="840"/>
                    </a:lnTo>
                    <a:lnTo>
                      <a:pt x="640" y="837"/>
                    </a:lnTo>
                    <a:lnTo>
                      <a:pt x="647" y="834"/>
                    </a:lnTo>
                    <a:lnTo>
                      <a:pt x="652" y="830"/>
                    </a:lnTo>
                    <a:lnTo>
                      <a:pt x="671" y="844"/>
                    </a:lnTo>
                    <a:lnTo>
                      <a:pt x="691" y="857"/>
                    </a:lnTo>
                    <a:lnTo>
                      <a:pt x="711" y="869"/>
                    </a:lnTo>
                    <a:lnTo>
                      <a:pt x="732" y="878"/>
                    </a:lnTo>
                    <a:lnTo>
                      <a:pt x="753" y="886"/>
                    </a:lnTo>
                    <a:lnTo>
                      <a:pt x="776" y="892"/>
                    </a:lnTo>
                    <a:lnTo>
                      <a:pt x="798" y="897"/>
                    </a:lnTo>
                    <a:lnTo>
                      <a:pt x="821" y="900"/>
                    </a:lnTo>
                    <a:lnTo>
                      <a:pt x="813" y="905"/>
                    </a:lnTo>
                    <a:lnTo>
                      <a:pt x="803" y="910"/>
                    </a:lnTo>
                    <a:lnTo>
                      <a:pt x="795" y="915"/>
                    </a:lnTo>
                    <a:lnTo>
                      <a:pt x="786" y="922"/>
                    </a:lnTo>
                    <a:lnTo>
                      <a:pt x="778" y="928"/>
                    </a:lnTo>
                    <a:lnTo>
                      <a:pt x="770" y="935"/>
                    </a:lnTo>
                    <a:lnTo>
                      <a:pt x="763" y="943"/>
                    </a:lnTo>
                    <a:lnTo>
                      <a:pt x="755" y="950"/>
                    </a:lnTo>
                    <a:lnTo>
                      <a:pt x="742" y="967"/>
                    </a:lnTo>
                    <a:lnTo>
                      <a:pt x="729" y="986"/>
                    </a:lnTo>
                    <a:lnTo>
                      <a:pt x="717" y="1007"/>
                    </a:lnTo>
                    <a:lnTo>
                      <a:pt x="707" y="1031"/>
                    </a:lnTo>
                    <a:lnTo>
                      <a:pt x="715" y="1036"/>
                    </a:lnTo>
                    <a:lnTo>
                      <a:pt x="724" y="1041"/>
                    </a:lnTo>
                    <a:lnTo>
                      <a:pt x="731" y="1048"/>
                    </a:lnTo>
                    <a:lnTo>
                      <a:pt x="740" y="1054"/>
                    </a:lnTo>
                    <a:lnTo>
                      <a:pt x="747" y="1061"/>
                    </a:lnTo>
                    <a:lnTo>
                      <a:pt x="753" y="1069"/>
                    </a:lnTo>
                    <a:lnTo>
                      <a:pt x="761" y="1076"/>
                    </a:lnTo>
                    <a:lnTo>
                      <a:pt x="767" y="1085"/>
                    </a:lnTo>
                    <a:lnTo>
                      <a:pt x="722" y="1086"/>
                    </a:lnTo>
                    <a:lnTo>
                      <a:pt x="675" y="1087"/>
                    </a:lnTo>
                    <a:lnTo>
                      <a:pt x="626" y="1088"/>
                    </a:lnTo>
                    <a:lnTo>
                      <a:pt x="575" y="1090"/>
                    </a:lnTo>
                    <a:lnTo>
                      <a:pt x="522" y="1093"/>
                    </a:lnTo>
                    <a:lnTo>
                      <a:pt x="467" y="1096"/>
                    </a:lnTo>
                    <a:lnTo>
                      <a:pt x="410" y="1101"/>
                    </a:lnTo>
                    <a:lnTo>
                      <a:pt x="352" y="1105"/>
                    </a:lnTo>
                    <a:lnTo>
                      <a:pt x="351" y="1113"/>
                    </a:lnTo>
                    <a:lnTo>
                      <a:pt x="350" y="1122"/>
                    </a:lnTo>
                    <a:lnTo>
                      <a:pt x="349" y="1130"/>
                    </a:lnTo>
                    <a:lnTo>
                      <a:pt x="347" y="1140"/>
                    </a:lnTo>
                    <a:lnTo>
                      <a:pt x="346" y="1171"/>
                    </a:lnTo>
                    <a:lnTo>
                      <a:pt x="344" y="1192"/>
                    </a:lnTo>
                    <a:lnTo>
                      <a:pt x="342" y="1198"/>
                    </a:lnTo>
                    <a:lnTo>
                      <a:pt x="341" y="1203"/>
                    </a:lnTo>
                    <a:lnTo>
                      <a:pt x="340" y="1205"/>
                    </a:lnTo>
                    <a:lnTo>
                      <a:pt x="339" y="1206"/>
                    </a:lnTo>
                    <a:lnTo>
                      <a:pt x="338" y="1206"/>
                    </a:lnTo>
                    <a:lnTo>
                      <a:pt x="336" y="1206"/>
                    </a:lnTo>
                    <a:lnTo>
                      <a:pt x="326" y="1197"/>
                    </a:lnTo>
                    <a:lnTo>
                      <a:pt x="316" y="1189"/>
                    </a:lnTo>
                    <a:lnTo>
                      <a:pt x="305" y="1179"/>
                    </a:lnTo>
                    <a:lnTo>
                      <a:pt x="296" y="1167"/>
                    </a:lnTo>
                    <a:lnTo>
                      <a:pt x="273" y="1143"/>
                    </a:lnTo>
                    <a:lnTo>
                      <a:pt x="251" y="1116"/>
                    </a:lnTo>
                    <a:lnTo>
                      <a:pt x="258" y="1090"/>
                    </a:lnTo>
                    <a:lnTo>
                      <a:pt x="263" y="1057"/>
                    </a:lnTo>
                    <a:lnTo>
                      <a:pt x="267" y="1019"/>
                    </a:lnTo>
                    <a:lnTo>
                      <a:pt x="270" y="976"/>
                    </a:lnTo>
                    <a:lnTo>
                      <a:pt x="273" y="925"/>
                    </a:lnTo>
                    <a:lnTo>
                      <a:pt x="275" y="868"/>
                    </a:lnTo>
                    <a:lnTo>
                      <a:pt x="276" y="804"/>
                    </a:lnTo>
                    <a:lnTo>
                      <a:pt x="277" y="735"/>
                    </a:lnTo>
                    <a:lnTo>
                      <a:pt x="276" y="711"/>
                    </a:lnTo>
                    <a:lnTo>
                      <a:pt x="275" y="686"/>
                    </a:lnTo>
                    <a:lnTo>
                      <a:pt x="272" y="663"/>
                    </a:lnTo>
                    <a:lnTo>
                      <a:pt x="269" y="641"/>
                    </a:lnTo>
                    <a:lnTo>
                      <a:pt x="265" y="620"/>
                    </a:lnTo>
                    <a:lnTo>
                      <a:pt x="260" y="599"/>
                    </a:lnTo>
                    <a:lnTo>
                      <a:pt x="253" y="579"/>
                    </a:lnTo>
                    <a:lnTo>
                      <a:pt x="246" y="560"/>
                    </a:lnTo>
                    <a:close/>
                    <a:moveTo>
                      <a:pt x="416" y="314"/>
                    </a:moveTo>
                    <a:lnTo>
                      <a:pt x="460" y="320"/>
                    </a:lnTo>
                    <a:lnTo>
                      <a:pt x="494" y="325"/>
                    </a:lnTo>
                    <a:lnTo>
                      <a:pt x="519" y="329"/>
                    </a:lnTo>
                    <a:lnTo>
                      <a:pt x="536" y="335"/>
                    </a:lnTo>
                    <a:lnTo>
                      <a:pt x="539" y="339"/>
                    </a:lnTo>
                    <a:lnTo>
                      <a:pt x="541" y="345"/>
                    </a:lnTo>
                    <a:lnTo>
                      <a:pt x="543" y="353"/>
                    </a:lnTo>
                    <a:lnTo>
                      <a:pt x="544" y="361"/>
                    </a:lnTo>
                    <a:lnTo>
                      <a:pt x="546" y="382"/>
                    </a:lnTo>
                    <a:lnTo>
                      <a:pt x="547" y="410"/>
                    </a:lnTo>
                    <a:lnTo>
                      <a:pt x="547" y="411"/>
                    </a:lnTo>
                    <a:lnTo>
                      <a:pt x="547" y="415"/>
                    </a:lnTo>
                    <a:lnTo>
                      <a:pt x="611" y="403"/>
                    </a:lnTo>
                    <a:lnTo>
                      <a:pt x="669" y="394"/>
                    </a:lnTo>
                    <a:lnTo>
                      <a:pt x="718" y="384"/>
                    </a:lnTo>
                    <a:lnTo>
                      <a:pt x="761" y="375"/>
                    </a:lnTo>
                    <a:lnTo>
                      <a:pt x="795" y="366"/>
                    </a:lnTo>
                    <a:lnTo>
                      <a:pt x="821" y="359"/>
                    </a:lnTo>
                    <a:lnTo>
                      <a:pt x="832" y="355"/>
                    </a:lnTo>
                    <a:lnTo>
                      <a:pt x="840" y="351"/>
                    </a:lnTo>
                    <a:lnTo>
                      <a:pt x="847" y="348"/>
                    </a:lnTo>
                    <a:lnTo>
                      <a:pt x="852" y="345"/>
                    </a:lnTo>
                    <a:lnTo>
                      <a:pt x="871" y="364"/>
                    </a:lnTo>
                    <a:lnTo>
                      <a:pt x="891" y="382"/>
                    </a:lnTo>
                    <a:lnTo>
                      <a:pt x="913" y="400"/>
                    </a:lnTo>
                    <a:lnTo>
                      <a:pt x="935" y="416"/>
                    </a:lnTo>
                    <a:lnTo>
                      <a:pt x="959" y="431"/>
                    </a:lnTo>
                    <a:lnTo>
                      <a:pt x="984" y="445"/>
                    </a:lnTo>
                    <a:lnTo>
                      <a:pt x="1010" y="458"/>
                    </a:lnTo>
                    <a:lnTo>
                      <a:pt x="1037" y="470"/>
                    </a:lnTo>
                    <a:lnTo>
                      <a:pt x="1002" y="488"/>
                    </a:lnTo>
                    <a:lnTo>
                      <a:pt x="969" y="505"/>
                    </a:lnTo>
                    <a:lnTo>
                      <a:pt x="937" y="520"/>
                    </a:lnTo>
                    <a:lnTo>
                      <a:pt x="906" y="535"/>
                    </a:lnTo>
                    <a:lnTo>
                      <a:pt x="875" y="548"/>
                    </a:lnTo>
                    <a:lnTo>
                      <a:pt x="847" y="560"/>
                    </a:lnTo>
                    <a:lnTo>
                      <a:pt x="819" y="571"/>
                    </a:lnTo>
                    <a:lnTo>
                      <a:pt x="791" y="579"/>
                    </a:lnTo>
                    <a:lnTo>
                      <a:pt x="771" y="584"/>
                    </a:lnTo>
                    <a:lnTo>
                      <a:pt x="762" y="585"/>
                    </a:lnTo>
                    <a:lnTo>
                      <a:pt x="760" y="581"/>
                    </a:lnTo>
                    <a:lnTo>
                      <a:pt x="761" y="576"/>
                    </a:lnTo>
                    <a:lnTo>
                      <a:pt x="763" y="569"/>
                    </a:lnTo>
                    <a:lnTo>
                      <a:pt x="767" y="560"/>
                    </a:lnTo>
                    <a:lnTo>
                      <a:pt x="788" y="521"/>
                    </a:lnTo>
                    <a:lnTo>
                      <a:pt x="806" y="486"/>
                    </a:lnTo>
                    <a:lnTo>
                      <a:pt x="823" y="454"/>
                    </a:lnTo>
                    <a:lnTo>
                      <a:pt x="837" y="425"/>
                    </a:lnTo>
                    <a:lnTo>
                      <a:pt x="791" y="433"/>
                    </a:lnTo>
                    <a:lnTo>
                      <a:pt x="736" y="442"/>
                    </a:lnTo>
                    <a:lnTo>
                      <a:pt x="671" y="452"/>
                    </a:lnTo>
                    <a:lnTo>
                      <a:pt x="594" y="464"/>
                    </a:lnTo>
                    <a:lnTo>
                      <a:pt x="508" y="475"/>
                    </a:lnTo>
                    <a:lnTo>
                      <a:pt x="411" y="489"/>
                    </a:lnTo>
                    <a:lnTo>
                      <a:pt x="304" y="504"/>
                    </a:lnTo>
                    <a:lnTo>
                      <a:pt x="187" y="520"/>
                    </a:lnTo>
                    <a:lnTo>
                      <a:pt x="167" y="500"/>
                    </a:lnTo>
                    <a:lnTo>
                      <a:pt x="163" y="527"/>
                    </a:lnTo>
                    <a:lnTo>
                      <a:pt x="160" y="554"/>
                    </a:lnTo>
                    <a:lnTo>
                      <a:pt x="156" y="580"/>
                    </a:lnTo>
                    <a:lnTo>
                      <a:pt x="152" y="606"/>
                    </a:lnTo>
                    <a:lnTo>
                      <a:pt x="146" y="631"/>
                    </a:lnTo>
                    <a:lnTo>
                      <a:pt x="140" y="657"/>
                    </a:lnTo>
                    <a:lnTo>
                      <a:pt x="134" y="681"/>
                    </a:lnTo>
                    <a:lnTo>
                      <a:pt x="126" y="705"/>
                    </a:lnTo>
                    <a:lnTo>
                      <a:pt x="114" y="697"/>
                    </a:lnTo>
                    <a:lnTo>
                      <a:pt x="101" y="688"/>
                    </a:lnTo>
                    <a:lnTo>
                      <a:pt x="87" y="681"/>
                    </a:lnTo>
                    <a:lnTo>
                      <a:pt x="72" y="674"/>
                    </a:lnTo>
                    <a:lnTo>
                      <a:pt x="58" y="667"/>
                    </a:lnTo>
                    <a:lnTo>
                      <a:pt x="43" y="661"/>
                    </a:lnTo>
                    <a:lnTo>
                      <a:pt x="28" y="656"/>
                    </a:lnTo>
                    <a:lnTo>
                      <a:pt x="12" y="650"/>
                    </a:lnTo>
                    <a:lnTo>
                      <a:pt x="7" y="648"/>
                    </a:lnTo>
                    <a:lnTo>
                      <a:pt x="3" y="646"/>
                    </a:lnTo>
                    <a:lnTo>
                      <a:pt x="1" y="644"/>
                    </a:lnTo>
                    <a:lnTo>
                      <a:pt x="0" y="641"/>
                    </a:lnTo>
                    <a:lnTo>
                      <a:pt x="0" y="638"/>
                    </a:lnTo>
                    <a:lnTo>
                      <a:pt x="1" y="634"/>
                    </a:lnTo>
                    <a:lnTo>
                      <a:pt x="3" y="630"/>
                    </a:lnTo>
                    <a:lnTo>
                      <a:pt x="7" y="625"/>
                    </a:lnTo>
                    <a:lnTo>
                      <a:pt x="26" y="606"/>
                    </a:lnTo>
                    <a:lnTo>
                      <a:pt x="44" y="584"/>
                    </a:lnTo>
                    <a:lnTo>
                      <a:pt x="63" y="561"/>
                    </a:lnTo>
                    <a:lnTo>
                      <a:pt x="82" y="536"/>
                    </a:lnTo>
                    <a:lnTo>
                      <a:pt x="100" y="509"/>
                    </a:lnTo>
                    <a:lnTo>
                      <a:pt x="119" y="482"/>
                    </a:lnTo>
                    <a:lnTo>
                      <a:pt x="138" y="451"/>
                    </a:lnTo>
                    <a:lnTo>
                      <a:pt x="156" y="419"/>
                    </a:lnTo>
                    <a:lnTo>
                      <a:pt x="159" y="415"/>
                    </a:lnTo>
                    <a:lnTo>
                      <a:pt x="161" y="412"/>
                    </a:lnTo>
                    <a:lnTo>
                      <a:pt x="164" y="411"/>
                    </a:lnTo>
                    <a:lnTo>
                      <a:pt x="167" y="410"/>
                    </a:lnTo>
                    <a:lnTo>
                      <a:pt x="169" y="413"/>
                    </a:lnTo>
                    <a:lnTo>
                      <a:pt x="171" y="416"/>
                    </a:lnTo>
                    <a:lnTo>
                      <a:pt x="171" y="420"/>
                    </a:lnTo>
                    <a:lnTo>
                      <a:pt x="172" y="425"/>
                    </a:lnTo>
                    <a:lnTo>
                      <a:pt x="172" y="433"/>
                    </a:lnTo>
                    <a:lnTo>
                      <a:pt x="172" y="443"/>
                    </a:lnTo>
                    <a:lnTo>
                      <a:pt x="172" y="453"/>
                    </a:lnTo>
                    <a:lnTo>
                      <a:pt x="172" y="465"/>
                    </a:lnTo>
                    <a:lnTo>
                      <a:pt x="221" y="458"/>
                    </a:lnTo>
                    <a:lnTo>
                      <a:pt x="268" y="452"/>
                    </a:lnTo>
                    <a:lnTo>
                      <a:pt x="313" y="447"/>
                    </a:lnTo>
                    <a:lnTo>
                      <a:pt x="356" y="440"/>
                    </a:lnTo>
                    <a:lnTo>
                      <a:pt x="398" y="435"/>
                    </a:lnTo>
                    <a:lnTo>
                      <a:pt x="438" y="430"/>
                    </a:lnTo>
                    <a:lnTo>
                      <a:pt x="476" y="425"/>
                    </a:lnTo>
                    <a:lnTo>
                      <a:pt x="512" y="419"/>
                    </a:lnTo>
                    <a:lnTo>
                      <a:pt x="479" y="396"/>
                    </a:lnTo>
                    <a:lnTo>
                      <a:pt x="451" y="374"/>
                    </a:lnTo>
                    <a:lnTo>
                      <a:pt x="440" y="363"/>
                    </a:lnTo>
                    <a:lnTo>
                      <a:pt x="429" y="354"/>
                    </a:lnTo>
                    <a:lnTo>
                      <a:pt x="420" y="344"/>
                    </a:lnTo>
                    <a:lnTo>
                      <a:pt x="411" y="335"/>
                    </a:lnTo>
                    <a:lnTo>
                      <a:pt x="407" y="328"/>
                    </a:lnTo>
                    <a:lnTo>
                      <a:pt x="404" y="322"/>
                    </a:lnTo>
                    <a:lnTo>
                      <a:pt x="403" y="318"/>
                    </a:lnTo>
                    <a:lnTo>
                      <a:pt x="402" y="314"/>
                    </a:lnTo>
                    <a:lnTo>
                      <a:pt x="405" y="312"/>
                    </a:lnTo>
                    <a:lnTo>
                      <a:pt x="408" y="312"/>
                    </a:lnTo>
                    <a:lnTo>
                      <a:pt x="412" y="312"/>
                    </a:lnTo>
                    <a:lnTo>
                      <a:pt x="416" y="314"/>
                    </a:lnTo>
                    <a:close/>
                    <a:moveTo>
                      <a:pt x="462" y="130"/>
                    </a:moveTo>
                    <a:lnTo>
                      <a:pt x="470" y="138"/>
                    </a:lnTo>
                    <a:lnTo>
                      <a:pt x="486" y="154"/>
                    </a:lnTo>
                    <a:lnTo>
                      <a:pt x="491" y="159"/>
                    </a:lnTo>
                    <a:lnTo>
                      <a:pt x="492" y="160"/>
                    </a:lnTo>
                    <a:lnTo>
                      <a:pt x="494" y="163"/>
                    </a:lnTo>
                    <a:lnTo>
                      <a:pt x="495" y="166"/>
                    </a:lnTo>
                    <a:lnTo>
                      <a:pt x="495" y="169"/>
                    </a:lnTo>
                    <a:lnTo>
                      <a:pt x="494" y="172"/>
                    </a:lnTo>
                    <a:lnTo>
                      <a:pt x="493" y="174"/>
                    </a:lnTo>
                    <a:lnTo>
                      <a:pt x="490" y="177"/>
                    </a:lnTo>
                    <a:lnTo>
                      <a:pt x="486" y="178"/>
                    </a:lnTo>
                    <a:lnTo>
                      <a:pt x="482" y="180"/>
                    </a:lnTo>
                    <a:lnTo>
                      <a:pt x="446" y="189"/>
                    </a:lnTo>
                    <a:lnTo>
                      <a:pt x="414" y="197"/>
                    </a:lnTo>
                    <a:lnTo>
                      <a:pt x="386" y="204"/>
                    </a:lnTo>
                    <a:lnTo>
                      <a:pt x="361" y="209"/>
                    </a:lnTo>
                    <a:lnTo>
                      <a:pt x="341" y="214"/>
                    </a:lnTo>
                    <a:lnTo>
                      <a:pt x="324" y="217"/>
                    </a:lnTo>
                    <a:lnTo>
                      <a:pt x="311" y="219"/>
                    </a:lnTo>
                    <a:lnTo>
                      <a:pt x="301" y="220"/>
                    </a:lnTo>
                    <a:lnTo>
                      <a:pt x="289" y="219"/>
                    </a:lnTo>
                    <a:lnTo>
                      <a:pt x="277" y="216"/>
                    </a:lnTo>
                    <a:lnTo>
                      <a:pt x="264" y="212"/>
                    </a:lnTo>
                    <a:lnTo>
                      <a:pt x="251" y="204"/>
                    </a:lnTo>
                    <a:lnTo>
                      <a:pt x="228" y="250"/>
                    </a:lnTo>
                    <a:lnTo>
                      <a:pt x="207" y="287"/>
                    </a:lnTo>
                    <a:lnTo>
                      <a:pt x="197" y="303"/>
                    </a:lnTo>
                    <a:lnTo>
                      <a:pt x="188" y="315"/>
                    </a:lnTo>
                    <a:lnTo>
                      <a:pt x="179" y="326"/>
                    </a:lnTo>
                    <a:lnTo>
                      <a:pt x="172" y="335"/>
                    </a:lnTo>
                    <a:lnTo>
                      <a:pt x="165" y="341"/>
                    </a:lnTo>
                    <a:lnTo>
                      <a:pt x="159" y="347"/>
                    </a:lnTo>
                    <a:lnTo>
                      <a:pt x="153" y="353"/>
                    </a:lnTo>
                    <a:lnTo>
                      <a:pt x="145" y="357"/>
                    </a:lnTo>
                    <a:lnTo>
                      <a:pt x="138" y="360"/>
                    </a:lnTo>
                    <a:lnTo>
                      <a:pt x="129" y="363"/>
                    </a:lnTo>
                    <a:lnTo>
                      <a:pt x="121" y="364"/>
                    </a:lnTo>
                    <a:lnTo>
                      <a:pt x="111" y="366"/>
                    </a:lnTo>
                    <a:lnTo>
                      <a:pt x="102" y="366"/>
                    </a:lnTo>
                    <a:lnTo>
                      <a:pt x="91" y="366"/>
                    </a:lnTo>
                    <a:lnTo>
                      <a:pt x="81" y="365"/>
                    </a:lnTo>
                    <a:lnTo>
                      <a:pt x="70" y="364"/>
                    </a:lnTo>
                    <a:lnTo>
                      <a:pt x="58" y="361"/>
                    </a:lnTo>
                    <a:lnTo>
                      <a:pt x="47" y="358"/>
                    </a:lnTo>
                    <a:lnTo>
                      <a:pt x="34" y="355"/>
                    </a:lnTo>
                    <a:lnTo>
                      <a:pt x="21" y="349"/>
                    </a:lnTo>
                    <a:lnTo>
                      <a:pt x="44" y="335"/>
                    </a:lnTo>
                    <a:lnTo>
                      <a:pt x="64" y="320"/>
                    </a:lnTo>
                    <a:lnTo>
                      <a:pt x="83" y="304"/>
                    </a:lnTo>
                    <a:lnTo>
                      <a:pt x="101" y="287"/>
                    </a:lnTo>
                    <a:lnTo>
                      <a:pt x="118" y="269"/>
                    </a:lnTo>
                    <a:lnTo>
                      <a:pt x="134" y="251"/>
                    </a:lnTo>
                    <a:lnTo>
                      <a:pt x="147" y="232"/>
                    </a:lnTo>
                    <a:lnTo>
                      <a:pt x="160" y="212"/>
                    </a:lnTo>
                    <a:lnTo>
                      <a:pt x="172" y="191"/>
                    </a:lnTo>
                    <a:lnTo>
                      <a:pt x="182" y="170"/>
                    </a:lnTo>
                    <a:lnTo>
                      <a:pt x="191" y="149"/>
                    </a:lnTo>
                    <a:lnTo>
                      <a:pt x="198" y="127"/>
                    </a:lnTo>
                    <a:lnTo>
                      <a:pt x="205" y="103"/>
                    </a:lnTo>
                    <a:lnTo>
                      <a:pt x="210" y="79"/>
                    </a:lnTo>
                    <a:lnTo>
                      <a:pt x="214" y="55"/>
                    </a:lnTo>
                    <a:lnTo>
                      <a:pt x="216" y="29"/>
                    </a:lnTo>
                    <a:lnTo>
                      <a:pt x="229" y="39"/>
                    </a:lnTo>
                    <a:lnTo>
                      <a:pt x="242" y="47"/>
                    </a:lnTo>
                    <a:lnTo>
                      <a:pt x="255" y="55"/>
                    </a:lnTo>
                    <a:lnTo>
                      <a:pt x="269" y="61"/>
                    </a:lnTo>
                    <a:lnTo>
                      <a:pt x="283" y="65"/>
                    </a:lnTo>
                    <a:lnTo>
                      <a:pt x="297" y="70"/>
                    </a:lnTo>
                    <a:lnTo>
                      <a:pt x="312" y="73"/>
                    </a:lnTo>
                    <a:lnTo>
                      <a:pt x="326" y="75"/>
                    </a:lnTo>
                    <a:lnTo>
                      <a:pt x="317" y="85"/>
                    </a:lnTo>
                    <a:lnTo>
                      <a:pt x="307" y="97"/>
                    </a:lnTo>
                    <a:lnTo>
                      <a:pt x="299" y="109"/>
                    </a:lnTo>
                    <a:lnTo>
                      <a:pt x="291" y="120"/>
                    </a:lnTo>
                    <a:lnTo>
                      <a:pt x="284" y="133"/>
                    </a:lnTo>
                    <a:lnTo>
                      <a:pt x="278" y="145"/>
                    </a:lnTo>
                    <a:lnTo>
                      <a:pt x="271" y="158"/>
                    </a:lnTo>
                    <a:lnTo>
                      <a:pt x="266" y="169"/>
                    </a:lnTo>
                    <a:lnTo>
                      <a:pt x="266" y="171"/>
                    </a:lnTo>
                    <a:lnTo>
                      <a:pt x="265" y="173"/>
                    </a:lnTo>
                    <a:lnTo>
                      <a:pt x="264" y="174"/>
                    </a:lnTo>
                    <a:lnTo>
                      <a:pt x="262" y="174"/>
                    </a:lnTo>
                    <a:lnTo>
                      <a:pt x="279" y="171"/>
                    </a:lnTo>
                    <a:lnTo>
                      <a:pt x="300" y="166"/>
                    </a:lnTo>
                    <a:lnTo>
                      <a:pt x="326" y="159"/>
                    </a:lnTo>
                    <a:lnTo>
                      <a:pt x="356" y="150"/>
                    </a:lnTo>
                    <a:lnTo>
                      <a:pt x="380" y="143"/>
                    </a:lnTo>
                    <a:lnTo>
                      <a:pt x="401" y="137"/>
                    </a:lnTo>
                    <a:lnTo>
                      <a:pt x="418" y="133"/>
                    </a:lnTo>
                    <a:lnTo>
                      <a:pt x="431" y="130"/>
                    </a:lnTo>
                    <a:lnTo>
                      <a:pt x="441" y="126"/>
                    </a:lnTo>
                    <a:lnTo>
                      <a:pt x="449" y="125"/>
                    </a:lnTo>
                    <a:lnTo>
                      <a:pt x="452" y="125"/>
                    </a:lnTo>
                    <a:lnTo>
                      <a:pt x="456" y="126"/>
                    </a:lnTo>
                    <a:lnTo>
                      <a:pt x="459" y="128"/>
                    </a:lnTo>
                    <a:lnTo>
                      <a:pt x="462" y="130"/>
                    </a:lnTo>
                    <a:close/>
                    <a:moveTo>
                      <a:pt x="881" y="95"/>
                    </a:moveTo>
                    <a:lnTo>
                      <a:pt x="885" y="95"/>
                    </a:lnTo>
                    <a:lnTo>
                      <a:pt x="888" y="97"/>
                    </a:lnTo>
                    <a:lnTo>
                      <a:pt x="892" y="100"/>
                    </a:lnTo>
                    <a:lnTo>
                      <a:pt x="896" y="105"/>
                    </a:lnTo>
                    <a:lnTo>
                      <a:pt x="906" y="113"/>
                    </a:lnTo>
                    <a:lnTo>
                      <a:pt x="911" y="119"/>
                    </a:lnTo>
                    <a:lnTo>
                      <a:pt x="914" y="125"/>
                    </a:lnTo>
                    <a:lnTo>
                      <a:pt x="915" y="130"/>
                    </a:lnTo>
                    <a:lnTo>
                      <a:pt x="916" y="134"/>
                    </a:lnTo>
                    <a:lnTo>
                      <a:pt x="916" y="140"/>
                    </a:lnTo>
                    <a:lnTo>
                      <a:pt x="914" y="142"/>
                    </a:lnTo>
                    <a:lnTo>
                      <a:pt x="910" y="143"/>
                    </a:lnTo>
                    <a:lnTo>
                      <a:pt x="906" y="144"/>
                    </a:lnTo>
                    <a:lnTo>
                      <a:pt x="902" y="145"/>
                    </a:lnTo>
                    <a:lnTo>
                      <a:pt x="893" y="147"/>
                    </a:lnTo>
                    <a:lnTo>
                      <a:pt x="881" y="149"/>
                    </a:lnTo>
                    <a:lnTo>
                      <a:pt x="868" y="152"/>
                    </a:lnTo>
                    <a:lnTo>
                      <a:pt x="852" y="154"/>
                    </a:lnTo>
                    <a:lnTo>
                      <a:pt x="820" y="161"/>
                    </a:lnTo>
                    <a:lnTo>
                      <a:pt x="791" y="165"/>
                    </a:lnTo>
                    <a:lnTo>
                      <a:pt x="766" y="170"/>
                    </a:lnTo>
                    <a:lnTo>
                      <a:pt x="744" y="173"/>
                    </a:lnTo>
                    <a:lnTo>
                      <a:pt x="726" y="176"/>
                    </a:lnTo>
                    <a:lnTo>
                      <a:pt x="711" y="178"/>
                    </a:lnTo>
                    <a:lnTo>
                      <a:pt x="699" y="179"/>
                    </a:lnTo>
                    <a:lnTo>
                      <a:pt x="692" y="180"/>
                    </a:lnTo>
                    <a:lnTo>
                      <a:pt x="683" y="179"/>
                    </a:lnTo>
                    <a:lnTo>
                      <a:pt x="675" y="179"/>
                    </a:lnTo>
                    <a:lnTo>
                      <a:pt x="668" y="177"/>
                    </a:lnTo>
                    <a:lnTo>
                      <a:pt x="660" y="174"/>
                    </a:lnTo>
                    <a:lnTo>
                      <a:pt x="654" y="171"/>
                    </a:lnTo>
                    <a:lnTo>
                      <a:pt x="647" y="168"/>
                    </a:lnTo>
                    <a:lnTo>
                      <a:pt x="642" y="164"/>
                    </a:lnTo>
                    <a:lnTo>
                      <a:pt x="637" y="160"/>
                    </a:lnTo>
                    <a:lnTo>
                      <a:pt x="630" y="176"/>
                    </a:lnTo>
                    <a:lnTo>
                      <a:pt x="623" y="190"/>
                    </a:lnTo>
                    <a:lnTo>
                      <a:pt x="616" y="205"/>
                    </a:lnTo>
                    <a:lnTo>
                      <a:pt x="608" y="218"/>
                    </a:lnTo>
                    <a:lnTo>
                      <a:pt x="600" y="231"/>
                    </a:lnTo>
                    <a:lnTo>
                      <a:pt x="590" y="243"/>
                    </a:lnTo>
                    <a:lnTo>
                      <a:pt x="582" y="254"/>
                    </a:lnTo>
                    <a:lnTo>
                      <a:pt x="572" y="265"/>
                    </a:lnTo>
                    <a:lnTo>
                      <a:pt x="566" y="273"/>
                    </a:lnTo>
                    <a:lnTo>
                      <a:pt x="559" y="280"/>
                    </a:lnTo>
                    <a:lnTo>
                      <a:pt x="553" y="287"/>
                    </a:lnTo>
                    <a:lnTo>
                      <a:pt x="547" y="292"/>
                    </a:lnTo>
                    <a:lnTo>
                      <a:pt x="539" y="297"/>
                    </a:lnTo>
                    <a:lnTo>
                      <a:pt x="532" y="301"/>
                    </a:lnTo>
                    <a:lnTo>
                      <a:pt x="523" y="304"/>
                    </a:lnTo>
                    <a:lnTo>
                      <a:pt x="515" y="306"/>
                    </a:lnTo>
                    <a:lnTo>
                      <a:pt x="507" y="307"/>
                    </a:lnTo>
                    <a:lnTo>
                      <a:pt x="498" y="307"/>
                    </a:lnTo>
                    <a:lnTo>
                      <a:pt x="488" y="307"/>
                    </a:lnTo>
                    <a:lnTo>
                      <a:pt x="479" y="305"/>
                    </a:lnTo>
                    <a:lnTo>
                      <a:pt x="468" y="303"/>
                    </a:lnTo>
                    <a:lnTo>
                      <a:pt x="459" y="300"/>
                    </a:lnTo>
                    <a:lnTo>
                      <a:pt x="447" y="295"/>
                    </a:lnTo>
                    <a:lnTo>
                      <a:pt x="437" y="290"/>
                    </a:lnTo>
                    <a:lnTo>
                      <a:pt x="457" y="274"/>
                    </a:lnTo>
                    <a:lnTo>
                      <a:pt x="475" y="259"/>
                    </a:lnTo>
                    <a:lnTo>
                      <a:pt x="493" y="243"/>
                    </a:lnTo>
                    <a:lnTo>
                      <a:pt x="509" y="226"/>
                    </a:lnTo>
                    <a:lnTo>
                      <a:pt x="523" y="209"/>
                    </a:lnTo>
                    <a:lnTo>
                      <a:pt x="537" y="193"/>
                    </a:lnTo>
                    <a:lnTo>
                      <a:pt x="549" y="176"/>
                    </a:lnTo>
                    <a:lnTo>
                      <a:pt x="561" y="158"/>
                    </a:lnTo>
                    <a:lnTo>
                      <a:pt x="570" y="138"/>
                    </a:lnTo>
                    <a:lnTo>
                      <a:pt x="579" y="120"/>
                    </a:lnTo>
                    <a:lnTo>
                      <a:pt x="585" y="101"/>
                    </a:lnTo>
                    <a:lnTo>
                      <a:pt x="591" y="81"/>
                    </a:lnTo>
                    <a:lnTo>
                      <a:pt x="595" y="61"/>
                    </a:lnTo>
                    <a:lnTo>
                      <a:pt x="599" y="41"/>
                    </a:lnTo>
                    <a:lnTo>
                      <a:pt x="601" y="21"/>
                    </a:lnTo>
                    <a:lnTo>
                      <a:pt x="602" y="0"/>
                    </a:lnTo>
                    <a:lnTo>
                      <a:pt x="610" y="8"/>
                    </a:lnTo>
                    <a:lnTo>
                      <a:pt x="621" y="16"/>
                    </a:lnTo>
                    <a:lnTo>
                      <a:pt x="633" y="22"/>
                    </a:lnTo>
                    <a:lnTo>
                      <a:pt x="644" y="28"/>
                    </a:lnTo>
                    <a:lnTo>
                      <a:pt x="657" y="34"/>
                    </a:lnTo>
                    <a:lnTo>
                      <a:pt x="671" y="38"/>
                    </a:lnTo>
                    <a:lnTo>
                      <a:pt x="686" y="41"/>
                    </a:lnTo>
                    <a:lnTo>
                      <a:pt x="701" y="44"/>
                    </a:lnTo>
                    <a:lnTo>
                      <a:pt x="687" y="63"/>
                    </a:lnTo>
                    <a:lnTo>
                      <a:pt x="673" y="84"/>
                    </a:lnTo>
                    <a:lnTo>
                      <a:pt x="659" y="108"/>
                    </a:lnTo>
                    <a:lnTo>
                      <a:pt x="646" y="134"/>
                    </a:lnTo>
                    <a:lnTo>
                      <a:pt x="671" y="131"/>
                    </a:lnTo>
                    <a:lnTo>
                      <a:pt x="702" y="125"/>
                    </a:lnTo>
                    <a:lnTo>
                      <a:pt x="743" y="116"/>
                    </a:lnTo>
                    <a:lnTo>
                      <a:pt x="791" y="105"/>
                    </a:lnTo>
                    <a:lnTo>
                      <a:pt x="810" y="100"/>
                    </a:lnTo>
                    <a:lnTo>
                      <a:pt x="826" y="96"/>
                    </a:lnTo>
                    <a:lnTo>
                      <a:pt x="840" y="92"/>
                    </a:lnTo>
                    <a:lnTo>
                      <a:pt x="852" y="90"/>
                    </a:lnTo>
                    <a:lnTo>
                      <a:pt x="859" y="88"/>
                    </a:lnTo>
                    <a:lnTo>
                      <a:pt x="866" y="89"/>
                    </a:lnTo>
                    <a:lnTo>
                      <a:pt x="871" y="91"/>
                    </a:lnTo>
                    <a:lnTo>
                      <a:pt x="876" y="95"/>
                    </a:lnTo>
                    <a:lnTo>
                      <a:pt x="877" y="93"/>
                    </a:lnTo>
                    <a:lnTo>
                      <a:pt x="878" y="92"/>
                    </a:lnTo>
                    <a:lnTo>
                      <a:pt x="879" y="93"/>
                    </a:lnTo>
                    <a:lnTo>
                      <a:pt x="881" y="95"/>
                    </a:lnTo>
                    <a:close/>
                    <a:moveTo>
                      <a:pt x="352" y="950"/>
                    </a:moveTo>
                    <a:lnTo>
                      <a:pt x="352" y="977"/>
                    </a:lnTo>
                    <a:lnTo>
                      <a:pt x="352" y="1003"/>
                    </a:lnTo>
                    <a:lnTo>
                      <a:pt x="352" y="1028"/>
                    </a:lnTo>
                    <a:lnTo>
                      <a:pt x="352" y="1050"/>
                    </a:lnTo>
                    <a:lnTo>
                      <a:pt x="366" y="1048"/>
                    </a:lnTo>
                    <a:lnTo>
                      <a:pt x="384" y="1047"/>
                    </a:lnTo>
                    <a:lnTo>
                      <a:pt x="406" y="1046"/>
                    </a:lnTo>
                    <a:lnTo>
                      <a:pt x="431" y="1046"/>
                    </a:lnTo>
                    <a:lnTo>
                      <a:pt x="466" y="1042"/>
                    </a:lnTo>
                    <a:lnTo>
                      <a:pt x="498" y="1040"/>
                    </a:lnTo>
                    <a:lnTo>
                      <a:pt x="527" y="1038"/>
                    </a:lnTo>
                    <a:lnTo>
                      <a:pt x="553" y="1035"/>
                    </a:lnTo>
                    <a:lnTo>
                      <a:pt x="575" y="1033"/>
                    </a:lnTo>
                    <a:lnTo>
                      <a:pt x="595" y="1030"/>
                    </a:lnTo>
                    <a:lnTo>
                      <a:pt x="612" y="1028"/>
                    </a:lnTo>
                    <a:lnTo>
                      <a:pt x="626" y="1025"/>
                    </a:lnTo>
                    <a:lnTo>
                      <a:pt x="629" y="1007"/>
                    </a:lnTo>
                    <a:lnTo>
                      <a:pt x="634" y="987"/>
                    </a:lnTo>
                    <a:lnTo>
                      <a:pt x="640" y="967"/>
                    </a:lnTo>
                    <a:lnTo>
                      <a:pt x="646" y="945"/>
                    </a:lnTo>
                    <a:lnTo>
                      <a:pt x="649" y="933"/>
                    </a:lnTo>
                    <a:lnTo>
                      <a:pt x="652" y="923"/>
                    </a:lnTo>
                    <a:lnTo>
                      <a:pt x="654" y="913"/>
                    </a:lnTo>
                    <a:lnTo>
                      <a:pt x="657" y="906"/>
                    </a:lnTo>
                    <a:lnTo>
                      <a:pt x="629" y="909"/>
                    </a:lnTo>
                    <a:lnTo>
                      <a:pt x="599" y="914"/>
                    </a:lnTo>
                    <a:lnTo>
                      <a:pt x="565" y="918"/>
                    </a:lnTo>
                    <a:lnTo>
                      <a:pt x="528" y="924"/>
                    </a:lnTo>
                    <a:lnTo>
                      <a:pt x="488" y="930"/>
                    </a:lnTo>
                    <a:lnTo>
                      <a:pt x="445" y="936"/>
                    </a:lnTo>
                    <a:lnTo>
                      <a:pt x="400" y="943"/>
                    </a:lnTo>
                    <a:lnTo>
                      <a:pt x="352" y="950"/>
                    </a:lnTo>
                    <a:close/>
                    <a:moveTo>
                      <a:pt x="352" y="640"/>
                    </a:moveTo>
                    <a:lnTo>
                      <a:pt x="352" y="745"/>
                    </a:lnTo>
                    <a:lnTo>
                      <a:pt x="360" y="743"/>
                    </a:lnTo>
                    <a:lnTo>
                      <a:pt x="370" y="740"/>
                    </a:lnTo>
                    <a:lnTo>
                      <a:pt x="383" y="737"/>
                    </a:lnTo>
                    <a:lnTo>
                      <a:pt x="396" y="735"/>
                    </a:lnTo>
                    <a:lnTo>
                      <a:pt x="414" y="731"/>
                    </a:lnTo>
                    <a:lnTo>
                      <a:pt x="433" y="728"/>
                    </a:lnTo>
                    <a:lnTo>
                      <a:pt x="452" y="723"/>
                    </a:lnTo>
                    <a:lnTo>
                      <a:pt x="473" y="720"/>
                    </a:lnTo>
                    <a:lnTo>
                      <a:pt x="494" y="716"/>
                    </a:lnTo>
                    <a:lnTo>
                      <a:pt x="516" y="713"/>
                    </a:lnTo>
                    <a:lnTo>
                      <a:pt x="538" y="709"/>
                    </a:lnTo>
                    <a:lnTo>
                      <a:pt x="562" y="705"/>
                    </a:lnTo>
                    <a:lnTo>
                      <a:pt x="565" y="694"/>
                    </a:lnTo>
                    <a:lnTo>
                      <a:pt x="568" y="681"/>
                    </a:lnTo>
                    <a:lnTo>
                      <a:pt x="572" y="666"/>
                    </a:lnTo>
                    <a:lnTo>
                      <a:pt x="576" y="650"/>
                    </a:lnTo>
                    <a:lnTo>
                      <a:pt x="581" y="633"/>
                    </a:lnTo>
                    <a:lnTo>
                      <a:pt x="584" y="620"/>
                    </a:lnTo>
                    <a:lnTo>
                      <a:pt x="586" y="609"/>
                    </a:lnTo>
                    <a:lnTo>
                      <a:pt x="587" y="599"/>
                    </a:lnTo>
                    <a:lnTo>
                      <a:pt x="579" y="601"/>
                    </a:lnTo>
                    <a:lnTo>
                      <a:pt x="568" y="603"/>
                    </a:lnTo>
                    <a:lnTo>
                      <a:pt x="555" y="606"/>
                    </a:lnTo>
                    <a:lnTo>
                      <a:pt x="541" y="610"/>
                    </a:lnTo>
                    <a:lnTo>
                      <a:pt x="511" y="614"/>
                    </a:lnTo>
                    <a:lnTo>
                      <a:pt x="483" y="620"/>
                    </a:lnTo>
                    <a:lnTo>
                      <a:pt x="456" y="624"/>
                    </a:lnTo>
                    <a:lnTo>
                      <a:pt x="431" y="627"/>
                    </a:lnTo>
                    <a:lnTo>
                      <a:pt x="409" y="631"/>
                    </a:lnTo>
                    <a:lnTo>
                      <a:pt x="388" y="634"/>
                    </a:lnTo>
                    <a:lnTo>
                      <a:pt x="369" y="638"/>
                    </a:lnTo>
                    <a:lnTo>
                      <a:pt x="352" y="640"/>
                    </a:lnTo>
                    <a:close/>
                    <a:moveTo>
                      <a:pt x="642" y="230"/>
                    </a:moveTo>
                    <a:lnTo>
                      <a:pt x="639" y="226"/>
                    </a:lnTo>
                    <a:lnTo>
                      <a:pt x="638" y="223"/>
                    </a:lnTo>
                    <a:lnTo>
                      <a:pt x="637" y="219"/>
                    </a:lnTo>
                    <a:lnTo>
                      <a:pt x="637" y="215"/>
                    </a:lnTo>
                    <a:lnTo>
                      <a:pt x="637" y="213"/>
                    </a:lnTo>
                    <a:lnTo>
                      <a:pt x="639" y="213"/>
                    </a:lnTo>
                    <a:lnTo>
                      <a:pt x="642" y="213"/>
                    </a:lnTo>
                    <a:lnTo>
                      <a:pt x="646" y="215"/>
                    </a:lnTo>
                    <a:lnTo>
                      <a:pt x="653" y="215"/>
                    </a:lnTo>
                    <a:lnTo>
                      <a:pt x="661" y="215"/>
                    </a:lnTo>
                    <a:lnTo>
                      <a:pt x="698" y="220"/>
                    </a:lnTo>
                    <a:lnTo>
                      <a:pt x="728" y="224"/>
                    </a:lnTo>
                    <a:lnTo>
                      <a:pt x="751" y="230"/>
                    </a:lnTo>
                    <a:lnTo>
                      <a:pt x="767" y="235"/>
                    </a:lnTo>
                    <a:lnTo>
                      <a:pt x="768" y="236"/>
                    </a:lnTo>
                    <a:lnTo>
                      <a:pt x="769" y="239"/>
                    </a:lnTo>
                    <a:lnTo>
                      <a:pt x="769" y="245"/>
                    </a:lnTo>
                    <a:lnTo>
                      <a:pt x="770" y="253"/>
                    </a:lnTo>
                    <a:lnTo>
                      <a:pt x="771" y="277"/>
                    </a:lnTo>
                    <a:lnTo>
                      <a:pt x="771" y="310"/>
                    </a:lnTo>
                    <a:lnTo>
                      <a:pt x="771" y="316"/>
                    </a:lnTo>
                    <a:lnTo>
                      <a:pt x="770" y="322"/>
                    </a:lnTo>
                    <a:lnTo>
                      <a:pt x="769" y="326"/>
                    </a:lnTo>
                    <a:lnTo>
                      <a:pt x="767" y="329"/>
                    </a:lnTo>
                    <a:lnTo>
                      <a:pt x="764" y="331"/>
                    </a:lnTo>
                    <a:lnTo>
                      <a:pt x="761" y="331"/>
                    </a:lnTo>
                    <a:lnTo>
                      <a:pt x="756" y="329"/>
                    </a:lnTo>
                    <a:lnTo>
                      <a:pt x="751" y="325"/>
                    </a:lnTo>
                    <a:lnTo>
                      <a:pt x="720" y="300"/>
                    </a:lnTo>
                    <a:lnTo>
                      <a:pt x="692" y="276"/>
                    </a:lnTo>
                    <a:lnTo>
                      <a:pt x="665" y="253"/>
                    </a:lnTo>
                    <a:lnTo>
                      <a:pt x="642" y="230"/>
                    </a:lnTo>
                    <a:close/>
                    <a:moveTo>
                      <a:pt x="246" y="255"/>
                    </a:moveTo>
                    <a:lnTo>
                      <a:pt x="243" y="245"/>
                    </a:lnTo>
                    <a:lnTo>
                      <a:pt x="242" y="240"/>
                    </a:lnTo>
                    <a:lnTo>
                      <a:pt x="244" y="237"/>
                    </a:lnTo>
                    <a:lnTo>
                      <a:pt x="248" y="236"/>
                    </a:lnTo>
                    <a:lnTo>
                      <a:pt x="252" y="235"/>
                    </a:lnTo>
                    <a:lnTo>
                      <a:pt x="257" y="235"/>
                    </a:lnTo>
                    <a:lnTo>
                      <a:pt x="285" y="242"/>
                    </a:lnTo>
                    <a:lnTo>
                      <a:pt x="313" y="250"/>
                    </a:lnTo>
                    <a:lnTo>
                      <a:pt x="338" y="257"/>
                    </a:lnTo>
                    <a:lnTo>
                      <a:pt x="361" y="265"/>
                    </a:lnTo>
                    <a:lnTo>
                      <a:pt x="364" y="269"/>
                    </a:lnTo>
                    <a:lnTo>
                      <a:pt x="366" y="275"/>
                    </a:lnTo>
                    <a:lnTo>
                      <a:pt x="366" y="283"/>
                    </a:lnTo>
                    <a:lnTo>
                      <a:pt x="367" y="291"/>
                    </a:lnTo>
                    <a:lnTo>
                      <a:pt x="366" y="312"/>
                    </a:lnTo>
                    <a:lnTo>
                      <a:pt x="361" y="340"/>
                    </a:lnTo>
                    <a:lnTo>
                      <a:pt x="361" y="346"/>
                    </a:lnTo>
                    <a:lnTo>
                      <a:pt x="360" y="353"/>
                    </a:lnTo>
                    <a:lnTo>
                      <a:pt x="358" y="357"/>
                    </a:lnTo>
                    <a:lnTo>
                      <a:pt x="356" y="360"/>
                    </a:lnTo>
                    <a:lnTo>
                      <a:pt x="352" y="361"/>
                    </a:lnTo>
                    <a:lnTo>
                      <a:pt x="347" y="361"/>
                    </a:lnTo>
                    <a:lnTo>
                      <a:pt x="341" y="359"/>
                    </a:lnTo>
                    <a:lnTo>
                      <a:pt x="336" y="355"/>
                    </a:lnTo>
                    <a:lnTo>
                      <a:pt x="320" y="339"/>
                    </a:lnTo>
                    <a:lnTo>
                      <a:pt x="299" y="318"/>
                    </a:lnTo>
                    <a:lnTo>
                      <a:pt x="275" y="289"/>
                    </a:lnTo>
                    <a:lnTo>
                      <a:pt x="246" y="255"/>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651" name="Freeform 18"/>
              <p:cNvSpPr/>
              <p:nvPr/>
            </p:nvSpPr>
            <p:spPr>
              <a:xfrm>
                <a:off x="1758600" y="1301400"/>
                <a:ext cx="172800" cy="129960"/>
              </a:xfrm>
              <a:custGeom>
                <a:avLst/>
                <a:gdLst>
                  <a:gd name="textAreaLeft" fmla="*/ 0 w 172800"/>
                  <a:gd name="textAreaRight" fmla="*/ 173160 w 172800"/>
                  <a:gd name="textAreaTop" fmla="*/ 0 h 129960"/>
                  <a:gd name="textAreaBottom" fmla="*/ 130320 h 129960"/>
                </a:gdLst>
                <a:ahLst/>
                <a:rect l="textAreaLeft" t="textAreaTop" r="textAreaRight" b="textAreaBottom"/>
                <a:pathLst>
                  <a:path w="1167" h="933">
                    <a:moveTo>
                      <a:pt x="1090" y="796"/>
                    </a:moveTo>
                    <a:lnTo>
                      <a:pt x="1098" y="797"/>
                    </a:lnTo>
                    <a:lnTo>
                      <a:pt x="1105" y="800"/>
                    </a:lnTo>
                    <a:lnTo>
                      <a:pt x="1112" y="804"/>
                    </a:lnTo>
                    <a:lnTo>
                      <a:pt x="1120" y="811"/>
                    </a:lnTo>
                    <a:lnTo>
                      <a:pt x="1125" y="815"/>
                    </a:lnTo>
                    <a:lnTo>
                      <a:pt x="1131" y="821"/>
                    </a:lnTo>
                    <a:lnTo>
                      <a:pt x="1138" y="830"/>
                    </a:lnTo>
                    <a:lnTo>
                      <a:pt x="1145" y="842"/>
                    </a:lnTo>
                    <a:lnTo>
                      <a:pt x="1158" y="858"/>
                    </a:lnTo>
                    <a:lnTo>
                      <a:pt x="1165" y="871"/>
                    </a:lnTo>
                    <a:lnTo>
                      <a:pt x="1167" y="879"/>
                    </a:lnTo>
                    <a:lnTo>
                      <a:pt x="1167" y="884"/>
                    </a:lnTo>
                    <a:lnTo>
                      <a:pt x="1167" y="889"/>
                    </a:lnTo>
                    <a:lnTo>
                      <a:pt x="1166" y="893"/>
                    </a:lnTo>
                    <a:lnTo>
                      <a:pt x="1164" y="897"/>
                    </a:lnTo>
                    <a:lnTo>
                      <a:pt x="1160" y="900"/>
                    </a:lnTo>
                    <a:lnTo>
                      <a:pt x="1156" y="901"/>
                    </a:lnTo>
                    <a:lnTo>
                      <a:pt x="1150" y="901"/>
                    </a:lnTo>
                    <a:lnTo>
                      <a:pt x="1119" y="898"/>
                    </a:lnTo>
                    <a:lnTo>
                      <a:pt x="1084" y="896"/>
                    </a:lnTo>
                    <a:lnTo>
                      <a:pt x="1046" y="893"/>
                    </a:lnTo>
                    <a:lnTo>
                      <a:pt x="1005" y="892"/>
                    </a:lnTo>
                    <a:lnTo>
                      <a:pt x="961" y="892"/>
                    </a:lnTo>
                    <a:lnTo>
                      <a:pt x="914" y="892"/>
                    </a:lnTo>
                    <a:lnTo>
                      <a:pt x="863" y="894"/>
                    </a:lnTo>
                    <a:lnTo>
                      <a:pt x="810" y="897"/>
                    </a:lnTo>
                    <a:lnTo>
                      <a:pt x="753" y="899"/>
                    </a:lnTo>
                    <a:lnTo>
                      <a:pt x="698" y="902"/>
                    </a:lnTo>
                    <a:lnTo>
                      <a:pt x="645" y="906"/>
                    </a:lnTo>
                    <a:lnTo>
                      <a:pt x="593" y="910"/>
                    </a:lnTo>
                    <a:lnTo>
                      <a:pt x="544" y="915"/>
                    </a:lnTo>
                    <a:lnTo>
                      <a:pt x="496" y="920"/>
                    </a:lnTo>
                    <a:lnTo>
                      <a:pt x="449" y="925"/>
                    </a:lnTo>
                    <a:lnTo>
                      <a:pt x="405" y="932"/>
                    </a:lnTo>
                    <a:lnTo>
                      <a:pt x="397" y="933"/>
                    </a:lnTo>
                    <a:lnTo>
                      <a:pt x="389" y="933"/>
                    </a:lnTo>
                    <a:lnTo>
                      <a:pt x="379" y="931"/>
                    </a:lnTo>
                    <a:lnTo>
                      <a:pt x="370" y="926"/>
                    </a:lnTo>
                    <a:lnTo>
                      <a:pt x="350" y="906"/>
                    </a:lnTo>
                    <a:lnTo>
                      <a:pt x="334" y="889"/>
                    </a:lnTo>
                    <a:lnTo>
                      <a:pt x="322" y="875"/>
                    </a:lnTo>
                    <a:lnTo>
                      <a:pt x="315" y="866"/>
                    </a:lnTo>
                    <a:lnTo>
                      <a:pt x="362" y="864"/>
                    </a:lnTo>
                    <a:lnTo>
                      <a:pt x="409" y="861"/>
                    </a:lnTo>
                    <a:lnTo>
                      <a:pt x="456" y="857"/>
                    </a:lnTo>
                    <a:lnTo>
                      <a:pt x="502" y="853"/>
                    </a:lnTo>
                    <a:lnTo>
                      <a:pt x="549" y="850"/>
                    </a:lnTo>
                    <a:lnTo>
                      <a:pt x="594" y="846"/>
                    </a:lnTo>
                    <a:lnTo>
                      <a:pt x="640" y="842"/>
                    </a:lnTo>
                    <a:lnTo>
                      <a:pt x="684" y="836"/>
                    </a:lnTo>
                    <a:lnTo>
                      <a:pt x="684" y="825"/>
                    </a:lnTo>
                    <a:lnTo>
                      <a:pt x="684" y="809"/>
                    </a:lnTo>
                    <a:lnTo>
                      <a:pt x="684" y="790"/>
                    </a:lnTo>
                    <a:lnTo>
                      <a:pt x="684" y="766"/>
                    </a:lnTo>
                    <a:lnTo>
                      <a:pt x="688" y="743"/>
                    </a:lnTo>
                    <a:lnTo>
                      <a:pt x="689" y="723"/>
                    </a:lnTo>
                    <a:lnTo>
                      <a:pt x="690" y="705"/>
                    </a:lnTo>
                    <a:lnTo>
                      <a:pt x="690" y="691"/>
                    </a:lnTo>
                    <a:lnTo>
                      <a:pt x="674" y="691"/>
                    </a:lnTo>
                    <a:lnTo>
                      <a:pt x="656" y="692"/>
                    </a:lnTo>
                    <a:lnTo>
                      <a:pt x="637" y="694"/>
                    </a:lnTo>
                    <a:lnTo>
                      <a:pt x="615" y="696"/>
                    </a:lnTo>
                    <a:lnTo>
                      <a:pt x="589" y="701"/>
                    </a:lnTo>
                    <a:lnTo>
                      <a:pt x="570" y="703"/>
                    </a:lnTo>
                    <a:lnTo>
                      <a:pt x="564" y="703"/>
                    </a:lnTo>
                    <a:lnTo>
                      <a:pt x="558" y="703"/>
                    </a:lnTo>
                    <a:lnTo>
                      <a:pt x="556" y="702"/>
                    </a:lnTo>
                    <a:lnTo>
                      <a:pt x="555" y="702"/>
                    </a:lnTo>
                    <a:lnTo>
                      <a:pt x="549" y="700"/>
                    </a:lnTo>
                    <a:lnTo>
                      <a:pt x="541" y="695"/>
                    </a:lnTo>
                    <a:lnTo>
                      <a:pt x="534" y="691"/>
                    </a:lnTo>
                    <a:lnTo>
                      <a:pt x="527" y="685"/>
                    </a:lnTo>
                    <a:lnTo>
                      <a:pt x="518" y="677"/>
                    </a:lnTo>
                    <a:lnTo>
                      <a:pt x="509" y="668"/>
                    </a:lnTo>
                    <a:lnTo>
                      <a:pt x="500" y="658"/>
                    </a:lnTo>
                    <a:lnTo>
                      <a:pt x="490" y="647"/>
                    </a:lnTo>
                    <a:lnTo>
                      <a:pt x="509" y="645"/>
                    </a:lnTo>
                    <a:lnTo>
                      <a:pt x="529" y="644"/>
                    </a:lnTo>
                    <a:lnTo>
                      <a:pt x="551" y="642"/>
                    </a:lnTo>
                    <a:lnTo>
                      <a:pt x="575" y="640"/>
                    </a:lnTo>
                    <a:lnTo>
                      <a:pt x="601" y="636"/>
                    </a:lnTo>
                    <a:lnTo>
                      <a:pt x="628" y="632"/>
                    </a:lnTo>
                    <a:lnTo>
                      <a:pt x="658" y="626"/>
                    </a:lnTo>
                    <a:lnTo>
                      <a:pt x="690" y="621"/>
                    </a:lnTo>
                    <a:lnTo>
                      <a:pt x="691" y="607"/>
                    </a:lnTo>
                    <a:lnTo>
                      <a:pt x="691" y="591"/>
                    </a:lnTo>
                    <a:lnTo>
                      <a:pt x="693" y="572"/>
                    </a:lnTo>
                    <a:lnTo>
                      <a:pt x="695" y="551"/>
                    </a:lnTo>
                    <a:lnTo>
                      <a:pt x="695" y="528"/>
                    </a:lnTo>
                    <a:lnTo>
                      <a:pt x="695" y="509"/>
                    </a:lnTo>
                    <a:lnTo>
                      <a:pt x="695" y="493"/>
                    </a:lnTo>
                    <a:lnTo>
                      <a:pt x="695" y="481"/>
                    </a:lnTo>
                    <a:lnTo>
                      <a:pt x="669" y="483"/>
                    </a:lnTo>
                    <a:lnTo>
                      <a:pt x="642" y="488"/>
                    </a:lnTo>
                    <a:lnTo>
                      <a:pt x="618" y="491"/>
                    </a:lnTo>
                    <a:lnTo>
                      <a:pt x="594" y="496"/>
                    </a:lnTo>
                    <a:lnTo>
                      <a:pt x="594" y="513"/>
                    </a:lnTo>
                    <a:lnTo>
                      <a:pt x="593" y="526"/>
                    </a:lnTo>
                    <a:lnTo>
                      <a:pt x="593" y="530"/>
                    </a:lnTo>
                    <a:lnTo>
                      <a:pt x="592" y="533"/>
                    </a:lnTo>
                    <a:lnTo>
                      <a:pt x="591" y="535"/>
                    </a:lnTo>
                    <a:lnTo>
                      <a:pt x="590" y="536"/>
                    </a:lnTo>
                    <a:lnTo>
                      <a:pt x="582" y="532"/>
                    </a:lnTo>
                    <a:lnTo>
                      <a:pt x="573" y="526"/>
                    </a:lnTo>
                    <a:lnTo>
                      <a:pt x="565" y="519"/>
                    </a:lnTo>
                    <a:lnTo>
                      <a:pt x="555" y="511"/>
                    </a:lnTo>
                    <a:lnTo>
                      <a:pt x="534" y="491"/>
                    </a:lnTo>
                    <a:lnTo>
                      <a:pt x="510" y="465"/>
                    </a:lnTo>
                    <a:lnTo>
                      <a:pt x="505" y="406"/>
                    </a:lnTo>
                    <a:lnTo>
                      <a:pt x="499" y="350"/>
                    </a:lnTo>
                    <a:lnTo>
                      <a:pt x="495" y="323"/>
                    </a:lnTo>
                    <a:lnTo>
                      <a:pt x="491" y="297"/>
                    </a:lnTo>
                    <a:lnTo>
                      <a:pt x="486" y="271"/>
                    </a:lnTo>
                    <a:lnTo>
                      <a:pt x="481" y="247"/>
                    </a:lnTo>
                    <a:lnTo>
                      <a:pt x="476" y="224"/>
                    </a:lnTo>
                    <a:lnTo>
                      <a:pt x="469" y="200"/>
                    </a:lnTo>
                    <a:lnTo>
                      <a:pt x="463" y="178"/>
                    </a:lnTo>
                    <a:lnTo>
                      <a:pt x="457" y="157"/>
                    </a:lnTo>
                    <a:lnTo>
                      <a:pt x="449" y="137"/>
                    </a:lnTo>
                    <a:lnTo>
                      <a:pt x="442" y="118"/>
                    </a:lnTo>
                    <a:lnTo>
                      <a:pt x="433" y="99"/>
                    </a:lnTo>
                    <a:lnTo>
                      <a:pt x="425" y="81"/>
                    </a:lnTo>
                    <a:lnTo>
                      <a:pt x="437" y="81"/>
                    </a:lnTo>
                    <a:lnTo>
                      <a:pt x="450" y="82"/>
                    </a:lnTo>
                    <a:lnTo>
                      <a:pt x="466" y="84"/>
                    </a:lnTo>
                    <a:lnTo>
                      <a:pt x="485" y="86"/>
                    </a:lnTo>
                    <a:lnTo>
                      <a:pt x="501" y="88"/>
                    </a:lnTo>
                    <a:lnTo>
                      <a:pt x="514" y="89"/>
                    </a:lnTo>
                    <a:lnTo>
                      <a:pt x="523" y="90"/>
                    </a:lnTo>
                    <a:lnTo>
                      <a:pt x="530" y="90"/>
                    </a:lnTo>
                    <a:lnTo>
                      <a:pt x="563" y="88"/>
                    </a:lnTo>
                    <a:lnTo>
                      <a:pt x="594" y="85"/>
                    </a:lnTo>
                    <a:lnTo>
                      <a:pt x="625" y="82"/>
                    </a:lnTo>
                    <a:lnTo>
                      <a:pt x="655" y="77"/>
                    </a:lnTo>
                    <a:lnTo>
                      <a:pt x="682" y="73"/>
                    </a:lnTo>
                    <a:lnTo>
                      <a:pt x="709" y="69"/>
                    </a:lnTo>
                    <a:lnTo>
                      <a:pt x="734" y="64"/>
                    </a:lnTo>
                    <a:lnTo>
                      <a:pt x="758" y="58"/>
                    </a:lnTo>
                    <a:lnTo>
                      <a:pt x="780" y="52"/>
                    </a:lnTo>
                    <a:lnTo>
                      <a:pt x="801" y="46"/>
                    </a:lnTo>
                    <a:lnTo>
                      <a:pt x="821" y="39"/>
                    </a:lnTo>
                    <a:lnTo>
                      <a:pt x="839" y="33"/>
                    </a:lnTo>
                    <a:lnTo>
                      <a:pt x="857" y="26"/>
                    </a:lnTo>
                    <a:lnTo>
                      <a:pt x="872" y="17"/>
                    </a:lnTo>
                    <a:lnTo>
                      <a:pt x="887" y="10"/>
                    </a:lnTo>
                    <a:lnTo>
                      <a:pt x="900" y="0"/>
                    </a:lnTo>
                    <a:lnTo>
                      <a:pt x="920" y="19"/>
                    </a:lnTo>
                    <a:lnTo>
                      <a:pt x="940" y="35"/>
                    </a:lnTo>
                    <a:lnTo>
                      <a:pt x="962" y="51"/>
                    </a:lnTo>
                    <a:lnTo>
                      <a:pt x="985" y="65"/>
                    </a:lnTo>
                    <a:lnTo>
                      <a:pt x="1010" y="76"/>
                    </a:lnTo>
                    <a:lnTo>
                      <a:pt x="1035" y="88"/>
                    </a:lnTo>
                    <a:lnTo>
                      <a:pt x="1061" y="98"/>
                    </a:lnTo>
                    <a:lnTo>
                      <a:pt x="1090" y="106"/>
                    </a:lnTo>
                    <a:lnTo>
                      <a:pt x="1085" y="111"/>
                    </a:lnTo>
                    <a:lnTo>
                      <a:pt x="1078" y="119"/>
                    </a:lnTo>
                    <a:lnTo>
                      <a:pt x="1072" y="127"/>
                    </a:lnTo>
                    <a:lnTo>
                      <a:pt x="1067" y="138"/>
                    </a:lnTo>
                    <a:lnTo>
                      <a:pt x="1053" y="163"/>
                    </a:lnTo>
                    <a:lnTo>
                      <a:pt x="1040" y="194"/>
                    </a:lnTo>
                    <a:lnTo>
                      <a:pt x="1025" y="232"/>
                    </a:lnTo>
                    <a:lnTo>
                      <a:pt x="1012" y="276"/>
                    </a:lnTo>
                    <a:lnTo>
                      <a:pt x="996" y="325"/>
                    </a:lnTo>
                    <a:lnTo>
                      <a:pt x="980" y="381"/>
                    </a:lnTo>
                    <a:lnTo>
                      <a:pt x="962" y="438"/>
                    </a:lnTo>
                    <a:lnTo>
                      <a:pt x="947" y="478"/>
                    </a:lnTo>
                    <a:lnTo>
                      <a:pt x="942" y="493"/>
                    </a:lnTo>
                    <a:lnTo>
                      <a:pt x="937" y="502"/>
                    </a:lnTo>
                    <a:lnTo>
                      <a:pt x="933" y="509"/>
                    </a:lnTo>
                    <a:lnTo>
                      <a:pt x="930" y="511"/>
                    </a:lnTo>
                    <a:lnTo>
                      <a:pt x="926" y="510"/>
                    </a:lnTo>
                    <a:lnTo>
                      <a:pt x="922" y="508"/>
                    </a:lnTo>
                    <a:lnTo>
                      <a:pt x="916" y="503"/>
                    </a:lnTo>
                    <a:lnTo>
                      <a:pt x="911" y="498"/>
                    </a:lnTo>
                    <a:lnTo>
                      <a:pt x="899" y="482"/>
                    </a:lnTo>
                    <a:lnTo>
                      <a:pt x="885" y="461"/>
                    </a:lnTo>
                    <a:lnTo>
                      <a:pt x="855" y="465"/>
                    </a:lnTo>
                    <a:lnTo>
                      <a:pt x="824" y="468"/>
                    </a:lnTo>
                    <a:lnTo>
                      <a:pt x="792" y="471"/>
                    </a:lnTo>
                    <a:lnTo>
                      <a:pt x="760" y="471"/>
                    </a:lnTo>
                    <a:lnTo>
                      <a:pt x="760" y="506"/>
                    </a:lnTo>
                    <a:lnTo>
                      <a:pt x="760" y="541"/>
                    </a:lnTo>
                    <a:lnTo>
                      <a:pt x="760" y="576"/>
                    </a:lnTo>
                    <a:lnTo>
                      <a:pt x="760" y="610"/>
                    </a:lnTo>
                    <a:lnTo>
                      <a:pt x="799" y="604"/>
                    </a:lnTo>
                    <a:lnTo>
                      <a:pt x="835" y="597"/>
                    </a:lnTo>
                    <a:lnTo>
                      <a:pt x="869" y="591"/>
                    </a:lnTo>
                    <a:lnTo>
                      <a:pt x="900" y="586"/>
                    </a:lnTo>
                    <a:lnTo>
                      <a:pt x="909" y="586"/>
                    </a:lnTo>
                    <a:lnTo>
                      <a:pt x="917" y="588"/>
                    </a:lnTo>
                    <a:lnTo>
                      <a:pt x="925" y="591"/>
                    </a:lnTo>
                    <a:lnTo>
                      <a:pt x="930" y="596"/>
                    </a:lnTo>
                    <a:lnTo>
                      <a:pt x="940" y="604"/>
                    </a:lnTo>
                    <a:lnTo>
                      <a:pt x="949" y="614"/>
                    </a:lnTo>
                    <a:lnTo>
                      <a:pt x="958" y="624"/>
                    </a:lnTo>
                    <a:lnTo>
                      <a:pt x="965" y="636"/>
                    </a:lnTo>
                    <a:lnTo>
                      <a:pt x="969" y="640"/>
                    </a:lnTo>
                    <a:lnTo>
                      <a:pt x="971" y="644"/>
                    </a:lnTo>
                    <a:lnTo>
                      <a:pt x="971" y="649"/>
                    </a:lnTo>
                    <a:lnTo>
                      <a:pt x="970" y="651"/>
                    </a:lnTo>
                    <a:lnTo>
                      <a:pt x="969" y="653"/>
                    </a:lnTo>
                    <a:lnTo>
                      <a:pt x="967" y="655"/>
                    </a:lnTo>
                    <a:lnTo>
                      <a:pt x="964" y="656"/>
                    </a:lnTo>
                    <a:lnTo>
                      <a:pt x="960" y="656"/>
                    </a:lnTo>
                    <a:lnTo>
                      <a:pt x="946" y="657"/>
                    </a:lnTo>
                    <a:lnTo>
                      <a:pt x="929" y="659"/>
                    </a:lnTo>
                    <a:lnTo>
                      <a:pt x="909" y="662"/>
                    </a:lnTo>
                    <a:lnTo>
                      <a:pt x="885" y="665"/>
                    </a:lnTo>
                    <a:lnTo>
                      <a:pt x="858" y="668"/>
                    </a:lnTo>
                    <a:lnTo>
                      <a:pt x="828" y="672"/>
                    </a:lnTo>
                    <a:lnTo>
                      <a:pt x="796" y="676"/>
                    </a:lnTo>
                    <a:lnTo>
                      <a:pt x="760" y="681"/>
                    </a:lnTo>
                    <a:lnTo>
                      <a:pt x="760" y="827"/>
                    </a:lnTo>
                    <a:lnTo>
                      <a:pt x="801" y="821"/>
                    </a:lnTo>
                    <a:lnTo>
                      <a:pt x="842" y="817"/>
                    </a:lnTo>
                    <a:lnTo>
                      <a:pt x="884" y="813"/>
                    </a:lnTo>
                    <a:lnTo>
                      <a:pt x="925" y="809"/>
                    </a:lnTo>
                    <a:lnTo>
                      <a:pt x="966" y="805"/>
                    </a:lnTo>
                    <a:lnTo>
                      <a:pt x="1007" y="801"/>
                    </a:lnTo>
                    <a:lnTo>
                      <a:pt x="1049" y="799"/>
                    </a:lnTo>
                    <a:lnTo>
                      <a:pt x="1090" y="796"/>
                    </a:lnTo>
                    <a:close/>
                    <a:moveTo>
                      <a:pt x="430" y="410"/>
                    </a:moveTo>
                    <a:lnTo>
                      <a:pt x="393" y="419"/>
                    </a:lnTo>
                    <a:lnTo>
                      <a:pt x="357" y="426"/>
                    </a:lnTo>
                    <a:lnTo>
                      <a:pt x="323" y="434"/>
                    </a:lnTo>
                    <a:lnTo>
                      <a:pt x="290" y="441"/>
                    </a:lnTo>
                    <a:lnTo>
                      <a:pt x="290" y="456"/>
                    </a:lnTo>
                    <a:lnTo>
                      <a:pt x="290" y="475"/>
                    </a:lnTo>
                    <a:lnTo>
                      <a:pt x="290" y="498"/>
                    </a:lnTo>
                    <a:lnTo>
                      <a:pt x="290" y="526"/>
                    </a:lnTo>
                    <a:lnTo>
                      <a:pt x="287" y="556"/>
                    </a:lnTo>
                    <a:lnTo>
                      <a:pt x="286" y="584"/>
                    </a:lnTo>
                    <a:lnTo>
                      <a:pt x="285" y="606"/>
                    </a:lnTo>
                    <a:lnTo>
                      <a:pt x="285" y="626"/>
                    </a:lnTo>
                    <a:lnTo>
                      <a:pt x="323" y="612"/>
                    </a:lnTo>
                    <a:lnTo>
                      <a:pt x="360" y="596"/>
                    </a:lnTo>
                    <a:lnTo>
                      <a:pt x="393" y="581"/>
                    </a:lnTo>
                    <a:lnTo>
                      <a:pt x="425" y="566"/>
                    </a:lnTo>
                    <a:lnTo>
                      <a:pt x="434" y="564"/>
                    </a:lnTo>
                    <a:lnTo>
                      <a:pt x="441" y="565"/>
                    </a:lnTo>
                    <a:lnTo>
                      <a:pt x="444" y="566"/>
                    </a:lnTo>
                    <a:lnTo>
                      <a:pt x="446" y="567"/>
                    </a:lnTo>
                    <a:lnTo>
                      <a:pt x="448" y="568"/>
                    </a:lnTo>
                    <a:lnTo>
                      <a:pt x="450" y="571"/>
                    </a:lnTo>
                    <a:lnTo>
                      <a:pt x="450" y="574"/>
                    </a:lnTo>
                    <a:lnTo>
                      <a:pt x="451" y="578"/>
                    </a:lnTo>
                    <a:lnTo>
                      <a:pt x="450" y="582"/>
                    </a:lnTo>
                    <a:lnTo>
                      <a:pt x="450" y="585"/>
                    </a:lnTo>
                    <a:lnTo>
                      <a:pt x="448" y="588"/>
                    </a:lnTo>
                    <a:lnTo>
                      <a:pt x="446" y="590"/>
                    </a:lnTo>
                    <a:lnTo>
                      <a:pt x="443" y="594"/>
                    </a:lnTo>
                    <a:lnTo>
                      <a:pt x="440" y="596"/>
                    </a:lnTo>
                    <a:lnTo>
                      <a:pt x="377" y="636"/>
                    </a:lnTo>
                    <a:lnTo>
                      <a:pt x="320" y="673"/>
                    </a:lnTo>
                    <a:lnTo>
                      <a:pt x="269" y="708"/>
                    </a:lnTo>
                    <a:lnTo>
                      <a:pt x="223" y="740"/>
                    </a:lnTo>
                    <a:lnTo>
                      <a:pt x="181" y="769"/>
                    </a:lnTo>
                    <a:lnTo>
                      <a:pt x="145" y="796"/>
                    </a:lnTo>
                    <a:lnTo>
                      <a:pt x="115" y="820"/>
                    </a:lnTo>
                    <a:lnTo>
                      <a:pt x="90" y="842"/>
                    </a:lnTo>
                    <a:lnTo>
                      <a:pt x="84" y="830"/>
                    </a:lnTo>
                    <a:lnTo>
                      <a:pt x="76" y="817"/>
                    </a:lnTo>
                    <a:lnTo>
                      <a:pt x="68" y="803"/>
                    </a:lnTo>
                    <a:lnTo>
                      <a:pt x="57" y="790"/>
                    </a:lnTo>
                    <a:lnTo>
                      <a:pt x="45" y="775"/>
                    </a:lnTo>
                    <a:lnTo>
                      <a:pt x="32" y="760"/>
                    </a:lnTo>
                    <a:lnTo>
                      <a:pt x="16" y="743"/>
                    </a:lnTo>
                    <a:lnTo>
                      <a:pt x="0" y="726"/>
                    </a:lnTo>
                    <a:lnTo>
                      <a:pt x="17" y="723"/>
                    </a:lnTo>
                    <a:lnTo>
                      <a:pt x="38" y="718"/>
                    </a:lnTo>
                    <a:lnTo>
                      <a:pt x="62" y="711"/>
                    </a:lnTo>
                    <a:lnTo>
                      <a:pt x="87" y="703"/>
                    </a:lnTo>
                    <a:lnTo>
                      <a:pt x="117" y="692"/>
                    </a:lnTo>
                    <a:lnTo>
                      <a:pt x="147" y="680"/>
                    </a:lnTo>
                    <a:lnTo>
                      <a:pt x="182" y="667"/>
                    </a:lnTo>
                    <a:lnTo>
                      <a:pt x="219" y="651"/>
                    </a:lnTo>
                    <a:lnTo>
                      <a:pt x="219" y="621"/>
                    </a:lnTo>
                    <a:lnTo>
                      <a:pt x="219" y="591"/>
                    </a:lnTo>
                    <a:lnTo>
                      <a:pt x="219" y="565"/>
                    </a:lnTo>
                    <a:lnTo>
                      <a:pt x="218" y="539"/>
                    </a:lnTo>
                    <a:lnTo>
                      <a:pt x="218" y="516"/>
                    </a:lnTo>
                    <a:lnTo>
                      <a:pt x="217" y="494"/>
                    </a:lnTo>
                    <a:lnTo>
                      <a:pt x="216" y="474"/>
                    </a:lnTo>
                    <a:lnTo>
                      <a:pt x="215" y="456"/>
                    </a:lnTo>
                    <a:lnTo>
                      <a:pt x="207" y="458"/>
                    </a:lnTo>
                    <a:lnTo>
                      <a:pt x="196" y="461"/>
                    </a:lnTo>
                    <a:lnTo>
                      <a:pt x="183" y="463"/>
                    </a:lnTo>
                    <a:lnTo>
                      <a:pt x="170" y="465"/>
                    </a:lnTo>
                    <a:lnTo>
                      <a:pt x="147" y="470"/>
                    </a:lnTo>
                    <a:lnTo>
                      <a:pt x="133" y="472"/>
                    </a:lnTo>
                    <a:lnTo>
                      <a:pt x="127" y="473"/>
                    </a:lnTo>
                    <a:lnTo>
                      <a:pt x="123" y="473"/>
                    </a:lnTo>
                    <a:lnTo>
                      <a:pt x="121" y="472"/>
                    </a:lnTo>
                    <a:lnTo>
                      <a:pt x="120" y="471"/>
                    </a:lnTo>
                    <a:lnTo>
                      <a:pt x="111" y="466"/>
                    </a:lnTo>
                    <a:lnTo>
                      <a:pt x="103" y="462"/>
                    </a:lnTo>
                    <a:lnTo>
                      <a:pt x="96" y="457"/>
                    </a:lnTo>
                    <a:lnTo>
                      <a:pt x="87" y="450"/>
                    </a:lnTo>
                    <a:lnTo>
                      <a:pt x="80" y="444"/>
                    </a:lnTo>
                    <a:lnTo>
                      <a:pt x="73" y="437"/>
                    </a:lnTo>
                    <a:lnTo>
                      <a:pt x="66" y="429"/>
                    </a:lnTo>
                    <a:lnTo>
                      <a:pt x="60" y="421"/>
                    </a:lnTo>
                    <a:lnTo>
                      <a:pt x="96" y="416"/>
                    </a:lnTo>
                    <a:lnTo>
                      <a:pt x="134" y="408"/>
                    </a:lnTo>
                    <a:lnTo>
                      <a:pt x="173" y="401"/>
                    </a:lnTo>
                    <a:lnTo>
                      <a:pt x="215" y="391"/>
                    </a:lnTo>
                    <a:lnTo>
                      <a:pt x="213" y="365"/>
                    </a:lnTo>
                    <a:lnTo>
                      <a:pt x="212" y="339"/>
                    </a:lnTo>
                    <a:lnTo>
                      <a:pt x="210" y="315"/>
                    </a:lnTo>
                    <a:lnTo>
                      <a:pt x="208" y="294"/>
                    </a:lnTo>
                    <a:lnTo>
                      <a:pt x="205" y="272"/>
                    </a:lnTo>
                    <a:lnTo>
                      <a:pt x="201" y="253"/>
                    </a:lnTo>
                    <a:lnTo>
                      <a:pt x="198" y="236"/>
                    </a:lnTo>
                    <a:lnTo>
                      <a:pt x="195" y="221"/>
                    </a:lnTo>
                    <a:lnTo>
                      <a:pt x="181" y="221"/>
                    </a:lnTo>
                    <a:lnTo>
                      <a:pt x="166" y="222"/>
                    </a:lnTo>
                    <a:lnTo>
                      <a:pt x="148" y="224"/>
                    </a:lnTo>
                    <a:lnTo>
                      <a:pt x="129" y="226"/>
                    </a:lnTo>
                    <a:lnTo>
                      <a:pt x="110" y="229"/>
                    </a:lnTo>
                    <a:lnTo>
                      <a:pt x="100" y="231"/>
                    </a:lnTo>
                    <a:lnTo>
                      <a:pt x="93" y="228"/>
                    </a:lnTo>
                    <a:lnTo>
                      <a:pt x="87" y="224"/>
                    </a:lnTo>
                    <a:lnTo>
                      <a:pt x="80" y="218"/>
                    </a:lnTo>
                    <a:lnTo>
                      <a:pt x="72" y="213"/>
                    </a:lnTo>
                    <a:lnTo>
                      <a:pt x="56" y="198"/>
                    </a:lnTo>
                    <a:lnTo>
                      <a:pt x="39" y="180"/>
                    </a:lnTo>
                    <a:lnTo>
                      <a:pt x="61" y="177"/>
                    </a:lnTo>
                    <a:lnTo>
                      <a:pt x="85" y="173"/>
                    </a:lnTo>
                    <a:lnTo>
                      <a:pt x="112" y="168"/>
                    </a:lnTo>
                    <a:lnTo>
                      <a:pt x="145" y="160"/>
                    </a:lnTo>
                    <a:lnTo>
                      <a:pt x="180" y="153"/>
                    </a:lnTo>
                    <a:lnTo>
                      <a:pt x="219" y="143"/>
                    </a:lnTo>
                    <a:lnTo>
                      <a:pt x="263" y="133"/>
                    </a:lnTo>
                    <a:lnTo>
                      <a:pt x="309" y="121"/>
                    </a:lnTo>
                    <a:lnTo>
                      <a:pt x="331" y="116"/>
                    </a:lnTo>
                    <a:lnTo>
                      <a:pt x="349" y="111"/>
                    </a:lnTo>
                    <a:lnTo>
                      <a:pt x="363" y="108"/>
                    </a:lnTo>
                    <a:lnTo>
                      <a:pt x="375" y="106"/>
                    </a:lnTo>
                    <a:lnTo>
                      <a:pt x="380" y="109"/>
                    </a:lnTo>
                    <a:lnTo>
                      <a:pt x="386" y="113"/>
                    </a:lnTo>
                    <a:lnTo>
                      <a:pt x="393" y="120"/>
                    </a:lnTo>
                    <a:lnTo>
                      <a:pt x="400" y="127"/>
                    </a:lnTo>
                    <a:lnTo>
                      <a:pt x="416" y="146"/>
                    </a:lnTo>
                    <a:lnTo>
                      <a:pt x="434" y="171"/>
                    </a:lnTo>
                    <a:lnTo>
                      <a:pt x="427" y="172"/>
                    </a:lnTo>
                    <a:lnTo>
                      <a:pt x="415" y="176"/>
                    </a:lnTo>
                    <a:lnTo>
                      <a:pt x="387" y="181"/>
                    </a:lnTo>
                    <a:lnTo>
                      <a:pt x="360" y="188"/>
                    </a:lnTo>
                    <a:lnTo>
                      <a:pt x="336" y="192"/>
                    </a:lnTo>
                    <a:lnTo>
                      <a:pt x="313" y="197"/>
                    </a:lnTo>
                    <a:lnTo>
                      <a:pt x="290" y="201"/>
                    </a:lnTo>
                    <a:lnTo>
                      <a:pt x="270" y="205"/>
                    </a:lnTo>
                    <a:lnTo>
                      <a:pt x="252" y="208"/>
                    </a:lnTo>
                    <a:lnTo>
                      <a:pt x="235" y="211"/>
                    </a:lnTo>
                    <a:lnTo>
                      <a:pt x="254" y="215"/>
                    </a:lnTo>
                    <a:lnTo>
                      <a:pt x="272" y="218"/>
                    </a:lnTo>
                    <a:lnTo>
                      <a:pt x="289" y="221"/>
                    </a:lnTo>
                    <a:lnTo>
                      <a:pt x="305" y="221"/>
                    </a:lnTo>
                    <a:lnTo>
                      <a:pt x="302" y="243"/>
                    </a:lnTo>
                    <a:lnTo>
                      <a:pt x="299" y="276"/>
                    </a:lnTo>
                    <a:lnTo>
                      <a:pt x="295" y="318"/>
                    </a:lnTo>
                    <a:lnTo>
                      <a:pt x="290" y="371"/>
                    </a:lnTo>
                    <a:lnTo>
                      <a:pt x="312" y="364"/>
                    </a:lnTo>
                    <a:lnTo>
                      <a:pt x="334" y="357"/>
                    </a:lnTo>
                    <a:lnTo>
                      <a:pt x="355" y="351"/>
                    </a:lnTo>
                    <a:lnTo>
                      <a:pt x="375" y="346"/>
                    </a:lnTo>
                    <a:lnTo>
                      <a:pt x="383" y="351"/>
                    </a:lnTo>
                    <a:lnTo>
                      <a:pt x="390" y="357"/>
                    </a:lnTo>
                    <a:lnTo>
                      <a:pt x="396" y="365"/>
                    </a:lnTo>
                    <a:lnTo>
                      <a:pt x="404" y="372"/>
                    </a:lnTo>
                    <a:lnTo>
                      <a:pt x="410" y="381"/>
                    </a:lnTo>
                    <a:lnTo>
                      <a:pt x="418" y="390"/>
                    </a:lnTo>
                    <a:lnTo>
                      <a:pt x="424" y="400"/>
                    </a:lnTo>
                    <a:lnTo>
                      <a:pt x="430" y="410"/>
                    </a:lnTo>
                    <a:close/>
                    <a:moveTo>
                      <a:pt x="930" y="86"/>
                    </a:moveTo>
                    <a:lnTo>
                      <a:pt x="900" y="89"/>
                    </a:lnTo>
                    <a:lnTo>
                      <a:pt x="871" y="93"/>
                    </a:lnTo>
                    <a:lnTo>
                      <a:pt x="840" y="99"/>
                    </a:lnTo>
                    <a:lnTo>
                      <a:pt x="808" y="103"/>
                    </a:lnTo>
                    <a:lnTo>
                      <a:pt x="777" y="108"/>
                    </a:lnTo>
                    <a:lnTo>
                      <a:pt x="744" y="113"/>
                    </a:lnTo>
                    <a:lnTo>
                      <a:pt x="710" y="120"/>
                    </a:lnTo>
                    <a:lnTo>
                      <a:pt x="675" y="126"/>
                    </a:lnTo>
                    <a:lnTo>
                      <a:pt x="687" y="130"/>
                    </a:lnTo>
                    <a:lnTo>
                      <a:pt x="699" y="135"/>
                    </a:lnTo>
                    <a:lnTo>
                      <a:pt x="712" y="138"/>
                    </a:lnTo>
                    <a:lnTo>
                      <a:pt x="726" y="141"/>
                    </a:lnTo>
                    <a:lnTo>
                      <a:pt x="741" y="143"/>
                    </a:lnTo>
                    <a:lnTo>
                      <a:pt x="756" y="144"/>
                    </a:lnTo>
                    <a:lnTo>
                      <a:pt x="773" y="145"/>
                    </a:lnTo>
                    <a:lnTo>
                      <a:pt x="790" y="145"/>
                    </a:lnTo>
                    <a:lnTo>
                      <a:pt x="783" y="165"/>
                    </a:lnTo>
                    <a:lnTo>
                      <a:pt x="777" y="188"/>
                    </a:lnTo>
                    <a:lnTo>
                      <a:pt x="770" y="215"/>
                    </a:lnTo>
                    <a:lnTo>
                      <a:pt x="765" y="246"/>
                    </a:lnTo>
                    <a:lnTo>
                      <a:pt x="780" y="241"/>
                    </a:lnTo>
                    <a:lnTo>
                      <a:pt x="795" y="237"/>
                    </a:lnTo>
                    <a:lnTo>
                      <a:pt x="810" y="233"/>
                    </a:lnTo>
                    <a:lnTo>
                      <a:pt x="825" y="231"/>
                    </a:lnTo>
                    <a:lnTo>
                      <a:pt x="828" y="230"/>
                    </a:lnTo>
                    <a:lnTo>
                      <a:pt x="833" y="229"/>
                    </a:lnTo>
                    <a:lnTo>
                      <a:pt x="836" y="230"/>
                    </a:lnTo>
                    <a:lnTo>
                      <a:pt x="839" y="231"/>
                    </a:lnTo>
                    <a:lnTo>
                      <a:pt x="842" y="232"/>
                    </a:lnTo>
                    <a:lnTo>
                      <a:pt x="844" y="234"/>
                    </a:lnTo>
                    <a:lnTo>
                      <a:pt x="848" y="237"/>
                    </a:lnTo>
                    <a:lnTo>
                      <a:pt x="850" y="241"/>
                    </a:lnTo>
                    <a:lnTo>
                      <a:pt x="857" y="249"/>
                    </a:lnTo>
                    <a:lnTo>
                      <a:pt x="866" y="260"/>
                    </a:lnTo>
                    <a:lnTo>
                      <a:pt x="873" y="271"/>
                    </a:lnTo>
                    <a:lnTo>
                      <a:pt x="880" y="286"/>
                    </a:lnTo>
                    <a:lnTo>
                      <a:pt x="851" y="289"/>
                    </a:lnTo>
                    <a:lnTo>
                      <a:pt x="821" y="294"/>
                    </a:lnTo>
                    <a:lnTo>
                      <a:pt x="792" y="299"/>
                    </a:lnTo>
                    <a:lnTo>
                      <a:pt x="765" y="305"/>
                    </a:lnTo>
                    <a:lnTo>
                      <a:pt x="765" y="330"/>
                    </a:lnTo>
                    <a:lnTo>
                      <a:pt x="764" y="356"/>
                    </a:lnTo>
                    <a:lnTo>
                      <a:pt x="762" y="385"/>
                    </a:lnTo>
                    <a:lnTo>
                      <a:pt x="760" y="416"/>
                    </a:lnTo>
                    <a:lnTo>
                      <a:pt x="789" y="411"/>
                    </a:lnTo>
                    <a:lnTo>
                      <a:pt x="819" y="407"/>
                    </a:lnTo>
                    <a:lnTo>
                      <a:pt x="848" y="404"/>
                    </a:lnTo>
                    <a:lnTo>
                      <a:pt x="875" y="401"/>
                    </a:lnTo>
                    <a:lnTo>
                      <a:pt x="879" y="379"/>
                    </a:lnTo>
                    <a:lnTo>
                      <a:pt x="884" y="355"/>
                    </a:lnTo>
                    <a:lnTo>
                      <a:pt x="889" y="329"/>
                    </a:lnTo>
                    <a:lnTo>
                      <a:pt x="894" y="300"/>
                    </a:lnTo>
                    <a:lnTo>
                      <a:pt x="899" y="267"/>
                    </a:lnTo>
                    <a:lnTo>
                      <a:pt x="906" y="233"/>
                    </a:lnTo>
                    <a:lnTo>
                      <a:pt x="913" y="195"/>
                    </a:lnTo>
                    <a:lnTo>
                      <a:pt x="920" y="156"/>
                    </a:lnTo>
                    <a:lnTo>
                      <a:pt x="923" y="130"/>
                    </a:lnTo>
                    <a:lnTo>
                      <a:pt x="925" y="110"/>
                    </a:lnTo>
                    <a:lnTo>
                      <a:pt x="928" y="95"/>
                    </a:lnTo>
                    <a:lnTo>
                      <a:pt x="930" y="86"/>
                    </a:lnTo>
                    <a:close/>
                    <a:moveTo>
                      <a:pt x="580" y="281"/>
                    </a:moveTo>
                    <a:lnTo>
                      <a:pt x="591" y="280"/>
                    </a:lnTo>
                    <a:lnTo>
                      <a:pt x="605" y="276"/>
                    </a:lnTo>
                    <a:lnTo>
                      <a:pt x="618" y="275"/>
                    </a:lnTo>
                    <a:lnTo>
                      <a:pt x="638" y="272"/>
                    </a:lnTo>
                    <a:lnTo>
                      <a:pt x="663" y="267"/>
                    </a:lnTo>
                    <a:lnTo>
                      <a:pt x="695" y="261"/>
                    </a:lnTo>
                    <a:lnTo>
                      <a:pt x="690" y="221"/>
                    </a:lnTo>
                    <a:lnTo>
                      <a:pt x="682" y="186"/>
                    </a:lnTo>
                    <a:lnTo>
                      <a:pt x="678" y="170"/>
                    </a:lnTo>
                    <a:lnTo>
                      <a:pt x="675" y="156"/>
                    </a:lnTo>
                    <a:lnTo>
                      <a:pt x="670" y="142"/>
                    </a:lnTo>
                    <a:lnTo>
                      <a:pt x="665" y="130"/>
                    </a:lnTo>
                    <a:lnTo>
                      <a:pt x="654" y="134"/>
                    </a:lnTo>
                    <a:lnTo>
                      <a:pt x="640" y="136"/>
                    </a:lnTo>
                    <a:lnTo>
                      <a:pt x="624" y="138"/>
                    </a:lnTo>
                    <a:lnTo>
                      <a:pt x="605" y="141"/>
                    </a:lnTo>
                    <a:lnTo>
                      <a:pt x="593" y="145"/>
                    </a:lnTo>
                    <a:lnTo>
                      <a:pt x="583" y="148"/>
                    </a:lnTo>
                    <a:lnTo>
                      <a:pt x="573" y="151"/>
                    </a:lnTo>
                    <a:lnTo>
                      <a:pt x="565" y="151"/>
                    </a:lnTo>
                    <a:lnTo>
                      <a:pt x="545" y="126"/>
                    </a:lnTo>
                    <a:lnTo>
                      <a:pt x="546" y="137"/>
                    </a:lnTo>
                    <a:lnTo>
                      <a:pt x="548" y="151"/>
                    </a:lnTo>
                    <a:lnTo>
                      <a:pt x="551" y="166"/>
                    </a:lnTo>
                    <a:lnTo>
                      <a:pt x="555" y="186"/>
                    </a:lnTo>
                    <a:lnTo>
                      <a:pt x="559" y="227"/>
                    </a:lnTo>
                    <a:lnTo>
                      <a:pt x="565" y="265"/>
                    </a:lnTo>
                    <a:lnTo>
                      <a:pt x="569" y="301"/>
                    </a:lnTo>
                    <a:lnTo>
                      <a:pt x="572" y="335"/>
                    </a:lnTo>
                    <a:lnTo>
                      <a:pt x="576" y="365"/>
                    </a:lnTo>
                    <a:lnTo>
                      <a:pt x="580" y="393"/>
                    </a:lnTo>
                    <a:lnTo>
                      <a:pt x="583" y="419"/>
                    </a:lnTo>
                    <a:lnTo>
                      <a:pt x="585" y="441"/>
                    </a:lnTo>
                    <a:lnTo>
                      <a:pt x="610" y="437"/>
                    </a:lnTo>
                    <a:lnTo>
                      <a:pt x="638" y="432"/>
                    </a:lnTo>
                    <a:lnTo>
                      <a:pt x="665" y="428"/>
                    </a:lnTo>
                    <a:lnTo>
                      <a:pt x="695" y="426"/>
                    </a:lnTo>
                    <a:lnTo>
                      <a:pt x="695" y="316"/>
                    </a:lnTo>
                    <a:lnTo>
                      <a:pt x="683" y="317"/>
                    </a:lnTo>
                    <a:lnTo>
                      <a:pt x="670" y="321"/>
                    </a:lnTo>
                    <a:lnTo>
                      <a:pt x="661" y="321"/>
                    </a:lnTo>
                    <a:lnTo>
                      <a:pt x="654" y="322"/>
                    </a:lnTo>
                    <a:lnTo>
                      <a:pt x="648" y="323"/>
                    </a:lnTo>
                    <a:lnTo>
                      <a:pt x="645" y="325"/>
                    </a:lnTo>
                    <a:lnTo>
                      <a:pt x="640" y="325"/>
                    </a:lnTo>
                    <a:lnTo>
                      <a:pt x="634" y="323"/>
                    </a:lnTo>
                    <a:lnTo>
                      <a:pt x="626" y="319"/>
                    </a:lnTo>
                    <a:lnTo>
                      <a:pt x="619" y="315"/>
                    </a:lnTo>
                    <a:lnTo>
                      <a:pt x="610" y="308"/>
                    </a:lnTo>
                    <a:lnTo>
                      <a:pt x="601" y="300"/>
                    </a:lnTo>
                    <a:lnTo>
                      <a:pt x="591" y="292"/>
                    </a:lnTo>
                    <a:lnTo>
                      <a:pt x="580" y="281"/>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652" name="Freeform 19"/>
              <p:cNvSpPr/>
              <p:nvPr/>
            </p:nvSpPr>
            <p:spPr>
              <a:xfrm>
                <a:off x="1949760" y="1291680"/>
                <a:ext cx="165600" cy="154080"/>
              </a:xfrm>
              <a:custGeom>
                <a:avLst/>
                <a:gdLst>
                  <a:gd name="textAreaLeft" fmla="*/ 0 w 165600"/>
                  <a:gd name="textAreaRight" fmla="*/ 165960 w 165600"/>
                  <a:gd name="textAreaTop" fmla="*/ 0 h 154080"/>
                  <a:gd name="textAreaBottom" fmla="*/ 154440 h 154080"/>
                </a:gdLst>
                <a:ahLst/>
                <a:rect l="textAreaLeft" t="textAreaTop" r="textAreaRight" b="textAreaBottom"/>
                <a:pathLst>
                  <a:path w="1111" h="1116">
                    <a:moveTo>
                      <a:pt x="767" y="1015"/>
                    </a:moveTo>
                    <a:lnTo>
                      <a:pt x="730" y="1018"/>
                    </a:lnTo>
                    <a:lnTo>
                      <a:pt x="688" y="1021"/>
                    </a:lnTo>
                    <a:lnTo>
                      <a:pt x="643" y="1025"/>
                    </a:lnTo>
                    <a:lnTo>
                      <a:pt x="591" y="1029"/>
                    </a:lnTo>
                    <a:lnTo>
                      <a:pt x="535" y="1034"/>
                    </a:lnTo>
                    <a:lnTo>
                      <a:pt x="473" y="1038"/>
                    </a:lnTo>
                    <a:lnTo>
                      <a:pt x="408" y="1045"/>
                    </a:lnTo>
                    <a:lnTo>
                      <a:pt x="336" y="1050"/>
                    </a:lnTo>
                    <a:lnTo>
                      <a:pt x="336" y="1059"/>
                    </a:lnTo>
                    <a:lnTo>
                      <a:pt x="336" y="1067"/>
                    </a:lnTo>
                    <a:lnTo>
                      <a:pt x="336" y="1076"/>
                    </a:lnTo>
                    <a:lnTo>
                      <a:pt x="336" y="1085"/>
                    </a:lnTo>
                    <a:lnTo>
                      <a:pt x="338" y="1099"/>
                    </a:lnTo>
                    <a:lnTo>
                      <a:pt x="339" y="1108"/>
                    </a:lnTo>
                    <a:lnTo>
                      <a:pt x="339" y="1112"/>
                    </a:lnTo>
                    <a:lnTo>
                      <a:pt x="338" y="1114"/>
                    </a:lnTo>
                    <a:lnTo>
                      <a:pt x="338" y="1115"/>
                    </a:lnTo>
                    <a:lnTo>
                      <a:pt x="336" y="1116"/>
                    </a:lnTo>
                    <a:lnTo>
                      <a:pt x="333" y="1116"/>
                    </a:lnTo>
                    <a:lnTo>
                      <a:pt x="327" y="1114"/>
                    </a:lnTo>
                    <a:lnTo>
                      <a:pt x="320" y="1110"/>
                    </a:lnTo>
                    <a:lnTo>
                      <a:pt x="310" y="1105"/>
                    </a:lnTo>
                    <a:lnTo>
                      <a:pt x="285" y="1089"/>
                    </a:lnTo>
                    <a:lnTo>
                      <a:pt x="251" y="1065"/>
                    </a:lnTo>
                    <a:lnTo>
                      <a:pt x="252" y="1044"/>
                    </a:lnTo>
                    <a:lnTo>
                      <a:pt x="253" y="1021"/>
                    </a:lnTo>
                    <a:lnTo>
                      <a:pt x="252" y="1000"/>
                    </a:lnTo>
                    <a:lnTo>
                      <a:pt x="252" y="979"/>
                    </a:lnTo>
                    <a:lnTo>
                      <a:pt x="250" y="959"/>
                    </a:lnTo>
                    <a:lnTo>
                      <a:pt x="248" y="938"/>
                    </a:lnTo>
                    <a:lnTo>
                      <a:pt x="246" y="918"/>
                    </a:lnTo>
                    <a:lnTo>
                      <a:pt x="242" y="897"/>
                    </a:lnTo>
                    <a:lnTo>
                      <a:pt x="238" y="877"/>
                    </a:lnTo>
                    <a:lnTo>
                      <a:pt x="234" y="858"/>
                    </a:lnTo>
                    <a:lnTo>
                      <a:pt x="230" y="838"/>
                    </a:lnTo>
                    <a:lnTo>
                      <a:pt x="224" y="819"/>
                    </a:lnTo>
                    <a:lnTo>
                      <a:pt x="218" y="800"/>
                    </a:lnTo>
                    <a:lnTo>
                      <a:pt x="212" y="782"/>
                    </a:lnTo>
                    <a:lnTo>
                      <a:pt x="204" y="763"/>
                    </a:lnTo>
                    <a:lnTo>
                      <a:pt x="196" y="745"/>
                    </a:lnTo>
                    <a:lnTo>
                      <a:pt x="204" y="747"/>
                    </a:lnTo>
                    <a:lnTo>
                      <a:pt x="215" y="750"/>
                    </a:lnTo>
                    <a:lnTo>
                      <a:pt x="228" y="752"/>
                    </a:lnTo>
                    <a:lnTo>
                      <a:pt x="241" y="755"/>
                    </a:lnTo>
                    <a:lnTo>
                      <a:pt x="262" y="760"/>
                    </a:lnTo>
                    <a:lnTo>
                      <a:pt x="278" y="764"/>
                    </a:lnTo>
                    <a:lnTo>
                      <a:pt x="292" y="767"/>
                    </a:lnTo>
                    <a:lnTo>
                      <a:pt x="301" y="770"/>
                    </a:lnTo>
                    <a:lnTo>
                      <a:pt x="366" y="763"/>
                    </a:lnTo>
                    <a:lnTo>
                      <a:pt x="426" y="755"/>
                    </a:lnTo>
                    <a:lnTo>
                      <a:pt x="479" y="747"/>
                    </a:lnTo>
                    <a:lnTo>
                      <a:pt x="525" y="737"/>
                    </a:lnTo>
                    <a:lnTo>
                      <a:pt x="545" y="732"/>
                    </a:lnTo>
                    <a:lnTo>
                      <a:pt x="566" y="727"/>
                    </a:lnTo>
                    <a:lnTo>
                      <a:pt x="582" y="722"/>
                    </a:lnTo>
                    <a:lnTo>
                      <a:pt x="598" y="715"/>
                    </a:lnTo>
                    <a:lnTo>
                      <a:pt x="613" y="710"/>
                    </a:lnTo>
                    <a:lnTo>
                      <a:pt x="626" y="704"/>
                    </a:lnTo>
                    <a:lnTo>
                      <a:pt x="636" y="697"/>
                    </a:lnTo>
                    <a:lnTo>
                      <a:pt x="646" y="690"/>
                    </a:lnTo>
                    <a:lnTo>
                      <a:pt x="664" y="704"/>
                    </a:lnTo>
                    <a:lnTo>
                      <a:pt x="683" y="716"/>
                    </a:lnTo>
                    <a:lnTo>
                      <a:pt x="703" y="728"/>
                    </a:lnTo>
                    <a:lnTo>
                      <a:pt x="727" y="739"/>
                    </a:lnTo>
                    <a:lnTo>
                      <a:pt x="751" y="749"/>
                    </a:lnTo>
                    <a:lnTo>
                      <a:pt x="777" y="759"/>
                    </a:lnTo>
                    <a:lnTo>
                      <a:pt x="806" y="767"/>
                    </a:lnTo>
                    <a:lnTo>
                      <a:pt x="837" y="776"/>
                    </a:lnTo>
                    <a:lnTo>
                      <a:pt x="828" y="781"/>
                    </a:lnTo>
                    <a:lnTo>
                      <a:pt x="819" y="788"/>
                    </a:lnTo>
                    <a:lnTo>
                      <a:pt x="811" y="796"/>
                    </a:lnTo>
                    <a:lnTo>
                      <a:pt x="803" y="803"/>
                    </a:lnTo>
                    <a:lnTo>
                      <a:pt x="794" y="813"/>
                    </a:lnTo>
                    <a:lnTo>
                      <a:pt x="787" y="822"/>
                    </a:lnTo>
                    <a:lnTo>
                      <a:pt x="778" y="833"/>
                    </a:lnTo>
                    <a:lnTo>
                      <a:pt x="771" y="843"/>
                    </a:lnTo>
                    <a:lnTo>
                      <a:pt x="756" y="869"/>
                    </a:lnTo>
                    <a:lnTo>
                      <a:pt x="742" y="896"/>
                    </a:lnTo>
                    <a:lnTo>
                      <a:pt x="730" y="927"/>
                    </a:lnTo>
                    <a:lnTo>
                      <a:pt x="717" y="960"/>
                    </a:lnTo>
                    <a:lnTo>
                      <a:pt x="731" y="975"/>
                    </a:lnTo>
                    <a:lnTo>
                      <a:pt x="743" y="989"/>
                    </a:lnTo>
                    <a:lnTo>
                      <a:pt x="756" y="1002"/>
                    </a:lnTo>
                    <a:lnTo>
                      <a:pt x="767" y="1015"/>
                    </a:lnTo>
                    <a:close/>
                    <a:moveTo>
                      <a:pt x="546" y="289"/>
                    </a:moveTo>
                    <a:lnTo>
                      <a:pt x="559" y="298"/>
                    </a:lnTo>
                    <a:lnTo>
                      <a:pt x="572" y="305"/>
                    </a:lnTo>
                    <a:lnTo>
                      <a:pt x="586" y="313"/>
                    </a:lnTo>
                    <a:lnTo>
                      <a:pt x="598" y="319"/>
                    </a:lnTo>
                    <a:lnTo>
                      <a:pt x="613" y="324"/>
                    </a:lnTo>
                    <a:lnTo>
                      <a:pt x="627" y="328"/>
                    </a:lnTo>
                    <a:lnTo>
                      <a:pt x="642" y="332"/>
                    </a:lnTo>
                    <a:lnTo>
                      <a:pt x="657" y="335"/>
                    </a:lnTo>
                    <a:lnTo>
                      <a:pt x="642" y="351"/>
                    </a:lnTo>
                    <a:lnTo>
                      <a:pt x="629" y="368"/>
                    </a:lnTo>
                    <a:lnTo>
                      <a:pt x="617" y="386"/>
                    </a:lnTo>
                    <a:lnTo>
                      <a:pt x="607" y="405"/>
                    </a:lnTo>
                    <a:lnTo>
                      <a:pt x="614" y="410"/>
                    </a:lnTo>
                    <a:lnTo>
                      <a:pt x="624" y="417"/>
                    </a:lnTo>
                    <a:lnTo>
                      <a:pt x="634" y="426"/>
                    </a:lnTo>
                    <a:lnTo>
                      <a:pt x="646" y="434"/>
                    </a:lnTo>
                    <a:lnTo>
                      <a:pt x="683" y="459"/>
                    </a:lnTo>
                    <a:lnTo>
                      <a:pt x="718" y="480"/>
                    </a:lnTo>
                    <a:lnTo>
                      <a:pt x="751" y="499"/>
                    </a:lnTo>
                    <a:lnTo>
                      <a:pt x="782" y="516"/>
                    </a:lnTo>
                    <a:lnTo>
                      <a:pt x="810" y="531"/>
                    </a:lnTo>
                    <a:lnTo>
                      <a:pt x="838" y="542"/>
                    </a:lnTo>
                    <a:lnTo>
                      <a:pt x="863" y="552"/>
                    </a:lnTo>
                    <a:lnTo>
                      <a:pt x="886" y="559"/>
                    </a:lnTo>
                    <a:lnTo>
                      <a:pt x="914" y="569"/>
                    </a:lnTo>
                    <a:lnTo>
                      <a:pt x="940" y="579"/>
                    </a:lnTo>
                    <a:lnTo>
                      <a:pt x="966" y="588"/>
                    </a:lnTo>
                    <a:lnTo>
                      <a:pt x="991" y="599"/>
                    </a:lnTo>
                    <a:lnTo>
                      <a:pt x="1016" y="609"/>
                    </a:lnTo>
                    <a:lnTo>
                      <a:pt x="1040" y="621"/>
                    </a:lnTo>
                    <a:lnTo>
                      <a:pt x="1063" y="633"/>
                    </a:lnTo>
                    <a:lnTo>
                      <a:pt x="1087" y="645"/>
                    </a:lnTo>
                    <a:lnTo>
                      <a:pt x="1097" y="650"/>
                    </a:lnTo>
                    <a:lnTo>
                      <a:pt x="1106" y="655"/>
                    </a:lnTo>
                    <a:lnTo>
                      <a:pt x="1108" y="658"/>
                    </a:lnTo>
                    <a:lnTo>
                      <a:pt x="1110" y="660"/>
                    </a:lnTo>
                    <a:lnTo>
                      <a:pt x="1111" y="662"/>
                    </a:lnTo>
                    <a:lnTo>
                      <a:pt x="1111" y="665"/>
                    </a:lnTo>
                    <a:lnTo>
                      <a:pt x="1111" y="668"/>
                    </a:lnTo>
                    <a:lnTo>
                      <a:pt x="1110" y="670"/>
                    </a:lnTo>
                    <a:lnTo>
                      <a:pt x="1108" y="672"/>
                    </a:lnTo>
                    <a:lnTo>
                      <a:pt x="1106" y="674"/>
                    </a:lnTo>
                    <a:lnTo>
                      <a:pt x="1097" y="677"/>
                    </a:lnTo>
                    <a:lnTo>
                      <a:pt x="1087" y="680"/>
                    </a:lnTo>
                    <a:lnTo>
                      <a:pt x="1075" y="682"/>
                    </a:lnTo>
                    <a:lnTo>
                      <a:pt x="1061" y="684"/>
                    </a:lnTo>
                    <a:lnTo>
                      <a:pt x="1044" y="687"/>
                    </a:lnTo>
                    <a:lnTo>
                      <a:pt x="1024" y="688"/>
                    </a:lnTo>
                    <a:lnTo>
                      <a:pt x="1001" y="689"/>
                    </a:lnTo>
                    <a:lnTo>
                      <a:pt x="975" y="690"/>
                    </a:lnTo>
                    <a:lnTo>
                      <a:pt x="948" y="690"/>
                    </a:lnTo>
                    <a:lnTo>
                      <a:pt x="916" y="690"/>
                    </a:lnTo>
                    <a:lnTo>
                      <a:pt x="898" y="690"/>
                    </a:lnTo>
                    <a:lnTo>
                      <a:pt x="881" y="688"/>
                    </a:lnTo>
                    <a:lnTo>
                      <a:pt x="865" y="686"/>
                    </a:lnTo>
                    <a:lnTo>
                      <a:pt x="850" y="682"/>
                    </a:lnTo>
                    <a:lnTo>
                      <a:pt x="837" y="678"/>
                    </a:lnTo>
                    <a:lnTo>
                      <a:pt x="824" y="673"/>
                    </a:lnTo>
                    <a:lnTo>
                      <a:pt x="812" y="668"/>
                    </a:lnTo>
                    <a:lnTo>
                      <a:pt x="802" y="660"/>
                    </a:lnTo>
                    <a:lnTo>
                      <a:pt x="782" y="644"/>
                    </a:lnTo>
                    <a:lnTo>
                      <a:pt x="756" y="621"/>
                    </a:lnTo>
                    <a:lnTo>
                      <a:pt x="727" y="591"/>
                    </a:lnTo>
                    <a:lnTo>
                      <a:pt x="692" y="555"/>
                    </a:lnTo>
                    <a:lnTo>
                      <a:pt x="659" y="520"/>
                    </a:lnTo>
                    <a:lnTo>
                      <a:pt x="629" y="491"/>
                    </a:lnTo>
                    <a:lnTo>
                      <a:pt x="604" y="467"/>
                    </a:lnTo>
                    <a:lnTo>
                      <a:pt x="581" y="449"/>
                    </a:lnTo>
                    <a:lnTo>
                      <a:pt x="557" y="491"/>
                    </a:lnTo>
                    <a:lnTo>
                      <a:pt x="533" y="529"/>
                    </a:lnTo>
                    <a:lnTo>
                      <a:pt x="508" y="564"/>
                    </a:lnTo>
                    <a:lnTo>
                      <a:pt x="484" y="597"/>
                    </a:lnTo>
                    <a:lnTo>
                      <a:pt x="471" y="611"/>
                    </a:lnTo>
                    <a:lnTo>
                      <a:pt x="459" y="625"/>
                    </a:lnTo>
                    <a:lnTo>
                      <a:pt x="446" y="639"/>
                    </a:lnTo>
                    <a:lnTo>
                      <a:pt x="433" y="652"/>
                    </a:lnTo>
                    <a:lnTo>
                      <a:pt x="420" y="663"/>
                    </a:lnTo>
                    <a:lnTo>
                      <a:pt x="408" y="675"/>
                    </a:lnTo>
                    <a:lnTo>
                      <a:pt x="394" y="686"/>
                    </a:lnTo>
                    <a:lnTo>
                      <a:pt x="381" y="695"/>
                    </a:lnTo>
                    <a:lnTo>
                      <a:pt x="371" y="701"/>
                    </a:lnTo>
                    <a:lnTo>
                      <a:pt x="360" y="707"/>
                    </a:lnTo>
                    <a:lnTo>
                      <a:pt x="349" y="711"/>
                    </a:lnTo>
                    <a:lnTo>
                      <a:pt x="339" y="715"/>
                    </a:lnTo>
                    <a:lnTo>
                      <a:pt x="327" y="717"/>
                    </a:lnTo>
                    <a:lnTo>
                      <a:pt x="317" y="718"/>
                    </a:lnTo>
                    <a:lnTo>
                      <a:pt x="306" y="719"/>
                    </a:lnTo>
                    <a:lnTo>
                      <a:pt x="295" y="718"/>
                    </a:lnTo>
                    <a:lnTo>
                      <a:pt x="284" y="717"/>
                    </a:lnTo>
                    <a:lnTo>
                      <a:pt x="273" y="715"/>
                    </a:lnTo>
                    <a:lnTo>
                      <a:pt x="262" y="712"/>
                    </a:lnTo>
                    <a:lnTo>
                      <a:pt x="251" y="707"/>
                    </a:lnTo>
                    <a:lnTo>
                      <a:pt x="239" y="701"/>
                    </a:lnTo>
                    <a:lnTo>
                      <a:pt x="229" y="695"/>
                    </a:lnTo>
                    <a:lnTo>
                      <a:pt x="217" y="689"/>
                    </a:lnTo>
                    <a:lnTo>
                      <a:pt x="206" y="680"/>
                    </a:lnTo>
                    <a:lnTo>
                      <a:pt x="231" y="671"/>
                    </a:lnTo>
                    <a:lnTo>
                      <a:pt x="255" y="661"/>
                    </a:lnTo>
                    <a:lnTo>
                      <a:pt x="277" y="650"/>
                    </a:lnTo>
                    <a:lnTo>
                      <a:pt x="301" y="638"/>
                    </a:lnTo>
                    <a:lnTo>
                      <a:pt x="322" y="625"/>
                    </a:lnTo>
                    <a:lnTo>
                      <a:pt x="343" y="611"/>
                    </a:lnTo>
                    <a:lnTo>
                      <a:pt x="363" y="597"/>
                    </a:lnTo>
                    <a:lnTo>
                      <a:pt x="382" y="581"/>
                    </a:lnTo>
                    <a:lnTo>
                      <a:pt x="401" y="565"/>
                    </a:lnTo>
                    <a:lnTo>
                      <a:pt x="419" y="548"/>
                    </a:lnTo>
                    <a:lnTo>
                      <a:pt x="436" y="530"/>
                    </a:lnTo>
                    <a:lnTo>
                      <a:pt x="453" y="510"/>
                    </a:lnTo>
                    <a:lnTo>
                      <a:pt x="469" y="491"/>
                    </a:lnTo>
                    <a:lnTo>
                      <a:pt x="484" y="469"/>
                    </a:lnTo>
                    <a:lnTo>
                      <a:pt x="498" y="447"/>
                    </a:lnTo>
                    <a:lnTo>
                      <a:pt x="512" y="425"/>
                    </a:lnTo>
                    <a:lnTo>
                      <a:pt x="521" y="406"/>
                    </a:lnTo>
                    <a:lnTo>
                      <a:pt x="528" y="388"/>
                    </a:lnTo>
                    <a:lnTo>
                      <a:pt x="535" y="371"/>
                    </a:lnTo>
                    <a:lnTo>
                      <a:pt x="540" y="354"/>
                    </a:lnTo>
                    <a:lnTo>
                      <a:pt x="543" y="337"/>
                    </a:lnTo>
                    <a:lnTo>
                      <a:pt x="546" y="321"/>
                    </a:lnTo>
                    <a:lnTo>
                      <a:pt x="546" y="305"/>
                    </a:lnTo>
                    <a:lnTo>
                      <a:pt x="546" y="289"/>
                    </a:lnTo>
                    <a:close/>
                    <a:moveTo>
                      <a:pt x="767" y="129"/>
                    </a:moveTo>
                    <a:lnTo>
                      <a:pt x="788" y="147"/>
                    </a:lnTo>
                    <a:lnTo>
                      <a:pt x="809" y="164"/>
                    </a:lnTo>
                    <a:lnTo>
                      <a:pt x="830" y="180"/>
                    </a:lnTo>
                    <a:lnTo>
                      <a:pt x="852" y="194"/>
                    </a:lnTo>
                    <a:lnTo>
                      <a:pt x="873" y="205"/>
                    </a:lnTo>
                    <a:lnTo>
                      <a:pt x="894" y="217"/>
                    </a:lnTo>
                    <a:lnTo>
                      <a:pt x="915" y="227"/>
                    </a:lnTo>
                    <a:lnTo>
                      <a:pt x="936" y="235"/>
                    </a:lnTo>
                    <a:lnTo>
                      <a:pt x="912" y="249"/>
                    </a:lnTo>
                    <a:lnTo>
                      <a:pt x="882" y="266"/>
                    </a:lnTo>
                    <a:lnTo>
                      <a:pt x="849" y="286"/>
                    </a:lnTo>
                    <a:lnTo>
                      <a:pt x="811" y="309"/>
                    </a:lnTo>
                    <a:lnTo>
                      <a:pt x="786" y="326"/>
                    </a:lnTo>
                    <a:lnTo>
                      <a:pt x="763" y="340"/>
                    </a:lnTo>
                    <a:lnTo>
                      <a:pt x="743" y="351"/>
                    </a:lnTo>
                    <a:lnTo>
                      <a:pt x="727" y="360"/>
                    </a:lnTo>
                    <a:lnTo>
                      <a:pt x="719" y="361"/>
                    </a:lnTo>
                    <a:lnTo>
                      <a:pt x="713" y="362"/>
                    </a:lnTo>
                    <a:lnTo>
                      <a:pt x="706" y="361"/>
                    </a:lnTo>
                    <a:lnTo>
                      <a:pt x="701" y="360"/>
                    </a:lnTo>
                    <a:lnTo>
                      <a:pt x="700" y="359"/>
                    </a:lnTo>
                    <a:lnTo>
                      <a:pt x="700" y="358"/>
                    </a:lnTo>
                    <a:lnTo>
                      <a:pt x="700" y="356"/>
                    </a:lnTo>
                    <a:lnTo>
                      <a:pt x="702" y="352"/>
                    </a:lnTo>
                    <a:lnTo>
                      <a:pt x="706" y="344"/>
                    </a:lnTo>
                    <a:lnTo>
                      <a:pt x="713" y="333"/>
                    </a:lnTo>
                    <a:lnTo>
                      <a:pt x="721" y="315"/>
                    </a:lnTo>
                    <a:lnTo>
                      <a:pt x="741" y="279"/>
                    </a:lnTo>
                    <a:lnTo>
                      <a:pt x="756" y="249"/>
                    </a:lnTo>
                    <a:lnTo>
                      <a:pt x="763" y="236"/>
                    </a:lnTo>
                    <a:lnTo>
                      <a:pt x="767" y="226"/>
                    </a:lnTo>
                    <a:lnTo>
                      <a:pt x="770" y="217"/>
                    </a:lnTo>
                    <a:lnTo>
                      <a:pt x="771" y="210"/>
                    </a:lnTo>
                    <a:lnTo>
                      <a:pt x="750" y="216"/>
                    </a:lnTo>
                    <a:lnTo>
                      <a:pt x="728" y="222"/>
                    </a:lnTo>
                    <a:lnTo>
                      <a:pt x="702" y="230"/>
                    </a:lnTo>
                    <a:lnTo>
                      <a:pt x="675" y="237"/>
                    </a:lnTo>
                    <a:lnTo>
                      <a:pt x="646" y="245"/>
                    </a:lnTo>
                    <a:lnTo>
                      <a:pt x="615" y="253"/>
                    </a:lnTo>
                    <a:lnTo>
                      <a:pt x="581" y="261"/>
                    </a:lnTo>
                    <a:lnTo>
                      <a:pt x="546" y="270"/>
                    </a:lnTo>
                    <a:lnTo>
                      <a:pt x="538" y="266"/>
                    </a:lnTo>
                    <a:lnTo>
                      <a:pt x="528" y="258"/>
                    </a:lnTo>
                    <a:lnTo>
                      <a:pt x="518" y="248"/>
                    </a:lnTo>
                    <a:lnTo>
                      <a:pt x="506" y="235"/>
                    </a:lnTo>
                    <a:lnTo>
                      <a:pt x="498" y="251"/>
                    </a:lnTo>
                    <a:lnTo>
                      <a:pt x="487" y="268"/>
                    </a:lnTo>
                    <a:lnTo>
                      <a:pt x="475" y="288"/>
                    </a:lnTo>
                    <a:lnTo>
                      <a:pt x="462" y="309"/>
                    </a:lnTo>
                    <a:lnTo>
                      <a:pt x="459" y="317"/>
                    </a:lnTo>
                    <a:lnTo>
                      <a:pt x="456" y="322"/>
                    </a:lnTo>
                    <a:lnTo>
                      <a:pt x="453" y="326"/>
                    </a:lnTo>
                    <a:lnTo>
                      <a:pt x="451" y="329"/>
                    </a:lnTo>
                    <a:lnTo>
                      <a:pt x="446" y="338"/>
                    </a:lnTo>
                    <a:lnTo>
                      <a:pt x="439" y="344"/>
                    </a:lnTo>
                    <a:lnTo>
                      <a:pt x="433" y="351"/>
                    </a:lnTo>
                    <a:lnTo>
                      <a:pt x="426" y="356"/>
                    </a:lnTo>
                    <a:lnTo>
                      <a:pt x="418" y="360"/>
                    </a:lnTo>
                    <a:lnTo>
                      <a:pt x="411" y="364"/>
                    </a:lnTo>
                    <a:lnTo>
                      <a:pt x="402" y="368"/>
                    </a:lnTo>
                    <a:lnTo>
                      <a:pt x="394" y="370"/>
                    </a:lnTo>
                    <a:lnTo>
                      <a:pt x="384" y="371"/>
                    </a:lnTo>
                    <a:lnTo>
                      <a:pt x="376" y="372"/>
                    </a:lnTo>
                    <a:lnTo>
                      <a:pt x="365" y="372"/>
                    </a:lnTo>
                    <a:lnTo>
                      <a:pt x="356" y="371"/>
                    </a:lnTo>
                    <a:lnTo>
                      <a:pt x="345" y="370"/>
                    </a:lnTo>
                    <a:lnTo>
                      <a:pt x="335" y="367"/>
                    </a:lnTo>
                    <a:lnTo>
                      <a:pt x="323" y="363"/>
                    </a:lnTo>
                    <a:lnTo>
                      <a:pt x="311" y="360"/>
                    </a:lnTo>
                    <a:lnTo>
                      <a:pt x="331" y="342"/>
                    </a:lnTo>
                    <a:lnTo>
                      <a:pt x="351" y="323"/>
                    </a:lnTo>
                    <a:lnTo>
                      <a:pt x="367" y="304"/>
                    </a:lnTo>
                    <a:lnTo>
                      <a:pt x="384" y="285"/>
                    </a:lnTo>
                    <a:lnTo>
                      <a:pt x="399" y="265"/>
                    </a:lnTo>
                    <a:lnTo>
                      <a:pt x="414" y="244"/>
                    </a:lnTo>
                    <a:lnTo>
                      <a:pt x="427" y="221"/>
                    </a:lnTo>
                    <a:lnTo>
                      <a:pt x="438" y="199"/>
                    </a:lnTo>
                    <a:lnTo>
                      <a:pt x="449" y="177"/>
                    </a:lnTo>
                    <a:lnTo>
                      <a:pt x="459" y="154"/>
                    </a:lnTo>
                    <a:lnTo>
                      <a:pt x="467" y="129"/>
                    </a:lnTo>
                    <a:lnTo>
                      <a:pt x="474" y="105"/>
                    </a:lnTo>
                    <a:lnTo>
                      <a:pt x="481" y="79"/>
                    </a:lnTo>
                    <a:lnTo>
                      <a:pt x="485" y="53"/>
                    </a:lnTo>
                    <a:lnTo>
                      <a:pt x="489" y="26"/>
                    </a:lnTo>
                    <a:lnTo>
                      <a:pt x="491" y="0"/>
                    </a:lnTo>
                    <a:lnTo>
                      <a:pt x="506" y="8"/>
                    </a:lnTo>
                    <a:lnTo>
                      <a:pt x="521" y="17"/>
                    </a:lnTo>
                    <a:lnTo>
                      <a:pt x="536" y="24"/>
                    </a:lnTo>
                    <a:lnTo>
                      <a:pt x="550" y="30"/>
                    </a:lnTo>
                    <a:lnTo>
                      <a:pt x="564" y="34"/>
                    </a:lnTo>
                    <a:lnTo>
                      <a:pt x="578" y="37"/>
                    </a:lnTo>
                    <a:lnTo>
                      <a:pt x="592" y="39"/>
                    </a:lnTo>
                    <a:lnTo>
                      <a:pt x="607" y="39"/>
                    </a:lnTo>
                    <a:lnTo>
                      <a:pt x="600" y="45"/>
                    </a:lnTo>
                    <a:lnTo>
                      <a:pt x="593" y="53"/>
                    </a:lnTo>
                    <a:lnTo>
                      <a:pt x="587" y="62"/>
                    </a:lnTo>
                    <a:lnTo>
                      <a:pt x="580" y="74"/>
                    </a:lnTo>
                    <a:lnTo>
                      <a:pt x="573" y="88"/>
                    </a:lnTo>
                    <a:lnTo>
                      <a:pt x="566" y="103"/>
                    </a:lnTo>
                    <a:lnTo>
                      <a:pt x="559" y="121"/>
                    </a:lnTo>
                    <a:lnTo>
                      <a:pt x="552" y="140"/>
                    </a:lnTo>
                    <a:lnTo>
                      <a:pt x="549" y="145"/>
                    </a:lnTo>
                    <a:lnTo>
                      <a:pt x="545" y="154"/>
                    </a:lnTo>
                    <a:lnTo>
                      <a:pt x="541" y="163"/>
                    </a:lnTo>
                    <a:lnTo>
                      <a:pt x="536" y="175"/>
                    </a:lnTo>
                    <a:lnTo>
                      <a:pt x="530" y="186"/>
                    </a:lnTo>
                    <a:lnTo>
                      <a:pt x="524" y="197"/>
                    </a:lnTo>
                    <a:lnTo>
                      <a:pt x="520" y="207"/>
                    </a:lnTo>
                    <a:lnTo>
                      <a:pt x="517" y="215"/>
                    </a:lnTo>
                    <a:lnTo>
                      <a:pt x="563" y="207"/>
                    </a:lnTo>
                    <a:lnTo>
                      <a:pt x="605" y="198"/>
                    </a:lnTo>
                    <a:lnTo>
                      <a:pt x="643" y="189"/>
                    </a:lnTo>
                    <a:lnTo>
                      <a:pt x="677" y="178"/>
                    </a:lnTo>
                    <a:lnTo>
                      <a:pt x="692" y="173"/>
                    </a:lnTo>
                    <a:lnTo>
                      <a:pt x="705" y="167"/>
                    </a:lnTo>
                    <a:lnTo>
                      <a:pt x="718" y="161"/>
                    </a:lnTo>
                    <a:lnTo>
                      <a:pt x="730" y="156"/>
                    </a:lnTo>
                    <a:lnTo>
                      <a:pt x="740" y="149"/>
                    </a:lnTo>
                    <a:lnTo>
                      <a:pt x="751" y="143"/>
                    </a:lnTo>
                    <a:lnTo>
                      <a:pt x="759" y="137"/>
                    </a:lnTo>
                    <a:lnTo>
                      <a:pt x="767" y="129"/>
                    </a:lnTo>
                    <a:close/>
                    <a:moveTo>
                      <a:pt x="317" y="830"/>
                    </a:moveTo>
                    <a:lnTo>
                      <a:pt x="320" y="855"/>
                    </a:lnTo>
                    <a:lnTo>
                      <a:pt x="323" y="878"/>
                    </a:lnTo>
                    <a:lnTo>
                      <a:pt x="325" y="902"/>
                    </a:lnTo>
                    <a:lnTo>
                      <a:pt x="327" y="924"/>
                    </a:lnTo>
                    <a:lnTo>
                      <a:pt x="329" y="945"/>
                    </a:lnTo>
                    <a:lnTo>
                      <a:pt x="330" y="966"/>
                    </a:lnTo>
                    <a:lnTo>
                      <a:pt x="331" y="987"/>
                    </a:lnTo>
                    <a:lnTo>
                      <a:pt x="331" y="1006"/>
                    </a:lnTo>
                    <a:lnTo>
                      <a:pt x="346" y="1003"/>
                    </a:lnTo>
                    <a:lnTo>
                      <a:pt x="364" y="1001"/>
                    </a:lnTo>
                    <a:lnTo>
                      <a:pt x="385" y="999"/>
                    </a:lnTo>
                    <a:lnTo>
                      <a:pt x="409" y="996"/>
                    </a:lnTo>
                    <a:lnTo>
                      <a:pt x="435" y="993"/>
                    </a:lnTo>
                    <a:lnTo>
                      <a:pt x="464" y="990"/>
                    </a:lnTo>
                    <a:lnTo>
                      <a:pt x="497" y="985"/>
                    </a:lnTo>
                    <a:lnTo>
                      <a:pt x="532" y="980"/>
                    </a:lnTo>
                    <a:lnTo>
                      <a:pt x="563" y="976"/>
                    </a:lnTo>
                    <a:lnTo>
                      <a:pt x="590" y="972"/>
                    </a:lnTo>
                    <a:lnTo>
                      <a:pt x="611" y="968"/>
                    </a:lnTo>
                    <a:lnTo>
                      <a:pt x="626" y="965"/>
                    </a:lnTo>
                    <a:lnTo>
                      <a:pt x="629" y="946"/>
                    </a:lnTo>
                    <a:lnTo>
                      <a:pt x="632" y="925"/>
                    </a:lnTo>
                    <a:lnTo>
                      <a:pt x="636" y="902"/>
                    </a:lnTo>
                    <a:lnTo>
                      <a:pt x="642" y="875"/>
                    </a:lnTo>
                    <a:lnTo>
                      <a:pt x="646" y="855"/>
                    </a:lnTo>
                    <a:lnTo>
                      <a:pt x="649" y="838"/>
                    </a:lnTo>
                    <a:lnTo>
                      <a:pt x="651" y="823"/>
                    </a:lnTo>
                    <a:lnTo>
                      <a:pt x="652" y="812"/>
                    </a:lnTo>
                    <a:lnTo>
                      <a:pt x="652" y="802"/>
                    </a:lnTo>
                    <a:lnTo>
                      <a:pt x="651" y="796"/>
                    </a:lnTo>
                    <a:lnTo>
                      <a:pt x="650" y="793"/>
                    </a:lnTo>
                    <a:lnTo>
                      <a:pt x="649" y="792"/>
                    </a:lnTo>
                    <a:lnTo>
                      <a:pt x="648" y="790"/>
                    </a:lnTo>
                    <a:lnTo>
                      <a:pt x="646" y="790"/>
                    </a:lnTo>
                    <a:lnTo>
                      <a:pt x="642" y="789"/>
                    </a:lnTo>
                    <a:lnTo>
                      <a:pt x="635" y="788"/>
                    </a:lnTo>
                    <a:lnTo>
                      <a:pt x="627" y="788"/>
                    </a:lnTo>
                    <a:lnTo>
                      <a:pt x="616" y="788"/>
                    </a:lnTo>
                    <a:lnTo>
                      <a:pt x="588" y="792"/>
                    </a:lnTo>
                    <a:lnTo>
                      <a:pt x="552" y="795"/>
                    </a:lnTo>
                    <a:lnTo>
                      <a:pt x="506" y="801"/>
                    </a:lnTo>
                    <a:lnTo>
                      <a:pt x="451" y="808"/>
                    </a:lnTo>
                    <a:lnTo>
                      <a:pt x="389" y="819"/>
                    </a:lnTo>
                    <a:lnTo>
                      <a:pt x="317" y="830"/>
                    </a:lnTo>
                    <a:close/>
                    <a:moveTo>
                      <a:pt x="71" y="705"/>
                    </a:moveTo>
                    <a:lnTo>
                      <a:pt x="60" y="689"/>
                    </a:lnTo>
                    <a:lnTo>
                      <a:pt x="47" y="669"/>
                    </a:lnTo>
                    <a:lnTo>
                      <a:pt x="30" y="646"/>
                    </a:lnTo>
                    <a:lnTo>
                      <a:pt x="12" y="620"/>
                    </a:lnTo>
                    <a:lnTo>
                      <a:pt x="7" y="617"/>
                    </a:lnTo>
                    <a:lnTo>
                      <a:pt x="6" y="615"/>
                    </a:lnTo>
                    <a:lnTo>
                      <a:pt x="3" y="610"/>
                    </a:lnTo>
                    <a:lnTo>
                      <a:pt x="1" y="606"/>
                    </a:lnTo>
                    <a:lnTo>
                      <a:pt x="0" y="602"/>
                    </a:lnTo>
                    <a:lnTo>
                      <a:pt x="0" y="599"/>
                    </a:lnTo>
                    <a:lnTo>
                      <a:pt x="1" y="595"/>
                    </a:lnTo>
                    <a:lnTo>
                      <a:pt x="3" y="593"/>
                    </a:lnTo>
                    <a:lnTo>
                      <a:pt x="6" y="591"/>
                    </a:lnTo>
                    <a:lnTo>
                      <a:pt x="12" y="590"/>
                    </a:lnTo>
                    <a:lnTo>
                      <a:pt x="53" y="573"/>
                    </a:lnTo>
                    <a:lnTo>
                      <a:pt x="94" y="555"/>
                    </a:lnTo>
                    <a:lnTo>
                      <a:pt x="137" y="535"/>
                    </a:lnTo>
                    <a:lnTo>
                      <a:pt x="179" y="515"/>
                    </a:lnTo>
                    <a:lnTo>
                      <a:pt x="221" y="493"/>
                    </a:lnTo>
                    <a:lnTo>
                      <a:pt x="265" y="469"/>
                    </a:lnTo>
                    <a:lnTo>
                      <a:pt x="308" y="445"/>
                    </a:lnTo>
                    <a:lnTo>
                      <a:pt x="352" y="420"/>
                    </a:lnTo>
                    <a:lnTo>
                      <a:pt x="357" y="418"/>
                    </a:lnTo>
                    <a:lnTo>
                      <a:pt x="362" y="420"/>
                    </a:lnTo>
                    <a:lnTo>
                      <a:pt x="365" y="421"/>
                    </a:lnTo>
                    <a:lnTo>
                      <a:pt x="369" y="423"/>
                    </a:lnTo>
                    <a:lnTo>
                      <a:pt x="371" y="425"/>
                    </a:lnTo>
                    <a:lnTo>
                      <a:pt x="372" y="429"/>
                    </a:lnTo>
                    <a:lnTo>
                      <a:pt x="372" y="434"/>
                    </a:lnTo>
                    <a:lnTo>
                      <a:pt x="372" y="440"/>
                    </a:lnTo>
                    <a:lnTo>
                      <a:pt x="354" y="455"/>
                    </a:lnTo>
                    <a:lnTo>
                      <a:pt x="331" y="475"/>
                    </a:lnTo>
                    <a:lnTo>
                      <a:pt x="304" y="500"/>
                    </a:lnTo>
                    <a:lnTo>
                      <a:pt x="271" y="530"/>
                    </a:lnTo>
                    <a:lnTo>
                      <a:pt x="234" y="564"/>
                    </a:lnTo>
                    <a:lnTo>
                      <a:pt x="200" y="593"/>
                    </a:lnTo>
                    <a:lnTo>
                      <a:pt x="170" y="620"/>
                    </a:lnTo>
                    <a:lnTo>
                      <a:pt x="144" y="643"/>
                    </a:lnTo>
                    <a:lnTo>
                      <a:pt x="121" y="664"/>
                    </a:lnTo>
                    <a:lnTo>
                      <a:pt x="101" y="681"/>
                    </a:lnTo>
                    <a:lnTo>
                      <a:pt x="85" y="695"/>
                    </a:lnTo>
                    <a:lnTo>
                      <a:pt x="71" y="705"/>
                    </a:lnTo>
                    <a:close/>
                    <a:moveTo>
                      <a:pt x="111" y="195"/>
                    </a:moveTo>
                    <a:lnTo>
                      <a:pt x="143" y="200"/>
                    </a:lnTo>
                    <a:lnTo>
                      <a:pt x="172" y="207"/>
                    </a:lnTo>
                    <a:lnTo>
                      <a:pt x="197" y="212"/>
                    </a:lnTo>
                    <a:lnTo>
                      <a:pt x="219" y="217"/>
                    </a:lnTo>
                    <a:lnTo>
                      <a:pt x="237" y="222"/>
                    </a:lnTo>
                    <a:lnTo>
                      <a:pt x="252" y="227"/>
                    </a:lnTo>
                    <a:lnTo>
                      <a:pt x="264" y="231"/>
                    </a:lnTo>
                    <a:lnTo>
                      <a:pt x="271" y="235"/>
                    </a:lnTo>
                    <a:lnTo>
                      <a:pt x="273" y="242"/>
                    </a:lnTo>
                    <a:lnTo>
                      <a:pt x="275" y="250"/>
                    </a:lnTo>
                    <a:lnTo>
                      <a:pt x="276" y="261"/>
                    </a:lnTo>
                    <a:lnTo>
                      <a:pt x="277" y="272"/>
                    </a:lnTo>
                    <a:lnTo>
                      <a:pt x="277" y="300"/>
                    </a:lnTo>
                    <a:lnTo>
                      <a:pt x="276" y="335"/>
                    </a:lnTo>
                    <a:lnTo>
                      <a:pt x="274" y="341"/>
                    </a:lnTo>
                    <a:lnTo>
                      <a:pt x="272" y="346"/>
                    </a:lnTo>
                    <a:lnTo>
                      <a:pt x="269" y="351"/>
                    </a:lnTo>
                    <a:lnTo>
                      <a:pt x="265" y="352"/>
                    </a:lnTo>
                    <a:lnTo>
                      <a:pt x="260" y="353"/>
                    </a:lnTo>
                    <a:lnTo>
                      <a:pt x="255" y="352"/>
                    </a:lnTo>
                    <a:lnTo>
                      <a:pt x="249" y="349"/>
                    </a:lnTo>
                    <a:lnTo>
                      <a:pt x="241" y="344"/>
                    </a:lnTo>
                    <a:lnTo>
                      <a:pt x="227" y="336"/>
                    </a:lnTo>
                    <a:lnTo>
                      <a:pt x="212" y="325"/>
                    </a:lnTo>
                    <a:lnTo>
                      <a:pt x="196" y="313"/>
                    </a:lnTo>
                    <a:lnTo>
                      <a:pt x="179" y="299"/>
                    </a:lnTo>
                    <a:lnTo>
                      <a:pt x="161" y="282"/>
                    </a:lnTo>
                    <a:lnTo>
                      <a:pt x="142" y="263"/>
                    </a:lnTo>
                    <a:lnTo>
                      <a:pt x="122" y="243"/>
                    </a:lnTo>
                    <a:lnTo>
                      <a:pt x="102" y="219"/>
                    </a:lnTo>
                    <a:lnTo>
                      <a:pt x="97" y="213"/>
                    </a:lnTo>
                    <a:lnTo>
                      <a:pt x="94" y="207"/>
                    </a:lnTo>
                    <a:lnTo>
                      <a:pt x="92" y="202"/>
                    </a:lnTo>
                    <a:lnTo>
                      <a:pt x="91" y="200"/>
                    </a:lnTo>
                    <a:lnTo>
                      <a:pt x="93" y="197"/>
                    </a:lnTo>
                    <a:lnTo>
                      <a:pt x="94" y="196"/>
                    </a:lnTo>
                    <a:lnTo>
                      <a:pt x="96" y="194"/>
                    </a:lnTo>
                    <a:lnTo>
                      <a:pt x="98" y="193"/>
                    </a:lnTo>
                    <a:lnTo>
                      <a:pt x="105" y="193"/>
                    </a:lnTo>
                    <a:lnTo>
                      <a:pt x="111" y="195"/>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653" name="Freeform 20"/>
              <p:cNvSpPr/>
              <p:nvPr/>
            </p:nvSpPr>
            <p:spPr>
              <a:xfrm>
                <a:off x="2121120" y="1289520"/>
                <a:ext cx="166680" cy="154080"/>
              </a:xfrm>
              <a:custGeom>
                <a:avLst/>
                <a:gdLst>
                  <a:gd name="textAreaLeft" fmla="*/ 0 w 166680"/>
                  <a:gd name="textAreaRight" fmla="*/ 167040 w 166680"/>
                  <a:gd name="textAreaTop" fmla="*/ 0 h 154080"/>
                  <a:gd name="textAreaBottom" fmla="*/ 154440 h 154080"/>
                </a:gdLst>
                <a:ahLst/>
                <a:rect l="textAreaLeft" t="textAreaTop" r="textAreaRight" b="textAreaBottom"/>
                <a:pathLst>
                  <a:path w="1116" h="1113">
                    <a:moveTo>
                      <a:pt x="706" y="0"/>
                    </a:moveTo>
                    <a:lnTo>
                      <a:pt x="715" y="10"/>
                    </a:lnTo>
                    <a:lnTo>
                      <a:pt x="727" y="18"/>
                    </a:lnTo>
                    <a:lnTo>
                      <a:pt x="740" y="27"/>
                    </a:lnTo>
                    <a:lnTo>
                      <a:pt x="754" y="34"/>
                    </a:lnTo>
                    <a:lnTo>
                      <a:pt x="771" y="42"/>
                    </a:lnTo>
                    <a:lnTo>
                      <a:pt x="789" y="50"/>
                    </a:lnTo>
                    <a:lnTo>
                      <a:pt x="809" y="58"/>
                    </a:lnTo>
                    <a:lnTo>
                      <a:pt x="831" y="66"/>
                    </a:lnTo>
                    <a:lnTo>
                      <a:pt x="821" y="72"/>
                    </a:lnTo>
                    <a:lnTo>
                      <a:pt x="812" y="82"/>
                    </a:lnTo>
                    <a:lnTo>
                      <a:pt x="801" y="91"/>
                    </a:lnTo>
                    <a:lnTo>
                      <a:pt x="793" y="103"/>
                    </a:lnTo>
                    <a:lnTo>
                      <a:pt x="783" y="117"/>
                    </a:lnTo>
                    <a:lnTo>
                      <a:pt x="773" y="131"/>
                    </a:lnTo>
                    <a:lnTo>
                      <a:pt x="765" y="147"/>
                    </a:lnTo>
                    <a:lnTo>
                      <a:pt x="755" y="165"/>
                    </a:lnTo>
                    <a:lnTo>
                      <a:pt x="742" y="193"/>
                    </a:lnTo>
                    <a:lnTo>
                      <a:pt x="725" y="225"/>
                    </a:lnTo>
                    <a:lnTo>
                      <a:pt x="705" y="261"/>
                    </a:lnTo>
                    <a:lnTo>
                      <a:pt x="680" y="301"/>
                    </a:lnTo>
                    <a:lnTo>
                      <a:pt x="672" y="313"/>
                    </a:lnTo>
                    <a:lnTo>
                      <a:pt x="664" y="322"/>
                    </a:lnTo>
                    <a:lnTo>
                      <a:pt x="659" y="330"/>
                    </a:lnTo>
                    <a:lnTo>
                      <a:pt x="656" y="336"/>
                    </a:lnTo>
                    <a:lnTo>
                      <a:pt x="710" y="332"/>
                    </a:lnTo>
                    <a:lnTo>
                      <a:pt x="760" y="326"/>
                    </a:lnTo>
                    <a:lnTo>
                      <a:pt x="805" y="320"/>
                    </a:lnTo>
                    <a:lnTo>
                      <a:pt x="847" y="312"/>
                    </a:lnTo>
                    <a:lnTo>
                      <a:pt x="867" y="307"/>
                    </a:lnTo>
                    <a:lnTo>
                      <a:pt x="885" y="303"/>
                    </a:lnTo>
                    <a:lnTo>
                      <a:pt x="902" y="299"/>
                    </a:lnTo>
                    <a:lnTo>
                      <a:pt x="918" y="294"/>
                    </a:lnTo>
                    <a:lnTo>
                      <a:pt x="932" y="288"/>
                    </a:lnTo>
                    <a:lnTo>
                      <a:pt x="946" y="283"/>
                    </a:lnTo>
                    <a:lnTo>
                      <a:pt x="959" y="277"/>
                    </a:lnTo>
                    <a:lnTo>
                      <a:pt x="970" y="270"/>
                    </a:lnTo>
                    <a:lnTo>
                      <a:pt x="985" y="285"/>
                    </a:lnTo>
                    <a:lnTo>
                      <a:pt x="1000" y="297"/>
                    </a:lnTo>
                    <a:lnTo>
                      <a:pt x="1017" y="308"/>
                    </a:lnTo>
                    <a:lnTo>
                      <a:pt x="1035" y="317"/>
                    </a:lnTo>
                    <a:lnTo>
                      <a:pt x="1053" y="324"/>
                    </a:lnTo>
                    <a:lnTo>
                      <a:pt x="1073" y="330"/>
                    </a:lnTo>
                    <a:lnTo>
                      <a:pt x="1094" y="334"/>
                    </a:lnTo>
                    <a:lnTo>
                      <a:pt x="1116" y="336"/>
                    </a:lnTo>
                    <a:lnTo>
                      <a:pt x="1110" y="343"/>
                    </a:lnTo>
                    <a:lnTo>
                      <a:pt x="1104" y="352"/>
                    </a:lnTo>
                    <a:lnTo>
                      <a:pt x="1099" y="361"/>
                    </a:lnTo>
                    <a:lnTo>
                      <a:pt x="1093" y="372"/>
                    </a:lnTo>
                    <a:lnTo>
                      <a:pt x="1089" y="385"/>
                    </a:lnTo>
                    <a:lnTo>
                      <a:pt x="1085" y="397"/>
                    </a:lnTo>
                    <a:lnTo>
                      <a:pt x="1081" y="411"/>
                    </a:lnTo>
                    <a:lnTo>
                      <a:pt x="1077" y="427"/>
                    </a:lnTo>
                    <a:lnTo>
                      <a:pt x="1071" y="461"/>
                    </a:lnTo>
                    <a:lnTo>
                      <a:pt x="1066" y="500"/>
                    </a:lnTo>
                    <a:lnTo>
                      <a:pt x="1063" y="543"/>
                    </a:lnTo>
                    <a:lnTo>
                      <a:pt x="1061" y="591"/>
                    </a:lnTo>
                    <a:lnTo>
                      <a:pt x="1059" y="609"/>
                    </a:lnTo>
                    <a:lnTo>
                      <a:pt x="1058" y="631"/>
                    </a:lnTo>
                    <a:lnTo>
                      <a:pt x="1057" y="653"/>
                    </a:lnTo>
                    <a:lnTo>
                      <a:pt x="1056" y="678"/>
                    </a:lnTo>
                    <a:lnTo>
                      <a:pt x="1054" y="706"/>
                    </a:lnTo>
                    <a:lnTo>
                      <a:pt x="1053" y="735"/>
                    </a:lnTo>
                    <a:lnTo>
                      <a:pt x="1052" y="767"/>
                    </a:lnTo>
                    <a:lnTo>
                      <a:pt x="1051" y="801"/>
                    </a:lnTo>
                    <a:lnTo>
                      <a:pt x="1047" y="879"/>
                    </a:lnTo>
                    <a:lnTo>
                      <a:pt x="1044" y="944"/>
                    </a:lnTo>
                    <a:lnTo>
                      <a:pt x="1039" y="999"/>
                    </a:lnTo>
                    <a:lnTo>
                      <a:pt x="1036" y="1044"/>
                    </a:lnTo>
                    <a:lnTo>
                      <a:pt x="1032" y="1077"/>
                    </a:lnTo>
                    <a:lnTo>
                      <a:pt x="1029" y="1099"/>
                    </a:lnTo>
                    <a:lnTo>
                      <a:pt x="1027" y="1106"/>
                    </a:lnTo>
                    <a:lnTo>
                      <a:pt x="1024" y="1111"/>
                    </a:lnTo>
                    <a:lnTo>
                      <a:pt x="1023" y="1112"/>
                    </a:lnTo>
                    <a:lnTo>
                      <a:pt x="1022" y="1113"/>
                    </a:lnTo>
                    <a:lnTo>
                      <a:pt x="1021" y="1113"/>
                    </a:lnTo>
                    <a:lnTo>
                      <a:pt x="1021" y="1112"/>
                    </a:lnTo>
                    <a:lnTo>
                      <a:pt x="1011" y="1111"/>
                    </a:lnTo>
                    <a:lnTo>
                      <a:pt x="1001" y="1110"/>
                    </a:lnTo>
                    <a:lnTo>
                      <a:pt x="990" y="1106"/>
                    </a:lnTo>
                    <a:lnTo>
                      <a:pt x="978" y="1103"/>
                    </a:lnTo>
                    <a:lnTo>
                      <a:pt x="965" y="1099"/>
                    </a:lnTo>
                    <a:lnTo>
                      <a:pt x="951" y="1093"/>
                    </a:lnTo>
                    <a:lnTo>
                      <a:pt x="938" y="1086"/>
                    </a:lnTo>
                    <a:lnTo>
                      <a:pt x="924" y="1079"/>
                    </a:lnTo>
                    <a:lnTo>
                      <a:pt x="892" y="1061"/>
                    </a:lnTo>
                    <a:lnTo>
                      <a:pt x="858" y="1039"/>
                    </a:lnTo>
                    <a:lnTo>
                      <a:pt x="821" y="1012"/>
                    </a:lnTo>
                    <a:lnTo>
                      <a:pt x="781" y="981"/>
                    </a:lnTo>
                    <a:lnTo>
                      <a:pt x="775" y="972"/>
                    </a:lnTo>
                    <a:lnTo>
                      <a:pt x="769" y="965"/>
                    </a:lnTo>
                    <a:lnTo>
                      <a:pt x="767" y="960"/>
                    </a:lnTo>
                    <a:lnTo>
                      <a:pt x="766" y="956"/>
                    </a:lnTo>
                    <a:lnTo>
                      <a:pt x="767" y="954"/>
                    </a:lnTo>
                    <a:lnTo>
                      <a:pt x="769" y="952"/>
                    </a:lnTo>
                    <a:lnTo>
                      <a:pt x="772" y="951"/>
                    </a:lnTo>
                    <a:lnTo>
                      <a:pt x="776" y="950"/>
                    </a:lnTo>
                    <a:lnTo>
                      <a:pt x="784" y="950"/>
                    </a:lnTo>
                    <a:lnTo>
                      <a:pt x="796" y="952"/>
                    </a:lnTo>
                    <a:lnTo>
                      <a:pt x="818" y="954"/>
                    </a:lnTo>
                    <a:lnTo>
                      <a:pt x="843" y="955"/>
                    </a:lnTo>
                    <a:lnTo>
                      <a:pt x="873" y="956"/>
                    </a:lnTo>
                    <a:lnTo>
                      <a:pt x="906" y="956"/>
                    </a:lnTo>
                    <a:lnTo>
                      <a:pt x="914" y="955"/>
                    </a:lnTo>
                    <a:lnTo>
                      <a:pt x="921" y="952"/>
                    </a:lnTo>
                    <a:lnTo>
                      <a:pt x="927" y="948"/>
                    </a:lnTo>
                    <a:lnTo>
                      <a:pt x="932" y="944"/>
                    </a:lnTo>
                    <a:lnTo>
                      <a:pt x="936" y="938"/>
                    </a:lnTo>
                    <a:lnTo>
                      <a:pt x="939" y="932"/>
                    </a:lnTo>
                    <a:lnTo>
                      <a:pt x="940" y="924"/>
                    </a:lnTo>
                    <a:lnTo>
                      <a:pt x="941" y="917"/>
                    </a:lnTo>
                    <a:lnTo>
                      <a:pt x="943" y="891"/>
                    </a:lnTo>
                    <a:lnTo>
                      <a:pt x="946" y="859"/>
                    </a:lnTo>
                    <a:lnTo>
                      <a:pt x="949" y="820"/>
                    </a:lnTo>
                    <a:lnTo>
                      <a:pt x="952" y="774"/>
                    </a:lnTo>
                    <a:lnTo>
                      <a:pt x="956" y="720"/>
                    </a:lnTo>
                    <a:lnTo>
                      <a:pt x="959" y="659"/>
                    </a:lnTo>
                    <a:lnTo>
                      <a:pt x="962" y="591"/>
                    </a:lnTo>
                    <a:lnTo>
                      <a:pt x="966" y="516"/>
                    </a:lnTo>
                    <a:lnTo>
                      <a:pt x="968" y="469"/>
                    </a:lnTo>
                    <a:lnTo>
                      <a:pt x="970" y="429"/>
                    </a:lnTo>
                    <a:lnTo>
                      <a:pt x="974" y="396"/>
                    </a:lnTo>
                    <a:lnTo>
                      <a:pt x="976" y="371"/>
                    </a:lnTo>
                    <a:lnTo>
                      <a:pt x="977" y="366"/>
                    </a:lnTo>
                    <a:lnTo>
                      <a:pt x="977" y="362"/>
                    </a:lnTo>
                    <a:lnTo>
                      <a:pt x="976" y="359"/>
                    </a:lnTo>
                    <a:lnTo>
                      <a:pt x="975" y="357"/>
                    </a:lnTo>
                    <a:lnTo>
                      <a:pt x="973" y="355"/>
                    </a:lnTo>
                    <a:lnTo>
                      <a:pt x="969" y="355"/>
                    </a:lnTo>
                    <a:lnTo>
                      <a:pt x="965" y="355"/>
                    </a:lnTo>
                    <a:lnTo>
                      <a:pt x="961" y="356"/>
                    </a:lnTo>
                    <a:lnTo>
                      <a:pt x="932" y="358"/>
                    </a:lnTo>
                    <a:lnTo>
                      <a:pt x="903" y="362"/>
                    </a:lnTo>
                    <a:lnTo>
                      <a:pt x="871" y="367"/>
                    </a:lnTo>
                    <a:lnTo>
                      <a:pt x="838" y="372"/>
                    </a:lnTo>
                    <a:lnTo>
                      <a:pt x="804" y="378"/>
                    </a:lnTo>
                    <a:lnTo>
                      <a:pt x="767" y="385"/>
                    </a:lnTo>
                    <a:lnTo>
                      <a:pt x="730" y="392"/>
                    </a:lnTo>
                    <a:lnTo>
                      <a:pt x="691" y="401"/>
                    </a:lnTo>
                    <a:lnTo>
                      <a:pt x="682" y="394"/>
                    </a:lnTo>
                    <a:lnTo>
                      <a:pt x="671" y="385"/>
                    </a:lnTo>
                    <a:lnTo>
                      <a:pt x="657" y="372"/>
                    </a:lnTo>
                    <a:lnTo>
                      <a:pt x="641" y="356"/>
                    </a:lnTo>
                    <a:lnTo>
                      <a:pt x="626" y="375"/>
                    </a:lnTo>
                    <a:lnTo>
                      <a:pt x="609" y="397"/>
                    </a:lnTo>
                    <a:lnTo>
                      <a:pt x="589" y="423"/>
                    </a:lnTo>
                    <a:lnTo>
                      <a:pt x="566" y="450"/>
                    </a:lnTo>
                    <a:lnTo>
                      <a:pt x="562" y="458"/>
                    </a:lnTo>
                    <a:lnTo>
                      <a:pt x="561" y="461"/>
                    </a:lnTo>
                    <a:lnTo>
                      <a:pt x="553" y="468"/>
                    </a:lnTo>
                    <a:lnTo>
                      <a:pt x="546" y="475"/>
                    </a:lnTo>
                    <a:lnTo>
                      <a:pt x="537" y="480"/>
                    </a:lnTo>
                    <a:lnTo>
                      <a:pt x="530" y="485"/>
                    </a:lnTo>
                    <a:lnTo>
                      <a:pt x="521" y="491"/>
                    </a:lnTo>
                    <a:lnTo>
                      <a:pt x="513" y="495"/>
                    </a:lnTo>
                    <a:lnTo>
                      <a:pt x="504" y="498"/>
                    </a:lnTo>
                    <a:lnTo>
                      <a:pt x="496" y="500"/>
                    </a:lnTo>
                    <a:lnTo>
                      <a:pt x="511" y="504"/>
                    </a:lnTo>
                    <a:lnTo>
                      <a:pt x="526" y="509"/>
                    </a:lnTo>
                    <a:lnTo>
                      <a:pt x="540" y="514"/>
                    </a:lnTo>
                    <a:lnTo>
                      <a:pt x="556" y="520"/>
                    </a:lnTo>
                    <a:lnTo>
                      <a:pt x="585" y="516"/>
                    </a:lnTo>
                    <a:lnTo>
                      <a:pt x="610" y="510"/>
                    </a:lnTo>
                    <a:lnTo>
                      <a:pt x="635" y="504"/>
                    </a:lnTo>
                    <a:lnTo>
                      <a:pt x="656" y="498"/>
                    </a:lnTo>
                    <a:lnTo>
                      <a:pt x="675" y="492"/>
                    </a:lnTo>
                    <a:lnTo>
                      <a:pt x="691" y="485"/>
                    </a:lnTo>
                    <a:lnTo>
                      <a:pt x="705" y="478"/>
                    </a:lnTo>
                    <a:lnTo>
                      <a:pt x="716" y="471"/>
                    </a:lnTo>
                    <a:lnTo>
                      <a:pt x="730" y="481"/>
                    </a:lnTo>
                    <a:lnTo>
                      <a:pt x="744" y="491"/>
                    </a:lnTo>
                    <a:lnTo>
                      <a:pt x="759" y="499"/>
                    </a:lnTo>
                    <a:lnTo>
                      <a:pt x="775" y="507"/>
                    </a:lnTo>
                    <a:lnTo>
                      <a:pt x="790" y="513"/>
                    </a:lnTo>
                    <a:lnTo>
                      <a:pt x="806" y="518"/>
                    </a:lnTo>
                    <a:lnTo>
                      <a:pt x="823" y="522"/>
                    </a:lnTo>
                    <a:lnTo>
                      <a:pt x="840" y="526"/>
                    </a:lnTo>
                    <a:lnTo>
                      <a:pt x="835" y="537"/>
                    </a:lnTo>
                    <a:lnTo>
                      <a:pt x="830" y="549"/>
                    </a:lnTo>
                    <a:lnTo>
                      <a:pt x="825" y="562"/>
                    </a:lnTo>
                    <a:lnTo>
                      <a:pt x="822" y="574"/>
                    </a:lnTo>
                    <a:lnTo>
                      <a:pt x="819" y="588"/>
                    </a:lnTo>
                    <a:lnTo>
                      <a:pt x="817" y="602"/>
                    </a:lnTo>
                    <a:lnTo>
                      <a:pt x="816" y="616"/>
                    </a:lnTo>
                    <a:lnTo>
                      <a:pt x="816" y="631"/>
                    </a:lnTo>
                    <a:lnTo>
                      <a:pt x="815" y="650"/>
                    </a:lnTo>
                    <a:lnTo>
                      <a:pt x="814" y="670"/>
                    </a:lnTo>
                    <a:lnTo>
                      <a:pt x="813" y="691"/>
                    </a:lnTo>
                    <a:lnTo>
                      <a:pt x="812" y="712"/>
                    </a:lnTo>
                    <a:lnTo>
                      <a:pt x="812" y="734"/>
                    </a:lnTo>
                    <a:lnTo>
                      <a:pt x="812" y="758"/>
                    </a:lnTo>
                    <a:lnTo>
                      <a:pt x="811" y="781"/>
                    </a:lnTo>
                    <a:lnTo>
                      <a:pt x="811" y="806"/>
                    </a:lnTo>
                    <a:lnTo>
                      <a:pt x="808" y="832"/>
                    </a:lnTo>
                    <a:lnTo>
                      <a:pt x="807" y="855"/>
                    </a:lnTo>
                    <a:lnTo>
                      <a:pt x="806" y="874"/>
                    </a:lnTo>
                    <a:lnTo>
                      <a:pt x="805" y="891"/>
                    </a:lnTo>
                    <a:lnTo>
                      <a:pt x="805" y="898"/>
                    </a:lnTo>
                    <a:lnTo>
                      <a:pt x="804" y="904"/>
                    </a:lnTo>
                    <a:lnTo>
                      <a:pt x="803" y="908"/>
                    </a:lnTo>
                    <a:lnTo>
                      <a:pt x="801" y="911"/>
                    </a:lnTo>
                    <a:lnTo>
                      <a:pt x="796" y="912"/>
                    </a:lnTo>
                    <a:lnTo>
                      <a:pt x="790" y="912"/>
                    </a:lnTo>
                    <a:lnTo>
                      <a:pt x="786" y="910"/>
                    </a:lnTo>
                    <a:lnTo>
                      <a:pt x="781" y="906"/>
                    </a:lnTo>
                    <a:lnTo>
                      <a:pt x="775" y="902"/>
                    </a:lnTo>
                    <a:lnTo>
                      <a:pt x="768" y="897"/>
                    </a:lnTo>
                    <a:lnTo>
                      <a:pt x="762" y="890"/>
                    </a:lnTo>
                    <a:lnTo>
                      <a:pt x="754" y="884"/>
                    </a:lnTo>
                    <a:lnTo>
                      <a:pt x="741" y="867"/>
                    </a:lnTo>
                    <a:lnTo>
                      <a:pt x="726" y="846"/>
                    </a:lnTo>
                    <a:lnTo>
                      <a:pt x="711" y="847"/>
                    </a:lnTo>
                    <a:lnTo>
                      <a:pt x="693" y="848"/>
                    </a:lnTo>
                    <a:lnTo>
                      <a:pt x="672" y="849"/>
                    </a:lnTo>
                    <a:lnTo>
                      <a:pt x="645" y="851"/>
                    </a:lnTo>
                    <a:lnTo>
                      <a:pt x="620" y="851"/>
                    </a:lnTo>
                    <a:lnTo>
                      <a:pt x="599" y="852"/>
                    </a:lnTo>
                    <a:lnTo>
                      <a:pt x="580" y="854"/>
                    </a:lnTo>
                    <a:lnTo>
                      <a:pt x="566" y="856"/>
                    </a:lnTo>
                    <a:lnTo>
                      <a:pt x="566" y="891"/>
                    </a:lnTo>
                    <a:lnTo>
                      <a:pt x="566" y="901"/>
                    </a:lnTo>
                    <a:lnTo>
                      <a:pt x="565" y="907"/>
                    </a:lnTo>
                    <a:lnTo>
                      <a:pt x="563" y="912"/>
                    </a:lnTo>
                    <a:lnTo>
                      <a:pt x="561" y="917"/>
                    </a:lnTo>
                    <a:lnTo>
                      <a:pt x="557" y="918"/>
                    </a:lnTo>
                    <a:lnTo>
                      <a:pt x="554" y="918"/>
                    </a:lnTo>
                    <a:lnTo>
                      <a:pt x="550" y="916"/>
                    </a:lnTo>
                    <a:lnTo>
                      <a:pt x="546" y="911"/>
                    </a:lnTo>
                    <a:lnTo>
                      <a:pt x="525" y="894"/>
                    </a:lnTo>
                    <a:lnTo>
                      <a:pt x="507" y="879"/>
                    </a:lnTo>
                    <a:lnTo>
                      <a:pt x="492" y="865"/>
                    </a:lnTo>
                    <a:lnTo>
                      <a:pt x="481" y="851"/>
                    </a:lnTo>
                    <a:lnTo>
                      <a:pt x="483" y="848"/>
                    </a:lnTo>
                    <a:lnTo>
                      <a:pt x="485" y="844"/>
                    </a:lnTo>
                    <a:lnTo>
                      <a:pt x="487" y="837"/>
                    </a:lnTo>
                    <a:lnTo>
                      <a:pt x="490" y="830"/>
                    </a:lnTo>
                    <a:lnTo>
                      <a:pt x="493" y="810"/>
                    </a:lnTo>
                    <a:lnTo>
                      <a:pt x="496" y="785"/>
                    </a:lnTo>
                    <a:lnTo>
                      <a:pt x="498" y="753"/>
                    </a:lnTo>
                    <a:lnTo>
                      <a:pt x="499" y="717"/>
                    </a:lnTo>
                    <a:lnTo>
                      <a:pt x="500" y="674"/>
                    </a:lnTo>
                    <a:lnTo>
                      <a:pt x="501" y="626"/>
                    </a:lnTo>
                    <a:lnTo>
                      <a:pt x="499" y="614"/>
                    </a:lnTo>
                    <a:lnTo>
                      <a:pt x="496" y="596"/>
                    </a:lnTo>
                    <a:lnTo>
                      <a:pt x="495" y="581"/>
                    </a:lnTo>
                    <a:lnTo>
                      <a:pt x="495" y="566"/>
                    </a:lnTo>
                    <a:lnTo>
                      <a:pt x="494" y="553"/>
                    </a:lnTo>
                    <a:lnTo>
                      <a:pt x="492" y="540"/>
                    </a:lnTo>
                    <a:lnTo>
                      <a:pt x="490" y="530"/>
                    </a:lnTo>
                    <a:lnTo>
                      <a:pt x="487" y="521"/>
                    </a:lnTo>
                    <a:lnTo>
                      <a:pt x="484" y="513"/>
                    </a:lnTo>
                    <a:lnTo>
                      <a:pt x="481" y="506"/>
                    </a:lnTo>
                    <a:lnTo>
                      <a:pt x="472" y="506"/>
                    </a:lnTo>
                    <a:lnTo>
                      <a:pt x="462" y="504"/>
                    </a:lnTo>
                    <a:lnTo>
                      <a:pt x="453" y="503"/>
                    </a:lnTo>
                    <a:lnTo>
                      <a:pt x="442" y="501"/>
                    </a:lnTo>
                    <a:lnTo>
                      <a:pt x="420" y="495"/>
                    </a:lnTo>
                    <a:lnTo>
                      <a:pt x="395" y="485"/>
                    </a:lnTo>
                    <a:lnTo>
                      <a:pt x="417" y="471"/>
                    </a:lnTo>
                    <a:lnTo>
                      <a:pt x="438" y="454"/>
                    </a:lnTo>
                    <a:lnTo>
                      <a:pt x="458" y="437"/>
                    </a:lnTo>
                    <a:lnTo>
                      <a:pt x="477" y="419"/>
                    </a:lnTo>
                    <a:lnTo>
                      <a:pt x="496" y="400"/>
                    </a:lnTo>
                    <a:lnTo>
                      <a:pt x="515" y="380"/>
                    </a:lnTo>
                    <a:lnTo>
                      <a:pt x="533" y="359"/>
                    </a:lnTo>
                    <a:lnTo>
                      <a:pt x="551" y="338"/>
                    </a:lnTo>
                    <a:lnTo>
                      <a:pt x="568" y="316"/>
                    </a:lnTo>
                    <a:lnTo>
                      <a:pt x="585" y="292"/>
                    </a:lnTo>
                    <a:lnTo>
                      <a:pt x="601" y="269"/>
                    </a:lnTo>
                    <a:lnTo>
                      <a:pt x="617" y="244"/>
                    </a:lnTo>
                    <a:lnTo>
                      <a:pt x="633" y="218"/>
                    </a:lnTo>
                    <a:lnTo>
                      <a:pt x="647" y="192"/>
                    </a:lnTo>
                    <a:lnTo>
                      <a:pt x="662" y="164"/>
                    </a:lnTo>
                    <a:lnTo>
                      <a:pt x="676" y="136"/>
                    </a:lnTo>
                    <a:lnTo>
                      <a:pt x="683" y="116"/>
                    </a:lnTo>
                    <a:lnTo>
                      <a:pt x="691" y="98"/>
                    </a:lnTo>
                    <a:lnTo>
                      <a:pt x="696" y="79"/>
                    </a:lnTo>
                    <a:lnTo>
                      <a:pt x="700" y="61"/>
                    </a:lnTo>
                    <a:lnTo>
                      <a:pt x="704" y="46"/>
                    </a:lnTo>
                    <a:lnTo>
                      <a:pt x="706" y="30"/>
                    </a:lnTo>
                    <a:lnTo>
                      <a:pt x="707" y="15"/>
                    </a:lnTo>
                    <a:lnTo>
                      <a:pt x="706" y="0"/>
                    </a:lnTo>
                    <a:close/>
                    <a:moveTo>
                      <a:pt x="320" y="571"/>
                    </a:moveTo>
                    <a:lnTo>
                      <a:pt x="320" y="583"/>
                    </a:lnTo>
                    <a:lnTo>
                      <a:pt x="319" y="600"/>
                    </a:lnTo>
                    <a:lnTo>
                      <a:pt x="318" y="621"/>
                    </a:lnTo>
                    <a:lnTo>
                      <a:pt x="316" y="645"/>
                    </a:lnTo>
                    <a:lnTo>
                      <a:pt x="312" y="679"/>
                    </a:lnTo>
                    <a:lnTo>
                      <a:pt x="308" y="710"/>
                    </a:lnTo>
                    <a:lnTo>
                      <a:pt x="305" y="739"/>
                    </a:lnTo>
                    <a:lnTo>
                      <a:pt x="303" y="764"/>
                    </a:lnTo>
                    <a:lnTo>
                      <a:pt x="301" y="786"/>
                    </a:lnTo>
                    <a:lnTo>
                      <a:pt x="299" y="805"/>
                    </a:lnTo>
                    <a:lnTo>
                      <a:pt x="297" y="822"/>
                    </a:lnTo>
                    <a:lnTo>
                      <a:pt x="296" y="836"/>
                    </a:lnTo>
                    <a:lnTo>
                      <a:pt x="310" y="828"/>
                    </a:lnTo>
                    <a:lnTo>
                      <a:pt x="329" y="818"/>
                    </a:lnTo>
                    <a:lnTo>
                      <a:pt x="350" y="808"/>
                    </a:lnTo>
                    <a:lnTo>
                      <a:pt x="375" y="796"/>
                    </a:lnTo>
                    <a:lnTo>
                      <a:pt x="388" y="790"/>
                    </a:lnTo>
                    <a:lnTo>
                      <a:pt x="399" y="783"/>
                    </a:lnTo>
                    <a:lnTo>
                      <a:pt x="407" y="779"/>
                    </a:lnTo>
                    <a:lnTo>
                      <a:pt x="415" y="776"/>
                    </a:lnTo>
                    <a:lnTo>
                      <a:pt x="425" y="771"/>
                    </a:lnTo>
                    <a:lnTo>
                      <a:pt x="433" y="768"/>
                    </a:lnTo>
                    <a:lnTo>
                      <a:pt x="441" y="765"/>
                    </a:lnTo>
                    <a:lnTo>
                      <a:pt x="448" y="763"/>
                    </a:lnTo>
                    <a:lnTo>
                      <a:pt x="454" y="763"/>
                    </a:lnTo>
                    <a:lnTo>
                      <a:pt x="459" y="763"/>
                    </a:lnTo>
                    <a:lnTo>
                      <a:pt x="463" y="764"/>
                    </a:lnTo>
                    <a:lnTo>
                      <a:pt x="466" y="766"/>
                    </a:lnTo>
                    <a:lnTo>
                      <a:pt x="466" y="770"/>
                    </a:lnTo>
                    <a:lnTo>
                      <a:pt x="466" y="775"/>
                    </a:lnTo>
                    <a:lnTo>
                      <a:pt x="464" y="780"/>
                    </a:lnTo>
                    <a:lnTo>
                      <a:pt x="462" y="785"/>
                    </a:lnTo>
                    <a:lnTo>
                      <a:pt x="458" y="791"/>
                    </a:lnTo>
                    <a:lnTo>
                      <a:pt x="454" y="797"/>
                    </a:lnTo>
                    <a:lnTo>
                      <a:pt x="447" y="804"/>
                    </a:lnTo>
                    <a:lnTo>
                      <a:pt x="441" y="811"/>
                    </a:lnTo>
                    <a:lnTo>
                      <a:pt x="411" y="837"/>
                    </a:lnTo>
                    <a:lnTo>
                      <a:pt x="383" y="864"/>
                    </a:lnTo>
                    <a:lnTo>
                      <a:pt x="355" y="890"/>
                    </a:lnTo>
                    <a:lnTo>
                      <a:pt x="328" y="917"/>
                    </a:lnTo>
                    <a:lnTo>
                      <a:pt x="302" y="942"/>
                    </a:lnTo>
                    <a:lnTo>
                      <a:pt x="278" y="969"/>
                    </a:lnTo>
                    <a:lnTo>
                      <a:pt x="253" y="995"/>
                    </a:lnTo>
                    <a:lnTo>
                      <a:pt x="230" y="1022"/>
                    </a:lnTo>
                    <a:lnTo>
                      <a:pt x="224" y="1004"/>
                    </a:lnTo>
                    <a:lnTo>
                      <a:pt x="216" y="986"/>
                    </a:lnTo>
                    <a:lnTo>
                      <a:pt x="208" y="970"/>
                    </a:lnTo>
                    <a:lnTo>
                      <a:pt x="199" y="955"/>
                    </a:lnTo>
                    <a:lnTo>
                      <a:pt x="190" y="941"/>
                    </a:lnTo>
                    <a:lnTo>
                      <a:pt x="179" y="928"/>
                    </a:lnTo>
                    <a:lnTo>
                      <a:pt x="168" y="917"/>
                    </a:lnTo>
                    <a:lnTo>
                      <a:pt x="156" y="906"/>
                    </a:lnTo>
                    <a:lnTo>
                      <a:pt x="170" y="894"/>
                    </a:lnTo>
                    <a:lnTo>
                      <a:pt x="182" y="882"/>
                    </a:lnTo>
                    <a:lnTo>
                      <a:pt x="193" y="868"/>
                    </a:lnTo>
                    <a:lnTo>
                      <a:pt x="203" y="852"/>
                    </a:lnTo>
                    <a:lnTo>
                      <a:pt x="211" y="836"/>
                    </a:lnTo>
                    <a:lnTo>
                      <a:pt x="217" y="819"/>
                    </a:lnTo>
                    <a:lnTo>
                      <a:pt x="223" y="800"/>
                    </a:lnTo>
                    <a:lnTo>
                      <a:pt x="226" y="781"/>
                    </a:lnTo>
                    <a:lnTo>
                      <a:pt x="231" y="721"/>
                    </a:lnTo>
                    <a:lnTo>
                      <a:pt x="236" y="667"/>
                    </a:lnTo>
                    <a:lnTo>
                      <a:pt x="241" y="617"/>
                    </a:lnTo>
                    <a:lnTo>
                      <a:pt x="244" y="572"/>
                    </a:lnTo>
                    <a:lnTo>
                      <a:pt x="247" y="533"/>
                    </a:lnTo>
                    <a:lnTo>
                      <a:pt x="249" y="499"/>
                    </a:lnTo>
                    <a:lnTo>
                      <a:pt x="250" y="469"/>
                    </a:lnTo>
                    <a:lnTo>
                      <a:pt x="250" y="446"/>
                    </a:lnTo>
                    <a:lnTo>
                      <a:pt x="231" y="455"/>
                    </a:lnTo>
                    <a:lnTo>
                      <a:pt x="207" y="466"/>
                    </a:lnTo>
                    <a:lnTo>
                      <a:pt x="178" y="480"/>
                    </a:lnTo>
                    <a:lnTo>
                      <a:pt x="145" y="496"/>
                    </a:lnTo>
                    <a:lnTo>
                      <a:pt x="122" y="508"/>
                    </a:lnTo>
                    <a:lnTo>
                      <a:pt x="102" y="517"/>
                    </a:lnTo>
                    <a:lnTo>
                      <a:pt x="85" y="525"/>
                    </a:lnTo>
                    <a:lnTo>
                      <a:pt x="70" y="531"/>
                    </a:lnTo>
                    <a:lnTo>
                      <a:pt x="53" y="510"/>
                    </a:lnTo>
                    <a:lnTo>
                      <a:pt x="35" y="490"/>
                    </a:lnTo>
                    <a:lnTo>
                      <a:pt x="18" y="472"/>
                    </a:lnTo>
                    <a:lnTo>
                      <a:pt x="0" y="456"/>
                    </a:lnTo>
                    <a:lnTo>
                      <a:pt x="47" y="449"/>
                    </a:lnTo>
                    <a:lnTo>
                      <a:pt x="89" y="441"/>
                    </a:lnTo>
                    <a:lnTo>
                      <a:pt x="108" y="436"/>
                    </a:lnTo>
                    <a:lnTo>
                      <a:pt x="127" y="430"/>
                    </a:lnTo>
                    <a:lnTo>
                      <a:pt x="144" y="425"/>
                    </a:lnTo>
                    <a:lnTo>
                      <a:pt x="160" y="420"/>
                    </a:lnTo>
                    <a:lnTo>
                      <a:pt x="176" y="413"/>
                    </a:lnTo>
                    <a:lnTo>
                      <a:pt x="190" y="407"/>
                    </a:lnTo>
                    <a:lnTo>
                      <a:pt x="203" y="401"/>
                    </a:lnTo>
                    <a:lnTo>
                      <a:pt x="214" y="393"/>
                    </a:lnTo>
                    <a:lnTo>
                      <a:pt x="225" y="386"/>
                    </a:lnTo>
                    <a:lnTo>
                      <a:pt x="234" y="377"/>
                    </a:lnTo>
                    <a:lnTo>
                      <a:pt x="243" y="369"/>
                    </a:lnTo>
                    <a:lnTo>
                      <a:pt x="250" y="360"/>
                    </a:lnTo>
                    <a:lnTo>
                      <a:pt x="265" y="371"/>
                    </a:lnTo>
                    <a:lnTo>
                      <a:pt x="280" y="380"/>
                    </a:lnTo>
                    <a:lnTo>
                      <a:pt x="296" y="389"/>
                    </a:lnTo>
                    <a:lnTo>
                      <a:pt x="312" y="395"/>
                    </a:lnTo>
                    <a:lnTo>
                      <a:pt x="330" y="402"/>
                    </a:lnTo>
                    <a:lnTo>
                      <a:pt x="348" y="406"/>
                    </a:lnTo>
                    <a:lnTo>
                      <a:pt x="366" y="409"/>
                    </a:lnTo>
                    <a:lnTo>
                      <a:pt x="386" y="411"/>
                    </a:lnTo>
                    <a:lnTo>
                      <a:pt x="373" y="426"/>
                    </a:lnTo>
                    <a:lnTo>
                      <a:pt x="361" y="443"/>
                    </a:lnTo>
                    <a:lnTo>
                      <a:pt x="351" y="461"/>
                    </a:lnTo>
                    <a:lnTo>
                      <a:pt x="342" y="481"/>
                    </a:lnTo>
                    <a:lnTo>
                      <a:pt x="335" y="501"/>
                    </a:lnTo>
                    <a:lnTo>
                      <a:pt x="329" y="524"/>
                    </a:lnTo>
                    <a:lnTo>
                      <a:pt x="323" y="547"/>
                    </a:lnTo>
                    <a:lnTo>
                      <a:pt x="320" y="571"/>
                    </a:lnTo>
                    <a:close/>
                    <a:moveTo>
                      <a:pt x="566" y="711"/>
                    </a:moveTo>
                    <a:lnTo>
                      <a:pt x="566" y="816"/>
                    </a:lnTo>
                    <a:lnTo>
                      <a:pt x="579" y="815"/>
                    </a:lnTo>
                    <a:lnTo>
                      <a:pt x="596" y="811"/>
                    </a:lnTo>
                    <a:lnTo>
                      <a:pt x="624" y="806"/>
                    </a:lnTo>
                    <a:lnTo>
                      <a:pt x="653" y="801"/>
                    </a:lnTo>
                    <a:lnTo>
                      <a:pt x="683" y="796"/>
                    </a:lnTo>
                    <a:lnTo>
                      <a:pt x="716" y="792"/>
                    </a:lnTo>
                    <a:lnTo>
                      <a:pt x="716" y="788"/>
                    </a:lnTo>
                    <a:lnTo>
                      <a:pt x="716" y="781"/>
                    </a:lnTo>
                    <a:lnTo>
                      <a:pt x="718" y="776"/>
                    </a:lnTo>
                    <a:lnTo>
                      <a:pt x="719" y="771"/>
                    </a:lnTo>
                    <a:lnTo>
                      <a:pt x="721" y="766"/>
                    </a:lnTo>
                    <a:lnTo>
                      <a:pt x="721" y="761"/>
                    </a:lnTo>
                    <a:lnTo>
                      <a:pt x="723" y="735"/>
                    </a:lnTo>
                    <a:lnTo>
                      <a:pt x="725" y="710"/>
                    </a:lnTo>
                    <a:lnTo>
                      <a:pt x="726" y="685"/>
                    </a:lnTo>
                    <a:lnTo>
                      <a:pt x="726" y="658"/>
                    </a:lnTo>
                    <a:lnTo>
                      <a:pt x="726" y="632"/>
                    </a:lnTo>
                    <a:lnTo>
                      <a:pt x="725" y="605"/>
                    </a:lnTo>
                    <a:lnTo>
                      <a:pt x="723" y="579"/>
                    </a:lnTo>
                    <a:lnTo>
                      <a:pt x="721" y="551"/>
                    </a:lnTo>
                    <a:lnTo>
                      <a:pt x="717" y="545"/>
                    </a:lnTo>
                    <a:lnTo>
                      <a:pt x="713" y="539"/>
                    </a:lnTo>
                    <a:lnTo>
                      <a:pt x="711" y="538"/>
                    </a:lnTo>
                    <a:lnTo>
                      <a:pt x="708" y="537"/>
                    </a:lnTo>
                    <a:lnTo>
                      <a:pt x="705" y="536"/>
                    </a:lnTo>
                    <a:lnTo>
                      <a:pt x="700" y="536"/>
                    </a:lnTo>
                    <a:lnTo>
                      <a:pt x="670" y="544"/>
                    </a:lnTo>
                    <a:lnTo>
                      <a:pt x="637" y="551"/>
                    </a:lnTo>
                    <a:lnTo>
                      <a:pt x="602" y="558"/>
                    </a:lnTo>
                    <a:lnTo>
                      <a:pt x="566" y="566"/>
                    </a:lnTo>
                    <a:lnTo>
                      <a:pt x="566" y="661"/>
                    </a:lnTo>
                    <a:lnTo>
                      <a:pt x="585" y="658"/>
                    </a:lnTo>
                    <a:lnTo>
                      <a:pt x="607" y="654"/>
                    </a:lnTo>
                    <a:lnTo>
                      <a:pt x="633" y="648"/>
                    </a:lnTo>
                    <a:lnTo>
                      <a:pt x="661" y="641"/>
                    </a:lnTo>
                    <a:lnTo>
                      <a:pt x="673" y="637"/>
                    </a:lnTo>
                    <a:lnTo>
                      <a:pt x="680" y="636"/>
                    </a:lnTo>
                    <a:lnTo>
                      <a:pt x="684" y="641"/>
                    </a:lnTo>
                    <a:lnTo>
                      <a:pt x="692" y="652"/>
                    </a:lnTo>
                    <a:lnTo>
                      <a:pt x="703" y="669"/>
                    </a:lnTo>
                    <a:lnTo>
                      <a:pt x="716" y="691"/>
                    </a:lnTo>
                    <a:lnTo>
                      <a:pt x="707" y="691"/>
                    </a:lnTo>
                    <a:lnTo>
                      <a:pt x="691" y="691"/>
                    </a:lnTo>
                    <a:lnTo>
                      <a:pt x="653" y="696"/>
                    </a:lnTo>
                    <a:lnTo>
                      <a:pt x="620" y="700"/>
                    </a:lnTo>
                    <a:lnTo>
                      <a:pt x="590" y="706"/>
                    </a:lnTo>
                    <a:lnTo>
                      <a:pt x="566" y="711"/>
                    </a:lnTo>
                    <a:close/>
                    <a:moveTo>
                      <a:pt x="281" y="75"/>
                    </a:moveTo>
                    <a:lnTo>
                      <a:pt x="344" y="96"/>
                    </a:lnTo>
                    <a:lnTo>
                      <a:pt x="392" y="113"/>
                    </a:lnTo>
                    <a:lnTo>
                      <a:pt x="409" y="120"/>
                    </a:lnTo>
                    <a:lnTo>
                      <a:pt x="422" y="126"/>
                    </a:lnTo>
                    <a:lnTo>
                      <a:pt x="431" y="131"/>
                    </a:lnTo>
                    <a:lnTo>
                      <a:pt x="436" y="136"/>
                    </a:lnTo>
                    <a:lnTo>
                      <a:pt x="438" y="140"/>
                    </a:lnTo>
                    <a:lnTo>
                      <a:pt x="439" y="147"/>
                    </a:lnTo>
                    <a:lnTo>
                      <a:pt x="440" y="156"/>
                    </a:lnTo>
                    <a:lnTo>
                      <a:pt x="440" y="166"/>
                    </a:lnTo>
                    <a:lnTo>
                      <a:pt x="437" y="195"/>
                    </a:lnTo>
                    <a:lnTo>
                      <a:pt x="430" y="231"/>
                    </a:lnTo>
                    <a:lnTo>
                      <a:pt x="428" y="242"/>
                    </a:lnTo>
                    <a:lnTo>
                      <a:pt x="425" y="249"/>
                    </a:lnTo>
                    <a:lnTo>
                      <a:pt x="423" y="252"/>
                    </a:lnTo>
                    <a:lnTo>
                      <a:pt x="421" y="254"/>
                    </a:lnTo>
                    <a:lnTo>
                      <a:pt x="418" y="255"/>
                    </a:lnTo>
                    <a:lnTo>
                      <a:pt x="415" y="255"/>
                    </a:lnTo>
                    <a:lnTo>
                      <a:pt x="414" y="256"/>
                    </a:lnTo>
                    <a:lnTo>
                      <a:pt x="412" y="256"/>
                    </a:lnTo>
                    <a:lnTo>
                      <a:pt x="410" y="256"/>
                    </a:lnTo>
                    <a:lnTo>
                      <a:pt x="408" y="255"/>
                    </a:lnTo>
                    <a:lnTo>
                      <a:pt x="403" y="252"/>
                    </a:lnTo>
                    <a:lnTo>
                      <a:pt x="395" y="246"/>
                    </a:lnTo>
                    <a:lnTo>
                      <a:pt x="376" y="230"/>
                    </a:lnTo>
                    <a:lnTo>
                      <a:pt x="357" y="214"/>
                    </a:lnTo>
                    <a:lnTo>
                      <a:pt x="338" y="196"/>
                    </a:lnTo>
                    <a:lnTo>
                      <a:pt x="321" y="178"/>
                    </a:lnTo>
                    <a:lnTo>
                      <a:pt x="303" y="159"/>
                    </a:lnTo>
                    <a:lnTo>
                      <a:pt x="287" y="139"/>
                    </a:lnTo>
                    <a:lnTo>
                      <a:pt x="271" y="118"/>
                    </a:lnTo>
                    <a:lnTo>
                      <a:pt x="256" y="95"/>
                    </a:lnTo>
                    <a:lnTo>
                      <a:pt x="249" y="85"/>
                    </a:lnTo>
                    <a:lnTo>
                      <a:pt x="246" y="76"/>
                    </a:lnTo>
                    <a:lnTo>
                      <a:pt x="245" y="74"/>
                    </a:lnTo>
                    <a:lnTo>
                      <a:pt x="244" y="72"/>
                    </a:lnTo>
                    <a:lnTo>
                      <a:pt x="245" y="71"/>
                    </a:lnTo>
                    <a:lnTo>
                      <a:pt x="246" y="71"/>
                    </a:lnTo>
                    <a:lnTo>
                      <a:pt x="246" y="70"/>
                    </a:lnTo>
                    <a:lnTo>
                      <a:pt x="248" y="69"/>
                    </a:lnTo>
                    <a:lnTo>
                      <a:pt x="250" y="69"/>
                    </a:lnTo>
                    <a:lnTo>
                      <a:pt x="254" y="69"/>
                    </a:lnTo>
                    <a:lnTo>
                      <a:pt x="265" y="71"/>
                    </a:lnTo>
                    <a:lnTo>
                      <a:pt x="281" y="75"/>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654" name="Freeform 21"/>
              <p:cNvSpPr/>
              <p:nvPr/>
            </p:nvSpPr>
            <p:spPr>
              <a:xfrm>
                <a:off x="2304720" y="1286640"/>
                <a:ext cx="173880" cy="162000"/>
              </a:xfrm>
              <a:custGeom>
                <a:avLst/>
                <a:gdLst>
                  <a:gd name="textAreaLeft" fmla="*/ 0 w 173880"/>
                  <a:gd name="textAreaRight" fmla="*/ 174240 w 173880"/>
                  <a:gd name="textAreaTop" fmla="*/ 0 h 162000"/>
                  <a:gd name="textAreaBottom" fmla="*/ 162360 h 162000"/>
                </a:gdLst>
                <a:ahLst/>
                <a:rect l="textAreaLeft" t="textAreaTop" r="textAreaRight" b="textAreaBottom"/>
                <a:pathLst>
                  <a:path w="1175" h="1166">
                    <a:moveTo>
                      <a:pt x="1135" y="165"/>
                    </a:moveTo>
                    <a:lnTo>
                      <a:pt x="1149" y="186"/>
                    </a:lnTo>
                    <a:lnTo>
                      <a:pt x="1158" y="202"/>
                    </a:lnTo>
                    <a:lnTo>
                      <a:pt x="1166" y="213"/>
                    </a:lnTo>
                    <a:lnTo>
                      <a:pt x="1170" y="221"/>
                    </a:lnTo>
                    <a:lnTo>
                      <a:pt x="1173" y="227"/>
                    </a:lnTo>
                    <a:lnTo>
                      <a:pt x="1175" y="232"/>
                    </a:lnTo>
                    <a:lnTo>
                      <a:pt x="1175" y="236"/>
                    </a:lnTo>
                    <a:lnTo>
                      <a:pt x="1174" y="241"/>
                    </a:lnTo>
                    <a:lnTo>
                      <a:pt x="1171" y="244"/>
                    </a:lnTo>
                    <a:lnTo>
                      <a:pt x="1167" y="247"/>
                    </a:lnTo>
                    <a:lnTo>
                      <a:pt x="1162" y="249"/>
                    </a:lnTo>
                    <a:lnTo>
                      <a:pt x="1155" y="250"/>
                    </a:lnTo>
                    <a:lnTo>
                      <a:pt x="1095" y="251"/>
                    </a:lnTo>
                    <a:lnTo>
                      <a:pt x="1031" y="253"/>
                    </a:lnTo>
                    <a:lnTo>
                      <a:pt x="963" y="257"/>
                    </a:lnTo>
                    <a:lnTo>
                      <a:pt x="889" y="262"/>
                    </a:lnTo>
                    <a:lnTo>
                      <a:pt x="811" y="268"/>
                    </a:lnTo>
                    <a:lnTo>
                      <a:pt x="728" y="276"/>
                    </a:lnTo>
                    <a:lnTo>
                      <a:pt x="642" y="285"/>
                    </a:lnTo>
                    <a:lnTo>
                      <a:pt x="551" y="296"/>
                    </a:lnTo>
                    <a:lnTo>
                      <a:pt x="541" y="316"/>
                    </a:lnTo>
                    <a:lnTo>
                      <a:pt x="533" y="336"/>
                    </a:lnTo>
                    <a:lnTo>
                      <a:pt x="522" y="355"/>
                    </a:lnTo>
                    <a:lnTo>
                      <a:pt x="512" y="375"/>
                    </a:lnTo>
                    <a:lnTo>
                      <a:pt x="503" y="395"/>
                    </a:lnTo>
                    <a:lnTo>
                      <a:pt x="492" y="416"/>
                    </a:lnTo>
                    <a:lnTo>
                      <a:pt x="482" y="436"/>
                    </a:lnTo>
                    <a:lnTo>
                      <a:pt x="470" y="456"/>
                    </a:lnTo>
                    <a:lnTo>
                      <a:pt x="475" y="456"/>
                    </a:lnTo>
                    <a:lnTo>
                      <a:pt x="481" y="457"/>
                    </a:lnTo>
                    <a:lnTo>
                      <a:pt x="485" y="459"/>
                    </a:lnTo>
                    <a:lnTo>
                      <a:pt x="490" y="461"/>
                    </a:lnTo>
                    <a:lnTo>
                      <a:pt x="499" y="461"/>
                    </a:lnTo>
                    <a:lnTo>
                      <a:pt x="505" y="461"/>
                    </a:lnTo>
                    <a:lnTo>
                      <a:pt x="552" y="455"/>
                    </a:lnTo>
                    <a:lnTo>
                      <a:pt x="595" y="447"/>
                    </a:lnTo>
                    <a:lnTo>
                      <a:pt x="634" y="439"/>
                    </a:lnTo>
                    <a:lnTo>
                      <a:pt x="669" y="430"/>
                    </a:lnTo>
                    <a:lnTo>
                      <a:pt x="700" y="422"/>
                    </a:lnTo>
                    <a:lnTo>
                      <a:pt x="727" y="412"/>
                    </a:lnTo>
                    <a:lnTo>
                      <a:pt x="739" y="407"/>
                    </a:lnTo>
                    <a:lnTo>
                      <a:pt x="751" y="402"/>
                    </a:lnTo>
                    <a:lnTo>
                      <a:pt x="761" y="397"/>
                    </a:lnTo>
                    <a:lnTo>
                      <a:pt x="770" y="391"/>
                    </a:lnTo>
                    <a:lnTo>
                      <a:pt x="784" y="401"/>
                    </a:lnTo>
                    <a:lnTo>
                      <a:pt x="798" y="408"/>
                    </a:lnTo>
                    <a:lnTo>
                      <a:pt x="815" y="416"/>
                    </a:lnTo>
                    <a:lnTo>
                      <a:pt x="834" y="422"/>
                    </a:lnTo>
                    <a:lnTo>
                      <a:pt x="855" y="427"/>
                    </a:lnTo>
                    <a:lnTo>
                      <a:pt x="876" y="431"/>
                    </a:lnTo>
                    <a:lnTo>
                      <a:pt x="900" y="434"/>
                    </a:lnTo>
                    <a:lnTo>
                      <a:pt x="925" y="436"/>
                    </a:lnTo>
                    <a:lnTo>
                      <a:pt x="919" y="447"/>
                    </a:lnTo>
                    <a:lnTo>
                      <a:pt x="914" y="461"/>
                    </a:lnTo>
                    <a:lnTo>
                      <a:pt x="910" y="477"/>
                    </a:lnTo>
                    <a:lnTo>
                      <a:pt x="905" y="496"/>
                    </a:lnTo>
                    <a:lnTo>
                      <a:pt x="902" y="517"/>
                    </a:lnTo>
                    <a:lnTo>
                      <a:pt x="899" y="541"/>
                    </a:lnTo>
                    <a:lnTo>
                      <a:pt x="897" y="567"/>
                    </a:lnTo>
                    <a:lnTo>
                      <a:pt x="895" y="596"/>
                    </a:lnTo>
                    <a:lnTo>
                      <a:pt x="895" y="628"/>
                    </a:lnTo>
                    <a:lnTo>
                      <a:pt x="894" y="660"/>
                    </a:lnTo>
                    <a:lnTo>
                      <a:pt x="895" y="697"/>
                    </a:lnTo>
                    <a:lnTo>
                      <a:pt x="895" y="736"/>
                    </a:lnTo>
                    <a:lnTo>
                      <a:pt x="899" y="821"/>
                    </a:lnTo>
                    <a:lnTo>
                      <a:pt x="905" y="916"/>
                    </a:lnTo>
                    <a:lnTo>
                      <a:pt x="905" y="972"/>
                    </a:lnTo>
                    <a:lnTo>
                      <a:pt x="905" y="1020"/>
                    </a:lnTo>
                    <a:lnTo>
                      <a:pt x="903" y="1062"/>
                    </a:lnTo>
                    <a:lnTo>
                      <a:pt x="900" y="1096"/>
                    </a:lnTo>
                    <a:lnTo>
                      <a:pt x="898" y="1111"/>
                    </a:lnTo>
                    <a:lnTo>
                      <a:pt x="896" y="1125"/>
                    </a:lnTo>
                    <a:lnTo>
                      <a:pt x="893" y="1135"/>
                    </a:lnTo>
                    <a:lnTo>
                      <a:pt x="891" y="1145"/>
                    </a:lnTo>
                    <a:lnTo>
                      <a:pt x="887" y="1153"/>
                    </a:lnTo>
                    <a:lnTo>
                      <a:pt x="883" y="1160"/>
                    </a:lnTo>
                    <a:lnTo>
                      <a:pt x="880" y="1164"/>
                    </a:lnTo>
                    <a:lnTo>
                      <a:pt x="876" y="1166"/>
                    </a:lnTo>
                    <a:lnTo>
                      <a:pt x="867" y="1165"/>
                    </a:lnTo>
                    <a:lnTo>
                      <a:pt x="858" y="1162"/>
                    </a:lnTo>
                    <a:lnTo>
                      <a:pt x="848" y="1158"/>
                    </a:lnTo>
                    <a:lnTo>
                      <a:pt x="839" y="1154"/>
                    </a:lnTo>
                    <a:lnTo>
                      <a:pt x="816" y="1144"/>
                    </a:lnTo>
                    <a:lnTo>
                      <a:pt x="793" y="1129"/>
                    </a:lnTo>
                    <a:lnTo>
                      <a:pt x="767" y="1111"/>
                    </a:lnTo>
                    <a:lnTo>
                      <a:pt x="738" y="1090"/>
                    </a:lnTo>
                    <a:lnTo>
                      <a:pt x="707" y="1064"/>
                    </a:lnTo>
                    <a:lnTo>
                      <a:pt x="676" y="1037"/>
                    </a:lnTo>
                    <a:lnTo>
                      <a:pt x="667" y="1025"/>
                    </a:lnTo>
                    <a:lnTo>
                      <a:pt x="662" y="1016"/>
                    </a:lnTo>
                    <a:lnTo>
                      <a:pt x="660" y="1013"/>
                    </a:lnTo>
                    <a:lnTo>
                      <a:pt x="660" y="1010"/>
                    </a:lnTo>
                    <a:lnTo>
                      <a:pt x="660" y="1008"/>
                    </a:lnTo>
                    <a:lnTo>
                      <a:pt x="660" y="1006"/>
                    </a:lnTo>
                    <a:lnTo>
                      <a:pt x="661" y="1004"/>
                    </a:lnTo>
                    <a:lnTo>
                      <a:pt x="662" y="1002"/>
                    </a:lnTo>
                    <a:lnTo>
                      <a:pt x="664" y="1001"/>
                    </a:lnTo>
                    <a:lnTo>
                      <a:pt x="666" y="999"/>
                    </a:lnTo>
                    <a:lnTo>
                      <a:pt x="674" y="999"/>
                    </a:lnTo>
                    <a:lnTo>
                      <a:pt x="685" y="1002"/>
                    </a:lnTo>
                    <a:lnTo>
                      <a:pt x="713" y="1004"/>
                    </a:lnTo>
                    <a:lnTo>
                      <a:pt x="737" y="1005"/>
                    </a:lnTo>
                    <a:lnTo>
                      <a:pt x="748" y="1005"/>
                    </a:lnTo>
                    <a:lnTo>
                      <a:pt x="757" y="1004"/>
                    </a:lnTo>
                    <a:lnTo>
                      <a:pt x="766" y="1003"/>
                    </a:lnTo>
                    <a:lnTo>
                      <a:pt x="773" y="1002"/>
                    </a:lnTo>
                    <a:lnTo>
                      <a:pt x="779" y="999"/>
                    </a:lnTo>
                    <a:lnTo>
                      <a:pt x="785" y="996"/>
                    </a:lnTo>
                    <a:lnTo>
                      <a:pt x="789" y="993"/>
                    </a:lnTo>
                    <a:lnTo>
                      <a:pt x="792" y="990"/>
                    </a:lnTo>
                    <a:lnTo>
                      <a:pt x="794" y="986"/>
                    </a:lnTo>
                    <a:lnTo>
                      <a:pt x="795" y="981"/>
                    </a:lnTo>
                    <a:lnTo>
                      <a:pt x="796" y="976"/>
                    </a:lnTo>
                    <a:lnTo>
                      <a:pt x="795" y="971"/>
                    </a:lnTo>
                    <a:lnTo>
                      <a:pt x="797" y="904"/>
                    </a:lnTo>
                    <a:lnTo>
                      <a:pt x="798" y="839"/>
                    </a:lnTo>
                    <a:lnTo>
                      <a:pt x="798" y="776"/>
                    </a:lnTo>
                    <a:lnTo>
                      <a:pt x="797" y="713"/>
                    </a:lnTo>
                    <a:lnTo>
                      <a:pt x="796" y="653"/>
                    </a:lnTo>
                    <a:lnTo>
                      <a:pt x="793" y="594"/>
                    </a:lnTo>
                    <a:lnTo>
                      <a:pt x="790" y="536"/>
                    </a:lnTo>
                    <a:lnTo>
                      <a:pt x="786" y="480"/>
                    </a:lnTo>
                    <a:lnTo>
                      <a:pt x="785" y="477"/>
                    </a:lnTo>
                    <a:lnTo>
                      <a:pt x="784" y="474"/>
                    </a:lnTo>
                    <a:lnTo>
                      <a:pt x="782" y="472"/>
                    </a:lnTo>
                    <a:lnTo>
                      <a:pt x="780" y="470"/>
                    </a:lnTo>
                    <a:lnTo>
                      <a:pt x="777" y="468"/>
                    </a:lnTo>
                    <a:lnTo>
                      <a:pt x="774" y="466"/>
                    </a:lnTo>
                    <a:lnTo>
                      <a:pt x="770" y="466"/>
                    </a:lnTo>
                    <a:lnTo>
                      <a:pt x="766" y="465"/>
                    </a:lnTo>
                    <a:lnTo>
                      <a:pt x="732" y="472"/>
                    </a:lnTo>
                    <a:lnTo>
                      <a:pt x="700" y="478"/>
                    </a:lnTo>
                    <a:lnTo>
                      <a:pt x="670" y="486"/>
                    </a:lnTo>
                    <a:lnTo>
                      <a:pt x="642" y="492"/>
                    </a:lnTo>
                    <a:lnTo>
                      <a:pt x="614" y="499"/>
                    </a:lnTo>
                    <a:lnTo>
                      <a:pt x="588" y="506"/>
                    </a:lnTo>
                    <a:lnTo>
                      <a:pt x="563" y="513"/>
                    </a:lnTo>
                    <a:lnTo>
                      <a:pt x="540" y="521"/>
                    </a:lnTo>
                    <a:lnTo>
                      <a:pt x="537" y="521"/>
                    </a:lnTo>
                    <a:lnTo>
                      <a:pt x="533" y="519"/>
                    </a:lnTo>
                    <a:lnTo>
                      <a:pt x="528" y="517"/>
                    </a:lnTo>
                    <a:lnTo>
                      <a:pt x="524" y="514"/>
                    </a:lnTo>
                    <a:lnTo>
                      <a:pt x="515" y="507"/>
                    </a:lnTo>
                    <a:lnTo>
                      <a:pt x="505" y="496"/>
                    </a:lnTo>
                    <a:lnTo>
                      <a:pt x="503" y="519"/>
                    </a:lnTo>
                    <a:lnTo>
                      <a:pt x="502" y="550"/>
                    </a:lnTo>
                    <a:lnTo>
                      <a:pt x="501" y="587"/>
                    </a:lnTo>
                    <a:lnTo>
                      <a:pt x="500" y="631"/>
                    </a:lnTo>
                    <a:lnTo>
                      <a:pt x="515" y="630"/>
                    </a:lnTo>
                    <a:lnTo>
                      <a:pt x="534" y="628"/>
                    </a:lnTo>
                    <a:lnTo>
                      <a:pt x="557" y="622"/>
                    </a:lnTo>
                    <a:lnTo>
                      <a:pt x="585" y="616"/>
                    </a:lnTo>
                    <a:lnTo>
                      <a:pt x="627" y="607"/>
                    </a:lnTo>
                    <a:lnTo>
                      <a:pt x="663" y="600"/>
                    </a:lnTo>
                    <a:lnTo>
                      <a:pt x="692" y="595"/>
                    </a:lnTo>
                    <a:lnTo>
                      <a:pt x="715" y="590"/>
                    </a:lnTo>
                    <a:lnTo>
                      <a:pt x="719" y="594"/>
                    </a:lnTo>
                    <a:lnTo>
                      <a:pt x="726" y="602"/>
                    </a:lnTo>
                    <a:lnTo>
                      <a:pt x="737" y="616"/>
                    </a:lnTo>
                    <a:lnTo>
                      <a:pt x="750" y="636"/>
                    </a:lnTo>
                    <a:lnTo>
                      <a:pt x="753" y="638"/>
                    </a:lnTo>
                    <a:lnTo>
                      <a:pt x="754" y="641"/>
                    </a:lnTo>
                    <a:lnTo>
                      <a:pt x="755" y="643"/>
                    </a:lnTo>
                    <a:lnTo>
                      <a:pt x="755" y="646"/>
                    </a:lnTo>
                    <a:lnTo>
                      <a:pt x="732" y="651"/>
                    </a:lnTo>
                    <a:lnTo>
                      <a:pt x="700" y="656"/>
                    </a:lnTo>
                    <a:lnTo>
                      <a:pt x="662" y="661"/>
                    </a:lnTo>
                    <a:lnTo>
                      <a:pt x="615" y="666"/>
                    </a:lnTo>
                    <a:lnTo>
                      <a:pt x="578" y="673"/>
                    </a:lnTo>
                    <a:lnTo>
                      <a:pt x="545" y="678"/>
                    </a:lnTo>
                    <a:lnTo>
                      <a:pt x="518" y="683"/>
                    </a:lnTo>
                    <a:lnTo>
                      <a:pt x="495" y="686"/>
                    </a:lnTo>
                    <a:lnTo>
                      <a:pt x="495" y="710"/>
                    </a:lnTo>
                    <a:lnTo>
                      <a:pt x="495" y="736"/>
                    </a:lnTo>
                    <a:lnTo>
                      <a:pt x="495" y="765"/>
                    </a:lnTo>
                    <a:lnTo>
                      <a:pt x="495" y="796"/>
                    </a:lnTo>
                    <a:lnTo>
                      <a:pt x="509" y="793"/>
                    </a:lnTo>
                    <a:lnTo>
                      <a:pt x="527" y="790"/>
                    </a:lnTo>
                    <a:lnTo>
                      <a:pt x="549" y="785"/>
                    </a:lnTo>
                    <a:lnTo>
                      <a:pt x="575" y="781"/>
                    </a:lnTo>
                    <a:lnTo>
                      <a:pt x="623" y="772"/>
                    </a:lnTo>
                    <a:lnTo>
                      <a:pt x="664" y="764"/>
                    </a:lnTo>
                    <a:lnTo>
                      <a:pt x="700" y="759"/>
                    </a:lnTo>
                    <a:lnTo>
                      <a:pt x="731" y="756"/>
                    </a:lnTo>
                    <a:lnTo>
                      <a:pt x="735" y="759"/>
                    </a:lnTo>
                    <a:lnTo>
                      <a:pt x="740" y="763"/>
                    </a:lnTo>
                    <a:lnTo>
                      <a:pt x="745" y="770"/>
                    </a:lnTo>
                    <a:lnTo>
                      <a:pt x="750" y="776"/>
                    </a:lnTo>
                    <a:lnTo>
                      <a:pt x="755" y="784"/>
                    </a:lnTo>
                    <a:lnTo>
                      <a:pt x="760" y="794"/>
                    </a:lnTo>
                    <a:lnTo>
                      <a:pt x="766" y="805"/>
                    </a:lnTo>
                    <a:lnTo>
                      <a:pt x="770" y="816"/>
                    </a:lnTo>
                    <a:lnTo>
                      <a:pt x="753" y="818"/>
                    </a:lnTo>
                    <a:lnTo>
                      <a:pt x="733" y="821"/>
                    </a:lnTo>
                    <a:lnTo>
                      <a:pt x="708" y="824"/>
                    </a:lnTo>
                    <a:lnTo>
                      <a:pt x="680" y="826"/>
                    </a:lnTo>
                    <a:lnTo>
                      <a:pt x="648" y="830"/>
                    </a:lnTo>
                    <a:lnTo>
                      <a:pt x="618" y="833"/>
                    </a:lnTo>
                    <a:lnTo>
                      <a:pt x="591" y="836"/>
                    </a:lnTo>
                    <a:lnTo>
                      <a:pt x="566" y="838"/>
                    </a:lnTo>
                    <a:lnTo>
                      <a:pt x="544" y="841"/>
                    </a:lnTo>
                    <a:lnTo>
                      <a:pt x="525" y="843"/>
                    </a:lnTo>
                    <a:lnTo>
                      <a:pt x="509" y="845"/>
                    </a:lnTo>
                    <a:lnTo>
                      <a:pt x="495" y="846"/>
                    </a:lnTo>
                    <a:lnTo>
                      <a:pt x="493" y="884"/>
                    </a:lnTo>
                    <a:lnTo>
                      <a:pt x="491" y="922"/>
                    </a:lnTo>
                    <a:lnTo>
                      <a:pt x="490" y="961"/>
                    </a:lnTo>
                    <a:lnTo>
                      <a:pt x="490" y="1002"/>
                    </a:lnTo>
                    <a:lnTo>
                      <a:pt x="487" y="1027"/>
                    </a:lnTo>
                    <a:lnTo>
                      <a:pt x="485" y="1049"/>
                    </a:lnTo>
                    <a:lnTo>
                      <a:pt x="482" y="1069"/>
                    </a:lnTo>
                    <a:lnTo>
                      <a:pt x="478" y="1085"/>
                    </a:lnTo>
                    <a:lnTo>
                      <a:pt x="475" y="1098"/>
                    </a:lnTo>
                    <a:lnTo>
                      <a:pt x="472" y="1108"/>
                    </a:lnTo>
                    <a:lnTo>
                      <a:pt x="470" y="1111"/>
                    </a:lnTo>
                    <a:lnTo>
                      <a:pt x="469" y="1113"/>
                    </a:lnTo>
                    <a:lnTo>
                      <a:pt x="467" y="1115"/>
                    </a:lnTo>
                    <a:lnTo>
                      <a:pt x="465" y="1116"/>
                    </a:lnTo>
                    <a:lnTo>
                      <a:pt x="449" y="1107"/>
                    </a:lnTo>
                    <a:lnTo>
                      <a:pt x="435" y="1096"/>
                    </a:lnTo>
                    <a:lnTo>
                      <a:pt x="421" y="1085"/>
                    </a:lnTo>
                    <a:lnTo>
                      <a:pt x="409" y="1075"/>
                    </a:lnTo>
                    <a:lnTo>
                      <a:pt x="398" y="1064"/>
                    </a:lnTo>
                    <a:lnTo>
                      <a:pt x="387" y="1054"/>
                    </a:lnTo>
                    <a:lnTo>
                      <a:pt x="378" y="1043"/>
                    </a:lnTo>
                    <a:lnTo>
                      <a:pt x="370" y="1031"/>
                    </a:lnTo>
                    <a:lnTo>
                      <a:pt x="376" y="1024"/>
                    </a:lnTo>
                    <a:lnTo>
                      <a:pt x="382" y="1013"/>
                    </a:lnTo>
                    <a:lnTo>
                      <a:pt x="387" y="1001"/>
                    </a:lnTo>
                    <a:lnTo>
                      <a:pt x="393" y="986"/>
                    </a:lnTo>
                    <a:lnTo>
                      <a:pt x="397" y="968"/>
                    </a:lnTo>
                    <a:lnTo>
                      <a:pt x="401" y="948"/>
                    </a:lnTo>
                    <a:lnTo>
                      <a:pt x="405" y="924"/>
                    </a:lnTo>
                    <a:lnTo>
                      <a:pt x="409" y="899"/>
                    </a:lnTo>
                    <a:lnTo>
                      <a:pt x="412" y="870"/>
                    </a:lnTo>
                    <a:lnTo>
                      <a:pt x="415" y="839"/>
                    </a:lnTo>
                    <a:lnTo>
                      <a:pt x="417" y="807"/>
                    </a:lnTo>
                    <a:lnTo>
                      <a:pt x="420" y="771"/>
                    </a:lnTo>
                    <a:lnTo>
                      <a:pt x="423" y="691"/>
                    </a:lnTo>
                    <a:lnTo>
                      <a:pt x="426" y="601"/>
                    </a:lnTo>
                    <a:lnTo>
                      <a:pt x="426" y="593"/>
                    </a:lnTo>
                    <a:lnTo>
                      <a:pt x="426" y="576"/>
                    </a:lnTo>
                    <a:lnTo>
                      <a:pt x="423" y="564"/>
                    </a:lnTo>
                    <a:lnTo>
                      <a:pt x="421" y="554"/>
                    </a:lnTo>
                    <a:lnTo>
                      <a:pt x="420" y="547"/>
                    </a:lnTo>
                    <a:lnTo>
                      <a:pt x="420" y="541"/>
                    </a:lnTo>
                    <a:lnTo>
                      <a:pt x="398" y="572"/>
                    </a:lnTo>
                    <a:lnTo>
                      <a:pt x="377" y="603"/>
                    </a:lnTo>
                    <a:lnTo>
                      <a:pt x="354" y="633"/>
                    </a:lnTo>
                    <a:lnTo>
                      <a:pt x="330" y="664"/>
                    </a:lnTo>
                    <a:lnTo>
                      <a:pt x="306" y="693"/>
                    </a:lnTo>
                    <a:lnTo>
                      <a:pt x="281" y="723"/>
                    </a:lnTo>
                    <a:lnTo>
                      <a:pt x="256" y="753"/>
                    </a:lnTo>
                    <a:lnTo>
                      <a:pt x="230" y="781"/>
                    </a:lnTo>
                    <a:lnTo>
                      <a:pt x="216" y="795"/>
                    </a:lnTo>
                    <a:lnTo>
                      <a:pt x="202" y="808"/>
                    </a:lnTo>
                    <a:lnTo>
                      <a:pt x="188" y="819"/>
                    </a:lnTo>
                    <a:lnTo>
                      <a:pt x="175" y="829"/>
                    </a:lnTo>
                    <a:lnTo>
                      <a:pt x="161" y="837"/>
                    </a:lnTo>
                    <a:lnTo>
                      <a:pt x="146" y="845"/>
                    </a:lnTo>
                    <a:lnTo>
                      <a:pt x="132" y="850"/>
                    </a:lnTo>
                    <a:lnTo>
                      <a:pt x="117" y="853"/>
                    </a:lnTo>
                    <a:lnTo>
                      <a:pt x="102" y="856"/>
                    </a:lnTo>
                    <a:lnTo>
                      <a:pt x="89" y="856"/>
                    </a:lnTo>
                    <a:lnTo>
                      <a:pt x="74" y="856"/>
                    </a:lnTo>
                    <a:lnTo>
                      <a:pt x="59" y="854"/>
                    </a:lnTo>
                    <a:lnTo>
                      <a:pt x="44" y="851"/>
                    </a:lnTo>
                    <a:lnTo>
                      <a:pt x="29" y="846"/>
                    </a:lnTo>
                    <a:lnTo>
                      <a:pt x="15" y="839"/>
                    </a:lnTo>
                    <a:lnTo>
                      <a:pt x="0" y="831"/>
                    </a:lnTo>
                    <a:lnTo>
                      <a:pt x="36" y="807"/>
                    </a:lnTo>
                    <a:lnTo>
                      <a:pt x="72" y="780"/>
                    </a:lnTo>
                    <a:lnTo>
                      <a:pt x="106" y="754"/>
                    </a:lnTo>
                    <a:lnTo>
                      <a:pt x="138" y="725"/>
                    </a:lnTo>
                    <a:lnTo>
                      <a:pt x="170" y="696"/>
                    </a:lnTo>
                    <a:lnTo>
                      <a:pt x="201" y="667"/>
                    </a:lnTo>
                    <a:lnTo>
                      <a:pt x="232" y="635"/>
                    </a:lnTo>
                    <a:lnTo>
                      <a:pt x="260" y="603"/>
                    </a:lnTo>
                    <a:lnTo>
                      <a:pt x="288" y="570"/>
                    </a:lnTo>
                    <a:lnTo>
                      <a:pt x="314" y="536"/>
                    </a:lnTo>
                    <a:lnTo>
                      <a:pt x="340" y="501"/>
                    </a:lnTo>
                    <a:lnTo>
                      <a:pt x="364" y="465"/>
                    </a:lnTo>
                    <a:lnTo>
                      <a:pt x="387" y="428"/>
                    </a:lnTo>
                    <a:lnTo>
                      <a:pt x="410" y="390"/>
                    </a:lnTo>
                    <a:lnTo>
                      <a:pt x="430" y="351"/>
                    </a:lnTo>
                    <a:lnTo>
                      <a:pt x="450" y="311"/>
                    </a:lnTo>
                    <a:lnTo>
                      <a:pt x="415" y="316"/>
                    </a:lnTo>
                    <a:lnTo>
                      <a:pt x="380" y="321"/>
                    </a:lnTo>
                    <a:lnTo>
                      <a:pt x="344" y="328"/>
                    </a:lnTo>
                    <a:lnTo>
                      <a:pt x="309" y="333"/>
                    </a:lnTo>
                    <a:lnTo>
                      <a:pt x="273" y="339"/>
                    </a:lnTo>
                    <a:lnTo>
                      <a:pt x="237" y="347"/>
                    </a:lnTo>
                    <a:lnTo>
                      <a:pt x="201" y="353"/>
                    </a:lnTo>
                    <a:lnTo>
                      <a:pt x="165" y="360"/>
                    </a:lnTo>
                    <a:lnTo>
                      <a:pt x="147" y="347"/>
                    </a:lnTo>
                    <a:lnTo>
                      <a:pt x="129" y="331"/>
                    </a:lnTo>
                    <a:lnTo>
                      <a:pt x="110" y="312"/>
                    </a:lnTo>
                    <a:lnTo>
                      <a:pt x="90" y="291"/>
                    </a:lnTo>
                    <a:lnTo>
                      <a:pt x="86" y="286"/>
                    </a:lnTo>
                    <a:lnTo>
                      <a:pt x="83" y="282"/>
                    </a:lnTo>
                    <a:lnTo>
                      <a:pt x="83" y="279"/>
                    </a:lnTo>
                    <a:lnTo>
                      <a:pt x="86" y="276"/>
                    </a:lnTo>
                    <a:lnTo>
                      <a:pt x="86" y="274"/>
                    </a:lnTo>
                    <a:lnTo>
                      <a:pt x="88" y="271"/>
                    </a:lnTo>
                    <a:lnTo>
                      <a:pt x="91" y="271"/>
                    </a:lnTo>
                    <a:lnTo>
                      <a:pt x="95" y="270"/>
                    </a:lnTo>
                    <a:lnTo>
                      <a:pt x="140" y="268"/>
                    </a:lnTo>
                    <a:lnTo>
                      <a:pt x="185" y="264"/>
                    </a:lnTo>
                    <a:lnTo>
                      <a:pt x="232" y="260"/>
                    </a:lnTo>
                    <a:lnTo>
                      <a:pt x="280" y="255"/>
                    </a:lnTo>
                    <a:lnTo>
                      <a:pt x="329" y="248"/>
                    </a:lnTo>
                    <a:lnTo>
                      <a:pt x="380" y="242"/>
                    </a:lnTo>
                    <a:lnTo>
                      <a:pt x="432" y="234"/>
                    </a:lnTo>
                    <a:lnTo>
                      <a:pt x="485" y="226"/>
                    </a:lnTo>
                    <a:lnTo>
                      <a:pt x="489" y="216"/>
                    </a:lnTo>
                    <a:lnTo>
                      <a:pt x="490" y="211"/>
                    </a:lnTo>
                    <a:lnTo>
                      <a:pt x="504" y="175"/>
                    </a:lnTo>
                    <a:lnTo>
                      <a:pt x="516" y="141"/>
                    </a:lnTo>
                    <a:lnTo>
                      <a:pt x="524" y="110"/>
                    </a:lnTo>
                    <a:lnTo>
                      <a:pt x="531" y="83"/>
                    </a:lnTo>
                    <a:lnTo>
                      <a:pt x="536" y="58"/>
                    </a:lnTo>
                    <a:lnTo>
                      <a:pt x="538" y="36"/>
                    </a:lnTo>
                    <a:lnTo>
                      <a:pt x="538" y="26"/>
                    </a:lnTo>
                    <a:lnTo>
                      <a:pt x="538" y="17"/>
                    </a:lnTo>
                    <a:lnTo>
                      <a:pt x="537" y="9"/>
                    </a:lnTo>
                    <a:lnTo>
                      <a:pt x="535" y="0"/>
                    </a:lnTo>
                    <a:lnTo>
                      <a:pt x="548" y="9"/>
                    </a:lnTo>
                    <a:lnTo>
                      <a:pt x="562" y="17"/>
                    </a:lnTo>
                    <a:lnTo>
                      <a:pt x="578" y="23"/>
                    </a:lnTo>
                    <a:lnTo>
                      <a:pt x="595" y="31"/>
                    </a:lnTo>
                    <a:lnTo>
                      <a:pt x="613" y="36"/>
                    </a:lnTo>
                    <a:lnTo>
                      <a:pt x="632" y="42"/>
                    </a:lnTo>
                    <a:lnTo>
                      <a:pt x="653" y="47"/>
                    </a:lnTo>
                    <a:lnTo>
                      <a:pt x="676" y="50"/>
                    </a:lnTo>
                    <a:lnTo>
                      <a:pt x="665" y="61"/>
                    </a:lnTo>
                    <a:lnTo>
                      <a:pt x="654" y="74"/>
                    </a:lnTo>
                    <a:lnTo>
                      <a:pt x="643" y="90"/>
                    </a:lnTo>
                    <a:lnTo>
                      <a:pt x="631" y="109"/>
                    </a:lnTo>
                    <a:lnTo>
                      <a:pt x="619" y="132"/>
                    </a:lnTo>
                    <a:lnTo>
                      <a:pt x="607" y="156"/>
                    </a:lnTo>
                    <a:lnTo>
                      <a:pt x="594" y="185"/>
                    </a:lnTo>
                    <a:lnTo>
                      <a:pt x="580" y="215"/>
                    </a:lnTo>
                    <a:lnTo>
                      <a:pt x="598" y="213"/>
                    </a:lnTo>
                    <a:lnTo>
                      <a:pt x="619" y="210"/>
                    </a:lnTo>
                    <a:lnTo>
                      <a:pt x="643" y="207"/>
                    </a:lnTo>
                    <a:lnTo>
                      <a:pt x="668" y="203"/>
                    </a:lnTo>
                    <a:lnTo>
                      <a:pt x="695" y="199"/>
                    </a:lnTo>
                    <a:lnTo>
                      <a:pt x="724" y="195"/>
                    </a:lnTo>
                    <a:lnTo>
                      <a:pt x="756" y="191"/>
                    </a:lnTo>
                    <a:lnTo>
                      <a:pt x="790" y="186"/>
                    </a:lnTo>
                    <a:lnTo>
                      <a:pt x="841" y="178"/>
                    </a:lnTo>
                    <a:lnTo>
                      <a:pt x="887" y="172"/>
                    </a:lnTo>
                    <a:lnTo>
                      <a:pt x="930" y="165"/>
                    </a:lnTo>
                    <a:lnTo>
                      <a:pt x="969" y="160"/>
                    </a:lnTo>
                    <a:lnTo>
                      <a:pt x="1004" y="156"/>
                    </a:lnTo>
                    <a:lnTo>
                      <a:pt x="1035" y="152"/>
                    </a:lnTo>
                    <a:lnTo>
                      <a:pt x="1062" y="149"/>
                    </a:lnTo>
                    <a:lnTo>
                      <a:pt x="1085" y="145"/>
                    </a:lnTo>
                    <a:lnTo>
                      <a:pt x="1092" y="145"/>
                    </a:lnTo>
                    <a:lnTo>
                      <a:pt x="1098" y="146"/>
                    </a:lnTo>
                    <a:lnTo>
                      <a:pt x="1104" y="149"/>
                    </a:lnTo>
                    <a:lnTo>
                      <a:pt x="1110" y="151"/>
                    </a:lnTo>
                    <a:lnTo>
                      <a:pt x="1116" y="154"/>
                    </a:lnTo>
                    <a:lnTo>
                      <a:pt x="1122" y="157"/>
                    </a:lnTo>
                    <a:lnTo>
                      <a:pt x="1129" y="161"/>
                    </a:lnTo>
                    <a:lnTo>
                      <a:pt x="1135" y="165"/>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655" name="Freeform 22"/>
              <p:cNvSpPr/>
              <p:nvPr/>
            </p:nvSpPr>
            <p:spPr>
              <a:xfrm>
                <a:off x="2499840" y="1299240"/>
                <a:ext cx="166680" cy="141480"/>
              </a:xfrm>
              <a:custGeom>
                <a:avLst/>
                <a:gdLst>
                  <a:gd name="textAreaLeft" fmla="*/ 0 w 166680"/>
                  <a:gd name="textAreaRight" fmla="*/ 167040 w 166680"/>
                  <a:gd name="textAreaTop" fmla="*/ 0 h 141480"/>
                  <a:gd name="textAreaBottom" fmla="*/ 141840 h 141480"/>
                </a:gdLst>
                <a:ahLst/>
                <a:rect l="textAreaLeft" t="textAreaTop" r="textAreaRight" b="textAreaBottom"/>
                <a:pathLst>
                  <a:path w="1122" h="1023">
                    <a:moveTo>
                      <a:pt x="736" y="451"/>
                    </a:moveTo>
                    <a:lnTo>
                      <a:pt x="733" y="449"/>
                    </a:lnTo>
                    <a:lnTo>
                      <a:pt x="725" y="441"/>
                    </a:lnTo>
                    <a:lnTo>
                      <a:pt x="712" y="431"/>
                    </a:lnTo>
                    <a:lnTo>
                      <a:pt x="701" y="421"/>
                    </a:lnTo>
                    <a:lnTo>
                      <a:pt x="667" y="423"/>
                    </a:lnTo>
                    <a:lnTo>
                      <a:pt x="635" y="426"/>
                    </a:lnTo>
                    <a:lnTo>
                      <a:pt x="607" y="429"/>
                    </a:lnTo>
                    <a:lnTo>
                      <a:pt x="580" y="432"/>
                    </a:lnTo>
                    <a:lnTo>
                      <a:pt x="557" y="435"/>
                    </a:lnTo>
                    <a:lnTo>
                      <a:pt x="536" y="439"/>
                    </a:lnTo>
                    <a:lnTo>
                      <a:pt x="517" y="442"/>
                    </a:lnTo>
                    <a:lnTo>
                      <a:pt x="501" y="445"/>
                    </a:lnTo>
                    <a:lnTo>
                      <a:pt x="501" y="480"/>
                    </a:lnTo>
                    <a:lnTo>
                      <a:pt x="514" y="488"/>
                    </a:lnTo>
                    <a:lnTo>
                      <a:pt x="530" y="497"/>
                    </a:lnTo>
                    <a:lnTo>
                      <a:pt x="546" y="508"/>
                    </a:lnTo>
                    <a:lnTo>
                      <a:pt x="566" y="521"/>
                    </a:lnTo>
                    <a:lnTo>
                      <a:pt x="587" y="535"/>
                    </a:lnTo>
                    <a:lnTo>
                      <a:pt x="609" y="552"/>
                    </a:lnTo>
                    <a:lnTo>
                      <a:pt x="634" y="570"/>
                    </a:lnTo>
                    <a:lnTo>
                      <a:pt x="661" y="591"/>
                    </a:lnTo>
                    <a:lnTo>
                      <a:pt x="692" y="568"/>
                    </a:lnTo>
                    <a:lnTo>
                      <a:pt x="720" y="547"/>
                    </a:lnTo>
                    <a:lnTo>
                      <a:pt x="747" y="525"/>
                    </a:lnTo>
                    <a:lnTo>
                      <a:pt x="771" y="504"/>
                    </a:lnTo>
                    <a:lnTo>
                      <a:pt x="792" y="482"/>
                    </a:lnTo>
                    <a:lnTo>
                      <a:pt x="810" y="461"/>
                    </a:lnTo>
                    <a:lnTo>
                      <a:pt x="827" y="441"/>
                    </a:lnTo>
                    <a:lnTo>
                      <a:pt x="841" y="421"/>
                    </a:lnTo>
                    <a:lnTo>
                      <a:pt x="852" y="433"/>
                    </a:lnTo>
                    <a:lnTo>
                      <a:pt x="864" y="444"/>
                    </a:lnTo>
                    <a:lnTo>
                      <a:pt x="876" y="456"/>
                    </a:lnTo>
                    <a:lnTo>
                      <a:pt x="889" y="465"/>
                    </a:lnTo>
                    <a:lnTo>
                      <a:pt x="901" y="476"/>
                    </a:lnTo>
                    <a:lnTo>
                      <a:pt x="914" y="485"/>
                    </a:lnTo>
                    <a:lnTo>
                      <a:pt x="927" y="493"/>
                    </a:lnTo>
                    <a:lnTo>
                      <a:pt x="941" y="500"/>
                    </a:lnTo>
                    <a:lnTo>
                      <a:pt x="926" y="506"/>
                    </a:lnTo>
                    <a:lnTo>
                      <a:pt x="906" y="513"/>
                    </a:lnTo>
                    <a:lnTo>
                      <a:pt x="880" y="525"/>
                    </a:lnTo>
                    <a:lnTo>
                      <a:pt x="850" y="541"/>
                    </a:lnTo>
                    <a:lnTo>
                      <a:pt x="826" y="553"/>
                    </a:lnTo>
                    <a:lnTo>
                      <a:pt x="803" y="564"/>
                    </a:lnTo>
                    <a:lnTo>
                      <a:pt x="782" y="575"/>
                    </a:lnTo>
                    <a:lnTo>
                      <a:pt x="760" y="583"/>
                    </a:lnTo>
                    <a:lnTo>
                      <a:pt x="741" y="592"/>
                    </a:lnTo>
                    <a:lnTo>
                      <a:pt x="723" y="599"/>
                    </a:lnTo>
                    <a:lnTo>
                      <a:pt x="706" y="605"/>
                    </a:lnTo>
                    <a:lnTo>
                      <a:pt x="691" y="611"/>
                    </a:lnTo>
                    <a:lnTo>
                      <a:pt x="723" y="637"/>
                    </a:lnTo>
                    <a:lnTo>
                      <a:pt x="755" y="662"/>
                    </a:lnTo>
                    <a:lnTo>
                      <a:pt x="785" y="683"/>
                    </a:lnTo>
                    <a:lnTo>
                      <a:pt x="813" y="702"/>
                    </a:lnTo>
                    <a:lnTo>
                      <a:pt x="840" y="719"/>
                    </a:lnTo>
                    <a:lnTo>
                      <a:pt x="865" y="734"/>
                    </a:lnTo>
                    <a:lnTo>
                      <a:pt x="889" y="746"/>
                    </a:lnTo>
                    <a:lnTo>
                      <a:pt x="911" y="756"/>
                    </a:lnTo>
                    <a:lnTo>
                      <a:pt x="945" y="771"/>
                    </a:lnTo>
                    <a:lnTo>
                      <a:pt x="975" y="786"/>
                    </a:lnTo>
                    <a:lnTo>
                      <a:pt x="1004" y="799"/>
                    </a:lnTo>
                    <a:lnTo>
                      <a:pt x="1029" y="812"/>
                    </a:lnTo>
                    <a:lnTo>
                      <a:pt x="1053" y="826"/>
                    </a:lnTo>
                    <a:lnTo>
                      <a:pt x="1073" y="837"/>
                    </a:lnTo>
                    <a:lnTo>
                      <a:pt x="1091" y="850"/>
                    </a:lnTo>
                    <a:lnTo>
                      <a:pt x="1106" y="861"/>
                    </a:lnTo>
                    <a:lnTo>
                      <a:pt x="1114" y="868"/>
                    </a:lnTo>
                    <a:lnTo>
                      <a:pt x="1120" y="875"/>
                    </a:lnTo>
                    <a:lnTo>
                      <a:pt x="1121" y="878"/>
                    </a:lnTo>
                    <a:lnTo>
                      <a:pt x="1122" y="881"/>
                    </a:lnTo>
                    <a:lnTo>
                      <a:pt x="1122" y="884"/>
                    </a:lnTo>
                    <a:lnTo>
                      <a:pt x="1121" y="886"/>
                    </a:lnTo>
                    <a:lnTo>
                      <a:pt x="1121" y="888"/>
                    </a:lnTo>
                    <a:lnTo>
                      <a:pt x="1120" y="890"/>
                    </a:lnTo>
                    <a:lnTo>
                      <a:pt x="1117" y="893"/>
                    </a:lnTo>
                    <a:lnTo>
                      <a:pt x="1115" y="895"/>
                    </a:lnTo>
                    <a:lnTo>
                      <a:pt x="1110" y="898"/>
                    </a:lnTo>
                    <a:lnTo>
                      <a:pt x="1100" y="901"/>
                    </a:lnTo>
                    <a:lnTo>
                      <a:pt x="1076" y="901"/>
                    </a:lnTo>
                    <a:lnTo>
                      <a:pt x="1053" y="901"/>
                    </a:lnTo>
                    <a:lnTo>
                      <a:pt x="1029" y="901"/>
                    </a:lnTo>
                    <a:lnTo>
                      <a:pt x="1008" y="900"/>
                    </a:lnTo>
                    <a:lnTo>
                      <a:pt x="987" y="899"/>
                    </a:lnTo>
                    <a:lnTo>
                      <a:pt x="967" y="899"/>
                    </a:lnTo>
                    <a:lnTo>
                      <a:pt x="949" y="898"/>
                    </a:lnTo>
                    <a:lnTo>
                      <a:pt x="931" y="897"/>
                    </a:lnTo>
                    <a:lnTo>
                      <a:pt x="917" y="895"/>
                    </a:lnTo>
                    <a:lnTo>
                      <a:pt x="905" y="891"/>
                    </a:lnTo>
                    <a:lnTo>
                      <a:pt x="892" y="888"/>
                    </a:lnTo>
                    <a:lnTo>
                      <a:pt x="879" y="884"/>
                    </a:lnTo>
                    <a:lnTo>
                      <a:pt x="867" y="878"/>
                    </a:lnTo>
                    <a:lnTo>
                      <a:pt x="857" y="871"/>
                    </a:lnTo>
                    <a:lnTo>
                      <a:pt x="846" y="864"/>
                    </a:lnTo>
                    <a:lnTo>
                      <a:pt x="836" y="857"/>
                    </a:lnTo>
                    <a:lnTo>
                      <a:pt x="817" y="837"/>
                    </a:lnTo>
                    <a:lnTo>
                      <a:pt x="790" y="811"/>
                    </a:lnTo>
                    <a:lnTo>
                      <a:pt x="757" y="777"/>
                    </a:lnTo>
                    <a:lnTo>
                      <a:pt x="716" y="736"/>
                    </a:lnTo>
                    <a:lnTo>
                      <a:pt x="678" y="695"/>
                    </a:lnTo>
                    <a:lnTo>
                      <a:pt x="644" y="659"/>
                    </a:lnTo>
                    <a:lnTo>
                      <a:pt x="612" y="628"/>
                    </a:lnTo>
                    <a:lnTo>
                      <a:pt x="585" y="600"/>
                    </a:lnTo>
                    <a:lnTo>
                      <a:pt x="559" y="576"/>
                    </a:lnTo>
                    <a:lnTo>
                      <a:pt x="537" y="557"/>
                    </a:lnTo>
                    <a:lnTo>
                      <a:pt x="517" y="542"/>
                    </a:lnTo>
                    <a:lnTo>
                      <a:pt x="501" y="531"/>
                    </a:lnTo>
                    <a:lnTo>
                      <a:pt x="501" y="545"/>
                    </a:lnTo>
                    <a:lnTo>
                      <a:pt x="500" y="561"/>
                    </a:lnTo>
                    <a:lnTo>
                      <a:pt x="500" y="579"/>
                    </a:lnTo>
                    <a:lnTo>
                      <a:pt x="499" y="599"/>
                    </a:lnTo>
                    <a:lnTo>
                      <a:pt x="499" y="621"/>
                    </a:lnTo>
                    <a:lnTo>
                      <a:pt x="498" y="646"/>
                    </a:lnTo>
                    <a:lnTo>
                      <a:pt x="497" y="672"/>
                    </a:lnTo>
                    <a:lnTo>
                      <a:pt x="496" y="701"/>
                    </a:lnTo>
                    <a:lnTo>
                      <a:pt x="496" y="754"/>
                    </a:lnTo>
                    <a:lnTo>
                      <a:pt x="496" y="797"/>
                    </a:lnTo>
                    <a:lnTo>
                      <a:pt x="496" y="831"/>
                    </a:lnTo>
                    <a:lnTo>
                      <a:pt x="496" y="857"/>
                    </a:lnTo>
                    <a:lnTo>
                      <a:pt x="504" y="850"/>
                    </a:lnTo>
                    <a:lnTo>
                      <a:pt x="517" y="844"/>
                    </a:lnTo>
                    <a:lnTo>
                      <a:pt x="532" y="835"/>
                    </a:lnTo>
                    <a:lnTo>
                      <a:pt x="551" y="826"/>
                    </a:lnTo>
                    <a:lnTo>
                      <a:pt x="578" y="812"/>
                    </a:lnTo>
                    <a:lnTo>
                      <a:pt x="602" y="800"/>
                    </a:lnTo>
                    <a:lnTo>
                      <a:pt x="621" y="790"/>
                    </a:lnTo>
                    <a:lnTo>
                      <a:pt x="635" y="781"/>
                    </a:lnTo>
                    <a:lnTo>
                      <a:pt x="658" y="771"/>
                    </a:lnTo>
                    <a:lnTo>
                      <a:pt x="676" y="763"/>
                    </a:lnTo>
                    <a:lnTo>
                      <a:pt x="682" y="761"/>
                    </a:lnTo>
                    <a:lnTo>
                      <a:pt x="688" y="760"/>
                    </a:lnTo>
                    <a:lnTo>
                      <a:pt x="693" y="760"/>
                    </a:lnTo>
                    <a:lnTo>
                      <a:pt x="696" y="761"/>
                    </a:lnTo>
                    <a:lnTo>
                      <a:pt x="696" y="764"/>
                    </a:lnTo>
                    <a:lnTo>
                      <a:pt x="696" y="767"/>
                    </a:lnTo>
                    <a:lnTo>
                      <a:pt x="694" y="772"/>
                    </a:lnTo>
                    <a:lnTo>
                      <a:pt x="691" y="777"/>
                    </a:lnTo>
                    <a:lnTo>
                      <a:pt x="681" y="790"/>
                    </a:lnTo>
                    <a:lnTo>
                      <a:pt x="665" y="807"/>
                    </a:lnTo>
                    <a:lnTo>
                      <a:pt x="638" y="831"/>
                    </a:lnTo>
                    <a:lnTo>
                      <a:pt x="610" y="858"/>
                    </a:lnTo>
                    <a:lnTo>
                      <a:pt x="581" y="883"/>
                    </a:lnTo>
                    <a:lnTo>
                      <a:pt x="553" y="909"/>
                    </a:lnTo>
                    <a:lnTo>
                      <a:pt x="524" y="937"/>
                    </a:lnTo>
                    <a:lnTo>
                      <a:pt x="495" y="965"/>
                    </a:lnTo>
                    <a:lnTo>
                      <a:pt x="465" y="993"/>
                    </a:lnTo>
                    <a:lnTo>
                      <a:pt x="435" y="1022"/>
                    </a:lnTo>
                    <a:lnTo>
                      <a:pt x="426" y="1005"/>
                    </a:lnTo>
                    <a:lnTo>
                      <a:pt x="416" y="989"/>
                    </a:lnTo>
                    <a:lnTo>
                      <a:pt x="406" y="976"/>
                    </a:lnTo>
                    <a:lnTo>
                      <a:pt x="397" y="964"/>
                    </a:lnTo>
                    <a:lnTo>
                      <a:pt x="388" y="953"/>
                    </a:lnTo>
                    <a:lnTo>
                      <a:pt x="378" y="944"/>
                    </a:lnTo>
                    <a:lnTo>
                      <a:pt x="370" y="937"/>
                    </a:lnTo>
                    <a:lnTo>
                      <a:pt x="360" y="932"/>
                    </a:lnTo>
                    <a:lnTo>
                      <a:pt x="367" y="925"/>
                    </a:lnTo>
                    <a:lnTo>
                      <a:pt x="375" y="919"/>
                    </a:lnTo>
                    <a:lnTo>
                      <a:pt x="381" y="912"/>
                    </a:lnTo>
                    <a:lnTo>
                      <a:pt x="387" y="903"/>
                    </a:lnTo>
                    <a:lnTo>
                      <a:pt x="393" y="895"/>
                    </a:lnTo>
                    <a:lnTo>
                      <a:pt x="398" y="885"/>
                    </a:lnTo>
                    <a:lnTo>
                      <a:pt x="402" y="875"/>
                    </a:lnTo>
                    <a:lnTo>
                      <a:pt x="407" y="864"/>
                    </a:lnTo>
                    <a:lnTo>
                      <a:pt x="411" y="852"/>
                    </a:lnTo>
                    <a:lnTo>
                      <a:pt x="414" y="840"/>
                    </a:lnTo>
                    <a:lnTo>
                      <a:pt x="417" y="827"/>
                    </a:lnTo>
                    <a:lnTo>
                      <a:pt x="419" y="813"/>
                    </a:lnTo>
                    <a:lnTo>
                      <a:pt x="424" y="783"/>
                    </a:lnTo>
                    <a:lnTo>
                      <a:pt x="426" y="752"/>
                    </a:lnTo>
                    <a:lnTo>
                      <a:pt x="430" y="685"/>
                    </a:lnTo>
                    <a:lnTo>
                      <a:pt x="433" y="617"/>
                    </a:lnTo>
                    <a:lnTo>
                      <a:pt x="435" y="549"/>
                    </a:lnTo>
                    <a:lnTo>
                      <a:pt x="436" y="479"/>
                    </a:lnTo>
                    <a:lnTo>
                      <a:pt x="436" y="410"/>
                    </a:lnTo>
                    <a:lnTo>
                      <a:pt x="436" y="339"/>
                    </a:lnTo>
                    <a:lnTo>
                      <a:pt x="434" y="267"/>
                    </a:lnTo>
                    <a:lnTo>
                      <a:pt x="430" y="195"/>
                    </a:lnTo>
                    <a:lnTo>
                      <a:pt x="428" y="174"/>
                    </a:lnTo>
                    <a:lnTo>
                      <a:pt x="424" y="153"/>
                    </a:lnTo>
                    <a:lnTo>
                      <a:pt x="419" y="133"/>
                    </a:lnTo>
                    <a:lnTo>
                      <a:pt x="414" y="113"/>
                    </a:lnTo>
                    <a:lnTo>
                      <a:pt x="408" y="95"/>
                    </a:lnTo>
                    <a:lnTo>
                      <a:pt x="401" y="78"/>
                    </a:lnTo>
                    <a:lnTo>
                      <a:pt x="394" y="61"/>
                    </a:lnTo>
                    <a:lnTo>
                      <a:pt x="385" y="46"/>
                    </a:lnTo>
                    <a:lnTo>
                      <a:pt x="417" y="49"/>
                    </a:lnTo>
                    <a:lnTo>
                      <a:pt x="448" y="54"/>
                    </a:lnTo>
                    <a:lnTo>
                      <a:pt x="478" y="62"/>
                    </a:lnTo>
                    <a:lnTo>
                      <a:pt x="505" y="70"/>
                    </a:lnTo>
                    <a:lnTo>
                      <a:pt x="545" y="64"/>
                    </a:lnTo>
                    <a:lnTo>
                      <a:pt x="581" y="56"/>
                    </a:lnTo>
                    <a:lnTo>
                      <a:pt x="615" y="49"/>
                    </a:lnTo>
                    <a:lnTo>
                      <a:pt x="645" y="41"/>
                    </a:lnTo>
                    <a:lnTo>
                      <a:pt x="673" y="31"/>
                    </a:lnTo>
                    <a:lnTo>
                      <a:pt x="697" y="21"/>
                    </a:lnTo>
                    <a:lnTo>
                      <a:pt x="718" y="12"/>
                    </a:lnTo>
                    <a:lnTo>
                      <a:pt x="736" y="0"/>
                    </a:lnTo>
                    <a:lnTo>
                      <a:pt x="750" y="14"/>
                    </a:lnTo>
                    <a:lnTo>
                      <a:pt x="765" y="26"/>
                    </a:lnTo>
                    <a:lnTo>
                      <a:pt x="781" y="37"/>
                    </a:lnTo>
                    <a:lnTo>
                      <a:pt x="796" y="47"/>
                    </a:lnTo>
                    <a:lnTo>
                      <a:pt x="814" y="55"/>
                    </a:lnTo>
                    <a:lnTo>
                      <a:pt x="832" y="64"/>
                    </a:lnTo>
                    <a:lnTo>
                      <a:pt x="850" y="70"/>
                    </a:lnTo>
                    <a:lnTo>
                      <a:pt x="871" y="75"/>
                    </a:lnTo>
                    <a:lnTo>
                      <a:pt x="863" y="83"/>
                    </a:lnTo>
                    <a:lnTo>
                      <a:pt x="856" y="90"/>
                    </a:lnTo>
                    <a:lnTo>
                      <a:pt x="849" y="100"/>
                    </a:lnTo>
                    <a:lnTo>
                      <a:pt x="843" y="110"/>
                    </a:lnTo>
                    <a:lnTo>
                      <a:pt x="837" y="122"/>
                    </a:lnTo>
                    <a:lnTo>
                      <a:pt x="831" y="136"/>
                    </a:lnTo>
                    <a:lnTo>
                      <a:pt x="826" y="150"/>
                    </a:lnTo>
                    <a:lnTo>
                      <a:pt x="821" y="166"/>
                    </a:lnTo>
                    <a:lnTo>
                      <a:pt x="817" y="185"/>
                    </a:lnTo>
                    <a:lnTo>
                      <a:pt x="812" y="206"/>
                    </a:lnTo>
                    <a:lnTo>
                      <a:pt x="807" y="229"/>
                    </a:lnTo>
                    <a:lnTo>
                      <a:pt x="802" y="255"/>
                    </a:lnTo>
                    <a:lnTo>
                      <a:pt x="796" y="282"/>
                    </a:lnTo>
                    <a:lnTo>
                      <a:pt x="790" y="313"/>
                    </a:lnTo>
                    <a:lnTo>
                      <a:pt x="783" y="346"/>
                    </a:lnTo>
                    <a:lnTo>
                      <a:pt x="775" y="381"/>
                    </a:lnTo>
                    <a:lnTo>
                      <a:pt x="773" y="400"/>
                    </a:lnTo>
                    <a:lnTo>
                      <a:pt x="771" y="416"/>
                    </a:lnTo>
                    <a:lnTo>
                      <a:pt x="768" y="429"/>
                    </a:lnTo>
                    <a:lnTo>
                      <a:pt x="766" y="441"/>
                    </a:lnTo>
                    <a:lnTo>
                      <a:pt x="763" y="450"/>
                    </a:lnTo>
                    <a:lnTo>
                      <a:pt x="760" y="456"/>
                    </a:lnTo>
                    <a:lnTo>
                      <a:pt x="758" y="460"/>
                    </a:lnTo>
                    <a:lnTo>
                      <a:pt x="755" y="461"/>
                    </a:lnTo>
                    <a:lnTo>
                      <a:pt x="754" y="462"/>
                    </a:lnTo>
                    <a:lnTo>
                      <a:pt x="752" y="462"/>
                    </a:lnTo>
                    <a:lnTo>
                      <a:pt x="751" y="462"/>
                    </a:lnTo>
                    <a:lnTo>
                      <a:pt x="748" y="461"/>
                    </a:lnTo>
                    <a:lnTo>
                      <a:pt x="742" y="457"/>
                    </a:lnTo>
                    <a:lnTo>
                      <a:pt x="736" y="451"/>
                    </a:lnTo>
                    <a:close/>
                    <a:moveTo>
                      <a:pt x="240" y="110"/>
                    </a:moveTo>
                    <a:lnTo>
                      <a:pt x="105" y="151"/>
                    </a:lnTo>
                    <a:lnTo>
                      <a:pt x="105" y="842"/>
                    </a:lnTo>
                    <a:lnTo>
                      <a:pt x="105" y="886"/>
                    </a:lnTo>
                    <a:lnTo>
                      <a:pt x="105" y="925"/>
                    </a:lnTo>
                    <a:lnTo>
                      <a:pt x="104" y="958"/>
                    </a:lnTo>
                    <a:lnTo>
                      <a:pt x="103" y="984"/>
                    </a:lnTo>
                    <a:lnTo>
                      <a:pt x="102" y="1003"/>
                    </a:lnTo>
                    <a:lnTo>
                      <a:pt x="100" y="1015"/>
                    </a:lnTo>
                    <a:lnTo>
                      <a:pt x="98" y="1020"/>
                    </a:lnTo>
                    <a:lnTo>
                      <a:pt x="97" y="1022"/>
                    </a:lnTo>
                    <a:lnTo>
                      <a:pt x="96" y="1023"/>
                    </a:lnTo>
                    <a:lnTo>
                      <a:pt x="95" y="1022"/>
                    </a:lnTo>
                    <a:lnTo>
                      <a:pt x="80" y="1013"/>
                    </a:lnTo>
                    <a:lnTo>
                      <a:pt x="67" y="1005"/>
                    </a:lnTo>
                    <a:lnTo>
                      <a:pt x="54" y="995"/>
                    </a:lnTo>
                    <a:lnTo>
                      <a:pt x="41" y="985"/>
                    </a:lnTo>
                    <a:lnTo>
                      <a:pt x="30" y="974"/>
                    </a:lnTo>
                    <a:lnTo>
                      <a:pt x="19" y="962"/>
                    </a:lnTo>
                    <a:lnTo>
                      <a:pt x="9" y="950"/>
                    </a:lnTo>
                    <a:lnTo>
                      <a:pt x="0" y="936"/>
                    </a:lnTo>
                    <a:lnTo>
                      <a:pt x="4" y="919"/>
                    </a:lnTo>
                    <a:lnTo>
                      <a:pt x="8" y="900"/>
                    </a:lnTo>
                    <a:lnTo>
                      <a:pt x="13" y="880"/>
                    </a:lnTo>
                    <a:lnTo>
                      <a:pt x="16" y="858"/>
                    </a:lnTo>
                    <a:lnTo>
                      <a:pt x="22" y="809"/>
                    </a:lnTo>
                    <a:lnTo>
                      <a:pt x="26" y="754"/>
                    </a:lnTo>
                    <a:lnTo>
                      <a:pt x="31" y="691"/>
                    </a:lnTo>
                    <a:lnTo>
                      <a:pt x="33" y="622"/>
                    </a:lnTo>
                    <a:lnTo>
                      <a:pt x="35" y="548"/>
                    </a:lnTo>
                    <a:lnTo>
                      <a:pt x="35" y="465"/>
                    </a:lnTo>
                    <a:lnTo>
                      <a:pt x="35" y="396"/>
                    </a:lnTo>
                    <a:lnTo>
                      <a:pt x="33" y="331"/>
                    </a:lnTo>
                    <a:lnTo>
                      <a:pt x="31" y="274"/>
                    </a:lnTo>
                    <a:lnTo>
                      <a:pt x="26" y="222"/>
                    </a:lnTo>
                    <a:lnTo>
                      <a:pt x="22" y="177"/>
                    </a:lnTo>
                    <a:lnTo>
                      <a:pt x="16" y="138"/>
                    </a:lnTo>
                    <a:lnTo>
                      <a:pt x="13" y="121"/>
                    </a:lnTo>
                    <a:lnTo>
                      <a:pt x="8" y="106"/>
                    </a:lnTo>
                    <a:lnTo>
                      <a:pt x="4" y="92"/>
                    </a:lnTo>
                    <a:lnTo>
                      <a:pt x="0" y="81"/>
                    </a:lnTo>
                    <a:lnTo>
                      <a:pt x="13" y="84"/>
                    </a:lnTo>
                    <a:lnTo>
                      <a:pt x="27" y="88"/>
                    </a:lnTo>
                    <a:lnTo>
                      <a:pt x="48" y="94"/>
                    </a:lnTo>
                    <a:lnTo>
                      <a:pt x="70" y="101"/>
                    </a:lnTo>
                    <a:lnTo>
                      <a:pt x="90" y="108"/>
                    </a:lnTo>
                    <a:lnTo>
                      <a:pt x="101" y="110"/>
                    </a:lnTo>
                    <a:lnTo>
                      <a:pt x="125" y="102"/>
                    </a:lnTo>
                    <a:lnTo>
                      <a:pt x="147" y="92"/>
                    </a:lnTo>
                    <a:lnTo>
                      <a:pt x="167" y="83"/>
                    </a:lnTo>
                    <a:lnTo>
                      <a:pt x="185" y="73"/>
                    </a:lnTo>
                    <a:lnTo>
                      <a:pt x="202" y="63"/>
                    </a:lnTo>
                    <a:lnTo>
                      <a:pt x="217" y="52"/>
                    </a:lnTo>
                    <a:lnTo>
                      <a:pt x="230" y="42"/>
                    </a:lnTo>
                    <a:lnTo>
                      <a:pt x="240" y="31"/>
                    </a:lnTo>
                    <a:lnTo>
                      <a:pt x="253" y="41"/>
                    </a:lnTo>
                    <a:lnTo>
                      <a:pt x="267" y="50"/>
                    </a:lnTo>
                    <a:lnTo>
                      <a:pt x="282" y="60"/>
                    </a:lnTo>
                    <a:lnTo>
                      <a:pt x="297" y="68"/>
                    </a:lnTo>
                    <a:lnTo>
                      <a:pt x="312" y="77"/>
                    </a:lnTo>
                    <a:lnTo>
                      <a:pt x="329" y="85"/>
                    </a:lnTo>
                    <a:lnTo>
                      <a:pt x="347" y="92"/>
                    </a:lnTo>
                    <a:lnTo>
                      <a:pt x="365" y="101"/>
                    </a:lnTo>
                    <a:lnTo>
                      <a:pt x="347" y="117"/>
                    </a:lnTo>
                    <a:lnTo>
                      <a:pt x="329" y="136"/>
                    </a:lnTo>
                    <a:lnTo>
                      <a:pt x="310" y="158"/>
                    </a:lnTo>
                    <a:lnTo>
                      <a:pt x="291" y="181"/>
                    </a:lnTo>
                    <a:lnTo>
                      <a:pt x="272" y="209"/>
                    </a:lnTo>
                    <a:lnTo>
                      <a:pt x="252" y="239"/>
                    </a:lnTo>
                    <a:lnTo>
                      <a:pt x="232" y="270"/>
                    </a:lnTo>
                    <a:lnTo>
                      <a:pt x="211" y="305"/>
                    </a:lnTo>
                    <a:lnTo>
                      <a:pt x="233" y="319"/>
                    </a:lnTo>
                    <a:lnTo>
                      <a:pt x="254" y="334"/>
                    </a:lnTo>
                    <a:lnTo>
                      <a:pt x="272" y="349"/>
                    </a:lnTo>
                    <a:lnTo>
                      <a:pt x="289" y="365"/>
                    </a:lnTo>
                    <a:lnTo>
                      <a:pt x="304" y="381"/>
                    </a:lnTo>
                    <a:lnTo>
                      <a:pt x="317" y="397"/>
                    </a:lnTo>
                    <a:lnTo>
                      <a:pt x="327" y="414"/>
                    </a:lnTo>
                    <a:lnTo>
                      <a:pt x="336" y="431"/>
                    </a:lnTo>
                    <a:lnTo>
                      <a:pt x="342" y="454"/>
                    </a:lnTo>
                    <a:lnTo>
                      <a:pt x="346" y="475"/>
                    </a:lnTo>
                    <a:lnTo>
                      <a:pt x="348" y="494"/>
                    </a:lnTo>
                    <a:lnTo>
                      <a:pt x="349" y="512"/>
                    </a:lnTo>
                    <a:lnTo>
                      <a:pt x="348" y="521"/>
                    </a:lnTo>
                    <a:lnTo>
                      <a:pt x="347" y="528"/>
                    </a:lnTo>
                    <a:lnTo>
                      <a:pt x="346" y="535"/>
                    </a:lnTo>
                    <a:lnTo>
                      <a:pt x="344" y="543"/>
                    </a:lnTo>
                    <a:lnTo>
                      <a:pt x="341" y="549"/>
                    </a:lnTo>
                    <a:lnTo>
                      <a:pt x="338" y="556"/>
                    </a:lnTo>
                    <a:lnTo>
                      <a:pt x="335" y="561"/>
                    </a:lnTo>
                    <a:lnTo>
                      <a:pt x="330" y="566"/>
                    </a:lnTo>
                    <a:lnTo>
                      <a:pt x="318" y="564"/>
                    </a:lnTo>
                    <a:lnTo>
                      <a:pt x="303" y="560"/>
                    </a:lnTo>
                    <a:lnTo>
                      <a:pt x="286" y="554"/>
                    </a:lnTo>
                    <a:lnTo>
                      <a:pt x="266" y="547"/>
                    </a:lnTo>
                    <a:lnTo>
                      <a:pt x="243" y="539"/>
                    </a:lnTo>
                    <a:lnTo>
                      <a:pt x="218" y="528"/>
                    </a:lnTo>
                    <a:lnTo>
                      <a:pt x="191" y="515"/>
                    </a:lnTo>
                    <a:lnTo>
                      <a:pt x="160" y="500"/>
                    </a:lnTo>
                    <a:lnTo>
                      <a:pt x="154" y="496"/>
                    </a:lnTo>
                    <a:lnTo>
                      <a:pt x="149" y="492"/>
                    </a:lnTo>
                    <a:lnTo>
                      <a:pt x="146" y="489"/>
                    </a:lnTo>
                    <a:lnTo>
                      <a:pt x="145" y="486"/>
                    </a:lnTo>
                    <a:lnTo>
                      <a:pt x="146" y="483"/>
                    </a:lnTo>
                    <a:lnTo>
                      <a:pt x="150" y="481"/>
                    </a:lnTo>
                    <a:lnTo>
                      <a:pt x="157" y="478"/>
                    </a:lnTo>
                    <a:lnTo>
                      <a:pt x="165" y="476"/>
                    </a:lnTo>
                    <a:lnTo>
                      <a:pt x="185" y="475"/>
                    </a:lnTo>
                    <a:lnTo>
                      <a:pt x="205" y="473"/>
                    </a:lnTo>
                    <a:lnTo>
                      <a:pt x="226" y="471"/>
                    </a:lnTo>
                    <a:lnTo>
                      <a:pt x="246" y="465"/>
                    </a:lnTo>
                    <a:lnTo>
                      <a:pt x="250" y="464"/>
                    </a:lnTo>
                    <a:lnTo>
                      <a:pt x="253" y="462"/>
                    </a:lnTo>
                    <a:lnTo>
                      <a:pt x="256" y="459"/>
                    </a:lnTo>
                    <a:lnTo>
                      <a:pt x="258" y="455"/>
                    </a:lnTo>
                    <a:lnTo>
                      <a:pt x="258" y="450"/>
                    </a:lnTo>
                    <a:lnTo>
                      <a:pt x="258" y="444"/>
                    </a:lnTo>
                    <a:lnTo>
                      <a:pt x="257" y="438"/>
                    </a:lnTo>
                    <a:lnTo>
                      <a:pt x="255" y="431"/>
                    </a:lnTo>
                    <a:lnTo>
                      <a:pt x="252" y="423"/>
                    </a:lnTo>
                    <a:lnTo>
                      <a:pt x="248" y="412"/>
                    </a:lnTo>
                    <a:lnTo>
                      <a:pt x="241" y="401"/>
                    </a:lnTo>
                    <a:lnTo>
                      <a:pt x="234" y="388"/>
                    </a:lnTo>
                    <a:lnTo>
                      <a:pt x="215" y="357"/>
                    </a:lnTo>
                    <a:lnTo>
                      <a:pt x="191" y="320"/>
                    </a:lnTo>
                    <a:lnTo>
                      <a:pt x="185" y="312"/>
                    </a:lnTo>
                    <a:lnTo>
                      <a:pt x="180" y="305"/>
                    </a:lnTo>
                    <a:lnTo>
                      <a:pt x="192" y="277"/>
                    </a:lnTo>
                    <a:lnTo>
                      <a:pt x="201" y="248"/>
                    </a:lnTo>
                    <a:lnTo>
                      <a:pt x="210" y="222"/>
                    </a:lnTo>
                    <a:lnTo>
                      <a:pt x="218" y="197"/>
                    </a:lnTo>
                    <a:lnTo>
                      <a:pt x="225" y="173"/>
                    </a:lnTo>
                    <a:lnTo>
                      <a:pt x="231" y="151"/>
                    </a:lnTo>
                    <a:lnTo>
                      <a:pt x="236" y="130"/>
                    </a:lnTo>
                    <a:lnTo>
                      <a:pt x="240" y="110"/>
                    </a:lnTo>
                    <a:close/>
                    <a:moveTo>
                      <a:pt x="501" y="116"/>
                    </a:moveTo>
                    <a:lnTo>
                      <a:pt x="501" y="236"/>
                    </a:lnTo>
                    <a:lnTo>
                      <a:pt x="522" y="230"/>
                    </a:lnTo>
                    <a:lnTo>
                      <a:pt x="545" y="225"/>
                    </a:lnTo>
                    <a:lnTo>
                      <a:pt x="572" y="217"/>
                    </a:lnTo>
                    <a:lnTo>
                      <a:pt x="601" y="211"/>
                    </a:lnTo>
                    <a:lnTo>
                      <a:pt x="616" y="206"/>
                    </a:lnTo>
                    <a:lnTo>
                      <a:pt x="630" y="202"/>
                    </a:lnTo>
                    <a:lnTo>
                      <a:pt x="642" y="198"/>
                    </a:lnTo>
                    <a:lnTo>
                      <a:pt x="650" y="195"/>
                    </a:lnTo>
                    <a:lnTo>
                      <a:pt x="664" y="208"/>
                    </a:lnTo>
                    <a:lnTo>
                      <a:pt x="676" y="221"/>
                    </a:lnTo>
                    <a:lnTo>
                      <a:pt x="684" y="233"/>
                    </a:lnTo>
                    <a:lnTo>
                      <a:pt x="691" y="246"/>
                    </a:lnTo>
                    <a:lnTo>
                      <a:pt x="677" y="248"/>
                    </a:lnTo>
                    <a:lnTo>
                      <a:pt x="658" y="250"/>
                    </a:lnTo>
                    <a:lnTo>
                      <a:pt x="637" y="254"/>
                    </a:lnTo>
                    <a:lnTo>
                      <a:pt x="611" y="256"/>
                    </a:lnTo>
                    <a:lnTo>
                      <a:pt x="574" y="263"/>
                    </a:lnTo>
                    <a:lnTo>
                      <a:pt x="543" y="268"/>
                    </a:lnTo>
                    <a:lnTo>
                      <a:pt x="519" y="273"/>
                    </a:lnTo>
                    <a:lnTo>
                      <a:pt x="501" y="276"/>
                    </a:lnTo>
                    <a:lnTo>
                      <a:pt x="501" y="396"/>
                    </a:lnTo>
                    <a:lnTo>
                      <a:pt x="513" y="393"/>
                    </a:lnTo>
                    <a:lnTo>
                      <a:pt x="526" y="391"/>
                    </a:lnTo>
                    <a:lnTo>
                      <a:pt x="544" y="388"/>
                    </a:lnTo>
                    <a:lnTo>
                      <a:pt x="566" y="386"/>
                    </a:lnTo>
                    <a:lnTo>
                      <a:pt x="608" y="379"/>
                    </a:lnTo>
                    <a:lnTo>
                      <a:pt x="643" y="373"/>
                    </a:lnTo>
                    <a:lnTo>
                      <a:pt x="673" y="369"/>
                    </a:lnTo>
                    <a:lnTo>
                      <a:pt x="696" y="366"/>
                    </a:lnTo>
                    <a:lnTo>
                      <a:pt x="700" y="333"/>
                    </a:lnTo>
                    <a:lnTo>
                      <a:pt x="705" y="298"/>
                    </a:lnTo>
                    <a:lnTo>
                      <a:pt x="710" y="263"/>
                    </a:lnTo>
                    <a:lnTo>
                      <a:pt x="714" y="227"/>
                    </a:lnTo>
                    <a:lnTo>
                      <a:pt x="718" y="190"/>
                    </a:lnTo>
                    <a:lnTo>
                      <a:pt x="722" y="151"/>
                    </a:lnTo>
                    <a:lnTo>
                      <a:pt x="727" y="112"/>
                    </a:lnTo>
                    <a:lnTo>
                      <a:pt x="731" y="70"/>
                    </a:lnTo>
                    <a:lnTo>
                      <a:pt x="721" y="73"/>
                    </a:lnTo>
                    <a:lnTo>
                      <a:pt x="706" y="77"/>
                    </a:lnTo>
                    <a:lnTo>
                      <a:pt x="688" y="81"/>
                    </a:lnTo>
                    <a:lnTo>
                      <a:pt x="665" y="86"/>
                    </a:lnTo>
                    <a:lnTo>
                      <a:pt x="637" y="90"/>
                    </a:lnTo>
                    <a:lnTo>
                      <a:pt x="610" y="95"/>
                    </a:lnTo>
                    <a:lnTo>
                      <a:pt x="586" y="99"/>
                    </a:lnTo>
                    <a:lnTo>
                      <a:pt x="565" y="103"/>
                    </a:lnTo>
                    <a:lnTo>
                      <a:pt x="544" y="106"/>
                    </a:lnTo>
                    <a:lnTo>
                      <a:pt x="527" y="109"/>
                    </a:lnTo>
                    <a:lnTo>
                      <a:pt x="513" y="113"/>
                    </a:lnTo>
                    <a:lnTo>
                      <a:pt x="501" y="116"/>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656" name="Freeform 23"/>
              <p:cNvSpPr/>
              <p:nvPr/>
            </p:nvSpPr>
            <p:spPr>
              <a:xfrm>
                <a:off x="2670120" y="1300320"/>
                <a:ext cx="177120" cy="134640"/>
              </a:xfrm>
              <a:custGeom>
                <a:avLst/>
                <a:gdLst>
                  <a:gd name="textAreaLeft" fmla="*/ 0 w 177120"/>
                  <a:gd name="textAreaRight" fmla="*/ 177480 w 177120"/>
                  <a:gd name="textAreaTop" fmla="*/ 0 h 134640"/>
                  <a:gd name="textAreaBottom" fmla="*/ 135000 h 134640"/>
                </a:gdLst>
                <a:ahLst/>
                <a:rect l="textAreaLeft" t="textAreaTop" r="textAreaRight" b="textAreaBottom"/>
                <a:pathLst>
                  <a:path w="1185" h="971">
                    <a:moveTo>
                      <a:pt x="660" y="675"/>
                    </a:moveTo>
                    <a:lnTo>
                      <a:pt x="694" y="698"/>
                    </a:lnTo>
                    <a:lnTo>
                      <a:pt x="724" y="720"/>
                    </a:lnTo>
                    <a:lnTo>
                      <a:pt x="754" y="740"/>
                    </a:lnTo>
                    <a:lnTo>
                      <a:pt x="780" y="760"/>
                    </a:lnTo>
                    <a:lnTo>
                      <a:pt x="804" y="778"/>
                    </a:lnTo>
                    <a:lnTo>
                      <a:pt x="825" y="795"/>
                    </a:lnTo>
                    <a:lnTo>
                      <a:pt x="844" y="811"/>
                    </a:lnTo>
                    <a:lnTo>
                      <a:pt x="860" y="825"/>
                    </a:lnTo>
                    <a:lnTo>
                      <a:pt x="863" y="834"/>
                    </a:lnTo>
                    <a:lnTo>
                      <a:pt x="865" y="844"/>
                    </a:lnTo>
                    <a:lnTo>
                      <a:pt x="865" y="856"/>
                    </a:lnTo>
                    <a:lnTo>
                      <a:pt x="865" y="869"/>
                    </a:lnTo>
                    <a:lnTo>
                      <a:pt x="863" y="884"/>
                    </a:lnTo>
                    <a:lnTo>
                      <a:pt x="860" y="901"/>
                    </a:lnTo>
                    <a:lnTo>
                      <a:pt x="856" y="919"/>
                    </a:lnTo>
                    <a:lnTo>
                      <a:pt x="849" y="941"/>
                    </a:lnTo>
                    <a:lnTo>
                      <a:pt x="848" y="947"/>
                    </a:lnTo>
                    <a:lnTo>
                      <a:pt x="846" y="953"/>
                    </a:lnTo>
                    <a:lnTo>
                      <a:pt x="845" y="959"/>
                    </a:lnTo>
                    <a:lnTo>
                      <a:pt x="842" y="963"/>
                    </a:lnTo>
                    <a:lnTo>
                      <a:pt x="840" y="966"/>
                    </a:lnTo>
                    <a:lnTo>
                      <a:pt x="837" y="968"/>
                    </a:lnTo>
                    <a:lnTo>
                      <a:pt x="834" y="970"/>
                    </a:lnTo>
                    <a:lnTo>
                      <a:pt x="830" y="970"/>
                    </a:lnTo>
                    <a:lnTo>
                      <a:pt x="827" y="971"/>
                    </a:lnTo>
                    <a:lnTo>
                      <a:pt x="825" y="971"/>
                    </a:lnTo>
                    <a:lnTo>
                      <a:pt x="822" y="970"/>
                    </a:lnTo>
                    <a:lnTo>
                      <a:pt x="819" y="968"/>
                    </a:lnTo>
                    <a:lnTo>
                      <a:pt x="812" y="961"/>
                    </a:lnTo>
                    <a:lnTo>
                      <a:pt x="805" y="950"/>
                    </a:lnTo>
                    <a:lnTo>
                      <a:pt x="797" y="944"/>
                    </a:lnTo>
                    <a:lnTo>
                      <a:pt x="788" y="936"/>
                    </a:lnTo>
                    <a:lnTo>
                      <a:pt x="778" y="926"/>
                    </a:lnTo>
                    <a:lnTo>
                      <a:pt x="768" y="913"/>
                    </a:lnTo>
                    <a:lnTo>
                      <a:pt x="744" y="881"/>
                    </a:lnTo>
                    <a:lnTo>
                      <a:pt x="715" y="840"/>
                    </a:lnTo>
                    <a:lnTo>
                      <a:pt x="643" y="853"/>
                    </a:lnTo>
                    <a:lnTo>
                      <a:pt x="574" y="866"/>
                    </a:lnTo>
                    <a:lnTo>
                      <a:pt x="507" y="880"/>
                    </a:lnTo>
                    <a:lnTo>
                      <a:pt x="445" y="894"/>
                    </a:lnTo>
                    <a:lnTo>
                      <a:pt x="386" y="909"/>
                    </a:lnTo>
                    <a:lnTo>
                      <a:pt x="328" y="924"/>
                    </a:lnTo>
                    <a:lnTo>
                      <a:pt x="275" y="940"/>
                    </a:lnTo>
                    <a:lnTo>
                      <a:pt x="225" y="955"/>
                    </a:lnTo>
                    <a:lnTo>
                      <a:pt x="225" y="941"/>
                    </a:lnTo>
                    <a:lnTo>
                      <a:pt x="223" y="926"/>
                    </a:lnTo>
                    <a:lnTo>
                      <a:pt x="222" y="912"/>
                    </a:lnTo>
                    <a:lnTo>
                      <a:pt x="219" y="898"/>
                    </a:lnTo>
                    <a:lnTo>
                      <a:pt x="217" y="884"/>
                    </a:lnTo>
                    <a:lnTo>
                      <a:pt x="214" y="871"/>
                    </a:lnTo>
                    <a:lnTo>
                      <a:pt x="210" y="858"/>
                    </a:lnTo>
                    <a:lnTo>
                      <a:pt x="204" y="845"/>
                    </a:lnTo>
                    <a:lnTo>
                      <a:pt x="221" y="841"/>
                    </a:lnTo>
                    <a:lnTo>
                      <a:pt x="237" y="836"/>
                    </a:lnTo>
                    <a:lnTo>
                      <a:pt x="253" y="828"/>
                    </a:lnTo>
                    <a:lnTo>
                      <a:pt x="269" y="820"/>
                    </a:lnTo>
                    <a:lnTo>
                      <a:pt x="284" y="811"/>
                    </a:lnTo>
                    <a:lnTo>
                      <a:pt x="300" y="800"/>
                    </a:lnTo>
                    <a:lnTo>
                      <a:pt x="315" y="788"/>
                    </a:lnTo>
                    <a:lnTo>
                      <a:pt x="329" y="775"/>
                    </a:lnTo>
                    <a:lnTo>
                      <a:pt x="345" y="756"/>
                    </a:lnTo>
                    <a:lnTo>
                      <a:pt x="361" y="737"/>
                    </a:lnTo>
                    <a:lnTo>
                      <a:pt x="375" y="718"/>
                    </a:lnTo>
                    <a:lnTo>
                      <a:pt x="389" y="698"/>
                    </a:lnTo>
                    <a:lnTo>
                      <a:pt x="401" y="679"/>
                    </a:lnTo>
                    <a:lnTo>
                      <a:pt x="413" y="659"/>
                    </a:lnTo>
                    <a:lnTo>
                      <a:pt x="425" y="639"/>
                    </a:lnTo>
                    <a:lnTo>
                      <a:pt x="435" y="617"/>
                    </a:lnTo>
                    <a:lnTo>
                      <a:pt x="445" y="597"/>
                    </a:lnTo>
                    <a:lnTo>
                      <a:pt x="453" y="576"/>
                    </a:lnTo>
                    <a:lnTo>
                      <a:pt x="462" y="555"/>
                    </a:lnTo>
                    <a:lnTo>
                      <a:pt x="468" y="533"/>
                    </a:lnTo>
                    <a:lnTo>
                      <a:pt x="476" y="511"/>
                    </a:lnTo>
                    <a:lnTo>
                      <a:pt x="481" y="489"/>
                    </a:lnTo>
                    <a:lnTo>
                      <a:pt x="486" y="467"/>
                    </a:lnTo>
                    <a:lnTo>
                      <a:pt x="490" y="445"/>
                    </a:lnTo>
                    <a:lnTo>
                      <a:pt x="513" y="461"/>
                    </a:lnTo>
                    <a:lnTo>
                      <a:pt x="534" y="474"/>
                    </a:lnTo>
                    <a:lnTo>
                      <a:pt x="554" y="486"/>
                    </a:lnTo>
                    <a:lnTo>
                      <a:pt x="572" y="497"/>
                    </a:lnTo>
                    <a:lnTo>
                      <a:pt x="589" y="505"/>
                    </a:lnTo>
                    <a:lnTo>
                      <a:pt x="604" y="511"/>
                    </a:lnTo>
                    <a:lnTo>
                      <a:pt x="618" y="517"/>
                    </a:lnTo>
                    <a:lnTo>
                      <a:pt x="630" y="520"/>
                    </a:lnTo>
                    <a:lnTo>
                      <a:pt x="616" y="527"/>
                    </a:lnTo>
                    <a:lnTo>
                      <a:pt x="604" y="537"/>
                    </a:lnTo>
                    <a:lnTo>
                      <a:pt x="592" y="546"/>
                    </a:lnTo>
                    <a:lnTo>
                      <a:pt x="581" y="556"/>
                    </a:lnTo>
                    <a:lnTo>
                      <a:pt x="571" y="568"/>
                    </a:lnTo>
                    <a:lnTo>
                      <a:pt x="561" y="579"/>
                    </a:lnTo>
                    <a:lnTo>
                      <a:pt x="553" y="592"/>
                    </a:lnTo>
                    <a:lnTo>
                      <a:pt x="544" y="605"/>
                    </a:lnTo>
                    <a:lnTo>
                      <a:pt x="525" y="633"/>
                    </a:lnTo>
                    <a:lnTo>
                      <a:pt x="506" y="662"/>
                    </a:lnTo>
                    <a:lnTo>
                      <a:pt x="486" y="689"/>
                    </a:lnTo>
                    <a:lnTo>
                      <a:pt x="466" y="718"/>
                    </a:lnTo>
                    <a:lnTo>
                      <a:pt x="445" y="745"/>
                    </a:lnTo>
                    <a:lnTo>
                      <a:pt x="424" y="772"/>
                    </a:lnTo>
                    <a:lnTo>
                      <a:pt x="402" y="799"/>
                    </a:lnTo>
                    <a:lnTo>
                      <a:pt x="380" y="825"/>
                    </a:lnTo>
                    <a:lnTo>
                      <a:pt x="690" y="790"/>
                    </a:lnTo>
                    <a:lnTo>
                      <a:pt x="687" y="787"/>
                    </a:lnTo>
                    <a:lnTo>
                      <a:pt x="685" y="783"/>
                    </a:lnTo>
                    <a:lnTo>
                      <a:pt x="682" y="777"/>
                    </a:lnTo>
                    <a:lnTo>
                      <a:pt x="680" y="770"/>
                    </a:lnTo>
                    <a:lnTo>
                      <a:pt x="669" y="754"/>
                    </a:lnTo>
                    <a:lnTo>
                      <a:pt x="660" y="735"/>
                    </a:lnTo>
                    <a:lnTo>
                      <a:pt x="650" y="714"/>
                    </a:lnTo>
                    <a:lnTo>
                      <a:pt x="640" y="690"/>
                    </a:lnTo>
                    <a:lnTo>
                      <a:pt x="636" y="681"/>
                    </a:lnTo>
                    <a:lnTo>
                      <a:pt x="633" y="674"/>
                    </a:lnTo>
                    <a:lnTo>
                      <a:pt x="633" y="668"/>
                    </a:lnTo>
                    <a:lnTo>
                      <a:pt x="634" y="665"/>
                    </a:lnTo>
                    <a:lnTo>
                      <a:pt x="637" y="664"/>
                    </a:lnTo>
                    <a:lnTo>
                      <a:pt x="639" y="664"/>
                    </a:lnTo>
                    <a:lnTo>
                      <a:pt x="641" y="664"/>
                    </a:lnTo>
                    <a:lnTo>
                      <a:pt x="644" y="665"/>
                    </a:lnTo>
                    <a:lnTo>
                      <a:pt x="650" y="669"/>
                    </a:lnTo>
                    <a:lnTo>
                      <a:pt x="660" y="675"/>
                    </a:lnTo>
                    <a:close/>
                    <a:moveTo>
                      <a:pt x="550" y="9"/>
                    </a:moveTo>
                    <a:lnTo>
                      <a:pt x="567" y="23"/>
                    </a:lnTo>
                    <a:lnTo>
                      <a:pt x="586" y="39"/>
                    </a:lnTo>
                    <a:lnTo>
                      <a:pt x="606" y="59"/>
                    </a:lnTo>
                    <a:lnTo>
                      <a:pt x="629" y="82"/>
                    </a:lnTo>
                    <a:lnTo>
                      <a:pt x="652" y="109"/>
                    </a:lnTo>
                    <a:lnTo>
                      <a:pt x="678" y="139"/>
                    </a:lnTo>
                    <a:lnTo>
                      <a:pt x="705" y="172"/>
                    </a:lnTo>
                    <a:lnTo>
                      <a:pt x="735" y="209"/>
                    </a:lnTo>
                    <a:lnTo>
                      <a:pt x="767" y="249"/>
                    </a:lnTo>
                    <a:lnTo>
                      <a:pt x="795" y="285"/>
                    </a:lnTo>
                    <a:lnTo>
                      <a:pt x="823" y="315"/>
                    </a:lnTo>
                    <a:lnTo>
                      <a:pt x="848" y="342"/>
                    </a:lnTo>
                    <a:lnTo>
                      <a:pt x="872" y="365"/>
                    </a:lnTo>
                    <a:lnTo>
                      <a:pt x="893" y="384"/>
                    </a:lnTo>
                    <a:lnTo>
                      <a:pt x="903" y="392"/>
                    </a:lnTo>
                    <a:lnTo>
                      <a:pt x="913" y="399"/>
                    </a:lnTo>
                    <a:lnTo>
                      <a:pt x="921" y="405"/>
                    </a:lnTo>
                    <a:lnTo>
                      <a:pt x="930" y="410"/>
                    </a:lnTo>
                    <a:lnTo>
                      <a:pt x="965" y="429"/>
                    </a:lnTo>
                    <a:lnTo>
                      <a:pt x="999" y="447"/>
                    </a:lnTo>
                    <a:lnTo>
                      <a:pt x="1030" y="464"/>
                    </a:lnTo>
                    <a:lnTo>
                      <a:pt x="1059" y="481"/>
                    </a:lnTo>
                    <a:lnTo>
                      <a:pt x="1086" y="498"/>
                    </a:lnTo>
                    <a:lnTo>
                      <a:pt x="1111" y="514"/>
                    </a:lnTo>
                    <a:lnTo>
                      <a:pt x="1134" y="529"/>
                    </a:lnTo>
                    <a:lnTo>
                      <a:pt x="1156" y="545"/>
                    </a:lnTo>
                    <a:lnTo>
                      <a:pt x="1163" y="551"/>
                    </a:lnTo>
                    <a:lnTo>
                      <a:pt x="1170" y="557"/>
                    </a:lnTo>
                    <a:lnTo>
                      <a:pt x="1176" y="562"/>
                    </a:lnTo>
                    <a:lnTo>
                      <a:pt x="1180" y="568"/>
                    </a:lnTo>
                    <a:lnTo>
                      <a:pt x="1183" y="573"/>
                    </a:lnTo>
                    <a:lnTo>
                      <a:pt x="1185" y="577"/>
                    </a:lnTo>
                    <a:lnTo>
                      <a:pt x="1185" y="581"/>
                    </a:lnTo>
                    <a:lnTo>
                      <a:pt x="1185" y="585"/>
                    </a:lnTo>
                    <a:lnTo>
                      <a:pt x="1183" y="590"/>
                    </a:lnTo>
                    <a:lnTo>
                      <a:pt x="1180" y="593"/>
                    </a:lnTo>
                    <a:lnTo>
                      <a:pt x="1176" y="596"/>
                    </a:lnTo>
                    <a:lnTo>
                      <a:pt x="1170" y="598"/>
                    </a:lnTo>
                    <a:lnTo>
                      <a:pt x="1163" y="600"/>
                    </a:lnTo>
                    <a:lnTo>
                      <a:pt x="1156" y="600"/>
                    </a:lnTo>
                    <a:lnTo>
                      <a:pt x="1146" y="600"/>
                    </a:lnTo>
                    <a:lnTo>
                      <a:pt x="1135" y="600"/>
                    </a:lnTo>
                    <a:lnTo>
                      <a:pt x="1090" y="597"/>
                    </a:lnTo>
                    <a:lnTo>
                      <a:pt x="1048" y="593"/>
                    </a:lnTo>
                    <a:lnTo>
                      <a:pt x="1010" y="588"/>
                    </a:lnTo>
                    <a:lnTo>
                      <a:pt x="977" y="581"/>
                    </a:lnTo>
                    <a:lnTo>
                      <a:pt x="961" y="578"/>
                    </a:lnTo>
                    <a:lnTo>
                      <a:pt x="946" y="574"/>
                    </a:lnTo>
                    <a:lnTo>
                      <a:pt x="933" y="570"/>
                    </a:lnTo>
                    <a:lnTo>
                      <a:pt x="920" y="565"/>
                    </a:lnTo>
                    <a:lnTo>
                      <a:pt x="909" y="560"/>
                    </a:lnTo>
                    <a:lnTo>
                      <a:pt x="898" y="556"/>
                    </a:lnTo>
                    <a:lnTo>
                      <a:pt x="889" y="551"/>
                    </a:lnTo>
                    <a:lnTo>
                      <a:pt x="880" y="545"/>
                    </a:lnTo>
                    <a:lnTo>
                      <a:pt x="866" y="532"/>
                    </a:lnTo>
                    <a:lnTo>
                      <a:pt x="851" y="514"/>
                    </a:lnTo>
                    <a:lnTo>
                      <a:pt x="834" y="492"/>
                    </a:lnTo>
                    <a:lnTo>
                      <a:pt x="813" y="466"/>
                    </a:lnTo>
                    <a:lnTo>
                      <a:pt x="792" y="436"/>
                    </a:lnTo>
                    <a:lnTo>
                      <a:pt x="768" y="401"/>
                    </a:lnTo>
                    <a:lnTo>
                      <a:pt x="742" y="363"/>
                    </a:lnTo>
                    <a:lnTo>
                      <a:pt x="715" y="320"/>
                    </a:lnTo>
                    <a:lnTo>
                      <a:pt x="677" y="263"/>
                    </a:lnTo>
                    <a:lnTo>
                      <a:pt x="642" y="213"/>
                    </a:lnTo>
                    <a:lnTo>
                      <a:pt x="609" y="167"/>
                    </a:lnTo>
                    <a:lnTo>
                      <a:pt x="578" y="127"/>
                    </a:lnTo>
                    <a:lnTo>
                      <a:pt x="551" y="92"/>
                    </a:lnTo>
                    <a:lnTo>
                      <a:pt x="524" y="63"/>
                    </a:lnTo>
                    <a:lnTo>
                      <a:pt x="513" y="50"/>
                    </a:lnTo>
                    <a:lnTo>
                      <a:pt x="501" y="39"/>
                    </a:lnTo>
                    <a:lnTo>
                      <a:pt x="490" y="28"/>
                    </a:lnTo>
                    <a:lnTo>
                      <a:pt x="480" y="20"/>
                    </a:lnTo>
                    <a:lnTo>
                      <a:pt x="482" y="15"/>
                    </a:lnTo>
                    <a:lnTo>
                      <a:pt x="484" y="11"/>
                    </a:lnTo>
                    <a:lnTo>
                      <a:pt x="487" y="8"/>
                    </a:lnTo>
                    <a:lnTo>
                      <a:pt x="490" y="6"/>
                    </a:lnTo>
                    <a:lnTo>
                      <a:pt x="494" y="4"/>
                    </a:lnTo>
                    <a:lnTo>
                      <a:pt x="497" y="2"/>
                    </a:lnTo>
                    <a:lnTo>
                      <a:pt x="501" y="1"/>
                    </a:lnTo>
                    <a:lnTo>
                      <a:pt x="505" y="0"/>
                    </a:lnTo>
                    <a:lnTo>
                      <a:pt x="515" y="0"/>
                    </a:lnTo>
                    <a:lnTo>
                      <a:pt x="525" y="1"/>
                    </a:lnTo>
                    <a:lnTo>
                      <a:pt x="537" y="4"/>
                    </a:lnTo>
                    <a:lnTo>
                      <a:pt x="550" y="9"/>
                    </a:lnTo>
                    <a:close/>
                    <a:moveTo>
                      <a:pt x="380" y="165"/>
                    </a:moveTo>
                    <a:lnTo>
                      <a:pt x="392" y="174"/>
                    </a:lnTo>
                    <a:lnTo>
                      <a:pt x="404" y="184"/>
                    </a:lnTo>
                    <a:lnTo>
                      <a:pt x="417" y="193"/>
                    </a:lnTo>
                    <a:lnTo>
                      <a:pt x="431" y="202"/>
                    </a:lnTo>
                    <a:lnTo>
                      <a:pt x="446" y="210"/>
                    </a:lnTo>
                    <a:lnTo>
                      <a:pt x="462" y="219"/>
                    </a:lnTo>
                    <a:lnTo>
                      <a:pt x="478" y="227"/>
                    </a:lnTo>
                    <a:lnTo>
                      <a:pt x="495" y="235"/>
                    </a:lnTo>
                    <a:lnTo>
                      <a:pt x="484" y="244"/>
                    </a:lnTo>
                    <a:lnTo>
                      <a:pt x="473" y="255"/>
                    </a:lnTo>
                    <a:lnTo>
                      <a:pt x="464" y="266"/>
                    </a:lnTo>
                    <a:lnTo>
                      <a:pt x="454" y="276"/>
                    </a:lnTo>
                    <a:lnTo>
                      <a:pt x="446" y="287"/>
                    </a:lnTo>
                    <a:lnTo>
                      <a:pt x="438" y="297"/>
                    </a:lnTo>
                    <a:lnTo>
                      <a:pt x="431" y="309"/>
                    </a:lnTo>
                    <a:lnTo>
                      <a:pt x="425" y="320"/>
                    </a:lnTo>
                    <a:lnTo>
                      <a:pt x="394" y="376"/>
                    </a:lnTo>
                    <a:lnTo>
                      <a:pt x="363" y="428"/>
                    </a:lnTo>
                    <a:lnTo>
                      <a:pt x="348" y="451"/>
                    </a:lnTo>
                    <a:lnTo>
                      <a:pt x="334" y="473"/>
                    </a:lnTo>
                    <a:lnTo>
                      <a:pt x="319" y="494"/>
                    </a:lnTo>
                    <a:lnTo>
                      <a:pt x="305" y="515"/>
                    </a:lnTo>
                    <a:lnTo>
                      <a:pt x="290" y="534"/>
                    </a:lnTo>
                    <a:lnTo>
                      <a:pt x="276" y="552"/>
                    </a:lnTo>
                    <a:lnTo>
                      <a:pt x="263" y="568"/>
                    </a:lnTo>
                    <a:lnTo>
                      <a:pt x="249" y="582"/>
                    </a:lnTo>
                    <a:lnTo>
                      <a:pt x="235" y="596"/>
                    </a:lnTo>
                    <a:lnTo>
                      <a:pt x="221" y="609"/>
                    </a:lnTo>
                    <a:lnTo>
                      <a:pt x="208" y="619"/>
                    </a:lnTo>
                    <a:lnTo>
                      <a:pt x="195" y="630"/>
                    </a:lnTo>
                    <a:lnTo>
                      <a:pt x="183" y="639"/>
                    </a:lnTo>
                    <a:lnTo>
                      <a:pt x="172" y="645"/>
                    </a:lnTo>
                    <a:lnTo>
                      <a:pt x="161" y="651"/>
                    </a:lnTo>
                    <a:lnTo>
                      <a:pt x="149" y="657"/>
                    </a:lnTo>
                    <a:lnTo>
                      <a:pt x="137" y="661"/>
                    </a:lnTo>
                    <a:lnTo>
                      <a:pt x="125" y="664"/>
                    </a:lnTo>
                    <a:lnTo>
                      <a:pt x="113" y="665"/>
                    </a:lnTo>
                    <a:lnTo>
                      <a:pt x="101" y="666"/>
                    </a:lnTo>
                    <a:lnTo>
                      <a:pt x="89" y="666"/>
                    </a:lnTo>
                    <a:lnTo>
                      <a:pt x="76" y="665"/>
                    </a:lnTo>
                    <a:lnTo>
                      <a:pt x="64" y="663"/>
                    </a:lnTo>
                    <a:lnTo>
                      <a:pt x="51" y="659"/>
                    </a:lnTo>
                    <a:lnTo>
                      <a:pt x="38" y="654"/>
                    </a:lnTo>
                    <a:lnTo>
                      <a:pt x="25" y="649"/>
                    </a:lnTo>
                    <a:lnTo>
                      <a:pt x="13" y="643"/>
                    </a:lnTo>
                    <a:lnTo>
                      <a:pt x="0" y="635"/>
                    </a:lnTo>
                    <a:lnTo>
                      <a:pt x="36" y="616"/>
                    </a:lnTo>
                    <a:lnTo>
                      <a:pt x="70" y="596"/>
                    </a:lnTo>
                    <a:lnTo>
                      <a:pt x="103" y="574"/>
                    </a:lnTo>
                    <a:lnTo>
                      <a:pt x="135" y="552"/>
                    </a:lnTo>
                    <a:lnTo>
                      <a:pt x="149" y="539"/>
                    </a:lnTo>
                    <a:lnTo>
                      <a:pt x="164" y="526"/>
                    </a:lnTo>
                    <a:lnTo>
                      <a:pt x="178" y="514"/>
                    </a:lnTo>
                    <a:lnTo>
                      <a:pt x="192" y="501"/>
                    </a:lnTo>
                    <a:lnTo>
                      <a:pt x="204" y="487"/>
                    </a:lnTo>
                    <a:lnTo>
                      <a:pt x="218" y="473"/>
                    </a:lnTo>
                    <a:lnTo>
                      <a:pt x="230" y="459"/>
                    </a:lnTo>
                    <a:lnTo>
                      <a:pt x="243" y="445"/>
                    </a:lnTo>
                    <a:lnTo>
                      <a:pt x="254" y="430"/>
                    </a:lnTo>
                    <a:lnTo>
                      <a:pt x="265" y="415"/>
                    </a:lnTo>
                    <a:lnTo>
                      <a:pt x="276" y="399"/>
                    </a:lnTo>
                    <a:lnTo>
                      <a:pt x="286" y="383"/>
                    </a:lnTo>
                    <a:lnTo>
                      <a:pt x="297" y="367"/>
                    </a:lnTo>
                    <a:lnTo>
                      <a:pt x="306" y="350"/>
                    </a:lnTo>
                    <a:lnTo>
                      <a:pt x="316" y="333"/>
                    </a:lnTo>
                    <a:lnTo>
                      <a:pt x="324" y="316"/>
                    </a:lnTo>
                    <a:lnTo>
                      <a:pt x="341" y="280"/>
                    </a:lnTo>
                    <a:lnTo>
                      <a:pt x="355" y="243"/>
                    </a:lnTo>
                    <a:lnTo>
                      <a:pt x="369" y="204"/>
                    </a:lnTo>
                    <a:lnTo>
                      <a:pt x="380" y="165"/>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657" name="Freeform 24"/>
              <p:cNvSpPr/>
              <p:nvPr/>
            </p:nvSpPr>
            <p:spPr>
              <a:xfrm>
                <a:off x="2871720" y="1294560"/>
                <a:ext cx="126000" cy="148320"/>
              </a:xfrm>
              <a:custGeom>
                <a:avLst/>
                <a:gdLst>
                  <a:gd name="textAreaLeft" fmla="*/ 0 w 126000"/>
                  <a:gd name="textAreaRight" fmla="*/ 126360 w 126000"/>
                  <a:gd name="textAreaTop" fmla="*/ 0 h 148320"/>
                  <a:gd name="textAreaBottom" fmla="*/ 148680 h 148320"/>
                </a:gdLst>
                <a:ahLst/>
                <a:rect l="textAreaLeft" t="textAreaTop" r="textAreaRight" b="textAreaBottom"/>
                <a:pathLst>
                  <a:path w="846" h="1072">
                    <a:moveTo>
                      <a:pt x="651" y="0"/>
                    </a:moveTo>
                    <a:lnTo>
                      <a:pt x="671" y="13"/>
                    </a:lnTo>
                    <a:lnTo>
                      <a:pt x="692" y="25"/>
                    </a:lnTo>
                    <a:lnTo>
                      <a:pt x="715" y="35"/>
                    </a:lnTo>
                    <a:lnTo>
                      <a:pt x="739" y="45"/>
                    </a:lnTo>
                    <a:lnTo>
                      <a:pt x="764" y="52"/>
                    </a:lnTo>
                    <a:lnTo>
                      <a:pt x="791" y="58"/>
                    </a:lnTo>
                    <a:lnTo>
                      <a:pt x="817" y="63"/>
                    </a:lnTo>
                    <a:lnTo>
                      <a:pt x="846" y="66"/>
                    </a:lnTo>
                    <a:lnTo>
                      <a:pt x="841" y="71"/>
                    </a:lnTo>
                    <a:lnTo>
                      <a:pt x="837" y="78"/>
                    </a:lnTo>
                    <a:lnTo>
                      <a:pt x="834" y="85"/>
                    </a:lnTo>
                    <a:lnTo>
                      <a:pt x="831" y="94"/>
                    </a:lnTo>
                    <a:lnTo>
                      <a:pt x="825" y="116"/>
                    </a:lnTo>
                    <a:lnTo>
                      <a:pt x="819" y="142"/>
                    </a:lnTo>
                    <a:lnTo>
                      <a:pt x="815" y="173"/>
                    </a:lnTo>
                    <a:lnTo>
                      <a:pt x="811" y="210"/>
                    </a:lnTo>
                    <a:lnTo>
                      <a:pt x="808" y="251"/>
                    </a:lnTo>
                    <a:lnTo>
                      <a:pt x="805" y="297"/>
                    </a:lnTo>
                    <a:lnTo>
                      <a:pt x="804" y="348"/>
                    </a:lnTo>
                    <a:lnTo>
                      <a:pt x="803" y="404"/>
                    </a:lnTo>
                    <a:lnTo>
                      <a:pt x="803" y="464"/>
                    </a:lnTo>
                    <a:lnTo>
                      <a:pt x="804" y="530"/>
                    </a:lnTo>
                    <a:lnTo>
                      <a:pt x="805" y="600"/>
                    </a:lnTo>
                    <a:lnTo>
                      <a:pt x="809" y="675"/>
                    </a:lnTo>
                    <a:lnTo>
                      <a:pt x="812" y="756"/>
                    </a:lnTo>
                    <a:lnTo>
                      <a:pt x="815" y="842"/>
                    </a:lnTo>
                    <a:lnTo>
                      <a:pt x="816" y="890"/>
                    </a:lnTo>
                    <a:lnTo>
                      <a:pt x="816" y="934"/>
                    </a:lnTo>
                    <a:lnTo>
                      <a:pt x="814" y="972"/>
                    </a:lnTo>
                    <a:lnTo>
                      <a:pt x="812" y="1004"/>
                    </a:lnTo>
                    <a:lnTo>
                      <a:pt x="810" y="1018"/>
                    </a:lnTo>
                    <a:lnTo>
                      <a:pt x="808" y="1029"/>
                    </a:lnTo>
                    <a:lnTo>
                      <a:pt x="805" y="1040"/>
                    </a:lnTo>
                    <a:lnTo>
                      <a:pt x="803" y="1049"/>
                    </a:lnTo>
                    <a:lnTo>
                      <a:pt x="800" y="1057"/>
                    </a:lnTo>
                    <a:lnTo>
                      <a:pt x="797" y="1063"/>
                    </a:lnTo>
                    <a:lnTo>
                      <a:pt x="794" y="1068"/>
                    </a:lnTo>
                    <a:lnTo>
                      <a:pt x="791" y="1072"/>
                    </a:lnTo>
                    <a:lnTo>
                      <a:pt x="779" y="1068"/>
                    </a:lnTo>
                    <a:lnTo>
                      <a:pt x="766" y="1064"/>
                    </a:lnTo>
                    <a:lnTo>
                      <a:pt x="754" y="1060"/>
                    </a:lnTo>
                    <a:lnTo>
                      <a:pt x="741" y="1054"/>
                    </a:lnTo>
                    <a:lnTo>
                      <a:pt x="727" y="1047"/>
                    </a:lnTo>
                    <a:lnTo>
                      <a:pt x="712" y="1040"/>
                    </a:lnTo>
                    <a:lnTo>
                      <a:pt x="697" y="1030"/>
                    </a:lnTo>
                    <a:lnTo>
                      <a:pt x="682" y="1021"/>
                    </a:lnTo>
                    <a:lnTo>
                      <a:pt x="649" y="1000"/>
                    </a:lnTo>
                    <a:lnTo>
                      <a:pt x="613" y="974"/>
                    </a:lnTo>
                    <a:lnTo>
                      <a:pt x="576" y="944"/>
                    </a:lnTo>
                    <a:lnTo>
                      <a:pt x="535" y="912"/>
                    </a:lnTo>
                    <a:lnTo>
                      <a:pt x="527" y="904"/>
                    </a:lnTo>
                    <a:lnTo>
                      <a:pt x="521" y="898"/>
                    </a:lnTo>
                    <a:lnTo>
                      <a:pt x="516" y="892"/>
                    </a:lnTo>
                    <a:lnTo>
                      <a:pt x="515" y="886"/>
                    </a:lnTo>
                    <a:lnTo>
                      <a:pt x="517" y="884"/>
                    </a:lnTo>
                    <a:lnTo>
                      <a:pt x="519" y="882"/>
                    </a:lnTo>
                    <a:lnTo>
                      <a:pt x="522" y="881"/>
                    </a:lnTo>
                    <a:lnTo>
                      <a:pt x="526" y="880"/>
                    </a:lnTo>
                    <a:lnTo>
                      <a:pt x="534" y="880"/>
                    </a:lnTo>
                    <a:lnTo>
                      <a:pt x="545" y="881"/>
                    </a:lnTo>
                    <a:lnTo>
                      <a:pt x="584" y="886"/>
                    </a:lnTo>
                    <a:lnTo>
                      <a:pt x="616" y="889"/>
                    </a:lnTo>
                    <a:lnTo>
                      <a:pt x="631" y="889"/>
                    </a:lnTo>
                    <a:lnTo>
                      <a:pt x="643" y="889"/>
                    </a:lnTo>
                    <a:lnTo>
                      <a:pt x="654" y="888"/>
                    </a:lnTo>
                    <a:lnTo>
                      <a:pt x="665" y="887"/>
                    </a:lnTo>
                    <a:lnTo>
                      <a:pt x="672" y="885"/>
                    </a:lnTo>
                    <a:lnTo>
                      <a:pt x="679" y="883"/>
                    </a:lnTo>
                    <a:lnTo>
                      <a:pt x="685" y="880"/>
                    </a:lnTo>
                    <a:lnTo>
                      <a:pt x="689" y="877"/>
                    </a:lnTo>
                    <a:lnTo>
                      <a:pt x="691" y="872"/>
                    </a:lnTo>
                    <a:lnTo>
                      <a:pt x="692" y="867"/>
                    </a:lnTo>
                    <a:lnTo>
                      <a:pt x="692" y="862"/>
                    </a:lnTo>
                    <a:lnTo>
                      <a:pt x="690" y="857"/>
                    </a:lnTo>
                    <a:lnTo>
                      <a:pt x="691" y="827"/>
                    </a:lnTo>
                    <a:lnTo>
                      <a:pt x="692" y="793"/>
                    </a:lnTo>
                    <a:lnTo>
                      <a:pt x="693" y="755"/>
                    </a:lnTo>
                    <a:lnTo>
                      <a:pt x="694" y="713"/>
                    </a:lnTo>
                    <a:lnTo>
                      <a:pt x="694" y="668"/>
                    </a:lnTo>
                    <a:lnTo>
                      <a:pt x="695" y="618"/>
                    </a:lnTo>
                    <a:lnTo>
                      <a:pt x="695" y="564"/>
                    </a:lnTo>
                    <a:lnTo>
                      <a:pt x="695" y="506"/>
                    </a:lnTo>
                    <a:lnTo>
                      <a:pt x="695" y="441"/>
                    </a:lnTo>
                    <a:lnTo>
                      <a:pt x="694" y="382"/>
                    </a:lnTo>
                    <a:lnTo>
                      <a:pt x="694" y="326"/>
                    </a:lnTo>
                    <a:lnTo>
                      <a:pt x="693" y="275"/>
                    </a:lnTo>
                    <a:lnTo>
                      <a:pt x="691" y="227"/>
                    </a:lnTo>
                    <a:lnTo>
                      <a:pt x="690" y="184"/>
                    </a:lnTo>
                    <a:lnTo>
                      <a:pt x="688" y="145"/>
                    </a:lnTo>
                    <a:lnTo>
                      <a:pt x="686" y="110"/>
                    </a:lnTo>
                    <a:lnTo>
                      <a:pt x="685" y="107"/>
                    </a:lnTo>
                    <a:lnTo>
                      <a:pt x="685" y="104"/>
                    </a:lnTo>
                    <a:lnTo>
                      <a:pt x="684" y="101"/>
                    </a:lnTo>
                    <a:lnTo>
                      <a:pt x="682" y="99"/>
                    </a:lnTo>
                    <a:lnTo>
                      <a:pt x="679" y="98"/>
                    </a:lnTo>
                    <a:lnTo>
                      <a:pt x="677" y="97"/>
                    </a:lnTo>
                    <a:lnTo>
                      <a:pt x="674" y="96"/>
                    </a:lnTo>
                    <a:lnTo>
                      <a:pt x="671" y="96"/>
                    </a:lnTo>
                    <a:lnTo>
                      <a:pt x="612" y="103"/>
                    </a:lnTo>
                    <a:lnTo>
                      <a:pt x="552" y="112"/>
                    </a:lnTo>
                    <a:lnTo>
                      <a:pt x="492" y="121"/>
                    </a:lnTo>
                    <a:lnTo>
                      <a:pt x="432" y="131"/>
                    </a:lnTo>
                    <a:lnTo>
                      <a:pt x="371" y="141"/>
                    </a:lnTo>
                    <a:lnTo>
                      <a:pt x="310" y="152"/>
                    </a:lnTo>
                    <a:lnTo>
                      <a:pt x="247" y="163"/>
                    </a:lnTo>
                    <a:lnTo>
                      <a:pt x="185" y="176"/>
                    </a:lnTo>
                    <a:lnTo>
                      <a:pt x="175" y="169"/>
                    </a:lnTo>
                    <a:lnTo>
                      <a:pt x="165" y="161"/>
                    </a:lnTo>
                    <a:lnTo>
                      <a:pt x="155" y="152"/>
                    </a:lnTo>
                    <a:lnTo>
                      <a:pt x="146" y="142"/>
                    </a:lnTo>
                    <a:lnTo>
                      <a:pt x="135" y="131"/>
                    </a:lnTo>
                    <a:lnTo>
                      <a:pt x="125" y="118"/>
                    </a:lnTo>
                    <a:lnTo>
                      <a:pt x="115" y="105"/>
                    </a:lnTo>
                    <a:lnTo>
                      <a:pt x="105" y="90"/>
                    </a:lnTo>
                    <a:lnTo>
                      <a:pt x="157" y="88"/>
                    </a:lnTo>
                    <a:lnTo>
                      <a:pt x="208" y="85"/>
                    </a:lnTo>
                    <a:lnTo>
                      <a:pt x="256" y="81"/>
                    </a:lnTo>
                    <a:lnTo>
                      <a:pt x="300" y="78"/>
                    </a:lnTo>
                    <a:lnTo>
                      <a:pt x="344" y="73"/>
                    </a:lnTo>
                    <a:lnTo>
                      <a:pt x="384" y="68"/>
                    </a:lnTo>
                    <a:lnTo>
                      <a:pt x="421" y="64"/>
                    </a:lnTo>
                    <a:lnTo>
                      <a:pt x="457" y="58"/>
                    </a:lnTo>
                    <a:lnTo>
                      <a:pt x="490" y="52"/>
                    </a:lnTo>
                    <a:lnTo>
                      <a:pt x="519" y="46"/>
                    </a:lnTo>
                    <a:lnTo>
                      <a:pt x="548" y="39"/>
                    </a:lnTo>
                    <a:lnTo>
                      <a:pt x="573" y="32"/>
                    </a:lnTo>
                    <a:lnTo>
                      <a:pt x="596" y="25"/>
                    </a:lnTo>
                    <a:lnTo>
                      <a:pt x="617" y="17"/>
                    </a:lnTo>
                    <a:lnTo>
                      <a:pt x="635" y="9"/>
                    </a:lnTo>
                    <a:lnTo>
                      <a:pt x="651" y="0"/>
                    </a:lnTo>
                    <a:close/>
                    <a:moveTo>
                      <a:pt x="410" y="431"/>
                    </a:moveTo>
                    <a:lnTo>
                      <a:pt x="427" y="446"/>
                    </a:lnTo>
                    <a:lnTo>
                      <a:pt x="445" y="461"/>
                    </a:lnTo>
                    <a:lnTo>
                      <a:pt x="464" y="475"/>
                    </a:lnTo>
                    <a:lnTo>
                      <a:pt x="486" y="489"/>
                    </a:lnTo>
                    <a:lnTo>
                      <a:pt x="507" y="500"/>
                    </a:lnTo>
                    <a:lnTo>
                      <a:pt x="530" y="511"/>
                    </a:lnTo>
                    <a:lnTo>
                      <a:pt x="554" y="522"/>
                    </a:lnTo>
                    <a:lnTo>
                      <a:pt x="581" y="531"/>
                    </a:lnTo>
                    <a:lnTo>
                      <a:pt x="565" y="544"/>
                    </a:lnTo>
                    <a:lnTo>
                      <a:pt x="550" y="559"/>
                    </a:lnTo>
                    <a:lnTo>
                      <a:pt x="535" y="576"/>
                    </a:lnTo>
                    <a:lnTo>
                      <a:pt x="521" y="596"/>
                    </a:lnTo>
                    <a:lnTo>
                      <a:pt x="506" y="618"/>
                    </a:lnTo>
                    <a:lnTo>
                      <a:pt x="490" y="644"/>
                    </a:lnTo>
                    <a:lnTo>
                      <a:pt x="475" y="671"/>
                    </a:lnTo>
                    <a:lnTo>
                      <a:pt x="460" y="701"/>
                    </a:lnTo>
                    <a:lnTo>
                      <a:pt x="460" y="704"/>
                    </a:lnTo>
                    <a:lnTo>
                      <a:pt x="461" y="706"/>
                    </a:lnTo>
                    <a:lnTo>
                      <a:pt x="463" y="708"/>
                    </a:lnTo>
                    <a:lnTo>
                      <a:pt x="465" y="711"/>
                    </a:lnTo>
                    <a:lnTo>
                      <a:pt x="479" y="727"/>
                    </a:lnTo>
                    <a:lnTo>
                      <a:pt x="489" y="741"/>
                    </a:lnTo>
                    <a:lnTo>
                      <a:pt x="496" y="753"/>
                    </a:lnTo>
                    <a:lnTo>
                      <a:pt x="500" y="761"/>
                    </a:lnTo>
                    <a:lnTo>
                      <a:pt x="476" y="764"/>
                    </a:lnTo>
                    <a:lnTo>
                      <a:pt x="444" y="768"/>
                    </a:lnTo>
                    <a:lnTo>
                      <a:pt x="404" y="772"/>
                    </a:lnTo>
                    <a:lnTo>
                      <a:pt x="355" y="776"/>
                    </a:lnTo>
                    <a:lnTo>
                      <a:pt x="316" y="779"/>
                    </a:lnTo>
                    <a:lnTo>
                      <a:pt x="280" y="783"/>
                    </a:lnTo>
                    <a:lnTo>
                      <a:pt x="248" y="786"/>
                    </a:lnTo>
                    <a:lnTo>
                      <a:pt x="220" y="789"/>
                    </a:lnTo>
                    <a:lnTo>
                      <a:pt x="195" y="791"/>
                    </a:lnTo>
                    <a:lnTo>
                      <a:pt x="175" y="793"/>
                    </a:lnTo>
                    <a:lnTo>
                      <a:pt x="158" y="795"/>
                    </a:lnTo>
                    <a:lnTo>
                      <a:pt x="146" y="796"/>
                    </a:lnTo>
                    <a:lnTo>
                      <a:pt x="147" y="816"/>
                    </a:lnTo>
                    <a:lnTo>
                      <a:pt x="147" y="833"/>
                    </a:lnTo>
                    <a:lnTo>
                      <a:pt x="146" y="841"/>
                    </a:lnTo>
                    <a:lnTo>
                      <a:pt x="145" y="847"/>
                    </a:lnTo>
                    <a:lnTo>
                      <a:pt x="142" y="852"/>
                    </a:lnTo>
                    <a:lnTo>
                      <a:pt x="140" y="857"/>
                    </a:lnTo>
                    <a:lnTo>
                      <a:pt x="135" y="855"/>
                    </a:lnTo>
                    <a:lnTo>
                      <a:pt x="129" y="853"/>
                    </a:lnTo>
                    <a:lnTo>
                      <a:pt x="121" y="850"/>
                    </a:lnTo>
                    <a:lnTo>
                      <a:pt x="114" y="846"/>
                    </a:lnTo>
                    <a:lnTo>
                      <a:pt x="105" y="841"/>
                    </a:lnTo>
                    <a:lnTo>
                      <a:pt x="96" y="833"/>
                    </a:lnTo>
                    <a:lnTo>
                      <a:pt x="86" y="826"/>
                    </a:lnTo>
                    <a:lnTo>
                      <a:pt x="76" y="816"/>
                    </a:lnTo>
                    <a:lnTo>
                      <a:pt x="69" y="754"/>
                    </a:lnTo>
                    <a:lnTo>
                      <a:pt x="63" y="699"/>
                    </a:lnTo>
                    <a:lnTo>
                      <a:pt x="56" y="649"/>
                    </a:lnTo>
                    <a:lnTo>
                      <a:pt x="46" y="604"/>
                    </a:lnTo>
                    <a:lnTo>
                      <a:pt x="42" y="585"/>
                    </a:lnTo>
                    <a:lnTo>
                      <a:pt x="36" y="567"/>
                    </a:lnTo>
                    <a:lnTo>
                      <a:pt x="31" y="550"/>
                    </a:lnTo>
                    <a:lnTo>
                      <a:pt x="26" y="535"/>
                    </a:lnTo>
                    <a:lnTo>
                      <a:pt x="20" y="522"/>
                    </a:lnTo>
                    <a:lnTo>
                      <a:pt x="13" y="510"/>
                    </a:lnTo>
                    <a:lnTo>
                      <a:pt x="7" y="499"/>
                    </a:lnTo>
                    <a:lnTo>
                      <a:pt x="0" y="491"/>
                    </a:lnTo>
                    <a:lnTo>
                      <a:pt x="29" y="494"/>
                    </a:lnTo>
                    <a:lnTo>
                      <a:pt x="57" y="497"/>
                    </a:lnTo>
                    <a:lnTo>
                      <a:pt x="82" y="502"/>
                    </a:lnTo>
                    <a:lnTo>
                      <a:pt x="105" y="506"/>
                    </a:lnTo>
                    <a:lnTo>
                      <a:pt x="163" y="499"/>
                    </a:lnTo>
                    <a:lnTo>
                      <a:pt x="214" y="492"/>
                    </a:lnTo>
                    <a:lnTo>
                      <a:pt x="261" y="484"/>
                    </a:lnTo>
                    <a:lnTo>
                      <a:pt x="301" y="475"/>
                    </a:lnTo>
                    <a:lnTo>
                      <a:pt x="320" y="470"/>
                    </a:lnTo>
                    <a:lnTo>
                      <a:pt x="337" y="464"/>
                    </a:lnTo>
                    <a:lnTo>
                      <a:pt x="352" y="459"/>
                    </a:lnTo>
                    <a:lnTo>
                      <a:pt x="367" y="454"/>
                    </a:lnTo>
                    <a:lnTo>
                      <a:pt x="380" y="449"/>
                    </a:lnTo>
                    <a:lnTo>
                      <a:pt x="391" y="443"/>
                    </a:lnTo>
                    <a:lnTo>
                      <a:pt x="402" y="437"/>
                    </a:lnTo>
                    <a:lnTo>
                      <a:pt x="410" y="431"/>
                    </a:lnTo>
                    <a:close/>
                    <a:moveTo>
                      <a:pt x="410" y="526"/>
                    </a:moveTo>
                    <a:lnTo>
                      <a:pt x="407" y="525"/>
                    </a:lnTo>
                    <a:lnTo>
                      <a:pt x="400" y="525"/>
                    </a:lnTo>
                    <a:lnTo>
                      <a:pt x="389" y="526"/>
                    </a:lnTo>
                    <a:lnTo>
                      <a:pt x="374" y="527"/>
                    </a:lnTo>
                    <a:lnTo>
                      <a:pt x="332" y="532"/>
                    </a:lnTo>
                    <a:lnTo>
                      <a:pt x="275" y="541"/>
                    </a:lnTo>
                    <a:lnTo>
                      <a:pt x="248" y="546"/>
                    </a:lnTo>
                    <a:lnTo>
                      <a:pt x="224" y="550"/>
                    </a:lnTo>
                    <a:lnTo>
                      <a:pt x="201" y="553"/>
                    </a:lnTo>
                    <a:lnTo>
                      <a:pt x="181" y="557"/>
                    </a:lnTo>
                    <a:lnTo>
                      <a:pt x="161" y="560"/>
                    </a:lnTo>
                    <a:lnTo>
                      <a:pt x="143" y="563"/>
                    </a:lnTo>
                    <a:lnTo>
                      <a:pt x="129" y="564"/>
                    </a:lnTo>
                    <a:lnTo>
                      <a:pt x="115" y="566"/>
                    </a:lnTo>
                    <a:lnTo>
                      <a:pt x="119" y="585"/>
                    </a:lnTo>
                    <a:lnTo>
                      <a:pt x="122" y="605"/>
                    </a:lnTo>
                    <a:lnTo>
                      <a:pt x="125" y="626"/>
                    </a:lnTo>
                    <a:lnTo>
                      <a:pt x="129" y="647"/>
                    </a:lnTo>
                    <a:lnTo>
                      <a:pt x="132" y="670"/>
                    </a:lnTo>
                    <a:lnTo>
                      <a:pt x="135" y="692"/>
                    </a:lnTo>
                    <a:lnTo>
                      <a:pt x="137" y="717"/>
                    </a:lnTo>
                    <a:lnTo>
                      <a:pt x="140" y="741"/>
                    </a:lnTo>
                    <a:lnTo>
                      <a:pt x="186" y="733"/>
                    </a:lnTo>
                    <a:lnTo>
                      <a:pt x="226" y="725"/>
                    </a:lnTo>
                    <a:lnTo>
                      <a:pt x="263" y="719"/>
                    </a:lnTo>
                    <a:lnTo>
                      <a:pt x="295" y="713"/>
                    </a:lnTo>
                    <a:lnTo>
                      <a:pt x="324" y="709"/>
                    </a:lnTo>
                    <a:lnTo>
                      <a:pt x="347" y="705"/>
                    </a:lnTo>
                    <a:lnTo>
                      <a:pt x="366" y="703"/>
                    </a:lnTo>
                    <a:lnTo>
                      <a:pt x="381" y="701"/>
                    </a:lnTo>
                    <a:lnTo>
                      <a:pt x="387" y="671"/>
                    </a:lnTo>
                    <a:lnTo>
                      <a:pt x="393" y="644"/>
                    </a:lnTo>
                    <a:lnTo>
                      <a:pt x="399" y="618"/>
                    </a:lnTo>
                    <a:lnTo>
                      <a:pt x="403" y="595"/>
                    </a:lnTo>
                    <a:lnTo>
                      <a:pt x="406" y="574"/>
                    </a:lnTo>
                    <a:lnTo>
                      <a:pt x="408" y="556"/>
                    </a:lnTo>
                    <a:lnTo>
                      <a:pt x="409" y="540"/>
                    </a:lnTo>
                    <a:lnTo>
                      <a:pt x="410" y="526"/>
                    </a:lnTo>
                    <a:close/>
                    <a:moveTo>
                      <a:pt x="76" y="316"/>
                    </a:moveTo>
                    <a:lnTo>
                      <a:pt x="93" y="314"/>
                    </a:lnTo>
                    <a:lnTo>
                      <a:pt x="114" y="312"/>
                    </a:lnTo>
                    <a:lnTo>
                      <a:pt x="137" y="309"/>
                    </a:lnTo>
                    <a:lnTo>
                      <a:pt x="163" y="304"/>
                    </a:lnTo>
                    <a:lnTo>
                      <a:pt x="192" y="300"/>
                    </a:lnTo>
                    <a:lnTo>
                      <a:pt x="223" y="294"/>
                    </a:lnTo>
                    <a:lnTo>
                      <a:pt x="258" y="287"/>
                    </a:lnTo>
                    <a:lnTo>
                      <a:pt x="295" y="281"/>
                    </a:lnTo>
                    <a:lnTo>
                      <a:pt x="321" y="276"/>
                    </a:lnTo>
                    <a:lnTo>
                      <a:pt x="347" y="272"/>
                    </a:lnTo>
                    <a:lnTo>
                      <a:pt x="370" y="267"/>
                    </a:lnTo>
                    <a:lnTo>
                      <a:pt x="391" y="263"/>
                    </a:lnTo>
                    <a:lnTo>
                      <a:pt x="411" y="260"/>
                    </a:lnTo>
                    <a:lnTo>
                      <a:pt x="429" y="257"/>
                    </a:lnTo>
                    <a:lnTo>
                      <a:pt x="445" y="254"/>
                    </a:lnTo>
                    <a:lnTo>
                      <a:pt x="460" y="250"/>
                    </a:lnTo>
                    <a:lnTo>
                      <a:pt x="468" y="249"/>
                    </a:lnTo>
                    <a:lnTo>
                      <a:pt x="475" y="249"/>
                    </a:lnTo>
                    <a:lnTo>
                      <a:pt x="482" y="251"/>
                    </a:lnTo>
                    <a:lnTo>
                      <a:pt x="490" y="256"/>
                    </a:lnTo>
                    <a:lnTo>
                      <a:pt x="492" y="257"/>
                    </a:lnTo>
                    <a:lnTo>
                      <a:pt x="495" y="261"/>
                    </a:lnTo>
                    <a:lnTo>
                      <a:pt x="509" y="276"/>
                    </a:lnTo>
                    <a:lnTo>
                      <a:pt x="521" y="291"/>
                    </a:lnTo>
                    <a:lnTo>
                      <a:pt x="525" y="298"/>
                    </a:lnTo>
                    <a:lnTo>
                      <a:pt x="529" y="305"/>
                    </a:lnTo>
                    <a:lnTo>
                      <a:pt x="532" y="313"/>
                    </a:lnTo>
                    <a:lnTo>
                      <a:pt x="535" y="320"/>
                    </a:lnTo>
                    <a:lnTo>
                      <a:pt x="522" y="322"/>
                    </a:lnTo>
                    <a:lnTo>
                      <a:pt x="505" y="325"/>
                    </a:lnTo>
                    <a:lnTo>
                      <a:pt x="486" y="327"/>
                    </a:lnTo>
                    <a:lnTo>
                      <a:pt x="464" y="330"/>
                    </a:lnTo>
                    <a:lnTo>
                      <a:pt x="440" y="333"/>
                    </a:lnTo>
                    <a:lnTo>
                      <a:pt x="412" y="336"/>
                    </a:lnTo>
                    <a:lnTo>
                      <a:pt x="383" y="340"/>
                    </a:lnTo>
                    <a:lnTo>
                      <a:pt x="350" y="346"/>
                    </a:lnTo>
                    <a:lnTo>
                      <a:pt x="302" y="353"/>
                    </a:lnTo>
                    <a:lnTo>
                      <a:pt x="259" y="358"/>
                    </a:lnTo>
                    <a:lnTo>
                      <a:pt x="223" y="364"/>
                    </a:lnTo>
                    <a:lnTo>
                      <a:pt x="191" y="368"/>
                    </a:lnTo>
                    <a:lnTo>
                      <a:pt x="167" y="371"/>
                    </a:lnTo>
                    <a:lnTo>
                      <a:pt x="147" y="374"/>
                    </a:lnTo>
                    <a:lnTo>
                      <a:pt x="133" y="375"/>
                    </a:lnTo>
                    <a:lnTo>
                      <a:pt x="125" y="375"/>
                    </a:lnTo>
                    <a:lnTo>
                      <a:pt x="108" y="366"/>
                    </a:lnTo>
                    <a:lnTo>
                      <a:pt x="94" y="354"/>
                    </a:lnTo>
                    <a:lnTo>
                      <a:pt x="81" y="343"/>
                    </a:lnTo>
                    <a:lnTo>
                      <a:pt x="70" y="331"/>
                    </a:lnTo>
                    <a:lnTo>
                      <a:pt x="68" y="328"/>
                    </a:lnTo>
                    <a:lnTo>
                      <a:pt x="66" y="326"/>
                    </a:lnTo>
                    <a:lnTo>
                      <a:pt x="65" y="323"/>
                    </a:lnTo>
                    <a:lnTo>
                      <a:pt x="65" y="320"/>
                    </a:lnTo>
                    <a:lnTo>
                      <a:pt x="66" y="318"/>
                    </a:lnTo>
                    <a:lnTo>
                      <a:pt x="67" y="317"/>
                    </a:lnTo>
                    <a:lnTo>
                      <a:pt x="70" y="316"/>
                    </a:lnTo>
                    <a:lnTo>
                      <a:pt x="76" y="316"/>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658" name="Freeform 25"/>
              <p:cNvSpPr/>
              <p:nvPr/>
            </p:nvSpPr>
            <p:spPr>
              <a:xfrm>
                <a:off x="487080" y="1479240"/>
                <a:ext cx="35280" cy="44280"/>
              </a:xfrm>
              <a:custGeom>
                <a:avLst/>
                <a:gdLst>
                  <a:gd name="textAreaLeft" fmla="*/ 0 w 35280"/>
                  <a:gd name="textAreaRight" fmla="*/ 35640 w 35280"/>
                  <a:gd name="textAreaTop" fmla="*/ 0 h 44280"/>
                  <a:gd name="textAreaBottom" fmla="*/ 44640 h 44280"/>
                </a:gdLst>
                <a:ahLst/>
                <a:rect l="textAreaLeft" t="textAreaTop" r="textAreaRight" b="textAreaBottom"/>
                <a:pathLst>
                  <a:path w="240" h="320">
                    <a:moveTo>
                      <a:pt x="0" y="320"/>
                    </a:moveTo>
                    <a:lnTo>
                      <a:pt x="0" y="281"/>
                    </a:lnTo>
                    <a:lnTo>
                      <a:pt x="156" y="75"/>
                    </a:lnTo>
                    <a:lnTo>
                      <a:pt x="164" y="65"/>
                    </a:lnTo>
                    <a:lnTo>
                      <a:pt x="171" y="55"/>
                    </a:lnTo>
                    <a:lnTo>
                      <a:pt x="180" y="46"/>
                    </a:lnTo>
                    <a:lnTo>
                      <a:pt x="187" y="37"/>
                    </a:lnTo>
                    <a:lnTo>
                      <a:pt x="17" y="37"/>
                    </a:lnTo>
                    <a:lnTo>
                      <a:pt x="17" y="0"/>
                    </a:lnTo>
                    <a:lnTo>
                      <a:pt x="235" y="0"/>
                    </a:lnTo>
                    <a:lnTo>
                      <a:pt x="235" y="37"/>
                    </a:lnTo>
                    <a:lnTo>
                      <a:pt x="64" y="260"/>
                    </a:lnTo>
                    <a:lnTo>
                      <a:pt x="46" y="282"/>
                    </a:lnTo>
                    <a:lnTo>
                      <a:pt x="240" y="282"/>
                    </a:lnTo>
                    <a:lnTo>
                      <a:pt x="240" y="320"/>
                    </a:lnTo>
                    <a:lnTo>
                      <a:pt x="0" y="32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659" name="Freeform 26"/>
              <p:cNvSpPr/>
              <p:nvPr/>
            </p:nvSpPr>
            <p:spPr>
              <a:xfrm>
                <a:off x="533160" y="1479240"/>
                <a:ext cx="35280" cy="44280"/>
              </a:xfrm>
              <a:custGeom>
                <a:avLst/>
                <a:gdLst>
                  <a:gd name="textAreaLeft" fmla="*/ 0 w 35280"/>
                  <a:gd name="textAreaRight" fmla="*/ 35640 w 35280"/>
                  <a:gd name="textAreaTop" fmla="*/ 0 h 44280"/>
                  <a:gd name="textAreaBottom" fmla="*/ 44640 h 44280"/>
                </a:gdLst>
                <a:ahLst/>
                <a:rect l="textAreaLeft" t="textAreaTop" r="textAreaRight" b="textAreaBottom"/>
                <a:pathLst>
                  <a:path w="239" h="320">
                    <a:moveTo>
                      <a:pt x="0" y="320"/>
                    </a:moveTo>
                    <a:lnTo>
                      <a:pt x="0" y="0"/>
                    </a:lnTo>
                    <a:lnTo>
                      <a:pt x="40" y="0"/>
                    </a:lnTo>
                    <a:lnTo>
                      <a:pt x="40" y="131"/>
                    </a:lnTo>
                    <a:lnTo>
                      <a:pt x="198" y="131"/>
                    </a:lnTo>
                    <a:lnTo>
                      <a:pt x="198" y="0"/>
                    </a:lnTo>
                    <a:lnTo>
                      <a:pt x="239" y="0"/>
                    </a:lnTo>
                    <a:lnTo>
                      <a:pt x="239" y="320"/>
                    </a:lnTo>
                    <a:lnTo>
                      <a:pt x="198" y="320"/>
                    </a:lnTo>
                    <a:lnTo>
                      <a:pt x="198" y="169"/>
                    </a:lnTo>
                    <a:lnTo>
                      <a:pt x="40" y="169"/>
                    </a:lnTo>
                    <a:lnTo>
                      <a:pt x="40" y="320"/>
                    </a:lnTo>
                    <a:lnTo>
                      <a:pt x="0" y="32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660" name="Freeform 27"/>
              <p:cNvSpPr/>
              <p:nvPr/>
            </p:nvSpPr>
            <p:spPr>
              <a:xfrm>
                <a:off x="583200" y="1479240"/>
                <a:ext cx="35280" cy="44280"/>
              </a:xfrm>
              <a:custGeom>
                <a:avLst/>
                <a:gdLst>
                  <a:gd name="textAreaLeft" fmla="*/ 0 w 35280"/>
                  <a:gd name="textAreaRight" fmla="*/ 35640 w 35280"/>
                  <a:gd name="textAreaTop" fmla="*/ 0 h 44280"/>
                  <a:gd name="textAreaBottom" fmla="*/ 44640 h 44280"/>
                </a:gdLst>
                <a:ahLst/>
                <a:rect l="textAreaLeft" t="textAreaTop" r="textAreaRight" b="textAreaBottom"/>
                <a:pathLst>
                  <a:path w="239" h="325">
                    <a:moveTo>
                      <a:pt x="199" y="0"/>
                    </a:moveTo>
                    <a:lnTo>
                      <a:pt x="239" y="0"/>
                    </a:lnTo>
                    <a:lnTo>
                      <a:pt x="239" y="184"/>
                    </a:lnTo>
                    <a:lnTo>
                      <a:pt x="238" y="208"/>
                    </a:lnTo>
                    <a:lnTo>
                      <a:pt x="236" y="228"/>
                    </a:lnTo>
                    <a:lnTo>
                      <a:pt x="233" y="246"/>
                    </a:lnTo>
                    <a:lnTo>
                      <a:pt x="229" y="261"/>
                    </a:lnTo>
                    <a:lnTo>
                      <a:pt x="225" y="268"/>
                    </a:lnTo>
                    <a:lnTo>
                      <a:pt x="222" y="275"/>
                    </a:lnTo>
                    <a:lnTo>
                      <a:pt x="218" y="281"/>
                    </a:lnTo>
                    <a:lnTo>
                      <a:pt x="214" y="287"/>
                    </a:lnTo>
                    <a:lnTo>
                      <a:pt x="208" y="293"/>
                    </a:lnTo>
                    <a:lnTo>
                      <a:pt x="203" y="298"/>
                    </a:lnTo>
                    <a:lnTo>
                      <a:pt x="198" y="303"/>
                    </a:lnTo>
                    <a:lnTo>
                      <a:pt x="192" y="307"/>
                    </a:lnTo>
                    <a:lnTo>
                      <a:pt x="184" y="312"/>
                    </a:lnTo>
                    <a:lnTo>
                      <a:pt x="177" y="315"/>
                    </a:lnTo>
                    <a:lnTo>
                      <a:pt x="168" y="318"/>
                    </a:lnTo>
                    <a:lnTo>
                      <a:pt x="160" y="321"/>
                    </a:lnTo>
                    <a:lnTo>
                      <a:pt x="150" y="322"/>
                    </a:lnTo>
                    <a:lnTo>
                      <a:pt x="141" y="324"/>
                    </a:lnTo>
                    <a:lnTo>
                      <a:pt x="130" y="324"/>
                    </a:lnTo>
                    <a:lnTo>
                      <a:pt x="120" y="325"/>
                    </a:lnTo>
                    <a:lnTo>
                      <a:pt x="109" y="325"/>
                    </a:lnTo>
                    <a:lnTo>
                      <a:pt x="99" y="324"/>
                    </a:lnTo>
                    <a:lnTo>
                      <a:pt x="90" y="323"/>
                    </a:lnTo>
                    <a:lnTo>
                      <a:pt x="81" y="321"/>
                    </a:lnTo>
                    <a:lnTo>
                      <a:pt x="73" y="319"/>
                    </a:lnTo>
                    <a:lnTo>
                      <a:pt x="64" y="317"/>
                    </a:lnTo>
                    <a:lnTo>
                      <a:pt x="57" y="314"/>
                    </a:lnTo>
                    <a:lnTo>
                      <a:pt x="50" y="309"/>
                    </a:lnTo>
                    <a:lnTo>
                      <a:pt x="43" y="305"/>
                    </a:lnTo>
                    <a:lnTo>
                      <a:pt x="37" y="301"/>
                    </a:lnTo>
                    <a:lnTo>
                      <a:pt x="32" y="296"/>
                    </a:lnTo>
                    <a:lnTo>
                      <a:pt x="26" y="290"/>
                    </a:lnTo>
                    <a:lnTo>
                      <a:pt x="22" y="285"/>
                    </a:lnTo>
                    <a:lnTo>
                      <a:pt x="18" y="279"/>
                    </a:lnTo>
                    <a:lnTo>
                      <a:pt x="14" y="272"/>
                    </a:lnTo>
                    <a:lnTo>
                      <a:pt x="11" y="265"/>
                    </a:lnTo>
                    <a:lnTo>
                      <a:pt x="6" y="249"/>
                    </a:lnTo>
                    <a:lnTo>
                      <a:pt x="2" y="230"/>
                    </a:lnTo>
                    <a:lnTo>
                      <a:pt x="0" y="209"/>
                    </a:lnTo>
                    <a:lnTo>
                      <a:pt x="0" y="184"/>
                    </a:lnTo>
                    <a:lnTo>
                      <a:pt x="0" y="0"/>
                    </a:lnTo>
                    <a:lnTo>
                      <a:pt x="40" y="0"/>
                    </a:lnTo>
                    <a:lnTo>
                      <a:pt x="40" y="184"/>
                    </a:lnTo>
                    <a:lnTo>
                      <a:pt x="40" y="204"/>
                    </a:lnTo>
                    <a:lnTo>
                      <a:pt x="41" y="220"/>
                    </a:lnTo>
                    <a:lnTo>
                      <a:pt x="43" y="234"/>
                    </a:lnTo>
                    <a:lnTo>
                      <a:pt x="47" y="246"/>
                    </a:lnTo>
                    <a:lnTo>
                      <a:pt x="52" y="255"/>
                    </a:lnTo>
                    <a:lnTo>
                      <a:pt x="57" y="263"/>
                    </a:lnTo>
                    <a:lnTo>
                      <a:pt x="64" y="270"/>
                    </a:lnTo>
                    <a:lnTo>
                      <a:pt x="72" y="277"/>
                    </a:lnTo>
                    <a:lnTo>
                      <a:pt x="81" y="281"/>
                    </a:lnTo>
                    <a:lnTo>
                      <a:pt x="92" y="284"/>
                    </a:lnTo>
                    <a:lnTo>
                      <a:pt x="104" y="286"/>
                    </a:lnTo>
                    <a:lnTo>
                      <a:pt x="116" y="287"/>
                    </a:lnTo>
                    <a:lnTo>
                      <a:pt x="127" y="286"/>
                    </a:lnTo>
                    <a:lnTo>
                      <a:pt x="136" y="286"/>
                    </a:lnTo>
                    <a:lnTo>
                      <a:pt x="146" y="284"/>
                    </a:lnTo>
                    <a:lnTo>
                      <a:pt x="154" y="282"/>
                    </a:lnTo>
                    <a:lnTo>
                      <a:pt x="162" y="279"/>
                    </a:lnTo>
                    <a:lnTo>
                      <a:pt x="168" y="276"/>
                    </a:lnTo>
                    <a:lnTo>
                      <a:pt x="175" y="270"/>
                    </a:lnTo>
                    <a:lnTo>
                      <a:pt x="180" y="266"/>
                    </a:lnTo>
                    <a:lnTo>
                      <a:pt x="184" y="260"/>
                    </a:lnTo>
                    <a:lnTo>
                      <a:pt x="188" y="252"/>
                    </a:lnTo>
                    <a:lnTo>
                      <a:pt x="192" y="245"/>
                    </a:lnTo>
                    <a:lnTo>
                      <a:pt x="194" y="235"/>
                    </a:lnTo>
                    <a:lnTo>
                      <a:pt x="196" y="224"/>
                    </a:lnTo>
                    <a:lnTo>
                      <a:pt x="198" y="212"/>
                    </a:lnTo>
                    <a:lnTo>
                      <a:pt x="198" y="199"/>
                    </a:lnTo>
                    <a:lnTo>
                      <a:pt x="199" y="184"/>
                    </a:lnTo>
                    <a:lnTo>
                      <a:pt x="199" y="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661" name="Freeform 28"/>
              <p:cNvSpPr/>
              <p:nvPr/>
            </p:nvSpPr>
            <p:spPr>
              <a:xfrm>
                <a:off x="632160" y="1479240"/>
                <a:ext cx="36000" cy="44280"/>
              </a:xfrm>
              <a:custGeom>
                <a:avLst/>
                <a:gdLst>
                  <a:gd name="textAreaLeft" fmla="*/ 0 w 36000"/>
                  <a:gd name="textAreaRight" fmla="*/ 36360 w 36000"/>
                  <a:gd name="textAreaTop" fmla="*/ 0 h 44280"/>
                  <a:gd name="textAreaBottom" fmla="*/ 44640 h 44280"/>
                </a:gdLst>
                <a:ahLst/>
                <a:rect l="textAreaLeft" t="textAreaTop" r="textAreaRight" b="textAreaBottom"/>
                <a:pathLst>
                  <a:path w="239" h="320">
                    <a:moveTo>
                      <a:pt x="0" y="320"/>
                    </a:moveTo>
                    <a:lnTo>
                      <a:pt x="0" y="0"/>
                    </a:lnTo>
                    <a:lnTo>
                      <a:pt x="41" y="0"/>
                    </a:lnTo>
                    <a:lnTo>
                      <a:pt x="41" y="131"/>
                    </a:lnTo>
                    <a:lnTo>
                      <a:pt x="199" y="131"/>
                    </a:lnTo>
                    <a:lnTo>
                      <a:pt x="199" y="0"/>
                    </a:lnTo>
                    <a:lnTo>
                      <a:pt x="239" y="0"/>
                    </a:lnTo>
                    <a:lnTo>
                      <a:pt x="239" y="320"/>
                    </a:lnTo>
                    <a:lnTo>
                      <a:pt x="199" y="320"/>
                    </a:lnTo>
                    <a:lnTo>
                      <a:pt x="199" y="169"/>
                    </a:lnTo>
                    <a:lnTo>
                      <a:pt x="41" y="169"/>
                    </a:lnTo>
                    <a:lnTo>
                      <a:pt x="41" y="320"/>
                    </a:lnTo>
                    <a:lnTo>
                      <a:pt x="0" y="32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662" name="Freeform 29"/>
              <p:cNvSpPr/>
              <p:nvPr/>
            </p:nvSpPr>
            <p:spPr>
              <a:xfrm>
                <a:off x="677160" y="1479240"/>
                <a:ext cx="42480" cy="44280"/>
              </a:xfrm>
              <a:custGeom>
                <a:avLst/>
                <a:gdLst>
                  <a:gd name="textAreaLeft" fmla="*/ 0 w 42480"/>
                  <a:gd name="textAreaRight" fmla="*/ 42840 w 42480"/>
                  <a:gd name="textAreaTop" fmla="*/ 0 h 44280"/>
                  <a:gd name="textAreaBottom" fmla="*/ 44640 h 44280"/>
                </a:gdLst>
                <a:ahLst/>
                <a:rect l="textAreaLeft" t="textAreaTop" r="textAreaRight" b="textAreaBottom"/>
                <a:pathLst>
                  <a:path w="285" h="320">
                    <a:moveTo>
                      <a:pt x="0" y="320"/>
                    </a:moveTo>
                    <a:lnTo>
                      <a:pt x="118" y="0"/>
                    </a:lnTo>
                    <a:lnTo>
                      <a:pt x="161" y="0"/>
                    </a:lnTo>
                    <a:lnTo>
                      <a:pt x="285" y="320"/>
                    </a:lnTo>
                    <a:lnTo>
                      <a:pt x="239" y="320"/>
                    </a:lnTo>
                    <a:lnTo>
                      <a:pt x="205" y="223"/>
                    </a:lnTo>
                    <a:lnTo>
                      <a:pt x="76" y="223"/>
                    </a:lnTo>
                    <a:lnTo>
                      <a:pt x="44" y="320"/>
                    </a:lnTo>
                    <a:lnTo>
                      <a:pt x="0" y="320"/>
                    </a:lnTo>
                    <a:close/>
                    <a:moveTo>
                      <a:pt x="88" y="189"/>
                    </a:moveTo>
                    <a:lnTo>
                      <a:pt x="192" y="189"/>
                    </a:lnTo>
                    <a:lnTo>
                      <a:pt x="160" y="100"/>
                    </a:lnTo>
                    <a:lnTo>
                      <a:pt x="153" y="81"/>
                    </a:lnTo>
                    <a:lnTo>
                      <a:pt x="147" y="63"/>
                    </a:lnTo>
                    <a:lnTo>
                      <a:pt x="142" y="48"/>
                    </a:lnTo>
                    <a:lnTo>
                      <a:pt x="138" y="33"/>
                    </a:lnTo>
                    <a:lnTo>
                      <a:pt x="135" y="49"/>
                    </a:lnTo>
                    <a:lnTo>
                      <a:pt x="131" y="64"/>
                    </a:lnTo>
                    <a:lnTo>
                      <a:pt x="127" y="80"/>
                    </a:lnTo>
                    <a:lnTo>
                      <a:pt x="122" y="94"/>
                    </a:lnTo>
                    <a:lnTo>
                      <a:pt x="88" y="189"/>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663" name="Rectangle 30"/>
              <p:cNvSpPr/>
              <p:nvPr/>
            </p:nvSpPr>
            <p:spPr>
              <a:xfrm>
                <a:off x="729360" y="1479240"/>
                <a:ext cx="5760" cy="44280"/>
              </a:xfrm>
              <a:prstGeom prst="rect">
                <a:avLst/>
              </a:pr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664" name="Freeform 31"/>
              <p:cNvSpPr/>
              <p:nvPr/>
            </p:nvSpPr>
            <p:spPr>
              <a:xfrm>
                <a:off x="776520" y="1478160"/>
                <a:ext cx="42480" cy="45360"/>
              </a:xfrm>
              <a:custGeom>
                <a:avLst/>
                <a:gdLst>
                  <a:gd name="textAreaLeft" fmla="*/ 0 w 42480"/>
                  <a:gd name="textAreaRight" fmla="*/ 42840 w 42480"/>
                  <a:gd name="textAreaTop" fmla="*/ 0 h 45360"/>
                  <a:gd name="textAreaBottom" fmla="*/ 45720 h 45360"/>
                </a:gdLst>
                <a:ahLst/>
                <a:rect l="textAreaLeft" t="textAreaTop" r="textAreaRight" b="textAreaBottom"/>
                <a:pathLst>
                  <a:path w="282" h="330">
                    <a:moveTo>
                      <a:pt x="153" y="199"/>
                    </a:moveTo>
                    <a:lnTo>
                      <a:pt x="153" y="162"/>
                    </a:lnTo>
                    <a:lnTo>
                      <a:pt x="282" y="162"/>
                    </a:lnTo>
                    <a:lnTo>
                      <a:pt x="282" y="281"/>
                    </a:lnTo>
                    <a:lnTo>
                      <a:pt x="267" y="292"/>
                    </a:lnTo>
                    <a:lnTo>
                      <a:pt x="251" y="302"/>
                    </a:lnTo>
                    <a:lnTo>
                      <a:pt x="237" y="310"/>
                    </a:lnTo>
                    <a:lnTo>
                      <a:pt x="221" y="318"/>
                    </a:lnTo>
                    <a:lnTo>
                      <a:pt x="205" y="323"/>
                    </a:lnTo>
                    <a:lnTo>
                      <a:pt x="189" y="327"/>
                    </a:lnTo>
                    <a:lnTo>
                      <a:pt x="172" y="329"/>
                    </a:lnTo>
                    <a:lnTo>
                      <a:pt x="156" y="330"/>
                    </a:lnTo>
                    <a:lnTo>
                      <a:pt x="145" y="329"/>
                    </a:lnTo>
                    <a:lnTo>
                      <a:pt x="134" y="329"/>
                    </a:lnTo>
                    <a:lnTo>
                      <a:pt x="123" y="327"/>
                    </a:lnTo>
                    <a:lnTo>
                      <a:pt x="113" y="325"/>
                    </a:lnTo>
                    <a:lnTo>
                      <a:pt x="103" y="322"/>
                    </a:lnTo>
                    <a:lnTo>
                      <a:pt x="93" y="319"/>
                    </a:lnTo>
                    <a:lnTo>
                      <a:pt x="83" y="314"/>
                    </a:lnTo>
                    <a:lnTo>
                      <a:pt x="75" y="310"/>
                    </a:lnTo>
                    <a:lnTo>
                      <a:pt x="65" y="305"/>
                    </a:lnTo>
                    <a:lnTo>
                      <a:pt x="57" y="299"/>
                    </a:lnTo>
                    <a:lnTo>
                      <a:pt x="49" y="292"/>
                    </a:lnTo>
                    <a:lnTo>
                      <a:pt x="42" y="285"/>
                    </a:lnTo>
                    <a:lnTo>
                      <a:pt x="35" y="277"/>
                    </a:lnTo>
                    <a:lnTo>
                      <a:pt x="29" y="270"/>
                    </a:lnTo>
                    <a:lnTo>
                      <a:pt x="24" y="260"/>
                    </a:lnTo>
                    <a:lnTo>
                      <a:pt x="18" y="252"/>
                    </a:lnTo>
                    <a:lnTo>
                      <a:pt x="14" y="242"/>
                    </a:lnTo>
                    <a:lnTo>
                      <a:pt x="10" y="232"/>
                    </a:lnTo>
                    <a:lnTo>
                      <a:pt x="7" y="221"/>
                    </a:lnTo>
                    <a:lnTo>
                      <a:pt x="5" y="212"/>
                    </a:lnTo>
                    <a:lnTo>
                      <a:pt x="3" y="200"/>
                    </a:lnTo>
                    <a:lnTo>
                      <a:pt x="2" y="189"/>
                    </a:lnTo>
                    <a:lnTo>
                      <a:pt x="0" y="178"/>
                    </a:lnTo>
                    <a:lnTo>
                      <a:pt x="0" y="166"/>
                    </a:lnTo>
                    <a:lnTo>
                      <a:pt x="0" y="154"/>
                    </a:lnTo>
                    <a:lnTo>
                      <a:pt x="2" y="143"/>
                    </a:lnTo>
                    <a:lnTo>
                      <a:pt x="3" y="132"/>
                    </a:lnTo>
                    <a:lnTo>
                      <a:pt x="5" y="122"/>
                    </a:lnTo>
                    <a:lnTo>
                      <a:pt x="7" y="110"/>
                    </a:lnTo>
                    <a:lnTo>
                      <a:pt x="10" y="99"/>
                    </a:lnTo>
                    <a:lnTo>
                      <a:pt x="14" y="90"/>
                    </a:lnTo>
                    <a:lnTo>
                      <a:pt x="18" y="79"/>
                    </a:lnTo>
                    <a:lnTo>
                      <a:pt x="24" y="70"/>
                    </a:lnTo>
                    <a:lnTo>
                      <a:pt x="29" y="60"/>
                    </a:lnTo>
                    <a:lnTo>
                      <a:pt x="34" y="52"/>
                    </a:lnTo>
                    <a:lnTo>
                      <a:pt x="42" y="44"/>
                    </a:lnTo>
                    <a:lnTo>
                      <a:pt x="48" y="37"/>
                    </a:lnTo>
                    <a:lnTo>
                      <a:pt x="56" y="30"/>
                    </a:lnTo>
                    <a:lnTo>
                      <a:pt x="64" y="24"/>
                    </a:lnTo>
                    <a:lnTo>
                      <a:pt x="72" y="19"/>
                    </a:lnTo>
                    <a:lnTo>
                      <a:pt x="81" y="15"/>
                    </a:lnTo>
                    <a:lnTo>
                      <a:pt x="90" y="10"/>
                    </a:lnTo>
                    <a:lnTo>
                      <a:pt x="100" y="7"/>
                    </a:lnTo>
                    <a:lnTo>
                      <a:pt x="110" y="4"/>
                    </a:lnTo>
                    <a:lnTo>
                      <a:pt x="120" y="2"/>
                    </a:lnTo>
                    <a:lnTo>
                      <a:pt x="131" y="1"/>
                    </a:lnTo>
                    <a:lnTo>
                      <a:pt x="141" y="0"/>
                    </a:lnTo>
                    <a:lnTo>
                      <a:pt x="153" y="0"/>
                    </a:lnTo>
                    <a:lnTo>
                      <a:pt x="169" y="0"/>
                    </a:lnTo>
                    <a:lnTo>
                      <a:pt x="184" y="2"/>
                    </a:lnTo>
                    <a:lnTo>
                      <a:pt x="199" y="6"/>
                    </a:lnTo>
                    <a:lnTo>
                      <a:pt x="212" y="10"/>
                    </a:lnTo>
                    <a:lnTo>
                      <a:pt x="225" y="17"/>
                    </a:lnTo>
                    <a:lnTo>
                      <a:pt x="237" y="24"/>
                    </a:lnTo>
                    <a:lnTo>
                      <a:pt x="246" y="33"/>
                    </a:lnTo>
                    <a:lnTo>
                      <a:pt x="255" y="42"/>
                    </a:lnTo>
                    <a:lnTo>
                      <a:pt x="261" y="53"/>
                    </a:lnTo>
                    <a:lnTo>
                      <a:pt x="267" y="65"/>
                    </a:lnTo>
                    <a:lnTo>
                      <a:pt x="273" y="79"/>
                    </a:lnTo>
                    <a:lnTo>
                      <a:pt x="277" y="94"/>
                    </a:lnTo>
                    <a:lnTo>
                      <a:pt x="241" y="105"/>
                    </a:lnTo>
                    <a:lnTo>
                      <a:pt x="238" y="93"/>
                    </a:lnTo>
                    <a:lnTo>
                      <a:pt x="233" y="82"/>
                    </a:lnTo>
                    <a:lnTo>
                      <a:pt x="229" y="74"/>
                    </a:lnTo>
                    <a:lnTo>
                      <a:pt x="224" y="67"/>
                    </a:lnTo>
                    <a:lnTo>
                      <a:pt x="219" y="60"/>
                    </a:lnTo>
                    <a:lnTo>
                      <a:pt x="211" y="54"/>
                    </a:lnTo>
                    <a:lnTo>
                      <a:pt x="204" y="48"/>
                    </a:lnTo>
                    <a:lnTo>
                      <a:pt x="194" y="44"/>
                    </a:lnTo>
                    <a:lnTo>
                      <a:pt x="185" y="40"/>
                    </a:lnTo>
                    <a:lnTo>
                      <a:pt x="175" y="38"/>
                    </a:lnTo>
                    <a:lnTo>
                      <a:pt x="164" y="36"/>
                    </a:lnTo>
                    <a:lnTo>
                      <a:pt x="153" y="36"/>
                    </a:lnTo>
                    <a:lnTo>
                      <a:pt x="139" y="36"/>
                    </a:lnTo>
                    <a:lnTo>
                      <a:pt x="126" y="38"/>
                    </a:lnTo>
                    <a:lnTo>
                      <a:pt x="116" y="41"/>
                    </a:lnTo>
                    <a:lnTo>
                      <a:pt x="105" y="44"/>
                    </a:lnTo>
                    <a:lnTo>
                      <a:pt x="96" y="50"/>
                    </a:lnTo>
                    <a:lnTo>
                      <a:pt x="86" y="55"/>
                    </a:lnTo>
                    <a:lnTo>
                      <a:pt x="79" y="61"/>
                    </a:lnTo>
                    <a:lnTo>
                      <a:pt x="72" y="68"/>
                    </a:lnTo>
                    <a:lnTo>
                      <a:pt x="66" y="75"/>
                    </a:lnTo>
                    <a:lnTo>
                      <a:pt x="62" y="82"/>
                    </a:lnTo>
                    <a:lnTo>
                      <a:pt x="57" y="91"/>
                    </a:lnTo>
                    <a:lnTo>
                      <a:pt x="53" y="99"/>
                    </a:lnTo>
                    <a:lnTo>
                      <a:pt x="48" y="114"/>
                    </a:lnTo>
                    <a:lnTo>
                      <a:pt x="45" y="130"/>
                    </a:lnTo>
                    <a:lnTo>
                      <a:pt x="43" y="147"/>
                    </a:lnTo>
                    <a:lnTo>
                      <a:pt x="42" y="164"/>
                    </a:lnTo>
                    <a:lnTo>
                      <a:pt x="43" y="184"/>
                    </a:lnTo>
                    <a:lnTo>
                      <a:pt x="45" y="203"/>
                    </a:lnTo>
                    <a:lnTo>
                      <a:pt x="47" y="212"/>
                    </a:lnTo>
                    <a:lnTo>
                      <a:pt x="49" y="220"/>
                    </a:lnTo>
                    <a:lnTo>
                      <a:pt x="52" y="228"/>
                    </a:lnTo>
                    <a:lnTo>
                      <a:pt x="56" y="235"/>
                    </a:lnTo>
                    <a:lnTo>
                      <a:pt x="60" y="242"/>
                    </a:lnTo>
                    <a:lnTo>
                      <a:pt x="63" y="249"/>
                    </a:lnTo>
                    <a:lnTo>
                      <a:pt x="68" y="255"/>
                    </a:lnTo>
                    <a:lnTo>
                      <a:pt x="72" y="260"/>
                    </a:lnTo>
                    <a:lnTo>
                      <a:pt x="78" y="266"/>
                    </a:lnTo>
                    <a:lnTo>
                      <a:pt x="84" y="270"/>
                    </a:lnTo>
                    <a:lnTo>
                      <a:pt x="90" y="274"/>
                    </a:lnTo>
                    <a:lnTo>
                      <a:pt x="97" y="278"/>
                    </a:lnTo>
                    <a:lnTo>
                      <a:pt x="110" y="284"/>
                    </a:lnTo>
                    <a:lnTo>
                      <a:pt x="124" y="288"/>
                    </a:lnTo>
                    <a:lnTo>
                      <a:pt x="138" y="291"/>
                    </a:lnTo>
                    <a:lnTo>
                      <a:pt x="153" y="292"/>
                    </a:lnTo>
                    <a:lnTo>
                      <a:pt x="167" y="291"/>
                    </a:lnTo>
                    <a:lnTo>
                      <a:pt x="179" y="289"/>
                    </a:lnTo>
                    <a:lnTo>
                      <a:pt x="192" y="286"/>
                    </a:lnTo>
                    <a:lnTo>
                      <a:pt x="205" y="282"/>
                    </a:lnTo>
                    <a:lnTo>
                      <a:pt x="217" y="276"/>
                    </a:lnTo>
                    <a:lnTo>
                      <a:pt x="226" y="270"/>
                    </a:lnTo>
                    <a:lnTo>
                      <a:pt x="236" y="265"/>
                    </a:lnTo>
                    <a:lnTo>
                      <a:pt x="242" y="258"/>
                    </a:lnTo>
                    <a:lnTo>
                      <a:pt x="242" y="199"/>
                    </a:lnTo>
                    <a:lnTo>
                      <a:pt x="153" y="199"/>
                    </a:lnTo>
                    <a:close/>
                  </a:path>
                </a:pathLst>
              </a:custGeom>
              <a:solidFill>
                <a:srgbClr val="1f1a17"/>
              </a:solidFill>
              <a:ln w="0">
                <a:noFill/>
              </a:ln>
            </p:spPr>
            <p:style>
              <a:lnRef idx="0"/>
              <a:fillRef idx="0"/>
              <a:effectRef idx="0"/>
              <a:fontRef idx="minor"/>
            </p:style>
            <p:txBody>
              <a:bodyPr lIns="90000" rIns="90000" tIns="720" bIns="720" anchor="t">
                <a:noAutofit/>
              </a:bodyPr>
              <a:p>
                <a:pPr>
                  <a:lnSpc>
                    <a:spcPct val="100000"/>
                  </a:lnSpc>
                </a:pPr>
                <a:endParaRPr b="0" lang="en-US" sz="1800" spc="-1" strike="noStrike">
                  <a:solidFill>
                    <a:srgbClr val="000000"/>
                  </a:solidFill>
                  <a:latin typeface="Arial"/>
                  <a:ea typeface="宋体"/>
                </a:endParaRPr>
              </a:p>
            </p:txBody>
          </p:sp>
          <p:sp>
            <p:nvSpPr>
              <p:cNvPr id="665" name="Freeform 32"/>
              <p:cNvSpPr/>
              <p:nvPr/>
            </p:nvSpPr>
            <p:spPr>
              <a:xfrm>
                <a:off x="829440" y="1478160"/>
                <a:ext cx="43560" cy="45360"/>
              </a:xfrm>
              <a:custGeom>
                <a:avLst/>
                <a:gdLst>
                  <a:gd name="textAreaLeft" fmla="*/ 0 w 43560"/>
                  <a:gd name="textAreaRight" fmla="*/ 43920 w 43560"/>
                  <a:gd name="textAreaTop" fmla="*/ 0 h 45360"/>
                  <a:gd name="textAreaBottom" fmla="*/ 45720 h 45360"/>
                </a:gdLst>
                <a:ahLst/>
                <a:rect l="textAreaLeft" t="textAreaTop" r="textAreaRight" b="textAreaBottom"/>
                <a:pathLst>
                  <a:path w="293" h="331">
                    <a:moveTo>
                      <a:pt x="0" y="170"/>
                    </a:moveTo>
                    <a:lnTo>
                      <a:pt x="1" y="150"/>
                    </a:lnTo>
                    <a:lnTo>
                      <a:pt x="3" y="132"/>
                    </a:lnTo>
                    <a:lnTo>
                      <a:pt x="7" y="115"/>
                    </a:lnTo>
                    <a:lnTo>
                      <a:pt x="11" y="99"/>
                    </a:lnTo>
                    <a:lnTo>
                      <a:pt x="16" y="83"/>
                    </a:lnTo>
                    <a:lnTo>
                      <a:pt x="24" y="70"/>
                    </a:lnTo>
                    <a:lnTo>
                      <a:pt x="32" y="57"/>
                    </a:lnTo>
                    <a:lnTo>
                      <a:pt x="42" y="45"/>
                    </a:lnTo>
                    <a:lnTo>
                      <a:pt x="52" y="35"/>
                    </a:lnTo>
                    <a:lnTo>
                      <a:pt x="64" y="25"/>
                    </a:lnTo>
                    <a:lnTo>
                      <a:pt x="75" y="18"/>
                    </a:lnTo>
                    <a:lnTo>
                      <a:pt x="88" y="11"/>
                    </a:lnTo>
                    <a:lnTo>
                      <a:pt x="102" y="6"/>
                    </a:lnTo>
                    <a:lnTo>
                      <a:pt x="116" y="3"/>
                    </a:lnTo>
                    <a:lnTo>
                      <a:pt x="131" y="1"/>
                    </a:lnTo>
                    <a:lnTo>
                      <a:pt x="146" y="0"/>
                    </a:lnTo>
                    <a:lnTo>
                      <a:pt x="157" y="1"/>
                    </a:lnTo>
                    <a:lnTo>
                      <a:pt x="168" y="2"/>
                    </a:lnTo>
                    <a:lnTo>
                      <a:pt x="177" y="3"/>
                    </a:lnTo>
                    <a:lnTo>
                      <a:pt x="187" y="5"/>
                    </a:lnTo>
                    <a:lnTo>
                      <a:pt x="196" y="8"/>
                    </a:lnTo>
                    <a:lnTo>
                      <a:pt x="206" y="12"/>
                    </a:lnTo>
                    <a:lnTo>
                      <a:pt x="214" y="17"/>
                    </a:lnTo>
                    <a:lnTo>
                      <a:pt x="223" y="21"/>
                    </a:lnTo>
                    <a:lnTo>
                      <a:pt x="231" y="27"/>
                    </a:lnTo>
                    <a:lnTo>
                      <a:pt x="239" y="33"/>
                    </a:lnTo>
                    <a:lnTo>
                      <a:pt x="246" y="40"/>
                    </a:lnTo>
                    <a:lnTo>
                      <a:pt x="252" y="46"/>
                    </a:lnTo>
                    <a:lnTo>
                      <a:pt x="259" y="55"/>
                    </a:lnTo>
                    <a:lnTo>
                      <a:pt x="264" y="62"/>
                    </a:lnTo>
                    <a:lnTo>
                      <a:pt x="269" y="71"/>
                    </a:lnTo>
                    <a:lnTo>
                      <a:pt x="275" y="80"/>
                    </a:lnTo>
                    <a:lnTo>
                      <a:pt x="279" y="90"/>
                    </a:lnTo>
                    <a:lnTo>
                      <a:pt x="282" y="100"/>
                    </a:lnTo>
                    <a:lnTo>
                      <a:pt x="285" y="110"/>
                    </a:lnTo>
                    <a:lnTo>
                      <a:pt x="287" y="120"/>
                    </a:lnTo>
                    <a:lnTo>
                      <a:pt x="289" y="131"/>
                    </a:lnTo>
                    <a:lnTo>
                      <a:pt x="290" y="143"/>
                    </a:lnTo>
                    <a:lnTo>
                      <a:pt x="292" y="154"/>
                    </a:lnTo>
                    <a:lnTo>
                      <a:pt x="293" y="166"/>
                    </a:lnTo>
                    <a:lnTo>
                      <a:pt x="292" y="178"/>
                    </a:lnTo>
                    <a:lnTo>
                      <a:pt x="290" y="189"/>
                    </a:lnTo>
                    <a:lnTo>
                      <a:pt x="289" y="201"/>
                    </a:lnTo>
                    <a:lnTo>
                      <a:pt x="287" y="213"/>
                    </a:lnTo>
                    <a:lnTo>
                      <a:pt x="285" y="223"/>
                    </a:lnTo>
                    <a:lnTo>
                      <a:pt x="282" y="234"/>
                    </a:lnTo>
                    <a:lnTo>
                      <a:pt x="278" y="243"/>
                    </a:lnTo>
                    <a:lnTo>
                      <a:pt x="273" y="253"/>
                    </a:lnTo>
                    <a:lnTo>
                      <a:pt x="268" y="262"/>
                    </a:lnTo>
                    <a:lnTo>
                      <a:pt x="263" y="271"/>
                    </a:lnTo>
                    <a:lnTo>
                      <a:pt x="258" y="279"/>
                    </a:lnTo>
                    <a:lnTo>
                      <a:pt x="251" y="287"/>
                    </a:lnTo>
                    <a:lnTo>
                      <a:pt x="244" y="294"/>
                    </a:lnTo>
                    <a:lnTo>
                      <a:pt x="236" y="301"/>
                    </a:lnTo>
                    <a:lnTo>
                      <a:pt x="229" y="306"/>
                    </a:lnTo>
                    <a:lnTo>
                      <a:pt x="221" y="311"/>
                    </a:lnTo>
                    <a:lnTo>
                      <a:pt x="212" y="315"/>
                    </a:lnTo>
                    <a:lnTo>
                      <a:pt x="203" y="320"/>
                    </a:lnTo>
                    <a:lnTo>
                      <a:pt x="194" y="323"/>
                    </a:lnTo>
                    <a:lnTo>
                      <a:pt x="185" y="326"/>
                    </a:lnTo>
                    <a:lnTo>
                      <a:pt x="175" y="328"/>
                    </a:lnTo>
                    <a:lnTo>
                      <a:pt x="165" y="330"/>
                    </a:lnTo>
                    <a:lnTo>
                      <a:pt x="156" y="330"/>
                    </a:lnTo>
                    <a:lnTo>
                      <a:pt x="146" y="331"/>
                    </a:lnTo>
                    <a:lnTo>
                      <a:pt x="136" y="330"/>
                    </a:lnTo>
                    <a:lnTo>
                      <a:pt x="125" y="329"/>
                    </a:lnTo>
                    <a:lnTo>
                      <a:pt x="116" y="328"/>
                    </a:lnTo>
                    <a:lnTo>
                      <a:pt x="106" y="326"/>
                    </a:lnTo>
                    <a:lnTo>
                      <a:pt x="97" y="323"/>
                    </a:lnTo>
                    <a:lnTo>
                      <a:pt x="87" y="319"/>
                    </a:lnTo>
                    <a:lnTo>
                      <a:pt x="79" y="314"/>
                    </a:lnTo>
                    <a:lnTo>
                      <a:pt x="69" y="309"/>
                    </a:lnTo>
                    <a:lnTo>
                      <a:pt x="62" y="304"/>
                    </a:lnTo>
                    <a:lnTo>
                      <a:pt x="53" y="297"/>
                    </a:lnTo>
                    <a:lnTo>
                      <a:pt x="47" y="291"/>
                    </a:lnTo>
                    <a:lnTo>
                      <a:pt x="39" y="284"/>
                    </a:lnTo>
                    <a:lnTo>
                      <a:pt x="33" y="276"/>
                    </a:lnTo>
                    <a:lnTo>
                      <a:pt x="28" y="268"/>
                    </a:lnTo>
                    <a:lnTo>
                      <a:pt x="22" y="259"/>
                    </a:lnTo>
                    <a:lnTo>
                      <a:pt x="18" y="250"/>
                    </a:lnTo>
                    <a:lnTo>
                      <a:pt x="14" y="240"/>
                    </a:lnTo>
                    <a:lnTo>
                      <a:pt x="11" y="231"/>
                    </a:lnTo>
                    <a:lnTo>
                      <a:pt x="8" y="221"/>
                    </a:lnTo>
                    <a:lnTo>
                      <a:pt x="6" y="211"/>
                    </a:lnTo>
                    <a:lnTo>
                      <a:pt x="3" y="201"/>
                    </a:lnTo>
                    <a:lnTo>
                      <a:pt x="1" y="190"/>
                    </a:lnTo>
                    <a:lnTo>
                      <a:pt x="1" y="180"/>
                    </a:lnTo>
                    <a:lnTo>
                      <a:pt x="0" y="170"/>
                    </a:lnTo>
                    <a:close/>
                    <a:moveTo>
                      <a:pt x="43" y="170"/>
                    </a:moveTo>
                    <a:lnTo>
                      <a:pt x="43" y="185"/>
                    </a:lnTo>
                    <a:lnTo>
                      <a:pt x="44" y="198"/>
                    </a:lnTo>
                    <a:lnTo>
                      <a:pt x="47" y="211"/>
                    </a:lnTo>
                    <a:lnTo>
                      <a:pt x="50" y="222"/>
                    </a:lnTo>
                    <a:lnTo>
                      <a:pt x="54" y="233"/>
                    </a:lnTo>
                    <a:lnTo>
                      <a:pt x="58" y="243"/>
                    </a:lnTo>
                    <a:lnTo>
                      <a:pt x="65" y="253"/>
                    </a:lnTo>
                    <a:lnTo>
                      <a:pt x="72" y="261"/>
                    </a:lnTo>
                    <a:lnTo>
                      <a:pt x="80" y="270"/>
                    </a:lnTo>
                    <a:lnTo>
                      <a:pt x="88" y="276"/>
                    </a:lnTo>
                    <a:lnTo>
                      <a:pt x="97" y="282"/>
                    </a:lnTo>
                    <a:lnTo>
                      <a:pt x="105" y="287"/>
                    </a:lnTo>
                    <a:lnTo>
                      <a:pt x="115" y="290"/>
                    </a:lnTo>
                    <a:lnTo>
                      <a:pt x="125" y="293"/>
                    </a:lnTo>
                    <a:lnTo>
                      <a:pt x="135" y="294"/>
                    </a:lnTo>
                    <a:lnTo>
                      <a:pt x="146" y="295"/>
                    </a:lnTo>
                    <a:lnTo>
                      <a:pt x="157" y="294"/>
                    </a:lnTo>
                    <a:lnTo>
                      <a:pt x="168" y="293"/>
                    </a:lnTo>
                    <a:lnTo>
                      <a:pt x="178" y="290"/>
                    </a:lnTo>
                    <a:lnTo>
                      <a:pt x="188" y="287"/>
                    </a:lnTo>
                    <a:lnTo>
                      <a:pt x="197" y="282"/>
                    </a:lnTo>
                    <a:lnTo>
                      <a:pt x="206" y="276"/>
                    </a:lnTo>
                    <a:lnTo>
                      <a:pt x="213" y="269"/>
                    </a:lnTo>
                    <a:lnTo>
                      <a:pt x="222" y="261"/>
                    </a:lnTo>
                    <a:lnTo>
                      <a:pt x="228" y="253"/>
                    </a:lnTo>
                    <a:lnTo>
                      <a:pt x="234" y="242"/>
                    </a:lnTo>
                    <a:lnTo>
                      <a:pt x="239" y="232"/>
                    </a:lnTo>
                    <a:lnTo>
                      <a:pt x="243" y="221"/>
                    </a:lnTo>
                    <a:lnTo>
                      <a:pt x="246" y="208"/>
                    </a:lnTo>
                    <a:lnTo>
                      <a:pt x="249" y="195"/>
                    </a:lnTo>
                    <a:lnTo>
                      <a:pt x="250" y="181"/>
                    </a:lnTo>
                    <a:lnTo>
                      <a:pt x="250" y="166"/>
                    </a:lnTo>
                    <a:lnTo>
                      <a:pt x="250" y="147"/>
                    </a:lnTo>
                    <a:lnTo>
                      <a:pt x="247" y="129"/>
                    </a:lnTo>
                    <a:lnTo>
                      <a:pt x="244" y="113"/>
                    </a:lnTo>
                    <a:lnTo>
                      <a:pt x="237" y="98"/>
                    </a:lnTo>
                    <a:lnTo>
                      <a:pt x="231" y="84"/>
                    </a:lnTo>
                    <a:lnTo>
                      <a:pt x="223" y="72"/>
                    </a:lnTo>
                    <a:lnTo>
                      <a:pt x="217" y="66"/>
                    </a:lnTo>
                    <a:lnTo>
                      <a:pt x="212" y="61"/>
                    </a:lnTo>
                    <a:lnTo>
                      <a:pt x="207" y="57"/>
                    </a:lnTo>
                    <a:lnTo>
                      <a:pt x="201" y="53"/>
                    </a:lnTo>
                    <a:lnTo>
                      <a:pt x="189" y="45"/>
                    </a:lnTo>
                    <a:lnTo>
                      <a:pt x="175" y="41"/>
                    </a:lnTo>
                    <a:lnTo>
                      <a:pt x="161" y="38"/>
                    </a:lnTo>
                    <a:lnTo>
                      <a:pt x="146" y="37"/>
                    </a:lnTo>
                    <a:lnTo>
                      <a:pt x="136" y="37"/>
                    </a:lnTo>
                    <a:lnTo>
                      <a:pt x="126" y="39"/>
                    </a:lnTo>
                    <a:lnTo>
                      <a:pt x="117" y="41"/>
                    </a:lnTo>
                    <a:lnTo>
                      <a:pt x="107" y="44"/>
                    </a:lnTo>
                    <a:lnTo>
                      <a:pt x="98" y="48"/>
                    </a:lnTo>
                    <a:lnTo>
                      <a:pt x="89" y="54"/>
                    </a:lnTo>
                    <a:lnTo>
                      <a:pt x="81" y="60"/>
                    </a:lnTo>
                    <a:lnTo>
                      <a:pt x="73" y="68"/>
                    </a:lnTo>
                    <a:lnTo>
                      <a:pt x="66" y="76"/>
                    </a:lnTo>
                    <a:lnTo>
                      <a:pt x="60" y="86"/>
                    </a:lnTo>
                    <a:lnTo>
                      <a:pt x="54" y="96"/>
                    </a:lnTo>
                    <a:lnTo>
                      <a:pt x="50" y="109"/>
                    </a:lnTo>
                    <a:lnTo>
                      <a:pt x="47" y="123"/>
                    </a:lnTo>
                    <a:lnTo>
                      <a:pt x="45" y="137"/>
                    </a:lnTo>
                    <a:lnTo>
                      <a:pt x="43" y="153"/>
                    </a:lnTo>
                    <a:lnTo>
                      <a:pt x="43" y="170"/>
                    </a:lnTo>
                    <a:close/>
                  </a:path>
                </a:pathLst>
              </a:custGeom>
              <a:solidFill>
                <a:srgbClr val="1f1a17"/>
              </a:solidFill>
              <a:ln w="0">
                <a:noFill/>
              </a:ln>
            </p:spPr>
            <p:style>
              <a:lnRef idx="0"/>
              <a:fillRef idx="0"/>
              <a:effectRef idx="0"/>
              <a:fontRef idx="minor"/>
            </p:style>
            <p:txBody>
              <a:bodyPr lIns="90000" rIns="90000" tIns="720" bIns="720" anchor="t">
                <a:noAutofit/>
              </a:bodyPr>
              <a:p>
                <a:pPr>
                  <a:lnSpc>
                    <a:spcPct val="100000"/>
                  </a:lnSpc>
                </a:pPr>
                <a:endParaRPr b="0" lang="en-US" sz="1800" spc="-1" strike="noStrike">
                  <a:solidFill>
                    <a:srgbClr val="000000"/>
                  </a:solidFill>
                  <a:latin typeface="Arial"/>
                  <a:ea typeface="宋体"/>
                </a:endParaRPr>
              </a:p>
            </p:txBody>
          </p:sp>
          <p:sp>
            <p:nvSpPr>
              <p:cNvPr id="666" name="Freeform 33"/>
              <p:cNvSpPr/>
              <p:nvPr/>
            </p:nvSpPr>
            <p:spPr>
              <a:xfrm>
                <a:off x="884880" y="1479240"/>
                <a:ext cx="27720" cy="44280"/>
              </a:xfrm>
              <a:custGeom>
                <a:avLst/>
                <a:gdLst>
                  <a:gd name="textAreaLeft" fmla="*/ 0 w 27720"/>
                  <a:gd name="textAreaRight" fmla="*/ 28080 w 27720"/>
                  <a:gd name="textAreaTop" fmla="*/ 0 h 44280"/>
                  <a:gd name="textAreaBottom" fmla="*/ 44640 h 44280"/>
                </a:gdLst>
                <a:ahLst/>
                <a:rect l="textAreaLeft" t="textAreaTop" r="textAreaRight" b="textAreaBottom"/>
                <a:pathLst>
                  <a:path w="190" h="320">
                    <a:moveTo>
                      <a:pt x="0" y="320"/>
                    </a:moveTo>
                    <a:lnTo>
                      <a:pt x="0" y="0"/>
                    </a:lnTo>
                    <a:lnTo>
                      <a:pt x="40" y="0"/>
                    </a:lnTo>
                    <a:lnTo>
                      <a:pt x="40" y="282"/>
                    </a:lnTo>
                    <a:lnTo>
                      <a:pt x="190" y="282"/>
                    </a:lnTo>
                    <a:lnTo>
                      <a:pt x="190" y="320"/>
                    </a:lnTo>
                    <a:lnTo>
                      <a:pt x="0" y="32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667" name="Freeform 34"/>
              <p:cNvSpPr/>
              <p:nvPr/>
            </p:nvSpPr>
            <p:spPr>
              <a:xfrm>
                <a:off x="923400" y="1479240"/>
                <a:ext cx="37080" cy="44280"/>
              </a:xfrm>
              <a:custGeom>
                <a:avLst/>
                <a:gdLst>
                  <a:gd name="textAreaLeft" fmla="*/ 0 w 37080"/>
                  <a:gd name="textAreaRight" fmla="*/ 37440 w 37080"/>
                  <a:gd name="textAreaTop" fmla="*/ 0 h 44280"/>
                  <a:gd name="textAreaBottom" fmla="*/ 44640 h 44280"/>
                </a:gdLst>
                <a:ahLst/>
                <a:rect l="textAreaLeft" t="textAreaTop" r="textAreaRight" b="textAreaBottom"/>
                <a:pathLst>
                  <a:path w="251" h="320">
                    <a:moveTo>
                      <a:pt x="0" y="320"/>
                    </a:moveTo>
                    <a:lnTo>
                      <a:pt x="0" y="0"/>
                    </a:lnTo>
                    <a:lnTo>
                      <a:pt x="104" y="0"/>
                    </a:lnTo>
                    <a:lnTo>
                      <a:pt x="120" y="0"/>
                    </a:lnTo>
                    <a:lnTo>
                      <a:pt x="135" y="1"/>
                    </a:lnTo>
                    <a:lnTo>
                      <a:pt x="148" y="2"/>
                    </a:lnTo>
                    <a:lnTo>
                      <a:pt x="158" y="4"/>
                    </a:lnTo>
                    <a:lnTo>
                      <a:pt x="171" y="9"/>
                    </a:lnTo>
                    <a:lnTo>
                      <a:pt x="183" y="14"/>
                    </a:lnTo>
                    <a:lnTo>
                      <a:pt x="193" y="20"/>
                    </a:lnTo>
                    <a:lnTo>
                      <a:pt x="203" y="28"/>
                    </a:lnTo>
                    <a:lnTo>
                      <a:pt x="215" y="39"/>
                    </a:lnTo>
                    <a:lnTo>
                      <a:pt x="224" y="52"/>
                    </a:lnTo>
                    <a:lnTo>
                      <a:pt x="233" y="66"/>
                    </a:lnTo>
                    <a:lnTo>
                      <a:pt x="239" y="82"/>
                    </a:lnTo>
                    <a:lnTo>
                      <a:pt x="244" y="100"/>
                    </a:lnTo>
                    <a:lnTo>
                      <a:pt x="248" y="118"/>
                    </a:lnTo>
                    <a:lnTo>
                      <a:pt x="251" y="137"/>
                    </a:lnTo>
                    <a:lnTo>
                      <a:pt x="251" y="158"/>
                    </a:lnTo>
                    <a:lnTo>
                      <a:pt x="251" y="176"/>
                    </a:lnTo>
                    <a:lnTo>
                      <a:pt x="250" y="192"/>
                    </a:lnTo>
                    <a:lnTo>
                      <a:pt x="246" y="208"/>
                    </a:lnTo>
                    <a:lnTo>
                      <a:pt x="243" y="223"/>
                    </a:lnTo>
                    <a:lnTo>
                      <a:pt x="239" y="236"/>
                    </a:lnTo>
                    <a:lnTo>
                      <a:pt x="234" y="248"/>
                    </a:lnTo>
                    <a:lnTo>
                      <a:pt x="228" y="260"/>
                    </a:lnTo>
                    <a:lnTo>
                      <a:pt x="222" y="269"/>
                    </a:lnTo>
                    <a:lnTo>
                      <a:pt x="216" y="278"/>
                    </a:lnTo>
                    <a:lnTo>
                      <a:pt x="209" y="286"/>
                    </a:lnTo>
                    <a:lnTo>
                      <a:pt x="202" y="293"/>
                    </a:lnTo>
                    <a:lnTo>
                      <a:pt x="194" y="298"/>
                    </a:lnTo>
                    <a:lnTo>
                      <a:pt x="186" y="303"/>
                    </a:lnTo>
                    <a:lnTo>
                      <a:pt x="178" y="307"/>
                    </a:lnTo>
                    <a:lnTo>
                      <a:pt x="168" y="312"/>
                    </a:lnTo>
                    <a:lnTo>
                      <a:pt x="158" y="314"/>
                    </a:lnTo>
                    <a:lnTo>
                      <a:pt x="147" y="317"/>
                    </a:lnTo>
                    <a:lnTo>
                      <a:pt x="135" y="318"/>
                    </a:lnTo>
                    <a:lnTo>
                      <a:pt x="122" y="319"/>
                    </a:lnTo>
                    <a:lnTo>
                      <a:pt x="109" y="320"/>
                    </a:lnTo>
                    <a:lnTo>
                      <a:pt x="0" y="320"/>
                    </a:lnTo>
                    <a:close/>
                    <a:moveTo>
                      <a:pt x="40" y="282"/>
                    </a:moveTo>
                    <a:lnTo>
                      <a:pt x="104" y="282"/>
                    </a:lnTo>
                    <a:lnTo>
                      <a:pt x="119" y="282"/>
                    </a:lnTo>
                    <a:lnTo>
                      <a:pt x="131" y="281"/>
                    </a:lnTo>
                    <a:lnTo>
                      <a:pt x="143" y="279"/>
                    </a:lnTo>
                    <a:lnTo>
                      <a:pt x="152" y="276"/>
                    </a:lnTo>
                    <a:lnTo>
                      <a:pt x="159" y="272"/>
                    </a:lnTo>
                    <a:lnTo>
                      <a:pt x="167" y="269"/>
                    </a:lnTo>
                    <a:lnTo>
                      <a:pt x="173" y="265"/>
                    </a:lnTo>
                    <a:lnTo>
                      <a:pt x="180" y="260"/>
                    </a:lnTo>
                    <a:lnTo>
                      <a:pt x="186" y="251"/>
                    </a:lnTo>
                    <a:lnTo>
                      <a:pt x="192" y="242"/>
                    </a:lnTo>
                    <a:lnTo>
                      <a:pt x="198" y="231"/>
                    </a:lnTo>
                    <a:lnTo>
                      <a:pt x="202" y="219"/>
                    </a:lnTo>
                    <a:lnTo>
                      <a:pt x="205" y="206"/>
                    </a:lnTo>
                    <a:lnTo>
                      <a:pt x="207" y="191"/>
                    </a:lnTo>
                    <a:lnTo>
                      <a:pt x="209" y="175"/>
                    </a:lnTo>
                    <a:lnTo>
                      <a:pt x="209" y="157"/>
                    </a:lnTo>
                    <a:lnTo>
                      <a:pt x="209" y="145"/>
                    </a:lnTo>
                    <a:lnTo>
                      <a:pt x="208" y="134"/>
                    </a:lnTo>
                    <a:lnTo>
                      <a:pt x="207" y="123"/>
                    </a:lnTo>
                    <a:lnTo>
                      <a:pt x="206" y="113"/>
                    </a:lnTo>
                    <a:lnTo>
                      <a:pt x="203" y="104"/>
                    </a:lnTo>
                    <a:lnTo>
                      <a:pt x="201" y="95"/>
                    </a:lnTo>
                    <a:lnTo>
                      <a:pt x="198" y="87"/>
                    </a:lnTo>
                    <a:lnTo>
                      <a:pt x="193" y="81"/>
                    </a:lnTo>
                    <a:lnTo>
                      <a:pt x="186" y="68"/>
                    </a:lnTo>
                    <a:lnTo>
                      <a:pt x="176" y="57"/>
                    </a:lnTo>
                    <a:lnTo>
                      <a:pt x="171" y="53"/>
                    </a:lnTo>
                    <a:lnTo>
                      <a:pt x="167" y="50"/>
                    </a:lnTo>
                    <a:lnTo>
                      <a:pt x="162" y="47"/>
                    </a:lnTo>
                    <a:lnTo>
                      <a:pt x="155" y="45"/>
                    </a:lnTo>
                    <a:lnTo>
                      <a:pt x="147" y="41"/>
                    </a:lnTo>
                    <a:lnTo>
                      <a:pt x="134" y="39"/>
                    </a:lnTo>
                    <a:lnTo>
                      <a:pt x="120" y="38"/>
                    </a:lnTo>
                    <a:lnTo>
                      <a:pt x="103" y="37"/>
                    </a:lnTo>
                    <a:lnTo>
                      <a:pt x="40" y="37"/>
                    </a:lnTo>
                    <a:lnTo>
                      <a:pt x="40" y="282"/>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668" name="Freeform 35"/>
              <p:cNvSpPr/>
              <p:nvPr/>
            </p:nvSpPr>
            <p:spPr>
              <a:xfrm>
                <a:off x="990360" y="1478160"/>
                <a:ext cx="40320" cy="45360"/>
              </a:xfrm>
              <a:custGeom>
                <a:avLst/>
                <a:gdLst>
                  <a:gd name="textAreaLeft" fmla="*/ 0 w 40320"/>
                  <a:gd name="textAreaRight" fmla="*/ 40680 w 40320"/>
                  <a:gd name="textAreaTop" fmla="*/ 0 h 45360"/>
                  <a:gd name="textAreaBottom" fmla="*/ 45720 h 45360"/>
                </a:gdLst>
                <a:ahLst/>
                <a:rect l="textAreaLeft" t="textAreaTop" r="textAreaRight" b="textAreaBottom"/>
                <a:pathLst>
                  <a:path w="269" h="330">
                    <a:moveTo>
                      <a:pt x="228" y="213"/>
                    </a:moveTo>
                    <a:lnTo>
                      <a:pt x="269" y="223"/>
                    </a:lnTo>
                    <a:lnTo>
                      <a:pt x="265" y="236"/>
                    </a:lnTo>
                    <a:lnTo>
                      <a:pt x="261" y="248"/>
                    </a:lnTo>
                    <a:lnTo>
                      <a:pt x="257" y="258"/>
                    </a:lnTo>
                    <a:lnTo>
                      <a:pt x="252" y="269"/>
                    </a:lnTo>
                    <a:lnTo>
                      <a:pt x="245" y="278"/>
                    </a:lnTo>
                    <a:lnTo>
                      <a:pt x="239" y="288"/>
                    </a:lnTo>
                    <a:lnTo>
                      <a:pt x="232" y="295"/>
                    </a:lnTo>
                    <a:lnTo>
                      <a:pt x="223" y="303"/>
                    </a:lnTo>
                    <a:lnTo>
                      <a:pt x="215" y="309"/>
                    </a:lnTo>
                    <a:lnTo>
                      <a:pt x="206" y="314"/>
                    </a:lnTo>
                    <a:lnTo>
                      <a:pt x="197" y="320"/>
                    </a:lnTo>
                    <a:lnTo>
                      <a:pt x="187" y="323"/>
                    </a:lnTo>
                    <a:lnTo>
                      <a:pt x="176" y="326"/>
                    </a:lnTo>
                    <a:lnTo>
                      <a:pt x="166" y="328"/>
                    </a:lnTo>
                    <a:lnTo>
                      <a:pt x="154" y="329"/>
                    </a:lnTo>
                    <a:lnTo>
                      <a:pt x="143" y="330"/>
                    </a:lnTo>
                    <a:lnTo>
                      <a:pt x="131" y="329"/>
                    </a:lnTo>
                    <a:lnTo>
                      <a:pt x="119" y="329"/>
                    </a:lnTo>
                    <a:lnTo>
                      <a:pt x="109" y="327"/>
                    </a:lnTo>
                    <a:lnTo>
                      <a:pt x="98" y="325"/>
                    </a:lnTo>
                    <a:lnTo>
                      <a:pt x="89" y="322"/>
                    </a:lnTo>
                    <a:lnTo>
                      <a:pt x="79" y="319"/>
                    </a:lnTo>
                    <a:lnTo>
                      <a:pt x="71" y="314"/>
                    </a:lnTo>
                    <a:lnTo>
                      <a:pt x="63" y="309"/>
                    </a:lnTo>
                    <a:lnTo>
                      <a:pt x="55" y="304"/>
                    </a:lnTo>
                    <a:lnTo>
                      <a:pt x="48" y="298"/>
                    </a:lnTo>
                    <a:lnTo>
                      <a:pt x="42" y="290"/>
                    </a:lnTo>
                    <a:lnTo>
                      <a:pt x="36" y="284"/>
                    </a:lnTo>
                    <a:lnTo>
                      <a:pt x="30" y="275"/>
                    </a:lnTo>
                    <a:lnTo>
                      <a:pt x="25" y="267"/>
                    </a:lnTo>
                    <a:lnTo>
                      <a:pt x="20" y="257"/>
                    </a:lnTo>
                    <a:lnTo>
                      <a:pt x="15" y="248"/>
                    </a:lnTo>
                    <a:lnTo>
                      <a:pt x="12" y="238"/>
                    </a:lnTo>
                    <a:lnTo>
                      <a:pt x="9" y="228"/>
                    </a:lnTo>
                    <a:lnTo>
                      <a:pt x="6" y="217"/>
                    </a:lnTo>
                    <a:lnTo>
                      <a:pt x="4" y="206"/>
                    </a:lnTo>
                    <a:lnTo>
                      <a:pt x="2" y="196"/>
                    </a:lnTo>
                    <a:lnTo>
                      <a:pt x="1" y="185"/>
                    </a:lnTo>
                    <a:lnTo>
                      <a:pt x="0" y="174"/>
                    </a:lnTo>
                    <a:lnTo>
                      <a:pt x="0" y="162"/>
                    </a:lnTo>
                    <a:lnTo>
                      <a:pt x="0" y="150"/>
                    </a:lnTo>
                    <a:lnTo>
                      <a:pt x="1" y="139"/>
                    </a:lnTo>
                    <a:lnTo>
                      <a:pt x="2" y="127"/>
                    </a:lnTo>
                    <a:lnTo>
                      <a:pt x="4" y="115"/>
                    </a:lnTo>
                    <a:lnTo>
                      <a:pt x="7" y="105"/>
                    </a:lnTo>
                    <a:lnTo>
                      <a:pt x="10" y="95"/>
                    </a:lnTo>
                    <a:lnTo>
                      <a:pt x="13" y="85"/>
                    </a:lnTo>
                    <a:lnTo>
                      <a:pt x="18" y="75"/>
                    </a:lnTo>
                    <a:lnTo>
                      <a:pt x="23" y="67"/>
                    </a:lnTo>
                    <a:lnTo>
                      <a:pt x="28" y="58"/>
                    </a:lnTo>
                    <a:lnTo>
                      <a:pt x="33" y="50"/>
                    </a:lnTo>
                    <a:lnTo>
                      <a:pt x="40" y="42"/>
                    </a:lnTo>
                    <a:lnTo>
                      <a:pt x="46" y="36"/>
                    </a:lnTo>
                    <a:lnTo>
                      <a:pt x="54" y="29"/>
                    </a:lnTo>
                    <a:lnTo>
                      <a:pt x="61" y="24"/>
                    </a:lnTo>
                    <a:lnTo>
                      <a:pt x="70" y="19"/>
                    </a:lnTo>
                    <a:lnTo>
                      <a:pt x="78" y="15"/>
                    </a:lnTo>
                    <a:lnTo>
                      <a:pt x="86" y="10"/>
                    </a:lnTo>
                    <a:lnTo>
                      <a:pt x="96" y="7"/>
                    </a:lnTo>
                    <a:lnTo>
                      <a:pt x="104" y="4"/>
                    </a:lnTo>
                    <a:lnTo>
                      <a:pt x="114" y="2"/>
                    </a:lnTo>
                    <a:lnTo>
                      <a:pt x="124" y="1"/>
                    </a:lnTo>
                    <a:lnTo>
                      <a:pt x="133" y="0"/>
                    </a:lnTo>
                    <a:lnTo>
                      <a:pt x="144" y="0"/>
                    </a:lnTo>
                    <a:lnTo>
                      <a:pt x="154" y="0"/>
                    </a:lnTo>
                    <a:lnTo>
                      <a:pt x="165" y="1"/>
                    </a:lnTo>
                    <a:lnTo>
                      <a:pt x="175" y="3"/>
                    </a:lnTo>
                    <a:lnTo>
                      <a:pt x="185" y="5"/>
                    </a:lnTo>
                    <a:lnTo>
                      <a:pt x="194" y="9"/>
                    </a:lnTo>
                    <a:lnTo>
                      <a:pt x="204" y="14"/>
                    </a:lnTo>
                    <a:lnTo>
                      <a:pt x="212" y="18"/>
                    </a:lnTo>
                    <a:lnTo>
                      <a:pt x="220" y="24"/>
                    </a:lnTo>
                    <a:lnTo>
                      <a:pt x="227" y="30"/>
                    </a:lnTo>
                    <a:lnTo>
                      <a:pt x="235" y="37"/>
                    </a:lnTo>
                    <a:lnTo>
                      <a:pt x="241" y="45"/>
                    </a:lnTo>
                    <a:lnTo>
                      <a:pt x="246" y="53"/>
                    </a:lnTo>
                    <a:lnTo>
                      <a:pt x="252" y="62"/>
                    </a:lnTo>
                    <a:lnTo>
                      <a:pt x="256" y="72"/>
                    </a:lnTo>
                    <a:lnTo>
                      <a:pt x="260" y="81"/>
                    </a:lnTo>
                    <a:lnTo>
                      <a:pt x="263" y="93"/>
                    </a:lnTo>
                    <a:lnTo>
                      <a:pt x="224" y="103"/>
                    </a:lnTo>
                    <a:lnTo>
                      <a:pt x="218" y="86"/>
                    </a:lnTo>
                    <a:lnTo>
                      <a:pt x="211" y="72"/>
                    </a:lnTo>
                    <a:lnTo>
                      <a:pt x="207" y="67"/>
                    </a:lnTo>
                    <a:lnTo>
                      <a:pt x="203" y="61"/>
                    </a:lnTo>
                    <a:lnTo>
                      <a:pt x="198" y="56"/>
                    </a:lnTo>
                    <a:lnTo>
                      <a:pt x="193" y="52"/>
                    </a:lnTo>
                    <a:lnTo>
                      <a:pt x="188" y="47"/>
                    </a:lnTo>
                    <a:lnTo>
                      <a:pt x="183" y="44"/>
                    </a:lnTo>
                    <a:lnTo>
                      <a:pt x="176" y="42"/>
                    </a:lnTo>
                    <a:lnTo>
                      <a:pt x="170" y="40"/>
                    </a:lnTo>
                    <a:lnTo>
                      <a:pt x="164" y="38"/>
                    </a:lnTo>
                    <a:lnTo>
                      <a:pt x="157" y="37"/>
                    </a:lnTo>
                    <a:lnTo>
                      <a:pt x="150" y="36"/>
                    </a:lnTo>
                    <a:lnTo>
                      <a:pt x="143" y="36"/>
                    </a:lnTo>
                    <a:lnTo>
                      <a:pt x="134" y="36"/>
                    </a:lnTo>
                    <a:lnTo>
                      <a:pt x="126" y="37"/>
                    </a:lnTo>
                    <a:lnTo>
                      <a:pt x="118" y="38"/>
                    </a:lnTo>
                    <a:lnTo>
                      <a:pt x="111" y="40"/>
                    </a:lnTo>
                    <a:lnTo>
                      <a:pt x="103" y="42"/>
                    </a:lnTo>
                    <a:lnTo>
                      <a:pt x="96" y="45"/>
                    </a:lnTo>
                    <a:lnTo>
                      <a:pt x="90" y="50"/>
                    </a:lnTo>
                    <a:lnTo>
                      <a:pt x="84" y="53"/>
                    </a:lnTo>
                    <a:lnTo>
                      <a:pt x="78" y="58"/>
                    </a:lnTo>
                    <a:lnTo>
                      <a:pt x="73" y="63"/>
                    </a:lnTo>
                    <a:lnTo>
                      <a:pt x="68" y="69"/>
                    </a:lnTo>
                    <a:lnTo>
                      <a:pt x="64" y="74"/>
                    </a:lnTo>
                    <a:lnTo>
                      <a:pt x="60" y="80"/>
                    </a:lnTo>
                    <a:lnTo>
                      <a:pt x="57" y="87"/>
                    </a:lnTo>
                    <a:lnTo>
                      <a:pt x="54" y="93"/>
                    </a:lnTo>
                    <a:lnTo>
                      <a:pt x="50" y="100"/>
                    </a:lnTo>
                    <a:lnTo>
                      <a:pt x="46" y="115"/>
                    </a:lnTo>
                    <a:lnTo>
                      <a:pt x="43" y="131"/>
                    </a:lnTo>
                    <a:lnTo>
                      <a:pt x="42" y="146"/>
                    </a:lnTo>
                    <a:lnTo>
                      <a:pt x="41" y="162"/>
                    </a:lnTo>
                    <a:lnTo>
                      <a:pt x="42" y="182"/>
                    </a:lnTo>
                    <a:lnTo>
                      <a:pt x="44" y="200"/>
                    </a:lnTo>
                    <a:lnTo>
                      <a:pt x="47" y="217"/>
                    </a:lnTo>
                    <a:lnTo>
                      <a:pt x="53" y="233"/>
                    </a:lnTo>
                    <a:lnTo>
                      <a:pt x="56" y="240"/>
                    </a:lnTo>
                    <a:lnTo>
                      <a:pt x="59" y="248"/>
                    </a:lnTo>
                    <a:lnTo>
                      <a:pt x="63" y="254"/>
                    </a:lnTo>
                    <a:lnTo>
                      <a:pt x="67" y="260"/>
                    </a:lnTo>
                    <a:lnTo>
                      <a:pt x="72" y="266"/>
                    </a:lnTo>
                    <a:lnTo>
                      <a:pt x="77" y="270"/>
                    </a:lnTo>
                    <a:lnTo>
                      <a:pt x="82" y="275"/>
                    </a:lnTo>
                    <a:lnTo>
                      <a:pt x="88" y="278"/>
                    </a:lnTo>
                    <a:lnTo>
                      <a:pt x="100" y="286"/>
                    </a:lnTo>
                    <a:lnTo>
                      <a:pt x="113" y="290"/>
                    </a:lnTo>
                    <a:lnTo>
                      <a:pt x="126" y="293"/>
                    </a:lnTo>
                    <a:lnTo>
                      <a:pt x="139" y="294"/>
                    </a:lnTo>
                    <a:lnTo>
                      <a:pt x="148" y="293"/>
                    </a:lnTo>
                    <a:lnTo>
                      <a:pt x="155" y="292"/>
                    </a:lnTo>
                    <a:lnTo>
                      <a:pt x="164" y="291"/>
                    </a:lnTo>
                    <a:lnTo>
                      <a:pt x="171" y="289"/>
                    </a:lnTo>
                    <a:lnTo>
                      <a:pt x="178" y="286"/>
                    </a:lnTo>
                    <a:lnTo>
                      <a:pt x="184" y="283"/>
                    </a:lnTo>
                    <a:lnTo>
                      <a:pt x="190" y="278"/>
                    </a:lnTo>
                    <a:lnTo>
                      <a:pt x="197" y="273"/>
                    </a:lnTo>
                    <a:lnTo>
                      <a:pt x="202" y="268"/>
                    </a:lnTo>
                    <a:lnTo>
                      <a:pt x="207" y="261"/>
                    </a:lnTo>
                    <a:lnTo>
                      <a:pt x="212" y="255"/>
                    </a:lnTo>
                    <a:lnTo>
                      <a:pt x="217" y="248"/>
                    </a:lnTo>
                    <a:lnTo>
                      <a:pt x="220" y="240"/>
                    </a:lnTo>
                    <a:lnTo>
                      <a:pt x="223" y="232"/>
                    </a:lnTo>
                    <a:lnTo>
                      <a:pt x="226" y="222"/>
                    </a:lnTo>
                    <a:lnTo>
                      <a:pt x="228" y="213"/>
                    </a:lnTo>
                    <a:close/>
                  </a:path>
                </a:pathLst>
              </a:custGeom>
              <a:solidFill>
                <a:srgbClr val="1f1a17"/>
              </a:solidFill>
              <a:ln w="0">
                <a:noFill/>
              </a:ln>
            </p:spPr>
            <p:style>
              <a:lnRef idx="0"/>
              <a:fillRef idx="0"/>
              <a:effectRef idx="0"/>
              <a:fontRef idx="minor"/>
            </p:style>
            <p:txBody>
              <a:bodyPr lIns="90000" rIns="90000" tIns="720" bIns="720" anchor="t">
                <a:noAutofit/>
              </a:bodyPr>
              <a:p>
                <a:pPr>
                  <a:lnSpc>
                    <a:spcPct val="100000"/>
                  </a:lnSpc>
                </a:pPr>
                <a:endParaRPr b="0" lang="en-US" sz="1800" spc="-1" strike="noStrike">
                  <a:solidFill>
                    <a:srgbClr val="000000"/>
                  </a:solidFill>
                  <a:latin typeface="Arial"/>
                  <a:ea typeface="宋体"/>
                </a:endParaRPr>
              </a:p>
            </p:txBody>
          </p:sp>
          <p:sp>
            <p:nvSpPr>
              <p:cNvPr id="669" name="Freeform 36"/>
              <p:cNvSpPr/>
              <p:nvPr/>
            </p:nvSpPr>
            <p:spPr>
              <a:xfrm>
                <a:off x="1040400" y="1478160"/>
                <a:ext cx="42480" cy="45360"/>
              </a:xfrm>
              <a:custGeom>
                <a:avLst/>
                <a:gdLst>
                  <a:gd name="textAreaLeft" fmla="*/ 0 w 42480"/>
                  <a:gd name="textAreaRight" fmla="*/ 42840 w 42480"/>
                  <a:gd name="textAreaTop" fmla="*/ 0 h 45360"/>
                  <a:gd name="textAreaBottom" fmla="*/ 45720 h 45360"/>
                </a:gdLst>
                <a:ahLst/>
                <a:rect l="textAreaLeft" t="textAreaTop" r="textAreaRight" b="textAreaBottom"/>
                <a:pathLst>
                  <a:path w="291" h="331">
                    <a:moveTo>
                      <a:pt x="0" y="170"/>
                    </a:moveTo>
                    <a:lnTo>
                      <a:pt x="0" y="150"/>
                    </a:lnTo>
                    <a:lnTo>
                      <a:pt x="2" y="132"/>
                    </a:lnTo>
                    <a:lnTo>
                      <a:pt x="5" y="115"/>
                    </a:lnTo>
                    <a:lnTo>
                      <a:pt x="10" y="99"/>
                    </a:lnTo>
                    <a:lnTo>
                      <a:pt x="16" y="83"/>
                    </a:lnTo>
                    <a:lnTo>
                      <a:pt x="22" y="70"/>
                    </a:lnTo>
                    <a:lnTo>
                      <a:pt x="31" y="57"/>
                    </a:lnTo>
                    <a:lnTo>
                      <a:pt x="40" y="45"/>
                    </a:lnTo>
                    <a:lnTo>
                      <a:pt x="51" y="35"/>
                    </a:lnTo>
                    <a:lnTo>
                      <a:pt x="63" y="25"/>
                    </a:lnTo>
                    <a:lnTo>
                      <a:pt x="74" y="18"/>
                    </a:lnTo>
                    <a:lnTo>
                      <a:pt x="87" y="11"/>
                    </a:lnTo>
                    <a:lnTo>
                      <a:pt x="101" y="6"/>
                    </a:lnTo>
                    <a:lnTo>
                      <a:pt x="116" y="3"/>
                    </a:lnTo>
                    <a:lnTo>
                      <a:pt x="130" y="1"/>
                    </a:lnTo>
                    <a:lnTo>
                      <a:pt x="146" y="0"/>
                    </a:lnTo>
                    <a:lnTo>
                      <a:pt x="156" y="1"/>
                    </a:lnTo>
                    <a:lnTo>
                      <a:pt x="166" y="2"/>
                    </a:lnTo>
                    <a:lnTo>
                      <a:pt x="176" y="3"/>
                    </a:lnTo>
                    <a:lnTo>
                      <a:pt x="186" y="5"/>
                    </a:lnTo>
                    <a:lnTo>
                      <a:pt x="195" y="8"/>
                    </a:lnTo>
                    <a:lnTo>
                      <a:pt x="205" y="12"/>
                    </a:lnTo>
                    <a:lnTo>
                      <a:pt x="213" y="17"/>
                    </a:lnTo>
                    <a:lnTo>
                      <a:pt x="222" y="21"/>
                    </a:lnTo>
                    <a:lnTo>
                      <a:pt x="230" y="27"/>
                    </a:lnTo>
                    <a:lnTo>
                      <a:pt x="237" y="33"/>
                    </a:lnTo>
                    <a:lnTo>
                      <a:pt x="245" y="40"/>
                    </a:lnTo>
                    <a:lnTo>
                      <a:pt x="252" y="46"/>
                    </a:lnTo>
                    <a:lnTo>
                      <a:pt x="258" y="55"/>
                    </a:lnTo>
                    <a:lnTo>
                      <a:pt x="264" y="62"/>
                    </a:lnTo>
                    <a:lnTo>
                      <a:pt x="269" y="71"/>
                    </a:lnTo>
                    <a:lnTo>
                      <a:pt x="273" y="80"/>
                    </a:lnTo>
                    <a:lnTo>
                      <a:pt x="278" y="90"/>
                    </a:lnTo>
                    <a:lnTo>
                      <a:pt x="281" y="100"/>
                    </a:lnTo>
                    <a:lnTo>
                      <a:pt x="284" y="110"/>
                    </a:lnTo>
                    <a:lnTo>
                      <a:pt x="287" y="120"/>
                    </a:lnTo>
                    <a:lnTo>
                      <a:pt x="289" y="131"/>
                    </a:lnTo>
                    <a:lnTo>
                      <a:pt x="290" y="143"/>
                    </a:lnTo>
                    <a:lnTo>
                      <a:pt x="291" y="154"/>
                    </a:lnTo>
                    <a:lnTo>
                      <a:pt x="291" y="166"/>
                    </a:lnTo>
                    <a:lnTo>
                      <a:pt x="291" y="178"/>
                    </a:lnTo>
                    <a:lnTo>
                      <a:pt x="290" y="189"/>
                    </a:lnTo>
                    <a:lnTo>
                      <a:pt x="288" y="201"/>
                    </a:lnTo>
                    <a:lnTo>
                      <a:pt x="287" y="213"/>
                    </a:lnTo>
                    <a:lnTo>
                      <a:pt x="284" y="223"/>
                    </a:lnTo>
                    <a:lnTo>
                      <a:pt x="281" y="234"/>
                    </a:lnTo>
                    <a:lnTo>
                      <a:pt x="277" y="243"/>
                    </a:lnTo>
                    <a:lnTo>
                      <a:pt x="272" y="253"/>
                    </a:lnTo>
                    <a:lnTo>
                      <a:pt x="268" y="262"/>
                    </a:lnTo>
                    <a:lnTo>
                      <a:pt x="263" y="271"/>
                    </a:lnTo>
                    <a:lnTo>
                      <a:pt x="257" y="279"/>
                    </a:lnTo>
                    <a:lnTo>
                      <a:pt x="250" y="287"/>
                    </a:lnTo>
                    <a:lnTo>
                      <a:pt x="243" y="294"/>
                    </a:lnTo>
                    <a:lnTo>
                      <a:pt x="236" y="301"/>
                    </a:lnTo>
                    <a:lnTo>
                      <a:pt x="228" y="306"/>
                    </a:lnTo>
                    <a:lnTo>
                      <a:pt x="219" y="311"/>
                    </a:lnTo>
                    <a:lnTo>
                      <a:pt x="211" y="315"/>
                    </a:lnTo>
                    <a:lnTo>
                      <a:pt x="202" y="320"/>
                    </a:lnTo>
                    <a:lnTo>
                      <a:pt x="193" y="323"/>
                    </a:lnTo>
                    <a:lnTo>
                      <a:pt x="184" y="326"/>
                    </a:lnTo>
                    <a:lnTo>
                      <a:pt x="175" y="328"/>
                    </a:lnTo>
                    <a:lnTo>
                      <a:pt x="165" y="330"/>
                    </a:lnTo>
                    <a:lnTo>
                      <a:pt x="156" y="330"/>
                    </a:lnTo>
                    <a:lnTo>
                      <a:pt x="145" y="331"/>
                    </a:lnTo>
                    <a:lnTo>
                      <a:pt x="135" y="330"/>
                    </a:lnTo>
                    <a:lnTo>
                      <a:pt x="125" y="329"/>
                    </a:lnTo>
                    <a:lnTo>
                      <a:pt x="115" y="328"/>
                    </a:lnTo>
                    <a:lnTo>
                      <a:pt x="105" y="326"/>
                    </a:lnTo>
                    <a:lnTo>
                      <a:pt x="96" y="323"/>
                    </a:lnTo>
                    <a:lnTo>
                      <a:pt x="86" y="319"/>
                    </a:lnTo>
                    <a:lnTo>
                      <a:pt x="78" y="314"/>
                    </a:lnTo>
                    <a:lnTo>
                      <a:pt x="69" y="309"/>
                    </a:lnTo>
                    <a:lnTo>
                      <a:pt x="61" y="304"/>
                    </a:lnTo>
                    <a:lnTo>
                      <a:pt x="53" y="297"/>
                    </a:lnTo>
                    <a:lnTo>
                      <a:pt x="46" y="291"/>
                    </a:lnTo>
                    <a:lnTo>
                      <a:pt x="39" y="284"/>
                    </a:lnTo>
                    <a:lnTo>
                      <a:pt x="33" y="276"/>
                    </a:lnTo>
                    <a:lnTo>
                      <a:pt x="28" y="268"/>
                    </a:lnTo>
                    <a:lnTo>
                      <a:pt x="22" y="259"/>
                    </a:lnTo>
                    <a:lnTo>
                      <a:pt x="17" y="250"/>
                    </a:lnTo>
                    <a:lnTo>
                      <a:pt x="13" y="240"/>
                    </a:lnTo>
                    <a:lnTo>
                      <a:pt x="10" y="231"/>
                    </a:lnTo>
                    <a:lnTo>
                      <a:pt x="7" y="221"/>
                    </a:lnTo>
                    <a:lnTo>
                      <a:pt x="4" y="211"/>
                    </a:lnTo>
                    <a:lnTo>
                      <a:pt x="2" y="201"/>
                    </a:lnTo>
                    <a:lnTo>
                      <a:pt x="1" y="190"/>
                    </a:lnTo>
                    <a:lnTo>
                      <a:pt x="0" y="180"/>
                    </a:lnTo>
                    <a:lnTo>
                      <a:pt x="0" y="170"/>
                    </a:lnTo>
                    <a:close/>
                    <a:moveTo>
                      <a:pt x="41" y="170"/>
                    </a:moveTo>
                    <a:lnTo>
                      <a:pt x="43" y="185"/>
                    </a:lnTo>
                    <a:lnTo>
                      <a:pt x="44" y="198"/>
                    </a:lnTo>
                    <a:lnTo>
                      <a:pt x="46" y="211"/>
                    </a:lnTo>
                    <a:lnTo>
                      <a:pt x="49" y="222"/>
                    </a:lnTo>
                    <a:lnTo>
                      <a:pt x="53" y="233"/>
                    </a:lnTo>
                    <a:lnTo>
                      <a:pt x="58" y="243"/>
                    </a:lnTo>
                    <a:lnTo>
                      <a:pt x="64" y="253"/>
                    </a:lnTo>
                    <a:lnTo>
                      <a:pt x="71" y="261"/>
                    </a:lnTo>
                    <a:lnTo>
                      <a:pt x="79" y="270"/>
                    </a:lnTo>
                    <a:lnTo>
                      <a:pt x="87" y="276"/>
                    </a:lnTo>
                    <a:lnTo>
                      <a:pt x="96" y="282"/>
                    </a:lnTo>
                    <a:lnTo>
                      <a:pt x="105" y="287"/>
                    </a:lnTo>
                    <a:lnTo>
                      <a:pt x="115" y="290"/>
                    </a:lnTo>
                    <a:lnTo>
                      <a:pt x="124" y="293"/>
                    </a:lnTo>
                    <a:lnTo>
                      <a:pt x="135" y="294"/>
                    </a:lnTo>
                    <a:lnTo>
                      <a:pt x="145" y="295"/>
                    </a:lnTo>
                    <a:lnTo>
                      <a:pt x="157" y="294"/>
                    </a:lnTo>
                    <a:lnTo>
                      <a:pt x="168" y="293"/>
                    </a:lnTo>
                    <a:lnTo>
                      <a:pt x="177" y="290"/>
                    </a:lnTo>
                    <a:lnTo>
                      <a:pt x="187" y="287"/>
                    </a:lnTo>
                    <a:lnTo>
                      <a:pt x="196" y="282"/>
                    </a:lnTo>
                    <a:lnTo>
                      <a:pt x="205" y="276"/>
                    </a:lnTo>
                    <a:lnTo>
                      <a:pt x="213" y="269"/>
                    </a:lnTo>
                    <a:lnTo>
                      <a:pt x="220" y="261"/>
                    </a:lnTo>
                    <a:lnTo>
                      <a:pt x="227" y="253"/>
                    </a:lnTo>
                    <a:lnTo>
                      <a:pt x="233" y="242"/>
                    </a:lnTo>
                    <a:lnTo>
                      <a:pt x="238" y="232"/>
                    </a:lnTo>
                    <a:lnTo>
                      <a:pt x="243" y="221"/>
                    </a:lnTo>
                    <a:lnTo>
                      <a:pt x="246" y="208"/>
                    </a:lnTo>
                    <a:lnTo>
                      <a:pt x="248" y="195"/>
                    </a:lnTo>
                    <a:lnTo>
                      <a:pt x="249" y="181"/>
                    </a:lnTo>
                    <a:lnTo>
                      <a:pt x="250" y="166"/>
                    </a:lnTo>
                    <a:lnTo>
                      <a:pt x="249" y="147"/>
                    </a:lnTo>
                    <a:lnTo>
                      <a:pt x="247" y="129"/>
                    </a:lnTo>
                    <a:lnTo>
                      <a:pt x="243" y="113"/>
                    </a:lnTo>
                    <a:lnTo>
                      <a:pt x="237" y="98"/>
                    </a:lnTo>
                    <a:lnTo>
                      <a:pt x="230" y="84"/>
                    </a:lnTo>
                    <a:lnTo>
                      <a:pt x="222" y="72"/>
                    </a:lnTo>
                    <a:lnTo>
                      <a:pt x="217" y="66"/>
                    </a:lnTo>
                    <a:lnTo>
                      <a:pt x="212" y="61"/>
                    </a:lnTo>
                    <a:lnTo>
                      <a:pt x="207" y="57"/>
                    </a:lnTo>
                    <a:lnTo>
                      <a:pt x="200" y="53"/>
                    </a:lnTo>
                    <a:lnTo>
                      <a:pt x="188" y="45"/>
                    </a:lnTo>
                    <a:lnTo>
                      <a:pt x="175" y="41"/>
                    </a:lnTo>
                    <a:lnTo>
                      <a:pt x="161" y="38"/>
                    </a:lnTo>
                    <a:lnTo>
                      <a:pt x="146" y="37"/>
                    </a:lnTo>
                    <a:lnTo>
                      <a:pt x="136" y="37"/>
                    </a:lnTo>
                    <a:lnTo>
                      <a:pt x="125" y="39"/>
                    </a:lnTo>
                    <a:lnTo>
                      <a:pt x="116" y="41"/>
                    </a:lnTo>
                    <a:lnTo>
                      <a:pt x="106" y="44"/>
                    </a:lnTo>
                    <a:lnTo>
                      <a:pt x="98" y="48"/>
                    </a:lnTo>
                    <a:lnTo>
                      <a:pt x="88" y="54"/>
                    </a:lnTo>
                    <a:lnTo>
                      <a:pt x="81" y="60"/>
                    </a:lnTo>
                    <a:lnTo>
                      <a:pt x="72" y="68"/>
                    </a:lnTo>
                    <a:lnTo>
                      <a:pt x="65" y="76"/>
                    </a:lnTo>
                    <a:lnTo>
                      <a:pt x="58" y="86"/>
                    </a:lnTo>
                    <a:lnTo>
                      <a:pt x="53" y="96"/>
                    </a:lnTo>
                    <a:lnTo>
                      <a:pt x="49" y="109"/>
                    </a:lnTo>
                    <a:lnTo>
                      <a:pt x="46" y="123"/>
                    </a:lnTo>
                    <a:lnTo>
                      <a:pt x="44" y="137"/>
                    </a:lnTo>
                    <a:lnTo>
                      <a:pt x="43" y="153"/>
                    </a:lnTo>
                    <a:lnTo>
                      <a:pt x="41" y="170"/>
                    </a:lnTo>
                    <a:close/>
                  </a:path>
                </a:pathLst>
              </a:custGeom>
              <a:solidFill>
                <a:srgbClr val="1f1a17"/>
              </a:solidFill>
              <a:ln w="0">
                <a:noFill/>
              </a:ln>
            </p:spPr>
            <p:style>
              <a:lnRef idx="0"/>
              <a:fillRef idx="0"/>
              <a:effectRef idx="0"/>
              <a:fontRef idx="minor"/>
            </p:style>
            <p:txBody>
              <a:bodyPr lIns="90000" rIns="90000" tIns="720" bIns="720" anchor="t">
                <a:noAutofit/>
              </a:bodyPr>
              <a:p>
                <a:pPr>
                  <a:lnSpc>
                    <a:spcPct val="100000"/>
                  </a:lnSpc>
                </a:pPr>
                <a:endParaRPr b="0" lang="en-US" sz="1800" spc="-1" strike="noStrike">
                  <a:solidFill>
                    <a:srgbClr val="000000"/>
                  </a:solidFill>
                  <a:latin typeface="Arial"/>
                  <a:ea typeface="宋体"/>
                </a:endParaRPr>
              </a:p>
            </p:txBody>
          </p:sp>
          <p:sp>
            <p:nvSpPr>
              <p:cNvPr id="670" name="Freeform 37"/>
              <p:cNvSpPr/>
              <p:nvPr/>
            </p:nvSpPr>
            <p:spPr>
              <a:xfrm>
                <a:off x="1094760" y="1479240"/>
                <a:ext cx="27720" cy="44280"/>
              </a:xfrm>
              <a:custGeom>
                <a:avLst/>
                <a:gdLst>
                  <a:gd name="textAreaLeft" fmla="*/ 0 w 27720"/>
                  <a:gd name="textAreaRight" fmla="*/ 28080 w 27720"/>
                  <a:gd name="textAreaTop" fmla="*/ 0 h 44280"/>
                  <a:gd name="textAreaBottom" fmla="*/ 44640 h 44280"/>
                </a:gdLst>
                <a:ahLst/>
                <a:rect l="textAreaLeft" t="textAreaTop" r="textAreaRight" b="textAreaBottom"/>
                <a:pathLst>
                  <a:path w="189" h="320">
                    <a:moveTo>
                      <a:pt x="0" y="320"/>
                    </a:moveTo>
                    <a:lnTo>
                      <a:pt x="0" y="0"/>
                    </a:lnTo>
                    <a:lnTo>
                      <a:pt x="40" y="0"/>
                    </a:lnTo>
                    <a:lnTo>
                      <a:pt x="40" y="282"/>
                    </a:lnTo>
                    <a:lnTo>
                      <a:pt x="189" y="282"/>
                    </a:lnTo>
                    <a:lnTo>
                      <a:pt x="189" y="320"/>
                    </a:lnTo>
                    <a:lnTo>
                      <a:pt x="0" y="32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671" name="Freeform 38"/>
              <p:cNvSpPr/>
              <p:nvPr/>
            </p:nvSpPr>
            <p:spPr>
              <a:xfrm>
                <a:off x="1134360" y="1479240"/>
                <a:ext cx="27720" cy="44280"/>
              </a:xfrm>
              <a:custGeom>
                <a:avLst/>
                <a:gdLst>
                  <a:gd name="textAreaLeft" fmla="*/ 0 w 27720"/>
                  <a:gd name="textAreaRight" fmla="*/ 28080 w 27720"/>
                  <a:gd name="textAreaTop" fmla="*/ 0 h 44280"/>
                  <a:gd name="textAreaBottom" fmla="*/ 44640 h 44280"/>
                </a:gdLst>
                <a:ahLst/>
                <a:rect l="textAreaLeft" t="textAreaTop" r="textAreaRight" b="textAreaBottom"/>
                <a:pathLst>
                  <a:path w="191" h="320">
                    <a:moveTo>
                      <a:pt x="0" y="320"/>
                    </a:moveTo>
                    <a:lnTo>
                      <a:pt x="0" y="0"/>
                    </a:lnTo>
                    <a:lnTo>
                      <a:pt x="42" y="0"/>
                    </a:lnTo>
                    <a:lnTo>
                      <a:pt x="42" y="282"/>
                    </a:lnTo>
                    <a:lnTo>
                      <a:pt x="191" y="282"/>
                    </a:lnTo>
                    <a:lnTo>
                      <a:pt x="191" y="320"/>
                    </a:lnTo>
                    <a:lnTo>
                      <a:pt x="0" y="32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672" name="Freeform 39"/>
              <p:cNvSpPr/>
              <p:nvPr/>
            </p:nvSpPr>
            <p:spPr>
              <a:xfrm>
                <a:off x="1168920" y="1479240"/>
                <a:ext cx="41400" cy="44280"/>
              </a:xfrm>
              <a:custGeom>
                <a:avLst/>
                <a:gdLst>
                  <a:gd name="textAreaLeft" fmla="*/ 0 w 41400"/>
                  <a:gd name="textAreaRight" fmla="*/ 41760 w 41400"/>
                  <a:gd name="textAreaTop" fmla="*/ 0 h 44280"/>
                  <a:gd name="textAreaBottom" fmla="*/ 44640 h 44280"/>
                </a:gdLst>
                <a:ahLst/>
                <a:rect l="textAreaLeft" t="textAreaTop" r="textAreaRight" b="textAreaBottom"/>
                <a:pathLst>
                  <a:path w="285" h="320">
                    <a:moveTo>
                      <a:pt x="0" y="320"/>
                    </a:moveTo>
                    <a:lnTo>
                      <a:pt x="118" y="0"/>
                    </a:lnTo>
                    <a:lnTo>
                      <a:pt x="161" y="0"/>
                    </a:lnTo>
                    <a:lnTo>
                      <a:pt x="285" y="320"/>
                    </a:lnTo>
                    <a:lnTo>
                      <a:pt x="240" y="320"/>
                    </a:lnTo>
                    <a:lnTo>
                      <a:pt x="204" y="223"/>
                    </a:lnTo>
                    <a:lnTo>
                      <a:pt x="77" y="223"/>
                    </a:lnTo>
                    <a:lnTo>
                      <a:pt x="44" y="320"/>
                    </a:lnTo>
                    <a:lnTo>
                      <a:pt x="0" y="320"/>
                    </a:lnTo>
                    <a:close/>
                    <a:moveTo>
                      <a:pt x="88" y="189"/>
                    </a:moveTo>
                    <a:lnTo>
                      <a:pt x="192" y="189"/>
                    </a:lnTo>
                    <a:lnTo>
                      <a:pt x="160" y="100"/>
                    </a:lnTo>
                    <a:lnTo>
                      <a:pt x="153" y="81"/>
                    </a:lnTo>
                    <a:lnTo>
                      <a:pt x="147" y="63"/>
                    </a:lnTo>
                    <a:lnTo>
                      <a:pt x="142" y="48"/>
                    </a:lnTo>
                    <a:lnTo>
                      <a:pt x="138" y="33"/>
                    </a:lnTo>
                    <a:lnTo>
                      <a:pt x="135" y="49"/>
                    </a:lnTo>
                    <a:lnTo>
                      <a:pt x="132" y="64"/>
                    </a:lnTo>
                    <a:lnTo>
                      <a:pt x="126" y="80"/>
                    </a:lnTo>
                    <a:lnTo>
                      <a:pt x="122" y="94"/>
                    </a:lnTo>
                    <a:lnTo>
                      <a:pt x="88" y="189"/>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673" name="Freeform 40"/>
              <p:cNvSpPr/>
              <p:nvPr/>
            </p:nvSpPr>
            <p:spPr>
              <a:xfrm>
                <a:off x="1220040" y="1479240"/>
                <a:ext cx="39240" cy="44280"/>
              </a:xfrm>
              <a:custGeom>
                <a:avLst/>
                <a:gdLst>
                  <a:gd name="textAreaLeft" fmla="*/ 0 w 39240"/>
                  <a:gd name="textAreaRight" fmla="*/ 39600 w 39240"/>
                  <a:gd name="textAreaTop" fmla="*/ 0 h 44280"/>
                  <a:gd name="textAreaBottom" fmla="*/ 44640 h 44280"/>
                </a:gdLst>
                <a:ahLst/>
                <a:rect l="textAreaLeft" t="textAreaTop" r="textAreaRight" b="textAreaBottom"/>
                <a:pathLst>
                  <a:path w="268" h="320">
                    <a:moveTo>
                      <a:pt x="0" y="320"/>
                    </a:moveTo>
                    <a:lnTo>
                      <a:pt x="0" y="0"/>
                    </a:lnTo>
                    <a:lnTo>
                      <a:pt x="135" y="0"/>
                    </a:lnTo>
                    <a:lnTo>
                      <a:pt x="154" y="0"/>
                    </a:lnTo>
                    <a:lnTo>
                      <a:pt x="171" y="2"/>
                    </a:lnTo>
                    <a:lnTo>
                      <a:pt x="186" y="4"/>
                    </a:lnTo>
                    <a:lnTo>
                      <a:pt x="197" y="9"/>
                    </a:lnTo>
                    <a:lnTo>
                      <a:pt x="207" y="14"/>
                    </a:lnTo>
                    <a:lnTo>
                      <a:pt x="217" y="20"/>
                    </a:lnTo>
                    <a:lnTo>
                      <a:pt x="224" y="29"/>
                    </a:lnTo>
                    <a:lnTo>
                      <a:pt x="231" y="39"/>
                    </a:lnTo>
                    <a:lnTo>
                      <a:pt x="237" y="50"/>
                    </a:lnTo>
                    <a:lnTo>
                      <a:pt x="241" y="62"/>
                    </a:lnTo>
                    <a:lnTo>
                      <a:pt x="243" y="74"/>
                    </a:lnTo>
                    <a:lnTo>
                      <a:pt x="244" y="87"/>
                    </a:lnTo>
                    <a:lnTo>
                      <a:pt x="243" y="95"/>
                    </a:lnTo>
                    <a:lnTo>
                      <a:pt x="242" y="104"/>
                    </a:lnTo>
                    <a:lnTo>
                      <a:pt x="241" y="111"/>
                    </a:lnTo>
                    <a:lnTo>
                      <a:pt x="239" y="119"/>
                    </a:lnTo>
                    <a:lnTo>
                      <a:pt x="236" y="125"/>
                    </a:lnTo>
                    <a:lnTo>
                      <a:pt x="231" y="133"/>
                    </a:lnTo>
                    <a:lnTo>
                      <a:pt x="227" y="139"/>
                    </a:lnTo>
                    <a:lnTo>
                      <a:pt x="223" y="144"/>
                    </a:lnTo>
                    <a:lnTo>
                      <a:pt x="217" y="151"/>
                    </a:lnTo>
                    <a:lnTo>
                      <a:pt x="211" y="155"/>
                    </a:lnTo>
                    <a:lnTo>
                      <a:pt x="204" y="160"/>
                    </a:lnTo>
                    <a:lnTo>
                      <a:pt x="196" y="163"/>
                    </a:lnTo>
                    <a:lnTo>
                      <a:pt x="188" y="167"/>
                    </a:lnTo>
                    <a:lnTo>
                      <a:pt x="178" y="170"/>
                    </a:lnTo>
                    <a:lnTo>
                      <a:pt x="169" y="173"/>
                    </a:lnTo>
                    <a:lnTo>
                      <a:pt x="158" y="174"/>
                    </a:lnTo>
                    <a:lnTo>
                      <a:pt x="172" y="182"/>
                    </a:lnTo>
                    <a:lnTo>
                      <a:pt x="183" y="190"/>
                    </a:lnTo>
                    <a:lnTo>
                      <a:pt x="191" y="199"/>
                    </a:lnTo>
                    <a:lnTo>
                      <a:pt x="200" y="209"/>
                    </a:lnTo>
                    <a:lnTo>
                      <a:pt x="208" y="220"/>
                    </a:lnTo>
                    <a:lnTo>
                      <a:pt x="215" y="232"/>
                    </a:lnTo>
                    <a:lnTo>
                      <a:pt x="268" y="320"/>
                    </a:lnTo>
                    <a:lnTo>
                      <a:pt x="218" y="320"/>
                    </a:lnTo>
                    <a:lnTo>
                      <a:pt x="177" y="253"/>
                    </a:lnTo>
                    <a:lnTo>
                      <a:pt x="169" y="240"/>
                    </a:lnTo>
                    <a:lnTo>
                      <a:pt x="161" y="228"/>
                    </a:lnTo>
                    <a:lnTo>
                      <a:pt x="155" y="217"/>
                    </a:lnTo>
                    <a:lnTo>
                      <a:pt x="149" y="209"/>
                    </a:lnTo>
                    <a:lnTo>
                      <a:pt x="142" y="202"/>
                    </a:lnTo>
                    <a:lnTo>
                      <a:pt x="138" y="196"/>
                    </a:lnTo>
                    <a:lnTo>
                      <a:pt x="133" y="191"/>
                    </a:lnTo>
                    <a:lnTo>
                      <a:pt x="128" y="188"/>
                    </a:lnTo>
                    <a:lnTo>
                      <a:pt x="119" y="182"/>
                    </a:lnTo>
                    <a:lnTo>
                      <a:pt x="110" y="179"/>
                    </a:lnTo>
                    <a:lnTo>
                      <a:pt x="101" y="178"/>
                    </a:lnTo>
                    <a:lnTo>
                      <a:pt x="87" y="178"/>
                    </a:lnTo>
                    <a:lnTo>
                      <a:pt x="41" y="178"/>
                    </a:lnTo>
                    <a:lnTo>
                      <a:pt x="41" y="320"/>
                    </a:lnTo>
                    <a:lnTo>
                      <a:pt x="0" y="320"/>
                    </a:lnTo>
                    <a:close/>
                    <a:moveTo>
                      <a:pt x="41" y="141"/>
                    </a:moveTo>
                    <a:lnTo>
                      <a:pt x="128" y="141"/>
                    </a:lnTo>
                    <a:lnTo>
                      <a:pt x="140" y="141"/>
                    </a:lnTo>
                    <a:lnTo>
                      <a:pt x="152" y="140"/>
                    </a:lnTo>
                    <a:lnTo>
                      <a:pt x="161" y="138"/>
                    </a:lnTo>
                    <a:lnTo>
                      <a:pt x="170" y="135"/>
                    </a:lnTo>
                    <a:lnTo>
                      <a:pt x="177" y="131"/>
                    </a:lnTo>
                    <a:lnTo>
                      <a:pt x="184" y="127"/>
                    </a:lnTo>
                    <a:lnTo>
                      <a:pt x="189" y="122"/>
                    </a:lnTo>
                    <a:lnTo>
                      <a:pt x="194" y="116"/>
                    </a:lnTo>
                    <a:lnTo>
                      <a:pt x="197" y="109"/>
                    </a:lnTo>
                    <a:lnTo>
                      <a:pt x="200" y="102"/>
                    </a:lnTo>
                    <a:lnTo>
                      <a:pt x="202" y="94"/>
                    </a:lnTo>
                    <a:lnTo>
                      <a:pt x="202" y="87"/>
                    </a:lnTo>
                    <a:lnTo>
                      <a:pt x="201" y="76"/>
                    </a:lnTo>
                    <a:lnTo>
                      <a:pt x="199" y="67"/>
                    </a:lnTo>
                    <a:lnTo>
                      <a:pt x="196" y="62"/>
                    </a:lnTo>
                    <a:lnTo>
                      <a:pt x="193" y="57"/>
                    </a:lnTo>
                    <a:lnTo>
                      <a:pt x="190" y="54"/>
                    </a:lnTo>
                    <a:lnTo>
                      <a:pt x="187" y="50"/>
                    </a:lnTo>
                    <a:lnTo>
                      <a:pt x="183" y="47"/>
                    </a:lnTo>
                    <a:lnTo>
                      <a:pt x="177" y="43"/>
                    </a:lnTo>
                    <a:lnTo>
                      <a:pt x="172" y="41"/>
                    </a:lnTo>
                    <a:lnTo>
                      <a:pt x="166" y="39"/>
                    </a:lnTo>
                    <a:lnTo>
                      <a:pt x="153" y="36"/>
                    </a:lnTo>
                    <a:lnTo>
                      <a:pt x="137" y="35"/>
                    </a:lnTo>
                    <a:lnTo>
                      <a:pt x="41" y="35"/>
                    </a:lnTo>
                    <a:lnTo>
                      <a:pt x="41" y="141"/>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674" name="Freeform 41"/>
              <p:cNvSpPr/>
              <p:nvPr/>
            </p:nvSpPr>
            <p:spPr>
              <a:xfrm>
                <a:off x="1288800" y="1479240"/>
                <a:ext cx="33120" cy="44280"/>
              </a:xfrm>
              <a:custGeom>
                <a:avLst/>
                <a:gdLst>
                  <a:gd name="textAreaLeft" fmla="*/ 0 w 33120"/>
                  <a:gd name="textAreaRight" fmla="*/ 33480 w 33120"/>
                  <a:gd name="textAreaTop" fmla="*/ 0 h 44280"/>
                  <a:gd name="textAreaBottom" fmla="*/ 44640 h 44280"/>
                </a:gdLst>
                <a:ahLst/>
                <a:rect l="textAreaLeft" t="textAreaTop" r="textAreaRight" b="textAreaBottom"/>
                <a:pathLst>
                  <a:path w="228" h="320">
                    <a:moveTo>
                      <a:pt x="0" y="320"/>
                    </a:moveTo>
                    <a:lnTo>
                      <a:pt x="0" y="0"/>
                    </a:lnTo>
                    <a:lnTo>
                      <a:pt x="220" y="0"/>
                    </a:lnTo>
                    <a:lnTo>
                      <a:pt x="220" y="37"/>
                    </a:lnTo>
                    <a:lnTo>
                      <a:pt x="40" y="37"/>
                    </a:lnTo>
                    <a:lnTo>
                      <a:pt x="40" y="136"/>
                    </a:lnTo>
                    <a:lnTo>
                      <a:pt x="209" y="136"/>
                    </a:lnTo>
                    <a:lnTo>
                      <a:pt x="209" y="173"/>
                    </a:lnTo>
                    <a:lnTo>
                      <a:pt x="40" y="173"/>
                    </a:lnTo>
                    <a:lnTo>
                      <a:pt x="40" y="282"/>
                    </a:lnTo>
                    <a:lnTo>
                      <a:pt x="228" y="282"/>
                    </a:lnTo>
                    <a:lnTo>
                      <a:pt x="228" y="320"/>
                    </a:lnTo>
                    <a:lnTo>
                      <a:pt x="0" y="32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675" name="Freeform 42"/>
              <p:cNvSpPr/>
              <p:nvPr/>
            </p:nvSpPr>
            <p:spPr>
              <a:xfrm>
                <a:off x="1334880" y="1479240"/>
                <a:ext cx="35280" cy="44280"/>
              </a:xfrm>
              <a:custGeom>
                <a:avLst/>
                <a:gdLst>
                  <a:gd name="textAreaLeft" fmla="*/ 0 w 35280"/>
                  <a:gd name="textAreaRight" fmla="*/ 35640 w 35280"/>
                  <a:gd name="textAreaTop" fmla="*/ 0 h 44280"/>
                  <a:gd name="textAreaBottom" fmla="*/ 44640 h 44280"/>
                </a:gdLst>
                <a:ahLst/>
                <a:rect l="textAreaLeft" t="textAreaTop" r="textAreaRight" b="textAreaBottom"/>
                <a:pathLst>
                  <a:path w="241" h="320">
                    <a:moveTo>
                      <a:pt x="0" y="320"/>
                    </a:moveTo>
                    <a:lnTo>
                      <a:pt x="0" y="0"/>
                    </a:lnTo>
                    <a:lnTo>
                      <a:pt x="42" y="0"/>
                    </a:lnTo>
                    <a:lnTo>
                      <a:pt x="202" y="251"/>
                    </a:lnTo>
                    <a:lnTo>
                      <a:pt x="202" y="0"/>
                    </a:lnTo>
                    <a:lnTo>
                      <a:pt x="241" y="0"/>
                    </a:lnTo>
                    <a:lnTo>
                      <a:pt x="241" y="320"/>
                    </a:lnTo>
                    <a:lnTo>
                      <a:pt x="200" y="320"/>
                    </a:lnTo>
                    <a:lnTo>
                      <a:pt x="40" y="68"/>
                    </a:lnTo>
                    <a:lnTo>
                      <a:pt x="40" y="320"/>
                    </a:lnTo>
                    <a:lnTo>
                      <a:pt x="0" y="32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676" name="Freeform 43"/>
              <p:cNvSpPr/>
              <p:nvPr/>
            </p:nvSpPr>
            <p:spPr>
              <a:xfrm>
                <a:off x="1380960" y="1479240"/>
                <a:ext cx="36000" cy="44280"/>
              </a:xfrm>
              <a:custGeom>
                <a:avLst/>
                <a:gdLst>
                  <a:gd name="textAreaLeft" fmla="*/ 0 w 36000"/>
                  <a:gd name="textAreaRight" fmla="*/ 36360 w 36000"/>
                  <a:gd name="textAreaTop" fmla="*/ 0 h 44280"/>
                  <a:gd name="textAreaBottom" fmla="*/ 44640 h 44280"/>
                </a:gdLst>
                <a:ahLst/>
                <a:rect l="textAreaLeft" t="textAreaTop" r="textAreaRight" b="textAreaBottom"/>
                <a:pathLst>
                  <a:path w="241" h="320">
                    <a:moveTo>
                      <a:pt x="99" y="320"/>
                    </a:moveTo>
                    <a:lnTo>
                      <a:pt x="99" y="37"/>
                    </a:lnTo>
                    <a:lnTo>
                      <a:pt x="0" y="37"/>
                    </a:lnTo>
                    <a:lnTo>
                      <a:pt x="0" y="0"/>
                    </a:lnTo>
                    <a:lnTo>
                      <a:pt x="241" y="0"/>
                    </a:lnTo>
                    <a:lnTo>
                      <a:pt x="241" y="37"/>
                    </a:lnTo>
                    <a:lnTo>
                      <a:pt x="140" y="37"/>
                    </a:lnTo>
                    <a:lnTo>
                      <a:pt x="140" y="320"/>
                    </a:lnTo>
                    <a:lnTo>
                      <a:pt x="99" y="32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677" name="Freeform 44"/>
              <p:cNvSpPr/>
              <p:nvPr/>
            </p:nvSpPr>
            <p:spPr>
              <a:xfrm>
                <a:off x="1426680" y="1479240"/>
                <a:ext cx="34200" cy="44280"/>
              </a:xfrm>
              <a:custGeom>
                <a:avLst/>
                <a:gdLst>
                  <a:gd name="textAreaLeft" fmla="*/ 0 w 34200"/>
                  <a:gd name="textAreaRight" fmla="*/ 34560 w 34200"/>
                  <a:gd name="textAreaTop" fmla="*/ 0 h 44280"/>
                  <a:gd name="textAreaBottom" fmla="*/ 44640 h 44280"/>
                </a:gdLst>
                <a:ahLst/>
                <a:rect l="textAreaLeft" t="textAreaTop" r="textAreaRight" b="textAreaBottom"/>
                <a:pathLst>
                  <a:path w="227" h="320">
                    <a:moveTo>
                      <a:pt x="0" y="320"/>
                    </a:moveTo>
                    <a:lnTo>
                      <a:pt x="0" y="0"/>
                    </a:lnTo>
                    <a:lnTo>
                      <a:pt x="220" y="0"/>
                    </a:lnTo>
                    <a:lnTo>
                      <a:pt x="220" y="37"/>
                    </a:lnTo>
                    <a:lnTo>
                      <a:pt x="40" y="37"/>
                    </a:lnTo>
                    <a:lnTo>
                      <a:pt x="40" y="136"/>
                    </a:lnTo>
                    <a:lnTo>
                      <a:pt x="209" y="136"/>
                    </a:lnTo>
                    <a:lnTo>
                      <a:pt x="209" y="173"/>
                    </a:lnTo>
                    <a:lnTo>
                      <a:pt x="40" y="173"/>
                    </a:lnTo>
                    <a:lnTo>
                      <a:pt x="40" y="282"/>
                    </a:lnTo>
                    <a:lnTo>
                      <a:pt x="227" y="282"/>
                    </a:lnTo>
                    <a:lnTo>
                      <a:pt x="227" y="320"/>
                    </a:lnTo>
                    <a:lnTo>
                      <a:pt x="0" y="32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678" name="Freeform 45"/>
              <p:cNvSpPr/>
              <p:nvPr/>
            </p:nvSpPr>
            <p:spPr>
              <a:xfrm>
                <a:off x="1472760" y="1479240"/>
                <a:ext cx="40320" cy="44280"/>
              </a:xfrm>
              <a:custGeom>
                <a:avLst/>
                <a:gdLst>
                  <a:gd name="textAreaLeft" fmla="*/ 0 w 40320"/>
                  <a:gd name="textAreaRight" fmla="*/ 40680 w 40320"/>
                  <a:gd name="textAreaTop" fmla="*/ 0 h 44280"/>
                  <a:gd name="textAreaBottom" fmla="*/ 44640 h 44280"/>
                </a:gdLst>
                <a:ahLst/>
                <a:rect l="textAreaLeft" t="textAreaTop" r="textAreaRight" b="textAreaBottom"/>
                <a:pathLst>
                  <a:path w="268" h="320">
                    <a:moveTo>
                      <a:pt x="0" y="320"/>
                    </a:moveTo>
                    <a:lnTo>
                      <a:pt x="0" y="0"/>
                    </a:lnTo>
                    <a:lnTo>
                      <a:pt x="135" y="0"/>
                    </a:lnTo>
                    <a:lnTo>
                      <a:pt x="154" y="0"/>
                    </a:lnTo>
                    <a:lnTo>
                      <a:pt x="171" y="2"/>
                    </a:lnTo>
                    <a:lnTo>
                      <a:pt x="186" y="4"/>
                    </a:lnTo>
                    <a:lnTo>
                      <a:pt x="197" y="9"/>
                    </a:lnTo>
                    <a:lnTo>
                      <a:pt x="207" y="14"/>
                    </a:lnTo>
                    <a:lnTo>
                      <a:pt x="216" y="20"/>
                    </a:lnTo>
                    <a:lnTo>
                      <a:pt x="224" y="29"/>
                    </a:lnTo>
                    <a:lnTo>
                      <a:pt x="231" y="39"/>
                    </a:lnTo>
                    <a:lnTo>
                      <a:pt x="237" y="50"/>
                    </a:lnTo>
                    <a:lnTo>
                      <a:pt x="241" y="62"/>
                    </a:lnTo>
                    <a:lnTo>
                      <a:pt x="243" y="74"/>
                    </a:lnTo>
                    <a:lnTo>
                      <a:pt x="244" y="87"/>
                    </a:lnTo>
                    <a:lnTo>
                      <a:pt x="243" y="95"/>
                    </a:lnTo>
                    <a:lnTo>
                      <a:pt x="242" y="104"/>
                    </a:lnTo>
                    <a:lnTo>
                      <a:pt x="241" y="111"/>
                    </a:lnTo>
                    <a:lnTo>
                      <a:pt x="239" y="119"/>
                    </a:lnTo>
                    <a:lnTo>
                      <a:pt x="235" y="125"/>
                    </a:lnTo>
                    <a:lnTo>
                      <a:pt x="232" y="133"/>
                    </a:lnTo>
                    <a:lnTo>
                      <a:pt x="228" y="139"/>
                    </a:lnTo>
                    <a:lnTo>
                      <a:pt x="223" y="144"/>
                    </a:lnTo>
                    <a:lnTo>
                      <a:pt x="217" y="151"/>
                    </a:lnTo>
                    <a:lnTo>
                      <a:pt x="211" y="155"/>
                    </a:lnTo>
                    <a:lnTo>
                      <a:pt x="204" y="160"/>
                    </a:lnTo>
                    <a:lnTo>
                      <a:pt x="196" y="163"/>
                    </a:lnTo>
                    <a:lnTo>
                      <a:pt x="188" y="167"/>
                    </a:lnTo>
                    <a:lnTo>
                      <a:pt x="178" y="170"/>
                    </a:lnTo>
                    <a:lnTo>
                      <a:pt x="169" y="173"/>
                    </a:lnTo>
                    <a:lnTo>
                      <a:pt x="158" y="174"/>
                    </a:lnTo>
                    <a:lnTo>
                      <a:pt x="172" y="182"/>
                    </a:lnTo>
                    <a:lnTo>
                      <a:pt x="183" y="190"/>
                    </a:lnTo>
                    <a:lnTo>
                      <a:pt x="191" y="199"/>
                    </a:lnTo>
                    <a:lnTo>
                      <a:pt x="199" y="209"/>
                    </a:lnTo>
                    <a:lnTo>
                      <a:pt x="208" y="220"/>
                    </a:lnTo>
                    <a:lnTo>
                      <a:pt x="215" y="232"/>
                    </a:lnTo>
                    <a:lnTo>
                      <a:pt x="268" y="320"/>
                    </a:lnTo>
                    <a:lnTo>
                      <a:pt x="217" y="320"/>
                    </a:lnTo>
                    <a:lnTo>
                      <a:pt x="177" y="253"/>
                    </a:lnTo>
                    <a:lnTo>
                      <a:pt x="169" y="240"/>
                    </a:lnTo>
                    <a:lnTo>
                      <a:pt x="161" y="228"/>
                    </a:lnTo>
                    <a:lnTo>
                      <a:pt x="155" y="217"/>
                    </a:lnTo>
                    <a:lnTo>
                      <a:pt x="149" y="209"/>
                    </a:lnTo>
                    <a:lnTo>
                      <a:pt x="143" y="202"/>
                    </a:lnTo>
                    <a:lnTo>
                      <a:pt x="138" y="196"/>
                    </a:lnTo>
                    <a:lnTo>
                      <a:pt x="133" y="191"/>
                    </a:lnTo>
                    <a:lnTo>
                      <a:pt x="129" y="188"/>
                    </a:lnTo>
                    <a:lnTo>
                      <a:pt x="119" y="182"/>
                    </a:lnTo>
                    <a:lnTo>
                      <a:pt x="109" y="179"/>
                    </a:lnTo>
                    <a:lnTo>
                      <a:pt x="101" y="178"/>
                    </a:lnTo>
                    <a:lnTo>
                      <a:pt x="87" y="178"/>
                    </a:lnTo>
                    <a:lnTo>
                      <a:pt x="41" y="178"/>
                    </a:lnTo>
                    <a:lnTo>
                      <a:pt x="41" y="320"/>
                    </a:lnTo>
                    <a:lnTo>
                      <a:pt x="0" y="320"/>
                    </a:lnTo>
                    <a:close/>
                    <a:moveTo>
                      <a:pt x="41" y="141"/>
                    </a:moveTo>
                    <a:lnTo>
                      <a:pt x="127" y="141"/>
                    </a:lnTo>
                    <a:lnTo>
                      <a:pt x="140" y="141"/>
                    </a:lnTo>
                    <a:lnTo>
                      <a:pt x="152" y="140"/>
                    </a:lnTo>
                    <a:lnTo>
                      <a:pt x="161" y="138"/>
                    </a:lnTo>
                    <a:lnTo>
                      <a:pt x="170" y="135"/>
                    </a:lnTo>
                    <a:lnTo>
                      <a:pt x="177" y="131"/>
                    </a:lnTo>
                    <a:lnTo>
                      <a:pt x="184" y="127"/>
                    </a:lnTo>
                    <a:lnTo>
                      <a:pt x="190" y="122"/>
                    </a:lnTo>
                    <a:lnTo>
                      <a:pt x="194" y="116"/>
                    </a:lnTo>
                    <a:lnTo>
                      <a:pt x="197" y="109"/>
                    </a:lnTo>
                    <a:lnTo>
                      <a:pt x="201" y="102"/>
                    </a:lnTo>
                    <a:lnTo>
                      <a:pt x="202" y="94"/>
                    </a:lnTo>
                    <a:lnTo>
                      <a:pt x="202" y="87"/>
                    </a:lnTo>
                    <a:lnTo>
                      <a:pt x="202" y="76"/>
                    </a:lnTo>
                    <a:lnTo>
                      <a:pt x="198" y="67"/>
                    </a:lnTo>
                    <a:lnTo>
                      <a:pt x="196" y="62"/>
                    </a:lnTo>
                    <a:lnTo>
                      <a:pt x="193" y="57"/>
                    </a:lnTo>
                    <a:lnTo>
                      <a:pt x="190" y="54"/>
                    </a:lnTo>
                    <a:lnTo>
                      <a:pt x="187" y="50"/>
                    </a:lnTo>
                    <a:lnTo>
                      <a:pt x="183" y="47"/>
                    </a:lnTo>
                    <a:lnTo>
                      <a:pt x="177" y="43"/>
                    </a:lnTo>
                    <a:lnTo>
                      <a:pt x="172" y="41"/>
                    </a:lnTo>
                    <a:lnTo>
                      <a:pt x="167" y="39"/>
                    </a:lnTo>
                    <a:lnTo>
                      <a:pt x="153" y="36"/>
                    </a:lnTo>
                    <a:lnTo>
                      <a:pt x="137" y="35"/>
                    </a:lnTo>
                    <a:lnTo>
                      <a:pt x="41" y="35"/>
                    </a:lnTo>
                    <a:lnTo>
                      <a:pt x="41" y="141"/>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679" name="Freeform 46"/>
              <p:cNvSpPr/>
              <p:nvPr/>
            </p:nvSpPr>
            <p:spPr>
              <a:xfrm>
                <a:off x="1522800" y="1479240"/>
                <a:ext cx="34200" cy="44280"/>
              </a:xfrm>
              <a:custGeom>
                <a:avLst/>
                <a:gdLst>
                  <a:gd name="textAreaLeft" fmla="*/ 0 w 34200"/>
                  <a:gd name="textAreaRight" fmla="*/ 34560 w 34200"/>
                  <a:gd name="textAreaTop" fmla="*/ 0 h 44280"/>
                  <a:gd name="textAreaBottom" fmla="*/ 44640 h 44280"/>
                </a:gdLst>
                <a:ahLst/>
                <a:rect l="textAreaLeft" t="textAreaTop" r="textAreaRight" b="textAreaBottom"/>
                <a:pathLst>
                  <a:path w="232" h="320">
                    <a:moveTo>
                      <a:pt x="0" y="320"/>
                    </a:moveTo>
                    <a:lnTo>
                      <a:pt x="0" y="0"/>
                    </a:lnTo>
                    <a:lnTo>
                      <a:pt x="114" y="0"/>
                    </a:lnTo>
                    <a:lnTo>
                      <a:pt x="129" y="0"/>
                    </a:lnTo>
                    <a:lnTo>
                      <a:pt x="141" y="1"/>
                    </a:lnTo>
                    <a:lnTo>
                      <a:pt x="151" y="1"/>
                    </a:lnTo>
                    <a:lnTo>
                      <a:pt x="161" y="3"/>
                    </a:lnTo>
                    <a:lnTo>
                      <a:pt x="172" y="5"/>
                    </a:lnTo>
                    <a:lnTo>
                      <a:pt x="181" y="9"/>
                    </a:lnTo>
                    <a:lnTo>
                      <a:pt x="191" y="13"/>
                    </a:lnTo>
                    <a:lnTo>
                      <a:pt x="198" y="18"/>
                    </a:lnTo>
                    <a:lnTo>
                      <a:pt x="205" y="24"/>
                    </a:lnTo>
                    <a:lnTo>
                      <a:pt x="212" y="31"/>
                    </a:lnTo>
                    <a:lnTo>
                      <a:pt x="218" y="39"/>
                    </a:lnTo>
                    <a:lnTo>
                      <a:pt x="223" y="49"/>
                    </a:lnTo>
                    <a:lnTo>
                      <a:pt x="227" y="58"/>
                    </a:lnTo>
                    <a:lnTo>
                      <a:pt x="230" y="70"/>
                    </a:lnTo>
                    <a:lnTo>
                      <a:pt x="232" y="81"/>
                    </a:lnTo>
                    <a:lnTo>
                      <a:pt x="232" y="92"/>
                    </a:lnTo>
                    <a:lnTo>
                      <a:pt x="232" y="103"/>
                    </a:lnTo>
                    <a:lnTo>
                      <a:pt x="231" y="112"/>
                    </a:lnTo>
                    <a:lnTo>
                      <a:pt x="229" y="121"/>
                    </a:lnTo>
                    <a:lnTo>
                      <a:pt x="226" y="130"/>
                    </a:lnTo>
                    <a:lnTo>
                      <a:pt x="222" y="139"/>
                    </a:lnTo>
                    <a:lnTo>
                      <a:pt x="218" y="146"/>
                    </a:lnTo>
                    <a:lnTo>
                      <a:pt x="213" y="154"/>
                    </a:lnTo>
                    <a:lnTo>
                      <a:pt x="208" y="161"/>
                    </a:lnTo>
                    <a:lnTo>
                      <a:pt x="200" y="169"/>
                    </a:lnTo>
                    <a:lnTo>
                      <a:pt x="193" y="174"/>
                    </a:lnTo>
                    <a:lnTo>
                      <a:pt x="183" y="179"/>
                    </a:lnTo>
                    <a:lnTo>
                      <a:pt x="173" y="182"/>
                    </a:lnTo>
                    <a:lnTo>
                      <a:pt x="161" y="185"/>
                    </a:lnTo>
                    <a:lnTo>
                      <a:pt x="148" y="188"/>
                    </a:lnTo>
                    <a:lnTo>
                      <a:pt x="133" y="190"/>
                    </a:lnTo>
                    <a:lnTo>
                      <a:pt x="119" y="190"/>
                    </a:lnTo>
                    <a:lnTo>
                      <a:pt x="40" y="190"/>
                    </a:lnTo>
                    <a:lnTo>
                      <a:pt x="40" y="320"/>
                    </a:lnTo>
                    <a:lnTo>
                      <a:pt x="0" y="320"/>
                    </a:lnTo>
                    <a:close/>
                    <a:moveTo>
                      <a:pt x="40" y="152"/>
                    </a:moveTo>
                    <a:lnTo>
                      <a:pt x="119" y="152"/>
                    </a:lnTo>
                    <a:lnTo>
                      <a:pt x="128" y="152"/>
                    </a:lnTo>
                    <a:lnTo>
                      <a:pt x="137" y="151"/>
                    </a:lnTo>
                    <a:lnTo>
                      <a:pt x="145" y="149"/>
                    </a:lnTo>
                    <a:lnTo>
                      <a:pt x="152" y="148"/>
                    </a:lnTo>
                    <a:lnTo>
                      <a:pt x="159" y="146"/>
                    </a:lnTo>
                    <a:lnTo>
                      <a:pt x="164" y="143"/>
                    </a:lnTo>
                    <a:lnTo>
                      <a:pt x="169" y="140"/>
                    </a:lnTo>
                    <a:lnTo>
                      <a:pt x="175" y="137"/>
                    </a:lnTo>
                    <a:lnTo>
                      <a:pt x="178" y="133"/>
                    </a:lnTo>
                    <a:lnTo>
                      <a:pt x="181" y="128"/>
                    </a:lnTo>
                    <a:lnTo>
                      <a:pt x="184" y="123"/>
                    </a:lnTo>
                    <a:lnTo>
                      <a:pt x="186" y="119"/>
                    </a:lnTo>
                    <a:lnTo>
                      <a:pt x="188" y="112"/>
                    </a:lnTo>
                    <a:lnTo>
                      <a:pt x="190" y="107"/>
                    </a:lnTo>
                    <a:lnTo>
                      <a:pt x="191" y="101"/>
                    </a:lnTo>
                    <a:lnTo>
                      <a:pt x="191" y="93"/>
                    </a:lnTo>
                    <a:lnTo>
                      <a:pt x="190" y="84"/>
                    </a:lnTo>
                    <a:lnTo>
                      <a:pt x="188" y="75"/>
                    </a:lnTo>
                    <a:lnTo>
                      <a:pt x="185" y="67"/>
                    </a:lnTo>
                    <a:lnTo>
                      <a:pt x="181" y="59"/>
                    </a:lnTo>
                    <a:lnTo>
                      <a:pt x="176" y="53"/>
                    </a:lnTo>
                    <a:lnTo>
                      <a:pt x="169" y="48"/>
                    </a:lnTo>
                    <a:lnTo>
                      <a:pt x="163" y="43"/>
                    </a:lnTo>
                    <a:lnTo>
                      <a:pt x="156" y="40"/>
                    </a:lnTo>
                    <a:lnTo>
                      <a:pt x="149" y="39"/>
                    </a:lnTo>
                    <a:lnTo>
                      <a:pt x="141" y="38"/>
                    </a:lnTo>
                    <a:lnTo>
                      <a:pt x="130" y="38"/>
                    </a:lnTo>
                    <a:lnTo>
                      <a:pt x="118" y="37"/>
                    </a:lnTo>
                    <a:lnTo>
                      <a:pt x="40" y="37"/>
                    </a:lnTo>
                    <a:lnTo>
                      <a:pt x="40" y="152"/>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680" name="Freeform 47"/>
              <p:cNvSpPr/>
              <p:nvPr/>
            </p:nvSpPr>
            <p:spPr>
              <a:xfrm>
                <a:off x="1568880" y="1479240"/>
                <a:ext cx="40320" cy="44280"/>
              </a:xfrm>
              <a:custGeom>
                <a:avLst/>
                <a:gdLst>
                  <a:gd name="textAreaLeft" fmla="*/ 0 w 40320"/>
                  <a:gd name="textAreaRight" fmla="*/ 40680 w 40320"/>
                  <a:gd name="textAreaTop" fmla="*/ 0 h 44280"/>
                  <a:gd name="textAreaBottom" fmla="*/ 44640 h 44280"/>
                </a:gdLst>
                <a:ahLst/>
                <a:rect l="textAreaLeft" t="textAreaTop" r="textAreaRight" b="textAreaBottom"/>
                <a:pathLst>
                  <a:path w="268" h="320">
                    <a:moveTo>
                      <a:pt x="0" y="320"/>
                    </a:moveTo>
                    <a:lnTo>
                      <a:pt x="0" y="0"/>
                    </a:lnTo>
                    <a:lnTo>
                      <a:pt x="135" y="0"/>
                    </a:lnTo>
                    <a:lnTo>
                      <a:pt x="154" y="0"/>
                    </a:lnTo>
                    <a:lnTo>
                      <a:pt x="171" y="2"/>
                    </a:lnTo>
                    <a:lnTo>
                      <a:pt x="185" y="4"/>
                    </a:lnTo>
                    <a:lnTo>
                      <a:pt x="197" y="9"/>
                    </a:lnTo>
                    <a:lnTo>
                      <a:pt x="207" y="14"/>
                    </a:lnTo>
                    <a:lnTo>
                      <a:pt x="216" y="20"/>
                    </a:lnTo>
                    <a:lnTo>
                      <a:pt x="224" y="29"/>
                    </a:lnTo>
                    <a:lnTo>
                      <a:pt x="231" y="39"/>
                    </a:lnTo>
                    <a:lnTo>
                      <a:pt x="236" y="50"/>
                    </a:lnTo>
                    <a:lnTo>
                      <a:pt x="241" y="62"/>
                    </a:lnTo>
                    <a:lnTo>
                      <a:pt x="243" y="74"/>
                    </a:lnTo>
                    <a:lnTo>
                      <a:pt x="244" y="87"/>
                    </a:lnTo>
                    <a:lnTo>
                      <a:pt x="243" y="95"/>
                    </a:lnTo>
                    <a:lnTo>
                      <a:pt x="242" y="104"/>
                    </a:lnTo>
                    <a:lnTo>
                      <a:pt x="241" y="111"/>
                    </a:lnTo>
                    <a:lnTo>
                      <a:pt x="239" y="119"/>
                    </a:lnTo>
                    <a:lnTo>
                      <a:pt x="235" y="125"/>
                    </a:lnTo>
                    <a:lnTo>
                      <a:pt x="231" y="133"/>
                    </a:lnTo>
                    <a:lnTo>
                      <a:pt x="227" y="139"/>
                    </a:lnTo>
                    <a:lnTo>
                      <a:pt x="223" y="144"/>
                    </a:lnTo>
                    <a:lnTo>
                      <a:pt x="216" y="151"/>
                    </a:lnTo>
                    <a:lnTo>
                      <a:pt x="210" y="155"/>
                    </a:lnTo>
                    <a:lnTo>
                      <a:pt x="204" y="160"/>
                    </a:lnTo>
                    <a:lnTo>
                      <a:pt x="195" y="163"/>
                    </a:lnTo>
                    <a:lnTo>
                      <a:pt x="187" y="167"/>
                    </a:lnTo>
                    <a:lnTo>
                      <a:pt x="178" y="170"/>
                    </a:lnTo>
                    <a:lnTo>
                      <a:pt x="168" y="173"/>
                    </a:lnTo>
                    <a:lnTo>
                      <a:pt x="157" y="174"/>
                    </a:lnTo>
                    <a:lnTo>
                      <a:pt x="172" y="182"/>
                    </a:lnTo>
                    <a:lnTo>
                      <a:pt x="181" y="190"/>
                    </a:lnTo>
                    <a:lnTo>
                      <a:pt x="191" y="199"/>
                    </a:lnTo>
                    <a:lnTo>
                      <a:pt x="199" y="209"/>
                    </a:lnTo>
                    <a:lnTo>
                      <a:pt x="207" y="220"/>
                    </a:lnTo>
                    <a:lnTo>
                      <a:pt x="215" y="232"/>
                    </a:lnTo>
                    <a:lnTo>
                      <a:pt x="268" y="320"/>
                    </a:lnTo>
                    <a:lnTo>
                      <a:pt x="217" y="320"/>
                    </a:lnTo>
                    <a:lnTo>
                      <a:pt x="177" y="253"/>
                    </a:lnTo>
                    <a:lnTo>
                      <a:pt x="169" y="240"/>
                    </a:lnTo>
                    <a:lnTo>
                      <a:pt x="161" y="228"/>
                    </a:lnTo>
                    <a:lnTo>
                      <a:pt x="154" y="217"/>
                    </a:lnTo>
                    <a:lnTo>
                      <a:pt x="149" y="209"/>
                    </a:lnTo>
                    <a:lnTo>
                      <a:pt x="142" y="202"/>
                    </a:lnTo>
                    <a:lnTo>
                      <a:pt x="137" y="196"/>
                    </a:lnTo>
                    <a:lnTo>
                      <a:pt x="133" y="191"/>
                    </a:lnTo>
                    <a:lnTo>
                      <a:pt x="127" y="188"/>
                    </a:lnTo>
                    <a:lnTo>
                      <a:pt x="119" y="182"/>
                    </a:lnTo>
                    <a:lnTo>
                      <a:pt x="109" y="179"/>
                    </a:lnTo>
                    <a:lnTo>
                      <a:pt x="100" y="178"/>
                    </a:lnTo>
                    <a:lnTo>
                      <a:pt x="87" y="178"/>
                    </a:lnTo>
                    <a:lnTo>
                      <a:pt x="41" y="178"/>
                    </a:lnTo>
                    <a:lnTo>
                      <a:pt x="41" y="320"/>
                    </a:lnTo>
                    <a:lnTo>
                      <a:pt x="0" y="320"/>
                    </a:lnTo>
                    <a:close/>
                    <a:moveTo>
                      <a:pt x="41" y="141"/>
                    </a:moveTo>
                    <a:lnTo>
                      <a:pt x="126" y="141"/>
                    </a:lnTo>
                    <a:lnTo>
                      <a:pt x="140" y="141"/>
                    </a:lnTo>
                    <a:lnTo>
                      <a:pt x="152" y="140"/>
                    </a:lnTo>
                    <a:lnTo>
                      <a:pt x="161" y="138"/>
                    </a:lnTo>
                    <a:lnTo>
                      <a:pt x="170" y="135"/>
                    </a:lnTo>
                    <a:lnTo>
                      <a:pt x="177" y="131"/>
                    </a:lnTo>
                    <a:lnTo>
                      <a:pt x="184" y="127"/>
                    </a:lnTo>
                    <a:lnTo>
                      <a:pt x="189" y="122"/>
                    </a:lnTo>
                    <a:lnTo>
                      <a:pt x="194" y="116"/>
                    </a:lnTo>
                    <a:lnTo>
                      <a:pt x="197" y="109"/>
                    </a:lnTo>
                    <a:lnTo>
                      <a:pt x="199" y="102"/>
                    </a:lnTo>
                    <a:lnTo>
                      <a:pt x="202" y="94"/>
                    </a:lnTo>
                    <a:lnTo>
                      <a:pt x="202" y="87"/>
                    </a:lnTo>
                    <a:lnTo>
                      <a:pt x="200" y="76"/>
                    </a:lnTo>
                    <a:lnTo>
                      <a:pt x="198" y="67"/>
                    </a:lnTo>
                    <a:lnTo>
                      <a:pt x="195" y="62"/>
                    </a:lnTo>
                    <a:lnTo>
                      <a:pt x="193" y="57"/>
                    </a:lnTo>
                    <a:lnTo>
                      <a:pt x="190" y="54"/>
                    </a:lnTo>
                    <a:lnTo>
                      <a:pt x="186" y="50"/>
                    </a:lnTo>
                    <a:lnTo>
                      <a:pt x="181" y="47"/>
                    </a:lnTo>
                    <a:lnTo>
                      <a:pt x="177" y="43"/>
                    </a:lnTo>
                    <a:lnTo>
                      <a:pt x="172" y="41"/>
                    </a:lnTo>
                    <a:lnTo>
                      <a:pt x="166" y="39"/>
                    </a:lnTo>
                    <a:lnTo>
                      <a:pt x="153" y="36"/>
                    </a:lnTo>
                    <a:lnTo>
                      <a:pt x="137" y="35"/>
                    </a:lnTo>
                    <a:lnTo>
                      <a:pt x="41" y="35"/>
                    </a:lnTo>
                    <a:lnTo>
                      <a:pt x="41" y="141"/>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681" name="Rectangle 48"/>
              <p:cNvSpPr/>
              <p:nvPr/>
            </p:nvSpPr>
            <p:spPr>
              <a:xfrm>
                <a:off x="1620000" y="1479240"/>
                <a:ext cx="5040" cy="44280"/>
              </a:xfrm>
              <a:prstGeom prst="rect">
                <a:avLst/>
              </a:pr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682" name="Freeform 49"/>
              <p:cNvSpPr/>
              <p:nvPr/>
            </p:nvSpPr>
            <p:spPr>
              <a:xfrm>
                <a:off x="1637640" y="1478160"/>
                <a:ext cx="36000" cy="45360"/>
              </a:xfrm>
              <a:custGeom>
                <a:avLst/>
                <a:gdLst>
                  <a:gd name="textAreaLeft" fmla="*/ 0 w 36000"/>
                  <a:gd name="textAreaRight" fmla="*/ 36360 w 36000"/>
                  <a:gd name="textAreaTop" fmla="*/ 0 h 45360"/>
                  <a:gd name="textAreaBottom" fmla="*/ 45720 h 45360"/>
                </a:gdLst>
                <a:ahLst/>
                <a:rect l="textAreaLeft" t="textAreaTop" r="textAreaRight" b="textAreaBottom"/>
                <a:pathLst>
                  <a:path w="243" h="330">
                    <a:moveTo>
                      <a:pt x="0" y="222"/>
                    </a:moveTo>
                    <a:lnTo>
                      <a:pt x="38" y="218"/>
                    </a:lnTo>
                    <a:lnTo>
                      <a:pt x="40" y="230"/>
                    </a:lnTo>
                    <a:lnTo>
                      <a:pt x="44" y="240"/>
                    </a:lnTo>
                    <a:lnTo>
                      <a:pt x="47" y="250"/>
                    </a:lnTo>
                    <a:lnTo>
                      <a:pt x="51" y="257"/>
                    </a:lnTo>
                    <a:lnTo>
                      <a:pt x="56" y="265"/>
                    </a:lnTo>
                    <a:lnTo>
                      <a:pt x="64" y="272"/>
                    </a:lnTo>
                    <a:lnTo>
                      <a:pt x="72" y="277"/>
                    </a:lnTo>
                    <a:lnTo>
                      <a:pt x="82" y="283"/>
                    </a:lnTo>
                    <a:lnTo>
                      <a:pt x="92" y="287"/>
                    </a:lnTo>
                    <a:lnTo>
                      <a:pt x="104" y="290"/>
                    </a:lnTo>
                    <a:lnTo>
                      <a:pt x="116" y="291"/>
                    </a:lnTo>
                    <a:lnTo>
                      <a:pt x="128" y="292"/>
                    </a:lnTo>
                    <a:lnTo>
                      <a:pt x="140" y="291"/>
                    </a:lnTo>
                    <a:lnTo>
                      <a:pt x="150" y="290"/>
                    </a:lnTo>
                    <a:lnTo>
                      <a:pt x="160" y="288"/>
                    </a:lnTo>
                    <a:lnTo>
                      <a:pt x="170" y="285"/>
                    </a:lnTo>
                    <a:lnTo>
                      <a:pt x="177" y="281"/>
                    </a:lnTo>
                    <a:lnTo>
                      <a:pt x="184" y="276"/>
                    </a:lnTo>
                    <a:lnTo>
                      <a:pt x="191" y="271"/>
                    </a:lnTo>
                    <a:lnTo>
                      <a:pt x="196" y="266"/>
                    </a:lnTo>
                    <a:lnTo>
                      <a:pt x="199" y="258"/>
                    </a:lnTo>
                    <a:lnTo>
                      <a:pt x="202" y="252"/>
                    </a:lnTo>
                    <a:lnTo>
                      <a:pt x="203" y="246"/>
                    </a:lnTo>
                    <a:lnTo>
                      <a:pt x="205" y="238"/>
                    </a:lnTo>
                    <a:lnTo>
                      <a:pt x="203" y="231"/>
                    </a:lnTo>
                    <a:lnTo>
                      <a:pt x="202" y="223"/>
                    </a:lnTo>
                    <a:lnTo>
                      <a:pt x="199" y="217"/>
                    </a:lnTo>
                    <a:lnTo>
                      <a:pt x="196" y="212"/>
                    </a:lnTo>
                    <a:lnTo>
                      <a:pt x="191" y="206"/>
                    </a:lnTo>
                    <a:lnTo>
                      <a:pt x="184" y="201"/>
                    </a:lnTo>
                    <a:lnTo>
                      <a:pt x="177" y="197"/>
                    </a:lnTo>
                    <a:lnTo>
                      <a:pt x="168" y="193"/>
                    </a:lnTo>
                    <a:lnTo>
                      <a:pt x="160" y="189"/>
                    </a:lnTo>
                    <a:lnTo>
                      <a:pt x="148" y="186"/>
                    </a:lnTo>
                    <a:lnTo>
                      <a:pt x="134" y="182"/>
                    </a:lnTo>
                    <a:lnTo>
                      <a:pt x="114" y="177"/>
                    </a:lnTo>
                    <a:lnTo>
                      <a:pt x="94" y="171"/>
                    </a:lnTo>
                    <a:lnTo>
                      <a:pt x="78" y="167"/>
                    </a:lnTo>
                    <a:lnTo>
                      <a:pt x="66" y="162"/>
                    </a:lnTo>
                    <a:lnTo>
                      <a:pt x="55" y="157"/>
                    </a:lnTo>
                    <a:lnTo>
                      <a:pt x="46" y="151"/>
                    </a:lnTo>
                    <a:lnTo>
                      <a:pt x="36" y="144"/>
                    </a:lnTo>
                    <a:lnTo>
                      <a:pt x="29" y="135"/>
                    </a:lnTo>
                    <a:lnTo>
                      <a:pt x="22" y="127"/>
                    </a:lnTo>
                    <a:lnTo>
                      <a:pt x="18" y="118"/>
                    </a:lnTo>
                    <a:lnTo>
                      <a:pt x="15" y="109"/>
                    </a:lnTo>
                    <a:lnTo>
                      <a:pt x="13" y="98"/>
                    </a:lnTo>
                    <a:lnTo>
                      <a:pt x="12" y="88"/>
                    </a:lnTo>
                    <a:lnTo>
                      <a:pt x="13" y="76"/>
                    </a:lnTo>
                    <a:lnTo>
                      <a:pt x="15" y="64"/>
                    </a:lnTo>
                    <a:lnTo>
                      <a:pt x="19" y="53"/>
                    </a:lnTo>
                    <a:lnTo>
                      <a:pt x="26" y="42"/>
                    </a:lnTo>
                    <a:lnTo>
                      <a:pt x="33" y="33"/>
                    </a:lnTo>
                    <a:lnTo>
                      <a:pt x="41" y="24"/>
                    </a:lnTo>
                    <a:lnTo>
                      <a:pt x="52" y="17"/>
                    </a:lnTo>
                    <a:lnTo>
                      <a:pt x="64" y="10"/>
                    </a:lnTo>
                    <a:lnTo>
                      <a:pt x="76" y="5"/>
                    </a:lnTo>
                    <a:lnTo>
                      <a:pt x="90" y="2"/>
                    </a:lnTo>
                    <a:lnTo>
                      <a:pt x="104" y="0"/>
                    </a:lnTo>
                    <a:lnTo>
                      <a:pt x="120" y="0"/>
                    </a:lnTo>
                    <a:lnTo>
                      <a:pt x="136" y="0"/>
                    </a:lnTo>
                    <a:lnTo>
                      <a:pt x="152" y="2"/>
                    </a:lnTo>
                    <a:lnTo>
                      <a:pt x="165" y="6"/>
                    </a:lnTo>
                    <a:lnTo>
                      <a:pt x="179" y="10"/>
                    </a:lnTo>
                    <a:lnTo>
                      <a:pt x="192" y="18"/>
                    </a:lnTo>
                    <a:lnTo>
                      <a:pt x="202" y="25"/>
                    </a:lnTo>
                    <a:lnTo>
                      <a:pt x="211" y="34"/>
                    </a:lnTo>
                    <a:lnTo>
                      <a:pt x="219" y="44"/>
                    </a:lnTo>
                    <a:lnTo>
                      <a:pt x="225" y="56"/>
                    </a:lnTo>
                    <a:lnTo>
                      <a:pt x="230" y="69"/>
                    </a:lnTo>
                    <a:lnTo>
                      <a:pt x="232" y="81"/>
                    </a:lnTo>
                    <a:lnTo>
                      <a:pt x="234" y="95"/>
                    </a:lnTo>
                    <a:lnTo>
                      <a:pt x="195" y="98"/>
                    </a:lnTo>
                    <a:lnTo>
                      <a:pt x="194" y="91"/>
                    </a:lnTo>
                    <a:lnTo>
                      <a:pt x="193" y="83"/>
                    </a:lnTo>
                    <a:lnTo>
                      <a:pt x="191" y="77"/>
                    </a:lnTo>
                    <a:lnTo>
                      <a:pt x="189" y="72"/>
                    </a:lnTo>
                    <a:lnTo>
                      <a:pt x="185" y="65"/>
                    </a:lnTo>
                    <a:lnTo>
                      <a:pt x="182" y="61"/>
                    </a:lnTo>
                    <a:lnTo>
                      <a:pt x="178" y="56"/>
                    </a:lnTo>
                    <a:lnTo>
                      <a:pt x="174" y="52"/>
                    </a:lnTo>
                    <a:lnTo>
                      <a:pt x="170" y="48"/>
                    </a:lnTo>
                    <a:lnTo>
                      <a:pt x="164" y="45"/>
                    </a:lnTo>
                    <a:lnTo>
                      <a:pt x="158" y="43"/>
                    </a:lnTo>
                    <a:lnTo>
                      <a:pt x="152" y="41"/>
                    </a:lnTo>
                    <a:lnTo>
                      <a:pt x="145" y="39"/>
                    </a:lnTo>
                    <a:lnTo>
                      <a:pt x="138" y="38"/>
                    </a:lnTo>
                    <a:lnTo>
                      <a:pt x="129" y="37"/>
                    </a:lnTo>
                    <a:lnTo>
                      <a:pt x="121" y="37"/>
                    </a:lnTo>
                    <a:lnTo>
                      <a:pt x="104" y="38"/>
                    </a:lnTo>
                    <a:lnTo>
                      <a:pt x="89" y="40"/>
                    </a:lnTo>
                    <a:lnTo>
                      <a:pt x="83" y="42"/>
                    </a:lnTo>
                    <a:lnTo>
                      <a:pt x="77" y="44"/>
                    </a:lnTo>
                    <a:lnTo>
                      <a:pt x="72" y="47"/>
                    </a:lnTo>
                    <a:lnTo>
                      <a:pt x="68" y="51"/>
                    </a:lnTo>
                    <a:lnTo>
                      <a:pt x="60" y="58"/>
                    </a:lnTo>
                    <a:lnTo>
                      <a:pt x="55" y="67"/>
                    </a:lnTo>
                    <a:lnTo>
                      <a:pt x="53" y="71"/>
                    </a:lnTo>
                    <a:lnTo>
                      <a:pt x="52" y="75"/>
                    </a:lnTo>
                    <a:lnTo>
                      <a:pt x="51" y="80"/>
                    </a:lnTo>
                    <a:lnTo>
                      <a:pt x="51" y="85"/>
                    </a:lnTo>
                    <a:lnTo>
                      <a:pt x="52" y="93"/>
                    </a:lnTo>
                    <a:lnTo>
                      <a:pt x="54" y="100"/>
                    </a:lnTo>
                    <a:lnTo>
                      <a:pt x="57" y="107"/>
                    </a:lnTo>
                    <a:lnTo>
                      <a:pt x="63" y="113"/>
                    </a:lnTo>
                    <a:lnTo>
                      <a:pt x="67" y="116"/>
                    </a:lnTo>
                    <a:lnTo>
                      <a:pt x="71" y="118"/>
                    </a:lnTo>
                    <a:lnTo>
                      <a:pt x="76" y="122"/>
                    </a:lnTo>
                    <a:lnTo>
                      <a:pt x="84" y="125"/>
                    </a:lnTo>
                    <a:lnTo>
                      <a:pt x="102" y="130"/>
                    </a:lnTo>
                    <a:lnTo>
                      <a:pt x="124" y="135"/>
                    </a:lnTo>
                    <a:lnTo>
                      <a:pt x="146" y="142"/>
                    </a:lnTo>
                    <a:lnTo>
                      <a:pt x="165" y="147"/>
                    </a:lnTo>
                    <a:lnTo>
                      <a:pt x="180" y="151"/>
                    </a:lnTo>
                    <a:lnTo>
                      <a:pt x="191" y="157"/>
                    </a:lnTo>
                    <a:lnTo>
                      <a:pt x="203" y="163"/>
                    </a:lnTo>
                    <a:lnTo>
                      <a:pt x="214" y="170"/>
                    </a:lnTo>
                    <a:lnTo>
                      <a:pt x="224" y="180"/>
                    </a:lnTo>
                    <a:lnTo>
                      <a:pt x="230" y="188"/>
                    </a:lnTo>
                    <a:lnTo>
                      <a:pt x="236" y="199"/>
                    </a:lnTo>
                    <a:lnTo>
                      <a:pt x="239" y="211"/>
                    </a:lnTo>
                    <a:lnTo>
                      <a:pt x="243" y="222"/>
                    </a:lnTo>
                    <a:lnTo>
                      <a:pt x="243" y="234"/>
                    </a:lnTo>
                    <a:lnTo>
                      <a:pt x="243" y="247"/>
                    </a:lnTo>
                    <a:lnTo>
                      <a:pt x="239" y="259"/>
                    </a:lnTo>
                    <a:lnTo>
                      <a:pt x="235" y="271"/>
                    </a:lnTo>
                    <a:lnTo>
                      <a:pt x="229" y="283"/>
                    </a:lnTo>
                    <a:lnTo>
                      <a:pt x="221" y="293"/>
                    </a:lnTo>
                    <a:lnTo>
                      <a:pt x="212" y="303"/>
                    </a:lnTo>
                    <a:lnTo>
                      <a:pt x="201" y="310"/>
                    </a:lnTo>
                    <a:lnTo>
                      <a:pt x="189" y="318"/>
                    </a:lnTo>
                    <a:lnTo>
                      <a:pt x="176" y="323"/>
                    </a:lnTo>
                    <a:lnTo>
                      <a:pt x="161" y="327"/>
                    </a:lnTo>
                    <a:lnTo>
                      <a:pt x="146" y="329"/>
                    </a:lnTo>
                    <a:lnTo>
                      <a:pt x="130" y="330"/>
                    </a:lnTo>
                    <a:lnTo>
                      <a:pt x="110" y="329"/>
                    </a:lnTo>
                    <a:lnTo>
                      <a:pt x="92" y="327"/>
                    </a:lnTo>
                    <a:lnTo>
                      <a:pt x="76" y="323"/>
                    </a:lnTo>
                    <a:lnTo>
                      <a:pt x="62" y="318"/>
                    </a:lnTo>
                    <a:lnTo>
                      <a:pt x="54" y="314"/>
                    </a:lnTo>
                    <a:lnTo>
                      <a:pt x="48" y="310"/>
                    </a:lnTo>
                    <a:lnTo>
                      <a:pt x="41" y="306"/>
                    </a:lnTo>
                    <a:lnTo>
                      <a:pt x="36" y="302"/>
                    </a:lnTo>
                    <a:lnTo>
                      <a:pt x="31" y="296"/>
                    </a:lnTo>
                    <a:lnTo>
                      <a:pt x="26" y="291"/>
                    </a:lnTo>
                    <a:lnTo>
                      <a:pt x="21" y="286"/>
                    </a:lnTo>
                    <a:lnTo>
                      <a:pt x="17" y="280"/>
                    </a:lnTo>
                    <a:lnTo>
                      <a:pt x="11" y="267"/>
                    </a:lnTo>
                    <a:lnTo>
                      <a:pt x="5" y="252"/>
                    </a:lnTo>
                    <a:lnTo>
                      <a:pt x="2" y="237"/>
                    </a:lnTo>
                    <a:lnTo>
                      <a:pt x="0" y="222"/>
                    </a:lnTo>
                    <a:close/>
                  </a:path>
                </a:pathLst>
              </a:custGeom>
              <a:solidFill>
                <a:srgbClr val="1f1a17"/>
              </a:solidFill>
              <a:ln w="0">
                <a:noFill/>
              </a:ln>
            </p:spPr>
            <p:style>
              <a:lnRef idx="0"/>
              <a:fillRef idx="0"/>
              <a:effectRef idx="0"/>
              <a:fontRef idx="minor"/>
            </p:style>
            <p:txBody>
              <a:bodyPr lIns="90000" rIns="90000" tIns="720" bIns="720" anchor="t">
                <a:noAutofit/>
              </a:bodyPr>
              <a:p>
                <a:pPr>
                  <a:lnSpc>
                    <a:spcPct val="100000"/>
                  </a:lnSpc>
                </a:pPr>
                <a:endParaRPr b="0" lang="en-US" sz="1800" spc="-1" strike="noStrike">
                  <a:solidFill>
                    <a:srgbClr val="000000"/>
                  </a:solidFill>
                  <a:latin typeface="Arial"/>
                  <a:ea typeface="宋体"/>
                </a:endParaRPr>
              </a:p>
            </p:txBody>
          </p:sp>
          <p:sp>
            <p:nvSpPr>
              <p:cNvPr id="683" name="Freeform 50"/>
              <p:cNvSpPr/>
              <p:nvPr/>
            </p:nvSpPr>
            <p:spPr>
              <a:xfrm>
                <a:off x="1686600" y="1479240"/>
                <a:ext cx="33120" cy="44280"/>
              </a:xfrm>
              <a:custGeom>
                <a:avLst/>
                <a:gdLst>
                  <a:gd name="textAreaLeft" fmla="*/ 0 w 33120"/>
                  <a:gd name="textAreaRight" fmla="*/ 33480 w 33120"/>
                  <a:gd name="textAreaTop" fmla="*/ 0 h 44280"/>
                  <a:gd name="textAreaBottom" fmla="*/ 44640 h 44280"/>
                </a:gdLst>
                <a:ahLst/>
                <a:rect l="textAreaLeft" t="textAreaTop" r="textAreaRight" b="textAreaBottom"/>
                <a:pathLst>
                  <a:path w="228" h="320">
                    <a:moveTo>
                      <a:pt x="0" y="320"/>
                    </a:moveTo>
                    <a:lnTo>
                      <a:pt x="0" y="0"/>
                    </a:lnTo>
                    <a:lnTo>
                      <a:pt x="221" y="0"/>
                    </a:lnTo>
                    <a:lnTo>
                      <a:pt x="221" y="37"/>
                    </a:lnTo>
                    <a:lnTo>
                      <a:pt x="40" y="37"/>
                    </a:lnTo>
                    <a:lnTo>
                      <a:pt x="40" y="136"/>
                    </a:lnTo>
                    <a:lnTo>
                      <a:pt x="210" y="136"/>
                    </a:lnTo>
                    <a:lnTo>
                      <a:pt x="210" y="173"/>
                    </a:lnTo>
                    <a:lnTo>
                      <a:pt x="40" y="173"/>
                    </a:lnTo>
                    <a:lnTo>
                      <a:pt x="40" y="282"/>
                    </a:lnTo>
                    <a:lnTo>
                      <a:pt x="228" y="282"/>
                    </a:lnTo>
                    <a:lnTo>
                      <a:pt x="228" y="320"/>
                    </a:lnTo>
                    <a:lnTo>
                      <a:pt x="0" y="32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684" name="Freeform 51"/>
              <p:cNvSpPr/>
              <p:nvPr/>
            </p:nvSpPr>
            <p:spPr>
              <a:xfrm>
                <a:off x="1751400" y="1479240"/>
                <a:ext cx="42480" cy="44280"/>
              </a:xfrm>
              <a:custGeom>
                <a:avLst/>
                <a:gdLst>
                  <a:gd name="textAreaLeft" fmla="*/ 0 w 42480"/>
                  <a:gd name="textAreaRight" fmla="*/ 42840 w 42480"/>
                  <a:gd name="textAreaTop" fmla="*/ 0 h 44280"/>
                  <a:gd name="textAreaBottom" fmla="*/ 44640 h 44280"/>
                </a:gdLst>
                <a:ahLst/>
                <a:rect l="textAreaLeft" t="textAreaTop" r="textAreaRight" b="textAreaBottom"/>
                <a:pathLst>
                  <a:path w="290" h="320">
                    <a:moveTo>
                      <a:pt x="0" y="320"/>
                    </a:moveTo>
                    <a:lnTo>
                      <a:pt x="0" y="0"/>
                    </a:lnTo>
                    <a:lnTo>
                      <a:pt x="60" y="0"/>
                    </a:lnTo>
                    <a:lnTo>
                      <a:pt x="132" y="226"/>
                    </a:lnTo>
                    <a:lnTo>
                      <a:pt x="136" y="241"/>
                    </a:lnTo>
                    <a:lnTo>
                      <a:pt x="140" y="254"/>
                    </a:lnTo>
                    <a:lnTo>
                      <a:pt x="144" y="265"/>
                    </a:lnTo>
                    <a:lnTo>
                      <a:pt x="147" y="273"/>
                    </a:lnTo>
                    <a:lnTo>
                      <a:pt x="150" y="264"/>
                    </a:lnTo>
                    <a:lnTo>
                      <a:pt x="153" y="252"/>
                    </a:lnTo>
                    <a:lnTo>
                      <a:pt x="157" y="238"/>
                    </a:lnTo>
                    <a:lnTo>
                      <a:pt x="163" y="223"/>
                    </a:lnTo>
                    <a:lnTo>
                      <a:pt x="236" y="0"/>
                    </a:lnTo>
                    <a:lnTo>
                      <a:pt x="290" y="0"/>
                    </a:lnTo>
                    <a:lnTo>
                      <a:pt x="290" y="320"/>
                    </a:lnTo>
                    <a:lnTo>
                      <a:pt x="251" y="320"/>
                    </a:lnTo>
                    <a:lnTo>
                      <a:pt x="251" y="52"/>
                    </a:lnTo>
                    <a:lnTo>
                      <a:pt x="163" y="320"/>
                    </a:lnTo>
                    <a:lnTo>
                      <a:pt x="127" y="320"/>
                    </a:lnTo>
                    <a:lnTo>
                      <a:pt x="38" y="48"/>
                    </a:lnTo>
                    <a:lnTo>
                      <a:pt x="38" y="320"/>
                    </a:lnTo>
                    <a:lnTo>
                      <a:pt x="0" y="32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685" name="Freeform 52"/>
              <p:cNvSpPr/>
              <p:nvPr/>
            </p:nvSpPr>
            <p:spPr>
              <a:xfrm>
                <a:off x="1802520" y="1479240"/>
                <a:ext cx="42480" cy="44280"/>
              </a:xfrm>
              <a:custGeom>
                <a:avLst/>
                <a:gdLst>
                  <a:gd name="textAreaLeft" fmla="*/ 0 w 42480"/>
                  <a:gd name="textAreaRight" fmla="*/ 42840 w 42480"/>
                  <a:gd name="textAreaTop" fmla="*/ 0 h 44280"/>
                  <a:gd name="textAreaBottom" fmla="*/ 44640 h 44280"/>
                </a:gdLst>
                <a:ahLst/>
                <a:rect l="textAreaLeft" t="textAreaTop" r="textAreaRight" b="textAreaBottom"/>
                <a:pathLst>
                  <a:path w="285" h="320">
                    <a:moveTo>
                      <a:pt x="0" y="320"/>
                    </a:moveTo>
                    <a:lnTo>
                      <a:pt x="118" y="0"/>
                    </a:lnTo>
                    <a:lnTo>
                      <a:pt x="161" y="0"/>
                    </a:lnTo>
                    <a:lnTo>
                      <a:pt x="285" y="320"/>
                    </a:lnTo>
                    <a:lnTo>
                      <a:pt x="239" y="320"/>
                    </a:lnTo>
                    <a:lnTo>
                      <a:pt x="204" y="223"/>
                    </a:lnTo>
                    <a:lnTo>
                      <a:pt x="76" y="223"/>
                    </a:lnTo>
                    <a:lnTo>
                      <a:pt x="43" y="320"/>
                    </a:lnTo>
                    <a:lnTo>
                      <a:pt x="0" y="320"/>
                    </a:lnTo>
                    <a:close/>
                    <a:moveTo>
                      <a:pt x="88" y="189"/>
                    </a:moveTo>
                    <a:lnTo>
                      <a:pt x="192" y="189"/>
                    </a:lnTo>
                    <a:lnTo>
                      <a:pt x="160" y="100"/>
                    </a:lnTo>
                    <a:lnTo>
                      <a:pt x="152" y="81"/>
                    </a:lnTo>
                    <a:lnTo>
                      <a:pt x="147" y="63"/>
                    </a:lnTo>
                    <a:lnTo>
                      <a:pt x="142" y="48"/>
                    </a:lnTo>
                    <a:lnTo>
                      <a:pt x="138" y="33"/>
                    </a:lnTo>
                    <a:lnTo>
                      <a:pt x="134" y="49"/>
                    </a:lnTo>
                    <a:lnTo>
                      <a:pt x="131" y="64"/>
                    </a:lnTo>
                    <a:lnTo>
                      <a:pt x="127" y="80"/>
                    </a:lnTo>
                    <a:lnTo>
                      <a:pt x="122" y="94"/>
                    </a:lnTo>
                    <a:lnTo>
                      <a:pt x="88" y="189"/>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686" name="Freeform 53"/>
              <p:cNvSpPr/>
              <p:nvPr/>
            </p:nvSpPr>
            <p:spPr>
              <a:xfrm>
                <a:off x="1853640" y="1479240"/>
                <a:ext cx="36000" cy="44280"/>
              </a:xfrm>
              <a:custGeom>
                <a:avLst/>
                <a:gdLst>
                  <a:gd name="textAreaLeft" fmla="*/ 0 w 36000"/>
                  <a:gd name="textAreaRight" fmla="*/ 36360 w 36000"/>
                  <a:gd name="textAreaTop" fmla="*/ 0 h 44280"/>
                  <a:gd name="textAreaBottom" fmla="*/ 44640 h 44280"/>
                </a:gdLst>
                <a:ahLst/>
                <a:rect l="textAreaLeft" t="textAreaTop" r="textAreaRight" b="textAreaBottom"/>
                <a:pathLst>
                  <a:path w="239" h="320">
                    <a:moveTo>
                      <a:pt x="0" y="320"/>
                    </a:moveTo>
                    <a:lnTo>
                      <a:pt x="0" y="0"/>
                    </a:lnTo>
                    <a:lnTo>
                      <a:pt x="41" y="0"/>
                    </a:lnTo>
                    <a:lnTo>
                      <a:pt x="201" y="251"/>
                    </a:lnTo>
                    <a:lnTo>
                      <a:pt x="201" y="0"/>
                    </a:lnTo>
                    <a:lnTo>
                      <a:pt x="239" y="0"/>
                    </a:lnTo>
                    <a:lnTo>
                      <a:pt x="239" y="320"/>
                    </a:lnTo>
                    <a:lnTo>
                      <a:pt x="198" y="320"/>
                    </a:lnTo>
                    <a:lnTo>
                      <a:pt x="38" y="68"/>
                    </a:lnTo>
                    <a:lnTo>
                      <a:pt x="38" y="320"/>
                    </a:lnTo>
                    <a:lnTo>
                      <a:pt x="0" y="32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687" name="Freeform 54"/>
              <p:cNvSpPr/>
              <p:nvPr/>
            </p:nvSpPr>
            <p:spPr>
              <a:xfrm>
                <a:off x="1898640" y="1479240"/>
                <a:ext cx="42480" cy="44280"/>
              </a:xfrm>
              <a:custGeom>
                <a:avLst/>
                <a:gdLst>
                  <a:gd name="textAreaLeft" fmla="*/ 0 w 42480"/>
                  <a:gd name="textAreaRight" fmla="*/ 42840 w 42480"/>
                  <a:gd name="textAreaTop" fmla="*/ 0 h 44280"/>
                  <a:gd name="textAreaBottom" fmla="*/ 44640 h 44280"/>
                </a:gdLst>
                <a:ahLst/>
                <a:rect l="textAreaLeft" t="textAreaTop" r="textAreaRight" b="textAreaBottom"/>
                <a:pathLst>
                  <a:path w="285" h="320">
                    <a:moveTo>
                      <a:pt x="0" y="320"/>
                    </a:moveTo>
                    <a:lnTo>
                      <a:pt x="116" y="0"/>
                    </a:lnTo>
                    <a:lnTo>
                      <a:pt x="160" y="0"/>
                    </a:lnTo>
                    <a:lnTo>
                      <a:pt x="285" y="320"/>
                    </a:lnTo>
                    <a:lnTo>
                      <a:pt x="239" y="320"/>
                    </a:lnTo>
                    <a:lnTo>
                      <a:pt x="203" y="223"/>
                    </a:lnTo>
                    <a:lnTo>
                      <a:pt x="76" y="223"/>
                    </a:lnTo>
                    <a:lnTo>
                      <a:pt x="42" y="320"/>
                    </a:lnTo>
                    <a:lnTo>
                      <a:pt x="0" y="320"/>
                    </a:lnTo>
                    <a:close/>
                    <a:moveTo>
                      <a:pt x="88" y="189"/>
                    </a:moveTo>
                    <a:lnTo>
                      <a:pt x="192" y="189"/>
                    </a:lnTo>
                    <a:lnTo>
                      <a:pt x="159" y="100"/>
                    </a:lnTo>
                    <a:lnTo>
                      <a:pt x="152" y="81"/>
                    </a:lnTo>
                    <a:lnTo>
                      <a:pt x="147" y="63"/>
                    </a:lnTo>
                    <a:lnTo>
                      <a:pt x="142" y="48"/>
                    </a:lnTo>
                    <a:lnTo>
                      <a:pt x="138" y="33"/>
                    </a:lnTo>
                    <a:lnTo>
                      <a:pt x="134" y="49"/>
                    </a:lnTo>
                    <a:lnTo>
                      <a:pt x="130" y="64"/>
                    </a:lnTo>
                    <a:lnTo>
                      <a:pt x="126" y="80"/>
                    </a:lnTo>
                    <a:lnTo>
                      <a:pt x="122" y="94"/>
                    </a:lnTo>
                    <a:lnTo>
                      <a:pt x="88" y="189"/>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688" name="Freeform 55"/>
              <p:cNvSpPr/>
              <p:nvPr/>
            </p:nvSpPr>
            <p:spPr>
              <a:xfrm>
                <a:off x="1948680" y="1478160"/>
                <a:ext cx="41400" cy="45360"/>
              </a:xfrm>
              <a:custGeom>
                <a:avLst/>
                <a:gdLst>
                  <a:gd name="textAreaLeft" fmla="*/ 0 w 41400"/>
                  <a:gd name="textAreaRight" fmla="*/ 41760 w 41400"/>
                  <a:gd name="textAreaTop" fmla="*/ 0 h 45360"/>
                  <a:gd name="textAreaBottom" fmla="*/ 45720 h 45360"/>
                </a:gdLst>
                <a:ahLst/>
                <a:rect l="textAreaLeft" t="textAreaTop" r="textAreaRight" b="textAreaBottom"/>
                <a:pathLst>
                  <a:path w="282" h="330">
                    <a:moveTo>
                      <a:pt x="154" y="199"/>
                    </a:moveTo>
                    <a:lnTo>
                      <a:pt x="154" y="162"/>
                    </a:lnTo>
                    <a:lnTo>
                      <a:pt x="282" y="162"/>
                    </a:lnTo>
                    <a:lnTo>
                      <a:pt x="282" y="281"/>
                    </a:lnTo>
                    <a:lnTo>
                      <a:pt x="267" y="292"/>
                    </a:lnTo>
                    <a:lnTo>
                      <a:pt x="253" y="302"/>
                    </a:lnTo>
                    <a:lnTo>
                      <a:pt x="237" y="310"/>
                    </a:lnTo>
                    <a:lnTo>
                      <a:pt x="221" y="318"/>
                    </a:lnTo>
                    <a:lnTo>
                      <a:pt x="205" y="323"/>
                    </a:lnTo>
                    <a:lnTo>
                      <a:pt x="189" y="327"/>
                    </a:lnTo>
                    <a:lnTo>
                      <a:pt x="173" y="329"/>
                    </a:lnTo>
                    <a:lnTo>
                      <a:pt x="156" y="330"/>
                    </a:lnTo>
                    <a:lnTo>
                      <a:pt x="146" y="329"/>
                    </a:lnTo>
                    <a:lnTo>
                      <a:pt x="135" y="329"/>
                    </a:lnTo>
                    <a:lnTo>
                      <a:pt x="124" y="327"/>
                    </a:lnTo>
                    <a:lnTo>
                      <a:pt x="114" y="325"/>
                    </a:lnTo>
                    <a:lnTo>
                      <a:pt x="103" y="322"/>
                    </a:lnTo>
                    <a:lnTo>
                      <a:pt x="94" y="319"/>
                    </a:lnTo>
                    <a:lnTo>
                      <a:pt x="84" y="314"/>
                    </a:lnTo>
                    <a:lnTo>
                      <a:pt x="75" y="310"/>
                    </a:lnTo>
                    <a:lnTo>
                      <a:pt x="66" y="305"/>
                    </a:lnTo>
                    <a:lnTo>
                      <a:pt x="58" y="299"/>
                    </a:lnTo>
                    <a:lnTo>
                      <a:pt x="50" y="292"/>
                    </a:lnTo>
                    <a:lnTo>
                      <a:pt x="43" y="285"/>
                    </a:lnTo>
                    <a:lnTo>
                      <a:pt x="36" y="277"/>
                    </a:lnTo>
                    <a:lnTo>
                      <a:pt x="30" y="270"/>
                    </a:lnTo>
                    <a:lnTo>
                      <a:pt x="25" y="260"/>
                    </a:lnTo>
                    <a:lnTo>
                      <a:pt x="20" y="252"/>
                    </a:lnTo>
                    <a:lnTo>
                      <a:pt x="15" y="242"/>
                    </a:lnTo>
                    <a:lnTo>
                      <a:pt x="11" y="232"/>
                    </a:lnTo>
                    <a:lnTo>
                      <a:pt x="8" y="221"/>
                    </a:lnTo>
                    <a:lnTo>
                      <a:pt x="6" y="212"/>
                    </a:lnTo>
                    <a:lnTo>
                      <a:pt x="4" y="200"/>
                    </a:lnTo>
                    <a:lnTo>
                      <a:pt x="2" y="189"/>
                    </a:lnTo>
                    <a:lnTo>
                      <a:pt x="2" y="178"/>
                    </a:lnTo>
                    <a:lnTo>
                      <a:pt x="0" y="166"/>
                    </a:lnTo>
                    <a:lnTo>
                      <a:pt x="2" y="154"/>
                    </a:lnTo>
                    <a:lnTo>
                      <a:pt x="2" y="143"/>
                    </a:lnTo>
                    <a:lnTo>
                      <a:pt x="4" y="132"/>
                    </a:lnTo>
                    <a:lnTo>
                      <a:pt x="6" y="122"/>
                    </a:lnTo>
                    <a:lnTo>
                      <a:pt x="8" y="110"/>
                    </a:lnTo>
                    <a:lnTo>
                      <a:pt x="11" y="99"/>
                    </a:lnTo>
                    <a:lnTo>
                      <a:pt x="15" y="90"/>
                    </a:lnTo>
                    <a:lnTo>
                      <a:pt x="20" y="79"/>
                    </a:lnTo>
                    <a:lnTo>
                      <a:pt x="24" y="70"/>
                    </a:lnTo>
                    <a:lnTo>
                      <a:pt x="30" y="60"/>
                    </a:lnTo>
                    <a:lnTo>
                      <a:pt x="35" y="52"/>
                    </a:lnTo>
                    <a:lnTo>
                      <a:pt x="42" y="44"/>
                    </a:lnTo>
                    <a:lnTo>
                      <a:pt x="49" y="37"/>
                    </a:lnTo>
                    <a:lnTo>
                      <a:pt x="57" y="30"/>
                    </a:lnTo>
                    <a:lnTo>
                      <a:pt x="64" y="24"/>
                    </a:lnTo>
                    <a:lnTo>
                      <a:pt x="72" y="19"/>
                    </a:lnTo>
                    <a:lnTo>
                      <a:pt x="82" y="15"/>
                    </a:lnTo>
                    <a:lnTo>
                      <a:pt x="90" y="10"/>
                    </a:lnTo>
                    <a:lnTo>
                      <a:pt x="100" y="7"/>
                    </a:lnTo>
                    <a:lnTo>
                      <a:pt x="111" y="4"/>
                    </a:lnTo>
                    <a:lnTo>
                      <a:pt x="120" y="2"/>
                    </a:lnTo>
                    <a:lnTo>
                      <a:pt x="131" y="1"/>
                    </a:lnTo>
                    <a:lnTo>
                      <a:pt x="142" y="0"/>
                    </a:lnTo>
                    <a:lnTo>
                      <a:pt x="153" y="0"/>
                    </a:lnTo>
                    <a:lnTo>
                      <a:pt x="170" y="0"/>
                    </a:lnTo>
                    <a:lnTo>
                      <a:pt x="185" y="2"/>
                    </a:lnTo>
                    <a:lnTo>
                      <a:pt x="200" y="6"/>
                    </a:lnTo>
                    <a:lnTo>
                      <a:pt x="213" y="10"/>
                    </a:lnTo>
                    <a:lnTo>
                      <a:pt x="226" y="17"/>
                    </a:lnTo>
                    <a:lnTo>
                      <a:pt x="237" y="24"/>
                    </a:lnTo>
                    <a:lnTo>
                      <a:pt x="246" y="33"/>
                    </a:lnTo>
                    <a:lnTo>
                      <a:pt x="255" y="42"/>
                    </a:lnTo>
                    <a:lnTo>
                      <a:pt x="262" y="53"/>
                    </a:lnTo>
                    <a:lnTo>
                      <a:pt x="268" y="65"/>
                    </a:lnTo>
                    <a:lnTo>
                      <a:pt x="274" y="79"/>
                    </a:lnTo>
                    <a:lnTo>
                      <a:pt x="278" y="94"/>
                    </a:lnTo>
                    <a:lnTo>
                      <a:pt x="242" y="105"/>
                    </a:lnTo>
                    <a:lnTo>
                      <a:pt x="238" y="93"/>
                    </a:lnTo>
                    <a:lnTo>
                      <a:pt x="233" y="82"/>
                    </a:lnTo>
                    <a:lnTo>
                      <a:pt x="229" y="74"/>
                    </a:lnTo>
                    <a:lnTo>
                      <a:pt x="225" y="67"/>
                    </a:lnTo>
                    <a:lnTo>
                      <a:pt x="219" y="60"/>
                    </a:lnTo>
                    <a:lnTo>
                      <a:pt x="212" y="54"/>
                    </a:lnTo>
                    <a:lnTo>
                      <a:pt x="205" y="48"/>
                    </a:lnTo>
                    <a:lnTo>
                      <a:pt x="195" y="44"/>
                    </a:lnTo>
                    <a:lnTo>
                      <a:pt x="186" y="40"/>
                    </a:lnTo>
                    <a:lnTo>
                      <a:pt x="175" y="38"/>
                    </a:lnTo>
                    <a:lnTo>
                      <a:pt x="165" y="36"/>
                    </a:lnTo>
                    <a:lnTo>
                      <a:pt x="154" y="36"/>
                    </a:lnTo>
                    <a:lnTo>
                      <a:pt x="140" y="36"/>
                    </a:lnTo>
                    <a:lnTo>
                      <a:pt x="128" y="38"/>
                    </a:lnTo>
                    <a:lnTo>
                      <a:pt x="116" y="41"/>
                    </a:lnTo>
                    <a:lnTo>
                      <a:pt x="105" y="44"/>
                    </a:lnTo>
                    <a:lnTo>
                      <a:pt x="96" y="50"/>
                    </a:lnTo>
                    <a:lnTo>
                      <a:pt x="87" y="55"/>
                    </a:lnTo>
                    <a:lnTo>
                      <a:pt x="80" y="61"/>
                    </a:lnTo>
                    <a:lnTo>
                      <a:pt x="74" y="68"/>
                    </a:lnTo>
                    <a:lnTo>
                      <a:pt x="67" y="75"/>
                    </a:lnTo>
                    <a:lnTo>
                      <a:pt x="62" y="82"/>
                    </a:lnTo>
                    <a:lnTo>
                      <a:pt x="58" y="91"/>
                    </a:lnTo>
                    <a:lnTo>
                      <a:pt x="53" y="99"/>
                    </a:lnTo>
                    <a:lnTo>
                      <a:pt x="49" y="114"/>
                    </a:lnTo>
                    <a:lnTo>
                      <a:pt x="45" y="130"/>
                    </a:lnTo>
                    <a:lnTo>
                      <a:pt x="43" y="147"/>
                    </a:lnTo>
                    <a:lnTo>
                      <a:pt x="43" y="164"/>
                    </a:lnTo>
                    <a:lnTo>
                      <a:pt x="43" y="184"/>
                    </a:lnTo>
                    <a:lnTo>
                      <a:pt x="46" y="203"/>
                    </a:lnTo>
                    <a:lnTo>
                      <a:pt x="48" y="212"/>
                    </a:lnTo>
                    <a:lnTo>
                      <a:pt x="50" y="220"/>
                    </a:lnTo>
                    <a:lnTo>
                      <a:pt x="53" y="228"/>
                    </a:lnTo>
                    <a:lnTo>
                      <a:pt x="57" y="235"/>
                    </a:lnTo>
                    <a:lnTo>
                      <a:pt x="60" y="242"/>
                    </a:lnTo>
                    <a:lnTo>
                      <a:pt x="64" y="249"/>
                    </a:lnTo>
                    <a:lnTo>
                      <a:pt x="68" y="255"/>
                    </a:lnTo>
                    <a:lnTo>
                      <a:pt x="74" y="260"/>
                    </a:lnTo>
                    <a:lnTo>
                      <a:pt x="79" y="266"/>
                    </a:lnTo>
                    <a:lnTo>
                      <a:pt x="84" y="270"/>
                    </a:lnTo>
                    <a:lnTo>
                      <a:pt x="90" y="274"/>
                    </a:lnTo>
                    <a:lnTo>
                      <a:pt x="97" y="278"/>
                    </a:lnTo>
                    <a:lnTo>
                      <a:pt x="111" y="284"/>
                    </a:lnTo>
                    <a:lnTo>
                      <a:pt x="124" y="288"/>
                    </a:lnTo>
                    <a:lnTo>
                      <a:pt x="139" y="291"/>
                    </a:lnTo>
                    <a:lnTo>
                      <a:pt x="154" y="292"/>
                    </a:lnTo>
                    <a:lnTo>
                      <a:pt x="167" y="291"/>
                    </a:lnTo>
                    <a:lnTo>
                      <a:pt x="181" y="289"/>
                    </a:lnTo>
                    <a:lnTo>
                      <a:pt x="192" y="286"/>
                    </a:lnTo>
                    <a:lnTo>
                      <a:pt x="205" y="282"/>
                    </a:lnTo>
                    <a:lnTo>
                      <a:pt x="217" y="276"/>
                    </a:lnTo>
                    <a:lnTo>
                      <a:pt x="227" y="270"/>
                    </a:lnTo>
                    <a:lnTo>
                      <a:pt x="236" y="265"/>
                    </a:lnTo>
                    <a:lnTo>
                      <a:pt x="243" y="258"/>
                    </a:lnTo>
                    <a:lnTo>
                      <a:pt x="243" y="199"/>
                    </a:lnTo>
                    <a:lnTo>
                      <a:pt x="154" y="199"/>
                    </a:lnTo>
                    <a:close/>
                  </a:path>
                </a:pathLst>
              </a:custGeom>
              <a:solidFill>
                <a:srgbClr val="1f1a17"/>
              </a:solidFill>
              <a:ln w="0">
                <a:noFill/>
              </a:ln>
            </p:spPr>
            <p:style>
              <a:lnRef idx="0"/>
              <a:fillRef idx="0"/>
              <a:effectRef idx="0"/>
              <a:fontRef idx="minor"/>
            </p:style>
            <p:txBody>
              <a:bodyPr lIns="90000" rIns="90000" tIns="720" bIns="720" anchor="t">
                <a:noAutofit/>
              </a:bodyPr>
              <a:p>
                <a:pPr>
                  <a:lnSpc>
                    <a:spcPct val="100000"/>
                  </a:lnSpc>
                </a:pPr>
                <a:endParaRPr b="0" lang="en-US" sz="1800" spc="-1" strike="noStrike">
                  <a:solidFill>
                    <a:srgbClr val="000000"/>
                  </a:solidFill>
                  <a:latin typeface="Arial"/>
                  <a:ea typeface="宋体"/>
                </a:endParaRPr>
              </a:p>
            </p:txBody>
          </p:sp>
          <p:sp>
            <p:nvSpPr>
              <p:cNvPr id="689" name="Freeform 56"/>
              <p:cNvSpPr/>
              <p:nvPr/>
            </p:nvSpPr>
            <p:spPr>
              <a:xfrm>
                <a:off x="2003040" y="1479240"/>
                <a:ext cx="34200" cy="44280"/>
              </a:xfrm>
              <a:custGeom>
                <a:avLst/>
                <a:gdLst>
                  <a:gd name="textAreaLeft" fmla="*/ 0 w 34200"/>
                  <a:gd name="textAreaRight" fmla="*/ 34560 w 34200"/>
                  <a:gd name="textAreaTop" fmla="*/ 0 h 44280"/>
                  <a:gd name="textAreaBottom" fmla="*/ 44640 h 44280"/>
                </a:gdLst>
                <a:ahLst/>
                <a:rect l="textAreaLeft" t="textAreaTop" r="textAreaRight" b="textAreaBottom"/>
                <a:pathLst>
                  <a:path w="227" h="320">
                    <a:moveTo>
                      <a:pt x="0" y="320"/>
                    </a:moveTo>
                    <a:lnTo>
                      <a:pt x="0" y="0"/>
                    </a:lnTo>
                    <a:lnTo>
                      <a:pt x="219" y="0"/>
                    </a:lnTo>
                    <a:lnTo>
                      <a:pt x="219" y="37"/>
                    </a:lnTo>
                    <a:lnTo>
                      <a:pt x="40" y="37"/>
                    </a:lnTo>
                    <a:lnTo>
                      <a:pt x="40" y="136"/>
                    </a:lnTo>
                    <a:lnTo>
                      <a:pt x="209" y="136"/>
                    </a:lnTo>
                    <a:lnTo>
                      <a:pt x="209" y="173"/>
                    </a:lnTo>
                    <a:lnTo>
                      <a:pt x="40" y="173"/>
                    </a:lnTo>
                    <a:lnTo>
                      <a:pt x="40" y="282"/>
                    </a:lnTo>
                    <a:lnTo>
                      <a:pt x="227" y="282"/>
                    </a:lnTo>
                    <a:lnTo>
                      <a:pt x="227" y="320"/>
                    </a:lnTo>
                    <a:lnTo>
                      <a:pt x="0" y="32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690" name="Freeform 57"/>
              <p:cNvSpPr/>
              <p:nvPr/>
            </p:nvSpPr>
            <p:spPr>
              <a:xfrm>
                <a:off x="2048760" y="1479240"/>
                <a:ext cx="43560" cy="44280"/>
              </a:xfrm>
              <a:custGeom>
                <a:avLst/>
                <a:gdLst>
                  <a:gd name="textAreaLeft" fmla="*/ 0 w 43560"/>
                  <a:gd name="textAreaRight" fmla="*/ 43920 w 43560"/>
                  <a:gd name="textAreaTop" fmla="*/ 0 h 44280"/>
                  <a:gd name="textAreaBottom" fmla="*/ 44640 h 44280"/>
                </a:gdLst>
                <a:ahLst/>
                <a:rect l="textAreaLeft" t="textAreaTop" r="textAreaRight" b="textAreaBottom"/>
                <a:pathLst>
                  <a:path w="290" h="320">
                    <a:moveTo>
                      <a:pt x="0" y="320"/>
                    </a:moveTo>
                    <a:lnTo>
                      <a:pt x="0" y="0"/>
                    </a:lnTo>
                    <a:lnTo>
                      <a:pt x="61" y="0"/>
                    </a:lnTo>
                    <a:lnTo>
                      <a:pt x="133" y="226"/>
                    </a:lnTo>
                    <a:lnTo>
                      <a:pt x="138" y="241"/>
                    </a:lnTo>
                    <a:lnTo>
                      <a:pt x="141" y="254"/>
                    </a:lnTo>
                    <a:lnTo>
                      <a:pt x="144" y="265"/>
                    </a:lnTo>
                    <a:lnTo>
                      <a:pt x="147" y="273"/>
                    </a:lnTo>
                    <a:lnTo>
                      <a:pt x="151" y="264"/>
                    </a:lnTo>
                    <a:lnTo>
                      <a:pt x="154" y="252"/>
                    </a:lnTo>
                    <a:lnTo>
                      <a:pt x="158" y="238"/>
                    </a:lnTo>
                    <a:lnTo>
                      <a:pt x="163" y="223"/>
                    </a:lnTo>
                    <a:lnTo>
                      <a:pt x="236" y="0"/>
                    </a:lnTo>
                    <a:lnTo>
                      <a:pt x="290" y="0"/>
                    </a:lnTo>
                    <a:lnTo>
                      <a:pt x="290" y="320"/>
                    </a:lnTo>
                    <a:lnTo>
                      <a:pt x="252" y="320"/>
                    </a:lnTo>
                    <a:lnTo>
                      <a:pt x="252" y="52"/>
                    </a:lnTo>
                    <a:lnTo>
                      <a:pt x="163" y="320"/>
                    </a:lnTo>
                    <a:lnTo>
                      <a:pt x="127" y="320"/>
                    </a:lnTo>
                    <a:lnTo>
                      <a:pt x="39" y="48"/>
                    </a:lnTo>
                    <a:lnTo>
                      <a:pt x="39" y="320"/>
                    </a:lnTo>
                    <a:lnTo>
                      <a:pt x="0" y="32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691" name="Freeform 58"/>
              <p:cNvSpPr/>
              <p:nvPr/>
            </p:nvSpPr>
            <p:spPr>
              <a:xfrm>
                <a:off x="2106360" y="1479240"/>
                <a:ext cx="33120" cy="44280"/>
              </a:xfrm>
              <a:custGeom>
                <a:avLst/>
                <a:gdLst>
                  <a:gd name="textAreaLeft" fmla="*/ 0 w 33120"/>
                  <a:gd name="textAreaRight" fmla="*/ 33480 w 33120"/>
                  <a:gd name="textAreaTop" fmla="*/ 0 h 44280"/>
                  <a:gd name="textAreaBottom" fmla="*/ 44640 h 44280"/>
                </a:gdLst>
                <a:ahLst/>
                <a:rect l="textAreaLeft" t="textAreaTop" r="textAreaRight" b="textAreaBottom"/>
                <a:pathLst>
                  <a:path w="227" h="320">
                    <a:moveTo>
                      <a:pt x="0" y="320"/>
                    </a:moveTo>
                    <a:lnTo>
                      <a:pt x="0" y="0"/>
                    </a:lnTo>
                    <a:lnTo>
                      <a:pt x="220" y="0"/>
                    </a:lnTo>
                    <a:lnTo>
                      <a:pt x="220" y="37"/>
                    </a:lnTo>
                    <a:lnTo>
                      <a:pt x="40" y="37"/>
                    </a:lnTo>
                    <a:lnTo>
                      <a:pt x="40" y="136"/>
                    </a:lnTo>
                    <a:lnTo>
                      <a:pt x="208" y="136"/>
                    </a:lnTo>
                    <a:lnTo>
                      <a:pt x="208" y="173"/>
                    </a:lnTo>
                    <a:lnTo>
                      <a:pt x="40" y="173"/>
                    </a:lnTo>
                    <a:lnTo>
                      <a:pt x="40" y="282"/>
                    </a:lnTo>
                    <a:lnTo>
                      <a:pt x="227" y="282"/>
                    </a:lnTo>
                    <a:lnTo>
                      <a:pt x="227" y="320"/>
                    </a:lnTo>
                    <a:lnTo>
                      <a:pt x="0" y="32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692" name="Freeform 59"/>
              <p:cNvSpPr/>
              <p:nvPr/>
            </p:nvSpPr>
            <p:spPr>
              <a:xfrm>
                <a:off x="2152440" y="1479240"/>
                <a:ext cx="35280" cy="44280"/>
              </a:xfrm>
              <a:custGeom>
                <a:avLst/>
                <a:gdLst>
                  <a:gd name="textAreaLeft" fmla="*/ 0 w 35280"/>
                  <a:gd name="textAreaRight" fmla="*/ 35640 w 35280"/>
                  <a:gd name="textAreaTop" fmla="*/ 0 h 44280"/>
                  <a:gd name="textAreaBottom" fmla="*/ 44640 h 44280"/>
                </a:gdLst>
                <a:ahLst/>
                <a:rect l="textAreaLeft" t="textAreaTop" r="textAreaRight" b="textAreaBottom"/>
                <a:pathLst>
                  <a:path w="240" h="320">
                    <a:moveTo>
                      <a:pt x="0" y="320"/>
                    </a:moveTo>
                    <a:lnTo>
                      <a:pt x="0" y="0"/>
                    </a:lnTo>
                    <a:lnTo>
                      <a:pt x="41" y="0"/>
                    </a:lnTo>
                    <a:lnTo>
                      <a:pt x="201" y="251"/>
                    </a:lnTo>
                    <a:lnTo>
                      <a:pt x="201" y="0"/>
                    </a:lnTo>
                    <a:lnTo>
                      <a:pt x="240" y="0"/>
                    </a:lnTo>
                    <a:lnTo>
                      <a:pt x="240" y="320"/>
                    </a:lnTo>
                    <a:lnTo>
                      <a:pt x="199" y="320"/>
                    </a:lnTo>
                    <a:lnTo>
                      <a:pt x="38" y="68"/>
                    </a:lnTo>
                    <a:lnTo>
                      <a:pt x="38" y="320"/>
                    </a:lnTo>
                    <a:lnTo>
                      <a:pt x="0" y="32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693" name="Freeform 60"/>
              <p:cNvSpPr/>
              <p:nvPr/>
            </p:nvSpPr>
            <p:spPr>
              <a:xfrm>
                <a:off x="2198160" y="1479240"/>
                <a:ext cx="36000" cy="44280"/>
              </a:xfrm>
              <a:custGeom>
                <a:avLst/>
                <a:gdLst>
                  <a:gd name="textAreaLeft" fmla="*/ 0 w 36000"/>
                  <a:gd name="textAreaRight" fmla="*/ 36360 w 36000"/>
                  <a:gd name="textAreaTop" fmla="*/ 0 h 44280"/>
                  <a:gd name="textAreaBottom" fmla="*/ 44640 h 44280"/>
                </a:gdLst>
                <a:ahLst/>
                <a:rect l="textAreaLeft" t="textAreaTop" r="textAreaRight" b="textAreaBottom"/>
                <a:pathLst>
                  <a:path w="242" h="320">
                    <a:moveTo>
                      <a:pt x="101" y="320"/>
                    </a:moveTo>
                    <a:lnTo>
                      <a:pt x="101" y="37"/>
                    </a:lnTo>
                    <a:lnTo>
                      <a:pt x="0" y="37"/>
                    </a:lnTo>
                    <a:lnTo>
                      <a:pt x="0" y="0"/>
                    </a:lnTo>
                    <a:lnTo>
                      <a:pt x="242" y="0"/>
                    </a:lnTo>
                    <a:lnTo>
                      <a:pt x="242" y="37"/>
                    </a:lnTo>
                    <a:lnTo>
                      <a:pt x="141" y="37"/>
                    </a:lnTo>
                    <a:lnTo>
                      <a:pt x="141" y="320"/>
                    </a:lnTo>
                    <a:lnTo>
                      <a:pt x="101" y="32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694" name="Freeform 61"/>
              <p:cNvSpPr/>
              <p:nvPr/>
            </p:nvSpPr>
            <p:spPr>
              <a:xfrm>
                <a:off x="2261880" y="1478160"/>
                <a:ext cx="39240" cy="45360"/>
              </a:xfrm>
              <a:custGeom>
                <a:avLst/>
                <a:gdLst>
                  <a:gd name="textAreaLeft" fmla="*/ 0 w 39240"/>
                  <a:gd name="textAreaRight" fmla="*/ 39600 w 39240"/>
                  <a:gd name="textAreaTop" fmla="*/ 0 h 45360"/>
                  <a:gd name="textAreaBottom" fmla="*/ 45720 h 45360"/>
                </a:gdLst>
                <a:ahLst/>
                <a:rect l="textAreaLeft" t="textAreaTop" r="textAreaRight" b="textAreaBottom"/>
                <a:pathLst>
                  <a:path w="270" h="330">
                    <a:moveTo>
                      <a:pt x="230" y="213"/>
                    </a:moveTo>
                    <a:lnTo>
                      <a:pt x="270" y="223"/>
                    </a:lnTo>
                    <a:lnTo>
                      <a:pt x="266" y="236"/>
                    </a:lnTo>
                    <a:lnTo>
                      <a:pt x="262" y="248"/>
                    </a:lnTo>
                    <a:lnTo>
                      <a:pt x="257" y="258"/>
                    </a:lnTo>
                    <a:lnTo>
                      <a:pt x="252" y="269"/>
                    </a:lnTo>
                    <a:lnTo>
                      <a:pt x="246" y="278"/>
                    </a:lnTo>
                    <a:lnTo>
                      <a:pt x="239" y="288"/>
                    </a:lnTo>
                    <a:lnTo>
                      <a:pt x="232" y="295"/>
                    </a:lnTo>
                    <a:lnTo>
                      <a:pt x="224" y="303"/>
                    </a:lnTo>
                    <a:lnTo>
                      <a:pt x="216" y="309"/>
                    </a:lnTo>
                    <a:lnTo>
                      <a:pt x="206" y="314"/>
                    </a:lnTo>
                    <a:lnTo>
                      <a:pt x="197" y="320"/>
                    </a:lnTo>
                    <a:lnTo>
                      <a:pt x="187" y="323"/>
                    </a:lnTo>
                    <a:lnTo>
                      <a:pt x="177" y="326"/>
                    </a:lnTo>
                    <a:lnTo>
                      <a:pt x="166" y="328"/>
                    </a:lnTo>
                    <a:lnTo>
                      <a:pt x="156" y="329"/>
                    </a:lnTo>
                    <a:lnTo>
                      <a:pt x="144" y="330"/>
                    </a:lnTo>
                    <a:lnTo>
                      <a:pt x="131" y="329"/>
                    </a:lnTo>
                    <a:lnTo>
                      <a:pt x="120" y="329"/>
                    </a:lnTo>
                    <a:lnTo>
                      <a:pt x="109" y="327"/>
                    </a:lnTo>
                    <a:lnTo>
                      <a:pt x="98" y="325"/>
                    </a:lnTo>
                    <a:lnTo>
                      <a:pt x="89" y="322"/>
                    </a:lnTo>
                    <a:lnTo>
                      <a:pt x="80" y="319"/>
                    </a:lnTo>
                    <a:lnTo>
                      <a:pt x="71" y="314"/>
                    </a:lnTo>
                    <a:lnTo>
                      <a:pt x="63" y="309"/>
                    </a:lnTo>
                    <a:lnTo>
                      <a:pt x="56" y="304"/>
                    </a:lnTo>
                    <a:lnTo>
                      <a:pt x="49" y="298"/>
                    </a:lnTo>
                    <a:lnTo>
                      <a:pt x="42" y="290"/>
                    </a:lnTo>
                    <a:lnTo>
                      <a:pt x="36" y="284"/>
                    </a:lnTo>
                    <a:lnTo>
                      <a:pt x="31" y="275"/>
                    </a:lnTo>
                    <a:lnTo>
                      <a:pt x="25" y="267"/>
                    </a:lnTo>
                    <a:lnTo>
                      <a:pt x="21" y="257"/>
                    </a:lnTo>
                    <a:lnTo>
                      <a:pt x="17" y="248"/>
                    </a:lnTo>
                    <a:lnTo>
                      <a:pt x="13" y="238"/>
                    </a:lnTo>
                    <a:lnTo>
                      <a:pt x="9" y="228"/>
                    </a:lnTo>
                    <a:lnTo>
                      <a:pt x="6" y="217"/>
                    </a:lnTo>
                    <a:lnTo>
                      <a:pt x="4" y="206"/>
                    </a:lnTo>
                    <a:lnTo>
                      <a:pt x="3" y="196"/>
                    </a:lnTo>
                    <a:lnTo>
                      <a:pt x="1" y="185"/>
                    </a:lnTo>
                    <a:lnTo>
                      <a:pt x="1" y="174"/>
                    </a:lnTo>
                    <a:lnTo>
                      <a:pt x="0" y="162"/>
                    </a:lnTo>
                    <a:lnTo>
                      <a:pt x="1" y="150"/>
                    </a:lnTo>
                    <a:lnTo>
                      <a:pt x="1" y="139"/>
                    </a:lnTo>
                    <a:lnTo>
                      <a:pt x="3" y="127"/>
                    </a:lnTo>
                    <a:lnTo>
                      <a:pt x="5" y="115"/>
                    </a:lnTo>
                    <a:lnTo>
                      <a:pt x="7" y="105"/>
                    </a:lnTo>
                    <a:lnTo>
                      <a:pt x="10" y="95"/>
                    </a:lnTo>
                    <a:lnTo>
                      <a:pt x="15" y="85"/>
                    </a:lnTo>
                    <a:lnTo>
                      <a:pt x="19" y="75"/>
                    </a:lnTo>
                    <a:lnTo>
                      <a:pt x="23" y="67"/>
                    </a:lnTo>
                    <a:lnTo>
                      <a:pt x="28" y="58"/>
                    </a:lnTo>
                    <a:lnTo>
                      <a:pt x="34" y="50"/>
                    </a:lnTo>
                    <a:lnTo>
                      <a:pt x="40" y="42"/>
                    </a:lnTo>
                    <a:lnTo>
                      <a:pt x="47" y="36"/>
                    </a:lnTo>
                    <a:lnTo>
                      <a:pt x="54" y="29"/>
                    </a:lnTo>
                    <a:lnTo>
                      <a:pt x="62" y="24"/>
                    </a:lnTo>
                    <a:lnTo>
                      <a:pt x="70" y="19"/>
                    </a:lnTo>
                    <a:lnTo>
                      <a:pt x="78" y="15"/>
                    </a:lnTo>
                    <a:lnTo>
                      <a:pt x="88" y="10"/>
                    </a:lnTo>
                    <a:lnTo>
                      <a:pt x="96" y="7"/>
                    </a:lnTo>
                    <a:lnTo>
                      <a:pt x="106" y="4"/>
                    </a:lnTo>
                    <a:lnTo>
                      <a:pt x="114" y="2"/>
                    </a:lnTo>
                    <a:lnTo>
                      <a:pt x="125" y="1"/>
                    </a:lnTo>
                    <a:lnTo>
                      <a:pt x="134" y="0"/>
                    </a:lnTo>
                    <a:lnTo>
                      <a:pt x="144" y="0"/>
                    </a:lnTo>
                    <a:lnTo>
                      <a:pt x="156" y="0"/>
                    </a:lnTo>
                    <a:lnTo>
                      <a:pt x="166" y="1"/>
                    </a:lnTo>
                    <a:lnTo>
                      <a:pt x="177" y="3"/>
                    </a:lnTo>
                    <a:lnTo>
                      <a:pt x="186" y="5"/>
                    </a:lnTo>
                    <a:lnTo>
                      <a:pt x="196" y="9"/>
                    </a:lnTo>
                    <a:lnTo>
                      <a:pt x="204" y="14"/>
                    </a:lnTo>
                    <a:lnTo>
                      <a:pt x="213" y="18"/>
                    </a:lnTo>
                    <a:lnTo>
                      <a:pt x="221" y="24"/>
                    </a:lnTo>
                    <a:lnTo>
                      <a:pt x="229" y="30"/>
                    </a:lnTo>
                    <a:lnTo>
                      <a:pt x="235" y="37"/>
                    </a:lnTo>
                    <a:lnTo>
                      <a:pt x="241" y="45"/>
                    </a:lnTo>
                    <a:lnTo>
                      <a:pt x="248" y="53"/>
                    </a:lnTo>
                    <a:lnTo>
                      <a:pt x="253" y="62"/>
                    </a:lnTo>
                    <a:lnTo>
                      <a:pt x="257" y="72"/>
                    </a:lnTo>
                    <a:lnTo>
                      <a:pt x="261" y="81"/>
                    </a:lnTo>
                    <a:lnTo>
                      <a:pt x="265" y="93"/>
                    </a:lnTo>
                    <a:lnTo>
                      <a:pt x="224" y="103"/>
                    </a:lnTo>
                    <a:lnTo>
                      <a:pt x="219" y="86"/>
                    </a:lnTo>
                    <a:lnTo>
                      <a:pt x="212" y="72"/>
                    </a:lnTo>
                    <a:lnTo>
                      <a:pt x="207" y="67"/>
                    </a:lnTo>
                    <a:lnTo>
                      <a:pt x="203" y="61"/>
                    </a:lnTo>
                    <a:lnTo>
                      <a:pt x="199" y="56"/>
                    </a:lnTo>
                    <a:lnTo>
                      <a:pt x="194" y="52"/>
                    </a:lnTo>
                    <a:lnTo>
                      <a:pt x="188" y="47"/>
                    </a:lnTo>
                    <a:lnTo>
                      <a:pt x="183" y="44"/>
                    </a:lnTo>
                    <a:lnTo>
                      <a:pt x="178" y="42"/>
                    </a:lnTo>
                    <a:lnTo>
                      <a:pt x="171" y="40"/>
                    </a:lnTo>
                    <a:lnTo>
                      <a:pt x="165" y="38"/>
                    </a:lnTo>
                    <a:lnTo>
                      <a:pt x="158" y="37"/>
                    </a:lnTo>
                    <a:lnTo>
                      <a:pt x="150" y="36"/>
                    </a:lnTo>
                    <a:lnTo>
                      <a:pt x="143" y="36"/>
                    </a:lnTo>
                    <a:lnTo>
                      <a:pt x="134" y="36"/>
                    </a:lnTo>
                    <a:lnTo>
                      <a:pt x="126" y="37"/>
                    </a:lnTo>
                    <a:lnTo>
                      <a:pt x="118" y="38"/>
                    </a:lnTo>
                    <a:lnTo>
                      <a:pt x="111" y="40"/>
                    </a:lnTo>
                    <a:lnTo>
                      <a:pt x="104" y="42"/>
                    </a:lnTo>
                    <a:lnTo>
                      <a:pt x="97" y="45"/>
                    </a:lnTo>
                    <a:lnTo>
                      <a:pt x="91" y="50"/>
                    </a:lnTo>
                    <a:lnTo>
                      <a:pt x="85" y="53"/>
                    </a:lnTo>
                    <a:lnTo>
                      <a:pt x="79" y="58"/>
                    </a:lnTo>
                    <a:lnTo>
                      <a:pt x="74" y="63"/>
                    </a:lnTo>
                    <a:lnTo>
                      <a:pt x="69" y="69"/>
                    </a:lnTo>
                    <a:lnTo>
                      <a:pt x="64" y="74"/>
                    </a:lnTo>
                    <a:lnTo>
                      <a:pt x="60" y="80"/>
                    </a:lnTo>
                    <a:lnTo>
                      <a:pt x="57" y="87"/>
                    </a:lnTo>
                    <a:lnTo>
                      <a:pt x="54" y="93"/>
                    </a:lnTo>
                    <a:lnTo>
                      <a:pt x="52" y="100"/>
                    </a:lnTo>
                    <a:lnTo>
                      <a:pt x="47" y="115"/>
                    </a:lnTo>
                    <a:lnTo>
                      <a:pt x="44" y="131"/>
                    </a:lnTo>
                    <a:lnTo>
                      <a:pt x="42" y="146"/>
                    </a:lnTo>
                    <a:lnTo>
                      <a:pt x="42" y="162"/>
                    </a:lnTo>
                    <a:lnTo>
                      <a:pt x="42" y="182"/>
                    </a:lnTo>
                    <a:lnTo>
                      <a:pt x="44" y="200"/>
                    </a:lnTo>
                    <a:lnTo>
                      <a:pt x="49" y="217"/>
                    </a:lnTo>
                    <a:lnTo>
                      <a:pt x="53" y="233"/>
                    </a:lnTo>
                    <a:lnTo>
                      <a:pt x="56" y="240"/>
                    </a:lnTo>
                    <a:lnTo>
                      <a:pt x="59" y="248"/>
                    </a:lnTo>
                    <a:lnTo>
                      <a:pt x="63" y="254"/>
                    </a:lnTo>
                    <a:lnTo>
                      <a:pt x="68" y="260"/>
                    </a:lnTo>
                    <a:lnTo>
                      <a:pt x="72" y="266"/>
                    </a:lnTo>
                    <a:lnTo>
                      <a:pt x="77" y="270"/>
                    </a:lnTo>
                    <a:lnTo>
                      <a:pt x="82" y="275"/>
                    </a:lnTo>
                    <a:lnTo>
                      <a:pt x="89" y="278"/>
                    </a:lnTo>
                    <a:lnTo>
                      <a:pt x="100" y="286"/>
                    </a:lnTo>
                    <a:lnTo>
                      <a:pt x="113" y="290"/>
                    </a:lnTo>
                    <a:lnTo>
                      <a:pt x="127" y="293"/>
                    </a:lnTo>
                    <a:lnTo>
                      <a:pt x="140" y="294"/>
                    </a:lnTo>
                    <a:lnTo>
                      <a:pt x="148" y="293"/>
                    </a:lnTo>
                    <a:lnTo>
                      <a:pt x="157" y="292"/>
                    </a:lnTo>
                    <a:lnTo>
                      <a:pt x="164" y="291"/>
                    </a:lnTo>
                    <a:lnTo>
                      <a:pt x="171" y="289"/>
                    </a:lnTo>
                    <a:lnTo>
                      <a:pt x="179" y="286"/>
                    </a:lnTo>
                    <a:lnTo>
                      <a:pt x="185" y="283"/>
                    </a:lnTo>
                    <a:lnTo>
                      <a:pt x="192" y="278"/>
                    </a:lnTo>
                    <a:lnTo>
                      <a:pt x="198" y="273"/>
                    </a:lnTo>
                    <a:lnTo>
                      <a:pt x="203" y="268"/>
                    </a:lnTo>
                    <a:lnTo>
                      <a:pt x="208" y="261"/>
                    </a:lnTo>
                    <a:lnTo>
                      <a:pt x="213" y="255"/>
                    </a:lnTo>
                    <a:lnTo>
                      <a:pt x="217" y="248"/>
                    </a:lnTo>
                    <a:lnTo>
                      <a:pt x="221" y="240"/>
                    </a:lnTo>
                    <a:lnTo>
                      <a:pt x="224" y="232"/>
                    </a:lnTo>
                    <a:lnTo>
                      <a:pt x="226" y="222"/>
                    </a:lnTo>
                    <a:lnTo>
                      <a:pt x="230" y="213"/>
                    </a:lnTo>
                    <a:close/>
                  </a:path>
                </a:pathLst>
              </a:custGeom>
              <a:solidFill>
                <a:srgbClr val="1f1a17"/>
              </a:solidFill>
              <a:ln w="0">
                <a:noFill/>
              </a:ln>
            </p:spPr>
            <p:style>
              <a:lnRef idx="0"/>
              <a:fillRef idx="0"/>
              <a:effectRef idx="0"/>
              <a:fontRef idx="minor"/>
            </p:style>
            <p:txBody>
              <a:bodyPr lIns="90000" rIns="90000" tIns="720" bIns="720" anchor="t">
                <a:noAutofit/>
              </a:bodyPr>
              <a:p>
                <a:pPr>
                  <a:lnSpc>
                    <a:spcPct val="100000"/>
                  </a:lnSpc>
                </a:pPr>
                <a:endParaRPr b="0" lang="en-US" sz="1800" spc="-1" strike="noStrike">
                  <a:solidFill>
                    <a:srgbClr val="000000"/>
                  </a:solidFill>
                  <a:latin typeface="Arial"/>
                  <a:ea typeface="宋体"/>
                </a:endParaRPr>
              </a:p>
            </p:txBody>
          </p:sp>
          <p:sp>
            <p:nvSpPr>
              <p:cNvPr id="695" name="Freeform 62"/>
              <p:cNvSpPr/>
              <p:nvPr/>
            </p:nvSpPr>
            <p:spPr>
              <a:xfrm>
                <a:off x="2310840" y="1478160"/>
                <a:ext cx="43560" cy="45360"/>
              </a:xfrm>
              <a:custGeom>
                <a:avLst/>
                <a:gdLst>
                  <a:gd name="textAreaLeft" fmla="*/ 0 w 43560"/>
                  <a:gd name="textAreaRight" fmla="*/ 43920 w 43560"/>
                  <a:gd name="textAreaTop" fmla="*/ 0 h 45360"/>
                  <a:gd name="textAreaBottom" fmla="*/ 45720 h 45360"/>
                </a:gdLst>
                <a:ahLst/>
                <a:rect l="textAreaLeft" t="textAreaTop" r="textAreaRight" b="textAreaBottom"/>
                <a:pathLst>
                  <a:path w="292" h="331">
                    <a:moveTo>
                      <a:pt x="0" y="170"/>
                    </a:moveTo>
                    <a:lnTo>
                      <a:pt x="1" y="150"/>
                    </a:lnTo>
                    <a:lnTo>
                      <a:pt x="4" y="132"/>
                    </a:lnTo>
                    <a:lnTo>
                      <a:pt x="7" y="115"/>
                    </a:lnTo>
                    <a:lnTo>
                      <a:pt x="11" y="99"/>
                    </a:lnTo>
                    <a:lnTo>
                      <a:pt x="16" y="83"/>
                    </a:lnTo>
                    <a:lnTo>
                      <a:pt x="24" y="70"/>
                    </a:lnTo>
                    <a:lnTo>
                      <a:pt x="32" y="57"/>
                    </a:lnTo>
                    <a:lnTo>
                      <a:pt x="42" y="45"/>
                    </a:lnTo>
                    <a:lnTo>
                      <a:pt x="52" y="35"/>
                    </a:lnTo>
                    <a:lnTo>
                      <a:pt x="63" y="25"/>
                    </a:lnTo>
                    <a:lnTo>
                      <a:pt x="76" y="18"/>
                    </a:lnTo>
                    <a:lnTo>
                      <a:pt x="88" y="11"/>
                    </a:lnTo>
                    <a:lnTo>
                      <a:pt x="102" y="6"/>
                    </a:lnTo>
                    <a:lnTo>
                      <a:pt x="116" y="3"/>
                    </a:lnTo>
                    <a:lnTo>
                      <a:pt x="131" y="1"/>
                    </a:lnTo>
                    <a:lnTo>
                      <a:pt x="147" y="0"/>
                    </a:lnTo>
                    <a:lnTo>
                      <a:pt x="157" y="1"/>
                    </a:lnTo>
                    <a:lnTo>
                      <a:pt x="167" y="2"/>
                    </a:lnTo>
                    <a:lnTo>
                      <a:pt x="177" y="3"/>
                    </a:lnTo>
                    <a:lnTo>
                      <a:pt x="187" y="5"/>
                    </a:lnTo>
                    <a:lnTo>
                      <a:pt x="196" y="8"/>
                    </a:lnTo>
                    <a:lnTo>
                      <a:pt x="205" y="12"/>
                    </a:lnTo>
                    <a:lnTo>
                      <a:pt x="214" y="17"/>
                    </a:lnTo>
                    <a:lnTo>
                      <a:pt x="223" y="21"/>
                    </a:lnTo>
                    <a:lnTo>
                      <a:pt x="231" y="27"/>
                    </a:lnTo>
                    <a:lnTo>
                      <a:pt x="239" y="33"/>
                    </a:lnTo>
                    <a:lnTo>
                      <a:pt x="246" y="40"/>
                    </a:lnTo>
                    <a:lnTo>
                      <a:pt x="252" y="46"/>
                    </a:lnTo>
                    <a:lnTo>
                      <a:pt x="259" y="55"/>
                    </a:lnTo>
                    <a:lnTo>
                      <a:pt x="264" y="62"/>
                    </a:lnTo>
                    <a:lnTo>
                      <a:pt x="269" y="71"/>
                    </a:lnTo>
                    <a:lnTo>
                      <a:pt x="275" y="80"/>
                    </a:lnTo>
                    <a:lnTo>
                      <a:pt x="279" y="90"/>
                    </a:lnTo>
                    <a:lnTo>
                      <a:pt x="282" y="100"/>
                    </a:lnTo>
                    <a:lnTo>
                      <a:pt x="285" y="110"/>
                    </a:lnTo>
                    <a:lnTo>
                      <a:pt x="287" y="120"/>
                    </a:lnTo>
                    <a:lnTo>
                      <a:pt x="290" y="131"/>
                    </a:lnTo>
                    <a:lnTo>
                      <a:pt x="291" y="143"/>
                    </a:lnTo>
                    <a:lnTo>
                      <a:pt x="292" y="154"/>
                    </a:lnTo>
                    <a:lnTo>
                      <a:pt x="292" y="166"/>
                    </a:lnTo>
                    <a:lnTo>
                      <a:pt x="292" y="178"/>
                    </a:lnTo>
                    <a:lnTo>
                      <a:pt x="291" y="189"/>
                    </a:lnTo>
                    <a:lnTo>
                      <a:pt x="290" y="201"/>
                    </a:lnTo>
                    <a:lnTo>
                      <a:pt x="287" y="213"/>
                    </a:lnTo>
                    <a:lnTo>
                      <a:pt x="284" y="223"/>
                    </a:lnTo>
                    <a:lnTo>
                      <a:pt x="281" y="234"/>
                    </a:lnTo>
                    <a:lnTo>
                      <a:pt x="278" y="243"/>
                    </a:lnTo>
                    <a:lnTo>
                      <a:pt x="274" y="253"/>
                    </a:lnTo>
                    <a:lnTo>
                      <a:pt x="268" y="262"/>
                    </a:lnTo>
                    <a:lnTo>
                      <a:pt x="263" y="271"/>
                    </a:lnTo>
                    <a:lnTo>
                      <a:pt x="257" y="279"/>
                    </a:lnTo>
                    <a:lnTo>
                      <a:pt x="250" y="287"/>
                    </a:lnTo>
                    <a:lnTo>
                      <a:pt x="244" y="294"/>
                    </a:lnTo>
                    <a:lnTo>
                      <a:pt x="237" y="301"/>
                    </a:lnTo>
                    <a:lnTo>
                      <a:pt x="229" y="306"/>
                    </a:lnTo>
                    <a:lnTo>
                      <a:pt x="221" y="311"/>
                    </a:lnTo>
                    <a:lnTo>
                      <a:pt x="211" y="315"/>
                    </a:lnTo>
                    <a:lnTo>
                      <a:pt x="203" y="320"/>
                    </a:lnTo>
                    <a:lnTo>
                      <a:pt x="194" y="323"/>
                    </a:lnTo>
                    <a:lnTo>
                      <a:pt x="185" y="326"/>
                    </a:lnTo>
                    <a:lnTo>
                      <a:pt x="175" y="328"/>
                    </a:lnTo>
                    <a:lnTo>
                      <a:pt x="166" y="330"/>
                    </a:lnTo>
                    <a:lnTo>
                      <a:pt x="156" y="330"/>
                    </a:lnTo>
                    <a:lnTo>
                      <a:pt x="147" y="331"/>
                    </a:lnTo>
                    <a:lnTo>
                      <a:pt x="136" y="330"/>
                    </a:lnTo>
                    <a:lnTo>
                      <a:pt x="125" y="329"/>
                    </a:lnTo>
                    <a:lnTo>
                      <a:pt x="116" y="328"/>
                    </a:lnTo>
                    <a:lnTo>
                      <a:pt x="105" y="326"/>
                    </a:lnTo>
                    <a:lnTo>
                      <a:pt x="96" y="323"/>
                    </a:lnTo>
                    <a:lnTo>
                      <a:pt x="87" y="319"/>
                    </a:lnTo>
                    <a:lnTo>
                      <a:pt x="78" y="314"/>
                    </a:lnTo>
                    <a:lnTo>
                      <a:pt x="69" y="309"/>
                    </a:lnTo>
                    <a:lnTo>
                      <a:pt x="61" y="304"/>
                    </a:lnTo>
                    <a:lnTo>
                      <a:pt x="53" y="297"/>
                    </a:lnTo>
                    <a:lnTo>
                      <a:pt x="46" y="291"/>
                    </a:lnTo>
                    <a:lnTo>
                      <a:pt x="40" y="284"/>
                    </a:lnTo>
                    <a:lnTo>
                      <a:pt x="33" y="276"/>
                    </a:lnTo>
                    <a:lnTo>
                      <a:pt x="28" y="268"/>
                    </a:lnTo>
                    <a:lnTo>
                      <a:pt x="23" y="259"/>
                    </a:lnTo>
                    <a:lnTo>
                      <a:pt x="18" y="250"/>
                    </a:lnTo>
                    <a:lnTo>
                      <a:pt x="14" y="240"/>
                    </a:lnTo>
                    <a:lnTo>
                      <a:pt x="11" y="231"/>
                    </a:lnTo>
                    <a:lnTo>
                      <a:pt x="8" y="221"/>
                    </a:lnTo>
                    <a:lnTo>
                      <a:pt x="5" y="211"/>
                    </a:lnTo>
                    <a:lnTo>
                      <a:pt x="4" y="201"/>
                    </a:lnTo>
                    <a:lnTo>
                      <a:pt x="1" y="190"/>
                    </a:lnTo>
                    <a:lnTo>
                      <a:pt x="1" y="180"/>
                    </a:lnTo>
                    <a:lnTo>
                      <a:pt x="0" y="170"/>
                    </a:lnTo>
                    <a:close/>
                    <a:moveTo>
                      <a:pt x="43" y="170"/>
                    </a:moveTo>
                    <a:lnTo>
                      <a:pt x="43" y="185"/>
                    </a:lnTo>
                    <a:lnTo>
                      <a:pt x="44" y="198"/>
                    </a:lnTo>
                    <a:lnTo>
                      <a:pt x="46" y="211"/>
                    </a:lnTo>
                    <a:lnTo>
                      <a:pt x="49" y="222"/>
                    </a:lnTo>
                    <a:lnTo>
                      <a:pt x="53" y="233"/>
                    </a:lnTo>
                    <a:lnTo>
                      <a:pt x="59" y="243"/>
                    </a:lnTo>
                    <a:lnTo>
                      <a:pt x="65" y="253"/>
                    </a:lnTo>
                    <a:lnTo>
                      <a:pt x="71" y="261"/>
                    </a:lnTo>
                    <a:lnTo>
                      <a:pt x="80" y="270"/>
                    </a:lnTo>
                    <a:lnTo>
                      <a:pt x="87" y="276"/>
                    </a:lnTo>
                    <a:lnTo>
                      <a:pt x="96" y="282"/>
                    </a:lnTo>
                    <a:lnTo>
                      <a:pt x="105" y="287"/>
                    </a:lnTo>
                    <a:lnTo>
                      <a:pt x="115" y="290"/>
                    </a:lnTo>
                    <a:lnTo>
                      <a:pt x="124" y="293"/>
                    </a:lnTo>
                    <a:lnTo>
                      <a:pt x="135" y="294"/>
                    </a:lnTo>
                    <a:lnTo>
                      <a:pt x="147" y="295"/>
                    </a:lnTo>
                    <a:lnTo>
                      <a:pt x="157" y="294"/>
                    </a:lnTo>
                    <a:lnTo>
                      <a:pt x="168" y="293"/>
                    </a:lnTo>
                    <a:lnTo>
                      <a:pt x="178" y="290"/>
                    </a:lnTo>
                    <a:lnTo>
                      <a:pt x="188" y="287"/>
                    </a:lnTo>
                    <a:lnTo>
                      <a:pt x="196" y="282"/>
                    </a:lnTo>
                    <a:lnTo>
                      <a:pt x="206" y="276"/>
                    </a:lnTo>
                    <a:lnTo>
                      <a:pt x="213" y="269"/>
                    </a:lnTo>
                    <a:lnTo>
                      <a:pt x="221" y="261"/>
                    </a:lnTo>
                    <a:lnTo>
                      <a:pt x="228" y="253"/>
                    </a:lnTo>
                    <a:lnTo>
                      <a:pt x="233" y="242"/>
                    </a:lnTo>
                    <a:lnTo>
                      <a:pt x="239" y="232"/>
                    </a:lnTo>
                    <a:lnTo>
                      <a:pt x="243" y="221"/>
                    </a:lnTo>
                    <a:lnTo>
                      <a:pt x="246" y="208"/>
                    </a:lnTo>
                    <a:lnTo>
                      <a:pt x="248" y="195"/>
                    </a:lnTo>
                    <a:lnTo>
                      <a:pt x="250" y="181"/>
                    </a:lnTo>
                    <a:lnTo>
                      <a:pt x="250" y="166"/>
                    </a:lnTo>
                    <a:lnTo>
                      <a:pt x="249" y="147"/>
                    </a:lnTo>
                    <a:lnTo>
                      <a:pt x="247" y="129"/>
                    </a:lnTo>
                    <a:lnTo>
                      <a:pt x="243" y="113"/>
                    </a:lnTo>
                    <a:lnTo>
                      <a:pt x="238" y="98"/>
                    </a:lnTo>
                    <a:lnTo>
                      <a:pt x="231" y="84"/>
                    </a:lnTo>
                    <a:lnTo>
                      <a:pt x="223" y="72"/>
                    </a:lnTo>
                    <a:lnTo>
                      <a:pt x="218" y="66"/>
                    </a:lnTo>
                    <a:lnTo>
                      <a:pt x="212" y="61"/>
                    </a:lnTo>
                    <a:lnTo>
                      <a:pt x="207" y="57"/>
                    </a:lnTo>
                    <a:lnTo>
                      <a:pt x="202" y="53"/>
                    </a:lnTo>
                    <a:lnTo>
                      <a:pt x="189" y="45"/>
                    </a:lnTo>
                    <a:lnTo>
                      <a:pt x="175" y="41"/>
                    </a:lnTo>
                    <a:lnTo>
                      <a:pt x="161" y="38"/>
                    </a:lnTo>
                    <a:lnTo>
                      <a:pt x="147" y="37"/>
                    </a:lnTo>
                    <a:lnTo>
                      <a:pt x="136" y="37"/>
                    </a:lnTo>
                    <a:lnTo>
                      <a:pt x="126" y="39"/>
                    </a:lnTo>
                    <a:lnTo>
                      <a:pt x="116" y="41"/>
                    </a:lnTo>
                    <a:lnTo>
                      <a:pt x="107" y="44"/>
                    </a:lnTo>
                    <a:lnTo>
                      <a:pt x="98" y="48"/>
                    </a:lnTo>
                    <a:lnTo>
                      <a:pt x="89" y="54"/>
                    </a:lnTo>
                    <a:lnTo>
                      <a:pt x="81" y="60"/>
                    </a:lnTo>
                    <a:lnTo>
                      <a:pt x="73" y="68"/>
                    </a:lnTo>
                    <a:lnTo>
                      <a:pt x="66" y="76"/>
                    </a:lnTo>
                    <a:lnTo>
                      <a:pt x="60" y="86"/>
                    </a:lnTo>
                    <a:lnTo>
                      <a:pt x="54" y="96"/>
                    </a:lnTo>
                    <a:lnTo>
                      <a:pt x="50" y="109"/>
                    </a:lnTo>
                    <a:lnTo>
                      <a:pt x="47" y="123"/>
                    </a:lnTo>
                    <a:lnTo>
                      <a:pt x="44" y="137"/>
                    </a:lnTo>
                    <a:lnTo>
                      <a:pt x="43" y="153"/>
                    </a:lnTo>
                    <a:lnTo>
                      <a:pt x="43" y="170"/>
                    </a:lnTo>
                    <a:close/>
                  </a:path>
                </a:pathLst>
              </a:custGeom>
              <a:solidFill>
                <a:srgbClr val="1f1a17"/>
              </a:solidFill>
              <a:ln w="0">
                <a:noFill/>
              </a:ln>
            </p:spPr>
            <p:style>
              <a:lnRef idx="0"/>
              <a:fillRef idx="0"/>
              <a:effectRef idx="0"/>
              <a:fontRef idx="minor"/>
            </p:style>
            <p:txBody>
              <a:bodyPr lIns="90000" rIns="90000" tIns="720" bIns="720" anchor="t">
                <a:noAutofit/>
              </a:bodyPr>
              <a:p>
                <a:pPr>
                  <a:lnSpc>
                    <a:spcPct val="100000"/>
                  </a:lnSpc>
                </a:pPr>
                <a:endParaRPr b="0" lang="en-US" sz="1800" spc="-1" strike="noStrike">
                  <a:solidFill>
                    <a:srgbClr val="000000"/>
                  </a:solidFill>
                  <a:latin typeface="Arial"/>
                  <a:ea typeface="宋体"/>
                </a:endParaRPr>
              </a:p>
            </p:txBody>
          </p:sp>
          <p:sp>
            <p:nvSpPr>
              <p:cNvPr id="696" name="Freeform 63"/>
              <p:cNvSpPr/>
              <p:nvPr/>
            </p:nvSpPr>
            <p:spPr>
              <a:xfrm>
                <a:off x="2366280" y="1479240"/>
                <a:ext cx="35280" cy="44280"/>
              </a:xfrm>
              <a:custGeom>
                <a:avLst/>
                <a:gdLst>
                  <a:gd name="textAreaLeft" fmla="*/ 0 w 35280"/>
                  <a:gd name="textAreaRight" fmla="*/ 35640 w 35280"/>
                  <a:gd name="textAreaTop" fmla="*/ 0 h 44280"/>
                  <a:gd name="textAreaBottom" fmla="*/ 44640 h 44280"/>
                </a:gdLst>
                <a:ahLst/>
                <a:rect l="textAreaLeft" t="textAreaTop" r="textAreaRight" b="textAreaBottom"/>
                <a:pathLst>
                  <a:path w="240" h="320">
                    <a:moveTo>
                      <a:pt x="0" y="320"/>
                    </a:moveTo>
                    <a:lnTo>
                      <a:pt x="0" y="0"/>
                    </a:lnTo>
                    <a:lnTo>
                      <a:pt x="41" y="0"/>
                    </a:lnTo>
                    <a:lnTo>
                      <a:pt x="201" y="251"/>
                    </a:lnTo>
                    <a:lnTo>
                      <a:pt x="201" y="0"/>
                    </a:lnTo>
                    <a:lnTo>
                      <a:pt x="240" y="0"/>
                    </a:lnTo>
                    <a:lnTo>
                      <a:pt x="240" y="320"/>
                    </a:lnTo>
                    <a:lnTo>
                      <a:pt x="199" y="320"/>
                    </a:lnTo>
                    <a:lnTo>
                      <a:pt x="39" y="68"/>
                    </a:lnTo>
                    <a:lnTo>
                      <a:pt x="39" y="320"/>
                    </a:lnTo>
                    <a:lnTo>
                      <a:pt x="0" y="32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697" name="Freeform 64"/>
              <p:cNvSpPr/>
              <p:nvPr/>
            </p:nvSpPr>
            <p:spPr>
              <a:xfrm>
                <a:off x="2414160" y="1478160"/>
                <a:ext cx="35280" cy="45360"/>
              </a:xfrm>
              <a:custGeom>
                <a:avLst/>
                <a:gdLst>
                  <a:gd name="textAreaLeft" fmla="*/ 0 w 35280"/>
                  <a:gd name="textAreaRight" fmla="*/ 35640 w 35280"/>
                  <a:gd name="textAreaTop" fmla="*/ 0 h 45360"/>
                  <a:gd name="textAreaBottom" fmla="*/ 45720 h 45360"/>
                </a:gdLst>
                <a:ahLst/>
                <a:rect l="textAreaLeft" t="textAreaTop" r="textAreaRight" b="textAreaBottom"/>
                <a:pathLst>
                  <a:path w="242" h="330">
                    <a:moveTo>
                      <a:pt x="0" y="222"/>
                    </a:moveTo>
                    <a:lnTo>
                      <a:pt x="38" y="218"/>
                    </a:lnTo>
                    <a:lnTo>
                      <a:pt x="40" y="230"/>
                    </a:lnTo>
                    <a:lnTo>
                      <a:pt x="42" y="240"/>
                    </a:lnTo>
                    <a:lnTo>
                      <a:pt x="46" y="250"/>
                    </a:lnTo>
                    <a:lnTo>
                      <a:pt x="51" y="257"/>
                    </a:lnTo>
                    <a:lnTo>
                      <a:pt x="56" y="265"/>
                    </a:lnTo>
                    <a:lnTo>
                      <a:pt x="63" y="272"/>
                    </a:lnTo>
                    <a:lnTo>
                      <a:pt x="72" y="277"/>
                    </a:lnTo>
                    <a:lnTo>
                      <a:pt x="81" y="283"/>
                    </a:lnTo>
                    <a:lnTo>
                      <a:pt x="92" y="287"/>
                    </a:lnTo>
                    <a:lnTo>
                      <a:pt x="104" y="290"/>
                    </a:lnTo>
                    <a:lnTo>
                      <a:pt x="115" y="291"/>
                    </a:lnTo>
                    <a:lnTo>
                      <a:pt x="128" y="292"/>
                    </a:lnTo>
                    <a:lnTo>
                      <a:pt x="140" y="291"/>
                    </a:lnTo>
                    <a:lnTo>
                      <a:pt x="150" y="290"/>
                    </a:lnTo>
                    <a:lnTo>
                      <a:pt x="160" y="288"/>
                    </a:lnTo>
                    <a:lnTo>
                      <a:pt x="168" y="285"/>
                    </a:lnTo>
                    <a:lnTo>
                      <a:pt x="177" y="281"/>
                    </a:lnTo>
                    <a:lnTo>
                      <a:pt x="184" y="276"/>
                    </a:lnTo>
                    <a:lnTo>
                      <a:pt x="191" y="271"/>
                    </a:lnTo>
                    <a:lnTo>
                      <a:pt x="195" y="266"/>
                    </a:lnTo>
                    <a:lnTo>
                      <a:pt x="199" y="258"/>
                    </a:lnTo>
                    <a:lnTo>
                      <a:pt x="201" y="252"/>
                    </a:lnTo>
                    <a:lnTo>
                      <a:pt x="203" y="246"/>
                    </a:lnTo>
                    <a:lnTo>
                      <a:pt x="204" y="238"/>
                    </a:lnTo>
                    <a:lnTo>
                      <a:pt x="203" y="231"/>
                    </a:lnTo>
                    <a:lnTo>
                      <a:pt x="202" y="223"/>
                    </a:lnTo>
                    <a:lnTo>
                      <a:pt x="199" y="217"/>
                    </a:lnTo>
                    <a:lnTo>
                      <a:pt x="196" y="212"/>
                    </a:lnTo>
                    <a:lnTo>
                      <a:pt x="191" y="206"/>
                    </a:lnTo>
                    <a:lnTo>
                      <a:pt x="184" y="201"/>
                    </a:lnTo>
                    <a:lnTo>
                      <a:pt x="177" y="197"/>
                    </a:lnTo>
                    <a:lnTo>
                      <a:pt x="168" y="193"/>
                    </a:lnTo>
                    <a:lnTo>
                      <a:pt x="160" y="189"/>
                    </a:lnTo>
                    <a:lnTo>
                      <a:pt x="148" y="186"/>
                    </a:lnTo>
                    <a:lnTo>
                      <a:pt x="133" y="182"/>
                    </a:lnTo>
                    <a:lnTo>
                      <a:pt x="114" y="177"/>
                    </a:lnTo>
                    <a:lnTo>
                      <a:pt x="94" y="171"/>
                    </a:lnTo>
                    <a:lnTo>
                      <a:pt x="78" y="167"/>
                    </a:lnTo>
                    <a:lnTo>
                      <a:pt x="64" y="162"/>
                    </a:lnTo>
                    <a:lnTo>
                      <a:pt x="55" y="157"/>
                    </a:lnTo>
                    <a:lnTo>
                      <a:pt x="44" y="151"/>
                    </a:lnTo>
                    <a:lnTo>
                      <a:pt x="36" y="144"/>
                    </a:lnTo>
                    <a:lnTo>
                      <a:pt x="28" y="135"/>
                    </a:lnTo>
                    <a:lnTo>
                      <a:pt x="22" y="127"/>
                    </a:lnTo>
                    <a:lnTo>
                      <a:pt x="18" y="118"/>
                    </a:lnTo>
                    <a:lnTo>
                      <a:pt x="15" y="109"/>
                    </a:lnTo>
                    <a:lnTo>
                      <a:pt x="13" y="98"/>
                    </a:lnTo>
                    <a:lnTo>
                      <a:pt x="12" y="88"/>
                    </a:lnTo>
                    <a:lnTo>
                      <a:pt x="13" y="76"/>
                    </a:lnTo>
                    <a:lnTo>
                      <a:pt x="15" y="64"/>
                    </a:lnTo>
                    <a:lnTo>
                      <a:pt x="19" y="53"/>
                    </a:lnTo>
                    <a:lnTo>
                      <a:pt x="25" y="42"/>
                    </a:lnTo>
                    <a:lnTo>
                      <a:pt x="32" y="33"/>
                    </a:lnTo>
                    <a:lnTo>
                      <a:pt x="41" y="24"/>
                    </a:lnTo>
                    <a:lnTo>
                      <a:pt x="51" y="17"/>
                    </a:lnTo>
                    <a:lnTo>
                      <a:pt x="63" y="10"/>
                    </a:lnTo>
                    <a:lnTo>
                      <a:pt x="76" y="5"/>
                    </a:lnTo>
                    <a:lnTo>
                      <a:pt x="90" y="2"/>
                    </a:lnTo>
                    <a:lnTo>
                      <a:pt x="104" y="0"/>
                    </a:lnTo>
                    <a:lnTo>
                      <a:pt x="119" y="0"/>
                    </a:lnTo>
                    <a:lnTo>
                      <a:pt x="135" y="0"/>
                    </a:lnTo>
                    <a:lnTo>
                      <a:pt x="151" y="2"/>
                    </a:lnTo>
                    <a:lnTo>
                      <a:pt x="165" y="6"/>
                    </a:lnTo>
                    <a:lnTo>
                      <a:pt x="179" y="10"/>
                    </a:lnTo>
                    <a:lnTo>
                      <a:pt x="191" y="18"/>
                    </a:lnTo>
                    <a:lnTo>
                      <a:pt x="201" y="25"/>
                    </a:lnTo>
                    <a:lnTo>
                      <a:pt x="211" y="34"/>
                    </a:lnTo>
                    <a:lnTo>
                      <a:pt x="218" y="44"/>
                    </a:lnTo>
                    <a:lnTo>
                      <a:pt x="224" y="56"/>
                    </a:lnTo>
                    <a:lnTo>
                      <a:pt x="230" y="69"/>
                    </a:lnTo>
                    <a:lnTo>
                      <a:pt x="232" y="81"/>
                    </a:lnTo>
                    <a:lnTo>
                      <a:pt x="234" y="95"/>
                    </a:lnTo>
                    <a:lnTo>
                      <a:pt x="195" y="98"/>
                    </a:lnTo>
                    <a:lnTo>
                      <a:pt x="194" y="91"/>
                    </a:lnTo>
                    <a:lnTo>
                      <a:pt x="193" y="83"/>
                    </a:lnTo>
                    <a:lnTo>
                      <a:pt x="191" y="77"/>
                    </a:lnTo>
                    <a:lnTo>
                      <a:pt x="188" y="72"/>
                    </a:lnTo>
                    <a:lnTo>
                      <a:pt x="185" y="65"/>
                    </a:lnTo>
                    <a:lnTo>
                      <a:pt x="182" y="61"/>
                    </a:lnTo>
                    <a:lnTo>
                      <a:pt x="178" y="56"/>
                    </a:lnTo>
                    <a:lnTo>
                      <a:pt x="174" y="52"/>
                    </a:lnTo>
                    <a:lnTo>
                      <a:pt x="169" y="48"/>
                    </a:lnTo>
                    <a:lnTo>
                      <a:pt x="164" y="45"/>
                    </a:lnTo>
                    <a:lnTo>
                      <a:pt x="158" y="43"/>
                    </a:lnTo>
                    <a:lnTo>
                      <a:pt x="151" y="41"/>
                    </a:lnTo>
                    <a:lnTo>
                      <a:pt x="145" y="39"/>
                    </a:lnTo>
                    <a:lnTo>
                      <a:pt x="138" y="38"/>
                    </a:lnTo>
                    <a:lnTo>
                      <a:pt x="129" y="37"/>
                    </a:lnTo>
                    <a:lnTo>
                      <a:pt x="121" y="37"/>
                    </a:lnTo>
                    <a:lnTo>
                      <a:pt x="104" y="38"/>
                    </a:lnTo>
                    <a:lnTo>
                      <a:pt x="89" y="40"/>
                    </a:lnTo>
                    <a:lnTo>
                      <a:pt x="82" y="42"/>
                    </a:lnTo>
                    <a:lnTo>
                      <a:pt x="77" y="44"/>
                    </a:lnTo>
                    <a:lnTo>
                      <a:pt x="72" y="47"/>
                    </a:lnTo>
                    <a:lnTo>
                      <a:pt x="68" y="51"/>
                    </a:lnTo>
                    <a:lnTo>
                      <a:pt x="60" y="58"/>
                    </a:lnTo>
                    <a:lnTo>
                      <a:pt x="55" y="67"/>
                    </a:lnTo>
                    <a:lnTo>
                      <a:pt x="53" y="71"/>
                    </a:lnTo>
                    <a:lnTo>
                      <a:pt x="52" y="75"/>
                    </a:lnTo>
                    <a:lnTo>
                      <a:pt x="51" y="80"/>
                    </a:lnTo>
                    <a:lnTo>
                      <a:pt x="51" y="85"/>
                    </a:lnTo>
                    <a:lnTo>
                      <a:pt x="52" y="93"/>
                    </a:lnTo>
                    <a:lnTo>
                      <a:pt x="54" y="100"/>
                    </a:lnTo>
                    <a:lnTo>
                      <a:pt x="57" y="107"/>
                    </a:lnTo>
                    <a:lnTo>
                      <a:pt x="62" y="113"/>
                    </a:lnTo>
                    <a:lnTo>
                      <a:pt x="66" y="116"/>
                    </a:lnTo>
                    <a:lnTo>
                      <a:pt x="71" y="118"/>
                    </a:lnTo>
                    <a:lnTo>
                      <a:pt x="76" y="122"/>
                    </a:lnTo>
                    <a:lnTo>
                      <a:pt x="84" y="125"/>
                    </a:lnTo>
                    <a:lnTo>
                      <a:pt x="100" y="130"/>
                    </a:lnTo>
                    <a:lnTo>
                      <a:pt x="123" y="135"/>
                    </a:lnTo>
                    <a:lnTo>
                      <a:pt x="146" y="142"/>
                    </a:lnTo>
                    <a:lnTo>
                      <a:pt x="165" y="147"/>
                    </a:lnTo>
                    <a:lnTo>
                      <a:pt x="180" y="151"/>
                    </a:lnTo>
                    <a:lnTo>
                      <a:pt x="191" y="157"/>
                    </a:lnTo>
                    <a:lnTo>
                      <a:pt x="203" y="163"/>
                    </a:lnTo>
                    <a:lnTo>
                      <a:pt x="214" y="170"/>
                    </a:lnTo>
                    <a:lnTo>
                      <a:pt x="222" y="180"/>
                    </a:lnTo>
                    <a:lnTo>
                      <a:pt x="230" y="188"/>
                    </a:lnTo>
                    <a:lnTo>
                      <a:pt x="235" y="199"/>
                    </a:lnTo>
                    <a:lnTo>
                      <a:pt x="239" y="211"/>
                    </a:lnTo>
                    <a:lnTo>
                      <a:pt x="241" y="222"/>
                    </a:lnTo>
                    <a:lnTo>
                      <a:pt x="242" y="234"/>
                    </a:lnTo>
                    <a:lnTo>
                      <a:pt x="241" y="247"/>
                    </a:lnTo>
                    <a:lnTo>
                      <a:pt x="239" y="259"/>
                    </a:lnTo>
                    <a:lnTo>
                      <a:pt x="235" y="271"/>
                    </a:lnTo>
                    <a:lnTo>
                      <a:pt x="229" y="283"/>
                    </a:lnTo>
                    <a:lnTo>
                      <a:pt x="221" y="293"/>
                    </a:lnTo>
                    <a:lnTo>
                      <a:pt x="212" y="303"/>
                    </a:lnTo>
                    <a:lnTo>
                      <a:pt x="201" y="310"/>
                    </a:lnTo>
                    <a:lnTo>
                      <a:pt x="188" y="318"/>
                    </a:lnTo>
                    <a:lnTo>
                      <a:pt x="176" y="323"/>
                    </a:lnTo>
                    <a:lnTo>
                      <a:pt x="161" y="327"/>
                    </a:lnTo>
                    <a:lnTo>
                      <a:pt x="146" y="329"/>
                    </a:lnTo>
                    <a:lnTo>
                      <a:pt x="130" y="330"/>
                    </a:lnTo>
                    <a:lnTo>
                      <a:pt x="110" y="329"/>
                    </a:lnTo>
                    <a:lnTo>
                      <a:pt x="92" y="327"/>
                    </a:lnTo>
                    <a:lnTo>
                      <a:pt x="75" y="323"/>
                    </a:lnTo>
                    <a:lnTo>
                      <a:pt x="60" y="318"/>
                    </a:lnTo>
                    <a:lnTo>
                      <a:pt x="54" y="314"/>
                    </a:lnTo>
                    <a:lnTo>
                      <a:pt x="48" y="310"/>
                    </a:lnTo>
                    <a:lnTo>
                      <a:pt x="41" y="306"/>
                    </a:lnTo>
                    <a:lnTo>
                      <a:pt x="36" y="302"/>
                    </a:lnTo>
                    <a:lnTo>
                      <a:pt x="31" y="296"/>
                    </a:lnTo>
                    <a:lnTo>
                      <a:pt x="25" y="291"/>
                    </a:lnTo>
                    <a:lnTo>
                      <a:pt x="21" y="286"/>
                    </a:lnTo>
                    <a:lnTo>
                      <a:pt x="17" y="280"/>
                    </a:lnTo>
                    <a:lnTo>
                      <a:pt x="9" y="267"/>
                    </a:lnTo>
                    <a:lnTo>
                      <a:pt x="5" y="252"/>
                    </a:lnTo>
                    <a:lnTo>
                      <a:pt x="1" y="237"/>
                    </a:lnTo>
                    <a:lnTo>
                      <a:pt x="0" y="222"/>
                    </a:lnTo>
                    <a:close/>
                  </a:path>
                </a:pathLst>
              </a:custGeom>
              <a:solidFill>
                <a:srgbClr val="1f1a17"/>
              </a:solidFill>
              <a:ln w="0">
                <a:noFill/>
              </a:ln>
            </p:spPr>
            <p:style>
              <a:lnRef idx="0"/>
              <a:fillRef idx="0"/>
              <a:effectRef idx="0"/>
              <a:fontRef idx="minor"/>
            </p:style>
            <p:txBody>
              <a:bodyPr lIns="90000" rIns="90000" tIns="720" bIns="720" anchor="t">
                <a:noAutofit/>
              </a:bodyPr>
              <a:p>
                <a:pPr>
                  <a:lnSpc>
                    <a:spcPct val="100000"/>
                  </a:lnSpc>
                </a:pPr>
                <a:endParaRPr b="0" lang="en-US" sz="1800" spc="-1" strike="noStrike">
                  <a:solidFill>
                    <a:srgbClr val="000000"/>
                  </a:solidFill>
                  <a:latin typeface="Arial"/>
                  <a:ea typeface="宋体"/>
                </a:endParaRPr>
              </a:p>
            </p:txBody>
          </p:sp>
          <p:sp>
            <p:nvSpPr>
              <p:cNvPr id="698" name="Freeform 65"/>
              <p:cNvSpPr/>
              <p:nvPr/>
            </p:nvSpPr>
            <p:spPr>
              <a:xfrm>
                <a:off x="2462400" y="1479240"/>
                <a:ext cx="35280" cy="44280"/>
              </a:xfrm>
              <a:custGeom>
                <a:avLst/>
                <a:gdLst>
                  <a:gd name="textAreaLeft" fmla="*/ 0 w 35280"/>
                  <a:gd name="textAreaRight" fmla="*/ 35640 w 35280"/>
                  <a:gd name="textAreaTop" fmla="*/ 0 h 44280"/>
                  <a:gd name="textAreaBottom" fmla="*/ 44640 h 44280"/>
                </a:gdLst>
                <a:ahLst/>
                <a:rect l="textAreaLeft" t="textAreaTop" r="textAreaRight" b="textAreaBottom"/>
                <a:pathLst>
                  <a:path w="239" h="325">
                    <a:moveTo>
                      <a:pt x="199" y="0"/>
                    </a:moveTo>
                    <a:lnTo>
                      <a:pt x="239" y="0"/>
                    </a:lnTo>
                    <a:lnTo>
                      <a:pt x="239" y="184"/>
                    </a:lnTo>
                    <a:lnTo>
                      <a:pt x="239" y="208"/>
                    </a:lnTo>
                    <a:lnTo>
                      <a:pt x="237" y="228"/>
                    </a:lnTo>
                    <a:lnTo>
                      <a:pt x="234" y="246"/>
                    </a:lnTo>
                    <a:lnTo>
                      <a:pt x="229" y="261"/>
                    </a:lnTo>
                    <a:lnTo>
                      <a:pt x="227" y="268"/>
                    </a:lnTo>
                    <a:lnTo>
                      <a:pt x="223" y="275"/>
                    </a:lnTo>
                    <a:lnTo>
                      <a:pt x="219" y="281"/>
                    </a:lnTo>
                    <a:lnTo>
                      <a:pt x="215" y="287"/>
                    </a:lnTo>
                    <a:lnTo>
                      <a:pt x="210" y="293"/>
                    </a:lnTo>
                    <a:lnTo>
                      <a:pt x="204" y="298"/>
                    </a:lnTo>
                    <a:lnTo>
                      <a:pt x="198" y="303"/>
                    </a:lnTo>
                    <a:lnTo>
                      <a:pt x="192" y="307"/>
                    </a:lnTo>
                    <a:lnTo>
                      <a:pt x="184" y="312"/>
                    </a:lnTo>
                    <a:lnTo>
                      <a:pt x="177" y="315"/>
                    </a:lnTo>
                    <a:lnTo>
                      <a:pt x="169" y="318"/>
                    </a:lnTo>
                    <a:lnTo>
                      <a:pt x="160" y="321"/>
                    </a:lnTo>
                    <a:lnTo>
                      <a:pt x="151" y="322"/>
                    </a:lnTo>
                    <a:lnTo>
                      <a:pt x="142" y="324"/>
                    </a:lnTo>
                    <a:lnTo>
                      <a:pt x="131" y="324"/>
                    </a:lnTo>
                    <a:lnTo>
                      <a:pt x="121" y="325"/>
                    </a:lnTo>
                    <a:lnTo>
                      <a:pt x="110" y="325"/>
                    </a:lnTo>
                    <a:lnTo>
                      <a:pt x="101" y="324"/>
                    </a:lnTo>
                    <a:lnTo>
                      <a:pt x="91" y="323"/>
                    </a:lnTo>
                    <a:lnTo>
                      <a:pt x="82" y="321"/>
                    </a:lnTo>
                    <a:lnTo>
                      <a:pt x="73" y="319"/>
                    </a:lnTo>
                    <a:lnTo>
                      <a:pt x="65" y="317"/>
                    </a:lnTo>
                    <a:lnTo>
                      <a:pt x="57" y="314"/>
                    </a:lnTo>
                    <a:lnTo>
                      <a:pt x="51" y="309"/>
                    </a:lnTo>
                    <a:lnTo>
                      <a:pt x="44" y="305"/>
                    </a:lnTo>
                    <a:lnTo>
                      <a:pt x="38" y="301"/>
                    </a:lnTo>
                    <a:lnTo>
                      <a:pt x="33" y="296"/>
                    </a:lnTo>
                    <a:lnTo>
                      <a:pt x="28" y="290"/>
                    </a:lnTo>
                    <a:lnTo>
                      <a:pt x="22" y="285"/>
                    </a:lnTo>
                    <a:lnTo>
                      <a:pt x="18" y="279"/>
                    </a:lnTo>
                    <a:lnTo>
                      <a:pt x="15" y="272"/>
                    </a:lnTo>
                    <a:lnTo>
                      <a:pt x="12" y="265"/>
                    </a:lnTo>
                    <a:lnTo>
                      <a:pt x="6" y="249"/>
                    </a:lnTo>
                    <a:lnTo>
                      <a:pt x="3" y="230"/>
                    </a:lnTo>
                    <a:lnTo>
                      <a:pt x="1" y="209"/>
                    </a:lnTo>
                    <a:lnTo>
                      <a:pt x="0" y="184"/>
                    </a:lnTo>
                    <a:lnTo>
                      <a:pt x="0" y="0"/>
                    </a:lnTo>
                    <a:lnTo>
                      <a:pt x="40" y="0"/>
                    </a:lnTo>
                    <a:lnTo>
                      <a:pt x="40" y="184"/>
                    </a:lnTo>
                    <a:lnTo>
                      <a:pt x="41" y="204"/>
                    </a:lnTo>
                    <a:lnTo>
                      <a:pt x="42" y="220"/>
                    </a:lnTo>
                    <a:lnTo>
                      <a:pt x="44" y="234"/>
                    </a:lnTo>
                    <a:lnTo>
                      <a:pt x="48" y="246"/>
                    </a:lnTo>
                    <a:lnTo>
                      <a:pt x="52" y="255"/>
                    </a:lnTo>
                    <a:lnTo>
                      <a:pt x="58" y="263"/>
                    </a:lnTo>
                    <a:lnTo>
                      <a:pt x="65" y="270"/>
                    </a:lnTo>
                    <a:lnTo>
                      <a:pt x="73" y="277"/>
                    </a:lnTo>
                    <a:lnTo>
                      <a:pt x="83" y="281"/>
                    </a:lnTo>
                    <a:lnTo>
                      <a:pt x="93" y="284"/>
                    </a:lnTo>
                    <a:lnTo>
                      <a:pt x="105" y="286"/>
                    </a:lnTo>
                    <a:lnTo>
                      <a:pt x="116" y="287"/>
                    </a:lnTo>
                    <a:lnTo>
                      <a:pt x="128" y="286"/>
                    </a:lnTo>
                    <a:lnTo>
                      <a:pt x="138" y="286"/>
                    </a:lnTo>
                    <a:lnTo>
                      <a:pt x="147" y="284"/>
                    </a:lnTo>
                    <a:lnTo>
                      <a:pt x="155" y="282"/>
                    </a:lnTo>
                    <a:lnTo>
                      <a:pt x="163" y="279"/>
                    </a:lnTo>
                    <a:lnTo>
                      <a:pt x="169" y="276"/>
                    </a:lnTo>
                    <a:lnTo>
                      <a:pt x="176" y="270"/>
                    </a:lnTo>
                    <a:lnTo>
                      <a:pt x="180" y="266"/>
                    </a:lnTo>
                    <a:lnTo>
                      <a:pt x="185" y="260"/>
                    </a:lnTo>
                    <a:lnTo>
                      <a:pt x="189" y="252"/>
                    </a:lnTo>
                    <a:lnTo>
                      <a:pt x="192" y="245"/>
                    </a:lnTo>
                    <a:lnTo>
                      <a:pt x="195" y="235"/>
                    </a:lnTo>
                    <a:lnTo>
                      <a:pt x="197" y="224"/>
                    </a:lnTo>
                    <a:lnTo>
                      <a:pt x="198" y="212"/>
                    </a:lnTo>
                    <a:lnTo>
                      <a:pt x="199" y="199"/>
                    </a:lnTo>
                    <a:lnTo>
                      <a:pt x="199" y="184"/>
                    </a:lnTo>
                    <a:lnTo>
                      <a:pt x="199" y="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699" name="Freeform 66"/>
              <p:cNvSpPr/>
              <p:nvPr/>
            </p:nvSpPr>
            <p:spPr>
              <a:xfrm>
                <a:off x="2511360" y="1479240"/>
                <a:ext cx="27720" cy="44280"/>
              </a:xfrm>
              <a:custGeom>
                <a:avLst/>
                <a:gdLst>
                  <a:gd name="textAreaLeft" fmla="*/ 0 w 27720"/>
                  <a:gd name="textAreaRight" fmla="*/ 28080 w 27720"/>
                  <a:gd name="textAreaTop" fmla="*/ 0 h 44280"/>
                  <a:gd name="textAreaBottom" fmla="*/ 44640 h 44280"/>
                </a:gdLst>
                <a:ahLst/>
                <a:rect l="textAreaLeft" t="textAreaTop" r="textAreaRight" b="textAreaBottom"/>
                <a:pathLst>
                  <a:path w="191" h="320">
                    <a:moveTo>
                      <a:pt x="0" y="320"/>
                    </a:moveTo>
                    <a:lnTo>
                      <a:pt x="0" y="0"/>
                    </a:lnTo>
                    <a:lnTo>
                      <a:pt x="41" y="0"/>
                    </a:lnTo>
                    <a:lnTo>
                      <a:pt x="41" y="282"/>
                    </a:lnTo>
                    <a:lnTo>
                      <a:pt x="191" y="282"/>
                    </a:lnTo>
                    <a:lnTo>
                      <a:pt x="191" y="320"/>
                    </a:lnTo>
                    <a:lnTo>
                      <a:pt x="0" y="32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700" name="Freeform 67"/>
              <p:cNvSpPr/>
              <p:nvPr/>
            </p:nvSpPr>
            <p:spPr>
              <a:xfrm>
                <a:off x="2542680" y="1479240"/>
                <a:ext cx="36000" cy="44280"/>
              </a:xfrm>
              <a:custGeom>
                <a:avLst/>
                <a:gdLst>
                  <a:gd name="textAreaLeft" fmla="*/ 0 w 36000"/>
                  <a:gd name="textAreaRight" fmla="*/ 36360 w 36000"/>
                  <a:gd name="textAreaTop" fmla="*/ 0 h 44280"/>
                  <a:gd name="textAreaBottom" fmla="*/ 44640 h 44280"/>
                </a:gdLst>
                <a:ahLst/>
                <a:rect l="textAreaLeft" t="textAreaTop" r="textAreaRight" b="textAreaBottom"/>
                <a:pathLst>
                  <a:path w="242" h="320">
                    <a:moveTo>
                      <a:pt x="101" y="320"/>
                    </a:moveTo>
                    <a:lnTo>
                      <a:pt x="101" y="37"/>
                    </a:lnTo>
                    <a:lnTo>
                      <a:pt x="0" y="37"/>
                    </a:lnTo>
                    <a:lnTo>
                      <a:pt x="0" y="0"/>
                    </a:lnTo>
                    <a:lnTo>
                      <a:pt x="242" y="0"/>
                    </a:lnTo>
                    <a:lnTo>
                      <a:pt x="242" y="37"/>
                    </a:lnTo>
                    <a:lnTo>
                      <a:pt x="141" y="37"/>
                    </a:lnTo>
                    <a:lnTo>
                      <a:pt x="141" y="320"/>
                    </a:lnTo>
                    <a:lnTo>
                      <a:pt x="101" y="32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701" name="Rectangle 68"/>
              <p:cNvSpPr/>
              <p:nvPr/>
            </p:nvSpPr>
            <p:spPr>
              <a:xfrm>
                <a:off x="2589840" y="1479240"/>
                <a:ext cx="5760" cy="44280"/>
              </a:xfrm>
              <a:prstGeom prst="rect">
                <a:avLst/>
              </a:pr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702" name="Freeform 69"/>
              <p:cNvSpPr/>
              <p:nvPr/>
            </p:nvSpPr>
            <p:spPr>
              <a:xfrm>
                <a:off x="2610720" y="1479240"/>
                <a:ext cx="35280" cy="44280"/>
              </a:xfrm>
              <a:custGeom>
                <a:avLst/>
                <a:gdLst>
                  <a:gd name="textAreaLeft" fmla="*/ 0 w 35280"/>
                  <a:gd name="textAreaRight" fmla="*/ 35640 w 35280"/>
                  <a:gd name="textAreaTop" fmla="*/ 0 h 44280"/>
                  <a:gd name="textAreaBottom" fmla="*/ 44640 h 44280"/>
                </a:gdLst>
                <a:ahLst/>
                <a:rect l="textAreaLeft" t="textAreaTop" r="textAreaRight" b="textAreaBottom"/>
                <a:pathLst>
                  <a:path w="241" h="320">
                    <a:moveTo>
                      <a:pt x="0" y="320"/>
                    </a:moveTo>
                    <a:lnTo>
                      <a:pt x="0" y="0"/>
                    </a:lnTo>
                    <a:lnTo>
                      <a:pt x="42" y="0"/>
                    </a:lnTo>
                    <a:lnTo>
                      <a:pt x="202" y="251"/>
                    </a:lnTo>
                    <a:lnTo>
                      <a:pt x="202" y="0"/>
                    </a:lnTo>
                    <a:lnTo>
                      <a:pt x="241" y="0"/>
                    </a:lnTo>
                    <a:lnTo>
                      <a:pt x="241" y="320"/>
                    </a:lnTo>
                    <a:lnTo>
                      <a:pt x="200" y="320"/>
                    </a:lnTo>
                    <a:lnTo>
                      <a:pt x="40" y="68"/>
                    </a:lnTo>
                    <a:lnTo>
                      <a:pt x="40" y="320"/>
                    </a:lnTo>
                    <a:lnTo>
                      <a:pt x="0" y="32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703" name="Freeform 70"/>
              <p:cNvSpPr/>
              <p:nvPr/>
            </p:nvSpPr>
            <p:spPr>
              <a:xfrm>
                <a:off x="2658600" y="1478160"/>
                <a:ext cx="41400" cy="45360"/>
              </a:xfrm>
              <a:custGeom>
                <a:avLst/>
                <a:gdLst>
                  <a:gd name="textAreaLeft" fmla="*/ 0 w 41400"/>
                  <a:gd name="textAreaRight" fmla="*/ 41760 w 41400"/>
                  <a:gd name="textAreaTop" fmla="*/ 0 h 45360"/>
                  <a:gd name="textAreaBottom" fmla="*/ 45720 h 45360"/>
                </a:gdLst>
                <a:ahLst/>
                <a:rect l="textAreaLeft" t="textAreaTop" r="textAreaRight" b="textAreaBottom"/>
                <a:pathLst>
                  <a:path w="282" h="330">
                    <a:moveTo>
                      <a:pt x="154" y="199"/>
                    </a:moveTo>
                    <a:lnTo>
                      <a:pt x="154" y="162"/>
                    </a:lnTo>
                    <a:lnTo>
                      <a:pt x="282" y="162"/>
                    </a:lnTo>
                    <a:lnTo>
                      <a:pt x="282" y="281"/>
                    </a:lnTo>
                    <a:lnTo>
                      <a:pt x="267" y="292"/>
                    </a:lnTo>
                    <a:lnTo>
                      <a:pt x="253" y="302"/>
                    </a:lnTo>
                    <a:lnTo>
                      <a:pt x="237" y="310"/>
                    </a:lnTo>
                    <a:lnTo>
                      <a:pt x="222" y="318"/>
                    </a:lnTo>
                    <a:lnTo>
                      <a:pt x="206" y="323"/>
                    </a:lnTo>
                    <a:lnTo>
                      <a:pt x="189" y="327"/>
                    </a:lnTo>
                    <a:lnTo>
                      <a:pt x="173" y="329"/>
                    </a:lnTo>
                    <a:lnTo>
                      <a:pt x="156" y="330"/>
                    </a:lnTo>
                    <a:lnTo>
                      <a:pt x="146" y="329"/>
                    </a:lnTo>
                    <a:lnTo>
                      <a:pt x="135" y="329"/>
                    </a:lnTo>
                    <a:lnTo>
                      <a:pt x="124" y="327"/>
                    </a:lnTo>
                    <a:lnTo>
                      <a:pt x="114" y="325"/>
                    </a:lnTo>
                    <a:lnTo>
                      <a:pt x="103" y="322"/>
                    </a:lnTo>
                    <a:lnTo>
                      <a:pt x="94" y="319"/>
                    </a:lnTo>
                    <a:lnTo>
                      <a:pt x="84" y="314"/>
                    </a:lnTo>
                    <a:lnTo>
                      <a:pt x="75" y="310"/>
                    </a:lnTo>
                    <a:lnTo>
                      <a:pt x="66" y="305"/>
                    </a:lnTo>
                    <a:lnTo>
                      <a:pt x="58" y="299"/>
                    </a:lnTo>
                    <a:lnTo>
                      <a:pt x="50" y="292"/>
                    </a:lnTo>
                    <a:lnTo>
                      <a:pt x="43" y="285"/>
                    </a:lnTo>
                    <a:lnTo>
                      <a:pt x="37" y="277"/>
                    </a:lnTo>
                    <a:lnTo>
                      <a:pt x="30" y="270"/>
                    </a:lnTo>
                    <a:lnTo>
                      <a:pt x="25" y="260"/>
                    </a:lnTo>
                    <a:lnTo>
                      <a:pt x="20" y="252"/>
                    </a:lnTo>
                    <a:lnTo>
                      <a:pt x="15" y="242"/>
                    </a:lnTo>
                    <a:lnTo>
                      <a:pt x="11" y="232"/>
                    </a:lnTo>
                    <a:lnTo>
                      <a:pt x="8" y="221"/>
                    </a:lnTo>
                    <a:lnTo>
                      <a:pt x="6" y="212"/>
                    </a:lnTo>
                    <a:lnTo>
                      <a:pt x="4" y="200"/>
                    </a:lnTo>
                    <a:lnTo>
                      <a:pt x="2" y="189"/>
                    </a:lnTo>
                    <a:lnTo>
                      <a:pt x="2" y="178"/>
                    </a:lnTo>
                    <a:lnTo>
                      <a:pt x="0" y="166"/>
                    </a:lnTo>
                    <a:lnTo>
                      <a:pt x="2" y="154"/>
                    </a:lnTo>
                    <a:lnTo>
                      <a:pt x="2" y="143"/>
                    </a:lnTo>
                    <a:lnTo>
                      <a:pt x="4" y="132"/>
                    </a:lnTo>
                    <a:lnTo>
                      <a:pt x="6" y="122"/>
                    </a:lnTo>
                    <a:lnTo>
                      <a:pt x="8" y="110"/>
                    </a:lnTo>
                    <a:lnTo>
                      <a:pt x="11" y="99"/>
                    </a:lnTo>
                    <a:lnTo>
                      <a:pt x="15" y="90"/>
                    </a:lnTo>
                    <a:lnTo>
                      <a:pt x="20" y="79"/>
                    </a:lnTo>
                    <a:lnTo>
                      <a:pt x="25" y="70"/>
                    </a:lnTo>
                    <a:lnTo>
                      <a:pt x="30" y="60"/>
                    </a:lnTo>
                    <a:lnTo>
                      <a:pt x="35" y="52"/>
                    </a:lnTo>
                    <a:lnTo>
                      <a:pt x="42" y="44"/>
                    </a:lnTo>
                    <a:lnTo>
                      <a:pt x="49" y="37"/>
                    </a:lnTo>
                    <a:lnTo>
                      <a:pt x="57" y="30"/>
                    </a:lnTo>
                    <a:lnTo>
                      <a:pt x="64" y="24"/>
                    </a:lnTo>
                    <a:lnTo>
                      <a:pt x="73" y="19"/>
                    </a:lnTo>
                    <a:lnTo>
                      <a:pt x="82" y="15"/>
                    </a:lnTo>
                    <a:lnTo>
                      <a:pt x="92" y="10"/>
                    </a:lnTo>
                    <a:lnTo>
                      <a:pt x="101" y="7"/>
                    </a:lnTo>
                    <a:lnTo>
                      <a:pt x="111" y="4"/>
                    </a:lnTo>
                    <a:lnTo>
                      <a:pt x="121" y="2"/>
                    </a:lnTo>
                    <a:lnTo>
                      <a:pt x="132" y="1"/>
                    </a:lnTo>
                    <a:lnTo>
                      <a:pt x="142" y="0"/>
                    </a:lnTo>
                    <a:lnTo>
                      <a:pt x="153" y="0"/>
                    </a:lnTo>
                    <a:lnTo>
                      <a:pt x="170" y="0"/>
                    </a:lnTo>
                    <a:lnTo>
                      <a:pt x="185" y="2"/>
                    </a:lnTo>
                    <a:lnTo>
                      <a:pt x="200" y="6"/>
                    </a:lnTo>
                    <a:lnTo>
                      <a:pt x="213" y="10"/>
                    </a:lnTo>
                    <a:lnTo>
                      <a:pt x="226" y="17"/>
                    </a:lnTo>
                    <a:lnTo>
                      <a:pt x="237" y="24"/>
                    </a:lnTo>
                    <a:lnTo>
                      <a:pt x="246" y="33"/>
                    </a:lnTo>
                    <a:lnTo>
                      <a:pt x="255" y="42"/>
                    </a:lnTo>
                    <a:lnTo>
                      <a:pt x="262" y="53"/>
                    </a:lnTo>
                    <a:lnTo>
                      <a:pt x="268" y="65"/>
                    </a:lnTo>
                    <a:lnTo>
                      <a:pt x="274" y="79"/>
                    </a:lnTo>
                    <a:lnTo>
                      <a:pt x="278" y="94"/>
                    </a:lnTo>
                    <a:lnTo>
                      <a:pt x="242" y="105"/>
                    </a:lnTo>
                    <a:lnTo>
                      <a:pt x="238" y="93"/>
                    </a:lnTo>
                    <a:lnTo>
                      <a:pt x="234" y="82"/>
                    </a:lnTo>
                    <a:lnTo>
                      <a:pt x="229" y="74"/>
                    </a:lnTo>
                    <a:lnTo>
                      <a:pt x="225" y="67"/>
                    </a:lnTo>
                    <a:lnTo>
                      <a:pt x="219" y="60"/>
                    </a:lnTo>
                    <a:lnTo>
                      <a:pt x="212" y="54"/>
                    </a:lnTo>
                    <a:lnTo>
                      <a:pt x="205" y="48"/>
                    </a:lnTo>
                    <a:lnTo>
                      <a:pt x="195" y="44"/>
                    </a:lnTo>
                    <a:lnTo>
                      <a:pt x="186" y="40"/>
                    </a:lnTo>
                    <a:lnTo>
                      <a:pt x="175" y="38"/>
                    </a:lnTo>
                    <a:lnTo>
                      <a:pt x="165" y="36"/>
                    </a:lnTo>
                    <a:lnTo>
                      <a:pt x="154" y="36"/>
                    </a:lnTo>
                    <a:lnTo>
                      <a:pt x="140" y="36"/>
                    </a:lnTo>
                    <a:lnTo>
                      <a:pt x="128" y="38"/>
                    </a:lnTo>
                    <a:lnTo>
                      <a:pt x="116" y="41"/>
                    </a:lnTo>
                    <a:lnTo>
                      <a:pt x="105" y="44"/>
                    </a:lnTo>
                    <a:lnTo>
                      <a:pt x="96" y="50"/>
                    </a:lnTo>
                    <a:lnTo>
                      <a:pt x="87" y="55"/>
                    </a:lnTo>
                    <a:lnTo>
                      <a:pt x="80" y="61"/>
                    </a:lnTo>
                    <a:lnTo>
                      <a:pt x="74" y="68"/>
                    </a:lnTo>
                    <a:lnTo>
                      <a:pt x="67" y="75"/>
                    </a:lnTo>
                    <a:lnTo>
                      <a:pt x="62" y="82"/>
                    </a:lnTo>
                    <a:lnTo>
                      <a:pt x="58" y="91"/>
                    </a:lnTo>
                    <a:lnTo>
                      <a:pt x="55" y="99"/>
                    </a:lnTo>
                    <a:lnTo>
                      <a:pt x="49" y="114"/>
                    </a:lnTo>
                    <a:lnTo>
                      <a:pt x="45" y="130"/>
                    </a:lnTo>
                    <a:lnTo>
                      <a:pt x="43" y="147"/>
                    </a:lnTo>
                    <a:lnTo>
                      <a:pt x="43" y="164"/>
                    </a:lnTo>
                    <a:lnTo>
                      <a:pt x="43" y="184"/>
                    </a:lnTo>
                    <a:lnTo>
                      <a:pt x="46" y="203"/>
                    </a:lnTo>
                    <a:lnTo>
                      <a:pt x="48" y="212"/>
                    </a:lnTo>
                    <a:lnTo>
                      <a:pt x="50" y="220"/>
                    </a:lnTo>
                    <a:lnTo>
                      <a:pt x="53" y="228"/>
                    </a:lnTo>
                    <a:lnTo>
                      <a:pt x="57" y="235"/>
                    </a:lnTo>
                    <a:lnTo>
                      <a:pt x="60" y="242"/>
                    </a:lnTo>
                    <a:lnTo>
                      <a:pt x="64" y="249"/>
                    </a:lnTo>
                    <a:lnTo>
                      <a:pt x="68" y="255"/>
                    </a:lnTo>
                    <a:lnTo>
                      <a:pt x="74" y="260"/>
                    </a:lnTo>
                    <a:lnTo>
                      <a:pt x="79" y="266"/>
                    </a:lnTo>
                    <a:lnTo>
                      <a:pt x="85" y="270"/>
                    </a:lnTo>
                    <a:lnTo>
                      <a:pt x="91" y="274"/>
                    </a:lnTo>
                    <a:lnTo>
                      <a:pt x="97" y="278"/>
                    </a:lnTo>
                    <a:lnTo>
                      <a:pt x="111" y="284"/>
                    </a:lnTo>
                    <a:lnTo>
                      <a:pt x="124" y="288"/>
                    </a:lnTo>
                    <a:lnTo>
                      <a:pt x="139" y="291"/>
                    </a:lnTo>
                    <a:lnTo>
                      <a:pt x="154" y="292"/>
                    </a:lnTo>
                    <a:lnTo>
                      <a:pt x="167" y="291"/>
                    </a:lnTo>
                    <a:lnTo>
                      <a:pt x="181" y="289"/>
                    </a:lnTo>
                    <a:lnTo>
                      <a:pt x="193" y="286"/>
                    </a:lnTo>
                    <a:lnTo>
                      <a:pt x="205" y="282"/>
                    </a:lnTo>
                    <a:lnTo>
                      <a:pt x="217" y="276"/>
                    </a:lnTo>
                    <a:lnTo>
                      <a:pt x="227" y="270"/>
                    </a:lnTo>
                    <a:lnTo>
                      <a:pt x="236" y="265"/>
                    </a:lnTo>
                    <a:lnTo>
                      <a:pt x="243" y="258"/>
                    </a:lnTo>
                    <a:lnTo>
                      <a:pt x="243" y="199"/>
                    </a:lnTo>
                    <a:lnTo>
                      <a:pt x="154" y="199"/>
                    </a:lnTo>
                    <a:close/>
                  </a:path>
                </a:pathLst>
              </a:custGeom>
              <a:solidFill>
                <a:srgbClr val="1f1a17"/>
              </a:solidFill>
              <a:ln w="0">
                <a:noFill/>
              </a:ln>
            </p:spPr>
            <p:style>
              <a:lnRef idx="0"/>
              <a:fillRef idx="0"/>
              <a:effectRef idx="0"/>
              <a:fontRef idx="minor"/>
            </p:style>
            <p:txBody>
              <a:bodyPr lIns="90000" rIns="90000" tIns="720" bIns="720" anchor="t">
                <a:noAutofit/>
              </a:bodyPr>
              <a:p>
                <a:pPr>
                  <a:lnSpc>
                    <a:spcPct val="100000"/>
                  </a:lnSpc>
                </a:pPr>
                <a:endParaRPr b="0" lang="en-US" sz="1800" spc="-1" strike="noStrike">
                  <a:solidFill>
                    <a:srgbClr val="000000"/>
                  </a:solidFill>
                  <a:latin typeface="Arial"/>
                  <a:ea typeface="宋体"/>
                </a:endParaRPr>
              </a:p>
            </p:txBody>
          </p:sp>
          <p:sp>
            <p:nvSpPr>
              <p:cNvPr id="704" name="Freeform 71"/>
              <p:cNvSpPr/>
              <p:nvPr/>
            </p:nvSpPr>
            <p:spPr>
              <a:xfrm>
                <a:off x="2730600" y="1478160"/>
                <a:ext cx="39240" cy="45360"/>
              </a:xfrm>
              <a:custGeom>
                <a:avLst/>
                <a:gdLst>
                  <a:gd name="textAreaLeft" fmla="*/ 0 w 39240"/>
                  <a:gd name="textAreaRight" fmla="*/ 39600 w 39240"/>
                  <a:gd name="textAreaTop" fmla="*/ 0 h 45360"/>
                  <a:gd name="textAreaBottom" fmla="*/ 45720 h 45360"/>
                </a:gdLst>
                <a:ahLst/>
                <a:rect l="textAreaLeft" t="textAreaTop" r="textAreaRight" b="textAreaBottom"/>
                <a:pathLst>
                  <a:path w="270" h="330">
                    <a:moveTo>
                      <a:pt x="229" y="213"/>
                    </a:moveTo>
                    <a:lnTo>
                      <a:pt x="270" y="223"/>
                    </a:lnTo>
                    <a:lnTo>
                      <a:pt x="266" y="236"/>
                    </a:lnTo>
                    <a:lnTo>
                      <a:pt x="262" y="248"/>
                    </a:lnTo>
                    <a:lnTo>
                      <a:pt x="257" y="258"/>
                    </a:lnTo>
                    <a:lnTo>
                      <a:pt x="252" y="269"/>
                    </a:lnTo>
                    <a:lnTo>
                      <a:pt x="246" y="278"/>
                    </a:lnTo>
                    <a:lnTo>
                      <a:pt x="239" y="288"/>
                    </a:lnTo>
                    <a:lnTo>
                      <a:pt x="231" y="295"/>
                    </a:lnTo>
                    <a:lnTo>
                      <a:pt x="224" y="303"/>
                    </a:lnTo>
                    <a:lnTo>
                      <a:pt x="216" y="309"/>
                    </a:lnTo>
                    <a:lnTo>
                      <a:pt x="207" y="314"/>
                    </a:lnTo>
                    <a:lnTo>
                      <a:pt x="197" y="320"/>
                    </a:lnTo>
                    <a:lnTo>
                      <a:pt x="187" y="323"/>
                    </a:lnTo>
                    <a:lnTo>
                      <a:pt x="177" y="326"/>
                    </a:lnTo>
                    <a:lnTo>
                      <a:pt x="166" y="328"/>
                    </a:lnTo>
                    <a:lnTo>
                      <a:pt x="155" y="329"/>
                    </a:lnTo>
                    <a:lnTo>
                      <a:pt x="143" y="330"/>
                    </a:lnTo>
                    <a:lnTo>
                      <a:pt x="131" y="329"/>
                    </a:lnTo>
                    <a:lnTo>
                      <a:pt x="120" y="329"/>
                    </a:lnTo>
                    <a:lnTo>
                      <a:pt x="109" y="327"/>
                    </a:lnTo>
                    <a:lnTo>
                      <a:pt x="99" y="325"/>
                    </a:lnTo>
                    <a:lnTo>
                      <a:pt x="89" y="322"/>
                    </a:lnTo>
                    <a:lnTo>
                      <a:pt x="80" y="319"/>
                    </a:lnTo>
                    <a:lnTo>
                      <a:pt x="71" y="314"/>
                    </a:lnTo>
                    <a:lnTo>
                      <a:pt x="63" y="309"/>
                    </a:lnTo>
                    <a:lnTo>
                      <a:pt x="56" y="304"/>
                    </a:lnTo>
                    <a:lnTo>
                      <a:pt x="49" y="298"/>
                    </a:lnTo>
                    <a:lnTo>
                      <a:pt x="42" y="290"/>
                    </a:lnTo>
                    <a:lnTo>
                      <a:pt x="36" y="284"/>
                    </a:lnTo>
                    <a:lnTo>
                      <a:pt x="30" y="275"/>
                    </a:lnTo>
                    <a:lnTo>
                      <a:pt x="25" y="267"/>
                    </a:lnTo>
                    <a:lnTo>
                      <a:pt x="21" y="257"/>
                    </a:lnTo>
                    <a:lnTo>
                      <a:pt x="16" y="248"/>
                    </a:lnTo>
                    <a:lnTo>
                      <a:pt x="12" y="238"/>
                    </a:lnTo>
                    <a:lnTo>
                      <a:pt x="9" y="228"/>
                    </a:lnTo>
                    <a:lnTo>
                      <a:pt x="7" y="217"/>
                    </a:lnTo>
                    <a:lnTo>
                      <a:pt x="5" y="206"/>
                    </a:lnTo>
                    <a:lnTo>
                      <a:pt x="3" y="196"/>
                    </a:lnTo>
                    <a:lnTo>
                      <a:pt x="2" y="185"/>
                    </a:lnTo>
                    <a:lnTo>
                      <a:pt x="0" y="174"/>
                    </a:lnTo>
                    <a:lnTo>
                      <a:pt x="0" y="162"/>
                    </a:lnTo>
                    <a:lnTo>
                      <a:pt x="0" y="150"/>
                    </a:lnTo>
                    <a:lnTo>
                      <a:pt x="2" y="139"/>
                    </a:lnTo>
                    <a:lnTo>
                      <a:pt x="3" y="127"/>
                    </a:lnTo>
                    <a:lnTo>
                      <a:pt x="5" y="115"/>
                    </a:lnTo>
                    <a:lnTo>
                      <a:pt x="7" y="105"/>
                    </a:lnTo>
                    <a:lnTo>
                      <a:pt x="10" y="95"/>
                    </a:lnTo>
                    <a:lnTo>
                      <a:pt x="14" y="85"/>
                    </a:lnTo>
                    <a:lnTo>
                      <a:pt x="18" y="75"/>
                    </a:lnTo>
                    <a:lnTo>
                      <a:pt x="23" y="67"/>
                    </a:lnTo>
                    <a:lnTo>
                      <a:pt x="28" y="58"/>
                    </a:lnTo>
                    <a:lnTo>
                      <a:pt x="34" y="50"/>
                    </a:lnTo>
                    <a:lnTo>
                      <a:pt x="41" y="42"/>
                    </a:lnTo>
                    <a:lnTo>
                      <a:pt x="47" y="36"/>
                    </a:lnTo>
                    <a:lnTo>
                      <a:pt x="55" y="29"/>
                    </a:lnTo>
                    <a:lnTo>
                      <a:pt x="62" y="24"/>
                    </a:lnTo>
                    <a:lnTo>
                      <a:pt x="70" y="19"/>
                    </a:lnTo>
                    <a:lnTo>
                      <a:pt x="79" y="15"/>
                    </a:lnTo>
                    <a:lnTo>
                      <a:pt x="87" y="10"/>
                    </a:lnTo>
                    <a:lnTo>
                      <a:pt x="96" y="7"/>
                    </a:lnTo>
                    <a:lnTo>
                      <a:pt x="105" y="4"/>
                    </a:lnTo>
                    <a:lnTo>
                      <a:pt x="115" y="2"/>
                    </a:lnTo>
                    <a:lnTo>
                      <a:pt x="124" y="1"/>
                    </a:lnTo>
                    <a:lnTo>
                      <a:pt x="134" y="0"/>
                    </a:lnTo>
                    <a:lnTo>
                      <a:pt x="143" y="0"/>
                    </a:lnTo>
                    <a:lnTo>
                      <a:pt x="155" y="0"/>
                    </a:lnTo>
                    <a:lnTo>
                      <a:pt x="166" y="1"/>
                    </a:lnTo>
                    <a:lnTo>
                      <a:pt x="176" y="3"/>
                    </a:lnTo>
                    <a:lnTo>
                      <a:pt x="186" y="5"/>
                    </a:lnTo>
                    <a:lnTo>
                      <a:pt x="195" y="9"/>
                    </a:lnTo>
                    <a:lnTo>
                      <a:pt x="204" y="14"/>
                    </a:lnTo>
                    <a:lnTo>
                      <a:pt x="212" y="18"/>
                    </a:lnTo>
                    <a:lnTo>
                      <a:pt x="221" y="24"/>
                    </a:lnTo>
                    <a:lnTo>
                      <a:pt x="228" y="30"/>
                    </a:lnTo>
                    <a:lnTo>
                      <a:pt x="236" y="37"/>
                    </a:lnTo>
                    <a:lnTo>
                      <a:pt x="242" y="45"/>
                    </a:lnTo>
                    <a:lnTo>
                      <a:pt x="247" y="53"/>
                    </a:lnTo>
                    <a:lnTo>
                      <a:pt x="253" y="62"/>
                    </a:lnTo>
                    <a:lnTo>
                      <a:pt x="257" y="72"/>
                    </a:lnTo>
                    <a:lnTo>
                      <a:pt x="261" y="81"/>
                    </a:lnTo>
                    <a:lnTo>
                      <a:pt x="264" y="93"/>
                    </a:lnTo>
                    <a:lnTo>
                      <a:pt x="225" y="103"/>
                    </a:lnTo>
                    <a:lnTo>
                      <a:pt x="219" y="86"/>
                    </a:lnTo>
                    <a:lnTo>
                      <a:pt x="211" y="72"/>
                    </a:lnTo>
                    <a:lnTo>
                      <a:pt x="208" y="67"/>
                    </a:lnTo>
                    <a:lnTo>
                      <a:pt x="203" y="61"/>
                    </a:lnTo>
                    <a:lnTo>
                      <a:pt x="199" y="56"/>
                    </a:lnTo>
                    <a:lnTo>
                      <a:pt x="194" y="52"/>
                    </a:lnTo>
                    <a:lnTo>
                      <a:pt x="189" y="47"/>
                    </a:lnTo>
                    <a:lnTo>
                      <a:pt x="183" y="44"/>
                    </a:lnTo>
                    <a:lnTo>
                      <a:pt x="177" y="42"/>
                    </a:lnTo>
                    <a:lnTo>
                      <a:pt x="171" y="40"/>
                    </a:lnTo>
                    <a:lnTo>
                      <a:pt x="165" y="38"/>
                    </a:lnTo>
                    <a:lnTo>
                      <a:pt x="157" y="37"/>
                    </a:lnTo>
                    <a:lnTo>
                      <a:pt x="151" y="36"/>
                    </a:lnTo>
                    <a:lnTo>
                      <a:pt x="143" y="36"/>
                    </a:lnTo>
                    <a:lnTo>
                      <a:pt x="135" y="36"/>
                    </a:lnTo>
                    <a:lnTo>
                      <a:pt x="127" y="37"/>
                    </a:lnTo>
                    <a:lnTo>
                      <a:pt x="118" y="38"/>
                    </a:lnTo>
                    <a:lnTo>
                      <a:pt x="111" y="40"/>
                    </a:lnTo>
                    <a:lnTo>
                      <a:pt x="103" y="42"/>
                    </a:lnTo>
                    <a:lnTo>
                      <a:pt x="97" y="45"/>
                    </a:lnTo>
                    <a:lnTo>
                      <a:pt x="91" y="50"/>
                    </a:lnTo>
                    <a:lnTo>
                      <a:pt x="84" y="53"/>
                    </a:lnTo>
                    <a:lnTo>
                      <a:pt x="79" y="58"/>
                    </a:lnTo>
                    <a:lnTo>
                      <a:pt x="74" y="63"/>
                    </a:lnTo>
                    <a:lnTo>
                      <a:pt x="68" y="69"/>
                    </a:lnTo>
                    <a:lnTo>
                      <a:pt x="64" y="74"/>
                    </a:lnTo>
                    <a:lnTo>
                      <a:pt x="61" y="80"/>
                    </a:lnTo>
                    <a:lnTo>
                      <a:pt x="57" y="87"/>
                    </a:lnTo>
                    <a:lnTo>
                      <a:pt x="53" y="93"/>
                    </a:lnTo>
                    <a:lnTo>
                      <a:pt x="51" y="100"/>
                    </a:lnTo>
                    <a:lnTo>
                      <a:pt x="47" y="115"/>
                    </a:lnTo>
                    <a:lnTo>
                      <a:pt x="44" y="131"/>
                    </a:lnTo>
                    <a:lnTo>
                      <a:pt x="42" y="146"/>
                    </a:lnTo>
                    <a:lnTo>
                      <a:pt x="42" y="162"/>
                    </a:lnTo>
                    <a:lnTo>
                      <a:pt x="43" y="182"/>
                    </a:lnTo>
                    <a:lnTo>
                      <a:pt x="45" y="200"/>
                    </a:lnTo>
                    <a:lnTo>
                      <a:pt x="48" y="217"/>
                    </a:lnTo>
                    <a:lnTo>
                      <a:pt x="53" y="233"/>
                    </a:lnTo>
                    <a:lnTo>
                      <a:pt x="56" y="240"/>
                    </a:lnTo>
                    <a:lnTo>
                      <a:pt x="60" y="248"/>
                    </a:lnTo>
                    <a:lnTo>
                      <a:pt x="63" y="254"/>
                    </a:lnTo>
                    <a:lnTo>
                      <a:pt x="67" y="260"/>
                    </a:lnTo>
                    <a:lnTo>
                      <a:pt x="73" y="266"/>
                    </a:lnTo>
                    <a:lnTo>
                      <a:pt x="77" y="270"/>
                    </a:lnTo>
                    <a:lnTo>
                      <a:pt x="82" y="275"/>
                    </a:lnTo>
                    <a:lnTo>
                      <a:pt x="88" y="278"/>
                    </a:lnTo>
                    <a:lnTo>
                      <a:pt x="100" y="286"/>
                    </a:lnTo>
                    <a:lnTo>
                      <a:pt x="113" y="290"/>
                    </a:lnTo>
                    <a:lnTo>
                      <a:pt x="127" y="293"/>
                    </a:lnTo>
                    <a:lnTo>
                      <a:pt x="140" y="294"/>
                    </a:lnTo>
                    <a:lnTo>
                      <a:pt x="149" y="293"/>
                    </a:lnTo>
                    <a:lnTo>
                      <a:pt x="156" y="292"/>
                    </a:lnTo>
                    <a:lnTo>
                      <a:pt x="164" y="291"/>
                    </a:lnTo>
                    <a:lnTo>
                      <a:pt x="171" y="289"/>
                    </a:lnTo>
                    <a:lnTo>
                      <a:pt x="178" y="286"/>
                    </a:lnTo>
                    <a:lnTo>
                      <a:pt x="185" y="283"/>
                    </a:lnTo>
                    <a:lnTo>
                      <a:pt x="191" y="278"/>
                    </a:lnTo>
                    <a:lnTo>
                      <a:pt x="197" y="273"/>
                    </a:lnTo>
                    <a:lnTo>
                      <a:pt x="203" y="268"/>
                    </a:lnTo>
                    <a:lnTo>
                      <a:pt x="208" y="261"/>
                    </a:lnTo>
                    <a:lnTo>
                      <a:pt x="212" y="255"/>
                    </a:lnTo>
                    <a:lnTo>
                      <a:pt x="217" y="248"/>
                    </a:lnTo>
                    <a:lnTo>
                      <a:pt x="221" y="240"/>
                    </a:lnTo>
                    <a:lnTo>
                      <a:pt x="224" y="232"/>
                    </a:lnTo>
                    <a:lnTo>
                      <a:pt x="227" y="222"/>
                    </a:lnTo>
                    <a:lnTo>
                      <a:pt x="229" y="213"/>
                    </a:lnTo>
                    <a:close/>
                  </a:path>
                </a:pathLst>
              </a:custGeom>
              <a:solidFill>
                <a:srgbClr val="1f1a17"/>
              </a:solidFill>
              <a:ln w="0">
                <a:noFill/>
              </a:ln>
            </p:spPr>
            <p:style>
              <a:lnRef idx="0"/>
              <a:fillRef idx="0"/>
              <a:effectRef idx="0"/>
              <a:fontRef idx="minor"/>
            </p:style>
            <p:txBody>
              <a:bodyPr lIns="90000" rIns="90000" tIns="720" bIns="720" anchor="t">
                <a:noAutofit/>
              </a:bodyPr>
              <a:p>
                <a:pPr>
                  <a:lnSpc>
                    <a:spcPct val="100000"/>
                  </a:lnSpc>
                </a:pPr>
                <a:endParaRPr b="0" lang="en-US" sz="1800" spc="-1" strike="noStrike">
                  <a:solidFill>
                    <a:srgbClr val="000000"/>
                  </a:solidFill>
                  <a:latin typeface="Arial"/>
                  <a:ea typeface="宋体"/>
                </a:endParaRPr>
              </a:p>
            </p:txBody>
          </p:sp>
          <p:sp>
            <p:nvSpPr>
              <p:cNvPr id="705" name="Freeform 72"/>
              <p:cNvSpPr/>
              <p:nvPr/>
            </p:nvSpPr>
            <p:spPr>
              <a:xfrm>
                <a:off x="2779560" y="1478160"/>
                <a:ext cx="43560" cy="45360"/>
              </a:xfrm>
              <a:custGeom>
                <a:avLst/>
                <a:gdLst>
                  <a:gd name="textAreaLeft" fmla="*/ 0 w 43560"/>
                  <a:gd name="textAreaRight" fmla="*/ 43920 w 43560"/>
                  <a:gd name="textAreaTop" fmla="*/ 0 h 45360"/>
                  <a:gd name="textAreaBottom" fmla="*/ 45720 h 45360"/>
                </a:gdLst>
                <a:ahLst/>
                <a:rect l="textAreaLeft" t="textAreaTop" r="textAreaRight" b="textAreaBottom"/>
                <a:pathLst>
                  <a:path w="291" h="331">
                    <a:moveTo>
                      <a:pt x="0" y="170"/>
                    </a:moveTo>
                    <a:lnTo>
                      <a:pt x="0" y="150"/>
                    </a:lnTo>
                    <a:lnTo>
                      <a:pt x="2" y="132"/>
                    </a:lnTo>
                    <a:lnTo>
                      <a:pt x="5" y="115"/>
                    </a:lnTo>
                    <a:lnTo>
                      <a:pt x="10" y="99"/>
                    </a:lnTo>
                    <a:lnTo>
                      <a:pt x="16" y="83"/>
                    </a:lnTo>
                    <a:lnTo>
                      <a:pt x="22" y="70"/>
                    </a:lnTo>
                    <a:lnTo>
                      <a:pt x="31" y="57"/>
                    </a:lnTo>
                    <a:lnTo>
                      <a:pt x="40" y="45"/>
                    </a:lnTo>
                    <a:lnTo>
                      <a:pt x="51" y="35"/>
                    </a:lnTo>
                    <a:lnTo>
                      <a:pt x="63" y="25"/>
                    </a:lnTo>
                    <a:lnTo>
                      <a:pt x="74" y="18"/>
                    </a:lnTo>
                    <a:lnTo>
                      <a:pt x="87" y="11"/>
                    </a:lnTo>
                    <a:lnTo>
                      <a:pt x="101" y="6"/>
                    </a:lnTo>
                    <a:lnTo>
                      <a:pt x="114" y="3"/>
                    </a:lnTo>
                    <a:lnTo>
                      <a:pt x="129" y="1"/>
                    </a:lnTo>
                    <a:lnTo>
                      <a:pt x="145" y="0"/>
                    </a:lnTo>
                    <a:lnTo>
                      <a:pt x="156" y="1"/>
                    </a:lnTo>
                    <a:lnTo>
                      <a:pt x="166" y="2"/>
                    </a:lnTo>
                    <a:lnTo>
                      <a:pt x="176" y="3"/>
                    </a:lnTo>
                    <a:lnTo>
                      <a:pt x="185" y="5"/>
                    </a:lnTo>
                    <a:lnTo>
                      <a:pt x="195" y="8"/>
                    </a:lnTo>
                    <a:lnTo>
                      <a:pt x="204" y="12"/>
                    </a:lnTo>
                    <a:lnTo>
                      <a:pt x="213" y="17"/>
                    </a:lnTo>
                    <a:lnTo>
                      <a:pt x="221" y="21"/>
                    </a:lnTo>
                    <a:lnTo>
                      <a:pt x="230" y="27"/>
                    </a:lnTo>
                    <a:lnTo>
                      <a:pt x="237" y="33"/>
                    </a:lnTo>
                    <a:lnTo>
                      <a:pt x="245" y="40"/>
                    </a:lnTo>
                    <a:lnTo>
                      <a:pt x="251" y="46"/>
                    </a:lnTo>
                    <a:lnTo>
                      <a:pt x="257" y="55"/>
                    </a:lnTo>
                    <a:lnTo>
                      <a:pt x="264" y="62"/>
                    </a:lnTo>
                    <a:lnTo>
                      <a:pt x="268" y="71"/>
                    </a:lnTo>
                    <a:lnTo>
                      <a:pt x="273" y="80"/>
                    </a:lnTo>
                    <a:lnTo>
                      <a:pt x="278" y="90"/>
                    </a:lnTo>
                    <a:lnTo>
                      <a:pt x="281" y="100"/>
                    </a:lnTo>
                    <a:lnTo>
                      <a:pt x="284" y="110"/>
                    </a:lnTo>
                    <a:lnTo>
                      <a:pt x="286" y="120"/>
                    </a:lnTo>
                    <a:lnTo>
                      <a:pt x="288" y="131"/>
                    </a:lnTo>
                    <a:lnTo>
                      <a:pt x="290" y="143"/>
                    </a:lnTo>
                    <a:lnTo>
                      <a:pt x="290" y="154"/>
                    </a:lnTo>
                    <a:lnTo>
                      <a:pt x="291" y="166"/>
                    </a:lnTo>
                    <a:lnTo>
                      <a:pt x="290" y="178"/>
                    </a:lnTo>
                    <a:lnTo>
                      <a:pt x="290" y="189"/>
                    </a:lnTo>
                    <a:lnTo>
                      <a:pt x="288" y="201"/>
                    </a:lnTo>
                    <a:lnTo>
                      <a:pt x="286" y="213"/>
                    </a:lnTo>
                    <a:lnTo>
                      <a:pt x="284" y="223"/>
                    </a:lnTo>
                    <a:lnTo>
                      <a:pt x="281" y="234"/>
                    </a:lnTo>
                    <a:lnTo>
                      <a:pt x="277" y="243"/>
                    </a:lnTo>
                    <a:lnTo>
                      <a:pt x="272" y="253"/>
                    </a:lnTo>
                    <a:lnTo>
                      <a:pt x="267" y="262"/>
                    </a:lnTo>
                    <a:lnTo>
                      <a:pt x="262" y="271"/>
                    </a:lnTo>
                    <a:lnTo>
                      <a:pt x="256" y="279"/>
                    </a:lnTo>
                    <a:lnTo>
                      <a:pt x="250" y="287"/>
                    </a:lnTo>
                    <a:lnTo>
                      <a:pt x="243" y="294"/>
                    </a:lnTo>
                    <a:lnTo>
                      <a:pt x="235" y="301"/>
                    </a:lnTo>
                    <a:lnTo>
                      <a:pt x="228" y="306"/>
                    </a:lnTo>
                    <a:lnTo>
                      <a:pt x="219" y="311"/>
                    </a:lnTo>
                    <a:lnTo>
                      <a:pt x="211" y="315"/>
                    </a:lnTo>
                    <a:lnTo>
                      <a:pt x="201" y="320"/>
                    </a:lnTo>
                    <a:lnTo>
                      <a:pt x="193" y="323"/>
                    </a:lnTo>
                    <a:lnTo>
                      <a:pt x="183" y="326"/>
                    </a:lnTo>
                    <a:lnTo>
                      <a:pt x="174" y="328"/>
                    </a:lnTo>
                    <a:lnTo>
                      <a:pt x="165" y="330"/>
                    </a:lnTo>
                    <a:lnTo>
                      <a:pt x="155" y="330"/>
                    </a:lnTo>
                    <a:lnTo>
                      <a:pt x="145" y="331"/>
                    </a:lnTo>
                    <a:lnTo>
                      <a:pt x="135" y="330"/>
                    </a:lnTo>
                    <a:lnTo>
                      <a:pt x="124" y="329"/>
                    </a:lnTo>
                    <a:lnTo>
                      <a:pt x="114" y="328"/>
                    </a:lnTo>
                    <a:lnTo>
                      <a:pt x="105" y="326"/>
                    </a:lnTo>
                    <a:lnTo>
                      <a:pt x="95" y="323"/>
                    </a:lnTo>
                    <a:lnTo>
                      <a:pt x="86" y="319"/>
                    </a:lnTo>
                    <a:lnTo>
                      <a:pt x="77" y="314"/>
                    </a:lnTo>
                    <a:lnTo>
                      <a:pt x="69" y="309"/>
                    </a:lnTo>
                    <a:lnTo>
                      <a:pt x="60" y="304"/>
                    </a:lnTo>
                    <a:lnTo>
                      <a:pt x="52" y="297"/>
                    </a:lnTo>
                    <a:lnTo>
                      <a:pt x="46" y="291"/>
                    </a:lnTo>
                    <a:lnTo>
                      <a:pt x="38" y="284"/>
                    </a:lnTo>
                    <a:lnTo>
                      <a:pt x="33" y="276"/>
                    </a:lnTo>
                    <a:lnTo>
                      <a:pt x="27" y="268"/>
                    </a:lnTo>
                    <a:lnTo>
                      <a:pt x="21" y="259"/>
                    </a:lnTo>
                    <a:lnTo>
                      <a:pt x="17" y="250"/>
                    </a:lnTo>
                    <a:lnTo>
                      <a:pt x="13" y="240"/>
                    </a:lnTo>
                    <a:lnTo>
                      <a:pt x="10" y="231"/>
                    </a:lnTo>
                    <a:lnTo>
                      <a:pt x="6" y="221"/>
                    </a:lnTo>
                    <a:lnTo>
                      <a:pt x="4" y="211"/>
                    </a:lnTo>
                    <a:lnTo>
                      <a:pt x="2" y="201"/>
                    </a:lnTo>
                    <a:lnTo>
                      <a:pt x="1" y="190"/>
                    </a:lnTo>
                    <a:lnTo>
                      <a:pt x="0" y="180"/>
                    </a:lnTo>
                    <a:lnTo>
                      <a:pt x="0" y="170"/>
                    </a:lnTo>
                    <a:close/>
                    <a:moveTo>
                      <a:pt x="41" y="170"/>
                    </a:moveTo>
                    <a:lnTo>
                      <a:pt x="41" y="185"/>
                    </a:lnTo>
                    <a:lnTo>
                      <a:pt x="43" y="198"/>
                    </a:lnTo>
                    <a:lnTo>
                      <a:pt x="46" y="211"/>
                    </a:lnTo>
                    <a:lnTo>
                      <a:pt x="49" y="222"/>
                    </a:lnTo>
                    <a:lnTo>
                      <a:pt x="53" y="233"/>
                    </a:lnTo>
                    <a:lnTo>
                      <a:pt x="57" y="243"/>
                    </a:lnTo>
                    <a:lnTo>
                      <a:pt x="64" y="253"/>
                    </a:lnTo>
                    <a:lnTo>
                      <a:pt x="71" y="261"/>
                    </a:lnTo>
                    <a:lnTo>
                      <a:pt x="78" y="270"/>
                    </a:lnTo>
                    <a:lnTo>
                      <a:pt x="87" y="276"/>
                    </a:lnTo>
                    <a:lnTo>
                      <a:pt x="95" y="282"/>
                    </a:lnTo>
                    <a:lnTo>
                      <a:pt x="104" y="287"/>
                    </a:lnTo>
                    <a:lnTo>
                      <a:pt x="113" y="290"/>
                    </a:lnTo>
                    <a:lnTo>
                      <a:pt x="124" y="293"/>
                    </a:lnTo>
                    <a:lnTo>
                      <a:pt x="135" y="294"/>
                    </a:lnTo>
                    <a:lnTo>
                      <a:pt x="145" y="295"/>
                    </a:lnTo>
                    <a:lnTo>
                      <a:pt x="156" y="294"/>
                    </a:lnTo>
                    <a:lnTo>
                      <a:pt x="166" y="293"/>
                    </a:lnTo>
                    <a:lnTo>
                      <a:pt x="177" y="290"/>
                    </a:lnTo>
                    <a:lnTo>
                      <a:pt x="186" y="287"/>
                    </a:lnTo>
                    <a:lnTo>
                      <a:pt x="196" y="282"/>
                    </a:lnTo>
                    <a:lnTo>
                      <a:pt x="204" y="276"/>
                    </a:lnTo>
                    <a:lnTo>
                      <a:pt x="212" y="269"/>
                    </a:lnTo>
                    <a:lnTo>
                      <a:pt x="220" y="261"/>
                    </a:lnTo>
                    <a:lnTo>
                      <a:pt x="227" y="253"/>
                    </a:lnTo>
                    <a:lnTo>
                      <a:pt x="233" y="242"/>
                    </a:lnTo>
                    <a:lnTo>
                      <a:pt x="238" y="232"/>
                    </a:lnTo>
                    <a:lnTo>
                      <a:pt x="242" y="221"/>
                    </a:lnTo>
                    <a:lnTo>
                      <a:pt x="245" y="208"/>
                    </a:lnTo>
                    <a:lnTo>
                      <a:pt x="248" y="195"/>
                    </a:lnTo>
                    <a:lnTo>
                      <a:pt x="249" y="181"/>
                    </a:lnTo>
                    <a:lnTo>
                      <a:pt x="249" y="166"/>
                    </a:lnTo>
                    <a:lnTo>
                      <a:pt x="249" y="147"/>
                    </a:lnTo>
                    <a:lnTo>
                      <a:pt x="246" y="129"/>
                    </a:lnTo>
                    <a:lnTo>
                      <a:pt x="243" y="113"/>
                    </a:lnTo>
                    <a:lnTo>
                      <a:pt x="237" y="98"/>
                    </a:lnTo>
                    <a:lnTo>
                      <a:pt x="230" y="84"/>
                    </a:lnTo>
                    <a:lnTo>
                      <a:pt x="221" y="72"/>
                    </a:lnTo>
                    <a:lnTo>
                      <a:pt x="216" y="66"/>
                    </a:lnTo>
                    <a:lnTo>
                      <a:pt x="212" y="61"/>
                    </a:lnTo>
                    <a:lnTo>
                      <a:pt x="206" y="57"/>
                    </a:lnTo>
                    <a:lnTo>
                      <a:pt x="200" y="53"/>
                    </a:lnTo>
                    <a:lnTo>
                      <a:pt x="188" y="45"/>
                    </a:lnTo>
                    <a:lnTo>
                      <a:pt x="175" y="41"/>
                    </a:lnTo>
                    <a:lnTo>
                      <a:pt x="160" y="38"/>
                    </a:lnTo>
                    <a:lnTo>
                      <a:pt x="146" y="37"/>
                    </a:lnTo>
                    <a:lnTo>
                      <a:pt x="136" y="37"/>
                    </a:lnTo>
                    <a:lnTo>
                      <a:pt x="125" y="39"/>
                    </a:lnTo>
                    <a:lnTo>
                      <a:pt x="116" y="41"/>
                    </a:lnTo>
                    <a:lnTo>
                      <a:pt x="106" y="44"/>
                    </a:lnTo>
                    <a:lnTo>
                      <a:pt x="96" y="48"/>
                    </a:lnTo>
                    <a:lnTo>
                      <a:pt x="88" y="54"/>
                    </a:lnTo>
                    <a:lnTo>
                      <a:pt x="80" y="60"/>
                    </a:lnTo>
                    <a:lnTo>
                      <a:pt x="72" y="68"/>
                    </a:lnTo>
                    <a:lnTo>
                      <a:pt x="65" y="76"/>
                    </a:lnTo>
                    <a:lnTo>
                      <a:pt x="58" y="86"/>
                    </a:lnTo>
                    <a:lnTo>
                      <a:pt x="53" y="96"/>
                    </a:lnTo>
                    <a:lnTo>
                      <a:pt x="49" y="109"/>
                    </a:lnTo>
                    <a:lnTo>
                      <a:pt x="46" y="123"/>
                    </a:lnTo>
                    <a:lnTo>
                      <a:pt x="43" y="137"/>
                    </a:lnTo>
                    <a:lnTo>
                      <a:pt x="41" y="153"/>
                    </a:lnTo>
                    <a:lnTo>
                      <a:pt x="41" y="170"/>
                    </a:lnTo>
                    <a:close/>
                  </a:path>
                </a:pathLst>
              </a:custGeom>
              <a:solidFill>
                <a:srgbClr val="1f1a17"/>
              </a:solidFill>
              <a:ln w="0">
                <a:noFill/>
              </a:ln>
            </p:spPr>
            <p:style>
              <a:lnRef idx="0"/>
              <a:fillRef idx="0"/>
              <a:effectRef idx="0"/>
              <a:fontRef idx="minor"/>
            </p:style>
            <p:txBody>
              <a:bodyPr lIns="90000" rIns="90000" tIns="720" bIns="720" anchor="t">
                <a:noAutofit/>
              </a:bodyPr>
              <a:p>
                <a:pPr>
                  <a:lnSpc>
                    <a:spcPct val="100000"/>
                  </a:lnSpc>
                </a:pPr>
                <a:endParaRPr b="0" lang="en-US" sz="1800" spc="-1" strike="noStrike">
                  <a:solidFill>
                    <a:srgbClr val="000000"/>
                  </a:solidFill>
                  <a:latin typeface="Arial"/>
                  <a:ea typeface="宋体"/>
                </a:endParaRPr>
              </a:p>
            </p:txBody>
          </p:sp>
          <p:sp>
            <p:nvSpPr>
              <p:cNvPr id="706" name="Freeform 73"/>
              <p:cNvSpPr/>
              <p:nvPr/>
            </p:nvSpPr>
            <p:spPr>
              <a:xfrm>
                <a:off x="2889360" y="1479240"/>
                <a:ext cx="27720" cy="44280"/>
              </a:xfrm>
              <a:custGeom>
                <a:avLst/>
                <a:gdLst>
                  <a:gd name="textAreaLeft" fmla="*/ 0 w 27720"/>
                  <a:gd name="textAreaRight" fmla="*/ 28080 w 27720"/>
                  <a:gd name="textAreaTop" fmla="*/ 0 h 44280"/>
                  <a:gd name="textAreaBottom" fmla="*/ 44640 h 44280"/>
                </a:gdLst>
                <a:ahLst/>
                <a:rect l="textAreaLeft" t="textAreaTop" r="textAreaRight" b="textAreaBottom"/>
                <a:pathLst>
                  <a:path w="191" h="320">
                    <a:moveTo>
                      <a:pt x="0" y="320"/>
                    </a:moveTo>
                    <a:lnTo>
                      <a:pt x="0" y="0"/>
                    </a:lnTo>
                    <a:lnTo>
                      <a:pt x="40" y="0"/>
                    </a:lnTo>
                    <a:lnTo>
                      <a:pt x="40" y="282"/>
                    </a:lnTo>
                    <a:lnTo>
                      <a:pt x="191" y="282"/>
                    </a:lnTo>
                    <a:lnTo>
                      <a:pt x="191" y="320"/>
                    </a:lnTo>
                    <a:lnTo>
                      <a:pt x="0" y="32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707" name="Freeform 74"/>
              <p:cNvSpPr/>
              <p:nvPr/>
            </p:nvSpPr>
            <p:spPr>
              <a:xfrm>
                <a:off x="2920680" y="1479240"/>
                <a:ext cx="35280" cy="44280"/>
              </a:xfrm>
              <a:custGeom>
                <a:avLst/>
                <a:gdLst>
                  <a:gd name="textAreaLeft" fmla="*/ 0 w 35280"/>
                  <a:gd name="textAreaRight" fmla="*/ 35640 w 35280"/>
                  <a:gd name="textAreaTop" fmla="*/ 0 h 44280"/>
                  <a:gd name="textAreaBottom" fmla="*/ 44640 h 44280"/>
                </a:gdLst>
                <a:ahLst/>
                <a:rect l="textAreaLeft" t="textAreaTop" r="textAreaRight" b="textAreaBottom"/>
                <a:pathLst>
                  <a:path w="241" h="320">
                    <a:moveTo>
                      <a:pt x="100" y="320"/>
                    </a:moveTo>
                    <a:lnTo>
                      <a:pt x="100" y="37"/>
                    </a:lnTo>
                    <a:lnTo>
                      <a:pt x="0" y="37"/>
                    </a:lnTo>
                    <a:lnTo>
                      <a:pt x="0" y="0"/>
                    </a:lnTo>
                    <a:lnTo>
                      <a:pt x="241" y="0"/>
                    </a:lnTo>
                    <a:lnTo>
                      <a:pt x="241" y="37"/>
                    </a:lnTo>
                    <a:lnTo>
                      <a:pt x="141" y="37"/>
                    </a:lnTo>
                    <a:lnTo>
                      <a:pt x="141" y="320"/>
                    </a:lnTo>
                    <a:lnTo>
                      <a:pt x="100" y="32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708" name="Freeform 75"/>
              <p:cNvSpPr/>
              <p:nvPr/>
            </p:nvSpPr>
            <p:spPr>
              <a:xfrm>
                <a:off x="2966400" y="1479240"/>
                <a:ext cx="37080" cy="44280"/>
              </a:xfrm>
              <a:custGeom>
                <a:avLst/>
                <a:gdLst>
                  <a:gd name="textAreaLeft" fmla="*/ 0 w 37080"/>
                  <a:gd name="textAreaRight" fmla="*/ 37440 w 37080"/>
                  <a:gd name="textAreaTop" fmla="*/ 0 h 44280"/>
                  <a:gd name="textAreaBottom" fmla="*/ 44640 h 44280"/>
                </a:gdLst>
                <a:ahLst/>
                <a:rect l="textAreaLeft" t="textAreaTop" r="textAreaRight" b="textAreaBottom"/>
                <a:pathLst>
                  <a:path w="252" h="320">
                    <a:moveTo>
                      <a:pt x="0" y="320"/>
                    </a:moveTo>
                    <a:lnTo>
                      <a:pt x="0" y="0"/>
                    </a:lnTo>
                    <a:lnTo>
                      <a:pt x="105" y="0"/>
                    </a:lnTo>
                    <a:lnTo>
                      <a:pt x="122" y="0"/>
                    </a:lnTo>
                    <a:lnTo>
                      <a:pt x="137" y="1"/>
                    </a:lnTo>
                    <a:lnTo>
                      <a:pt x="149" y="2"/>
                    </a:lnTo>
                    <a:lnTo>
                      <a:pt x="159" y="4"/>
                    </a:lnTo>
                    <a:lnTo>
                      <a:pt x="172" y="9"/>
                    </a:lnTo>
                    <a:lnTo>
                      <a:pt x="183" y="14"/>
                    </a:lnTo>
                    <a:lnTo>
                      <a:pt x="194" y="20"/>
                    </a:lnTo>
                    <a:lnTo>
                      <a:pt x="204" y="28"/>
                    </a:lnTo>
                    <a:lnTo>
                      <a:pt x="215" y="39"/>
                    </a:lnTo>
                    <a:lnTo>
                      <a:pt x="226" y="52"/>
                    </a:lnTo>
                    <a:lnTo>
                      <a:pt x="233" y="66"/>
                    </a:lnTo>
                    <a:lnTo>
                      <a:pt x="240" y="82"/>
                    </a:lnTo>
                    <a:lnTo>
                      <a:pt x="246" y="100"/>
                    </a:lnTo>
                    <a:lnTo>
                      <a:pt x="249" y="118"/>
                    </a:lnTo>
                    <a:lnTo>
                      <a:pt x="251" y="137"/>
                    </a:lnTo>
                    <a:lnTo>
                      <a:pt x="252" y="158"/>
                    </a:lnTo>
                    <a:lnTo>
                      <a:pt x="252" y="176"/>
                    </a:lnTo>
                    <a:lnTo>
                      <a:pt x="250" y="192"/>
                    </a:lnTo>
                    <a:lnTo>
                      <a:pt x="248" y="208"/>
                    </a:lnTo>
                    <a:lnTo>
                      <a:pt x="244" y="223"/>
                    </a:lnTo>
                    <a:lnTo>
                      <a:pt x="239" y="236"/>
                    </a:lnTo>
                    <a:lnTo>
                      <a:pt x="235" y="248"/>
                    </a:lnTo>
                    <a:lnTo>
                      <a:pt x="229" y="260"/>
                    </a:lnTo>
                    <a:lnTo>
                      <a:pt x="223" y="269"/>
                    </a:lnTo>
                    <a:lnTo>
                      <a:pt x="217" y="278"/>
                    </a:lnTo>
                    <a:lnTo>
                      <a:pt x="210" y="286"/>
                    </a:lnTo>
                    <a:lnTo>
                      <a:pt x="202" y="293"/>
                    </a:lnTo>
                    <a:lnTo>
                      <a:pt x="195" y="298"/>
                    </a:lnTo>
                    <a:lnTo>
                      <a:pt x="187" y="303"/>
                    </a:lnTo>
                    <a:lnTo>
                      <a:pt x="179" y="307"/>
                    </a:lnTo>
                    <a:lnTo>
                      <a:pt x="169" y="312"/>
                    </a:lnTo>
                    <a:lnTo>
                      <a:pt x="159" y="314"/>
                    </a:lnTo>
                    <a:lnTo>
                      <a:pt x="148" y="317"/>
                    </a:lnTo>
                    <a:lnTo>
                      <a:pt x="137" y="318"/>
                    </a:lnTo>
                    <a:lnTo>
                      <a:pt x="124" y="319"/>
                    </a:lnTo>
                    <a:lnTo>
                      <a:pt x="110" y="320"/>
                    </a:lnTo>
                    <a:lnTo>
                      <a:pt x="0" y="320"/>
                    </a:lnTo>
                    <a:close/>
                    <a:moveTo>
                      <a:pt x="40" y="282"/>
                    </a:moveTo>
                    <a:lnTo>
                      <a:pt x="106" y="282"/>
                    </a:lnTo>
                    <a:lnTo>
                      <a:pt x="120" y="282"/>
                    </a:lnTo>
                    <a:lnTo>
                      <a:pt x="132" y="281"/>
                    </a:lnTo>
                    <a:lnTo>
                      <a:pt x="143" y="279"/>
                    </a:lnTo>
                    <a:lnTo>
                      <a:pt x="152" y="276"/>
                    </a:lnTo>
                    <a:lnTo>
                      <a:pt x="161" y="272"/>
                    </a:lnTo>
                    <a:lnTo>
                      <a:pt x="168" y="269"/>
                    </a:lnTo>
                    <a:lnTo>
                      <a:pt x="175" y="265"/>
                    </a:lnTo>
                    <a:lnTo>
                      <a:pt x="180" y="260"/>
                    </a:lnTo>
                    <a:lnTo>
                      <a:pt x="186" y="251"/>
                    </a:lnTo>
                    <a:lnTo>
                      <a:pt x="193" y="242"/>
                    </a:lnTo>
                    <a:lnTo>
                      <a:pt x="198" y="231"/>
                    </a:lnTo>
                    <a:lnTo>
                      <a:pt x="202" y="219"/>
                    </a:lnTo>
                    <a:lnTo>
                      <a:pt x="205" y="206"/>
                    </a:lnTo>
                    <a:lnTo>
                      <a:pt x="209" y="191"/>
                    </a:lnTo>
                    <a:lnTo>
                      <a:pt x="210" y="175"/>
                    </a:lnTo>
                    <a:lnTo>
                      <a:pt x="211" y="157"/>
                    </a:lnTo>
                    <a:lnTo>
                      <a:pt x="210" y="145"/>
                    </a:lnTo>
                    <a:lnTo>
                      <a:pt x="210" y="134"/>
                    </a:lnTo>
                    <a:lnTo>
                      <a:pt x="209" y="123"/>
                    </a:lnTo>
                    <a:lnTo>
                      <a:pt x="206" y="113"/>
                    </a:lnTo>
                    <a:lnTo>
                      <a:pt x="204" y="104"/>
                    </a:lnTo>
                    <a:lnTo>
                      <a:pt x="201" y="95"/>
                    </a:lnTo>
                    <a:lnTo>
                      <a:pt x="198" y="87"/>
                    </a:lnTo>
                    <a:lnTo>
                      <a:pt x="195" y="81"/>
                    </a:lnTo>
                    <a:lnTo>
                      <a:pt x="186" y="68"/>
                    </a:lnTo>
                    <a:lnTo>
                      <a:pt x="178" y="57"/>
                    </a:lnTo>
                    <a:lnTo>
                      <a:pt x="173" y="53"/>
                    </a:lnTo>
                    <a:lnTo>
                      <a:pt x="167" y="50"/>
                    </a:lnTo>
                    <a:lnTo>
                      <a:pt x="162" y="47"/>
                    </a:lnTo>
                    <a:lnTo>
                      <a:pt x="157" y="45"/>
                    </a:lnTo>
                    <a:lnTo>
                      <a:pt x="147" y="41"/>
                    </a:lnTo>
                    <a:lnTo>
                      <a:pt x="135" y="39"/>
                    </a:lnTo>
                    <a:lnTo>
                      <a:pt x="121" y="38"/>
                    </a:lnTo>
                    <a:lnTo>
                      <a:pt x="105" y="37"/>
                    </a:lnTo>
                    <a:lnTo>
                      <a:pt x="40" y="37"/>
                    </a:lnTo>
                    <a:lnTo>
                      <a:pt x="40" y="282"/>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709" name="Freeform 76"/>
              <p:cNvSpPr/>
              <p:nvPr/>
            </p:nvSpPr>
            <p:spPr>
              <a:xfrm>
                <a:off x="2833920" y="1515960"/>
                <a:ext cx="7920" cy="6480"/>
              </a:xfrm>
              <a:custGeom>
                <a:avLst/>
                <a:gdLst>
                  <a:gd name="textAreaLeft" fmla="*/ 0 w 7920"/>
                  <a:gd name="textAreaRight" fmla="*/ 8280 w 7920"/>
                  <a:gd name="textAreaTop" fmla="*/ 0 h 6480"/>
                  <a:gd name="textAreaBottom" fmla="*/ 6840 h 6480"/>
                </a:gdLst>
                <a:ahLst/>
                <a:rect l="textAreaLeft" t="textAreaTop" r="textAreaRight" b="textAreaBottom"/>
                <a:pathLst>
                  <a:path w="50" h="52">
                    <a:moveTo>
                      <a:pt x="25" y="52"/>
                    </a:moveTo>
                    <a:lnTo>
                      <a:pt x="21" y="52"/>
                    </a:lnTo>
                    <a:lnTo>
                      <a:pt x="15" y="50"/>
                    </a:lnTo>
                    <a:lnTo>
                      <a:pt x="11" y="48"/>
                    </a:lnTo>
                    <a:lnTo>
                      <a:pt x="8" y="45"/>
                    </a:lnTo>
                    <a:lnTo>
                      <a:pt x="5" y="41"/>
                    </a:lnTo>
                    <a:lnTo>
                      <a:pt x="1" y="37"/>
                    </a:lnTo>
                    <a:lnTo>
                      <a:pt x="0" y="32"/>
                    </a:lnTo>
                    <a:lnTo>
                      <a:pt x="0" y="25"/>
                    </a:lnTo>
                    <a:lnTo>
                      <a:pt x="0" y="20"/>
                    </a:lnTo>
                    <a:lnTo>
                      <a:pt x="1" y="15"/>
                    </a:lnTo>
                    <a:lnTo>
                      <a:pt x="5" y="11"/>
                    </a:lnTo>
                    <a:lnTo>
                      <a:pt x="8" y="6"/>
                    </a:lnTo>
                    <a:lnTo>
                      <a:pt x="11" y="3"/>
                    </a:lnTo>
                    <a:lnTo>
                      <a:pt x="15" y="1"/>
                    </a:lnTo>
                    <a:lnTo>
                      <a:pt x="21" y="0"/>
                    </a:lnTo>
                    <a:lnTo>
                      <a:pt x="25" y="0"/>
                    </a:lnTo>
                    <a:lnTo>
                      <a:pt x="30" y="0"/>
                    </a:lnTo>
                    <a:lnTo>
                      <a:pt x="34" y="1"/>
                    </a:lnTo>
                    <a:lnTo>
                      <a:pt x="39" y="4"/>
                    </a:lnTo>
                    <a:lnTo>
                      <a:pt x="43" y="7"/>
                    </a:lnTo>
                    <a:lnTo>
                      <a:pt x="46" y="12"/>
                    </a:lnTo>
                    <a:lnTo>
                      <a:pt x="48" y="16"/>
                    </a:lnTo>
                    <a:lnTo>
                      <a:pt x="49" y="21"/>
                    </a:lnTo>
                    <a:lnTo>
                      <a:pt x="50" y="25"/>
                    </a:lnTo>
                    <a:lnTo>
                      <a:pt x="49" y="32"/>
                    </a:lnTo>
                    <a:lnTo>
                      <a:pt x="48" y="37"/>
                    </a:lnTo>
                    <a:lnTo>
                      <a:pt x="46" y="41"/>
                    </a:lnTo>
                    <a:lnTo>
                      <a:pt x="43" y="45"/>
                    </a:lnTo>
                    <a:lnTo>
                      <a:pt x="39" y="48"/>
                    </a:lnTo>
                    <a:lnTo>
                      <a:pt x="34" y="50"/>
                    </a:lnTo>
                    <a:lnTo>
                      <a:pt x="30" y="52"/>
                    </a:lnTo>
                    <a:lnTo>
                      <a:pt x="25" y="52"/>
                    </a:lnTo>
                    <a:close/>
                  </a:path>
                </a:pathLst>
              </a:custGeom>
              <a:solidFill>
                <a:srgbClr val="1f1a17"/>
              </a:solidFill>
              <a:ln w="0">
                <a:noFill/>
              </a:ln>
            </p:spPr>
            <p:style>
              <a:lnRef idx="0"/>
              <a:fillRef idx="0"/>
              <a:effectRef idx="0"/>
              <a:fontRef idx="minor"/>
            </p:style>
            <p:txBody>
              <a:bodyPr lIns="90000" rIns="90000" tIns="-38160" bIns="-38160" anchor="t">
                <a:noAutofit/>
              </a:bodyPr>
              <a:p>
                <a:pPr>
                  <a:lnSpc>
                    <a:spcPct val="100000"/>
                  </a:lnSpc>
                </a:pPr>
                <a:endParaRPr b="0" lang="en-US" sz="1800" spc="-1" strike="noStrike">
                  <a:solidFill>
                    <a:srgbClr val="000000"/>
                  </a:solidFill>
                  <a:latin typeface="Arial"/>
                  <a:ea typeface="宋体"/>
                </a:endParaRPr>
              </a:p>
            </p:txBody>
          </p:sp>
          <p:sp>
            <p:nvSpPr>
              <p:cNvPr id="710" name="Freeform 77"/>
              <p:cNvSpPr/>
              <p:nvPr/>
            </p:nvSpPr>
            <p:spPr>
              <a:xfrm>
                <a:off x="2854800" y="1515240"/>
                <a:ext cx="9000" cy="15120"/>
              </a:xfrm>
              <a:custGeom>
                <a:avLst/>
                <a:gdLst>
                  <a:gd name="textAreaLeft" fmla="*/ 0 w 9000"/>
                  <a:gd name="textAreaRight" fmla="*/ 9360 w 9000"/>
                  <a:gd name="textAreaTop" fmla="*/ 0 h 15120"/>
                  <a:gd name="textAreaBottom" fmla="*/ 15480 h 15120"/>
                </a:gdLst>
                <a:ahLst/>
                <a:rect l="textAreaLeft" t="textAreaTop" r="textAreaRight" b="textAreaBottom"/>
                <a:pathLst>
                  <a:path w="58" h="111">
                    <a:moveTo>
                      <a:pt x="7" y="20"/>
                    </a:moveTo>
                    <a:lnTo>
                      <a:pt x="8" y="17"/>
                    </a:lnTo>
                    <a:lnTo>
                      <a:pt x="9" y="14"/>
                    </a:lnTo>
                    <a:lnTo>
                      <a:pt x="10" y="9"/>
                    </a:lnTo>
                    <a:lnTo>
                      <a:pt x="13" y="6"/>
                    </a:lnTo>
                    <a:lnTo>
                      <a:pt x="16" y="3"/>
                    </a:lnTo>
                    <a:lnTo>
                      <a:pt x="20" y="1"/>
                    </a:lnTo>
                    <a:lnTo>
                      <a:pt x="25" y="0"/>
                    </a:lnTo>
                    <a:lnTo>
                      <a:pt x="30" y="0"/>
                    </a:lnTo>
                    <a:lnTo>
                      <a:pt x="36" y="0"/>
                    </a:lnTo>
                    <a:lnTo>
                      <a:pt x="41" y="2"/>
                    </a:lnTo>
                    <a:lnTo>
                      <a:pt x="47" y="6"/>
                    </a:lnTo>
                    <a:lnTo>
                      <a:pt x="51" y="10"/>
                    </a:lnTo>
                    <a:lnTo>
                      <a:pt x="54" y="17"/>
                    </a:lnTo>
                    <a:lnTo>
                      <a:pt x="56" y="22"/>
                    </a:lnTo>
                    <a:lnTo>
                      <a:pt x="58" y="28"/>
                    </a:lnTo>
                    <a:lnTo>
                      <a:pt x="58" y="35"/>
                    </a:lnTo>
                    <a:lnTo>
                      <a:pt x="57" y="46"/>
                    </a:lnTo>
                    <a:lnTo>
                      <a:pt x="55" y="58"/>
                    </a:lnTo>
                    <a:lnTo>
                      <a:pt x="51" y="69"/>
                    </a:lnTo>
                    <a:lnTo>
                      <a:pt x="45" y="79"/>
                    </a:lnTo>
                    <a:lnTo>
                      <a:pt x="37" y="90"/>
                    </a:lnTo>
                    <a:lnTo>
                      <a:pt x="29" y="98"/>
                    </a:lnTo>
                    <a:lnTo>
                      <a:pt x="18" y="105"/>
                    </a:lnTo>
                    <a:lnTo>
                      <a:pt x="7" y="111"/>
                    </a:lnTo>
                    <a:lnTo>
                      <a:pt x="0" y="103"/>
                    </a:lnTo>
                    <a:lnTo>
                      <a:pt x="8" y="97"/>
                    </a:lnTo>
                    <a:lnTo>
                      <a:pt x="15" y="92"/>
                    </a:lnTo>
                    <a:lnTo>
                      <a:pt x="20" y="86"/>
                    </a:lnTo>
                    <a:lnTo>
                      <a:pt x="26" y="80"/>
                    </a:lnTo>
                    <a:lnTo>
                      <a:pt x="29" y="75"/>
                    </a:lnTo>
                    <a:lnTo>
                      <a:pt x="31" y="69"/>
                    </a:lnTo>
                    <a:lnTo>
                      <a:pt x="33" y="63"/>
                    </a:lnTo>
                    <a:lnTo>
                      <a:pt x="33" y="57"/>
                    </a:lnTo>
                    <a:lnTo>
                      <a:pt x="33" y="53"/>
                    </a:lnTo>
                    <a:lnTo>
                      <a:pt x="30" y="48"/>
                    </a:lnTo>
                    <a:lnTo>
                      <a:pt x="26" y="45"/>
                    </a:lnTo>
                    <a:lnTo>
                      <a:pt x="20" y="41"/>
                    </a:lnTo>
                    <a:lnTo>
                      <a:pt x="14" y="37"/>
                    </a:lnTo>
                    <a:lnTo>
                      <a:pt x="10" y="33"/>
                    </a:lnTo>
                    <a:lnTo>
                      <a:pt x="8" y="27"/>
                    </a:lnTo>
                    <a:lnTo>
                      <a:pt x="7" y="20"/>
                    </a:lnTo>
                    <a:close/>
                  </a:path>
                </a:pathLst>
              </a:custGeom>
              <a:solidFill>
                <a:srgbClr val="1f1a17"/>
              </a:solidFill>
              <a:ln w="0">
                <a:noFill/>
              </a:ln>
            </p:spPr>
            <p:style>
              <a:lnRef idx="0"/>
              <a:fillRef idx="0"/>
              <a:effectRef idx="0"/>
              <a:fontRef idx="minor"/>
            </p:style>
            <p:txBody>
              <a:bodyPr lIns="90000" rIns="90000" tIns="-29520" bIns="-29520" anchor="t">
                <a:noAutofit/>
              </a:bodyPr>
              <a:p>
                <a:pPr>
                  <a:lnSpc>
                    <a:spcPct val="100000"/>
                  </a:lnSpc>
                </a:pPr>
                <a:endParaRPr b="0" lang="en-US" sz="1800" spc="-1" strike="noStrike">
                  <a:solidFill>
                    <a:srgbClr val="000000"/>
                  </a:solidFill>
                  <a:latin typeface="Arial"/>
                  <a:ea typeface="宋体"/>
                </a:endParaRPr>
              </a:p>
            </p:txBody>
          </p:sp>
        </p:grpSp>
        <p:sp>
          <p:nvSpPr>
            <p:cNvPr id="711" name="Rectangle 7"/>
            <p:cNvSpPr/>
            <p:nvPr/>
          </p:nvSpPr>
          <p:spPr>
            <a:xfrm>
              <a:off x="482040" y="1187640"/>
              <a:ext cx="2502000" cy="9000"/>
            </a:xfrm>
            <a:prstGeom prst="rect">
              <a:avLst/>
            </a:prstGeom>
            <a:solidFill>
              <a:srgbClr val="d79f00"/>
            </a:solidFill>
            <a:ln w="3810">
              <a:solidFill>
                <a:srgbClr val="000000"/>
              </a:solidFill>
              <a:miter/>
            </a:ln>
          </p:spPr>
          <p:style>
            <a:lnRef idx="0"/>
            <a:fillRef idx="0"/>
            <a:effectRef idx="0"/>
            <a:fontRef idx="minor"/>
          </p:style>
          <p:txBody>
            <a:bodyPr lIns="90000" rIns="90000" tIns="4680" bIns="4680" anchor="t">
              <a:noAutofit/>
            </a:bodyPr>
            <a:p>
              <a:pPr>
                <a:lnSpc>
                  <a:spcPct val="100000"/>
                </a:lnSpc>
              </a:pPr>
              <a:endParaRPr b="0" lang="en-US" sz="1800" spc="-1" strike="noStrike">
                <a:solidFill>
                  <a:srgbClr val="000000"/>
                </a:solidFill>
                <a:latin typeface="Arial"/>
                <a:ea typeface="宋体"/>
              </a:endParaRPr>
            </a:p>
          </p:txBody>
        </p:sp>
        <p:sp>
          <p:nvSpPr>
            <p:cNvPr id="712" name="Freeform 8"/>
            <p:cNvSpPr/>
            <p:nvPr/>
          </p:nvSpPr>
          <p:spPr>
            <a:xfrm>
              <a:off x="516240" y="454320"/>
              <a:ext cx="819000" cy="803160"/>
            </a:xfrm>
            <a:custGeom>
              <a:avLst/>
              <a:gdLst>
                <a:gd name="textAreaLeft" fmla="*/ 0 w 819000"/>
                <a:gd name="textAreaRight" fmla="*/ 819360 w 819000"/>
                <a:gd name="textAreaTop" fmla="*/ 0 h 803160"/>
                <a:gd name="textAreaBottom" fmla="*/ 803520 h 803160"/>
              </a:gdLst>
              <a:ahLst/>
              <a:rect l="textAreaLeft" t="textAreaTop" r="textAreaRight" b="textAreaBottom"/>
              <a:pathLst>
                <a:path w="5495" h="5786">
                  <a:moveTo>
                    <a:pt x="730" y="46"/>
                  </a:moveTo>
                  <a:lnTo>
                    <a:pt x="0" y="4624"/>
                  </a:lnTo>
                  <a:lnTo>
                    <a:pt x="1589" y="2642"/>
                  </a:lnTo>
                  <a:lnTo>
                    <a:pt x="2760" y="5786"/>
                  </a:lnTo>
                  <a:lnTo>
                    <a:pt x="3854" y="2574"/>
                  </a:lnTo>
                  <a:lnTo>
                    <a:pt x="5495" y="4647"/>
                  </a:lnTo>
                  <a:lnTo>
                    <a:pt x="4713" y="0"/>
                  </a:lnTo>
                  <a:lnTo>
                    <a:pt x="2760" y="2368"/>
                  </a:lnTo>
                  <a:lnTo>
                    <a:pt x="730" y="46"/>
                  </a:lnTo>
                  <a:close/>
                </a:path>
              </a:pathLst>
            </a:custGeom>
            <a:solidFill>
              <a:srgbClr val="fcdb00"/>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713" name="Freeform 9"/>
            <p:cNvSpPr/>
            <p:nvPr/>
          </p:nvSpPr>
          <p:spPr>
            <a:xfrm>
              <a:off x="516240" y="460800"/>
              <a:ext cx="236880" cy="634680"/>
            </a:xfrm>
            <a:custGeom>
              <a:avLst/>
              <a:gdLst>
                <a:gd name="textAreaLeft" fmla="*/ 0 w 236880"/>
                <a:gd name="textAreaRight" fmla="*/ 237240 w 236880"/>
                <a:gd name="textAreaTop" fmla="*/ 0 h 634680"/>
                <a:gd name="textAreaBottom" fmla="*/ 635040 h 634680"/>
              </a:gdLst>
              <a:ahLst/>
              <a:rect l="textAreaLeft" t="textAreaTop" r="textAreaRight" b="textAreaBottom"/>
              <a:pathLst>
                <a:path w="1589" h="4578">
                  <a:moveTo>
                    <a:pt x="730" y="0"/>
                  </a:moveTo>
                  <a:lnTo>
                    <a:pt x="1589" y="2596"/>
                  </a:lnTo>
                  <a:lnTo>
                    <a:pt x="0" y="4578"/>
                  </a:lnTo>
                  <a:lnTo>
                    <a:pt x="730" y="0"/>
                  </a:lnTo>
                  <a:close/>
                </a:path>
              </a:pathLst>
            </a:custGeom>
            <a:solidFill>
              <a:srgbClr val="d79f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714" name="Freeform 10"/>
            <p:cNvSpPr/>
            <p:nvPr/>
          </p:nvSpPr>
          <p:spPr>
            <a:xfrm>
              <a:off x="927360" y="454320"/>
              <a:ext cx="290520" cy="803160"/>
            </a:xfrm>
            <a:custGeom>
              <a:avLst/>
              <a:gdLst>
                <a:gd name="textAreaLeft" fmla="*/ 0 w 290520"/>
                <a:gd name="textAreaRight" fmla="*/ 290880 w 290520"/>
                <a:gd name="textAreaTop" fmla="*/ 0 h 803160"/>
                <a:gd name="textAreaBottom" fmla="*/ 803520 h 803160"/>
              </a:gdLst>
              <a:ahLst/>
              <a:rect l="textAreaLeft" t="textAreaTop" r="textAreaRight" b="textAreaBottom"/>
              <a:pathLst>
                <a:path w="1953" h="5786">
                  <a:moveTo>
                    <a:pt x="0" y="2368"/>
                  </a:moveTo>
                  <a:lnTo>
                    <a:pt x="0" y="5786"/>
                  </a:lnTo>
                  <a:lnTo>
                    <a:pt x="1094" y="2574"/>
                  </a:lnTo>
                  <a:lnTo>
                    <a:pt x="1953" y="0"/>
                  </a:lnTo>
                  <a:lnTo>
                    <a:pt x="0" y="2368"/>
                  </a:lnTo>
                  <a:close/>
                </a:path>
              </a:pathLst>
            </a:custGeom>
            <a:solidFill>
              <a:srgbClr val="d79f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715" name="Freeform 78"/>
            <p:cNvSpPr/>
            <p:nvPr/>
          </p:nvSpPr>
          <p:spPr>
            <a:xfrm>
              <a:off x="1378080" y="897840"/>
              <a:ext cx="254160" cy="220320"/>
            </a:xfrm>
            <a:custGeom>
              <a:avLst/>
              <a:gdLst>
                <a:gd name="textAreaLeft" fmla="*/ 0 w 254160"/>
                <a:gd name="textAreaRight" fmla="*/ 254520 w 254160"/>
                <a:gd name="textAreaTop" fmla="*/ 0 h 220320"/>
                <a:gd name="textAreaBottom" fmla="*/ 220680 h 220320"/>
              </a:gdLst>
              <a:ahLst/>
              <a:rect l="textAreaLeft" t="textAreaTop" r="textAreaRight" b="textAreaBottom"/>
              <a:pathLst>
                <a:path w="1708" h="1590">
                  <a:moveTo>
                    <a:pt x="817" y="0"/>
                  </a:moveTo>
                  <a:lnTo>
                    <a:pt x="885" y="0"/>
                  </a:lnTo>
                  <a:lnTo>
                    <a:pt x="904" y="48"/>
                  </a:lnTo>
                  <a:lnTo>
                    <a:pt x="925" y="98"/>
                  </a:lnTo>
                  <a:lnTo>
                    <a:pt x="944" y="147"/>
                  </a:lnTo>
                  <a:lnTo>
                    <a:pt x="965" y="197"/>
                  </a:lnTo>
                  <a:lnTo>
                    <a:pt x="985" y="249"/>
                  </a:lnTo>
                  <a:lnTo>
                    <a:pt x="1007" y="301"/>
                  </a:lnTo>
                  <a:lnTo>
                    <a:pt x="1029" y="354"/>
                  </a:lnTo>
                  <a:lnTo>
                    <a:pt x="1052" y="408"/>
                  </a:lnTo>
                  <a:lnTo>
                    <a:pt x="1075" y="462"/>
                  </a:lnTo>
                  <a:lnTo>
                    <a:pt x="1098" y="517"/>
                  </a:lnTo>
                  <a:lnTo>
                    <a:pt x="1123" y="573"/>
                  </a:lnTo>
                  <a:lnTo>
                    <a:pt x="1147" y="631"/>
                  </a:lnTo>
                  <a:lnTo>
                    <a:pt x="1172" y="689"/>
                  </a:lnTo>
                  <a:lnTo>
                    <a:pt x="1198" y="747"/>
                  </a:lnTo>
                  <a:lnTo>
                    <a:pt x="1224" y="807"/>
                  </a:lnTo>
                  <a:lnTo>
                    <a:pt x="1252" y="867"/>
                  </a:lnTo>
                  <a:lnTo>
                    <a:pt x="1508" y="1428"/>
                  </a:lnTo>
                  <a:lnTo>
                    <a:pt x="1517" y="1441"/>
                  </a:lnTo>
                  <a:lnTo>
                    <a:pt x="1526" y="1453"/>
                  </a:lnTo>
                  <a:lnTo>
                    <a:pt x="1536" y="1464"/>
                  </a:lnTo>
                  <a:lnTo>
                    <a:pt x="1546" y="1472"/>
                  </a:lnTo>
                  <a:lnTo>
                    <a:pt x="1552" y="1474"/>
                  </a:lnTo>
                  <a:lnTo>
                    <a:pt x="1562" y="1478"/>
                  </a:lnTo>
                  <a:lnTo>
                    <a:pt x="1576" y="1484"/>
                  </a:lnTo>
                  <a:lnTo>
                    <a:pt x="1594" y="1490"/>
                  </a:lnTo>
                  <a:lnTo>
                    <a:pt x="1616" y="1496"/>
                  </a:lnTo>
                  <a:lnTo>
                    <a:pt x="1643" y="1505"/>
                  </a:lnTo>
                  <a:lnTo>
                    <a:pt x="1673" y="1514"/>
                  </a:lnTo>
                  <a:lnTo>
                    <a:pt x="1708" y="1524"/>
                  </a:lnTo>
                  <a:lnTo>
                    <a:pt x="1708" y="1590"/>
                  </a:lnTo>
                  <a:lnTo>
                    <a:pt x="1660" y="1587"/>
                  </a:lnTo>
                  <a:lnTo>
                    <a:pt x="1614" y="1584"/>
                  </a:lnTo>
                  <a:lnTo>
                    <a:pt x="1573" y="1582"/>
                  </a:lnTo>
                  <a:lnTo>
                    <a:pt x="1535" y="1580"/>
                  </a:lnTo>
                  <a:lnTo>
                    <a:pt x="1499" y="1579"/>
                  </a:lnTo>
                  <a:lnTo>
                    <a:pt x="1467" y="1578"/>
                  </a:lnTo>
                  <a:lnTo>
                    <a:pt x="1438" y="1577"/>
                  </a:lnTo>
                  <a:lnTo>
                    <a:pt x="1413" y="1577"/>
                  </a:lnTo>
                  <a:lnTo>
                    <a:pt x="1386" y="1577"/>
                  </a:lnTo>
                  <a:lnTo>
                    <a:pt x="1356" y="1578"/>
                  </a:lnTo>
                  <a:lnTo>
                    <a:pt x="1321" y="1579"/>
                  </a:lnTo>
                  <a:lnTo>
                    <a:pt x="1282" y="1580"/>
                  </a:lnTo>
                  <a:lnTo>
                    <a:pt x="1238" y="1582"/>
                  </a:lnTo>
                  <a:lnTo>
                    <a:pt x="1190" y="1584"/>
                  </a:lnTo>
                  <a:lnTo>
                    <a:pt x="1139" y="1587"/>
                  </a:lnTo>
                  <a:lnTo>
                    <a:pt x="1082" y="1590"/>
                  </a:lnTo>
                  <a:lnTo>
                    <a:pt x="1082" y="1524"/>
                  </a:lnTo>
                  <a:lnTo>
                    <a:pt x="1143" y="1511"/>
                  </a:lnTo>
                  <a:lnTo>
                    <a:pt x="1188" y="1500"/>
                  </a:lnTo>
                  <a:lnTo>
                    <a:pt x="1206" y="1494"/>
                  </a:lnTo>
                  <a:lnTo>
                    <a:pt x="1220" y="1489"/>
                  </a:lnTo>
                  <a:lnTo>
                    <a:pt x="1231" y="1485"/>
                  </a:lnTo>
                  <a:lnTo>
                    <a:pt x="1238" y="1481"/>
                  </a:lnTo>
                  <a:lnTo>
                    <a:pt x="1243" y="1476"/>
                  </a:lnTo>
                  <a:lnTo>
                    <a:pt x="1248" y="1472"/>
                  </a:lnTo>
                  <a:lnTo>
                    <a:pt x="1252" y="1467"/>
                  </a:lnTo>
                  <a:lnTo>
                    <a:pt x="1255" y="1463"/>
                  </a:lnTo>
                  <a:lnTo>
                    <a:pt x="1257" y="1457"/>
                  </a:lnTo>
                  <a:lnTo>
                    <a:pt x="1258" y="1453"/>
                  </a:lnTo>
                  <a:lnTo>
                    <a:pt x="1259" y="1448"/>
                  </a:lnTo>
                  <a:lnTo>
                    <a:pt x="1260" y="1441"/>
                  </a:lnTo>
                  <a:lnTo>
                    <a:pt x="1259" y="1436"/>
                  </a:lnTo>
                  <a:lnTo>
                    <a:pt x="1258" y="1429"/>
                  </a:lnTo>
                  <a:lnTo>
                    <a:pt x="1257" y="1420"/>
                  </a:lnTo>
                  <a:lnTo>
                    <a:pt x="1254" y="1411"/>
                  </a:lnTo>
                  <a:lnTo>
                    <a:pt x="1247" y="1389"/>
                  </a:lnTo>
                  <a:lnTo>
                    <a:pt x="1237" y="1364"/>
                  </a:lnTo>
                  <a:lnTo>
                    <a:pt x="1127" y="1095"/>
                  </a:lnTo>
                  <a:lnTo>
                    <a:pt x="1070" y="1095"/>
                  </a:lnTo>
                  <a:lnTo>
                    <a:pt x="1018" y="1094"/>
                  </a:lnTo>
                  <a:lnTo>
                    <a:pt x="969" y="1094"/>
                  </a:lnTo>
                  <a:lnTo>
                    <a:pt x="925" y="1093"/>
                  </a:lnTo>
                  <a:lnTo>
                    <a:pt x="883" y="1093"/>
                  </a:lnTo>
                  <a:lnTo>
                    <a:pt x="847" y="1093"/>
                  </a:lnTo>
                  <a:lnTo>
                    <a:pt x="814" y="1093"/>
                  </a:lnTo>
                  <a:lnTo>
                    <a:pt x="786" y="1093"/>
                  </a:lnTo>
                  <a:lnTo>
                    <a:pt x="483" y="1095"/>
                  </a:lnTo>
                  <a:lnTo>
                    <a:pt x="368" y="1374"/>
                  </a:lnTo>
                  <a:lnTo>
                    <a:pt x="356" y="1404"/>
                  </a:lnTo>
                  <a:lnTo>
                    <a:pt x="347" y="1428"/>
                  </a:lnTo>
                  <a:lnTo>
                    <a:pt x="342" y="1446"/>
                  </a:lnTo>
                  <a:lnTo>
                    <a:pt x="340" y="1457"/>
                  </a:lnTo>
                  <a:lnTo>
                    <a:pt x="341" y="1464"/>
                  </a:lnTo>
                  <a:lnTo>
                    <a:pt x="343" y="1470"/>
                  </a:lnTo>
                  <a:lnTo>
                    <a:pt x="347" y="1476"/>
                  </a:lnTo>
                  <a:lnTo>
                    <a:pt x="354" y="1481"/>
                  </a:lnTo>
                  <a:lnTo>
                    <a:pt x="359" y="1484"/>
                  </a:lnTo>
                  <a:lnTo>
                    <a:pt x="366" y="1487"/>
                  </a:lnTo>
                  <a:lnTo>
                    <a:pt x="378" y="1490"/>
                  </a:lnTo>
                  <a:lnTo>
                    <a:pt x="393" y="1494"/>
                  </a:lnTo>
                  <a:lnTo>
                    <a:pt x="431" y="1503"/>
                  </a:lnTo>
                  <a:lnTo>
                    <a:pt x="482" y="1514"/>
                  </a:lnTo>
                  <a:lnTo>
                    <a:pt x="488" y="1517"/>
                  </a:lnTo>
                  <a:lnTo>
                    <a:pt x="497" y="1519"/>
                  </a:lnTo>
                  <a:lnTo>
                    <a:pt x="505" y="1521"/>
                  </a:lnTo>
                  <a:lnTo>
                    <a:pt x="516" y="1524"/>
                  </a:lnTo>
                  <a:lnTo>
                    <a:pt x="516" y="1590"/>
                  </a:lnTo>
                  <a:lnTo>
                    <a:pt x="470" y="1587"/>
                  </a:lnTo>
                  <a:lnTo>
                    <a:pt x="429" y="1584"/>
                  </a:lnTo>
                  <a:lnTo>
                    <a:pt x="391" y="1582"/>
                  </a:lnTo>
                  <a:lnTo>
                    <a:pt x="356" y="1580"/>
                  </a:lnTo>
                  <a:lnTo>
                    <a:pt x="324" y="1579"/>
                  </a:lnTo>
                  <a:lnTo>
                    <a:pt x="296" y="1578"/>
                  </a:lnTo>
                  <a:lnTo>
                    <a:pt x="271" y="1577"/>
                  </a:lnTo>
                  <a:lnTo>
                    <a:pt x="251" y="1577"/>
                  </a:lnTo>
                  <a:lnTo>
                    <a:pt x="226" y="1577"/>
                  </a:lnTo>
                  <a:lnTo>
                    <a:pt x="198" y="1578"/>
                  </a:lnTo>
                  <a:lnTo>
                    <a:pt x="169" y="1579"/>
                  </a:lnTo>
                  <a:lnTo>
                    <a:pt x="139" y="1580"/>
                  </a:lnTo>
                  <a:lnTo>
                    <a:pt x="107" y="1582"/>
                  </a:lnTo>
                  <a:lnTo>
                    <a:pt x="73" y="1584"/>
                  </a:lnTo>
                  <a:lnTo>
                    <a:pt x="37" y="1587"/>
                  </a:lnTo>
                  <a:lnTo>
                    <a:pt x="0" y="1590"/>
                  </a:lnTo>
                  <a:lnTo>
                    <a:pt x="0" y="1524"/>
                  </a:lnTo>
                  <a:lnTo>
                    <a:pt x="23" y="1519"/>
                  </a:lnTo>
                  <a:lnTo>
                    <a:pt x="45" y="1512"/>
                  </a:lnTo>
                  <a:lnTo>
                    <a:pt x="66" y="1507"/>
                  </a:lnTo>
                  <a:lnTo>
                    <a:pt x="84" y="1501"/>
                  </a:lnTo>
                  <a:lnTo>
                    <a:pt x="101" y="1494"/>
                  </a:lnTo>
                  <a:lnTo>
                    <a:pt x="114" y="1488"/>
                  </a:lnTo>
                  <a:lnTo>
                    <a:pt x="127" y="1482"/>
                  </a:lnTo>
                  <a:lnTo>
                    <a:pt x="138" y="1475"/>
                  </a:lnTo>
                  <a:lnTo>
                    <a:pt x="144" y="1469"/>
                  </a:lnTo>
                  <a:lnTo>
                    <a:pt x="151" y="1463"/>
                  </a:lnTo>
                  <a:lnTo>
                    <a:pt x="158" y="1455"/>
                  </a:lnTo>
                  <a:lnTo>
                    <a:pt x="165" y="1447"/>
                  </a:lnTo>
                  <a:lnTo>
                    <a:pt x="180" y="1428"/>
                  </a:lnTo>
                  <a:lnTo>
                    <a:pt x="195" y="1404"/>
                  </a:lnTo>
                  <a:lnTo>
                    <a:pt x="213" y="1369"/>
                  </a:lnTo>
                  <a:lnTo>
                    <a:pt x="238" y="1319"/>
                  </a:lnTo>
                  <a:lnTo>
                    <a:pt x="269" y="1255"/>
                  </a:lnTo>
                  <a:lnTo>
                    <a:pt x="306" y="1174"/>
                  </a:lnTo>
                  <a:lnTo>
                    <a:pt x="348" y="1079"/>
                  </a:lnTo>
                  <a:lnTo>
                    <a:pt x="398" y="969"/>
                  </a:lnTo>
                  <a:lnTo>
                    <a:pt x="453" y="844"/>
                  </a:lnTo>
                  <a:lnTo>
                    <a:pt x="514" y="703"/>
                  </a:lnTo>
                  <a:lnTo>
                    <a:pt x="817" y="0"/>
                  </a:lnTo>
                  <a:close/>
                  <a:moveTo>
                    <a:pt x="526" y="985"/>
                  </a:moveTo>
                  <a:lnTo>
                    <a:pt x="562" y="986"/>
                  </a:lnTo>
                  <a:lnTo>
                    <a:pt x="597" y="987"/>
                  </a:lnTo>
                  <a:lnTo>
                    <a:pt x="628" y="988"/>
                  </a:lnTo>
                  <a:lnTo>
                    <a:pt x="658" y="988"/>
                  </a:lnTo>
                  <a:lnTo>
                    <a:pt x="683" y="989"/>
                  </a:lnTo>
                  <a:lnTo>
                    <a:pt x="706" y="989"/>
                  </a:lnTo>
                  <a:lnTo>
                    <a:pt x="728" y="989"/>
                  </a:lnTo>
                  <a:lnTo>
                    <a:pt x="745" y="989"/>
                  </a:lnTo>
                  <a:lnTo>
                    <a:pt x="754" y="989"/>
                  </a:lnTo>
                  <a:lnTo>
                    <a:pt x="773" y="989"/>
                  </a:lnTo>
                  <a:lnTo>
                    <a:pt x="802" y="989"/>
                  </a:lnTo>
                  <a:lnTo>
                    <a:pt x="840" y="988"/>
                  </a:lnTo>
                  <a:lnTo>
                    <a:pt x="886" y="988"/>
                  </a:lnTo>
                  <a:lnTo>
                    <a:pt x="943" y="987"/>
                  </a:lnTo>
                  <a:lnTo>
                    <a:pt x="1008" y="986"/>
                  </a:lnTo>
                  <a:lnTo>
                    <a:pt x="1082" y="985"/>
                  </a:lnTo>
                  <a:lnTo>
                    <a:pt x="804" y="323"/>
                  </a:lnTo>
                  <a:lnTo>
                    <a:pt x="526" y="985"/>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716" name="Freeform 79"/>
            <p:cNvSpPr/>
            <p:nvPr/>
          </p:nvSpPr>
          <p:spPr>
            <a:xfrm>
              <a:off x="1652400" y="901800"/>
              <a:ext cx="267840" cy="221040"/>
            </a:xfrm>
            <a:custGeom>
              <a:avLst/>
              <a:gdLst>
                <a:gd name="textAreaLeft" fmla="*/ 0 w 267840"/>
                <a:gd name="textAreaRight" fmla="*/ 268200 w 267840"/>
                <a:gd name="textAreaTop" fmla="*/ 0 h 221040"/>
                <a:gd name="textAreaBottom" fmla="*/ 221400 h 221040"/>
              </a:gdLst>
              <a:ahLst/>
              <a:rect l="textAreaLeft" t="textAreaTop" r="textAreaRight" b="textAreaBottom"/>
              <a:pathLst>
                <a:path w="1799" h="1596">
                  <a:moveTo>
                    <a:pt x="0" y="64"/>
                  </a:moveTo>
                  <a:lnTo>
                    <a:pt x="0" y="0"/>
                  </a:lnTo>
                  <a:lnTo>
                    <a:pt x="34" y="2"/>
                  </a:lnTo>
                  <a:lnTo>
                    <a:pt x="66" y="5"/>
                  </a:lnTo>
                  <a:lnTo>
                    <a:pt x="96" y="7"/>
                  </a:lnTo>
                  <a:lnTo>
                    <a:pt x="125" y="8"/>
                  </a:lnTo>
                  <a:lnTo>
                    <a:pt x="151" y="10"/>
                  </a:lnTo>
                  <a:lnTo>
                    <a:pt x="176" y="10"/>
                  </a:lnTo>
                  <a:lnTo>
                    <a:pt x="199" y="11"/>
                  </a:lnTo>
                  <a:lnTo>
                    <a:pt x="220" y="11"/>
                  </a:lnTo>
                  <a:lnTo>
                    <a:pt x="237" y="11"/>
                  </a:lnTo>
                  <a:lnTo>
                    <a:pt x="258" y="10"/>
                  </a:lnTo>
                  <a:lnTo>
                    <a:pt x="283" y="10"/>
                  </a:lnTo>
                  <a:lnTo>
                    <a:pt x="310" y="8"/>
                  </a:lnTo>
                  <a:lnTo>
                    <a:pt x="341" y="7"/>
                  </a:lnTo>
                  <a:lnTo>
                    <a:pt x="375" y="5"/>
                  </a:lnTo>
                  <a:lnTo>
                    <a:pt x="412" y="2"/>
                  </a:lnTo>
                  <a:lnTo>
                    <a:pt x="452" y="0"/>
                  </a:lnTo>
                  <a:lnTo>
                    <a:pt x="765" y="391"/>
                  </a:lnTo>
                  <a:lnTo>
                    <a:pt x="772" y="399"/>
                  </a:lnTo>
                  <a:lnTo>
                    <a:pt x="785" y="414"/>
                  </a:lnTo>
                  <a:lnTo>
                    <a:pt x="801" y="434"/>
                  </a:lnTo>
                  <a:lnTo>
                    <a:pt x="822" y="461"/>
                  </a:lnTo>
                  <a:lnTo>
                    <a:pt x="847" y="491"/>
                  </a:lnTo>
                  <a:lnTo>
                    <a:pt x="878" y="527"/>
                  </a:lnTo>
                  <a:lnTo>
                    <a:pt x="913" y="570"/>
                  </a:lnTo>
                  <a:lnTo>
                    <a:pt x="952" y="617"/>
                  </a:lnTo>
                  <a:lnTo>
                    <a:pt x="996" y="670"/>
                  </a:lnTo>
                  <a:lnTo>
                    <a:pt x="1043" y="729"/>
                  </a:lnTo>
                  <a:lnTo>
                    <a:pt x="1096" y="792"/>
                  </a:lnTo>
                  <a:lnTo>
                    <a:pt x="1153" y="861"/>
                  </a:lnTo>
                  <a:lnTo>
                    <a:pt x="1215" y="936"/>
                  </a:lnTo>
                  <a:lnTo>
                    <a:pt x="1282" y="1017"/>
                  </a:lnTo>
                  <a:lnTo>
                    <a:pt x="1352" y="1103"/>
                  </a:lnTo>
                  <a:lnTo>
                    <a:pt x="1428" y="1194"/>
                  </a:lnTo>
                  <a:lnTo>
                    <a:pt x="1428" y="1156"/>
                  </a:lnTo>
                  <a:lnTo>
                    <a:pt x="1428" y="1122"/>
                  </a:lnTo>
                  <a:lnTo>
                    <a:pt x="1428" y="1090"/>
                  </a:lnTo>
                  <a:lnTo>
                    <a:pt x="1429" y="1060"/>
                  </a:lnTo>
                  <a:lnTo>
                    <a:pt x="1429" y="1034"/>
                  </a:lnTo>
                  <a:lnTo>
                    <a:pt x="1429" y="1010"/>
                  </a:lnTo>
                  <a:lnTo>
                    <a:pt x="1429" y="988"/>
                  </a:lnTo>
                  <a:lnTo>
                    <a:pt x="1429" y="969"/>
                  </a:lnTo>
                  <a:lnTo>
                    <a:pt x="1429" y="925"/>
                  </a:lnTo>
                  <a:lnTo>
                    <a:pt x="1428" y="871"/>
                  </a:lnTo>
                  <a:lnTo>
                    <a:pt x="1427" y="808"/>
                  </a:lnTo>
                  <a:lnTo>
                    <a:pt x="1426" y="737"/>
                  </a:lnTo>
                  <a:lnTo>
                    <a:pt x="1424" y="659"/>
                  </a:lnTo>
                  <a:lnTo>
                    <a:pt x="1422" y="571"/>
                  </a:lnTo>
                  <a:lnTo>
                    <a:pt x="1420" y="474"/>
                  </a:lnTo>
                  <a:lnTo>
                    <a:pt x="1418" y="369"/>
                  </a:lnTo>
                  <a:lnTo>
                    <a:pt x="1417" y="322"/>
                  </a:lnTo>
                  <a:lnTo>
                    <a:pt x="1416" y="279"/>
                  </a:lnTo>
                  <a:lnTo>
                    <a:pt x="1415" y="243"/>
                  </a:lnTo>
                  <a:lnTo>
                    <a:pt x="1414" y="213"/>
                  </a:lnTo>
                  <a:lnTo>
                    <a:pt x="1413" y="187"/>
                  </a:lnTo>
                  <a:lnTo>
                    <a:pt x="1411" y="168"/>
                  </a:lnTo>
                  <a:lnTo>
                    <a:pt x="1410" y="155"/>
                  </a:lnTo>
                  <a:lnTo>
                    <a:pt x="1409" y="148"/>
                  </a:lnTo>
                  <a:lnTo>
                    <a:pt x="1404" y="140"/>
                  </a:lnTo>
                  <a:lnTo>
                    <a:pt x="1399" y="131"/>
                  </a:lnTo>
                  <a:lnTo>
                    <a:pt x="1392" y="124"/>
                  </a:lnTo>
                  <a:lnTo>
                    <a:pt x="1383" y="116"/>
                  </a:lnTo>
                  <a:lnTo>
                    <a:pt x="1376" y="113"/>
                  </a:lnTo>
                  <a:lnTo>
                    <a:pt x="1366" y="109"/>
                  </a:lnTo>
                  <a:lnTo>
                    <a:pt x="1352" y="103"/>
                  </a:lnTo>
                  <a:lnTo>
                    <a:pt x="1334" y="99"/>
                  </a:lnTo>
                  <a:lnTo>
                    <a:pt x="1289" y="89"/>
                  </a:lnTo>
                  <a:lnTo>
                    <a:pt x="1230" y="77"/>
                  </a:lnTo>
                  <a:lnTo>
                    <a:pt x="1219" y="75"/>
                  </a:lnTo>
                  <a:lnTo>
                    <a:pt x="1207" y="72"/>
                  </a:lnTo>
                  <a:lnTo>
                    <a:pt x="1194" y="69"/>
                  </a:lnTo>
                  <a:lnTo>
                    <a:pt x="1178" y="64"/>
                  </a:lnTo>
                  <a:lnTo>
                    <a:pt x="1178" y="0"/>
                  </a:lnTo>
                  <a:lnTo>
                    <a:pt x="1225" y="2"/>
                  </a:lnTo>
                  <a:lnTo>
                    <a:pt x="1271" y="5"/>
                  </a:lnTo>
                  <a:lnTo>
                    <a:pt x="1313" y="7"/>
                  </a:lnTo>
                  <a:lnTo>
                    <a:pt x="1354" y="8"/>
                  </a:lnTo>
                  <a:lnTo>
                    <a:pt x="1391" y="10"/>
                  </a:lnTo>
                  <a:lnTo>
                    <a:pt x="1427" y="10"/>
                  </a:lnTo>
                  <a:lnTo>
                    <a:pt x="1458" y="11"/>
                  </a:lnTo>
                  <a:lnTo>
                    <a:pt x="1489" y="11"/>
                  </a:lnTo>
                  <a:lnTo>
                    <a:pt x="1519" y="11"/>
                  </a:lnTo>
                  <a:lnTo>
                    <a:pt x="1551" y="10"/>
                  </a:lnTo>
                  <a:lnTo>
                    <a:pt x="1585" y="10"/>
                  </a:lnTo>
                  <a:lnTo>
                    <a:pt x="1623" y="8"/>
                  </a:lnTo>
                  <a:lnTo>
                    <a:pt x="1663" y="7"/>
                  </a:lnTo>
                  <a:lnTo>
                    <a:pt x="1706" y="5"/>
                  </a:lnTo>
                  <a:lnTo>
                    <a:pt x="1752" y="2"/>
                  </a:lnTo>
                  <a:lnTo>
                    <a:pt x="1799" y="0"/>
                  </a:lnTo>
                  <a:lnTo>
                    <a:pt x="1799" y="64"/>
                  </a:lnTo>
                  <a:lnTo>
                    <a:pt x="1786" y="69"/>
                  </a:lnTo>
                  <a:lnTo>
                    <a:pt x="1773" y="71"/>
                  </a:lnTo>
                  <a:lnTo>
                    <a:pt x="1763" y="73"/>
                  </a:lnTo>
                  <a:lnTo>
                    <a:pt x="1755" y="74"/>
                  </a:lnTo>
                  <a:lnTo>
                    <a:pt x="1721" y="81"/>
                  </a:lnTo>
                  <a:lnTo>
                    <a:pt x="1690" y="89"/>
                  </a:lnTo>
                  <a:lnTo>
                    <a:pt x="1663" y="95"/>
                  </a:lnTo>
                  <a:lnTo>
                    <a:pt x="1641" y="100"/>
                  </a:lnTo>
                  <a:lnTo>
                    <a:pt x="1623" y="105"/>
                  </a:lnTo>
                  <a:lnTo>
                    <a:pt x="1608" y="109"/>
                  </a:lnTo>
                  <a:lnTo>
                    <a:pt x="1597" y="112"/>
                  </a:lnTo>
                  <a:lnTo>
                    <a:pt x="1591" y="115"/>
                  </a:lnTo>
                  <a:lnTo>
                    <a:pt x="1585" y="118"/>
                  </a:lnTo>
                  <a:lnTo>
                    <a:pt x="1580" y="124"/>
                  </a:lnTo>
                  <a:lnTo>
                    <a:pt x="1576" y="129"/>
                  </a:lnTo>
                  <a:lnTo>
                    <a:pt x="1572" y="135"/>
                  </a:lnTo>
                  <a:lnTo>
                    <a:pt x="1569" y="140"/>
                  </a:lnTo>
                  <a:lnTo>
                    <a:pt x="1566" y="146"/>
                  </a:lnTo>
                  <a:lnTo>
                    <a:pt x="1564" y="152"/>
                  </a:lnTo>
                  <a:lnTo>
                    <a:pt x="1562" y="161"/>
                  </a:lnTo>
                  <a:lnTo>
                    <a:pt x="1559" y="179"/>
                  </a:lnTo>
                  <a:lnTo>
                    <a:pt x="1556" y="201"/>
                  </a:lnTo>
                  <a:lnTo>
                    <a:pt x="1556" y="211"/>
                  </a:lnTo>
                  <a:lnTo>
                    <a:pt x="1556" y="227"/>
                  </a:lnTo>
                  <a:lnTo>
                    <a:pt x="1555" y="253"/>
                  </a:lnTo>
                  <a:lnTo>
                    <a:pt x="1555" y="287"/>
                  </a:lnTo>
                  <a:lnTo>
                    <a:pt x="1554" y="328"/>
                  </a:lnTo>
                  <a:lnTo>
                    <a:pt x="1553" y="378"/>
                  </a:lnTo>
                  <a:lnTo>
                    <a:pt x="1552" y="435"/>
                  </a:lnTo>
                  <a:lnTo>
                    <a:pt x="1551" y="501"/>
                  </a:lnTo>
                  <a:lnTo>
                    <a:pt x="1551" y="571"/>
                  </a:lnTo>
                  <a:lnTo>
                    <a:pt x="1549" y="640"/>
                  </a:lnTo>
                  <a:lnTo>
                    <a:pt x="1548" y="709"/>
                  </a:lnTo>
                  <a:lnTo>
                    <a:pt x="1548" y="776"/>
                  </a:lnTo>
                  <a:lnTo>
                    <a:pt x="1547" y="843"/>
                  </a:lnTo>
                  <a:lnTo>
                    <a:pt x="1547" y="910"/>
                  </a:lnTo>
                  <a:lnTo>
                    <a:pt x="1547" y="976"/>
                  </a:lnTo>
                  <a:lnTo>
                    <a:pt x="1547" y="1041"/>
                  </a:lnTo>
                  <a:lnTo>
                    <a:pt x="1547" y="1117"/>
                  </a:lnTo>
                  <a:lnTo>
                    <a:pt x="1548" y="1190"/>
                  </a:lnTo>
                  <a:lnTo>
                    <a:pt x="1548" y="1259"/>
                  </a:lnTo>
                  <a:lnTo>
                    <a:pt x="1551" y="1325"/>
                  </a:lnTo>
                  <a:lnTo>
                    <a:pt x="1552" y="1389"/>
                  </a:lnTo>
                  <a:lnTo>
                    <a:pt x="1554" y="1450"/>
                  </a:lnTo>
                  <a:lnTo>
                    <a:pt x="1556" y="1508"/>
                  </a:lnTo>
                  <a:lnTo>
                    <a:pt x="1559" y="1563"/>
                  </a:lnTo>
                  <a:lnTo>
                    <a:pt x="1487" y="1596"/>
                  </a:lnTo>
                  <a:lnTo>
                    <a:pt x="1027" y="1025"/>
                  </a:lnTo>
                  <a:lnTo>
                    <a:pt x="426" y="301"/>
                  </a:lnTo>
                  <a:lnTo>
                    <a:pt x="431" y="951"/>
                  </a:lnTo>
                  <a:lnTo>
                    <a:pt x="432" y="1052"/>
                  </a:lnTo>
                  <a:lnTo>
                    <a:pt x="434" y="1140"/>
                  </a:lnTo>
                  <a:lnTo>
                    <a:pt x="435" y="1215"/>
                  </a:lnTo>
                  <a:lnTo>
                    <a:pt x="437" y="1279"/>
                  </a:lnTo>
                  <a:lnTo>
                    <a:pt x="438" y="1330"/>
                  </a:lnTo>
                  <a:lnTo>
                    <a:pt x="439" y="1368"/>
                  </a:lnTo>
                  <a:lnTo>
                    <a:pt x="442" y="1393"/>
                  </a:lnTo>
                  <a:lnTo>
                    <a:pt x="444" y="1407"/>
                  </a:lnTo>
                  <a:lnTo>
                    <a:pt x="446" y="1416"/>
                  </a:lnTo>
                  <a:lnTo>
                    <a:pt x="450" y="1426"/>
                  </a:lnTo>
                  <a:lnTo>
                    <a:pt x="456" y="1433"/>
                  </a:lnTo>
                  <a:lnTo>
                    <a:pt x="463" y="1441"/>
                  </a:lnTo>
                  <a:lnTo>
                    <a:pt x="470" y="1447"/>
                  </a:lnTo>
                  <a:lnTo>
                    <a:pt x="482" y="1452"/>
                  </a:lnTo>
                  <a:lnTo>
                    <a:pt x="498" y="1458"/>
                  </a:lnTo>
                  <a:lnTo>
                    <a:pt x="516" y="1464"/>
                  </a:lnTo>
                  <a:lnTo>
                    <a:pt x="538" y="1469"/>
                  </a:lnTo>
                  <a:lnTo>
                    <a:pt x="564" y="1476"/>
                  </a:lnTo>
                  <a:lnTo>
                    <a:pt x="594" y="1481"/>
                  </a:lnTo>
                  <a:lnTo>
                    <a:pt x="627" y="1487"/>
                  </a:lnTo>
                  <a:lnTo>
                    <a:pt x="636" y="1489"/>
                  </a:lnTo>
                  <a:lnTo>
                    <a:pt x="648" y="1491"/>
                  </a:lnTo>
                  <a:lnTo>
                    <a:pt x="661" y="1494"/>
                  </a:lnTo>
                  <a:lnTo>
                    <a:pt x="677" y="1497"/>
                  </a:lnTo>
                  <a:lnTo>
                    <a:pt x="677" y="1563"/>
                  </a:lnTo>
                  <a:lnTo>
                    <a:pt x="635" y="1560"/>
                  </a:lnTo>
                  <a:lnTo>
                    <a:pt x="595" y="1557"/>
                  </a:lnTo>
                  <a:lnTo>
                    <a:pt x="558" y="1555"/>
                  </a:lnTo>
                  <a:lnTo>
                    <a:pt x="521" y="1553"/>
                  </a:lnTo>
                  <a:lnTo>
                    <a:pt x="487" y="1552"/>
                  </a:lnTo>
                  <a:lnTo>
                    <a:pt x="453" y="1551"/>
                  </a:lnTo>
                  <a:lnTo>
                    <a:pt x="423" y="1550"/>
                  </a:lnTo>
                  <a:lnTo>
                    <a:pt x="393" y="1550"/>
                  </a:lnTo>
                  <a:lnTo>
                    <a:pt x="366" y="1550"/>
                  </a:lnTo>
                  <a:lnTo>
                    <a:pt x="335" y="1551"/>
                  </a:lnTo>
                  <a:lnTo>
                    <a:pt x="300" y="1552"/>
                  </a:lnTo>
                  <a:lnTo>
                    <a:pt x="259" y="1553"/>
                  </a:lnTo>
                  <a:lnTo>
                    <a:pt x="215" y="1555"/>
                  </a:lnTo>
                  <a:lnTo>
                    <a:pt x="166" y="1557"/>
                  </a:lnTo>
                  <a:lnTo>
                    <a:pt x="112" y="1560"/>
                  </a:lnTo>
                  <a:lnTo>
                    <a:pt x="55" y="1563"/>
                  </a:lnTo>
                  <a:lnTo>
                    <a:pt x="55" y="1497"/>
                  </a:lnTo>
                  <a:lnTo>
                    <a:pt x="73" y="1493"/>
                  </a:lnTo>
                  <a:lnTo>
                    <a:pt x="89" y="1490"/>
                  </a:lnTo>
                  <a:lnTo>
                    <a:pt x="102" y="1486"/>
                  </a:lnTo>
                  <a:lnTo>
                    <a:pt x="113" y="1484"/>
                  </a:lnTo>
                  <a:lnTo>
                    <a:pt x="144" y="1478"/>
                  </a:lnTo>
                  <a:lnTo>
                    <a:pt x="173" y="1473"/>
                  </a:lnTo>
                  <a:lnTo>
                    <a:pt x="196" y="1467"/>
                  </a:lnTo>
                  <a:lnTo>
                    <a:pt x="217" y="1462"/>
                  </a:lnTo>
                  <a:lnTo>
                    <a:pt x="235" y="1457"/>
                  </a:lnTo>
                  <a:lnTo>
                    <a:pt x="249" y="1451"/>
                  </a:lnTo>
                  <a:lnTo>
                    <a:pt x="259" y="1446"/>
                  </a:lnTo>
                  <a:lnTo>
                    <a:pt x="266" y="1441"/>
                  </a:lnTo>
                  <a:lnTo>
                    <a:pt x="272" y="1436"/>
                  </a:lnTo>
                  <a:lnTo>
                    <a:pt x="276" y="1428"/>
                  </a:lnTo>
                  <a:lnTo>
                    <a:pt x="281" y="1419"/>
                  </a:lnTo>
                  <a:lnTo>
                    <a:pt x="284" y="1407"/>
                  </a:lnTo>
                  <a:lnTo>
                    <a:pt x="286" y="1390"/>
                  </a:lnTo>
                  <a:lnTo>
                    <a:pt x="288" y="1363"/>
                  </a:lnTo>
                  <a:lnTo>
                    <a:pt x="291" y="1330"/>
                  </a:lnTo>
                  <a:lnTo>
                    <a:pt x="292" y="1286"/>
                  </a:lnTo>
                  <a:lnTo>
                    <a:pt x="294" y="1233"/>
                  </a:lnTo>
                  <a:lnTo>
                    <a:pt x="295" y="1173"/>
                  </a:lnTo>
                  <a:lnTo>
                    <a:pt x="296" y="1103"/>
                  </a:lnTo>
                  <a:lnTo>
                    <a:pt x="298" y="1024"/>
                  </a:lnTo>
                  <a:lnTo>
                    <a:pt x="300" y="912"/>
                  </a:lnTo>
                  <a:lnTo>
                    <a:pt x="301" y="812"/>
                  </a:lnTo>
                  <a:lnTo>
                    <a:pt x="302" y="724"/>
                  </a:lnTo>
                  <a:lnTo>
                    <a:pt x="302" y="649"/>
                  </a:lnTo>
                  <a:lnTo>
                    <a:pt x="303" y="586"/>
                  </a:lnTo>
                  <a:lnTo>
                    <a:pt x="303" y="534"/>
                  </a:lnTo>
                  <a:lnTo>
                    <a:pt x="304" y="493"/>
                  </a:lnTo>
                  <a:lnTo>
                    <a:pt x="304" y="466"/>
                  </a:lnTo>
                  <a:lnTo>
                    <a:pt x="304" y="401"/>
                  </a:lnTo>
                  <a:lnTo>
                    <a:pt x="303" y="344"/>
                  </a:lnTo>
                  <a:lnTo>
                    <a:pt x="303" y="293"/>
                  </a:lnTo>
                  <a:lnTo>
                    <a:pt x="302" y="252"/>
                  </a:lnTo>
                  <a:lnTo>
                    <a:pt x="301" y="217"/>
                  </a:lnTo>
                  <a:lnTo>
                    <a:pt x="299" y="190"/>
                  </a:lnTo>
                  <a:lnTo>
                    <a:pt x="298" y="170"/>
                  </a:lnTo>
                  <a:lnTo>
                    <a:pt x="295" y="160"/>
                  </a:lnTo>
                  <a:lnTo>
                    <a:pt x="294" y="154"/>
                  </a:lnTo>
                  <a:lnTo>
                    <a:pt x="292" y="149"/>
                  </a:lnTo>
                  <a:lnTo>
                    <a:pt x="289" y="144"/>
                  </a:lnTo>
                  <a:lnTo>
                    <a:pt x="286" y="138"/>
                  </a:lnTo>
                  <a:lnTo>
                    <a:pt x="283" y="134"/>
                  </a:lnTo>
                  <a:lnTo>
                    <a:pt x="277" y="130"/>
                  </a:lnTo>
                  <a:lnTo>
                    <a:pt x="273" y="126"/>
                  </a:lnTo>
                  <a:lnTo>
                    <a:pt x="267" y="123"/>
                  </a:lnTo>
                  <a:lnTo>
                    <a:pt x="258" y="118"/>
                  </a:lnTo>
                  <a:lnTo>
                    <a:pt x="245" y="114"/>
                  </a:lnTo>
                  <a:lnTo>
                    <a:pt x="227" y="109"/>
                  </a:lnTo>
                  <a:lnTo>
                    <a:pt x="203" y="103"/>
                  </a:lnTo>
                  <a:lnTo>
                    <a:pt x="175" y="97"/>
                  </a:lnTo>
                  <a:lnTo>
                    <a:pt x="141" y="91"/>
                  </a:lnTo>
                  <a:lnTo>
                    <a:pt x="103" y="84"/>
                  </a:lnTo>
                  <a:lnTo>
                    <a:pt x="59" y="77"/>
                  </a:lnTo>
                  <a:lnTo>
                    <a:pt x="48" y="75"/>
                  </a:lnTo>
                  <a:lnTo>
                    <a:pt x="34" y="72"/>
                  </a:lnTo>
                  <a:lnTo>
                    <a:pt x="18" y="69"/>
                  </a:lnTo>
                  <a:lnTo>
                    <a:pt x="0" y="64"/>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717" name="Freeform 80"/>
            <p:cNvSpPr/>
            <p:nvPr/>
          </p:nvSpPr>
          <p:spPr>
            <a:xfrm>
              <a:off x="1929960" y="897840"/>
              <a:ext cx="254160" cy="220320"/>
            </a:xfrm>
            <a:custGeom>
              <a:avLst/>
              <a:gdLst>
                <a:gd name="textAreaLeft" fmla="*/ 0 w 254160"/>
                <a:gd name="textAreaRight" fmla="*/ 254520 w 254160"/>
                <a:gd name="textAreaTop" fmla="*/ 0 h 220320"/>
                <a:gd name="textAreaBottom" fmla="*/ 220680 h 220320"/>
              </a:gdLst>
              <a:ahLst/>
              <a:rect l="textAreaLeft" t="textAreaTop" r="textAreaRight" b="textAreaBottom"/>
              <a:pathLst>
                <a:path w="1708" h="1590">
                  <a:moveTo>
                    <a:pt x="816" y="0"/>
                  </a:moveTo>
                  <a:lnTo>
                    <a:pt x="886" y="0"/>
                  </a:lnTo>
                  <a:lnTo>
                    <a:pt x="905" y="48"/>
                  </a:lnTo>
                  <a:lnTo>
                    <a:pt x="924" y="98"/>
                  </a:lnTo>
                  <a:lnTo>
                    <a:pt x="945" y="147"/>
                  </a:lnTo>
                  <a:lnTo>
                    <a:pt x="965" y="197"/>
                  </a:lnTo>
                  <a:lnTo>
                    <a:pt x="986" y="249"/>
                  </a:lnTo>
                  <a:lnTo>
                    <a:pt x="1007" y="301"/>
                  </a:lnTo>
                  <a:lnTo>
                    <a:pt x="1029" y="354"/>
                  </a:lnTo>
                  <a:lnTo>
                    <a:pt x="1052" y="408"/>
                  </a:lnTo>
                  <a:lnTo>
                    <a:pt x="1075" y="462"/>
                  </a:lnTo>
                  <a:lnTo>
                    <a:pt x="1099" y="517"/>
                  </a:lnTo>
                  <a:lnTo>
                    <a:pt x="1123" y="573"/>
                  </a:lnTo>
                  <a:lnTo>
                    <a:pt x="1148" y="631"/>
                  </a:lnTo>
                  <a:lnTo>
                    <a:pt x="1173" y="689"/>
                  </a:lnTo>
                  <a:lnTo>
                    <a:pt x="1199" y="747"/>
                  </a:lnTo>
                  <a:lnTo>
                    <a:pt x="1225" y="807"/>
                  </a:lnTo>
                  <a:lnTo>
                    <a:pt x="1252" y="867"/>
                  </a:lnTo>
                  <a:lnTo>
                    <a:pt x="1508" y="1428"/>
                  </a:lnTo>
                  <a:lnTo>
                    <a:pt x="1518" y="1441"/>
                  </a:lnTo>
                  <a:lnTo>
                    <a:pt x="1527" y="1453"/>
                  </a:lnTo>
                  <a:lnTo>
                    <a:pt x="1537" y="1464"/>
                  </a:lnTo>
                  <a:lnTo>
                    <a:pt x="1547" y="1472"/>
                  </a:lnTo>
                  <a:lnTo>
                    <a:pt x="1553" y="1474"/>
                  </a:lnTo>
                  <a:lnTo>
                    <a:pt x="1562" y="1478"/>
                  </a:lnTo>
                  <a:lnTo>
                    <a:pt x="1576" y="1484"/>
                  </a:lnTo>
                  <a:lnTo>
                    <a:pt x="1594" y="1490"/>
                  </a:lnTo>
                  <a:lnTo>
                    <a:pt x="1616" y="1496"/>
                  </a:lnTo>
                  <a:lnTo>
                    <a:pt x="1643" y="1505"/>
                  </a:lnTo>
                  <a:lnTo>
                    <a:pt x="1673" y="1514"/>
                  </a:lnTo>
                  <a:lnTo>
                    <a:pt x="1708" y="1524"/>
                  </a:lnTo>
                  <a:lnTo>
                    <a:pt x="1708" y="1590"/>
                  </a:lnTo>
                  <a:lnTo>
                    <a:pt x="1660" y="1587"/>
                  </a:lnTo>
                  <a:lnTo>
                    <a:pt x="1615" y="1584"/>
                  </a:lnTo>
                  <a:lnTo>
                    <a:pt x="1573" y="1582"/>
                  </a:lnTo>
                  <a:lnTo>
                    <a:pt x="1535" y="1580"/>
                  </a:lnTo>
                  <a:lnTo>
                    <a:pt x="1500" y="1579"/>
                  </a:lnTo>
                  <a:lnTo>
                    <a:pt x="1468" y="1578"/>
                  </a:lnTo>
                  <a:lnTo>
                    <a:pt x="1439" y="1577"/>
                  </a:lnTo>
                  <a:lnTo>
                    <a:pt x="1414" y="1577"/>
                  </a:lnTo>
                  <a:lnTo>
                    <a:pt x="1387" y="1577"/>
                  </a:lnTo>
                  <a:lnTo>
                    <a:pt x="1357" y="1578"/>
                  </a:lnTo>
                  <a:lnTo>
                    <a:pt x="1322" y="1579"/>
                  </a:lnTo>
                  <a:lnTo>
                    <a:pt x="1282" y="1580"/>
                  </a:lnTo>
                  <a:lnTo>
                    <a:pt x="1239" y="1582"/>
                  </a:lnTo>
                  <a:lnTo>
                    <a:pt x="1191" y="1584"/>
                  </a:lnTo>
                  <a:lnTo>
                    <a:pt x="1140" y="1587"/>
                  </a:lnTo>
                  <a:lnTo>
                    <a:pt x="1083" y="1590"/>
                  </a:lnTo>
                  <a:lnTo>
                    <a:pt x="1083" y="1524"/>
                  </a:lnTo>
                  <a:lnTo>
                    <a:pt x="1143" y="1511"/>
                  </a:lnTo>
                  <a:lnTo>
                    <a:pt x="1188" y="1500"/>
                  </a:lnTo>
                  <a:lnTo>
                    <a:pt x="1206" y="1494"/>
                  </a:lnTo>
                  <a:lnTo>
                    <a:pt x="1220" y="1489"/>
                  </a:lnTo>
                  <a:lnTo>
                    <a:pt x="1231" y="1485"/>
                  </a:lnTo>
                  <a:lnTo>
                    <a:pt x="1238" y="1481"/>
                  </a:lnTo>
                  <a:lnTo>
                    <a:pt x="1243" y="1476"/>
                  </a:lnTo>
                  <a:lnTo>
                    <a:pt x="1248" y="1472"/>
                  </a:lnTo>
                  <a:lnTo>
                    <a:pt x="1252" y="1467"/>
                  </a:lnTo>
                  <a:lnTo>
                    <a:pt x="1255" y="1463"/>
                  </a:lnTo>
                  <a:lnTo>
                    <a:pt x="1257" y="1457"/>
                  </a:lnTo>
                  <a:lnTo>
                    <a:pt x="1259" y="1453"/>
                  </a:lnTo>
                  <a:lnTo>
                    <a:pt x="1260" y="1448"/>
                  </a:lnTo>
                  <a:lnTo>
                    <a:pt x="1260" y="1441"/>
                  </a:lnTo>
                  <a:lnTo>
                    <a:pt x="1260" y="1436"/>
                  </a:lnTo>
                  <a:lnTo>
                    <a:pt x="1259" y="1429"/>
                  </a:lnTo>
                  <a:lnTo>
                    <a:pt x="1257" y="1420"/>
                  </a:lnTo>
                  <a:lnTo>
                    <a:pt x="1255" y="1411"/>
                  </a:lnTo>
                  <a:lnTo>
                    <a:pt x="1248" y="1389"/>
                  </a:lnTo>
                  <a:lnTo>
                    <a:pt x="1237" y="1364"/>
                  </a:lnTo>
                  <a:lnTo>
                    <a:pt x="1127" y="1095"/>
                  </a:lnTo>
                  <a:lnTo>
                    <a:pt x="1071" y="1095"/>
                  </a:lnTo>
                  <a:lnTo>
                    <a:pt x="1018" y="1094"/>
                  </a:lnTo>
                  <a:lnTo>
                    <a:pt x="969" y="1094"/>
                  </a:lnTo>
                  <a:lnTo>
                    <a:pt x="924" y="1093"/>
                  </a:lnTo>
                  <a:lnTo>
                    <a:pt x="884" y="1093"/>
                  </a:lnTo>
                  <a:lnTo>
                    <a:pt x="847" y="1093"/>
                  </a:lnTo>
                  <a:lnTo>
                    <a:pt x="814" y="1093"/>
                  </a:lnTo>
                  <a:lnTo>
                    <a:pt x="786" y="1093"/>
                  </a:lnTo>
                  <a:lnTo>
                    <a:pt x="484" y="1095"/>
                  </a:lnTo>
                  <a:lnTo>
                    <a:pt x="368" y="1374"/>
                  </a:lnTo>
                  <a:lnTo>
                    <a:pt x="357" y="1404"/>
                  </a:lnTo>
                  <a:lnTo>
                    <a:pt x="347" y="1428"/>
                  </a:lnTo>
                  <a:lnTo>
                    <a:pt x="342" y="1446"/>
                  </a:lnTo>
                  <a:lnTo>
                    <a:pt x="340" y="1457"/>
                  </a:lnTo>
                  <a:lnTo>
                    <a:pt x="341" y="1464"/>
                  </a:lnTo>
                  <a:lnTo>
                    <a:pt x="344" y="1470"/>
                  </a:lnTo>
                  <a:lnTo>
                    <a:pt x="348" y="1476"/>
                  </a:lnTo>
                  <a:lnTo>
                    <a:pt x="354" y="1481"/>
                  </a:lnTo>
                  <a:lnTo>
                    <a:pt x="359" y="1484"/>
                  </a:lnTo>
                  <a:lnTo>
                    <a:pt x="367" y="1487"/>
                  </a:lnTo>
                  <a:lnTo>
                    <a:pt x="378" y="1490"/>
                  </a:lnTo>
                  <a:lnTo>
                    <a:pt x="393" y="1494"/>
                  </a:lnTo>
                  <a:lnTo>
                    <a:pt x="431" y="1503"/>
                  </a:lnTo>
                  <a:lnTo>
                    <a:pt x="483" y="1514"/>
                  </a:lnTo>
                  <a:lnTo>
                    <a:pt x="489" y="1517"/>
                  </a:lnTo>
                  <a:lnTo>
                    <a:pt x="497" y="1519"/>
                  </a:lnTo>
                  <a:lnTo>
                    <a:pt x="506" y="1521"/>
                  </a:lnTo>
                  <a:lnTo>
                    <a:pt x="516" y="1524"/>
                  </a:lnTo>
                  <a:lnTo>
                    <a:pt x="516" y="1590"/>
                  </a:lnTo>
                  <a:lnTo>
                    <a:pt x="471" y="1587"/>
                  </a:lnTo>
                  <a:lnTo>
                    <a:pt x="429" y="1584"/>
                  </a:lnTo>
                  <a:lnTo>
                    <a:pt x="391" y="1582"/>
                  </a:lnTo>
                  <a:lnTo>
                    <a:pt x="356" y="1580"/>
                  </a:lnTo>
                  <a:lnTo>
                    <a:pt x="324" y="1579"/>
                  </a:lnTo>
                  <a:lnTo>
                    <a:pt x="296" y="1578"/>
                  </a:lnTo>
                  <a:lnTo>
                    <a:pt x="272" y="1577"/>
                  </a:lnTo>
                  <a:lnTo>
                    <a:pt x="251" y="1577"/>
                  </a:lnTo>
                  <a:lnTo>
                    <a:pt x="225" y="1577"/>
                  </a:lnTo>
                  <a:lnTo>
                    <a:pt x="199" y="1578"/>
                  </a:lnTo>
                  <a:lnTo>
                    <a:pt x="169" y="1579"/>
                  </a:lnTo>
                  <a:lnTo>
                    <a:pt x="140" y="1580"/>
                  </a:lnTo>
                  <a:lnTo>
                    <a:pt x="107" y="1582"/>
                  </a:lnTo>
                  <a:lnTo>
                    <a:pt x="73" y="1584"/>
                  </a:lnTo>
                  <a:lnTo>
                    <a:pt x="37" y="1587"/>
                  </a:lnTo>
                  <a:lnTo>
                    <a:pt x="0" y="1590"/>
                  </a:lnTo>
                  <a:lnTo>
                    <a:pt x="0" y="1524"/>
                  </a:lnTo>
                  <a:lnTo>
                    <a:pt x="24" y="1519"/>
                  </a:lnTo>
                  <a:lnTo>
                    <a:pt x="46" y="1512"/>
                  </a:lnTo>
                  <a:lnTo>
                    <a:pt x="67" y="1507"/>
                  </a:lnTo>
                  <a:lnTo>
                    <a:pt x="85" y="1501"/>
                  </a:lnTo>
                  <a:lnTo>
                    <a:pt x="100" y="1494"/>
                  </a:lnTo>
                  <a:lnTo>
                    <a:pt x="115" y="1488"/>
                  </a:lnTo>
                  <a:lnTo>
                    <a:pt x="127" y="1482"/>
                  </a:lnTo>
                  <a:lnTo>
                    <a:pt x="138" y="1475"/>
                  </a:lnTo>
                  <a:lnTo>
                    <a:pt x="145" y="1469"/>
                  </a:lnTo>
                  <a:lnTo>
                    <a:pt x="151" y="1463"/>
                  </a:lnTo>
                  <a:lnTo>
                    <a:pt x="159" y="1455"/>
                  </a:lnTo>
                  <a:lnTo>
                    <a:pt x="166" y="1447"/>
                  </a:lnTo>
                  <a:lnTo>
                    <a:pt x="180" y="1428"/>
                  </a:lnTo>
                  <a:lnTo>
                    <a:pt x="195" y="1404"/>
                  </a:lnTo>
                  <a:lnTo>
                    <a:pt x="214" y="1369"/>
                  </a:lnTo>
                  <a:lnTo>
                    <a:pt x="238" y="1319"/>
                  </a:lnTo>
                  <a:lnTo>
                    <a:pt x="269" y="1255"/>
                  </a:lnTo>
                  <a:lnTo>
                    <a:pt x="306" y="1174"/>
                  </a:lnTo>
                  <a:lnTo>
                    <a:pt x="349" y="1079"/>
                  </a:lnTo>
                  <a:lnTo>
                    <a:pt x="398" y="969"/>
                  </a:lnTo>
                  <a:lnTo>
                    <a:pt x="453" y="844"/>
                  </a:lnTo>
                  <a:lnTo>
                    <a:pt x="515" y="703"/>
                  </a:lnTo>
                  <a:lnTo>
                    <a:pt x="816" y="0"/>
                  </a:lnTo>
                  <a:close/>
                  <a:moveTo>
                    <a:pt x="526" y="985"/>
                  </a:moveTo>
                  <a:lnTo>
                    <a:pt x="563" y="986"/>
                  </a:lnTo>
                  <a:lnTo>
                    <a:pt x="597" y="987"/>
                  </a:lnTo>
                  <a:lnTo>
                    <a:pt x="629" y="988"/>
                  </a:lnTo>
                  <a:lnTo>
                    <a:pt x="658" y="988"/>
                  </a:lnTo>
                  <a:lnTo>
                    <a:pt x="684" y="989"/>
                  </a:lnTo>
                  <a:lnTo>
                    <a:pt x="707" y="989"/>
                  </a:lnTo>
                  <a:lnTo>
                    <a:pt x="727" y="989"/>
                  </a:lnTo>
                  <a:lnTo>
                    <a:pt x="745" y="989"/>
                  </a:lnTo>
                  <a:lnTo>
                    <a:pt x="755" y="989"/>
                  </a:lnTo>
                  <a:lnTo>
                    <a:pt x="774" y="989"/>
                  </a:lnTo>
                  <a:lnTo>
                    <a:pt x="802" y="989"/>
                  </a:lnTo>
                  <a:lnTo>
                    <a:pt x="840" y="988"/>
                  </a:lnTo>
                  <a:lnTo>
                    <a:pt x="886" y="988"/>
                  </a:lnTo>
                  <a:lnTo>
                    <a:pt x="942" y="987"/>
                  </a:lnTo>
                  <a:lnTo>
                    <a:pt x="1008" y="986"/>
                  </a:lnTo>
                  <a:lnTo>
                    <a:pt x="1083" y="985"/>
                  </a:lnTo>
                  <a:lnTo>
                    <a:pt x="805" y="323"/>
                  </a:lnTo>
                  <a:lnTo>
                    <a:pt x="526" y="985"/>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718" name="Freeform 81"/>
            <p:cNvSpPr/>
            <p:nvPr/>
          </p:nvSpPr>
          <p:spPr>
            <a:xfrm>
              <a:off x="2212920" y="896760"/>
              <a:ext cx="255960" cy="226080"/>
            </a:xfrm>
            <a:custGeom>
              <a:avLst/>
              <a:gdLst>
                <a:gd name="textAreaLeft" fmla="*/ 0 w 255960"/>
                <a:gd name="textAreaRight" fmla="*/ 256320 w 255960"/>
                <a:gd name="textAreaTop" fmla="*/ 0 h 226080"/>
                <a:gd name="textAreaBottom" fmla="*/ 226440 h 226080"/>
              </a:gdLst>
              <a:ahLst/>
              <a:rect l="textAreaLeft" t="textAreaTop" r="textAreaRight" b="textAreaBottom"/>
              <a:pathLst>
                <a:path w="1726" h="1629">
                  <a:moveTo>
                    <a:pt x="1726" y="790"/>
                  </a:moveTo>
                  <a:lnTo>
                    <a:pt x="1726" y="851"/>
                  </a:lnTo>
                  <a:lnTo>
                    <a:pt x="1558" y="891"/>
                  </a:lnTo>
                  <a:lnTo>
                    <a:pt x="1545" y="895"/>
                  </a:lnTo>
                  <a:lnTo>
                    <a:pt x="1534" y="899"/>
                  </a:lnTo>
                  <a:lnTo>
                    <a:pt x="1526" y="905"/>
                  </a:lnTo>
                  <a:lnTo>
                    <a:pt x="1519" y="911"/>
                  </a:lnTo>
                  <a:lnTo>
                    <a:pt x="1513" y="917"/>
                  </a:lnTo>
                  <a:lnTo>
                    <a:pt x="1509" y="926"/>
                  </a:lnTo>
                  <a:lnTo>
                    <a:pt x="1505" y="937"/>
                  </a:lnTo>
                  <a:lnTo>
                    <a:pt x="1503" y="948"/>
                  </a:lnTo>
                  <a:lnTo>
                    <a:pt x="1501" y="962"/>
                  </a:lnTo>
                  <a:lnTo>
                    <a:pt x="1498" y="982"/>
                  </a:lnTo>
                  <a:lnTo>
                    <a:pt x="1497" y="1005"/>
                  </a:lnTo>
                  <a:lnTo>
                    <a:pt x="1495" y="1034"/>
                  </a:lnTo>
                  <a:lnTo>
                    <a:pt x="1494" y="1068"/>
                  </a:lnTo>
                  <a:lnTo>
                    <a:pt x="1494" y="1106"/>
                  </a:lnTo>
                  <a:lnTo>
                    <a:pt x="1493" y="1149"/>
                  </a:lnTo>
                  <a:lnTo>
                    <a:pt x="1493" y="1195"/>
                  </a:lnTo>
                  <a:lnTo>
                    <a:pt x="1493" y="1227"/>
                  </a:lnTo>
                  <a:lnTo>
                    <a:pt x="1494" y="1261"/>
                  </a:lnTo>
                  <a:lnTo>
                    <a:pt x="1494" y="1297"/>
                  </a:lnTo>
                  <a:lnTo>
                    <a:pt x="1495" y="1336"/>
                  </a:lnTo>
                  <a:lnTo>
                    <a:pt x="1497" y="1377"/>
                  </a:lnTo>
                  <a:lnTo>
                    <a:pt x="1498" y="1422"/>
                  </a:lnTo>
                  <a:lnTo>
                    <a:pt x="1501" y="1469"/>
                  </a:lnTo>
                  <a:lnTo>
                    <a:pt x="1503" y="1518"/>
                  </a:lnTo>
                  <a:lnTo>
                    <a:pt x="1489" y="1520"/>
                  </a:lnTo>
                  <a:lnTo>
                    <a:pt x="1471" y="1524"/>
                  </a:lnTo>
                  <a:lnTo>
                    <a:pt x="1451" y="1528"/>
                  </a:lnTo>
                  <a:lnTo>
                    <a:pt x="1426" y="1533"/>
                  </a:lnTo>
                  <a:lnTo>
                    <a:pt x="1398" y="1540"/>
                  </a:lnTo>
                  <a:lnTo>
                    <a:pt x="1367" y="1546"/>
                  </a:lnTo>
                  <a:lnTo>
                    <a:pt x="1332" y="1553"/>
                  </a:lnTo>
                  <a:lnTo>
                    <a:pt x="1294" y="1562"/>
                  </a:lnTo>
                  <a:lnTo>
                    <a:pt x="1244" y="1573"/>
                  </a:lnTo>
                  <a:lnTo>
                    <a:pt x="1200" y="1583"/>
                  </a:lnTo>
                  <a:lnTo>
                    <a:pt x="1160" y="1591"/>
                  </a:lnTo>
                  <a:lnTo>
                    <a:pt x="1124" y="1599"/>
                  </a:lnTo>
                  <a:lnTo>
                    <a:pt x="1093" y="1604"/>
                  </a:lnTo>
                  <a:lnTo>
                    <a:pt x="1067" y="1609"/>
                  </a:lnTo>
                  <a:lnTo>
                    <a:pt x="1046" y="1613"/>
                  </a:lnTo>
                  <a:lnTo>
                    <a:pt x="1030" y="1615"/>
                  </a:lnTo>
                  <a:lnTo>
                    <a:pt x="1003" y="1618"/>
                  </a:lnTo>
                  <a:lnTo>
                    <a:pt x="976" y="1621"/>
                  </a:lnTo>
                  <a:lnTo>
                    <a:pt x="948" y="1623"/>
                  </a:lnTo>
                  <a:lnTo>
                    <a:pt x="920" y="1625"/>
                  </a:lnTo>
                  <a:lnTo>
                    <a:pt x="892" y="1626"/>
                  </a:lnTo>
                  <a:lnTo>
                    <a:pt x="862" y="1627"/>
                  </a:lnTo>
                  <a:lnTo>
                    <a:pt x="833" y="1629"/>
                  </a:lnTo>
                  <a:lnTo>
                    <a:pt x="804" y="1629"/>
                  </a:lnTo>
                  <a:lnTo>
                    <a:pt x="755" y="1627"/>
                  </a:lnTo>
                  <a:lnTo>
                    <a:pt x="709" y="1625"/>
                  </a:lnTo>
                  <a:lnTo>
                    <a:pt x="664" y="1621"/>
                  </a:lnTo>
                  <a:lnTo>
                    <a:pt x="620" y="1616"/>
                  </a:lnTo>
                  <a:lnTo>
                    <a:pt x="579" y="1608"/>
                  </a:lnTo>
                  <a:lnTo>
                    <a:pt x="538" y="1600"/>
                  </a:lnTo>
                  <a:lnTo>
                    <a:pt x="499" y="1589"/>
                  </a:lnTo>
                  <a:lnTo>
                    <a:pt x="460" y="1577"/>
                  </a:lnTo>
                  <a:lnTo>
                    <a:pt x="424" y="1563"/>
                  </a:lnTo>
                  <a:lnTo>
                    <a:pt x="389" y="1548"/>
                  </a:lnTo>
                  <a:lnTo>
                    <a:pt x="356" y="1531"/>
                  </a:lnTo>
                  <a:lnTo>
                    <a:pt x="323" y="1513"/>
                  </a:lnTo>
                  <a:lnTo>
                    <a:pt x="307" y="1504"/>
                  </a:lnTo>
                  <a:lnTo>
                    <a:pt x="292" y="1493"/>
                  </a:lnTo>
                  <a:lnTo>
                    <a:pt x="277" y="1482"/>
                  </a:lnTo>
                  <a:lnTo>
                    <a:pt x="262" y="1471"/>
                  </a:lnTo>
                  <a:lnTo>
                    <a:pt x="249" y="1460"/>
                  </a:lnTo>
                  <a:lnTo>
                    <a:pt x="234" y="1448"/>
                  </a:lnTo>
                  <a:lnTo>
                    <a:pt x="221" y="1436"/>
                  </a:lnTo>
                  <a:lnTo>
                    <a:pt x="207" y="1423"/>
                  </a:lnTo>
                  <a:lnTo>
                    <a:pt x="182" y="1396"/>
                  </a:lnTo>
                  <a:lnTo>
                    <a:pt x="159" y="1369"/>
                  </a:lnTo>
                  <a:lnTo>
                    <a:pt x="137" y="1340"/>
                  </a:lnTo>
                  <a:lnTo>
                    <a:pt x="116" y="1311"/>
                  </a:lnTo>
                  <a:lnTo>
                    <a:pt x="98" y="1280"/>
                  </a:lnTo>
                  <a:lnTo>
                    <a:pt x="81" y="1248"/>
                  </a:lnTo>
                  <a:lnTo>
                    <a:pt x="65" y="1214"/>
                  </a:lnTo>
                  <a:lnTo>
                    <a:pt x="52" y="1180"/>
                  </a:lnTo>
                  <a:lnTo>
                    <a:pt x="40" y="1144"/>
                  </a:lnTo>
                  <a:lnTo>
                    <a:pt x="29" y="1108"/>
                  </a:lnTo>
                  <a:lnTo>
                    <a:pt x="20" y="1070"/>
                  </a:lnTo>
                  <a:lnTo>
                    <a:pt x="12" y="1031"/>
                  </a:lnTo>
                  <a:lnTo>
                    <a:pt x="7" y="991"/>
                  </a:lnTo>
                  <a:lnTo>
                    <a:pt x="3" y="949"/>
                  </a:lnTo>
                  <a:lnTo>
                    <a:pt x="1" y="907"/>
                  </a:lnTo>
                  <a:lnTo>
                    <a:pt x="0" y="862"/>
                  </a:lnTo>
                  <a:lnTo>
                    <a:pt x="1" y="816"/>
                  </a:lnTo>
                  <a:lnTo>
                    <a:pt x="4" y="769"/>
                  </a:lnTo>
                  <a:lnTo>
                    <a:pt x="8" y="724"/>
                  </a:lnTo>
                  <a:lnTo>
                    <a:pt x="15" y="680"/>
                  </a:lnTo>
                  <a:lnTo>
                    <a:pt x="19" y="658"/>
                  </a:lnTo>
                  <a:lnTo>
                    <a:pt x="23" y="637"/>
                  </a:lnTo>
                  <a:lnTo>
                    <a:pt x="28" y="615"/>
                  </a:lnTo>
                  <a:lnTo>
                    <a:pt x="34" y="595"/>
                  </a:lnTo>
                  <a:lnTo>
                    <a:pt x="40" y="574"/>
                  </a:lnTo>
                  <a:lnTo>
                    <a:pt x="46" y="554"/>
                  </a:lnTo>
                  <a:lnTo>
                    <a:pt x="54" y="534"/>
                  </a:lnTo>
                  <a:lnTo>
                    <a:pt x="61" y="515"/>
                  </a:lnTo>
                  <a:lnTo>
                    <a:pt x="69" y="496"/>
                  </a:lnTo>
                  <a:lnTo>
                    <a:pt x="77" y="477"/>
                  </a:lnTo>
                  <a:lnTo>
                    <a:pt x="86" y="458"/>
                  </a:lnTo>
                  <a:lnTo>
                    <a:pt x="95" y="438"/>
                  </a:lnTo>
                  <a:lnTo>
                    <a:pt x="105" y="420"/>
                  </a:lnTo>
                  <a:lnTo>
                    <a:pt x="115" y="402"/>
                  </a:lnTo>
                  <a:lnTo>
                    <a:pt x="126" y="386"/>
                  </a:lnTo>
                  <a:lnTo>
                    <a:pt x="137" y="367"/>
                  </a:lnTo>
                  <a:lnTo>
                    <a:pt x="149" y="351"/>
                  </a:lnTo>
                  <a:lnTo>
                    <a:pt x="161" y="334"/>
                  </a:lnTo>
                  <a:lnTo>
                    <a:pt x="173" y="318"/>
                  </a:lnTo>
                  <a:lnTo>
                    <a:pt x="186" y="301"/>
                  </a:lnTo>
                  <a:lnTo>
                    <a:pt x="200" y="285"/>
                  </a:lnTo>
                  <a:lnTo>
                    <a:pt x="214" y="269"/>
                  </a:lnTo>
                  <a:lnTo>
                    <a:pt x="228" y="254"/>
                  </a:lnTo>
                  <a:lnTo>
                    <a:pt x="243" y="239"/>
                  </a:lnTo>
                  <a:lnTo>
                    <a:pt x="259" y="224"/>
                  </a:lnTo>
                  <a:lnTo>
                    <a:pt x="275" y="210"/>
                  </a:lnTo>
                  <a:lnTo>
                    <a:pt x="291" y="196"/>
                  </a:lnTo>
                  <a:lnTo>
                    <a:pt x="307" y="183"/>
                  </a:lnTo>
                  <a:lnTo>
                    <a:pt x="324" y="170"/>
                  </a:lnTo>
                  <a:lnTo>
                    <a:pt x="341" y="158"/>
                  </a:lnTo>
                  <a:lnTo>
                    <a:pt x="358" y="146"/>
                  </a:lnTo>
                  <a:lnTo>
                    <a:pt x="376" y="134"/>
                  </a:lnTo>
                  <a:lnTo>
                    <a:pt x="394" y="123"/>
                  </a:lnTo>
                  <a:lnTo>
                    <a:pt x="412" y="113"/>
                  </a:lnTo>
                  <a:lnTo>
                    <a:pt x="430" y="103"/>
                  </a:lnTo>
                  <a:lnTo>
                    <a:pt x="449" y="93"/>
                  </a:lnTo>
                  <a:lnTo>
                    <a:pt x="468" y="83"/>
                  </a:lnTo>
                  <a:lnTo>
                    <a:pt x="488" y="75"/>
                  </a:lnTo>
                  <a:lnTo>
                    <a:pt x="507" y="68"/>
                  </a:lnTo>
                  <a:lnTo>
                    <a:pt x="527" y="59"/>
                  </a:lnTo>
                  <a:lnTo>
                    <a:pt x="548" y="52"/>
                  </a:lnTo>
                  <a:lnTo>
                    <a:pt x="568" y="45"/>
                  </a:lnTo>
                  <a:lnTo>
                    <a:pt x="590" y="39"/>
                  </a:lnTo>
                  <a:lnTo>
                    <a:pt x="611" y="33"/>
                  </a:lnTo>
                  <a:lnTo>
                    <a:pt x="655" y="23"/>
                  </a:lnTo>
                  <a:lnTo>
                    <a:pt x="700" y="15"/>
                  </a:lnTo>
                  <a:lnTo>
                    <a:pt x="746" y="8"/>
                  </a:lnTo>
                  <a:lnTo>
                    <a:pt x="794" y="3"/>
                  </a:lnTo>
                  <a:lnTo>
                    <a:pt x="843" y="1"/>
                  </a:lnTo>
                  <a:lnTo>
                    <a:pt x="893" y="0"/>
                  </a:lnTo>
                  <a:lnTo>
                    <a:pt x="918" y="0"/>
                  </a:lnTo>
                  <a:lnTo>
                    <a:pt x="942" y="0"/>
                  </a:lnTo>
                  <a:lnTo>
                    <a:pt x="967" y="1"/>
                  </a:lnTo>
                  <a:lnTo>
                    <a:pt x="991" y="3"/>
                  </a:lnTo>
                  <a:lnTo>
                    <a:pt x="1015" y="4"/>
                  </a:lnTo>
                  <a:lnTo>
                    <a:pt x="1040" y="6"/>
                  </a:lnTo>
                  <a:lnTo>
                    <a:pt x="1063" y="8"/>
                  </a:lnTo>
                  <a:lnTo>
                    <a:pt x="1086" y="11"/>
                  </a:lnTo>
                  <a:lnTo>
                    <a:pt x="1097" y="12"/>
                  </a:lnTo>
                  <a:lnTo>
                    <a:pt x="1117" y="17"/>
                  </a:lnTo>
                  <a:lnTo>
                    <a:pt x="1149" y="22"/>
                  </a:lnTo>
                  <a:lnTo>
                    <a:pt x="1190" y="29"/>
                  </a:lnTo>
                  <a:lnTo>
                    <a:pt x="1243" y="39"/>
                  </a:lnTo>
                  <a:lnTo>
                    <a:pt x="1306" y="51"/>
                  </a:lnTo>
                  <a:lnTo>
                    <a:pt x="1379" y="63"/>
                  </a:lnTo>
                  <a:lnTo>
                    <a:pt x="1462" y="78"/>
                  </a:lnTo>
                  <a:lnTo>
                    <a:pt x="1462" y="108"/>
                  </a:lnTo>
                  <a:lnTo>
                    <a:pt x="1461" y="133"/>
                  </a:lnTo>
                  <a:lnTo>
                    <a:pt x="1461" y="156"/>
                  </a:lnTo>
                  <a:lnTo>
                    <a:pt x="1461" y="176"/>
                  </a:lnTo>
                  <a:lnTo>
                    <a:pt x="1461" y="213"/>
                  </a:lnTo>
                  <a:lnTo>
                    <a:pt x="1462" y="252"/>
                  </a:lnTo>
                  <a:lnTo>
                    <a:pt x="1464" y="292"/>
                  </a:lnTo>
                  <a:lnTo>
                    <a:pt x="1465" y="333"/>
                  </a:lnTo>
                  <a:lnTo>
                    <a:pt x="1467" y="375"/>
                  </a:lnTo>
                  <a:lnTo>
                    <a:pt x="1470" y="418"/>
                  </a:lnTo>
                  <a:lnTo>
                    <a:pt x="1472" y="464"/>
                  </a:lnTo>
                  <a:lnTo>
                    <a:pt x="1476" y="509"/>
                  </a:lnTo>
                  <a:lnTo>
                    <a:pt x="1394" y="509"/>
                  </a:lnTo>
                  <a:lnTo>
                    <a:pt x="1381" y="464"/>
                  </a:lnTo>
                  <a:lnTo>
                    <a:pt x="1368" y="424"/>
                  </a:lnTo>
                  <a:lnTo>
                    <a:pt x="1357" y="387"/>
                  </a:lnTo>
                  <a:lnTo>
                    <a:pt x="1344" y="354"/>
                  </a:lnTo>
                  <a:lnTo>
                    <a:pt x="1332" y="324"/>
                  </a:lnTo>
                  <a:lnTo>
                    <a:pt x="1321" y="300"/>
                  </a:lnTo>
                  <a:lnTo>
                    <a:pt x="1309" y="278"/>
                  </a:lnTo>
                  <a:lnTo>
                    <a:pt x="1298" y="262"/>
                  </a:lnTo>
                  <a:lnTo>
                    <a:pt x="1286" y="247"/>
                  </a:lnTo>
                  <a:lnTo>
                    <a:pt x="1272" y="233"/>
                  </a:lnTo>
                  <a:lnTo>
                    <a:pt x="1257" y="220"/>
                  </a:lnTo>
                  <a:lnTo>
                    <a:pt x="1240" y="207"/>
                  </a:lnTo>
                  <a:lnTo>
                    <a:pt x="1221" y="196"/>
                  </a:lnTo>
                  <a:lnTo>
                    <a:pt x="1200" y="185"/>
                  </a:lnTo>
                  <a:lnTo>
                    <a:pt x="1178" y="175"/>
                  </a:lnTo>
                  <a:lnTo>
                    <a:pt x="1153" y="165"/>
                  </a:lnTo>
                  <a:lnTo>
                    <a:pt x="1120" y="152"/>
                  </a:lnTo>
                  <a:lnTo>
                    <a:pt x="1086" y="143"/>
                  </a:lnTo>
                  <a:lnTo>
                    <a:pt x="1051" y="134"/>
                  </a:lnTo>
                  <a:lnTo>
                    <a:pt x="1015" y="127"/>
                  </a:lnTo>
                  <a:lnTo>
                    <a:pt x="979" y="122"/>
                  </a:lnTo>
                  <a:lnTo>
                    <a:pt x="942" y="117"/>
                  </a:lnTo>
                  <a:lnTo>
                    <a:pt x="905" y="115"/>
                  </a:lnTo>
                  <a:lnTo>
                    <a:pt x="867" y="114"/>
                  </a:lnTo>
                  <a:lnTo>
                    <a:pt x="825" y="115"/>
                  </a:lnTo>
                  <a:lnTo>
                    <a:pt x="785" y="118"/>
                  </a:lnTo>
                  <a:lnTo>
                    <a:pt x="764" y="121"/>
                  </a:lnTo>
                  <a:lnTo>
                    <a:pt x="745" y="123"/>
                  </a:lnTo>
                  <a:lnTo>
                    <a:pt x="726" y="126"/>
                  </a:lnTo>
                  <a:lnTo>
                    <a:pt x="707" y="130"/>
                  </a:lnTo>
                  <a:lnTo>
                    <a:pt x="688" y="134"/>
                  </a:lnTo>
                  <a:lnTo>
                    <a:pt x="670" y="140"/>
                  </a:lnTo>
                  <a:lnTo>
                    <a:pt x="652" y="145"/>
                  </a:lnTo>
                  <a:lnTo>
                    <a:pt x="635" y="150"/>
                  </a:lnTo>
                  <a:lnTo>
                    <a:pt x="618" y="157"/>
                  </a:lnTo>
                  <a:lnTo>
                    <a:pt x="601" y="163"/>
                  </a:lnTo>
                  <a:lnTo>
                    <a:pt x="584" y="170"/>
                  </a:lnTo>
                  <a:lnTo>
                    <a:pt x="568" y="179"/>
                  </a:lnTo>
                  <a:lnTo>
                    <a:pt x="553" y="186"/>
                  </a:lnTo>
                  <a:lnTo>
                    <a:pt x="537" y="196"/>
                  </a:lnTo>
                  <a:lnTo>
                    <a:pt x="522" y="204"/>
                  </a:lnTo>
                  <a:lnTo>
                    <a:pt x="507" y="215"/>
                  </a:lnTo>
                  <a:lnTo>
                    <a:pt x="492" y="224"/>
                  </a:lnTo>
                  <a:lnTo>
                    <a:pt x="478" y="236"/>
                  </a:lnTo>
                  <a:lnTo>
                    <a:pt x="464" y="247"/>
                  </a:lnTo>
                  <a:lnTo>
                    <a:pt x="451" y="258"/>
                  </a:lnTo>
                  <a:lnTo>
                    <a:pt x="437" y="271"/>
                  </a:lnTo>
                  <a:lnTo>
                    <a:pt x="424" y="284"/>
                  </a:lnTo>
                  <a:lnTo>
                    <a:pt x="412" y="298"/>
                  </a:lnTo>
                  <a:lnTo>
                    <a:pt x="400" y="311"/>
                  </a:lnTo>
                  <a:lnTo>
                    <a:pt x="387" y="325"/>
                  </a:lnTo>
                  <a:lnTo>
                    <a:pt x="377" y="340"/>
                  </a:lnTo>
                  <a:lnTo>
                    <a:pt x="365" y="356"/>
                  </a:lnTo>
                  <a:lnTo>
                    <a:pt x="355" y="372"/>
                  </a:lnTo>
                  <a:lnTo>
                    <a:pt x="340" y="395"/>
                  </a:lnTo>
                  <a:lnTo>
                    <a:pt x="326" y="418"/>
                  </a:lnTo>
                  <a:lnTo>
                    <a:pt x="313" y="443"/>
                  </a:lnTo>
                  <a:lnTo>
                    <a:pt x="302" y="468"/>
                  </a:lnTo>
                  <a:lnTo>
                    <a:pt x="291" y="494"/>
                  </a:lnTo>
                  <a:lnTo>
                    <a:pt x="281" y="520"/>
                  </a:lnTo>
                  <a:lnTo>
                    <a:pt x="272" y="547"/>
                  </a:lnTo>
                  <a:lnTo>
                    <a:pt x="265" y="574"/>
                  </a:lnTo>
                  <a:lnTo>
                    <a:pt x="257" y="603"/>
                  </a:lnTo>
                  <a:lnTo>
                    <a:pt x="251" y="631"/>
                  </a:lnTo>
                  <a:lnTo>
                    <a:pt x="245" y="661"/>
                  </a:lnTo>
                  <a:lnTo>
                    <a:pt x="241" y="692"/>
                  </a:lnTo>
                  <a:lnTo>
                    <a:pt x="238" y="723"/>
                  </a:lnTo>
                  <a:lnTo>
                    <a:pt x="236" y="754"/>
                  </a:lnTo>
                  <a:lnTo>
                    <a:pt x="235" y="786"/>
                  </a:lnTo>
                  <a:lnTo>
                    <a:pt x="234" y="819"/>
                  </a:lnTo>
                  <a:lnTo>
                    <a:pt x="235" y="860"/>
                  </a:lnTo>
                  <a:lnTo>
                    <a:pt x="237" y="902"/>
                  </a:lnTo>
                  <a:lnTo>
                    <a:pt x="241" y="941"/>
                  </a:lnTo>
                  <a:lnTo>
                    <a:pt x="246" y="978"/>
                  </a:lnTo>
                  <a:lnTo>
                    <a:pt x="253" y="1015"/>
                  </a:lnTo>
                  <a:lnTo>
                    <a:pt x="261" y="1050"/>
                  </a:lnTo>
                  <a:lnTo>
                    <a:pt x="271" y="1084"/>
                  </a:lnTo>
                  <a:lnTo>
                    <a:pt x="281" y="1117"/>
                  </a:lnTo>
                  <a:lnTo>
                    <a:pt x="294" y="1149"/>
                  </a:lnTo>
                  <a:lnTo>
                    <a:pt x="308" y="1178"/>
                  </a:lnTo>
                  <a:lnTo>
                    <a:pt x="324" y="1208"/>
                  </a:lnTo>
                  <a:lnTo>
                    <a:pt x="341" y="1235"/>
                  </a:lnTo>
                  <a:lnTo>
                    <a:pt x="360" y="1262"/>
                  </a:lnTo>
                  <a:lnTo>
                    <a:pt x="380" y="1287"/>
                  </a:lnTo>
                  <a:lnTo>
                    <a:pt x="401" y="1311"/>
                  </a:lnTo>
                  <a:lnTo>
                    <a:pt x="424" y="1333"/>
                  </a:lnTo>
                  <a:lnTo>
                    <a:pt x="448" y="1354"/>
                  </a:lnTo>
                  <a:lnTo>
                    <a:pt x="473" y="1374"/>
                  </a:lnTo>
                  <a:lnTo>
                    <a:pt x="499" y="1393"/>
                  </a:lnTo>
                  <a:lnTo>
                    <a:pt x="525" y="1410"/>
                  </a:lnTo>
                  <a:lnTo>
                    <a:pt x="553" y="1426"/>
                  </a:lnTo>
                  <a:lnTo>
                    <a:pt x="580" y="1440"/>
                  </a:lnTo>
                  <a:lnTo>
                    <a:pt x="609" y="1453"/>
                  </a:lnTo>
                  <a:lnTo>
                    <a:pt x="638" y="1464"/>
                  </a:lnTo>
                  <a:lnTo>
                    <a:pt x="669" y="1475"/>
                  </a:lnTo>
                  <a:lnTo>
                    <a:pt x="700" y="1483"/>
                  </a:lnTo>
                  <a:lnTo>
                    <a:pt x="733" y="1492"/>
                  </a:lnTo>
                  <a:lnTo>
                    <a:pt x="764" y="1497"/>
                  </a:lnTo>
                  <a:lnTo>
                    <a:pt x="798" y="1502"/>
                  </a:lnTo>
                  <a:lnTo>
                    <a:pt x="832" y="1506"/>
                  </a:lnTo>
                  <a:lnTo>
                    <a:pt x="867" y="1508"/>
                  </a:lnTo>
                  <a:lnTo>
                    <a:pt x="903" y="1509"/>
                  </a:lnTo>
                  <a:lnTo>
                    <a:pt x="926" y="1508"/>
                  </a:lnTo>
                  <a:lnTo>
                    <a:pt x="950" y="1507"/>
                  </a:lnTo>
                  <a:lnTo>
                    <a:pt x="973" y="1506"/>
                  </a:lnTo>
                  <a:lnTo>
                    <a:pt x="996" y="1504"/>
                  </a:lnTo>
                  <a:lnTo>
                    <a:pt x="1020" y="1500"/>
                  </a:lnTo>
                  <a:lnTo>
                    <a:pt x="1043" y="1497"/>
                  </a:lnTo>
                  <a:lnTo>
                    <a:pt x="1067" y="1494"/>
                  </a:lnTo>
                  <a:lnTo>
                    <a:pt x="1091" y="1489"/>
                  </a:lnTo>
                  <a:lnTo>
                    <a:pt x="1115" y="1484"/>
                  </a:lnTo>
                  <a:lnTo>
                    <a:pt x="1139" y="1478"/>
                  </a:lnTo>
                  <a:lnTo>
                    <a:pt x="1164" y="1472"/>
                  </a:lnTo>
                  <a:lnTo>
                    <a:pt x="1188" y="1465"/>
                  </a:lnTo>
                  <a:lnTo>
                    <a:pt x="1238" y="1449"/>
                  </a:lnTo>
                  <a:lnTo>
                    <a:pt x="1288" y="1431"/>
                  </a:lnTo>
                  <a:lnTo>
                    <a:pt x="1289" y="1400"/>
                  </a:lnTo>
                  <a:lnTo>
                    <a:pt x="1290" y="1365"/>
                  </a:lnTo>
                  <a:lnTo>
                    <a:pt x="1290" y="1327"/>
                  </a:lnTo>
                  <a:lnTo>
                    <a:pt x="1291" y="1284"/>
                  </a:lnTo>
                  <a:lnTo>
                    <a:pt x="1291" y="1239"/>
                  </a:lnTo>
                  <a:lnTo>
                    <a:pt x="1292" y="1190"/>
                  </a:lnTo>
                  <a:lnTo>
                    <a:pt x="1292" y="1138"/>
                  </a:lnTo>
                  <a:lnTo>
                    <a:pt x="1292" y="1082"/>
                  </a:lnTo>
                  <a:lnTo>
                    <a:pt x="1292" y="1027"/>
                  </a:lnTo>
                  <a:lnTo>
                    <a:pt x="1291" y="983"/>
                  </a:lnTo>
                  <a:lnTo>
                    <a:pt x="1289" y="952"/>
                  </a:lnTo>
                  <a:lnTo>
                    <a:pt x="1286" y="936"/>
                  </a:lnTo>
                  <a:lnTo>
                    <a:pt x="1281" y="925"/>
                  </a:lnTo>
                  <a:lnTo>
                    <a:pt x="1276" y="916"/>
                  </a:lnTo>
                  <a:lnTo>
                    <a:pt x="1268" y="908"/>
                  </a:lnTo>
                  <a:lnTo>
                    <a:pt x="1259" y="902"/>
                  </a:lnTo>
                  <a:lnTo>
                    <a:pt x="1251" y="897"/>
                  </a:lnTo>
                  <a:lnTo>
                    <a:pt x="1240" y="893"/>
                  </a:lnTo>
                  <a:lnTo>
                    <a:pt x="1226" y="889"/>
                  </a:lnTo>
                  <a:lnTo>
                    <a:pt x="1209" y="884"/>
                  </a:lnTo>
                  <a:lnTo>
                    <a:pt x="1166" y="873"/>
                  </a:lnTo>
                  <a:lnTo>
                    <a:pt x="1110" y="860"/>
                  </a:lnTo>
                  <a:lnTo>
                    <a:pt x="1066" y="851"/>
                  </a:lnTo>
                  <a:lnTo>
                    <a:pt x="1066" y="790"/>
                  </a:lnTo>
                  <a:lnTo>
                    <a:pt x="1443" y="798"/>
                  </a:lnTo>
                  <a:lnTo>
                    <a:pt x="1474" y="798"/>
                  </a:lnTo>
                  <a:lnTo>
                    <a:pt x="1507" y="798"/>
                  </a:lnTo>
                  <a:lnTo>
                    <a:pt x="1541" y="797"/>
                  </a:lnTo>
                  <a:lnTo>
                    <a:pt x="1576" y="796"/>
                  </a:lnTo>
                  <a:lnTo>
                    <a:pt x="1612" y="795"/>
                  </a:lnTo>
                  <a:lnTo>
                    <a:pt x="1649" y="794"/>
                  </a:lnTo>
                  <a:lnTo>
                    <a:pt x="1687" y="792"/>
                  </a:lnTo>
                  <a:lnTo>
                    <a:pt x="1726" y="790"/>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719" name="Freeform 82"/>
            <p:cNvSpPr/>
            <p:nvPr/>
          </p:nvSpPr>
          <p:spPr>
            <a:xfrm>
              <a:off x="2497680" y="901800"/>
              <a:ext cx="205200" cy="216360"/>
            </a:xfrm>
            <a:custGeom>
              <a:avLst/>
              <a:gdLst>
                <a:gd name="textAreaLeft" fmla="*/ 0 w 205200"/>
                <a:gd name="textAreaRight" fmla="*/ 205560 w 205200"/>
                <a:gd name="textAreaTop" fmla="*/ 0 h 216360"/>
                <a:gd name="textAreaBottom" fmla="*/ 216720 h 216360"/>
              </a:gdLst>
              <a:ahLst/>
              <a:rect l="textAreaLeft" t="textAreaTop" r="textAreaRight" b="textAreaBottom"/>
              <a:pathLst>
                <a:path w="1380" h="1563">
                  <a:moveTo>
                    <a:pt x="458" y="688"/>
                  </a:moveTo>
                  <a:lnTo>
                    <a:pt x="724" y="688"/>
                  </a:lnTo>
                  <a:lnTo>
                    <a:pt x="761" y="688"/>
                  </a:lnTo>
                  <a:lnTo>
                    <a:pt x="793" y="688"/>
                  </a:lnTo>
                  <a:lnTo>
                    <a:pt x="822" y="687"/>
                  </a:lnTo>
                  <a:lnTo>
                    <a:pt x="847" y="687"/>
                  </a:lnTo>
                  <a:lnTo>
                    <a:pt x="867" y="685"/>
                  </a:lnTo>
                  <a:lnTo>
                    <a:pt x="884" y="684"/>
                  </a:lnTo>
                  <a:lnTo>
                    <a:pt x="897" y="683"/>
                  </a:lnTo>
                  <a:lnTo>
                    <a:pt x="906" y="681"/>
                  </a:lnTo>
                  <a:lnTo>
                    <a:pt x="913" y="678"/>
                  </a:lnTo>
                  <a:lnTo>
                    <a:pt x="919" y="676"/>
                  </a:lnTo>
                  <a:lnTo>
                    <a:pt x="926" y="673"/>
                  </a:lnTo>
                  <a:lnTo>
                    <a:pt x="931" y="668"/>
                  </a:lnTo>
                  <a:lnTo>
                    <a:pt x="936" y="664"/>
                  </a:lnTo>
                  <a:lnTo>
                    <a:pt x="941" y="659"/>
                  </a:lnTo>
                  <a:lnTo>
                    <a:pt x="947" y="653"/>
                  </a:lnTo>
                  <a:lnTo>
                    <a:pt x="951" y="647"/>
                  </a:lnTo>
                  <a:lnTo>
                    <a:pt x="955" y="640"/>
                  </a:lnTo>
                  <a:lnTo>
                    <a:pt x="959" y="628"/>
                  </a:lnTo>
                  <a:lnTo>
                    <a:pt x="965" y="614"/>
                  </a:lnTo>
                  <a:lnTo>
                    <a:pt x="970" y="598"/>
                  </a:lnTo>
                  <a:lnTo>
                    <a:pt x="981" y="555"/>
                  </a:lnTo>
                  <a:lnTo>
                    <a:pt x="993" y="501"/>
                  </a:lnTo>
                  <a:lnTo>
                    <a:pt x="995" y="493"/>
                  </a:lnTo>
                  <a:lnTo>
                    <a:pt x="998" y="485"/>
                  </a:lnTo>
                  <a:lnTo>
                    <a:pt x="1000" y="474"/>
                  </a:lnTo>
                  <a:lnTo>
                    <a:pt x="1003" y="463"/>
                  </a:lnTo>
                  <a:lnTo>
                    <a:pt x="1076" y="463"/>
                  </a:lnTo>
                  <a:lnTo>
                    <a:pt x="1073" y="507"/>
                  </a:lnTo>
                  <a:lnTo>
                    <a:pt x="1071" y="549"/>
                  </a:lnTo>
                  <a:lnTo>
                    <a:pt x="1068" y="588"/>
                  </a:lnTo>
                  <a:lnTo>
                    <a:pt x="1066" y="624"/>
                  </a:lnTo>
                  <a:lnTo>
                    <a:pt x="1065" y="658"/>
                  </a:lnTo>
                  <a:lnTo>
                    <a:pt x="1064" y="688"/>
                  </a:lnTo>
                  <a:lnTo>
                    <a:pt x="1063" y="717"/>
                  </a:lnTo>
                  <a:lnTo>
                    <a:pt x="1063" y="744"/>
                  </a:lnTo>
                  <a:lnTo>
                    <a:pt x="1063" y="769"/>
                  </a:lnTo>
                  <a:lnTo>
                    <a:pt x="1064" y="799"/>
                  </a:lnTo>
                  <a:lnTo>
                    <a:pt x="1065" y="829"/>
                  </a:lnTo>
                  <a:lnTo>
                    <a:pt x="1066" y="863"/>
                  </a:lnTo>
                  <a:lnTo>
                    <a:pt x="1068" y="898"/>
                  </a:lnTo>
                  <a:lnTo>
                    <a:pt x="1071" y="937"/>
                  </a:lnTo>
                  <a:lnTo>
                    <a:pt x="1073" y="978"/>
                  </a:lnTo>
                  <a:lnTo>
                    <a:pt x="1076" y="1020"/>
                  </a:lnTo>
                  <a:lnTo>
                    <a:pt x="1003" y="1020"/>
                  </a:lnTo>
                  <a:lnTo>
                    <a:pt x="995" y="983"/>
                  </a:lnTo>
                  <a:lnTo>
                    <a:pt x="988" y="949"/>
                  </a:lnTo>
                  <a:lnTo>
                    <a:pt x="983" y="921"/>
                  </a:lnTo>
                  <a:lnTo>
                    <a:pt x="977" y="896"/>
                  </a:lnTo>
                  <a:lnTo>
                    <a:pt x="972" y="876"/>
                  </a:lnTo>
                  <a:lnTo>
                    <a:pt x="969" y="860"/>
                  </a:lnTo>
                  <a:lnTo>
                    <a:pt x="966" y="848"/>
                  </a:lnTo>
                  <a:lnTo>
                    <a:pt x="964" y="842"/>
                  </a:lnTo>
                  <a:lnTo>
                    <a:pt x="960" y="836"/>
                  </a:lnTo>
                  <a:lnTo>
                    <a:pt x="957" y="829"/>
                  </a:lnTo>
                  <a:lnTo>
                    <a:pt x="953" y="824"/>
                  </a:lnTo>
                  <a:lnTo>
                    <a:pt x="948" y="819"/>
                  </a:lnTo>
                  <a:lnTo>
                    <a:pt x="944" y="815"/>
                  </a:lnTo>
                  <a:lnTo>
                    <a:pt x="937" y="810"/>
                  </a:lnTo>
                  <a:lnTo>
                    <a:pt x="932" y="807"/>
                  </a:lnTo>
                  <a:lnTo>
                    <a:pt x="924" y="804"/>
                  </a:lnTo>
                  <a:lnTo>
                    <a:pt x="916" y="802"/>
                  </a:lnTo>
                  <a:lnTo>
                    <a:pt x="904" y="799"/>
                  </a:lnTo>
                  <a:lnTo>
                    <a:pt x="888" y="797"/>
                  </a:lnTo>
                  <a:lnTo>
                    <a:pt x="870" y="795"/>
                  </a:lnTo>
                  <a:lnTo>
                    <a:pt x="848" y="794"/>
                  </a:lnTo>
                  <a:lnTo>
                    <a:pt x="823" y="793"/>
                  </a:lnTo>
                  <a:lnTo>
                    <a:pt x="793" y="792"/>
                  </a:lnTo>
                  <a:lnTo>
                    <a:pt x="761" y="792"/>
                  </a:lnTo>
                  <a:lnTo>
                    <a:pt x="459" y="792"/>
                  </a:lnTo>
                  <a:lnTo>
                    <a:pt x="465" y="1440"/>
                  </a:lnTo>
                  <a:lnTo>
                    <a:pt x="926" y="1440"/>
                  </a:lnTo>
                  <a:lnTo>
                    <a:pt x="967" y="1439"/>
                  </a:lnTo>
                  <a:lnTo>
                    <a:pt x="1009" y="1439"/>
                  </a:lnTo>
                  <a:lnTo>
                    <a:pt x="1044" y="1437"/>
                  </a:lnTo>
                  <a:lnTo>
                    <a:pt x="1070" y="1434"/>
                  </a:lnTo>
                  <a:lnTo>
                    <a:pt x="1085" y="1431"/>
                  </a:lnTo>
                  <a:lnTo>
                    <a:pt x="1096" y="1427"/>
                  </a:lnTo>
                  <a:lnTo>
                    <a:pt x="1106" y="1423"/>
                  </a:lnTo>
                  <a:lnTo>
                    <a:pt x="1115" y="1418"/>
                  </a:lnTo>
                  <a:lnTo>
                    <a:pt x="1125" y="1412"/>
                  </a:lnTo>
                  <a:lnTo>
                    <a:pt x="1134" y="1406"/>
                  </a:lnTo>
                  <a:lnTo>
                    <a:pt x="1143" y="1398"/>
                  </a:lnTo>
                  <a:lnTo>
                    <a:pt x="1151" y="1391"/>
                  </a:lnTo>
                  <a:lnTo>
                    <a:pt x="1160" y="1384"/>
                  </a:lnTo>
                  <a:lnTo>
                    <a:pt x="1168" y="1373"/>
                  </a:lnTo>
                  <a:lnTo>
                    <a:pt x="1179" y="1359"/>
                  </a:lnTo>
                  <a:lnTo>
                    <a:pt x="1191" y="1341"/>
                  </a:lnTo>
                  <a:lnTo>
                    <a:pt x="1205" y="1319"/>
                  </a:lnTo>
                  <a:lnTo>
                    <a:pt x="1220" y="1294"/>
                  </a:lnTo>
                  <a:lnTo>
                    <a:pt x="1238" y="1264"/>
                  </a:lnTo>
                  <a:lnTo>
                    <a:pt x="1257" y="1231"/>
                  </a:lnTo>
                  <a:lnTo>
                    <a:pt x="1277" y="1194"/>
                  </a:lnTo>
                  <a:lnTo>
                    <a:pt x="1282" y="1184"/>
                  </a:lnTo>
                  <a:lnTo>
                    <a:pt x="1288" y="1174"/>
                  </a:lnTo>
                  <a:lnTo>
                    <a:pt x="1295" y="1162"/>
                  </a:lnTo>
                  <a:lnTo>
                    <a:pt x="1304" y="1148"/>
                  </a:lnTo>
                  <a:lnTo>
                    <a:pt x="1380" y="1148"/>
                  </a:lnTo>
                  <a:lnTo>
                    <a:pt x="1375" y="1162"/>
                  </a:lnTo>
                  <a:lnTo>
                    <a:pt x="1366" y="1188"/>
                  </a:lnTo>
                  <a:lnTo>
                    <a:pt x="1354" y="1223"/>
                  </a:lnTo>
                  <a:lnTo>
                    <a:pt x="1339" y="1269"/>
                  </a:lnTo>
                  <a:lnTo>
                    <a:pt x="1321" y="1326"/>
                  </a:lnTo>
                  <a:lnTo>
                    <a:pt x="1298" y="1394"/>
                  </a:lnTo>
                  <a:lnTo>
                    <a:pt x="1272" y="1473"/>
                  </a:lnTo>
                  <a:lnTo>
                    <a:pt x="1243" y="1563"/>
                  </a:lnTo>
                  <a:lnTo>
                    <a:pt x="1144" y="1560"/>
                  </a:lnTo>
                  <a:lnTo>
                    <a:pt x="1047" y="1557"/>
                  </a:lnTo>
                  <a:lnTo>
                    <a:pt x="952" y="1555"/>
                  </a:lnTo>
                  <a:lnTo>
                    <a:pt x="860" y="1553"/>
                  </a:lnTo>
                  <a:lnTo>
                    <a:pt x="769" y="1552"/>
                  </a:lnTo>
                  <a:lnTo>
                    <a:pt x="681" y="1551"/>
                  </a:lnTo>
                  <a:lnTo>
                    <a:pt x="595" y="1550"/>
                  </a:lnTo>
                  <a:lnTo>
                    <a:pt x="511" y="1550"/>
                  </a:lnTo>
                  <a:lnTo>
                    <a:pt x="452" y="1550"/>
                  </a:lnTo>
                  <a:lnTo>
                    <a:pt x="393" y="1551"/>
                  </a:lnTo>
                  <a:lnTo>
                    <a:pt x="330" y="1552"/>
                  </a:lnTo>
                  <a:lnTo>
                    <a:pt x="268" y="1553"/>
                  </a:lnTo>
                  <a:lnTo>
                    <a:pt x="203" y="1555"/>
                  </a:lnTo>
                  <a:lnTo>
                    <a:pt x="136" y="1557"/>
                  </a:lnTo>
                  <a:lnTo>
                    <a:pt x="70" y="1560"/>
                  </a:lnTo>
                  <a:lnTo>
                    <a:pt x="0" y="1563"/>
                  </a:lnTo>
                  <a:lnTo>
                    <a:pt x="0" y="1497"/>
                  </a:lnTo>
                  <a:lnTo>
                    <a:pt x="179" y="1459"/>
                  </a:lnTo>
                  <a:lnTo>
                    <a:pt x="198" y="1452"/>
                  </a:lnTo>
                  <a:lnTo>
                    <a:pt x="213" y="1446"/>
                  </a:lnTo>
                  <a:lnTo>
                    <a:pt x="219" y="1444"/>
                  </a:lnTo>
                  <a:lnTo>
                    <a:pt x="224" y="1441"/>
                  </a:lnTo>
                  <a:lnTo>
                    <a:pt x="229" y="1438"/>
                  </a:lnTo>
                  <a:lnTo>
                    <a:pt x="231" y="1434"/>
                  </a:lnTo>
                  <a:lnTo>
                    <a:pt x="235" y="1428"/>
                  </a:lnTo>
                  <a:lnTo>
                    <a:pt x="238" y="1421"/>
                  </a:lnTo>
                  <a:lnTo>
                    <a:pt x="241" y="1412"/>
                  </a:lnTo>
                  <a:lnTo>
                    <a:pt x="243" y="1403"/>
                  </a:lnTo>
                  <a:lnTo>
                    <a:pt x="246" y="1391"/>
                  </a:lnTo>
                  <a:lnTo>
                    <a:pt x="247" y="1377"/>
                  </a:lnTo>
                  <a:lnTo>
                    <a:pt x="248" y="1363"/>
                  </a:lnTo>
                  <a:lnTo>
                    <a:pt x="248" y="1348"/>
                  </a:lnTo>
                  <a:lnTo>
                    <a:pt x="248" y="1327"/>
                  </a:lnTo>
                  <a:lnTo>
                    <a:pt x="253" y="1069"/>
                  </a:lnTo>
                  <a:lnTo>
                    <a:pt x="254" y="1048"/>
                  </a:lnTo>
                  <a:lnTo>
                    <a:pt x="254" y="1022"/>
                  </a:lnTo>
                  <a:lnTo>
                    <a:pt x="254" y="993"/>
                  </a:lnTo>
                  <a:lnTo>
                    <a:pt x="254" y="958"/>
                  </a:lnTo>
                  <a:lnTo>
                    <a:pt x="254" y="918"/>
                  </a:lnTo>
                  <a:lnTo>
                    <a:pt x="254" y="875"/>
                  </a:lnTo>
                  <a:lnTo>
                    <a:pt x="254" y="827"/>
                  </a:lnTo>
                  <a:lnTo>
                    <a:pt x="254" y="774"/>
                  </a:lnTo>
                  <a:lnTo>
                    <a:pt x="254" y="698"/>
                  </a:lnTo>
                  <a:lnTo>
                    <a:pt x="254" y="626"/>
                  </a:lnTo>
                  <a:lnTo>
                    <a:pt x="254" y="560"/>
                  </a:lnTo>
                  <a:lnTo>
                    <a:pt x="254" y="499"/>
                  </a:lnTo>
                  <a:lnTo>
                    <a:pt x="254" y="444"/>
                  </a:lnTo>
                  <a:lnTo>
                    <a:pt x="253" y="393"/>
                  </a:lnTo>
                  <a:lnTo>
                    <a:pt x="253" y="348"/>
                  </a:lnTo>
                  <a:lnTo>
                    <a:pt x="252" y="308"/>
                  </a:lnTo>
                  <a:lnTo>
                    <a:pt x="252" y="273"/>
                  </a:lnTo>
                  <a:lnTo>
                    <a:pt x="251" y="242"/>
                  </a:lnTo>
                  <a:lnTo>
                    <a:pt x="250" y="216"/>
                  </a:lnTo>
                  <a:lnTo>
                    <a:pt x="249" y="192"/>
                  </a:lnTo>
                  <a:lnTo>
                    <a:pt x="247" y="173"/>
                  </a:lnTo>
                  <a:lnTo>
                    <a:pt x="246" y="159"/>
                  </a:lnTo>
                  <a:lnTo>
                    <a:pt x="243" y="147"/>
                  </a:lnTo>
                  <a:lnTo>
                    <a:pt x="241" y="141"/>
                  </a:lnTo>
                  <a:lnTo>
                    <a:pt x="237" y="134"/>
                  </a:lnTo>
                  <a:lnTo>
                    <a:pt x="233" y="129"/>
                  </a:lnTo>
                  <a:lnTo>
                    <a:pt x="228" y="124"/>
                  </a:lnTo>
                  <a:lnTo>
                    <a:pt x="221" y="119"/>
                  </a:lnTo>
                  <a:lnTo>
                    <a:pt x="209" y="114"/>
                  </a:lnTo>
                  <a:lnTo>
                    <a:pt x="188" y="108"/>
                  </a:lnTo>
                  <a:lnTo>
                    <a:pt x="159" y="100"/>
                  </a:lnTo>
                  <a:lnTo>
                    <a:pt x="119" y="91"/>
                  </a:lnTo>
                  <a:lnTo>
                    <a:pt x="0" y="64"/>
                  </a:lnTo>
                  <a:lnTo>
                    <a:pt x="0" y="0"/>
                  </a:lnTo>
                  <a:lnTo>
                    <a:pt x="53" y="2"/>
                  </a:lnTo>
                  <a:lnTo>
                    <a:pt x="109" y="5"/>
                  </a:lnTo>
                  <a:lnTo>
                    <a:pt x="167" y="7"/>
                  </a:lnTo>
                  <a:lnTo>
                    <a:pt x="228" y="8"/>
                  </a:lnTo>
                  <a:lnTo>
                    <a:pt x="290" y="10"/>
                  </a:lnTo>
                  <a:lnTo>
                    <a:pt x="356" y="10"/>
                  </a:lnTo>
                  <a:lnTo>
                    <a:pt x="423" y="11"/>
                  </a:lnTo>
                  <a:lnTo>
                    <a:pt x="494" y="11"/>
                  </a:lnTo>
                  <a:lnTo>
                    <a:pt x="516" y="11"/>
                  </a:lnTo>
                  <a:lnTo>
                    <a:pt x="541" y="11"/>
                  </a:lnTo>
                  <a:lnTo>
                    <a:pt x="569" y="11"/>
                  </a:lnTo>
                  <a:lnTo>
                    <a:pt x="600" y="10"/>
                  </a:lnTo>
                  <a:lnTo>
                    <a:pt x="635" y="10"/>
                  </a:lnTo>
                  <a:lnTo>
                    <a:pt x="673" y="10"/>
                  </a:lnTo>
                  <a:lnTo>
                    <a:pt x="715" y="9"/>
                  </a:lnTo>
                  <a:lnTo>
                    <a:pt x="760" y="8"/>
                  </a:lnTo>
                  <a:lnTo>
                    <a:pt x="809" y="8"/>
                  </a:lnTo>
                  <a:lnTo>
                    <a:pt x="861" y="7"/>
                  </a:lnTo>
                  <a:lnTo>
                    <a:pt x="916" y="6"/>
                  </a:lnTo>
                  <a:lnTo>
                    <a:pt x="974" y="5"/>
                  </a:lnTo>
                  <a:lnTo>
                    <a:pt x="1037" y="4"/>
                  </a:lnTo>
                  <a:lnTo>
                    <a:pt x="1102" y="2"/>
                  </a:lnTo>
                  <a:lnTo>
                    <a:pt x="1171" y="1"/>
                  </a:lnTo>
                  <a:lnTo>
                    <a:pt x="1243" y="0"/>
                  </a:lnTo>
                  <a:lnTo>
                    <a:pt x="1244" y="47"/>
                  </a:lnTo>
                  <a:lnTo>
                    <a:pt x="1245" y="95"/>
                  </a:lnTo>
                  <a:lnTo>
                    <a:pt x="1248" y="142"/>
                  </a:lnTo>
                  <a:lnTo>
                    <a:pt x="1251" y="189"/>
                  </a:lnTo>
                  <a:lnTo>
                    <a:pt x="1254" y="236"/>
                  </a:lnTo>
                  <a:lnTo>
                    <a:pt x="1259" y="283"/>
                  </a:lnTo>
                  <a:lnTo>
                    <a:pt x="1263" y="329"/>
                  </a:lnTo>
                  <a:lnTo>
                    <a:pt x="1270" y="376"/>
                  </a:lnTo>
                  <a:lnTo>
                    <a:pt x="1192" y="376"/>
                  </a:lnTo>
                  <a:lnTo>
                    <a:pt x="1182" y="340"/>
                  </a:lnTo>
                  <a:lnTo>
                    <a:pt x="1171" y="308"/>
                  </a:lnTo>
                  <a:lnTo>
                    <a:pt x="1162" y="278"/>
                  </a:lnTo>
                  <a:lnTo>
                    <a:pt x="1152" y="252"/>
                  </a:lnTo>
                  <a:lnTo>
                    <a:pt x="1144" y="229"/>
                  </a:lnTo>
                  <a:lnTo>
                    <a:pt x="1135" y="208"/>
                  </a:lnTo>
                  <a:lnTo>
                    <a:pt x="1128" y="190"/>
                  </a:lnTo>
                  <a:lnTo>
                    <a:pt x="1121" y="177"/>
                  </a:lnTo>
                  <a:lnTo>
                    <a:pt x="1116" y="169"/>
                  </a:lnTo>
                  <a:lnTo>
                    <a:pt x="1111" y="161"/>
                  </a:lnTo>
                  <a:lnTo>
                    <a:pt x="1106" y="154"/>
                  </a:lnTo>
                  <a:lnTo>
                    <a:pt x="1100" y="148"/>
                  </a:lnTo>
                  <a:lnTo>
                    <a:pt x="1094" y="143"/>
                  </a:lnTo>
                  <a:lnTo>
                    <a:pt x="1088" y="138"/>
                  </a:lnTo>
                  <a:lnTo>
                    <a:pt x="1081" y="135"/>
                  </a:lnTo>
                  <a:lnTo>
                    <a:pt x="1075" y="132"/>
                  </a:lnTo>
                  <a:lnTo>
                    <a:pt x="1064" y="128"/>
                  </a:lnTo>
                  <a:lnTo>
                    <a:pt x="1050" y="126"/>
                  </a:lnTo>
                  <a:lnTo>
                    <a:pt x="1035" y="123"/>
                  </a:lnTo>
                  <a:lnTo>
                    <a:pt x="1017" y="120"/>
                  </a:lnTo>
                  <a:lnTo>
                    <a:pt x="994" y="119"/>
                  </a:lnTo>
                  <a:lnTo>
                    <a:pt x="971" y="118"/>
                  </a:lnTo>
                  <a:lnTo>
                    <a:pt x="944" y="117"/>
                  </a:lnTo>
                  <a:lnTo>
                    <a:pt x="914" y="117"/>
                  </a:lnTo>
                  <a:lnTo>
                    <a:pt x="469" y="117"/>
                  </a:lnTo>
                  <a:lnTo>
                    <a:pt x="462" y="472"/>
                  </a:lnTo>
                  <a:lnTo>
                    <a:pt x="458" y="688"/>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720" name="Freeform 83"/>
            <p:cNvSpPr/>
            <p:nvPr/>
          </p:nvSpPr>
          <p:spPr>
            <a:xfrm>
              <a:off x="2738520" y="901800"/>
              <a:ext cx="238680" cy="216360"/>
            </a:xfrm>
            <a:custGeom>
              <a:avLst/>
              <a:gdLst>
                <a:gd name="textAreaLeft" fmla="*/ 0 w 238680"/>
                <a:gd name="textAreaRight" fmla="*/ 239040 w 238680"/>
                <a:gd name="textAreaTop" fmla="*/ 0 h 216360"/>
                <a:gd name="textAreaBottom" fmla="*/ 216720 h 216360"/>
              </a:gdLst>
              <a:ahLst/>
              <a:rect l="textAreaLeft" t="textAreaTop" r="textAreaRight" b="textAreaBottom"/>
              <a:pathLst>
                <a:path w="1601" h="1563">
                  <a:moveTo>
                    <a:pt x="0" y="64"/>
                  </a:moveTo>
                  <a:lnTo>
                    <a:pt x="0" y="0"/>
                  </a:lnTo>
                  <a:lnTo>
                    <a:pt x="71" y="2"/>
                  </a:lnTo>
                  <a:lnTo>
                    <a:pt x="139" y="5"/>
                  </a:lnTo>
                  <a:lnTo>
                    <a:pt x="202" y="7"/>
                  </a:lnTo>
                  <a:lnTo>
                    <a:pt x="263" y="8"/>
                  </a:lnTo>
                  <a:lnTo>
                    <a:pt x="320" y="10"/>
                  </a:lnTo>
                  <a:lnTo>
                    <a:pt x="373" y="10"/>
                  </a:lnTo>
                  <a:lnTo>
                    <a:pt x="423" y="11"/>
                  </a:lnTo>
                  <a:lnTo>
                    <a:pt x="468" y="11"/>
                  </a:lnTo>
                  <a:lnTo>
                    <a:pt x="494" y="11"/>
                  </a:lnTo>
                  <a:lnTo>
                    <a:pt x="518" y="11"/>
                  </a:lnTo>
                  <a:lnTo>
                    <a:pt x="542" y="11"/>
                  </a:lnTo>
                  <a:lnTo>
                    <a:pt x="566" y="11"/>
                  </a:lnTo>
                  <a:lnTo>
                    <a:pt x="590" y="10"/>
                  </a:lnTo>
                  <a:lnTo>
                    <a:pt x="612" y="10"/>
                  </a:lnTo>
                  <a:lnTo>
                    <a:pt x="636" y="10"/>
                  </a:lnTo>
                  <a:lnTo>
                    <a:pt x="658" y="9"/>
                  </a:lnTo>
                  <a:lnTo>
                    <a:pt x="685" y="8"/>
                  </a:lnTo>
                  <a:lnTo>
                    <a:pt x="712" y="7"/>
                  </a:lnTo>
                  <a:lnTo>
                    <a:pt x="735" y="7"/>
                  </a:lnTo>
                  <a:lnTo>
                    <a:pt x="756" y="6"/>
                  </a:lnTo>
                  <a:lnTo>
                    <a:pt x="775" y="6"/>
                  </a:lnTo>
                  <a:lnTo>
                    <a:pt x="792" y="5"/>
                  </a:lnTo>
                  <a:lnTo>
                    <a:pt x="807" y="5"/>
                  </a:lnTo>
                  <a:lnTo>
                    <a:pt x="820" y="5"/>
                  </a:lnTo>
                  <a:lnTo>
                    <a:pt x="845" y="6"/>
                  </a:lnTo>
                  <a:lnTo>
                    <a:pt x="872" y="7"/>
                  </a:lnTo>
                  <a:lnTo>
                    <a:pt x="896" y="8"/>
                  </a:lnTo>
                  <a:lnTo>
                    <a:pt x="921" y="11"/>
                  </a:lnTo>
                  <a:lnTo>
                    <a:pt x="943" y="14"/>
                  </a:lnTo>
                  <a:lnTo>
                    <a:pt x="966" y="20"/>
                  </a:lnTo>
                  <a:lnTo>
                    <a:pt x="987" y="24"/>
                  </a:lnTo>
                  <a:lnTo>
                    <a:pt x="1007" y="30"/>
                  </a:lnTo>
                  <a:lnTo>
                    <a:pt x="1028" y="37"/>
                  </a:lnTo>
                  <a:lnTo>
                    <a:pt x="1047" y="44"/>
                  </a:lnTo>
                  <a:lnTo>
                    <a:pt x="1065" y="53"/>
                  </a:lnTo>
                  <a:lnTo>
                    <a:pt x="1082" y="62"/>
                  </a:lnTo>
                  <a:lnTo>
                    <a:pt x="1099" y="72"/>
                  </a:lnTo>
                  <a:lnTo>
                    <a:pt x="1114" y="82"/>
                  </a:lnTo>
                  <a:lnTo>
                    <a:pt x="1129" y="94"/>
                  </a:lnTo>
                  <a:lnTo>
                    <a:pt x="1143" y="107"/>
                  </a:lnTo>
                  <a:lnTo>
                    <a:pt x="1156" y="119"/>
                  </a:lnTo>
                  <a:lnTo>
                    <a:pt x="1168" y="133"/>
                  </a:lnTo>
                  <a:lnTo>
                    <a:pt x="1180" y="147"/>
                  </a:lnTo>
                  <a:lnTo>
                    <a:pt x="1191" y="162"/>
                  </a:lnTo>
                  <a:lnTo>
                    <a:pt x="1200" y="178"/>
                  </a:lnTo>
                  <a:lnTo>
                    <a:pt x="1209" y="194"/>
                  </a:lnTo>
                  <a:lnTo>
                    <a:pt x="1217" y="209"/>
                  </a:lnTo>
                  <a:lnTo>
                    <a:pt x="1224" y="226"/>
                  </a:lnTo>
                  <a:lnTo>
                    <a:pt x="1230" y="244"/>
                  </a:lnTo>
                  <a:lnTo>
                    <a:pt x="1236" y="262"/>
                  </a:lnTo>
                  <a:lnTo>
                    <a:pt x="1240" y="282"/>
                  </a:lnTo>
                  <a:lnTo>
                    <a:pt x="1244" y="301"/>
                  </a:lnTo>
                  <a:lnTo>
                    <a:pt x="1247" y="320"/>
                  </a:lnTo>
                  <a:lnTo>
                    <a:pt x="1249" y="341"/>
                  </a:lnTo>
                  <a:lnTo>
                    <a:pt x="1250" y="361"/>
                  </a:lnTo>
                  <a:lnTo>
                    <a:pt x="1251" y="383"/>
                  </a:lnTo>
                  <a:lnTo>
                    <a:pt x="1250" y="412"/>
                  </a:lnTo>
                  <a:lnTo>
                    <a:pt x="1248" y="439"/>
                  </a:lnTo>
                  <a:lnTo>
                    <a:pt x="1244" y="467"/>
                  </a:lnTo>
                  <a:lnTo>
                    <a:pt x="1238" y="492"/>
                  </a:lnTo>
                  <a:lnTo>
                    <a:pt x="1232" y="518"/>
                  </a:lnTo>
                  <a:lnTo>
                    <a:pt x="1224" y="543"/>
                  </a:lnTo>
                  <a:lnTo>
                    <a:pt x="1214" y="567"/>
                  </a:lnTo>
                  <a:lnTo>
                    <a:pt x="1202" y="589"/>
                  </a:lnTo>
                  <a:lnTo>
                    <a:pt x="1189" y="611"/>
                  </a:lnTo>
                  <a:lnTo>
                    <a:pt x="1175" y="632"/>
                  </a:lnTo>
                  <a:lnTo>
                    <a:pt x="1159" y="652"/>
                  </a:lnTo>
                  <a:lnTo>
                    <a:pt x="1142" y="671"/>
                  </a:lnTo>
                  <a:lnTo>
                    <a:pt x="1124" y="691"/>
                  </a:lnTo>
                  <a:lnTo>
                    <a:pt x="1104" y="709"/>
                  </a:lnTo>
                  <a:lnTo>
                    <a:pt x="1083" y="724"/>
                  </a:lnTo>
                  <a:lnTo>
                    <a:pt x="1060" y="740"/>
                  </a:lnTo>
                  <a:lnTo>
                    <a:pt x="1042" y="752"/>
                  </a:lnTo>
                  <a:lnTo>
                    <a:pt x="1023" y="763"/>
                  </a:lnTo>
                  <a:lnTo>
                    <a:pt x="1002" y="772"/>
                  </a:lnTo>
                  <a:lnTo>
                    <a:pt x="979" y="783"/>
                  </a:lnTo>
                  <a:lnTo>
                    <a:pt x="954" y="792"/>
                  </a:lnTo>
                  <a:lnTo>
                    <a:pt x="928" y="801"/>
                  </a:lnTo>
                  <a:lnTo>
                    <a:pt x="899" y="810"/>
                  </a:lnTo>
                  <a:lnTo>
                    <a:pt x="869" y="819"/>
                  </a:lnTo>
                  <a:lnTo>
                    <a:pt x="1235" y="1297"/>
                  </a:lnTo>
                  <a:lnTo>
                    <a:pt x="1266" y="1337"/>
                  </a:lnTo>
                  <a:lnTo>
                    <a:pt x="1291" y="1368"/>
                  </a:lnTo>
                  <a:lnTo>
                    <a:pt x="1309" y="1389"/>
                  </a:lnTo>
                  <a:lnTo>
                    <a:pt x="1321" y="1402"/>
                  </a:lnTo>
                  <a:lnTo>
                    <a:pt x="1336" y="1412"/>
                  </a:lnTo>
                  <a:lnTo>
                    <a:pt x="1353" y="1423"/>
                  </a:lnTo>
                  <a:lnTo>
                    <a:pt x="1372" y="1432"/>
                  </a:lnTo>
                  <a:lnTo>
                    <a:pt x="1393" y="1441"/>
                  </a:lnTo>
                  <a:lnTo>
                    <a:pt x="1410" y="1447"/>
                  </a:lnTo>
                  <a:lnTo>
                    <a:pt x="1429" y="1454"/>
                  </a:lnTo>
                  <a:lnTo>
                    <a:pt x="1451" y="1461"/>
                  </a:lnTo>
                  <a:lnTo>
                    <a:pt x="1476" y="1467"/>
                  </a:lnTo>
                  <a:lnTo>
                    <a:pt x="1503" y="1475"/>
                  </a:lnTo>
                  <a:lnTo>
                    <a:pt x="1533" y="1482"/>
                  </a:lnTo>
                  <a:lnTo>
                    <a:pt x="1566" y="1490"/>
                  </a:lnTo>
                  <a:lnTo>
                    <a:pt x="1601" y="1497"/>
                  </a:lnTo>
                  <a:lnTo>
                    <a:pt x="1601" y="1563"/>
                  </a:lnTo>
                  <a:lnTo>
                    <a:pt x="1559" y="1560"/>
                  </a:lnTo>
                  <a:lnTo>
                    <a:pt x="1520" y="1557"/>
                  </a:lnTo>
                  <a:lnTo>
                    <a:pt x="1484" y="1555"/>
                  </a:lnTo>
                  <a:lnTo>
                    <a:pt x="1451" y="1553"/>
                  </a:lnTo>
                  <a:lnTo>
                    <a:pt x="1421" y="1552"/>
                  </a:lnTo>
                  <a:lnTo>
                    <a:pt x="1393" y="1551"/>
                  </a:lnTo>
                  <a:lnTo>
                    <a:pt x="1369" y="1550"/>
                  </a:lnTo>
                  <a:lnTo>
                    <a:pt x="1347" y="1550"/>
                  </a:lnTo>
                  <a:lnTo>
                    <a:pt x="1325" y="1550"/>
                  </a:lnTo>
                  <a:lnTo>
                    <a:pt x="1302" y="1551"/>
                  </a:lnTo>
                  <a:lnTo>
                    <a:pt x="1279" y="1552"/>
                  </a:lnTo>
                  <a:lnTo>
                    <a:pt x="1255" y="1553"/>
                  </a:lnTo>
                  <a:lnTo>
                    <a:pt x="1232" y="1555"/>
                  </a:lnTo>
                  <a:lnTo>
                    <a:pt x="1209" y="1557"/>
                  </a:lnTo>
                  <a:lnTo>
                    <a:pt x="1184" y="1560"/>
                  </a:lnTo>
                  <a:lnTo>
                    <a:pt x="1161" y="1563"/>
                  </a:lnTo>
                  <a:lnTo>
                    <a:pt x="1147" y="1542"/>
                  </a:lnTo>
                  <a:lnTo>
                    <a:pt x="1133" y="1518"/>
                  </a:lnTo>
                  <a:lnTo>
                    <a:pt x="1119" y="1495"/>
                  </a:lnTo>
                  <a:lnTo>
                    <a:pt x="1103" y="1469"/>
                  </a:lnTo>
                  <a:lnTo>
                    <a:pt x="1085" y="1443"/>
                  </a:lnTo>
                  <a:lnTo>
                    <a:pt x="1067" y="1414"/>
                  </a:lnTo>
                  <a:lnTo>
                    <a:pt x="1047" y="1386"/>
                  </a:lnTo>
                  <a:lnTo>
                    <a:pt x="1027" y="1355"/>
                  </a:lnTo>
                  <a:lnTo>
                    <a:pt x="988" y="1299"/>
                  </a:lnTo>
                  <a:lnTo>
                    <a:pt x="958" y="1255"/>
                  </a:lnTo>
                  <a:lnTo>
                    <a:pt x="936" y="1225"/>
                  </a:lnTo>
                  <a:lnTo>
                    <a:pt x="923" y="1207"/>
                  </a:lnTo>
                  <a:lnTo>
                    <a:pt x="912" y="1193"/>
                  </a:lnTo>
                  <a:lnTo>
                    <a:pt x="903" y="1179"/>
                  </a:lnTo>
                  <a:lnTo>
                    <a:pt x="660" y="846"/>
                  </a:lnTo>
                  <a:lnTo>
                    <a:pt x="636" y="845"/>
                  </a:lnTo>
                  <a:lnTo>
                    <a:pt x="610" y="844"/>
                  </a:lnTo>
                  <a:lnTo>
                    <a:pt x="586" y="843"/>
                  </a:lnTo>
                  <a:lnTo>
                    <a:pt x="562" y="842"/>
                  </a:lnTo>
                  <a:lnTo>
                    <a:pt x="536" y="840"/>
                  </a:lnTo>
                  <a:lnTo>
                    <a:pt x="512" y="838"/>
                  </a:lnTo>
                  <a:lnTo>
                    <a:pt x="486" y="835"/>
                  </a:lnTo>
                  <a:lnTo>
                    <a:pt x="462" y="833"/>
                  </a:lnTo>
                  <a:lnTo>
                    <a:pt x="470" y="1387"/>
                  </a:lnTo>
                  <a:lnTo>
                    <a:pt x="471" y="1395"/>
                  </a:lnTo>
                  <a:lnTo>
                    <a:pt x="473" y="1403"/>
                  </a:lnTo>
                  <a:lnTo>
                    <a:pt x="475" y="1410"/>
                  </a:lnTo>
                  <a:lnTo>
                    <a:pt x="477" y="1416"/>
                  </a:lnTo>
                  <a:lnTo>
                    <a:pt x="479" y="1422"/>
                  </a:lnTo>
                  <a:lnTo>
                    <a:pt x="482" y="1427"/>
                  </a:lnTo>
                  <a:lnTo>
                    <a:pt x="486" y="1432"/>
                  </a:lnTo>
                  <a:lnTo>
                    <a:pt x="491" y="1437"/>
                  </a:lnTo>
                  <a:lnTo>
                    <a:pt x="499" y="1442"/>
                  </a:lnTo>
                  <a:lnTo>
                    <a:pt x="511" y="1448"/>
                  </a:lnTo>
                  <a:lnTo>
                    <a:pt x="526" y="1454"/>
                  </a:lnTo>
                  <a:lnTo>
                    <a:pt x="545" y="1460"/>
                  </a:lnTo>
                  <a:lnTo>
                    <a:pt x="567" y="1465"/>
                  </a:lnTo>
                  <a:lnTo>
                    <a:pt x="593" y="1472"/>
                  </a:lnTo>
                  <a:lnTo>
                    <a:pt x="622" y="1478"/>
                  </a:lnTo>
                  <a:lnTo>
                    <a:pt x="656" y="1484"/>
                  </a:lnTo>
                  <a:lnTo>
                    <a:pt x="666" y="1486"/>
                  </a:lnTo>
                  <a:lnTo>
                    <a:pt x="680" y="1490"/>
                  </a:lnTo>
                  <a:lnTo>
                    <a:pt x="697" y="1493"/>
                  </a:lnTo>
                  <a:lnTo>
                    <a:pt x="716" y="1497"/>
                  </a:lnTo>
                  <a:lnTo>
                    <a:pt x="716" y="1563"/>
                  </a:lnTo>
                  <a:lnTo>
                    <a:pt x="667" y="1560"/>
                  </a:lnTo>
                  <a:lnTo>
                    <a:pt x="620" y="1557"/>
                  </a:lnTo>
                  <a:lnTo>
                    <a:pt x="573" y="1555"/>
                  </a:lnTo>
                  <a:lnTo>
                    <a:pt x="529" y="1553"/>
                  </a:lnTo>
                  <a:lnTo>
                    <a:pt x="485" y="1552"/>
                  </a:lnTo>
                  <a:lnTo>
                    <a:pt x="444" y="1551"/>
                  </a:lnTo>
                  <a:lnTo>
                    <a:pt x="404" y="1550"/>
                  </a:lnTo>
                  <a:lnTo>
                    <a:pt x="365" y="1550"/>
                  </a:lnTo>
                  <a:lnTo>
                    <a:pt x="323" y="1550"/>
                  </a:lnTo>
                  <a:lnTo>
                    <a:pt x="281" y="1551"/>
                  </a:lnTo>
                  <a:lnTo>
                    <a:pt x="237" y="1552"/>
                  </a:lnTo>
                  <a:lnTo>
                    <a:pt x="192" y="1553"/>
                  </a:lnTo>
                  <a:lnTo>
                    <a:pt x="146" y="1555"/>
                  </a:lnTo>
                  <a:lnTo>
                    <a:pt x="99" y="1557"/>
                  </a:lnTo>
                  <a:lnTo>
                    <a:pt x="50" y="1560"/>
                  </a:lnTo>
                  <a:lnTo>
                    <a:pt x="0" y="1563"/>
                  </a:lnTo>
                  <a:lnTo>
                    <a:pt x="0" y="1497"/>
                  </a:lnTo>
                  <a:lnTo>
                    <a:pt x="48" y="1487"/>
                  </a:lnTo>
                  <a:lnTo>
                    <a:pt x="85" y="1480"/>
                  </a:lnTo>
                  <a:lnTo>
                    <a:pt x="118" y="1474"/>
                  </a:lnTo>
                  <a:lnTo>
                    <a:pt x="146" y="1466"/>
                  </a:lnTo>
                  <a:lnTo>
                    <a:pt x="171" y="1460"/>
                  </a:lnTo>
                  <a:lnTo>
                    <a:pt x="192" y="1455"/>
                  </a:lnTo>
                  <a:lnTo>
                    <a:pt x="208" y="1448"/>
                  </a:lnTo>
                  <a:lnTo>
                    <a:pt x="219" y="1444"/>
                  </a:lnTo>
                  <a:lnTo>
                    <a:pt x="227" y="1439"/>
                  </a:lnTo>
                  <a:lnTo>
                    <a:pt x="232" y="1433"/>
                  </a:lnTo>
                  <a:lnTo>
                    <a:pt x="236" y="1427"/>
                  </a:lnTo>
                  <a:lnTo>
                    <a:pt x="240" y="1420"/>
                  </a:lnTo>
                  <a:lnTo>
                    <a:pt x="244" y="1411"/>
                  </a:lnTo>
                  <a:lnTo>
                    <a:pt x="246" y="1403"/>
                  </a:lnTo>
                  <a:lnTo>
                    <a:pt x="248" y="1392"/>
                  </a:lnTo>
                  <a:lnTo>
                    <a:pt x="250" y="1381"/>
                  </a:lnTo>
                  <a:lnTo>
                    <a:pt x="251" y="1370"/>
                  </a:lnTo>
                  <a:lnTo>
                    <a:pt x="252" y="1354"/>
                  </a:lnTo>
                  <a:lnTo>
                    <a:pt x="252" y="1322"/>
                  </a:lnTo>
                  <a:lnTo>
                    <a:pt x="253" y="1276"/>
                  </a:lnTo>
                  <a:lnTo>
                    <a:pt x="254" y="1212"/>
                  </a:lnTo>
                  <a:lnTo>
                    <a:pt x="254" y="1134"/>
                  </a:lnTo>
                  <a:lnTo>
                    <a:pt x="255" y="1039"/>
                  </a:lnTo>
                  <a:lnTo>
                    <a:pt x="256" y="929"/>
                  </a:lnTo>
                  <a:lnTo>
                    <a:pt x="256" y="804"/>
                  </a:lnTo>
                  <a:lnTo>
                    <a:pt x="252" y="286"/>
                  </a:lnTo>
                  <a:lnTo>
                    <a:pt x="251" y="233"/>
                  </a:lnTo>
                  <a:lnTo>
                    <a:pt x="250" y="192"/>
                  </a:lnTo>
                  <a:lnTo>
                    <a:pt x="249" y="164"/>
                  </a:lnTo>
                  <a:lnTo>
                    <a:pt x="247" y="149"/>
                  </a:lnTo>
                  <a:lnTo>
                    <a:pt x="243" y="141"/>
                  </a:lnTo>
                  <a:lnTo>
                    <a:pt x="238" y="134"/>
                  </a:lnTo>
                  <a:lnTo>
                    <a:pt x="232" y="128"/>
                  </a:lnTo>
                  <a:lnTo>
                    <a:pt x="225" y="123"/>
                  </a:lnTo>
                  <a:lnTo>
                    <a:pt x="211" y="116"/>
                  </a:lnTo>
                  <a:lnTo>
                    <a:pt x="194" y="109"/>
                  </a:lnTo>
                  <a:lnTo>
                    <a:pt x="176" y="102"/>
                  </a:lnTo>
                  <a:lnTo>
                    <a:pt x="156" y="96"/>
                  </a:lnTo>
                  <a:lnTo>
                    <a:pt x="133" y="91"/>
                  </a:lnTo>
                  <a:lnTo>
                    <a:pt x="109" y="85"/>
                  </a:lnTo>
                  <a:lnTo>
                    <a:pt x="83" y="80"/>
                  </a:lnTo>
                  <a:lnTo>
                    <a:pt x="54" y="75"/>
                  </a:lnTo>
                  <a:lnTo>
                    <a:pt x="45" y="74"/>
                  </a:lnTo>
                  <a:lnTo>
                    <a:pt x="32" y="71"/>
                  </a:lnTo>
                  <a:lnTo>
                    <a:pt x="17" y="69"/>
                  </a:lnTo>
                  <a:lnTo>
                    <a:pt x="0" y="64"/>
                  </a:lnTo>
                  <a:close/>
                  <a:moveTo>
                    <a:pt x="462" y="738"/>
                  </a:moveTo>
                  <a:lnTo>
                    <a:pt x="490" y="741"/>
                  </a:lnTo>
                  <a:lnTo>
                    <a:pt x="516" y="744"/>
                  </a:lnTo>
                  <a:lnTo>
                    <a:pt x="540" y="746"/>
                  </a:lnTo>
                  <a:lnTo>
                    <a:pt x="564" y="748"/>
                  </a:lnTo>
                  <a:lnTo>
                    <a:pt x="585" y="749"/>
                  </a:lnTo>
                  <a:lnTo>
                    <a:pt x="604" y="750"/>
                  </a:lnTo>
                  <a:lnTo>
                    <a:pt x="622" y="750"/>
                  </a:lnTo>
                  <a:lnTo>
                    <a:pt x="639" y="751"/>
                  </a:lnTo>
                  <a:lnTo>
                    <a:pt x="663" y="750"/>
                  </a:lnTo>
                  <a:lnTo>
                    <a:pt x="688" y="749"/>
                  </a:lnTo>
                  <a:lnTo>
                    <a:pt x="710" y="748"/>
                  </a:lnTo>
                  <a:lnTo>
                    <a:pt x="732" y="745"/>
                  </a:lnTo>
                  <a:lnTo>
                    <a:pt x="754" y="741"/>
                  </a:lnTo>
                  <a:lnTo>
                    <a:pt x="774" y="738"/>
                  </a:lnTo>
                  <a:lnTo>
                    <a:pt x="795" y="734"/>
                  </a:lnTo>
                  <a:lnTo>
                    <a:pt x="814" y="729"/>
                  </a:lnTo>
                  <a:lnTo>
                    <a:pt x="832" y="722"/>
                  </a:lnTo>
                  <a:lnTo>
                    <a:pt x="849" y="716"/>
                  </a:lnTo>
                  <a:lnTo>
                    <a:pt x="866" y="709"/>
                  </a:lnTo>
                  <a:lnTo>
                    <a:pt x="881" y="700"/>
                  </a:lnTo>
                  <a:lnTo>
                    <a:pt x="896" y="692"/>
                  </a:lnTo>
                  <a:lnTo>
                    <a:pt x="910" y="682"/>
                  </a:lnTo>
                  <a:lnTo>
                    <a:pt x="923" y="673"/>
                  </a:lnTo>
                  <a:lnTo>
                    <a:pt x="935" y="662"/>
                  </a:lnTo>
                  <a:lnTo>
                    <a:pt x="947" y="650"/>
                  </a:lnTo>
                  <a:lnTo>
                    <a:pt x="958" y="639"/>
                  </a:lnTo>
                  <a:lnTo>
                    <a:pt x="968" y="626"/>
                  </a:lnTo>
                  <a:lnTo>
                    <a:pt x="978" y="612"/>
                  </a:lnTo>
                  <a:lnTo>
                    <a:pt x="986" y="599"/>
                  </a:lnTo>
                  <a:lnTo>
                    <a:pt x="995" y="585"/>
                  </a:lnTo>
                  <a:lnTo>
                    <a:pt x="1001" y="570"/>
                  </a:lnTo>
                  <a:lnTo>
                    <a:pt x="1007" y="555"/>
                  </a:lnTo>
                  <a:lnTo>
                    <a:pt x="1014" y="539"/>
                  </a:lnTo>
                  <a:lnTo>
                    <a:pt x="1018" y="523"/>
                  </a:lnTo>
                  <a:lnTo>
                    <a:pt x="1022" y="506"/>
                  </a:lnTo>
                  <a:lnTo>
                    <a:pt x="1025" y="488"/>
                  </a:lnTo>
                  <a:lnTo>
                    <a:pt x="1029" y="471"/>
                  </a:lnTo>
                  <a:lnTo>
                    <a:pt x="1031" y="452"/>
                  </a:lnTo>
                  <a:lnTo>
                    <a:pt x="1032" y="433"/>
                  </a:lnTo>
                  <a:lnTo>
                    <a:pt x="1032" y="414"/>
                  </a:lnTo>
                  <a:lnTo>
                    <a:pt x="1032" y="397"/>
                  </a:lnTo>
                  <a:lnTo>
                    <a:pt x="1031" y="380"/>
                  </a:lnTo>
                  <a:lnTo>
                    <a:pt x="1029" y="363"/>
                  </a:lnTo>
                  <a:lnTo>
                    <a:pt x="1027" y="348"/>
                  </a:lnTo>
                  <a:lnTo>
                    <a:pt x="1023" y="332"/>
                  </a:lnTo>
                  <a:lnTo>
                    <a:pt x="1020" y="318"/>
                  </a:lnTo>
                  <a:lnTo>
                    <a:pt x="1016" y="304"/>
                  </a:lnTo>
                  <a:lnTo>
                    <a:pt x="1011" y="289"/>
                  </a:lnTo>
                  <a:lnTo>
                    <a:pt x="1005" y="276"/>
                  </a:lnTo>
                  <a:lnTo>
                    <a:pt x="999" y="262"/>
                  </a:lnTo>
                  <a:lnTo>
                    <a:pt x="992" y="251"/>
                  </a:lnTo>
                  <a:lnTo>
                    <a:pt x="984" y="238"/>
                  </a:lnTo>
                  <a:lnTo>
                    <a:pt x="976" y="226"/>
                  </a:lnTo>
                  <a:lnTo>
                    <a:pt x="966" y="216"/>
                  </a:lnTo>
                  <a:lnTo>
                    <a:pt x="957" y="205"/>
                  </a:lnTo>
                  <a:lnTo>
                    <a:pt x="946" y="195"/>
                  </a:lnTo>
                  <a:lnTo>
                    <a:pt x="935" y="185"/>
                  </a:lnTo>
                  <a:lnTo>
                    <a:pt x="924" y="176"/>
                  </a:lnTo>
                  <a:lnTo>
                    <a:pt x="912" y="167"/>
                  </a:lnTo>
                  <a:lnTo>
                    <a:pt x="899" y="160"/>
                  </a:lnTo>
                  <a:lnTo>
                    <a:pt x="886" y="152"/>
                  </a:lnTo>
                  <a:lnTo>
                    <a:pt x="872" y="146"/>
                  </a:lnTo>
                  <a:lnTo>
                    <a:pt x="857" y="140"/>
                  </a:lnTo>
                  <a:lnTo>
                    <a:pt x="842" y="134"/>
                  </a:lnTo>
                  <a:lnTo>
                    <a:pt x="826" y="130"/>
                  </a:lnTo>
                  <a:lnTo>
                    <a:pt x="809" y="126"/>
                  </a:lnTo>
                  <a:lnTo>
                    <a:pt x="792" y="121"/>
                  </a:lnTo>
                  <a:lnTo>
                    <a:pt x="775" y="119"/>
                  </a:lnTo>
                  <a:lnTo>
                    <a:pt x="756" y="117"/>
                  </a:lnTo>
                  <a:lnTo>
                    <a:pt x="738" y="115"/>
                  </a:lnTo>
                  <a:lnTo>
                    <a:pt x="718" y="114"/>
                  </a:lnTo>
                  <a:lnTo>
                    <a:pt x="698" y="114"/>
                  </a:lnTo>
                  <a:lnTo>
                    <a:pt x="682" y="114"/>
                  </a:lnTo>
                  <a:lnTo>
                    <a:pt x="662" y="115"/>
                  </a:lnTo>
                  <a:lnTo>
                    <a:pt x="639" y="116"/>
                  </a:lnTo>
                  <a:lnTo>
                    <a:pt x="611" y="117"/>
                  </a:lnTo>
                  <a:lnTo>
                    <a:pt x="581" y="119"/>
                  </a:lnTo>
                  <a:lnTo>
                    <a:pt x="547" y="121"/>
                  </a:lnTo>
                  <a:lnTo>
                    <a:pt x="510" y="124"/>
                  </a:lnTo>
                  <a:lnTo>
                    <a:pt x="468" y="127"/>
                  </a:lnTo>
                  <a:lnTo>
                    <a:pt x="462" y="738"/>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grpSp>
      <p:pic>
        <p:nvPicPr>
          <p:cNvPr id="721" name="图片 97" descr="20120519111714_aakBa副本.png"/>
          <p:cNvPicPr/>
          <p:nvPr/>
        </p:nvPicPr>
        <p:blipFill>
          <a:blip r:embed="rId1"/>
          <a:stretch/>
        </p:blipFill>
        <p:spPr>
          <a:xfrm rot="20799000">
            <a:off x="4400640" y="898920"/>
            <a:ext cx="2285280" cy="1752120"/>
          </a:xfrm>
          <a:prstGeom prst="rect">
            <a:avLst/>
          </a:prstGeom>
          <a:ln w="0">
            <a:noFill/>
          </a:ln>
        </p:spPr>
      </p:pic>
      <p:sp>
        <p:nvSpPr>
          <p:cNvPr id="722" name="任意多边形 101"/>
          <p:cNvSpPr/>
          <p:nvPr/>
        </p:nvSpPr>
        <p:spPr>
          <a:xfrm>
            <a:off x="228600" y="2425680"/>
            <a:ext cx="4851000" cy="7480080"/>
          </a:xfrm>
          <a:custGeom>
            <a:avLst/>
            <a:gdLst>
              <a:gd name="textAreaLeft" fmla="*/ 0 w 4851000"/>
              <a:gd name="textAreaRight" fmla="*/ 4851360 w 4851000"/>
              <a:gd name="textAreaTop" fmla="*/ 0 h 7480080"/>
              <a:gd name="textAreaBottom" fmla="*/ 7480440 h 7480080"/>
            </a:gdLst>
            <a:ahLst/>
            <a:rect l="textAreaLeft" t="textAreaTop" r="textAreaRight" b="textAreaBottom"/>
            <a:pathLst>
              <a:path w="4299520" h="6578600">
                <a:moveTo>
                  <a:pt x="4299520" y="0"/>
                </a:moveTo>
                <a:cubicBezTo>
                  <a:pt x="4086381" y="492539"/>
                  <a:pt x="3290487" y="748891"/>
                  <a:pt x="3147208" y="980111"/>
                </a:cubicBezTo>
                <a:cubicBezTo>
                  <a:pt x="2943169" y="1276628"/>
                  <a:pt x="3615375" y="1864114"/>
                  <a:pt x="3175475" y="2278380"/>
                </a:cubicBezTo>
                <a:cubicBezTo>
                  <a:pt x="2735575" y="2692646"/>
                  <a:pt x="915887" y="2805627"/>
                  <a:pt x="507806" y="3465708"/>
                </a:cubicBezTo>
                <a:cubicBezTo>
                  <a:pt x="295575" y="3912950"/>
                  <a:pt x="0" y="5003500"/>
                  <a:pt x="1523076" y="6578600"/>
                </a:cubicBezTo>
              </a:path>
            </a:pathLst>
          </a:custGeom>
          <a:noFill/>
          <a:ln w="6350">
            <a:solidFill>
              <a:srgbClr val="000000">
                <a:lumMod val="65000"/>
                <a:lumOff val="35000"/>
              </a:srgbClr>
            </a:solidFill>
            <a:prstDash val="sysDot"/>
            <a:round/>
          </a:ln>
        </p:spPr>
        <p:style>
          <a:lnRef idx="0"/>
          <a:fillRef idx="0"/>
          <a:effectRef idx="0"/>
          <a:fontRef idx="minor"/>
        </p:style>
        <p:txBody>
          <a:bodyPr numCol="1" spcCol="0" anchor="ctr">
            <a:noAutofit/>
          </a:bodyPr>
          <a:p>
            <a:pPr>
              <a:lnSpc>
                <a:spcPct val="100000"/>
              </a:lnSpc>
              <a:tabLst>
                <a:tab algn="l" pos="0"/>
              </a:tabLst>
            </a:pPr>
            <a:endParaRPr b="0" lang="en-US" sz="1800" spc="-1" strike="noStrike">
              <a:solidFill>
                <a:srgbClr val="000000"/>
              </a:solidFill>
              <a:latin typeface="Arial"/>
              <a:ea typeface="宋体"/>
            </a:endParaRPr>
          </a:p>
        </p:txBody>
      </p:sp>
      <p:sp>
        <p:nvSpPr>
          <p:cNvPr id="723" name="矩形 104"/>
          <p:cNvSpPr/>
          <p:nvPr/>
        </p:nvSpPr>
        <p:spPr>
          <a:xfrm>
            <a:off x="0" y="4660920"/>
            <a:ext cx="3519000" cy="276480"/>
          </a:xfrm>
          <a:prstGeom prst="rect">
            <a:avLst/>
          </a:prstGeom>
          <a:solidFill>
            <a:srgbClr val="d79f00"/>
          </a:solidFill>
          <a:ln w="0">
            <a:noFill/>
          </a:ln>
        </p:spPr>
        <p:style>
          <a:lnRef idx="0"/>
          <a:fillRef idx="0"/>
          <a:effectRef idx="0"/>
          <a:fontRef idx="minor"/>
        </p:style>
        <p:txBody>
          <a:bodyPr numCol="1" spcCol="0" anchor="ctr">
            <a:noAutofit/>
          </a:bodyPr>
          <a:p>
            <a:pPr>
              <a:lnSpc>
                <a:spcPct val="100000"/>
              </a:lnSpc>
              <a:tabLst>
                <a:tab algn="l" pos="0"/>
              </a:tabLst>
            </a:pPr>
            <a:endParaRPr b="0" lang="en-US" sz="1800" spc="-1" strike="noStrike">
              <a:solidFill>
                <a:srgbClr val="000000"/>
              </a:solidFill>
              <a:latin typeface="Arial"/>
              <a:ea typeface="宋体"/>
            </a:endParaRPr>
          </a:p>
        </p:txBody>
      </p:sp>
      <p:sp>
        <p:nvSpPr>
          <p:cNvPr id="724" name="TextBox 103"/>
          <p:cNvSpPr/>
          <p:nvPr/>
        </p:nvSpPr>
        <p:spPr>
          <a:xfrm>
            <a:off x="4025880" y="4660920"/>
            <a:ext cx="2107440" cy="2721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200" spc="-1" strike="noStrike">
                <a:solidFill>
                  <a:srgbClr val="000000"/>
                </a:solidFill>
                <a:latin typeface="微软雅黑"/>
                <a:ea typeface="微软雅黑"/>
              </a:rPr>
              <a:t>我 们 将 引 领 您 飞 向 更 广 阔 的 天 空 ！</a:t>
            </a:r>
            <a:endParaRPr b="0" lang="en-US" sz="1200" spc="-1" strike="noStrike">
              <a:solidFill>
                <a:srgbClr val="000000"/>
              </a:solidFill>
              <a:latin typeface="Arial"/>
            </a:endParaRPr>
          </a:p>
        </p:txBody>
      </p:sp>
    </p:spTree>
  </p:cSld>
  <p:transition spd="slow" advTm="5000">
    <p:cover dir="r"/>
  </p:transition>
  <p:timing>
    <p:tnLst>
      <p:par>
        <p:cTn id="334" dur="indefinite" restart="never" nodeType="tmRoot">
          <p:childTnLst>
            <p:seq>
              <p:cTn id="335" dur="indefinite" nodeType="mainSeq">
                <p:childTnLst>
                  <p:par>
                    <p:cTn id="336" fill="hold">
                      <p:stCondLst>
                        <p:cond delay="0"/>
                      </p:stCondLst>
                      <p:childTnLst>
                        <p:par>
                          <p:cTn id="337" fill="hold">
                            <p:stCondLst>
                              <p:cond delay="0"/>
                            </p:stCondLst>
                            <p:childTnLst>
                              <p:par>
                                <p:cTn id="338" nodeType="withEffect" fill="hold" presetClass="entr" presetID="22" presetSubtype="8">
                                  <p:stCondLst>
                                    <p:cond delay="0"/>
                                  </p:stCondLst>
                                  <p:childTnLst>
                                    <p:set>
                                      <p:cBhvr>
                                        <p:cTn id="339" dur="1" fill="hold">
                                          <p:stCondLst>
                                            <p:cond delay="0"/>
                                          </p:stCondLst>
                                        </p:cTn>
                                        <p:tgtEl>
                                          <p:spTgt spid="723"/>
                                        </p:tgtEl>
                                        <p:attrNameLst>
                                          <p:attrName>style.visibility</p:attrName>
                                        </p:attrNameLst>
                                      </p:cBhvr>
                                      <p:to>
                                        <p:strVal val="visible"/>
                                      </p:to>
                                    </p:set>
                                    <p:animEffect filter="wipe(left)" transition="in">
                                      <p:cBhvr additive="repl">
                                        <p:cTn id="340" dur="1000"/>
                                        <p:tgtEl>
                                          <p:spTgt spid="723"/>
                                        </p:tgtEl>
                                      </p:cBhvr>
                                    </p:animEffect>
                                  </p:childTnLst>
                                </p:cTn>
                              </p:par>
                            </p:childTnLst>
                          </p:cTn>
                        </p:par>
                        <p:par>
                          <p:cTn id="341" fill="hold">
                            <p:stCondLst>
                              <p:cond delay="1000"/>
                            </p:stCondLst>
                            <p:childTnLst>
                              <p:par>
                                <p:cTn id="342" nodeType="afterEffect" fill="hold" presetClass="entr" presetID="22" presetSubtype="8">
                                  <p:stCondLst>
                                    <p:cond delay="0"/>
                                  </p:stCondLst>
                                  <p:childTnLst>
                                    <p:set>
                                      <p:cBhvr>
                                        <p:cTn id="343" dur="1" fill="hold">
                                          <p:stCondLst>
                                            <p:cond delay="0"/>
                                          </p:stCondLst>
                                        </p:cTn>
                                        <p:tgtEl>
                                          <p:spTgt spid="724"/>
                                        </p:tgtEl>
                                        <p:attrNameLst>
                                          <p:attrName>style.visibility</p:attrName>
                                        </p:attrNameLst>
                                      </p:cBhvr>
                                      <p:to>
                                        <p:strVal val="visible"/>
                                      </p:to>
                                    </p:set>
                                    <p:animEffect filter="wipe(left)" transition="in">
                                      <p:cBhvr additive="repl">
                                        <p:cTn id="344" dur="1000"/>
                                        <p:tgtEl>
                                          <p:spTgt spid="724"/>
                                        </p:tgtEl>
                                      </p:cBhvr>
                                    </p:animEffect>
                                  </p:childTnLst>
                                </p:cTn>
                              </p:par>
                            </p:childTnLst>
                          </p:cTn>
                        </p:par>
                        <p:par>
                          <p:cTn id="345" fill="hold">
                            <p:stCondLst>
                              <p:cond delay="2000"/>
                            </p:stCondLst>
                            <p:childTnLst>
                              <p:par>
                                <p:cTn id="346" nodeType="afterEffect" fill="hold" presetClass="entr" presetID="1">
                                  <p:stCondLst>
                                    <p:cond delay="0"/>
                                  </p:stCondLst>
                                  <p:childTnLst>
                                    <p:set>
                                      <p:cBhvr>
                                        <p:cTn id="347" dur="1" fill="hold">
                                          <p:stCondLst>
                                            <p:cond delay="0"/>
                                          </p:stCondLst>
                                        </p:cTn>
                                        <p:tgtEl>
                                          <p:spTgt spid="721"/>
                                        </p:tgtEl>
                                        <p:attrNameLst>
                                          <p:attrName>style.visibility</p:attrName>
                                        </p:attrNameLst>
                                      </p:cBhvr>
                                      <p:to>
                                        <p:strVal val="visible"/>
                                      </p:to>
                                    </p:set>
                                  </p:childTnLst>
                                </p:cTn>
                              </p:par>
                              <p:par>
                                <p:cTn id="348" nodeType="withEffect" fill="hold" presetClass="path">
                                  <p:stCondLst>
                                    <p:cond delay="0"/>
                                  </p:stCondLst>
                                  <p:childTnLst>
                                    <p:animMotion origin="layout" path="M -0.52568 0.81967 C -0.55343 0.79228 -0.66767 0.71733 -0.69173 0.65519 C -0.71578 0.59305 -0.74307 0.50112 -0.67045 0.44651 C -0.59783 0.3919 -0.32378 0.37124 -0.25555 0.32768 C -0.18733 0.28411 -0.28192 0.21941 -0.26134 0.18466 C -0.24075 0.14991 -0.16536 0.13982 -0.13183 0.11916 C -0.09829 0.0985 -0.07609 0.07511 -0.06037 0.06022 C -0.04464 0.04533 -0.0421 0.03588 -0.03724 0.02947 E">
                                      <p:cBhvr>
                                        <p:cTn id="349" dur="5000" fill="hold"/>
                                        <p:tgtEl>
                                          <p:spTgt spid="721"/>
                                        </p:tgtEl>
                                        <p:attrNameLst>
                                          <p:attrName>ppt_x</p:attrName>
                                          <p:attrName>ppt_y</p:attrName>
                                        </p:attrNameLst>
                                      </p:cBhvr>
                                    </p:animMotion>
                                  </p:childTnLst>
                                </p:cTn>
                              </p:par>
                              <p:par>
                                <p:cTn id="350" nodeType="withEffect" fill="hold" presetClass="entr" presetID="22" presetSubtype="4">
                                  <p:stCondLst>
                                    <p:cond delay="300"/>
                                  </p:stCondLst>
                                  <p:childTnLst>
                                    <p:set>
                                      <p:cBhvr>
                                        <p:cTn id="351" dur="1" fill="hold">
                                          <p:stCondLst>
                                            <p:cond delay="0"/>
                                          </p:stCondLst>
                                        </p:cTn>
                                        <p:tgtEl>
                                          <p:spTgt spid="722"/>
                                        </p:tgtEl>
                                        <p:attrNameLst>
                                          <p:attrName>style.visibility</p:attrName>
                                        </p:attrNameLst>
                                      </p:cBhvr>
                                      <p:to>
                                        <p:strVal val="visible"/>
                                      </p:to>
                                    </p:set>
                                    <p:animEffect filter="wipe(down)" transition="in">
                                      <p:cBhvr additive="repl">
                                        <p:cTn id="352" dur="5000"/>
                                        <p:tgtEl>
                                          <p:spTgt spid="7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84" name="Group 2"/>
          <p:cNvGrpSpPr/>
          <p:nvPr/>
        </p:nvGrpSpPr>
        <p:grpSpPr>
          <a:xfrm>
            <a:off x="1969920" y="9093240"/>
            <a:ext cx="3306600" cy="326880"/>
            <a:chOff x="1969920" y="9093240"/>
            <a:chExt cx="3306600" cy="326880"/>
          </a:xfrm>
        </p:grpSpPr>
        <p:sp>
          <p:nvSpPr>
            <p:cNvPr id="85" name="Freeform 11"/>
            <p:cNvSpPr/>
            <p:nvPr/>
          </p:nvSpPr>
          <p:spPr>
            <a:xfrm>
              <a:off x="1969920" y="9101160"/>
              <a:ext cx="239400" cy="211320"/>
            </a:xfrm>
            <a:custGeom>
              <a:avLst/>
              <a:gdLst>
                <a:gd name="textAreaLeft" fmla="*/ 0 w 239400"/>
                <a:gd name="textAreaRight" fmla="*/ 239760 w 239400"/>
                <a:gd name="textAreaTop" fmla="*/ 0 h 211320"/>
                <a:gd name="textAreaBottom" fmla="*/ 211680 h 211320"/>
              </a:gdLst>
              <a:ahLst/>
              <a:rect l="textAreaLeft" t="textAreaTop" r="textAreaRight" b="textAreaBottom"/>
              <a:pathLst>
                <a:path w="1227" h="1136">
                  <a:moveTo>
                    <a:pt x="540" y="176"/>
                  </a:moveTo>
                  <a:lnTo>
                    <a:pt x="551" y="181"/>
                  </a:lnTo>
                  <a:lnTo>
                    <a:pt x="562" y="188"/>
                  </a:lnTo>
                  <a:lnTo>
                    <a:pt x="573" y="193"/>
                  </a:lnTo>
                  <a:lnTo>
                    <a:pt x="585" y="198"/>
                  </a:lnTo>
                  <a:lnTo>
                    <a:pt x="611" y="208"/>
                  </a:lnTo>
                  <a:lnTo>
                    <a:pt x="640" y="215"/>
                  </a:lnTo>
                  <a:lnTo>
                    <a:pt x="635" y="224"/>
                  </a:lnTo>
                  <a:lnTo>
                    <a:pt x="628" y="231"/>
                  </a:lnTo>
                  <a:lnTo>
                    <a:pt x="623" y="240"/>
                  </a:lnTo>
                  <a:lnTo>
                    <a:pt x="619" y="248"/>
                  </a:lnTo>
                  <a:lnTo>
                    <a:pt x="615" y="257"/>
                  </a:lnTo>
                  <a:lnTo>
                    <a:pt x="611" y="266"/>
                  </a:lnTo>
                  <a:lnTo>
                    <a:pt x="608" y="276"/>
                  </a:lnTo>
                  <a:lnTo>
                    <a:pt x="605" y="285"/>
                  </a:lnTo>
                  <a:lnTo>
                    <a:pt x="604" y="293"/>
                  </a:lnTo>
                  <a:lnTo>
                    <a:pt x="603" y="301"/>
                  </a:lnTo>
                  <a:lnTo>
                    <a:pt x="600" y="309"/>
                  </a:lnTo>
                  <a:lnTo>
                    <a:pt x="596" y="316"/>
                  </a:lnTo>
                  <a:lnTo>
                    <a:pt x="615" y="313"/>
                  </a:lnTo>
                  <a:lnTo>
                    <a:pt x="637" y="309"/>
                  </a:lnTo>
                  <a:lnTo>
                    <a:pt x="662" y="302"/>
                  </a:lnTo>
                  <a:lnTo>
                    <a:pt x="690" y="296"/>
                  </a:lnTo>
                  <a:lnTo>
                    <a:pt x="702" y="292"/>
                  </a:lnTo>
                  <a:lnTo>
                    <a:pt x="710" y="291"/>
                  </a:lnTo>
                  <a:lnTo>
                    <a:pt x="710" y="243"/>
                  </a:lnTo>
                  <a:lnTo>
                    <a:pt x="708" y="197"/>
                  </a:lnTo>
                  <a:lnTo>
                    <a:pt x="705" y="156"/>
                  </a:lnTo>
                  <a:lnTo>
                    <a:pt x="700" y="118"/>
                  </a:lnTo>
                  <a:lnTo>
                    <a:pt x="695" y="84"/>
                  </a:lnTo>
                  <a:lnTo>
                    <a:pt x="688" y="52"/>
                  </a:lnTo>
                  <a:lnTo>
                    <a:pt x="683" y="38"/>
                  </a:lnTo>
                  <a:lnTo>
                    <a:pt x="679" y="25"/>
                  </a:lnTo>
                  <a:lnTo>
                    <a:pt x="675" y="12"/>
                  </a:lnTo>
                  <a:lnTo>
                    <a:pt x="671" y="0"/>
                  </a:lnTo>
                  <a:lnTo>
                    <a:pt x="688" y="7"/>
                  </a:lnTo>
                  <a:lnTo>
                    <a:pt x="705" y="11"/>
                  </a:lnTo>
                  <a:lnTo>
                    <a:pt x="722" y="15"/>
                  </a:lnTo>
                  <a:lnTo>
                    <a:pt x="739" y="18"/>
                  </a:lnTo>
                  <a:lnTo>
                    <a:pt x="755" y="20"/>
                  </a:lnTo>
                  <a:lnTo>
                    <a:pt x="772" y="21"/>
                  </a:lnTo>
                  <a:lnTo>
                    <a:pt x="789" y="21"/>
                  </a:lnTo>
                  <a:lnTo>
                    <a:pt x="805" y="20"/>
                  </a:lnTo>
                  <a:lnTo>
                    <a:pt x="800" y="44"/>
                  </a:lnTo>
                  <a:lnTo>
                    <a:pt x="795" y="70"/>
                  </a:lnTo>
                  <a:lnTo>
                    <a:pt x="790" y="99"/>
                  </a:lnTo>
                  <a:lnTo>
                    <a:pt x="786" y="129"/>
                  </a:lnTo>
                  <a:lnTo>
                    <a:pt x="784" y="162"/>
                  </a:lnTo>
                  <a:lnTo>
                    <a:pt x="782" y="198"/>
                  </a:lnTo>
                  <a:lnTo>
                    <a:pt x="781" y="235"/>
                  </a:lnTo>
                  <a:lnTo>
                    <a:pt x="780" y="276"/>
                  </a:lnTo>
                  <a:lnTo>
                    <a:pt x="811" y="268"/>
                  </a:lnTo>
                  <a:lnTo>
                    <a:pt x="841" y="261"/>
                  </a:lnTo>
                  <a:lnTo>
                    <a:pt x="873" y="253"/>
                  </a:lnTo>
                  <a:lnTo>
                    <a:pt x="906" y="246"/>
                  </a:lnTo>
                  <a:lnTo>
                    <a:pt x="913" y="244"/>
                  </a:lnTo>
                  <a:lnTo>
                    <a:pt x="921" y="244"/>
                  </a:lnTo>
                  <a:lnTo>
                    <a:pt x="928" y="247"/>
                  </a:lnTo>
                  <a:lnTo>
                    <a:pt x="936" y="250"/>
                  </a:lnTo>
                  <a:lnTo>
                    <a:pt x="936" y="249"/>
                  </a:lnTo>
                  <a:lnTo>
                    <a:pt x="937" y="248"/>
                  </a:lnTo>
                  <a:lnTo>
                    <a:pt x="938" y="249"/>
                  </a:lnTo>
                  <a:lnTo>
                    <a:pt x="941" y="250"/>
                  </a:lnTo>
                  <a:lnTo>
                    <a:pt x="945" y="257"/>
                  </a:lnTo>
                  <a:lnTo>
                    <a:pt x="950" y="266"/>
                  </a:lnTo>
                  <a:lnTo>
                    <a:pt x="960" y="276"/>
                  </a:lnTo>
                  <a:lnTo>
                    <a:pt x="966" y="284"/>
                  </a:lnTo>
                  <a:lnTo>
                    <a:pt x="972" y="293"/>
                  </a:lnTo>
                  <a:lnTo>
                    <a:pt x="976" y="301"/>
                  </a:lnTo>
                  <a:lnTo>
                    <a:pt x="979" y="305"/>
                  </a:lnTo>
                  <a:lnTo>
                    <a:pt x="981" y="309"/>
                  </a:lnTo>
                  <a:lnTo>
                    <a:pt x="982" y="310"/>
                  </a:lnTo>
                  <a:lnTo>
                    <a:pt x="982" y="311"/>
                  </a:lnTo>
                  <a:lnTo>
                    <a:pt x="981" y="311"/>
                  </a:lnTo>
                  <a:lnTo>
                    <a:pt x="980" y="311"/>
                  </a:lnTo>
                  <a:lnTo>
                    <a:pt x="979" y="313"/>
                  </a:lnTo>
                  <a:lnTo>
                    <a:pt x="977" y="315"/>
                  </a:lnTo>
                  <a:lnTo>
                    <a:pt x="972" y="315"/>
                  </a:lnTo>
                  <a:lnTo>
                    <a:pt x="965" y="316"/>
                  </a:lnTo>
                  <a:lnTo>
                    <a:pt x="943" y="321"/>
                  </a:lnTo>
                  <a:lnTo>
                    <a:pt x="915" y="327"/>
                  </a:lnTo>
                  <a:lnTo>
                    <a:pt x="883" y="334"/>
                  </a:lnTo>
                  <a:lnTo>
                    <a:pt x="845" y="340"/>
                  </a:lnTo>
                  <a:lnTo>
                    <a:pt x="824" y="343"/>
                  </a:lnTo>
                  <a:lnTo>
                    <a:pt x="806" y="346"/>
                  </a:lnTo>
                  <a:lnTo>
                    <a:pt x="791" y="348"/>
                  </a:lnTo>
                  <a:lnTo>
                    <a:pt x="780" y="351"/>
                  </a:lnTo>
                  <a:lnTo>
                    <a:pt x="780" y="384"/>
                  </a:lnTo>
                  <a:lnTo>
                    <a:pt x="780" y="417"/>
                  </a:lnTo>
                  <a:lnTo>
                    <a:pt x="780" y="452"/>
                  </a:lnTo>
                  <a:lnTo>
                    <a:pt x="780" y="486"/>
                  </a:lnTo>
                  <a:lnTo>
                    <a:pt x="806" y="480"/>
                  </a:lnTo>
                  <a:lnTo>
                    <a:pt x="834" y="474"/>
                  </a:lnTo>
                  <a:lnTo>
                    <a:pt x="860" y="467"/>
                  </a:lnTo>
                  <a:lnTo>
                    <a:pt x="888" y="462"/>
                  </a:lnTo>
                  <a:lnTo>
                    <a:pt x="915" y="457"/>
                  </a:lnTo>
                  <a:lnTo>
                    <a:pt x="943" y="452"/>
                  </a:lnTo>
                  <a:lnTo>
                    <a:pt x="972" y="446"/>
                  </a:lnTo>
                  <a:lnTo>
                    <a:pt x="1000" y="441"/>
                  </a:lnTo>
                  <a:lnTo>
                    <a:pt x="1005" y="440"/>
                  </a:lnTo>
                  <a:lnTo>
                    <a:pt x="1011" y="440"/>
                  </a:lnTo>
                  <a:lnTo>
                    <a:pt x="1015" y="440"/>
                  </a:lnTo>
                  <a:lnTo>
                    <a:pt x="1020" y="441"/>
                  </a:lnTo>
                  <a:lnTo>
                    <a:pt x="1026" y="442"/>
                  </a:lnTo>
                  <a:lnTo>
                    <a:pt x="1031" y="444"/>
                  </a:lnTo>
                  <a:lnTo>
                    <a:pt x="1035" y="447"/>
                  </a:lnTo>
                  <a:lnTo>
                    <a:pt x="1040" y="451"/>
                  </a:lnTo>
                  <a:lnTo>
                    <a:pt x="1047" y="458"/>
                  </a:lnTo>
                  <a:lnTo>
                    <a:pt x="1055" y="471"/>
                  </a:lnTo>
                  <a:lnTo>
                    <a:pt x="1068" y="491"/>
                  </a:lnTo>
                  <a:lnTo>
                    <a:pt x="1075" y="500"/>
                  </a:lnTo>
                  <a:lnTo>
                    <a:pt x="1080" y="508"/>
                  </a:lnTo>
                  <a:lnTo>
                    <a:pt x="1082" y="513"/>
                  </a:lnTo>
                  <a:lnTo>
                    <a:pt x="1082" y="517"/>
                  </a:lnTo>
                  <a:lnTo>
                    <a:pt x="1081" y="520"/>
                  </a:lnTo>
                  <a:lnTo>
                    <a:pt x="1080" y="523"/>
                  </a:lnTo>
                  <a:lnTo>
                    <a:pt x="1076" y="525"/>
                  </a:lnTo>
                  <a:lnTo>
                    <a:pt x="1072" y="526"/>
                  </a:lnTo>
                  <a:lnTo>
                    <a:pt x="1066" y="526"/>
                  </a:lnTo>
                  <a:lnTo>
                    <a:pt x="1049" y="526"/>
                  </a:lnTo>
                  <a:lnTo>
                    <a:pt x="1031" y="527"/>
                  </a:lnTo>
                  <a:lnTo>
                    <a:pt x="1011" y="528"/>
                  </a:lnTo>
                  <a:lnTo>
                    <a:pt x="987" y="530"/>
                  </a:lnTo>
                  <a:lnTo>
                    <a:pt x="963" y="532"/>
                  </a:lnTo>
                  <a:lnTo>
                    <a:pt x="936" y="534"/>
                  </a:lnTo>
                  <a:lnTo>
                    <a:pt x="907" y="537"/>
                  </a:lnTo>
                  <a:lnTo>
                    <a:pt x="875" y="541"/>
                  </a:lnTo>
                  <a:lnTo>
                    <a:pt x="850" y="544"/>
                  </a:lnTo>
                  <a:lnTo>
                    <a:pt x="827" y="546"/>
                  </a:lnTo>
                  <a:lnTo>
                    <a:pt x="809" y="548"/>
                  </a:lnTo>
                  <a:lnTo>
                    <a:pt x="796" y="551"/>
                  </a:lnTo>
                  <a:lnTo>
                    <a:pt x="812" y="568"/>
                  </a:lnTo>
                  <a:lnTo>
                    <a:pt x="831" y="588"/>
                  </a:lnTo>
                  <a:lnTo>
                    <a:pt x="852" y="613"/>
                  </a:lnTo>
                  <a:lnTo>
                    <a:pt x="875" y="641"/>
                  </a:lnTo>
                  <a:lnTo>
                    <a:pt x="902" y="671"/>
                  </a:lnTo>
                  <a:lnTo>
                    <a:pt x="927" y="696"/>
                  </a:lnTo>
                  <a:lnTo>
                    <a:pt x="950" y="720"/>
                  </a:lnTo>
                  <a:lnTo>
                    <a:pt x="972" y="740"/>
                  </a:lnTo>
                  <a:lnTo>
                    <a:pt x="992" y="757"/>
                  </a:lnTo>
                  <a:lnTo>
                    <a:pt x="1010" y="770"/>
                  </a:lnTo>
                  <a:lnTo>
                    <a:pt x="1018" y="775"/>
                  </a:lnTo>
                  <a:lnTo>
                    <a:pt x="1026" y="779"/>
                  </a:lnTo>
                  <a:lnTo>
                    <a:pt x="1033" y="783"/>
                  </a:lnTo>
                  <a:lnTo>
                    <a:pt x="1040" y="786"/>
                  </a:lnTo>
                  <a:lnTo>
                    <a:pt x="1064" y="797"/>
                  </a:lnTo>
                  <a:lnTo>
                    <a:pt x="1087" y="809"/>
                  </a:lnTo>
                  <a:lnTo>
                    <a:pt x="1109" y="821"/>
                  </a:lnTo>
                  <a:lnTo>
                    <a:pt x="1130" y="834"/>
                  </a:lnTo>
                  <a:lnTo>
                    <a:pt x="1152" y="846"/>
                  </a:lnTo>
                  <a:lnTo>
                    <a:pt x="1172" y="860"/>
                  </a:lnTo>
                  <a:lnTo>
                    <a:pt x="1191" y="872"/>
                  </a:lnTo>
                  <a:lnTo>
                    <a:pt x="1210" y="886"/>
                  </a:lnTo>
                  <a:lnTo>
                    <a:pt x="1218" y="896"/>
                  </a:lnTo>
                  <a:lnTo>
                    <a:pt x="1224" y="904"/>
                  </a:lnTo>
                  <a:lnTo>
                    <a:pt x="1226" y="907"/>
                  </a:lnTo>
                  <a:lnTo>
                    <a:pt x="1227" y="910"/>
                  </a:lnTo>
                  <a:lnTo>
                    <a:pt x="1227" y="914"/>
                  </a:lnTo>
                  <a:lnTo>
                    <a:pt x="1226" y="916"/>
                  </a:lnTo>
                  <a:lnTo>
                    <a:pt x="1225" y="919"/>
                  </a:lnTo>
                  <a:lnTo>
                    <a:pt x="1224" y="921"/>
                  </a:lnTo>
                  <a:lnTo>
                    <a:pt x="1221" y="922"/>
                  </a:lnTo>
                  <a:lnTo>
                    <a:pt x="1219" y="923"/>
                  </a:lnTo>
                  <a:lnTo>
                    <a:pt x="1211" y="925"/>
                  </a:lnTo>
                  <a:lnTo>
                    <a:pt x="1200" y="926"/>
                  </a:lnTo>
                  <a:lnTo>
                    <a:pt x="1152" y="927"/>
                  </a:lnTo>
                  <a:lnTo>
                    <a:pt x="1109" y="927"/>
                  </a:lnTo>
                  <a:lnTo>
                    <a:pt x="1089" y="927"/>
                  </a:lnTo>
                  <a:lnTo>
                    <a:pt x="1071" y="926"/>
                  </a:lnTo>
                  <a:lnTo>
                    <a:pt x="1054" y="924"/>
                  </a:lnTo>
                  <a:lnTo>
                    <a:pt x="1039" y="922"/>
                  </a:lnTo>
                  <a:lnTo>
                    <a:pt x="1026" y="920"/>
                  </a:lnTo>
                  <a:lnTo>
                    <a:pt x="1013" y="917"/>
                  </a:lnTo>
                  <a:lnTo>
                    <a:pt x="1001" y="914"/>
                  </a:lnTo>
                  <a:lnTo>
                    <a:pt x="992" y="910"/>
                  </a:lnTo>
                  <a:lnTo>
                    <a:pt x="983" y="906"/>
                  </a:lnTo>
                  <a:lnTo>
                    <a:pt x="976" y="902"/>
                  </a:lnTo>
                  <a:lnTo>
                    <a:pt x="969" y="897"/>
                  </a:lnTo>
                  <a:lnTo>
                    <a:pt x="965" y="891"/>
                  </a:lnTo>
                  <a:lnTo>
                    <a:pt x="946" y="867"/>
                  </a:lnTo>
                  <a:lnTo>
                    <a:pt x="922" y="833"/>
                  </a:lnTo>
                  <a:lnTo>
                    <a:pt x="893" y="792"/>
                  </a:lnTo>
                  <a:lnTo>
                    <a:pt x="860" y="741"/>
                  </a:lnTo>
                  <a:lnTo>
                    <a:pt x="839" y="704"/>
                  </a:lnTo>
                  <a:lnTo>
                    <a:pt x="819" y="671"/>
                  </a:lnTo>
                  <a:lnTo>
                    <a:pt x="801" y="643"/>
                  </a:lnTo>
                  <a:lnTo>
                    <a:pt x="785" y="621"/>
                  </a:lnTo>
                  <a:lnTo>
                    <a:pt x="785" y="636"/>
                  </a:lnTo>
                  <a:lnTo>
                    <a:pt x="785" y="652"/>
                  </a:lnTo>
                  <a:lnTo>
                    <a:pt x="785" y="671"/>
                  </a:lnTo>
                  <a:lnTo>
                    <a:pt x="785" y="691"/>
                  </a:lnTo>
                  <a:lnTo>
                    <a:pt x="785" y="713"/>
                  </a:lnTo>
                  <a:lnTo>
                    <a:pt x="785" y="738"/>
                  </a:lnTo>
                  <a:lnTo>
                    <a:pt x="785" y="763"/>
                  </a:lnTo>
                  <a:lnTo>
                    <a:pt x="785" y="791"/>
                  </a:lnTo>
                  <a:lnTo>
                    <a:pt x="786" y="820"/>
                  </a:lnTo>
                  <a:lnTo>
                    <a:pt x="787" y="848"/>
                  </a:lnTo>
                  <a:lnTo>
                    <a:pt x="788" y="873"/>
                  </a:lnTo>
                  <a:lnTo>
                    <a:pt x="789" y="898"/>
                  </a:lnTo>
                  <a:lnTo>
                    <a:pt x="789" y="920"/>
                  </a:lnTo>
                  <a:lnTo>
                    <a:pt x="790" y="940"/>
                  </a:lnTo>
                  <a:lnTo>
                    <a:pt x="790" y="959"/>
                  </a:lnTo>
                  <a:lnTo>
                    <a:pt x="790" y="976"/>
                  </a:lnTo>
                  <a:lnTo>
                    <a:pt x="793" y="1015"/>
                  </a:lnTo>
                  <a:lnTo>
                    <a:pt x="794" y="1048"/>
                  </a:lnTo>
                  <a:lnTo>
                    <a:pt x="795" y="1076"/>
                  </a:lnTo>
                  <a:lnTo>
                    <a:pt x="794" y="1099"/>
                  </a:lnTo>
                  <a:lnTo>
                    <a:pt x="793" y="1116"/>
                  </a:lnTo>
                  <a:lnTo>
                    <a:pt x="791" y="1128"/>
                  </a:lnTo>
                  <a:lnTo>
                    <a:pt x="790" y="1132"/>
                  </a:lnTo>
                  <a:lnTo>
                    <a:pt x="788" y="1135"/>
                  </a:lnTo>
                  <a:lnTo>
                    <a:pt x="787" y="1136"/>
                  </a:lnTo>
                  <a:lnTo>
                    <a:pt x="785" y="1136"/>
                  </a:lnTo>
                  <a:lnTo>
                    <a:pt x="770" y="1128"/>
                  </a:lnTo>
                  <a:lnTo>
                    <a:pt x="755" y="1118"/>
                  </a:lnTo>
                  <a:lnTo>
                    <a:pt x="741" y="1108"/>
                  </a:lnTo>
                  <a:lnTo>
                    <a:pt x="727" y="1095"/>
                  </a:lnTo>
                  <a:lnTo>
                    <a:pt x="712" y="1081"/>
                  </a:lnTo>
                  <a:lnTo>
                    <a:pt x="698" y="1066"/>
                  </a:lnTo>
                  <a:lnTo>
                    <a:pt x="684" y="1049"/>
                  </a:lnTo>
                  <a:lnTo>
                    <a:pt x="671" y="1031"/>
                  </a:lnTo>
                  <a:lnTo>
                    <a:pt x="675" y="1026"/>
                  </a:lnTo>
                  <a:lnTo>
                    <a:pt x="678" y="1019"/>
                  </a:lnTo>
                  <a:lnTo>
                    <a:pt x="682" y="1008"/>
                  </a:lnTo>
                  <a:lnTo>
                    <a:pt x="686" y="994"/>
                  </a:lnTo>
                  <a:lnTo>
                    <a:pt x="689" y="978"/>
                  </a:lnTo>
                  <a:lnTo>
                    <a:pt x="692" y="959"/>
                  </a:lnTo>
                  <a:lnTo>
                    <a:pt x="694" y="938"/>
                  </a:lnTo>
                  <a:lnTo>
                    <a:pt x="696" y="914"/>
                  </a:lnTo>
                  <a:lnTo>
                    <a:pt x="700" y="857"/>
                  </a:lnTo>
                  <a:lnTo>
                    <a:pt x="702" y="790"/>
                  </a:lnTo>
                  <a:lnTo>
                    <a:pt x="705" y="710"/>
                  </a:lnTo>
                  <a:lnTo>
                    <a:pt x="706" y="621"/>
                  </a:lnTo>
                  <a:lnTo>
                    <a:pt x="680" y="666"/>
                  </a:lnTo>
                  <a:lnTo>
                    <a:pt x="655" y="709"/>
                  </a:lnTo>
                  <a:lnTo>
                    <a:pt x="629" y="749"/>
                  </a:lnTo>
                  <a:lnTo>
                    <a:pt x="604" y="788"/>
                  </a:lnTo>
                  <a:lnTo>
                    <a:pt x="579" y="824"/>
                  </a:lnTo>
                  <a:lnTo>
                    <a:pt x="552" y="856"/>
                  </a:lnTo>
                  <a:lnTo>
                    <a:pt x="527" y="887"/>
                  </a:lnTo>
                  <a:lnTo>
                    <a:pt x="500" y="916"/>
                  </a:lnTo>
                  <a:lnTo>
                    <a:pt x="487" y="926"/>
                  </a:lnTo>
                  <a:lnTo>
                    <a:pt x="475" y="935"/>
                  </a:lnTo>
                  <a:lnTo>
                    <a:pt x="462" y="943"/>
                  </a:lnTo>
                  <a:lnTo>
                    <a:pt x="449" y="950"/>
                  </a:lnTo>
                  <a:lnTo>
                    <a:pt x="437" y="955"/>
                  </a:lnTo>
                  <a:lnTo>
                    <a:pt x="423" y="959"/>
                  </a:lnTo>
                  <a:lnTo>
                    <a:pt x="410" y="962"/>
                  </a:lnTo>
                  <a:lnTo>
                    <a:pt x="396" y="963"/>
                  </a:lnTo>
                  <a:lnTo>
                    <a:pt x="383" y="964"/>
                  </a:lnTo>
                  <a:lnTo>
                    <a:pt x="369" y="963"/>
                  </a:lnTo>
                  <a:lnTo>
                    <a:pt x="355" y="962"/>
                  </a:lnTo>
                  <a:lnTo>
                    <a:pt x="341" y="959"/>
                  </a:lnTo>
                  <a:lnTo>
                    <a:pt x="328" y="955"/>
                  </a:lnTo>
                  <a:lnTo>
                    <a:pt x="314" y="950"/>
                  </a:lnTo>
                  <a:lnTo>
                    <a:pt x="299" y="943"/>
                  </a:lnTo>
                  <a:lnTo>
                    <a:pt x="285" y="936"/>
                  </a:lnTo>
                  <a:lnTo>
                    <a:pt x="308" y="925"/>
                  </a:lnTo>
                  <a:lnTo>
                    <a:pt x="333" y="912"/>
                  </a:lnTo>
                  <a:lnTo>
                    <a:pt x="356" y="898"/>
                  </a:lnTo>
                  <a:lnTo>
                    <a:pt x="379" y="882"/>
                  </a:lnTo>
                  <a:lnTo>
                    <a:pt x="403" y="865"/>
                  </a:lnTo>
                  <a:lnTo>
                    <a:pt x="426" y="847"/>
                  </a:lnTo>
                  <a:lnTo>
                    <a:pt x="449" y="827"/>
                  </a:lnTo>
                  <a:lnTo>
                    <a:pt x="473" y="804"/>
                  </a:lnTo>
                  <a:lnTo>
                    <a:pt x="496" y="782"/>
                  </a:lnTo>
                  <a:lnTo>
                    <a:pt x="518" y="758"/>
                  </a:lnTo>
                  <a:lnTo>
                    <a:pt x="541" y="731"/>
                  </a:lnTo>
                  <a:lnTo>
                    <a:pt x="565" y="705"/>
                  </a:lnTo>
                  <a:lnTo>
                    <a:pt x="587" y="676"/>
                  </a:lnTo>
                  <a:lnTo>
                    <a:pt x="610" y="646"/>
                  </a:lnTo>
                  <a:lnTo>
                    <a:pt x="633" y="614"/>
                  </a:lnTo>
                  <a:lnTo>
                    <a:pt x="655" y="581"/>
                  </a:lnTo>
                  <a:lnTo>
                    <a:pt x="623" y="586"/>
                  </a:lnTo>
                  <a:lnTo>
                    <a:pt x="591" y="593"/>
                  </a:lnTo>
                  <a:lnTo>
                    <a:pt x="561" y="599"/>
                  </a:lnTo>
                  <a:lnTo>
                    <a:pt x="530" y="606"/>
                  </a:lnTo>
                  <a:lnTo>
                    <a:pt x="516" y="605"/>
                  </a:lnTo>
                  <a:lnTo>
                    <a:pt x="502" y="603"/>
                  </a:lnTo>
                  <a:lnTo>
                    <a:pt x="491" y="600"/>
                  </a:lnTo>
                  <a:lnTo>
                    <a:pt x="480" y="596"/>
                  </a:lnTo>
                  <a:lnTo>
                    <a:pt x="475" y="591"/>
                  </a:lnTo>
                  <a:lnTo>
                    <a:pt x="466" y="585"/>
                  </a:lnTo>
                  <a:lnTo>
                    <a:pt x="457" y="575"/>
                  </a:lnTo>
                  <a:lnTo>
                    <a:pt x="445" y="561"/>
                  </a:lnTo>
                  <a:lnTo>
                    <a:pt x="437" y="552"/>
                  </a:lnTo>
                  <a:lnTo>
                    <a:pt x="430" y="546"/>
                  </a:lnTo>
                  <a:lnTo>
                    <a:pt x="448" y="545"/>
                  </a:lnTo>
                  <a:lnTo>
                    <a:pt x="468" y="542"/>
                  </a:lnTo>
                  <a:lnTo>
                    <a:pt x="491" y="540"/>
                  </a:lnTo>
                  <a:lnTo>
                    <a:pt x="515" y="536"/>
                  </a:lnTo>
                  <a:lnTo>
                    <a:pt x="541" y="532"/>
                  </a:lnTo>
                  <a:lnTo>
                    <a:pt x="569" y="527"/>
                  </a:lnTo>
                  <a:lnTo>
                    <a:pt x="599" y="522"/>
                  </a:lnTo>
                  <a:lnTo>
                    <a:pt x="630" y="516"/>
                  </a:lnTo>
                  <a:lnTo>
                    <a:pt x="656" y="511"/>
                  </a:lnTo>
                  <a:lnTo>
                    <a:pt x="678" y="507"/>
                  </a:lnTo>
                  <a:lnTo>
                    <a:pt x="696" y="504"/>
                  </a:lnTo>
                  <a:lnTo>
                    <a:pt x="710" y="500"/>
                  </a:lnTo>
                  <a:lnTo>
                    <a:pt x="710" y="360"/>
                  </a:lnTo>
                  <a:lnTo>
                    <a:pt x="677" y="367"/>
                  </a:lnTo>
                  <a:lnTo>
                    <a:pt x="652" y="372"/>
                  </a:lnTo>
                  <a:lnTo>
                    <a:pt x="635" y="375"/>
                  </a:lnTo>
                  <a:lnTo>
                    <a:pt x="625" y="375"/>
                  </a:lnTo>
                  <a:lnTo>
                    <a:pt x="621" y="375"/>
                  </a:lnTo>
                  <a:lnTo>
                    <a:pt x="617" y="374"/>
                  </a:lnTo>
                  <a:lnTo>
                    <a:pt x="612" y="372"/>
                  </a:lnTo>
                  <a:lnTo>
                    <a:pt x="607" y="369"/>
                  </a:lnTo>
                  <a:lnTo>
                    <a:pt x="597" y="362"/>
                  </a:lnTo>
                  <a:lnTo>
                    <a:pt x="585" y="351"/>
                  </a:lnTo>
                  <a:lnTo>
                    <a:pt x="582" y="366"/>
                  </a:lnTo>
                  <a:lnTo>
                    <a:pt x="576" y="382"/>
                  </a:lnTo>
                  <a:lnTo>
                    <a:pt x="569" y="399"/>
                  </a:lnTo>
                  <a:lnTo>
                    <a:pt x="561" y="416"/>
                  </a:lnTo>
                  <a:lnTo>
                    <a:pt x="557" y="425"/>
                  </a:lnTo>
                  <a:lnTo>
                    <a:pt x="555" y="433"/>
                  </a:lnTo>
                  <a:lnTo>
                    <a:pt x="553" y="438"/>
                  </a:lnTo>
                  <a:lnTo>
                    <a:pt x="550" y="441"/>
                  </a:lnTo>
                  <a:lnTo>
                    <a:pt x="546" y="448"/>
                  </a:lnTo>
                  <a:lnTo>
                    <a:pt x="540" y="455"/>
                  </a:lnTo>
                  <a:lnTo>
                    <a:pt x="535" y="460"/>
                  </a:lnTo>
                  <a:lnTo>
                    <a:pt x="529" y="465"/>
                  </a:lnTo>
                  <a:lnTo>
                    <a:pt x="522" y="471"/>
                  </a:lnTo>
                  <a:lnTo>
                    <a:pt x="515" y="475"/>
                  </a:lnTo>
                  <a:lnTo>
                    <a:pt x="507" y="478"/>
                  </a:lnTo>
                  <a:lnTo>
                    <a:pt x="499" y="481"/>
                  </a:lnTo>
                  <a:lnTo>
                    <a:pt x="491" y="483"/>
                  </a:lnTo>
                  <a:lnTo>
                    <a:pt x="481" y="484"/>
                  </a:lnTo>
                  <a:lnTo>
                    <a:pt x="472" y="486"/>
                  </a:lnTo>
                  <a:lnTo>
                    <a:pt x="461" y="486"/>
                  </a:lnTo>
                  <a:lnTo>
                    <a:pt x="450" y="486"/>
                  </a:lnTo>
                  <a:lnTo>
                    <a:pt x="439" y="484"/>
                  </a:lnTo>
                  <a:lnTo>
                    <a:pt x="427" y="483"/>
                  </a:lnTo>
                  <a:lnTo>
                    <a:pt x="415" y="480"/>
                  </a:lnTo>
                  <a:lnTo>
                    <a:pt x="430" y="466"/>
                  </a:lnTo>
                  <a:lnTo>
                    <a:pt x="444" y="452"/>
                  </a:lnTo>
                  <a:lnTo>
                    <a:pt x="458" y="437"/>
                  </a:lnTo>
                  <a:lnTo>
                    <a:pt x="469" y="421"/>
                  </a:lnTo>
                  <a:lnTo>
                    <a:pt x="481" y="404"/>
                  </a:lnTo>
                  <a:lnTo>
                    <a:pt x="492" y="386"/>
                  </a:lnTo>
                  <a:lnTo>
                    <a:pt x="500" y="368"/>
                  </a:lnTo>
                  <a:lnTo>
                    <a:pt x="509" y="350"/>
                  </a:lnTo>
                  <a:lnTo>
                    <a:pt x="516" y="330"/>
                  </a:lnTo>
                  <a:lnTo>
                    <a:pt x="522" y="310"/>
                  </a:lnTo>
                  <a:lnTo>
                    <a:pt x="528" y="289"/>
                  </a:lnTo>
                  <a:lnTo>
                    <a:pt x="532" y="268"/>
                  </a:lnTo>
                  <a:lnTo>
                    <a:pt x="536" y="246"/>
                  </a:lnTo>
                  <a:lnTo>
                    <a:pt x="538" y="223"/>
                  </a:lnTo>
                  <a:lnTo>
                    <a:pt x="539" y="199"/>
                  </a:lnTo>
                  <a:lnTo>
                    <a:pt x="540" y="176"/>
                  </a:lnTo>
                  <a:close/>
                  <a:moveTo>
                    <a:pt x="436" y="520"/>
                  </a:moveTo>
                  <a:lnTo>
                    <a:pt x="399" y="528"/>
                  </a:lnTo>
                  <a:lnTo>
                    <a:pt x="361" y="536"/>
                  </a:lnTo>
                  <a:lnTo>
                    <a:pt x="325" y="544"/>
                  </a:lnTo>
                  <a:lnTo>
                    <a:pt x="290" y="551"/>
                  </a:lnTo>
                  <a:lnTo>
                    <a:pt x="290" y="569"/>
                  </a:lnTo>
                  <a:lnTo>
                    <a:pt x="290" y="588"/>
                  </a:lnTo>
                  <a:lnTo>
                    <a:pt x="290" y="608"/>
                  </a:lnTo>
                  <a:lnTo>
                    <a:pt x="290" y="630"/>
                  </a:lnTo>
                  <a:lnTo>
                    <a:pt x="290" y="652"/>
                  </a:lnTo>
                  <a:lnTo>
                    <a:pt x="290" y="675"/>
                  </a:lnTo>
                  <a:lnTo>
                    <a:pt x="290" y="701"/>
                  </a:lnTo>
                  <a:lnTo>
                    <a:pt x="290" y="726"/>
                  </a:lnTo>
                  <a:lnTo>
                    <a:pt x="325" y="706"/>
                  </a:lnTo>
                  <a:lnTo>
                    <a:pt x="361" y="687"/>
                  </a:lnTo>
                  <a:lnTo>
                    <a:pt x="399" y="669"/>
                  </a:lnTo>
                  <a:lnTo>
                    <a:pt x="436" y="651"/>
                  </a:lnTo>
                  <a:lnTo>
                    <a:pt x="439" y="650"/>
                  </a:lnTo>
                  <a:lnTo>
                    <a:pt x="442" y="650"/>
                  </a:lnTo>
                  <a:lnTo>
                    <a:pt x="446" y="650"/>
                  </a:lnTo>
                  <a:lnTo>
                    <a:pt x="449" y="651"/>
                  </a:lnTo>
                  <a:lnTo>
                    <a:pt x="451" y="653"/>
                  </a:lnTo>
                  <a:lnTo>
                    <a:pt x="455" y="655"/>
                  </a:lnTo>
                  <a:lnTo>
                    <a:pt x="458" y="657"/>
                  </a:lnTo>
                  <a:lnTo>
                    <a:pt x="460" y="661"/>
                  </a:lnTo>
                  <a:lnTo>
                    <a:pt x="462" y="665"/>
                  </a:lnTo>
                  <a:lnTo>
                    <a:pt x="463" y="668"/>
                  </a:lnTo>
                  <a:lnTo>
                    <a:pt x="464" y="672"/>
                  </a:lnTo>
                  <a:lnTo>
                    <a:pt x="464" y="675"/>
                  </a:lnTo>
                  <a:lnTo>
                    <a:pt x="463" y="677"/>
                  </a:lnTo>
                  <a:lnTo>
                    <a:pt x="461" y="680"/>
                  </a:lnTo>
                  <a:lnTo>
                    <a:pt x="459" y="684"/>
                  </a:lnTo>
                  <a:lnTo>
                    <a:pt x="455" y="686"/>
                  </a:lnTo>
                  <a:lnTo>
                    <a:pt x="386" y="733"/>
                  </a:lnTo>
                  <a:lnTo>
                    <a:pt x="323" y="778"/>
                  </a:lnTo>
                  <a:lnTo>
                    <a:pt x="268" y="818"/>
                  </a:lnTo>
                  <a:lnTo>
                    <a:pt x="221" y="853"/>
                  </a:lnTo>
                  <a:lnTo>
                    <a:pt x="178" y="885"/>
                  </a:lnTo>
                  <a:lnTo>
                    <a:pt x="144" y="913"/>
                  </a:lnTo>
                  <a:lnTo>
                    <a:pt x="116" y="937"/>
                  </a:lnTo>
                  <a:lnTo>
                    <a:pt x="96" y="956"/>
                  </a:lnTo>
                  <a:lnTo>
                    <a:pt x="85" y="940"/>
                  </a:lnTo>
                  <a:lnTo>
                    <a:pt x="74" y="925"/>
                  </a:lnTo>
                  <a:lnTo>
                    <a:pt x="63" y="910"/>
                  </a:lnTo>
                  <a:lnTo>
                    <a:pt x="51" y="897"/>
                  </a:lnTo>
                  <a:lnTo>
                    <a:pt x="39" y="883"/>
                  </a:lnTo>
                  <a:lnTo>
                    <a:pt x="27" y="870"/>
                  </a:lnTo>
                  <a:lnTo>
                    <a:pt x="14" y="857"/>
                  </a:lnTo>
                  <a:lnTo>
                    <a:pt x="0" y="846"/>
                  </a:lnTo>
                  <a:lnTo>
                    <a:pt x="22" y="838"/>
                  </a:lnTo>
                  <a:lnTo>
                    <a:pt x="46" y="829"/>
                  </a:lnTo>
                  <a:lnTo>
                    <a:pt x="70" y="819"/>
                  </a:lnTo>
                  <a:lnTo>
                    <a:pt x="97" y="809"/>
                  </a:lnTo>
                  <a:lnTo>
                    <a:pt x="124" y="797"/>
                  </a:lnTo>
                  <a:lnTo>
                    <a:pt x="153" y="784"/>
                  </a:lnTo>
                  <a:lnTo>
                    <a:pt x="183" y="771"/>
                  </a:lnTo>
                  <a:lnTo>
                    <a:pt x="215" y="756"/>
                  </a:lnTo>
                  <a:lnTo>
                    <a:pt x="215" y="737"/>
                  </a:lnTo>
                  <a:lnTo>
                    <a:pt x="216" y="713"/>
                  </a:lnTo>
                  <a:lnTo>
                    <a:pt x="217" y="687"/>
                  </a:lnTo>
                  <a:lnTo>
                    <a:pt x="221" y="656"/>
                  </a:lnTo>
                  <a:lnTo>
                    <a:pt x="221" y="628"/>
                  </a:lnTo>
                  <a:lnTo>
                    <a:pt x="221" y="603"/>
                  </a:lnTo>
                  <a:lnTo>
                    <a:pt x="221" y="583"/>
                  </a:lnTo>
                  <a:lnTo>
                    <a:pt x="221" y="566"/>
                  </a:lnTo>
                  <a:lnTo>
                    <a:pt x="209" y="568"/>
                  </a:lnTo>
                  <a:lnTo>
                    <a:pt x="197" y="571"/>
                  </a:lnTo>
                  <a:lnTo>
                    <a:pt x="185" y="573"/>
                  </a:lnTo>
                  <a:lnTo>
                    <a:pt x="170" y="576"/>
                  </a:lnTo>
                  <a:lnTo>
                    <a:pt x="147" y="580"/>
                  </a:lnTo>
                  <a:lnTo>
                    <a:pt x="132" y="582"/>
                  </a:lnTo>
                  <a:lnTo>
                    <a:pt x="125" y="583"/>
                  </a:lnTo>
                  <a:lnTo>
                    <a:pt x="120" y="583"/>
                  </a:lnTo>
                  <a:lnTo>
                    <a:pt x="117" y="582"/>
                  </a:lnTo>
                  <a:lnTo>
                    <a:pt x="115" y="581"/>
                  </a:lnTo>
                  <a:lnTo>
                    <a:pt x="104" y="575"/>
                  </a:lnTo>
                  <a:lnTo>
                    <a:pt x="90" y="564"/>
                  </a:lnTo>
                  <a:lnTo>
                    <a:pt x="73" y="549"/>
                  </a:lnTo>
                  <a:lnTo>
                    <a:pt x="55" y="531"/>
                  </a:lnTo>
                  <a:lnTo>
                    <a:pt x="72" y="528"/>
                  </a:lnTo>
                  <a:lnTo>
                    <a:pt x="95" y="524"/>
                  </a:lnTo>
                  <a:lnTo>
                    <a:pt x="122" y="517"/>
                  </a:lnTo>
                  <a:lnTo>
                    <a:pt x="155" y="511"/>
                  </a:lnTo>
                  <a:lnTo>
                    <a:pt x="174" y="509"/>
                  </a:lnTo>
                  <a:lnTo>
                    <a:pt x="190" y="506"/>
                  </a:lnTo>
                  <a:lnTo>
                    <a:pt x="204" y="504"/>
                  </a:lnTo>
                  <a:lnTo>
                    <a:pt x="215" y="500"/>
                  </a:lnTo>
                  <a:lnTo>
                    <a:pt x="215" y="475"/>
                  </a:lnTo>
                  <a:lnTo>
                    <a:pt x="214" y="451"/>
                  </a:lnTo>
                  <a:lnTo>
                    <a:pt x="213" y="427"/>
                  </a:lnTo>
                  <a:lnTo>
                    <a:pt x="211" y="405"/>
                  </a:lnTo>
                  <a:lnTo>
                    <a:pt x="209" y="383"/>
                  </a:lnTo>
                  <a:lnTo>
                    <a:pt x="207" y="363"/>
                  </a:lnTo>
                  <a:lnTo>
                    <a:pt x="204" y="343"/>
                  </a:lnTo>
                  <a:lnTo>
                    <a:pt x="200" y="325"/>
                  </a:lnTo>
                  <a:lnTo>
                    <a:pt x="165" y="332"/>
                  </a:lnTo>
                  <a:lnTo>
                    <a:pt x="137" y="337"/>
                  </a:lnTo>
                  <a:lnTo>
                    <a:pt x="113" y="339"/>
                  </a:lnTo>
                  <a:lnTo>
                    <a:pt x="96" y="340"/>
                  </a:lnTo>
                  <a:lnTo>
                    <a:pt x="91" y="339"/>
                  </a:lnTo>
                  <a:lnTo>
                    <a:pt x="87" y="337"/>
                  </a:lnTo>
                  <a:lnTo>
                    <a:pt x="83" y="334"/>
                  </a:lnTo>
                  <a:lnTo>
                    <a:pt x="79" y="330"/>
                  </a:lnTo>
                  <a:lnTo>
                    <a:pt x="70" y="319"/>
                  </a:lnTo>
                  <a:lnTo>
                    <a:pt x="60" y="305"/>
                  </a:lnTo>
                  <a:lnTo>
                    <a:pt x="48" y="293"/>
                  </a:lnTo>
                  <a:lnTo>
                    <a:pt x="40" y="285"/>
                  </a:lnTo>
                  <a:lnTo>
                    <a:pt x="77" y="279"/>
                  </a:lnTo>
                  <a:lnTo>
                    <a:pt x="115" y="271"/>
                  </a:lnTo>
                  <a:lnTo>
                    <a:pt x="156" y="262"/>
                  </a:lnTo>
                  <a:lnTo>
                    <a:pt x="198" y="252"/>
                  </a:lnTo>
                  <a:lnTo>
                    <a:pt x="244" y="241"/>
                  </a:lnTo>
                  <a:lnTo>
                    <a:pt x="293" y="228"/>
                  </a:lnTo>
                  <a:lnTo>
                    <a:pt x="342" y="215"/>
                  </a:lnTo>
                  <a:lnTo>
                    <a:pt x="395" y="200"/>
                  </a:lnTo>
                  <a:lnTo>
                    <a:pt x="407" y="212"/>
                  </a:lnTo>
                  <a:lnTo>
                    <a:pt x="418" y="223"/>
                  </a:lnTo>
                  <a:lnTo>
                    <a:pt x="427" y="232"/>
                  </a:lnTo>
                  <a:lnTo>
                    <a:pt x="436" y="242"/>
                  </a:lnTo>
                  <a:lnTo>
                    <a:pt x="442" y="251"/>
                  </a:lnTo>
                  <a:lnTo>
                    <a:pt x="447" y="260"/>
                  </a:lnTo>
                  <a:lnTo>
                    <a:pt x="451" y="268"/>
                  </a:lnTo>
                  <a:lnTo>
                    <a:pt x="455" y="276"/>
                  </a:lnTo>
                  <a:lnTo>
                    <a:pt x="426" y="282"/>
                  </a:lnTo>
                  <a:lnTo>
                    <a:pt x="397" y="287"/>
                  </a:lnTo>
                  <a:lnTo>
                    <a:pt x="370" y="293"/>
                  </a:lnTo>
                  <a:lnTo>
                    <a:pt x="343" y="298"/>
                  </a:lnTo>
                  <a:lnTo>
                    <a:pt x="319" y="303"/>
                  </a:lnTo>
                  <a:lnTo>
                    <a:pt x="295" y="307"/>
                  </a:lnTo>
                  <a:lnTo>
                    <a:pt x="271" y="312"/>
                  </a:lnTo>
                  <a:lnTo>
                    <a:pt x="250" y="316"/>
                  </a:lnTo>
                  <a:lnTo>
                    <a:pt x="263" y="318"/>
                  </a:lnTo>
                  <a:lnTo>
                    <a:pt x="278" y="319"/>
                  </a:lnTo>
                  <a:lnTo>
                    <a:pt x="294" y="320"/>
                  </a:lnTo>
                  <a:lnTo>
                    <a:pt x="311" y="320"/>
                  </a:lnTo>
                  <a:lnTo>
                    <a:pt x="306" y="332"/>
                  </a:lnTo>
                  <a:lnTo>
                    <a:pt x="303" y="346"/>
                  </a:lnTo>
                  <a:lnTo>
                    <a:pt x="300" y="362"/>
                  </a:lnTo>
                  <a:lnTo>
                    <a:pt x="298" y="381"/>
                  </a:lnTo>
                  <a:lnTo>
                    <a:pt x="296" y="402"/>
                  </a:lnTo>
                  <a:lnTo>
                    <a:pt x="294" y="426"/>
                  </a:lnTo>
                  <a:lnTo>
                    <a:pt x="292" y="452"/>
                  </a:lnTo>
                  <a:lnTo>
                    <a:pt x="290" y="480"/>
                  </a:lnTo>
                  <a:lnTo>
                    <a:pt x="313" y="476"/>
                  </a:lnTo>
                  <a:lnTo>
                    <a:pt x="335" y="470"/>
                  </a:lnTo>
                  <a:lnTo>
                    <a:pt x="357" y="463"/>
                  </a:lnTo>
                  <a:lnTo>
                    <a:pt x="380" y="456"/>
                  </a:lnTo>
                  <a:lnTo>
                    <a:pt x="390" y="463"/>
                  </a:lnTo>
                  <a:lnTo>
                    <a:pt x="399" y="471"/>
                  </a:lnTo>
                  <a:lnTo>
                    <a:pt x="407" y="479"/>
                  </a:lnTo>
                  <a:lnTo>
                    <a:pt x="414" y="488"/>
                  </a:lnTo>
                  <a:lnTo>
                    <a:pt x="421" y="495"/>
                  </a:lnTo>
                  <a:lnTo>
                    <a:pt x="426" y="504"/>
                  </a:lnTo>
                  <a:lnTo>
                    <a:pt x="431" y="512"/>
                  </a:lnTo>
                  <a:lnTo>
                    <a:pt x="436" y="520"/>
                  </a:lnTo>
                  <a:close/>
                </a:path>
              </a:pathLst>
            </a:custGeom>
            <a:solidFill>
              <a:srgbClr val="d79f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d79f00"/>
                </a:solidFill>
                <a:latin typeface="Arial"/>
                <a:ea typeface="宋体"/>
              </a:endParaRPr>
            </a:p>
          </p:txBody>
        </p:sp>
        <p:sp>
          <p:nvSpPr>
            <p:cNvPr id="86" name="Freeform 12"/>
            <p:cNvSpPr/>
            <p:nvPr/>
          </p:nvSpPr>
          <p:spPr>
            <a:xfrm>
              <a:off x="2219400" y="9099720"/>
              <a:ext cx="224280" cy="212400"/>
            </a:xfrm>
            <a:custGeom>
              <a:avLst/>
              <a:gdLst>
                <a:gd name="textAreaLeft" fmla="*/ 0 w 224280"/>
                <a:gd name="textAreaRight" fmla="*/ 224640 w 224280"/>
                <a:gd name="textAreaTop" fmla="*/ 0 h 212400"/>
                <a:gd name="textAreaBottom" fmla="*/ 212760 h 212400"/>
              </a:gdLst>
              <a:ahLst/>
              <a:rect l="textAreaLeft" t="textAreaTop" r="textAreaRight" b="textAreaBottom"/>
              <a:pathLst>
                <a:path w="1146" h="1150">
                  <a:moveTo>
                    <a:pt x="1064" y="535"/>
                  </a:moveTo>
                  <a:lnTo>
                    <a:pt x="1067" y="534"/>
                  </a:lnTo>
                  <a:lnTo>
                    <a:pt x="1071" y="534"/>
                  </a:lnTo>
                  <a:lnTo>
                    <a:pt x="1075" y="534"/>
                  </a:lnTo>
                  <a:lnTo>
                    <a:pt x="1079" y="535"/>
                  </a:lnTo>
                  <a:lnTo>
                    <a:pt x="1086" y="539"/>
                  </a:lnTo>
                  <a:lnTo>
                    <a:pt x="1094" y="544"/>
                  </a:lnTo>
                  <a:lnTo>
                    <a:pt x="1099" y="549"/>
                  </a:lnTo>
                  <a:lnTo>
                    <a:pt x="1105" y="554"/>
                  </a:lnTo>
                  <a:lnTo>
                    <a:pt x="1112" y="561"/>
                  </a:lnTo>
                  <a:lnTo>
                    <a:pt x="1119" y="570"/>
                  </a:lnTo>
                  <a:lnTo>
                    <a:pt x="1125" y="577"/>
                  </a:lnTo>
                  <a:lnTo>
                    <a:pt x="1131" y="584"/>
                  </a:lnTo>
                  <a:lnTo>
                    <a:pt x="1136" y="590"/>
                  </a:lnTo>
                  <a:lnTo>
                    <a:pt x="1139" y="595"/>
                  </a:lnTo>
                  <a:lnTo>
                    <a:pt x="1142" y="599"/>
                  </a:lnTo>
                  <a:lnTo>
                    <a:pt x="1145" y="604"/>
                  </a:lnTo>
                  <a:lnTo>
                    <a:pt x="1146" y="607"/>
                  </a:lnTo>
                  <a:lnTo>
                    <a:pt x="1143" y="610"/>
                  </a:lnTo>
                  <a:lnTo>
                    <a:pt x="1140" y="612"/>
                  </a:lnTo>
                  <a:lnTo>
                    <a:pt x="1135" y="613"/>
                  </a:lnTo>
                  <a:lnTo>
                    <a:pt x="1128" y="614"/>
                  </a:lnTo>
                  <a:lnTo>
                    <a:pt x="1119" y="615"/>
                  </a:lnTo>
                  <a:lnTo>
                    <a:pt x="1104" y="615"/>
                  </a:lnTo>
                  <a:lnTo>
                    <a:pt x="1087" y="615"/>
                  </a:lnTo>
                  <a:lnTo>
                    <a:pt x="1068" y="615"/>
                  </a:lnTo>
                  <a:lnTo>
                    <a:pt x="1045" y="616"/>
                  </a:lnTo>
                  <a:lnTo>
                    <a:pt x="1020" y="616"/>
                  </a:lnTo>
                  <a:lnTo>
                    <a:pt x="990" y="617"/>
                  </a:lnTo>
                  <a:lnTo>
                    <a:pt x="958" y="618"/>
                  </a:lnTo>
                  <a:lnTo>
                    <a:pt x="923" y="620"/>
                  </a:lnTo>
                  <a:lnTo>
                    <a:pt x="907" y="622"/>
                  </a:lnTo>
                  <a:lnTo>
                    <a:pt x="894" y="624"/>
                  </a:lnTo>
                  <a:lnTo>
                    <a:pt x="883" y="625"/>
                  </a:lnTo>
                  <a:lnTo>
                    <a:pt x="873" y="625"/>
                  </a:lnTo>
                  <a:lnTo>
                    <a:pt x="871" y="646"/>
                  </a:lnTo>
                  <a:lnTo>
                    <a:pt x="867" y="673"/>
                  </a:lnTo>
                  <a:lnTo>
                    <a:pt x="864" y="705"/>
                  </a:lnTo>
                  <a:lnTo>
                    <a:pt x="859" y="745"/>
                  </a:lnTo>
                  <a:lnTo>
                    <a:pt x="856" y="766"/>
                  </a:lnTo>
                  <a:lnTo>
                    <a:pt x="853" y="785"/>
                  </a:lnTo>
                  <a:lnTo>
                    <a:pt x="851" y="802"/>
                  </a:lnTo>
                  <a:lnTo>
                    <a:pt x="849" y="816"/>
                  </a:lnTo>
                  <a:lnTo>
                    <a:pt x="863" y="816"/>
                  </a:lnTo>
                  <a:lnTo>
                    <a:pt x="879" y="816"/>
                  </a:lnTo>
                  <a:lnTo>
                    <a:pt x="898" y="816"/>
                  </a:lnTo>
                  <a:lnTo>
                    <a:pt x="919" y="816"/>
                  </a:lnTo>
                  <a:lnTo>
                    <a:pt x="942" y="818"/>
                  </a:lnTo>
                  <a:lnTo>
                    <a:pt x="961" y="819"/>
                  </a:lnTo>
                  <a:lnTo>
                    <a:pt x="977" y="820"/>
                  </a:lnTo>
                  <a:lnTo>
                    <a:pt x="989" y="820"/>
                  </a:lnTo>
                  <a:lnTo>
                    <a:pt x="994" y="820"/>
                  </a:lnTo>
                  <a:lnTo>
                    <a:pt x="1001" y="821"/>
                  </a:lnTo>
                  <a:lnTo>
                    <a:pt x="1005" y="822"/>
                  </a:lnTo>
                  <a:lnTo>
                    <a:pt x="1009" y="824"/>
                  </a:lnTo>
                  <a:lnTo>
                    <a:pt x="1012" y="826"/>
                  </a:lnTo>
                  <a:lnTo>
                    <a:pt x="1015" y="828"/>
                  </a:lnTo>
                  <a:lnTo>
                    <a:pt x="1017" y="831"/>
                  </a:lnTo>
                  <a:lnTo>
                    <a:pt x="1019" y="835"/>
                  </a:lnTo>
                  <a:lnTo>
                    <a:pt x="1030" y="852"/>
                  </a:lnTo>
                  <a:lnTo>
                    <a:pt x="1040" y="868"/>
                  </a:lnTo>
                  <a:lnTo>
                    <a:pt x="1048" y="882"/>
                  </a:lnTo>
                  <a:lnTo>
                    <a:pt x="1053" y="895"/>
                  </a:lnTo>
                  <a:lnTo>
                    <a:pt x="1056" y="902"/>
                  </a:lnTo>
                  <a:lnTo>
                    <a:pt x="1057" y="908"/>
                  </a:lnTo>
                  <a:lnTo>
                    <a:pt x="1056" y="912"/>
                  </a:lnTo>
                  <a:lnTo>
                    <a:pt x="1053" y="915"/>
                  </a:lnTo>
                  <a:lnTo>
                    <a:pt x="1050" y="917"/>
                  </a:lnTo>
                  <a:lnTo>
                    <a:pt x="1046" y="917"/>
                  </a:lnTo>
                  <a:lnTo>
                    <a:pt x="1041" y="917"/>
                  </a:lnTo>
                  <a:lnTo>
                    <a:pt x="1033" y="915"/>
                  </a:lnTo>
                  <a:lnTo>
                    <a:pt x="1011" y="911"/>
                  </a:lnTo>
                  <a:lnTo>
                    <a:pt x="988" y="906"/>
                  </a:lnTo>
                  <a:lnTo>
                    <a:pt x="964" y="902"/>
                  </a:lnTo>
                  <a:lnTo>
                    <a:pt x="940" y="899"/>
                  </a:lnTo>
                  <a:lnTo>
                    <a:pt x="916" y="896"/>
                  </a:lnTo>
                  <a:lnTo>
                    <a:pt x="890" y="894"/>
                  </a:lnTo>
                  <a:lnTo>
                    <a:pt x="865" y="892"/>
                  </a:lnTo>
                  <a:lnTo>
                    <a:pt x="838" y="890"/>
                  </a:lnTo>
                  <a:lnTo>
                    <a:pt x="836" y="898"/>
                  </a:lnTo>
                  <a:lnTo>
                    <a:pt x="835" y="908"/>
                  </a:lnTo>
                  <a:lnTo>
                    <a:pt x="834" y="918"/>
                  </a:lnTo>
                  <a:lnTo>
                    <a:pt x="833" y="930"/>
                  </a:lnTo>
                  <a:lnTo>
                    <a:pt x="831" y="940"/>
                  </a:lnTo>
                  <a:lnTo>
                    <a:pt x="830" y="949"/>
                  </a:lnTo>
                  <a:lnTo>
                    <a:pt x="829" y="958"/>
                  </a:lnTo>
                  <a:lnTo>
                    <a:pt x="829" y="965"/>
                  </a:lnTo>
                  <a:lnTo>
                    <a:pt x="824" y="1002"/>
                  </a:lnTo>
                  <a:lnTo>
                    <a:pt x="817" y="1035"/>
                  </a:lnTo>
                  <a:lnTo>
                    <a:pt x="812" y="1064"/>
                  </a:lnTo>
                  <a:lnTo>
                    <a:pt x="805" y="1089"/>
                  </a:lnTo>
                  <a:lnTo>
                    <a:pt x="798" y="1110"/>
                  </a:lnTo>
                  <a:lnTo>
                    <a:pt x="790" y="1127"/>
                  </a:lnTo>
                  <a:lnTo>
                    <a:pt x="787" y="1135"/>
                  </a:lnTo>
                  <a:lnTo>
                    <a:pt x="782" y="1141"/>
                  </a:lnTo>
                  <a:lnTo>
                    <a:pt x="778" y="1146"/>
                  </a:lnTo>
                  <a:lnTo>
                    <a:pt x="774" y="1150"/>
                  </a:lnTo>
                  <a:lnTo>
                    <a:pt x="765" y="1147"/>
                  </a:lnTo>
                  <a:lnTo>
                    <a:pt x="757" y="1144"/>
                  </a:lnTo>
                  <a:lnTo>
                    <a:pt x="747" y="1139"/>
                  </a:lnTo>
                  <a:lnTo>
                    <a:pt x="738" y="1134"/>
                  </a:lnTo>
                  <a:lnTo>
                    <a:pt x="717" y="1121"/>
                  </a:lnTo>
                  <a:lnTo>
                    <a:pt x="694" y="1104"/>
                  </a:lnTo>
                  <a:lnTo>
                    <a:pt x="671" y="1085"/>
                  </a:lnTo>
                  <a:lnTo>
                    <a:pt x="646" y="1061"/>
                  </a:lnTo>
                  <a:lnTo>
                    <a:pt x="618" y="1035"/>
                  </a:lnTo>
                  <a:lnTo>
                    <a:pt x="588" y="1005"/>
                  </a:lnTo>
                  <a:lnTo>
                    <a:pt x="582" y="999"/>
                  </a:lnTo>
                  <a:lnTo>
                    <a:pt x="579" y="993"/>
                  </a:lnTo>
                  <a:lnTo>
                    <a:pt x="578" y="990"/>
                  </a:lnTo>
                  <a:lnTo>
                    <a:pt x="577" y="988"/>
                  </a:lnTo>
                  <a:lnTo>
                    <a:pt x="578" y="986"/>
                  </a:lnTo>
                  <a:lnTo>
                    <a:pt x="579" y="985"/>
                  </a:lnTo>
                  <a:lnTo>
                    <a:pt x="579" y="983"/>
                  </a:lnTo>
                  <a:lnTo>
                    <a:pt x="580" y="981"/>
                  </a:lnTo>
                  <a:lnTo>
                    <a:pt x="581" y="980"/>
                  </a:lnTo>
                  <a:lnTo>
                    <a:pt x="583" y="979"/>
                  </a:lnTo>
                  <a:lnTo>
                    <a:pt x="590" y="979"/>
                  </a:lnTo>
                  <a:lnTo>
                    <a:pt x="599" y="980"/>
                  </a:lnTo>
                  <a:lnTo>
                    <a:pt x="626" y="986"/>
                  </a:lnTo>
                  <a:lnTo>
                    <a:pt x="649" y="990"/>
                  </a:lnTo>
                  <a:lnTo>
                    <a:pt x="669" y="993"/>
                  </a:lnTo>
                  <a:lnTo>
                    <a:pt x="686" y="993"/>
                  </a:lnTo>
                  <a:lnTo>
                    <a:pt x="693" y="992"/>
                  </a:lnTo>
                  <a:lnTo>
                    <a:pt x="700" y="990"/>
                  </a:lnTo>
                  <a:lnTo>
                    <a:pt x="705" y="988"/>
                  </a:lnTo>
                  <a:lnTo>
                    <a:pt x="709" y="986"/>
                  </a:lnTo>
                  <a:lnTo>
                    <a:pt x="712" y="983"/>
                  </a:lnTo>
                  <a:lnTo>
                    <a:pt x="716" y="979"/>
                  </a:lnTo>
                  <a:lnTo>
                    <a:pt x="718" y="975"/>
                  </a:lnTo>
                  <a:lnTo>
                    <a:pt x="719" y="970"/>
                  </a:lnTo>
                  <a:lnTo>
                    <a:pt x="723" y="953"/>
                  </a:lnTo>
                  <a:lnTo>
                    <a:pt x="727" y="934"/>
                  </a:lnTo>
                  <a:lnTo>
                    <a:pt x="730" y="911"/>
                  </a:lnTo>
                  <a:lnTo>
                    <a:pt x="734" y="886"/>
                  </a:lnTo>
                  <a:lnTo>
                    <a:pt x="674" y="886"/>
                  </a:lnTo>
                  <a:lnTo>
                    <a:pt x="617" y="888"/>
                  </a:lnTo>
                  <a:lnTo>
                    <a:pt x="562" y="891"/>
                  </a:lnTo>
                  <a:lnTo>
                    <a:pt x="511" y="895"/>
                  </a:lnTo>
                  <a:lnTo>
                    <a:pt x="462" y="900"/>
                  </a:lnTo>
                  <a:lnTo>
                    <a:pt x="417" y="908"/>
                  </a:lnTo>
                  <a:lnTo>
                    <a:pt x="373" y="916"/>
                  </a:lnTo>
                  <a:lnTo>
                    <a:pt x="333" y="925"/>
                  </a:lnTo>
                  <a:lnTo>
                    <a:pt x="333" y="913"/>
                  </a:lnTo>
                  <a:lnTo>
                    <a:pt x="331" y="900"/>
                  </a:lnTo>
                  <a:lnTo>
                    <a:pt x="329" y="889"/>
                  </a:lnTo>
                  <a:lnTo>
                    <a:pt x="325" y="876"/>
                  </a:lnTo>
                  <a:lnTo>
                    <a:pt x="319" y="864"/>
                  </a:lnTo>
                  <a:lnTo>
                    <a:pt x="314" y="853"/>
                  </a:lnTo>
                  <a:lnTo>
                    <a:pt x="307" y="841"/>
                  </a:lnTo>
                  <a:lnTo>
                    <a:pt x="298" y="830"/>
                  </a:lnTo>
                  <a:lnTo>
                    <a:pt x="310" y="820"/>
                  </a:lnTo>
                  <a:lnTo>
                    <a:pt x="322" y="807"/>
                  </a:lnTo>
                  <a:lnTo>
                    <a:pt x="333" y="791"/>
                  </a:lnTo>
                  <a:lnTo>
                    <a:pt x="346" y="772"/>
                  </a:lnTo>
                  <a:lnTo>
                    <a:pt x="359" y="751"/>
                  </a:lnTo>
                  <a:lnTo>
                    <a:pt x="371" y="727"/>
                  </a:lnTo>
                  <a:lnTo>
                    <a:pt x="385" y="700"/>
                  </a:lnTo>
                  <a:lnTo>
                    <a:pt x="399" y="670"/>
                  </a:lnTo>
                  <a:lnTo>
                    <a:pt x="384" y="675"/>
                  </a:lnTo>
                  <a:lnTo>
                    <a:pt x="368" y="678"/>
                  </a:lnTo>
                  <a:lnTo>
                    <a:pt x="353" y="679"/>
                  </a:lnTo>
                  <a:lnTo>
                    <a:pt x="339" y="680"/>
                  </a:lnTo>
                  <a:lnTo>
                    <a:pt x="331" y="680"/>
                  </a:lnTo>
                  <a:lnTo>
                    <a:pt x="324" y="679"/>
                  </a:lnTo>
                  <a:lnTo>
                    <a:pt x="316" y="677"/>
                  </a:lnTo>
                  <a:lnTo>
                    <a:pt x="309" y="675"/>
                  </a:lnTo>
                  <a:lnTo>
                    <a:pt x="294" y="662"/>
                  </a:lnTo>
                  <a:lnTo>
                    <a:pt x="281" y="649"/>
                  </a:lnTo>
                  <a:lnTo>
                    <a:pt x="270" y="634"/>
                  </a:lnTo>
                  <a:lnTo>
                    <a:pt x="258" y="620"/>
                  </a:lnTo>
                  <a:lnTo>
                    <a:pt x="277" y="620"/>
                  </a:lnTo>
                  <a:lnTo>
                    <a:pt x="296" y="620"/>
                  </a:lnTo>
                  <a:lnTo>
                    <a:pt x="316" y="618"/>
                  </a:lnTo>
                  <a:lnTo>
                    <a:pt x="336" y="617"/>
                  </a:lnTo>
                  <a:lnTo>
                    <a:pt x="357" y="616"/>
                  </a:lnTo>
                  <a:lnTo>
                    <a:pt x="377" y="614"/>
                  </a:lnTo>
                  <a:lnTo>
                    <a:pt x="398" y="612"/>
                  </a:lnTo>
                  <a:lnTo>
                    <a:pt x="419" y="610"/>
                  </a:lnTo>
                  <a:lnTo>
                    <a:pt x="429" y="574"/>
                  </a:lnTo>
                  <a:lnTo>
                    <a:pt x="438" y="540"/>
                  </a:lnTo>
                  <a:lnTo>
                    <a:pt x="445" y="506"/>
                  </a:lnTo>
                  <a:lnTo>
                    <a:pt x="451" y="473"/>
                  </a:lnTo>
                  <a:lnTo>
                    <a:pt x="455" y="443"/>
                  </a:lnTo>
                  <a:lnTo>
                    <a:pt x="458" y="412"/>
                  </a:lnTo>
                  <a:lnTo>
                    <a:pt x="459" y="383"/>
                  </a:lnTo>
                  <a:lnTo>
                    <a:pt x="458" y="355"/>
                  </a:lnTo>
                  <a:lnTo>
                    <a:pt x="544" y="395"/>
                  </a:lnTo>
                  <a:lnTo>
                    <a:pt x="580" y="391"/>
                  </a:lnTo>
                  <a:lnTo>
                    <a:pt x="615" y="385"/>
                  </a:lnTo>
                  <a:lnTo>
                    <a:pt x="647" y="379"/>
                  </a:lnTo>
                  <a:lnTo>
                    <a:pt x="677" y="371"/>
                  </a:lnTo>
                  <a:lnTo>
                    <a:pt x="706" y="362"/>
                  </a:lnTo>
                  <a:lnTo>
                    <a:pt x="733" y="352"/>
                  </a:lnTo>
                  <a:lnTo>
                    <a:pt x="757" y="342"/>
                  </a:lnTo>
                  <a:lnTo>
                    <a:pt x="779" y="329"/>
                  </a:lnTo>
                  <a:lnTo>
                    <a:pt x="781" y="330"/>
                  </a:lnTo>
                  <a:lnTo>
                    <a:pt x="783" y="331"/>
                  </a:lnTo>
                  <a:lnTo>
                    <a:pt x="787" y="332"/>
                  </a:lnTo>
                  <a:lnTo>
                    <a:pt x="789" y="334"/>
                  </a:lnTo>
                  <a:lnTo>
                    <a:pt x="813" y="346"/>
                  </a:lnTo>
                  <a:lnTo>
                    <a:pt x="835" y="357"/>
                  </a:lnTo>
                  <a:lnTo>
                    <a:pt x="856" y="366"/>
                  </a:lnTo>
                  <a:lnTo>
                    <a:pt x="877" y="374"/>
                  </a:lnTo>
                  <a:lnTo>
                    <a:pt x="895" y="380"/>
                  </a:lnTo>
                  <a:lnTo>
                    <a:pt x="910" y="384"/>
                  </a:lnTo>
                  <a:lnTo>
                    <a:pt x="925" y="387"/>
                  </a:lnTo>
                  <a:lnTo>
                    <a:pt x="939" y="390"/>
                  </a:lnTo>
                  <a:lnTo>
                    <a:pt x="932" y="403"/>
                  </a:lnTo>
                  <a:lnTo>
                    <a:pt x="924" y="418"/>
                  </a:lnTo>
                  <a:lnTo>
                    <a:pt x="918" y="436"/>
                  </a:lnTo>
                  <a:lnTo>
                    <a:pt x="912" y="455"/>
                  </a:lnTo>
                  <a:lnTo>
                    <a:pt x="905" y="475"/>
                  </a:lnTo>
                  <a:lnTo>
                    <a:pt x="899" y="499"/>
                  </a:lnTo>
                  <a:lnTo>
                    <a:pt x="894" y="523"/>
                  </a:lnTo>
                  <a:lnTo>
                    <a:pt x="888" y="550"/>
                  </a:lnTo>
                  <a:lnTo>
                    <a:pt x="910" y="547"/>
                  </a:lnTo>
                  <a:lnTo>
                    <a:pt x="932" y="545"/>
                  </a:lnTo>
                  <a:lnTo>
                    <a:pt x="953" y="543"/>
                  </a:lnTo>
                  <a:lnTo>
                    <a:pt x="975" y="541"/>
                  </a:lnTo>
                  <a:lnTo>
                    <a:pt x="997" y="539"/>
                  </a:lnTo>
                  <a:lnTo>
                    <a:pt x="1020" y="538"/>
                  </a:lnTo>
                  <a:lnTo>
                    <a:pt x="1042" y="536"/>
                  </a:lnTo>
                  <a:lnTo>
                    <a:pt x="1064" y="535"/>
                  </a:lnTo>
                  <a:close/>
                  <a:moveTo>
                    <a:pt x="544" y="0"/>
                  </a:moveTo>
                  <a:lnTo>
                    <a:pt x="559" y="9"/>
                  </a:lnTo>
                  <a:lnTo>
                    <a:pt x="574" y="19"/>
                  </a:lnTo>
                  <a:lnTo>
                    <a:pt x="588" y="27"/>
                  </a:lnTo>
                  <a:lnTo>
                    <a:pt x="603" y="35"/>
                  </a:lnTo>
                  <a:lnTo>
                    <a:pt x="618" y="42"/>
                  </a:lnTo>
                  <a:lnTo>
                    <a:pt x="634" y="48"/>
                  </a:lnTo>
                  <a:lnTo>
                    <a:pt x="649" y="55"/>
                  </a:lnTo>
                  <a:lnTo>
                    <a:pt x="664" y="60"/>
                  </a:lnTo>
                  <a:lnTo>
                    <a:pt x="655" y="66"/>
                  </a:lnTo>
                  <a:lnTo>
                    <a:pt x="646" y="74"/>
                  </a:lnTo>
                  <a:lnTo>
                    <a:pt x="637" y="82"/>
                  </a:lnTo>
                  <a:lnTo>
                    <a:pt x="629" y="92"/>
                  </a:lnTo>
                  <a:lnTo>
                    <a:pt x="620" y="102"/>
                  </a:lnTo>
                  <a:lnTo>
                    <a:pt x="611" y="114"/>
                  </a:lnTo>
                  <a:lnTo>
                    <a:pt x="602" y="127"/>
                  </a:lnTo>
                  <a:lnTo>
                    <a:pt x="594" y="139"/>
                  </a:lnTo>
                  <a:lnTo>
                    <a:pt x="587" y="152"/>
                  </a:lnTo>
                  <a:lnTo>
                    <a:pt x="579" y="169"/>
                  </a:lnTo>
                  <a:lnTo>
                    <a:pt x="572" y="184"/>
                  </a:lnTo>
                  <a:lnTo>
                    <a:pt x="565" y="196"/>
                  </a:lnTo>
                  <a:lnTo>
                    <a:pt x="559" y="206"/>
                  </a:lnTo>
                  <a:lnTo>
                    <a:pt x="554" y="215"/>
                  </a:lnTo>
                  <a:lnTo>
                    <a:pt x="577" y="208"/>
                  </a:lnTo>
                  <a:lnTo>
                    <a:pt x="604" y="201"/>
                  </a:lnTo>
                  <a:lnTo>
                    <a:pt x="639" y="191"/>
                  </a:lnTo>
                  <a:lnTo>
                    <a:pt x="679" y="180"/>
                  </a:lnTo>
                  <a:lnTo>
                    <a:pt x="708" y="172"/>
                  </a:lnTo>
                  <a:lnTo>
                    <a:pt x="736" y="166"/>
                  </a:lnTo>
                  <a:lnTo>
                    <a:pt x="761" y="160"/>
                  </a:lnTo>
                  <a:lnTo>
                    <a:pt x="787" y="153"/>
                  </a:lnTo>
                  <a:lnTo>
                    <a:pt x="809" y="148"/>
                  </a:lnTo>
                  <a:lnTo>
                    <a:pt x="831" y="143"/>
                  </a:lnTo>
                  <a:lnTo>
                    <a:pt x="850" y="138"/>
                  </a:lnTo>
                  <a:lnTo>
                    <a:pt x="868" y="134"/>
                  </a:lnTo>
                  <a:lnTo>
                    <a:pt x="876" y="133"/>
                  </a:lnTo>
                  <a:lnTo>
                    <a:pt x="882" y="133"/>
                  </a:lnTo>
                  <a:lnTo>
                    <a:pt x="888" y="135"/>
                  </a:lnTo>
                  <a:lnTo>
                    <a:pt x="894" y="139"/>
                  </a:lnTo>
                  <a:lnTo>
                    <a:pt x="895" y="137"/>
                  </a:lnTo>
                  <a:lnTo>
                    <a:pt x="897" y="137"/>
                  </a:lnTo>
                  <a:lnTo>
                    <a:pt x="899" y="139"/>
                  </a:lnTo>
                  <a:lnTo>
                    <a:pt x="913" y="151"/>
                  </a:lnTo>
                  <a:lnTo>
                    <a:pt x="923" y="162"/>
                  </a:lnTo>
                  <a:lnTo>
                    <a:pt x="933" y="171"/>
                  </a:lnTo>
                  <a:lnTo>
                    <a:pt x="939" y="180"/>
                  </a:lnTo>
                  <a:lnTo>
                    <a:pt x="942" y="183"/>
                  </a:lnTo>
                  <a:lnTo>
                    <a:pt x="944" y="186"/>
                  </a:lnTo>
                  <a:lnTo>
                    <a:pt x="945" y="189"/>
                  </a:lnTo>
                  <a:lnTo>
                    <a:pt x="945" y="192"/>
                  </a:lnTo>
                  <a:lnTo>
                    <a:pt x="943" y="195"/>
                  </a:lnTo>
                  <a:lnTo>
                    <a:pt x="941" y="197"/>
                  </a:lnTo>
                  <a:lnTo>
                    <a:pt x="938" y="198"/>
                  </a:lnTo>
                  <a:lnTo>
                    <a:pt x="934" y="200"/>
                  </a:lnTo>
                  <a:lnTo>
                    <a:pt x="871" y="212"/>
                  </a:lnTo>
                  <a:lnTo>
                    <a:pt x="815" y="222"/>
                  </a:lnTo>
                  <a:lnTo>
                    <a:pt x="765" y="232"/>
                  </a:lnTo>
                  <a:lnTo>
                    <a:pt x="721" y="239"/>
                  </a:lnTo>
                  <a:lnTo>
                    <a:pt x="683" y="247"/>
                  </a:lnTo>
                  <a:lnTo>
                    <a:pt x="651" y="252"/>
                  </a:lnTo>
                  <a:lnTo>
                    <a:pt x="624" y="256"/>
                  </a:lnTo>
                  <a:lnTo>
                    <a:pt x="603" y="259"/>
                  </a:lnTo>
                  <a:lnTo>
                    <a:pt x="593" y="256"/>
                  </a:lnTo>
                  <a:lnTo>
                    <a:pt x="580" y="251"/>
                  </a:lnTo>
                  <a:lnTo>
                    <a:pt x="565" y="243"/>
                  </a:lnTo>
                  <a:lnTo>
                    <a:pt x="548" y="235"/>
                  </a:lnTo>
                  <a:lnTo>
                    <a:pt x="545" y="231"/>
                  </a:lnTo>
                  <a:lnTo>
                    <a:pt x="544" y="230"/>
                  </a:lnTo>
                  <a:lnTo>
                    <a:pt x="538" y="238"/>
                  </a:lnTo>
                  <a:lnTo>
                    <a:pt x="531" y="249"/>
                  </a:lnTo>
                  <a:lnTo>
                    <a:pt x="523" y="260"/>
                  </a:lnTo>
                  <a:lnTo>
                    <a:pt x="513" y="275"/>
                  </a:lnTo>
                  <a:lnTo>
                    <a:pt x="497" y="302"/>
                  </a:lnTo>
                  <a:lnTo>
                    <a:pt x="484" y="324"/>
                  </a:lnTo>
                  <a:lnTo>
                    <a:pt x="472" y="340"/>
                  </a:lnTo>
                  <a:lnTo>
                    <a:pt x="463" y="349"/>
                  </a:lnTo>
                  <a:lnTo>
                    <a:pt x="456" y="359"/>
                  </a:lnTo>
                  <a:lnTo>
                    <a:pt x="448" y="367"/>
                  </a:lnTo>
                  <a:lnTo>
                    <a:pt x="440" y="375"/>
                  </a:lnTo>
                  <a:lnTo>
                    <a:pt x="431" y="381"/>
                  </a:lnTo>
                  <a:lnTo>
                    <a:pt x="422" y="386"/>
                  </a:lnTo>
                  <a:lnTo>
                    <a:pt x="413" y="391"/>
                  </a:lnTo>
                  <a:lnTo>
                    <a:pt x="403" y="394"/>
                  </a:lnTo>
                  <a:lnTo>
                    <a:pt x="394" y="396"/>
                  </a:lnTo>
                  <a:lnTo>
                    <a:pt x="383" y="397"/>
                  </a:lnTo>
                  <a:lnTo>
                    <a:pt x="373" y="397"/>
                  </a:lnTo>
                  <a:lnTo>
                    <a:pt x="362" y="396"/>
                  </a:lnTo>
                  <a:lnTo>
                    <a:pt x="351" y="394"/>
                  </a:lnTo>
                  <a:lnTo>
                    <a:pt x="340" y="391"/>
                  </a:lnTo>
                  <a:lnTo>
                    <a:pt x="328" y="386"/>
                  </a:lnTo>
                  <a:lnTo>
                    <a:pt x="316" y="381"/>
                  </a:lnTo>
                  <a:lnTo>
                    <a:pt x="304" y="375"/>
                  </a:lnTo>
                  <a:lnTo>
                    <a:pt x="327" y="357"/>
                  </a:lnTo>
                  <a:lnTo>
                    <a:pt x="350" y="339"/>
                  </a:lnTo>
                  <a:lnTo>
                    <a:pt x="371" y="319"/>
                  </a:lnTo>
                  <a:lnTo>
                    <a:pt x="391" y="298"/>
                  </a:lnTo>
                  <a:lnTo>
                    <a:pt x="411" y="278"/>
                  </a:lnTo>
                  <a:lnTo>
                    <a:pt x="429" y="256"/>
                  </a:lnTo>
                  <a:lnTo>
                    <a:pt x="445" y="234"/>
                  </a:lnTo>
                  <a:lnTo>
                    <a:pt x="461" y="210"/>
                  </a:lnTo>
                  <a:lnTo>
                    <a:pt x="475" y="187"/>
                  </a:lnTo>
                  <a:lnTo>
                    <a:pt x="489" y="163"/>
                  </a:lnTo>
                  <a:lnTo>
                    <a:pt x="501" y="137"/>
                  </a:lnTo>
                  <a:lnTo>
                    <a:pt x="511" y="111"/>
                  </a:lnTo>
                  <a:lnTo>
                    <a:pt x="522" y="84"/>
                  </a:lnTo>
                  <a:lnTo>
                    <a:pt x="530" y="57"/>
                  </a:lnTo>
                  <a:lnTo>
                    <a:pt x="538" y="28"/>
                  </a:lnTo>
                  <a:lnTo>
                    <a:pt x="544" y="0"/>
                  </a:lnTo>
                  <a:close/>
                  <a:moveTo>
                    <a:pt x="399" y="835"/>
                  </a:moveTo>
                  <a:lnTo>
                    <a:pt x="413" y="835"/>
                  </a:lnTo>
                  <a:lnTo>
                    <a:pt x="432" y="834"/>
                  </a:lnTo>
                  <a:lnTo>
                    <a:pt x="456" y="833"/>
                  </a:lnTo>
                  <a:lnTo>
                    <a:pt x="484" y="830"/>
                  </a:lnTo>
                  <a:lnTo>
                    <a:pt x="525" y="827"/>
                  </a:lnTo>
                  <a:lnTo>
                    <a:pt x="564" y="826"/>
                  </a:lnTo>
                  <a:lnTo>
                    <a:pt x="600" y="824"/>
                  </a:lnTo>
                  <a:lnTo>
                    <a:pt x="635" y="823"/>
                  </a:lnTo>
                  <a:lnTo>
                    <a:pt x="667" y="822"/>
                  </a:lnTo>
                  <a:lnTo>
                    <a:pt x="697" y="821"/>
                  </a:lnTo>
                  <a:lnTo>
                    <a:pt x="724" y="820"/>
                  </a:lnTo>
                  <a:lnTo>
                    <a:pt x="748" y="820"/>
                  </a:lnTo>
                  <a:lnTo>
                    <a:pt x="753" y="798"/>
                  </a:lnTo>
                  <a:lnTo>
                    <a:pt x="756" y="774"/>
                  </a:lnTo>
                  <a:lnTo>
                    <a:pt x="759" y="751"/>
                  </a:lnTo>
                  <a:lnTo>
                    <a:pt x="762" y="728"/>
                  </a:lnTo>
                  <a:lnTo>
                    <a:pt x="765" y="703"/>
                  </a:lnTo>
                  <a:lnTo>
                    <a:pt x="769" y="679"/>
                  </a:lnTo>
                  <a:lnTo>
                    <a:pt x="771" y="655"/>
                  </a:lnTo>
                  <a:lnTo>
                    <a:pt x="774" y="630"/>
                  </a:lnTo>
                  <a:lnTo>
                    <a:pt x="734" y="633"/>
                  </a:lnTo>
                  <a:lnTo>
                    <a:pt x="694" y="638"/>
                  </a:lnTo>
                  <a:lnTo>
                    <a:pt x="655" y="641"/>
                  </a:lnTo>
                  <a:lnTo>
                    <a:pt x="617" y="645"/>
                  </a:lnTo>
                  <a:lnTo>
                    <a:pt x="579" y="648"/>
                  </a:lnTo>
                  <a:lnTo>
                    <a:pt x="542" y="652"/>
                  </a:lnTo>
                  <a:lnTo>
                    <a:pt x="505" y="657"/>
                  </a:lnTo>
                  <a:lnTo>
                    <a:pt x="469" y="660"/>
                  </a:lnTo>
                  <a:lnTo>
                    <a:pt x="461" y="680"/>
                  </a:lnTo>
                  <a:lnTo>
                    <a:pt x="455" y="701"/>
                  </a:lnTo>
                  <a:lnTo>
                    <a:pt x="447" y="722"/>
                  </a:lnTo>
                  <a:lnTo>
                    <a:pt x="438" y="744"/>
                  </a:lnTo>
                  <a:lnTo>
                    <a:pt x="430" y="766"/>
                  </a:lnTo>
                  <a:lnTo>
                    <a:pt x="420" y="788"/>
                  </a:lnTo>
                  <a:lnTo>
                    <a:pt x="409" y="811"/>
                  </a:lnTo>
                  <a:lnTo>
                    <a:pt x="399" y="835"/>
                  </a:lnTo>
                  <a:close/>
                  <a:moveTo>
                    <a:pt x="544" y="425"/>
                  </a:moveTo>
                  <a:lnTo>
                    <a:pt x="541" y="437"/>
                  </a:lnTo>
                  <a:lnTo>
                    <a:pt x="537" y="452"/>
                  </a:lnTo>
                  <a:lnTo>
                    <a:pt x="532" y="470"/>
                  </a:lnTo>
                  <a:lnTo>
                    <a:pt x="526" y="491"/>
                  </a:lnTo>
                  <a:lnTo>
                    <a:pt x="520" y="515"/>
                  </a:lnTo>
                  <a:lnTo>
                    <a:pt x="512" y="540"/>
                  </a:lnTo>
                  <a:lnTo>
                    <a:pt x="503" y="569"/>
                  </a:lnTo>
                  <a:lnTo>
                    <a:pt x="493" y="599"/>
                  </a:lnTo>
                  <a:lnTo>
                    <a:pt x="516" y="597"/>
                  </a:lnTo>
                  <a:lnTo>
                    <a:pt x="544" y="594"/>
                  </a:lnTo>
                  <a:lnTo>
                    <a:pt x="576" y="590"/>
                  </a:lnTo>
                  <a:lnTo>
                    <a:pt x="614" y="585"/>
                  </a:lnTo>
                  <a:lnTo>
                    <a:pt x="641" y="581"/>
                  </a:lnTo>
                  <a:lnTo>
                    <a:pt x="668" y="578"/>
                  </a:lnTo>
                  <a:lnTo>
                    <a:pt x="691" y="575"/>
                  </a:lnTo>
                  <a:lnTo>
                    <a:pt x="713" y="573"/>
                  </a:lnTo>
                  <a:lnTo>
                    <a:pt x="734" y="570"/>
                  </a:lnTo>
                  <a:lnTo>
                    <a:pt x="753" y="568"/>
                  </a:lnTo>
                  <a:lnTo>
                    <a:pt x="769" y="567"/>
                  </a:lnTo>
                  <a:lnTo>
                    <a:pt x="783" y="564"/>
                  </a:lnTo>
                  <a:lnTo>
                    <a:pt x="789" y="521"/>
                  </a:lnTo>
                  <a:lnTo>
                    <a:pt x="793" y="481"/>
                  </a:lnTo>
                  <a:lnTo>
                    <a:pt x="796" y="444"/>
                  </a:lnTo>
                  <a:lnTo>
                    <a:pt x="798" y="410"/>
                  </a:lnTo>
                  <a:lnTo>
                    <a:pt x="798" y="407"/>
                  </a:lnTo>
                  <a:lnTo>
                    <a:pt x="798" y="403"/>
                  </a:lnTo>
                  <a:lnTo>
                    <a:pt x="796" y="401"/>
                  </a:lnTo>
                  <a:lnTo>
                    <a:pt x="795" y="400"/>
                  </a:lnTo>
                  <a:lnTo>
                    <a:pt x="793" y="399"/>
                  </a:lnTo>
                  <a:lnTo>
                    <a:pt x="790" y="398"/>
                  </a:lnTo>
                  <a:lnTo>
                    <a:pt x="788" y="399"/>
                  </a:lnTo>
                  <a:lnTo>
                    <a:pt x="783" y="400"/>
                  </a:lnTo>
                  <a:lnTo>
                    <a:pt x="764" y="401"/>
                  </a:lnTo>
                  <a:lnTo>
                    <a:pt x="743" y="404"/>
                  </a:lnTo>
                  <a:lnTo>
                    <a:pt x="720" y="409"/>
                  </a:lnTo>
                  <a:lnTo>
                    <a:pt x="694" y="414"/>
                  </a:lnTo>
                  <a:lnTo>
                    <a:pt x="668" y="419"/>
                  </a:lnTo>
                  <a:lnTo>
                    <a:pt x="640" y="427"/>
                  </a:lnTo>
                  <a:lnTo>
                    <a:pt x="611" y="435"/>
                  </a:lnTo>
                  <a:lnTo>
                    <a:pt x="579" y="445"/>
                  </a:lnTo>
                  <a:lnTo>
                    <a:pt x="573" y="442"/>
                  </a:lnTo>
                  <a:lnTo>
                    <a:pt x="565" y="437"/>
                  </a:lnTo>
                  <a:lnTo>
                    <a:pt x="556" y="432"/>
                  </a:lnTo>
                  <a:lnTo>
                    <a:pt x="544" y="425"/>
                  </a:lnTo>
                  <a:close/>
                  <a:moveTo>
                    <a:pt x="228" y="580"/>
                  </a:moveTo>
                  <a:lnTo>
                    <a:pt x="240" y="562"/>
                  </a:lnTo>
                  <a:lnTo>
                    <a:pt x="250" y="551"/>
                  </a:lnTo>
                  <a:lnTo>
                    <a:pt x="254" y="547"/>
                  </a:lnTo>
                  <a:lnTo>
                    <a:pt x="258" y="545"/>
                  </a:lnTo>
                  <a:lnTo>
                    <a:pt x="261" y="544"/>
                  </a:lnTo>
                  <a:lnTo>
                    <a:pt x="263" y="544"/>
                  </a:lnTo>
                  <a:lnTo>
                    <a:pt x="265" y="546"/>
                  </a:lnTo>
                  <a:lnTo>
                    <a:pt x="266" y="550"/>
                  </a:lnTo>
                  <a:lnTo>
                    <a:pt x="268" y="554"/>
                  </a:lnTo>
                  <a:lnTo>
                    <a:pt x="268" y="560"/>
                  </a:lnTo>
                  <a:lnTo>
                    <a:pt x="264" y="575"/>
                  </a:lnTo>
                  <a:lnTo>
                    <a:pt x="258" y="595"/>
                  </a:lnTo>
                  <a:lnTo>
                    <a:pt x="253" y="612"/>
                  </a:lnTo>
                  <a:lnTo>
                    <a:pt x="244" y="635"/>
                  </a:lnTo>
                  <a:lnTo>
                    <a:pt x="235" y="663"/>
                  </a:lnTo>
                  <a:lnTo>
                    <a:pt x="223" y="695"/>
                  </a:lnTo>
                  <a:lnTo>
                    <a:pt x="207" y="747"/>
                  </a:lnTo>
                  <a:lnTo>
                    <a:pt x="192" y="795"/>
                  </a:lnTo>
                  <a:lnTo>
                    <a:pt x="178" y="842"/>
                  </a:lnTo>
                  <a:lnTo>
                    <a:pt x="164" y="883"/>
                  </a:lnTo>
                  <a:lnTo>
                    <a:pt x="150" y="923"/>
                  </a:lnTo>
                  <a:lnTo>
                    <a:pt x="137" y="959"/>
                  </a:lnTo>
                  <a:lnTo>
                    <a:pt x="125" y="992"/>
                  </a:lnTo>
                  <a:lnTo>
                    <a:pt x="113" y="1020"/>
                  </a:lnTo>
                  <a:lnTo>
                    <a:pt x="101" y="1010"/>
                  </a:lnTo>
                  <a:lnTo>
                    <a:pt x="89" y="998"/>
                  </a:lnTo>
                  <a:lnTo>
                    <a:pt x="75" y="984"/>
                  </a:lnTo>
                  <a:lnTo>
                    <a:pt x="62" y="970"/>
                  </a:lnTo>
                  <a:lnTo>
                    <a:pt x="49" y="954"/>
                  </a:lnTo>
                  <a:lnTo>
                    <a:pt x="36" y="937"/>
                  </a:lnTo>
                  <a:lnTo>
                    <a:pt x="22" y="919"/>
                  </a:lnTo>
                  <a:lnTo>
                    <a:pt x="8" y="900"/>
                  </a:lnTo>
                  <a:lnTo>
                    <a:pt x="5" y="896"/>
                  </a:lnTo>
                  <a:lnTo>
                    <a:pt x="3" y="893"/>
                  </a:lnTo>
                  <a:lnTo>
                    <a:pt x="1" y="890"/>
                  </a:lnTo>
                  <a:lnTo>
                    <a:pt x="0" y="887"/>
                  </a:lnTo>
                  <a:lnTo>
                    <a:pt x="0" y="883"/>
                  </a:lnTo>
                  <a:lnTo>
                    <a:pt x="0" y="880"/>
                  </a:lnTo>
                  <a:lnTo>
                    <a:pt x="2" y="878"/>
                  </a:lnTo>
                  <a:lnTo>
                    <a:pt x="4" y="875"/>
                  </a:lnTo>
                  <a:lnTo>
                    <a:pt x="6" y="873"/>
                  </a:lnTo>
                  <a:lnTo>
                    <a:pt x="9" y="872"/>
                  </a:lnTo>
                  <a:lnTo>
                    <a:pt x="12" y="871"/>
                  </a:lnTo>
                  <a:lnTo>
                    <a:pt x="15" y="870"/>
                  </a:lnTo>
                  <a:lnTo>
                    <a:pt x="24" y="872"/>
                  </a:lnTo>
                  <a:lnTo>
                    <a:pt x="33" y="875"/>
                  </a:lnTo>
                  <a:lnTo>
                    <a:pt x="37" y="878"/>
                  </a:lnTo>
                  <a:lnTo>
                    <a:pt x="41" y="880"/>
                  </a:lnTo>
                  <a:lnTo>
                    <a:pt x="45" y="881"/>
                  </a:lnTo>
                  <a:lnTo>
                    <a:pt x="48" y="881"/>
                  </a:lnTo>
                  <a:lnTo>
                    <a:pt x="53" y="880"/>
                  </a:lnTo>
                  <a:lnTo>
                    <a:pt x="56" y="878"/>
                  </a:lnTo>
                  <a:lnTo>
                    <a:pt x="60" y="875"/>
                  </a:lnTo>
                  <a:lnTo>
                    <a:pt x="63" y="871"/>
                  </a:lnTo>
                  <a:lnTo>
                    <a:pt x="80" y="843"/>
                  </a:lnTo>
                  <a:lnTo>
                    <a:pt x="98" y="812"/>
                  </a:lnTo>
                  <a:lnTo>
                    <a:pt x="117" y="781"/>
                  </a:lnTo>
                  <a:lnTo>
                    <a:pt x="137" y="745"/>
                  </a:lnTo>
                  <a:lnTo>
                    <a:pt x="158" y="708"/>
                  </a:lnTo>
                  <a:lnTo>
                    <a:pt x="181" y="667"/>
                  </a:lnTo>
                  <a:lnTo>
                    <a:pt x="204" y="625"/>
                  </a:lnTo>
                  <a:lnTo>
                    <a:pt x="228" y="580"/>
                  </a:lnTo>
                  <a:close/>
                  <a:moveTo>
                    <a:pt x="43" y="355"/>
                  </a:moveTo>
                  <a:lnTo>
                    <a:pt x="100" y="382"/>
                  </a:lnTo>
                  <a:lnTo>
                    <a:pt x="143" y="403"/>
                  </a:lnTo>
                  <a:lnTo>
                    <a:pt x="157" y="412"/>
                  </a:lnTo>
                  <a:lnTo>
                    <a:pt x="168" y="419"/>
                  </a:lnTo>
                  <a:lnTo>
                    <a:pt x="175" y="426"/>
                  </a:lnTo>
                  <a:lnTo>
                    <a:pt x="179" y="430"/>
                  </a:lnTo>
                  <a:lnTo>
                    <a:pt x="181" y="438"/>
                  </a:lnTo>
                  <a:lnTo>
                    <a:pt x="182" y="448"/>
                  </a:lnTo>
                  <a:lnTo>
                    <a:pt x="181" y="457"/>
                  </a:lnTo>
                  <a:lnTo>
                    <a:pt x="180" y="467"/>
                  </a:lnTo>
                  <a:lnTo>
                    <a:pt x="178" y="478"/>
                  </a:lnTo>
                  <a:lnTo>
                    <a:pt x="173" y="488"/>
                  </a:lnTo>
                  <a:lnTo>
                    <a:pt x="169" y="499"/>
                  </a:lnTo>
                  <a:lnTo>
                    <a:pt x="164" y="509"/>
                  </a:lnTo>
                  <a:lnTo>
                    <a:pt x="158" y="521"/>
                  </a:lnTo>
                  <a:lnTo>
                    <a:pt x="153" y="528"/>
                  </a:lnTo>
                  <a:lnTo>
                    <a:pt x="151" y="532"/>
                  </a:lnTo>
                  <a:lnTo>
                    <a:pt x="149" y="534"/>
                  </a:lnTo>
                  <a:lnTo>
                    <a:pt x="146" y="535"/>
                  </a:lnTo>
                  <a:lnTo>
                    <a:pt x="144" y="535"/>
                  </a:lnTo>
                  <a:lnTo>
                    <a:pt x="140" y="534"/>
                  </a:lnTo>
                  <a:lnTo>
                    <a:pt x="136" y="532"/>
                  </a:lnTo>
                  <a:lnTo>
                    <a:pt x="130" y="526"/>
                  </a:lnTo>
                  <a:lnTo>
                    <a:pt x="123" y="520"/>
                  </a:lnTo>
                  <a:lnTo>
                    <a:pt x="112" y="507"/>
                  </a:lnTo>
                  <a:lnTo>
                    <a:pt x="100" y="492"/>
                  </a:lnTo>
                  <a:lnTo>
                    <a:pt x="89" y="476"/>
                  </a:lnTo>
                  <a:lnTo>
                    <a:pt x="76" y="460"/>
                  </a:lnTo>
                  <a:lnTo>
                    <a:pt x="50" y="422"/>
                  </a:lnTo>
                  <a:lnTo>
                    <a:pt x="24" y="380"/>
                  </a:lnTo>
                  <a:lnTo>
                    <a:pt x="18" y="371"/>
                  </a:lnTo>
                  <a:lnTo>
                    <a:pt x="13" y="363"/>
                  </a:lnTo>
                  <a:lnTo>
                    <a:pt x="12" y="361"/>
                  </a:lnTo>
                  <a:lnTo>
                    <a:pt x="12" y="358"/>
                  </a:lnTo>
                  <a:lnTo>
                    <a:pt x="12" y="357"/>
                  </a:lnTo>
                  <a:lnTo>
                    <a:pt x="13" y="355"/>
                  </a:lnTo>
                  <a:lnTo>
                    <a:pt x="15" y="352"/>
                  </a:lnTo>
                  <a:lnTo>
                    <a:pt x="18" y="351"/>
                  </a:lnTo>
                  <a:lnTo>
                    <a:pt x="20" y="350"/>
                  </a:lnTo>
                  <a:lnTo>
                    <a:pt x="23" y="349"/>
                  </a:lnTo>
                  <a:lnTo>
                    <a:pt x="32" y="351"/>
                  </a:lnTo>
                  <a:lnTo>
                    <a:pt x="43" y="355"/>
                  </a:lnTo>
                  <a:close/>
                  <a:moveTo>
                    <a:pt x="164" y="134"/>
                  </a:moveTo>
                  <a:lnTo>
                    <a:pt x="185" y="139"/>
                  </a:lnTo>
                  <a:lnTo>
                    <a:pt x="206" y="145"/>
                  </a:lnTo>
                  <a:lnTo>
                    <a:pt x="225" y="151"/>
                  </a:lnTo>
                  <a:lnTo>
                    <a:pt x="243" y="158"/>
                  </a:lnTo>
                  <a:lnTo>
                    <a:pt x="260" y="164"/>
                  </a:lnTo>
                  <a:lnTo>
                    <a:pt x="276" y="170"/>
                  </a:lnTo>
                  <a:lnTo>
                    <a:pt x="291" y="178"/>
                  </a:lnTo>
                  <a:lnTo>
                    <a:pt x="304" y="185"/>
                  </a:lnTo>
                  <a:lnTo>
                    <a:pt x="306" y="191"/>
                  </a:lnTo>
                  <a:lnTo>
                    <a:pt x="307" y="199"/>
                  </a:lnTo>
                  <a:lnTo>
                    <a:pt x="308" y="208"/>
                  </a:lnTo>
                  <a:lnTo>
                    <a:pt x="307" y="218"/>
                  </a:lnTo>
                  <a:lnTo>
                    <a:pt x="306" y="230"/>
                  </a:lnTo>
                  <a:lnTo>
                    <a:pt x="305" y="242"/>
                  </a:lnTo>
                  <a:lnTo>
                    <a:pt x="301" y="255"/>
                  </a:lnTo>
                  <a:lnTo>
                    <a:pt x="298" y="270"/>
                  </a:lnTo>
                  <a:lnTo>
                    <a:pt x="296" y="278"/>
                  </a:lnTo>
                  <a:lnTo>
                    <a:pt x="292" y="286"/>
                  </a:lnTo>
                  <a:lnTo>
                    <a:pt x="289" y="291"/>
                  </a:lnTo>
                  <a:lnTo>
                    <a:pt x="283" y="294"/>
                  </a:lnTo>
                  <a:lnTo>
                    <a:pt x="278" y="293"/>
                  </a:lnTo>
                  <a:lnTo>
                    <a:pt x="271" y="291"/>
                  </a:lnTo>
                  <a:lnTo>
                    <a:pt x="263" y="286"/>
                  </a:lnTo>
                  <a:lnTo>
                    <a:pt x="254" y="279"/>
                  </a:lnTo>
                  <a:lnTo>
                    <a:pt x="244" y="271"/>
                  </a:lnTo>
                  <a:lnTo>
                    <a:pt x="235" y="261"/>
                  </a:lnTo>
                  <a:lnTo>
                    <a:pt x="224" y="250"/>
                  </a:lnTo>
                  <a:lnTo>
                    <a:pt x="212" y="237"/>
                  </a:lnTo>
                  <a:lnTo>
                    <a:pt x="187" y="206"/>
                  </a:lnTo>
                  <a:lnTo>
                    <a:pt x="158" y="169"/>
                  </a:lnTo>
                  <a:lnTo>
                    <a:pt x="153" y="161"/>
                  </a:lnTo>
                  <a:lnTo>
                    <a:pt x="148" y="154"/>
                  </a:lnTo>
                  <a:lnTo>
                    <a:pt x="142" y="138"/>
                  </a:lnTo>
                  <a:lnTo>
                    <a:pt x="138" y="130"/>
                  </a:lnTo>
                  <a:lnTo>
                    <a:pt x="140" y="129"/>
                  </a:lnTo>
                  <a:lnTo>
                    <a:pt x="142" y="128"/>
                  </a:lnTo>
                  <a:lnTo>
                    <a:pt x="145" y="128"/>
                  </a:lnTo>
                  <a:lnTo>
                    <a:pt x="147" y="128"/>
                  </a:lnTo>
                  <a:lnTo>
                    <a:pt x="154" y="130"/>
                  </a:lnTo>
                  <a:lnTo>
                    <a:pt x="164" y="134"/>
                  </a:lnTo>
                  <a:close/>
                  <a:moveTo>
                    <a:pt x="559" y="675"/>
                  </a:moveTo>
                  <a:lnTo>
                    <a:pt x="591" y="687"/>
                  </a:lnTo>
                  <a:lnTo>
                    <a:pt x="618" y="699"/>
                  </a:lnTo>
                  <a:lnTo>
                    <a:pt x="641" y="710"/>
                  </a:lnTo>
                  <a:lnTo>
                    <a:pt x="658" y="720"/>
                  </a:lnTo>
                  <a:lnTo>
                    <a:pt x="659" y="723"/>
                  </a:lnTo>
                  <a:lnTo>
                    <a:pt x="659" y="729"/>
                  </a:lnTo>
                  <a:lnTo>
                    <a:pt x="659" y="735"/>
                  </a:lnTo>
                  <a:lnTo>
                    <a:pt x="658" y="742"/>
                  </a:lnTo>
                  <a:lnTo>
                    <a:pt x="655" y="764"/>
                  </a:lnTo>
                  <a:lnTo>
                    <a:pt x="649" y="790"/>
                  </a:lnTo>
                  <a:lnTo>
                    <a:pt x="646" y="797"/>
                  </a:lnTo>
                  <a:lnTo>
                    <a:pt x="644" y="803"/>
                  </a:lnTo>
                  <a:lnTo>
                    <a:pt x="641" y="807"/>
                  </a:lnTo>
                  <a:lnTo>
                    <a:pt x="638" y="810"/>
                  </a:lnTo>
                  <a:lnTo>
                    <a:pt x="634" y="809"/>
                  </a:lnTo>
                  <a:lnTo>
                    <a:pt x="629" y="807"/>
                  </a:lnTo>
                  <a:lnTo>
                    <a:pt x="623" y="805"/>
                  </a:lnTo>
                  <a:lnTo>
                    <a:pt x="619" y="800"/>
                  </a:lnTo>
                  <a:lnTo>
                    <a:pt x="609" y="788"/>
                  </a:lnTo>
                  <a:lnTo>
                    <a:pt x="599" y="776"/>
                  </a:lnTo>
                  <a:lnTo>
                    <a:pt x="590" y="763"/>
                  </a:lnTo>
                  <a:lnTo>
                    <a:pt x="580" y="749"/>
                  </a:lnTo>
                  <a:lnTo>
                    <a:pt x="570" y="734"/>
                  </a:lnTo>
                  <a:lnTo>
                    <a:pt x="561" y="718"/>
                  </a:lnTo>
                  <a:lnTo>
                    <a:pt x="552" y="702"/>
                  </a:lnTo>
                  <a:lnTo>
                    <a:pt x="544" y="685"/>
                  </a:lnTo>
                  <a:lnTo>
                    <a:pt x="542" y="681"/>
                  </a:lnTo>
                  <a:lnTo>
                    <a:pt x="541" y="678"/>
                  </a:lnTo>
                  <a:lnTo>
                    <a:pt x="542" y="676"/>
                  </a:lnTo>
                  <a:lnTo>
                    <a:pt x="544" y="675"/>
                  </a:lnTo>
                  <a:lnTo>
                    <a:pt x="544" y="674"/>
                  </a:lnTo>
                  <a:lnTo>
                    <a:pt x="547" y="673"/>
                  </a:lnTo>
                  <a:lnTo>
                    <a:pt x="552" y="674"/>
                  </a:lnTo>
                  <a:lnTo>
                    <a:pt x="559" y="675"/>
                  </a:lnTo>
                  <a:close/>
                  <a:moveTo>
                    <a:pt x="603" y="454"/>
                  </a:moveTo>
                  <a:lnTo>
                    <a:pt x="639" y="467"/>
                  </a:lnTo>
                  <a:lnTo>
                    <a:pt x="665" y="478"/>
                  </a:lnTo>
                  <a:lnTo>
                    <a:pt x="674" y="482"/>
                  </a:lnTo>
                  <a:lnTo>
                    <a:pt x="682" y="487"/>
                  </a:lnTo>
                  <a:lnTo>
                    <a:pt x="686" y="491"/>
                  </a:lnTo>
                  <a:lnTo>
                    <a:pt x="689" y="495"/>
                  </a:lnTo>
                  <a:lnTo>
                    <a:pt x="689" y="497"/>
                  </a:lnTo>
                  <a:lnTo>
                    <a:pt x="690" y="500"/>
                  </a:lnTo>
                  <a:lnTo>
                    <a:pt x="689" y="504"/>
                  </a:lnTo>
                  <a:lnTo>
                    <a:pt x="689" y="510"/>
                  </a:lnTo>
                  <a:lnTo>
                    <a:pt x="685" y="525"/>
                  </a:lnTo>
                  <a:lnTo>
                    <a:pt x="679" y="544"/>
                  </a:lnTo>
                  <a:lnTo>
                    <a:pt x="679" y="550"/>
                  </a:lnTo>
                  <a:lnTo>
                    <a:pt x="679" y="555"/>
                  </a:lnTo>
                  <a:lnTo>
                    <a:pt x="676" y="561"/>
                  </a:lnTo>
                  <a:lnTo>
                    <a:pt x="673" y="567"/>
                  </a:lnTo>
                  <a:lnTo>
                    <a:pt x="671" y="569"/>
                  </a:lnTo>
                  <a:lnTo>
                    <a:pt x="669" y="570"/>
                  </a:lnTo>
                  <a:lnTo>
                    <a:pt x="666" y="572"/>
                  </a:lnTo>
                  <a:lnTo>
                    <a:pt x="663" y="571"/>
                  </a:lnTo>
                  <a:lnTo>
                    <a:pt x="658" y="569"/>
                  </a:lnTo>
                  <a:lnTo>
                    <a:pt x="654" y="564"/>
                  </a:lnTo>
                  <a:lnTo>
                    <a:pt x="636" y="540"/>
                  </a:lnTo>
                  <a:lnTo>
                    <a:pt x="620" y="515"/>
                  </a:lnTo>
                  <a:lnTo>
                    <a:pt x="604" y="490"/>
                  </a:lnTo>
                  <a:lnTo>
                    <a:pt x="588" y="465"/>
                  </a:lnTo>
                  <a:lnTo>
                    <a:pt x="586" y="461"/>
                  </a:lnTo>
                  <a:lnTo>
                    <a:pt x="586" y="457"/>
                  </a:lnTo>
                  <a:lnTo>
                    <a:pt x="586" y="455"/>
                  </a:lnTo>
                  <a:lnTo>
                    <a:pt x="588" y="454"/>
                  </a:lnTo>
                  <a:lnTo>
                    <a:pt x="590" y="453"/>
                  </a:lnTo>
                  <a:lnTo>
                    <a:pt x="593" y="452"/>
                  </a:lnTo>
                  <a:lnTo>
                    <a:pt x="597" y="453"/>
                  </a:lnTo>
                  <a:lnTo>
                    <a:pt x="603" y="454"/>
                  </a:lnTo>
                  <a:close/>
                </a:path>
              </a:pathLst>
            </a:custGeom>
            <a:solidFill>
              <a:srgbClr val="d79f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d79f00"/>
                </a:solidFill>
                <a:latin typeface="Arial"/>
                <a:ea typeface="宋体"/>
              </a:endParaRPr>
            </a:p>
          </p:txBody>
        </p:sp>
        <p:sp>
          <p:nvSpPr>
            <p:cNvPr id="87" name="Freeform 13"/>
            <p:cNvSpPr/>
            <p:nvPr/>
          </p:nvSpPr>
          <p:spPr>
            <a:xfrm>
              <a:off x="2442600" y="9097200"/>
              <a:ext cx="243360" cy="203400"/>
            </a:xfrm>
            <a:custGeom>
              <a:avLst/>
              <a:gdLst>
                <a:gd name="textAreaLeft" fmla="*/ 0 w 243360"/>
                <a:gd name="textAreaRight" fmla="*/ 243720 w 243360"/>
                <a:gd name="textAreaTop" fmla="*/ 0 h 203400"/>
                <a:gd name="textAreaBottom" fmla="*/ 203760 h 203400"/>
              </a:gdLst>
              <a:ahLst/>
              <a:rect l="textAreaLeft" t="textAreaTop" r="textAreaRight" b="textAreaBottom"/>
              <a:pathLst>
                <a:path w="1246" h="1097">
                  <a:moveTo>
                    <a:pt x="796" y="610"/>
                  </a:moveTo>
                  <a:lnTo>
                    <a:pt x="800" y="608"/>
                  </a:lnTo>
                  <a:lnTo>
                    <a:pt x="804" y="607"/>
                  </a:lnTo>
                  <a:lnTo>
                    <a:pt x="808" y="607"/>
                  </a:lnTo>
                  <a:lnTo>
                    <a:pt x="813" y="609"/>
                  </a:lnTo>
                  <a:lnTo>
                    <a:pt x="817" y="611"/>
                  </a:lnTo>
                  <a:lnTo>
                    <a:pt x="821" y="614"/>
                  </a:lnTo>
                  <a:lnTo>
                    <a:pt x="826" y="620"/>
                  </a:lnTo>
                  <a:lnTo>
                    <a:pt x="831" y="625"/>
                  </a:lnTo>
                  <a:lnTo>
                    <a:pt x="839" y="631"/>
                  </a:lnTo>
                  <a:lnTo>
                    <a:pt x="846" y="639"/>
                  </a:lnTo>
                  <a:lnTo>
                    <a:pt x="854" y="648"/>
                  </a:lnTo>
                  <a:lnTo>
                    <a:pt x="861" y="660"/>
                  </a:lnTo>
                  <a:lnTo>
                    <a:pt x="863" y="662"/>
                  </a:lnTo>
                  <a:lnTo>
                    <a:pt x="864" y="665"/>
                  </a:lnTo>
                  <a:lnTo>
                    <a:pt x="866" y="667"/>
                  </a:lnTo>
                  <a:lnTo>
                    <a:pt x="866" y="670"/>
                  </a:lnTo>
                  <a:lnTo>
                    <a:pt x="868" y="675"/>
                  </a:lnTo>
                  <a:lnTo>
                    <a:pt x="869" y="678"/>
                  </a:lnTo>
                  <a:lnTo>
                    <a:pt x="868" y="679"/>
                  </a:lnTo>
                  <a:lnTo>
                    <a:pt x="866" y="680"/>
                  </a:lnTo>
                  <a:lnTo>
                    <a:pt x="866" y="682"/>
                  </a:lnTo>
                  <a:lnTo>
                    <a:pt x="863" y="683"/>
                  </a:lnTo>
                  <a:lnTo>
                    <a:pt x="860" y="684"/>
                  </a:lnTo>
                  <a:lnTo>
                    <a:pt x="856" y="685"/>
                  </a:lnTo>
                  <a:lnTo>
                    <a:pt x="840" y="686"/>
                  </a:lnTo>
                  <a:lnTo>
                    <a:pt x="822" y="689"/>
                  </a:lnTo>
                  <a:lnTo>
                    <a:pt x="801" y="690"/>
                  </a:lnTo>
                  <a:lnTo>
                    <a:pt x="779" y="693"/>
                  </a:lnTo>
                  <a:lnTo>
                    <a:pt x="753" y="695"/>
                  </a:lnTo>
                  <a:lnTo>
                    <a:pt x="727" y="698"/>
                  </a:lnTo>
                  <a:lnTo>
                    <a:pt x="697" y="701"/>
                  </a:lnTo>
                  <a:lnTo>
                    <a:pt x="666" y="704"/>
                  </a:lnTo>
                  <a:lnTo>
                    <a:pt x="649" y="708"/>
                  </a:lnTo>
                  <a:lnTo>
                    <a:pt x="635" y="709"/>
                  </a:lnTo>
                  <a:lnTo>
                    <a:pt x="622" y="710"/>
                  </a:lnTo>
                  <a:lnTo>
                    <a:pt x="611" y="710"/>
                  </a:lnTo>
                  <a:lnTo>
                    <a:pt x="611" y="739"/>
                  </a:lnTo>
                  <a:lnTo>
                    <a:pt x="611" y="770"/>
                  </a:lnTo>
                  <a:lnTo>
                    <a:pt x="611" y="802"/>
                  </a:lnTo>
                  <a:lnTo>
                    <a:pt x="611" y="835"/>
                  </a:lnTo>
                  <a:lnTo>
                    <a:pt x="611" y="870"/>
                  </a:lnTo>
                  <a:lnTo>
                    <a:pt x="611" y="905"/>
                  </a:lnTo>
                  <a:lnTo>
                    <a:pt x="611" y="942"/>
                  </a:lnTo>
                  <a:lnTo>
                    <a:pt x="611" y="980"/>
                  </a:lnTo>
                  <a:lnTo>
                    <a:pt x="674" y="973"/>
                  </a:lnTo>
                  <a:lnTo>
                    <a:pt x="731" y="966"/>
                  </a:lnTo>
                  <a:lnTo>
                    <a:pt x="784" y="961"/>
                  </a:lnTo>
                  <a:lnTo>
                    <a:pt x="833" y="956"/>
                  </a:lnTo>
                  <a:lnTo>
                    <a:pt x="875" y="950"/>
                  </a:lnTo>
                  <a:lnTo>
                    <a:pt x="914" y="946"/>
                  </a:lnTo>
                  <a:lnTo>
                    <a:pt x="947" y="943"/>
                  </a:lnTo>
                  <a:lnTo>
                    <a:pt x="976" y="940"/>
                  </a:lnTo>
                  <a:lnTo>
                    <a:pt x="983" y="941"/>
                  </a:lnTo>
                  <a:lnTo>
                    <a:pt x="989" y="941"/>
                  </a:lnTo>
                  <a:lnTo>
                    <a:pt x="996" y="942"/>
                  </a:lnTo>
                  <a:lnTo>
                    <a:pt x="1001" y="944"/>
                  </a:lnTo>
                  <a:lnTo>
                    <a:pt x="1005" y="946"/>
                  </a:lnTo>
                  <a:lnTo>
                    <a:pt x="1010" y="948"/>
                  </a:lnTo>
                  <a:lnTo>
                    <a:pt x="1013" y="951"/>
                  </a:lnTo>
                  <a:lnTo>
                    <a:pt x="1016" y="956"/>
                  </a:lnTo>
                  <a:lnTo>
                    <a:pt x="1028" y="967"/>
                  </a:lnTo>
                  <a:lnTo>
                    <a:pt x="1041" y="985"/>
                  </a:lnTo>
                  <a:lnTo>
                    <a:pt x="1048" y="997"/>
                  </a:lnTo>
                  <a:lnTo>
                    <a:pt x="1053" y="1007"/>
                  </a:lnTo>
                  <a:lnTo>
                    <a:pt x="1058" y="1014"/>
                  </a:lnTo>
                  <a:lnTo>
                    <a:pt x="1062" y="1020"/>
                  </a:lnTo>
                  <a:lnTo>
                    <a:pt x="1063" y="1025"/>
                  </a:lnTo>
                  <a:lnTo>
                    <a:pt x="1064" y="1029"/>
                  </a:lnTo>
                  <a:lnTo>
                    <a:pt x="1063" y="1032"/>
                  </a:lnTo>
                  <a:lnTo>
                    <a:pt x="1062" y="1035"/>
                  </a:lnTo>
                  <a:lnTo>
                    <a:pt x="1060" y="1037"/>
                  </a:lnTo>
                  <a:lnTo>
                    <a:pt x="1057" y="1037"/>
                  </a:lnTo>
                  <a:lnTo>
                    <a:pt x="1053" y="1037"/>
                  </a:lnTo>
                  <a:lnTo>
                    <a:pt x="1047" y="1035"/>
                  </a:lnTo>
                  <a:lnTo>
                    <a:pt x="1002" y="1034"/>
                  </a:lnTo>
                  <a:lnTo>
                    <a:pt x="957" y="1034"/>
                  </a:lnTo>
                  <a:lnTo>
                    <a:pt x="911" y="1034"/>
                  </a:lnTo>
                  <a:lnTo>
                    <a:pt x="864" y="1035"/>
                  </a:lnTo>
                  <a:lnTo>
                    <a:pt x="818" y="1037"/>
                  </a:lnTo>
                  <a:lnTo>
                    <a:pt x="769" y="1039"/>
                  </a:lnTo>
                  <a:lnTo>
                    <a:pt x="720" y="1041"/>
                  </a:lnTo>
                  <a:lnTo>
                    <a:pt x="671" y="1046"/>
                  </a:lnTo>
                  <a:lnTo>
                    <a:pt x="621" y="1049"/>
                  </a:lnTo>
                  <a:lnTo>
                    <a:pt x="569" y="1054"/>
                  </a:lnTo>
                  <a:lnTo>
                    <a:pt x="517" y="1059"/>
                  </a:lnTo>
                  <a:lnTo>
                    <a:pt x="465" y="1065"/>
                  </a:lnTo>
                  <a:lnTo>
                    <a:pt x="411" y="1072"/>
                  </a:lnTo>
                  <a:lnTo>
                    <a:pt x="357" y="1079"/>
                  </a:lnTo>
                  <a:lnTo>
                    <a:pt x="302" y="1087"/>
                  </a:lnTo>
                  <a:lnTo>
                    <a:pt x="246" y="1096"/>
                  </a:lnTo>
                  <a:lnTo>
                    <a:pt x="240" y="1097"/>
                  </a:lnTo>
                  <a:lnTo>
                    <a:pt x="234" y="1097"/>
                  </a:lnTo>
                  <a:lnTo>
                    <a:pt x="229" y="1097"/>
                  </a:lnTo>
                  <a:lnTo>
                    <a:pt x="224" y="1096"/>
                  </a:lnTo>
                  <a:lnTo>
                    <a:pt x="218" y="1093"/>
                  </a:lnTo>
                  <a:lnTo>
                    <a:pt x="214" y="1091"/>
                  </a:lnTo>
                  <a:lnTo>
                    <a:pt x="210" y="1089"/>
                  </a:lnTo>
                  <a:lnTo>
                    <a:pt x="206" y="1085"/>
                  </a:lnTo>
                  <a:lnTo>
                    <a:pt x="197" y="1075"/>
                  </a:lnTo>
                  <a:lnTo>
                    <a:pt x="181" y="1055"/>
                  </a:lnTo>
                  <a:lnTo>
                    <a:pt x="172" y="1044"/>
                  </a:lnTo>
                  <a:lnTo>
                    <a:pt x="163" y="1035"/>
                  </a:lnTo>
                  <a:lnTo>
                    <a:pt x="157" y="1029"/>
                  </a:lnTo>
                  <a:lnTo>
                    <a:pt x="151" y="1026"/>
                  </a:lnTo>
                  <a:lnTo>
                    <a:pt x="187" y="1025"/>
                  </a:lnTo>
                  <a:lnTo>
                    <a:pt x="225" y="1023"/>
                  </a:lnTo>
                  <a:lnTo>
                    <a:pt x="267" y="1020"/>
                  </a:lnTo>
                  <a:lnTo>
                    <a:pt x="314" y="1016"/>
                  </a:lnTo>
                  <a:lnTo>
                    <a:pt x="362" y="1012"/>
                  </a:lnTo>
                  <a:lnTo>
                    <a:pt x="415" y="1005"/>
                  </a:lnTo>
                  <a:lnTo>
                    <a:pt x="472" y="998"/>
                  </a:lnTo>
                  <a:lnTo>
                    <a:pt x="531" y="991"/>
                  </a:lnTo>
                  <a:lnTo>
                    <a:pt x="531" y="973"/>
                  </a:lnTo>
                  <a:lnTo>
                    <a:pt x="531" y="954"/>
                  </a:lnTo>
                  <a:lnTo>
                    <a:pt x="532" y="932"/>
                  </a:lnTo>
                  <a:lnTo>
                    <a:pt x="532" y="911"/>
                  </a:lnTo>
                  <a:lnTo>
                    <a:pt x="533" y="889"/>
                  </a:lnTo>
                  <a:lnTo>
                    <a:pt x="534" y="866"/>
                  </a:lnTo>
                  <a:lnTo>
                    <a:pt x="535" y="841"/>
                  </a:lnTo>
                  <a:lnTo>
                    <a:pt x="536" y="815"/>
                  </a:lnTo>
                  <a:lnTo>
                    <a:pt x="536" y="785"/>
                  </a:lnTo>
                  <a:lnTo>
                    <a:pt x="536" y="760"/>
                  </a:lnTo>
                  <a:lnTo>
                    <a:pt x="536" y="741"/>
                  </a:lnTo>
                  <a:lnTo>
                    <a:pt x="536" y="725"/>
                  </a:lnTo>
                  <a:lnTo>
                    <a:pt x="496" y="733"/>
                  </a:lnTo>
                  <a:lnTo>
                    <a:pt x="457" y="741"/>
                  </a:lnTo>
                  <a:lnTo>
                    <a:pt x="419" y="748"/>
                  </a:lnTo>
                  <a:lnTo>
                    <a:pt x="382" y="755"/>
                  </a:lnTo>
                  <a:lnTo>
                    <a:pt x="373" y="754"/>
                  </a:lnTo>
                  <a:lnTo>
                    <a:pt x="363" y="751"/>
                  </a:lnTo>
                  <a:lnTo>
                    <a:pt x="353" y="747"/>
                  </a:lnTo>
                  <a:lnTo>
                    <a:pt x="341" y="741"/>
                  </a:lnTo>
                  <a:lnTo>
                    <a:pt x="334" y="736"/>
                  </a:lnTo>
                  <a:lnTo>
                    <a:pt x="326" y="732"/>
                  </a:lnTo>
                  <a:lnTo>
                    <a:pt x="320" y="727"/>
                  </a:lnTo>
                  <a:lnTo>
                    <a:pt x="314" y="721"/>
                  </a:lnTo>
                  <a:lnTo>
                    <a:pt x="307" y="715"/>
                  </a:lnTo>
                  <a:lnTo>
                    <a:pt x="301" y="709"/>
                  </a:lnTo>
                  <a:lnTo>
                    <a:pt x="296" y="702"/>
                  </a:lnTo>
                  <a:lnTo>
                    <a:pt x="290" y="695"/>
                  </a:lnTo>
                  <a:lnTo>
                    <a:pt x="317" y="693"/>
                  </a:lnTo>
                  <a:lnTo>
                    <a:pt x="343" y="691"/>
                  </a:lnTo>
                  <a:lnTo>
                    <a:pt x="372" y="686"/>
                  </a:lnTo>
                  <a:lnTo>
                    <a:pt x="401" y="682"/>
                  </a:lnTo>
                  <a:lnTo>
                    <a:pt x="431" y="677"/>
                  </a:lnTo>
                  <a:lnTo>
                    <a:pt x="463" y="671"/>
                  </a:lnTo>
                  <a:lnTo>
                    <a:pt x="497" y="663"/>
                  </a:lnTo>
                  <a:lnTo>
                    <a:pt x="531" y="655"/>
                  </a:lnTo>
                  <a:lnTo>
                    <a:pt x="530" y="622"/>
                  </a:lnTo>
                  <a:lnTo>
                    <a:pt x="528" y="591"/>
                  </a:lnTo>
                  <a:lnTo>
                    <a:pt x="526" y="577"/>
                  </a:lnTo>
                  <a:lnTo>
                    <a:pt x="522" y="564"/>
                  </a:lnTo>
                  <a:lnTo>
                    <a:pt x="519" y="552"/>
                  </a:lnTo>
                  <a:lnTo>
                    <a:pt x="516" y="540"/>
                  </a:lnTo>
                  <a:lnTo>
                    <a:pt x="499" y="542"/>
                  </a:lnTo>
                  <a:lnTo>
                    <a:pt x="482" y="547"/>
                  </a:lnTo>
                  <a:lnTo>
                    <a:pt x="466" y="550"/>
                  </a:lnTo>
                  <a:lnTo>
                    <a:pt x="451" y="555"/>
                  </a:lnTo>
                  <a:lnTo>
                    <a:pt x="447" y="556"/>
                  </a:lnTo>
                  <a:lnTo>
                    <a:pt x="443" y="556"/>
                  </a:lnTo>
                  <a:lnTo>
                    <a:pt x="439" y="556"/>
                  </a:lnTo>
                  <a:lnTo>
                    <a:pt x="434" y="555"/>
                  </a:lnTo>
                  <a:lnTo>
                    <a:pt x="426" y="551"/>
                  </a:lnTo>
                  <a:lnTo>
                    <a:pt x="416" y="544"/>
                  </a:lnTo>
                  <a:lnTo>
                    <a:pt x="397" y="531"/>
                  </a:lnTo>
                  <a:lnTo>
                    <a:pt x="383" y="519"/>
                  </a:lnTo>
                  <a:lnTo>
                    <a:pt x="370" y="508"/>
                  </a:lnTo>
                  <a:lnTo>
                    <a:pt x="361" y="500"/>
                  </a:lnTo>
                  <a:lnTo>
                    <a:pt x="377" y="497"/>
                  </a:lnTo>
                  <a:lnTo>
                    <a:pt x="395" y="494"/>
                  </a:lnTo>
                  <a:lnTo>
                    <a:pt x="415" y="489"/>
                  </a:lnTo>
                  <a:lnTo>
                    <a:pt x="439" y="485"/>
                  </a:lnTo>
                  <a:lnTo>
                    <a:pt x="463" y="480"/>
                  </a:lnTo>
                  <a:lnTo>
                    <a:pt x="491" y="473"/>
                  </a:lnTo>
                  <a:lnTo>
                    <a:pt x="519" y="467"/>
                  </a:lnTo>
                  <a:lnTo>
                    <a:pt x="551" y="460"/>
                  </a:lnTo>
                  <a:lnTo>
                    <a:pt x="580" y="452"/>
                  </a:lnTo>
                  <a:lnTo>
                    <a:pt x="607" y="446"/>
                  </a:lnTo>
                  <a:lnTo>
                    <a:pt x="634" y="441"/>
                  </a:lnTo>
                  <a:lnTo>
                    <a:pt x="657" y="435"/>
                  </a:lnTo>
                  <a:lnTo>
                    <a:pt x="679" y="430"/>
                  </a:lnTo>
                  <a:lnTo>
                    <a:pt x="700" y="426"/>
                  </a:lnTo>
                  <a:lnTo>
                    <a:pt x="719" y="423"/>
                  </a:lnTo>
                  <a:lnTo>
                    <a:pt x="736" y="419"/>
                  </a:lnTo>
                  <a:lnTo>
                    <a:pt x="741" y="418"/>
                  </a:lnTo>
                  <a:lnTo>
                    <a:pt x="746" y="417"/>
                  </a:lnTo>
                  <a:lnTo>
                    <a:pt x="751" y="417"/>
                  </a:lnTo>
                  <a:lnTo>
                    <a:pt x="756" y="418"/>
                  </a:lnTo>
                  <a:lnTo>
                    <a:pt x="761" y="420"/>
                  </a:lnTo>
                  <a:lnTo>
                    <a:pt x="766" y="425"/>
                  </a:lnTo>
                  <a:lnTo>
                    <a:pt x="771" y="429"/>
                  </a:lnTo>
                  <a:lnTo>
                    <a:pt x="776" y="434"/>
                  </a:lnTo>
                  <a:lnTo>
                    <a:pt x="777" y="437"/>
                  </a:lnTo>
                  <a:lnTo>
                    <a:pt x="778" y="440"/>
                  </a:lnTo>
                  <a:lnTo>
                    <a:pt x="779" y="443"/>
                  </a:lnTo>
                  <a:lnTo>
                    <a:pt x="781" y="445"/>
                  </a:lnTo>
                  <a:lnTo>
                    <a:pt x="788" y="452"/>
                  </a:lnTo>
                  <a:lnTo>
                    <a:pt x="794" y="460"/>
                  </a:lnTo>
                  <a:lnTo>
                    <a:pt x="798" y="467"/>
                  </a:lnTo>
                  <a:lnTo>
                    <a:pt x="801" y="475"/>
                  </a:lnTo>
                  <a:lnTo>
                    <a:pt x="805" y="484"/>
                  </a:lnTo>
                  <a:lnTo>
                    <a:pt x="806" y="489"/>
                  </a:lnTo>
                  <a:lnTo>
                    <a:pt x="803" y="493"/>
                  </a:lnTo>
                  <a:lnTo>
                    <a:pt x="800" y="494"/>
                  </a:lnTo>
                  <a:lnTo>
                    <a:pt x="796" y="495"/>
                  </a:lnTo>
                  <a:lnTo>
                    <a:pt x="791" y="495"/>
                  </a:lnTo>
                  <a:lnTo>
                    <a:pt x="767" y="497"/>
                  </a:lnTo>
                  <a:lnTo>
                    <a:pt x="743" y="499"/>
                  </a:lnTo>
                  <a:lnTo>
                    <a:pt x="715" y="502"/>
                  </a:lnTo>
                  <a:lnTo>
                    <a:pt x="685" y="506"/>
                  </a:lnTo>
                  <a:lnTo>
                    <a:pt x="655" y="511"/>
                  </a:lnTo>
                  <a:lnTo>
                    <a:pt x="622" y="517"/>
                  </a:lnTo>
                  <a:lnTo>
                    <a:pt x="587" y="523"/>
                  </a:lnTo>
                  <a:lnTo>
                    <a:pt x="551" y="530"/>
                  </a:lnTo>
                  <a:lnTo>
                    <a:pt x="573" y="537"/>
                  </a:lnTo>
                  <a:lnTo>
                    <a:pt x="595" y="542"/>
                  </a:lnTo>
                  <a:lnTo>
                    <a:pt x="619" y="547"/>
                  </a:lnTo>
                  <a:lnTo>
                    <a:pt x="641" y="550"/>
                  </a:lnTo>
                  <a:lnTo>
                    <a:pt x="638" y="556"/>
                  </a:lnTo>
                  <a:lnTo>
                    <a:pt x="634" y="562"/>
                  </a:lnTo>
                  <a:lnTo>
                    <a:pt x="631" y="572"/>
                  </a:lnTo>
                  <a:lnTo>
                    <a:pt x="628" y="583"/>
                  </a:lnTo>
                  <a:lnTo>
                    <a:pt x="624" y="608"/>
                  </a:lnTo>
                  <a:lnTo>
                    <a:pt x="621" y="640"/>
                  </a:lnTo>
                  <a:lnTo>
                    <a:pt x="633" y="638"/>
                  </a:lnTo>
                  <a:lnTo>
                    <a:pt x="647" y="635"/>
                  </a:lnTo>
                  <a:lnTo>
                    <a:pt x="665" y="632"/>
                  </a:lnTo>
                  <a:lnTo>
                    <a:pt x="685" y="630"/>
                  </a:lnTo>
                  <a:lnTo>
                    <a:pt x="722" y="623"/>
                  </a:lnTo>
                  <a:lnTo>
                    <a:pt x="751" y="618"/>
                  </a:lnTo>
                  <a:lnTo>
                    <a:pt x="777" y="613"/>
                  </a:lnTo>
                  <a:lnTo>
                    <a:pt x="796" y="610"/>
                  </a:lnTo>
                  <a:close/>
                  <a:moveTo>
                    <a:pt x="551" y="0"/>
                  </a:moveTo>
                  <a:lnTo>
                    <a:pt x="569" y="16"/>
                  </a:lnTo>
                  <a:lnTo>
                    <a:pt x="587" y="31"/>
                  </a:lnTo>
                  <a:lnTo>
                    <a:pt x="603" y="43"/>
                  </a:lnTo>
                  <a:lnTo>
                    <a:pt x="619" y="55"/>
                  </a:lnTo>
                  <a:lnTo>
                    <a:pt x="633" y="63"/>
                  </a:lnTo>
                  <a:lnTo>
                    <a:pt x="646" y="71"/>
                  </a:lnTo>
                  <a:lnTo>
                    <a:pt x="659" y="76"/>
                  </a:lnTo>
                  <a:lnTo>
                    <a:pt x="671" y="79"/>
                  </a:lnTo>
                  <a:lnTo>
                    <a:pt x="656" y="91"/>
                  </a:lnTo>
                  <a:lnTo>
                    <a:pt x="641" y="105"/>
                  </a:lnTo>
                  <a:lnTo>
                    <a:pt x="626" y="121"/>
                  </a:lnTo>
                  <a:lnTo>
                    <a:pt x="611" y="140"/>
                  </a:lnTo>
                  <a:lnTo>
                    <a:pt x="631" y="154"/>
                  </a:lnTo>
                  <a:lnTo>
                    <a:pt x="659" y="176"/>
                  </a:lnTo>
                  <a:lnTo>
                    <a:pt x="692" y="202"/>
                  </a:lnTo>
                  <a:lnTo>
                    <a:pt x="731" y="235"/>
                  </a:lnTo>
                  <a:lnTo>
                    <a:pt x="768" y="266"/>
                  </a:lnTo>
                  <a:lnTo>
                    <a:pt x="803" y="293"/>
                  </a:lnTo>
                  <a:lnTo>
                    <a:pt x="835" y="318"/>
                  </a:lnTo>
                  <a:lnTo>
                    <a:pt x="863" y="339"/>
                  </a:lnTo>
                  <a:lnTo>
                    <a:pt x="890" y="356"/>
                  </a:lnTo>
                  <a:lnTo>
                    <a:pt x="913" y="371"/>
                  </a:lnTo>
                  <a:lnTo>
                    <a:pt x="933" y="381"/>
                  </a:lnTo>
                  <a:lnTo>
                    <a:pt x="951" y="390"/>
                  </a:lnTo>
                  <a:lnTo>
                    <a:pt x="991" y="405"/>
                  </a:lnTo>
                  <a:lnTo>
                    <a:pt x="1028" y="420"/>
                  </a:lnTo>
                  <a:lnTo>
                    <a:pt x="1063" y="435"/>
                  </a:lnTo>
                  <a:lnTo>
                    <a:pt x="1096" y="451"/>
                  </a:lnTo>
                  <a:lnTo>
                    <a:pt x="1127" y="467"/>
                  </a:lnTo>
                  <a:lnTo>
                    <a:pt x="1158" y="483"/>
                  </a:lnTo>
                  <a:lnTo>
                    <a:pt x="1185" y="499"/>
                  </a:lnTo>
                  <a:lnTo>
                    <a:pt x="1211" y="515"/>
                  </a:lnTo>
                  <a:lnTo>
                    <a:pt x="1219" y="520"/>
                  </a:lnTo>
                  <a:lnTo>
                    <a:pt x="1227" y="524"/>
                  </a:lnTo>
                  <a:lnTo>
                    <a:pt x="1232" y="530"/>
                  </a:lnTo>
                  <a:lnTo>
                    <a:pt x="1237" y="535"/>
                  </a:lnTo>
                  <a:lnTo>
                    <a:pt x="1242" y="540"/>
                  </a:lnTo>
                  <a:lnTo>
                    <a:pt x="1244" y="544"/>
                  </a:lnTo>
                  <a:lnTo>
                    <a:pt x="1246" y="550"/>
                  </a:lnTo>
                  <a:lnTo>
                    <a:pt x="1246" y="555"/>
                  </a:lnTo>
                  <a:lnTo>
                    <a:pt x="1245" y="558"/>
                  </a:lnTo>
                  <a:lnTo>
                    <a:pt x="1242" y="561"/>
                  </a:lnTo>
                  <a:lnTo>
                    <a:pt x="1237" y="564"/>
                  </a:lnTo>
                  <a:lnTo>
                    <a:pt x="1232" y="566"/>
                  </a:lnTo>
                  <a:lnTo>
                    <a:pt x="1226" y="568"/>
                  </a:lnTo>
                  <a:lnTo>
                    <a:pt x="1219" y="569"/>
                  </a:lnTo>
                  <a:lnTo>
                    <a:pt x="1211" y="570"/>
                  </a:lnTo>
                  <a:lnTo>
                    <a:pt x="1201" y="570"/>
                  </a:lnTo>
                  <a:lnTo>
                    <a:pt x="1171" y="570"/>
                  </a:lnTo>
                  <a:lnTo>
                    <a:pt x="1141" y="569"/>
                  </a:lnTo>
                  <a:lnTo>
                    <a:pt x="1111" y="567"/>
                  </a:lnTo>
                  <a:lnTo>
                    <a:pt x="1084" y="565"/>
                  </a:lnTo>
                  <a:lnTo>
                    <a:pt x="1056" y="562"/>
                  </a:lnTo>
                  <a:lnTo>
                    <a:pt x="1031" y="558"/>
                  </a:lnTo>
                  <a:lnTo>
                    <a:pt x="1005" y="554"/>
                  </a:lnTo>
                  <a:lnTo>
                    <a:pt x="981" y="550"/>
                  </a:lnTo>
                  <a:lnTo>
                    <a:pt x="966" y="547"/>
                  </a:lnTo>
                  <a:lnTo>
                    <a:pt x="951" y="541"/>
                  </a:lnTo>
                  <a:lnTo>
                    <a:pt x="937" y="535"/>
                  </a:lnTo>
                  <a:lnTo>
                    <a:pt x="923" y="528"/>
                  </a:lnTo>
                  <a:lnTo>
                    <a:pt x="908" y="518"/>
                  </a:lnTo>
                  <a:lnTo>
                    <a:pt x="894" y="506"/>
                  </a:lnTo>
                  <a:lnTo>
                    <a:pt x="880" y="494"/>
                  </a:lnTo>
                  <a:lnTo>
                    <a:pt x="866" y="480"/>
                  </a:lnTo>
                  <a:lnTo>
                    <a:pt x="839" y="454"/>
                  </a:lnTo>
                  <a:lnTo>
                    <a:pt x="806" y="422"/>
                  </a:lnTo>
                  <a:lnTo>
                    <a:pt x="768" y="381"/>
                  </a:lnTo>
                  <a:lnTo>
                    <a:pt x="726" y="335"/>
                  </a:lnTo>
                  <a:lnTo>
                    <a:pt x="679" y="282"/>
                  </a:lnTo>
                  <a:lnTo>
                    <a:pt x="639" y="238"/>
                  </a:lnTo>
                  <a:lnTo>
                    <a:pt x="621" y="220"/>
                  </a:lnTo>
                  <a:lnTo>
                    <a:pt x="604" y="204"/>
                  </a:lnTo>
                  <a:lnTo>
                    <a:pt x="589" y="191"/>
                  </a:lnTo>
                  <a:lnTo>
                    <a:pt x="576" y="180"/>
                  </a:lnTo>
                  <a:lnTo>
                    <a:pt x="566" y="194"/>
                  </a:lnTo>
                  <a:lnTo>
                    <a:pt x="556" y="204"/>
                  </a:lnTo>
                  <a:lnTo>
                    <a:pt x="518" y="262"/>
                  </a:lnTo>
                  <a:lnTo>
                    <a:pt x="480" y="316"/>
                  </a:lnTo>
                  <a:lnTo>
                    <a:pt x="441" y="369"/>
                  </a:lnTo>
                  <a:lnTo>
                    <a:pt x="401" y="419"/>
                  </a:lnTo>
                  <a:lnTo>
                    <a:pt x="360" y="469"/>
                  </a:lnTo>
                  <a:lnTo>
                    <a:pt x="320" y="516"/>
                  </a:lnTo>
                  <a:lnTo>
                    <a:pt x="278" y="561"/>
                  </a:lnTo>
                  <a:lnTo>
                    <a:pt x="236" y="605"/>
                  </a:lnTo>
                  <a:lnTo>
                    <a:pt x="221" y="619"/>
                  </a:lnTo>
                  <a:lnTo>
                    <a:pt x="205" y="631"/>
                  </a:lnTo>
                  <a:lnTo>
                    <a:pt x="190" y="642"/>
                  </a:lnTo>
                  <a:lnTo>
                    <a:pt x="174" y="650"/>
                  </a:lnTo>
                  <a:lnTo>
                    <a:pt x="159" y="658"/>
                  </a:lnTo>
                  <a:lnTo>
                    <a:pt x="144" y="663"/>
                  </a:lnTo>
                  <a:lnTo>
                    <a:pt x="129" y="667"/>
                  </a:lnTo>
                  <a:lnTo>
                    <a:pt x="115" y="668"/>
                  </a:lnTo>
                  <a:lnTo>
                    <a:pt x="100" y="668"/>
                  </a:lnTo>
                  <a:lnTo>
                    <a:pt x="85" y="667"/>
                  </a:lnTo>
                  <a:lnTo>
                    <a:pt x="71" y="664"/>
                  </a:lnTo>
                  <a:lnTo>
                    <a:pt x="56" y="659"/>
                  </a:lnTo>
                  <a:lnTo>
                    <a:pt x="43" y="652"/>
                  </a:lnTo>
                  <a:lnTo>
                    <a:pt x="29" y="643"/>
                  </a:lnTo>
                  <a:lnTo>
                    <a:pt x="15" y="632"/>
                  </a:lnTo>
                  <a:lnTo>
                    <a:pt x="0" y="620"/>
                  </a:lnTo>
                  <a:lnTo>
                    <a:pt x="31" y="608"/>
                  </a:lnTo>
                  <a:lnTo>
                    <a:pt x="61" y="593"/>
                  </a:lnTo>
                  <a:lnTo>
                    <a:pt x="90" y="577"/>
                  </a:lnTo>
                  <a:lnTo>
                    <a:pt x="120" y="560"/>
                  </a:lnTo>
                  <a:lnTo>
                    <a:pt x="150" y="540"/>
                  </a:lnTo>
                  <a:lnTo>
                    <a:pt x="179" y="519"/>
                  </a:lnTo>
                  <a:lnTo>
                    <a:pt x="209" y="495"/>
                  </a:lnTo>
                  <a:lnTo>
                    <a:pt x="239" y="470"/>
                  </a:lnTo>
                  <a:lnTo>
                    <a:pt x="268" y="443"/>
                  </a:lnTo>
                  <a:lnTo>
                    <a:pt x="297" y="413"/>
                  </a:lnTo>
                  <a:lnTo>
                    <a:pt x="326" y="382"/>
                  </a:lnTo>
                  <a:lnTo>
                    <a:pt x="355" y="349"/>
                  </a:lnTo>
                  <a:lnTo>
                    <a:pt x="385" y="315"/>
                  </a:lnTo>
                  <a:lnTo>
                    <a:pt x="413" y="278"/>
                  </a:lnTo>
                  <a:lnTo>
                    <a:pt x="442" y="240"/>
                  </a:lnTo>
                  <a:lnTo>
                    <a:pt x="470" y="200"/>
                  </a:lnTo>
                  <a:lnTo>
                    <a:pt x="488" y="170"/>
                  </a:lnTo>
                  <a:lnTo>
                    <a:pt x="504" y="142"/>
                  </a:lnTo>
                  <a:lnTo>
                    <a:pt x="517" y="115"/>
                  </a:lnTo>
                  <a:lnTo>
                    <a:pt x="529" y="90"/>
                  </a:lnTo>
                  <a:lnTo>
                    <a:pt x="537" y="65"/>
                  </a:lnTo>
                  <a:lnTo>
                    <a:pt x="544" y="42"/>
                  </a:lnTo>
                  <a:lnTo>
                    <a:pt x="549" y="20"/>
                  </a:lnTo>
                  <a:lnTo>
                    <a:pt x="551" y="0"/>
                  </a:lnTo>
                  <a:close/>
                  <a:moveTo>
                    <a:pt x="641" y="915"/>
                  </a:moveTo>
                  <a:lnTo>
                    <a:pt x="630" y="901"/>
                  </a:lnTo>
                  <a:lnTo>
                    <a:pt x="662" y="875"/>
                  </a:lnTo>
                  <a:lnTo>
                    <a:pt x="689" y="851"/>
                  </a:lnTo>
                  <a:lnTo>
                    <a:pt x="701" y="839"/>
                  </a:lnTo>
                  <a:lnTo>
                    <a:pt x="713" y="827"/>
                  </a:lnTo>
                  <a:lnTo>
                    <a:pt x="724" y="816"/>
                  </a:lnTo>
                  <a:lnTo>
                    <a:pt x="733" y="804"/>
                  </a:lnTo>
                  <a:lnTo>
                    <a:pt x="743" y="792"/>
                  </a:lnTo>
                  <a:lnTo>
                    <a:pt x="750" y="781"/>
                  </a:lnTo>
                  <a:lnTo>
                    <a:pt x="758" y="769"/>
                  </a:lnTo>
                  <a:lnTo>
                    <a:pt x="764" y="759"/>
                  </a:lnTo>
                  <a:lnTo>
                    <a:pt x="769" y="748"/>
                  </a:lnTo>
                  <a:lnTo>
                    <a:pt x="774" y="736"/>
                  </a:lnTo>
                  <a:lnTo>
                    <a:pt x="778" y="726"/>
                  </a:lnTo>
                  <a:lnTo>
                    <a:pt x="781" y="715"/>
                  </a:lnTo>
                  <a:lnTo>
                    <a:pt x="791" y="731"/>
                  </a:lnTo>
                  <a:lnTo>
                    <a:pt x="804" y="746"/>
                  </a:lnTo>
                  <a:lnTo>
                    <a:pt x="817" y="760"/>
                  </a:lnTo>
                  <a:lnTo>
                    <a:pt x="831" y="772"/>
                  </a:lnTo>
                  <a:lnTo>
                    <a:pt x="846" y="785"/>
                  </a:lnTo>
                  <a:lnTo>
                    <a:pt x="863" y="796"/>
                  </a:lnTo>
                  <a:lnTo>
                    <a:pt x="881" y="806"/>
                  </a:lnTo>
                  <a:lnTo>
                    <a:pt x="902" y="815"/>
                  </a:lnTo>
                  <a:lnTo>
                    <a:pt x="890" y="817"/>
                  </a:lnTo>
                  <a:lnTo>
                    <a:pt x="878" y="820"/>
                  </a:lnTo>
                  <a:lnTo>
                    <a:pt x="864" y="824"/>
                  </a:lnTo>
                  <a:lnTo>
                    <a:pt x="850" y="828"/>
                  </a:lnTo>
                  <a:lnTo>
                    <a:pt x="816" y="842"/>
                  </a:lnTo>
                  <a:lnTo>
                    <a:pt x="776" y="860"/>
                  </a:lnTo>
                  <a:lnTo>
                    <a:pt x="735" y="878"/>
                  </a:lnTo>
                  <a:lnTo>
                    <a:pt x="700" y="894"/>
                  </a:lnTo>
                  <a:lnTo>
                    <a:pt x="669" y="906"/>
                  </a:lnTo>
                  <a:lnTo>
                    <a:pt x="641" y="915"/>
                  </a:lnTo>
                  <a:close/>
                  <a:moveTo>
                    <a:pt x="345" y="796"/>
                  </a:moveTo>
                  <a:lnTo>
                    <a:pt x="392" y="818"/>
                  </a:lnTo>
                  <a:lnTo>
                    <a:pt x="427" y="836"/>
                  </a:lnTo>
                  <a:lnTo>
                    <a:pt x="440" y="844"/>
                  </a:lnTo>
                  <a:lnTo>
                    <a:pt x="450" y="851"/>
                  </a:lnTo>
                  <a:lnTo>
                    <a:pt x="457" y="856"/>
                  </a:lnTo>
                  <a:lnTo>
                    <a:pt x="461" y="860"/>
                  </a:lnTo>
                  <a:lnTo>
                    <a:pt x="462" y="866"/>
                  </a:lnTo>
                  <a:lnTo>
                    <a:pt x="462" y="873"/>
                  </a:lnTo>
                  <a:lnTo>
                    <a:pt x="461" y="881"/>
                  </a:lnTo>
                  <a:lnTo>
                    <a:pt x="459" y="891"/>
                  </a:lnTo>
                  <a:lnTo>
                    <a:pt x="451" y="915"/>
                  </a:lnTo>
                  <a:lnTo>
                    <a:pt x="441" y="945"/>
                  </a:lnTo>
                  <a:lnTo>
                    <a:pt x="438" y="954"/>
                  </a:lnTo>
                  <a:lnTo>
                    <a:pt x="434" y="960"/>
                  </a:lnTo>
                  <a:lnTo>
                    <a:pt x="432" y="962"/>
                  </a:lnTo>
                  <a:lnTo>
                    <a:pt x="430" y="964"/>
                  </a:lnTo>
                  <a:lnTo>
                    <a:pt x="428" y="965"/>
                  </a:lnTo>
                  <a:lnTo>
                    <a:pt x="426" y="965"/>
                  </a:lnTo>
                  <a:lnTo>
                    <a:pt x="423" y="964"/>
                  </a:lnTo>
                  <a:lnTo>
                    <a:pt x="420" y="961"/>
                  </a:lnTo>
                  <a:lnTo>
                    <a:pt x="415" y="957"/>
                  </a:lnTo>
                  <a:lnTo>
                    <a:pt x="411" y="950"/>
                  </a:lnTo>
                  <a:lnTo>
                    <a:pt x="410" y="949"/>
                  </a:lnTo>
                  <a:lnTo>
                    <a:pt x="406" y="945"/>
                  </a:lnTo>
                  <a:lnTo>
                    <a:pt x="394" y="928"/>
                  </a:lnTo>
                  <a:lnTo>
                    <a:pt x="383" y="910"/>
                  </a:lnTo>
                  <a:lnTo>
                    <a:pt x="372" y="893"/>
                  </a:lnTo>
                  <a:lnTo>
                    <a:pt x="362" y="876"/>
                  </a:lnTo>
                  <a:lnTo>
                    <a:pt x="353" y="859"/>
                  </a:lnTo>
                  <a:lnTo>
                    <a:pt x="344" y="843"/>
                  </a:lnTo>
                  <a:lnTo>
                    <a:pt x="337" y="826"/>
                  </a:lnTo>
                  <a:lnTo>
                    <a:pt x="331" y="810"/>
                  </a:lnTo>
                  <a:lnTo>
                    <a:pt x="327" y="798"/>
                  </a:lnTo>
                  <a:lnTo>
                    <a:pt x="326" y="790"/>
                  </a:lnTo>
                  <a:lnTo>
                    <a:pt x="329" y="788"/>
                  </a:lnTo>
                  <a:lnTo>
                    <a:pt x="334" y="789"/>
                  </a:lnTo>
                  <a:lnTo>
                    <a:pt x="339" y="791"/>
                  </a:lnTo>
                  <a:lnTo>
                    <a:pt x="345" y="796"/>
                  </a:lnTo>
                  <a:close/>
                </a:path>
              </a:pathLst>
            </a:custGeom>
            <a:solidFill>
              <a:srgbClr val="d79f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d79f00"/>
                </a:solidFill>
                <a:latin typeface="Arial"/>
                <a:ea typeface="宋体"/>
              </a:endParaRPr>
            </a:p>
          </p:txBody>
        </p:sp>
        <p:sp>
          <p:nvSpPr>
            <p:cNvPr id="88" name="Freeform 14"/>
            <p:cNvSpPr/>
            <p:nvPr/>
          </p:nvSpPr>
          <p:spPr>
            <a:xfrm>
              <a:off x="2682000" y="9106200"/>
              <a:ext cx="231120" cy="195480"/>
            </a:xfrm>
            <a:custGeom>
              <a:avLst/>
              <a:gdLst>
                <a:gd name="textAreaLeft" fmla="*/ 0 w 231120"/>
                <a:gd name="textAreaRight" fmla="*/ 231480 w 231120"/>
                <a:gd name="textAreaTop" fmla="*/ 0 h 195480"/>
                <a:gd name="textAreaBottom" fmla="*/ 195840 h 195480"/>
              </a:gdLst>
              <a:ahLst/>
              <a:rect l="textAreaLeft" t="textAreaTop" r="textAreaRight" b="textAreaBottom"/>
              <a:pathLst>
                <a:path w="1185" h="1056">
                  <a:moveTo>
                    <a:pt x="695" y="800"/>
                  </a:moveTo>
                  <a:lnTo>
                    <a:pt x="687" y="792"/>
                  </a:lnTo>
                  <a:lnTo>
                    <a:pt x="674" y="781"/>
                  </a:lnTo>
                  <a:lnTo>
                    <a:pt x="659" y="766"/>
                  </a:lnTo>
                  <a:lnTo>
                    <a:pt x="647" y="754"/>
                  </a:lnTo>
                  <a:lnTo>
                    <a:pt x="643" y="749"/>
                  </a:lnTo>
                  <a:lnTo>
                    <a:pt x="638" y="744"/>
                  </a:lnTo>
                  <a:lnTo>
                    <a:pt x="636" y="739"/>
                  </a:lnTo>
                  <a:lnTo>
                    <a:pt x="634" y="735"/>
                  </a:lnTo>
                  <a:lnTo>
                    <a:pt x="639" y="714"/>
                  </a:lnTo>
                  <a:lnTo>
                    <a:pt x="644" y="693"/>
                  </a:lnTo>
                  <a:lnTo>
                    <a:pt x="648" y="670"/>
                  </a:lnTo>
                  <a:lnTo>
                    <a:pt x="651" y="648"/>
                  </a:lnTo>
                  <a:lnTo>
                    <a:pt x="653" y="626"/>
                  </a:lnTo>
                  <a:lnTo>
                    <a:pt x="655" y="603"/>
                  </a:lnTo>
                  <a:lnTo>
                    <a:pt x="656" y="578"/>
                  </a:lnTo>
                  <a:lnTo>
                    <a:pt x="656" y="554"/>
                  </a:lnTo>
                  <a:lnTo>
                    <a:pt x="656" y="528"/>
                  </a:lnTo>
                  <a:lnTo>
                    <a:pt x="655" y="503"/>
                  </a:lnTo>
                  <a:lnTo>
                    <a:pt x="653" y="478"/>
                  </a:lnTo>
                  <a:lnTo>
                    <a:pt x="651" y="451"/>
                  </a:lnTo>
                  <a:lnTo>
                    <a:pt x="648" y="423"/>
                  </a:lnTo>
                  <a:lnTo>
                    <a:pt x="644" y="396"/>
                  </a:lnTo>
                  <a:lnTo>
                    <a:pt x="639" y="368"/>
                  </a:lnTo>
                  <a:lnTo>
                    <a:pt x="634" y="340"/>
                  </a:lnTo>
                  <a:lnTo>
                    <a:pt x="655" y="347"/>
                  </a:lnTo>
                  <a:lnTo>
                    <a:pt x="677" y="355"/>
                  </a:lnTo>
                  <a:lnTo>
                    <a:pt x="700" y="362"/>
                  </a:lnTo>
                  <a:lnTo>
                    <a:pt x="724" y="369"/>
                  </a:lnTo>
                  <a:lnTo>
                    <a:pt x="731" y="369"/>
                  </a:lnTo>
                  <a:lnTo>
                    <a:pt x="739" y="369"/>
                  </a:lnTo>
                  <a:lnTo>
                    <a:pt x="753" y="366"/>
                  </a:lnTo>
                  <a:lnTo>
                    <a:pt x="764" y="365"/>
                  </a:lnTo>
                  <a:lnTo>
                    <a:pt x="775" y="341"/>
                  </a:lnTo>
                  <a:lnTo>
                    <a:pt x="785" y="316"/>
                  </a:lnTo>
                  <a:lnTo>
                    <a:pt x="792" y="294"/>
                  </a:lnTo>
                  <a:lnTo>
                    <a:pt x="798" y="273"/>
                  </a:lnTo>
                  <a:lnTo>
                    <a:pt x="803" y="253"/>
                  </a:lnTo>
                  <a:lnTo>
                    <a:pt x="807" y="234"/>
                  </a:lnTo>
                  <a:lnTo>
                    <a:pt x="809" y="217"/>
                  </a:lnTo>
                  <a:lnTo>
                    <a:pt x="810" y="200"/>
                  </a:lnTo>
                  <a:lnTo>
                    <a:pt x="764" y="206"/>
                  </a:lnTo>
                  <a:lnTo>
                    <a:pt x="723" y="213"/>
                  </a:lnTo>
                  <a:lnTo>
                    <a:pt x="686" y="217"/>
                  </a:lnTo>
                  <a:lnTo>
                    <a:pt x="654" y="220"/>
                  </a:lnTo>
                  <a:lnTo>
                    <a:pt x="647" y="218"/>
                  </a:lnTo>
                  <a:lnTo>
                    <a:pt x="638" y="215"/>
                  </a:lnTo>
                  <a:lnTo>
                    <a:pt x="630" y="209"/>
                  </a:lnTo>
                  <a:lnTo>
                    <a:pt x="620" y="203"/>
                  </a:lnTo>
                  <a:lnTo>
                    <a:pt x="611" y="196"/>
                  </a:lnTo>
                  <a:lnTo>
                    <a:pt x="601" y="187"/>
                  </a:lnTo>
                  <a:lnTo>
                    <a:pt x="591" y="177"/>
                  </a:lnTo>
                  <a:lnTo>
                    <a:pt x="579" y="165"/>
                  </a:lnTo>
                  <a:lnTo>
                    <a:pt x="605" y="161"/>
                  </a:lnTo>
                  <a:lnTo>
                    <a:pt x="637" y="155"/>
                  </a:lnTo>
                  <a:lnTo>
                    <a:pt x="679" y="148"/>
                  </a:lnTo>
                  <a:lnTo>
                    <a:pt x="728" y="138"/>
                  </a:lnTo>
                  <a:lnTo>
                    <a:pt x="786" y="127"/>
                  </a:lnTo>
                  <a:lnTo>
                    <a:pt x="850" y="113"/>
                  </a:lnTo>
                  <a:lnTo>
                    <a:pt x="923" y="97"/>
                  </a:lnTo>
                  <a:lnTo>
                    <a:pt x="1005" y="80"/>
                  </a:lnTo>
                  <a:lnTo>
                    <a:pt x="1037" y="71"/>
                  </a:lnTo>
                  <a:lnTo>
                    <a:pt x="1064" y="63"/>
                  </a:lnTo>
                  <a:lnTo>
                    <a:pt x="1088" y="58"/>
                  </a:lnTo>
                  <a:lnTo>
                    <a:pt x="1104" y="55"/>
                  </a:lnTo>
                  <a:lnTo>
                    <a:pt x="1108" y="53"/>
                  </a:lnTo>
                  <a:lnTo>
                    <a:pt x="1112" y="52"/>
                  </a:lnTo>
                  <a:lnTo>
                    <a:pt x="1115" y="50"/>
                  </a:lnTo>
                  <a:lnTo>
                    <a:pt x="1118" y="50"/>
                  </a:lnTo>
                  <a:lnTo>
                    <a:pt x="1121" y="52"/>
                  </a:lnTo>
                  <a:lnTo>
                    <a:pt x="1125" y="54"/>
                  </a:lnTo>
                  <a:lnTo>
                    <a:pt x="1127" y="56"/>
                  </a:lnTo>
                  <a:lnTo>
                    <a:pt x="1130" y="60"/>
                  </a:lnTo>
                  <a:lnTo>
                    <a:pt x="1136" y="66"/>
                  </a:lnTo>
                  <a:lnTo>
                    <a:pt x="1145" y="75"/>
                  </a:lnTo>
                  <a:lnTo>
                    <a:pt x="1150" y="79"/>
                  </a:lnTo>
                  <a:lnTo>
                    <a:pt x="1158" y="85"/>
                  </a:lnTo>
                  <a:lnTo>
                    <a:pt x="1168" y="96"/>
                  </a:lnTo>
                  <a:lnTo>
                    <a:pt x="1180" y="110"/>
                  </a:lnTo>
                  <a:lnTo>
                    <a:pt x="1183" y="118"/>
                  </a:lnTo>
                  <a:lnTo>
                    <a:pt x="1185" y="125"/>
                  </a:lnTo>
                  <a:lnTo>
                    <a:pt x="1182" y="127"/>
                  </a:lnTo>
                  <a:lnTo>
                    <a:pt x="1179" y="128"/>
                  </a:lnTo>
                  <a:lnTo>
                    <a:pt x="1174" y="129"/>
                  </a:lnTo>
                  <a:lnTo>
                    <a:pt x="1169" y="130"/>
                  </a:lnTo>
                  <a:lnTo>
                    <a:pt x="1139" y="135"/>
                  </a:lnTo>
                  <a:lnTo>
                    <a:pt x="1106" y="142"/>
                  </a:lnTo>
                  <a:lnTo>
                    <a:pt x="1068" y="148"/>
                  </a:lnTo>
                  <a:lnTo>
                    <a:pt x="1028" y="155"/>
                  </a:lnTo>
                  <a:lnTo>
                    <a:pt x="985" y="165"/>
                  </a:lnTo>
                  <a:lnTo>
                    <a:pt x="938" y="173"/>
                  </a:lnTo>
                  <a:lnTo>
                    <a:pt x="887" y="184"/>
                  </a:lnTo>
                  <a:lnTo>
                    <a:pt x="834" y="195"/>
                  </a:lnTo>
                  <a:lnTo>
                    <a:pt x="846" y="201"/>
                  </a:lnTo>
                  <a:lnTo>
                    <a:pt x="858" y="206"/>
                  </a:lnTo>
                  <a:lnTo>
                    <a:pt x="869" y="212"/>
                  </a:lnTo>
                  <a:lnTo>
                    <a:pt x="882" y="216"/>
                  </a:lnTo>
                  <a:lnTo>
                    <a:pt x="895" y="220"/>
                  </a:lnTo>
                  <a:lnTo>
                    <a:pt x="907" y="224"/>
                  </a:lnTo>
                  <a:lnTo>
                    <a:pt x="921" y="227"/>
                  </a:lnTo>
                  <a:lnTo>
                    <a:pt x="935" y="230"/>
                  </a:lnTo>
                  <a:lnTo>
                    <a:pt x="925" y="237"/>
                  </a:lnTo>
                  <a:lnTo>
                    <a:pt x="913" y="249"/>
                  </a:lnTo>
                  <a:lnTo>
                    <a:pt x="898" y="265"/>
                  </a:lnTo>
                  <a:lnTo>
                    <a:pt x="880" y="285"/>
                  </a:lnTo>
                  <a:lnTo>
                    <a:pt x="862" y="306"/>
                  </a:lnTo>
                  <a:lnTo>
                    <a:pt x="846" y="326"/>
                  </a:lnTo>
                  <a:lnTo>
                    <a:pt x="830" y="344"/>
                  </a:lnTo>
                  <a:lnTo>
                    <a:pt x="814" y="360"/>
                  </a:lnTo>
                  <a:lnTo>
                    <a:pt x="841" y="354"/>
                  </a:lnTo>
                  <a:lnTo>
                    <a:pt x="866" y="346"/>
                  </a:lnTo>
                  <a:lnTo>
                    <a:pt x="889" y="340"/>
                  </a:lnTo>
                  <a:lnTo>
                    <a:pt x="911" y="332"/>
                  </a:lnTo>
                  <a:lnTo>
                    <a:pt x="931" y="325"/>
                  </a:lnTo>
                  <a:lnTo>
                    <a:pt x="949" y="316"/>
                  </a:lnTo>
                  <a:lnTo>
                    <a:pt x="965" y="308"/>
                  </a:lnTo>
                  <a:lnTo>
                    <a:pt x="979" y="299"/>
                  </a:lnTo>
                  <a:lnTo>
                    <a:pt x="994" y="310"/>
                  </a:lnTo>
                  <a:lnTo>
                    <a:pt x="1009" y="320"/>
                  </a:lnTo>
                  <a:lnTo>
                    <a:pt x="1026" y="328"/>
                  </a:lnTo>
                  <a:lnTo>
                    <a:pt x="1043" y="336"/>
                  </a:lnTo>
                  <a:lnTo>
                    <a:pt x="1062" y="342"/>
                  </a:lnTo>
                  <a:lnTo>
                    <a:pt x="1081" y="347"/>
                  </a:lnTo>
                  <a:lnTo>
                    <a:pt x="1102" y="351"/>
                  </a:lnTo>
                  <a:lnTo>
                    <a:pt x="1125" y="355"/>
                  </a:lnTo>
                  <a:lnTo>
                    <a:pt x="1120" y="359"/>
                  </a:lnTo>
                  <a:lnTo>
                    <a:pt x="1117" y="365"/>
                  </a:lnTo>
                  <a:lnTo>
                    <a:pt x="1114" y="373"/>
                  </a:lnTo>
                  <a:lnTo>
                    <a:pt x="1112" y="382"/>
                  </a:lnTo>
                  <a:lnTo>
                    <a:pt x="1107" y="404"/>
                  </a:lnTo>
                  <a:lnTo>
                    <a:pt x="1103" y="434"/>
                  </a:lnTo>
                  <a:lnTo>
                    <a:pt x="1100" y="469"/>
                  </a:lnTo>
                  <a:lnTo>
                    <a:pt x="1099" y="509"/>
                  </a:lnTo>
                  <a:lnTo>
                    <a:pt x="1099" y="557"/>
                  </a:lnTo>
                  <a:lnTo>
                    <a:pt x="1099" y="610"/>
                  </a:lnTo>
                  <a:lnTo>
                    <a:pt x="1100" y="642"/>
                  </a:lnTo>
                  <a:lnTo>
                    <a:pt x="1101" y="670"/>
                  </a:lnTo>
                  <a:lnTo>
                    <a:pt x="1102" y="697"/>
                  </a:lnTo>
                  <a:lnTo>
                    <a:pt x="1102" y="721"/>
                  </a:lnTo>
                  <a:lnTo>
                    <a:pt x="1102" y="744"/>
                  </a:lnTo>
                  <a:lnTo>
                    <a:pt x="1101" y="763"/>
                  </a:lnTo>
                  <a:lnTo>
                    <a:pt x="1100" y="781"/>
                  </a:lnTo>
                  <a:lnTo>
                    <a:pt x="1099" y="795"/>
                  </a:lnTo>
                  <a:lnTo>
                    <a:pt x="1097" y="802"/>
                  </a:lnTo>
                  <a:lnTo>
                    <a:pt x="1095" y="807"/>
                  </a:lnTo>
                  <a:lnTo>
                    <a:pt x="1092" y="812"/>
                  </a:lnTo>
                  <a:lnTo>
                    <a:pt x="1090" y="816"/>
                  </a:lnTo>
                  <a:lnTo>
                    <a:pt x="1084" y="815"/>
                  </a:lnTo>
                  <a:lnTo>
                    <a:pt x="1078" y="811"/>
                  </a:lnTo>
                  <a:lnTo>
                    <a:pt x="1072" y="807"/>
                  </a:lnTo>
                  <a:lnTo>
                    <a:pt x="1064" y="800"/>
                  </a:lnTo>
                  <a:lnTo>
                    <a:pt x="1059" y="794"/>
                  </a:lnTo>
                  <a:lnTo>
                    <a:pt x="1050" y="786"/>
                  </a:lnTo>
                  <a:lnTo>
                    <a:pt x="1041" y="776"/>
                  </a:lnTo>
                  <a:lnTo>
                    <a:pt x="1029" y="765"/>
                  </a:lnTo>
                  <a:lnTo>
                    <a:pt x="1008" y="746"/>
                  </a:lnTo>
                  <a:lnTo>
                    <a:pt x="992" y="730"/>
                  </a:lnTo>
                  <a:lnTo>
                    <a:pt x="983" y="720"/>
                  </a:lnTo>
                  <a:lnTo>
                    <a:pt x="979" y="715"/>
                  </a:lnTo>
                  <a:lnTo>
                    <a:pt x="981" y="710"/>
                  </a:lnTo>
                  <a:lnTo>
                    <a:pt x="982" y="704"/>
                  </a:lnTo>
                  <a:lnTo>
                    <a:pt x="985" y="697"/>
                  </a:lnTo>
                  <a:lnTo>
                    <a:pt x="989" y="691"/>
                  </a:lnTo>
                  <a:lnTo>
                    <a:pt x="994" y="682"/>
                  </a:lnTo>
                  <a:lnTo>
                    <a:pt x="997" y="675"/>
                  </a:lnTo>
                  <a:lnTo>
                    <a:pt x="999" y="667"/>
                  </a:lnTo>
                  <a:lnTo>
                    <a:pt x="1000" y="660"/>
                  </a:lnTo>
                  <a:lnTo>
                    <a:pt x="1000" y="642"/>
                  </a:lnTo>
                  <a:lnTo>
                    <a:pt x="1000" y="623"/>
                  </a:lnTo>
                  <a:lnTo>
                    <a:pt x="1000" y="602"/>
                  </a:lnTo>
                  <a:lnTo>
                    <a:pt x="1000" y="580"/>
                  </a:lnTo>
                  <a:lnTo>
                    <a:pt x="1001" y="542"/>
                  </a:lnTo>
                  <a:lnTo>
                    <a:pt x="1001" y="506"/>
                  </a:lnTo>
                  <a:lnTo>
                    <a:pt x="999" y="470"/>
                  </a:lnTo>
                  <a:lnTo>
                    <a:pt x="994" y="435"/>
                  </a:lnTo>
                  <a:lnTo>
                    <a:pt x="993" y="418"/>
                  </a:lnTo>
                  <a:lnTo>
                    <a:pt x="991" y="404"/>
                  </a:lnTo>
                  <a:lnTo>
                    <a:pt x="989" y="393"/>
                  </a:lnTo>
                  <a:lnTo>
                    <a:pt x="987" y="383"/>
                  </a:lnTo>
                  <a:lnTo>
                    <a:pt x="985" y="377"/>
                  </a:lnTo>
                  <a:lnTo>
                    <a:pt x="982" y="372"/>
                  </a:lnTo>
                  <a:lnTo>
                    <a:pt x="979" y="370"/>
                  </a:lnTo>
                  <a:lnTo>
                    <a:pt x="978" y="369"/>
                  </a:lnTo>
                  <a:lnTo>
                    <a:pt x="976" y="369"/>
                  </a:lnTo>
                  <a:lnTo>
                    <a:pt x="974" y="369"/>
                  </a:lnTo>
                  <a:lnTo>
                    <a:pt x="959" y="374"/>
                  </a:lnTo>
                  <a:lnTo>
                    <a:pt x="939" y="379"/>
                  </a:lnTo>
                  <a:lnTo>
                    <a:pt x="915" y="385"/>
                  </a:lnTo>
                  <a:lnTo>
                    <a:pt x="884" y="395"/>
                  </a:lnTo>
                  <a:lnTo>
                    <a:pt x="839" y="407"/>
                  </a:lnTo>
                  <a:lnTo>
                    <a:pt x="799" y="416"/>
                  </a:lnTo>
                  <a:lnTo>
                    <a:pt x="768" y="423"/>
                  </a:lnTo>
                  <a:lnTo>
                    <a:pt x="744" y="430"/>
                  </a:lnTo>
                  <a:lnTo>
                    <a:pt x="724" y="404"/>
                  </a:lnTo>
                  <a:lnTo>
                    <a:pt x="724" y="418"/>
                  </a:lnTo>
                  <a:lnTo>
                    <a:pt x="724" y="435"/>
                  </a:lnTo>
                  <a:lnTo>
                    <a:pt x="724" y="453"/>
                  </a:lnTo>
                  <a:lnTo>
                    <a:pt x="724" y="474"/>
                  </a:lnTo>
                  <a:lnTo>
                    <a:pt x="724" y="499"/>
                  </a:lnTo>
                  <a:lnTo>
                    <a:pt x="724" y="525"/>
                  </a:lnTo>
                  <a:lnTo>
                    <a:pt x="724" y="554"/>
                  </a:lnTo>
                  <a:lnTo>
                    <a:pt x="724" y="585"/>
                  </a:lnTo>
                  <a:lnTo>
                    <a:pt x="723" y="620"/>
                  </a:lnTo>
                  <a:lnTo>
                    <a:pt x="722" y="652"/>
                  </a:lnTo>
                  <a:lnTo>
                    <a:pt x="721" y="682"/>
                  </a:lnTo>
                  <a:lnTo>
                    <a:pt x="721" y="709"/>
                  </a:lnTo>
                  <a:lnTo>
                    <a:pt x="720" y="733"/>
                  </a:lnTo>
                  <a:lnTo>
                    <a:pt x="720" y="755"/>
                  </a:lnTo>
                  <a:lnTo>
                    <a:pt x="720" y="774"/>
                  </a:lnTo>
                  <a:lnTo>
                    <a:pt x="720" y="790"/>
                  </a:lnTo>
                  <a:lnTo>
                    <a:pt x="719" y="796"/>
                  </a:lnTo>
                  <a:lnTo>
                    <a:pt x="717" y="802"/>
                  </a:lnTo>
                  <a:lnTo>
                    <a:pt x="716" y="803"/>
                  </a:lnTo>
                  <a:lnTo>
                    <a:pt x="714" y="804"/>
                  </a:lnTo>
                  <a:lnTo>
                    <a:pt x="712" y="805"/>
                  </a:lnTo>
                  <a:lnTo>
                    <a:pt x="709" y="805"/>
                  </a:lnTo>
                  <a:lnTo>
                    <a:pt x="706" y="807"/>
                  </a:lnTo>
                  <a:lnTo>
                    <a:pt x="703" y="806"/>
                  </a:lnTo>
                  <a:lnTo>
                    <a:pt x="699" y="804"/>
                  </a:lnTo>
                  <a:lnTo>
                    <a:pt x="695" y="800"/>
                  </a:lnTo>
                  <a:close/>
                  <a:moveTo>
                    <a:pt x="414" y="170"/>
                  </a:moveTo>
                  <a:lnTo>
                    <a:pt x="445" y="180"/>
                  </a:lnTo>
                  <a:lnTo>
                    <a:pt x="473" y="189"/>
                  </a:lnTo>
                  <a:lnTo>
                    <a:pt x="499" y="199"/>
                  </a:lnTo>
                  <a:lnTo>
                    <a:pt x="523" y="208"/>
                  </a:lnTo>
                  <a:lnTo>
                    <a:pt x="545" y="218"/>
                  </a:lnTo>
                  <a:lnTo>
                    <a:pt x="565" y="226"/>
                  </a:lnTo>
                  <a:lnTo>
                    <a:pt x="583" y="236"/>
                  </a:lnTo>
                  <a:lnTo>
                    <a:pt x="599" y="244"/>
                  </a:lnTo>
                  <a:lnTo>
                    <a:pt x="601" y="252"/>
                  </a:lnTo>
                  <a:lnTo>
                    <a:pt x="603" y="259"/>
                  </a:lnTo>
                  <a:lnTo>
                    <a:pt x="605" y="269"/>
                  </a:lnTo>
                  <a:lnTo>
                    <a:pt x="606" y="279"/>
                  </a:lnTo>
                  <a:lnTo>
                    <a:pt x="606" y="305"/>
                  </a:lnTo>
                  <a:lnTo>
                    <a:pt x="605" y="334"/>
                  </a:lnTo>
                  <a:lnTo>
                    <a:pt x="602" y="341"/>
                  </a:lnTo>
                  <a:lnTo>
                    <a:pt x="600" y="345"/>
                  </a:lnTo>
                  <a:lnTo>
                    <a:pt x="598" y="348"/>
                  </a:lnTo>
                  <a:lnTo>
                    <a:pt x="594" y="351"/>
                  </a:lnTo>
                  <a:lnTo>
                    <a:pt x="591" y="352"/>
                  </a:lnTo>
                  <a:lnTo>
                    <a:pt x="585" y="352"/>
                  </a:lnTo>
                  <a:lnTo>
                    <a:pt x="580" y="351"/>
                  </a:lnTo>
                  <a:lnTo>
                    <a:pt x="574" y="349"/>
                  </a:lnTo>
                  <a:lnTo>
                    <a:pt x="548" y="329"/>
                  </a:lnTo>
                  <a:lnTo>
                    <a:pt x="524" y="308"/>
                  </a:lnTo>
                  <a:lnTo>
                    <a:pt x="501" y="288"/>
                  </a:lnTo>
                  <a:lnTo>
                    <a:pt x="480" y="269"/>
                  </a:lnTo>
                  <a:lnTo>
                    <a:pt x="458" y="250"/>
                  </a:lnTo>
                  <a:lnTo>
                    <a:pt x="439" y="231"/>
                  </a:lnTo>
                  <a:lnTo>
                    <a:pt x="421" y="213"/>
                  </a:lnTo>
                  <a:lnTo>
                    <a:pt x="404" y="195"/>
                  </a:lnTo>
                  <a:lnTo>
                    <a:pt x="378" y="259"/>
                  </a:lnTo>
                  <a:lnTo>
                    <a:pt x="350" y="321"/>
                  </a:lnTo>
                  <a:lnTo>
                    <a:pt x="324" y="380"/>
                  </a:lnTo>
                  <a:lnTo>
                    <a:pt x="295" y="435"/>
                  </a:lnTo>
                  <a:lnTo>
                    <a:pt x="268" y="487"/>
                  </a:lnTo>
                  <a:lnTo>
                    <a:pt x="238" y="536"/>
                  </a:lnTo>
                  <a:lnTo>
                    <a:pt x="224" y="559"/>
                  </a:lnTo>
                  <a:lnTo>
                    <a:pt x="209" y="582"/>
                  </a:lnTo>
                  <a:lnTo>
                    <a:pt x="195" y="604"/>
                  </a:lnTo>
                  <a:lnTo>
                    <a:pt x="180" y="625"/>
                  </a:lnTo>
                  <a:lnTo>
                    <a:pt x="170" y="638"/>
                  </a:lnTo>
                  <a:lnTo>
                    <a:pt x="160" y="650"/>
                  </a:lnTo>
                  <a:lnTo>
                    <a:pt x="150" y="661"/>
                  </a:lnTo>
                  <a:lnTo>
                    <a:pt x="140" y="670"/>
                  </a:lnTo>
                  <a:lnTo>
                    <a:pt x="129" y="678"/>
                  </a:lnTo>
                  <a:lnTo>
                    <a:pt x="118" y="685"/>
                  </a:lnTo>
                  <a:lnTo>
                    <a:pt x="108" y="691"/>
                  </a:lnTo>
                  <a:lnTo>
                    <a:pt x="97" y="695"/>
                  </a:lnTo>
                  <a:lnTo>
                    <a:pt x="86" y="698"/>
                  </a:lnTo>
                  <a:lnTo>
                    <a:pt x="74" y="700"/>
                  </a:lnTo>
                  <a:lnTo>
                    <a:pt x="62" y="701"/>
                  </a:lnTo>
                  <a:lnTo>
                    <a:pt x="50" y="700"/>
                  </a:lnTo>
                  <a:lnTo>
                    <a:pt x="38" y="698"/>
                  </a:lnTo>
                  <a:lnTo>
                    <a:pt x="25" y="695"/>
                  </a:lnTo>
                  <a:lnTo>
                    <a:pt x="12" y="691"/>
                  </a:lnTo>
                  <a:lnTo>
                    <a:pt x="0" y="685"/>
                  </a:lnTo>
                  <a:lnTo>
                    <a:pt x="24" y="664"/>
                  </a:lnTo>
                  <a:lnTo>
                    <a:pt x="48" y="642"/>
                  </a:lnTo>
                  <a:lnTo>
                    <a:pt x="72" y="618"/>
                  </a:lnTo>
                  <a:lnTo>
                    <a:pt x="95" y="594"/>
                  </a:lnTo>
                  <a:lnTo>
                    <a:pt x="117" y="568"/>
                  </a:lnTo>
                  <a:lnTo>
                    <a:pt x="138" y="540"/>
                  </a:lnTo>
                  <a:lnTo>
                    <a:pt x="160" y="510"/>
                  </a:lnTo>
                  <a:lnTo>
                    <a:pt x="181" y="480"/>
                  </a:lnTo>
                  <a:lnTo>
                    <a:pt x="201" y="448"/>
                  </a:lnTo>
                  <a:lnTo>
                    <a:pt x="220" y="415"/>
                  </a:lnTo>
                  <a:lnTo>
                    <a:pt x="239" y="380"/>
                  </a:lnTo>
                  <a:lnTo>
                    <a:pt x="257" y="344"/>
                  </a:lnTo>
                  <a:lnTo>
                    <a:pt x="275" y="306"/>
                  </a:lnTo>
                  <a:lnTo>
                    <a:pt x="292" y="267"/>
                  </a:lnTo>
                  <a:lnTo>
                    <a:pt x="308" y="226"/>
                  </a:lnTo>
                  <a:lnTo>
                    <a:pt x="324" y="185"/>
                  </a:lnTo>
                  <a:lnTo>
                    <a:pt x="332" y="151"/>
                  </a:lnTo>
                  <a:lnTo>
                    <a:pt x="339" y="120"/>
                  </a:lnTo>
                  <a:lnTo>
                    <a:pt x="344" y="93"/>
                  </a:lnTo>
                  <a:lnTo>
                    <a:pt x="348" y="68"/>
                  </a:lnTo>
                  <a:lnTo>
                    <a:pt x="350" y="46"/>
                  </a:lnTo>
                  <a:lnTo>
                    <a:pt x="351" y="28"/>
                  </a:lnTo>
                  <a:lnTo>
                    <a:pt x="351" y="12"/>
                  </a:lnTo>
                  <a:lnTo>
                    <a:pt x="349" y="0"/>
                  </a:lnTo>
                  <a:lnTo>
                    <a:pt x="361" y="8"/>
                  </a:lnTo>
                  <a:lnTo>
                    <a:pt x="375" y="15"/>
                  </a:lnTo>
                  <a:lnTo>
                    <a:pt x="390" y="23"/>
                  </a:lnTo>
                  <a:lnTo>
                    <a:pt x="405" y="29"/>
                  </a:lnTo>
                  <a:lnTo>
                    <a:pt x="423" y="36"/>
                  </a:lnTo>
                  <a:lnTo>
                    <a:pt x="442" y="41"/>
                  </a:lnTo>
                  <a:lnTo>
                    <a:pt x="463" y="45"/>
                  </a:lnTo>
                  <a:lnTo>
                    <a:pt x="484" y="49"/>
                  </a:lnTo>
                  <a:lnTo>
                    <a:pt x="474" y="61"/>
                  </a:lnTo>
                  <a:lnTo>
                    <a:pt x="465" y="74"/>
                  </a:lnTo>
                  <a:lnTo>
                    <a:pt x="455" y="88"/>
                  </a:lnTo>
                  <a:lnTo>
                    <a:pt x="447" y="102"/>
                  </a:lnTo>
                  <a:lnTo>
                    <a:pt x="438" y="117"/>
                  </a:lnTo>
                  <a:lnTo>
                    <a:pt x="430" y="134"/>
                  </a:lnTo>
                  <a:lnTo>
                    <a:pt x="422" y="151"/>
                  </a:lnTo>
                  <a:lnTo>
                    <a:pt x="414" y="170"/>
                  </a:lnTo>
                  <a:close/>
                  <a:moveTo>
                    <a:pt x="799" y="460"/>
                  </a:moveTo>
                  <a:lnTo>
                    <a:pt x="818" y="467"/>
                  </a:lnTo>
                  <a:lnTo>
                    <a:pt x="838" y="472"/>
                  </a:lnTo>
                  <a:lnTo>
                    <a:pt x="855" y="478"/>
                  </a:lnTo>
                  <a:lnTo>
                    <a:pt x="870" y="481"/>
                  </a:lnTo>
                  <a:lnTo>
                    <a:pt x="886" y="484"/>
                  </a:lnTo>
                  <a:lnTo>
                    <a:pt x="900" y="485"/>
                  </a:lnTo>
                  <a:lnTo>
                    <a:pt x="913" y="486"/>
                  </a:lnTo>
                  <a:lnTo>
                    <a:pt x="924" y="485"/>
                  </a:lnTo>
                  <a:lnTo>
                    <a:pt x="919" y="497"/>
                  </a:lnTo>
                  <a:lnTo>
                    <a:pt x="915" y="509"/>
                  </a:lnTo>
                  <a:lnTo>
                    <a:pt x="911" y="522"/>
                  </a:lnTo>
                  <a:lnTo>
                    <a:pt x="906" y="536"/>
                  </a:lnTo>
                  <a:lnTo>
                    <a:pt x="900" y="567"/>
                  </a:lnTo>
                  <a:lnTo>
                    <a:pt x="895" y="599"/>
                  </a:lnTo>
                  <a:lnTo>
                    <a:pt x="891" y="635"/>
                  </a:lnTo>
                  <a:lnTo>
                    <a:pt x="884" y="669"/>
                  </a:lnTo>
                  <a:lnTo>
                    <a:pt x="878" y="703"/>
                  </a:lnTo>
                  <a:lnTo>
                    <a:pt x="870" y="734"/>
                  </a:lnTo>
                  <a:lnTo>
                    <a:pt x="862" y="765"/>
                  </a:lnTo>
                  <a:lnTo>
                    <a:pt x="851" y="793"/>
                  </a:lnTo>
                  <a:lnTo>
                    <a:pt x="841" y="821"/>
                  </a:lnTo>
                  <a:lnTo>
                    <a:pt x="828" y="847"/>
                  </a:lnTo>
                  <a:lnTo>
                    <a:pt x="814" y="873"/>
                  </a:lnTo>
                  <a:lnTo>
                    <a:pt x="800" y="896"/>
                  </a:lnTo>
                  <a:lnTo>
                    <a:pt x="785" y="918"/>
                  </a:lnTo>
                  <a:lnTo>
                    <a:pt x="768" y="940"/>
                  </a:lnTo>
                  <a:lnTo>
                    <a:pt x="750" y="960"/>
                  </a:lnTo>
                  <a:lnTo>
                    <a:pt x="731" y="978"/>
                  </a:lnTo>
                  <a:lnTo>
                    <a:pt x="710" y="995"/>
                  </a:lnTo>
                  <a:lnTo>
                    <a:pt x="689" y="1011"/>
                  </a:lnTo>
                  <a:lnTo>
                    <a:pt x="675" y="1021"/>
                  </a:lnTo>
                  <a:lnTo>
                    <a:pt x="662" y="1030"/>
                  </a:lnTo>
                  <a:lnTo>
                    <a:pt x="648" y="1038"/>
                  </a:lnTo>
                  <a:lnTo>
                    <a:pt x="634" y="1044"/>
                  </a:lnTo>
                  <a:lnTo>
                    <a:pt x="621" y="1050"/>
                  </a:lnTo>
                  <a:lnTo>
                    <a:pt x="608" y="1053"/>
                  </a:lnTo>
                  <a:lnTo>
                    <a:pt x="594" y="1055"/>
                  </a:lnTo>
                  <a:lnTo>
                    <a:pt x="580" y="1056"/>
                  </a:lnTo>
                  <a:lnTo>
                    <a:pt x="567" y="1056"/>
                  </a:lnTo>
                  <a:lnTo>
                    <a:pt x="554" y="1054"/>
                  </a:lnTo>
                  <a:lnTo>
                    <a:pt x="540" y="1051"/>
                  </a:lnTo>
                  <a:lnTo>
                    <a:pt x="527" y="1047"/>
                  </a:lnTo>
                  <a:lnTo>
                    <a:pt x="513" y="1041"/>
                  </a:lnTo>
                  <a:lnTo>
                    <a:pt x="501" y="1034"/>
                  </a:lnTo>
                  <a:lnTo>
                    <a:pt x="487" y="1025"/>
                  </a:lnTo>
                  <a:lnTo>
                    <a:pt x="474" y="1015"/>
                  </a:lnTo>
                  <a:lnTo>
                    <a:pt x="494" y="1009"/>
                  </a:lnTo>
                  <a:lnTo>
                    <a:pt x="513" y="1002"/>
                  </a:lnTo>
                  <a:lnTo>
                    <a:pt x="531" y="996"/>
                  </a:lnTo>
                  <a:lnTo>
                    <a:pt x="549" y="988"/>
                  </a:lnTo>
                  <a:lnTo>
                    <a:pt x="567" y="980"/>
                  </a:lnTo>
                  <a:lnTo>
                    <a:pt x="584" y="971"/>
                  </a:lnTo>
                  <a:lnTo>
                    <a:pt x="600" y="963"/>
                  </a:lnTo>
                  <a:lnTo>
                    <a:pt x="616" y="954"/>
                  </a:lnTo>
                  <a:lnTo>
                    <a:pt x="631" y="945"/>
                  </a:lnTo>
                  <a:lnTo>
                    <a:pt x="646" y="934"/>
                  </a:lnTo>
                  <a:lnTo>
                    <a:pt x="660" y="924"/>
                  </a:lnTo>
                  <a:lnTo>
                    <a:pt x="672" y="913"/>
                  </a:lnTo>
                  <a:lnTo>
                    <a:pt x="686" y="901"/>
                  </a:lnTo>
                  <a:lnTo>
                    <a:pt x="698" y="890"/>
                  </a:lnTo>
                  <a:lnTo>
                    <a:pt x="709" y="878"/>
                  </a:lnTo>
                  <a:lnTo>
                    <a:pt x="721" y="865"/>
                  </a:lnTo>
                  <a:lnTo>
                    <a:pt x="731" y="853"/>
                  </a:lnTo>
                  <a:lnTo>
                    <a:pt x="741" y="839"/>
                  </a:lnTo>
                  <a:lnTo>
                    <a:pt x="751" y="825"/>
                  </a:lnTo>
                  <a:lnTo>
                    <a:pt x="759" y="810"/>
                  </a:lnTo>
                  <a:lnTo>
                    <a:pt x="768" y="795"/>
                  </a:lnTo>
                  <a:lnTo>
                    <a:pt x="775" y="781"/>
                  </a:lnTo>
                  <a:lnTo>
                    <a:pt x="782" y="765"/>
                  </a:lnTo>
                  <a:lnTo>
                    <a:pt x="789" y="749"/>
                  </a:lnTo>
                  <a:lnTo>
                    <a:pt x="794" y="733"/>
                  </a:lnTo>
                  <a:lnTo>
                    <a:pt x="799" y="716"/>
                  </a:lnTo>
                  <a:lnTo>
                    <a:pt x="805" y="698"/>
                  </a:lnTo>
                  <a:lnTo>
                    <a:pt x="809" y="680"/>
                  </a:lnTo>
                  <a:lnTo>
                    <a:pt x="812" y="662"/>
                  </a:lnTo>
                  <a:lnTo>
                    <a:pt x="815" y="644"/>
                  </a:lnTo>
                  <a:lnTo>
                    <a:pt x="817" y="625"/>
                  </a:lnTo>
                  <a:lnTo>
                    <a:pt x="820" y="605"/>
                  </a:lnTo>
                  <a:lnTo>
                    <a:pt x="822" y="582"/>
                  </a:lnTo>
                  <a:lnTo>
                    <a:pt x="822" y="560"/>
                  </a:lnTo>
                  <a:lnTo>
                    <a:pt x="822" y="540"/>
                  </a:lnTo>
                  <a:lnTo>
                    <a:pt x="820" y="521"/>
                  </a:lnTo>
                  <a:lnTo>
                    <a:pt x="816" y="504"/>
                  </a:lnTo>
                  <a:lnTo>
                    <a:pt x="812" y="488"/>
                  </a:lnTo>
                  <a:lnTo>
                    <a:pt x="807" y="473"/>
                  </a:lnTo>
                  <a:lnTo>
                    <a:pt x="799" y="460"/>
                  </a:lnTo>
                  <a:close/>
                  <a:moveTo>
                    <a:pt x="294" y="760"/>
                  </a:moveTo>
                  <a:lnTo>
                    <a:pt x="297" y="763"/>
                  </a:lnTo>
                  <a:lnTo>
                    <a:pt x="302" y="765"/>
                  </a:lnTo>
                  <a:lnTo>
                    <a:pt x="307" y="768"/>
                  </a:lnTo>
                  <a:lnTo>
                    <a:pt x="314" y="770"/>
                  </a:lnTo>
                  <a:lnTo>
                    <a:pt x="321" y="773"/>
                  </a:lnTo>
                  <a:lnTo>
                    <a:pt x="332" y="778"/>
                  </a:lnTo>
                  <a:lnTo>
                    <a:pt x="346" y="786"/>
                  </a:lnTo>
                  <a:lnTo>
                    <a:pt x="364" y="795"/>
                  </a:lnTo>
                  <a:lnTo>
                    <a:pt x="379" y="769"/>
                  </a:lnTo>
                  <a:lnTo>
                    <a:pt x="393" y="745"/>
                  </a:lnTo>
                  <a:lnTo>
                    <a:pt x="405" y="720"/>
                  </a:lnTo>
                  <a:lnTo>
                    <a:pt x="418" y="696"/>
                  </a:lnTo>
                  <a:lnTo>
                    <a:pt x="430" y="674"/>
                  </a:lnTo>
                  <a:lnTo>
                    <a:pt x="440" y="651"/>
                  </a:lnTo>
                  <a:lnTo>
                    <a:pt x="450" y="630"/>
                  </a:lnTo>
                  <a:lnTo>
                    <a:pt x="459" y="610"/>
                  </a:lnTo>
                  <a:lnTo>
                    <a:pt x="434" y="616"/>
                  </a:lnTo>
                  <a:lnTo>
                    <a:pt x="410" y="624"/>
                  </a:lnTo>
                  <a:lnTo>
                    <a:pt x="384" y="631"/>
                  </a:lnTo>
                  <a:lnTo>
                    <a:pt x="360" y="640"/>
                  </a:lnTo>
                  <a:lnTo>
                    <a:pt x="334" y="649"/>
                  </a:lnTo>
                  <a:lnTo>
                    <a:pt x="309" y="659"/>
                  </a:lnTo>
                  <a:lnTo>
                    <a:pt x="285" y="669"/>
                  </a:lnTo>
                  <a:lnTo>
                    <a:pt x="259" y="680"/>
                  </a:lnTo>
                  <a:lnTo>
                    <a:pt x="244" y="666"/>
                  </a:lnTo>
                  <a:lnTo>
                    <a:pt x="229" y="651"/>
                  </a:lnTo>
                  <a:lnTo>
                    <a:pt x="212" y="634"/>
                  </a:lnTo>
                  <a:lnTo>
                    <a:pt x="195" y="615"/>
                  </a:lnTo>
                  <a:lnTo>
                    <a:pt x="235" y="610"/>
                  </a:lnTo>
                  <a:lnTo>
                    <a:pt x="273" y="605"/>
                  </a:lnTo>
                  <a:lnTo>
                    <a:pt x="309" y="596"/>
                  </a:lnTo>
                  <a:lnTo>
                    <a:pt x="344" y="588"/>
                  </a:lnTo>
                  <a:lnTo>
                    <a:pt x="361" y="582"/>
                  </a:lnTo>
                  <a:lnTo>
                    <a:pt x="377" y="577"/>
                  </a:lnTo>
                  <a:lnTo>
                    <a:pt x="393" y="571"/>
                  </a:lnTo>
                  <a:lnTo>
                    <a:pt x="408" y="564"/>
                  </a:lnTo>
                  <a:lnTo>
                    <a:pt x="422" y="558"/>
                  </a:lnTo>
                  <a:lnTo>
                    <a:pt x="437" y="551"/>
                  </a:lnTo>
                  <a:lnTo>
                    <a:pt x="451" y="543"/>
                  </a:lnTo>
                  <a:lnTo>
                    <a:pt x="465" y="535"/>
                  </a:lnTo>
                  <a:lnTo>
                    <a:pt x="480" y="550"/>
                  </a:lnTo>
                  <a:lnTo>
                    <a:pt x="495" y="563"/>
                  </a:lnTo>
                  <a:lnTo>
                    <a:pt x="512" y="576"/>
                  </a:lnTo>
                  <a:lnTo>
                    <a:pt x="529" y="588"/>
                  </a:lnTo>
                  <a:lnTo>
                    <a:pt x="547" y="598"/>
                  </a:lnTo>
                  <a:lnTo>
                    <a:pt x="565" y="608"/>
                  </a:lnTo>
                  <a:lnTo>
                    <a:pt x="584" y="617"/>
                  </a:lnTo>
                  <a:lnTo>
                    <a:pt x="605" y="625"/>
                  </a:lnTo>
                  <a:lnTo>
                    <a:pt x="576" y="648"/>
                  </a:lnTo>
                  <a:lnTo>
                    <a:pt x="547" y="670"/>
                  </a:lnTo>
                  <a:lnTo>
                    <a:pt x="520" y="694"/>
                  </a:lnTo>
                  <a:lnTo>
                    <a:pt x="493" y="717"/>
                  </a:lnTo>
                  <a:lnTo>
                    <a:pt x="467" y="741"/>
                  </a:lnTo>
                  <a:lnTo>
                    <a:pt x="440" y="766"/>
                  </a:lnTo>
                  <a:lnTo>
                    <a:pt x="415" y="790"/>
                  </a:lnTo>
                  <a:lnTo>
                    <a:pt x="390" y="816"/>
                  </a:lnTo>
                  <a:lnTo>
                    <a:pt x="413" y="827"/>
                  </a:lnTo>
                  <a:lnTo>
                    <a:pt x="434" y="840"/>
                  </a:lnTo>
                  <a:lnTo>
                    <a:pt x="453" y="853"/>
                  </a:lnTo>
                  <a:lnTo>
                    <a:pt x="469" y="865"/>
                  </a:lnTo>
                  <a:lnTo>
                    <a:pt x="471" y="870"/>
                  </a:lnTo>
                  <a:lnTo>
                    <a:pt x="472" y="876"/>
                  </a:lnTo>
                  <a:lnTo>
                    <a:pt x="472" y="884"/>
                  </a:lnTo>
                  <a:lnTo>
                    <a:pt x="472" y="895"/>
                  </a:lnTo>
                  <a:lnTo>
                    <a:pt x="470" y="908"/>
                  </a:lnTo>
                  <a:lnTo>
                    <a:pt x="468" y="922"/>
                  </a:lnTo>
                  <a:lnTo>
                    <a:pt x="464" y="937"/>
                  </a:lnTo>
                  <a:lnTo>
                    <a:pt x="459" y="955"/>
                  </a:lnTo>
                  <a:lnTo>
                    <a:pt x="457" y="961"/>
                  </a:lnTo>
                  <a:lnTo>
                    <a:pt x="455" y="965"/>
                  </a:lnTo>
                  <a:lnTo>
                    <a:pt x="452" y="968"/>
                  </a:lnTo>
                  <a:lnTo>
                    <a:pt x="448" y="970"/>
                  </a:lnTo>
                  <a:lnTo>
                    <a:pt x="444" y="971"/>
                  </a:lnTo>
                  <a:lnTo>
                    <a:pt x="438" y="970"/>
                  </a:lnTo>
                  <a:lnTo>
                    <a:pt x="432" y="968"/>
                  </a:lnTo>
                  <a:lnTo>
                    <a:pt x="424" y="965"/>
                  </a:lnTo>
                  <a:lnTo>
                    <a:pt x="405" y="946"/>
                  </a:lnTo>
                  <a:lnTo>
                    <a:pt x="387" y="926"/>
                  </a:lnTo>
                  <a:lnTo>
                    <a:pt x="368" y="905"/>
                  </a:lnTo>
                  <a:lnTo>
                    <a:pt x="350" y="881"/>
                  </a:lnTo>
                  <a:lnTo>
                    <a:pt x="332" y="858"/>
                  </a:lnTo>
                  <a:lnTo>
                    <a:pt x="314" y="833"/>
                  </a:lnTo>
                  <a:lnTo>
                    <a:pt x="296" y="807"/>
                  </a:lnTo>
                  <a:lnTo>
                    <a:pt x="279" y="781"/>
                  </a:lnTo>
                  <a:lnTo>
                    <a:pt x="275" y="773"/>
                  </a:lnTo>
                  <a:lnTo>
                    <a:pt x="273" y="768"/>
                  </a:lnTo>
                  <a:lnTo>
                    <a:pt x="273" y="764"/>
                  </a:lnTo>
                  <a:lnTo>
                    <a:pt x="274" y="760"/>
                  </a:lnTo>
                  <a:lnTo>
                    <a:pt x="277" y="758"/>
                  </a:lnTo>
                  <a:lnTo>
                    <a:pt x="281" y="757"/>
                  </a:lnTo>
                  <a:lnTo>
                    <a:pt x="288" y="758"/>
                  </a:lnTo>
                  <a:lnTo>
                    <a:pt x="294" y="760"/>
                  </a:lnTo>
                  <a:close/>
                  <a:moveTo>
                    <a:pt x="900" y="800"/>
                  </a:moveTo>
                  <a:lnTo>
                    <a:pt x="936" y="816"/>
                  </a:lnTo>
                  <a:lnTo>
                    <a:pt x="970" y="830"/>
                  </a:lnTo>
                  <a:lnTo>
                    <a:pt x="1003" y="845"/>
                  </a:lnTo>
                  <a:lnTo>
                    <a:pt x="1034" y="860"/>
                  </a:lnTo>
                  <a:lnTo>
                    <a:pt x="1061" y="875"/>
                  </a:lnTo>
                  <a:lnTo>
                    <a:pt x="1088" y="890"/>
                  </a:lnTo>
                  <a:lnTo>
                    <a:pt x="1112" y="906"/>
                  </a:lnTo>
                  <a:lnTo>
                    <a:pt x="1134" y="920"/>
                  </a:lnTo>
                  <a:lnTo>
                    <a:pt x="1138" y="927"/>
                  </a:lnTo>
                  <a:lnTo>
                    <a:pt x="1140" y="935"/>
                  </a:lnTo>
                  <a:lnTo>
                    <a:pt x="1143" y="945"/>
                  </a:lnTo>
                  <a:lnTo>
                    <a:pt x="1144" y="957"/>
                  </a:lnTo>
                  <a:lnTo>
                    <a:pt x="1144" y="969"/>
                  </a:lnTo>
                  <a:lnTo>
                    <a:pt x="1143" y="983"/>
                  </a:lnTo>
                  <a:lnTo>
                    <a:pt x="1142" y="999"/>
                  </a:lnTo>
                  <a:lnTo>
                    <a:pt x="1139" y="1015"/>
                  </a:lnTo>
                  <a:lnTo>
                    <a:pt x="1137" y="1026"/>
                  </a:lnTo>
                  <a:lnTo>
                    <a:pt x="1134" y="1035"/>
                  </a:lnTo>
                  <a:lnTo>
                    <a:pt x="1132" y="1041"/>
                  </a:lnTo>
                  <a:lnTo>
                    <a:pt x="1130" y="1046"/>
                  </a:lnTo>
                  <a:lnTo>
                    <a:pt x="1127" y="1047"/>
                  </a:lnTo>
                  <a:lnTo>
                    <a:pt x="1125" y="1047"/>
                  </a:lnTo>
                  <a:lnTo>
                    <a:pt x="1121" y="1047"/>
                  </a:lnTo>
                  <a:lnTo>
                    <a:pt x="1118" y="1046"/>
                  </a:lnTo>
                  <a:lnTo>
                    <a:pt x="1112" y="1041"/>
                  </a:lnTo>
                  <a:lnTo>
                    <a:pt x="1104" y="1035"/>
                  </a:lnTo>
                  <a:lnTo>
                    <a:pt x="1072" y="1007"/>
                  </a:lnTo>
                  <a:lnTo>
                    <a:pt x="1040" y="981"/>
                  </a:lnTo>
                  <a:lnTo>
                    <a:pt x="1010" y="954"/>
                  </a:lnTo>
                  <a:lnTo>
                    <a:pt x="982" y="928"/>
                  </a:lnTo>
                  <a:lnTo>
                    <a:pt x="955" y="901"/>
                  </a:lnTo>
                  <a:lnTo>
                    <a:pt x="930" y="876"/>
                  </a:lnTo>
                  <a:lnTo>
                    <a:pt x="906" y="851"/>
                  </a:lnTo>
                  <a:lnTo>
                    <a:pt x="884" y="825"/>
                  </a:lnTo>
                  <a:lnTo>
                    <a:pt x="878" y="818"/>
                  </a:lnTo>
                  <a:lnTo>
                    <a:pt x="875" y="811"/>
                  </a:lnTo>
                  <a:lnTo>
                    <a:pt x="874" y="808"/>
                  </a:lnTo>
                  <a:lnTo>
                    <a:pt x="874" y="805"/>
                  </a:lnTo>
                  <a:lnTo>
                    <a:pt x="874" y="803"/>
                  </a:lnTo>
                  <a:lnTo>
                    <a:pt x="875" y="800"/>
                  </a:lnTo>
                  <a:lnTo>
                    <a:pt x="876" y="798"/>
                  </a:lnTo>
                  <a:lnTo>
                    <a:pt x="878" y="796"/>
                  </a:lnTo>
                  <a:lnTo>
                    <a:pt x="880" y="795"/>
                  </a:lnTo>
                  <a:lnTo>
                    <a:pt x="883" y="795"/>
                  </a:lnTo>
                  <a:lnTo>
                    <a:pt x="891" y="796"/>
                  </a:lnTo>
                  <a:lnTo>
                    <a:pt x="900" y="800"/>
                  </a:lnTo>
                  <a:close/>
                  <a:moveTo>
                    <a:pt x="364" y="369"/>
                  </a:moveTo>
                  <a:lnTo>
                    <a:pt x="398" y="378"/>
                  </a:lnTo>
                  <a:lnTo>
                    <a:pt x="428" y="387"/>
                  </a:lnTo>
                  <a:lnTo>
                    <a:pt x="442" y="393"/>
                  </a:lnTo>
                  <a:lnTo>
                    <a:pt x="455" y="398"/>
                  </a:lnTo>
                  <a:lnTo>
                    <a:pt x="468" y="403"/>
                  </a:lnTo>
                  <a:lnTo>
                    <a:pt x="480" y="410"/>
                  </a:lnTo>
                  <a:lnTo>
                    <a:pt x="482" y="416"/>
                  </a:lnTo>
                  <a:lnTo>
                    <a:pt x="483" y="423"/>
                  </a:lnTo>
                  <a:lnTo>
                    <a:pt x="484" y="432"/>
                  </a:lnTo>
                  <a:lnTo>
                    <a:pt x="485" y="441"/>
                  </a:lnTo>
                  <a:lnTo>
                    <a:pt x="483" y="462"/>
                  </a:lnTo>
                  <a:lnTo>
                    <a:pt x="480" y="485"/>
                  </a:lnTo>
                  <a:lnTo>
                    <a:pt x="480" y="491"/>
                  </a:lnTo>
                  <a:lnTo>
                    <a:pt x="478" y="498"/>
                  </a:lnTo>
                  <a:lnTo>
                    <a:pt x="476" y="502"/>
                  </a:lnTo>
                  <a:lnTo>
                    <a:pt x="474" y="505"/>
                  </a:lnTo>
                  <a:lnTo>
                    <a:pt x="470" y="504"/>
                  </a:lnTo>
                  <a:lnTo>
                    <a:pt x="466" y="502"/>
                  </a:lnTo>
                  <a:lnTo>
                    <a:pt x="463" y="500"/>
                  </a:lnTo>
                  <a:lnTo>
                    <a:pt x="459" y="494"/>
                  </a:lnTo>
                  <a:lnTo>
                    <a:pt x="445" y="484"/>
                  </a:lnTo>
                  <a:lnTo>
                    <a:pt x="430" y="472"/>
                  </a:lnTo>
                  <a:lnTo>
                    <a:pt x="416" y="460"/>
                  </a:lnTo>
                  <a:lnTo>
                    <a:pt x="403" y="447"/>
                  </a:lnTo>
                  <a:lnTo>
                    <a:pt x="391" y="435"/>
                  </a:lnTo>
                  <a:lnTo>
                    <a:pt x="378" y="421"/>
                  </a:lnTo>
                  <a:lnTo>
                    <a:pt x="366" y="409"/>
                  </a:lnTo>
                  <a:lnTo>
                    <a:pt x="355" y="395"/>
                  </a:lnTo>
                  <a:lnTo>
                    <a:pt x="350" y="387"/>
                  </a:lnTo>
                  <a:lnTo>
                    <a:pt x="347" y="382"/>
                  </a:lnTo>
                  <a:lnTo>
                    <a:pt x="345" y="378"/>
                  </a:lnTo>
                  <a:lnTo>
                    <a:pt x="344" y="375"/>
                  </a:lnTo>
                  <a:lnTo>
                    <a:pt x="346" y="373"/>
                  </a:lnTo>
                  <a:lnTo>
                    <a:pt x="347" y="370"/>
                  </a:lnTo>
                  <a:lnTo>
                    <a:pt x="349" y="369"/>
                  </a:lnTo>
                  <a:lnTo>
                    <a:pt x="351" y="368"/>
                  </a:lnTo>
                  <a:lnTo>
                    <a:pt x="358" y="368"/>
                  </a:lnTo>
                  <a:lnTo>
                    <a:pt x="364" y="369"/>
                  </a:lnTo>
                  <a:close/>
                </a:path>
              </a:pathLst>
            </a:custGeom>
            <a:solidFill>
              <a:srgbClr val="d79f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d79f00"/>
                </a:solidFill>
                <a:latin typeface="Arial"/>
                <a:ea typeface="宋体"/>
              </a:endParaRPr>
            </a:p>
          </p:txBody>
        </p:sp>
        <p:sp>
          <p:nvSpPr>
            <p:cNvPr id="89" name="Freeform 15"/>
            <p:cNvSpPr/>
            <p:nvPr/>
          </p:nvSpPr>
          <p:spPr>
            <a:xfrm>
              <a:off x="2930040" y="9101160"/>
              <a:ext cx="232560" cy="198360"/>
            </a:xfrm>
            <a:custGeom>
              <a:avLst/>
              <a:gdLst>
                <a:gd name="textAreaLeft" fmla="*/ 0 w 232560"/>
                <a:gd name="textAreaRight" fmla="*/ 232920 w 232560"/>
                <a:gd name="textAreaTop" fmla="*/ 0 h 198360"/>
                <a:gd name="textAreaBottom" fmla="*/ 198720 h 198360"/>
              </a:gdLst>
              <a:ahLst/>
              <a:rect l="textAreaLeft" t="textAreaTop" r="textAreaRight" b="textAreaBottom"/>
              <a:pathLst>
                <a:path w="1196" h="1066">
                  <a:moveTo>
                    <a:pt x="146" y="1066"/>
                  </a:moveTo>
                  <a:lnTo>
                    <a:pt x="137" y="1060"/>
                  </a:lnTo>
                  <a:lnTo>
                    <a:pt x="129" y="1051"/>
                  </a:lnTo>
                  <a:lnTo>
                    <a:pt x="118" y="1040"/>
                  </a:lnTo>
                  <a:lnTo>
                    <a:pt x="105" y="1026"/>
                  </a:lnTo>
                  <a:lnTo>
                    <a:pt x="94" y="1017"/>
                  </a:lnTo>
                  <a:lnTo>
                    <a:pt x="84" y="1010"/>
                  </a:lnTo>
                  <a:lnTo>
                    <a:pt x="77" y="1005"/>
                  </a:lnTo>
                  <a:lnTo>
                    <a:pt x="70" y="1002"/>
                  </a:lnTo>
                  <a:lnTo>
                    <a:pt x="101" y="999"/>
                  </a:lnTo>
                  <a:lnTo>
                    <a:pt x="131" y="998"/>
                  </a:lnTo>
                  <a:lnTo>
                    <a:pt x="160" y="996"/>
                  </a:lnTo>
                  <a:lnTo>
                    <a:pt x="189" y="994"/>
                  </a:lnTo>
                  <a:lnTo>
                    <a:pt x="219" y="991"/>
                  </a:lnTo>
                  <a:lnTo>
                    <a:pt x="248" y="988"/>
                  </a:lnTo>
                  <a:lnTo>
                    <a:pt x="277" y="985"/>
                  </a:lnTo>
                  <a:lnTo>
                    <a:pt x="305" y="981"/>
                  </a:lnTo>
                  <a:lnTo>
                    <a:pt x="305" y="959"/>
                  </a:lnTo>
                  <a:lnTo>
                    <a:pt x="305" y="936"/>
                  </a:lnTo>
                  <a:lnTo>
                    <a:pt x="304" y="914"/>
                  </a:lnTo>
                  <a:lnTo>
                    <a:pt x="303" y="891"/>
                  </a:lnTo>
                  <a:lnTo>
                    <a:pt x="302" y="869"/>
                  </a:lnTo>
                  <a:lnTo>
                    <a:pt x="300" y="846"/>
                  </a:lnTo>
                  <a:lnTo>
                    <a:pt x="298" y="824"/>
                  </a:lnTo>
                  <a:lnTo>
                    <a:pt x="296" y="801"/>
                  </a:lnTo>
                  <a:lnTo>
                    <a:pt x="293" y="777"/>
                  </a:lnTo>
                  <a:lnTo>
                    <a:pt x="290" y="754"/>
                  </a:lnTo>
                  <a:lnTo>
                    <a:pt x="285" y="731"/>
                  </a:lnTo>
                  <a:lnTo>
                    <a:pt x="281" y="711"/>
                  </a:lnTo>
                  <a:lnTo>
                    <a:pt x="276" y="692"/>
                  </a:lnTo>
                  <a:lnTo>
                    <a:pt x="269" y="673"/>
                  </a:lnTo>
                  <a:lnTo>
                    <a:pt x="263" y="656"/>
                  </a:lnTo>
                  <a:lnTo>
                    <a:pt x="256" y="641"/>
                  </a:lnTo>
                  <a:lnTo>
                    <a:pt x="273" y="647"/>
                  </a:lnTo>
                  <a:lnTo>
                    <a:pt x="290" y="652"/>
                  </a:lnTo>
                  <a:lnTo>
                    <a:pt x="307" y="656"/>
                  </a:lnTo>
                  <a:lnTo>
                    <a:pt x="325" y="659"/>
                  </a:lnTo>
                  <a:lnTo>
                    <a:pt x="343" y="662"/>
                  </a:lnTo>
                  <a:lnTo>
                    <a:pt x="362" y="665"/>
                  </a:lnTo>
                  <a:lnTo>
                    <a:pt x="381" y="666"/>
                  </a:lnTo>
                  <a:lnTo>
                    <a:pt x="401" y="666"/>
                  </a:lnTo>
                  <a:lnTo>
                    <a:pt x="397" y="676"/>
                  </a:lnTo>
                  <a:lnTo>
                    <a:pt x="392" y="689"/>
                  </a:lnTo>
                  <a:lnTo>
                    <a:pt x="388" y="702"/>
                  </a:lnTo>
                  <a:lnTo>
                    <a:pt x="386" y="717"/>
                  </a:lnTo>
                  <a:lnTo>
                    <a:pt x="384" y="731"/>
                  </a:lnTo>
                  <a:lnTo>
                    <a:pt x="382" y="748"/>
                  </a:lnTo>
                  <a:lnTo>
                    <a:pt x="381" y="766"/>
                  </a:lnTo>
                  <a:lnTo>
                    <a:pt x="381" y="786"/>
                  </a:lnTo>
                  <a:lnTo>
                    <a:pt x="381" y="798"/>
                  </a:lnTo>
                  <a:lnTo>
                    <a:pt x="381" y="815"/>
                  </a:lnTo>
                  <a:lnTo>
                    <a:pt x="381" y="836"/>
                  </a:lnTo>
                  <a:lnTo>
                    <a:pt x="381" y="862"/>
                  </a:lnTo>
                  <a:lnTo>
                    <a:pt x="383" y="897"/>
                  </a:lnTo>
                  <a:lnTo>
                    <a:pt x="385" y="927"/>
                  </a:lnTo>
                  <a:lnTo>
                    <a:pt x="385" y="954"/>
                  </a:lnTo>
                  <a:lnTo>
                    <a:pt x="386" y="976"/>
                  </a:lnTo>
                  <a:lnTo>
                    <a:pt x="411" y="971"/>
                  </a:lnTo>
                  <a:lnTo>
                    <a:pt x="443" y="967"/>
                  </a:lnTo>
                  <a:lnTo>
                    <a:pt x="481" y="961"/>
                  </a:lnTo>
                  <a:lnTo>
                    <a:pt x="526" y="956"/>
                  </a:lnTo>
                  <a:lnTo>
                    <a:pt x="534" y="956"/>
                  </a:lnTo>
                  <a:lnTo>
                    <a:pt x="541" y="956"/>
                  </a:lnTo>
                  <a:lnTo>
                    <a:pt x="542" y="931"/>
                  </a:lnTo>
                  <a:lnTo>
                    <a:pt x="543" y="902"/>
                  </a:lnTo>
                  <a:lnTo>
                    <a:pt x="544" y="869"/>
                  </a:lnTo>
                  <a:lnTo>
                    <a:pt x="545" y="833"/>
                  </a:lnTo>
                  <a:lnTo>
                    <a:pt x="545" y="794"/>
                  </a:lnTo>
                  <a:lnTo>
                    <a:pt x="546" y="751"/>
                  </a:lnTo>
                  <a:lnTo>
                    <a:pt x="546" y="706"/>
                  </a:lnTo>
                  <a:lnTo>
                    <a:pt x="546" y="656"/>
                  </a:lnTo>
                  <a:lnTo>
                    <a:pt x="544" y="618"/>
                  </a:lnTo>
                  <a:lnTo>
                    <a:pt x="542" y="582"/>
                  </a:lnTo>
                  <a:lnTo>
                    <a:pt x="538" y="549"/>
                  </a:lnTo>
                  <a:lnTo>
                    <a:pt x="534" y="519"/>
                  </a:lnTo>
                  <a:lnTo>
                    <a:pt x="530" y="493"/>
                  </a:lnTo>
                  <a:lnTo>
                    <a:pt x="524" y="470"/>
                  </a:lnTo>
                  <a:lnTo>
                    <a:pt x="517" y="448"/>
                  </a:lnTo>
                  <a:lnTo>
                    <a:pt x="511" y="430"/>
                  </a:lnTo>
                  <a:lnTo>
                    <a:pt x="525" y="436"/>
                  </a:lnTo>
                  <a:lnTo>
                    <a:pt x="541" y="440"/>
                  </a:lnTo>
                  <a:lnTo>
                    <a:pt x="556" y="443"/>
                  </a:lnTo>
                  <a:lnTo>
                    <a:pt x="574" y="446"/>
                  </a:lnTo>
                  <a:lnTo>
                    <a:pt x="594" y="448"/>
                  </a:lnTo>
                  <a:lnTo>
                    <a:pt x="613" y="449"/>
                  </a:lnTo>
                  <a:lnTo>
                    <a:pt x="634" y="451"/>
                  </a:lnTo>
                  <a:lnTo>
                    <a:pt x="656" y="451"/>
                  </a:lnTo>
                  <a:lnTo>
                    <a:pt x="652" y="463"/>
                  </a:lnTo>
                  <a:lnTo>
                    <a:pt x="649" y="477"/>
                  </a:lnTo>
                  <a:lnTo>
                    <a:pt x="645" y="493"/>
                  </a:lnTo>
                  <a:lnTo>
                    <a:pt x="643" y="511"/>
                  </a:lnTo>
                  <a:lnTo>
                    <a:pt x="639" y="552"/>
                  </a:lnTo>
                  <a:lnTo>
                    <a:pt x="636" y="601"/>
                  </a:lnTo>
                  <a:lnTo>
                    <a:pt x="634" y="612"/>
                  </a:lnTo>
                  <a:lnTo>
                    <a:pt x="632" y="622"/>
                  </a:lnTo>
                  <a:lnTo>
                    <a:pt x="631" y="634"/>
                  </a:lnTo>
                  <a:lnTo>
                    <a:pt x="631" y="646"/>
                  </a:lnTo>
                  <a:lnTo>
                    <a:pt x="643" y="644"/>
                  </a:lnTo>
                  <a:lnTo>
                    <a:pt x="660" y="641"/>
                  </a:lnTo>
                  <a:lnTo>
                    <a:pt x="707" y="632"/>
                  </a:lnTo>
                  <a:lnTo>
                    <a:pt x="747" y="622"/>
                  </a:lnTo>
                  <a:lnTo>
                    <a:pt x="780" y="614"/>
                  </a:lnTo>
                  <a:lnTo>
                    <a:pt x="805" y="606"/>
                  </a:lnTo>
                  <a:lnTo>
                    <a:pt x="816" y="614"/>
                  </a:lnTo>
                  <a:lnTo>
                    <a:pt x="824" y="622"/>
                  </a:lnTo>
                  <a:lnTo>
                    <a:pt x="834" y="632"/>
                  </a:lnTo>
                  <a:lnTo>
                    <a:pt x="842" y="641"/>
                  </a:lnTo>
                  <a:lnTo>
                    <a:pt x="850" y="651"/>
                  </a:lnTo>
                  <a:lnTo>
                    <a:pt x="857" y="662"/>
                  </a:lnTo>
                  <a:lnTo>
                    <a:pt x="865" y="674"/>
                  </a:lnTo>
                  <a:lnTo>
                    <a:pt x="871" y="686"/>
                  </a:lnTo>
                  <a:lnTo>
                    <a:pt x="846" y="689"/>
                  </a:lnTo>
                  <a:lnTo>
                    <a:pt x="815" y="692"/>
                  </a:lnTo>
                  <a:lnTo>
                    <a:pt x="778" y="696"/>
                  </a:lnTo>
                  <a:lnTo>
                    <a:pt x="735" y="701"/>
                  </a:lnTo>
                  <a:lnTo>
                    <a:pt x="705" y="704"/>
                  </a:lnTo>
                  <a:lnTo>
                    <a:pt x="677" y="706"/>
                  </a:lnTo>
                  <a:lnTo>
                    <a:pt x="653" y="708"/>
                  </a:lnTo>
                  <a:lnTo>
                    <a:pt x="631" y="711"/>
                  </a:lnTo>
                  <a:lnTo>
                    <a:pt x="630" y="743"/>
                  </a:lnTo>
                  <a:lnTo>
                    <a:pt x="629" y="775"/>
                  </a:lnTo>
                  <a:lnTo>
                    <a:pt x="627" y="806"/>
                  </a:lnTo>
                  <a:lnTo>
                    <a:pt x="627" y="835"/>
                  </a:lnTo>
                  <a:lnTo>
                    <a:pt x="626" y="864"/>
                  </a:lnTo>
                  <a:lnTo>
                    <a:pt x="626" y="892"/>
                  </a:lnTo>
                  <a:lnTo>
                    <a:pt x="625" y="920"/>
                  </a:lnTo>
                  <a:lnTo>
                    <a:pt x="625" y="946"/>
                  </a:lnTo>
                  <a:lnTo>
                    <a:pt x="640" y="943"/>
                  </a:lnTo>
                  <a:lnTo>
                    <a:pt x="658" y="941"/>
                  </a:lnTo>
                  <a:lnTo>
                    <a:pt x="680" y="939"/>
                  </a:lnTo>
                  <a:lnTo>
                    <a:pt x="706" y="936"/>
                  </a:lnTo>
                  <a:lnTo>
                    <a:pt x="744" y="933"/>
                  </a:lnTo>
                  <a:lnTo>
                    <a:pt x="780" y="930"/>
                  </a:lnTo>
                  <a:lnTo>
                    <a:pt x="814" y="926"/>
                  </a:lnTo>
                  <a:lnTo>
                    <a:pt x="846" y="923"/>
                  </a:lnTo>
                  <a:lnTo>
                    <a:pt x="876" y="921"/>
                  </a:lnTo>
                  <a:lnTo>
                    <a:pt x="905" y="919"/>
                  </a:lnTo>
                  <a:lnTo>
                    <a:pt x="931" y="918"/>
                  </a:lnTo>
                  <a:lnTo>
                    <a:pt x="956" y="916"/>
                  </a:lnTo>
                  <a:lnTo>
                    <a:pt x="962" y="916"/>
                  </a:lnTo>
                  <a:lnTo>
                    <a:pt x="967" y="916"/>
                  </a:lnTo>
                  <a:lnTo>
                    <a:pt x="973" y="916"/>
                  </a:lnTo>
                  <a:lnTo>
                    <a:pt x="978" y="918"/>
                  </a:lnTo>
                  <a:lnTo>
                    <a:pt x="983" y="920"/>
                  </a:lnTo>
                  <a:lnTo>
                    <a:pt x="988" y="923"/>
                  </a:lnTo>
                  <a:lnTo>
                    <a:pt x="992" y="926"/>
                  </a:lnTo>
                  <a:lnTo>
                    <a:pt x="996" y="932"/>
                  </a:lnTo>
                  <a:lnTo>
                    <a:pt x="999" y="935"/>
                  </a:lnTo>
                  <a:lnTo>
                    <a:pt x="1005" y="942"/>
                  </a:lnTo>
                  <a:lnTo>
                    <a:pt x="1012" y="953"/>
                  </a:lnTo>
                  <a:lnTo>
                    <a:pt x="1020" y="967"/>
                  </a:lnTo>
                  <a:lnTo>
                    <a:pt x="1033" y="984"/>
                  </a:lnTo>
                  <a:lnTo>
                    <a:pt x="1041" y="996"/>
                  </a:lnTo>
                  <a:lnTo>
                    <a:pt x="1045" y="998"/>
                  </a:lnTo>
                  <a:lnTo>
                    <a:pt x="1047" y="1001"/>
                  </a:lnTo>
                  <a:lnTo>
                    <a:pt x="1048" y="1001"/>
                  </a:lnTo>
                  <a:lnTo>
                    <a:pt x="1046" y="1002"/>
                  </a:lnTo>
                  <a:lnTo>
                    <a:pt x="1043" y="1004"/>
                  </a:lnTo>
                  <a:lnTo>
                    <a:pt x="1037" y="1005"/>
                  </a:lnTo>
                  <a:lnTo>
                    <a:pt x="1030" y="1006"/>
                  </a:lnTo>
                  <a:lnTo>
                    <a:pt x="1020" y="1006"/>
                  </a:lnTo>
                  <a:lnTo>
                    <a:pt x="971" y="1005"/>
                  </a:lnTo>
                  <a:lnTo>
                    <a:pt x="920" y="1005"/>
                  </a:lnTo>
                  <a:lnTo>
                    <a:pt x="868" y="1005"/>
                  </a:lnTo>
                  <a:lnTo>
                    <a:pt x="816" y="1006"/>
                  </a:lnTo>
                  <a:lnTo>
                    <a:pt x="763" y="1008"/>
                  </a:lnTo>
                  <a:lnTo>
                    <a:pt x="710" y="1010"/>
                  </a:lnTo>
                  <a:lnTo>
                    <a:pt x="656" y="1013"/>
                  </a:lnTo>
                  <a:lnTo>
                    <a:pt x="602" y="1016"/>
                  </a:lnTo>
                  <a:lnTo>
                    <a:pt x="547" y="1021"/>
                  </a:lnTo>
                  <a:lnTo>
                    <a:pt x="492" y="1025"/>
                  </a:lnTo>
                  <a:lnTo>
                    <a:pt x="436" y="1030"/>
                  </a:lnTo>
                  <a:lnTo>
                    <a:pt x="379" y="1037"/>
                  </a:lnTo>
                  <a:lnTo>
                    <a:pt x="321" y="1043"/>
                  </a:lnTo>
                  <a:lnTo>
                    <a:pt x="263" y="1050"/>
                  </a:lnTo>
                  <a:lnTo>
                    <a:pt x="205" y="1058"/>
                  </a:lnTo>
                  <a:lnTo>
                    <a:pt x="146" y="1066"/>
                  </a:lnTo>
                  <a:close/>
                  <a:moveTo>
                    <a:pt x="500" y="0"/>
                  </a:moveTo>
                  <a:lnTo>
                    <a:pt x="515" y="11"/>
                  </a:lnTo>
                  <a:lnTo>
                    <a:pt x="530" y="21"/>
                  </a:lnTo>
                  <a:lnTo>
                    <a:pt x="545" y="30"/>
                  </a:lnTo>
                  <a:lnTo>
                    <a:pt x="560" y="38"/>
                  </a:lnTo>
                  <a:lnTo>
                    <a:pt x="573" y="45"/>
                  </a:lnTo>
                  <a:lnTo>
                    <a:pt x="588" y="51"/>
                  </a:lnTo>
                  <a:lnTo>
                    <a:pt x="602" y="56"/>
                  </a:lnTo>
                  <a:lnTo>
                    <a:pt x="616" y="61"/>
                  </a:lnTo>
                  <a:lnTo>
                    <a:pt x="597" y="81"/>
                  </a:lnTo>
                  <a:lnTo>
                    <a:pt x="581" y="101"/>
                  </a:lnTo>
                  <a:lnTo>
                    <a:pt x="567" y="121"/>
                  </a:lnTo>
                  <a:lnTo>
                    <a:pt x="555" y="141"/>
                  </a:lnTo>
                  <a:lnTo>
                    <a:pt x="583" y="161"/>
                  </a:lnTo>
                  <a:lnTo>
                    <a:pt x="616" y="188"/>
                  </a:lnTo>
                  <a:lnTo>
                    <a:pt x="653" y="222"/>
                  </a:lnTo>
                  <a:lnTo>
                    <a:pt x="696" y="261"/>
                  </a:lnTo>
                  <a:lnTo>
                    <a:pt x="734" y="297"/>
                  </a:lnTo>
                  <a:lnTo>
                    <a:pt x="771" y="329"/>
                  </a:lnTo>
                  <a:lnTo>
                    <a:pt x="805" y="357"/>
                  </a:lnTo>
                  <a:lnTo>
                    <a:pt x="837" y="382"/>
                  </a:lnTo>
                  <a:lnTo>
                    <a:pt x="867" y="403"/>
                  </a:lnTo>
                  <a:lnTo>
                    <a:pt x="893" y="421"/>
                  </a:lnTo>
                  <a:lnTo>
                    <a:pt x="906" y="428"/>
                  </a:lnTo>
                  <a:lnTo>
                    <a:pt x="919" y="436"/>
                  </a:lnTo>
                  <a:lnTo>
                    <a:pt x="930" y="441"/>
                  </a:lnTo>
                  <a:lnTo>
                    <a:pt x="941" y="445"/>
                  </a:lnTo>
                  <a:lnTo>
                    <a:pt x="973" y="458"/>
                  </a:lnTo>
                  <a:lnTo>
                    <a:pt x="1003" y="472"/>
                  </a:lnTo>
                  <a:lnTo>
                    <a:pt x="1033" y="484"/>
                  </a:lnTo>
                  <a:lnTo>
                    <a:pt x="1061" y="498"/>
                  </a:lnTo>
                  <a:lnTo>
                    <a:pt x="1088" y="512"/>
                  </a:lnTo>
                  <a:lnTo>
                    <a:pt x="1114" y="527"/>
                  </a:lnTo>
                  <a:lnTo>
                    <a:pt x="1138" y="541"/>
                  </a:lnTo>
                  <a:lnTo>
                    <a:pt x="1161" y="555"/>
                  </a:lnTo>
                  <a:lnTo>
                    <a:pt x="1176" y="566"/>
                  </a:lnTo>
                  <a:lnTo>
                    <a:pt x="1187" y="575"/>
                  </a:lnTo>
                  <a:lnTo>
                    <a:pt x="1191" y="579"/>
                  </a:lnTo>
                  <a:lnTo>
                    <a:pt x="1194" y="583"/>
                  </a:lnTo>
                  <a:lnTo>
                    <a:pt x="1195" y="587"/>
                  </a:lnTo>
                  <a:lnTo>
                    <a:pt x="1196" y="590"/>
                  </a:lnTo>
                  <a:lnTo>
                    <a:pt x="1195" y="595"/>
                  </a:lnTo>
                  <a:lnTo>
                    <a:pt x="1193" y="598"/>
                  </a:lnTo>
                  <a:lnTo>
                    <a:pt x="1190" y="600"/>
                  </a:lnTo>
                  <a:lnTo>
                    <a:pt x="1186" y="602"/>
                  </a:lnTo>
                  <a:lnTo>
                    <a:pt x="1180" y="604"/>
                  </a:lnTo>
                  <a:lnTo>
                    <a:pt x="1174" y="605"/>
                  </a:lnTo>
                  <a:lnTo>
                    <a:pt x="1166" y="605"/>
                  </a:lnTo>
                  <a:lnTo>
                    <a:pt x="1156" y="606"/>
                  </a:lnTo>
                  <a:lnTo>
                    <a:pt x="1108" y="605"/>
                  </a:lnTo>
                  <a:lnTo>
                    <a:pt x="1066" y="604"/>
                  </a:lnTo>
                  <a:lnTo>
                    <a:pt x="1029" y="602"/>
                  </a:lnTo>
                  <a:lnTo>
                    <a:pt x="997" y="599"/>
                  </a:lnTo>
                  <a:lnTo>
                    <a:pt x="971" y="595"/>
                  </a:lnTo>
                  <a:lnTo>
                    <a:pt x="948" y="589"/>
                  </a:lnTo>
                  <a:lnTo>
                    <a:pt x="940" y="586"/>
                  </a:lnTo>
                  <a:lnTo>
                    <a:pt x="932" y="583"/>
                  </a:lnTo>
                  <a:lnTo>
                    <a:pt x="926" y="580"/>
                  </a:lnTo>
                  <a:lnTo>
                    <a:pt x="921" y="576"/>
                  </a:lnTo>
                  <a:lnTo>
                    <a:pt x="903" y="563"/>
                  </a:lnTo>
                  <a:lnTo>
                    <a:pt x="882" y="545"/>
                  </a:lnTo>
                  <a:lnTo>
                    <a:pt x="856" y="522"/>
                  </a:lnTo>
                  <a:lnTo>
                    <a:pt x="829" y="495"/>
                  </a:lnTo>
                  <a:lnTo>
                    <a:pt x="797" y="463"/>
                  </a:lnTo>
                  <a:lnTo>
                    <a:pt x="761" y="427"/>
                  </a:lnTo>
                  <a:lnTo>
                    <a:pt x="723" y="386"/>
                  </a:lnTo>
                  <a:lnTo>
                    <a:pt x="680" y="340"/>
                  </a:lnTo>
                  <a:lnTo>
                    <a:pt x="633" y="288"/>
                  </a:lnTo>
                  <a:lnTo>
                    <a:pt x="592" y="246"/>
                  </a:lnTo>
                  <a:lnTo>
                    <a:pt x="560" y="213"/>
                  </a:lnTo>
                  <a:lnTo>
                    <a:pt x="536" y="191"/>
                  </a:lnTo>
                  <a:lnTo>
                    <a:pt x="518" y="223"/>
                  </a:lnTo>
                  <a:lnTo>
                    <a:pt x="501" y="254"/>
                  </a:lnTo>
                  <a:lnTo>
                    <a:pt x="484" y="284"/>
                  </a:lnTo>
                  <a:lnTo>
                    <a:pt x="466" y="314"/>
                  </a:lnTo>
                  <a:lnTo>
                    <a:pt x="448" y="343"/>
                  </a:lnTo>
                  <a:lnTo>
                    <a:pt x="429" y="371"/>
                  </a:lnTo>
                  <a:lnTo>
                    <a:pt x="411" y="399"/>
                  </a:lnTo>
                  <a:lnTo>
                    <a:pt x="392" y="425"/>
                  </a:lnTo>
                  <a:lnTo>
                    <a:pt x="373" y="451"/>
                  </a:lnTo>
                  <a:lnTo>
                    <a:pt x="353" y="475"/>
                  </a:lnTo>
                  <a:lnTo>
                    <a:pt x="334" y="498"/>
                  </a:lnTo>
                  <a:lnTo>
                    <a:pt x="314" y="522"/>
                  </a:lnTo>
                  <a:lnTo>
                    <a:pt x="293" y="544"/>
                  </a:lnTo>
                  <a:lnTo>
                    <a:pt x="273" y="565"/>
                  </a:lnTo>
                  <a:lnTo>
                    <a:pt x="251" y="586"/>
                  </a:lnTo>
                  <a:lnTo>
                    <a:pt x="230" y="606"/>
                  </a:lnTo>
                  <a:lnTo>
                    <a:pt x="218" y="617"/>
                  </a:lnTo>
                  <a:lnTo>
                    <a:pt x="205" y="626"/>
                  </a:lnTo>
                  <a:lnTo>
                    <a:pt x="192" y="635"/>
                  </a:lnTo>
                  <a:lnTo>
                    <a:pt x="178" y="642"/>
                  </a:lnTo>
                  <a:lnTo>
                    <a:pt x="166" y="648"/>
                  </a:lnTo>
                  <a:lnTo>
                    <a:pt x="152" y="653"/>
                  </a:lnTo>
                  <a:lnTo>
                    <a:pt x="137" y="657"/>
                  </a:lnTo>
                  <a:lnTo>
                    <a:pt x="123" y="659"/>
                  </a:lnTo>
                  <a:lnTo>
                    <a:pt x="108" y="661"/>
                  </a:lnTo>
                  <a:lnTo>
                    <a:pt x="94" y="661"/>
                  </a:lnTo>
                  <a:lnTo>
                    <a:pt x="79" y="661"/>
                  </a:lnTo>
                  <a:lnTo>
                    <a:pt x="64" y="659"/>
                  </a:lnTo>
                  <a:lnTo>
                    <a:pt x="48" y="656"/>
                  </a:lnTo>
                  <a:lnTo>
                    <a:pt x="32" y="652"/>
                  </a:lnTo>
                  <a:lnTo>
                    <a:pt x="16" y="648"/>
                  </a:lnTo>
                  <a:lnTo>
                    <a:pt x="0" y="641"/>
                  </a:lnTo>
                  <a:lnTo>
                    <a:pt x="33" y="624"/>
                  </a:lnTo>
                  <a:lnTo>
                    <a:pt x="65" y="605"/>
                  </a:lnTo>
                  <a:lnTo>
                    <a:pt x="97" y="586"/>
                  </a:lnTo>
                  <a:lnTo>
                    <a:pt x="128" y="565"/>
                  </a:lnTo>
                  <a:lnTo>
                    <a:pt x="157" y="542"/>
                  </a:lnTo>
                  <a:lnTo>
                    <a:pt x="187" y="518"/>
                  </a:lnTo>
                  <a:lnTo>
                    <a:pt x="215" y="493"/>
                  </a:lnTo>
                  <a:lnTo>
                    <a:pt x="243" y="465"/>
                  </a:lnTo>
                  <a:lnTo>
                    <a:pt x="270" y="438"/>
                  </a:lnTo>
                  <a:lnTo>
                    <a:pt x="297" y="408"/>
                  </a:lnTo>
                  <a:lnTo>
                    <a:pt x="322" y="377"/>
                  </a:lnTo>
                  <a:lnTo>
                    <a:pt x="348" y="345"/>
                  </a:lnTo>
                  <a:lnTo>
                    <a:pt x="372" y="311"/>
                  </a:lnTo>
                  <a:lnTo>
                    <a:pt x="395" y="276"/>
                  </a:lnTo>
                  <a:lnTo>
                    <a:pt x="419" y="239"/>
                  </a:lnTo>
                  <a:lnTo>
                    <a:pt x="441" y="200"/>
                  </a:lnTo>
                  <a:lnTo>
                    <a:pt x="455" y="171"/>
                  </a:lnTo>
                  <a:lnTo>
                    <a:pt x="466" y="143"/>
                  </a:lnTo>
                  <a:lnTo>
                    <a:pt x="477" y="116"/>
                  </a:lnTo>
                  <a:lnTo>
                    <a:pt x="486" y="90"/>
                  </a:lnTo>
                  <a:lnTo>
                    <a:pt x="492" y="66"/>
                  </a:lnTo>
                  <a:lnTo>
                    <a:pt x="497" y="43"/>
                  </a:lnTo>
                  <a:lnTo>
                    <a:pt x="499" y="21"/>
                  </a:lnTo>
                  <a:lnTo>
                    <a:pt x="500" y="0"/>
                  </a:lnTo>
                  <a:close/>
                </a:path>
              </a:pathLst>
            </a:custGeom>
            <a:solidFill>
              <a:srgbClr val="d79f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d79f00"/>
                </a:solidFill>
                <a:latin typeface="Arial"/>
                <a:ea typeface="宋体"/>
              </a:endParaRPr>
            </a:p>
          </p:txBody>
        </p:sp>
        <p:sp>
          <p:nvSpPr>
            <p:cNvPr id="90" name="Freeform 16"/>
            <p:cNvSpPr/>
            <p:nvPr/>
          </p:nvSpPr>
          <p:spPr>
            <a:xfrm>
              <a:off x="3173760" y="9111240"/>
              <a:ext cx="216000" cy="176040"/>
            </a:xfrm>
            <a:custGeom>
              <a:avLst/>
              <a:gdLst>
                <a:gd name="textAreaLeft" fmla="*/ 0 w 216000"/>
                <a:gd name="textAreaRight" fmla="*/ 216360 w 216000"/>
                <a:gd name="textAreaTop" fmla="*/ 0 h 176040"/>
                <a:gd name="textAreaBottom" fmla="*/ 176400 h 176040"/>
              </a:gdLst>
              <a:ahLst/>
              <a:rect l="textAreaLeft" t="textAreaTop" r="textAreaRight" b="textAreaBottom"/>
              <a:pathLst>
                <a:path w="1104" h="947">
                  <a:moveTo>
                    <a:pt x="708" y="35"/>
                  </a:moveTo>
                  <a:lnTo>
                    <a:pt x="701" y="55"/>
                  </a:lnTo>
                  <a:lnTo>
                    <a:pt x="696" y="79"/>
                  </a:lnTo>
                  <a:lnTo>
                    <a:pt x="691" y="104"/>
                  </a:lnTo>
                  <a:lnTo>
                    <a:pt x="688" y="133"/>
                  </a:lnTo>
                  <a:lnTo>
                    <a:pt x="683" y="165"/>
                  </a:lnTo>
                  <a:lnTo>
                    <a:pt x="681" y="198"/>
                  </a:lnTo>
                  <a:lnTo>
                    <a:pt x="679" y="236"/>
                  </a:lnTo>
                  <a:lnTo>
                    <a:pt x="677" y="276"/>
                  </a:lnTo>
                  <a:lnTo>
                    <a:pt x="677" y="313"/>
                  </a:lnTo>
                  <a:lnTo>
                    <a:pt x="677" y="349"/>
                  </a:lnTo>
                  <a:lnTo>
                    <a:pt x="677" y="385"/>
                  </a:lnTo>
                  <a:lnTo>
                    <a:pt x="677" y="420"/>
                  </a:lnTo>
                  <a:lnTo>
                    <a:pt x="677" y="454"/>
                  </a:lnTo>
                  <a:lnTo>
                    <a:pt x="677" y="487"/>
                  </a:lnTo>
                  <a:lnTo>
                    <a:pt x="677" y="520"/>
                  </a:lnTo>
                  <a:lnTo>
                    <a:pt x="677" y="551"/>
                  </a:lnTo>
                  <a:lnTo>
                    <a:pt x="695" y="531"/>
                  </a:lnTo>
                  <a:lnTo>
                    <a:pt x="713" y="511"/>
                  </a:lnTo>
                  <a:lnTo>
                    <a:pt x="729" y="492"/>
                  </a:lnTo>
                  <a:lnTo>
                    <a:pt x="745" y="472"/>
                  </a:lnTo>
                  <a:lnTo>
                    <a:pt x="760" y="453"/>
                  </a:lnTo>
                  <a:lnTo>
                    <a:pt x="773" y="435"/>
                  </a:lnTo>
                  <a:lnTo>
                    <a:pt x="786" y="416"/>
                  </a:lnTo>
                  <a:lnTo>
                    <a:pt x="799" y="397"/>
                  </a:lnTo>
                  <a:lnTo>
                    <a:pt x="809" y="379"/>
                  </a:lnTo>
                  <a:lnTo>
                    <a:pt x="820" y="361"/>
                  </a:lnTo>
                  <a:lnTo>
                    <a:pt x="830" y="343"/>
                  </a:lnTo>
                  <a:lnTo>
                    <a:pt x="838" y="325"/>
                  </a:lnTo>
                  <a:lnTo>
                    <a:pt x="845" y="308"/>
                  </a:lnTo>
                  <a:lnTo>
                    <a:pt x="852" y="290"/>
                  </a:lnTo>
                  <a:lnTo>
                    <a:pt x="857" y="273"/>
                  </a:lnTo>
                  <a:lnTo>
                    <a:pt x="862" y="256"/>
                  </a:lnTo>
                  <a:lnTo>
                    <a:pt x="875" y="268"/>
                  </a:lnTo>
                  <a:lnTo>
                    <a:pt x="892" y="285"/>
                  </a:lnTo>
                  <a:lnTo>
                    <a:pt x="905" y="301"/>
                  </a:lnTo>
                  <a:lnTo>
                    <a:pt x="916" y="315"/>
                  </a:lnTo>
                  <a:lnTo>
                    <a:pt x="929" y="328"/>
                  </a:lnTo>
                  <a:lnTo>
                    <a:pt x="941" y="339"/>
                  </a:lnTo>
                  <a:lnTo>
                    <a:pt x="952" y="349"/>
                  </a:lnTo>
                  <a:lnTo>
                    <a:pt x="964" y="358"/>
                  </a:lnTo>
                  <a:lnTo>
                    <a:pt x="976" y="365"/>
                  </a:lnTo>
                  <a:lnTo>
                    <a:pt x="987" y="371"/>
                  </a:lnTo>
                  <a:lnTo>
                    <a:pt x="975" y="376"/>
                  </a:lnTo>
                  <a:lnTo>
                    <a:pt x="962" y="383"/>
                  </a:lnTo>
                  <a:lnTo>
                    <a:pt x="949" y="390"/>
                  </a:lnTo>
                  <a:lnTo>
                    <a:pt x="937" y="400"/>
                  </a:lnTo>
                  <a:lnTo>
                    <a:pt x="923" y="409"/>
                  </a:lnTo>
                  <a:lnTo>
                    <a:pt x="909" y="421"/>
                  </a:lnTo>
                  <a:lnTo>
                    <a:pt x="896" y="433"/>
                  </a:lnTo>
                  <a:lnTo>
                    <a:pt x="882" y="445"/>
                  </a:lnTo>
                  <a:lnTo>
                    <a:pt x="858" y="468"/>
                  </a:lnTo>
                  <a:lnTo>
                    <a:pt x="834" y="490"/>
                  </a:lnTo>
                  <a:lnTo>
                    <a:pt x="808" y="511"/>
                  </a:lnTo>
                  <a:lnTo>
                    <a:pt x="783" y="531"/>
                  </a:lnTo>
                  <a:lnTo>
                    <a:pt x="758" y="550"/>
                  </a:lnTo>
                  <a:lnTo>
                    <a:pt x="731" y="569"/>
                  </a:lnTo>
                  <a:lnTo>
                    <a:pt x="705" y="588"/>
                  </a:lnTo>
                  <a:lnTo>
                    <a:pt x="677" y="606"/>
                  </a:lnTo>
                  <a:lnTo>
                    <a:pt x="677" y="807"/>
                  </a:lnTo>
                  <a:lnTo>
                    <a:pt x="702" y="804"/>
                  </a:lnTo>
                  <a:lnTo>
                    <a:pt x="733" y="800"/>
                  </a:lnTo>
                  <a:lnTo>
                    <a:pt x="770" y="796"/>
                  </a:lnTo>
                  <a:lnTo>
                    <a:pt x="813" y="791"/>
                  </a:lnTo>
                  <a:lnTo>
                    <a:pt x="845" y="788"/>
                  </a:lnTo>
                  <a:lnTo>
                    <a:pt x="876" y="784"/>
                  </a:lnTo>
                  <a:lnTo>
                    <a:pt x="905" y="781"/>
                  </a:lnTo>
                  <a:lnTo>
                    <a:pt x="931" y="779"/>
                  </a:lnTo>
                  <a:lnTo>
                    <a:pt x="956" y="776"/>
                  </a:lnTo>
                  <a:lnTo>
                    <a:pt x="978" y="774"/>
                  </a:lnTo>
                  <a:lnTo>
                    <a:pt x="999" y="773"/>
                  </a:lnTo>
                  <a:lnTo>
                    <a:pt x="1017" y="771"/>
                  </a:lnTo>
                  <a:lnTo>
                    <a:pt x="1024" y="772"/>
                  </a:lnTo>
                  <a:lnTo>
                    <a:pt x="1032" y="773"/>
                  </a:lnTo>
                  <a:lnTo>
                    <a:pt x="1038" y="774"/>
                  </a:lnTo>
                  <a:lnTo>
                    <a:pt x="1043" y="776"/>
                  </a:lnTo>
                  <a:lnTo>
                    <a:pt x="1049" y="779"/>
                  </a:lnTo>
                  <a:lnTo>
                    <a:pt x="1054" y="782"/>
                  </a:lnTo>
                  <a:lnTo>
                    <a:pt x="1058" y="787"/>
                  </a:lnTo>
                  <a:lnTo>
                    <a:pt x="1063" y="791"/>
                  </a:lnTo>
                  <a:lnTo>
                    <a:pt x="1074" y="811"/>
                  </a:lnTo>
                  <a:lnTo>
                    <a:pt x="1084" y="829"/>
                  </a:lnTo>
                  <a:lnTo>
                    <a:pt x="1091" y="846"/>
                  </a:lnTo>
                  <a:lnTo>
                    <a:pt x="1098" y="861"/>
                  </a:lnTo>
                  <a:lnTo>
                    <a:pt x="1102" y="872"/>
                  </a:lnTo>
                  <a:lnTo>
                    <a:pt x="1104" y="881"/>
                  </a:lnTo>
                  <a:lnTo>
                    <a:pt x="1104" y="887"/>
                  </a:lnTo>
                  <a:lnTo>
                    <a:pt x="1103" y="891"/>
                  </a:lnTo>
                  <a:lnTo>
                    <a:pt x="1101" y="894"/>
                  </a:lnTo>
                  <a:lnTo>
                    <a:pt x="1098" y="895"/>
                  </a:lnTo>
                  <a:lnTo>
                    <a:pt x="1091" y="896"/>
                  </a:lnTo>
                  <a:lnTo>
                    <a:pt x="1083" y="897"/>
                  </a:lnTo>
                  <a:lnTo>
                    <a:pt x="1041" y="891"/>
                  </a:lnTo>
                  <a:lnTo>
                    <a:pt x="997" y="887"/>
                  </a:lnTo>
                  <a:lnTo>
                    <a:pt x="950" y="884"/>
                  </a:lnTo>
                  <a:lnTo>
                    <a:pt x="900" y="883"/>
                  </a:lnTo>
                  <a:lnTo>
                    <a:pt x="849" y="882"/>
                  </a:lnTo>
                  <a:lnTo>
                    <a:pt x="794" y="882"/>
                  </a:lnTo>
                  <a:lnTo>
                    <a:pt x="736" y="884"/>
                  </a:lnTo>
                  <a:lnTo>
                    <a:pt x="676" y="886"/>
                  </a:lnTo>
                  <a:lnTo>
                    <a:pt x="613" y="890"/>
                  </a:lnTo>
                  <a:lnTo>
                    <a:pt x="548" y="895"/>
                  </a:lnTo>
                  <a:lnTo>
                    <a:pt x="479" y="901"/>
                  </a:lnTo>
                  <a:lnTo>
                    <a:pt x="408" y="907"/>
                  </a:lnTo>
                  <a:lnTo>
                    <a:pt x="335" y="916"/>
                  </a:lnTo>
                  <a:lnTo>
                    <a:pt x="258" y="924"/>
                  </a:lnTo>
                  <a:lnTo>
                    <a:pt x="179" y="935"/>
                  </a:lnTo>
                  <a:lnTo>
                    <a:pt x="97" y="947"/>
                  </a:lnTo>
                  <a:lnTo>
                    <a:pt x="90" y="946"/>
                  </a:lnTo>
                  <a:lnTo>
                    <a:pt x="83" y="942"/>
                  </a:lnTo>
                  <a:lnTo>
                    <a:pt x="73" y="938"/>
                  </a:lnTo>
                  <a:lnTo>
                    <a:pt x="64" y="933"/>
                  </a:lnTo>
                  <a:lnTo>
                    <a:pt x="52" y="924"/>
                  </a:lnTo>
                  <a:lnTo>
                    <a:pt x="39" y="915"/>
                  </a:lnTo>
                  <a:lnTo>
                    <a:pt x="27" y="904"/>
                  </a:lnTo>
                  <a:lnTo>
                    <a:pt x="12" y="891"/>
                  </a:lnTo>
                  <a:lnTo>
                    <a:pt x="5" y="884"/>
                  </a:lnTo>
                  <a:lnTo>
                    <a:pt x="2" y="879"/>
                  </a:lnTo>
                  <a:lnTo>
                    <a:pt x="1" y="877"/>
                  </a:lnTo>
                  <a:lnTo>
                    <a:pt x="0" y="875"/>
                  </a:lnTo>
                  <a:lnTo>
                    <a:pt x="1" y="872"/>
                  </a:lnTo>
                  <a:lnTo>
                    <a:pt x="2" y="871"/>
                  </a:lnTo>
                  <a:lnTo>
                    <a:pt x="2" y="870"/>
                  </a:lnTo>
                  <a:lnTo>
                    <a:pt x="3" y="869"/>
                  </a:lnTo>
                  <a:lnTo>
                    <a:pt x="4" y="869"/>
                  </a:lnTo>
                  <a:lnTo>
                    <a:pt x="7" y="869"/>
                  </a:lnTo>
                  <a:lnTo>
                    <a:pt x="13" y="869"/>
                  </a:lnTo>
                  <a:lnTo>
                    <a:pt x="22" y="871"/>
                  </a:lnTo>
                  <a:lnTo>
                    <a:pt x="61" y="868"/>
                  </a:lnTo>
                  <a:lnTo>
                    <a:pt x="101" y="865"/>
                  </a:lnTo>
                  <a:lnTo>
                    <a:pt x="142" y="862"/>
                  </a:lnTo>
                  <a:lnTo>
                    <a:pt x="186" y="859"/>
                  </a:lnTo>
                  <a:lnTo>
                    <a:pt x="231" y="854"/>
                  </a:lnTo>
                  <a:lnTo>
                    <a:pt x="278" y="850"/>
                  </a:lnTo>
                  <a:lnTo>
                    <a:pt x="326" y="846"/>
                  </a:lnTo>
                  <a:lnTo>
                    <a:pt x="377" y="842"/>
                  </a:lnTo>
                  <a:lnTo>
                    <a:pt x="377" y="793"/>
                  </a:lnTo>
                  <a:lnTo>
                    <a:pt x="377" y="747"/>
                  </a:lnTo>
                  <a:lnTo>
                    <a:pt x="377" y="704"/>
                  </a:lnTo>
                  <a:lnTo>
                    <a:pt x="377" y="665"/>
                  </a:lnTo>
                  <a:lnTo>
                    <a:pt x="377" y="628"/>
                  </a:lnTo>
                  <a:lnTo>
                    <a:pt x="377" y="595"/>
                  </a:lnTo>
                  <a:lnTo>
                    <a:pt x="377" y="564"/>
                  </a:lnTo>
                  <a:lnTo>
                    <a:pt x="377" y="535"/>
                  </a:lnTo>
                  <a:lnTo>
                    <a:pt x="377" y="505"/>
                  </a:lnTo>
                  <a:lnTo>
                    <a:pt x="377" y="475"/>
                  </a:lnTo>
                  <a:lnTo>
                    <a:pt x="376" y="445"/>
                  </a:lnTo>
                  <a:lnTo>
                    <a:pt x="376" y="416"/>
                  </a:lnTo>
                  <a:lnTo>
                    <a:pt x="375" y="387"/>
                  </a:lnTo>
                  <a:lnTo>
                    <a:pt x="374" y="359"/>
                  </a:lnTo>
                  <a:lnTo>
                    <a:pt x="373" y="332"/>
                  </a:lnTo>
                  <a:lnTo>
                    <a:pt x="372" y="305"/>
                  </a:lnTo>
                  <a:lnTo>
                    <a:pt x="371" y="273"/>
                  </a:lnTo>
                  <a:lnTo>
                    <a:pt x="368" y="241"/>
                  </a:lnTo>
                  <a:lnTo>
                    <a:pt x="365" y="211"/>
                  </a:lnTo>
                  <a:lnTo>
                    <a:pt x="359" y="184"/>
                  </a:lnTo>
                  <a:lnTo>
                    <a:pt x="354" y="156"/>
                  </a:lnTo>
                  <a:lnTo>
                    <a:pt x="348" y="132"/>
                  </a:lnTo>
                  <a:lnTo>
                    <a:pt x="340" y="107"/>
                  </a:lnTo>
                  <a:lnTo>
                    <a:pt x="332" y="86"/>
                  </a:lnTo>
                  <a:lnTo>
                    <a:pt x="345" y="91"/>
                  </a:lnTo>
                  <a:lnTo>
                    <a:pt x="360" y="97"/>
                  </a:lnTo>
                  <a:lnTo>
                    <a:pt x="376" y="102"/>
                  </a:lnTo>
                  <a:lnTo>
                    <a:pt x="394" y="107"/>
                  </a:lnTo>
                  <a:lnTo>
                    <a:pt x="414" y="112"/>
                  </a:lnTo>
                  <a:lnTo>
                    <a:pt x="436" y="115"/>
                  </a:lnTo>
                  <a:lnTo>
                    <a:pt x="458" y="118"/>
                  </a:lnTo>
                  <a:lnTo>
                    <a:pt x="482" y="121"/>
                  </a:lnTo>
                  <a:lnTo>
                    <a:pt x="476" y="141"/>
                  </a:lnTo>
                  <a:lnTo>
                    <a:pt x="470" y="163"/>
                  </a:lnTo>
                  <a:lnTo>
                    <a:pt x="466" y="190"/>
                  </a:lnTo>
                  <a:lnTo>
                    <a:pt x="462" y="219"/>
                  </a:lnTo>
                  <a:lnTo>
                    <a:pt x="459" y="249"/>
                  </a:lnTo>
                  <a:lnTo>
                    <a:pt x="456" y="284"/>
                  </a:lnTo>
                  <a:lnTo>
                    <a:pt x="454" y="321"/>
                  </a:lnTo>
                  <a:lnTo>
                    <a:pt x="452" y="361"/>
                  </a:lnTo>
                  <a:lnTo>
                    <a:pt x="454" y="382"/>
                  </a:lnTo>
                  <a:lnTo>
                    <a:pt x="455" y="405"/>
                  </a:lnTo>
                  <a:lnTo>
                    <a:pt x="456" y="432"/>
                  </a:lnTo>
                  <a:lnTo>
                    <a:pt x="456" y="459"/>
                  </a:lnTo>
                  <a:lnTo>
                    <a:pt x="457" y="490"/>
                  </a:lnTo>
                  <a:lnTo>
                    <a:pt x="457" y="523"/>
                  </a:lnTo>
                  <a:lnTo>
                    <a:pt x="457" y="559"/>
                  </a:lnTo>
                  <a:lnTo>
                    <a:pt x="457" y="596"/>
                  </a:lnTo>
                  <a:lnTo>
                    <a:pt x="457" y="633"/>
                  </a:lnTo>
                  <a:lnTo>
                    <a:pt x="457" y="667"/>
                  </a:lnTo>
                  <a:lnTo>
                    <a:pt x="457" y="700"/>
                  </a:lnTo>
                  <a:lnTo>
                    <a:pt x="457" y="729"/>
                  </a:lnTo>
                  <a:lnTo>
                    <a:pt x="457" y="758"/>
                  </a:lnTo>
                  <a:lnTo>
                    <a:pt x="457" y="784"/>
                  </a:lnTo>
                  <a:lnTo>
                    <a:pt x="457" y="809"/>
                  </a:lnTo>
                  <a:lnTo>
                    <a:pt x="457" y="831"/>
                  </a:lnTo>
                  <a:lnTo>
                    <a:pt x="491" y="827"/>
                  </a:lnTo>
                  <a:lnTo>
                    <a:pt x="524" y="823"/>
                  </a:lnTo>
                  <a:lnTo>
                    <a:pt x="560" y="819"/>
                  </a:lnTo>
                  <a:lnTo>
                    <a:pt x="598" y="816"/>
                  </a:lnTo>
                  <a:lnTo>
                    <a:pt x="597" y="745"/>
                  </a:lnTo>
                  <a:lnTo>
                    <a:pt x="597" y="674"/>
                  </a:lnTo>
                  <a:lnTo>
                    <a:pt x="595" y="601"/>
                  </a:lnTo>
                  <a:lnTo>
                    <a:pt x="594" y="527"/>
                  </a:lnTo>
                  <a:lnTo>
                    <a:pt x="593" y="453"/>
                  </a:lnTo>
                  <a:lnTo>
                    <a:pt x="591" y="376"/>
                  </a:lnTo>
                  <a:lnTo>
                    <a:pt x="589" y="299"/>
                  </a:lnTo>
                  <a:lnTo>
                    <a:pt x="587" y="221"/>
                  </a:lnTo>
                  <a:lnTo>
                    <a:pt x="588" y="183"/>
                  </a:lnTo>
                  <a:lnTo>
                    <a:pt x="587" y="146"/>
                  </a:lnTo>
                  <a:lnTo>
                    <a:pt x="585" y="115"/>
                  </a:lnTo>
                  <a:lnTo>
                    <a:pt x="582" y="86"/>
                  </a:lnTo>
                  <a:lnTo>
                    <a:pt x="577" y="60"/>
                  </a:lnTo>
                  <a:lnTo>
                    <a:pt x="572" y="36"/>
                  </a:lnTo>
                  <a:lnTo>
                    <a:pt x="569" y="27"/>
                  </a:lnTo>
                  <a:lnTo>
                    <a:pt x="566" y="17"/>
                  </a:lnTo>
                  <a:lnTo>
                    <a:pt x="562" y="9"/>
                  </a:lnTo>
                  <a:lnTo>
                    <a:pt x="557" y="0"/>
                  </a:lnTo>
                  <a:lnTo>
                    <a:pt x="570" y="7"/>
                  </a:lnTo>
                  <a:lnTo>
                    <a:pt x="585" y="12"/>
                  </a:lnTo>
                  <a:lnTo>
                    <a:pt x="602" y="17"/>
                  </a:lnTo>
                  <a:lnTo>
                    <a:pt x="620" y="21"/>
                  </a:lnTo>
                  <a:lnTo>
                    <a:pt x="639" y="26"/>
                  </a:lnTo>
                  <a:lnTo>
                    <a:pt x="660" y="30"/>
                  </a:lnTo>
                  <a:lnTo>
                    <a:pt x="683" y="33"/>
                  </a:lnTo>
                  <a:lnTo>
                    <a:pt x="708" y="35"/>
                  </a:lnTo>
                  <a:close/>
                  <a:moveTo>
                    <a:pt x="137" y="410"/>
                  </a:moveTo>
                  <a:lnTo>
                    <a:pt x="171" y="429"/>
                  </a:lnTo>
                  <a:lnTo>
                    <a:pt x="200" y="446"/>
                  </a:lnTo>
                  <a:lnTo>
                    <a:pt x="227" y="462"/>
                  </a:lnTo>
                  <a:lnTo>
                    <a:pt x="251" y="477"/>
                  </a:lnTo>
                  <a:lnTo>
                    <a:pt x="271" y="491"/>
                  </a:lnTo>
                  <a:lnTo>
                    <a:pt x="288" y="504"/>
                  </a:lnTo>
                  <a:lnTo>
                    <a:pt x="302" y="515"/>
                  </a:lnTo>
                  <a:lnTo>
                    <a:pt x="312" y="526"/>
                  </a:lnTo>
                  <a:lnTo>
                    <a:pt x="313" y="534"/>
                  </a:lnTo>
                  <a:lnTo>
                    <a:pt x="313" y="544"/>
                  </a:lnTo>
                  <a:lnTo>
                    <a:pt x="311" y="557"/>
                  </a:lnTo>
                  <a:lnTo>
                    <a:pt x="308" y="569"/>
                  </a:lnTo>
                  <a:lnTo>
                    <a:pt x="304" y="585"/>
                  </a:lnTo>
                  <a:lnTo>
                    <a:pt x="300" y="602"/>
                  </a:lnTo>
                  <a:lnTo>
                    <a:pt x="294" y="620"/>
                  </a:lnTo>
                  <a:lnTo>
                    <a:pt x="287" y="641"/>
                  </a:lnTo>
                  <a:lnTo>
                    <a:pt x="282" y="652"/>
                  </a:lnTo>
                  <a:lnTo>
                    <a:pt x="279" y="659"/>
                  </a:lnTo>
                  <a:lnTo>
                    <a:pt x="275" y="665"/>
                  </a:lnTo>
                  <a:lnTo>
                    <a:pt x="272" y="666"/>
                  </a:lnTo>
                  <a:lnTo>
                    <a:pt x="267" y="665"/>
                  </a:lnTo>
                  <a:lnTo>
                    <a:pt x="262" y="663"/>
                  </a:lnTo>
                  <a:lnTo>
                    <a:pt x="257" y="657"/>
                  </a:lnTo>
                  <a:lnTo>
                    <a:pt x="252" y="651"/>
                  </a:lnTo>
                  <a:lnTo>
                    <a:pt x="243" y="638"/>
                  </a:lnTo>
                  <a:lnTo>
                    <a:pt x="232" y="621"/>
                  </a:lnTo>
                  <a:lnTo>
                    <a:pt x="220" y="602"/>
                  </a:lnTo>
                  <a:lnTo>
                    <a:pt x="207" y="579"/>
                  </a:lnTo>
                  <a:lnTo>
                    <a:pt x="193" y="551"/>
                  </a:lnTo>
                  <a:lnTo>
                    <a:pt x="177" y="522"/>
                  </a:lnTo>
                  <a:lnTo>
                    <a:pt x="160" y="488"/>
                  </a:lnTo>
                  <a:lnTo>
                    <a:pt x="142" y="451"/>
                  </a:lnTo>
                  <a:lnTo>
                    <a:pt x="134" y="434"/>
                  </a:lnTo>
                  <a:lnTo>
                    <a:pt x="127" y="421"/>
                  </a:lnTo>
                  <a:lnTo>
                    <a:pt x="125" y="416"/>
                  </a:lnTo>
                  <a:lnTo>
                    <a:pt x="124" y="410"/>
                  </a:lnTo>
                  <a:lnTo>
                    <a:pt x="124" y="407"/>
                  </a:lnTo>
                  <a:lnTo>
                    <a:pt x="124" y="406"/>
                  </a:lnTo>
                  <a:lnTo>
                    <a:pt x="126" y="405"/>
                  </a:lnTo>
                  <a:lnTo>
                    <a:pt x="129" y="406"/>
                  </a:lnTo>
                  <a:lnTo>
                    <a:pt x="133" y="407"/>
                  </a:lnTo>
                  <a:lnTo>
                    <a:pt x="137" y="410"/>
                  </a:lnTo>
                  <a:close/>
                </a:path>
              </a:pathLst>
            </a:custGeom>
            <a:solidFill>
              <a:srgbClr val="d79f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d79f00"/>
                </a:solidFill>
                <a:latin typeface="Arial"/>
                <a:ea typeface="宋体"/>
              </a:endParaRPr>
            </a:p>
          </p:txBody>
        </p:sp>
        <p:sp>
          <p:nvSpPr>
            <p:cNvPr id="91" name="Freeform 17"/>
            <p:cNvSpPr/>
            <p:nvPr/>
          </p:nvSpPr>
          <p:spPr>
            <a:xfrm>
              <a:off x="3422880" y="9093240"/>
              <a:ext cx="202320" cy="222840"/>
            </a:xfrm>
            <a:custGeom>
              <a:avLst/>
              <a:gdLst>
                <a:gd name="textAreaLeft" fmla="*/ 0 w 202320"/>
                <a:gd name="textAreaRight" fmla="*/ 202680 w 202320"/>
                <a:gd name="textAreaTop" fmla="*/ 0 h 222840"/>
                <a:gd name="textAreaBottom" fmla="*/ 223200 h 222840"/>
              </a:gdLst>
              <a:ahLst/>
              <a:rect l="textAreaLeft" t="textAreaTop" r="textAreaRight" b="textAreaBottom"/>
              <a:pathLst>
                <a:path w="1037" h="1206">
                  <a:moveTo>
                    <a:pt x="246" y="560"/>
                  </a:moveTo>
                  <a:lnTo>
                    <a:pt x="263" y="566"/>
                  </a:lnTo>
                  <a:lnTo>
                    <a:pt x="282" y="573"/>
                  </a:lnTo>
                  <a:lnTo>
                    <a:pt x="303" y="580"/>
                  </a:lnTo>
                  <a:lnTo>
                    <a:pt x="326" y="590"/>
                  </a:lnTo>
                  <a:lnTo>
                    <a:pt x="335" y="594"/>
                  </a:lnTo>
                  <a:lnTo>
                    <a:pt x="341" y="595"/>
                  </a:lnTo>
                  <a:lnTo>
                    <a:pt x="389" y="588"/>
                  </a:lnTo>
                  <a:lnTo>
                    <a:pt x="432" y="579"/>
                  </a:lnTo>
                  <a:lnTo>
                    <a:pt x="470" y="572"/>
                  </a:lnTo>
                  <a:lnTo>
                    <a:pt x="504" y="563"/>
                  </a:lnTo>
                  <a:lnTo>
                    <a:pt x="533" y="555"/>
                  </a:lnTo>
                  <a:lnTo>
                    <a:pt x="557" y="548"/>
                  </a:lnTo>
                  <a:lnTo>
                    <a:pt x="568" y="543"/>
                  </a:lnTo>
                  <a:lnTo>
                    <a:pt x="576" y="539"/>
                  </a:lnTo>
                  <a:lnTo>
                    <a:pt x="585" y="534"/>
                  </a:lnTo>
                  <a:lnTo>
                    <a:pt x="591" y="530"/>
                  </a:lnTo>
                  <a:lnTo>
                    <a:pt x="607" y="541"/>
                  </a:lnTo>
                  <a:lnTo>
                    <a:pt x="624" y="551"/>
                  </a:lnTo>
                  <a:lnTo>
                    <a:pt x="642" y="560"/>
                  </a:lnTo>
                  <a:lnTo>
                    <a:pt x="661" y="569"/>
                  </a:lnTo>
                  <a:lnTo>
                    <a:pt x="682" y="576"/>
                  </a:lnTo>
                  <a:lnTo>
                    <a:pt x="705" y="584"/>
                  </a:lnTo>
                  <a:lnTo>
                    <a:pt x="727" y="590"/>
                  </a:lnTo>
                  <a:lnTo>
                    <a:pt x="751" y="595"/>
                  </a:lnTo>
                  <a:lnTo>
                    <a:pt x="738" y="601"/>
                  </a:lnTo>
                  <a:lnTo>
                    <a:pt x="726" y="609"/>
                  </a:lnTo>
                  <a:lnTo>
                    <a:pt x="713" y="620"/>
                  </a:lnTo>
                  <a:lnTo>
                    <a:pt x="699" y="631"/>
                  </a:lnTo>
                  <a:lnTo>
                    <a:pt x="686" y="645"/>
                  </a:lnTo>
                  <a:lnTo>
                    <a:pt x="671" y="662"/>
                  </a:lnTo>
                  <a:lnTo>
                    <a:pt x="657" y="680"/>
                  </a:lnTo>
                  <a:lnTo>
                    <a:pt x="642" y="700"/>
                  </a:lnTo>
                  <a:lnTo>
                    <a:pt x="651" y="705"/>
                  </a:lnTo>
                  <a:lnTo>
                    <a:pt x="658" y="711"/>
                  </a:lnTo>
                  <a:lnTo>
                    <a:pt x="665" y="717"/>
                  </a:lnTo>
                  <a:lnTo>
                    <a:pt x="673" y="723"/>
                  </a:lnTo>
                  <a:lnTo>
                    <a:pt x="679" y="731"/>
                  </a:lnTo>
                  <a:lnTo>
                    <a:pt x="686" y="738"/>
                  </a:lnTo>
                  <a:lnTo>
                    <a:pt x="692" y="747"/>
                  </a:lnTo>
                  <a:lnTo>
                    <a:pt x="697" y="755"/>
                  </a:lnTo>
                  <a:lnTo>
                    <a:pt x="658" y="757"/>
                  </a:lnTo>
                  <a:lnTo>
                    <a:pt x="619" y="761"/>
                  </a:lnTo>
                  <a:lnTo>
                    <a:pt x="577" y="765"/>
                  </a:lnTo>
                  <a:lnTo>
                    <a:pt x="535" y="769"/>
                  </a:lnTo>
                  <a:lnTo>
                    <a:pt x="492" y="773"/>
                  </a:lnTo>
                  <a:lnTo>
                    <a:pt x="446" y="779"/>
                  </a:lnTo>
                  <a:lnTo>
                    <a:pt x="400" y="784"/>
                  </a:lnTo>
                  <a:lnTo>
                    <a:pt x="352" y="790"/>
                  </a:lnTo>
                  <a:lnTo>
                    <a:pt x="352" y="895"/>
                  </a:lnTo>
                  <a:lnTo>
                    <a:pt x="415" y="886"/>
                  </a:lnTo>
                  <a:lnTo>
                    <a:pt x="472" y="876"/>
                  </a:lnTo>
                  <a:lnTo>
                    <a:pt x="520" y="868"/>
                  </a:lnTo>
                  <a:lnTo>
                    <a:pt x="562" y="859"/>
                  </a:lnTo>
                  <a:lnTo>
                    <a:pt x="595" y="851"/>
                  </a:lnTo>
                  <a:lnTo>
                    <a:pt x="622" y="843"/>
                  </a:lnTo>
                  <a:lnTo>
                    <a:pt x="631" y="840"/>
                  </a:lnTo>
                  <a:lnTo>
                    <a:pt x="640" y="837"/>
                  </a:lnTo>
                  <a:lnTo>
                    <a:pt x="647" y="834"/>
                  </a:lnTo>
                  <a:lnTo>
                    <a:pt x="652" y="830"/>
                  </a:lnTo>
                  <a:lnTo>
                    <a:pt x="671" y="844"/>
                  </a:lnTo>
                  <a:lnTo>
                    <a:pt x="691" y="857"/>
                  </a:lnTo>
                  <a:lnTo>
                    <a:pt x="711" y="869"/>
                  </a:lnTo>
                  <a:lnTo>
                    <a:pt x="732" y="878"/>
                  </a:lnTo>
                  <a:lnTo>
                    <a:pt x="753" y="886"/>
                  </a:lnTo>
                  <a:lnTo>
                    <a:pt x="776" y="892"/>
                  </a:lnTo>
                  <a:lnTo>
                    <a:pt x="798" y="897"/>
                  </a:lnTo>
                  <a:lnTo>
                    <a:pt x="821" y="900"/>
                  </a:lnTo>
                  <a:lnTo>
                    <a:pt x="813" y="905"/>
                  </a:lnTo>
                  <a:lnTo>
                    <a:pt x="803" y="910"/>
                  </a:lnTo>
                  <a:lnTo>
                    <a:pt x="795" y="915"/>
                  </a:lnTo>
                  <a:lnTo>
                    <a:pt x="786" y="922"/>
                  </a:lnTo>
                  <a:lnTo>
                    <a:pt x="778" y="928"/>
                  </a:lnTo>
                  <a:lnTo>
                    <a:pt x="770" y="935"/>
                  </a:lnTo>
                  <a:lnTo>
                    <a:pt x="763" y="943"/>
                  </a:lnTo>
                  <a:lnTo>
                    <a:pt x="755" y="950"/>
                  </a:lnTo>
                  <a:lnTo>
                    <a:pt x="742" y="967"/>
                  </a:lnTo>
                  <a:lnTo>
                    <a:pt x="729" y="986"/>
                  </a:lnTo>
                  <a:lnTo>
                    <a:pt x="717" y="1007"/>
                  </a:lnTo>
                  <a:lnTo>
                    <a:pt x="707" y="1031"/>
                  </a:lnTo>
                  <a:lnTo>
                    <a:pt x="715" y="1036"/>
                  </a:lnTo>
                  <a:lnTo>
                    <a:pt x="724" y="1041"/>
                  </a:lnTo>
                  <a:lnTo>
                    <a:pt x="731" y="1048"/>
                  </a:lnTo>
                  <a:lnTo>
                    <a:pt x="740" y="1054"/>
                  </a:lnTo>
                  <a:lnTo>
                    <a:pt x="747" y="1061"/>
                  </a:lnTo>
                  <a:lnTo>
                    <a:pt x="753" y="1069"/>
                  </a:lnTo>
                  <a:lnTo>
                    <a:pt x="761" y="1076"/>
                  </a:lnTo>
                  <a:lnTo>
                    <a:pt x="767" y="1085"/>
                  </a:lnTo>
                  <a:lnTo>
                    <a:pt x="722" y="1086"/>
                  </a:lnTo>
                  <a:lnTo>
                    <a:pt x="675" y="1087"/>
                  </a:lnTo>
                  <a:lnTo>
                    <a:pt x="626" y="1088"/>
                  </a:lnTo>
                  <a:lnTo>
                    <a:pt x="575" y="1090"/>
                  </a:lnTo>
                  <a:lnTo>
                    <a:pt x="522" y="1093"/>
                  </a:lnTo>
                  <a:lnTo>
                    <a:pt x="467" y="1096"/>
                  </a:lnTo>
                  <a:lnTo>
                    <a:pt x="410" y="1101"/>
                  </a:lnTo>
                  <a:lnTo>
                    <a:pt x="352" y="1105"/>
                  </a:lnTo>
                  <a:lnTo>
                    <a:pt x="351" y="1113"/>
                  </a:lnTo>
                  <a:lnTo>
                    <a:pt x="350" y="1122"/>
                  </a:lnTo>
                  <a:lnTo>
                    <a:pt x="349" y="1130"/>
                  </a:lnTo>
                  <a:lnTo>
                    <a:pt x="347" y="1140"/>
                  </a:lnTo>
                  <a:lnTo>
                    <a:pt x="346" y="1171"/>
                  </a:lnTo>
                  <a:lnTo>
                    <a:pt x="344" y="1192"/>
                  </a:lnTo>
                  <a:lnTo>
                    <a:pt x="342" y="1198"/>
                  </a:lnTo>
                  <a:lnTo>
                    <a:pt x="341" y="1203"/>
                  </a:lnTo>
                  <a:lnTo>
                    <a:pt x="340" y="1205"/>
                  </a:lnTo>
                  <a:lnTo>
                    <a:pt x="339" y="1206"/>
                  </a:lnTo>
                  <a:lnTo>
                    <a:pt x="338" y="1206"/>
                  </a:lnTo>
                  <a:lnTo>
                    <a:pt x="336" y="1206"/>
                  </a:lnTo>
                  <a:lnTo>
                    <a:pt x="326" y="1197"/>
                  </a:lnTo>
                  <a:lnTo>
                    <a:pt x="316" y="1189"/>
                  </a:lnTo>
                  <a:lnTo>
                    <a:pt x="305" y="1179"/>
                  </a:lnTo>
                  <a:lnTo>
                    <a:pt x="296" y="1167"/>
                  </a:lnTo>
                  <a:lnTo>
                    <a:pt x="273" y="1143"/>
                  </a:lnTo>
                  <a:lnTo>
                    <a:pt x="251" y="1116"/>
                  </a:lnTo>
                  <a:lnTo>
                    <a:pt x="258" y="1090"/>
                  </a:lnTo>
                  <a:lnTo>
                    <a:pt x="263" y="1057"/>
                  </a:lnTo>
                  <a:lnTo>
                    <a:pt x="267" y="1019"/>
                  </a:lnTo>
                  <a:lnTo>
                    <a:pt x="270" y="976"/>
                  </a:lnTo>
                  <a:lnTo>
                    <a:pt x="273" y="925"/>
                  </a:lnTo>
                  <a:lnTo>
                    <a:pt x="275" y="868"/>
                  </a:lnTo>
                  <a:lnTo>
                    <a:pt x="276" y="804"/>
                  </a:lnTo>
                  <a:lnTo>
                    <a:pt x="277" y="735"/>
                  </a:lnTo>
                  <a:lnTo>
                    <a:pt x="276" y="711"/>
                  </a:lnTo>
                  <a:lnTo>
                    <a:pt x="275" y="686"/>
                  </a:lnTo>
                  <a:lnTo>
                    <a:pt x="272" y="663"/>
                  </a:lnTo>
                  <a:lnTo>
                    <a:pt x="269" y="641"/>
                  </a:lnTo>
                  <a:lnTo>
                    <a:pt x="265" y="620"/>
                  </a:lnTo>
                  <a:lnTo>
                    <a:pt x="260" y="599"/>
                  </a:lnTo>
                  <a:lnTo>
                    <a:pt x="253" y="579"/>
                  </a:lnTo>
                  <a:lnTo>
                    <a:pt x="246" y="560"/>
                  </a:lnTo>
                  <a:close/>
                  <a:moveTo>
                    <a:pt x="416" y="314"/>
                  </a:moveTo>
                  <a:lnTo>
                    <a:pt x="460" y="320"/>
                  </a:lnTo>
                  <a:lnTo>
                    <a:pt x="494" y="325"/>
                  </a:lnTo>
                  <a:lnTo>
                    <a:pt x="519" y="329"/>
                  </a:lnTo>
                  <a:lnTo>
                    <a:pt x="536" y="335"/>
                  </a:lnTo>
                  <a:lnTo>
                    <a:pt x="539" y="339"/>
                  </a:lnTo>
                  <a:lnTo>
                    <a:pt x="541" y="345"/>
                  </a:lnTo>
                  <a:lnTo>
                    <a:pt x="543" y="353"/>
                  </a:lnTo>
                  <a:lnTo>
                    <a:pt x="544" y="361"/>
                  </a:lnTo>
                  <a:lnTo>
                    <a:pt x="546" y="382"/>
                  </a:lnTo>
                  <a:lnTo>
                    <a:pt x="547" y="410"/>
                  </a:lnTo>
                  <a:lnTo>
                    <a:pt x="547" y="411"/>
                  </a:lnTo>
                  <a:lnTo>
                    <a:pt x="547" y="415"/>
                  </a:lnTo>
                  <a:lnTo>
                    <a:pt x="611" y="403"/>
                  </a:lnTo>
                  <a:lnTo>
                    <a:pt x="669" y="394"/>
                  </a:lnTo>
                  <a:lnTo>
                    <a:pt x="718" y="384"/>
                  </a:lnTo>
                  <a:lnTo>
                    <a:pt x="761" y="375"/>
                  </a:lnTo>
                  <a:lnTo>
                    <a:pt x="795" y="366"/>
                  </a:lnTo>
                  <a:lnTo>
                    <a:pt x="821" y="359"/>
                  </a:lnTo>
                  <a:lnTo>
                    <a:pt x="832" y="355"/>
                  </a:lnTo>
                  <a:lnTo>
                    <a:pt x="840" y="351"/>
                  </a:lnTo>
                  <a:lnTo>
                    <a:pt x="847" y="348"/>
                  </a:lnTo>
                  <a:lnTo>
                    <a:pt x="852" y="345"/>
                  </a:lnTo>
                  <a:lnTo>
                    <a:pt x="871" y="364"/>
                  </a:lnTo>
                  <a:lnTo>
                    <a:pt x="891" y="382"/>
                  </a:lnTo>
                  <a:lnTo>
                    <a:pt x="913" y="400"/>
                  </a:lnTo>
                  <a:lnTo>
                    <a:pt x="935" y="416"/>
                  </a:lnTo>
                  <a:lnTo>
                    <a:pt x="959" y="431"/>
                  </a:lnTo>
                  <a:lnTo>
                    <a:pt x="984" y="445"/>
                  </a:lnTo>
                  <a:lnTo>
                    <a:pt x="1010" y="458"/>
                  </a:lnTo>
                  <a:lnTo>
                    <a:pt x="1037" y="470"/>
                  </a:lnTo>
                  <a:lnTo>
                    <a:pt x="1002" y="488"/>
                  </a:lnTo>
                  <a:lnTo>
                    <a:pt x="969" y="505"/>
                  </a:lnTo>
                  <a:lnTo>
                    <a:pt x="937" y="520"/>
                  </a:lnTo>
                  <a:lnTo>
                    <a:pt x="906" y="535"/>
                  </a:lnTo>
                  <a:lnTo>
                    <a:pt x="875" y="548"/>
                  </a:lnTo>
                  <a:lnTo>
                    <a:pt x="847" y="560"/>
                  </a:lnTo>
                  <a:lnTo>
                    <a:pt x="819" y="571"/>
                  </a:lnTo>
                  <a:lnTo>
                    <a:pt x="791" y="579"/>
                  </a:lnTo>
                  <a:lnTo>
                    <a:pt x="771" y="584"/>
                  </a:lnTo>
                  <a:lnTo>
                    <a:pt x="762" y="585"/>
                  </a:lnTo>
                  <a:lnTo>
                    <a:pt x="760" y="581"/>
                  </a:lnTo>
                  <a:lnTo>
                    <a:pt x="761" y="576"/>
                  </a:lnTo>
                  <a:lnTo>
                    <a:pt x="763" y="569"/>
                  </a:lnTo>
                  <a:lnTo>
                    <a:pt x="767" y="560"/>
                  </a:lnTo>
                  <a:lnTo>
                    <a:pt x="788" y="521"/>
                  </a:lnTo>
                  <a:lnTo>
                    <a:pt x="806" y="486"/>
                  </a:lnTo>
                  <a:lnTo>
                    <a:pt x="823" y="454"/>
                  </a:lnTo>
                  <a:lnTo>
                    <a:pt x="837" y="425"/>
                  </a:lnTo>
                  <a:lnTo>
                    <a:pt x="791" y="433"/>
                  </a:lnTo>
                  <a:lnTo>
                    <a:pt x="736" y="442"/>
                  </a:lnTo>
                  <a:lnTo>
                    <a:pt x="671" y="452"/>
                  </a:lnTo>
                  <a:lnTo>
                    <a:pt x="594" y="464"/>
                  </a:lnTo>
                  <a:lnTo>
                    <a:pt x="508" y="475"/>
                  </a:lnTo>
                  <a:lnTo>
                    <a:pt x="411" y="489"/>
                  </a:lnTo>
                  <a:lnTo>
                    <a:pt x="304" y="504"/>
                  </a:lnTo>
                  <a:lnTo>
                    <a:pt x="187" y="520"/>
                  </a:lnTo>
                  <a:lnTo>
                    <a:pt x="167" y="500"/>
                  </a:lnTo>
                  <a:lnTo>
                    <a:pt x="163" y="527"/>
                  </a:lnTo>
                  <a:lnTo>
                    <a:pt x="160" y="554"/>
                  </a:lnTo>
                  <a:lnTo>
                    <a:pt x="156" y="580"/>
                  </a:lnTo>
                  <a:lnTo>
                    <a:pt x="152" y="606"/>
                  </a:lnTo>
                  <a:lnTo>
                    <a:pt x="146" y="631"/>
                  </a:lnTo>
                  <a:lnTo>
                    <a:pt x="140" y="657"/>
                  </a:lnTo>
                  <a:lnTo>
                    <a:pt x="134" y="681"/>
                  </a:lnTo>
                  <a:lnTo>
                    <a:pt x="126" y="705"/>
                  </a:lnTo>
                  <a:lnTo>
                    <a:pt x="114" y="697"/>
                  </a:lnTo>
                  <a:lnTo>
                    <a:pt x="101" y="688"/>
                  </a:lnTo>
                  <a:lnTo>
                    <a:pt x="87" y="681"/>
                  </a:lnTo>
                  <a:lnTo>
                    <a:pt x="72" y="674"/>
                  </a:lnTo>
                  <a:lnTo>
                    <a:pt x="58" y="667"/>
                  </a:lnTo>
                  <a:lnTo>
                    <a:pt x="43" y="661"/>
                  </a:lnTo>
                  <a:lnTo>
                    <a:pt x="28" y="656"/>
                  </a:lnTo>
                  <a:lnTo>
                    <a:pt x="12" y="650"/>
                  </a:lnTo>
                  <a:lnTo>
                    <a:pt x="7" y="648"/>
                  </a:lnTo>
                  <a:lnTo>
                    <a:pt x="3" y="646"/>
                  </a:lnTo>
                  <a:lnTo>
                    <a:pt x="1" y="644"/>
                  </a:lnTo>
                  <a:lnTo>
                    <a:pt x="0" y="641"/>
                  </a:lnTo>
                  <a:lnTo>
                    <a:pt x="0" y="638"/>
                  </a:lnTo>
                  <a:lnTo>
                    <a:pt x="1" y="634"/>
                  </a:lnTo>
                  <a:lnTo>
                    <a:pt x="3" y="630"/>
                  </a:lnTo>
                  <a:lnTo>
                    <a:pt x="7" y="625"/>
                  </a:lnTo>
                  <a:lnTo>
                    <a:pt x="26" y="606"/>
                  </a:lnTo>
                  <a:lnTo>
                    <a:pt x="44" y="584"/>
                  </a:lnTo>
                  <a:lnTo>
                    <a:pt x="63" y="561"/>
                  </a:lnTo>
                  <a:lnTo>
                    <a:pt x="82" y="536"/>
                  </a:lnTo>
                  <a:lnTo>
                    <a:pt x="100" y="509"/>
                  </a:lnTo>
                  <a:lnTo>
                    <a:pt x="119" y="482"/>
                  </a:lnTo>
                  <a:lnTo>
                    <a:pt x="138" y="451"/>
                  </a:lnTo>
                  <a:lnTo>
                    <a:pt x="156" y="419"/>
                  </a:lnTo>
                  <a:lnTo>
                    <a:pt x="159" y="415"/>
                  </a:lnTo>
                  <a:lnTo>
                    <a:pt x="161" y="412"/>
                  </a:lnTo>
                  <a:lnTo>
                    <a:pt x="164" y="411"/>
                  </a:lnTo>
                  <a:lnTo>
                    <a:pt x="167" y="410"/>
                  </a:lnTo>
                  <a:lnTo>
                    <a:pt x="169" y="413"/>
                  </a:lnTo>
                  <a:lnTo>
                    <a:pt x="171" y="416"/>
                  </a:lnTo>
                  <a:lnTo>
                    <a:pt x="171" y="420"/>
                  </a:lnTo>
                  <a:lnTo>
                    <a:pt x="172" y="425"/>
                  </a:lnTo>
                  <a:lnTo>
                    <a:pt x="172" y="433"/>
                  </a:lnTo>
                  <a:lnTo>
                    <a:pt x="172" y="443"/>
                  </a:lnTo>
                  <a:lnTo>
                    <a:pt x="172" y="453"/>
                  </a:lnTo>
                  <a:lnTo>
                    <a:pt x="172" y="465"/>
                  </a:lnTo>
                  <a:lnTo>
                    <a:pt x="221" y="458"/>
                  </a:lnTo>
                  <a:lnTo>
                    <a:pt x="268" y="452"/>
                  </a:lnTo>
                  <a:lnTo>
                    <a:pt x="313" y="447"/>
                  </a:lnTo>
                  <a:lnTo>
                    <a:pt x="356" y="440"/>
                  </a:lnTo>
                  <a:lnTo>
                    <a:pt x="398" y="435"/>
                  </a:lnTo>
                  <a:lnTo>
                    <a:pt x="438" y="430"/>
                  </a:lnTo>
                  <a:lnTo>
                    <a:pt x="476" y="425"/>
                  </a:lnTo>
                  <a:lnTo>
                    <a:pt x="512" y="419"/>
                  </a:lnTo>
                  <a:lnTo>
                    <a:pt x="479" y="396"/>
                  </a:lnTo>
                  <a:lnTo>
                    <a:pt x="451" y="374"/>
                  </a:lnTo>
                  <a:lnTo>
                    <a:pt x="440" y="363"/>
                  </a:lnTo>
                  <a:lnTo>
                    <a:pt x="429" y="354"/>
                  </a:lnTo>
                  <a:lnTo>
                    <a:pt x="420" y="344"/>
                  </a:lnTo>
                  <a:lnTo>
                    <a:pt x="411" y="335"/>
                  </a:lnTo>
                  <a:lnTo>
                    <a:pt x="407" y="328"/>
                  </a:lnTo>
                  <a:lnTo>
                    <a:pt x="404" y="322"/>
                  </a:lnTo>
                  <a:lnTo>
                    <a:pt x="403" y="318"/>
                  </a:lnTo>
                  <a:lnTo>
                    <a:pt x="402" y="314"/>
                  </a:lnTo>
                  <a:lnTo>
                    <a:pt x="405" y="312"/>
                  </a:lnTo>
                  <a:lnTo>
                    <a:pt x="408" y="312"/>
                  </a:lnTo>
                  <a:lnTo>
                    <a:pt x="412" y="312"/>
                  </a:lnTo>
                  <a:lnTo>
                    <a:pt x="416" y="314"/>
                  </a:lnTo>
                  <a:close/>
                  <a:moveTo>
                    <a:pt x="462" y="130"/>
                  </a:moveTo>
                  <a:lnTo>
                    <a:pt x="470" y="138"/>
                  </a:lnTo>
                  <a:lnTo>
                    <a:pt x="486" y="154"/>
                  </a:lnTo>
                  <a:lnTo>
                    <a:pt x="491" y="159"/>
                  </a:lnTo>
                  <a:lnTo>
                    <a:pt x="492" y="160"/>
                  </a:lnTo>
                  <a:lnTo>
                    <a:pt x="494" y="163"/>
                  </a:lnTo>
                  <a:lnTo>
                    <a:pt x="495" y="166"/>
                  </a:lnTo>
                  <a:lnTo>
                    <a:pt x="495" y="169"/>
                  </a:lnTo>
                  <a:lnTo>
                    <a:pt x="494" y="172"/>
                  </a:lnTo>
                  <a:lnTo>
                    <a:pt x="493" y="174"/>
                  </a:lnTo>
                  <a:lnTo>
                    <a:pt x="490" y="177"/>
                  </a:lnTo>
                  <a:lnTo>
                    <a:pt x="486" y="178"/>
                  </a:lnTo>
                  <a:lnTo>
                    <a:pt x="482" y="180"/>
                  </a:lnTo>
                  <a:lnTo>
                    <a:pt x="446" y="189"/>
                  </a:lnTo>
                  <a:lnTo>
                    <a:pt x="414" y="197"/>
                  </a:lnTo>
                  <a:lnTo>
                    <a:pt x="386" y="204"/>
                  </a:lnTo>
                  <a:lnTo>
                    <a:pt x="361" y="209"/>
                  </a:lnTo>
                  <a:lnTo>
                    <a:pt x="341" y="214"/>
                  </a:lnTo>
                  <a:lnTo>
                    <a:pt x="324" y="217"/>
                  </a:lnTo>
                  <a:lnTo>
                    <a:pt x="311" y="219"/>
                  </a:lnTo>
                  <a:lnTo>
                    <a:pt x="301" y="220"/>
                  </a:lnTo>
                  <a:lnTo>
                    <a:pt x="289" y="219"/>
                  </a:lnTo>
                  <a:lnTo>
                    <a:pt x="277" y="216"/>
                  </a:lnTo>
                  <a:lnTo>
                    <a:pt x="264" y="212"/>
                  </a:lnTo>
                  <a:lnTo>
                    <a:pt x="251" y="204"/>
                  </a:lnTo>
                  <a:lnTo>
                    <a:pt x="228" y="250"/>
                  </a:lnTo>
                  <a:lnTo>
                    <a:pt x="207" y="287"/>
                  </a:lnTo>
                  <a:lnTo>
                    <a:pt x="197" y="303"/>
                  </a:lnTo>
                  <a:lnTo>
                    <a:pt x="188" y="315"/>
                  </a:lnTo>
                  <a:lnTo>
                    <a:pt x="179" y="326"/>
                  </a:lnTo>
                  <a:lnTo>
                    <a:pt x="172" y="335"/>
                  </a:lnTo>
                  <a:lnTo>
                    <a:pt x="165" y="341"/>
                  </a:lnTo>
                  <a:lnTo>
                    <a:pt x="159" y="347"/>
                  </a:lnTo>
                  <a:lnTo>
                    <a:pt x="153" y="353"/>
                  </a:lnTo>
                  <a:lnTo>
                    <a:pt x="145" y="357"/>
                  </a:lnTo>
                  <a:lnTo>
                    <a:pt x="138" y="360"/>
                  </a:lnTo>
                  <a:lnTo>
                    <a:pt x="129" y="363"/>
                  </a:lnTo>
                  <a:lnTo>
                    <a:pt x="121" y="364"/>
                  </a:lnTo>
                  <a:lnTo>
                    <a:pt x="111" y="366"/>
                  </a:lnTo>
                  <a:lnTo>
                    <a:pt x="102" y="366"/>
                  </a:lnTo>
                  <a:lnTo>
                    <a:pt x="91" y="366"/>
                  </a:lnTo>
                  <a:lnTo>
                    <a:pt x="81" y="365"/>
                  </a:lnTo>
                  <a:lnTo>
                    <a:pt x="70" y="364"/>
                  </a:lnTo>
                  <a:lnTo>
                    <a:pt x="58" y="361"/>
                  </a:lnTo>
                  <a:lnTo>
                    <a:pt x="47" y="358"/>
                  </a:lnTo>
                  <a:lnTo>
                    <a:pt x="34" y="355"/>
                  </a:lnTo>
                  <a:lnTo>
                    <a:pt x="21" y="349"/>
                  </a:lnTo>
                  <a:lnTo>
                    <a:pt x="44" y="335"/>
                  </a:lnTo>
                  <a:lnTo>
                    <a:pt x="64" y="320"/>
                  </a:lnTo>
                  <a:lnTo>
                    <a:pt x="83" y="304"/>
                  </a:lnTo>
                  <a:lnTo>
                    <a:pt x="101" y="287"/>
                  </a:lnTo>
                  <a:lnTo>
                    <a:pt x="118" y="269"/>
                  </a:lnTo>
                  <a:lnTo>
                    <a:pt x="134" y="251"/>
                  </a:lnTo>
                  <a:lnTo>
                    <a:pt x="147" y="232"/>
                  </a:lnTo>
                  <a:lnTo>
                    <a:pt x="160" y="212"/>
                  </a:lnTo>
                  <a:lnTo>
                    <a:pt x="172" y="191"/>
                  </a:lnTo>
                  <a:lnTo>
                    <a:pt x="182" y="170"/>
                  </a:lnTo>
                  <a:lnTo>
                    <a:pt x="191" y="149"/>
                  </a:lnTo>
                  <a:lnTo>
                    <a:pt x="198" y="127"/>
                  </a:lnTo>
                  <a:lnTo>
                    <a:pt x="205" y="103"/>
                  </a:lnTo>
                  <a:lnTo>
                    <a:pt x="210" y="79"/>
                  </a:lnTo>
                  <a:lnTo>
                    <a:pt x="214" y="55"/>
                  </a:lnTo>
                  <a:lnTo>
                    <a:pt x="216" y="29"/>
                  </a:lnTo>
                  <a:lnTo>
                    <a:pt x="229" y="39"/>
                  </a:lnTo>
                  <a:lnTo>
                    <a:pt x="242" y="47"/>
                  </a:lnTo>
                  <a:lnTo>
                    <a:pt x="255" y="55"/>
                  </a:lnTo>
                  <a:lnTo>
                    <a:pt x="269" y="61"/>
                  </a:lnTo>
                  <a:lnTo>
                    <a:pt x="283" y="65"/>
                  </a:lnTo>
                  <a:lnTo>
                    <a:pt x="297" y="70"/>
                  </a:lnTo>
                  <a:lnTo>
                    <a:pt x="312" y="73"/>
                  </a:lnTo>
                  <a:lnTo>
                    <a:pt x="326" y="75"/>
                  </a:lnTo>
                  <a:lnTo>
                    <a:pt x="317" y="85"/>
                  </a:lnTo>
                  <a:lnTo>
                    <a:pt x="307" y="97"/>
                  </a:lnTo>
                  <a:lnTo>
                    <a:pt x="299" y="109"/>
                  </a:lnTo>
                  <a:lnTo>
                    <a:pt x="291" y="120"/>
                  </a:lnTo>
                  <a:lnTo>
                    <a:pt x="284" y="133"/>
                  </a:lnTo>
                  <a:lnTo>
                    <a:pt x="278" y="145"/>
                  </a:lnTo>
                  <a:lnTo>
                    <a:pt x="271" y="158"/>
                  </a:lnTo>
                  <a:lnTo>
                    <a:pt x="266" y="169"/>
                  </a:lnTo>
                  <a:lnTo>
                    <a:pt x="266" y="171"/>
                  </a:lnTo>
                  <a:lnTo>
                    <a:pt x="265" y="173"/>
                  </a:lnTo>
                  <a:lnTo>
                    <a:pt x="264" y="174"/>
                  </a:lnTo>
                  <a:lnTo>
                    <a:pt x="262" y="174"/>
                  </a:lnTo>
                  <a:lnTo>
                    <a:pt x="279" y="171"/>
                  </a:lnTo>
                  <a:lnTo>
                    <a:pt x="300" y="166"/>
                  </a:lnTo>
                  <a:lnTo>
                    <a:pt x="326" y="159"/>
                  </a:lnTo>
                  <a:lnTo>
                    <a:pt x="356" y="150"/>
                  </a:lnTo>
                  <a:lnTo>
                    <a:pt x="380" y="143"/>
                  </a:lnTo>
                  <a:lnTo>
                    <a:pt x="401" y="137"/>
                  </a:lnTo>
                  <a:lnTo>
                    <a:pt x="418" y="133"/>
                  </a:lnTo>
                  <a:lnTo>
                    <a:pt x="431" y="130"/>
                  </a:lnTo>
                  <a:lnTo>
                    <a:pt x="441" y="126"/>
                  </a:lnTo>
                  <a:lnTo>
                    <a:pt x="449" y="125"/>
                  </a:lnTo>
                  <a:lnTo>
                    <a:pt x="452" y="125"/>
                  </a:lnTo>
                  <a:lnTo>
                    <a:pt x="456" y="126"/>
                  </a:lnTo>
                  <a:lnTo>
                    <a:pt x="459" y="128"/>
                  </a:lnTo>
                  <a:lnTo>
                    <a:pt x="462" y="130"/>
                  </a:lnTo>
                  <a:close/>
                  <a:moveTo>
                    <a:pt x="881" y="95"/>
                  </a:moveTo>
                  <a:lnTo>
                    <a:pt x="885" y="95"/>
                  </a:lnTo>
                  <a:lnTo>
                    <a:pt x="888" y="97"/>
                  </a:lnTo>
                  <a:lnTo>
                    <a:pt x="892" y="100"/>
                  </a:lnTo>
                  <a:lnTo>
                    <a:pt x="896" y="105"/>
                  </a:lnTo>
                  <a:lnTo>
                    <a:pt x="906" y="113"/>
                  </a:lnTo>
                  <a:lnTo>
                    <a:pt x="911" y="119"/>
                  </a:lnTo>
                  <a:lnTo>
                    <a:pt x="914" y="125"/>
                  </a:lnTo>
                  <a:lnTo>
                    <a:pt x="915" y="130"/>
                  </a:lnTo>
                  <a:lnTo>
                    <a:pt x="916" y="134"/>
                  </a:lnTo>
                  <a:lnTo>
                    <a:pt x="916" y="140"/>
                  </a:lnTo>
                  <a:lnTo>
                    <a:pt x="914" y="142"/>
                  </a:lnTo>
                  <a:lnTo>
                    <a:pt x="910" y="143"/>
                  </a:lnTo>
                  <a:lnTo>
                    <a:pt x="906" y="144"/>
                  </a:lnTo>
                  <a:lnTo>
                    <a:pt x="902" y="145"/>
                  </a:lnTo>
                  <a:lnTo>
                    <a:pt x="893" y="147"/>
                  </a:lnTo>
                  <a:lnTo>
                    <a:pt x="881" y="149"/>
                  </a:lnTo>
                  <a:lnTo>
                    <a:pt x="868" y="152"/>
                  </a:lnTo>
                  <a:lnTo>
                    <a:pt x="852" y="154"/>
                  </a:lnTo>
                  <a:lnTo>
                    <a:pt x="820" y="161"/>
                  </a:lnTo>
                  <a:lnTo>
                    <a:pt x="791" y="165"/>
                  </a:lnTo>
                  <a:lnTo>
                    <a:pt x="766" y="170"/>
                  </a:lnTo>
                  <a:lnTo>
                    <a:pt x="744" y="173"/>
                  </a:lnTo>
                  <a:lnTo>
                    <a:pt x="726" y="176"/>
                  </a:lnTo>
                  <a:lnTo>
                    <a:pt x="711" y="178"/>
                  </a:lnTo>
                  <a:lnTo>
                    <a:pt x="699" y="179"/>
                  </a:lnTo>
                  <a:lnTo>
                    <a:pt x="692" y="180"/>
                  </a:lnTo>
                  <a:lnTo>
                    <a:pt x="683" y="179"/>
                  </a:lnTo>
                  <a:lnTo>
                    <a:pt x="675" y="179"/>
                  </a:lnTo>
                  <a:lnTo>
                    <a:pt x="668" y="177"/>
                  </a:lnTo>
                  <a:lnTo>
                    <a:pt x="660" y="174"/>
                  </a:lnTo>
                  <a:lnTo>
                    <a:pt x="654" y="171"/>
                  </a:lnTo>
                  <a:lnTo>
                    <a:pt x="647" y="168"/>
                  </a:lnTo>
                  <a:lnTo>
                    <a:pt x="642" y="164"/>
                  </a:lnTo>
                  <a:lnTo>
                    <a:pt x="637" y="160"/>
                  </a:lnTo>
                  <a:lnTo>
                    <a:pt x="630" y="176"/>
                  </a:lnTo>
                  <a:lnTo>
                    <a:pt x="623" y="190"/>
                  </a:lnTo>
                  <a:lnTo>
                    <a:pt x="616" y="205"/>
                  </a:lnTo>
                  <a:lnTo>
                    <a:pt x="608" y="218"/>
                  </a:lnTo>
                  <a:lnTo>
                    <a:pt x="600" y="231"/>
                  </a:lnTo>
                  <a:lnTo>
                    <a:pt x="590" y="243"/>
                  </a:lnTo>
                  <a:lnTo>
                    <a:pt x="582" y="254"/>
                  </a:lnTo>
                  <a:lnTo>
                    <a:pt x="572" y="265"/>
                  </a:lnTo>
                  <a:lnTo>
                    <a:pt x="566" y="273"/>
                  </a:lnTo>
                  <a:lnTo>
                    <a:pt x="559" y="280"/>
                  </a:lnTo>
                  <a:lnTo>
                    <a:pt x="553" y="287"/>
                  </a:lnTo>
                  <a:lnTo>
                    <a:pt x="547" y="292"/>
                  </a:lnTo>
                  <a:lnTo>
                    <a:pt x="539" y="297"/>
                  </a:lnTo>
                  <a:lnTo>
                    <a:pt x="532" y="301"/>
                  </a:lnTo>
                  <a:lnTo>
                    <a:pt x="523" y="304"/>
                  </a:lnTo>
                  <a:lnTo>
                    <a:pt x="515" y="306"/>
                  </a:lnTo>
                  <a:lnTo>
                    <a:pt x="507" y="307"/>
                  </a:lnTo>
                  <a:lnTo>
                    <a:pt x="498" y="307"/>
                  </a:lnTo>
                  <a:lnTo>
                    <a:pt x="488" y="307"/>
                  </a:lnTo>
                  <a:lnTo>
                    <a:pt x="479" y="305"/>
                  </a:lnTo>
                  <a:lnTo>
                    <a:pt x="468" y="303"/>
                  </a:lnTo>
                  <a:lnTo>
                    <a:pt x="459" y="300"/>
                  </a:lnTo>
                  <a:lnTo>
                    <a:pt x="447" y="295"/>
                  </a:lnTo>
                  <a:lnTo>
                    <a:pt x="437" y="290"/>
                  </a:lnTo>
                  <a:lnTo>
                    <a:pt x="457" y="274"/>
                  </a:lnTo>
                  <a:lnTo>
                    <a:pt x="475" y="259"/>
                  </a:lnTo>
                  <a:lnTo>
                    <a:pt x="493" y="243"/>
                  </a:lnTo>
                  <a:lnTo>
                    <a:pt x="509" y="226"/>
                  </a:lnTo>
                  <a:lnTo>
                    <a:pt x="523" y="209"/>
                  </a:lnTo>
                  <a:lnTo>
                    <a:pt x="537" y="193"/>
                  </a:lnTo>
                  <a:lnTo>
                    <a:pt x="549" y="176"/>
                  </a:lnTo>
                  <a:lnTo>
                    <a:pt x="561" y="158"/>
                  </a:lnTo>
                  <a:lnTo>
                    <a:pt x="570" y="138"/>
                  </a:lnTo>
                  <a:lnTo>
                    <a:pt x="579" y="120"/>
                  </a:lnTo>
                  <a:lnTo>
                    <a:pt x="585" y="101"/>
                  </a:lnTo>
                  <a:lnTo>
                    <a:pt x="591" y="81"/>
                  </a:lnTo>
                  <a:lnTo>
                    <a:pt x="595" y="61"/>
                  </a:lnTo>
                  <a:lnTo>
                    <a:pt x="599" y="41"/>
                  </a:lnTo>
                  <a:lnTo>
                    <a:pt x="601" y="21"/>
                  </a:lnTo>
                  <a:lnTo>
                    <a:pt x="602" y="0"/>
                  </a:lnTo>
                  <a:lnTo>
                    <a:pt x="610" y="8"/>
                  </a:lnTo>
                  <a:lnTo>
                    <a:pt x="621" y="16"/>
                  </a:lnTo>
                  <a:lnTo>
                    <a:pt x="633" y="22"/>
                  </a:lnTo>
                  <a:lnTo>
                    <a:pt x="644" y="28"/>
                  </a:lnTo>
                  <a:lnTo>
                    <a:pt x="657" y="34"/>
                  </a:lnTo>
                  <a:lnTo>
                    <a:pt x="671" y="38"/>
                  </a:lnTo>
                  <a:lnTo>
                    <a:pt x="686" y="41"/>
                  </a:lnTo>
                  <a:lnTo>
                    <a:pt x="701" y="44"/>
                  </a:lnTo>
                  <a:lnTo>
                    <a:pt x="687" y="63"/>
                  </a:lnTo>
                  <a:lnTo>
                    <a:pt x="673" y="84"/>
                  </a:lnTo>
                  <a:lnTo>
                    <a:pt x="659" y="108"/>
                  </a:lnTo>
                  <a:lnTo>
                    <a:pt x="646" y="134"/>
                  </a:lnTo>
                  <a:lnTo>
                    <a:pt x="671" y="131"/>
                  </a:lnTo>
                  <a:lnTo>
                    <a:pt x="702" y="125"/>
                  </a:lnTo>
                  <a:lnTo>
                    <a:pt x="743" y="116"/>
                  </a:lnTo>
                  <a:lnTo>
                    <a:pt x="791" y="105"/>
                  </a:lnTo>
                  <a:lnTo>
                    <a:pt x="810" y="100"/>
                  </a:lnTo>
                  <a:lnTo>
                    <a:pt x="826" y="96"/>
                  </a:lnTo>
                  <a:lnTo>
                    <a:pt x="840" y="92"/>
                  </a:lnTo>
                  <a:lnTo>
                    <a:pt x="852" y="90"/>
                  </a:lnTo>
                  <a:lnTo>
                    <a:pt x="859" y="88"/>
                  </a:lnTo>
                  <a:lnTo>
                    <a:pt x="866" y="89"/>
                  </a:lnTo>
                  <a:lnTo>
                    <a:pt x="871" y="91"/>
                  </a:lnTo>
                  <a:lnTo>
                    <a:pt x="876" y="95"/>
                  </a:lnTo>
                  <a:lnTo>
                    <a:pt x="877" y="93"/>
                  </a:lnTo>
                  <a:lnTo>
                    <a:pt x="878" y="92"/>
                  </a:lnTo>
                  <a:lnTo>
                    <a:pt x="879" y="93"/>
                  </a:lnTo>
                  <a:lnTo>
                    <a:pt x="881" y="95"/>
                  </a:lnTo>
                  <a:close/>
                  <a:moveTo>
                    <a:pt x="352" y="950"/>
                  </a:moveTo>
                  <a:lnTo>
                    <a:pt x="352" y="977"/>
                  </a:lnTo>
                  <a:lnTo>
                    <a:pt x="352" y="1003"/>
                  </a:lnTo>
                  <a:lnTo>
                    <a:pt x="352" y="1028"/>
                  </a:lnTo>
                  <a:lnTo>
                    <a:pt x="352" y="1050"/>
                  </a:lnTo>
                  <a:lnTo>
                    <a:pt x="366" y="1048"/>
                  </a:lnTo>
                  <a:lnTo>
                    <a:pt x="384" y="1047"/>
                  </a:lnTo>
                  <a:lnTo>
                    <a:pt x="406" y="1046"/>
                  </a:lnTo>
                  <a:lnTo>
                    <a:pt x="431" y="1046"/>
                  </a:lnTo>
                  <a:lnTo>
                    <a:pt x="466" y="1042"/>
                  </a:lnTo>
                  <a:lnTo>
                    <a:pt x="498" y="1040"/>
                  </a:lnTo>
                  <a:lnTo>
                    <a:pt x="527" y="1038"/>
                  </a:lnTo>
                  <a:lnTo>
                    <a:pt x="553" y="1035"/>
                  </a:lnTo>
                  <a:lnTo>
                    <a:pt x="575" y="1033"/>
                  </a:lnTo>
                  <a:lnTo>
                    <a:pt x="595" y="1030"/>
                  </a:lnTo>
                  <a:lnTo>
                    <a:pt x="612" y="1028"/>
                  </a:lnTo>
                  <a:lnTo>
                    <a:pt x="626" y="1025"/>
                  </a:lnTo>
                  <a:lnTo>
                    <a:pt x="629" y="1007"/>
                  </a:lnTo>
                  <a:lnTo>
                    <a:pt x="634" y="987"/>
                  </a:lnTo>
                  <a:lnTo>
                    <a:pt x="640" y="967"/>
                  </a:lnTo>
                  <a:lnTo>
                    <a:pt x="646" y="945"/>
                  </a:lnTo>
                  <a:lnTo>
                    <a:pt x="649" y="933"/>
                  </a:lnTo>
                  <a:lnTo>
                    <a:pt x="652" y="923"/>
                  </a:lnTo>
                  <a:lnTo>
                    <a:pt x="654" y="913"/>
                  </a:lnTo>
                  <a:lnTo>
                    <a:pt x="657" y="906"/>
                  </a:lnTo>
                  <a:lnTo>
                    <a:pt x="629" y="909"/>
                  </a:lnTo>
                  <a:lnTo>
                    <a:pt x="599" y="914"/>
                  </a:lnTo>
                  <a:lnTo>
                    <a:pt x="565" y="918"/>
                  </a:lnTo>
                  <a:lnTo>
                    <a:pt x="528" y="924"/>
                  </a:lnTo>
                  <a:lnTo>
                    <a:pt x="488" y="930"/>
                  </a:lnTo>
                  <a:lnTo>
                    <a:pt x="445" y="936"/>
                  </a:lnTo>
                  <a:lnTo>
                    <a:pt x="400" y="943"/>
                  </a:lnTo>
                  <a:lnTo>
                    <a:pt x="352" y="950"/>
                  </a:lnTo>
                  <a:close/>
                  <a:moveTo>
                    <a:pt x="352" y="640"/>
                  </a:moveTo>
                  <a:lnTo>
                    <a:pt x="352" y="745"/>
                  </a:lnTo>
                  <a:lnTo>
                    <a:pt x="360" y="743"/>
                  </a:lnTo>
                  <a:lnTo>
                    <a:pt x="370" y="740"/>
                  </a:lnTo>
                  <a:lnTo>
                    <a:pt x="383" y="737"/>
                  </a:lnTo>
                  <a:lnTo>
                    <a:pt x="396" y="735"/>
                  </a:lnTo>
                  <a:lnTo>
                    <a:pt x="414" y="731"/>
                  </a:lnTo>
                  <a:lnTo>
                    <a:pt x="433" y="728"/>
                  </a:lnTo>
                  <a:lnTo>
                    <a:pt x="452" y="723"/>
                  </a:lnTo>
                  <a:lnTo>
                    <a:pt x="473" y="720"/>
                  </a:lnTo>
                  <a:lnTo>
                    <a:pt x="494" y="716"/>
                  </a:lnTo>
                  <a:lnTo>
                    <a:pt x="516" y="713"/>
                  </a:lnTo>
                  <a:lnTo>
                    <a:pt x="538" y="709"/>
                  </a:lnTo>
                  <a:lnTo>
                    <a:pt x="562" y="705"/>
                  </a:lnTo>
                  <a:lnTo>
                    <a:pt x="565" y="694"/>
                  </a:lnTo>
                  <a:lnTo>
                    <a:pt x="568" y="681"/>
                  </a:lnTo>
                  <a:lnTo>
                    <a:pt x="572" y="666"/>
                  </a:lnTo>
                  <a:lnTo>
                    <a:pt x="576" y="650"/>
                  </a:lnTo>
                  <a:lnTo>
                    <a:pt x="581" y="633"/>
                  </a:lnTo>
                  <a:lnTo>
                    <a:pt x="584" y="620"/>
                  </a:lnTo>
                  <a:lnTo>
                    <a:pt x="586" y="609"/>
                  </a:lnTo>
                  <a:lnTo>
                    <a:pt x="587" y="599"/>
                  </a:lnTo>
                  <a:lnTo>
                    <a:pt x="579" y="601"/>
                  </a:lnTo>
                  <a:lnTo>
                    <a:pt x="568" y="603"/>
                  </a:lnTo>
                  <a:lnTo>
                    <a:pt x="555" y="606"/>
                  </a:lnTo>
                  <a:lnTo>
                    <a:pt x="541" y="610"/>
                  </a:lnTo>
                  <a:lnTo>
                    <a:pt x="511" y="614"/>
                  </a:lnTo>
                  <a:lnTo>
                    <a:pt x="483" y="620"/>
                  </a:lnTo>
                  <a:lnTo>
                    <a:pt x="456" y="624"/>
                  </a:lnTo>
                  <a:lnTo>
                    <a:pt x="431" y="627"/>
                  </a:lnTo>
                  <a:lnTo>
                    <a:pt x="409" y="631"/>
                  </a:lnTo>
                  <a:lnTo>
                    <a:pt x="388" y="634"/>
                  </a:lnTo>
                  <a:lnTo>
                    <a:pt x="369" y="638"/>
                  </a:lnTo>
                  <a:lnTo>
                    <a:pt x="352" y="640"/>
                  </a:lnTo>
                  <a:close/>
                  <a:moveTo>
                    <a:pt x="642" y="230"/>
                  </a:moveTo>
                  <a:lnTo>
                    <a:pt x="639" y="226"/>
                  </a:lnTo>
                  <a:lnTo>
                    <a:pt x="638" y="223"/>
                  </a:lnTo>
                  <a:lnTo>
                    <a:pt x="637" y="219"/>
                  </a:lnTo>
                  <a:lnTo>
                    <a:pt x="637" y="215"/>
                  </a:lnTo>
                  <a:lnTo>
                    <a:pt x="637" y="213"/>
                  </a:lnTo>
                  <a:lnTo>
                    <a:pt x="639" y="213"/>
                  </a:lnTo>
                  <a:lnTo>
                    <a:pt x="642" y="213"/>
                  </a:lnTo>
                  <a:lnTo>
                    <a:pt x="646" y="215"/>
                  </a:lnTo>
                  <a:lnTo>
                    <a:pt x="653" y="215"/>
                  </a:lnTo>
                  <a:lnTo>
                    <a:pt x="661" y="215"/>
                  </a:lnTo>
                  <a:lnTo>
                    <a:pt x="698" y="220"/>
                  </a:lnTo>
                  <a:lnTo>
                    <a:pt x="728" y="224"/>
                  </a:lnTo>
                  <a:lnTo>
                    <a:pt x="751" y="230"/>
                  </a:lnTo>
                  <a:lnTo>
                    <a:pt x="767" y="235"/>
                  </a:lnTo>
                  <a:lnTo>
                    <a:pt x="768" y="236"/>
                  </a:lnTo>
                  <a:lnTo>
                    <a:pt x="769" y="239"/>
                  </a:lnTo>
                  <a:lnTo>
                    <a:pt x="769" y="245"/>
                  </a:lnTo>
                  <a:lnTo>
                    <a:pt x="770" y="253"/>
                  </a:lnTo>
                  <a:lnTo>
                    <a:pt x="771" y="277"/>
                  </a:lnTo>
                  <a:lnTo>
                    <a:pt x="771" y="310"/>
                  </a:lnTo>
                  <a:lnTo>
                    <a:pt x="771" y="316"/>
                  </a:lnTo>
                  <a:lnTo>
                    <a:pt x="770" y="322"/>
                  </a:lnTo>
                  <a:lnTo>
                    <a:pt x="769" y="326"/>
                  </a:lnTo>
                  <a:lnTo>
                    <a:pt x="767" y="329"/>
                  </a:lnTo>
                  <a:lnTo>
                    <a:pt x="764" y="331"/>
                  </a:lnTo>
                  <a:lnTo>
                    <a:pt x="761" y="331"/>
                  </a:lnTo>
                  <a:lnTo>
                    <a:pt x="756" y="329"/>
                  </a:lnTo>
                  <a:lnTo>
                    <a:pt x="751" y="325"/>
                  </a:lnTo>
                  <a:lnTo>
                    <a:pt x="720" y="300"/>
                  </a:lnTo>
                  <a:lnTo>
                    <a:pt x="692" y="276"/>
                  </a:lnTo>
                  <a:lnTo>
                    <a:pt x="665" y="253"/>
                  </a:lnTo>
                  <a:lnTo>
                    <a:pt x="642" y="230"/>
                  </a:lnTo>
                  <a:close/>
                  <a:moveTo>
                    <a:pt x="246" y="255"/>
                  </a:moveTo>
                  <a:lnTo>
                    <a:pt x="243" y="245"/>
                  </a:lnTo>
                  <a:lnTo>
                    <a:pt x="242" y="240"/>
                  </a:lnTo>
                  <a:lnTo>
                    <a:pt x="244" y="237"/>
                  </a:lnTo>
                  <a:lnTo>
                    <a:pt x="248" y="236"/>
                  </a:lnTo>
                  <a:lnTo>
                    <a:pt x="252" y="235"/>
                  </a:lnTo>
                  <a:lnTo>
                    <a:pt x="257" y="235"/>
                  </a:lnTo>
                  <a:lnTo>
                    <a:pt x="285" y="242"/>
                  </a:lnTo>
                  <a:lnTo>
                    <a:pt x="313" y="250"/>
                  </a:lnTo>
                  <a:lnTo>
                    <a:pt x="338" y="257"/>
                  </a:lnTo>
                  <a:lnTo>
                    <a:pt x="361" y="265"/>
                  </a:lnTo>
                  <a:lnTo>
                    <a:pt x="364" y="269"/>
                  </a:lnTo>
                  <a:lnTo>
                    <a:pt x="366" y="275"/>
                  </a:lnTo>
                  <a:lnTo>
                    <a:pt x="366" y="283"/>
                  </a:lnTo>
                  <a:lnTo>
                    <a:pt x="367" y="291"/>
                  </a:lnTo>
                  <a:lnTo>
                    <a:pt x="366" y="312"/>
                  </a:lnTo>
                  <a:lnTo>
                    <a:pt x="361" y="340"/>
                  </a:lnTo>
                  <a:lnTo>
                    <a:pt x="361" y="346"/>
                  </a:lnTo>
                  <a:lnTo>
                    <a:pt x="360" y="353"/>
                  </a:lnTo>
                  <a:lnTo>
                    <a:pt x="358" y="357"/>
                  </a:lnTo>
                  <a:lnTo>
                    <a:pt x="356" y="360"/>
                  </a:lnTo>
                  <a:lnTo>
                    <a:pt x="352" y="361"/>
                  </a:lnTo>
                  <a:lnTo>
                    <a:pt x="347" y="361"/>
                  </a:lnTo>
                  <a:lnTo>
                    <a:pt x="341" y="359"/>
                  </a:lnTo>
                  <a:lnTo>
                    <a:pt x="336" y="355"/>
                  </a:lnTo>
                  <a:lnTo>
                    <a:pt x="320" y="339"/>
                  </a:lnTo>
                  <a:lnTo>
                    <a:pt x="299" y="318"/>
                  </a:lnTo>
                  <a:lnTo>
                    <a:pt x="275" y="289"/>
                  </a:lnTo>
                  <a:lnTo>
                    <a:pt x="246" y="255"/>
                  </a:lnTo>
                  <a:close/>
                </a:path>
              </a:pathLst>
            </a:custGeom>
            <a:solidFill>
              <a:srgbClr val="d79f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d79f00"/>
                </a:solidFill>
                <a:latin typeface="Arial"/>
                <a:ea typeface="宋体"/>
              </a:endParaRPr>
            </a:p>
          </p:txBody>
        </p:sp>
        <p:sp>
          <p:nvSpPr>
            <p:cNvPr id="92" name="Freeform 18"/>
            <p:cNvSpPr/>
            <p:nvPr/>
          </p:nvSpPr>
          <p:spPr>
            <a:xfrm>
              <a:off x="3643200" y="9114120"/>
              <a:ext cx="226800" cy="173520"/>
            </a:xfrm>
            <a:custGeom>
              <a:avLst/>
              <a:gdLst>
                <a:gd name="textAreaLeft" fmla="*/ 0 w 226800"/>
                <a:gd name="textAreaRight" fmla="*/ 227160 w 226800"/>
                <a:gd name="textAreaTop" fmla="*/ 0 h 173520"/>
                <a:gd name="textAreaBottom" fmla="*/ 173880 h 173520"/>
              </a:gdLst>
              <a:ahLst/>
              <a:rect l="textAreaLeft" t="textAreaTop" r="textAreaRight" b="textAreaBottom"/>
              <a:pathLst>
                <a:path w="1167" h="933">
                  <a:moveTo>
                    <a:pt x="1090" y="796"/>
                  </a:moveTo>
                  <a:lnTo>
                    <a:pt x="1098" y="797"/>
                  </a:lnTo>
                  <a:lnTo>
                    <a:pt x="1105" y="800"/>
                  </a:lnTo>
                  <a:lnTo>
                    <a:pt x="1112" y="804"/>
                  </a:lnTo>
                  <a:lnTo>
                    <a:pt x="1120" y="811"/>
                  </a:lnTo>
                  <a:lnTo>
                    <a:pt x="1125" y="815"/>
                  </a:lnTo>
                  <a:lnTo>
                    <a:pt x="1131" y="821"/>
                  </a:lnTo>
                  <a:lnTo>
                    <a:pt x="1138" y="830"/>
                  </a:lnTo>
                  <a:lnTo>
                    <a:pt x="1145" y="842"/>
                  </a:lnTo>
                  <a:lnTo>
                    <a:pt x="1158" y="858"/>
                  </a:lnTo>
                  <a:lnTo>
                    <a:pt x="1165" y="871"/>
                  </a:lnTo>
                  <a:lnTo>
                    <a:pt x="1167" y="879"/>
                  </a:lnTo>
                  <a:lnTo>
                    <a:pt x="1167" y="884"/>
                  </a:lnTo>
                  <a:lnTo>
                    <a:pt x="1167" y="889"/>
                  </a:lnTo>
                  <a:lnTo>
                    <a:pt x="1166" y="893"/>
                  </a:lnTo>
                  <a:lnTo>
                    <a:pt x="1164" y="897"/>
                  </a:lnTo>
                  <a:lnTo>
                    <a:pt x="1160" y="900"/>
                  </a:lnTo>
                  <a:lnTo>
                    <a:pt x="1156" y="901"/>
                  </a:lnTo>
                  <a:lnTo>
                    <a:pt x="1150" y="901"/>
                  </a:lnTo>
                  <a:lnTo>
                    <a:pt x="1119" y="898"/>
                  </a:lnTo>
                  <a:lnTo>
                    <a:pt x="1084" y="896"/>
                  </a:lnTo>
                  <a:lnTo>
                    <a:pt x="1046" y="893"/>
                  </a:lnTo>
                  <a:lnTo>
                    <a:pt x="1005" y="892"/>
                  </a:lnTo>
                  <a:lnTo>
                    <a:pt x="961" y="892"/>
                  </a:lnTo>
                  <a:lnTo>
                    <a:pt x="914" y="892"/>
                  </a:lnTo>
                  <a:lnTo>
                    <a:pt x="863" y="894"/>
                  </a:lnTo>
                  <a:lnTo>
                    <a:pt x="810" y="897"/>
                  </a:lnTo>
                  <a:lnTo>
                    <a:pt x="753" y="899"/>
                  </a:lnTo>
                  <a:lnTo>
                    <a:pt x="698" y="902"/>
                  </a:lnTo>
                  <a:lnTo>
                    <a:pt x="645" y="906"/>
                  </a:lnTo>
                  <a:lnTo>
                    <a:pt x="593" y="910"/>
                  </a:lnTo>
                  <a:lnTo>
                    <a:pt x="544" y="915"/>
                  </a:lnTo>
                  <a:lnTo>
                    <a:pt x="496" y="920"/>
                  </a:lnTo>
                  <a:lnTo>
                    <a:pt x="449" y="925"/>
                  </a:lnTo>
                  <a:lnTo>
                    <a:pt x="405" y="932"/>
                  </a:lnTo>
                  <a:lnTo>
                    <a:pt x="397" y="933"/>
                  </a:lnTo>
                  <a:lnTo>
                    <a:pt x="389" y="933"/>
                  </a:lnTo>
                  <a:lnTo>
                    <a:pt x="379" y="931"/>
                  </a:lnTo>
                  <a:lnTo>
                    <a:pt x="370" y="926"/>
                  </a:lnTo>
                  <a:lnTo>
                    <a:pt x="350" y="906"/>
                  </a:lnTo>
                  <a:lnTo>
                    <a:pt x="334" y="889"/>
                  </a:lnTo>
                  <a:lnTo>
                    <a:pt x="322" y="875"/>
                  </a:lnTo>
                  <a:lnTo>
                    <a:pt x="315" y="866"/>
                  </a:lnTo>
                  <a:lnTo>
                    <a:pt x="362" y="864"/>
                  </a:lnTo>
                  <a:lnTo>
                    <a:pt x="409" y="861"/>
                  </a:lnTo>
                  <a:lnTo>
                    <a:pt x="456" y="857"/>
                  </a:lnTo>
                  <a:lnTo>
                    <a:pt x="502" y="853"/>
                  </a:lnTo>
                  <a:lnTo>
                    <a:pt x="549" y="850"/>
                  </a:lnTo>
                  <a:lnTo>
                    <a:pt x="594" y="846"/>
                  </a:lnTo>
                  <a:lnTo>
                    <a:pt x="640" y="842"/>
                  </a:lnTo>
                  <a:lnTo>
                    <a:pt x="684" y="836"/>
                  </a:lnTo>
                  <a:lnTo>
                    <a:pt x="684" y="825"/>
                  </a:lnTo>
                  <a:lnTo>
                    <a:pt x="684" y="809"/>
                  </a:lnTo>
                  <a:lnTo>
                    <a:pt x="684" y="790"/>
                  </a:lnTo>
                  <a:lnTo>
                    <a:pt x="684" y="766"/>
                  </a:lnTo>
                  <a:lnTo>
                    <a:pt x="688" y="743"/>
                  </a:lnTo>
                  <a:lnTo>
                    <a:pt x="689" y="723"/>
                  </a:lnTo>
                  <a:lnTo>
                    <a:pt x="690" y="705"/>
                  </a:lnTo>
                  <a:lnTo>
                    <a:pt x="690" y="691"/>
                  </a:lnTo>
                  <a:lnTo>
                    <a:pt x="674" y="691"/>
                  </a:lnTo>
                  <a:lnTo>
                    <a:pt x="656" y="692"/>
                  </a:lnTo>
                  <a:lnTo>
                    <a:pt x="637" y="694"/>
                  </a:lnTo>
                  <a:lnTo>
                    <a:pt x="615" y="696"/>
                  </a:lnTo>
                  <a:lnTo>
                    <a:pt x="589" y="701"/>
                  </a:lnTo>
                  <a:lnTo>
                    <a:pt x="570" y="703"/>
                  </a:lnTo>
                  <a:lnTo>
                    <a:pt x="564" y="703"/>
                  </a:lnTo>
                  <a:lnTo>
                    <a:pt x="558" y="703"/>
                  </a:lnTo>
                  <a:lnTo>
                    <a:pt x="556" y="702"/>
                  </a:lnTo>
                  <a:lnTo>
                    <a:pt x="555" y="702"/>
                  </a:lnTo>
                  <a:lnTo>
                    <a:pt x="549" y="700"/>
                  </a:lnTo>
                  <a:lnTo>
                    <a:pt x="541" y="695"/>
                  </a:lnTo>
                  <a:lnTo>
                    <a:pt x="534" y="691"/>
                  </a:lnTo>
                  <a:lnTo>
                    <a:pt x="527" y="685"/>
                  </a:lnTo>
                  <a:lnTo>
                    <a:pt x="518" y="677"/>
                  </a:lnTo>
                  <a:lnTo>
                    <a:pt x="509" y="668"/>
                  </a:lnTo>
                  <a:lnTo>
                    <a:pt x="500" y="658"/>
                  </a:lnTo>
                  <a:lnTo>
                    <a:pt x="490" y="647"/>
                  </a:lnTo>
                  <a:lnTo>
                    <a:pt x="509" y="645"/>
                  </a:lnTo>
                  <a:lnTo>
                    <a:pt x="529" y="644"/>
                  </a:lnTo>
                  <a:lnTo>
                    <a:pt x="551" y="642"/>
                  </a:lnTo>
                  <a:lnTo>
                    <a:pt x="575" y="640"/>
                  </a:lnTo>
                  <a:lnTo>
                    <a:pt x="601" y="636"/>
                  </a:lnTo>
                  <a:lnTo>
                    <a:pt x="628" y="632"/>
                  </a:lnTo>
                  <a:lnTo>
                    <a:pt x="658" y="626"/>
                  </a:lnTo>
                  <a:lnTo>
                    <a:pt x="690" y="621"/>
                  </a:lnTo>
                  <a:lnTo>
                    <a:pt x="691" y="607"/>
                  </a:lnTo>
                  <a:lnTo>
                    <a:pt x="691" y="591"/>
                  </a:lnTo>
                  <a:lnTo>
                    <a:pt x="693" y="572"/>
                  </a:lnTo>
                  <a:lnTo>
                    <a:pt x="695" y="551"/>
                  </a:lnTo>
                  <a:lnTo>
                    <a:pt x="695" y="528"/>
                  </a:lnTo>
                  <a:lnTo>
                    <a:pt x="695" y="509"/>
                  </a:lnTo>
                  <a:lnTo>
                    <a:pt x="695" y="493"/>
                  </a:lnTo>
                  <a:lnTo>
                    <a:pt x="695" y="481"/>
                  </a:lnTo>
                  <a:lnTo>
                    <a:pt x="669" y="483"/>
                  </a:lnTo>
                  <a:lnTo>
                    <a:pt x="642" y="488"/>
                  </a:lnTo>
                  <a:lnTo>
                    <a:pt x="618" y="491"/>
                  </a:lnTo>
                  <a:lnTo>
                    <a:pt x="594" y="496"/>
                  </a:lnTo>
                  <a:lnTo>
                    <a:pt x="594" y="513"/>
                  </a:lnTo>
                  <a:lnTo>
                    <a:pt x="593" y="526"/>
                  </a:lnTo>
                  <a:lnTo>
                    <a:pt x="593" y="530"/>
                  </a:lnTo>
                  <a:lnTo>
                    <a:pt x="592" y="533"/>
                  </a:lnTo>
                  <a:lnTo>
                    <a:pt x="591" y="535"/>
                  </a:lnTo>
                  <a:lnTo>
                    <a:pt x="590" y="536"/>
                  </a:lnTo>
                  <a:lnTo>
                    <a:pt x="582" y="532"/>
                  </a:lnTo>
                  <a:lnTo>
                    <a:pt x="573" y="526"/>
                  </a:lnTo>
                  <a:lnTo>
                    <a:pt x="565" y="519"/>
                  </a:lnTo>
                  <a:lnTo>
                    <a:pt x="555" y="511"/>
                  </a:lnTo>
                  <a:lnTo>
                    <a:pt x="534" y="491"/>
                  </a:lnTo>
                  <a:lnTo>
                    <a:pt x="510" y="465"/>
                  </a:lnTo>
                  <a:lnTo>
                    <a:pt x="505" y="406"/>
                  </a:lnTo>
                  <a:lnTo>
                    <a:pt x="499" y="350"/>
                  </a:lnTo>
                  <a:lnTo>
                    <a:pt x="495" y="323"/>
                  </a:lnTo>
                  <a:lnTo>
                    <a:pt x="491" y="297"/>
                  </a:lnTo>
                  <a:lnTo>
                    <a:pt x="486" y="271"/>
                  </a:lnTo>
                  <a:lnTo>
                    <a:pt x="481" y="247"/>
                  </a:lnTo>
                  <a:lnTo>
                    <a:pt x="476" y="224"/>
                  </a:lnTo>
                  <a:lnTo>
                    <a:pt x="469" y="200"/>
                  </a:lnTo>
                  <a:lnTo>
                    <a:pt x="463" y="178"/>
                  </a:lnTo>
                  <a:lnTo>
                    <a:pt x="457" y="157"/>
                  </a:lnTo>
                  <a:lnTo>
                    <a:pt x="449" y="137"/>
                  </a:lnTo>
                  <a:lnTo>
                    <a:pt x="442" y="118"/>
                  </a:lnTo>
                  <a:lnTo>
                    <a:pt x="433" y="99"/>
                  </a:lnTo>
                  <a:lnTo>
                    <a:pt x="425" y="81"/>
                  </a:lnTo>
                  <a:lnTo>
                    <a:pt x="437" y="81"/>
                  </a:lnTo>
                  <a:lnTo>
                    <a:pt x="450" y="82"/>
                  </a:lnTo>
                  <a:lnTo>
                    <a:pt x="466" y="84"/>
                  </a:lnTo>
                  <a:lnTo>
                    <a:pt x="485" y="86"/>
                  </a:lnTo>
                  <a:lnTo>
                    <a:pt x="501" y="88"/>
                  </a:lnTo>
                  <a:lnTo>
                    <a:pt x="514" y="89"/>
                  </a:lnTo>
                  <a:lnTo>
                    <a:pt x="523" y="90"/>
                  </a:lnTo>
                  <a:lnTo>
                    <a:pt x="530" y="90"/>
                  </a:lnTo>
                  <a:lnTo>
                    <a:pt x="563" y="88"/>
                  </a:lnTo>
                  <a:lnTo>
                    <a:pt x="594" y="85"/>
                  </a:lnTo>
                  <a:lnTo>
                    <a:pt x="625" y="82"/>
                  </a:lnTo>
                  <a:lnTo>
                    <a:pt x="655" y="77"/>
                  </a:lnTo>
                  <a:lnTo>
                    <a:pt x="682" y="73"/>
                  </a:lnTo>
                  <a:lnTo>
                    <a:pt x="709" y="69"/>
                  </a:lnTo>
                  <a:lnTo>
                    <a:pt x="734" y="64"/>
                  </a:lnTo>
                  <a:lnTo>
                    <a:pt x="758" y="58"/>
                  </a:lnTo>
                  <a:lnTo>
                    <a:pt x="780" y="52"/>
                  </a:lnTo>
                  <a:lnTo>
                    <a:pt x="801" y="46"/>
                  </a:lnTo>
                  <a:lnTo>
                    <a:pt x="821" y="39"/>
                  </a:lnTo>
                  <a:lnTo>
                    <a:pt x="839" y="33"/>
                  </a:lnTo>
                  <a:lnTo>
                    <a:pt x="857" y="26"/>
                  </a:lnTo>
                  <a:lnTo>
                    <a:pt x="872" y="17"/>
                  </a:lnTo>
                  <a:lnTo>
                    <a:pt x="887" y="10"/>
                  </a:lnTo>
                  <a:lnTo>
                    <a:pt x="900" y="0"/>
                  </a:lnTo>
                  <a:lnTo>
                    <a:pt x="920" y="19"/>
                  </a:lnTo>
                  <a:lnTo>
                    <a:pt x="940" y="35"/>
                  </a:lnTo>
                  <a:lnTo>
                    <a:pt x="962" y="51"/>
                  </a:lnTo>
                  <a:lnTo>
                    <a:pt x="985" y="65"/>
                  </a:lnTo>
                  <a:lnTo>
                    <a:pt x="1010" y="76"/>
                  </a:lnTo>
                  <a:lnTo>
                    <a:pt x="1035" y="88"/>
                  </a:lnTo>
                  <a:lnTo>
                    <a:pt x="1061" y="98"/>
                  </a:lnTo>
                  <a:lnTo>
                    <a:pt x="1090" y="106"/>
                  </a:lnTo>
                  <a:lnTo>
                    <a:pt x="1085" y="111"/>
                  </a:lnTo>
                  <a:lnTo>
                    <a:pt x="1078" y="119"/>
                  </a:lnTo>
                  <a:lnTo>
                    <a:pt x="1072" y="127"/>
                  </a:lnTo>
                  <a:lnTo>
                    <a:pt x="1067" y="138"/>
                  </a:lnTo>
                  <a:lnTo>
                    <a:pt x="1053" y="163"/>
                  </a:lnTo>
                  <a:lnTo>
                    <a:pt x="1040" y="194"/>
                  </a:lnTo>
                  <a:lnTo>
                    <a:pt x="1025" y="232"/>
                  </a:lnTo>
                  <a:lnTo>
                    <a:pt x="1012" y="276"/>
                  </a:lnTo>
                  <a:lnTo>
                    <a:pt x="996" y="325"/>
                  </a:lnTo>
                  <a:lnTo>
                    <a:pt x="980" y="381"/>
                  </a:lnTo>
                  <a:lnTo>
                    <a:pt x="962" y="438"/>
                  </a:lnTo>
                  <a:lnTo>
                    <a:pt x="947" y="478"/>
                  </a:lnTo>
                  <a:lnTo>
                    <a:pt x="942" y="493"/>
                  </a:lnTo>
                  <a:lnTo>
                    <a:pt x="937" y="502"/>
                  </a:lnTo>
                  <a:lnTo>
                    <a:pt x="933" y="509"/>
                  </a:lnTo>
                  <a:lnTo>
                    <a:pt x="930" y="511"/>
                  </a:lnTo>
                  <a:lnTo>
                    <a:pt x="926" y="510"/>
                  </a:lnTo>
                  <a:lnTo>
                    <a:pt x="922" y="508"/>
                  </a:lnTo>
                  <a:lnTo>
                    <a:pt x="916" y="503"/>
                  </a:lnTo>
                  <a:lnTo>
                    <a:pt x="911" y="498"/>
                  </a:lnTo>
                  <a:lnTo>
                    <a:pt x="899" y="482"/>
                  </a:lnTo>
                  <a:lnTo>
                    <a:pt x="885" y="461"/>
                  </a:lnTo>
                  <a:lnTo>
                    <a:pt x="855" y="465"/>
                  </a:lnTo>
                  <a:lnTo>
                    <a:pt x="824" y="468"/>
                  </a:lnTo>
                  <a:lnTo>
                    <a:pt x="792" y="471"/>
                  </a:lnTo>
                  <a:lnTo>
                    <a:pt x="760" y="471"/>
                  </a:lnTo>
                  <a:lnTo>
                    <a:pt x="760" y="506"/>
                  </a:lnTo>
                  <a:lnTo>
                    <a:pt x="760" y="541"/>
                  </a:lnTo>
                  <a:lnTo>
                    <a:pt x="760" y="576"/>
                  </a:lnTo>
                  <a:lnTo>
                    <a:pt x="760" y="610"/>
                  </a:lnTo>
                  <a:lnTo>
                    <a:pt x="799" y="604"/>
                  </a:lnTo>
                  <a:lnTo>
                    <a:pt x="835" y="597"/>
                  </a:lnTo>
                  <a:lnTo>
                    <a:pt x="869" y="591"/>
                  </a:lnTo>
                  <a:lnTo>
                    <a:pt x="900" y="586"/>
                  </a:lnTo>
                  <a:lnTo>
                    <a:pt x="909" y="586"/>
                  </a:lnTo>
                  <a:lnTo>
                    <a:pt x="917" y="588"/>
                  </a:lnTo>
                  <a:lnTo>
                    <a:pt x="925" y="591"/>
                  </a:lnTo>
                  <a:lnTo>
                    <a:pt x="930" y="596"/>
                  </a:lnTo>
                  <a:lnTo>
                    <a:pt x="940" y="604"/>
                  </a:lnTo>
                  <a:lnTo>
                    <a:pt x="949" y="614"/>
                  </a:lnTo>
                  <a:lnTo>
                    <a:pt x="958" y="624"/>
                  </a:lnTo>
                  <a:lnTo>
                    <a:pt x="965" y="636"/>
                  </a:lnTo>
                  <a:lnTo>
                    <a:pt x="969" y="640"/>
                  </a:lnTo>
                  <a:lnTo>
                    <a:pt x="971" y="644"/>
                  </a:lnTo>
                  <a:lnTo>
                    <a:pt x="971" y="649"/>
                  </a:lnTo>
                  <a:lnTo>
                    <a:pt x="970" y="651"/>
                  </a:lnTo>
                  <a:lnTo>
                    <a:pt x="969" y="653"/>
                  </a:lnTo>
                  <a:lnTo>
                    <a:pt x="967" y="655"/>
                  </a:lnTo>
                  <a:lnTo>
                    <a:pt x="964" y="656"/>
                  </a:lnTo>
                  <a:lnTo>
                    <a:pt x="960" y="656"/>
                  </a:lnTo>
                  <a:lnTo>
                    <a:pt x="946" y="657"/>
                  </a:lnTo>
                  <a:lnTo>
                    <a:pt x="929" y="659"/>
                  </a:lnTo>
                  <a:lnTo>
                    <a:pt x="909" y="662"/>
                  </a:lnTo>
                  <a:lnTo>
                    <a:pt x="885" y="665"/>
                  </a:lnTo>
                  <a:lnTo>
                    <a:pt x="858" y="668"/>
                  </a:lnTo>
                  <a:lnTo>
                    <a:pt x="828" y="672"/>
                  </a:lnTo>
                  <a:lnTo>
                    <a:pt x="796" y="676"/>
                  </a:lnTo>
                  <a:lnTo>
                    <a:pt x="760" y="681"/>
                  </a:lnTo>
                  <a:lnTo>
                    <a:pt x="760" y="827"/>
                  </a:lnTo>
                  <a:lnTo>
                    <a:pt x="801" y="821"/>
                  </a:lnTo>
                  <a:lnTo>
                    <a:pt x="842" y="817"/>
                  </a:lnTo>
                  <a:lnTo>
                    <a:pt x="884" y="813"/>
                  </a:lnTo>
                  <a:lnTo>
                    <a:pt x="925" y="809"/>
                  </a:lnTo>
                  <a:lnTo>
                    <a:pt x="966" y="805"/>
                  </a:lnTo>
                  <a:lnTo>
                    <a:pt x="1007" y="801"/>
                  </a:lnTo>
                  <a:lnTo>
                    <a:pt x="1049" y="799"/>
                  </a:lnTo>
                  <a:lnTo>
                    <a:pt x="1090" y="796"/>
                  </a:lnTo>
                  <a:close/>
                  <a:moveTo>
                    <a:pt x="430" y="410"/>
                  </a:moveTo>
                  <a:lnTo>
                    <a:pt x="393" y="419"/>
                  </a:lnTo>
                  <a:lnTo>
                    <a:pt x="357" y="426"/>
                  </a:lnTo>
                  <a:lnTo>
                    <a:pt x="323" y="434"/>
                  </a:lnTo>
                  <a:lnTo>
                    <a:pt x="290" y="441"/>
                  </a:lnTo>
                  <a:lnTo>
                    <a:pt x="290" y="456"/>
                  </a:lnTo>
                  <a:lnTo>
                    <a:pt x="290" y="475"/>
                  </a:lnTo>
                  <a:lnTo>
                    <a:pt x="290" y="498"/>
                  </a:lnTo>
                  <a:lnTo>
                    <a:pt x="290" y="526"/>
                  </a:lnTo>
                  <a:lnTo>
                    <a:pt x="287" y="556"/>
                  </a:lnTo>
                  <a:lnTo>
                    <a:pt x="286" y="584"/>
                  </a:lnTo>
                  <a:lnTo>
                    <a:pt x="285" y="606"/>
                  </a:lnTo>
                  <a:lnTo>
                    <a:pt x="285" y="626"/>
                  </a:lnTo>
                  <a:lnTo>
                    <a:pt x="323" y="612"/>
                  </a:lnTo>
                  <a:lnTo>
                    <a:pt x="360" y="596"/>
                  </a:lnTo>
                  <a:lnTo>
                    <a:pt x="393" y="581"/>
                  </a:lnTo>
                  <a:lnTo>
                    <a:pt x="425" y="566"/>
                  </a:lnTo>
                  <a:lnTo>
                    <a:pt x="434" y="564"/>
                  </a:lnTo>
                  <a:lnTo>
                    <a:pt x="441" y="565"/>
                  </a:lnTo>
                  <a:lnTo>
                    <a:pt x="444" y="566"/>
                  </a:lnTo>
                  <a:lnTo>
                    <a:pt x="446" y="567"/>
                  </a:lnTo>
                  <a:lnTo>
                    <a:pt x="448" y="568"/>
                  </a:lnTo>
                  <a:lnTo>
                    <a:pt x="450" y="571"/>
                  </a:lnTo>
                  <a:lnTo>
                    <a:pt x="450" y="574"/>
                  </a:lnTo>
                  <a:lnTo>
                    <a:pt x="451" y="578"/>
                  </a:lnTo>
                  <a:lnTo>
                    <a:pt x="450" y="582"/>
                  </a:lnTo>
                  <a:lnTo>
                    <a:pt x="450" y="585"/>
                  </a:lnTo>
                  <a:lnTo>
                    <a:pt x="448" y="588"/>
                  </a:lnTo>
                  <a:lnTo>
                    <a:pt x="446" y="590"/>
                  </a:lnTo>
                  <a:lnTo>
                    <a:pt x="443" y="594"/>
                  </a:lnTo>
                  <a:lnTo>
                    <a:pt x="440" y="596"/>
                  </a:lnTo>
                  <a:lnTo>
                    <a:pt x="377" y="636"/>
                  </a:lnTo>
                  <a:lnTo>
                    <a:pt x="320" y="673"/>
                  </a:lnTo>
                  <a:lnTo>
                    <a:pt x="269" y="708"/>
                  </a:lnTo>
                  <a:lnTo>
                    <a:pt x="223" y="740"/>
                  </a:lnTo>
                  <a:lnTo>
                    <a:pt x="181" y="769"/>
                  </a:lnTo>
                  <a:lnTo>
                    <a:pt x="145" y="796"/>
                  </a:lnTo>
                  <a:lnTo>
                    <a:pt x="115" y="820"/>
                  </a:lnTo>
                  <a:lnTo>
                    <a:pt x="90" y="842"/>
                  </a:lnTo>
                  <a:lnTo>
                    <a:pt x="84" y="830"/>
                  </a:lnTo>
                  <a:lnTo>
                    <a:pt x="76" y="817"/>
                  </a:lnTo>
                  <a:lnTo>
                    <a:pt x="68" y="803"/>
                  </a:lnTo>
                  <a:lnTo>
                    <a:pt x="57" y="790"/>
                  </a:lnTo>
                  <a:lnTo>
                    <a:pt x="45" y="775"/>
                  </a:lnTo>
                  <a:lnTo>
                    <a:pt x="32" y="760"/>
                  </a:lnTo>
                  <a:lnTo>
                    <a:pt x="16" y="743"/>
                  </a:lnTo>
                  <a:lnTo>
                    <a:pt x="0" y="726"/>
                  </a:lnTo>
                  <a:lnTo>
                    <a:pt x="17" y="723"/>
                  </a:lnTo>
                  <a:lnTo>
                    <a:pt x="38" y="718"/>
                  </a:lnTo>
                  <a:lnTo>
                    <a:pt x="62" y="711"/>
                  </a:lnTo>
                  <a:lnTo>
                    <a:pt x="87" y="703"/>
                  </a:lnTo>
                  <a:lnTo>
                    <a:pt x="117" y="692"/>
                  </a:lnTo>
                  <a:lnTo>
                    <a:pt x="147" y="680"/>
                  </a:lnTo>
                  <a:lnTo>
                    <a:pt x="182" y="667"/>
                  </a:lnTo>
                  <a:lnTo>
                    <a:pt x="219" y="651"/>
                  </a:lnTo>
                  <a:lnTo>
                    <a:pt x="219" y="621"/>
                  </a:lnTo>
                  <a:lnTo>
                    <a:pt x="219" y="591"/>
                  </a:lnTo>
                  <a:lnTo>
                    <a:pt x="219" y="565"/>
                  </a:lnTo>
                  <a:lnTo>
                    <a:pt x="218" y="539"/>
                  </a:lnTo>
                  <a:lnTo>
                    <a:pt x="218" y="516"/>
                  </a:lnTo>
                  <a:lnTo>
                    <a:pt x="217" y="494"/>
                  </a:lnTo>
                  <a:lnTo>
                    <a:pt x="216" y="474"/>
                  </a:lnTo>
                  <a:lnTo>
                    <a:pt x="215" y="456"/>
                  </a:lnTo>
                  <a:lnTo>
                    <a:pt x="207" y="458"/>
                  </a:lnTo>
                  <a:lnTo>
                    <a:pt x="196" y="461"/>
                  </a:lnTo>
                  <a:lnTo>
                    <a:pt x="183" y="463"/>
                  </a:lnTo>
                  <a:lnTo>
                    <a:pt x="170" y="465"/>
                  </a:lnTo>
                  <a:lnTo>
                    <a:pt x="147" y="470"/>
                  </a:lnTo>
                  <a:lnTo>
                    <a:pt x="133" y="472"/>
                  </a:lnTo>
                  <a:lnTo>
                    <a:pt x="127" y="473"/>
                  </a:lnTo>
                  <a:lnTo>
                    <a:pt x="123" y="473"/>
                  </a:lnTo>
                  <a:lnTo>
                    <a:pt x="121" y="472"/>
                  </a:lnTo>
                  <a:lnTo>
                    <a:pt x="120" y="471"/>
                  </a:lnTo>
                  <a:lnTo>
                    <a:pt x="111" y="466"/>
                  </a:lnTo>
                  <a:lnTo>
                    <a:pt x="103" y="462"/>
                  </a:lnTo>
                  <a:lnTo>
                    <a:pt x="96" y="457"/>
                  </a:lnTo>
                  <a:lnTo>
                    <a:pt x="87" y="450"/>
                  </a:lnTo>
                  <a:lnTo>
                    <a:pt x="80" y="444"/>
                  </a:lnTo>
                  <a:lnTo>
                    <a:pt x="73" y="437"/>
                  </a:lnTo>
                  <a:lnTo>
                    <a:pt x="66" y="429"/>
                  </a:lnTo>
                  <a:lnTo>
                    <a:pt x="60" y="421"/>
                  </a:lnTo>
                  <a:lnTo>
                    <a:pt x="96" y="416"/>
                  </a:lnTo>
                  <a:lnTo>
                    <a:pt x="134" y="408"/>
                  </a:lnTo>
                  <a:lnTo>
                    <a:pt x="173" y="401"/>
                  </a:lnTo>
                  <a:lnTo>
                    <a:pt x="215" y="391"/>
                  </a:lnTo>
                  <a:lnTo>
                    <a:pt x="213" y="365"/>
                  </a:lnTo>
                  <a:lnTo>
                    <a:pt x="212" y="339"/>
                  </a:lnTo>
                  <a:lnTo>
                    <a:pt x="210" y="315"/>
                  </a:lnTo>
                  <a:lnTo>
                    <a:pt x="208" y="294"/>
                  </a:lnTo>
                  <a:lnTo>
                    <a:pt x="205" y="272"/>
                  </a:lnTo>
                  <a:lnTo>
                    <a:pt x="201" y="253"/>
                  </a:lnTo>
                  <a:lnTo>
                    <a:pt x="198" y="236"/>
                  </a:lnTo>
                  <a:lnTo>
                    <a:pt x="195" y="221"/>
                  </a:lnTo>
                  <a:lnTo>
                    <a:pt x="181" y="221"/>
                  </a:lnTo>
                  <a:lnTo>
                    <a:pt x="166" y="222"/>
                  </a:lnTo>
                  <a:lnTo>
                    <a:pt x="148" y="224"/>
                  </a:lnTo>
                  <a:lnTo>
                    <a:pt x="129" y="226"/>
                  </a:lnTo>
                  <a:lnTo>
                    <a:pt x="110" y="229"/>
                  </a:lnTo>
                  <a:lnTo>
                    <a:pt x="100" y="231"/>
                  </a:lnTo>
                  <a:lnTo>
                    <a:pt x="93" y="228"/>
                  </a:lnTo>
                  <a:lnTo>
                    <a:pt x="87" y="224"/>
                  </a:lnTo>
                  <a:lnTo>
                    <a:pt x="80" y="218"/>
                  </a:lnTo>
                  <a:lnTo>
                    <a:pt x="72" y="213"/>
                  </a:lnTo>
                  <a:lnTo>
                    <a:pt x="56" y="198"/>
                  </a:lnTo>
                  <a:lnTo>
                    <a:pt x="39" y="180"/>
                  </a:lnTo>
                  <a:lnTo>
                    <a:pt x="61" y="177"/>
                  </a:lnTo>
                  <a:lnTo>
                    <a:pt x="85" y="173"/>
                  </a:lnTo>
                  <a:lnTo>
                    <a:pt x="112" y="168"/>
                  </a:lnTo>
                  <a:lnTo>
                    <a:pt x="145" y="160"/>
                  </a:lnTo>
                  <a:lnTo>
                    <a:pt x="180" y="153"/>
                  </a:lnTo>
                  <a:lnTo>
                    <a:pt x="219" y="143"/>
                  </a:lnTo>
                  <a:lnTo>
                    <a:pt x="263" y="133"/>
                  </a:lnTo>
                  <a:lnTo>
                    <a:pt x="309" y="121"/>
                  </a:lnTo>
                  <a:lnTo>
                    <a:pt x="331" y="116"/>
                  </a:lnTo>
                  <a:lnTo>
                    <a:pt x="349" y="111"/>
                  </a:lnTo>
                  <a:lnTo>
                    <a:pt x="363" y="108"/>
                  </a:lnTo>
                  <a:lnTo>
                    <a:pt x="375" y="106"/>
                  </a:lnTo>
                  <a:lnTo>
                    <a:pt x="380" y="109"/>
                  </a:lnTo>
                  <a:lnTo>
                    <a:pt x="386" y="113"/>
                  </a:lnTo>
                  <a:lnTo>
                    <a:pt x="393" y="120"/>
                  </a:lnTo>
                  <a:lnTo>
                    <a:pt x="400" y="127"/>
                  </a:lnTo>
                  <a:lnTo>
                    <a:pt x="416" y="146"/>
                  </a:lnTo>
                  <a:lnTo>
                    <a:pt x="434" y="171"/>
                  </a:lnTo>
                  <a:lnTo>
                    <a:pt x="427" y="172"/>
                  </a:lnTo>
                  <a:lnTo>
                    <a:pt x="415" y="176"/>
                  </a:lnTo>
                  <a:lnTo>
                    <a:pt x="387" y="181"/>
                  </a:lnTo>
                  <a:lnTo>
                    <a:pt x="360" y="188"/>
                  </a:lnTo>
                  <a:lnTo>
                    <a:pt x="336" y="192"/>
                  </a:lnTo>
                  <a:lnTo>
                    <a:pt x="313" y="197"/>
                  </a:lnTo>
                  <a:lnTo>
                    <a:pt x="290" y="201"/>
                  </a:lnTo>
                  <a:lnTo>
                    <a:pt x="270" y="205"/>
                  </a:lnTo>
                  <a:lnTo>
                    <a:pt x="252" y="208"/>
                  </a:lnTo>
                  <a:lnTo>
                    <a:pt x="235" y="211"/>
                  </a:lnTo>
                  <a:lnTo>
                    <a:pt x="254" y="215"/>
                  </a:lnTo>
                  <a:lnTo>
                    <a:pt x="272" y="218"/>
                  </a:lnTo>
                  <a:lnTo>
                    <a:pt x="289" y="221"/>
                  </a:lnTo>
                  <a:lnTo>
                    <a:pt x="305" y="221"/>
                  </a:lnTo>
                  <a:lnTo>
                    <a:pt x="302" y="243"/>
                  </a:lnTo>
                  <a:lnTo>
                    <a:pt x="299" y="276"/>
                  </a:lnTo>
                  <a:lnTo>
                    <a:pt x="295" y="318"/>
                  </a:lnTo>
                  <a:lnTo>
                    <a:pt x="290" y="371"/>
                  </a:lnTo>
                  <a:lnTo>
                    <a:pt x="312" y="364"/>
                  </a:lnTo>
                  <a:lnTo>
                    <a:pt x="334" y="357"/>
                  </a:lnTo>
                  <a:lnTo>
                    <a:pt x="355" y="351"/>
                  </a:lnTo>
                  <a:lnTo>
                    <a:pt x="375" y="346"/>
                  </a:lnTo>
                  <a:lnTo>
                    <a:pt x="383" y="351"/>
                  </a:lnTo>
                  <a:lnTo>
                    <a:pt x="390" y="357"/>
                  </a:lnTo>
                  <a:lnTo>
                    <a:pt x="396" y="365"/>
                  </a:lnTo>
                  <a:lnTo>
                    <a:pt x="404" y="372"/>
                  </a:lnTo>
                  <a:lnTo>
                    <a:pt x="410" y="381"/>
                  </a:lnTo>
                  <a:lnTo>
                    <a:pt x="418" y="390"/>
                  </a:lnTo>
                  <a:lnTo>
                    <a:pt x="424" y="400"/>
                  </a:lnTo>
                  <a:lnTo>
                    <a:pt x="430" y="410"/>
                  </a:lnTo>
                  <a:close/>
                  <a:moveTo>
                    <a:pt x="930" y="86"/>
                  </a:moveTo>
                  <a:lnTo>
                    <a:pt x="900" y="89"/>
                  </a:lnTo>
                  <a:lnTo>
                    <a:pt x="871" y="93"/>
                  </a:lnTo>
                  <a:lnTo>
                    <a:pt x="840" y="99"/>
                  </a:lnTo>
                  <a:lnTo>
                    <a:pt x="808" y="103"/>
                  </a:lnTo>
                  <a:lnTo>
                    <a:pt x="777" y="108"/>
                  </a:lnTo>
                  <a:lnTo>
                    <a:pt x="744" y="113"/>
                  </a:lnTo>
                  <a:lnTo>
                    <a:pt x="710" y="120"/>
                  </a:lnTo>
                  <a:lnTo>
                    <a:pt x="675" y="126"/>
                  </a:lnTo>
                  <a:lnTo>
                    <a:pt x="687" y="130"/>
                  </a:lnTo>
                  <a:lnTo>
                    <a:pt x="699" y="135"/>
                  </a:lnTo>
                  <a:lnTo>
                    <a:pt x="712" y="138"/>
                  </a:lnTo>
                  <a:lnTo>
                    <a:pt x="726" y="141"/>
                  </a:lnTo>
                  <a:lnTo>
                    <a:pt x="741" y="143"/>
                  </a:lnTo>
                  <a:lnTo>
                    <a:pt x="756" y="144"/>
                  </a:lnTo>
                  <a:lnTo>
                    <a:pt x="773" y="145"/>
                  </a:lnTo>
                  <a:lnTo>
                    <a:pt x="790" y="145"/>
                  </a:lnTo>
                  <a:lnTo>
                    <a:pt x="783" y="165"/>
                  </a:lnTo>
                  <a:lnTo>
                    <a:pt x="777" y="188"/>
                  </a:lnTo>
                  <a:lnTo>
                    <a:pt x="770" y="215"/>
                  </a:lnTo>
                  <a:lnTo>
                    <a:pt x="765" y="246"/>
                  </a:lnTo>
                  <a:lnTo>
                    <a:pt x="780" y="241"/>
                  </a:lnTo>
                  <a:lnTo>
                    <a:pt x="795" y="237"/>
                  </a:lnTo>
                  <a:lnTo>
                    <a:pt x="810" y="233"/>
                  </a:lnTo>
                  <a:lnTo>
                    <a:pt x="825" y="231"/>
                  </a:lnTo>
                  <a:lnTo>
                    <a:pt x="828" y="230"/>
                  </a:lnTo>
                  <a:lnTo>
                    <a:pt x="833" y="229"/>
                  </a:lnTo>
                  <a:lnTo>
                    <a:pt x="836" y="230"/>
                  </a:lnTo>
                  <a:lnTo>
                    <a:pt x="839" y="231"/>
                  </a:lnTo>
                  <a:lnTo>
                    <a:pt x="842" y="232"/>
                  </a:lnTo>
                  <a:lnTo>
                    <a:pt x="844" y="234"/>
                  </a:lnTo>
                  <a:lnTo>
                    <a:pt x="848" y="237"/>
                  </a:lnTo>
                  <a:lnTo>
                    <a:pt x="850" y="241"/>
                  </a:lnTo>
                  <a:lnTo>
                    <a:pt x="857" y="249"/>
                  </a:lnTo>
                  <a:lnTo>
                    <a:pt x="866" y="260"/>
                  </a:lnTo>
                  <a:lnTo>
                    <a:pt x="873" y="271"/>
                  </a:lnTo>
                  <a:lnTo>
                    <a:pt x="880" y="286"/>
                  </a:lnTo>
                  <a:lnTo>
                    <a:pt x="851" y="289"/>
                  </a:lnTo>
                  <a:lnTo>
                    <a:pt x="821" y="294"/>
                  </a:lnTo>
                  <a:lnTo>
                    <a:pt x="792" y="299"/>
                  </a:lnTo>
                  <a:lnTo>
                    <a:pt x="765" y="305"/>
                  </a:lnTo>
                  <a:lnTo>
                    <a:pt x="765" y="330"/>
                  </a:lnTo>
                  <a:lnTo>
                    <a:pt x="764" y="356"/>
                  </a:lnTo>
                  <a:lnTo>
                    <a:pt x="762" y="385"/>
                  </a:lnTo>
                  <a:lnTo>
                    <a:pt x="760" y="416"/>
                  </a:lnTo>
                  <a:lnTo>
                    <a:pt x="789" y="411"/>
                  </a:lnTo>
                  <a:lnTo>
                    <a:pt x="819" y="407"/>
                  </a:lnTo>
                  <a:lnTo>
                    <a:pt x="848" y="404"/>
                  </a:lnTo>
                  <a:lnTo>
                    <a:pt x="875" y="401"/>
                  </a:lnTo>
                  <a:lnTo>
                    <a:pt x="879" y="379"/>
                  </a:lnTo>
                  <a:lnTo>
                    <a:pt x="884" y="355"/>
                  </a:lnTo>
                  <a:lnTo>
                    <a:pt x="889" y="329"/>
                  </a:lnTo>
                  <a:lnTo>
                    <a:pt x="894" y="300"/>
                  </a:lnTo>
                  <a:lnTo>
                    <a:pt x="899" y="267"/>
                  </a:lnTo>
                  <a:lnTo>
                    <a:pt x="906" y="233"/>
                  </a:lnTo>
                  <a:lnTo>
                    <a:pt x="913" y="195"/>
                  </a:lnTo>
                  <a:lnTo>
                    <a:pt x="920" y="156"/>
                  </a:lnTo>
                  <a:lnTo>
                    <a:pt x="923" y="130"/>
                  </a:lnTo>
                  <a:lnTo>
                    <a:pt x="925" y="110"/>
                  </a:lnTo>
                  <a:lnTo>
                    <a:pt x="928" y="95"/>
                  </a:lnTo>
                  <a:lnTo>
                    <a:pt x="930" y="86"/>
                  </a:lnTo>
                  <a:close/>
                  <a:moveTo>
                    <a:pt x="580" y="281"/>
                  </a:moveTo>
                  <a:lnTo>
                    <a:pt x="591" y="280"/>
                  </a:lnTo>
                  <a:lnTo>
                    <a:pt x="605" y="276"/>
                  </a:lnTo>
                  <a:lnTo>
                    <a:pt x="618" y="275"/>
                  </a:lnTo>
                  <a:lnTo>
                    <a:pt x="638" y="272"/>
                  </a:lnTo>
                  <a:lnTo>
                    <a:pt x="663" y="267"/>
                  </a:lnTo>
                  <a:lnTo>
                    <a:pt x="695" y="261"/>
                  </a:lnTo>
                  <a:lnTo>
                    <a:pt x="690" y="221"/>
                  </a:lnTo>
                  <a:lnTo>
                    <a:pt x="682" y="186"/>
                  </a:lnTo>
                  <a:lnTo>
                    <a:pt x="678" y="170"/>
                  </a:lnTo>
                  <a:lnTo>
                    <a:pt x="675" y="156"/>
                  </a:lnTo>
                  <a:lnTo>
                    <a:pt x="670" y="142"/>
                  </a:lnTo>
                  <a:lnTo>
                    <a:pt x="665" y="130"/>
                  </a:lnTo>
                  <a:lnTo>
                    <a:pt x="654" y="134"/>
                  </a:lnTo>
                  <a:lnTo>
                    <a:pt x="640" y="136"/>
                  </a:lnTo>
                  <a:lnTo>
                    <a:pt x="624" y="138"/>
                  </a:lnTo>
                  <a:lnTo>
                    <a:pt x="605" y="141"/>
                  </a:lnTo>
                  <a:lnTo>
                    <a:pt x="593" y="145"/>
                  </a:lnTo>
                  <a:lnTo>
                    <a:pt x="583" y="148"/>
                  </a:lnTo>
                  <a:lnTo>
                    <a:pt x="573" y="151"/>
                  </a:lnTo>
                  <a:lnTo>
                    <a:pt x="565" y="151"/>
                  </a:lnTo>
                  <a:lnTo>
                    <a:pt x="545" y="126"/>
                  </a:lnTo>
                  <a:lnTo>
                    <a:pt x="546" y="137"/>
                  </a:lnTo>
                  <a:lnTo>
                    <a:pt x="548" y="151"/>
                  </a:lnTo>
                  <a:lnTo>
                    <a:pt x="551" y="166"/>
                  </a:lnTo>
                  <a:lnTo>
                    <a:pt x="555" y="186"/>
                  </a:lnTo>
                  <a:lnTo>
                    <a:pt x="559" y="227"/>
                  </a:lnTo>
                  <a:lnTo>
                    <a:pt x="565" y="265"/>
                  </a:lnTo>
                  <a:lnTo>
                    <a:pt x="569" y="301"/>
                  </a:lnTo>
                  <a:lnTo>
                    <a:pt x="572" y="335"/>
                  </a:lnTo>
                  <a:lnTo>
                    <a:pt x="576" y="365"/>
                  </a:lnTo>
                  <a:lnTo>
                    <a:pt x="580" y="393"/>
                  </a:lnTo>
                  <a:lnTo>
                    <a:pt x="583" y="419"/>
                  </a:lnTo>
                  <a:lnTo>
                    <a:pt x="585" y="441"/>
                  </a:lnTo>
                  <a:lnTo>
                    <a:pt x="610" y="437"/>
                  </a:lnTo>
                  <a:lnTo>
                    <a:pt x="638" y="432"/>
                  </a:lnTo>
                  <a:lnTo>
                    <a:pt x="665" y="428"/>
                  </a:lnTo>
                  <a:lnTo>
                    <a:pt x="695" y="426"/>
                  </a:lnTo>
                  <a:lnTo>
                    <a:pt x="695" y="316"/>
                  </a:lnTo>
                  <a:lnTo>
                    <a:pt x="683" y="317"/>
                  </a:lnTo>
                  <a:lnTo>
                    <a:pt x="670" y="321"/>
                  </a:lnTo>
                  <a:lnTo>
                    <a:pt x="661" y="321"/>
                  </a:lnTo>
                  <a:lnTo>
                    <a:pt x="654" y="322"/>
                  </a:lnTo>
                  <a:lnTo>
                    <a:pt x="648" y="323"/>
                  </a:lnTo>
                  <a:lnTo>
                    <a:pt x="645" y="325"/>
                  </a:lnTo>
                  <a:lnTo>
                    <a:pt x="640" y="325"/>
                  </a:lnTo>
                  <a:lnTo>
                    <a:pt x="634" y="323"/>
                  </a:lnTo>
                  <a:lnTo>
                    <a:pt x="626" y="319"/>
                  </a:lnTo>
                  <a:lnTo>
                    <a:pt x="619" y="315"/>
                  </a:lnTo>
                  <a:lnTo>
                    <a:pt x="610" y="308"/>
                  </a:lnTo>
                  <a:lnTo>
                    <a:pt x="601" y="300"/>
                  </a:lnTo>
                  <a:lnTo>
                    <a:pt x="591" y="292"/>
                  </a:lnTo>
                  <a:lnTo>
                    <a:pt x="580" y="281"/>
                  </a:lnTo>
                  <a:close/>
                </a:path>
              </a:pathLst>
            </a:custGeom>
            <a:solidFill>
              <a:srgbClr val="d79f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d79f00"/>
                </a:solidFill>
                <a:latin typeface="Arial"/>
                <a:ea typeface="宋体"/>
              </a:endParaRPr>
            </a:p>
          </p:txBody>
        </p:sp>
        <p:sp>
          <p:nvSpPr>
            <p:cNvPr id="93" name="Freeform 19"/>
            <p:cNvSpPr/>
            <p:nvPr/>
          </p:nvSpPr>
          <p:spPr>
            <a:xfrm>
              <a:off x="3893760" y="9101160"/>
              <a:ext cx="217440" cy="205920"/>
            </a:xfrm>
            <a:custGeom>
              <a:avLst/>
              <a:gdLst>
                <a:gd name="textAreaLeft" fmla="*/ 0 w 217440"/>
                <a:gd name="textAreaRight" fmla="*/ 217800 w 217440"/>
                <a:gd name="textAreaTop" fmla="*/ 0 h 205920"/>
                <a:gd name="textAreaBottom" fmla="*/ 206280 h 205920"/>
              </a:gdLst>
              <a:ahLst/>
              <a:rect l="textAreaLeft" t="textAreaTop" r="textAreaRight" b="textAreaBottom"/>
              <a:pathLst>
                <a:path w="1111" h="1116">
                  <a:moveTo>
                    <a:pt x="767" y="1015"/>
                  </a:moveTo>
                  <a:lnTo>
                    <a:pt x="730" y="1018"/>
                  </a:lnTo>
                  <a:lnTo>
                    <a:pt x="688" y="1021"/>
                  </a:lnTo>
                  <a:lnTo>
                    <a:pt x="643" y="1025"/>
                  </a:lnTo>
                  <a:lnTo>
                    <a:pt x="591" y="1029"/>
                  </a:lnTo>
                  <a:lnTo>
                    <a:pt x="535" y="1034"/>
                  </a:lnTo>
                  <a:lnTo>
                    <a:pt x="473" y="1038"/>
                  </a:lnTo>
                  <a:lnTo>
                    <a:pt x="408" y="1045"/>
                  </a:lnTo>
                  <a:lnTo>
                    <a:pt x="336" y="1050"/>
                  </a:lnTo>
                  <a:lnTo>
                    <a:pt x="336" y="1059"/>
                  </a:lnTo>
                  <a:lnTo>
                    <a:pt x="336" y="1067"/>
                  </a:lnTo>
                  <a:lnTo>
                    <a:pt x="336" y="1076"/>
                  </a:lnTo>
                  <a:lnTo>
                    <a:pt x="336" y="1085"/>
                  </a:lnTo>
                  <a:lnTo>
                    <a:pt x="338" y="1099"/>
                  </a:lnTo>
                  <a:lnTo>
                    <a:pt x="339" y="1108"/>
                  </a:lnTo>
                  <a:lnTo>
                    <a:pt x="339" y="1112"/>
                  </a:lnTo>
                  <a:lnTo>
                    <a:pt x="338" y="1114"/>
                  </a:lnTo>
                  <a:lnTo>
                    <a:pt x="338" y="1115"/>
                  </a:lnTo>
                  <a:lnTo>
                    <a:pt x="336" y="1116"/>
                  </a:lnTo>
                  <a:lnTo>
                    <a:pt x="333" y="1116"/>
                  </a:lnTo>
                  <a:lnTo>
                    <a:pt x="327" y="1114"/>
                  </a:lnTo>
                  <a:lnTo>
                    <a:pt x="320" y="1110"/>
                  </a:lnTo>
                  <a:lnTo>
                    <a:pt x="310" y="1105"/>
                  </a:lnTo>
                  <a:lnTo>
                    <a:pt x="285" y="1089"/>
                  </a:lnTo>
                  <a:lnTo>
                    <a:pt x="251" y="1065"/>
                  </a:lnTo>
                  <a:lnTo>
                    <a:pt x="252" y="1044"/>
                  </a:lnTo>
                  <a:lnTo>
                    <a:pt x="253" y="1021"/>
                  </a:lnTo>
                  <a:lnTo>
                    <a:pt x="252" y="1000"/>
                  </a:lnTo>
                  <a:lnTo>
                    <a:pt x="252" y="979"/>
                  </a:lnTo>
                  <a:lnTo>
                    <a:pt x="250" y="959"/>
                  </a:lnTo>
                  <a:lnTo>
                    <a:pt x="248" y="938"/>
                  </a:lnTo>
                  <a:lnTo>
                    <a:pt x="246" y="918"/>
                  </a:lnTo>
                  <a:lnTo>
                    <a:pt x="242" y="897"/>
                  </a:lnTo>
                  <a:lnTo>
                    <a:pt x="238" y="877"/>
                  </a:lnTo>
                  <a:lnTo>
                    <a:pt x="234" y="858"/>
                  </a:lnTo>
                  <a:lnTo>
                    <a:pt x="230" y="838"/>
                  </a:lnTo>
                  <a:lnTo>
                    <a:pt x="224" y="819"/>
                  </a:lnTo>
                  <a:lnTo>
                    <a:pt x="218" y="800"/>
                  </a:lnTo>
                  <a:lnTo>
                    <a:pt x="212" y="782"/>
                  </a:lnTo>
                  <a:lnTo>
                    <a:pt x="204" y="763"/>
                  </a:lnTo>
                  <a:lnTo>
                    <a:pt x="196" y="745"/>
                  </a:lnTo>
                  <a:lnTo>
                    <a:pt x="204" y="747"/>
                  </a:lnTo>
                  <a:lnTo>
                    <a:pt x="215" y="750"/>
                  </a:lnTo>
                  <a:lnTo>
                    <a:pt x="228" y="752"/>
                  </a:lnTo>
                  <a:lnTo>
                    <a:pt x="241" y="755"/>
                  </a:lnTo>
                  <a:lnTo>
                    <a:pt x="262" y="760"/>
                  </a:lnTo>
                  <a:lnTo>
                    <a:pt x="278" y="764"/>
                  </a:lnTo>
                  <a:lnTo>
                    <a:pt x="292" y="767"/>
                  </a:lnTo>
                  <a:lnTo>
                    <a:pt x="301" y="770"/>
                  </a:lnTo>
                  <a:lnTo>
                    <a:pt x="366" y="763"/>
                  </a:lnTo>
                  <a:lnTo>
                    <a:pt x="426" y="755"/>
                  </a:lnTo>
                  <a:lnTo>
                    <a:pt x="479" y="747"/>
                  </a:lnTo>
                  <a:lnTo>
                    <a:pt x="525" y="737"/>
                  </a:lnTo>
                  <a:lnTo>
                    <a:pt x="545" y="732"/>
                  </a:lnTo>
                  <a:lnTo>
                    <a:pt x="566" y="727"/>
                  </a:lnTo>
                  <a:lnTo>
                    <a:pt x="582" y="722"/>
                  </a:lnTo>
                  <a:lnTo>
                    <a:pt x="598" y="715"/>
                  </a:lnTo>
                  <a:lnTo>
                    <a:pt x="613" y="710"/>
                  </a:lnTo>
                  <a:lnTo>
                    <a:pt x="626" y="704"/>
                  </a:lnTo>
                  <a:lnTo>
                    <a:pt x="636" y="697"/>
                  </a:lnTo>
                  <a:lnTo>
                    <a:pt x="646" y="690"/>
                  </a:lnTo>
                  <a:lnTo>
                    <a:pt x="664" y="704"/>
                  </a:lnTo>
                  <a:lnTo>
                    <a:pt x="683" y="716"/>
                  </a:lnTo>
                  <a:lnTo>
                    <a:pt x="703" y="728"/>
                  </a:lnTo>
                  <a:lnTo>
                    <a:pt x="727" y="739"/>
                  </a:lnTo>
                  <a:lnTo>
                    <a:pt x="751" y="749"/>
                  </a:lnTo>
                  <a:lnTo>
                    <a:pt x="777" y="759"/>
                  </a:lnTo>
                  <a:lnTo>
                    <a:pt x="806" y="767"/>
                  </a:lnTo>
                  <a:lnTo>
                    <a:pt x="837" y="776"/>
                  </a:lnTo>
                  <a:lnTo>
                    <a:pt x="828" y="781"/>
                  </a:lnTo>
                  <a:lnTo>
                    <a:pt x="819" y="788"/>
                  </a:lnTo>
                  <a:lnTo>
                    <a:pt x="811" y="796"/>
                  </a:lnTo>
                  <a:lnTo>
                    <a:pt x="803" y="803"/>
                  </a:lnTo>
                  <a:lnTo>
                    <a:pt x="794" y="813"/>
                  </a:lnTo>
                  <a:lnTo>
                    <a:pt x="787" y="822"/>
                  </a:lnTo>
                  <a:lnTo>
                    <a:pt x="778" y="833"/>
                  </a:lnTo>
                  <a:lnTo>
                    <a:pt x="771" y="843"/>
                  </a:lnTo>
                  <a:lnTo>
                    <a:pt x="756" y="869"/>
                  </a:lnTo>
                  <a:lnTo>
                    <a:pt x="742" y="896"/>
                  </a:lnTo>
                  <a:lnTo>
                    <a:pt x="730" y="927"/>
                  </a:lnTo>
                  <a:lnTo>
                    <a:pt x="717" y="960"/>
                  </a:lnTo>
                  <a:lnTo>
                    <a:pt x="731" y="975"/>
                  </a:lnTo>
                  <a:lnTo>
                    <a:pt x="743" y="989"/>
                  </a:lnTo>
                  <a:lnTo>
                    <a:pt x="756" y="1002"/>
                  </a:lnTo>
                  <a:lnTo>
                    <a:pt x="767" y="1015"/>
                  </a:lnTo>
                  <a:close/>
                  <a:moveTo>
                    <a:pt x="546" y="289"/>
                  </a:moveTo>
                  <a:lnTo>
                    <a:pt x="559" y="298"/>
                  </a:lnTo>
                  <a:lnTo>
                    <a:pt x="572" y="305"/>
                  </a:lnTo>
                  <a:lnTo>
                    <a:pt x="586" y="313"/>
                  </a:lnTo>
                  <a:lnTo>
                    <a:pt x="598" y="319"/>
                  </a:lnTo>
                  <a:lnTo>
                    <a:pt x="613" y="324"/>
                  </a:lnTo>
                  <a:lnTo>
                    <a:pt x="627" y="328"/>
                  </a:lnTo>
                  <a:lnTo>
                    <a:pt x="642" y="332"/>
                  </a:lnTo>
                  <a:lnTo>
                    <a:pt x="657" y="335"/>
                  </a:lnTo>
                  <a:lnTo>
                    <a:pt x="642" y="351"/>
                  </a:lnTo>
                  <a:lnTo>
                    <a:pt x="629" y="368"/>
                  </a:lnTo>
                  <a:lnTo>
                    <a:pt x="617" y="386"/>
                  </a:lnTo>
                  <a:lnTo>
                    <a:pt x="607" y="405"/>
                  </a:lnTo>
                  <a:lnTo>
                    <a:pt x="614" y="410"/>
                  </a:lnTo>
                  <a:lnTo>
                    <a:pt x="624" y="417"/>
                  </a:lnTo>
                  <a:lnTo>
                    <a:pt x="634" y="426"/>
                  </a:lnTo>
                  <a:lnTo>
                    <a:pt x="646" y="434"/>
                  </a:lnTo>
                  <a:lnTo>
                    <a:pt x="683" y="459"/>
                  </a:lnTo>
                  <a:lnTo>
                    <a:pt x="718" y="480"/>
                  </a:lnTo>
                  <a:lnTo>
                    <a:pt x="751" y="499"/>
                  </a:lnTo>
                  <a:lnTo>
                    <a:pt x="782" y="516"/>
                  </a:lnTo>
                  <a:lnTo>
                    <a:pt x="810" y="531"/>
                  </a:lnTo>
                  <a:lnTo>
                    <a:pt x="838" y="542"/>
                  </a:lnTo>
                  <a:lnTo>
                    <a:pt x="863" y="552"/>
                  </a:lnTo>
                  <a:lnTo>
                    <a:pt x="886" y="559"/>
                  </a:lnTo>
                  <a:lnTo>
                    <a:pt x="914" y="569"/>
                  </a:lnTo>
                  <a:lnTo>
                    <a:pt x="940" y="579"/>
                  </a:lnTo>
                  <a:lnTo>
                    <a:pt x="966" y="588"/>
                  </a:lnTo>
                  <a:lnTo>
                    <a:pt x="991" y="599"/>
                  </a:lnTo>
                  <a:lnTo>
                    <a:pt x="1016" y="609"/>
                  </a:lnTo>
                  <a:lnTo>
                    <a:pt x="1040" y="621"/>
                  </a:lnTo>
                  <a:lnTo>
                    <a:pt x="1063" y="633"/>
                  </a:lnTo>
                  <a:lnTo>
                    <a:pt x="1087" y="645"/>
                  </a:lnTo>
                  <a:lnTo>
                    <a:pt x="1097" y="650"/>
                  </a:lnTo>
                  <a:lnTo>
                    <a:pt x="1106" y="655"/>
                  </a:lnTo>
                  <a:lnTo>
                    <a:pt x="1108" y="658"/>
                  </a:lnTo>
                  <a:lnTo>
                    <a:pt x="1110" y="660"/>
                  </a:lnTo>
                  <a:lnTo>
                    <a:pt x="1111" y="662"/>
                  </a:lnTo>
                  <a:lnTo>
                    <a:pt x="1111" y="665"/>
                  </a:lnTo>
                  <a:lnTo>
                    <a:pt x="1111" y="668"/>
                  </a:lnTo>
                  <a:lnTo>
                    <a:pt x="1110" y="670"/>
                  </a:lnTo>
                  <a:lnTo>
                    <a:pt x="1108" y="672"/>
                  </a:lnTo>
                  <a:lnTo>
                    <a:pt x="1106" y="674"/>
                  </a:lnTo>
                  <a:lnTo>
                    <a:pt x="1097" y="677"/>
                  </a:lnTo>
                  <a:lnTo>
                    <a:pt x="1087" y="680"/>
                  </a:lnTo>
                  <a:lnTo>
                    <a:pt x="1075" y="682"/>
                  </a:lnTo>
                  <a:lnTo>
                    <a:pt x="1061" y="684"/>
                  </a:lnTo>
                  <a:lnTo>
                    <a:pt x="1044" y="687"/>
                  </a:lnTo>
                  <a:lnTo>
                    <a:pt x="1024" y="688"/>
                  </a:lnTo>
                  <a:lnTo>
                    <a:pt x="1001" y="689"/>
                  </a:lnTo>
                  <a:lnTo>
                    <a:pt x="975" y="690"/>
                  </a:lnTo>
                  <a:lnTo>
                    <a:pt x="948" y="690"/>
                  </a:lnTo>
                  <a:lnTo>
                    <a:pt x="916" y="690"/>
                  </a:lnTo>
                  <a:lnTo>
                    <a:pt x="898" y="690"/>
                  </a:lnTo>
                  <a:lnTo>
                    <a:pt x="881" y="688"/>
                  </a:lnTo>
                  <a:lnTo>
                    <a:pt x="865" y="686"/>
                  </a:lnTo>
                  <a:lnTo>
                    <a:pt x="850" y="682"/>
                  </a:lnTo>
                  <a:lnTo>
                    <a:pt x="837" y="678"/>
                  </a:lnTo>
                  <a:lnTo>
                    <a:pt x="824" y="673"/>
                  </a:lnTo>
                  <a:lnTo>
                    <a:pt x="812" y="668"/>
                  </a:lnTo>
                  <a:lnTo>
                    <a:pt x="802" y="660"/>
                  </a:lnTo>
                  <a:lnTo>
                    <a:pt x="782" y="644"/>
                  </a:lnTo>
                  <a:lnTo>
                    <a:pt x="756" y="621"/>
                  </a:lnTo>
                  <a:lnTo>
                    <a:pt x="727" y="591"/>
                  </a:lnTo>
                  <a:lnTo>
                    <a:pt x="692" y="555"/>
                  </a:lnTo>
                  <a:lnTo>
                    <a:pt x="659" y="520"/>
                  </a:lnTo>
                  <a:lnTo>
                    <a:pt x="629" y="491"/>
                  </a:lnTo>
                  <a:lnTo>
                    <a:pt x="604" y="467"/>
                  </a:lnTo>
                  <a:lnTo>
                    <a:pt x="581" y="449"/>
                  </a:lnTo>
                  <a:lnTo>
                    <a:pt x="557" y="491"/>
                  </a:lnTo>
                  <a:lnTo>
                    <a:pt x="533" y="529"/>
                  </a:lnTo>
                  <a:lnTo>
                    <a:pt x="508" y="564"/>
                  </a:lnTo>
                  <a:lnTo>
                    <a:pt x="484" y="597"/>
                  </a:lnTo>
                  <a:lnTo>
                    <a:pt x="471" y="611"/>
                  </a:lnTo>
                  <a:lnTo>
                    <a:pt x="459" y="625"/>
                  </a:lnTo>
                  <a:lnTo>
                    <a:pt x="446" y="639"/>
                  </a:lnTo>
                  <a:lnTo>
                    <a:pt x="433" y="652"/>
                  </a:lnTo>
                  <a:lnTo>
                    <a:pt x="420" y="663"/>
                  </a:lnTo>
                  <a:lnTo>
                    <a:pt x="408" y="675"/>
                  </a:lnTo>
                  <a:lnTo>
                    <a:pt x="394" y="686"/>
                  </a:lnTo>
                  <a:lnTo>
                    <a:pt x="381" y="695"/>
                  </a:lnTo>
                  <a:lnTo>
                    <a:pt x="371" y="701"/>
                  </a:lnTo>
                  <a:lnTo>
                    <a:pt x="360" y="707"/>
                  </a:lnTo>
                  <a:lnTo>
                    <a:pt x="349" y="711"/>
                  </a:lnTo>
                  <a:lnTo>
                    <a:pt x="339" y="715"/>
                  </a:lnTo>
                  <a:lnTo>
                    <a:pt x="327" y="717"/>
                  </a:lnTo>
                  <a:lnTo>
                    <a:pt x="317" y="718"/>
                  </a:lnTo>
                  <a:lnTo>
                    <a:pt x="306" y="719"/>
                  </a:lnTo>
                  <a:lnTo>
                    <a:pt x="295" y="718"/>
                  </a:lnTo>
                  <a:lnTo>
                    <a:pt x="284" y="717"/>
                  </a:lnTo>
                  <a:lnTo>
                    <a:pt x="273" y="715"/>
                  </a:lnTo>
                  <a:lnTo>
                    <a:pt x="262" y="712"/>
                  </a:lnTo>
                  <a:lnTo>
                    <a:pt x="251" y="707"/>
                  </a:lnTo>
                  <a:lnTo>
                    <a:pt x="239" y="701"/>
                  </a:lnTo>
                  <a:lnTo>
                    <a:pt x="229" y="695"/>
                  </a:lnTo>
                  <a:lnTo>
                    <a:pt x="217" y="689"/>
                  </a:lnTo>
                  <a:lnTo>
                    <a:pt x="206" y="680"/>
                  </a:lnTo>
                  <a:lnTo>
                    <a:pt x="231" y="671"/>
                  </a:lnTo>
                  <a:lnTo>
                    <a:pt x="255" y="661"/>
                  </a:lnTo>
                  <a:lnTo>
                    <a:pt x="277" y="650"/>
                  </a:lnTo>
                  <a:lnTo>
                    <a:pt x="301" y="638"/>
                  </a:lnTo>
                  <a:lnTo>
                    <a:pt x="322" y="625"/>
                  </a:lnTo>
                  <a:lnTo>
                    <a:pt x="343" y="611"/>
                  </a:lnTo>
                  <a:lnTo>
                    <a:pt x="363" y="597"/>
                  </a:lnTo>
                  <a:lnTo>
                    <a:pt x="382" y="581"/>
                  </a:lnTo>
                  <a:lnTo>
                    <a:pt x="401" y="565"/>
                  </a:lnTo>
                  <a:lnTo>
                    <a:pt x="419" y="548"/>
                  </a:lnTo>
                  <a:lnTo>
                    <a:pt x="436" y="530"/>
                  </a:lnTo>
                  <a:lnTo>
                    <a:pt x="453" y="510"/>
                  </a:lnTo>
                  <a:lnTo>
                    <a:pt x="469" y="491"/>
                  </a:lnTo>
                  <a:lnTo>
                    <a:pt x="484" y="469"/>
                  </a:lnTo>
                  <a:lnTo>
                    <a:pt x="498" y="447"/>
                  </a:lnTo>
                  <a:lnTo>
                    <a:pt x="512" y="425"/>
                  </a:lnTo>
                  <a:lnTo>
                    <a:pt x="521" y="406"/>
                  </a:lnTo>
                  <a:lnTo>
                    <a:pt x="528" y="388"/>
                  </a:lnTo>
                  <a:lnTo>
                    <a:pt x="535" y="371"/>
                  </a:lnTo>
                  <a:lnTo>
                    <a:pt x="540" y="354"/>
                  </a:lnTo>
                  <a:lnTo>
                    <a:pt x="543" y="337"/>
                  </a:lnTo>
                  <a:lnTo>
                    <a:pt x="546" y="321"/>
                  </a:lnTo>
                  <a:lnTo>
                    <a:pt x="546" y="305"/>
                  </a:lnTo>
                  <a:lnTo>
                    <a:pt x="546" y="289"/>
                  </a:lnTo>
                  <a:close/>
                  <a:moveTo>
                    <a:pt x="767" y="129"/>
                  </a:moveTo>
                  <a:lnTo>
                    <a:pt x="788" y="147"/>
                  </a:lnTo>
                  <a:lnTo>
                    <a:pt x="809" y="164"/>
                  </a:lnTo>
                  <a:lnTo>
                    <a:pt x="830" y="180"/>
                  </a:lnTo>
                  <a:lnTo>
                    <a:pt x="852" y="194"/>
                  </a:lnTo>
                  <a:lnTo>
                    <a:pt x="873" y="205"/>
                  </a:lnTo>
                  <a:lnTo>
                    <a:pt x="894" y="217"/>
                  </a:lnTo>
                  <a:lnTo>
                    <a:pt x="915" y="227"/>
                  </a:lnTo>
                  <a:lnTo>
                    <a:pt x="936" y="235"/>
                  </a:lnTo>
                  <a:lnTo>
                    <a:pt x="912" y="249"/>
                  </a:lnTo>
                  <a:lnTo>
                    <a:pt x="882" y="266"/>
                  </a:lnTo>
                  <a:lnTo>
                    <a:pt x="849" y="286"/>
                  </a:lnTo>
                  <a:lnTo>
                    <a:pt x="811" y="309"/>
                  </a:lnTo>
                  <a:lnTo>
                    <a:pt x="786" y="326"/>
                  </a:lnTo>
                  <a:lnTo>
                    <a:pt x="763" y="340"/>
                  </a:lnTo>
                  <a:lnTo>
                    <a:pt x="743" y="351"/>
                  </a:lnTo>
                  <a:lnTo>
                    <a:pt x="727" y="360"/>
                  </a:lnTo>
                  <a:lnTo>
                    <a:pt x="719" y="361"/>
                  </a:lnTo>
                  <a:lnTo>
                    <a:pt x="713" y="362"/>
                  </a:lnTo>
                  <a:lnTo>
                    <a:pt x="706" y="361"/>
                  </a:lnTo>
                  <a:lnTo>
                    <a:pt x="701" y="360"/>
                  </a:lnTo>
                  <a:lnTo>
                    <a:pt x="700" y="359"/>
                  </a:lnTo>
                  <a:lnTo>
                    <a:pt x="700" y="358"/>
                  </a:lnTo>
                  <a:lnTo>
                    <a:pt x="700" y="356"/>
                  </a:lnTo>
                  <a:lnTo>
                    <a:pt x="702" y="352"/>
                  </a:lnTo>
                  <a:lnTo>
                    <a:pt x="706" y="344"/>
                  </a:lnTo>
                  <a:lnTo>
                    <a:pt x="713" y="333"/>
                  </a:lnTo>
                  <a:lnTo>
                    <a:pt x="721" y="315"/>
                  </a:lnTo>
                  <a:lnTo>
                    <a:pt x="741" y="279"/>
                  </a:lnTo>
                  <a:lnTo>
                    <a:pt x="756" y="249"/>
                  </a:lnTo>
                  <a:lnTo>
                    <a:pt x="763" y="236"/>
                  </a:lnTo>
                  <a:lnTo>
                    <a:pt x="767" y="226"/>
                  </a:lnTo>
                  <a:lnTo>
                    <a:pt x="770" y="217"/>
                  </a:lnTo>
                  <a:lnTo>
                    <a:pt x="771" y="210"/>
                  </a:lnTo>
                  <a:lnTo>
                    <a:pt x="750" y="216"/>
                  </a:lnTo>
                  <a:lnTo>
                    <a:pt x="728" y="222"/>
                  </a:lnTo>
                  <a:lnTo>
                    <a:pt x="702" y="230"/>
                  </a:lnTo>
                  <a:lnTo>
                    <a:pt x="675" y="237"/>
                  </a:lnTo>
                  <a:lnTo>
                    <a:pt x="646" y="245"/>
                  </a:lnTo>
                  <a:lnTo>
                    <a:pt x="615" y="253"/>
                  </a:lnTo>
                  <a:lnTo>
                    <a:pt x="581" y="261"/>
                  </a:lnTo>
                  <a:lnTo>
                    <a:pt x="546" y="270"/>
                  </a:lnTo>
                  <a:lnTo>
                    <a:pt x="538" y="266"/>
                  </a:lnTo>
                  <a:lnTo>
                    <a:pt x="528" y="258"/>
                  </a:lnTo>
                  <a:lnTo>
                    <a:pt x="518" y="248"/>
                  </a:lnTo>
                  <a:lnTo>
                    <a:pt x="506" y="235"/>
                  </a:lnTo>
                  <a:lnTo>
                    <a:pt x="498" y="251"/>
                  </a:lnTo>
                  <a:lnTo>
                    <a:pt x="487" y="268"/>
                  </a:lnTo>
                  <a:lnTo>
                    <a:pt x="475" y="288"/>
                  </a:lnTo>
                  <a:lnTo>
                    <a:pt x="462" y="309"/>
                  </a:lnTo>
                  <a:lnTo>
                    <a:pt x="459" y="317"/>
                  </a:lnTo>
                  <a:lnTo>
                    <a:pt x="456" y="322"/>
                  </a:lnTo>
                  <a:lnTo>
                    <a:pt x="453" y="326"/>
                  </a:lnTo>
                  <a:lnTo>
                    <a:pt x="451" y="329"/>
                  </a:lnTo>
                  <a:lnTo>
                    <a:pt x="446" y="338"/>
                  </a:lnTo>
                  <a:lnTo>
                    <a:pt x="439" y="344"/>
                  </a:lnTo>
                  <a:lnTo>
                    <a:pt x="433" y="351"/>
                  </a:lnTo>
                  <a:lnTo>
                    <a:pt x="426" y="356"/>
                  </a:lnTo>
                  <a:lnTo>
                    <a:pt x="418" y="360"/>
                  </a:lnTo>
                  <a:lnTo>
                    <a:pt x="411" y="364"/>
                  </a:lnTo>
                  <a:lnTo>
                    <a:pt x="402" y="368"/>
                  </a:lnTo>
                  <a:lnTo>
                    <a:pt x="394" y="370"/>
                  </a:lnTo>
                  <a:lnTo>
                    <a:pt x="384" y="371"/>
                  </a:lnTo>
                  <a:lnTo>
                    <a:pt x="376" y="372"/>
                  </a:lnTo>
                  <a:lnTo>
                    <a:pt x="365" y="372"/>
                  </a:lnTo>
                  <a:lnTo>
                    <a:pt x="356" y="371"/>
                  </a:lnTo>
                  <a:lnTo>
                    <a:pt x="345" y="370"/>
                  </a:lnTo>
                  <a:lnTo>
                    <a:pt x="335" y="367"/>
                  </a:lnTo>
                  <a:lnTo>
                    <a:pt x="323" y="363"/>
                  </a:lnTo>
                  <a:lnTo>
                    <a:pt x="311" y="360"/>
                  </a:lnTo>
                  <a:lnTo>
                    <a:pt x="331" y="342"/>
                  </a:lnTo>
                  <a:lnTo>
                    <a:pt x="351" y="323"/>
                  </a:lnTo>
                  <a:lnTo>
                    <a:pt x="367" y="304"/>
                  </a:lnTo>
                  <a:lnTo>
                    <a:pt x="384" y="285"/>
                  </a:lnTo>
                  <a:lnTo>
                    <a:pt x="399" y="265"/>
                  </a:lnTo>
                  <a:lnTo>
                    <a:pt x="414" y="244"/>
                  </a:lnTo>
                  <a:lnTo>
                    <a:pt x="427" y="221"/>
                  </a:lnTo>
                  <a:lnTo>
                    <a:pt x="438" y="199"/>
                  </a:lnTo>
                  <a:lnTo>
                    <a:pt x="449" y="177"/>
                  </a:lnTo>
                  <a:lnTo>
                    <a:pt x="459" y="154"/>
                  </a:lnTo>
                  <a:lnTo>
                    <a:pt x="467" y="129"/>
                  </a:lnTo>
                  <a:lnTo>
                    <a:pt x="474" y="105"/>
                  </a:lnTo>
                  <a:lnTo>
                    <a:pt x="481" y="79"/>
                  </a:lnTo>
                  <a:lnTo>
                    <a:pt x="485" y="53"/>
                  </a:lnTo>
                  <a:lnTo>
                    <a:pt x="489" y="26"/>
                  </a:lnTo>
                  <a:lnTo>
                    <a:pt x="491" y="0"/>
                  </a:lnTo>
                  <a:lnTo>
                    <a:pt x="506" y="8"/>
                  </a:lnTo>
                  <a:lnTo>
                    <a:pt x="521" y="17"/>
                  </a:lnTo>
                  <a:lnTo>
                    <a:pt x="536" y="24"/>
                  </a:lnTo>
                  <a:lnTo>
                    <a:pt x="550" y="30"/>
                  </a:lnTo>
                  <a:lnTo>
                    <a:pt x="564" y="34"/>
                  </a:lnTo>
                  <a:lnTo>
                    <a:pt x="578" y="37"/>
                  </a:lnTo>
                  <a:lnTo>
                    <a:pt x="592" y="39"/>
                  </a:lnTo>
                  <a:lnTo>
                    <a:pt x="607" y="39"/>
                  </a:lnTo>
                  <a:lnTo>
                    <a:pt x="600" y="45"/>
                  </a:lnTo>
                  <a:lnTo>
                    <a:pt x="593" y="53"/>
                  </a:lnTo>
                  <a:lnTo>
                    <a:pt x="587" y="62"/>
                  </a:lnTo>
                  <a:lnTo>
                    <a:pt x="580" y="74"/>
                  </a:lnTo>
                  <a:lnTo>
                    <a:pt x="573" y="88"/>
                  </a:lnTo>
                  <a:lnTo>
                    <a:pt x="566" y="103"/>
                  </a:lnTo>
                  <a:lnTo>
                    <a:pt x="559" y="121"/>
                  </a:lnTo>
                  <a:lnTo>
                    <a:pt x="552" y="140"/>
                  </a:lnTo>
                  <a:lnTo>
                    <a:pt x="549" y="145"/>
                  </a:lnTo>
                  <a:lnTo>
                    <a:pt x="545" y="154"/>
                  </a:lnTo>
                  <a:lnTo>
                    <a:pt x="541" y="163"/>
                  </a:lnTo>
                  <a:lnTo>
                    <a:pt x="536" y="175"/>
                  </a:lnTo>
                  <a:lnTo>
                    <a:pt x="530" y="186"/>
                  </a:lnTo>
                  <a:lnTo>
                    <a:pt x="524" y="197"/>
                  </a:lnTo>
                  <a:lnTo>
                    <a:pt x="520" y="207"/>
                  </a:lnTo>
                  <a:lnTo>
                    <a:pt x="517" y="215"/>
                  </a:lnTo>
                  <a:lnTo>
                    <a:pt x="563" y="207"/>
                  </a:lnTo>
                  <a:lnTo>
                    <a:pt x="605" y="198"/>
                  </a:lnTo>
                  <a:lnTo>
                    <a:pt x="643" y="189"/>
                  </a:lnTo>
                  <a:lnTo>
                    <a:pt x="677" y="178"/>
                  </a:lnTo>
                  <a:lnTo>
                    <a:pt x="692" y="173"/>
                  </a:lnTo>
                  <a:lnTo>
                    <a:pt x="705" y="167"/>
                  </a:lnTo>
                  <a:lnTo>
                    <a:pt x="718" y="161"/>
                  </a:lnTo>
                  <a:lnTo>
                    <a:pt x="730" y="156"/>
                  </a:lnTo>
                  <a:lnTo>
                    <a:pt x="740" y="149"/>
                  </a:lnTo>
                  <a:lnTo>
                    <a:pt x="751" y="143"/>
                  </a:lnTo>
                  <a:lnTo>
                    <a:pt x="759" y="137"/>
                  </a:lnTo>
                  <a:lnTo>
                    <a:pt x="767" y="129"/>
                  </a:lnTo>
                  <a:close/>
                  <a:moveTo>
                    <a:pt x="317" y="830"/>
                  </a:moveTo>
                  <a:lnTo>
                    <a:pt x="320" y="855"/>
                  </a:lnTo>
                  <a:lnTo>
                    <a:pt x="323" y="878"/>
                  </a:lnTo>
                  <a:lnTo>
                    <a:pt x="325" y="902"/>
                  </a:lnTo>
                  <a:lnTo>
                    <a:pt x="327" y="924"/>
                  </a:lnTo>
                  <a:lnTo>
                    <a:pt x="329" y="945"/>
                  </a:lnTo>
                  <a:lnTo>
                    <a:pt x="330" y="966"/>
                  </a:lnTo>
                  <a:lnTo>
                    <a:pt x="331" y="987"/>
                  </a:lnTo>
                  <a:lnTo>
                    <a:pt x="331" y="1006"/>
                  </a:lnTo>
                  <a:lnTo>
                    <a:pt x="346" y="1003"/>
                  </a:lnTo>
                  <a:lnTo>
                    <a:pt x="364" y="1001"/>
                  </a:lnTo>
                  <a:lnTo>
                    <a:pt x="385" y="999"/>
                  </a:lnTo>
                  <a:lnTo>
                    <a:pt x="409" y="996"/>
                  </a:lnTo>
                  <a:lnTo>
                    <a:pt x="435" y="993"/>
                  </a:lnTo>
                  <a:lnTo>
                    <a:pt x="464" y="990"/>
                  </a:lnTo>
                  <a:lnTo>
                    <a:pt x="497" y="985"/>
                  </a:lnTo>
                  <a:lnTo>
                    <a:pt x="532" y="980"/>
                  </a:lnTo>
                  <a:lnTo>
                    <a:pt x="563" y="976"/>
                  </a:lnTo>
                  <a:lnTo>
                    <a:pt x="590" y="972"/>
                  </a:lnTo>
                  <a:lnTo>
                    <a:pt x="611" y="968"/>
                  </a:lnTo>
                  <a:lnTo>
                    <a:pt x="626" y="965"/>
                  </a:lnTo>
                  <a:lnTo>
                    <a:pt x="629" y="946"/>
                  </a:lnTo>
                  <a:lnTo>
                    <a:pt x="632" y="925"/>
                  </a:lnTo>
                  <a:lnTo>
                    <a:pt x="636" y="902"/>
                  </a:lnTo>
                  <a:lnTo>
                    <a:pt x="642" y="875"/>
                  </a:lnTo>
                  <a:lnTo>
                    <a:pt x="646" y="855"/>
                  </a:lnTo>
                  <a:lnTo>
                    <a:pt x="649" y="838"/>
                  </a:lnTo>
                  <a:lnTo>
                    <a:pt x="651" y="823"/>
                  </a:lnTo>
                  <a:lnTo>
                    <a:pt x="652" y="812"/>
                  </a:lnTo>
                  <a:lnTo>
                    <a:pt x="652" y="802"/>
                  </a:lnTo>
                  <a:lnTo>
                    <a:pt x="651" y="796"/>
                  </a:lnTo>
                  <a:lnTo>
                    <a:pt x="650" y="793"/>
                  </a:lnTo>
                  <a:lnTo>
                    <a:pt x="649" y="792"/>
                  </a:lnTo>
                  <a:lnTo>
                    <a:pt x="648" y="790"/>
                  </a:lnTo>
                  <a:lnTo>
                    <a:pt x="646" y="790"/>
                  </a:lnTo>
                  <a:lnTo>
                    <a:pt x="642" y="789"/>
                  </a:lnTo>
                  <a:lnTo>
                    <a:pt x="635" y="788"/>
                  </a:lnTo>
                  <a:lnTo>
                    <a:pt x="627" y="788"/>
                  </a:lnTo>
                  <a:lnTo>
                    <a:pt x="616" y="788"/>
                  </a:lnTo>
                  <a:lnTo>
                    <a:pt x="588" y="792"/>
                  </a:lnTo>
                  <a:lnTo>
                    <a:pt x="552" y="795"/>
                  </a:lnTo>
                  <a:lnTo>
                    <a:pt x="506" y="801"/>
                  </a:lnTo>
                  <a:lnTo>
                    <a:pt x="451" y="808"/>
                  </a:lnTo>
                  <a:lnTo>
                    <a:pt x="389" y="819"/>
                  </a:lnTo>
                  <a:lnTo>
                    <a:pt x="317" y="830"/>
                  </a:lnTo>
                  <a:close/>
                  <a:moveTo>
                    <a:pt x="71" y="705"/>
                  </a:moveTo>
                  <a:lnTo>
                    <a:pt x="60" y="689"/>
                  </a:lnTo>
                  <a:lnTo>
                    <a:pt x="47" y="669"/>
                  </a:lnTo>
                  <a:lnTo>
                    <a:pt x="30" y="646"/>
                  </a:lnTo>
                  <a:lnTo>
                    <a:pt x="12" y="620"/>
                  </a:lnTo>
                  <a:lnTo>
                    <a:pt x="7" y="617"/>
                  </a:lnTo>
                  <a:lnTo>
                    <a:pt x="6" y="615"/>
                  </a:lnTo>
                  <a:lnTo>
                    <a:pt x="3" y="610"/>
                  </a:lnTo>
                  <a:lnTo>
                    <a:pt x="1" y="606"/>
                  </a:lnTo>
                  <a:lnTo>
                    <a:pt x="0" y="602"/>
                  </a:lnTo>
                  <a:lnTo>
                    <a:pt x="0" y="599"/>
                  </a:lnTo>
                  <a:lnTo>
                    <a:pt x="1" y="595"/>
                  </a:lnTo>
                  <a:lnTo>
                    <a:pt x="3" y="593"/>
                  </a:lnTo>
                  <a:lnTo>
                    <a:pt x="6" y="591"/>
                  </a:lnTo>
                  <a:lnTo>
                    <a:pt x="12" y="590"/>
                  </a:lnTo>
                  <a:lnTo>
                    <a:pt x="53" y="573"/>
                  </a:lnTo>
                  <a:lnTo>
                    <a:pt x="94" y="555"/>
                  </a:lnTo>
                  <a:lnTo>
                    <a:pt x="137" y="535"/>
                  </a:lnTo>
                  <a:lnTo>
                    <a:pt x="179" y="515"/>
                  </a:lnTo>
                  <a:lnTo>
                    <a:pt x="221" y="493"/>
                  </a:lnTo>
                  <a:lnTo>
                    <a:pt x="265" y="469"/>
                  </a:lnTo>
                  <a:lnTo>
                    <a:pt x="308" y="445"/>
                  </a:lnTo>
                  <a:lnTo>
                    <a:pt x="352" y="420"/>
                  </a:lnTo>
                  <a:lnTo>
                    <a:pt x="357" y="418"/>
                  </a:lnTo>
                  <a:lnTo>
                    <a:pt x="362" y="420"/>
                  </a:lnTo>
                  <a:lnTo>
                    <a:pt x="365" y="421"/>
                  </a:lnTo>
                  <a:lnTo>
                    <a:pt x="369" y="423"/>
                  </a:lnTo>
                  <a:lnTo>
                    <a:pt x="371" y="425"/>
                  </a:lnTo>
                  <a:lnTo>
                    <a:pt x="372" y="429"/>
                  </a:lnTo>
                  <a:lnTo>
                    <a:pt x="372" y="434"/>
                  </a:lnTo>
                  <a:lnTo>
                    <a:pt x="372" y="440"/>
                  </a:lnTo>
                  <a:lnTo>
                    <a:pt x="354" y="455"/>
                  </a:lnTo>
                  <a:lnTo>
                    <a:pt x="331" y="475"/>
                  </a:lnTo>
                  <a:lnTo>
                    <a:pt x="304" y="500"/>
                  </a:lnTo>
                  <a:lnTo>
                    <a:pt x="271" y="530"/>
                  </a:lnTo>
                  <a:lnTo>
                    <a:pt x="234" y="564"/>
                  </a:lnTo>
                  <a:lnTo>
                    <a:pt x="200" y="593"/>
                  </a:lnTo>
                  <a:lnTo>
                    <a:pt x="170" y="620"/>
                  </a:lnTo>
                  <a:lnTo>
                    <a:pt x="144" y="643"/>
                  </a:lnTo>
                  <a:lnTo>
                    <a:pt x="121" y="664"/>
                  </a:lnTo>
                  <a:lnTo>
                    <a:pt x="101" y="681"/>
                  </a:lnTo>
                  <a:lnTo>
                    <a:pt x="85" y="695"/>
                  </a:lnTo>
                  <a:lnTo>
                    <a:pt x="71" y="705"/>
                  </a:lnTo>
                  <a:close/>
                  <a:moveTo>
                    <a:pt x="111" y="195"/>
                  </a:moveTo>
                  <a:lnTo>
                    <a:pt x="143" y="200"/>
                  </a:lnTo>
                  <a:lnTo>
                    <a:pt x="172" y="207"/>
                  </a:lnTo>
                  <a:lnTo>
                    <a:pt x="197" y="212"/>
                  </a:lnTo>
                  <a:lnTo>
                    <a:pt x="219" y="217"/>
                  </a:lnTo>
                  <a:lnTo>
                    <a:pt x="237" y="222"/>
                  </a:lnTo>
                  <a:lnTo>
                    <a:pt x="252" y="227"/>
                  </a:lnTo>
                  <a:lnTo>
                    <a:pt x="264" y="231"/>
                  </a:lnTo>
                  <a:lnTo>
                    <a:pt x="271" y="235"/>
                  </a:lnTo>
                  <a:lnTo>
                    <a:pt x="273" y="242"/>
                  </a:lnTo>
                  <a:lnTo>
                    <a:pt x="275" y="250"/>
                  </a:lnTo>
                  <a:lnTo>
                    <a:pt x="276" y="261"/>
                  </a:lnTo>
                  <a:lnTo>
                    <a:pt x="277" y="272"/>
                  </a:lnTo>
                  <a:lnTo>
                    <a:pt x="277" y="300"/>
                  </a:lnTo>
                  <a:lnTo>
                    <a:pt x="276" y="335"/>
                  </a:lnTo>
                  <a:lnTo>
                    <a:pt x="274" y="341"/>
                  </a:lnTo>
                  <a:lnTo>
                    <a:pt x="272" y="346"/>
                  </a:lnTo>
                  <a:lnTo>
                    <a:pt x="269" y="351"/>
                  </a:lnTo>
                  <a:lnTo>
                    <a:pt x="265" y="352"/>
                  </a:lnTo>
                  <a:lnTo>
                    <a:pt x="260" y="353"/>
                  </a:lnTo>
                  <a:lnTo>
                    <a:pt x="255" y="352"/>
                  </a:lnTo>
                  <a:lnTo>
                    <a:pt x="249" y="349"/>
                  </a:lnTo>
                  <a:lnTo>
                    <a:pt x="241" y="344"/>
                  </a:lnTo>
                  <a:lnTo>
                    <a:pt x="227" y="336"/>
                  </a:lnTo>
                  <a:lnTo>
                    <a:pt x="212" y="325"/>
                  </a:lnTo>
                  <a:lnTo>
                    <a:pt x="196" y="313"/>
                  </a:lnTo>
                  <a:lnTo>
                    <a:pt x="179" y="299"/>
                  </a:lnTo>
                  <a:lnTo>
                    <a:pt x="161" y="282"/>
                  </a:lnTo>
                  <a:lnTo>
                    <a:pt x="142" y="263"/>
                  </a:lnTo>
                  <a:lnTo>
                    <a:pt x="122" y="243"/>
                  </a:lnTo>
                  <a:lnTo>
                    <a:pt x="102" y="219"/>
                  </a:lnTo>
                  <a:lnTo>
                    <a:pt x="97" y="213"/>
                  </a:lnTo>
                  <a:lnTo>
                    <a:pt x="94" y="207"/>
                  </a:lnTo>
                  <a:lnTo>
                    <a:pt x="92" y="202"/>
                  </a:lnTo>
                  <a:lnTo>
                    <a:pt x="91" y="200"/>
                  </a:lnTo>
                  <a:lnTo>
                    <a:pt x="93" y="197"/>
                  </a:lnTo>
                  <a:lnTo>
                    <a:pt x="94" y="196"/>
                  </a:lnTo>
                  <a:lnTo>
                    <a:pt x="96" y="194"/>
                  </a:lnTo>
                  <a:lnTo>
                    <a:pt x="98" y="193"/>
                  </a:lnTo>
                  <a:lnTo>
                    <a:pt x="105" y="193"/>
                  </a:lnTo>
                  <a:lnTo>
                    <a:pt x="111" y="195"/>
                  </a:lnTo>
                  <a:close/>
                </a:path>
              </a:pathLst>
            </a:custGeom>
            <a:solidFill>
              <a:srgbClr val="d79f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d79f00"/>
                </a:solidFill>
                <a:latin typeface="Arial"/>
                <a:ea typeface="宋体"/>
              </a:endParaRPr>
            </a:p>
          </p:txBody>
        </p:sp>
        <p:sp>
          <p:nvSpPr>
            <p:cNvPr id="94" name="Freeform 20"/>
            <p:cNvSpPr/>
            <p:nvPr/>
          </p:nvSpPr>
          <p:spPr>
            <a:xfrm>
              <a:off x="4118400" y="9098280"/>
              <a:ext cx="218880" cy="205920"/>
            </a:xfrm>
            <a:custGeom>
              <a:avLst/>
              <a:gdLst>
                <a:gd name="textAreaLeft" fmla="*/ 0 w 218880"/>
                <a:gd name="textAreaRight" fmla="*/ 219240 w 218880"/>
                <a:gd name="textAreaTop" fmla="*/ 0 h 205920"/>
                <a:gd name="textAreaBottom" fmla="*/ 206280 h 205920"/>
              </a:gdLst>
              <a:ahLst/>
              <a:rect l="textAreaLeft" t="textAreaTop" r="textAreaRight" b="textAreaBottom"/>
              <a:pathLst>
                <a:path w="1116" h="1113">
                  <a:moveTo>
                    <a:pt x="706" y="0"/>
                  </a:moveTo>
                  <a:lnTo>
                    <a:pt x="715" y="10"/>
                  </a:lnTo>
                  <a:lnTo>
                    <a:pt x="727" y="18"/>
                  </a:lnTo>
                  <a:lnTo>
                    <a:pt x="740" y="27"/>
                  </a:lnTo>
                  <a:lnTo>
                    <a:pt x="754" y="34"/>
                  </a:lnTo>
                  <a:lnTo>
                    <a:pt x="771" y="42"/>
                  </a:lnTo>
                  <a:lnTo>
                    <a:pt x="789" y="50"/>
                  </a:lnTo>
                  <a:lnTo>
                    <a:pt x="809" y="58"/>
                  </a:lnTo>
                  <a:lnTo>
                    <a:pt x="831" y="66"/>
                  </a:lnTo>
                  <a:lnTo>
                    <a:pt x="821" y="72"/>
                  </a:lnTo>
                  <a:lnTo>
                    <a:pt x="812" y="82"/>
                  </a:lnTo>
                  <a:lnTo>
                    <a:pt x="801" y="91"/>
                  </a:lnTo>
                  <a:lnTo>
                    <a:pt x="793" y="103"/>
                  </a:lnTo>
                  <a:lnTo>
                    <a:pt x="783" y="117"/>
                  </a:lnTo>
                  <a:lnTo>
                    <a:pt x="773" y="131"/>
                  </a:lnTo>
                  <a:lnTo>
                    <a:pt x="765" y="147"/>
                  </a:lnTo>
                  <a:lnTo>
                    <a:pt x="755" y="165"/>
                  </a:lnTo>
                  <a:lnTo>
                    <a:pt x="742" y="193"/>
                  </a:lnTo>
                  <a:lnTo>
                    <a:pt x="725" y="225"/>
                  </a:lnTo>
                  <a:lnTo>
                    <a:pt x="705" y="261"/>
                  </a:lnTo>
                  <a:lnTo>
                    <a:pt x="680" y="301"/>
                  </a:lnTo>
                  <a:lnTo>
                    <a:pt x="672" y="313"/>
                  </a:lnTo>
                  <a:lnTo>
                    <a:pt x="664" y="322"/>
                  </a:lnTo>
                  <a:lnTo>
                    <a:pt x="659" y="330"/>
                  </a:lnTo>
                  <a:lnTo>
                    <a:pt x="656" y="336"/>
                  </a:lnTo>
                  <a:lnTo>
                    <a:pt x="710" y="332"/>
                  </a:lnTo>
                  <a:lnTo>
                    <a:pt x="760" y="326"/>
                  </a:lnTo>
                  <a:lnTo>
                    <a:pt x="805" y="320"/>
                  </a:lnTo>
                  <a:lnTo>
                    <a:pt x="847" y="312"/>
                  </a:lnTo>
                  <a:lnTo>
                    <a:pt x="867" y="307"/>
                  </a:lnTo>
                  <a:lnTo>
                    <a:pt x="885" y="303"/>
                  </a:lnTo>
                  <a:lnTo>
                    <a:pt x="902" y="299"/>
                  </a:lnTo>
                  <a:lnTo>
                    <a:pt x="918" y="294"/>
                  </a:lnTo>
                  <a:lnTo>
                    <a:pt x="932" y="288"/>
                  </a:lnTo>
                  <a:lnTo>
                    <a:pt x="946" y="283"/>
                  </a:lnTo>
                  <a:lnTo>
                    <a:pt x="959" y="277"/>
                  </a:lnTo>
                  <a:lnTo>
                    <a:pt x="970" y="270"/>
                  </a:lnTo>
                  <a:lnTo>
                    <a:pt x="985" y="285"/>
                  </a:lnTo>
                  <a:lnTo>
                    <a:pt x="1000" y="297"/>
                  </a:lnTo>
                  <a:lnTo>
                    <a:pt x="1017" y="308"/>
                  </a:lnTo>
                  <a:lnTo>
                    <a:pt x="1035" y="317"/>
                  </a:lnTo>
                  <a:lnTo>
                    <a:pt x="1053" y="324"/>
                  </a:lnTo>
                  <a:lnTo>
                    <a:pt x="1073" y="330"/>
                  </a:lnTo>
                  <a:lnTo>
                    <a:pt x="1094" y="334"/>
                  </a:lnTo>
                  <a:lnTo>
                    <a:pt x="1116" y="336"/>
                  </a:lnTo>
                  <a:lnTo>
                    <a:pt x="1110" y="343"/>
                  </a:lnTo>
                  <a:lnTo>
                    <a:pt x="1104" y="352"/>
                  </a:lnTo>
                  <a:lnTo>
                    <a:pt x="1099" y="361"/>
                  </a:lnTo>
                  <a:lnTo>
                    <a:pt x="1093" y="372"/>
                  </a:lnTo>
                  <a:lnTo>
                    <a:pt x="1089" y="385"/>
                  </a:lnTo>
                  <a:lnTo>
                    <a:pt x="1085" y="397"/>
                  </a:lnTo>
                  <a:lnTo>
                    <a:pt x="1081" y="411"/>
                  </a:lnTo>
                  <a:lnTo>
                    <a:pt x="1077" y="427"/>
                  </a:lnTo>
                  <a:lnTo>
                    <a:pt x="1071" y="461"/>
                  </a:lnTo>
                  <a:lnTo>
                    <a:pt x="1066" y="500"/>
                  </a:lnTo>
                  <a:lnTo>
                    <a:pt x="1063" y="543"/>
                  </a:lnTo>
                  <a:lnTo>
                    <a:pt x="1061" y="591"/>
                  </a:lnTo>
                  <a:lnTo>
                    <a:pt x="1059" y="609"/>
                  </a:lnTo>
                  <a:lnTo>
                    <a:pt x="1058" y="631"/>
                  </a:lnTo>
                  <a:lnTo>
                    <a:pt x="1057" y="653"/>
                  </a:lnTo>
                  <a:lnTo>
                    <a:pt x="1056" y="678"/>
                  </a:lnTo>
                  <a:lnTo>
                    <a:pt x="1054" y="706"/>
                  </a:lnTo>
                  <a:lnTo>
                    <a:pt x="1053" y="735"/>
                  </a:lnTo>
                  <a:lnTo>
                    <a:pt x="1052" y="767"/>
                  </a:lnTo>
                  <a:lnTo>
                    <a:pt x="1051" y="801"/>
                  </a:lnTo>
                  <a:lnTo>
                    <a:pt x="1047" y="879"/>
                  </a:lnTo>
                  <a:lnTo>
                    <a:pt x="1044" y="944"/>
                  </a:lnTo>
                  <a:lnTo>
                    <a:pt x="1039" y="999"/>
                  </a:lnTo>
                  <a:lnTo>
                    <a:pt x="1036" y="1044"/>
                  </a:lnTo>
                  <a:lnTo>
                    <a:pt x="1032" y="1077"/>
                  </a:lnTo>
                  <a:lnTo>
                    <a:pt x="1029" y="1099"/>
                  </a:lnTo>
                  <a:lnTo>
                    <a:pt x="1027" y="1106"/>
                  </a:lnTo>
                  <a:lnTo>
                    <a:pt x="1024" y="1111"/>
                  </a:lnTo>
                  <a:lnTo>
                    <a:pt x="1023" y="1112"/>
                  </a:lnTo>
                  <a:lnTo>
                    <a:pt x="1022" y="1113"/>
                  </a:lnTo>
                  <a:lnTo>
                    <a:pt x="1021" y="1113"/>
                  </a:lnTo>
                  <a:lnTo>
                    <a:pt x="1021" y="1112"/>
                  </a:lnTo>
                  <a:lnTo>
                    <a:pt x="1011" y="1111"/>
                  </a:lnTo>
                  <a:lnTo>
                    <a:pt x="1001" y="1110"/>
                  </a:lnTo>
                  <a:lnTo>
                    <a:pt x="990" y="1106"/>
                  </a:lnTo>
                  <a:lnTo>
                    <a:pt x="978" y="1103"/>
                  </a:lnTo>
                  <a:lnTo>
                    <a:pt x="965" y="1099"/>
                  </a:lnTo>
                  <a:lnTo>
                    <a:pt x="951" y="1093"/>
                  </a:lnTo>
                  <a:lnTo>
                    <a:pt x="938" y="1086"/>
                  </a:lnTo>
                  <a:lnTo>
                    <a:pt x="924" y="1079"/>
                  </a:lnTo>
                  <a:lnTo>
                    <a:pt x="892" y="1061"/>
                  </a:lnTo>
                  <a:lnTo>
                    <a:pt x="858" y="1039"/>
                  </a:lnTo>
                  <a:lnTo>
                    <a:pt x="821" y="1012"/>
                  </a:lnTo>
                  <a:lnTo>
                    <a:pt x="781" y="981"/>
                  </a:lnTo>
                  <a:lnTo>
                    <a:pt x="775" y="972"/>
                  </a:lnTo>
                  <a:lnTo>
                    <a:pt x="769" y="965"/>
                  </a:lnTo>
                  <a:lnTo>
                    <a:pt x="767" y="960"/>
                  </a:lnTo>
                  <a:lnTo>
                    <a:pt x="766" y="956"/>
                  </a:lnTo>
                  <a:lnTo>
                    <a:pt x="767" y="954"/>
                  </a:lnTo>
                  <a:lnTo>
                    <a:pt x="769" y="952"/>
                  </a:lnTo>
                  <a:lnTo>
                    <a:pt x="772" y="951"/>
                  </a:lnTo>
                  <a:lnTo>
                    <a:pt x="776" y="950"/>
                  </a:lnTo>
                  <a:lnTo>
                    <a:pt x="784" y="950"/>
                  </a:lnTo>
                  <a:lnTo>
                    <a:pt x="796" y="952"/>
                  </a:lnTo>
                  <a:lnTo>
                    <a:pt x="818" y="954"/>
                  </a:lnTo>
                  <a:lnTo>
                    <a:pt x="843" y="955"/>
                  </a:lnTo>
                  <a:lnTo>
                    <a:pt x="873" y="956"/>
                  </a:lnTo>
                  <a:lnTo>
                    <a:pt x="906" y="956"/>
                  </a:lnTo>
                  <a:lnTo>
                    <a:pt x="914" y="955"/>
                  </a:lnTo>
                  <a:lnTo>
                    <a:pt x="921" y="952"/>
                  </a:lnTo>
                  <a:lnTo>
                    <a:pt x="927" y="948"/>
                  </a:lnTo>
                  <a:lnTo>
                    <a:pt x="932" y="944"/>
                  </a:lnTo>
                  <a:lnTo>
                    <a:pt x="936" y="938"/>
                  </a:lnTo>
                  <a:lnTo>
                    <a:pt x="939" y="932"/>
                  </a:lnTo>
                  <a:lnTo>
                    <a:pt x="940" y="924"/>
                  </a:lnTo>
                  <a:lnTo>
                    <a:pt x="941" y="917"/>
                  </a:lnTo>
                  <a:lnTo>
                    <a:pt x="943" y="891"/>
                  </a:lnTo>
                  <a:lnTo>
                    <a:pt x="946" y="859"/>
                  </a:lnTo>
                  <a:lnTo>
                    <a:pt x="949" y="820"/>
                  </a:lnTo>
                  <a:lnTo>
                    <a:pt x="952" y="774"/>
                  </a:lnTo>
                  <a:lnTo>
                    <a:pt x="956" y="720"/>
                  </a:lnTo>
                  <a:lnTo>
                    <a:pt x="959" y="659"/>
                  </a:lnTo>
                  <a:lnTo>
                    <a:pt x="962" y="591"/>
                  </a:lnTo>
                  <a:lnTo>
                    <a:pt x="966" y="516"/>
                  </a:lnTo>
                  <a:lnTo>
                    <a:pt x="968" y="469"/>
                  </a:lnTo>
                  <a:lnTo>
                    <a:pt x="970" y="429"/>
                  </a:lnTo>
                  <a:lnTo>
                    <a:pt x="974" y="396"/>
                  </a:lnTo>
                  <a:lnTo>
                    <a:pt x="976" y="371"/>
                  </a:lnTo>
                  <a:lnTo>
                    <a:pt x="977" y="366"/>
                  </a:lnTo>
                  <a:lnTo>
                    <a:pt x="977" y="362"/>
                  </a:lnTo>
                  <a:lnTo>
                    <a:pt x="976" y="359"/>
                  </a:lnTo>
                  <a:lnTo>
                    <a:pt x="975" y="357"/>
                  </a:lnTo>
                  <a:lnTo>
                    <a:pt x="973" y="355"/>
                  </a:lnTo>
                  <a:lnTo>
                    <a:pt x="969" y="355"/>
                  </a:lnTo>
                  <a:lnTo>
                    <a:pt x="965" y="355"/>
                  </a:lnTo>
                  <a:lnTo>
                    <a:pt x="961" y="356"/>
                  </a:lnTo>
                  <a:lnTo>
                    <a:pt x="932" y="358"/>
                  </a:lnTo>
                  <a:lnTo>
                    <a:pt x="903" y="362"/>
                  </a:lnTo>
                  <a:lnTo>
                    <a:pt x="871" y="367"/>
                  </a:lnTo>
                  <a:lnTo>
                    <a:pt x="838" y="372"/>
                  </a:lnTo>
                  <a:lnTo>
                    <a:pt x="804" y="378"/>
                  </a:lnTo>
                  <a:lnTo>
                    <a:pt x="767" y="385"/>
                  </a:lnTo>
                  <a:lnTo>
                    <a:pt x="730" y="392"/>
                  </a:lnTo>
                  <a:lnTo>
                    <a:pt x="691" y="401"/>
                  </a:lnTo>
                  <a:lnTo>
                    <a:pt x="682" y="394"/>
                  </a:lnTo>
                  <a:lnTo>
                    <a:pt x="671" y="385"/>
                  </a:lnTo>
                  <a:lnTo>
                    <a:pt x="657" y="372"/>
                  </a:lnTo>
                  <a:lnTo>
                    <a:pt x="641" y="356"/>
                  </a:lnTo>
                  <a:lnTo>
                    <a:pt x="626" y="375"/>
                  </a:lnTo>
                  <a:lnTo>
                    <a:pt x="609" y="397"/>
                  </a:lnTo>
                  <a:lnTo>
                    <a:pt x="589" y="423"/>
                  </a:lnTo>
                  <a:lnTo>
                    <a:pt x="566" y="450"/>
                  </a:lnTo>
                  <a:lnTo>
                    <a:pt x="562" y="458"/>
                  </a:lnTo>
                  <a:lnTo>
                    <a:pt x="561" y="461"/>
                  </a:lnTo>
                  <a:lnTo>
                    <a:pt x="553" y="468"/>
                  </a:lnTo>
                  <a:lnTo>
                    <a:pt x="546" y="475"/>
                  </a:lnTo>
                  <a:lnTo>
                    <a:pt x="537" y="480"/>
                  </a:lnTo>
                  <a:lnTo>
                    <a:pt x="530" y="485"/>
                  </a:lnTo>
                  <a:lnTo>
                    <a:pt x="521" y="491"/>
                  </a:lnTo>
                  <a:lnTo>
                    <a:pt x="513" y="495"/>
                  </a:lnTo>
                  <a:lnTo>
                    <a:pt x="504" y="498"/>
                  </a:lnTo>
                  <a:lnTo>
                    <a:pt x="496" y="500"/>
                  </a:lnTo>
                  <a:lnTo>
                    <a:pt x="511" y="504"/>
                  </a:lnTo>
                  <a:lnTo>
                    <a:pt x="526" y="509"/>
                  </a:lnTo>
                  <a:lnTo>
                    <a:pt x="540" y="514"/>
                  </a:lnTo>
                  <a:lnTo>
                    <a:pt x="556" y="520"/>
                  </a:lnTo>
                  <a:lnTo>
                    <a:pt x="585" y="516"/>
                  </a:lnTo>
                  <a:lnTo>
                    <a:pt x="610" y="510"/>
                  </a:lnTo>
                  <a:lnTo>
                    <a:pt x="635" y="504"/>
                  </a:lnTo>
                  <a:lnTo>
                    <a:pt x="656" y="498"/>
                  </a:lnTo>
                  <a:lnTo>
                    <a:pt x="675" y="492"/>
                  </a:lnTo>
                  <a:lnTo>
                    <a:pt x="691" y="485"/>
                  </a:lnTo>
                  <a:lnTo>
                    <a:pt x="705" y="478"/>
                  </a:lnTo>
                  <a:lnTo>
                    <a:pt x="716" y="471"/>
                  </a:lnTo>
                  <a:lnTo>
                    <a:pt x="730" y="481"/>
                  </a:lnTo>
                  <a:lnTo>
                    <a:pt x="744" y="491"/>
                  </a:lnTo>
                  <a:lnTo>
                    <a:pt x="759" y="499"/>
                  </a:lnTo>
                  <a:lnTo>
                    <a:pt x="775" y="507"/>
                  </a:lnTo>
                  <a:lnTo>
                    <a:pt x="790" y="513"/>
                  </a:lnTo>
                  <a:lnTo>
                    <a:pt x="806" y="518"/>
                  </a:lnTo>
                  <a:lnTo>
                    <a:pt x="823" y="522"/>
                  </a:lnTo>
                  <a:lnTo>
                    <a:pt x="840" y="526"/>
                  </a:lnTo>
                  <a:lnTo>
                    <a:pt x="835" y="537"/>
                  </a:lnTo>
                  <a:lnTo>
                    <a:pt x="830" y="549"/>
                  </a:lnTo>
                  <a:lnTo>
                    <a:pt x="825" y="562"/>
                  </a:lnTo>
                  <a:lnTo>
                    <a:pt x="822" y="574"/>
                  </a:lnTo>
                  <a:lnTo>
                    <a:pt x="819" y="588"/>
                  </a:lnTo>
                  <a:lnTo>
                    <a:pt x="817" y="602"/>
                  </a:lnTo>
                  <a:lnTo>
                    <a:pt x="816" y="616"/>
                  </a:lnTo>
                  <a:lnTo>
                    <a:pt x="816" y="631"/>
                  </a:lnTo>
                  <a:lnTo>
                    <a:pt x="815" y="650"/>
                  </a:lnTo>
                  <a:lnTo>
                    <a:pt x="814" y="670"/>
                  </a:lnTo>
                  <a:lnTo>
                    <a:pt x="813" y="691"/>
                  </a:lnTo>
                  <a:lnTo>
                    <a:pt x="812" y="712"/>
                  </a:lnTo>
                  <a:lnTo>
                    <a:pt x="812" y="734"/>
                  </a:lnTo>
                  <a:lnTo>
                    <a:pt x="812" y="758"/>
                  </a:lnTo>
                  <a:lnTo>
                    <a:pt x="811" y="781"/>
                  </a:lnTo>
                  <a:lnTo>
                    <a:pt x="811" y="806"/>
                  </a:lnTo>
                  <a:lnTo>
                    <a:pt x="808" y="832"/>
                  </a:lnTo>
                  <a:lnTo>
                    <a:pt x="807" y="855"/>
                  </a:lnTo>
                  <a:lnTo>
                    <a:pt x="806" y="874"/>
                  </a:lnTo>
                  <a:lnTo>
                    <a:pt x="805" y="891"/>
                  </a:lnTo>
                  <a:lnTo>
                    <a:pt x="805" y="898"/>
                  </a:lnTo>
                  <a:lnTo>
                    <a:pt x="804" y="904"/>
                  </a:lnTo>
                  <a:lnTo>
                    <a:pt x="803" y="908"/>
                  </a:lnTo>
                  <a:lnTo>
                    <a:pt x="801" y="911"/>
                  </a:lnTo>
                  <a:lnTo>
                    <a:pt x="796" y="912"/>
                  </a:lnTo>
                  <a:lnTo>
                    <a:pt x="790" y="912"/>
                  </a:lnTo>
                  <a:lnTo>
                    <a:pt x="786" y="910"/>
                  </a:lnTo>
                  <a:lnTo>
                    <a:pt x="781" y="906"/>
                  </a:lnTo>
                  <a:lnTo>
                    <a:pt x="775" y="902"/>
                  </a:lnTo>
                  <a:lnTo>
                    <a:pt x="768" y="897"/>
                  </a:lnTo>
                  <a:lnTo>
                    <a:pt x="762" y="890"/>
                  </a:lnTo>
                  <a:lnTo>
                    <a:pt x="754" y="884"/>
                  </a:lnTo>
                  <a:lnTo>
                    <a:pt x="741" y="867"/>
                  </a:lnTo>
                  <a:lnTo>
                    <a:pt x="726" y="846"/>
                  </a:lnTo>
                  <a:lnTo>
                    <a:pt x="711" y="847"/>
                  </a:lnTo>
                  <a:lnTo>
                    <a:pt x="693" y="848"/>
                  </a:lnTo>
                  <a:lnTo>
                    <a:pt x="672" y="849"/>
                  </a:lnTo>
                  <a:lnTo>
                    <a:pt x="645" y="851"/>
                  </a:lnTo>
                  <a:lnTo>
                    <a:pt x="620" y="851"/>
                  </a:lnTo>
                  <a:lnTo>
                    <a:pt x="599" y="852"/>
                  </a:lnTo>
                  <a:lnTo>
                    <a:pt x="580" y="854"/>
                  </a:lnTo>
                  <a:lnTo>
                    <a:pt x="566" y="856"/>
                  </a:lnTo>
                  <a:lnTo>
                    <a:pt x="566" y="891"/>
                  </a:lnTo>
                  <a:lnTo>
                    <a:pt x="566" y="901"/>
                  </a:lnTo>
                  <a:lnTo>
                    <a:pt x="565" y="907"/>
                  </a:lnTo>
                  <a:lnTo>
                    <a:pt x="563" y="912"/>
                  </a:lnTo>
                  <a:lnTo>
                    <a:pt x="561" y="917"/>
                  </a:lnTo>
                  <a:lnTo>
                    <a:pt x="557" y="918"/>
                  </a:lnTo>
                  <a:lnTo>
                    <a:pt x="554" y="918"/>
                  </a:lnTo>
                  <a:lnTo>
                    <a:pt x="550" y="916"/>
                  </a:lnTo>
                  <a:lnTo>
                    <a:pt x="546" y="911"/>
                  </a:lnTo>
                  <a:lnTo>
                    <a:pt x="525" y="894"/>
                  </a:lnTo>
                  <a:lnTo>
                    <a:pt x="507" y="879"/>
                  </a:lnTo>
                  <a:lnTo>
                    <a:pt x="492" y="865"/>
                  </a:lnTo>
                  <a:lnTo>
                    <a:pt x="481" y="851"/>
                  </a:lnTo>
                  <a:lnTo>
                    <a:pt x="483" y="848"/>
                  </a:lnTo>
                  <a:lnTo>
                    <a:pt x="485" y="844"/>
                  </a:lnTo>
                  <a:lnTo>
                    <a:pt x="487" y="837"/>
                  </a:lnTo>
                  <a:lnTo>
                    <a:pt x="490" y="830"/>
                  </a:lnTo>
                  <a:lnTo>
                    <a:pt x="493" y="810"/>
                  </a:lnTo>
                  <a:lnTo>
                    <a:pt x="496" y="785"/>
                  </a:lnTo>
                  <a:lnTo>
                    <a:pt x="498" y="753"/>
                  </a:lnTo>
                  <a:lnTo>
                    <a:pt x="499" y="717"/>
                  </a:lnTo>
                  <a:lnTo>
                    <a:pt x="500" y="674"/>
                  </a:lnTo>
                  <a:lnTo>
                    <a:pt x="501" y="626"/>
                  </a:lnTo>
                  <a:lnTo>
                    <a:pt x="499" y="614"/>
                  </a:lnTo>
                  <a:lnTo>
                    <a:pt x="496" y="596"/>
                  </a:lnTo>
                  <a:lnTo>
                    <a:pt x="495" y="581"/>
                  </a:lnTo>
                  <a:lnTo>
                    <a:pt x="495" y="566"/>
                  </a:lnTo>
                  <a:lnTo>
                    <a:pt x="494" y="553"/>
                  </a:lnTo>
                  <a:lnTo>
                    <a:pt x="492" y="540"/>
                  </a:lnTo>
                  <a:lnTo>
                    <a:pt x="490" y="530"/>
                  </a:lnTo>
                  <a:lnTo>
                    <a:pt x="487" y="521"/>
                  </a:lnTo>
                  <a:lnTo>
                    <a:pt x="484" y="513"/>
                  </a:lnTo>
                  <a:lnTo>
                    <a:pt x="481" y="506"/>
                  </a:lnTo>
                  <a:lnTo>
                    <a:pt x="472" y="506"/>
                  </a:lnTo>
                  <a:lnTo>
                    <a:pt x="462" y="504"/>
                  </a:lnTo>
                  <a:lnTo>
                    <a:pt x="453" y="503"/>
                  </a:lnTo>
                  <a:lnTo>
                    <a:pt x="442" y="501"/>
                  </a:lnTo>
                  <a:lnTo>
                    <a:pt x="420" y="495"/>
                  </a:lnTo>
                  <a:lnTo>
                    <a:pt x="395" y="485"/>
                  </a:lnTo>
                  <a:lnTo>
                    <a:pt x="417" y="471"/>
                  </a:lnTo>
                  <a:lnTo>
                    <a:pt x="438" y="454"/>
                  </a:lnTo>
                  <a:lnTo>
                    <a:pt x="458" y="437"/>
                  </a:lnTo>
                  <a:lnTo>
                    <a:pt x="477" y="419"/>
                  </a:lnTo>
                  <a:lnTo>
                    <a:pt x="496" y="400"/>
                  </a:lnTo>
                  <a:lnTo>
                    <a:pt x="515" y="380"/>
                  </a:lnTo>
                  <a:lnTo>
                    <a:pt x="533" y="359"/>
                  </a:lnTo>
                  <a:lnTo>
                    <a:pt x="551" y="338"/>
                  </a:lnTo>
                  <a:lnTo>
                    <a:pt x="568" y="316"/>
                  </a:lnTo>
                  <a:lnTo>
                    <a:pt x="585" y="292"/>
                  </a:lnTo>
                  <a:lnTo>
                    <a:pt x="601" y="269"/>
                  </a:lnTo>
                  <a:lnTo>
                    <a:pt x="617" y="244"/>
                  </a:lnTo>
                  <a:lnTo>
                    <a:pt x="633" y="218"/>
                  </a:lnTo>
                  <a:lnTo>
                    <a:pt x="647" y="192"/>
                  </a:lnTo>
                  <a:lnTo>
                    <a:pt x="662" y="164"/>
                  </a:lnTo>
                  <a:lnTo>
                    <a:pt x="676" y="136"/>
                  </a:lnTo>
                  <a:lnTo>
                    <a:pt x="683" y="116"/>
                  </a:lnTo>
                  <a:lnTo>
                    <a:pt x="691" y="98"/>
                  </a:lnTo>
                  <a:lnTo>
                    <a:pt x="696" y="79"/>
                  </a:lnTo>
                  <a:lnTo>
                    <a:pt x="700" y="61"/>
                  </a:lnTo>
                  <a:lnTo>
                    <a:pt x="704" y="46"/>
                  </a:lnTo>
                  <a:lnTo>
                    <a:pt x="706" y="30"/>
                  </a:lnTo>
                  <a:lnTo>
                    <a:pt x="707" y="15"/>
                  </a:lnTo>
                  <a:lnTo>
                    <a:pt x="706" y="0"/>
                  </a:lnTo>
                  <a:close/>
                  <a:moveTo>
                    <a:pt x="320" y="571"/>
                  </a:moveTo>
                  <a:lnTo>
                    <a:pt x="320" y="583"/>
                  </a:lnTo>
                  <a:lnTo>
                    <a:pt x="319" y="600"/>
                  </a:lnTo>
                  <a:lnTo>
                    <a:pt x="318" y="621"/>
                  </a:lnTo>
                  <a:lnTo>
                    <a:pt x="316" y="645"/>
                  </a:lnTo>
                  <a:lnTo>
                    <a:pt x="312" y="679"/>
                  </a:lnTo>
                  <a:lnTo>
                    <a:pt x="308" y="710"/>
                  </a:lnTo>
                  <a:lnTo>
                    <a:pt x="305" y="739"/>
                  </a:lnTo>
                  <a:lnTo>
                    <a:pt x="303" y="764"/>
                  </a:lnTo>
                  <a:lnTo>
                    <a:pt x="301" y="786"/>
                  </a:lnTo>
                  <a:lnTo>
                    <a:pt x="299" y="805"/>
                  </a:lnTo>
                  <a:lnTo>
                    <a:pt x="297" y="822"/>
                  </a:lnTo>
                  <a:lnTo>
                    <a:pt x="296" y="836"/>
                  </a:lnTo>
                  <a:lnTo>
                    <a:pt x="310" y="828"/>
                  </a:lnTo>
                  <a:lnTo>
                    <a:pt x="329" y="818"/>
                  </a:lnTo>
                  <a:lnTo>
                    <a:pt x="350" y="808"/>
                  </a:lnTo>
                  <a:lnTo>
                    <a:pt x="375" y="796"/>
                  </a:lnTo>
                  <a:lnTo>
                    <a:pt x="388" y="790"/>
                  </a:lnTo>
                  <a:lnTo>
                    <a:pt x="399" y="783"/>
                  </a:lnTo>
                  <a:lnTo>
                    <a:pt x="407" y="779"/>
                  </a:lnTo>
                  <a:lnTo>
                    <a:pt x="415" y="776"/>
                  </a:lnTo>
                  <a:lnTo>
                    <a:pt x="425" y="771"/>
                  </a:lnTo>
                  <a:lnTo>
                    <a:pt x="433" y="768"/>
                  </a:lnTo>
                  <a:lnTo>
                    <a:pt x="441" y="765"/>
                  </a:lnTo>
                  <a:lnTo>
                    <a:pt x="448" y="763"/>
                  </a:lnTo>
                  <a:lnTo>
                    <a:pt x="454" y="763"/>
                  </a:lnTo>
                  <a:lnTo>
                    <a:pt x="459" y="763"/>
                  </a:lnTo>
                  <a:lnTo>
                    <a:pt x="463" y="764"/>
                  </a:lnTo>
                  <a:lnTo>
                    <a:pt x="466" y="766"/>
                  </a:lnTo>
                  <a:lnTo>
                    <a:pt x="466" y="770"/>
                  </a:lnTo>
                  <a:lnTo>
                    <a:pt x="466" y="775"/>
                  </a:lnTo>
                  <a:lnTo>
                    <a:pt x="464" y="780"/>
                  </a:lnTo>
                  <a:lnTo>
                    <a:pt x="462" y="785"/>
                  </a:lnTo>
                  <a:lnTo>
                    <a:pt x="458" y="791"/>
                  </a:lnTo>
                  <a:lnTo>
                    <a:pt x="454" y="797"/>
                  </a:lnTo>
                  <a:lnTo>
                    <a:pt x="447" y="804"/>
                  </a:lnTo>
                  <a:lnTo>
                    <a:pt x="441" y="811"/>
                  </a:lnTo>
                  <a:lnTo>
                    <a:pt x="411" y="837"/>
                  </a:lnTo>
                  <a:lnTo>
                    <a:pt x="383" y="864"/>
                  </a:lnTo>
                  <a:lnTo>
                    <a:pt x="355" y="890"/>
                  </a:lnTo>
                  <a:lnTo>
                    <a:pt x="328" y="917"/>
                  </a:lnTo>
                  <a:lnTo>
                    <a:pt x="302" y="942"/>
                  </a:lnTo>
                  <a:lnTo>
                    <a:pt x="278" y="969"/>
                  </a:lnTo>
                  <a:lnTo>
                    <a:pt x="253" y="995"/>
                  </a:lnTo>
                  <a:lnTo>
                    <a:pt x="230" y="1022"/>
                  </a:lnTo>
                  <a:lnTo>
                    <a:pt x="224" y="1004"/>
                  </a:lnTo>
                  <a:lnTo>
                    <a:pt x="216" y="986"/>
                  </a:lnTo>
                  <a:lnTo>
                    <a:pt x="208" y="970"/>
                  </a:lnTo>
                  <a:lnTo>
                    <a:pt x="199" y="955"/>
                  </a:lnTo>
                  <a:lnTo>
                    <a:pt x="190" y="941"/>
                  </a:lnTo>
                  <a:lnTo>
                    <a:pt x="179" y="928"/>
                  </a:lnTo>
                  <a:lnTo>
                    <a:pt x="168" y="917"/>
                  </a:lnTo>
                  <a:lnTo>
                    <a:pt x="156" y="906"/>
                  </a:lnTo>
                  <a:lnTo>
                    <a:pt x="170" y="894"/>
                  </a:lnTo>
                  <a:lnTo>
                    <a:pt x="182" y="882"/>
                  </a:lnTo>
                  <a:lnTo>
                    <a:pt x="193" y="868"/>
                  </a:lnTo>
                  <a:lnTo>
                    <a:pt x="203" y="852"/>
                  </a:lnTo>
                  <a:lnTo>
                    <a:pt x="211" y="836"/>
                  </a:lnTo>
                  <a:lnTo>
                    <a:pt x="217" y="819"/>
                  </a:lnTo>
                  <a:lnTo>
                    <a:pt x="223" y="800"/>
                  </a:lnTo>
                  <a:lnTo>
                    <a:pt x="226" y="781"/>
                  </a:lnTo>
                  <a:lnTo>
                    <a:pt x="231" y="721"/>
                  </a:lnTo>
                  <a:lnTo>
                    <a:pt x="236" y="667"/>
                  </a:lnTo>
                  <a:lnTo>
                    <a:pt x="241" y="617"/>
                  </a:lnTo>
                  <a:lnTo>
                    <a:pt x="244" y="572"/>
                  </a:lnTo>
                  <a:lnTo>
                    <a:pt x="247" y="533"/>
                  </a:lnTo>
                  <a:lnTo>
                    <a:pt x="249" y="499"/>
                  </a:lnTo>
                  <a:lnTo>
                    <a:pt x="250" y="469"/>
                  </a:lnTo>
                  <a:lnTo>
                    <a:pt x="250" y="446"/>
                  </a:lnTo>
                  <a:lnTo>
                    <a:pt x="231" y="455"/>
                  </a:lnTo>
                  <a:lnTo>
                    <a:pt x="207" y="466"/>
                  </a:lnTo>
                  <a:lnTo>
                    <a:pt x="178" y="480"/>
                  </a:lnTo>
                  <a:lnTo>
                    <a:pt x="145" y="496"/>
                  </a:lnTo>
                  <a:lnTo>
                    <a:pt x="122" y="508"/>
                  </a:lnTo>
                  <a:lnTo>
                    <a:pt x="102" y="517"/>
                  </a:lnTo>
                  <a:lnTo>
                    <a:pt x="85" y="525"/>
                  </a:lnTo>
                  <a:lnTo>
                    <a:pt x="70" y="531"/>
                  </a:lnTo>
                  <a:lnTo>
                    <a:pt x="53" y="510"/>
                  </a:lnTo>
                  <a:lnTo>
                    <a:pt x="35" y="490"/>
                  </a:lnTo>
                  <a:lnTo>
                    <a:pt x="18" y="472"/>
                  </a:lnTo>
                  <a:lnTo>
                    <a:pt x="0" y="456"/>
                  </a:lnTo>
                  <a:lnTo>
                    <a:pt x="47" y="449"/>
                  </a:lnTo>
                  <a:lnTo>
                    <a:pt x="89" y="441"/>
                  </a:lnTo>
                  <a:lnTo>
                    <a:pt x="108" y="436"/>
                  </a:lnTo>
                  <a:lnTo>
                    <a:pt x="127" y="430"/>
                  </a:lnTo>
                  <a:lnTo>
                    <a:pt x="144" y="425"/>
                  </a:lnTo>
                  <a:lnTo>
                    <a:pt x="160" y="420"/>
                  </a:lnTo>
                  <a:lnTo>
                    <a:pt x="176" y="413"/>
                  </a:lnTo>
                  <a:lnTo>
                    <a:pt x="190" y="407"/>
                  </a:lnTo>
                  <a:lnTo>
                    <a:pt x="203" y="401"/>
                  </a:lnTo>
                  <a:lnTo>
                    <a:pt x="214" y="393"/>
                  </a:lnTo>
                  <a:lnTo>
                    <a:pt x="225" y="386"/>
                  </a:lnTo>
                  <a:lnTo>
                    <a:pt x="234" y="377"/>
                  </a:lnTo>
                  <a:lnTo>
                    <a:pt x="243" y="369"/>
                  </a:lnTo>
                  <a:lnTo>
                    <a:pt x="250" y="360"/>
                  </a:lnTo>
                  <a:lnTo>
                    <a:pt x="265" y="371"/>
                  </a:lnTo>
                  <a:lnTo>
                    <a:pt x="280" y="380"/>
                  </a:lnTo>
                  <a:lnTo>
                    <a:pt x="296" y="389"/>
                  </a:lnTo>
                  <a:lnTo>
                    <a:pt x="312" y="395"/>
                  </a:lnTo>
                  <a:lnTo>
                    <a:pt x="330" y="402"/>
                  </a:lnTo>
                  <a:lnTo>
                    <a:pt x="348" y="406"/>
                  </a:lnTo>
                  <a:lnTo>
                    <a:pt x="366" y="409"/>
                  </a:lnTo>
                  <a:lnTo>
                    <a:pt x="386" y="411"/>
                  </a:lnTo>
                  <a:lnTo>
                    <a:pt x="373" y="426"/>
                  </a:lnTo>
                  <a:lnTo>
                    <a:pt x="361" y="443"/>
                  </a:lnTo>
                  <a:lnTo>
                    <a:pt x="351" y="461"/>
                  </a:lnTo>
                  <a:lnTo>
                    <a:pt x="342" y="481"/>
                  </a:lnTo>
                  <a:lnTo>
                    <a:pt x="335" y="501"/>
                  </a:lnTo>
                  <a:lnTo>
                    <a:pt x="329" y="524"/>
                  </a:lnTo>
                  <a:lnTo>
                    <a:pt x="323" y="547"/>
                  </a:lnTo>
                  <a:lnTo>
                    <a:pt x="320" y="571"/>
                  </a:lnTo>
                  <a:close/>
                  <a:moveTo>
                    <a:pt x="566" y="711"/>
                  </a:moveTo>
                  <a:lnTo>
                    <a:pt x="566" y="816"/>
                  </a:lnTo>
                  <a:lnTo>
                    <a:pt x="579" y="815"/>
                  </a:lnTo>
                  <a:lnTo>
                    <a:pt x="596" y="811"/>
                  </a:lnTo>
                  <a:lnTo>
                    <a:pt x="624" y="806"/>
                  </a:lnTo>
                  <a:lnTo>
                    <a:pt x="653" y="801"/>
                  </a:lnTo>
                  <a:lnTo>
                    <a:pt x="683" y="796"/>
                  </a:lnTo>
                  <a:lnTo>
                    <a:pt x="716" y="792"/>
                  </a:lnTo>
                  <a:lnTo>
                    <a:pt x="716" y="788"/>
                  </a:lnTo>
                  <a:lnTo>
                    <a:pt x="716" y="781"/>
                  </a:lnTo>
                  <a:lnTo>
                    <a:pt x="718" y="776"/>
                  </a:lnTo>
                  <a:lnTo>
                    <a:pt x="719" y="771"/>
                  </a:lnTo>
                  <a:lnTo>
                    <a:pt x="721" y="766"/>
                  </a:lnTo>
                  <a:lnTo>
                    <a:pt x="721" y="761"/>
                  </a:lnTo>
                  <a:lnTo>
                    <a:pt x="723" y="735"/>
                  </a:lnTo>
                  <a:lnTo>
                    <a:pt x="725" y="710"/>
                  </a:lnTo>
                  <a:lnTo>
                    <a:pt x="726" y="685"/>
                  </a:lnTo>
                  <a:lnTo>
                    <a:pt x="726" y="658"/>
                  </a:lnTo>
                  <a:lnTo>
                    <a:pt x="726" y="632"/>
                  </a:lnTo>
                  <a:lnTo>
                    <a:pt x="725" y="605"/>
                  </a:lnTo>
                  <a:lnTo>
                    <a:pt x="723" y="579"/>
                  </a:lnTo>
                  <a:lnTo>
                    <a:pt x="721" y="551"/>
                  </a:lnTo>
                  <a:lnTo>
                    <a:pt x="717" y="545"/>
                  </a:lnTo>
                  <a:lnTo>
                    <a:pt x="713" y="539"/>
                  </a:lnTo>
                  <a:lnTo>
                    <a:pt x="711" y="538"/>
                  </a:lnTo>
                  <a:lnTo>
                    <a:pt x="708" y="537"/>
                  </a:lnTo>
                  <a:lnTo>
                    <a:pt x="705" y="536"/>
                  </a:lnTo>
                  <a:lnTo>
                    <a:pt x="700" y="536"/>
                  </a:lnTo>
                  <a:lnTo>
                    <a:pt x="670" y="544"/>
                  </a:lnTo>
                  <a:lnTo>
                    <a:pt x="637" y="551"/>
                  </a:lnTo>
                  <a:lnTo>
                    <a:pt x="602" y="558"/>
                  </a:lnTo>
                  <a:lnTo>
                    <a:pt x="566" y="566"/>
                  </a:lnTo>
                  <a:lnTo>
                    <a:pt x="566" y="661"/>
                  </a:lnTo>
                  <a:lnTo>
                    <a:pt x="585" y="658"/>
                  </a:lnTo>
                  <a:lnTo>
                    <a:pt x="607" y="654"/>
                  </a:lnTo>
                  <a:lnTo>
                    <a:pt x="633" y="648"/>
                  </a:lnTo>
                  <a:lnTo>
                    <a:pt x="661" y="641"/>
                  </a:lnTo>
                  <a:lnTo>
                    <a:pt x="673" y="637"/>
                  </a:lnTo>
                  <a:lnTo>
                    <a:pt x="680" y="636"/>
                  </a:lnTo>
                  <a:lnTo>
                    <a:pt x="684" y="641"/>
                  </a:lnTo>
                  <a:lnTo>
                    <a:pt x="692" y="652"/>
                  </a:lnTo>
                  <a:lnTo>
                    <a:pt x="703" y="669"/>
                  </a:lnTo>
                  <a:lnTo>
                    <a:pt x="716" y="691"/>
                  </a:lnTo>
                  <a:lnTo>
                    <a:pt x="707" y="691"/>
                  </a:lnTo>
                  <a:lnTo>
                    <a:pt x="691" y="691"/>
                  </a:lnTo>
                  <a:lnTo>
                    <a:pt x="653" y="696"/>
                  </a:lnTo>
                  <a:lnTo>
                    <a:pt x="620" y="700"/>
                  </a:lnTo>
                  <a:lnTo>
                    <a:pt x="590" y="706"/>
                  </a:lnTo>
                  <a:lnTo>
                    <a:pt x="566" y="711"/>
                  </a:lnTo>
                  <a:close/>
                  <a:moveTo>
                    <a:pt x="281" y="75"/>
                  </a:moveTo>
                  <a:lnTo>
                    <a:pt x="344" y="96"/>
                  </a:lnTo>
                  <a:lnTo>
                    <a:pt x="392" y="113"/>
                  </a:lnTo>
                  <a:lnTo>
                    <a:pt x="409" y="120"/>
                  </a:lnTo>
                  <a:lnTo>
                    <a:pt x="422" y="126"/>
                  </a:lnTo>
                  <a:lnTo>
                    <a:pt x="431" y="131"/>
                  </a:lnTo>
                  <a:lnTo>
                    <a:pt x="436" y="136"/>
                  </a:lnTo>
                  <a:lnTo>
                    <a:pt x="438" y="140"/>
                  </a:lnTo>
                  <a:lnTo>
                    <a:pt x="439" y="147"/>
                  </a:lnTo>
                  <a:lnTo>
                    <a:pt x="440" y="156"/>
                  </a:lnTo>
                  <a:lnTo>
                    <a:pt x="440" y="166"/>
                  </a:lnTo>
                  <a:lnTo>
                    <a:pt x="437" y="195"/>
                  </a:lnTo>
                  <a:lnTo>
                    <a:pt x="430" y="231"/>
                  </a:lnTo>
                  <a:lnTo>
                    <a:pt x="428" y="242"/>
                  </a:lnTo>
                  <a:lnTo>
                    <a:pt x="425" y="249"/>
                  </a:lnTo>
                  <a:lnTo>
                    <a:pt x="423" y="252"/>
                  </a:lnTo>
                  <a:lnTo>
                    <a:pt x="421" y="254"/>
                  </a:lnTo>
                  <a:lnTo>
                    <a:pt x="418" y="255"/>
                  </a:lnTo>
                  <a:lnTo>
                    <a:pt x="415" y="255"/>
                  </a:lnTo>
                  <a:lnTo>
                    <a:pt x="414" y="256"/>
                  </a:lnTo>
                  <a:lnTo>
                    <a:pt x="412" y="256"/>
                  </a:lnTo>
                  <a:lnTo>
                    <a:pt x="410" y="256"/>
                  </a:lnTo>
                  <a:lnTo>
                    <a:pt x="408" y="255"/>
                  </a:lnTo>
                  <a:lnTo>
                    <a:pt x="403" y="252"/>
                  </a:lnTo>
                  <a:lnTo>
                    <a:pt x="395" y="246"/>
                  </a:lnTo>
                  <a:lnTo>
                    <a:pt x="376" y="230"/>
                  </a:lnTo>
                  <a:lnTo>
                    <a:pt x="357" y="214"/>
                  </a:lnTo>
                  <a:lnTo>
                    <a:pt x="338" y="196"/>
                  </a:lnTo>
                  <a:lnTo>
                    <a:pt x="321" y="178"/>
                  </a:lnTo>
                  <a:lnTo>
                    <a:pt x="303" y="159"/>
                  </a:lnTo>
                  <a:lnTo>
                    <a:pt x="287" y="139"/>
                  </a:lnTo>
                  <a:lnTo>
                    <a:pt x="271" y="118"/>
                  </a:lnTo>
                  <a:lnTo>
                    <a:pt x="256" y="95"/>
                  </a:lnTo>
                  <a:lnTo>
                    <a:pt x="249" y="85"/>
                  </a:lnTo>
                  <a:lnTo>
                    <a:pt x="246" y="76"/>
                  </a:lnTo>
                  <a:lnTo>
                    <a:pt x="245" y="74"/>
                  </a:lnTo>
                  <a:lnTo>
                    <a:pt x="244" y="72"/>
                  </a:lnTo>
                  <a:lnTo>
                    <a:pt x="245" y="71"/>
                  </a:lnTo>
                  <a:lnTo>
                    <a:pt x="246" y="71"/>
                  </a:lnTo>
                  <a:lnTo>
                    <a:pt x="246" y="70"/>
                  </a:lnTo>
                  <a:lnTo>
                    <a:pt x="248" y="69"/>
                  </a:lnTo>
                  <a:lnTo>
                    <a:pt x="250" y="69"/>
                  </a:lnTo>
                  <a:lnTo>
                    <a:pt x="254" y="69"/>
                  </a:lnTo>
                  <a:lnTo>
                    <a:pt x="265" y="71"/>
                  </a:lnTo>
                  <a:lnTo>
                    <a:pt x="281" y="75"/>
                  </a:lnTo>
                  <a:close/>
                </a:path>
              </a:pathLst>
            </a:custGeom>
            <a:solidFill>
              <a:srgbClr val="d79f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d79f00"/>
                </a:solidFill>
                <a:latin typeface="Arial"/>
                <a:ea typeface="宋体"/>
              </a:endParaRPr>
            </a:p>
          </p:txBody>
        </p:sp>
        <p:sp>
          <p:nvSpPr>
            <p:cNvPr id="95" name="Freeform 21"/>
            <p:cNvSpPr/>
            <p:nvPr/>
          </p:nvSpPr>
          <p:spPr>
            <a:xfrm>
              <a:off x="4359600" y="9094320"/>
              <a:ext cx="228240" cy="216360"/>
            </a:xfrm>
            <a:custGeom>
              <a:avLst/>
              <a:gdLst>
                <a:gd name="textAreaLeft" fmla="*/ 0 w 228240"/>
                <a:gd name="textAreaRight" fmla="*/ 228600 w 228240"/>
                <a:gd name="textAreaTop" fmla="*/ 0 h 216360"/>
                <a:gd name="textAreaBottom" fmla="*/ 216720 h 216360"/>
              </a:gdLst>
              <a:ahLst/>
              <a:rect l="textAreaLeft" t="textAreaTop" r="textAreaRight" b="textAreaBottom"/>
              <a:pathLst>
                <a:path w="1175" h="1166">
                  <a:moveTo>
                    <a:pt x="1135" y="165"/>
                  </a:moveTo>
                  <a:lnTo>
                    <a:pt x="1149" y="186"/>
                  </a:lnTo>
                  <a:lnTo>
                    <a:pt x="1158" y="202"/>
                  </a:lnTo>
                  <a:lnTo>
                    <a:pt x="1166" y="213"/>
                  </a:lnTo>
                  <a:lnTo>
                    <a:pt x="1170" y="221"/>
                  </a:lnTo>
                  <a:lnTo>
                    <a:pt x="1173" y="227"/>
                  </a:lnTo>
                  <a:lnTo>
                    <a:pt x="1175" y="232"/>
                  </a:lnTo>
                  <a:lnTo>
                    <a:pt x="1175" y="236"/>
                  </a:lnTo>
                  <a:lnTo>
                    <a:pt x="1174" y="241"/>
                  </a:lnTo>
                  <a:lnTo>
                    <a:pt x="1171" y="244"/>
                  </a:lnTo>
                  <a:lnTo>
                    <a:pt x="1167" y="247"/>
                  </a:lnTo>
                  <a:lnTo>
                    <a:pt x="1162" y="249"/>
                  </a:lnTo>
                  <a:lnTo>
                    <a:pt x="1155" y="250"/>
                  </a:lnTo>
                  <a:lnTo>
                    <a:pt x="1095" y="251"/>
                  </a:lnTo>
                  <a:lnTo>
                    <a:pt x="1031" y="253"/>
                  </a:lnTo>
                  <a:lnTo>
                    <a:pt x="963" y="257"/>
                  </a:lnTo>
                  <a:lnTo>
                    <a:pt x="889" y="262"/>
                  </a:lnTo>
                  <a:lnTo>
                    <a:pt x="811" y="268"/>
                  </a:lnTo>
                  <a:lnTo>
                    <a:pt x="728" y="276"/>
                  </a:lnTo>
                  <a:lnTo>
                    <a:pt x="642" y="285"/>
                  </a:lnTo>
                  <a:lnTo>
                    <a:pt x="551" y="296"/>
                  </a:lnTo>
                  <a:lnTo>
                    <a:pt x="541" y="316"/>
                  </a:lnTo>
                  <a:lnTo>
                    <a:pt x="533" y="336"/>
                  </a:lnTo>
                  <a:lnTo>
                    <a:pt x="522" y="355"/>
                  </a:lnTo>
                  <a:lnTo>
                    <a:pt x="512" y="375"/>
                  </a:lnTo>
                  <a:lnTo>
                    <a:pt x="503" y="395"/>
                  </a:lnTo>
                  <a:lnTo>
                    <a:pt x="492" y="416"/>
                  </a:lnTo>
                  <a:lnTo>
                    <a:pt x="482" y="436"/>
                  </a:lnTo>
                  <a:lnTo>
                    <a:pt x="470" y="456"/>
                  </a:lnTo>
                  <a:lnTo>
                    <a:pt x="475" y="456"/>
                  </a:lnTo>
                  <a:lnTo>
                    <a:pt x="481" y="457"/>
                  </a:lnTo>
                  <a:lnTo>
                    <a:pt x="485" y="459"/>
                  </a:lnTo>
                  <a:lnTo>
                    <a:pt x="490" y="461"/>
                  </a:lnTo>
                  <a:lnTo>
                    <a:pt x="499" y="461"/>
                  </a:lnTo>
                  <a:lnTo>
                    <a:pt x="505" y="461"/>
                  </a:lnTo>
                  <a:lnTo>
                    <a:pt x="552" y="455"/>
                  </a:lnTo>
                  <a:lnTo>
                    <a:pt x="595" y="447"/>
                  </a:lnTo>
                  <a:lnTo>
                    <a:pt x="634" y="439"/>
                  </a:lnTo>
                  <a:lnTo>
                    <a:pt x="669" y="430"/>
                  </a:lnTo>
                  <a:lnTo>
                    <a:pt x="700" y="422"/>
                  </a:lnTo>
                  <a:lnTo>
                    <a:pt x="727" y="412"/>
                  </a:lnTo>
                  <a:lnTo>
                    <a:pt x="739" y="407"/>
                  </a:lnTo>
                  <a:lnTo>
                    <a:pt x="751" y="402"/>
                  </a:lnTo>
                  <a:lnTo>
                    <a:pt x="761" y="397"/>
                  </a:lnTo>
                  <a:lnTo>
                    <a:pt x="770" y="391"/>
                  </a:lnTo>
                  <a:lnTo>
                    <a:pt x="784" y="401"/>
                  </a:lnTo>
                  <a:lnTo>
                    <a:pt x="798" y="408"/>
                  </a:lnTo>
                  <a:lnTo>
                    <a:pt x="815" y="416"/>
                  </a:lnTo>
                  <a:lnTo>
                    <a:pt x="834" y="422"/>
                  </a:lnTo>
                  <a:lnTo>
                    <a:pt x="855" y="427"/>
                  </a:lnTo>
                  <a:lnTo>
                    <a:pt x="876" y="431"/>
                  </a:lnTo>
                  <a:lnTo>
                    <a:pt x="900" y="434"/>
                  </a:lnTo>
                  <a:lnTo>
                    <a:pt x="925" y="436"/>
                  </a:lnTo>
                  <a:lnTo>
                    <a:pt x="919" y="447"/>
                  </a:lnTo>
                  <a:lnTo>
                    <a:pt x="914" y="461"/>
                  </a:lnTo>
                  <a:lnTo>
                    <a:pt x="910" y="477"/>
                  </a:lnTo>
                  <a:lnTo>
                    <a:pt x="905" y="496"/>
                  </a:lnTo>
                  <a:lnTo>
                    <a:pt x="902" y="517"/>
                  </a:lnTo>
                  <a:lnTo>
                    <a:pt x="899" y="541"/>
                  </a:lnTo>
                  <a:lnTo>
                    <a:pt x="897" y="567"/>
                  </a:lnTo>
                  <a:lnTo>
                    <a:pt x="895" y="596"/>
                  </a:lnTo>
                  <a:lnTo>
                    <a:pt x="895" y="628"/>
                  </a:lnTo>
                  <a:lnTo>
                    <a:pt x="894" y="660"/>
                  </a:lnTo>
                  <a:lnTo>
                    <a:pt x="895" y="697"/>
                  </a:lnTo>
                  <a:lnTo>
                    <a:pt x="895" y="736"/>
                  </a:lnTo>
                  <a:lnTo>
                    <a:pt x="899" y="821"/>
                  </a:lnTo>
                  <a:lnTo>
                    <a:pt x="905" y="916"/>
                  </a:lnTo>
                  <a:lnTo>
                    <a:pt x="905" y="972"/>
                  </a:lnTo>
                  <a:lnTo>
                    <a:pt x="905" y="1020"/>
                  </a:lnTo>
                  <a:lnTo>
                    <a:pt x="903" y="1062"/>
                  </a:lnTo>
                  <a:lnTo>
                    <a:pt x="900" y="1096"/>
                  </a:lnTo>
                  <a:lnTo>
                    <a:pt x="898" y="1111"/>
                  </a:lnTo>
                  <a:lnTo>
                    <a:pt x="896" y="1125"/>
                  </a:lnTo>
                  <a:lnTo>
                    <a:pt x="893" y="1135"/>
                  </a:lnTo>
                  <a:lnTo>
                    <a:pt x="891" y="1145"/>
                  </a:lnTo>
                  <a:lnTo>
                    <a:pt x="887" y="1153"/>
                  </a:lnTo>
                  <a:lnTo>
                    <a:pt x="883" y="1160"/>
                  </a:lnTo>
                  <a:lnTo>
                    <a:pt x="880" y="1164"/>
                  </a:lnTo>
                  <a:lnTo>
                    <a:pt x="876" y="1166"/>
                  </a:lnTo>
                  <a:lnTo>
                    <a:pt x="867" y="1165"/>
                  </a:lnTo>
                  <a:lnTo>
                    <a:pt x="858" y="1162"/>
                  </a:lnTo>
                  <a:lnTo>
                    <a:pt x="848" y="1158"/>
                  </a:lnTo>
                  <a:lnTo>
                    <a:pt x="839" y="1154"/>
                  </a:lnTo>
                  <a:lnTo>
                    <a:pt x="816" y="1144"/>
                  </a:lnTo>
                  <a:lnTo>
                    <a:pt x="793" y="1129"/>
                  </a:lnTo>
                  <a:lnTo>
                    <a:pt x="767" y="1111"/>
                  </a:lnTo>
                  <a:lnTo>
                    <a:pt x="738" y="1090"/>
                  </a:lnTo>
                  <a:lnTo>
                    <a:pt x="707" y="1064"/>
                  </a:lnTo>
                  <a:lnTo>
                    <a:pt x="676" y="1037"/>
                  </a:lnTo>
                  <a:lnTo>
                    <a:pt x="667" y="1025"/>
                  </a:lnTo>
                  <a:lnTo>
                    <a:pt x="662" y="1016"/>
                  </a:lnTo>
                  <a:lnTo>
                    <a:pt x="660" y="1013"/>
                  </a:lnTo>
                  <a:lnTo>
                    <a:pt x="660" y="1010"/>
                  </a:lnTo>
                  <a:lnTo>
                    <a:pt x="660" y="1008"/>
                  </a:lnTo>
                  <a:lnTo>
                    <a:pt x="660" y="1006"/>
                  </a:lnTo>
                  <a:lnTo>
                    <a:pt x="661" y="1004"/>
                  </a:lnTo>
                  <a:lnTo>
                    <a:pt x="662" y="1002"/>
                  </a:lnTo>
                  <a:lnTo>
                    <a:pt x="664" y="1001"/>
                  </a:lnTo>
                  <a:lnTo>
                    <a:pt x="666" y="999"/>
                  </a:lnTo>
                  <a:lnTo>
                    <a:pt x="674" y="999"/>
                  </a:lnTo>
                  <a:lnTo>
                    <a:pt x="685" y="1002"/>
                  </a:lnTo>
                  <a:lnTo>
                    <a:pt x="713" y="1004"/>
                  </a:lnTo>
                  <a:lnTo>
                    <a:pt x="737" y="1005"/>
                  </a:lnTo>
                  <a:lnTo>
                    <a:pt x="748" y="1005"/>
                  </a:lnTo>
                  <a:lnTo>
                    <a:pt x="757" y="1004"/>
                  </a:lnTo>
                  <a:lnTo>
                    <a:pt x="766" y="1003"/>
                  </a:lnTo>
                  <a:lnTo>
                    <a:pt x="773" y="1002"/>
                  </a:lnTo>
                  <a:lnTo>
                    <a:pt x="779" y="999"/>
                  </a:lnTo>
                  <a:lnTo>
                    <a:pt x="785" y="996"/>
                  </a:lnTo>
                  <a:lnTo>
                    <a:pt x="789" y="993"/>
                  </a:lnTo>
                  <a:lnTo>
                    <a:pt x="792" y="990"/>
                  </a:lnTo>
                  <a:lnTo>
                    <a:pt x="794" y="986"/>
                  </a:lnTo>
                  <a:lnTo>
                    <a:pt x="795" y="981"/>
                  </a:lnTo>
                  <a:lnTo>
                    <a:pt x="796" y="976"/>
                  </a:lnTo>
                  <a:lnTo>
                    <a:pt x="795" y="971"/>
                  </a:lnTo>
                  <a:lnTo>
                    <a:pt x="797" y="904"/>
                  </a:lnTo>
                  <a:lnTo>
                    <a:pt x="798" y="839"/>
                  </a:lnTo>
                  <a:lnTo>
                    <a:pt x="798" y="776"/>
                  </a:lnTo>
                  <a:lnTo>
                    <a:pt x="797" y="713"/>
                  </a:lnTo>
                  <a:lnTo>
                    <a:pt x="796" y="653"/>
                  </a:lnTo>
                  <a:lnTo>
                    <a:pt x="793" y="594"/>
                  </a:lnTo>
                  <a:lnTo>
                    <a:pt x="790" y="536"/>
                  </a:lnTo>
                  <a:lnTo>
                    <a:pt x="786" y="480"/>
                  </a:lnTo>
                  <a:lnTo>
                    <a:pt x="785" y="477"/>
                  </a:lnTo>
                  <a:lnTo>
                    <a:pt x="784" y="474"/>
                  </a:lnTo>
                  <a:lnTo>
                    <a:pt x="782" y="472"/>
                  </a:lnTo>
                  <a:lnTo>
                    <a:pt x="780" y="470"/>
                  </a:lnTo>
                  <a:lnTo>
                    <a:pt x="777" y="468"/>
                  </a:lnTo>
                  <a:lnTo>
                    <a:pt x="774" y="466"/>
                  </a:lnTo>
                  <a:lnTo>
                    <a:pt x="770" y="466"/>
                  </a:lnTo>
                  <a:lnTo>
                    <a:pt x="766" y="465"/>
                  </a:lnTo>
                  <a:lnTo>
                    <a:pt x="732" y="472"/>
                  </a:lnTo>
                  <a:lnTo>
                    <a:pt x="700" y="478"/>
                  </a:lnTo>
                  <a:lnTo>
                    <a:pt x="670" y="486"/>
                  </a:lnTo>
                  <a:lnTo>
                    <a:pt x="642" y="492"/>
                  </a:lnTo>
                  <a:lnTo>
                    <a:pt x="614" y="499"/>
                  </a:lnTo>
                  <a:lnTo>
                    <a:pt x="588" y="506"/>
                  </a:lnTo>
                  <a:lnTo>
                    <a:pt x="563" y="513"/>
                  </a:lnTo>
                  <a:lnTo>
                    <a:pt x="540" y="521"/>
                  </a:lnTo>
                  <a:lnTo>
                    <a:pt x="537" y="521"/>
                  </a:lnTo>
                  <a:lnTo>
                    <a:pt x="533" y="519"/>
                  </a:lnTo>
                  <a:lnTo>
                    <a:pt x="528" y="517"/>
                  </a:lnTo>
                  <a:lnTo>
                    <a:pt x="524" y="514"/>
                  </a:lnTo>
                  <a:lnTo>
                    <a:pt x="515" y="507"/>
                  </a:lnTo>
                  <a:lnTo>
                    <a:pt x="505" y="496"/>
                  </a:lnTo>
                  <a:lnTo>
                    <a:pt x="503" y="519"/>
                  </a:lnTo>
                  <a:lnTo>
                    <a:pt x="502" y="550"/>
                  </a:lnTo>
                  <a:lnTo>
                    <a:pt x="501" y="587"/>
                  </a:lnTo>
                  <a:lnTo>
                    <a:pt x="500" y="631"/>
                  </a:lnTo>
                  <a:lnTo>
                    <a:pt x="515" y="630"/>
                  </a:lnTo>
                  <a:lnTo>
                    <a:pt x="534" y="628"/>
                  </a:lnTo>
                  <a:lnTo>
                    <a:pt x="557" y="622"/>
                  </a:lnTo>
                  <a:lnTo>
                    <a:pt x="585" y="616"/>
                  </a:lnTo>
                  <a:lnTo>
                    <a:pt x="627" y="607"/>
                  </a:lnTo>
                  <a:lnTo>
                    <a:pt x="663" y="600"/>
                  </a:lnTo>
                  <a:lnTo>
                    <a:pt x="692" y="595"/>
                  </a:lnTo>
                  <a:lnTo>
                    <a:pt x="715" y="590"/>
                  </a:lnTo>
                  <a:lnTo>
                    <a:pt x="719" y="594"/>
                  </a:lnTo>
                  <a:lnTo>
                    <a:pt x="726" y="602"/>
                  </a:lnTo>
                  <a:lnTo>
                    <a:pt x="737" y="616"/>
                  </a:lnTo>
                  <a:lnTo>
                    <a:pt x="750" y="636"/>
                  </a:lnTo>
                  <a:lnTo>
                    <a:pt x="753" y="638"/>
                  </a:lnTo>
                  <a:lnTo>
                    <a:pt x="754" y="641"/>
                  </a:lnTo>
                  <a:lnTo>
                    <a:pt x="755" y="643"/>
                  </a:lnTo>
                  <a:lnTo>
                    <a:pt x="755" y="646"/>
                  </a:lnTo>
                  <a:lnTo>
                    <a:pt x="732" y="651"/>
                  </a:lnTo>
                  <a:lnTo>
                    <a:pt x="700" y="656"/>
                  </a:lnTo>
                  <a:lnTo>
                    <a:pt x="662" y="661"/>
                  </a:lnTo>
                  <a:lnTo>
                    <a:pt x="615" y="666"/>
                  </a:lnTo>
                  <a:lnTo>
                    <a:pt x="578" y="673"/>
                  </a:lnTo>
                  <a:lnTo>
                    <a:pt x="545" y="678"/>
                  </a:lnTo>
                  <a:lnTo>
                    <a:pt x="518" y="683"/>
                  </a:lnTo>
                  <a:lnTo>
                    <a:pt x="495" y="686"/>
                  </a:lnTo>
                  <a:lnTo>
                    <a:pt x="495" y="710"/>
                  </a:lnTo>
                  <a:lnTo>
                    <a:pt x="495" y="736"/>
                  </a:lnTo>
                  <a:lnTo>
                    <a:pt x="495" y="765"/>
                  </a:lnTo>
                  <a:lnTo>
                    <a:pt x="495" y="796"/>
                  </a:lnTo>
                  <a:lnTo>
                    <a:pt x="509" y="793"/>
                  </a:lnTo>
                  <a:lnTo>
                    <a:pt x="527" y="790"/>
                  </a:lnTo>
                  <a:lnTo>
                    <a:pt x="549" y="785"/>
                  </a:lnTo>
                  <a:lnTo>
                    <a:pt x="575" y="781"/>
                  </a:lnTo>
                  <a:lnTo>
                    <a:pt x="623" y="772"/>
                  </a:lnTo>
                  <a:lnTo>
                    <a:pt x="664" y="764"/>
                  </a:lnTo>
                  <a:lnTo>
                    <a:pt x="700" y="759"/>
                  </a:lnTo>
                  <a:lnTo>
                    <a:pt x="731" y="756"/>
                  </a:lnTo>
                  <a:lnTo>
                    <a:pt x="735" y="759"/>
                  </a:lnTo>
                  <a:lnTo>
                    <a:pt x="740" y="763"/>
                  </a:lnTo>
                  <a:lnTo>
                    <a:pt x="745" y="770"/>
                  </a:lnTo>
                  <a:lnTo>
                    <a:pt x="750" y="776"/>
                  </a:lnTo>
                  <a:lnTo>
                    <a:pt x="755" y="784"/>
                  </a:lnTo>
                  <a:lnTo>
                    <a:pt x="760" y="794"/>
                  </a:lnTo>
                  <a:lnTo>
                    <a:pt x="766" y="805"/>
                  </a:lnTo>
                  <a:lnTo>
                    <a:pt x="770" y="816"/>
                  </a:lnTo>
                  <a:lnTo>
                    <a:pt x="753" y="818"/>
                  </a:lnTo>
                  <a:lnTo>
                    <a:pt x="733" y="821"/>
                  </a:lnTo>
                  <a:lnTo>
                    <a:pt x="708" y="824"/>
                  </a:lnTo>
                  <a:lnTo>
                    <a:pt x="680" y="826"/>
                  </a:lnTo>
                  <a:lnTo>
                    <a:pt x="648" y="830"/>
                  </a:lnTo>
                  <a:lnTo>
                    <a:pt x="618" y="833"/>
                  </a:lnTo>
                  <a:lnTo>
                    <a:pt x="591" y="836"/>
                  </a:lnTo>
                  <a:lnTo>
                    <a:pt x="566" y="838"/>
                  </a:lnTo>
                  <a:lnTo>
                    <a:pt x="544" y="841"/>
                  </a:lnTo>
                  <a:lnTo>
                    <a:pt x="525" y="843"/>
                  </a:lnTo>
                  <a:lnTo>
                    <a:pt x="509" y="845"/>
                  </a:lnTo>
                  <a:lnTo>
                    <a:pt x="495" y="846"/>
                  </a:lnTo>
                  <a:lnTo>
                    <a:pt x="493" y="884"/>
                  </a:lnTo>
                  <a:lnTo>
                    <a:pt x="491" y="922"/>
                  </a:lnTo>
                  <a:lnTo>
                    <a:pt x="490" y="961"/>
                  </a:lnTo>
                  <a:lnTo>
                    <a:pt x="490" y="1002"/>
                  </a:lnTo>
                  <a:lnTo>
                    <a:pt x="487" y="1027"/>
                  </a:lnTo>
                  <a:lnTo>
                    <a:pt x="485" y="1049"/>
                  </a:lnTo>
                  <a:lnTo>
                    <a:pt x="482" y="1069"/>
                  </a:lnTo>
                  <a:lnTo>
                    <a:pt x="478" y="1085"/>
                  </a:lnTo>
                  <a:lnTo>
                    <a:pt x="475" y="1098"/>
                  </a:lnTo>
                  <a:lnTo>
                    <a:pt x="472" y="1108"/>
                  </a:lnTo>
                  <a:lnTo>
                    <a:pt x="470" y="1111"/>
                  </a:lnTo>
                  <a:lnTo>
                    <a:pt x="469" y="1113"/>
                  </a:lnTo>
                  <a:lnTo>
                    <a:pt x="467" y="1115"/>
                  </a:lnTo>
                  <a:lnTo>
                    <a:pt x="465" y="1116"/>
                  </a:lnTo>
                  <a:lnTo>
                    <a:pt x="449" y="1107"/>
                  </a:lnTo>
                  <a:lnTo>
                    <a:pt x="435" y="1096"/>
                  </a:lnTo>
                  <a:lnTo>
                    <a:pt x="421" y="1085"/>
                  </a:lnTo>
                  <a:lnTo>
                    <a:pt x="409" y="1075"/>
                  </a:lnTo>
                  <a:lnTo>
                    <a:pt x="398" y="1064"/>
                  </a:lnTo>
                  <a:lnTo>
                    <a:pt x="387" y="1054"/>
                  </a:lnTo>
                  <a:lnTo>
                    <a:pt x="378" y="1043"/>
                  </a:lnTo>
                  <a:lnTo>
                    <a:pt x="370" y="1031"/>
                  </a:lnTo>
                  <a:lnTo>
                    <a:pt x="376" y="1024"/>
                  </a:lnTo>
                  <a:lnTo>
                    <a:pt x="382" y="1013"/>
                  </a:lnTo>
                  <a:lnTo>
                    <a:pt x="387" y="1001"/>
                  </a:lnTo>
                  <a:lnTo>
                    <a:pt x="393" y="986"/>
                  </a:lnTo>
                  <a:lnTo>
                    <a:pt x="397" y="968"/>
                  </a:lnTo>
                  <a:lnTo>
                    <a:pt x="401" y="948"/>
                  </a:lnTo>
                  <a:lnTo>
                    <a:pt x="405" y="924"/>
                  </a:lnTo>
                  <a:lnTo>
                    <a:pt x="409" y="899"/>
                  </a:lnTo>
                  <a:lnTo>
                    <a:pt x="412" y="870"/>
                  </a:lnTo>
                  <a:lnTo>
                    <a:pt x="415" y="839"/>
                  </a:lnTo>
                  <a:lnTo>
                    <a:pt x="417" y="807"/>
                  </a:lnTo>
                  <a:lnTo>
                    <a:pt x="420" y="771"/>
                  </a:lnTo>
                  <a:lnTo>
                    <a:pt x="423" y="691"/>
                  </a:lnTo>
                  <a:lnTo>
                    <a:pt x="426" y="601"/>
                  </a:lnTo>
                  <a:lnTo>
                    <a:pt x="426" y="593"/>
                  </a:lnTo>
                  <a:lnTo>
                    <a:pt x="426" y="576"/>
                  </a:lnTo>
                  <a:lnTo>
                    <a:pt x="423" y="564"/>
                  </a:lnTo>
                  <a:lnTo>
                    <a:pt x="421" y="554"/>
                  </a:lnTo>
                  <a:lnTo>
                    <a:pt x="420" y="547"/>
                  </a:lnTo>
                  <a:lnTo>
                    <a:pt x="420" y="541"/>
                  </a:lnTo>
                  <a:lnTo>
                    <a:pt x="398" y="572"/>
                  </a:lnTo>
                  <a:lnTo>
                    <a:pt x="377" y="603"/>
                  </a:lnTo>
                  <a:lnTo>
                    <a:pt x="354" y="633"/>
                  </a:lnTo>
                  <a:lnTo>
                    <a:pt x="330" y="664"/>
                  </a:lnTo>
                  <a:lnTo>
                    <a:pt x="306" y="693"/>
                  </a:lnTo>
                  <a:lnTo>
                    <a:pt x="281" y="723"/>
                  </a:lnTo>
                  <a:lnTo>
                    <a:pt x="256" y="753"/>
                  </a:lnTo>
                  <a:lnTo>
                    <a:pt x="230" y="781"/>
                  </a:lnTo>
                  <a:lnTo>
                    <a:pt x="216" y="795"/>
                  </a:lnTo>
                  <a:lnTo>
                    <a:pt x="202" y="808"/>
                  </a:lnTo>
                  <a:lnTo>
                    <a:pt x="188" y="819"/>
                  </a:lnTo>
                  <a:lnTo>
                    <a:pt x="175" y="829"/>
                  </a:lnTo>
                  <a:lnTo>
                    <a:pt x="161" y="837"/>
                  </a:lnTo>
                  <a:lnTo>
                    <a:pt x="146" y="845"/>
                  </a:lnTo>
                  <a:lnTo>
                    <a:pt x="132" y="850"/>
                  </a:lnTo>
                  <a:lnTo>
                    <a:pt x="117" y="853"/>
                  </a:lnTo>
                  <a:lnTo>
                    <a:pt x="102" y="856"/>
                  </a:lnTo>
                  <a:lnTo>
                    <a:pt x="89" y="856"/>
                  </a:lnTo>
                  <a:lnTo>
                    <a:pt x="74" y="856"/>
                  </a:lnTo>
                  <a:lnTo>
                    <a:pt x="59" y="854"/>
                  </a:lnTo>
                  <a:lnTo>
                    <a:pt x="44" y="851"/>
                  </a:lnTo>
                  <a:lnTo>
                    <a:pt x="29" y="846"/>
                  </a:lnTo>
                  <a:lnTo>
                    <a:pt x="15" y="839"/>
                  </a:lnTo>
                  <a:lnTo>
                    <a:pt x="0" y="831"/>
                  </a:lnTo>
                  <a:lnTo>
                    <a:pt x="36" y="807"/>
                  </a:lnTo>
                  <a:lnTo>
                    <a:pt x="72" y="780"/>
                  </a:lnTo>
                  <a:lnTo>
                    <a:pt x="106" y="754"/>
                  </a:lnTo>
                  <a:lnTo>
                    <a:pt x="138" y="725"/>
                  </a:lnTo>
                  <a:lnTo>
                    <a:pt x="170" y="696"/>
                  </a:lnTo>
                  <a:lnTo>
                    <a:pt x="201" y="667"/>
                  </a:lnTo>
                  <a:lnTo>
                    <a:pt x="232" y="635"/>
                  </a:lnTo>
                  <a:lnTo>
                    <a:pt x="260" y="603"/>
                  </a:lnTo>
                  <a:lnTo>
                    <a:pt x="288" y="570"/>
                  </a:lnTo>
                  <a:lnTo>
                    <a:pt x="314" y="536"/>
                  </a:lnTo>
                  <a:lnTo>
                    <a:pt x="340" y="501"/>
                  </a:lnTo>
                  <a:lnTo>
                    <a:pt x="364" y="465"/>
                  </a:lnTo>
                  <a:lnTo>
                    <a:pt x="387" y="428"/>
                  </a:lnTo>
                  <a:lnTo>
                    <a:pt x="410" y="390"/>
                  </a:lnTo>
                  <a:lnTo>
                    <a:pt x="430" y="351"/>
                  </a:lnTo>
                  <a:lnTo>
                    <a:pt x="450" y="311"/>
                  </a:lnTo>
                  <a:lnTo>
                    <a:pt x="415" y="316"/>
                  </a:lnTo>
                  <a:lnTo>
                    <a:pt x="380" y="321"/>
                  </a:lnTo>
                  <a:lnTo>
                    <a:pt x="344" y="328"/>
                  </a:lnTo>
                  <a:lnTo>
                    <a:pt x="309" y="333"/>
                  </a:lnTo>
                  <a:lnTo>
                    <a:pt x="273" y="339"/>
                  </a:lnTo>
                  <a:lnTo>
                    <a:pt x="237" y="347"/>
                  </a:lnTo>
                  <a:lnTo>
                    <a:pt x="201" y="353"/>
                  </a:lnTo>
                  <a:lnTo>
                    <a:pt x="165" y="360"/>
                  </a:lnTo>
                  <a:lnTo>
                    <a:pt x="147" y="347"/>
                  </a:lnTo>
                  <a:lnTo>
                    <a:pt x="129" y="331"/>
                  </a:lnTo>
                  <a:lnTo>
                    <a:pt x="110" y="312"/>
                  </a:lnTo>
                  <a:lnTo>
                    <a:pt x="90" y="291"/>
                  </a:lnTo>
                  <a:lnTo>
                    <a:pt x="86" y="286"/>
                  </a:lnTo>
                  <a:lnTo>
                    <a:pt x="83" y="282"/>
                  </a:lnTo>
                  <a:lnTo>
                    <a:pt x="83" y="279"/>
                  </a:lnTo>
                  <a:lnTo>
                    <a:pt x="86" y="276"/>
                  </a:lnTo>
                  <a:lnTo>
                    <a:pt x="86" y="274"/>
                  </a:lnTo>
                  <a:lnTo>
                    <a:pt x="88" y="271"/>
                  </a:lnTo>
                  <a:lnTo>
                    <a:pt x="91" y="271"/>
                  </a:lnTo>
                  <a:lnTo>
                    <a:pt x="95" y="270"/>
                  </a:lnTo>
                  <a:lnTo>
                    <a:pt x="140" y="268"/>
                  </a:lnTo>
                  <a:lnTo>
                    <a:pt x="185" y="264"/>
                  </a:lnTo>
                  <a:lnTo>
                    <a:pt x="232" y="260"/>
                  </a:lnTo>
                  <a:lnTo>
                    <a:pt x="280" y="255"/>
                  </a:lnTo>
                  <a:lnTo>
                    <a:pt x="329" y="248"/>
                  </a:lnTo>
                  <a:lnTo>
                    <a:pt x="380" y="242"/>
                  </a:lnTo>
                  <a:lnTo>
                    <a:pt x="432" y="234"/>
                  </a:lnTo>
                  <a:lnTo>
                    <a:pt x="485" y="226"/>
                  </a:lnTo>
                  <a:lnTo>
                    <a:pt x="489" y="216"/>
                  </a:lnTo>
                  <a:lnTo>
                    <a:pt x="490" y="211"/>
                  </a:lnTo>
                  <a:lnTo>
                    <a:pt x="504" y="175"/>
                  </a:lnTo>
                  <a:lnTo>
                    <a:pt x="516" y="141"/>
                  </a:lnTo>
                  <a:lnTo>
                    <a:pt x="524" y="110"/>
                  </a:lnTo>
                  <a:lnTo>
                    <a:pt x="531" y="83"/>
                  </a:lnTo>
                  <a:lnTo>
                    <a:pt x="536" y="58"/>
                  </a:lnTo>
                  <a:lnTo>
                    <a:pt x="538" y="36"/>
                  </a:lnTo>
                  <a:lnTo>
                    <a:pt x="538" y="26"/>
                  </a:lnTo>
                  <a:lnTo>
                    <a:pt x="538" y="17"/>
                  </a:lnTo>
                  <a:lnTo>
                    <a:pt x="537" y="9"/>
                  </a:lnTo>
                  <a:lnTo>
                    <a:pt x="535" y="0"/>
                  </a:lnTo>
                  <a:lnTo>
                    <a:pt x="548" y="9"/>
                  </a:lnTo>
                  <a:lnTo>
                    <a:pt x="562" y="17"/>
                  </a:lnTo>
                  <a:lnTo>
                    <a:pt x="578" y="23"/>
                  </a:lnTo>
                  <a:lnTo>
                    <a:pt x="595" y="31"/>
                  </a:lnTo>
                  <a:lnTo>
                    <a:pt x="613" y="36"/>
                  </a:lnTo>
                  <a:lnTo>
                    <a:pt x="632" y="42"/>
                  </a:lnTo>
                  <a:lnTo>
                    <a:pt x="653" y="47"/>
                  </a:lnTo>
                  <a:lnTo>
                    <a:pt x="676" y="50"/>
                  </a:lnTo>
                  <a:lnTo>
                    <a:pt x="665" y="61"/>
                  </a:lnTo>
                  <a:lnTo>
                    <a:pt x="654" y="74"/>
                  </a:lnTo>
                  <a:lnTo>
                    <a:pt x="643" y="90"/>
                  </a:lnTo>
                  <a:lnTo>
                    <a:pt x="631" y="109"/>
                  </a:lnTo>
                  <a:lnTo>
                    <a:pt x="619" y="132"/>
                  </a:lnTo>
                  <a:lnTo>
                    <a:pt x="607" y="156"/>
                  </a:lnTo>
                  <a:lnTo>
                    <a:pt x="594" y="185"/>
                  </a:lnTo>
                  <a:lnTo>
                    <a:pt x="580" y="215"/>
                  </a:lnTo>
                  <a:lnTo>
                    <a:pt x="598" y="213"/>
                  </a:lnTo>
                  <a:lnTo>
                    <a:pt x="619" y="210"/>
                  </a:lnTo>
                  <a:lnTo>
                    <a:pt x="643" y="207"/>
                  </a:lnTo>
                  <a:lnTo>
                    <a:pt x="668" y="203"/>
                  </a:lnTo>
                  <a:lnTo>
                    <a:pt x="695" y="199"/>
                  </a:lnTo>
                  <a:lnTo>
                    <a:pt x="724" y="195"/>
                  </a:lnTo>
                  <a:lnTo>
                    <a:pt x="756" y="191"/>
                  </a:lnTo>
                  <a:lnTo>
                    <a:pt x="790" y="186"/>
                  </a:lnTo>
                  <a:lnTo>
                    <a:pt x="841" y="178"/>
                  </a:lnTo>
                  <a:lnTo>
                    <a:pt x="887" y="172"/>
                  </a:lnTo>
                  <a:lnTo>
                    <a:pt x="930" y="165"/>
                  </a:lnTo>
                  <a:lnTo>
                    <a:pt x="969" y="160"/>
                  </a:lnTo>
                  <a:lnTo>
                    <a:pt x="1004" y="156"/>
                  </a:lnTo>
                  <a:lnTo>
                    <a:pt x="1035" y="152"/>
                  </a:lnTo>
                  <a:lnTo>
                    <a:pt x="1062" y="149"/>
                  </a:lnTo>
                  <a:lnTo>
                    <a:pt x="1085" y="145"/>
                  </a:lnTo>
                  <a:lnTo>
                    <a:pt x="1092" y="145"/>
                  </a:lnTo>
                  <a:lnTo>
                    <a:pt x="1098" y="146"/>
                  </a:lnTo>
                  <a:lnTo>
                    <a:pt x="1104" y="149"/>
                  </a:lnTo>
                  <a:lnTo>
                    <a:pt x="1110" y="151"/>
                  </a:lnTo>
                  <a:lnTo>
                    <a:pt x="1116" y="154"/>
                  </a:lnTo>
                  <a:lnTo>
                    <a:pt x="1122" y="157"/>
                  </a:lnTo>
                  <a:lnTo>
                    <a:pt x="1129" y="161"/>
                  </a:lnTo>
                  <a:lnTo>
                    <a:pt x="1135" y="165"/>
                  </a:lnTo>
                  <a:close/>
                </a:path>
              </a:pathLst>
            </a:custGeom>
            <a:solidFill>
              <a:srgbClr val="d79f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d79f00"/>
                </a:solidFill>
                <a:latin typeface="Arial"/>
                <a:ea typeface="宋体"/>
              </a:endParaRPr>
            </a:p>
          </p:txBody>
        </p:sp>
        <p:sp>
          <p:nvSpPr>
            <p:cNvPr id="96" name="Freeform 22"/>
            <p:cNvSpPr/>
            <p:nvPr/>
          </p:nvSpPr>
          <p:spPr>
            <a:xfrm>
              <a:off x="4615560" y="9111240"/>
              <a:ext cx="218880" cy="189000"/>
            </a:xfrm>
            <a:custGeom>
              <a:avLst/>
              <a:gdLst>
                <a:gd name="textAreaLeft" fmla="*/ 0 w 218880"/>
                <a:gd name="textAreaRight" fmla="*/ 219240 w 218880"/>
                <a:gd name="textAreaTop" fmla="*/ 0 h 189000"/>
                <a:gd name="textAreaBottom" fmla="*/ 189360 h 189000"/>
              </a:gdLst>
              <a:ahLst/>
              <a:rect l="textAreaLeft" t="textAreaTop" r="textAreaRight" b="textAreaBottom"/>
              <a:pathLst>
                <a:path w="1122" h="1023">
                  <a:moveTo>
                    <a:pt x="736" y="451"/>
                  </a:moveTo>
                  <a:lnTo>
                    <a:pt x="733" y="449"/>
                  </a:lnTo>
                  <a:lnTo>
                    <a:pt x="725" y="441"/>
                  </a:lnTo>
                  <a:lnTo>
                    <a:pt x="712" y="431"/>
                  </a:lnTo>
                  <a:lnTo>
                    <a:pt x="701" y="421"/>
                  </a:lnTo>
                  <a:lnTo>
                    <a:pt x="667" y="423"/>
                  </a:lnTo>
                  <a:lnTo>
                    <a:pt x="635" y="426"/>
                  </a:lnTo>
                  <a:lnTo>
                    <a:pt x="607" y="429"/>
                  </a:lnTo>
                  <a:lnTo>
                    <a:pt x="580" y="432"/>
                  </a:lnTo>
                  <a:lnTo>
                    <a:pt x="557" y="435"/>
                  </a:lnTo>
                  <a:lnTo>
                    <a:pt x="536" y="439"/>
                  </a:lnTo>
                  <a:lnTo>
                    <a:pt x="517" y="442"/>
                  </a:lnTo>
                  <a:lnTo>
                    <a:pt x="501" y="445"/>
                  </a:lnTo>
                  <a:lnTo>
                    <a:pt x="501" y="480"/>
                  </a:lnTo>
                  <a:lnTo>
                    <a:pt x="514" y="488"/>
                  </a:lnTo>
                  <a:lnTo>
                    <a:pt x="530" y="497"/>
                  </a:lnTo>
                  <a:lnTo>
                    <a:pt x="546" y="508"/>
                  </a:lnTo>
                  <a:lnTo>
                    <a:pt x="566" y="521"/>
                  </a:lnTo>
                  <a:lnTo>
                    <a:pt x="587" y="535"/>
                  </a:lnTo>
                  <a:lnTo>
                    <a:pt x="609" y="552"/>
                  </a:lnTo>
                  <a:lnTo>
                    <a:pt x="634" y="570"/>
                  </a:lnTo>
                  <a:lnTo>
                    <a:pt x="661" y="591"/>
                  </a:lnTo>
                  <a:lnTo>
                    <a:pt x="692" y="568"/>
                  </a:lnTo>
                  <a:lnTo>
                    <a:pt x="720" y="547"/>
                  </a:lnTo>
                  <a:lnTo>
                    <a:pt x="747" y="525"/>
                  </a:lnTo>
                  <a:lnTo>
                    <a:pt x="771" y="504"/>
                  </a:lnTo>
                  <a:lnTo>
                    <a:pt x="792" y="482"/>
                  </a:lnTo>
                  <a:lnTo>
                    <a:pt x="810" y="461"/>
                  </a:lnTo>
                  <a:lnTo>
                    <a:pt x="827" y="441"/>
                  </a:lnTo>
                  <a:lnTo>
                    <a:pt x="841" y="421"/>
                  </a:lnTo>
                  <a:lnTo>
                    <a:pt x="852" y="433"/>
                  </a:lnTo>
                  <a:lnTo>
                    <a:pt x="864" y="444"/>
                  </a:lnTo>
                  <a:lnTo>
                    <a:pt x="876" y="456"/>
                  </a:lnTo>
                  <a:lnTo>
                    <a:pt x="889" y="465"/>
                  </a:lnTo>
                  <a:lnTo>
                    <a:pt x="901" y="476"/>
                  </a:lnTo>
                  <a:lnTo>
                    <a:pt x="914" y="485"/>
                  </a:lnTo>
                  <a:lnTo>
                    <a:pt x="927" y="493"/>
                  </a:lnTo>
                  <a:lnTo>
                    <a:pt x="941" y="500"/>
                  </a:lnTo>
                  <a:lnTo>
                    <a:pt x="926" y="506"/>
                  </a:lnTo>
                  <a:lnTo>
                    <a:pt x="906" y="513"/>
                  </a:lnTo>
                  <a:lnTo>
                    <a:pt x="880" y="525"/>
                  </a:lnTo>
                  <a:lnTo>
                    <a:pt x="850" y="541"/>
                  </a:lnTo>
                  <a:lnTo>
                    <a:pt x="826" y="553"/>
                  </a:lnTo>
                  <a:lnTo>
                    <a:pt x="803" y="564"/>
                  </a:lnTo>
                  <a:lnTo>
                    <a:pt x="782" y="575"/>
                  </a:lnTo>
                  <a:lnTo>
                    <a:pt x="760" y="583"/>
                  </a:lnTo>
                  <a:lnTo>
                    <a:pt x="741" y="592"/>
                  </a:lnTo>
                  <a:lnTo>
                    <a:pt x="723" y="599"/>
                  </a:lnTo>
                  <a:lnTo>
                    <a:pt x="706" y="605"/>
                  </a:lnTo>
                  <a:lnTo>
                    <a:pt x="691" y="611"/>
                  </a:lnTo>
                  <a:lnTo>
                    <a:pt x="723" y="637"/>
                  </a:lnTo>
                  <a:lnTo>
                    <a:pt x="755" y="662"/>
                  </a:lnTo>
                  <a:lnTo>
                    <a:pt x="785" y="683"/>
                  </a:lnTo>
                  <a:lnTo>
                    <a:pt x="813" y="702"/>
                  </a:lnTo>
                  <a:lnTo>
                    <a:pt x="840" y="719"/>
                  </a:lnTo>
                  <a:lnTo>
                    <a:pt x="865" y="734"/>
                  </a:lnTo>
                  <a:lnTo>
                    <a:pt x="889" y="746"/>
                  </a:lnTo>
                  <a:lnTo>
                    <a:pt x="911" y="756"/>
                  </a:lnTo>
                  <a:lnTo>
                    <a:pt x="945" y="771"/>
                  </a:lnTo>
                  <a:lnTo>
                    <a:pt x="975" y="786"/>
                  </a:lnTo>
                  <a:lnTo>
                    <a:pt x="1004" y="799"/>
                  </a:lnTo>
                  <a:lnTo>
                    <a:pt x="1029" y="812"/>
                  </a:lnTo>
                  <a:lnTo>
                    <a:pt x="1053" y="826"/>
                  </a:lnTo>
                  <a:lnTo>
                    <a:pt x="1073" y="837"/>
                  </a:lnTo>
                  <a:lnTo>
                    <a:pt x="1091" y="850"/>
                  </a:lnTo>
                  <a:lnTo>
                    <a:pt x="1106" y="861"/>
                  </a:lnTo>
                  <a:lnTo>
                    <a:pt x="1114" y="868"/>
                  </a:lnTo>
                  <a:lnTo>
                    <a:pt x="1120" y="875"/>
                  </a:lnTo>
                  <a:lnTo>
                    <a:pt x="1121" y="878"/>
                  </a:lnTo>
                  <a:lnTo>
                    <a:pt x="1122" y="881"/>
                  </a:lnTo>
                  <a:lnTo>
                    <a:pt x="1122" y="884"/>
                  </a:lnTo>
                  <a:lnTo>
                    <a:pt x="1121" y="886"/>
                  </a:lnTo>
                  <a:lnTo>
                    <a:pt x="1121" y="888"/>
                  </a:lnTo>
                  <a:lnTo>
                    <a:pt x="1120" y="890"/>
                  </a:lnTo>
                  <a:lnTo>
                    <a:pt x="1117" y="893"/>
                  </a:lnTo>
                  <a:lnTo>
                    <a:pt x="1115" y="895"/>
                  </a:lnTo>
                  <a:lnTo>
                    <a:pt x="1110" y="898"/>
                  </a:lnTo>
                  <a:lnTo>
                    <a:pt x="1100" y="901"/>
                  </a:lnTo>
                  <a:lnTo>
                    <a:pt x="1076" y="901"/>
                  </a:lnTo>
                  <a:lnTo>
                    <a:pt x="1053" y="901"/>
                  </a:lnTo>
                  <a:lnTo>
                    <a:pt x="1029" y="901"/>
                  </a:lnTo>
                  <a:lnTo>
                    <a:pt x="1008" y="900"/>
                  </a:lnTo>
                  <a:lnTo>
                    <a:pt x="987" y="899"/>
                  </a:lnTo>
                  <a:lnTo>
                    <a:pt x="967" y="899"/>
                  </a:lnTo>
                  <a:lnTo>
                    <a:pt x="949" y="898"/>
                  </a:lnTo>
                  <a:lnTo>
                    <a:pt x="931" y="897"/>
                  </a:lnTo>
                  <a:lnTo>
                    <a:pt x="917" y="895"/>
                  </a:lnTo>
                  <a:lnTo>
                    <a:pt x="905" y="891"/>
                  </a:lnTo>
                  <a:lnTo>
                    <a:pt x="892" y="888"/>
                  </a:lnTo>
                  <a:lnTo>
                    <a:pt x="879" y="884"/>
                  </a:lnTo>
                  <a:lnTo>
                    <a:pt x="867" y="878"/>
                  </a:lnTo>
                  <a:lnTo>
                    <a:pt x="857" y="871"/>
                  </a:lnTo>
                  <a:lnTo>
                    <a:pt x="846" y="864"/>
                  </a:lnTo>
                  <a:lnTo>
                    <a:pt x="836" y="857"/>
                  </a:lnTo>
                  <a:lnTo>
                    <a:pt x="817" y="837"/>
                  </a:lnTo>
                  <a:lnTo>
                    <a:pt x="790" y="811"/>
                  </a:lnTo>
                  <a:lnTo>
                    <a:pt x="757" y="777"/>
                  </a:lnTo>
                  <a:lnTo>
                    <a:pt x="716" y="736"/>
                  </a:lnTo>
                  <a:lnTo>
                    <a:pt x="678" y="695"/>
                  </a:lnTo>
                  <a:lnTo>
                    <a:pt x="644" y="659"/>
                  </a:lnTo>
                  <a:lnTo>
                    <a:pt x="612" y="628"/>
                  </a:lnTo>
                  <a:lnTo>
                    <a:pt x="585" y="600"/>
                  </a:lnTo>
                  <a:lnTo>
                    <a:pt x="559" y="576"/>
                  </a:lnTo>
                  <a:lnTo>
                    <a:pt x="537" y="557"/>
                  </a:lnTo>
                  <a:lnTo>
                    <a:pt x="517" y="542"/>
                  </a:lnTo>
                  <a:lnTo>
                    <a:pt x="501" y="531"/>
                  </a:lnTo>
                  <a:lnTo>
                    <a:pt x="501" y="545"/>
                  </a:lnTo>
                  <a:lnTo>
                    <a:pt x="500" y="561"/>
                  </a:lnTo>
                  <a:lnTo>
                    <a:pt x="500" y="579"/>
                  </a:lnTo>
                  <a:lnTo>
                    <a:pt x="499" y="599"/>
                  </a:lnTo>
                  <a:lnTo>
                    <a:pt x="499" y="621"/>
                  </a:lnTo>
                  <a:lnTo>
                    <a:pt x="498" y="646"/>
                  </a:lnTo>
                  <a:lnTo>
                    <a:pt x="497" y="672"/>
                  </a:lnTo>
                  <a:lnTo>
                    <a:pt x="496" y="701"/>
                  </a:lnTo>
                  <a:lnTo>
                    <a:pt x="496" y="754"/>
                  </a:lnTo>
                  <a:lnTo>
                    <a:pt x="496" y="797"/>
                  </a:lnTo>
                  <a:lnTo>
                    <a:pt x="496" y="831"/>
                  </a:lnTo>
                  <a:lnTo>
                    <a:pt x="496" y="857"/>
                  </a:lnTo>
                  <a:lnTo>
                    <a:pt x="504" y="850"/>
                  </a:lnTo>
                  <a:lnTo>
                    <a:pt x="517" y="844"/>
                  </a:lnTo>
                  <a:lnTo>
                    <a:pt x="532" y="835"/>
                  </a:lnTo>
                  <a:lnTo>
                    <a:pt x="551" y="826"/>
                  </a:lnTo>
                  <a:lnTo>
                    <a:pt x="578" y="812"/>
                  </a:lnTo>
                  <a:lnTo>
                    <a:pt x="602" y="800"/>
                  </a:lnTo>
                  <a:lnTo>
                    <a:pt x="621" y="790"/>
                  </a:lnTo>
                  <a:lnTo>
                    <a:pt x="635" y="781"/>
                  </a:lnTo>
                  <a:lnTo>
                    <a:pt x="658" y="771"/>
                  </a:lnTo>
                  <a:lnTo>
                    <a:pt x="676" y="763"/>
                  </a:lnTo>
                  <a:lnTo>
                    <a:pt x="682" y="761"/>
                  </a:lnTo>
                  <a:lnTo>
                    <a:pt x="688" y="760"/>
                  </a:lnTo>
                  <a:lnTo>
                    <a:pt x="693" y="760"/>
                  </a:lnTo>
                  <a:lnTo>
                    <a:pt x="696" y="761"/>
                  </a:lnTo>
                  <a:lnTo>
                    <a:pt x="696" y="764"/>
                  </a:lnTo>
                  <a:lnTo>
                    <a:pt x="696" y="767"/>
                  </a:lnTo>
                  <a:lnTo>
                    <a:pt x="694" y="772"/>
                  </a:lnTo>
                  <a:lnTo>
                    <a:pt x="691" y="777"/>
                  </a:lnTo>
                  <a:lnTo>
                    <a:pt x="681" y="790"/>
                  </a:lnTo>
                  <a:lnTo>
                    <a:pt x="665" y="807"/>
                  </a:lnTo>
                  <a:lnTo>
                    <a:pt x="638" y="831"/>
                  </a:lnTo>
                  <a:lnTo>
                    <a:pt x="610" y="858"/>
                  </a:lnTo>
                  <a:lnTo>
                    <a:pt x="581" y="883"/>
                  </a:lnTo>
                  <a:lnTo>
                    <a:pt x="553" y="909"/>
                  </a:lnTo>
                  <a:lnTo>
                    <a:pt x="524" y="937"/>
                  </a:lnTo>
                  <a:lnTo>
                    <a:pt x="495" y="965"/>
                  </a:lnTo>
                  <a:lnTo>
                    <a:pt x="465" y="993"/>
                  </a:lnTo>
                  <a:lnTo>
                    <a:pt x="435" y="1022"/>
                  </a:lnTo>
                  <a:lnTo>
                    <a:pt x="426" y="1005"/>
                  </a:lnTo>
                  <a:lnTo>
                    <a:pt x="416" y="989"/>
                  </a:lnTo>
                  <a:lnTo>
                    <a:pt x="406" y="976"/>
                  </a:lnTo>
                  <a:lnTo>
                    <a:pt x="397" y="964"/>
                  </a:lnTo>
                  <a:lnTo>
                    <a:pt x="388" y="953"/>
                  </a:lnTo>
                  <a:lnTo>
                    <a:pt x="378" y="944"/>
                  </a:lnTo>
                  <a:lnTo>
                    <a:pt x="370" y="937"/>
                  </a:lnTo>
                  <a:lnTo>
                    <a:pt x="360" y="932"/>
                  </a:lnTo>
                  <a:lnTo>
                    <a:pt x="367" y="925"/>
                  </a:lnTo>
                  <a:lnTo>
                    <a:pt x="375" y="919"/>
                  </a:lnTo>
                  <a:lnTo>
                    <a:pt x="381" y="912"/>
                  </a:lnTo>
                  <a:lnTo>
                    <a:pt x="387" y="903"/>
                  </a:lnTo>
                  <a:lnTo>
                    <a:pt x="393" y="895"/>
                  </a:lnTo>
                  <a:lnTo>
                    <a:pt x="398" y="885"/>
                  </a:lnTo>
                  <a:lnTo>
                    <a:pt x="402" y="875"/>
                  </a:lnTo>
                  <a:lnTo>
                    <a:pt x="407" y="864"/>
                  </a:lnTo>
                  <a:lnTo>
                    <a:pt x="411" y="852"/>
                  </a:lnTo>
                  <a:lnTo>
                    <a:pt x="414" y="840"/>
                  </a:lnTo>
                  <a:lnTo>
                    <a:pt x="417" y="827"/>
                  </a:lnTo>
                  <a:lnTo>
                    <a:pt x="419" y="813"/>
                  </a:lnTo>
                  <a:lnTo>
                    <a:pt x="424" y="783"/>
                  </a:lnTo>
                  <a:lnTo>
                    <a:pt x="426" y="752"/>
                  </a:lnTo>
                  <a:lnTo>
                    <a:pt x="430" y="685"/>
                  </a:lnTo>
                  <a:lnTo>
                    <a:pt x="433" y="617"/>
                  </a:lnTo>
                  <a:lnTo>
                    <a:pt x="435" y="549"/>
                  </a:lnTo>
                  <a:lnTo>
                    <a:pt x="436" y="479"/>
                  </a:lnTo>
                  <a:lnTo>
                    <a:pt x="436" y="410"/>
                  </a:lnTo>
                  <a:lnTo>
                    <a:pt x="436" y="339"/>
                  </a:lnTo>
                  <a:lnTo>
                    <a:pt x="434" y="267"/>
                  </a:lnTo>
                  <a:lnTo>
                    <a:pt x="430" y="195"/>
                  </a:lnTo>
                  <a:lnTo>
                    <a:pt x="428" y="174"/>
                  </a:lnTo>
                  <a:lnTo>
                    <a:pt x="424" y="153"/>
                  </a:lnTo>
                  <a:lnTo>
                    <a:pt x="419" y="133"/>
                  </a:lnTo>
                  <a:lnTo>
                    <a:pt x="414" y="113"/>
                  </a:lnTo>
                  <a:lnTo>
                    <a:pt x="408" y="95"/>
                  </a:lnTo>
                  <a:lnTo>
                    <a:pt x="401" y="78"/>
                  </a:lnTo>
                  <a:lnTo>
                    <a:pt x="394" y="61"/>
                  </a:lnTo>
                  <a:lnTo>
                    <a:pt x="385" y="46"/>
                  </a:lnTo>
                  <a:lnTo>
                    <a:pt x="417" y="49"/>
                  </a:lnTo>
                  <a:lnTo>
                    <a:pt x="448" y="54"/>
                  </a:lnTo>
                  <a:lnTo>
                    <a:pt x="478" y="62"/>
                  </a:lnTo>
                  <a:lnTo>
                    <a:pt x="505" y="70"/>
                  </a:lnTo>
                  <a:lnTo>
                    <a:pt x="545" y="64"/>
                  </a:lnTo>
                  <a:lnTo>
                    <a:pt x="581" y="56"/>
                  </a:lnTo>
                  <a:lnTo>
                    <a:pt x="615" y="49"/>
                  </a:lnTo>
                  <a:lnTo>
                    <a:pt x="645" y="41"/>
                  </a:lnTo>
                  <a:lnTo>
                    <a:pt x="673" y="31"/>
                  </a:lnTo>
                  <a:lnTo>
                    <a:pt x="697" y="21"/>
                  </a:lnTo>
                  <a:lnTo>
                    <a:pt x="718" y="12"/>
                  </a:lnTo>
                  <a:lnTo>
                    <a:pt x="736" y="0"/>
                  </a:lnTo>
                  <a:lnTo>
                    <a:pt x="750" y="14"/>
                  </a:lnTo>
                  <a:lnTo>
                    <a:pt x="765" y="26"/>
                  </a:lnTo>
                  <a:lnTo>
                    <a:pt x="781" y="37"/>
                  </a:lnTo>
                  <a:lnTo>
                    <a:pt x="796" y="47"/>
                  </a:lnTo>
                  <a:lnTo>
                    <a:pt x="814" y="55"/>
                  </a:lnTo>
                  <a:lnTo>
                    <a:pt x="832" y="64"/>
                  </a:lnTo>
                  <a:lnTo>
                    <a:pt x="850" y="70"/>
                  </a:lnTo>
                  <a:lnTo>
                    <a:pt x="871" y="75"/>
                  </a:lnTo>
                  <a:lnTo>
                    <a:pt x="863" y="83"/>
                  </a:lnTo>
                  <a:lnTo>
                    <a:pt x="856" y="90"/>
                  </a:lnTo>
                  <a:lnTo>
                    <a:pt x="849" y="100"/>
                  </a:lnTo>
                  <a:lnTo>
                    <a:pt x="843" y="110"/>
                  </a:lnTo>
                  <a:lnTo>
                    <a:pt x="837" y="122"/>
                  </a:lnTo>
                  <a:lnTo>
                    <a:pt x="831" y="136"/>
                  </a:lnTo>
                  <a:lnTo>
                    <a:pt x="826" y="150"/>
                  </a:lnTo>
                  <a:lnTo>
                    <a:pt x="821" y="166"/>
                  </a:lnTo>
                  <a:lnTo>
                    <a:pt x="817" y="185"/>
                  </a:lnTo>
                  <a:lnTo>
                    <a:pt x="812" y="206"/>
                  </a:lnTo>
                  <a:lnTo>
                    <a:pt x="807" y="229"/>
                  </a:lnTo>
                  <a:lnTo>
                    <a:pt x="802" y="255"/>
                  </a:lnTo>
                  <a:lnTo>
                    <a:pt x="796" y="282"/>
                  </a:lnTo>
                  <a:lnTo>
                    <a:pt x="790" y="313"/>
                  </a:lnTo>
                  <a:lnTo>
                    <a:pt x="783" y="346"/>
                  </a:lnTo>
                  <a:lnTo>
                    <a:pt x="775" y="381"/>
                  </a:lnTo>
                  <a:lnTo>
                    <a:pt x="773" y="400"/>
                  </a:lnTo>
                  <a:lnTo>
                    <a:pt x="771" y="416"/>
                  </a:lnTo>
                  <a:lnTo>
                    <a:pt x="768" y="429"/>
                  </a:lnTo>
                  <a:lnTo>
                    <a:pt x="766" y="441"/>
                  </a:lnTo>
                  <a:lnTo>
                    <a:pt x="763" y="450"/>
                  </a:lnTo>
                  <a:lnTo>
                    <a:pt x="760" y="456"/>
                  </a:lnTo>
                  <a:lnTo>
                    <a:pt x="758" y="460"/>
                  </a:lnTo>
                  <a:lnTo>
                    <a:pt x="755" y="461"/>
                  </a:lnTo>
                  <a:lnTo>
                    <a:pt x="754" y="462"/>
                  </a:lnTo>
                  <a:lnTo>
                    <a:pt x="752" y="462"/>
                  </a:lnTo>
                  <a:lnTo>
                    <a:pt x="751" y="462"/>
                  </a:lnTo>
                  <a:lnTo>
                    <a:pt x="748" y="461"/>
                  </a:lnTo>
                  <a:lnTo>
                    <a:pt x="742" y="457"/>
                  </a:lnTo>
                  <a:lnTo>
                    <a:pt x="736" y="451"/>
                  </a:lnTo>
                  <a:close/>
                  <a:moveTo>
                    <a:pt x="240" y="110"/>
                  </a:moveTo>
                  <a:lnTo>
                    <a:pt x="105" y="151"/>
                  </a:lnTo>
                  <a:lnTo>
                    <a:pt x="105" y="842"/>
                  </a:lnTo>
                  <a:lnTo>
                    <a:pt x="105" y="886"/>
                  </a:lnTo>
                  <a:lnTo>
                    <a:pt x="105" y="925"/>
                  </a:lnTo>
                  <a:lnTo>
                    <a:pt x="104" y="958"/>
                  </a:lnTo>
                  <a:lnTo>
                    <a:pt x="103" y="984"/>
                  </a:lnTo>
                  <a:lnTo>
                    <a:pt x="102" y="1003"/>
                  </a:lnTo>
                  <a:lnTo>
                    <a:pt x="100" y="1015"/>
                  </a:lnTo>
                  <a:lnTo>
                    <a:pt x="98" y="1020"/>
                  </a:lnTo>
                  <a:lnTo>
                    <a:pt x="97" y="1022"/>
                  </a:lnTo>
                  <a:lnTo>
                    <a:pt x="96" y="1023"/>
                  </a:lnTo>
                  <a:lnTo>
                    <a:pt x="95" y="1022"/>
                  </a:lnTo>
                  <a:lnTo>
                    <a:pt x="80" y="1013"/>
                  </a:lnTo>
                  <a:lnTo>
                    <a:pt x="67" y="1005"/>
                  </a:lnTo>
                  <a:lnTo>
                    <a:pt x="54" y="995"/>
                  </a:lnTo>
                  <a:lnTo>
                    <a:pt x="41" y="985"/>
                  </a:lnTo>
                  <a:lnTo>
                    <a:pt x="30" y="974"/>
                  </a:lnTo>
                  <a:lnTo>
                    <a:pt x="19" y="962"/>
                  </a:lnTo>
                  <a:lnTo>
                    <a:pt x="9" y="950"/>
                  </a:lnTo>
                  <a:lnTo>
                    <a:pt x="0" y="936"/>
                  </a:lnTo>
                  <a:lnTo>
                    <a:pt x="4" y="919"/>
                  </a:lnTo>
                  <a:lnTo>
                    <a:pt x="8" y="900"/>
                  </a:lnTo>
                  <a:lnTo>
                    <a:pt x="13" y="880"/>
                  </a:lnTo>
                  <a:lnTo>
                    <a:pt x="16" y="858"/>
                  </a:lnTo>
                  <a:lnTo>
                    <a:pt x="22" y="809"/>
                  </a:lnTo>
                  <a:lnTo>
                    <a:pt x="26" y="754"/>
                  </a:lnTo>
                  <a:lnTo>
                    <a:pt x="31" y="691"/>
                  </a:lnTo>
                  <a:lnTo>
                    <a:pt x="33" y="622"/>
                  </a:lnTo>
                  <a:lnTo>
                    <a:pt x="35" y="548"/>
                  </a:lnTo>
                  <a:lnTo>
                    <a:pt x="35" y="465"/>
                  </a:lnTo>
                  <a:lnTo>
                    <a:pt x="35" y="396"/>
                  </a:lnTo>
                  <a:lnTo>
                    <a:pt x="33" y="331"/>
                  </a:lnTo>
                  <a:lnTo>
                    <a:pt x="31" y="274"/>
                  </a:lnTo>
                  <a:lnTo>
                    <a:pt x="26" y="222"/>
                  </a:lnTo>
                  <a:lnTo>
                    <a:pt x="22" y="177"/>
                  </a:lnTo>
                  <a:lnTo>
                    <a:pt x="16" y="138"/>
                  </a:lnTo>
                  <a:lnTo>
                    <a:pt x="13" y="121"/>
                  </a:lnTo>
                  <a:lnTo>
                    <a:pt x="8" y="106"/>
                  </a:lnTo>
                  <a:lnTo>
                    <a:pt x="4" y="92"/>
                  </a:lnTo>
                  <a:lnTo>
                    <a:pt x="0" y="81"/>
                  </a:lnTo>
                  <a:lnTo>
                    <a:pt x="13" y="84"/>
                  </a:lnTo>
                  <a:lnTo>
                    <a:pt x="27" y="88"/>
                  </a:lnTo>
                  <a:lnTo>
                    <a:pt x="48" y="94"/>
                  </a:lnTo>
                  <a:lnTo>
                    <a:pt x="70" y="101"/>
                  </a:lnTo>
                  <a:lnTo>
                    <a:pt x="90" y="108"/>
                  </a:lnTo>
                  <a:lnTo>
                    <a:pt x="101" y="110"/>
                  </a:lnTo>
                  <a:lnTo>
                    <a:pt x="125" y="102"/>
                  </a:lnTo>
                  <a:lnTo>
                    <a:pt x="147" y="92"/>
                  </a:lnTo>
                  <a:lnTo>
                    <a:pt x="167" y="83"/>
                  </a:lnTo>
                  <a:lnTo>
                    <a:pt x="185" y="73"/>
                  </a:lnTo>
                  <a:lnTo>
                    <a:pt x="202" y="63"/>
                  </a:lnTo>
                  <a:lnTo>
                    <a:pt x="217" y="52"/>
                  </a:lnTo>
                  <a:lnTo>
                    <a:pt x="230" y="42"/>
                  </a:lnTo>
                  <a:lnTo>
                    <a:pt x="240" y="31"/>
                  </a:lnTo>
                  <a:lnTo>
                    <a:pt x="253" y="41"/>
                  </a:lnTo>
                  <a:lnTo>
                    <a:pt x="267" y="50"/>
                  </a:lnTo>
                  <a:lnTo>
                    <a:pt x="282" y="60"/>
                  </a:lnTo>
                  <a:lnTo>
                    <a:pt x="297" y="68"/>
                  </a:lnTo>
                  <a:lnTo>
                    <a:pt x="312" y="77"/>
                  </a:lnTo>
                  <a:lnTo>
                    <a:pt x="329" y="85"/>
                  </a:lnTo>
                  <a:lnTo>
                    <a:pt x="347" y="92"/>
                  </a:lnTo>
                  <a:lnTo>
                    <a:pt x="365" y="101"/>
                  </a:lnTo>
                  <a:lnTo>
                    <a:pt x="347" y="117"/>
                  </a:lnTo>
                  <a:lnTo>
                    <a:pt x="329" y="136"/>
                  </a:lnTo>
                  <a:lnTo>
                    <a:pt x="310" y="158"/>
                  </a:lnTo>
                  <a:lnTo>
                    <a:pt x="291" y="181"/>
                  </a:lnTo>
                  <a:lnTo>
                    <a:pt x="272" y="209"/>
                  </a:lnTo>
                  <a:lnTo>
                    <a:pt x="252" y="239"/>
                  </a:lnTo>
                  <a:lnTo>
                    <a:pt x="232" y="270"/>
                  </a:lnTo>
                  <a:lnTo>
                    <a:pt x="211" y="305"/>
                  </a:lnTo>
                  <a:lnTo>
                    <a:pt x="233" y="319"/>
                  </a:lnTo>
                  <a:lnTo>
                    <a:pt x="254" y="334"/>
                  </a:lnTo>
                  <a:lnTo>
                    <a:pt x="272" y="349"/>
                  </a:lnTo>
                  <a:lnTo>
                    <a:pt x="289" y="365"/>
                  </a:lnTo>
                  <a:lnTo>
                    <a:pt x="304" y="381"/>
                  </a:lnTo>
                  <a:lnTo>
                    <a:pt x="317" y="397"/>
                  </a:lnTo>
                  <a:lnTo>
                    <a:pt x="327" y="414"/>
                  </a:lnTo>
                  <a:lnTo>
                    <a:pt x="336" y="431"/>
                  </a:lnTo>
                  <a:lnTo>
                    <a:pt x="342" y="454"/>
                  </a:lnTo>
                  <a:lnTo>
                    <a:pt x="346" y="475"/>
                  </a:lnTo>
                  <a:lnTo>
                    <a:pt x="348" y="494"/>
                  </a:lnTo>
                  <a:lnTo>
                    <a:pt x="349" y="512"/>
                  </a:lnTo>
                  <a:lnTo>
                    <a:pt x="348" y="521"/>
                  </a:lnTo>
                  <a:lnTo>
                    <a:pt x="347" y="528"/>
                  </a:lnTo>
                  <a:lnTo>
                    <a:pt x="346" y="535"/>
                  </a:lnTo>
                  <a:lnTo>
                    <a:pt x="344" y="543"/>
                  </a:lnTo>
                  <a:lnTo>
                    <a:pt x="341" y="549"/>
                  </a:lnTo>
                  <a:lnTo>
                    <a:pt x="338" y="556"/>
                  </a:lnTo>
                  <a:lnTo>
                    <a:pt x="335" y="561"/>
                  </a:lnTo>
                  <a:lnTo>
                    <a:pt x="330" y="566"/>
                  </a:lnTo>
                  <a:lnTo>
                    <a:pt x="318" y="564"/>
                  </a:lnTo>
                  <a:lnTo>
                    <a:pt x="303" y="560"/>
                  </a:lnTo>
                  <a:lnTo>
                    <a:pt x="286" y="554"/>
                  </a:lnTo>
                  <a:lnTo>
                    <a:pt x="266" y="547"/>
                  </a:lnTo>
                  <a:lnTo>
                    <a:pt x="243" y="539"/>
                  </a:lnTo>
                  <a:lnTo>
                    <a:pt x="218" y="528"/>
                  </a:lnTo>
                  <a:lnTo>
                    <a:pt x="191" y="515"/>
                  </a:lnTo>
                  <a:lnTo>
                    <a:pt x="160" y="500"/>
                  </a:lnTo>
                  <a:lnTo>
                    <a:pt x="154" y="496"/>
                  </a:lnTo>
                  <a:lnTo>
                    <a:pt x="149" y="492"/>
                  </a:lnTo>
                  <a:lnTo>
                    <a:pt x="146" y="489"/>
                  </a:lnTo>
                  <a:lnTo>
                    <a:pt x="145" y="486"/>
                  </a:lnTo>
                  <a:lnTo>
                    <a:pt x="146" y="483"/>
                  </a:lnTo>
                  <a:lnTo>
                    <a:pt x="150" y="481"/>
                  </a:lnTo>
                  <a:lnTo>
                    <a:pt x="157" y="478"/>
                  </a:lnTo>
                  <a:lnTo>
                    <a:pt x="165" y="476"/>
                  </a:lnTo>
                  <a:lnTo>
                    <a:pt x="185" y="475"/>
                  </a:lnTo>
                  <a:lnTo>
                    <a:pt x="205" y="473"/>
                  </a:lnTo>
                  <a:lnTo>
                    <a:pt x="226" y="471"/>
                  </a:lnTo>
                  <a:lnTo>
                    <a:pt x="246" y="465"/>
                  </a:lnTo>
                  <a:lnTo>
                    <a:pt x="250" y="464"/>
                  </a:lnTo>
                  <a:lnTo>
                    <a:pt x="253" y="462"/>
                  </a:lnTo>
                  <a:lnTo>
                    <a:pt x="256" y="459"/>
                  </a:lnTo>
                  <a:lnTo>
                    <a:pt x="258" y="455"/>
                  </a:lnTo>
                  <a:lnTo>
                    <a:pt x="258" y="450"/>
                  </a:lnTo>
                  <a:lnTo>
                    <a:pt x="258" y="444"/>
                  </a:lnTo>
                  <a:lnTo>
                    <a:pt x="257" y="438"/>
                  </a:lnTo>
                  <a:lnTo>
                    <a:pt x="255" y="431"/>
                  </a:lnTo>
                  <a:lnTo>
                    <a:pt x="252" y="423"/>
                  </a:lnTo>
                  <a:lnTo>
                    <a:pt x="248" y="412"/>
                  </a:lnTo>
                  <a:lnTo>
                    <a:pt x="241" y="401"/>
                  </a:lnTo>
                  <a:lnTo>
                    <a:pt x="234" y="388"/>
                  </a:lnTo>
                  <a:lnTo>
                    <a:pt x="215" y="357"/>
                  </a:lnTo>
                  <a:lnTo>
                    <a:pt x="191" y="320"/>
                  </a:lnTo>
                  <a:lnTo>
                    <a:pt x="185" y="312"/>
                  </a:lnTo>
                  <a:lnTo>
                    <a:pt x="180" y="305"/>
                  </a:lnTo>
                  <a:lnTo>
                    <a:pt x="192" y="277"/>
                  </a:lnTo>
                  <a:lnTo>
                    <a:pt x="201" y="248"/>
                  </a:lnTo>
                  <a:lnTo>
                    <a:pt x="210" y="222"/>
                  </a:lnTo>
                  <a:lnTo>
                    <a:pt x="218" y="197"/>
                  </a:lnTo>
                  <a:lnTo>
                    <a:pt x="225" y="173"/>
                  </a:lnTo>
                  <a:lnTo>
                    <a:pt x="231" y="151"/>
                  </a:lnTo>
                  <a:lnTo>
                    <a:pt x="236" y="130"/>
                  </a:lnTo>
                  <a:lnTo>
                    <a:pt x="240" y="110"/>
                  </a:lnTo>
                  <a:close/>
                  <a:moveTo>
                    <a:pt x="501" y="116"/>
                  </a:moveTo>
                  <a:lnTo>
                    <a:pt x="501" y="236"/>
                  </a:lnTo>
                  <a:lnTo>
                    <a:pt x="522" y="230"/>
                  </a:lnTo>
                  <a:lnTo>
                    <a:pt x="545" y="225"/>
                  </a:lnTo>
                  <a:lnTo>
                    <a:pt x="572" y="217"/>
                  </a:lnTo>
                  <a:lnTo>
                    <a:pt x="601" y="211"/>
                  </a:lnTo>
                  <a:lnTo>
                    <a:pt x="616" y="206"/>
                  </a:lnTo>
                  <a:lnTo>
                    <a:pt x="630" y="202"/>
                  </a:lnTo>
                  <a:lnTo>
                    <a:pt x="642" y="198"/>
                  </a:lnTo>
                  <a:lnTo>
                    <a:pt x="650" y="195"/>
                  </a:lnTo>
                  <a:lnTo>
                    <a:pt x="664" y="208"/>
                  </a:lnTo>
                  <a:lnTo>
                    <a:pt x="676" y="221"/>
                  </a:lnTo>
                  <a:lnTo>
                    <a:pt x="684" y="233"/>
                  </a:lnTo>
                  <a:lnTo>
                    <a:pt x="691" y="246"/>
                  </a:lnTo>
                  <a:lnTo>
                    <a:pt x="677" y="248"/>
                  </a:lnTo>
                  <a:lnTo>
                    <a:pt x="658" y="250"/>
                  </a:lnTo>
                  <a:lnTo>
                    <a:pt x="637" y="254"/>
                  </a:lnTo>
                  <a:lnTo>
                    <a:pt x="611" y="256"/>
                  </a:lnTo>
                  <a:lnTo>
                    <a:pt x="574" y="263"/>
                  </a:lnTo>
                  <a:lnTo>
                    <a:pt x="543" y="268"/>
                  </a:lnTo>
                  <a:lnTo>
                    <a:pt x="519" y="273"/>
                  </a:lnTo>
                  <a:lnTo>
                    <a:pt x="501" y="276"/>
                  </a:lnTo>
                  <a:lnTo>
                    <a:pt x="501" y="396"/>
                  </a:lnTo>
                  <a:lnTo>
                    <a:pt x="513" y="393"/>
                  </a:lnTo>
                  <a:lnTo>
                    <a:pt x="526" y="391"/>
                  </a:lnTo>
                  <a:lnTo>
                    <a:pt x="544" y="388"/>
                  </a:lnTo>
                  <a:lnTo>
                    <a:pt x="566" y="386"/>
                  </a:lnTo>
                  <a:lnTo>
                    <a:pt x="608" y="379"/>
                  </a:lnTo>
                  <a:lnTo>
                    <a:pt x="643" y="373"/>
                  </a:lnTo>
                  <a:lnTo>
                    <a:pt x="673" y="369"/>
                  </a:lnTo>
                  <a:lnTo>
                    <a:pt x="696" y="366"/>
                  </a:lnTo>
                  <a:lnTo>
                    <a:pt x="700" y="333"/>
                  </a:lnTo>
                  <a:lnTo>
                    <a:pt x="705" y="298"/>
                  </a:lnTo>
                  <a:lnTo>
                    <a:pt x="710" y="263"/>
                  </a:lnTo>
                  <a:lnTo>
                    <a:pt x="714" y="227"/>
                  </a:lnTo>
                  <a:lnTo>
                    <a:pt x="718" y="190"/>
                  </a:lnTo>
                  <a:lnTo>
                    <a:pt x="722" y="151"/>
                  </a:lnTo>
                  <a:lnTo>
                    <a:pt x="727" y="112"/>
                  </a:lnTo>
                  <a:lnTo>
                    <a:pt x="731" y="70"/>
                  </a:lnTo>
                  <a:lnTo>
                    <a:pt x="721" y="73"/>
                  </a:lnTo>
                  <a:lnTo>
                    <a:pt x="706" y="77"/>
                  </a:lnTo>
                  <a:lnTo>
                    <a:pt x="688" y="81"/>
                  </a:lnTo>
                  <a:lnTo>
                    <a:pt x="665" y="86"/>
                  </a:lnTo>
                  <a:lnTo>
                    <a:pt x="637" y="90"/>
                  </a:lnTo>
                  <a:lnTo>
                    <a:pt x="610" y="95"/>
                  </a:lnTo>
                  <a:lnTo>
                    <a:pt x="586" y="99"/>
                  </a:lnTo>
                  <a:lnTo>
                    <a:pt x="565" y="103"/>
                  </a:lnTo>
                  <a:lnTo>
                    <a:pt x="544" y="106"/>
                  </a:lnTo>
                  <a:lnTo>
                    <a:pt x="527" y="109"/>
                  </a:lnTo>
                  <a:lnTo>
                    <a:pt x="513" y="113"/>
                  </a:lnTo>
                  <a:lnTo>
                    <a:pt x="501" y="116"/>
                  </a:lnTo>
                  <a:close/>
                </a:path>
              </a:pathLst>
            </a:custGeom>
            <a:solidFill>
              <a:srgbClr val="d79f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d79f00"/>
                </a:solidFill>
                <a:latin typeface="Arial"/>
                <a:ea typeface="宋体"/>
              </a:endParaRPr>
            </a:p>
          </p:txBody>
        </p:sp>
        <p:sp>
          <p:nvSpPr>
            <p:cNvPr id="97" name="Freeform 23"/>
            <p:cNvSpPr/>
            <p:nvPr/>
          </p:nvSpPr>
          <p:spPr>
            <a:xfrm>
              <a:off x="4838760" y="9112680"/>
              <a:ext cx="232560" cy="180000"/>
            </a:xfrm>
            <a:custGeom>
              <a:avLst/>
              <a:gdLst>
                <a:gd name="textAreaLeft" fmla="*/ 0 w 232560"/>
                <a:gd name="textAreaRight" fmla="*/ 232920 w 232560"/>
                <a:gd name="textAreaTop" fmla="*/ 0 h 180000"/>
                <a:gd name="textAreaBottom" fmla="*/ 180360 h 180000"/>
              </a:gdLst>
              <a:ahLst/>
              <a:rect l="textAreaLeft" t="textAreaTop" r="textAreaRight" b="textAreaBottom"/>
              <a:pathLst>
                <a:path w="1185" h="971">
                  <a:moveTo>
                    <a:pt x="660" y="675"/>
                  </a:moveTo>
                  <a:lnTo>
                    <a:pt x="694" y="698"/>
                  </a:lnTo>
                  <a:lnTo>
                    <a:pt x="724" y="720"/>
                  </a:lnTo>
                  <a:lnTo>
                    <a:pt x="754" y="740"/>
                  </a:lnTo>
                  <a:lnTo>
                    <a:pt x="780" y="760"/>
                  </a:lnTo>
                  <a:lnTo>
                    <a:pt x="804" y="778"/>
                  </a:lnTo>
                  <a:lnTo>
                    <a:pt x="825" y="795"/>
                  </a:lnTo>
                  <a:lnTo>
                    <a:pt x="844" y="811"/>
                  </a:lnTo>
                  <a:lnTo>
                    <a:pt x="860" y="825"/>
                  </a:lnTo>
                  <a:lnTo>
                    <a:pt x="863" y="834"/>
                  </a:lnTo>
                  <a:lnTo>
                    <a:pt x="865" y="844"/>
                  </a:lnTo>
                  <a:lnTo>
                    <a:pt x="865" y="856"/>
                  </a:lnTo>
                  <a:lnTo>
                    <a:pt x="865" y="869"/>
                  </a:lnTo>
                  <a:lnTo>
                    <a:pt x="863" y="884"/>
                  </a:lnTo>
                  <a:lnTo>
                    <a:pt x="860" y="901"/>
                  </a:lnTo>
                  <a:lnTo>
                    <a:pt x="856" y="919"/>
                  </a:lnTo>
                  <a:lnTo>
                    <a:pt x="849" y="941"/>
                  </a:lnTo>
                  <a:lnTo>
                    <a:pt x="848" y="947"/>
                  </a:lnTo>
                  <a:lnTo>
                    <a:pt x="846" y="953"/>
                  </a:lnTo>
                  <a:lnTo>
                    <a:pt x="845" y="959"/>
                  </a:lnTo>
                  <a:lnTo>
                    <a:pt x="842" y="963"/>
                  </a:lnTo>
                  <a:lnTo>
                    <a:pt x="840" y="966"/>
                  </a:lnTo>
                  <a:lnTo>
                    <a:pt x="837" y="968"/>
                  </a:lnTo>
                  <a:lnTo>
                    <a:pt x="834" y="970"/>
                  </a:lnTo>
                  <a:lnTo>
                    <a:pt x="830" y="970"/>
                  </a:lnTo>
                  <a:lnTo>
                    <a:pt x="827" y="971"/>
                  </a:lnTo>
                  <a:lnTo>
                    <a:pt x="825" y="971"/>
                  </a:lnTo>
                  <a:lnTo>
                    <a:pt x="822" y="970"/>
                  </a:lnTo>
                  <a:lnTo>
                    <a:pt x="819" y="968"/>
                  </a:lnTo>
                  <a:lnTo>
                    <a:pt x="812" y="961"/>
                  </a:lnTo>
                  <a:lnTo>
                    <a:pt x="805" y="950"/>
                  </a:lnTo>
                  <a:lnTo>
                    <a:pt x="797" y="944"/>
                  </a:lnTo>
                  <a:lnTo>
                    <a:pt x="788" y="936"/>
                  </a:lnTo>
                  <a:lnTo>
                    <a:pt x="778" y="926"/>
                  </a:lnTo>
                  <a:lnTo>
                    <a:pt x="768" y="913"/>
                  </a:lnTo>
                  <a:lnTo>
                    <a:pt x="744" y="881"/>
                  </a:lnTo>
                  <a:lnTo>
                    <a:pt x="715" y="840"/>
                  </a:lnTo>
                  <a:lnTo>
                    <a:pt x="643" y="853"/>
                  </a:lnTo>
                  <a:lnTo>
                    <a:pt x="574" y="866"/>
                  </a:lnTo>
                  <a:lnTo>
                    <a:pt x="507" y="880"/>
                  </a:lnTo>
                  <a:lnTo>
                    <a:pt x="445" y="894"/>
                  </a:lnTo>
                  <a:lnTo>
                    <a:pt x="386" y="909"/>
                  </a:lnTo>
                  <a:lnTo>
                    <a:pt x="328" y="924"/>
                  </a:lnTo>
                  <a:lnTo>
                    <a:pt x="275" y="940"/>
                  </a:lnTo>
                  <a:lnTo>
                    <a:pt x="225" y="955"/>
                  </a:lnTo>
                  <a:lnTo>
                    <a:pt x="225" y="941"/>
                  </a:lnTo>
                  <a:lnTo>
                    <a:pt x="223" y="926"/>
                  </a:lnTo>
                  <a:lnTo>
                    <a:pt x="222" y="912"/>
                  </a:lnTo>
                  <a:lnTo>
                    <a:pt x="219" y="898"/>
                  </a:lnTo>
                  <a:lnTo>
                    <a:pt x="217" y="884"/>
                  </a:lnTo>
                  <a:lnTo>
                    <a:pt x="214" y="871"/>
                  </a:lnTo>
                  <a:lnTo>
                    <a:pt x="210" y="858"/>
                  </a:lnTo>
                  <a:lnTo>
                    <a:pt x="204" y="845"/>
                  </a:lnTo>
                  <a:lnTo>
                    <a:pt x="221" y="841"/>
                  </a:lnTo>
                  <a:lnTo>
                    <a:pt x="237" y="836"/>
                  </a:lnTo>
                  <a:lnTo>
                    <a:pt x="253" y="828"/>
                  </a:lnTo>
                  <a:lnTo>
                    <a:pt x="269" y="820"/>
                  </a:lnTo>
                  <a:lnTo>
                    <a:pt x="284" y="811"/>
                  </a:lnTo>
                  <a:lnTo>
                    <a:pt x="300" y="800"/>
                  </a:lnTo>
                  <a:lnTo>
                    <a:pt x="315" y="788"/>
                  </a:lnTo>
                  <a:lnTo>
                    <a:pt x="329" y="775"/>
                  </a:lnTo>
                  <a:lnTo>
                    <a:pt x="345" y="756"/>
                  </a:lnTo>
                  <a:lnTo>
                    <a:pt x="361" y="737"/>
                  </a:lnTo>
                  <a:lnTo>
                    <a:pt x="375" y="718"/>
                  </a:lnTo>
                  <a:lnTo>
                    <a:pt x="389" y="698"/>
                  </a:lnTo>
                  <a:lnTo>
                    <a:pt x="401" y="679"/>
                  </a:lnTo>
                  <a:lnTo>
                    <a:pt x="413" y="659"/>
                  </a:lnTo>
                  <a:lnTo>
                    <a:pt x="425" y="639"/>
                  </a:lnTo>
                  <a:lnTo>
                    <a:pt x="435" y="617"/>
                  </a:lnTo>
                  <a:lnTo>
                    <a:pt x="445" y="597"/>
                  </a:lnTo>
                  <a:lnTo>
                    <a:pt x="453" y="576"/>
                  </a:lnTo>
                  <a:lnTo>
                    <a:pt x="462" y="555"/>
                  </a:lnTo>
                  <a:lnTo>
                    <a:pt x="468" y="533"/>
                  </a:lnTo>
                  <a:lnTo>
                    <a:pt x="476" y="511"/>
                  </a:lnTo>
                  <a:lnTo>
                    <a:pt x="481" y="489"/>
                  </a:lnTo>
                  <a:lnTo>
                    <a:pt x="486" y="467"/>
                  </a:lnTo>
                  <a:lnTo>
                    <a:pt x="490" y="445"/>
                  </a:lnTo>
                  <a:lnTo>
                    <a:pt x="513" y="461"/>
                  </a:lnTo>
                  <a:lnTo>
                    <a:pt x="534" y="474"/>
                  </a:lnTo>
                  <a:lnTo>
                    <a:pt x="554" y="486"/>
                  </a:lnTo>
                  <a:lnTo>
                    <a:pt x="572" y="497"/>
                  </a:lnTo>
                  <a:lnTo>
                    <a:pt x="589" y="505"/>
                  </a:lnTo>
                  <a:lnTo>
                    <a:pt x="604" y="511"/>
                  </a:lnTo>
                  <a:lnTo>
                    <a:pt x="618" y="517"/>
                  </a:lnTo>
                  <a:lnTo>
                    <a:pt x="630" y="520"/>
                  </a:lnTo>
                  <a:lnTo>
                    <a:pt x="616" y="527"/>
                  </a:lnTo>
                  <a:lnTo>
                    <a:pt x="604" y="537"/>
                  </a:lnTo>
                  <a:lnTo>
                    <a:pt x="592" y="546"/>
                  </a:lnTo>
                  <a:lnTo>
                    <a:pt x="581" y="556"/>
                  </a:lnTo>
                  <a:lnTo>
                    <a:pt x="571" y="568"/>
                  </a:lnTo>
                  <a:lnTo>
                    <a:pt x="561" y="579"/>
                  </a:lnTo>
                  <a:lnTo>
                    <a:pt x="553" y="592"/>
                  </a:lnTo>
                  <a:lnTo>
                    <a:pt x="544" y="605"/>
                  </a:lnTo>
                  <a:lnTo>
                    <a:pt x="525" y="633"/>
                  </a:lnTo>
                  <a:lnTo>
                    <a:pt x="506" y="662"/>
                  </a:lnTo>
                  <a:lnTo>
                    <a:pt x="486" y="689"/>
                  </a:lnTo>
                  <a:lnTo>
                    <a:pt x="466" y="718"/>
                  </a:lnTo>
                  <a:lnTo>
                    <a:pt x="445" y="745"/>
                  </a:lnTo>
                  <a:lnTo>
                    <a:pt x="424" y="772"/>
                  </a:lnTo>
                  <a:lnTo>
                    <a:pt x="402" y="799"/>
                  </a:lnTo>
                  <a:lnTo>
                    <a:pt x="380" y="825"/>
                  </a:lnTo>
                  <a:lnTo>
                    <a:pt x="690" y="790"/>
                  </a:lnTo>
                  <a:lnTo>
                    <a:pt x="687" y="787"/>
                  </a:lnTo>
                  <a:lnTo>
                    <a:pt x="685" y="783"/>
                  </a:lnTo>
                  <a:lnTo>
                    <a:pt x="682" y="777"/>
                  </a:lnTo>
                  <a:lnTo>
                    <a:pt x="680" y="770"/>
                  </a:lnTo>
                  <a:lnTo>
                    <a:pt x="669" y="754"/>
                  </a:lnTo>
                  <a:lnTo>
                    <a:pt x="660" y="735"/>
                  </a:lnTo>
                  <a:lnTo>
                    <a:pt x="650" y="714"/>
                  </a:lnTo>
                  <a:lnTo>
                    <a:pt x="640" y="690"/>
                  </a:lnTo>
                  <a:lnTo>
                    <a:pt x="636" y="681"/>
                  </a:lnTo>
                  <a:lnTo>
                    <a:pt x="633" y="674"/>
                  </a:lnTo>
                  <a:lnTo>
                    <a:pt x="633" y="668"/>
                  </a:lnTo>
                  <a:lnTo>
                    <a:pt x="634" y="665"/>
                  </a:lnTo>
                  <a:lnTo>
                    <a:pt x="637" y="664"/>
                  </a:lnTo>
                  <a:lnTo>
                    <a:pt x="639" y="664"/>
                  </a:lnTo>
                  <a:lnTo>
                    <a:pt x="641" y="664"/>
                  </a:lnTo>
                  <a:lnTo>
                    <a:pt x="644" y="665"/>
                  </a:lnTo>
                  <a:lnTo>
                    <a:pt x="650" y="669"/>
                  </a:lnTo>
                  <a:lnTo>
                    <a:pt x="660" y="675"/>
                  </a:lnTo>
                  <a:close/>
                  <a:moveTo>
                    <a:pt x="550" y="9"/>
                  </a:moveTo>
                  <a:lnTo>
                    <a:pt x="567" y="23"/>
                  </a:lnTo>
                  <a:lnTo>
                    <a:pt x="586" y="39"/>
                  </a:lnTo>
                  <a:lnTo>
                    <a:pt x="606" y="59"/>
                  </a:lnTo>
                  <a:lnTo>
                    <a:pt x="629" y="82"/>
                  </a:lnTo>
                  <a:lnTo>
                    <a:pt x="652" y="109"/>
                  </a:lnTo>
                  <a:lnTo>
                    <a:pt x="678" y="139"/>
                  </a:lnTo>
                  <a:lnTo>
                    <a:pt x="705" y="172"/>
                  </a:lnTo>
                  <a:lnTo>
                    <a:pt x="735" y="209"/>
                  </a:lnTo>
                  <a:lnTo>
                    <a:pt x="767" y="249"/>
                  </a:lnTo>
                  <a:lnTo>
                    <a:pt x="795" y="285"/>
                  </a:lnTo>
                  <a:lnTo>
                    <a:pt x="823" y="315"/>
                  </a:lnTo>
                  <a:lnTo>
                    <a:pt x="848" y="342"/>
                  </a:lnTo>
                  <a:lnTo>
                    <a:pt x="872" y="365"/>
                  </a:lnTo>
                  <a:lnTo>
                    <a:pt x="893" y="384"/>
                  </a:lnTo>
                  <a:lnTo>
                    <a:pt x="903" y="392"/>
                  </a:lnTo>
                  <a:lnTo>
                    <a:pt x="913" y="399"/>
                  </a:lnTo>
                  <a:lnTo>
                    <a:pt x="921" y="405"/>
                  </a:lnTo>
                  <a:lnTo>
                    <a:pt x="930" y="410"/>
                  </a:lnTo>
                  <a:lnTo>
                    <a:pt x="965" y="429"/>
                  </a:lnTo>
                  <a:lnTo>
                    <a:pt x="999" y="447"/>
                  </a:lnTo>
                  <a:lnTo>
                    <a:pt x="1030" y="464"/>
                  </a:lnTo>
                  <a:lnTo>
                    <a:pt x="1059" y="481"/>
                  </a:lnTo>
                  <a:lnTo>
                    <a:pt x="1086" y="498"/>
                  </a:lnTo>
                  <a:lnTo>
                    <a:pt x="1111" y="514"/>
                  </a:lnTo>
                  <a:lnTo>
                    <a:pt x="1134" y="529"/>
                  </a:lnTo>
                  <a:lnTo>
                    <a:pt x="1156" y="545"/>
                  </a:lnTo>
                  <a:lnTo>
                    <a:pt x="1163" y="551"/>
                  </a:lnTo>
                  <a:lnTo>
                    <a:pt x="1170" y="557"/>
                  </a:lnTo>
                  <a:lnTo>
                    <a:pt x="1176" y="562"/>
                  </a:lnTo>
                  <a:lnTo>
                    <a:pt x="1180" y="568"/>
                  </a:lnTo>
                  <a:lnTo>
                    <a:pt x="1183" y="573"/>
                  </a:lnTo>
                  <a:lnTo>
                    <a:pt x="1185" y="577"/>
                  </a:lnTo>
                  <a:lnTo>
                    <a:pt x="1185" y="581"/>
                  </a:lnTo>
                  <a:lnTo>
                    <a:pt x="1185" y="585"/>
                  </a:lnTo>
                  <a:lnTo>
                    <a:pt x="1183" y="590"/>
                  </a:lnTo>
                  <a:lnTo>
                    <a:pt x="1180" y="593"/>
                  </a:lnTo>
                  <a:lnTo>
                    <a:pt x="1176" y="596"/>
                  </a:lnTo>
                  <a:lnTo>
                    <a:pt x="1170" y="598"/>
                  </a:lnTo>
                  <a:lnTo>
                    <a:pt x="1163" y="600"/>
                  </a:lnTo>
                  <a:lnTo>
                    <a:pt x="1156" y="600"/>
                  </a:lnTo>
                  <a:lnTo>
                    <a:pt x="1146" y="600"/>
                  </a:lnTo>
                  <a:lnTo>
                    <a:pt x="1135" y="600"/>
                  </a:lnTo>
                  <a:lnTo>
                    <a:pt x="1090" y="597"/>
                  </a:lnTo>
                  <a:lnTo>
                    <a:pt x="1048" y="593"/>
                  </a:lnTo>
                  <a:lnTo>
                    <a:pt x="1010" y="588"/>
                  </a:lnTo>
                  <a:lnTo>
                    <a:pt x="977" y="581"/>
                  </a:lnTo>
                  <a:lnTo>
                    <a:pt x="961" y="578"/>
                  </a:lnTo>
                  <a:lnTo>
                    <a:pt x="946" y="574"/>
                  </a:lnTo>
                  <a:lnTo>
                    <a:pt x="933" y="570"/>
                  </a:lnTo>
                  <a:lnTo>
                    <a:pt x="920" y="565"/>
                  </a:lnTo>
                  <a:lnTo>
                    <a:pt x="909" y="560"/>
                  </a:lnTo>
                  <a:lnTo>
                    <a:pt x="898" y="556"/>
                  </a:lnTo>
                  <a:lnTo>
                    <a:pt x="889" y="551"/>
                  </a:lnTo>
                  <a:lnTo>
                    <a:pt x="880" y="545"/>
                  </a:lnTo>
                  <a:lnTo>
                    <a:pt x="866" y="532"/>
                  </a:lnTo>
                  <a:lnTo>
                    <a:pt x="851" y="514"/>
                  </a:lnTo>
                  <a:lnTo>
                    <a:pt x="834" y="492"/>
                  </a:lnTo>
                  <a:lnTo>
                    <a:pt x="813" y="466"/>
                  </a:lnTo>
                  <a:lnTo>
                    <a:pt x="792" y="436"/>
                  </a:lnTo>
                  <a:lnTo>
                    <a:pt x="768" y="401"/>
                  </a:lnTo>
                  <a:lnTo>
                    <a:pt x="742" y="363"/>
                  </a:lnTo>
                  <a:lnTo>
                    <a:pt x="715" y="320"/>
                  </a:lnTo>
                  <a:lnTo>
                    <a:pt x="677" y="263"/>
                  </a:lnTo>
                  <a:lnTo>
                    <a:pt x="642" y="213"/>
                  </a:lnTo>
                  <a:lnTo>
                    <a:pt x="609" y="167"/>
                  </a:lnTo>
                  <a:lnTo>
                    <a:pt x="578" y="127"/>
                  </a:lnTo>
                  <a:lnTo>
                    <a:pt x="551" y="92"/>
                  </a:lnTo>
                  <a:lnTo>
                    <a:pt x="524" y="63"/>
                  </a:lnTo>
                  <a:lnTo>
                    <a:pt x="513" y="50"/>
                  </a:lnTo>
                  <a:lnTo>
                    <a:pt x="501" y="39"/>
                  </a:lnTo>
                  <a:lnTo>
                    <a:pt x="490" y="28"/>
                  </a:lnTo>
                  <a:lnTo>
                    <a:pt x="480" y="20"/>
                  </a:lnTo>
                  <a:lnTo>
                    <a:pt x="482" y="15"/>
                  </a:lnTo>
                  <a:lnTo>
                    <a:pt x="484" y="11"/>
                  </a:lnTo>
                  <a:lnTo>
                    <a:pt x="487" y="8"/>
                  </a:lnTo>
                  <a:lnTo>
                    <a:pt x="490" y="6"/>
                  </a:lnTo>
                  <a:lnTo>
                    <a:pt x="494" y="4"/>
                  </a:lnTo>
                  <a:lnTo>
                    <a:pt x="497" y="2"/>
                  </a:lnTo>
                  <a:lnTo>
                    <a:pt x="501" y="1"/>
                  </a:lnTo>
                  <a:lnTo>
                    <a:pt x="505" y="0"/>
                  </a:lnTo>
                  <a:lnTo>
                    <a:pt x="515" y="0"/>
                  </a:lnTo>
                  <a:lnTo>
                    <a:pt x="525" y="1"/>
                  </a:lnTo>
                  <a:lnTo>
                    <a:pt x="537" y="4"/>
                  </a:lnTo>
                  <a:lnTo>
                    <a:pt x="550" y="9"/>
                  </a:lnTo>
                  <a:close/>
                  <a:moveTo>
                    <a:pt x="380" y="165"/>
                  </a:moveTo>
                  <a:lnTo>
                    <a:pt x="392" y="174"/>
                  </a:lnTo>
                  <a:lnTo>
                    <a:pt x="404" y="184"/>
                  </a:lnTo>
                  <a:lnTo>
                    <a:pt x="417" y="193"/>
                  </a:lnTo>
                  <a:lnTo>
                    <a:pt x="431" y="202"/>
                  </a:lnTo>
                  <a:lnTo>
                    <a:pt x="446" y="210"/>
                  </a:lnTo>
                  <a:lnTo>
                    <a:pt x="462" y="219"/>
                  </a:lnTo>
                  <a:lnTo>
                    <a:pt x="478" y="227"/>
                  </a:lnTo>
                  <a:lnTo>
                    <a:pt x="495" y="235"/>
                  </a:lnTo>
                  <a:lnTo>
                    <a:pt x="484" y="244"/>
                  </a:lnTo>
                  <a:lnTo>
                    <a:pt x="473" y="255"/>
                  </a:lnTo>
                  <a:lnTo>
                    <a:pt x="464" y="266"/>
                  </a:lnTo>
                  <a:lnTo>
                    <a:pt x="454" y="276"/>
                  </a:lnTo>
                  <a:lnTo>
                    <a:pt x="446" y="287"/>
                  </a:lnTo>
                  <a:lnTo>
                    <a:pt x="438" y="297"/>
                  </a:lnTo>
                  <a:lnTo>
                    <a:pt x="431" y="309"/>
                  </a:lnTo>
                  <a:lnTo>
                    <a:pt x="425" y="320"/>
                  </a:lnTo>
                  <a:lnTo>
                    <a:pt x="394" y="376"/>
                  </a:lnTo>
                  <a:lnTo>
                    <a:pt x="363" y="428"/>
                  </a:lnTo>
                  <a:lnTo>
                    <a:pt x="348" y="451"/>
                  </a:lnTo>
                  <a:lnTo>
                    <a:pt x="334" y="473"/>
                  </a:lnTo>
                  <a:lnTo>
                    <a:pt x="319" y="494"/>
                  </a:lnTo>
                  <a:lnTo>
                    <a:pt x="305" y="515"/>
                  </a:lnTo>
                  <a:lnTo>
                    <a:pt x="290" y="534"/>
                  </a:lnTo>
                  <a:lnTo>
                    <a:pt x="276" y="552"/>
                  </a:lnTo>
                  <a:lnTo>
                    <a:pt x="263" y="568"/>
                  </a:lnTo>
                  <a:lnTo>
                    <a:pt x="249" y="582"/>
                  </a:lnTo>
                  <a:lnTo>
                    <a:pt x="235" y="596"/>
                  </a:lnTo>
                  <a:lnTo>
                    <a:pt x="221" y="609"/>
                  </a:lnTo>
                  <a:lnTo>
                    <a:pt x="208" y="619"/>
                  </a:lnTo>
                  <a:lnTo>
                    <a:pt x="195" y="630"/>
                  </a:lnTo>
                  <a:lnTo>
                    <a:pt x="183" y="639"/>
                  </a:lnTo>
                  <a:lnTo>
                    <a:pt x="172" y="645"/>
                  </a:lnTo>
                  <a:lnTo>
                    <a:pt x="161" y="651"/>
                  </a:lnTo>
                  <a:lnTo>
                    <a:pt x="149" y="657"/>
                  </a:lnTo>
                  <a:lnTo>
                    <a:pt x="137" y="661"/>
                  </a:lnTo>
                  <a:lnTo>
                    <a:pt x="125" y="664"/>
                  </a:lnTo>
                  <a:lnTo>
                    <a:pt x="113" y="665"/>
                  </a:lnTo>
                  <a:lnTo>
                    <a:pt x="101" y="666"/>
                  </a:lnTo>
                  <a:lnTo>
                    <a:pt x="89" y="666"/>
                  </a:lnTo>
                  <a:lnTo>
                    <a:pt x="76" y="665"/>
                  </a:lnTo>
                  <a:lnTo>
                    <a:pt x="64" y="663"/>
                  </a:lnTo>
                  <a:lnTo>
                    <a:pt x="51" y="659"/>
                  </a:lnTo>
                  <a:lnTo>
                    <a:pt x="38" y="654"/>
                  </a:lnTo>
                  <a:lnTo>
                    <a:pt x="25" y="649"/>
                  </a:lnTo>
                  <a:lnTo>
                    <a:pt x="13" y="643"/>
                  </a:lnTo>
                  <a:lnTo>
                    <a:pt x="0" y="635"/>
                  </a:lnTo>
                  <a:lnTo>
                    <a:pt x="36" y="616"/>
                  </a:lnTo>
                  <a:lnTo>
                    <a:pt x="70" y="596"/>
                  </a:lnTo>
                  <a:lnTo>
                    <a:pt x="103" y="574"/>
                  </a:lnTo>
                  <a:lnTo>
                    <a:pt x="135" y="552"/>
                  </a:lnTo>
                  <a:lnTo>
                    <a:pt x="149" y="539"/>
                  </a:lnTo>
                  <a:lnTo>
                    <a:pt x="164" y="526"/>
                  </a:lnTo>
                  <a:lnTo>
                    <a:pt x="178" y="514"/>
                  </a:lnTo>
                  <a:lnTo>
                    <a:pt x="192" y="501"/>
                  </a:lnTo>
                  <a:lnTo>
                    <a:pt x="204" y="487"/>
                  </a:lnTo>
                  <a:lnTo>
                    <a:pt x="218" y="473"/>
                  </a:lnTo>
                  <a:lnTo>
                    <a:pt x="230" y="459"/>
                  </a:lnTo>
                  <a:lnTo>
                    <a:pt x="243" y="445"/>
                  </a:lnTo>
                  <a:lnTo>
                    <a:pt x="254" y="430"/>
                  </a:lnTo>
                  <a:lnTo>
                    <a:pt x="265" y="415"/>
                  </a:lnTo>
                  <a:lnTo>
                    <a:pt x="276" y="399"/>
                  </a:lnTo>
                  <a:lnTo>
                    <a:pt x="286" y="383"/>
                  </a:lnTo>
                  <a:lnTo>
                    <a:pt x="297" y="367"/>
                  </a:lnTo>
                  <a:lnTo>
                    <a:pt x="306" y="350"/>
                  </a:lnTo>
                  <a:lnTo>
                    <a:pt x="316" y="333"/>
                  </a:lnTo>
                  <a:lnTo>
                    <a:pt x="324" y="316"/>
                  </a:lnTo>
                  <a:lnTo>
                    <a:pt x="341" y="280"/>
                  </a:lnTo>
                  <a:lnTo>
                    <a:pt x="355" y="243"/>
                  </a:lnTo>
                  <a:lnTo>
                    <a:pt x="369" y="204"/>
                  </a:lnTo>
                  <a:lnTo>
                    <a:pt x="380" y="165"/>
                  </a:lnTo>
                  <a:close/>
                </a:path>
              </a:pathLst>
            </a:custGeom>
            <a:solidFill>
              <a:srgbClr val="d79f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d79f00"/>
                </a:solidFill>
                <a:latin typeface="Arial"/>
                <a:ea typeface="宋体"/>
              </a:endParaRPr>
            </a:p>
          </p:txBody>
        </p:sp>
        <p:sp>
          <p:nvSpPr>
            <p:cNvPr id="98" name="Freeform 24"/>
            <p:cNvSpPr/>
            <p:nvPr/>
          </p:nvSpPr>
          <p:spPr>
            <a:xfrm>
              <a:off x="5103000" y="9104760"/>
              <a:ext cx="165240" cy="198360"/>
            </a:xfrm>
            <a:custGeom>
              <a:avLst/>
              <a:gdLst>
                <a:gd name="textAreaLeft" fmla="*/ 0 w 165240"/>
                <a:gd name="textAreaRight" fmla="*/ 165600 w 165240"/>
                <a:gd name="textAreaTop" fmla="*/ 0 h 198360"/>
                <a:gd name="textAreaBottom" fmla="*/ 198720 h 198360"/>
              </a:gdLst>
              <a:ahLst/>
              <a:rect l="textAreaLeft" t="textAreaTop" r="textAreaRight" b="textAreaBottom"/>
              <a:pathLst>
                <a:path w="846" h="1072">
                  <a:moveTo>
                    <a:pt x="651" y="0"/>
                  </a:moveTo>
                  <a:lnTo>
                    <a:pt x="671" y="13"/>
                  </a:lnTo>
                  <a:lnTo>
                    <a:pt x="692" y="25"/>
                  </a:lnTo>
                  <a:lnTo>
                    <a:pt x="715" y="35"/>
                  </a:lnTo>
                  <a:lnTo>
                    <a:pt x="739" y="45"/>
                  </a:lnTo>
                  <a:lnTo>
                    <a:pt x="764" y="52"/>
                  </a:lnTo>
                  <a:lnTo>
                    <a:pt x="791" y="58"/>
                  </a:lnTo>
                  <a:lnTo>
                    <a:pt x="817" y="63"/>
                  </a:lnTo>
                  <a:lnTo>
                    <a:pt x="846" y="66"/>
                  </a:lnTo>
                  <a:lnTo>
                    <a:pt x="841" y="71"/>
                  </a:lnTo>
                  <a:lnTo>
                    <a:pt x="837" y="78"/>
                  </a:lnTo>
                  <a:lnTo>
                    <a:pt x="834" y="85"/>
                  </a:lnTo>
                  <a:lnTo>
                    <a:pt x="831" y="94"/>
                  </a:lnTo>
                  <a:lnTo>
                    <a:pt x="825" y="116"/>
                  </a:lnTo>
                  <a:lnTo>
                    <a:pt x="819" y="142"/>
                  </a:lnTo>
                  <a:lnTo>
                    <a:pt x="815" y="173"/>
                  </a:lnTo>
                  <a:lnTo>
                    <a:pt x="811" y="210"/>
                  </a:lnTo>
                  <a:lnTo>
                    <a:pt x="808" y="251"/>
                  </a:lnTo>
                  <a:lnTo>
                    <a:pt x="805" y="297"/>
                  </a:lnTo>
                  <a:lnTo>
                    <a:pt x="804" y="348"/>
                  </a:lnTo>
                  <a:lnTo>
                    <a:pt x="803" y="404"/>
                  </a:lnTo>
                  <a:lnTo>
                    <a:pt x="803" y="464"/>
                  </a:lnTo>
                  <a:lnTo>
                    <a:pt x="804" y="530"/>
                  </a:lnTo>
                  <a:lnTo>
                    <a:pt x="805" y="600"/>
                  </a:lnTo>
                  <a:lnTo>
                    <a:pt x="809" y="675"/>
                  </a:lnTo>
                  <a:lnTo>
                    <a:pt x="812" y="756"/>
                  </a:lnTo>
                  <a:lnTo>
                    <a:pt x="815" y="842"/>
                  </a:lnTo>
                  <a:lnTo>
                    <a:pt x="816" y="890"/>
                  </a:lnTo>
                  <a:lnTo>
                    <a:pt x="816" y="934"/>
                  </a:lnTo>
                  <a:lnTo>
                    <a:pt x="814" y="972"/>
                  </a:lnTo>
                  <a:lnTo>
                    <a:pt x="812" y="1004"/>
                  </a:lnTo>
                  <a:lnTo>
                    <a:pt x="810" y="1018"/>
                  </a:lnTo>
                  <a:lnTo>
                    <a:pt x="808" y="1029"/>
                  </a:lnTo>
                  <a:lnTo>
                    <a:pt x="805" y="1040"/>
                  </a:lnTo>
                  <a:lnTo>
                    <a:pt x="803" y="1049"/>
                  </a:lnTo>
                  <a:lnTo>
                    <a:pt x="800" y="1057"/>
                  </a:lnTo>
                  <a:lnTo>
                    <a:pt x="797" y="1063"/>
                  </a:lnTo>
                  <a:lnTo>
                    <a:pt x="794" y="1068"/>
                  </a:lnTo>
                  <a:lnTo>
                    <a:pt x="791" y="1072"/>
                  </a:lnTo>
                  <a:lnTo>
                    <a:pt x="779" y="1068"/>
                  </a:lnTo>
                  <a:lnTo>
                    <a:pt x="766" y="1064"/>
                  </a:lnTo>
                  <a:lnTo>
                    <a:pt x="754" y="1060"/>
                  </a:lnTo>
                  <a:lnTo>
                    <a:pt x="741" y="1054"/>
                  </a:lnTo>
                  <a:lnTo>
                    <a:pt x="727" y="1047"/>
                  </a:lnTo>
                  <a:lnTo>
                    <a:pt x="712" y="1040"/>
                  </a:lnTo>
                  <a:lnTo>
                    <a:pt x="697" y="1030"/>
                  </a:lnTo>
                  <a:lnTo>
                    <a:pt x="682" y="1021"/>
                  </a:lnTo>
                  <a:lnTo>
                    <a:pt x="649" y="1000"/>
                  </a:lnTo>
                  <a:lnTo>
                    <a:pt x="613" y="974"/>
                  </a:lnTo>
                  <a:lnTo>
                    <a:pt x="576" y="944"/>
                  </a:lnTo>
                  <a:lnTo>
                    <a:pt x="535" y="912"/>
                  </a:lnTo>
                  <a:lnTo>
                    <a:pt x="527" y="904"/>
                  </a:lnTo>
                  <a:lnTo>
                    <a:pt x="521" y="898"/>
                  </a:lnTo>
                  <a:lnTo>
                    <a:pt x="516" y="892"/>
                  </a:lnTo>
                  <a:lnTo>
                    <a:pt x="515" y="886"/>
                  </a:lnTo>
                  <a:lnTo>
                    <a:pt x="517" y="884"/>
                  </a:lnTo>
                  <a:lnTo>
                    <a:pt x="519" y="882"/>
                  </a:lnTo>
                  <a:lnTo>
                    <a:pt x="522" y="881"/>
                  </a:lnTo>
                  <a:lnTo>
                    <a:pt x="526" y="880"/>
                  </a:lnTo>
                  <a:lnTo>
                    <a:pt x="534" y="880"/>
                  </a:lnTo>
                  <a:lnTo>
                    <a:pt x="545" y="881"/>
                  </a:lnTo>
                  <a:lnTo>
                    <a:pt x="584" y="886"/>
                  </a:lnTo>
                  <a:lnTo>
                    <a:pt x="616" y="889"/>
                  </a:lnTo>
                  <a:lnTo>
                    <a:pt x="631" y="889"/>
                  </a:lnTo>
                  <a:lnTo>
                    <a:pt x="643" y="889"/>
                  </a:lnTo>
                  <a:lnTo>
                    <a:pt x="654" y="888"/>
                  </a:lnTo>
                  <a:lnTo>
                    <a:pt x="665" y="887"/>
                  </a:lnTo>
                  <a:lnTo>
                    <a:pt x="672" y="885"/>
                  </a:lnTo>
                  <a:lnTo>
                    <a:pt x="679" y="883"/>
                  </a:lnTo>
                  <a:lnTo>
                    <a:pt x="685" y="880"/>
                  </a:lnTo>
                  <a:lnTo>
                    <a:pt x="689" y="877"/>
                  </a:lnTo>
                  <a:lnTo>
                    <a:pt x="691" y="872"/>
                  </a:lnTo>
                  <a:lnTo>
                    <a:pt x="692" y="867"/>
                  </a:lnTo>
                  <a:lnTo>
                    <a:pt x="692" y="862"/>
                  </a:lnTo>
                  <a:lnTo>
                    <a:pt x="690" y="857"/>
                  </a:lnTo>
                  <a:lnTo>
                    <a:pt x="691" y="827"/>
                  </a:lnTo>
                  <a:lnTo>
                    <a:pt x="692" y="793"/>
                  </a:lnTo>
                  <a:lnTo>
                    <a:pt x="693" y="755"/>
                  </a:lnTo>
                  <a:lnTo>
                    <a:pt x="694" y="713"/>
                  </a:lnTo>
                  <a:lnTo>
                    <a:pt x="694" y="668"/>
                  </a:lnTo>
                  <a:lnTo>
                    <a:pt x="695" y="618"/>
                  </a:lnTo>
                  <a:lnTo>
                    <a:pt x="695" y="564"/>
                  </a:lnTo>
                  <a:lnTo>
                    <a:pt x="695" y="506"/>
                  </a:lnTo>
                  <a:lnTo>
                    <a:pt x="695" y="441"/>
                  </a:lnTo>
                  <a:lnTo>
                    <a:pt x="694" y="382"/>
                  </a:lnTo>
                  <a:lnTo>
                    <a:pt x="694" y="326"/>
                  </a:lnTo>
                  <a:lnTo>
                    <a:pt x="693" y="275"/>
                  </a:lnTo>
                  <a:lnTo>
                    <a:pt x="691" y="227"/>
                  </a:lnTo>
                  <a:lnTo>
                    <a:pt x="690" y="184"/>
                  </a:lnTo>
                  <a:lnTo>
                    <a:pt x="688" y="145"/>
                  </a:lnTo>
                  <a:lnTo>
                    <a:pt x="686" y="110"/>
                  </a:lnTo>
                  <a:lnTo>
                    <a:pt x="685" y="107"/>
                  </a:lnTo>
                  <a:lnTo>
                    <a:pt x="685" y="104"/>
                  </a:lnTo>
                  <a:lnTo>
                    <a:pt x="684" y="101"/>
                  </a:lnTo>
                  <a:lnTo>
                    <a:pt x="682" y="99"/>
                  </a:lnTo>
                  <a:lnTo>
                    <a:pt x="679" y="98"/>
                  </a:lnTo>
                  <a:lnTo>
                    <a:pt x="677" y="97"/>
                  </a:lnTo>
                  <a:lnTo>
                    <a:pt x="674" y="96"/>
                  </a:lnTo>
                  <a:lnTo>
                    <a:pt x="671" y="96"/>
                  </a:lnTo>
                  <a:lnTo>
                    <a:pt x="612" y="103"/>
                  </a:lnTo>
                  <a:lnTo>
                    <a:pt x="552" y="112"/>
                  </a:lnTo>
                  <a:lnTo>
                    <a:pt x="492" y="121"/>
                  </a:lnTo>
                  <a:lnTo>
                    <a:pt x="432" y="131"/>
                  </a:lnTo>
                  <a:lnTo>
                    <a:pt x="371" y="141"/>
                  </a:lnTo>
                  <a:lnTo>
                    <a:pt x="310" y="152"/>
                  </a:lnTo>
                  <a:lnTo>
                    <a:pt x="247" y="163"/>
                  </a:lnTo>
                  <a:lnTo>
                    <a:pt x="185" y="176"/>
                  </a:lnTo>
                  <a:lnTo>
                    <a:pt x="175" y="169"/>
                  </a:lnTo>
                  <a:lnTo>
                    <a:pt x="165" y="161"/>
                  </a:lnTo>
                  <a:lnTo>
                    <a:pt x="155" y="152"/>
                  </a:lnTo>
                  <a:lnTo>
                    <a:pt x="146" y="142"/>
                  </a:lnTo>
                  <a:lnTo>
                    <a:pt x="135" y="131"/>
                  </a:lnTo>
                  <a:lnTo>
                    <a:pt x="125" y="118"/>
                  </a:lnTo>
                  <a:lnTo>
                    <a:pt x="115" y="105"/>
                  </a:lnTo>
                  <a:lnTo>
                    <a:pt x="105" y="90"/>
                  </a:lnTo>
                  <a:lnTo>
                    <a:pt x="157" y="88"/>
                  </a:lnTo>
                  <a:lnTo>
                    <a:pt x="208" y="85"/>
                  </a:lnTo>
                  <a:lnTo>
                    <a:pt x="256" y="81"/>
                  </a:lnTo>
                  <a:lnTo>
                    <a:pt x="300" y="78"/>
                  </a:lnTo>
                  <a:lnTo>
                    <a:pt x="344" y="73"/>
                  </a:lnTo>
                  <a:lnTo>
                    <a:pt x="384" y="68"/>
                  </a:lnTo>
                  <a:lnTo>
                    <a:pt x="421" y="64"/>
                  </a:lnTo>
                  <a:lnTo>
                    <a:pt x="457" y="58"/>
                  </a:lnTo>
                  <a:lnTo>
                    <a:pt x="490" y="52"/>
                  </a:lnTo>
                  <a:lnTo>
                    <a:pt x="519" y="46"/>
                  </a:lnTo>
                  <a:lnTo>
                    <a:pt x="548" y="39"/>
                  </a:lnTo>
                  <a:lnTo>
                    <a:pt x="573" y="32"/>
                  </a:lnTo>
                  <a:lnTo>
                    <a:pt x="596" y="25"/>
                  </a:lnTo>
                  <a:lnTo>
                    <a:pt x="617" y="17"/>
                  </a:lnTo>
                  <a:lnTo>
                    <a:pt x="635" y="9"/>
                  </a:lnTo>
                  <a:lnTo>
                    <a:pt x="651" y="0"/>
                  </a:lnTo>
                  <a:close/>
                  <a:moveTo>
                    <a:pt x="410" y="431"/>
                  </a:moveTo>
                  <a:lnTo>
                    <a:pt x="427" y="446"/>
                  </a:lnTo>
                  <a:lnTo>
                    <a:pt x="445" y="461"/>
                  </a:lnTo>
                  <a:lnTo>
                    <a:pt x="464" y="475"/>
                  </a:lnTo>
                  <a:lnTo>
                    <a:pt x="486" y="489"/>
                  </a:lnTo>
                  <a:lnTo>
                    <a:pt x="507" y="500"/>
                  </a:lnTo>
                  <a:lnTo>
                    <a:pt x="530" y="511"/>
                  </a:lnTo>
                  <a:lnTo>
                    <a:pt x="554" y="522"/>
                  </a:lnTo>
                  <a:lnTo>
                    <a:pt x="581" y="531"/>
                  </a:lnTo>
                  <a:lnTo>
                    <a:pt x="565" y="544"/>
                  </a:lnTo>
                  <a:lnTo>
                    <a:pt x="550" y="559"/>
                  </a:lnTo>
                  <a:lnTo>
                    <a:pt x="535" y="576"/>
                  </a:lnTo>
                  <a:lnTo>
                    <a:pt x="521" y="596"/>
                  </a:lnTo>
                  <a:lnTo>
                    <a:pt x="506" y="618"/>
                  </a:lnTo>
                  <a:lnTo>
                    <a:pt x="490" y="644"/>
                  </a:lnTo>
                  <a:lnTo>
                    <a:pt x="475" y="671"/>
                  </a:lnTo>
                  <a:lnTo>
                    <a:pt x="460" y="701"/>
                  </a:lnTo>
                  <a:lnTo>
                    <a:pt x="460" y="704"/>
                  </a:lnTo>
                  <a:lnTo>
                    <a:pt x="461" y="706"/>
                  </a:lnTo>
                  <a:lnTo>
                    <a:pt x="463" y="708"/>
                  </a:lnTo>
                  <a:lnTo>
                    <a:pt x="465" y="711"/>
                  </a:lnTo>
                  <a:lnTo>
                    <a:pt x="479" y="727"/>
                  </a:lnTo>
                  <a:lnTo>
                    <a:pt x="489" y="741"/>
                  </a:lnTo>
                  <a:lnTo>
                    <a:pt x="496" y="753"/>
                  </a:lnTo>
                  <a:lnTo>
                    <a:pt x="500" y="761"/>
                  </a:lnTo>
                  <a:lnTo>
                    <a:pt x="476" y="764"/>
                  </a:lnTo>
                  <a:lnTo>
                    <a:pt x="444" y="768"/>
                  </a:lnTo>
                  <a:lnTo>
                    <a:pt x="404" y="772"/>
                  </a:lnTo>
                  <a:lnTo>
                    <a:pt x="355" y="776"/>
                  </a:lnTo>
                  <a:lnTo>
                    <a:pt x="316" y="779"/>
                  </a:lnTo>
                  <a:lnTo>
                    <a:pt x="280" y="783"/>
                  </a:lnTo>
                  <a:lnTo>
                    <a:pt x="248" y="786"/>
                  </a:lnTo>
                  <a:lnTo>
                    <a:pt x="220" y="789"/>
                  </a:lnTo>
                  <a:lnTo>
                    <a:pt x="195" y="791"/>
                  </a:lnTo>
                  <a:lnTo>
                    <a:pt x="175" y="793"/>
                  </a:lnTo>
                  <a:lnTo>
                    <a:pt x="158" y="795"/>
                  </a:lnTo>
                  <a:lnTo>
                    <a:pt x="146" y="796"/>
                  </a:lnTo>
                  <a:lnTo>
                    <a:pt x="147" y="816"/>
                  </a:lnTo>
                  <a:lnTo>
                    <a:pt x="147" y="833"/>
                  </a:lnTo>
                  <a:lnTo>
                    <a:pt x="146" y="841"/>
                  </a:lnTo>
                  <a:lnTo>
                    <a:pt x="145" y="847"/>
                  </a:lnTo>
                  <a:lnTo>
                    <a:pt x="142" y="852"/>
                  </a:lnTo>
                  <a:lnTo>
                    <a:pt x="140" y="857"/>
                  </a:lnTo>
                  <a:lnTo>
                    <a:pt x="135" y="855"/>
                  </a:lnTo>
                  <a:lnTo>
                    <a:pt x="129" y="853"/>
                  </a:lnTo>
                  <a:lnTo>
                    <a:pt x="121" y="850"/>
                  </a:lnTo>
                  <a:lnTo>
                    <a:pt x="114" y="846"/>
                  </a:lnTo>
                  <a:lnTo>
                    <a:pt x="105" y="841"/>
                  </a:lnTo>
                  <a:lnTo>
                    <a:pt x="96" y="833"/>
                  </a:lnTo>
                  <a:lnTo>
                    <a:pt x="86" y="826"/>
                  </a:lnTo>
                  <a:lnTo>
                    <a:pt x="76" y="816"/>
                  </a:lnTo>
                  <a:lnTo>
                    <a:pt x="69" y="754"/>
                  </a:lnTo>
                  <a:lnTo>
                    <a:pt x="63" y="699"/>
                  </a:lnTo>
                  <a:lnTo>
                    <a:pt x="56" y="649"/>
                  </a:lnTo>
                  <a:lnTo>
                    <a:pt x="46" y="604"/>
                  </a:lnTo>
                  <a:lnTo>
                    <a:pt x="42" y="585"/>
                  </a:lnTo>
                  <a:lnTo>
                    <a:pt x="36" y="567"/>
                  </a:lnTo>
                  <a:lnTo>
                    <a:pt x="31" y="550"/>
                  </a:lnTo>
                  <a:lnTo>
                    <a:pt x="26" y="535"/>
                  </a:lnTo>
                  <a:lnTo>
                    <a:pt x="20" y="522"/>
                  </a:lnTo>
                  <a:lnTo>
                    <a:pt x="13" y="510"/>
                  </a:lnTo>
                  <a:lnTo>
                    <a:pt x="7" y="499"/>
                  </a:lnTo>
                  <a:lnTo>
                    <a:pt x="0" y="491"/>
                  </a:lnTo>
                  <a:lnTo>
                    <a:pt x="29" y="494"/>
                  </a:lnTo>
                  <a:lnTo>
                    <a:pt x="57" y="497"/>
                  </a:lnTo>
                  <a:lnTo>
                    <a:pt x="82" y="502"/>
                  </a:lnTo>
                  <a:lnTo>
                    <a:pt x="105" y="506"/>
                  </a:lnTo>
                  <a:lnTo>
                    <a:pt x="163" y="499"/>
                  </a:lnTo>
                  <a:lnTo>
                    <a:pt x="214" y="492"/>
                  </a:lnTo>
                  <a:lnTo>
                    <a:pt x="261" y="484"/>
                  </a:lnTo>
                  <a:lnTo>
                    <a:pt x="301" y="475"/>
                  </a:lnTo>
                  <a:lnTo>
                    <a:pt x="320" y="470"/>
                  </a:lnTo>
                  <a:lnTo>
                    <a:pt x="337" y="464"/>
                  </a:lnTo>
                  <a:lnTo>
                    <a:pt x="352" y="459"/>
                  </a:lnTo>
                  <a:lnTo>
                    <a:pt x="367" y="454"/>
                  </a:lnTo>
                  <a:lnTo>
                    <a:pt x="380" y="449"/>
                  </a:lnTo>
                  <a:lnTo>
                    <a:pt x="391" y="443"/>
                  </a:lnTo>
                  <a:lnTo>
                    <a:pt x="402" y="437"/>
                  </a:lnTo>
                  <a:lnTo>
                    <a:pt x="410" y="431"/>
                  </a:lnTo>
                  <a:close/>
                  <a:moveTo>
                    <a:pt x="410" y="526"/>
                  </a:moveTo>
                  <a:lnTo>
                    <a:pt x="407" y="525"/>
                  </a:lnTo>
                  <a:lnTo>
                    <a:pt x="400" y="525"/>
                  </a:lnTo>
                  <a:lnTo>
                    <a:pt x="389" y="526"/>
                  </a:lnTo>
                  <a:lnTo>
                    <a:pt x="374" y="527"/>
                  </a:lnTo>
                  <a:lnTo>
                    <a:pt x="332" y="532"/>
                  </a:lnTo>
                  <a:lnTo>
                    <a:pt x="275" y="541"/>
                  </a:lnTo>
                  <a:lnTo>
                    <a:pt x="248" y="546"/>
                  </a:lnTo>
                  <a:lnTo>
                    <a:pt x="224" y="550"/>
                  </a:lnTo>
                  <a:lnTo>
                    <a:pt x="201" y="553"/>
                  </a:lnTo>
                  <a:lnTo>
                    <a:pt x="181" y="557"/>
                  </a:lnTo>
                  <a:lnTo>
                    <a:pt x="161" y="560"/>
                  </a:lnTo>
                  <a:lnTo>
                    <a:pt x="143" y="563"/>
                  </a:lnTo>
                  <a:lnTo>
                    <a:pt x="129" y="564"/>
                  </a:lnTo>
                  <a:lnTo>
                    <a:pt x="115" y="566"/>
                  </a:lnTo>
                  <a:lnTo>
                    <a:pt x="119" y="585"/>
                  </a:lnTo>
                  <a:lnTo>
                    <a:pt x="122" y="605"/>
                  </a:lnTo>
                  <a:lnTo>
                    <a:pt x="125" y="626"/>
                  </a:lnTo>
                  <a:lnTo>
                    <a:pt x="129" y="647"/>
                  </a:lnTo>
                  <a:lnTo>
                    <a:pt x="132" y="670"/>
                  </a:lnTo>
                  <a:lnTo>
                    <a:pt x="135" y="692"/>
                  </a:lnTo>
                  <a:lnTo>
                    <a:pt x="137" y="717"/>
                  </a:lnTo>
                  <a:lnTo>
                    <a:pt x="140" y="741"/>
                  </a:lnTo>
                  <a:lnTo>
                    <a:pt x="186" y="733"/>
                  </a:lnTo>
                  <a:lnTo>
                    <a:pt x="226" y="725"/>
                  </a:lnTo>
                  <a:lnTo>
                    <a:pt x="263" y="719"/>
                  </a:lnTo>
                  <a:lnTo>
                    <a:pt x="295" y="713"/>
                  </a:lnTo>
                  <a:lnTo>
                    <a:pt x="324" y="709"/>
                  </a:lnTo>
                  <a:lnTo>
                    <a:pt x="347" y="705"/>
                  </a:lnTo>
                  <a:lnTo>
                    <a:pt x="366" y="703"/>
                  </a:lnTo>
                  <a:lnTo>
                    <a:pt x="381" y="701"/>
                  </a:lnTo>
                  <a:lnTo>
                    <a:pt x="387" y="671"/>
                  </a:lnTo>
                  <a:lnTo>
                    <a:pt x="393" y="644"/>
                  </a:lnTo>
                  <a:lnTo>
                    <a:pt x="399" y="618"/>
                  </a:lnTo>
                  <a:lnTo>
                    <a:pt x="403" y="595"/>
                  </a:lnTo>
                  <a:lnTo>
                    <a:pt x="406" y="574"/>
                  </a:lnTo>
                  <a:lnTo>
                    <a:pt x="408" y="556"/>
                  </a:lnTo>
                  <a:lnTo>
                    <a:pt x="409" y="540"/>
                  </a:lnTo>
                  <a:lnTo>
                    <a:pt x="410" y="526"/>
                  </a:lnTo>
                  <a:close/>
                  <a:moveTo>
                    <a:pt x="76" y="316"/>
                  </a:moveTo>
                  <a:lnTo>
                    <a:pt x="93" y="314"/>
                  </a:lnTo>
                  <a:lnTo>
                    <a:pt x="114" y="312"/>
                  </a:lnTo>
                  <a:lnTo>
                    <a:pt x="137" y="309"/>
                  </a:lnTo>
                  <a:lnTo>
                    <a:pt x="163" y="304"/>
                  </a:lnTo>
                  <a:lnTo>
                    <a:pt x="192" y="300"/>
                  </a:lnTo>
                  <a:lnTo>
                    <a:pt x="223" y="294"/>
                  </a:lnTo>
                  <a:lnTo>
                    <a:pt x="258" y="287"/>
                  </a:lnTo>
                  <a:lnTo>
                    <a:pt x="295" y="281"/>
                  </a:lnTo>
                  <a:lnTo>
                    <a:pt x="321" y="276"/>
                  </a:lnTo>
                  <a:lnTo>
                    <a:pt x="347" y="272"/>
                  </a:lnTo>
                  <a:lnTo>
                    <a:pt x="370" y="267"/>
                  </a:lnTo>
                  <a:lnTo>
                    <a:pt x="391" y="263"/>
                  </a:lnTo>
                  <a:lnTo>
                    <a:pt x="411" y="260"/>
                  </a:lnTo>
                  <a:lnTo>
                    <a:pt x="429" y="257"/>
                  </a:lnTo>
                  <a:lnTo>
                    <a:pt x="445" y="254"/>
                  </a:lnTo>
                  <a:lnTo>
                    <a:pt x="460" y="250"/>
                  </a:lnTo>
                  <a:lnTo>
                    <a:pt x="468" y="249"/>
                  </a:lnTo>
                  <a:lnTo>
                    <a:pt x="475" y="249"/>
                  </a:lnTo>
                  <a:lnTo>
                    <a:pt x="482" y="251"/>
                  </a:lnTo>
                  <a:lnTo>
                    <a:pt x="490" y="256"/>
                  </a:lnTo>
                  <a:lnTo>
                    <a:pt x="492" y="257"/>
                  </a:lnTo>
                  <a:lnTo>
                    <a:pt x="495" y="261"/>
                  </a:lnTo>
                  <a:lnTo>
                    <a:pt x="509" y="276"/>
                  </a:lnTo>
                  <a:lnTo>
                    <a:pt x="521" y="291"/>
                  </a:lnTo>
                  <a:lnTo>
                    <a:pt x="525" y="298"/>
                  </a:lnTo>
                  <a:lnTo>
                    <a:pt x="529" y="305"/>
                  </a:lnTo>
                  <a:lnTo>
                    <a:pt x="532" y="313"/>
                  </a:lnTo>
                  <a:lnTo>
                    <a:pt x="535" y="320"/>
                  </a:lnTo>
                  <a:lnTo>
                    <a:pt x="522" y="322"/>
                  </a:lnTo>
                  <a:lnTo>
                    <a:pt x="505" y="325"/>
                  </a:lnTo>
                  <a:lnTo>
                    <a:pt x="486" y="327"/>
                  </a:lnTo>
                  <a:lnTo>
                    <a:pt x="464" y="330"/>
                  </a:lnTo>
                  <a:lnTo>
                    <a:pt x="440" y="333"/>
                  </a:lnTo>
                  <a:lnTo>
                    <a:pt x="412" y="336"/>
                  </a:lnTo>
                  <a:lnTo>
                    <a:pt x="383" y="340"/>
                  </a:lnTo>
                  <a:lnTo>
                    <a:pt x="350" y="346"/>
                  </a:lnTo>
                  <a:lnTo>
                    <a:pt x="302" y="353"/>
                  </a:lnTo>
                  <a:lnTo>
                    <a:pt x="259" y="358"/>
                  </a:lnTo>
                  <a:lnTo>
                    <a:pt x="223" y="364"/>
                  </a:lnTo>
                  <a:lnTo>
                    <a:pt x="191" y="368"/>
                  </a:lnTo>
                  <a:lnTo>
                    <a:pt x="167" y="371"/>
                  </a:lnTo>
                  <a:lnTo>
                    <a:pt x="147" y="374"/>
                  </a:lnTo>
                  <a:lnTo>
                    <a:pt x="133" y="375"/>
                  </a:lnTo>
                  <a:lnTo>
                    <a:pt x="125" y="375"/>
                  </a:lnTo>
                  <a:lnTo>
                    <a:pt x="108" y="366"/>
                  </a:lnTo>
                  <a:lnTo>
                    <a:pt x="94" y="354"/>
                  </a:lnTo>
                  <a:lnTo>
                    <a:pt x="81" y="343"/>
                  </a:lnTo>
                  <a:lnTo>
                    <a:pt x="70" y="331"/>
                  </a:lnTo>
                  <a:lnTo>
                    <a:pt x="68" y="328"/>
                  </a:lnTo>
                  <a:lnTo>
                    <a:pt x="66" y="326"/>
                  </a:lnTo>
                  <a:lnTo>
                    <a:pt x="65" y="323"/>
                  </a:lnTo>
                  <a:lnTo>
                    <a:pt x="65" y="320"/>
                  </a:lnTo>
                  <a:lnTo>
                    <a:pt x="66" y="318"/>
                  </a:lnTo>
                  <a:lnTo>
                    <a:pt x="67" y="317"/>
                  </a:lnTo>
                  <a:lnTo>
                    <a:pt x="70" y="316"/>
                  </a:lnTo>
                  <a:lnTo>
                    <a:pt x="76" y="316"/>
                  </a:lnTo>
                  <a:close/>
                </a:path>
              </a:pathLst>
            </a:custGeom>
            <a:solidFill>
              <a:srgbClr val="d79f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d79f00"/>
                </a:solidFill>
                <a:latin typeface="Arial"/>
                <a:ea typeface="宋体"/>
              </a:endParaRPr>
            </a:p>
          </p:txBody>
        </p:sp>
        <p:sp>
          <p:nvSpPr>
            <p:cNvPr id="99" name="Freeform 25"/>
            <p:cNvSpPr/>
            <p:nvPr/>
          </p:nvSpPr>
          <p:spPr>
            <a:xfrm>
              <a:off x="1975680" y="9351360"/>
              <a:ext cx="46080" cy="59400"/>
            </a:xfrm>
            <a:custGeom>
              <a:avLst/>
              <a:gdLst>
                <a:gd name="textAreaLeft" fmla="*/ 0 w 46080"/>
                <a:gd name="textAreaRight" fmla="*/ 46440 w 46080"/>
                <a:gd name="textAreaTop" fmla="*/ 0 h 59400"/>
                <a:gd name="textAreaBottom" fmla="*/ 59760 h 59400"/>
              </a:gdLst>
              <a:ahLst/>
              <a:rect l="textAreaLeft" t="textAreaTop" r="textAreaRight" b="textAreaBottom"/>
              <a:pathLst>
                <a:path w="240" h="320">
                  <a:moveTo>
                    <a:pt x="0" y="320"/>
                  </a:moveTo>
                  <a:lnTo>
                    <a:pt x="0" y="281"/>
                  </a:lnTo>
                  <a:lnTo>
                    <a:pt x="156" y="75"/>
                  </a:lnTo>
                  <a:lnTo>
                    <a:pt x="164" y="65"/>
                  </a:lnTo>
                  <a:lnTo>
                    <a:pt x="171" y="55"/>
                  </a:lnTo>
                  <a:lnTo>
                    <a:pt x="180" y="46"/>
                  </a:lnTo>
                  <a:lnTo>
                    <a:pt x="187" y="37"/>
                  </a:lnTo>
                  <a:lnTo>
                    <a:pt x="17" y="37"/>
                  </a:lnTo>
                  <a:lnTo>
                    <a:pt x="17" y="0"/>
                  </a:lnTo>
                  <a:lnTo>
                    <a:pt x="235" y="0"/>
                  </a:lnTo>
                  <a:lnTo>
                    <a:pt x="235" y="37"/>
                  </a:lnTo>
                  <a:lnTo>
                    <a:pt x="64" y="260"/>
                  </a:lnTo>
                  <a:lnTo>
                    <a:pt x="46" y="282"/>
                  </a:lnTo>
                  <a:lnTo>
                    <a:pt x="240" y="282"/>
                  </a:lnTo>
                  <a:lnTo>
                    <a:pt x="240" y="320"/>
                  </a:lnTo>
                  <a:lnTo>
                    <a:pt x="0" y="320"/>
                  </a:lnTo>
                  <a:close/>
                </a:path>
              </a:pathLst>
            </a:custGeom>
            <a:solidFill>
              <a:srgbClr val="d79f00"/>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100" name="Freeform 26"/>
            <p:cNvSpPr/>
            <p:nvPr/>
          </p:nvSpPr>
          <p:spPr>
            <a:xfrm>
              <a:off x="2035800" y="9351360"/>
              <a:ext cx="46080" cy="59400"/>
            </a:xfrm>
            <a:custGeom>
              <a:avLst/>
              <a:gdLst>
                <a:gd name="textAreaLeft" fmla="*/ 0 w 46080"/>
                <a:gd name="textAreaRight" fmla="*/ 46440 w 46080"/>
                <a:gd name="textAreaTop" fmla="*/ 0 h 59400"/>
                <a:gd name="textAreaBottom" fmla="*/ 59760 h 59400"/>
              </a:gdLst>
              <a:ahLst/>
              <a:rect l="textAreaLeft" t="textAreaTop" r="textAreaRight" b="textAreaBottom"/>
              <a:pathLst>
                <a:path w="239" h="320">
                  <a:moveTo>
                    <a:pt x="0" y="320"/>
                  </a:moveTo>
                  <a:lnTo>
                    <a:pt x="0" y="0"/>
                  </a:lnTo>
                  <a:lnTo>
                    <a:pt x="40" y="0"/>
                  </a:lnTo>
                  <a:lnTo>
                    <a:pt x="40" y="131"/>
                  </a:lnTo>
                  <a:lnTo>
                    <a:pt x="198" y="131"/>
                  </a:lnTo>
                  <a:lnTo>
                    <a:pt x="198" y="0"/>
                  </a:lnTo>
                  <a:lnTo>
                    <a:pt x="239" y="0"/>
                  </a:lnTo>
                  <a:lnTo>
                    <a:pt x="239" y="320"/>
                  </a:lnTo>
                  <a:lnTo>
                    <a:pt x="198" y="320"/>
                  </a:lnTo>
                  <a:lnTo>
                    <a:pt x="198" y="169"/>
                  </a:lnTo>
                  <a:lnTo>
                    <a:pt x="40" y="169"/>
                  </a:lnTo>
                  <a:lnTo>
                    <a:pt x="40" y="320"/>
                  </a:lnTo>
                  <a:lnTo>
                    <a:pt x="0" y="320"/>
                  </a:lnTo>
                  <a:close/>
                </a:path>
              </a:pathLst>
            </a:custGeom>
            <a:solidFill>
              <a:srgbClr val="d79f00"/>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101" name="Freeform 27"/>
            <p:cNvSpPr/>
            <p:nvPr/>
          </p:nvSpPr>
          <p:spPr>
            <a:xfrm>
              <a:off x="2101680" y="9351360"/>
              <a:ext cx="46080" cy="59400"/>
            </a:xfrm>
            <a:custGeom>
              <a:avLst/>
              <a:gdLst>
                <a:gd name="textAreaLeft" fmla="*/ 0 w 46080"/>
                <a:gd name="textAreaRight" fmla="*/ 46440 w 46080"/>
                <a:gd name="textAreaTop" fmla="*/ 0 h 59400"/>
                <a:gd name="textAreaBottom" fmla="*/ 59760 h 59400"/>
              </a:gdLst>
              <a:ahLst/>
              <a:rect l="textAreaLeft" t="textAreaTop" r="textAreaRight" b="textAreaBottom"/>
              <a:pathLst>
                <a:path w="239" h="325">
                  <a:moveTo>
                    <a:pt x="199" y="0"/>
                  </a:moveTo>
                  <a:lnTo>
                    <a:pt x="239" y="0"/>
                  </a:lnTo>
                  <a:lnTo>
                    <a:pt x="239" y="184"/>
                  </a:lnTo>
                  <a:lnTo>
                    <a:pt x="238" y="208"/>
                  </a:lnTo>
                  <a:lnTo>
                    <a:pt x="236" y="228"/>
                  </a:lnTo>
                  <a:lnTo>
                    <a:pt x="233" y="246"/>
                  </a:lnTo>
                  <a:lnTo>
                    <a:pt x="229" y="261"/>
                  </a:lnTo>
                  <a:lnTo>
                    <a:pt x="225" y="268"/>
                  </a:lnTo>
                  <a:lnTo>
                    <a:pt x="222" y="275"/>
                  </a:lnTo>
                  <a:lnTo>
                    <a:pt x="218" y="281"/>
                  </a:lnTo>
                  <a:lnTo>
                    <a:pt x="214" y="287"/>
                  </a:lnTo>
                  <a:lnTo>
                    <a:pt x="208" y="293"/>
                  </a:lnTo>
                  <a:lnTo>
                    <a:pt x="203" y="298"/>
                  </a:lnTo>
                  <a:lnTo>
                    <a:pt x="198" y="303"/>
                  </a:lnTo>
                  <a:lnTo>
                    <a:pt x="192" y="307"/>
                  </a:lnTo>
                  <a:lnTo>
                    <a:pt x="184" y="312"/>
                  </a:lnTo>
                  <a:lnTo>
                    <a:pt x="177" y="315"/>
                  </a:lnTo>
                  <a:lnTo>
                    <a:pt x="168" y="318"/>
                  </a:lnTo>
                  <a:lnTo>
                    <a:pt x="160" y="321"/>
                  </a:lnTo>
                  <a:lnTo>
                    <a:pt x="150" y="322"/>
                  </a:lnTo>
                  <a:lnTo>
                    <a:pt x="141" y="324"/>
                  </a:lnTo>
                  <a:lnTo>
                    <a:pt x="130" y="324"/>
                  </a:lnTo>
                  <a:lnTo>
                    <a:pt x="120" y="325"/>
                  </a:lnTo>
                  <a:lnTo>
                    <a:pt x="109" y="325"/>
                  </a:lnTo>
                  <a:lnTo>
                    <a:pt x="99" y="324"/>
                  </a:lnTo>
                  <a:lnTo>
                    <a:pt x="90" y="323"/>
                  </a:lnTo>
                  <a:lnTo>
                    <a:pt x="81" y="321"/>
                  </a:lnTo>
                  <a:lnTo>
                    <a:pt x="73" y="319"/>
                  </a:lnTo>
                  <a:lnTo>
                    <a:pt x="64" y="317"/>
                  </a:lnTo>
                  <a:lnTo>
                    <a:pt x="57" y="314"/>
                  </a:lnTo>
                  <a:lnTo>
                    <a:pt x="50" y="309"/>
                  </a:lnTo>
                  <a:lnTo>
                    <a:pt x="43" y="305"/>
                  </a:lnTo>
                  <a:lnTo>
                    <a:pt x="37" y="301"/>
                  </a:lnTo>
                  <a:lnTo>
                    <a:pt x="32" y="296"/>
                  </a:lnTo>
                  <a:lnTo>
                    <a:pt x="26" y="290"/>
                  </a:lnTo>
                  <a:lnTo>
                    <a:pt x="22" y="285"/>
                  </a:lnTo>
                  <a:lnTo>
                    <a:pt x="18" y="279"/>
                  </a:lnTo>
                  <a:lnTo>
                    <a:pt x="14" y="272"/>
                  </a:lnTo>
                  <a:lnTo>
                    <a:pt x="11" y="265"/>
                  </a:lnTo>
                  <a:lnTo>
                    <a:pt x="6" y="249"/>
                  </a:lnTo>
                  <a:lnTo>
                    <a:pt x="2" y="230"/>
                  </a:lnTo>
                  <a:lnTo>
                    <a:pt x="0" y="209"/>
                  </a:lnTo>
                  <a:lnTo>
                    <a:pt x="0" y="184"/>
                  </a:lnTo>
                  <a:lnTo>
                    <a:pt x="0" y="0"/>
                  </a:lnTo>
                  <a:lnTo>
                    <a:pt x="40" y="0"/>
                  </a:lnTo>
                  <a:lnTo>
                    <a:pt x="40" y="184"/>
                  </a:lnTo>
                  <a:lnTo>
                    <a:pt x="40" y="204"/>
                  </a:lnTo>
                  <a:lnTo>
                    <a:pt x="41" y="220"/>
                  </a:lnTo>
                  <a:lnTo>
                    <a:pt x="43" y="234"/>
                  </a:lnTo>
                  <a:lnTo>
                    <a:pt x="47" y="246"/>
                  </a:lnTo>
                  <a:lnTo>
                    <a:pt x="52" y="255"/>
                  </a:lnTo>
                  <a:lnTo>
                    <a:pt x="57" y="263"/>
                  </a:lnTo>
                  <a:lnTo>
                    <a:pt x="64" y="270"/>
                  </a:lnTo>
                  <a:lnTo>
                    <a:pt x="72" y="277"/>
                  </a:lnTo>
                  <a:lnTo>
                    <a:pt x="81" y="281"/>
                  </a:lnTo>
                  <a:lnTo>
                    <a:pt x="92" y="284"/>
                  </a:lnTo>
                  <a:lnTo>
                    <a:pt x="104" y="286"/>
                  </a:lnTo>
                  <a:lnTo>
                    <a:pt x="116" y="287"/>
                  </a:lnTo>
                  <a:lnTo>
                    <a:pt x="127" y="286"/>
                  </a:lnTo>
                  <a:lnTo>
                    <a:pt x="136" y="286"/>
                  </a:lnTo>
                  <a:lnTo>
                    <a:pt x="146" y="284"/>
                  </a:lnTo>
                  <a:lnTo>
                    <a:pt x="154" y="282"/>
                  </a:lnTo>
                  <a:lnTo>
                    <a:pt x="162" y="279"/>
                  </a:lnTo>
                  <a:lnTo>
                    <a:pt x="168" y="276"/>
                  </a:lnTo>
                  <a:lnTo>
                    <a:pt x="175" y="270"/>
                  </a:lnTo>
                  <a:lnTo>
                    <a:pt x="180" y="266"/>
                  </a:lnTo>
                  <a:lnTo>
                    <a:pt x="184" y="260"/>
                  </a:lnTo>
                  <a:lnTo>
                    <a:pt x="188" y="252"/>
                  </a:lnTo>
                  <a:lnTo>
                    <a:pt x="192" y="245"/>
                  </a:lnTo>
                  <a:lnTo>
                    <a:pt x="194" y="235"/>
                  </a:lnTo>
                  <a:lnTo>
                    <a:pt x="196" y="224"/>
                  </a:lnTo>
                  <a:lnTo>
                    <a:pt x="198" y="212"/>
                  </a:lnTo>
                  <a:lnTo>
                    <a:pt x="198" y="199"/>
                  </a:lnTo>
                  <a:lnTo>
                    <a:pt x="199" y="184"/>
                  </a:lnTo>
                  <a:lnTo>
                    <a:pt x="199" y="0"/>
                  </a:lnTo>
                  <a:close/>
                </a:path>
              </a:pathLst>
            </a:custGeom>
            <a:solidFill>
              <a:srgbClr val="d79f00"/>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102" name="Freeform 28"/>
            <p:cNvSpPr/>
            <p:nvPr/>
          </p:nvSpPr>
          <p:spPr>
            <a:xfrm>
              <a:off x="2165760" y="9351360"/>
              <a:ext cx="47520" cy="59400"/>
            </a:xfrm>
            <a:custGeom>
              <a:avLst/>
              <a:gdLst>
                <a:gd name="textAreaLeft" fmla="*/ 0 w 47520"/>
                <a:gd name="textAreaRight" fmla="*/ 47880 w 47520"/>
                <a:gd name="textAreaTop" fmla="*/ 0 h 59400"/>
                <a:gd name="textAreaBottom" fmla="*/ 59760 h 59400"/>
              </a:gdLst>
              <a:ahLst/>
              <a:rect l="textAreaLeft" t="textAreaTop" r="textAreaRight" b="textAreaBottom"/>
              <a:pathLst>
                <a:path w="239" h="320">
                  <a:moveTo>
                    <a:pt x="0" y="320"/>
                  </a:moveTo>
                  <a:lnTo>
                    <a:pt x="0" y="0"/>
                  </a:lnTo>
                  <a:lnTo>
                    <a:pt x="41" y="0"/>
                  </a:lnTo>
                  <a:lnTo>
                    <a:pt x="41" y="131"/>
                  </a:lnTo>
                  <a:lnTo>
                    <a:pt x="199" y="131"/>
                  </a:lnTo>
                  <a:lnTo>
                    <a:pt x="199" y="0"/>
                  </a:lnTo>
                  <a:lnTo>
                    <a:pt x="239" y="0"/>
                  </a:lnTo>
                  <a:lnTo>
                    <a:pt x="239" y="320"/>
                  </a:lnTo>
                  <a:lnTo>
                    <a:pt x="199" y="320"/>
                  </a:lnTo>
                  <a:lnTo>
                    <a:pt x="199" y="169"/>
                  </a:lnTo>
                  <a:lnTo>
                    <a:pt x="41" y="169"/>
                  </a:lnTo>
                  <a:lnTo>
                    <a:pt x="41" y="320"/>
                  </a:lnTo>
                  <a:lnTo>
                    <a:pt x="0" y="320"/>
                  </a:lnTo>
                  <a:close/>
                </a:path>
              </a:pathLst>
            </a:custGeom>
            <a:solidFill>
              <a:srgbClr val="d79f00"/>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103" name="Freeform 29"/>
            <p:cNvSpPr/>
            <p:nvPr/>
          </p:nvSpPr>
          <p:spPr>
            <a:xfrm>
              <a:off x="2224800" y="9351360"/>
              <a:ext cx="55800" cy="59400"/>
            </a:xfrm>
            <a:custGeom>
              <a:avLst/>
              <a:gdLst>
                <a:gd name="textAreaLeft" fmla="*/ 0 w 55800"/>
                <a:gd name="textAreaRight" fmla="*/ 56160 w 55800"/>
                <a:gd name="textAreaTop" fmla="*/ 0 h 59400"/>
                <a:gd name="textAreaBottom" fmla="*/ 59760 h 59400"/>
              </a:gdLst>
              <a:ahLst/>
              <a:rect l="textAreaLeft" t="textAreaTop" r="textAreaRight" b="textAreaBottom"/>
              <a:pathLst>
                <a:path w="285" h="320">
                  <a:moveTo>
                    <a:pt x="0" y="320"/>
                  </a:moveTo>
                  <a:lnTo>
                    <a:pt x="118" y="0"/>
                  </a:lnTo>
                  <a:lnTo>
                    <a:pt x="161" y="0"/>
                  </a:lnTo>
                  <a:lnTo>
                    <a:pt x="285" y="320"/>
                  </a:lnTo>
                  <a:lnTo>
                    <a:pt x="239" y="320"/>
                  </a:lnTo>
                  <a:lnTo>
                    <a:pt x="205" y="223"/>
                  </a:lnTo>
                  <a:lnTo>
                    <a:pt x="76" y="223"/>
                  </a:lnTo>
                  <a:lnTo>
                    <a:pt x="44" y="320"/>
                  </a:lnTo>
                  <a:lnTo>
                    <a:pt x="0" y="320"/>
                  </a:lnTo>
                  <a:close/>
                  <a:moveTo>
                    <a:pt x="88" y="189"/>
                  </a:moveTo>
                  <a:lnTo>
                    <a:pt x="192" y="189"/>
                  </a:lnTo>
                  <a:lnTo>
                    <a:pt x="160" y="100"/>
                  </a:lnTo>
                  <a:lnTo>
                    <a:pt x="153" y="81"/>
                  </a:lnTo>
                  <a:lnTo>
                    <a:pt x="147" y="63"/>
                  </a:lnTo>
                  <a:lnTo>
                    <a:pt x="142" y="48"/>
                  </a:lnTo>
                  <a:lnTo>
                    <a:pt x="138" y="33"/>
                  </a:lnTo>
                  <a:lnTo>
                    <a:pt x="135" y="49"/>
                  </a:lnTo>
                  <a:lnTo>
                    <a:pt x="131" y="64"/>
                  </a:lnTo>
                  <a:lnTo>
                    <a:pt x="127" y="80"/>
                  </a:lnTo>
                  <a:lnTo>
                    <a:pt x="122" y="94"/>
                  </a:lnTo>
                  <a:lnTo>
                    <a:pt x="88" y="189"/>
                  </a:lnTo>
                  <a:close/>
                </a:path>
              </a:pathLst>
            </a:custGeom>
            <a:solidFill>
              <a:srgbClr val="d79f00"/>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104" name="Rectangle 30"/>
            <p:cNvSpPr/>
            <p:nvPr/>
          </p:nvSpPr>
          <p:spPr>
            <a:xfrm>
              <a:off x="2293200" y="9351360"/>
              <a:ext cx="7920" cy="59400"/>
            </a:xfrm>
            <a:prstGeom prst="rect">
              <a:avLst/>
            </a:prstGeom>
            <a:solidFill>
              <a:srgbClr val="d79f00"/>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105" name="Freeform 31"/>
            <p:cNvSpPr/>
            <p:nvPr/>
          </p:nvSpPr>
          <p:spPr>
            <a:xfrm>
              <a:off x="2354760" y="9350280"/>
              <a:ext cx="55800" cy="60480"/>
            </a:xfrm>
            <a:custGeom>
              <a:avLst/>
              <a:gdLst>
                <a:gd name="textAreaLeft" fmla="*/ 0 w 55800"/>
                <a:gd name="textAreaRight" fmla="*/ 56160 w 55800"/>
                <a:gd name="textAreaTop" fmla="*/ 0 h 60480"/>
                <a:gd name="textAreaBottom" fmla="*/ 60840 h 60480"/>
              </a:gdLst>
              <a:ahLst/>
              <a:rect l="textAreaLeft" t="textAreaTop" r="textAreaRight" b="textAreaBottom"/>
              <a:pathLst>
                <a:path w="282" h="330">
                  <a:moveTo>
                    <a:pt x="153" y="199"/>
                  </a:moveTo>
                  <a:lnTo>
                    <a:pt x="153" y="162"/>
                  </a:lnTo>
                  <a:lnTo>
                    <a:pt x="282" y="162"/>
                  </a:lnTo>
                  <a:lnTo>
                    <a:pt x="282" y="281"/>
                  </a:lnTo>
                  <a:lnTo>
                    <a:pt x="267" y="292"/>
                  </a:lnTo>
                  <a:lnTo>
                    <a:pt x="251" y="302"/>
                  </a:lnTo>
                  <a:lnTo>
                    <a:pt x="237" y="310"/>
                  </a:lnTo>
                  <a:lnTo>
                    <a:pt x="221" y="318"/>
                  </a:lnTo>
                  <a:lnTo>
                    <a:pt x="205" y="323"/>
                  </a:lnTo>
                  <a:lnTo>
                    <a:pt x="189" y="327"/>
                  </a:lnTo>
                  <a:lnTo>
                    <a:pt x="172" y="329"/>
                  </a:lnTo>
                  <a:lnTo>
                    <a:pt x="156" y="330"/>
                  </a:lnTo>
                  <a:lnTo>
                    <a:pt x="145" y="329"/>
                  </a:lnTo>
                  <a:lnTo>
                    <a:pt x="134" y="329"/>
                  </a:lnTo>
                  <a:lnTo>
                    <a:pt x="123" y="327"/>
                  </a:lnTo>
                  <a:lnTo>
                    <a:pt x="113" y="325"/>
                  </a:lnTo>
                  <a:lnTo>
                    <a:pt x="103" y="322"/>
                  </a:lnTo>
                  <a:lnTo>
                    <a:pt x="93" y="319"/>
                  </a:lnTo>
                  <a:lnTo>
                    <a:pt x="83" y="314"/>
                  </a:lnTo>
                  <a:lnTo>
                    <a:pt x="75" y="310"/>
                  </a:lnTo>
                  <a:lnTo>
                    <a:pt x="65" y="305"/>
                  </a:lnTo>
                  <a:lnTo>
                    <a:pt x="57" y="299"/>
                  </a:lnTo>
                  <a:lnTo>
                    <a:pt x="49" y="292"/>
                  </a:lnTo>
                  <a:lnTo>
                    <a:pt x="42" y="285"/>
                  </a:lnTo>
                  <a:lnTo>
                    <a:pt x="35" y="277"/>
                  </a:lnTo>
                  <a:lnTo>
                    <a:pt x="29" y="270"/>
                  </a:lnTo>
                  <a:lnTo>
                    <a:pt x="24" y="260"/>
                  </a:lnTo>
                  <a:lnTo>
                    <a:pt x="18" y="252"/>
                  </a:lnTo>
                  <a:lnTo>
                    <a:pt x="14" y="242"/>
                  </a:lnTo>
                  <a:lnTo>
                    <a:pt x="10" y="232"/>
                  </a:lnTo>
                  <a:lnTo>
                    <a:pt x="7" y="221"/>
                  </a:lnTo>
                  <a:lnTo>
                    <a:pt x="5" y="212"/>
                  </a:lnTo>
                  <a:lnTo>
                    <a:pt x="3" y="200"/>
                  </a:lnTo>
                  <a:lnTo>
                    <a:pt x="2" y="189"/>
                  </a:lnTo>
                  <a:lnTo>
                    <a:pt x="0" y="178"/>
                  </a:lnTo>
                  <a:lnTo>
                    <a:pt x="0" y="166"/>
                  </a:lnTo>
                  <a:lnTo>
                    <a:pt x="0" y="154"/>
                  </a:lnTo>
                  <a:lnTo>
                    <a:pt x="2" y="143"/>
                  </a:lnTo>
                  <a:lnTo>
                    <a:pt x="3" y="132"/>
                  </a:lnTo>
                  <a:lnTo>
                    <a:pt x="5" y="122"/>
                  </a:lnTo>
                  <a:lnTo>
                    <a:pt x="7" y="110"/>
                  </a:lnTo>
                  <a:lnTo>
                    <a:pt x="10" y="99"/>
                  </a:lnTo>
                  <a:lnTo>
                    <a:pt x="14" y="90"/>
                  </a:lnTo>
                  <a:lnTo>
                    <a:pt x="18" y="79"/>
                  </a:lnTo>
                  <a:lnTo>
                    <a:pt x="24" y="70"/>
                  </a:lnTo>
                  <a:lnTo>
                    <a:pt x="29" y="60"/>
                  </a:lnTo>
                  <a:lnTo>
                    <a:pt x="34" y="52"/>
                  </a:lnTo>
                  <a:lnTo>
                    <a:pt x="42" y="44"/>
                  </a:lnTo>
                  <a:lnTo>
                    <a:pt x="48" y="37"/>
                  </a:lnTo>
                  <a:lnTo>
                    <a:pt x="56" y="30"/>
                  </a:lnTo>
                  <a:lnTo>
                    <a:pt x="64" y="24"/>
                  </a:lnTo>
                  <a:lnTo>
                    <a:pt x="72" y="19"/>
                  </a:lnTo>
                  <a:lnTo>
                    <a:pt x="81" y="15"/>
                  </a:lnTo>
                  <a:lnTo>
                    <a:pt x="90" y="10"/>
                  </a:lnTo>
                  <a:lnTo>
                    <a:pt x="100" y="7"/>
                  </a:lnTo>
                  <a:lnTo>
                    <a:pt x="110" y="4"/>
                  </a:lnTo>
                  <a:lnTo>
                    <a:pt x="120" y="2"/>
                  </a:lnTo>
                  <a:lnTo>
                    <a:pt x="131" y="1"/>
                  </a:lnTo>
                  <a:lnTo>
                    <a:pt x="141" y="0"/>
                  </a:lnTo>
                  <a:lnTo>
                    <a:pt x="153" y="0"/>
                  </a:lnTo>
                  <a:lnTo>
                    <a:pt x="169" y="0"/>
                  </a:lnTo>
                  <a:lnTo>
                    <a:pt x="184" y="2"/>
                  </a:lnTo>
                  <a:lnTo>
                    <a:pt x="199" y="6"/>
                  </a:lnTo>
                  <a:lnTo>
                    <a:pt x="212" y="10"/>
                  </a:lnTo>
                  <a:lnTo>
                    <a:pt x="225" y="17"/>
                  </a:lnTo>
                  <a:lnTo>
                    <a:pt x="237" y="24"/>
                  </a:lnTo>
                  <a:lnTo>
                    <a:pt x="246" y="33"/>
                  </a:lnTo>
                  <a:lnTo>
                    <a:pt x="255" y="42"/>
                  </a:lnTo>
                  <a:lnTo>
                    <a:pt x="261" y="53"/>
                  </a:lnTo>
                  <a:lnTo>
                    <a:pt x="267" y="65"/>
                  </a:lnTo>
                  <a:lnTo>
                    <a:pt x="273" y="79"/>
                  </a:lnTo>
                  <a:lnTo>
                    <a:pt x="277" y="94"/>
                  </a:lnTo>
                  <a:lnTo>
                    <a:pt x="241" y="105"/>
                  </a:lnTo>
                  <a:lnTo>
                    <a:pt x="238" y="93"/>
                  </a:lnTo>
                  <a:lnTo>
                    <a:pt x="233" y="82"/>
                  </a:lnTo>
                  <a:lnTo>
                    <a:pt x="229" y="74"/>
                  </a:lnTo>
                  <a:lnTo>
                    <a:pt x="224" y="67"/>
                  </a:lnTo>
                  <a:lnTo>
                    <a:pt x="219" y="60"/>
                  </a:lnTo>
                  <a:lnTo>
                    <a:pt x="211" y="54"/>
                  </a:lnTo>
                  <a:lnTo>
                    <a:pt x="204" y="48"/>
                  </a:lnTo>
                  <a:lnTo>
                    <a:pt x="194" y="44"/>
                  </a:lnTo>
                  <a:lnTo>
                    <a:pt x="185" y="40"/>
                  </a:lnTo>
                  <a:lnTo>
                    <a:pt x="175" y="38"/>
                  </a:lnTo>
                  <a:lnTo>
                    <a:pt x="164" y="36"/>
                  </a:lnTo>
                  <a:lnTo>
                    <a:pt x="153" y="36"/>
                  </a:lnTo>
                  <a:lnTo>
                    <a:pt x="139" y="36"/>
                  </a:lnTo>
                  <a:lnTo>
                    <a:pt x="126" y="38"/>
                  </a:lnTo>
                  <a:lnTo>
                    <a:pt x="116" y="41"/>
                  </a:lnTo>
                  <a:lnTo>
                    <a:pt x="105" y="44"/>
                  </a:lnTo>
                  <a:lnTo>
                    <a:pt x="96" y="50"/>
                  </a:lnTo>
                  <a:lnTo>
                    <a:pt x="86" y="55"/>
                  </a:lnTo>
                  <a:lnTo>
                    <a:pt x="79" y="61"/>
                  </a:lnTo>
                  <a:lnTo>
                    <a:pt x="72" y="68"/>
                  </a:lnTo>
                  <a:lnTo>
                    <a:pt x="66" y="75"/>
                  </a:lnTo>
                  <a:lnTo>
                    <a:pt x="62" y="82"/>
                  </a:lnTo>
                  <a:lnTo>
                    <a:pt x="57" y="91"/>
                  </a:lnTo>
                  <a:lnTo>
                    <a:pt x="53" y="99"/>
                  </a:lnTo>
                  <a:lnTo>
                    <a:pt x="48" y="114"/>
                  </a:lnTo>
                  <a:lnTo>
                    <a:pt x="45" y="130"/>
                  </a:lnTo>
                  <a:lnTo>
                    <a:pt x="43" y="147"/>
                  </a:lnTo>
                  <a:lnTo>
                    <a:pt x="42" y="164"/>
                  </a:lnTo>
                  <a:lnTo>
                    <a:pt x="43" y="184"/>
                  </a:lnTo>
                  <a:lnTo>
                    <a:pt x="45" y="203"/>
                  </a:lnTo>
                  <a:lnTo>
                    <a:pt x="47" y="212"/>
                  </a:lnTo>
                  <a:lnTo>
                    <a:pt x="49" y="220"/>
                  </a:lnTo>
                  <a:lnTo>
                    <a:pt x="52" y="228"/>
                  </a:lnTo>
                  <a:lnTo>
                    <a:pt x="56" y="235"/>
                  </a:lnTo>
                  <a:lnTo>
                    <a:pt x="60" y="242"/>
                  </a:lnTo>
                  <a:lnTo>
                    <a:pt x="63" y="249"/>
                  </a:lnTo>
                  <a:lnTo>
                    <a:pt x="68" y="255"/>
                  </a:lnTo>
                  <a:lnTo>
                    <a:pt x="72" y="260"/>
                  </a:lnTo>
                  <a:lnTo>
                    <a:pt x="78" y="266"/>
                  </a:lnTo>
                  <a:lnTo>
                    <a:pt x="84" y="270"/>
                  </a:lnTo>
                  <a:lnTo>
                    <a:pt x="90" y="274"/>
                  </a:lnTo>
                  <a:lnTo>
                    <a:pt x="97" y="278"/>
                  </a:lnTo>
                  <a:lnTo>
                    <a:pt x="110" y="284"/>
                  </a:lnTo>
                  <a:lnTo>
                    <a:pt x="124" y="288"/>
                  </a:lnTo>
                  <a:lnTo>
                    <a:pt x="138" y="291"/>
                  </a:lnTo>
                  <a:lnTo>
                    <a:pt x="153" y="292"/>
                  </a:lnTo>
                  <a:lnTo>
                    <a:pt x="167" y="291"/>
                  </a:lnTo>
                  <a:lnTo>
                    <a:pt x="179" y="289"/>
                  </a:lnTo>
                  <a:lnTo>
                    <a:pt x="192" y="286"/>
                  </a:lnTo>
                  <a:lnTo>
                    <a:pt x="205" y="282"/>
                  </a:lnTo>
                  <a:lnTo>
                    <a:pt x="217" y="276"/>
                  </a:lnTo>
                  <a:lnTo>
                    <a:pt x="226" y="270"/>
                  </a:lnTo>
                  <a:lnTo>
                    <a:pt x="236" y="265"/>
                  </a:lnTo>
                  <a:lnTo>
                    <a:pt x="242" y="258"/>
                  </a:lnTo>
                  <a:lnTo>
                    <a:pt x="242" y="199"/>
                  </a:lnTo>
                  <a:lnTo>
                    <a:pt x="153" y="199"/>
                  </a:lnTo>
                  <a:close/>
                </a:path>
              </a:pathLst>
            </a:custGeom>
            <a:solidFill>
              <a:srgbClr val="d79f00"/>
            </a:solidFill>
            <a:ln w="0">
              <a:noFill/>
            </a:ln>
          </p:spPr>
          <p:style>
            <a:lnRef idx="0"/>
            <a:fillRef idx="0"/>
            <a:effectRef idx="0"/>
            <a:fontRef idx="minor"/>
          </p:style>
          <p:txBody>
            <a:bodyPr lIns="90000" rIns="90000" tIns="15840" bIns="15840" anchor="t">
              <a:noAutofit/>
            </a:bodyPr>
            <a:p>
              <a:pPr>
                <a:lnSpc>
                  <a:spcPct val="100000"/>
                </a:lnSpc>
              </a:pPr>
              <a:endParaRPr b="0" lang="en-US" sz="1800" spc="-1" strike="noStrike">
                <a:solidFill>
                  <a:srgbClr val="d79f00"/>
                </a:solidFill>
                <a:latin typeface="Arial"/>
                <a:ea typeface="宋体"/>
              </a:endParaRPr>
            </a:p>
          </p:txBody>
        </p:sp>
        <p:sp>
          <p:nvSpPr>
            <p:cNvPr id="106" name="Freeform 32"/>
            <p:cNvSpPr/>
            <p:nvPr/>
          </p:nvSpPr>
          <p:spPr>
            <a:xfrm>
              <a:off x="2424600" y="9350280"/>
              <a:ext cx="57240" cy="60480"/>
            </a:xfrm>
            <a:custGeom>
              <a:avLst/>
              <a:gdLst>
                <a:gd name="textAreaLeft" fmla="*/ 0 w 57240"/>
                <a:gd name="textAreaRight" fmla="*/ 57600 w 57240"/>
                <a:gd name="textAreaTop" fmla="*/ 0 h 60480"/>
                <a:gd name="textAreaBottom" fmla="*/ 60840 h 60480"/>
              </a:gdLst>
              <a:ahLst/>
              <a:rect l="textAreaLeft" t="textAreaTop" r="textAreaRight" b="textAreaBottom"/>
              <a:pathLst>
                <a:path w="293" h="331">
                  <a:moveTo>
                    <a:pt x="0" y="170"/>
                  </a:moveTo>
                  <a:lnTo>
                    <a:pt x="1" y="150"/>
                  </a:lnTo>
                  <a:lnTo>
                    <a:pt x="3" y="132"/>
                  </a:lnTo>
                  <a:lnTo>
                    <a:pt x="7" y="115"/>
                  </a:lnTo>
                  <a:lnTo>
                    <a:pt x="11" y="99"/>
                  </a:lnTo>
                  <a:lnTo>
                    <a:pt x="16" y="83"/>
                  </a:lnTo>
                  <a:lnTo>
                    <a:pt x="24" y="70"/>
                  </a:lnTo>
                  <a:lnTo>
                    <a:pt x="32" y="57"/>
                  </a:lnTo>
                  <a:lnTo>
                    <a:pt x="42" y="45"/>
                  </a:lnTo>
                  <a:lnTo>
                    <a:pt x="52" y="35"/>
                  </a:lnTo>
                  <a:lnTo>
                    <a:pt x="64" y="25"/>
                  </a:lnTo>
                  <a:lnTo>
                    <a:pt x="75" y="18"/>
                  </a:lnTo>
                  <a:lnTo>
                    <a:pt x="88" y="11"/>
                  </a:lnTo>
                  <a:lnTo>
                    <a:pt x="102" y="6"/>
                  </a:lnTo>
                  <a:lnTo>
                    <a:pt x="116" y="3"/>
                  </a:lnTo>
                  <a:lnTo>
                    <a:pt x="131" y="1"/>
                  </a:lnTo>
                  <a:lnTo>
                    <a:pt x="146" y="0"/>
                  </a:lnTo>
                  <a:lnTo>
                    <a:pt x="157" y="1"/>
                  </a:lnTo>
                  <a:lnTo>
                    <a:pt x="168" y="2"/>
                  </a:lnTo>
                  <a:lnTo>
                    <a:pt x="177" y="3"/>
                  </a:lnTo>
                  <a:lnTo>
                    <a:pt x="187" y="5"/>
                  </a:lnTo>
                  <a:lnTo>
                    <a:pt x="196" y="8"/>
                  </a:lnTo>
                  <a:lnTo>
                    <a:pt x="206" y="12"/>
                  </a:lnTo>
                  <a:lnTo>
                    <a:pt x="214" y="17"/>
                  </a:lnTo>
                  <a:lnTo>
                    <a:pt x="223" y="21"/>
                  </a:lnTo>
                  <a:lnTo>
                    <a:pt x="231" y="27"/>
                  </a:lnTo>
                  <a:lnTo>
                    <a:pt x="239" y="33"/>
                  </a:lnTo>
                  <a:lnTo>
                    <a:pt x="246" y="40"/>
                  </a:lnTo>
                  <a:lnTo>
                    <a:pt x="252" y="46"/>
                  </a:lnTo>
                  <a:lnTo>
                    <a:pt x="259" y="55"/>
                  </a:lnTo>
                  <a:lnTo>
                    <a:pt x="264" y="62"/>
                  </a:lnTo>
                  <a:lnTo>
                    <a:pt x="269" y="71"/>
                  </a:lnTo>
                  <a:lnTo>
                    <a:pt x="275" y="80"/>
                  </a:lnTo>
                  <a:lnTo>
                    <a:pt x="279" y="90"/>
                  </a:lnTo>
                  <a:lnTo>
                    <a:pt x="282" y="100"/>
                  </a:lnTo>
                  <a:lnTo>
                    <a:pt x="285" y="110"/>
                  </a:lnTo>
                  <a:lnTo>
                    <a:pt x="287" y="120"/>
                  </a:lnTo>
                  <a:lnTo>
                    <a:pt x="289" y="131"/>
                  </a:lnTo>
                  <a:lnTo>
                    <a:pt x="290" y="143"/>
                  </a:lnTo>
                  <a:lnTo>
                    <a:pt x="292" y="154"/>
                  </a:lnTo>
                  <a:lnTo>
                    <a:pt x="293" y="166"/>
                  </a:lnTo>
                  <a:lnTo>
                    <a:pt x="292" y="178"/>
                  </a:lnTo>
                  <a:lnTo>
                    <a:pt x="290" y="189"/>
                  </a:lnTo>
                  <a:lnTo>
                    <a:pt x="289" y="201"/>
                  </a:lnTo>
                  <a:lnTo>
                    <a:pt x="287" y="213"/>
                  </a:lnTo>
                  <a:lnTo>
                    <a:pt x="285" y="223"/>
                  </a:lnTo>
                  <a:lnTo>
                    <a:pt x="282" y="234"/>
                  </a:lnTo>
                  <a:lnTo>
                    <a:pt x="278" y="243"/>
                  </a:lnTo>
                  <a:lnTo>
                    <a:pt x="273" y="253"/>
                  </a:lnTo>
                  <a:lnTo>
                    <a:pt x="268" y="262"/>
                  </a:lnTo>
                  <a:lnTo>
                    <a:pt x="263" y="271"/>
                  </a:lnTo>
                  <a:lnTo>
                    <a:pt x="258" y="279"/>
                  </a:lnTo>
                  <a:lnTo>
                    <a:pt x="251" y="287"/>
                  </a:lnTo>
                  <a:lnTo>
                    <a:pt x="244" y="294"/>
                  </a:lnTo>
                  <a:lnTo>
                    <a:pt x="236" y="301"/>
                  </a:lnTo>
                  <a:lnTo>
                    <a:pt x="229" y="306"/>
                  </a:lnTo>
                  <a:lnTo>
                    <a:pt x="221" y="311"/>
                  </a:lnTo>
                  <a:lnTo>
                    <a:pt x="212" y="315"/>
                  </a:lnTo>
                  <a:lnTo>
                    <a:pt x="203" y="320"/>
                  </a:lnTo>
                  <a:lnTo>
                    <a:pt x="194" y="323"/>
                  </a:lnTo>
                  <a:lnTo>
                    <a:pt x="185" y="326"/>
                  </a:lnTo>
                  <a:lnTo>
                    <a:pt x="175" y="328"/>
                  </a:lnTo>
                  <a:lnTo>
                    <a:pt x="165" y="330"/>
                  </a:lnTo>
                  <a:lnTo>
                    <a:pt x="156" y="330"/>
                  </a:lnTo>
                  <a:lnTo>
                    <a:pt x="146" y="331"/>
                  </a:lnTo>
                  <a:lnTo>
                    <a:pt x="136" y="330"/>
                  </a:lnTo>
                  <a:lnTo>
                    <a:pt x="125" y="329"/>
                  </a:lnTo>
                  <a:lnTo>
                    <a:pt x="116" y="328"/>
                  </a:lnTo>
                  <a:lnTo>
                    <a:pt x="106" y="326"/>
                  </a:lnTo>
                  <a:lnTo>
                    <a:pt x="97" y="323"/>
                  </a:lnTo>
                  <a:lnTo>
                    <a:pt x="87" y="319"/>
                  </a:lnTo>
                  <a:lnTo>
                    <a:pt x="79" y="314"/>
                  </a:lnTo>
                  <a:lnTo>
                    <a:pt x="69" y="309"/>
                  </a:lnTo>
                  <a:lnTo>
                    <a:pt x="62" y="304"/>
                  </a:lnTo>
                  <a:lnTo>
                    <a:pt x="53" y="297"/>
                  </a:lnTo>
                  <a:lnTo>
                    <a:pt x="47" y="291"/>
                  </a:lnTo>
                  <a:lnTo>
                    <a:pt x="39" y="284"/>
                  </a:lnTo>
                  <a:lnTo>
                    <a:pt x="33" y="276"/>
                  </a:lnTo>
                  <a:lnTo>
                    <a:pt x="28" y="268"/>
                  </a:lnTo>
                  <a:lnTo>
                    <a:pt x="22" y="259"/>
                  </a:lnTo>
                  <a:lnTo>
                    <a:pt x="18" y="250"/>
                  </a:lnTo>
                  <a:lnTo>
                    <a:pt x="14" y="240"/>
                  </a:lnTo>
                  <a:lnTo>
                    <a:pt x="11" y="231"/>
                  </a:lnTo>
                  <a:lnTo>
                    <a:pt x="8" y="221"/>
                  </a:lnTo>
                  <a:lnTo>
                    <a:pt x="6" y="211"/>
                  </a:lnTo>
                  <a:lnTo>
                    <a:pt x="3" y="201"/>
                  </a:lnTo>
                  <a:lnTo>
                    <a:pt x="1" y="190"/>
                  </a:lnTo>
                  <a:lnTo>
                    <a:pt x="1" y="180"/>
                  </a:lnTo>
                  <a:lnTo>
                    <a:pt x="0" y="170"/>
                  </a:lnTo>
                  <a:close/>
                  <a:moveTo>
                    <a:pt x="43" y="170"/>
                  </a:moveTo>
                  <a:lnTo>
                    <a:pt x="43" y="185"/>
                  </a:lnTo>
                  <a:lnTo>
                    <a:pt x="44" y="198"/>
                  </a:lnTo>
                  <a:lnTo>
                    <a:pt x="47" y="211"/>
                  </a:lnTo>
                  <a:lnTo>
                    <a:pt x="50" y="222"/>
                  </a:lnTo>
                  <a:lnTo>
                    <a:pt x="54" y="233"/>
                  </a:lnTo>
                  <a:lnTo>
                    <a:pt x="58" y="243"/>
                  </a:lnTo>
                  <a:lnTo>
                    <a:pt x="65" y="253"/>
                  </a:lnTo>
                  <a:lnTo>
                    <a:pt x="72" y="261"/>
                  </a:lnTo>
                  <a:lnTo>
                    <a:pt x="80" y="270"/>
                  </a:lnTo>
                  <a:lnTo>
                    <a:pt x="88" y="276"/>
                  </a:lnTo>
                  <a:lnTo>
                    <a:pt x="97" y="282"/>
                  </a:lnTo>
                  <a:lnTo>
                    <a:pt x="105" y="287"/>
                  </a:lnTo>
                  <a:lnTo>
                    <a:pt x="115" y="290"/>
                  </a:lnTo>
                  <a:lnTo>
                    <a:pt x="125" y="293"/>
                  </a:lnTo>
                  <a:lnTo>
                    <a:pt x="135" y="294"/>
                  </a:lnTo>
                  <a:lnTo>
                    <a:pt x="146" y="295"/>
                  </a:lnTo>
                  <a:lnTo>
                    <a:pt x="157" y="294"/>
                  </a:lnTo>
                  <a:lnTo>
                    <a:pt x="168" y="293"/>
                  </a:lnTo>
                  <a:lnTo>
                    <a:pt x="178" y="290"/>
                  </a:lnTo>
                  <a:lnTo>
                    <a:pt x="188" y="287"/>
                  </a:lnTo>
                  <a:lnTo>
                    <a:pt x="197" y="282"/>
                  </a:lnTo>
                  <a:lnTo>
                    <a:pt x="206" y="276"/>
                  </a:lnTo>
                  <a:lnTo>
                    <a:pt x="213" y="269"/>
                  </a:lnTo>
                  <a:lnTo>
                    <a:pt x="222" y="261"/>
                  </a:lnTo>
                  <a:lnTo>
                    <a:pt x="228" y="253"/>
                  </a:lnTo>
                  <a:lnTo>
                    <a:pt x="234" y="242"/>
                  </a:lnTo>
                  <a:lnTo>
                    <a:pt x="239" y="232"/>
                  </a:lnTo>
                  <a:lnTo>
                    <a:pt x="243" y="221"/>
                  </a:lnTo>
                  <a:lnTo>
                    <a:pt x="246" y="208"/>
                  </a:lnTo>
                  <a:lnTo>
                    <a:pt x="249" y="195"/>
                  </a:lnTo>
                  <a:lnTo>
                    <a:pt x="250" y="181"/>
                  </a:lnTo>
                  <a:lnTo>
                    <a:pt x="250" y="166"/>
                  </a:lnTo>
                  <a:lnTo>
                    <a:pt x="250" y="147"/>
                  </a:lnTo>
                  <a:lnTo>
                    <a:pt x="247" y="129"/>
                  </a:lnTo>
                  <a:lnTo>
                    <a:pt x="244" y="113"/>
                  </a:lnTo>
                  <a:lnTo>
                    <a:pt x="237" y="98"/>
                  </a:lnTo>
                  <a:lnTo>
                    <a:pt x="231" y="84"/>
                  </a:lnTo>
                  <a:lnTo>
                    <a:pt x="223" y="72"/>
                  </a:lnTo>
                  <a:lnTo>
                    <a:pt x="217" y="66"/>
                  </a:lnTo>
                  <a:lnTo>
                    <a:pt x="212" y="61"/>
                  </a:lnTo>
                  <a:lnTo>
                    <a:pt x="207" y="57"/>
                  </a:lnTo>
                  <a:lnTo>
                    <a:pt x="201" y="53"/>
                  </a:lnTo>
                  <a:lnTo>
                    <a:pt x="189" y="45"/>
                  </a:lnTo>
                  <a:lnTo>
                    <a:pt x="175" y="41"/>
                  </a:lnTo>
                  <a:lnTo>
                    <a:pt x="161" y="38"/>
                  </a:lnTo>
                  <a:lnTo>
                    <a:pt x="146" y="37"/>
                  </a:lnTo>
                  <a:lnTo>
                    <a:pt x="136" y="37"/>
                  </a:lnTo>
                  <a:lnTo>
                    <a:pt x="126" y="39"/>
                  </a:lnTo>
                  <a:lnTo>
                    <a:pt x="117" y="41"/>
                  </a:lnTo>
                  <a:lnTo>
                    <a:pt x="107" y="44"/>
                  </a:lnTo>
                  <a:lnTo>
                    <a:pt x="98" y="48"/>
                  </a:lnTo>
                  <a:lnTo>
                    <a:pt x="89" y="54"/>
                  </a:lnTo>
                  <a:lnTo>
                    <a:pt x="81" y="60"/>
                  </a:lnTo>
                  <a:lnTo>
                    <a:pt x="73" y="68"/>
                  </a:lnTo>
                  <a:lnTo>
                    <a:pt x="66" y="76"/>
                  </a:lnTo>
                  <a:lnTo>
                    <a:pt x="60" y="86"/>
                  </a:lnTo>
                  <a:lnTo>
                    <a:pt x="54" y="96"/>
                  </a:lnTo>
                  <a:lnTo>
                    <a:pt x="50" y="109"/>
                  </a:lnTo>
                  <a:lnTo>
                    <a:pt x="47" y="123"/>
                  </a:lnTo>
                  <a:lnTo>
                    <a:pt x="45" y="137"/>
                  </a:lnTo>
                  <a:lnTo>
                    <a:pt x="43" y="153"/>
                  </a:lnTo>
                  <a:lnTo>
                    <a:pt x="43" y="170"/>
                  </a:lnTo>
                  <a:close/>
                </a:path>
              </a:pathLst>
            </a:custGeom>
            <a:solidFill>
              <a:srgbClr val="d79f00"/>
            </a:solidFill>
            <a:ln w="0">
              <a:noFill/>
            </a:ln>
          </p:spPr>
          <p:style>
            <a:lnRef idx="0"/>
            <a:fillRef idx="0"/>
            <a:effectRef idx="0"/>
            <a:fontRef idx="minor"/>
          </p:style>
          <p:txBody>
            <a:bodyPr lIns="90000" rIns="90000" tIns="15840" bIns="15840" anchor="t">
              <a:noAutofit/>
            </a:bodyPr>
            <a:p>
              <a:pPr>
                <a:lnSpc>
                  <a:spcPct val="100000"/>
                </a:lnSpc>
              </a:pPr>
              <a:endParaRPr b="0" lang="en-US" sz="1800" spc="-1" strike="noStrike">
                <a:solidFill>
                  <a:srgbClr val="d79f00"/>
                </a:solidFill>
                <a:latin typeface="Arial"/>
                <a:ea typeface="宋体"/>
              </a:endParaRPr>
            </a:p>
          </p:txBody>
        </p:sp>
        <p:sp>
          <p:nvSpPr>
            <p:cNvPr id="107" name="Freeform 33"/>
            <p:cNvSpPr/>
            <p:nvPr/>
          </p:nvSpPr>
          <p:spPr>
            <a:xfrm>
              <a:off x="2497320" y="9351360"/>
              <a:ext cx="36720" cy="59400"/>
            </a:xfrm>
            <a:custGeom>
              <a:avLst/>
              <a:gdLst>
                <a:gd name="textAreaLeft" fmla="*/ 0 w 36720"/>
                <a:gd name="textAreaRight" fmla="*/ 37080 w 36720"/>
                <a:gd name="textAreaTop" fmla="*/ 0 h 59400"/>
                <a:gd name="textAreaBottom" fmla="*/ 59760 h 59400"/>
              </a:gdLst>
              <a:ahLst/>
              <a:rect l="textAreaLeft" t="textAreaTop" r="textAreaRight" b="textAreaBottom"/>
              <a:pathLst>
                <a:path w="190" h="320">
                  <a:moveTo>
                    <a:pt x="0" y="320"/>
                  </a:moveTo>
                  <a:lnTo>
                    <a:pt x="0" y="0"/>
                  </a:lnTo>
                  <a:lnTo>
                    <a:pt x="40" y="0"/>
                  </a:lnTo>
                  <a:lnTo>
                    <a:pt x="40" y="282"/>
                  </a:lnTo>
                  <a:lnTo>
                    <a:pt x="190" y="282"/>
                  </a:lnTo>
                  <a:lnTo>
                    <a:pt x="190" y="320"/>
                  </a:lnTo>
                  <a:lnTo>
                    <a:pt x="0" y="320"/>
                  </a:lnTo>
                  <a:close/>
                </a:path>
              </a:pathLst>
            </a:custGeom>
            <a:solidFill>
              <a:srgbClr val="d79f00"/>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108" name="Freeform 34"/>
            <p:cNvSpPr/>
            <p:nvPr/>
          </p:nvSpPr>
          <p:spPr>
            <a:xfrm>
              <a:off x="2548080" y="9351360"/>
              <a:ext cx="48960" cy="59400"/>
            </a:xfrm>
            <a:custGeom>
              <a:avLst/>
              <a:gdLst>
                <a:gd name="textAreaLeft" fmla="*/ 0 w 48960"/>
                <a:gd name="textAreaRight" fmla="*/ 49320 w 48960"/>
                <a:gd name="textAreaTop" fmla="*/ 0 h 59400"/>
                <a:gd name="textAreaBottom" fmla="*/ 59760 h 59400"/>
              </a:gdLst>
              <a:ahLst/>
              <a:rect l="textAreaLeft" t="textAreaTop" r="textAreaRight" b="textAreaBottom"/>
              <a:pathLst>
                <a:path w="251" h="320">
                  <a:moveTo>
                    <a:pt x="0" y="320"/>
                  </a:moveTo>
                  <a:lnTo>
                    <a:pt x="0" y="0"/>
                  </a:lnTo>
                  <a:lnTo>
                    <a:pt x="104" y="0"/>
                  </a:lnTo>
                  <a:lnTo>
                    <a:pt x="120" y="0"/>
                  </a:lnTo>
                  <a:lnTo>
                    <a:pt x="135" y="1"/>
                  </a:lnTo>
                  <a:lnTo>
                    <a:pt x="148" y="2"/>
                  </a:lnTo>
                  <a:lnTo>
                    <a:pt x="158" y="4"/>
                  </a:lnTo>
                  <a:lnTo>
                    <a:pt x="171" y="9"/>
                  </a:lnTo>
                  <a:lnTo>
                    <a:pt x="183" y="14"/>
                  </a:lnTo>
                  <a:lnTo>
                    <a:pt x="193" y="20"/>
                  </a:lnTo>
                  <a:lnTo>
                    <a:pt x="203" y="28"/>
                  </a:lnTo>
                  <a:lnTo>
                    <a:pt x="215" y="39"/>
                  </a:lnTo>
                  <a:lnTo>
                    <a:pt x="224" y="52"/>
                  </a:lnTo>
                  <a:lnTo>
                    <a:pt x="233" y="66"/>
                  </a:lnTo>
                  <a:lnTo>
                    <a:pt x="239" y="82"/>
                  </a:lnTo>
                  <a:lnTo>
                    <a:pt x="244" y="100"/>
                  </a:lnTo>
                  <a:lnTo>
                    <a:pt x="248" y="118"/>
                  </a:lnTo>
                  <a:lnTo>
                    <a:pt x="251" y="137"/>
                  </a:lnTo>
                  <a:lnTo>
                    <a:pt x="251" y="158"/>
                  </a:lnTo>
                  <a:lnTo>
                    <a:pt x="251" y="176"/>
                  </a:lnTo>
                  <a:lnTo>
                    <a:pt x="250" y="192"/>
                  </a:lnTo>
                  <a:lnTo>
                    <a:pt x="246" y="208"/>
                  </a:lnTo>
                  <a:lnTo>
                    <a:pt x="243" y="223"/>
                  </a:lnTo>
                  <a:lnTo>
                    <a:pt x="239" y="236"/>
                  </a:lnTo>
                  <a:lnTo>
                    <a:pt x="234" y="248"/>
                  </a:lnTo>
                  <a:lnTo>
                    <a:pt x="228" y="260"/>
                  </a:lnTo>
                  <a:lnTo>
                    <a:pt x="222" y="269"/>
                  </a:lnTo>
                  <a:lnTo>
                    <a:pt x="216" y="278"/>
                  </a:lnTo>
                  <a:lnTo>
                    <a:pt x="209" y="286"/>
                  </a:lnTo>
                  <a:lnTo>
                    <a:pt x="202" y="293"/>
                  </a:lnTo>
                  <a:lnTo>
                    <a:pt x="194" y="298"/>
                  </a:lnTo>
                  <a:lnTo>
                    <a:pt x="186" y="303"/>
                  </a:lnTo>
                  <a:lnTo>
                    <a:pt x="178" y="307"/>
                  </a:lnTo>
                  <a:lnTo>
                    <a:pt x="168" y="312"/>
                  </a:lnTo>
                  <a:lnTo>
                    <a:pt x="158" y="314"/>
                  </a:lnTo>
                  <a:lnTo>
                    <a:pt x="147" y="317"/>
                  </a:lnTo>
                  <a:lnTo>
                    <a:pt x="135" y="318"/>
                  </a:lnTo>
                  <a:lnTo>
                    <a:pt x="122" y="319"/>
                  </a:lnTo>
                  <a:lnTo>
                    <a:pt x="109" y="320"/>
                  </a:lnTo>
                  <a:lnTo>
                    <a:pt x="0" y="320"/>
                  </a:lnTo>
                  <a:close/>
                  <a:moveTo>
                    <a:pt x="40" y="282"/>
                  </a:moveTo>
                  <a:lnTo>
                    <a:pt x="104" y="282"/>
                  </a:lnTo>
                  <a:lnTo>
                    <a:pt x="119" y="282"/>
                  </a:lnTo>
                  <a:lnTo>
                    <a:pt x="131" y="281"/>
                  </a:lnTo>
                  <a:lnTo>
                    <a:pt x="143" y="279"/>
                  </a:lnTo>
                  <a:lnTo>
                    <a:pt x="152" y="276"/>
                  </a:lnTo>
                  <a:lnTo>
                    <a:pt x="159" y="272"/>
                  </a:lnTo>
                  <a:lnTo>
                    <a:pt x="167" y="269"/>
                  </a:lnTo>
                  <a:lnTo>
                    <a:pt x="173" y="265"/>
                  </a:lnTo>
                  <a:lnTo>
                    <a:pt x="180" y="260"/>
                  </a:lnTo>
                  <a:lnTo>
                    <a:pt x="186" y="251"/>
                  </a:lnTo>
                  <a:lnTo>
                    <a:pt x="192" y="242"/>
                  </a:lnTo>
                  <a:lnTo>
                    <a:pt x="198" y="231"/>
                  </a:lnTo>
                  <a:lnTo>
                    <a:pt x="202" y="219"/>
                  </a:lnTo>
                  <a:lnTo>
                    <a:pt x="205" y="206"/>
                  </a:lnTo>
                  <a:lnTo>
                    <a:pt x="207" y="191"/>
                  </a:lnTo>
                  <a:lnTo>
                    <a:pt x="209" y="175"/>
                  </a:lnTo>
                  <a:lnTo>
                    <a:pt x="209" y="157"/>
                  </a:lnTo>
                  <a:lnTo>
                    <a:pt x="209" y="145"/>
                  </a:lnTo>
                  <a:lnTo>
                    <a:pt x="208" y="134"/>
                  </a:lnTo>
                  <a:lnTo>
                    <a:pt x="207" y="123"/>
                  </a:lnTo>
                  <a:lnTo>
                    <a:pt x="206" y="113"/>
                  </a:lnTo>
                  <a:lnTo>
                    <a:pt x="203" y="104"/>
                  </a:lnTo>
                  <a:lnTo>
                    <a:pt x="201" y="95"/>
                  </a:lnTo>
                  <a:lnTo>
                    <a:pt x="198" y="87"/>
                  </a:lnTo>
                  <a:lnTo>
                    <a:pt x="193" y="81"/>
                  </a:lnTo>
                  <a:lnTo>
                    <a:pt x="186" y="68"/>
                  </a:lnTo>
                  <a:lnTo>
                    <a:pt x="176" y="57"/>
                  </a:lnTo>
                  <a:lnTo>
                    <a:pt x="171" y="53"/>
                  </a:lnTo>
                  <a:lnTo>
                    <a:pt x="167" y="50"/>
                  </a:lnTo>
                  <a:lnTo>
                    <a:pt x="162" y="47"/>
                  </a:lnTo>
                  <a:lnTo>
                    <a:pt x="155" y="45"/>
                  </a:lnTo>
                  <a:lnTo>
                    <a:pt x="147" y="41"/>
                  </a:lnTo>
                  <a:lnTo>
                    <a:pt x="134" y="39"/>
                  </a:lnTo>
                  <a:lnTo>
                    <a:pt x="120" y="38"/>
                  </a:lnTo>
                  <a:lnTo>
                    <a:pt x="103" y="37"/>
                  </a:lnTo>
                  <a:lnTo>
                    <a:pt x="40" y="37"/>
                  </a:lnTo>
                  <a:lnTo>
                    <a:pt x="40" y="282"/>
                  </a:lnTo>
                  <a:close/>
                </a:path>
              </a:pathLst>
            </a:custGeom>
            <a:solidFill>
              <a:srgbClr val="d79f00"/>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109" name="Freeform 35"/>
            <p:cNvSpPr/>
            <p:nvPr/>
          </p:nvSpPr>
          <p:spPr>
            <a:xfrm>
              <a:off x="2635560" y="9350280"/>
              <a:ext cx="52920" cy="60480"/>
            </a:xfrm>
            <a:custGeom>
              <a:avLst/>
              <a:gdLst>
                <a:gd name="textAreaLeft" fmla="*/ 0 w 52920"/>
                <a:gd name="textAreaRight" fmla="*/ 53280 w 52920"/>
                <a:gd name="textAreaTop" fmla="*/ 0 h 60480"/>
                <a:gd name="textAreaBottom" fmla="*/ 60840 h 60480"/>
              </a:gdLst>
              <a:ahLst/>
              <a:rect l="textAreaLeft" t="textAreaTop" r="textAreaRight" b="textAreaBottom"/>
              <a:pathLst>
                <a:path w="269" h="330">
                  <a:moveTo>
                    <a:pt x="228" y="213"/>
                  </a:moveTo>
                  <a:lnTo>
                    <a:pt x="269" y="223"/>
                  </a:lnTo>
                  <a:lnTo>
                    <a:pt x="265" y="236"/>
                  </a:lnTo>
                  <a:lnTo>
                    <a:pt x="261" y="248"/>
                  </a:lnTo>
                  <a:lnTo>
                    <a:pt x="257" y="258"/>
                  </a:lnTo>
                  <a:lnTo>
                    <a:pt x="252" y="269"/>
                  </a:lnTo>
                  <a:lnTo>
                    <a:pt x="245" y="278"/>
                  </a:lnTo>
                  <a:lnTo>
                    <a:pt x="239" y="288"/>
                  </a:lnTo>
                  <a:lnTo>
                    <a:pt x="232" y="295"/>
                  </a:lnTo>
                  <a:lnTo>
                    <a:pt x="223" y="303"/>
                  </a:lnTo>
                  <a:lnTo>
                    <a:pt x="215" y="309"/>
                  </a:lnTo>
                  <a:lnTo>
                    <a:pt x="206" y="314"/>
                  </a:lnTo>
                  <a:lnTo>
                    <a:pt x="197" y="320"/>
                  </a:lnTo>
                  <a:lnTo>
                    <a:pt x="187" y="323"/>
                  </a:lnTo>
                  <a:lnTo>
                    <a:pt x="176" y="326"/>
                  </a:lnTo>
                  <a:lnTo>
                    <a:pt x="166" y="328"/>
                  </a:lnTo>
                  <a:lnTo>
                    <a:pt x="154" y="329"/>
                  </a:lnTo>
                  <a:lnTo>
                    <a:pt x="143" y="330"/>
                  </a:lnTo>
                  <a:lnTo>
                    <a:pt x="131" y="329"/>
                  </a:lnTo>
                  <a:lnTo>
                    <a:pt x="119" y="329"/>
                  </a:lnTo>
                  <a:lnTo>
                    <a:pt x="109" y="327"/>
                  </a:lnTo>
                  <a:lnTo>
                    <a:pt x="98" y="325"/>
                  </a:lnTo>
                  <a:lnTo>
                    <a:pt x="89" y="322"/>
                  </a:lnTo>
                  <a:lnTo>
                    <a:pt x="79" y="319"/>
                  </a:lnTo>
                  <a:lnTo>
                    <a:pt x="71" y="314"/>
                  </a:lnTo>
                  <a:lnTo>
                    <a:pt x="63" y="309"/>
                  </a:lnTo>
                  <a:lnTo>
                    <a:pt x="55" y="304"/>
                  </a:lnTo>
                  <a:lnTo>
                    <a:pt x="48" y="298"/>
                  </a:lnTo>
                  <a:lnTo>
                    <a:pt x="42" y="290"/>
                  </a:lnTo>
                  <a:lnTo>
                    <a:pt x="36" y="284"/>
                  </a:lnTo>
                  <a:lnTo>
                    <a:pt x="30" y="275"/>
                  </a:lnTo>
                  <a:lnTo>
                    <a:pt x="25" y="267"/>
                  </a:lnTo>
                  <a:lnTo>
                    <a:pt x="20" y="257"/>
                  </a:lnTo>
                  <a:lnTo>
                    <a:pt x="15" y="248"/>
                  </a:lnTo>
                  <a:lnTo>
                    <a:pt x="12" y="238"/>
                  </a:lnTo>
                  <a:lnTo>
                    <a:pt x="9" y="228"/>
                  </a:lnTo>
                  <a:lnTo>
                    <a:pt x="6" y="217"/>
                  </a:lnTo>
                  <a:lnTo>
                    <a:pt x="4" y="206"/>
                  </a:lnTo>
                  <a:lnTo>
                    <a:pt x="2" y="196"/>
                  </a:lnTo>
                  <a:lnTo>
                    <a:pt x="1" y="185"/>
                  </a:lnTo>
                  <a:lnTo>
                    <a:pt x="0" y="174"/>
                  </a:lnTo>
                  <a:lnTo>
                    <a:pt x="0" y="162"/>
                  </a:lnTo>
                  <a:lnTo>
                    <a:pt x="0" y="150"/>
                  </a:lnTo>
                  <a:lnTo>
                    <a:pt x="1" y="139"/>
                  </a:lnTo>
                  <a:lnTo>
                    <a:pt x="2" y="127"/>
                  </a:lnTo>
                  <a:lnTo>
                    <a:pt x="4" y="115"/>
                  </a:lnTo>
                  <a:lnTo>
                    <a:pt x="7" y="105"/>
                  </a:lnTo>
                  <a:lnTo>
                    <a:pt x="10" y="95"/>
                  </a:lnTo>
                  <a:lnTo>
                    <a:pt x="13" y="85"/>
                  </a:lnTo>
                  <a:lnTo>
                    <a:pt x="18" y="75"/>
                  </a:lnTo>
                  <a:lnTo>
                    <a:pt x="23" y="67"/>
                  </a:lnTo>
                  <a:lnTo>
                    <a:pt x="28" y="58"/>
                  </a:lnTo>
                  <a:lnTo>
                    <a:pt x="33" y="50"/>
                  </a:lnTo>
                  <a:lnTo>
                    <a:pt x="40" y="42"/>
                  </a:lnTo>
                  <a:lnTo>
                    <a:pt x="46" y="36"/>
                  </a:lnTo>
                  <a:lnTo>
                    <a:pt x="54" y="29"/>
                  </a:lnTo>
                  <a:lnTo>
                    <a:pt x="61" y="24"/>
                  </a:lnTo>
                  <a:lnTo>
                    <a:pt x="70" y="19"/>
                  </a:lnTo>
                  <a:lnTo>
                    <a:pt x="78" y="15"/>
                  </a:lnTo>
                  <a:lnTo>
                    <a:pt x="86" y="10"/>
                  </a:lnTo>
                  <a:lnTo>
                    <a:pt x="96" y="7"/>
                  </a:lnTo>
                  <a:lnTo>
                    <a:pt x="104" y="4"/>
                  </a:lnTo>
                  <a:lnTo>
                    <a:pt x="114" y="2"/>
                  </a:lnTo>
                  <a:lnTo>
                    <a:pt x="124" y="1"/>
                  </a:lnTo>
                  <a:lnTo>
                    <a:pt x="133" y="0"/>
                  </a:lnTo>
                  <a:lnTo>
                    <a:pt x="144" y="0"/>
                  </a:lnTo>
                  <a:lnTo>
                    <a:pt x="154" y="0"/>
                  </a:lnTo>
                  <a:lnTo>
                    <a:pt x="165" y="1"/>
                  </a:lnTo>
                  <a:lnTo>
                    <a:pt x="175" y="3"/>
                  </a:lnTo>
                  <a:lnTo>
                    <a:pt x="185" y="5"/>
                  </a:lnTo>
                  <a:lnTo>
                    <a:pt x="194" y="9"/>
                  </a:lnTo>
                  <a:lnTo>
                    <a:pt x="204" y="14"/>
                  </a:lnTo>
                  <a:lnTo>
                    <a:pt x="212" y="18"/>
                  </a:lnTo>
                  <a:lnTo>
                    <a:pt x="220" y="24"/>
                  </a:lnTo>
                  <a:lnTo>
                    <a:pt x="227" y="30"/>
                  </a:lnTo>
                  <a:lnTo>
                    <a:pt x="235" y="37"/>
                  </a:lnTo>
                  <a:lnTo>
                    <a:pt x="241" y="45"/>
                  </a:lnTo>
                  <a:lnTo>
                    <a:pt x="246" y="53"/>
                  </a:lnTo>
                  <a:lnTo>
                    <a:pt x="252" y="62"/>
                  </a:lnTo>
                  <a:lnTo>
                    <a:pt x="256" y="72"/>
                  </a:lnTo>
                  <a:lnTo>
                    <a:pt x="260" y="81"/>
                  </a:lnTo>
                  <a:lnTo>
                    <a:pt x="263" y="93"/>
                  </a:lnTo>
                  <a:lnTo>
                    <a:pt x="224" y="103"/>
                  </a:lnTo>
                  <a:lnTo>
                    <a:pt x="218" y="86"/>
                  </a:lnTo>
                  <a:lnTo>
                    <a:pt x="211" y="72"/>
                  </a:lnTo>
                  <a:lnTo>
                    <a:pt x="207" y="67"/>
                  </a:lnTo>
                  <a:lnTo>
                    <a:pt x="203" y="61"/>
                  </a:lnTo>
                  <a:lnTo>
                    <a:pt x="198" y="56"/>
                  </a:lnTo>
                  <a:lnTo>
                    <a:pt x="193" y="52"/>
                  </a:lnTo>
                  <a:lnTo>
                    <a:pt x="188" y="47"/>
                  </a:lnTo>
                  <a:lnTo>
                    <a:pt x="183" y="44"/>
                  </a:lnTo>
                  <a:lnTo>
                    <a:pt x="176" y="42"/>
                  </a:lnTo>
                  <a:lnTo>
                    <a:pt x="170" y="40"/>
                  </a:lnTo>
                  <a:lnTo>
                    <a:pt x="164" y="38"/>
                  </a:lnTo>
                  <a:lnTo>
                    <a:pt x="157" y="37"/>
                  </a:lnTo>
                  <a:lnTo>
                    <a:pt x="150" y="36"/>
                  </a:lnTo>
                  <a:lnTo>
                    <a:pt x="143" y="36"/>
                  </a:lnTo>
                  <a:lnTo>
                    <a:pt x="134" y="36"/>
                  </a:lnTo>
                  <a:lnTo>
                    <a:pt x="126" y="37"/>
                  </a:lnTo>
                  <a:lnTo>
                    <a:pt x="118" y="38"/>
                  </a:lnTo>
                  <a:lnTo>
                    <a:pt x="111" y="40"/>
                  </a:lnTo>
                  <a:lnTo>
                    <a:pt x="103" y="42"/>
                  </a:lnTo>
                  <a:lnTo>
                    <a:pt x="96" y="45"/>
                  </a:lnTo>
                  <a:lnTo>
                    <a:pt x="90" y="50"/>
                  </a:lnTo>
                  <a:lnTo>
                    <a:pt x="84" y="53"/>
                  </a:lnTo>
                  <a:lnTo>
                    <a:pt x="78" y="58"/>
                  </a:lnTo>
                  <a:lnTo>
                    <a:pt x="73" y="63"/>
                  </a:lnTo>
                  <a:lnTo>
                    <a:pt x="68" y="69"/>
                  </a:lnTo>
                  <a:lnTo>
                    <a:pt x="64" y="74"/>
                  </a:lnTo>
                  <a:lnTo>
                    <a:pt x="60" y="80"/>
                  </a:lnTo>
                  <a:lnTo>
                    <a:pt x="57" y="87"/>
                  </a:lnTo>
                  <a:lnTo>
                    <a:pt x="54" y="93"/>
                  </a:lnTo>
                  <a:lnTo>
                    <a:pt x="50" y="100"/>
                  </a:lnTo>
                  <a:lnTo>
                    <a:pt x="46" y="115"/>
                  </a:lnTo>
                  <a:lnTo>
                    <a:pt x="43" y="131"/>
                  </a:lnTo>
                  <a:lnTo>
                    <a:pt x="42" y="146"/>
                  </a:lnTo>
                  <a:lnTo>
                    <a:pt x="41" y="162"/>
                  </a:lnTo>
                  <a:lnTo>
                    <a:pt x="42" y="182"/>
                  </a:lnTo>
                  <a:lnTo>
                    <a:pt x="44" y="200"/>
                  </a:lnTo>
                  <a:lnTo>
                    <a:pt x="47" y="217"/>
                  </a:lnTo>
                  <a:lnTo>
                    <a:pt x="53" y="233"/>
                  </a:lnTo>
                  <a:lnTo>
                    <a:pt x="56" y="240"/>
                  </a:lnTo>
                  <a:lnTo>
                    <a:pt x="59" y="248"/>
                  </a:lnTo>
                  <a:lnTo>
                    <a:pt x="63" y="254"/>
                  </a:lnTo>
                  <a:lnTo>
                    <a:pt x="67" y="260"/>
                  </a:lnTo>
                  <a:lnTo>
                    <a:pt x="72" y="266"/>
                  </a:lnTo>
                  <a:lnTo>
                    <a:pt x="77" y="270"/>
                  </a:lnTo>
                  <a:lnTo>
                    <a:pt x="82" y="275"/>
                  </a:lnTo>
                  <a:lnTo>
                    <a:pt x="88" y="278"/>
                  </a:lnTo>
                  <a:lnTo>
                    <a:pt x="100" y="286"/>
                  </a:lnTo>
                  <a:lnTo>
                    <a:pt x="113" y="290"/>
                  </a:lnTo>
                  <a:lnTo>
                    <a:pt x="126" y="293"/>
                  </a:lnTo>
                  <a:lnTo>
                    <a:pt x="139" y="294"/>
                  </a:lnTo>
                  <a:lnTo>
                    <a:pt x="148" y="293"/>
                  </a:lnTo>
                  <a:lnTo>
                    <a:pt x="155" y="292"/>
                  </a:lnTo>
                  <a:lnTo>
                    <a:pt x="164" y="291"/>
                  </a:lnTo>
                  <a:lnTo>
                    <a:pt x="171" y="289"/>
                  </a:lnTo>
                  <a:lnTo>
                    <a:pt x="178" y="286"/>
                  </a:lnTo>
                  <a:lnTo>
                    <a:pt x="184" y="283"/>
                  </a:lnTo>
                  <a:lnTo>
                    <a:pt x="190" y="278"/>
                  </a:lnTo>
                  <a:lnTo>
                    <a:pt x="197" y="273"/>
                  </a:lnTo>
                  <a:lnTo>
                    <a:pt x="202" y="268"/>
                  </a:lnTo>
                  <a:lnTo>
                    <a:pt x="207" y="261"/>
                  </a:lnTo>
                  <a:lnTo>
                    <a:pt x="212" y="255"/>
                  </a:lnTo>
                  <a:lnTo>
                    <a:pt x="217" y="248"/>
                  </a:lnTo>
                  <a:lnTo>
                    <a:pt x="220" y="240"/>
                  </a:lnTo>
                  <a:lnTo>
                    <a:pt x="223" y="232"/>
                  </a:lnTo>
                  <a:lnTo>
                    <a:pt x="226" y="222"/>
                  </a:lnTo>
                  <a:lnTo>
                    <a:pt x="228" y="213"/>
                  </a:lnTo>
                  <a:close/>
                </a:path>
              </a:pathLst>
            </a:custGeom>
            <a:solidFill>
              <a:srgbClr val="d79f00"/>
            </a:solidFill>
            <a:ln w="0">
              <a:noFill/>
            </a:ln>
          </p:spPr>
          <p:style>
            <a:lnRef idx="0"/>
            <a:fillRef idx="0"/>
            <a:effectRef idx="0"/>
            <a:fontRef idx="minor"/>
          </p:style>
          <p:txBody>
            <a:bodyPr lIns="90000" rIns="90000" tIns="15840" bIns="15840" anchor="t">
              <a:noAutofit/>
            </a:bodyPr>
            <a:p>
              <a:pPr>
                <a:lnSpc>
                  <a:spcPct val="100000"/>
                </a:lnSpc>
              </a:pPr>
              <a:endParaRPr b="0" lang="en-US" sz="1800" spc="-1" strike="noStrike">
                <a:solidFill>
                  <a:srgbClr val="d79f00"/>
                </a:solidFill>
                <a:latin typeface="Arial"/>
                <a:ea typeface="宋体"/>
              </a:endParaRPr>
            </a:p>
          </p:txBody>
        </p:sp>
        <p:sp>
          <p:nvSpPr>
            <p:cNvPr id="110" name="Freeform 36"/>
            <p:cNvSpPr/>
            <p:nvPr/>
          </p:nvSpPr>
          <p:spPr>
            <a:xfrm>
              <a:off x="2701440" y="9350280"/>
              <a:ext cx="55800" cy="60480"/>
            </a:xfrm>
            <a:custGeom>
              <a:avLst/>
              <a:gdLst>
                <a:gd name="textAreaLeft" fmla="*/ 0 w 55800"/>
                <a:gd name="textAreaRight" fmla="*/ 56160 w 55800"/>
                <a:gd name="textAreaTop" fmla="*/ 0 h 60480"/>
                <a:gd name="textAreaBottom" fmla="*/ 60840 h 60480"/>
              </a:gdLst>
              <a:ahLst/>
              <a:rect l="textAreaLeft" t="textAreaTop" r="textAreaRight" b="textAreaBottom"/>
              <a:pathLst>
                <a:path w="291" h="331">
                  <a:moveTo>
                    <a:pt x="0" y="170"/>
                  </a:moveTo>
                  <a:lnTo>
                    <a:pt x="0" y="150"/>
                  </a:lnTo>
                  <a:lnTo>
                    <a:pt x="2" y="132"/>
                  </a:lnTo>
                  <a:lnTo>
                    <a:pt x="5" y="115"/>
                  </a:lnTo>
                  <a:lnTo>
                    <a:pt x="10" y="99"/>
                  </a:lnTo>
                  <a:lnTo>
                    <a:pt x="16" y="83"/>
                  </a:lnTo>
                  <a:lnTo>
                    <a:pt x="22" y="70"/>
                  </a:lnTo>
                  <a:lnTo>
                    <a:pt x="31" y="57"/>
                  </a:lnTo>
                  <a:lnTo>
                    <a:pt x="40" y="45"/>
                  </a:lnTo>
                  <a:lnTo>
                    <a:pt x="51" y="35"/>
                  </a:lnTo>
                  <a:lnTo>
                    <a:pt x="63" y="25"/>
                  </a:lnTo>
                  <a:lnTo>
                    <a:pt x="74" y="18"/>
                  </a:lnTo>
                  <a:lnTo>
                    <a:pt x="87" y="11"/>
                  </a:lnTo>
                  <a:lnTo>
                    <a:pt x="101" y="6"/>
                  </a:lnTo>
                  <a:lnTo>
                    <a:pt x="116" y="3"/>
                  </a:lnTo>
                  <a:lnTo>
                    <a:pt x="130" y="1"/>
                  </a:lnTo>
                  <a:lnTo>
                    <a:pt x="146" y="0"/>
                  </a:lnTo>
                  <a:lnTo>
                    <a:pt x="156" y="1"/>
                  </a:lnTo>
                  <a:lnTo>
                    <a:pt x="166" y="2"/>
                  </a:lnTo>
                  <a:lnTo>
                    <a:pt x="176" y="3"/>
                  </a:lnTo>
                  <a:lnTo>
                    <a:pt x="186" y="5"/>
                  </a:lnTo>
                  <a:lnTo>
                    <a:pt x="195" y="8"/>
                  </a:lnTo>
                  <a:lnTo>
                    <a:pt x="205" y="12"/>
                  </a:lnTo>
                  <a:lnTo>
                    <a:pt x="213" y="17"/>
                  </a:lnTo>
                  <a:lnTo>
                    <a:pt x="222" y="21"/>
                  </a:lnTo>
                  <a:lnTo>
                    <a:pt x="230" y="27"/>
                  </a:lnTo>
                  <a:lnTo>
                    <a:pt x="237" y="33"/>
                  </a:lnTo>
                  <a:lnTo>
                    <a:pt x="245" y="40"/>
                  </a:lnTo>
                  <a:lnTo>
                    <a:pt x="252" y="46"/>
                  </a:lnTo>
                  <a:lnTo>
                    <a:pt x="258" y="55"/>
                  </a:lnTo>
                  <a:lnTo>
                    <a:pt x="264" y="62"/>
                  </a:lnTo>
                  <a:lnTo>
                    <a:pt x="269" y="71"/>
                  </a:lnTo>
                  <a:lnTo>
                    <a:pt x="273" y="80"/>
                  </a:lnTo>
                  <a:lnTo>
                    <a:pt x="278" y="90"/>
                  </a:lnTo>
                  <a:lnTo>
                    <a:pt x="281" y="100"/>
                  </a:lnTo>
                  <a:lnTo>
                    <a:pt x="284" y="110"/>
                  </a:lnTo>
                  <a:lnTo>
                    <a:pt x="287" y="120"/>
                  </a:lnTo>
                  <a:lnTo>
                    <a:pt x="289" y="131"/>
                  </a:lnTo>
                  <a:lnTo>
                    <a:pt x="290" y="143"/>
                  </a:lnTo>
                  <a:lnTo>
                    <a:pt x="291" y="154"/>
                  </a:lnTo>
                  <a:lnTo>
                    <a:pt x="291" y="166"/>
                  </a:lnTo>
                  <a:lnTo>
                    <a:pt x="291" y="178"/>
                  </a:lnTo>
                  <a:lnTo>
                    <a:pt x="290" y="189"/>
                  </a:lnTo>
                  <a:lnTo>
                    <a:pt x="288" y="201"/>
                  </a:lnTo>
                  <a:lnTo>
                    <a:pt x="287" y="213"/>
                  </a:lnTo>
                  <a:lnTo>
                    <a:pt x="284" y="223"/>
                  </a:lnTo>
                  <a:lnTo>
                    <a:pt x="281" y="234"/>
                  </a:lnTo>
                  <a:lnTo>
                    <a:pt x="277" y="243"/>
                  </a:lnTo>
                  <a:lnTo>
                    <a:pt x="272" y="253"/>
                  </a:lnTo>
                  <a:lnTo>
                    <a:pt x="268" y="262"/>
                  </a:lnTo>
                  <a:lnTo>
                    <a:pt x="263" y="271"/>
                  </a:lnTo>
                  <a:lnTo>
                    <a:pt x="257" y="279"/>
                  </a:lnTo>
                  <a:lnTo>
                    <a:pt x="250" y="287"/>
                  </a:lnTo>
                  <a:lnTo>
                    <a:pt x="243" y="294"/>
                  </a:lnTo>
                  <a:lnTo>
                    <a:pt x="236" y="301"/>
                  </a:lnTo>
                  <a:lnTo>
                    <a:pt x="228" y="306"/>
                  </a:lnTo>
                  <a:lnTo>
                    <a:pt x="219" y="311"/>
                  </a:lnTo>
                  <a:lnTo>
                    <a:pt x="211" y="315"/>
                  </a:lnTo>
                  <a:lnTo>
                    <a:pt x="202" y="320"/>
                  </a:lnTo>
                  <a:lnTo>
                    <a:pt x="193" y="323"/>
                  </a:lnTo>
                  <a:lnTo>
                    <a:pt x="184" y="326"/>
                  </a:lnTo>
                  <a:lnTo>
                    <a:pt x="175" y="328"/>
                  </a:lnTo>
                  <a:lnTo>
                    <a:pt x="165" y="330"/>
                  </a:lnTo>
                  <a:lnTo>
                    <a:pt x="156" y="330"/>
                  </a:lnTo>
                  <a:lnTo>
                    <a:pt x="145" y="331"/>
                  </a:lnTo>
                  <a:lnTo>
                    <a:pt x="135" y="330"/>
                  </a:lnTo>
                  <a:lnTo>
                    <a:pt x="125" y="329"/>
                  </a:lnTo>
                  <a:lnTo>
                    <a:pt x="115" y="328"/>
                  </a:lnTo>
                  <a:lnTo>
                    <a:pt x="105" y="326"/>
                  </a:lnTo>
                  <a:lnTo>
                    <a:pt x="96" y="323"/>
                  </a:lnTo>
                  <a:lnTo>
                    <a:pt x="86" y="319"/>
                  </a:lnTo>
                  <a:lnTo>
                    <a:pt x="78" y="314"/>
                  </a:lnTo>
                  <a:lnTo>
                    <a:pt x="69" y="309"/>
                  </a:lnTo>
                  <a:lnTo>
                    <a:pt x="61" y="304"/>
                  </a:lnTo>
                  <a:lnTo>
                    <a:pt x="53" y="297"/>
                  </a:lnTo>
                  <a:lnTo>
                    <a:pt x="46" y="291"/>
                  </a:lnTo>
                  <a:lnTo>
                    <a:pt x="39" y="284"/>
                  </a:lnTo>
                  <a:lnTo>
                    <a:pt x="33" y="276"/>
                  </a:lnTo>
                  <a:lnTo>
                    <a:pt x="28" y="268"/>
                  </a:lnTo>
                  <a:lnTo>
                    <a:pt x="22" y="259"/>
                  </a:lnTo>
                  <a:lnTo>
                    <a:pt x="17" y="250"/>
                  </a:lnTo>
                  <a:lnTo>
                    <a:pt x="13" y="240"/>
                  </a:lnTo>
                  <a:lnTo>
                    <a:pt x="10" y="231"/>
                  </a:lnTo>
                  <a:lnTo>
                    <a:pt x="7" y="221"/>
                  </a:lnTo>
                  <a:lnTo>
                    <a:pt x="4" y="211"/>
                  </a:lnTo>
                  <a:lnTo>
                    <a:pt x="2" y="201"/>
                  </a:lnTo>
                  <a:lnTo>
                    <a:pt x="1" y="190"/>
                  </a:lnTo>
                  <a:lnTo>
                    <a:pt x="0" y="180"/>
                  </a:lnTo>
                  <a:lnTo>
                    <a:pt x="0" y="170"/>
                  </a:lnTo>
                  <a:close/>
                  <a:moveTo>
                    <a:pt x="41" y="170"/>
                  </a:moveTo>
                  <a:lnTo>
                    <a:pt x="43" y="185"/>
                  </a:lnTo>
                  <a:lnTo>
                    <a:pt x="44" y="198"/>
                  </a:lnTo>
                  <a:lnTo>
                    <a:pt x="46" y="211"/>
                  </a:lnTo>
                  <a:lnTo>
                    <a:pt x="49" y="222"/>
                  </a:lnTo>
                  <a:lnTo>
                    <a:pt x="53" y="233"/>
                  </a:lnTo>
                  <a:lnTo>
                    <a:pt x="58" y="243"/>
                  </a:lnTo>
                  <a:lnTo>
                    <a:pt x="64" y="253"/>
                  </a:lnTo>
                  <a:lnTo>
                    <a:pt x="71" y="261"/>
                  </a:lnTo>
                  <a:lnTo>
                    <a:pt x="79" y="270"/>
                  </a:lnTo>
                  <a:lnTo>
                    <a:pt x="87" y="276"/>
                  </a:lnTo>
                  <a:lnTo>
                    <a:pt x="96" y="282"/>
                  </a:lnTo>
                  <a:lnTo>
                    <a:pt x="105" y="287"/>
                  </a:lnTo>
                  <a:lnTo>
                    <a:pt x="115" y="290"/>
                  </a:lnTo>
                  <a:lnTo>
                    <a:pt x="124" y="293"/>
                  </a:lnTo>
                  <a:lnTo>
                    <a:pt x="135" y="294"/>
                  </a:lnTo>
                  <a:lnTo>
                    <a:pt x="145" y="295"/>
                  </a:lnTo>
                  <a:lnTo>
                    <a:pt x="157" y="294"/>
                  </a:lnTo>
                  <a:lnTo>
                    <a:pt x="168" y="293"/>
                  </a:lnTo>
                  <a:lnTo>
                    <a:pt x="177" y="290"/>
                  </a:lnTo>
                  <a:lnTo>
                    <a:pt x="187" y="287"/>
                  </a:lnTo>
                  <a:lnTo>
                    <a:pt x="196" y="282"/>
                  </a:lnTo>
                  <a:lnTo>
                    <a:pt x="205" y="276"/>
                  </a:lnTo>
                  <a:lnTo>
                    <a:pt x="213" y="269"/>
                  </a:lnTo>
                  <a:lnTo>
                    <a:pt x="220" y="261"/>
                  </a:lnTo>
                  <a:lnTo>
                    <a:pt x="227" y="253"/>
                  </a:lnTo>
                  <a:lnTo>
                    <a:pt x="233" y="242"/>
                  </a:lnTo>
                  <a:lnTo>
                    <a:pt x="238" y="232"/>
                  </a:lnTo>
                  <a:lnTo>
                    <a:pt x="243" y="221"/>
                  </a:lnTo>
                  <a:lnTo>
                    <a:pt x="246" y="208"/>
                  </a:lnTo>
                  <a:lnTo>
                    <a:pt x="248" y="195"/>
                  </a:lnTo>
                  <a:lnTo>
                    <a:pt x="249" y="181"/>
                  </a:lnTo>
                  <a:lnTo>
                    <a:pt x="250" y="166"/>
                  </a:lnTo>
                  <a:lnTo>
                    <a:pt x="249" y="147"/>
                  </a:lnTo>
                  <a:lnTo>
                    <a:pt x="247" y="129"/>
                  </a:lnTo>
                  <a:lnTo>
                    <a:pt x="243" y="113"/>
                  </a:lnTo>
                  <a:lnTo>
                    <a:pt x="237" y="98"/>
                  </a:lnTo>
                  <a:lnTo>
                    <a:pt x="230" y="84"/>
                  </a:lnTo>
                  <a:lnTo>
                    <a:pt x="222" y="72"/>
                  </a:lnTo>
                  <a:lnTo>
                    <a:pt x="217" y="66"/>
                  </a:lnTo>
                  <a:lnTo>
                    <a:pt x="212" y="61"/>
                  </a:lnTo>
                  <a:lnTo>
                    <a:pt x="207" y="57"/>
                  </a:lnTo>
                  <a:lnTo>
                    <a:pt x="200" y="53"/>
                  </a:lnTo>
                  <a:lnTo>
                    <a:pt x="188" y="45"/>
                  </a:lnTo>
                  <a:lnTo>
                    <a:pt x="175" y="41"/>
                  </a:lnTo>
                  <a:lnTo>
                    <a:pt x="161" y="38"/>
                  </a:lnTo>
                  <a:lnTo>
                    <a:pt x="146" y="37"/>
                  </a:lnTo>
                  <a:lnTo>
                    <a:pt x="136" y="37"/>
                  </a:lnTo>
                  <a:lnTo>
                    <a:pt x="125" y="39"/>
                  </a:lnTo>
                  <a:lnTo>
                    <a:pt x="116" y="41"/>
                  </a:lnTo>
                  <a:lnTo>
                    <a:pt x="106" y="44"/>
                  </a:lnTo>
                  <a:lnTo>
                    <a:pt x="98" y="48"/>
                  </a:lnTo>
                  <a:lnTo>
                    <a:pt x="88" y="54"/>
                  </a:lnTo>
                  <a:lnTo>
                    <a:pt x="81" y="60"/>
                  </a:lnTo>
                  <a:lnTo>
                    <a:pt x="72" y="68"/>
                  </a:lnTo>
                  <a:lnTo>
                    <a:pt x="65" y="76"/>
                  </a:lnTo>
                  <a:lnTo>
                    <a:pt x="58" y="86"/>
                  </a:lnTo>
                  <a:lnTo>
                    <a:pt x="53" y="96"/>
                  </a:lnTo>
                  <a:lnTo>
                    <a:pt x="49" y="109"/>
                  </a:lnTo>
                  <a:lnTo>
                    <a:pt x="46" y="123"/>
                  </a:lnTo>
                  <a:lnTo>
                    <a:pt x="44" y="137"/>
                  </a:lnTo>
                  <a:lnTo>
                    <a:pt x="43" y="153"/>
                  </a:lnTo>
                  <a:lnTo>
                    <a:pt x="41" y="170"/>
                  </a:lnTo>
                  <a:close/>
                </a:path>
              </a:pathLst>
            </a:custGeom>
            <a:solidFill>
              <a:srgbClr val="d79f00"/>
            </a:solidFill>
            <a:ln w="0">
              <a:noFill/>
            </a:ln>
          </p:spPr>
          <p:style>
            <a:lnRef idx="0"/>
            <a:fillRef idx="0"/>
            <a:effectRef idx="0"/>
            <a:fontRef idx="minor"/>
          </p:style>
          <p:txBody>
            <a:bodyPr lIns="90000" rIns="90000" tIns="15840" bIns="15840" anchor="t">
              <a:noAutofit/>
            </a:bodyPr>
            <a:p>
              <a:pPr>
                <a:lnSpc>
                  <a:spcPct val="100000"/>
                </a:lnSpc>
              </a:pPr>
              <a:endParaRPr b="0" lang="en-US" sz="1800" spc="-1" strike="noStrike">
                <a:solidFill>
                  <a:srgbClr val="d79f00"/>
                </a:solidFill>
                <a:latin typeface="Arial"/>
                <a:ea typeface="宋体"/>
              </a:endParaRPr>
            </a:p>
          </p:txBody>
        </p:sp>
        <p:sp>
          <p:nvSpPr>
            <p:cNvPr id="111" name="Freeform 37"/>
            <p:cNvSpPr/>
            <p:nvPr/>
          </p:nvSpPr>
          <p:spPr>
            <a:xfrm>
              <a:off x="2772360" y="9351360"/>
              <a:ext cx="36720" cy="59400"/>
            </a:xfrm>
            <a:custGeom>
              <a:avLst/>
              <a:gdLst>
                <a:gd name="textAreaLeft" fmla="*/ 0 w 36720"/>
                <a:gd name="textAreaRight" fmla="*/ 37080 w 36720"/>
                <a:gd name="textAreaTop" fmla="*/ 0 h 59400"/>
                <a:gd name="textAreaBottom" fmla="*/ 59760 h 59400"/>
              </a:gdLst>
              <a:ahLst/>
              <a:rect l="textAreaLeft" t="textAreaTop" r="textAreaRight" b="textAreaBottom"/>
              <a:pathLst>
                <a:path w="189" h="320">
                  <a:moveTo>
                    <a:pt x="0" y="320"/>
                  </a:moveTo>
                  <a:lnTo>
                    <a:pt x="0" y="0"/>
                  </a:lnTo>
                  <a:lnTo>
                    <a:pt x="40" y="0"/>
                  </a:lnTo>
                  <a:lnTo>
                    <a:pt x="40" y="282"/>
                  </a:lnTo>
                  <a:lnTo>
                    <a:pt x="189" y="282"/>
                  </a:lnTo>
                  <a:lnTo>
                    <a:pt x="189" y="320"/>
                  </a:lnTo>
                  <a:lnTo>
                    <a:pt x="0" y="320"/>
                  </a:lnTo>
                  <a:close/>
                </a:path>
              </a:pathLst>
            </a:custGeom>
            <a:solidFill>
              <a:srgbClr val="d79f00"/>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112" name="Freeform 38"/>
            <p:cNvSpPr/>
            <p:nvPr/>
          </p:nvSpPr>
          <p:spPr>
            <a:xfrm>
              <a:off x="2824560" y="9351360"/>
              <a:ext cx="36720" cy="59400"/>
            </a:xfrm>
            <a:custGeom>
              <a:avLst/>
              <a:gdLst>
                <a:gd name="textAreaLeft" fmla="*/ 0 w 36720"/>
                <a:gd name="textAreaRight" fmla="*/ 37080 w 36720"/>
                <a:gd name="textAreaTop" fmla="*/ 0 h 59400"/>
                <a:gd name="textAreaBottom" fmla="*/ 59760 h 59400"/>
              </a:gdLst>
              <a:ahLst/>
              <a:rect l="textAreaLeft" t="textAreaTop" r="textAreaRight" b="textAreaBottom"/>
              <a:pathLst>
                <a:path w="191" h="320">
                  <a:moveTo>
                    <a:pt x="0" y="320"/>
                  </a:moveTo>
                  <a:lnTo>
                    <a:pt x="0" y="0"/>
                  </a:lnTo>
                  <a:lnTo>
                    <a:pt x="42" y="0"/>
                  </a:lnTo>
                  <a:lnTo>
                    <a:pt x="42" y="282"/>
                  </a:lnTo>
                  <a:lnTo>
                    <a:pt x="191" y="282"/>
                  </a:lnTo>
                  <a:lnTo>
                    <a:pt x="191" y="320"/>
                  </a:lnTo>
                  <a:lnTo>
                    <a:pt x="0" y="320"/>
                  </a:lnTo>
                  <a:close/>
                </a:path>
              </a:pathLst>
            </a:custGeom>
            <a:solidFill>
              <a:srgbClr val="d79f00"/>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113" name="Freeform 39"/>
            <p:cNvSpPr/>
            <p:nvPr/>
          </p:nvSpPr>
          <p:spPr>
            <a:xfrm>
              <a:off x="2869560" y="9351360"/>
              <a:ext cx="54360" cy="59400"/>
            </a:xfrm>
            <a:custGeom>
              <a:avLst/>
              <a:gdLst>
                <a:gd name="textAreaLeft" fmla="*/ 0 w 54360"/>
                <a:gd name="textAreaRight" fmla="*/ 54720 w 54360"/>
                <a:gd name="textAreaTop" fmla="*/ 0 h 59400"/>
                <a:gd name="textAreaBottom" fmla="*/ 59760 h 59400"/>
              </a:gdLst>
              <a:ahLst/>
              <a:rect l="textAreaLeft" t="textAreaTop" r="textAreaRight" b="textAreaBottom"/>
              <a:pathLst>
                <a:path w="285" h="320">
                  <a:moveTo>
                    <a:pt x="0" y="320"/>
                  </a:moveTo>
                  <a:lnTo>
                    <a:pt x="118" y="0"/>
                  </a:lnTo>
                  <a:lnTo>
                    <a:pt x="161" y="0"/>
                  </a:lnTo>
                  <a:lnTo>
                    <a:pt x="285" y="320"/>
                  </a:lnTo>
                  <a:lnTo>
                    <a:pt x="240" y="320"/>
                  </a:lnTo>
                  <a:lnTo>
                    <a:pt x="204" y="223"/>
                  </a:lnTo>
                  <a:lnTo>
                    <a:pt x="77" y="223"/>
                  </a:lnTo>
                  <a:lnTo>
                    <a:pt x="44" y="320"/>
                  </a:lnTo>
                  <a:lnTo>
                    <a:pt x="0" y="320"/>
                  </a:lnTo>
                  <a:close/>
                  <a:moveTo>
                    <a:pt x="88" y="189"/>
                  </a:moveTo>
                  <a:lnTo>
                    <a:pt x="192" y="189"/>
                  </a:lnTo>
                  <a:lnTo>
                    <a:pt x="160" y="100"/>
                  </a:lnTo>
                  <a:lnTo>
                    <a:pt x="153" y="81"/>
                  </a:lnTo>
                  <a:lnTo>
                    <a:pt x="147" y="63"/>
                  </a:lnTo>
                  <a:lnTo>
                    <a:pt x="142" y="48"/>
                  </a:lnTo>
                  <a:lnTo>
                    <a:pt x="138" y="33"/>
                  </a:lnTo>
                  <a:lnTo>
                    <a:pt x="135" y="49"/>
                  </a:lnTo>
                  <a:lnTo>
                    <a:pt x="132" y="64"/>
                  </a:lnTo>
                  <a:lnTo>
                    <a:pt x="126" y="80"/>
                  </a:lnTo>
                  <a:lnTo>
                    <a:pt x="122" y="94"/>
                  </a:lnTo>
                  <a:lnTo>
                    <a:pt x="88" y="189"/>
                  </a:lnTo>
                  <a:close/>
                </a:path>
              </a:pathLst>
            </a:custGeom>
            <a:solidFill>
              <a:srgbClr val="d79f00"/>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114" name="Freeform 40"/>
            <p:cNvSpPr/>
            <p:nvPr/>
          </p:nvSpPr>
          <p:spPr>
            <a:xfrm>
              <a:off x="2936880" y="9351360"/>
              <a:ext cx="51840" cy="59400"/>
            </a:xfrm>
            <a:custGeom>
              <a:avLst/>
              <a:gdLst>
                <a:gd name="textAreaLeft" fmla="*/ 0 w 51840"/>
                <a:gd name="textAreaRight" fmla="*/ 52200 w 51840"/>
                <a:gd name="textAreaTop" fmla="*/ 0 h 59400"/>
                <a:gd name="textAreaBottom" fmla="*/ 59760 h 59400"/>
              </a:gdLst>
              <a:ahLst/>
              <a:rect l="textAreaLeft" t="textAreaTop" r="textAreaRight" b="textAreaBottom"/>
              <a:pathLst>
                <a:path w="268" h="320">
                  <a:moveTo>
                    <a:pt x="0" y="320"/>
                  </a:moveTo>
                  <a:lnTo>
                    <a:pt x="0" y="0"/>
                  </a:lnTo>
                  <a:lnTo>
                    <a:pt x="135" y="0"/>
                  </a:lnTo>
                  <a:lnTo>
                    <a:pt x="154" y="0"/>
                  </a:lnTo>
                  <a:lnTo>
                    <a:pt x="171" y="2"/>
                  </a:lnTo>
                  <a:lnTo>
                    <a:pt x="186" y="4"/>
                  </a:lnTo>
                  <a:lnTo>
                    <a:pt x="197" y="9"/>
                  </a:lnTo>
                  <a:lnTo>
                    <a:pt x="207" y="14"/>
                  </a:lnTo>
                  <a:lnTo>
                    <a:pt x="217" y="20"/>
                  </a:lnTo>
                  <a:lnTo>
                    <a:pt x="224" y="29"/>
                  </a:lnTo>
                  <a:lnTo>
                    <a:pt x="231" y="39"/>
                  </a:lnTo>
                  <a:lnTo>
                    <a:pt x="237" y="50"/>
                  </a:lnTo>
                  <a:lnTo>
                    <a:pt x="241" y="62"/>
                  </a:lnTo>
                  <a:lnTo>
                    <a:pt x="243" y="74"/>
                  </a:lnTo>
                  <a:lnTo>
                    <a:pt x="244" y="87"/>
                  </a:lnTo>
                  <a:lnTo>
                    <a:pt x="243" y="95"/>
                  </a:lnTo>
                  <a:lnTo>
                    <a:pt x="242" y="104"/>
                  </a:lnTo>
                  <a:lnTo>
                    <a:pt x="241" y="111"/>
                  </a:lnTo>
                  <a:lnTo>
                    <a:pt x="239" y="119"/>
                  </a:lnTo>
                  <a:lnTo>
                    <a:pt x="236" y="125"/>
                  </a:lnTo>
                  <a:lnTo>
                    <a:pt x="231" y="133"/>
                  </a:lnTo>
                  <a:lnTo>
                    <a:pt x="227" y="139"/>
                  </a:lnTo>
                  <a:lnTo>
                    <a:pt x="223" y="144"/>
                  </a:lnTo>
                  <a:lnTo>
                    <a:pt x="217" y="151"/>
                  </a:lnTo>
                  <a:lnTo>
                    <a:pt x="211" y="155"/>
                  </a:lnTo>
                  <a:lnTo>
                    <a:pt x="204" y="160"/>
                  </a:lnTo>
                  <a:lnTo>
                    <a:pt x="196" y="163"/>
                  </a:lnTo>
                  <a:lnTo>
                    <a:pt x="188" y="167"/>
                  </a:lnTo>
                  <a:lnTo>
                    <a:pt x="178" y="170"/>
                  </a:lnTo>
                  <a:lnTo>
                    <a:pt x="169" y="173"/>
                  </a:lnTo>
                  <a:lnTo>
                    <a:pt x="158" y="174"/>
                  </a:lnTo>
                  <a:lnTo>
                    <a:pt x="172" y="182"/>
                  </a:lnTo>
                  <a:lnTo>
                    <a:pt x="183" y="190"/>
                  </a:lnTo>
                  <a:lnTo>
                    <a:pt x="191" y="199"/>
                  </a:lnTo>
                  <a:lnTo>
                    <a:pt x="200" y="209"/>
                  </a:lnTo>
                  <a:lnTo>
                    <a:pt x="208" y="220"/>
                  </a:lnTo>
                  <a:lnTo>
                    <a:pt x="215" y="232"/>
                  </a:lnTo>
                  <a:lnTo>
                    <a:pt x="268" y="320"/>
                  </a:lnTo>
                  <a:lnTo>
                    <a:pt x="218" y="320"/>
                  </a:lnTo>
                  <a:lnTo>
                    <a:pt x="177" y="253"/>
                  </a:lnTo>
                  <a:lnTo>
                    <a:pt x="169" y="240"/>
                  </a:lnTo>
                  <a:lnTo>
                    <a:pt x="161" y="228"/>
                  </a:lnTo>
                  <a:lnTo>
                    <a:pt x="155" y="217"/>
                  </a:lnTo>
                  <a:lnTo>
                    <a:pt x="149" y="209"/>
                  </a:lnTo>
                  <a:lnTo>
                    <a:pt x="142" y="202"/>
                  </a:lnTo>
                  <a:lnTo>
                    <a:pt x="138" y="196"/>
                  </a:lnTo>
                  <a:lnTo>
                    <a:pt x="133" y="191"/>
                  </a:lnTo>
                  <a:lnTo>
                    <a:pt x="128" y="188"/>
                  </a:lnTo>
                  <a:lnTo>
                    <a:pt x="119" y="182"/>
                  </a:lnTo>
                  <a:lnTo>
                    <a:pt x="110" y="179"/>
                  </a:lnTo>
                  <a:lnTo>
                    <a:pt x="101" y="178"/>
                  </a:lnTo>
                  <a:lnTo>
                    <a:pt x="87" y="178"/>
                  </a:lnTo>
                  <a:lnTo>
                    <a:pt x="41" y="178"/>
                  </a:lnTo>
                  <a:lnTo>
                    <a:pt x="41" y="320"/>
                  </a:lnTo>
                  <a:lnTo>
                    <a:pt x="0" y="320"/>
                  </a:lnTo>
                  <a:close/>
                  <a:moveTo>
                    <a:pt x="41" y="141"/>
                  </a:moveTo>
                  <a:lnTo>
                    <a:pt x="128" y="141"/>
                  </a:lnTo>
                  <a:lnTo>
                    <a:pt x="140" y="141"/>
                  </a:lnTo>
                  <a:lnTo>
                    <a:pt x="152" y="140"/>
                  </a:lnTo>
                  <a:lnTo>
                    <a:pt x="161" y="138"/>
                  </a:lnTo>
                  <a:lnTo>
                    <a:pt x="170" y="135"/>
                  </a:lnTo>
                  <a:lnTo>
                    <a:pt x="177" y="131"/>
                  </a:lnTo>
                  <a:lnTo>
                    <a:pt x="184" y="127"/>
                  </a:lnTo>
                  <a:lnTo>
                    <a:pt x="189" y="122"/>
                  </a:lnTo>
                  <a:lnTo>
                    <a:pt x="194" y="116"/>
                  </a:lnTo>
                  <a:lnTo>
                    <a:pt x="197" y="109"/>
                  </a:lnTo>
                  <a:lnTo>
                    <a:pt x="200" y="102"/>
                  </a:lnTo>
                  <a:lnTo>
                    <a:pt x="202" y="94"/>
                  </a:lnTo>
                  <a:lnTo>
                    <a:pt x="202" y="87"/>
                  </a:lnTo>
                  <a:lnTo>
                    <a:pt x="201" y="76"/>
                  </a:lnTo>
                  <a:lnTo>
                    <a:pt x="199" y="67"/>
                  </a:lnTo>
                  <a:lnTo>
                    <a:pt x="196" y="62"/>
                  </a:lnTo>
                  <a:lnTo>
                    <a:pt x="193" y="57"/>
                  </a:lnTo>
                  <a:lnTo>
                    <a:pt x="190" y="54"/>
                  </a:lnTo>
                  <a:lnTo>
                    <a:pt x="187" y="50"/>
                  </a:lnTo>
                  <a:lnTo>
                    <a:pt x="183" y="47"/>
                  </a:lnTo>
                  <a:lnTo>
                    <a:pt x="177" y="43"/>
                  </a:lnTo>
                  <a:lnTo>
                    <a:pt x="172" y="41"/>
                  </a:lnTo>
                  <a:lnTo>
                    <a:pt x="166" y="39"/>
                  </a:lnTo>
                  <a:lnTo>
                    <a:pt x="153" y="36"/>
                  </a:lnTo>
                  <a:lnTo>
                    <a:pt x="137" y="35"/>
                  </a:lnTo>
                  <a:lnTo>
                    <a:pt x="41" y="35"/>
                  </a:lnTo>
                  <a:lnTo>
                    <a:pt x="41" y="141"/>
                  </a:lnTo>
                  <a:close/>
                </a:path>
              </a:pathLst>
            </a:custGeom>
            <a:solidFill>
              <a:srgbClr val="d79f00"/>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115" name="Freeform 41"/>
            <p:cNvSpPr/>
            <p:nvPr/>
          </p:nvSpPr>
          <p:spPr>
            <a:xfrm>
              <a:off x="3027240" y="9351360"/>
              <a:ext cx="43560" cy="59400"/>
            </a:xfrm>
            <a:custGeom>
              <a:avLst/>
              <a:gdLst>
                <a:gd name="textAreaLeft" fmla="*/ 0 w 43560"/>
                <a:gd name="textAreaRight" fmla="*/ 43920 w 43560"/>
                <a:gd name="textAreaTop" fmla="*/ 0 h 59400"/>
                <a:gd name="textAreaBottom" fmla="*/ 59760 h 59400"/>
              </a:gdLst>
              <a:ahLst/>
              <a:rect l="textAreaLeft" t="textAreaTop" r="textAreaRight" b="textAreaBottom"/>
              <a:pathLst>
                <a:path w="228" h="320">
                  <a:moveTo>
                    <a:pt x="0" y="320"/>
                  </a:moveTo>
                  <a:lnTo>
                    <a:pt x="0" y="0"/>
                  </a:lnTo>
                  <a:lnTo>
                    <a:pt x="220" y="0"/>
                  </a:lnTo>
                  <a:lnTo>
                    <a:pt x="220" y="37"/>
                  </a:lnTo>
                  <a:lnTo>
                    <a:pt x="40" y="37"/>
                  </a:lnTo>
                  <a:lnTo>
                    <a:pt x="40" y="136"/>
                  </a:lnTo>
                  <a:lnTo>
                    <a:pt x="209" y="136"/>
                  </a:lnTo>
                  <a:lnTo>
                    <a:pt x="209" y="173"/>
                  </a:lnTo>
                  <a:lnTo>
                    <a:pt x="40" y="173"/>
                  </a:lnTo>
                  <a:lnTo>
                    <a:pt x="40" y="282"/>
                  </a:lnTo>
                  <a:lnTo>
                    <a:pt x="228" y="282"/>
                  </a:lnTo>
                  <a:lnTo>
                    <a:pt x="228" y="320"/>
                  </a:lnTo>
                  <a:lnTo>
                    <a:pt x="0" y="320"/>
                  </a:lnTo>
                  <a:close/>
                </a:path>
              </a:pathLst>
            </a:custGeom>
            <a:solidFill>
              <a:srgbClr val="d79f00"/>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116" name="Freeform 42"/>
            <p:cNvSpPr/>
            <p:nvPr/>
          </p:nvSpPr>
          <p:spPr>
            <a:xfrm>
              <a:off x="3087360" y="9351360"/>
              <a:ext cx="46080" cy="59400"/>
            </a:xfrm>
            <a:custGeom>
              <a:avLst/>
              <a:gdLst>
                <a:gd name="textAreaLeft" fmla="*/ 0 w 46080"/>
                <a:gd name="textAreaRight" fmla="*/ 46440 w 46080"/>
                <a:gd name="textAreaTop" fmla="*/ 0 h 59400"/>
                <a:gd name="textAreaBottom" fmla="*/ 59760 h 59400"/>
              </a:gdLst>
              <a:ahLst/>
              <a:rect l="textAreaLeft" t="textAreaTop" r="textAreaRight" b="textAreaBottom"/>
              <a:pathLst>
                <a:path w="241" h="320">
                  <a:moveTo>
                    <a:pt x="0" y="320"/>
                  </a:moveTo>
                  <a:lnTo>
                    <a:pt x="0" y="0"/>
                  </a:lnTo>
                  <a:lnTo>
                    <a:pt x="42" y="0"/>
                  </a:lnTo>
                  <a:lnTo>
                    <a:pt x="202" y="251"/>
                  </a:lnTo>
                  <a:lnTo>
                    <a:pt x="202" y="0"/>
                  </a:lnTo>
                  <a:lnTo>
                    <a:pt x="241" y="0"/>
                  </a:lnTo>
                  <a:lnTo>
                    <a:pt x="241" y="320"/>
                  </a:lnTo>
                  <a:lnTo>
                    <a:pt x="200" y="320"/>
                  </a:lnTo>
                  <a:lnTo>
                    <a:pt x="40" y="68"/>
                  </a:lnTo>
                  <a:lnTo>
                    <a:pt x="40" y="320"/>
                  </a:lnTo>
                  <a:lnTo>
                    <a:pt x="0" y="320"/>
                  </a:lnTo>
                  <a:close/>
                </a:path>
              </a:pathLst>
            </a:custGeom>
            <a:solidFill>
              <a:srgbClr val="d79f00"/>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117" name="Freeform 43"/>
            <p:cNvSpPr/>
            <p:nvPr/>
          </p:nvSpPr>
          <p:spPr>
            <a:xfrm>
              <a:off x="3147480" y="9351360"/>
              <a:ext cx="47520" cy="59400"/>
            </a:xfrm>
            <a:custGeom>
              <a:avLst/>
              <a:gdLst>
                <a:gd name="textAreaLeft" fmla="*/ 0 w 47520"/>
                <a:gd name="textAreaRight" fmla="*/ 47880 w 47520"/>
                <a:gd name="textAreaTop" fmla="*/ 0 h 59400"/>
                <a:gd name="textAreaBottom" fmla="*/ 59760 h 59400"/>
              </a:gdLst>
              <a:ahLst/>
              <a:rect l="textAreaLeft" t="textAreaTop" r="textAreaRight" b="textAreaBottom"/>
              <a:pathLst>
                <a:path w="241" h="320">
                  <a:moveTo>
                    <a:pt x="99" y="320"/>
                  </a:moveTo>
                  <a:lnTo>
                    <a:pt x="99" y="37"/>
                  </a:lnTo>
                  <a:lnTo>
                    <a:pt x="0" y="37"/>
                  </a:lnTo>
                  <a:lnTo>
                    <a:pt x="0" y="0"/>
                  </a:lnTo>
                  <a:lnTo>
                    <a:pt x="241" y="0"/>
                  </a:lnTo>
                  <a:lnTo>
                    <a:pt x="241" y="37"/>
                  </a:lnTo>
                  <a:lnTo>
                    <a:pt x="140" y="37"/>
                  </a:lnTo>
                  <a:lnTo>
                    <a:pt x="140" y="320"/>
                  </a:lnTo>
                  <a:lnTo>
                    <a:pt x="99" y="320"/>
                  </a:lnTo>
                  <a:close/>
                </a:path>
              </a:pathLst>
            </a:custGeom>
            <a:solidFill>
              <a:srgbClr val="d79f00"/>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118" name="Freeform 44"/>
            <p:cNvSpPr/>
            <p:nvPr/>
          </p:nvSpPr>
          <p:spPr>
            <a:xfrm>
              <a:off x="3207960" y="9351360"/>
              <a:ext cx="45000" cy="59400"/>
            </a:xfrm>
            <a:custGeom>
              <a:avLst/>
              <a:gdLst>
                <a:gd name="textAreaLeft" fmla="*/ 0 w 45000"/>
                <a:gd name="textAreaRight" fmla="*/ 45360 w 45000"/>
                <a:gd name="textAreaTop" fmla="*/ 0 h 59400"/>
                <a:gd name="textAreaBottom" fmla="*/ 59760 h 59400"/>
              </a:gdLst>
              <a:ahLst/>
              <a:rect l="textAreaLeft" t="textAreaTop" r="textAreaRight" b="textAreaBottom"/>
              <a:pathLst>
                <a:path w="227" h="320">
                  <a:moveTo>
                    <a:pt x="0" y="320"/>
                  </a:moveTo>
                  <a:lnTo>
                    <a:pt x="0" y="0"/>
                  </a:lnTo>
                  <a:lnTo>
                    <a:pt x="220" y="0"/>
                  </a:lnTo>
                  <a:lnTo>
                    <a:pt x="220" y="37"/>
                  </a:lnTo>
                  <a:lnTo>
                    <a:pt x="40" y="37"/>
                  </a:lnTo>
                  <a:lnTo>
                    <a:pt x="40" y="136"/>
                  </a:lnTo>
                  <a:lnTo>
                    <a:pt x="209" y="136"/>
                  </a:lnTo>
                  <a:lnTo>
                    <a:pt x="209" y="173"/>
                  </a:lnTo>
                  <a:lnTo>
                    <a:pt x="40" y="173"/>
                  </a:lnTo>
                  <a:lnTo>
                    <a:pt x="40" y="282"/>
                  </a:lnTo>
                  <a:lnTo>
                    <a:pt x="227" y="282"/>
                  </a:lnTo>
                  <a:lnTo>
                    <a:pt x="227" y="320"/>
                  </a:lnTo>
                  <a:lnTo>
                    <a:pt x="0" y="320"/>
                  </a:lnTo>
                  <a:close/>
                </a:path>
              </a:pathLst>
            </a:custGeom>
            <a:solidFill>
              <a:srgbClr val="d79f00"/>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119" name="Freeform 45"/>
            <p:cNvSpPr/>
            <p:nvPr/>
          </p:nvSpPr>
          <p:spPr>
            <a:xfrm>
              <a:off x="3268080" y="9351360"/>
              <a:ext cx="52920" cy="59400"/>
            </a:xfrm>
            <a:custGeom>
              <a:avLst/>
              <a:gdLst>
                <a:gd name="textAreaLeft" fmla="*/ 0 w 52920"/>
                <a:gd name="textAreaRight" fmla="*/ 53280 w 52920"/>
                <a:gd name="textAreaTop" fmla="*/ 0 h 59400"/>
                <a:gd name="textAreaBottom" fmla="*/ 59760 h 59400"/>
              </a:gdLst>
              <a:ahLst/>
              <a:rect l="textAreaLeft" t="textAreaTop" r="textAreaRight" b="textAreaBottom"/>
              <a:pathLst>
                <a:path w="268" h="320">
                  <a:moveTo>
                    <a:pt x="0" y="320"/>
                  </a:moveTo>
                  <a:lnTo>
                    <a:pt x="0" y="0"/>
                  </a:lnTo>
                  <a:lnTo>
                    <a:pt x="135" y="0"/>
                  </a:lnTo>
                  <a:lnTo>
                    <a:pt x="154" y="0"/>
                  </a:lnTo>
                  <a:lnTo>
                    <a:pt x="171" y="2"/>
                  </a:lnTo>
                  <a:lnTo>
                    <a:pt x="186" y="4"/>
                  </a:lnTo>
                  <a:lnTo>
                    <a:pt x="197" y="9"/>
                  </a:lnTo>
                  <a:lnTo>
                    <a:pt x="207" y="14"/>
                  </a:lnTo>
                  <a:lnTo>
                    <a:pt x="216" y="20"/>
                  </a:lnTo>
                  <a:lnTo>
                    <a:pt x="224" y="29"/>
                  </a:lnTo>
                  <a:lnTo>
                    <a:pt x="231" y="39"/>
                  </a:lnTo>
                  <a:lnTo>
                    <a:pt x="237" y="50"/>
                  </a:lnTo>
                  <a:lnTo>
                    <a:pt x="241" y="62"/>
                  </a:lnTo>
                  <a:lnTo>
                    <a:pt x="243" y="74"/>
                  </a:lnTo>
                  <a:lnTo>
                    <a:pt x="244" y="87"/>
                  </a:lnTo>
                  <a:lnTo>
                    <a:pt x="243" y="95"/>
                  </a:lnTo>
                  <a:lnTo>
                    <a:pt x="242" y="104"/>
                  </a:lnTo>
                  <a:lnTo>
                    <a:pt x="241" y="111"/>
                  </a:lnTo>
                  <a:lnTo>
                    <a:pt x="239" y="119"/>
                  </a:lnTo>
                  <a:lnTo>
                    <a:pt x="235" y="125"/>
                  </a:lnTo>
                  <a:lnTo>
                    <a:pt x="232" y="133"/>
                  </a:lnTo>
                  <a:lnTo>
                    <a:pt x="228" y="139"/>
                  </a:lnTo>
                  <a:lnTo>
                    <a:pt x="223" y="144"/>
                  </a:lnTo>
                  <a:lnTo>
                    <a:pt x="217" y="151"/>
                  </a:lnTo>
                  <a:lnTo>
                    <a:pt x="211" y="155"/>
                  </a:lnTo>
                  <a:lnTo>
                    <a:pt x="204" y="160"/>
                  </a:lnTo>
                  <a:lnTo>
                    <a:pt x="196" y="163"/>
                  </a:lnTo>
                  <a:lnTo>
                    <a:pt x="188" y="167"/>
                  </a:lnTo>
                  <a:lnTo>
                    <a:pt x="178" y="170"/>
                  </a:lnTo>
                  <a:lnTo>
                    <a:pt x="169" y="173"/>
                  </a:lnTo>
                  <a:lnTo>
                    <a:pt x="158" y="174"/>
                  </a:lnTo>
                  <a:lnTo>
                    <a:pt x="172" y="182"/>
                  </a:lnTo>
                  <a:lnTo>
                    <a:pt x="183" y="190"/>
                  </a:lnTo>
                  <a:lnTo>
                    <a:pt x="191" y="199"/>
                  </a:lnTo>
                  <a:lnTo>
                    <a:pt x="199" y="209"/>
                  </a:lnTo>
                  <a:lnTo>
                    <a:pt x="208" y="220"/>
                  </a:lnTo>
                  <a:lnTo>
                    <a:pt x="215" y="232"/>
                  </a:lnTo>
                  <a:lnTo>
                    <a:pt x="268" y="320"/>
                  </a:lnTo>
                  <a:lnTo>
                    <a:pt x="217" y="320"/>
                  </a:lnTo>
                  <a:lnTo>
                    <a:pt x="177" y="253"/>
                  </a:lnTo>
                  <a:lnTo>
                    <a:pt x="169" y="240"/>
                  </a:lnTo>
                  <a:lnTo>
                    <a:pt x="161" y="228"/>
                  </a:lnTo>
                  <a:lnTo>
                    <a:pt x="155" y="217"/>
                  </a:lnTo>
                  <a:lnTo>
                    <a:pt x="149" y="209"/>
                  </a:lnTo>
                  <a:lnTo>
                    <a:pt x="143" y="202"/>
                  </a:lnTo>
                  <a:lnTo>
                    <a:pt x="138" y="196"/>
                  </a:lnTo>
                  <a:lnTo>
                    <a:pt x="133" y="191"/>
                  </a:lnTo>
                  <a:lnTo>
                    <a:pt x="129" y="188"/>
                  </a:lnTo>
                  <a:lnTo>
                    <a:pt x="119" y="182"/>
                  </a:lnTo>
                  <a:lnTo>
                    <a:pt x="109" y="179"/>
                  </a:lnTo>
                  <a:lnTo>
                    <a:pt x="101" y="178"/>
                  </a:lnTo>
                  <a:lnTo>
                    <a:pt x="87" y="178"/>
                  </a:lnTo>
                  <a:lnTo>
                    <a:pt x="41" y="178"/>
                  </a:lnTo>
                  <a:lnTo>
                    <a:pt x="41" y="320"/>
                  </a:lnTo>
                  <a:lnTo>
                    <a:pt x="0" y="320"/>
                  </a:lnTo>
                  <a:close/>
                  <a:moveTo>
                    <a:pt x="41" y="141"/>
                  </a:moveTo>
                  <a:lnTo>
                    <a:pt x="127" y="141"/>
                  </a:lnTo>
                  <a:lnTo>
                    <a:pt x="140" y="141"/>
                  </a:lnTo>
                  <a:lnTo>
                    <a:pt x="152" y="140"/>
                  </a:lnTo>
                  <a:lnTo>
                    <a:pt x="161" y="138"/>
                  </a:lnTo>
                  <a:lnTo>
                    <a:pt x="170" y="135"/>
                  </a:lnTo>
                  <a:lnTo>
                    <a:pt x="177" y="131"/>
                  </a:lnTo>
                  <a:lnTo>
                    <a:pt x="184" y="127"/>
                  </a:lnTo>
                  <a:lnTo>
                    <a:pt x="190" y="122"/>
                  </a:lnTo>
                  <a:lnTo>
                    <a:pt x="194" y="116"/>
                  </a:lnTo>
                  <a:lnTo>
                    <a:pt x="197" y="109"/>
                  </a:lnTo>
                  <a:lnTo>
                    <a:pt x="201" y="102"/>
                  </a:lnTo>
                  <a:lnTo>
                    <a:pt x="202" y="94"/>
                  </a:lnTo>
                  <a:lnTo>
                    <a:pt x="202" y="87"/>
                  </a:lnTo>
                  <a:lnTo>
                    <a:pt x="202" y="76"/>
                  </a:lnTo>
                  <a:lnTo>
                    <a:pt x="198" y="67"/>
                  </a:lnTo>
                  <a:lnTo>
                    <a:pt x="196" y="62"/>
                  </a:lnTo>
                  <a:lnTo>
                    <a:pt x="193" y="57"/>
                  </a:lnTo>
                  <a:lnTo>
                    <a:pt x="190" y="54"/>
                  </a:lnTo>
                  <a:lnTo>
                    <a:pt x="187" y="50"/>
                  </a:lnTo>
                  <a:lnTo>
                    <a:pt x="183" y="47"/>
                  </a:lnTo>
                  <a:lnTo>
                    <a:pt x="177" y="43"/>
                  </a:lnTo>
                  <a:lnTo>
                    <a:pt x="172" y="41"/>
                  </a:lnTo>
                  <a:lnTo>
                    <a:pt x="167" y="39"/>
                  </a:lnTo>
                  <a:lnTo>
                    <a:pt x="153" y="36"/>
                  </a:lnTo>
                  <a:lnTo>
                    <a:pt x="137" y="35"/>
                  </a:lnTo>
                  <a:lnTo>
                    <a:pt x="41" y="35"/>
                  </a:lnTo>
                  <a:lnTo>
                    <a:pt x="41" y="141"/>
                  </a:lnTo>
                  <a:close/>
                </a:path>
              </a:pathLst>
            </a:custGeom>
            <a:solidFill>
              <a:srgbClr val="d79f00"/>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120" name="Freeform 46"/>
            <p:cNvSpPr/>
            <p:nvPr/>
          </p:nvSpPr>
          <p:spPr>
            <a:xfrm>
              <a:off x="3333960" y="9351360"/>
              <a:ext cx="45000" cy="59400"/>
            </a:xfrm>
            <a:custGeom>
              <a:avLst/>
              <a:gdLst>
                <a:gd name="textAreaLeft" fmla="*/ 0 w 45000"/>
                <a:gd name="textAreaRight" fmla="*/ 45360 w 45000"/>
                <a:gd name="textAreaTop" fmla="*/ 0 h 59400"/>
                <a:gd name="textAreaBottom" fmla="*/ 59760 h 59400"/>
              </a:gdLst>
              <a:ahLst/>
              <a:rect l="textAreaLeft" t="textAreaTop" r="textAreaRight" b="textAreaBottom"/>
              <a:pathLst>
                <a:path w="232" h="320">
                  <a:moveTo>
                    <a:pt x="0" y="320"/>
                  </a:moveTo>
                  <a:lnTo>
                    <a:pt x="0" y="0"/>
                  </a:lnTo>
                  <a:lnTo>
                    <a:pt x="114" y="0"/>
                  </a:lnTo>
                  <a:lnTo>
                    <a:pt x="129" y="0"/>
                  </a:lnTo>
                  <a:lnTo>
                    <a:pt x="141" y="1"/>
                  </a:lnTo>
                  <a:lnTo>
                    <a:pt x="151" y="1"/>
                  </a:lnTo>
                  <a:lnTo>
                    <a:pt x="161" y="3"/>
                  </a:lnTo>
                  <a:lnTo>
                    <a:pt x="172" y="5"/>
                  </a:lnTo>
                  <a:lnTo>
                    <a:pt x="181" y="9"/>
                  </a:lnTo>
                  <a:lnTo>
                    <a:pt x="191" y="13"/>
                  </a:lnTo>
                  <a:lnTo>
                    <a:pt x="198" y="18"/>
                  </a:lnTo>
                  <a:lnTo>
                    <a:pt x="205" y="24"/>
                  </a:lnTo>
                  <a:lnTo>
                    <a:pt x="212" y="31"/>
                  </a:lnTo>
                  <a:lnTo>
                    <a:pt x="218" y="39"/>
                  </a:lnTo>
                  <a:lnTo>
                    <a:pt x="223" y="49"/>
                  </a:lnTo>
                  <a:lnTo>
                    <a:pt x="227" y="58"/>
                  </a:lnTo>
                  <a:lnTo>
                    <a:pt x="230" y="70"/>
                  </a:lnTo>
                  <a:lnTo>
                    <a:pt x="232" y="81"/>
                  </a:lnTo>
                  <a:lnTo>
                    <a:pt x="232" y="92"/>
                  </a:lnTo>
                  <a:lnTo>
                    <a:pt x="232" y="103"/>
                  </a:lnTo>
                  <a:lnTo>
                    <a:pt x="231" y="112"/>
                  </a:lnTo>
                  <a:lnTo>
                    <a:pt x="229" y="121"/>
                  </a:lnTo>
                  <a:lnTo>
                    <a:pt x="226" y="130"/>
                  </a:lnTo>
                  <a:lnTo>
                    <a:pt x="222" y="139"/>
                  </a:lnTo>
                  <a:lnTo>
                    <a:pt x="218" y="146"/>
                  </a:lnTo>
                  <a:lnTo>
                    <a:pt x="213" y="154"/>
                  </a:lnTo>
                  <a:lnTo>
                    <a:pt x="208" y="161"/>
                  </a:lnTo>
                  <a:lnTo>
                    <a:pt x="200" y="169"/>
                  </a:lnTo>
                  <a:lnTo>
                    <a:pt x="193" y="174"/>
                  </a:lnTo>
                  <a:lnTo>
                    <a:pt x="183" y="179"/>
                  </a:lnTo>
                  <a:lnTo>
                    <a:pt x="173" y="182"/>
                  </a:lnTo>
                  <a:lnTo>
                    <a:pt x="161" y="185"/>
                  </a:lnTo>
                  <a:lnTo>
                    <a:pt x="148" y="188"/>
                  </a:lnTo>
                  <a:lnTo>
                    <a:pt x="133" y="190"/>
                  </a:lnTo>
                  <a:lnTo>
                    <a:pt x="119" y="190"/>
                  </a:lnTo>
                  <a:lnTo>
                    <a:pt x="40" y="190"/>
                  </a:lnTo>
                  <a:lnTo>
                    <a:pt x="40" y="320"/>
                  </a:lnTo>
                  <a:lnTo>
                    <a:pt x="0" y="320"/>
                  </a:lnTo>
                  <a:close/>
                  <a:moveTo>
                    <a:pt x="40" y="152"/>
                  </a:moveTo>
                  <a:lnTo>
                    <a:pt x="119" y="152"/>
                  </a:lnTo>
                  <a:lnTo>
                    <a:pt x="128" y="152"/>
                  </a:lnTo>
                  <a:lnTo>
                    <a:pt x="137" y="151"/>
                  </a:lnTo>
                  <a:lnTo>
                    <a:pt x="145" y="149"/>
                  </a:lnTo>
                  <a:lnTo>
                    <a:pt x="152" y="148"/>
                  </a:lnTo>
                  <a:lnTo>
                    <a:pt x="159" y="146"/>
                  </a:lnTo>
                  <a:lnTo>
                    <a:pt x="164" y="143"/>
                  </a:lnTo>
                  <a:lnTo>
                    <a:pt x="169" y="140"/>
                  </a:lnTo>
                  <a:lnTo>
                    <a:pt x="175" y="137"/>
                  </a:lnTo>
                  <a:lnTo>
                    <a:pt x="178" y="133"/>
                  </a:lnTo>
                  <a:lnTo>
                    <a:pt x="181" y="128"/>
                  </a:lnTo>
                  <a:lnTo>
                    <a:pt x="184" y="123"/>
                  </a:lnTo>
                  <a:lnTo>
                    <a:pt x="186" y="119"/>
                  </a:lnTo>
                  <a:lnTo>
                    <a:pt x="188" y="112"/>
                  </a:lnTo>
                  <a:lnTo>
                    <a:pt x="190" y="107"/>
                  </a:lnTo>
                  <a:lnTo>
                    <a:pt x="191" y="101"/>
                  </a:lnTo>
                  <a:lnTo>
                    <a:pt x="191" y="93"/>
                  </a:lnTo>
                  <a:lnTo>
                    <a:pt x="190" y="84"/>
                  </a:lnTo>
                  <a:lnTo>
                    <a:pt x="188" y="75"/>
                  </a:lnTo>
                  <a:lnTo>
                    <a:pt x="185" y="67"/>
                  </a:lnTo>
                  <a:lnTo>
                    <a:pt x="181" y="59"/>
                  </a:lnTo>
                  <a:lnTo>
                    <a:pt x="176" y="53"/>
                  </a:lnTo>
                  <a:lnTo>
                    <a:pt x="169" y="48"/>
                  </a:lnTo>
                  <a:lnTo>
                    <a:pt x="163" y="43"/>
                  </a:lnTo>
                  <a:lnTo>
                    <a:pt x="156" y="40"/>
                  </a:lnTo>
                  <a:lnTo>
                    <a:pt x="149" y="39"/>
                  </a:lnTo>
                  <a:lnTo>
                    <a:pt x="141" y="38"/>
                  </a:lnTo>
                  <a:lnTo>
                    <a:pt x="130" y="38"/>
                  </a:lnTo>
                  <a:lnTo>
                    <a:pt x="118" y="37"/>
                  </a:lnTo>
                  <a:lnTo>
                    <a:pt x="40" y="37"/>
                  </a:lnTo>
                  <a:lnTo>
                    <a:pt x="40" y="152"/>
                  </a:lnTo>
                  <a:close/>
                </a:path>
              </a:pathLst>
            </a:custGeom>
            <a:solidFill>
              <a:srgbClr val="d79f00"/>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121" name="Freeform 47"/>
            <p:cNvSpPr/>
            <p:nvPr/>
          </p:nvSpPr>
          <p:spPr>
            <a:xfrm>
              <a:off x="3394080" y="9351360"/>
              <a:ext cx="52920" cy="59400"/>
            </a:xfrm>
            <a:custGeom>
              <a:avLst/>
              <a:gdLst>
                <a:gd name="textAreaLeft" fmla="*/ 0 w 52920"/>
                <a:gd name="textAreaRight" fmla="*/ 53280 w 52920"/>
                <a:gd name="textAreaTop" fmla="*/ 0 h 59400"/>
                <a:gd name="textAreaBottom" fmla="*/ 59760 h 59400"/>
              </a:gdLst>
              <a:ahLst/>
              <a:rect l="textAreaLeft" t="textAreaTop" r="textAreaRight" b="textAreaBottom"/>
              <a:pathLst>
                <a:path w="268" h="320">
                  <a:moveTo>
                    <a:pt x="0" y="320"/>
                  </a:moveTo>
                  <a:lnTo>
                    <a:pt x="0" y="0"/>
                  </a:lnTo>
                  <a:lnTo>
                    <a:pt x="135" y="0"/>
                  </a:lnTo>
                  <a:lnTo>
                    <a:pt x="154" y="0"/>
                  </a:lnTo>
                  <a:lnTo>
                    <a:pt x="171" y="2"/>
                  </a:lnTo>
                  <a:lnTo>
                    <a:pt x="185" y="4"/>
                  </a:lnTo>
                  <a:lnTo>
                    <a:pt x="197" y="9"/>
                  </a:lnTo>
                  <a:lnTo>
                    <a:pt x="207" y="14"/>
                  </a:lnTo>
                  <a:lnTo>
                    <a:pt x="216" y="20"/>
                  </a:lnTo>
                  <a:lnTo>
                    <a:pt x="224" y="29"/>
                  </a:lnTo>
                  <a:lnTo>
                    <a:pt x="231" y="39"/>
                  </a:lnTo>
                  <a:lnTo>
                    <a:pt x="236" y="50"/>
                  </a:lnTo>
                  <a:lnTo>
                    <a:pt x="241" y="62"/>
                  </a:lnTo>
                  <a:lnTo>
                    <a:pt x="243" y="74"/>
                  </a:lnTo>
                  <a:lnTo>
                    <a:pt x="244" y="87"/>
                  </a:lnTo>
                  <a:lnTo>
                    <a:pt x="243" y="95"/>
                  </a:lnTo>
                  <a:lnTo>
                    <a:pt x="242" y="104"/>
                  </a:lnTo>
                  <a:lnTo>
                    <a:pt x="241" y="111"/>
                  </a:lnTo>
                  <a:lnTo>
                    <a:pt x="239" y="119"/>
                  </a:lnTo>
                  <a:lnTo>
                    <a:pt x="235" y="125"/>
                  </a:lnTo>
                  <a:lnTo>
                    <a:pt x="231" y="133"/>
                  </a:lnTo>
                  <a:lnTo>
                    <a:pt x="227" y="139"/>
                  </a:lnTo>
                  <a:lnTo>
                    <a:pt x="223" y="144"/>
                  </a:lnTo>
                  <a:lnTo>
                    <a:pt x="216" y="151"/>
                  </a:lnTo>
                  <a:lnTo>
                    <a:pt x="210" y="155"/>
                  </a:lnTo>
                  <a:lnTo>
                    <a:pt x="204" y="160"/>
                  </a:lnTo>
                  <a:lnTo>
                    <a:pt x="195" y="163"/>
                  </a:lnTo>
                  <a:lnTo>
                    <a:pt x="187" y="167"/>
                  </a:lnTo>
                  <a:lnTo>
                    <a:pt x="178" y="170"/>
                  </a:lnTo>
                  <a:lnTo>
                    <a:pt x="168" y="173"/>
                  </a:lnTo>
                  <a:lnTo>
                    <a:pt x="157" y="174"/>
                  </a:lnTo>
                  <a:lnTo>
                    <a:pt x="172" y="182"/>
                  </a:lnTo>
                  <a:lnTo>
                    <a:pt x="181" y="190"/>
                  </a:lnTo>
                  <a:lnTo>
                    <a:pt x="191" y="199"/>
                  </a:lnTo>
                  <a:lnTo>
                    <a:pt x="199" y="209"/>
                  </a:lnTo>
                  <a:lnTo>
                    <a:pt x="207" y="220"/>
                  </a:lnTo>
                  <a:lnTo>
                    <a:pt x="215" y="232"/>
                  </a:lnTo>
                  <a:lnTo>
                    <a:pt x="268" y="320"/>
                  </a:lnTo>
                  <a:lnTo>
                    <a:pt x="217" y="320"/>
                  </a:lnTo>
                  <a:lnTo>
                    <a:pt x="177" y="253"/>
                  </a:lnTo>
                  <a:lnTo>
                    <a:pt x="169" y="240"/>
                  </a:lnTo>
                  <a:lnTo>
                    <a:pt x="161" y="228"/>
                  </a:lnTo>
                  <a:lnTo>
                    <a:pt x="154" y="217"/>
                  </a:lnTo>
                  <a:lnTo>
                    <a:pt x="149" y="209"/>
                  </a:lnTo>
                  <a:lnTo>
                    <a:pt x="142" y="202"/>
                  </a:lnTo>
                  <a:lnTo>
                    <a:pt x="137" y="196"/>
                  </a:lnTo>
                  <a:lnTo>
                    <a:pt x="133" y="191"/>
                  </a:lnTo>
                  <a:lnTo>
                    <a:pt x="127" y="188"/>
                  </a:lnTo>
                  <a:lnTo>
                    <a:pt x="119" y="182"/>
                  </a:lnTo>
                  <a:lnTo>
                    <a:pt x="109" y="179"/>
                  </a:lnTo>
                  <a:lnTo>
                    <a:pt x="100" y="178"/>
                  </a:lnTo>
                  <a:lnTo>
                    <a:pt x="87" y="178"/>
                  </a:lnTo>
                  <a:lnTo>
                    <a:pt x="41" y="178"/>
                  </a:lnTo>
                  <a:lnTo>
                    <a:pt x="41" y="320"/>
                  </a:lnTo>
                  <a:lnTo>
                    <a:pt x="0" y="320"/>
                  </a:lnTo>
                  <a:close/>
                  <a:moveTo>
                    <a:pt x="41" y="141"/>
                  </a:moveTo>
                  <a:lnTo>
                    <a:pt x="126" y="141"/>
                  </a:lnTo>
                  <a:lnTo>
                    <a:pt x="140" y="141"/>
                  </a:lnTo>
                  <a:lnTo>
                    <a:pt x="152" y="140"/>
                  </a:lnTo>
                  <a:lnTo>
                    <a:pt x="161" y="138"/>
                  </a:lnTo>
                  <a:lnTo>
                    <a:pt x="170" y="135"/>
                  </a:lnTo>
                  <a:lnTo>
                    <a:pt x="177" y="131"/>
                  </a:lnTo>
                  <a:lnTo>
                    <a:pt x="184" y="127"/>
                  </a:lnTo>
                  <a:lnTo>
                    <a:pt x="189" y="122"/>
                  </a:lnTo>
                  <a:lnTo>
                    <a:pt x="194" y="116"/>
                  </a:lnTo>
                  <a:lnTo>
                    <a:pt x="197" y="109"/>
                  </a:lnTo>
                  <a:lnTo>
                    <a:pt x="199" y="102"/>
                  </a:lnTo>
                  <a:lnTo>
                    <a:pt x="202" y="94"/>
                  </a:lnTo>
                  <a:lnTo>
                    <a:pt x="202" y="87"/>
                  </a:lnTo>
                  <a:lnTo>
                    <a:pt x="200" y="76"/>
                  </a:lnTo>
                  <a:lnTo>
                    <a:pt x="198" y="67"/>
                  </a:lnTo>
                  <a:lnTo>
                    <a:pt x="195" y="62"/>
                  </a:lnTo>
                  <a:lnTo>
                    <a:pt x="193" y="57"/>
                  </a:lnTo>
                  <a:lnTo>
                    <a:pt x="190" y="54"/>
                  </a:lnTo>
                  <a:lnTo>
                    <a:pt x="186" y="50"/>
                  </a:lnTo>
                  <a:lnTo>
                    <a:pt x="181" y="47"/>
                  </a:lnTo>
                  <a:lnTo>
                    <a:pt x="177" y="43"/>
                  </a:lnTo>
                  <a:lnTo>
                    <a:pt x="172" y="41"/>
                  </a:lnTo>
                  <a:lnTo>
                    <a:pt x="166" y="39"/>
                  </a:lnTo>
                  <a:lnTo>
                    <a:pt x="153" y="36"/>
                  </a:lnTo>
                  <a:lnTo>
                    <a:pt x="137" y="35"/>
                  </a:lnTo>
                  <a:lnTo>
                    <a:pt x="41" y="35"/>
                  </a:lnTo>
                  <a:lnTo>
                    <a:pt x="41" y="141"/>
                  </a:lnTo>
                  <a:close/>
                </a:path>
              </a:pathLst>
            </a:custGeom>
            <a:solidFill>
              <a:srgbClr val="d79f00"/>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122" name="Rectangle 48"/>
            <p:cNvSpPr/>
            <p:nvPr/>
          </p:nvSpPr>
          <p:spPr>
            <a:xfrm>
              <a:off x="3461040" y="9351360"/>
              <a:ext cx="6480" cy="59400"/>
            </a:xfrm>
            <a:prstGeom prst="rect">
              <a:avLst/>
            </a:prstGeom>
            <a:solidFill>
              <a:srgbClr val="d79f00"/>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123" name="Freeform 49"/>
            <p:cNvSpPr/>
            <p:nvPr/>
          </p:nvSpPr>
          <p:spPr>
            <a:xfrm>
              <a:off x="3484440" y="9350280"/>
              <a:ext cx="47520" cy="60480"/>
            </a:xfrm>
            <a:custGeom>
              <a:avLst/>
              <a:gdLst>
                <a:gd name="textAreaLeft" fmla="*/ 0 w 47520"/>
                <a:gd name="textAreaRight" fmla="*/ 47880 w 47520"/>
                <a:gd name="textAreaTop" fmla="*/ 0 h 60480"/>
                <a:gd name="textAreaBottom" fmla="*/ 60840 h 60480"/>
              </a:gdLst>
              <a:ahLst/>
              <a:rect l="textAreaLeft" t="textAreaTop" r="textAreaRight" b="textAreaBottom"/>
              <a:pathLst>
                <a:path w="243" h="330">
                  <a:moveTo>
                    <a:pt x="0" y="222"/>
                  </a:moveTo>
                  <a:lnTo>
                    <a:pt x="38" y="218"/>
                  </a:lnTo>
                  <a:lnTo>
                    <a:pt x="40" y="230"/>
                  </a:lnTo>
                  <a:lnTo>
                    <a:pt x="44" y="240"/>
                  </a:lnTo>
                  <a:lnTo>
                    <a:pt x="47" y="250"/>
                  </a:lnTo>
                  <a:lnTo>
                    <a:pt x="51" y="257"/>
                  </a:lnTo>
                  <a:lnTo>
                    <a:pt x="56" y="265"/>
                  </a:lnTo>
                  <a:lnTo>
                    <a:pt x="64" y="272"/>
                  </a:lnTo>
                  <a:lnTo>
                    <a:pt x="72" y="277"/>
                  </a:lnTo>
                  <a:lnTo>
                    <a:pt x="82" y="283"/>
                  </a:lnTo>
                  <a:lnTo>
                    <a:pt x="92" y="287"/>
                  </a:lnTo>
                  <a:lnTo>
                    <a:pt x="104" y="290"/>
                  </a:lnTo>
                  <a:lnTo>
                    <a:pt x="116" y="291"/>
                  </a:lnTo>
                  <a:lnTo>
                    <a:pt x="128" y="292"/>
                  </a:lnTo>
                  <a:lnTo>
                    <a:pt x="140" y="291"/>
                  </a:lnTo>
                  <a:lnTo>
                    <a:pt x="150" y="290"/>
                  </a:lnTo>
                  <a:lnTo>
                    <a:pt x="160" y="288"/>
                  </a:lnTo>
                  <a:lnTo>
                    <a:pt x="170" y="285"/>
                  </a:lnTo>
                  <a:lnTo>
                    <a:pt x="177" y="281"/>
                  </a:lnTo>
                  <a:lnTo>
                    <a:pt x="184" y="276"/>
                  </a:lnTo>
                  <a:lnTo>
                    <a:pt x="191" y="271"/>
                  </a:lnTo>
                  <a:lnTo>
                    <a:pt x="196" y="266"/>
                  </a:lnTo>
                  <a:lnTo>
                    <a:pt x="199" y="258"/>
                  </a:lnTo>
                  <a:lnTo>
                    <a:pt x="202" y="252"/>
                  </a:lnTo>
                  <a:lnTo>
                    <a:pt x="203" y="246"/>
                  </a:lnTo>
                  <a:lnTo>
                    <a:pt x="205" y="238"/>
                  </a:lnTo>
                  <a:lnTo>
                    <a:pt x="203" y="231"/>
                  </a:lnTo>
                  <a:lnTo>
                    <a:pt x="202" y="223"/>
                  </a:lnTo>
                  <a:lnTo>
                    <a:pt x="199" y="217"/>
                  </a:lnTo>
                  <a:lnTo>
                    <a:pt x="196" y="212"/>
                  </a:lnTo>
                  <a:lnTo>
                    <a:pt x="191" y="206"/>
                  </a:lnTo>
                  <a:lnTo>
                    <a:pt x="184" y="201"/>
                  </a:lnTo>
                  <a:lnTo>
                    <a:pt x="177" y="197"/>
                  </a:lnTo>
                  <a:lnTo>
                    <a:pt x="168" y="193"/>
                  </a:lnTo>
                  <a:lnTo>
                    <a:pt x="160" y="189"/>
                  </a:lnTo>
                  <a:lnTo>
                    <a:pt x="148" y="186"/>
                  </a:lnTo>
                  <a:lnTo>
                    <a:pt x="134" y="182"/>
                  </a:lnTo>
                  <a:lnTo>
                    <a:pt x="114" y="177"/>
                  </a:lnTo>
                  <a:lnTo>
                    <a:pt x="94" y="171"/>
                  </a:lnTo>
                  <a:lnTo>
                    <a:pt x="78" y="167"/>
                  </a:lnTo>
                  <a:lnTo>
                    <a:pt x="66" y="162"/>
                  </a:lnTo>
                  <a:lnTo>
                    <a:pt x="55" y="157"/>
                  </a:lnTo>
                  <a:lnTo>
                    <a:pt x="46" y="151"/>
                  </a:lnTo>
                  <a:lnTo>
                    <a:pt x="36" y="144"/>
                  </a:lnTo>
                  <a:lnTo>
                    <a:pt x="29" y="135"/>
                  </a:lnTo>
                  <a:lnTo>
                    <a:pt x="22" y="127"/>
                  </a:lnTo>
                  <a:lnTo>
                    <a:pt x="18" y="118"/>
                  </a:lnTo>
                  <a:lnTo>
                    <a:pt x="15" y="109"/>
                  </a:lnTo>
                  <a:lnTo>
                    <a:pt x="13" y="98"/>
                  </a:lnTo>
                  <a:lnTo>
                    <a:pt x="12" y="88"/>
                  </a:lnTo>
                  <a:lnTo>
                    <a:pt x="13" y="76"/>
                  </a:lnTo>
                  <a:lnTo>
                    <a:pt x="15" y="64"/>
                  </a:lnTo>
                  <a:lnTo>
                    <a:pt x="19" y="53"/>
                  </a:lnTo>
                  <a:lnTo>
                    <a:pt x="26" y="42"/>
                  </a:lnTo>
                  <a:lnTo>
                    <a:pt x="33" y="33"/>
                  </a:lnTo>
                  <a:lnTo>
                    <a:pt x="41" y="24"/>
                  </a:lnTo>
                  <a:lnTo>
                    <a:pt x="52" y="17"/>
                  </a:lnTo>
                  <a:lnTo>
                    <a:pt x="64" y="10"/>
                  </a:lnTo>
                  <a:lnTo>
                    <a:pt x="76" y="5"/>
                  </a:lnTo>
                  <a:lnTo>
                    <a:pt x="90" y="2"/>
                  </a:lnTo>
                  <a:lnTo>
                    <a:pt x="104" y="0"/>
                  </a:lnTo>
                  <a:lnTo>
                    <a:pt x="120" y="0"/>
                  </a:lnTo>
                  <a:lnTo>
                    <a:pt x="136" y="0"/>
                  </a:lnTo>
                  <a:lnTo>
                    <a:pt x="152" y="2"/>
                  </a:lnTo>
                  <a:lnTo>
                    <a:pt x="165" y="6"/>
                  </a:lnTo>
                  <a:lnTo>
                    <a:pt x="179" y="10"/>
                  </a:lnTo>
                  <a:lnTo>
                    <a:pt x="192" y="18"/>
                  </a:lnTo>
                  <a:lnTo>
                    <a:pt x="202" y="25"/>
                  </a:lnTo>
                  <a:lnTo>
                    <a:pt x="211" y="34"/>
                  </a:lnTo>
                  <a:lnTo>
                    <a:pt x="219" y="44"/>
                  </a:lnTo>
                  <a:lnTo>
                    <a:pt x="225" y="56"/>
                  </a:lnTo>
                  <a:lnTo>
                    <a:pt x="230" y="69"/>
                  </a:lnTo>
                  <a:lnTo>
                    <a:pt x="232" y="81"/>
                  </a:lnTo>
                  <a:lnTo>
                    <a:pt x="234" y="95"/>
                  </a:lnTo>
                  <a:lnTo>
                    <a:pt x="195" y="98"/>
                  </a:lnTo>
                  <a:lnTo>
                    <a:pt x="194" y="91"/>
                  </a:lnTo>
                  <a:lnTo>
                    <a:pt x="193" y="83"/>
                  </a:lnTo>
                  <a:lnTo>
                    <a:pt x="191" y="77"/>
                  </a:lnTo>
                  <a:lnTo>
                    <a:pt x="189" y="72"/>
                  </a:lnTo>
                  <a:lnTo>
                    <a:pt x="185" y="65"/>
                  </a:lnTo>
                  <a:lnTo>
                    <a:pt x="182" y="61"/>
                  </a:lnTo>
                  <a:lnTo>
                    <a:pt x="178" y="56"/>
                  </a:lnTo>
                  <a:lnTo>
                    <a:pt x="174" y="52"/>
                  </a:lnTo>
                  <a:lnTo>
                    <a:pt x="170" y="48"/>
                  </a:lnTo>
                  <a:lnTo>
                    <a:pt x="164" y="45"/>
                  </a:lnTo>
                  <a:lnTo>
                    <a:pt x="158" y="43"/>
                  </a:lnTo>
                  <a:lnTo>
                    <a:pt x="152" y="41"/>
                  </a:lnTo>
                  <a:lnTo>
                    <a:pt x="145" y="39"/>
                  </a:lnTo>
                  <a:lnTo>
                    <a:pt x="138" y="38"/>
                  </a:lnTo>
                  <a:lnTo>
                    <a:pt x="129" y="37"/>
                  </a:lnTo>
                  <a:lnTo>
                    <a:pt x="121" y="37"/>
                  </a:lnTo>
                  <a:lnTo>
                    <a:pt x="104" y="38"/>
                  </a:lnTo>
                  <a:lnTo>
                    <a:pt x="89" y="40"/>
                  </a:lnTo>
                  <a:lnTo>
                    <a:pt x="83" y="42"/>
                  </a:lnTo>
                  <a:lnTo>
                    <a:pt x="77" y="44"/>
                  </a:lnTo>
                  <a:lnTo>
                    <a:pt x="72" y="47"/>
                  </a:lnTo>
                  <a:lnTo>
                    <a:pt x="68" y="51"/>
                  </a:lnTo>
                  <a:lnTo>
                    <a:pt x="60" y="58"/>
                  </a:lnTo>
                  <a:lnTo>
                    <a:pt x="55" y="67"/>
                  </a:lnTo>
                  <a:lnTo>
                    <a:pt x="53" y="71"/>
                  </a:lnTo>
                  <a:lnTo>
                    <a:pt x="52" y="75"/>
                  </a:lnTo>
                  <a:lnTo>
                    <a:pt x="51" y="80"/>
                  </a:lnTo>
                  <a:lnTo>
                    <a:pt x="51" y="85"/>
                  </a:lnTo>
                  <a:lnTo>
                    <a:pt x="52" y="93"/>
                  </a:lnTo>
                  <a:lnTo>
                    <a:pt x="54" y="100"/>
                  </a:lnTo>
                  <a:lnTo>
                    <a:pt x="57" y="107"/>
                  </a:lnTo>
                  <a:lnTo>
                    <a:pt x="63" y="113"/>
                  </a:lnTo>
                  <a:lnTo>
                    <a:pt x="67" y="116"/>
                  </a:lnTo>
                  <a:lnTo>
                    <a:pt x="71" y="118"/>
                  </a:lnTo>
                  <a:lnTo>
                    <a:pt x="76" y="122"/>
                  </a:lnTo>
                  <a:lnTo>
                    <a:pt x="84" y="125"/>
                  </a:lnTo>
                  <a:lnTo>
                    <a:pt x="102" y="130"/>
                  </a:lnTo>
                  <a:lnTo>
                    <a:pt x="124" y="135"/>
                  </a:lnTo>
                  <a:lnTo>
                    <a:pt x="146" y="142"/>
                  </a:lnTo>
                  <a:lnTo>
                    <a:pt x="165" y="147"/>
                  </a:lnTo>
                  <a:lnTo>
                    <a:pt x="180" y="151"/>
                  </a:lnTo>
                  <a:lnTo>
                    <a:pt x="191" y="157"/>
                  </a:lnTo>
                  <a:lnTo>
                    <a:pt x="203" y="163"/>
                  </a:lnTo>
                  <a:lnTo>
                    <a:pt x="214" y="170"/>
                  </a:lnTo>
                  <a:lnTo>
                    <a:pt x="224" y="180"/>
                  </a:lnTo>
                  <a:lnTo>
                    <a:pt x="230" y="188"/>
                  </a:lnTo>
                  <a:lnTo>
                    <a:pt x="236" y="199"/>
                  </a:lnTo>
                  <a:lnTo>
                    <a:pt x="239" y="211"/>
                  </a:lnTo>
                  <a:lnTo>
                    <a:pt x="243" y="222"/>
                  </a:lnTo>
                  <a:lnTo>
                    <a:pt x="243" y="234"/>
                  </a:lnTo>
                  <a:lnTo>
                    <a:pt x="243" y="247"/>
                  </a:lnTo>
                  <a:lnTo>
                    <a:pt x="239" y="259"/>
                  </a:lnTo>
                  <a:lnTo>
                    <a:pt x="235" y="271"/>
                  </a:lnTo>
                  <a:lnTo>
                    <a:pt x="229" y="283"/>
                  </a:lnTo>
                  <a:lnTo>
                    <a:pt x="221" y="293"/>
                  </a:lnTo>
                  <a:lnTo>
                    <a:pt x="212" y="303"/>
                  </a:lnTo>
                  <a:lnTo>
                    <a:pt x="201" y="310"/>
                  </a:lnTo>
                  <a:lnTo>
                    <a:pt x="189" y="318"/>
                  </a:lnTo>
                  <a:lnTo>
                    <a:pt x="176" y="323"/>
                  </a:lnTo>
                  <a:lnTo>
                    <a:pt x="161" y="327"/>
                  </a:lnTo>
                  <a:lnTo>
                    <a:pt x="146" y="329"/>
                  </a:lnTo>
                  <a:lnTo>
                    <a:pt x="130" y="330"/>
                  </a:lnTo>
                  <a:lnTo>
                    <a:pt x="110" y="329"/>
                  </a:lnTo>
                  <a:lnTo>
                    <a:pt x="92" y="327"/>
                  </a:lnTo>
                  <a:lnTo>
                    <a:pt x="76" y="323"/>
                  </a:lnTo>
                  <a:lnTo>
                    <a:pt x="62" y="318"/>
                  </a:lnTo>
                  <a:lnTo>
                    <a:pt x="54" y="314"/>
                  </a:lnTo>
                  <a:lnTo>
                    <a:pt x="48" y="310"/>
                  </a:lnTo>
                  <a:lnTo>
                    <a:pt x="41" y="306"/>
                  </a:lnTo>
                  <a:lnTo>
                    <a:pt x="36" y="302"/>
                  </a:lnTo>
                  <a:lnTo>
                    <a:pt x="31" y="296"/>
                  </a:lnTo>
                  <a:lnTo>
                    <a:pt x="26" y="291"/>
                  </a:lnTo>
                  <a:lnTo>
                    <a:pt x="21" y="286"/>
                  </a:lnTo>
                  <a:lnTo>
                    <a:pt x="17" y="280"/>
                  </a:lnTo>
                  <a:lnTo>
                    <a:pt x="11" y="267"/>
                  </a:lnTo>
                  <a:lnTo>
                    <a:pt x="5" y="252"/>
                  </a:lnTo>
                  <a:lnTo>
                    <a:pt x="2" y="237"/>
                  </a:lnTo>
                  <a:lnTo>
                    <a:pt x="0" y="222"/>
                  </a:lnTo>
                  <a:close/>
                </a:path>
              </a:pathLst>
            </a:custGeom>
            <a:solidFill>
              <a:srgbClr val="d79f00"/>
            </a:solidFill>
            <a:ln w="0">
              <a:noFill/>
            </a:ln>
          </p:spPr>
          <p:style>
            <a:lnRef idx="0"/>
            <a:fillRef idx="0"/>
            <a:effectRef idx="0"/>
            <a:fontRef idx="minor"/>
          </p:style>
          <p:txBody>
            <a:bodyPr lIns="90000" rIns="90000" tIns="15840" bIns="15840" anchor="t">
              <a:noAutofit/>
            </a:bodyPr>
            <a:p>
              <a:pPr>
                <a:lnSpc>
                  <a:spcPct val="100000"/>
                </a:lnSpc>
              </a:pPr>
              <a:endParaRPr b="0" lang="en-US" sz="1800" spc="-1" strike="noStrike">
                <a:solidFill>
                  <a:srgbClr val="d79f00"/>
                </a:solidFill>
                <a:latin typeface="Arial"/>
                <a:ea typeface="宋体"/>
              </a:endParaRPr>
            </a:p>
          </p:txBody>
        </p:sp>
        <p:sp>
          <p:nvSpPr>
            <p:cNvPr id="124" name="Freeform 50"/>
            <p:cNvSpPr/>
            <p:nvPr/>
          </p:nvSpPr>
          <p:spPr>
            <a:xfrm>
              <a:off x="3548880" y="9351360"/>
              <a:ext cx="43560" cy="59400"/>
            </a:xfrm>
            <a:custGeom>
              <a:avLst/>
              <a:gdLst>
                <a:gd name="textAreaLeft" fmla="*/ 0 w 43560"/>
                <a:gd name="textAreaRight" fmla="*/ 43920 w 43560"/>
                <a:gd name="textAreaTop" fmla="*/ 0 h 59400"/>
                <a:gd name="textAreaBottom" fmla="*/ 59760 h 59400"/>
              </a:gdLst>
              <a:ahLst/>
              <a:rect l="textAreaLeft" t="textAreaTop" r="textAreaRight" b="textAreaBottom"/>
              <a:pathLst>
                <a:path w="228" h="320">
                  <a:moveTo>
                    <a:pt x="0" y="320"/>
                  </a:moveTo>
                  <a:lnTo>
                    <a:pt x="0" y="0"/>
                  </a:lnTo>
                  <a:lnTo>
                    <a:pt x="221" y="0"/>
                  </a:lnTo>
                  <a:lnTo>
                    <a:pt x="221" y="37"/>
                  </a:lnTo>
                  <a:lnTo>
                    <a:pt x="40" y="37"/>
                  </a:lnTo>
                  <a:lnTo>
                    <a:pt x="40" y="136"/>
                  </a:lnTo>
                  <a:lnTo>
                    <a:pt x="210" y="136"/>
                  </a:lnTo>
                  <a:lnTo>
                    <a:pt x="210" y="173"/>
                  </a:lnTo>
                  <a:lnTo>
                    <a:pt x="40" y="173"/>
                  </a:lnTo>
                  <a:lnTo>
                    <a:pt x="40" y="282"/>
                  </a:lnTo>
                  <a:lnTo>
                    <a:pt x="228" y="282"/>
                  </a:lnTo>
                  <a:lnTo>
                    <a:pt x="228" y="320"/>
                  </a:lnTo>
                  <a:lnTo>
                    <a:pt x="0" y="320"/>
                  </a:lnTo>
                  <a:close/>
                </a:path>
              </a:pathLst>
            </a:custGeom>
            <a:solidFill>
              <a:srgbClr val="d79f00"/>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125" name="Freeform 51"/>
            <p:cNvSpPr/>
            <p:nvPr/>
          </p:nvSpPr>
          <p:spPr>
            <a:xfrm>
              <a:off x="3633840" y="9351360"/>
              <a:ext cx="55800" cy="59400"/>
            </a:xfrm>
            <a:custGeom>
              <a:avLst/>
              <a:gdLst>
                <a:gd name="textAreaLeft" fmla="*/ 0 w 55800"/>
                <a:gd name="textAreaRight" fmla="*/ 56160 w 55800"/>
                <a:gd name="textAreaTop" fmla="*/ 0 h 59400"/>
                <a:gd name="textAreaBottom" fmla="*/ 59760 h 59400"/>
              </a:gdLst>
              <a:ahLst/>
              <a:rect l="textAreaLeft" t="textAreaTop" r="textAreaRight" b="textAreaBottom"/>
              <a:pathLst>
                <a:path w="290" h="320">
                  <a:moveTo>
                    <a:pt x="0" y="320"/>
                  </a:moveTo>
                  <a:lnTo>
                    <a:pt x="0" y="0"/>
                  </a:lnTo>
                  <a:lnTo>
                    <a:pt x="60" y="0"/>
                  </a:lnTo>
                  <a:lnTo>
                    <a:pt x="132" y="226"/>
                  </a:lnTo>
                  <a:lnTo>
                    <a:pt x="136" y="241"/>
                  </a:lnTo>
                  <a:lnTo>
                    <a:pt x="140" y="254"/>
                  </a:lnTo>
                  <a:lnTo>
                    <a:pt x="144" y="265"/>
                  </a:lnTo>
                  <a:lnTo>
                    <a:pt x="147" y="273"/>
                  </a:lnTo>
                  <a:lnTo>
                    <a:pt x="150" y="264"/>
                  </a:lnTo>
                  <a:lnTo>
                    <a:pt x="153" y="252"/>
                  </a:lnTo>
                  <a:lnTo>
                    <a:pt x="157" y="238"/>
                  </a:lnTo>
                  <a:lnTo>
                    <a:pt x="163" y="223"/>
                  </a:lnTo>
                  <a:lnTo>
                    <a:pt x="236" y="0"/>
                  </a:lnTo>
                  <a:lnTo>
                    <a:pt x="290" y="0"/>
                  </a:lnTo>
                  <a:lnTo>
                    <a:pt x="290" y="320"/>
                  </a:lnTo>
                  <a:lnTo>
                    <a:pt x="251" y="320"/>
                  </a:lnTo>
                  <a:lnTo>
                    <a:pt x="251" y="52"/>
                  </a:lnTo>
                  <a:lnTo>
                    <a:pt x="163" y="320"/>
                  </a:lnTo>
                  <a:lnTo>
                    <a:pt x="127" y="320"/>
                  </a:lnTo>
                  <a:lnTo>
                    <a:pt x="38" y="48"/>
                  </a:lnTo>
                  <a:lnTo>
                    <a:pt x="38" y="320"/>
                  </a:lnTo>
                  <a:lnTo>
                    <a:pt x="0" y="320"/>
                  </a:lnTo>
                  <a:close/>
                </a:path>
              </a:pathLst>
            </a:custGeom>
            <a:solidFill>
              <a:srgbClr val="d79f00"/>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126" name="Freeform 52"/>
            <p:cNvSpPr/>
            <p:nvPr/>
          </p:nvSpPr>
          <p:spPr>
            <a:xfrm>
              <a:off x="3700800" y="9351360"/>
              <a:ext cx="55800" cy="59400"/>
            </a:xfrm>
            <a:custGeom>
              <a:avLst/>
              <a:gdLst>
                <a:gd name="textAreaLeft" fmla="*/ 0 w 55800"/>
                <a:gd name="textAreaRight" fmla="*/ 56160 w 55800"/>
                <a:gd name="textAreaTop" fmla="*/ 0 h 59400"/>
                <a:gd name="textAreaBottom" fmla="*/ 59760 h 59400"/>
              </a:gdLst>
              <a:ahLst/>
              <a:rect l="textAreaLeft" t="textAreaTop" r="textAreaRight" b="textAreaBottom"/>
              <a:pathLst>
                <a:path w="285" h="320">
                  <a:moveTo>
                    <a:pt x="0" y="320"/>
                  </a:moveTo>
                  <a:lnTo>
                    <a:pt x="118" y="0"/>
                  </a:lnTo>
                  <a:lnTo>
                    <a:pt x="161" y="0"/>
                  </a:lnTo>
                  <a:lnTo>
                    <a:pt x="285" y="320"/>
                  </a:lnTo>
                  <a:lnTo>
                    <a:pt x="239" y="320"/>
                  </a:lnTo>
                  <a:lnTo>
                    <a:pt x="204" y="223"/>
                  </a:lnTo>
                  <a:lnTo>
                    <a:pt x="76" y="223"/>
                  </a:lnTo>
                  <a:lnTo>
                    <a:pt x="43" y="320"/>
                  </a:lnTo>
                  <a:lnTo>
                    <a:pt x="0" y="320"/>
                  </a:lnTo>
                  <a:close/>
                  <a:moveTo>
                    <a:pt x="88" y="189"/>
                  </a:moveTo>
                  <a:lnTo>
                    <a:pt x="192" y="189"/>
                  </a:lnTo>
                  <a:lnTo>
                    <a:pt x="160" y="100"/>
                  </a:lnTo>
                  <a:lnTo>
                    <a:pt x="152" y="81"/>
                  </a:lnTo>
                  <a:lnTo>
                    <a:pt x="147" y="63"/>
                  </a:lnTo>
                  <a:lnTo>
                    <a:pt x="142" y="48"/>
                  </a:lnTo>
                  <a:lnTo>
                    <a:pt x="138" y="33"/>
                  </a:lnTo>
                  <a:lnTo>
                    <a:pt x="134" y="49"/>
                  </a:lnTo>
                  <a:lnTo>
                    <a:pt x="131" y="64"/>
                  </a:lnTo>
                  <a:lnTo>
                    <a:pt x="127" y="80"/>
                  </a:lnTo>
                  <a:lnTo>
                    <a:pt x="122" y="94"/>
                  </a:lnTo>
                  <a:lnTo>
                    <a:pt x="88" y="189"/>
                  </a:lnTo>
                  <a:close/>
                </a:path>
              </a:pathLst>
            </a:custGeom>
            <a:solidFill>
              <a:srgbClr val="d79f00"/>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127" name="Freeform 53"/>
            <p:cNvSpPr/>
            <p:nvPr/>
          </p:nvSpPr>
          <p:spPr>
            <a:xfrm>
              <a:off x="3767760" y="9351360"/>
              <a:ext cx="47520" cy="59400"/>
            </a:xfrm>
            <a:custGeom>
              <a:avLst/>
              <a:gdLst>
                <a:gd name="textAreaLeft" fmla="*/ 0 w 47520"/>
                <a:gd name="textAreaRight" fmla="*/ 47880 w 47520"/>
                <a:gd name="textAreaTop" fmla="*/ 0 h 59400"/>
                <a:gd name="textAreaBottom" fmla="*/ 59760 h 59400"/>
              </a:gdLst>
              <a:ahLst/>
              <a:rect l="textAreaLeft" t="textAreaTop" r="textAreaRight" b="textAreaBottom"/>
              <a:pathLst>
                <a:path w="239" h="320">
                  <a:moveTo>
                    <a:pt x="0" y="320"/>
                  </a:moveTo>
                  <a:lnTo>
                    <a:pt x="0" y="0"/>
                  </a:lnTo>
                  <a:lnTo>
                    <a:pt x="41" y="0"/>
                  </a:lnTo>
                  <a:lnTo>
                    <a:pt x="201" y="251"/>
                  </a:lnTo>
                  <a:lnTo>
                    <a:pt x="201" y="0"/>
                  </a:lnTo>
                  <a:lnTo>
                    <a:pt x="239" y="0"/>
                  </a:lnTo>
                  <a:lnTo>
                    <a:pt x="239" y="320"/>
                  </a:lnTo>
                  <a:lnTo>
                    <a:pt x="198" y="320"/>
                  </a:lnTo>
                  <a:lnTo>
                    <a:pt x="38" y="68"/>
                  </a:lnTo>
                  <a:lnTo>
                    <a:pt x="38" y="320"/>
                  </a:lnTo>
                  <a:lnTo>
                    <a:pt x="0" y="320"/>
                  </a:lnTo>
                  <a:close/>
                </a:path>
              </a:pathLst>
            </a:custGeom>
            <a:solidFill>
              <a:srgbClr val="d79f00"/>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128" name="Freeform 54"/>
            <p:cNvSpPr/>
            <p:nvPr/>
          </p:nvSpPr>
          <p:spPr>
            <a:xfrm>
              <a:off x="3826800" y="9351360"/>
              <a:ext cx="55800" cy="59400"/>
            </a:xfrm>
            <a:custGeom>
              <a:avLst/>
              <a:gdLst>
                <a:gd name="textAreaLeft" fmla="*/ 0 w 55800"/>
                <a:gd name="textAreaRight" fmla="*/ 56160 w 55800"/>
                <a:gd name="textAreaTop" fmla="*/ 0 h 59400"/>
                <a:gd name="textAreaBottom" fmla="*/ 59760 h 59400"/>
              </a:gdLst>
              <a:ahLst/>
              <a:rect l="textAreaLeft" t="textAreaTop" r="textAreaRight" b="textAreaBottom"/>
              <a:pathLst>
                <a:path w="285" h="320">
                  <a:moveTo>
                    <a:pt x="0" y="320"/>
                  </a:moveTo>
                  <a:lnTo>
                    <a:pt x="116" y="0"/>
                  </a:lnTo>
                  <a:lnTo>
                    <a:pt x="160" y="0"/>
                  </a:lnTo>
                  <a:lnTo>
                    <a:pt x="285" y="320"/>
                  </a:lnTo>
                  <a:lnTo>
                    <a:pt x="239" y="320"/>
                  </a:lnTo>
                  <a:lnTo>
                    <a:pt x="203" y="223"/>
                  </a:lnTo>
                  <a:lnTo>
                    <a:pt x="76" y="223"/>
                  </a:lnTo>
                  <a:lnTo>
                    <a:pt x="42" y="320"/>
                  </a:lnTo>
                  <a:lnTo>
                    <a:pt x="0" y="320"/>
                  </a:lnTo>
                  <a:close/>
                  <a:moveTo>
                    <a:pt x="88" y="189"/>
                  </a:moveTo>
                  <a:lnTo>
                    <a:pt x="192" y="189"/>
                  </a:lnTo>
                  <a:lnTo>
                    <a:pt x="159" y="100"/>
                  </a:lnTo>
                  <a:lnTo>
                    <a:pt x="152" y="81"/>
                  </a:lnTo>
                  <a:lnTo>
                    <a:pt x="147" y="63"/>
                  </a:lnTo>
                  <a:lnTo>
                    <a:pt x="142" y="48"/>
                  </a:lnTo>
                  <a:lnTo>
                    <a:pt x="138" y="33"/>
                  </a:lnTo>
                  <a:lnTo>
                    <a:pt x="134" y="49"/>
                  </a:lnTo>
                  <a:lnTo>
                    <a:pt x="130" y="64"/>
                  </a:lnTo>
                  <a:lnTo>
                    <a:pt x="126" y="80"/>
                  </a:lnTo>
                  <a:lnTo>
                    <a:pt x="122" y="94"/>
                  </a:lnTo>
                  <a:lnTo>
                    <a:pt x="88" y="189"/>
                  </a:lnTo>
                  <a:close/>
                </a:path>
              </a:pathLst>
            </a:custGeom>
            <a:solidFill>
              <a:srgbClr val="d79f00"/>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129" name="Freeform 55"/>
            <p:cNvSpPr/>
            <p:nvPr/>
          </p:nvSpPr>
          <p:spPr>
            <a:xfrm>
              <a:off x="3892680" y="9350280"/>
              <a:ext cx="54360" cy="60480"/>
            </a:xfrm>
            <a:custGeom>
              <a:avLst/>
              <a:gdLst>
                <a:gd name="textAreaLeft" fmla="*/ 0 w 54360"/>
                <a:gd name="textAreaRight" fmla="*/ 54720 w 54360"/>
                <a:gd name="textAreaTop" fmla="*/ 0 h 60480"/>
                <a:gd name="textAreaBottom" fmla="*/ 60840 h 60480"/>
              </a:gdLst>
              <a:ahLst/>
              <a:rect l="textAreaLeft" t="textAreaTop" r="textAreaRight" b="textAreaBottom"/>
              <a:pathLst>
                <a:path w="282" h="330">
                  <a:moveTo>
                    <a:pt x="154" y="199"/>
                  </a:moveTo>
                  <a:lnTo>
                    <a:pt x="154" y="162"/>
                  </a:lnTo>
                  <a:lnTo>
                    <a:pt x="282" y="162"/>
                  </a:lnTo>
                  <a:lnTo>
                    <a:pt x="282" y="281"/>
                  </a:lnTo>
                  <a:lnTo>
                    <a:pt x="267" y="292"/>
                  </a:lnTo>
                  <a:lnTo>
                    <a:pt x="253" y="302"/>
                  </a:lnTo>
                  <a:lnTo>
                    <a:pt x="237" y="310"/>
                  </a:lnTo>
                  <a:lnTo>
                    <a:pt x="221" y="318"/>
                  </a:lnTo>
                  <a:lnTo>
                    <a:pt x="205" y="323"/>
                  </a:lnTo>
                  <a:lnTo>
                    <a:pt x="189" y="327"/>
                  </a:lnTo>
                  <a:lnTo>
                    <a:pt x="173" y="329"/>
                  </a:lnTo>
                  <a:lnTo>
                    <a:pt x="156" y="330"/>
                  </a:lnTo>
                  <a:lnTo>
                    <a:pt x="146" y="329"/>
                  </a:lnTo>
                  <a:lnTo>
                    <a:pt x="135" y="329"/>
                  </a:lnTo>
                  <a:lnTo>
                    <a:pt x="124" y="327"/>
                  </a:lnTo>
                  <a:lnTo>
                    <a:pt x="114" y="325"/>
                  </a:lnTo>
                  <a:lnTo>
                    <a:pt x="103" y="322"/>
                  </a:lnTo>
                  <a:lnTo>
                    <a:pt x="94" y="319"/>
                  </a:lnTo>
                  <a:lnTo>
                    <a:pt x="84" y="314"/>
                  </a:lnTo>
                  <a:lnTo>
                    <a:pt x="75" y="310"/>
                  </a:lnTo>
                  <a:lnTo>
                    <a:pt x="66" y="305"/>
                  </a:lnTo>
                  <a:lnTo>
                    <a:pt x="58" y="299"/>
                  </a:lnTo>
                  <a:lnTo>
                    <a:pt x="50" y="292"/>
                  </a:lnTo>
                  <a:lnTo>
                    <a:pt x="43" y="285"/>
                  </a:lnTo>
                  <a:lnTo>
                    <a:pt x="36" y="277"/>
                  </a:lnTo>
                  <a:lnTo>
                    <a:pt x="30" y="270"/>
                  </a:lnTo>
                  <a:lnTo>
                    <a:pt x="25" y="260"/>
                  </a:lnTo>
                  <a:lnTo>
                    <a:pt x="20" y="252"/>
                  </a:lnTo>
                  <a:lnTo>
                    <a:pt x="15" y="242"/>
                  </a:lnTo>
                  <a:lnTo>
                    <a:pt x="11" y="232"/>
                  </a:lnTo>
                  <a:lnTo>
                    <a:pt x="8" y="221"/>
                  </a:lnTo>
                  <a:lnTo>
                    <a:pt x="6" y="212"/>
                  </a:lnTo>
                  <a:lnTo>
                    <a:pt x="4" y="200"/>
                  </a:lnTo>
                  <a:lnTo>
                    <a:pt x="2" y="189"/>
                  </a:lnTo>
                  <a:lnTo>
                    <a:pt x="2" y="178"/>
                  </a:lnTo>
                  <a:lnTo>
                    <a:pt x="0" y="166"/>
                  </a:lnTo>
                  <a:lnTo>
                    <a:pt x="2" y="154"/>
                  </a:lnTo>
                  <a:lnTo>
                    <a:pt x="2" y="143"/>
                  </a:lnTo>
                  <a:lnTo>
                    <a:pt x="4" y="132"/>
                  </a:lnTo>
                  <a:lnTo>
                    <a:pt x="6" y="122"/>
                  </a:lnTo>
                  <a:lnTo>
                    <a:pt x="8" y="110"/>
                  </a:lnTo>
                  <a:lnTo>
                    <a:pt x="11" y="99"/>
                  </a:lnTo>
                  <a:lnTo>
                    <a:pt x="15" y="90"/>
                  </a:lnTo>
                  <a:lnTo>
                    <a:pt x="20" y="79"/>
                  </a:lnTo>
                  <a:lnTo>
                    <a:pt x="24" y="70"/>
                  </a:lnTo>
                  <a:lnTo>
                    <a:pt x="30" y="60"/>
                  </a:lnTo>
                  <a:lnTo>
                    <a:pt x="35" y="52"/>
                  </a:lnTo>
                  <a:lnTo>
                    <a:pt x="42" y="44"/>
                  </a:lnTo>
                  <a:lnTo>
                    <a:pt x="49" y="37"/>
                  </a:lnTo>
                  <a:lnTo>
                    <a:pt x="57" y="30"/>
                  </a:lnTo>
                  <a:lnTo>
                    <a:pt x="64" y="24"/>
                  </a:lnTo>
                  <a:lnTo>
                    <a:pt x="72" y="19"/>
                  </a:lnTo>
                  <a:lnTo>
                    <a:pt x="82" y="15"/>
                  </a:lnTo>
                  <a:lnTo>
                    <a:pt x="90" y="10"/>
                  </a:lnTo>
                  <a:lnTo>
                    <a:pt x="100" y="7"/>
                  </a:lnTo>
                  <a:lnTo>
                    <a:pt x="111" y="4"/>
                  </a:lnTo>
                  <a:lnTo>
                    <a:pt x="120" y="2"/>
                  </a:lnTo>
                  <a:lnTo>
                    <a:pt x="131" y="1"/>
                  </a:lnTo>
                  <a:lnTo>
                    <a:pt x="142" y="0"/>
                  </a:lnTo>
                  <a:lnTo>
                    <a:pt x="153" y="0"/>
                  </a:lnTo>
                  <a:lnTo>
                    <a:pt x="170" y="0"/>
                  </a:lnTo>
                  <a:lnTo>
                    <a:pt x="185" y="2"/>
                  </a:lnTo>
                  <a:lnTo>
                    <a:pt x="200" y="6"/>
                  </a:lnTo>
                  <a:lnTo>
                    <a:pt x="213" y="10"/>
                  </a:lnTo>
                  <a:lnTo>
                    <a:pt x="226" y="17"/>
                  </a:lnTo>
                  <a:lnTo>
                    <a:pt x="237" y="24"/>
                  </a:lnTo>
                  <a:lnTo>
                    <a:pt x="246" y="33"/>
                  </a:lnTo>
                  <a:lnTo>
                    <a:pt x="255" y="42"/>
                  </a:lnTo>
                  <a:lnTo>
                    <a:pt x="262" y="53"/>
                  </a:lnTo>
                  <a:lnTo>
                    <a:pt x="268" y="65"/>
                  </a:lnTo>
                  <a:lnTo>
                    <a:pt x="274" y="79"/>
                  </a:lnTo>
                  <a:lnTo>
                    <a:pt x="278" y="94"/>
                  </a:lnTo>
                  <a:lnTo>
                    <a:pt x="242" y="105"/>
                  </a:lnTo>
                  <a:lnTo>
                    <a:pt x="238" y="93"/>
                  </a:lnTo>
                  <a:lnTo>
                    <a:pt x="233" y="82"/>
                  </a:lnTo>
                  <a:lnTo>
                    <a:pt x="229" y="74"/>
                  </a:lnTo>
                  <a:lnTo>
                    <a:pt x="225" y="67"/>
                  </a:lnTo>
                  <a:lnTo>
                    <a:pt x="219" y="60"/>
                  </a:lnTo>
                  <a:lnTo>
                    <a:pt x="212" y="54"/>
                  </a:lnTo>
                  <a:lnTo>
                    <a:pt x="205" y="48"/>
                  </a:lnTo>
                  <a:lnTo>
                    <a:pt x="195" y="44"/>
                  </a:lnTo>
                  <a:lnTo>
                    <a:pt x="186" y="40"/>
                  </a:lnTo>
                  <a:lnTo>
                    <a:pt x="175" y="38"/>
                  </a:lnTo>
                  <a:lnTo>
                    <a:pt x="165" y="36"/>
                  </a:lnTo>
                  <a:lnTo>
                    <a:pt x="154" y="36"/>
                  </a:lnTo>
                  <a:lnTo>
                    <a:pt x="140" y="36"/>
                  </a:lnTo>
                  <a:lnTo>
                    <a:pt x="128" y="38"/>
                  </a:lnTo>
                  <a:lnTo>
                    <a:pt x="116" y="41"/>
                  </a:lnTo>
                  <a:lnTo>
                    <a:pt x="105" y="44"/>
                  </a:lnTo>
                  <a:lnTo>
                    <a:pt x="96" y="50"/>
                  </a:lnTo>
                  <a:lnTo>
                    <a:pt x="87" y="55"/>
                  </a:lnTo>
                  <a:lnTo>
                    <a:pt x="80" y="61"/>
                  </a:lnTo>
                  <a:lnTo>
                    <a:pt x="74" y="68"/>
                  </a:lnTo>
                  <a:lnTo>
                    <a:pt x="67" y="75"/>
                  </a:lnTo>
                  <a:lnTo>
                    <a:pt x="62" y="82"/>
                  </a:lnTo>
                  <a:lnTo>
                    <a:pt x="58" y="91"/>
                  </a:lnTo>
                  <a:lnTo>
                    <a:pt x="53" y="99"/>
                  </a:lnTo>
                  <a:lnTo>
                    <a:pt x="49" y="114"/>
                  </a:lnTo>
                  <a:lnTo>
                    <a:pt x="45" y="130"/>
                  </a:lnTo>
                  <a:lnTo>
                    <a:pt x="43" y="147"/>
                  </a:lnTo>
                  <a:lnTo>
                    <a:pt x="43" y="164"/>
                  </a:lnTo>
                  <a:lnTo>
                    <a:pt x="43" y="184"/>
                  </a:lnTo>
                  <a:lnTo>
                    <a:pt x="46" y="203"/>
                  </a:lnTo>
                  <a:lnTo>
                    <a:pt x="48" y="212"/>
                  </a:lnTo>
                  <a:lnTo>
                    <a:pt x="50" y="220"/>
                  </a:lnTo>
                  <a:lnTo>
                    <a:pt x="53" y="228"/>
                  </a:lnTo>
                  <a:lnTo>
                    <a:pt x="57" y="235"/>
                  </a:lnTo>
                  <a:lnTo>
                    <a:pt x="60" y="242"/>
                  </a:lnTo>
                  <a:lnTo>
                    <a:pt x="64" y="249"/>
                  </a:lnTo>
                  <a:lnTo>
                    <a:pt x="68" y="255"/>
                  </a:lnTo>
                  <a:lnTo>
                    <a:pt x="74" y="260"/>
                  </a:lnTo>
                  <a:lnTo>
                    <a:pt x="79" y="266"/>
                  </a:lnTo>
                  <a:lnTo>
                    <a:pt x="84" y="270"/>
                  </a:lnTo>
                  <a:lnTo>
                    <a:pt x="90" y="274"/>
                  </a:lnTo>
                  <a:lnTo>
                    <a:pt x="97" y="278"/>
                  </a:lnTo>
                  <a:lnTo>
                    <a:pt x="111" y="284"/>
                  </a:lnTo>
                  <a:lnTo>
                    <a:pt x="124" y="288"/>
                  </a:lnTo>
                  <a:lnTo>
                    <a:pt x="139" y="291"/>
                  </a:lnTo>
                  <a:lnTo>
                    <a:pt x="154" y="292"/>
                  </a:lnTo>
                  <a:lnTo>
                    <a:pt x="167" y="291"/>
                  </a:lnTo>
                  <a:lnTo>
                    <a:pt x="181" y="289"/>
                  </a:lnTo>
                  <a:lnTo>
                    <a:pt x="192" y="286"/>
                  </a:lnTo>
                  <a:lnTo>
                    <a:pt x="205" y="282"/>
                  </a:lnTo>
                  <a:lnTo>
                    <a:pt x="217" y="276"/>
                  </a:lnTo>
                  <a:lnTo>
                    <a:pt x="227" y="270"/>
                  </a:lnTo>
                  <a:lnTo>
                    <a:pt x="236" y="265"/>
                  </a:lnTo>
                  <a:lnTo>
                    <a:pt x="243" y="258"/>
                  </a:lnTo>
                  <a:lnTo>
                    <a:pt x="243" y="199"/>
                  </a:lnTo>
                  <a:lnTo>
                    <a:pt x="154" y="199"/>
                  </a:lnTo>
                  <a:close/>
                </a:path>
              </a:pathLst>
            </a:custGeom>
            <a:solidFill>
              <a:srgbClr val="d79f00"/>
            </a:solidFill>
            <a:ln w="0">
              <a:noFill/>
            </a:ln>
          </p:spPr>
          <p:style>
            <a:lnRef idx="0"/>
            <a:fillRef idx="0"/>
            <a:effectRef idx="0"/>
            <a:fontRef idx="minor"/>
          </p:style>
          <p:txBody>
            <a:bodyPr lIns="90000" rIns="90000" tIns="15840" bIns="15840" anchor="t">
              <a:noAutofit/>
            </a:bodyPr>
            <a:p>
              <a:pPr>
                <a:lnSpc>
                  <a:spcPct val="100000"/>
                </a:lnSpc>
              </a:pPr>
              <a:endParaRPr b="0" lang="en-US" sz="1800" spc="-1" strike="noStrike">
                <a:solidFill>
                  <a:srgbClr val="d79f00"/>
                </a:solidFill>
                <a:latin typeface="Arial"/>
                <a:ea typeface="宋体"/>
              </a:endParaRPr>
            </a:p>
          </p:txBody>
        </p:sp>
        <p:sp>
          <p:nvSpPr>
            <p:cNvPr id="130" name="Freeform 56"/>
            <p:cNvSpPr/>
            <p:nvPr/>
          </p:nvSpPr>
          <p:spPr>
            <a:xfrm>
              <a:off x="3963600" y="9351360"/>
              <a:ext cx="45000" cy="59400"/>
            </a:xfrm>
            <a:custGeom>
              <a:avLst/>
              <a:gdLst>
                <a:gd name="textAreaLeft" fmla="*/ 0 w 45000"/>
                <a:gd name="textAreaRight" fmla="*/ 45360 w 45000"/>
                <a:gd name="textAreaTop" fmla="*/ 0 h 59400"/>
                <a:gd name="textAreaBottom" fmla="*/ 59760 h 59400"/>
              </a:gdLst>
              <a:ahLst/>
              <a:rect l="textAreaLeft" t="textAreaTop" r="textAreaRight" b="textAreaBottom"/>
              <a:pathLst>
                <a:path w="227" h="320">
                  <a:moveTo>
                    <a:pt x="0" y="320"/>
                  </a:moveTo>
                  <a:lnTo>
                    <a:pt x="0" y="0"/>
                  </a:lnTo>
                  <a:lnTo>
                    <a:pt x="219" y="0"/>
                  </a:lnTo>
                  <a:lnTo>
                    <a:pt x="219" y="37"/>
                  </a:lnTo>
                  <a:lnTo>
                    <a:pt x="40" y="37"/>
                  </a:lnTo>
                  <a:lnTo>
                    <a:pt x="40" y="136"/>
                  </a:lnTo>
                  <a:lnTo>
                    <a:pt x="209" y="136"/>
                  </a:lnTo>
                  <a:lnTo>
                    <a:pt x="209" y="173"/>
                  </a:lnTo>
                  <a:lnTo>
                    <a:pt x="40" y="173"/>
                  </a:lnTo>
                  <a:lnTo>
                    <a:pt x="40" y="282"/>
                  </a:lnTo>
                  <a:lnTo>
                    <a:pt x="227" y="282"/>
                  </a:lnTo>
                  <a:lnTo>
                    <a:pt x="227" y="320"/>
                  </a:lnTo>
                  <a:lnTo>
                    <a:pt x="0" y="320"/>
                  </a:lnTo>
                  <a:close/>
                </a:path>
              </a:pathLst>
            </a:custGeom>
            <a:solidFill>
              <a:srgbClr val="d79f00"/>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131" name="Freeform 57"/>
            <p:cNvSpPr/>
            <p:nvPr/>
          </p:nvSpPr>
          <p:spPr>
            <a:xfrm>
              <a:off x="4024080" y="9351360"/>
              <a:ext cx="57240" cy="59400"/>
            </a:xfrm>
            <a:custGeom>
              <a:avLst/>
              <a:gdLst>
                <a:gd name="textAreaLeft" fmla="*/ 0 w 57240"/>
                <a:gd name="textAreaRight" fmla="*/ 57600 w 57240"/>
                <a:gd name="textAreaTop" fmla="*/ 0 h 59400"/>
                <a:gd name="textAreaBottom" fmla="*/ 59760 h 59400"/>
              </a:gdLst>
              <a:ahLst/>
              <a:rect l="textAreaLeft" t="textAreaTop" r="textAreaRight" b="textAreaBottom"/>
              <a:pathLst>
                <a:path w="290" h="320">
                  <a:moveTo>
                    <a:pt x="0" y="320"/>
                  </a:moveTo>
                  <a:lnTo>
                    <a:pt x="0" y="0"/>
                  </a:lnTo>
                  <a:lnTo>
                    <a:pt x="61" y="0"/>
                  </a:lnTo>
                  <a:lnTo>
                    <a:pt x="133" y="226"/>
                  </a:lnTo>
                  <a:lnTo>
                    <a:pt x="138" y="241"/>
                  </a:lnTo>
                  <a:lnTo>
                    <a:pt x="141" y="254"/>
                  </a:lnTo>
                  <a:lnTo>
                    <a:pt x="144" y="265"/>
                  </a:lnTo>
                  <a:lnTo>
                    <a:pt x="147" y="273"/>
                  </a:lnTo>
                  <a:lnTo>
                    <a:pt x="151" y="264"/>
                  </a:lnTo>
                  <a:lnTo>
                    <a:pt x="154" y="252"/>
                  </a:lnTo>
                  <a:lnTo>
                    <a:pt x="158" y="238"/>
                  </a:lnTo>
                  <a:lnTo>
                    <a:pt x="163" y="223"/>
                  </a:lnTo>
                  <a:lnTo>
                    <a:pt x="236" y="0"/>
                  </a:lnTo>
                  <a:lnTo>
                    <a:pt x="290" y="0"/>
                  </a:lnTo>
                  <a:lnTo>
                    <a:pt x="290" y="320"/>
                  </a:lnTo>
                  <a:lnTo>
                    <a:pt x="252" y="320"/>
                  </a:lnTo>
                  <a:lnTo>
                    <a:pt x="252" y="52"/>
                  </a:lnTo>
                  <a:lnTo>
                    <a:pt x="163" y="320"/>
                  </a:lnTo>
                  <a:lnTo>
                    <a:pt x="127" y="320"/>
                  </a:lnTo>
                  <a:lnTo>
                    <a:pt x="39" y="48"/>
                  </a:lnTo>
                  <a:lnTo>
                    <a:pt x="39" y="320"/>
                  </a:lnTo>
                  <a:lnTo>
                    <a:pt x="0" y="320"/>
                  </a:lnTo>
                  <a:close/>
                </a:path>
              </a:pathLst>
            </a:custGeom>
            <a:solidFill>
              <a:srgbClr val="d79f00"/>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132" name="Freeform 58"/>
            <p:cNvSpPr/>
            <p:nvPr/>
          </p:nvSpPr>
          <p:spPr>
            <a:xfrm>
              <a:off x="4099320" y="9351360"/>
              <a:ext cx="43560" cy="59400"/>
            </a:xfrm>
            <a:custGeom>
              <a:avLst/>
              <a:gdLst>
                <a:gd name="textAreaLeft" fmla="*/ 0 w 43560"/>
                <a:gd name="textAreaRight" fmla="*/ 43920 w 43560"/>
                <a:gd name="textAreaTop" fmla="*/ 0 h 59400"/>
                <a:gd name="textAreaBottom" fmla="*/ 59760 h 59400"/>
              </a:gdLst>
              <a:ahLst/>
              <a:rect l="textAreaLeft" t="textAreaTop" r="textAreaRight" b="textAreaBottom"/>
              <a:pathLst>
                <a:path w="227" h="320">
                  <a:moveTo>
                    <a:pt x="0" y="320"/>
                  </a:moveTo>
                  <a:lnTo>
                    <a:pt x="0" y="0"/>
                  </a:lnTo>
                  <a:lnTo>
                    <a:pt x="220" y="0"/>
                  </a:lnTo>
                  <a:lnTo>
                    <a:pt x="220" y="37"/>
                  </a:lnTo>
                  <a:lnTo>
                    <a:pt x="40" y="37"/>
                  </a:lnTo>
                  <a:lnTo>
                    <a:pt x="40" y="136"/>
                  </a:lnTo>
                  <a:lnTo>
                    <a:pt x="208" y="136"/>
                  </a:lnTo>
                  <a:lnTo>
                    <a:pt x="208" y="173"/>
                  </a:lnTo>
                  <a:lnTo>
                    <a:pt x="40" y="173"/>
                  </a:lnTo>
                  <a:lnTo>
                    <a:pt x="40" y="282"/>
                  </a:lnTo>
                  <a:lnTo>
                    <a:pt x="227" y="282"/>
                  </a:lnTo>
                  <a:lnTo>
                    <a:pt x="227" y="320"/>
                  </a:lnTo>
                  <a:lnTo>
                    <a:pt x="0" y="320"/>
                  </a:lnTo>
                  <a:close/>
                </a:path>
              </a:pathLst>
            </a:custGeom>
            <a:solidFill>
              <a:srgbClr val="d79f00"/>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133" name="Freeform 59"/>
            <p:cNvSpPr/>
            <p:nvPr/>
          </p:nvSpPr>
          <p:spPr>
            <a:xfrm>
              <a:off x="4159440" y="9351360"/>
              <a:ext cx="46080" cy="59400"/>
            </a:xfrm>
            <a:custGeom>
              <a:avLst/>
              <a:gdLst>
                <a:gd name="textAreaLeft" fmla="*/ 0 w 46080"/>
                <a:gd name="textAreaRight" fmla="*/ 46440 w 46080"/>
                <a:gd name="textAreaTop" fmla="*/ 0 h 59400"/>
                <a:gd name="textAreaBottom" fmla="*/ 59760 h 59400"/>
              </a:gdLst>
              <a:ahLst/>
              <a:rect l="textAreaLeft" t="textAreaTop" r="textAreaRight" b="textAreaBottom"/>
              <a:pathLst>
                <a:path w="240" h="320">
                  <a:moveTo>
                    <a:pt x="0" y="320"/>
                  </a:moveTo>
                  <a:lnTo>
                    <a:pt x="0" y="0"/>
                  </a:lnTo>
                  <a:lnTo>
                    <a:pt x="41" y="0"/>
                  </a:lnTo>
                  <a:lnTo>
                    <a:pt x="201" y="251"/>
                  </a:lnTo>
                  <a:lnTo>
                    <a:pt x="201" y="0"/>
                  </a:lnTo>
                  <a:lnTo>
                    <a:pt x="240" y="0"/>
                  </a:lnTo>
                  <a:lnTo>
                    <a:pt x="240" y="320"/>
                  </a:lnTo>
                  <a:lnTo>
                    <a:pt x="199" y="320"/>
                  </a:lnTo>
                  <a:lnTo>
                    <a:pt x="38" y="68"/>
                  </a:lnTo>
                  <a:lnTo>
                    <a:pt x="38" y="320"/>
                  </a:lnTo>
                  <a:lnTo>
                    <a:pt x="0" y="320"/>
                  </a:lnTo>
                  <a:close/>
                </a:path>
              </a:pathLst>
            </a:custGeom>
            <a:solidFill>
              <a:srgbClr val="d79f00"/>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134" name="Freeform 60"/>
            <p:cNvSpPr/>
            <p:nvPr/>
          </p:nvSpPr>
          <p:spPr>
            <a:xfrm>
              <a:off x="4219920" y="9351360"/>
              <a:ext cx="47520" cy="59400"/>
            </a:xfrm>
            <a:custGeom>
              <a:avLst/>
              <a:gdLst>
                <a:gd name="textAreaLeft" fmla="*/ 0 w 47520"/>
                <a:gd name="textAreaRight" fmla="*/ 47880 w 47520"/>
                <a:gd name="textAreaTop" fmla="*/ 0 h 59400"/>
                <a:gd name="textAreaBottom" fmla="*/ 59760 h 59400"/>
              </a:gdLst>
              <a:ahLst/>
              <a:rect l="textAreaLeft" t="textAreaTop" r="textAreaRight" b="textAreaBottom"/>
              <a:pathLst>
                <a:path w="242" h="320">
                  <a:moveTo>
                    <a:pt x="101" y="320"/>
                  </a:moveTo>
                  <a:lnTo>
                    <a:pt x="101" y="37"/>
                  </a:lnTo>
                  <a:lnTo>
                    <a:pt x="0" y="37"/>
                  </a:lnTo>
                  <a:lnTo>
                    <a:pt x="0" y="0"/>
                  </a:lnTo>
                  <a:lnTo>
                    <a:pt x="242" y="0"/>
                  </a:lnTo>
                  <a:lnTo>
                    <a:pt x="242" y="37"/>
                  </a:lnTo>
                  <a:lnTo>
                    <a:pt x="141" y="37"/>
                  </a:lnTo>
                  <a:lnTo>
                    <a:pt x="141" y="320"/>
                  </a:lnTo>
                  <a:lnTo>
                    <a:pt x="101" y="320"/>
                  </a:lnTo>
                  <a:close/>
                </a:path>
              </a:pathLst>
            </a:custGeom>
            <a:solidFill>
              <a:srgbClr val="d79f00"/>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135" name="Freeform 61"/>
            <p:cNvSpPr/>
            <p:nvPr/>
          </p:nvSpPr>
          <p:spPr>
            <a:xfrm>
              <a:off x="4303440" y="9350280"/>
              <a:ext cx="51840" cy="60480"/>
            </a:xfrm>
            <a:custGeom>
              <a:avLst/>
              <a:gdLst>
                <a:gd name="textAreaLeft" fmla="*/ 0 w 51840"/>
                <a:gd name="textAreaRight" fmla="*/ 52200 w 51840"/>
                <a:gd name="textAreaTop" fmla="*/ 0 h 60480"/>
                <a:gd name="textAreaBottom" fmla="*/ 60840 h 60480"/>
              </a:gdLst>
              <a:ahLst/>
              <a:rect l="textAreaLeft" t="textAreaTop" r="textAreaRight" b="textAreaBottom"/>
              <a:pathLst>
                <a:path w="270" h="330">
                  <a:moveTo>
                    <a:pt x="230" y="213"/>
                  </a:moveTo>
                  <a:lnTo>
                    <a:pt x="270" y="223"/>
                  </a:lnTo>
                  <a:lnTo>
                    <a:pt x="266" y="236"/>
                  </a:lnTo>
                  <a:lnTo>
                    <a:pt x="262" y="248"/>
                  </a:lnTo>
                  <a:lnTo>
                    <a:pt x="257" y="258"/>
                  </a:lnTo>
                  <a:lnTo>
                    <a:pt x="252" y="269"/>
                  </a:lnTo>
                  <a:lnTo>
                    <a:pt x="246" y="278"/>
                  </a:lnTo>
                  <a:lnTo>
                    <a:pt x="239" y="288"/>
                  </a:lnTo>
                  <a:lnTo>
                    <a:pt x="232" y="295"/>
                  </a:lnTo>
                  <a:lnTo>
                    <a:pt x="224" y="303"/>
                  </a:lnTo>
                  <a:lnTo>
                    <a:pt x="216" y="309"/>
                  </a:lnTo>
                  <a:lnTo>
                    <a:pt x="206" y="314"/>
                  </a:lnTo>
                  <a:lnTo>
                    <a:pt x="197" y="320"/>
                  </a:lnTo>
                  <a:lnTo>
                    <a:pt x="187" y="323"/>
                  </a:lnTo>
                  <a:lnTo>
                    <a:pt x="177" y="326"/>
                  </a:lnTo>
                  <a:lnTo>
                    <a:pt x="166" y="328"/>
                  </a:lnTo>
                  <a:lnTo>
                    <a:pt x="156" y="329"/>
                  </a:lnTo>
                  <a:lnTo>
                    <a:pt x="144" y="330"/>
                  </a:lnTo>
                  <a:lnTo>
                    <a:pt x="131" y="329"/>
                  </a:lnTo>
                  <a:lnTo>
                    <a:pt x="120" y="329"/>
                  </a:lnTo>
                  <a:lnTo>
                    <a:pt x="109" y="327"/>
                  </a:lnTo>
                  <a:lnTo>
                    <a:pt x="98" y="325"/>
                  </a:lnTo>
                  <a:lnTo>
                    <a:pt x="89" y="322"/>
                  </a:lnTo>
                  <a:lnTo>
                    <a:pt x="80" y="319"/>
                  </a:lnTo>
                  <a:lnTo>
                    <a:pt x="71" y="314"/>
                  </a:lnTo>
                  <a:lnTo>
                    <a:pt x="63" y="309"/>
                  </a:lnTo>
                  <a:lnTo>
                    <a:pt x="56" y="304"/>
                  </a:lnTo>
                  <a:lnTo>
                    <a:pt x="49" y="298"/>
                  </a:lnTo>
                  <a:lnTo>
                    <a:pt x="42" y="290"/>
                  </a:lnTo>
                  <a:lnTo>
                    <a:pt x="36" y="284"/>
                  </a:lnTo>
                  <a:lnTo>
                    <a:pt x="31" y="275"/>
                  </a:lnTo>
                  <a:lnTo>
                    <a:pt x="25" y="267"/>
                  </a:lnTo>
                  <a:lnTo>
                    <a:pt x="21" y="257"/>
                  </a:lnTo>
                  <a:lnTo>
                    <a:pt x="17" y="248"/>
                  </a:lnTo>
                  <a:lnTo>
                    <a:pt x="13" y="238"/>
                  </a:lnTo>
                  <a:lnTo>
                    <a:pt x="9" y="228"/>
                  </a:lnTo>
                  <a:lnTo>
                    <a:pt x="6" y="217"/>
                  </a:lnTo>
                  <a:lnTo>
                    <a:pt x="4" y="206"/>
                  </a:lnTo>
                  <a:lnTo>
                    <a:pt x="3" y="196"/>
                  </a:lnTo>
                  <a:lnTo>
                    <a:pt x="1" y="185"/>
                  </a:lnTo>
                  <a:lnTo>
                    <a:pt x="1" y="174"/>
                  </a:lnTo>
                  <a:lnTo>
                    <a:pt x="0" y="162"/>
                  </a:lnTo>
                  <a:lnTo>
                    <a:pt x="1" y="150"/>
                  </a:lnTo>
                  <a:lnTo>
                    <a:pt x="1" y="139"/>
                  </a:lnTo>
                  <a:lnTo>
                    <a:pt x="3" y="127"/>
                  </a:lnTo>
                  <a:lnTo>
                    <a:pt x="5" y="115"/>
                  </a:lnTo>
                  <a:lnTo>
                    <a:pt x="7" y="105"/>
                  </a:lnTo>
                  <a:lnTo>
                    <a:pt x="10" y="95"/>
                  </a:lnTo>
                  <a:lnTo>
                    <a:pt x="15" y="85"/>
                  </a:lnTo>
                  <a:lnTo>
                    <a:pt x="19" y="75"/>
                  </a:lnTo>
                  <a:lnTo>
                    <a:pt x="23" y="67"/>
                  </a:lnTo>
                  <a:lnTo>
                    <a:pt x="28" y="58"/>
                  </a:lnTo>
                  <a:lnTo>
                    <a:pt x="34" y="50"/>
                  </a:lnTo>
                  <a:lnTo>
                    <a:pt x="40" y="42"/>
                  </a:lnTo>
                  <a:lnTo>
                    <a:pt x="47" y="36"/>
                  </a:lnTo>
                  <a:lnTo>
                    <a:pt x="54" y="29"/>
                  </a:lnTo>
                  <a:lnTo>
                    <a:pt x="62" y="24"/>
                  </a:lnTo>
                  <a:lnTo>
                    <a:pt x="70" y="19"/>
                  </a:lnTo>
                  <a:lnTo>
                    <a:pt x="78" y="15"/>
                  </a:lnTo>
                  <a:lnTo>
                    <a:pt x="88" y="10"/>
                  </a:lnTo>
                  <a:lnTo>
                    <a:pt x="96" y="7"/>
                  </a:lnTo>
                  <a:lnTo>
                    <a:pt x="106" y="4"/>
                  </a:lnTo>
                  <a:lnTo>
                    <a:pt x="114" y="2"/>
                  </a:lnTo>
                  <a:lnTo>
                    <a:pt x="125" y="1"/>
                  </a:lnTo>
                  <a:lnTo>
                    <a:pt x="134" y="0"/>
                  </a:lnTo>
                  <a:lnTo>
                    <a:pt x="144" y="0"/>
                  </a:lnTo>
                  <a:lnTo>
                    <a:pt x="156" y="0"/>
                  </a:lnTo>
                  <a:lnTo>
                    <a:pt x="166" y="1"/>
                  </a:lnTo>
                  <a:lnTo>
                    <a:pt x="177" y="3"/>
                  </a:lnTo>
                  <a:lnTo>
                    <a:pt x="186" y="5"/>
                  </a:lnTo>
                  <a:lnTo>
                    <a:pt x="196" y="9"/>
                  </a:lnTo>
                  <a:lnTo>
                    <a:pt x="204" y="14"/>
                  </a:lnTo>
                  <a:lnTo>
                    <a:pt x="213" y="18"/>
                  </a:lnTo>
                  <a:lnTo>
                    <a:pt x="221" y="24"/>
                  </a:lnTo>
                  <a:lnTo>
                    <a:pt x="229" y="30"/>
                  </a:lnTo>
                  <a:lnTo>
                    <a:pt x="235" y="37"/>
                  </a:lnTo>
                  <a:lnTo>
                    <a:pt x="241" y="45"/>
                  </a:lnTo>
                  <a:lnTo>
                    <a:pt x="248" y="53"/>
                  </a:lnTo>
                  <a:lnTo>
                    <a:pt x="253" y="62"/>
                  </a:lnTo>
                  <a:lnTo>
                    <a:pt x="257" y="72"/>
                  </a:lnTo>
                  <a:lnTo>
                    <a:pt x="261" y="81"/>
                  </a:lnTo>
                  <a:lnTo>
                    <a:pt x="265" y="93"/>
                  </a:lnTo>
                  <a:lnTo>
                    <a:pt x="224" y="103"/>
                  </a:lnTo>
                  <a:lnTo>
                    <a:pt x="219" y="86"/>
                  </a:lnTo>
                  <a:lnTo>
                    <a:pt x="212" y="72"/>
                  </a:lnTo>
                  <a:lnTo>
                    <a:pt x="207" y="67"/>
                  </a:lnTo>
                  <a:lnTo>
                    <a:pt x="203" y="61"/>
                  </a:lnTo>
                  <a:lnTo>
                    <a:pt x="199" y="56"/>
                  </a:lnTo>
                  <a:lnTo>
                    <a:pt x="194" y="52"/>
                  </a:lnTo>
                  <a:lnTo>
                    <a:pt x="188" y="47"/>
                  </a:lnTo>
                  <a:lnTo>
                    <a:pt x="183" y="44"/>
                  </a:lnTo>
                  <a:lnTo>
                    <a:pt x="178" y="42"/>
                  </a:lnTo>
                  <a:lnTo>
                    <a:pt x="171" y="40"/>
                  </a:lnTo>
                  <a:lnTo>
                    <a:pt x="165" y="38"/>
                  </a:lnTo>
                  <a:lnTo>
                    <a:pt x="158" y="37"/>
                  </a:lnTo>
                  <a:lnTo>
                    <a:pt x="150" y="36"/>
                  </a:lnTo>
                  <a:lnTo>
                    <a:pt x="143" y="36"/>
                  </a:lnTo>
                  <a:lnTo>
                    <a:pt x="134" y="36"/>
                  </a:lnTo>
                  <a:lnTo>
                    <a:pt x="126" y="37"/>
                  </a:lnTo>
                  <a:lnTo>
                    <a:pt x="118" y="38"/>
                  </a:lnTo>
                  <a:lnTo>
                    <a:pt x="111" y="40"/>
                  </a:lnTo>
                  <a:lnTo>
                    <a:pt x="104" y="42"/>
                  </a:lnTo>
                  <a:lnTo>
                    <a:pt x="97" y="45"/>
                  </a:lnTo>
                  <a:lnTo>
                    <a:pt x="91" y="50"/>
                  </a:lnTo>
                  <a:lnTo>
                    <a:pt x="85" y="53"/>
                  </a:lnTo>
                  <a:lnTo>
                    <a:pt x="79" y="58"/>
                  </a:lnTo>
                  <a:lnTo>
                    <a:pt x="74" y="63"/>
                  </a:lnTo>
                  <a:lnTo>
                    <a:pt x="69" y="69"/>
                  </a:lnTo>
                  <a:lnTo>
                    <a:pt x="64" y="74"/>
                  </a:lnTo>
                  <a:lnTo>
                    <a:pt x="60" y="80"/>
                  </a:lnTo>
                  <a:lnTo>
                    <a:pt x="57" y="87"/>
                  </a:lnTo>
                  <a:lnTo>
                    <a:pt x="54" y="93"/>
                  </a:lnTo>
                  <a:lnTo>
                    <a:pt x="52" y="100"/>
                  </a:lnTo>
                  <a:lnTo>
                    <a:pt x="47" y="115"/>
                  </a:lnTo>
                  <a:lnTo>
                    <a:pt x="44" y="131"/>
                  </a:lnTo>
                  <a:lnTo>
                    <a:pt x="42" y="146"/>
                  </a:lnTo>
                  <a:lnTo>
                    <a:pt x="42" y="162"/>
                  </a:lnTo>
                  <a:lnTo>
                    <a:pt x="42" y="182"/>
                  </a:lnTo>
                  <a:lnTo>
                    <a:pt x="44" y="200"/>
                  </a:lnTo>
                  <a:lnTo>
                    <a:pt x="49" y="217"/>
                  </a:lnTo>
                  <a:lnTo>
                    <a:pt x="53" y="233"/>
                  </a:lnTo>
                  <a:lnTo>
                    <a:pt x="56" y="240"/>
                  </a:lnTo>
                  <a:lnTo>
                    <a:pt x="59" y="248"/>
                  </a:lnTo>
                  <a:lnTo>
                    <a:pt x="63" y="254"/>
                  </a:lnTo>
                  <a:lnTo>
                    <a:pt x="68" y="260"/>
                  </a:lnTo>
                  <a:lnTo>
                    <a:pt x="72" y="266"/>
                  </a:lnTo>
                  <a:lnTo>
                    <a:pt x="77" y="270"/>
                  </a:lnTo>
                  <a:lnTo>
                    <a:pt x="82" y="275"/>
                  </a:lnTo>
                  <a:lnTo>
                    <a:pt x="89" y="278"/>
                  </a:lnTo>
                  <a:lnTo>
                    <a:pt x="100" y="286"/>
                  </a:lnTo>
                  <a:lnTo>
                    <a:pt x="113" y="290"/>
                  </a:lnTo>
                  <a:lnTo>
                    <a:pt x="127" y="293"/>
                  </a:lnTo>
                  <a:lnTo>
                    <a:pt x="140" y="294"/>
                  </a:lnTo>
                  <a:lnTo>
                    <a:pt x="148" y="293"/>
                  </a:lnTo>
                  <a:lnTo>
                    <a:pt x="157" y="292"/>
                  </a:lnTo>
                  <a:lnTo>
                    <a:pt x="164" y="291"/>
                  </a:lnTo>
                  <a:lnTo>
                    <a:pt x="171" y="289"/>
                  </a:lnTo>
                  <a:lnTo>
                    <a:pt x="179" y="286"/>
                  </a:lnTo>
                  <a:lnTo>
                    <a:pt x="185" y="283"/>
                  </a:lnTo>
                  <a:lnTo>
                    <a:pt x="192" y="278"/>
                  </a:lnTo>
                  <a:lnTo>
                    <a:pt x="198" y="273"/>
                  </a:lnTo>
                  <a:lnTo>
                    <a:pt x="203" y="268"/>
                  </a:lnTo>
                  <a:lnTo>
                    <a:pt x="208" y="261"/>
                  </a:lnTo>
                  <a:lnTo>
                    <a:pt x="213" y="255"/>
                  </a:lnTo>
                  <a:lnTo>
                    <a:pt x="217" y="248"/>
                  </a:lnTo>
                  <a:lnTo>
                    <a:pt x="221" y="240"/>
                  </a:lnTo>
                  <a:lnTo>
                    <a:pt x="224" y="232"/>
                  </a:lnTo>
                  <a:lnTo>
                    <a:pt x="226" y="222"/>
                  </a:lnTo>
                  <a:lnTo>
                    <a:pt x="230" y="213"/>
                  </a:lnTo>
                  <a:close/>
                </a:path>
              </a:pathLst>
            </a:custGeom>
            <a:solidFill>
              <a:srgbClr val="d79f00"/>
            </a:solidFill>
            <a:ln w="0">
              <a:noFill/>
            </a:ln>
          </p:spPr>
          <p:style>
            <a:lnRef idx="0"/>
            <a:fillRef idx="0"/>
            <a:effectRef idx="0"/>
            <a:fontRef idx="minor"/>
          </p:style>
          <p:txBody>
            <a:bodyPr lIns="90000" rIns="90000" tIns="15840" bIns="15840" anchor="t">
              <a:noAutofit/>
            </a:bodyPr>
            <a:p>
              <a:pPr>
                <a:lnSpc>
                  <a:spcPct val="100000"/>
                </a:lnSpc>
              </a:pPr>
              <a:endParaRPr b="0" lang="en-US" sz="1800" spc="-1" strike="noStrike">
                <a:solidFill>
                  <a:srgbClr val="d79f00"/>
                </a:solidFill>
                <a:latin typeface="Arial"/>
                <a:ea typeface="宋体"/>
              </a:endParaRPr>
            </a:p>
          </p:txBody>
        </p:sp>
        <p:sp>
          <p:nvSpPr>
            <p:cNvPr id="136" name="Freeform 62"/>
            <p:cNvSpPr/>
            <p:nvPr/>
          </p:nvSpPr>
          <p:spPr>
            <a:xfrm>
              <a:off x="4367520" y="9350280"/>
              <a:ext cx="57240" cy="60480"/>
            </a:xfrm>
            <a:custGeom>
              <a:avLst/>
              <a:gdLst>
                <a:gd name="textAreaLeft" fmla="*/ 0 w 57240"/>
                <a:gd name="textAreaRight" fmla="*/ 57600 w 57240"/>
                <a:gd name="textAreaTop" fmla="*/ 0 h 60480"/>
                <a:gd name="textAreaBottom" fmla="*/ 60840 h 60480"/>
              </a:gdLst>
              <a:ahLst/>
              <a:rect l="textAreaLeft" t="textAreaTop" r="textAreaRight" b="textAreaBottom"/>
              <a:pathLst>
                <a:path w="292" h="331">
                  <a:moveTo>
                    <a:pt x="0" y="170"/>
                  </a:moveTo>
                  <a:lnTo>
                    <a:pt x="1" y="150"/>
                  </a:lnTo>
                  <a:lnTo>
                    <a:pt x="4" y="132"/>
                  </a:lnTo>
                  <a:lnTo>
                    <a:pt x="7" y="115"/>
                  </a:lnTo>
                  <a:lnTo>
                    <a:pt x="11" y="99"/>
                  </a:lnTo>
                  <a:lnTo>
                    <a:pt x="16" y="83"/>
                  </a:lnTo>
                  <a:lnTo>
                    <a:pt x="24" y="70"/>
                  </a:lnTo>
                  <a:lnTo>
                    <a:pt x="32" y="57"/>
                  </a:lnTo>
                  <a:lnTo>
                    <a:pt x="42" y="45"/>
                  </a:lnTo>
                  <a:lnTo>
                    <a:pt x="52" y="35"/>
                  </a:lnTo>
                  <a:lnTo>
                    <a:pt x="63" y="25"/>
                  </a:lnTo>
                  <a:lnTo>
                    <a:pt x="76" y="18"/>
                  </a:lnTo>
                  <a:lnTo>
                    <a:pt x="88" y="11"/>
                  </a:lnTo>
                  <a:lnTo>
                    <a:pt x="102" y="6"/>
                  </a:lnTo>
                  <a:lnTo>
                    <a:pt x="116" y="3"/>
                  </a:lnTo>
                  <a:lnTo>
                    <a:pt x="131" y="1"/>
                  </a:lnTo>
                  <a:lnTo>
                    <a:pt x="147" y="0"/>
                  </a:lnTo>
                  <a:lnTo>
                    <a:pt x="157" y="1"/>
                  </a:lnTo>
                  <a:lnTo>
                    <a:pt x="167" y="2"/>
                  </a:lnTo>
                  <a:lnTo>
                    <a:pt x="177" y="3"/>
                  </a:lnTo>
                  <a:lnTo>
                    <a:pt x="187" y="5"/>
                  </a:lnTo>
                  <a:lnTo>
                    <a:pt x="196" y="8"/>
                  </a:lnTo>
                  <a:lnTo>
                    <a:pt x="205" y="12"/>
                  </a:lnTo>
                  <a:lnTo>
                    <a:pt x="214" y="17"/>
                  </a:lnTo>
                  <a:lnTo>
                    <a:pt x="223" y="21"/>
                  </a:lnTo>
                  <a:lnTo>
                    <a:pt x="231" y="27"/>
                  </a:lnTo>
                  <a:lnTo>
                    <a:pt x="239" y="33"/>
                  </a:lnTo>
                  <a:lnTo>
                    <a:pt x="246" y="40"/>
                  </a:lnTo>
                  <a:lnTo>
                    <a:pt x="252" y="46"/>
                  </a:lnTo>
                  <a:lnTo>
                    <a:pt x="259" y="55"/>
                  </a:lnTo>
                  <a:lnTo>
                    <a:pt x="264" y="62"/>
                  </a:lnTo>
                  <a:lnTo>
                    <a:pt x="269" y="71"/>
                  </a:lnTo>
                  <a:lnTo>
                    <a:pt x="275" y="80"/>
                  </a:lnTo>
                  <a:lnTo>
                    <a:pt x="279" y="90"/>
                  </a:lnTo>
                  <a:lnTo>
                    <a:pt x="282" y="100"/>
                  </a:lnTo>
                  <a:lnTo>
                    <a:pt x="285" y="110"/>
                  </a:lnTo>
                  <a:lnTo>
                    <a:pt x="287" y="120"/>
                  </a:lnTo>
                  <a:lnTo>
                    <a:pt x="290" y="131"/>
                  </a:lnTo>
                  <a:lnTo>
                    <a:pt x="291" y="143"/>
                  </a:lnTo>
                  <a:lnTo>
                    <a:pt x="292" y="154"/>
                  </a:lnTo>
                  <a:lnTo>
                    <a:pt x="292" y="166"/>
                  </a:lnTo>
                  <a:lnTo>
                    <a:pt x="292" y="178"/>
                  </a:lnTo>
                  <a:lnTo>
                    <a:pt x="291" y="189"/>
                  </a:lnTo>
                  <a:lnTo>
                    <a:pt x="290" y="201"/>
                  </a:lnTo>
                  <a:lnTo>
                    <a:pt x="287" y="213"/>
                  </a:lnTo>
                  <a:lnTo>
                    <a:pt x="284" y="223"/>
                  </a:lnTo>
                  <a:lnTo>
                    <a:pt x="281" y="234"/>
                  </a:lnTo>
                  <a:lnTo>
                    <a:pt x="278" y="243"/>
                  </a:lnTo>
                  <a:lnTo>
                    <a:pt x="274" y="253"/>
                  </a:lnTo>
                  <a:lnTo>
                    <a:pt x="268" y="262"/>
                  </a:lnTo>
                  <a:lnTo>
                    <a:pt x="263" y="271"/>
                  </a:lnTo>
                  <a:lnTo>
                    <a:pt x="257" y="279"/>
                  </a:lnTo>
                  <a:lnTo>
                    <a:pt x="250" y="287"/>
                  </a:lnTo>
                  <a:lnTo>
                    <a:pt x="244" y="294"/>
                  </a:lnTo>
                  <a:lnTo>
                    <a:pt x="237" y="301"/>
                  </a:lnTo>
                  <a:lnTo>
                    <a:pt x="229" y="306"/>
                  </a:lnTo>
                  <a:lnTo>
                    <a:pt x="221" y="311"/>
                  </a:lnTo>
                  <a:lnTo>
                    <a:pt x="211" y="315"/>
                  </a:lnTo>
                  <a:lnTo>
                    <a:pt x="203" y="320"/>
                  </a:lnTo>
                  <a:lnTo>
                    <a:pt x="194" y="323"/>
                  </a:lnTo>
                  <a:lnTo>
                    <a:pt x="185" y="326"/>
                  </a:lnTo>
                  <a:lnTo>
                    <a:pt x="175" y="328"/>
                  </a:lnTo>
                  <a:lnTo>
                    <a:pt x="166" y="330"/>
                  </a:lnTo>
                  <a:lnTo>
                    <a:pt x="156" y="330"/>
                  </a:lnTo>
                  <a:lnTo>
                    <a:pt x="147" y="331"/>
                  </a:lnTo>
                  <a:lnTo>
                    <a:pt x="136" y="330"/>
                  </a:lnTo>
                  <a:lnTo>
                    <a:pt x="125" y="329"/>
                  </a:lnTo>
                  <a:lnTo>
                    <a:pt x="116" y="328"/>
                  </a:lnTo>
                  <a:lnTo>
                    <a:pt x="105" y="326"/>
                  </a:lnTo>
                  <a:lnTo>
                    <a:pt x="96" y="323"/>
                  </a:lnTo>
                  <a:lnTo>
                    <a:pt x="87" y="319"/>
                  </a:lnTo>
                  <a:lnTo>
                    <a:pt x="78" y="314"/>
                  </a:lnTo>
                  <a:lnTo>
                    <a:pt x="69" y="309"/>
                  </a:lnTo>
                  <a:lnTo>
                    <a:pt x="61" y="304"/>
                  </a:lnTo>
                  <a:lnTo>
                    <a:pt x="53" y="297"/>
                  </a:lnTo>
                  <a:lnTo>
                    <a:pt x="46" y="291"/>
                  </a:lnTo>
                  <a:lnTo>
                    <a:pt x="40" y="284"/>
                  </a:lnTo>
                  <a:lnTo>
                    <a:pt x="33" y="276"/>
                  </a:lnTo>
                  <a:lnTo>
                    <a:pt x="28" y="268"/>
                  </a:lnTo>
                  <a:lnTo>
                    <a:pt x="23" y="259"/>
                  </a:lnTo>
                  <a:lnTo>
                    <a:pt x="18" y="250"/>
                  </a:lnTo>
                  <a:lnTo>
                    <a:pt x="14" y="240"/>
                  </a:lnTo>
                  <a:lnTo>
                    <a:pt x="11" y="231"/>
                  </a:lnTo>
                  <a:lnTo>
                    <a:pt x="8" y="221"/>
                  </a:lnTo>
                  <a:lnTo>
                    <a:pt x="5" y="211"/>
                  </a:lnTo>
                  <a:lnTo>
                    <a:pt x="4" y="201"/>
                  </a:lnTo>
                  <a:lnTo>
                    <a:pt x="1" y="190"/>
                  </a:lnTo>
                  <a:lnTo>
                    <a:pt x="1" y="180"/>
                  </a:lnTo>
                  <a:lnTo>
                    <a:pt x="0" y="170"/>
                  </a:lnTo>
                  <a:close/>
                  <a:moveTo>
                    <a:pt x="43" y="170"/>
                  </a:moveTo>
                  <a:lnTo>
                    <a:pt x="43" y="185"/>
                  </a:lnTo>
                  <a:lnTo>
                    <a:pt x="44" y="198"/>
                  </a:lnTo>
                  <a:lnTo>
                    <a:pt x="46" y="211"/>
                  </a:lnTo>
                  <a:lnTo>
                    <a:pt x="49" y="222"/>
                  </a:lnTo>
                  <a:lnTo>
                    <a:pt x="53" y="233"/>
                  </a:lnTo>
                  <a:lnTo>
                    <a:pt x="59" y="243"/>
                  </a:lnTo>
                  <a:lnTo>
                    <a:pt x="65" y="253"/>
                  </a:lnTo>
                  <a:lnTo>
                    <a:pt x="71" y="261"/>
                  </a:lnTo>
                  <a:lnTo>
                    <a:pt x="80" y="270"/>
                  </a:lnTo>
                  <a:lnTo>
                    <a:pt x="87" y="276"/>
                  </a:lnTo>
                  <a:lnTo>
                    <a:pt x="96" y="282"/>
                  </a:lnTo>
                  <a:lnTo>
                    <a:pt x="105" y="287"/>
                  </a:lnTo>
                  <a:lnTo>
                    <a:pt x="115" y="290"/>
                  </a:lnTo>
                  <a:lnTo>
                    <a:pt x="124" y="293"/>
                  </a:lnTo>
                  <a:lnTo>
                    <a:pt x="135" y="294"/>
                  </a:lnTo>
                  <a:lnTo>
                    <a:pt x="147" y="295"/>
                  </a:lnTo>
                  <a:lnTo>
                    <a:pt x="157" y="294"/>
                  </a:lnTo>
                  <a:lnTo>
                    <a:pt x="168" y="293"/>
                  </a:lnTo>
                  <a:lnTo>
                    <a:pt x="178" y="290"/>
                  </a:lnTo>
                  <a:lnTo>
                    <a:pt x="188" y="287"/>
                  </a:lnTo>
                  <a:lnTo>
                    <a:pt x="196" y="282"/>
                  </a:lnTo>
                  <a:lnTo>
                    <a:pt x="206" y="276"/>
                  </a:lnTo>
                  <a:lnTo>
                    <a:pt x="213" y="269"/>
                  </a:lnTo>
                  <a:lnTo>
                    <a:pt x="221" y="261"/>
                  </a:lnTo>
                  <a:lnTo>
                    <a:pt x="228" y="253"/>
                  </a:lnTo>
                  <a:lnTo>
                    <a:pt x="233" y="242"/>
                  </a:lnTo>
                  <a:lnTo>
                    <a:pt x="239" y="232"/>
                  </a:lnTo>
                  <a:lnTo>
                    <a:pt x="243" y="221"/>
                  </a:lnTo>
                  <a:lnTo>
                    <a:pt x="246" y="208"/>
                  </a:lnTo>
                  <a:lnTo>
                    <a:pt x="248" y="195"/>
                  </a:lnTo>
                  <a:lnTo>
                    <a:pt x="250" y="181"/>
                  </a:lnTo>
                  <a:lnTo>
                    <a:pt x="250" y="166"/>
                  </a:lnTo>
                  <a:lnTo>
                    <a:pt x="249" y="147"/>
                  </a:lnTo>
                  <a:lnTo>
                    <a:pt x="247" y="129"/>
                  </a:lnTo>
                  <a:lnTo>
                    <a:pt x="243" y="113"/>
                  </a:lnTo>
                  <a:lnTo>
                    <a:pt x="238" y="98"/>
                  </a:lnTo>
                  <a:lnTo>
                    <a:pt x="231" y="84"/>
                  </a:lnTo>
                  <a:lnTo>
                    <a:pt x="223" y="72"/>
                  </a:lnTo>
                  <a:lnTo>
                    <a:pt x="218" y="66"/>
                  </a:lnTo>
                  <a:lnTo>
                    <a:pt x="212" y="61"/>
                  </a:lnTo>
                  <a:lnTo>
                    <a:pt x="207" y="57"/>
                  </a:lnTo>
                  <a:lnTo>
                    <a:pt x="202" y="53"/>
                  </a:lnTo>
                  <a:lnTo>
                    <a:pt x="189" y="45"/>
                  </a:lnTo>
                  <a:lnTo>
                    <a:pt x="175" y="41"/>
                  </a:lnTo>
                  <a:lnTo>
                    <a:pt x="161" y="38"/>
                  </a:lnTo>
                  <a:lnTo>
                    <a:pt x="147" y="37"/>
                  </a:lnTo>
                  <a:lnTo>
                    <a:pt x="136" y="37"/>
                  </a:lnTo>
                  <a:lnTo>
                    <a:pt x="126" y="39"/>
                  </a:lnTo>
                  <a:lnTo>
                    <a:pt x="116" y="41"/>
                  </a:lnTo>
                  <a:lnTo>
                    <a:pt x="107" y="44"/>
                  </a:lnTo>
                  <a:lnTo>
                    <a:pt x="98" y="48"/>
                  </a:lnTo>
                  <a:lnTo>
                    <a:pt x="89" y="54"/>
                  </a:lnTo>
                  <a:lnTo>
                    <a:pt x="81" y="60"/>
                  </a:lnTo>
                  <a:lnTo>
                    <a:pt x="73" y="68"/>
                  </a:lnTo>
                  <a:lnTo>
                    <a:pt x="66" y="76"/>
                  </a:lnTo>
                  <a:lnTo>
                    <a:pt x="60" y="86"/>
                  </a:lnTo>
                  <a:lnTo>
                    <a:pt x="54" y="96"/>
                  </a:lnTo>
                  <a:lnTo>
                    <a:pt x="50" y="109"/>
                  </a:lnTo>
                  <a:lnTo>
                    <a:pt x="47" y="123"/>
                  </a:lnTo>
                  <a:lnTo>
                    <a:pt x="44" y="137"/>
                  </a:lnTo>
                  <a:lnTo>
                    <a:pt x="43" y="153"/>
                  </a:lnTo>
                  <a:lnTo>
                    <a:pt x="43" y="170"/>
                  </a:lnTo>
                  <a:close/>
                </a:path>
              </a:pathLst>
            </a:custGeom>
            <a:solidFill>
              <a:srgbClr val="d79f00"/>
            </a:solidFill>
            <a:ln w="0">
              <a:noFill/>
            </a:ln>
          </p:spPr>
          <p:style>
            <a:lnRef idx="0"/>
            <a:fillRef idx="0"/>
            <a:effectRef idx="0"/>
            <a:fontRef idx="minor"/>
          </p:style>
          <p:txBody>
            <a:bodyPr lIns="90000" rIns="90000" tIns="15840" bIns="15840" anchor="t">
              <a:noAutofit/>
            </a:bodyPr>
            <a:p>
              <a:pPr>
                <a:lnSpc>
                  <a:spcPct val="100000"/>
                </a:lnSpc>
              </a:pPr>
              <a:endParaRPr b="0" lang="en-US" sz="1800" spc="-1" strike="noStrike">
                <a:solidFill>
                  <a:srgbClr val="d79f00"/>
                </a:solidFill>
                <a:latin typeface="Arial"/>
                <a:ea typeface="宋体"/>
              </a:endParaRPr>
            </a:p>
          </p:txBody>
        </p:sp>
        <p:sp>
          <p:nvSpPr>
            <p:cNvPr id="137" name="Freeform 63"/>
            <p:cNvSpPr/>
            <p:nvPr/>
          </p:nvSpPr>
          <p:spPr>
            <a:xfrm>
              <a:off x="4440240" y="9351360"/>
              <a:ext cx="46080" cy="59400"/>
            </a:xfrm>
            <a:custGeom>
              <a:avLst/>
              <a:gdLst>
                <a:gd name="textAreaLeft" fmla="*/ 0 w 46080"/>
                <a:gd name="textAreaRight" fmla="*/ 46440 w 46080"/>
                <a:gd name="textAreaTop" fmla="*/ 0 h 59400"/>
                <a:gd name="textAreaBottom" fmla="*/ 59760 h 59400"/>
              </a:gdLst>
              <a:ahLst/>
              <a:rect l="textAreaLeft" t="textAreaTop" r="textAreaRight" b="textAreaBottom"/>
              <a:pathLst>
                <a:path w="240" h="320">
                  <a:moveTo>
                    <a:pt x="0" y="320"/>
                  </a:moveTo>
                  <a:lnTo>
                    <a:pt x="0" y="0"/>
                  </a:lnTo>
                  <a:lnTo>
                    <a:pt x="41" y="0"/>
                  </a:lnTo>
                  <a:lnTo>
                    <a:pt x="201" y="251"/>
                  </a:lnTo>
                  <a:lnTo>
                    <a:pt x="201" y="0"/>
                  </a:lnTo>
                  <a:lnTo>
                    <a:pt x="240" y="0"/>
                  </a:lnTo>
                  <a:lnTo>
                    <a:pt x="240" y="320"/>
                  </a:lnTo>
                  <a:lnTo>
                    <a:pt x="199" y="320"/>
                  </a:lnTo>
                  <a:lnTo>
                    <a:pt x="39" y="68"/>
                  </a:lnTo>
                  <a:lnTo>
                    <a:pt x="39" y="320"/>
                  </a:lnTo>
                  <a:lnTo>
                    <a:pt x="0" y="320"/>
                  </a:lnTo>
                  <a:close/>
                </a:path>
              </a:pathLst>
            </a:custGeom>
            <a:solidFill>
              <a:srgbClr val="d79f00"/>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138" name="Freeform 64"/>
            <p:cNvSpPr/>
            <p:nvPr/>
          </p:nvSpPr>
          <p:spPr>
            <a:xfrm>
              <a:off x="4503240" y="9350280"/>
              <a:ext cx="46080" cy="60480"/>
            </a:xfrm>
            <a:custGeom>
              <a:avLst/>
              <a:gdLst>
                <a:gd name="textAreaLeft" fmla="*/ 0 w 46080"/>
                <a:gd name="textAreaRight" fmla="*/ 46440 w 46080"/>
                <a:gd name="textAreaTop" fmla="*/ 0 h 60480"/>
                <a:gd name="textAreaBottom" fmla="*/ 60840 h 60480"/>
              </a:gdLst>
              <a:ahLst/>
              <a:rect l="textAreaLeft" t="textAreaTop" r="textAreaRight" b="textAreaBottom"/>
              <a:pathLst>
                <a:path w="242" h="330">
                  <a:moveTo>
                    <a:pt x="0" y="222"/>
                  </a:moveTo>
                  <a:lnTo>
                    <a:pt x="38" y="218"/>
                  </a:lnTo>
                  <a:lnTo>
                    <a:pt x="40" y="230"/>
                  </a:lnTo>
                  <a:lnTo>
                    <a:pt x="42" y="240"/>
                  </a:lnTo>
                  <a:lnTo>
                    <a:pt x="46" y="250"/>
                  </a:lnTo>
                  <a:lnTo>
                    <a:pt x="51" y="257"/>
                  </a:lnTo>
                  <a:lnTo>
                    <a:pt x="56" y="265"/>
                  </a:lnTo>
                  <a:lnTo>
                    <a:pt x="63" y="272"/>
                  </a:lnTo>
                  <a:lnTo>
                    <a:pt x="72" y="277"/>
                  </a:lnTo>
                  <a:lnTo>
                    <a:pt x="81" y="283"/>
                  </a:lnTo>
                  <a:lnTo>
                    <a:pt x="92" y="287"/>
                  </a:lnTo>
                  <a:lnTo>
                    <a:pt x="104" y="290"/>
                  </a:lnTo>
                  <a:lnTo>
                    <a:pt x="115" y="291"/>
                  </a:lnTo>
                  <a:lnTo>
                    <a:pt x="128" y="292"/>
                  </a:lnTo>
                  <a:lnTo>
                    <a:pt x="140" y="291"/>
                  </a:lnTo>
                  <a:lnTo>
                    <a:pt x="150" y="290"/>
                  </a:lnTo>
                  <a:lnTo>
                    <a:pt x="160" y="288"/>
                  </a:lnTo>
                  <a:lnTo>
                    <a:pt x="168" y="285"/>
                  </a:lnTo>
                  <a:lnTo>
                    <a:pt x="177" y="281"/>
                  </a:lnTo>
                  <a:lnTo>
                    <a:pt x="184" y="276"/>
                  </a:lnTo>
                  <a:lnTo>
                    <a:pt x="191" y="271"/>
                  </a:lnTo>
                  <a:lnTo>
                    <a:pt x="195" y="266"/>
                  </a:lnTo>
                  <a:lnTo>
                    <a:pt x="199" y="258"/>
                  </a:lnTo>
                  <a:lnTo>
                    <a:pt x="201" y="252"/>
                  </a:lnTo>
                  <a:lnTo>
                    <a:pt x="203" y="246"/>
                  </a:lnTo>
                  <a:lnTo>
                    <a:pt x="204" y="238"/>
                  </a:lnTo>
                  <a:lnTo>
                    <a:pt x="203" y="231"/>
                  </a:lnTo>
                  <a:lnTo>
                    <a:pt x="202" y="223"/>
                  </a:lnTo>
                  <a:lnTo>
                    <a:pt x="199" y="217"/>
                  </a:lnTo>
                  <a:lnTo>
                    <a:pt x="196" y="212"/>
                  </a:lnTo>
                  <a:lnTo>
                    <a:pt x="191" y="206"/>
                  </a:lnTo>
                  <a:lnTo>
                    <a:pt x="184" y="201"/>
                  </a:lnTo>
                  <a:lnTo>
                    <a:pt x="177" y="197"/>
                  </a:lnTo>
                  <a:lnTo>
                    <a:pt x="168" y="193"/>
                  </a:lnTo>
                  <a:lnTo>
                    <a:pt x="160" y="189"/>
                  </a:lnTo>
                  <a:lnTo>
                    <a:pt x="148" y="186"/>
                  </a:lnTo>
                  <a:lnTo>
                    <a:pt x="133" y="182"/>
                  </a:lnTo>
                  <a:lnTo>
                    <a:pt x="114" y="177"/>
                  </a:lnTo>
                  <a:lnTo>
                    <a:pt x="94" y="171"/>
                  </a:lnTo>
                  <a:lnTo>
                    <a:pt x="78" y="167"/>
                  </a:lnTo>
                  <a:lnTo>
                    <a:pt x="64" y="162"/>
                  </a:lnTo>
                  <a:lnTo>
                    <a:pt x="55" y="157"/>
                  </a:lnTo>
                  <a:lnTo>
                    <a:pt x="44" y="151"/>
                  </a:lnTo>
                  <a:lnTo>
                    <a:pt x="36" y="144"/>
                  </a:lnTo>
                  <a:lnTo>
                    <a:pt x="28" y="135"/>
                  </a:lnTo>
                  <a:lnTo>
                    <a:pt x="22" y="127"/>
                  </a:lnTo>
                  <a:lnTo>
                    <a:pt x="18" y="118"/>
                  </a:lnTo>
                  <a:lnTo>
                    <a:pt x="15" y="109"/>
                  </a:lnTo>
                  <a:lnTo>
                    <a:pt x="13" y="98"/>
                  </a:lnTo>
                  <a:lnTo>
                    <a:pt x="12" y="88"/>
                  </a:lnTo>
                  <a:lnTo>
                    <a:pt x="13" y="76"/>
                  </a:lnTo>
                  <a:lnTo>
                    <a:pt x="15" y="64"/>
                  </a:lnTo>
                  <a:lnTo>
                    <a:pt x="19" y="53"/>
                  </a:lnTo>
                  <a:lnTo>
                    <a:pt x="25" y="42"/>
                  </a:lnTo>
                  <a:lnTo>
                    <a:pt x="32" y="33"/>
                  </a:lnTo>
                  <a:lnTo>
                    <a:pt x="41" y="24"/>
                  </a:lnTo>
                  <a:lnTo>
                    <a:pt x="51" y="17"/>
                  </a:lnTo>
                  <a:lnTo>
                    <a:pt x="63" y="10"/>
                  </a:lnTo>
                  <a:lnTo>
                    <a:pt x="76" y="5"/>
                  </a:lnTo>
                  <a:lnTo>
                    <a:pt x="90" y="2"/>
                  </a:lnTo>
                  <a:lnTo>
                    <a:pt x="104" y="0"/>
                  </a:lnTo>
                  <a:lnTo>
                    <a:pt x="119" y="0"/>
                  </a:lnTo>
                  <a:lnTo>
                    <a:pt x="135" y="0"/>
                  </a:lnTo>
                  <a:lnTo>
                    <a:pt x="151" y="2"/>
                  </a:lnTo>
                  <a:lnTo>
                    <a:pt x="165" y="6"/>
                  </a:lnTo>
                  <a:lnTo>
                    <a:pt x="179" y="10"/>
                  </a:lnTo>
                  <a:lnTo>
                    <a:pt x="191" y="18"/>
                  </a:lnTo>
                  <a:lnTo>
                    <a:pt x="201" y="25"/>
                  </a:lnTo>
                  <a:lnTo>
                    <a:pt x="211" y="34"/>
                  </a:lnTo>
                  <a:lnTo>
                    <a:pt x="218" y="44"/>
                  </a:lnTo>
                  <a:lnTo>
                    <a:pt x="224" y="56"/>
                  </a:lnTo>
                  <a:lnTo>
                    <a:pt x="230" y="69"/>
                  </a:lnTo>
                  <a:lnTo>
                    <a:pt x="232" y="81"/>
                  </a:lnTo>
                  <a:lnTo>
                    <a:pt x="234" y="95"/>
                  </a:lnTo>
                  <a:lnTo>
                    <a:pt x="195" y="98"/>
                  </a:lnTo>
                  <a:lnTo>
                    <a:pt x="194" y="91"/>
                  </a:lnTo>
                  <a:lnTo>
                    <a:pt x="193" y="83"/>
                  </a:lnTo>
                  <a:lnTo>
                    <a:pt x="191" y="77"/>
                  </a:lnTo>
                  <a:lnTo>
                    <a:pt x="188" y="72"/>
                  </a:lnTo>
                  <a:lnTo>
                    <a:pt x="185" y="65"/>
                  </a:lnTo>
                  <a:lnTo>
                    <a:pt x="182" y="61"/>
                  </a:lnTo>
                  <a:lnTo>
                    <a:pt x="178" y="56"/>
                  </a:lnTo>
                  <a:lnTo>
                    <a:pt x="174" y="52"/>
                  </a:lnTo>
                  <a:lnTo>
                    <a:pt x="169" y="48"/>
                  </a:lnTo>
                  <a:lnTo>
                    <a:pt x="164" y="45"/>
                  </a:lnTo>
                  <a:lnTo>
                    <a:pt x="158" y="43"/>
                  </a:lnTo>
                  <a:lnTo>
                    <a:pt x="151" y="41"/>
                  </a:lnTo>
                  <a:lnTo>
                    <a:pt x="145" y="39"/>
                  </a:lnTo>
                  <a:lnTo>
                    <a:pt x="138" y="38"/>
                  </a:lnTo>
                  <a:lnTo>
                    <a:pt x="129" y="37"/>
                  </a:lnTo>
                  <a:lnTo>
                    <a:pt x="121" y="37"/>
                  </a:lnTo>
                  <a:lnTo>
                    <a:pt x="104" y="38"/>
                  </a:lnTo>
                  <a:lnTo>
                    <a:pt x="89" y="40"/>
                  </a:lnTo>
                  <a:lnTo>
                    <a:pt x="82" y="42"/>
                  </a:lnTo>
                  <a:lnTo>
                    <a:pt x="77" y="44"/>
                  </a:lnTo>
                  <a:lnTo>
                    <a:pt x="72" y="47"/>
                  </a:lnTo>
                  <a:lnTo>
                    <a:pt x="68" y="51"/>
                  </a:lnTo>
                  <a:lnTo>
                    <a:pt x="60" y="58"/>
                  </a:lnTo>
                  <a:lnTo>
                    <a:pt x="55" y="67"/>
                  </a:lnTo>
                  <a:lnTo>
                    <a:pt x="53" y="71"/>
                  </a:lnTo>
                  <a:lnTo>
                    <a:pt x="52" y="75"/>
                  </a:lnTo>
                  <a:lnTo>
                    <a:pt x="51" y="80"/>
                  </a:lnTo>
                  <a:lnTo>
                    <a:pt x="51" y="85"/>
                  </a:lnTo>
                  <a:lnTo>
                    <a:pt x="52" y="93"/>
                  </a:lnTo>
                  <a:lnTo>
                    <a:pt x="54" y="100"/>
                  </a:lnTo>
                  <a:lnTo>
                    <a:pt x="57" y="107"/>
                  </a:lnTo>
                  <a:lnTo>
                    <a:pt x="62" y="113"/>
                  </a:lnTo>
                  <a:lnTo>
                    <a:pt x="66" y="116"/>
                  </a:lnTo>
                  <a:lnTo>
                    <a:pt x="71" y="118"/>
                  </a:lnTo>
                  <a:lnTo>
                    <a:pt x="76" y="122"/>
                  </a:lnTo>
                  <a:lnTo>
                    <a:pt x="84" y="125"/>
                  </a:lnTo>
                  <a:lnTo>
                    <a:pt x="100" y="130"/>
                  </a:lnTo>
                  <a:lnTo>
                    <a:pt x="123" y="135"/>
                  </a:lnTo>
                  <a:lnTo>
                    <a:pt x="146" y="142"/>
                  </a:lnTo>
                  <a:lnTo>
                    <a:pt x="165" y="147"/>
                  </a:lnTo>
                  <a:lnTo>
                    <a:pt x="180" y="151"/>
                  </a:lnTo>
                  <a:lnTo>
                    <a:pt x="191" y="157"/>
                  </a:lnTo>
                  <a:lnTo>
                    <a:pt x="203" y="163"/>
                  </a:lnTo>
                  <a:lnTo>
                    <a:pt x="214" y="170"/>
                  </a:lnTo>
                  <a:lnTo>
                    <a:pt x="222" y="180"/>
                  </a:lnTo>
                  <a:lnTo>
                    <a:pt x="230" y="188"/>
                  </a:lnTo>
                  <a:lnTo>
                    <a:pt x="235" y="199"/>
                  </a:lnTo>
                  <a:lnTo>
                    <a:pt x="239" y="211"/>
                  </a:lnTo>
                  <a:lnTo>
                    <a:pt x="241" y="222"/>
                  </a:lnTo>
                  <a:lnTo>
                    <a:pt x="242" y="234"/>
                  </a:lnTo>
                  <a:lnTo>
                    <a:pt x="241" y="247"/>
                  </a:lnTo>
                  <a:lnTo>
                    <a:pt x="239" y="259"/>
                  </a:lnTo>
                  <a:lnTo>
                    <a:pt x="235" y="271"/>
                  </a:lnTo>
                  <a:lnTo>
                    <a:pt x="229" y="283"/>
                  </a:lnTo>
                  <a:lnTo>
                    <a:pt x="221" y="293"/>
                  </a:lnTo>
                  <a:lnTo>
                    <a:pt x="212" y="303"/>
                  </a:lnTo>
                  <a:lnTo>
                    <a:pt x="201" y="310"/>
                  </a:lnTo>
                  <a:lnTo>
                    <a:pt x="188" y="318"/>
                  </a:lnTo>
                  <a:lnTo>
                    <a:pt x="176" y="323"/>
                  </a:lnTo>
                  <a:lnTo>
                    <a:pt x="161" y="327"/>
                  </a:lnTo>
                  <a:lnTo>
                    <a:pt x="146" y="329"/>
                  </a:lnTo>
                  <a:lnTo>
                    <a:pt x="130" y="330"/>
                  </a:lnTo>
                  <a:lnTo>
                    <a:pt x="110" y="329"/>
                  </a:lnTo>
                  <a:lnTo>
                    <a:pt x="92" y="327"/>
                  </a:lnTo>
                  <a:lnTo>
                    <a:pt x="75" y="323"/>
                  </a:lnTo>
                  <a:lnTo>
                    <a:pt x="60" y="318"/>
                  </a:lnTo>
                  <a:lnTo>
                    <a:pt x="54" y="314"/>
                  </a:lnTo>
                  <a:lnTo>
                    <a:pt x="48" y="310"/>
                  </a:lnTo>
                  <a:lnTo>
                    <a:pt x="41" y="306"/>
                  </a:lnTo>
                  <a:lnTo>
                    <a:pt x="36" y="302"/>
                  </a:lnTo>
                  <a:lnTo>
                    <a:pt x="31" y="296"/>
                  </a:lnTo>
                  <a:lnTo>
                    <a:pt x="25" y="291"/>
                  </a:lnTo>
                  <a:lnTo>
                    <a:pt x="21" y="286"/>
                  </a:lnTo>
                  <a:lnTo>
                    <a:pt x="17" y="280"/>
                  </a:lnTo>
                  <a:lnTo>
                    <a:pt x="9" y="267"/>
                  </a:lnTo>
                  <a:lnTo>
                    <a:pt x="5" y="252"/>
                  </a:lnTo>
                  <a:lnTo>
                    <a:pt x="1" y="237"/>
                  </a:lnTo>
                  <a:lnTo>
                    <a:pt x="0" y="222"/>
                  </a:lnTo>
                  <a:close/>
                </a:path>
              </a:pathLst>
            </a:custGeom>
            <a:solidFill>
              <a:srgbClr val="d79f00"/>
            </a:solidFill>
            <a:ln w="0">
              <a:noFill/>
            </a:ln>
          </p:spPr>
          <p:style>
            <a:lnRef idx="0"/>
            <a:fillRef idx="0"/>
            <a:effectRef idx="0"/>
            <a:fontRef idx="minor"/>
          </p:style>
          <p:txBody>
            <a:bodyPr lIns="90000" rIns="90000" tIns="15840" bIns="15840" anchor="t">
              <a:noAutofit/>
            </a:bodyPr>
            <a:p>
              <a:pPr>
                <a:lnSpc>
                  <a:spcPct val="100000"/>
                </a:lnSpc>
              </a:pPr>
              <a:endParaRPr b="0" lang="en-US" sz="1800" spc="-1" strike="noStrike">
                <a:solidFill>
                  <a:srgbClr val="d79f00"/>
                </a:solidFill>
                <a:latin typeface="Arial"/>
                <a:ea typeface="宋体"/>
              </a:endParaRPr>
            </a:p>
          </p:txBody>
        </p:sp>
        <p:sp>
          <p:nvSpPr>
            <p:cNvPr id="139" name="Freeform 65"/>
            <p:cNvSpPr/>
            <p:nvPr/>
          </p:nvSpPr>
          <p:spPr>
            <a:xfrm>
              <a:off x="4566240" y="9351360"/>
              <a:ext cx="46080" cy="59400"/>
            </a:xfrm>
            <a:custGeom>
              <a:avLst/>
              <a:gdLst>
                <a:gd name="textAreaLeft" fmla="*/ 0 w 46080"/>
                <a:gd name="textAreaRight" fmla="*/ 46440 w 46080"/>
                <a:gd name="textAreaTop" fmla="*/ 0 h 59400"/>
                <a:gd name="textAreaBottom" fmla="*/ 59760 h 59400"/>
              </a:gdLst>
              <a:ahLst/>
              <a:rect l="textAreaLeft" t="textAreaTop" r="textAreaRight" b="textAreaBottom"/>
              <a:pathLst>
                <a:path w="239" h="325">
                  <a:moveTo>
                    <a:pt x="199" y="0"/>
                  </a:moveTo>
                  <a:lnTo>
                    <a:pt x="239" y="0"/>
                  </a:lnTo>
                  <a:lnTo>
                    <a:pt x="239" y="184"/>
                  </a:lnTo>
                  <a:lnTo>
                    <a:pt x="239" y="208"/>
                  </a:lnTo>
                  <a:lnTo>
                    <a:pt x="237" y="228"/>
                  </a:lnTo>
                  <a:lnTo>
                    <a:pt x="234" y="246"/>
                  </a:lnTo>
                  <a:lnTo>
                    <a:pt x="229" y="261"/>
                  </a:lnTo>
                  <a:lnTo>
                    <a:pt x="227" y="268"/>
                  </a:lnTo>
                  <a:lnTo>
                    <a:pt x="223" y="275"/>
                  </a:lnTo>
                  <a:lnTo>
                    <a:pt x="219" y="281"/>
                  </a:lnTo>
                  <a:lnTo>
                    <a:pt x="215" y="287"/>
                  </a:lnTo>
                  <a:lnTo>
                    <a:pt x="210" y="293"/>
                  </a:lnTo>
                  <a:lnTo>
                    <a:pt x="204" y="298"/>
                  </a:lnTo>
                  <a:lnTo>
                    <a:pt x="198" y="303"/>
                  </a:lnTo>
                  <a:lnTo>
                    <a:pt x="192" y="307"/>
                  </a:lnTo>
                  <a:lnTo>
                    <a:pt x="184" y="312"/>
                  </a:lnTo>
                  <a:lnTo>
                    <a:pt x="177" y="315"/>
                  </a:lnTo>
                  <a:lnTo>
                    <a:pt x="169" y="318"/>
                  </a:lnTo>
                  <a:lnTo>
                    <a:pt x="160" y="321"/>
                  </a:lnTo>
                  <a:lnTo>
                    <a:pt x="151" y="322"/>
                  </a:lnTo>
                  <a:lnTo>
                    <a:pt x="142" y="324"/>
                  </a:lnTo>
                  <a:lnTo>
                    <a:pt x="131" y="324"/>
                  </a:lnTo>
                  <a:lnTo>
                    <a:pt x="121" y="325"/>
                  </a:lnTo>
                  <a:lnTo>
                    <a:pt x="110" y="325"/>
                  </a:lnTo>
                  <a:lnTo>
                    <a:pt x="101" y="324"/>
                  </a:lnTo>
                  <a:lnTo>
                    <a:pt x="91" y="323"/>
                  </a:lnTo>
                  <a:lnTo>
                    <a:pt x="82" y="321"/>
                  </a:lnTo>
                  <a:lnTo>
                    <a:pt x="73" y="319"/>
                  </a:lnTo>
                  <a:lnTo>
                    <a:pt x="65" y="317"/>
                  </a:lnTo>
                  <a:lnTo>
                    <a:pt x="57" y="314"/>
                  </a:lnTo>
                  <a:lnTo>
                    <a:pt x="51" y="309"/>
                  </a:lnTo>
                  <a:lnTo>
                    <a:pt x="44" y="305"/>
                  </a:lnTo>
                  <a:lnTo>
                    <a:pt x="38" y="301"/>
                  </a:lnTo>
                  <a:lnTo>
                    <a:pt x="33" y="296"/>
                  </a:lnTo>
                  <a:lnTo>
                    <a:pt x="28" y="290"/>
                  </a:lnTo>
                  <a:lnTo>
                    <a:pt x="22" y="285"/>
                  </a:lnTo>
                  <a:lnTo>
                    <a:pt x="18" y="279"/>
                  </a:lnTo>
                  <a:lnTo>
                    <a:pt x="15" y="272"/>
                  </a:lnTo>
                  <a:lnTo>
                    <a:pt x="12" y="265"/>
                  </a:lnTo>
                  <a:lnTo>
                    <a:pt x="6" y="249"/>
                  </a:lnTo>
                  <a:lnTo>
                    <a:pt x="3" y="230"/>
                  </a:lnTo>
                  <a:lnTo>
                    <a:pt x="1" y="209"/>
                  </a:lnTo>
                  <a:lnTo>
                    <a:pt x="0" y="184"/>
                  </a:lnTo>
                  <a:lnTo>
                    <a:pt x="0" y="0"/>
                  </a:lnTo>
                  <a:lnTo>
                    <a:pt x="40" y="0"/>
                  </a:lnTo>
                  <a:lnTo>
                    <a:pt x="40" y="184"/>
                  </a:lnTo>
                  <a:lnTo>
                    <a:pt x="41" y="204"/>
                  </a:lnTo>
                  <a:lnTo>
                    <a:pt x="42" y="220"/>
                  </a:lnTo>
                  <a:lnTo>
                    <a:pt x="44" y="234"/>
                  </a:lnTo>
                  <a:lnTo>
                    <a:pt x="48" y="246"/>
                  </a:lnTo>
                  <a:lnTo>
                    <a:pt x="52" y="255"/>
                  </a:lnTo>
                  <a:lnTo>
                    <a:pt x="58" y="263"/>
                  </a:lnTo>
                  <a:lnTo>
                    <a:pt x="65" y="270"/>
                  </a:lnTo>
                  <a:lnTo>
                    <a:pt x="73" y="277"/>
                  </a:lnTo>
                  <a:lnTo>
                    <a:pt x="83" y="281"/>
                  </a:lnTo>
                  <a:lnTo>
                    <a:pt x="93" y="284"/>
                  </a:lnTo>
                  <a:lnTo>
                    <a:pt x="105" y="286"/>
                  </a:lnTo>
                  <a:lnTo>
                    <a:pt x="116" y="287"/>
                  </a:lnTo>
                  <a:lnTo>
                    <a:pt x="128" y="286"/>
                  </a:lnTo>
                  <a:lnTo>
                    <a:pt x="138" y="286"/>
                  </a:lnTo>
                  <a:lnTo>
                    <a:pt x="147" y="284"/>
                  </a:lnTo>
                  <a:lnTo>
                    <a:pt x="155" y="282"/>
                  </a:lnTo>
                  <a:lnTo>
                    <a:pt x="163" y="279"/>
                  </a:lnTo>
                  <a:lnTo>
                    <a:pt x="169" y="276"/>
                  </a:lnTo>
                  <a:lnTo>
                    <a:pt x="176" y="270"/>
                  </a:lnTo>
                  <a:lnTo>
                    <a:pt x="180" y="266"/>
                  </a:lnTo>
                  <a:lnTo>
                    <a:pt x="185" y="260"/>
                  </a:lnTo>
                  <a:lnTo>
                    <a:pt x="189" y="252"/>
                  </a:lnTo>
                  <a:lnTo>
                    <a:pt x="192" y="245"/>
                  </a:lnTo>
                  <a:lnTo>
                    <a:pt x="195" y="235"/>
                  </a:lnTo>
                  <a:lnTo>
                    <a:pt x="197" y="224"/>
                  </a:lnTo>
                  <a:lnTo>
                    <a:pt x="198" y="212"/>
                  </a:lnTo>
                  <a:lnTo>
                    <a:pt x="199" y="199"/>
                  </a:lnTo>
                  <a:lnTo>
                    <a:pt x="199" y="184"/>
                  </a:lnTo>
                  <a:lnTo>
                    <a:pt x="199" y="0"/>
                  </a:lnTo>
                  <a:close/>
                </a:path>
              </a:pathLst>
            </a:custGeom>
            <a:solidFill>
              <a:srgbClr val="d79f00"/>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140" name="Freeform 66"/>
            <p:cNvSpPr/>
            <p:nvPr/>
          </p:nvSpPr>
          <p:spPr>
            <a:xfrm>
              <a:off x="4630680" y="9351360"/>
              <a:ext cx="36720" cy="59400"/>
            </a:xfrm>
            <a:custGeom>
              <a:avLst/>
              <a:gdLst>
                <a:gd name="textAreaLeft" fmla="*/ 0 w 36720"/>
                <a:gd name="textAreaRight" fmla="*/ 37080 w 36720"/>
                <a:gd name="textAreaTop" fmla="*/ 0 h 59400"/>
                <a:gd name="textAreaBottom" fmla="*/ 59760 h 59400"/>
              </a:gdLst>
              <a:ahLst/>
              <a:rect l="textAreaLeft" t="textAreaTop" r="textAreaRight" b="textAreaBottom"/>
              <a:pathLst>
                <a:path w="191" h="320">
                  <a:moveTo>
                    <a:pt x="0" y="320"/>
                  </a:moveTo>
                  <a:lnTo>
                    <a:pt x="0" y="0"/>
                  </a:lnTo>
                  <a:lnTo>
                    <a:pt x="41" y="0"/>
                  </a:lnTo>
                  <a:lnTo>
                    <a:pt x="41" y="282"/>
                  </a:lnTo>
                  <a:lnTo>
                    <a:pt x="191" y="282"/>
                  </a:lnTo>
                  <a:lnTo>
                    <a:pt x="191" y="320"/>
                  </a:lnTo>
                  <a:lnTo>
                    <a:pt x="0" y="320"/>
                  </a:lnTo>
                  <a:close/>
                </a:path>
              </a:pathLst>
            </a:custGeom>
            <a:solidFill>
              <a:srgbClr val="d79f00"/>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141" name="Freeform 67"/>
            <p:cNvSpPr/>
            <p:nvPr/>
          </p:nvSpPr>
          <p:spPr>
            <a:xfrm>
              <a:off x="4671720" y="9351360"/>
              <a:ext cx="47520" cy="59400"/>
            </a:xfrm>
            <a:custGeom>
              <a:avLst/>
              <a:gdLst>
                <a:gd name="textAreaLeft" fmla="*/ 0 w 47520"/>
                <a:gd name="textAreaRight" fmla="*/ 47880 w 47520"/>
                <a:gd name="textAreaTop" fmla="*/ 0 h 59400"/>
                <a:gd name="textAreaBottom" fmla="*/ 59760 h 59400"/>
              </a:gdLst>
              <a:ahLst/>
              <a:rect l="textAreaLeft" t="textAreaTop" r="textAreaRight" b="textAreaBottom"/>
              <a:pathLst>
                <a:path w="242" h="320">
                  <a:moveTo>
                    <a:pt x="101" y="320"/>
                  </a:moveTo>
                  <a:lnTo>
                    <a:pt x="101" y="37"/>
                  </a:lnTo>
                  <a:lnTo>
                    <a:pt x="0" y="37"/>
                  </a:lnTo>
                  <a:lnTo>
                    <a:pt x="0" y="0"/>
                  </a:lnTo>
                  <a:lnTo>
                    <a:pt x="242" y="0"/>
                  </a:lnTo>
                  <a:lnTo>
                    <a:pt x="242" y="37"/>
                  </a:lnTo>
                  <a:lnTo>
                    <a:pt x="141" y="37"/>
                  </a:lnTo>
                  <a:lnTo>
                    <a:pt x="141" y="320"/>
                  </a:lnTo>
                  <a:lnTo>
                    <a:pt x="101" y="320"/>
                  </a:lnTo>
                  <a:close/>
                </a:path>
              </a:pathLst>
            </a:custGeom>
            <a:solidFill>
              <a:srgbClr val="d79f00"/>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142" name="Rectangle 68"/>
            <p:cNvSpPr/>
            <p:nvPr/>
          </p:nvSpPr>
          <p:spPr>
            <a:xfrm>
              <a:off x="4733280" y="9351360"/>
              <a:ext cx="7920" cy="59400"/>
            </a:xfrm>
            <a:prstGeom prst="rect">
              <a:avLst/>
            </a:prstGeom>
            <a:solidFill>
              <a:srgbClr val="d79f00"/>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143" name="Freeform 69"/>
            <p:cNvSpPr/>
            <p:nvPr/>
          </p:nvSpPr>
          <p:spPr>
            <a:xfrm>
              <a:off x="4760640" y="9351360"/>
              <a:ext cx="46080" cy="59400"/>
            </a:xfrm>
            <a:custGeom>
              <a:avLst/>
              <a:gdLst>
                <a:gd name="textAreaLeft" fmla="*/ 0 w 46080"/>
                <a:gd name="textAreaRight" fmla="*/ 46440 w 46080"/>
                <a:gd name="textAreaTop" fmla="*/ 0 h 59400"/>
                <a:gd name="textAreaBottom" fmla="*/ 59760 h 59400"/>
              </a:gdLst>
              <a:ahLst/>
              <a:rect l="textAreaLeft" t="textAreaTop" r="textAreaRight" b="textAreaBottom"/>
              <a:pathLst>
                <a:path w="241" h="320">
                  <a:moveTo>
                    <a:pt x="0" y="320"/>
                  </a:moveTo>
                  <a:lnTo>
                    <a:pt x="0" y="0"/>
                  </a:lnTo>
                  <a:lnTo>
                    <a:pt x="42" y="0"/>
                  </a:lnTo>
                  <a:lnTo>
                    <a:pt x="202" y="251"/>
                  </a:lnTo>
                  <a:lnTo>
                    <a:pt x="202" y="0"/>
                  </a:lnTo>
                  <a:lnTo>
                    <a:pt x="241" y="0"/>
                  </a:lnTo>
                  <a:lnTo>
                    <a:pt x="241" y="320"/>
                  </a:lnTo>
                  <a:lnTo>
                    <a:pt x="200" y="320"/>
                  </a:lnTo>
                  <a:lnTo>
                    <a:pt x="40" y="68"/>
                  </a:lnTo>
                  <a:lnTo>
                    <a:pt x="40" y="320"/>
                  </a:lnTo>
                  <a:lnTo>
                    <a:pt x="0" y="320"/>
                  </a:lnTo>
                  <a:close/>
                </a:path>
              </a:pathLst>
            </a:custGeom>
            <a:solidFill>
              <a:srgbClr val="d79f00"/>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144" name="Freeform 70"/>
            <p:cNvSpPr/>
            <p:nvPr/>
          </p:nvSpPr>
          <p:spPr>
            <a:xfrm>
              <a:off x="4823640" y="9350280"/>
              <a:ext cx="54360" cy="60480"/>
            </a:xfrm>
            <a:custGeom>
              <a:avLst/>
              <a:gdLst>
                <a:gd name="textAreaLeft" fmla="*/ 0 w 54360"/>
                <a:gd name="textAreaRight" fmla="*/ 54720 w 54360"/>
                <a:gd name="textAreaTop" fmla="*/ 0 h 60480"/>
                <a:gd name="textAreaBottom" fmla="*/ 60840 h 60480"/>
              </a:gdLst>
              <a:ahLst/>
              <a:rect l="textAreaLeft" t="textAreaTop" r="textAreaRight" b="textAreaBottom"/>
              <a:pathLst>
                <a:path w="282" h="330">
                  <a:moveTo>
                    <a:pt x="154" y="199"/>
                  </a:moveTo>
                  <a:lnTo>
                    <a:pt x="154" y="162"/>
                  </a:lnTo>
                  <a:lnTo>
                    <a:pt x="282" y="162"/>
                  </a:lnTo>
                  <a:lnTo>
                    <a:pt x="282" y="281"/>
                  </a:lnTo>
                  <a:lnTo>
                    <a:pt x="267" y="292"/>
                  </a:lnTo>
                  <a:lnTo>
                    <a:pt x="253" y="302"/>
                  </a:lnTo>
                  <a:lnTo>
                    <a:pt x="237" y="310"/>
                  </a:lnTo>
                  <a:lnTo>
                    <a:pt x="222" y="318"/>
                  </a:lnTo>
                  <a:lnTo>
                    <a:pt x="206" y="323"/>
                  </a:lnTo>
                  <a:lnTo>
                    <a:pt x="189" y="327"/>
                  </a:lnTo>
                  <a:lnTo>
                    <a:pt x="173" y="329"/>
                  </a:lnTo>
                  <a:lnTo>
                    <a:pt x="156" y="330"/>
                  </a:lnTo>
                  <a:lnTo>
                    <a:pt x="146" y="329"/>
                  </a:lnTo>
                  <a:lnTo>
                    <a:pt x="135" y="329"/>
                  </a:lnTo>
                  <a:lnTo>
                    <a:pt x="124" y="327"/>
                  </a:lnTo>
                  <a:lnTo>
                    <a:pt x="114" y="325"/>
                  </a:lnTo>
                  <a:lnTo>
                    <a:pt x="103" y="322"/>
                  </a:lnTo>
                  <a:lnTo>
                    <a:pt x="94" y="319"/>
                  </a:lnTo>
                  <a:lnTo>
                    <a:pt x="84" y="314"/>
                  </a:lnTo>
                  <a:lnTo>
                    <a:pt x="75" y="310"/>
                  </a:lnTo>
                  <a:lnTo>
                    <a:pt x="66" y="305"/>
                  </a:lnTo>
                  <a:lnTo>
                    <a:pt x="58" y="299"/>
                  </a:lnTo>
                  <a:lnTo>
                    <a:pt x="50" y="292"/>
                  </a:lnTo>
                  <a:lnTo>
                    <a:pt x="43" y="285"/>
                  </a:lnTo>
                  <a:lnTo>
                    <a:pt x="37" y="277"/>
                  </a:lnTo>
                  <a:lnTo>
                    <a:pt x="30" y="270"/>
                  </a:lnTo>
                  <a:lnTo>
                    <a:pt x="25" y="260"/>
                  </a:lnTo>
                  <a:lnTo>
                    <a:pt x="20" y="252"/>
                  </a:lnTo>
                  <a:lnTo>
                    <a:pt x="15" y="242"/>
                  </a:lnTo>
                  <a:lnTo>
                    <a:pt x="11" y="232"/>
                  </a:lnTo>
                  <a:lnTo>
                    <a:pt x="8" y="221"/>
                  </a:lnTo>
                  <a:lnTo>
                    <a:pt x="6" y="212"/>
                  </a:lnTo>
                  <a:lnTo>
                    <a:pt x="4" y="200"/>
                  </a:lnTo>
                  <a:lnTo>
                    <a:pt x="2" y="189"/>
                  </a:lnTo>
                  <a:lnTo>
                    <a:pt x="2" y="178"/>
                  </a:lnTo>
                  <a:lnTo>
                    <a:pt x="0" y="166"/>
                  </a:lnTo>
                  <a:lnTo>
                    <a:pt x="2" y="154"/>
                  </a:lnTo>
                  <a:lnTo>
                    <a:pt x="2" y="143"/>
                  </a:lnTo>
                  <a:lnTo>
                    <a:pt x="4" y="132"/>
                  </a:lnTo>
                  <a:lnTo>
                    <a:pt x="6" y="122"/>
                  </a:lnTo>
                  <a:lnTo>
                    <a:pt x="8" y="110"/>
                  </a:lnTo>
                  <a:lnTo>
                    <a:pt x="11" y="99"/>
                  </a:lnTo>
                  <a:lnTo>
                    <a:pt x="15" y="90"/>
                  </a:lnTo>
                  <a:lnTo>
                    <a:pt x="20" y="79"/>
                  </a:lnTo>
                  <a:lnTo>
                    <a:pt x="25" y="70"/>
                  </a:lnTo>
                  <a:lnTo>
                    <a:pt x="30" y="60"/>
                  </a:lnTo>
                  <a:lnTo>
                    <a:pt x="35" y="52"/>
                  </a:lnTo>
                  <a:lnTo>
                    <a:pt x="42" y="44"/>
                  </a:lnTo>
                  <a:lnTo>
                    <a:pt x="49" y="37"/>
                  </a:lnTo>
                  <a:lnTo>
                    <a:pt x="57" y="30"/>
                  </a:lnTo>
                  <a:lnTo>
                    <a:pt x="64" y="24"/>
                  </a:lnTo>
                  <a:lnTo>
                    <a:pt x="73" y="19"/>
                  </a:lnTo>
                  <a:lnTo>
                    <a:pt x="82" y="15"/>
                  </a:lnTo>
                  <a:lnTo>
                    <a:pt x="92" y="10"/>
                  </a:lnTo>
                  <a:lnTo>
                    <a:pt x="101" y="7"/>
                  </a:lnTo>
                  <a:lnTo>
                    <a:pt x="111" y="4"/>
                  </a:lnTo>
                  <a:lnTo>
                    <a:pt x="121" y="2"/>
                  </a:lnTo>
                  <a:lnTo>
                    <a:pt x="132" y="1"/>
                  </a:lnTo>
                  <a:lnTo>
                    <a:pt x="142" y="0"/>
                  </a:lnTo>
                  <a:lnTo>
                    <a:pt x="153" y="0"/>
                  </a:lnTo>
                  <a:lnTo>
                    <a:pt x="170" y="0"/>
                  </a:lnTo>
                  <a:lnTo>
                    <a:pt x="185" y="2"/>
                  </a:lnTo>
                  <a:lnTo>
                    <a:pt x="200" y="6"/>
                  </a:lnTo>
                  <a:lnTo>
                    <a:pt x="213" y="10"/>
                  </a:lnTo>
                  <a:lnTo>
                    <a:pt x="226" y="17"/>
                  </a:lnTo>
                  <a:lnTo>
                    <a:pt x="237" y="24"/>
                  </a:lnTo>
                  <a:lnTo>
                    <a:pt x="246" y="33"/>
                  </a:lnTo>
                  <a:lnTo>
                    <a:pt x="255" y="42"/>
                  </a:lnTo>
                  <a:lnTo>
                    <a:pt x="262" y="53"/>
                  </a:lnTo>
                  <a:lnTo>
                    <a:pt x="268" y="65"/>
                  </a:lnTo>
                  <a:lnTo>
                    <a:pt x="274" y="79"/>
                  </a:lnTo>
                  <a:lnTo>
                    <a:pt x="278" y="94"/>
                  </a:lnTo>
                  <a:lnTo>
                    <a:pt x="242" y="105"/>
                  </a:lnTo>
                  <a:lnTo>
                    <a:pt x="238" y="93"/>
                  </a:lnTo>
                  <a:lnTo>
                    <a:pt x="234" y="82"/>
                  </a:lnTo>
                  <a:lnTo>
                    <a:pt x="229" y="74"/>
                  </a:lnTo>
                  <a:lnTo>
                    <a:pt x="225" y="67"/>
                  </a:lnTo>
                  <a:lnTo>
                    <a:pt x="219" y="60"/>
                  </a:lnTo>
                  <a:lnTo>
                    <a:pt x="212" y="54"/>
                  </a:lnTo>
                  <a:lnTo>
                    <a:pt x="205" y="48"/>
                  </a:lnTo>
                  <a:lnTo>
                    <a:pt x="195" y="44"/>
                  </a:lnTo>
                  <a:lnTo>
                    <a:pt x="186" y="40"/>
                  </a:lnTo>
                  <a:lnTo>
                    <a:pt x="175" y="38"/>
                  </a:lnTo>
                  <a:lnTo>
                    <a:pt x="165" y="36"/>
                  </a:lnTo>
                  <a:lnTo>
                    <a:pt x="154" y="36"/>
                  </a:lnTo>
                  <a:lnTo>
                    <a:pt x="140" y="36"/>
                  </a:lnTo>
                  <a:lnTo>
                    <a:pt x="128" y="38"/>
                  </a:lnTo>
                  <a:lnTo>
                    <a:pt x="116" y="41"/>
                  </a:lnTo>
                  <a:lnTo>
                    <a:pt x="105" y="44"/>
                  </a:lnTo>
                  <a:lnTo>
                    <a:pt x="96" y="50"/>
                  </a:lnTo>
                  <a:lnTo>
                    <a:pt x="87" y="55"/>
                  </a:lnTo>
                  <a:lnTo>
                    <a:pt x="80" y="61"/>
                  </a:lnTo>
                  <a:lnTo>
                    <a:pt x="74" y="68"/>
                  </a:lnTo>
                  <a:lnTo>
                    <a:pt x="67" y="75"/>
                  </a:lnTo>
                  <a:lnTo>
                    <a:pt x="62" y="82"/>
                  </a:lnTo>
                  <a:lnTo>
                    <a:pt x="58" y="91"/>
                  </a:lnTo>
                  <a:lnTo>
                    <a:pt x="55" y="99"/>
                  </a:lnTo>
                  <a:lnTo>
                    <a:pt x="49" y="114"/>
                  </a:lnTo>
                  <a:lnTo>
                    <a:pt x="45" y="130"/>
                  </a:lnTo>
                  <a:lnTo>
                    <a:pt x="43" y="147"/>
                  </a:lnTo>
                  <a:lnTo>
                    <a:pt x="43" y="164"/>
                  </a:lnTo>
                  <a:lnTo>
                    <a:pt x="43" y="184"/>
                  </a:lnTo>
                  <a:lnTo>
                    <a:pt x="46" y="203"/>
                  </a:lnTo>
                  <a:lnTo>
                    <a:pt x="48" y="212"/>
                  </a:lnTo>
                  <a:lnTo>
                    <a:pt x="50" y="220"/>
                  </a:lnTo>
                  <a:lnTo>
                    <a:pt x="53" y="228"/>
                  </a:lnTo>
                  <a:lnTo>
                    <a:pt x="57" y="235"/>
                  </a:lnTo>
                  <a:lnTo>
                    <a:pt x="60" y="242"/>
                  </a:lnTo>
                  <a:lnTo>
                    <a:pt x="64" y="249"/>
                  </a:lnTo>
                  <a:lnTo>
                    <a:pt x="68" y="255"/>
                  </a:lnTo>
                  <a:lnTo>
                    <a:pt x="74" y="260"/>
                  </a:lnTo>
                  <a:lnTo>
                    <a:pt x="79" y="266"/>
                  </a:lnTo>
                  <a:lnTo>
                    <a:pt x="85" y="270"/>
                  </a:lnTo>
                  <a:lnTo>
                    <a:pt x="91" y="274"/>
                  </a:lnTo>
                  <a:lnTo>
                    <a:pt x="97" y="278"/>
                  </a:lnTo>
                  <a:lnTo>
                    <a:pt x="111" y="284"/>
                  </a:lnTo>
                  <a:lnTo>
                    <a:pt x="124" y="288"/>
                  </a:lnTo>
                  <a:lnTo>
                    <a:pt x="139" y="291"/>
                  </a:lnTo>
                  <a:lnTo>
                    <a:pt x="154" y="292"/>
                  </a:lnTo>
                  <a:lnTo>
                    <a:pt x="167" y="291"/>
                  </a:lnTo>
                  <a:lnTo>
                    <a:pt x="181" y="289"/>
                  </a:lnTo>
                  <a:lnTo>
                    <a:pt x="193" y="286"/>
                  </a:lnTo>
                  <a:lnTo>
                    <a:pt x="205" y="282"/>
                  </a:lnTo>
                  <a:lnTo>
                    <a:pt x="217" y="276"/>
                  </a:lnTo>
                  <a:lnTo>
                    <a:pt x="227" y="270"/>
                  </a:lnTo>
                  <a:lnTo>
                    <a:pt x="236" y="265"/>
                  </a:lnTo>
                  <a:lnTo>
                    <a:pt x="243" y="258"/>
                  </a:lnTo>
                  <a:lnTo>
                    <a:pt x="243" y="199"/>
                  </a:lnTo>
                  <a:lnTo>
                    <a:pt x="154" y="199"/>
                  </a:lnTo>
                  <a:close/>
                </a:path>
              </a:pathLst>
            </a:custGeom>
            <a:solidFill>
              <a:srgbClr val="d79f00"/>
            </a:solidFill>
            <a:ln w="0">
              <a:noFill/>
            </a:ln>
          </p:spPr>
          <p:style>
            <a:lnRef idx="0"/>
            <a:fillRef idx="0"/>
            <a:effectRef idx="0"/>
            <a:fontRef idx="minor"/>
          </p:style>
          <p:txBody>
            <a:bodyPr lIns="90000" rIns="90000" tIns="15840" bIns="15840" anchor="t">
              <a:noAutofit/>
            </a:bodyPr>
            <a:p>
              <a:pPr>
                <a:lnSpc>
                  <a:spcPct val="100000"/>
                </a:lnSpc>
              </a:pPr>
              <a:endParaRPr b="0" lang="en-US" sz="1800" spc="-1" strike="noStrike">
                <a:solidFill>
                  <a:srgbClr val="d79f00"/>
                </a:solidFill>
                <a:latin typeface="Arial"/>
                <a:ea typeface="宋体"/>
              </a:endParaRPr>
            </a:p>
          </p:txBody>
        </p:sp>
        <p:sp>
          <p:nvSpPr>
            <p:cNvPr id="145" name="Freeform 71"/>
            <p:cNvSpPr/>
            <p:nvPr/>
          </p:nvSpPr>
          <p:spPr>
            <a:xfrm>
              <a:off x="4917960" y="9350280"/>
              <a:ext cx="51840" cy="60480"/>
            </a:xfrm>
            <a:custGeom>
              <a:avLst/>
              <a:gdLst>
                <a:gd name="textAreaLeft" fmla="*/ 0 w 51840"/>
                <a:gd name="textAreaRight" fmla="*/ 52200 w 51840"/>
                <a:gd name="textAreaTop" fmla="*/ 0 h 60480"/>
                <a:gd name="textAreaBottom" fmla="*/ 60840 h 60480"/>
              </a:gdLst>
              <a:ahLst/>
              <a:rect l="textAreaLeft" t="textAreaTop" r="textAreaRight" b="textAreaBottom"/>
              <a:pathLst>
                <a:path w="270" h="330">
                  <a:moveTo>
                    <a:pt x="229" y="213"/>
                  </a:moveTo>
                  <a:lnTo>
                    <a:pt x="270" y="223"/>
                  </a:lnTo>
                  <a:lnTo>
                    <a:pt x="266" y="236"/>
                  </a:lnTo>
                  <a:lnTo>
                    <a:pt x="262" y="248"/>
                  </a:lnTo>
                  <a:lnTo>
                    <a:pt x="257" y="258"/>
                  </a:lnTo>
                  <a:lnTo>
                    <a:pt x="252" y="269"/>
                  </a:lnTo>
                  <a:lnTo>
                    <a:pt x="246" y="278"/>
                  </a:lnTo>
                  <a:lnTo>
                    <a:pt x="239" y="288"/>
                  </a:lnTo>
                  <a:lnTo>
                    <a:pt x="231" y="295"/>
                  </a:lnTo>
                  <a:lnTo>
                    <a:pt x="224" y="303"/>
                  </a:lnTo>
                  <a:lnTo>
                    <a:pt x="216" y="309"/>
                  </a:lnTo>
                  <a:lnTo>
                    <a:pt x="207" y="314"/>
                  </a:lnTo>
                  <a:lnTo>
                    <a:pt x="197" y="320"/>
                  </a:lnTo>
                  <a:lnTo>
                    <a:pt x="187" y="323"/>
                  </a:lnTo>
                  <a:lnTo>
                    <a:pt x="177" y="326"/>
                  </a:lnTo>
                  <a:lnTo>
                    <a:pt x="166" y="328"/>
                  </a:lnTo>
                  <a:lnTo>
                    <a:pt x="155" y="329"/>
                  </a:lnTo>
                  <a:lnTo>
                    <a:pt x="143" y="330"/>
                  </a:lnTo>
                  <a:lnTo>
                    <a:pt x="131" y="329"/>
                  </a:lnTo>
                  <a:lnTo>
                    <a:pt x="120" y="329"/>
                  </a:lnTo>
                  <a:lnTo>
                    <a:pt x="109" y="327"/>
                  </a:lnTo>
                  <a:lnTo>
                    <a:pt x="99" y="325"/>
                  </a:lnTo>
                  <a:lnTo>
                    <a:pt x="89" y="322"/>
                  </a:lnTo>
                  <a:lnTo>
                    <a:pt x="80" y="319"/>
                  </a:lnTo>
                  <a:lnTo>
                    <a:pt x="71" y="314"/>
                  </a:lnTo>
                  <a:lnTo>
                    <a:pt x="63" y="309"/>
                  </a:lnTo>
                  <a:lnTo>
                    <a:pt x="56" y="304"/>
                  </a:lnTo>
                  <a:lnTo>
                    <a:pt x="49" y="298"/>
                  </a:lnTo>
                  <a:lnTo>
                    <a:pt x="42" y="290"/>
                  </a:lnTo>
                  <a:lnTo>
                    <a:pt x="36" y="284"/>
                  </a:lnTo>
                  <a:lnTo>
                    <a:pt x="30" y="275"/>
                  </a:lnTo>
                  <a:lnTo>
                    <a:pt x="25" y="267"/>
                  </a:lnTo>
                  <a:lnTo>
                    <a:pt x="21" y="257"/>
                  </a:lnTo>
                  <a:lnTo>
                    <a:pt x="16" y="248"/>
                  </a:lnTo>
                  <a:lnTo>
                    <a:pt x="12" y="238"/>
                  </a:lnTo>
                  <a:lnTo>
                    <a:pt x="9" y="228"/>
                  </a:lnTo>
                  <a:lnTo>
                    <a:pt x="7" y="217"/>
                  </a:lnTo>
                  <a:lnTo>
                    <a:pt x="5" y="206"/>
                  </a:lnTo>
                  <a:lnTo>
                    <a:pt x="3" y="196"/>
                  </a:lnTo>
                  <a:lnTo>
                    <a:pt x="2" y="185"/>
                  </a:lnTo>
                  <a:lnTo>
                    <a:pt x="0" y="174"/>
                  </a:lnTo>
                  <a:lnTo>
                    <a:pt x="0" y="162"/>
                  </a:lnTo>
                  <a:lnTo>
                    <a:pt x="0" y="150"/>
                  </a:lnTo>
                  <a:lnTo>
                    <a:pt x="2" y="139"/>
                  </a:lnTo>
                  <a:lnTo>
                    <a:pt x="3" y="127"/>
                  </a:lnTo>
                  <a:lnTo>
                    <a:pt x="5" y="115"/>
                  </a:lnTo>
                  <a:lnTo>
                    <a:pt x="7" y="105"/>
                  </a:lnTo>
                  <a:lnTo>
                    <a:pt x="10" y="95"/>
                  </a:lnTo>
                  <a:lnTo>
                    <a:pt x="14" y="85"/>
                  </a:lnTo>
                  <a:lnTo>
                    <a:pt x="18" y="75"/>
                  </a:lnTo>
                  <a:lnTo>
                    <a:pt x="23" y="67"/>
                  </a:lnTo>
                  <a:lnTo>
                    <a:pt x="28" y="58"/>
                  </a:lnTo>
                  <a:lnTo>
                    <a:pt x="34" y="50"/>
                  </a:lnTo>
                  <a:lnTo>
                    <a:pt x="41" y="42"/>
                  </a:lnTo>
                  <a:lnTo>
                    <a:pt x="47" y="36"/>
                  </a:lnTo>
                  <a:lnTo>
                    <a:pt x="55" y="29"/>
                  </a:lnTo>
                  <a:lnTo>
                    <a:pt x="62" y="24"/>
                  </a:lnTo>
                  <a:lnTo>
                    <a:pt x="70" y="19"/>
                  </a:lnTo>
                  <a:lnTo>
                    <a:pt x="79" y="15"/>
                  </a:lnTo>
                  <a:lnTo>
                    <a:pt x="87" y="10"/>
                  </a:lnTo>
                  <a:lnTo>
                    <a:pt x="96" y="7"/>
                  </a:lnTo>
                  <a:lnTo>
                    <a:pt x="105" y="4"/>
                  </a:lnTo>
                  <a:lnTo>
                    <a:pt x="115" y="2"/>
                  </a:lnTo>
                  <a:lnTo>
                    <a:pt x="124" y="1"/>
                  </a:lnTo>
                  <a:lnTo>
                    <a:pt x="134" y="0"/>
                  </a:lnTo>
                  <a:lnTo>
                    <a:pt x="143" y="0"/>
                  </a:lnTo>
                  <a:lnTo>
                    <a:pt x="155" y="0"/>
                  </a:lnTo>
                  <a:lnTo>
                    <a:pt x="166" y="1"/>
                  </a:lnTo>
                  <a:lnTo>
                    <a:pt x="176" y="3"/>
                  </a:lnTo>
                  <a:lnTo>
                    <a:pt x="186" y="5"/>
                  </a:lnTo>
                  <a:lnTo>
                    <a:pt x="195" y="9"/>
                  </a:lnTo>
                  <a:lnTo>
                    <a:pt x="204" y="14"/>
                  </a:lnTo>
                  <a:lnTo>
                    <a:pt x="212" y="18"/>
                  </a:lnTo>
                  <a:lnTo>
                    <a:pt x="221" y="24"/>
                  </a:lnTo>
                  <a:lnTo>
                    <a:pt x="228" y="30"/>
                  </a:lnTo>
                  <a:lnTo>
                    <a:pt x="236" y="37"/>
                  </a:lnTo>
                  <a:lnTo>
                    <a:pt x="242" y="45"/>
                  </a:lnTo>
                  <a:lnTo>
                    <a:pt x="247" y="53"/>
                  </a:lnTo>
                  <a:lnTo>
                    <a:pt x="253" y="62"/>
                  </a:lnTo>
                  <a:lnTo>
                    <a:pt x="257" y="72"/>
                  </a:lnTo>
                  <a:lnTo>
                    <a:pt x="261" y="81"/>
                  </a:lnTo>
                  <a:lnTo>
                    <a:pt x="264" y="93"/>
                  </a:lnTo>
                  <a:lnTo>
                    <a:pt x="225" y="103"/>
                  </a:lnTo>
                  <a:lnTo>
                    <a:pt x="219" y="86"/>
                  </a:lnTo>
                  <a:lnTo>
                    <a:pt x="211" y="72"/>
                  </a:lnTo>
                  <a:lnTo>
                    <a:pt x="208" y="67"/>
                  </a:lnTo>
                  <a:lnTo>
                    <a:pt x="203" y="61"/>
                  </a:lnTo>
                  <a:lnTo>
                    <a:pt x="199" y="56"/>
                  </a:lnTo>
                  <a:lnTo>
                    <a:pt x="194" y="52"/>
                  </a:lnTo>
                  <a:lnTo>
                    <a:pt x="189" y="47"/>
                  </a:lnTo>
                  <a:lnTo>
                    <a:pt x="183" y="44"/>
                  </a:lnTo>
                  <a:lnTo>
                    <a:pt x="177" y="42"/>
                  </a:lnTo>
                  <a:lnTo>
                    <a:pt x="171" y="40"/>
                  </a:lnTo>
                  <a:lnTo>
                    <a:pt x="165" y="38"/>
                  </a:lnTo>
                  <a:lnTo>
                    <a:pt x="157" y="37"/>
                  </a:lnTo>
                  <a:lnTo>
                    <a:pt x="151" y="36"/>
                  </a:lnTo>
                  <a:lnTo>
                    <a:pt x="143" y="36"/>
                  </a:lnTo>
                  <a:lnTo>
                    <a:pt x="135" y="36"/>
                  </a:lnTo>
                  <a:lnTo>
                    <a:pt x="127" y="37"/>
                  </a:lnTo>
                  <a:lnTo>
                    <a:pt x="118" y="38"/>
                  </a:lnTo>
                  <a:lnTo>
                    <a:pt x="111" y="40"/>
                  </a:lnTo>
                  <a:lnTo>
                    <a:pt x="103" y="42"/>
                  </a:lnTo>
                  <a:lnTo>
                    <a:pt x="97" y="45"/>
                  </a:lnTo>
                  <a:lnTo>
                    <a:pt x="91" y="50"/>
                  </a:lnTo>
                  <a:lnTo>
                    <a:pt x="84" y="53"/>
                  </a:lnTo>
                  <a:lnTo>
                    <a:pt x="79" y="58"/>
                  </a:lnTo>
                  <a:lnTo>
                    <a:pt x="74" y="63"/>
                  </a:lnTo>
                  <a:lnTo>
                    <a:pt x="68" y="69"/>
                  </a:lnTo>
                  <a:lnTo>
                    <a:pt x="64" y="74"/>
                  </a:lnTo>
                  <a:lnTo>
                    <a:pt x="61" y="80"/>
                  </a:lnTo>
                  <a:lnTo>
                    <a:pt x="57" y="87"/>
                  </a:lnTo>
                  <a:lnTo>
                    <a:pt x="53" y="93"/>
                  </a:lnTo>
                  <a:lnTo>
                    <a:pt x="51" y="100"/>
                  </a:lnTo>
                  <a:lnTo>
                    <a:pt x="47" y="115"/>
                  </a:lnTo>
                  <a:lnTo>
                    <a:pt x="44" y="131"/>
                  </a:lnTo>
                  <a:lnTo>
                    <a:pt x="42" y="146"/>
                  </a:lnTo>
                  <a:lnTo>
                    <a:pt x="42" y="162"/>
                  </a:lnTo>
                  <a:lnTo>
                    <a:pt x="43" y="182"/>
                  </a:lnTo>
                  <a:lnTo>
                    <a:pt x="45" y="200"/>
                  </a:lnTo>
                  <a:lnTo>
                    <a:pt x="48" y="217"/>
                  </a:lnTo>
                  <a:lnTo>
                    <a:pt x="53" y="233"/>
                  </a:lnTo>
                  <a:lnTo>
                    <a:pt x="56" y="240"/>
                  </a:lnTo>
                  <a:lnTo>
                    <a:pt x="60" y="248"/>
                  </a:lnTo>
                  <a:lnTo>
                    <a:pt x="63" y="254"/>
                  </a:lnTo>
                  <a:lnTo>
                    <a:pt x="67" y="260"/>
                  </a:lnTo>
                  <a:lnTo>
                    <a:pt x="73" y="266"/>
                  </a:lnTo>
                  <a:lnTo>
                    <a:pt x="77" y="270"/>
                  </a:lnTo>
                  <a:lnTo>
                    <a:pt x="82" y="275"/>
                  </a:lnTo>
                  <a:lnTo>
                    <a:pt x="88" y="278"/>
                  </a:lnTo>
                  <a:lnTo>
                    <a:pt x="100" y="286"/>
                  </a:lnTo>
                  <a:lnTo>
                    <a:pt x="113" y="290"/>
                  </a:lnTo>
                  <a:lnTo>
                    <a:pt x="127" y="293"/>
                  </a:lnTo>
                  <a:lnTo>
                    <a:pt x="140" y="294"/>
                  </a:lnTo>
                  <a:lnTo>
                    <a:pt x="149" y="293"/>
                  </a:lnTo>
                  <a:lnTo>
                    <a:pt x="156" y="292"/>
                  </a:lnTo>
                  <a:lnTo>
                    <a:pt x="164" y="291"/>
                  </a:lnTo>
                  <a:lnTo>
                    <a:pt x="171" y="289"/>
                  </a:lnTo>
                  <a:lnTo>
                    <a:pt x="178" y="286"/>
                  </a:lnTo>
                  <a:lnTo>
                    <a:pt x="185" y="283"/>
                  </a:lnTo>
                  <a:lnTo>
                    <a:pt x="191" y="278"/>
                  </a:lnTo>
                  <a:lnTo>
                    <a:pt x="197" y="273"/>
                  </a:lnTo>
                  <a:lnTo>
                    <a:pt x="203" y="268"/>
                  </a:lnTo>
                  <a:lnTo>
                    <a:pt x="208" y="261"/>
                  </a:lnTo>
                  <a:lnTo>
                    <a:pt x="212" y="255"/>
                  </a:lnTo>
                  <a:lnTo>
                    <a:pt x="217" y="248"/>
                  </a:lnTo>
                  <a:lnTo>
                    <a:pt x="221" y="240"/>
                  </a:lnTo>
                  <a:lnTo>
                    <a:pt x="224" y="232"/>
                  </a:lnTo>
                  <a:lnTo>
                    <a:pt x="227" y="222"/>
                  </a:lnTo>
                  <a:lnTo>
                    <a:pt x="229" y="213"/>
                  </a:lnTo>
                  <a:close/>
                </a:path>
              </a:pathLst>
            </a:custGeom>
            <a:solidFill>
              <a:srgbClr val="d79f00"/>
            </a:solidFill>
            <a:ln w="0">
              <a:noFill/>
            </a:ln>
          </p:spPr>
          <p:style>
            <a:lnRef idx="0"/>
            <a:fillRef idx="0"/>
            <a:effectRef idx="0"/>
            <a:fontRef idx="minor"/>
          </p:style>
          <p:txBody>
            <a:bodyPr lIns="90000" rIns="90000" tIns="15840" bIns="15840" anchor="t">
              <a:noAutofit/>
            </a:bodyPr>
            <a:p>
              <a:pPr>
                <a:lnSpc>
                  <a:spcPct val="100000"/>
                </a:lnSpc>
              </a:pPr>
              <a:endParaRPr b="0" lang="en-US" sz="1800" spc="-1" strike="noStrike">
                <a:solidFill>
                  <a:srgbClr val="d79f00"/>
                </a:solidFill>
                <a:latin typeface="Arial"/>
                <a:ea typeface="宋体"/>
              </a:endParaRPr>
            </a:p>
          </p:txBody>
        </p:sp>
        <p:sp>
          <p:nvSpPr>
            <p:cNvPr id="146" name="Freeform 72"/>
            <p:cNvSpPr/>
            <p:nvPr/>
          </p:nvSpPr>
          <p:spPr>
            <a:xfrm>
              <a:off x="4982400" y="9350280"/>
              <a:ext cx="57240" cy="60480"/>
            </a:xfrm>
            <a:custGeom>
              <a:avLst/>
              <a:gdLst>
                <a:gd name="textAreaLeft" fmla="*/ 0 w 57240"/>
                <a:gd name="textAreaRight" fmla="*/ 57600 w 57240"/>
                <a:gd name="textAreaTop" fmla="*/ 0 h 60480"/>
                <a:gd name="textAreaBottom" fmla="*/ 60840 h 60480"/>
              </a:gdLst>
              <a:ahLst/>
              <a:rect l="textAreaLeft" t="textAreaTop" r="textAreaRight" b="textAreaBottom"/>
              <a:pathLst>
                <a:path w="291" h="331">
                  <a:moveTo>
                    <a:pt x="0" y="170"/>
                  </a:moveTo>
                  <a:lnTo>
                    <a:pt x="0" y="150"/>
                  </a:lnTo>
                  <a:lnTo>
                    <a:pt x="2" y="132"/>
                  </a:lnTo>
                  <a:lnTo>
                    <a:pt x="5" y="115"/>
                  </a:lnTo>
                  <a:lnTo>
                    <a:pt x="10" y="99"/>
                  </a:lnTo>
                  <a:lnTo>
                    <a:pt x="16" y="83"/>
                  </a:lnTo>
                  <a:lnTo>
                    <a:pt x="22" y="70"/>
                  </a:lnTo>
                  <a:lnTo>
                    <a:pt x="31" y="57"/>
                  </a:lnTo>
                  <a:lnTo>
                    <a:pt x="40" y="45"/>
                  </a:lnTo>
                  <a:lnTo>
                    <a:pt x="51" y="35"/>
                  </a:lnTo>
                  <a:lnTo>
                    <a:pt x="63" y="25"/>
                  </a:lnTo>
                  <a:lnTo>
                    <a:pt x="74" y="18"/>
                  </a:lnTo>
                  <a:lnTo>
                    <a:pt x="87" y="11"/>
                  </a:lnTo>
                  <a:lnTo>
                    <a:pt x="101" y="6"/>
                  </a:lnTo>
                  <a:lnTo>
                    <a:pt x="114" y="3"/>
                  </a:lnTo>
                  <a:lnTo>
                    <a:pt x="129" y="1"/>
                  </a:lnTo>
                  <a:lnTo>
                    <a:pt x="145" y="0"/>
                  </a:lnTo>
                  <a:lnTo>
                    <a:pt x="156" y="1"/>
                  </a:lnTo>
                  <a:lnTo>
                    <a:pt x="166" y="2"/>
                  </a:lnTo>
                  <a:lnTo>
                    <a:pt x="176" y="3"/>
                  </a:lnTo>
                  <a:lnTo>
                    <a:pt x="185" y="5"/>
                  </a:lnTo>
                  <a:lnTo>
                    <a:pt x="195" y="8"/>
                  </a:lnTo>
                  <a:lnTo>
                    <a:pt x="204" y="12"/>
                  </a:lnTo>
                  <a:lnTo>
                    <a:pt x="213" y="17"/>
                  </a:lnTo>
                  <a:lnTo>
                    <a:pt x="221" y="21"/>
                  </a:lnTo>
                  <a:lnTo>
                    <a:pt x="230" y="27"/>
                  </a:lnTo>
                  <a:lnTo>
                    <a:pt x="237" y="33"/>
                  </a:lnTo>
                  <a:lnTo>
                    <a:pt x="245" y="40"/>
                  </a:lnTo>
                  <a:lnTo>
                    <a:pt x="251" y="46"/>
                  </a:lnTo>
                  <a:lnTo>
                    <a:pt x="257" y="55"/>
                  </a:lnTo>
                  <a:lnTo>
                    <a:pt x="264" y="62"/>
                  </a:lnTo>
                  <a:lnTo>
                    <a:pt x="268" y="71"/>
                  </a:lnTo>
                  <a:lnTo>
                    <a:pt x="273" y="80"/>
                  </a:lnTo>
                  <a:lnTo>
                    <a:pt x="278" y="90"/>
                  </a:lnTo>
                  <a:lnTo>
                    <a:pt x="281" y="100"/>
                  </a:lnTo>
                  <a:lnTo>
                    <a:pt x="284" y="110"/>
                  </a:lnTo>
                  <a:lnTo>
                    <a:pt x="286" y="120"/>
                  </a:lnTo>
                  <a:lnTo>
                    <a:pt x="288" y="131"/>
                  </a:lnTo>
                  <a:lnTo>
                    <a:pt x="290" y="143"/>
                  </a:lnTo>
                  <a:lnTo>
                    <a:pt x="290" y="154"/>
                  </a:lnTo>
                  <a:lnTo>
                    <a:pt x="291" y="166"/>
                  </a:lnTo>
                  <a:lnTo>
                    <a:pt x="290" y="178"/>
                  </a:lnTo>
                  <a:lnTo>
                    <a:pt x="290" y="189"/>
                  </a:lnTo>
                  <a:lnTo>
                    <a:pt x="288" y="201"/>
                  </a:lnTo>
                  <a:lnTo>
                    <a:pt x="286" y="213"/>
                  </a:lnTo>
                  <a:lnTo>
                    <a:pt x="284" y="223"/>
                  </a:lnTo>
                  <a:lnTo>
                    <a:pt x="281" y="234"/>
                  </a:lnTo>
                  <a:lnTo>
                    <a:pt x="277" y="243"/>
                  </a:lnTo>
                  <a:lnTo>
                    <a:pt x="272" y="253"/>
                  </a:lnTo>
                  <a:lnTo>
                    <a:pt x="267" y="262"/>
                  </a:lnTo>
                  <a:lnTo>
                    <a:pt x="262" y="271"/>
                  </a:lnTo>
                  <a:lnTo>
                    <a:pt x="256" y="279"/>
                  </a:lnTo>
                  <a:lnTo>
                    <a:pt x="250" y="287"/>
                  </a:lnTo>
                  <a:lnTo>
                    <a:pt x="243" y="294"/>
                  </a:lnTo>
                  <a:lnTo>
                    <a:pt x="235" y="301"/>
                  </a:lnTo>
                  <a:lnTo>
                    <a:pt x="228" y="306"/>
                  </a:lnTo>
                  <a:lnTo>
                    <a:pt x="219" y="311"/>
                  </a:lnTo>
                  <a:lnTo>
                    <a:pt x="211" y="315"/>
                  </a:lnTo>
                  <a:lnTo>
                    <a:pt x="201" y="320"/>
                  </a:lnTo>
                  <a:lnTo>
                    <a:pt x="193" y="323"/>
                  </a:lnTo>
                  <a:lnTo>
                    <a:pt x="183" y="326"/>
                  </a:lnTo>
                  <a:lnTo>
                    <a:pt x="174" y="328"/>
                  </a:lnTo>
                  <a:lnTo>
                    <a:pt x="165" y="330"/>
                  </a:lnTo>
                  <a:lnTo>
                    <a:pt x="155" y="330"/>
                  </a:lnTo>
                  <a:lnTo>
                    <a:pt x="145" y="331"/>
                  </a:lnTo>
                  <a:lnTo>
                    <a:pt x="135" y="330"/>
                  </a:lnTo>
                  <a:lnTo>
                    <a:pt x="124" y="329"/>
                  </a:lnTo>
                  <a:lnTo>
                    <a:pt x="114" y="328"/>
                  </a:lnTo>
                  <a:lnTo>
                    <a:pt x="105" y="326"/>
                  </a:lnTo>
                  <a:lnTo>
                    <a:pt x="95" y="323"/>
                  </a:lnTo>
                  <a:lnTo>
                    <a:pt x="86" y="319"/>
                  </a:lnTo>
                  <a:lnTo>
                    <a:pt x="77" y="314"/>
                  </a:lnTo>
                  <a:lnTo>
                    <a:pt x="69" y="309"/>
                  </a:lnTo>
                  <a:lnTo>
                    <a:pt x="60" y="304"/>
                  </a:lnTo>
                  <a:lnTo>
                    <a:pt x="52" y="297"/>
                  </a:lnTo>
                  <a:lnTo>
                    <a:pt x="46" y="291"/>
                  </a:lnTo>
                  <a:lnTo>
                    <a:pt x="38" y="284"/>
                  </a:lnTo>
                  <a:lnTo>
                    <a:pt x="33" y="276"/>
                  </a:lnTo>
                  <a:lnTo>
                    <a:pt x="27" y="268"/>
                  </a:lnTo>
                  <a:lnTo>
                    <a:pt x="21" y="259"/>
                  </a:lnTo>
                  <a:lnTo>
                    <a:pt x="17" y="250"/>
                  </a:lnTo>
                  <a:lnTo>
                    <a:pt x="13" y="240"/>
                  </a:lnTo>
                  <a:lnTo>
                    <a:pt x="10" y="231"/>
                  </a:lnTo>
                  <a:lnTo>
                    <a:pt x="6" y="221"/>
                  </a:lnTo>
                  <a:lnTo>
                    <a:pt x="4" y="211"/>
                  </a:lnTo>
                  <a:lnTo>
                    <a:pt x="2" y="201"/>
                  </a:lnTo>
                  <a:lnTo>
                    <a:pt x="1" y="190"/>
                  </a:lnTo>
                  <a:lnTo>
                    <a:pt x="0" y="180"/>
                  </a:lnTo>
                  <a:lnTo>
                    <a:pt x="0" y="170"/>
                  </a:lnTo>
                  <a:close/>
                  <a:moveTo>
                    <a:pt x="41" y="170"/>
                  </a:moveTo>
                  <a:lnTo>
                    <a:pt x="41" y="185"/>
                  </a:lnTo>
                  <a:lnTo>
                    <a:pt x="43" y="198"/>
                  </a:lnTo>
                  <a:lnTo>
                    <a:pt x="46" y="211"/>
                  </a:lnTo>
                  <a:lnTo>
                    <a:pt x="49" y="222"/>
                  </a:lnTo>
                  <a:lnTo>
                    <a:pt x="53" y="233"/>
                  </a:lnTo>
                  <a:lnTo>
                    <a:pt x="57" y="243"/>
                  </a:lnTo>
                  <a:lnTo>
                    <a:pt x="64" y="253"/>
                  </a:lnTo>
                  <a:lnTo>
                    <a:pt x="71" y="261"/>
                  </a:lnTo>
                  <a:lnTo>
                    <a:pt x="78" y="270"/>
                  </a:lnTo>
                  <a:lnTo>
                    <a:pt x="87" y="276"/>
                  </a:lnTo>
                  <a:lnTo>
                    <a:pt x="95" y="282"/>
                  </a:lnTo>
                  <a:lnTo>
                    <a:pt x="104" y="287"/>
                  </a:lnTo>
                  <a:lnTo>
                    <a:pt x="113" y="290"/>
                  </a:lnTo>
                  <a:lnTo>
                    <a:pt x="124" y="293"/>
                  </a:lnTo>
                  <a:lnTo>
                    <a:pt x="135" y="294"/>
                  </a:lnTo>
                  <a:lnTo>
                    <a:pt x="145" y="295"/>
                  </a:lnTo>
                  <a:lnTo>
                    <a:pt x="156" y="294"/>
                  </a:lnTo>
                  <a:lnTo>
                    <a:pt x="166" y="293"/>
                  </a:lnTo>
                  <a:lnTo>
                    <a:pt x="177" y="290"/>
                  </a:lnTo>
                  <a:lnTo>
                    <a:pt x="186" y="287"/>
                  </a:lnTo>
                  <a:lnTo>
                    <a:pt x="196" y="282"/>
                  </a:lnTo>
                  <a:lnTo>
                    <a:pt x="204" y="276"/>
                  </a:lnTo>
                  <a:lnTo>
                    <a:pt x="212" y="269"/>
                  </a:lnTo>
                  <a:lnTo>
                    <a:pt x="220" y="261"/>
                  </a:lnTo>
                  <a:lnTo>
                    <a:pt x="227" y="253"/>
                  </a:lnTo>
                  <a:lnTo>
                    <a:pt x="233" y="242"/>
                  </a:lnTo>
                  <a:lnTo>
                    <a:pt x="238" y="232"/>
                  </a:lnTo>
                  <a:lnTo>
                    <a:pt x="242" y="221"/>
                  </a:lnTo>
                  <a:lnTo>
                    <a:pt x="245" y="208"/>
                  </a:lnTo>
                  <a:lnTo>
                    <a:pt x="248" y="195"/>
                  </a:lnTo>
                  <a:lnTo>
                    <a:pt x="249" y="181"/>
                  </a:lnTo>
                  <a:lnTo>
                    <a:pt x="249" y="166"/>
                  </a:lnTo>
                  <a:lnTo>
                    <a:pt x="249" y="147"/>
                  </a:lnTo>
                  <a:lnTo>
                    <a:pt x="246" y="129"/>
                  </a:lnTo>
                  <a:lnTo>
                    <a:pt x="243" y="113"/>
                  </a:lnTo>
                  <a:lnTo>
                    <a:pt x="237" y="98"/>
                  </a:lnTo>
                  <a:lnTo>
                    <a:pt x="230" y="84"/>
                  </a:lnTo>
                  <a:lnTo>
                    <a:pt x="221" y="72"/>
                  </a:lnTo>
                  <a:lnTo>
                    <a:pt x="216" y="66"/>
                  </a:lnTo>
                  <a:lnTo>
                    <a:pt x="212" y="61"/>
                  </a:lnTo>
                  <a:lnTo>
                    <a:pt x="206" y="57"/>
                  </a:lnTo>
                  <a:lnTo>
                    <a:pt x="200" y="53"/>
                  </a:lnTo>
                  <a:lnTo>
                    <a:pt x="188" y="45"/>
                  </a:lnTo>
                  <a:lnTo>
                    <a:pt x="175" y="41"/>
                  </a:lnTo>
                  <a:lnTo>
                    <a:pt x="160" y="38"/>
                  </a:lnTo>
                  <a:lnTo>
                    <a:pt x="146" y="37"/>
                  </a:lnTo>
                  <a:lnTo>
                    <a:pt x="136" y="37"/>
                  </a:lnTo>
                  <a:lnTo>
                    <a:pt x="125" y="39"/>
                  </a:lnTo>
                  <a:lnTo>
                    <a:pt x="116" y="41"/>
                  </a:lnTo>
                  <a:lnTo>
                    <a:pt x="106" y="44"/>
                  </a:lnTo>
                  <a:lnTo>
                    <a:pt x="96" y="48"/>
                  </a:lnTo>
                  <a:lnTo>
                    <a:pt x="88" y="54"/>
                  </a:lnTo>
                  <a:lnTo>
                    <a:pt x="80" y="60"/>
                  </a:lnTo>
                  <a:lnTo>
                    <a:pt x="72" y="68"/>
                  </a:lnTo>
                  <a:lnTo>
                    <a:pt x="65" y="76"/>
                  </a:lnTo>
                  <a:lnTo>
                    <a:pt x="58" y="86"/>
                  </a:lnTo>
                  <a:lnTo>
                    <a:pt x="53" y="96"/>
                  </a:lnTo>
                  <a:lnTo>
                    <a:pt x="49" y="109"/>
                  </a:lnTo>
                  <a:lnTo>
                    <a:pt x="46" y="123"/>
                  </a:lnTo>
                  <a:lnTo>
                    <a:pt x="43" y="137"/>
                  </a:lnTo>
                  <a:lnTo>
                    <a:pt x="41" y="153"/>
                  </a:lnTo>
                  <a:lnTo>
                    <a:pt x="41" y="170"/>
                  </a:lnTo>
                  <a:close/>
                </a:path>
              </a:pathLst>
            </a:custGeom>
            <a:solidFill>
              <a:srgbClr val="d79f00"/>
            </a:solidFill>
            <a:ln w="0">
              <a:noFill/>
            </a:ln>
          </p:spPr>
          <p:style>
            <a:lnRef idx="0"/>
            <a:fillRef idx="0"/>
            <a:effectRef idx="0"/>
            <a:fontRef idx="minor"/>
          </p:style>
          <p:txBody>
            <a:bodyPr lIns="90000" rIns="90000" tIns="15840" bIns="15840" anchor="t">
              <a:noAutofit/>
            </a:bodyPr>
            <a:p>
              <a:pPr>
                <a:lnSpc>
                  <a:spcPct val="100000"/>
                </a:lnSpc>
              </a:pPr>
              <a:endParaRPr b="0" lang="en-US" sz="1800" spc="-1" strike="noStrike">
                <a:solidFill>
                  <a:srgbClr val="d79f00"/>
                </a:solidFill>
                <a:latin typeface="Arial"/>
                <a:ea typeface="宋体"/>
              </a:endParaRPr>
            </a:p>
          </p:txBody>
        </p:sp>
        <p:sp>
          <p:nvSpPr>
            <p:cNvPr id="147" name="Freeform 73"/>
            <p:cNvSpPr/>
            <p:nvPr/>
          </p:nvSpPr>
          <p:spPr>
            <a:xfrm>
              <a:off x="5126400" y="9351360"/>
              <a:ext cx="36720" cy="59400"/>
            </a:xfrm>
            <a:custGeom>
              <a:avLst/>
              <a:gdLst>
                <a:gd name="textAreaLeft" fmla="*/ 0 w 36720"/>
                <a:gd name="textAreaRight" fmla="*/ 37080 w 36720"/>
                <a:gd name="textAreaTop" fmla="*/ 0 h 59400"/>
                <a:gd name="textAreaBottom" fmla="*/ 59760 h 59400"/>
              </a:gdLst>
              <a:ahLst/>
              <a:rect l="textAreaLeft" t="textAreaTop" r="textAreaRight" b="textAreaBottom"/>
              <a:pathLst>
                <a:path w="191" h="320">
                  <a:moveTo>
                    <a:pt x="0" y="320"/>
                  </a:moveTo>
                  <a:lnTo>
                    <a:pt x="0" y="0"/>
                  </a:lnTo>
                  <a:lnTo>
                    <a:pt x="40" y="0"/>
                  </a:lnTo>
                  <a:lnTo>
                    <a:pt x="40" y="282"/>
                  </a:lnTo>
                  <a:lnTo>
                    <a:pt x="191" y="282"/>
                  </a:lnTo>
                  <a:lnTo>
                    <a:pt x="191" y="320"/>
                  </a:lnTo>
                  <a:lnTo>
                    <a:pt x="0" y="320"/>
                  </a:lnTo>
                  <a:close/>
                </a:path>
              </a:pathLst>
            </a:custGeom>
            <a:solidFill>
              <a:srgbClr val="d79f00"/>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148" name="Freeform 74"/>
            <p:cNvSpPr/>
            <p:nvPr/>
          </p:nvSpPr>
          <p:spPr>
            <a:xfrm>
              <a:off x="5167440" y="9351360"/>
              <a:ext cx="46080" cy="59400"/>
            </a:xfrm>
            <a:custGeom>
              <a:avLst/>
              <a:gdLst>
                <a:gd name="textAreaLeft" fmla="*/ 0 w 46080"/>
                <a:gd name="textAreaRight" fmla="*/ 46440 w 46080"/>
                <a:gd name="textAreaTop" fmla="*/ 0 h 59400"/>
                <a:gd name="textAreaBottom" fmla="*/ 59760 h 59400"/>
              </a:gdLst>
              <a:ahLst/>
              <a:rect l="textAreaLeft" t="textAreaTop" r="textAreaRight" b="textAreaBottom"/>
              <a:pathLst>
                <a:path w="241" h="320">
                  <a:moveTo>
                    <a:pt x="100" y="320"/>
                  </a:moveTo>
                  <a:lnTo>
                    <a:pt x="100" y="37"/>
                  </a:lnTo>
                  <a:lnTo>
                    <a:pt x="0" y="37"/>
                  </a:lnTo>
                  <a:lnTo>
                    <a:pt x="0" y="0"/>
                  </a:lnTo>
                  <a:lnTo>
                    <a:pt x="241" y="0"/>
                  </a:lnTo>
                  <a:lnTo>
                    <a:pt x="241" y="37"/>
                  </a:lnTo>
                  <a:lnTo>
                    <a:pt x="141" y="37"/>
                  </a:lnTo>
                  <a:lnTo>
                    <a:pt x="141" y="320"/>
                  </a:lnTo>
                  <a:lnTo>
                    <a:pt x="100" y="320"/>
                  </a:lnTo>
                  <a:close/>
                </a:path>
              </a:pathLst>
            </a:custGeom>
            <a:solidFill>
              <a:srgbClr val="d79f00"/>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149" name="Freeform 75"/>
            <p:cNvSpPr/>
            <p:nvPr/>
          </p:nvSpPr>
          <p:spPr>
            <a:xfrm>
              <a:off x="5227560" y="9351360"/>
              <a:ext cx="48960" cy="59400"/>
            </a:xfrm>
            <a:custGeom>
              <a:avLst/>
              <a:gdLst>
                <a:gd name="textAreaLeft" fmla="*/ 0 w 48960"/>
                <a:gd name="textAreaRight" fmla="*/ 49320 w 48960"/>
                <a:gd name="textAreaTop" fmla="*/ 0 h 59400"/>
                <a:gd name="textAreaBottom" fmla="*/ 59760 h 59400"/>
              </a:gdLst>
              <a:ahLst/>
              <a:rect l="textAreaLeft" t="textAreaTop" r="textAreaRight" b="textAreaBottom"/>
              <a:pathLst>
                <a:path w="252" h="320">
                  <a:moveTo>
                    <a:pt x="0" y="320"/>
                  </a:moveTo>
                  <a:lnTo>
                    <a:pt x="0" y="0"/>
                  </a:lnTo>
                  <a:lnTo>
                    <a:pt x="105" y="0"/>
                  </a:lnTo>
                  <a:lnTo>
                    <a:pt x="122" y="0"/>
                  </a:lnTo>
                  <a:lnTo>
                    <a:pt x="137" y="1"/>
                  </a:lnTo>
                  <a:lnTo>
                    <a:pt x="149" y="2"/>
                  </a:lnTo>
                  <a:lnTo>
                    <a:pt x="159" y="4"/>
                  </a:lnTo>
                  <a:lnTo>
                    <a:pt x="172" y="9"/>
                  </a:lnTo>
                  <a:lnTo>
                    <a:pt x="183" y="14"/>
                  </a:lnTo>
                  <a:lnTo>
                    <a:pt x="194" y="20"/>
                  </a:lnTo>
                  <a:lnTo>
                    <a:pt x="204" y="28"/>
                  </a:lnTo>
                  <a:lnTo>
                    <a:pt x="215" y="39"/>
                  </a:lnTo>
                  <a:lnTo>
                    <a:pt x="226" y="52"/>
                  </a:lnTo>
                  <a:lnTo>
                    <a:pt x="233" y="66"/>
                  </a:lnTo>
                  <a:lnTo>
                    <a:pt x="240" y="82"/>
                  </a:lnTo>
                  <a:lnTo>
                    <a:pt x="246" y="100"/>
                  </a:lnTo>
                  <a:lnTo>
                    <a:pt x="249" y="118"/>
                  </a:lnTo>
                  <a:lnTo>
                    <a:pt x="251" y="137"/>
                  </a:lnTo>
                  <a:lnTo>
                    <a:pt x="252" y="158"/>
                  </a:lnTo>
                  <a:lnTo>
                    <a:pt x="252" y="176"/>
                  </a:lnTo>
                  <a:lnTo>
                    <a:pt x="250" y="192"/>
                  </a:lnTo>
                  <a:lnTo>
                    <a:pt x="248" y="208"/>
                  </a:lnTo>
                  <a:lnTo>
                    <a:pt x="244" y="223"/>
                  </a:lnTo>
                  <a:lnTo>
                    <a:pt x="239" y="236"/>
                  </a:lnTo>
                  <a:lnTo>
                    <a:pt x="235" y="248"/>
                  </a:lnTo>
                  <a:lnTo>
                    <a:pt x="229" y="260"/>
                  </a:lnTo>
                  <a:lnTo>
                    <a:pt x="223" y="269"/>
                  </a:lnTo>
                  <a:lnTo>
                    <a:pt x="217" y="278"/>
                  </a:lnTo>
                  <a:lnTo>
                    <a:pt x="210" y="286"/>
                  </a:lnTo>
                  <a:lnTo>
                    <a:pt x="202" y="293"/>
                  </a:lnTo>
                  <a:lnTo>
                    <a:pt x="195" y="298"/>
                  </a:lnTo>
                  <a:lnTo>
                    <a:pt x="187" y="303"/>
                  </a:lnTo>
                  <a:lnTo>
                    <a:pt x="179" y="307"/>
                  </a:lnTo>
                  <a:lnTo>
                    <a:pt x="169" y="312"/>
                  </a:lnTo>
                  <a:lnTo>
                    <a:pt x="159" y="314"/>
                  </a:lnTo>
                  <a:lnTo>
                    <a:pt x="148" y="317"/>
                  </a:lnTo>
                  <a:lnTo>
                    <a:pt x="137" y="318"/>
                  </a:lnTo>
                  <a:lnTo>
                    <a:pt x="124" y="319"/>
                  </a:lnTo>
                  <a:lnTo>
                    <a:pt x="110" y="320"/>
                  </a:lnTo>
                  <a:lnTo>
                    <a:pt x="0" y="320"/>
                  </a:lnTo>
                  <a:close/>
                  <a:moveTo>
                    <a:pt x="40" y="282"/>
                  </a:moveTo>
                  <a:lnTo>
                    <a:pt x="106" y="282"/>
                  </a:lnTo>
                  <a:lnTo>
                    <a:pt x="120" y="282"/>
                  </a:lnTo>
                  <a:lnTo>
                    <a:pt x="132" y="281"/>
                  </a:lnTo>
                  <a:lnTo>
                    <a:pt x="143" y="279"/>
                  </a:lnTo>
                  <a:lnTo>
                    <a:pt x="152" y="276"/>
                  </a:lnTo>
                  <a:lnTo>
                    <a:pt x="161" y="272"/>
                  </a:lnTo>
                  <a:lnTo>
                    <a:pt x="168" y="269"/>
                  </a:lnTo>
                  <a:lnTo>
                    <a:pt x="175" y="265"/>
                  </a:lnTo>
                  <a:lnTo>
                    <a:pt x="180" y="260"/>
                  </a:lnTo>
                  <a:lnTo>
                    <a:pt x="186" y="251"/>
                  </a:lnTo>
                  <a:lnTo>
                    <a:pt x="193" y="242"/>
                  </a:lnTo>
                  <a:lnTo>
                    <a:pt x="198" y="231"/>
                  </a:lnTo>
                  <a:lnTo>
                    <a:pt x="202" y="219"/>
                  </a:lnTo>
                  <a:lnTo>
                    <a:pt x="205" y="206"/>
                  </a:lnTo>
                  <a:lnTo>
                    <a:pt x="209" y="191"/>
                  </a:lnTo>
                  <a:lnTo>
                    <a:pt x="210" y="175"/>
                  </a:lnTo>
                  <a:lnTo>
                    <a:pt x="211" y="157"/>
                  </a:lnTo>
                  <a:lnTo>
                    <a:pt x="210" y="145"/>
                  </a:lnTo>
                  <a:lnTo>
                    <a:pt x="210" y="134"/>
                  </a:lnTo>
                  <a:lnTo>
                    <a:pt x="209" y="123"/>
                  </a:lnTo>
                  <a:lnTo>
                    <a:pt x="206" y="113"/>
                  </a:lnTo>
                  <a:lnTo>
                    <a:pt x="204" y="104"/>
                  </a:lnTo>
                  <a:lnTo>
                    <a:pt x="201" y="95"/>
                  </a:lnTo>
                  <a:lnTo>
                    <a:pt x="198" y="87"/>
                  </a:lnTo>
                  <a:lnTo>
                    <a:pt x="195" y="81"/>
                  </a:lnTo>
                  <a:lnTo>
                    <a:pt x="186" y="68"/>
                  </a:lnTo>
                  <a:lnTo>
                    <a:pt x="178" y="57"/>
                  </a:lnTo>
                  <a:lnTo>
                    <a:pt x="173" y="53"/>
                  </a:lnTo>
                  <a:lnTo>
                    <a:pt x="167" y="50"/>
                  </a:lnTo>
                  <a:lnTo>
                    <a:pt x="162" y="47"/>
                  </a:lnTo>
                  <a:lnTo>
                    <a:pt x="157" y="45"/>
                  </a:lnTo>
                  <a:lnTo>
                    <a:pt x="147" y="41"/>
                  </a:lnTo>
                  <a:lnTo>
                    <a:pt x="135" y="39"/>
                  </a:lnTo>
                  <a:lnTo>
                    <a:pt x="121" y="38"/>
                  </a:lnTo>
                  <a:lnTo>
                    <a:pt x="105" y="37"/>
                  </a:lnTo>
                  <a:lnTo>
                    <a:pt x="40" y="37"/>
                  </a:lnTo>
                  <a:lnTo>
                    <a:pt x="40" y="282"/>
                  </a:lnTo>
                  <a:close/>
                </a:path>
              </a:pathLst>
            </a:custGeom>
            <a:solidFill>
              <a:srgbClr val="d79f00"/>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150" name="Freeform 76"/>
            <p:cNvSpPr/>
            <p:nvPr/>
          </p:nvSpPr>
          <p:spPr>
            <a:xfrm>
              <a:off x="5053680" y="9400680"/>
              <a:ext cx="10440" cy="8640"/>
            </a:xfrm>
            <a:custGeom>
              <a:avLst/>
              <a:gdLst>
                <a:gd name="textAreaLeft" fmla="*/ 0 w 10440"/>
                <a:gd name="textAreaRight" fmla="*/ 10800 w 10440"/>
                <a:gd name="textAreaTop" fmla="*/ 0 h 8640"/>
                <a:gd name="textAreaBottom" fmla="*/ 9000 h 8640"/>
              </a:gdLst>
              <a:ahLst/>
              <a:rect l="textAreaLeft" t="textAreaTop" r="textAreaRight" b="textAreaBottom"/>
              <a:pathLst>
                <a:path w="50" h="52">
                  <a:moveTo>
                    <a:pt x="25" y="52"/>
                  </a:moveTo>
                  <a:lnTo>
                    <a:pt x="21" y="52"/>
                  </a:lnTo>
                  <a:lnTo>
                    <a:pt x="15" y="50"/>
                  </a:lnTo>
                  <a:lnTo>
                    <a:pt x="11" y="48"/>
                  </a:lnTo>
                  <a:lnTo>
                    <a:pt x="8" y="45"/>
                  </a:lnTo>
                  <a:lnTo>
                    <a:pt x="5" y="41"/>
                  </a:lnTo>
                  <a:lnTo>
                    <a:pt x="1" y="37"/>
                  </a:lnTo>
                  <a:lnTo>
                    <a:pt x="0" y="32"/>
                  </a:lnTo>
                  <a:lnTo>
                    <a:pt x="0" y="25"/>
                  </a:lnTo>
                  <a:lnTo>
                    <a:pt x="0" y="20"/>
                  </a:lnTo>
                  <a:lnTo>
                    <a:pt x="1" y="15"/>
                  </a:lnTo>
                  <a:lnTo>
                    <a:pt x="5" y="11"/>
                  </a:lnTo>
                  <a:lnTo>
                    <a:pt x="8" y="6"/>
                  </a:lnTo>
                  <a:lnTo>
                    <a:pt x="11" y="3"/>
                  </a:lnTo>
                  <a:lnTo>
                    <a:pt x="15" y="1"/>
                  </a:lnTo>
                  <a:lnTo>
                    <a:pt x="21" y="0"/>
                  </a:lnTo>
                  <a:lnTo>
                    <a:pt x="25" y="0"/>
                  </a:lnTo>
                  <a:lnTo>
                    <a:pt x="30" y="0"/>
                  </a:lnTo>
                  <a:lnTo>
                    <a:pt x="34" y="1"/>
                  </a:lnTo>
                  <a:lnTo>
                    <a:pt x="39" y="4"/>
                  </a:lnTo>
                  <a:lnTo>
                    <a:pt x="43" y="7"/>
                  </a:lnTo>
                  <a:lnTo>
                    <a:pt x="46" y="12"/>
                  </a:lnTo>
                  <a:lnTo>
                    <a:pt x="48" y="16"/>
                  </a:lnTo>
                  <a:lnTo>
                    <a:pt x="49" y="21"/>
                  </a:lnTo>
                  <a:lnTo>
                    <a:pt x="50" y="25"/>
                  </a:lnTo>
                  <a:lnTo>
                    <a:pt x="49" y="32"/>
                  </a:lnTo>
                  <a:lnTo>
                    <a:pt x="48" y="37"/>
                  </a:lnTo>
                  <a:lnTo>
                    <a:pt x="46" y="41"/>
                  </a:lnTo>
                  <a:lnTo>
                    <a:pt x="43" y="45"/>
                  </a:lnTo>
                  <a:lnTo>
                    <a:pt x="39" y="48"/>
                  </a:lnTo>
                  <a:lnTo>
                    <a:pt x="34" y="50"/>
                  </a:lnTo>
                  <a:lnTo>
                    <a:pt x="30" y="52"/>
                  </a:lnTo>
                  <a:lnTo>
                    <a:pt x="25" y="52"/>
                  </a:lnTo>
                  <a:close/>
                </a:path>
              </a:pathLst>
            </a:custGeom>
            <a:solidFill>
              <a:srgbClr val="d79f00"/>
            </a:solidFill>
            <a:ln w="0">
              <a:noFill/>
            </a:ln>
          </p:spPr>
          <p:style>
            <a:lnRef idx="0"/>
            <a:fillRef idx="0"/>
            <a:effectRef idx="0"/>
            <a:fontRef idx="minor"/>
          </p:style>
          <p:txBody>
            <a:bodyPr lIns="90000" rIns="90000" tIns="-36000" bIns="-36000" anchor="t">
              <a:noAutofit/>
            </a:bodyPr>
            <a:p>
              <a:pPr>
                <a:lnSpc>
                  <a:spcPct val="100000"/>
                </a:lnSpc>
              </a:pPr>
              <a:endParaRPr b="0" lang="en-US" sz="1800" spc="-1" strike="noStrike">
                <a:solidFill>
                  <a:srgbClr val="d79f00"/>
                </a:solidFill>
                <a:latin typeface="Arial"/>
                <a:ea typeface="宋体"/>
              </a:endParaRPr>
            </a:p>
          </p:txBody>
        </p:sp>
        <p:sp>
          <p:nvSpPr>
            <p:cNvPr id="151" name="Freeform 77"/>
            <p:cNvSpPr/>
            <p:nvPr/>
          </p:nvSpPr>
          <p:spPr>
            <a:xfrm>
              <a:off x="5081040" y="9399600"/>
              <a:ext cx="11880" cy="20520"/>
            </a:xfrm>
            <a:custGeom>
              <a:avLst/>
              <a:gdLst>
                <a:gd name="textAreaLeft" fmla="*/ 0 w 11880"/>
                <a:gd name="textAreaRight" fmla="*/ 12240 w 11880"/>
                <a:gd name="textAreaTop" fmla="*/ 0 h 20520"/>
                <a:gd name="textAreaBottom" fmla="*/ 20880 h 20520"/>
              </a:gdLst>
              <a:ahLst/>
              <a:rect l="textAreaLeft" t="textAreaTop" r="textAreaRight" b="textAreaBottom"/>
              <a:pathLst>
                <a:path w="58" h="111">
                  <a:moveTo>
                    <a:pt x="7" y="20"/>
                  </a:moveTo>
                  <a:lnTo>
                    <a:pt x="8" y="17"/>
                  </a:lnTo>
                  <a:lnTo>
                    <a:pt x="9" y="14"/>
                  </a:lnTo>
                  <a:lnTo>
                    <a:pt x="10" y="9"/>
                  </a:lnTo>
                  <a:lnTo>
                    <a:pt x="13" y="6"/>
                  </a:lnTo>
                  <a:lnTo>
                    <a:pt x="16" y="3"/>
                  </a:lnTo>
                  <a:lnTo>
                    <a:pt x="20" y="1"/>
                  </a:lnTo>
                  <a:lnTo>
                    <a:pt x="25" y="0"/>
                  </a:lnTo>
                  <a:lnTo>
                    <a:pt x="30" y="0"/>
                  </a:lnTo>
                  <a:lnTo>
                    <a:pt x="36" y="0"/>
                  </a:lnTo>
                  <a:lnTo>
                    <a:pt x="41" y="2"/>
                  </a:lnTo>
                  <a:lnTo>
                    <a:pt x="47" y="6"/>
                  </a:lnTo>
                  <a:lnTo>
                    <a:pt x="51" y="10"/>
                  </a:lnTo>
                  <a:lnTo>
                    <a:pt x="54" y="17"/>
                  </a:lnTo>
                  <a:lnTo>
                    <a:pt x="56" y="22"/>
                  </a:lnTo>
                  <a:lnTo>
                    <a:pt x="58" y="28"/>
                  </a:lnTo>
                  <a:lnTo>
                    <a:pt x="58" y="35"/>
                  </a:lnTo>
                  <a:lnTo>
                    <a:pt x="57" y="46"/>
                  </a:lnTo>
                  <a:lnTo>
                    <a:pt x="55" y="58"/>
                  </a:lnTo>
                  <a:lnTo>
                    <a:pt x="51" y="69"/>
                  </a:lnTo>
                  <a:lnTo>
                    <a:pt x="45" y="79"/>
                  </a:lnTo>
                  <a:lnTo>
                    <a:pt x="37" y="90"/>
                  </a:lnTo>
                  <a:lnTo>
                    <a:pt x="29" y="98"/>
                  </a:lnTo>
                  <a:lnTo>
                    <a:pt x="18" y="105"/>
                  </a:lnTo>
                  <a:lnTo>
                    <a:pt x="7" y="111"/>
                  </a:lnTo>
                  <a:lnTo>
                    <a:pt x="0" y="103"/>
                  </a:lnTo>
                  <a:lnTo>
                    <a:pt x="8" y="97"/>
                  </a:lnTo>
                  <a:lnTo>
                    <a:pt x="15" y="92"/>
                  </a:lnTo>
                  <a:lnTo>
                    <a:pt x="20" y="86"/>
                  </a:lnTo>
                  <a:lnTo>
                    <a:pt x="26" y="80"/>
                  </a:lnTo>
                  <a:lnTo>
                    <a:pt x="29" y="75"/>
                  </a:lnTo>
                  <a:lnTo>
                    <a:pt x="31" y="69"/>
                  </a:lnTo>
                  <a:lnTo>
                    <a:pt x="33" y="63"/>
                  </a:lnTo>
                  <a:lnTo>
                    <a:pt x="33" y="57"/>
                  </a:lnTo>
                  <a:lnTo>
                    <a:pt x="33" y="53"/>
                  </a:lnTo>
                  <a:lnTo>
                    <a:pt x="30" y="48"/>
                  </a:lnTo>
                  <a:lnTo>
                    <a:pt x="26" y="45"/>
                  </a:lnTo>
                  <a:lnTo>
                    <a:pt x="20" y="41"/>
                  </a:lnTo>
                  <a:lnTo>
                    <a:pt x="14" y="37"/>
                  </a:lnTo>
                  <a:lnTo>
                    <a:pt x="10" y="33"/>
                  </a:lnTo>
                  <a:lnTo>
                    <a:pt x="8" y="27"/>
                  </a:lnTo>
                  <a:lnTo>
                    <a:pt x="7" y="20"/>
                  </a:lnTo>
                  <a:close/>
                </a:path>
              </a:pathLst>
            </a:custGeom>
            <a:solidFill>
              <a:srgbClr val="d79f00"/>
            </a:solidFill>
            <a:ln w="0">
              <a:noFill/>
            </a:ln>
          </p:spPr>
          <p:style>
            <a:lnRef idx="0"/>
            <a:fillRef idx="0"/>
            <a:effectRef idx="0"/>
            <a:fontRef idx="minor"/>
          </p:style>
          <p:txBody>
            <a:bodyPr lIns="90000" rIns="90000" tIns="-24120" bIns="-24120" anchor="t">
              <a:noAutofit/>
            </a:bodyPr>
            <a:p>
              <a:pPr>
                <a:lnSpc>
                  <a:spcPct val="100000"/>
                </a:lnSpc>
              </a:pPr>
              <a:endParaRPr b="0" lang="en-US" sz="1800" spc="-1" strike="noStrike">
                <a:solidFill>
                  <a:srgbClr val="d79f00"/>
                </a:solidFill>
                <a:latin typeface="Arial"/>
                <a:ea typeface="宋体"/>
              </a:endParaRPr>
            </a:p>
          </p:txBody>
        </p:sp>
      </p:grpSp>
      <p:grpSp>
        <p:nvGrpSpPr>
          <p:cNvPr id="152" name="Group 70"/>
          <p:cNvGrpSpPr/>
          <p:nvPr/>
        </p:nvGrpSpPr>
        <p:grpSpPr>
          <a:xfrm>
            <a:off x="8280" y="1099800"/>
            <a:ext cx="6549480" cy="2583360"/>
            <a:chOff x="8280" y="1099800"/>
            <a:chExt cx="6549480" cy="2583360"/>
          </a:xfrm>
        </p:grpSpPr>
        <p:sp>
          <p:nvSpPr>
            <p:cNvPr id="153" name="Rectangle 71"/>
            <p:cNvSpPr/>
            <p:nvPr/>
          </p:nvSpPr>
          <p:spPr>
            <a:xfrm rot="16200000">
              <a:off x="1428840" y="-320760"/>
              <a:ext cx="2582640" cy="5423760"/>
            </a:xfrm>
            <a:prstGeom prst="rect">
              <a:avLst/>
            </a:prstGeom>
            <a:solidFill>
              <a:srgbClr val="d79f00"/>
            </a:solidFill>
            <a:ln w="0">
              <a:noFill/>
            </a:ln>
          </p:spPr>
          <p:style>
            <a:lnRef idx="0"/>
            <a:fillRef idx="0"/>
            <a:effectRef idx="0"/>
            <a:fontRef idx="minor"/>
          </p:style>
          <p:txBody>
            <a:bodyPr lIns="90000" rIns="90000" tIns="45000" bIns="45000" anchor="ctr">
              <a:noAutofit/>
            </a:bodyPr>
            <a:p>
              <a:pPr>
                <a:lnSpc>
                  <a:spcPct val="100000"/>
                </a:lnSpc>
              </a:pPr>
              <a:endParaRPr b="0" lang="en-US" sz="1800" spc="-1" strike="noStrike">
                <a:solidFill>
                  <a:srgbClr val="000000"/>
                </a:solidFill>
                <a:latin typeface="Arial"/>
                <a:ea typeface="宋体"/>
              </a:endParaRPr>
            </a:p>
          </p:txBody>
        </p:sp>
        <p:sp>
          <p:nvSpPr>
            <p:cNvPr id="154" name="Oval 72"/>
            <p:cNvSpPr/>
            <p:nvPr/>
          </p:nvSpPr>
          <p:spPr>
            <a:xfrm rot="16200000">
              <a:off x="4140000" y="1265400"/>
              <a:ext cx="2582640" cy="2252520"/>
            </a:xfrm>
            <a:prstGeom prst="ellipse">
              <a:avLst/>
            </a:prstGeom>
            <a:solidFill>
              <a:srgbClr val="d79f00"/>
            </a:solidFill>
            <a:ln w="0">
              <a:noFill/>
            </a:ln>
          </p:spPr>
          <p:style>
            <a:lnRef idx="0"/>
            <a:fillRef idx="0"/>
            <a:effectRef idx="0"/>
            <a:fontRef idx="minor"/>
          </p:style>
          <p:txBody>
            <a:bodyPr lIns="90000" rIns="90000" tIns="45000" bIns="45000" anchor="ctr">
              <a:noAutofit/>
            </a:bodyPr>
            <a:p>
              <a:pPr>
                <a:lnSpc>
                  <a:spcPct val="100000"/>
                </a:lnSpc>
              </a:pPr>
              <a:endParaRPr b="0" lang="en-US" sz="1800" spc="-1" strike="noStrike">
                <a:solidFill>
                  <a:srgbClr val="000000"/>
                </a:solidFill>
                <a:latin typeface="Arial"/>
                <a:ea typeface="宋体"/>
              </a:endParaRPr>
            </a:p>
          </p:txBody>
        </p:sp>
      </p:grpSp>
      <p:sp>
        <p:nvSpPr>
          <p:cNvPr id="155" name="Rectangle 7"/>
          <p:cNvSpPr/>
          <p:nvPr/>
        </p:nvSpPr>
        <p:spPr>
          <a:xfrm>
            <a:off x="1718640" y="2629800"/>
            <a:ext cx="3104640" cy="12240"/>
          </a:xfrm>
          <a:prstGeom prst="rect">
            <a:avLst/>
          </a:prstGeom>
          <a:gradFill rotWithShape="0">
            <a:gsLst>
              <a:gs pos="80000">
                <a:srgbClr val="000000"/>
              </a:gs>
              <a:gs pos="100000">
                <a:srgbClr val="000000"/>
              </a:gs>
            </a:gsLst>
            <a:lin ang="16200000"/>
          </a:gradFill>
          <a:ln w="0">
            <a:noFill/>
          </a:ln>
          <a:effectLst>
            <a:outerShdw blurRad="39960" dir="5400000" dist="23040" rotWithShape="0">
              <a:srgbClr val="000000">
                <a:alpha val="35000"/>
              </a:srgbClr>
            </a:outerShdw>
          </a:effectLst>
        </p:spPr>
        <p:style>
          <a:lnRef idx="0">
            <a:schemeClr val="accent4"/>
          </a:lnRef>
          <a:fillRef idx="3">
            <a:schemeClr val="accent4"/>
          </a:fillRef>
          <a:effectRef idx="3">
            <a:schemeClr val="accent4"/>
          </a:effectRef>
          <a:fontRef idx="minor"/>
        </p:style>
        <p:txBody>
          <a:bodyPr lIns="90000" rIns="90000" tIns="-32400" bIns="-32400" anchor="t">
            <a:noAutofit/>
          </a:bodyPr>
          <a:p>
            <a:pPr>
              <a:lnSpc>
                <a:spcPct val="100000"/>
              </a:lnSpc>
            </a:pPr>
            <a:endParaRPr b="0" lang="en-US" sz="1800" spc="-1" strike="noStrike">
              <a:solidFill>
                <a:schemeClr val="lt1"/>
              </a:solidFill>
              <a:latin typeface="Arial"/>
              <a:ea typeface="宋体"/>
            </a:endParaRPr>
          </a:p>
        </p:txBody>
      </p:sp>
      <p:sp>
        <p:nvSpPr>
          <p:cNvPr id="156" name="Freeform 8"/>
          <p:cNvSpPr/>
          <p:nvPr/>
        </p:nvSpPr>
        <p:spPr>
          <a:xfrm>
            <a:off x="1761120" y="1704240"/>
            <a:ext cx="1015920" cy="1013040"/>
          </a:xfrm>
          <a:custGeom>
            <a:avLst/>
            <a:gdLst>
              <a:gd name="textAreaLeft" fmla="*/ 0 w 1015920"/>
              <a:gd name="textAreaRight" fmla="*/ 1016280 w 1015920"/>
              <a:gd name="textAreaTop" fmla="*/ 0 h 1013040"/>
              <a:gd name="textAreaBottom" fmla="*/ 1013400 h 1013040"/>
            </a:gdLst>
            <a:ahLst/>
            <a:rect l="textAreaLeft" t="textAreaTop" r="textAreaRight" b="textAreaBottom"/>
            <a:pathLst>
              <a:path w="5495" h="5786">
                <a:moveTo>
                  <a:pt x="730" y="46"/>
                </a:moveTo>
                <a:lnTo>
                  <a:pt x="0" y="4624"/>
                </a:lnTo>
                <a:lnTo>
                  <a:pt x="1589" y="2642"/>
                </a:lnTo>
                <a:lnTo>
                  <a:pt x="2760" y="5786"/>
                </a:lnTo>
                <a:lnTo>
                  <a:pt x="3854" y="2574"/>
                </a:lnTo>
                <a:lnTo>
                  <a:pt x="5495" y="4647"/>
                </a:lnTo>
                <a:lnTo>
                  <a:pt x="4713" y="0"/>
                </a:lnTo>
                <a:lnTo>
                  <a:pt x="2760" y="2368"/>
                </a:lnTo>
                <a:lnTo>
                  <a:pt x="730" y="46"/>
                </a:lnTo>
                <a:close/>
              </a:path>
            </a:pathLst>
          </a:custGeom>
          <a:solidFill>
            <a:srgbClr val="fcdb00"/>
          </a:solidFill>
          <a:ln w="0">
            <a:noFill/>
          </a:ln>
          <a:effectLst>
            <a:outerShdw blurRad="39960" dir="5400000" dist="23040" rotWithShape="0">
              <a:srgbClr val="000000">
                <a:alpha val="35000"/>
              </a:srgbClr>
            </a:outerShdw>
          </a:effectLst>
        </p:spPr>
        <p:style>
          <a:lnRef idx="0">
            <a:schemeClr val="accent2"/>
          </a:lnRef>
          <a:fillRef idx="3">
            <a:schemeClr val="accent2"/>
          </a:fillRef>
          <a:effectRef idx="3">
            <a:schemeClr val="accent2"/>
          </a:effectRef>
          <a:fontRef idx="minor"/>
        </p:style>
        <p:txBody>
          <a:bodyPr lIns="90000" rIns="90000" tIns="45000" bIns="45000" anchor="t">
            <a:noAutofit/>
          </a:bodyPr>
          <a:p>
            <a:pPr>
              <a:lnSpc>
                <a:spcPct val="100000"/>
              </a:lnSpc>
            </a:pPr>
            <a:endParaRPr b="0" lang="en-US" sz="1800" spc="-1" strike="noStrike">
              <a:solidFill>
                <a:schemeClr val="lt1"/>
              </a:solidFill>
              <a:latin typeface="Arial"/>
              <a:ea typeface="宋体"/>
            </a:endParaRPr>
          </a:p>
        </p:txBody>
      </p:sp>
      <p:grpSp>
        <p:nvGrpSpPr>
          <p:cNvPr id="157" name="组合 107"/>
          <p:cNvGrpSpPr/>
          <p:nvPr/>
        </p:nvGrpSpPr>
        <p:grpSpPr>
          <a:xfrm>
            <a:off x="1761120" y="1704240"/>
            <a:ext cx="870480" cy="1013040"/>
            <a:chOff x="1761120" y="1704240"/>
            <a:chExt cx="870480" cy="1013040"/>
          </a:xfrm>
        </p:grpSpPr>
        <p:sp>
          <p:nvSpPr>
            <p:cNvPr id="158" name="Freeform 9"/>
            <p:cNvSpPr/>
            <p:nvPr/>
          </p:nvSpPr>
          <p:spPr>
            <a:xfrm>
              <a:off x="1761120" y="1712520"/>
              <a:ext cx="293400" cy="801360"/>
            </a:xfrm>
            <a:custGeom>
              <a:avLst/>
              <a:gdLst>
                <a:gd name="textAreaLeft" fmla="*/ 0 w 293400"/>
                <a:gd name="textAreaRight" fmla="*/ 293760 w 293400"/>
                <a:gd name="textAreaTop" fmla="*/ 0 h 801360"/>
                <a:gd name="textAreaBottom" fmla="*/ 801720 h 801360"/>
              </a:gdLst>
              <a:ahLst/>
              <a:rect l="textAreaLeft" t="textAreaTop" r="textAreaRight" b="textAreaBottom"/>
              <a:pathLst>
                <a:path w="1589" h="4578">
                  <a:moveTo>
                    <a:pt x="730" y="0"/>
                  </a:moveTo>
                  <a:lnTo>
                    <a:pt x="1589" y="2596"/>
                  </a:lnTo>
                  <a:lnTo>
                    <a:pt x="0" y="4578"/>
                  </a:lnTo>
                  <a:lnTo>
                    <a:pt x="730" y="0"/>
                  </a:lnTo>
                  <a:close/>
                </a:path>
              </a:pathLst>
            </a:custGeom>
            <a:solidFill>
              <a:srgbClr val="d79f00"/>
            </a:solidFill>
            <a:ln w="0">
              <a:noFill/>
            </a:ln>
            <a:effectLst>
              <a:outerShdw blurRad="39960" dir="5400000" dist="23040" rotWithShape="0">
                <a:srgbClr val="000000">
                  <a:alpha val="35000"/>
                </a:srgbClr>
              </a:outerShdw>
            </a:effectLst>
          </p:spPr>
          <p:style>
            <a:lnRef idx="0">
              <a:schemeClr val="accent2"/>
            </a:lnRef>
            <a:fillRef idx="3">
              <a:schemeClr val="accent2"/>
            </a:fillRef>
            <a:effectRef idx="3">
              <a:schemeClr val="accent2"/>
            </a:effectRef>
            <a:fontRef idx="minor"/>
          </p:style>
          <p:txBody>
            <a:bodyPr lIns="90000" rIns="90000" tIns="45000" bIns="45000" anchor="t">
              <a:noAutofit/>
            </a:bodyPr>
            <a:p>
              <a:pPr>
                <a:lnSpc>
                  <a:spcPct val="100000"/>
                </a:lnSpc>
              </a:pPr>
              <a:endParaRPr b="0" lang="en-US" sz="1800" spc="-1" strike="noStrike">
                <a:solidFill>
                  <a:schemeClr val="lt1"/>
                </a:solidFill>
                <a:latin typeface="Arial"/>
                <a:ea typeface="宋体"/>
              </a:endParaRPr>
            </a:p>
          </p:txBody>
        </p:sp>
        <p:sp>
          <p:nvSpPr>
            <p:cNvPr id="159" name="Freeform 10"/>
            <p:cNvSpPr/>
            <p:nvPr/>
          </p:nvSpPr>
          <p:spPr>
            <a:xfrm>
              <a:off x="2271240" y="1704240"/>
              <a:ext cx="360360" cy="1013040"/>
            </a:xfrm>
            <a:custGeom>
              <a:avLst/>
              <a:gdLst>
                <a:gd name="textAreaLeft" fmla="*/ 0 w 360360"/>
                <a:gd name="textAreaRight" fmla="*/ 360720 w 360360"/>
                <a:gd name="textAreaTop" fmla="*/ 0 h 1013040"/>
                <a:gd name="textAreaBottom" fmla="*/ 1013400 h 1013040"/>
              </a:gdLst>
              <a:ahLst/>
              <a:rect l="textAreaLeft" t="textAreaTop" r="textAreaRight" b="textAreaBottom"/>
              <a:pathLst>
                <a:path w="1953" h="5786">
                  <a:moveTo>
                    <a:pt x="0" y="2368"/>
                  </a:moveTo>
                  <a:lnTo>
                    <a:pt x="0" y="5786"/>
                  </a:lnTo>
                  <a:lnTo>
                    <a:pt x="1094" y="2574"/>
                  </a:lnTo>
                  <a:lnTo>
                    <a:pt x="1953" y="0"/>
                  </a:lnTo>
                  <a:lnTo>
                    <a:pt x="0" y="2368"/>
                  </a:lnTo>
                  <a:close/>
                </a:path>
              </a:pathLst>
            </a:custGeom>
            <a:solidFill>
              <a:srgbClr val="d79f00"/>
            </a:solidFill>
            <a:ln w="0">
              <a:noFill/>
            </a:ln>
            <a:effectLst>
              <a:outerShdw blurRad="39960" dir="5400000" dist="23040" rotWithShape="0">
                <a:srgbClr val="000000">
                  <a:alpha val="35000"/>
                </a:srgbClr>
              </a:outerShdw>
            </a:effectLst>
          </p:spPr>
          <p:style>
            <a:lnRef idx="0">
              <a:schemeClr val="accent2"/>
            </a:lnRef>
            <a:fillRef idx="3">
              <a:schemeClr val="accent2"/>
            </a:fillRef>
            <a:effectRef idx="3">
              <a:schemeClr val="accent2"/>
            </a:effectRef>
            <a:fontRef idx="minor"/>
          </p:style>
          <p:txBody>
            <a:bodyPr lIns="90000" rIns="90000" tIns="45000" bIns="45000" anchor="t">
              <a:noAutofit/>
            </a:bodyPr>
            <a:p>
              <a:pPr>
                <a:lnSpc>
                  <a:spcPct val="100000"/>
                </a:lnSpc>
              </a:pPr>
              <a:endParaRPr b="0" lang="en-US" sz="1800" spc="-1" strike="noStrike">
                <a:solidFill>
                  <a:schemeClr val="lt1"/>
                </a:solidFill>
                <a:latin typeface="Arial"/>
                <a:ea typeface="宋体"/>
              </a:endParaRPr>
            </a:p>
          </p:txBody>
        </p:sp>
      </p:grpSp>
      <p:grpSp>
        <p:nvGrpSpPr>
          <p:cNvPr id="160" name="组合 105"/>
          <p:cNvGrpSpPr/>
          <p:nvPr/>
        </p:nvGrpSpPr>
        <p:grpSpPr>
          <a:xfrm>
            <a:off x="2830320" y="2262960"/>
            <a:ext cx="1984680" cy="285480"/>
            <a:chOff x="2830320" y="2262960"/>
            <a:chExt cx="1984680" cy="285480"/>
          </a:xfrm>
        </p:grpSpPr>
        <p:sp>
          <p:nvSpPr>
            <p:cNvPr id="161" name="Freeform 78"/>
            <p:cNvSpPr/>
            <p:nvPr/>
          </p:nvSpPr>
          <p:spPr>
            <a:xfrm>
              <a:off x="2830320" y="2264760"/>
              <a:ext cx="315720" cy="277920"/>
            </a:xfrm>
            <a:custGeom>
              <a:avLst/>
              <a:gdLst>
                <a:gd name="textAreaLeft" fmla="*/ 0 w 315720"/>
                <a:gd name="textAreaRight" fmla="*/ 316080 w 315720"/>
                <a:gd name="textAreaTop" fmla="*/ 0 h 277920"/>
                <a:gd name="textAreaBottom" fmla="*/ 278280 h 277920"/>
              </a:gdLst>
              <a:ahLst/>
              <a:rect l="textAreaLeft" t="textAreaTop" r="textAreaRight" b="textAreaBottom"/>
              <a:pathLst>
                <a:path w="1708" h="1590">
                  <a:moveTo>
                    <a:pt x="817" y="0"/>
                  </a:moveTo>
                  <a:lnTo>
                    <a:pt x="885" y="0"/>
                  </a:lnTo>
                  <a:lnTo>
                    <a:pt x="904" y="48"/>
                  </a:lnTo>
                  <a:lnTo>
                    <a:pt x="925" y="98"/>
                  </a:lnTo>
                  <a:lnTo>
                    <a:pt x="944" y="147"/>
                  </a:lnTo>
                  <a:lnTo>
                    <a:pt x="965" y="197"/>
                  </a:lnTo>
                  <a:lnTo>
                    <a:pt x="985" y="249"/>
                  </a:lnTo>
                  <a:lnTo>
                    <a:pt x="1007" y="301"/>
                  </a:lnTo>
                  <a:lnTo>
                    <a:pt x="1029" y="354"/>
                  </a:lnTo>
                  <a:lnTo>
                    <a:pt x="1052" y="408"/>
                  </a:lnTo>
                  <a:lnTo>
                    <a:pt x="1075" y="462"/>
                  </a:lnTo>
                  <a:lnTo>
                    <a:pt x="1098" y="517"/>
                  </a:lnTo>
                  <a:lnTo>
                    <a:pt x="1123" y="573"/>
                  </a:lnTo>
                  <a:lnTo>
                    <a:pt x="1147" y="631"/>
                  </a:lnTo>
                  <a:lnTo>
                    <a:pt x="1172" y="689"/>
                  </a:lnTo>
                  <a:lnTo>
                    <a:pt x="1198" y="747"/>
                  </a:lnTo>
                  <a:lnTo>
                    <a:pt x="1224" y="807"/>
                  </a:lnTo>
                  <a:lnTo>
                    <a:pt x="1252" y="867"/>
                  </a:lnTo>
                  <a:lnTo>
                    <a:pt x="1508" y="1428"/>
                  </a:lnTo>
                  <a:lnTo>
                    <a:pt x="1517" y="1441"/>
                  </a:lnTo>
                  <a:lnTo>
                    <a:pt x="1526" y="1453"/>
                  </a:lnTo>
                  <a:lnTo>
                    <a:pt x="1536" y="1464"/>
                  </a:lnTo>
                  <a:lnTo>
                    <a:pt x="1546" y="1472"/>
                  </a:lnTo>
                  <a:lnTo>
                    <a:pt x="1552" y="1474"/>
                  </a:lnTo>
                  <a:lnTo>
                    <a:pt x="1562" y="1478"/>
                  </a:lnTo>
                  <a:lnTo>
                    <a:pt x="1576" y="1484"/>
                  </a:lnTo>
                  <a:lnTo>
                    <a:pt x="1594" y="1490"/>
                  </a:lnTo>
                  <a:lnTo>
                    <a:pt x="1616" y="1496"/>
                  </a:lnTo>
                  <a:lnTo>
                    <a:pt x="1643" y="1505"/>
                  </a:lnTo>
                  <a:lnTo>
                    <a:pt x="1673" y="1514"/>
                  </a:lnTo>
                  <a:lnTo>
                    <a:pt x="1708" y="1524"/>
                  </a:lnTo>
                  <a:lnTo>
                    <a:pt x="1708" y="1590"/>
                  </a:lnTo>
                  <a:lnTo>
                    <a:pt x="1660" y="1587"/>
                  </a:lnTo>
                  <a:lnTo>
                    <a:pt x="1614" y="1584"/>
                  </a:lnTo>
                  <a:lnTo>
                    <a:pt x="1573" y="1582"/>
                  </a:lnTo>
                  <a:lnTo>
                    <a:pt x="1535" y="1580"/>
                  </a:lnTo>
                  <a:lnTo>
                    <a:pt x="1499" y="1579"/>
                  </a:lnTo>
                  <a:lnTo>
                    <a:pt x="1467" y="1578"/>
                  </a:lnTo>
                  <a:lnTo>
                    <a:pt x="1438" y="1577"/>
                  </a:lnTo>
                  <a:lnTo>
                    <a:pt x="1413" y="1577"/>
                  </a:lnTo>
                  <a:lnTo>
                    <a:pt x="1386" y="1577"/>
                  </a:lnTo>
                  <a:lnTo>
                    <a:pt x="1356" y="1578"/>
                  </a:lnTo>
                  <a:lnTo>
                    <a:pt x="1321" y="1579"/>
                  </a:lnTo>
                  <a:lnTo>
                    <a:pt x="1282" y="1580"/>
                  </a:lnTo>
                  <a:lnTo>
                    <a:pt x="1238" y="1582"/>
                  </a:lnTo>
                  <a:lnTo>
                    <a:pt x="1190" y="1584"/>
                  </a:lnTo>
                  <a:lnTo>
                    <a:pt x="1139" y="1587"/>
                  </a:lnTo>
                  <a:lnTo>
                    <a:pt x="1082" y="1590"/>
                  </a:lnTo>
                  <a:lnTo>
                    <a:pt x="1082" y="1524"/>
                  </a:lnTo>
                  <a:lnTo>
                    <a:pt x="1143" y="1511"/>
                  </a:lnTo>
                  <a:lnTo>
                    <a:pt x="1188" y="1500"/>
                  </a:lnTo>
                  <a:lnTo>
                    <a:pt x="1206" y="1494"/>
                  </a:lnTo>
                  <a:lnTo>
                    <a:pt x="1220" y="1489"/>
                  </a:lnTo>
                  <a:lnTo>
                    <a:pt x="1231" y="1485"/>
                  </a:lnTo>
                  <a:lnTo>
                    <a:pt x="1238" y="1481"/>
                  </a:lnTo>
                  <a:lnTo>
                    <a:pt x="1243" y="1476"/>
                  </a:lnTo>
                  <a:lnTo>
                    <a:pt x="1248" y="1472"/>
                  </a:lnTo>
                  <a:lnTo>
                    <a:pt x="1252" y="1467"/>
                  </a:lnTo>
                  <a:lnTo>
                    <a:pt x="1255" y="1463"/>
                  </a:lnTo>
                  <a:lnTo>
                    <a:pt x="1257" y="1457"/>
                  </a:lnTo>
                  <a:lnTo>
                    <a:pt x="1258" y="1453"/>
                  </a:lnTo>
                  <a:lnTo>
                    <a:pt x="1259" y="1448"/>
                  </a:lnTo>
                  <a:lnTo>
                    <a:pt x="1260" y="1441"/>
                  </a:lnTo>
                  <a:lnTo>
                    <a:pt x="1259" y="1436"/>
                  </a:lnTo>
                  <a:lnTo>
                    <a:pt x="1258" y="1429"/>
                  </a:lnTo>
                  <a:lnTo>
                    <a:pt x="1257" y="1420"/>
                  </a:lnTo>
                  <a:lnTo>
                    <a:pt x="1254" y="1411"/>
                  </a:lnTo>
                  <a:lnTo>
                    <a:pt x="1247" y="1389"/>
                  </a:lnTo>
                  <a:lnTo>
                    <a:pt x="1237" y="1364"/>
                  </a:lnTo>
                  <a:lnTo>
                    <a:pt x="1127" y="1095"/>
                  </a:lnTo>
                  <a:lnTo>
                    <a:pt x="1070" y="1095"/>
                  </a:lnTo>
                  <a:lnTo>
                    <a:pt x="1018" y="1094"/>
                  </a:lnTo>
                  <a:lnTo>
                    <a:pt x="969" y="1094"/>
                  </a:lnTo>
                  <a:lnTo>
                    <a:pt x="925" y="1093"/>
                  </a:lnTo>
                  <a:lnTo>
                    <a:pt x="883" y="1093"/>
                  </a:lnTo>
                  <a:lnTo>
                    <a:pt x="847" y="1093"/>
                  </a:lnTo>
                  <a:lnTo>
                    <a:pt x="814" y="1093"/>
                  </a:lnTo>
                  <a:lnTo>
                    <a:pt x="786" y="1093"/>
                  </a:lnTo>
                  <a:lnTo>
                    <a:pt x="483" y="1095"/>
                  </a:lnTo>
                  <a:lnTo>
                    <a:pt x="368" y="1374"/>
                  </a:lnTo>
                  <a:lnTo>
                    <a:pt x="356" y="1404"/>
                  </a:lnTo>
                  <a:lnTo>
                    <a:pt x="347" y="1428"/>
                  </a:lnTo>
                  <a:lnTo>
                    <a:pt x="342" y="1446"/>
                  </a:lnTo>
                  <a:lnTo>
                    <a:pt x="340" y="1457"/>
                  </a:lnTo>
                  <a:lnTo>
                    <a:pt x="341" y="1464"/>
                  </a:lnTo>
                  <a:lnTo>
                    <a:pt x="343" y="1470"/>
                  </a:lnTo>
                  <a:lnTo>
                    <a:pt x="347" y="1476"/>
                  </a:lnTo>
                  <a:lnTo>
                    <a:pt x="354" y="1481"/>
                  </a:lnTo>
                  <a:lnTo>
                    <a:pt x="359" y="1484"/>
                  </a:lnTo>
                  <a:lnTo>
                    <a:pt x="366" y="1487"/>
                  </a:lnTo>
                  <a:lnTo>
                    <a:pt x="378" y="1490"/>
                  </a:lnTo>
                  <a:lnTo>
                    <a:pt x="393" y="1494"/>
                  </a:lnTo>
                  <a:lnTo>
                    <a:pt x="431" y="1503"/>
                  </a:lnTo>
                  <a:lnTo>
                    <a:pt x="482" y="1514"/>
                  </a:lnTo>
                  <a:lnTo>
                    <a:pt x="488" y="1517"/>
                  </a:lnTo>
                  <a:lnTo>
                    <a:pt x="497" y="1519"/>
                  </a:lnTo>
                  <a:lnTo>
                    <a:pt x="505" y="1521"/>
                  </a:lnTo>
                  <a:lnTo>
                    <a:pt x="516" y="1524"/>
                  </a:lnTo>
                  <a:lnTo>
                    <a:pt x="516" y="1590"/>
                  </a:lnTo>
                  <a:lnTo>
                    <a:pt x="470" y="1587"/>
                  </a:lnTo>
                  <a:lnTo>
                    <a:pt x="429" y="1584"/>
                  </a:lnTo>
                  <a:lnTo>
                    <a:pt x="391" y="1582"/>
                  </a:lnTo>
                  <a:lnTo>
                    <a:pt x="356" y="1580"/>
                  </a:lnTo>
                  <a:lnTo>
                    <a:pt x="324" y="1579"/>
                  </a:lnTo>
                  <a:lnTo>
                    <a:pt x="296" y="1578"/>
                  </a:lnTo>
                  <a:lnTo>
                    <a:pt x="271" y="1577"/>
                  </a:lnTo>
                  <a:lnTo>
                    <a:pt x="251" y="1577"/>
                  </a:lnTo>
                  <a:lnTo>
                    <a:pt x="226" y="1577"/>
                  </a:lnTo>
                  <a:lnTo>
                    <a:pt x="198" y="1578"/>
                  </a:lnTo>
                  <a:lnTo>
                    <a:pt x="169" y="1579"/>
                  </a:lnTo>
                  <a:lnTo>
                    <a:pt x="139" y="1580"/>
                  </a:lnTo>
                  <a:lnTo>
                    <a:pt x="107" y="1582"/>
                  </a:lnTo>
                  <a:lnTo>
                    <a:pt x="73" y="1584"/>
                  </a:lnTo>
                  <a:lnTo>
                    <a:pt x="37" y="1587"/>
                  </a:lnTo>
                  <a:lnTo>
                    <a:pt x="0" y="1590"/>
                  </a:lnTo>
                  <a:lnTo>
                    <a:pt x="0" y="1524"/>
                  </a:lnTo>
                  <a:lnTo>
                    <a:pt x="23" y="1519"/>
                  </a:lnTo>
                  <a:lnTo>
                    <a:pt x="45" y="1512"/>
                  </a:lnTo>
                  <a:lnTo>
                    <a:pt x="66" y="1507"/>
                  </a:lnTo>
                  <a:lnTo>
                    <a:pt x="84" y="1501"/>
                  </a:lnTo>
                  <a:lnTo>
                    <a:pt x="101" y="1494"/>
                  </a:lnTo>
                  <a:lnTo>
                    <a:pt x="114" y="1488"/>
                  </a:lnTo>
                  <a:lnTo>
                    <a:pt x="127" y="1482"/>
                  </a:lnTo>
                  <a:lnTo>
                    <a:pt x="138" y="1475"/>
                  </a:lnTo>
                  <a:lnTo>
                    <a:pt x="144" y="1469"/>
                  </a:lnTo>
                  <a:lnTo>
                    <a:pt x="151" y="1463"/>
                  </a:lnTo>
                  <a:lnTo>
                    <a:pt x="158" y="1455"/>
                  </a:lnTo>
                  <a:lnTo>
                    <a:pt x="165" y="1447"/>
                  </a:lnTo>
                  <a:lnTo>
                    <a:pt x="180" y="1428"/>
                  </a:lnTo>
                  <a:lnTo>
                    <a:pt x="195" y="1404"/>
                  </a:lnTo>
                  <a:lnTo>
                    <a:pt x="213" y="1369"/>
                  </a:lnTo>
                  <a:lnTo>
                    <a:pt x="238" y="1319"/>
                  </a:lnTo>
                  <a:lnTo>
                    <a:pt x="269" y="1255"/>
                  </a:lnTo>
                  <a:lnTo>
                    <a:pt x="306" y="1174"/>
                  </a:lnTo>
                  <a:lnTo>
                    <a:pt x="348" y="1079"/>
                  </a:lnTo>
                  <a:lnTo>
                    <a:pt x="398" y="969"/>
                  </a:lnTo>
                  <a:lnTo>
                    <a:pt x="453" y="844"/>
                  </a:lnTo>
                  <a:lnTo>
                    <a:pt x="514" y="703"/>
                  </a:lnTo>
                  <a:lnTo>
                    <a:pt x="817" y="0"/>
                  </a:lnTo>
                  <a:close/>
                  <a:moveTo>
                    <a:pt x="526" y="985"/>
                  </a:moveTo>
                  <a:lnTo>
                    <a:pt x="562" y="986"/>
                  </a:lnTo>
                  <a:lnTo>
                    <a:pt x="597" y="987"/>
                  </a:lnTo>
                  <a:lnTo>
                    <a:pt x="628" y="988"/>
                  </a:lnTo>
                  <a:lnTo>
                    <a:pt x="658" y="988"/>
                  </a:lnTo>
                  <a:lnTo>
                    <a:pt x="683" y="989"/>
                  </a:lnTo>
                  <a:lnTo>
                    <a:pt x="706" y="989"/>
                  </a:lnTo>
                  <a:lnTo>
                    <a:pt x="728" y="989"/>
                  </a:lnTo>
                  <a:lnTo>
                    <a:pt x="745" y="989"/>
                  </a:lnTo>
                  <a:lnTo>
                    <a:pt x="754" y="989"/>
                  </a:lnTo>
                  <a:lnTo>
                    <a:pt x="773" y="989"/>
                  </a:lnTo>
                  <a:lnTo>
                    <a:pt x="802" y="989"/>
                  </a:lnTo>
                  <a:lnTo>
                    <a:pt x="840" y="988"/>
                  </a:lnTo>
                  <a:lnTo>
                    <a:pt x="886" y="988"/>
                  </a:lnTo>
                  <a:lnTo>
                    <a:pt x="943" y="987"/>
                  </a:lnTo>
                  <a:lnTo>
                    <a:pt x="1008" y="986"/>
                  </a:lnTo>
                  <a:lnTo>
                    <a:pt x="1082" y="985"/>
                  </a:lnTo>
                  <a:lnTo>
                    <a:pt x="804" y="323"/>
                  </a:lnTo>
                  <a:lnTo>
                    <a:pt x="526" y="985"/>
                  </a:lnTo>
                  <a:close/>
                </a:path>
              </a:pathLst>
            </a:custGeom>
            <a:gradFill rotWithShape="0">
              <a:gsLst>
                <a:gs pos="80000">
                  <a:srgbClr val="000000"/>
                </a:gs>
                <a:gs pos="100000">
                  <a:srgbClr val="000000"/>
                </a:gs>
              </a:gsLst>
              <a:lin ang="16200000"/>
            </a:gradFill>
            <a:ln w="0">
              <a:noFill/>
            </a:ln>
            <a:effectLst>
              <a:outerShdw blurRad="39960" dir="5400000" dist="23040" rotWithShape="0">
                <a:srgbClr val="000000">
                  <a:alpha val="35000"/>
                </a:srgbClr>
              </a:outerShdw>
            </a:effectLst>
          </p:spPr>
          <p:style>
            <a:lnRef idx="0">
              <a:schemeClr val="accent4"/>
            </a:lnRef>
            <a:fillRef idx="3">
              <a:schemeClr val="accent4"/>
            </a:fillRef>
            <a:effectRef idx="3">
              <a:schemeClr val="accent4"/>
            </a:effectRef>
            <a:fontRef idx="minor"/>
          </p:style>
          <p:txBody>
            <a:bodyPr lIns="90000" rIns="90000" tIns="45000" bIns="45000" anchor="t">
              <a:noAutofit/>
            </a:bodyPr>
            <a:p>
              <a:pPr>
                <a:lnSpc>
                  <a:spcPct val="100000"/>
                </a:lnSpc>
              </a:pPr>
              <a:endParaRPr b="0" lang="en-US" sz="1800" spc="-1" strike="noStrike">
                <a:solidFill>
                  <a:schemeClr val="lt1"/>
                </a:solidFill>
                <a:latin typeface="Arial"/>
                <a:ea typeface="宋体"/>
              </a:endParaRPr>
            </a:p>
          </p:txBody>
        </p:sp>
        <p:sp>
          <p:nvSpPr>
            <p:cNvPr id="162" name="Freeform 79"/>
            <p:cNvSpPr/>
            <p:nvPr/>
          </p:nvSpPr>
          <p:spPr>
            <a:xfrm>
              <a:off x="3170880" y="2269080"/>
              <a:ext cx="332280" cy="279360"/>
            </a:xfrm>
            <a:custGeom>
              <a:avLst/>
              <a:gdLst>
                <a:gd name="textAreaLeft" fmla="*/ 0 w 332280"/>
                <a:gd name="textAreaRight" fmla="*/ 332640 w 332280"/>
                <a:gd name="textAreaTop" fmla="*/ 0 h 279360"/>
                <a:gd name="textAreaBottom" fmla="*/ 279720 h 279360"/>
              </a:gdLst>
              <a:ahLst/>
              <a:rect l="textAreaLeft" t="textAreaTop" r="textAreaRight" b="textAreaBottom"/>
              <a:pathLst>
                <a:path w="1799" h="1596">
                  <a:moveTo>
                    <a:pt x="0" y="64"/>
                  </a:moveTo>
                  <a:lnTo>
                    <a:pt x="0" y="0"/>
                  </a:lnTo>
                  <a:lnTo>
                    <a:pt x="34" y="2"/>
                  </a:lnTo>
                  <a:lnTo>
                    <a:pt x="66" y="5"/>
                  </a:lnTo>
                  <a:lnTo>
                    <a:pt x="96" y="7"/>
                  </a:lnTo>
                  <a:lnTo>
                    <a:pt x="125" y="8"/>
                  </a:lnTo>
                  <a:lnTo>
                    <a:pt x="151" y="10"/>
                  </a:lnTo>
                  <a:lnTo>
                    <a:pt x="176" y="10"/>
                  </a:lnTo>
                  <a:lnTo>
                    <a:pt x="199" y="11"/>
                  </a:lnTo>
                  <a:lnTo>
                    <a:pt x="220" y="11"/>
                  </a:lnTo>
                  <a:lnTo>
                    <a:pt x="237" y="11"/>
                  </a:lnTo>
                  <a:lnTo>
                    <a:pt x="258" y="10"/>
                  </a:lnTo>
                  <a:lnTo>
                    <a:pt x="283" y="10"/>
                  </a:lnTo>
                  <a:lnTo>
                    <a:pt x="310" y="8"/>
                  </a:lnTo>
                  <a:lnTo>
                    <a:pt x="341" y="7"/>
                  </a:lnTo>
                  <a:lnTo>
                    <a:pt x="375" y="5"/>
                  </a:lnTo>
                  <a:lnTo>
                    <a:pt x="412" y="2"/>
                  </a:lnTo>
                  <a:lnTo>
                    <a:pt x="452" y="0"/>
                  </a:lnTo>
                  <a:lnTo>
                    <a:pt x="765" y="391"/>
                  </a:lnTo>
                  <a:lnTo>
                    <a:pt x="772" y="399"/>
                  </a:lnTo>
                  <a:lnTo>
                    <a:pt x="785" y="414"/>
                  </a:lnTo>
                  <a:lnTo>
                    <a:pt x="801" y="434"/>
                  </a:lnTo>
                  <a:lnTo>
                    <a:pt x="822" y="461"/>
                  </a:lnTo>
                  <a:lnTo>
                    <a:pt x="847" y="491"/>
                  </a:lnTo>
                  <a:lnTo>
                    <a:pt x="878" y="527"/>
                  </a:lnTo>
                  <a:lnTo>
                    <a:pt x="913" y="570"/>
                  </a:lnTo>
                  <a:lnTo>
                    <a:pt x="952" y="617"/>
                  </a:lnTo>
                  <a:lnTo>
                    <a:pt x="996" y="670"/>
                  </a:lnTo>
                  <a:lnTo>
                    <a:pt x="1043" y="729"/>
                  </a:lnTo>
                  <a:lnTo>
                    <a:pt x="1096" y="792"/>
                  </a:lnTo>
                  <a:lnTo>
                    <a:pt x="1153" y="861"/>
                  </a:lnTo>
                  <a:lnTo>
                    <a:pt x="1215" y="936"/>
                  </a:lnTo>
                  <a:lnTo>
                    <a:pt x="1282" y="1017"/>
                  </a:lnTo>
                  <a:lnTo>
                    <a:pt x="1352" y="1103"/>
                  </a:lnTo>
                  <a:lnTo>
                    <a:pt x="1428" y="1194"/>
                  </a:lnTo>
                  <a:lnTo>
                    <a:pt x="1428" y="1156"/>
                  </a:lnTo>
                  <a:lnTo>
                    <a:pt x="1428" y="1122"/>
                  </a:lnTo>
                  <a:lnTo>
                    <a:pt x="1428" y="1090"/>
                  </a:lnTo>
                  <a:lnTo>
                    <a:pt x="1429" y="1060"/>
                  </a:lnTo>
                  <a:lnTo>
                    <a:pt x="1429" y="1034"/>
                  </a:lnTo>
                  <a:lnTo>
                    <a:pt x="1429" y="1010"/>
                  </a:lnTo>
                  <a:lnTo>
                    <a:pt x="1429" y="988"/>
                  </a:lnTo>
                  <a:lnTo>
                    <a:pt x="1429" y="969"/>
                  </a:lnTo>
                  <a:lnTo>
                    <a:pt x="1429" y="925"/>
                  </a:lnTo>
                  <a:lnTo>
                    <a:pt x="1428" y="871"/>
                  </a:lnTo>
                  <a:lnTo>
                    <a:pt x="1427" y="808"/>
                  </a:lnTo>
                  <a:lnTo>
                    <a:pt x="1426" y="737"/>
                  </a:lnTo>
                  <a:lnTo>
                    <a:pt x="1424" y="659"/>
                  </a:lnTo>
                  <a:lnTo>
                    <a:pt x="1422" y="571"/>
                  </a:lnTo>
                  <a:lnTo>
                    <a:pt x="1420" y="474"/>
                  </a:lnTo>
                  <a:lnTo>
                    <a:pt x="1418" y="369"/>
                  </a:lnTo>
                  <a:lnTo>
                    <a:pt x="1417" y="322"/>
                  </a:lnTo>
                  <a:lnTo>
                    <a:pt x="1416" y="279"/>
                  </a:lnTo>
                  <a:lnTo>
                    <a:pt x="1415" y="243"/>
                  </a:lnTo>
                  <a:lnTo>
                    <a:pt x="1414" y="213"/>
                  </a:lnTo>
                  <a:lnTo>
                    <a:pt x="1413" y="187"/>
                  </a:lnTo>
                  <a:lnTo>
                    <a:pt x="1411" y="168"/>
                  </a:lnTo>
                  <a:lnTo>
                    <a:pt x="1410" y="155"/>
                  </a:lnTo>
                  <a:lnTo>
                    <a:pt x="1409" y="148"/>
                  </a:lnTo>
                  <a:lnTo>
                    <a:pt x="1404" y="140"/>
                  </a:lnTo>
                  <a:lnTo>
                    <a:pt x="1399" y="131"/>
                  </a:lnTo>
                  <a:lnTo>
                    <a:pt x="1392" y="124"/>
                  </a:lnTo>
                  <a:lnTo>
                    <a:pt x="1383" y="116"/>
                  </a:lnTo>
                  <a:lnTo>
                    <a:pt x="1376" y="113"/>
                  </a:lnTo>
                  <a:lnTo>
                    <a:pt x="1366" y="109"/>
                  </a:lnTo>
                  <a:lnTo>
                    <a:pt x="1352" y="103"/>
                  </a:lnTo>
                  <a:lnTo>
                    <a:pt x="1334" y="99"/>
                  </a:lnTo>
                  <a:lnTo>
                    <a:pt x="1289" y="89"/>
                  </a:lnTo>
                  <a:lnTo>
                    <a:pt x="1230" y="77"/>
                  </a:lnTo>
                  <a:lnTo>
                    <a:pt x="1219" y="75"/>
                  </a:lnTo>
                  <a:lnTo>
                    <a:pt x="1207" y="72"/>
                  </a:lnTo>
                  <a:lnTo>
                    <a:pt x="1194" y="69"/>
                  </a:lnTo>
                  <a:lnTo>
                    <a:pt x="1178" y="64"/>
                  </a:lnTo>
                  <a:lnTo>
                    <a:pt x="1178" y="0"/>
                  </a:lnTo>
                  <a:lnTo>
                    <a:pt x="1225" y="2"/>
                  </a:lnTo>
                  <a:lnTo>
                    <a:pt x="1271" y="5"/>
                  </a:lnTo>
                  <a:lnTo>
                    <a:pt x="1313" y="7"/>
                  </a:lnTo>
                  <a:lnTo>
                    <a:pt x="1354" y="8"/>
                  </a:lnTo>
                  <a:lnTo>
                    <a:pt x="1391" y="10"/>
                  </a:lnTo>
                  <a:lnTo>
                    <a:pt x="1427" y="10"/>
                  </a:lnTo>
                  <a:lnTo>
                    <a:pt x="1458" y="11"/>
                  </a:lnTo>
                  <a:lnTo>
                    <a:pt x="1489" y="11"/>
                  </a:lnTo>
                  <a:lnTo>
                    <a:pt x="1519" y="11"/>
                  </a:lnTo>
                  <a:lnTo>
                    <a:pt x="1551" y="10"/>
                  </a:lnTo>
                  <a:lnTo>
                    <a:pt x="1585" y="10"/>
                  </a:lnTo>
                  <a:lnTo>
                    <a:pt x="1623" y="8"/>
                  </a:lnTo>
                  <a:lnTo>
                    <a:pt x="1663" y="7"/>
                  </a:lnTo>
                  <a:lnTo>
                    <a:pt x="1706" y="5"/>
                  </a:lnTo>
                  <a:lnTo>
                    <a:pt x="1752" y="2"/>
                  </a:lnTo>
                  <a:lnTo>
                    <a:pt x="1799" y="0"/>
                  </a:lnTo>
                  <a:lnTo>
                    <a:pt x="1799" y="64"/>
                  </a:lnTo>
                  <a:lnTo>
                    <a:pt x="1786" y="69"/>
                  </a:lnTo>
                  <a:lnTo>
                    <a:pt x="1773" y="71"/>
                  </a:lnTo>
                  <a:lnTo>
                    <a:pt x="1763" y="73"/>
                  </a:lnTo>
                  <a:lnTo>
                    <a:pt x="1755" y="74"/>
                  </a:lnTo>
                  <a:lnTo>
                    <a:pt x="1721" y="81"/>
                  </a:lnTo>
                  <a:lnTo>
                    <a:pt x="1690" y="89"/>
                  </a:lnTo>
                  <a:lnTo>
                    <a:pt x="1663" y="95"/>
                  </a:lnTo>
                  <a:lnTo>
                    <a:pt x="1641" y="100"/>
                  </a:lnTo>
                  <a:lnTo>
                    <a:pt x="1623" y="105"/>
                  </a:lnTo>
                  <a:lnTo>
                    <a:pt x="1608" y="109"/>
                  </a:lnTo>
                  <a:lnTo>
                    <a:pt x="1597" y="112"/>
                  </a:lnTo>
                  <a:lnTo>
                    <a:pt x="1591" y="115"/>
                  </a:lnTo>
                  <a:lnTo>
                    <a:pt x="1585" y="118"/>
                  </a:lnTo>
                  <a:lnTo>
                    <a:pt x="1580" y="124"/>
                  </a:lnTo>
                  <a:lnTo>
                    <a:pt x="1576" y="129"/>
                  </a:lnTo>
                  <a:lnTo>
                    <a:pt x="1572" y="135"/>
                  </a:lnTo>
                  <a:lnTo>
                    <a:pt x="1569" y="140"/>
                  </a:lnTo>
                  <a:lnTo>
                    <a:pt x="1566" y="146"/>
                  </a:lnTo>
                  <a:lnTo>
                    <a:pt x="1564" y="152"/>
                  </a:lnTo>
                  <a:lnTo>
                    <a:pt x="1562" y="161"/>
                  </a:lnTo>
                  <a:lnTo>
                    <a:pt x="1559" y="179"/>
                  </a:lnTo>
                  <a:lnTo>
                    <a:pt x="1556" y="201"/>
                  </a:lnTo>
                  <a:lnTo>
                    <a:pt x="1556" y="211"/>
                  </a:lnTo>
                  <a:lnTo>
                    <a:pt x="1556" y="227"/>
                  </a:lnTo>
                  <a:lnTo>
                    <a:pt x="1555" y="253"/>
                  </a:lnTo>
                  <a:lnTo>
                    <a:pt x="1555" y="287"/>
                  </a:lnTo>
                  <a:lnTo>
                    <a:pt x="1554" y="328"/>
                  </a:lnTo>
                  <a:lnTo>
                    <a:pt x="1553" y="378"/>
                  </a:lnTo>
                  <a:lnTo>
                    <a:pt x="1552" y="435"/>
                  </a:lnTo>
                  <a:lnTo>
                    <a:pt x="1551" y="501"/>
                  </a:lnTo>
                  <a:lnTo>
                    <a:pt x="1551" y="571"/>
                  </a:lnTo>
                  <a:lnTo>
                    <a:pt x="1549" y="640"/>
                  </a:lnTo>
                  <a:lnTo>
                    <a:pt x="1548" y="709"/>
                  </a:lnTo>
                  <a:lnTo>
                    <a:pt x="1548" y="776"/>
                  </a:lnTo>
                  <a:lnTo>
                    <a:pt x="1547" y="843"/>
                  </a:lnTo>
                  <a:lnTo>
                    <a:pt x="1547" y="910"/>
                  </a:lnTo>
                  <a:lnTo>
                    <a:pt x="1547" y="976"/>
                  </a:lnTo>
                  <a:lnTo>
                    <a:pt x="1547" y="1041"/>
                  </a:lnTo>
                  <a:lnTo>
                    <a:pt x="1547" y="1117"/>
                  </a:lnTo>
                  <a:lnTo>
                    <a:pt x="1548" y="1190"/>
                  </a:lnTo>
                  <a:lnTo>
                    <a:pt x="1548" y="1259"/>
                  </a:lnTo>
                  <a:lnTo>
                    <a:pt x="1551" y="1325"/>
                  </a:lnTo>
                  <a:lnTo>
                    <a:pt x="1552" y="1389"/>
                  </a:lnTo>
                  <a:lnTo>
                    <a:pt x="1554" y="1450"/>
                  </a:lnTo>
                  <a:lnTo>
                    <a:pt x="1556" y="1508"/>
                  </a:lnTo>
                  <a:lnTo>
                    <a:pt x="1559" y="1563"/>
                  </a:lnTo>
                  <a:lnTo>
                    <a:pt x="1487" y="1596"/>
                  </a:lnTo>
                  <a:lnTo>
                    <a:pt x="1027" y="1025"/>
                  </a:lnTo>
                  <a:lnTo>
                    <a:pt x="426" y="301"/>
                  </a:lnTo>
                  <a:lnTo>
                    <a:pt x="431" y="951"/>
                  </a:lnTo>
                  <a:lnTo>
                    <a:pt x="432" y="1052"/>
                  </a:lnTo>
                  <a:lnTo>
                    <a:pt x="434" y="1140"/>
                  </a:lnTo>
                  <a:lnTo>
                    <a:pt x="435" y="1215"/>
                  </a:lnTo>
                  <a:lnTo>
                    <a:pt x="437" y="1279"/>
                  </a:lnTo>
                  <a:lnTo>
                    <a:pt x="438" y="1330"/>
                  </a:lnTo>
                  <a:lnTo>
                    <a:pt x="439" y="1368"/>
                  </a:lnTo>
                  <a:lnTo>
                    <a:pt x="442" y="1393"/>
                  </a:lnTo>
                  <a:lnTo>
                    <a:pt x="444" y="1407"/>
                  </a:lnTo>
                  <a:lnTo>
                    <a:pt x="446" y="1416"/>
                  </a:lnTo>
                  <a:lnTo>
                    <a:pt x="450" y="1426"/>
                  </a:lnTo>
                  <a:lnTo>
                    <a:pt x="456" y="1433"/>
                  </a:lnTo>
                  <a:lnTo>
                    <a:pt x="463" y="1441"/>
                  </a:lnTo>
                  <a:lnTo>
                    <a:pt x="470" y="1447"/>
                  </a:lnTo>
                  <a:lnTo>
                    <a:pt x="482" y="1452"/>
                  </a:lnTo>
                  <a:lnTo>
                    <a:pt x="498" y="1458"/>
                  </a:lnTo>
                  <a:lnTo>
                    <a:pt x="516" y="1464"/>
                  </a:lnTo>
                  <a:lnTo>
                    <a:pt x="538" y="1469"/>
                  </a:lnTo>
                  <a:lnTo>
                    <a:pt x="564" y="1476"/>
                  </a:lnTo>
                  <a:lnTo>
                    <a:pt x="594" y="1481"/>
                  </a:lnTo>
                  <a:lnTo>
                    <a:pt x="627" y="1487"/>
                  </a:lnTo>
                  <a:lnTo>
                    <a:pt x="636" y="1489"/>
                  </a:lnTo>
                  <a:lnTo>
                    <a:pt x="648" y="1491"/>
                  </a:lnTo>
                  <a:lnTo>
                    <a:pt x="661" y="1494"/>
                  </a:lnTo>
                  <a:lnTo>
                    <a:pt x="677" y="1497"/>
                  </a:lnTo>
                  <a:lnTo>
                    <a:pt x="677" y="1563"/>
                  </a:lnTo>
                  <a:lnTo>
                    <a:pt x="635" y="1560"/>
                  </a:lnTo>
                  <a:lnTo>
                    <a:pt x="595" y="1557"/>
                  </a:lnTo>
                  <a:lnTo>
                    <a:pt x="558" y="1555"/>
                  </a:lnTo>
                  <a:lnTo>
                    <a:pt x="521" y="1553"/>
                  </a:lnTo>
                  <a:lnTo>
                    <a:pt x="487" y="1552"/>
                  </a:lnTo>
                  <a:lnTo>
                    <a:pt x="453" y="1551"/>
                  </a:lnTo>
                  <a:lnTo>
                    <a:pt x="423" y="1550"/>
                  </a:lnTo>
                  <a:lnTo>
                    <a:pt x="393" y="1550"/>
                  </a:lnTo>
                  <a:lnTo>
                    <a:pt x="366" y="1550"/>
                  </a:lnTo>
                  <a:lnTo>
                    <a:pt x="335" y="1551"/>
                  </a:lnTo>
                  <a:lnTo>
                    <a:pt x="300" y="1552"/>
                  </a:lnTo>
                  <a:lnTo>
                    <a:pt x="259" y="1553"/>
                  </a:lnTo>
                  <a:lnTo>
                    <a:pt x="215" y="1555"/>
                  </a:lnTo>
                  <a:lnTo>
                    <a:pt x="166" y="1557"/>
                  </a:lnTo>
                  <a:lnTo>
                    <a:pt x="112" y="1560"/>
                  </a:lnTo>
                  <a:lnTo>
                    <a:pt x="55" y="1563"/>
                  </a:lnTo>
                  <a:lnTo>
                    <a:pt x="55" y="1497"/>
                  </a:lnTo>
                  <a:lnTo>
                    <a:pt x="73" y="1493"/>
                  </a:lnTo>
                  <a:lnTo>
                    <a:pt x="89" y="1490"/>
                  </a:lnTo>
                  <a:lnTo>
                    <a:pt x="102" y="1486"/>
                  </a:lnTo>
                  <a:lnTo>
                    <a:pt x="113" y="1484"/>
                  </a:lnTo>
                  <a:lnTo>
                    <a:pt x="144" y="1478"/>
                  </a:lnTo>
                  <a:lnTo>
                    <a:pt x="173" y="1473"/>
                  </a:lnTo>
                  <a:lnTo>
                    <a:pt x="196" y="1467"/>
                  </a:lnTo>
                  <a:lnTo>
                    <a:pt x="217" y="1462"/>
                  </a:lnTo>
                  <a:lnTo>
                    <a:pt x="235" y="1457"/>
                  </a:lnTo>
                  <a:lnTo>
                    <a:pt x="249" y="1451"/>
                  </a:lnTo>
                  <a:lnTo>
                    <a:pt x="259" y="1446"/>
                  </a:lnTo>
                  <a:lnTo>
                    <a:pt x="266" y="1441"/>
                  </a:lnTo>
                  <a:lnTo>
                    <a:pt x="272" y="1436"/>
                  </a:lnTo>
                  <a:lnTo>
                    <a:pt x="276" y="1428"/>
                  </a:lnTo>
                  <a:lnTo>
                    <a:pt x="281" y="1419"/>
                  </a:lnTo>
                  <a:lnTo>
                    <a:pt x="284" y="1407"/>
                  </a:lnTo>
                  <a:lnTo>
                    <a:pt x="286" y="1390"/>
                  </a:lnTo>
                  <a:lnTo>
                    <a:pt x="288" y="1363"/>
                  </a:lnTo>
                  <a:lnTo>
                    <a:pt x="291" y="1330"/>
                  </a:lnTo>
                  <a:lnTo>
                    <a:pt x="292" y="1286"/>
                  </a:lnTo>
                  <a:lnTo>
                    <a:pt x="294" y="1233"/>
                  </a:lnTo>
                  <a:lnTo>
                    <a:pt x="295" y="1173"/>
                  </a:lnTo>
                  <a:lnTo>
                    <a:pt x="296" y="1103"/>
                  </a:lnTo>
                  <a:lnTo>
                    <a:pt x="298" y="1024"/>
                  </a:lnTo>
                  <a:lnTo>
                    <a:pt x="300" y="912"/>
                  </a:lnTo>
                  <a:lnTo>
                    <a:pt x="301" y="812"/>
                  </a:lnTo>
                  <a:lnTo>
                    <a:pt x="302" y="724"/>
                  </a:lnTo>
                  <a:lnTo>
                    <a:pt x="302" y="649"/>
                  </a:lnTo>
                  <a:lnTo>
                    <a:pt x="303" y="586"/>
                  </a:lnTo>
                  <a:lnTo>
                    <a:pt x="303" y="534"/>
                  </a:lnTo>
                  <a:lnTo>
                    <a:pt x="304" y="493"/>
                  </a:lnTo>
                  <a:lnTo>
                    <a:pt x="304" y="466"/>
                  </a:lnTo>
                  <a:lnTo>
                    <a:pt x="304" y="401"/>
                  </a:lnTo>
                  <a:lnTo>
                    <a:pt x="303" y="344"/>
                  </a:lnTo>
                  <a:lnTo>
                    <a:pt x="303" y="293"/>
                  </a:lnTo>
                  <a:lnTo>
                    <a:pt x="302" y="252"/>
                  </a:lnTo>
                  <a:lnTo>
                    <a:pt x="301" y="217"/>
                  </a:lnTo>
                  <a:lnTo>
                    <a:pt x="299" y="190"/>
                  </a:lnTo>
                  <a:lnTo>
                    <a:pt x="298" y="170"/>
                  </a:lnTo>
                  <a:lnTo>
                    <a:pt x="295" y="160"/>
                  </a:lnTo>
                  <a:lnTo>
                    <a:pt x="294" y="154"/>
                  </a:lnTo>
                  <a:lnTo>
                    <a:pt x="292" y="149"/>
                  </a:lnTo>
                  <a:lnTo>
                    <a:pt x="289" y="144"/>
                  </a:lnTo>
                  <a:lnTo>
                    <a:pt x="286" y="138"/>
                  </a:lnTo>
                  <a:lnTo>
                    <a:pt x="283" y="134"/>
                  </a:lnTo>
                  <a:lnTo>
                    <a:pt x="277" y="130"/>
                  </a:lnTo>
                  <a:lnTo>
                    <a:pt x="273" y="126"/>
                  </a:lnTo>
                  <a:lnTo>
                    <a:pt x="267" y="123"/>
                  </a:lnTo>
                  <a:lnTo>
                    <a:pt x="258" y="118"/>
                  </a:lnTo>
                  <a:lnTo>
                    <a:pt x="245" y="114"/>
                  </a:lnTo>
                  <a:lnTo>
                    <a:pt x="227" y="109"/>
                  </a:lnTo>
                  <a:lnTo>
                    <a:pt x="203" y="103"/>
                  </a:lnTo>
                  <a:lnTo>
                    <a:pt x="175" y="97"/>
                  </a:lnTo>
                  <a:lnTo>
                    <a:pt x="141" y="91"/>
                  </a:lnTo>
                  <a:lnTo>
                    <a:pt x="103" y="84"/>
                  </a:lnTo>
                  <a:lnTo>
                    <a:pt x="59" y="77"/>
                  </a:lnTo>
                  <a:lnTo>
                    <a:pt x="48" y="75"/>
                  </a:lnTo>
                  <a:lnTo>
                    <a:pt x="34" y="72"/>
                  </a:lnTo>
                  <a:lnTo>
                    <a:pt x="18" y="69"/>
                  </a:lnTo>
                  <a:lnTo>
                    <a:pt x="0" y="64"/>
                  </a:lnTo>
                  <a:close/>
                </a:path>
              </a:pathLst>
            </a:custGeom>
            <a:gradFill rotWithShape="0">
              <a:gsLst>
                <a:gs pos="80000">
                  <a:srgbClr val="000000"/>
                </a:gs>
                <a:gs pos="100000">
                  <a:srgbClr val="000000"/>
                </a:gs>
              </a:gsLst>
              <a:lin ang="16200000"/>
            </a:gradFill>
            <a:ln w="0">
              <a:noFill/>
            </a:ln>
            <a:effectLst>
              <a:outerShdw blurRad="39960" dir="5400000" dist="23040" rotWithShape="0">
                <a:srgbClr val="000000">
                  <a:alpha val="35000"/>
                </a:srgbClr>
              </a:outerShdw>
            </a:effectLst>
          </p:spPr>
          <p:style>
            <a:lnRef idx="0">
              <a:schemeClr val="accent4"/>
            </a:lnRef>
            <a:fillRef idx="3">
              <a:schemeClr val="accent4"/>
            </a:fillRef>
            <a:effectRef idx="3">
              <a:schemeClr val="accent4"/>
            </a:effectRef>
            <a:fontRef idx="minor"/>
          </p:style>
          <p:txBody>
            <a:bodyPr lIns="90000" rIns="90000" tIns="45000" bIns="45000" anchor="t">
              <a:noAutofit/>
            </a:bodyPr>
            <a:p>
              <a:pPr>
                <a:lnSpc>
                  <a:spcPct val="100000"/>
                </a:lnSpc>
              </a:pPr>
              <a:endParaRPr b="0" lang="en-US" sz="1800" spc="-1" strike="noStrike">
                <a:solidFill>
                  <a:schemeClr val="lt1"/>
                </a:solidFill>
                <a:latin typeface="Arial"/>
                <a:ea typeface="宋体"/>
              </a:endParaRPr>
            </a:p>
          </p:txBody>
        </p:sp>
        <p:sp>
          <p:nvSpPr>
            <p:cNvPr id="163" name="Freeform 80"/>
            <p:cNvSpPr/>
            <p:nvPr/>
          </p:nvSpPr>
          <p:spPr>
            <a:xfrm>
              <a:off x="3515400" y="2264760"/>
              <a:ext cx="315720" cy="277920"/>
            </a:xfrm>
            <a:custGeom>
              <a:avLst/>
              <a:gdLst>
                <a:gd name="textAreaLeft" fmla="*/ 0 w 315720"/>
                <a:gd name="textAreaRight" fmla="*/ 316080 w 315720"/>
                <a:gd name="textAreaTop" fmla="*/ 0 h 277920"/>
                <a:gd name="textAreaBottom" fmla="*/ 278280 h 277920"/>
              </a:gdLst>
              <a:ahLst/>
              <a:rect l="textAreaLeft" t="textAreaTop" r="textAreaRight" b="textAreaBottom"/>
              <a:pathLst>
                <a:path w="1708" h="1590">
                  <a:moveTo>
                    <a:pt x="816" y="0"/>
                  </a:moveTo>
                  <a:lnTo>
                    <a:pt x="886" y="0"/>
                  </a:lnTo>
                  <a:lnTo>
                    <a:pt x="905" y="48"/>
                  </a:lnTo>
                  <a:lnTo>
                    <a:pt x="924" y="98"/>
                  </a:lnTo>
                  <a:lnTo>
                    <a:pt x="945" y="147"/>
                  </a:lnTo>
                  <a:lnTo>
                    <a:pt x="965" y="197"/>
                  </a:lnTo>
                  <a:lnTo>
                    <a:pt x="986" y="249"/>
                  </a:lnTo>
                  <a:lnTo>
                    <a:pt x="1007" y="301"/>
                  </a:lnTo>
                  <a:lnTo>
                    <a:pt x="1029" y="354"/>
                  </a:lnTo>
                  <a:lnTo>
                    <a:pt x="1052" y="408"/>
                  </a:lnTo>
                  <a:lnTo>
                    <a:pt x="1075" y="462"/>
                  </a:lnTo>
                  <a:lnTo>
                    <a:pt x="1099" y="517"/>
                  </a:lnTo>
                  <a:lnTo>
                    <a:pt x="1123" y="573"/>
                  </a:lnTo>
                  <a:lnTo>
                    <a:pt x="1148" y="631"/>
                  </a:lnTo>
                  <a:lnTo>
                    <a:pt x="1173" y="689"/>
                  </a:lnTo>
                  <a:lnTo>
                    <a:pt x="1199" y="747"/>
                  </a:lnTo>
                  <a:lnTo>
                    <a:pt x="1225" y="807"/>
                  </a:lnTo>
                  <a:lnTo>
                    <a:pt x="1252" y="867"/>
                  </a:lnTo>
                  <a:lnTo>
                    <a:pt x="1508" y="1428"/>
                  </a:lnTo>
                  <a:lnTo>
                    <a:pt x="1518" y="1441"/>
                  </a:lnTo>
                  <a:lnTo>
                    <a:pt x="1527" y="1453"/>
                  </a:lnTo>
                  <a:lnTo>
                    <a:pt x="1537" y="1464"/>
                  </a:lnTo>
                  <a:lnTo>
                    <a:pt x="1547" y="1472"/>
                  </a:lnTo>
                  <a:lnTo>
                    <a:pt x="1553" y="1474"/>
                  </a:lnTo>
                  <a:lnTo>
                    <a:pt x="1562" y="1478"/>
                  </a:lnTo>
                  <a:lnTo>
                    <a:pt x="1576" y="1484"/>
                  </a:lnTo>
                  <a:lnTo>
                    <a:pt x="1594" y="1490"/>
                  </a:lnTo>
                  <a:lnTo>
                    <a:pt x="1616" y="1496"/>
                  </a:lnTo>
                  <a:lnTo>
                    <a:pt x="1643" y="1505"/>
                  </a:lnTo>
                  <a:lnTo>
                    <a:pt x="1673" y="1514"/>
                  </a:lnTo>
                  <a:lnTo>
                    <a:pt x="1708" y="1524"/>
                  </a:lnTo>
                  <a:lnTo>
                    <a:pt x="1708" y="1590"/>
                  </a:lnTo>
                  <a:lnTo>
                    <a:pt x="1660" y="1587"/>
                  </a:lnTo>
                  <a:lnTo>
                    <a:pt x="1615" y="1584"/>
                  </a:lnTo>
                  <a:lnTo>
                    <a:pt x="1573" y="1582"/>
                  </a:lnTo>
                  <a:lnTo>
                    <a:pt x="1535" y="1580"/>
                  </a:lnTo>
                  <a:lnTo>
                    <a:pt x="1500" y="1579"/>
                  </a:lnTo>
                  <a:lnTo>
                    <a:pt x="1468" y="1578"/>
                  </a:lnTo>
                  <a:lnTo>
                    <a:pt x="1439" y="1577"/>
                  </a:lnTo>
                  <a:lnTo>
                    <a:pt x="1414" y="1577"/>
                  </a:lnTo>
                  <a:lnTo>
                    <a:pt x="1387" y="1577"/>
                  </a:lnTo>
                  <a:lnTo>
                    <a:pt x="1357" y="1578"/>
                  </a:lnTo>
                  <a:lnTo>
                    <a:pt x="1322" y="1579"/>
                  </a:lnTo>
                  <a:lnTo>
                    <a:pt x="1282" y="1580"/>
                  </a:lnTo>
                  <a:lnTo>
                    <a:pt x="1239" y="1582"/>
                  </a:lnTo>
                  <a:lnTo>
                    <a:pt x="1191" y="1584"/>
                  </a:lnTo>
                  <a:lnTo>
                    <a:pt x="1140" y="1587"/>
                  </a:lnTo>
                  <a:lnTo>
                    <a:pt x="1083" y="1590"/>
                  </a:lnTo>
                  <a:lnTo>
                    <a:pt x="1083" y="1524"/>
                  </a:lnTo>
                  <a:lnTo>
                    <a:pt x="1143" y="1511"/>
                  </a:lnTo>
                  <a:lnTo>
                    <a:pt x="1188" y="1500"/>
                  </a:lnTo>
                  <a:lnTo>
                    <a:pt x="1206" y="1494"/>
                  </a:lnTo>
                  <a:lnTo>
                    <a:pt x="1220" y="1489"/>
                  </a:lnTo>
                  <a:lnTo>
                    <a:pt x="1231" y="1485"/>
                  </a:lnTo>
                  <a:lnTo>
                    <a:pt x="1238" y="1481"/>
                  </a:lnTo>
                  <a:lnTo>
                    <a:pt x="1243" y="1476"/>
                  </a:lnTo>
                  <a:lnTo>
                    <a:pt x="1248" y="1472"/>
                  </a:lnTo>
                  <a:lnTo>
                    <a:pt x="1252" y="1467"/>
                  </a:lnTo>
                  <a:lnTo>
                    <a:pt x="1255" y="1463"/>
                  </a:lnTo>
                  <a:lnTo>
                    <a:pt x="1257" y="1457"/>
                  </a:lnTo>
                  <a:lnTo>
                    <a:pt x="1259" y="1453"/>
                  </a:lnTo>
                  <a:lnTo>
                    <a:pt x="1260" y="1448"/>
                  </a:lnTo>
                  <a:lnTo>
                    <a:pt x="1260" y="1441"/>
                  </a:lnTo>
                  <a:lnTo>
                    <a:pt x="1260" y="1436"/>
                  </a:lnTo>
                  <a:lnTo>
                    <a:pt x="1259" y="1429"/>
                  </a:lnTo>
                  <a:lnTo>
                    <a:pt x="1257" y="1420"/>
                  </a:lnTo>
                  <a:lnTo>
                    <a:pt x="1255" y="1411"/>
                  </a:lnTo>
                  <a:lnTo>
                    <a:pt x="1248" y="1389"/>
                  </a:lnTo>
                  <a:lnTo>
                    <a:pt x="1237" y="1364"/>
                  </a:lnTo>
                  <a:lnTo>
                    <a:pt x="1127" y="1095"/>
                  </a:lnTo>
                  <a:lnTo>
                    <a:pt x="1071" y="1095"/>
                  </a:lnTo>
                  <a:lnTo>
                    <a:pt x="1018" y="1094"/>
                  </a:lnTo>
                  <a:lnTo>
                    <a:pt x="969" y="1094"/>
                  </a:lnTo>
                  <a:lnTo>
                    <a:pt x="924" y="1093"/>
                  </a:lnTo>
                  <a:lnTo>
                    <a:pt x="884" y="1093"/>
                  </a:lnTo>
                  <a:lnTo>
                    <a:pt x="847" y="1093"/>
                  </a:lnTo>
                  <a:lnTo>
                    <a:pt x="814" y="1093"/>
                  </a:lnTo>
                  <a:lnTo>
                    <a:pt x="786" y="1093"/>
                  </a:lnTo>
                  <a:lnTo>
                    <a:pt x="484" y="1095"/>
                  </a:lnTo>
                  <a:lnTo>
                    <a:pt x="368" y="1374"/>
                  </a:lnTo>
                  <a:lnTo>
                    <a:pt x="357" y="1404"/>
                  </a:lnTo>
                  <a:lnTo>
                    <a:pt x="347" y="1428"/>
                  </a:lnTo>
                  <a:lnTo>
                    <a:pt x="342" y="1446"/>
                  </a:lnTo>
                  <a:lnTo>
                    <a:pt x="340" y="1457"/>
                  </a:lnTo>
                  <a:lnTo>
                    <a:pt x="341" y="1464"/>
                  </a:lnTo>
                  <a:lnTo>
                    <a:pt x="344" y="1470"/>
                  </a:lnTo>
                  <a:lnTo>
                    <a:pt x="348" y="1476"/>
                  </a:lnTo>
                  <a:lnTo>
                    <a:pt x="354" y="1481"/>
                  </a:lnTo>
                  <a:lnTo>
                    <a:pt x="359" y="1484"/>
                  </a:lnTo>
                  <a:lnTo>
                    <a:pt x="367" y="1487"/>
                  </a:lnTo>
                  <a:lnTo>
                    <a:pt x="378" y="1490"/>
                  </a:lnTo>
                  <a:lnTo>
                    <a:pt x="393" y="1494"/>
                  </a:lnTo>
                  <a:lnTo>
                    <a:pt x="431" y="1503"/>
                  </a:lnTo>
                  <a:lnTo>
                    <a:pt x="483" y="1514"/>
                  </a:lnTo>
                  <a:lnTo>
                    <a:pt x="489" y="1517"/>
                  </a:lnTo>
                  <a:lnTo>
                    <a:pt x="497" y="1519"/>
                  </a:lnTo>
                  <a:lnTo>
                    <a:pt x="506" y="1521"/>
                  </a:lnTo>
                  <a:lnTo>
                    <a:pt x="516" y="1524"/>
                  </a:lnTo>
                  <a:lnTo>
                    <a:pt x="516" y="1590"/>
                  </a:lnTo>
                  <a:lnTo>
                    <a:pt x="471" y="1587"/>
                  </a:lnTo>
                  <a:lnTo>
                    <a:pt x="429" y="1584"/>
                  </a:lnTo>
                  <a:lnTo>
                    <a:pt x="391" y="1582"/>
                  </a:lnTo>
                  <a:lnTo>
                    <a:pt x="356" y="1580"/>
                  </a:lnTo>
                  <a:lnTo>
                    <a:pt x="324" y="1579"/>
                  </a:lnTo>
                  <a:lnTo>
                    <a:pt x="296" y="1578"/>
                  </a:lnTo>
                  <a:lnTo>
                    <a:pt x="272" y="1577"/>
                  </a:lnTo>
                  <a:lnTo>
                    <a:pt x="251" y="1577"/>
                  </a:lnTo>
                  <a:lnTo>
                    <a:pt x="225" y="1577"/>
                  </a:lnTo>
                  <a:lnTo>
                    <a:pt x="199" y="1578"/>
                  </a:lnTo>
                  <a:lnTo>
                    <a:pt x="169" y="1579"/>
                  </a:lnTo>
                  <a:lnTo>
                    <a:pt x="140" y="1580"/>
                  </a:lnTo>
                  <a:lnTo>
                    <a:pt x="107" y="1582"/>
                  </a:lnTo>
                  <a:lnTo>
                    <a:pt x="73" y="1584"/>
                  </a:lnTo>
                  <a:lnTo>
                    <a:pt x="37" y="1587"/>
                  </a:lnTo>
                  <a:lnTo>
                    <a:pt x="0" y="1590"/>
                  </a:lnTo>
                  <a:lnTo>
                    <a:pt x="0" y="1524"/>
                  </a:lnTo>
                  <a:lnTo>
                    <a:pt x="24" y="1519"/>
                  </a:lnTo>
                  <a:lnTo>
                    <a:pt x="46" y="1512"/>
                  </a:lnTo>
                  <a:lnTo>
                    <a:pt x="67" y="1507"/>
                  </a:lnTo>
                  <a:lnTo>
                    <a:pt x="85" y="1501"/>
                  </a:lnTo>
                  <a:lnTo>
                    <a:pt x="100" y="1494"/>
                  </a:lnTo>
                  <a:lnTo>
                    <a:pt x="115" y="1488"/>
                  </a:lnTo>
                  <a:lnTo>
                    <a:pt x="127" y="1482"/>
                  </a:lnTo>
                  <a:lnTo>
                    <a:pt x="138" y="1475"/>
                  </a:lnTo>
                  <a:lnTo>
                    <a:pt x="145" y="1469"/>
                  </a:lnTo>
                  <a:lnTo>
                    <a:pt x="151" y="1463"/>
                  </a:lnTo>
                  <a:lnTo>
                    <a:pt x="159" y="1455"/>
                  </a:lnTo>
                  <a:lnTo>
                    <a:pt x="166" y="1447"/>
                  </a:lnTo>
                  <a:lnTo>
                    <a:pt x="180" y="1428"/>
                  </a:lnTo>
                  <a:lnTo>
                    <a:pt x="195" y="1404"/>
                  </a:lnTo>
                  <a:lnTo>
                    <a:pt x="214" y="1369"/>
                  </a:lnTo>
                  <a:lnTo>
                    <a:pt x="238" y="1319"/>
                  </a:lnTo>
                  <a:lnTo>
                    <a:pt x="269" y="1255"/>
                  </a:lnTo>
                  <a:lnTo>
                    <a:pt x="306" y="1174"/>
                  </a:lnTo>
                  <a:lnTo>
                    <a:pt x="349" y="1079"/>
                  </a:lnTo>
                  <a:lnTo>
                    <a:pt x="398" y="969"/>
                  </a:lnTo>
                  <a:lnTo>
                    <a:pt x="453" y="844"/>
                  </a:lnTo>
                  <a:lnTo>
                    <a:pt x="515" y="703"/>
                  </a:lnTo>
                  <a:lnTo>
                    <a:pt x="816" y="0"/>
                  </a:lnTo>
                  <a:close/>
                  <a:moveTo>
                    <a:pt x="526" y="985"/>
                  </a:moveTo>
                  <a:lnTo>
                    <a:pt x="563" y="986"/>
                  </a:lnTo>
                  <a:lnTo>
                    <a:pt x="597" y="987"/>
                  </a:lnTo>
                  <a:lnTo>
                    <a:pt x="629" y="988"/>
                  </a:lnTo>
                  <a:lnTo>
                    <a:pt x="658" y="988"/>
                  </a:lnTo>
                  <a:lnTo>
                    <a:pt x="684" y="989"/>
                  </a:lnTo>
                  <a:lnTo>
                    <a:pt x="707" y="989"/>
                  </a:lnTo>
                  <a:lnTo>
                    <a:pt x="727" y="989"/>
                  </a:lnTo>
                  <a:lnTo>
                    <a:pt x="745" y="989"/>
                  </a:lnTo>
                  <a:lnTo>
                    <a:pt x="755" y="989"/>
                  </a:lnTo>
                  <a:lnTo>
                    <a:pt x="774" y="989"/>
                  </a:lnTo>
                  <a:lnTo>
                    <a:pt x="802" y="989"/>
                  </a:lnTo>
                  <a:lnTo>
                    <a:pt x="840" y="988"/>
                  </a:lnTo>
                  <a:lnTo>
                    <a:pt x="886" y="988"/>
                  </a:lnTo>
                  <a:lnTo>
                    <a:pt x="942" y="987"/>
                  </a:lnTo>
                  <a:lnTo>
                    <a:pt x="1008" y="986"/>
                  </a:lnTo>
                  <a:lnTo>
                    <a:pt x="1083" y="985"/>
                  </a:lnTo>
                  <a:lnTo>
                    <a:pt x="805" y="323"/>
                  </a:lnTo>
                  <a:lnTo>
                    <a:pt x="526" y="985"/>
                  </a:lnTo>
                  <a:close/>
                </a:path>
              </a:pathLst>
            </a:custGeom>
            <a:gradFill rotWithShape="0">
              <a:gsLst>
                <a:gs pos="80000">
                  <a:srgbClr val="000000"/>
                </a:gs>
                <a:gs pos="100000">
                  <a:srgbClr val="000000"/>
                </a:gs>
              </a:gsLst>
              <a:lin ang="16200000"/>
            </a:gradFill>
            <a:ln w="0">
              <a:noFill/>
            </a:ln>
            <a:effectLst>
              <a:outerShdw blurRad="39960" dir="5400000" dist="23040" rotWithShape="0">
                <a:srgbClr val="000000">
                  <a:alpha val="35000"/>
                </a:srgbClr>
              </a:outerShdw>
            </a:effectLst>
          </p:spPr>
          <p:style>
            <a:lnRef idx="0">
              <a:schemeClr val="accent4"/>
            </a:lnRef>
            <a:fillRef idx="3">
              <a:schemeClr val="accent4"/>
            </a:fillRef>
            <a:effectRef idx="3">
              <a:schemeClr val="accent4"/>
            </a:effectRef>
            <a:fontRef idx="minor"/>
          </p:style>
          <p:txBody>
            <a:bodyPr lIns="90000" rIns="90000" tIns="45000" bIns="45000" anchor="t">
              <a:noAutofit/>
            </a:bodyPr>
            <a:p>
              <a:pPr>
                <a:lnSpc>
                  <a:spcPct val="100000"/>
                </a:lnSpc>
              </a:pPr>
              <a:endParaRPr b="0" lang="en-US" sz="1800" spc="-1" strike="noStrike">
                <a:solidFill>
                  <a:schemeClr val="lt1"/>
                </a:solidFill>
                <a:latin typeface="Arial"/>
                <a:ea typeface="宋体"/>
              </a:endParaRPr>
            </a:p>
          </p:txBody>
        </p:sp>
        <p:sp>
          <p:nvSpPr>
            <p:cNvPr id="164" name="Freeform 81"/>
            <p:cNvSpPr/>
            <p:nvPr/>
          </p:nvSpPr>
          <p:spPr>
            <a:xfrm>
              <a:off x="3866400" y="2262960"/>
              <a:ext cx="317880" cy="285480"/>
            </a:xfrm>
            <a:custGeom>
              <a:avLst/>
              <a:gdLst>
                <a:gd name="textAreaLeft" fmla="*/ 0 w 317880"/>
                <a:gd name="textAreaRight" fmla="*/ 318240 w 317880"/>
                <a:gd name="textAreaTop" fmla="*/ 0 h 285480"/>
                <a:gd name="textAreaBottom" fmla="*/ 285840 h 285480"/>
              </a:gdLst>
              <a:ahLst/>
              <a:rect l="textAreaLeft" t="textAreaTop" r="textAreaRight" b="textAreaBottom"/>
              <a:pathLst>
                <a:path w="1726" h="1629">
                  <a:moveTo>
                    <a:pt x="1726" y="790"/>
                  </a:moveTo>
                  <a:lnTo>
                    <a:pt x="1726" y="851"/>
                  </a:lnTo>
                  <a:lnTo>
                    <a:pt x="1558" y="891"/>
                  </a:lnTo>
                  <a:lnTo>
                    <a:pt x="1545" y="895"/>
                  </a:lnTo>
                  <a:lnTo>
                    <a:pt x="1534" y="899"/>
                  </a:lnTo>
                  <a:lnTo>
                    <a:pt x="1526" y="905"/>
                  </a:lnTo>
                  <a:lnTo>
                    <a:pt x="1519" y="911"/>
                  </a:lnTo>
                  <a:lnTo>
                    <a:pt x="1513" y="917"/>
                  </a:lnTo>
                  <a:lnTo>
                    <a:pt x="1509" y="926"/>
                  </a:lnTo>
                  <a:lnTo>
                    <a:pt x="1505" y="937"/>
                  </a:lnTo>
                  <a:lnTo>
                    <a:pt x="1503" y="948"/>
                  </a:lnTo>
                  <a:lnTo>
                    <a:pt x="1501" y="962"/>
                  </a:lnTo>
                  <a:lnTo>
                    <a:pt x="1498" y="982"/>
                  </a:lnTo>
                  <a:lnTo>
                    <a:pt x="1497" y="1005"/>
                  </a:lnTo>
                  <a:lnTo>
                    <a:pt x="1495" y="1034"/>
                  </a:lnTo>
                  <a:lnTo>
                    <a:pt x="1494" y="1068"/>
                  </a:lnTo>
                  <a:lnTo>
                    <a:pt x="1494" y="1106"/>
                  </a:lnTo>
                  <a:lnTo>
                    <a:pt x="1493" y="1149"/>
                  </a:lnTo>
                  <a:lnTo>
                    <a:pt x="1493" y="1195"/>
                  </a:lnTo>
                  <a:lnTo>
                    <a:pt x="1493" y="1227"/>
                  </a:lnTo>
                  <a:lnTo>
                    <a:pt x="1494" y="1261"/>
                  </a:lnTo>
                  <a:lnTo>
                    <a:pt x="1494" y="1297"/>
                  </a:lnTo>
                  <a:lnTo>
                    <a:pt x="1495" y="1336"/>
                  </a:lnTo>
                  <a:lnTo>
                    <a:pt x="1497" y="1377"/>
                  </a:lnTo>
                  <a:lnTo>
                    <a:pt x="1498" y="1422"/>
                  </a:lnTo>
                  <a:lnTo>
                    <a:pt x="1501" y="1469"/>
                  </a:lnTo>
                  <a:lnTo>
                    <a:pt x="1503" y="1518"/>
                  </a:lnTo>
                  <a:lnTo>
                    <a:pt x="1489" y="1520"/>
                  </a:lnTo>
                  <a:lnTo>
                    <a:pt x="1471" y="1524"/>
                  </a:lnTo>
                  <a:lnTo>
                    <a:pt x="1451" y="1528"/>
                  </a:lnTo>
                  <a:lnTo>
                    <a:pt x="1426" y="1533"/>
                  </a:lnTo>
                  <a:lnTo>
                    <a:pt x="1398" y="1540"/>
                  </a:lnTo>
                  <a:lnTo>
                    <a:pt x="1367" y="1546"/>
                  </a:lnTo>
                  <a:lnTo>
                    <a:pt x="1332" y="1553"/>
                  </a:lnTo>
                  <a:lnTo>
                    <a:pt x="1294" y="1562"/>
                  </a:lnTo>
                  <a:lnTo>
                    <a:pt x="1244" y="1573"/>
                  </a:lnTo>
                  <a:lnTo>
                    <a:pt x="1200" y="1583"/>
                  </a:lnTo>
                  <a:lnTo>
                    <a:pt x="1160" y="1591"/>
                  </a:lnTo>
                  <a:lnTo>
                    <a:pt x="1124" y="1599"/>
                  </a:lnTo>
                  <a:lnTo>
                    <a:pt x="1093" y="1604"/>
                  </a:lnTo>
                  <a:lnTo>
                    <a:pt x="1067" y="1609"/>
                  </a:lnTo>
                  <a:lnTo>
                    <a:pt x="1046" y="1613"/>
                  </a:lnTo>
                  <a:lnTo>
                    <a:pt x="1030" y="1615"/>
                  </a:lnTo>
                  <a:lnTo>
                    <a:pt x="1003" y="1618"/>
                  </a:lnTo>
                  <a:lnTo>
                    <a:pt x="976" y="1621"/>
                  </a:lnTo>
                  <a:lnTo>
                    <a:pt x="948" y="1623"/>
                  </a:lnTo>
                  <a:lnTo>
                    <a:pt x="920" y="1625"/>
                  </a:lnTo>
                  <a:lnTo>
                    <a:pt x="892" y="1626"/>
                  </a:lnTo>
                  <a:lnTo>
                    <a:pt x="862" y="1627"/>
                  </a:lnTo>
                  <a:lnTo>
                    <a:pt x="833" y="1629"/>
                  </a:lnTo>
                  <a:lnTo>
                    <a:pt x="804" y="1629"/>
                  </a:lnTo>
                  <a:lnTo>
                    <a:pt x="755" y="1627"/>
                  </a:lnTo>
                  <a:lnTo>
                    <a:pt x="709" y="1625"/>
                  </a:lnTo>
                  <a:lnTo>
                    <a:pt x="664" y="1621"/>
                  </a:lnTo>
                  <a:lnTo>
                    <a:pt x="620" y="1616"/>
                  </a:lnTo>
                  <a:lnTo>
                    <a:pt x="579" y="1608"/>
                  </a:lnTo>
                  <a:lnTo>
                    <a:pt x="538" y="1600"/>
                  </a:lnTo>
                  <a:lnTo>
                    <a:pt x="499" y="1589"/>
                  </a:lnTo>
                  <a:lnTo>
                    <a:pt x="460" y="1577"/>
                  </a:lnTo>
                  <a:lnTo>
                    <a:pt x="424" y="1563"/>
                  </a:lnTo>
                  <a:lnTo>
                    <a:pt x="389" y="1548"/>
                  </a:lnTo>
                  <a:lnTo>
                    <a:pt x="356" y="1531"/>
                  </a:lnTo>
                  <a:lnTo>
                    <a:pt x="323" y="1513"/>
                  </a:lnTo>
                  <a:lnTo>
                    <a:pt x="307" y="1504"/>
                  </a:lnTo>
                  <a:lnTo>
                    <a:pt x="292" y="1493"/>
                  </a:lnTo>
                  <a:lnTo>
                    <a:pt x="277" y="1482"/>
                  </a:lnTo>
                  <a:lnTo>
                    <a:pt x="262" y="1471"/>
                  </a:lnTo>
                  <a:lnTo>
                    <a:pt x="249" y="1460"/>
                  </a:lnTo>
                  <a:lnTo>
                    <a:pt x="234" y="1448"/>
                  </a:lnTo>
                  <a:lnTo>
                    <a:pt x="221" y="1436"/>
                  </a:lnTo>
                  <a:lnTo>
                    <a:pt x="207" y="1423"/>
                  </a:lnTo>
                  <a:lnTo>
                    <a:pt x="182" y="1396"/>
                  </a:lnTo>
                  <a:lnTo>
                    <a:pt x="159" y="1369"/>
                  </a:lnTo>
                  <a:lnTo>
                    <a:pt x="137" y="1340"/>
                  </a:lnTo>
                  <a:lnTo>
                    <a:pt x="116" y="1311"/>
                  </a:lnTo>
                  <a:lnTo>
                    <a:pt x="98" y="1280"/>
                  </a:lnTo>
                  <a:lnTo>
                    <a:pt x="81" y="1248"/>
                  </a:lnTo>
                  <a:lnTo>
                    <a:pt x="65" y="1214"/>
                  </a:lnTo>
                  <a:lnTo>
                    <a:pt x="52" y="1180"/>
                  </a:lnTo>
                  <a:lnTo>
                    <a:pt x="40" y="1144"/>
                  </a:lnTo>
                  <a:lnTo>
                    <a:pt x="29" y="1108"/>
                  </a:lnTo>
                  <a:lnTo>
                    <a:pt x="20" y="1070"/>
                  </a:lnTo>
                  <a:lnTo>
                    <a:pt x="12" y="1031"/>
                  </a:lnTo>
                  <a:lnTo>
                    <a:pt x="7" y="991"/>
                  </a:lnTo>
                  <a:lnTo>
                    <a:pt x="3" y="949"/>
                  </a:lnTo>
                  <a:lnTo>
                    <a:pt x="1" y="907"/>
                  </a:lnTo>
                  <a:lnTo>
                    <a:pt x="0" y="862"/>
                  </a:lnTo>
                  <a:lnTo>
                    <a:pt x="1" y="816"/>
                  </a:lnTo>
                  <a:lnTo>
                    <a:pt x="4" y="769"/>
                  </a:lnTo>
                  <a:lnTo>
                    <a:pt x="8" y="724"/>
                  </a:lnTo>
                  <a:lnTo>
                    <a:pt x="15" y="680"/>
                  </a:lnTo>
                  <a:lnTo>
                    <a:pt x="19" y="658"/>
                  </a:lnTo>
                  <a:lnTo>
                    <a:pt x="23" y="637"/>
                  </a:lnTo>
                  <a:lnTo>
                    <a:pt x="28" y="615"/>
                  </a:lnTo>
                  <a:lnTo>
                    <a:pt x="34" y="595"/>
                  </a:lnTo>
                  <a:lnTo>
                    <a:pt x="40" y="574"/>
                  </a:lnTo>
                  <a:lnTo>
                    <a:pt x="46" y="554"/>
                  </a:lnTo>
                  <a:lnTo>
                    <a:pt x="54" y="534"/>
                  </a:lnTo>
                  <a:lnTo>
                    <a:pt x="61" y="515"/>
                  </a:lnTo>
                  <a:lnTo>
                    <a:pt x="69" y="496"/>
                  </a:lnTo>
                  <a:lnTo>
                    <a:pt x="77" y="477"/>
                  </a:lnTo>
                  <a:lnTo>
                    <a:pt x="86" y="458"/>
                  </a:lnTo>
                  <a:lnTo>
                    <a:pt x="95" y="438"/>
                  </a:lnTo>
                  <a:lnTo>
                    <a:pt x="105" y="420"/>
                  </a:lnTo>
                  <a:lnTo>
                    <a:pt x="115" y="402"/>
                  </a:lnTo>
                  <a:lnTo>
                    <a:pt x="126" y="386"/>
                  </a:lnTo>
                  <a:lnTo>
                    <a:pt x="137" y="367"/>
                  </a:lnTo>
                  <a:lnTo>
                    <a:pt x="149" y="351"/>
                  </a:lnTo>
                  <a:lnTo>
                    <a:pt x="161" y="334"/>
                  </a:lnTo>
                  <a:lnTo>
                    <a:pt x="173" y="318"/>
                  </a:lnTo>
                  <a:lnTo>
                    <a:pt x="186" y="301"/>
                  </a:lnTo>
                  <a:lnTo>
                    <a:pt x="200" y="285"/>
                  </a:lnTo>
                  <a:lnTo>
                    <a:pt x="214" y="269"/>
                  </a:lnTo>
                  <a:lnTo>
                    <a:pt x="228" y="254"/>
                  </a:lnTo>
                  <a:lnTo>
                    <a:pt x="243" y="239"/>
                  </a:lnTo>
                  <a:lnTo>
                    <a:pt x="259" y="224"/>
                  </a:lnTo>
                  <a:lnTo>
                    <a:pt x="275" y="210"/>
                  </a:lnTo>
                  <a:lnTo>
                    <a:pt x="291" y="196"/>
                  </a:lnTo>
                  <a:lnTo>
                    <a:pt x="307" y="183"/>
                  </a:lnTo>
                  <a:lnTo>
                    <a:pt x="324" y="170"/>
                  </a:lnTo>
                  <a:lnTo>
                    <a:pt x="341" y="158"/>
                  </a:lnTo>
                  <a:lnTo>
                    <a:pt x="358" y="146"/>
                  </a:lnTo>
                  <a:lnTo>
                    <a:pt x="376" y="134"/>
                  </a:lnTo>
                  <a:lnTo>
                    <a:pt x="394" y="123"/>
                  </a:lnTo>
                  <a:lnTo>
                    <a:pt x="412" y="113"/>
                  </a:lnTo>
                  <a:lnTo>
                    <a:pt x="430" y="103"/>
                  </a:lnTo>
                  <a:lnTo>
                    <a:pt x="449" y="93"/>
                  </a:lnTo>
                  <a:lnTo>
                    <a:pt x="468" y="83"/>
                  </a:lnTo>
                  <a:lnTo>
                    <a:pt x="488" y="75"/>
                  </a:lnTo>
                  <a:lnTo>
                    <a:pt x="507" y="68"/>
                  </a:lnTo>
                  <a:lnTo>
                    <a:pt x="527" y="59"/>
                  </a:lnTo>
                  <a:lnTo>
                    <a:pt x="548" y="52"/>
                  </a:lnTo>
                  <a:lnTo>
                    <a:pt x="568" y="45"/>
                  </a:lnTo>
                  <a:lnTo>
                    <a:pt x="590" y="39"/>
                  </a:lnTo>
                  <a:lnTo>
                    <a:pt x="611" y="33"/>
                  </a:lnTo>
                  <a:lnTo>
                    <a:pt x="655" y="23"/>
                  </a:lnTo>
                  <a:lnTo>
                    <a:pt x="700" y="15"/>
                  </a:lnTo>
                  <a:lnTo>
                    <a:pt x="746" y="8"/>
                  </a:lnTo>
                  <a:lnTo>
                    <a:pt x="794" y="3"/>
                  </a:lnTo>
                  <a:lnTo>
                    <a:pt x="843" y="1"/>
                  </a:lnTo>
                  <a:lnTo>
                    <a:pt x="893" y="0"/>
                  </a:lnTo>
                  <a:lnTo>
                    <a:pt x="918" y="0"/>
                  </a:lnTo>
                  <a:lnTo>
                    <a:pt x="942" y="0"/>
                  </a:lnTo>
                  <a:lnTo>
                    <a:pt x="967" y="1"/>
                  </a:lnTo>
                  <a:lnTo>
                    <a:pt x="991" y="3"/>
                  </a:lnTo>
                  <a:lnTo>
                    <a:pt x="1015" y="4"/>
                  </a:lnTo>
                  <a:lnTo>
                    <a:pt x="1040" y="6"/>
                  </a:lnTo>
                  <a:lnTo>
                    <a:pt x="1063" y="8"/>
                  </a:lnTo>
                  <a:lnTo>
                    <a:pt x="1086" y="11"/>
                  </a:lnTo>
                  <a:lnTo>
                    <a:pt x="1097" y="12"/>
                  </a:lnTo>
                  <a:lnTo>
                    <a:pt x="1117" y="17"/>
                  </a:lnTo>
                  <a:lnTo>
                    <a:pt x="1149" y="22"/>
                  </a:lnTo>
                  <a:lnTo>
                    <a:pt x="1190" y="29"/>
                  </a:lnTo>
                  <a:lnTo>
                    <a:pt x="1243" y="39"/>
                  </a:lnTo>
                  <a:lnTo>
                    <a:pt x="1306" y="51"/>
                  </a:lnTo>
                  <a:lnTo>
                    <a:pt x="1379" y="63"/>
                  </a:lnTo>
                  <a:lnTo>
                    <a:pt x="1462" y="78"/>
                  </a:lnTo>
                  <a:lnTo>
                    <a:pt x="1462" y="108"/>
                  </a:lnTo>
                  <a:lnTo>
                    <a:pt x="1461" y="133"/>
                  </a:lnTo>
                  <a:lnTo>
                    <a:pt x="1461" y="156"/>
                  </a:lnTo>
                  <a:lnTo>
                    <a:pt x="1461" y="176"/>
                  </a:lnTo>
                  <a:lnTo>
                    <a:pt x="1461" y="213"/>
                  </a:lnTo>
                  <a:lnTo>
                    <a:pt x="1462" y="252"/>
                  </a:lnTo>
                  <a:lnTo>
                    <a:pt x="1464" y="292"/>
                  </a:lnTo>
                  <a:lnTo>
                    <a:pt x="1465" y="333"/>
                  </a:lnTo>
                  <a:lnTo>
                    <a:pt x="1467" y="375"/>
                  </a:lnTo>
                  <a:lnTo>
                    <a:pt x="1470" y="418"/>
                  </a:lnTo>
                  <a:lnTo>
                    <a:pt x="1472" y="464"/>
                  </a:lnTo>
                  <a:lnTo>
                    <a:pt x="1476" y="509"/>
                  </a:lnTo>
                  <a:lnTo>
                    <a:pt x="1394" y="509"/>
                  </a:lnTo>
                  <a:lnTo>
                    <a:pt x="1381" y="464"/>
                  </a:lnTo>
                  <a:lnTo>
                    <a:pt x="1368" y="424"/>
                  </a:lnTo>
                  <a:lnTo>
                    <a:pt x="1357" y="387"/>
                  </a:lnTo>
                  <a:lnTo>
                    <a:pt x="1344" y="354"/>
                  </a:lnTo>
                  <a:lnTo>
                    <a:pt x="1332" y="324"/>
                  </a:lnTo>
                  <a:lnTo>
                    <a:pt x="1321" y="300"/>
                  </a:lnTo>
                  <a:lnTo>
                    <a:pt x="1309" y="278"/>
                  </a:lnTo>
                  <a:lnTo>
                    <a:pt x="1298" y="262"/>
                  </a:lnTo>
                  <a:lnTo>
                    <a:pt x="1286" y="247"/>
                  </a:lnTo>
                  <a:lnTo>
                    <a:pt x="1272" y="233"/>
                  </a:lnTo>
                  <a:lnTo>
                    <a:pt x="1257" y="220"/>
                  </a:lnTo>
                  <a:lnTo>
                    <a:pt x="1240" y="207"/>
                  </a:lnTo>
                  <a:lnTo>
                    <a:pt x="1221" y="196"/>
                  </a:lnTo>
                  <a:lnTo>
                    <a:pt x="1200" y="185"/>
                  </a:lnTo>
                  <a:lnTo>
                    <a:pt x="1178" y="175"/>
                  </a:lnTo>
                  <a:lnTo>
                    <a:pt x="1153" y="165"/>
                  </a:lnTo>
                  <a:lnTo>
                    <a:pt x="1120" y="152"/>
                  </a:lnTo>
                  <a:lnTo>
                    <a:pt x="1086" y="143"/>
                  </a:lnTo>
                  <a:lnTo>
                    <a:pt x="1051" y="134"/>
                  </a:lnTo>
                  <a:lnTo>
                    <a:pt x="1015" y="127"/>
                  </a:lnTo>
                  <a:lnTo>
                    <a:pt x="979" y="122"/>
                  </a:lnTo>
                  <a:lnTo>
                    <a:pt x="942" y="117"/>
                  </a:lnTo>
                  <a:lnTo>
                    <a:pt x="905" y="115"/>
                  </a:lnTo>
                  <a:lnTo>
                    <a:pt x="867" y="114"/>
                  </a:lnTo>
                  <a:lnTo>
                    <a:pt x="825" y="115"/>
                  </a:lnTo>
                  <a:lnTo>
                    <a:pt x="785" y="118"/>
                  </a:lnTo>
                  <a:lnTo>
                    <a:pt x="764" y="121"/>
                  </a:lnTo>
                  <a:lnTo>
                    <a:pt x="745" y="123"/>
                  </a:lnTo>
                  <a:lnTo>
                    <a:pt x="726" y="126"/>
                  </a:lnTo>
                  <a:lnTo>
                    <a:pt x="707" y="130"/>
                  </a:lnTo>
                  <a:lnTo>
                    <a:pt x="688" y="134"/>
                  </a:lnTo>
                  <a:lnTo>
                    <a:pt x="670" y="140"/>
                  </a:lnTo>
                  <a:lnTo>
                    <a:pt x="652" y="145"/>
                  </a:lnTo>
                  <a:lnTo>
                    <a:pt x="635" y="150"/>
                  </a:lnTo>
                  <a:lnTo>
                    <a:pt x="618" y="157"/>
                  </a:lnTo>
                  <a:lnTo>
                    <a:pt x="601" y="163"/>
                  </a:lnTo>
                  <a:lnTo>
                    <a:pt x="584" y="170"/>
                  </a:lnTo>
                  <a:lnTo>
                    <a:pt x="568" y="179"/>
                  </a:lnTo>
                  <a:lnTo>
                    <a:pt x="553" y="186"/>
                  </a:lnTo>
                  <a:lnTo>
                    <a:pt x="537" y="196"/>
                  </a:lnTo>
                  <a:lnTo>
                    <a:pt x="522" y="204"/>
                  </a:lnTo>
                  <a:lnTo>
                    <a:pt x="507" y="215"/>
                  </a:lnTo>
                  <a:lnTo>
                    <a:pt x="492" y="224"/>
                  </a:lnTo>
                  <a:lnTo>
                    <a:pt x="478" y="236"/>
                  </a:lnTo>
                  <a:lnTo>
                    <a:pt x="464" y="247"/>
                  </a:lnTo>
                  <a:lnTo>
                    <a:pt x="451" y="258"/>
                  </a:lnTo>
                  <a:lnTo>
                    <a:pt x="437" y="271"/>
                  </a:lnTo>
                  <a:lnTo>
                    <a:pt x="424" y="284"/>
                  </a:lnTo>
                  <a:lnTo>
                    <a:pt x="412" y="298"/>
                  </a:lnTo>
                  <a:lnTo>
                    <a:pt x="400" y="311"/>
                  </a:lnTo>
                  <a:lnTo>
                    <a:pt x="387" y="325"/>
                  </a:lnTo>
                  <a:lnTo>
                    <a:pt x="377" y="340"/>
                  </a:lnTo>
                  <a:lnTo>
                    <a:pt x="365" y="356"/>
                  </a:lnTo>
                  <a:lnTo>
                    <a:pt x="355" y="372"/>
                  </a:lnTo>
                  <a:lnTo>
                    <a:pt x="340" y="395"/>
                  </a:lnTo>
                  <a:lnTo>
                    <a:pt x="326" y="418"/>
                  </a:lnTo>
                  <a:lnTo>
                    <a:pt x="313" y="443"/>
                  </a:lnTo>
                  <a:lnTo>
                    <a:pt x="302" y="468"/>
                  </a:lnTo>
                  <a:lnTo>
                    <a:pt x="291" y="494"/>
                  </a:lnTo>
                  <a:lnTo>
                    <a:pt x="281" y="520"/>
                  </a:lnTo>
                  <a:lnTo>
                    <a:pt x="272" y="547"/>
                  </a:lnTo>
                  <a:lnTo>
                    <a:pt x="265" y="574"/>
                  </a:lnTo>
                  <a:lnTo>
                    <a:pt x="257" y="603"/>
                  </a:lnTo>
                  <a:lnTo>
                    <a:pt x="251" y="631"/>
                  </a:lnTo>
                  <a:lnTo>
                    <a:pt x="245" y="661"/>
                  </a:lnTo>
                  <a:lnTo>
                    <a:pt x="241" y="692"/>
                  </a:lnTo>
                  <a:lnTo>
                    <a:pt x="238" y="723"/>
                  </a:lnTo>
                  <a:lnTo>
                    <a:pt x="236" y="754"/>
                  </a:lnTo>
                  <a:lnTo>
                    <a:pt x="235" y="786"/>
                  </a:lnTo>
                  <a:lnTo>
                    <a:pt x="234" y="819"/>
                  </a:lnTo>
                  <a:lnTo>
                    <a:pt x="235" y="860"/>
                  </a:lnTo>
                  <a:lnTo>
                    <a:pt x="237" y="902"/>
                  </a:lnTo>
                  <a:lnTo>
                    <a:pt x="241" y="941"/>
                  </a:lnTo>
                  <a:lnTo>
                    <a:pt x="246" y="978"/>
                  </a:lnTo>
                  <a:lnTo>
                    <a:pt x="253" y="1015"/>
                  </a:lnTo>
                  <a:lnTo>
                    <a:pt x="261" y="1050"/>
                  </a:lnTo>
                  <a:lnTo>
                    <a:pt x="271" y="1084"/>
                  </a:lnTo>
                  <a:lnTo>
                    <a:pt x="281" y="1117"/>
                  </a:lnTo>
                  <a:lnTo>
                    <a:pt x="294" y="1149"/>
                  </a:lnTo>
                  <a:lnTo>
                    <a:pt x="308" y="1178"/>
                  </a:lnTo>
                  <a:lnTo>
                    <a:pt x="324" y="1208"/>
                  </a:lnTo>
                  <a:lnTo>
                    <a:pt x="341" y="1235"/>
                  </a:lnTo>
                  <a:lnTo>
                    <a:pt x="360" y="1262"/>
                  </a:lnTo>
                  <a:lnTo>
                    <a:pt x="380" y="1287"/>
                  </a:lnTo>
                  <a:lnTo>
                    <a:pt x="401" y="1311"/>
                  </a:lnTo>
                  <a:lnTo>
                    <a:pt x="424" y="1333"/>
                  </a:lnTo>
                  <a:lnTo>
                    <a:pt x="448" y="1354"/>
                  </a:lnTo>
                  <a:lnTo>
                    <a:pt x="473" y="1374"/>
                  </a:lnTo>
                  <a:lnTo>
                    <a:pt x="499" y="1393"/>
                  </a:lnTo>
                  <a:lnTo>
                    <a:pt x="525" y="1410"/>
                  </a:lnTo>
                  <a:lnTo>
                    <a:pt x="553" y="1426"/>
                  </a:lnTo>
                  <a:lnTo>
                    <a:pt x="580" y="1440"/>
                  </a:lnTo>
                  <a:lnTo>
                    <a:pt x="609" y="1453"/>
                  </a:lnTo>
                  <a:lnTo>
                    <a:pt x="638" y="1464"/>
                  </a:lnTo>
                  <a:lnTo>
                    <a:pt x="669" y="1475"/>
                  </a:lnTo>
                  <a:lnTo>
                    <a:pt x="700" y="1483"/>
                  </a:lnTo>
                  <a:lnTo>
                    <a:pt x="733" y="1492"/>
                  </a:lnTo>
                  <a:lnTo>
                    <a:pt x="764" y="1497"/>
                  </a:lnTo>
                  <a:lnTo>
                    <a:pt x="798" y="1502"/>
                  </a:lnTo>
                  <a:lnTo>
                    <a:pt x="832" y="1506"/>
                  </a:lnTo>
                  <a:lnTo>
                    <a:pt x="867" y="1508"/>
                  </a:lnTo>
                  <a:lnTo>
                    <a:pt x="903" y="1509"/>
                  </a:lnTo>
                  <a:lnTo>
                    <a:pt x="926" y="1508"/>
                  </a:lnTo>
                  <a:lnTo>
                    <a:pt x="950" y="1507"/>
                  </a:lnTo>
                  <a:lnTo>
                    <a:pt x="973" y="1506"/>
                  </a:lnTo>
                  <a:lnTo>
                    <a:pt x="996" y="1504"/>
                  </a:lnTo>
                  <a:lnTo>
                    <a:pt x="1020" y="1500"/>
                  </a:lnTo>
                  <a:lnTo>
                    <a:pt x="1043" y="1497"/>
                  </a:lnTo>
                  <a:lnTo>
                    <a:pt x="1067" y="1494"/>
                  </a:lnTo>
                  <a:lnTo>
                    <a:pt x="1091" y="1489"/>
                  </a:lnTo>
                  <a:lnTo>
                    <a:pt x="1115" y="1484"/>
                  </a:lnTo>
                  <a:lnTo>
                    <a:pt x="1139" y="1478"/>
                  </a:lnTo>
                  <a:lnTo>
                    <a:pt x="1164" y="1472"/>
                  </a:lnTo>
                  <a:lnTo>
                    <a:pt x="1188" y="1465"/>
                  </a:lnTo>
                  <a:lnTo>
                    <a:pt x="1238" y="1449"/>
                  </a:lnTo>
                  <a:lnTo>
                    <a:pt x="1288" y="1431"/>
                  </a:lnTo>
                  <a:lnTo>
                    <a:pt x="1289" y="1400"/>
                  </a:lnTo>
                  <a:lnTo>
                    <a:pt x="1290" y="1365"/>
                  </a:lnTo>
                  <a:lnTo>
                    <a:pt x="1290" y="1327"/>
                  </a:lnTo>
                  <a:lnTo>
                    <a:pt x="1291" y="1284"/>
                  </a:lnTo>
                  <a:lnTo>
                    <a:pt x="1291" y="1239"/>
                  </a:lnTo>
                  <a:lnTo>
                    <a:pt x="1292" y="1190"/>
                  </a:lnTo>
                  <a:lnTo>
                    <a:pt x="1292" y="1138"/>
                  </a:lnTo>
                  <a:lnTo>
                    <a:pt x="1292" y="1082"/>
                  </a:lnTo>
                  <a:lnTo>
                    <a:pt x="1292" y="1027"/>
                  </a:lnTo>
                  <a:lnTo>
                    <a:pt x="1291" y="983"/>
                  </a:lnTo>
                  <a:lnTo>
                    <a:pt x="1289" y="952"/>
                  </a:lnTo>
                  <a:lnTo>
                    <a:pt x="1286" y="936"/>
                  </a:lnTo>
                  <a:lnTo>
                    <a:pt x="1281" y="925"/>
                  </a:lnTo>
                  <a:lnTo>
                    <a:pt x="1276" y="916"/>
                  </a:lnTo>
                  <a:lnTo>
                    <a:pt x="1268" y="908"/>
                  </a:lnTo>
                  <a:lnTo>
                    <a:pt x="1259" y="902"/>
                  </a:lnTo>
                  <a:lnTo>
                    <a:pt x="1251" y="897"/>
                  </a:lnTo>
                  <a:lnTo>
                    <a:pt x="1240" y="893"/>
                  </a:lnTo>
                  <a:lnTo>
                    <a:pt x="1226" y="889"/>
                  </a:lnTo>
                  <a:lnTo>
                    <a:pt x="1209" y="884"/>
                  </a:lnTo>
                  <a:lnTo>
                    <a:pt x="1166" y="873"/>
                  </a:lnTo>
                  <a:lnTo>
                    <a:pt x="1110" y="860"/>
                  </a:lnTo>
                  <a:lnTo>
                    <a:pt x="1066" y="851"/>
                  </a:lnTo>
                  <a:lnTo>
                    <a:pt x="1066" y="790"/>
                  </a:lnTo>
                  <a:lnTo>
                    <a:pt x="1443" y="798"/>
                  </a:lnTo>
                  <a:lnTo>
                    <a:pt x="1474" y="798"/>
                  </a:lnTo>
                  <a:lnTo>
                    <a:pt x="1507" y="798"/>
                  </a:lnTo>
                  <a:lnTo>
                    <a:pt x="1541" y="797"/>
                  </a:lnTo>
                  <a:lnTo>
                    <a:pt x="1576" y="796"/>
                  </a:lnTo>
                  <a:lnTo>
                    <a:pt x="1612" y="795"/>
                  </a:lnTo>
                  <a:lnTo>
                    <a:pt x="1649" y="794"/>
                  </a:lnTo>
                  <a:lnTo>
                    <a:pt x="1687" y="792"/>
                  </a:lnTo>
                  <a:lnTo>
                    <a:pt x="1726" y="790"/>
                  </a:lnTo>
                  <a:close/>
                </a:path>
              </a:pathLst>
            </a:custGeom>
            <a:gradFill rotWithShape="0">
              <a:gsLst>
                <a:gs pos="80000">
                  <a:srgbClr val="000000"/>
                </a:gs>
                <a:gs pos="100000">
                  <a:srgbClr val="000000"/>
                </a:gs>
              </a:gsLst>
              <a:lin ang="16200000"/>
            </a:gradFill>
            <a:ln w="0">
              <a:noFill/>
            </a:ln>
            <a:effectLst>
              <a:outerShdw blurRad="39960" dir="5400000" dist="23040" rotWithShape="0">
                <a:srgbClr val="000000">
                  <a:alpha val="35000"/>
                </a:srgbClr>
              </a:outerShdw>
            </a:effectLst>
          </p:spPr>
          <p:style>
            <a:lnRef idx="0">
              <a:schemeClr val="accent4"/>
            </a:lnRef>
            <a:fillRef idx="3">
              <a:schemeClr val="accent4"/>
            </a:fillRef>
            <a:effectRef idx="3">
              <a:schemeClr val="accent4"/>
            </a:effectRef>
            <a:fontRef idx="minor"/>
          </p:style>
          <p:txBody>
            <a:bodyPr lIns="90000" rIns="90000" tIns="45000" bIns="45000" anchor="t">
              <a:noAutofit/>
            </a:bodyPr>
            <a:p>
              <a:pPr>
                <a:lnSpc>
                  <a:spcPct val="100000"/>
                </a:lnSpc>
              </a:pPr>
              <a:endParaRPr b="0" lang="en-US" sz="1800" spc="-1" strike="noStrike">
                <a:solidFill>
                  <a:schemeClr val="lt1"/>
                </a:solidFill>
                <a:latin typeface="Arial"/>
                <a:ea typeface="宋体"/>
              </a:endParaRPr>
            </a:p>
          </p:txBody>
        </p:sp>
        <p:sp>
          <p:nvSpPr>
            <p:cNvPr id="165" name="Freeform 82"/>
            <p:cNvSpPr/>
            <p:nvPr/>
          </p:nvSpPr>
          <p:spPr>
            <a:xfrm>
              <a:off x="4219920" y="2269080"/>
              <a:ext cx="254520" cy="273240"/>
            </a:xfrm>
            <a:custGeom>
              <a:avLst/>
              <a:gdLst>
                <a:gd name="textAreaLeft" fmla="*/ 0 w 254520"/>
                <a:gd name="textAreaRight" fmla="*/ 254880 w 254520"/>
                <a:gd name="textAreaTop" fmla="*/ 0 h 273240"/>
                <a:gd name="textAreaBottom" fmla="*/ 273600 h 273240"/>
              </a:gdLst>
              <a:ahLst/>
              <a:rect l="textAreaLeft" t="textAreaTop" r="textAreaRight" b="textAreaBottom"/>
              <a:pathLst>
                <a:path w="1380" h="1563">
                  <a:moveTo>
                    <a:pt x="458" y="688"/>
                  </a:moveTo>
                  <a:lnTo>
                    <a:pt x="724" y="688"/>
                  </a:lnTo>
                  <a:lnTo>
                    <a:pt x="761" y="688"/>
                  </a:lnTo>
                  <a:lnTo>
                    <a:pt x="793" y="688"/>
                  </a:lnTo>
                  <a:lnTo>
                    <a:pt x="822" y="687"/>
                  </a:lnTo>
                  <a:lnTo>
                    <a:pt x="847" y="687"/>
                  </a:lnTo>
                  <a:lnTo>
                    <a:pt x="867" y="685"/>
                  </a:lnTo>
                  <a:lnTo>
                    <a:pt x="884" y="684"/>
                  </a:lnTo>
                  <a:lnTo>
                    <a:pt x="897" y="683"/>
                  </a:lnTo>
                  <a:lnTo>
                    <a:pt x="906" y="681"/>
                  </a:lnTo>
                  <a:lnTo>
                    <a:pt x="913" y="678"/>
                  </a:lnTo>
                  <a:lnTo>
                    <a:pt x="919" y="676"/>
                  </a:lnTo>
                  <a:lnTo>
                    <a:pt x="926" y="673"/>
                  </a:lnTo>
                  <a:lnTo>
                    <a:pt x="931" y="668"/>
                  </a:lnTo>
                  <a:lnTo>
                    <a:pt x="936" y="664"/>
                  </a:lnTo>
                  <a:lnTo>
                    <a:pt x="941" y="659"/>
                  </a:lnTo>
                  <a:lnTo>
                    <a:pt x="947" y="653"/>
                  </a:lnTo>
                  <a:lnTo>
                    <a:pt x="951" y="647"/>
                  </a:lnTo>
                  <a:lnTo>
                    <a:pt x="955" y="640"/>
                  </a:lnTo>
                  <a:lnTo>
                    <a:pt x="959" y="628"/>
                  </a:lnTo>
                  <a:lnTo>
                    <a:pt x="965" y="614"/>
                  </a:lnTo>
                  <a:lnTo>
                    <a:pt x="970" y="598"/>
                  </a:lnTo>
                  <a:lnTo>
                    <a:pt x="981" y="555"/>
                  </a:lnTo>
                  <a:lnTo>
                    <a:pt x="993" y="501"/>
                  </a:lnTo>
                  <a:lnTo>
                    <a:pt x="995" y="493"/>
                  </a:lnTo>
                  <a:lnTo>
                    <a:pt x="998" y="485"/>
                  </a:lnTo>
                  <a:lnTo>
                    <a:pt x="1000" y="474"/>
                  </a:lnTo>
                  <a:lnTo>
                    <a:pt x="1003" y="463"/>
                  </a:lnTo>
                  <a:lnTo>
                    <a:pt x="1076" y="463"/>
                  </a:lnTo>
                  <a:lnTo>
                    <a:pt x="1073" y="507"/>
                  </a:lnTo>
                  <a:lnTo>
                    <a:pt x="1071" y="549"/>
                  </a:lnTo>
                  <a:lnTo>
                    <a:pt x="1068" y="588"/>
                  </a:lnTo>
                  <a:lnTo>
                    <a:pt x="1066" y="624"/>
                  </a:lnTo>
                  <a:lnTo>
                    <a:pt x="1065" y="658"/>
                  </a:lnTo>
                  <a:lnTo>
                    <a:pt x="1064" y="688"/>
                  </a:lnTo>
                  <a:lnTo>
                    <a:pt x="1063" y="717"/>
                  </a:lnTo>
                  <a:lnTo>
                    <a:pt x="1063" y="744"/>
                  </a:lnTo>
                  <a:lnTo>
                    <a:pt x="1063" y="769"/>
                  </a:lnTo>
                  <a:lnTo>
                    <a:pt x="1064" y="799"/>
                  </a:lnTo>
                  <a:lnTo>
                    <a:pt x="1065" y="829"/>
                  </a:lnTo>
                  <a:lnTo>
                    <a:pt x="1066" y="863"/>
                  </a:lnTo>
                  <a:lnTo>
                    <a:pt x="1068" y="898"/>
                  </a:lnTo>
                  <a:lnTo>
                    <a:pt x="1071" y="937"/>
                  </a:lnTo>
                  <a:lnTo>
                    <a:pt x="1073" y="978"/>
                  </a:lnTo>
                  <a:lnTo>
                    <a:pt x="1076" y="1020"/>
                  </a:lnTo>
                  <a:lnTo>
                    <a:pt x="1003" y="1020"/>
                  </a:lnTo>
                  <a:lnTo>
                    <a:pt x="995" y="983"/>
                  </a:lnTo>
                  <a:lnTo>
                    <a:pt x="988" y="949"/>
                  </a:lnTo>
                  <a:lnTo>
                    <a:pt x="983" y="921"/>
                  </a:lnTo>
                  <a:lnTo>
                    <a:pt x="977" y="896"/>
                  </a:lnTo>
                  <a:lnTo>
                    <a:pt x="972" y="876"/>
                  </a:lnTo>
                  <a:lnTo>
                    <a:pt x="969" y="860"/>
                  </a:lnTo>
                  <a:lnTo>
                    <a:pt x="966" y="848"/>
                  </a:lnTo>
                  <a:lnTo>
                    <a:pt x="964" y="842"/>
                  </a:lnTo>
                  <a:lnTo>
                    <a:pt x="960" y="836"/>
                  </a:lnTo>
                  <a:lnTo>
                    <a:pt x="957" y="829"/>
                  </a:lnTo>
                  <a:lnTo>
                    <a:pt x="953" y="824"/>
                  </a:lnTo>
                  <a:lnTo>
                    <a:pt x="948" y="819"/>
                  </a:lnTo>
                  <a:lnTo>
                    <a:pt x="944" y="815"/>
                  </a:lnTo>
                  <a:lnTo>
                    <a:pt x="937" y="810"/>
                  </a:lnTo>
                  <a:lnTo>
                    <a:pt x="932" y="807"/>
                  </a:lnTo>
                  <a:lnTo>
                    <a:pt x="924" y="804"/>
                  </a:lnTo>
                  <a:lnTo>
                    <a:pt x="916" y="802"/>
                  </a:lnTo>
                  <a:lnTo>
                    <a:pt x="904" y="799"/>
                  </a:lnTo>
                  <a:lnTo>
                    <a:pt x="888" y="797"/>
                  </a:lnTo>
                  <a:lnTo>
                    <a:pt x="870" y="795"/>
                  </a:lnTo>
                  <a:lnTo>
                    <a:pt x="848" y="794"/>
                  </a:lnTo>
                  <a:lnTo>
                    <a:pt x="823" y="793"/>
                  </a:lnTo>
                  <a:lnTo>
                    <a:pt x="793" y="792"/>
                  </a:lnTo>
                  <a:lnTo>
                    <a:pt x="761" y="792"/>
                  </a:lnTo>
                  <a:lnTo>
                    <a:pt x="459" y="792"/>
                  </a:lnTo>
                  <a:lnTo>
                    <a:pt x="465" y="1440"/>
                  </a:lnTo>
                  <a:lnTo>
                    <a:pt x="926" y="1440"/>
                  </a:lnTo>
                  <a:lnTo>
                    <a:pt x="967" y="1439"/>
                  </a:lnTo>
                  <a:lnTo>
                    <a:pt x="1009" y="1439"/>
                  </a:lnTo>
                  <a:lnTo>
                    <a:pt x="1044" y="1437"/>
                  </a:lnTo>
                  <a:lnTo>
                    <a:pt x="1070" y="1434"/>
                  </a:lnTo>
                  <a:lnTo>
                    <a:pt x="1085" y="1431"/>
                  </a:lnTo>
                  <a:lnTo>
                    <a:pt x="1096" y="1427"/>
                  </a:lnTo>
                  <a:lnTo>
                    <a:pt x="1106" y="1423"/>
                  </a:lnTo>
                  <a:lnTo>
                    <a:pt x="1115" y="1418"/>
                  </a:lnTo>
                  <a:lnTo>
                    <a:pt x="1125" y="1412"/>
                  </a:lnTo>
                  <a:lnTo>
                    <a:pt x="1134" y="1406"/>
                  </a:lnTo>
                  <a:lnTo>
                    <a:pt x="1143" y="1398"/>
                  </a:lnTo>
                  <a:lnTo>
                    <a:pt x="1151" y="1391"/>
                  </a:lnTo>
                  <a:lnTo>
                    <a:pt x="1160" y="1384"/>
                  </a:lnTo>
                  <a:lnTo>
                    <a:pt x="1168" y="1373"/>
                  </a:lnTo>
                  <a:lnTo>
                    <a:pt x="1179" y="1359"/>
                  </a:lnTo>
                  <a:lnTo>
                    <a:pt x="1191" y="1341"/>
                  </a:lnTo>
                  <a:lnTo>
                    <a:pt x="1205" y="1319"/>
                  </a:lnTo>
                  <a:lnTo>
                    <a:pt x="1220" y="1294"/>
                  </a:lnTo>
                  <a:lnTo>
                    <a:pt x="1238" y="1264"/>
                  </a:lnTo>
                  <a:lnTo>
                    <a:pt x="1257" y="1231"/>
                  </a:lnTo>
                  <a:lnTo>
                    <a:pt x="1277" y="1194"/>
                  </a:lnTo>
                  <a:lnTo>
                    <a:pt x="1282" y="1184"/>
                  </a:lnTo>
                  <a:lnTo>
                    <a:pt x="1288" y="1174"/>
                  </a:lnTo>
                  <a:lnTo>
                    <a:pt x="1295" y="1162"/>
                  </a:lnTo>
                  <a:lnTo>
                    <a:pt x="1304" y="1148"/>
                  </a:lnTo>
                  <a:lnTo>
                    <a:pt x="1380" y="1148"/>
                  </a:lnTo>
                  <a:lnTo>
                    <a:pt x="1375" y="1162"/>
                  </a:lnTo>
                  <a:lnTo>
                    <a:pt x="1366" y="1188"/>
                  </a:lnTo>
                  <a:lnTo>
                    <a:pt x="1354" y="1223"/>
                  </a:lnTo>
                  <a:lnTo>
                    <a:pt x="1339" y="1269"/>
                  </a:lnTo>
                  <a:lnTo>
                    <a:pt x="1321" y="1326"/>
                  </a:lnTo>
                  <a:lnTo>
                    <a:pt x="1298" y="1394"/>
                  </a:lnTo>
                  <a:lnTo>
                    <a:pt x="1272" y="1473"/>
                  </a:lnTo>
                  <a:lnTo>
                    <a:pt x="1243" y="1563"/>
                  </a:lnTo>
                  <a:lnTo>
                    <a:pt x="1144" y="1560"/>
                  </a:lnTo>
                  <a:lnTo>
                    <a:pt x="1047" y="1557"/>
                  </a:lnTo>
                  <a:lnTo>
                    <a:pt x="952" y="1555"/>
                  </a:lnTo>
                  <a:lnTo>
                    <a:pt x="860" y="1553"/>
                  </a:lnTo>
                  <a:lnTo>
                    <a:pt x="769" y="1552"/>
                  </a:lnTo>
                  <a:lnTo>
                    <a:pt x="681" y="1551"/>
                  </a:lnTo>
                  <a:lnTo>
                    <a:pt x="595" y="1550"/>
                  </a:lnTo>
                  <a:lnTo>
                    <a:pt x="511" y="1550"/>
                  </a:lnTo>
                  <a:lnTo>
                    <a:pt x="452" y="1550"/>
                  </a:lnTo>
                  <a:lnTo>
                    <a:pt x="393" y="1551"/>
                  </a:lnTo>
                  <a:lnTo>
                    <a:pt x="330" y="1552"/>
                  </a:lnTo>
                  <a:lnTo>
                    <a:pt x="268" y="1553"/>
                  </a:lnTo>
                  <a:lnTo>
                    <a:pt x="203" y="1555"/>
                  </a:lnTo>
                  <a:lnTo>
                    <a:pt x="136" y="1557"/>
                  </a:lnTo>
                  <a:lnTo>
                    <a:pt x="70" y="1560"/>
                  </a:lnTo>
                  <a:lnTo>
                    <a:pt x="0" y="1563"/>
                  </a:lnTo>
                  <a:lnTo>
                    <a:pt x="0" y="1497"/>
                  </a:lnTo>
                  <a:lnTo>
                    <a:pt x="179" y="1459"/>
                  </a:lnTo>
                  <a:lnTo>
                    <a:pt x="198" y="1452"/>
                  </a:lnTo>
                  <a:lnTo>
                    <a:pt x="213" y="1446"/>
                  </a:lnTo>
                  <a:lnTo>
                    <a:pt x="219" y="1444"/>
                  </a:lnTo>
                  <a:lnTo>
                    <a:pt x="224" y="1441"/>
                  </a:lnTo>
                  <a:lnTo>
                    <a:pt x="229" y="1438"/>
                  </a:lnTo>
                  <a:lnTo>
                    <a:pt x="231" y="1434"/>
                  </a:lnTo>
                  <a:lnTo>
                    <a:pt x="235" y="1428"/>
                  </a:lnTo>
                  <a:lnTo>
                    <a:pt x="238" y="1421"/>
                  </a:lnTo>
                  <a:lnTo>
                    <a:pt x="241" y="1412"/>
                  </a:lnTo>
                  <a:lnTo>
                    <a:pt x="243" y="1403"/>
                  </a:lnTo>
                  <a:lnTo>
                    <a:pt x="246" y="1391"/>
                  </a:lnTo>
                  <a:lnTo>
                    <a:pt x="247" y="1377"/>
                  </a:lnTo>
                  <a:lnTo>
                    <a:pt x="248" y="1363"/>
                  </a:lnTo>
                  <a:lnTo>
                    <a:pt x="248" y="1348"/>
                  </a:lnTo>
                  <a:lnTo>
                    <a:pt x="248" y="1327"/>
                  </a:lnTo>
                  <a:lnTo>
                    <a:pt x="253" y="1069"/>
                  </a:lnTo>
                  <a:lnTo>
                    <a:pt x="254" y="1048"/>
                  </a:lnTo>
                  <a:lnTo>
                    <a:pt x="254" y="1022"/>
                  </a:lnTo>
                  <a:lnTo>
                    <a:pt x="254" y="993"/>
                  </a:lnTo>
                  <a:lnTo>
                    <a:pt x="254" y="958"/>
                  </a:lnTo>
                  <a:lnTo>
                    <a:pt x="254" y="918"/>
                  </a:lnTo>
                  <a:lnTo>
                    <a:pt x="254" y="875"/>
                  </a:lnTo>
                  <a:lnTo>
                    <a:pt x="254" y="827"/>
                  </a:lnTo>
                  <a:lnTo>
                    <a:pt x="254" y="774"/>
                  </a:lnTo>
                  <a:lnTo>
                    <a:pt x="254" y="698"/>
                  </a:lnTo>
                  <a:lnTo>
                    <a:pt x="254" y="626"/>
                  </a:lnTo>
                  <a:lnTo>
                    <a:pt x="254" y="560"/>
                  </a:lnTo>
                  <a:lnTo>
                    <a:pt x="254" y="499"/>
                  </a:lnTo>
                  <a:lnTo>
                    <a:pt x="254" y="444"/>
                  </a:lnTo>
                  <a:lnTo>
                    <a:pt x="253" y="393"/>
                  </a:lnTo>
                  <a:lnTo>
                    <a:pt x="253" y="348"/>
                  </a:lnTo>
                  <a:lnTo>
                    <a:pt x="252" y="308"/>
                  </a:lnTo>
                  <a:lnTo>
                    <a:pt x="252" y="273"/>
                  </a:lnTo>
                  <a:lnTo>
                    <a:pt x="251" y="242"/>
                  </a:lnTo>
                  <a:lnTo>
                    <a:pt x="250" y="216"/>
                  </a:lnTo>
                  <a:lnTo>
                    <a:pt x="249" y="192"/>
                  </a:lnTo>
                  <a:lnTo>
                    <a:pt x="247" y="173"/>
                  </a:lnTo>
                  <a:lnTo>
                    <a:pt x="246" y="159"/>
                  </a:lnTo>
                  <a:lnTo>
                    <a:pt x="243" y="147"/>
                  </a:lnTo>
                  <a:lnTo>
                    <a:pt x="241" y="141"/>
                  </a:lnTo>
                  <a:lnTo>
                    <a:pt x="237" y="134"/>
                  </a:lnTo>
                  <a:lnTo>
                    <a:pt x="233" y="129"/>
                  </a:lnTo>
                  <a:lnTo>
                    <a:pt x="228" y="124"/>
                  </a:lnTo>
                  <a:lnTo>
                    <a:pt x="221" y="119"/>
                  </a:lnTo>
                  <a:lnTo>
                    <a:pt x="209" y="114"/>
                  </a:lnTo>
                  <a:lnTo>
                    <a:pt x="188" y="108"/>
                  </a:lnTo>
                  <a:lnTo>
                    <a:pt x="159" y="100"/>
                  </a:lnTo>
                  <a:lnTo>
                    <a:pt x="119" y="91"/>
                  </a:lnTo>
                  <a:lnTo>
                    <a:pt x="0" y="64"/>
                  </a:lnTo>
                  <a:lnTo>
                    <a:pt x="0" y="0"/>
                  </a:lnTo>
                  <a:lnTo>
                    <a:pt x="53" y="2"/>
                  </a:lnTo>
                  <a:lnTo>
                    <a:pt x="109" y="5"/>
                  </a:lnTo>
                  <a:lnTo>
                    <a:pt x="167" y="7"/>
                  </a:lnTo>
                  <a:lnTo>
                    <a:pt x="228" y="8"/>
                  </a:lnTo>
                  <a:lnTo>
                    <a:pt x="290" y="10"/>
                  </a:lnTo>
                  <a:lnTo>
                    <a:pt x="356" y="10"/>
                  </a:lnTo>
                  <a:lnTo>
                    <a:pt x="423" y="11"/>
                  </a:lnTo>
                  <a:lnTo>
                    <a:pt x="494" y="11"/>
                  </a:lnTo>
                  <a:lnTo>
                    <a:pt x="516" y="11"/>
                  </a:lnTo>
                  <a:lnTo>
                    <a:pt x="541" y="11"/>
                  </a:lnTo>
                  <a:lnTo>
                    <a:pt x="569" y="11"/>
                  </a:lnTo>
                  <a:lnTo>
                    <a:pt x="600" y="10"/>
                  </a:lnTo>
                  <a:lnTo>
                    <a:pt x="635" y="10"/>
                  </a:lnTo>
                  <a:lnTo>
                    <a:pt x="673" y="10"/>
                  </a:lnTo>
                  <a:lnTo>
                    <a:pt x="715" y="9"/>
                  </a:lnTo>
                  <a:lnTo>
                    <a:pt x="760" y="8"/>
                  </a:lnTo>
                  <a:lnTo>
                    <a:pt x="809" y="8"/>
                  </a:lnTo>
                  <a:lnTo>
                    <a:pt x="861" y="7"/>
                  </a:lnTo>
                  <a:lnTo>
                    <a:pt x="916" y="6"/>
                  </a:lnTo>
                  <a:lnTo>
                    <a:pt x="974" y="5"/>
                  </a:lnTo>
                  <a:lnTo>
                    <a:pt x="1037" y="4"/>
                  </a:lnTo>
                  <a:lnTo>
                    <a:pt x="1102" y="2"/>
                  </a:lnTo>
                  <a:lnTo>
                    <a:pt x="1171" y="1"/>
                  </a:lnTo>
                  <a:lnTo>
                    <a:pt x="1243" y="0"/>
                  </a:lnTo>
                  <a:lnTo>
                    <a:pt x="1244" y="47"/>
                  </a:lnTo>
                  <a:lnTo>
                    <a:pt x="1245" y="95"/>
                  </a:lnTo>
                  <a:lnTo>
                    <a:pt x="1248" y="142"/>
                  </a:lnTo>
                  <a:lnTo>
                    <a:pt x="1251" y="189"/>
                  </a:lnTo>
                  <a:lnTo>
                    <a:pt x="1254" y="236"/>
                  </a:lnTo>
                  <a:lnTo>
                    <a:pt x="1259" y="283"/>
                  </a:lnTo>
                  <a:lnTo>
                    <a:pt x="1263" y="329"/>
                  </a:lnTo>
                  <a:lnTo>
                    <a:pt x="1270" y="376"/>
                  </a:lnTo>
                  <a:lnTo>
                    <a:pt x="1192" y="376"/>
                  </a:lnTo>
                  <a:lnTo>
                    <a:pt x="1182" y="340"/>
                  </a:lnTo>
                  <a:lnTo>
                    <a:pt x="1171" y="308"/>
                  </a:lnTo>
                  <a:lnTo>
                    <a:pt x="1162" y="278"/>
                  </a:lnTo>
                  <a:lnTo>
                    <a:pt x="1152" y="252"/>
                  </a:lnTo>
                  <a:lnTo>
                    <a:pt x="1144" y="229"/>
                  </a:lnTo>
                  <a:lnTo>
                    <a:pt x="1135" y="208"/>
                  </a:lnTo>
                  <a:lnTo>
                    <a:pt x="1128" y="190"/>
                  </a:lnTo>
                  <a:lnTo>
                    <a:pt x="1121" y="177"/>
                  </a:lnTo>
                  <a:lnTo>
                    <a:pt x="1116" y="169"/>
                  </a:lnTo>
                  <a:lnTo>
                    <a:pt x="1111" y="161"/>
                  </a:lnTo>
                  <a:lnTo>
                    <a:pt x="1106" y="154"/>
                  </a:lnTo>
                  <a:lnTo>
                    <a:pt x="1100" y="148"/>
                  </a:lnTo>
                  <a:lnTo>
                    <a:pt x="1094" y="143"/>
                  </a:lnTo>
                  <a:lnTo>
                    <a:pt x="1088" y="138"/>
                  </a:lnTo>
                  <a:lnTo>
                    <a:pt x="1081" y="135"/>
                  </a:lnTo>
                  <a:lnTo>
                    <a:pt x="1075" y="132"/>
                  </a:lnTo>
                  <a:lnTo>
                    <a:pt x="1064" y="128"/>
                  </a:lnTo>
                  <a:lnTo>
                    <a:pt x="1050" y="126"/>
                  </a:lnTo>
                  <a:lnTo>
                    <a:pt x="1035" y="123"/>
                  </a:lnTo>
                  <a:lnTo>
                    <a:pt x="1017" y="120"/>
                  </a:lnTo>
                  <a:lnTo>
                    <a:pt x="994" y="119"/>
                  </a:lnTo>
                  <a:lnTo>
                    <a:pt x="971" y="118"/>
                  </a:lnTo>
                  <a:lnTo>
                    <a:pt x="944" y="117"/>
                  </a:lnTo>
                  <a:lnTo>
                    <a:pt x="914" y="117"/>
                  </a:lnTo>
                  <a:lnTo>
                    <a:pt x="469" y="117"/>
                  </a:lnTo>
                  <a:lnTo>
                    <a:pt x="462" y="472"/>
                  </a:lnTo>
                  <a:lnTo>
                    <a:pt x="458" y="688"/>
                  </a:lnTo>
                  <a:close/>
                </a:path>
              </a:pathLst>
            </a:custGeom>
            <a:gradFill rotWithShape="0">
              <a:gsLst>
                <a:gs pos="80000">
                  <a:srgbClr val="000000"/>
                </a:gs>
                <a:gs pos="100000">
                  <a:srgbClr val="000000"/>
                </a:gs>
              </a:gsLst>
              <a:lin ang="16200000"/>
            </a:gradFill>
            <a:ln w="0">
              <a:noFill/>
            </a:ln>
            <a:effectLst>
              <a:outerShdw blurRad="39960" dir="5400000" dist="23040" rotWithShape="0">
                <a:srgbClr val="000000">
                  <a:alpha val="35000"/>
                </a:srgbClr>
              </a:outerShdw>
            </a:effectLst>
          </p:spPr>
          <p:style>
            <a:lnRef idx="0">
              <a:schemeClr val="accent4"/>
            </a:lnRef>
            <a:fillRef idx="3">
              <a:schemeClr val="accent4"/>
            </a:fillRef>
            <a:effectRef idx="3">
              <a:schemeClr val="accent4"/>
            </a:effectRef>
            <a:fontRef idx="minor"/>
          </p:style>
          <p:txBody>
            <a:bodyPr lIns="90000" rIns="90000" tIns="45000" bIns="45000" anchor="t">
              <a:noAutofit/>
            </a:bodyPr>
            <a:p>
              <a:pPr>
                <a:lnSpc>
                  <a:spcPct val="100000"/>
                </a:lnSpc>
              </a:pPr>
              <a:endParaRPr b="0" lang="en-US" sz="1800" spc="-1" strike="noStrike">
                <a:solidFill>
                  <a:schemeClr val="lt1"/>
                </a:solidFill>
                <a:latin typeface="Arial"/>
                <a:ea typeface="宋体"/>
              </a:endParaRPr>
            </a:p>
          </p:txBody>
        </p:sp>
        <p:sp>
          <p:nvSpPr>
            <p:cNvPr id="166" name="Freeform 83"/>
            <p:cNvSpPr/>
            <p:nvPr/>
          </p:nvSpPr>
          <p:spPr>
            <a:xfrm>
              <a:off x="4518720" y="2269080"/>
              <a:ext cx="296280" cy="273240"/>
            </a:xfrm>
            <a:custGeom>
              <a:avLst/>
              <a:gdLst>
                <a:gd name="textAreaLeft" fmla="*/ 0 w 296280"/>
                <a:gd name="textAreaRight" fmla="*/ 296640 w 296280"/>
                <a:gd name="textAreaTop" fmla="*/ 0 h 273240"/>
                <a:gd name="textAreaBottom" fmla="*/ 273600 h 273240"/>
              </a:gdLst>
              <a:ahLst/>
              <a:rect l="textAreaLeft" t="textAreaTop" r="textAreaRight" b="textAreaBottom"/>
              <a:pathLst>
                <a:path w="1601" h="1563">
                  <a:moveTo>
                    <a:pt x="0" y="64"/>
                  </a:moveTo>
                  <a:lnTo>
                    <a:pt x="0" y="0"/>
                  </a:lnTo>
                  <a:lnTo>
                    <a:pt x="71" y="2"/>
                  </a:lnTo>
                  <a:lnTo>
                    <a:pt x="139" y="5"/>
                  </a:lnTo>
                  <a:lnTo>
                    <a:pt x="202" y="7"/>
                  </a:lnTo>
                  <a:lnTo>
                    <a:pt x="263" y="8"/>
                  </a:lnTo>
                  <a:lnTo>
                    <a:pt x="320" y="10"/>
                  </a:lnTo>
                  <a:lnTo>
                    <a:pt x="373" y="10"/>
                  </a:lnTo>
                  <a:lnTo>
                    <a:pt x="423" y="11"/>
                  </a:lnTo>
                  <a:lnTo>
                    <a:pt x="468" y="11"/>
                  </a:lnTo>
                  <a:lnTo>
                    <a:pt x="494" y="11"/>
                  </a:lnTo>
                  <a:lnTo>
                    <a:pt x="518" y="11"/>
                  </a:lnTo>
                  <a:lnTo>
                    <a:pt x="542" y="11"/>
                  </a:lnTo>
                  <a:lnTo>
                    <a:pt x="566" y="11"/>
                  </a:lnTo>
                  <a:lnTo>
                    <a:pt x="590" y="10"/>
                  </a:lnTo>
                  <a:lnTo>
                    <a:pt x="612" y="10"/>
                  </a:lnTo>
                  <a:lnTo>
                    <a:pt x="636" y="10"/>
                  </a:lnTo>
                  <a:lnTo>
                    <a:pt x="658" y="9"/>
                  </a:lnTo>
                  <a:lnTo>
                    <a:pt x="685" y="8"/>
                  </a:lnTo>
                  <a:lnTo>
                    <a:pt x="712" y="7"/>
                  </a:lnTo>
                  <a:lnTo>
                    <a:pt x="735" y="7"/>
                  </a:lnTo>
                  <a:lnTo>
                    <a:pt x="756" y="6"/>
                  </a:lnTo>
                  <a:lnTo>
                    <a:pt x="775" y="6"/>
                  </a:lnTo>
                  <a:lnTo>
                    <a:pt x="792" y="5"/>
                  </a:lnTo>
                  <a:lnTo>
                    <a:pt x="807" y="5"/>
                  </a:lnTo>
                  <a:lnTo>
                    <a:pt x="820" y="5"/>
                  </a:lnTo>
                  <a:lnTo>
                    <a:pt x="845" y="6"/>
                  </a:lnTo>
                  <a:lnTo>
                    <a:pt x="872" y="7"/>
                  </a:lnTo>
                  <a:lnTo>
                    <a:pt x="896" y="8"/>
                  </a:lnTo>
                  <a:lnTo>
                    <a:pt x="921" y="11"/>
                  </a:lnTo>
                  <a:lnTo>
                    <a:pt x="943" y="14"/>
                  </a:lnTo>
                  <a:lnTo>
                    <a:pt x="966" y="20"/>
                  </a:lnTo>
                  <a:lnTo>
                    <a:pt x="987" y="24"/>
                  </a:lnTo>
                  <a:lnTo>
                    <a:pt x="1007" y="30"/>
                  </a:lnTo>
                  <a:lnTo>
                    <a:pt x="1028" y="37"/>
                  </a:lnTo>
                  <a:lnTo>
                    <a:pt x="1047" y="44"/>
                  </a:lnTo>
                  <a:lnTo>
                    <a:pt x="1065" y="53"/>
                  </a:lnTo>
                  <a:lnTo>
                    <a:pt x="1082" y="62"/>
                  </a:lnTo>
                  <a:lnTo>
                    <a:pt x="1099" y="72"/>
                  </a:lnTo>
                  <a:lnTo>
                    <a:pt x="1114" y="82"/>
                  </a:lnTo>
                  <a:lnTo>
                    <a:pt x="1129" y="94"/>
                  </a:lnTo>
                  <a:lnTo>
                    <a:pt x="1143" y="107"/>
                  </a:lnTo>
                  <a:lnTo>
                    <a:pt x="1156" y="119"/>
                  </a:lnTo>
                  <a:lnTo>
                    <a:pt x="1168" y="133"/>
                  </a:lnTo>
                  <a:lnTo>
                    <a:pt x="1180" y="147"/>
                  </a:lnTo>
                  <a:lnTo>
                    <a:pt x="1191" y="162"/>
                  </a:lnTo>
                  <a:lnTo>
                    <a:pt x="1200" y="178"/>
                  </a:lnTo>
                  <a:lnTo>
                    <a:pt x="1209" y="194"/>
                  </a:lnTo>
                  <a:lnTo>
                    <a:pt x="1217" y="209"/>
                  </a:lnTo>
                  <a:lnTo>
                    <a:pt x="1224" y="226"/>
                  </a:lnTo>
                  <a:lnTo>
                    <a:pt x="1230" y="244"/>
                  </a:lnTo>
                  <a:lnTo>
                    <a:pt x="1236" y="262"/>
                  </a:lnTo>
                  <a:lnTo>
                    <a:pt x="1240" y="282"/>
                  </a:lnTo>
                  <a:lnTo>
                    <a:pt x="1244" y="301"/>
                  </a:lnTo>
                  <a:lnTo>
                    <a:pt x="1247" y="320"/>
                  </a:lnTo>
                  <a:lnTo>
                    <a:pt x="1249" y="341"/>
                  </a:lnTo>
                  <a:lnTo>
                    <a:pt x="1250" y="361"/>
                  </a:lnTo>
                  <a:lnTo>
                    <a:pt x="1251" y="383"/>
                  </a:lnTo>
                  <a:lnTo>
                    <a:pt x="1250" y="412"/>
                  </a:lnTo>
                  <a:lnTo>
                    <a:pt x="1248" y="439"/>
                  </a:lnTo>
                  <a:lnTo>
                    <a:pt x="1244" y="467"/>
                  </a:lnTo>
                  <a:lnTo>
                    <a:pt x="1238" y="492"/>
                  </a:lnTo>
                  <a:lnTo>
                    <a:pt x="1232" y="518"/>
                  </a:lnTo>
                  <a:lnTo>
                    <a:pt x="1224" y="543"/>
                  </a:lnTo>
                  <a:lnTo>
                    <a:pt x="1214" y="567"/>
                  </a:lnTo>
                  <a:lnTo>
                    <a:pt x="1202" y="589"/>
                  </a:lnTo>
                  <a:lnTo>
                    <a:pt x="1189" y="611"/>
                  </a:lnTo>
                  <a:lnTo>
                    <a:pt x="1175" y="632"/>
                  </a:lnTo>
                  <a:lnTo>
                    <a:pt x="1159" y="652"/>
                  </a:lnTo>
                  <a:lnTo>
                    <a:pt x="1142" y="671"/>
                  </a:lnTo>
                  <a:lnTo>
                    <a:pt x="1124" y="691"/>
                  </a:lnTo>
                  <a:lnTo>
                    <a:pt x="1104" y="709"/>
                  </a:lnTo>
                  <a:lnTo>
                    <a:pt x="1083" y="724"/>
                  </a:lnTo>
                  <a:lnTo>
                    <a:pt x="1060" y="740"/>
                  </a:lnTo>
                  <a:lnTo>
                    <a:pt x="1042" y="752"/>
                  </a:lnTo>
                  <a:lnTo>
                    <a:pt x="1023" y="763"/>
                  </a:lnTo>
                  <a:lnTo>
                    <a:pt x="1002" y="772"/>
                  </a:lnTo>
                  <a:lnTo>
                    <a:pt x="979" y="783"/>
                  </a:lnTo>
                  <a:lnTo>
                    <a:pt x="954" y="792"/>
                  </a:lnTo>
                  <a:lnTo>
                    <a:pt x="928" y="801"/>
                  </a:lnTo>
                  <a:lnTo>
                    <a:pt x="899" y="810"/>
                  </a:lnTo>
                  <a:lnTo>
                    <a:pt x="869" y="819"/>
                  </a:lnTo>
                  <a:lnTo>
                    <a:pt x="1235" y="1297"/>
                  </a:lnTo>
                  <a:lnTo>
                    <a:pt x="1266" y="1337"/>
                  </a:lnTo>
                  <a:lnTo>
                    <a:pt x="1291" y="1368"/>
                  </a:lnTo>
                  <a:lnTo>
                    <a:pt x="1309" y="1389"/>
                  </a:lnTo>
                  <a:lnTo>
                    <a:pt x="1321" y="1402"/>
                  </a:lnTo>
                  <a:lnTo>
                    <a:pt x="1336" y="1412"/>
                  </a:lnTo>
                  <a:lnTo>
                    <a:pt x="1353" y="1423"/>
                  </a:lnTo>
                  <a:lnTo>
                    <a:pt x="1372" y="1432"/>
                  </a:lnTo>
                  <a:lnTo>
                    <a:pt x="1393" y="1441"/>
                  </a:lnTo>
                  <a:lnTo>
                    <a:pt x="1410" y="1447"/>
                  </a:lnTo>
                  <a:lnTo>
                    <a:pt x="1429" y="1454"/>
                  </a:lnTo>
                  <a:lnTo>
                    <a:pt x="1451" y="1461"/>
                  </a:lnTo>
                  <a:lnTo>
                    <a:pt x="1476" y="1467"/>
                  </a:lnTo>
                  <a:lnTo>
                    <a:pt x="1503" y="1475"/>
                  </a:lnTo>
                  <a:lnTo>
                    <a:pt x="1533" y="1482"/>
                  </a:lnTo>
                  <a:lnTo>
                    <a:pt x="1566" y="1490"/>
                  </a:lnTo>
                  <a:lnTo>
                    <a:pt x="1601" y="1497"/>
                  </a:lnTo>
                  <a:lnTo>
                    <a:pt x="1601" y="1563"/>
                  </a:lnTo>
                  <a:lnTo>
                    <a:pt x="1559" y="1560"/>
                  </a:lnTo>
                  <a:lnTo>
                    <a:pt x="1520" y="1557"/>
                  </a:lnTo>
                  <a:lnTo>
                    <a:pt x="1484" y="1555"/>
                  </a:lnTo>
                  <a:lnTo>
                    <a:pt x="1451" y="1553"/>
                  </a:lnTo>
                  <a:lnTo>
                    <a:pt x="1421" y="1552"/>
                  </a:lnTo>
                  <a:lnTo>
                    <a:pt x="1393" y="1551"/>
                  </a:lnTo>
                  <a:lnTo>
                    <a:pt x="1369" y="1550"/>
                  </a:lnTo>
                  <a:lnTo>
                    <a:pt x="1347" y="1550"/>
                  </a:lnTo>
                  <a:lnTo>
                    <a:pt x="1325" y="1550"/>
                  </a:lnTo>
                  <a:lnTo>
                    <a:pt x="1302" y="1551"/>
                  </a:lnTo>
                  <a:lnTo>
                    <a:pt x="1279" y="1552"/>
                  </a:lnTo>
                  <a:lnTo>
                    <a:pt x="1255" y="1553"/>
                  </a:lnTo>
                  <a:lnTo>
                    <a:pt x="1232" y="1555"/>
                  </a:lnTo>
                  <a:lnTo>
                    <a:pt x="1209" y="1557"/>
                  </a:lnTo>
                  <a:lnTo>
                    <a:pt x="1184" y="1560"/>
                  </a:lnTo>
                  <a:lnTo>
                    <a:pt x="1161" y="1563"/>
                  </a:lnTo>
                  <a:lnTo>
                    <a:pt x="1147" y="1542"/>
                  </a:lnTo>
                  <a:lnTo>
                    <a:pt x="1133" y="1518"/>
                  </a:lnTo>
                  <a:lnTo>
                    <a:pt x="1119" y="1495"/>
                  </a:lnTo>
                  <a:lnTo>
                    <a:pt x="1103" y="1469"/>
                  </a:lnTo>
                  <a:lnTo>
                    <a:pt x="1085" y="1443"/>
                  </a:lnTo>
                  <a:lnTo>
                    <a:pt x="1067" y="1414"/>
                  </a:lnTo>
                  <a:lnTo>
                    <a:pt x="1047" y="1386"/>
                  </a:lnTo>
                  <a:lnTo>
                    <a:pt x="1027" y="1355"/>
                  </a:lnTo>
                  <a:lnTo>
                    <a:pt x="988" y="1299"/>
                  </a:lnTo>
                  <a:lnTo>
                    <a:pt x="958" y="1255"/>
                  </a:lnTo>
                  <a:lnTo>
                    <a:pt x="936" y="1225"/>
                  </a:lnTo>
                  <a:lnTo>
                    <a:pt x="923" y="1207"/>
                  </a:lnTo>
                  <a:lnTo>
                    <a:pt x="912" y="1193"/>
                  </a:lnTo>
                  <a:lnTo>
                    <a:pt x="903" y="1179"/>
                  </a:lnTo>
                  <a:lnTo>
                    <a:pt x="660" y="846"/>
                  </a:lnTo>
                  <a:lnTo>
                    <a:pt x="636" y="845"/>
                  </a:lnTo>
                  <a:lnTo>
                    <a:pt x="610" y="844"/>
                  </a:lnTo>
                  <a:lnTo>
                    <a:pt x="586" y="843"/>
                  </a:lnTo>
                  <a:lnTo>
                    <a:pt x="562" y="842"/>
                  </a:lnTo>
                  <a:lnTo>
                    <a:pt x="536" y="840"/>
                  </a:lnTo>
                  <a:lnTo>
                    <a:pt x="512" y="838"/>
                  </a:lnTo>
                  <a:lnTo>
                    <a:pt x="486" y="835"/>
                  </a:lnTo>
                  <a:lnTo>
                    <a:pt x="462" y="833"/>
                  </a:lnTo>
                  <a:lnTo>
                    <a:pt x="470" y="1387"/>
                  </a:lnTo>
                  <a:lnTo>
                    <a:pt x="471" y="1395"/>
                  </a:lnTo>
                  <a:lnTo>
                    <a:pt x="473" y="1403"/>
                  </a:lnTo>
                  <a:lnTo>
                    <a:pt x="475" y="1410"/>
                  </a:lnTo>
                  <a:lnTo>
                    <a:pt x="477" y="1416"/>
                  </a:lnTo>
                  <a:lnTo>
                    <a:pt x="479" y="1422"/>
                  </a:lnTo>
                  <a:lnTo>
                    <a:pt x="482" y="1427"/>
                  </a:lnTo>
                  <a:lnTo>
                    <a:pt x="486" y="1432"/>
                  </a:lnTo>
                  <a:lnTo>
                    <a:pt x="491" y="1437"/>
                  </a:lnTo>
                  <a:lnTo>
                    <a:pt x="499" y="1442"/>
                  </a:lnTo>
                  <a:lnTo>
                    <a:pt x="511" y="1448"/>
                  </a:lnTo>
                  <a:lnTo>
                    <a:pt x="526" y="1454"/>
                  </a:lnTo>
                  <a:lnTo>
                    <a:pt x="545" y="1460"/>
                  </a:lnTo>
                  <a:lnTo>
                    <a:pt x="567" y="1465"/>
                  </a:lnTo>
                  <a:lnTo>
                    <a:pt x="593" y="1472"/>
                  </a:lnTo>
                  <a:lnTo>
                    <a:pt x="622" y="1478"/>
                  </a:lnTo>
                  <a:lnTo>
                    <a:pt x="656" y="1484"/>
                  </a:lnTo>
                  <a:lnTo>
                    <a:pt x="666" y="1486"/>
                  </a:lnTo>
                  <a:lnTo>
                    <a:pt x="680" y="1490"/>
                  </a:lnTo>
                  <a:lnTo>
                    <a:pt x="697" y="1493"/>
                  </a:lnTo>
                  <a:lnTo>
                    <a:pt x="716" y="1497"/>
                  </a:lnTo>
                  <a:lnTo>
                    <a:pt x="716" y="1563"/>
                  </a:lnTo>
                  <a:lnTo>
                    <a:pt x="667" y="1560"/>
                  </a:lnTo>
                  <a:lnTo>
                    <a:pt x="620" y="1557"/>
                  </a:lnTo>
                  <a:lnTo>
                    <a:pt x="573" y="1555"/>
                  </a:lnTo>
                  <a:lnTo>
                    <a:pt x="529" y="1553"/>
                  </a:lnTo>
                  <a:lnTo>
                    <a:pt x="485" y="1552"/>
                  </a:lnTo>
                  <a:lnTo>
                    <a:pt x="444" y="1551"/>
                  </a:lnTo>
                  <a:lnTo>
                    <a:pt x="404" y="1550"/>
                  </a:lnTo>
                  <a:lnTo>
                    <a:pt x="365" y="1550"/>
                  </a:lnTo>
                  <a:lnTo>
                    <a:pt x="323" y="1550"/>
                  </a:lnTo>
                  <a:lnTo>
                    <a:pt x="281" y="1551"/>
                  </a:lnTo>
                  <a:lnTo>
                    <a:pt x="237" y="1552"/>
                  </a:lnTo>
                  <a:lnTo>
                    <a:pt x="192" y="1553"/>
                  </a:lnTo>
                  <a:lnTo>
                    <a:pt x="146" y="1555"/>
                  </a:lnTo>
                  <a:lnTo>
                    <a:pt x="99" y="1557"/>
                  </a:lnTo>
                  <a:lnTo>
                    <a:pt x="50" y="1560"/>
                  </a:lnTo>
                  <a:lnTo>
                    <a:pt x="0" y="1563"/>
                  </a:lnTo>
                  <a:lnTo>
                    <a:pt x="0" y="1497"/>
                  </a:lnTo>
                  <a:lnTo>
                    <a:pt x="48" y="1487"/>
                  </a:lnTo>
                  <a:lnTo>
                    <a:pt x="85" y="1480"/>
                  </a:lnTo>
                  <a:lnTo>
                    <a:pt x="118" y="1474"/>
                  </a:lnTo>
                  <a:lnTo>
                    <a:pt x="146" y="1466"/>
                  </a:lnTo>
                  <a:lnTo>
                    <a:pt x="171" y="1460"/>
                  </a:lnTo>
                  <a:lnTo>
                    <a:pt x="192" y="1455"/>
                  </a:lnTo>
                  <a:lnTo>
                    <a:pt x="208" y="1448"/>
                  </a:lnTo>
                  <a:lnTo>
                    <a:pt x="219" y="1444"/>
                  </a:lnTo>
                  <a:lnTo>
                    <a:pt x="227" y="1439"/>
                  </a:lnTo>
                  <a:lnTo>
                    <a:pt x="232" y="1433"/>
                  </a:lnTo>
                  <a:lnTo>
                    <a:pt x="236" y="1427"/>
                  </a:lnTo>
                  <a:lnTo>
                    <a:pt x="240" y="1420"/>
                  </a:lnTo>
                  <a:lnTo>
                    <a:pt x="244" y="1411"/>
                  </a:lnTo>
                  <a:lnTo>
                    <a:pt x="246" y="1403"/>
                  </a:lnTo>
                  <a:lnTo>
                    <a:pt x="248" y="1392"/>
                  </a:lnTo>
                  <a:lnTo>
                    <a:pt x="250" y="1381"/>
                  </a:lnTo>
                  <a:lnTo>
                    <a:pt x="251" y="1370"/>
                  </a:lnTo>
                  <a:lnTo>
                    <a:pt x="252" y="1354"/>
                  </a:lnTo>
                  <a:lnTo>
                    <a:pt x="252" y="1322"/>
                  </a:lnTo>
                  <a:lnTo>
                    <a:pt x="253" y="1276"/>
                  </a:lnTo>
                  <a:lnTo>
                    <a:pt x="254" y="1212"/>
                  </a:lnTo>
                  <a:lnTo>
                    <a:pt x="254" y="1134"/>
                  </a:lnTo>
                  <a:lnTo>
                    <a:pt x="255" y="1039"/>
                  </a:lnTo>
                  <a:lnTo>
                    <a:pt x="256" y="929"/>
                  </a:lnTo>
                  <a:lnTo>
                    <a:pt x="256" y="804"/>
                  </a:lnTo>
                  <a:lnTo>
                    <a:pt x="252" y="286"/>
                  </a:lnTo>
                  <a:lnTo>
                    <a:pt x="251" y="233"/>
                  </a:lnTo>
                  <a:lnTo>
                    <a:pt x="250" y="192"/>
                  </a:lnTo>
                  <a:lnTo>
                    <a:pt x="249" y="164"/>
                  </a:lnTo>
                  <a:lnTo>
                    <a:pt x="247" y="149"/>
                  </a:lnTo>
                  <a:lnTo>
                    <a:pt x="243" y="141"/>
                  </a:lnTo>
                  <a:lnTo>
                    <a:pt x="238" y="134"/>
                  </a:lnTo>
                  <a:lnTo>
                    <a:pt x="232" y="128"/>
                  </a:lnTo>
                  <a:lnTo>
                    <a:pt x="225" y="123"/>
                  </a:lnTo>
                  <a:lnTo>
                    <a:pt x="211" y="116"/>
                  </a:lnTo>
                  <a:lnTo>
                    <a:pt x="194" y="109"/>
                  </a:lnTo>
                  <a:lnTo>
                    <a:pt x="176" y="102"/>
                  </a:lnTo>
                  <a:lnTo>
                    <a:pt x="156" y="96"/>
                  </a:lnTo>
                  <a:lnTo>
                    <a:pt x="133" y="91"/>
                  </a:lnTo>
                  <a:lnTo>
                    <a:pt x="109" y="85"/>
                  </a:lnTo>
                  <a:lnTo>
                    <a:pt x="83" y="80"/>
                  </a:lnTo>
                  <a:lnTo>
                    <a:pt x="54" y="75"/>
                  </a:lnTo>
                  <a:lnTo>
                    <a:pt x="45" y="74"/>
                  </a:lnTo>
                  <a:lnTo>
                    <a:pt x="32" y="71"/>
                  </a:lnTo>
                  <a:lnTo>
                    <a:pt x="17" y="69"/>
                  </a:lnTo>
                  <a:lnTo>
                    <a:pt x="0" y="64"/>
                  </a:lnTo>
                  <a:close/>
                  <a:moveTo>
                    <a:pt x="462" y="738"/>
                  </a:moveTo>
                  <a:lnTo>
                    <a:pt x="490" y="741"/>
                  </a:lnTo>
                  <a:lnTo>
                    <a:pt x="516" y="744"/>
                  </a:lnTo>
                  <a:lnTo>
                    <a:pt x="540" y="746"/>
                  </a:lnTo>
                  <a:lnTo>
                    <a:pt x="564" y="748"/>
                  </a:lnTo>
                  <a:lnTo>
                    <a:pt x="585" y="749"/>
                  </a:lnTo>
                  <a:lnTo>
                    <a:pt x="604" y="750"/>
                  </a:lnTo>
                  <a:lnTo>
                    <a:pt x="622" y="750"/>
                  </a:lnTo>
                  <a:lnTo>
                    <a:pt x="639" y="751"/>
                  </a:lnTo>
                  <a:lnTo>
                    <a:pt x="663" y="750"/>
                  </a:lnTo>
                  <a:lnTo>
                    <a:pt x="688" y="749"/>
                  </a:lnTo>
                  <a:lnTo>
                    <a:pt x="710" y="748"/>
                  </a:lnTo>
                  <a:lnTo>
                    <a:pt x="732" y="745"/>
                  </a:lnTo>
                  <a:lnTo>
                    <a:pt x="754" y="741"/>
                  </a:lnTo>
                  <a:lnTo>
                    <a:pt x="774" y="738"/>
                  </a:lnTo>
                  <a:lnTo>
                    <a:pt x="795" y="734"/>
                  </a:lnTo>
                  <a:lnTo>
                    <a:pt x="814" y="729"/>
                  </a:lnTo>
                  <a:lnTo>
                    <a:pt x="832" y="722"/>
                  </a:lnTo>
                  <a:lnTo>
                    <a:pt x="849" y="716"/>
                  </a:lnTo>
                  <a:lnTo>
                    <a:pt x="866" y="709"/>
                  </a:lnTo>
                  <a:lnTo>
                    <a:pt x="881" y="700"/>
                  </a:lnTo>
                  <a:lnTo>
                    <a:pt x="896" y="692"/>
                  </a:lnTo>
                  <a:lnTo>
                    <a:pt x="910" y="682"/>
                  </a:lnTo>
                  <a:lnTo>
                    <a:pt x="923" y="673"/>
                  </a:lnTo>
                  <a:lnTo>
                    <a:pt x="935" y="662"/>
                  </a:lnTo>
                  <a:lnTo>
                    <a:pt x="947" y="650"/>
                  </a:lnTo>
                  <a:lnTo>
                    <a:pt x="958" y="639"/>
                  </a:lnTo>
                  <a:lnTo>
                    <a:pt x="968" y="626"/>
                  </a:lnTo>
                  <a:lnTo>
                    <a:pt x="978" y="612"/>
                  </a:lnTo>
                  <a:lnTo>
                    <a:pt x="986" y="599"/>
                  </a:lnTo>
                  <a:lnTo>
                    <a:pt x="995" y="585"/>
                  </a:lnTo>
                  <a:lnTo>
                    <a:pt x="1001" y="570"/>
                  </a:lnTo>
                  <a:lnTo>
                    <a:pt x="1007" y="555"/>
                  </a:lnTo>
                  <a:lnTo>
                    <a:pt x="1014" y="539"/>
                  </a:lnTo>
                  <a:lnTo>
                    <a:pt x="1018" y="523"/>
                  </a:lnTo>
                  <a:lnTo>
                    <a:pt x="1022" y="506"/>
                  </a:lnTo>
                  <a:lnTo>
                    <a:pt x="1025" y="488"/>
                  </a:lnTo>
                  <a:lnTo>
                    <a:pt x="1029" y="471"/>
                  </a:lnTo>
                  <a:lnTo>
                    <a:pt x="1031" y="452"/>
                  </a:lnTo>
                  <a:lnTo>
                    <a:pt x="1032" y="433"/>
                  </a:lnTo>
                  <a:lnTo>
                    <a:pt x="1032" y="414"/>
                  </a:lnTo>
                  <a:lnTo>
                    <a:pt x="1032" y="397"/>
                  </a:lnTo>
                  <a:lnTo>
                    <a:pt x="1031" y="380"/>
                  </a:lnTo>
                  <a:lnTo>
                    <a:pt x="1029" y="363"/>
                  </a:lnTo>
                  <a:lnTo>
                    <a:pt x="1027" y="348"/>
                  </a:lnTo>
                  <a:lnTo>
                    <a:pt x="1023" y="332"/>
                  </a:lnTo>
                  <a:lnTo>
                    <a:pt x="1020" y="318"/>
                  </a:lnTo>
                  <a:lnTo>
                    <a:pt x="1016" y="304"/>
                  </a:lnTo>
                  <a:lnTo>
                    <a:pt x="1011" y="289"/>
                  </a:lnTo>
                  <a:lnTo>
                    <a:pt x="1005" y="276"/>
                  </a:lnTo>
                  <a:lnTo>
                    <a:pt x="999" y="262"/>
                  </a:lnTo>
                  <a:lnTo>
                    <a:pt x="992" y="251"/>
                  </a:lnTo>
                  <a:lnTo>
                    <a:pt x="984" y="238"/>
                  </a:lnTo>
                  <a:lnTo>
                    <a:pt x="976" y="226"/>
                  </a:lnTo>
                  <a:lnTo>
                    <a:pt x="966" y="216"/>
                  </a:lnTo>
                  <a:lnTo>
                    <a:pt x="957" y="205"/>
                  </a:lnTo>
                  <a:lnTo>
                    <a:pt x="946" y="195"/>
                  </a:lnTo>
                  <a:lnTo>
                    <a:pt x="935" y="185"/>
                  </a:lnTo>
                  <a:lnTo>
                    <a:pt x="924" y="176"/>
                  </a:lnTo>
                  <a:lnTo>
                    <a:pt x="912" y="167"/>
                  </a:lnTo>
                  <a:lnTo>
                    <a:pt x="899" y="160"/>
                  </a:lnTo>
                  <a:lnTo>
                    <a:pt x="886" y="152"/>
                  </a:lnTo>
                  <a:lnTo>
                    <a:pt x="872" y="146"/>
                  </a:lnTo>
                  <a:lnTo>
                    <a:pt x="857" y="140"/>
                  </a:lnTo>
                  <a:lnTo>
                    <a:pt x="842" y="134"/>
                  </a:lnTo>
                  <a:lnTo>
                    <a:pt x="826" y="130"/>
                  </a:lnTo>
                  <a:lnTo>
                    <a:pt x="809" y="126"/>
                  </a:lnTo>
                  <a:lnTo>
                    <a:pt x="792" y="121"/>
                  </a:lnTo>
                  <a:lnTo>
                    <a:pt x="775" y="119"/>
                  </a:lnTo>
                  <a:lnTo>
                    <a:pt x="756" y="117"/>
                  </a:lnTo>
                  <a:lnTo>
                    <a:pt x="738" y="115"/>
                  </a:lnTo>
                  <a:lnTo>
                    <a:pt x="718" y="114"/>
                  </a:lnTo>
                  <a:lnTo>
                    <a:pt x="698" y="114"/>
                  </a:lnTo>
                  <a:lnTo>
                    <a:pt x="682" y="114"/>
                  </a:lnTo>
                  <a:lnTo>
                    <a:pt x="662" y="115"/>
                  </a:lnTo>
                  <a:lnTo>
                    <a:pt x="639" y="116"/>
                  </a:lnTo>
                  <a:lnTo>
                    <a:pt x="611" y="117"/>
                  </a:lnTo>
                  <a:lnTo>
                    <a:pt x="581" y="119"/>
                  </a:lnTo>
                  <a:lnTo>
                    <a:pt x="547" y="121"/>
                  </a:lnTo>
                  <a:lnTo>
                    <a:pt x="510" y="124"/>
                  </a:lnTo>
                  <a:lnTo>
                    <a:pt x="468" y="127"/>
                  </a:lnTo>
                  <a:lnTo>
                    <a:pt x="462" y="738"/>
                  </a:lnTo>
                  <a:close/>
                </a:path>
              </a:pathLst>
            </a:custGeom>
            <a:gradFill rotWithShape="0">
              <a:gsLst>
                <a:gs pos="80000">
                  <a:srgbClr val="000000"/>
                </a:gs>
                <a:gs pos="100000">
                  <a:srgbClr val="000000"/>
                </a:gs>
              </a:gsLst>
              <a:lin ang="16200000"/>
            </a:gradFill>
            <a:ln w="0">
              <a:noFill/>
            </a:ln>
            <a:effectLst>
              <a:outerShdw blurRad="39960" dir="5400000" dist="23040" rotWithShape="0">
                <a:srgbClr val="000000">
                  <a:alpha val="35000"/>
                </a:srgbClr>
              </a:outerShdw>
            </a:effectLst>
          </p:spPr>
          <p:style>
            <a:lnRef idx="0">
              <a:schemeClr val="accent4"/>
            </a:lnRef>
            <a:fillRef idx="3">
              <a:schemeClr val="accent4"/>
            </a:fillRef>
            <a:effectRef idx="3">
              <a:schemeClr val="accent4"/>
            </a:effectRef>
            <a:fontRef idx="minor"/>
          </p:style>
          <p:txBody>
            <a:bodyPr lIns="90000" rIns="90000" tIns="45000" bIns="45000" anchor="t">
              <a:noAutofit/>
            </a:bodyPr>
            <a:p>
              <a:pPr>
                <a:lnSpc>
                  <a:spcPct val="100000"/>
                </a:lnSpc>
              </a:pPr>
              <a:endParaRPr b="0" lang="en-US" sz="1800" spc="-1" strike="noStrike">
                <a:solidFill>
                  <a:schemeClr val="lt1"/>
                </a:solidFill>
                <a:latin typeface="Arial"/>
                <a:ea typeface="宋体"/>
              </a:endParaRPr>
            </a:p>
          </p:txBody>
        </p:sp>
      </p:grpSp>
      <p:sp>
        <p:nvSpPr>
          <p:cNvPr id="167" name="任意多边形 8"/>
          <p:cNvSpPr/>
          <p:nvPr/>
        </p:nvSpPr>
        <p:spPr>
          <a:xfrm>
            <a:off x="14400" y="639000"/>
            <a:ext cx="6848280" cy="75960"/>
          </a:xfrm>
          <a:custGeom>
            <a:avLst/>
            <a:gdLst>
              <a:gd name="textAreaLeft" fmla="*/ 0 w 6848280"/>
              <a:gd name="textAreaRight" fmla="*/ 6848640 w 6848280"/>
              <a:gd name="textAreaTop" fmla="*/ 0 h 75960"/>
              <a:gd name="textAreaBottom" fmla="*/ 76320 h 75960"/>
            </a:gdLst>
            <a:ahLst/>
            <a:rect l="textAreaLeft" t="textAreaTop" r="textAreaRight" b="textAreaBottom"/>
            <a:pathLst>
              <a:path w="353683" h="635">
                <a:moveTo>
                  <a:pt x="0" y="0"/>
                </a:moveTo>
                <a:lnTo>
                  <a:pt x="353683" y="0"/>
                </a:lnTo>
              </a:path>
            </a:pathLst>
          </a:custGeom>
          <a:noFill/>
          <a:ln>
            <a:solidFill>
              <a:srgbClr val="d79f00"/>
            </a:solidFill>
            <a:round/>
          </a:ln>
          <a:effectLst>
            <a:outerShdw blurRad="39960" dir="5400000" dist="23040" rotWithShape="0">
              <a:srgbClr val="000000">
                <a:alpha val="35000"/>
              </a:srgbClr>
            </a:outerShdw>
          </a:effectLst>
        </p:spPr>
        <p:style>
          <a:lnRef idx="3">
            <a:schemeClr val="accent2"/>
          </a:lnRef>
          <a:fillRef idx="0">
            <a:schemeClr val="accent2"/>
          </a:fillRef>
          <a:effectRef idx="2">
            <a:schemeClr val="accent2"/>
          </a:effectRef>
          <a:fontRef idx="minor"/>
        </p:style>
        <p:txBody>
          <a:bodyPr lIns="90000" rIns="90000" tIns="38160" bIns="38160" anchor="ctr">
            <a:noAutofit/>
          </a:bodyPr>
          <a:p>
            <a:pPr algn="ctr">
              <a:lnSpc>
                <a:spcPct val="100000"/>
              </a:lnSpc>
            </a:pPr>
            <a:endParaRPr b="0" lang="en-US" sz="1800" spc="-1" strike="noStrike">
              <a:solidFill>
                <a:srgbClr val="000000"/>
              </a:solidFill>
              <a:latin typeface="Calibri"/>
              <a:ea typeface="宋体"/>
            </a:endParaRPr>
          </a:p>
        </p:txBody>
      </p:sp>
      <p:grpSp>
        <p:nvGrpSpPr>
          <p:cNvPr id="168" name="Group 85"/>
          <p:cNvGrpSpPr/>
          <p:nvPr/>
        </p:nvGrpSpPr>
        <p:grpSpPr>
          <a:xfrm>
            <a:off x="3436920" y="4598280"/>
            <a:ext cx="75960" cy="4350960"/>
            <a:chOff x="3436920" y="4598280"/>
            <a:chExt cx="75960" cy="4350960"/>
          </a:xfrm>
        </p:grpSpPr>
        <p:sp>
          <p:nvSpPr>
            <p:cNvPr id="169" name="Oval 86"/>
            <p:cNvSpPr/>
            <p:nvPr/>
          </p:nvSpPr>
          <p:spPr>
            <a:xfrm flipV="1">
              <a:off x="3436920" y="4597920"/>
              <a:ext cx="75960" cy="75960"/>
            </a:xfrm>
            <a:prstGeom prst="ellipse">
              <a:avLst/>
            </a:prstGeom>
            <a:solidFill>
              <a:srgbClr val="d79f00"/>
            </a:solidFill>
            <a:ln w="0">
              <a:noFill/>
            </a:ln>
          </p:spPr>
          <p:style>
            <a:lnRef idx="0"/>
            <a:fillRef idx="0"/>
            <a:effectRef idx="0"/>
            <a:fontRef idx="minor"/>
          </p:style>
          <p:txBody>
            <a:bodyPr lIns="90000" rIns="90000" tIns="8640" bIns="8640" anchor="ctr">
              <a:noAutofit/>
            </a:bodyPr>
            <a:p>
              <a:pPr>
                <a:lnSpc>
                  <a:spcPct val="100000"/>
                </a:lnSpc>
              </a:pPr>
              <a:endParaRPr b="0" lang="en-US" sz="1800" spc="-1" strike="noStrike">
                <a:solidFill>
                  <a:srgbClr val="000000"/>
                </a:solidFill>
                <a:latin typeface="Arial"/>
                <a:ea typeface="宋体"/>
              </a:endParaRPr>
            </a:p>
          </p:txBody>
        </p:sp>
        <p:sp>
          <p:nvSpPr>
            <p:cNvPr id="170" name="Oval 87"/>
            <p:cNvSpPr/>
            <p:nvPr/>
          </p:nvSpPr>
          <p:spPr>
            <a:xfrm flipV="1">
              <a:off x="3436920" y="4849560"/>
              <a:ext cx="75960" cy="75960"/>
            </a:xfrm>
            <a:prstGeom prst="ellipse">
              <a:avLst/>
            </a:prstGeom>
            <a:solidFill>
              <a:srgbClr val="d79f00"/>
            </a:solidFill>
            <a:ln w="0">
              <a:noFill/>
            </a:ln>
          </p:spPr>
          <p:style>
            <a:lnRef idx="0"/>
            <a:fillRef idx="0"/>
            <a:effectRef idx="0"/>
            <a:fontRef idx="minor"/>
          </p:style>
          <p:txBody>
            <a:bodyPr lIns="90000" rIns="90000" tIns="8640" bIns="8640" anchor="ctr">
              <a:noAutofit/>
            </a:bodyPr>
            <a:p>
              <a:pPr>
                <a:lnSpc>
                  <a:spcPct val="100000"/>
                </a:lnSpc>
              </a:pPr>
              <a:endParaRPr b="0" lang="en-US" sz="1800" spc="-1" strike="noStrike">
                <a:solidFill>
                  <a:srgbClr val="000000"/>
                </a:solidFill>
                <a:latin typeface="Arial"/>
                <a:ea typeface="宋体"/>
              </a:endParaRPr>
            </a:p>
          </p:txBody>
        </p:sp>
        <p:sp>
          <p:nvSpPr>
            <p:cNvPr id="171" name="Oval 88"/>
            <p:cNvSpPr/>
            <p:nvPr/>
          </p:nvSpPr>
          <p:spPr>
            <a:xfrm flipV="1">
              <a:off x="3436920" y="5100840"/>
              <a:ext cx="75960" cy="75960"/>
            </a:xfrm>
            <a:prstGeom prst="ellipse">
              <a:avLst/>
            </a:prstGeom>
            <a:solidFill>
              <a:srgbClr val="d79f00"/>
            </a:solidFill>
            <a:ln w="0">
              <a:noFill/>
            </a:ln>
          </p:spPr>
          <p:style>
            <a:lnRef idx="0"/>
            <a:fillRef idx="0"/>
            <a:effectRef idx="0"/>
            <a:fontRef idx="minor"/>
          </p:style>
          <p:txBody>
            <a:bodyPr lIns="90000" rIns="90000" tIns="8640" bIns="8640" anchor="ctr">
              <a:noAutofit/>
            </a:bodyPr>
            <a:p>
              <a:pPr>
                <a:lnSpc>
                  <a:spcPct val="100000"/>
                </a:lnSpc>
              </a:pPr>
              <a:endParaRPr b="0" lang="en-US" sz="1800" spc="-1" strike="noStrike">
                <a:solidFill>
                  <a:srgbClr val="000000"/>
                </a:solidFill>
                <a:latin typeface="Arial"/>
                <a:ea typeface="宋体"/>
              </a:endParaRPr>
            </a:p>
          </p:txBody>
        </p:sp>
        <p:sp>
          <p:nvSpPr>
            <p:cNvPr id="172" name="Oval 89"/>
            <p:cNvSpPr/>
            <p:nvPr/>
          </p:nvSpPr>
          <p:spPr>
            <a:xfrm flipV="1">
              <a:off x="3436920" y="5352480"/>
              <a:ext cx="75960" cy="75960"/>
            </a:xfrm>
            <a:prstGeom prst="ellipse">
              <a:avLst/>
            </a:prstGeom>
            <a:solidFill>
              <a:srgbClr val="d79f00"/>
            </a:solidFill>
            <a:ln w="0">
              <a:noFill/>
            </a:ln>
          </p:spPr>
          <p:style>
            <a:lnRef idx="0"/>
            <a:fillRef idx="0"/>
            <a:effectRef idx="0"/>
            <a:fontRef idx="minor"/>
          </p:style>
          <p:txBody>
            <a:bodyPr lIns="90000" rIns="90000" tIns="8640" bIns="8640" anchor="ctr">
              <a:noAutofit/>
            </a:bodyPr>
            <a:p>
              <a:pPr>
                <a:lnSpc>
                  <a:spcPct val="100000"/>
                </a:lnSpc>
              </a:pPr>
              <a:endParaRPr b="0" lang="en-US" sz="1800" spc="-1" strike="noStrike">
                <a:solidFill>
                  <a:srgbClr val="000000"/>
                </a:solidFill>
                <a:latin typeface="Arial"/>
                <a:ea typeface="宋体"/>
              </a:endParaRPr>
            </a:p>
          </p:txBody>
        </p:sp>
        <p:sp>
          <p:nvSpPr>
            <p:cNvPr id="173" name="Oval 90"/>
            <p:cNvSpPr/>
            <p:nvPr/>
          </p:nvSpPr>
          <p:spPr>
            <a:xfrm flipV="1">
              <a:off x="3436920" y="5603760"/>
              <a:ext cx="75960" cy="75960"/>
            </a:xfrm>
            <a:prstGeom prst="ellipse">
              <a:avLst/>
            </a:prstGeom>
            <a:solidFill>
              <a:srgbClr val="d79f00"/>
            </a:solidFill>
            <a:ln w="0">
              <a:noFill/>
            </a:ln>
          </p:spPr>
          <p:style>
            <a:lnRef idx="0"/>
            <a:fillRef idx="0"/>
            <a:effectRef idx="0"/>
            <a:fontRef idx="minor"/>
          </p:style>
          <p:txBody>
            <a:bodyPr lIns="90000" rIns="90000" tIns="8640" bIns="8640" anchor="ctr">
              <a:noAutofit/>
            </a:bodyPr>
            <a:p>
              <a:pPr>
                <a:lnSpc>
                  <a:spcPct val="100000"/>
                </a:lnSpc>
              </a:pPr>
              <a:endParaRPr b="0" lang="en-US" sz="1800" spc="-1" strike="noStrike">
                <a:solidFill>
                  <a:srgbClr val="000000"/>
                </a:solidFill>
                <a:latin typeface="Arial"/>
                <a:ea typeface="宋体"/>
              </a:endParaRPr>
            </a:p>
          </p:txBody>
        </p:sp>
        <p:sp>
          <p:nvSpPr>
            <p:cNvPr id="174" name="Oval 91"/>
            <p:cNvSpPr/>
            <p:nvPr/>
          </p:nvSpPr>
          <p:spPr>
            <a:xfrm flipV="1">
              <a:off x="3436920" y="5855400"/>
              <a:ext cx="75960" cy="75960"/>
            </a:xfrm>
            <a:prstGeom prst="ellipse">
              <a:avLst/>
            </a:prstGeom>
            <a:solidFill>
              <a:srgbClr val="d79f00"/>
            </a:solidFill>
            <a:ln w="0">
              <a:noFill/>
            </a:ln>
          </p:spPr>
          <p:style>
            <a:lnRef idx="0"/>
            <a:fillRef idx="0"/>
            <a:effectRef idx="0"/>
            <a:fontRef idx="minor"/>
          </p:style>
          <p:txBody>
            <a:bodyPr lIns="90000" rIns="90000" tIns="8640" bIns="8640" anchor="ctr">
              <a:noAutofit/>
            </a:bodyPr>
            <a:p>
              <a:pPr>
                <a:lnSpc>
                  <a:spcPct val="100000"/>
                </a:lnSpc>
              </a:pPr>
              <a:endParaRPr b="0" lang="en-US" sz="1800" spc="-1" strike="noStrike">
                <a:solidFill>
                  <a:srgbClr val="000000"/>
                </a:solidFill>
                <a:latin typeface="Arial"/>
                <a:ea typeface="宋体"/>
              </a:endParaRPr>
            </a:p>
          </p:txBody>
        </p:sp>
        <p:sp>
          <p:nvSpPr>
            <p:cNvPr id="175" name="Oval 92"/>
            <p:cNvSpPr/>
            <p:nvPr/>
          </p:nvSpPr>
          <p:spPr>
            <a:xfrm flipV="1">
              <a:off x="3436920" y="6609600"/>
              <a:ext cx="75960" cy="75960"/>
            </a:xfrm>
            <a:prstGeom prst="ellipse">
              <a:avLst/>
            </a:prstGeom>
            <a:solidFill>
              <a:srgbClr val="d79f00"/>
            </a:solidFill>
            <a:ln w="0">
              <a:noFill/>
            </a:ln>
          </p:spPr>
          <p:style>
            <a:lnRef idx="0"/>
            <a:fillRef idx="0"/>
            <a:effectRef idx="0"/>
            <a:fontRef idx="minor"/>
          </p:style>
          <p:txBody>
            <a:bodyPr lIns="90000" rIns="90000" tIns="8640" bIns="8640" anchor="ctr">
              <a:noAutofit/>
            </a:bodyPr>
            <a:p>
              <a:pPr>
                <a:lnSpc>
                  <a:spcPct val="100000"/>
                </a:lnSpc>
              </a:pPr>
              <a:endParaRPr b="0" lang="en-US" sz="1800" spc="-1" strike="noStrike">
                <a:solidFill>
                  <a:srgbClr val="000000"/>
                </a:solidFill>
                <a:latin typeface="Arial"/>
                <a:ea typeface="宋体"/>
              </a:endParaRPr>
            </a:p>
          </p:txBody>
        </p:sp>
        <p:sp>
          <p:nvSpPr>
            <p:cNvPr id="176" name="Oval 93"/>
            <p:cNvSpPr/>
            <p:nvPr/>
          </p:nvSpPr>
          <p:spPr>
            <a:xfrm flipV="1">
              <a:off x="3436920" y="7112880"/>
              <a:ext cx="75960" cy="75960"/>
            </a:xfrm>
            <a:prstGeom prst="ellipse">
              <a:avLst/>
            </a:prstGeom>
            <a:solidFill>
              <a:srgbClr val="d79f00"/>
            </a:solidFill>
            <a:ln w="0">
              <a:noFill/>
            </a:ln>
          </p:spPr>
          <p:style>
            <a:lnRef idx="0"/>
            <a:fillRef idx="0"/>
            <a:effectRef idx="0"/>
            <a:fontRef idx="minor"/>
          </p:style>
          <p:txBody>
            <a:bodyPr lIns="90000" rIns="90000" tIns="8640" bIns="8640" anchor="ctr">
              <a:noAutofit/>
            </a:bodyPr>
            <a:p>
              <a:pPr>
                <a:lnSpc>
                  <a:spcPct val="100000"/>
                </a:lnSpc>
              </a:pPr>
              <a:endParaRPr b="0" lang="en-US" sz="1800" spc="-1" strike="noStrike">
                <a:solidFill>
                  <a:srgbClr val="000000"/>
                </a:solidFill>
                <a:latin typeface="Arial"/>
                <a:ea typeface="宋体"/>
              </a:endParaRPr>
            </a:p>
          </p:txBody>
        </p:sp>
        <p:sp>
          <p:nvSpPr>
            <p:cNvPr id="177" name="Oval 94"/>
            <p:cNvSpPr/>
            <p:nvPr/>
          </p:nvSpPr>
          <p:spPr>
            <a:xfrm flipV="1">
              <a:off x="3436920" y="7615800"/>
              <a:ext cx="75960" cy="75960"/>
            </a:xfrm>
            <a:prstGeom prst="ellipse">
              <a:avLst/>
            </a:prstGeom>
            <a:solidFill>
              <a:srgbClr val="d79f00"/>
            </a:solidFill>
            <a:ln w="0">
              <a:noFill/>
            </a:ln>
          </p:spPr>
          <p:style>
            <a:lnRef idx="0"/>
            <a:fillRef idx="0"/>
            <a:effectRef idx="0"/>
            <a:fontRef idx="minor"/>
          </p:style>
          <p:txBody>
            <a:bodyPr lIns="90000" rIns="90000" tIns="8640" bIns="8640" anchor="ctr">
              <a:noAutofit/>
            </a:bodyPr>
            <a:p>
              <a:pPr>
                <a:lnSpc>
                  <a:spcPct val="100000"/>
                </a:lnSpc>
              </a:pPr>
              <a:endParaRPr b="0" lang="en-US" sz="1800" spc="-1" strike="noStrike">
                <a:solidFill>
                  <a:srgbClr val="000000"/>
                </a:solidFill>
                <a:latin typeface="Arial"/>
                <a:ea typeface="宋体"/>
              </a:endParaRPr>
            </a:p>
          </p:txBody>
        </p:sp>
        <p:sp>
          <p:nvSpPr>
            <p:cNvPr id="178" name="Oval 95"/>
            <p:cNvSpPr/>
            <p:nvPr/>
          </p:nvSpPr>
          <p:spPr>
            <a:xfrm flipV="1">
              <a:off x="3436920" y="8118720"/>
              <a:ext cx="75960" cy="75960"/>
            </a:xfrm>
            <a:prstGeom prst="ellipse">
              <a:avLst/>
            </a:prstGeom>
            <a:solidFill>
              <a:srgbClr val="d79f00"/>
            </a:solidFill>
            <a:ln w="0">
              <a:noFill/>
            </a:ln>
          </p:spPr>
          <p:style>
            <a:lnRef idx="0"/>
            <a:fillRef idx="0"/>
            <a:effectRef idx="0"/>
            <a:fontRef idx="minor"/>
          </p:style>
          <p:txBody>
            <a:bodyPr lIns="90000" rIns="90000" tIns="8640" bIns="8640" anchor="ctr">
              <a:noAutofit/>
            </a:bodyPr>
            <a:p>
              <a:pPr>
                <a:lnSpc>
                  <a:spcPct val="100000"/>
                </a:lnSpc>
              </a:pPr>
              <a:endParaRPr b="0" lang="en-US" sz="1800" spc="-1" strike="noStrike">
                <a:solidFill>
                  <a:srgbClr val="000000"/>
                </a:solidFill>
                <a:latin typeface="Arial"/>
                <a:ea typeface="宋体"/>
              </a:endParaRPr>
            </a:p>
          </p:txBody>
        </p:sp>
        <p:sp>
          <p:nvSpPr>
            <p:cNvPr id="179" name="Oval 96"/>
            <p:cNvSpPr/>
            <p:nvPr/>
          </p:nvSpPr>
          <p:spPr>
            <a:xfrm flipV="1">
              <a:off x="3436920" y="8621640"/>
              <a:ext cx="75960" cy="75960"/>
            </a:xfrm>
            <a:prstGeom prst="ellipse">
              <a:avLst/>
            </a:prstGeom>
            <a:solidFill>
              <a:srgbClr val="d79f00"/>
            </a:solidFill>
            <a:ln w="0">
              <a:noFill/>
            </a:ln>
          </p:spPr>
          <p:style>
            <a:lnRef idx="0"/>
            <a:fillRef idx="0"/>
            <a:effectRef idx="0"/>
            <a:fontRef idx="minor"/>
          </p:style>
          <p:txBody>
            <a:bodyPr lIns="90000" rIns="90000" tIns="8640" bIns="8640" anchor="ctr">
              <a:noAutofit/>
            </a:bodyPr>
            <a:p>
              <a:pPr>
                <a:lnSpc>
                  <a:spcPct val="100000"/>
                </a:lnSpc>
              </a:pPr>
              <a:endParaRPr b="0" lang="en-US" sz="1800" spc="-1" strike="noStrike">
                <a:solidFill>
                  <a:srgbClr val="000000"/>
                </a:solidFill>
                <a:latin typeface="Arial"/>
                <a:ea typeface="宋体"/>
              </a:endParaRPr>
            </a:p>
          </p:txBody>
        </p:sp>
        <p:sp>
          <p:nvSpPr>
            <p:cNvPr id="180" name="Oval 97"/>
            <p:cNvSpPr/>
            <p:nvPr/>
          </p:nvSpPr>
          <p:spPr>
            <a:xfrm flipV="1">
              <a:off x="3436920" y="8872920"/>
              <a:ext cx="75960" cy="75960"/>
            </a:xfrm>
            <a:prstGeom prst="ellipse">
              <a:avLst/>
            </a:prstGeom>
            <a:solidFill>
              <a:srgbClr val="d79f00"/>
            </a:solidFill>
            <a:ln w="0">
              <a:noFill/>
            </a:ln>
          </p:spPr>
          <p:style>
            <a:lnRef idx="0"/>
            <a:fillRef idx="0"/>
            <a:effectRef idx="0"/>
            <a:fontRef idx="minor"/>
          </p:style>
          <p:txBody>
            <a:bodyPr lIns="90000" rIns="90000" tIns="8640" bIns="8640" anchor="ctr">
              <a:noAutofit/>
            </a:bodyPr>
            <a:p>
              <a:pPr>
                <a:lnSpc>
                  <a:spcPct val="100000"/>
                </a:lnSpc>
              </a:pPr>
              <a:endParaRPr b="0" lang="en-US" sz="1800" spc="-1" strike="noStrike">
                <a:solidFill>
                  <a:srgbClr val="000000"/>
                </a:solidFill>
                <a:latin typeface="Arial"/>
                <a:ea typeface="宋体"/>
              </a:endParaRPr>
            </a:p>
          </p:txBody>
        </p:sp>
        <p:sp>
          <p:nvSpPr>
            <p:cNvPr id="181" name="Oval 98"/>
            <p:cNvSpPr/>
            <p:nvPr/>
          </p:nvSpPr>
          <p:spPr>
            <a:xfrm flipV="1">
              <a:off x="3436920" y="6106680"/>
              <a:ext cx="75960" cy="75960"/>
            </a:xfrm>
            <a:prstGeom prst="ellipse">
              <a:avLst/>
            </a:prstGeom>
            <a:solidFill>
              <a:srgbClr val="d79f00"/>
            </a:solidFill>
            <a:ln w="0">
              <a:noFill/>
            </a:ln>
          </p:spPr>
          <p:style>
            <a:lnRef idx="0"/>
            <a:fillRef idx="0"/>
            <a:effectRef idx="0"/>
            <a:fontRef idx="minor"/>
          </p:style>
          <p:txBody>
            <a:bodyPr lIns="90000" rIns="90000" tIns="8640" bIns="8640" anchor="ctr">
              <a:noAutofit/>
            </a:bodyPr>
            <a:p>
              <a:pPr>
                <a:lnSpc>
                  <a:spcPct val="100000"/>
                </a:lnSpc>
              </a:pPr>
              <a:endParaRPr b="0" lang="en-US" sz="1800" spc="-1" strike="noStrike">
                <a:solidFill>
                  <a:srgbClr val="000000"/>
                </a:solidFill>
                <a:latin typeface="Arial"/>
                <a:ea typeface="宋体"/>
              </a:endParaRPr>
            </a:p>
          </p:txBody>
        </p:sp>
        <p:sp>
          <p:nvSpPr>
            <p:cNvPr id="182" name="Oval 99"/>
            <p:cNvSpPr/>
            <p:nvPr/>
          </p:nvSpPr>
          <p:spPr>
            <a:xfrm flipV="1">
              <a:off x="3436920" y="6358320"/>
              <a:ext cx="75960" cy="75960"/>
            </a:xfrm>
            <a:prstGeom prst="ellipse">
              <a:avLst/>
            </a:prstGeom>
            <a:solidFill>
              <a:srgbClr val="d79f00"/>
            </a:solidFill>
            <a:ln w="0">
              <a:noFill/>
            </a:ln>
          </p:spPr>
          <p:style>
            <a:lnRef idx="0"/>
            <a:fillRef idx="0"/>
            <a:effectRef idx="0"/>
            <a:fontRef idx="minor"/>
          </p:style>
          <p:txBody>
            <a:bodyPr lIns="90000" rIns="90000" tIns="8640" bIns="8640" anchor="ctr">
              <a:noAutofit/>
            </a:bodyPr>
            <a:p>
              <a:pPr>
                <a:lnSpc>
                  <a:spcPct val="100000"/>
                </a:lnSpc>
              </a:pPr>
              <a:endParaRPr b="0" lang="en-US" sz="1800" spc="-1" strike="noStrike">
                <a:solidFill>
                  <a:srgbClr val="000000"/>
                </a:solidFill>
                <a:latin typeface="Arial"/>
                <a:ea typeface="宋体"/>
              </a:endParaRPr>
            </a:p>
          </p:txBody>
        </p:sp>
        <p:sp>
          <p:nvSpPr>
            <p:cNvPr id="183" name="Oval 100"/>
            <p:cNvSpPr/>
            <p:nvPr/>
          </p:nvSpPr>
          <p:spPr>
            <a:xfrm flipV="1">
              <a:off x="3436920" y="6861240"/>
              <a:ext cx="75960" cy="75960"/>
            </a:xfrm>
            <a:prstGeom prst="ellipse">
              <a:avLst/>
            </a:prstGeom>
            <a:solidFill>
              <a:srgbClr val="d79f00"/>
            </a:solidFill>
            <a:ln w="0">
              <a:noFill/>
            </a:ln>
          </p:spPr>
          <p:style>
            <a:lnRef idx="0"/>
            <a:fillRef idx="0"/>
            <a:effectRef idx="0"/>
            <a:fontRef idx="minor"/>
          </p:style>
          <p:txBody>
            <a:bodyPr lIns="90000" rIns="90000" tIns="8640" bIns="8640" anchor="ctr">
              <a:noAutofit/>
            </a:bodyPr>
            <a:p>
              <a:pPr>
                <a:lnSpc>
                  <a:spcPct val="100000"/>
                </a:lnSpc>
              </a:pPr>
              <a:endParaRPr b="0" lang="en-US" sz="1800" spc="-1" strike="noStrike">
                <a:solidFill>
                  <a:srgbClr val="000000"/>
                </a:solidFill>
                <a:latin typeface="Arial"/>
                <a:ea typeface="宋体"/>
              </a:endParaRPr>
            </a:p>
          </p:txBody>
        </p:sp>
        <p:sp>
          <p:nvSpPr>
            <p:cNvPr id="184" name="Oval 101"/>
            <p:cNvSpPr/>
            <p:nvPr/>
          </p:nvSpPr>
          <p:spPr>
            <a:xfrm flipV="1">
              <a:off x="3436920" y="7364160"/>
              <a:ext cx="75960" cy="75960"/>
            </a:xfrm>
            <a:prstGeom prst="ellipse">
              <a:avLst/>
            </a:prstGeom>
            <a:solidFill>
              <a:srgbClr val="d79f00"/>
            </a:solidFill>
            <a:ln w="0">
              <a:noFill/>
            </a:ln>
          </p:spPr>
          <p:style>
            <a:lnRef idx="0"/>
            <a:fillRef idx="0"/>
            <a:effectRef idx="0"/>
            <a:fontRef idx="minor"/>
          </p:style>
          <p:txBody>
            <a:bodyPr lIns="90000" rIns="90000" tIns="8640" bIns="8640" anchor="ctr">
              <a:noAutofit/>
            </a:bodyPr>
            <a:p>
              <a:pPr>
                <a:lnSpc>
                  <a:spcPct val="100000"/>
                </a:lnSpc>
              </a:pPr>
              <a:endParaRPr b="0" lang="en-US" sz="1800" spc="-1" strike="noStrike">
                <a:solidFill>
                  <a:srgbClr val="000000"/>
                </a:solidFill>
                <a:latin typeface="Arial"/>
                <a:ea typeface="宋体"/>
              </a:endParaRPr>
            </a:p>
          </p:txBody>
        </p:sp>
        <p:sp>
          <p:nvSpPr>
            <p:cNvPr id="185" name="Oval 102"/>
            <p:cNvSpPr/>
            <p:nvPr/>
          </p:nvSpPr>
          <p:spPr>
            <a:xfrm flipV="1">
              <a:off x="3436920" y="7867080"/>
              <a:ext cx="75960" cy="75960"/>
            </a:xfrm>
            <a:prstGeom prst="ellipse">
              <a:avLst/>
            </a:prstGeom>
            <a:solidFill>
              <a:srgbClr val="d79f00"/>
            </a:solidFill>
            <a:ln w="0">
              <a:noFill/>
            </a:ln>
          </p:spPr>
          <p:style>
            <a:lnRef idx="0"/>
            <a:fillRef idx="0"/>
            <a:effectRef idx="0"/>
            <a:fontRef idx="minor"/>
          </p:style>
          <p:txBody>
            <a:bodyPr lIns="90000" rIns="90000" tIns="8640" bIns="8640" anchor="ctr">
              <a:noAutofit/>
            </a:bodyPr>
            <a:p>
              <a:pPr>
                <a:lnSpc>
                  <a:spcPct val="100000"/>
                </a:lnSpc>
              </a:pPr>
              <a:endParaRPr b="0" lang="en-US" sz="1800" spc="-1" strike="noStrike">
                <a:solidFill>
                  <a:srgbClr val="000000"/>
                </a:solidFill>
                <a:latin typeface="Arial"/>
                <a:ea typeface="宋体"/>
              </a:endParaRPr>
            </a:p>
          </p:txBody>
        </p:sp>
        <p:sp>
          <p:nvSpPr>
            <p:cNvPr id="186" name="Oval 103"/>
            <p:cNvSpPr/>
            <p:nvPr/>
          </p:nvSpPr>
          <p:spPr>
            <a:xfrm flipV="1">
              <a:off x="3436920" y="8370000"/>
              <a:ext cx="75960" cy="75960"/>
            </a:xfrm>
            <a:prstGeom prst="ellipse">
              <a:avLst/>
            </a:prstGeom>
            <a:solidFill>
              <a:srgbClr val="d79f00"/>
            </a:solidFill>
            <a:ln w="0">
              <a:noFill/>
            </a:ln>
          </p:spPr>
          <p:style>
            <a:lnRef idx="0"/>
            <a:fillRef idx="0"/>
            <a:effectRef idx="0"/>
            <a:fontRef idx="minor"/>
          </p:style>
          <p:txBody>
            <a:bodyPr lIns="90000" rIns="90000" tIns="8640" bIns="8640" anchor="ctr">
              <a:noAutofit/>
            </a:bodyPr>
            <a:p>
              <a:pPr>
                <a:lnSpc>
                  <a:spcPct val="100000"/>
                </a:lnSpc>
              </a:pPr>
              <a:endParaRPr b="0" lang="en-US" sz="1800" spc="-1" strike="noStrike">
                <a:solidFill>
                  <a:srgbClr val="000000"/>
                </a:solidFill>
                <a:latin typeface="Arial"/>
                <a:ea typeface="宋体"/>
              </a:endParaRPr>
            </a:p>
          </p:txBody>
        </p:sp>
      </p:grpSp>
    </p:spTree>
  </p:cSld>
  <p:transition spd="slow" advTm="5000">
    <p:push dir="u"/>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152"/>
                                        </p:tgtEl>
                                        <p:attrNameLst>
                                          <p:attrName>style.visibility</p:attrName>
                                        </p:attrNameLst>
                                      </p:cBhvr>
                                      <p:to>
                                        <p:strVal val="visible"/>
                                      </p:to>
                                    </p:set>
                                    <p:animEffect filter="fade" transition="in">
                                      <p:cBhvr additive="repl">
                                        <p:cTn id="7" dur="500"/>
                                        <p:tgtEl>
                                          <p:spTgt spid="152"/>
                                        </p:tgtEl>
                                      </p:cBhvr>
                                    </p:animEffect>
                                  </p:childTnLst>
                                </p:cTn>
                              </p:par>
                              <p:par>
                                <p:cTn id="8" nodeType="withEffect" fill="hold" presetClass="entr" presetID="45" repeatCount="indefinite">
                                  <p:stCondLst>
                                    <p:cond delay="0"/>
                                  </p:stCondLst>
                                  <p:childTnLst>
                                    <p:set>
                                      <p:cBhvr>
                                        <p:cTn id="9" dur="1" fill="hold">
                                          <p:stCondLst>
                                            <p:cond delay="0"/>
                                          </p:stCondLst>
                                        </p:cTn>
                                        <p:tgtEl>
                                          <p:spTgt spid="168"/>
                                        </p:tgtEl>
                                        <p:attrNameLst>
                                          <p:attrName>style.visibility</p:attrName>
                                        </p:attrNameLst>
                                      </p:cBhvr>
                                      <p:to>
                                        <p:strVal val="visible"/>
                                      </p:to>
                                    </p:set>
                                    <p:animEffect filter="fade" transition="in">
                                      <p:cBhvr additive="repl">
                                        <p:cTn id="10" dur="2000"/>
                                        <p:tgtEl>
                                          <p:spTgt spid="168"/>
                                        </p:tgtEl>
                                      </p:cBhvr>
                                    </p:animEffect>
                                    <p:anim calcmode="lin" valueType="num">
                                      <p:cBhvr additive="repl">
                                        <p:cTn id="11" dur="2000" fill="hold"/>
                                        <p:tgtEl>
                                          <p:spTgt spid="168"/>
                                        </p:tgtEl>
                                        <p:attrNameLst>
                                          <p:attrName>ppt_w</p:attrName>
                                        </p:attrNameLst>
                                      </p:cBhvr>
                                      <p:tavLst>
                                        <p:tav fmla="width*sin(2.5*pi*$)" tm="0">
                                          <p:val>
                                            <p:fltVal val="0"/>
                                          </p:val>
                                        </p:tav>
                                        <p:tav fmla="width*sin(2.5*pi*$)" tm="100000">
                                          <p:val>
                                            <p:fltVal val="1"/>
                                          </p:val>
                                        </p:tav>
                                      </p:tavLst>
                                    </p:anim>
                                    <p:anim calcmode="lin" valueType="num">
                                      <p:cBhvr additive="repl">
                                        <p:cTn id="12" dur="2000" fill="hold"/>
                                        <p:tgtEl>
                                          <p:spTgt spid="168"/>
                                        </p:tgtEl>
                                        <p:attrNameLst>
                                          <p:attrName>ppt_h</p:attrName>
                                        </p:attrNameLst>
                                      </p:cBhvr>
                                      <p:tavLst>
                                        <p:tav tm="0">
                                          <p:val>
                                            <p:strVal val="#ppt_h"/>
                                          </p:val>
                                        </p:tav>
                                        <p:tav tm="100000">
                                          <p:val>
                                            <p:strVal val="#ppt_h"/>
                                          </p:val>
                                        </p:tav>
                                      </p:tavLst>
                                    </p:anim>
                                  </p:childTnLst>
                                </p:cTn>
                              </p:par>
                              <p:par>
                                <p:cTn id="13" nodeType="withEffect" fill="hold" presetClass="entr" presetID="22" presetSubtype="8">
                                  <p:stCondLst>
                                    <p:cond delay="2000"/>
                                  </p:stCondLst>
                                  <p:childTnLst>
                                    <p:set>
                                      <p:cBhvr>
                                        <p:cTn id="14" dur="1" fill="hold">
                                          <p:stCondLst>
                                            <p:cond delay="0"/>
                                          </p:stCondLst>
                                        </p:cTn>
                                        <p:tgtEl>
                                          <p:spTgt spid="167"/>
                                        </p:tgtEl>
                                        <p:attrNameLst>
                                          <p:attrName>style.visibility</p:attrName>
                                        </p:attrNameLst>
                                      </p:cBhvr>
                                      <p:to>
                                        <p:strVal val="visible"/>
                                      </p:to>
                                    </p:set>
                                    <p:animEffect filter="wipe(left)" transition="in">
                                      <p:cBhvr additive="repl">
                                        <p:cTn id="15" dur="2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0" y="-20520"/>
            <a:ext cx="6857640" cy="9913680"/>
          </a:xfrm>
          <a:prstGeom prst="rect">
            <a:avLst/>
          </a:prstGeom>
          <a:solidFill>
            <a:srgbClr val="d79f00"/>
          </a:solidFill>
          <a:ln w="0">
            <a:solidFill>
              <a:srgbClr val="fcdb00"/>
            </a:solidFill>
          </a:ln>
        </p:spPr>
        <p:style>
          <a:lnRef idx="0"/>
          <a:fillRef idx="0"/>
          <a:effectRef idx="0"/>
          <a:fontRef idx="minor"/>
        </p:style>
        <p:txBody>
          <a:bodyPr lIns="90000" rIns="90000" tIns="45000" bIns="45000" anchor="ctr">
            <a:noAutofit/>
          </a:bodyPr>
          <a:p>
            <a:pPr>
              <a:lnSpc>
                <a:spcPct val="100000"/>
              </a:lnSpc>
            </a:pPr>
            <a:endParaRPr b="0" lang="en-US" sz="1800" spc="-1" strike="noStrike">
              <a:solidFill>
                <a:srgbClr val="000000"/>
              </a:solidFill>
              <a:latin typeface="Arial"/>
              <a:ea typeface="宋体"/>
            </a:endParaRPr>
          </a:p>
        </p:txBody>
      </p:sp>
      <p:pic>
        <p:nvPicPr>
          <p:cNvPr id="188" name="图片 19" descr="235020-12122013522042.jpg"/>
          <p:cNvPicPr/>
          <p:nvPr/>
        </p:nvPicPr>
        <p:blipFill>
          <a:blip r:embed="rId1"/>
          <a:stretch/>
        </p:blipFill>
        <p:spPr>
          <a:xfrm flipH="1">
            <a:off x="360" y="-20520"/>
            <a:ext cx="3134880" cy="9925920"/>
          </a:xfrm>
          <a:prstGeom prst="rect">
            <a:avLst/>
          </a:prstGeom>
          <a:ln w="0">
            <a:noFill/>
          </a:ln>
        </p:spPr>
      </p:pic>
      <p:sp>
        <p:nvSpPr>
          <p:cNvPr id="189" name="任意多边形 8"/>
          <p:cNvSpPr/>
          <p:nvPr/>
        </p:nvSpPr>
        <p:spPr>
          <a:xfrm>
            <a:off x="0" y="577800"/>
            <a:ext cx="3134880" cy="45360"/>
          </a:xfrm>
          <a:custGeom>
            <a:avLst/>
            <a:gdLst>
              <a:gd name="textAreaLeft" fmla="*/ 0 w 3134880"/>
              <a:gd name="textAreaRight" fmla="*/ 3135240 w 3134880"/>
              <a:gd name="textAreaTop" fmla="*/ 0 h 45360"/>
              <a:gd name="textAreaBottom" fmla="*/ 45720 h 45360"/>
            </a:gdLst>
            <a:ahLst/>
            <a:rect l="textAreaLeft" t="textAreaTop" r="textAreaRight" b="textAreaBottom"/>
            <a:pathLst>
              <a:path w="353683" h="635">
                <a:moveTo>
                  <a:pt x="0" y="0"/>
                </a:moveTo>
                <a:lnTo>
                  <a:pt x="353683" y="0"/>
                </a:lnTo>
              </a:path>
            </a:pathLst>
          </a:custGeom>
          <a:solidFill>
            <a:schemeClr val="tx1"/>
          </a:solidFill>
          <a:ln w="38100">
            <a:solidFill>
              <a:srgbClr val="000000"/>
            </a:solidFill>
            <a:miter/>
          </a:ln>
        </p:spPr>
        <p:style>
          <a:lnRef idx="0"/>
          <a:fillRef idx="0"/>
          <a:effectRef idx="0"/>
          <a:fontRef idx="minor"/>
        </p:style>
        <p:txBody>
          <a:bodyPr lIns="90000" rIns="90000" tIns="22680" bIns="22680" anchor="ctr">
            <a:noAutofit/>
          </a:bodyPr>
          <a:p>
            <a:pPr algn="ctr">
              <a:lnSpc>
                <a:spcPct val="100000"/>
              </a:lnSpc>
            </a:pPr>
            <a:endParaRPr b="0" lang="en-US" sz="1800" spc="-1" strike="noStrike">
              <a:solidFill>
                <a:srgbClr val="000000"/>
              </a:solidFill>
              <a:latin typeface="Calibri"/>
              <a:ea typeface="宋体"/>
            </a:endParaRPr>
          </a:p>
        </p:txBody>
      </p:sp>
      <p:sp>
        <p:nvSpPr>
          <p:cNvPr id="190" name="任意多边形 8"/>
          <p:cNvSpPr/>
          <p:nvPr/>
        </p:nvSpPr>
        <p:spPr>
          <a:xfrm rot="5400000">
            <a:off x="2099160" y="1533600"/>
            <a:ext cx="1999800" cy="75960"/>
          </a:xfrm>
          <a:custGeom>
            <a:avLst/>
            <a:gdLst>
              <a:gd name="textAreaLeft" fmla="*/ 0 w 1999800"/>
              <a:gd name="textAreaRight" fmla="*/ 2000160 w 1999800"/>
              <a:gd name="textAreaTop" fmla="*/ 0 h 75960"/>
              <a:gd name="textAreaBottom" fmla="*/ 76320 h 75960"/>
            </a:gdLst>
            <a:ahLst/>
            <a:rect l="textAreaLeft" t="textAreaTop" r="textAreaRight" b="textAreaBottom"/>
            <a:pathLst>
              <a:path w="353683" h="635">
                <a:moveTo>
                  <a:pt x="0" y="0"/>
                </a:moveTo>
                <a:lnTo>
                  <a:pt x="353683" y="0"/>
                </a:lnTo>
              </a:path>
            </a:pathLst>
          </a:custGeom>
          <a:solidFill>
            <a:schemeClr val="tx1"/>
          </a:solidFill>
          <a:ln w="38100">
            <a:solidFill>
              <a:srgbClr val="000000"/>
            </a:solidFill>
            <a:miter/>
          </a:ln>
        </p:spPr>
        <p:style>
          <a:lnRef idx="0"/>
          <a:fillRef idx="0"/>
          <a:effectRef idx="0"/>
          <a:fontRef idx="minor"/>
        </p:style>
        <p:txBody>
          <a:bodyPr lIns="90000" rIns="90000" tIns="38160" bIns="38160" anchor="ctr">
            <a:noAutofit/>
          </a:bodyPr>
          <a:p>
            <a:pPr algn="ctr">
              <a:lnSpc>
                <a:spcPct val="100000"/>
              </a:lnSpc>
            </a:pPr>
            <a:endParaRPr b="0" lang="en-US" sz="1800" spc="-1" strike="noStrike">
              <a:solidFill>
                <a:srgbClr val="000000"/>
              </a:solidFill>
              <a:latin typeface="Calibri"/>
              <a:ea typeface="宋体"/>
            </a:endParaRPr>
          </a:p>
        </p:txBody>
      </p:sp>
      <p:sp>
        <p:nvSpPr>
          <p:cNvPr id="191" name="Text Box 5"/>
          <p:cNvSpPr/>
          <p:nvPr/>
        </p:nvSpPr>
        <p:spPr>
          <a:xfrm>
            <a:off x="4211640" y="2095560"/>
            <a:ext cx="65664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3200" spc="-1" strike="noStrike" cap="all">
                <a:solidFill>
                  <a:schemeClr val="accent4"/>
                </a:solidFill>
                <a:latin typeface="Arial"/>
                <a:ea typeface="微软雅黑"/>
              </a:rPr>
              <a:t>【金领咨询】简介</a:t>
            </a:r>
            <a:endParaRPr b="0" lang="en-US" sz="3200" spc="-1" strike="noStrike">
              <a:solidFill>
                <a:srgbClr val="000000"/>
              </a:solidFill>
              <a:latin typeface="Arial"/>
            </a:endParaRPr>
          </a:p>
        </p:txBody>
      </p:sp>
      <p:sp>
        <p:nvSpPr>
          <p:cNvPr id="192" name="Text Box 6"/>
          <p:cNvSpPr/>
          <p:nvPr/>
        </p:nvSpPr>
        <p:spPr>
          <a:xfrm>
            <a:off x="3179880" y="3114720"/>
            <a:ext cx="2914920" cy="1141200"/>
          </a:xfrm>
          <a:prstGeom prst="rect">
            <a:avLst/>
          </a:prstGeom>
          <a:noFill/>
          <a:ln w="0">
            <a:noFill/>
          </a:ln>
        </p:spPr>
        <p:style>
          <a:lnRef idx="0"/>
          <a:fillRef idx="0"/>
          <a:effectRef idx="0"/>
          <a:fontRef idx="minor"/>
        </p:style>
        <p:txBody>
          <a:bodyPr numCol="1" spcCol="360000" lIns="90000" rIns="90000" tIns="45000" bIns="45000" anchor="t">
            <a:spAutoFit/>
          </a:bodyPr>
          <a:p>
            <a:pPr algn="just">
              <a:lnSpc>
                <a:spcPct val="100000"/>
              </a:lnSpc>
              <a:spcBef>
                <a:spcPts val="601"/>
              </a:spcBef>
              <a:tabLst>
                <a:tab algn="l" pos="0"/>
              </a:tabLst>
            </a:pPr>
            <a:r>
              <a:rPr b="0" lang="zh-CN" sz="2000" spc="-1" strike="noStrike">
                <a:solidFill>
                  <a:srgbClr val="000000"/>
                </a:solidFill>
                <a:latin typeface="微软雅黑"/>
                <a:ea typeface="微软雅黑"/>
              </a:rPr>
              <a:t>珠</a:t>
            </a:r>
            <a:r>
              <a:rPr b="0" lang="zh-CN" sz="1300" spc="-1" strike="noStrike">
                <a:solidFill>
                  <a:srgbClr val="000000"/>
                </a:solidFill>
                <a:latin typeface="微软雅黑"/>
                <a:ea typeface="微软雅黑"/>
              </a:rPr>
              <a:t>海金领企业管理咨询有限公司（简称“金领咨询”）是一家专业从事高端猎头、企业培训、企业管理咨询、人事外包、劳务输出、劳务派遣、就业指导及学历教育的综合性人力资源服务机构。</a:t>
            </a:r>
            <a:endParaRPr b="0" lang="en-US" sz="1300" spc="-1" strike="noStrike">
              <a:solidFill>
                <a:srgbClr val="000000"/>
              </a:solidFill>
              <a:latin typeface="Arial"/>
            </a:endParaRPr>
          </a:p>
          <a:p>
            <a:pPr algn="just">
              <a:lnSpc>
                <a:spcPct val="100000"/>
              </a:lnSpc>
              <a:spcBef>
                <a:spcPts val="601"/>
              </a:spcBef>
              <a:tabLst>
                <a:tab algn="l" pos="0"/>
              </a:tabLst>
            </a:pPr>
            <a:r>
              <a:rPr b="0" lang="zh-CN" sz="1300" spc="-1" strike="noStrike">
                <a:solidFill>
                  <a:srgbClr val="000000"/>
                </a:solidFill>
                <a:latin typeface="微软雅黑"/>
                <a:ea typeface="微软雅黑"/>
              </a:rPr>
              <a:t>公司拥有一批来自深圳、广州及珠海的企业高级职业经理人和资深管理顾问及庞大的人才资源库，能为企业提供人力资源一站式、整体解决方案。</a:t>
            </a:r>
            <a:endParaRPr b="0" lang="en-US" sz="1300" spc="-1" strike="noStrike">
              <a:solidFill>
                <a:srgbClr val="000000"/>
              </a:solidFill>
              <a:latin typeface="Arial"/>
            </a:endParaRPr>
          </a:p>
          <a:p>
            <a:pPr algn="just">
              <a:lnSpc>
                <a:spcPct val="100000"/>
              </a:lnSpc>
              <a:spcBef>
                <a:spcPts val="601"/>
              </a:spcBef>
              <a:tabLst>
                <a:tab algn="l" pos="0"/>
              </a:tabLst>
            </a:pPr>
            <a:r>
              <a:rPr b="0" lang="zh-CN" sz="1300" spc="-1" strike="noStrike">
                <a:solidFill>
                  <a:srgbClr val="000000"/>
                </a:solidFill>
                <a:latin typeface="微软雅黑"/>
                <a:ea typeface="微软雅黑"/>
              </a:rPr>
              <a:t>主要业务包括焦点型中高级人才猎头服务及岗位测评、胜任力模型建立；外包型咨询式培训、管理外包型咨询、管理咨询服务等，旨在以专业的管理知识、实战经验为客户提供实效性服务。自成立以来，即整合公司所有资源，立足于中国国情，融会东、西方管理理念、管理技术和管理经验，致力于中国现代企业发展战略、人力资源管理与开发等专业领域的实务研究。为企业提供综合、系统、有效的人力资源管理服务。金领咨询拥有企业战略规划、人力资源规划、人才配置、人力资源实务管理、培训研发等领域权威的实战型咨询专家。服务的客户广泛涉及房地产、建材、服装零售、家电、快速消费、电子制造业、电力、</a:t>
            </a:r>
            <a:r>
              <a:rPr b="0" lang="en-US" sz="1300" spc="-1" strike="noStrike">
                <a:solidFill>
                  <a:srgbClr val="000000"/>
                </a:solidFill>
                <a:latin typeface="微软雅黑"/>
                <a:ea typeface="微软雅黑"/>
              </a:rPr>
              <a:t>IT</a:t>
            </a:r>
            <a:r>
              <a:rPr b="0" lang="zh-CN" sz="1300" spc="-1" strike="noStrike">
                <a:solidFill>
                  <a:srgbClr val="000000"/>
                </a:solidFill>
                <a:latin typeface="微软雅黑"/>
                <a:ea typeface="微软雅黑"/>
              </a:rPr>
              <a:t>通信、化工等诸多行业和政府机构。</a:t>
            </a:r>
            <a:endParaRPr b="0" lang="en-US" sz="1300" spc="-1" strike="noStrike">
              <a:solidFill>
                <a:srgbClr val="000000"/>
              </a:solidFill>
              <a:latin typeface="Arial"/>
            </a:endParaRPr>
          </a:p>
        </p:txBody>
      </p:sp>
      <p:sp>
        <p:nvSpPr>
          <p:cNvPr id="193" name="Text Box 7"/>
          <p:cNvSpPr/>
          <p:nvPr/>
        </p:nvSpPr>
        <p:spPr>
          <a:xfrm>
            <a:off x="3323520" y="1698480"/>
            <a:ext cx="2598120" cy="4705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500" spc="-1" strike="noStrike">
                <a:solidFill>
                  <a:srgbClr val="d79f00"/>
                </a:solidFill>
                <a:latin typeface="Arial Black"/>
                <a:ea typeface="宋体"/>
              </a:rPr>
              <a:t>company profile</a:t>
            </a:r>
            <a:endParaRPr b="0" lang="en-US" sz="2500" spc="-1" strike="noStrike">
              <a:solidFill>
                <a:srgbClr val="000000"/>
              </a:solidFill>
              <a:latin typeface="Arial"/>
            </a:endParaRPr>
          </a:p>
        </p:txBody>
      </p:sp>
      <p:sp>
        <p:nvSpPr>
          <p:cNvPr id="194" name="Rectangle 7"/>
          <p:cNvSpPr/>
          <p:nvPr/>
        </p:nvSpPr>
        <p:spPr>
          <a:xfrm>
            <a:off x="4829040" y="724320"/>
            <a:ext cx="1765440" cy="6480"/>
          </a:xfrm>
          <a:prstGeom prst="rect">
            <a:avLst/>
          </a:prstGeom>
          <a:gradFill rotWithShape="0">
            <a:gsLst>
              <a:gs pos="80000">
                <a:srgbClr val="000000"/>
              </a:gs>
              <a:gs pos="100000">
                <a:srgbClr val="000000"/>
              </a:gs>
            </a:gsLst>
            <a:lin ang="16200000"/>
          </a:gradFill>
          <a:ln w="0">
            <a:noFill/>
          </a:ln>
          <a:effectLst>
            <a:outerShdw blurRad="39960" dir="5400000" dist="23040" rotWithShape="0">
              <a:srgbClr val="000000">
                <a:alpha val="35000"/>
              </a:srgbClr>
            </a:outerShdw>
          </a:effectLst>
        </p:spPr>
        <p:style>
          <a:lnRef idx="0">
            <a:schemeClr val="accent4"/>
          </a:lnRef>
          <a:fillRef idx="3">
            <a:schemeClr val="accent4"/>
          </a:fillRef>
          <a:effectRef idx="3">
            <a:schemeClr val="accent4"/>
          </a:effectRef>
          <a:fontRef idx="minor"/>
        </p:style>
        <p:txBody>
          <a:bodyPr lIns="90000" rIns="90000" tIns="-38160" bIns="-38160" anchor="t">
            <a:noAutofit/>
          </a:bodyPr>
          <a:p>
            <a:pPr>
              <a:lnSpc>
                <a:spcPct val="100000"/>
              </a:lnSpc>
            </a:pPr>
            <a:endParaRPr b="0" lang="en-US" sz="1800" spc="-1" strike="noStrike">
              <a:solidFill>
                <a:schemeClr val="lt1"/>
              </a:solidFill>
              <a:latin typeface="Arial"/>
              <a:ea typeface="宋体"/>
            </a:endParaRPr>
          </a:p>
        </p:txBody>
      </p:sp>
      <p:sp>
        <p:nvSpPr>
          <p:cNvPr id="195" name="Freeform 8"/>
          <p:cNvSpPr/>
          <p:nvPr/>
        </p:nvSpPr>
        <p:spPr>
          <a:xfrm>
            <a:off x="4853160" y="200160"/>
            <a:ext cx="577800" cy="574200"/>
          </a:xfrm>
          <a:custGeom>
            <a:avLst/>
            <a:gdLst>
              <a:gd name="textAreaLeft" fmla="*/ 0 w 577800"/>
              <a:gd name="textAreaRight" fmla="*/ 578160 w 577800"/>
              <a:gd name="textAreaTop" fmla="*/ 0 h 574200"/>
              <a:gd name="textAreaBottom" fmla="*/ 574560 h 574200"/>
            </a:gdLst>
            <a:ahLst/>
            <a:rect l="textAreaLeft" t="textAreaTop" r="textAreaRight" b="textAreaBottom"/>
            <a:pathLst>
              <a:path w="5495" h="5786">
                <a:moveTo>
                  <a:pt x="730" y="46"/>
                </a:moveTo>
                <a:lnTo>
                  <a:pt x="0" y="4624"/>
                </a:lnTo>
                <a:lnTo>
                  <a:pt x="1589" y="2642"/>
                </a:lnTo>
                <a:lnTo>
                  <a:pt x="2760" y="5786"/>
                </a:lnTo>
                <a:lnTo>
                  <a:pt x="3854" y="2574"/>
                </a:lnTo>
                <a:lnTo>
                  <a:pt x="5495" y="4647"/>
                </a:lnTo>
                <a:lnTo>
                  <a:pt x="4713" y="0"/>
                </a:lnTo>
                <a:lnTo>
                  <a:pt x="2760" y="2368"/>
                </a:lnTo>
                <a:lnTo>
                  <a:pt x="730" y="46"/>
                </a:lnTo>
                <a:close/>
              </a:path>
            </a:pathLst>
          </a:custGeom>
          <a:solidFill>
            <a:srgbClr val="fcdb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196" name="Freeform 9"/>
          <p:cNvSpPr/>
          <p:nvPr/>
        </p:nvSpPr>
        <p:spPr>
          <a:xfrm>
            <a:off x="4853160" y="204840"/>
            <a:ext cx="166680" cy="454320"/>
          </a:xfrm>
          <a:custGeom>
            <a:avLst/>
            <a:gdLst>
              <a:gd name="textAreaLeft" fmla="*/ 0 w 166680"/>
              <a:gd name="textAreaRight" fmla="*/ 167040 w 166680"/>
              <a:gd name="textAreaTop" fmla="*/ 0 h 454320"/>
              <a:gd name="textAreaBottom" fmla="*/ 454680 h 454320"/>
            </a:gdLst>
            <a:ahLst/>
            <a:rect l="textAreaLeft" t="textAreaTop" r="textAreaRight" b="textAreaBottom"/>
            <a:pathLst>
              <a:path w="1589" h="4578">
                <a:moveTo>
                  <a:pt x="730" y="0"/>
                </a:moveTo>
                <a:lnTo>
                  <a:pt x="1589" y="2596"/>
                </a:lnTo>
                <a:lnTo>
                  <a:pt x="0" y="4578"/>
                </a:lnTo>
                <a:lnTo>
                  <a:pt x="730" y="0"/>
                </a:lnTo>
                <a:close/>
              </a:path>
            </a:pathLst>
          </a:custGeom>
          <a:solidFill>
            <a:srgbClr val="d79f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197" name="Freeform 10"/>
          <p:cNvSpPr/>
          <p:nvPr/>
        </p:nvSpPr>
        <p:spPr>
          <a:xfrm>
            <a:off x="5143320" y="200160"/>
            <a:ext cx="205200" cy="574200"/>
          </a:xfrm>
          <a:custGeom>
            <a:avLst/>
            <a:gdLst>
              <a:gd name="textAreaLeft" fmla="*/ 0 w 205200"/>
              <a:gd name="textAreaRight" fmla="*/ 205560 w 205200"/>
              <a:gd name="textAreaTop" fmla="*/ 0 h 574200"/>
              <a:gd name="textAreaBottom" fmla="*/ 574560 h 574200"/>
            </a:gdLst>
            <a:ahLst/>
            <a:rect l="textAreaLeft" t="textAreaTop" r="textAreaRight" b="textAreaBottom"/>
            <a:pathLst>
              <a:path w="1953" h="5786">
                <a:moveTo>
                  <a:pt x="0" y="2368"/>
                </a:moveTo>
                <a:lnTo>
                  <a:pt x="0" y="5786"/>
                </a:lnTo>
                <a:lnTo>
                  <a:pt x="1094" y="2574"/>
                </a:lnTo>
                <a:lnTo>
                  <a:pt x="1953" y="0"/>
                </a:lnTo>
                <a:lnTo>
                  <a:pt x="0" y="2368"/>
                </a:lnTo>
                <a:close/>
              </a:path>
            </a:pathLst>
          </a:custGeom>
          <a:solidFill>
            <a:srgbClr val="d79f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198" name="Freeform 78"/>
          <p:cNvSpPr/>
          <p:nvPr/>
        </p:nvSpPr>
        <p:spPr>
          <a:xfrm>
            <a:off x="5461200" y="517320"/>
            <a:ext cx="179640" cy="157320"/>
          </a:xfrm>
          <a:custGeom>
            <a:avLst/>
            <a:gdLst>
              <a:gd name="textAreaLeft" fmla="*/ 0 w 179640"/>
              <a:gd name="textAreaRight" fmla="*/ 180000 w 179640"/>
              <a:gd name="textAreaTop" fmla="*/ 0 h 157320"/>
              <a:gd name="textAreaBottom" fmla="*/ 157680 h 157320"/>
            </a:gdLst>
            <a:ahLst/>
            <a:rect l="textAreaLeft" t="textAreaTop" r="textAreaRight" b="textAreaBottom"/>
            <a:pathLst>
              <a:path w="1708" h="1590">
                <a:moveTo>
                  <a:pt x="817" y="0"/>
                </a:moveTo>
                <a:lnTo>
                  <a:pt x="885" y="0"/>
                </a:lnTo>
                <a:lnTo>
                  <a:pt x="904" y="48"/>
                </a:lnTo>
                <a:lnTo>
                  <a:pt x="925" y="98"/>
                </a:lnTo>
                <a:lnTo>
                  <a:pt x="944" y="147"/>
                </a:lnTo>
                <a:lnTo>
                  <a:pt x="965" y="197"/>
                </a:lnTo>
                <a:lnTo>
                  <a:pt x="985" y="249"/>
                </a:lnTo>
                <a:lnTo>
                  <a:pt x="1007" y="301"/>
                </a:lnTo>
                <a:lnTo>
                  <a:pt x="1029" y="354"/>
                </a:lnTo>
                <a:lnTo>
                  <a:pt x="1052" y="408"/>
                </a:lnTo>
                <a:lnTo>
                  <a:pt x="1075" y="462"/>
                </a:lnTo>
                <a:lnTo>
                  <a:pt x="1098" y="517"/>
                </a:lnTo>
                <a:lnTo>
                  <a:pt x="1123" y="573"/>
                </a:lnTo>
                <a:lnTo>
                  <a:pt x="1147" y="631"/>
                </a:lnTo>
                <a:lnTo>
                  <a:pt x="1172" y="689"/>
                </a:lnTo>
                <a:lnTo>
                  <a:pt x="1198" y="747"/>
                </a:lnTo>
                <a:lnTo>
                  <a:pt x="1224" y="807"/>
                </a:lnTo>
                <a:lnTo>
                  <a:pt x="1252" y="867"/>
                </a:lnTo>
                <a:lnTo>
                  <a:pt x="1508" y="1428"/>
                </a:lnTo>
                <a:lnTo>
                  <a:pt x="1517" y="1441"/>
                </a:lnTo>
                <a:lnTo>
                  <a:pt x="1526" y="1453"/>
                </a:lnTo>
                <a:lnTo>
                  <a:pt x="1536" y="1464"/>
                </a:lnTo>
                <a:lnTo>
                  <a:pt x="1546" y="1472"/>
                </a:lnTo>
                <a:lnTo>
                  <a:pt x="1552" y="1474"/>
                </a:lnTo>
                <a:lnTo>
                  <a:pt x="1562" y="1478"/>
                </a:lnTo>
                <a:lnTo>
                  <a:pt x="1576" y="1484"/>
                </a:lnTo>
                <a:lnTo>
                  <a:pt x="1594" y="1490"/>
                </a:lnTo>
                <a:lnTo>
                  <a:pt x="1616" y="1496"/>
                </a:lnTo>
                <a:lnTo>
                  <a:pt x="1643" y="1505"/>
                </a:lnTo>
                <a:lnTo>
                  <a:pt x="1673" y="1514"/>
                </a:lnTo>
                <a:lnTo>
                  <a:pt x="1708" y="1524"/>
                </a:lnTo>
                <a:lnTo>
                  <a:pt x="1708" y="1590"/>
                </a:lnTo>
                <a:lnTo>
                  <a:pt x="1660" y="1587"/>
                </a:lnTo>
                <a:lnTo>
                  <a:pt x="1614" y="1584"/>
                </a:lnTo>
                <a:lnTo>
                  <a:pt x="1573" y="1582"/>
                </a:lnTo>
                <a:lnTo>
                  <a:pt x="1535" y="1580"/>
                </a:lnTo>
                <a:lnTo>
                  <a:pt x="1499" y="1579"/>
                </a:lnTo>
                <a:lnTo>
                  <a:pt x="1467" y="1578"/>
                </a:lnTo>
                <a:lnTo>
                  <a:pt x="1438" y="1577"/>
                </a:lnTo>
                <a:lnTo>
                  <a:pt x="1413" y="1577"/>
                </a:lnTo>
                <a:lnTo>
                  <a:pt x="1386" y="1577"/>
                </a:lnTo>
                <a:lnTo>
                  <a:pt x="1356" y="1578"/>
                </a:lnTo>
                <a:lnTo>
                  <a:pt x="1321" y="1579"/>
                </a:lnTo>
                <a:lnTo>
                  <a:pt x="1282" y="1580"/>
                </a:lnTo>
                <a:lnTo>
                  <a:pt x="1238" y="1582"/>
                </a:lnTo>
                <a:lnTo>
                  <a:pt x="1190" y="1584"/>
                </a:lnTo>
                <a:lnTo>
                  <a:pt x="1139" y="1587"/>
                </a:lnTo>
                <a:lnTo>
                  <a:pt x="1082" y="1590"/>
                </a:lnTo>
                <a:lnTo>
                  <a:pt x="1082" y="1524"/>
                </a:lnTo>
                <a:lnTo>
                  <a:pt x="1143" y="1511"/>
                </a:lnTo>
                <a:lnTo>
                  <a:pt x="1188" y="1500"/>
                </a:lnTo>
                <a:lnTo>
                  <a:pt x="1206" y="1494"/>
                </a:lnTo>
                <a:lnTo>
                  <a:pt x="1220" y="1489"/>
                </a:lnTo>
                <a:lnTo>
                  <a:pt x="1231" y="1485"/>
                </a:lnTo>
                <a:lnTo>
                  <a:pt x="1238" y="1481"/>
                </a:lnTo>
                <a:lnTo>
                  <a:pt x="1243" y="1476"/>
                </a:lnTo>
                <a:lnTo>
                  <a:pt x="1248" y="1472"/>
                </a:lnTo>
                <a:lnTo>
                  <a:pt x="1252" y="1467"/>
                </a:lnTo>
                <a:lnTo>
                  <a:pt x="1255" y="1463"/>
                </a:lnTo>
                <a:lnTo>
                  <a:pt x="1257" y="1457"/>
                </a:lnTo>
                <a:lnTo>
                  <a:pt x="1258" y="1453"/>
                </a:lnTo>
                <a:lnTo>
                  <a:pt x="1259" y="1448"/>
                </a:lnTo>
                <a:lnTo>
                  <a:pt x="1260" y="1441"/>
                </a:lnTo>
                <a:lnTo>
                  <a:pt x="1259" y="1436"/>
                </a:lnTo>
                <a:lnTo>
                  <a:pt x="1258" y="1429"/>
                </a:lnTo>
                <a:lnTo>
                  <a:pt x="1257" y="1420"/>
                </a:lnTo>
                <a:lnTo>
                  <a:pt x="1254" y="1411"/>
                </a:lnTo>
                <a:lnTo>
                  <a:pt x="1247" y="1389"/>
                </a:lnTo>
                <a:lnTo>
                  <a:pt x="1237" y="1364"/>
                </a:lnTo>
                <a:lnTo>
                  <a:pt x="1127" y="1095"/>
                </a:lnTo>
                <a:lnTo>
                  <a:pt x="1070" y="1095"/>
                </a:lnTo>
                <a:lnTo>
                  <a:pt x="1018" y="1094"/>
                </a:lnTo>
                <a:lnTo>
                  <a:pt x="969" y="1094"/>
                </a:lnTo>
                <a:lnTo>
                  <a:pt x="925" y="1093"/>
                </a:lnTo>
                <a:lnTo>
                  <a:pt x="883" y="1093"/>
                </a:lnTo>
                <a:lnTo>
                  <a:pt x="847" y="1093"/>
                </a:lnTo>
                <a:lnTo>
                  <a:pt x="814" y="1093"/>
                </a:lnTo>
                <a:lnTo>
                  <a:pt x="786" y="1093"/>
                </a:lnTo>
                <a:lnTo>
                  <a:pt x="483" y="1095"/>
                </a:lnTo>
                <a:lnTo>
                  <a:pt x="368" y="1374"/>
                </a:lnTo>
                <a:lnTo>
                  <a:pt x="356" y="1404"/>
                </a:lnTo>
                <a:lnTo>
                  <a:pt x="347" y="1428"/>
                </a:lnTo>
                <a:lnTo>
                  <a:pt x="342" y="1446"/>
                </a:lnTo>
                <a:lnTo>
                  <a:pt x="340" y="1457"/>
                </a:lnTo>
                <a:lnTo>
                  <a:pt x="341" y="1464"/>
                </a:lnTo>
                <a:lnTo>
                  <a:pt x="343" y="1470"/>
                </a:lnTo>
                <a:lnTo>
                  <a:pt x="347" y="1476"/>
                </a:lnTo>
                <a:lnTo>
                  <a:pt x="354" y="1481"/>
                </a:lnTo>
                <a:lnTo>
                  <a:pt x="359" y="1484"/>
                </a:lnTo>
                <a:lnTo>
                  <a:pt x="366" y="1487"/>
                </a:lnTo>
                <a:lnTo>
                  <a:pt x="378" y="1490"/>
                </a:lnTo>
                <a:lnTo>
                  <a:pt x="393" y="1494"/>
                </a:lnTo>
                <a:lnTo>
                  <a:pt x="431" y="1503"/>
                </a:lnTo>
                <a:lnTo>
                  <a:pt x="482" y="1514"/>
                </a:lnTo>
                <a:lnTo>
                  <a:pt x="488" y="1517"/>
                </a:lnTo>
                <a:lnTo>
                  <a:pt x="497" y="1519"/>
                </a:lnTo>
                <a:lnTo>
                  <a:pt x="505" y="1521"/>
                </a:lnTo>
                <a:lnTo>
                  <a:pt x="516" y="1524"/>
                </a:lnTo>
                <a:lnTo>
                  <a:pt x="516" y="1590"/>
                </a:lnTo>
                <a:lnTo>
                  <a:pt x="470" y="1587"/>
                </a:lnTo>
                <a:lnTo>
                  <a:pt x="429" y="1584"/>
                </a:lnTo>
                <a:lnTo>
                  <a:pt x="391" y="1582"/>
                </a:lnTo>
                <a:lnTo>
                  <a:pt x="356" y="1580"/>
                </a:lnTo>
                <a:lnTo>
                  <a:pt x="324" y="1579"/>
                </a:lnTo>
                <a:lnTo>
                  <a:pt x="296" y="1578"/>
                </a:lnTo>
                <a:lnTo>
                  <a:pt x="271" y="1577"/>
                </a:lnTo>
                <a:lnTo>
                  <a:pt x="251" y="1577"/>
                </a:lnTo>
                <a:lnTo>
                  <a:pt x="226" y="1577"/>
                </a:lnTo>
                <a:lnTo>
                  <a:pt x="198" y="1578"/>
                </a:lnTo>
                <a:lnTo>
                  <a:pt x="169" y="1579"/>
                </a:lnTo>
                <a:lnTo>
                  <a:pt x="139" y="1580"/>
                </a:lnTo>
                <a:lnTo>
                  <a:pt x="107" y="1582"/>
                </a:lnTo>
                <a:lnTo>
                  <a:pt x="73" y="1584"/>
                </a:lnTo>
                <a:lnTo>
                  <a:pt x="37" y="1587"/>
                </a:lnTo>
                <a:lnTo>
                  <a:pt x="0" y="1590"/>
                </a:lnTo>
                <a:lnTo>
                  <a:pt x="0" y="1524"/>
                </a:lnTo>
                <a:lnTo>
                  <a:pt x="23" y="1519"/>
                </a:lnTo>
                <a:lnTo>
                  <a:pt x="45" y="1512"/>
                </a:lnTo>
                <a:lnTo>
                  <a:pt x="66" y="1507"/>
                </a:lnTo>
                <a:lnTo>
                  <a:pt x="84" y="1501"/>
                </a:lnTo>
                <a:lnTo>
                  <a:pt x="101" y="1494"/>
                </a:lnTo>
                <a:lnTo>
                  <a:pt x="114" y="1488"/>
                </a:lnTo>
                <a:lnTo>
                  <a:pt x="127" y="1482"/>
                </a:lnTo>
                <a:lnTo>
                  <a:pt x="138" y="1475"/>
                </a:lnTo>
                <a:lnTo>
                  <a:pt x="144" y="1469"/>
                </a:lnTo>
                <a:lnTo>
                  <a:pt x="151" y="1463"/>
                </a:lnTo>
                <a:lnTo>
                  <a:pt x="158" y="1455"/>
                </a:lnTo>
                <a:lnTo>
                  <a:pt x="165" y="1447"/>
                </a:lnTo>
                <a:lnTo>
                  <a:pt x="180" y="1428"/>
                </a:lnTo>
                <a:lnTo>
                  <a:pt x="195" y="1404"/>
                </a:lnTo>
                <a:lnTo>
                  <a:pt x="213" y="1369"/>
                </a:lnTo>
                <a:lnTo>
                  <a:pt x="238" y="1319"/>
                </a:lnTo>
                <a:lnTo>
                  <a:pt x="269" y="1255"/>
                </a:lnTo>
                <a:lnTo>
                  <a:pt x="306" y="1174"/>
                </a:lnTo>
                <a:lnTo>
                  <a:pt x="348" y="1079"/>
                </a:lnTo>
                <a:lnTo>
                  <a:pt x="398" y="969"/>
                </a:lnTo>
                <a:lnTo>
                  <a:pt x="453" y="844"/>
                </a:lnTo>
                <a:lnTo>
                  <a:pt x="514" y="703"/>
                </a:lnTo>
                <a:lnTo>
                  <a:pt x="817" y="0"/>
                </a:lnTo>
                <a:close/>
                <a:moveTo>
                  <a:pt x="526" y="985"/>
                </a:moveTo>
                <a:lnTo>
                  <a:pt x="562" y="986"/>
                </a:lnTo>
                <a:lnTo>
                  <a:pt x="597" y="987"/>
                </a:lnTo>
                <a:lnTo>
                  <a:pt x="628" y="988"/>
                </a:lnTo>
                <a:lnTo>
                  <a:pt x="658" y="988"/>
                </a:lnTo>
                <a:lnTo>
                  <a:pt x="683" y="989"/>
                </a:lnTo>
                <a:lnTo>
                  <a:pt x="706" y="989"/>
                </a:lnTo>
                <a:lnTo>
                  <a:pt x="728" y="989"/>
                </a:lnTo>
                <a:lnTo>
                  <a:pt x="745" y="989"/>
                </a:lnTo>
                <a:lnTo>
                  <a:pt x="754" y="989"/>
                </a:lnTo>
                <a:lnTo>
                  <a:pt x="773" y="989"/>
                </a:lnTo>
                <a:lnTo>
                  <a:pt x="802" y="989"/>
                </a:lnTo>
                <a:lnTo>
                  <a:pt x="840" y="988"/>
                </a:lnTo>
                <a:lnTo>
                  <a:pt x="886" y="988"/>
                </a:lnTo>
                <a:lnTo>
                  <a:pt x="943" y="987"/>
                </a:lnTo>
                <a:lnTo>
                  <a:pt x="1008" y="986"/>
                </a:lnTo>
                <a:lnTo>
                  <a:pt x="1082" y="985"/>
                </a:lnTo>
                <a:lnTo>
                  <a:pt x="804" y="323"/>
                </a:lnTo>
                <a:lnTo>
                  <a:pt x="526" y="985"/>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199" name="Freeform 79"/>
          <p:cNvSpPr/>
          <p:nvPr/>
        </p:nvSpPr>
        <p:spPr>
          <a:xfrm>
            <a:off x="5655240" y="519840"/>
            <a:ext cx="189000" cy="158400"/>
          </a:xfrm>
          <a:custGeom>
            <a:avLst/>
            <a:gdLst>
              <a:gd name="textAreaLeft" fmla="*/ 0 w 189000"/>
              <a:gd name="textAreaRight" fmla="*/ 189360 w 189000"/>
              <a:gd name="textAreaTop" fmla="*/ 0 h 158400"/>
              <a:gd name="textAreaBottom" fmla="*/ 158760 h 158400"/>
            </a:gdLst>
            <a:ahLst/>
            <a:rect l="textAreaLeft" t="textAreaTop" r="textAreaRight" b="textAreaBottom"/>
            <a:pathLst>
              <a:path w="1799" h="1596">
                <a:moveTo>
                  <a:pt x="0" y="64"/>
                </a:moveTo>
                <a:lnTo>
                  <a:pt x="0" y="0"/>
                </a:lnTo>
                <a:lnTo>
                  <a:pt x="34" y="2"/>
                </a:lnTo>
                <a:lnTo>
                  <a:pt x="66" y="5"/>
                </a:lnTo>
                <a:lnTo>
                  <a:pt x="96" y="7"/>
                </a:lnTo>
                <a:lnTo>
                  <a:pt x="125" y="8"/>
                </a:lnTo>
                <a:lnTo>
                  <a:pt x="151" y="10"/>
                </a:lnTo>
                <a:lnTo>
                  <a:pt x="176" y="10"/>
                </a:lnTo>
                <a:lnTo>
                  <a:pt x="199" y="11"/>
                </a:lnTo>
                <a:lnTo>
                  <a:pt x="220" y="11"/>
                </a:lnTo>
                <a:lnTo>
                  <a:pt x="237" y="11"/>
                </a:lnTo>
                <a:lnTo>
                  <a:pt x="258" y="10"/>
                </a:lnTo>
                <a:lnTo>
                  <a:pt x="283" y="10"/>
                </a:lnTo>
                <a:lnTo>
                  <a:pt x="310" y="8"/>
                </a:lnTo>
                <a:lnTo>
                  <a:pt x="341" y="7"/>
                </a:lnTo>
                <a:lnTo>
                  <a:pt x="375" y="5"/>
                </a:lnTo>
                <a:lnTo>
                  <a:pt x="412" y="2"/>
                </a:lnTo>
                <a:lnTo>
                  <a:pt x="452" y="0"/>
                </a:lnTo>
                <a:lnTo>
                  <a:pt x="765" y="391"/>
                </a:lnTo>
                <a:lnTo>
                  <a:pt x="772" y="399"/>
                </a:lnTo>
                <a:lnTo>
                  <a:pt x="785" y="414"/>
                </a:lnTo>
                <a:lnTo>
                  <a:pt x="801" y="434"/>
                </a:lnTo>
                <a:lnTo>
                  <a:pt x="822" y="461"/>
                </a:lnTo>
                <a:lnTo>
                  <a:pt x="847" y="491"/>
                </a:lnTo>
                <a:lnTo>
                  <a:pt x="878" y="527"/>
                </a:lnTo>
                <a:lnTo>
                  <a:pt x="913" y="570"/>
                </a:lnTo>
                <a:lnTo>
                  <a:pt x="952" y="617"/>
                </a:lnTo>
                <a:lnTo>
                  <a:pt x="996" y="670"/>
                </a:lnTo>
                <a:lnTo>
                  <a:pt x="1043" y="729"/>
                </a:lnTo>
                <a:lnTo>
                  <a:pt x="1096" y="792"/>
                </a:lnTo>
                <a:lnTo>
                  <a:pt x="1153" y="861"/>
                </a:lnTo>
                <a:lnTo>
                  <a:pt x="1215" y="936"/>
                </a:lnTo>
                <a:lnTo>
                  <a:pt x="1282" y="1017"/>
                </a:lnTo>
                <a:lnTo>
                  <a:pt x="1352" y="1103"/>
                </a:lnTo>
                <a:lnTo>
                  <a:pt x="1428" y="1194"/>
                </a:lnTo>
                <a:lnTo>
                  <a:pt x="1428" y="1156"/>
                </a:lnTo>
                <a:lnTo>
                  <a:pt x="1428" y="1122"/>
                </a:lnTo>
                <a:lnTo>
                  <a:pt x="1428" y="1090"/>
                </a:lnTo>
                <a:lnTo>
                  <a:pt x="1429" y="1060"/>
                </a:lnTo>
                <a:lnTo>
                  <a:pt x="1429" y="1034"/>
                </a:lnTo>
                <a:lnTo>
                  <a:pt x="1429" y="1010"/>
                </a:lnTo>
                <a:lnTo>
                  <a:pt x="1429" y="988"/>
                </a:lnTo>
                <a:lnTo>
                  <a:pt x="1429" y="969"/>
                </a:lnTo>
                <a:lnTo>
                  <a:pt x="1429" y="925"/>
                </a:lnTo>
                <a:lnTo>
                  <a:pt x="1428" y="871"/>
                </a:lnTo>
                <a:lnTo>
                  <a:pt x="1427" y="808"/>
                </a:lnTo>
                <a:lnTo>
                  <a:pt x="1426" y="737"/>
                </a:lnTo>
                <a:lnTo>
                  <a:pt x="1424" y="659"/>
                </a:lnTo>
                <a:lnTo>
                  <a:pt x="1422" y="571"/>
                </a:lnTo>
                <a:lnTo>
                  <a:pt x="1420" y="474"/>
                </a:lnTo>
                <a:lnTo>
                  <a:pt x="1418" y="369"/>
                </a:lnTo>
                <a:lnTo>
                  <a:pt x="1417" y="322"/>
                </a:lnTo>
                <a:lnTo>
                  <a:pt x="1416" y="279"/>
                </a:lnTo>
                <a:lnTo>
                  <a:pt x="1415" y="243"/>
                </a:lnTo>
                <a:lnTo>
                  <a:pt x="1414" y="213"/>
                </a:lnTo>
                <a:lnTo>
                  <a:pt x="1413" y="187"/>
                </a:lnTo>
                <a:lnTo>
                  <a:pt x="1411" y="168"/>
                </a:lnTo>
                <a:lnTo>
                  <a:pt x="1410" y="155"/>
                </a:lnTo>
                <a:lnTo>
                  <a:pt x="1409" y="148"/>
                </a:lnTo>
                <a:lnTo>
                  <a:pt x="1404" y="140"/>
                </a:lnTo>
                <a:lnTo>
                  <a:pt x="1399" y="131"/>
                </a:lnTo>
                <a:lnTo>
                  <a:pt x="1392" y="124"/>
                </a:lnTo>
                <a:lnTo>
                  <a:pt x="1383" y="116"/>
                </a:lnTo>
                <a:lnTo>
                  <a:pt x="1376" y="113"/>
                </a:lnTo>
                <a:lnTo>
                  <a:pt x="1366" y="109"/>
                </a:lnTo>
                <a:lnTo>
                  <a:pt x="1352" y="103"/>
                </a:lnTo>
                <a:lnTo>
                  <a:pt x="1334" y="99"/>
                </a:lnTo>
                <a:lnTo>
                  <a:pt x="1289" y="89"/>
                </a:lnTo>
                <a:lnTo>
                  <a:pt x="1230" y="77"/>
                </a:lnTo>
                <a:lnTo>
                  <a:pt x="1219" y="75"/>
                </a:lnTo>
                <a:lnTo>
                  <a:pt x="1207" y="72"/>
                </a:lnTo>
                <a:lnTo>
                  <a:pt x="1194" y="69"/>
                </a:lnTo>
                <a:lnTo>
                  <a:pt x="1178" y="64"/>
                </a:lnTo>
                <a:lnTo>
                  <a:pt x="1178" y="0"/>
                </a:lnTo>
                <a:lnTo>
                  <a:pt x="1225" y="2"/>
                </a:lnTo>
                <a:lnTo>
                  <a:pt x="1271" y="5"/>
                </a:lnTo>
                <a:lnTo>
                  <a:pt x="1313" y="7"/>
                </a:lnTo>
                <a:lnTo>
                  <a:pt x="1354" y="8"/>
                </a:lnTo>
                <a:lnTo>
                  <a:pt x="1391" y="10"/>
                </a:lnTo>
                <a:lnTo>
                  <a:pt x="1427" y="10"/>
                </a:lnTo>
                <a:lnTo>
                  <a:pt x="1458" y="11"/>
                </a:lnTo>
                <a:lnTo>
                  <a:pt x="1489" y="11"/>
                </a:lnTo>
                <a:lnTo>
                  <a:pt x="1519" y="11"/>
                </a:lnTo>
                <a:lnTo>
                  <a:pt x="1551" y="10"/>
                </a:lnTo>
                <a:lnTo>
                  <a:pt x="1585" y="10"/>
                </a:lnTo>
                <a:lnTo>
                  <a:pt x="1623" y="8"/>
                </a:lnTo>
                <a:lnTo>
                  <a:pt x="1663" y="7"/>
                </a:lnTo>
                <a:lnTo>
                  <a:pt x="1706" y="5"/>
                </a:lnTo>
                <a:lnTo>
                  <a:pt x="1752" y="2"/>
                </a:lnTo>
                <a:lnTo>
                  <a:pt x="1799" y="0"/>
                </a:lnTo>
                <a:lnTo>
                  <a:pt x="1799" y="64"/>
                </a:lnTo>
                <a:lnTo>
                  <a:pt x="1786" y="69"/>
                </a:lnTo>
                <a:lnTo>
                  <a:pt x="1773" y="71"/>
                </a:lnTo>
                <a:lnTo>
                  <a:pt x="1763" y="73"/>
                </a:lnTo>
                <a:lnTo>
                  <a:pt x="1755" y="74"/>
                </a:lnTo>
                <a:lnTo>
                  <a:pt x="1721" y="81"/>
                </a:lnTo>
                <a:lnTo>
                  <a:pt x="1690" y="89"/>
                </a:lnTo>
                <a:lnTo>
                  <a:pt x="1663" y="95"/>
                </a:lnTo>
                <a:lnTo>
                  <a:pt x="1641" y="100"/>
                </a:lnTo>
                <a:lnTo>
                  <a:pt x="1623" y="105"/>
                </a:lnTo>
                <a:lnTo>
                  <a:pt x="1608" y="109"/>
                </a:lnTo>
                <a:lnTo>
                  <a:pt x="1597" y="112"/>
                </a:lnTo>
                <a:lnTo>
                  <a:pt x="1591" y="115"/>
                </a:lnTo>
                <a:lnTo>
                  <a:pt x="1585" y="118"/>
                </a:lnTo>
                <a:lnTo>
                  <a:pt x="1580" y="124"/>
                </a:lnTo>
                <a:lnTo>
                  <a:pt x="1576" y="129"/>
                </a:lnTo>
                <a:lnTo>
                  <a:pt x="1572" y="135"/>
                </a:lnTo>
                <a:lnTo>
                  <a:pt x="1569" y="140"/>
                </a:lnTo>
                <a:lnTo>
                  <a:pt x="1566" y="146"/>
                </a:lnTo>
                <a:lnTo>
                  <a:pt x="1564" y="152"/>
                </a:lnTo>
                <a:lnTo>
                  <a:pt x="1562" y="161"/>
                </a:lnTo>
                <a:lnTo>
                  <a:pt x="1559" y="179"/>
                </a:lnTo>
                <a:lnTo>
                  <a:pt x="1556" y="201"/>
                </a:lnTo>
                <a:lnTo>
                  <a:pt x="1556" y="211"/>
                </a:lnTo>
                <a:lnTo>
                  <a:pt x="1556" y="227"/>
                </a:lnTo>
                <a:lnTo>
                  <a:pt x="1555" y="253"/>
                </a:lnTo>
                <a:lnTo>
                  <a:pt x="1555" y="287"/>
                </a:lnTo>
                <a:lnTo>
                  <a:pt x="1554" y="328"/>
                </a:lnTo>
                <a:lnTo>
                  <a:pt x="1553" y="378"/>
                </a:lnTo>
                <a:lnTo>
                  <a:pt x="1552" y="435"/>
                </a:lnTo>
                <a:lnTo>
                  <a:pt x="1551" y="501"/>
                </a:lnTo>
                <a:lnTo>
                  <a:pt x="1551" y="571"/>
                </a:lnTo>
                <a:lnTo>
                  <a:pt x="1549" y="640"/>
                </a:lnTo>
                <a:lnTo>
                  <a:pt x="1548" y="709"/>
                </a:lnTo>
                <a:lnTo>
                  <a:pt x="1548" y="776"/>
                </a:lnTo>
                <a:lnTo>
                  <a:pt x="1547" y="843"/>
                </a:lnTo>
                <a:lnTo>
                  <a:pt x="1547" y="910"/>
                </a:lnTo>
                <a:lnTo>
                  <a:pt x="1547" y="976"/>
                </a:lnTo>
                <a:lnTo>
                  <a:pt x="1547" y="1041"/>
                </a:lnTo>
                <a:lnTo>
                  <a:pt x="1547" y="1117"/>
                </a:lnTo>
                <a:lnTo>
                  <a:pt x="1548" y="1190"/>
                </a:lnTo>
                <a:lnTo>
                  <a:pt x="1548" y="1259"/>
                </a:lnTo>
                <a:lnTo>
                  <a:pt x="1551" y="1325"/>
                </a:lnTo>
                <a:lnTo>
                  <a:pt x="1552" y="1389"/>
                </a:lnTo>
                <a:lnTo>
                  <a:pt x="1554" y="1450"/>
                </a:lnTo>
                <a:lnTo>
                  <a:pt x="1556" y="1508"/>
                </a:lnTo>
                <a:lnTo>
                  <a:pt x="1559" y="1563"/>
                </a:lnTo>
                <a:lnTo>
                  <a:pt x="1487" y="1596"/>
                </a:lnTo>
                <a:lnTo>
                  <a:pt x="1027" y="1025"/>
                </a:lnTo>
                <a:lnTo>
                  <a:pt x="426" y="301"/>
                </a:lnTo>
                <a:lnTo>
                  <a:pt x="431" y="951"/>
                </a:lnTo>
                <a:lnTo>
                  <a:pt x="432" y="1052"/>
                </a:lnTo>
                <a:lnTo>
                  <a:pt x="434" y="1140"/>
                </a:lnTo>
                <a:lnTo>
                  <a:pt x="435" y="1215"/>
                </a:lnTo>
                <a:lnTo>
                  <a:pt x="437" y="1279"/>
                </a:lnTo>
                <a:lnTo>
                  <a:pt x="438" y="1330"/>
                </a:lnTo>
                <a:lnTo>
                  <a:pt x="439" y="1368"/>
                </a:lnTo>
                <a:lnTo>
                  <a:pt x="442" y="1393"/>
                </a:lnTo>
                <a:lnTo>
                  <a:pt x="444" y="1407"/>
                </a:lnTo>
                <a:lnTo>
                  <a:pt x="446" y="1416"/>
                </a:lnTo>
                <a:lnTo>
                  <a:pt x="450" y="1426"/>
                </a:lnTo>
                <a:lnTo>
                  <a:pt x="456" y="1433"/>
                </a:lnTo>
                <a:lnTo>
                  <a:pt x="463" y="1441"/>
                </a:lnTo>
                <a:lnTo>
                  <a:pt x="470" y="1447"/>
                </a:lnTo>
                <a:lnTo>
                  <a:pt x="482" y="1452"/>
                </a:lnTo>
                <a:lnTo>
                  <a:pt x="498" y="1458"/>
                </a:lnTo>
                <a:lnTo>
                  <a:pt x="516" y="1464"/>
                </a:lnTo>
                <a:lnTo>
                  <a:pt x="538" y="1469"/>
                </a:lnTo>
                <a:lnTo>
                  <a:pt x="564" y="1476"/>
                </a:lnTo>
                <a:lnTo>
                  <a:pt x="594" y="1481"/>
                </a:lnTo>
                <a:lnTo>
                  <a:pt x="627" y="1487"/>
                </a:lnTo>
                <a:lnTo>
                  <a:pt x="636" y="1489"/>
                </a:lnTo>
                <a:lnTo>
                  <a:pt x="648" y="1491"/>
                </a:lnTo>
                <a:lnTo>
                  <a:pt x="661" y="1494"/>
                </a:lnTo>
                <a:lnTo>
                  <a:pt x="677" y="1497"/>
                </a:lnTo>
                <a:lnTo>
                  <a:pt x="677" y="1563"/>
                </a:lnTo>
                <a:lnTo>
                  <a:pt x="635" y="1560"/>
                </a:lnTo>
                <a:lnTo>
                  <a:pt x="595" y="1557"/>
                </a:lnTo>
                <a:lnTo>
                  <a:pt x="558" y="1555"/>
                </a:lnTo>
                <a:lnTo>
                  <a:pt x="521" y="1553"/>
                </a:lnTo>
                <a:lnTo>
                  <a:pt x="487" y="1552"/>
                </a:lnTo>
                <a:lnTo>
                  <a:pt x="453" y="1551"/>
                </a:lnTo>
                <a:lnTo>
                  <a:pt x="423" y="1550"/>
                </a:lnTo>
                <a:lnTo>
                  <a:pt x="393" y="1550"/>
                </a:lnTo>
                <a:lnTo>
                  <a:pt x="366" y="1550"/>
                </a:lnTo>
                <a:lnTo>
                  <a:pt x="335" y="1551"/>
                </a:lnTo>
                <a:lnTo>
                  <a:pt x="300" y="1552"/>
                </a:lnTo>
                <a:lnTo>
                  <a:pt x="259" y="1553"/>
                </a:lnTo>
                <a:lnTo>
                  <a:pt x="215" y="1555"/>
                </a:lnTo>
                <a:lnTo>
                  <a:pt x="166" y="1557"/>
                </a:lnTo>
                <a:lnTo>
                  <a:pt x="112" y="1560"/>
                </a:lnTo>
                <a:lnTo>
                  <a:pt x="55" y="1563"/>
                </a:lnTo>
                <a:lnTo>
                  <a:pt x="55" y="1497"/>
                </a:lnTo>
                <a:lnTo>
                  <a:pt x="73" y="1493"/>
                </a:lnTo>
                <a:lnTo>
                  <a:pt x="89" y="1490"/>
                </a:lnTo>
                <a:lnTo>
                  <a:pt x="102" y="1486"/>
                </a:lnTo>
                <a:lnTo>
                  <a:pt x="113" y="1484"/>
                </a:lnTo>
                <a:lnTo>
                  <a:pt x="144" y="1478"/>
                </a:lnTo>
                <a:lnTo>
                  <a:pt x="173" y="1473"/>
                </a:lnTo>
                <a:lnTo>
                  <a:pt x="196" y="1467"/>
                </a:lnTo>
                <a:lnTo>
                  <a:pt x="217" y="1462"/>
                </a:lnTo>
                <a:lnTo>
                  <a:pt x="235" y="1457"/>
                </a:lnTo>
                <a:lnTo>
                  <a:pt x="249" y="1451"/>
                </a:lnTo>
                <a:lnTo>
                  <a:pt x="259" y="1446"/>
                </a:lnTo>
                <a:lnTo>
                  <a:pt x="266" y="1441"/>
                </a:lnTo>
                <a:lnTo>
                  <a:pt x="272" y="1436"/>
                </a:lnTo>
                <a:lnTo>
                  <a:pt x="276" y="1428"/>
                </a:lnTo>
                <a:lnTo>
                  <a:pt x="281" y="1419"/>
                </a:lnTo>
                <a:lnTo>
                  <a:pt x="284" y="1407"/>
                </a:lnTo>
                <a:lnTo>
                  <a:pt x="286" y="1390"/>
                </a:lnTo>
                <a:lnTo>
                  <a:pt x="288" y="1363"/>
                </a:lnTo>
                <a:lnTo>
                  <a:pt x="291" y="1330"/>
                </a:lnTo>
                <a:lnTo>
                  <a:pt x="292" y="1286"/>
                </a:lnTo>
                <a:lnTo>
                  <a:pt x="294" y="1233"/>
                </a:lnTo>
                <a:lnTo>
                  <a:pt x="295" y="1173"/>
                </a:lnTo>
                <a:lnTo>
                  <a:pt x="296" y="1103"/>
                </a:lnTo>
                <a:lnTo>
                  <a:pt x="298" y="1024"/>
                </a:lnTo>
                <a:lnTo>
                  <a:pt x="300" y="912"/>
                </a:lnTo>
                <a:lnTo>
                  <a:pt x="301" y="812"/>
                </a:lnTo>
                <a:lnTo>
                  <a:pt x="302" y="724"/>
                </a:lnTo>
                <a:lnTo>
                  <a:pt x="302" y="649"/>
                </a:lnTo>
                <a:lnTo>
                  <a:pt x="303" y="586"/>
                </a:lnTo>
                <a:lnTo>
                  <a:pt x="303" y="534"/>
                </a:lnTo>
                <a:lnTo>
                  <a:pt x="304" y="493"/>
                </a:lnTo>
                <a:lnTo>
                  <a:pt x="304" y="466"/>
                </a:lnTo>
                <a:lnTo>
                  <a:pt x="304" y="401"/>
                </a:lnTo>
                <a:lnTo>
                  <a:pt x="303" y="344"/>
                </a:lnTo>
                <a:lnTo>
                  <a:pt x="303" y="293"/>
                </a:lnTo>
                <a:lnTo>
                  <a:pt x="302" y="252"/>
                </a:lnTo>
                <a:lnTo>
                  <a:pt x="301" y="217"/>
                </a:lnTo>
                <a:lnTo>
                  <a:pt x="299" y="190"/>
                </a:lnTo>
                <a:lnTo>
                  <a:pt x="298" y="170"/>
                </a:lnTo>
                <a:lnTo>
                  <a:pt x="295" y="160"/>
                </a:lnTo>
                <a:lnTo>
                  <a:pt x="294" y="154"/>
                </a:lnTo>
                <a:lnTo>
                  <a:pt x="292" y="149"/>
                </a:lnTo>
                <a:lnTo>
                  <a:pt x="289" y="144"/>
                </a:lnTo>
                <a:lnTo>
                  <a:pt x="286" y="138"/>
                </a:lnTo>
                <a:lnTo>
                  <a:pt x="283" y="134"/>
                </a:lnTo>
                <a:lnTo>
                  <a:pt x="277" y="130"/>
                </a:lnTo>
                <a:lnTo>
                  <a:pt x="273" y="126"/>
                </a:lnTo>
                <a:lnTo>
                  <a:pt x="267" y="123"/>
                </a:lnTo>
                <a:lnTo>
                  <a:pt x="258" y="118"/>
                </a:lnTo>
                <a:lnTo>
                  <a:pt x="245" y="114"/>
                </a:lnTo>
                <a:lnTo>
                  <a:pt x="227" y="109"/>
                </a:lnTo>
                <a:lnTo>
                  <a:pt x="203" y="103"/>
                </a:lnTo>
                <a:lnTo>
                  <a:pt x="175" y="97"/>
                </a:lnTo>
                <a:lnTo>
                  <a:pt x="141" y="91"/>
                </a:lnTo>
                <a:lnTo>
                  <a:pt x="103" y="84"/>
                </a:lnTo>
                <a:lnTo>
                  <a:pt x="59" y="77"/>
                </a:lnTo>
                <a:lnTo>
                  <a:pt x="48" y="75"/>
                </a:lnTo>
                <a:lnTo>
                  <a:pt x="34" y="72"/>
                </a:lnTo>
                <a:lnTo>
                  <a:pt x="18" y="69"/>
                </a:lnTo>
                <a:lnTo>
                  <a:pt x="0" y="64"/>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200" name="Freeform 80"/>
          <p:cNvSpPr/>
          <p:nvPr/>
        </p:nvSpPr>
        <p:spPr>
          <a:xfrm>
            <a:off x="5851080" y="517320"/>
            <a:ext cx="179640" cy="157320"/>
          </a:xfrm>
          <a:custGeom>
            <a:avLst/>
            <a:gdLst>
              <a:gd name="textAreaLeft" fmla="*/ 0 w 179640"/>
              <a:gd name="textAreaRight" fmla="*/ 180000 w 179640"/>
              <a:gd name="textAreaTop" fmla="*/ 0 h 157320"/>
              <a:gd name="textAreaBottom" fmla="*/ 157680 h 157320"/>
            </a:gdLst>
            <a:ahLst/>
            <a:rect l="textAreaLeft" t="textAreaTop" r="textAreaRight" b="textAreaBottom"/>
            <a:pathLst>
              <a:path w="1708" h="1590">
                <a:moveTo>
                  <a:pt x="816" y="0"/>
                </a:moveTo>
                <a:lnTo>
                  <a:pt x="886" y="0"/>
                </a:lnTo>
                <a:lnTo>
                  <a:pt x="905" y="48"/>
                </a:lnTo>
                <a:lnTo>
                  <a:pt x="924" y="98"/>
                </a:lnTo>
                <a:lnTo>
                  <a:pt x="945" y="147"/>
                </a:lnTo>
                <a:lnTo>
                  <a:pt x="965" y="197"/>
                </a:lnTo>
                <a:lnTo>
                  <a:pt x="986" y="249"/>
                </a:lnTo>
                <a:lnTo>
                  <a:pt x="1007" y="301"/>
                </a:lnTo>
                <a:lnTo>
                  <a:pt x="1029" y="354"/>
                </a:lnTo>
                <a:lnTo>
                  <a:pt x="1052" y="408"/>
                </a:lnTo>
                <a:lnTo>
                  <a:pt x="1075" y="462"/>
                </a:lnTo>
                <a:lnTo>
                  <a:pt x="1099" y="517"/>
                </a:lnTo>
                <a:lnTo>
                  <a:pt x="1123" y="573"/>
                </a:lnTo>
                <a:lnTo>
                  <a:pt x="1148" y="631"/>
                </a:lnTo>
                <a:lnTo>
                  <a:pt x="1173" y="689"/>
                </a:lnTo>
                <a:lnTo>
                  <a:pt x="1199" y="747"/>
                </a:lnTo>
                <a:lnTo>
                  <a:pt x="1225" y="807"/>
                </a:lnTo>
                <a:lnTo>
                  <a:pt x="1252" y="867"/>
                </a:lnTo>
                <a:lnTo>
                  <a:pt x="1508" y="1428"/>
                </a:lnTo>
                <a:lnTo>
                  <a:pt x="1518" y="1441"/>
                </a:lnTo>
                <a:lnTo>
                  <a:pt x="1527" y="1453"/>
                </a:lnTo>
                <a:lnTo>
                  <a:pt x="1537" y="1464"/>
                </a:lnTo>
                <a:lnTo>
                  <a:pt x="1547" y="1472"/>
                </a:lnTo>
                <a:lnTo>
                  <a:pt x="1553" y="1474"/>
                </a:lnTo>
                <a:lnTo>
                  <a:pt x="1562" y="1478"/>
                </a:lnTo>
                <a:lnTo>
                  <a:pt x="1576" y="1484"/>
                </a:lnTo>
                <a:lnTo>
                  <a:pt x="1594" y="1490"/>
                </a:lnTo>
                <a:lnTo>
                  <a:pt x="1616" y="1496"/>
                </a:lnTo>
                <a:lnTo>
                  <a:pt x="1643" y="1505"/>
                </a:lnTo>
                <a:lnTo>
                  <a:pt x="1673" y="1514"/>
                </a:lnTo>
                <a:lnTo>
                  <a:pt x="1708" y="1524"/>
                </a:lnTo>
                <a:lnTo>
                  <a:pt x="1708" y="1590"/>
                </a:lnTo>
                <a:lnTo>
                  <a:pt x="1660" y="1587"/>
                </a:lnTo>
                <a:lnTo>
                  <a:pt x="1615" y="1584"/>
                </a:lnTo>
                <a:lnTo>
                  <a:pt x="1573" y="1582"/>
                </a:lnTo>
                <a:lnTo>
                  <a:pt x="1535" y="1580"/>
                </a:lnTo>
                <a:lnTo>
                  <a:pt x="1500" y="1579"/>
                </a:lnTo>
                <a:lnTo>
                  <a:pt x="1468" y="1578"/>
                </a:lnTo>
                <a:lnTo>
                  <a:pt x="1439" y="1577"/>
                </a:lnTo>
                <a:lnTo>
                  <a:pt x="1414" y="1577"/>
                </a:lnTo>
                <a:lnTo>
                  <a:pt x="1387" y="1577"/>
                </a:lnTo>
                <a:lnTo>
                  <a:pt x="1357" y="1578"/>
                </a:lnTo>
                <a:lnTo>
                  <a:pt x="1322" y="1579"/>
                </a:lnTo>
                <a:lnTo>
                  <a:pt x="1282" y="1580"/>
                </a:lnTo>
                <a:lnTo>
                  <a:pt x="1239" y="1582"/>
                </a:lnTo>
                <a:lnTo>
                  <a:pt x="1191" y="1584"/>
                </a:lnTo>
                <a:lnTo>
                  <a:pt x="1140" y="1587"/>
                </a:lnTo>
                <a:lnTo>
                  <a:pt x="1083" y="1590"/>
                </a:lnTo>
                <a:lnTo>
                  <a:pt x="1083" y="1524"/>
                </a:lnTo>
                <a:lnTo>
                  <a:pt x="1143" y="1511"/>
                </a:lnTo>
                <a:lnTo>
                  <a:pt x="1188" y="1500"/>
                </a:lnTo>
                <a:lnTo>
                  <a:pt x="1206" y="1494"/>
                </a:lnTo>
                <a:lnTo>
                  <a:pt x="1220" y="1489"/>
                </a:lnTo>
                <a:lnTo>
                  <a:pt x="1231" y="1485"/>
                </a:lnTo>
                <a:lnTo>
                  <a:pt x="1238" y="1481"/>
                </a:lnTo>
                <a:lnTo>
                  <a:pt x="1243" y="1476"/>
                </a:lnTo>
                <a:lnTo>
                  <a:pt x="1248" y="1472"/>
                </a:lnTo>
                <a:lnTo>
                  <a:pt x="1252" y="1467"/>
                </a:lnTo>
                <a:lnTo>
                  <a:pt x="1255" y="1463"/>
                </a:lnTo>
                <a:lnTo>
                  <a:pt x="1257" y="1457"/>
                </a:lnTo>
                <a:lnTo>
                  <a:pt x="1259" y="1453"/>
                </a:lnTo>
                <a:lnTo>
                  <a:pt x="1260" y="1448"/>
                </a:lnTo>
                <a:lnTo>
                  <a:pt x="1260" y="1441"/>
                </a:lnTo>
                <a:lnTo>
                  <a:pt x="1260" y="1436"/>
                </a:lnTo>
                <a:lnTo>
                  <a:pt x="1259" y="1429"/>
                </a:lnTo>
                <a:lnTo>
                  <a:pt x="1257" y="1420"/>
                </a:lnTo>
                <a:lnTo>
                  <a:pt x="1255" y="1411"/>
                </a:lnTo>
                <a:lnTo>
                  <a:pt x="1248" y="1389"/>
                </a:lnTo>
                <a:lnTo>
                  <a:pt x="1237" y="1364"/>
                </a:lnTo>
                <a:lnTo>
                  <a:pt x="1127" y="1095"/>
                </a:lnTo>
                <a:lnTo>
                  <a:pt x="1071" y="1095"/>
                </a:lnTo>
                <a:lnTo>
                  <a:pt x="1018" y="1094"/>
                </a:lnTo>
                <a:lnTo>
                  <a:pt x="969" y="1094"/>
                </a:lnTo>
                <a:lnTo>
                  <a:pt x="924" y="1093"/>
                </a:lnTo>
                <a:lnTo>
                  <a:pt x="884" y="1093"/>
                </a:lnTo>
                <a:lnTo>
                  <a:pt x="847" y="1093"/>
                </a:lnTo>
                <a:lnTo>
                  <a:pt x="814" y="1093"/>
                </a:lnTo>
                <a:lnTo>
                  <a:pt x="786" y="1093"/>
                </a:lnTo>
                <a:lnTo>
                  <a:pt x="484" y="1095"/>
                </a:lnTo>
                <a:lnTo>
                  <a:pt x="368" y="1374"/>
                </a:lnTo>
                <a:lnTo>
                  <a:pt x="357" y="1404"/>
                </a:lnTo>
                <a:lnTo>
                  <a:pt x="347" y="1428"/>
                </a:lnTo>
                <a:lnTo>
                  <a:pt x="342" y="1446"/>
                </a:lnTo>
                <a:lnTo>
                  <a:pt x="340" y="1457"/>
                </a:lnTo>
                <a:lnTo>
                  <a:pt x="341" y="1464"/>
                </a:lnTo>
                <a:lnTo>
                  <a:pt x="344" y="1470"/>
                </a:lnTo>
                <a:lnTo>
                  <a:pt x="348" y="1476"/>
                </a:lnTo>
                <a:lnTo>
                  <a:pt x="354" y="1481"/>
                </a:lnTo>
                <a:lnTo>
                  <a:pt x="359" y="1484"/>
                </a:lnTo>
                <a:lnTo>
                  <a:pt x="367" y="1487"/>
                </a:lnTo>
                <a:lnTo>
                  <a:pt x="378" y="1490"/>
                </a:lnTo>
                <a:lnTo>
                  <a:pt x="393" y="1494"/>
                </a:lnTo>
                <a:lnTo>
                  <a:pt x="431" y="1503"/>
                </a:lnTo>
                <a:lnTo>
                  <a:pt x="483" y="1514"/>
                </a:lnTo>
                <a:lnTo>
                  <a:pt x="489" y="1517"/>
                </a:lnTo>
                <a:lnTo>
                  <a:pt x="497" y="1519"/>
                </a:lnTo>
                <a:lnTo>
                  <a:pt x="506" y="1521"/>
                </a:lnTo>
                <a:lnTo>
                  <a:pt x="516" y="1524"/>
                </a:lnTo>
                <a:lnTo>
                  <a:pt x="516" y="1590"/>
                </a:lnTo>
                <a:lnTo>
                  <a:pt x="471" y="1587"/>
                </a:lnTo>
                <a:lnTo>
                  <a:pt x="429" y="1584"/>
                </a:lnTo>
                <a:lnTo>
                  <a:pt x="391" y="1582"/>
                </a:lnTo>
                <a:lnTo>
                  <a:pt x="356" y="1580"/>
                </a:lnTo>
                <a:lnTo>
                  <a:pt x="324" y="1579"/>
                </a:lnTo>
                <a:lnTo>
                  <a:pt x="296" y="1578"/>
                </a:lnTo>
                <a:lnTo>
                  <a:pt x="272" y="1577"/>
                </a:lnTo>
                <a:lnTo>
                  <a:pt x="251" y="1577"/>
                </a:lnTo>
                <a:lnTo>
                  <a:pt x="225" y="1577"/>
                </a:lnTo>
                <a:lnTo>
                  <a:pt x="199" y="1578"/>
                </a:lnTo>
                <a:lnTo>
                  <a:pt x="169" y="1579"/>
                </a:lnTo>
                <a:lnTo>
                  <a:pt x="140" y="1580"/>
                </a:lnTo>
                <a:lnTo>
                  <a:pt x="107" y="1582"/>
                </a:lnTo>
                <a:lnTo>
                  <a:pt x="73" y="1584"/>
                </a:lnTo>
                <a:lnTo>
                  <a:pt x="37" y="1587"/>
                </a:lnTo>
                <a:lnTo>
                  <a:pt x="0" y="1590"/>
                </a:lnTo>
                <a:lnTo>
                  <a:pt x="0" y="1524"/>
                </a:lnTo>
                <a:lnTo>
                  <a:pt x="24" y="1519"/>
                </a:lnTo>
                <a:lnTo>
                  <a:pt x="46" y="1512"/>
                </a:lnTo>
                <a:lnTo>
                  <a:pt x="67" y="1507"/>
                </a:lnTo>
                <a:lnTo>
                  <a:pt x="85" y="1501"/>
                </a:lnTo>
                <a:lnTo>
                  <a:pt x="100" y="1494"/>
                </a:lnTo>
                <a:lnTo>
                  <a:pt x="115" y="1488"/>
                </a:lnTo>
                <a:lnTo>
                  <a:pt x="127" y="1482"/>
                </a:lnTo>
                <a:lnTo>
                  <a:pt x="138" y="1475"/>
                </a:lnTo>
                <a:lnTo>
                  <a:pt x="145" y="1469"/>
                </a:lnTo>
                <a:lnTo>
                  <a:pt x="151" y="1463"/>
                </a:lnTo>
                <a:lnTo>
                  <a:pt x="159" y="1455"/>
                </a:lnTo>
                <a:lnTo>
                  <a:pt x="166" y="1447"/>
                </a:lnTo>
                <a:lnTo>
                  <a:pt x="180" y="1428"/>
                </a:lnTo>
                <a:lnTo>
                  <a:pt x="195" y="1404"/>
                </a:lnTo>
                <a:lnTo>
                  <a:pt x="214" y="1369"/>
                </a:lnTo>
                <a:lnTo>
                  <a:pt x="238" y="1319"/>
                </a:lnTo>
                <a:lnTo>
                  <a:pt x="269" y="1255"/>
                </a:lnTo>
                <a:lnTo>
                  <a:pt x="306" y="1174"/>
                </a:lnTo>
                <a:lnTo>
                  <a:pt x="349" y="1079"/>
                </a:lnTo>
                <a:lnTo>
                  <a:pt x="398" y="969"/>
                </a:lnTo>
                <a:lnTo>
                  <a:pt x="453" y="844"/>
                </a:lnTo>
                <a:lnTo>
                  <a:pt x="515" y="703"/>
                </a:lnTo>
                <a:lnTo>
                  <a:pt x="816" y="0"/>
                </a:lnTo>
                <a:close/>
                <a:moveTo>
                  <a:pt x="526" y="985"/>
                </a:moveTo>
                <a:lnTo>
                  <a:pt x="563" y="986"/>
                </a:lnTo>
                <a:lnTo>
                  <a:pt x="597" y="987"/>
                </a:lnTo>
                <a:lnTo>
                  <a:pt x="629" y="988"/>
                </a:lnTo>
                <a:lnTo>
                  <a:pt x="658" y="988"/>
                </a:lnTo>
                <a:lnTo>
                  <a:pt x="684" y="989"/>
                </a:lnTo>
                <a:lnTo>
                  <a:pt x="707" y="989"/>
                </a:lnTo>
                <a:lnTo>
                  <a:pt x="727" y="989"/>
                </a:lnTo>
                <a:lnTo>
                  <a:pt x="745" y="989"/>
                </a:lnTo>
                <a:lnTo>
                  <a:pt x="755" y="989"/>
                </a:lnTo>
                <a:lnTo>
                  <a:pt x="774" y="989"/>
                </a:lnTo>
                <a:lnTo>
                  <a:pt x="802" y="989"/>
                </a:lnTo>
                <a:lnTo>
                  <a:pt x="840" y="988"/>
                </a:lnTo>
                <a:lnTo>
                  <a:pt x="886" y="988"/>
                </a:lnTo>
                <a:lnTo>
                  <a:pt x="942" y="987"/>
                </a:lnTo>
                <a:lnTo>
                  <a:pt x="1008" y="986"/>
                </a:lnTo>
                <a:lnTo>
                  <a:pt x="1083" y="985"/>
                </a:lnTo>
                <a:lnTo>
                  <a:pt x="805" y="323"/>
                </a:lnTo>
                <a:lnTo>
                  <a:pt x="526" y="985"/>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201" name="Freeform 81"/>
          <p:cNvSpPr/>
          <p:nvPr/>
        </p:nvSpPr>
        <p:spPr>
          <a:xfrm>
            <a:off x="6050520" y="516600"/>
            <a:ext cx="180720" cy="161640"/>
          </a:xfrm>
          <a:custGeom>
            <a:avLst/>
            <a:gdLst>
              <a:gd name="textAreaLeft" fmla="*/ 0 w 180720"/>
              <a:gd name="textAreaRight" fmla="*/ 181080 w 180720"/>
              <a:gd name="textAreaTop" fmla="*/ 0 h 161640"/>
              <a:gd name="textAreaBottom" fmla="*/ 162000 h 161640"/>
            </a:gdLst>
            <a:ahLst/>
            <a:rect l="textAreaLeft" t="textAreaTop" r="textAreaRight" b="textAreaBottom"/>
            <a:pathLst>
              <a:path w="1726" h="1629">
                <a:moveTo>
                  <a:pt x="1726" y="790"/>
                </a:moveTo>
                <a:lnTo>
                  <a:pt x="1726" y="851"/>
                </a:lnTo>
                <a:lnTo>
                  <a:pt x="1558" y="891"/>
                </a:lnTo>
                <a:lnTo>
                  <a:pt x="1545" y="895"/>
                </a:lnTo>
                <a:lnTo>
                  <a:pt x="1534" y="899"/>
                </a:lnTo>
                <a:lnTo>
                  <a:pt x="1526" y="905"/>
                </a:lnTo>
                <a:lnTo>
                  <a:pt x="1519" y="911"/>
                </a:lnTo>
                <a:lnTo>
                  <a:pt x="1513" y="917"/>
                </a:lnTo>
                <a:lnTo>
                  <a:pt x="1509" y="926"/>
                </a:lnTo>
                <a:lnTo>
                  <a:pt x="1505" y="937"/>
                </a:lnTo>
                <a:lnTo>
                  <a:pt x="1503" y="948"/>
                </a:lnTo>
                <a:lnTo>
                  <a:pt x="1501" y="962"/>
                </a:lnTo>
                <a:lnTo>
                  <a:pt x="1498" y="982"/>
                </a:lnTo>
                <a:lnTo>
                  <a:pt x="1497" y="1005"/>
                </a:lnTo>
                <a:lnTo>
                  <a:pt x="1495" y="1034"/>
                </a:lnTo>
                <a:lnTo>
                  <a:pt x="1494" y="1068"/>
                </a:lnTo>
                <a:lnTo>
                  <a:pt x="1494" y="1106"/>
                </a:lnTo>
                <a:lnTo>
                  <a:pt x="1493" y="1149"/>
                </a:lnTo>
                <a:lnTo>
                  <a:pt x="1493" y="1195"/>
                </a:lnTo>
                <a:lnTo>
                  <a:pt x="1493" y="1227"/>
                </a:lnTo>
                <a:lnTo>
                  <a:pt x="1494" y="1261"/>
                </a:lnTo>
                <a:lnTo>
                  <a:pt x="1494" y="1297"/>
                </a:lnTo>
                <a:lnTo>
                  <a:pt x="1495" y="1336"/>
                </a:lnTo>
                <a:lnTo>
                  <a:pt x="1497" y="1377"/>
                </a:lnTo>
                <a:lnTo>
                  <a:pt x="1498" y="1422"/>
                </a:lnTo>
                <a:lnTo>
                  <a:pt x="1501" y="1469"/>
                </a:lnTo>
                <a:lnTo>
                  <a:pt x="1503" y="1518"/>
                </a:lnTo>
                <a:lnTo>
                  <a:pt x="1489" y="1520"/>
                </a:lnTo>
                <a:lnTo>
                  <a:pt x="1471" y="1524"/>
                </a:lnTo>
                <a:lnTo>
                  <a:pt x="1451" y="1528"/>
                </a:lnTo>
                <a:lnTo>
                  <a:pt x="1426" y="1533"/>
                </a:lnTo>
                <a:lnTo>
                  <a:pt x="1398" y="1540"/>
                </a:lnTo>
                <a:lnTo>
                  <a:pt x="1367" y="1546"/>
                </a:lnTo>
                <a:lnTo>
                  <a:pt x="1332" y="1553"/>
                </a:lnTo>
                <a:lnTo>
                  <a:pt x="1294" y="1562"/>
                </a:lnTo>
                <a:lnTo>
                  <a:pt x="1244" y="1573"/>
                </a:lnTo>
                <a:lnTo>
                  <a:pt x="1200" y="1583"/>
                </a:lnTo>
                <a:lnTo>
                  <a:pt x="1160" y="1591"/>
                </a:lnTo>
                <a:lnTo>
                  <a:pt x="1124" y="1599"/>
                </a:lnTo>
                <a:lnTo>
                  <a:pt x="1093" y="1604"/>
                </a:lnTo>
                <a:lnTo>
                  <a:pt x="1067" y="1609"/>
                </a:lnTo>
                <a:lnTo>
                  <a:pt x="1046" y="1613"/>
                </a:lnTo>
                <a:lnTo>
                  <a:pt x="1030" y="1615"/>
                </a:lnTo>
                <a:lnTo>
                  <a:pt x="1003" y="1618"/>
                </a:lnTo>
                <a:lnTo>
                  <a:pt x="976" y="1621"/>
                </a:lnTo>
                <a:lnTo>
                  <a:pt x="948" y="1623"/>
                </a:lnTo>
                <a:lnTo>
                  <a:pt x="920" y="1625"/>
                </a:lnTo>
                <a:lnTo>
                  <a:pt x="892" y="1626"/>
                </a:lnTo>
                <a:lnTo>
                  <a:pt x="862" y="1627"/>
                </a:lnTo>
                <a:lnTo>
                  <a:pt x="833" y="1629"/>
                </a:lnTo>
                <a:lnTo>
                  <a:pt x="804" y="1629"/>
                </a:lnTo>
                <a:lnTo>
                  <a:pt x="755" y="1627"/>
                </a:lnTo>
                <a:lnTo>
                  <a:pt x="709" y="1625"/>
                </a:lnTo>
                <a:lnTo>
                  <a:pt x="664" y="1621"/>
                </a:lnTo>
                <a:lnTo>
                  <a:pt x="620" y="1616"/>
                </a:lnTo>
                <a:lnTo>
                  <a:pt x="579" y="1608"/>
                </a:lnTo>
                <a:lnTo>
                  <a:pt x="538" y="1600"/>
                </a:lnTo>
                <a:lnTo>
                  <a:pt x="499" y="1589"/>
                </a:lnTo>
                <a:lnTo>
                  <a:pt x="460" y="1577"/>
                </a:lnTo>
                <a:lnTo>
                  <a:pt x="424" y="1563"/>
                </a:lnTo>
                <a:lnTo>
                  <a:pt x="389" y="1548"/>
                </a:lnTo>
                <a:lnTo>
                  <a:pt x="356" y="1531"/>
                </a:lnTo>
                <a:lnTo>
                  <a:pt x="323" y="1513"/>
                </a:lnTo>
                <a:lnTo>
                  <a:pt x="307" y="1504"/>
                </a:lnTo>
                <a:lnTo>
                  <a:pt x="292" y="1493"/>
                </a:lnTo>
                <a:lnTo>
                  <a:pt x="277" y="1482"/>
                </a:lnTo>
                <a:lnTo>
                  <a:pt x="262" y="1471"/>
                </a:lnTo>
                <a:lnTo>
                  <a:pt x="249" y="1460"/>
                </a:lnTo>
                <a:lnTo>
                  <a:pt x="234" y="1448"/>
                </a:lnTo>
                <a:lnTo>
                  <a:pt x="221" y="1436"/>
                </a:lnTo>
                <a:lnTo>
                  <a:pt x="207" y="1423"/>
                </a:lnTo>
                <a:lnTo>
                  <a:pt x="182" y="1396"/>
                </a:lnTo>
                <a:lnTo>
                  <a:pt x="159" y="1369"/>
                </a:lnTo>
                <a:lnTo>
                  <a:pt x="137" y="1340"/>
                </a:lnTo>
                <a:lnTo>
                  <a:pt x="116" y="1311"/>
                </a:lnTo>
                <a:lnTo>
                  <a:pt x="98" y="1280"/>
                </a:lnTo>
                <a:lnTo>
                  <a:pt x="81" y="1248"/>
                </a:lnTo>
                <a:lnTo>
                  <a:pt x="65" y="1214"/>
                </a:lnTo>
                <a:lnTo>
                  <a:pt x="52" y="1180"/>
                </a:lnTo>
                <a:lnTo>
                  <a:pt x="40" y="1144"/>
                </a:lnTo>
                <a:lnTo>
                  <a:pt x="29" y="1108"/>
                </a:lnTo>
                <a:lnTo>
                  <a:pt x="20" y="1070"/>
                </a:lnTo>
                <a:lnTo>
                  <a:pt x="12" y="1031"/>
                </a:lnTo>
                <a:lnTo>
                  <a:pt x="7" y="991"/>
                </a:lnTo>
                <a:lnTo>
                  <a:pt x="3" y="949"/>
                </a:lnTo>
                <a:lnTo>
                  <a:pt x="1" y="907"/>
                </a:lnTo>
                <a:lnTo>
                  <a:pt x="0" y="862"/>
                </a:lnTo>
                <a:lnTo>
                  <a:pt x="1" y="816"/>
                </a:lnTo>
                <a:lnTo>
                  <a:pt x="4" y="769"/>
                </a:lnTo>
                <a:lnTo>
                  <a:pt x="8" y="724"/>
                </a:lnTo>
                <a:lnTo>
                  <a:pt x="15" y="680"/>
                </a:lnTo>
                <a:lnTo>
                  <a:pt x="19" y="658"/>
                </a:lnTo>
                <a:lnTo>
                  <a:pt x="23" y="637"/>
                </a:lnTo>
                <a:lnTo>
                  <a:pt x="28" y="615"/>
                </a:lnTo>
                <a:lnTo>
                  <a:pt x="34" y="595"/>
                </a:lnTo>
                <a:lnTo>
                  <a:pt x="40" y="574"/>
                </a:lnTo>
                <a:lnTo>
                  <a:pt x="46" y="554"/>
                </a:lnTo>
                <a:lnTo>
                  <a:pt x="54" y="534"/>
                </a:lnTo>
                <a:lnTo>
                  <a:pt x="61" y="515"/>
                </a:lnTo>
                <a:lnTo>
                  <a:pt x="69" y="496"/>
                </a:lnTo>
                <a:lnTo>
                  <a:pt x="77" y="477"/>
                </a:lnTo>
                <a:lnTo>
                  <a:pt x="86" y="458"/>
                </a:lnTo>
                <a:lnTo>
                  <a:pt x="95" y="438"/>
                </a:lnTo>
                <a:lnTo>
                  <a:pt x="105" y="420"/>
                </a:lnTo>
                <a:lnTo>
                  <a:pt x="115" y="402"/>
                </a:lnTo>
                <a:lnTo>
                  <a:pt x="126" y="386"/>
                </a:lnTo>
                <a:lnTo>
                  <a:pt x="137" y="367"/>
                </a:lnTo>
                <a:lnTo>
                  <a:pt x="149" y="351"/>
                </a:lnTo>
                <a:lnTo>
                  <a:pt x="161" y="334"/>
                </a:lnTo>
                <a:lnTo>
                  <a:pt x="173" y="318"/>
                </a:lnTo>
                <a:lnTo>
                  <a:pt x="186" y="301"/>
                </a:lnTo>
                <a:lnTo>
                  <a:pt x="200" y="285"/>
                </a:lnTo>
                <a:lnTo>
                  <a:pt x="214" y="269"/>
                </a:lnTo>
                <a:lnTo>
                  <a:pt x="228" y="254"/>
                </a:lnTo>
                <a:lnTo>
                  <a:pt x="243" y="239"/>
                </a:lnTo>
                <a:lnTo>
                  <a:pt x="259" y="224"/>
                </a:lnTo>
                <a:lnTo>
                  <a:pt x="275" y="210"/>
                </a:lnTo>
                <a:lnTo>
                  <a:pt x="291" y="196"/>
                </a:lnTo>
                <a:lnTo>
                  <a:pt x="307" y="183"/>
                </a:lnTo>
                <a:lnTo>
                  <a:pt x="324" y="170"/>
                </a:lnTo>
                <a:lnTo>
                  <a:pt x="341" y="158"/>
                </a:lnTo>
                <a:lnTo>
                  <a:pt x="358" y="146"/>
                </a:lnTo>
                <a:lnTo>
                  <a:pt x="376" y="134"/>
                </a:lnTo>
                <a:lnTo>
                  <a:pt x="394" y="123"/>
                </a:lnTo>
                <a:lnTo>
                  <a:pt x="412" y="113"/>
                </a:lnTo>
                <a:lnTo>
                  <a:pt x="430" y="103"/>
                </a:lnTo>
                <a:lnTo>
                  <a:pt x="449" y="93"/>
                </a:lnTo>
                <a:lnTo>
                  <a:pt x="468" y="83"/>
                </a:lnTo>
                <a:lnTo>
                  <a:pt x="488" y="75"/>
                </a:lnTo>
                <a:lnTo>
                  <a:pt x="507" y="68"/>
                </a:lnTo>
                <a:lnTo>
                  <a:pt x="527" y="59"/>
                </a:lnTo>
                <a:lnTo>
                  <a:pt x="548" y="52"/>
                </a:lnTo>
                <a:lnTo>
                  <a:pt x="568" y="45"/>
                </a:lnTo>
                <a:lnTo>
                  <a:pt x="590" y="39"/>
                </a:lnTo>
                <a:lnTo>
                  <a:pt x="611" y="33"/>
                </a:lnTo>
                <a:lnTo>
                  <a:pt x="655" y="23"/>
                </a:lnTo>
                <a:lnTo>
                  <a:pt x="700" y="15"/>
                </a:lnTo>
                <a:lnTo>
                  <a:pt x="746" y="8"/>
                </a:lnTo>
                <a:lnTo>
                  <a:pt x="794" y="3"/>
                </a:lnTo>
                <a:lnTo>
                  <a:pt x="843" y="1"/>
                </a:lnTo>
                <a:lnTo>
                  <a:pt x="893" y="0"/>
                </a:lnTo>
                <a:lnTo>
                  <a:pt x="918" y="0"/>
                </a:lnTo>
                <a:lnTo>
                  <a:pt x="942" y="0"/>
                </a:lnTo>
                <a:lnTo>
                  <a:pt x="967" y="1"/>
                </a:lnTo>
                <a:lnTo>
                  <a:pt x="991" y="3"/>
                </a:lnTo>
                <a:lnTo>
                  <a:pt x="1015" y="4"/>
                </a:lnTo>
                <a:lnTo>
                  <a:pt x="1040" y="6"/>
                </a:lnTo>
                <a:lnTo>
                  <a:pt x="1063" y="8"/>
                </a:lnTo>
                <a:lnTo>
                  <a:pt x="1086" y="11"/>
                </a:lnTo>
                <a:lnTo>
                  <a:pt x="1097" y="12"/>
                </a:lnTo>
                <a:lnTo>
                  <a:pt x="1117" y="17"/>
                </a:lnTo>
                <a:lnTo>
                  <a:pt x="1149" y="22"/>
                </a:lnTo>
                <a:lnTo>
                  <a:pt x="1190" y="29"/>
                </a:lnTo>
                <a:lnTo>
                  <a:pt x="1243" y="39"/>
                </a:lnTo>
                <a:lnTo>
                  <a:pt x="1306" y="51"/>
                </a:lnTo>
                <a:lnTo>
                  <a:pt x="1379" y="63"/>
                </a:lnTo>
                <a:lnTo>
                  <a:pt x="1462" y="78"/>
                </a:lnTo>
                <a:lnTo>
                  <a:pt x="1462" y="108"/>
                </a:lnTo>
                <a:lnTo>
                  <a:pt x="1461" y="133"/>
                </a:lnTo>
                <a:lnTo>
                  <a:pt x="1461" y="156"/>
                </a:lnTo>
                <a:lnTo>
                  <a:pt x="1461" y="176"/>
                </a:lnTo>
                <a:lnTo>
                  <a:pt x="1461" y="213"/>
                </a:lnTo>
                <a:lnTo>
                  <a:pt x="1462" y="252"/>
                </a:lnTo>
                <a:lnTo>
                  <a:pt x="1464" y="292"/>
                </a:lnTo>
                <a:lnTo>
                  <a:pt x="1465" y="333"/>
                </a:lnTo>
                <a:lnTo>
                  <a:pt x="1467" y="375"/>
                </a:lnTo>
                <a:lnTo>
                  <a:pt x="1470" y="418"/>
                </a:lnTo>
                <a:lnTo>
                  <a:pt x="1472" y="464"/>
                </a:lnTo>
                <a:lnTo>
                  <a:pt x="1476" y="509"/>
                </a:lnTo>
                <a:lnTo>
                  <a:pt x="1394" y="509"/>
                </a:lnTo>
                <a:lnTo>
                  <a:pt x="1381" y="464"/>
                </a:lnTo>
                <a:lnTo>
                  <a:pt x="1368" y="424"/>
                </a:lnTo>
                <a:lnTo>
                  <a:pt x="1357" y="387"/>
                </a:lnTo>
                <a:lnTo>
                  <a:pt x="1344" y="354"/>
                </a:lnTo>
                <a:lnTo>
                  <a:pt x="1332" y="324"/>
                </a:lnTo>
                <a:lnTo>
                  <a:pt x="1321" y="300"/>
                </a:lnTo>
                <a:lnTo>
                  <a:pt x="1309" y="278"/>
                </a:lnTo>
                <a:lnTo>
                  <a:pt x="1298" y="262"/>
                </a:lnTo>
                <a:lnTo>
                  <a:pt x="1286" y="247"/>
                </a:lnTo>
                <a:lnTo>
                  <a:pt x="1272" y="233"/>
                </a:lnTo>
                <a:lnTo>
                  <a:pt x="1257" y="220"/>
                </a:lnTo>
                <a:lnTo>
                  <a:pt x="1240" y="207"/>
                </a:lnTo>
                <a:lnTo>
                  <a:pt x="1221" y="196"/>
                </a:lnTo>
                <a:lnTo>
                  <a:pt x="1200" y="185"/>
                </a:lnTo>
                <a:lnTo>
                  <a:pt x="1178" y="175"/>
                </a:lnTo>
                <a:lnTo>
                  <a:pt x="1153" y="165"/>
                </a:lnTo>
                <a:lnTo>
                  <a:pt x="1120" y="152"/>
                </a:lnTo>
                <a:lnTo>
                  <a:pt x="1086" y="143"/>
                </a:lnTo>
                <a:lnTo>
                  <a:pt x="1051" y="134"/>
                </a:lnTo>
                <a:lnTo>
                  <a:pt x="1015" y="127"/>
                </a:lnTo>
                <a:lnTo>
                  <a:pt x="979" y="122"/>
                </a:lnTo>
                <a:lnTo>
                  <a:pt x="942" y="117"/>
                </a:lnTo>
                <a:lnTo>
                  <a:pt x="905" y="115"/>
                </a:lnTo>
                <a:lnTo>
                  <a:pt x="867" y="114"/>
                </a:lnTo>
                <a:lnTo>
                  <a:pt x="825" y="115"/>
                </a:lnTo>
                <a:lnTo>
                  <a:pt x="785" y="118"/>
                </a:lnTo>
                <a:lnTo>
                  <a:pt x="764" y="121"/>
                </a:lnTo>
                <a:lnTo>
                  <a:pt x="745" y="123"/>
                </a:lnTo>
                <a:lnTo>
                  <a:pt x="726" y="126"/>
                </a:lnTo>
                <a:lnTo>
                  <a:pt x="707" y="130"/>
                </a:lnTo>
                <a:lnTo>
                  <a:pt x="688" y="134"/>
                </a:lnTo>
                <a:lnTo>
                  <a:pt x="670" y="140"/>
                </a:lnTo>
                <a:lnTo>
                  <a:pt x="652" y="145"/>
                </a:lnTo>
                <a:lnTo>
                  <a:pt x="635" y="150"/>
                </a:lnTo>
                <a:lnTo>
                  <a:pt x="618" y="157"/>
                </a:lnTo>
                <a:lnTo>
                  <a:pt x="601" y="163"/>
                </a:lnTo>
                <a:lnTo>
                  <a:pt x="584" y="170"/>
                </a:lnTo>
                <a:lnTo>
                  <a:pt x="568" y="179"/>
                </a:lnTo>
                <a:lnTo>
                  <a:pt x="553" y="186"/>
                </a:lnTo>
                <a:lnTo>
                  <a:pt x="537" y="196"/>
                </a:lnTo>
                <a:lnTo>
                  <a:pt x="522" y="204"/>
                </a:lnTo>
                <a:lnTo>
                  <a:pt x="507" y="215"/>
                </a:lnTo>
                <a:lnTo>
                  <a:pt x="492" y="224"/>
                </a:lnTo>
                <a:lnTo>
                  <a:pt x="478" y="236"/>
                </a:lnTo>
                <a:lnTo>
                  <a:pt x="464" y="247"/>
                </a:lnTo>
                <a:lnTo>
                  <a:pt x="451" y="258"/>
                </a:lnTo>
                <a:lnTo>
                  <a:pt x="437" y="271"/>
                </a:lnTo>
                <a:lnTo>
                  <a:pt x="424" y="284"/>
                </a:lnTo>
                <a:lnTo>
                  <a:pt x="412" y="298"/>
                </a:lnTo>
                <a:lnTo>
                  <a:pt x="400" y="311"/>
                </a:lnTo>
                <a:lnTo>
                  <a:pt x="387" y="325"/>
                </a:lnTo>
                <a:lnTo>
                  <a:pt x="377" y="340"/>
                </a:lnTo>
                <a:lnTo>
                  <a:pt x="365" y="356"/>
                </a:lnTo>
                <a:lnTo>
                  <a:pt x="355" y="372"/>
                </a:lnTo>
                <a:lnTo>
                  <a:pt x="340" y="395"/>
                </a:lnTo>
                <a:lnTo>
                  <a:pt x="326" y="418"/>
                </a:lnTo>
                <a:lnTo>
                  <a:pt x="313" y="443"/>
                </a:lnTo>
                <a:lnTo>
                  <a:pt x="302" y="468"/>
                </a:lnTo>
                <a:lnTo>
                  <a:pt x="291" y="494"/>
                </a:lnTo>
                <a:lnTo>
                  <a:pt x="281" y="520"/>
                </a:lnTo>
                <a:lnTo>
                  <a:pt x="272" y="547"/>
                </a:lnTo>
                <a:lnTo>
                  <a:pt x="265" y="574"/>
                </a:lnTo>
                <a:lnTo>
                  <a:pt x="257" y="603"/>
                </a:lnTo>
                <a:lnTo>
                  <a:pt x="251" y="631"/>
                </a:lnTo>
                <a:lnTo>
                  <a:pt x="245" y="661"/>
                </a:lnTo>
                <a:lnTo>
                  <a:pt x="241" y="692"/>
                </a:lnTo>
                <a:lnTo>
                  <a:pt x="238" y="723"/>
                </a:lnTo>
                <a:lnTo>
                  <a:pt x="236" y="754"/>
                </a:lnTo>
                <a:lnTo>
                  <a:pt x="235" y="786"/>
                </a:lnTo>
                <a:lnTo>
                  <a:pt x="234" y="819"/>
                </a:lnTo>
                <a:lnTo>
                  <a:pt x="235" y="860"/>
                </a:lnTo>
                <a:lnTo>
                  <a:pt x="237" y="902"/>
                </a:lnTo>
                <a:lnTo>
                  <a:pt x="241" y="941"/>
                </a:lnTo>
                <a:lnTo>
                  <a:pt x="246" y="978"/>
                </a:lnTo>
                <a:lnTo>
                  <a:pt x="253" y="1015"/>
                </a:lnTo>
                <a:lnTo>
                  <a:pt x="261" y="1050"/>
                </a:lnTo>
                <a:lnTo>
                  <a:pt x="271" y="1084"/>
                </a:lnTo>
                <a:lnTo>
                  <a:pt x="281" y="1117"/>
                </a:lnTo>
                <a:lnTo>
                  <a:pt x="294" y="1149"/>
                </a:lnTo>
                <a:lnTo>
                  <a:pt x="308" y="1178"/>
                </a:lnTo>
                <a:lnTo>
                  <a:pt x="324" y="1208"/>
                </a:lnTo>
                <a:lnTo>
                  <a:pt x="341" y="1235"/>
                </a:lnTo>
                <a:lnTo>
                  <a:pt x="360" y="1262"/>
                </a:lnTo>
                <a:lnTo>
                  <a:pt x="380" y="1287"/>
                </a:lnTo>
                <a:lnTo>
                  <a:pt x="401" y="1311"/>
                </a:lnTo>
                <a:lnTo>
                  <a:pt x="424" y="1333"/>
                </a:lnTo>
                <a:lnTo>
                  <a:pt x="448" y="1354"/>
                </a:lnTo>
                <a:lnTo>
                  <a:pt x="473" y="1374"/>
                </a:lnTo>
                <a:lnTo>
                  <a:pt x="499" y="1393"/>
                </a:lnTo>
                <a:lnTo>
                  <a:pt x="525" y="1410"/>
                </a:lnTo>
                <a:lnTo>
                  <a:pt x="553" y="1426"/>
                </a:lnTo>
                <a:lnTo>
                  <a:pt x="580" y="1440"/>
                </a:lnTo>
                <a:lnTo>
                  <a:pt x="609" y="1453"/>
                </a:lnTo>
                <a:lnTo>
                  <a:pt x="638" y="1464"/>
                </a:lnTo>
                <a:lnTo>
                  <a:pt x="669" y="1475"/>
                </a:lnTo>
                <a:lnTo>
                  <a:pt x="700" y="1483"/>
                </a:lnTo>
                <a:lnTo>
                  <a:pt x="733" y="1492"/>
                </a:lnTo>
                <a:lnTo>
                  <a:pt x="764" y="1497"/>
                </a:lnTo>
                <a:lnTo>
                  <a:pt x="798" y="1502"/>
                </a:lnTo>
                <a:lnTo>
                  <a:pt x="832" y="1506"/>
                </a:lnTo>
                <a:lnTo>
                  <a:pt x="867" y="1508"/>
                </a:lnTo>
                <a:lnTo>
                  <a:pt x="903" y="1509"/>
                </a:lnTo>
                <a:lnTo>
                  <a:pt x="926" y="1508"/>
                </a:lnTo>
                <a:lnTo>
                  <a:pt x="950" y="1507"/>
                </a:lnTo>
                <a:lnTo>
                  <a:pt x="973" y="1506"/>
                </a:lnTo>
                <a:lnTo>
                  <a:pt x="996" y="1504"/>
                </a:lnTo>
                <a:lnTo>
                  <a:pt x="1020" y="1500"/>
                </a:lnTo>
                <a:lnTo>
                  <a:pt x="1043" y="1497"/>
                </a:lnTo>
                <a:lnTo>
                  <a:pt x="1067" y="1494"/>
                </a:lnTo>
                <a:lnTo>
                  <a:pt x="1091" y="1489"/>
                </a:lnTo>
                <a:lnTo>
                  <a:pt x="1115" y="1484"/>
                </a:lnTo>
                <a:lnTo>
                  <a:pt x="1139" y="1478"/>
                </a:lnTo>
                <a:lnTo>
                  <a:pt x="1164" y="1472"/>
                </a:lnTo>
                <a:lnTo>
                  <a:pt x="1188" y="1465"/>
                </a:lnTo>
                <a:lnTo>
                  <a:pt x="1238" y="1449"/>
                </a:lnTo>
                <a:lnTo>
                  <a:pt x="1288" y="1431"/>
                </a:lnTo>
                <a:lnTo>
                  <a:pt x="1289" y="1400"/>
                </a:lnTo>
                <a:lnTo>
                  <a:pt x="1290" y="1365"/>
                </a:lnTo>
                <a:lnTo>
                  <a:pt x="1290" y="1327"/>
                </a:lnTo>
                <a:lnTo>
                  <a:pt x="1291" y="1284"/>
                </a:lnTo>
                <a:lnTo>
                  <a:pt x="1291" y="1239"/>
                </a:lnTo>
                <a:lnTo>
                  <a:pt x="1292" y="1190"/>
                </a:lnTo>
                <a:lnTo>
                  <a:pt x="1292" y="1138"/>
                </a:lnTo>
                <a:lnTo>
                  <a:pt x="1292" y="1082"/>
                </a:lnTo>
                <a:lnTo>
                  <a:pt x="1292" y="1027"/>
                </a:lnTo>
                <a:lnTo>
                  <a:pt x="1291" y="983"/>
                </a:lnTo>
                <a:lnTo>
                  <a:pt x="1289" y="952"/>
                </a:lnTo>
                <a:lnTo>
                  <a:pt x="1286" y="936"/>
                </a:lnTo>
                <a:lnTo>
                  <a:pt x="1281" y="925"/>
                </a:lnTo>
                <a:lnTo>
                  <a:pt x="1276" y="916"/>
                </a:lnTo>
                <a:lnTo>
                  <a:pt x="1268" y="908"/>
                </a:lnTo>
                <a:lnTo>
                  <a:pt x="1259" y="902"/>
                </a:lnTo>
                <a:lnTo>
                  <a:pt x="1251" y="897"/>
                </a:lnTo>
                <a:lnTo>
                  <a:pt x="1240" y="893"/>
                </a:lnTo>
                <a:lnTo>
                  <a:pt x="1226" y="889"/>
                </a:lnTo>
                <a:lnTo>
                  <a:pt x="1209" y="884"/>
                </a:lnTo>
                <a:lnTo>
                  <a:pt x="1166" y="873"/>
                </a:lnTo>
                <a:lnTo>
                  <a:pt x="1110" y="860"/>
                </a:lnTo>
                <a:lnTo>
                  <a:pt x="1066" y="851"/>
                </a:lnTo>
                <a:lnTo>
                  <a:pt x="1066" y="790"/>
                </a:lnTo>
                <a:lnTo>
                  <a:pt x="1443" y="798"/>
                </a:lnTo>
                <a:lnTo>
                  <a:pt x="1474" y="798"/>
                </a:lnTo>
                <a:lnTo>
                  <a:pt x="1507" y="798"/>
                </a:lnTo>
                <a:lnTo>
                  <a:pt x="1541" y="797"/>
                </a:lnTo>
                <a:lnTo>
                  <a:pt x="1576" y="796"/>
                </a:lnTo>
                <a:lnTo>
                  <a:pt x="1612" y="795"/>
                </a:lnTo>
                <a:lnTo>
                  <a:pt x="1649" y="794"/>
                </a:lnTo>
                <a:lnTo>
                  <a:pt x="1687" y="792"/>
                </a:lnTo>
                <a:lnTo>
                  <a:pt x="1726" y="790"/>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202" name="Freeform 82"/>
          <p:cNvSpPr/>
          <p:nvPr/>
        </p:nvSpPr>
        <p:spPr>
          <a:xfrm>
            <a:off x="6251400" y="519840"/>
            <a:ext cx="144720" cy="154440"/>
          </a:xfrm>
          <a:custGeom>
            <a:avLst/>
            <a:gdLst>
              <a:gd name="textAreaLeft" fmla="*/ 0 w 144720"/>
              <a:gd name="textAreaRight" fmla="*/ 145080 w 144720"/>
              <a:gd name="textAreaTop" fmla="*/ 0 h 154440"/>
              <a:gd name="textAreaBottom" fmla="*/ 154800 h 154440"/>
            </a:gdLst>
            <a:ahLst/>
            <a:rect l="textAreaLeft" t="textAreaTop" r="textAreaRight" b="textAreaBottom"/>
            <a:pathLst>
              <a:path w="1380" h="1563">
                <a:moveTo>
                  <a:pt x="458" y="688"/>
                </a:moveTo>
                <a:lnTo>
                  <a:pt x="724" y="688"/>
                </a:lnTo>
                <a:lnTo>
                  <a:pt x="761" y="688"/>
                </a:lnTo>
                <a:lnTo>
                  <a:pt x="793" y="688"/>
                </a:lnTo>
                <a:lnTo>
                  <a:pt x="822" y="687"/>
                </a:lnTo>
                <a:lnTo>
                  <a:pt x="847" y="687"/>
                </a:lnTo>
                <a:lnTo>
                  <a:pt x="867" y="685"/>
                </a:lnTo>
                <a:lnTo>
                  <a:pt x="884" y="684"/>
                </a:lnTo>
                <a:lnTo>
                  <a:pt x="897" y="683"/>
                </a:lnTo>
                <a:lnTo>
                  <a:pt x="906" y="681"/>
                </a:lnTo>
                <a:lnTo>
                  <a:pt x="913" y="678"/>
                </a:lnTo>
                <a:lnTo>
                  <a:pt x="919" y="676"/>
                </a:lnTo>
                <a:lnTo>
                  <a:pt x="926" y="673"/>
                </a:lnTo>
                <a:lnTo>
                  <a:pt x="931" y="668"/>
                </a:lnTo>
                <a:lnTo>
                  <a:pt x="936" y="664"/>
                </a:lnTo>
                <a:lnTo>
                  <a:pt x="941" y="659"/>
                </a:lnTo>
                <a:lnTo>
                  <a:pt x="947" y="653"/>
                </a:lnTo>
                <a:lnTo>
                  <a:pt x="951" y="647"/>
                </a:lnTo>
                <a:lnTo>
                  <a:pt x="955" y="640"/>
                </a:lnTo>
                <a:lnTo>
                  <a:pt x="959" y="628"/>
                </a:lnTo>
                <a:lnTo>
                  <a:pt x="965" y="614"/>
                </a:lnTo>
                <a:lnTo>
                  <a:pt x="970" y="598"/>
                </a:lnTo>
                <a:lnTo>
                  <a:pt x="981" y="555"/>
                </a:lnTo>
                <a:lnTo>
                  <a:pt x="993" y="501"/>
                </a:lnTo>
                <a:lnTo>
                  <a:pt x="995" y="493"/>
                </a:lnTo>
                <a:lnTo>
                  <a:pt x="998" y="485"/>
                </a:lnTo>
                <a:lnTo>
                  <a:pt x="1000" y="474"/>
                </a:lnTo>
                <a:lnTo>
                  <a:pt x="1003" y="463"/>
                </a:lnTo>
                <a:lnTo>
                  <a:pt x="1076" y="463"/>
                </a:lnTo>
                <a:lnTo>
                  <a:pt x="1073" y="507"/>
                </a:lnTo>
                <a:lnTo>
                  <a:pt x="1071" y="549"/>
                </a:lnTo>
                <a:lnTo>
                  <a:pt x="1068" y="588"/>
                </a:lnTo>
                <a:lnTo>
                  <a:pt x="1066" y="624"/>
                </a:lnTo>
                <a:lnTo>
                  <a:pt x="1065" y="658"/>
                </a:lnTo>
                <a:lnTo>
                  <a:pt x="1064" y="688"/>
                </a:lnTo>
                <a:lnTo>
                  <a:pt x="1063" y="717"/>
                </a:lnTo>
                <a:lnTo>
                  <a:pt x="1063" y="744"/>
                </a:lnTo>
                <a:lnTo>
                  <a:pt x="1063" y="769"/>
                </a:lnTo>
                <a:lnTo>
                  <a:pt x="1064" y="799"/>
                </a:lnTo>
                <a:lnTo>
                  <a:pt x="1065" y="829"/>
                </a:lnTo>
                <a:lnTo>
                  <a:pt x="1066" y="863"/>
                </a:lnTo>
                <a:lnTo>
                  <a:pt x="1068" y="898"/>
                </a:lnTo>
                <a:lnTo>
                  <a:pt x="1071" y="937"/>
                </a:lnTo>
                <a:lnTo>
                  <a:pt x="1073" y="978"/>
                </a:lnTo>
                <a:lnTo>
                  <a:pt x="1076" y="1020"/>
                </a:lnTo>
                <a:lnTo>
                  <a:pt x="1003" y="1020"/>
                </a:lnTo>
                <a:lnTo>
                  <a:pt x="995" y="983"/>
                </a:lnTo>
                <a:lnTo>
                  <a:pt x="988" y="949"/>
                </a:lnTo>
                <a:lnTo>
                  <a:pt x="983" y="921"/>
                </a:lnTo>
                <a:lnTo>
                  <a:pt x="977" y="896"/>
                </a:lnTo>
                <a:lnTo>
                  <a:pt x="972" y="876"/>
                </a:lnTo>
                <a:lnTo>
                  <a:pt x="969" y="860"/>
                </a:lnTo>
                <a:lnTo>
                  <a:pt x="966" y="848"/>
                </a:lnTo>
                <a:lnTo>
                  <a:pt x="964" y="842"/>
                </a:lnTo>
                <a:lnTo>
                  <a:pt x="960" y="836"/>
                </a:lnTo>
                <a:lnTo>
                  <a:pt x="957" y="829"/>
                </a:lnTo>
                <a:lnTo>
                  <a:pt x="953" y="824"/>
                </a:lnTo>
                <a:lnTo>
                  <a:pt x="948" y="819"/>
                </a:lnTo>
                <a:lnTo>
                  <a:pt x="944" y="815"/>
                </a:lnTo>
                <a:lnTo>
                  <a:pt x="937" y="810"/>
                </a:lnTo>
                <a:lnTo>
                  <a:pt x="932" y="807"/>
                </a:lnTo>
                <a:lnTo>
                  <a:pt x="924" y="804"/>
                </a:lnTo>
                <a:lnTo>
                  <a:pt x="916" y="802"/>
                </a:lnTo>
                <a:lnTo>
                  <a:pt x="904" y="799"/>
                </a:lnTo>
                <a:lnTo>
                  <a:pt x="888" y="797"/>
                </a:lnTo>
                <a:lnTo>
                  <a:pt x="870" y="795"/>
                </a:lnTo>
                <a:lnTo>
                  <a:pt x="848" y="794"/>
                </a:lnTo>
                <a:lnTo>
                  <a:pt x="823" y="793"/>
                </a:lnTo>
                <a:lnTo>
                  <a:pt x="793" y="792"/>
                </a:lnTo>
                <a:lnTo>
                  <a:pt x="761" y="792"/>
                </a:lnTo>
                <a:lnTo>
                  <a:pt x="459" y="792"/>
                </a:lnTo>
                <a:lnTo>
                  <a:pt x="465" y="1440"/>
                </a:lnTo>
                <a:lnTo>
                  <a:pt x="926" y="1440"/>
                </a:lnTo>
                <a:lnTo>
                  <a:pt x="967" y="1439"/>
                </a:lnTo>
                <a:lnTo>
                  <a:pt x="1009" y="1439"/>
                </a:lnTo>
                <a:lnTo>
                  <a:pt x="1044" y="1437"/>
                </a:lnTo>
                <a:lnTo>
                  <a:pt x="1070" y="1434"/>
                </a:lnTo>
                <a:lnTo>
                  <a:pt x="1085" y="1431"/>
                </a:lnTo>
                <a:lnTo>
                  <a:pt x="1096" y="1427"/>
                </a:lnTo>
                <a:lnTo>
                  <a:pt x="1106" y="1423"/>
                </a:lnTo>
                <a:lnTo>
                  <a:pt x="1115" y="1418"/>
                </a:lnTo>
                <a:lnTo>
                  <a:pt x="1125" y="1412"/>
                </a:lnTo>
                <a:lnTo>
                  <a:pt x="1134" y="1406"/>
                </a:lnTo>
                <a:lnTo>
                  <a:pt x="1143" y="1398"/>
                </a:lnTo>
                <a:lnTo>
                  <a:pt x="1151" y="1391"/>
                </a:lnTo>
                <a:lnTo>
                  <a:pt x="1160" y="1384"/>
                </a:lnTo>
                <a:lnTo>
                  <a:pt x="1168" y="1373"/>
                </a:lnTo>
                <a:lnTo>
                  <a:pt x="1179" y="1359"/>
                </a:lnTo>
                <a:lnTo>
                  <a:pt x="1191" y="1341"/>
                </a:lnTo>
                <a:lnTo>
                  <a:pt x="1205" y="1319"/>
                </a:lnTo>
                <a:lnTo>
                  <a:pt x="1220" y="1294"/>
                </a:lnTo>
                <a:lnTo>
                  <a:pt x="1238" y="1264"/>
                </a:lnTo>
                <a:lnTo>
                  <a:pt x="1257" y="1231"/>
                </a:lnTo>
                <a:lnTo>
                  <a:pt x="1277" y="1194"/>
                </a:lnTo>
                <a:lnTo>
                  <a:pt x="1282" y="1184"/>
                </a:lnTo>
                <a:lnTo>
                  <a:pt x="1288" y="1174"/>
                </a:lnTo>
                <a:lnTo>
                  <a:pt x="1295" y="1162"/>
                </a:lnTo>
                <a:lnTo>
                  <a:pt x="1304" y="1148"/>
                </a:lnTo>
                <a:lnTo>
                  <a:pt x="1380" y="1148"/>
                </a:lnTo>
                <a:lnTo>
                  <a:pt x="1375" y="1162"/>
                </a:lnTo>
                <a:lnTo>
                  <a:pt x="1366" y="1188"/>
                </a:lnTo>
                <a:lnTo>
                  <a:pt x="1354" y="1223"/>
                </a:lnTo>
                <a:lnTo>
                  <a:pt x="1339" y="1269"/>
                </a:lnTo>
                <a:lnTo>
                  <a:pt x="1321" y="1326"/>
                </a:lnTo>
                <a:lnTo>
                  <a:pt x="1298" y="1394"/>
                </a:lnTo>
                <a:lnTo>
                  <a:pt x="1272" y="1473"/>
                </a:lnTo>
                <a:lnTo>
                  <a:pt x="1243" y="1563"/>
                </a:lnTo>
                <a:lnTo>
                  <a:pt x="1144" y="1560"/>
                </a:lnTo>
                <a:lnTo>
                  <a:pt x="1047" y="1557"/>
                </a:lnTo>
                <a:lnTo>
                  <a:pt x="952" y="1555"/>
                </a:lnTo>
                <a:lnTo>
                  <a:pt x="860" y="1553"/>
                </a:lnTo>
                <a:lnTo>
                  <a:pt x="769" y="1552"/>
                </a:lnTo>
                <a:lnTo>
                  <a:pt x="681" y="1551"/>
                </a:lnTo>
                <a:lnTo>
                  <a:pt x="595" y="1550"/>
                </a:lnTo>
                <a:lnTo>
                  <a:pt x="511" y="1550"/>
                </a:lnTo>
                <a:lnTo>
                  <a:pt x="452" y="1550"/>
                </a:lnTo>
                <a:lnTo>
                  <a:pt x="393" y="1551"/>
                </a:lnTo>
                <a:lnTo>
                  <a:pt x="330" y="1552"/>
                </a:lnTo>
                <a:lnTo>
                  <a:pt x="268" y="1553"/>
                </a:lnTo>
                <a:lnTo>
                  <a:pt x="203" y="1555"/>
                </a:lnTo>
                <a:lnTo>
                  <a:pt x="136" y="1557"/>
                </a:lnTo>
                <a:lnTo>
                  <a:pt x="70" y="1560"/>
                </a:lnTo>
                <a:lnTo>
                  <a:pt x="0" y="1563"/>
                </a:lnTo>
                <a:lnTo>
                  <a:pt x="0" y="1497"/>
                </a:lnTo>
                <a:lnTo>
                  <a:pt x="179" y="1459"/>
                </a:lnTo>
                <a:lnTo>
                  <a:pt x="198" y="1452"/>
                </a:lnTo>
                <a:lnTo>
                  <a:pt x="213" y="1446"/>
                </a:lnTo>
                <a:lnTo>
                  <a:pt x="219" y="1444"/>
                </a:lnTo>
                <a:lnTo>
                  <a:pt x="224" y="1441"/>
                </a:lnTo>
                <a:lnTo>
                  <a:pt x="229" y="1438"/>
                </a:lnTo>
                <a:lnTo>
                  <a:pt x="231" y="1434"/>
                </a:lnTo>
                <a:lnTo>
                  <a:pt x="235" y="1428"/>
                </a:lnTo>
                <a:lnTo>
                  <a:pt x="238" y="1421"/>
                </a:lnTo>
                <a:lnTo>
                  <a:pt x="241" y="1412"/>
                </a:lnTo>
                <a:lnTo>
                  <a:pt x="243" y="1403"/>
                </a:lnTo>
                <a:lnTo>
                  <a:pt x="246" y="1391"/>
                </a:lnTo>
                <a:lnTo>
                  <a:pt x="247" y="1377"/>
                </a:lnTo>
                <a:lnTo>
                  <a:pt x="248" y="1363"/>
                </a:lnTo>
                <a:lnTo>
                  <a:pt x="248" y="1348"/>
                </a:lnTo>
                <a:lnTo>
                  <a:pt x="248" y="1327"/>
                </a:lnTo>
                <a:lnTo>
                  <a:pt x="253" y="1069"/>
                </a:lnTo>
                <a:lnTo>
                  <a:pt x="254" y="1048"/>
                </a:lnTo>
                <a:lnTo>
                  <a:pt x="254" y="1022"/>
                </a:lnTo>
                <a:lnTo>
                  <a:pt x="254" y="993"/>
                </a:lnTo>
                <a:lnTo>
                  <a:pt x="254" y="958"/>
                </a:lnTo>
                <a:lnTo>
                  <a:pt x="254" y="918"/>
                </a:lnTo>
                <a:lnTo>
                  <a:pt x="254" y="875"/>
                </a:lnTo>
                <a:lnTo>
                  <a:pt x="254" y="827"/>
                </a:lnTo>
                <a:lnTo>
                  <a:pt x="254" y="774"/>
                </a:lnTo>
                <a:lnTo>
                  <a:pt x="254" y="698"/>
                </a:lnTo>
                <a:lnTo>
                  <a:pt x="254" y="626"/>
                </a:lnTo>
                <a:lnTo>
                  <a:pt x="254" y="560"/>
                </a:lnTo>
                <a:lnTo>
                  <a:pt x="254" y="499"/>
                </a:lnTo>
                <a:lnTo>
                  <a:pt x="254" y="444"/>
                </a:lnTo>
                <a:lnTo>
                  <a:pt x="253" y="393"/>
                </a:lnTo>
                <a:lnTo>
                  <a:pt x="253" y="348"/>
                </a:lnTo>
                <a:lnTo>
                  <a:pt x="252" y="308"/>
                </a:lnTo>
                <a:lnTo>
                  <a:pt x="252" y="273"/>
                </a:lnTo>
                <a:lnTo>
                  <a:pt x="251" y="242"/>
                </a:lnTo>
                <a:lnTo>
                  <a:pt x="250" y="216"/>
                </a:lnTo>
                <a:lnTo>
                  <a:pt x="249" y="192"/>
                </a:lnTo>
                <a:lnTo>
                  <a:pt x="247" y="173"/>
                </a:lnTo>
                <a:lnTo>
                  <a:pt x="246" y="159"/>
                </a:lnTo>
                <a:lnTo>
                  <a:pt x="243" y="147"/>
                </a:lnTo>
                <a:lnTo>
                  <a:pt x="241" y="141"/>
                </a:lnTo>
                <a:lnTo>
                  <a:pt x="237" y="134"/>
                </a:lnTo>
                <a:lnTo>
                  <a:pt x="233" y="129"/>
                </a:lnTo>
                <a:lnTo>
                  <a:pt x="228" y="124"/>
                </a:lnTo>
                <a:lnTo>
                  <a:pt x="221" y="119"/>
                </a:lnTo>
                <a:lnTo>
                  <a:pt x="209" y="114"/>
                </a:lnTo>
                <a:lnTo>
                  <a:pt x="188" y="108"/>
                </a:lnTo>
                <a:lnTo>
                  <a:pt x="159" y="100"/>
                </a:lnTo>
                <a:lnTo>
                  <a:pt x="119" y="91"/>
                </a:lnTo>
                <a:lnTo>
                  <a:pt x="0" y="64"/>
                </a:lnTo>
                <a:lnTo>
                  <a:pt x="0" y="0"/>
                </a:lnTo>
                <a:lnTo>
                  <a:pt x="53" y="2"/>
                </a:lnTo>
                <a:lnTo>
                  <a:pt x="109" y="5"/>
                </a:lnTo>
                <a:lnTo>
                  <a:pt x="167" y="7"/>
                </a:lnTo>
                <a:lnTo>
                  <a:pt x="228" y="8"/>
                </a:lnTo>
                <a:lnTo>
                  <a:pt x="290" y="10"/>
                </a:lnTo>
                <a:lnTo>
                  <a:pt x="356" y="10"/>
                </a:lnTo>
                <a:lnTo>
                  <a:pt x="423" y="11"/>
                </a:lnTo>
                <a:lnTo>
                  <a:pt x="494" y="11"/>
                </a:lnTo>
                <a:lnTo>
                  <a:pt x="516" y="11"/>
                </a:lnTo>
                <a:lnTo>
                  <a:pt x="541" y="11"/>
                </a:lnTo>
                <a:lnTo>
                  <a:pt x="569" y="11"/>
                </a:lnTo>
                <a:lnTo>
                  <a:pt x="600" y="10"/>
                </a:lnTo>
                <a:lnTo>
                  <a:pt x="635" y="10"/>
                </a:lnTo>
                <a:lnTo>
                  <a:pt x="673" y="10"/>
                </a:lnTo>
                <a:lnTo>
                  <a:pt x="715" y="9"/>
                </a:lnTo>
                <a:lnTo>
                  <a:pt x="760" y="8"/>
                </a:lnTo>
                <a:lnTo>
                  <a:pt x="809" y="8"/>
                </a:lnTo>
                <a:lnTo>
                  <a:pt x="861" y="7"/>
                </a:lnTo>
                <a:lnTo>
                  <a:pt x="916" y="6"/>
                </a:lnTo>
                <a:lnTo>
                  <a:pt x="974" y="5"/>
                </a:lnTo>
                <a:lnTo>
                  <a:pt x="1037" y="4"/>
                </a:lnTo>
                <a:lnTo>
                  <a:pt x="1102" y="2"/>
                </a:lnTo>
                <a:lnTo>
                  <a:pt x="1171" y="1"/>
                </a:lnTo>
                <a:lnTo>
                  <a:pt x="1243" y="0"/>
                </a:lnTo>
                <a:lnTo>
                  <a:pt x="1244" y="47"/>
                </a:lnTo>
                <a:lnTo>
                  <a:pt x="1245" y="95"/>
                </a:lnTo>
                <a:lnTo>
                  <a:pt x="1248" y="142"/>
                </a:lnTo>
                <a:lnTo>
                  <a:pt x="1251" y="189"/>
                </a:lnTo>
                <a:lnTo>
                  <a:pt x="1254" y="236"/>
                </a:lnTo>
                <a:lnTo>
                  <a:pt x="1259" y="283"/>
                </a:lnTo>
                <a:lnTo>
                  <a:pt x="1263" y="329"/>
                </a:lnTo>
                <a:lnTo>
                  <a:pt x="1270" y="376"/>
                </a:lnTo>
                <a:lnTo>
                  <a:pt x="1192" y="376"/>
                </a:lnTo>
                <a:lnTo>
                  <a:pt x="1182" y="340"/>
                </a:lnTo>
                <a:lnTo>
                  <a:pt x="1171" y="308"/>
                </a:lnTo>
                <a:lnTo>
                  <a:pt x="1162" y="278"/>
                </a:lnTo>
                <a:lnTo>
                  <a:pt x="1152" y="252"/>
                </a:lnTo>
                <a:lnTo>
                  <a:pt x="1144" y="229"/>
                </a:lnTo>
                <a:lnTo>
                  <a:pt x="1135" y="208"/>
                </a:lnTo>
                <a:lnTo>
                  <a:pt x="1128" y="190"/>
                </a:lnTo>
                <a:lnTo>
                  <a:pt x="1121" y="177"/>
                </a:lnTo>
                <a:lnTo>
                  <a:pt x="1116" y="169"/>
                </a:lnTo>
                <a:lnTo>
                  <a:pt x="1111" y="161"/>
                </a:lnTo>
                <a:lnTo>
                  <a:pt x="1106" y="154"/>
                </a:lnTo>
                <a:lnTo>
                  <a:pt x="1100" y="148"/>
                </a:lnTo>
                <a:lnTo>
                  <a:pt x="1094" y="143"/>
                </a:lnTo>
                <a:lnTo>
                  <a:pt x="1088" y="138"/>
                </a:lnTo>
                <a:lnTo>
                  <a:pt x="1081" y="135"/>
                </a:lnTo>
                <a:lnTo>
                  <a:pt x="1075" y="132"/>
                </a:lnTo>
                <a:lnTo>
                  <a:pt x="1064" y="128"/>
                </a:lnTo>
                <a:lnTo>
                  <a:pt x="1050" y="126"/>
                </a:lnTo>
                <a:lnTo>
                  <a:pt x="1035" y="123"/>
                </a:lnTo>
                <a:lnTo>
                  <a:pt x="1017" y="120"/>
                </a:lnTo>
                <a:lnTo>
                  <a:pt x="994" y="119"/>
                </a:lnTo>
                <a:lnTo>
                  <a:pt x="971" y="118"/>
                </a:lnTo>
                <a:lnTo>
                  <a:pt x="944" y="117"/>
                </a:lnTo>
                <a:lnTo>
                  <a:pt x="914" y="117"/>
                </a:lnTo>
                <a:lnTo>
                  <a:pt x="469" y="117"/>
                </a:lnTo>
                <a:lnTo>
                  <a:pt x="462" y="472"/>
                </a:lnTo>
                <a:lnTo>
                  <a:pt x="458" y="688"/>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203" name="Freeform 83"/>
          <p:cNvSpPr/>
          <p:nvPr/>
        </p:nvSpPr>
        <p:spPr>
          <a:xfrm>
            <a:off x="6421680" y="519840"/>
            <a:ext cx="168120" cy="154440"/>
          </a:xfrm>
          <a:custGeom>
            <a:avLst/>
            <a:gdLst>
              <a:gd name="textAreaLeft" fmla="*/ 0 w 168120"/>
              <a:gd name="textAreaRight" fmla="*/ 168480 w 168120"/>
              <a:gd name="textAreaTop" fmla="*/ 0 h 154440"/>
              <a:gd name="textAreaBottom" fmla="*/ 154800 h 154440"/>
            </a:gdLst>
            <a:ahLst/>
            <a:rect l="textAreaLeft" t="textAreaTop" r="textAreaRight" b="textAreaBottom"/>
            <a:pathLst>
              <a:path w="1601" h="1563">
                <a:moveTo>
                  <a:pt x="0" y="64"/>
                </a:moveTo>
                <a:lnTo>
                  <a:pt x="0" y="0"/>
                </a:lnTo>
                <a:lnTo>
                  <a:pt x="71" y="2"/>
                </a:lnTo>
                <a:lnTo>
                  <a:pt x="139" y="5"/>
                </a:lnTo>
                <a:lnTo>
                  <a:pt x="202" y="7"/>
                </a:lnTo>
                <a:lnTo>
                  <a:pt x="263" y="8"/>
                </a:lnTo>
                <a:lnTo>
                  <a:pt x="320" y="10"/>
                </a:lnTo>
                <a:lnTo>
                  <a:pt x="373" y="10"/>
                </a:lnTo>
                <a:lnTo>
                  <a:pt x="423" y="11"/>
                </a:lnTo>
                <a:lnTo>
                  <a:pt x="468" y="11"/>
                </a:lnTo>
                <a:lnTo>
                  <a:pt x="494" y="11"/>
                </a:lnTo>
                <a:lnTo>
                  <a:pt x="518" y="11"/>
                </a:lnTo>
                <a:lnTo>
                  <a:pt x="542" y="11"/>
                </a:lnTo>
                <a:lnTo>
                  <a:pt x="566" y="11"/>
                </a:lnTo>
                <a:lnTo>
                  <a:pt x="590" y="10"/>
                </a:lnTo>
                <a:lnTo>
                  <a:pt x="612" y="10"/>
                </a:lnTo>
                <a:lnTo>
                  <a:pt x="636" y="10"/>
                </a:lnTo>
                <a:lnTo>
                  <a:pt x="658" y="9"/>
                </a:lnTo>
                <a:lnTo>
                  <a:pt x="685" y="8"/>
                </a:lnTo>
                <a:lnTo>
                  <a:pt x="712" y="7"/>
                </a:lnTo>
                <a:lnTo>
                  <a:pt x="735" y="7"/>
                </a:lnTo>
                <a:lnTo>
                  <a:pt x="756" y="6"/>
                </a:lnTo>
                <a:lnTo>
                  <a:pt x="775" y="6"/>
                </a:lnTo>
                <a:lnTo>
                  <a:pt x="792" y="5"/>
                </a:lnTo>
                <a:lnTo>
                  <a:pt x="807" y="5"/>
                </a:lnTo>
                <a:lnTo>
                  <a:pt x="820" y="5"/>
                </a:lnTo>
                <a:lnTo>
                  <a:pt x="845" y="6"/>
                </a:lnTo>
                <a:lnTo>
                  <a:pt x="872" y="7"/>
                </a:lnTo>
                <a:lnTo>
                  <a:pt x="896" y="8"/>
                </a:lnTo>
                <a:lnTo>
                  <a:pt x="921" y="11"/>
                </a:lnTo>
                <a:lnTo>
                  <a:pt x="943" y="14"/>
                </a:lnTo>
                <a:lnTo>
                  <a:pt x="966" y="20"/>
                </a:lnTo>
                <a:lnTo>
                  <a:pt x="987" y="24"/>
                </a:lnTo>
                <a:lnTo>
                  <a:pt x="1007" y="30"/>
                </a:lnTo>
                <a:lnTo>
                  <a:pt x="1028" y="37"/>
                </a:lnTo>
                <a:lnTo>
                  <a:pt x="1047" y="44"/>
                </a:lnTo>
                <a:lnTo>
                  <a:pt x="1065" y="53"/>
                </a:lnTo>
                <a:lnTo>
                  <a:pt x="1082" y="62"/>
                </a:lnTo>
                <a:lnTo>
                  <a:pt x="1099" y="72"/>
                </a:lnTo>
                <a:lnTo>
                  <a:pt x="1114" y="82"/>
                </a:lnTo>
                <a:lnTo>
                  <a:pt x="1129" y="94"/>
                </a:lnTo>
                <a:lnTo>
                  <a:pt x="1143" y="107"/>
                </a:lnTo>
                <a:lnTo>
                  <a:pt x="1156" y="119"/>
                </a:lnTo>
                <a:lnTo>
                  <a:pt x="1168" y="133"/>
                </a:lnTo>
                <a:lnTo>
                  <a:pt x="1180" y="147"/>
                </a:lnTo>
                <a:lnTo>
                  <a:pt x="1191" y="162"/>
                </a:lnTo>
                <a:lnTo>
                  <a:pt x="1200" y="178"/>
                </a:lnTo>
                <a:lnTo>
                  <a:pt x="1209" y="194"/>
                </a:lnTo>
                <a:lnTo>
                  <a:pt x="1217" y="209"/>
                </a:lnTo>
                <a:lnTo>
                  <a:pt x="1224" y="226"/>
                </a:lnTo>
                <a:lnTo>
                  <a:pt x="1230" y="244"/>
                </a:lnTo>
                <a:lnTo>
                  <a:pt x="1236" y="262"/>
                </a:lnTo>
                <a:lnTo>
                  <a:pt x="1240" y="282"/>
                </a:lnTo>
                <a:lnTo>
                  <a:pt x="1244" y="301"/>
                </a:lnTo>
                <a:lnTo>
                  <a:pt x="1247" y="320"/>
                </a:lnTo>
                <a:lnTo>
                  <a:pt x="1249" y="341"/>
                </a:lnTo>
                <a:lnTo>
                  <a:pt x="1250" y="361"/>
                </a:lnTo>
                <a:lnTo>
                  <a:pt x="1251" y="383"/>
                </a:lnTo>
                <a:lnTo>
                  <a:pt x="1250" y="412"/>
                </a:lnTo>
                <a:lnTo>
                  <a:pt x="1248" y="439"/>
                </a:lnTo>
                <a:lnTo>
                  <a:pt x="1244" y="467"/>
                </a:lnTo>
                <a:lnTo>
                  <a:pt x="1238" y="492"/>
                </a:lnTo>
                <a:lnTo>
                  <a:pt x="1232" y="518"/>
                </a:lnTo>
                <a:lnTo>
                  <a:pt x="1224" y="543"/>
                </a:lnTo>
                <a:lnTo>
                  <a:pt x="1214" y="567"/>
                </a:lnTo>
                <a:lnTo>
                  <a:pt x="1202" y="589"/>
                </a:lnTo>
                <a:lnTo>
                  <a:pt x="1189" y="611"/>
                </a:lnTo>
                <a:lnTo>
                  <a:pt x="1175" y="632"/>
                </a:lnTo>
                <a:lnTo>
                  <a:pt x="1159" y="652"/>
                </a:lnTo>
                <a:lnTo>
                  <a:pt x="1142" y="671"/>
                </a:lnTo>
                <a:lnTo>
                  <a:pt x="1124" y="691"/>
                </a:lnTo>
                <a:lnTo>
                  <a:pt x="1104" y="709"/>
                </a:lnTo>
                <a:lnTo>
                  <a:pt x="1083" y="724"/>
                </a:lnTo>
                <a:lnTo>
                  <a:pt x="1060" y="740"/>
                </a:lnTo>
                <a:lnTo>
                  <a:pt x="1042" y="752"/>
                </a:lnTo>
                <a:lnTo>
                  <a:pt x="1023" y="763"/>
                </a:lnTo>
                <a:lnTo>
                  <a:pt x="1002" y="772"/>
                </a:lnTo>
                <a:lnTo>
                  <a:pt x="979" y="783"/>
                </a:lnTo>
                <a:lnTo>
                  <a:pt x="954" y="792"/>
                </a:lnTo>
                <a:lnTo>
                  <a:pt x="928" y="801"/>
                </a:lnTo>
                <a:lnTo>
                  <a:pt x="899" y="810"/>
                </a:lnTo>
                <a:lnTo>
                  <a:pt x="869" y="819"/>
                </a:lnTo>
                <a:lnTo>
                  <a:pt x="1235" y="1297"/>
                </a:lnTo>
                <a:lnTo>
                  <a:pt x="1266" y="1337"/>
                </a:lnTo>
                <a:lnTo>
                  <a:pt x="1291" y="1368"/>
                </a:lnTo>
                <a:lnTo>
                  <a:pt x="1309" y="1389"/>
                </a:lnTo>
                <a:lnTo>
                  <a:pt x="1321" y="1402"/>
                </a:lnTo>
                <a:lnTo>
                  <a:pt x="1336" y="1412"/>
                </a:lnTo>
                <a:lnTo>
                  <a:pt x="1353" y="1423"/>
                </a:lnTo>
                <a:lnTo>
                  <a:pt x="1372" y="1432"/>
                </a:lnTo>
                <a:lnTo>
                  <a:pt x="1393" y="1441"/>
                </a:lnTo>
                <a:lnTo>
                  <a:pt x="1410" y="1447"/>
                </a:lnTo>
                <a:lnTo>
                  <a:pt x="1429" y="1454"/>
                </a:lnTo>
                <a:lnTo>
                  <a:pt x="1451" y="1461"/>
                </a:lnTo>
                <a:lnTo>
                  <a:pt x="1476" y="1467"/>
                </a:lnTo>
                <a:lnTo>
                  <a:pt x="1503" y="1475"/>
                </a:lnTo>
                <a:lnTo>
                  <a:pt x="1533" y="1482"/>
                </a:lnTo>
                <a:lnTo>
                  <a:pt x="1566" y="1490"/>
                </a:lnTo>
                <a:lnTo>
                  <a:pt x="1601" y="1497"/>
                </a:lnTo>
                <a:lnTo>
                  <a:pt x="1601" y="1563"/>
                </a:lnTo>
                <a:lnTo>
                  <a:pt x="1559" y="1560"/>
                </a:lnTo>
                <a:lnTo>
                  <a:pt x="1520" y="1557"/>
                </a:lnTo>
                <a:lnTo>
                  <a:pt x="1484" y="1555"/>
                </a:lnTo>
                <a:lnTo>
                  <a:pt x="1451" y="1553"/>
                </a:lnTo>
                <a:lnTo>
                  <a:pt x="1421" y="1552"/>
                </a:lnTo>
                <a:lnTo>
                  <a:pt x="1393" y="1551"/>
                </a:lnTo>
                <a:lnTo>
                  <a:pt x="1369" y="1550"/>
                </a:lnTo>
                <a:lnTo>
                  <a:pt x="1347" y="1550"/>
                </a:lnTo>
                <a:lnTo>
                  <a:pt x="1325" y="1550"/>
                </a:lnTo>
                <a:lnTo>
                  <a:pt x="1302" y="1551"/>
                </a:lnTo>
                <a:lnTo>
                  <a:pt x="1279" y="1552"/>
                </a:lnTo>
                <a:lnTo>
                  <a:pt x="1255" y="1553"/>
                </a:lnTo>
                <a:lnTo>
                  <a:pt x="1232" y="1555"/>
                </a:lnTo>
                <a:lnTo>
                  <a:pt x="1209" y="1557"/>
                </a:lnTo>
                <a:lnTo>
                  <a:pt x="1184" y="1560"/>
                </a:lnTo>
                <a:lnTo>
                  <a:pt x="1161" y="1563"/>
                </a:lnTo>
                <a:lnTo>
                  <a:pt x="1147" y="1542"/>
                </a:lnTo>
                <a:lnTo>
                  <a:pt x="1133" y="1518"/>
                </a:lnTo>
                <a:lnTo>
                  <a:pt x="1119" y="1495"/>
                </a:lnTo>
                <a:lnTo>
                  <a:pt x="1103" y="1469"/>
                </a:lnTo>
                <a:lnTo>
                  <a:pt x="1085" y="1443"/>
                </a:lnTo>
                <a:lnTo>
                  <a:pt x="1067" y="1414"/>
                </a:lnTo>
                <a:lnTo>
                  <a:pt x="1047" y="1386"/>
                </a:lnTo>
                <a:lnTo>
                  <a:pt x="1027" y="1355"/>
                </a:lnTo>
                <a:lnTo>
                  <a:pt x="988" y="1299"/>
                </a:lnTo>
                <a:lnTo>
                  <a:pt x="958" y="1255"/>
                </a:lnTo>
                <a:lnTo>
                  <a:pt x="936" y="1225"/>
                </a:lnTo>
                <a:lnTo>
                  <a:pt x="923" y="1207"/>
                </a:lnTo>
                <a:lnTo>
                  <a:pt x="912" y="1193"/>
                </a:lnTo>
                <a:lnTo>
                  <a:pt x="903" y="1179"/>
                </a:lnTo>
                <a:lnTo>
                  <a:pt x="660" y="846"/>
                </a:lnTo>
                <a:lnTo>
                  <a:pt x="636" y="845"/>
                </a:lnTo>
                <a:lnTo>
                  <a:pt x="610" y="844"/>
                </a:lnTo>
                <a:lnTo>
                  <a:pt x="586" y="843"/>
                </a:lnTo>
                <a:lnTo>
                  <a:pt x="562" y="842"/>
                </a:lnTo>
                <a:lnTo>
                  <a:pt x="536" y="840"/>
                </a:lnTo>
                <a:lnTo>
                  <a:pt x="512" y="838"/>
                </a:lnTo>
                <a:lnTo>
                  <a:pt x="486" y="835"/>
                </a:lnTo>
                <a:lnTo>
                  <a:pt x="462" y="833"/>
                </a:lnTo>
                <a:lnTo>
                  <a:pt x="470" y="1387"/>
                </a:lnTo>
                <a:lnTo>
                  <a:pt x="471" y="1395"/>
                </a:lnTo>
                <a:lnTo>
                  <a:pt x="473" y="1403"/>
                </a:lnTo>
                <a:lnTo>
                  <a:pt x="475" y="1410"/>
                </a:lnTo>
                <a:lnTo>
                  <a:pt x="477" y="1416"/>
                </a:lnTo>
                <a:lnTo>
                  <a:pt x="479" y="1422"/>
                </a:lnTo>
                <a:lnTo>
                  <a:pt x="482" y="1427"/>
                </a:lnTo>
                <a:lnTo>
                  <a:pt x="486" y="1432"/>
                </a:lnTo>
                <a:lnTo>
                  <a:pt x="491" y="1437"/>
                </a:lnTo>
                <a:lnTo>
                  <a:pt x="499" y="1442"/>
                </a:lnTo>
                <a:lnTo>
                  <a:pt x="511" y="1448"/>
                </a:lnTo>
                <a:lnTo>
                  <a:pt x="526" y="1454"/>
                </a:lnTo>
                <a:lnTo>
                  <a:pt x="545" y="1460"/>
                </a:lnTo>
                <a:lnTo>
                  <a:pt x="567" y="1465"/>
                </a:lnTo>
                <a:lnTo>
                  <a:pt x="593" y="1472"/>
                </a:lnTo>
                <a:lnTo>
                  <a:pt x="622" y="1478"/>
                </a:lnTo>
                <a:lnTo>
                  <a:pt x="656" y="1484"/>
                </a:lnTo>
                <a:lnTo>
                  <a:pt x="666" y="1486"/>
                </a:lnTo>
                <a:lnTo>
                  <a:pt x="680" y="1490"/>
                </a:lnTo>
                <a:lnTo>
                  <a:pt x="697" y="1493"/>
                </a:lnTo>
                <a:lnTo>
                  <a:pt x="716" y="1497"/>
                </a:lnTo>
                <a:lnTo>
                  <a:pt x="716" y="1563"/>
                </a:lnTo>
                <a:lnTo>
                  <a:pt x="667" y="1560"/>
                </a:lnTo>
                <a:lnTo>
                  <a:pt x="620" y="1557"/>
                </a:lnTo>
                <a:lnTo>
                  <a:pt x="573" y="1555"/>
                </a:lnTo>
                <a:lnTo>
                  <a:pt x="529" y="1553"/>
                </a:lnTo>
                <a:lnTo>
                  <a:pt x="485" y="1552"/>
                </a:lnTo>
                <a:lnTo>
                  <a:pt x="444" y="1551"/>
                </a:lnTo>
                <a:lnTo>
                  <a:pt x="404" y="1550"/>
                </a:lnTo>
                <a:lnTo>
                  <a:pt x="365" y="1550"/>
                </a:lnTo>
                <a:lnTo>
                  <a:pt x="323" y="1550"/>
                </a:lnTo>
                <a:lnTo>
                  <a:pt x="281" y="1551"/>
                </a:lnTo>
                <a:lnTo>
                  <a:pt x="237" y="1552"/>
                </a:lnTo>
                <a:lnTo>
                  <a:pt x="192" y="1553"/>
                </a:lnTo>
                <a:lnTo>
                  <a:pt x="146" y="1555"/>
                </a:lnTo>
                <a:lnTo>
                  <a:pt x="99" y="1557"/>
                </a:lnTo>
                <a:lnTo>
                  <a:pt x="50" y="1560"/>
                </a:lnTo>
                <a:lnTo>
                  <a:pt x="0" y="1563"/>
                </a:lnTo>
                <a:lnTo>
                  <a:pt x="0" y="1497"/>
                </a:lnTo>
                <a:lnTo>
                  <a:pt x="48" y="1487"/>
                </a:lnTo>
                <a:lnTo>
                  <a:pt x="85" y="1480"/>
                </a:lnTo>
                <a:lnTo>
                  <a:pt x="118" y="1474"/>
                </a:lnTo>
                <a:lnTo>
                  <a:pt x="146" y="1466"/>
                </a:lnTo>
                <a:lnTo>
                  <a:pt x="171" y="1460"/>
                </a:lnTo>
                <a:lnTo>
                  <a:pt x="192" y="1455"/>
                </a:lnTo>
                <a:lnTo>
                  <a:pt x="208" y="1448"/>
                </a:lnTo>
                <a:lnTo>
                  <a:pt x="219" y="1444"/>
                </a:lnTo>
                <a:lnTo>
                  <a:pt x="227" y="1439"/>
                </a:lnTo>
                <a:lnTo>
                  <a:pt x="232" y="1433"/>
                </a:lnTo>
                <a:lnTo>
                  <a:pt x="236" y="1427"/>
                </a:lnTo>
                <a:lnTo>
                  <a:pt x="240" y="1420"/>
                </a:lnTo>
                <a:lnTo>
                  <a:pt x="244" y="1411"/>
                </a:lnTo>
                <a:lnTo>
                  <a:pt x="246" y="1403"/>
                </a:lnTo>
                <a:lnTo>
                  <a:pt x="248" y="1392"/>
                </a:lnTo>
                <a:lnTo>
                  <a:pt x="250" y="1381"/>
                </a:lnTo>
                <a:lnTo>
                  <a:pt x="251" y="1370"/>
                </a:lnTo>
                <a:lnTo>
                  <a:pt x="252" y="1354"/>
                </a:lnTo>
                <a:lnTo>
                  <a:pt x="252" y="1322"/>
                </a:lnTo>
                <a:lnTo>
                  <a:pt x="253" y="1276"/>
                </a:lnTo>
                <a:lnTo>
                  <a:pt x="254" y="1212"/>
                </a:lnTo>
                <a:lnTo>
                  <a:pt x="254" y="1134"/>
                </a:lnTo>
                <a:lnTo>
                  <a:pt x="255" y="1039"/>
                </a:lnTo>
                <a:lnTo>
                  <a:pt x="256" y="929"/>
                </a:lnTo>
                <a:lnTo>
                  <a:pt x="256" y="804"/>
                </a:lnTo>
                <a:lnTo>
                  <a:pt x="252" y="286"/>
                </a:lnTo>
                <a:lnTo>
                  <a:pt x="251" y="233"/>
                </a:lnTo>
                <a:lnTo>
                  <a:pt x="250" y="192"/>
                </a:lnTo>
                <a:lnTo>
                  <a:pt x="249" y="164"/>
                </a:lnTo>
                <a:lnTo>
                  <a:pt x="247" y="149"/>
                </a:lnTo>
                <a:lnTo>
                  <a:pt x="243" y="141"/>
                </a:lnTo>
                <a:lnTo>
                  <a:pt x="238" y="134"/>
                </a:lnTo>
                <a:lnTo>
                  <a:pt x="232" y="128"/>
                </a:lnTo>
                <a:lnTo>
                  <a:pt x="225" y="123"/>
                </a:lnTo>
                <a:lnTo>
                  <a:pt x="211" y="116"/>
                </a:lnTo>
                <a:lnTo>
                  <a:pt x="194" y="109"/>
                </a:lnTo>
                <a:lnTo>
                  <a:pt x="176" y="102"/>
                </a:lnTo>
                <a:lnTo>
                  <a:pt x="156" y="96"/>
                </a:lnTo>
                <a:lnTo>
                  <a:pt x="133" y="91"/>
                </a:lnTo>
                <a:lnTo>
                  <a:pt x="109" y="85"/>
                </a:lnTo>
                <a:lnTo>
                  <a:pt x="83" y="80"/>
                </a:lnTo>
                <a:lnTo>
                  <a:pt x="54" y="75"/>
                </a:lnTo>
                <a:lnTo>
                  <a:pt x="45" y="74"/>
                </a:lnTo>
                <a:lnTo>
                  <a:pt x="32" y="71"/>
                </a:lnTo>
                <a:lnTo>
                  <a:pt x="17" y="69"/>
                </a:lnTo>
                <a:lnTo>
                  <a:pt x="0" y="64"/>
                </a:lnTo>
                <a:close/>
                <a:moveTo>
                  <a:pt x="462" y="738"/>
                </a:moveTo>
                <a:lnTo>
                  <a:pt x="490" y="741"/>
                </a:lnTo>
                <a:lnTo>
                  <a:pt x="516" y="744"/>
                </a:lnTo>
                <a:lnTo>
                  <a:pt x="540" y="746"/>
                </a:lnTo>
                <a:lnTo>
                  <a:pt x="564" y="748"/>
                </a:lnTo>
                <a:lnTo>
                  <a:pt x="585" y="749"/>
                </a:lnTo>
                <a:lnTo>
                  <a:pt x="604" y="750"/>
                </a:lnTo>
                <a:lnTo>
                  <a:pt x="622" y="750"/>
                </a:lnTo>
                <a:lnTo>
                  <a:pt x="639" y="751"/>
                </a:lnTo>
                <a:lnTo>
                  <a:pt x="663" y="750"/>
                </a:lnTo>
                <a:lnTo>
                  <a:pt x="688" y="749"/>
                </a:lnTo>
                <a:lnTo>
                  <a:pt x="710" y="748"/>
                </a:lnTo>
                <a:lnTo>
                  <a:pt x="732" y="745"/>
                </a:lnTo>
                <a:lnTo>
                  <a:pt x="754" y="741"/>
                </a:lnTo>
                <a:lnTo>
                  <a:pt x="774" y="738"/>
                </a:lnTo>
                <a:lnTo>
                  <a:pt x="795" y="734"/>
                </a:lnTo>
                <a:lnTo>
                  <a:pt x="814" y="729"/>
                </a:lnTo>
                <a:lnTo>
                  <a:pt x="832" y="722"/>
                </a:lnTo>
                <a:lnTo>
                  <a:pt x="849" y="716"/>
                </a:lnTo>
                <a:lnTo>
                  <a:pt x="866" y="709"/>
                </a:lnTo>
                <a:lnTo>
                  <a:pt x="881" y="700"/>
                </a:lnTo>
                <a:lnTo>
                  <a:pt x="896" y="692"/>
                </a:lnTo>
                <a:lnTo>
                  <a:pt x="910" y="682"/>
                </a:lnTo>
                <a:lnTo>
                  <a:pt x="923" y="673"/>
                </a:lnTo>
                <a:lnTo>
                  <a:pt x="935" y="662"/>
                </a:lnTo>
                <a:lnTo>
                  <a:pt x="947" y="650"/>
                </a:lnTo>
                <a:lnTo>
                  <a:pt x="958" y="639"/>
                </a:lnTo>
                <a:lnTo>
                  <a:pt x="968" y="626"/>
                </a:lnTo>
                <a:lnTo>
                  <a:pt x="978" y="612"/>
                </a:lnTo>
                <a:lnTo>
                  <a:pt x="986" y="599"/>
                </a:lnTo>
                <a:lnTo>
                  <a:pt x="995" y="585"/>
                </a:lnTo>
                <a:lnTo>
                  <a:pt x="1001" y="570"/>
                </a:lnTo>
                <a:lnTo>
                  <a:pt x="1007" y="555"/>
                </a:lnTo>
                <a:lnTo>
                  <a:pt x="1014" y="539"/>
                </a:lnTo>
                <a:lnTo>
                  <a:pt x="1018" y="523"/>
                </a:lnTo>
                <a:lnTo>
                  <a:pt x="1022" y="506"/>
                </a:lnTo>
                <a:lnTo>
                  <a:pt x="1025" y="488"/>
                </a:lnTo>
                <a:lnTo>
                  <a:pt x="1029" y="471"/>
                </a:lnTo>
                <a:lnTo>
                  <a:pt x="1031" y="452"/>
                </a:lnTo>
                <a:lnTo>
                  <a:pt x="1032" y="433"/>
                </a:lnTo>
                <a:lnTo>
                  <a:pt x="1032" y="414"/>
                </a:lnTo>
                <a:lnTo>
                  <a:pt x="1032" y="397"/>
                </a:lnTo>
                <a:lnTo>
                  <a:pt x="1031" y="380"/>
                </a:lnTo>
                <a:lnTo>
                  <a:pt x="1029" y="363"/>
                </a:lnTo>
                <a:lnTo>
                  <a:pt x="1027" y="348"/>
                </a:lnTo>
                <a:lnTo>
                  <a:pt x="1023" y="332"/>
                </a:lnTo>
                <a:lnTo>
                  <a:pt x="1020" y="318"/>
                </a:lnTo>
                <a:lnTo>
                  <a:pt x="1016" y="304"/>
                </a:lnTo>
                <a:lnTo>
                  <a:pt x="1011" y="289"/>
                </a:lnTo>
                <a:lnTo>
                  <a:pt x="1005" y="276"/>
                </a:lnTo>
                <a:lnTo>
                  <a:pt x="999" y="262"/>
                </a:lnTo>
                <a:lnTo>
                  <a:pt x="992" y="251"/>
                </a:lnTo>
                <a:lnTo>
                  <a:pt x="984" y="238"/>
                </a:lnTo>
                <a:lnTo>
                  <a:pt x="976" y="226"/>
                </a:lnTo>
                <a:lnTo>
                  <a:pt x="966" y="216"/>
                </a:lnTo>
                <a:lnTo>
                  <a:pt x="957" y="205"/>
                </a:lnTo>
                <a:lnTo>
                  <a:pt x="946" y="195"/>
                </a:lnTo>
                <a:lnTo>
                  <a:pt x="935" y="185"/>
                </a:lnTo>
                <a:lnTo>
                  <a:pt x="924" y="176"/>
                </a:lnTo>
                <a:lnTo>
                  <a:pt x="912" y="167"/>
                </a:lnTo>
                <a:lnTo>
                  <a:pt x="899" y="160"/>
                </a:lnTo>
                <a:lnTo>
                  <a:pt x="886" y="152"/>
                </a:lnTo>
                <a:lnTo>
                  <a:pt x="872" y="146"/>
                </a:lnTo>
                <a:lnTo>
                  <a:pt x="857" y="140"/>
                </a:lnTo>
                <a:lnTo>
                  <a:pt x="842" y="134"/>
                </a:lnTo>
                <a:lnTo>
                  <a:pt x="826" y="130"/>
                </a:lnTo>
                <a:lnTo>
                  <a:pt x="809" y="126"/>
                </a:lnTo>
                <a:lnTo>
                  <a:pt x="792" y="121"/>
                </a:lnTo>
                <a:lnTo>
                  <a:pt x="775" y="119"/>
                </a:lnTo>
                <a:lnTo>
                  <a:pt x="756" y="117"/>
                </a:lnTo>
                <a:lnTo>
                  <a:pt x="738" y="115"/>
                </a:lnTo>
                <a:lnTo>
                  <a:pt x="718" y="114"/>
                </a:lnTo>
                <a:lnTo>
                  <a:pt x="698" y="114"/>
                </a:lnTo>
                <a:lnTo>
                  <a:pt x="682" y="114"/>
                </a:lnTo>
                <a:lnTo>
                  <a:pt x="662" y="115"/>
                </a:lnTo>
                <a:lnTo>
                  <a:pt x="639" y="116"/>
                </a:lnTo>
                <a:lnTo>
                  <a:pt x="611" y="117"/>
                </a:lnTo>
                <a:lnTo>
                  <a:pt x="581" y="119"/>
                </a:lnTo>
                <a:lnTo>
                  <a:pt x="547" y="121"/>
                </a:lnTo>
                <a:lnTo>
                  <a:pt x="510" y="124"/>
                </a:lnTo>
                <a:lnTo>
                  <a:pt x="468" y="127"/>
                </a:lnTo>
                <a:lnTo>
                  <a:pt x="462" y="738"/>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204" name="任意多边形 8"/>
          <p:cNvSpPr/>
          <p:nvPr/>
        </p:nvSpPr>
        <p:spPr>
          <a:xfrm rot="5400000">
            <a:off x="2544480" y="9315360"/>
            <a:ext cx="1091880" cy="62640"/>
          </a:xfrm>
          <a:custGeom>
            <a:avLst/>
            <a:gdLst>
              <a:gd name="textAreaLeft" fmla="*/ 0 w 1091880"/>
              <a:gd name="textAreaRight" fmla="*/ 1092240 w 1091880"/>
              <a:gd name="textAreaTop" fmla="*/ 0 h 62640"/>
              <a:gd name="textAreaBottom" fmla="*/ 63000 h 62640"/>
            </a:gdLst>
            <a:ahLst/>
            <a:rect l="textAreaLeft" t="textAreaTop" r="textAreaRight" b="textAreaBottom"/>
            <a:pathLst>
              <a:path w="353683" h="635">
                <a:moveTo>
                  <a:pt x="0" y="0"/>
                </a:moveTo>
                <a:lnTo>
                  <a:pt x="353683" y="0"/>
                </a:lnTo>
              </a:path>
            </a:pathLst>
          </a:custGeom>
          <a:solidFill>
            <a:schemeClr val="tx1"/>
          </a:solidFill>
          <a:ln w="38100">
            <a:solidFill>
              <a:srgbClr val="000000"/>
            </a:solidFill>
            <a:miter/>
          </a:ln>
        </p:spPr>
        <p:style>
          <a:lnRef idx="0"/>
          <a:fillRef idx="0"/>
          <a:effectRef idx="0"/>
          <a:fontRef idx="minor"/>
        </p:style>
        <p:txBody>
          <a:bodyPr lIns="90000" rIns="90000" tIns="31320" bIns="31320" anchor="ctr">
            <a:noAutofit/>
          </a:bodyPr>
          <a:p>
            <a:pPr algn="ctr">
              <a:lnSpc>
                <a:spcPct val="100000"/>
              </a:lnSpc>
            </a:pPr>
            <a:endParaRPr b="0" lang="en-US" sz="1800" spc="-1" strike="noStrike">
              <a:solidFill>
                <a:srgbClr val="000000"/>
              </a:solidFill>
              <a:latin typeface="Calibri"/>
              <a:ea typeface="宋体"/>
            </a:endParaRPr>
          </a:p>
        </p:txBody>
      </p:sp>
    </p:spTree>
  </p:cSld>
  <p:transition spd="slow" advTm="5000">
    <p:push dir="r"/>
  </p:transition>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withEffect" fill="hold" presetClass="entr" presetID="22" presetSubtype="8">
                                  <p:stCondLst>
                                    <p:cond delay="0"/>
                                  </p:stCondLst>
                                  <p:childTnLst>
                                    <p:set>
                                      <p:cBhvr>
                                        <p:cTn id="21" dur="1" fill="hold">
                                          <p:stCondLst>
                                            <p:cond delay="0"/>
                                          </p:stCondLst>
                                        </p:cTn>
                                        <p:tgtEl>
                                          <p:spTgt spid="189"/>
                                        </p:tgtEl>
                                        <p:attrNameLst>
                                          <p:attrName>style.visibility</p:attrName>
                                        </p:attrNameLst>
                                      </p:cBhvr>
                                      <p:to>
                                        <p:strVal val="visible"/>
                                      </p:to>
                                    </p:set>
                                    <p:animEffect filter="wipe(left)" transition="in">
                                      <p:cBhvr additive="repl">
                                        <p:cTn id="22" dur="2000"/>
                                        <p:tgtEl>
                                          <p:spTgt spid="189"/>
                                        </p:tgtEl>
                                      </p:cBhvr>
                                    </p:animEffect>
                                  </p:childTnLst>
                                </p:cTn>
                              </p:par>
                            </p:childTnLst>
                          </p:cTn>
                        </p:par>
                        <p:par>
                          <p:cTn id="23" fill="hold">
                            <p:stCondLst>
                              <p:cond delay="2000"/>
                            </p:stCondLst>
                            <p:childTnLst>
                              <p:par>
                                <p:cTn id="24" nodeType="afterEffect" fill="hold" presetClass="entr" presetID="22" presetSubtype="1">
                                  <p:stCondLst>
                                    <p:cond delay="0"/>
                                  </p:stCondLst>
                                  <p:childTnLst>
                                    <p:set>
                                      <p:cBhvr>
                                        <p:cTn id="25" dur="1" fill="hold">
                                          <p:stCondLst>
                                            <p:cond delay="0"/>
                                          </p:stCondLst>
                                        </p:cTn>
                                        <p:tgtEl>
                                          <p:spTgt spid="190"/>
                                        </p:tgtEl>
                                        <p:attrNameLst>
                                          <p:attrName>style.visibility</p:attrName>
                                        </p:attrNameLst>
                                      </p:cBhvr>
                                      <p:to>
                                        <p:strVal val="visible"/>
                                      </p:to>
                                    </p:set>
                                    <p:animEffect filter="wipe(up)" transition="in">
                                      <p:cBhvr additive="repl">
                                        <p:cTn id="26" dur="2000"/>
                                        <p:tgtEl>
                                          <p:spTgt spid="190"/>
                                        </p:tgtEl>
                                      </p:cBhvr>
                                    </p:animEffect>
                                  </p:childTnLst>
                                </p:cTn>
                              </p:par>
                            </p:childTnLst>
                          </p:cTn>
                        </p:par>
                        <p:par>
                          <p:cTn id="27" fill="hold">
                            <p:stCondLst>
                              <p:cond delay="4000"/>
                            </p:stCondLst>
                            <p:childTnLst>
                              <p:par>
                                <p:cTn id="28" nodeType="afterEffect" fill="hold" presetClass="entr" presetID="22" presetSubtype="8">
                                  <p:stCondLst>
                                    <p:cond delay="0"/>
                                  </p:stCondLst>
                                  <p:childTnLst>
                                    <p:set>
                                      <p:cBhvr>
                                        <p:cTn id="29" dur="1" fill="hold">
                                          <p:stCondLst>
                                            <p:cond delay="0"/>
                                          </p:stCondLst>
                                        </p:cTn>
                                        <p:tgtEl>
                                          <p:spTgt spid="191"/>
                                        </p:tgtEl>
                                        <p:attrNameLst>
                                          <p:attrName>style.visibility</p:attrName>
                                        </p:attrNameLst>
                                      </p:cBhvr>
                                      <p:to>
                                        <p:strVal val="visible"/>
                                      </p:to>
                                    </p:set>
                                    <p:animEffect filter="wipe(left)" transition="in">
                                      <p:cBhvr additive="repl">
                                        <p:cTn id="30" dur="1000"/>
                                        <p:tgtEl>
                                          <p:spTgt spid="191"/>
                                        </p:tgtEl>
                                      </p:cBhvr>
                                    </p:animEffect>
                                  </p:childTnLst>
                                </p:cTn>
                              </p:par>
                            </p:childTnLst>
                          </p:cTn>
                        </p:par>
                        <p:par>
                          <p:cTn id="31" fill="hold">
                            <p:stCondLst>
                              <p:cond delay="5000"/>
                            </p:stCondLst>
                            <p:childTnLst>
                              <p:par>
                                <p:cTn id="32" nodeType="afterEffect" fill="hold" presetClass="entr" presetID="22" presetSubtype="1">
                                  <p:stCondLst>
                                    <p:cond delay="2000"/>
                                  </p:stCondLst>
                                  <p:childTnLst>
                                    <p:set>
                                      <p:cBhvr>
                                        <p:cTn id="33" dur="1" fill="hold">
                                          <p:stCondLst>
                                            <p:cond delay="0"/>
                                          </p:stCondLst>
                                        </p:cTn>
                                        <p:tgtEl>
                                          <p:spTgt spid="204"/>
                                        </p:tgtEl>
                                        <p:attrNameLst>
                                          <p:attrName>style.visibility</p:attrName>
                                        </p:attrNameLst>
                                      </p:cBhvr>
                                      <p:to>
                                        <p:strVal val="visible"/>
                                      </p:to>
                                    </p:set>
                                    <p:animEffect filter="wipe(up)" transition="in">
                                      <p:cBhvr additive="repl">
                                        <p:cTn id="34" dur="1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5" name="图片 442" descr="0880170006.jpg"/>
          <p:cNvPicPr/>
          <p:nvPr/>
        </p:nvPicPr>
        <p:blipFill>
          <a:blip r:embed="rId1"/>
          <a:srcRect l="0" t="0" r="-370" b="0"/>
          <a:stretch/>
        </p:blipFill>
        <p:spPr>
          <a:xfrm flipH="1">
            <a:off x="675720" y="0"/>
            <a:ext cx="6182280" cy="9905760"/>
          </a:xfrm>
          <a:prstGeom prst="rect">
            <a:avLst/>
          </a:prstGeom>
          <a:ln w="0">
            <a:noFill/>
          </a:ln>
        </p:spPr>
      </p:pic>
      <p:grpSp>
        <p:nvGrpSpPr>
          <p:cNvPr id="206" name="Group 2"/>
          <p:cNvGrpSpPr/>
          <p:nvPr/>
        </p:nvGrpSpPr>
        <p:grpSpPr>
          <a:xfrm>
            <a:off x="3696840" y="289440"/>
            <a:ext cx="2701800" cy="1172160"/>
            <a:chOff x="3696840" y="289440"/>
            <a:chExt cx="2701800" cy="1172160"/>
          </a:xfrm>
        </p:grpSpPr>
        <p:grpSp>
          <p:nvGrpSpPr>
            <p:cNvPr id="207" name="Group 3"/>
            <p:cNvGrpSpPr/>
            <p:nvPr/>
          </p:nvGrpSpPr>
          <p:grpSpPr>
            <a:xfrm>
              <a:off x="3698280" y="1195200"/>
              <a:ext cx="2700360" cy="266400"/>
              <a:chOff x="3698280" y="1195200"/>
              <a:chExt cx="2700360" cy="266400"/>
            </a:xfrm>
          </p:grpSpPr>
          <p:sp>
            <p:nvSpPr>
              <p:cNvPr id="208" name="Freeform 11"/>
              <p:cNvSpPr/>
              <p:nvPr/>
            </p:nvSpPr>
            <p:spPr>
              <a:xfrm>
                <a:off x="3698280" y="1201320"/>
                <a:ext cx="195480" cy="172080"/>
              </a:xfrm>
              <a:custGeom>
                <a:avLst/>
                <a:gdLst>
                  <a:gd name="textAreaLeft" fmla="*/ 0 w 195480"/>
                  <a:gd name="textAreaRight" fmla="*/ 195840 w 195480"/>
                  <a:gd name="textAreaTop" fmla="*/ 0 h 172080"/>
                  <a:gd name="textAreaBottom" fmla="*/ 172440 h 172080"/>
                </a:gdLst>
                <a:ahLst/>
                <a:rect l="textAreaLeft" t="textAreaTop" r="textAreaRight" b="textAreaBottom"/>
                <a:pathLst>
                  <a:path w="1227" h="1136">
                    <a:moveTo>
                      <a:pt x="540" y="176"/>
                    </a:moveTo>
                    <a:lnTo>
                      <a:pt x="551" y="181"/>
                    </a:lnTo>
                    <a:lnTo>
                      <a:pt x="562" y="188"/>
                    </a:lnTo>
                    <a:lnTo>
                      <a:pt x="573" y="193"/>
                    </a:lnTo>
                    <a:lnTo>
                      <a:pt x="585" y="198"/>
                    </a:lnTo>
                    <a:lnTo>
                      <a:pt x="611" y="208"/>
                    </a:lnTo>
                    <a:lnTo>
                      <a:pt x="640" y="215"/>
                    </a:lnTo>
                    <a:lnTo>
                      <a:pt x="635" y="224"/>
                    </a:lnTo>
                    <a:lnTo>
                      <a:pt x="628" y="231"/>
                    </a:lnTo>
                    <a:lnTo>
                      <a:pt x="623" y="240"/>
                    </a:lnTo>
                    <a:lnTo>
                      <a:pt x="619" y="248"/>
                    </a:lnTo>
                    <a:lnTo>
                      <a:pt x="615" y="257"/>
                    </a:lnTo>
                    <a:lnTo>
                      <a:pt x="611" y="266"/>
                    </a:lnTo>
                    <a:lnTo>
                      <a:pt x="608" y="276"/>
                    </a:lnTo>
                    <a:lnTo>
                      <a:pt x="605" y="285"/>
                    </a:lnTo>
                    <a:lnTo>
                      <a:pt x="604" y="293"/>
                    </a:lnTo>
                    <a:lnTo>
                      <a:pt x="603" y="301"/>
                    </a:lnTo>
                    <a:lnTo>
                      <a:pt x="600" y="309"/>
                    </a:lnTo>
                    <a:lnTo>
                      <a:pt x="596" y="316"/>
                    </a:lnTo>
                    <a:lnTo>
                      <a:pt x="615" y="313"/>
                    </a:lnTo>
                    <a:lnTo>
                      <a:pt x="637" y="309"/>
                    </a:lnTo>
                    <a:lnTo>
                      <a:pt x="662" y="302"/>
                    </a:lnTo>
                    <a:lnTo>
                      <a:pt x="690" y="296"/>
                    </a:lnTo>
                    <a:lnTo>
                      <a:pt x="702" y="292"/>
                    </a:lnTo>
                    <a:lnTo>
                      <a:pt x="710" y="291"/>
                    </a:lnTo>
                    <a:lnTo>
                      <a:pt x="710" y="243"/>
                    </a:lnTo>
                    <a:lnTo>
                      <a:pt x="708" y="197"/>
                    </a:lnTo>
                    <a:lnTo>
                      <a:pt x="705" y="156"/>
                    </a:lnTo>
                    <a:lnTo>
                      <a:pt x="700" y="118"/>
                    </a:lnTo>
                    <a:lnTo>
                      <a:pt x="695" y="84"/>
                    </a:lnTo>
                    <a:lnTo>
                      <a:pt x="688" y="52"/>
                    </a:lnTo>
                    <a:lnTo>
                      <a:pt x="683" y="38"/>
                    </a:lnTo>
                    <a:lnTo>
                      <a:pt x="679" y="25"/>
                    </a:lnTo>
                    <a:lnTo>
                      <a:pt x="675" y="12"/>
                    </a:lnTo>
                    <a:lnTo>
                      <a:pt x="671" y="0"/>
                    </a:lnTo>
                    <a:lnTo>
                      <a:pt x="688" y="7"/>
                    </a:lnTo>
                    <a:lnTo>
                      <a:pt x="705" y="11"/>
                    </a:lnTo>
                    <a:lnTo>
                      <a:pt x="722" y="15"/>
                    </a:lnTo>
                    <a:lnTo>
                      <a:pt x="739" y="18"/>
                    </a:lnTo>
                    <a:lnTo>
                      <a:pt x="755" y="20"/>
                    </a:lnTo>
                    <a:lnTo>
                      <a:pt x="772" y="21"/>
                    </a:lnTo>
                    <a:lnTo>
                      <a:pt x="789" y="21"/>
                    </a:lnTo>
                    <a:lnTo>
                      <a:pt x="805" y="20"/>
                    </a:lnTo>
                    <a:lnTo>
                      <a:pt x="800" y="44"/>
                    </a:lnTo>
                    <a:lnTo>
                      <a:pt x="795" y="70"/>
                    </a:lnTo>
                    <a:lnTo>
                      <a:pt x="790" y="99"/>
                    </a:lnTo>
                    <a:lnTo>
                      <a:pt x="786" y="129"/>
                    </a:lnTo>
                    <a:lnTo>
                      <a:pt x="784" y="162"/>
                    </a:lnTo>
                    <a:lnTo>
                      <a:pt x="782" y="198"/>
                    </a:lnTo>
                    <a:lnTo>
                      <a:pt x="781" y="235"/>
                    </a:lnTo>
                    <a:lnTo>
                      <a:pt x="780" y="276"/>
                    </a:lnTo>
                    <a:lnTo>
                      <a:pt x="811" y="268"/>
                    </a:lnTo>
                    <a:lnTo>
                      <a:pt x="841" y="261"/>
                    </a:lnTo>
                    <a:lnTo>
                      <a:pt x="873" y="253"/>
                    </a:lnTo>
                    <a:lnTo>
                      <a:pt x="906" y="246"/>
                    </a:lnTo>
                    <a:lnTo>
                      <a:pt x="913" y="244"/>
                    </a:lnTo>
                    <a:lnTo>
                      <a:pt x="921" y="244"/>
                    </a:lnTo>
                    <a:lnTo>
                      <a:pt x="928" y="247"/>
                    </a:lnTo>
                    <a:lnTo>
                      <a:pt x="936" y="250"/>
                    </a:lnTo>
                    <a:lnTo>
                      <a:pt x="936" y="249"/>
                    </a:lnTo>
                    <a:lnTo>
                      <a:pt x="937" y="248"/>
                    </a:lnTo>
                    <a:lnTo>
                      <a:pt x="938" y="249"/>
                    </a:lnTo>
                    <a:lnTo>
                      <a:pt x="941" y="250"/>
                    </a:lnTo>
                    <a:lnTo>
                      <a:pt x="945" y="257"/>
                    </a:lnTo>
                    <a:lnTo>
                      <a:pt x="950" y="266"/>
                    </a:lnTo>
                    <a:lnTo>
                      <a:pt x="960" y="276"/>
                    </a:lnTo>
                    <a:lnTo>
                      <a:pt x="966" y="284"/>
                    </a:lnTo>
                    <a:lnTo>
                      <a:pt x="972" y="293"/>
                    </a:lnTo>
                    <a:lnTo>
                      <a:pt x="976" y="301"/>
                    </a:lnTo>
                    <a:lnTo>
                      <a:pt x="979" y="305"/>
                    </a:lnTo>
                    <a:lnTo>
                      <a:pt x="981" y="309"/>
                    </a:lnTo>
                    <a:lnTo>
                      <a:pt x="982" y="310"/>
                    </a:lnTo>
                    <a:lnTo>
                      <a:pt x="982" y="311"/>
                    </a:lnTo>
                    <a:lnTo>
                      <a:pt x="981" y="311"/>
                    </a:lnTo>
                    <a:lnTo>
                      <a:pt x="980" y="311"/>
                    </a:lnTo>
                    <a:lnTo>
                      <a:pt x="979" y="313"/>
                    </a:lnTo>
                    <a:lnTo>
                      <a:pt x="977" y="315"/>
                    </a:lnTo>
                    <a:lnTo>
                      <a:pt x="972" y="315"/>
                    </a:lnTo>
                    <a:lnTo>
                      <a:pt x="965" y="316"/>
                    </a:lnTo>
                    <a:lnTo>
                      <a:pt x="943" y="321"/>
                    </a:lnTo>
                    <a:lnTo>
                      <a:pt x="915" y="327"/>
                    </a:lnTo>
                    <a:lnTo>
                      <a:pt x="883" y="334"/>
                    </a:lnTo>
                    <a:lnTo>
                      <a:pt x="845" y="340"/>
                    </a:lnTo>
                    <a:lnTo>
                      <a:pt x="824" y="343"/>
                    </a:lnTo>
                    <a:lnTo>
                      <a:pt x="806" y="346"/>
                    </a:lnTo>
                    <a:lnTo>
                      <a:pt x="791" y="348"/>
                    </a:lnTo>
                    <a:lnTo>
                      <a:pt x="780" y="351"/>
                    </a:lnTo>
                    <a:lnTo>
                      <a:pt x="780" y="384"/>
                    </a:lnTo>
                    <a:lnTo>
                      <a:pt x="780" y="417"/>
                    </a:lnTo>
                    <a:lnTo>
                      <a:pt x="780" y="452"/>
                    </a:lnTo>
                    <a:lnTo>
                      <a:pt x="780" y="486"/>
                    </a:lnTo>
                    <a:lnTo>
                      <a:pt x="806" y="480"/>
                    </a:lnTo>
                    <a:lnTo>
                      <a:pt x="834" y="474"/>
                    </a:lnTo>
                    <a:lnTo>
                      <a:pt x="860" y="467"/>
                    </a:lnTo>
                    <a:lnTo>
                      <a:pt x="888" y="462"/>
                    </a:lnTo>
                    <a:lnTo>
                      <a:pt x="915" y="457"/>
                    </a:lnTo>
                    <a:lnTo>
                      <a:pt x="943" y="452"/>
                    </a:lnTo>
                    <a:lnTo>
                      <a:pt x="972" y="446"/>
                    </a:lnTo>
                    <a:lnTo>
                      <a:pt x="1000" y="441"/>
                    </a:lnTo>
                    <a:lnTo>
                      <a:pt x="1005" y="440"/>
                    </a:lnTo>
                    <a:lnTo>
                      <a:pt x="1011" y="440"/>
                    </a:lnTo>
                    <a:lnTo>
                      <a:pt x="1015" y="440"/>
                    </a:lnTo>
                    <a:lnTo>
                      <a:pt x="1020" y="441"/>
                    </a:lnTo>
                    <a:lnTo>
                      <a:pt x="1026" y="442"/>
                    </a:lnTo>
                    <a:lnTo>
                      <a:pt x="1031" y="444"/>
                    </a:lnTo>
                    <a:lnTo>
                      <a:pt x="1035" y="447"/>
                    </a:lnTo>
                    <a:lnTo>
                      <a:pt x="1040" y="451"/>
                    </a:lnTo>
                    <a:lnTo>
                      <a:pt x="1047" y="458"/>
                    </a:lnTo>
                    <a:lnTo>
                      <a:pt x="1055" y="471"/>
                    </a:lnTo>
                    <a:lnTo>
                      <a:pt x="1068" y="491"/>
                    </a:lnTo>
                    <a:lnTo>
                      <a:pt x="1075" y="500"/>
                    </a:lnTo>
                    <a:lnTo>
                      <a:pt x="1080" y="508"/>
                    </a:lnTo>
                    <a:lnTo>
                      <a:pt x="1082" y="513"/>
                    </a:lnTo>
                    <a:lnTo>
                      <a:pt x="1082" y="517"/>
                    </a:lnTo>
                    <a:lnTo>
                      <a:pt x="1081" y="520"/>
                    </a:lnTo>
                    <a:lnTo>
                      <a:pt x="1080" y="523"/>
                    </a:lnTo>
                    <a:lnTo>
                      <a:pt x="1076" y="525"/>
                    </a:lnTo>
                    <a:lnTo>
                      <a:pt x="1072" y="526"/>
                    </a:lnTo>
                    <a:lnTo>
                      <a:pt x="1066" y="526"/>
                    </a:lnTo>
                    <a:lnTo>
                      <a:pt x="1049" y="526"/>
                    </a:lnTo>
                    <a:lnTo>
                      <a:pt x="1031" y="527"/>
                    </a:lnTo>
                    <a:lnTo>
                      <a:pt x="1011" y="528"/>
                    </a:lnTo>
                    <a:lnTo>
                      <a:pt x="987" y="530"/>
                    </a:lnTo>
                    <a:lnTo>
                      <a:pt x="963" y="532"/>
                    </a:lnTo>
                    <a:lnTo>
                      <a:pt x="936" y="534"/>
                    </a:lnTo>
                    <a:lnTo>
                      <a:pt x="907" y="537"/>
                    </a:lnTo>
                    <a:lnTo>
                      <a:pt x="875" y="541"/>
                    </a:lnTo>
                    <a:lnTo>
                      <a:pt x="850" y="544"/>
                    </a:lnTo>
                    <a:lnTo>
                      <a:pt x="827" y="546"/>
                    </a:lnTo>
                    <a:lnTo>
                      <a:pt x="809" y="548"/>
                    </a:lnTo>
                    <a:lnTo>
                      <a:pt x="796" y="551"/>
                    </a:lnTo>
                    <a:lnTo>
                      <a:pt x="812" y="568"/>
                    </a:lnTo>
                    <a:lnTo>
                      <a:pt x="831" y="588"/>
                    </a:lnTo>
                    <a:lnTo>
                      <a:pt x="852" y="613"/>
                    </a:lnTo>
                    <a:lnTo>
                      <a:pt x="875" y="641"/>
                    </a:lnTo>
                    <a:lnTo>
                      <a:pt x="902" y="671"/>
                    </a:lnTo>
                    <a:lnTo>
                      <a:pt x="927" y="696"/>
                    </a:lnTo>
                    <a:lnTo>
                      <a:pt x="950" y="720"/>
                    </a:lnTo>
                    <a:lnTo>
                      <a:pt x="972" y="740"/>
                    </a:lnTo>
                    <a:lnTo>
                      <a:pt x="992" y="757"/>
                    </a:lnTo>
                    <a:lnTo>
                      <a:pt x="1010" y="770"/>
                    </a:lnTo>
                    <a:lnTo>
                      <a:pt x="1018" y="775"/>
                    </a:lnTo>
                    <a:lnTo>
                      <a:pt x="1026" y="779"/>
                    </a:lnTo>
                    <a:lnTo>
                      <a:pt x="1033" y="783"/>
                    </a:lnTo>
                    <a:lnTo>
                      <a:pt x="1040" y="786"/>
                    </a:lnTo>
                    <a:lnTo>
                      <a:pt x="1064" y="797"/>
                    </a:lnTo>
                    <a:lnTo>
                      <a:pt x="1087" y="809"/>
                    </a:lnTo>
                    <a:lnTo>
                      <a:pt x="1109" y="821"/>
                    </a:lnTo>
                    <a:lnTo>
                      <a:pt x="1130" y="834"/>
                    </a:lnTo>
                    <a:lnTo>
                      <a:pt x="1152" y="846"/>
                    </a:lnTo>
                    <a:lnTo>
                      <a:pt x="1172" y="860"/>
                    </a:lnTo>
                    <a:lnTo>
                      <a:pt x="1191" y="872"/>
                    </a:lnTo>
                    <a:lnTo>
                      <a:pt x="1210" y="886"/>
                    </a:lnTo>
                    <a:lnTo>
                      <a:pt x="1218" y="896"/>
                    </a:lnTo>
                    <a:lnTo>
                      <a:pt x="1224" y="904"/>
                    </a:lnTo>
                    <a:lnTo>
                      <a:pt x="1226" y="907"/>
                    </a:lnTo>
                    <a:lnTo>
                      <a:pt x="1227" y="910"/>
                    </a:lnTo>
                    <a:lnTo>
                      <a:pt x="1227" y="914"/>
                    </a:lnTo>
                    <a:lnTo>
                      <a:pt x="1226" y="916"/>
                    </a:lnTo>
                    <a:lnTo>
                      <a:pt x="1225" y="919"/>
                    </a:lnTo>
                    <a:lnTo>
                      <a:pt x="1224" y="921"/>
                    </a:lnTo>
                    <a:lnTo>
                      <a:pt x="1221" y="922"/>
                    </a:lnTo>
                    <a:lnTo>
                      <a:pt x="1219" y="923"/>
                    </a:lnTo>
                    <a:lnTo>
                      <a:pt x="1211" y="925"/>
                    </a:lnTo>
                    <a:lnTo>
                      <a:pt x="1200" y="926"/>
                    </a:lnTo>
                    <a:lnTo>
                      <a:pt x="1152" y="927"/>
                    </a:lnTo>
                    <a:lnTo>
                      <a:pt x="1109" y="927"/>
                    </a:lnTo>
                    <a:lnTo>
                      <a:pt x="1089" y="927"/>
                    </a:lnTo>
                    <a:lnTo>
                      <a:pt x="1071" y="926"/>
                    </a:lnTo>
                    <a:lnTo>
                      <a:pt x="1054" y="924"/>
                    </a:lnTo>
                    <a:lnTo>
                      <a:pt x="1039" y="922"/>
                    </a:lnTo>
                    <a:lnTo>
                      <a:pt x="1026" y="920"/>
                    </a:lnTo>
                    <a:lnTo>
                      <a:pt x="1013" y="917"/>
                    </a:lnTo>
                    <a:lnTo>
                      <a:pt x="1001" y="914"/>
                    </a:lnTo>
                    <a:lnTo>
                      <a:pt x="992" y="910"/>
                    </a:lnTo>
                    <a:lnTo>
                      <a:pt x="983" y="906"/>
                    </a:lnTo>
                    <a:lnTo>
                      <a:pt x="976" y="902"/>
                    </a:lnTo>
                    <a:lnTo>
                      <a:pt x="969" y="897"/>
                    </a:lnTo>
                    <a:lnTo>
                      <a:pt x="965" y="891"/>
                    </a:lnTo>
                    <a:lnTo>
                      <a:pt x="946" y="867"/>
                    </a:lnTo>
                    <a:lnTo>
                      <a:pt x="922" y="833"/>
                    </a:lnTo>
                    <a:lnTo>
                      <a:pt x="893" y="792"/>
                    </a:lnTo>
                    <a:lnTo>
                      <a:pt x="860" y="741"/>
                    </a:lnTo>
                    <a:lnTo>
                      <a:pt x="839" y="704"/>
                    </a:lnTo>
                    <a:lnTo>
                      <a:pt x="819" y="671"/>
                    </a:lnTo>
                    <a:lnTo>
                      <a:pt x="801" y="643"/>
                    </a:lnTo>
                    <a:lnTo>
                      <a:pt x="785" y="621"/>
                    </a:lnTo>
                    <a:lnTo>
                      <a:pt x="785" y="636"/>
                    </a:lnTo>
                    <a:lnTo>
                      <a:pt x="785" y="652"/>
                    </a:lnTo>
                    <a:lnTo>
                      <a:pt x="785" y="671"/>
                    </a:lnTo>
                    <a:lnTo>
                      <a:pt x="785" y="691"/>
                    </a:lnTo>
                    <a:lnTo>
                      <a:pt x="785" y="713"/>
                    </a:lnTo>
                    <a:lnTo>
                      <a:pt x="785" y="738"/>
                    </a:lnTo>
                    <a:lnTo>
                      <a:pt x="785" y="763"/>
                    </a:lnTo>
                    <a:lnTo>
                      <a:pt x="785" y="791"/>
                    </a:lnTo>
                    <a:lnTo>
                      <a:pt x="786" y="820"/>
                    </a:lnTo>
                    <a:lnTo>
                      <a:pt x="787" y="848"/>
                    </a:lnTo>
                    <a:lnTo>
                      <a:pt x="788" y="873"/>
                    </a:lnTo>
                    <a:lnTo>
                      <a:pt x="789" y="898"/>
                    </a:lnTo>
                    <a:lnTo>
                      <a:pt x="789" y="920"/>
                    </a:lnTo>
                    <a:lnTo>
                      <a:pt x="790" y="940"/>
                    </a:lnTo>
                    <a:lnTo>
                      <a:pt x="790" y="959"/>
                    </a:lnTo>
                    <a:lnTo>
                      <a:pt x="790" y="976"/>
                    </a:lnTo>
                    <a:lnTo>
                      <a:pt x="793" y="1015"/>
                    </a:lnTo>
                    <a:lnTo>
                      <a:pt x="794" y="1048"/>
                    </a:lnTo>
                    <a:lnTo>
                      <a:pt x="795" y="1076"/>
                    </a:lnTo>
                    <a:lnTo>
                      <a:pt x="794" y="1099"/>
                    </a:lnTo>
                    <a:lnTo>
                      <a:pt x="793" y="1116"/>
                    </a:lnTo>
                    <a:lnTo>
                      <a:pt x="791" y="1128"/>
                    </a:lnTo>
                    <a:lnTo>
                      <a:pt x="790" y="1132"/>
                    </a:lnTo>
                    <a:lnTo>
                      <a:pt x="788" y="1135"/>
                    </a:lnTo>
                    <a:lnTo>
                      <a:pt x="787" y="1136"/>
                    </a:lnTo>
                    <a:lnTo>
                      <a:pt x="785" y="1136"/>
                    </a:lnTo>
                    <a:lnTo>
                      <a:pt x="770" y="1128"/>
                    </a:lnTo>
                    <a:lnTo>
                      <a:pt x="755" y="1118"/>
                    </a:lnTo>
                    <a:lnTo>
                      <a:pt x="741" y="1108"/>
                    </a:lnTo>
                    <a:lnTo>
                      <a:pt x="727" y="1095"/>
                    </a:lnTo>
                    <a:lnTo>
                      <a:pt x="712" y="1081"/>
                    </a:lnTo>
                    <a:lnTo>
                      <a:pt x="698" y="1066"/>
                    </a:lnTo>
                    <a:lnTo>
                      <a:pt x="684" y="1049"/>
                    </a:lnTo>
                    <a:lnTo>
                      <a:pt x="671" y="1031"/>
                    </a:lnTo>
                    <a:lnTo>
                      <a:pt x="675" y="1026"/>
                    </a:lnTo>
                    <a:lnTo>
                      <a:pt x="678" y="1019"/>
                    </a:lnTo>
                    <a:lnTo>
                      <a:pt x="682" y="1008"/>
                    </a:lnTo>
                    <a:lnTo>
                      <a:pt x="686" y="994"/>
                    </a:lnTo>
                    <a:lnTo>
                      <a:pt x="689" y="978"/>
                    </a:lnTo>
                    <a:lnTo>
                      <a:pt x="692" y="959"/>
                    </a:lnTo>
                    <a:lnTo>
                      <a:pt x="694" y="938"/>
                    </a:lnTo>
                    <a:lnTo>
                      <a:pt x="696" y="914"/>
                    </a:lnTo>
                    <a:lnTo>
                      <a:pt x="700" y="857"/>
                    </a:lnTo>
                    <a:lnTo>
                      <a:pt x="702" y="790"/>
                    </a:lnTo>
                    <a:lnTo>
                      <a:pt x="705" y="710"/>
                    </a:lnTo>
                    <a:lnTo>
                      <a:pt x="706" y="621"/>
                    </a:lnTo>
                    <a:lnTo>
                      <a:pt x="680" y="666"/>
                    </a:lnTo>
                    <a:lnTo>
                      <a:pt x="655" y="709"/>
                    </a:lnTo>
                    <a:lnTo>
                      <a:pt x="629" y="749"/>
                    </a:lnTo>
                    <a:lnTo>
                      <a:pt x="604" y="788"/>
                    </a:lnTo>
                    <a:lnTo>
                      <a:pt x="579" y="824"/>
                    </a:lnTo>
                    <a:lnTo>
                      <a:pt x="552" y="856"/>
                    </a:lnTo>
                    <a:lnTo>
                      <a:pt x="527" y="887"/>
                    </a:lnTo>
                    <a:lnTo>
                      <a:pt x="500" y="916"/>
                    </a:lnTo>
                    <a:lnTo>
                      <a:pt x="487" y="926"/>
                    </a:lnTo>
                    <a:lnTo>
                      <a:pt x="475" y="935"/>
                    </a:lnTo>
                    <a:lnTo>
                      <a:pt x="462" y="943"/>
                    </a:lnTo>
                    <a:lnTo>
                      <a:pt x="449" y="950"/>
                    </a:lnTo>
                    <a:lnTo>
                      <a:pt x="437" y="955"/>
                    </a:lnTo>
                    <a:lnTo>
                      <a:pt x="423" y="959"/>
                    </a:lnTo>
                    <a:lnTo>
                      <a:pt x="410" y="962"/>
                    </a:lnTo>
                    <a:lnTo>
                      <a:pt x="396" y="963"/>
                    </a:lnTo>
                    <a:lnTo>
                      <a:pt x="383" y="964"/>
                    </a:lnTo>
                    <a:lnTo>
                      <a:pt x="369" y="963"/>
                    </a:lnTo>
                    <a:lnTo>
                      <a:pt x="355" y="962"/>
                    </a:lnTo>
                    <a:lnTo>
                      <a:pt x="341" y="959"/>
                    </a:lnTo>
                    <a:lnTo>
                      <a:pt x="328" y="955"/>
                    </a:lnTo>
                    <a:lnTo>
                      <a:pt x="314" y="950"/>
                    </a:lnTo>
                    <a:lnTo>
                      <a:pt x="299" y="943"/>
                    </a:lnTo>
                    <a:lnTo>
                      <a:pt x="285" y="936"/>
                    </a:lnTo>
                    <a:lnTo>
                      <a:pt x="308" y="925"/>
                    </a:lnTo>
                    <a:lnTo>
                      <a:pt x="333" y="912"/>
                    </a:lnTo>
                    <a:lnTo>
                      <a:pt x="356" y="898"/>
                    </a:lnTo>
                    <a:lnTo>
                      <a:pt x="379" y="882"/>
                    </a:lnTo>
                    <a:lnTo>
                      <a:pt x="403" y="865"/>
                    </a:lnTo>
                    <a:lnTo>
                      <a:pt x="426" y="847"/>
                    </a:lnTo>
                    <a:lnTo>
                      <a:pt x="449" y="827"/>
                    </a:lnTo>
                    <a:lnTo>
                      <a:pt x="473" y="804"/>
                    </a:lnTo>
                    <a:lnTo>
                      <a:pt x="496" y="782"/>
                    </a:lnTo>
                    <a:lnTo>
                      <a:pt x="518" y="758"/>
                    </a:lnTo>
                    <a:lnTo>
                      <a:pt x="541" y="731"/>
                    </a:lnTo>
                    <a:lnTo>
                      <a:pt x="565" y="705"/>
                    </a:lnTo>
                    <a:lnTo>
                      <a:pt x="587" y="676"/>
                    </a:lnTo>
                    <a:lnTo>
                      <a:pt x="610" y="646"/>
                    </a:lnTo>
                    <a:lnTo>
                      <a:pt x="633" y="614"/>
                    </a:lnTo>
                    <a:lnTo>
                      <a:pt x="655" y="581"/>
                    </a:lnTo>
                    <a:lnTo>
                      <a:pt x="623" y="586"/>
                    </a:lnTo>
                    <a:lnTo>
                      <a:pt x="591" y="593"/>
                    </a:lnTo>
                    <a:lnTo>
                      <a:pt x="561" y="599"/>
                    </a:lnTo>
                    <a:lnTo>
                      <a:pt x="530" y="606"/>
                    </a:lnTo>
                    <a:lnTo>
                      <a:pt x="516" y="605"/>
                    </a:lnTo>
                    <a:lnTo>
                      <a:pt x="502" y="603"/>
                    </a:lnTo>
                    <a:lnTo>
                      <a:pt x="491" y="600"/>
                    </a:lnTo>
                    <a:lnTo>
                      <a:pt x="480" y="596"/>
                    </a:lnTo>
                    <a:lnTo>
                      <a:pt x="475" y="591"/>
                    </a:lnTo>
                    <a:lnTo>
                      <a:pt x="466" y="585"/>
                    </a:lnTo>
                    <a:lnTo>
                      <a:pt x="457" y="575"/>
                    </a:lnTo>
                    <a:lnTo>
                      <a:pt x="445" y="561"/>
                    </a:lnTo>
                    <a:lnTo>
                      <a:pt x="437" y="552"/>
                    </a:lnTo>
                    <a:lnTo>
                      <a:pt x="430" y="546"/>
                    </a:lnTo>
                    <a:lnTo>
                      <a:pt x="448" y="545"/>
                    </a:lnTo>
                    <a:lnTo>
                      <a:pt x="468" y="542"/>
                    </a:lnTo>
                    <a:lnTo>
                      <a:pt x="491" y="540"/>
                    </a:lnTo>
                    <a:lnTo>
                      <a:pt x="515" y="536"/>
                    </a:lnTo>
                    <a:lnTo>
                      <a:pt x="541" y="532"/>
                    </a:lnTo>
                    <a:lnTo>
                      <a:pt x="569" y="527"/>
                    </a:lnTo>
                    <a:lnTo>
                      <a:pt x="599" y="522"/>
                    </a:lnTo>
                    <a:lnTo>
                      <a:pt x="630" y="516"/>
                    </a:lnTo>
                    <a:lnTo>
                      <a:pt x="656" y="511"/>
                    </a:lnTo>
                    <a:lnTo>
                      <a:pt x="678" y="507"/>
                    </a:lnTo>
                    <a:lnTo>
                      <a:pt x="696" y="504"/>
                    </a:lnTo>
                    <a:lnTo>
                      <a:pt x="710" y="500"/>
                    </a:lnTo>
                    <a:lnTo>
                      <a:pt x="710" y="360"/>
                    </a:lnTo>
                    <a:lnTo>
                      <a:pt x="677" y="367"/>
                    </a:lnTo>
                    <a:lnTo>
                      <a:pt x="652" y="372"/>
                    </a:lnTo>
                    <a:lnTo>
                      <a:pt x="635" y="375"/>
                    </a:lnTo>
                    <a:lnTo>
                      <a:pt x="625" y="375"/>
                    </a:lnTo>
                    <a:lnTo>
                      <a:pt x="621" y="375"/>
                    </a:lnTo>
                    <a:lnTo>
                      <a:pt x="617" y="374"/>
                    </a:lnTo>
                    <a:lnTo>
                      <a:pt x="612" y="372"/>
                    </a:lnTo>
                    <a:lnTo>
                      <a:pt x="607" y="369"/>
                    </a:lnTo>
                    <a:lnTo>
                      <a:pt x="597" y="362"/>
                    </a:lnTo>
                    <a:lnTo>
                      <a:pt x="585" y="351"/>
                    </a:lnTo>
                    <a:lnTo>
                      <a:pt x="582" y="366"/>
                    </a:lnTo>
                    <a:lnTo>
                      <a:pt x="576" y="382"/>
                    </a:lnTo>
                    <a:lnTo>
                      <a:pt x="569" y="399"/>
                    </a:lnTo>
                    <a:lnTo>
                      <a:pt x="561" y="416"/>
                    </a:lnTo>
                    <a:lnTo>
                      <a:pt x="557" y="425"/>
                    </a:lnTo>
                    <a:lnTo>
                      <a:pt x="555" y="433"/>
                    </a:lnTo>
                    <a:lnTo>
                      <a:pt x="553" y="438"/>
                    </a:lnTo>
                    <a:lnTo>
                      <a:pt x="550" y="441"/>
                    </a:lnTo>
                    <a:lnTo>
                      <a:pt x="546" y="448"/>
                    </a:lnTo>
                    <a:lnTo>
                      <a:pt x="540" y="455"/>
                    </a:lnTo>
                    <a:lnTo>
                      <a:pt x="535" y="460"/>
                    </a:lnTo>
                    <a:lnTo>
                      <a:pt x="529" y="465"/>
                    </a:lnTo>
                    <a:lnTo>
                      <a:pt x="522" y="471"/>
                    </a:lnTo>
                    <a:lnTo>
                      <a:pt x="515" y="475"/>
                    </a:lnTo>
                    <a:lnTo>
                      <a:pt x="507" y="478"/>
                    </a:lnTo>
                    <a:lnTo>
                      <a:pt x="499" y="481"/>
                    </a:lnTo>
                    <a:lnTo>
                      <a:pt x="491" y="483"/>
                    </a:lnTo>
                    <a:lnTo>
                      <a:pt x="481" y="484"/>
                    </a:lnTo>
                    <a:lnTo>
                      <a:pt x="472" y="486"/>
                    </a:lnTo>
                    <a:lnTo>
                      <a:pt x="461" y="486"/>
                    </a:lnTo>
                    <a:lnTo>
                      <a:pt x="450" y="486"/>
                    </a:lnTo>
                    <a:lnTo>
                      <a:pt x="439" y="484"/>
                    </a:lnTo>
                    <a:lnTo>
                      <a:pt x="427" y="483"/>
                    </a:lnTo>
                    <a:lnTo>
                      <a:pt x="415" y="480"/>
                    </a:lnTo>
                    <a:lnTo>
                      <a:pt x="430" y="466"/>
                    </a:lnTo>
                    <a:lnTo>
                      <a:pt x="444" y="452"/>
                    </a:lnTo>
                    <a:lnTo>
                      <a:pt x="458" y="437"/>
                    </a:lnTo>
                    <a:lnTo>
                      <a:pt x="469" y="421"/>
                    </a:lnTo>
                    <a:lnTo>
                      <a:pt x="481" y="404"/>
                    </a:lnTo>
                    <a:lnTo>
                      <a:pt x="492" y="386"/>
                    </a:lnTo>
                    <a:lnTo>
                      <a:pt x="500" y="368"/>
                    </a:lnTo>
                    <a:lnTo>
                      <a:pt x="509" y="350"/>
                    </a:lnTo>
                    <a:lnTo>
                      <a:pt x="516" y="330"/>
                    </a:lnTo>
                    <a:lnTo>
                      <a:pt x="522" y="310"/>
                    </a:lnTo>
                    <a:lnTo>
                      <a:pt x="528" y="289"/>
                    </a:lnTo>
                    <a:lnTo>
                      <a:pt x="532" y="268"/>
                    </a:lnTo>
                    <a:lnTo>
                      <a:pt x="536" y="246"/>
                    </a:lnTo>
                    <a:lnTo>
                      <a:pt x="538" y="223"/>
                    </a:lnTo>
                    <a:lnTo>
                      <a:pt x="539" y="199"/>
                    </a:lnTo>
                    <a:lnTo>
                      <a:pt x="540" y="176"/>
                    </a:lnTo>
                    <a:close/>
                    <a:moveTo>
                      <a:pt x="436" y="520"/>
                    </a:moveTo>
                    <a:lnTo>
                      <a:pt x="399" y="528"/>
                    </a:lnTo>
                    <a:lnTo>
                      <a:pt x="361" y="536"/>
                    </a:lnTo>
                    <a:lnTo>
                      <a:pt x="325" y="544"/>
                    </a:lnTo>
                    <a:lnTo>
                      <a:pt x="290" y="551"/>
                    </a:lnTo>
                    <a:lnTo>
                      <a:pt x="290" y="569"/>
                    </a:lnTo>
                    <a:lnTo>
                      <a:pt x="290" y="588"/>
                    </a:lnTo>
                    <a:lnTo>
                      <a:pt x="290" y="608"/>
                    </a:lnTo>
                    <a:lnTo>
                      <a:pt x="290" y="630"/>
                    </a:lnTo>
                    <a:lnTo>
                      <a:pt x="290" y="652"/>
                    </a:lnTo>
                    <a:lnTo>
                      <a:pt x="290" y="675"/>
                    </a:lnTo>
                    <a:lnTo>
                      <a:pt x="290" y="701"/>
                    </a:lnTo>
                    <a:lnTo>
                      <a:pt x="290" y="726"/>
                    </a:lnTo>
                    <a:lnTo>
                      <a:pt x="325" y="706"/>
                    </a:lnTo>
                    <a:lnTo>
                      <a:pt x="361" y="687"/>
                    </a:lnTo>
                    <a:lnTo>
                      <a:pt x="399" y="669"/>
                    </a:lnTo>
                    <a:lnTo>
                      <a:pt x="436" y="651"/>
                    </a:lnTo>
                    <a:lnTo>
                      <a:pt x="439" y="650"/>
                    </a:lnTo>
                    <a:lnTo>
                      <a:pt x="442" y="650"/>
                    </a:lnTo>
                    <a:lnTo>
                      <a:pt x="446" y="650"/>
                    </a:lnTo>
                    <a:lnTo>
                      <a:pt x="449" y="651"/>
                    </a:lnTo>
                    <a:lnTo>
                      <a:pt x="451" y="653"/>
                    </a:lnTo>
                    <a:lnTo>
                      <a:pt x="455" y="655"/>
                    </a:lnTo>
                    <a:lnTo>
                      <a:pt x="458" y="657"/>
                    </a:lnTo>
                    <a:lnTo>
                      <a:pt x="460" y="661"/>
                    </a:lnTo>
                    <a:lnTo>
                      <a:pt x="462" y="665"/>
                    </a:lnTo>
                    <a:lnTo>
                      <a:pt x="463" y="668"/>
                    </a:lnTo>
                    <a:lnTo>
                      <a:pt x="464" y="672"/>
                    </a:lnTo>
                    <a:lnTo>
                      <a:pt x="464" y="675"/>
                    </a:lnTo>
                    <a:lnTo>
                      <a:pt x="463" y="677"/>
                    </a:lnTo>
                    <a:lnTo>
                      <a:pt x="461" y="680"/>
                    </a:lnTo>
                    <a:lnTo>
                      <a:pt x="459" y="684"/>
                    </a:lnTo>
                    <a:lnTo>
                      <a:pt x="455" y="686"/>
                    </a:lnTo>
                    <a:lnTo>
                      <a:pt x="386" y="733"/>
                    </a:lnTo>
                    <a:lnTo>
                      <a:pt x="323" y="778"/>
                    </a:lnTo>
                    <a:lnTo>
                      <a:pt x="268" y="818"/>
                    </a:lnTo>
                    <a:lnTo>
                      <a:pt x="221" y="853"/>
                    </a:lnTo>
                    <a:lnTo>
                      <a:pt x="178" y="885"/>
                    </a:lnTo>
                    <a:lnTo>
                      <a:pt x="144" y="913"/>
                    </a:lnTo>
                    <a:lnTo>
                      <a:pt x="116" y="937"/>
                    </a:lnTo>
                    <a:lnTo>
                      <a:pt x="96" y="956"/>
                    </a:lnTo>
                    <a:lnTo>
                      <a:pt x="85" y="940"/>
                    </a:lnTo>
                    <a:lnTo>
                      <a:pt x="74" y="925"/>
                    </a:lnTo>
                    <a:lnTo>
                      <a:pt x="63" y="910"/>
                    </a:lnTo>
                    <a:lnTo>
                      <a:pt x="51" y="897"/>
                    </a:lnTo>
                    <a:lnTo>
                      <a:pt x="39" y="883"/>
                    </a:lnTo>
                    <a:lnTo>
                      <a:pt x="27" y="870"/>
                    </a:lnTo>
                    <a:lnTo>
                      <a:pt x="14" y="857"/>
                    </a:lnTo>
                    <a:lnTo>
                      <a:pt x="0" y="846"/>
                    </a:lnTo>
                    <a:lnTo>
                      <a:pt x="22" y="838"/>
                    </a:lnTo>
                    <a:lnTo>
                      <a:pt x="46" y="829"/>
                    </a:lnTo>
                    <a:lnTo>
                      <a:pt x="70" y="819"/>
                    </a:lnTo>
                    <a:lnTo>
                      <a:pt x="97" y="809"/>
                    </a:lnTo>
                    <a:lnTo>
                      <a:pt x="124" y="797"/>
                    </a:lnTo>
                    <a:lnTo>
                      <a:pt x="153" y="784"/>
                    </a:lnTo>
                    <a:lnTo>
                      <a:pt x="183" y="771"/>
                    </a:lnTo>
                    <a:lnTo>
                      <a:pt x="215" y="756"/>
                    </a:lnTo>
                    <a:lnTo>
                      <a:pt x="215" y="737"/>
                    </a:lnTo>
                    <a:lnTo>
                      <a:pt x="216" y="713"/>
                    </a:lnTo>
                    <a:lnTo>
                      <a:pt x="217" y="687"/>
                    </a:lnTo>
                    <a:lnTo>
                      <a:pt x="221" y="656"/>
                    </a:lnTo>
                    <a:lnTo>
                      <a:pt x="221" y="628"/>
                    </a:lnTo>
                    <a:lnTo>
                      <a:pt x="221" y="603"/>
                    </a:lnTo>
                    <a:lnTo>
                      <a:pt x="221" y="583"/>
                    </a:lnTo>
                    <a:lnTo>
                      <a:pt x="221" y="566"/>
                    </a:lnTo>
                    <a:lnTo>
                      <a:pt x="209" y="568"/>
                    </a:lnTo>
                    <a:lnTo>
                      <a:pt x="197" y="571"/>
                    </a:lnTo>
                    <a:lnTo>
                      <a:pt x="185" y="573"/>
                    </a:lnTo>
                    <a:lnTo>
                      <a:pt x="170" y="576"/>
                    </a:lnTo>
                    <a:lnTo>
                      <a:pt x="147" y="580"/>
                    </a:lnTo>
                    <a:lnTo>
                      <a:pt x="132" y="582"/>
                    </a:lnTo>
                    <a:lnTo>
                      <a:pt x="125" y="583"/>
                    </a:lnTo>
                    <a:lnTo>
                      <a:pt x="120" y="583"/>
                    </a:lnTo>
                    <a:lnTo>
                      <a:pt x="117" y="582"/>
                    </a:lnTo>
                    <a:lnTo>
                      <a:pt x="115" y="581"/>
                    </a:lnTo>
                    <a:lnTo>
                      <a:pt x="104" y="575"/>
                    </a:lnTo>
                    <a:lnTo>
                      <a:pt x="90" y="564"/>
                    </a:lnTo>
                    <a:lnTo>
                      <a:pt x="73" y="549"/>
                    </a:lnTo>
                    <a:lnTo>
                      <a:pt x="55" y="531"/>
                    </a:lnTo>
                    <a:lnTo>
                      <a:pt x="72" y="528"/>
                    </a:lnTo>
                    <a:lnTo>
                      <a:pt x="95" y="524"/>
                    </a:lnTo>
                    <a:lnTo>
                      <a:pt x="122" y="517"/>
                    </a:lnTo>
                    <a:lnTo>
                      <a:pt x="155" y="511"/>
                    </a:lnTo>
                    <a:lnTo>
                      <a:pt x="174" y="509"/>
                    </a:lnTo>
                    <a:lnTo>
                      <a:pt x="190" y="506"/>
                    </a:lnTo>
                    <a:lnTo>
                      <a:pt x="204" y="504"/>
                    </a:lnTo>
                    <a:lnTo>
                      <a:pt x="215" y="500"/>
                    </a:lnTo>
                    <a:lnTo>
                      <a:pt x="215" y="475"/>
                    </a:lnTo>
                    <a:lnTo>
                      <a:pt x="214" y="451"/>
                    </a:lnTo>
                    <a:lnTo>
                      <a:pt x="213" y="427"/>
                    </a:lnTo>
                    <a:lnTo>
                      <a:pt x="211" y="405"/>
                    </a:lnTo>
                    <a:lnTo>
                      <a:pt x="209" y="383"/>
                    </a:lnTo>
                    <a:lnTo>
                      <a:pt x="207" y="363"/>
                    </a:lnTo>
                    <a:lnTo>
                      <a:pt x="204" y="343"/>
                    </a:lnTo>
                    <a:lnTo>
                      <a:pt x="200" y="325"/>
                    </a:lnTo>
                    <a:lnTo>
                      <a:pt x="165" y="332"/>
                    </a:lnTo>
                    <a:lnTo>
                      <a:pt x="137" y="337"/>
                    </a:lnTo>
                    <a:lnTo>
                      <a:pt x="113" y="339"/>
                    </a:lnTo>
                    <a:lnTo>
                      <a:pt x="96" y="340"/>
                    </a:lnTo>
                    <a:lnTo>
                      <a:pt x="91" y="339"/>
                    </a:lnTo>
                    <a:lnTo>
                      <a:pt x="87" y="337"/>
                    </a:lnTo>
                    <a:lnTo>
                      <a:pt x="83" y="334"/>
                    </a:lnTo>
                    <a:lnTo>
                      <a:pt x="79" y="330"/>
                    </a:lnTo>
                    <a:lnTo>
                      <a:pt x="70" y="319"/>
                    </a:lnTo>
                    <a:lnTo>
                      <a:pt x="60" y="305"/>
                    </a:lnTo>
                    <a:lnTo>
                      <a:pt x="48" y="293"/>
                    </a:lnTo>
                    <a:lnTo>
                      <a:pt x="40" y="285"/>
                    </a:lnTo>
                    <a:lnTo>
                      <a:pt x="77" y="279"/>
                    </a:lnTo>
                    <a:lnTo>
                      <a:pt x="115" y="271"/>
                    </a:lnTo>
                    <a:lnTo>
                      <a:pt x="156" y="262"/>
                    </a:lnTo>
                    <a:lnTo>
                      <a:pt x="198" y="252"/>
                    </a:lnTo>
                    <a:lnTo>
                      <a:pt x="244" y="241"/>
                    </a:lnTo>
                    <a:lnTo>
                      <a:pt x="293" y="228"/>
                    </a:lnTo>
                    <a:lnTo>
                      <a:pt x="342" y="215"/>
                    </a:lnTo>
                    <a:lnTo>
                      <a:pt x="395" y="200"/>
                    </a:lnTo>
                    <a:lnTo>
                      <a:pt x="407" y="212"/>
                    </a:lnTo>
                    <a:lnTo>
                      <a:pt x="418" y="223"/>
                    </a:lnTo>
                    <a:lnTo>
                      <a:pt x="427" y="232"/>
                    </a:lnTo>
                    <a:lnTo>
                      <a:pt x="436" y="242"/>
                    </a:lnTo>
                    <a:lnTo>
                      <a:pt x="442" y="251"/>
                    </a:lnTo>
                    <a:lnTo>
                      <a:pt x="447" y="260"/>
                    </a:lnTo>
                    <a:lnTo>
                      <a:pt x="451" y="268"/>
                    </a:lnTo>
                    <a:lnTo>
                      <a:pt x="455" y="276"/>
                    </a:lnTo>
                    <a:lnTo>
                      <a:pt x="426" y="282"/>
                    </a:lnTo>
                    <a:lnTo>
                      <a:pt x="397" y="287"/>
                    </a:lnTo>
                    <a:lnTo>
                      <a:pt x="370" y="293"/>
                    </a:lnTo>
                    <a:lnTo>
                      <a:pt x="343" y="298"/>
                    </a:lnTo>
                    <a:lnTo>
                      <a:pt x="319" y="303"/>
                    </a:lnTo>
                    <a:lnTo>
                      <a:pt x="295" y="307"/>
                    </a:lnTo>
                    <a:lnTo>
                      <a:pt x="271" y="312"/>
                    </a:lnTo>
                    <a:lnTo>
                      <a:pt x="250" y="316"/>
                    </a:lnTo>
                    <a:lnTo>
                      <a:pt x="263" y="318"/>
                    </a:lnTo>
                    <a:lnTo>
                      <a:pt x="278" y="319"/>
                    </a:lnTo>
                    <a:lnTo>
                      <a:pt x="294" y="320"/>
                    </a:lnTo>
                    <a:lnTo>
                      <a:pt x="311" y="320"/>
                    </a:lnTo>
                    <a:lnTo>
                      <a:pt x="306" y="332"/>
                    </a:lnTo>
                    <a:lnTo>
                      <a:pt x="303" y="346"/>
                    </a:lnTo>
                    <a:lnTo>
                      <a:pt x="300" y="362"/>
                    </a:lnTo>
                    <a:lnTo>
                      <a:pt x="298" y="381"/>
                    </a:lnTo>
                    <a:lnTo>
                      <a:pt x="296" y="402"/>
                    </a:lnTo>
                    <a:lnTo>
                      <a:pt x="294" y="426"/>
                    </a:lnTo>
                    <a:lnTo>
                      <a:pt x="292" y="452"/>
                    </a:lnTo>
                    <a:lnTo>
                      <a:pt x="290" y="480"/>
                    </a:lnTo>
                    <a:lnTo>
                      <a:pt x="313" y="476"/>
                    </a:lnTo>
                    <a:lnTo>
                      <a:pt x="335" y="470"/>
                    </a:lnTo>
                    <a:lnTo>
                      <a:pt x="357" y="463"/>
                    </a:lnTo>
                    <a:lnTo>
                      <a:pt x="380" y="456"/>
                    </a:lnTo>
                    <a:lnTo>
                      <a:pt x="390" y="463"/>
                    </a:lnTo>
                    <a:lnTo>
                      <a:pt x="399" y="471"/>
                    </a:lnTo>
                    <a:lnTo>
                      <a:pt x="407" y="479"/>
                    </a:lnTo>
                    <a:lnTo>
                      <a:pt x="414" y="488"/>
                    </a:lnTo>
                    <a:lnTo>
                      <a:pt x="421" y="495"/>
                    </a:lnTo>
                    <a:lnTo>
                      <a:pt x="426" y="504"/>
                    </a:lnTo>
                    <a:lnTo>
                      <a:pt x="431" y="512"/>
                    </a:lnTo>
                    <a:lnTo>
                      <a:pt x="436" y="520"/>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209" name="Freeform 12"/>
              <p:cNvSpPr/>
              <p:nvPr/>
            </p:nvSpPr>
            <p:spPr>
              <a:xfrm>
                <a:off x="3901680" y="1200600"/>
                <a:ext cx="182880" cy="173160"/>
              </a:xfrm>
              <a:custGeom>
                <a:avLst/>
                <a:gdLst>
                  <a:gd name="textAreaLeft" fmla="*/ 0 w 182880"/>
                  <a:gd name="textAreaRight" fmla="*/ 183240 w 182880"/>
                  <a:gd name="textAreaTop" fmla="*/ 0 h 173160"/>
                  <a:gd name="textAreaBottom" fmla="*/ 173520 h 173160"/>
                </a:gdLst>
                <a:ahLst/>
                <a:rect l="textAreaLeft" t="textAreaTop" r="textAreaRight" b="textAreaBottom"/>
                <a:pathLst>
                  <a:path w="1146" h="1150">
                    <a:moveTo>
                      <a:pt x="1064" y="535"/>
                    </a:moveTo>
                    <a:lnTo>
                      <a:pt x="1067" y="534"/>
                    </a:lnTo>
                    <a:lnTo>
                      <a:pt x="1071" y="534"/>
                    </a:lnTo>
                    <a:lnTo>
                      <a:pt x="1075" y="534"/>
                    </a:lnTo>
                    <a:lnTo>
                      <a:pt x="1079" y="535"/>
                    </a:lnTo>
                    <a:lnTo>
                      <a:pt x="1086" y="539"/>
                    </a:lnTo>
                    <a:lnTo>
                      <a:pt x="1094" y="544"/>
                    </a:lnTo>
                    <a:lnTo>
                      <a:pt x="1099" y="549"/>
                    </a:lnTo>
                    <a:lnTo>
                      <a:pt x="1105" y="554"/>
                    </a:lnTo>
                    <a:lnTo>
                      <a:pt x="1112" y="561"/>
                    </a:lnTo>
                    <a:lnTo>
                      <a:pt x="1119" y="570"/>
                    </a:lnTo>
                    <a:lnTo>
                      <a:pt x="1125" y="577"/>
                    </a:lnTo>
                    <a:lnTo>
                      <a:pt x="1131" y="584"/>
                    </a:lnTo>
                    <a:lnTo>
                      <a:pt x="1136" y="590"/>
                    </a:lnTo>
                    <a:lnTo>
                      <a:pt x="1139" y="595"/>
                    </a:lnTo>
                    <a:lnTo>
                      <a:pt x="1142" y="599"/>
                    </a:lnTo>
                    <a:lnTo>
                      <a:pt x="1145" y="604"/>
                    </a:lnTo>
                    <a:lnTo>
                      <a:pt x="1146" y="607"/>
                    </a:lnTo>
                    <a:lnTo>
                      <a:pt x="1143" y="610"/>
                    </a:lnTo>
                    <a:lnTo>
                      <a:pt x="1140" y="612"/>
                    </a:lnTo>
                    <a:lnTo>
                      <a:pt x="1135" y="613"/>
                    </a:lnTo>
                    <a:lnTo>
                      <a:pt x="1128" y="614"/>
                    </a:lnTo>
                    <a:lnTo>
                      <a:pt x="1119" y="615"/>
                    </a:lnTo>
                    <a:lnTo>
                      <a:pt x="1104" y="615"/>
                    </a:lnTo>
                    <a:lnTo>
                      <a:pt x="1087" y="615"/>
                    </a:lnTo>
                    <a:lnTo>
                      <a:pt x="1068" y="615"/>
                    </a:lnTo>
                    <a:lnTo>
                      <a:pt x="1045" y="616"/>
                    </a:lnTo>
                    <a:lnTo>
                      <a:pt x="1020" y="616"/>
                    </a:lnTo>
                    <a:lnTo>
                      <a:pt x="990" y="617"/>
                    </a:lnTo>
                    <a:lnTo>
                      <a:pt x="958" y="618"/>
                    </a:lnTo>
                    <a:lnTo>
                      <a:pt x="923" y="620"/>
                    </a:lnTo>
                    <a:lnTo>
                      <a:pt x="907" y="622"/>
                    </a:lnTo>
                    <a:lnTo>
                      <a:pt x="894" y="624"/>
                    </a:lnTo>
                    <a:lnTo>
                      <a:pt x="883" y="625"/>
                    </a:lnTo>
                    <a:lnTo>
                      <a:pt x="873" y="625"/>
                    </a:lnTo>
                    <a:lnTo>
                      <a:pt x="871" y="646"/>
                    </a:lnTo>
                    <a:lnTo>
                      <a:pt x="867" y="673"/>
                    </a:lnTo>
                    <a:lnTo>
                      <a:pt x="864" y="705"/>
                    </a:lnTo>
                    <a:lnTo>
                      <a:pt x="859" y="745"/>
                    </a:lnTo>
                    <a:lnTo>
                      <a:pt x="856" y="766"/>
                    </a:lnTo>
                    <a:lnTo>
                      <a:pt x="853" y="785"/>
                    </a:lnTo>
                    <a:lnTo>
                      <a:pt x="851" y="802"/>
                    </a:lnTo>
                    <a:lnTo>
                      <a:pt x="849" y="816"/>
                    </a:lnTo>
                    <a:lnTo>
                      <a:pt x="863" y="816"/>
                    </a:lnTo>
                    <a:lnTo>
                      <a:pt x="879" y="816"/>
                    </a:lnTo>
                    <a:lnTo>
                      <a:pt x="898" y="816"/>
                    </a:lnTo>
                    <a:lnTo>
                      <a:pt x="919" y="816"/>
                    </a:lnTo>
                    <a:lnTo>
                      <a:pt x="942" y="818"/>
                    </a:lnTo>
                    <a:lnTo>
                      <a:pt x="961" y="819"/>
                    </a:lnTo>
                    <a:lnTo>
                      <a:pt x="977" y="820"/>
                    </a:lnTo>
                    <a:lnTo>
                      <a:pt x="989" y="820"/>
                    </a:lnTo>
                    <a:lnTo>
                      <a:pt x="994" y="820"/>
                    </a:lnTo>
                    <a:lnTo>
                      <a:pt x="1001" y="821"/>
                    </a:lnTo>
                    <a:lnTo>
                      <a:pt x="1005" y="822"/>
                    </a:lnTo>
                    <a:lnTo>
                      <a:pt x="1009" y="824"/>
                    </a:lnTo>
                    <a:lnTo>
                      <a:pt x="1012" y="826"/>
                    </a:lnTo>
                    <a:lnTo>
                      <a:pt x="1015" y="828"/>
                    </a:lnTo>
                    <a:lnTo>
                      <a:pt x="1017" y="831"/>
                    </a:lnTo>
                    <a:lnTo>
                      <a:pt x="1019" y="835"/>
                    </a:lnTo>
                    <a:lnTo>
                      <a:pt x="1030" y="852"/>
                    </a:lnTo>
                    <a:lnTo>
                      <a:pt x="1040" y="868"/>
                    </a:lnTo>
                    <a:lnTo>
                      <a:pt x="1048" y="882"/>
                    </a:lnTo>
                    <a:lnTo>
                      <a:pt x="1053" y="895"/>
                    </a:lnTo>
                    <a:lnTo>
                      <a:pt x="1056" y="902"/>
                    </a:lnTo>
                    <a:lnTo>
                      <a:pt x="1057" y="908"/>
                    </a:lnTo>
                    <a:lnTo>
                      <a:pt x="1056" y="912"/>
                    </a:lnTo>
                    <a:lnTo>
                      <a:pt x="1053" y="915"/>
                    </a:lnTo>
                    <a:lnTo>
                      <a:pt x="1050" y="917"/>
                    </a:lnTo>
                    <a:lnTo>
                      <a:pt x="1046" y="917"/>
                    </a:lnTo>
                    <a:lnTo>
                      <a:pt x="1041" y="917"/>
                    </a:lnTo>
                    <a:lnTo>
                      <a:pt x="1033" y="915"/>
                    </a:lnTo>
                    <a:lnTo>
                      <a:pt x="1011" y="911"/>
                    </a:lnTo>
                    <a:lnTo>
                      <a:pt x="988" y="906"/>
                    </a:lnTo>
                    <a:lnTo>
                      <a:pt x="964" y="902"/>
                    </a:lnTo>
                    <a:lnTo>
                      <a:pt x="940" y="899"/>
                    </a:lnTo>
                    <a:lnTo>
                      <a:pt x="916" y="896"/>
                    </a:lnTo>
                    <a:lnTo>
                      <a:pt x="890" y="894"/>
                    </a:lnTo>
                    <a:lnTo>
                      <a:pt x="865" y="892"/>
                    </a:lnTo>
                    <a:lnTo>
                      <a:pt x="838" y="890"/>
                    </a:lnTo>
                    <a:lnTo>
                      <a:pt x="836" y="898"/>
                    </a:lnTo>
                    <a:lnTo>
                      <a:pt x="835" y="908"/>
                    </a:lnTo>
                    <a:lnTo>
                      <a:pt x="834" y="918"/>
                    </a:lnTo>
                    <a:lnTo>
                      <a:pt x="833" y="930"/>
                    </a:lnTo>
                    <a:lnTo>
                      <a:pt x="831" y="940"/>
                    </a:lnTo>
                    <a:lnTo>
                      <a:pt x="830" y="949"/>
                    </a:lnTo>
                    <a:lnTo>
                      <a:pt x="829" y="958"/>
                    </a:lnTo>
                    <a:lnTo>
                      <a:pt x="829" y="965"/>
                    </a:lnTo>
                    <a:lnTo>
                      <a:pt x="824" y="1002"/>
                    </a:lnTo>
                    <a:lnTo>
                      <a:pt x="817" y="1035"/>
                    </a:lnTo>
                    <a:lnTo>
                      <a:pt x="812" y="1064"/>
                    </a:lnTo>
                    <a:lnTo>
                      <a:pt x="805" y="1089"/>
                    </a:lnTo>
                    <a:lnTo>
                      <a:pt x="798" y="1110"/>
                    </a:lnTo>
                    <a:lnTo>
                      <a:pt x="790" y="1127"/>
                    </a:lnTo>
                    <a:lnTo>
                      <a:pt x="787" y="1135"/>
                    </a:lnTo>
                    <a:lnTo>
                      <a:pt x="782" y="1141"/>
                    </a:lnTo>
                    <a:lnTo>
                      <a:pt x="778" y="1146"/>
                    </a:lnTo>
                    <a:lnTo>
                      <a:pt x="774" y="1150"/>
                    </a:lnTo>
                    <a:lnTo>
                      <a:pt x="765" y="1147"/>
                    </a:lnTo>
                    <a:lnTo>
                      <a:pt x="757" y="1144"/>
                    </a:lnTo>
                    <a:lnTo>
                      <a:pt x="747" y="1139"/>
                    </a:lnTo>
                    <a:lnTo>
                      <a:pt x="738" y="1134"/>
                    </a:lnTo>
                    <a:lnTo>
                      <a:pt x="717" y="1121"/>
                    </a:lnTo>
                    <a:lnTo>
                      <a:pt x="694" y="1104"/>
                    </a:lnTo>
                    <a:lnTo>
                      <a:pt x="671" y="1085"/>
                    </a:lnTo>
                    <a:lnTo>
                      <a:pt x="646" y="1061"/>
                    </a:lnTo>
                    <a:lnTo>
                      <a:pt x="618" y="1035"/>
                    </a:lnTo>
                    <a:lnTo>
                      <a:pt x="588" y="1005"/>
                    </a:lnTo>
                    <a:lnTo>
                      <a:pt x="582" y="999"/>
                    </a:lnTo>
                    <a:lnTo>
                      <a:pt x="579" y="993"/>
                    </a:lnTo>
                    <a:lnTo>
                      <a:pt x="578" y="990"/>
                    </a:lnTo>
                    <a:lnTo>
                      <a:pt x="577" y="988"/>
                    </a:lnTo>
                    <a:lnTo>
                      <a:pt x="578" y="986"/>
                    </a:lnTo>
                    <a:lnTo>
                      <a:pt x="579" y="985"/>
                    </a:lnTo>
                    <a:lnTo>
                      <a:pt x="579" y="983"/>
                    </a:lnTo>
                    <a:lnTo>
                      <a:pt x="580" y="981"/>
                    </a:lnTo>
                    <a:lnTo>
                      <a:pt x="581" y="980"/>
                    </a:lnTo>
                    <a:lnTo>
                      <a:pt x="583" y="979"/>
                    </a:lnTo>
                    <a:lnTo>
                      <a:pt x="590" y="979"/>
                    </a:lnTo>
                    <a:lnTo>
                      <a:pt x="599" y="980"/>
                    </a:lnTo>
                    <a:lnTo>
                      <a:pt x="626" y="986"/>
                    </a:lnTo>
                    <a:lnTo>
                      <a:pt x="649" y="990"/>
                    </a:lnTo>
                    <a:lnTo>
                      <a:pt x="669" y="993"/>
                    </a:lnTo>
                    <a:lnTo>
                      <a:pt x="686" y="993"/>
                    </a:lnTo>
                    <a:lnTo>
                      <a:pt x="693" y="992"/>
                    </a:lnTo>
                    <a:lnTo>
                      <a:pt x="700" y="990"/>
                    </a:lnTo>
                    <a:lnTo>
                      <a:pt x="705" y="988"/>
                    </a:lnTo>
                    <a:lnTo>
                      <a:pt x="709" y="986"/>
                    </a:lnTo>
                    <a:lnTo>
                      <a:pt x="712" y="983"/>
                    </a:lnTo>
                    <a:lnTo>
                      <a:pt x="716" y="979"/>
                    </a:lnTo>
                    <a:lnTo>
                      <a:pt x="718" y="975"/>
                    </a:lnTo>
                    <a:lnTo>
                      <a:pt x="719" y="970"/>
                    </a:lnTo>
                    <a:lnTo>
                      <a:pt x="723" y="953"/>
                    </a:lnTo>
                    <a:lnTo>
                      <a:pt x="727" y="934"/>
                    </a:lnTo>
                    <a:lnTo>
                      <a:pt x="730" y="911"/>
                    </a:lnTo>
                    <a:lnTo>
                      <a:pt x="734" y="886"/>
                    </a:lnTo>
                    <a:lnTo>
                      <a:pt x="674" y="886"/>
                    </a:lnTo>
                    <a:lnTo>
                      <a:pt x="617" y="888"/>
                    </a:lnTo>
                    <a:lnTo>
                      <a:pt x="562" y="891"/>
                    </a:lnTo>
                    <a:lnTo>
                      <a:pt x="511" y="895"/>
                    </a:lnTo>
                    <a:lnTo>
                      <a:pt x="462" y="900"/>
                    </a:lnTo>
                    <a:lnTo>
                      <a:pt x="417" y="908"/>
                    </a:lnTo>
                    <a:lnTo>
                      <a:pt x="373" y="916"/>
                    </a:lnTo>
                    <a:lnTo>
                      <a:pt x="333" y="925"/>
                    </a:lnTo>
                    <a:lnTo>
                      <a:pt x="333" y="913"/>
                    </a:lnTo>
                    <a:lnTo>
                      <a:pt x="331" y="900"/>
                    </a:lnTo>
                    <a:lnTo>
                      <a:pt x="329" y="889"/>
                    </a:lnTo>
                    <a:lnTo>
                      <a:pt x="325" y="876"/>
                    </a:lnTo>
                    <a:lnTo>
                      <a:pt x="319" y="864"/>
                    </a:lnTo>
                    <a:lnTo>
                      <a:pt x="314" y="853"/>
                    </a:lnTo>
                    <a:lnTo>
                      <a:pt x="307" y="841"/>
                    </a:lnTo>
                    <a:lnTo>
                      <a:pt x="298" y="830"/>
                    </a:lnTo>
                    <a:lnTo>
                      <a:pt x="310" y="820"/>
                    </a:lnTo>
                    <a:lnTo>
                      <a:pt x="322" y="807"/>
                    </a:lnTo>
                    <a:lnTo>
                      <a:pt x="333" y="791"/>
                    </a:lnTo>
                    <a:lnTo>
                      <a:pt x="346" y="772"/>
                    </a:lnTo>
                    <a:lnTo>
                      <a:pt x="359" y="751"/>
                    </a:lnTo>
                    <a:lnTo>
                      <a:pt x="371" y="727"/>
                    </a:lnTo>
                    <a:lnTo>
                      <a:pt x="385" y="700"/>
                    </a:lnTo>
                    <a:lnTo>
                      <a:pt x="399" y="670"/>
                    </a:lnTo>
                    <a:lnTo>
                      <a:pt x="384" y="675"/>
                    </a:lnTo>
                    <a:lnTo>
                      <a:pt x="368" y="678"/>
                    </a:lnTo>
                    <a:lnTo>
                      <a:pt x="353" y="679"/>
                    </a:lnTo>
                    <a:lnTo>
                      <a:pt x="339" y="680"/>
                    </a:lnTo>
                    <a:lnTo>
                      <a:pt x="331" y="680"/>
                    </a:lnTo>
                    <a:lnTo>
                      <a:pt x="324" y="679"/>
                    </a:lnTo>
                    <a:lnTo>
                      <a:pt x="316" y="677"/>
                    </a:lnTo>
                    <a:lnTo>
                      <a:pt x="309" y="675"/>
                    </a:lnTo>
                    <a:lnTo>
                      <a:pt x="294" y="662"/>
                    </a:lnTo>
                    <a:lnTo>
                      <a:pt x="281" y="649"/>
                    </a:lnTo>
                    <a:lnTo>
                      <a:pt x="270" y="634"/>
                    </a:lnTo>
                    <a:lnTo>
                      <a:pt x="258" y="620"/>
                    </a:lnTo>
                    <a:lnTo>
                      <a:pt x="277" y="620"/>
                    </a:lnTo>
                    <a:lnTo>
                      <a:pt x="296" y="620"/>
                    </a:lnTo>
                    <a:lnTo>
                      <a:pt x="316" y="618"/>
                    </a:lnTo>
                    <a:lnTo>
                      <a:pt x="336" y="617"/>
                    </a:lnTo>
                    <a:lnTo>
                      <a:pt x="357" y="616"/>
                    </a:lnTo>
                    <a:lnTo>
                      <a:pt x="377" y="614"/>
                    </a:lnTo>
                    <a:lnTo>
                      <a:pt x="398" y="612"/>
                    </a:lnTo>
                    <a:lnTo>
                      <a:pt x="419" y="610"/>
                    </a:lnTo>
                    <a:lnTo>
                      <a:pt x="429" y="574"/>
                    </a:lnTo>
                    <a:lnTo>
                      <a:pt x="438" y="540"/>
                    </a:lnTo>
                    <a:lnTo>
                      <a:pt x="445" y="506"/>
                    </a:lnTo>
                    <a:lnTo>
                      <a:pt x="451" y="473"/>
                    </a:lnTo>
                    <a:lnTo>
                      <a:pt x="455" y="443"/>
                    </a:lnTo>
                    <a:lnTo>
                      <a:pt x="458" y="412"/>
                    </a:lnTo>
                    <a:lnTo>
                      <a:pt x="459" y="383"/>
                    </a:lnTo>
                    <a:lnTo>
                      <a:pt x="458" y="355"/>
                    </a:lnTo>
                    <a:lnTo>
                      <a:pt x="544" y="395"/>
                    </a:lnTo>
                    <a:lnTo>
                      <a:pt x="580" y="391"/>
                    </a:lnTo>
                    <a:lnTo>
                      <a:pt x="615" y="385"/>
                    </a:lnTo>
                    <a:lnTo>
                      <a:pt x="647" y="379"/>
                    </a:lnTo>
                    <a:lnTo>
                      <a:pt x="677" y="371"/>
                    </a:lnTo>
                    <a:lnTo>
                      <a:pt x="706" y="362"/>
                    </a:lnTo>
                    <a:lnTo>
                      <a:pt x="733" y="352"/>
                    </a:lnTo>
                    <a:lnTo>
                      <a:pt x="757" y="342"/>
                    </a:lnTo>
                    <a:lnTo>
                      <a:pt x="779" y="329"/>
                    </a:lnTo>
                    <a:lnTo>
                      <a:pt x="781" y="330"/>
                    </a:lnTo>
                    <a:lnTo>
                      <a:pt x="783" y="331"/>
                    </a:lnTo>
                    <a:lnTo>
                      <a:pt x="787" y="332"/>
                    </a:lnTo>
                    <a:lnTo>
                      <a:pt x="789" y="334"/>
                    </a:lnTo>
                    <a:lnTo>
                      <a:pt x="813" y="346"/>
                    </a:lnTo>
                    <a:lnTo>
                      <a:pt x="835" y="357"/>
                    </a:lnTo>
                    <a:lnTo>
                      <a:pt x="856" y="366"/>
                    </a:lnTo>
                    <a:lnTo>
                      <a:pt x="877" y="374"/>
                    </a:lnTo>
                    <a:lnTo>
                      <a:pt x="895" y="380"/>
                    </a:lnTo>
                    <a:lnTo>
                      <a:pt x="910" y="384"/>
                    </a:lnTo>
                    <a:lnTo>
                      <a:pt x="925" y="387"/>
                    </a:lnTo>
                    <a:lnTo>
                      <a:pt x="939" y="390"/>
                    </a:lnTo>
                    <a:lnTo>
                      <a:pt x="932" y="403"/>
                    </a:lnTo>
                    <a:lnTo>
                      <a:pt x="924" y="418"/>
                    </a:lnTo>
                    <a:lnTo>
                      <a:pt x="918" y="436"/>
                    </a:lnTo>
                    <a:lnTo>
                      <a:pt x="912" y="455"/>
                    </a:lnTo>
                    <a:lnTo>
                      <a:pt x="905" y="475"/>
                    </a:lnTo>
                    <a:lnTo>
                      <a:pt x="899" y="499"/>
                    </a:lnTo>
                    <a:lnTo>
                      <a:pt x="894" y="523"/>
                    </a:lnTo>
                    <a:lnTo>
                      <a:pt x="888" y="550"/>
                    </a:lnTo>
                    <a:lnTo>
                      <a:pt x="910" y="547"/>
                    </a:lnTo>
                    <a:lnTo>
                      <a:pt x="932" y="545"/>
                    </a:lnTo>
                    <a:lnTo>
                      <a:pt x="953" y="543"/>
                    </a:lnTo>
                    <a:lnTo>
                      <a:pt x="975" y="541"/>
                    </a:lnTo>
                    <a:lnTo>
                      <a:pt x="997" y="539"/>
                    </a:lnTo>
                    <a:lnTo>
                      <a:pt x="1020" y="538"/>
                    </a:lnTo>
                    <a:lnTo>
                      <a:pt x="1042" y="536"/>
                    </a:lnTo>
                    <a:lnTo>
                      <a:pt x="1064" y="535"/>
                    </a:lnTo>
                    <a:close/>
                    <a:moveTo>
                      <a:pt x="544" y="0"/>
                    </a:moveTo>
                    <a:lnTo>
                      <a:pt x="559" y="9"/>
                    </a:lnTo>
                    <a:lnTo>
                      <a:pt x="574" y="19"/>
                    </a:lnTo>
                    <a:lnTo>
                      <a:pt x="588" y="27"/>
                    </a:lnTo>
                    <a:lnTo>
                      <a:pt x="603" y="35"/>
                    </a:lnTo>
                    <a:lnTo>
                      <a:pt x="618" y="42"/>
                    </a:lnTo>
                    <a:lnTo>
                      <a:pt x="634" y="48"/>
                    </a:lnTo>
                    <a:lnTo>
                      <a:pt x="649" y="55"/>
                    </a:lnTo>
                    <a:lnTo>
                      <a:pt x="664" y="60"/>
                    </a:lnTo>
                    <a:lnTo>
                      <a:pt x="655" y="66"/>
                    </a:lnTo>
                    <a:lnTo>
                      <a:pt x="646" y="74"/>
                    </a:lnTo>
                    <a:lnTo>
                      <a:pt x="637" y="82"/>
                    </a:lnTo>
                    <a:lnTo>
                      <a:pt x="629" y="92"/>
                    </a:lnTo>
                    <a:lnTo>
                      <a:pt x="620" y="102"/>
                    </a:lnTo>
                    <a:lnTo>
                      <a:pt x="611" y="114"/>
                    </a:lnTo>
                    <a:lnTo>
                      <a:pt x="602" y="127"/>
                    </a:lnTo>
                    <a:lnTo>
                      <a:pt x="594" y="139"/>
                    </a:lnTo>
                    <a:lnTo>
                      <a:pt x="587" y="152"/>
                    </a:lnTo>
                    <a:lnTo>
                      <a:pt x="579" y="169"/>
                    </a:lnTo>
                    <a:lnTo>
                      <a:pt x="572" y="184"/>
                    </a:lnTo>
                    <a:lnTo>
                      <a:pt x="565" y="196"/>
                    </a:lnTo>
                    <a:lnTo>
                      <a:pt x="559" y="206"/>
                    </a:lnTo>
                    <a:lnTo>
                      <a:pt x="554" y="215"/>
                    </a:lnTo>
                    <a:lnTo>
                      <a:pt x="577" y="208"/>
                    </a:lnTo>
                    <a:lnTo>
                      <a:pt x="604" y="201"/>
                    </a:lnTo>
                    <a:lnTo>
                      <a:pt x="639" y="191"/>
                    </a:lnTo>
                    <a:lnTo>
                      <a:pt x="679" y="180"/>
                    </a:lnTo>
                    <a:lnTo>
                      <a:pt x="708" y="172"/>
                    </a:lnTo>
                    <a:lnTo>
                      <a:pt x="736" y="166"/>
                    </a:lnTo>
                    <a:lnTo>
                      <a:pt x="761" y="160"/>
                    </a:lnTo>
                    <a:lnTo>
                      <a:pt x="787" y="153"/>
                    </a:lnTo>
                    <a:lnTo>
                      <a:pt x="809" y="148"/>
                    </a:lnTo>
                    <a:lnTo>
                      <a:pt x="831" y="143"/>
                    </a:lnTo>
                    <a:lnTo>
                      <a:pt x="850" y="138"/>
                    </a:lnTo>
                    <a:lnTo>
                      <a:pt x="868" y="134"/>
                    </a:lnTo>
                    <a:lnTo>
                      <a:pt x="876" y="133"/>
                    </a:lnTo>
                    <a:lnTo>
                      <a:pt x="882" y="133"/>
                    </a:lnTo>
                    <a:lnTo>
                      <a:pt x="888" y="135"/>
                    </a:lnTo>
                    <a:lnTo>
                      <a:pt x="894" y="139"/>
                    </a:lnTo>
                    <a:lnTo>
                      <a:pt x="895" y="137"/>
                    </a:lnTo>
                    <a:lnTo>
                      <a:pt x="897" y="137"/>
                    </a:lnTo>
                    <a:lnTo>
                      <a:pt x="899" y="139"/>
                    </a:lnTo>
                    <a:lnTo>
                      <a:pt x="913" y="151"/>
                    </a:lnTo>
                    <a:lnTo>
                      <a:pt x="923" y="162"/>
                    </a:lnTo>
                    <a:lnTo>
                      <a:pt x="933" y="171"/>
                    </a:lnTo>
                    <a:lnTo>
                      <a:pt x="939" y="180"/>
                    </a:lnTo>
                    <a:lnTo>
                      <a:pt x="942" y="183"/>
                    </a:lnTo>
                    <a:lnTo>
                      <a:pt x="944" y="186"/>
                    </a:lnTo>
                    <a:lnTo>
                      <a:pt x="945" y="189"/>
                    </a:lnTo>
                    <a:lnTo>
                      <a:pt x="945" y="192"/>
                    </a:lnTo>
                    <a:lnTo>
                      <a:pt x="943" y="195"/>
                    </a:lnTo>
                    <a:lnTo>
                      <a:pt x="941" y="197"/>
                    </a:lnTo>
                    <a:lnTo>
                      <a:pt x="938" y="198"/>
                    </a:lnTo>
                    <a:lnTo>
                      <a:pt x="934" y="200"/>
                    </a:lnTo>
                    <a:lnTo>
                      <a:pt x="871" y="212"/>
                    </a:lnTo>
                    <a:lnTo>
                      <a:pt x="815" y="222"/>
                    </a:lnTo>
                    <a:lnTo>
                      <a:pt x="765" y="232"/>
                    </a:lnTo>
                    <a:lnTo>
                      <a:pt x="721" y="239"/>
                    </a:lnTo>
                    <a:lnTo>
                      <a:pt x="683" y="247"/>
                    </a:lnTo>
                    <a:lnTo>
                      <a:pt x="651" y="252"/>
                    </a:lnTo>
                    <a:lnTo>
                      <a:pt x="624" y="256"/>
                    </a:lnTo>
                    <a:lnTo>
                      <a:pt x="603" y="259"/>
                    </a:lnTo>
                    <a:lnTo>
                      <a:pt x="593" y="256"/>
                    </a:lnTo>
                    <a:lnTo>
                      <a:pt x="580" y="251"/>
                    </a:lnTo>
                    <a:lnTo>
                      <a:pt x="565" y="243"/>
                    </a:lnTo>
                    <a:lnTo>
                      <a:pt x="548" y="235"/>
                    </a:lnTo>
                    <a:lnTo>
                      <a:pt x="545" y="231"/>
                    </a:lnTo>
                    <a:lnTo>
                      <a:pt x="544" y="230"/>
                    </a:lnTo>
                    <a:lnTo>
                      <a:pt x="538" y="238"/>
                    </a:lnTo>
                    <a:lnTo>
                      <a:pt x="531" y="249"/>
                    </a:lnTo>
                    <a:lnTo>
                      <a:pt x="523" y="260"/>
                    </a:lnTo>
                    <a:lnTo>
                      <a:pt x="513" y="275"/>
                    </a:lnTo>
                    <a:lnTo>
                      <a:pt x="497" y="302"/>
                    </a:lnTo>
                    <a:lnTo>
                      <a:pt x="484" y="324"/>
                    </a:lnTo>
                    <a:lnTo>
                      <a:pt x="472" y="340"/>
                    </a:lnTo>
                    <a:lnTo>
                      <a:pt x="463" y="349"/>
                    </a:lnTo>
                    <a:lnTo>
                      <a:pt x="456" y="359"/>
                    </a:lnTo>
                    <a:lnTo>
                      <a:pt x="448" y="367"/>
                    </a:lnTo>
                    <a:lnTo>
                      <a:pt x="440" y="375"/>
                    </a:lnTo>
                    <a:lnTo>
                      <a:pt x="431" y="381"/>
                    </a:lnTo>
                    <a:lnTo>
                      <a:pt x="422" y="386"/>
                    </a:lnTo>
                    <a:lnTo>
                      <a:pt x="413" y="391"/>
                    </a:lnTo>
                    <a:lnTo>
                      <a:pt x="403" y="394"/>
                    </a:lnTo>
                    <a:lnTo>
                      <a:pt x="394" y="396"/>
                    </a:lnTo>
                    <a:lnTo>
                      <a:pt x="383" y="397"/>
                    </a:lnTo>
                    <a:lnTo>
                      <a:pt x="373" y="397"/>
                    </a:lnTo>
                    <a:lnTo>
                      <a:pt x="362" y="396"/>
                    </a:lnTo>
                    <a:lnTo>
                      <a:pt x="351" y="394"/>
                    </a:lnTo>
                    <a:lnTo>
                      <a:pt x="340" y="391"/>
                    </a:lnTo>
                    <a:lnTo>
                      <a:pt x="328" y="386"/>
                    </a:lnTo>
                    <a:lnTo>
                      <a:pt x="316" y="381"/>
                    </a:lnTo>
                    <a:lnTo>
                      <a:pt x="304" y="375"/>
                    </a:lnTo>
                    <a:lnTo>
                      <a:pt x="327" y="357"/>
                    </a:lnTo>
                    <a:lnTo>
                      <a:pt x="350" y="339"/>
                    </a:lnTo>
                    <a:lnTo>
                      <a:pt x="371" y="319"/>
                    </a:lnTo>
                    <a:lnTo>
                      <a:pt x="391" y="298"/>
                    </a:lnTo>
                    <a:lnTo>
                      <a:pt x="411" y="278"/>
                    </a:lnTo>
                    <a:lnTo>
                      <a:pt x="429" y="256"/>
                    </a:lnTo>
                    <a:lnTo>
                      <a:pt x="445" y="234"/>
                    </a:lnTo>
                    <a:lnTo>
                      <a:pt x="461" y="210"/>
                    </a:lnTo>
                    <a:lnTo>
                      <a:pt x="475" y="187"/>
                    </a:lnTo>
                    <a:lnTo>
                      <a:pt x="489" y="163"/>
                    </a:lnTo>
                    <a:lnTo>
                      <a:pt x="501" y="137"/>
                    </a:lnTo>
                    <a:lnTo>
                      <a:pt x="511" y="111"/>
                    </a:lnTo>
                    <a:lnTo>
                      <a:pt x="522" y="84"/>
                    </a:lnTo>
                    <a:lnTo>
                      <a:pt x="530" y="57"/>
                    </a:lnTo>
                    <a:lnTo>
                      <a:pt x="538" y="28"/>
                    </a:lnTo>
                    <a:lnTo>
                      <a:pt x="544" y="0"/>
                    </a:lnTo>
                    <a:close/>
                    <a:moveTo>
                      <a:pt x="399" y="835"/>
                    </a:moveTo>
                    <a:lnTo>
                      <a:pt x="413" y="835"/>
                    </a:lnTo>
                    <a:lnTo>
                      <a:pt x="432" y="834"/>
                    </a:lnTo>
                    <a:lnTo>
                      <a:pt x="456" y="833"/>
                    </a:lnTo>
                    <a:lnTo>
                      <a:pt x="484" y="830"/>
                    </a:lnTo>
                    <a:lnTo>
                      <a:pt x="525" y="827"/>
                    </a:lnTo>
                    <a:lnTo>
                      <a:pt x="564" y="826"/>
                    </a:lnTo>
                    <a:lnTo>
                      <a:pt x="600" y="824"/>
                    </a:lnTo>
                    <a:lnTo>
                      <a:pt x="635" y="823"/>
                    </a:lnTo>
                    <a:lnTo>
                      <a:pt x="667" y="822"/>
                    </a:lnTo>
                    <a:lnTo>
                      <a:pt x="697" y="821"/>
                    </a:lnTo>
                    <a:lnTo>
                      <a:pt x="724" y="820"/>
                    </a:lnTo>
                    <a:lnTo>
                      <a:pt x="748" y="820"/>
                    </a:lnTo>
                    <a:lnTo>
                      <a:pt x="753" y="798"/>
                    </a:lnTo>
                    <a:lnTo>
                      <a:pt x="756" y="774"/>
                    </a:lnTo>
                    <a:lnTo>
                      <a:pt x="759" y="751"/>
                    </a:lnTo>
                    <a:lnTo>
                      <a:pt x="762" y="728"/>
                    </a:lnTo>
                    <a:lnTo>
                      <a:pt x="765" y="703"/>
                    </a:lnTo>
                    <a:lnTo>
                      <a:pt x="769" y="679"/>
                    </a:lnTo>
                    <a:lnTo>
                      <a:pt x="771" y="655"/>
                    </a:lnTo>
                    <a:lnTo>
                      <a:pt x="774" y="630"/>
                    </a:lnTo>
                    <a:lnTo>
                      <a:pt x="734" y="633"/>
                    </a:lnTo>
                    <a:lnTo>
                      <a:pt x="694" y="638"/>
                    </a:lnTo>
                    <a:lnTo>
                      <a:pt x="655" y="641"/>
                    </a:lnTo>
                    <a:lnTo>
                      <a:pt x="617" y="645"/>
                    </a:lnTo>
                    <a:lnTo>
                      <a:pt x="579" y="648"/>
                    </a:lnTo>
                    <a:lnTo>
                      <a:pt x="542" y="652"/>
                    </a:lnTo>
                    <a:lnTo>
                      <a:pt x="505" y="657"/>
                    </a:lnTo>
                    <a:lnTo>
                      <a:pt x="469" y="660"/>
                    </a:lnTo>
                    <a:lnTo>
                      <a:pt x="461" y="680"/>
                    </a:lnTo>
                    <a:lnTo>
                      <a:pt x="455" y="701"/>
                    </a:lnTo>
                    <a:lnTo>
                      <a:pt x="447" y="722"/>
                    </a:lnTo>
                    <a:lnTo>
                      <a:pt x="438" y="744"/>
                    </a:lnTo>
                    <a:lnTo>
                      <a:pt x="430" y="766"/>
                    </a:lnTo>
                    <a:lnTo>
                      <a:pt x="420" y="788"/>
                    </a:lnTo>
                    <a:lnTo>
                      <a:pt x="409" y="811"/>
                    </a:lnTo>
                    <a:lnTo>
                      <a:pt x="399" y="835"/>
                    </a:lnTo>
                    <a:close/>
                    <a:moveTo>
                      <a:pt x="544" y="425"/>
                    </a:moveTo>
                    <a:lnTo>
                      <a:pt x="541" y="437"/>
                    </a:lnTo>
                    <a:lnTo>
                      <a:pt x="537" y="452"/>
                    </a:lnTo>
                    <a:lnTo>
                      <a:pt x="532" y="470"/>
                    </a:lnTo>
                    <a:lnTo>
                      <a:pt x="526" y="491"/>
                    </a:lnTo>
                    <a:lnTo>
                      <a:pt x="520" y="515"/>
                    </a:lnTo>
                    <a:lnTo>
                      <a:pt x="512" y="540"/>
                    </a:lnTo>
                    <a:lnTo>
                      <a:pt x="503" y="569"/>
                    </a:lnTo>
                    <a:lnTo>
                      <a:pt x="493" y="599"/>
                    </a:lnTo>
                    <a:lnTo>
                      <a:pt x="516" y="597"/>
                    </a:lnTo>
                    <a:lnTo>
                      <a:pt x="544" y="594"/>
                    </a:lnTo>
                    <a:lnTo>
                      <a:pt x="576" y="590"/>
                    </a:lnTo>
                    <a:lnTo>
                      <a:pt x="614" y="585"/>
                    </a:lnTo>
                    <a:lnTo>
                      <a:pt x="641" y="581"/>
                    </a:lnTo>
                    <a:lnTo>
                      <a:pt x="668" y="578"/>
                    </a:lnTo>
                    <a:lnTo>
                      <a:pt x="691" y="575"/>
                    </a:lnTo>
                    <a:lnTo>
                      <a:pt x="713" y="573"/>
                    </a:lnTo>
                    <a:lnTo>
                      <a:pt x="734" y="570"/>
                    </a:lnTo>
                    <a:lnTo>
                      <a:pt x="753" y="568"/>
                    </a:lnTo>
                    <a:lnTo>
                      <a:pt x="769" y="567"/>
                    </a:lnTo>
                    <a:lnTo>
                      <a:pt x="783" y="564"/>
                    </a:lnTo>
                    <a:lnTo>
                      <a:pt x="789" y="521"/>
                    </a:lnTo>
                    <a:lnTo>
                      <a:pt x="793" y="481"/>
                    </a:lnTo>
                    <a:lnTo>
                      <a:pt x="796" y="444"/>
                    </a:lnTo>
                    <a:lnTo>
                      <a:pt x="798" y="410"/>
                    </a:lnTo>
                    <a:lnTo>
                      <a:pt x="798" y="407"/>
                    </a:lnTo>
                    <a:lnTo>
                      <a:pt x="798" y="403"/>
                    </a:lnTo>
                    <a:lnTo>
                      <a:pt x="796" y="401"/>
                    </a:lnTo>
                    <a:lnTo>
                      <a:pt x="795" y="400"/>
                    </a:lnTo>
                    <a:lnTo>
                      <a:pt x="793" y="399"/>
                    </a:lnTo>
                    <a:lnTo>
                      <a:pt x="790" y="398"/>
                    </a:lnTo>
                    <a:lnTo>
                      <a:pt x="788" y="399"/>
                    </a:lnTo>
                    <a:lnTo>
                      <a:pt x="783" y="400"/>
                    </a:lnTo>
                    <a:lnTo>
                      <a:pt x="764" y="401"/>
                    </a:lnTo>
                    <a:lnTo>
                      <a:pt x="743" y="404"/>
                    </a:lnTo>
                    <a:lnTo>
                      <a:pt x="720" y="409"/>
                    </a:lnTo>
                    <a:lnTo>
                      <a:pt x="694" y="414"/>
                    </a:lnTo>
                    <a:lnTo>
                      <a:pt x="668" y="419"/>
                    </a:lnTo>
                    <a:lnTo>
                      <a:pt x="640" y="427"/>
                    </a:lnTo>
                    <a:lnTo>
                      <a:pt x="611" y="435"/>
                    </a:lnTo>
                    <a:lnTo>
                      <a:pt x="579" y="445"/>
                    </a:lnTo>
                    <a:lnTo>
                      <a:pt x="573" y="442"/>
                    </a:lnTo>
                    <a:lnTo>
                      <a:pt x="565" y="437"/>
                    </a:lnTo>
                    <a:lnTo>
                      <a:pt x="556" y="432"/>
                    </a:lnTo>
                    <a:lnTo>
                      <a:pt x="544" y="425"/>
                    </a:lnTo>
                    <a:close/>
                    <a:moveTo>
                      <a:pt x="228" y="580"/>
                    </a:moveTo>
                    <a:lnTo>
                      <a:pt x="240" y="562"/>
                    </a:lnTo>
                    <a:lnTo>
                      <a:pt x="250" y="551"/>
                    </a:lnTo>
                    <a:lnTo>
                      <a:pt x="254" y="547"/>
                    </a:lnTo>
                    <a:lnTo>
                      <a:pt x="258" y="545"/>
                    </a:lnTo>
                    <a:lnTo>
                      <a:pt x="261" y="544"/>
                    </a:lnTo>
                    <a:lnTo>
                      <a:pt x="263" y="544"/>
                    </a:lnTo>
                    <a:lnTo>
                      <a:pt x="265" y="546"/>
                    </a:lnTo>
                    <a:lnTo>
                      <a:pt x="266" y="550"/>
                    </a:lnTo>
                    <a:lnTo>
                      <a:pt x="268" y="554"/>
                    </a:lnTo>
                    <a:lnTo>
                      <a:pt x="268" y="560"/>
                    </a:lnTo>
                    <a:lnTo>
                      <a:pt x="264" y="575"/>
                    </a:lnTo>
                    <a:lnTo>
                      <a:pt x="258" y="595"/>
                    </a:lnTo>
                    <a:lnTo>
                      <a:pt x="253" y="612"/>
                    </a:lnTo>
                    <a:lnTo>
                      <a:pt x="244" y="635"/>
                    </a:lnTo>
                    <a:lnTo>
                      <a:pt x="235" y="663"/>
                    </a:lnTo>
                    <a:lnTo>
                      <a:pt x="223" y="695"/>
                    </a:lnTo>
                    <a:lnTo>
                      <a:pt x="207" y="747"/>
                    </a:lnTo>
                    <a:lnTo>
                      <a:pt x="192" y="795"/>
                    </a:lnTo>
                    <a:lnTo>
                      <a:pt x="178" y="842"/>
                    </a:lnTo>
                    <a:lnTo>
                      <a:pt x="164" y="883"/>
                    </a:lnTo>
                    <a:lnTo>
                      <a:pt x="150" y="923"/>
                    </a:lnTo>
                    <a:lnTo>
                      <a:pt x="137" y="959"/>
                    </a:lnTo>
                    <a:lnTo>
                      <a:pt x="125" y="992"/>
                    </a:lnTo>
                    <a:lnTo>
                      <a:pt x="113" y="1020"/>
                    </a:lnTo>
                    <a:lnTo>
                      <a:pt x="101" y="1010"/>
                    </a:lnTo>
                    <a:lnTo>
                      <a:pt x="89" y="998"/>
                    </a:lnTo>
                    <a:lnTo>
                      <a:pt x="75" y="984"/>
                    </a:lnTo>
                    <a:lnTo>
                      <a:pt x="62" y="970"/>
                    </a:lnTo>
                    <a:lnTo>
                      <a:pt x="49" y="954"/>
                    </a:lnTo>
                    <a:lnTo>
                      <a:pt x="36" y="937"/>
                    </a:lnTo>
                    <a:lnTo>
                      <a:pt x="22" y="919"/>
                    </a:lnTo>
                    <a:lnTo>
                      <a:pt x="8" y="900"/>
                    </a:lnTo>
                    <a:lnTo>
                      <a:pt x="5" y="896"/>
                    </a:lnTo>
                    <a:lnTo>
                      <a:pt x="3" y="893"/>
                    </a:lnTo>
                    <a:lnTo>
                      <a:pt x="1" y="890"/>
                    </a:lnTo>
                    <a:lnTo>
                      <a:pt x="0" y="887"/>
                    </a:lnTo>
                    <a:lnTo>
                      <a:pt x="0" y="883"/>
                    </a:lnTo>
                    <a:lnTo>
                      <a:pt x="0" y="880"/>
                    </a:lnTo>
                    <a:lnTo>
                      <a:pt x="2" y="878"/>
                    </a:lnTo>
                    <a:lnTo>
                      <a:pt x="4" y="875"/>
                    </a:lnTo>
                    <a:lnTo>
                      <a:pt x="6" y="873"/>
                    </a:lnTo>
                    <a:lnTo>
                      <a:pt x="9" y="872"/>
                    </a:lnTo>
                    <a:lnTo>
                      <a:pt x="12" y="871"/>
                    </a:lnTo>
                    <a:lnTo>
                      <a:pt x="15" y="870"/>
                    </a:lnTo>
                    <a:lnTo>
                      <a:pt x="24" y="872"/>
                    </a:lnTo>
                    <a:lnTo>
                      <a:pt x="33" y="875"/>
                    </a:lnTo>
                    <a:lnTo>
                      <a:pt x="37" y="878"/>
                    </a:lnTo>
                    <a:lnTo>
                      <a:pt x="41" y="880"/>
                    </a:lnTo>
                    <a:lnTo>
                      <a:pt x="45" y="881"/>
                    </a:lnTo>
                    <a:lnTo>
                      <a:pt x="48" y="881"/>
                    </a:lnTo>
                    <a:lnTo>
                      <a:pt x="53" y="880"/>
                    </a:lnTo>
                    <a:lnTo>
                      <a:pt x="56" y="878"/>
                    </a:lnTo>
                    <a:lnTo>
                      <a:pt x="60" y="875"/>
                    </a:lnTo>
                    <a:lnTo>
                      <a:pt x="63" y="871"/>
                    </a:lnTo>
                    <a:lnTo>
                      <a:pt x="80" y="843"/>
                    </a:lnTo>
                    <a:lnTo>
                      <a:pt x="98" y="812"/>
                    </a:lnTo>
                    <a:lnTo>
                      <a:pt x="117" y="781"/>
                    </a:lnTo>
                    <a:lnTo>
                      <a:pt x="137" y="745"/>
                    </a:lnTo>
                    <a:lnTo>
                      <a:pt x="158" y="708"/>
                    </a:lnTo>
                    <a:lnTo>
                      <a:pt x="181" y="667"/>
                    </a:lnTo>
                    <a:lnTo>
                      <a:pt x="204" y="625"/>
                    </a:lnTo>
                    <a:lnTo>
                      <a:pt x="228" y="580"/>
                    </a:lnTo>
                    <a:close/>
                    <a:moveTo>
                      <a:pt x="43" y="355"/>
                    </a:moveTo>
                    <a:lnTo>
                      <a:pt x="100" y="382"/>
                    </a:lnTo>
                    <a:lnTo>
                      <a:pt x="143" y="403"/>
                    </a:lnTo>
                    <a:lnTo>
                      <a:pt x="157" y="412"/>
                    </a:lnTo>
                    <a:lnTo>
                      <a:pt x="168" y="419"/>
                    </a:lnTo>
                    <a:lnTo>
                      <a:pt x="175" y="426"/>
                    </a:lnTo>
                    <a:lnTo>
                      <a:pt x="179" y="430"/>
                    </a:lnTo>
                    <a:lnTo>
                      <a:pt x="181" y="438"/>
                    </a:lnTo>
                    <a:lnTo>
                      <a:pt x="182" y="448"/>
                    </a:lnTo>
                    <a:lnTo>
                      <a:pt x="181" y="457"/>
                    </a:lnTo>
                    <a:lnTo>
                      <a:pt x="180" y="467"/>
                    </a:lnTo>
                    <a:lnTo>
                      <a:pt x="178" y="478"/>
                    </a:lnTo>
                    <a:lnTo>
                      <a:pt x="173" y="488"/>
                    </a:lnTo>
                    <a:lnTo>
                      <a:pt x="169" y="499"/>
                    </a:lnTo>
                    <a:lnTo>
                      <a:pt x="164" y="509"/>
                    </a:lnTo>
                    <a:lnTo>
                      <a:pt x="158" y="521"/>
                    </a:lnTo>
                    <a:lnTo>
                      <a:pt x="153" y="528"/>
                    </a:lnTo>
                    <a:lnTo>
                      <a:pt x="151" y="532"/>
                    </a:lnTo>
                    <a:lnTo>
                      <a:pt x="149" y="534"/>
                    </a:lnTo>
                    <a:lnTo>
                      <a:pt x="146" y="535"/>
                    </a:lnTo>
                    <a:lnTo>
                      <a:pt x="144" y="535"/>
                    </a:lnTo>
                    <a:lnTo>
                      <a:pt x="140" y="534"/>
                    </a:lnTo>
                    <a:lnTo>
                      <a:pt x="136" y="532"/>
                    </a:lnTo>
                    <a:lnTo>
                      <a:pt x="130" y="526"/>
                    </a:lnTo>
                    <a:lnTo>
                      <a:pt x="123" y="520"/>
                    </a:lnTo>
                    <a:lnTo>
                      <a:pt x="112" y="507"/>
                    </a:lnTo>
                    <a:lnTo>
                      <a:pt x="100" y="492"/>
                    </a:lnTo>
                    <a:lnTo>
                      <a:pt x="89" y="476"/>
                    </a:lnTo>
                    <a:lnTo>
                      <a:pt x="76" y="460"/>
                    </a:lnTo>
                    <a:lnTo>
                      <a:pt x="50" y="422"/>
                    </a:lnTo>
                    <a:lnTo>
                      <a:pt x="24" y="380"/>
                    </a:lnTo>
                    <a:lnTo>
                      <a:pt x="18" y="371"/>
                    </a:lnTo>
                    <a:lnTo>
                      <a:pt x="13" y="363"/>
                    </a:lnTo>
                    <a:lnTo>
                      <a:pt x="12" y="361"/>
                    </a:lnTo>
                    <a:lnTo>
                      <a:pt x="12" y="358"/>
                    </a:lnTo>
                    <a:lnTo>
                      <a:pt x="12" y="357"/>
                    </a:lnTo>
                    <a:lnTo>
                      <a:pt x="13" y="355"/>
                    </a:lnTo>
                    <a:lnTo>
                      <a:pt x="15" y="352"/>
                    </a:lnTo>
                    <a:lnTo>
                      <a:pt x="18" y="351"/>
                    </a:lnTo>
                    <a:lnTo>
                      <a:pt x="20" y="350"/>
                    </a:lnTo>
                    <a:lnTo>
                      <a:pt x="23" y="349"/>
                    </a:lnTo>
                    <a:lnTo>
                      <a:pt x="32" y="351"/>
                    </a:lnTo>
                    <a:lnTo>
                      <a:pt x="43" y="355"/>
                    </a:lnTo>
                    <a:close/>
                    <a:moveTo>
                      <a:pt x="164" y="134"/>
                    </a:moveTo>
                    <a:lnTo>
                      <a:pt x="185" y="139"/>
                    </a:lnTo>
                    <a:lnTo>
                      <a:pt x="206" y="145"/>
                    </a:lnTo>
                    <a:lnTo>
                      <a:pt x="225" y="151"/>
                    </a:lnTo>
                    <a:lnTo>
                      <a:pt x="243" y="158"/>
                    </a:lnTo>
                    <a:lnTo>
                      <a:pt x="260" y="164"/>
                    </a:lnTo>
                    <a:lnTo>
                      <a:pt x="276" y="170"/>
                    </a:lnTo>
                    <a:lnTo>
                      <a:pt x="291" y="178"/>
                    </a:lnTo>
                    <a:lnTo>
                      <a:pt x="304" y="185"/>
                    </a:lnTo>
                    <a:lnTo>
                      <a:pt x="306" y="191"/>
                    </a:lnTo>
                    <a:lnTo>
                      <a:pt x="307" y="199"/>
                    </a:lnTo>
                    <a:lnTo>
                      <a:pt x="308" y="208"/>
                    </a:lnTo>
                    <a:lnTo>
                      <a:pt x="307" y="218"/>
                    </a:lnTo>
                    <a:lnTo>
                      <a:pt x="306" y="230"/>
                    </a:lnTo>
                    <a:lnTo>
                      <a:pt x="305" y="242"/>
                    </a:lnTo>
                    <a:lnTo>
                      <a:pt x="301" y="255"/>
                    </a:lnTo>
                    <a:lnTo>
                      <a:pt x="298" y="270"/>
                    </a:lnTo>
                    <a:lnTo>
                      <a:pt x="296" y="278"/>
                    </a:lnTo>
                    <a:lnTo>
                      <a:pt x="292" y="286"/>
                    </a:lnTo>
                    <a:lnTo>
                      <a:pt x="289" y="291"/>
                    </a:lnTo>
                    <a:lnTo>
                      <a:pt x="283" y="294"/>
                    </a:lnTo>
                    <a:lnTo>
                      <a:pt x="278" y="293"/>
                    </a:lnTo>
                    <a:lnTo>
                      <a:pt x="271" y="291"/>
                    </a:lnTo>
                    <a:lnTo>
                      <a:pt x="263" y="286"/>
                    </a:lnTo>
                    <a:lnTo>
                      <a:pt x="254" y="279"/>
                    </a:lnTo>
                    <a:lnTo>
                      <a:pt x="244" y="271"/>
                    </a:lnTo>
                    <a:lnTo>
                      <a:pt x="235" y="261"/>
                    </a:lnTo>
                    <a:lnTo>
                      <a:pt x="224" y="250"/>
                    </a:lnTo>
                    <a:lnTo>
                      <a:pt x="212" y="237"/>
                    </a:lnTo>
                    <a:lnTo>
                      <a:pt x="187" y="206"/>
                    </a:lnTo>
                    <a:lnTo>
                      <a:pt x="158" y="169"/>
                    </a:lnTo>
                    <a:lnTo>
                      <a:pt x="153" y="161"/>
                    </a:lnTo>
                    <a:lnTo>
                      <a:pt x="148" y="154"/>
                    </a:lnTo>
                    <a:lnTo>
                      <a:pt x="142" y="138"/>
                    </a:lnTo>
                    <a:lnTo>
                      <a:pt x="138" y="130"/>
                    </a:lnTo>
                    <a:lnTo>
                      <a:pt x="140" y="129"/>
                    </a:lnTo>
                    <a:lnTo>
                      <a:pt x="142" y="128"/>
                    </a:lnTo>
                    <a:lnTo>
                      <a:pt x="145" y="128"/>
                    </a:lnTo>
                    <a:lnTo>
                      <a:pt x="147" y="128"/>
                    </a:lnTo>
                    <a:lnTo>
                      <a:pt x="154" y="130"/>
                    </a:lnTo>
                    <a:lnTo>
                      <a:pt x="164" y="134"/>
                    </a:lnTo>
                    <a:close/>
                    <a:moveTo>
                      <a:pt x="559" y="675"/>
                    </a:moveTo>
                    <a:lnTo>
                      <a:pt x="591" y="687"/>
                    </a:lnTo>
                    <a:lnTo>
                      <a:pt x="618" y="699"/>
                    </a:lnTo>
                    <a:lnTo>
                      <a:pt x="641" y="710"/>
                    </a:lnTo>
                    <a:lnTo>
                      <a:pt x="658" y="720"/>
                    </a:lnTo>
                    <a:lnTo>
                      <a:pt x="659" y="723"/>
                    </a:lnTo>
                    <a:lnTo>
                      <a:pt x="659" y="729"/>
                    </a:lnTo>
                    <a:lnTo>
                      <a:pt x="659" y="735"/>
                    </a:lnTo>
                    <a:lnTo>
                      <a:pt x="658" y="742"/>
                    </a:lnTo>
                    <a:lnTo>
                      <a:pt x="655" y="764"/>
                    </a:lnTo>
                    <a:lnTo>
                      <a:pt x="649" y="790"/>
                    </a:lnTo>
                    <a:lnTo>
                      <a:pt x="646" y="797"/>
                    </a:lnTo>
                    <a:lnTo>
                      <a:pt x="644" y="803"/>
                    </a:lnTo>
                    <a:lnTo>
                      <a:pt x="641" y="807"/>
                    </a:lnTo>
                    <a:lnTo>
                      <a:pt x="638" y="810"/>
                    </a:lnTo>
                    <a:lnTo>
                      <a:pt x="634" y="809"/>
                    </a:lnTo>
                    <a:lnTo>
                      <a:pt x="629" y="807"/>
                    </a:lnTo>
                    <a:lnTo>
                      <a:pt x="623" y="805"/>
                    </a:lnTo>
                    <a:lnTo>
                      <a:pt x="619" y="800"/>
                    </a:lnTo>
                    <a:lnTo>
                      <a:pt x="609" y="788"/>
                    </a:lnTo>
                    <a:lnTo>
                      <a:pt x="599" y="776"/>
                    </a:lnTo>
                    <a:lnTo>
                      <a:pt x="590" y="763"/>
                    </a:lnTo>
                    <a:lnTo>
                      <a:pt x="580" y="749"/>
                    </a:lnTo>
                    <a:lnTo>
                      <a:pt x="570" y="734"/>
                    </a:lnTo>
                    <a:lnTo>
                      <a:pt x="561" y="718"/>
                    </a:lnTo>
                    <a:lnTo>
                      <a:pt x="552" y="702"/>
                    </a:lnTo>
                    <a:lnTo>
                      <a:pt x="544" y="685"/>
                    </a:lnTo>
                    <a:lnTo>
                      <a:pt x="542" y="681"/>
                    </a:lnTo>
                    <a:lnTo>
                      <a:pt x="541" y="678"/>
                    </a:lnTo>
                    <a:lnTo>
                      <a:pt x="542" y="676"/>
                    </a:lnTo>
                    <a:lnTo>
                      <a:pt x="544" y="675"/>
                    </a:lnTo>
                    <a:lnTo>
                      <a:pt x="544" y="674"/>
                    </a:lnTo>
                    <a:lnTo>
                      <a:pt x="547" y="673"/>
                    </a:lnTo>
                    <a:lnTo>
                      <a:pt x="552" y="674"/>
                    </a:lnTo>
                    <a:lnTo>
                      <a:pt x="559" y="675"/>
                    </a:lnTo>
                    <a:close/>
                    <a:moveTo>
                      <a:pt x="603" y="454"/>
                    </a:moveTo>
                    <a:lnTo>
                      <a:pt x="639" y="467"/>
                    </a:lnTo>
                    <a:lnTo>
                      <a:pt x="665" y="478"/>
                    </a:lnTo>
                    <a:lnTo>
                      <a:pt x="674" y="482"/>
                    </a:lnTo>
                    <a:lnTo>
                      <a:pt x="682" y="487"/>
                    </a:lnTo>
                    <a:lnTo>
                      <a:pt x="686" y="491"/>
                    </a:lnTo>
                    <a:lnTo>
                      <a:pt x="689" y="495"/>
                    </a:lnTo>
                    <a:lnTo>
                      <a:pt x="689" y="497"/>
                    </a:lnTo>
                    <a:lnTo>
                      <a:pt x="690" y="500"/>
                    </a:lnTo>
                    <a:lnTo>
                      <a:pt x="689" y="504"/>
                    </a:lnTo>
                    <a:lnTo>
                      <a:pt x="689" y="510"/>
                    </a:lnTo>
                    <a:lnTo>
                      <a:pt x="685" y="525"/>
                    </a:lnTo>
                    <a:lnTo>
                      <a:pt x="679" y="544"/>
                    </a:lnTo>
                    <a:lnTo>
                      <a:pt x="679" y="550"/>
                    </a:lnTo>
                    <a:lnTo>
                      <a:pt x="679" y="555"/>
                    </a:lnTo>
                    <a:lnTo>
                      <a:pt x="676" y="561"/>
                    </a:lnTo>
                    <a:lnTo>
                      <a:pt x="673" y="567"/>
                    </a:lnTo>
                    <a:lnTo>
                      <a:pt x="671" y="569"/>
                    </a:lnTo>
                    <a:lnTo>
                      <a:pt x="669" y="570"/>
                    </a:lnTo>
                    <a:lnTo>
                      <a:pt x="666" y="572"/>
                    </a:lnTo>
                    <a:lnTo>
                      <a:pt x="663" y="571"/>
                    </a:lnTo>
                    <a:lnTo>
                      <a:pt x="658" y="569"/>
                    </a:lnTo>
                    <a:lnTo>
                      <a:pt x="654" y="564"/>
                    </a:lnTo>
                    <a:lnTo>
                      <a:pt x="636" y="540"/>
                    </a:lnTo>
                    <a:lnTo>
                      <a:pt x="620" y="515"/>
                    </a:lnTo>
                    <a:lnTo>
                      <a:pt x="604" y="490"/>
                    </a:lnTo>
                    <a:lnTo>
                      <a:pt x="588" y="465"/>
                    </a:lnTo>
                    <a:lnTo>
                      <a:pt x="586" y="461"/>
                    </a:lnTo>
                    <a:lnTo>
                      <a:pt x="586" y="457"/>
                    </a:lnTo>
                    <a:lnTo>
                      <a:pt x="586" y="455"/>
                    </a:lnTo>
                    <a:lnTo>
                      <a:pt x="588" y="454"/>
                    </a:lnTo>
                    <a:lnTo>
                      <a:pt x="590" y="453"/>
                    </a:lnTo>
                    <a:lnTo>
                      <a:pt x="593" y="452"/>
                    </a:lnTo>
                    <a:lnTo>
                      <a:pt x="597" y="453"/>
                    </a:lnTo>
                    <a:lnTo>
                      <a:pt x="603" y="454"/>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210" name="Freeform 13"/>
              <p:cNvSpPr/>
              <p:nvPr/>
            </p:nvSpPr>
            <p:spPr>
              <a:xfrm>
                <a:off x="4083840" y="1198440"/>
                <a:ext cx="198720" cy="165960"/>
              </a:xfrm>
              <a:custGeom>
                <a:avLst/>
                <a:gdLst>
                  <a:gd name="textAreaLeft" fmla="*/ 0 w 198720"/>
                  <a:gd name="textAreaRight" fmla="*/ 199080 w 198720"/>
                  <a:gd name="textAreaTop" fmla="*/ 0 h 165960"/>
                  <a:gd name="textAreaBottom" fmla="*/ 166320 h 165960"/>
                </a:gdLst>
                <a:ahLst/>
                <a:rect l="textAreaLeft" t="textAreaTop" r="textAreaRight" b="textAreaBottom"/>
                <a:pathLst>
                  <a:path w="1246" h="1097">
                    <a:moveTo>
                      <a:pt x="796" y="610"/>
                    </a:moveTo>
                    <a:lnTo>
                      <a:pt x="800" y="608"/>
                    </a:lnTo>
                    <a:lnTo>
                      <a:pt x="804" y="607"/>
                    </a:lnTo>
                    <a:lnTo>
                      <a:pt x="808" y="607"/>
                    </a:lnTo>
                    <a:lnTo>
                      <a:pt x="813" y="609"/>
                    </a:lnTo>
                    <a:lnTo>
                      <a:pt x="817" y="611"/>
                    </a:lnTo>
                    <a:lnTo>
                      <a:pt x="821" y="614"/>
                    </a:lnTo>
                    <a:lnTo>
                      <a:pt x="826" y="620"/>
                    </a:lnTo>
                    <a:lnTo>
                      <a:pt x="831" y="625"/>
                    </a:lnTo>
                    <a:lnTo>
                      <a:pt x="839" y="631"/>
                    </a:lnTo>
                    <a:lnTo>
                      <a:pt x="846" y="639"/>
                    </a:lnTo>
                    <a:lnTo>
                      <a:pt x="854" y="648"/>
                    </a:lnTo>
                    <a:lnTo>
                      <a:pt x="861" y="660"/>
                    </a:lnTo>
                    <a:lnTo>
                      <a:pt x="863" y="662"/>
                    </a:lnTo>
                    <a:lnTo>
                      <a:pt x="864" y="665"/>
                    </a:lnTo>
                    <a:lnTo>
                      <a:pt x="866" y="667"/>
                    </a:lnTo>
                    <a:lnTo>
                      <a:pt x="866" y="670"/>
                    </a:lnTo>
                    <a:lnTo>
                      <a:pt x="868" y="675"/>
                    </a:lnTo>
                    <a:lnTo>
                      <a:pt x="869" y="678"/>
                    </a:lnTo>
                    <a:lnTo>
                      <a:pt x="868" y="679"/>
                    </a:lnTo>
                    <a:lnTo>
                      <a:pt x="866" y="680"/>
                    </a:lnTo>
                    <a:lnTo>
                      <a:pt x="866" y="682"/>
                    </a:lnTo>
                    <a:lnTo>
                      <a:pt x="863" y="683"/>
                    </a:lnTo>
                    <a:lnTo>
                      <a:pt x="860" y="684"/>
                    </a:lnTo>
                    <a:lnTo>
                      <a:pt x="856" y="685"/>
                    </a:lnTo>
                    <a:lnTo>
                      <a:pt x="840" y="686"/>
                    </a:lnTo>
                    <a:lnTo>
                      <a:pt x="822" y="689"/>
                    </a:lnTo>
                    <a:lnTo>
                      <a:pt x="801" y="690"/>
                    </a:lnTo>
                    <a:lnTo>
                      <a:pt x="779" y="693"/>
                    </a:lnTo>
                    <a:lnTo>
                      <a:pt x="753" y="695"/>
                    </a:lnTo>
                    <a:lnTo>
                      <a:pt x="727" y="698"/>
                    </a:lnTo>
                    <a:lnTo>
                      <a:pt x="697" y="701"/>
                    </a:lnTo>
                    <a:lnTo>
                      <a:pt x="666" y="704"/>
                    </a:lnTo>
                    <a:lnTo>
                      <a:pt x="649" y="708"/>
                    </a:lnTo>
                    <a:lnTo>
                      <a:pt x="635" y="709"/>
                    </a:lnTo>
                    <a:lnTo>
                      <a:pt x="622" y="710"/>
                    </a:lnTo>
                    <a:lnTo>
                      <a:pt x="611" y="710"/>
                    </a:lnTo>
                    <a:lnTo>
                      <a:pt x="611" y="739"/>
                    </a:lnTo>
                    <a:lnTo>
                      <a:pt x="611" y="770"/>
                    </a:lnTo>
                    <a:lnTo>
                      <a:pt x="611" y="802"/>
                    </a:lnTo>
                    <a:lnTo>
                      <a:pt x="611" y="835"/>
                    </a:lnTo>
                    <a:lnTo>
                      <a:pt x="611" y="870"/>
                    </a:lnTo>
                    <a:lnTo>
                      <a:pt x="611" y="905"/>
                    </a:lnTo>
                    <a:lnTo>
                      <a:pt x="611" y="942"/>
                    </a:lnTo>
                    <a:lnTo>
                      <a:pt x="611" y="980"/>
                    </a:lnTo>
                    <a:lnTo>
                      <a:pt x="674" y="973"/>
                    </a:lnTo>
                    <a:lnTo>
                      <a:pt x="731" y="966"/>
                    </a:lnTo>
                    <a:lnTo>
                      <a:pt x="784" y="961"/>
                    </a:lnTo>
                    <a:lnTo>
                      <a:pt x="833" y="956"/>
                    </a:lnTo>
                    <a:lnTo>
                      <a:pt x="875" y="950"/>
                    </a:lnTo>
                    <a:lnTo>
                      <a:pt x="914" y="946"/>
                    </a:lnTo>
                    <a:lnTo>
                      <a:pt x="947" y="943"/>
                    </a:lnTo>
                    <a:lnTo>
                      <a:pt x="976" y="940"/>
                    </a:lnTo>
                    <a:lnTo>
                      <a:pt x="983" y="941"/>
                    </a:lnTo>
                    <a:lnTo>
                      <a:pt x="989" y="941"/>
                    </a:lnTo>
                    <a:lnTo>
                      <a:pt x="996" y="942"/>
                    </a:lnTo>
                    <a:lnTo>
                      <a:pt x="1001" y="944"/>
                    </a:lnTo>
                    <a:lnTo>
                      <a:pt x="1005" y="946"/>
                    </a:lnTo>
                    <a:lnTo>
                      <a:pt x="1010" y="948"/>
                    </a:lnTo>
                    <a:lnTo>
                      <a:pt x="1013" y="951"/>
                    </a:lnTo>
                    <a:lnTo>
                      <a:pt x="1016" y="956"/>
                    </a:lnTo>
                    <a:lnTo>
                      <a:pt x="1028" y="967"/>
                    </a:lnTo>
                    <a:lnTo>
                      <a:pt x="1041" y="985"/>
                    </a:lnTo>
                    <a:lnTo>
                      <a:pt x="1048" y="997"/>
                    </a:lnTo>
                    <a:lnTo>
                      <a:pt x="1053" y="1007"/>
                    </a:lnTo>
                    <a:lnTo>
                      <a:pt x="1058" y="1014"/>
                    </a:lnTo>
                    <a:lnTo>
                      <a:pt x="1062" y="1020"/>
                    </a:lnTo>
                    <a:lnTo>
                      <a:pt x="1063" y="1025"/>
                    </a:lnTo>
                    <a:lnTo>
                      <a:pt x="1064" y="1029"/>
                    </a:lnTo>
                    <a:lnTo>
                      <a:pt x="1063" y="1032"/>
                    </a:lnTo>
                    <a:lnTo>
                      <a:pt x="1062" y="1035"/>
                    </a:lnTo>
                    <a:lnTo>
                      <a:pt x="1060" y="1037"/>
                    </a:lnTo>
                    <a:lnTo>
                      <a:pt x="1057" y="1037"/>
                    </a:lnTo>
                    <a:lnTo>
                      <a:pt x="1053" y="1037"/>
                    </a:lnTo>
                    <a:lnTo>
                      <a:pt x="1047" y="1035"/>
                    </a:lnTo>
                    <a:lnTo>
                      <a:pt x="1002" y="1034"/>
                    </a:lnTo>
                    <a:lnTo>
                      <a:pt x="957" y="1034"/>
                    </a:lnTo>
                    <a:lnTo>
                      <a:pt x="911" y="1034"/>
                    </a:lnTo>
                    <a:lnTo>
                      <a:pt x="864" y="1035"/>
                    </a:lnTo>
                    <a:lnTo>
                      <a:pt x="818" y="1037"/>
                    </a:lnTo>
                    <a:lnTo>
                      <a:pt x="769" y="1039"/>
                    </a:lnTo>
                    <a:lnTo>
                      <a:pt x="720" y="1041"/>
                    </a:lnTo>
                    <a:lnTo>
                      <a:pt x="671" y="1046"/>
                    </a:lnTo>
                    <a:lnTo>
                      <a:pt x="621" y="1049"/>
                    </a:lnTo>
                    <a:lnTo>
                      <a:pt x="569" y="1054"/>
                    </a:lnTo>
                    <a:lnTo>
                      <a:pt x="517" y="1059"/>
                    </a:lnTo>
                    <a:lnTo>
                      <a:pt x="465" y="1065"/>
                    </a:lnTo>
                    <a:lnTo>
                      <a:pt x="411" y="1072"/>
                    </a:lnTo>
                    <a:lnTo>
                      <a:pt x="357" y="1079"/>
                    </a:lnTo>
                    <a:lnTo>
                      <a:pt x="302" y="1087"/>
                    </a:lnTo>
                    <a:lnTo>
                      <a:pt x="246" y="1096"/>
                    </a:lnTo>
                    <a:lnTo>
                      <a:pt x="240" y="1097"/>
                    </a:lnTo>
                    <a:lnTo>
                      <a:pt x="234" y="1097"/>
                    </a:lnTo>
                    <a:lnTo>
                      <a:pt x="229" y="1097"/>
                    </a:lnTo>
                    <a:lnTo>
                      <a:pt x="224" y="1096"/>
                    </a:lnTo>
                    <a:lnTo>
                      <a:pt x="218" y="1093"/>
                    </a:lnTo>
                    <a:lnTo>
                      <a:pt x="214" y="1091"/>
                    </a:lnTo>
                    <a:lnTo>
                      <a:pt x="210" y="1089"/>
                    </a:lnTo>
                    <a:lnTo>
                      <a:pt x="206" y="1085"/>
                    </a:lnTo>
                    <a:lnTo>
                      <a:pt x="197" y="1075"/>
                    </a:lnTo>
                    <a:lnTo>
                      <a:pt x="181" y="1055"/>
                    </a:lnTo>
                    <a:lnTo>
                      <a:pt x="172" y="1044"/>
                    </a:lnTo>
                    <a:lnTo>
                      <a:pt x="163" y="1035"/>
                    </a:lnTo>
                    <a:lnTo>
                      <a:pt x="157" y="1029"/>
                    </a:lnTo>
                    <a:lnTo>
                      <a:pt x="151" y="1026"/>
                    </a:lnTo>
                    <a:lnTo>
                      <a:pt x="187" y="1025"/>
                    </a:lnTo>
                    <a:lnTo>
                      <a:pt x="225" y="1023"/>
                    </a:lnTo>
                    <a:lnTo>
                      <a:pt x="267" y="1020"/>
                    </a:lnTo>
                    <a:lnTo>
                      <a:pt x="314" y="1016"/>
                    </a:lnTo>
                    <a:lnTo>
                      <a:pt x="362" y="1012"/>
                    </a:lnTo>
                    <a:lnTo>
                      <a:pt x="415" y="1005"/>
                    </a:lnTo>
                    <a:lnTo>
                      <a:pt x="472" y="998"/>
                    </a:lnTo>
                    <a:lnTo>
                      <a:pt x="531" y="991"/>
                    </a:lnTo>
                    <a:lnTo>
                      <a:pt x="531" y="973"/>
                    </a:lnTo>
                    <a:lnTo>
                      <a:pt x="531" y="954"/>
                    </a:lnTo>
                    <a:lnTo>
                      <a:pt x="532" y="932"/>
                    </a:lnTo>
                    <a:lnTo>
                      <a:pt x="532" y="911"/>
                    </a:lnTo>
                    <a:lnTo>
                      <a:pt x="533" y="889"/>
                    </a:lnTo>
                    <a:lnTo>
                      <a:pt x="534" y="866"/>
                    </a:lnTo>
                    <a:lnTo>
                      <a:pt x="535" y="841"/>
                    </a:lnTo>
                    <a:lnTo>
                      <a:pt x="536" y="815"/>
                    </a:lnTo>
                    <a:lnTo>
                      <a:pt x="536" y="785"/>
                    </a:lnTo>
                    <a:lnTo>
                      <a:pt x="536" y="760"/>
                    </a:lnTo>
                    <a:lnTo>
                      <a:pt x="536" y="741"/>
                    </a:lnTo>
                    <a:lnTo>
                      <a:pt x="536" y="725"/>
                    </a:lnTo>
                    <a:lnTo>
                      <a:pt x="496" y="733"/>
                    </a:lnTo>
                    <a:lnTo>
                      <a:pt x="457" y="741"/>
                    </a:lnTo>
                    <a:lnTo>
                      <a:pt x="419" y="748"/>
                    </a:lnTo>
                    <a:lnTo>
                      <a:pt x="382" y="755"/>
                    </a:lnTo>
                    <a:lnTo>
                      <a:pt x="373" y="754"/>
                    </a:lnTo>
                    <a:lnTo>
                      <a:pt x="363" y="751"/>
                    </a:lnTo>
                    <a:lnTo>
                      <a:pt x="353" y="747"/>
                    </a:lnTo>
                    <a:lnTo>
                      <a:pt x="341" y="741"/>
                    </a:lnTo>
                    <a:lnTo>
                      <a:pt x="334" y="736"/>
                    </a:lnTo>
                    <a:lnTo>
                      <a:pt x="326" y="732"/>
                    </a:lnTo>
                    <a:lnTo>
                      <a:pt x="320" y="727"/>
                    </a:lnTo>
                    <a:lnTo>
                      <a:pt x="314" y="721"/>
                    </a:lnTo>
                    <a:lnTo>
                      <a:pt x="307" y="715"/>
                    </a:lnTo>
                    <a:lnTo>
                      <a:pt x="301" y="709"/>
                    </a:lnTo>
                    <a:lnTo>
                      <a:pt x="296" y="702"/>
                    </a:lnTo>
                    <a:lnTo>
                      <a:pt x="290" y="695"/>
                    </a:lnTo>
                    <a:lnTo>
                      <a:pt x="317" y="693"/>
                    </a:lnTo>
                    <a:lnTo>
                      <a:pt x="343" y="691"/>
                    </a:lnTo>
                    <a:lnTo>
                      <a:pt x="372" y="686"/>
                    </a:lnTo>
                    <a:lnTo>
                      <a:pt x="401" y="682"/>
                    </a:lnTo>
                    <a:lnTo>
                      <a:pt x="431" y="677"/>
                    </a:lnTo>
                    <a:lnTo>
                      <a:pt x="463" y="671"/>
                    </a:lnTo>
                    <a:lnTo>
                      <a:pt x="497" y="663"/>
                    </a:lnTo>
                    <a:lnTo>
                      <a:pt x="531" y="655"/>
                    </a:lnTo>
                    <a:lnTo>
                      <a:pt x="530" y="622"/>
                    </a:lnTo>
                    <a:lnTo>
                      <a:pt x="528" y="591"/>
                    </a:lnTo>
                    <a:lnTo>
                      <a:pt x="526" y="577"/>
                    </a:lnTo>
                    <a:lnTo>
                      <a:pt x="522" y="564"/>
                    </a:lnTo>
                    <a:lnTo>
                      <a:pt x="519" y="552"/>
                    </a:lnTo>
                    <a:lnTo>
                      <a:pt x="516" y="540"/>
                    </a:lnTo>
                    <a:lnTo>
                      <a:pt x="499" y="542"/>
                    </a:lnTo>
                    <a:lnTo>
                      <a:pt x="482" y="547"/>
                    </a:lnTo>
                    <a:lnTo>
                      <a:pt x="466" y="550"/>
                    </a:lnTo>
                    <a:lnTo>
                      <a:pt x="451" y="555"/>
                    </a:lnTo>
                    <a:lnTo>
                      <a:pt x="447" y="556"/>
                    </a:lnTo>
                    <a:lnTo>
                      <a:pt x="443" y="556"/>
                    </a:lnTo>
                    <a:lnTo>
                      <a:pt x="439" y="556"/>
                    </a:lnTo>
                    <a:lnTo>
                      <a:pt x="434" y="555"/>
                    </a:lnTo>
                    <a:lnTo>
                      <a:pt x="426" y="551"/>
                    </a:lnTo>
                    <a:lnTo>
                      <a:pt x="416" y="544"/>
                    </a:lnTo>
                    <a:lnTo>
                      <a:pt x="397" y="531"/>
                    </a:lnTo>
                    <a:lnTo>
                      <a:pt x="383" y="519"/>
                    </a:lnTo>
                    <a:lnTo>
                      <a:pt x="370" y="508"/>
                    </a:lnTo>
                    <a:lnTo>
                      <a:pt x="361" y="500"/>
                    </a:lnTo>
                    <a:lnTo>
                      <a:pt x="377" y="497"/>
                    </a:lnTo>
                    <a:lnTo>
                      <a:pt x="395" y="494"/>
                    </a:lnTo>
                    <a:lnTo>
                      <a:pt x="415" y="489"/>
                    </a:lnTo>
                    <a:lnTo>
                      <a:pt x="439" y="485"/>
                    </a:lnTo>
                    <a:lnTo>
                      <a:pt x="463" y="480"/>
                    </a:lnTo>
                    <a:lnTo>
                      <a:pt x="491" y="473"/>
                    </a:lnTo>
                    <a:lnTo>
                      <a:pt x="519" y="467"/>
                    </a:lnTo>
                    <a:lnTo>
                      <a:pt x="551" y="460"/>
                    </a:lnTo>
                    <a:lnTo>
                      <a:pt x="580" y="452"/>
                    </a:lnTo>
                    <a:lnTo>
                      <a:pt x="607" y="446"/>
                    </a:lnTo>
                    <a:lnTo>
                      <a:pt x="634" y="441"/>
                    </a:lnTo>
                    <a:lnTo>
                      <a:pt x="657" y="435"/>
                    </a:lnTo>
                    <a:lnTo>
                      <a:pt x="679" y="430"/>
                    </a:lnTo>
                    <a:lnTo>
                      <a:pt x="700" y="426"/>
                    </a:lnTo>
                    <a:lnTo>
                      <a:pt x="719" y="423"/>
                    </a:lnTo>
                    <a:lnTo>
                      <a:pt x="736" y="419"/>
                    </a:lnTo>
                    <a:lnTo>
                      <a:pt x="741" y="418"/>
                    </a:lnTo>
                    <a:lnTo>
                      <a:pt x="746" y="417"/>
                    </a:lnTo>
                    <a:lnTo>
                      <a:pt x="751" y="417"/>
                    </a:lnTo>
                    <a:lnTo>
                      <a:pt x="756" y="418"/>
                    </a:lnTo>
                    <a:lnTo>
                      <a:pt x="761" y="420"/>
                    </a:lnTo>
                    <a:lnTo>
                      <a:pt x="766" y="425"/>
                    </a:lnTo>
                    <a:lnTo>
                      <a:pt x="771" y="429"/>
                    </a:lnTo>
                    <a:lnTo>
                      <a:pt x="776" y="434"/>
                    </a:lnTo>
                    <a:lnTo>
                      <a:pt x="777" y="437"/>
                    </a:lnTo>
                    <a:lnTo>
                      <a:pt x="778" y="440"/>
                    </a:lnTo>
                    <a:lnTo>
                      <a:pt x="779" y="443"/>
                    </a:lnTo>
                    <a:lnTo>
                      <a:pt x="781" y="445"/>
                    </a:lnTo>
                    <a:lnTo>
                      <a:pt x="788" y="452"/>
                    </a:lnTo>
                    <a:lnTo>
                      <a:pt x="794" y="460"/>
                    </a:lnTo>
                    <a:lnTo>
                      <a:pt x="798" y="467"/>
                    </a:lnTo>
                    <a:lnTo>
                      <a:pt x="801" y="475"/>
                    </a:lnTo>
                    <a:lnTo>
                      <a:pt x="805" y="484"/>
                    </a:lnTo>
                    <a:lnTo>
                      <a:pt x="806" y="489"/>
                    </a:lnTo>
                    <a:lnTo>
                      <a:pt x="803" y="493"/>
                    </a:lnTo>
                    <a:lnTo>
                      <a:pt x="800" y="494"/>
                    </a:lnTo>
                    <a:lnTo>
                      <a:pt x="796" y="495"/>
                    </a:lnTo>
                    <a:lnTo>
                      <a:pt x="791" y="495"/>
                    </a:lnTo>
                    <a:lnTo>
                      <a:pt x="767" y="497"/>
                    </a:lnTo>
                    <a:lnTo>
                      <a:pt x="743" y="499"/>
                    </a:lnTo>
                    <a:lnTo>
                      <a:pt x="715" y="502"/>
                    </a:lnTo>
                    <a:lnTo>
                      <a:pt x="685" y="506"/>
                    </a:lnTo>
                    <a:lnTo>
                      <a:pt x="655" y="511"/>
                    </a:lnTo>
                    <a:lnTo>
                      <a:pt x="622" y="517"/>
                    </a:lnTo>
                    <a:lnTo>
                      <a:pt x="587" y="523"/>
                    </a:lnTo>
                    <a:lnTo>
                      <a:pt x="551" y="530"/>
                    </a:lnTo>
                    <a:lnTo>
                      <a:pt x="573" y="537"/>
                    </a:lnTo>
                    <a:lnTo>
                      <a:pt x="595" y="542"/>
                    </a:lnTo>
                    <a:lnTo>
                      <a:pt x="619" y="547"/>
                    </a:lnTo>
                    <a:lnTo>
                      <a:pt x="641" y="550"/>
                    </a:lnTo>
                    <a:lnTo>
                      <a:pt x="638" y="556"/>
                    </a:lnTo>
                    <a:lnTo>
                      <a:pt x="634" y="562"/>
                    </a:lnTo>
                    <a:lnTo>
                      <a:pt x="631" y="572"/>
                    </a:lnTo>
                    <a:lnTo>
                      <a:pt x="628" y="583"/>
                    </a:lnTo>
                    <a:lnTo>
                      <a:pt x="624" y="608"/>
                    </a:lnTo>
                    <a:lnTo>
                      <a:pt x="621" y="640"/>
                    </a:lnTo>
                    <a:lnTo>
                      <a:pt x="633" y="638"/>
                    </a:lnTo>
                    <a:lnTo>
                      <a:pt x="647" y="635"/>
                    </a:lnTo>
                    <a:lnTo>
                      <a:pt x="665" y="632"/>
                    </a:lnTo>
                    <a:lnTo>
                      <a:pt x="685" y="630"/>
                    </a:lnTo>
                    <a:lnTo>
                      <a:pt x="722" y="623"/>
                    </a:lnTo>
                    <a:lnTo>
                      <a:pt x="751" y="618"/>
                    </a:lnTo>
                    <a:lnTo>
                      <a:pt x="777" y="613"/>
                    </a:lnTo>
                    <a:lnTo>
                      <a:pt x="796" y="610"/>
                    </a:lnTo>
                    <a:close/>
                    <a:moveTo>
                      <a:pt x="551" y="0"/>
                    </a:moveTo>
                    <a:lnTo>
                      <a:pt x="569" y="16"/>
                    </a:lnTo>
                    <a:lnTo>
                      <a:pt x="587" y="31"/>
                    </a:lnTo>
                    <a:lnTo>
                      <a:pt x="603" y="43"/>
                    </a:lnTo>
                    <a:lnTo>
                      <a:pt x="619" y="55"/>
                    </a:lnTo>
                    <a:lnTo>
                      <a:pt x="633" y="63"/>
                    </a:lnTo>
                    <a:lnTo>
                      <a:pt x="646" y="71"/>
                    </a:lnTo>
                    <a:lnTo>
                      <a:pt x="659" y="76"/>
                    </a:lnTo>
                    <a:lnTo>
                      <a:pt x="671" y="79"/>
                    </a:lnTo>
                    <a:lnTo>
                      <a:pt x="656" y="91"/>
                    </a:lnTo>
                    <a:lnTo>
                      <a:pt x="641" y="105"/>
                    </a:lnTo>
                    <a:lnTo>
                      <a:pt x="626" y="121"/>
                    </a:lnTo>
                    <a:lnTo>
                      <a:pt x="611" y="140"/>
                    </a:lnTo>
                    <a:lnTo>
                      <a:pt x="631" y="154"/>
                    </a:lnTo>
                    <a:lnTo>
                      <a:pt x="659" y="176"/>
                    </a:lnTo>
                    <a:lnTo>
                      <a:pt x="692" y="202"/>
                    </a:lnTo>
                    <a:lnTo>
                      <a:pt x="731" y="235"/>
                    </a:lnTo>
                    <a:lnTo>
                      <a:pt x="768" y="266"/>
                    </a:lnTo>
                    <a:lnTo>
                      <a:pt x="803" y="293"/>
                    </a:lnTo>
                    <a:lnTo>
                      <a:pt x="835" y="318"/>
                    </a:lnTo>
                    <a:lnTo>
                      <a:pt x="863" y="339"/>
                    </a:lnTo>
                    <a:lnTo>
                      <a:pt x="890" y="356"/>
                    </a:lnTo>
                    <a:lnTo>
                      <a:pt x="913" y="371"/>
                    </a:lnTo>
                    <a:lnTo>
                      <a:pt x="933" y="381"/>
                    </a:lnTo>
                    <a:lnTo>
                      <a:pt x="951" y="390"/>
                    </a:lnTo>
                    <a:lnTo>
                      <a:pt x="991" y="405"/>
                    </a:lnTo>
                    <a:lnTo>
                      <a:pt x="1028" y="420"/>
                    </a:lnTo>
                    <a:lnTo>
                      <a:pt x="1063" y="435"/>
                    </a:lnTo>
                    <a:lnTo>
                      <a:pt x="1096" y="451"/>
                    </a:lnTo>
                    <a:lnTo>
                      <a:pt x="1127" y="467"/>
                    </a:lnTo>
                    <a:lnTo>
                      <a:pt x="1158" y="483"/>
                    </a:lnTo>
                    <a:lnTo>
                      <a:pt x="1185" y="499"/>
                    </a:lnTo>
                    <a:lnTo>
                      <a:pt x="1211" y="515"/>
                    </a:lnTo>
                    <a:lnTo>
                      <a:pt x="1219" y="520"/>
                    </a:lnTo>
                    <a:lnTo>
                      <a:pt x="1227" y="524"/>
                    </a:lnTo>
                    <a:lnTo>
                      <a:pt x="1232" y="530"/>
                    </a:lnTo>
                    <a:lnTo>
                      <a:pt x="1237" y="535"/>
                    </a:lnTo>
                    <a:lnTo>
                      <a:pt x="1242" y="540"/>
                    </a:lnTo>
                    <a:lnTo>
                      <a:pt x="1244" y="544"/>
                    </a:lnTo>
                    <a:lnTo>
                      <a:pt x="1246" y="550"/>
                    </a:lnTo>
                    <a:lnTo>
                      <a:pt x="1246" y="555"/>
                    </a:lnTo>
                    <a:lnTo>
                      <a:pt x="1245" y="558"/>
                    </a:lnTo>
                    <a:lnTo>
                      <a:pt x="1242" y="561"/>
                    </a:lnTo>
                    <a:lnTo>
                      <a:pt x="1237" y="564"/>
                    </a:lnTo>
                    <a:lnTo>
                      <a:pt x="1232" y="566"/>
                    </a:lnTo>
                    <a:lnTo>
                      <a:pt x="1226" y="568"/>
                    </a:lnTo>
                    <a:lnTo>
                      <a:pt x="1219" y="569"/>
                    </a:lnTo>
                    <a:lnTo>
                      <a:pt x="1211" y="570"/>
                    </a:lnTo>
                    <a:lnTo>
                      <a:pt x="1201" y="570"/>
                    </a:lnTo>
                    <a:lnTo>
                      <a:pt x="1171" y="570"/>
                    </a:lnTo>
                    <a:lnTo>
                      <a:pt x="1141" y="569"/>
                    </a:lnTo>
                    <a:lnTo>
                      <a:pt x="1111" y="567"/>
                    </a:lnTo>
                    <a:lnTo>
                      <a:pt x="1084" y="565"/>
                    </a:lnTo>
                    <a:lnTo>
                      <a:pt x="1056" y="562"/>
                    </a:lnTo>
                    <a:lnTo>
                      <a:pt x="1031" y="558"/>
                    </a:lnTo>
                    <a:lnTo>
                      <a:pt x="1005" y="554"/>
                    </a:lnTo>
                    <a:lnTo>
                      <a:pt x="981" y="550"/>
                    </a:lnTo>
                    <a:lnTo>
                      <a:pt x="966" y="547"/>
                    </a:lnTo>
                    <a:lnTo>
                      <a:pt x="951" y="541"/>
                    </a:lnTo>
                    <a:lnTo>
                      <a:pt x="937" y="535"/>
                    </a:lnTo>
                    <a:lnTo>
                      <a:pt x="923" y="528"/>
                    </a:lnTo>
                    <a:lnTo>
                      <a:pt x="908" y="518"/>
                    </a:lnTo>
                    <a:lnTo>
                      <a:pt x="894" y="506"/>
                    </a:lnTo>
                    <a:lnTo>
                      <a:pt x="880" y="494"/>
                    </a:lnTo>
                    <a:lnTo>
                      <a:pt x="866" y="480"/>
                    </a:lnTo>
                    <a:lnTo>
                      <a:pt x="839" y="454"/>
                    </a:lnTo>
                    <a:lnTo>
                      <a:pt x="806" y="422"/>
                    </a:lnTo>
                    <a:lnTo>
                      <a:pt x="768" y="381"/>
                    </a:lnTo>
                    <a:lnTo>
                      <a:pt x="726" y="335"/>
                    </a:lnTo>
                    <a:lnTo>
                      <a:pt x="679" y="282"/>
                    </a:lnTo>
                    <a:lnTo>
                      <a:pt x="639" y="238"/>
                    </a:lnTo>
                    <a:lnTo>
                      <a:pt x="621" y="220"/>
                    </a:lnTo>
                    <a:lnTo>
                      <a:pt x="604" y="204"/>
                    </a:lnTo>
                    <a:lnTo>
                      <a:pt x="589" y="191"/>
                    </a:lnTo>
                    <a:lnTo>
                      <a:pt x="576" y="180"/>
                    </a:lnTo>
                    <a:lnTo>
                      <a:pt x="566" y="194"/>
                    </a:lnTo>
                    <a:lnTo>
                      <a:pt x="556" y="204"/>
                    </a:lnTo>
                    <a:lnTo>
                      <a:pt x="518" y="262"/>
                    </a:lnTo>
                    <a:lnTo>
                      <a:pt x="480" y="316"/>
                    </a:lnTo>
                    <a:lnTo>
                      <a:pt x="441" y="369"/>
                    </a:lnTo>
                    <a:lnTo>
                      <a:pt x="401" y="419"/>
                    </a:lnTo>
                    <a:lnTo>
                      <a:pt x="360" y="469"/>
                    </a:lnTo>
                    <a:lnTo>
                      <a:pt x="320" y="516"/>
                    </a:lnTo>
                    <a:lnTo>
                      <a:pt x="278" y="561"/>
                    </a:lnTo>
                    <a:lnTo>
                      <a:pt x="236" y="605"/>
                    </a:lnTo>
                    <a:lnTo>
                      <a:pt x="221" y="619"/>
                    </a:lnTo>
                    <a:lnTo>
                      <a:pt x="205" y="631"/>
                    </a:lnTo>
                    <a:lnTo>
                      <a:pt x="190" y="642"/>
                    </a:lnTo>
                    <a:lnTo>
                      <a:pt x="174" y="650"/>
                    </a:lnTo>
                    <a:lnTo>
                      <a:pt x="159" y="658"/>
                    </a:lnTo>
                    <a:lnTo>
                      <a:pt x="144" y="663"/>
                    </a:lnTo>
                    <a:lnTo>
                      <a:pt x="129" y="667"/>
                    </a:lnTo>
                    <a:lnTo>
                      <a:pt x="115" y="668"/>
                    </a:lnTo>
                    <a:lnTo>
                      <a:pt x="100" y="668"/>
                    </a:lnTo>
                    <a:lnTo>
                      <a:pt x="85" y="667"/>
                    </a:lnTo>
                    <a:lnTo>
                      <a:pt x="71" y="664"/>
                    </a:lnTo>
                    <a:lnTo>
                      <a:pt x="56" y="659"/>
                    </a:lnTo>
                    <a:lnTo>
                      <a:pt x="43" y="652"/>
                    </a:lnTo>
                    <a:lnTo>
                      <a:pt x="29" y="643"/>
                    </a:lnTo>
                    <a:lnTo>
                      <a:pt x="15" y="632"/>
                    </a:lnTo>
                    <a:lnTo>
                      <a:pt x="0" y="620"/>
                    </a:lnTo>
                    <a:lnTo>
                      <a:pt x="31" y="608"/>
                    </a:lnTo>
                    <a:lnTo>
                      <a:pt x="61" y="593"/>
                    </a:lnTo>
                    <a:lnTo>
                      <a:pt x="90" y="577"/>
                    </a:lnTo>
                    <a:lnTo>
                      <a:pt x="120" y="560"/>
                    </a:lnTo>
                    <a:lnTo>
                      <a:pt x="150" y="540"/>
                    </a:lnTo>
                    <a:lnTo>
                      <a:pt x="179" y="519"/>
                    </a:lnTo>
                    <a:lnTo>
                      <a:pt x="209" y="495"/>
                    </a:lnTo>
                    <a:lnTo>
                      <a:pt x="239" y="470"/>
                    </a:lnTo>
                    <a:lnTo>
                      <a:pt x="268" y="443"/>
                    </a:lnTo>
                    <a:lnTo>
                      <a:pt x="297" y="413"/>
                    </a:lnTo>
                    <a:lnTo>
                      <a:pt x="326" y="382"/>
                    </a:lnTo>
                    <a:lnTo>
                      <a:pt x="355" y="349"/>
                    </a:lnTo>
                    <a:lnTo>
                      <a:pt x="385" y="315"/>
                    </a:lnTo>
                    <a:lnTo>
                      <a:pt x="413" y="278"/>
                    </a:lnTo>
                    <a:lnTo>
                      <a:pt x="442" y="240"/>
                    </a:lnTo>
                    <a:lnTo>
                      <a:pt x="470" y="200"/>
                    </a:lnTo>
                    <a:lnTo>
                      <a:pt x="488" y="170"/>
                    </a:lnTo>
                    <a:lnTo>
                      <a:pt x="504" y="142"/>
                    </a:lnTo>
                    <a:lnTo>
                      <a:pt x="517" y="115"/>
                    </a:lnTo>
                    <a:lnTo>
                      <a:pt x="529" y="90"/>
                    </a:lnTo>
                    <a:lnTo>
                      <a:pt x="537" y="65"/>
                    </a:lnTo>
                    <a:lnTo>
                      <a:pt x="544" y="42"/>
                    </a:lnTo>
                    <a:lnTo>
                      <a:pt x="549" y="20"/>
                    </a:lnTo>
                    <a:lnTo>
                      <a:pt x="551" y="0"/>
                    </a:lnTo>
                    <a:close/>
                    <a:moveTo>
                      <a:pt x="641" y="915"/>
                    </a:moveTo>
                    <a:lnTo>
                      <a:pt x="630" y="901"/>
                    </a:lnTo>
                    <a:lnTo>
                      <a:pt x="662" y="875"/>
                    </a:lnTo>
                    <a:lnTo>
                      <a:pt x="689" y="851"/>
                    </a:lnTo>
                    <a:lnTo>
                      <a:pt x="701" y="839"/>
                    </a:lnTo>
                    <a:lnTo>
                      <a:pt x="713" y="827"/>
                    </a:lnTo>
                    <a:lnTo>
                      <a:pt x="724" y="816"/>
                    </a:lnTo>
                    <a:lnTo>
                      <a:pt x="733" y="804"/>
                    </a:lnTo>
                    <a:lnTo>
                      <a:pt x="743" y="792"/>
                    </a:lnTo>
                    <a:lnTo>
                      <a:pt x="750" y="781"/>
                    </a:lnTo>
                    <a:lnTo>
                      <a:pt x="758" y="769"/>
                    </a:lnTo>
                    <a:lnTo>
                      <a:pt x="764" y="759"/>
                    </a:lnTo>
                    <a:lnTo>
                      <a:pt x="769" y="748"/>
                    </a:lnTo>
                    <a:lnTo>
                      <a:pt x="774" y="736"/>
                    </a:lnTo>
                    <a:lnTo>
                      <a:pt x="778" y="726"/>
                    </a:lnTo>
                    <a:lnTo>
                      <a:pt x="781" y="715"/>
                    </a:lnTo>
                    <a:lnTo>
                      <a:pt x="791" y="731"/>
                    </a:lnTo>
                    <a:lnTo>
                      <a:pt x="804" y="746"/>
                    </a:lnTo>
                    <a:lnTo>
                      <a:pt x="817" y="760"/>
                    </a:lnTo>
                    <a:lnTo>
                      <a:pt x="831" y="772"/>
                    </a:lnTo>
                    <a:lnTo>
                      <a:pt x="846" y="785"/>
                    </a:lnTo>
                    <a:lnTo>
                      <a:pt x="863" y="796"/>
                    </a:lnTo>
                    <a:lnTo>
                      <a:pt x="881" y="806"/>
                    </a:lnTo>
                    <a:lnTo>
                      <a:pt x="902" y="815"/>
                    </a:lnTo>
                    <a:lnTo>
                      <a:pt x="890" y="817"/>
                    </a:lnTo>
                    <a:lnTo>
                      <a:pt x="878" y="820"/>
                    </a:lnTo>
                    <a:lnTo>
                      <a:pt x="864" y="824"/>
                    </a:lnTo>
                    <a:lnTo>
                      <a:pt x="850" y="828"/>
                    </a:lnTo>
                    <a:lnTo>
                      <a:pt x="816" y="842"/>
                    </a:lnTo>
                    <a:lnTo>
                      <a:pt x="776" y="860"/>
                    </a:lnTo>
                    <a:lnTo>
                      <a:pt x="735" y="878"/>
                    </a:lnTo>
                    <a:lnTo>
                      <a:pt x="700" y="894"/>
                    </a:lnTo>
                    <a:lnTo>
                      <a:pt x="669" y="906"/>
                    </a:lnTo>
                    <a:lnTo>
                      <a:pt x="641" y="915"/>
                    </a:lnTo>
                    <a:close/>
                    <a:moveTo>
                      <a:pt x="345" y="796"/>
                    </a:moveTo>
                    <a:lnTo>
                      <a:pt x="392" y="818"/>
                    </a:lnTo>
                    <a:lnTo>
                      <a:pt x="427" y="836"/>
                    </a:lnTo>
                    <a:lnTo>
                      <a:pt x="440" y="844"/>
                    </a:lnTo>
                    <a:lnTo>
                      <a:pt x="450" y="851"/>
                    </a:lnTo>
                    <a:lnTo>
                      <a:pt x="457" y="856"/>
                    </a:lnTo>
                    <a:lnTo>
                      <a:pt x="461" y="860"/>
                    </a:lnTo>
                    <a:lnTo>
                      <a:pt x="462" y="866"/>
                    </a:lnTo>
                    <a:lnTo>
                      <a:pt x="462" y="873"/>
                    </a:lnTo>
                    <a:lnTo>
                      <a:pt x="461" y="881"/>
                    </a:lnTo>
                    <a:lnTo>
                      <a:pt x="459" y="891"/>
                    </a:lnTo>
                    <a:lnTo>
                      <a:pt x="451" y="915"/>
                    </a:lnTo>
                    <a:lnTo>
                      <a:pt x="441" y="945"/>
                    </a:lnTo>
                    <a:lnTo>
                      <a:pt x="438" y="954"/>
                    </a:lnTo>
                    <a:lnTo>
                      <a:pt x="434" y="960"/>
                    </a:lnTo>
                    <a:lnTo>
                      <a:pt x="432" y="962"/>
                    </a:lnTo>
                    <a:lnTo>
                      <a:pt x="430" y="964"/>
                    </a:lnTo>
                    <a:lnTo>
                      <a:pt x="428" y="965"/>
                    </a:lnTo>
                    <a:lnTo>
                      <a:pt x="426" y="965"/>
                    </a:lnTo>
                    <a:lnTo>
                      <a:pt x="423" y="964"/>
                    </a:lnTo>
                    <a:lnTo>
                      <a:pt x="420" y="961"/>
                    </a:lnTo>
                    <a:lnTo>
                      <a:pt x="415" y="957"/>
                    </a:lnTo>
                    <a:lnTo>
                      <a:pt x="411" y="950"/>
                    </a:lnTo>
                    <a:lnTo>
                      <a:pt x="410" y="949"/>
                    </a:lnTo>
                    <a:lnTo>
                      <a:pt x="406" y="945"/>
                    </a:lnTo>
                    <a:lnTo>
                      <a:pt x="394" y="928"/>
                    </a:lnTo>
                    <a:lnTo>
                      <a:pt x="383" y="910"/>
                    </a:lnTo>
                    <a:lnTo>
                      <a:pt x="372" y="893"/>
                    </a:lnTo>
                    <a:lnTo>
                      <a:pt x="362" y="876"/>
                    </a:lnTo>
                    <a:lnTo>
                      <a:pt x="353" y="859"/>
                    </a:lnTo>
                    <a:lnTo>
                      <a:pt x="344" y="843"/>
                    </a:lnTo>
                    <a:lnTo>
                      <a:pt x="337" y="826"/>
                    </a:lnTo>
                    <a:lnTo>
                      <a:pt x="331" y="810"/>
                    </a:lnTo>
                    <a:lnTo>
                      <a:pt x="327" y="798"/>
                    </a:lnTo>
                    <a:lnTo>
                      <a:pt x="326" y="790"/>
                    </a:lnTo>
                    <a:lnTo>
                      <a:pt x="329" y="788"/>
                    </a:lnTo>
                    <a:lnTo>
                      <a:pt x="334" y="789"/>
                    </a:lnTo>
                    <a:lnTo>
                      <a:pt x="339" y="791"/>
                    </a:lnTo>
                    <a:lnTo>
                      <a:pt x="345" y="796"/>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211" name="Freeform 14"/>
              <p:cNvSpPr/>
              <p:nvPr/>
            </p:nvSpPr>
            <p:spPr>
              <a:xfrm>
                <a:off x="4279680" y="1205640"/>
                <a:ext cx="188640" cy="159480"/>
              </a:xfrm>
              <a:custGeom>
                <a:avLst/>
                <a:gdLst>
                  <a:gd name="textAreaLeft" fmla="*/ 0 w 188640"/>
                  <a:gd name="textAreaRight" fmla="*/ 189000 w 188640"/>
                  <a:gd name="textAreaTop" fmla="*/ 0 h 159480"/>
                  <a:gd name="textAreaBottom" fmla="*/ 159840 h 159480"/>
                </a:gdLst>
                <a:ahLst/>
                <a:rect l="textAreaLeft" t="textAreaTop" r="textAreaRight" b="textAreaBottom"/>
                <a:pathLst>
                  <a:path w="1185" h="1056">
                    <a:moveTo>
                      <a:pt x="695" y="800"/>
                    </a:moveTo>
                    <a:lnTo>
                      <a:pt x="687" y="792"/>
                    </a:lnTo>
                    <a:lnTo>
                      <a:pt x="674" y="781"/>
                    </a:lnTo>
                    <a:lnTo>
                      <a:pt x="659" y="766"/>
                    </a:lnTo>
                    <a:lnTo>
                      <a:pt x="647" y="754"/>
                    </a:lnTo>
                    <a:lnTo>
                      <a:pt x="643" y="749"/>
                    </a:lnTo>
                    <a:lnTo>
                      <a:pt x="638" y="744"/>
                    </a:lnTo>
                    <a:lnTo>
                      <a:pt x="636" y="739"/>
                    </a:lnTo>
                    <a:lnTo>
                      <a:pt x="634" y="735"/>
                    </a:lnTo>
                    <a:lnTo>
                      <a:pt x="639" y="714"/>
                    </a:lnTo>
                    <a:lnTo>
                      <a:pt x="644" y="693"/>
                    </a:lnTo>
                    <a:lnTo>
                      <a:pt x="648" y="670"/>
                    </a:lnTo>
                    <a:lnTo>
                      <a:pt x="651" y="648"/>
                    </a:lnTo>
                    <a:lnTo>
                      <a:pt x="653" y="626"/>
                    </a:lnTo>
                    <a:lnTo>
                      <a:pt x="655" y="603"/>
                    </a:lnTo>
                    <a:lnTo>
                      <a:pt x="656" y="578"/>
                    </a:lnTo>
                    <a:lnTo>
                      <a:pt x="656" y="554"/>
                    </a:lnTo>
                    <a:lnTo>
                      <a:pt x="656" y="528"/>
                    </a:lnTo>
                    <a:lnTo>
                      <a:pt x="655" y="503"/>
                    </a:lnTo>
                    <a:lnTo>
                      <a:pt x="653" y="478"/>
                    </a:lnTo>
                    <a:lnTo>
                      <a:pt x="651" y="451"/>
                    </a:lnTo>
                    <a:lnTo>
                      <a:pt x="648" y="423"/>
                    </a:lnTo>
                    <a:lnTo>
                      <a:pt x="644" y="396"/>
                    </a:lnTo>
                    <a:lnTo>
                      <a:pt x="639" y="368"/>
                    </a:lnTo>
                    <a:lnTo>
                      <a:pt x="634" y="340"/>
                    </a:lnTo>
                    <a:lnTo>
                      <a:pt x="655" y="347"/>
                    </a:lnTo>
                    <a:lnTo>
                      <a:pt x="677" y="355"/>
                    </a:lnTo>
                    <a:lnTo>
                      <a:pt x="700" y="362"/>
                    </a:lnTo>
                    <a:lnTo>
                      <a:pt x="724" y="369"/>
                    </a:lnTo>
                    <a:lnTo>
                      <a:pt x="731" y="369"/>
                    </a:lnTo>
                    <a:lnTo>
                      <a:pt x="739" y="369"/>
                    </a:lnTo>
                    <a:lnTo>
                      <a:pt x="753" y="366"/>
                    </a:lnTo>
                    <a:lnTo>
                      <a:pt x="764" y="365"/>
                    </a:lnTo>
                    <a:lnTo>
                      <a:pt x="775" y="341"/>
                    </a:lnTo>
                    <a:lnTo>
                      <a:pt x="785" y="316"/>
                    </a:lnTo>
                    <a:lnTo>
                      <a:pt x="792" y="294"/>
                    </a:lnTo>
                    <a:lnTo>
                      <a:pt x="798" y="273"/>
                    </a:lnTo>
                    <a:lnTo>
                      <a:pt x="803" y="253"/>
                    </a:lnTo>
                    <a:lnTo>
                      <a:pt x="807" y="234"/>
                    </a:lnTo>
                    <a:lnTo>
                      <a:pt x="809" y="217"/>
                    </a:lnTo>
                    <a:lnTo>
                      <a:pt x="810" y="200"/>
                    </a:lnTo>
                    <a:lnTo>
                      <a:pt x="764" y="206"/>
                    </a:lnTo>
                    <a:lnTo>
                      <a:pt x="723" y="213"/>
                    </a:lnTo>
                    <a:lnTo>
                      <a:pt x="686" y="217"/>
                    </a:lnTo>
                    <a:lnTo>
                      <a:pt x="654" y="220"/>
                    </a:lnTo>
                    <a:lnTo>
                      <a:pt x="647" y="218"/>
                    </a:lnTo>
                    <a:lnTo>
                      <a:pt x="638" y="215"/>
                    </a:lnTo>
                    <a:lnTo>
                      <a:pt x="630" y="209"/>
                    </a:lnTo>
                    <a:lnTo>
                      <a:pt x="620" y="203"/>
                    </a:lnTo>
                    <a:lnTo>
                      <a:pt x="611" y="196"/>
                    </a:lnTo>
                    <a:lnTo>
                      <a:pt x="601" y="187"/>
                    </a:lnTo>
                    <a:lnTo>
                      <a:pt x="591" y="177"/>
                    </a:lnTo>
                    <a:lnTo>
                      <a:pt x="579" y="165"/>
                    </a:lnTo>
                    <a:lnTo>
                      <a:pt x="605" y="161"/>
                    </a:lnTo>
                    <a:lnTo>
                      <a:pt x="637" y="155"/>
                    </a:lnTo>
                    <a:lnTo>
                      <a:pt x="679" y="148"/>
                    </a:lnTo>
                    <a:lnTo>
                      <a:pt x="728" y="138"/>
                    </a:lnTo>
                    <a:lnTo>
                      <a:pt x="786" y="127"/>
                    </a:lnTo>
                    <a:lnTo>
                      <a:pt x="850" y="113"/>
                    </a:lnTo>
                    <a:lnTo>
                      <a:pt x="923" y="97"/>
                    </a:lnTo>
                    <a:lnTo>
                      <a:pt x="1005" y="80"/>
                    </a:lnTo>
                    <a:lnTo>
                      <a:pt x="1037" y="71"/>
                    </a:lnTo>
                    <a:lnTo>
                      <a:pt x="1064" y="63"/>
                    </a:lnTo>
                    <a:lnTo>
                      <a:pt x="1088" y="58"/>
                    </a:lnTo>
                    <a:lnTo>
                      <a:pt x="1104" y="55"/>
                    </a:lnTo>
                    <a:lnTo>
                      <a:pt x="1108" y="53"/>
                    </a:lnTo>
                    <a:lnTo>
                      <a:pt x="1112" y="52"/>
                    </a:lnTo>
                    <a:lnTo>
                      <a:pt x="1115" y="50"/>
                    </a:lnTo>
                    <a:lnTo>
                      <a:pt x="1118" y="50"/>
                    </a:lnTo>
                    <a:lnTo>
                      <a:pt x="1121" y="52"/>
                    </a:lnTo>
                    <a:lnTo>
                      <a:pt x="1125" y="54"/>
                    </a:lnTo>
                    <a:lnTo>
                      <a:pt x="1127" y="56"/>
                    </a:lnTo>
                    <a:lnTo>
                      <a:pt x="1130" y="60"/>
                    </a:lnTo>
                    <a:lnTo>
                      <a:pt x="1136" y="66"/>
                    </a:lnTo>
                    <a:lnTo>
                      <a:pt x="1145" y="75"/>
                    </a:lnTo>
                    <a:lnTo>
                      <a:pt x="1150" y="79"/>
                    </a:lnTo>
                    <a:lnTo>
                      <a:pt x="1158" y="85"/>
                    </a:lnTo>
                    <a:lnTo>
                      <a:pt x="1168" y="96"/>
                    </a:lnTo>
                    <a:lnTo>
                      <a:pt x="1180" y="110"/>
                    </a:lnTo>
                    <a:lnTo>
                      <a:pt x="1183" y="118"/>
                    </a:lnTo>
                    <a:lnTo>
                      <a:pt x="1185" y="125"/>
                    </a:lnTo>
                    <a:lnTo>
                      <a:pt x="1182" y="127"/>
                    </a:lnTo>
                    <a:lnTo>
                      <a:pt x="1179" y="128"/>
                    </a:lnTo>
                    <a:lnTo>
                      <a:pt x="1174" y="129"/>
                    </a:lnTo>
                    <a:lnTo>
                      <a:pt x="1169" y="130"/>
                    </a:lnTo>
                    <a:lnTo>
                      <a:pt x="1139" y="135"/>
                    </a:lnTo>
                    <a:lnTo>
                      <a:pt x="1106" y="142"/>
                    </a:lnTo>
                    <a:lnTo>
                      <a:pt x="1068" y="148"/>
                    </a:lnTo>
                    <a:lnTo>
                      <a:pt x="1028" y="155"/>
                    </a:lnTo>
                    <a:lnTo>
                      <a:pt x="985" y="165"/>
                    </a:lnTo>
                    <a:lnTo>
                      <a:pt x="938" y="173"/>
                    </a:lnTo>
                    <a:lnTo>
                      <a:pt x="887" y="184"/>
                    </a:lnTo>
                    <a:lnTo>
                      <a:pt x="834" y="195"/>
                    </a:lnTo>
                    <a:lnTo>
                      <a:pt x="846" y="201"/>
                    </a:lnTo>
                    <a:lnTo>
                      <a:pt x="858" y="206"/>
                    </a:lnTo>
                    <a:lnTo>
                      <a:pt x="869" y="212"/>
                    </a:lnTo>
                    <a:lnTo>
                      <a:pt x="882" y="216"/>
                    </a:lnTo>
                    <a:lnTo>
                      <a:pt x="895" y="220"/>
                    </a:lnTo>
                    <a:lnTo>
                      <a:pt x="907" y="224"/>
                    </a:lnTo>
                    <a:lnTo>
                      <a:pt x="921" y="227"/>
                    </a:lnTo>
                    <a:lnTo>
                      <a:pt x="935" y="230"/>
                    </a:lnTo>
                    <a:lnTo>
                      <a:pt x="925" y="237"/>
                    </a:lnTo>
                    <a:lnTo>
                      <a:pt x="913" y="249"/>
                    </a:lnTo>
                    <a:lnTo>
                      <a:pt x="898" y="265"/>
                    </a:lnTo>
                    <a:lnTo>
                      <a:pt x="880" y="285"/>
                    </a:lnTo>
                    <a:lnTo>
                      <a:pt x="862" y="306"/>
                    </a:lnTo>
                    <a:lnTo>
                      <a:pt x="846" y="326"/>
                    </a:lnTo>
                    <a:lnTo>
                      <a:pt x="830" y="344"/>
                    </a:lnTo>
                    <a:lnTo>
                      <a:pt x="814" y="360"/>
                    </a:lnTo>
                    <a:lnTo>
                      <a:pt x="841" y="354"/>
                    </a:lnTo>
                    <a:lnTo>
                      <a:pt x="866" y="346"/>
                    </a:lnTo>
                    <a:lnTo>
                      <a:pt x="889" y="340"/>
                    </a:lnTo>
                    <a:lnTo>
                      <a:pt x="911" y="332"/>
                    </a:lnTo>
                    <a:lnTo>
                      <a:pt x="931" y="325"/>
                    </a:lnTo>
                    <a:lnTo>
                      <a:pt x="949" y="316"/>
                    </a:lnTo>
                    <a:lnTo>
                      <a:pt x="965" y="308"/>
                    </a:lnTo>
                    <a:lnTo>
                      <a:pt x="979" y="299"/>
                    </a:lnTo>
                    <a:lnTo>
                      <a:pt x="994" y="310"/>
                    </a:lnTo>
                    <a:lnTo>
                      <a:pt x="1009" y="320"/>
                    </a:lnTo>
                    <a:lnTo>
                      <a:pt x="1026" y="328"/>
                    </a:lnTo>
                    <a:lnTo>
                      <a:pt x="1043" y="336"/>
                    </a:lnTo>
                    <a:lnTo>
                      <a:pt x="1062" y="342"/>
                    </a:lnTo>
                    <a:lnTo>
                      <a:pt x="1081" y="347"/>
                    </a:lnTo>
                    <a:lnTo>
                      <a:pt x="1102" y="351"/>
                    </a:lnTo>
                    <a:lnTo>
                      <a:pt x="1125" y="355"/>
                    </a:lnTo>
                    <a:lnTo>
                      <a:pt x="1120" y="359"/>
                    </a:lnTo>
                    <a:lnTo>
                      <a:pt x="1117" y="365"/>
                    </a:lnTo>
                    <a:lnTo>
                      <a:pt x="1114" y="373"/>
                    </a:lnTo>
                    <a:lnTo>
                      <a:pt x="1112" y="382"/>
                    </a:lnTo>
                    <a:lnTo>
                      <a:pt x="1107" y="404"/>
                    </a:lnTo>
                    <a:lnTo>
                      <a:pt x="1103" y="434"/>
                    </a:lnTo>
                    <a:lnTo>
                      <a:pt x="1100" y="469"/>
                    </a:lnTo>
                    <a:lnTo>
                      <a:pt x="1099" y="509"/>
                    </a:lnTo>
                    <a:lnTo>
                      <a:pt x="1099" y="557"/>
                    </a:lnTo>
                    <a:lnTo>
                      <a:pt x="1099" y="610"/>
                    </a:lnTo>
                    <a:lnTo>
                      <a:pt x="1100" y="642"/>
                    </a:lnTo>
                    <a:lnTo>
                      <a:pt x="1101" y="670"/>
                    </a:lnTo>
                    <a:lnTo>
                      <a:pt x="1102" y="697"/>
                    </a:lnTo>
                    <a:lnTo>
                      <a:pt x="1102" y="721"/>
                    </a:lnTo>
                    <a:lnTo>
                      <a:pt x="1102" y="744"/>
                    </a:lnTo>
                    <a:lnTo>
                      <a:pt x="1101" y="763"/>
                    </a:lnTo>
                    <a:lnTo>
                      <a:pt x="1100" y="781"/>
                    </a:lnTo>
                    <a:lnTo>
                      <a:pt x="1099" y="795"/>
                    </a:lnTo>
                    <a:lnTo>
                      <a:pt x="1097" y="802"/>
                    </a:lnTo>
                    <a:lnTo>
                      <a:pt x="1095" y="807"/>
                    </a:lnTo>
                    <a:lnTo>
                      <a:pt x="1092" y="812"/>
                    </a:lnTo>
                    <a:lnTo>
                      <a:pt x="1090" y="816"/>
                    </a:lnTo>
                    <a:lnTo>
                      <a:pt x="1084" y="815"/>
                    </a:lnTo>
                    <a:lnTo>
                      <a:pt x="1078" y="811"/>
                    </a:lnTo>
                    <a:lnTo>
                      <a:pt x="1072" y="807"/>
                    </a:lnTo>
                    <a:lnTo>
                      <a:pt x="1064" y="800"/>
                    </a:lnTo>
                    <a:lnTo>
                      <a:pt x="1059" y="794"/>
                    </a:lnTo>
                    <a:lnTo>
                      <a:pt x="1050" y="786"/>
                    </a:lnTo>
                    <a:lnTo>
                      <a:pt x="1041" y="776"/>
                    </a:lnTo>
                    <a:lnTo>
                      <a:pt x="1029" y="765"/>
                    </a:lnTo>
                    <a:lnTo>
                      <a:pt x="1008" y="746"/>
                    </a:lnTo>
                    <a:lnTo>
                      <a:pt x="992" y="730"/>
                    </a:lnTo>
                    <a:lnTo>
                      <a:pt x="983" y="720"/>
                    </a:lnTo>
                    <a:lnTo>
                      <a:pt x="979" y="715"/>
                    </a:lnTo>
                    <a:lnTo>
                      <a:pt x="981" y="710"/>
                    </a:lnTo>
                    <a:lnTo>
                      <a:pt x="982" y="704"/>
                    </a:lnTo>
                    <a:lnTo>
                      <a:pt x="985" y="697"/>
                    </a:lnTo>
                    <a:lnTo>
                      <a:pt x="989" y="691"/>
                    </a:lnTo>
                    <a:lnTo>
                      <a:pt x="994" y="682"/>
                    </a:lnTo>
                    <a:lnTo>
                      <a:pt x="997" y="675"/>
                    </a:lnTo>
                    <a:lnTo>
                      <a:pt x="999" y="667"/>
                    </a:lnTo>
                    <a:lnTo>
                      <a:pt x="1000" y="660"/>
                    </a:lnTo>
                    <a:lnTo>
                      <a:pt x="1000" y="642"/>
                    </a:lnTo>
                    <a:lnTo>
                      <a:pt x="1000" y="623"/>
                    </a:lnTo>
                    <a:lnTo>
                      <a:pt x="1000" y="602"/>
                    </a:lnTo>
                    <a:lnTo>
                      <a:pt x="1000" y="580"/>
                    </a:lnTo>
                    <a:lnTo>
                      <a:pt x="1001" y="542"/>
                    </a:lnTo>
                    <a:lnTo>
                      <a:pt x="1001" y="506"/>
                    </a:lnTo>
                    <a:lnTo>
                      <a:pt x="999" y="470"/>
                    </a:lnTo>
                    <a:lnTo>
                      <a:pt x="994" y="435"/>
                    </a:lnTo>
                    <a:lnTo>
                      <a:pt x="993" y="418"/>
                    </a:lnTo>
                    <a:lnTo>
                      <a:pt x="991" y="404"/>
                    </a:lnTo>
                    <a:lnTo>
                      <a:pt x="989" y="393"/>
                    </a:lnTo>
                    <a:lnTo>
                      <a:pt x="987" y="383"/>
                    </a:lnTo>
                    <a:lnTo>
                      <a:pt x="985" y="377"/>
                    </a:lnTo>
                    <a:lnTo>
                      <a:pt x="982" y="372"/>
                    </a:lnTo>
                    <a:lnTo>
                      <a:pt x="979" y="370"/>
                    </a:lnTo>
                    <a:lnTo>
                      <a:pt x="978" y="369"/>
                    </a:lnTo>
                    <a:lnTo>
                      <a:pt x="976" y="369"/>
                    </a:lnTo>
                    <a:lnTo>
                      <a:pt x="974" y="369"/>
                    </a:lnTo>
                    <a:lnTo>
                      <a:pt x="959" y="374"/>
                    </a:lnTo>
                    <a:lnTo>
                      <a:pt x="939" y="379"/>
                    </a:lnTo>
                    <a:lnTo>
                      <a:pt x="915" y="385"/>
                    </a:lnTo>
                    <a:lnTo>
                      <a:pt x="884" y="395"/>
                    </a:lnTo>
                    <a:lnTo>
                      <a:pt x="839" y="407"/>
                    </a:lnTo>
                    <a:lnTo>
                      <a:pt x="799" y="416"/>
                    </a:lnTo>
                    <a:lnTo>
                      <a:pt x="768" y="423"/>
                    </a:lnTo>
                    <a:lnTo>
                      <a:pt x="744" y="430"/>
                    </a:lnTo>
                    <a:lnTo>
                      <a:pt x="724" y="404"/>
                    </a:lnTo>
                    <a:lnTo>
                      <a:pt x="724" y="418"/>
                    </a:lnTo>
                    <a:lnTo>
                      <a:pt x="724" y="435"/>
                    </a:lnTo>
                    <a:lnTo>
                      <a:pt x="724" y="453"/>
                    </a:lnTo>
                    <a:lnTo>
                      <a:pt x="724" y="474"/>
                    </a:lnTo>
                    <a:lnTo>
                      <a:pt x="724" y="499"/>
                    </a:lnTo>
                    <a:lnTo>
                      <a:pt x="724" y="525"/>
                    </a:lnTo>
                    <a:lnTo>
                      <a:pt x="724" y="554"/>
                    </a:lnTo>
                    <a:lnTo>
                      <a:pt x="724" y="585"/>
                    </a:lnTo>
                    <a:lnTo>
                      <a:pt x="723" y="620"/>
                    </a:lnTo>
                    <a:lnTo>
                      <a:pt x="722" y="652"/>
                    </a:lnTo>
                    <a:lnTo>
                      <a:pt x="721" y="682"/>
                    </a:lnTo>
                    <a:lnTo>
                      <a:pt x="721" y="709"/>
                    </a:lnTo>
                    <a:lnTo>
                      <a:pt x="720" y="733"/>
                    </a:lnTo>
                    <a:lnTo>
                      <a:pt x="720" y="755"/>
                    </a:lnTo>
                    <a:lnTo>
                      <a:pt x="720" y="774"/>
                    </a:lnTo>
                    <a:lnTo>
                      <a:pt x="720" y="790"/>
                    </a:lnTo>
                    <a:lnTo>
                      <a:pt x="719" y="796"/>
                    </a:lnTo>
                    <a:lnTo>
                      <a:pt x="717" y="802"/>
                    </a:lnTo>
                    <a:lnTo>
                      <a:pt x="716" y="803"/>
                    </a:lnTo>
                    <a:lnTo>
                      <a:pt x="714" y="804"/>
                    </a:lnTo>
                    <a:lnTo>
                      <a:pt x="712" y="805"/>
                    </a:lnTo>
                    <a:lnTo>
                      <a:pt x="709" y="805"/>
                    </a:lnTo>
                    <a:lnTo>
                      <a:pt x="706" y="807"/>
                    </a:lnTo>
                    <a:lnTo>
                      <a:pt x="703" y="806"/>
                    </a:lnTo>
                    <a:lnTo>
                      <a:pt x="699" y="804"/>
                    </a:lnTo>
                    <a:lnTo>
                      <a:pt x="695" y="800"/>
                    </a:lnTo>
                    <a:close/>
                    <a:moveTo>
                      <a:pt x="414" y="170"/>
                    </a:moveTo>
                    <a:lnTo>
                      <a:pt x="445" y="180"/>
                    </a:lnTo>
                    <a:lnTo>
                      <a:pt x="473" y="189"/>
                    </a:lnTo>
                    <a:lnTo>
                      <a:pt x="499" y="199"/>
                    </a:lnTo>
                    <a:lnTo>
                      <a:pt x="523" y="208"/>
                    </a:lnTo>
                    <a:lnTo>
                      <a:pt x="545" y="218"/>
                    </a:lnTo>
                    <a:lnTo>
                      <a:pt x="565" y="226"/>
                    </a:lnTo>
                    <a:lnTo>
                      <a:pt x="583" y="236"/>
                    </a:lnTo>
                    <a:lnTo>
                      <a:pt x="599" y="244"/>
                    </a:lnTo>
                    <a:lnTo>
                      <a:pt x="601" y="252"/>
                    </a:lnTo>
                    <a:lnTo>
                      <a:pt x="603" y="259"/>
                    </a:lnTo>
                    <a:lnTo>
                      <a:pt x="605" y="269"/>
                    </a:lnTo>
                    <a:lnTo>
                      <a:pt x="606" y="279"/>
                    </a:lnTo>
                    <a:lnTo>
                      <a:pt x="606" y="305"/>
                    </a:lnTo>
                    <a:lnTo>
                      <a:pt x="605" y="334"/>
                    </a:lnTo>
                    <a:lnTo>
                      <a:pt x="602" y="341"/>
                    </a:lnTo>
                    <a:lnTo>
                      <a:pt x="600" y="345"/>
                    </a:lnTo>
                    <a:lnTo>
                      <a:pt x="598" y="348"/>
                    </a:lnTo>
                    <a:lnTo>
                      <a:pt x="594" y="351"/>
                    </a:lnTo>
                    <a:lnTo>
                      <a:pt x="591" y="352"/>
                    </a:lnTo>
                    <a:lnTo>
                      <a:pt x="585" y="352"/>
                    </a:lnTo>
                    <a:lnTo>
                      <a:pt x="580" y="351"/>
                    </a:lnTo>
                    <a:lnTo>
                      <a:pt x="574" y="349"/>
                    </a:lnTo>
                    <a:lnTo>
                      <a:pt x="548" y="329"/>
                    </a:lnTo>
                    <a:lnTo>
                      <a:pt x="524" y="308"/>
                    </a:lnTo>
                    <a:lnTo>
                      <a:pt x="501" y="288"/>
                    </a:lnTo>
                    <a:lnTo>
                      <a:pt x="480" y="269"/>
                    </a:lnTo>
                    <a:lnTo>
                      <a:pt x="458" y="250"/>
                    </a:lnTo>
                    <a:lnTo>
                      <a:pt x="439" y="231"/>
                    </a:lnTo>
                    <a:lnTo>
                      <a:pt x="421" y="213"/>
                    </a:lnTo>
                    <a:lnTo>
                      <a:pt x="404" y="195"/>
                    </a:lnTo>
                    <a:lnTo>
                      <a:pt x="378" y="259"/>
                    </a:lnTo>
                    <a:lnTo>
                      <a:pt x="350" y="321"/>
                    </a:lnTo>
                    <a:lnTo>
                      <a:pt x="324" y="380"/>
                    </a:lnTo>
                    <a:lnTo>
                      <a:pt x="295" y="435"/>
                    </a:lnTo>
                    <a:lnTo>
                      <a:pt x="268" y="487"/>
                    </a:lnTo>
                    <a:lnTo>
                      <a:pt x="238" y="536"/>
                    </a:lnTo>
                    <a:lnTo>
                      <a:pt x="224" y="559"/>
                    </a:lnTo>
                    <a:lnTo>
                      <a:pt x="209" y="582"/>
                    </a:lnTo>
                    <a:lnTo>
                      <a:pt x="195" y="604"/>
                    </a:lnTo>
                    <a:lnTo>
                      <a:pt x="180" y="625"/>
                    </a:lnTo>
                    <a:lnTo>
                      <a:pt x="170" y="638"/>
                    </a:lnTo>
                    <a:lnTo>
                      <a:pt x="160" y="650"/>
                    </a:lnTo>
                    <a:lnTo>
                      <a:pt x="150" y="661"/>
                    </a:lnTo>
                    <a:lnTo>
                      <a:pt x="140" y="670"/>
                    </a:lnTo>
                    <a:lnTo>
                      <a:pt x="129" y="678"/>
                    </a:lnTo>
                    <a:lnTo>
                      <a:pt x="118" y="685"/>
                    </a:lnTo>
                    <a:lnTo>
                      <a:pt x="108" y="691"/>
                    </a:lnTo>
                    <a:lnTo>
                      <a:pt x="97" y="695"/>
                    </a:lnTo>
                    <a:lnTo>
                      <a:pt x="86" y="698"/>
                    </a:lnTo>
                    <a:lnTo>
                      <a:pt x="74" y="700"/>
                    </a:lnTo>
                    <a:lnTo>
                      <a:pt x="62" y="701"/>
                    </a:lnTo>
                    <a:lnTo>
                      <a:pt x="50" y="700"/>
                    </a:lnTo>
                    <a:lnTo>
                      <a:pt x="38" y="698"/>
                    </a:lnTo>
                    <a:lnTo>
                      <a:pt x="25" y="695"/>
                    </a:lnTo>
                    <a:lnTo>
                      <a:pt x="12" y="691"/>
                    </a:lnTo>
                    <a:lnTo>
                      <a:pt x="0" y="685"/>
                    </a:lnTo>
                    <a:lnTo>
                      <a:pt x="24" y="664"/>
                    </a:lnTo>
                    <a:lnTo>
                      <a:pt x="48" y="642"/>
                    </a:lnTo>
                    <a:lnTo>
                      <a:pt x="72" y="618"/>
                    </a:lnTo>
                    <a:lnTo>
                      <a:pt x="95" y="594"/>
                    </a:lnTo>
                    <a:lnTo>
                      <a:pt x="117" y="568"/>
                    </a:lnTo>
                    <a:lnTo>
                      <a:pt x="138" y="540"/>
                    </a:lnTo>
                    <a:lnTo>
                      <a:pt x="160" y="510"/>
                    </a:lnTo>
                    <a:lnTo>
                      <a:pt x="181" y="480"/>
                    </a:lnTo>
                    <a:lnTo>
                      <a:pt x="201" y="448"/>
                    </a:lnTo>
                    <a:lnTo>
                      <a:pt x="220" y="415"/>
                    </a:lnTo>
                    <a:lnTo>
                      <a:pt x="239" y="380"/>
                    </a:lnTo>
                    <a:lnTo>
                      <a:pt x="257" y="344"/>
                    </a:lnTo>
                    <a:lnTo>
                      <a:pt x="275" y="306"/>
                    </a:lnTo>
                    <a:lnTo>
                      <a:pt x="292" y="267"/>
                    </a:lnTo>
                    <a:lnTo>
                      <a:pt x="308" y="226"/>
                    </a:lnTo>
                    <a:lnTo>
                      <a:pt x="324" y="185"/>
                    </a:lnTo>
                    <a:lnTo>
                      <a:pt x="332" y="151"/>
                    </a:lnTo>
                    <a:lnTo>
                      <a:pt x="339" y="120"/>
                    </a:lnTo>
                    <a:lnTo>
                      <a:pt x="344" y="93"/>
                    </a:lnTo>
                    <a:lnTo>
                      <a:pt x="348" y="68"/>
                    </a:lnTo>
                    <a:lnTo>
                      <a:pt x="350" y="46"/>
                    </a:lnTo>
                    <a:lnTo>
                      <a:pt x="351" y="28"/>
                    </a:lnTo>
                    <a:lnTo>
                      <a:pt x="351" y="12"/>
                    </a:lnTo>
                    <a:lnTo>
                      <a:pt x="349" y="0"/>
                    </a:lnTo>
                    <a:lnTo>
                      <a:pt x="361" y="8"/>
                    </a:lnTo>
                    <a:lnTo>
                      <a:pt x="375" y="15"/>
                    </a:lnTo>
                    <a:lnTo>
                      <a:pt x="390" y="23"/>
                    </a:lnTo>
                    <a:lnTo>
                      <a:pt x="405" y="29"/>
                    </a:lnTo>
                    <a:lnTo>
                      <a:pt x="423" y="36"/>
                    </a:lnTo>
                    <a:lnTo>
                      <a:pt x="442" y="41"/>
                    </a:lnTo>
                    <a:lnTo>
                      <a:pt x="463" y="45"/>
                    </a:lnTo>
                    <a:lnTo>
                      <a:pt x="484" y="49"/>
                    </a:lnTo>
                    <a:lnTo>
                      <a:pt x="474" y="61"/>
                    </a:lnTo>
                    <a:lnTo>
                      <a:pt x="465" y="74"/>
                    </a:lnTo>
                    <a:lnTo>
                      <a:pt x="455" y="88"/>
                    </a:lnTo>
                    <a:lnTo>
                      <a:pt x="447" y="102"/>
                    </a:lnTo>
                    <a:lnTo>
                      <a:pt x="438" y="117"/>
                    </a:lnTo>
                    <a:lnTo>
                      <a:pt x="430" y="134"/>
                    </a:lnTo>
                    <a:lnTo>
                      <a:pt x="422" y="151"/>
                    </a:lnTo>
                    <a:lnTo>
                      <a:pt x="414" y="170"/>
                    </a:lnTo>
                    <a:close/>
                    <a:moveTo>
                      <a:pt x="799" y="460"/>
                    </a:moveTo>
                    <a:lnTo>
                      <a:pt x="818" y="467"/>
                    </a:lnTo>
                    <a:lnTo>
                      <a:pt x="838" y="472"/>
                    </a:lnTo>
                    <a:lnTo>
                      <a:pt x="855" y="478"/>
                    </a:lnTo>
                    <a:lnTo>
                      <a:pt x="870" y="481"/>
                    </a:lnTo>
                    <a:lnTo>
                      <a:pt x="886" y="484"/>
                    </a:lnTo>
                    <a:lnTo>
                      <a:pt x="900" y="485"/>
                    </a:lnTo>
                    <a:lnTo>
                      <a:pt x="913" y="486"/>
                    </a:lnTo>
                    <a:lnTo>
                      <a:pt x="924" y="485"/>
                    </a:lnTo>
                    <a:lnTo>
                      <a:pt x="919" y="497"/>
                    </a:lnTo>
                    <a:lnTo>
                      <a:pt x="915" y="509"/>
                    </a:lnTo>
                    <a:lnTo>
                      <a:pt x="911" y="522"/>
                    </a:lnTo>
                    <a:lnTo>
                      <a:pt x="906" y="536"/>
                    </a:lnTo>
                    <a:lnTo>
                      <a:pt x="900" y="567"/>
                    </a:lnTo>
                    <a:lnTo>
                      <a:pt x="895" y="599"/>
                    </a:lnTo>
                    <a:lnTo>
                      <a:pt x="891" y="635"/>
                    </a:lnTo>
                    <a:lnTo>
                      <a:pt x="884" y="669"/>
                    </a:lnTo>
                    <a:lnTo>
                      <a:pt x="878" y="703"/>
                    </a:lnTo>
                    <a:lnTo>
                      <a:pt x="870" y="734"/>
                    </a:lnTo>
                    <a:lnTo>
                      <a:pt x="862" y="765"/>
                    </a:lnTo>
                    <a:lnTo>
                      <a:pt x="851" y="793"/>
                    </a:lnTo>
                    <a:lnTo>
                      <a:pt x="841" y="821"/>
                    </a:lnTo>
                    <a:lnTo>
                      <a:pt x="828" y="847"/>
                    </a:lnTo>
                    <a:lnTo>
                      <a:pt x="814" y="873"/>
                    </a:lnTo>
                    <a:lnTo>
                      <a:pt x="800" y="896"/>
                    </a:lnTo>
                    <a:lnTo>
                      <a:pt x="785" y="918"/>
                    </a:lnTo>
                    <a:lnTo>
                      <a:pt x="768" y="940"/>
                    </a:lnTo>
                    <a:lnTo>
                      <a:pt x="750" y="960"/>
                    </a:lnTo>
                    <a:lnTo>
                      <a:pt x="731" y="978"/>
                    </a:lnTo>
                    <a:lnTo>
                      <a:pt x="710" y="995"/>
                    </a:lnTo>
                    <a:lnTo>
                      <a:pt x="689" y="1011"/>
                    </a:lnTo>
                    <a:lnTo>
                      <a:pt x="675" y="1021"/>
                    </a:lnTo>
                    <a:lnTo>
                      <a:pt x="662" y="1030"/>
                    </a:lnTo>
                    <a:lnTo>
                      <a:pt x="648" y="1038"/>
                    </a:lnTo>
                    <a:lnTo>
                      <a:pt x="634" y="1044"/>
                    </a:lnTo>
                    <a:lnTo>
                      <a:pt x="621" y="1050"/>
                    </a:lnTo>
                    <a:lnTo>
                      <a:pt x="608" y="1053"/>
                    </a:lnTo>
                    <a:lnTo>
                      <a:pt x="594" y="1055"/>
                    </a:lnTo>
                    <a:lnTo>
                      <a:pt x="580" y="1056"/>
                    </a:lnTo>
                    <a:lnTo>
                      <a:pt x="567" y="1056"/>
                    </a:lnTo>
                    <a:lnTo>
                      <a:pt x="554" y="1054"/>
                    </a:lnTo>
                    <a:lnTo>
                      <a:pt x="540" y="1051"/>
                    </a:lnTo>
                    <a:lnTo>
                      <a:pt x="527" y="1047"/>
                    </a:lnTo>
                    <a:lnTo>
                      <a:pt x="513" y="1041"/>
                    </a:lnTo>
                    <a:lnTo>
                      <a:pt x="501" y="1034"/>
                    </a:lnTo>
                    <a:lnTo>
                      <a:pt x="487" y="1025"/>
                    </a:lnTo>
                    <a:lnTo>
                      <a:pt x="474" y="1015"/>
                    </a:lnTo>
                    <a:lnTo>
                      <a:pt x="494" y="1009"/>
                    </a:lnTo>
                    <a:lnTo>
                      <a:pt x="513" y="1002"/>
                    </a:lnTo>
                    <a:lnTo>
                      <a:pt x="531" y="996"/>
                    </a:lnTo>
                    <a:lnTo>
                      <a:pt x="549" y="988"/>
                    </a:lnTo>
                    <a:lnTo>
                      <a:pt x="567" y="980"/>
                    </a:lnTo>
                    <a:lnTo>
                      <a:pt x="584" y="971"/>
                    </a:lnTo>
                    <a:lnTo>
                      <a:pt x="600" y="963"/>
                    </a:lnTo>
                    <a:lnTo>
                      <a:pt x="616" y="954"/>
                    </a:lnTo>
                    <a:lnTo>
                      <a:pt x="631" y="945"/>
                    </a:lnTo>
                    <a:lnTo>
                      <a:pt x="646" y="934"/>
                    </a:lnTo>
                    <a:lnTo>
                      <a:pt x="660" y="924"/>
                    </a:lnTo>
                    <a:lnTo>
                      <a:pt x="672" y="913"/>
                    </a:lnTo>
                    <a:lnTo>
                      <a:pt x="686" y="901"/>
                    </a:lnTo>
                    <a:lnTo>
                      <a:pt x="698" y="890"/>
                    </a:lnTo>
                    <a:lnTo>
                      <a:pt x="709" y="878"/>
                    </a:lnTo>
                    <a:lnTo>
                      <a:pt x="721" y="865"/>
                    </a:lnTo>
                    <a:lnTo>
                      <a:pt x="731" y="853"/>
                    </a:lnTo>
                    <a:lnTo>
                      <a:pt x="741" y="839"/>
                    </a:lnTo>
                    <a:lnTo>
                      <a:pt x="751" y="825"/>
                    </a:lnTo>
                    <a:lnTo>
                      <a:pt x="759" y="810"/>
                    </a:lnTo>
                    <a:lnTo>
                      <a:pt x="768" y="795"/>
                    </a:lnTo>
                    <a:lnTo>
                      <a:pt x="775" y="781"/>
                    </a:lnTo>
                    <a:lnTo>
                      <a:pt x="782" y="765"/>
                    </a:lnTo>
                    <a:lnTo>
                      <a:pt x="789" y="749"/>
                    </a:lnTo>
                    <a:lnTo>
                      <a:pt x="794" y="733"/>
                    </a:lnTo>
                    <a:lnTo>
                      <a:pt x="799" y="716"/>
                    </a:lnTo>
                    <a:lnTo>
                      <a:pt x="805" y="698"/>
                    </a:lnTo>
                    <a:lnTo>
                      <a:pt x="809" y="680"/>
                    </a:lnTo>
                    <a:lnTo>
                      <a:pt x="812" y="662"/>
                    </a:lnTo>
                    <a:lnTo>
                      <a:pt x="815" y="644"/>
                    </a:lnTo>
                    <a:lnTo>
                      <a:pt x="817" y="625"/>
                    </a:lnTo>
                    <a:lnTo>
                      <a:pt x="820" y="605"/>
                    </a:lnTo>
                    <a:lnTo>
                      <a:pt x="822" y="582"/>
                    </a:lnTo>
                    <a:lnTo>
                      <a:pt x="822" y="560"/>
                    </a:lnTo>
                    <a:lnTo>
                      <a:pt x="822" y="540"/>
                    </a:lnTo>
                    <a:lnTo>
                      <a:pt x="820" y="521"/>
                    </a:lnTo>
                    <a:lnTo>
                      <a:pt x="816" y="504"/>
                    </a:lnTo>
                    <a:lnTo>
                      <a:pt x="812" y="488"/>
                    </a:lnTo>
                    <a:lnTo>
                      <a:pt x="807" y="473"/>
                    </a:lnTo>
                    <a:lnTo>
                      <a:pt x="799" y="460"/>
                    </a:lnTo>
                    <a:close/>
                    <a:moveTo>
                      <a:pt x="294" y="760"/>
                    </a:moveTo>
                    <a:lnTo>
                      <a:pt x="297" y="763"/>
                    </a:lnTo>
                    <a:lnTo>
                      <a:pt x="302" y="765"/>
                    </a:lnTo>
                    <a:lnTo>
                      <a:pt x="307" y="768"/>
                    </a:lnTo>
                    <a:lnTo>
                      <a:pt x="314" y="770"/>
                    </a:lnTo>
                    <a:lnTo>
                      <a:pt x="321" y="773"/>
                    </a:lnTo>
                    <a:lnTo>
                      <a:pt x="332" y="778"/>
                    </a:lnTo>
                    <a:lnTo>
                      <a:pt x="346" y="786"/>
                    </a:lnTo>
                    <a:lnTo>
                      <a:pt x="364" y="795"/>
                    </a:lnTo>
                    <a:lnTo>
                      <a:pt x="379" y="769"/>
                    </a:lnTo>
                    <a:lnTo>
                      <a:pt x="393" y="745"/>
                    </a:lnTo>
                    <a:lnTo>
                      <a:pt x="405" y="720"/>
                    </a:lnTo>
                    <a:lnTo>
                      <a:pt x="418" y="696"/>
                    </a:lnTo>
                    <a:lnTo>
                      <a:pt x="430" y="674"/>
                    </a:lnTo>
                    <a:lnTo>
                      <a:pt x="440" y="651"/>
                    </a:lnTo>
                    <a:lnTo>
                      <a:pt x="450" y="630"/>
                    </a:lnTo>
                    <a:lnTo>
                      <a:pt x="459" y="610"/>
                    </a:lnTo>
                    <a:lnTo>
                      <a:pt x="434" y="616"/>
                    </a:lnTo>
                    <a:lnTo>
                      <a:pt x="410" y="624"/>
                    </a:lnTo>
                    <a:lnTo>
                      <a:pt x="384" y="631"/>
                    </a:lnTo>
                    <a:lnTo>
                      <a:pt x="360" y="640"/>
                    </a:lnTo>
                    <a:lnTo>
                      <a:pt x="334" y="649"/>
                    </a:lnTo>
                    <a:lnTo>
                      <a:pt x="309" y="659"/>
                    </a:lnTo>
                    <a:lnTo>
                      <a:pt x="285" y="669"/>
                    </a:lnTo>
                    <a:lnTo>
                      <a:pt x="259" y="680"/>
                    </a:lnTo>
                    <a:lnTo>
                      <a:pt x="244" y="666"/>
                    </a:lnTo>
                    <a:lnTo>
                      <a:pt x="229" y="651"/>
                    </a:lnTo>
                    <a:lnTo>
                      <a:pt x="212" y="634"/>
                    </a:lnTo>
                    <a:lnTo>
                      <a:pt x="195" y="615"/>
                    </a:lnTo>
                    <a:lnTo>
                      <a:pt x="235" y="610"/>
                    </a:lnTo>
                    <a:lnTo>
                      <a:pt x="273" y="605"/>
                    </a:lnTo>
                    <a:lnTo>
                      <a:pt x="309" y="596"/>
                    </a:lnTo>
                    <a:lnTo>
                      <a:pt x="344" y="588"/>
                    </a:lnTo>
                    <a:lnTo>
                      <a:pt x="361" y="582"/>
                    </a:lnTo>
                    <a:lnTo>
                      <a:pt x="377" y="577"/>
                    </a:lnTo>
                    <a:lnTo>
                      <a:pt x="393" y="571"/>
                    </a:lnTo>
                    <a:lnTo>
                      <a:pt x="408" y="564"/>
                    </a:lnTo>
                    <a:lnTo>
                      <a:pt x="422" y="558"/>
                    </a:lnTo>
                    <a:lnTo>
                      <a:pt x="437" y="551"/>
                    </a:lnTo>
                    <a:lnTo>
                      <a:pt x="451" y="543"/>
                    </a:lnTo>
                    <a:lnTo>
                      <a:pt x="465" y="535"/>
                    </a:lnTo>
                    <a:lnTo>
                      <a:pt x="480" y="550"/>
                    </a:lnTo>
                    <a:lnTo>
                      <a:pt x="495" y="563"/>
                    </a:lnTo>
                    <a:lnTo>
                      <a:pt x="512" y="576"/>
                    </a:lnTo>
                    <a:lnTo>
                      <a:pt x="529" y="588"/>
                    </a:lnTo>
                    <a:lnTo>
                      <a:pt x="547" y="598"/>
                    </a:lnTo>
                    <a:lnTo>
                      <a:pt x="565" y="608"/>
                    </a:lnTo>
                    <a:lnTo>
                      <a:pt x="584" y="617"/>
                    </a:lnTo>
                    <a:lnTo>
                      <a:pt x="605" y="625"/>
                    </a:lnTo>
                    <a:lnTo>
                      <a:pt x="576" y="648"/>
                    </a:lnTo>
                    <a:lnTo>
                      <a:pt x="547" y="670"/>
                    </a:lnTo>
                    <a:lnTo>
                      <a:pt x="520" y="694"/>
                    </a:lnTo>
                    <a:lnTo>
                      <a:pt x="493" y="717"/>
                    </a:lnTo>
                    <a:lnTo>
                      <a:pt x="467" y="741"/>
                    </a:lnTo>
                    <a:lnTo>
                      <a:pt x="440" y="766"/>
                    </a:lnTo>
                    <a:lnTo>
                      <a:pt x="415" y="790"/>
                    </a:lnTo>
                    <a:lnTo>
                      <a:pt x="390" y="816"/>
                    </a:lnTo>
                    <a:lnTo>
                      <a:pt x="413" y="827"/>
                    </a:lnTo>
                    <a:lnTo>
                      <a:pt x="434" y="840"/>
                    </a:lnTo>
                    <a:lnTo>
                      <a:pt x="453" y="853"/>
                    </a:lnTo>
                    <a:lnTo>
                      <a:pt x="469" y="865"/>
                    </a:lnTo>
                    <a:lnTo>
                      <a:pt x="471" y="870"/>
                    </a:lnTo>
                    <a:lnTo>
                      <a:pt x="472" y="876"/>
                    </a:lnTo>
                    <a:lnTo>
                      <a:pt x="472" y="884"/>
                    </a:lnTo>
                    <a:lnTo>
                      <a:pt x="472" y="895"/>
                    </a:lnTo>
                    <a:lnTo>
                      <a:pt x="470" y="908"/>
                    </a:lnTo>
                    <a:lnTo>
                      <a:pt x="468" y="922"/>
                    </a:lnTo>
                    <a:lnTo>
                      <a:pt x="464" y="937"/>
                    </a:lnTo>
                    <a:lnTo>
                      <a:pt x="459" y="955"/>
                    </a:lnTo>
                    <a:lnTo>
                      <a:pt x="457" y="961"/>
                    </a:lnTo>
                    <a:lnTo>
                      <a:pt x="455" y="965"/>
                    </a:lnTo>
                    <a:lnTo>
                      <a:pt x="452" y="968"/>
                    </a:lnTo>
                    <a:lnTo>
                      <a:pt x="448" y="970"/>
                    </a:lnTo>
                    <a:lnTo>
                      <a:pt x="444" y="971"/>
                    </a:lnTo>
                    <a:lnTo>
                      <a:pt x="438" y="970"/>
                    </a:lnTo>
                    <a:lnTo>
                      <a:pt x="432" y="968"/>
                    </a:lnTo>
                    <a:lnTo>
                      <a:pt x="424" y="965"/>
                    </a:lnTo>
                    <a:lnTo>
                      <a:pt x="405" y="946"/>
                    </a:lnTo>
                    <a:lnTo>
                      <a:pt x="387" y="926"/>
                    </a:lnTo>
                    <a:lnTo>
                      <a:pt x="368" y="905"/>
                    </a:lnTo>
                    <a:lnTo>
                      <a:pt x="350" y="881"/>
                    </a:lnTo>
                    <a:lnTo>
                      <a:pt x="332" y="858"/>
                    </a:lnTo>
                    <a:lnTo>
                      <a:pt x="314" y="833"/>
                    </a:lnTo>
                    <a:lnTo>
                      <a:pt x="296" y="807"/>
                    </a:lnTo>
                    <a:lnTo>
                      <a:pt x="279" y="781"/>
                    </a:lnTo>
                    <a:lnTo>
                      <a:pt x="275" y="773"/>
                    </a:lnTo>
                    <a:lnTo>
                      <a:pt x="273" y="768"/>
                    </a:lnTo>
                    <a:lnTo>
                      <a:pt x="273" y="764"/>
                    </a:lnTo>
                    <a:lnTo>
                      <a:pt x="274" y="760"/>
                    </a:lnTo>
                    <a:lnTo>
                      <a:pt x="277" y="758"/>
                    </a:lnTo>
                    <a:lnTo>
                      <a:pt x="281" y="757"/>
                    </a:lnTo>
                    <a:lnTo>
                      <a:pt x="288" y="758"/>
                    </a:lnTo>
                    <a:lnTo>
                      <a:pt x="294" y="760"/>
                    </a:lnTo>
                    <a:close/>
                    <a:moveTo>
                      <a:pt x="900" y="800"/>
                    </a:moveTo>
                    <a:lnTo>
                      <a:pt x="936" y="816"/>
                    </a:lnTo>
                    <a:lnTo>
                      <a:pt x="970" y="830"/>
                    </a:lnTo>
                    <a:lnTo>
                      <a:pt x="1003" y="845"/>
                    </a:lnTo>
                    <a:lnTo>
                      <a:pt x="1034" y="860"/>
                    </a:lnTo>
                    <a:lnTo>
                      <a:pt x="1061" y="875"/>
                    </a:lnTo>
                    <a:lnTo>
                      <a:pt x="1088" y="890"/>
                    </a:lnTo>
                    <a:lnTo>
                      <a:pt x="1112" y="906"/>
                    </a:lnTo>
                    <a:lnTo>
                      <a:pt x="1134" y="920"/>
                    </a:lnTo>
                    <a:lnTo>
                      <a:pt x="1138" y="927"/>
                    </a:lnTo>
                    <a:lnTo>
                      <a:pt x="1140" y="935"/>
                    </a:lnTo>
                    <a:lnTo>
                      <a:pt x="1143" y="945"/>
                    </a:lnTo>
                    <a:lnTo>
                      <a:pt x="1144" y="957"/>
                    </a:lnTo>
                    <a:lnTo>
                      <a:pt x="1144" y="969"/>
                    </a:lnTo>
                    <a:lnTo>
                      <a:pt x="1143" y="983"/>
                    </a:lnTo>
                    <a:lnTo>
                      <a:pt x="1142" y="999"/>
                    </a:lnTo>
                    <a:lnTo>
                      <a:pt x="1139" y="1015"/>
                    </a:lnTo>
                    <a:lnTo>
                      <a:pt x="1137" y="1026"/>
                    </a:lnTo>
                    <a:lnTo>
                      <a:pt x="1134" y="1035"/>
                    </a:lnTo>
                    <a:lnTo>
                      <a:pt x="1132" y="1041"/>
                    </a:lnTo>
                    <a:lnTo>
                      <a:pt x="1130" y="1046"/>
                    </a:lnTo>
                    <a:lnTo>
                      <a:pt x="1127" y="1047"/>
                    </a:lnTo>
                    <a:lnTo>
                      <a:pt x="1125" y="1047"/>
                    </a:lnTo>
                    <a:lnTo>
                      <a:pt x="1121" y="1047"/>
                    </a:lnTo>
                    <a:lnTo>
                      <a:pt x="1118" y="1046"/>
                    </a:lnTo>
                    <a:lnTo>
                      <a:pt x="1112" y="1041"/>
                    </a:lnTo>
                    <a:lnTo>
                      <a:pt x="1104" y="1035"/>
                    </a:lnTo>
                    <a:lnTo>
                      <a:pt x="1072" y="1007"/>
                    </a:lnTo>
                    <a:lnTo>
                      <a:pt x="1040" y="981"/>
                    </a:lnTo>
                    <a:lnTo>
                      <a:pt x="1010" y="954"/>
                    </a:lnTo>
                    <a:lnTo>
                      <a:pt x="982" y="928"/>
                    </a:lnTo>
                    <a:lnTo>
                      <a:pt x="955" y="901"/>
                    </a:lnTo>
                    <a:lnTo>
                      <a:pt x="930" y="876"/>
                    </a:lnTo>
                    <a:lnTo>
                      <a:pt x="906" y="851"/>
                    </a:lnTo>
                    <a:lnTo>
                      <a:pt x="884" y="825"/>
                    </a:lnTo>
                    <a:lnTo>
                      <a:pt x="878" y="818"/>
                    </a:lnTo>
                    <a:lnTo>
                      <a:pt x="875" y="811"/>
                    </a:lnTo>
                    <a:lnTo>
                      <a:pt x="874" y="808"/>
                    </a:lnTo>
                    <a:lnTo>
                      <a:pt x="874" y="805"/>
                    </a:lnTo>
                    <a:lnTo>
                      <a:pt x="874" y="803"/>
                    </a:lnTo>
                    <a:lnTo>
                      <a:pt x="875" y="800"/>
                    </a:lnTo>
                    <a:lnTo>
                      <a:pt x="876" y="798"/>
                    </a:lnTo>
                    <a:lnTo>
                      <a:pt x="878" y="796"/>
                    </a:lnTo>
                    <a:lnTo>
                      <a:pt x="880" y="795"/>
                    </a:lnTo>
                    <a:lnTo>
                      <a:pt x="883" y="795"/>
                    </a:lnTo>
                    <a:lnTo>
                      <a:pt x="891" y="796"/>
                    </a:lnTo>
                    <a:lnTo>
                      <a:pt x="900" y="800"/>
                    </a:lnTo>
                    <a:close/>
                    <a:moveTo>
                      <a:pt x="364" y="369"/>
                    </a:moveTo>
                    <a:lnTo>
                      <a:pt x="398" y="378"/>
                    </a:lnTo>
                    <a:lnTo>
                      <a:pt x="428" y="387"/>
                    </a:lnTo>
                    <a:lnTo>
                      <a:pt x="442" y="393"/>
                    </a:lnTo>
                    <a:lnTo>
                      <a:pt x="455" y="398"/>
                    </a:lnTo>
                    <a:lnTo>
                      <a:pt x="468" y="403"/>
                    </a:lnTo>
                    <a:lnTo>
                      <a:pt x="480" y="410"/>
                    </a:lnTo>
                    <a:lnTo>
                      <a:pt x="482" y="416"/>
                    </a:lnTo>
                    <a:lnTo>
                      <a:pt x="483" y="423"/>
                    </a:lnTo>
                    <a:lnTo>
                      <a:pt x="484" y="432"/>
                    </a:lnTo>
                    <a:lnTo>
                      <a:pt x="485" y="441"/>
                    </a:lnTo>
                    <a:lnTo>
                      <a:pt x="483" y="462"/>
                    </a:lnTo>
                    <a:lnTo>
                      <a:pt x="480" y="485"/>
                    </a:lnTo>
                    <a:lnTo>
                      <a:pt x="480" y="491"/>
                    </a:lnTo>
                    <a:lnTo>
                      <a:pt x="478" y="498"/>
                    </a:lnTo>
                    <a:lnTo>
                      <a:pt x="476" y="502"/>
                    </a:lnTo>
                    <a:lnTo>
                      <a:pt x="474" y="505"/>
                    </a:lnTo>
                    <a:lnTo>
                      <a:pt x="470" y="504"/>
                    </a:lnTo>
                    <a:lnTo>
                      <a:pt x="466" y="502"/>
                    </a:lnTo>
                    <a:lnTo>
                      <a:pt x="463" y="500"/>
                    </a:lnTo>
                    <a:lnTo>
                      <a:pt x="459" y="494"/>
                    </a:lnTo>
                    <a:lnTo>
                      <a:pt x="445" y="484"/>
                    </a:lnTo>
                    <a:lnTo>
                      <a:pt x="430" y="472"/>
                    </a:lnTo>
                    <a:lnTo>
                      <a:pt x="416" y="460"/>
                    </a:lnTo>
                    <a:lnTo>
                      <a:pt x="403" y="447"/>
                    </a:lnTo>
                    <a:lnTo>
                      <a:pt x="391" y="435"/>
                    </a:lnTo>
                    <a:lnTo>
                      <a:pt x="378" y="421"/>
                    </a:lnTo>
                    <a:lnTo>
                      <a:pt x="366" y="409"/>
                    </a:lnTo>
                    <a:lnTo>
                      <a:pt x="355" y="395"/>
                    </a:lnTo>
                    <a:lnTo>
                      <a:pt x="350" y="387"/>
                    </a:lnTo>
                    <a:lnTo>
                      <a:pt x="347" y="382"/>
                    </a:lnTo>
                    <a:lnTo>
                      <a:pt x="345" y="378"/>
                    </a:lnTo>
                    <a:lnTo>
                      <a:pt x="344" y="375"/>
                    </a:lnTo>
                    <a:lnTo>
                      <a:pt x="346" y="373"/>
                    </a:lnTo>
                    <a:lnTo>
                      <a:pt x="347" y="370"/>
                    </a:lnTo>
                    <a:lnTo>
                      <a:pt x="349" y="369"/>
                    </a:lnTo>
                    <a:lnTo>
                      <a:pt x="351" y="368"/>
                    </a:lnTo>
                    <a:lnTo>
                      <a:pt x="358" y="368"/>
                    </a:lnTo>
                    <a:lnTo>
                      <a:pt x="364" y="369"/>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212" name="Freeform 15"/>
              <p:cNvSpPr/>
              <p:nvPr/>
            </p:nvSpPr>
            <p:spPr>
              <a:xfrm>
                <a:off x="4482000" y="1201320"/>
                <a:ext cx="189720" cy="161640"/>
              </a:xfrm>
              <a:custGeom>
                <a:avLst/>
                <a:gdLst>
                  <a:gd name="textAreaLeft" fmla="*/ 0 w 189720"/>
                  <a:gd name="textAreaRight" fmla="*/ 190080 w 189720"/>
                  <a:gd name="textAreaTop" fmla="*/ 0 h 161640"/>
                  <a:gd name="textAreaBottom" fmla="*/ 162000 h 161640"/>
                </a:gdLst>
                <a:ahLst/>
                <a:rect l="textAreaLeft" t="textAreaTop" r="textAreaRight" b="textAreaBottom"/>
                <a:pathLst>
                  <a:path w="1196" h="1066">
                    <a:moveTo>
                      <a:pt x="146" y="1066"/>
                    </a:moveTo>
                    <a:lnTo>
                      <a:pt x="137" y="1060"/>
                    </a:lnTo>
                    <a:lnTo>
                      <a:pt x="129" y="1051"/>
                    </a:lnTo>
                    <a:lnTo>
                      <a:pt x="118" y="1040"/>
                    </a:lnTo>
                    <a:lnTo>
                      <a:pt x="105" y="1026"/>
                    </a:lnTo>
                    <a:lnTo>
                      <a:pt x="94" y="1017"/>
                    </a:lnTo>
                    <a:lnTo>
                      <a:pt x="84" y="1010"/>
                    </a:lnTo>
                    <a:lnTo>
                      <a:pt x="77" y="1005"/>
                    </a:lnTo>
                    <a:lnTo>
                      <a:pt x="70" y="1002"/>
                    </a:lnTo>
                    <a:lnTo>
                      <a:pt x="101" y="999"/>
                    </a:lnTo>
                    <a:lnTo>
                      <a:pt x="131" y="998"/>
                    </a:lnTo>
                    <a:lnTo>
                      <a:pt x="160" y="996"/>
                    </a:lnTo>
                    <a:lnTo>
                      <a:pt x="189" y="994"/>
                    </a:lnTo>
                    <a:lnTo>
                      <a:pt x="219" y="991"/>
                    </a:lnTo>
                    <a:lnTo>
                      <a:pt x="248" y="988"/>
                    </a:lnTo>
                    <a:lnTo>
                      <a:pt x="277" y="985"/>
                    </a:lnTo>
                    <a:lnTo>
                      <a:pt x="305" y="981"/>
                    </a:lnTo>
                    <a:lnTo>
                      <a:pt x="305" y="959"/>
                    </a:lnTo>
                    <a:lnTo>
                      <a:pt x="305" y="936"/>
                    </a:lnTo>
                    <a:lnTo>
                      <a:pt x="304" y="914"/>
                    </a:lnTo>
                    <a:lnTo>
                      <a:pt x="303" y="891"/>
                    </a:lnTo>
                    <a:lnTo>
                      <a:pt x="302" y="869"/>
                    </a:lnTo>
                    <a:lnTo>
                      <a:pt x="300" y="846"/>
                    </a:lnTo>
                    <a:lnTo>
                      <a:pt x="298" y="824"/>
                    </a:lnTo>
                    <a:lnTo>
                      <a:pt x="296" y="801"/>
                    </a:lnTo>
                    <a:lnTo>
                      <a:pt x="293" y="777"/>
                    </a:lnTo>
                    <a:lnTo>
                      <a:pt x="290" y="754"/>
                    </a:lnTo>
                    <a:lnTo>
                      <a:pt x="285" y="731"/>
                    </a:lnTo>
                    <a:lnTo>
                      <a:pt x="281" y="711"/>
                    </a:lnTo>
                    <a:lnTo>
                      <a:pt x="276" y="692"/>
                    </a:lnTo>
                    <a:lnTo>
                      <a:pt x="269" y="673"/>
                    </a:lnTo>
                    <a:lnTo>
                      <a:pt x="263" y="656"/>
                    </a:lnTo>
                    <a:lnTo>
                      <a:pt x="256" y="641"/>
                    </a:lnTo>
                    <a:lnTo>
                      <a:pt x="273" y="647"/>
                    </a:lnTo>
                    <a:lnTo>
                      <a:pt x="290" y="652"/>
                    </a:lnTo>
                    <a:lnTo>
                      <a:pt x="307" y="656"/>
                    </a:lnTo>
                    <a:lnTo>
                      <a:pt x="325" y="659"/>
                    </a:lnTo>
                    <a:lnTo>
                      <a:pt x="343" y="662"/>
                    </a:lnTo>
                    <a:lnTo>
                      <a:pt x="362" y="665"/>
                    </a:lnTo>
                    <a:lnTo>
                      <a:pt x="381" y="666"/>
                    </a:lnTo>
                    <a:lnTo>
                      <a:pt x="401" y="666"/>
                    </a:lnTo>
                    <a:lnTo>
                      <a:pt x="397" y="676"/>
                    </a:lnTo>
                    <a:lnTo>
                      <a:pt x="392" y="689"/>
                    </a:lnTo>
                    <a:lnTo>
                      <a:pt x="388" y="702"/>
                    </a:lnTo>
                    <a:lnTo>
                      <a:pt x="386" y="717"/>
                    </a:lnTo>
                    <a:lnTo>
                      <a:pt x="384" y="731"/>
                    </a:lnTo>
                    <a:lnTo>
                      <a:pt x="382" y="748"/>
                    </a:lnTo>
                    <a:lnTo>
                      <a:pt x="381" y="766"/>
                    </a:lnTo>
                    <a:lnTo>
                      <a:pt x="381" y="786"/>
                    </a:lnTo>
                    <a:lnTo>
                      <a:pt x="381" y="798"/>
                    </a:lnTo>
                    <a:lnTo>
                      <a:pt x="381" y="815"/>
                    </a:lnTo>
                    <a:lnTo>
                      <a:pt x="381" y="836"/>
                    </a:lnTo>
                    <a:lnTo>
                      <a:pt x="381" y="862"/>
                    </a:lnTo>
                    <a:lnTo>
                      <a:pt x="383" y="897"/>
                    </a:lnTo>
                    <a:lnTo>
                      <a:pt x="385" y="927"/>
                    </a:lnTo>
                    <a:lnTo>
                      <a:pt x="385" y="954"/>
                    </a:lnTo>
                    <a:lnTo>
                      <a:pt x="386" y="976"/>
                    </a:lnTo>
                    <a:lnTo>
                      <a:pt x="411" y="971"/>
                    </a:lnTo>
                    <a:lnTo>
                      <a:pt x="443" y="967"/>
                    </a:lnTo>
                    <a:lnTo>
                      <a:pt x="481" y="961"/>
                    </a:lnTo>
                    <a:lnTo>
                      <a:pt x="526" y="956"/>
                    </a:lnTo>
                    <a:lnTo>
                      <a:pt x="534" y="956"/>
                    </a:lnTo>
                    <a:lnTo>
                      <a:pt x="541" y="956"/>
                    </a:lnTo>
                    <a:lnTo>
                      <a:pt x="542" y="931"/>
                    </a:lnTo>
                    <a:lnTo>
                      <a:pt x="543" y="902"/>
                    </a:lnTo>
                    <a:lnTo>
                      <a:pt x="544" y="869"/>
                    </a:lnTo>
                    <a:lnTo>
                      <a:pt x="545" y="833"/>
                    </a:lnTo>
                    <a:lnTo>
                      <a:pt x="545" y="794"/>
                    </a:lnTo>
                    <a:lnTo>
                      <a:pt x="546" y="751"/>
                    </a:lnTo>
                    <a:lnTo>
                      <a:pt x="546" y="706"/>
                    </a:lnTo>
                    <a:lnTo>
                      <a:pt x="546" y="656"/>
                    </a:lnTo>
                    <a:lnTo>
                      <a:pt x="544" y="618"/>
                    </a:lnTo>
                    <a:lnTo>
                      <a:pt x="542" y="582"/>
                    </a:lnTo>
                    <a:lnTo>
                      <a:pt x="538" y="549"/>
                    </a:lnTo>
                    <a:lnTo>
                      <a:pt x="534" y="519"/>
                    </a:lnTo>
                    <a:lnTo>
                      <a:pt x="530" y="493"/>
                    </a:lnTo>
                    <a:lnTo>
                      <a:pt x="524" y="470"/>
                    </a:lnTo>
                    <a:lnTo>
                      <a:pt x="517" y="448"/>
                    </a:lnTo>
                    <a:lnTo>
                      <a:pt x="511" y="430"/>
                    </a:lnTo>
                    <a:lnTo>
                      <a:pt x="525" y="436"/>
                    </a:lnTo>
                    <a:lnTo>
                      <a:pt x="541" y="440"/>
                    </a:lnTo>
                    <a:lnTo>
                      <a:pt x="556" y="443"/>
                    </a:lnTo>
                    <a:lnTo>
                      <a:pt x="574" y="446"/>
                    </a:lnTo>
                    <a:lnTo>
                      <a:pt x="594" y="448"/>
                    </a:lnTo>
                    <a:lnTo>
                      <a:pt x="613" y="449"/>
                    </a:lnTo>
                    <a:lnTo>
                      <a:pt x="634" y="451"/>
                    </a:lnTo>
                    <a:lnTo>
                      <a:pt x="656" y="451"/>
                    </a:lnTo>
                    <a:lnTo>
                      <a:pt x="652" y="463"/>
                    </a:lnTo>
                    <a:lnTo>
                      <a:pt x="649" y="477"/>
                    </a:lnTo>
                    <a:lnTo>
                      <a:pt x="645" y="493"/>
                    </a:lnTo>
                    <a:lnTo>
                      <a:pt x="643" y="511"/>
                    </a:lnTo>
                    <a:lnTo>
                      <a:pt x="639" y="552"/>
                    </a:lnTo>
                    <a:lnTo>
                      <a:pt x="636" y="601"/>
                    </a:lnTo>
                    <a:lnTo>
                      <a:pt x="634" y="612"/>
                    </a:lnTo>
                    <a:lnTo>
                      <a:pt x="632" y="622"/>
                    </a:lnTo>
                    <a:lnTo>
                      <a:pt x="631" y="634"/>
                    </a:lnTo>
                    <a:lnTo>
                      <a:pt x="631" y="646"/>
                    </a:lnTo>
                    <a:lnTo>
                      <a:pt x="643" y="644"/>
                    </a:lnTo>
                    <a:lnTo>
                      <a:pt x="660" y="641"/>
                    </a:lnTo>
                    <a:lnTo>
                      <a:pt x="707" y="632"/>
                    </a:lnTo>
                    <a:lnTo>
                      <a:pt x="747" y="622"/>
                    </a:lnTo>
                    <a:lnTo>
                      <a:pt x="780" y="614"/>
                    </a:lnTo>
                    <a:lnTo>
                      <a:pt x="805" y="606"/>
                    </a:lnTo>
                    <a:lnTo>
                      <a:pt x="816" y="614"/>
                    </a:lnTo>
                    <a:lnTo>
                      <a:pt x="824" y="622"/>
                    </a:lnTo>
                    <a:lnTo>
                      <a:pt x="834" y="632"/>
                    </a:lnTo>
                    <a:lnTo>
                      <a:pt x="842" y="641"/>
                    </a:lnTo>
                    <a:lnTo>
                      <a:pt x="850" y="651"/>
                    </a:lnTo>
                    <a:lnTo>
                      <a:pt x="857" y="662"/>
                    </a:lnTo>
                    <a:lnTo>
                      <a:pt x="865" y="674"/>
                    </a:lnTo>
                    <a:lnTo>
                      <a:pt x="871" y="686"/>
                    </a:lnTo>
                    <a:lnTo>
                      <a:pt x="846" y="689"/>
                    </a:lnTo>
                    <a:lnTo>
                      <a:pt x="815" y="692"/>
                    </a:lnTo>
                    <a:lnTo>
                      <a:pt x="778" y="696"/>
                    </a:lnTo>
                    <a:lnTo>
                      <a:pt x="735" y="701"/>
                    </a:lnTo>
                    <a:lnTo>
                      <a:pt x="705" y="704"/>
                    </a:lnTo>
                    <a:lnTo>
                      <a:pt x="677" y="706"/>
                    </a:lnTo>
                    <a:lnTo>
                      <a:pt x="653" y="708"/>
                    </a:lnTo>
                    <a:lnTo>
                      <a:pt x="631" y="711"/>
                    </a:lnTo>
                    <a:lnTo>
                      <a:pt x="630" y="743"/>
                    </a:lnTo>
                    <a:lnTo>
                      <a:pt x="629" y="775"/>
                    </a:lnTo>
                    <a:lnTo>
                      <a:pt x="627" y="806"/>
                    </a:lnTo>
                    <a:lnTo>
                      <a:pt x="627" y="835"/>
                    </a:lnTo>
                    <a:lnTo>
                      <a:pt x="626" y="864"/>
                    </a:lnTo>
                    <a:lnTo>
                      <a:pt x="626" y="892"/>
                    </a:lnTo>
                    <a:lnTo>
                      <a:pt x="625" y="920"/>
                    </a:lnTo>
                    <a:lnTo>
                      <a:pt x="625" y="946"/>
                    </a:lnTo>
                    <a:lnTo>
                      <a:pt x="640" y="943"/>
                    </a:lnTo>
                    <a:lnTo>
                      <a:pt x="658" y="941"/>
                    </a:lnTo>
                    <a:lnTo>
                      <a:pt x="680" y="939"/>
                    </a:lnTo>
                    <a:lnTo>
                      <a:pt x="706" y="936"/>
                    </a:lnTo>
                    <a:lnTo>
                      <a:pt x="744" y="933"/>
                    </a:lnTo>
                    <a:lnTo>
                      <a:pt x="780" y="930"/>
                    </a:lnTo>
                    <a:lnTo>
                      <a:pt x="814" y="926"/>
                    </a:lnTo>
                    <a:lnTo>
                      <a:pt x="846" y="923"/>
                    </a:lnTo>
                    <a:lnTo>
                      <a:pt x="876" y="921"/>
                    </a:lnTo>
                    <a:lnTo>
                      <a:pt x="905" y="919"/>
                    </a:lnTo>
                    <a:lnTo>
                      <a:pt x="931" y="918"/>
                    </a:lnTo>
                    <a:lnTo>
                      <a:pt x="956" y="916"/>
                    </a:lnTo>
                    <a:lnTo>
                      <a:pt x="962" y="916"/>
                    </a:lnTo>
                    <a:lnTo>
                      <a:pt x="967" y="916"/>
                    </a:lnTo>
                    <a:lnTo>
                      <a:pt x="973" y="916"/>
                    </a:lnTo>
                    <a:lnTo>
                      <a:pt x="978" y="918"/>
                    </a:lnTo>
                    <a:lnTo>
                      <a:pt x="983" y="920"/>
                    </a:lnTo>
                    <a:lnTo>
                      <a:pt x="988" y="923"/>
                    </a:lnTo>
                    <a:lnTo>
                      <a:pt x="992" y="926"/>
                    </a:lnTo>
                    <a:lnTo>
                      <a:pt x="996" y="932"/>
                    </a:lnTo>
                    <a:lnTo>
                      <a:pt x="999" y="935"/>
                    </a:lnTo>
                    <a:lnTo>
                      <a:pt x="1005" y="942"/>
                    </a:lnTo>
                    <a:lnTo>
                      <a:pt x="1012" y="953"/>
                    </a:lnTo>
                    <a:lnTo>
                      <a:pt x="1020" y="967"/>
                    </a:lnTo>
                    <a:lnTo>
                      <a:pt x="1033" y="984"/>
                    </a:lnTo>
                    <a:lnTo>
                      <a:pt x="1041" y="996"/>
                    </a:lnTo>
                    <a:lnTo>
                      <a:pt x="1045" y="998"/>
                    </a:lnTo>
                    <a:lnTo>
                      <a:pt x="1047" y="1001"/>
                    </a:lnTo>
                    <a:lnTo>
                      <a:pt x="1048" y="1001"/>
                    </a:lnTo>
                    <a:lnTo>
                      <a:pt x="1046" y="1002"/>
                    </a:lnTo>
                    <a:lnTo>
                      <a:pt x="1043" y="1004"/>
                    </a:lnTo>
                    <a:lnTo>
                      <a:pt x="1037" y="1005"/>
                    </a:lnTo>
                    <a:lnTo>
                      <a:pt x="1030" y="1006"/>
                    </a:lnTo>
                    <a:lnTo>
                      <a:pt x="1020" y="1006"/>
                    </a:lnTo>
                    <a:lnTo>
                      <a:pt x="971" y="1005"/>
                    </a:lnTo>
                    <a:lnTo>
                      <a:pt x="920" y="1005"/>
                    </a:lnTo>
                    <a:lnTo>
                      <a:pt x="868" y="1005"/>
                    </a:lnTo>
                    <a:lnTo>
                      <a:pt x="816" y="1006"/>
                    </a:lnTo>
                    <a:lnTo>
                      <a:pt x="763" y="1008"/>
                    </a:lnTo>
                    <a:lnTo>
                      <a:pt x="710" y="1010"/>
                    </a:lnTo>
                    <a:lnTo>
                      <a:pt x="656" y="1013"/>
                    </a:lnTo>
                    <a:lnTo>
                      <a:pt x="602" y="1016"/>
                    </a:lnTo>
                    <a:lnTo>
                      <a:pt x="547" y="1021"/>
                    </a:lnTo>
                    <a:lnTo>
                      <a:pt x="492" y="1025"/>
                    </a:lnTo>
                    <a:lnTo>
                      <a:pt x="436" y="1030"/>
                    </a:lnTo>
                    <a:lnTo>
                      <a:pt x="379" y="1037"/>
                    </a:lnTo>
                    <a:lnTo>
                      <a:pt x="321" y="1043"/>
                    </a:lnTo>
                    <a:lnTo>
                      <a:pt x="263" y="1050"/>
                    </a:lnTo>
                    <a:lnTo>
                      <a:pt x="205" y="1058"/>
                    </a:lnTo>
                    <a:lnTo>
                      <a:pt x="146" y="1066"/>
                    </a:lnTo>
                    <a:close/>
                    <a:moveTo>
                      <a:pt x="500" y="0"/>
                    </a:moveTo>
                    <a:lnTo>
                      <a:pt x="515" y="11"/>
                    </a:lnTo>
                    <a:lnTo>
                      <a:pt x="530" y="21"/>
                    </a:lnTo>
                    <a:lnTo>
                      <a:pt x="545" y="30"/>
                    </a:lnTo>
                    <a:lnTo>
                      <a:pt x="560" y="38"/>
                    </a:lnTo>
                    <a:lnTo>
                      <a:pt x="573" y="45"/>
                    </a:lnTo>
                    <a:lnTo>
                      <a:pt x="588" y="51"/>
                    </a:lnTo>
                    <a:lnTo>
                      <a:pt x="602" y="56"/>
                    </a:lnTo>
                    <a:lnTo>
                      <a:pt x="616" y="61"/>
                    </a:lnTo>
                    <a:lnTo>
                      <a:pt x="597" y="81"/>
                    </a:lnTo>
                    <a:lnTo>
                      <a:pt x="581" y="101"/>
                    </a:lnTo>
                    <a:lnTo>
                      <a:pt x="567" y="121"/>
                    </a:lnTo>
                    <a:lnTo>
                      <a:pt x="555" y="141"/>
                    </a:lnTo>
                    <a:lnTo>
                      <a:pt x="583" y="161"/>
                    </a:lnTo>
                    <a:lnTo>
                      <a:pt x="616" y="188"/>
                    </a:lnTo>
                    <a:lnTo>
                      <a:pt x="653" y="222"/>
                    </a:lnTo>
                    <a:lnTo>
                      <a:pt x="696" y="261"/>
                    </a:lnTo>
                    <a:lnTo>
                      <a:pt x="734" y="297"/>
                    </a:lnTo>
                    <a:lnTo>
                      <a:pt x="771" y="329"/>
                    </a:lnTo>
                    <a:lnTo>
                      <a:pt x="805" y="357"/>
                    </a:lnTo>
                    <a:lnTo>
                      <a:pt x="837" y="382"/>
                    </a:lnTo>
                    <a:lnTo>
                      <a:pt x="867" y="403"/>
                    </a:lnTo>
                    <a:lnTo>
                      <a:pt x="893" y="421"/>
                    </a:lnTo>
                    <a:lnTo>
                      <a:pt x="906" y="428"/>
                    </a:lnTo>
                    <a:lnTo>
                      <a:pt x="919" y="436"/>
                    </a:lnTo>
                    <a:lnTo>
                      <a:pt x="930" y="441"/>
                    </a:lnTo>
                    <a:lnTo>
                      <a:pt x="941" y="445"/>
                    </a:lnTo>
                    <a:lnTo>
                      <a:pt x="973" y="458"/>
                    </a:lnTo>
                    <a:lnTo>
                      <a:pt x="1003" y="472"/>
                    </a:lnTo>
                    <a:lnTo>
                      <a:pt x="1033" y="484"/>
                    </a:lnTo>
                    <a:lnTo>
                      <a:pt x="1061" y="498"/>
                    </a:lnTo>
                    <a:lnTo>
                      <a:pt x="1088" y="512"/>
                    </a:lnTo>
                    <a:lnTo>
                      <a:pt x="1114" y="527"/>
                    </a:lnTo>
                    <a:lnTo>
                      <a:pt x="1138" y="541"/>
                    </a:lnTo>
                    <a:lnTo>
                      <a:pt x="1161" y="555"/>
                    </a:lnTo>
                    <a:lnTo>
                      <a:pt x="1176" y="566"/>
                    </a:lnTo>
                    <a:lnTo>
                      <a:pt x="1187" y="575"/>
                    </a:lnTo>
                    <a:lnTo>
                      <a:pt x="1191" y="579"/>
                    </a:lnTo>
                    <a:lnTo>
                      <a:pt x="1194" y="583"/>
                    </a:lnTo>
                    <a:lnTo>
                      <a:pt x="1195" y="587"/>
                    </a:lnTo>
                    <a:lnTo>
                      <a:pt x="1196" y="590"/>
                    </a:lnTo>
                    <a:lnTo>
                      <a:pt x="1195" y="595"/>
                    </a:lnTo>
                    <a:lnTo>
                      <a:pt x="1193" y="598"/>
                    </a:lnTo>
                    <a:lnTo>
                      <a:pt x="1190" y="600"/>
                    </a:lnTo>
                    <a:lnTo>
                      <a:pt x="1186" y="602"/>
                    </a:lnTo>
                    <a:lnTo>
                      <a:pt x="1180" y="604"/>
                    </a:lnTo>
                    <a:lnTo>
                      <a:pt x="1174" y="605"/>
                    </a:lnTo>
                    <a:lnTo>
                      <a:pt x="1166" y="605"/>
                    </a:lnTo>
                    <a:lnTo>
                      <a:pt x="1156" y="606"/>
                    </a:lnTo>
                    <a:lnTo>
                      <a:pt x="1108" y="605"/>
                    </a:lnTo>
                    <a:lnTo>
                      <a:pt x="1066" y="604"/>
                    </a:lnTo>
                    <a:lnTo>
                      <a:pt x="1029" y="602"/>
                    </a:lnTo>
                    <a:lnTo>
                      <a:pt x="997" y="599"/>
                    </a:lnTo>
                    <a:lnTo>
                      <a:pt x="971" y="595"/>
                    </a:lnTo>
                    <a:lnTo>
                      <a:pt x="948" y="589"/>
                    </a:lnTo>
                    <a:lnTo>
                      <a:pt x="940" y="586"/>
                    </a:lnTo>
                    <a:lnTo>
                      <a:pt x="932" y="583"/>
                    </a:lnTo>
                    <a:lnTo>
                      <a:pt x="926" y="580"/>
                    </a:lnTo>
                    <a:lnTo>
                      <a:pt x="921" y="576"/>
                    </a:lnTo>
                    <a:lnTo>
                      <a:pt x="903" y="563"/>
                    </a:lnTo>
                    <a:lnTo>
                      <a:pt x="882" y="545"/>
                    </a:lnTo>
                    <a:lnTo>
                      <a:pt x="856" y="522"/>
                    </a:lnTo>
                    <a:lnTo>
                      <a:pt x="829" y="495"/>
                    </a:lnTo>
                    <a:lnTo>
                      <a:pt x="797" y="463"/>
                    </a:lnTo>
                    <a:lnTo>
                      <a:pt x="761" y="427"/>
                    </a:lnTo>
                    <a:lnTo>
                      <a:pt x="723" y="386"/>
                    </a:lnTo>
                    <a:lnTo>
                      <a:pt x="680" y="340"/>
                    </a:lnTo>
                    <a:lnTo>
                      <a:pt x="633" y="288"/>
                    </a:lnTo>
                    <a:lnTo>
                      <a:pt x="592" y="246"/>
                    </a:lnTo>
                    <a:lnTo>
                      <a:pt x="560" y="213"/>
                    </a:lnTo>
                    <a:lnTo>
                      <a:pt x="536" y="191"/>
                    </a:lnTo>
                    <a:lnTo>
                      <a:pt x="518" y="223"/>
                    </a:lnTo>
                    <a:lnTo>
                      <a:pt x="501" y="254"/>
                    </a:lnTo>
                    <a:lnTo>
                      <a:pt x="484" y="284"/>
                    </a:lnTo>
                    <a:lnTo>
                      <a:pt x="466" y="314"/>
                    </a:lnTo>
                    <a:lnTo>
                      <a:pt x="448" y="343"/>
                    </a:lnTo>
                    <a:lnTo>
                      <a:pt x="429" y="371"/>
                    </a:lnTo>
                    <a:lnTo>
                      <a:pt x="411" y="399"/>
                    </a:lnTo>
                    <a:lnTo>
                      <a:pt x="392" y="425"/>
                    </a:lnTo>
                    <a:lnTo>
                      <a:pt x="373" y="451"/>
                    </a:lnTo>
                    <a:lnTo>
                      <a:pt x="353" y="475"/>
                    </a:lnTo>
                    <a:lnTo>
                      <a:pt x="334" y="498"/>
                    </a:lnTo>
                    <a:lnTo>
                      <a:pt x="314" y="522"/>
                    </a:lnTo>
                    <a:lnTo>
                      <a:pt x="293" y="544"/>
                    </a:lnTo>
                    <a:lnTo>
                      <a:pt x="273" y="565"/>
                    </a:lnTo>
                    <a:lnTo>
                      <a:pt x="251" y="586"/>
                    </a:lnTo>
                    <a:lnTo>
                      <a:pt x="230" y="606"/>
                    </a:lnTo>
                    <a:lnTo>
                      <a:pt x="218" y="617"/>
                    </a:lnTo>
                    <a:lnTo>
                      <a:pt x="205" y="626"/>
                    </a:lnTo>
                    <a:lnTo>
                      <a:pt x="192" y="635"/>
                    </a:lnTo>
                    <a:lnTo>
                      <a:pt x="178" y="642"/>
                    </a:lnTo>
                    <a:lnTo>
                      <a:pt x="166" y="648"/>
                    </a:lnTo>
                    <a:lnTo>
                      <a:pt x="152" y="653"/>
                    </a:lnTo>
                    <a:lnTo>
                      <a:pt x="137" y="657"/>
                    </a:lnTo>
                    <a:lnTo>
                      <a:pt x="123" y="659"/>
                    </a:lnTo>
                    <a:lnTo>
                      <a:pt x="108" y="661"/>
                    </a:lnTo>
                    <a:lnTo>
                      <a:pt x="94" y="661"/>
                    </a:lnTo>
                    <a:lnTo>
                      <a:pt x="79" y="661"/>
                    </a:lnTo>
                    <a:lnTo>
                      <a:pt x="64" y="659"/>
                    </a:lnTo>
                    <a:lnTo>
                      <a:pt x="48" y="656"/>
                    </a:lnTo>
                    <a:lnTo>
                      <a:pt x="32" y="652"/>
                    </a:lnTo>
                    <a:lnTo>
                      <a:pt x="16" y="648"/>
                    </a:lnTo>
                    <a:lnTo>
                      <a:pt x="0" y="641"/>
                    </a:lnTo>
                    <a:lnTo>
                      <a:pt x="33" y="624"/>
                    </a:lnTo>
                    <a:lnTo>
                      <a:pt x="65" y="605"/>
                    </a:lnTo>
                    <a:lnTo>
                      <a:pt x="97" y="586"/>
                    </a:lnTo>
                    <a:lnTo>
                      <a:pt x="128" y="565"/>
                    </a:lnTo>
                    <a:lnTo>
                      <a:pt x="157" y="542"/>
                    </a:lnTo>
                    <a:lnTo>
                      <a:pt x="187" y="518"/>
                    </a:lnTo>
                    <a:lnTo>
                      <a:pt x="215" y="493"/>
                    </a:lnTo>
                    <a:lnTo>
                      <a:pt x="243" y="465"/>
                    </a:lnTo>
                    <a:lnTo>
                      <a:pt x="270" y="438"/>
                    </a:lnTo>
                    <a:lnTo>
                      <a:pt x="297" y="408"/>
                    </a:lnTo>
                    <a:lnTo>
                      <a:pt x="322" y="377"/>
                    </a:lnTo>
                    <a:lnTo>
                      <a:pt x="348" y="345"/>
                    </a:lnTo>
                    <a:lnTo>
                      <a:pt x="372" y="311"/>
                    </a:lnTo>
                    <a:lnTo>
                      <a:pt x="395" y="276"/>
                    </a:lnTo>
                    <a:lnTo>
                      <a:pt x="419" y="239"/>
                    </a:lnTo>
                    <a:lnTo>
                      <a:pt x="441" y="200"/>
                    </a:lnTo>
                    <a:lnTo>
                      <a:pt x="455" y="171"/>
                    </a:lnTo>
                    <a:lnTo>
                      <a:pt x="466" y="143"/>
                    </a:lnTo>
                    <a:lnTo>
                      <a:pt x="477" y="116"/>
                    </a:lnTo>
                    <a:lnTo>
                      <a:pt x="486" y="90"/>
                    </a:lnTo>
                    <a:lnTo>
                      <a:pt x="492" y="66"/>
                    </a:lnTo>
                    <a:lnTo>
                      <a:pt x="497" y="43"/>
                    </a:lnTo>
                    <a:lnTo>
                      <a:pt x="499" y="21"/>
                    </a:lnTo>
                    <a:lnTo>
                      <a:pt x="500" y="0"/>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213" name="Freeform 16"/>
              <p:cNvSpPr/>
              <p:nvPr/>
            </p:nvSpPr>
            <p:spPr>
              <a:xfrm>
                <a:off x="4681080" y="1209960"/>
                <a:ext cx="176400" cy="143640"/>
              </a:xfrm>
              <a:custGeom>
                <a:avLst/>
                <a:gdLst>
                  <a:gd name="textAreaLeft" fmla="*/ 0 w 176400"/>
                  <a:gd name="textAreaRight" fmla="*/ 176760 w 176400"/>
                  <a:gd name="textAreaTop" fmla="*/ 0 h 143640"/>
                  <a:gd name="textAreaBottom" fmla="*/ 144000 h 143640"/>
                </a:gdLst>
                <a:ahLst/>
                <a:rect l="textAreaLeft" t="textAreaTop" r="textAreaRight" b="textAreaBottom"/>
                <a:pathLst>
                  <a:path w="1104" h="947">
                    <a:moveTo>
                      <a:pt x="708" y="35"/>
                    </a:moveTo>
                    <a:lnTo>
                      <a:pt x="701" y="55"/>
                    </a:lnTo>
                    <a:lnTo>
                      <a:pt x="696" y="79"/>
                    </a:lnTo>
                    <a:lnTo>
                      <a:pt x="691" y="104"/>
                    </a:lnTo>
                    <a:lnTo>
                      <a:pt x="688" y="133"/>
                    </a:lnTo>
                    <a:lnTo>
                      <a:pt x="683" y="165"/>
                    </a:lnTo>
                    <a:lnTo>
                      <a:pt x="681" y="198"/>
                    </a:lnTo>
                    <a:lnTo>
                      <a:pt x="679" y="236"/>
                    </a:lnTo>
                    <a:lnTo>
                      <a:pt x="677" y="276"/>
                    </a:lnTo>
                    <a:lnTo>
                      <a:pt x="677" y="313"/>
                    </a:lnTo>
                    <a:lnTo>
                      <a:pt x="677" y="349"/>
                    </a:lnTo>
                    <a:lnTo>
                      <a:pt x="677" y="385"/>
                    </a:lnTo>
                    <a:lnTo>
                      <a:pt x="677" y="420"/>
                    </a:lnTo>
                    <a:lnTo>
                      <a:pt x="677" y="454"/>
                    </a:lnTo>
                    <a:lnTo>
                      <a:pt x="677" y="487"/>
                    </a:lnTo>
                    <a:lnTo>
                      <a:pt x="677" y="520"/>
                    </a:lnTo>
                    <a:lnTo>
                      <a:pt x="677" y="551"/>
                    </a:lnTo>
                    <a:lnTo>
                      <a:pt x="695" y="531"/>
                    </a:lnTo>
                    <a:lnTo>
                      <a:pt x="713" y="511"/>
                    </a:lnTo>
                    <a:lnTo>
                      <a:pt x="729" y="492"/>
                    </a:lnTo>
                    <a:lnTo>
                      <a:pt x="745" y="472"/>
                    </a:lnTo>
                    <a:lnTo>
                      <a:pt x="760" y="453"/>
                    </a:lnTo>
                    <a:lnTo>
                      <a:pt x="773" y="435"/>
                    </a:lnTo>
                    <a:lnTo>
                      <a:pt x="786" y="416"/>
                    </a:lnTo>
                    <a:lnTo>
                      <a:pt x="799" y="397"/>
                    </a:lnTo>
                    <a:lnTo>
                      <a:pt x="809" y="379"/>
                    </a:lnTo>
                    <a:lnTo>
                      <a:pt x="820" y="361"/>
                    </a:lnTo>
                    <a:lnTo>
                      <a:pt x="830" y="343"/>
                    </a:lnTo>
                    <a:lnTo>
                      <a:pt x="838" y="325"/>
                    </a:lnTo>
                    <a:lnTo>
                      <a:pt x="845" y="308"/>
                    </a:lnTo>
                    <a:lnTo>
                      <a:pt x="852" y="290"/>
                    </a:lnTo>
                    <a:lnTo>
                      <a:pt x="857" y="273"/>
                    </a:lnTo>
                    <a:lnTo>
                      <a:pt x="862" y="256"/>
                    </a:lnTo>
                    <a:lnTo>
                      <a:pt x="875" y="268"/>
                    </a:lnTo>
                    <a:lnTo>
                      <a:pt x="892" y="285"/>
                    </a:lnTo>
                    <a:lnTo>
                      <a:pt x="905" y="301"/>
                    </a:lnTo>
                    <a:lnTo>
                      <a:pt x="916" y="315"/>
                    </a:lnTo>
                    <a:lnTo>
                      <a:pt x="929" y="328"/>
                    </a:lnTo>
                    <a:lnTo>
                      <a:pt x="941" y="339"/>
                    </a:lnTo>
                    <a:lnTo>
                      <a:pt x="952" y="349"/>
                    </a:lnTo>
                    <a:lnTo>
                      <a:pt x="964" y="358"/>
                    </a:lnTo>
                    <a:lnTo>
                      <a:pt x="976" y="365"/>
                    </a:lnTo>
                    <a:lnTo>
                      <a:pt x="987" y="371"/>
                    </a:lnTo>
                    <a:lnTo>
                      <a:pt x="975" y="376"/>
                    </a:lnTo>
                    <a:lnTo>
                      <a:pt x="962" y="383"/>
                    </a:lnTo>
                    <a:lnTo>
                      <a:pt x="949" y="390"/>
                    </a:lnTo>
                    <a:lnTo>
                      <a:pt x="937" y="400"/>
                    </a:lnTo>
                    <a:lnTo>
                      <a:pt x="923" y="409"/>
                    </a:lnTo>
                    <a:lnTo>
                      <a:pt x="909" y="421"/>
                    </a:lnTo>
                    <a:lnTo>
                      <a:pt x="896" y="433"/>
                    </a:lnTo>
                    <a:lnTo>
                      <a:pt x="882" y="445"/>
                    </a:lnTo>
                    <a:lnTo>
                      <a:pt x="858" y="468"/>
                    </a:lnTo>
                    <a:lnTo>
                      <a:pt x="834" y="490"/>
                    </a:lnTo>
                    <a:lnTo>
                      <a:pt x="808" y="511"/>
                    </a:lnTo>
                    <a:lnTo>
                      <a:pt x="783" y="531"/>
                    </a:lnTo>
                    <a:lnTo>
                      <a:pt x="758" y="550"/>
                    </a:lnTo>
                    <a:lnTo>
                      <a:pt x="731" y="569"/>
                    </a:lnTo>
                    <a:lnTo>
                      <a:pt x="705" y="588"/>
                    </a:lnTo>
                    <a:lnTo>
                      <a:pt x="677" y="606"/>
                    </a:lnTo>
                    <a:lnTo>
                      <a:pt x="677" y="807"/>
                    </a:lnTo>
                    <a:lnTo>
                      <a:pt x="702" y="804"/>
                    </a:lnTo>
                    <a:lnTo>
                      <a:pt x="733" y="800"/>
                    </a:lnTo>
                    <a:lnTo>
                      <a:pt x="770" y="796"/>
                    </a:lnTo>
                    <a:lnTo>
                      <a:pt x="813" y="791"/>
                    </a:lnTo>
                    <a:lnTo>
                      <a:pt x="845" y="788"/>
                    </a:lnTo>
                    <a:lnTo>
                      <a:pt x="876" y="784"/>
                    </a:lnTo>
                    <a:lnTo>
                      <a:pt x="905" y="781"/>
                    </a:lnTo>
                    <a:lnTo>
                      <a:pt x="931" y="779"/>
                    </a:lnTo>
                    <a:lnTo>
                      <a:pt x="956" y="776"/>
                    </a:lnTo>
                    <a:lnTo>
                      <a:pt x="978" y="774"/>
                    </a:lnTo>
                    <a:lnTo>
                      <a:pt x="999" y="773"/>
                    </a:lnTo>
                    <a:lnTo>
                      <a:pt x="1017" y="771"/>
                    </a:lnTo>
                    <a:lnTo>
                      <a:pt x="1024" y="772"/>
                    </a:lnTo>
                    <a:lnTo>
                      <a:pt x="1032" y="773"/>
                    </a:lnTo>
                    <a:lnTo>
                      <a:pt x="1038" y="774"/>
                    </a:lnTo>
                    <a:lnTo>
                      <a:pt x="1043" y="776"/>
                    </a:lnTo>
                    <a:lnTo>
                      <a:pt x="1049" y="779"/>
                    </a:lnTo>
                    <a:lnTo>
                      <a:pt x="1054" y="782"/>
                    </a:lnTo>
                    <a:lnTo>
                      <a:pt x="1058" y="787"/>
                    </a:lnTo>
                    <a:lnTo>
                      <a:pt x="1063" y="791"/>
                    </a:lnTo>
                    <a:lnTo>
                      <a:pt x="1074" y="811"/>
                    </a:lnTo>
                    <a:lnTo>
                      <a:pt x="1084" y="829"/>
                    </a:lnTo>
                    <a:lnTo>
                      <a:pt x="1091" y="846"/>
                    </a:lnTo>
                    <a:lnTo>
                      <a:pt x="1098" y="861"/>
                    </a:lnTo>
                    <a:lnTo>
                      <a:pt x="1102" y="872"/>
                    </a:lnTo>
                    <a:lnTo>
                      <a:pt x="1104" y="881"/>
                    </a:lnTo>
                    <a:lnTo>
                      <a:pt x="1104" y="887"/>
                    </a:lnTo>
                    <a:lnTo>
                      <a:pt x="1103" y="891"/>
                    </a:lnTo>
                    <a:lnTo>
                      <a:pt x="1101" y="894"/>
                    </a:lnTo>
                    <a:lnTo>
                      <a:pt x="1098" y="895"/>
                    </a:lnTo>
                    <a:lnTo>
                      <a:pt x="1091" y="896"/>
                    </a:lnTo>
                    <a:lnTo>
                      <a:pt x="1083" y="897"/>
                    </a:lnTo>
                    <a:lnTo>
                      <a:pt x="1041" y="891"/>
                    </a:lnTo>
                    <a:lnTo>
                      <a:pt x="997" y="887"/>
                    </a:lnTo>
                    <a:lnTo>
                      <a:pt x="950" y="884"/>
                    </a:lnTo>
                    <a:lnTo>
                      <a:pt x="900" y="883"/>
                    </a:lnTo>
                    <a:lnTo>
                      <a:pt x="849" y="882"/>
                    </a:lnTo>
                    <a:lnTo>
                      <a:pt x="794" y="882"/>
                    </a:lnTo>
                    <a:lnTo>
                      <a:pt x="736" y="884"/>
                    </a:lnTo>
                    <a:lnTo>
                      <a:pt x="676" y="886"/>
                    </a:lnTo>
                    <a:lnTo>
                      <a:pt x="613" y="890"/>
                    </a:lnTo>
                    <a:lnTo>
                      <a:pt x="548" y="895"/>
                    </a:lnTo>
                    <a:lnTo>
                      <a:pt x="479" y="901"/>
                    </a:lnTo>
                    <a:lnTo>
                      <a:pt x="408" y="907"/>
                    </a:lnTo>
                    <a:lnTo>
                      <a:pt x="335" y="916"/>
                    </a:lnTo>
                    <a:lnTo>
                      <a:pt x="258" y="924"/>
                    </a:lnTo>
                    <a:lnTo>
                      <a:pt x="179" y="935"/>
                    </a:lnTo>
                    <a:lnTo>
                      <a:pt x="97" y="947"/>
                    </a:lnTo>
                    <a:lnTo>
                      <a:pt x="90" y="946"/>
                    </a:lnTo>
                    <a:lnTo>
                      <a:pt x="83" y="942"/>
                    </a:lnTo>
                    <a:lnTo>
                      <a:pt x="73" y="938"/>
                    </a:lnTo>
                    <a:lnTo>
                      <a:pt x="64" y="933"/>
                    </a:lnTo>
                    <a:lnTo>
                      <a:pt x="52" y="924"/>
                    </a:lnTo>
                    <a:lnTo>
                      <a:pt x="39" y="915"/>
                    </a:lnTo>
                    <a:lnTo>
                      <a:pt x="27" y="904"/>
                    </a:lnTo>
                    <a:lnTo>
                      <a:pt x="12" y="891"/>
                    </a:lnTo>
                    <a:lnTo>
                      <a:pt x="5" y="884"/>
                    </a:lnTo>
                    <a:lnTo>
                      <a:pt x="2" y="879"/>
                    </a:lnTo>
                    <a:lnTo>
                      <a:pt x="1" y="877"/>
                    </a:lnTo>
                    <a:lnTo>
                      <a:pt x="0" y="875"/>
                    </a:lnTo>
                    <a:lnTo>
                      <a:pt x="1" y="872"/>
                    </a:lnTo>
                    <a:lnTo>
                      <a:pt x="2" y="871"/>
                    </a:lnTo>
                    <a:lnTo>
                      <a:pt x="2" y="870"/>
                    </a:lnTo>
                    <a:lnTo>
                      <a:pt x="3" y="869"/>
                    </a:lnTo>
                    <a:lnTo>
                      <a:pt x="4" y="869"/>
                    </a:lnTo>
                    <a:lnTo>
                      <a:pt x="7" y="869"/>
                    </a:lnTo>
                    <a:lnTo>
                      <a:pt x="13" y="869"/>
                    </a:lnTo>
                    <a:lnTo>
                      <a:pt x="22" y="871"/>
                    </a:lnTo>
                    <a:lnTo>
                      <a:pt x="61" y="868"/>
                    </a:lnTo>
                    <a:lnTo>
                      <a:pt x="101" y="865"/>
                    </a:lnTo>
                    <a:lnTo>
                      <a:pt x="142" y="862"/>
                    </a:lnTo>
                    <a:lnTo>
                      <a:pt x="186" y="859"/>
                    </a:lnTo>
                    <a:lnTo>
                      <a:pt x="231" y="854"/>
                    </a:lnTo>
                    <a:lnTo>
                      <a:pt x="278" y="850"/>
                    </a:lnTo>
                    <a:lnTo>
                      <a:pt x="326" y="846"/>
                    </a:lnTo>
                    <a:lnTo>
                      <a:pt x="377" y="842"/>
                    </a:lnTo>
                    <a:lnTo>
                      <a:pt x="377" y="793"/>
                    </a:lnTo>
                    <a:lnTo>
                      <a:pt x="377" y="747"/>
                    </a:lnTo>
                    <a:lnTo>
                      <a:pt x="377" y="704"/>
                    </a:lnTo>
                    <a:lnTo>
                      <a:pt x="377" y="665"/>
                    </a:lnTo>
                    <a:lnTo>
                      <a:pt x="377" y="628"/>
                    </a:lnTo>
                    <a:lnTo>
                      <a:pt x="377" y="595"/>
                    </a:lnTo>
                    <a:lnTo>
                      <a:pt x="377" y="564"/>
                    </a:lnTo>
                    <a:lnTo>
                      <a:pt x="377" y="535"/>
                    </a:lnTo>
                    <a:lnTo>
                      <a:pt x="377" y="505"/>
                    </a:lnTo>
                    <a:lnTo>
                      <a:pt x="377" y="475"/>
                    </a:lnTo>
                    <a:lnTo>
                      <a:pt x="376" y="445"/>
                    </a:lnTo>
                    <a:lnTo>
                      <a:pt x="376" y="416"/>
                    </a:lnTo>
                    <a:lnTo>
                      <a:pt x="375" y="387"/>
                    </a:lnTo>
                    <a:lnTo>
                      <a:pt x="374" y="359"/>
                    </a:lnTo>
                    <a:lnTo>
                      <a:pt x="373" y="332"/>
                    </a:lnTo>
                    <a:lnTo>
                      <a:pt x="372" y="305"/>
                    </a:lnTo>
                    <a:lnTo>
                      <a:pt x="371" y="273"/>
                    </a:lnTo>
                    <a:lnTo>
                      <a:pt x="368" y="241"/>
                    </a:lnTo>
                    <a:lnTo>
                      <a:pt x="365" y="211"/>
                    </a:lnTo>
                    <a:lnTo>
                      <a:pt x="359" y="184"/>
                    </a:lnTo>
                    <a:lnTo>
                      <a:pt x="354" y="156"/>
                    </a:lnTo>
                    <a:lnTo>
                      <a:pt x="348" y="132"/>
                    </a:lnTo>
                    <a:lnTo>
                      <a:pt x="340" y="107"/>
                    </a:lnTo>
                    <a:lnTo>
                      <a:pt x="332" y="86"/>
                    </a:lnTo>
                    <a:lnTo>
                      <a:pt x="345" y="91"/>
                    </a:lnTo>
                    <a:lnTo>
                      <a:pt x="360" y="97"/>
                    </a:lnTo>
                    <a:lnTo>
                      <a:pt x="376" y="102"/>
                    </a:lnTo>
                    <a:lnTo>
                      <a:pt x="394" y="107"/>
                    </a:lnTo>
                    <a:lnTo>
                      <a:pt x="414" y="112"/>
                    </a:lnTo>
                    <a:lnTo>
                      <a:pt x="436" y="115"/>
                    </a:lnTo>
                    <a:lnTo>
                      <a:pt x="458" y="118"/>
                    </a:lnTo>
                    <a:lnTo>
                      <a:pt x="482" y="121"/>
                    </a:lnTo>
                    <a:lnTo>
                      <a:pt x="476" y="141"/>
                    </a:lnTo>
                    <a:lnTo>
                      <a:pt x="470" y="163"/>
                    </a:lnTo>
                    <a:lnTo>
                      <a:pt x="466" y="190"/>
                    </a:lnTo>
                    <a:lnTo>
                      <a:pt x="462" y="219"/>
                    </a:lnTo>
                    <a:lnTo>
                      <a:pt x="459" y="249"/>
                    </a:lnTo>
                    <a:lnTo>
                      <a:pt x="456" y="284"/>
                    </a:lnTo>
                    <a:lnTo>
                      <a:pt x="454" y="321"/>
                    </a:lnTo>
                    <a:lnTo>
                      <a:pt x="452" y="361"/>
                    </a:lnTo>
                    <a:lnTo>
                      <a:pt x="454" y="382"/>
                    </a:lnTo>
                    <a:lnTo>
                      <a:pt x="455" y="405"/>
                    </a:lnTo>
                    <a:lnTo>
                      <a:pt x="456" y="432"/>
                    </a:lnTo>
                    <a:lnTo>
                      <a:pt x="456" y="459"/>
                    </a:lnTo>
                    <a:lnTo>
                      <a:pt x="457" y="490"/>
                    </a:lnTo>
                    <a:lnTo>
                      <a:pt x="457" y="523"/>
                    </a:lnTo>
                    <a:lnTo>
                      <a:pt x="457" y="559"/>
                    </a:lnTo>
                    <a:lnTo>
                      <a:pt x="457" y="596"/>
                    </a:lnTo>
                    <a:lnTo>
                      <a:pt x="457" y="633"/>
                    </a:lnTo>
                    <a:lnTo>
                      <a:pt x="457" y="667"/>
                    </a:lnTo>
                    <a:lnTo>
                      <a:pt x="457" y="700"/>
                    </a:lnTo>
                    <a:lnTo>
                      <a:pt x="457" y="729"/>
                    </a:lnTo>
                    <a:lnTo>
                      <a:pt x="457" y="758"/>
                    </a:lnTo>
                    <a:lnTo>
                      <a:pt x="457" y="784"/>
                    </a:lnTo>
                    <a:lnTo>
                      <a:pt x="457" y="809"/>
                    </a:lnTo>
                    <a:lnTo>
                      <a:pt x="457" y="831"/>
                    </a:lnTo>
                    <a:lnTo>
                      <a:pt x="491" y="827"/>
                    </a:lnTo>
                    <a:lnTo>
                      <a:pt x="524" y="823"/>
                    </a:lnTo>
                    <a:lnTo>
                      <a:pt x="560" y="819"/>
                    </a:lnTo>
                    <a:lnTo>
                      <a:pt x="598" y="816"/>
                    </a:lnTo>
                    <a:lnTo>
                      <a:pt x="597" y="745"/>
                    </a:lnTo>
                    <a:lnTo>
                      <a:pt x="597" y="674"/>
                    </a:lnTo>
                    <a:lnTo>
                      <a:pt x="595" y="601"/>
                    </a:lnTo>
                    <a:lnTo>
                      <a:pt x="594" y="527"/>
                    </a:lnTo>
                    <a:lnTo>
                      <a:pt x="593" y="453"/>
                    </a:lnTo>
                    <a:lnTo>
                      <a:pt x="591" y="376"/>
                    </a:lnTo>
                    <a:lnTo>
                      <a:pt x="589" y="299"/>
                    </a:lnTo>
                    <a:lnTo>
                      <a:pt x="587" y="221"/>
                    </a:lnTo>
                    <a:lnTo>
                      <a:pt x="588" y="183"/>
                    </a:lnTo>
                    <a:lnTo>
                      <a:pt x="587" y="146"/>
                    </a:lnTo>
                    <a:lnTo>
                      <a:pt x="585" y="115"/>
                    </a:lnTo>
                    <a:lnTo>
                      <a:pt x="582" y="86"/>
                    </a:lnTo>
                    <a:lnTo>
                      <a:pt x="577" y="60"/>
                    </a:lnTo>
                    <a:lnTo>
                      <a:pt x="572" y="36"/>
                    </a:lnTo>
                    <a:lnTo>
                      <a:pt x="569" y="27"/>
                    </a:lnTo>
                    <a:lnTo>
                      <a:pt x="566" y="17"/>
                    </a:lnTo>
                    <a:lnTo>
                      <a:pt x="562" y="9"/>
                    </a:lnTo>
                    <a:lnTo>
                      <a:pt x="557" y="0"/>
                    </a:lnTo>
                    <a:lnTo>
                      <a:pt x="570" y="7"/>
                    </a:lnTo>
                    <a:lnTo>
                      <a:pt x="585" y="12"/>
                    </a:lnTo>
                    <a:lnTo>
                      <a:pt x="602" y="17"/>
                    </a:lnTo>
                    <a:lnTo>
                      <a:pt x="620" y="21"/>
                    </a:lnTo>
                    <a:lnTo>
                      <a:pt x="639" y="26"/>
                    </a:lnTo>
                    <a:lnTo>
                      <a:pt x="660" y="30"/>
                    </a:lnTo>
                    <a:lnTo>
                      <a:pt x="683" y="33"/>
                    </a:lnTo>
                    <a:lnTo>
                      <a:pt x="708" y="35"/>
                    </a:lnTo>
                    <a:close/>
                    <a:moveTo>
                      <a:pt x="137" y="410"/>
                    </a:moveTo>
                    <a:lnTo>
                      <a:pt x="171" y="429"/>
                    </a:lnTo>
                    <a:lnTo>
                      <a:pt x="200" y="446"/>
                    </a:lnTo>
                    <a:lnTo>
                      <a:pt x="227" y="462"/>
                    </a:lnTo>
                    <a:lnTo>
                      <a:pt x="251" y="477"/>
                    </a:lnTo>
                    <a:lnTo>
                      <a:pt x="271" y="491"/>
                    </a:lnTo>
                    <a:lnTo>
                      <a:pt x="288" y="504"/>
                    </a:lnTo>
                    <a:lnTo>
                      <a:pt x="302" y="515"/>
                    </a:lnTo>
                    <a:lnTo>
                      <a:pt x="312" y="526"/>
                    </a:lnTo>
                    <a:lnTo>
                      <a:pt x="313" y="534"/>
                    </a:lnTo>
                    <a:lnTo>
                      <a:pt x="313" y="544"/>
                    </a:lnTo>
                    <a:lnTo>
                      <a:pt x="311" y="557"/>
                    </a:lnTo>
                    <a:lnTo>
                      <a:pt x="308" y="569"/>
                    </a:lnTo>
                    <a:lnTo>
                      <a:pt x="304" y="585"/>
                    </a:lnTo>
                    <a:lnTo>
                      <a:pt x="300" y="602"/>
                    </a:lnTo>
                    <a:lnTo>
                      <a:pt x="294" y="620"/>
                    </a:lnTo>
                    <a:lnTo>
                      <a:pt x="287" y="641"/>
                    </a:lnTo>
                    <a:lnTo>
                      <a:pt x="282" y="652"/>
                    </a:lnTo>
                    <a:lnTo>
                      <a:pt x="279" y="659"/>
                    </a:lnTo>
                    <a:lnTo>
                      <a:pt x="275" y="665"/>
                    </a:lnTo>
                    <a:lnTo>
                      <a:pt x="272" y="666"/>
                    </a:lnTo>
                    <a:lnTo>
                      <a:pt x="267" y="665"/>
                    </a:lnTo>
                    <a:lnTo>
                      <a:pt x="262" y="663"/>
                    </a:lnTo>
                    <a:lnTo>
                      <a:pt x="257" y="657"/>
                    </a:lnTo>
                    <a:lnTo>
                      <a:pt x="252" y="651"/>
                    </a:lnTo>
                    <a:lnTo>
                      <a:pt x="243" y="638"/>
                    </a:lnTo>
                    <a:lnTo>
                      <a:pt x="232" y="621"/>
                    </a:lnTo>
                    <a:lnTo>
                      <a:pt x="220" y="602"/>
                    </a:lnTo>
                    <a:lnTo>
                      <a:pt x="207" y="579"/>
                    </a:lnTo>
                    <a:lnTo>
                      <a:pt x="193" y="551"/>
                    </a:lnTo>
                    <a:lnTo>
                      <a:pt x="177" y="522"/>
                    </a:lnTo>
                    <a:lnTo>
                      <a:pt x="160" y="488"/>
                    </a:lnTo>
                    <a:lnTo>
                      <a:pt x="142" y="451"/>
                    </a:lnTo>
                    <a:lnTo>
                      <a:pt x="134" y="434"/>
                    </a:lnTo>
                    <a:lnTo>
                      <a:pt x="127" y="421"/>
                    </a:lnTo>
                    <a:lnTo>
                      <a:pt x="125" y="416"/>
                    </a:lnTo>
                    <a:lnTo>
                      <a:pt x="124" y="410"/>
                    </a:lnTo>
                    <a:lnTo>
                      <a:pt x="124" y="407"/>
                    </a:lnTo>
                    <a:lnTo>
                      <a:pt x="124" y="406"/>
                    </a:lnTo>
                    <a:lnTo>
                      <a:pt x="126" y="405"/>
                    </a:lnTo>
                    <a:lnTo>
                      <a:pt x="129" y="406"/>
                    </a:lnTo>
                    <a:lnTo>
                      <a:pt x="133" y="407"/>
                    </a:lnTo>
                    <a:lnTo>
                      <a:pt x="137" y="410"/>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214" name="Freeform 17"/>
              <p:cNvSpPr/>
              <p:nvPr/>
            </p:nvSpPr>
            <p:spPr>
              <a:xfrm>
                <a:off x="4884840" y="1195200"/>
                <a:ext cx="165240" cy="181800"/>
              </a:xfrm>
              <a:custGeom>
                <a:avLst/>
                <a:gdLst>
                  <a:gd name="textAreaLeft" fmla="*/ 0 w 165240"/>
                  <a:gd name="textAreaRight" fmla="*/ 165600 w 165240"/>
                  <a:gd name="textAreaTop" fmla="*/ 0 h 181800"/>
                  <a:gd name="textAreaBottom" fmla="*/ 182160 h 181800"/>
                </a:gdLst>
                <a:ahLst/>
                <a:rect l="textAreaLeft" t="textAreaTop" r="textAreaRight" b="textAreaBottom"/>
                <a:pathLst>
                  <a:path w="1037" h="1206">
                    <a:moveTo>
                      <a:pt x="246" y="560"/>
                    </a:moveTo>
                    <a:lnTo>
                      <a:pt x="263" y="566"/>
                    </a:lnTo>
                    <a:lnTo>
                      <a:pt x="282" y="573"/>
                    </a:lnTo>
                    <a:lnTo>
                      <a:pt x="303" y="580"/>
                    </a:lnTo>
                    <a:lnTo>
                      <a:pt x="326" y="590"/>
                    </a:lnTo>
                    <a:lnTo>
                      <a:pt x="335" y="594"/>
                    </a:lnTo>
                    <a:lnTo>
                      <a:pt x="341" y="595"/>
                    </a:lnTo>
                    <a:lnTo>
                      <a:pt x="389" y="588"/>
                    </a:lnTo>
                    <a:lnTo>
                      <a:pt x="432" y="579"/>
                    </a:lnTo>
                    <a:lnTo>
                      <a:pt x="470" y="572"/>
                    </a:lnTo>
                    <a:lnTo>
                      <a:pt x="504" y="563"/>
                    </a:lnTo>
                    <a:lnTo>
                      <a:pt x="533" y="555"/>
                    </a:lnTo>
                    <a:lnTo>
                      <a:pt x="557" y="548"/>
                    </a:lnTo>
                    <a:lnTo>
                      <a:pt x="568" y="543"/>
                    </a:lnTo>
                    <a:lnTo>
                      <a:pt x="576" y="539"/>
                    </a:lnTo>
                    <a:lnTo>
                      <a:pt x="585" y="534"/>
                    </a:lnTo>
                    <a:lnTo>
                      <a:pt x="591" y="530"/>
                    </a:lnTo>
                    <a:lnTo>
                      <a:pt x="607" y="541"/>
                    </a:lnTo>
                    <a:lnTo>
                      <a:pt x="624" y="551"/>
                    </a:lnTo>
                    <a:lnTo>
                      <a:pt x="642" y="560"/>
                    </a:lnTo>
                    <a:lnTo>
                      <a:pt x="661" y="569"/>
                    </a:lnTo>
                    <a:lnTo>
                      <a:pt x="682" y="576"/>
                    </a:lnTo>
                    <a:lnTo>
                      <a:pt x="705" y="584"/>
                    </a:lnTo>
                    <a:lnTo>
                      <a:pt x="727" y="590"/>
                    </a:lnTo>
                    <a:lnTo>
                      <a:pt x="751" y="595"/>
                    </a:lnTo>
                    <a:lnTo>
                      <a:pt x="738" y="601"/>
                    </a:lnTo>
                    <a:lnTo>
                      <a:pt x="726" y="609"/>
                    </a:lnTo>
                    <a:lnTo>
                      <a:pt x="713" y="620"/>
                    </a:lnTo>
                    <a:lnTo>
                      <a:pt x="699" y="631"/>
                    </a:lnTo>
                    <a:lnTo>
                      <a:pt x="686" y="645"/>
                    </a:lnTo>
                    <a:lnTo>
                      <a:pt x="671" y="662"/>
                    </a:lnTo>
                    <a:lnTo>
                      <a:pt x="657" y="680"/>
                    </a:lnTo>
                    <a:lnTo>
                      <a:pt x="642" y="700"/>
                    </a:lnTo>
                    <a:lnTo>
                      <a:pt x="651" y="705"/>
                    </a:lnTo>
                    <a:lnTo>
                      <a:pt x="658" y="711"/>
                    </a:lnTo>
                    <a:lnTo>
                      <a:pt x="665" y="717"/>
                    </a:lnTo>
                    <a:lnTo>
                      <a:pt x="673" y="723"/>
                    </a:lnTo>
                    <a:lnTo>
                      <a:pt x="679" y="731"/>
                    </a:lnTo>
                    <a:lnTo>
                      <a:pt x="686" y="738"/>
                    </a:lnTo>
                    <a:lnTo>
                      <a:pt x="692" y="747"/>
                    </a:lnTo>
                    <a:lnTo>
                      <a:pt x="697" y="755"/>
                    </a:lnTo>
                    <a:lnTo>
                      <a:pt x="658" y="757"/>
                    </a:lnTo>
                    <a:lnTo>
                      <a:pt x="619" y="761"/>
                    </a:lnTo>
                    <a:lnTo>
                      <a:pt x="577" y="765"/>
                    </a:lnTo>
                    <a:lnTo>
                      <a:pt x="535" y="769"/>
                    </a:lnTo>
                    <a:lnTo>
                      <a:pt x="492" y="773"/>
                    </a:lnTo>
                    <a:lnTo>
                      <a:pt x="446" y="779"/>
                    </a:lnTo>
                    <a:lnTo>
                      <a:pt x="400" y="784"/>
                    </a:lnTo>
                    <a:lnTo>
                      <a:pt x="352" y="790"/>
                    </a:lnTo>
                    <a:lnTo>
                      <a:pt x="352" y="895"/>
                    </a:lnTo>
                    <a:lnTo>
                      <a:pt x="415" y="886"/>
                    </a:lnTo>
                    <a:lnTo>
                      <a:pt x="472" y="876"/>
                    </a:lnTo>
                    <a:lnTo>
                      <a:pt x="520" y="868"/>
                    </a:lnTo>
                    <a:lnTo>
                      <a:pt x="562" y="859"/>
                    </a:lnTo>
                    <a:lnTo>
                      <a:pt x="595" y="851"/>
                    </a:lnTo>
                    <a:lnTo>
                      <a:pt x="622" y="843"/>
                    </a:lnTo>
                    <a:lnTo>
                      <a:pt x="631" y="840"/>
                    </a:lnTo>
                    <a:lnTo>
                      <a:pt x="640" y="837"/>
                    </a:lnTo>
                    <a:lnTo>
                      <a:pt x="647" y="834"/>
                    </a:lnTo>
                    <a:lnTo>
                      <a:pt x="652" y="830"/>
                    </a:lnTo>
                    <a:lnTo>
                      <a:pt x="671" y="844"/>
                    </a:lnTo>
                    <a:lnTo>
                      <a:pt x="691" y="857"/>
                    </a:lnTo>
                    <a:lnTo>
                      <a:pt x="711" y="869"/>
                    </a:lnTo>
                    <a:lnTo>
                      <a:pt x="732" y="878"/>
                    </a:lnTo>
                    <a:lnTo>
                      <a:pt x="753" y="886"/>
                    </a:lnTo>
                    <a:lnTo>
                      <a:pt x="776" y="892"/>
                    </a:lnTo>
                    <a:lnTo>
                      <a:pt x="798" y="897"/>
                    </a:lnTo>
                    <a:lnTo>
                      <a:pt x="821" y="900"/>
                    </a:lnTo>
                    <a:lnTo>
                      <a:pt x="813" y="905"/>
                    </a:lnTo>
                    <a:lnTo>
                      <a:pt x="803" y="910"/>
                    </a:lnTo>
                    <a:lnTo>
                      <a:pt x="795" y="915"/>
                    </a:lnTo>
                    <a:lnTo>
                      <a:pt x="786" y="922"/>
                    </a:lnTo>
                    <a:lnTo>
                      <a:pt x="778" y="928"/>
                    </a:lnTo>
                    <a:lnTo>
                      <a:pt x="770" y="935"/>
                    </a:lnTo>
                    <a:lnTo>
                      <a:pt x="763" y="943"/>
                    </a:lnTo>
                    <a:lnTo>
                      <a:pt x="755" y="950"/>
                    </a:lnTo>
                    <a:lnTo>
                      <a:pt x="742" y="967"/>
                    </a:lnTo>
                    <a:lnTo>
                      <a:pt x="729" y="986"/>
                    </a:lnTo>
                    <a:lnTo>
                      <a:pt x="717" y="1007"/>
                    </a:lnTo>
                    <a:lnTo>
                      <a:pt x="707" y="1031"/>
                    </a:lnTo>
                    <a:lnTo>
                      <a:pt x="715" y="1036"/>
                    </a:lnTo>
                    <a:lnTo>
                      <a:pt x="724" y="1041"/>
                    </a:lnTo>
                    <a:lnTo>
                      <a:pt x="731" y="1048"/>
                    </a:lnTo>
                    <a:lnTo>
                      <a:pt x="740" y="1054"/>
                    </a:lnTo>
                    <a:lnTo>
                      <a:pt x="747" y="1061"/>
                    </a:lnTo>
                    <a:lnTo>
                      <a:pt x="753" y="1069"/>
                    </a:lnTo>
                    <a:lnTo>
                      <a:pt x="761" y="1076"/>
                    </a:lnTo>
                    <a:lnTo>
                      <a:pt x="767" y="1085"/>
                    </a:lnTo>
                    <a:lnTo>
                      <a:pt x="722" y="1086"/>
                    </a:lnTo>
                    <a:lnTo>
                      <a:pt x="675" y="1087"/>
                    </a:lnTo>
                    <a:lnTo>
                      <a:pt x="626" y="1088"/>
                    </a:lnTo>
                    <a:lnTo>
                      <a:pt x="575" y="1090"/>
                    </a:lnTo>
                    <a:lnTo>
                      <a:pt x="522" y="1093"/>
                    </a:lnTo>
                    <a:lnTo>
                      <a:pt x="467" y="1096"/>
                    </a:lnTo>
                    <a:lnTo>
                      <a:pt x="410" y="1101"/>
                    </a:lnTo>
                    <a:lnTo>
                      <a:pt x="352" y="1105"/>
                    </a:lnTo>
                    <a:lnTo>
                      <a:pt x="351" y="1113"/>
                    </a:lnTo>
                    <a:lnTo>
                      <a:pt x="350" y="1122"/>
                    </a:lnTo>
                    <a:lnTo>
                      <a:pt x="349" y="1130"/>
                    </a:lnTo>
                    <a:lnTo>
                      <a:pt x="347" y="1140"/>
                    </a:lnTo>
                    <a:lnTo>
                      <a:pt x="346" y="1171"/>
                    </a:lnTo>
                    <a:lnTo>
                      <a:pt x="344" y="1192"/>
                    </a:lnTo>
                    <a:lnTo>
                      <a:pt x="342" y="1198"/>
                    </a:lnTo>
                    <a:lnTo>
                      <a:pt x="341" y="1203"/>
                    </a:lnTo>
                    <a:lnTo>
                      <a:pt x="340" y="1205"/>
                    </a:lnTo>
                    <a:lnTo>
                      <a:pt x="339" y="1206"/>
                    </a:lnTo>
                    <a:lnTo>
                      <a:pt x="338" y="1206"/>
                    </a:lnTo>
                    <a:lnTo>
                      <a:pt x="336" y="1206"/>
                    </a:lnTo>
                    <a:lnTo>
                      <a:pt x="326" y="1197"/>
                    </a:lnTo>
                    <a:lnTo>
                      <a:pt x="316" y="1189"/>
                    </a:lnTo>
                    <a:lnTo>
                      <a:pt x="305" y="1179"/>
                    </a:lnTo>
                    <a:lnTo>
                      <a:pt x="296" y="1167"/>
                    </a:lnTo>
                    <a:lnTo>
                      <a:pt x="273" y="1143"/>
                    </a:lnTo>
                    <a:lnTo>
                      <a:pt x="251" y="1116"/>
                    </a:lnTo>
                    <a:lnTo>
                      <a:pt x="258" y="1090"/>
                    </a:lnTo>
                    <a:lnTo>
                      <a:pt x="263" y="1057"/>
                    </a:lnTo>
                    <a:lnTo>
                      <a:pt x="267" y="1019"/>
                    </a:lnTo>
                    <a:lnTo>
                      <a:pt x="270" y="976"/>
                    </a:lnTo>
                    <a:lnTo>
                      <a:pt x="273" y="925"/>
                    </a:lnTo>
                    <a:lnTo>
                      <a:pt x="275" y="868"/>
                    </a:lnTo>
                    <a:lnTo>
                      <a:pt x="276" y="804"/>
                    </a:lnTo>
                    <a:lnTo>
                      <a:pt x="277" y="735"/>
                    </a:lnTo>
                    <a:lnTo>
                      <a:pt x="276" y="711"/>
                    </a:lnTo>
                    <a:lnTo>
                      <a:pt x="275" y="686"/>
                    </a:lnTo>
                    <a:lnTo>
                      <a:pt x="272" y="663"/>
                    </a:lnTo>
                    <a:lnTo>
                      <a:pt x="269" y="641"/>
                    </a:lnTo>
                    <a:lnTo>
                      <a:pt x="265" y="620"/>
                    </a:lnTo>
                    <a:lnTo>
                      <a:pt x="260" y="599"/>
                    </a:lnTo>
                    <a:lnTo>
                      <a:pt x="253" y="579"/>
                    </a:lnTo>
                    <a:lnTo>
                      <a:pt x="246" y="560"/>
                    </a:lnTo>
                    <a:close/>
                    <a:moveTo>
                      <a:pt x="416" y="314"/>
                    </a:moveTo>
                    <a:lnTo>
                      <a:pt x="460" y="320"/>
                    </a:lnTo>
                    <a:lnTo>
                      <a:pt x="494" y="325"/>
                    </a:lnTo>
                    <a:lnTo>
                      <a:pt x="519" y="329"/>
                    </a:lnTo>
                    <a:lnTo>
                      <a:pt x="536" y="335"/>
                    </a:lnTo>
                    <a:lnTo>
                      <a:pt x="539" y="339"/>
                    </a:lnTo>
                    <a:lnTo>
                      <a:pt x="541" y="345"/>
                    </a:lnTo>
                    <a:lnTo>
                      <a:pt x="543" y="353"/>
                    </a:lnTo>
                    <a:lnTo>
                      <a:pt x="544" y="361"/>
                    </a:lnTo>
                    <a:lnTo>
                      <a:pt x="546" y="382"/>
                    </a:lnTo>
                    <a:lnTo>
                      <a:pt x="547" y="410"/>
                    </a:lnTo>
                    <a:lnTo>
                      <a:pt x="547" y="411"/>
                    </a:lnTo>
                    <a:lnTo>
                      <a:pt x="547" y="415"/>
                    </a:lnTo>
                    <a:lnTo>
                      <a:pt x="611" y="403"/>
                    </a:lnTo>
                    <a:lnTo>
                      <a:pt x="669" y="394"/>
                    </a:lnTo>
                    <a:lnTo>
                      <a:pt x="718" y="384"/>
                    </a:lnTo>
                    <a:lnTo>
                      <a:pt x="761" y="375"/>
                    </a:lnTo>
                    <a:lnTo>
                      <a:pt x="795" y="366"/>
                    </a:lnTo>
                    <a:lnTo>
                      <a:pt x="821" y="359"/>
                    </a:lnTo>
                    <a:lnTo>
                      <a:pt x="832" y="355"/>
                    </a:lnTo>
                    <a:lnTo>
                      <a:pt x="840" y="351"/>
                    </a:lnTo>
                    <a:lnTo>
                      <a:pt x="847" y="348"/>
                    </a:lnTo>
                    <a:lnTo>
                      <a:pt x="852" y="345"/>
                    </a:lnTo>
                    <a:lnTo>
                      <a:pt x="871" y="364"/>
                    </a:lnTo>
                    <a:lnTo>
                      <a:pt x="891" y="382"/>
                    </a:lnTo>
                    <a:lnTo>
                      <a:pt x="913" y="400"/>
                    </a:lnTo>
                    <a:lnTo>
                      <a:pt x="935" y="416"/>
                    </a:lnTo>
                    <a:lnTo>
                      <a:pt x="959" y="431"/>
                    </a:lnTo>
                    <a:lnTo>
                      <a:pt x="984" y="445"/>
                    </a:lnTo>
                    <a:lnTo>
                      <a:pt x="1010" y="458"/>
                    </a:lnTo>
                    <a:lnTo>
                      <a:pt x="1037" y="470"/>
                    </a:lnTo>
                    <a:lnTo>
                      <a:pt x="1002" y="488"/>
                    </a:lnTo>
                    <a:lnTo>
                      <a:pt x="969" y="505"/>
                    </a:lnTo>
                    <a:lnTo>
                      <a:pt x="937" y="520"/>
                    </a:lnTo>
                    <a:lnTo>
                      <a:pt x="906" y="535"/>
                    </a:lnTo>
                    <a:lnTo>
                      <a:pt x="875" y="548"/>
                    </a:lnTo>
                    <a:lnTo>
                      <a:pt x="847" y="560"/>
                    </a:lnTo>
                    <a:lnTo>
                      <a:pt x="819" y="571"/>
                    </a:lnTo>
                    <a:lnTo>
                      <a:pt x="791" y="579"/>
                    </a:lnTo>
                    <a:lnTo>
                      <a:pt x="771" y="584"/>
                    </a:lnTo>
                    <a:lnTo>
                      <a:pt x="762" y="585"/>
                    </a:lnTo>
                    <a:lnTo>
                      <a:pt x="760" y="581"/>
                    </a:lnTo>
                    <a:lnTo>
                      <a:pt x="761" y="576"/>
                    </a:lnTo>
                    <a:lnTo>
                      <a:pt x="763" y="569"/>
                    </a:lnTo>
                    <a:lnTo>
                      <a:pt x="767" y="560"/>
                    </a:lnTo>
                    <a:lnTo>
                      <a:pt x="788" y="521"/>
                    </a:lnTo>
                    <a:lnTo>
                      <a:pt x="806" y="486"/>
                    </a:lnTo>
                    <a:lnTo>
                      <a:pt x="823" y="454"/>
                    </a:lnTo>
                    <a:lnTo>
                      <a:pt x="837" y="425"/>
                    </a:lnTo>
                    <a:lnTo>
                      <a:pt x="791" y="433"/>
                    </a:lnTo>
                    <a:lnTo>
                      <a:pt x="736" y="442"/>
                    </a:lnTo>
                    <a:lnTo>
                      <a:pt x="671" y="452"/>
                    </a:lnTo>
                    <a:lnTo>
                      <a:pt x="594" y="464"/>
                    </a:lnTo>
                    <a:lnTo>
                      <a:pt x="508" y="475"/>
                    </a:lnTo>
                    <a:lnTo>
                      <a:pt x="411" y="489"/>
                    </a:lnTo>
                    <a:lnTo>
                      <a:pt x="304" y="504"/>
                    </a:lnTo>
                    <a:lnTo>
                      <a:pt x="187" y="520"/>
                    </a:lnTo>
                    <a:lnTo>
                      <a:pt x="167" y="500"/>
                    </a:lnTo>
                    <a:lnTo>
                      <a:pt x="163" y="527"/>
                    </a:lnTo>
                    <a:lnTo>
                      <a:pt x="160" y="554"/>
                    </a:lnTo>
                    <a:lnTo>
                      <a:pt x="156" y="580"/>
                    </a:lnTo>
                    <a:lnTo>
                      <a:pt x="152" y="606"/>
                    </a:lnTo>
                    <a:lnTo>
                      <a:pt x="146" y="631"/>
                    </a:lnTo>
                    <a:lnTo>
                      <a:pt x="140" y="657"/>
                    </a:lnTo>
                    <a:lnTo>
                      <a:pt x="134" y="681"/>
                    </a:lnTo>
                    <a:lnTo>
                      <a:pt x="126" y="705"/>
                    </a:lnTo>
                    <a:lnTo>
                      <a:pt x="114" y="697"/>
                    </a:lnTo>
                    <a:lnTo>
                      <a:pt x="101" y="688"/>
                    </a:lnTo>
                    <a:lnTo>
                      <a:pt x="87" y="681"/>
                    </a:lnTo>
                    <a:lnTo>
                      <a:pt x="72" y="674"/>
                    </a:lnTo>
                    <a:lnTo>
                      <a:pt x="58" y="667"/>
                    </a:lnTo>
                    <a:lnTo>
                      <a:pt x="43" y="661"/>
                    </a:lnTo>
                    <a:lnTo>
                      <a:pt x="28" y="656"/>
                    </a:lnTo>
                    <a:lnTo>
                      <a:pt x="12" y="650"/>
                    </a:lnTo>
                    <a:lnTo>
                      <a:pt x="7" y="648"/>
                    </a:lnTo>
                    <a:lnTo>
                      <a:pt x="3" y="646"/>
                    </a:lnTo>
                    <a:lnTo>
                      <a:pt x="1" y="644"/>
                    </a:lnTo>
                    <a:lnTo>
                      <a:pt x="0" y="641"/>
                    </a:lnTo>
                    <a:lnTo>
                      <a:pt x="0" y="638"/>
                    </a:lnTo>
                    <a:lnTo>
                      <a:pt x="1" y="634"/>
                    </a:lnTo>
                    <a:lnTo>
                      <a:pt x="3" y="630"/>
                    </a:lnTo>
                    <a:lnTo>
                      <a:pt x="7" y="625"/>
                    </a:lnTo>
                    <a:lnTo>
                      <a:pt x="26" y="606"/>
                    </a:lnTo>
                    <a:lnTo>
                      <a:pt x="44" y="584"/>
                    </a:lnTo>
                    <a:lnTo>
                      <a:pt x="63" y="561"/>
                    </a:lnTo>
                    <a:lnTo>
                      <a:pt x="82" y="536"/>
                    </a:lnTo>
                    <a:lnTo>
                      <a:pt x="100" y="509"/>
                    </a:lnTo>
                    <a:lnTo>
                      <a:pt x="119" y="482"/>
                    </a:lnTo>
                    <a:lnTo>
                      <a:pt x="138" y="451"/>
                    </a:lnTo>
                    <a:lnTo>
                      <a:pt x="156" y="419"/>
                    </a:lnTo>
                    <a:lnTo>
                      <a:pt x="159" y="415"/>
                    </a:lnTo>
                    <a:lnTo>
                      <a:pt x="161" y="412"/>
                    </a:lnTo>
                    <a:lnTo>
                      <a:pt x="164" y="411"/>
                    </a:lnTo>
                    <a:lnTo>
                      <a:pt x="167" y="410"/>
                    </a:lnTo>
                    <a:lnTo>
                      <a:pt x="169" y="413"/>
                    </a:lnTo>
                    <a:lnTo>
                      <a:pt x="171" y="416"/>
                    </a:lnTo>
                    <a:lnTo>
                      <a:pt x="171" y="420"/>
                    </a:lnTo>
                    <a:lnTo>
                      <a:pt x="172" y="425"/>
                    </a:lnTo>
                    <a:lnTo>
                      <a:pt x="172" y="433"/>
                    </a:lnTo>
                    <a:lnTo>
                      <a:pt x="172" y="443"/>
                    </a:lnTo>
                    <a:lnTo>
                      <a:pt x="172" y="453"/>
                    </a:lnTo>
                    <a:lnTo>
                      <a:pt x="172" y="465"/>
                    </a:lnTo>
                    <a:lnTo>
                      <a:pt x="221" y="458"/>
                    </a:lnTo>
                    <a:lnTo>
                      <a:pt x="268" y="452"/>
                    </a:lnTo>
                    <a:lnTo>
                      <a:pt x="313" y="447"/>
                    </a:lnTo>
                    <a:lnTo>
                      <a:pt x="356" y="440"/>
                    </a:lnTo>
                    <a:lnTo>
                      <a:pt x="398" y="435"/>
                    </a:lnTo>
                    <a:lnTo>
                      <a:pt x="438" y="430"/>
                    </a:lnTo>
                    <a:lnTo>
                      <a:pt x="476" y="425"/>
                    </a:lnTo>
                    <a:lnTo>
                      <a:pt x="512" y="419"/>
                    </a:lnTo>
                    <a:lnTo>
                      <a:pt x="479" y="396"/>
                    </a:lnTo>
                    <a:lnTo>
                      <a:pt x="451" y="374"/>
                    </a:lnTo>
                    <a:lnTo>
                      <a:pt x="440" y="363"/>
                    </a:lnTo>
                    <a:lnTo>
                      <a:pt x="429" y="354"/>
                    </a:lnTo>
                    <a:lnTo>
                      <a:pt x="420" y="344"/>
                    </a:lnTo>
                    <a:lnTo>
                      <a:pt x="411" y="335"/>
                    </a:lnTo>
                    <a:lnTo>
                      <a:pt x="407" y="328"/>
                    </a:lnTo>
                    <a:lnTo>
                      <a:pt x="404" y="322"/>
                    </a:lnTo>
                    <a:lnTo>
                      <a:pt x="403" y="318"/>
                    </a:lnTo>
                    <a:lnTo>
                      <a:pt x="402" y="314"/>
                    </a:lnTo>
                    <a:lnTo>
                      <a:pt x="405" y="312"/>
                    </a:lnTo>
                    <a:lnTo>
                      <a:pt x="408" y="312"/>
                    </a:lnTo>
                    <a:lnTo>
                      <a:pt x="412" y="312"/>
                    </a:lnTo>
                    <a:lnTo>
                      <a:pt x="416" y="314"/>
                    </a:lnTo>
                    <a:close/>
                    <a:moveTo>
                      <a:pt x="462" y="130"/>
                    </a:moveTo>
                    <a:lnTo>
                      <a:pt x="470" y="138"/>
                    </a:lnTo>
                    <a:lnTo>
                      <a:pt x="486" y="154"/>
                    </a:lnTo>
                    <a:lnTo>
                      <a:pt x="491" y="159"/>
                    </a:lnTo>
                    <a:lnTo>
                      <a:pt x="492" y="160"/>
                    </a:lnTo>
                    <a:lnTo>
                      <a:pt x="494" y="163"/>
                    </a:lnTo>
                    <a:lnTo>
                      <a:pt x="495" y="166"/>
                    </a:lnTo>
                    <a:lnTo>
                      <a:pt x="495" y="169"/>
                    </a:lnTo>
                    <a:lnTo>
                      <a:pt x="494" y="172"/>
                    </a:lnTo>
                    <a:lnTo>
                      <a:pt x="493" y="174"/>
                    </a:lnTo>
                    <a:lnTo>
                      <a:pt x="490" y="177"/>
                    </a:lnTo>
                    <a:lnTo>
                      <a:pt x="486" y="178"/>
                    </a:lnTo>
                    <a:lnTo>
                      <a:pt x="482" y="180"/>
                    </a:lnTo>
                    <a:lnTo>
                      <a:pt x="446" y="189"/>
                    </a:lnTo>
                    <a:lnTo>
                      <a:pt x="414" y="197"/>
                    </a:lnTo>
                    <a:lnTo>
                      <a:pt x="386" y="204"/>
                    </a:lnTo>
                    <a:lnTo>
                      <a:pt x="361" y="209"/>
                    </a:lnTo>
                    <a:lnTo>
                      <a:pt x="341" y="214"/>
                    </a:lnTo>
                    <a:lnTo>
                      <a:pt x="324" y="217"/>
                    </a:lnTo>
                    <a:lnTo>
                      <a:pt x="311" y="219"/>
                    </a:lnTo>
                    <a:lnTo>
                      <a:pt x="301" y="220"/>
                    </a:lnTo>
                    <a:lnTo>
                      <a:pt x="289" y="219"/>
                    </a:lnTo>
                    <a:lnTo>
                      <a:pt x="277" y="216"/>
                    </a:lnTo>
                    <a:lnTo>
                      <a:pt x="264" y="212"/>
                    </a:lnTo>
                    <a:lnTo>
                      <a:pt x="251" y="204"/>
                    </a:lnTo>
                    <a:lnTo>
                      <a:pt x="228" y="250"/>
                    </a:lnTo>
                    <a:lnTo>
                      <a:pt x="207" y="287"/>
                    </a:lnTo>
                    <a:lnTo>
                      <a:pt x="197" y="303"/>
                    </a:lnTo>
                    <a:lnTo>
                      <a:pt x="188" y="315"/>
                    </a:lnTo>
                    <a:lnTo>
                      <a:pt x="179" y="326"/>
                    </a:lnTo>
                    <a:lnTo>
                      <a:pt x="172" y="335"/>
                    </a:lnTo>
                    <a:lnTo>
                      <a:pt x="165" y="341"/>
                    </a:lnTo>
                    <a:lnTo>
                      <a:pt x="159" y="347"/>
                    </a:lnTo>
                    <a:lnTo>
                      <a:pt x="153" y="353"/>
                    </a:lnTo>
                    <a:lnTo>
                      <a:pt x="145" y="357"/>
                    </a:lnTo>
                    <a:lnTo>
                      <a:pt x="138" y="360"/>
                    </a:lnTo>
                    <a:lnTo>
                      <a:pt x="129" y="363"/>
                    </a:lnTo>
                    <a:lnTo>
                      <a:pt x="121" y="364"/>
                    </a:lnTo>
                    <a:lnTo>
                      <a:pt x="111" y="366"/>
                    </a:lnTo>
                    <a:lnTo>
                      <a:pt x="102" y="366"/>
                    </a:lnTo>
                    <a:lnTo>
                      <a:pt x="91" y="366"/>
                    </a:lnTo>
                    <a:lnTo>
                      <a:pt x="81" y="365"/>
                    </a:lnTo>
                    <a:lnTo>
                      <a:pt x="70" y="364"/>
                    </a:lnTo>
                    <a:lnTo>
                      <a:pt x="58" y="361"/>
                    </a:lnTo>
                    <a:lnTo>
                      <a:pt x="47" y="358"/>
                    </a:lnTo>
                    <a:lnTo>
                      <a:pt x="34" y="355"/>
                    </a:lnTo>
                    <a:lnTo>
                      <a:pt x="21" y="349"/>
                    </a:lnTo>
                    <a:lnTo>
                      <a:pt x="44" y="335"/>
                    </a:lnTo>
                    <a:lnTo>
                      <a:pt x="64" y="320"/>
                    </a:lnTo>
                    <a:lnTo>
                      <a:pt x="83" y="304"/>
                    </a:lnTo>
                    <a:lnTo>
                      <a:pt x="101" y="287"/>
                    </a:lnTo>
                    <a:lnTo>
                      <a:pt x="118" y="269"/>
                    </a:lnTo>
                    <a:lnTo>
                      <a:pt x="134" y="251"/>
                    </a:lnTo>
                    <a:lnTo>
                      <a:pt x="147" y="232"/>
                    </a:lnTo>
                    <a:lnTo>
                      <a:pt x="160" y="212"/>
                    </a:lnTo>
                    <a:lnTo>
                      <a:pt x="172" y="191"/>
                    </a:lnTo>
                    <a:lnTo>
                      <a:pt x="182" y="170"/>
                    </a:lnTo>
                    <a:lnTo>
                      <a:pt x="191" y="149"/>
                    </a:lnTo>
                    <a:lnTo>
                      <a:pt x="198" y="127"/>
                    </a:lnTo>
                    <a:lnTo>
                      <a:pt x="205" y="103"/>
                    </a:lnTo>
                    <a:lnTo>
                      <a:pt x="210" y="79"/>
                    </a:lnTo>
                    <a:lnTo>
                      <a:pt x="214" y="55"/>
                    </a:lnTo>
                    <a:lnTo>
                      <a:pt x="216" y="29"/>
                    </a:lnTo>
                    <a:lnTo>
                      <a:pt x="229" y="39"/>
                    </a:lnTo>
                    <a:lnTo>
                      <a:pt x="242" y="47"/>
                    </a:lnTo>
                    <a:lnTo>
                      <a:pt x="255" y="55"/>
                    </a:lnTo>
                    <a:lnTo>
                      <a:pt x="269" y="61"/>
                    </a:lnTo>
                    <a:lnTo>
                      <a:pt x="283" y="65"/>
                    </a:lnTo>
                    <a:lnTo>
                      <a:pt x="297" y="70"/>
                    </a:lnTo>
                    <a:lnTo>
                      <a:pt x="312" y="73"/>
                    </a:lnTo>
                    <a:lnTo>
                      <a:pt x="326" y="75"/>
                    </a:lnTo>
                    <a:lnTo>
                      <a:pt x="317" y="85"/>
                    </a:lnTo>
                    <a:lnTo>
                      <a:pt x="307" y="97"/>
                    </a:lnTo>
                    <a:lnTo>
                      <a:pt x="299" y="109"/>
                    </a:lnTo>
                    <a:lnTo>
                      <a:pt x="291" y="120"/>
                    </a:lnTo>
                    <a:lnTo>
                      <a:pt x="284" y="133"/>
                    </a:lnTo>
                    <a:lnTo>
                      <a:pt x="278" y="145"/>
                    </a:lnTo>
                    <a:lnTo>
                      <a:pt x="271" y="158"/>
                    </a:lnTo>
                    <a:lnTo>
                      <a:pt x="266" y="169"/>
                    </a:lnTo>
                    <a:lnTo>
                      <a:pt x="266" y="171"/>
                    </a:lnTo>
                    <a:lnTo>
                      <a:pt x="265" y="173"/>
                    </a:lnTo>
                    <a:lnTo>
                      <a:pt x="264" y="174"/>
                    </a:lnTo>
                    <a:lnTo>
                      <a:pt x="262" y="174"/>
                    </a:lnTo>
                    <a:lnTo>
                      <a:pt x="279" y="171"/>
                    </a:lnTo>
                    <a:lnTo>
                      <a:pt x="300" y="166"/>
                    </a:lnTo>
                    <a:lnTo>
                      <a:pt x="326" y="159"/>
                    </a:lnTo>
                    <a:lnTo>
                      <a:pt x="356" y="150"/>
                    </a:lnTo>
                    <a:lnTo>
                      <a:pt x="380" y="143"/>
                    </a:lnTo>
                    <a:lnTo>
                      <a:pt x="401" y="137"/>
                    </a:lnTo>
                    <a:lnTo>
                      <a:pt x="418" y="133"/>
                    </a:lnTo>
                    <a:lnTo>
                      <a:pt x="431" y="130"/>
                    </a:lnTo>
                    <a:lnTo>
                      <a:pt x="441" y="126"/>
                    </a:lnTo>
                    <a:lnTo>
                      <a:pt x="449" y="125"/>
                    </a:lnTo>
                    <a:lnTo>
                      <a:pt x="452" y="125"/>
                    </a:lnTo>
                    <a:lnTo>
                      <a:pt x="456" y="126"/>
                    </a:lnTo>
                    <a:lnTo>
                      <a:pt x="459" y="128"/>
                    </a:lnTo>
                    <a:lnTo>
                      <a:pt x="462" y="130"/>
                    </a:lnTo>
                    <a:close/>
                    <a:moveTo>
                      <a:pt x="881" y="95"/>
                    </a:moveTo>
                    <a:lnTo>
                      <a:pt x="885" y="95"/>
                    </a:lnTo>
                    <a:lnTo>
                      <a:pt x="888" y="97"/>
                    </a:lnTo>
                    <a:lnTo>
                      <a:pt x="892" y="100"/>
                    </a:lnTo>
                    <a:lnTo>
                      <a:pt x="896" y="105"/>
                    </a:lnTo>
                    <a:lnTo>
                      <a:pt x="906" y="113"/>
                    </a:lnTo>
                    <a:lnTo>
                      <a:pt x="911" y="119"/>
                    </a:lnTo>
                    <a:lnTo>
                      <a:pt x="914" y="125"/>
                    </a:lnTo>
                    <a:lnTo>
                      <a:pt x="915" y="130"/>
                    </a:lnTo>
                    <a:lnTo>
                      <a:pt x="916" y="134"/>
                    </a:lnTo>
                    <a:lnTo>
                      <a:pt x="916" y="140"/>
                    </a:lnTo>
                    <a:lnTo>
                      <a:pt x="914" y="142"/>
                    </a:lnTo>
                    <a:lnTo>
                      <a:pt x="910" y="143"/>
                    </a:lnTo>
                    <a:lnTo>
                      <a:pt x="906" y="144"/>
                    </a:lnTo>
                    <a:lnTo>
                      <a:pt x="902" y="145"/>
                    </a:lnTo>
                    <a:lnTo>
                      <a:pt x="893" y="147"/>
                    </a:lnTo>
                    <a:lnTo>
                      <a:pt x="881" y="149"/>
                    </a:lnTo>
                    <a:lnTo>
                      <a:pt x="868" y="152"/>
                    </a:lnTo>
                    <a:lnTo>
                      <a:pt x="852" y="154"/>
                    </a:lnTo>
                    <a:lnTo>
                      <a:pt x="820" y="161"/>
                    </a:lnTo>
                    <a:lnTo>
                      <a:pt x="791" y="165"/>
                    </a:lnTo>
                    <a:lnTo>
                      <a:pt x="766" y="170"/>
                    </a:lnTo>
                    <a:lnTo>
                      <a:pt x="744" y="173"/>
                    </a:lnTo>
                    <a:lnTo>
                      <a:pt x="726" y="176"/>
                    </a:lnTo>
                    <a:lnTo>
                      <a:pt x="711" y="178"/>
                    </a:lnTo>
                    <a:lnTo>
                      <a:pt x="699" y="179"/>
                    </a:lnTo>
                    <a:lnTo>
                      <a:pt x="692" y="180"/>
                    </a:lnTo>
                    <a:lnTo>
                      <a:pt x="683" y="179"/>
                    </a:lnTo>
                    <a:lnTo>
                      <a:pt x="675" y="179"/>
                    </a:lnTo>
                    <a:lnTo>
                      <a:pt x="668" y="177"/>
                    </a:lnTo>
                    <a:lnTo>
                      <a:pt x="660" y="174"/>
                    </a:lnTo>
                    <a:lnTo>
                      <a:pt x="654" y="171"/>
                    </a:lnTo>
                    <a:lnTo>
                      <a:pt x="647" y="168"/>
                    </a:lnTo>
                    <a:lnTo>
                      <a:pt x="642" y="164"/>
                    </a:lnTo>
                    <a:lnTo>
                      <a:pt x="637" y="160"/>
                    </a:lnTo>
                    <a:lnTo>
                      <a:pt x="630" y="176"/>
                    </a:lnTo>
                    <a:lnTo>
                      <a:pt x="623" y="190"/>
                    </a:lnTo>
                    <a:lnTo>
                      <a:pt x="616" y="205"/>
                    </a:lnTo>
                    <a:lnTo>
                      <a:pt x="608" y="218"/>
                    </a:lnTo>
                    <a:lnTo>
                      <a:pt x="600" y="231"/>
                    </a:lnTo>
                    <a:lnTo>
                      <a:pt x="590" y="243"/>
                    </a:lnTo>
                    <a:lnTo>
                      <a:pt x="582" y="254"/>
                    </a:lnTo>
                    <a:lnTo>
                      <a:pt x="572" y="265"/>
                    </a:lnTo>
                    <a:lnTo>
                      <a:pt x="566" y="273"/>
                    </a:lnTo>
                    <a:lnTo>
                      <a:pt x="559" y="280"/>
                    </a:lnTo>
                    <a:lnTo>
                      <a:pt x="553" y="287"/>
                    </a:lnTo>
                    <a:lnTo>
                      <a:pt x="547" y="292"/>
                    </a:lnTo>
                    <a:lnTo>
                      <a:pt x="539" y="297"/>
                    </a:lnTo>
                    <a:lnTo>
                      <a:pt x="532" y="301"/>
                    </a:lnTo>
                    <a:lnTo>
                      <a:pt x="523" y="304"/>
                    </a:lnTo>
                    <a:lnTo>
                      <a:pt x="515" y="306"/>
                    </a:lnTo>
                    <a:lnTo>
                      <a:pt x="507" y="307"/>
                    </a:lnTo>
                    <a:lnTo>
                      <a:pt x="498" y="307"/>
                    </a:lnTo>
                    <a:lnTo>
                      <a:pt x="488" y="307"/>
                    </a:lnTo>
                    <a:lnTo>
                      <a:pt x="479" y="305"/>
                    </a:lnTo>
                    <a:lnTo>
                      <a:pt x="468" y="303"/>
                    </a:lnTo>
                    <a:lnTo>
                      <a:pt x="459" y="300"/>
                    </a:lnTo>
                    <a:lnTo>
                      <a:pt x="447" y="295"/>
                    </a:lnTo>
                    <a:lnTo>
                      <a:pt x="437" y="290"/>
                    </a:lnTo>
                    <a:lnTo>
                      <a:pt x="457" y="274"/>
                    </a:lnTo>
                    <a:lnTo>
                      <a:pt x="475" y="259"/>
                    </a:lnTo>
                    <a:lnTo>
                      <a:pt x="493" y="243"/>
                    </a:lnTo>
                    <a:lnTo>
                      <a:pt x="509" y="226"/>
                    </a:lnTo>
                    <a:lnTo>
                      <a:pt x="523" y="209"/>
                    </a:lnTo>
                    <a:lnTo>
                      <a:pt x="537" y="193"/>
                    </a:lnTo>
                    <a:lnTo>
                      <a:pt x="549" y="176"/>
                    </a:lnTo>
                    <a:lnTo>
                      <a:pt x="561" y="158"/>
                    </a:lnTo>
                    <a:lnTo>
                      <a:pt x="570" y="138"/>
                    </a:lnTo>
                    <a:lnTo>
                      <a:pt x="579" y="120"/>
                    </a:lnTo>
                    <a:lnTo>
                      <a:pt x="585" y="101"/>
                    </a:lnTo>
                    <a:lnTo>
                      <a:pt x="591" y="81"/>
                    </a:lnTo>
                    <a:lnTo>
                      <a:pt x="595" y="61"/>
                    </a:lnTo>
                    <a:lnTo>
                      <a:pt x="599" y="41"/>
                    </a:lnTo>
                    <a:lnTo>
                      <a:pt x="601" y="21"/>
                    </a:lnTo>
                    <a:lnTo>
                      <a:pt x="602" y="0"/>
                    </a:lnTo>
                    <a:lnTo>
                      <a:pt x="610" y="8"/>
                    </a:lnTo>
                    <a:lnTo>
                      <a:pt x="621" y="16"/>
                    </a:lnTo>
                    <a:lnTo>
                      <a:pt x="633" y="22"/>
                    </a:lnTo>
                    <a:lnTo>
                      <a:pt x="644" y="28"/>
                    </a:lnTo>
                    <a:lnTo>
                      <a:pt x="657" y="34"/>
                    </a:lnTo>
                    <a:lnTo>
                      <a:pt x="671" y="38"/>
                    </a:lnTo>
                    <a:lnTo>
                      <a:pt x="686" y="41"/>
                    </a:lnTo>
                    <a:lnTo>
                      <a:pt x="701" y="44"/>
                    </a:lnTo>
                    <a:lnTo>
                      <a:pt x="687" y="63"/>
                    </a:lnTo>
                    <a:lnTo>
                      <a:pt x="673" y="84"/>
                    </a:lnTo>
                    <a:lnTo>
                      <a:pt x="659" y="108"/>
                    </a:lnTo>
                    <a:lnTo>
                      <a:pt x="646" y="134"/>
                    </a:lnTo>
                    <a:lnTo>
                      <a:pt x="671" y="131"/>
                    </a:lnTo>
                    <a:lnTo>
                      <a:pt x="702" y="125"/>
                    </a:lnTo>
                    <a:lnTo>
                      <a:pt x="743" y="116"/>
                    </a:lnTo>
                    <a:lnTo>
                      <a:pt x="791" y="105"/>
                    </a:lnTo>
                    <a:lnTo>
                      <a:pt x="810" y="100"/>
                    </a:lnTo>
                    <a:lnTo>
                      <a:pt x="826" y="96"/>
                    </a:lnTo>
                    <a:lnTo>
                      <a:pt x="840" y="92"/>
                    </a:lnTo>
                    <a:lnTo>
                      <a:pt x="852" y="90"/>
                    </a:lnTo>
                    <a:lnTo>
                      <a:pt x="859" y="88"/>
                    </a:lnTo>
                    <a:lnTo>
                      <a:pt x="866" y="89"/>
                    </a:lnTo>
                    <a:lnTo>
                      <a:pt x="871" y="91"/>
                    </a:lnTo>
                    <a:lnTo>
                      <a:pt x="876" y="95"/>
                    </a:lnTo>
                    <a:lnTo>
                      <a:pt x="877" y="93"/>
                    </a:lnTo>
                    <a:lnTo>
                      <a:pt x="878" y="92"/>
                    </a:lnTo>
                    <a:lnTo>
                      <a:pt x="879" y="93"/>
                    </a:lnTo>
                    <a:lnTo>
                      <a:pt x="881" y="95"/>
                    </a:lnTo>
                    <a:close/>
                    <a:moveTo>
                      <a:pt x="352" y="950"/>
                    </a:moveTo>
                    <a:lnTo>
                      <a:pt x="352" y="977"/>
                    </a:lnTo>
                    <a:lnTo>
                      <a:pt x="352" y="1003"/>
                    </a:lnTo>
                    <a:lnTo>
                      <a:pt x="352" y="1028"/>
                    </a:lnTo>
                    <a:lnTo>
                      <a:pt x="352" y="1050"/>
                    </a:lnTo>
                    <a:lnTo>
                      <a:pt x="366" y="1048"/>
                    </a:lnTo>
                    <a:lnTo>
                      <a:pt x="384" y="1047"/>
                    </a:lnTo>
                    <a:lnTo>
                      <a:pt x="406" y="1046"/>
                    </a:lnTo>
                    <a:lnTo>
                      <a:pt x="431" y="1046"/>
                    </a:lnTo>
                    <a:lnTo>
                      <a:pt x="466" y="1042"/>
                    </a:lnTo>
                    <a:lnTo>
                      <a:pt x="498" y="1040"/>
                    </a:lnTo>
                    <a:lnTo>
                      <a:pt x="527" y="1038"/>
                    </a:lnTo>
                    <a:lnTo>
                      <a:pt x="553" y="1035"/>
                    </a:lnTo>
                    <a:lnTo>
                      <a:pt x="575" y="1033"/>
                    </a:lnTo>
                    <a:lnTo>
                      <a:pt x="595" y="1030"/>
                    </a:lnTo>
                    <a:lnTo>
                      <a:pt x="612" y="1028"/>
                    </a:lnTo>
                    <a:lnTo>
                      <a:pt x="626" y="1025"/>
                    </a:lnTo>
                    <a:lnTo>
                      <a:pt x="629" y="1007"/>
                    </a:lnTo>
                    <a:lnTo>
                      <a:pt x="634" y="987"/>
                    </a:lnTo>
                    <a:lnTo>
                      <a:pt x="640" y="967"/>
                    </a:lnTo>
                    <a:lnTo>
                      <a:pt x="646" y="945"/>
                    </a:lnTo>
                    <a:lnTo>
                      <a:pt x="649" y="933"/>
                    </a:lnTo>
                    <a:lnTo>
                      <a:pt x="652" y="923"/>
                    </a:lnTo>
                    <a:lnTo>
                      <a:pt x="654" y="913"/>
                    </a:lnTo>
                    <a:lnTo>
                      <a:pt x="657" y="906"/>
                    </a:lnTo>
                    <a:lnTo>
                      <a:pt x="629" y="909"/>
                    </a:lnTo>
                    <a:lnTo>
                      <a:pt x="599" y="914"/>
                    </a:lnTo>
                    <a:lnTo>
                      <a:pt x="565" y="918"/>
                    </a:lnTo>
                    <a:lnTo>
                      <a:pt x="528" y="924"/>
                    </a:lnTo>
                    <a:lnTo>
                      <a:pt x="488" y="930"/>
                    </a:lnTo>
                    <a:lnTo>
                      <a:pt x="445" y="936"/>
                    </a:lnTo>
                    <a:lnTo>
                      <a:pt x="400" y="943"/>
                    </a:lnTo>
                    <a:lnTo>
                      <a:pt x="352" y="950"/>
                    </a:lnTo>
                    <a:close/>
                    <a:moveTo>
                      <a:pt x="352" y="640"/>
                    </a:moveTo>
                    <a:lnTo>
                      <a:pt x="352" y="745"/>
                    </a:lnTo>
                    <a:lnTo>
                      <a:pt x="360" y="743"/>
                    </a:lnTo>
                    <a:lnTo>
                      <a:pt x="370" y="740"/>
                    </a:lnTo>
                    <a:lnTo>
                      <a:pt x="383" y="737"/>
                    </a:lnTo>
                    <a:lnTo>
                      <a:pt x="396" y="735"/>
                    </a:lnTo>
                    <a:lnTo>
                      <a:pt x="414" y="731"/>
                    </a:lnTo>
                    <a:lnTo>
                      <a:pt x="433" y="728"/>
                    </a:lnTo>
                    <a:lnTo>
                      <a:pt x="452" y="723"/>
                    </a:lnTo>
                    <a:lnTo>
                      <a:pt x="473" y="720"/>
                    </a:lnTo>
                    <a:lnTo>
                      <a:pt x="494" y="716"/>
                    </a:lnTo>
                    <a:lnTo>
                      <a:pt x="516" y="713"/>
                    </a:lnTo>
                    <a:lnTo>
                      <a:pt x="538" y="709"/>
                    </a:lnTo>
                    <a:lnTo>
                      <a:pt x="562" y="705"/>
                    </a:lnTo>
                    <a:lnTo>
                      <a:pt x="565" y="694"/>
                    </a:lnTo>
                    <a:lnTo>
                      <a:pt x="568" y="681"/>
                    </a:lnTo>
                    <a:lnTo>
                      <a:pt x="572" y="666"/>
                    </a:lnTo>
                    <a:lnTo>
                      <a:pt x="576" y="650"/>
                    </a:lnTo>
                    <a:lnTo>
                      <a:pt x="581" y="633"/>
                    </a:lnTo>
                    <a:lnTo>
                      <a:pt x="584" y="620"/>
                    </a:lnTo>
                    <a:lnTo>
                      <a:pt x="586" y="609"/>
                    </a:lnTo>
                    <a:lnTo>
                      <a:pt x="587" y="599"/>
                    </a:lnTo>
                    <a:lnTo>
                      <a:pt x="579" y="601"/>
                    </a:lnTo>
                    <a:lnTo>
                      <a:pt x="568" y="603"/>
                    </a:lnTo>
                    <a:lnTo>
                      <a:pt x="555" y="606"/>
                    </a:lnTo>
                    <a:lnTo>
                      <a:pt x="541" y="610"/>
                    </a:lnTo>
                    <a:lnTo>
                      <a:pt x="511" y="614"/>
                    </a:lnTo>
                    <a:lnTo>
                      <a:pt x="483" y="620"/>
                    </a:lnTo>
                    <a:lnTo>
                      <a:pt x="456" y="624"/>
                    </a:lnTo>
                    <a:lnTo>
                      <a:pt x="431" y="627"/>
                    </a:lnTo>
                    <a:lnTo>
                      <a:pt x="409" y="631"/>
                    </a:lnTo>
                    <a:lnTo>
                      <a:pt x="388" y="634"/>
                    </a:lnTo>
                    <a:lnTo>
                      <a:pt x="369" y="638"/>
                    </a:lnTo>
                    <a:lnTo>
                      <a:pt x="352" y="640"/>
                    </a:lnTo>
                    <a:close/>
                    <a:moveTo>
                      <a:pt x="642" y="230"/>
                    </a:moveTo>
                    <a:lnTo>
                      <a:pt x="639" y="226"/>
                    </a:lnTo>
                    <a:lnTo>
                      <a:pt x="638" y="223"/>
                    </a:lnTo>
                    <a:lnTo>
                      <a:pt x="637" y="219"/>
                    </a:lnTo>
                    <a:lnTo>
                      <a:pt x="637" y="215"/>
                    </a:lnTo>
                    <a:lnTo>
                      <a:pt x="637" y="213"/>
                    </a:lnTo>
                    <a:lnTo>
                      <a:pt x="639" y="213"/>
                    </a:lnTo>
                    <a:lnTo>
                      <a:pt x="642" y="213"/>
                    </a:lnTo>
                    <a:lnTo>
                      <a:pt x="646" y="215"/>
                    </a:lnTo>
                    <a:lnTo>
                      <a:pt x="653" y="215"/>
                    </a:lnTo>
                    <a:lnTo>
                      <a:pt x="661" y="215"/>
                    </a:lnTo>
                    <a:lnTo>
                      <a:pt x="698" y="220"/>
                    </a:lnTo>
                    <a:lnTo>
                      <a:pt x="728" y="224"/>
                    </a:lnTo>
                    <a:lnTo>
                      <a:pt x="751" y="230"/>
                    </a:lnTo>
                    <a:lnTo>
                      <a:pt x="767" y="235"/>
                    </a:lnTo>
                    <a:lnTo>
                      <a:pt x="768" y="236"/>
                    </a:lnTo>
                    <a:lnTo>
                      <a:pt x="769" y="239"/>
                    </a:lnTo>
                    <a:lnTo>
                      <a:pt x="769" y="245"/>
                    </a:lnTo>
                    <a:lnTo>
                      <a:pt x="770" y="253"/>
                    </a:lnTo>
                    <a:lnTo>
                      <a:pt x="771" y="277"/>
                    </a:lnTo>
                    <a:lnTo>
                      <a:pt x="771" y="310"/>
                    </a:lnTo>
                    <a:lnTo>
                      <a:pt x="771" y="316"/>
                    </a:lnTo>
                    <a:lnTo>
                      <a:pt x="770" y="322"/>
                    </a:lnTo>
                    <a:lnTo>
                      <a:pt x="769" y="326"/>
                    </a:lnTo>
                    <a:lnTo>
                      <a:pt x="767" y="329"/>
                    </a:lnTo>
                    <a:lnTo>
                      <a:pt x="764" y="331"/>
                    </a:lnTo>
                    <a:lnTo>
                      <a:pt x="761" y="331"/>
                    </a:lnTo>
                    <a:lnTo>
                      <a:pt x="756" y="329"/>
                    </a:lnTo>
                    <a:lnTo>
                      <a:pt x="751" y="325"/>
                    </a:lnTo>
                    <a:lnTo>
                      <a:pt x="720" y="300"/>
                    </a:lnTo>
                    <a:lnTo>
                      <a:pt x="692" y="276"/>
                    </a:lnTo>
                    <a:lnTo>
                      <a:pt x="665" y="253"/>
                    </a:lnTo>
                    <a:lnTo>
                      <a:pt x="642" y="230"/>
                    </a:lnTo>
                    <a:close/>
                    <a:moveTo>
                      <a:pt x="246" y="255"/>
                    </a:moveTo>
                    <a:lnTo>
                      <a:pt x="243" y="245"/>
                    </a:lnTo>
                    <a:lnTo>
                      <a:pt x="242" y="240"/>
                    </a:lnTo>
                    <a:lnTo>
                      <a:pt x="244" y="237"/>
                    </a:lnTo>
                    <a:lnTo>
                      <a:pt x="248" y="236"/>
                    </a:lnTo>
                    <a:lnTo>
                      <a:pt x="252" y="235"/>
                    </a:lnTo>
                    <a:lnTo>
                      <a:pt x="257" y="235"/>
                    </a:lnTo>
                    <a:lnTo>
                      <a:pt x="285" y="242"/>
                    </a:lnTo>
                    <a:lnTo>
                      <a:pt x="313" y="250"/>
                    </a:lnTo>
                    <a:lnTo>
                      <a:pt x="338" y="257"/>
                    </a:lnTo>
                    <a:lnTo>
                      <a:pt x="361" y="265"/>
                    </a:lnTo>
                    <a:lnTo>
                      <a:pt x="364" y="269"/>
                    </a:lnTo>
                    <a:lnTo>
                      <a:pt x="366" y="275"/>
                    </a:lnTo>
                    <a:lnTo>
                      <a:pt x="366" y="283"/>
                    </a:lnTo>
                    <a:lnTo>
                      <a:pt x="367" y="291"/>
                    </a:lnTo>
                    <a:lnTo>
                      <a:pt x="366" y="312"/>
                    </a:lnTo>
                    <a:lnTo>
                      <a:pt x="361" y="340"/>
                    </a:lnTo>
                    <a:lnTo>
                      <a:pt x="361" y="346"/>
                    </a:lnTo>
                    <a:lnTo>
                      <a:pt x="360" y="353"/>
                    </a:lnTo>
                    <a:lnTo>
                      <a:pt x="358" y="357"/>
                    </a:lnTo>
                    <a:lnTo>
                      <a:pt x="356" y="360"/>
                    </a:lnTo>
                    <a:lnTo>
                      <a:pt x="352" y="361"/>
                    </a:lnTo>
                    <a:lnTo>
                      <a:pt x="347" y="361"/>
                    </a:lnTo>
                    <a:lnTo>
                      <a:pt x="341" y="359"/>
                    </a:lnTo>
                    <a:lnTo>
                      <a:pt x="336" y="355"/>
                    </a:lnTo>
                    <a:lnTo>
                      <a:pt x="320" y="339"/>
                    </a:lnTo>
                    <a:lnTo>
                      <a:pt x="299" y="318"/>
                    </a:lnTo>
                    <a:lnTo>
                      <a:pt x="275" y="289"/>
                    </a:lnTo>
                    <a:lnTo>
                      <a:pt x="246" y="255"/>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215" name="Freeform 18"/>
              <p:cNvSpPr/>
              <p:nvPr/>
            </p:nvSpPr>
            <p:spPr>
              <a:xfrm>
                <a:off x="5064840" y="1212120"/>
                <a:ext cx="185400" cy="141480"/>
              </a:xfrm>
              <a:custGeom>
                <a:avLst/>
                <a:gdLst>
                  <a:gd name="textAreaLeft" fmla="*/ 0 w 185400"/>
                  <a:gd name="textAreaRight" fmla="*/ 185760 w 185400"/>
                  <a:gd name="textAreaTop" fmla="*/ 0 h 141480"/>
                  <a:gd name="textAreaBottom" fmla="*/ 141840 h 141480"/>
                </a:gdLst>
                <a:ahLst/>
                <a:rect l="textAreaLeft" t="textAreaTop" r="textAreaRight" b="textAreaBottom"/>
                <a:pathLst>
                  <a:path w="1167" h="933">
                    <a:moveTo>
                      <a:pt x="1090" y="796"/>
                    </a:moveTo>
                    <a:lnTo>
                      <a:pt x="1098" y="797"/>
                    </a:lnTo>
                    <a:lnTo>
                      <a:pt x="1105" y="800"/>
                    </a:lnTo>
                    <a:lnTo>
                      <a:pt x="1112" y="804"/>
                    </a:lnTo>
                    <a:lnTo>
                      <a:pt x="1120" y="811"/>
                    </a:lnTo>
                    <a:lnTo>
                      <a:pt x="1125" y="815"/>
                    </a:lnTo>
                    <a:lnTo>
                      <a:pt x="1131" y="821"/>
                    </a:lnTo>
                    <a:lnTo>
                      <a:pt x="1138" y="830"/>
                    </a:lnTo>
                    <a:lnTo>
                      <a:pt x="1145" y="842"/>
                    </a:lnTo>
                    <a:lnTo>
                      <a:pt x="1158" y="858"/>
                    </a:lnTo>
                    <a:lnTo>
                      <a:pt x="1165" y="871"/>
                    </a:lnTo>
                    <a:lnTo>
                      <a:pt x="1167" y="879"/>
                    </a:lnTo>
                    <a:lnTo>
                      <a:pt x="1167" y="884"/>
                    </a:lnTo>
                    <a:lnTo>
                      <a:pt x="1167" y="889"/>
                    </a:lnTo>
                    <a:lnTo>
                      <a:pt x="1166" y="893"/>
                    </a:lnTo>
                    <a:lnTo>
                      <a:pt x="1164" y="897"/>
                    </a:lnTo>
                    <a:lnTo>
                      <a:pt x="1160" y="900"/>
                    </a:lnTo>
                    <a:lnTo>
                      <a:pt x="1156" y="901"/>
                    </a:lnTo>
                    <a:lnTo>
                      <a:pt x="1150" y="901"/>
                    </a:lnTo>
                    <a:lnTo>
                      <a:pt x="1119" y="898"/>
                    </a:lnTo>
                    <a:lnTo>
                      <a:pt x="1084" y="896"/>
                    </a:lnTo>
                    <a:lnTo>
                      <a:pt x="1046" y="893"/>
                    </a:lnTo>
                    <a:lnTo>
                      <a:pt x="1005" y="892"/>
                    </a:lnTo>
                    <a:lnTo>
                      <a:pt x="961" y="892"/>
                    </a:lnTo>
                    <a:lnTo>
                      <a:pt x="914" y="892"/>
                    </a:lnTo>
                    <a:lnTo>
                      <a:pt x="863" y="894"/>
                    </a:lnTo>
                    <a:lnTo>
                      <a:pt x="810" y="897"/>
                    </a:lnTo>
                    <a:lnTo>
                      <a:pt x="753" y="899"/>
                    </a:lnTo>
                    <a:lnTo>
                      <a:pt x="698" y="902"/>
                    </a:lnTo>
                    <a:lnTo>
                      <a:pt x="645" y="906"/>
                    </a:lnTo>
                    <a:lnTo>
                      <a:pt x="593" y="910"/>
                    </a:lnTo>
                    <a:lnTo>
                      <a:pt x="544" y="915"/>
                    </a:lnTo>
                    <a:lnTo>
                      <a:pt x="496" y="920"/>
                    </a:lnTo>
                    <a:lnTo>
                      <a:pt x="449" y="925"/>
                    </a:lnTo>
                    <a:lnTo>
                      <a:pt x="405" y="932"/>
                    </a:lnTo>
                    <a:lnTo>
                      <a:pt x="397" y="933"/>
                    </a:lnTo>
                    <a:lnTo>
                      <a:pt x="389" y="933"/>
                    </a:lnTo>
                    <a:lnTo>
                      <a:pt x="379" y="931"/>
                    </a:lnTo>
                    <a:lnTo>
                      <a:pt x="370" y="926"/>
                    </a:lnTo>
                    <a:lnTo>
                      <a:pt x="350" y="906"/>
                    </a:lnTo>
                    <a:lnTo>
                      <a:pt x="334" y="889"/>
                    </a:lnTo>
                    <a:lnTo>
                      <a:pt x="322" y="875"/>
                    </a:lnTo>
                    <a:lnTo>
                      <a:pt x="315" y="866"/>
                    </a:lnTo>
                    <a:lnTo>
                      <a:pt x="362" y="864"/>
                    </a:lnTo>
                    <a:lnTo>
                      <a:pt x="409" y="861"/>
                    </a:lnTo>
                    <a:lnTo>
                      <a:pt x="456" y="857"/>
                    </a:lnTo>
                    <a:lnTo>
                      <a:pt x="502" y="853"/>
                    </a:lnTo>
                    <a:lnTo>
                      <a:pt x="549" y="850"/>
                    </a:lnTo>
                    <a:lnTo>
                      <a:pt x="594" y="846"/>
                    </a:lnTo>
                    <a:lnTo>
                      <a:pt x="640" y="842"/>
                    </a:lnTo>
                    <a:lnTo>
                      <a:pt x="684" y="836"/>
                    </a:lnTo>
                    <a:lnTo>
                      <a:pt x="684" y="825"/>
                    </a:lnTo>
                    <a:lnTo>
                      <a:pt x="684" y="809"/>
                    </a:lnTo>
                    <a:lnTo>
                      <a:pt x="684" y="790"/>
                    </a:lnTo>
                    <a:lnTo>
                      <a:pt x="684" y="766"/>
                    </a:lnTo>
                    <a:lnTo>
                      <a:pt x="688" y="743"/>
                    </a:lnTo>
                    <a:lnTo>
                      <a:pt x="689" y="723"/>
                    </a:lnTo>
                    <a:lnTo>
                      <a:pt x="690" y="705"/>
                    </a:lnTo>
                    <a:lnTo>
                      <a:pt x="690" y="691"/>
                    </a:lnTo>
                    <a:lnTo>
                      <a:pt x="674" y="691"/>
                    </a:lnTo>
                    <a:lnTo>
                      <a:pt x="656" y="692"/>
                    </a:lnTo>
                    <a:lnTo>
                      <a:pt x="637" y="694"/>
                    </a:lnTo>
                    <a:lnTo>
                      <a:pt x="615" y="696"/>
                    </a:lnTo>
                    <a:lnTo>
                      <a:pt x="589" y="701"/>
                    </a:lnTo>
                    <a:lnTo>
                      <a:pt x="570" y="703"/>
                    </a:lnTo>
                    <a:lnTo>
                      <a:pt x="564" y="703"/>
                    </a:lnTo>
                    <a:lnTo>
                      <a:pt x="558" y="703"/>
                    </a:lnTo>
                    <a:lnTo>
                      <a:pt x="556" y="702"/>
                    </a:lnTo>
                    <a:lnTo>
                      <a:pt x="555" y="702"/>
                    </a:lnTo>
                    <a:lnTo>
                      <a:pt x="549" y="700"/>
                    </a:lnTo>
                    <a:lnTo>
                      <a:pt x="541" y="695"/>
                    </a:lnTo>
                    <a:lnTo>
                      <a:pt x="534" y="691"/>
                    </a:lnTo>
                    <a:lnTo>
                      <a:pt x="527" y="685"/>
                    </a:lnTo>
                    <a:lnTo>
                      <a:pt x="518" y="677"/>
                    </a:lnTo>
                    <a:lnTo>
                      <a:pt x="509" y="668"/>
                    </a:lnTo>
                    <a:lnTo>
                      <a:pt x="500" y="658"/>
                    </a:lnTo>
                    <a:lnTo>
                      <a:pt x="490" y="647"/>
                    </a:lnTo>
                    <a:lnTo>
                      <a:pt x="509" y="645"/>
                    </a:lnTo>
                    <a:lnTo>
                      <a:pt x="529" y="644"/>
                    </a:lnTo>
                    <a:lnTo>
                      <a:pt x="551" y="642"/>
                    </a:lnTo>
                    <a:lnTo>
                      <a:pt x="575" y="640"/>
                    </a:lnTo>
                    <a:lnTo>
                      <a:pt x="601" y="636"/>
                    </a:lnTo>
                    <a:lnTo>
                      <a:pt x="628" y="632"/>
                    </a:lnTo>
                    <a:lnTo>
                      <a:pt x="658" y="626"/>
                    </a:lnTo>
                    <a:lnTo>
                      <a:pt x="690" y="621"/>
                    </a:lnTo>
                    <a:lnTo>
                      <a:pt x="691" y="607"/>
                    </a:lnTo>
                    <a:lnTo>
                      <a:pt x="691" y="591"/>
                    </a:lnTo>
                    <a:lnTo>
                      <a:pt x="693" y="572"/>
                    </a:lnTo>
                    <a:lnTo>
                      <a:pt x="695" y="551"/>
                    </a:lnTo>
                    <a:lnTo>
                      <a:pt x="695" y="528"/>
                    </a:lnTo>
                    <a:lnTo>
                      <a:pt x="695" y="509"/>
                    </a:lnTo>
                    <a:lnTo>
                      <a:pt x="695" y="493"/>
                    </a:lnTo>
                    <a:lnTo>
                      <a:pt x="695" y="481"/>
                    </a:lnTo>
                    <a:lnTo>
                      <a:pt x="669" y="483"/>
                    </a:lnTo>
                    <a:lnTo>
                      <a:pt x="642" y="488"/>
                    </a:lnTo>
                    <a:lnTo>
                      <a:pt x="618" y="491"/>
                    </a:lnTo>
                    <a:lnTo>
                      <a:pt x="594" y="496"/>
                    </a:lnTo>
                    <a:lnTo>
                      <a:pt x="594" y="513"/>
                    </a:lnTo>
                    <a:lnTo>
                      <a:pt x="593" y="526"/>
                    </a:lnTo>
                    <a:lnTo>
                      <a:pt x="593" y="530"/>
                    </a:lnTo>
                    <a:lnTo>
                      <a:pt x="592" y="533"/>
                    </a:lnTo>
                    <a:lnTo>
                      <a:pt x="591" y="535"/>
                    </a:lnTo>
                    <a:lnTo>
                      <a:pt x="590" y="536"/>
                    </a:lnTo>
                    <a:lnTo>
                      <a:pt x="582" y="532"/>
                    </a:lnTo>
                    <a:lnTo>
                      <a:pt x="573" y="526"/>
                    </a:lnTo>
                    <a:lnTo>
                      <a:pt x="565" y="519"/>
                    </a:lnTo>
                    <a:lnTo>
                      <a:pt x="555" y="511"/>
                    </a:lnTo>
                    <a:lnTo>
                      <a:pt x="534" y="491"/>
                    </a:lnTo>
                    <a:lnTo>
                      <a:pt x="510" y="465"/>
                    </a:lnTo>
                    <a:lnTo>
                      <a:pt x="505" y="406"/>
                    </a:lnTo>
                    <a:lnTo>
                      <a:pt x="499" y="350"/>
                    </a:lnTo>
                    <a:lnTo>
                      <a:pt x="495" y="323"/>
                    </a:lnTo>
                    <a:lnTo>
                      <a:pt x="491" y="297"/>
                    </a:lnTo>
                    <a:lnTo>
                      <a:pt x="486" y="271"/>
                    </a:lnTo>
                    <a:lnTo>
                      <a:pt x="481" y="247"/>
                    </a:lnTo>
                    <a:lnTo>
                      <a:pt x="476" y="224"/>
                    </a:lnTo>
                    <a:lnTo>
                      <a:pt x="469" y="200"/>
                    </a:lnTo>
                    <a:lnTo>
                      <a:pt x="463" y="178"/>
                    </a:lnTo>
                    <a:lnTo>
                      <a:pt x="457" y="157"/>
                    </a:lnTo>
                    <a:lnTo>
                      <a:pt x="449" y="137"/>
                    </a:lnTo>
                    <a:lnTo>
                      <a:pt x="442" y="118"/>
                    </a:lnTo>
                    <a:lnTo>
                      <a:pt x="433" y="99"/>
                    </a:lnTo>
                    <a:lnTo>
                      <a:pt x="425" y="81"/>
                    </a:lnTo>
                    <a:lnTo>
                      <a:pt x="437" y="81"/>
                    </a:lnTo>
                    <a:lnTo>
                      <a:pt x="450" y="82"/>
                    </a:lnTo>
                    <a:lnTo>
                      <a:pt x="466" y="84"/>
                    </a:lnTo>
                    <a:lnTo>
                      <a:pt x="485" y="86"/>
                    </a:lnTo>
                    <a:lnTo>
                      <a:pt x="501" y="88"/>
                    </a:lnTo>
                    <a:lnTo>
                      <a:pt x="514" y="89"/>
                    </a:lnTo>
                    <a:lnTo>
                      <a:pt x="523" y="90"/>
                    </a:lnTo>
                    <a:lnTo>
                      <a:pt x="530" y="90"/>
                    </a:lnTo>
                    <a:lnTo>
                      <a:pt x="563" y="88"/>
                    </a:lnTo>
                    <a:lnTo>
                      <a:pt x="594" y="85"/>
                    </a:lnTo>
                    <a:lnTo>
                      <a:pt x="625" y="82"/>
                    </a:lnTo>
                    <a:lnTo>
                      <a:pt x="655" y="77"/>
                    </a:lnTo>
                    <a:lnTo>
                      <a:pt x="682" y="73"/>
                    </a:lnTo>
                    <a:lnTo>
                      <a:pt x="709" y="69"/>
                    </a:lnTo>
                    <a:lnTo>
                      <a:pt x="734" y="64"/>
                    </a:lnTo>
                    <a:lnTo>
                      <a:pt x="758" y="58"/>
                    </a:lnTo>
                    <a:lnTo>
                      <a:pt x="780" y="52"/>
                    </a:lnTo>
                    <a:lnTo>
                      <a:pt x="801" y="46"/>
                    </a:lnTo>
                    <a:lnTo>
                      <a:pt x="821" y="39"/>
                    </a:lnTo>
                    <a:lnTo>
                      <a:pt x="839" y="33"/>
                    </a:lnTo>
                    <a:lnTo>
                      <a:pt x="857" y="26"/>
                    </a:lnTo>
                    <a:lnTo>
                      <a:pt x="872" y="17"/>
                    </a:lnTo>
                    <a:lnTo>
                      <a:pt x="887" y="10"/>
                    </a:lnTo>
                    <a:lnTo>
                      <a:pt x="900" y="0"/>
                    </a:lnTo>
                    <a:lnTo>
                      <a:pt x="920" y="19"/>
                    </a:lnTo>
                    <a:lnTo>
                      <a:pt x="940" y="35"/>
                    </a:lnTo>
                    <a:lnTo>
                      <a:pt x="962" y="51"/>
                    </a:lnTo>
                    <a:lnTo>
                      <a:pt x="985" y="65"/>
                    </a:lnTo>
                    <a:lnTo>
                      <a:pt x="1010" y="76"/>
                    </a:lnTo>
                    <a:lnTo>
                      <a:pt x="1035" y="88"/>
                    </a:lnTo>
                    <a:lnTo>
                      <a:pt x="1061" y="98"/>
                    </a:lnTo>
                    <a:lnTo>
                      <a:pt x="1090" y="106"/>
                    </a:lnTo>
                    <a:lnTo>
                      <a:pt x="1085" y="111"/>
                    </a:lnTo>
                    <a:lnTo>
                      <a:pt x="1078" y="119"/>
                    </a:lnTo>
                    <a:lnTo>
                      <a:pt x="1072" y="127"/>
                    </a:lnTo>
                    <a:lnTo>
                      <a:pt x="1067" y="138"/>
                    </a:lnTo>
                    <a:lnTo>
                      <a:pt x="1053" y="163"/>
                    </a:lnTo>
                    <a:lnTo>
                      <a:pt x="1040" y="194"/>
                    </a:lnTo>
                    <a:lnTo>
                      <a:pt x="1025" y="232"/>
                    </a:lnTo>
                    <a:lnTo>
                      <a:pt x="1012" y="276"/>
                    </a:lnTo>
                    <a:lnTo>
                      <a:pt x="996" y="325"/>
                    </a:lnTo>
                    <a:lnTo>
                      <a:pt x="980" y="381"/>
                    </a:lnTo>
                    <a:lnTo>
                      <a:pt x="962" y="438"/>
                    </a:lnTo>
                    <a:lnTo>
                      <a:pt x="947" y="478"/>
                    </a:lnTo>
                    <a:lnTo>
                      <a:pt x="942" y="493"/>
                    </a:lnTo>
                    <a:lnTo>
                      <a:pt x="937" y="502"/>
                    </a:lnTo>
                    <a:lnTo>
                      <a:pt x="933" y="509"/>
                    </a:lnTo>
                    <a:lnTo>
                      <a:pt x="930" y="511"/>
                    </a:lnTo>
                    <a:lnTo>
                      <a:pt x="926" y="510"/>
                    </a:lnTo>
                    <a:lnTo>
                      <a:pt x="922" y="508"/>
                    </a:lnTo>
                    <a:lnTo>
                      <a:pt x="916" y="503"/>
                    </a:lnTo>
                    <a:lnTo>
                      <a:pt x="911" y="498"/>
                    </a:lnTo>
                    <a:lnTo>
                      <a:pt x="899" y="482"/>
                    </a:lnTo>
                    <a:lnTo>
                      <a:pt x="885" y="461"/>
                    </a:lnTo>
                    <a:lnTo>
                      <a:pt x="855" y="465"/>
                    </a:lnTo>
                    <a:lnTo>
                      <a:pt x="824" y="468"/>
                    </a:lnTo>
                    <a:lnTo>
                      <a:pt x="792" y="471"/>
                    </a:lnTo>
                    <a:lnTo>
                      <a:pt x="760" y="471"/>
                    </a:lnTo>
                    <a:lnTo>
                      <a:pt x="760" y="506"/>
                    </a:lnTo>
                    <a:lnTo>
                      <a:pt x="760" y="541"/>
                    </a:lnTo>
                    <a:lnTo>
                      <a:pt x="760" y="576"/>
                    </a:lnTo>
                    <a:lnTo>
                      <a:pt x="760" y="610"/>
                    </a:lnTo>
                    <a:lnTo>
                      <a:pt x="799" y="604"/>
                    </a:lnTo>
                    <a:lnTo>
                      <a:pt x="835" y="597"/>
                    </a:lnTo>
                    <a:lnTo>
                      <a:pt x="869" y="591"/>
                    </a:lnTo>
                    <a:lnTo>
                      <a:pt x="900" y="586"/>
                    </a:lnTo>
                    <a:lnTo>
                      <a:pt x="909" y="586"/>
                    </a:lnTo>
                    <a:lnTo>
                      <a:pt x="917" y="588"/>
                    </a:lnTo>
                    <a:lnTo>
                      <a:pt x="925" y="591"/>
                    </a:lnTo>
                    <a:lnTo>
                      <a:pt x="930" y="596"/>
                    </a:lnTo>
                    <a:lnTo>
                      <a:pt x="940" y="604"/>
                    </a:lnTo>
                    <a:lnTo>
                      <a:pt x="949" y="614"/>
                    </a:lnTo>
                    <a:lnTo>
                      <a:pt x="958" y="624"/>
                    </a:lnTo>
                    <a:lnTo>
                      <a:pt x="965" y="636"/>
                    </a:lnTo>
                    <a:lnTo>
                      <a:pt x="969" y="640"/>
                    </a:lnTo>
                    <a:lnTo>
                      <a:pt x="971" y="644"/>
                    </a:lnTo>
                    <a:lnTo>
                      <a:pt x="971" y="649"/>
                    </a:lnTo>
                    <a:lnTo>
                      <a:pt x="970" y="651"/>
                    </a:lnTo>
                    <a:lnTo>
                      <a:pt x="969" y="653"/>
                    </a:lnTo>
                    <a:lnTo>
                      <a:pt x="967" y="655"/>
                    </a:lnTo>
                    <a:lnTo>
                      <a:pt x="964" y="656"/>
                    </a:lnTo>
                    <a:lnTo>
                      <a:pt x="960" y="656"/>
                    </a:lnTo>
                    <a:lnTo>
                      <a:pt x="946" y="657"/>
                    </a:lnTo>
                    <a:lnTo>
                      <a:pt x="929" y="659"/>
                    </a:lnTo>
                    <a:lnTo>
                      <a:pt x="909" y="662"/>
                    </a:lnTo>
                    <a:lnTo>
                      <a:pt x="885" y="665"/>
                    </a:lnTo>
                    <a:lnTo>
                      <a:pt x="858" y="668"/>
                    </a:lnTo>
                    <a:lnTo>
                      <a:pt x="828" y="672"/>
                    </a:lnTo>
                    <a:lnTo>
                      <a:pt x="796" y="676"/>
                    </a:lnTo>
                    <a:lnTo>
                      <a:pt x="760" y="681"/>
                    </a:lnTo>
                    <a:lnTo>
                      <a:pt x="760" y="827"/>
                    </a:lnTo>
                    <a:lnTo>
                      <a:pt x="801" y="821"/>
                    </a:lnTo>
                    <a:lnTo>
                      <a:pt x="842" y="817"/>
                    </a:lnTo>
                    <a:lnTo>
                      <a:pt x="884" y="813"/>
                    </a:lnTo>
                    <a:lnTo>
                      <a:pt x="925" y="809"/>
                    </a:lnTo>
                    <a:lnTo>
                      <a:pt x="966" y="805"/>
                    </a:lnTo>
                    <a:lnTo>
                      <a:pt x="1007" y="801"/>
                    </a:lnTo>
                    <a:lnTo>
                      <a:pt x="1049" y="799"/>
                    </a:lnTo>
                    <a:lnTo>
                      <a:pt x="1090" y="796"/>
                    </a:lnTo>
                    <a:close/>
                    <a:moveTo>
                      <a:pt x="430" y="410"/>
                    </a:moveTo>
                    <a:lnTo>
                      <a:pt x="393" y="419"/>
                    </a:lnTo>
                    <a:lnTo>
                      <a:pt x="357" y="426"/>
                    </a:lnTo>
                    <a:lnTo>
                      <a:pt x="323" y="434"/>
                    </a:lnTo>
                    <a:lnTo>
                      <a:pt x="290" y="441"/>
                    </a:lnTo>
                    <a:lnTo>
                      <a:pt x="290" y="456"/>
                    </a:lnTo>
                    <a:lnTo>
                      <a:pt x="290" y="475"/>
                    </a:lnTo>
                    <a:lnTo>
                      <a:pt x="290" y="498"/>
                    </a:lnTo>
                    <a:lnTo>
                      <a:pt x="290" y="526"/>
                    </a:lnTo>
                    <a:lnTo>
                      <a:pt x="287" y="556"/>
                    </a:lnTo>
                    <a:lnTo>
                      <a:pt x="286" y="584"/>
                    </a:lnTo>
                    <a:lnTo>
                      <a:pt x="285" y="606"/>
                    </a:lnTo>
                    <a:lnTo>
                      <a:pt x="285" y="626"/>
                    </a:lnTo>
                    <a:lnTo>
                      <a:pt x="323" y="612"/>
                    </a:lnTo>
                    <a:lnTo>
                      <a:pt x="360" y="596"/>
                    </a:lnTo>
                    <a:lnTo>
                      <a:pt x="393" y="581"/>
                    </a:lnTo>
                    <a:lnTo>
                      <a:pt x="425" y="566"/>
                    </a:lnTo>
                    <a:lnTo>
                      <a:pt x="434" y="564"/>
                    </a:lnTo>
                    <a:lnTo>
                      <a:pt x="441" y="565"/>
                    </a:lnTo>
                    <a:lnTo>
                      <a:pt x="444" y="566"/>
                    </a:lnTo>
                    <a:lnTo>
                      <a:pt x="446" y="567"/>
                    </a:lnTo>
                    <a:lnTo>
                      <a:pt x="448" y="568"/>
                    </a:lnTo>
                    <a:lnTo>
                      <a:pt x="450" y="571"/>
                    </a:lnTo>
                    <a:lnTo>
                      <a:pt x="450" y="574"/>
                    </a:lnTo>
                    <a:lnTo>
                      <a:pt x="451" y="578"/>
                    </a:lnTo>
                    <a:lnTo>
                      <a:pt x="450" y="582"/>
                    </a:lnTo>
                    <a:lnTo>
                      <a:pt x="450" y="585"/>
                    </a:lnTo>
                    <a:lnTo>
                      <a:pt x="448" y="588"/>
                    </a:lnTo>
                    <a:lnTo>
                      <a:pt x="446" y="590"/>
                    </a:lnTo>
                    <a:lnTo>
                      <a:pt x="443" y="594"/>
                    </a:lnTo>
                    <a:lnTo>
                      <a:pt x="440" y="596"/>
                    </a:lnTo>
                    <a:lnTo>
                      <a:pt x="377" y="636"/>
                    </a:lnTo>
                    <a:lnTo>
                      <a:pt x="320" y="673"/>
                    </a:lnTo>
                    <a:lnTo>
                      <a:pt x="269" y="708"/>
                    </a:lnTo>
                    <a:lnTo>
                      <a:pt x="223" y="740"/>
                    </a:lnTo>
                    <a:lnTo>
                      <a:pt x="181" y="769"/>
                    </a:lnTo>
                    <a:lnTo>
                      <a:pt x="145" y="796"/>
                    </a:lnTo>
                    <a:lnTo>
                      <a:pt x="115" y="820"/>
                    </a:lnTo>
                    <a:lnTo>
                      <a:pt x="90" y="842"/>
                    </a:lnTo>
                    <a:lnTo>
                      <a:pt x="84" y="830"/>
                    </a:lnTo>
                    <a:lnTo>
                      <a:pt x="76" y="817"/>
                    </a:lnTo>
                    <a:lnTo>
                      <a:pt x="68" y="803"/>
                    </a:lnTo>
                    <a:lnTo>
                      <a:pt x="57" y="790"/>
                    </a:lnTo>
                    <a:lnTo>
                      <a:pt x="45" y="775"/>
                    </a:lnTo>
                    <a:lnTo>
                      <a:pt x="32" y="760"/>
                    </a:lnTo>
                    <a:lnTo>
                      <a:pt x="16" y="743"/>
                    </a:lnTo>
                    <a:lnTo>
                      <a:pt x="0" y="726"/>
                    </a:lnTo>
                    <a:lnTo>
                      <a:pt x="17" y="723"/>
                    </a:lnTo>
                    <a:lnTo>
                      <a:pt x="38" y="718"/>
                    </a:lnTo>
                    <a:lnTo>
                      <a:pt x="62" y="711"/>
                    </a:lnTo>
                    <a:lnTo>
                      <a:pt x="87" y="703"/>
                    </a:lnTo>
                    <a:lnTo>
                      <a:pt x="117" y="692"/>
                    </a:lnTo>
                    <a:lnTo>
                      <a:pt x="147" y="680"/>
                    </a:lnTo>
                    <a:lnTo>
                      <a:pt x="182" y="667"/>
                    </a:lnTo>
                    <a:lnTo>
                      <a:pt x="219" y="651"/>
                    </a:lnTo>
                    <a:lnTo>
                      <a:pt x="219" y="621"/>
                    </a:lnTo>
                    <a:lnTo>
                      <a:pt x="219" y="591"/>
                    </a:lnTo>
                    <a:lnTo>
                      <a:pt x="219" y="565"/>
                    </a:lnTo>
                    <a:lnTo>
                      <a:pt x="218" y="539"/>
                    </a:lnTo>
                    <a:lnTo>
                      <a:pt x="218" y="516"/>
                    </a:lnTo>
                    <a:lnTo>
                      <a:pt x="217" y="494"/>
                    </a:lnTo>
                    <a:lnTo>
                      <a:pt x="216" y="474"/>
                    </a:lnTo>
                    <a:lnTo>
                      <a:pt x="215" y="456"/>
                    </a:lnTo>
                    <a:lnTo>
                      <a:pt x="207" y="458"/>
                    </a:lnTo>
                    <a:lnTo>
                      <a:pt x="196" y="461"/>
                    </a:lnTo>
                    <a:lnTo>
                      <a:pt x="183" y="463"/>
                    </a:lnTo>
                    <a:lnTo>
                      <a:pt x="170" y="465"/>
                    </a:lnTo>
                    <a:lnTo>
                      <a:pt x="147" y="470"/>
                    </a:lnTo>
                    <a:lnTo>
                      <a:pt x="133" y="472"/>
                    </a:lnTo>
                    <a:lnTo>
                      <a:pt x="127" y="473"/>
                    </a:lnTo>
                    <a:lnTo>
                      <a:pt x="123" y="473"/>
                    </a:lnTo>
                    <a:lnTo>
                      <a:pt x="121" y="472"/>
                    </a:lnTo>
                    <a:lnTo>
                      <a:pt x="120" y="471"/>
                    </a:lnTo>
                    <a:lnTo>
                      <a:pt x="111" y="466"/>
                    </a:lnTo>
                    <a:lnTo>
                      <a:pt x="103" y="462"/>
                    </a:lnTo>
                    <a:lnTo>
                      <a:pt x="96" y="457"/>
                    </a:lnTo>
                    <a:lnTo>
                      <a:pt x="87" y="450"/>
                    </a:lnTo>
                    <a:lnTo>
                      <a:pt x="80" y="444"/>
                    </a:lnTo>
                    <a:lnTo>
                      <a:pt x="73" y="437"/>
                    </a:lnTo>
                    <a:lnTo>
                      <a:pt x="66" y="429"/>
                    </a:lnTo>
                    <a:lnTo>
                      <a:pt x="60" y="421"/>
                    </a:lnTo>
                    <a:lnTo>
                      <a:pt x="96" y="416"/>
                    </a:lnTo>
                    <a:lnTo>
                      <a:pt x="134" y="408"/>
                    </a:lnTo>
                    <a:lnTo>
                      <a:pt x="173" y="401"/>
                    </a:lnTo>
                    <a:lnTo>
                      <a:pt x="215" y="391"/>
                    </a:lnTo>
                    <a:lnTo>
                      <a:pt x="213" y="365"/>
                    </a:lnTo>
                    <a:lnTo>
                      <a:pt x="212" y="339"/>
                    </a:lnTo>
                    <a:lnTo>
                      <a:pt x="210" y="315"/>
                    </a:lnTo>
                    <a:lnTo>
                      <a:pt x="208" y="294"/>
                    </a:lnTo>
                    <a:lnTo>
                      <a:pt x="205" y="272"/>
                    </a:lnTo>
                    <a:lnTo>
                      <a:pt x="201" y="253"/>
                    </a:lnTo>
                    <a:lnTo>
                      <a:pt x="198" y="236"/>
                    </a:lnTo>
                    <a:lnTo>
                      <a:pt x="195" y="221"/>
                    </a:lnTo>
                    <a:lnTo>
                      <a:pt x="181" y="221"/>
                    </a:lnTo>
                    <a:lnTo>
                      <a:pt x="166" y="222"/>
                    </a:lnTo>
                    <a:lnTo>
                      <a:pt x="148" y="224"/>
                    </a:lnTo>
                    <a:lnTo>
                      <a:pt x="129" y="226"/>
                    </a:lnTo>
                    <a:lnTo>
                      <a:pt x="110" y="229"/>
                    </a:lnTo>
                    <a:lnTo>
                      <a:pt x="100" y="231"/>
                    </a:lnTo>
                    <a:lnTo>
                      <a:pt x="93" y="228"/>
                    </a:lnTo>
                    <a:lnTo>
                      <a:pt x="87" y="224"/>
                    </a:lnTo>
                    <a:lnTo>
                      <a:pt x="80" y="218"/>
                    </a:lnTo>
                    <a:lnTo>
                      <a:pt x="72" y="213"/>
                    </a:lnTo>
                    <a:lnTo>
                      <a:pt x="56" y="198"/>
                    </a:lnTo>
                    <a:lnTo>
                      <a:pt x="39" y="180"/>
                    </a:lnTo>
                    <a:lnTo>
                      <a:pt x="61" y="177"/>
                    </a:lnTo>
                    <a:lnTo>
                      <a:pt x="85" y="173"/>
                    </a:lnTo>
                    <a:lnTo>
                      <a:pt x="112" y="168"/>
                    </a:lnTo>
                    <a:lnTo>
                      <a:pt x="145" y="160"/>
                    </a:lnTo>
                    <a:lnTo>
                      <a:pt x="180" y="153"/>
                    </a:lnTo>
                    <a:lnTo>
                      <a:pt x="219" y="143"/>
                    </a:lnTo>
                    <a:lnTo>
                      <a:pt x="263" y="133"/>
                    </a:lnTo>
                    <a:lnTo>
                      <a:pt x="309" y="121"/>
                    </a:lnTo>
                    <a:lnTo>
                      <a:pt x="331" y="116"/>
                    </a:lnTo>
                    <a:lnTo>
                      <a:pt x="349" y="111"/>
                    </a:lnTo>
                    <a:lnTo>
                      <a:pt x="363" y="108"/>
                    </a:lnTo>
                    <a:lnTo>
                      <a:pt x="375" y="106"/>
                    </a:lnTo>
                    <a:lnTo>
                      <a:pt x="380" y="109"/>
                    </a:lnTo>
                    <a:lnTo>
                      <a:pt x="386" y="113"/>
                    </a:lnTo>
                    <a:lnTo>
                      <a:pt x="393" y="120"/>
                    </a:lnTo>
                    <a:lnTo>
                      <a:pt x="400" y="127"/>
                    </a:lnTo>
                    <a:lnTo>
                      <a:pt x="416" y="146"/>
                    </a:lnTo>
                    <a:lnTo>
                      <a:pt x="434" y="171"/>
                    </a:lnTo>
                    <a:lnTo>
                      <a:pt x="427" y="172"/>
                    </a:lnTo>
                    <a:lnTo>
                      <a:pt x="415" y="176"/>
                    </a:lnTo>
                    <a:lnTo>
                      <a:pt x="387" y="181"/>
                    </a:lnTo>
                    <a:lnTo>
                      <a:pt x="360" y="188"/>
                    </a:lnTo>
                    <a:lnTo>
                      <a:pt x="336" y="192"/>
                    </a:lnTo>
                    <a:lnTo>
                      <a:pt x="313" y="197"/>
                    </a:lnTo>
                    <a:lnTo>
                      <a:pt x="290" y="201"/>
                    </a:lnTo>
                    <a:lnTo>
                      <a:pt x="270" y="205"/>
                    </a:lnTo>
                    <a:lnTo>
                      <a:pt x="252" y="208"/>
                    </a:lnTo>
                    <a:lnTo>
                      <a:pt x="235" y="211"/>
                    </a:lnTo>
                    <a:lnTo>
                      <a:pt x="254" y="215"/>
                    </a:lnTo>
                    <a:lnTo>
                      <a:pt x="272" y="218"/>
                    </a:lnTo>
                    <a:lnTo>
                      <a:pt x="289" y="221"/>
                    </a:lnTo>
                    <a:lnTo>
                      <a:pt x="305" y="221"/>
                    </a:lnTo>
                    <a:lnTo>
                      <a:pt x="302" y="243"/>
                    </a:lnTo>
                    <a:lnTo>
                      <a:pt x="299" y="276"/>
                    </a:lnTo>
                    <a:lnTo>
                      <a:pt x="295" y="318"/>
                    </a:lnTo>
                    <a:lnTo>
                      <a:pt x="290" y="371"/>
                    </a:lnTo>
                    <a:lnTo>
                      <a:pt x="312" y="364"/>
                    </a:lnTo>
                    <a:lnTo>
                      <a:pt x="334" y="357"/>
                    </a:lnTo>
                    <a:lnTo>
                      <a:pt x="355" y="351"/>
                    </a:lnTo>
                    <a:lnTo>
                      <a:pt x="375" y="346"/>
                    </a:lnTo>
                    <a:lnTo>
                      <a:pt x="383" y="351"/>
                    </a:lnTo>
                    <a:lnTo>
                      <a:pt x="390" y="357"/>
                    </a:lnTo>
                    <a:lnTo>
                      <a:pt x="396" y="365"/>
                    </a:lnTo>
                    <a:lnTo>
                      <a:pt x="404" y="372"/>
                    </a:lnTo>
                    <a:lnTo>
                      <a:pt x="410" y="381"/>
                    </a:lnTo>
                    <a:lnTo>
                      <a:pt x="418" y="390"/>
                    </a:lnTo>
                    <a:lnTo>
                      <a:pt x="424" y="400"/>
                    </a:lnTo>
                    <a:lnTo>
                      <a:pt x="430" y="410"/>
                    </a:lnTo>
                    <a:close/>
                    <a:moveTo>
                      <a:pt x="930" y="86"/>
                    </a:moveTo>
                    <a:lnTo>
                      <a:pt x="900" y="89"/>
                    </a:lnTo>
                    <a:lnTo>
                      <a:pt x="871" y="93"/>
                    </a:lnTo>
                    <a:lnTo>
                      <a:pt x="840" y="99"/>
                    </a:lnTo>
                    <a:lnTo>
                      <a:pt x="808" y="103"/>
                    </a:lnTo>
                    <a:lnTo>
                      <a:pt x="777" y="108"/>
                    </a:lnTo>
                    <a:lnTo>
                      <a:pt x="744" y="113"/>
                    </a:lnTo>
                    <a:lnTo>
                      <a:pt x="710" y="120"/>
                    </a:lnTo>
                    <a:lnTo>
                      <a:pt x="675" y="126"/>
                    </a:lnTo>
                    <a:lnTo>
                      <a:pt x="687" y="130"/>
                    </a:lnTo>
                    <a:lnTo>
                      <a:pt x="699" y="135"/>
                    </a:lnTo>
                    <a:lnTo>
                      <a:pt x="712" y="138"/>
                    </a:lnTo>
                    <a:lnTo>
                      <a:pt x="726" y="141"/>
                    </a:lnTo>
                    <a:lnTo>
                      <a:pt x="741" y="143"/>
                    </a:lnTo>
                    <a:lnTo>
                      <a:pt x="756" y="144"/>
                    </a:lnTo>
                    <a:lnTo>
                      <a:pt x="773" y="145"/>
                    </a:lnTo>
                    <a:lnTo>
                      <a:pt x="790" y="145"/>
                    </a:lnTo>
                    <a:lnTo>
                      <a:pt x="783" y="165"/>
                    </a:lnTo>
                    <a:lnTo>
                      <a:pt x="777" y="188"/>
                    </a:lnTo>
                    <a:lnTo>
                      <a:pt x="770" y="215"/>
                    </a:lnTo>
                    <a:lnTo>
                      <a:pt x="765" y="246"/>
                    </a:lnTo>
                    <a:lnTo>
                      <a:pt x="780" y="241"/>
                    </a:lnTo>
                    <a:lnTo>
                      <a:pt x="795" y="237"/>
                    </a:lnTo>
                    <a:lnTo>
                      <a:pt x="810" y="233"/>
                    </a:lnTo>
                    <a:lnTo>
                      <a:pt x="825" y="231"/>
                    </a:lnTo>
                    <a:lnTo>
                      <a:pt x="828" y="230"/>
                    </a:lnTo>
                    <a:lnTo>
                      <a:pt x="833" y="229"/>
                    </a:lnTo>
                    <a:lnTo>
                      <a:pt x="836" y="230"/>
                    </a:lnTo>
                    <a:lnTo>
                      <a:pt x="839" y="231"/>
                    </a:lnTo>
                    <a:lnTo>
                      <a:pt x="842" y="232"/>
                    </a:lnTo>
                    <a:lnTo>
                      <a:pt x="844" y="234"/>
                    </a:lnTo>
                    <a:lnTo>
                      <a:pt x="848" y="237"/>
                    </a:lnTo>
                    <a:lnTo>
                      <a:pt x="850" y="241"/>
                    </a:lnTo>
                    <a:lnTo>
                      <a:pt x="857" y="249"/>
                    </a:lnTo>
                    <a:lnTo>
                      <a:pt x="866" y="260"/>
                    </a:lnTo>
                    <a:lnTo>
                      <a:pt x="873" y="271"/>
                    </a:lnTo>
                    <a:lnTo>
                      <a:pt x="880" y="286"/>
                    </a:lnTo>
                    <a:lnTo>
                      <a:pt x="851" y="289"/>
                    </a:lnTo>
                    <a:lnTo>
                      <a:pt x="821" y="294"/>
                    </a:lnTo>
                    <a:lnTo>
                      <a:pt x="792" y="299"/>
                    </a:lnTo>
                    <a:lnTo>
                      <a:pt x="765" y="305"/>
                    </a:lnTo>
                    <a:lnTo>
                      <a:pt x="765" y="330"/>
                    </a:lnTo>
                    <a:lnTo>
                      <a:pt x="764" y="356"/>
                    </a:lnTo>
                    <a:lnTo>
                      <a:pt x="762" y="385"/>
                    </a:lnTo>
                    <a:lnTo>
                      <a:pt x="760" y="416"/>
                    </a:lnTo>
                    <a:lnTo>
                      <a:pt x="789" y="411"/>
                    </a:lnTo>
                    <a:lnTo>
                      <a:pt x="819" y="407"/>
                    </a:lnTo>
                    <a:lnTo>
                      <a:pt x="848" y="404"/>
                    </a:lnTo>
                    <a:lnTo>
                      <a:pt x="875" y="401"/>
                    </a:lnTo>
                    <a:lnTo>
                      <a:pt x="879" y="379"/>
                    </a:lnTo>
                    <a:lnTo>
                      <a:pt x="884" y="355"/>
                    </a:lnTo>
                    <a:lnTo>
                      <a:pt x="889" y="329"/>
                    </a:lnTo>
                    <a:lnTo>
                      <a:pt x="894" y="300"/>
                    </a:lnTo>
                    <a:lnTo>
                      <a:pt x="899" y="267"/>
                    </a:lnTo>
                    <a:lnTo>
                      <a:pt x="906" y="233"/>
                    </a:lnTo>
                    <a:lnTo>
                      <a:pt x="913" y="195"/>
                    </a:lnTo>
                    <a:lnTo>
                      <a:pt x="920" y="156"/>
                    </a:lnTo>
                    <a:lnTo>
                      <a:pt x="923" y="130"/>
                    </a:lnTo>
                    <a:lnTo>
                      <a:pt x="925" y="110"/>
                    </a:lnTo>
                    <a:lnTo>
                      <a:pt x="928" y="95"/>
                    </a:lnTo>
                    <a:lnTo>
                      <a:pt x="930" y="86"/>
                    </a:lnTo>
                    <a:close/>
                    <a:moveTo>
                      <a:pt x="580" y="281"/>
                    </a:moveTo>
                    <a:lnTo>
                      <a:pt x="591" y="280"/>
                    </a:lnTo>
                    <a:lnTo>
                      <a:pt x="605" y="276"/>
                    </a:lnTo>
                    <a:lnTo>
                      <a:pt x="618" y="275"/>
                    </a:lnTo>
                    <a:lnTo>
                      <a:pt x="638" y="272"/>
                    </a:lnTo>
                    <a:lnTo>
                      <a:pt x="663" y="267"/>
                    </a:lnTo>
                    <a:lnTo>
                      <a:pt x="695" y="261"/>
                    </a:lnTo>
                    <a:lnTo>
                      <a:pt x="690" y="221"/>
                    </a:lnTo>
                    <a:lnTo>
                      <a:pt x="682" y="186"/>
                    </a:lnTo>
                    <a:lnTo>
                      <a:pt x="678" y="170"/>
                    </a:lnTo>
                    <a:lnTo>
                      <a:pt x="675" y="156"/>
                    </a:lnTo>
                    <a:lnTo>
                      <a:pt x="670" y="142"/>
                    </a:lnTo>
                    <a:lnTo>
                      <a:pt x="665" y="130"/>
                    </a:lnTo>
                    <a:lnTo>
                      <a:pt x="654" y="134"/>
                    </a:lnTo>
                    <a:lnTo>
                      <a:pt x="640" y="136"/>
                    </a:lnTo>
                    <a:lnTo>
                      <a:pt x="624" y="138"/>
                    </a:lnTo>
                    <a:lnTo>
                      <a:pt x="605" y="141"/>
                    </a:lnTo>
                    <a:lnTo>
                      <a:pt x="593" y="145"/>
                    </a:lnTo>
                    <a:lnTo>
                      <a:pt x="583" y="148"/>
                    </a:lnTo>
                    <a:lnTo>
                      <a:pt x="573" y="151"/>
                    </a:lnTo>
                    <a:lnTo>
                      <a:pt x="565" y="151"/>
                    </a:lnTo>
                    <a:lnTo>
                      <a:pt x="545" y="126"/>
                    </a:lnTo>
                    <a:lnTo>
                      <a:pt x="546" y="137"/>
                    </a:lnTo>
                    <a:lnTo>
                      <a:pt x="548" y="151"/>
                    </a:lnTo>
                    <a:lnTo>
                      <a:pt x="551" y="166"/>
                    </a:lnTo>
                    <a:lnTo>
                      <a:pt x="555" y="186"/>
                    </a:lnTo>
                    <a:lnTo>
                      <a:pt x="559" y="227"/>
                    </a:lnTo>
                    <a:lnTo>
                      <a:pt x="565" y="265"/>
                    </a:lnTo>
                    <a:lnTo>
                      <a:pt x="569" y="301"/>
                    </a:lnTo>
                    <a:lnTo>
                      <a:pt x="572" y="335"/>
                    </a:lnTo>
                    <a:lnTo>
                      <a:pt x="576" y="365"/>
                    </a:lnTo>
                    <a:lnTo>
                      <a:pt x="580" y="393"/>
                    </a:lnTo>
                    <a:lnTo>
                      <a:pt x="583" y="419"/>
                    </a:lnTo>
                    <a:lnTo>
                      <a:pt x="585" y="441"/>
                    </a:lnTo>
                    <a:lnTo>
                      <a:pt x="610" y="437"/>
                    </a:lnTo>
                    <a:lnTo>
                      <a:pt x="638" y="432"/>
                    </a:lnTo>
                    <a:lnTo>
                      <a:pt x="665" y="428"/>
                    </a:lnTo>
                    <a:lnTo>
                      <a:pt x="695" y="426"/>
                    </a:lnTo>
                    <a:lnTo>
                      <a:pt x="695" y="316"/>
                    </a:lnTo>
                    <a:lnTo>
                      <a:pt x="683" y="317"/>
                    </a:lnTo>
                    <a:lnTo>
                      <a:pt x="670" y="321"/>
                    </a:lnTo>
                    <a:lnTo>
                      <a:pt x="661" y="321"/>
                    </a:lnTo>
                    <a:lnTo>
                      <a:pt x="654" y="322"/>
                    </a:lnTo>
                    <a:lnTo>
                      <a:pt x="648" y="323"/>
                    </a:lnTo>
                    <a:lnTo>
                      <a:pt x="645" y="325"/>
                    </a:lnTo>
                    <a:lnTo>
                      <a:pt x="640" y="325"/>
                    </a:lnTo>
                    <a:lnTo>
                      <a:pt x="634" y="323"/>
                    </a:lnTo>
                    <a:lnTo>
                      <a:pt x="626" y="319"/>
                    </a:lnTo>
                    <a:lnTo>
                      <a:pt x="619" y="315"/>
                    </a:lnTo>
                    <a:lnTo>
                      <a:pt x="610" y="308"/>
                    </a:lnTo>
                    <a:lnTo>
                      <a:pt x="601" y="300"/>
                    </a:lnTo>
                    <a:lnTo>
                      <a:pt x="591" y="292"/>
                    </a:lnTo>
                    <a:lnTo>
                      <a:pt x="580" y="281"/>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216" name="Freeform 19"/>
              <p:cNvSpPr/>
              <p:nvPr/>
            </p:nvSpPr>
            <p:spPr>
              <a:xfrm>
                <a:off x="5269320" y="1201320"/>
                <a:ext cx="177480" cy="167760"/>
              </a:xfrm>
              <a:custGeom>
                <a:avLst/>
                <a:gdLst>
                  <a:gd name="textAreaLeft" fmla="*/ 0 w 177480"/>
                  <a:gd name="textAreaRight" fmla="*/ 177840 w 177480"/>
                  <a:gd name="textAreaTop" fmla="*/ 0 h 167760"/>
                  <a:gd name="textAreaBottom" fmla="*/ 168120 h 167760"/>
                </a:gdLst>
                <a:ahLst/>
                <a:rect l="textAreaLeft" t="textAreaTop" r="textAreaRight" b="textAreaBottom"/>
                <a:pathLst>
                  <a:path w="1111" h="1116">
                    <a:moveTo>
                      <a:pt x="767" y="1015"/>
                    </a:moveTo>
                    <a:lnTo>
                      <a:pt x="730" y="1018"/>
                    </a:lnTo>
                    <a:lnTo>
                      <a:pt x="688" y="1021"/>
                    </a:lnTo>
                    <a:lnTo>
                      <a:pt x="643" y="1025"/>
                    </a:lnTo>
                    <a:lnTo>
                      <a:pt x="591" y="1029"/>
                    </a:lnTo>
                    <a:lnTo>
                      <a:pt x="535" y="1034"/>
                    </a:lnTo>
                    <a:lnTo>
                      <a:pt x="473" y="1038"/>
                    </a:lnTo>
                    <a:lnTo>
                      <a:pt x="408" y="1045"/>
                    </a:lnTo>
                    <a:lnTo>
                      <a:pt x="336" y="1050"/>
                    </a:lnTo>
                    <a:lnTo>
                      <a:pt x="336" y="1059"/>
                    </a:lnTo>
                    <a:lnTo>
                      <a:pt x="336" y="1067"/>
                    </a:lnTo>
                    <a:lnTo>
                      <a:pt x="336" y="1076"/>
                    </a:lnTo>
                    <a:lnTo>
                      <a:pt x="336" y="1085"/>
                    </a:lnTo>
                    <a:lnTo>
                      <a:pt x="338" y="1099"/>
                    </a:lnTo>
                    <a:lnTo>
                      <a:pt x="339" y="1108"/>
                    </a:lnTo>
                    <a:lnTo>
                      <a:pt x="339" y="1112"/>
                    </a:lnTo>
                    <a:lnTo>
                      <a:pt x="338" y="1114"/>
                    </a:lnTo>
                    <a:lnTo>
                      <a:pt x="338" y="1115"/>
                    </a:lnTo>
                    <a:lnTo>
                      <a:pt x="336" y="1116"/>
                    </a:lnTo>
                    <a:lnTo>
                      <a:pt x="333" y="1116"/>
                    </a:lnTo>
                    <a:lnTo>
                      <a:pt x="327" y="1114"/>
                    </a:lnTo>
                    <a:lnTo>
                      <a:pt x="320" y="1110"/>
                    </a:lnTo>
                    <a:lnTo>
                      <a:pt x="310" y="1105"/>
                    </a:lnTo>
                    <a:lnTo>
                      <a:pt x="285" y="1089"/>
                    </a:lnTo>
                    <a:lnTo>
                      <a:pt x="251" y="1065"/>
                    </a:lnTo>
                    <a:lnTo>
                      <a:pt x="252" y="1044"/>
                    </a:lnTo>
                    <a:lnTo>
                      <a:pt x="253" y="1021"/>
                    </a:lnTo>
                    <a:lnTo>
                      <a:pt x="252" y="1000"/>
                    </a:lnTo>
                    <a:lnTo>
                      <a:pt x="252" y="979"/>
                    </a:lnTo>
                    <a:lnTo>
                      <a:pt x="250" y="959"/>
                    </a:lnTo>
                    <a:lnTo>
                      <a:pt x="248" y="938"/>
                    </a:lnTo>
                    <a:lnTo>
                      <a:pt x="246" y="918"/>
                    </a:lnTo>
                    <a:lnTo>
                      <a:pt x="242" y="897"/>
                    </a:lnTo>
                    <a:lnTo>
                      <a:pt x="238" y="877"/>
                    </a:lnTo>
                    <a:lnTo>
                      <a:pt x="234" y="858"/>
                    </a:lnTo>
                    <a:lnTo>
                      <a:pt x="230" y="838"/>
                    </a:lnTo>
                    <a:lnTo>
                      <a:pt x="224" y="819"/>
                    </a:lnTo>
                    <a:lnTo>
                      <a:pt x="218" y="800"/>
                    </a:lnTo>
                    <a:lnTo>
                      <a:pt x="212" y="782"/>
                    </a:lnTo>
                    <a:lnTo>
                      <a:pt x="204" y="763"/>
                    </a:lnTo>
                    <a:lnTo>
                      <a:pt x="196" y="745"/>
                    </a:lnTo>
                    <a:lnTo>
                      <a:pt x="204" y="747"/>
                    </a:lnTo>
                    <a:lnTo>
                      <a:pt x="215" y="750"/>
                    </a:lnTo>
                    <a:lnTo>
                      <a:pt x="228" y="752"/>
                    </a:lnTo>
                    <a:lnTo>
                      <a:pt x="241" y="755"/>
                    </a:lnTo>
                    <a:lnTo>
                      <a:pt x="262" y="760"/>
                    </a:lnTo>
                    <a:lnTo>
                      <a:pt x="278" y="764"/>
                    </a:lnTo>
                    <a:lnTo>
                      <a:pt x="292" y="767"/>
                    </a:lnTo>
                    <a:lnTo>
                      <a:pt x="301" y="770"/>
                    </a:lnTo>
                    <a:lnTo>
                      <a:pt x="366" y="763"/>
                    </a:lnTo>
                    <a:lnTo>
                      <a:pt x="426" y="755"/>
                    </a:lnTo>
                    <a:lnTo>
                      <a:pt x="479" y="747"/>
                    </a:lnTo>
                    <a:lnTo>
                      <a:pt x="525" y="737"/>
                    </a:lnTo>
                    <a:lnTo>
                      <a:pt x="545" y="732"/>
                    </a:lnTo>
                    <a:lnTo>
                      <a:pt x="566" y="727"/>
                    </a:lnTo>
                    <a:lnTo>
                      <a:pt x="582" y="722"/>
                    </a:lnTo>
                    <a:lnTo>
                      <a:pt x="598" y="715"/>
                    </a:lnTo>
                    <a:lnTo>
                      <a:pt x="613" y="710"/>
                    </a:lnTo>
                    <a:lnTo>
                      <a:pt x="626" y="704"/>
                    </a:lnTo>
                    <a:lnTo>
                      <a:pt x="636" y="697"/>
                    </a:lnTo>
                    <a:lnTo>
                      <a:pt x="646" y="690"/>
                    </a:lnTo>
                    <a:lnTo>
                      <a:pt x="664" y="704"/>
                    </a:lnTo>
                    <a:lnTo>
                      <a:pt x="683" y="716"/>
                    </a:lnTo>
                    <a:lnTo>
                      <a:pt x="703" y="728"/>
                    </a:lnTo>
                    <a:lnTo>
                      <a:pt x="727" y="739"/>
                    </a:lnTo>
                    <a:lnTo>
                      <a:pt x="751" y="749"/>
                    </a:lnTo>
                    <a:lnTo>
                      <a:pt x="777" y="759"/>
                    </a:lnTo>
                    <a:lnTo>
                      <a:pt x="806" y="767"/>
                    </a:lnTo>
                    <a:lnTo>
                      <a:pt x="837" y="776"/>
                    </a:lnTo>
                    <a:lnTo>
                      <a:pt x="828" y="781"/>
                    </a:lnTo>
                    <a:lnTo>
                      <a:pt x="819" y="788"/>
                    </a:lnTo>
                    <a:lnTo>
                      <a:pt x="811" y="796"/>
                    </a:lnTo>
                    <a:lnTo>
                      <a:pt x="803" y="803"/>
                    </a:lnTo>
                    <a:lnTo>
                      <a:pt x="794" y="813"/>
                    </a:lnTo>
                    <a:lnTo>
                      <a:pt x="787" y="822"/>
                    </a:lnTo>
                    <a:lnTo>
                      <a:pt x="778" y="833"/>
                    </a:lnTo>
                    <a:lnTo>
                      <a:pt x="771" y="843"/>
                    </a:lnTo>
                    <a:lnTo>
                      <a:pt x="756" y="869"/>
                    </a:lnTo>
                    <a:lnTo>
                      <a:pt x="742" y="896"/>
                    </a:lnTo>
                    <a:lnTo>
                      <a:pt x="730" y="927"/>
                    </a:lnTo>
                    <a:lnTo>
                      <a:pt x="717" y="960"/>
                    </a:lnTo>
                    <a:lnTo>
                      <a:pt x="731" y="975"/>
                    </a:lnTo>
                    <a:lnTo>
                      <a:pt x="743" y="989"/>
                    </a:lnTo>
                    <a:lnTo>
                      <a:pt x="756" y="1002"/>
                    </a:lnTo>
                    <a:lnTo>
                      <a:pt x="767" y="1015"/>
                    </a:lnTo>
                    <a:close/>
                    <a:moveTo>
                      <a:pt x="546" y="289"/>
                    </a:moveTo>
                    <a:lnTo>
                      <a:pt x="559" y="298"/>
                    </a:lnTo>
                    <a:lnTo>
                      <a:pt x="572" y="305"/>
                    </a:lnTo>
                    <a:lnTo>
                      <a:pt x="586" y="313"/>
                    </a:lnTo>
                    <a:lnTo>
                      <a:pt x="598" y="319"/>
                    </a:lnTo>
                    <a:lnTo>
                      <a:pt x="613" y="324"/>
                    </a:lnTo>
                    <a:lnTo>
                      <a:pt x="627" y="328"/>
                    </a:lnTo>
                    <a:lnTo>
                      <a:pt x="642" y="332"/>
                    </a:lnTo>
                    <a:lnTo>
                      <a:pt x="657" y="335"/>
                    </a:lnTo>
                    <a:lnTo>
                      <a:pt x="642" y="351"/>
                    </a:lnTo>
                    <a:lnTo>
                      <a:pt x="629" y="368"/>
                    </a:lnTo>
                    <a:lnTo>
                      <a:pt x="617" y="386"/>
                    </a:lnTo>
                    <a:lnTo>
                      <a:pt x="607" y="405"/>
                    </a:lnTo>
                    <a:lnTo>
                      <a:pt x="614" y="410"/>
                    </a:lnTo>
                    <a:lnTo>
                      <a:pt x="624" y="417"/>
                    </a:lnTo>
                    <a:lnTo>
                      <a:pt x="634" y="426"/>
                    </a:lnTo>
                    <a:lnTo>
                      <a:pt x="646" y="434"/>
                    </a:lnTo>
                    <a:lnTo>
                      <a:pt x="683" y="459"/>
                    </a:lnTo>
                    <a:lnTo>
                      <a:pt x="718" y="480"/>
                    </a:lnTo>
                    <a:lnTo>
                      <a:pt x="751" y="499"/>
                    </a:lnTo>
                    <a:lnTo>
                      <a:pt x="782" y="516"/>
                    </a:lnTo>
                    <a:lnTo>
                      <a:pt x="810" y="531"/>
                    </a:lnTo>
                    <a:lnTo>
                      <a:pt x="838" y="542"/>
                    </a:lnTo>
                    <a:lnTo>
                      <a:pt x="863" y="552"/>
                    </a:lnTo>
                    <a:lnTo>
                      <a:pt x="886" y="559"/>
                    </a:lnTo>
                    <a:lnTo>
                      <a:pt x="914" y="569"/>
                    </a:lnTo>
                    <a:lnTo>
                      <a:pt x="940" y="579"/>
                    </a:lnTo>
                    <a:lnTo>
                      <a:pt x="966" y="588"/>
                    </a:lnTo>
                    <a:lnTo>
                      <a:pt x="991" y="599"/>
                    </a:lnTo>
                    <a:lnTo>
                      <a:pt x="1016" y="609"/>
                    </a:lnTo>
                    <a:lnTo>
                      <a:pt x="1040" y="621"/>
                    </a:lnTo>
                    <a:lnTo>
                      <a:pt x="1063" y="633"/>
                    </a:lnTo>
                    <a:lnTo>
                      <a:pt x="1087" y="645"/>
                    </a:lnTo>
                    <a:lnTo>
                      <a:pt x="1097" y="650"/>
                    </a:lnTo>
                    <a:lnTo>
                      <a:pt x="1106" y="655"/>
                    </a:lnTo>
                    <a:lnTo>
                      <a:pt x="1108" y="658"/>
                    </a:lnTo>
                    <a:lnTo>
                      <a:pt x="1110" y="660"/>
                    </a:lnTo>
                    <a:lnTo>
                      <a:pt x="1111" y="662"/>
                    </a:lnTo>
                    <a:lnTo>
                      <a:pt x="1111" y="665"/>
                    </a:lnTo>
                    <a:lnTo>
                      <a:pt x="1111" y="668"/>
                    </a:lnTo>
                    <a:lnTo>
                      <a:pt x="1110" y="670"/>
                    </a:lnTo>
                    <a:lnTo>
                      <a:pt x="1108" y="672"/>
                    </a:lnTo>
                    <a:lnTo>
                      <a:pt x="1106" y="674"/>
                    </a:lnTo>
                    <a:lnTo>
                      <a:pt x="1097" y="677"/>
                    </a:lnTo>
                    <a:lnTo>
                      <a:pt x="1087" y="680"/>
                    </a:lnTo>
                    <a:lnTo>
                      <a:pt x="1075" y="682"/>
                    </a:lnTo>
                    <a:lnTo>
                      <a:pt x="1061" y="684"/>
                    </a:lnTo>
                    <a:lnTo>
                      <a:pt x="1044" y="687"/>
                    </a:lnTo>
                    <a:lnTo>
                      <a:pt x="1024" y="688"/>
                    </a:lnTo>
                    <a:lnTo>
                      <a:pt x="1001" y="689"/>
                    </a:lnTo>
                    <a:lnTo>
                      <a:pt x="975" y="690"/>
                    </a:lnTo>
                    <a:lnTo>
                      <a:pt x="948" y="690"/>
                    </a:lnTo>
                    <a:lnTo>
                      <a:pt x="916" y="690"/>
                    </a:lnTo>
                    <a:lnTo>
                      <a:pt x="898" y="690"/>
                    </a:lnTo>
                    <a:lnTo>
                      <a:pt x="881" y="688"/>
                    </a:lnTo>
                    <a:lnTo>
                      <a:pt x="865" y="686"/>
                    </a:lnTo>
                    <a:lnTo>
                      <a:pt x="850" y="682"/>
                    </a:lnTo>
                    <a:lnTo>
                      <a:pt x="837" y="678"/>
                    </a:lnTo>
                    <a:lnTo>
                      <a:pt x="824" y="673"/>
                    </a:lnTo>
                    <a:lnTo>
                      <a:pt x="812" y="668"/>
                    </a:lnTo>
                    <a:lnTo>
                      <a:pt x="802" y="660"/>
                    </a:lnTo>
                    <a:lnTo>
                      <a:pt x="782" y="644"/>
                    </a:lnTo>
                    <a:lnTo>
                      <a:pt x="756" y="621"/>
                    </a:lnTo>
                    <a:lnTo>
                      <a:pt x="727" y="591"/>
                    </a:lnTo>
                    <a:lnTo>
                      <a:pt x="692" y="555"/>
                    </a:lnTo>
                    <a:lnTo>
                      <a:pt x="659" y="520"/>
                    </a:lnTo>
                    <a:lnTo>
                      <a:pt x="629" y="491"/>
                    </a:lnTo>
                    <a:lnTo>
                      <a:pt x="604" y="467"/>
                    </a:lnTo>
                    <a:lnTo>
                      <a:pt x="581" y="449"/>
                    </a:lnTo>
                    <a:lnTo>
                      <a:pt x="557" y="491"/>
                    </a:lnTo>
                    <a:lnTo>
                      <a:pt x="533" y="529"/>
                    </a:lnTo>
                    <a:lnTo>
                      <a:pt x="508" y="564"/>
                    </a:lnTo>
                    <a:lnTo>
                      <a:pt x="484" y="597"/>
                    </a:lnTo>
                    <a:lnTo>
                      <a:pt x="471" y="611"/>
                    </a:lnTo>
                    <a:lnTo>
                      <a:pt x="459" y="625"/>
                    </a:lnTo>
                    <a:lnTo>
                      <a:pt x="446" y="639"/>
                    </a:lnTo>
                    <a:lnTo>
                      <a:pt x="433" y="652"/>
                    </a:lnTo>
                    <a:lnTo>
                      <a:pt x="420" y="663"/>
                    </a:lnTo>
                    <a:lnTo>
                      <a:pt x="408" y="675"/>
                    </a:lnTo>
                    <a:lnTo>
                      <a:pt x="394" y="686"/>
                    </a:lnTo>
                    <a:lnTo>
                      <a:pt x="381" y="695"/>
                    </a:lnTo>
                    <a:lnTo>
                      <a:pt x="371" y="701"/>
                    </a:lnTo>
                    <a:lnTo>
                      <a:pt x="360" y="707"/>
                    </a:lnTo>
                    <a:lnTo>
                      <a:pt x="349" y="711"/>
                    </a:lnTo>
                    <a:lnTo>
                      <a:pt x="339" y="715"/>
                    </a:lnTo>
                    <a:lnTo>
                      <a:pt x="327" y="717"/>
                    </a:lnTo>
                    <a:lnTo>
                      <a:pt x="317" y="718"/>
                    </a:lnTo>
                    <a:lnTo>
                      <a:pt x="306" y="719"/>
                    </a:lnTo>
                    <a:lnTo>
                      <a:pt x="295" y="718"/>
                    </a:lnTo>
                    <a:lnTo>
                      <a:pt x="284" y="717"/>
                    </a:lnTo>
                    <a:lnTo>
                      <a:pt x="273" y="715"/>
                    </a:lnTo>
                    <a:lnTo>
                      <a:pt x="262" y="712"/>
                    </a:lnTo>
                    <a:lnTo>
                      <a:pt x="251" y="707"/>
                    </a:lnTo>
                    <a:lnTo>
                      <a:pt x="239" y="701"/>
                    </a:lnTo>
                    <a:lnTo>
                      <a:pt x="229" y="695"/>
                    </a:lnTo>
                    <a:lnTo>
                      <a:pt x="217" y="689"/>
                    </a:lnTo>
                    <a:lnTo>
                      <a:pt x="206" y="680"/>
                    </a:lnTo>
                    <a:lnTo>
                      <a:pt x="231" y="671"/>
                    </a:lnTo>
                    <a:lnTo>
                      <a:pt x="255" y="661"/>
                    </a:lnTo>
                    <a:lnTo>
                      <a:pt x="277" y="650"/>
                    </a:lnTo>
                    <a:lnTo>
                      <a:pt x="301" y="638"/>
                    </a:lnTo>
                    <a:lnTo>
                      <a:pt x="322" y="625"/>
                    </a:lnTo>
                    <a:lnTo>
                      <a:pt x="343" y="611"/>
                    </a:lnTo>
                    <a:lnTo>
                      <a:pt x="363" y="597"/>
                    </a:lnTo>
                    <a:lnTo>
                      <a:pt x="382" y="581"/>
                    </a:lnTo>
                    <a:lnTo>
                      <a:pt x="401" y="565"/>
                    </a:lnTo>
                    <a:lnTo>
                      <a:pt x="419" y="548"/>
                    </a:lnTo>
                    <a:lnTo>
                      <a:pt x="436" y="530"/>
                    </a:lnTo>
                    <a:lnTo>
                      <a:pt x="453" y="510"/>
                    </a:lnTo>
                    <a:lnTo>
                      <a:pt x="469" y="491"/>
                    </a:lnTo>
                    <a:lnTo>
                      <a:pt x="484" y="469"/>
                    </a:lnTo>
                    <a:lnTo>
                      <a:pt x="498" y="447"/>
                    </a:lnTo>
                    <a:lnTo>
                      <a:pt x="512" y="425"/>
                    </a:lnTo>
                    <a:lnTo>
                      <a:pt x="521" y="406"/>
                    </a:lnTo>
                    <a:lnTo>
                      <a:pt x="528" y="388"/>
                    </a:lnTo>
                    <a:lnTo>
                      <a:pt x="535" y="371"/>
                    </a:lnTo>
                    <a:lnTo>
                      <a:pt x="540" y="354"/>
                    </a:lnTo>
                    <a:lnTo>
                      <a:pt x="543" y="337"/>
                    </a:lnTo>
                    <a:lnTo>
                      <a:pt x="546" y="321"/>
                    </a:lnTo>
                    <a:lnTo>
                      <a:pt x="546" y="305"/>
                    </a:lnTo>
                    <a:lnTo>
                      <a:pt x="546" y="289"/>
                    </a:lnTo>
                    <a:close/>
                    <a:moveTo>
                      <a:pt x="767" y="129"/>
                    </a:moveTo>
                    <a:lnTo>
                      <a:pt x="788" y="147"/>
                    </a:lnTo>
                    <a:lnTo>
                      <a:pt x="809" y="164"/>
                    </a:lnTo>
                    <a:lnTo>
                      <a:pt x="830" y="180"/>
                    </a:lnTo>
                    <a:lnTo>
                      <a:pt x="852" y="194"/>
                    </a:lnTo>
                    <a:lnTo>
                      <a:pt x="873" y="205"/>
                    </a:lnTo>
                    <a:lnTo>
                      <a:pt x="894" y="217"/>
                    </a:lnTo>
                    <a:lnTo>
                      <a:pt x="915" y="227"/>
                    </a:lnTo>
                    <a:lnTo>
                      <a:pt x="936" y="235"/>
                    </a:lnTo>
                    <a:lnTo>
                      <a:pt x="912" y="249"/>
                    </a:lnTo>
                    <a:lnTo>
                      <a:pt x="882" y="266"/>
                    </a:lnTo>
                    <a:lnTo>
                      <a:pt x="849" y="286"/>
                    </a:lnTo>
                    <a:lnTo>
                      <a:pt x="811" y="309"/>
                    </a:lnTo>
                    <a:lnTo>
                      <a:pt x="786" y="326"/>
                    </a:lnTo>
                    <a:lnTo>
                      <a:pt x="763" y="340"/>
                    </a:lnTo>
                    <a:lnTo>
                      <a:pt x="743" y="351"/>
                    </a:lnTo>
                    <a:lnTo>
                      <a:pt x="727" y="360"/>
                    </a:lnTo>
                    <a:lnTo>
                      <a:pt x="719" y="361"/>
                    </a:lnTo>
                    <a:lnTo>
                      <a:pt x="713" y="362"/>
                    </a:lnTo>
                    <a:lnTo>
                      <a:pt x="706" y="361"/>
                    </a:lnTo>
                    <a:lnTo>
                      <a:pt x="701" y="360"/>
                    </a:lnTo>
                    <a:lnTo>
                      <a:pt x="700" y="359"/>
                    </a:lnTo>
                    <a:lnTo>
                      <a:pt x="700" y="358"/>
                    </a:lnTo>
                    <a:lnTo>
                      <a:pt x="700" y="356"/>
                    </a:lnTo>
                    <a:lnTo>
                      <a:pt x="702" y="352"/>
                    </a:lnTo>
                    <a:lnTo>
                      <a:pt x="706" y="344"/>
                    </a:lnTo>
                    <a:lnTo>
                      <a:pt x="713" y="333"/>
                    </a:lnTo>
                    <a:lnTo>
                      <a:pt x="721" y="315"/>
                    </a:lnTo>
                    <a:lnTo>
                      <a:pt x="741" y="279"/>
                    </a:lnTo>
                    <a:lnTo>
                      <a:pt x="756" y="249"/>
                    </a:lnTo>
                    <a:lnTo>
                      <a:pt x="763" y="236"/>
                    </a:lnTo>
                    <a:lnTo>
                      <a:pt x="767" y="226"/>
                    </a:lnTo>
                    <a:lnTo>
                      <a:pt x="770" y="217"/>
                    </a:lnTo>
                    <a:lnTo>
                      <a:pt x="771" y="210"/>
                    </a:lnTo>
                    <a:lnTo>
                      <a:pt x="750" y="216"/>
                    </a:lnTo>
                    <a:lnTo>
                      <a:pt x="728" y="222"/>
                    </a:lnTo>
                    <a:lnTo>
                      <a:pt x="702" y="230"/>
                    </a:lnTo>
                    <a:lnTo>
                      <a:pt x="675" y="237"/>
                    </a:lnTo>
                    <a:lnTo>
                      <a:pt x="646" y="245"/>
                    </a:lnTo>
                    <a:lnTo>
                      <a:pt x="615" y="253"/>
                    </a:lnTo>
                    <a:lnTo>
                      <a:pt x="581" y="261"/>
                    </a:lnTo>
                    <a:lnTo>
                      <a:pt x="546" y="270"/>
                    </a:lnTo>
                    <a:lnTo>
                      <a:pt x="538" y="266"/>
                    </a:lnTo>
                    <a:lnTo>
                      <a:pt x="528" y="258"/>
                    </a:lnTo>
                    <a:lnTo>
                      <a:pt x="518" y="248"/>
                    </a:lnTo>
                    <a:lnTo>
                      <a:pt x="506" y="235"/>
                    </a:lnTo>
                    <a:lnTo>
                      <a:pt x="498" y="251"/>
                    </a:lnTo>
                    <a:lnTo>
                      <a:pt x="487" y="268"/>
                    </a:lnTo>
                    <a:lnTo>
                      <a:pt x="475" y="288"/>
                    </a:lnTo>
                    <a:lnTo>
                      <a:pt x="462" y="309"/>
                    </a:lnTo>
                    <a:lnTo>
                      <a:pt x="459" y="317"/>
                    </a:lnTo>
                    <a:lnTo>
                      <a:pt x="456" y="322"/>
                    </a:lnTo>
                    <a:lnTo>
                      <a:pt x="453" y="326"/>
                    </a:lnTo>
                    <a:lnTo>
                      <a:pt x="451" y="329"/>
                    </a:lnTo>
                    <a:lnTo>
                      <a:pt x="446" y="338"/>
                    </a:lnTo>
                    <a:lnTo>
                      <a:pt x="439" y="344"/>
                    </a:lnTo>
                    <a:lnTo>
                      <a:pt x="433" y="351"/>
                    </a:lnTo>
                    <a:lnTo>
                      <a:pt x="426" y="356"/>
                    </a:lnTo>
                    <a:lnTo>
                      <a:pt x="418" y="360"/>
                    </a:lnTo>
                    <a:lnTo>
                      <a:pt x="411" y="364"/>
                    </a:lnTo>
                    <a:lnTo>
                      <a:pt x="402" y="368"/>
                    </a:lnTo>
                    <a:lnTo>
                      <a:pt x="394" y="370"/>
                    </a:lnTo>
                    <a:lnTo>
                      <a:pt x="384" y="371"/>
                    </a:lnTo>
                    <a:lnTo>
                      <a:pt x="376" y="372"/>
                    </a:lnTo>
                    <a:lnTo>
                      <a:pt x="365" y="372"/>
                    </a:lnTo>
                    <a:lnTo>
                      <a:pt x="356" y="371"/>
                    </a:lnTo>
                    <a:lnTo>
                      <a:pt x="345" y="370"/>
                    </a:lnTo>
                    <a:lnTo>
                      <a:pt x="335" y="367"/>
                    </a:lnTo>
                    <a:lnTo>
                      <a:pt x="323" y="363"/>
                    </a:lnTo>
                    <a:lnTo>
                      <a:pt x="311" y="360"/>
                    </a:lnTo>
                    <a:lnTo>
                      <a:pt x="331" y="342"/>
                    </a:lnTo>
                    <a:lnTo>
                      <a:pt x="351" y="323"/>
                    </a:lnTo>
                    <a:lnTo>
                      <a:pt x="367" y="304"/>
                    </a:lnTo>
                    <a:lnTo>
                      <a:pt x="384" y="285"/>
                    </a:lnTo>
                    <a:lnTo>
                      <a:pt x="399" y="265"/>
                    </a:lnTo>
                    <a:lnTo>
                      <a:pt x="414" y="244"/>
                    </a:lnTo>
                    <a:lnTo>
                      <a:pt x="427" y="221"/>
                    </a:lnTo>
                    <a:lnTo>
                      <a:pt x="438" y="199"/>
                    </a:lnTo>
                    <a:lnTo>
                      <a:pt x="449" y="177"/>
                    </a:lnTo>
                    <a:lnTo>
                      <a:pt x="459" y="154"/>
                    </a:lnTo>
                    <a:lnTo>
                      <a:pt x="467" y="129"/>
                    </a:lnTo>
                    <a:lnTo>
                      <a:pt x="474" y="105"/>
                    </a:lnTo>
                    <a:lnTo>
                      <a:pt x="481" y="79"/>
                    </a:lnTo>
                    <a:lnTo>
                      <a:pt x="485" y="53"/>
                    </a:lnTo>
                    <a:lnTo>
                      <a:pt x="489" y="26"/>
                    </a:lnTo>
                    <a:lnTo>
                      <a:pt x="491" y="0"/>
                    </a:lnTo>
                    <a:lnTo>
                      <a:pt x="506" y="8"/>
                    </a:lnTo>
                    <a:lnTo>
                      <a:pt x="521" y="17"/>
                    </a:lnTo>
                    <a:lnTo>
                      <a:pt x="536" y="24"/>
                    </a:lnTo>
                    <a:lnTo>
                      <a:pt x="550" y="30"/>
                    </a:lnTo>
                    <a:lnTo>
                      <a:pt x="564" y="34"/>
                    </a:lnTo>
                    <a:lnTo>
                      <a:pt x="578" y="37"/>
                    </a:lnTo>
                    <a:lnTo>
                      <a:pt x="592" y="39"/>
                    </a:lnTo>
                    <a:lnTo>
                      <a:pt x="607" y="39"/>
                    </a:lnTo>
                    <a:lnTo>
                      <a:pt x="600" y="45"/>
                    </a:lnTo>
                    <a:lnTo>
                      <a:pt x="593" y="53"/>
                    </a:lnTo>
                    <a:lnTo>
                      <a:pt x="587" y="62"/>
                    </a:lnTo>
                    <a:lnTo>
                      <a:pt x="580" y="74"/>
                    </a:lnTo>
                    <a:lnTo>
                      <a:pt x="573" y="88"/>
                    </a:lnTo>
                    <a:lnTo>
                      <a:pt x="566" y="103"/>
                    </a:lnTo>
                    <a:lnTo>
                      <a:pt x="559" y="121"/>
                    </a:lnTo>
                    <a:lnTo>
                      <a:pt x="552" y="140"/>
                    </a:lnTo>
                    <a:lnTo>
                      <a:pt x="549" y="145"/>
                    </a:lnTo>
                    <a:lnTo>
                      <a:pt x="545" y="154"/>
                    </a:lnTo>
                    <a:lnTo>
                      <a:pt x="541" y="163"/>
                    </a:lnTo>
                    <a:lnTo>
                      <a:pt x="536" y="175"/>
                    </a:lnTo>
                    <a:lnTo>
                      <a:pt x="530" y="186"/>
                    </a:lnTo>
                    <a:lnTo>
                      <a:pt x="524" y="197"/>
                    </a:lnTo>
                    <a:lnTo>
                      <a:pt x="520" y="207"/>
                    </a:lnTo>
                    <a:lnTo>
                      <a:pt x="517" y="215"/>
                    </a:lnTo>
                    <a:lnTo>
                      <a:pt x="563" y="207"/>
                    </a:lnTo>
                    <a:lnTo>
                      <a:pt x="605" y="198"/>
                    </a:lnTo>
                    <a:lnTo>
                      <a:pt x="643" y="189"/>
                    </a:lnTo>
                    <a:lnTo>
                      <a:pt x="677" y="178"/>
                    </a:lnTo>
                    <a:lnTo>
                      <a:pt x="692" y="173"/>
                    </a:lnTo>
                    <a:lnTo>
                      <a:pt x="705" y="167"/>
                    </a:lnTo>
                    <a:lnTo>
                      <a:pt x="718" y="161"/>
                    </a:lnTo>
                    <a:lnTo>
                      <a:pt x="730" y="156"/>
                    </a:lnTo>
                    <a:lnTo>
                      <a:pt x="740" y="149"/>
                    </a:lnTo>
                    <a:lnTo>
                      <a:pt x="751" y="143"/>
                    </a:lnTo>
                    <a:lnTo>
                      <a:pt x="759" y="137"/>
                    </a:lnTo>
                    <a:lnTo>
                      <a:pt x="767" y="129"/>
                    </a:lnTo>
                    <a:close/>
                    <a:moveTo>
                      <a:pt x="317" y="830"/>
                    </a:moveTo>
                    <a:lnTo>
                      <a:pt x="320" y="855"/>
                    </a:lnTo>
                    <a:lnTo>
                      <a:pt x="323" y="878"/>
                    </a:lnTo>
                    <a:lnTo>
                      <a:pt x="325" y="902"/>
                    </a:lnTo>
                    <a:lnTo>
                      <a:pt x="327" y="924"/>
                    </a:lnTo>
                    <a:lnTo>
                      <a:pt x="329" y="945"/>
                    </a:lnTo>
                    <a:lnTo>
                      <a:pt x="330" y="966"/>
                    </a:lnTo>
                    <a:lnTo>
                      <a:pt x="331" y="987"/>
                    </a:lnTo>
                    <a:lnTo>
                      <a:pt x="331" y="1006"/>
                    </a:lnTo>
                    <a:lnTo>
                      <a:pt x="346" y="1003"/>
                    </a:lnTo>
                    <a:lnTo>
                      <a:pt x="364" y="1001"/>
                    </a:lnTo>
                    <a:lnTo>
                      <a:pt x="385" y="999"/>
                    </a:lnTo>
                    <a:lnTo>
                      <a:pt x="409" y="996"/>
                    </a:lnTo>
                    <a:lnTo>
                      <a:pt x="435" y="993"/>
                    </a:lnTo>
                    <a:lnTo>
                      <a:pt x="464" y="990"/>
                    </a:lnTo>
                    <a:lnTo>
                      <a:pt x="497" y="985"/>
                    </a:lnTo>
                    <a:lnTo>
                      <a:pt x="532" y="980"/>
                    </a:lnTo>
                    <a:lnTo>
                      <a:pt x="563" y="976"/>
                    </a:lnTo>
                    <a:lnTo>
                      <a:pt x="590" y="972"/>
                    </a:lnTo>
                    <a:lnTo>
                      <a:pt x="611" y="968"/>
                    </a:lnTo>
                    <a:lnTo>
                      <a:pt x="626" y="965"/>
                    </a:lnTo>
                    <a:lnTo>
                      <a:pt x="629" y="946"/>
                    </a:lnTo>
                    <a:lnTo>
                      <a:pt x="632" y="925"/>
                    </a:lnTo>
                    <a:lnTo>
                      <a:pt x="636" y="902"/>
                    </a:lnTo>
                    <a:lnTo>
                      <a:pt x="642" y="875"/>
                    </a:lnTo>
                    <a:lnTo>
                      <a:pt x="646" y="855"/>
                    </a:lnTo>
                    <a:lnTo>
                      <a:pt x="649" y="838"/>
                    </a:lnTo>
                    <a:lnTo>
                      <a:pt x="651" y="823"/>
                    </a:lnTo>
                    <a:lnTo>
                      <a:pt x="652" y="812"/>
                    </a:lnTo>
                    <a:lnTo>
                      <a:pt x="652" y="802"/>
                    </a:lnTo>
                    <a:lnTo>
                      <a:pt x="651" y="796"/>
                    </a:lnTo>
                    <a:lnTo>
                      <a:pt x="650" y="793"/>
                    </a:lnTo>
                    <a:lnTo>
                      <a:pt x="649" y="792"/>
                    </a:lnTo>
                    <a:lnTo>
                      <a:pt x="648" y="790"/>
                    </a:lnTo>
                    <a:lnTo>
                      <a:pt x="646" y="790"/>
                    </a:lnTo>
                    <a:lnTo>
                      <a:pt x="642" y="789"/>
                    </a:lnTo>
                    <a:lnTo>
                      <a:pt x="635" y="788"/>
                    </a:lnTo>
                    <a:lnTo>
                      <a:pt x="627" y="788"/>
                    </a:lnTo>
                    <a:lnTo>
                      <a:pt x="616" y="788"/>
                    </a:lnTo>
                    <a:lnTo>
                      <a:pt x="588" y="792"/>
                    </a:lnTo>
                    <a:lnTo>
                      <a:pt x="552" y="795"/>
                    </a:lnTo>
                    <a:lnTo>
                      <a:pt x="506" y="801"/>
                    </a:lnTo>
                    <a:lnTo>
                      <a:pt x="451" y="808"/>
                    </a:lnTo>
                    <a:lnTo>
                      <a:pt x="389" y="819"/>
                    </a:lnTo>
                    <a:lnTo>
                      <a:pt x="317" y="830"/>
                    </a:lnTo>
                    <a:close/>
                    <a:moveTo>
                      <a:pt x="71" y="705"/>
                    </a:moveTo>
                    <a:lnTo>
                      <a:pt x="60" y="689"/>
                    </a:lnTo>
                    <a:lnTo>
                      <a:pt x="47" y="669"/>
                    </a:lnTo>
                    <a:lnTo>
                      <a:pt x="30" y="646"/>
                    </a:lnTo>
                    <a:lnTo>
                      <a:pt x="12" y="620"/>
                    </a:lnTo>
                    <a:lnTo>
                      <a:pt x="7" y="617"/>
                    </a:lnTo>
                    <a:lnTo>
                      <a:pt x="6" y="615"/>
                    </a:lnTo>
                    <a:lnTo>
                      <a:pt x="3" y="610"/>
                    </a:lnTo>
                    <a:lnTo>
                      <a:pt x="1" y="606"/>
                    </a:lnTo>
                    <a:lnTo>
                      <a:pt x="0" y="602"/>
                    </a:lnTo>
                    <a:lnTo>
                      <a:pt x="0" y="599"/>
                    </a:lnTo>
                    <a:lnTo>
                      <a:pt x="1" y="595"/>
                    </a:lnTo>
                    <a:lnTo>
                      <a:pt x="3" y="593"/>
                    </a:lnTo>
                    <a:lnTo>
                      <a:pt x="6" y="591"/>
                    </a:lnTo>
                    <a:lnTo>
                      <a:pt x="12" y="590"/>
                    </a:lnTo>
                    <a:lnTo>
                      <a:pt x="53" y="573"/>
                    </a:lnTo>
                    <a:lnTo>
                      <a:pt x="94" y="555"/>
                    </a:lnTo>
                    <a:lnTo>
                      <a:pt x="137" y="535"/>
                    </a:lnTo>
                    <a:lnTo>
                      <a:pt x="179" y="515"/>
                    </a:lnTo>
                    <a:lnTo>
                      <a:pt x="221" y="493"/>
                    </a:lnTo>
                    <a:lnTo>
                      <a:pt x="265" y="469"/>
                    </a:lnTo>
                    <a:lnTo>
                      <a:pt x="308" y="445"/>
                    </a:lnTo>
                    <a:lnTo>
                      <a:pt x="352" y="420"/>
                    </a:lnTo>
                    <a:lnTo>
                      <a:pt x="357" y="418"/>
                    </a:lnTo>
                    <a:lnTo>
                      <a:pt x="362" y="420"/>
                    </a:lnTo>
                    <a:lnTo>
                      <a:pt x="365" y="421"/>
                    </a:lnTo>
                    <a:lnTo>
                      <a:pt x="369" y="423"/>
                    </a:lnTo>
                    <a:lnTo>
                      <a:pt x="371" y="425"/>
                    </a:lnTo>
                    <a:lnTo>
                      <a:pt x="372" y="429"/>
                    </a:lnTo>
                    <a:lnTo>
                      <a:pt x="372" y="434"/>
                    </a:lnTo>
                    <a:lnTo>
                      <a:pt x="372" y="440"/>
                    </a:lnTo>
                    <a:lnTo>
                      <a:pt x="354" y="455"/>
                    </a:lnTo>
                    <a:lnTo>
                      <a:pt x="331" y="475"/>
                    </a:lnTo>
                    <a:lnTo>
                      <a:pt x="304" y="500"/>
                    </a:lnTo>
                    <a:lnTo>
                      <a:pt x="271" y="530"/>
                    </a:lnTo>
                    <a:lnTo>
                      <a:pt x="234" y="564"/>
                    </a:lnTo>
                    <a:lnTo>
                      <a:pt x="200" y="593"/>
                    </a:lnTo>
                    <a:lnTo>
                      <a:pt x="170" y="620"/>
                    </a:lnTo>
                    <a:lnTo>
                      <a:pt x="144" y="643"/>
                    </a:lnTo>
                    <a:lnTo>
                      <a:pt x="121" y="664"/>
                    </a:lnTo>
                    <a:lnTo>
                      <a:pt x="101" y="681"/>
                    </a:lnTo>
                    <a:lnTo>
                      <a:pt x="85" y="695"/>
                    </a:lnTo>
                    <a:lnTo>
                      <a:pt x="71" y="705"/>
                    </a:lnTo>
                    <a:close/>
                    <a:moveTo>
                      <a:pt x="111" y="195"/>
                    </a:moveTo>
                    <a:lnTo>
                      <a:pt x="143" y="200"/>
                    </a:lnTo>
                    <a:lnTo>
                      <a:pt x="172" y="207"/>
                    </a:lnTo>
                    <a:lnTo>
                      <a:pt x="197" y="212"/>
                    </a:lnTo>
                    <a:lnTo>
                      <a:pt x="219" y="217"/>
                    </a:lnTo>
                    <a:lnTo>
                      <a:pt x="237" y="222"/>
                    </a:lnTo>
                    <a:lnTo>
                      <a:pt x="252" y="227"/>
                    </a:lnTo>
                    <a:lnTo>
                      <a:pt x="264" y="231"/>
                    </a:lnTo>
                    <a:lnTo>
                      <a:pt x="271" y="235"/>
                    </a:lnTo>
                    <a:lnTo>
                      <a:pt x="273" y="242"/>
                    </a:lnTo>
                    <a:lnTo>
                      <a:pt x="275" y="250"/>
                    </a:lnTo>
                    <a:lnTo>
                      <a:pt x="276" y="261"/>
                    </a:lnTo>
                    <a:lnTo>
                      <a:pt x="277" y="272"/>
                    </a:lnTo>
                    <a:lnTo>
                      <a:pt x="277" y="300"/>
                    </a:lnTo>
                    <a:lnTo>
                      <a:pt x="276" y="335"/>
                    </a:lnTo>
                    <a:lnTo>
                      <a:pt x="274" y="341"/>
                    </a:lnTo>
                    <a:lnTo>
                      <a:pt x="272" y="346"/>
                    </a:lnTo>
                    <a:lnTo>
                      <a:pt x="269" y="351"/>
                    </a:lnTo>
                    <a:lnTo>
                      <a:pt x="265" y="352"/>
                    </a:lnTo>
                    <a:lnTo>
                      <a:pt x="260" y="353"/>
                    </a:lnTo>
                    <a:lnTo>
                      <a:pt x="255" y="352"/>
                    </a:lnTo>
                    <a:lnTo>
                      <a:pt x="249" y="349"/>
                    </a:lnTo>
                    <a:lnTo>
                      <a:pt x="241" y="344"/>
                    </a:lnTo>
                    <a:lnTo>
                      <a:pt x="227" y="336"/>
                    </a:lnTo>
                    <a:lnTo>
                      <a:pt x="212" y="325"/>
                    </a:lnTo>
                    <a:lnTo>
                      <a:pt x="196" y="313"/>
                    </a:lnTo>
                    <a:lnTo>
                      <a:pt x="179" y="299"/>
                    </a:lnTo>
                    <a:lnTo>
                      <a:pt x="161" y="282"/>
                    </a:lnTo>
                    <a:lnTo>
                      <a:pt x="142" y="263"/>
                    </a:lnTo>
                    <a:lnTo>
                      <a:pt x="122" y="243"/>
                    </a:lnTo>
                    <a:lnTo>
                      <a:pt x="102" y="219"/>
                    </a:lnTo>
                    <a:lnTo>
                      <a:pt x="97" y="213"/>
                    </a:lnTo>
                    <a:lnTo>
                      <a:pt x="94" y="207"/>
                    </a:lnTo>
                    <a:lnTo>
                      <a:pt x="92" y="202"/>
                    </a:lnTo>
                    <a:lnTo>
                      <a:pt x="91" y="200"/>
                    </a:lnTo>
                    <a:lnTo>
                      <a:pt x="93" y="197"/>
                    </a:lnTo>
                    <a:lnTo>
                      <a:pt x="94" y="196"/>
                    </a:lnTo>
                    <a:lnTo>
                      <a:pt x="96" y="194"/>
                    </a:lnTo>
                    <a:lnTo>
                      <a:pt x="98" y="193"/>
                    </a:lnTo>
                    <a:lnTo>
                      <a:pt x="105" y="193"/>
                    </a:lnTo>
                    <a:lnTo>
                      <a:pt x="111" y="195"/>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217" name="Freeform 20"/>
              <p:cNvSpPr/>
              <p:nvPr/>
            </p:nvSpPr>
            <p:spPr>
              <a:xfrm>
                <a:off x="5452920" y="1199520"/>
                <a:ext cx="178560" cy="167760"/>
              </a:xfrm>
              <a:custGeom>
                <a:avLst/>
                <a:gdLst>
                  <a:gd name="textAreaLeft" fmla="*/ 0 w 178560"/>
                  <a:gd name="textAreaRight" fmla="*/ 178920 w 178560"/>
                  <a:gd name="textAreaTop" fmla="*/ 0 h 167760"/>
                  <a:gd name="textAreaBottom" fmla="*/ 168120 h 167760"/>
                </a:gdLst>
                <a:ahLst/>
                <a:rect l="textAreaLeft" t="textAreaTop" r="textAreaRight" b="textAreaBottom"/>
                <a:pathLst>
                  <a:path w="1116" h="1113">
                    <a:moveTo>
                      <a:pt x="706" y="0"/>
                    </a:moveTo>
                    <a:lnTo>
                      <a:pt x="715" y="10"/>
                    </a:lnTo>
                    <a:lnTo>
                      <a:pt x="727" y="18"/>
                    </a:lnTo>
                    <a:lnTo>
                      <a:pt x="740" y="27"/>
                    </a:lnTo>
                    <a:lnTo>
                      <a:pt x="754" y="34"/>
                    </a:lnTo>
                    <a:lnTo>
                      <a:pt x="771" y="42"/>
                    </a:lnTo>
                    <a:lnTo>
                      <a:pt x="789" y="50"/>
                    </a:lnTo>
                    <a:lnTo>
                      <a:pt x="809" y="58"/>
                    </a:lnTo>
                    <a:lnTo>
                      <a:pt x="831" y="66"/>
                    </a:lnTo>
                    <a:lnTo>
                      <a:pt x="821" y="72"/>
                    </a:lnTo>
                    <a:lnTo>
                      <a:pt x="812" y="82"/>
                    </a:lnTo>
                    <a:lnTo>
                      <a:pt x="801" y="91"/>
                    </a:lnTo>
                    <a:lnTo>
                      <a:pt x="793" y="103"/>
                    </a:lnTo>
                    <a:lnTo>
                      <a:pt x="783" y="117"/>
                    </a:lnTo>
                    <a:lnTo>
                      <a:pt x="773" y="131"/>
                    </a:lnTo>
                    <a:lnTo>
                      <a:pt x="765" y="147"/>
                    </a:lnTo>
                    <a:lnTo>
                      <a:pt x="755" y="165"/>
                    </a:lnTo>
                    <a:lnTo>
                      <a:pt x="742" y="193"/>
                    </a:lnTo>
                    <a:lnTo>
                      <a:pt x="725" y="225"/>
                    </a:lnTo>
                    <a:lnTo>
                      <a:pt x="705" y="261"/>
                    </a:lnTo>
                    <a:lnTo>
                      <a:pt x="680" y="301"/>
                    </a:lnTo>
                    <a:lnTo>
                      <a:pt x="672" y="313"/>
                    </a:lnTo>
                    <a:lnTo>
                      <a:pt x="664" y="322"/>
                    </a:lnTo>
                    <a:lnTo>
                      <a:pt x="659" y="330"/>
                    </a:lnTo>
                    <a:lnTo>
                      <a:pt x="656" y="336"/>
                    </a:lnTo>
                    <a:lnTo>
                      <a:pt x="710" y="332"/>
                    </a:lnTo>
                    <a:lnTo>
                      <a:pt x="760" y="326"/>
                    </a:lnTo>
                    <a:lnTo>
                      <a:pt x="805" y="320"/>
                    </a:lnTo>
                    <a:lnTo>
                      <a:pt x="847" y="312"/>
                    </a:lnTo>
                    <a:lnTo>
                      <a:pt x="867" y="307"/>
                    </a:lnTo>
                    <a:lnTo>
                      <a:pt x="885" y="303"/>
                    </a:lnTo>
                    <a:lnTo>
                      <a:pt x="902" y="299"/>
                    </a:lnTo>
                    <a:lnTo>
                      <a:pt x="918" y="294"/>
                    </a:lnTo>
                    <a:lnTo>
                      <a:pt x="932" y="288"/>
                    </a:lnTo>
                    <a:lnTo>
                      <a:pt x="946" y="283"/>
                    </a:lnTo>
                    <a:lnTo>
                      <a:pt x="959" y="277"/>
                    </a:lnTo>
                    <a:lnTo>
                      <a:pt x="970" y="270"/>
                    </a:lnTo>
                    <a:lnTo>
                      <a:pt x="985" y="285"/>
                    </a:lnTo>
                    <a:lnTo>
                      <a:pt x="1000" y="297"/>
                    </a:lnTo>
                    <a:lnTo>
                      <a:pt x="1017" y="308"/>
                    </a:lnTo>
                    <a:lnTo>
                      <a:pt x="1035" y="317"/>
                    </a:lnTo>
                    <a:lnTo>
                      <a:pt x="1053" y="324"/>
                    </a:lnTo>
                    <a:lnTo>
                      <a:pt x="1073" y="330"/>
                    </a:lnTo>
                    <a:lnTo>
                      <a:pt x="1094" y="334"/>
                    </a:lnTo>
                    <a:lnTo>
                      <a:pt x="1116" y="336"/>
                    </a:lnTo>
                    <a:lnTo>
                      <a:pt x="1110" y="343"/>
                    </a:lnTo>
                    <a:lnTo>
                      <a:pt x="1104" y="352"/>
                    </a:lnTo>
                    <a:lnTo>
                      <a:pt x="1099" y="361"/>
                    </a:lnTo>
                    <a:lnTo>
                      <a:pt x="1093" y="372"/>
                    </a:lnTo>
                    <a:lnTo>
                      <a:pt x="1089" y="385"/>
                    </a:lnTo>
                    <a:lnTo>
                      <a:pt x="1085" y="397"/>
                    </a:lnTo>
                    <a:lnTo>
                      <a:pt x="1081" y="411"/>
                    </a:lnTo>
                    <a:lnTo>
                      <a:pt x="1077" y="427"/>
                    </a:lnTo>
                    <a:lnTo>
                      <a:pt x="1071" y="461"/>
                    </a:lnTo>
                    <a:lnTo>
                      <a:pt x="1066" y="500"/>
                    </a:lnTo>
                    <a:lnTo>
                      <a:pt x="1063" y="543"/>
                    </a:lnTo>
                    <a:lnTo>
                      <a:pt x="1061" y="591"/>
                    </a:lnTo>
                    <a:lnTo>
                      <a:pt x="1059" y="609"/>
                    </a:lnTo>
                    <a:lnTo>
                      <a:pt x="1058" y="631"/>
                    </a:lnTo>
                    <a:lnTo>
                      <a:pt x="1057" y="653"/>
                    </a:lnTo>
                    <a:lnTo>
                      <a:pt x="1056" y="678"/>
                    </a:lnTo>
                    <a:lnTo>
                      <a:pt x="1054" y="706"/>
                    </a:lnTo>
                    <a:lnTo>
                      <a:pt x="1053" y="735"/>
                    </a:lnTo>
                    <a:lnTo>
                      <a:pt x="1052" y="767"/>
                    </a:lnTo>
                    <a:lnTo>
                      <a:pt x="1051" y="801"/>
                    </a:lnTo>
                    <a:lnTo>
                      <a:pt x="1047" y="879"/>
                    </a:lnTo>
                    <a:lnTo>
                      <a:pt x="1044" y="944"/>
                    </a:lnTo>
                    <a:lnTo>
                      <a:pt x="1039" y="999"/>
                    </a:lnTo>
                    <a:lnTo>
                      <a:pt x="1036" y="1044"/>
                    </a:lnTo>
                    <a:lnTo>
                      <a:pt x="1032" y="1077"/>
                    </a:lnTo>
                    <a:lnTo>
                      <a:pt x="1029" y="1099"/>
                    </a:lnTo>
                    <a:lnTo>
                      <a:pt x="1027" y="1106"/>
                    </a:lnTo>
                    <a:lnTo>
                      <a:pt x="1024" y="1111"/>
                    </a:lnTo>
                    <a:lnTo>
                      <a:pt x="1023" y="1112"/>
                    </a:lnTo>
                    <a:lnTo>
                      <a:pt x="1022" y="1113"/>
                    </a:lnTo>
                    <a:lnTo>
                      <a:pt x="1021" y="1113"/>
                    </a:lnTo>
                    <a:lnTo>
                      <a:pt x="1021" y="1112"/>
                    </a:lnTo>
                    <a:lnTo>
                      <a:pt x="1011" y="1111"/>
                    </a:lnTo>
                    <a:lnTo>
                      <a:pt x="1001" y="1110"/>
                    </a:lnTo>
                    <a:lnTo>
                      <a:pt x="990" y="1106"/>
                    </a:lnTo>
                    <a:lnTo>
                      <a:pt x="978" y="1103"/>
                    </a:lnTo>
                    <a:lnTo>
                      <a:pt x="965" y="1099"/>
                    </a:lnTo>
                    <a:lnTo>
                      <a:pt x="951" y="1093"/>
                    </a:lnTo>
                    <a:lnTo>
                      <a:pt x="938" y="1086"/>
                    </a:lnTo>
                    <a:lnTo>
                      <a:pt x="924" y="1079"/>
                    </a:lnTo>
                    <a:lnTo>
                      <a:pt x="892" y="1061"/>
                    </a:lnTo>
                    <a:lnTo>
                      <a:pt x="858" y="1039"/>
                    </a:lnTo>
                    <a:lnTo>
                      <a:pt x="821" y="1012"/>
                    </a:lnTo>
                    <a:lnTo>
                      <a:pt x="781" y="981"/>
                    </a:lnTo>
                    <a:lnTo>
                      <a:pt x="775" y="972"/>
                    </a:lnTo>
                    <a:lnTo>
                      <a:pt x="769" y="965"/>
                    </a:lnTo>
                    <a:lnTo>
                      <a:pt x="767" y="960"/>
                    </a:lnTo>
                    <a:lnTo>
                      <a:pt x="766" y="956"/>
                    </a:lnTo>
                    <a:lnTo>
                      <a:pt x="767" y="954"/>
                    </a:lnTo>
                    <a:lnTo>
                      <a:pt x="769" y="952"/>
                    </a:lnTo>
                    <a:lnTo>
                      <a:pt x="772" y="951"/>
                    </a:lnTo>
                    <a:lnTo>
                      <a:pt x="776" y="950"/>
                    </a:lnTo>
                    <a:lnTo>
                      <a:pt x="784" y="950"/>
                    </a:lnTo>
                    <a:lnTo>
                      <a:pt x="796" y="952"/>
                    </a:lnTo>
                    <a:lnTo>
                      <a:pt x="818" y="954"/>
                    </a:lnTo>
                    <a:lnTo>
                      <a:pt x="843" y="955"/>
                    </a:lnTo>
                    <a:lnTo>
                      <a:pt x="873" y="956"/>
                    </a:lnTo>
                    <a:lnTo>
                      <a:pt x="906" y="956"/>
                    </a:lnTo>
                    <a:lnTo>
                      <a:pt x="914" y="955"/>
                    </a:lnTo>
                    <a:lnTo>
                      <a:pt x="921" y="952"/>
                    </a:lnTo>
                    <a:lnTo>
                      <a:pt x="927" y="948"/>
                    </a:lnTo>
                    <a:lnTo>
                      <a:pt x="932" y="944"/>
                    </a:lnTo>
                    <a:lnTo>
                      <a:pt x="936" y="938"/>
                    </a:lnTo>
                    <a:lnTo>
                      <a:pt x="939" y="932"/>
                    </a:lnTo>
                    <a:lnTo>
                      <a:pt x="940" y="924"/>
                    </a:lnTo>
                    <a:lnTo>
                      <a:pt x="941" y="917"/>
                    </a:lnTo>
                    <a:lnTo>
                      <a:pt x="943" y="891"/>
                    </a:lnTo>
                    <a:lnTo>
                      <a:pt x="946" y="859"/>
                    </a:lnTo>
                    <a:lnTo>
                      <a:pt x="949" y="820"/>
                    </a:lnTo>
                    <a:lnTo>
                      <a:pt x="952" y="774"/>
                    </a:lnTo>
                    <a:lnTo>
                      <a:pt x="956" y="720"/>
                    </a:lnTo>
                    <a:lnTo>
                      <a:pt x="959" y="659"/>
                    </a:lnTo>
                    <a:lnTo>
                      <a:pt x="962" y="591"/>
                    </a:lnTo>
                    <a:lnTo>
                      <a:pt x="966" y="516"/>
                    </a:lnTo>
                    <a:lnTo>
                      <a:pt x="968" y="469"/>
                    </a:lnTo>
                    <a:lnTo>
                      <a:pt x="970" y="429"/>
                    </a:lnTo>
                    <a:lnTo>
                      <a:pt x="974" y="396"/>
                    </a:lnTo>
                    <a:lnTo>
                      <a:pt x="976" y="371"/>
                    </a:lnTo>
                    <a:lnTo>
                      <a:pt x="977" y="366"/>
                    </a:lnTo>
                    <a:lnTo>
                      <a:pt x="977" y="362"/>
                    </a:lnTo>
                    <a:lnTo>
                      <a:pt x="976" y="359"/>
                    </a:lnTo>
                    <a:lnTo>
                      <a:pt x="975" y="357"/>
                    </a:lnTo>
                    <a:lnTo>
                      <a:pt x="973" y="355"/>
                    </a:lnTo>
                    <a:lnTo>
                      <a:pt x="969" y="355"/>
                    </a:lnTo>
                    <a:lnTo>
                      <a:pt x="965" y="355"/>
                    </a:lnTo>
                    <a:lnTo>
                      <a:pt x="961" y="356"/>
                    </a:lnTo>
                    <a:lnTo>
                      <a:pt x="932" y="358"/>
                    </a:lnTo>
                    <a:lnTo>
                      <a:pt x="903" y="362"/>
                    </a:lnTo>
                    <a:lnTo>
                      <a:pt x="871" y="367"/>
                    </a:lnTo>
                    <a:lnTo>
                      <a:pt x="838" y="372"/>
                    </a:lnTo>
                    <a:lnTo>
                      <a:pt x="804" y="378"/>
                    </a:lnTo>
                    <a:lnTo>
                      <a:pt x="767" y="385"/>
                    </a:lnTo>
                    <a:lnTo>
                      <a:pt x="730" y="392"/>
                    </a:lnTo>
                    <a:lnTo>
                      <a:pt x="691" y="401"/>
                    </a:lnTo>
                    <a:lnTo>
                      <a:pt x="682" y="394"/>
                    </a:lnTo>
                    <a:lnTo>
                      <a:pt x="671" y="385"/>
                    </a:lnTo>
                    <a:lnTo>
                      <a:pt x="657" y="372"/>
                    </a:lnTo>
                    <a:lnTo>
                      <a:pt x="641" y="356"/>
                    </a:lnTo>
                    <a:lnTo>
                      <a:pt x="626" y="375"/>
                    </a:lnTo>
                    <a:lnTo>
                      <a:pt x="609" y="397"/>
                    </a:lnTo>
                    <a:lnTo>
                      <a:pt x="589" y="423"/>
                    </a:lnTo>
                    <a:lnTo>
                      <a:pt x="566" y="450"/>
                    </a:lnTo>
                    <a:lnTo>
                      <a:pt x="562" y="458"/>
                    </a:lnTo>
                    <a:lnTo>
                      <a:pt x="561" y="461"/>
                    </a:lnTo>
                    <a:lnTo>
                      <a:pt x="553" y="468"/>
                    </a:lnTo>
                    <a:lnTo>
                      <a:pt x="546" y="475"/>
                    </a:lnTo>
                    <a:lnTo>
                      <a:pt x="537" y="480"/>
                    </a:lnTo>
                    <a:lnTo>
                      <a:pt x="530" y="485"/>
                    </a:lnTo>
                    <a:lnTo>
                      <a:pt x="521" y="491"/>
                    </a:lnTo>
                    <a:lnTo>
                      <a:pt x="513" y="495"/>
                    </a:lnTo>
                    <a:lnTo>
                      <a:pt x="504" y="498"/>
                    </a:lnTo>
                    <a:lnTo>
                      <a:pt x="496" y="500"/>
                    </a:lnTo>
                    <a:lnTo>
                      <a:pt x="511" y="504"/>
                    </a:lnTo>
                    <a:lnTo>
                      <a:pt x="526" y="509"/>
                    </a:lnTo>
                    <a:lnTo>
                      <a:pt x="540" y="514"/>
                    </a:lnTo>
                    <a:lnTo>
                      <a:pt x="556" y="520"/>
                    </a:lnTo>
                    <a:lnTo>
                      <a:pt x="585" y="516"/>
                    </a:lnTo>
                    <a:lnTo>
                      <a:pt x="610" y="510"/>
                    </a:lnTo>
                    <a:lnTo>
                      <a:pt x="635" y="504"/>
                    </a:lnTo>
                    <a:lnTo>
                      <a:pt x="656" y="498"/>
                    </a:lnTo>
                    <a:lnTo>
                      <a:pt x="675" y="492"/>
                    </a:lnTo>
                    <a:lnTo>
                      <a:pt x="691" y="485"/>
                    </a:lnTo>
                    <a:lnTo>
                      <a:pt x="705" y="478"/>
                    </a:lnTo>
                    <a:lnTo>
                      <a:pt x="716" y="471"/>
                    </a:lnTo>
                    <a:lnTo>
                      <a:pt x="730" y="481"/>
                    </a:lnTo>
                    <a:lnTo>
                      <a:pt x="744" y="491"/>
                    </a:lnTo>
                    <a:lnTo>
                      <a:pt x="759" y="499"/>
                    </a:lnTo>
                    <a:lnTo>
                      <a:pt x="775" y="507"/>
                    </a:lnTo>
                    <a:lnTo>
                      <a:pt x="790" y="513"/>
                    </a:lnTo>
                    <a:lnTo>
                      <a:pt x="806" y="518"/>
                    </a:lnTo>
                    <a:lnTo>
                      <a:pt x="823" y="522"/>
                    </a:lnTo>
                    <a:lnTo>
                      <a:pt x="840" y="526"/>
                    </a:lnTo>
                    <a:lnTo>
                      <a:pt x="835" y="537"/>
                    </a:lnTo>
                    <a:lnTo>
                      <a:pt x="830" y="549"/>
                    </a:lnTo>
                    <a:lnTo>
                      <a:pt x="825" y="562"/>
                    </a:lnTo>
                    <a:lnTo>
                      <a:pt x="822" y="574"/>
                    </a:lnTo>
                    <a:lnTo>
                      <a:pt x="819" y="588"/>
                    </a:lnTo>
                    <a:lnTo>
                      <a:pt x="817" y="602"/>
                    </a:lnTo>
                    <a:lnTo>
                      <a:pt x="816" y="616"/>
                    </a:lnTo>
                    <a:lnTo>
                      <a:pt x="816" y="631"/>
                    </a:lnTo>
                    <a:lnTo>
                      <a:pt x="815" y="650"/>
                    </a:lnTo>
                    <a:lnTo>
                      <a:pt x="814" y="670"/>
                    </a:lnTo>
                    <a:lnTo>
                      <a:pt x="813" y="691"/>
                    </a:lnTo>
                    <a:lnTo>
                      <a:pt x="812" y="712"/>
                    </a:lnTo>
                    <a:lnTo>
                      <a:pt x="812" y="734"/>
                    </a:lnTo>
                    <a:lnTo>
                      <a:pt x="812" y="758"/>
                    </a:lnTo>
                    <a:lnTo>
                      <a:pt x="811" y="781"/>
                    </a:lnTo>
                    <a:lnTo>
                      <a:pt x="811" y="806"/>
                    </a:lnTo>
                    <a:lnTo>
                      <a:pt x="808" y="832"/>
                    </a:lnTo>
                    <a:lnTo>
                      <a:pt x="807" y="855"/>
                    </a:lnTo>
                    <a:lnTo>
                      <a:pt x="806" y="874"/>
                    </a:lnTo>
                    <a:lnTo>
                      <a:pt x="805" y="891"/>
                    </a:lnTo>
                    <a:lnTo>
                      <a:pt x="805" y="898"/>
                    </a:lnTo>
                    <a:lnTo>
                      <a:pt x="804" y="904"/>
                    </a:lnTo>
                    <a:lnTo>
                      <a:pt x="803" y="908"/>
                    </a:lnTo>
                    <a:lnTo>
                      <a:pt x="801" y="911"/>
                    </a:lnTo>
                    <a:lnTo>
                      <a:pt x="796" y="912"/>
                    </a:lnTo>
                    <a:lnTo>
                      <a:pt x="790" y="912"/>
                    </a:lnTo>
                    <a:lnTo>
                      <a:pt x="786" y="910"/>
                    </a:lnTo>
                    <a:lnTo>
                      <a:pt x="781" y="906"/>
                    </a:lnTo>
                    <a:lnTo>
                      <a:pt x="775" y="902"/>
                    </a:lnTo>
                    <a:lnTo>
                      <a:pt x="768" y="897"/>
                    </a:lnTo>
                    <a:lnTo>
                      <a:pt x="762" y="890"/>
                    </a:lnTo>
                    <a:lnTo>
                      <a:pt x="754" y="884"/>
                    </a:lnTo>
                    <a:lnTo>
                      <a:pt x="741" y="867"/>
                    </a:lnTo>
                    <a:lnTo>
                      <a:pt x="726" y="846"/>
                    </a:lnTo>
                    <a:lnTo>
                      <a:pt x="711" y="847"/>
                    </a:lnTo>
                    <a:lnTo>
                      <a:pt x="693" y="848"/>
                    </a:lnTo>
                    <a:lnTo>
                      <a:pt x="672" y="849"/>
                    </a:lnTo>
                    <a:lnTo>
                      <a:pt x="645" y="851"/>
                    </a:lnTo>
                    <a:lnTo>
                      <a:pt x="620" y="851"/>
                    </a:lnTo>
                    <a:lnTo>
                      <a:pt x="599" y="852"/>
                    </a:lnTo>
                    <a:lnTo>
                      <a:pt x="580" y="854"/>
                    </a:lnTo>
                    <a:lnTo>
                      <a:pt x="566" y="856"/>
                    </a:lnTo>
                    <a:lnTo>
                      <a:pt x="566" y="891"/>
                    </a:lnTo>
                    <a:lnTo>
                      <a:pt x="566" y="901"/>
                    </a:lnTo>
                    <a:lnTo>
                      <a:pt x="565" y="907"/>
                    </a:lnTo>
                    <a:lnTo>
                      <a:pt x="563" y="912"/>
                    </a:lnTo>
                    <a:lnTo>
                      <a:pt x="561" y="917"/>
                    </a:lnTo>
                    <a:lnTo>
                      <a:pt x="557" y="918"/>
                    </a:lnTo>
                    <a:lnTo>
                      <a:pt x="554" y="918"/>
                    </a:lnTo>
                    <a:lnTo>
                      <a:pt x="550" y="916"/>
                    </a:lnTo>
                    <a:lnTo>
                      <a:pt x="546" y="911"/>
                    </a:lnTo>
                    <a:lnTo>
                      <a:pt x="525" y="894"/>
                    </a:lnTo>
                    <a:lnTo>
                      <a:pt x="507" y="879"/>
                    </a:lnTo>
                    <a:lnTo>
                      <a:pt x="492" y="865"/>
                    </a:lnTo>
                    <a:lnTo>
                      <a:pt x="481" y="851"/>
                    </a:lnTo>
                    <a:lnTo>
                      <a:pt x="483" y="848"/>
                    </a:lnTo>
                    <a:lnTo>
                      <a:pt x="485" y="844"/>
                    </a:lnTo>
                    <a:lnTo>
                      <a:pt x="487" y="837"/>
                    </a:lnTo>
                    <a:lnTo>
                      <a:pt x="490" y="830"/>
                    </a:lnTo>
                    <a:lnTo>
                      <a:pt x="493" y="810"/>
                    </a:lnTo>
                    <a:lnTo>
                      <a:pt x="496" y="785"/>
                    </a:lnTo>
                    <a:lnTo>
                      <a:pt x="498" y="753"/>
                    </a:lnTo>
                    <a:lnTo>
                      <a:pt x="499" y="717"/>
                    </a:lnTo>
                    <a:lnTo>
                      <a:pt x="500" y="674"/>
                    </a:lnTo>
                    <a:lnTo>
                      <a:pt x="501" y="626"/>
                    </a:lnTo>
                    <a:lnTo>
                      <a:pt x="499" y="614"/>
                    </a:lnTo>
                    <a:lnTo>
                      <a:pt x="496" y="596"/>
                    </a:lnTo>
                    <a:lnTo>
                      <a:pt x="495" y="581"/>
                    </a:lnTo>
                    <a:lnTo>
                      <a:pt x="495" y="566"/>
                    </a:lnTo>
                    <a:lnTo>
                      <a:pt x="494" y="553"/>
                    </a:lnTo>
                    <a:lnTo>
                      <a:pt x="492" y="540"/>
                    </a:lnTo>
                    <a:lnTo>
                      <a:pt x="490" y="530"/>
                    </a:lnTo>
                    <a:lnTo>
                      <a:pt x="487" y="521"/>
                    </a:lnTo>
                    <a:lnTo>
                      <a:pt x="484" y="513"/>
                    </a:lnTo>
                    <a:lnTo>
                      <a:pt x="481" y="506"/>
                    </a:lnTo>
                    <a:lnTo>
                      <a:pt x="472" y="506"/>
                    </a:lnTo>
                    <a:lnTo>
                      <a:pt x="462" y="504"/>
                    </a:lnTo>
                    <a:lnTo>
                      <a:pt x="453" y="503"/>
                    </a:lnTo>
                    <a:lnTo>
                      <a:pt x="442" y="501"/>
                    </a:lnTo>
                    <a:lnTo>
                      <a:pt x="420" y="495"/>
                    </a:lnTo>
                    <a:lnTo>
                      <a:pt x="395" y="485"/>
                    </a:lnTo>
                    <a:lnTo>
                      <a:pt x="417" y="471"/>
                    </a:lnTo>
                    <a:lnTo>
                      <a:pt x="438" y="454"/>
                    </a:lnTo>
                    <a:lnTo>
                      <a:pt x="458" y="437"/>
                    </a:lnTo>
                    <a:lnTo>
                      <a:pt x="477" y="419"/>
                    </a:lnTo>
                    <a:lnTo>
                      <a:pt x="496" y="400"/>
                    </a:lnTo>
                    <a:lnTo>
                      <a:pt x="515" y="380"/>
                    </a:lnTo>
                    <a:lnTo>
                      <a:pt x="533" y="359"/>
                    </a:lnTo>
                    <a:lnTo>
                      <a:pt x="551" y="338"/>
                    </a:lnTo>
                    <a:lnTo>
                      <a:pt x="568" y="316"/>
                    </a:lnTo>
                    <a:lnTo>
                      <a:pt x="585" y="292"/>
                    </a:lnTo>
                    <a:lnTo>
                      <a:pt x="601" y="269"/>
                    </a:lnTo>
                    <a:lnTo>
                      <a:pt x="617" y="244"/>
                    </a:lnTo>
                    <a:lnTo>
                      <a:pt x="633" y="218"/>
                    </a:lnTo>
                    <a:lnTo>
                      <a:pt x="647" y="192"/>
                    </a:lnTo>
                    <a:lnTo>
                      <a:pt x="662" y="164"/>
                    </a:lnTo>
                    <a:lnTo>
                      <a:pt x="676" y="136"/>
                    </a:lnTo>
                    <a:lnTo>
                      <a:pt x="683" y="116"/>
                    </a:lnTo>
                    <a:lnTo>
                      <a:pt x="691" y="98"/>
                    </a:lnTo>
                    <a:lnTo>
                      <a:pt x="696" y="79"/>
                    </a:lnTo>
                    <a:lnTo>
                      <a:pt x="700" y="61"/>
                    </a:lnTo>
                    <a:lnTo>
                      <a:pt x="704" y="46"/>
                    </a:lnTo>
                    <a:lnTo>
                      <a:pt x="706" y="30"/>
                    </a:lnTo>
                    <a:lnTo>
                      <a:pt x="707" y="15"/>
                    </a:lnTo>
                    <a:lnTo>
                      <a:pt x="706" y="0"/>
                    </a:lnTo>
                    <a:close/>
                    <a:moveTo>
                      <a:pt x="320" y="571"/>
                    </a:moveTo>
                    <a:lnTo>
                      <a:pt x="320" y="583"/>
                    </a:lnTo>
                    <a:lnTo>
                      <a:pt x="319" y="600"/>
                    </a:lnTo>
                    <a:lnTo>
                      <a:pt x="318" y="621"/>
                    </a:lnTo>
                    <a:lnTo>
                      <a:pt x="316" y="645"/>
                    </a:lnTo>
                    <a:lnTo>
                      <a:pt x="312" y="679"/>
                    </a:lnTo>
                    <a:lnTo>
                      <a:pt x="308" y="710"/>
                    </a:lnTo>
                    <a:lnTo>
                      <a:pt x="305" y="739"/>
                    </a:lnTo>
                    <a:lnTo>
                      <a:pt x="303" y="764"/>
                    </a:lnTo>
                    <a:lnTo>
                      <a:pt x="301" y="786"/>
                    </a:lnTo>
                    <a:lnTo>
                      <a:pt x="299" y="805"/>
                    </a:lnTo>
                    <a:lnTo>
                      <a:pt x="297" y="822"/>
                    </a:lnTo>
                    <a:lnTo>
                      <a:pt x="296" y="836"/>
                    </a:lnTo>
                    <a:lnTo>
                      <a:pt x="310" y="828"/>
                    </a:lnTo>
                    <a:lnTo>
                      <a:pt x="329" y="818"/>
                    </a:lnTo>
                    <a:lnTo>
                      <a:pt x="350" y="808"/>
                    </a:lnTo>
                    <a:lnTo>
                      <a:pt x="375" y="796"/>
                    </a:lnTo>
                    <a:lnTo>
                      <a:pt x="388" y="790"/>
                    </a:lnTo>
                    <a:lnTo>
                      <a:pt x="399" y="783"/>
                    </a:lnTo>
                    <a:lnTo>
                      <a:pt x="407" y="779"/>
                    </a:lnTo>
                    <a:lnTo>
                      <a:pt x="415" y="776"/>
                    </a:lnTo>
                    <a:lnTo>
                      <a:pt x="425" y="771"/>
                    </a:lnTo>
                    <a:lnTo>
                      <a:pt x="433" y="768"/>
                    </a:lnTo>
                    <a:lnTo>
                      <a:pt x="441" y="765"/>
                    </a:lnTo>
                    <a:lnTo>
                      <a:pt x="448" y="763"/>
                    </a:lnTo>
                    <a:lnTo>
                      <a:pt x="454" y="763"/>
                    </a:lnTo>
                    <a:lnTo>
                      <a:pt x="459" y="763"/>
                    </a:lnTo>
                    <a:lnTo>
                      <a:pt x="463" y="764"/>
                    </a:lnTo>
                    <a:lnTo>
                      <a:pt x="466" y="766"/>
                    </a:lnTo>
                    <a:lnTo>
                      <a:pt x="466" y="770"/>
                    </a:lnTo>
                    <a:lnTo>
                      <a:pt x="466" y="775"/>
                    </a:lnTo>
                    <a:lnTo>
                      <a:pt x="464" y="780"/>
                    </a:lnTo>
                    <a:lnTo>
                      <a:pt x="462" y="785"/>
                    </a:lnTo>
                    <a:lnTo>
                      <a:pt x="458" y="791"/>
                    </a:lnTo>
                    <a:lnTo>
                      <a:pt x="454" y="797"/>
                    </a:lnTo>
                    <a:lnTo>
                      <a:pt x="447" y="804"/>
                    </a:lnTo>
                    <a:lnTo>
                      <a:pt x="441" y="811"/>
                    </a:lnTo>
                    <a:lnTo>
                      <a:pt x="411" y="837"/>
                    </a:lnTo>
                    <a:lnTo>
                      <a:pt x="383" y="864"/>
                    </a:lnTo>
                    <a:lnTo>
                      <a:pt x="355" y="890"/>
                    </a:lnTo>
                    <a:lnTo>
                      <a:pt x="328" y="917"/>
                    </a:lnTo>
                    <a:lnTo>
                      <a:pt x="302" y="942"/>
                    </a:lnTo>
                    <a:lnTo>
                      <a:pt x="278" y="969"/>
                    </a:lnTo>
                    <a:lnTo>
                      <a:pt x="253" y="995"/>
                    </a:lnTo>
                    <a:lnTo>
                      <a:pt x="230" y="1022"/>
                    </a:lnTo>
                    <a:lnTo>
                      <a:pt x="224" y="1004"/>
                    </a:lnTo>
                    <a:lnTo>
                      <a:pt x="216" y="986"/>
                    </a:lnTo>
                    <a:lnTo>
                      <a:pt x="208" y="970"/>
                    </a:lnTo>
                    <a:lnTo>
                      <a:pt x="199" y="955"/>
                    </a:lnTo>
                    <a:lnTo>
                      <a:pt x="190" y="941"/>
                    </a:lnTo>
                    <a:lnTo>
                      <a:pt x="179" y="928"/>
                    </a:lnTo>
                    <a:lnTo>
                      <a:pt x="168" y="917"/>
                    </a:lnTo>
                    <a:lnTo>
                      <a:pt x="156" y="906"/>
                    </a:lnTo>
                    <a:lnTo>
                      <a:pt x="170" y="894"/>
                    </a:lnTo>
                    <a:lnTo>
                      <a:pt x="182" y="882"/>
                    </a:lnTo>
                    <a:lnTo>
                      <a:pt x="193" y="868"/>
                    </a:lnTo>
                    <a:lnTo>
                      <a:pt x="203" y="852"/>
                    </a:lnTo>
                    <a:lnTo>
                      <a:pt x="211" y="836"/>
                    </a:lnTo>
                    <a:lnTo>
                      <a:pt x="217" y="819"/>
                    </a:lnTo>
                    <a:lnTo>
                      <a:pt x="223" y="800"/>
                    </a:lnTo>
                    <a:lnTo>
                      <a:pt x="226" y="781"/>
                    </a:lnTo>
                    <a:lnTo>
                      <a:pt x="231" y="721"/>
                    </a:lnTo>
                    <a:lnTo>
                      <a:pt x="236" y="667"/>
                    </a:lnTo>
                    <a:lnTo>
                      <a:pt x="241" y="617"/>
                    </a:lnTo>
                    <a:lnTo>
                      <a:pt x="244" y="572"/>
                    </a:lnTo>
                    <a:lnTo>
                      <a:pt x="247" y="533"/>
                    </a:lnTo>
                    <a:lnTo>
                      <a:pt x="249" y="499"/>
                    </a:lnTo>
                    <a:lnTo>
                      <a:pt x="250" y="469"/>
                    </a:lnTo>
                    <a:lnTo>
                      <a:pt x="250" y="446"/>
                    </a:lnTo>
                    <a:lnTo>
                      <a:pt x="231" y="455"/>
                    </a:lnTo>
                    <a:lnTo>
                      <a:pt x="207" y="466"/>
                    </a:lnTo>
                    <a:lnTo>
                      <a:pt x="178" y="480"/>
                    </a:lnTo>
                    <a:lnTo>
                      <a:pt x="145" y="496"/>
                    </a:lnTo>
                    <a:lnTo>
                      <a:pt x="122" y="508"/>
                    </a:lnTo>
                    <a:lnTo>
                      <a:pt x="102" y="517"/>
                    </a:lnTo>
                    <a:lnTo>
                      <a:pt x="85" y="525"/>
                    </a:lnTo>
                    <a:lnTo>
                      <a:pt x="70" y="531"/>
                    </a:lnTo>
                    <a:lnTo>
                      <a:pt x="53" y="510"/>
                    </a:lnTo>
                    <a:lnTo>
                      <a:pt x="35" y="490"/>
                    </a:lnTo>
                    <a:lnTo>
                      <a:pt x="18" y="472"/>
                    </a:lnTo>
                    <a:lnTo>
                      <a:pt x="0" y="456"/>
                    </a:lnTo>
                    <a:lnTo>
                      <a:pt x="47" y="449"/>
                    </a:lnTo>
                    <a:lnTo>
                      <a:pt x="89" y="441"/>
                    </a:lnTo>
                    <a:lnTo>
                      <a:pt x="108" y="436"/>
                    </a:lnTo>
                    <a:lnTo>
                      <a:pt x="127" y="430"/>
                    </a:lnTo>
                    <a:lnTo>
                      <a:pt x="144" y="425"/>
                    </a:lnTo>
                    <a:lnTo>
                      <a:pt x="160" y="420"/>
                    </a:lnTo>
                    <a:lnTo>
                      <a:pt x="176" y="413"/>
                    </a:lnTo>
                    <a:lnTo>
                      <a:pt x="190" y="407"/>
                    </a:lnTo>
                    <a:lnTo>
                      <a:pt x="203" y="401"/>
                    </a:lnTo>
                    <a:lnTo>
                      <a:pt x="214" y="393"/>
                    </a:lnTo>
                    <a:lnTo>
                      <a:pt x="225" y="386"/>
                    </a:lnTo>
                    <a:lnTo>
                      <a:pt x="234" y="377"/>
                    </a:lnTo>
                    <a:lnTo>
                      <a:pt x="243" y="369"/>
                    </a:lnTo>
                    <a:lnTo>
                      <a:pt x="250" y="360"/>
                    </a:lnTo>
                    <a:lnTo>
                      <a:pt x="265" y="371"/>
                    </a:lnTo>
                    <a:lnTo>
                      <a:pt x="280" y="380"/>
                    </a:lnTo>
                    <a:lnTo>
                      <a:pt x="296" y="389"/>
                    </a:lnTo>
                    <a:lnTo>
                      <a:pt x="312" y="395"/>
                    </a:lnTo>
                    <a:lnTo>
                      <a:pt x="330" y="402"/>
                    </a:lnTo>
                    <a:lnTo>
                      <a:pt x="348" y="406"/>
                    </a:lnTo>
                    <a:lnTo>
                      <a:pt x="366" y="409"/>
                    </a:lnTo>
                    <a:lnTo>
                      <a:pt x="386" y="411"/>
                    </a:lnTo>
                    <a:lnTo>
                      <a:pt x="373" y="426"/>
                    </a:lnTo>
                    <a:lnTo>
                      <a:pt x="361" y="443"/>
                    </a:lnTo>
                    <a:lnTo>
                      <a:pt x="351" y="461"/>
                    </a:lnTo>
                    <a:lnTo>
                      <a:pt x="342" y="481"/>
                    </a:lnTo>
                    <a:lnTo>
                      <a:pt x="335" y="501"/>
                    </a:lnTo>
                    <a:lnTo>
                      <a:pt x="329" y="524"/>
                    </a:lnTo>
                    <a:lnTo>
                      <a:pt x="323" y="547"/>
                    </a:lnTo>
                    <a:lnTo>
                      <a:pt x="320" y="571"/>
                    </a:lnTo>
                    <a:close/>
                    <a:moveTo>
                      <a:pt x="566" y="711"/>
                    </a:moveTo>
                    <a:lnTo>
                      <a:pt x="566" y="816"/>
                    </a:lnTo>
                    <a:lnTo>
                      <a:pt x="579" y="815"/>
                    </a:lnTo>
                    <a:lnTo>
                      <a:pt x="596" y="811"/>
                    </a:lnTo>
                    <a:lnTo>
                      <a:pt x="624" y="806"/>
                    </a:lnTo>
                    <a:lnTo>
                      <a:pt x="653" y="801"/>
                    </a:lnTo>
                    <a:lnTo>
                      <a:pt x="683" y="796"/>
                    </a:lnTo>
                    <a:lnTo>
                      <a:pt x="716" y="792"/>
                    </a:lnTo>
                    <a:lnTo>
                      <a:pt x="716" y="788"/>
                    </a:lnTo>
                    <a:lnTo>
                      <a:pt x="716" y="781"/>
                    </a:lnTo>
                    <a:lnTo>
                      <a:pt x="718" y="776"/>
                    </a:lnTo>
                    <a:lnTo>
                      <a:pt x="719" y="771"/>
                    </a:lnTo>
                    <a:lnTo>
                      <a:pt x="721" y="766"/>
                    </a:lnTo>
                    <a:lnTo>
                      <a:pt x="721" y="761"/>
                    </a:lnTo>
                    <a:lnTo>
                      <a:pt x="723" y="735"/>
                    </a:lnTo>
                    <a:lnTo>
                      <a:pt x="725" y="710"/>
                    </a:lnTo>
                    <a:lnTo>
                      <a:pt x="726" y="685"/>
                    </a:lnTo>
                    <a:lnTo>
                      <a:pt x="726" y="658"/>
                    </a:lnTo>
                    <a:lnTo>
                      <a:pt x="726" y="632"/>
                    </a:lnTo>
                    <a:lnTo>
                      <a:pt x="725" y="605"/>
                    </a:lnTo>
                    <a:lnTo>
                      <a:pt x="723" y="579"/>
                    </a:lnTo>
                    <a:lnTo>
                      <a:pt x="721" y="551"/>
                    </a:lnTo>
                    <a:lnTo>
                      <a:pt x="717" y="545"/>
                    </a:lnTo>
                    <a:lnTo>
                      <a:pt x="713" y="539"/>
                    </a:lnTo>
                    <a:lnTo>
                      <a:pt x="711" y="538"/>
                    </a:lnTo>
                    <a:lnTo>
                      <a:pt x="708" y="537"/>
                    </a:lnTo>
                    <a:lnTo>
                      <a:pt x="705" y="536"/>
                    </a:lnTo>
                    <a:lnTo>
                      <a:pt x="700" y="536"/>
                    </a:lnTo>
                    <a:lnTo>
                      <a:pt x="670" y="544"/>
                    </a:lnTo>
                    <a:lnTo>
                      <a:pt x="637" y="551"/>
                    </a:lnTo>
                    <a:lnTo>
                      <a:pt x="602" y="558"/>
                    </a:lnTo>
                    <a:lnTo>
                      <a:pt x="566" y="566"/>
                    </a:lnTo>
                    <a:lnTo>
                      <a:pt x="566" y="661"/>
                    </a:lnTo>
                    <a:lnTo>
                      <a:pt x="585" y="658"/>
                    </a:lnTo>
                    <a:lnTo>
                      <a:pt x="607" y="654"/>
                    </a:lnTo>
                    <a:lnTo>
                      <a:pt x="633" y="648"/>
                    </a:lnTo>
                    <a:lnTo>
                      <a:pt x="661" y="641"/>
                    </a:lnTo>
                    <a:lnTo>
                      <a:pt x="673" y="637"/>
                    </a:lnTo>
                    <a:lnTo>
                      <a:pt x="680" y="636"/>
                    </a:lnTo>
                    <a:lnTo>
                      <a:pt x="684" y="641"/>
                    </a:lnTo>
                    <a:lnTo>
                      <a:pt x="692" y="652"/>
                    </a:lnTo>
                    <a:lnTo>
                      <a:pt x="703" y="669"/>
                    </a:lnTo>
                    <a:lnTo>
                      <a:pt x="716" y="691"/>
                    </a:lnTo>
                    <a:lnTo>
                      <a:pt x="707" y="691"/>
                    </a:lnTo>
                    <a:lnTo>
                      <a:pt x="691" y="691"/>
                    </a:lnTo>
                    <a:lnTo>
                      <a:pt x="653" y="696"/>
                    </a:lnTo>
                    <a:lnTo>
                      <a:pt x="620" y="700"/>
                    </a:lnTo>
                    <a:lnTo>
                      <a:pt x="590" y="706"/>
                    </a:lnTo>
                    <a:lnTo>
                      <a:pt x="566" y="711"/>
                    </a:lnTo>
                    <a:close/>
                    <a:moveTo>
                      <a:pt x="281" y="75"/>
                    </a:moveTo>
                    <a:lnTo>
                      <a:pt x="344" y="96"/>
                    </a:lnTo>
                    <a:lnTo>
                      <a:pt x="392" y="113"/>
                    </a:lnTo>
                    <a:lnTo>
                      <a:pt x="409" y="120"/>
                    </a:lnTo>
                    <a:lnTo>
                      <a:pt x="422" y="126"/>
                    </a:lnTo>
                    <a:lnTo>
                      <a:pt x="431" y="131"/>
                    </a:lnTo>
                    <a:lnTo>
                      <a:pt x="436" y="136"/>
                    </a:lnTo>
                    <a:lnTo>
                      <a:pt x="438" y="140"/>
                    </a:lnTo>
                    <a:lnTo>
                      <a:pt x="439" y="147"/>
                    </a:lnTo>
                    <a:lnTo>
                      <a:pt x="440" y="156"/>
                    </a:lnTo>
                    <a:lnTo>
                      <a:pt x="440" y="166"/>
                    </a:lnTo>
                    <a:lnTo>
                      <a:pt x="437" y="195"/>
                    </a:lnTo>
                    <a:lnTo>
                      <a:pt x="430" y="231"/>
                    </a:lnTo>
                    <a:lnTo>
                      <a:pt x="428" y="242"/>
                    </a:lnTo>
                    <a:lnTo>
                      <a:pt x="425" y="249"/>
                    </a:lnTo>
                    <a:lnTo>
                      <a:pt x="423" y="252"/>
                    </a:lnTo>
                    <a:lnTo>
                      <a:pt x="421" y="254"/>
                    </a:lnTo>
                    <a:lnTo>
                      <a:pt x="418" y="255"/>
                    </a:lnTo>
                    <a:lnTo>
                      <a:pt x="415" y="255"/>
                    </a:lnTo>
                    <a:lnTo>
                      <a:pt x="414" y="256"/>
                    </a:lnTo>
                    <a:lnTo>
                      <a:pt x="412" y="256"/>
                    </a:lnTo>
                    <a:lnTo>
                      <a:pt x="410" y="256"/>
                    </a:lnTo>
                    <a:lnTo>
                      <a:pt x="408" y="255"/>
                    </a:lnTo>
                    <a:lnTo>
                      <a:pt x="403" y="252"/>
                    </a:lnTo>
                    <a:lnTo>
                      <a:pt x="395" y="246"/>
                    </a:lnTo>
                    <a:lnTo>
                      <a:pt x="376" y="230"/>
                    </a:lnTo>
                    <a:lnTo>
                      <a:pt x="357" y="214"/>
                    </a:lnTo>
                    <a:lnTo>
                      <a:pt x="338" y="196"/>
                    </a:lnTo>
                    <a:lnTo>
                      <a:pt x="321" y="178"/>
                    </a:lnTo>
                    <a:lnTo>
                      <a:pt x="303" y="159"/>
                    </a:lnTo>
                    <a:lnTo>
                      <a:pt x="287" y="139"/>
                    </a:lnTo>
                    <a:lnTo>
                      <a:pt x="271" y="118"/>
                    </a:lnTo>
                    <a:lnTo>
                      <a:pt x="256" y="95"/>
                    </a:lnTo>
                    <a:lnTo>
                      <a:pt x="249" y="85"/>
                    </a:lnTo>
                    <a:lnTo>
                      <a:pt x="246" y="76"/>
                    </a:lnTo>
                    <a:lnTo>
                      <a:pt x="245" y="74"/>
                    </a:lnTo>
                    <a:lnTo>
                      <a:pt x="244" y="72"/>
                    </a:lnTo>
                    <a:lnTo>
                      <a:pt x="245" y="71"/>
                    </a:lnTo>
                    <a:lnTo>
                      <a:pt x="246" y="71"/>
                    </a:lnTo>
                    <a:lnTo>
                      <a:pt x="246" y="70"/>
                    </a:lnTo>
                    <a:lnTo>
                      <a:pt x="248" y="69"/>
                    </a:lnTo>
                    <a:lnTo>
                      <a:pt x="250" y="69"/>
                    </a:lnTo>
                    <a:lnTo>
                      <a:pt x="254" y="69"/>
                    </a:lnTo>
                    <a:lnTo>
                      <a:pt x="265" y="71"/>
                    </a:lnTo>
                    <a:lnTo>
                      <a:pt x="281" y="75"/>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218" name="Freeform 21"/>
              <p:cNvSpPr/>
              <p:nvPr/>
            </p:nvSpPr>
            <p:spPr>
              <a:xfrm>
                <a:off x="5649480" y="1196280"/>
                <a:ext cx="186480" cy="176400"/>
              </a:xfrm>
              <a:custGeom>
                <a:avLst/>
                <a:gdLst>
                  <a:gd name="textAreaLeft" fmla="*/ 0 w 186480"/>
                  <a:gd name="textAreaRight" fmla="*/ 186840 w 186480"/>
                  <a:gd name="textAreaTop" fmla="*/ 0 h 176400"/>
                  <a:gd name="textAreaBottom" fmla="*/ 176760 h 176400"/>
                </a:gdLst>
                <a:ahLst/>
                <a:rect l="textAreaLeft" t="textAreaTop" r="textAreaRight" b="textAreaBottom"/>
                <a:pathLst>
                  <a:path w="1175" h="1166">
                    <a:moveTo>
                      <a:pt x="1135" y="165"/>
                    </a:moveTo>
                    <a:lnTo>
                      <a:pt x="1149" y="186"/>
                    </a:lnTo>
                    <a:lnTo>
                      <a:pt x="1158" y="202"/>
                    </a:lnTo>
                    <a:lnTo>
                      <a:pt x="1166" y="213"/>
                    </a:lnTo>
                    <a:lnTo>
                      <a:pt x="1170" y="221"/>
                    </a:lnTo>
                    <a:lnTo>
                      <a:pt x="1173" y="227"/>
                    </a:lnTo>
                    <a:lnTo>
                      <a:pt x="1175" y="232"/>
                    </a:lnTo>
                    <a:lnTo>
                      <a:pt x="1175" y="236"/>
                    </a:lnTo>
                    <a:lnTo>
                      <a:pt x="1174" y="241"/>
                    </a:lnTo>
                    <a:lnTo>
                      <a:pt x="1171" y="244"/>
                    </a:lnTo>
                    <a:lnTo>
                      <a:pt x="1167" y="247"/>
                    </a:lnTo>
                    <a:lnTo>
                      <a:pt x="1162" y="249"/>
                    </a:lnTo>
                    <a:lnTo>
                      <a:pt x="1155" y="250"/>
                    </a:lnTo>
                    <a:lnTo>
                      <a:pt x="1095" y="251"/>
                    </a:lnTo>
                    <a:lnTo>
                      <a:pt x="1031" y="253"/>
                    </a:lnTo>
                    <a:lnTo>
                      <a:pt x="963" y="257"/>
                    </a:lnTo>
                    <a:lnTo>
                      <a:pt x="889" y="262"/>
                    </a:lnTo>
                    <a:lnTo>
                      <a:pt x="811" y="268"/>
                    </a:lnTo>
                    <a:lnTo>
                      <a:pt x="728" y="276"/>
                    </a:lnTo>
                    <a:lnTo>
                      <a:pt x="642" y="285"/>
                    </a:lnTo>
                    <a:lnTo>
                      <a:pt x="551" y="296"/>
                    </a:lnTo>
                    <a:lnTo>
                      <a:pt x="541" y="316"/>
                    </a:lnTo>
                    <a:lnTo>
                      <a:pt x="533" y="336"/>
                    </a:lnTo>
                    <a:lnTo>
                      <a:pt x="522" y="355"/>
                    </a:lnTo>
                    <a:lnTo>
                      <a:pt x="512" y="375"/>
                    </a:lnTo>
                    <a:lnTo>
                      <a:pt x="503" y="395"/>
                    </a:lnTo>
                    <a:lnTo>
                      <a:pt x="492" y="416"/>
                    </a:lnTo>
                    <a:lnTo>
                      <a:pt x="482" y="436"/>
                    </a:lnTo>
                    <a:lnTo>
                      <a:pt x="470" y="456"/>
                    </a:lnTo>
                    <a:lnTo>
                      <a:pt x="475" y="456"/>
                    </a:lnTo>
                    <a:lnTo>
                      <a:pt x="481" y="457"/>
                    </a:lnTo>
                    <a:lnTo>
                      <a:pt x="485" y="459"/>
                    </a:lnTo>
                    <a:lnTo>
                      <a:pt x="490" y="461"/>
                    </a:lnTo>
                    <a:lnTo>
                      <a:pt x="499" y="461"/>
                    </a:lnTo>
                    <a:lnTo>
                      <a:pt x="505" y="461"/>
                    </a:lnTo>
                    <a:lnTo>
                      <a:pt x="552" y="455"/>
                    </a:lnTo>
                    <a:lnTo>
                      <a:pt x="595" y="447"/>
                    </a:lnTo>
                    <a:lnTo>
                      <a:pt x="634" y="439"/>
                    </a:lnTo>
                    <a:lnTo>
                      <a:pt x="669" y="430"/>
                    </a:lnTo>
                    <a:lnTo>
                      <a:pt x="700" y="422"/>
                    </a:lnTo>
                    <a:lnTo>
                      <a:pt x="727" y="412"/>
                    </a:lnTo>
                    <a:lnTo>
                      <a:pt x="739" y="407"/>
                    </a:lnTo>
                    <a:lnTo>
                      <a:pt x="751" y="402"/>
                    </a:lnTo>
                    <a:lnTo>
                      <a:pt x="761" y="397"/>
                    </a:lnTo>
                    <a:lnTo>
                      <a:pt x="770" y="391"/>
                    </a:lnTo>
                    <a:lnTo>
                      <a:pt x="784" y="401"/>
                    </a:lnTo>
                    <a:lnTo>
                      <a:pt x="798" y="408"/>
                    </a:lnTo>
                    <a:lnTo>
                      <a:pt x="815" y="416"/>
                    </a:lnTo>
                    <a:lnTo>
                      <a:pt x="834" y="422"/>
                    </a:lnTo>
                    <a:lnTo>
                      <a:pt x="855" y="427"/>
                    </a:lnTo>
                    <a:lnTo>
                      <a:pt x="876" y="431"/>
                    </a:lnTo>
                    <a:lnTo>
                      <a:pt x="900" y="434"/>
                    </a:lnTo>
                    <a:lnTo>
                      <a:pt x="925" y="436"/>
                    </a:lnTo>
                    <a:lnTo>
                      <a:pt x="919" y="447"/>
                    </a:lnTo>
                    <a:lnTo>
                      <a:pt x="914" y="461"/>
                    </a:lnTo>
                    <a:lnTo>
                      <a:pt x="910" y="477"/>
                    </a:lnTo>
                    <a:lnTo>
                      <a:pt x="905" y="496"/>
                    </a:lnTo>
                    <a:lnTo>
                      <a:pt x="902" y="517"/>
                    </a:lnTo>
                    <a:lnTo>
                      <a:pt x="899" y="541"/>
                    </a:lnTo>
                    <a:lnTo>
                      <a:pt x="897" y="567"/>
                    </a:lnTo>
                    <a:lnTo>
                      <a:pt x="895" y="596"/>
                    </a:lnTo>
                    <a:lnTo>
                      <a:pt x="895" y="628"/>
                    </a:lnTo>
                    <a:lnTo>
                      <a:pt x="894" y="660"/>
                    </a:lnTo>
                    <a:lnTo>
                      <a:pt x="895" y="697"/>
                    </a:lnTo>
                    <a:lnTo>
                      <a:pt x="895" y="736"/>
                    </a:lnTo>
                    <a:lnTo>
                      <a:pt x="899" y="821"/>
                    </a:lnTo>
                    <a:lnTo>
                      <a:pt x="905" y="916"/>
                    </a:lnTo>
                    <a:lnTo>
                      <a:pt x="905" y="972"/>
                    </a:lnTo>
                    <a:lnTo>
                      <a:pt x="905" y="1020"/>
                    </a:lnTo>
                    <a:lnTo>
                      <a:pt x="903" y="1062"/>
                    </a:lnTo>
                    <a:lnTo>
                      <a:pt x="900" y="1096"/>
                    </a:lnTo>
                    <a:lnTo>
                      <a:pt x="898" y="1111"/>
                    </a:lnTo>
                    <a:lnTo>
                      <a:pt x="896" y="1125"/>
                    </a:lnTo>
                    <a:lnTo>
                      <a:pt x="893" y="1135"/>
                    </a:lnTo>
                    <a:lnTo>
                      <a:pt x="891" y="1145"/>
                    </a:lnTo>
                    <a:lnTo>
                      <a:pt x="887" y="1153"/>
                    </a:lnTo>
                    <a:lnTo>
                      <a:pt x="883" y="1160"/>
                    </a:lnTo>
                    <a:lnTo>
                      <a:pt x="880" y="1164"/>
                    </a:lnTo>
                    <a:lnTo>
                      <a:pt x="876" y="1166"/>
                    </a:lnTo>
                    <a:lnTo>
                      <a:pt x="867" y="1165"/>
                    </a:lnTo>
                    <a:lnTo>
                      <a:pt x="858" y="1162"/>
                    </a:lnTo>
                    <a:lnTo>
                      <a:pt x="848" y="1158"/>
                    </a:lnTo>
                    <a:lnTo>
                      <a:pt x="839" y="1154"/>
                    </a:lnTo>
                    <a:lnTo>
                      <a:pt x="816" y="1144"/>
                    </a:lnTo>
                    <a:lnTo>
                      <a:pt x="793" y="1129"/>
                    </a:lnTo>
                    <a:lnTo>
                      <a:pt x="767" y="1111"/>
                    </a:lnTo>
                    <a:lnTo>
                      <a:pt x="738" y="1090"/>
                    </a:lnTo>
                    <a:lnTo>
                      <a:pt x="707" y="1064"/>
                    </a:lnTo>
                    <a:lnTo>
                      <a:pt x="676" y="1037"/>
                    </a:lnTo>
                    <a:lnTo>
                      <a:pt x="667" y="1025"/>
                    </a:lnTo>
                    <a:lnTo>
                      <a:pt x="662" y="1016"/>
                    </a:lnTo>
                    <a:lnTo>
                      <a:pt x="660" y="1013"/>
                    </a:lnTo>
                    <a:lnTo>
                      <a:pt x="660" y="1010"/>
                    </a:lnTo>
                    <a:lnTo>
                      <a:pt x="660" y="1008"/>
                    </a:lnTo>
                    <a:lnTo>
                      <a:pt x="660" y="1006"/>
                    </a:lnTo>
                    <a:lnTo>
                      <a:pt x="661" y="1004"/>
                    </a:lnTo>
                    <a:lnTo>
                      <a:pt x="662" y="1002"/>
                    </a:lnTo>
                    <a:lnTo>
                      <a:pt x="664" y="1001"/>
                    </a:lnTo>
                    <a:lnTo>
                      <a:pt x="666" y="999"/>
                    </a:lnTo>
                    <a:lnTo>
                      <a:pt x="674" y="999"/>
                    </a:lnTo>
                    <a:lnTo>
                      <a:pt x="685" y="1002"/>
                    </a:lnTo>
                    <a:lnTo>
                      <a:pt x="713" y="1004"/>
                    </a:lnTo>
                    <a:lnTo>
                      <a:pt x="737" y="1005"/>
                    </a:lnTo>
                    <a:lnTo>
                      <a:pt x="748" y="1005"/>
                    </a:lnTo>
                    <a:lnTo>
                      <a:pt x="757" y="1004"/>
                    </a:lnTo>
                    <a:lnTo>
                      <a:pt x="766" y="1003"/>
                    </a:lnTo>
                    <a:lnTo>
                      <a:pt x="773" y="1002"/>
                    </a:lnTo>
                    <a:lnTo>
                      <a:pt x="779" y="999"/>
                    </a:lnTo>
                    <a:lnTo>
                      <a:pt x="785" y="996"/>
                    </a:lnTo>
                    <a:lnTo>
                      <a:pt x="789" y="993"/>
                    </a:lnTo>
                    <a:lnTo>
                      <a:pt x="792" y="990"/>
                    </a:lnTo>
                    <a:lnTo>
                      <a:pt x="794" y="986"/>
                    </a:lnTo>
                    <a:lnTo>
                      <a:pt x="795" y="981"/>
                    </a:lnTo>
                    <a:lnTo>
                      <a:pt x="796" y="976"/>
                    </a:lnTo>
                    <a:lnTo>
                      <a:pt x="795" y="971"/>
                    </a:lnTo>
                    <a:lnTo>
                      <a:pt x="797" y="904"/>
                    </a:lnTo>
                    <a:lnTo>
                      <a:pt x="798" y="839"/>
                    </a:lnTo>
                    <a:lnTo>
                      <a:pt x="798" y="776"/>
                    </a:lnTo>
                    <a:lnTo>
                      <a:pt x="797" y="713"/>
                    </a:lnTo>
                    <a:lnTo>
                      <a:pt x="796" y="653"/>
                    </a:lnTo>
                    <a:lnTo>
                      <a:pt x="793" y="594"/>
                    </a:lnTo>
                    <a:lnTo>
                      <a:pt x="790" y="536"/>
                    </a:lnTo>
                    <a:lnTo>
                      <a:pt x="786" y="480"/>
                    </a:lnTo>
                    <a:lnTo>
                      <a:pt x="785" y="477"/>
                    </a:lnTo>
                    <a:lnTo>
                      <a:pt x="784" y="474"/>
                    </a:lnTo>
                    <a:lnTo>
                      <a:pt x="782" y="472"/>
                    </a:lnTo>
                    <a:lnTo>
                      <a:pt x="780" y="470"/>
                    </a:lnTo>
                    <a:lnTo>
                      <a:pt x="777" y="468"/>
                    </a:lnTo>
                    <a:lnTo>
                      <a:pt x="774" y="466"/>
                    </a:lnTo>
                    <a:lnTo>
                      <a:pt x="770" y="466"/>
                    </a:lnTo>
                    <a:lnTo>
                      <a:pt x="766" y="465"/>
                    </a:lnTo>
                    <a:lnTo>
                      <a:pt x="732" y="472"/>
                    </a:lnTo>
                    <a:lnTo>
                      <a:pt x="700" y="478"/>
                    </a:lnTo>
                    <a:lnTo>
                      <a:pt x="670" y="486"/>
                    </a:lnTo>
                    <a:lnTo>
                      <a:pt x="642" y="492"/>
                    </a:lnTo>
                    <a:lnTo>
                      <a:pt x="614" y="499"/>
                    </a:lnTo>
                    <a:lnTo>
                      <a:pt x="588" y="506"/>
                    </a:lnTo>
                    <a:lnTo>
                      <a:pt x="563" y="513"/>
                    </a:lnTo>
                    <a:lnTo>
                      <a:pt x="540" y="521"/>
                    </a:lnTo>
                    <a:lnTo>
                      <a:pt x="537" y="521"/>
                    </a:lnTo>
                    <a:lnTo>
                      <a:pt x="533" y="519"/>
                    </a:lnTo>
                    <a:lnTo>
                      <a:pt x="528" y="517"/>
                    </a:lnTo>
                    <a:lnTo>
                      <a:pt x="524" y="514"/>
                    </a:lnTo>
                    <a:lnTo>
                      <a:pt x="515" y="507"/>
                    </a:lnTo>
                    <a:lnTo>
                      <a:pt x="505" y="496"/>
                    </a:lnTo>
                    <a:lnTo>
                      <a:pt x="503" y="519"/>
                    </a:lnTo>
                    <a:lnTo>
                      <a:pt x="502" y="550"/>
                    </a:lnTo>
                    <a:lnTo>
                      <a:pt x="501" y="587"/>
                    </a:lnTo>
                    <a:lnTo>
                      <a:pt x="500" y="631"/>
                    </a:lnTo>
                    <a:lnTo>
                      <a:pt x="515" y="630"/>
                    </a:lnTo>
                    <a:lnTo>
                      <a:pt x="534" y="628"/>
                    </a:lnTo>
                    <a:lnTo>
                      <a:pt x="557" y="622"/>
                    </a:lnTo>
                    <a:lnTo>
                      <a:pt x="585" y="616"/>
                    </a:lnTo>
                    <a:lnTo>
                      <a:pt x="627" y="607"/>
                    </a:lnTo>
                    <a:lnTo>
                      <a:pt x="663" y="600"/>
                    </a:lnTo>
                    <a:lnTo>
                      <a:pt x="692" y="595"/>
                    </a:lnTo>
                    <a:lnTo>
                      <a:pt x="715" y="590"/>
                    </a:lnTo>
                    <a:lnTo>
                      <a:pt x="719" y="594"/>
                    </a:lnTo>
                    <a:lnTo>
                      <a:pt x="726" y="602"/>
                    </a:lnTo>
                    <a:lnTo>
                      <a:pt x="737" y="616"/>
                    </a:lnTo>
                    <a:lnTo>
                      <a:pt x="750" y="636"/>
                    </a:lnTo>
                    <a:lnTo>
                      <a:pt x="753" y="638"/>
                    </a:lnTo>
                    <a:lnTo>
                      <a:pt x="754" y="641"/>
                    </a:lnTo>
                    <a:lnTo>
                      <a:pt x="755" y="643"/>
                    </a:lnTo>
                    <a:lnTo>
                      <a:pt x="755" y="646"/>
                    </a:lnTo>
                    <a:lnTo>
                      <a:pt x="732" y="651"/>
                    </a:lnTo>
                    <a:lnTo>
                      <a:pt x="700" y="656"/>
                    </a:lnTo>
                    <a:lnTo>
                      <a:pt x="662" y="661"/>
                    </a:lnTo>
                    <a:lnTo>
                      <a:pt x="615" y="666"/>
                    </a:lnTo>
                    <a:lnTo>
                      <a:pt x="578" y="673"/>
                    </a:lnTo>
                    <a:lnTo>
                      <a:pt x="545" y="678"/>
                    </a:lnTo>
                    <a:lnTo>
                      <a:pt x="518" y="683"/>
                    </a:lnTo>
                    <a:lnTo>
                      <a:pt x="495" y="686"/>
                    </a:lnTo>
                    <a:lnTo>
                      <a:pt x="495" y="710"/>
                    </a:lnTo>
                    <a:lnTo>
                      <a:pt x="495" y="736"/>
                    </a:lnTo>
                    <a:lnTo>
                      <a:pt x="495" y="765"/>
                    </a:lnTo>
                    <a:lnTo>
                      <a:pt x="495" y="796"/>
                    </a:lnTo>
                    <a:lnTo>
                      <a:pt x="509" y="793"/>
                    </a:lnTo>
                    <a:lnTo>
                      <a:pt x="527" y="790"/>
                    </a:lnTo>
                    <a:lnTo>
                      <a:pt x="549" y="785"/>
                    </a:lnTo>
                    <a:lnTo>
                      <a:pt x="575" y="781"/>
                    </a:lnTo>
                    <a:lnTo>
                      <a:pt x="623" y="772"/>
                    </a:lnTo>
                    <a:lnTo>
                      <a:pt x="664" y="764"/>
                    </a:lnTo>
                    <a:lnTo>
                      <a:pt x="700" y="759"/>
                    </a:lnTo>
                    <a:lnTo>
                      <a:pt x="731" y="756"/>
                    </a:lnTo>
                    <a:lnTo>
                      <a:pt x="735" y="759"/>
                    </a:lnTo>
                    <a:lnTo>
                      <a:pt x="740" y="763"/>
                    </a:lnTo>
                    <a:lnTo>
                      <a:pt x="745" y="770"/>
                    </a:lnTo>
                    <a:lnTo>
                      <a:pt x="750" y="776"/>
                    </a:lnTo>
                    <a:lnTo>
                      <a:pt x="755" y="784"/>
                    </a:lnTo>
                    <a:lnTo>
                      <a:pt x="760" y="794"/>
                    </a:lnTo>
                    <a:lnTo>
                      <a:pt x="766" y="805"/>
                    </a:lnTo>
                    <a:lnTo>
                      <a:pt x="770" y="816"/>
                    </a:lnTo>
                    <a:lnTo>
                      <a:pt x="753" y="818"/>
                    </a:lnTo>
                    <a:lnTo>
                      <a:pt x="733" y="821"/>
                    </a:lnTo>
                    <a:lnTo>
                      <a:pt x="708" y="824"/>
                    </a:lnTo>
                    <a:lnTo>
                      <a:pt x="680" y="826"/>
                    </a:lnTo>
                    <a:lnTo>
                      <a:pt x="648" y="830"/>
                    </a:lnTo>
                    <a:lnTo>
                      <a:pt x="618" y="833"/>
                    </a:lnTo>
                    <a:lnTo>
                      <a:pt x="591" y="836"/>
                    </a:lnTo>
                    <a:lnTo>
                      <a:pt x="566" y="838"/>
                    </a:lnTo>
                    <a:lnTo>
                      <a:pt x="544" y="841"/>
                    </a:lnTo>
                    <a:lnTo>
                      <a:pt x="525" y="843"/>
                    </a:lnTo>
                    <a:lnTo>
                      <a:pt x="509" y="845"/>
                    </a:lnTo>
                    <a:lnTo>
                      <a:pt x="495" y="846"/>
                    </a:lnTo>
                    <a:lnTo>
                      <a:pt x="493" y="884"/>
                    </a:lnTo>
                    <a:lnTo>
                      <a:pt x="491" y="922"/>
                    </a:lnTo>
                    <a:lnTo>
                      <a:pt x="490" y="961"/>
                    </a:lnTo>
                    <a:lnTo>
                      <a:pt x="490" y="1002"/>
                    </a:lnTo>
                    <a:lnTo>
                      <a:pt x="487" y="1027"/>
                    </a:lnTo>
                    <a:lnTo>
                      <a:pt x="485" y="1049"/>
                    </a:lnTo>
                    <a:lnTo>
                      <a:pt x="482" y="1069"/>
                    </a:lnTo>
                    <a:lnTo>
                      <a:pt x="478" y="1085"/>
                    </a:lnTo>
                    <a:lnTo>
                      <a:pt x="475" y="1098"/>
                    </a:lnTo>
                    <a:lnTo>
                      <a:pt x="472" y="1108"/>
                    </a:lnTo>
                    <a:lnTo>
                      <a:pt x="470" y="1111"/>
                    </a:lnTo>
                    <a:lnTo>
                      <a:pt x="469" y="1113"/>
                    </a:lnTo>
                    <a:lnTo>
                      <a:pt x="467" y="1115"/>
                    </a:lnTo>
                    <a:lnTo>
                      <a:pt x="465" y="1116"/>
                    </a:lnTo>
                    <a:lnTo>
                      <a:pt x="449" y="1107"/>
                    </a:lnTo>
                    <a:lnTo>
                      <a:pt x="435" y="1096"/>
                    </a:lnTo>
                    <a:lnTo>
                      <a:pt x="421" y="1085"/>
                    </a:lnTo>
                    <a:lnTo>
                      <a:pt x="409" y="1075"/>
                    </a:lnTo>
                    <a:lnTo>
                      <a:pt x="398" y="1064"/>
                    </a:lnTo>
                    <a:lnTo>
                      <a:pt x="387" y="1054"/>
                    </a:lnTo>
                    <a:lnTo>
                      <a:pt x="378" y="1043"/>
                    </a:lnTo>
                    <a:lnTo>
                      <a:pt x="370" y="1031"/>
                    </a:lnTo>
                    <a:lnTo>
                      <a:pt x="376" y="1024"/>
                    </a:lnTo>
                    <a:lnTo>
                      <a:pt x="382" y="1013"/>
                    </a:lnTo>
                    <a:lnTo>
                      <a:pt x="387" y="1001"/>
                    </a:lnTo>
                    <a:lnTo>
                      <a:pt x="393" y="986"/>
                    </a:lnTo>
                    <a:lnTo>
                      <a:pt x="397" y="968"/>
                    </a:lnTo>
                    <a:lnTo>
                      <a:pt x="401" y="948"/>
                    </a:lnTo>
                    <a:lnTo>
                      <a:pt x="405" y="924"/>
                    </a:lnTo>
                    <a:lnTo>
                      <a:pt x="409" y="899"/>
                    </a:lnTo>
                    <a:lnTo>
                      <a:pt x="412" y="870"/>
                    </a:lnTo>
                    <a:lnTo>
                      <a:pt x="415" y="839"/>
                    </a:lnTo>
                    <a:lnTo>
                      <a:pt x="417" y="807"/>
                    </a:lnTo>
                    <a:lnTo>
                      <a:pt x="420" y="771"/>
                    </a:lnTo>
                    <a:lnTo>
                      <a:pt x="423" y="691"/>
                    </a:lnTo>
                    <a:lnTo>
                      <a:pt x="426" y="601"/>
                    </a:lnTo>
                    <a:lnTo>
                      <a:pt x="426" y="593"/>
                    </a:lnTo>
                    <a:lnTo>
                      <a:pt x="426" y="576"/>
                    </a:lnTo>
                    <a:lnTo>
                      <a:pt x="423" y="564"/>
                    </a:lnTo>
                    <a:lnTo>
                      <a:pt x="421" y="554"/>
                    </a:lnTo>
                    <a:lnTo>
                      <a:pt x="420" y="547"/>
                    </a:lnTo>
                    <a:lnTo>
                      <a:pt x="420" y="541"/>
                    </a:lnTo>
                    <a:lnTo>
                      <a:pt x="398" y="572"/>
                    </a:lnTo>
                    <a:lnTo>
                      <a:pt x="377" y="603"/>
                    </a:lnTo>
                    <a:lnTo>
                      <a:pt x="354" y="633"/>
                    </a:lnTo>
                    <a:lnTo>
                      <a:pt x="330" y="664"/>
                    </a:lnTo>
                    <a:lnTo>
                      <a:pt x="306" y="693"/>
                    </a:lnTo>
                    <a:lnTo>
                      <a:pt x="281" y="723"/>
                    </a:lnTo>
                    <a:lnTo>
                      <a:pt x="256" y="753"/>
                    </a:lnTo>
                    <a:lnTo>
                      <a:pt x="230" y="781"/>
                    </a:lnTo>
                    <a:lnTo>
                      <a:pt x="216" y="795"/>
                    </a:lnTo>
                    <a:lnTo>
                      <a:pt x="202" y="808"/>
                    </a:lnTo>
                    <a:lnTo>
                      <a:pt x="188" y="819"/>
                    </a:lnTo>
                    <a:lnTo>
                      <a:pt x="175" y="829"/>
                    </a:lnTo>
                    <a:lnTo>
                      <a:pt x="161" y="837"/>
                    </a:lnTo>
                    <a:lnTo>
                      <a:pt x="146" y="845"/>
                    </a:lnTo>
                    <a:lnTo>
                      <a:pt x="132" y="850"/>
                    </a:lnTo>
                    <a:lnTo>
                      <a:pt x="117" y="853"/>
                    </a:lnTo>
                    <a:lnTo>
                      <a:pt x="102" y="856"/>
                    </a:lnTo>
                    <a:lnTo>
                      <a:pt x="89" y="856"/>
                    </a:lnTo>
                    <a:lnTo>
                      <a:pt x="74" y="856"/>
                    </a:lnTo>
                    <a:lnTo>
                      <a:pt x="59" y="854"/>
                    </a:lnTo>
                    <a:lnTo>
                      <a:pt x="44" y="851"/>
                    </a:lnTo>
                    <a:lnTo>
                      <a:pt x="29" y="846"/>
                    </a:lnTo>
                    <a:lnTo>
                      <a:pt x="15" y="839"/>
                    </a:lnTo>
                    <a:lnTo>
                      <a:pt x="0" y="831"/>
                    </a:lnTo>
                    <a:lnTo>
                      <a:pt x="36" y="807"/>
                    </a:lnTo>
                    <a:lnTo>
                      <a:pt x="72" y="780"/>
                    </a:lnTo>
                    <a:lnTo>
                      <a:pt x="106" y="754"/>
                    </a:lnTo>
                    <a:lnTo>
                      <a:pt x="138" y="725"/>
                    </a:lnTo>
                    <a:lnTo>
                      <a:pt x="170" y="696"/>
                    </a:lnTo>
                    <a:lnTo>
                      <a:pt x="201" y="667"/>
                    </a:lnTo>
                    <a:lnTo>
                      <a:pt x="232" y="635"/>
                    </a:lnTo>
                    <a:lnTo>
                      <a:pt x="260" y="603"/>
                    </a:lnTo>
                    <a:lnTo>
                      <a:pt x="288" y="570"/>
                    </a:lnTo>
                    <a:lnTo>
                      <a:pt x="314" y="536"/>
                    </a:lnTo>
                    <a:lnTo>
                      <a:pt x="340" y="501"/>
                    </a:lnTo>
                    <a:lnTo>
                      <a:pt x="364" y="465"/>
                    </a:lnTo>
                    <a:lnTo>
                      <a:pt x="387" y="428"/>
                    </a:lnTo>
                    <a:lnTo>
                      <a:pt x="410" y="390"/>
                    </a:lnTo>
                    <a:lnTo>
                      <a:pt x="430" y="351"/>
                    </a:lnTo>
                    <a:lnTo>
                      <a:pt x="450" y="311"/>
                    </a:lnTo>
                    <a:lnTo>
                      <a:pt x="415" y="316"/>
                    </a:lnTo>
                    <a:lnTo>
                      <a:pt x="380" y="321"/>
                    </a:lnTo>
                    <a:lnTo>
                      <a:pt x="344" y="328"/>
                    </a:lnTo>
                    <a:lnTo>
                      <a:pt x="309" y="333"/>
                    </a:lnTo>
                    <a:lnTo>
                      <a:pt x="273" y="339"/>
                    </a:lnTo>
                    <a:lnTo>
                      <a:pt x="237" y="347"/>
                    </a:lnTo>
                    <a:lnTo>
                      <a:pt x="201" y="353"/>
                    </a:lnTo>
                    <a:lnTo>
                      <a:pt x="165" y="360"/>
                    </a:lnTo>
                    <a:lnTo>
                      <a:pt x="147" y="347"/>
                    </a:lnTo>
                    <a:lnTo>
                      <a:pt x="129" y="331"/>
                    </a:lnTo>
                    <a:lnTo>
                      <a:pt x="110" y="312"/>
                    </a:lnTo>
                    <a:lnTo>
                      <a:pt x="90" y="291"/>
                    </a:lnTo>
                    <a:lnTo>
                      <a:pt x="86" y="286"/>
                    </a:lnTo>
                    <a:lnTo>
                      <a:pt x="83" y="282"/>
                    </a:lnTo>
                    <a:lnTo>
                      <a:pt x="83" y="279"/>
                    </a:lnTo>
                    <a:lnTo>
                      <a:pt x="86" y="276"/>
                    </a:lnTo>
                    <a:lnTo>
                      <a:pt x="86" y="274"/>
                    </a:lnTo>
                    <a:lnTo>
                      <a:pt x="88" y="271"/>
                    </a:lnTo>
                    <a:lnTo>
                      <a:pt x="91" y="271"/>
                    </a:lnTo>
                    <a:lnTo>
                      <a:pt x="95" y="270"/>
                    </a:lnTo>
                    <a:lnTo>
                      <a:pt x="140" y="268"/>
                    </a:lnTo>
                    <a:lnTo>
                      <a:pt x="185" y="264"/>
                    </a:lnTo>
                    <a:lnTo>
                      <a:pt x="232" y="260"/>
                    </a:lnTo>
                    <a:lnTo>
                      <a:pt x="280" y="255"/>
                    </a:lnTo>
                    <a:lnTo>
                      <a:pt x="329" y="248"/>
                    </a:lnTo>
                    <a:lnTo>
                      <a:pt x="380" y="242"/>
                    </a:lnTo>
                    <a:lnTo>
                      <a:pt x="432" y="234"/>
                    </a:lnTo>
                    <a:lnTo>
                      <a:pt x="485" y="226"/>
                    </a:lnTo>
                    <a:lnTo>
                      <a:pt x="489" y="216"/>
                    </a:lnTo>
                    <a:lnTo>
                      <a:pt x="490" y="211"/>
                    </a:lnTo>
                    <a:lnTo>
                      <a:pt x="504" y="175"/>
                    </a:lnTo>
                    <a:lnTo>
                      <a:pt x="516" y="141"/>
                    </a:lnTo>
                    <a:lnTo>
                      <a:pt x="524" y="110"/>
                    </a:lnTo>
                    <a:lnTo>
                      <a:pt x="531" y="83"/>
                    </a:lnTo>
                    <a:lnTo>
                      <a:pt x="536" y="58"/>
                    </a:lnTo>
                    <a:lnTo>
                      <a:pt x="538" y="36"/>
                    </a:lnTo>
                    <a:lnTo>
                      <a:pt x="538" y="26"/>
                    </a:lnTo>
                    <a:lnTo>
                      <a:pt x="538" y="17"/>
                    </a:lnTo>
                    <a:lnTo>
                      <a:pt x="537" y="9"/>
                    </a:lnTo>
                    <a:lnTo>
                      <a:pt x="535" y="0"/>
                    </a:lnTo>
                    <a:lnTo>
                      <a:pt x="548" y="9"/>
                    </a:lnTo>
                    <a:lnTo>
                      <a:pt x="562" y="17"/>
                    </a:lnTo>
                    <a:lnTo>
                      <a:pt x="578" y="23"/>
                    </a:lnTo>
                    <a:lnTo>
                      <a:pt x="595" y="31"/>
                    </a:lnTo>
                    <a:lnTo>
                      <a:pt x="613" y="36"/>
                    </a:lnTo>
                    <a:lnTo>
                      <a:pt x="632" y="42"/>
                    </a:lnTo>
                    <a:lnTo>
                      <a:pt x="653" y="47"/>
                    </a:lnTo>
                    <a:lnTo>
                      <a:pt x="676" y="50"/>
                    </a:lnTo>
                    <a:lnTo>
                      <a:pt x="665" y="61"/>
                    </a:lnTo>
                    <a:lnTo>
                      <a:pt x="654" y="74"/>
                    </a:lnTo>
                    <a:lnTo>
                      <a:pt x="643" y="90"/>
                    </a:lnTo>
                    <a:lnTo>
                      <a:pt x="631" y="109"/>
                    </a:lnTo>
                    <a:lnTo>
                      <a:pt x="619" y="132"/>
                    </a:lnTo>
                    <a:lnTo>
                      <a:pt x="607" y="156"/>
                    </a:lnTo>
                    <a:lnTo>
                      <a:pt x="594" y="185"/>
                    </a:lnTo>
                    <a:lnTo>
                      <a:pt x="580" y="215"/>
                    </a:lnTo>
                    <a:lnTo>
                      <a:pt x="598" y="213"/>
                    </a:lnTo>
                    <a:lnTo>
                      <a:pt x="619" y="210"/>
                    </a:lnTo>
                    <a:lnTo>
                      <a:pt x="643" y="207"/>
                    </a:lnTo>
                    <a:lnTo>
                      <a:pt x="668" y="203"/>
                    </a:lnTo>
                    <a:lnTo>
                      <a:pt x="695" y="199"/>
                    </a:lnTo>
                    <a:lnTo>
                      <a:pt x="724" y="195"/>
                    </a:lnTo>
                    <a:lnTo>
                      <a:pt x="756" y="191"/>
                    </a:lnTo>
                    <a:lnTo>
                      <a:pt x="790" y="186"/>
                    </a:lnTo>
                    <a:lnTo>
                      <a:pt x="841" y="178"/>
                    </a:lnTo>
                    <a:lnTo>
                      <a:pt x="887" y="172"/>
                    </a:lnTo>
                    <a:lnTo>
                      <a:pt x="930" y="165"/>
                    </a:lnTo>
                    <a:lnTo>
                      <a:pt x="969" y="160"/>
                    </a:lnTo>
                    <a:lnTo>
                      <a:pt x="1004" y="156"/>
                    </a:lnTo>
                    <a:lnTo>
                      <a:pt x="1035" y="152"/>
                    </a:lnTo>
                    <a:lnTo>
                      <a:pt x="1062" y="149"/>
                    </a:lnTo>
                    <a:lnTo>
                      <a:pt x="1085" y="145"/>
                    </a:lnTo>
                    <a:lnTo>
                      <a:pt x="1092" y="145"/>
                    </a:lnTo>
                    <a:lnTo>
                      <a:pt x="1098" y="146"/>
                    </a:lnTo>
                    <a:lnTo>
                      <a:pt x="1104" y="149"/>
                    </a:lnTo>
                    <a:lnTo>
                      <a:pt x="1110" y="151"/>
                    </a:lnTo>
                    <a:lnTo>
                      <a:pt x="1116" y="154"/>
                    </a:lnTo>
                    <a:lnTo>
                      <a:pt x="1122" y="157"/>
                    </a:lnTo>
                    <a:lnTo>
                      <a:pt x="1129" y="161"/>
                    </a:lnTo>
                    <a:lnTo>
                      <a:pt x="1135" y="165"/>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219" name="Freeform 22"/>
              <p:cNvSpPr/>
              <p:nvPr/>
            </p:nvSpPr>
            <p:spPr>
              <a:xfrm>
                <a:off x="5858640" y="1209960"/>
                <a:ext cx="178560" cy="154080"/>
              </a:xfrm>
              <a:custGeom>
                <a:avLst/>
                <a:gdLst>
                  <a:gd name="textAreaLeft" fmla="*/ 0 w 178560"/>
                  <a:gd name="textAreaRight" fmla="*/ 178920 w 178560"/>
                  <a:gd name="textAreaTop" fmla="*/ 0 h 154080"/>
                  <a:gd name="textAreaBottom" fmla="*/ 154440 h 154080"/>
                </a:gdLst>
                <a:ahLst/>
                <a:rect l="textAreaLeft" t="textAreaTop" r="textAreaRight" b="textAreaBottom"/>
                <a:pathLst>
                  <a:path w="1122" h="1023">
                    <a:moveTo>
                      <a:pt x="736" y="451"/>
                    </a:moveTo>
                    <a:lnTo>
                      <a:pt x="733" y="449"/>
                    </a:lnTo>
                    <a:lnTo>
                      <a:pt x="725" y="441"/>
                    </a:lnTo>
                    <a:lnTo>
                      <a:pt x="712" y="431"/>
                    </a:lnTo>
                    <a:lnTo>
                      <a:pt x="701" y="421"/>
                    </a:lnTo>
                    <a:lnTo>
                      <a:pt x="667" y="423"/>
                    </a:lnTo>
                    <a:lnTo>
                      <a:pt x="635" y="426"/>
                    </a:lnTo>
                    <a:lnTo>
                      <a:pt x="607" y="429"/>
                    </a:lnTo>
                    <a:lnTo>
                      <a:pt x="580" y="432"/>
                    </a:lnTo>
                    <a:lnTo>
                      <a:pt x="557" y="435"/>
                    </a:lnTo>
                    <a:lnTo>
                      <a:pt x="536" y="439"/>
                    </a:lnTo>
                    <a:lnTo>
                      <a:pt x="517" y="442"/>
                    </a:lnTo>
                    <a:lnTo>
                      <a:pt x="501" y="445"/>
                    </a:lnTo>
                    <a:lnTo>
                      <a:pt x="501" y="480"/>
                    </a:lnTo>
                    <a:lnTo>
                      <a:pt x="514" y="488"/>
                    </a:lnTo>
                    <a:lnTo>
                      <a:pt x="530" y="497"/>
                    </a:lnTo>
                    <a:lnTo>
                      <a:pt x="546" y="508"/>
                    </a:lnTo>
                    <a:lnTo>
                      <a:pt x="566" y="521"/>
                    </a:lnTo>
                    <a:lnTo>
                      <a:pt x="587" y="535"/>
                    </a:lnTo>
                    <a:lnTo>
                      <a:pt x="609" y="552"/>
                    </a:lnTo>
                    <a:lnTo>
                      <a:pt x="634" y="570"/>
                    </a:lnTo>
                    <a:lnTo>
                      <a:pt x="661" y="591"/>
                    </a:lnTo>
                    <a:lnTo>
                      <a:pt x="692" y="568"/>
                    </a:lnTo>
                    <a:lnTo>
                      <a:pt x="720" y="547"/>
                    </a:lnTo>
                    <a:lnTo>
                      <a:pt x="747" y="525"/>
                    </a:lnTo>
                    <a:lnTo>
                      <a:pt x="771" y="504"/>
                    </a:lnTo>
                    <a:lnTo>
                      <a:pt x="792" y="482"/>
                    </a:lnTo>
                    <a:lnTo>
                      <a:pt x="810" y="461"/>
                    </a:lnTo>
                    <a:lnTo>
                      <a:pt x="827" y="441"/>
                    </a:lnTo>
                    <a:lnTo>
                      <a:pt x="841" y="421"/>
                    </a:lnTo>
                    <a:lnTo>
                      <a:pt x="852" y="433"/>
                    </a:lnTo>
                    <a:lnTo>
                      <a:pt x="864" y="444"/>
                    </a:lnTo>
                    <a:lnTo>
                      <a:pt x="876" y="456"/>
                    </a:lnTo>
                    <a:lnTo>
                      <a:pt x="889" y="465"/>
                    </a:lnTo>
                    <a:lnTo>
                      <a:pt x="901" y="476"/>
                    </a:lnTo>
                    <a:lnTo>
                      <a:pt x="914" y="485"/>
                    </a:lnTo>
                    <a:lnTo>
                      <a:pt x="927" y="493"/>
                    </a:lnTo>
                    <a:lnTo>
                      <a:pt x="941" y="500"/>
                    </a:lnTo>
                    <a:lnTo>
                      <a:pt x="926" y="506"/>
                    </a:lnTo>
                    <a:lnTo>
                      <a:pt x="906" y="513"/>
                    </a:lnTo>
                    <a:lnTo>
                      <a:pt x="880" y="525"/>
                    </a:lnTo>
                    <a:lnTo>
                      <a:pt x="850" y="541"/>
                    </a:lnTo>
                    <a:lnTo>
                      <a:pt x="826" y="553"/>
                    </a:lnTo>
                    <a:lnTo>
                      <a:pt x="803" y="564"/>
                    </a:lnTo>
                    <a:lnTo>
                      <a:pt x="782" y="575"/>
                    </a:lnTo>
                    <a:lnTo>
                      <a:pt x="760" y="583"/>
                    </a:lnTo>
                    <a:lnTo>
                      <a:pt x="741" y="592"/>
                    </a:lnTo>
                    <a:lnTo>
                      <a:pt x="723" y="599"/>
                    </a:lnTo>
                    <a:lnTo>
                      <a:pt x="706" y="605"/>
                    </a:lnTo>
                    <a:lnTo>
                      <a:pt x="691" y="611"/>
                    </a:lnTo>
                    <a:lnTo>
                      <a:pt x="723" y="637"/>
                    </a:lnTo>
                    <a:lnTo>
                      <a:pt x="755" y="662"/>
                    </a:lnTo>
                    <a:lnTo>
                      <a:pt x="785" y="683"/>
                    </a:lnTo>
                    <a:lnTo>
                      <a:pt x="813" y="702"/>
                    </a:lnTo>
                    <a:lnTo>
                      <a:pt x="840" y="719"/>
                    </a:lnTo>
                    <a:lnTo>
                      <a:pt x="865" y="734"/>
                    </a:lnTo>
                    <a:lnTo>
                      <a:pt x="889" y="746"/>
                    </a:lnTo>
                    <a:lnTo>
                      <a:pt x="911" y="756"/>
                    </a:lnTo>
                    <a:lnTo>
                      <a:pt x="945" y="771"/>
                    </a:lnTo>
                    <a:lnTo>
                      <a:pt x="975" y="786"/>
                    </a:lnTo>
                    <a:lnTo>
                      <a:pt x="1004" y="799"/>
                    </a:lnTo>
                    <a:lnTo>
                      <a:pt x="1029" y="812"/>
                    </a:lnTo>
                    <a:lnTo>
                      <a:pt x="1053" y="826"/>
                    </a:lnTo>
                    <a:lnTo>
                      <a:pt x="1073" y="837"/>
                    </a:lnTo>
                    <a:lnTo>
                      <a:pt x="1091" y="850"/>
                    </a:lnTo>
                    <a:lnTo>
                      <a:pt x="1106" y="861"/>
                    </a:lnTo>
                    <a:lnTo>
                      <a:pt x="1114" y="868"/>
                    </a:lnTo>
                    <a:lnTo>
                      <a:pt x="1120" y="875"/>
                    </a:lnTo>
                    <a:lnTo>
                      <a:pt x="1121" y="878"/>
                    </a:lnTo>
                    <a:lnTo>
                      <a:pt x="1122" y="881"/>
                    </a:lnTo>
                    <a:lnTo>
                      <a:pt x="1122" y="884"/>
                    </a:lnTo>
                    <a:lnTo>
                      <a:pt x="1121" y="886"/>
                    </a:lnTo>
                    <a:lnTo>
                      <a:pt x="1121" y="888"/>
                    </a:lnTo>
                    <a:lnTo>
                      <a:pt x="1120" y="890"/>
                    </a:lnTo>
                    <a:lnTo>
                      <a:pt x="1117" y="893"/>
                    </a:lnTo>
                    <a:lnTo>
                      <a:pt x="1115" y="895"/>
                    </a:lnTo>
                    <a:lnTo>
                      <a:pt x="1110" y="898"/>
                    </a:lnTo>
                    <a:lnTo>
                      <a:pt x="1100" y="901"/>
                    </a:lnTo>
                    <a:lnTo>
                      <a:pt x="1076" y="901"/>
                    </a:lnTo>
                    <a:lnTo>
                      <a:pt x="1053" y="901"/>
                    </a:lnTo>
                    <a:lnTo>
                      <a:pt x="1029" y="901"/>
                    </a:lnTo>
                    <a:lnTo>
                      <a:pt x="1008" y="900"/>
                    </a:lnTo>
                    <a:lnTo>
                      <a:pt x="987" y="899"/>
                    </a:lnTo>
                    <a:lnTo>
                      <a:pt x="967" y="899"/>
                    </a:lnTo>
                    <a:lnTo>
                      <a:pt x="949" y="898"/>
                    </a:lnTo>
                    <a:lnTo>
                      <a:pt x="931" y="897"/>
                    </a:lnTo>
                    <a:lnTo>
                      <a:pt x="917" y="895"/>
                    </a:lnTo>
                    <a:lnTo>
                      <a:pt x="905" y="891"/>
                    </a:lnTo>
                    <a:lnTo>
                      <a:pt x="892" y="888"/>
                    </a:lnTo>
                    <a:lnTo>
                      <a:pt x="879" y="884"/>
                    </a:lnTo>
                    <a:lnTo>
                      <a:pt x="867" y="878"/>
                    </a:lnTo>
                    <a:lnTo>
                      <a:pt x="857" y="871"/>
                    </a:lnTo>
                    <a:lnTo>
                      <a:pt x="846" y="864"/>
                    </a:lnTo>
                    <a:lnTo>
                      <a:pt x="836" y="857"/>
                    </a:lnTo>
                    <a:lnTo>
                      <a:pt x="817" y="837"/>
                    </a:lnTo>
                    <a:lnTo>
                      <a:pt x="790" y="811"/>
                    </a:lnTo>
                    <a:lnTo>
                      <a:pt x="757" y="777"/>
                    </a:lnTo>
                    <a:lnTo>
                      <a:pt x="716" y="736"/>
                    </a:lnTo>
                    <a:lnTo>
                      <a:pt x="678" y="695"/>
                    </a:lnTo>
                    <a:lnTo>
                      <a:pt x="644" y="659"/>
                    </a:lnTo>
                    <a:lnTo>
                      <a:pt x="612" y="628"/>
                    </a:lnTo>
                    <a:lnTo>
                      <a:pt x="585" y="600"/>
                    </a:lnTo>
                    <a:lnTo>
                      <a:pt x="559" y="576"/>
                    </a:lnTo>
                    <a:lnTo>
                      <a:pt x="537" y="557"/>
                    </a:lnTo>
                    <a:lnTo>
                      <a:pt x="517" y="542"/>
                    </a:lnTo>
                    <a:lnTo>
                      <a:pt x="501" y="531"/>
                    </a:lnTo>
                    <a:lnTo>
                      <a:pt x="501" y="545"/>
                    </a:lnTo>
                    <a:lnTo>
                      <a:pt x="500" y="561"/>
                    </a:lnTo>
                    <a:lnTo>
                      <a:pt x="500" y="579"/>
                    </a:lnTo>
                    <a:lnTo>
                      <a:pt x="499" y="599"/>
                    </a:lnTo>
                    <a:lnTo>
                      <a:pt x="499" y="621"/>
                    </a:lnTo>
                    <a:lnTo>
                      <a:pt x="498" y="646"/>
                    </a:lnTo>
                    <a:lnTo>
                      <a:pt x="497" y="672"/>
                    </a:lnTo>
                    <a:lnTo>
                      <a:pt x="496" y="701"/>
                    </a:lnTo>
                    <a:lnTo>
                      <a:pt x="496" y="754"/>
                    </a:lnTo>
                    <a:lnTo>
                      <a:pt x="496" y="797"/>
                    </a:lnTo>
                    <a:lnTo>
                      <a:pt x="496" y="831"/>
                    </a:lnTo>
                    <a:lnTo>
                      <a:pt x="496" y="857"/>
                    </a:lnTo>
                    <a:lnTo>
                      <a:pt x="504" y="850"/>
                    </a:lnTo>
                    <a:lnTo>
                      <a:pt x="517" y="844"/>
                    </a:lnTo>
                    <a:lnTo>
                      <a:pt x="532" y="835"/>
                    </a:lnTo>
                    <a:lnTo>
                      <a:pt x="551" y="826"/>
                    </a:lnTo>
                    <a:lnTo>
                      <a:pt x="578" y="812"/>
                    </a:lnTo>
                    <a:lnTo>
                      <a:pt x="602" y="800"/>
                    </a:lnTo>
                    <a:lnTo>
                      <a:pt x="621" y="790"/>
                    </a:lnTo>
                    <a:lnTo>
                      <a:pt x="635" y="781"/>
                    </a:lnTo>
                    <a:lnTo>
                      <a:pt x="658" y="771"/>
                    </a:lnTo>
                    <a:lnTo>
                      <a:pt x="676" y="763"/>
                    </a:lnTo>
                    <a:lnTo>
                      <a:pt x="682" y="761"/>
                    </a:lnTo>
                    <a:lnTo>
                      <a:pt x="688" y="760"/>
                    </a:lnTo>
                    <a:lnTo>
                      <a:pt x="693" y="760"/>
                    </a:lnTo>
                    <a:lnTo>
                      <a:pt x="696" y="761"/>
                    </a:lnTo>
                    <a:lnTo>
                      <a:pt x="696" y="764"/>
                    </a:lnTo>
                    <a:lnTo>
                      <a:pt x="696" y="767"/>
                    </a:lnTo>
                    <a:lnTo>
                      <a:pt x="694" y="772"/>
                    </a:lnTo>
                    <a:lnTo>
                      <a:pt x="691" y="777"/>
                    </a:lnTo>
                    <a:lnTo>
                      <a:pt x="681" y="790"/>
                    </a:lnTo>
                    <a:lnTo>
                      <a:pt x="665" y="807"/>
                    </a:lnTo>
                    <a:lnTo>
                      <a:pt x="638" y="831"/>
                    </a:lnTo>
                    <a:lnTo>
                      <a:pt x="610" y="858"/>
                    </a:lnTo>
                    <a:lnTo>
                      <a:pt x="581" y="883"/>
                    </a:lnTo>
                    <a:lnTo>
                      <a:pt x="553" y="909"/>
                    </a:lnTo>
                    <a:lnTo>
                      <a:pt x="524" y="937"/>
                    </a:lnTo>
                    <a:lnTo>
                      <a:pt x="495" y="965"/>
                    </a:lnTo>
                    <a:lnTo>
                      <a:pt x="465" y="993"/>
                    </a:lnTo>
                    <a:lnTo>
                      <a:pt x="435" y="1022"/>
                    </a:lnTo>
                    <a:lnTo>
                      <a:pt x="426" y="1005"/>
                    </a:lnTo>
                    <a:lnTo>
                      <a:pt x="416" y="989"/>
                    </a:lnTo>
                    <a:lnTo>
                      <a:pt x="406" y="976"/>
                    </a:lnTo>
                    <a:lnTo>
                      <a:pt x="397" y="964"/>
                    </a:lnTo>
                    <a:lnTo>
                      <a:pt x="388" y="953"/>
                    </a:lnTo>
                    <a:lnTo>
                      <a:pt x="378" y="944"/>
                    </a:lnTo>
                    <a:lnTo>
                      <a:pt x="370" y="937"/>
                    </a:lnTo>
                    <a:lnTo>
                      <a:pt x="360" y="932"/>
                    </a:lnTo>
                    <a:lnTo>
                      <a:pt x="367" y="925"/>
                    </a:lnTo>
                    <a:lnTo>
                      <a:pt x="375" y="919"/>
                    </a:lnTo>
                    <a:lnTo>
                      <a:pt x="381" y="912"/>
                    </a:lnTo>
                    <a:lnTo>
                      <a:pt x="387" y="903"/>
                    </a:lnTo>
                    <a:lnTo>
                      <a:pt x="393" y="895"/>
                    </a:lnTo>
                    <a:lnTo>
                      <a:pt x="398" y="885"/>
                    </a:lnTo>
                    <a:lnTo>
                      <a:pt x="402" y="875"/>
                    </a:lnTo>
                    <a:lnTo>
                      <a:pt x="407" y="864"/>
                    </a:lnTo>
                    <a:lnTo>
                      <a:pt x="411" y="852"/>
                    </a:lnTo>
                    <a:lnTo>
                      <a:pt x="414" y="840"/>
                    </a:lnTo>
                    <a:lnTo>
                      <a:pt x="417" y="827"/>
                    </a:lnTo>
                    <a:lnTo>
                      <a:pt x="419" y="813"/>
                    </a:lnTo>
                    <a:lnTo>
                      <a:pt x="424" y="783"/>
                    </a:lnTo>
                    <a:lnTo>
                      <a:pt x="426" y="752"/>
                    </a:lnTo>
                    <a:lnTo>
                      <a:pt x="430" y="685"/>
                    </a:lnTo>
                    <a:lnTo>
                      <a:pt x="433" y="617"/>
                    </a:lnTo>
                    <a:lnTo>
                      <a:pt x="435" y="549"/>
                    </a:lnTo>
                    <a:lnTo>
                      <a:pt x="436" y="479"/>
                    </a:lnTo>
                    <a:lnTo>
                      <a:pt x="436" y="410"/>
                    </a:lnTo>
                    <a:lnTo>
                      <a:pt x="436" y="339"/>
                    </a:lnTo>
                    <a:lnTo>
                      <a:pt x="434" y="267"/>
                    </a:lnTo>
                    <a:lnTo>
                      <a:pt x="430" y="195"/>
                    </a:lnTo>
                    <a:lnTo>
                      <a:pt x="428" y="174"/>
                    </a:lnTo>
                    <a:lnTo>
                      <a:pt x="424" y="153"/>
                    </a:lnTo>
                    <a:lnTo>
                      <a:pt x="419" y="133"/>
                    </a:lnTo>
                    <a:lnTo>
                      <a:pt x="414" y="113"/>
                    </a:lnTo>
                    <a:lnTo>
                      <a:pt x="408" y="95"/>
                    </a:lnTo>
                    <a:lnTo>
                      <a:pt x="401" y="78"/>
                    </a:lnTo>
                    <a:lnTo>
                      <a:pt x="394" y="61"/>
                    </a:lnTo>
                    <a:lnTo>
                      <a:pt x="385" y="46"/>
                    </a:lnTo>
                    <a:lnTo>
                      <a:pt x="417" y="49"/>
                    </a:lnTo>
                    <a:lnTo>
                      <a:pt x="448" y="54"/>
                    </a:lnTo>
                    <a:lnTo>
                      <a:pt x="478" y="62"/>
                    </a:lnTo>
                    <a:lnTo>
                      <a:pt x="505" y="70"/>
                    </a:lnTo>
                    <a:lnTo>
                      <a:pt x="545" y="64"/>
                    </a:lnTo>
                    <a:lnTo>
                      <a:pt x="581" y="56"/>
                    </a:lnTo>
                    <a:lnTo>
                      <a:pt x="615" y="49"/>
                    </a:lnTo>
                    <a:lnTo>
                      <a:pt x="645" y="41"/>
                    </a:lnTo>
                    <a:lnTo>
                      <a:pt x="673" y="31"/>
                    </a:lnTo>
                    <a:lnTo>
                      <a:pt x="697" y="21"/>
                    </a:lnTo>
                    <a:lnTo>
                      <a:pt x="718" y="12"/>
                    </a:lnTo>
                    <a:lnTo>
                      <a:pt x="736" y="0"/>
                    </a:lnTo>
                    <a:lnTo>
                      <a:pt x="750" y="14"/>
                    </a:lnTo>
                    <a:lnTo>
                      <a:pt x="765" y="26"/>
                    </a:lnTo>
                    <a:lnTo>
                      <a:pt x="781" y="37"/>
                    </a:lnTo>
                    <a:lnTo>
                      <a:pt x="796" y="47"/>
                    </a:lnTo>
                    <a:lnTo>
                      <a:pt x="814" y="55"/>
                    </a:lnTo>
                    <a:lnTo>
                      <a:pt x="832" y="64"/>
                    </a:lnTo>
                    <a:lnTo>
                      <a:pt x="850" y="70"/>
                    </a:lnTo>
                    <a:lnTo>
                      <a:pt x="871" y="75"/>
                    </a:lnTo>
                    <a:lnTo>
                      <a:pt x="863" y="83"/>
                    </a:lnTo>
                    <a:lnTo>
                      <a:pt x="856" y="90"/>
                    </a:lnTo>
                    <a:lnTo>
                      <a:pt x="849" y="100"/>
                    </a:lnTo>
                    <a:lnTo>
                      <a:pt x="843" y="110"/>
                    </a:lnTo>
                    <a:lnTo>
                      <a:pt x="837" y="122"/>
                    </a:lnTo>
                    <a:lnTo>
                      <a:pt x="831" y="136"/>
                    </a:lnTo>
                    <a:lnTo>
                      <a:pt x="826" y="150"/>
                    </a:lnTo>
                    <a:lnTo>
                      <a:pt x="821" y="166"/>
                    </a:lnTo>
                    <a:lnTo>
                      <a:pt x="817" y="185"/>
                    </a:lnTo>
                    <a:lnTo>
                      <a:pt x="812" y="206"/>
                    </a:lnTo>
                    <a:lnTo>
                      <a:pt x="807" y="229"/>
                    </a:lnTo>
                    <a:lnTo>
                      <a:pt x="802" y="255"/>
                    </a:lnTo>
                    <a:lnTo>
                      <a:pt x="796" y="282"/>
                    </a:lnTo>
                    <a:lnTo>
                      <a:pt x="790" y="313"/>
                    </a:lnTo>
                    <a:lnTo>
                      <a:pt x="783" y="346"/>
                    </a:lnTo>
                    <a:lnTo>
                      <a:pt x="775" y="381"/>
                    </a:lnTo>
                    <a:lnTo>
                      <a:pt x="773" y="400"/>
                    </a:lnTo>
                    <a:lnTo>
                      <a:pt x="771" y="416"/>
                    </a:lnTo>
                    <a:lnTo>
                      <a:pt x="768" y="429"/>
                    </a:lnTo>
                    <a:lnTo>
                      <a:pt x="766" y="441"/>
                    </a:lnTo>
                    <a:lnTo>
                      <a:pt x="763" y="450"/>
                    </a:lnTo>
                    <a:lnTo>
                      <a:pt x="760" y="456"/>
                    </a:lnTo>
                    <a:lnTo>
                      <a:pt x="758" y="460"/>
                    </a:lnTo>
                    <a:lnTo>
                      <a:pt x="755" y="461"/>
                    </a:lnTo>
                    <a:lnTo>
                      <a:pt x="754" y="462"/>
                    </a:lnTo>
                    <a:lnTo>
                      <a:pt x="752" y="462"/>
                    </a:lnTo>
                    <a:lnTo>
                      <a:pt x="751" y="462"/>
                    </a:lnTo>
                    <a:lnTo>
                      <a:pt x="748" y="461"/>
                    </a:lnTo>
                    <a:lnTo>
                      <a:pt x="742" y="457"/>
                    </a:lnTo>
                    <a:lnTo>
                      <a:pt x="736" y="451"/>
                    </a:lnTo>
                    <a:close/>
                    <a:moveTo>
                      <a:pt x="240" y="110"/>
                    </a:moveTo>
                    <a:lnTo>
                      <a:pt x="105" y="151"/>
                    </a:lnTo>
                    <a:lnTo>
                      <a:pt x="105" y="842"/>
                    </a:lnTo>
                    <a:lnTo>
                      <a:pt x="105" y="886"/>
                    </a:lnTo>
                    <a:lnTo>
                      <a:pt x="105" y="925"/>
                    </a:lnTo>
                    <a:lnTo>
                      <a:pt x="104" y="958"/>
                    </a:lnTo>
                    <a:lnTo>
                      <a:pt x="103" y="984"/>
                    </a:lnTo>
                    <a:lnTo>
                      <a:pt x="102" y="1003"/>
                    </a:lnTo>
                    <a:lnTo>
                      <a:pt x="100" y="1015"/>
                    </a:lnTo>
                    <a:lnTo>
                      <a:pt x="98" y="1020"/>
                    </a:lnTo>
                    <a:lnTo>
                      <a:pt x="97" y="1022"/>
                    </a:lnTo>
                    <a:lnTo>
                      <a:pt x="96" y="1023"/>
                    </a:lnTo>
                    <a:lnTo>
                      <a:pt x="95" y="1022"/>
                    </a:lnTo>
                    <a:lnTo>
                      <a:pt x="80" y="1013"/>
                    </a:lnTo>
                    <a:lnTo>
                      <a:pt x="67" y="1005"/>
                    </a:lnTo>
                    <a:lnTo>
                      <a:pt x="54" y="995"/>
                    </a:lnTo>
                    <a:lnTo>
                      <a:pt x="41" y="985"/>
                    </a:lnTo>
                    <a:lnTo>
                      <a:pt x="30" y="974"/>
                    </a:lnTo>
                    <a:lnTo>
                      <a:pt x="19" y="962"/>
                    </a:lnTo>
                    <a:lnTo>
                      <a:pt x="9" y="950"/>
                    </a:lnTo>
                    <a:lnTo>
                      <a:pt x="0" y="936"/>
                    </a:lnTo>
                    <a:lnTo>
                      <a:pt x="4" y="919"/>
                    </a:lnTo>
                    <a:lnTo>
                      <a:pt x="8" y="900"/>
                    </a:lnTo>
                    <a:lnTo>
                      <a:pt x="13" y="880"/>
                    </a:lnTo>
                    <a:lnTo>
                      <a:pt x="16" y="858"/>
                    </a:lnTo>
                    <a:lnTo>
                      <a:pt x="22" y="809"/>
                    </a:lnTo>
                    <a:lnTo>
                      <a:pt x="26" y="754"/>
                    </a:lnTo>
                    <a:lnTo>
                      <a:pt x="31" y="691"/>
                    </a:lnTo>
                    <a:lnTo>
                      <a:pt x="33" y="622"/>
                    </a:lnTo>
                    <a:lnTo>
                      <a:pt x="35" y="548"/>
                    </a:lnTo>
                    <a:lnTo>
                      <a:pt x="35" y="465"/>
                    </a:lnTo>
                    <a:lnTo>
                      <a:pt x="35" y="396"/>
                    </a:lnTo>
                    <a:lnTo>
                      <a:pt x="33" y="331"/>
                    </a:lnTo>
                    <a:lnTo>
                      <a:pt x="31" y="274"/>
                    </a:lnTo>
                    <a:lnTo>
                      <a:pt x="26" y="222"/>
                    </a:lnTo>
                    <a:lnTo>
                      <a:pt x="22" y="177"/>
                    </a:lnTo>
                    <a:lnTo>
                      <a:pt x="16" y="138"/>
                    </a:lnTo>
                    <a:lnTo>
                      <a:pt x="13" y="121"/>
                    </a:lnTo>
                    <a:lnTo>
                      <a:pt x="8" y="106"/>
                    </a:lnTo>
                    <a:lnTo>
                      <a:pt x="4" y="92"/>
                    </a:lnTo>
                    <a:lnTo>
                      <a:pt x="0" y="81"/>
                    </a:lnTo>
                    <a:lnTo>
                      <a:pt x="13" y="84"/>
                    </a:lnTo>
                    <a:lnTo>
                      <a:pt x="27" y="88"/>
                    </a:lnTo>
                    <a:lnTo>
                      <a:pt x="48" y="94"/>
                    </a:lnTo>
                    <a:lnTo>
                      <a:pt x="70" y="101"/>
                    </a:lnTo>
                    <a:lnTo>
                      <a:pt x="90" y="108"/>
                    </a:lnTo>
                    <a:lnTo>
                      <a:pt x="101" y="110"/>
                    </a:lnTo>
                    <a:lnTo>
                      <a:pt x="125" y="102"/>
                    </a:lnTo>
                    <a:lnTo>
                      <a:pt x="147" y="92"/>
                    </a:lnTo>
                    <a:lnTo>
                      <a:pt x="167" y="83"/>
                    </a:lnTo>
                    <a:lnTo>
                      <a:pt x="185" y="73"/>
                    </a:lnTo>
                    <a:lnTo>
                      <a:pt x="202" y="63"/>
                    </a:lnTo>
                    <a:lnTo>
                      <a:pt x="217" y="52"/>
                    </a:lnTo>
                    <a:lnTo>
                      <a:pt x="230" y="42"/>
                    </a:lnTo>
                    <a:lnTo>
                      <a:pt x="240" y="31"/>
                    </a:lnTo>
                    <a:lnTo>
                      <a:pt x="253" y="41"/>
                    </a:lnTo>
                    <a:lnTo>
                      <a:pt x="267" y="50"/>
                    </a:lnTo>
                    <a:lnTo>
                      <a:pt x="282" y="60"/>
                    </a:lnTo>
                    <a:lnTo>
                      <a:pt x="297" y="68"/>
                    </a:lnTo>
                    <a:lnTo>
                      <a:pt x="312" y="77"/>
                    </a:lnTo>
                    <a:lnTo>
                      <a:pt x="329" y="85"/>
                    </a:lnTo>
                    <a:lnTo>
                      <a:pt x="347" y="92"/>
                    </a:lnTo>
                    <a:lnTo>
                      <a:pt x="365" y="101"/>
                    </a:lnTo>
                    <a:lnTo>
                      <a:pt x="347" y="117"/>
                    </a:lnTo>
                    <a:lnTo>
                      <a:pt x="329" y="136"/>
                    </a:lnTo>
                    <a:lnTo>
                      <a:pt x="310" y="158"/>
                    </a:lnTo>
                    <a:lnTo>
                      <a:pt x="291" y="181"/>
                    </a:lnTo>
                    <a:lnTo>
                      <a:pt x="272" y="209"/>
                    </a:lnTo>
                    <a:lnTo>
                      <a:pt x="252" y="239"/>
                    </a:lnTo>
                    <a:lnTo>
                      <a:pt x="232" y="270"/>
                    </a:lnTo>
                    <a:lnTo>
                      <a:pt x="211" y="305"/>
                    </a:lnTo>
                    <a:lnTo>
                      <a:pt x="233" y="319"/>
                    </a:lnTo>
                    <a:lnTo>
                      <a:pt x="254" y="334"/>
                    </a:lnTo>
                    <a:lnTo>
                      <a:pt x="272" y="349"/>
                    </a:lnTo>
                    <a:lnTo>
                      <a:pt x="289" y="365"/>
                    </a:lnTo>
                    <a:lnTo>
                      <a:pt x="304" y="381"/>
                    </a:lnTo>
                    <a:lnTo>
                      <a:pt x="317" y="397"/>
                    </a:lnTo>
                    <a:lnTo>
                      <a:pt x="327" y="414"/>
                    </a:lnTo>
                    <a:lnTo>
                      <a:pt x="336" y="431"/>
                    </a:lnTo>
                    <a:lnTo>
                      <a:pt x="342" y="454"/>
                    </a:lnTo>
                    <a:lnTo>
                      <a:pt x="346" y="475"/>
                    </a:lnTo>
                    <a:lnTo>
                      <a:pt x="348" y="494"/>
                    </a:lnTo>
                    <a:lnTo>
                      <a:pt x="349" y="512"/>
                    </a:lnTo>
                    <a:lnTo>
                      <a:pt x="348" y="521"/>
                    </a:lnTo>
                    <a:lnTo>
                      <a:pt x="347" y="528"/>
                    </a:lnTo>
                    <a:lnTo>
                      <a:pt x="346" y="535"/>
                    </a:lnTo>
                    <a:lnTo>
                      <a:pt x="344" y="543"/>
                    </a:lnTo>
                    <a:lnTo>
                      <a:pt x="341" y="549"/>
                    </a:lnTo>
                    <a:lnTo>
                      <a:pt x="338" y="556"/>
                    </a:lnTo>
                    <a:lnTo>
                      <a:pt x="335" y="561"/>
                    </a:lnTo>
                    <a:lnTo>
                      <a:pt x="330" y="566"/>
                    </a:lnTo>
                    <a:lnTo>
                      <a:pt x="318" y="564"/>
                    </a:lnTo>
                    <a:lnTo>
                      <a:pt x="303" y="560"/>
                    </a:lnTo>
                    <a:lnTo>
                      <a:pt x="286" y="554"/>
                    </a:lnTo>
                    <a:lnTo>
                      <a:pt x="266" y="547"/>
                    </a:lnTo>
                    <a:lnTo>
                      <a:pt x="243" y="539"/>
                    </a:lnTo>
                    <a:lnTo>
                      <a:pt x="218" y="528"/>
                    </a:lnTo>
                    <a:lnTo>
                      <a:pt x="191" y="515"/>
                    </a:lnTo>
                    <a:lnTo>
                      <a:pt x="160" y="500"/>
                    </a:lnTo>
                    <a:lnTo>
                      <a:pt x="154" y="496"/>
                    </a:lnTo>
                    <a:lnTo>
                      <a:pt x="149" y="492"/>
                    </a:lnTo>
                    <a:lnTo>
                      <a:pt x="146" y="489"/>
                    </a:lnTo>
                    <a:lnTo>
                      <a:pt x="145" y="486"/>
                    </a:lnTo>
                    <a:lnTo>
                      <a:pt x="146" y="483"/>
                    </a:lnTo>
                    <a:lnTo>
                      <a:pt x="150" y="481"/>
                    </a:lnTo>
                    <a:lnTo>
                      <a:pt x="157" y="478"/>
                    </a:lnTo>
                    <a:lnTo>
                      <a:pt x="165" y="476"/>
                    </a:lnTo>
                    <a:lnTo>
                      <a:pt x="185" y="475"/>
                    </a:lnTo>
                    <a:lnTo>
                      <a:pt x="205" y="473"/>
                    </a:lnTo>
                    <a:lnTo>
                      <a:pt x="226" y="471"/>
                    </a:lnTo>
                    <a:lnTo>
                      <a:pt x="246" y="465"/>
                    </a:lnTo>
                    <a:lnTo>
                      <a:pt x="250" y="464"/>
                    </a:lnTo>
                    <a:lnTo>
                      <a:pt x="253" y="462"/>
                    </a:lnTo>
                    <a:lnTo>
                      <a:pt x="256" y="459"/>
                    </a:lnTo>
                    <a:lnTo>
                      <a:pt x="258" y="455"/>
                    </a:lnTo>
                    <a:lnTo>
                      <a:pt x="258" y="450"/>
                    </a:lnTo>
                    <a:lnTo>
                      <a:pt x="258" y="444"/>
                    </a:lnTo>
                    <a:lnTo>
                      <a:pt x="257" y="438"/>
                    </a:lnTo>
                    <a:lnTo>
                      <a:pt x="255" y="431"/>
                    </a:lnTo>
                    <a:lnTo>
                      <a:pt x="252" y="423"/>
                    </a:lnTo>
                    <a:lnTo>
                      <a:pt x="248" y="412"/>
                    </a:lnTo>
                    <a:lnTo>
                      <a:pt x="241" y="401"/>
                    </a:lnTo>
                    <a:lnTo>
                      <a:pt x="234" y="388"/>
                    </a:lnTo>
                    <a:lnTo>
                      <a:pt x="215" y="357"/>
                    </a:lnTo>
                    <a:lnTo>
                      <a:pt x="191" y="320"/>
                    </a:lnTo>
                    <a:lnTo>
                      <a:pt x="185" y="312"/>
                    </a:lnTo>
                    <a:lnTo>
                      <a:pt x="180" y="305"/>
                    </a:lnTo>
                    <a:lnTo>
                      <a:pt x="192" y="277"/>
                    </a:lnTo>
                    <a:lnTo>
                      <a:pt x="201" y="248"/>
                    </a:lnTo>
                    <a:lnTo>
                      <a:pt x="210" y="222"/>
                    </a:lnTo>
                    <a:lnTo>
                      <a:pt x="218" y="197"/>
                    </a:lnTo>
                    <a:lnTo>
                      <a:pt x="225" y="173"/>
                    </a:lnTo>
                    <a:lnTo>
                      <a:pt x="231" y="151"/>
                    </a:lnTo>
                    <a:lnTo>
                      <a:pt x="236" y="130"/>
                    </a:lnTo>
                    <a:lnTo>
                      <a:pt x="240" y="110"/>
                    </a:lnTo>
                    <a:close/>
                    <a:moveTo>
                      <a:pt x="501" y="116"/>
                    </a:moveTo>
                    <a:lnTo>
                      <a:pt x="501" y="236"/>
                    </a:lnTo>
                    <a:lnTo>
                      <a:pt x="522" y="230"/>
                    </a:lnTo>
                    <a:lnTo>
                      <a:pt x="545" y="225"/>
                    </a:lnTo>
                    <a:lnTo>
                      <a:pt x="572" y="217"/>
                    </a:lnTo>
                    <a:lnTo>
                      <a:pt x="601" y="211"/>
                    </a:lnTo>
                    <a:lnTo>
                      <a:pt x="616" y="206"/>
                    </a:lnTo>
                    <a:lnTo>
                      <a:pt x="630" y="202"/>
                    </a:lnTo>
                    <a:lnTo>
                      <a:pt x="642" y="198"/>
                    </a:lnTo>
                    <a:lnTo>
                      <a:pt x="650" y="195"/>
                    </a:lnTo>
                    <a:lnTo>
                      <a:pt x="664" y="208"/>
                    </a:lnTo>
                    <a:lnTo>
                      <a:pt x="676" y="221"/>
                    </a:lnTo>
                    <a:lnTo>
                      <a:pt x="684" y="233"/>
                    </a:lnTo>
                    <a:lnTo>
                      <a:pt x="691" y="246"/>
                    </a:lnTo>
                    <a:lnTo>
                      <a:pt x="677" y="248"/>
                    </a:lnTo>
                    <a:lnTo>
                      <a:pt x="658" y="250"/>
                    </a:lnTo>
                    <a:lnTo>
                      <a:pt x="637" y="254"/>
                    </a:lnTo>
                    <a:lnTo>
                      <a:pt x="611" y="256"/>
                    </a:lnTo>
                    <a:lnTo>
                      <a:pt x="574" y="263"/>
                    </a:lnTo>
                    <a:lnTo>
                      <a:pt x="543" y="268"/>
                    </a:lnTo>
                    <a:lnTo>
                      <a:pt x="519" y="273"/>
                    </a:lnTo>
                    <a:lnTo>
                      <a:pt x="501" y="276"/>
                    </a:lnTo>
                    <a:lnTo>
                      <a:pt x="501" y="396"/>
                    </a:lnTo>
                    <a:lnTo>
                      <a:pt x="513" y="393"/>
                    </a:lnTo>
                    <a:lnTo>
                      <a:pt x="526" y="391"/>
                    </a:lnTo>
                    <a:lnTo>
                      <a:pt x="544" y="388"/>
                    </a:lnTo>
                    <a:lnTo>
                      <a:pt x="566" y="386"/>
                    </a:lnTo>
                    <a:lnTo>
                      <a:pt x="608" y="379"/>
                    </a:lnTo>
                    <a:lnTo>
                      <a:pt x="643" y="373"/>
                    </a:lnTo>
                    <a:lnTo>
                      <a:pt x="673" y="369"/>
                    </a:lnTo>
                    <a:lnTo>
                      <a:pt x="696" y="366"/>
                    </a:lnTo>
                    <a:lnTo>
                      <a:pt x="700" y="333"/>
                    </a:lnTo>
                    <a:lnTo>
                      <a:pt x="705" y="298"/>
                    </a:lnTo>
                    <a:lnTo>
                      <a:pt x="710" y="263"/>
                    </a:lnTo>
                    <a:lnTo>
                      <a:pt x="714" y="227"/>
                    </a:lnTo>
                    <a:lnTo>
                      <a:pt x="718" y="190"/>
                    </a:lnTo>
                    <a:lnTo>
                      <a:pt x="722" y="151"/>
                    </a:lnTo>
                    <a:lnTo>
                      <a:pt x="727" y="112"/>
                    </a:lnTo>
                    <a:lnTo>
                      <a:pt x="731" y="70"/>
                    </a:lnTo>
                    <a:lnTo>
                      <a:pt x="721" y="73"/>
                    </a:lnTo>
                    <a:lnTo>
                      <a:pt x="706" y="77"/>
                    </a:lnTo>
                    <a:lnTo>
                      <a:pt x="688" y="81"/>
                    </a:lnTo>
                    <a:lnTo>
                      <a:pt x="665" y="86"/>
                    </a:lnTo>
                    <a:lnTo>
                      <a:pt x="637" y="90"/>
                    </a:lnTo>
                    <a:lnTo>
                      <a:pt x="610" y="95"/>
                    </a:lnTo>
                    <a:lnTo>
                      <a:pt x="586" y="99"/>
                    </a:lnTo>
                    <a:lnTo>
                      <a:pt x="565" y="103"/>
                    </a:lnTo>
                    <a:lnTo>
                      <a:pt x="544" y="106"/>
                    </a:lnTo>
                    <a:lnTo>
                      <a:pt x="527" y="109"/>
                    </a:lnTo>
                    <a:lnTo>
                      <a:pt x="513" y="113"/>
                    </a:lnTo>
                    <a:lnTo>
                      <a:pt x="501" y="116"/>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220" name="Freeform 23"/>
              <p:cNvSpPr/>
              <p:nvPr/>
            </p:nvSpPr>
            <p:spPr>
              <a:xfrm>
                <a:off x="6040800" y="1211040"/>
                <a:ext cx="189720" cy="146880"/>
              </a:xfrm>
              <a:custGeom>
                <a:avLst/>
                <a:gdLst>
                  <a:gd name="textAreaLeft" fmla="*/ 0 w 189720"/>
                  <a:gd name="textAreaRight" fmla="*/ 190080 w 189720"/>
                  <a:gd name="textAreaTop" fmla="*/ 0 h 146880"/>
                  <a:gd name="textAreaBottom" fmla="*/ 147240 h 146880"/>
                </a:gdLst>
                <a:ahLst/>
                <a:rect l="textAreaLeft" t="textAreaTop" r="textAreaRight" b="textAreaBottom"/>
                <a:pathLst>
                  <a:path w="1185" h="971">
                    <a:moveTo>
                      <a:pt x="660" y="675"/>
                    </a:moveTo>
                    <a:lnTo>
                      <a:pt x="694" y="698"/>
                    </a:lnTo>
                    <a:lnTo>
                      <a:pt x="724" y="720"/>
                    </a:lnTo>
                    <a:lnTo>
                      <a:pt x="754" y="740"/>
                    </a:lnTo>
                    <a:lnTo>
                      <a:pt x="780" y="760"/>
                    </a:lnTo>
                    <a:lnTo>
                      <a:pt x="804" y="778"/>
                    </a:lnTo>
                    <a:lnTo>
                      <a:pt x="825" y="795"/>
                    </a:lnTo>
                    <a:lnTo>
                      <a:pt x="844" y="811"/>
                    </a:lnTo>
                    <a:lnTo>
                      <a:pt x="860" y="825"/>
                    </a:lnTo>
                    <a:lnTo>
                      <a:pt x="863" y="834"/>
                    </a:lnTo>
                    <a:lnTo>
                      <a:pt x="865" y="844"/>
                    </a:lnTo>
                    <a:lnTo>
                      <a:pt x="865" y="856"/>
                    </a:lnTo>
                    <a:lnTo>
                      <a:pt x="865" y="869"/>
                    </a:lnTo>
                    <a:lnTo>
                      <a:pt x="863" y="884"/>
                    </a:lnTo>
                    <a:lnTo>
                      <a:pt x="860" y="901"/>
                    </a:lnTo>
                    <a:lnTo>
                      <a:pt x="856" y="919"/>
                    </a:lnTo>
                    <a:lnTo>
                      <a:pt x="849" y="941"/>
                    </a:lnTo>
                    <a:lnTo>
                      <a:pt x="848" y="947"/>
                    </a:lnTo>
                    <a:lnTo>
                      <a:pt x="846" y="953"/>
                    </a:lnTo>
                    <a:lnTo>
                      <a:pt x="845" y="959"/>
                    </a:lnTo>
                    <a:lnTo>
                      <a:pt x="842" y="963"/>
                    </a:lnTo>
                    <a:lnTo>
                      <a:pt x="840" y="966"/>
                    </a:lnTo>
                    <a:lnTo>
                      <a:pt x="837" y="968"/>
                    </a:lnTo>
                    <a:lnTo>
                      <a:pt x="834" y="970"/>
                    </a:lnTo>
                    <a:lnTo>
                      <a:pt x="830" y="970"/>
                    </a:lnTo>
                    <a:lnTo>
                      <a:pt x="827" y="971"/>
                    </a:lnTo>
                    <a:lnTo>
                      <a:pt x="825" y="971"/>
                    </a:lnTo>
                    <a:lnTo>
                      <a:pt x="822" y="970"/>
                    </a:lnTo>
                    <a:lnTo>
                      <a:pt x="819" y="968"/>
                    </a:lnTo>
                    <a:lnTo>
                      <a:pt x="812" y="961"/>
                    </a:lnTo>
                    <a:lnTo>
                      <a:pt x="805" y="950"/>
                    </a:lnTo>
                    <a:lnTo>
                      <a:pt x="797" y="944"/>
                    </a:lnTo>
                    <a:lnTo>
                      <a:pt x="788" y="936"/>
                    </a:lnTo>
                    <a:lnTo>
                      <a:pt x="778" y="926"/>
                    </a:lnTo>
                    <a:lnTo>
                      <a:pt x="768" y="913"/>
                    </a:lnTo>
                    <a:lnTo>
                      <a:pt x="744" y="881"/>
                    </a:lnTo>
                    <a:lnTo>
                      <a:pt x="715" y="840"/>
                    </a:lnTo>
                    <a:lnTo>
                      <a:pt x="643" y="853"/>
                    </a:lnTo>
                    <a:lnTo>
                      <a:pt x="574" y="866"/>
                    </a:lnTo>
                    <a:lnTo>
                      <a:pt x="507" y="880"/>
                    </a:lnTo>
                    <a:lnTo>
                      <a:pt x="445" y="894"/>
                    </a:lnTo>
                    <a:lnTo>
                      <a:pt x="386" y="909"/>
                    </a:lnTo>
                    <a:lnTo>
                      <a:pt x="328" y="924"/>
                    </a:lnTo>
                    <a:lnTo>
                      <a:pt x="275" y="940"/>
                    </a:lnTo>
                    <a:lnTo>
                      <a:pt x="225" y="955"/>
                    </a:lnTo>
                    <a:lnTo>
                      <a:pt x="225" y="941"/>
                    </a:lnTo>
                    <a:lnTo>
                      <a:pt x="223" y="926"/>
                    </a:lnTo>
                    <a:lnTo>
                      <a:pt x="222" y="912"/>
                    </a:lnTo>
                    <a:lnTo>
                      <a:pt x="219" y="898"/>
                    </a:lnTo>
                    <a:lnTo>
                      <a:pt x="217" y="884"/>
                    </a:lnTo>
                    <a:lnTo>
                      <a:pt x="214" y="871"/>
                    </a:lnTo>
                    <a:lnTo>
                      <a:pt x="210" y="858"/>
                    </a:lnTo>
                    <a:lnTo>
                      <a:pt x="204" y="845"/>
                    </a:lnTo>
                    <a:lnTo>
                      <a:pt x="221" y="841"/>
                    </a:lnTo>
                    <a:lnTo>
                      <a:pt x="237" y="836"/>
                    </a:lnTo>
                    <a:lnTo>
                      <a:pt x="253" y="828"/>
                    </a:lnTo>
                    <a:lnTo>
                      <a:pt x="269" y="820"/>
                    </a:lnTo>
                    <a:lnTo>
                      <a:pt x="284" y="811"/>
                    </a:lnTo>
                    <a:lnTo>
                      <a:pt x="300" y="800"/>
                    </a:lnTo>
                    <a:lnTo>
                      <a:pt x="315" y="788"/>
                    </a:lnTo>
                    <a:lnTo>
                      <a:pt x="329" y="775"/>
                    </a:lnTo>
                    <a:lnTo>
                      <a:pt x="345" y="756"/>
                    </a:lnTo>
                    <a:lnTo>
                      <a:pt x="361" y="737"/>
                    </a:lnTo>
                    <a:lnTo>
                      <a:pt x="375" y="718"/>
                    </a:lnTo>
                    <a:lnTo>
                      <a:pt x="389" y="698"/>
                    </a:lnTo>
                    <a:lnTo>
                      <a:pt x="401" y="679"/>
                    </a:lnTo>
                    <a:lnTo>
                      <a:pt x="413" y="659"/>
                    </a:lnTo>
                    <a:lnTo>
                      <a:pt x="425" y="639"/>
                    </a:lnTo>
                    <a:lnTo>
                      <a:pt x="435" y="617"/>
                    </a:lnTo>
                    <a:lnTo>
                      <a:pt x="445" y="597"/>
                    </a:lnTo>
                    <a:lnTo>
                      <a:pt x="453" y="576"/>
                    </a:lnTo>
                    <a:lnTo>
                      <a:pt x="462" y="555"/>
                    </a:lnTo>
                    <a:lnTo>
                      <a:pt x="468" y="533"/>
                    </a:lnTo>
                    <a:lnTo>
                      <a:pt x="476" y="511"/>
                    </a:lnTo>
                    <a:lnTo>
                      <a:pt x="481" y="489"/>
                    </a:lnTo>
                    <a:lnTo>
                      <a:pt x="486" y="467"/>
                    </a:lnTo>
                    <a:lnTo>
                      <a:pt x="490" y="445"/>
                    </a:lnTo>
                    <a:lnTo>
                      <a:pt x="513" y="461"/>
                    </a:lnTo>
                    <a:lnTo>
                      <a:pt x="534" y="474"/>
                    </a:lnTo>
                    <a:lnTo>
                      <a:pt x="554" y="486"/>
                    </a:lnTo>
                    <a:lnTo>
                      <a:pt x="572" y="497"/>
                    </a:lnTo>
                    <a:lnTo>
                      <a:pt x="589" y="505"/>
                    </a:lnTo>
                    <a:lnTo>
                      <a:pt x="604" y="511"/>
                    </a:lnTo>
                    <a:lnTo>
                      <a:pt x="618" y="517"/>
                    </a:lnTo>
                    <a:lnTo>
                      <a:pt x="630" y="520"/>
                    </a:lnTo>
                    <a:lnTo>
                      <a:pt x="616" y="527"/>
                    </a:lnTo>
                    <a:lnTo>
                      <a:pt x="604" y="537"/>
                    </a:lnTo>
                    <a:lnTo>
                      <a:pt x="592" y="546"/>
                    </a:lnTo>
                    <a:lnTo>
                      <a:pt x="581" y="556"/>
                    </a:lnTo>
                    <a:lnTo>
                      <a:pt x="571" y="568"/>
                    </a:lnTo>
                    <a:lnTo>
                      <a:pt x="561" y="579"/>
                    </a:lnTo>
                    <a:lnTo>
                      <a:pt x="553" y="592"/>
                    </a:lnTo>
                    <a:lnTo>
                      <a:pt x="544" y="605"/>
                    </a:lnTo>
                    <a:lnTo>
                      <a:pt x="525" y="633"/>
                    </a:lnTo>
                    <a:lnTo>
                      <a:pt x="506" y="662"/>
                    </a:lnTo>
                    <a:lnTo>
                      <a:pt x="486" y="689"/>
                    </a:lnTo>
                    <a:lnTo>
                      <a:pt x="466" y="718"/>
                    </a:lnTo>
                    <a:lnTo>
                      <a:pt x="445" y="745"/>
                    </a:lnTo>
                    <a:lnTo>
                      <a:pt x="424" y="772"/>
                    </a:lnTo>
                    <a:lnTo>
                      <a:pt x="402" y="799"/>
                    </a:lnTo>
                    <a:lnTo>
                      <a:pt x="380" y="825"/>
                    </a:lnTo>
                    <a:lnTo>
                      <a:pt x="690" y="790"/>
                    </a:lnTo>
                    <a:lnTo>
                      <a:pt x="687" y="787"/>
                    </a:lnTo>
                    <a:lnTo>
                      <a:pt x="685" y="783"/>
                    </a:lnTo>
                    <a:lnTo>
                      <a:pt x="682" y="777"/>
                    </a:lnTo>
                    <a:lnTo>
                      <a:pt x="680" y="770"/>
                    </a:lnTo>
                    <a:lnTo>
                      <a:pt x="669" y="754"/>
                    </a:lnTo>
                    <a:lnTo>
                      <a:pt x="660" y="735"/>
                    </a:lnTo>
                    <a:lnTo>
                      <a:pt x="650" y="714"/>
                    </a:lnTo>
                    <a:lnTo>
                      <a:pt x="640" y="690"/>
                    </a:lnTo>
                    <a:lnTo>
                      <a:pt x="636" y="681"/>
                    </a:lnTo>
                    <a:lnTo>
                      <a:pt x="633" y="674"/>
                    </a:lnTo>
                    <a:lnTo>
                      <a:pt x="633" y="668"/>
                    </a:lnTo>
                    <a:lnTo>
                      <a:pt x="634" y="665"/>
                    </a:lnTo>
                    <a:lnTo>
                      <a:pt x="637" y="664"/>
                    </a:lnTo>
                    <a:lnTo>
                      <a:pt x="639" y="664"/>
                    </a:lnTo>
                    <a:lnTo>
                      <a:pt x="641" y="664"/>
                    </a:lnTo>
                    <a:lnTo>
                      <a:pt x="644" y="665"/>
                    </a:lnTo>
                    <a:lnTo>
                      <a:pt x="650" y="669"/>
                    </a:lnTo>
                    <a:lnTo>
                      <a:pt x="660" y="675"/>
                    </a:lnTo>
                    <a:close/>
                    <a:moveTo>
                      <a:pt x="550" y="9"/>
                    </a:moveTo>
                    <a:lnTo>
                      <a:pt x="567" y="23"/>
                    </a:lnTo>
                    <a:lnTo>
                      <a:pt x="586" y="39"/>
                    </a:lnTo>
                    <a:lnTo>
                      <a:pt x="606" y="59"/>
                    </a:lnTo>
                    <a:lnTo>
                      <a:pt x="629" y="82"/>
                    </a:lnTo>
                    <a:lnTo>
                      <a:pt x="652" y="109"/>
                    </a:lnTo>
                    <a:lnTo>
                      <a:pt x="678" y="139"/>
                    </a:lnTo>
                    <a:lnTo>
                      <a:pt x="705" y="172"/>
                    </a:lnTo>
                    <a:lnTo>
                      <a:pt x="735" y="209"/>
                    </a:lnTo>
                    <a:lnTo>
                      <a:pt x="767" y="249"/>
                    </a:lnTo>
                    <a:lnTo>
                      <a:pt x="795" y="285"/>
                    </a:lnTo>
                    <a:lnTo>
                      <a:pt x="823" y="315"/>
                    </a:lnTo>
                    <a:lnTo>
                      <a:pt x="848" y="342"/>
                    </a:lnTo>
                    <a:lnTo>
                      <a:pt x="872" y="365"/>
                    </a:lnTo>
                    <a:lnTo>
                      <a:pt x="893" y="384"/>
                    </a:lnTo>
                    <a:lnTo>
                      <a:pt x="903" y="392"/>
                    </a:lnTo>
                    <a:lnTo>
                      <a:pt x="913" y="399"/>
                    </a:lnTo>
                    <a:lnTo>
                      <a:pt x="921" y="405"/>
                    </a:lnTo>
                    <a:lnTo>
                      <a:pt x="930" y="410"/>
                    </a:lnTo>
                    <a:lnTo>
                      <a:pt x="965" y="429"/>
                    </a:lnTo>
                    <a:lnTo>
                      <a:pt x="999" y="447"/>
                    </a:lnTo>
                    <a:lnTo>
                      <a:pt x="1030" y="464"/>
                    </a:lnTo>
                    <a:lnTo>
                      <a:pt x="1059" y="481"/>
                    </a:lnTo>
                    <a:lnTo>
                      <a:pt x="1086" y="498"/>
                    </a:lnTo>
                    <a:lnTo>
                      <a:pt x="1111" y="514"/>
                    </a:lnTo>
                    <a:lnTo>
                      <a:pt x="1134" y="529"/>
                    </a:lnTo>
                    <a:lnTo>
                      <a:pt x="1156" y="545"/>
                    </a:lnTo>
                    <a:lnTo>
                      <a:pt x="1163" y="551"/>
                    </a:lnTo>
                    <a:lnTo>
                      <a:pt x="1170" y="557"/>
                    </a:lnTo>
                    <a:lnTo>
                      <a:pt x="1176" y="562"/>
                    </a:lnTo>
                    <a:lnTo>
                      <a:pt x="1180" y="568"/>
                    </a:lnTo>
                    <a:lnTo>
                      <a:pt x="1183" y="573"/>
                    </a:lnTo>
                    <a:lnTo>
                      <a:pt x="1185" y="577"/>
                    </a:lnTo>
                    <a:lnTo>
                      <a:pt x="1185" y="581"/>
                    </a:lnTo>
                    <a:lnTo>
                      <a:pt x="1185" y="585"/>
                    </a:lnTo>
                    <a:lnTo>
                      <a:pt x="1183" y="590"/>
                    </a:lnTo>
                    <a:lnTo>
                      <a:pt x="1180" y="593"/>
                    </a:lnTo>
                    <a:lnTo>
                      <a:pt x="1176" y="596"/>
                    </a:lnTo>
                    <a:lnTo>
                      <a:pt x="1170" y="598"/>
                    </a:lnTo>
                    <a:lnTo>
                      <a:pt x="1163" y="600"/>
                    </a:lnTo>
                    <a:lnTo>
                      <a:pt x="1156" y="600"/>
                    </a:lnTo>
                    <a:lnTo>
                      <a:pt x="1146" y="600"/>
                    </a:lnTo>
                    <a:lnTo>
                      <a:pt x="1135" y="600"/>
                    </a:lnTo>
                    <a:lnTo>
                      <a:pt x="1090" y="597"/>
                    </a:lnTo>
                    <a:lnTo>
                      <a:pt x="1048" y="593"/>
                    </a:lnTo>
                    <a:lnTo>
                      <a:pt x="1010" y="588"/>
                    </a:lnTo>
                    <a:lnTo>
                      <a:pt x="977" y="581"/>
                    </a:lnTo>
                    <a:lnTo>
                      <a:pt x="961" y="578"/>
                    </a:lnTo>
                    <a:lnTo>
                      <a:pt x="946" y="574"/>
                    </a:lnTo>
                    <a:lnTo>
                      <a:pt x="933" y="570"/>
                    </a:lnTo>
                    <a:lnTo>
                      <a:pt x="920" y="565"/>
                    </a:lnTo>
                    <a:lnTo>
                      <a:pt x="909" y="560"/>
                    </a:lnTo>
                    <a:lnTo>
                      <a:pt x="898" y="556"/>
                    </a:lnTo>
                    <a:lnTo>
                      <a:pt x="889" y="551"/>
                    </a:lnTo>
                    <a:lnTo>
                      <a:pt x="880" y="545"/>
                    </a:lnTo>
                    <a:lnTo>
                      <a:pt x="866" y="532"/>
                    </a:lnTo>
                    <a:lnTo>
                      <a:pt x="851" y="514"/>
                    </a:lnTo>
                    <a:lnTo>
                      <a:pt x="834" y="492"/>
                    </a:lnTo>
                    <a:lnTo>
                      <a:pt x="813" y="466"/>
                    </a:lnTo>
                    <a:lnTo>
                      <a:pt x="792" y="436"/>
                    </a:lnTo>
                    <a:lnTo>
                      <a:pt x="768" y="401"/>
                    </a:lnTo>
                    <a:lnTo>
                      <a:pt x="742" y="363"/>
                    </a:lnTo>
                    <a:lnTo>
                      <a:pt x="715" y="320"/>
                    </a:lnTo>
                    <a:lnTo>
                      <a:pt x="677" y="263"/>
                    </a:lnTo>
                    <a:lnTo>
                      <a:pt x="642" y="213"/>
                    </a:lnTo>
                    <a:lnTo>
                      <a:pt x="609" y="167"/>
                    </a:lnTo>
                    <a:lnTo>
                      <a:pt x="578" y="127"/>
                    </a:lnTo>
                    <a:lnTo>
                      <a:pt x="551" y="92"/>
                    </a:lnTo>
                    <a:lnTo>
                      <a:pt x="524" y="63"/>
                    </a:lnTo>
                    <a:lnTo>
                      <a:pt x="513" y="50"/>
                    </a:lnTo>
                    <a:lnTo>
                      <a:pt x="501" y="39"/>
                    </a:lnTo>
                    <a:lnTo>
                      <a:pt x="490" y="28"/>
                    </a:lnTo>
                    <a:lnTo>
                      <a:pt x="480" y="20"/>
                    </a:lnTo>
                    <a:lnTo>
                      <a:pt x="482" y="15"/>
                    </a:lnTo>
                    <a:lnTo>
                      <a:pt x="484" y="11"/>
                    </a:lnTo>
                    <a:lnTo>
                      <a:pt x="487" y="8"/>
                    </a:lnTo>
                    <a:lnTo>
                      <a:pt x="490" y="6"/>
                    </a:lnTo>
                    <a:lnTo>
                      <a:pt x="494" y="4"/>
                    </a:lnTo>
                    <a:lnTo>
                      <a:pt x="497" y="2"/>
                    </a:lnTo>
                    <a:lnTo>
                      <a:pt x="501" y="1"/>
                    </a:lnTo>
                    <a:lnTo>
                      <a:pt x="505" y="0"/>
                    </a:lnTo>
                    <a:lnTo>
                      <a:pt x="515" y="0"/>
                    </a:lnTo>
                    <a:lnTo>
                      <a:pt x="525" y="1"/>
                    </a:lnTo>
                    <a:lnTo>
                      <a:pt x="537" y="4"/>
                    </a:lnTo>
                    <a:lnTo>
                      <a:pt x="550" y="9"/>
                    </a:lnTo>
                    <a:close/>
                    <a:moveTo>
                      <a:pt x="380" y="165"/>
                    </a:moveTo>
                    <a:lnTo>
                      <a:pt x="392" y="174"/>
                    </a:lnTo>
                    <a:lnTo>
                      <a:pt x="404" y="184"/>
                    </a:lnTo>
                    <a:lnTo>
                      <a:pt x="417" y="193"/>
                    </a:lnTo>
                    <a:lnTo>
                      <a:pt x="431" y="202"/>
                    </a:lnTo>
                    <a:lnTo>
                      <a:pt x="446" y="210"/>
                    </a:lnTo>
                    <a:lnTo>
                      <a:pt x="462" y="219"/>
                    </a:lnTo>
                    <a:lnTo>
                      <a:pt x="478" y="227"/>
                    </a:lnTo>
                    <a:lnTo>
                      <a:pt x="495" y="235"/>
                    </a:lnTo>
                    <a:lnTo>
                      <a:pt x="484" y="244"/>
                    </a:lnTo>
                    <a:lnTo>
                      <a:pt x="473" y="255"/>
                    </a:lnTo>
                    <a:lnTo>
                      <a:pt x="464" y="266"/>
                    </a:lnTo>
                    <a:lnTo>
                      <a:pt x="454" y="276"/>
                    </a:lnTo>
                    <a:lnTo>
                      <a:pt x="446" y="287"/>
                    </a:lnTo>
                    <a:lnTo>
                      <a:pt x="438" y="297"/>
                    </a:lnTo>
                    <a:lnTo>
                      <a:pt x="431" y="309"/>
                    </a:lnTo>
                    <a:lnTo>
                      <a:pt x="425" y="320"/>
                    </a:lnTo>
                    <a:lnTo>
                      <a:pt x="394" y="376"/>
                    </a:lnTo>
                    <a:lnTo>
                      <a:pt x="363" y="428"/>
                    </a:lnTo>
                    <a:lnTo>
                      <a:pt x="348" y="451"/>
                    </a:lnTo>
                    <a:lnTo>
                      <a:pt x="334" y="473"/>
                    </a:lnTo>
                    <a:lnTo>
                      <a:pt x="319" y="494"/>
                    </a:lnTo>
                    <a:lnTo>
                      <a:pt x="305" y="515"/>
                    </a:lnTo>
                    <a:lnTo>
                      <a:pt x="290" y="534"/>
                    </a:lnTo>
                    <a:lnTo>
                      <a:pt x="276" y="552"/>
                    </a:lnTo>
                    <a:lnTo>
                      <a:pt x="263" y="568"/>
                    </a:lnTo>
                    <a:lnTo>
                      <a:pt x="249" y="582"/>
                    </a:lnTo>
                    <a:lnTo>
                      <a:pt x="235" y="596"/>
                    </a:lnTo>
                    <a:lnTo>
                      <a:pt x="221" y="609"/>
                    </a:lnTo>
                    <a:lnTo>
                      <a:pt x="208" y="619"/>
                    </a:lnTo>
                    <a:lnTo>
                      <a:pt x="195" y="630"/>
                    </a:lnTo>
                    <a:lnTo>
                      <a:pt x="183" y="639"/>
                    </a:lnTo>
                    <a:lnTo>
                      <a:pt x="172" y="645"/>
                    </a:lnTo>
                    <a:lnTo>
                      <a:pt x="161" y="651"/>
                    </a:lnTo>
                    <a:lnTo>
                      <a:pt x="149" y="657"/>
                    </a:lnTo>
                    <a:lnTo>
                      <a:pt x="137" y="661"/>
                    </a:lnTo>
                    <a:lnTo>
                      <a:pt x="125" y="664"/>
                    </a:lnTo>
                    <a:lnTo>
                      <a:pt x="113" y="665"/>
                    </a:lnTo>
                    <a:lnTo>
                      <a:pt x="101" y="666"/>
                    </a:lnTo>
                    <a:lnTo>
                      <a:pt x="89" y="666"/>
                    </a:lnTo>
                    <a:lnTo>
                      <a:pt x="76" y="665"/>
                    </a:lnTo>
                    <a:lnTo>
                      <a:pt x="64" y="663"/>
                    </a:lnTo>
                    <a:lnTo>
                      <a:pt x="51" y="659"/>
                    </a:lnTo>
                    <a:lnTo>
                      <a:pt x="38" y="654"/>
                    </a:lnTo>
                    <a:lnTo>
                      <a:pt x="25" y="649"/>
                    </a:lnTo>
                    <a:lnTo>
                      <a:pt x="13" y="643"/>
                    </a:lnTo>
                    <a:lnTo>
                      <a:pt x="0" y="635"/>
                    </a:lnTo>
                    <a:lnTo>
                      <a:pt x="36" y="616"/>
                    </a:lnTo>
                    <a:lnTo>
                      <a:pt x="70" y="596"/>
                    </a:lnTo>
                    <a:lnTo>
                      <a:pt x="103" y="574"/>
                    </a:lnTo>
                    <a:lnTo>
                      <a:pt x="135" y="552"/>
                    </a:lnTo>
                    <a:lnTo>
                      <a:pt x="149" y="539"/>
                    </a:lnTo>
                    <a:lnTo>
                      <a:pt x="164" y="526"/>
                    </a:lnTo>
                    <a:lnTo>
                      <a:pt x="178" y="514"/>
                    </a:lnTo>
                    <a:lnTo>
                      <a:pt x="192" y="501"/>
                    </a:lnTo>
                    <a:lnTo>
                      <a:pt x="204" y="487"/>
                    </a:lnTo>
                    <a:lnTo>
                      <a:pt x="218" y="473"/>
                    </a:lnTo>
                    <a:lnTo>
                      <a:pt x="230" y="459"/>
                    </a:lnTo>
                    <a:lnTo>
                      <a:pt x="243" y="445"/>
                    </a:lnTo>
                    <a:lnTo>
                      <a:pt x="254" y="430"/>
                    </a:lnTo>
                    <a:lnTo>
                      <a:pt x="265" y="415"/>
                    </a:lnTo>
                    <a:lnTo>
                      <a:pt x="276" y="399"/>
                    </a:lnTo>
                    <a:lnTo>
                      <a:pt x="286" y="383"/>
                    </a:lnTo>
                    <a:lnTo>
                      <a:pt x="297" y="367"/>
                    </a:lnTo>
                    <a:lnTo>
                      <a:pt x="306" y="350"/>
                    </a:lnTo>
                    <a:lnTo>
                      <a:pt x="316" y="333"/>
                    </a:lnTo>
                    <a:lnTo>
                      <a:pt x="324" y="316"/>
                    </a:lnTo>
                    <a:lnTo>
                      <a:pt x="341" y="280"/>
                    </a:lnTo>
                    <a:lnTo>
                      <a:pt x="355" y="243"/>
                    </a:lnTo>
                    <a:lnTo>
                      <a:pt x="369" y="204"/>
                    </a:lnTo>
                    <a:lnTo>
                      <a:pt x="380" y="165"/>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221" name="Freeform 24"/>
              <p:cNvSpPr/>
              <p:nvPr/>
            </p:nvSpPr>
            <p:spPr>
              <a:xfrm>
                <a:off x="6256800" y="1204560"/>
                <a:ext cx="135000" cy="161640"/>
              </a:xfrm>
              <a:custGeom>
                <a:avLst/>
                <a:gdLst>
                  <a:gd name="textAreaLeft" fmla="*/ 0 w 135000"/>
                  <a:gd name="textAreaRight" fmla="*/ 135360 w 135000"/>
                  <a:gd name="textAreaTop" fmla="*/ 0 h 161640"/>
                  <a:gd name="textAreaBottom" fmla="*/ 162000 h 161640"/>
                </a:gdLst>
                <a:ahLst/>
                <a:rect l="textAreaLeft" t="textAreaTop" r="textAreaRight" b="textAreaBottom"/>
                <a:pathLst>
                  <a:path w="846" h="1072">
                    <a:moveTo>
                      <a:pt x="651" y="0"/>
                    </a:moveTo>
                    <a:lnTo>
                      <a:pt x="671" y="13"/>
                    </a:lnTo>
                    <a:lnTo>
                      <a:pt x="692" y="25"/>
                    </a:lnTo>
                    <a:lnTo>
                      <a:pt x="715" y="35"/>
                    </a:lnTo>
                    <a:lnTo>
                      <a:pt x="739" y="45"/>
                    </a:lnTo>
                    <a:lnTo>
                      <a:pt x="764" y="52"/>
                    </a:lnTo>
                    <a:lnTo>
                      <a:pt x="791" y="58"/>
                    </a:lnTo>
                    <a:lnTo>
                      <a:pt x="817" y="63"/>
                    </a:lnTo>
                    <a:lnTo>
                      <a:pt x="846" y="66"/>
                    </a:lnTo>
                    <a:lnTo>
                      <a:pt x="841" y="71"/>
                    </a:lnTo>
                    <a:lnTo>
                      <a:pt x="837" y="78"/>
                    </a:lnTo>
                    <a:lnTo>
                      <a:pt x="834" y="85"/>
                    </a:lnTo>
                    <a:lnTo>
                      <a:pt x="831" y="94"/>
                    </a:lnTo>
                    <a:lnTo>
                      <a:pt x="825" y="116"/>
                    </a:lnTo>
                    <a:lnTo>
                      <a:pt x="819" y="142"/>
                    </a:lnTo>
                    <a:lnTo>
                      <a:pt x="815" y="173"/>
                    </a:lnTo>
                    <a:lnTo>
                      <a:pt x="811" y="210"/>
                    </a:lnTo>
                    <a:lnTo>
                      <a:pt x="808" y="251"/>
                    </a:lnTo>
                    <a:lnTo>
                      <a:pt x="805" y="297"/>
                    </a:lnTo>
                    <a:lnTo>
                      <a:pt x="804" y="348"/>
                    </a:lnTo>
                    <a:lnTo>
                      <a:pt x="803" y="404"/>
                    </a:lnTo>
                    <a:lnTo>
                      <a:pt x="803" y="464"/>
                    </a:lnTo>
                    <a:lnTo>
                      <a:pt x="804" y="530"/>
                    </a:lnTo>
                    <a:lnTo>
                      <a:pt x="805" y="600"/>
                    </a:lnTo>
                    <a:lnTo>
                      <a:pt x="809" y="675"/>
                    </a:lnTo>
                    <a:lnTo>
                      <a:pt x="812" y="756"/>
                    </a:lnTo>
                    <a:lnTo>
                      <a:pt x="815" y="842"/>
                    </a:lnTo>
                    <a:lnTo>
                      <a:pt x="816" y="890"/>
                    </a:lnTo>
                    <a:lnTo>
                      <a:pt x="816" y="934"/>
                    </a:lnTo>
                    <a:lnTo>
                      <a:pt x="814" y="972"/>
                    </a:lnTo>
                    <a:lnTo>
                      <a:pt x="812" y="1004"/>
                    </a:lnTo>
                    <a:lnTo>
                      <a:pt x="810" y="1018"/>
                    </a:lnTo>
                    <a:lnTo>
                      <a:pt x="808" y="1029"/>
                    </a:lnTo>
                    <a:lnTo>
                      <a:pt x="805" y="1040"/>
                    </a:lnTo>
                    <a:lnTo>
                      <a:pt x="803" y="1049"/>
                    </a:lnTo>
                    <a:lnTo>
                      <a:pt x="800" y="1057"/>
                    </a:lnTo>
                    <a:lnTo>
                      <a:pt x="797" y="1063"/>
                    </a:lnTo>
                    <a:lnTo>
                      <a:pt x="794" y="1068"/>
                    </a:lnTo>
                    <a:lnTo>
                      <a:pt x="791" y="1072"/>
                    </a:lnTo>
                    <a:lnTo>
                      <a:pt x="779" y="1068"/>
                    </a:lnTo>
                    <a:lnTo>
                      <a:pt x="766" y="1064"/>
                    </a:lnTo>
                    <a:lnTo>
                      <a:pt x="754" y="1060"/>
                    </a:lnTo>
                    <a:lnTo>
                      <a:pt x="741" y="1054"/>
                    </a:lnTo>
                    <a:lnTo>
                      <a:pt x="727" y="1047"/>
                    </a:lnTo>
                    <a:lnTo>
                      <a:pt x="712" y="1040"/>
                    </a:lnTo>
                    <a:lnTo>
                      <a:pt x="697" y="1030"/>
                    </a:lnTo>
                    <a:lnTo>
                      <a:pt x="682" y="1021"/>
                    </a:lnTo>
                    <a:lnTo>
                      <a:pt x="649" y="1000"/>
                    </a:lnTo>
                    <a:lnTo>
                      <a:pt x="613" y="974"/>
                    </a:lnTo>
                    <a:lnTo>
                      <a:pt x="576" y="944"/>
                    </a:lnTo>
                    <a:lnTo>
                      <a:pt x="535" y="912"/>
                    </a:lnTo>
                    <a:lnTo>
                      <a:pt x="527" y="904"/>
                    </a:lnTo>
                    <a:lnTo>
                      <a:pt x="521" y="898"/>
                    </a:lnTo>
                    <a:lnTo>
                      <a:pt x="516" y="892"/>
                    </a:lnTo>
                    <a:lnTo>
                      <a:pt x="515" y="886"/>
                    </a:lnTo>
                    <a:lnTo>
                      <a:pt x="517" y="884"/>
                    </a:lnTo>
                    <a:lnTo>
                      <a:pt x="519" y="882"/>
                    </a:lnTo>
                    <a:lnTo>
                      <a:pt x="522" y="881"/>
                    </a:lnTo>
                    <a:lnTo>
                      <a:pt x="526" y="880"/>
                    </a:lnTo>
                    <a:lnTo>
                      <a:pt x="534" y="880"/>
                    </a:lnTo>
                    <a:lnTo>
                      <a:pt x="545" y="881"/>
                    </a:lnTo>
                    <a:lnTo>
                      <a:pt x="584" y="886"/>
                    </a:lnTo>
                    <a:lnTo>
                      <a:pt x="616" y="889"/>
                    </a:lnTo>
                    <a:lnTo>
                      <a:pt x="631" y="889"/>
                    </a:lnTo>
                    <a:lnTo>
                      <a:pt x="643" y="889"/>
                    </a:lnTo>
                    <a:lnTo>
                      <a:pt x="654" y="888"/>
                    </a:lnTo>
                    <a:lnTo>
                      <a:pt x="665" y="887"/>
                    </a:lnTo>
                    <a:lnTo>
                      <a:pt x="672" y="885"/>
                    </a:lnTo>
                    <a:lnTo>
                      <a:pt x="679" y="883"/>
                    </a:lnTo>
                    <a:lnTo>
                      <a:pt x="685" y="880"/>
                    </a:lnTo>
                    <a:lnTo>
                      <a:pt x="689" y="877"/>
                    </a:lnTo>
                    <a:lnTo>
                      <a:pt x="691" y="872"/>
                    </a:lnTo>
                    <a:lnTo>
                      <a:pt x="692" y="867"/>
                    </a:lnTo>
                    <a:lnTo>
                      <a:pt x="692" y="862"/>
                    </a:lnTo>
                    <a:lnTo>
                      <a:pt x="690" y="857"/>
                    </a:lnTo>
                    <a:lnTo>
                      <a:pt x="691" y="827"/>
                    </a:lnTo>
                    <a:lnTo>
                      <a:pt x="692" y="793"/>
                    </a:lnTo>
                    <a:lnTo>
                      <a:pt x="693" y="755"/>
                    </a:lnTo>
                    <a:lnTo>
                      <a:pt x="694" y="713"/>
                    </a:lnTo>
                    <a:lnTo>
                      <a:pt x="694" y="668"/>
                    </a:lnTo>
                    <a:lnTo>
                      <a:pt x="695" y="618"/>
                    </a:lnTo>
                    <a:lnTo>
                      <a:pt x="695" y="564"/>
                    </a:lnTo>
                    <a:lnTo>
                      <a:pt x="695" y="506"/>
                    </a:lnTo>
                    <a:lnTo>
                      <a:pt x="695" y="441"/>
                    </a:lnTo>
                    <a:lnTo>
                      <a:pt x="694" y="382"/>
                    </a:lnTo>
                    <a:lnTo>
                      <a:pt x="694" y="326"/>
                    </a:lnTo>
                    <a:lnTo>
                      <a:pt x="693" y="275"/>
                    </a:lnTo>
                    <a:lnTo>
                      <a:pt x="691" y="227"/>
                    </a:lnTo>
                    <a:lnTo>
                      <a:pt x="690" y="184"/>
                    </a:lnTo>
                    <a:lnTo>
                      <a:pt x="688" y="145"/>
                    </a:lnTo>
                    <a:lnTo>
                      <a:pt x="686" y="110"/>
                    </a:lnTo>
                    <a:lnTo>
                      <a:pt x="685" y="107"/>
                    </a:lnTo>
                    <a:lnTo>
                      <a:pt x="685" y="104"/>
                    </a:lnTo>
                    <a:lnTo>
                      <a:pt x="684" y="101"/>
                    </a:lnTo>
                    <a:lnTo>
                      <a:pt x="682" y="99"/>
                    </a:lnTo>
                    <a:lnTo>
                      <a:pt x="679" y="98"/>
                    </a:lnTo>
                    <a:lnTo>
                      <a:pt x="677" y="97"/>
                    </a:lnTo>
                    <a:lnTo>
                      <a:pt x="674" y="96"/>
                    </a:lnTo>
                    <a:lnTo>
                      <a:pt x="671" y="96"/>
                    </a:lnTo>
                    <a:lnTo>
                      <a:pt x="612" y="103"/>
                    </a:lnTo>
                    <a:lnTo>
                      <a:pt x="552" y="112"/>
                    </a:lnTo>
                    <a:lnTo>
                      <a:pt x="492" y="121"/>
                    </a:lnTo>
                    <a:lnTo>
                      <a:pt x="432" y="131"/>
                    </a:lnTo>
                    <a:lnTo>
                      <a:pt x="371" y="141"/>
                    </a:lnTo>
                    <a:lnTo>
                      <a:pt x="310" y="152"/>
                    </a:lnTo>
                    <a:lnTo>
                      <a:pt x="247" y="163"/>
                    </a:lnTo>
                    <a:lnTo>
                      <a:pt x="185" y="176"/>
                    </a:lnTo>
                    <a:lnTo>
                      <a:pt x="175" y="169"/>
                    </a:lnTo>
                    <a:lnTo>
                      <a:pt x="165" y="161"/>
                    </a:lnTo>
                    <a:lnTo>
                      <a:pt x="155" y="152"/>
                    </a:lnTo>
                    <a:lnTo>
                      <a:pt x="146" y="142"/>
                    </a:lnTo>
                    <a:lnTo>
                      <a:pt x="135" y="131"/>
                    </a:lnTo>
                    <a:lnTo>
                      <a:pt x="125" y="118"/>
                    </a:lnTo>
                    <a:lnTo>
                      <a:pt x="115" y="105"/>
                    </a:lnTo>
                    <a:lnTo>
                      <a:pt x="105" y="90"/>
                    </a:lnTo>
                    <a:lnTo>
                      <a:pt x="157" y="88"/>
                    </a:lnTo>
                    <a:lnTo>
                      <a:pt x="208" y="85"/>
                    </a:lnTo>
                    <a:lnTo>
                      <a:pt x="256" y="81"/>
                    </a:lnTo>
                    <a:lnTo>
                      <a:pt x="300" y="78"/>
                    </a:lnTo>
                    <a:lnTo>
                      <a:pt x="344" y="73"/>
                    </a:lnTo>
                    <a:lnTo>
                      <a:pt x="384" y="68"/>
                    </a:lnTo>
                    <a:lnTo>
                      <a:pt x="421" y="64"/>
                    </a:lnTo>
                    <a:lnTo>
                      <a:pt x="457" y="58"/>
                    </a:lnTo>
                    <a:lnTo>
                      <a:pt x="490" y="52"/>
                    </a:lnTo>
                    <a:lnTo>
                      <a:pt x="519" y="46"/>
                    </a:lnTo>
                    <a:lnTo>
                      <a:pt x="548" y="39"/>
                    </a:lnTo>
                    <a:lnTo>
                      <a:pt x="573" y="32"/>
                    </a:lnTo>
                    <a:lnTo>
                      <a:pt x="596" y="25"/>
                    </a:lnTo>
                    <a:lnTo>
                      <a:pt x="617" y="17"/>
                    </a:lnTo>
                    <a:lnTo>
                      <a:pt x="635" y="9"/>
                    </a:lnTo>
                    <a:lnTo>
                      <a:pt x="651" y="0"/>
                    </a:lnTo>
                    <a:close/>
                    <a:moveTo>
                      <a:pt x="410" y="431"/>
                    </a:moveTo>
                    <a:lnTo>
                      <a:pt x="427" y="446"/>
                    </a:lnTo>
                    <a:lnTo>
                      <a:pt x="445" y="461"/>
                    </a:lnTo>
                    <a:lnTo>
                      <a:pt x="464" y="475"/>
                    </a:lnTo>
                    <a:lnTo>
                      <a:pt x="486" y="489"/>
                    </a:lnTo>
                    <a:lnTo>
                      <a:pt x="507" y="500"/>
                    </a:lnTo>
                    <a:lnTo>
                      <a:pt x="530" y="511"/>
                    </a:lnTo>
                    <a:lnTo>
                      <a:pt x="554" y="522"/>
                    </a:lnTo>
                    <a:lnTo>
                      <a:pt x="581" y="531"/>
                    </a:lnTo>
                    <a:lnTo>
                      <a:pt x="565" y="544"/>
                    </a:lnTo>
                    <a:lnTo>
                      <a:pt x="550" y="559"/>
                    </a:lnTo>
                    <a:lnTo>
                      <a:pt x="535" y="576"/>
                    </a:lnTo>
                    <a:lnTo>
                      <a:pt x="521" y="596"/>
                    </a:lnTo>
                    <a:lnTo>
                      <a:pt x="506" y="618"/>
                    </a:lnTo>
                    <a:lnTo>
                      <a:pt x="490" y="644"/>
                    </a:lnTo>
                    <a:lnTo>
                      <a:pt x="475" y="671"/>
                    </a:lnTo>
                    <a:lnTo>
                      <a:pt x="460" y="701"/>
                    </a:lnTo>
                    <a:lnTo>
                      <a:pt x="460" y="704"/>
                    </a:lnTo>
                    <a:lnTo>
                      <a:pt x="461" y="706"/>
                    </a:lnTo>
                    <a:lnTo>
                      <a:pt x="463" y="708"/>
                    </a:lnTo>
                    <a:lnTo>
                      <a:pt x="465" y="711"/>
                    </a:lnTo>
                    <a:lnTo>
                      <a:pt x="479" y="727"/>
                    </a:lnTo>
                    <a:lnTo>
                      <a:pt x="489" y="741"/>
                    </a:lnTo>
                    <a:lnTo>
                      <a:pt x="496" y="753"/>
                    </a:lnTo>
                    <a:lnTo>
                      <a:pt x="500" y="761"/>
                    </a:lnTo>
                    <a:lnTo>
                      <a:pt x="476" y="764"/>
                    </a:lnTo>
                    <a:lnTo>
                      <a:pt x="444" y="768"/>
                    </a:lnTo>
                    <a:lnTo>
                      <a:pt x="404" y="772"/>
                    </a:lnTo>
                    <a:lnTo>
                      <a:pt x="355" y="776"/>
                    </a:lnTo>
                    <a:lnTo>
                      <a:pt x="316" y="779"/>
                    </a:lnTo>
                    <a:lnTo>
                      <a:pt x="280" y="783"/>
                    </a:lnTo>
                    <a:lnTo>
                      <a:pt x="248" y="786"/>
                    </a:lnTo>
                    <a:lnTo>
                      <a:pt x="220" y="789"/>
                    </a:lnTo>
                    <a:lnTo>
                      <a:pt x="195" y="791"/>
                    </a:lnTo>
                    <a:lnTo>
                      <a:pt x="175" y="793"/>
                    </a:lnTo>
                    <a:lnTo>
                      <a:pt x="158" y="795"/>
                    </a:lnTo>
                    <a:lnTo>
                      <a:pt x="146" y="796"/>
                    </a:lnTo>
                    <a:lnTo>
                      <a:pt x="147" y="816"/>
                    </a:lnTo>
                    <a:lnTo>
                      <a:pt x="147" y="833"/>
                    </a:lnTo>
                    <a:lnTo>
                      <a:pt x="146" y="841"/>
                    </a:lnTo>
                    <a:lnTo>
                      <a:pt x="145" y="847"/>
                    </a:lnTo>
                    <a:lnTo>
                      <a:pt x="142" y="852"/>
                    </a:lnTo>
                    <a:lnTo>
                      <a:pt x="140" y="857"/>
                    </a:lnTo>
                    <a:lnTo>
                      <a:pt x="135" y="855"/>
                    </a:lnTo>
                    <a:lnTo>
                      <a:pt x="129" y="853"/>
                    </a:lnTo>
                    <a:lnTo>
                      <a:pt x="121" y="850"/>
                    </a:lnTo>
                    <a:lnTo>
                      <a:pt x="114" y="846"/>
                    </a:lnTo>
                    <a:lnTo>
                      <a:pt x="105" y="841"/>
                    </a:lnTo>
                    <a:lnTo>
                      <a:pt x="96" y="833"/>
                    </a:lnTo>
                    <a:lnTo>
                      <a:pt x="86" y="826"/>
                    </a:lnTo>
                    <a:lnTo>
                      <a:pt x="76" y="816"/>
                    </a:lnTo>
                    <a:lnTo>
                      <a:pt x="69" y="754"/>
                    </a:lnTo>
                    <a:lnTo>
                      <a:pt x="63" y="699"/>
                    </a:lnTo>
                    <a:lnTo>
                      <a:pt x="56" y="649"/>
                    </a:lnTo>
                    <a:lnTo>
                      <a:pt x="46" y="604"/>
                    </a:lnTo>
                    <a:lnTo>
                      <a:pt x="42" y="585"/>
                    </a:lnTo>
                    <a:lnTo>
                      <a:pt x="36" y="567"/>
                    </a:lnTo>
                    <a:lnTo>
                      <a:pt x="31" y="550"/>
                    </a:lnTo>
                    <a:lnTo>
                      <a:pt x="26" y="535"/>
                    </a:lnTo>
                    <a:lnTo>
                      <a:pt x="20" y="522"/>
                    </a:lnTo>
                    <a:lnTo>
                      <a:pt x="13" y="510"/>
                    </a:lnTo>
                    <a:lnTo>
                      <a:pt x="7" y="499"/>
                    </a:lnTo>
                    <a:lnTo>
                      <a:pt x="0" y="491"/>
                    </a:lnTo>
                    <a:lnTo>
                      <a:pt x="29" y="494"/>
                    </a:lnTo>
                    <a:lnTo>
                      <a:pt x="57" y="497"/>
                    </a:lnTo>
                    <a:lnTo>
                      <a:pt x="82" y="502"/>
                    </a:lnTo>
                    <a:lnTo>
                      <a:pt x="105" y="506"/>
                    </a:lnTo>
                    <a:lnTo>
                      <a:pt x="163" y="499"/>
                    </a:lnTo>
                    <a:lnTo>
                      <a:pt x="214" y="492"/>
                    </a:lnTo>
                    <a:lnTo>
                      <a:pt x="261" y="484"/>
                    </a:lnTo>
                    <a:lnTo>
                      <a:pt x="301" y="475"/>
                    </a:lnTo>
                    <a:lnTo>
                      <a:pt x="320" y="470"/>
                    </a:lnTo>
                    <a:lnTo>
                      <a:pt x="337" y="464"/>
                    </a:lnTo>
                    <a:lnTo>
                      <a:pt x="352" y="459"/>
                    </a:lnTo>
                    <a:lnTo>
                      <a:pt x="367" y="454"/>
                    </a:lnTo>
                    <a:lnTo>
                      <a:pt x="380" y="449"/>
                    </a:lnTo>
                    <a:lnTo>
                      <a:pt x="391" y="443"/>
                    </a:lnTo>
                    <a:lnTo>
                      <a:pt x="402" y="437"/>
                    </a:lnTo>
                    <a:lnTo>
                      <a:pt x="410" y="431"/>
                    </a:lnTo>
                    <a:close/>
                    <a:moveTo>
                      <a:pt x="410" y="526"/>
                    </a:moveTo>
                    <a:lnTo>
                      <a:pt x="407" y="525"/>
                    </a:lnTo>
                    <a:lnTo>
                      <a:pt x="400" y="525"/>
                    </a:lnTo>
                    <a:lnTo>
                      <a:pt x="389" y="526"/>
                    </a:lnTo>
                    <a:lnTo>
                      <a:pt x="374" y="527"/>
                    </a:lnTo>
                    <a:lnTo>
                      <a:pt x="332" y="532"/>
                    </a:lnTo>
                    <a:lnTo>
                      <a:pt x="275" y="541"/>
                    </a:lnTo>
                    <a:lnTo>
                      <a:pt x="248" y="546"/>
                    </a:lnTo>
                    <a:lnTo>
                      <a:pt x="224" y="550"/>
                    </a:lnTo>
                    <a:lnTo>
                      <a:pt x="201" y="553"/>
                    </a:lnTo>
                    <a:lnTo>
                      <a:pt x="181" y="557"/>
                    </a:lnTo>
                    <a:lnTo>
                      <a:pt x="161" y="560"/>
                    </a:lnTo>
                    <a:lnTo>
                      <a:pt x="143" y="563"/>
                    </a:lnTo>
                    <a:lnTo>
                      <a:pt x="129" y="564"/>
                    </a:lnTo>
                    <a:lnTo>
                      <a:pt x="115" y="566"/>
                    </a:lnTo>
                    <a:lnTo>
                      <a:pt x="119" y="585"/>
                    </a:lnTo>
                    <a:lnTo>
                      <a:pt x="122" y="605"/>
                    </a:lnTo>
                    <a:lnTo>
                      <a:pt x="125" y="626"/>
                    </a:lnTo>
                    <a:lnTo>
                      <a:pt x="129" y="647"/>
                    </a:lnTo>
                    <a:lnTo>
                      <a:pt x="132" y="670"/>
                    </a:lnTo>
                    <a:lnTo>
                      <a:pt x="135" y="692"/>
                    </a:lnTo>
                    <a:lnTo>
                      <a:pt x="137" y="717"/>
                    </a:lnTo>
                    <a:lnTo>
                      <a:pt x="140" y="741"/>
                    </a:lnTo>
                    <a:lnTo>
                      <a:pt x="186" y="733"/>
                    </a:lnTo>
                    <a:lnTo>
                      <a:pt x="226" y="725"/>
                    </a:lnTo>
                    <a:lnTo>
                      <a:pt x="263" y="719"/>
                    </a:lnTo>
                    <a:lnTo>
                      <a:pt x="295" y="713"/>
                    </a:lnTo>
                    <a:lnTo>
                      <a:pt x="324" y="709"/>
                    </a:lnTo>
                    <a:lnTo>
                      <a:pt x="347" y="705"/>
                    </a:lnTo>
                    <a:lnTo>
                      <a:pt x="366" y="703"/>
                    </a:lnTo>
                    <a:lnTo>
                      <a:pt x="381" y="701"/>
                    </a:lnTo>
                    <a:lnTo>
                      <a:pt x="387" y="671"/>
                    </a:lnTo>
                    <a:lnTo>
                      <a:pt x="393" y="644"/>
                    </a:lnTo>
                    <a:lnTo>
                      <a:pt x="399" y="618"/>
                    </a:lnTo>
                    <a:lnTo>
                      <a:pt x="403" y="595"/>
                    </a:lnTo>
                    <a:lnTo>
                      <a:pt x="406" y="574"/>
                    </a:lnTo>
                    <a:lnTo>
                      <a:pt x="408" y="556"/>
                    </a:lnTo>
                    <a:lnTo>
                      <a:pt x="409" y="540"/>
                    </a:lnTo>
                    <a:lnTo>
                      <a:pt x="410" y="526"/>
                    </a:lnTo>
                    <a:close/>
                    <a:moveTo>
                      <a:pt x="76" y="316"/>
                    </a:moveTo>
                    <a:lnTo>
                      <a:pt x="93" y="314"/>
                    </a:lnTo>
                    <a:lnTo>
                      <a:pt x="114" y="312"/>
                    </a:lnTo>
                    <a:lnTo>
                      <a:pt x="137" y="309"/>
                    </a:lnTo>
                    <a:lnTo>
                      <a:pt x="163" y="304"/>
                    </a:lnTo>
                    <a:lnTo>
                      <a:pt x="192" y="300"/>
                    </a:lnTo>
                    <a:lnTo>
                      <a:pt x="223" y="294"/>
                    </a:lnTo>
                    <a:lnTo>
                      <a:pt x="258" y="287"/>
                    </a:lnTo>
                    <a:lnTo>
                      <a:pt x="295" y="281"/>
                    </a:lnTo>
                    <a:lnTo>
                      <a:pt x="321" y="276"/>
                    </a:lnTo>
                    <a:lnTo>
                      <a:pt x="347" y="272"/>
                    </a:lnTo>
                    <a:lnTo>
                      <a:pt x="370" y="267"/>
                    </a:lnTo>
                    <a:lnTo>
                      <a:pt x="391" y="263"/>
                    </a:lnTo>
                    <a:lnTo>
                      <a:pt x="411" y="260"/>
                    </a:lnTo>
                    <a:lnTo>
                      <a:pt x="429" y="257"/>
                    </a:lnTo>
                    <a:lnTo>
                      <a:pt x="445" y="254"/>
                    </a:lnTo>
                    <a:lnTo>
                      <a:pt x="460" y="250"/>
                    </a:lnTo>
                    <a:lnTo>
                      <a:pt x="468" y="249"/>
                    </a:lnTo>
                    <a:lnTo>
                      <a:pt x="475" y="249"/>
                    </a:lnTo>
                    <a:lnTo>
                      <a:pt x="482" y="251"/>
                    </a:lnTo>
                    <a:lnTo>
                      <a:pt x="490" y="256"/>
                    </a:lnTo>
                    <a:lnTo>
                      <a:pt x="492" y="257"/>
                    </a:lnTo>
                    <a:lnTo>
                      <a:pt x="495" y="261"/>
                    </a:lnTo>
                    <a:lnTo>
                      <a:pt x="509" y="276"/>
                    </a:lnTo>
                    <a:lnTo>
                      <a:pt x="521" y="291"/>
                    </a:lnTo>
                    <a:lnTo>
                      <a:pt x="525" y="298"/>
                    </a:lnTo>
                    <a:lnTo>
                      <a:pt x="529" y="305"/>
                    </a:lnTo>
                    <a:lnTo>
                      <a:pt x="532" y="313"/>
                    </a:lnTo>
                    <a:lnTo>
                      <a:pt x="535" y="320"/>
                    </a:lnTo>
                    <a:lnTo>
                      <a:pt x="522" y="322"/>
                    </a:lnTo>
                    <a:lnTo>
                      <a:pt x="505" y="325"/>
                    </a:lnTo>
                    <a:lnTo>
                      <a:pt x="486" y="327"/>
                    </a:lnTo>
                    <a:lnTo>
                      <a:pt x="464" y="330"/>
                    </a:lnTo>
                    <a:lnTo>
                      <a:pt x="440" y="333"/>
                    </a:lnTo>
                    <a:lnTo>
                      <a:pt x="412" y="336"/>
                    </a:lnTo>
                    <a:lnTo>
                      <a:pt x="383" y="340"/>
                    </a:lnTo>
                    <a:lnTo>
                      <a:pt x="350" y="346"/>
                    </a:lnTo>
                    <a:lnTo>
                      <a:pt x="302" y="353"/>
                    </a:lnTo>
                    <a:lnTo>
                      <a:pt x="259" y="358"/>
                    </a:lnTo>
                    <a:lnTo>
                      <a:pt x="223" y="364"/>
                    </a:lnTo>
                    <a:lnTo>
                      <a:pt x="191" y="368"/>
                    </a:lnTo>
                    <a:lnTo>
                      <a:pt x="167" y="371"/>
                    </a:lnTo>
                    <a:lnTo>
                      <a:pt x="147" y="374"/>
                    </a:lnTo>
                    <a:lnTo>
                      <a:pt x="133" y="375"/>
                    </a:lnTo>
                    <a:lnTo>
                      <a:pt x="125" y="375"/>
                    </a:lnTo>
                    <a:lnTo>
                      <a:pt x="108" y="366"/>
                    </a:lnTo>
                    <a:lnTo>
                      <a:pt x="94" y="354"/>
                    </a:lnTo>
                    <a:lnTo>
                      <a:pt x="81" y="343"/>
                    </a:lnTo>
                    <a:lnTo>
                      <a:pt x="70" y="331"/>
                    </a:lnTo>
                    <a:lnTo>
                      <a:pt x="68" y="328"/>
                    </a:lnTo>
                    <a:lnTo>
                      <a:pt x="66" y="326"/>
                    </a:lnTo>
                    <a:lnTo>
                      <a:pt x="65" y="323"/>
                    </a:lnTo>
                    <a:lnTo>
                      <a:pt x="65" y="320"/>
                    </a:lnTo>
                    <a:lnTo>
                      <a:pt x="66" y="318"/>
                    </a:lnTo>
                    <a:lnTo>
                      <a:pt x="67" y="317"/>
                    </a:lnTo>
                    <a:lnTo>
                      <a:pt x="70" y="316"/>
                    </a:lnTo>
                    <a:lnTo>
                      <a:pt x="76" y="316"/>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222" name="Freeform 25"/>
              <p:cNvSpPr/>
              <p:nvPr/>
            </p:nvSpPr>
            <p:spPr>
              <a:xfrm>
                <a:off x="3702600" y="1405800"/>
                <a:ext cx="37800" cy="48240"/>
              </a:xfrm>
              <a:custGeom>
                <a:avLst/>
                <a:gdLst>
                  <a:gd name="textAreaLeft" fmla="*/ 0 w 37800"/>
                  <a:gd name="textAreaRight" fmla="*/ 38160 w 37800"/>
                  <a:gd name="textAreaTop" fmla="*/ 0 h 48240"/>
                  <a:gd name="textAreaBottom" fmla="*/ 48600 h 48240"/>
                </a:gdLst>
                <a:ahLst/>
                <a:rect l="textAreaLeft" t="textAreaTop" r="textAreaRight" b="textAreaBottom"/>
                <a:pathLst>
                  <a:path w="240" h="320">
                    <a:moveTo>
                      <a:pt x="0" y="320"/>
                    </a:moveTo>
                    <a:lnTo>
                      <a:pt x="0" y="281"/>
                    </a:lnTo>
                    <a:lnTo>
                      <a:pt x="156" y="75"/>
                    </a:lnTo>
                    <a:lnTo>
                      <a:pt x="164" y="65"/>
                    </a:lnTo>
                    <a:lnTo>
                      <a:pt x="171" y="55"/>
                    </a:lnTo>
                    <a:lnTo>
                      <a:pt x="180" y="46"/>
                    </a:lnTo>
                    <a:lnTo>
                      <a:pt x="187" y="37"/>
                    </a:lnTo>
                    <a:lnTo>
                      <a:pt x="17" y="37"/>
                    </a:lnTo>
                    <a:lnTo>
                      <a:pt x="17" y="0"/>
                    </a:lnTo>
                    <a:lnTo>
                      <a:pt x="235" y="0"/>
                    </a:lnTo>
                    <a:lnTo>
                      <a:pt x="235" y="37"/>
                    </a:lnTo>
                    <a:lnTo>
                      <a:pt x="64" y="260"/>
                    </a:lnTo>
                    <a:lnTo>
                      <a:pt x="46" y="282"/>
                    </a:lnTo>
                    <a:lnTo>
                      <a:pt x="240" y="282"/>
                    </a:lnTo>
                    <a:lnTo>
                      <a:pt x="240" y="320"/>
                    </a:lnTo>
                    <a:lnTo>
                      <a:pt x="0" y="320"/>
                    </a:lnTo>
                    <a:close/>
                  </a:path>
                </a:pathLst>
              </a:custGeom>
              <a:solidFill>
                <a:srgbClr val="1f1a17"/>
              </a:solidFill>
              <a:ln w="0">
                <a:noFill/>
              </a:ln>
            </p:spPr>
            <p:style>
              <a:lnRef idx="0"/>
              <a:fillRef idx="0"/>
              <a:effectRef idx="0"/>
              <a:fontRef idx="minor"/>
            </p:style>
            <p:txBody>
              <a:bodyPr lIns="90000" rIns="90000" tIns="3600" bIns="3600" anchor="t">
                <a:noAutofit/>
              </a:bodyPr>
              <a:p>
                <a:pPr>
                  <a:lnSpc>
                    <a:spcPct val="100000"/>
                  </a:lnSpc>
                </a:pPr>
                <a:endParaRPr b="0" lang="en-US" sz="1800" spc="-1" strike="noStrike">
                  <a:solidFill>
                    <a:srgbClr val="000000"/>
                  </a:solidFill>
                  <a:latin typeface="Arial"/>
                  <a:ea typeface="宋体"/>
                </a:endParaRPr>
              </a:p>
            </p:txBody>
          </p:sp>
          <p:sp>
            <p:nvSpPr>
              <p:cNvPr id="223" name="Freeform 26"/>
              <p:cNvSpPr/>
              <p:nvPr/>
            </p:nvSpPr>
            <p:spPr>
              <a:xfrm>
                <a:off x="3751920" y="1405800"/>
                <a:ext cx="37800" cy="48240"/>
              </a:xfrm>
              <a:custGeom>
                <a:avLst/>
                <a:gdLst>
                  <a:gd name="textAreaLeft" fmla="*/ 0 w 37800"/>
                  <a:gd name="textAreaRight" fmla="*/ 38160 w 37800"/>
                  <a:gd name="textAreaTop" fmla="*/ 0 h 48240"/>
                  <a:gd name="textAreaBottom" fmla="*/ 48600 h 48240"/>
                </a:gdLst>
                <a:ahLst/>
                <a:rect l="textAreaLeft" t="textAreaTop" r="textAreaRight" b="textAreaBottom"/>
                <a:pathLst>
                  <a:path w="239" h="320">
                    <a:moveTo>
                      <a:pt x="0" y="320"/>
                    </a:moveTo>
                    <a:lnTo>
                      <a:pt x="0" y="0"/>
                    </a:lnTo>
                    <a:lnTo>
                      <a:pt x="40" y="0"/>
                    </a:lnTo>
                    <a:lnTo>
                      <a:pt x="40" y="131"/>
                    </a:lnTo>
                    <a:lnTo>
                      <a:pt x="198" y="131"/>
                    </a:lnTo>
                    <a:lnTo>
                      <a:pt x="198" y="0"/>
                    </a:lnTo>
                    <a:lnTo>
                      <a:pt x="239" y="0"/>
                    </a:lnTo>
                    <a:lnTo>
                      <a:pt x="239" y="320"/>
                    </a:lnTo>
                    <a:lnTo>
                      <a:pt x="198" y="320"/>
                    </a:lnTo>
                    <a:lnTo>
                      <a:pt x="198" y="169"/>
                    </a:lnTo>
                    <a:lnTo>
                      <a:pt x="40" y="169"/>
                    </a:lnTo>
                    <a:lnTo>
                      <a:pt x="40" y="320"/>
                    </a:lnTo>
                    <a:lnTo>
                      <a:pt x="0" y="320"/>
                    </a:lnTo>
                    <a:close/>
                  </a:path>
                </a:pathLst>
              </a:custGeom>
              <a:solidFill>
                <a:srgbClr val="1f1a17"/>
              </a:solidFill>
              <a:ln w="0">
                <a:noFill/>
              </a:ln>
            </p:spPr>
            <p:style>
              <a:lnRef idx="0"/>
              <a:fillRef idx="0"/>
              <a:effectRef idx="0"/>
              <a:fontRef idx="minor"/>
            </p:style>
            <p:txBody>
              <a:bodyPr lIns="90000" rIns="90000" tIns="3600" bIns="3600" anchor="t">
                <a:noAutofit/>
              </a:bodyPr>
              <a:p>
                <a:pPr>
                  <a:lnSpc>
                    <a:spcPct val="100000"/>
                  </a:lnSpc>
                </a:pPr>
                <a:endParaRPr b="0" lang="en-US" sz="1800" spc="-1" strike="noStrike">
                  <a:solidFill>
                    <a:srgbClr val="000000"/>
                  </a:solidFill>
                  <a:latin typeface="Arial"/>
                  <a:ea typeface="宋体"/>
                </a:endParaRPr>
              </a:p>
            </p:txBody>
          </p:sp>
          <p:sp>
            <p:nvSpPr>
              <p:cNvPr id="224" name="Freeform 27"/>
              <p:cNvSpPr/>
              <p:nvPr/>
            </p:nvSpPr>
            <p:spPr>
              <a:xfrm>
                <a:off x="3805560" y="1405800"/>
                <a:ext cx="37800" cy="48240"/>
              </a:xfrm>
              <a:custGeom>
                <a:avLst/>
                <a:gdLst>
                  <a:gd name="textAreaLeft" fmla="*/ 0 w 37800"/>
                  <a:gd name="textAreaRight" fmla="*/ 38160 w 37800"/>
                  <a:gd name="textAreaTop" fmla="*/ 0 h 48240"/>
                  <a:gd name="textAreaBottom" fmla="*/ 48600 h 48240"/>
                </a:gdLst>
                <a:ahLst/>
                <a:rect l="textAreaLeft" t="textAreaTop" r="textAreaRight" b="textAreaBottom"/>
                <a:pathLst>
                  <a:path w="239" h="325">
                    <a:moveTo>
                      <a:pt x="199" y="0"/>
                    </a:moveTo>
                    <a:lnTo>
                      <a:pt x="239" y="0"/>
                    </a:lnTo>
                    <a:lnTo>
                      <a:pt x="239" y="184"/>
                    </a:lnTo>
                    <a:lnTo>
                      <a:pt x="238" y="208"/>
                    </a:lnTo>
                    <a:lnTo>
                      <a:pt x="236" y="228"/>
                    </a:lnTo>
                    <a:lnTo>
                      <a:pt x="233" y="246"/>
                    </a:lnTo>
                    <a:lnTo>
                      <a:pt x="229" y="261"/>
                    </a:lnTo>
                    <a:lnTo>
                      <a:pt x="225" y="268"/>
                    </a:lnTo>
                    <a:lnTo>
                      <a:pt x="222" y="275"/>
                    </a:lnTo>
                    <a:lnTo>
                      <a:pt x="218" y="281"/>
                    </a:lnTo>
                    <a:lnTo>
                      <a:pt x="214" y="287"/>
                    </a:lnTo>
                    <a:lnTo>
                      <a:pt x="208" y="293"/>
                    </a:lnTo>
                    <a:lnTo>
                      <a:pt x="203" y="298"/>
                    </a:lnTo>
                    <a:lnTo>
                      <a:pt x="198" y="303"/>
                    </a:lnTo>
                    <a:lnTo>
                      <a:pt x="192" y="307"/>
                    </a:lnTo>
                    <a:lnTo>
                      <a:pt x="184" y="312"/>
                    </a:lnTo>
                    <a:lnTo>
                      <a:pt x="177" y="315"/>
                    </a:lnTo>
                    <a:lnTo>
                      <a:pt x="168" y="318"/>
                    </a:lnTo>
                    <a:lnTo>
                      <a:pt x="160" y="321"/>
                    </a:lnTo>
                    <a:lnTo>
                      <a:pt x="150" y="322"/>
                    </a:lnTo>
                    <a:lnTo>
                      <a:pt x="141" y="324"/>
                    </a:lnTo>
                    <a:lnTo>
                      <a:pt x="130" y="324"/>
                    </a:lnTo>
                    <a:lnTo>
                      <a:pt x="120" y="325"/>
                    </a:lnTo>
                    <a:lnTo>
                      <a:pt x="109" y="325"/>
                    </a:lnTo>
                    <a:lnTo>
                      <a:pt x="99" y="324"/>
                    </a:lnTo>
                    <a:lnTo>
                      <a:pt x="90" y="323"/>
                    </a:lnTo>
                    <a:lnTo>
                      <a:pt x="81" y="321"/>
                    </a:lnTo>
                    <a:lnTo>
                      <a:pt x="73" y="319"/>
                    </a:lnTo>
                    <a:lnTo>
                      <a:pt x="64" y="317"/>
                    </a:lnTo>
                    <a:lnTo>
                      <a:pt x="57" y="314"/>
                    </a:lnTo>
                    <a:lnTo>
                      <a:pt x="50" y="309"/>
                    </a:lnTo>
                    <a:lnTo>
                      <a:pt x="43" y="305"/>
                    </a:lnTo>
                    <a:lnTo>
                      <a:pt x="37" y="301"/>
                    </a:lnTo>
                    <a:lnTo>
                      <a:pt x="32" y="296"/>
                    </a:lnTo>
                    <a:lnTo>
                      <a:pt x="26" y="290"/>
                    </a:lnTo>
                    <a:lnTo>
                      <a:pt x="22" y="285"/>
                    </a:lnTo>
                    <a:lnTo>
                      <a:pt x="18" y="279"/>
                    </a:lnTo>
                    <a:lnTo>
                      <a:pt x="14" y="272"/>
                    </a:lnTo>
                    <a:lnTo>
                      <a:pt x="11" y="265"/>
                    </a:lnTo>
                    <a:lnTo>
                      <a:pt x="6" y="249"/>
                    </a:lnTo>
                    <a:lnTo>
                      <a:pt x="2" y="230"/>
                    </a:lnTo>
                    <a:lnTo>
                      <a:pt x="0" y="209"/>
                    </a:lnTo>
                    <a:lnTo>
                      <a:pt x="0" y="184"/>
                    </a:lnTo>
                    <a:lnTo>
                      <a:pt x="0" y="0"/>
                    </a:lnTo>
                    <a:lnTo>
                      <a:pt x="40" y="0"/>
                    </a:lnTo>
                    <a:lnTo>
                      <a:pt x="40" y="184"/>
                    </a:lnTo>
                    <a:lnTo>
                      <a:pt x="40" y="204"/>
                    </a:lnTo>
                    <a:lnTo>
                      <a:pt x="41" y="220"/>
                    </a:lnTo>
                    <a:lnTo>
                      <a:pt x="43" y="234"/>
                    </a:lnTo>
                    <a:lnTo>
                      <a:pt x="47" y="246"/>
                    </a:lnTo>
                    <a:lnTo>
                      <a:pt x="52" y="255"/>
                    </a:lnTo>
                    <a:lnTo>
                      <a:pt x="57" y="263"/>
                    </a:lnTo>
                    <a:lnTo>
                      <a:pt x="64" y="270"/>
                    </a:lnTo>
                    <a:lnTo>
                      <a:pt x="72" y="277"/>
                    </a:lnTo>
                    <a:lnTo>
                      <a:pt x="81" y="281"/>
                    </a:lnTo>
                    <a:lnTo>
                      <a:pt x="92" y="284"/>
                    </a:lnTo>
                    <a:lnTo>
                      <a:pt x="104" y="286"/>
                    </a:lnTo>
                    <a:lnTo>
                      <a:pt x="116" y="287"/>
                    </a:lnTo>
                    <a:lnTo>
                      <a:pt x="127" y="286"/>
                    </a:lnTo>
                    <a:lnTo>
                      <a:pt x="136" y="286"/>
                    </a:lnTo>
                    <a:lnTo>
                      <a:pt x="146" y="284"/>
                    </a:lnTo>
                    <a:lnTo>
                      <a:pt x="154" y="282"/>
                    </a:lnTo>
                    <a:lnTo>
                      <a:pt x="162" y="279"/>
                    </a:lnTo>
                    <a:lnTo>
                      <a:pt x="168" y="276"/>
                    </a:lnTo>
                    <a:lnTo>
                      <a:pt x="175" y="270"/>
                    </a:lnTo>
                    <a:lnTo>
                      <a:pt x="180" y="266"/>
                    </a:lnTo>
                    <a:lnTo>
                      <a:pt x="184" y="260"/>
                    </a:lnTo>
                    <a:lnTo>
                      <a:pt x="188" y="252"/>
                    </a:lnTo>
                    <a:lnTo>
                      <a:pt x="192" y="245"/>
                    </a:lnTo>
                    <a:lnTo>
                      <a:pt x="194" y="235"/>
                    </a:lnTo>
                    <a:lnTo>
                      <a:pt x="196" y="224"/>
                    </a:lnTo>
                    <a:lnTo>
                      <a:pt x="198" y="212"/>
                    </a:lnTo>
                    <a:lnTo>
                      <a:pt x="198" y="199"/>
                    </a:lnTo>
                    <a:lnTo>
                      <a:pt x="199" y="184"/>
                    </a:lnTo>
                    <a:lnTo>
                      <a:pt x="199" y="0"/>
                    </a:lnTo>
                    <a:close/>
                  </a:path>
                </a:pathLst>
              </a:custGeom>
              <a:solidFill>
                <a:srgbClr val="1f1a17"/>
              </a:solidFill>
              <a:ln w="0">
                <a:noFill/>
              </a:ln>
            </p:spPr>
            <p:style>
              <a:lnRef idx="0"/>
              <a:fillRef idx="0"/>
              <a:effectRef idx="0"/>
              <a:fontRef idx="minor"/>
            </p:style>
            <p:txBody>
              <a:bodyPr lIns="90000" rIns="90000" tIns="3600" bIns="3600" anchor="t">
                <a:noAutofit/>
              </a:bodyPr>
              <a:p>
                <a:pPr>
                  <a:lnSpc>
                    <a:spcPct val="100000"/>
                  </a:lnSpc>
                </a:pPr>
                <a:endParaRPr b="0" lang="en-US" sz="1800" spc="-1" strike="noStrike">
                  <a:solidFill>
                    <a:srgbClr val="000000"/>
                  </a:solidFill>
                  <a:latin typeface="Arial"/>
                  <a:ea typeface="宋体"/>
                </a:endParaRPr>
              </a:p>
            </p:txBody>
          </p:sp>
          <p:sp>
            <p:nvSpPr>
              <p:cNvPr id="225" name="Freeform 28"/>
              <p:cNvSpPr/>
              <p:nvPr/>
            </p:nvSpPr>
            <p:spPr>
              <a:xfrm>
                <a:off x="3858120" y="1405800"/>
                <a:ext cx="38880" cy="48240"/>
              </a:xfrm>
              <a:custGeom>
                <a:avLst/>
                <a:gdLst>
                  <a:gd name="textAreaLeft" fmla="*/ 0 w 38880"/>
                  <a:gd name="textAreaRight" fmla="*/ 39240 w 38880"/>
                  <a:gd name="textAreaTop" fmla="*/ 0 h 48240"/>
                  <a:gd name="textAreaBottom" fmla="*/ 48600 h 48240"/>
                </a:gdLst>
                <a:ahLst/>
                <a:rect l="textAreaLeft" t="textAreaTop" r="textAreaRight" b="textAreaBottom"/>
                <a:pathLst>
                  <a:path w="239" h="320">
                    <a:moveTo>
                      <a:pt x="0" y="320"/>
                    </a:moveTo>
                    <a:lnTo>
                      <a:pt x="0" y="0"/>
                    </a:lnTo>
                    <a:lnTo>
                      <a:pt x="41" y="0"/>
                    </a:lnTo>
                    <a:lnTo>
                      <a:pt x="41" y="131"/>
                    </a:lnTo>
                    <a:lnTo>
                      <a:pt x="199" y="131"/>
                    </a:lnTo>
                    <a:lnTo>
                      <a:pt x="199" y="0"/>
                    </a:lnTo>
                    <a:lnTo>
                      <a:pt x="239" y="0"/>
                    </a:lnTo>
                    <a:lnTo>
                      <a:pt x="239" y="320"/>
                    </a:lnTo>
                    <a:lnTo>
                      <a:pt x="199" y="320"/>
                    </a:lnTo>
                    <a:lnTo>
                      <a:pt x="199" y="169"/>
                    </a:lnTo>
                    <a:lnTo>
                      <a:pt x="41" y="169"/>
                    </a:lnTo>
                    <a:lnTo>
                      <a:pt x="41" y="320"/>
                    </a:lnTo>
                    <a:lnTo>
                      <a:pt x="0" y="320"/>
                    </a:lnTo>
                    <a:close/>
                  </a:path>
                </a:pathLst>
              </a:custGeom>
              <a:solidFill>
                <a:srgbClr val="1f1a17"/>
              </a:solidFill>
              <a:ln w="0">
                <a:noFill/>
              </a:ln>
            </p:spPr>
            <p:style>
              <a:lnRef idx="0"/>
              <a:fillRef idx="0"/>
              <a:effectRef idx="0"/>
              <a:fontRef idx="minor"/>
            </p:style>
            <p:txBody>
              <a:bodyPr lIns="90000" rIns="90000" tIns="3600" bIns="3600" anchor="t">
                <a:noAutofit/>
              </a:bodyPr>
              <a:p>
                <a:pPr>
                  <a:lnSpc>
                    <a:spcPct val="100000"/>
                  </a:lnSpc>
                </a:pPr>
                <a:endParaRPr b="0" lang="en-US" sz="1800" spc="-1" strike="noStrike">
                  <a:solidFill>
                    <a:srgbClr val="000000"/>
                  </a:solidFill>
                  <a:latin typeface="Arial"/>
                  <a:ea typeface="宋体"/>
                </a:endParaRPr>
              </a:p>
            </p:txBody>
          </p:sp>
          <p:sp>
            <p:nvSpPr>
              <p:cNvPr id="226" name="Freeform 29"/>
              <p:cNvSpPr/>
              <p:nvPr/>
            </p:nvSpPr>
            <p:spPr>
              <a:xfrm>
                <a:off x="3906360" y="1405800"/>
                <a:ext cx="45360" cy="48240"/>
              </a:xfrm>
              <a:custGeom>
                <a:avLst/>
                <a:gdLst>
                  <a:gd name="textAreaLeft" fmla="*/ 0 w 45360"/>
                  <a:gd name="textAreaRight" fmla="*/ 45720 w 45360"/>
                  <a:gd name="textAreaTop" fmla="*/ 0 h 48240"/>
                  <a:gd name="textAreaBottom" fmla="*/ 48600 h 48240"/>
                </a:gdLst>
                <a:ahLst/>
                <a:rect l="textAreaLeft" t="textAreaTop" r="textAreaRight" b="textAreaBottom"/>
                <a:pathLst>
                  <a:path w="285" h="320">
                    <a:moveTo>
                      <a:pt x="0" y="320"/>
                    </a:moveTo>
                    <a:lnTo>
                      <a:pt x="118" y="0"/>
                    </a:lnTo>
                    <a:lnTo>
                      <a:pt x="161" y="0"/>
                    </a:lnTo>
                    <a:lnTo>
                      <a:pt x="285" y="320"/>
                    </a:lnTo>
                    <a:lnTo>
                      <a:pt x="239" y="320"/>
                    </a:lnTo>
                    <a:lnTo>
                      <a:pt x="205" y="223"/>
                    </a:lnTo>
                    <a:lnTo>
                      <a:pt x="76" y="223"/>
                    </a:lnTo>
                    <a:lnTo>
                      <a:pt x="44" y="320"/>
                    </a:lnTo>
                    <a:lnTo>
                      <a:pt x="0" y="320"/>
                    </a:lnTo>
                    <a:close/>
                    <a:moveTo>
                      <a:pt x="88" y="189"/>
                    </a:moveTo>
                    <a:lnTo>
                      <a:pt x="192" y="189"/>
                    </a:lnTo>
                    <a:lnTo>
                      <a:pt x="160" y="100"/>
                    </a:lnTo>
                    <a:lnTo>
                      <a:pt x="153" y="81"/>
                    </a:lnTo>
                    <a:lnTo>
                      <a:pt x="147" y="63"/>
                    </a:lnTo>
                    <a:lnTo>
                      <a:pt x="142" y="48"/>
                    </a:lnTo>
                    <a:lnTo>
                      <a:pt x="138" y="33"/>
                    </a:lnTo>
                    <a:lnTo>
                      <a:pt x="135" y="49"/>
                    </a:lnTo>
                    <a:lnTo>
                      <a:pt x="131" y="64"/>
                    </a:lnTo>
                    <a:lnTo>
                      <a:pt x="127" y="80"/>
                    </a:lnTo>
                    <a:lnTo>
                      <a:pt x="122" y="94"/>
                    </a:lnTo>
                    <a:lnTo>
                      <a:pt x="88" y="189"/>
                    </a:lnTo>
                    <a:close/>
                  </a:path>
                </a:pathLst>
              </a:custGeom>
              <a:solidFill>
                <a:srgbClr val="1f1a17"/>
              </a:solidFill>
              <a:ln w="0">
                <a:noFill/>
              </a:ln>
            </p:spPr>
            <p:style>
              <a:lnRef idx="0"/>
              <a:fillRef idx="0"/>
              <a:effectRef idx="0"/>
              <a:fontRef idx="minor"/>
            </p:style>
            <p:txBody>
              <a:bodyPr lIns="90000" rIns="90000" tIns="3600" bIns="3600" anchor="t">
                <a:noAutofit/>
              </a:bodyPr>
              <a:p>
                <a:pPr>
                  <a:lnSpc>
                    <a:spcPct val="100000"/>
                  </a:lnSpc>
                </a:pPr>
                <a:endParaRPr b="0" lang="en-US" sz="1800" spc="-1" strike="noStrike">
                  <a:solidFill>
                    <a:srgbClr val="000000"/>
                  </a:solidFill>
                  <a:latin typeface="Arial"/>
                  <a:ea typeface="宋体"/>
                </a:endParaRPr>
              </a:p>
            </p:txBody>
          </p:sp>
          <p:sp>
            <p:nvSpPr>
              <p:cNvPr id="227" name="Rectangle 30"/>
              <p:cNvSpPr/>
              <p:nvPr/>
            </p:nvSpPr>
            <p:spPr>
              <a:xfrm>
                <a:off x="3962160" y="1405800"/>
                <a:ext cx="6480" cy="48240"/>
              </a:xfrm>
              <a:prstGeom prst="rect">
                <a:avLst/>
              </a:prstGeom>
              <a:solidFill>
                <a:srgbClr val="1f1a17"/>
              </a:solidFill>
              <a:ln w="0">
                <a:noFill/>
              </a:ln>
            </p:spPr>
            <p:style>
              <a:lnRef idx="0"/>
              <a:fillRef idx="0"/>
              <a:effectRef idx="0"/>
              <a:fontRef idx="minor"/>
            </p:style>
            <p:txBody>
              <a:bodyPr lIns="90000" rIns="90000" tIns="3600" bIns="3600" anchor="t">
                <a:noAutofit/>
              </a:bodyPr>
              <a:p>
                <a:pPr>
                  <a:lnSpc>
                    <a:spcPct val="100000"/>
                  </a:lnSpc>
                </a:pPr>
                <a:endParaRPr b="0" lang="en-US" sz="1800" spc="-1" strike="noStrike">
                  <a:solidFill>
                    <a:srgbClr val="000000"/>
                  </a:solidFill>
                  <a:latin typeface="Arial"/>
                  <a:ea typeface="宋体"/>
                </a:endParaRPr>
              </a:p>
            </p:txBody>
          </p:sp>
          <p:sp>
            <p:nvSpPr>
              <p:cNvPr id="228" name="Freeform 31"/>
              <p:cNvSpPr/>
              <p:nvPr/>
            </p:nvSpPr>
            <p:spPr>
              <a:xfrm>
                <a:off x="4012560" y="1404720"/>
                <a:ext cx="45360" cy="49320"/>
              </a:xfrm>
              <a:custGeom>
                <a:avLst/>
                <a:gdLst>
                  <a:gd name="textAreaLeft" fmla="*/ 0 w 45360"/>
                  <a:gd name="textAreaRight" fmla="*/ 45720 w 45360"/>
                  <a:gd name="textAreaTop" fmla="*/ 0 h 49320"/>
                  <a:gd name="textAreaBottom" fmla="*/ 49680 h 49320"/>
                </a:gdLst>
                <a:ahLst/>
                <a:rect l="textAreaLeft" t="textAreaTop" r="textAreaRight" b="textAreaBottom"/>
                <a:pathLst>
                  <a:path w="282" h="330">
                    <a:moveTo>
                      <a:pt x="153" y="199"/>
                    </a:moveTo>
                    <a:lnTo>
                      <a:pt x="153" y="162"/>
                    </a:lnTo>
                    <a:lnTo>
                      <a:pt x="282" y="162"/>
                    </a:lnTo>
                    <a:lnTo>
                      <a:pt x="282" y="281"/>
                    </a:lnTo>
                    <a:lnTo>
                      <a:pt x="267" y="292"/>
                    </a:lnTo>
                    <a:lnTo>
                      <a:pt x="251" y="302"/>
                    </a:lnTo>
                    <a:lnTo>
                      <a:pt x="237" y="310"/>
                    </a:lnTo>
                    <a:lnTo>
                      <a:pt x="221" y="318"/>
                    </a:lnTo>
                    <a:lnTo>
                      <a:pt x="205" y="323"/>
                    </a:lnTo>
                    <a:lnTo>
                      <a:pt x="189" y="327"/>
                    </a:lnTo>
                    <a:lnTo>
                      <a:pt x="172" y="329"/>
                    </a:lnTo>
                    <a:lnTo>
                      <a:pt x="156" y="330"/>
                    </a:lnTo>
                    <a:lnTo>
                      <a:pt x="145" y="329"/>
                    </a:lnTo>
                    <a:lnTo>
                      <a:pt x="134" y="329"/>
                    </a:lnTo>
                    <a:lnTo>
                      <a:pt x="123" y="327"/>
                    </a:lnTo>
                    <a:lnTo>
                      <a:pt x="113" y="325"/>
                    </a:lnTo>
                    <a:lnTo>
                      <a:pt x="103" y="322"/>
                    </a:lnTo>
                    <a:lnTo>
                      <a:pt x="93" y="319"/>
                    </a:lnTo>
                    <a:lnTo>
                      <a:pt x="83" y="314"/>
                    </a:lnTo>
                    <a:lnTo>
                      <a:pt x="75" y="310"/>
                    </a:lnTo>
                    <a:lnTo>
                      <a:pt x="65" y="305"/>
                    </a:lnTo>
                    <a:lnTo>
                      <a:pt x="57" y="299"/>
                    </a:lnTo>
                    <a:lnTo>
                      <a:pt x="49" y="292"/>
                    </a:lnTo>
                    <a:lnTo>
                      <a:pt x="42" y="285"/>
                    </a:lnTo>
                    <a:lnTo>
                      <a:pt x="35" y="277"/>
                    </a:lnTo>
                    <a:lnTo>
                      <a:pt x="29" y="270"/>
                    </a:lnTo>
                    <a:lnTo>
                      <a:pt x="24" y="260"/>
                    </a:lnTo>
                    <a:lnTo>
                      <a:pt x="18" y="252"/>
                    </a:lnTo>
                    <a:lnTo>
                      <a:pt x="14" y="242"/>
                    </a:lnTo>
                    <a:lnTo>
                      <a:pt x="10" y="232"/>
                    </a:lnTo>
                    <a:lnTo>
                      <a:pt x="7" y="221"/>
                    </a:lnTo>
                    <a:lnTo>
                      <a:pt x="5" y="212"/>
                    </a:lnTo>
                    <a:lnTo>
                      <a:pt x="3" y="200"/>
                    </a:lnTo>
                    <a:lnTo>
                      <a:pt x="2" y="189"/>
                    </a:lnTo>
                    <a:lnTo>
                      <a:pt x="0" y="178"/>
                    </a:lnTo>
                    <a:lnTo>
                      <a:pt x="0" y="166"/>
                    </a:lnTo>
                    <a:lnTo>
                      <a:pt x="0" y="154"/>
                    </a:lnTo>
                    <a:lnTo>
                      <a:pt x="2" y="143"/>
                    </a:lnTo>
                    <a:lnTo>
                      <a:pt x="3" y="132"/>
                    </a:lnTo>
                    <a:lnTo>
                      <a:pt x="5" y="122"/>
                    </a:lnTo>
                    <a:lnTo>
                      <a:pt x="7" y="110"/>
                    </a:lnTo>
                    <a:lnTo>
                      <a:pt x="10" y="99"/>
                    </a:lnTo>
                    <a:lnTo>
                      <a:pt x="14" y="90"/>
                    </a:lnTo>
                    <a:lnTo>
                      <a:pt x="18" y="79"/>
                    </a:lnTo>
                    <a:lnTo>
                      <a:pt x="24" y="70"/>
                    </a:lnTo>
                    <a:lnTo>
                      <a:pt x="29" y="60"/>
                    </a:lnTo>
                    <a:lnTo>
                      <a:pt x="34" y="52"/>
                    </a:lnTo>
                    <a:lnTo>
                      <a:pt x="42" y="44"/>
                    </a:lnTo>
                    <a:lnTo>
                      <a:pt x="48" y="37"/>
                    </a:lnTo>
                    <a:lnTo>
                      <a:pt x="56" y="30"/>
                    </a:lnTo>
                    <a:lnTo>
                      <a:pt x="64" y="24"/>
                    </a:lnTo>
                    <a:lnTo>
                      <a:pt x="72" y="19"/>
                    </a:lnTo>
                    <a:lnTo>
                      <a:pt x="81" y="15"/>
                    </a:lnTo>
                    <a:lnTo>
                      <a:pt x="90" y="10"/>
                    </a:lnTo>
                    <a:lnTo>
                      <a:pt x="100" y="7"/>
                    </a:lnTo>
                    <a:lnTo>
                      <a:pt x="110" y="4"/>
                    </a:lnTo>
                    <a:lnTo>
                      <a:pt x="120" y="2"/>
                    </a:lnTo>
                    <a:lnTo>
                      <a:pt x="131" y="1"/>
                    </a:lnTo>
                    <a:lnTo>
                      <a:pt x="141" y="0"/>
                    </a:lnTo>
                    <a:lnTo>
                      <a:pt x="153" y="0"/>
                    </a:lnTo>
                    <a:lnTo>
                      <a:pt x="169" y="0"/>
                    </a:lnTo>
                    <a:lnTo>
                      <a:pt x="184" y="2"/>
                    </a:lnTo>
                    <a:lnTo>
                      <a:pt x="199" y="6"/>
                    </a:lnTo>
                    <a:lnTo>
                      <a:pt x="212" y="10"/>
                    </a:lnTo>
                    <a:lnTo>
                      <a:pt x="225" y="17"/>
                    </a:lnTo>
                    <a:lnTo>
                      <a:pt x="237" y="24"/>
                    </a:lnTo>
                    <a:lnTo>
                      <a:pt x="246" y="33"/>
                    </a:lnTo>
                    <a:lnTo>
                      <a:pt x="255" y="42"/>
                    </a:lnTo>
                    <a:lnTo>
                      <a:pt x="261" y="53"/>
                    </a:lnTo>
                    <a:lnTo>
                      <a:pt x="267" y="65"/>
                    </a:lnTo>
                    <a:lnTo>
                      <a:pt x="273" y="79"/>
                    </a:lnTo>
                    <a:lnTo>
                      <a:pt x="277" y="94"/>
                    </a:lnTo>
                    <a:lnTo>
                      <a:pt x="241" y="105"/>
                    </a:lnTo>
                    <a:lnTo>
                      <a:pt x="238" y="93"/>
                    </a:lnTo>
                    <a:lnTo>
                      <a:pt x="233" y="82"/>
                    </a:lnTo>
                    <a:lnTo>
                      <a:pt x="229" y="74"/>
                    </a:lnTo>
                    <a:lnTo>
                      <a:pt x="224" y="67"/>
                    </a:lnTo>
                    <a:lnTo>
                      <a:pt x="219" y="60"/>
                    </a:lnTo>
                    <a:lnTo>
                      <a:pt x="211" y="54"/>
                    </a:lnTo>
                    <a:lnTo>
                      <a:pt x="204" y="48"/>
                    </a:lnTo>
                    <a:lnTo>
                      <a:pt x="194" y="44"/>
                    </a:lnTo>
                    <a:lnTo>
                      <a:pt x="185" y="40"/>
                    </a:lnTo>
                    <a:lnTo>
                      <a:pt x="175" y="38"/>
                    </a:lnTo>
                    <a:lnTo>
                      <a:pt x="164" y="36"/>
                    </a:lnTo>
                    <a:lnTo>
                      <a:pt x="153" y="36"/>
                    </a:lnTo>
                    <a:lnTo>
                      <a:pt x="139" y="36"/>
                    </a:lnTo>
                    <a:lnTo>
                      <a:pt x="126" y="38"/>
                    </a:lnTo>
                    <a:lnTo>
                      <a:pt x="116" y="41"/>
                    </a:lnTo>
                    <a:lnTo>
                      <a:pt x="105" y="44"/>
                    </a:lnTo>
                    <a:lnTo>
                      <a:pt x="96" y="50"/>
                    </a:lnTo>
                    <a:lnTo>
                      <a:pt x="86" y="55"/>
                    </a:lnTo>
                    <a:lnTo>
                      <a:pt x="79" y="61"/>
                    </a:lnTo>
                    <a:lnTo>
                      <a:pt x="72" y="68"/>
                    </a:lnTo>
                    <a:lnTo>
                      <a:pt x="66" y="75"/>
                    </a:lnTo>
                    <a:lnTo>
                      <a:pt x="62" y="82"/>
                    </a:lnTo>
                    <a:lnTo>
                      <a:pt x="57" y="91"/>
                    </a:lnTo>
                    <a:lnTo>
                      <a:pt x="53" y="99"/>
                    </a:lnTo>
                    <a:lnTo>
                      <a:pt x="48" y="114"/>
                    </a:lnTo>
                    <a:lnTo>
                      <a:pt x="45" y="130"/>
                    </a:lnTo>
                    <a:lnTo>
                      <a:pt x="43" y="147"/>
                    </a:lnTo>
                    <a:lnTo>
                      <a:pt x="42" y="164"/>
                    </a:lnTo>
                    <a:lnTo>
                      <a:pt x="43" y="184"/>
                    </a:lnTo>
                    <a:lnTo>
                      <a:pt x="45" y="203"/>
                    </a:lnTo>
                    <a:lnTo>
                      <a:pt x="47" y="212"/>
                    </a:lnTo>
                    <a:lnTo>
                      <a:pt x="49" y="220"/>
                    </a:lnTo>
                    <a:lnTo>
                      <a:pt x="52" y="228"/>
                    </a:lnTo>
                    <a:lnTo>
                      <a:pt x="56" y="235"/>
                    </a:lnTo>
                    <a:lnTo>
                      <a:pt x="60" y="242"/>
                    </a:lnTo>
                    <a:lnTo>
                      <a:pt x="63" y="249"/>
                    </a:lnTo>
                    <a:lnTo>
                      <a:pt x="68" y="255"/>
                    </a:lnTo>
                    <a:lnTo>
                      <a:pt x="72" y="260"/>
                    </a:lnTo>
                    <a:lnTo>
                      <a:pt x="78" y="266"/>
                    </a:lnTo>
                    <a:lnTo>
                      <a:pt x="84" y="270"/>
                    </a:lnTo>
                    <a:lnTo>
                      <a:pt x="90" y="274"/>
                    </a:lnTo>
                    <a:lnTo>
                      <a:pt x="97" y="278"/>
                    </a:lnTo>
                    <a:lnTo>
                      <a:pt x="110" y="284"/>
                    </a:lnTo>
                    <a:lnTo>
                      <a:pt x="124" y="288"/>
                    </a:lnTo>
                    <a:lnTo>
                      <a:pt x="138" y="291"/>
                    </a:lnTo>
                    <a:lnTo>
                      <a:pt x="153" y="292"/>
                    </a:lnTo>
                    <a:lnTo>
                      <a:pt x="167" y="291"/>
                    </a:lnTo>
                    <a:lnTo>
                      <a:pt x="179" y="289"/>
                    </a:lnTo>
                    <a:lnTo>
                      <a:pt x="192" y="286"/>
                    </a:lnTo>
                    <a:lnTo>
                      <a:pt x="205" y="282"/>
                    </a:lnTo>
                    <a:lnTo>
                      <a:pt x="217" y="276"/>
                    </a:lnTo>
                    <a:lnTo>
                      <a:pt x="226" y="270"/>
                    </a:lnTo>
                    <a:lnTo>
                      <a:pt x="236" y="265"/>
                    </a:lnTo>
                    <a:lnTo>
                      <a:pt x="242" y="258"/>
                    </a:lnTo>
                    <a:lnTo>
                      <a:pt x="242" y="199"/>
                    </a:lnTo>
                    <a:lnTo>
                      <a:pt x="153" y="199"/>
                    </a:lnTo>
                    <a:close/>
                  </a:path>
                </a:pathLst>
              </a:custGeom>
              <a:solidFill>
                <a:srgbClr val="1f1a17"/>
              </a:solidFill>
              <a:ln w="0">
                <a:noFill/>
              </a:ln>
            </p:spPr>
            <p:style>
              <a:lnRef idx="0"/>
              <a:fillRef idx="0"/>
              <a:effectRef idx="0"/>
              <a:fontRef idx="minor"/>
            </p:style>
            <p:txBody>
              <a:bodyPr lIns="90000" rIns="90000" tIns="4680" bIns="4680" anchor="t">
                <a:noAutofit/>
              </a:bodyPr>
              <a:p>
                <a:pPr>
                  <a:lnSpc>
                    <a:spcPct val="100000"/>
                  </a:lnSpc>
                </a:pPr>
                <a:endParaRPr b="0" lang="en-US" sz="1800" spc="-1" strike="noStrike">
                  <a:solidFill>
                    <a:srgbClr val="000000"/>
                  </a:solidFill>
                  <a:latin typeface="Arial"/>
                  <a:ea typeface="宋体"/>
                </a:endParaRPr>
              </a:p>
            </p:txBody>
          </p:sp>
          <p:sp>
            <p:nvSpPr>
              <p:cNvPr id="229" name="Freeform 32"/>
              <p:cNvSpPr/>
              <p:nvPr/>
            </p:nvSpPr>
            <p:spPr>
              <a:xfrm>
                <a:off x="4069440" y="140472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293" h="331">
                    <a:moveTo>
                      <a:pt x="0" y="170"/>
                    </a:moveTo>
                    <a:lnTo>
                      <a:pt x="1" y="150"/>
                    </a:lnTo>
                    <a:lnTo>
                      <a:pt x="3" y="132"/>
                    </a:lnTo>
                    <a:lnTo>
                      <a:pt x="7" y="115"/>
                    </a:lnTo>
                    <a:lnTo>
                      <a:pt x="11" y="99"/>
                    </a:lnTo>
                    <a:lnTo>
                      <a:pt x="16" y="83"/>
                    </a:lnTo>
                    <a:lnTo>
                      <a:pt x="24" y="70"/>
                    </a:lnTo>
                    <a:lnTo>
                      <a:pt x="32" y="57"/>
                    </a:lnTo>
                    <a:lnTo>
                      <a:pt x="42" y="45"/>
                    </a:lnTo>
                    <a:lnTo>
                      <a:pt x="52" y="35"/>
                    </a:lnTo>
                    <a:lnTo>
                      <a:pt x="64" y="25"/>
                    </a:lnTo>
                    <a:lnTo>
                      <a:pt x="75" y="18"/>
                    </a:lnTo>
                    <a:lnTo>
                      <a:pt x="88" y="11"/>
                    </a:lnTo>
                    <a:lnTo>
                      <a:pt x="102" y="6"/>
                    </a:lnTo>
                    <a:lnTo>
                      <a:pt x="116" y="3"/>
                    </a:lnTo>
                    <a:lnTo>
                      <a:pt x="131" y="1"/>
                    </a:lnTo>
                    <a:lnTo>
                      <a:pt x="146" y="0"/>
                    </a:lnTo>
                    <a:lnTo>
                      <a:pt x="157" y="1"/>
                    </a:lnTo>
                    <a:lnTo>
                      <a:pt x="168" y="2"/>
                    </a:lnTo>
                    <a:lnTo>
                      <a:pt x="177" y="3"/>
                    </a:lnTo>
                    <a:lnTo>
                      <a:pt x="187" y="5"/>
                    </a:lnTo>
                    <a:lnTo>
                      <a:pt x="196" y="8"/>
                    </a:lnTo>
                    <a:lnTo>
                      <a:pt x="206" y="12"/>
                    </a:lnTo>
                    <a:lnTo>
                      <a:pt x="214" y="17"/>
                    </a:lnTo>
                    <a:lnTo>
                      <a:pt x="223" y="21"/>
                    </a:lnTo>
                    <a:lnTo>
                      <a:pt x="231" y="27"/>
                    </a:lnTo>
                    <a:lnTo>
                      <a:pt x="239" y="33"/>
                    </a:lnTo>
                    <a:lnTo>
                      <a:pt x="246" y="40"/>
                    </a:lnTo>
                    <a:lnTo>
                      <a:pt x="252" y="46"/>
                    </a:lnTo>
                    <a:lnTo>
                      <a:pt x="259" y="55"/>
                    </a:lnTo>
                    <a:lnTo>
                      <a:pt x="264" y="62"/>
                    </a:lnTo>
                    <a:lnTo>
                      <a:pt x="269" y="71"/>
                    </a:lnTo>
                    <a:lnTo>
                      <a:pt x="275" y="80"/>
                    </a:lnTo>
                    <a:lnTo>
                      <a:pt x="279" y="90"/>
                    </a:lnTo>
                    <a:lnTo>
                      <a:pt x="282" y="100"/>
                    </a:lnTo>
                    <a:lnTo>
                      <a:pt x="285" y="110"/>
                    </a:lnTo>
                    <a:lnTo>
                      <a:pt x="287" y="120"/>
                    </a:lnTo>
                    <a:lnTo>
                      <a:pt x="289" y="131"/>
                    </a:lnTo>
                    <a:lnTo>
                      <a:pt x="290" y="143"/>
                    </a:lnTo>
                    <a:lnTo>
                      <a:pt x="292" y="154"/>
                    </a:lnTo>
                    <a:lnTo>
                      <a:pt x="293" y="166"/>
                    </a:lnTo>
                    <a:lnTo>
                      <a:pt x="292" y="178"/>
                    </a:lnTo>
                    <a:lnTo>
                      <a:pt x="290" y="189"/>
                    </a:lnTo>
                    <a:lnTo>
                      <a:pt x="289" y="201"/>
                    </a:lnTo>
                    <a:lnTo>
                      <a:pt x="287" y="213"/>
                    </a:lnTo>
                    <a:lnTo>
                      <a:pt x="285" y="223"/>
                    </a:lnTo>
                    <a:lnTo>
                      <a:pt x="282" y="234"/>
                    </a:lnTo>
                    <a:lnTo>
                      <a:pt x="278" y="243"/>
                    </a:lnTo>
                    <a:lnTo>
                      <a:pt x="273" y="253"/>
                    </a:lnTo>
                    <a:lnTo>
                      <a:pt x="268" y="262"/>
                    </a:lnTo>
                    <a:lnTo>
                      <a:pt x="263" y="271"/>
                    </a:lnTo>
                    <a:lnTo>
                      <a:pt x="258" y="279"/>
                    </a:lnTo>
                    <a:lnTo>
                      <a:pt x="251" y="287"/>
                    </a:lnTo>
                    <a:lnTo>
                      <a:pt x="244" y="294"/>
                    </a:lnTo>
                    <a:lnTo>
                      <a:pt x="236" y="301"/>
                    </a:lnTo>
                    <a:lnTo>
                      <a:pt x="229" y="306"/>
                    </a:lnTo>
                    <a:lnTo>
                      <a:pt x="221" y="311"/>
                    </a:lnTo>
                    <a:lnTo>
                      <a:pt x="212" y="315"/>
                    </a:lnTo>
                    <a:lnTo>
                      <a:pt x="203" y="320"/>
                    </a:lnTo>
                    <a:lnTo>
                      <a:pt x="194" y="323"/>
                    </a:lnTo>
                    <a:lnTo>
                      <a:pt x="185" y="326"/>
                    </a:lnTo>
                    <a:lnTo>
                      <a:pt x="175" y="328"/>
                    </a:lnTo>
                    <a:lnTo>
                      <a:pt x="165" y="330"/>
                    </a:lnTo>
                    <a:lnTo>
                      <a:pt x="156" y="330"/>
                    </a:lnTo>
                    <a:lnTo>
                      <a:pt x="146" y="331"/>
                    </a:lnTo>
                    <a:lnTo>
                      <a:pt x="136" y="330"/>
                    </a:lnTo>
                    <a:lnTo>
                      <a:pt x="125" y="329"/>
                    </a:lnTo>
                    <a:lnTo>
                      <a:pt x="116" y="328"/>
                    </a:lnTo>
                    <a:lnTo>
                      <a:pt x="106" y="326"/>
                    </a:lnTo>
                    <a:lnTo>
                      <a:pt x="97" y="323"/>
                    </a:lnTo>
                    <a:lnTo>
                      <a:pt x="87" y="319"/>
                    </a:lnTo>
                    <a:lnTo>
                      <a:pt x="79" y="314"/>
                    </a:lnTo>
                    <a:lnTo>
                      <a:pt x="69" y="309"/>
                    </a:lnTo>
                    <a:lnTo>
                      <a:pt x="62" y="304"/>
                    </a:lnTo>
                    <a:lnTo>
                      <a:pt x="53" y="297"/>
                    </a:lnTo>
                    <a:lnTo>
                      <a:pt x="47" y="291"/>
                    </a:lnTo>
                    <a:lnTo>
                      <a:pt x="39" y="284"/>
                    </a:lnTo>
                    <a:lnTo>
                      <a:pt x="33" y="276"/>
                    </a:lnTo>
                    <a:lnTo>
                      <a:pt x="28" y="268"/>
                    </a:lnTo>
                    <a:lnTo>
                      <a:pt x="22" y="259"/>
                    </a:lnTo>
                    <a:lnTo>
                      <a:pt x="18" y="250"/>
                    </a:lnTo>
                    <a:lnTo>
                      <a:pt x="14" y="240"/>
                    </a:lnTo>
                    <a:lnTo>
                      <a:pt x="11" y="231"/>
                    </a:lnTo>
                    <a:lnTo>
                      <a:pt x="8" y="221"/>
                    </a:lnTo>
                    <a:lnTo>
                      <a:pt x="6" y="211"/>
                    </a:lnTo>
                    <a:lnTo>
                      <a:pt x="3" y="201"/>
                    </a:lnTo>
                    <a:lnTo>
                      <a:pt x="1" y="190"/>
                    </a:lnTo>
                    <a:lnTo>
                      <a:pt x="1" y="180"/>
                    </a:lnTo>
                    <a:lnTo>
                      <a:pt x="0" y="170"/>
                    </a:lnTo>
                    <a:close/>
                    <a:moveTo>
                      <a:pt x="43" y="170"/>
                    </a:moveTo>
                    <a:lnTo>
                      <a:pt x="43" y="185"/>
                    </a:lnTo>
                    <a:lnTo>
                      <a:pt x="44" y="198"/>
                    </a:lnTo>
                    <a:lnTo>
                      <a:pt x="47" y="211"/>
                    </a:lnTo>
                    <a:lnTo>
                      <a:pt x="50" y="222"/>
                    </a:lnTo>
                    <a:lnTo>
                      <a:pt x="54" y="233"/>
                    </a:lnTo>
                    <a:lnTo>
                      <a:pt x="58" y="243"/>
                    </a:lnTo>
                    <a:lnTo>
                      <a:pt x="65" y="253"/>
                    </a:lnTo>
                    <a:lnTo>
                      <a:pt x="72" y="261"/>
                    </a:lnTo>
                    <a:lnTo>
                      <a:pt x="80" y="270"/>
                    </a:lnTo>
                    <a:lnTo>
                      <a:pt x="88" y="276"/>
                    </a:lnTo>
                    <a:lnTo>
                      <a:pt x="97" y="282"/>
                    </a:lnTo>
                    <a:lnTo>
                      <a:pt x="105" y="287"/>
                    </a:lnTo>
                    <a:lnTo>
                      <a:pt x="115" y="290"/>
                    </a:lnTo>
                    <a:lnTo>
                      <a:pt x="125" y="293"/>
                    </a:lnTo>
                    <a:lnTo>
                      <a:pt x="135" y="294"/>
                    </a:lnTo>
                    <a:lnTo>
                      <a:pt x="146" y="295"/>
                    </a:lnTo>
                    <a:lnTo>
                      <a:pt x="157" y="294"/>
                    </a:lnTo>
                    <a:lnTo>
                      <a:pt x="168" y="293"/>
                    </a:lnTo>
                    <a:lnTo>
                      <a:pt x="178" y="290"/>
                    </a:lnTo>
                    <a:lnTo>
                      <a:pt x="188" y="287"/>
                    </a:lnTo>
                    <a:lnTo>
                      <a:pt x="197" y="282"/>
                    </a:lnTo>
                    <a:lnTo>
                      <a:pt x="206" y="276"/>
                    </a:lnTo>
                    <a:lnTo>
                      <a:pt x="213" y="269"/>
                    </a:lnTo>
                    <a:lnTo>
                      <a:pt x="222" y="261"/>
                    </a:lnTo>
                    <a:lnTo>
                      <a:pt x="228" y="253"/>
                    </a:lnTo>
                    <a:lnTo>
                      <a:pt x="234" y="242"/>
                    </a:lnTo>
                    <a:lnTo>
                      <a:pt x="239" y="232"/>
                    </a:lnTo>
                    <a:lnTo>
                      <a:pt x="243" y="221"/>
                    </a:lnTo>
                    <a:lnTo>
                      <a:pt x="246" y="208"/>
                    </a:lnTo>
                    <a:lnTo>
                      <a:pt x="249" y="195"/>
                    </a:lnTo>
                    <a:lnTo>
                      <a:pt x="250" y="181"/>
                    </a:lnTo>
                    <a:lnTo>
                      <a:pt x="250" y="166"/>
                    </a:lnTo>
                    <a:lnTo>
                      <a:pt x="250" y="147"/>
                    </a:lnTo>
                    <a:lnTo>
                      <a:pt x="247" y="129"/>
                    </a:lnTo>
                    <a:lnTo>
                      <a:pt x="244" y="113"/>
                    </a:lnTo>
                    <a:lnTo>
                      <a:pt x="237" y="98"/>
                    </a:lnTo>
                    <a:lnTo>
                      <a:pt x="231" y="84"/>
                    </a:lnTo>
                    <a:lnTo>
                      <a:pt x="223" y="72"/>
                    </a:lnTo>
                    <a:lnTo>
                      <a:pt x="217" y="66"/>
                    </a:lnTo>
                    <a:lnTo>
                      <a:pt x="212" y="61"/>
                    </a:lnTo>
                    <a:lnTo>
                      <a:pt x="207" y="57"/>
                    </a:lnTo>
                    <a:lnTo>
                      <a:pt x="201" y="53"/>
                    </a:lnTo>
                    <a:lnTo>
                      <a:pt x="189" y="45"/>
                    </a:lnTo>
                    <a:lnTo>
                      <a:pt x="175" y="41"/>
                    </a:lnTo>
                    <a:lnTo>
                      <a:pt x="161" y="38"/>
                    </a:lnTo>
                    <a:lnTo>
                      <a:pt x="146" y="37"/>
                    </a:lnTo>
                    <a:lnTo>
                      <a:pt x="136" y="37"/>
                    </a:lnTo>
                    <a:lnTo>
                      <a:pt x="126" y="39"/>
                    </a:lnTo>
                    <a:lnTo>
                      <a:pt x="117" y="41"/>
                    </a:lnTo>
                    <a:lnTo>
                      <a:pt x="107" y="44"/>
                    </a:lnTo>
                    <a:lnTo>
                      <a:pt x="98" y="48"/>
                    </a:lnTo>
                    <a:lnTo>
                      <a:pt x="89" y="54"/>
                    </a:lnTo>
                    <a:lnTo>
                      <a:pt x="81" y="60"/>
                    </a:lnTo>
                    <a:lnTo>
                      <a:pt x="73" y="68"/>
                    </a:lnTo>
                    <a:lnTo>
                      <a:pt x="66" y="76"/>
                    </a:lnTo>
                    <a:lnTo>
                      <a:pt x="60" y="86"/>
                    </a:lnTo>
                    <a:lnTo>
                      <a:pt x="54" y="96"/>
                    </a:lnTo>
                    <a:lnTo>
                      <a:pt x="50" y="109"/>
                    </a:lnTo>
                    <a:lnTo>
                      <a:pt x="47" y="123"/>
                    </a:lnTo>
                    <a:lnTo>
                      <a:pt x="45" y="137"/>
                    </a:lnTo>
                    <a:lnTo>
                      <a:pt x="43" y="153"/>
                    </a:lnTo>
                    <a:lnTo>
                      <a:pt x="43" y="170"/>
                    </a:lnTo>
                    <a:close/>
                  </a:path>
                </a:pathLst>
              </a:custGeom>
              <a:solidFill>
                <a:srgbClr val="1f1a17"/>
              </a:solidFill>
              <a:ln w="0">
                <a:noFill/>
              </a:ln>
            </p:spPr>
            <p:style>
              <a:lnRef idx="0"/>
              <a:fillRef idx="0"/>
              <a:effectRef idx="0"/>
              <a:fontRef idx="minor"/>
            </p:style>
            <p:txBody>
              <a:bodyPr lIns="90000" rIns="90000" tIns="4680" bIns="4680" anchor="t">
                <a:noAutofit/>
              </a:bodyPr>
              <a:p>
                <a:pPr>
                  <a:lnSpc>
                    <a:spcPct val="100000"/>
                  </a:lnSpc>
                </a:pPr>
                <a:endParaRPr b="0" lang="en-US" sz="1800" spc="-1" strike="noStrike">
                  <a:solidFill>
                    <a:srgbClr val="000000"/>
                  </a:solidFill>
                  <a:latin typeface="Arial"/>
                  <a:ea typeface="宋体"/>
                </a:endParaRPr>
              </a:p>
            </p:txBody>
          </p:sp>
          <p:sp>
            <p:nvSpPr>
              <p:cNvPr id="230" name="Freeform 33"/>
              <p:cNvSpPr/>
              <p:nvPr/>
            </p:nvSpPr>
            <p:spPr>
              <a:xfrm>
                <a:off x="4128840" y="1405800"/>
                <a:ext cx="29880" cy="48240"/>
              </a:xfrm>
              <a:custGeom>
                <a:avLst/>
                <a:gdLst>
                  <a:gd name="textAreaLeft" fmla="*/ 0 w 29880"/>
                  <a:gd name="textAreaRight" fmla="*/ 30240 w 29880"/>
                  <a:gd name="textAreaTop" fmla="*/ 0 h 48240"/>
                  <a:gd name="textAreaBottom" fmla="*/ 48600 h 48240"/>
                </a:gdLst>
                <a:ahLst/>
                <a:rect l="textAreaLeft" t="textAreaTop" r="textAreaRight" b="textAreaBottom"/>
                <a:pathLst>
                  <a:path w="190" h="320">
                    <a:moveTo>
                      <a:pt x="0" y="320"/>
                    </a:moveTo>
                    <a:lnTo>
                      <a:pt x="0" y="0"/>
                    </a:lnTo>
                    <a:lnTo>
                      <a:pt x="40" y="0"/>
                    </a:lnTo>
                    <a:lnTo>
                      <a:pt x="40" y="282"/>
                    </a:lnTo>
                    <a:lnTo>
                      <a:pt x="190" y="282"/>
                    </a:lnTo>
                    <a:lnTo>
                      <a:pt x="190" y="320"/>
                    </a:lnTo>
                    <a:lnTo>
                      <a:pt x="0" y="320"/>
                    </a:lnTo>
                    <a:close/>
                  </a:path>
                </a:pathLst>
              </a:custGeom>
              <a:solidFill>
                <a:srgbClr val="1f1a17"/>
              </a:solidFill>
              <a:ln w="0">
                <a:noFill/>
              </a:ln>
            </p:spPr>
            <p:style>
              <a:lnRef idx="0"/>
              <a:fillRef idx="0"/>
              <a:effectRef idx="0"/>
              <a:fontRef idx="minor"/>
            </p:style>
            <p:txBody>
              <a:bodyPr lIns="90000" rIns="90000" tIns="3600" bIns="3600" anchor="t">
                <a:noAutofit/>
              </a:bodyPr>
              <a:p>
                <a:pPr>
                  <a:lnSpc>
                    <a:spcPct val="100000"/>
                  </a:lnSpc>
                </a:pPr>
                <a:endParaRPr b="0" lang="en-US" sz="1800" spc="-1" strike="noStrike">
                  <a:solidFill>
                    <a:srgbClr val="000000"/>
                  </a:solidFill>
                  <a:latin typeface="Arial"/>
                  <a:ea typeface="宋体"/>
                </a:endParaRPr>
              </a:p>
            </p:txBody>
          </p:sp>
          <p:sp>
            <p:nvSpPr>
              <p:cNvPr id="231" name="Freeform 34"/>
              <p:cNvSpPr/>
              <p:nvPr/>
            </p:nvSpPr>
            <p:spPr>
              <a:xfrm>
                <a:off x="4170240" y="1405800"/>
                <a:ext cx="39960" cy="48240"/>
              </a:xfrm>
              <a:custGeom>
                <a:avLst/>
                <a:gdLst>
                  <a:gd name="textAreaLeft" fmla="*/ 0 w 39960"/>
                  <a:gd name="textAreaRight" fmla="*/ 40320 w 39960"/>
                  <a:gd name="textAreaTop" fmla="*/ 0 h 48240"/>
                  <a:gd name="textAreaBottom" fmla="*/ 48600 h 48240"/>
                </a:gdLst>
                <a:ahLst/>
                <a:rect l="textAreaLeft" t="textAreaTop" r="textAreaRight" b="textAreaBottom"/>
                <a:pathLst>
                  <a:path w="251" h="320">
                    <a:moveTo>
                      <a:pt x="0" y="320"/>
                    </a:moveTo>
                    <a:lnTo>
                      <a:pt x="0" y="0"/>
                    </a:lnTo>
                    <a:lnTo>
                      <a:pt x="104" y="0"/>
                    </a:lnTo>
                    <a:lnTo>
                      <a:pt x="120" y="0"/>
                    </a:lnTo>
                    <a:lnTo>
                      <a:pt x="135" y="1"/>
                    </a:lnTo>
                    <a:lnTo>
                      <a:pt x="148" y="2"/>
                    </a:lnTo>
                    <a:lnTo>
                      <a:pt x="158" y="4"/>
                    </a:lnTo>
                    <a:lnTo>
                      <a:pt x="171" y="9"/>
                    </a:lnTo>
                    <a:lnTo>
                      <a:pt x="183" y="14"/>
                    </a:lnTo>
                    <a:lnTo>
                      <a:pt x="193" y="20"/>
                    </a:lnTo>
                    <a:lnTo>
                      <a:pt x="203" y="28"/>
                    </a:lnTo>
                    <a:lnTo>
                      <a:pt x="215" y="39"/>
                    </a:lnTo>
                    <a:lnTo>
                      <a:pt x="224" y="52"/>
                    </a:lnTo>
                    <a:lnTo>
                      <a:pt x="233" y="66"/>
                    </a:lnTo>
                    <a:lnTo>
                      <a:pt x="239" y="82"/>
                    </a:lnTo>
                    <a:lnTo>
                      <a:pt x="244" y="100"/>
                    </a:lnTo>
                    <a:lnTo>
                      <a:pt x="248" y="118"/>
                    </a:lnTo>
                    <a:lnTo>
                      <a:pt x="251" y="137"/>
                    </a:lnTo>
                    <a:lnTo>
                      <a:pt x="251" y="158"/>
                    </a:lnTo>
                    <a:lnTo>
                      <a:pt x="251" y="176"/>
                    </a:lnTo>
                    <a:lnTo>
                      <a:pt x="250" y="192"/>
                    </a:lnTo>
                    <a:lnTo>
                      <a:pt x="246" y="208"/>
                    </a:lnTo>
                    <a:lnTo>
                      <a:pt x="243" y="223"/>
                    </a:lnTo>
                    <a:lnTo>
                      <a:pt x="239" y="236"/>
                    </a:lnTo>
                    <a:lnTo>
                      <a:pt x="234" y="248"/>
                    </a:lnTo>
                    <a:lnTo>
                      <a:pt x="228" y="260"/>
                    </a:lnTo>
                    <a:lnTo>
                      <a:pt x="222" y="269"/>
                    </a:lnTo>
                    <a:lnTo>
                      <a:pt x="216" y="278"/>
                    </a:lnTo>
                    <a:lnTo>
                      <a:pt x="209" y="286"/>
                    </a:lnTo>
                    <a:lnTo>
                      <a:pt x="202" y="293"/>
                    </a:lnTo>
                    <a:lnTo>
                      <a:pt x="194" y="298"/>
                    </a:lnTo>
                    <a:lnTo>
                      <a:pt x="186" y="303"/>
                    </a:lnTo>
                    <a:lnTo>
                      <a:pt x="178" y="307"/>
                    </a:lnTo>
                    <a:lnTo>
                      <a:pt x="168" y="312"/>
                    </a:lnTo>
                    <a:lnTo>
                      <a:pt x="158" y="314"/>
                    </a:lnTo>
                    <a:lnTo>
                      <a:pt x="147" y="317"/>
                    </a:lnTo>
                    <a:lnTo>
                      <a:pt x="135" y="318"/>
                    </a:lnTo>
                    <a:lnTo>
                      <a:pt x="122" y="319"/>
                    </a:lnTo>
                    <a:lnTo>
                      <a:pt x="109" y="320"/>
                    </a:lnTo>
                    <a:lnTo>
                      <a:pt x="0" y="320"/>
                    </a:lnTo>
                    <a:close/>
                    <a:moveTo>
                      <a:pt x="40" y="282"/>
                    </a:moveTo>
                    <a:lnTo>
                      <a:pt x="104" y="282"/>
                    </a:lnTo>
                    <a:lnTo>
                      <a:pt x="119" y="282"/>
                    </a:lnTo>
                    <a:lnTo>
                      <a:pt x="131" y="281"/>
                    </a:lnTo>
                    <a:lnTo>
                      <a:pt x="143" y="279"/>
                    </a:lnTo>
                    <a:lnTo>
                      <a:pt x="152" y="276"/>
                    </a:lnTo>
                    <a:lnTo>
                      <a:pt x="159" y="272"/>
                    </a:lnTo>
                    <a:lnTo>
                      <a:pt x="167" y="269"/>
                    </a:lnTo>
                    <a:lnTo>
                      <a:pt x="173" y="265"/>
                    </a:lnTo>
                    <a:lnTo>
                      <a:pt x="180" y="260"/>
                    </a:lnTo>
                    <a:lnTo>
                      <a:pt x="186" y="251"/>
                    </a:lnTo>
                    <a:lnTo>
                      <a:pt x="192" y="242"/>
                    </a:lnTo>
                    <a:lnTo>
                      <a:pt x="198" y="231"/>
                    </a:lnTo>
                    <a:lnTo>
                      <a:pt x="202" y="219"/>
                    </a:lnTo>
                    <a:lnTo>
                      <a:pt x="205" y="206"/>
                    </a:lnTo>
                    <a:lnTo>
                      <a:pt x="207" y="191"/>
                    </a:lnTo>
                    <a:lnTo>
                      <a:pt x="209" y="175"/>
                    </a:lnTo>
                    <a:lnTo>
                      <a:pt x="209" y="157"/>
                    </a:lnTo>
                    <a:lnTo>
                      <a:pt x="209" y="145"/>
                    </a:lnTo>
                    <a:lnTo>
                      <a:pt x="208" y="134"/>
                    </a:lnTo>
                    <a:lnTo>
                      <a:pt x="207" y="123"/>
                    </a:lnTo>
                    <a:lnTo>
                      <a:pt x="206" y="113"/>
                    </a:lnTo>
                    <a:lnTo>
                      <a:pt x="203" y="104"/>
                    </a:lnTo>
                    <a:lnTo>
                      <a:pt x="201" y="95"/>
                    </a:lnTo>
                    <a:lnTo>
                      <a:pt x="198" y="87"/>
                    </a:lnTo>
                    <a:lnTo>
                      <a:pt x="193" y="81"/>
                    </a:lnTo>
                    <a:lnTo>
                      <a:pt x="186" y="68"/>
                    </a:lnTo>
                    <a:lnTo>
                      <a:pt x="176" y="57"/>
                    </a:lnTo>
                    <a:lnTo>
                      <a:pt x="171" y="53"/>
                    </a:lnTo>
                    <a:lnTo>
                      <a:pt x="167" y="50"/>
                    </a:lnTo>
                    <a:lnTo>
                      <a:pt x="162" y="47"/>
                    </a:lnTo>
                    <a:lnTo>
                      <a:pt x="155" y="45"/>
                    </a:lnTo>
                    <a:lnTo>
                      <a:pt x="147" y="41"/>
                    </a:lnTo>
                    <a:lnTo>
                      <a:pt x="134" y="39"/>
                    </a:lnTo>
                    <a:lnTo>
                      <a:pt x="120" y="38"/>
                    </a:lnTo>
                    <a:lnTo>
                      <a:pt x="103" y="37"/>
                    </a:lnTo>
                    <a:lnTo>
                      <a:pt x="40" y="37"/>
                    </a:lnTo>
                    <a:lnTo>
                      <a:pt x="40" y="282"/>
                    </a:lnTo>
                    <a:close/>
                  </a:path>
                </a:pathLst>
              </a:custGeom>
              <a:solidFill>
                <a:srgbClr val="1f1a17"/>
              </a:solidFill>
              <a:ln w="0">
                <a:noFill/>
              </a:ln>
            </p:spPr>
            <p:style>
              <a:lnRef idx="0"/>
              <a:fillRef idx="0"/>
              <a:effectRef idx="0"/>
              <a:fontRef idx="minor"/>
            </p:style>
            <p:txBody>
              <a:bodyPr lIns="90000" rIns="90000" tIns="3600" bIns="3600" anchor="t">
                <a:noAutofit/>
              </a:bodyPr>
              <a:p>
                <a:pPr>
                  <a:lnSpc>
                    <a:spcPct val="100000"/>
                  </a:lnSpc>
                </a:pPr>
                <a:endParaRPr b="0" lang="en-US" sz="1800" spc="-1" strike="noStrike">
                  <a:solidFill>
                    <a:srgbClr val="000000"/>
                  </a:solidFill>
                  <a:latin typeface="Arial"/>
                  <a:ea typeface="宋体"/>
                </a:endParaRPr>
              </a:p>
            </p:txBody>
          </p:sp>
          <p:sp>
            <p:nvSpPr>
              <p:cNvPr id="232" name="Freeform 35"/>
              <p:cNvSpPr/>
              <p:nvPr/>
            </p:nvSpPr>
            <p:spPr>
              <a:xfrm>
                <a:off x="4241520" y="1404720"/>
                <a:ext cx="43200" cy="49320"/>
              </a:xfrm>
              <a:custGeom>
                <a:avLst/>
                <a:gdLst>
                  <a:gd name="textAreaLeft" fmla="*/ 0 w 43200"/>
                  <a:gd name="textAreaRight" fmla="*/ 43560 w 43200"/>
                  <a:gd name="textAreaTop" fmla="*/ 0 h 49320"/>
                  <a:gd name="textAreaBottom" fmla="*/ 49680 h 49320"/>
                </a:gdLst>
                <a:ahLst/>
                <a:rect l="textAreaLeft" t="textAreaTop" r="textAreaRight" b="textAreaBottom"/>
                <a:pathLst>
                  <a:path w="269" h="330">
                    <a:moveTo>
                      <a:pt x="228" y="213"/>
                    </a:moveTo>
                    <a:lnTo>
                      <a:pt x="269" y="223"/>
                    </a:lnTo>
                    <a:lnTo>
                      <a:pt x="265" y="236"/>
                    </a:lnTo>
                    <a:lnTo>
                      <a:pt x="261" y="248"/>
                    </a:lnTo>
                    <a:lnTo>
                      <a:pt x="257" y="258"/>
                    </a:lnTo>
                    <a:lnTo>
                      <a:pt x="252" y="269"/>
                    </a:lnTo>
                    <a:lnTo>
                      <a:pt x="245" y="278"/>
                    </a:lnTo>
                    <a:lnTo>
                      <a:pt x="239" y="288"/>
                    </a:lnTo>
                    <a:lnTo>
                      <a:pt x="232" y="295"/>
                    </a:lnTo>
                    <a:lnTo>
                      <a:pt x="223" y="303"/>
                    </a:lnTo>
                    <a:lnTo>
                      <a:pt x="215" y="309"/>
                    </a:lnTo>
                    <a:lnTo>
                      <a:pt x="206" y="314"/>
                    </a:lnTo>
                    <a:lnTo>
                      <a:pt x="197" y="320"/>
                    </a:lnTo>
                    <a:lnTo>
                      <a:pt x="187" y="323"/>
                    </a:lnTo>
                    <a:lnTo>
                      <a:pt x="176" y="326"/>
                    </a:lnTo>
                    <a:lnTo>
                      <a:pt x="166" y="328"/>
                    </a:lnTo>
                    <a:lnTo>
                      <a:pt x="154" y="329"/>
                    </a:lnTo>
                    <a:lnTo>
                      <a:pt x="143" y="330"/>
                    </a:lnTo>
                    <a:lnTo>
                      <a:pt x="131" y="329"/>
                    </a:lnTo>
                    <a:lnTo>
                      <a:pt x="119" y="329"/>
                    </a:lnTo>
                    <a:lnTo>
                      <a:pt x="109" y="327"/>
                    </a:lnTo>
                    <a:lnTo>
                      <a:pt x="98" y="325"/>
                    </a:lnTo>
                    <a:lnTo>
                      <a:pt x="89" y="322"/>
                    </a:lnTo>
                    <a:lnTo>
                      <a:pt x="79" y="319"/>
                    </a:lnTo>
                    <a:lnTo>
                      <a:pt x="71" y="314"/>
                    </a:lnTo>
                    <a:lnTo>
                      <a:pt x="63" y="309"/>
                    </a:lnTo>
                    <a:lnTo>
                      <a:pt x="55" y="304"/>
                    </a:lnTo>
                    <a:lnTo>
                      <a:pt x="48" y="298"/>
                    </a:lnTo>
                    <a:lnTo>
                      <a:pt x="42" y="290"/>
                    </a:lnTo>
                    <a:lnTo>
                      <a:pt x="36" y="284"/>
                    </a:lnTo>
                    <a:lnTo>
                      <a:pt x="30" y="275"/>
                    </a:lnTo>
                    <a:lnTo>
                      <a:pt x="25" y="267"/>
                    </a:lnTo>
                    <a:lnTo>
                      <a:pt x="20" y="257"/>
                    </a:lnTo>
                    <a:lnTo>
                      <a:pt x="15" y="248"/>
                    </a:lnTo>
                    <a:lnTo>
                      <a:pt x="12" y="238"/>
                    </a:lnTo>
                    <a:lnTo>
                      <a:pt x="9" y="228"/>
                    </a:lnTo>
                    <a:lnTo>
                      <a:pt x="6" y="217"/>
                    </a:lnTo>
                    <a:lnTo>
                      <a:pt x="4" y="206"/>
                    </a:lnTo>
                    <a:lnTo>
                      <a:pt x="2" y="196"/>
                    </a:lnTo>
                    <a:lnTo>
                      <a:pt x="1" y="185"/>
                    </a:lnTo>
                    <a:lnTo>
                      <a:pt x="0" y="174"/>
                    </a:lnTo>
                    <a:lnTo>
                      <a:pt x="0" y="162"/>
                    </a:lnTo>
                    <a:lnTo>
                      <a:pt x="0" y="150"/>
                    </a:lnTo>
                    <a:lnTo>
                      <a:pt x="1" y="139"/>
                    </a:lnTo>
                    <a:lnTo>
                      <a:pt x="2" y="127"/>
                    </a:lnTo>
                    <a:lnTo>
                      <a:pt x="4" y="115"/>
                    </a:lnTo>
                    <a:lnTo>
                      <a:pt x="7" y="105"/>
                    </a:lnTo>
                    <a:lnTo>
                      <a:pt x="10" y="95"/>
                    </a:lnTo>
                    <a:lnTo>
                      <a:pt x="13" y="85"/>
                    </a:lnTo>
                    <a:lnTo>
                      <a:pt x="18" y="75"/>
                    </a:lnTo>
                    <a:lnTo>
                      <a:pt x="23" y="67"/>
                    </a:lnTo>
                    <a:lnTo>
                      <a:pt x="28" y="58"/>
                    </a:lnTo>
                    <a:lnTo>
                      <a:pt x="33" y="50"/>
                    </a:lnTo>
                    <a:lnTo>
                      <a:pt x="40" y="42"/>
                    </a:lnTo>
                    <a:lnTo>
                      <a:pt x="46" y="36"/>
                    </a:lnTo>
                    <a:lnTo>
                      <a:pt x="54" y="29"/>
                    </a:lnTo>
                    <a:lnTo>
                      <a:pt x="61" y="24"/>
                    </a:lnTo>
                    <a:lnTo>
                      <a:pt x="70" y="19"/>
                    </a:lnTo>
                    <a:lnTo>
                      <a:pt x="78" y="15"/>
                    </a:lnTo>
                    <a:lnTo>
                      <a:pt x="86" y="10"/>
                    </a:lnTo>
                    <a:lnTo>
                      <a:pt x="96" y="7"/>
                    </a:lnTo>
                    <a:lnTo>
                      <a:pt x="104" y="4"/>
                    </a:lnTo>
                    <a:lnTo>
                      <a:pt x="114" y="2"/>
                    </a:lnTo>
                    <a:lnTo>
                      <a:pt x="124" y="1"/>
                    </a:lnTo>
                    <a:lnTo>
                      <a:pt x="133" y="0"/>
                    </a:lnTo>
                    <a:lnTo>
                      <a:pt x="144" y="0"/>
                    </a:lnTo>
                    <a:lnTo>
                      <a:pt x="154" y="0"/>
                    </a:lnTo>
                    <a:lnTo>
                      <a:pt x="165" y="1"/>
                    </a:lnTo>
                    <a:lnTo>
                      <a:pt x="175" y="3"/>
                    </a:lnTo>
                    <a:lnTo>
                      <a:pt x="185" y="5"/>
                    </a:lnTo>
                    <a:lnTo>
                      <a:pt x="194" y="9"/>
                    </a:lnTo>
                    <a:lnTo>
                      <a:pt x="204" y="14"/>
                    </a:lnTo>
                    <a:lnTo>
                      <a:pt x="212" y="18"/>
                    </a:lnTo>
                    <a:lnTo>
                      <a:pt x="220" y="24"/>
                    </a:lnTo>
                    <a:lnTo>
                      <a:pt x="227" y="30"/>
                    </a:lnTo>
                    <a:lnTo>
                      <a:pt x="235" y="37"/>
                    </a:lnTo>
                    <a:lnTo>
                      <a:pt x="241" y="45"/>
                    </a:lnTo>
                    <a:lnTo>
                      <a:pt x="246" y="53"/>
                    </a:lnTo>
                    <a:lnTo>
                      <a:pt x="252" y="62"/>
                    </a:lnTo>
                    <a:lnTo>
                      <a:pt x="256" y="72"/>
                    </a:lnTo>
                    <a:lnTo>
                      <a:pt x="260" y="81"/>
                    </a:lnTo>
                    <a:lnTo>
                      <a:pt x="263" y="93"/>
                    </a:lnTo>
                    <a:lnTo>
                      <a:pt x="224" y="103"/>
                    </a:lnTo>
                    <a:lnTo>
                      <a:pt x="218" y="86"/>
                    </a:lnTo>
                    <a:lnTo>
                      <a:pt x="211" y="72"/>
                    </a:lnTo>
                    <a:lnTo>
                      <a:pt x="207" y="67"/>
                    </a:lnTo>
                    <a:lnTo>
                      <a:pt x="203" y="61"/>
                    </a:lnTo>
                    <a:lnTo>
                      <a:pt x="198" y="56"/>
                    </a:lnTo>
                    <a:lnTo>
                      <a:pt x="193" y="52"/>
                    </a:lnTo>
                    <a:lnTo>
                      <a:pt x="188" y="47"/>
                    </a:lnTo>
                    <a:lnTo>
                      <a:pt x="183" y="44"/>
                    </a:lnTo>
                    <a:lnTo>
                      <a:pt x="176" y="42"/>
                    </a:lnTo>
                    <a:lnTo>
                      <a:pt x="170" y="40"/>
                    </a:lnTo>
                    <a:lnTo>
                      <a:pt x="164" y="38"/>
                    </a:lnTo>
                    <a:lnTo>
                      <a:pt x="157" y="37"/>
                    </a:lnTo>
                    <a:lnTo>
                      <a:pt x="150" y="36"/>
                    </a:lnTo>
                    <a:lnTo>
                      <a:pt x="143" y="36"/>
                    </a:lnTo>
                    <a:lnTo>
                      <a:pt x="134" y="36"/>
                    </a:lnTo>
                    <a:lnTo>
                      <a:pt x="126" y="37"/>
                    </a:lnTo>
                    <a:lnTo>
                      <a:pt x="118" y="38"/>
                    </a:lnTo>
                    <a:lnTo>
                      <a:pt x="111" y="40"/>
                    </a:lnTo>
                    <a:lnTo>
                      <a:pt x="103" y="42"/>
                    </a:lnTo>
                    <a:lnTo>
                      <a:pt x="96" y="45"/>
                    </a:lnTo>
                    <a:lnTo>
                      <a:pt x="90" y="50"/>
                    </a:lnTo>
                    <a:lnTo>
                      <a:pt x="84" y="53"/>
                    </a:lnTo>
                    <a:lnTo>
                      <a:pt x="78" y="58"/>
                    </a:lnTo>
                    <a:lnTo>
                      <a:pt x="73" y="63"/>
                    </a:lnTo>
                    <a:lnTo>
                      <a:pt x="68" y="69"/>
                    </a:lnTo>
                    <a:lnTo>
                      <a:pt x="64" y="74"/>
                    </a:lnTo>
                    <a:lnTo>
                      <a:pt x="60" y="80"/>
                    </a:lnTo>
                    <a:lnTo>
                      <a:pt x="57" y="87"/>
                    </a:lnTo>
                    <a:lnTo>
                      <a:pt x="54" y="93"/>
                    </a:lnTo>
                    <a:lnTo>
                      <a:pt x="50" y="100"/>
                    </a:lnTo>
                    <a:lnTo>
                      <a:pt x="46" y="115"/>
                    </a:lnTo>
                    <a:lnTo>
                      <a:pt x="43" y="131"/>
                    </a:lnTo>
                    <a:lnTo>
                      <a:pt x="42" y="146"/>
                    </a:lnTo>
                    <a:lnTo>
                      <a:pt x="41" y="162"/>
                    </a:lnTo>
                    <a:lnTo>
                      <a:pt x="42" y="182"/>
                    </a:lnTo>
                    <a:lnTo>
                      <a:pt x="44" y="200"/>
                    </a:lnTo>
                    <a:lnTo>
                      <a:pt x="47" y="217"/>
                    </a:lnTo>
                    <a:lnTo>
                      <a:pt x="53" y="233"/>
                    </a:lnTo>
                    <a:lnTo>
                      <a:pt x="56" y="240"/>
                    </a:lnTo>
                    <a:lnTo>
                      <a:pt x="59" y="248"/>
                    </a:lnTo>
                    <a:lnTo>
                      <a:pt x="63" y="254"/>
                    </a:lnTo>
                    <a:lnTo>
                      <a:pt x="67" y="260"/>
                    </a:lnTo>
                    <a:lnTo>
                      <a:pt x="72" y="266"/>
                    </a:lnTo>
                    <a:lnTo>
                      <a:pt x="77" y="270"/>
                    </a:lnTo>
                    <a:lnTo>
                      <a:pt x="82" y="275"/>
                    </a:lnTo>
                    <a:lnTo>
                      <a:pt x="88" y="278"/>
                    </a:lnTo>
                    <a:lnTo>
                      <a:pt x="100" y="286"/>
                    </a:lnTo>
                    <a:lnTo>
                      <a:pt x="113" y="290"/>
                    </a:lnTo>
                    <a:lnTo>
                      <a:pt x="126" y="293"/>
                    </a:lnTo>
                    <a:lnTo>
                      <a:pt x="139" y="294"/>
                    </a:lnTo>
                    <a:lnTo>
                      <a:pt x="148" y="293"/>
                    </a:lnTo>
                    <a:lnTo>
                      <a:pt x="155" y="292"/>
                    </a:lnTo>
                    <a:lnTo>
                      <a:pt x="164" y="291"/>
                    </a:lnTo>
                    <a:lnTo>
                      <a:pt x="171" y="289"/>
                    </a:lnTo>
                    <a:lnTo>
                      <a:pt x="178" y="286"/>
                    </a:lnTo>
                    <a:lnTo>
                      <a:pt x="184" y="283"/>
                    </a:lnTo>
                    <a:lnTo>
                      <a:pt x="190" y="278"/>
                    </a:lnTo>
                    <a:lnTo>
                      <a:pt x="197" y="273"/>
                    </a:lnTo>
                    <a:lnTo>
                      <a:pt x="202" y="268"/>
                    </a:lnTo>
                    <a:lnTo>
                      <a:pt x="207" y="261"/>
                    </a:lnTo>
                    <a:lnTo>
                      <a:pt x="212" y="255"/>
                    </a:lnTo>
                    <a:lnTo>
                      <a:pt x="217" y="248"/>
                    </a:lnTo>
                    <a:lnTo>
                      <a:pt x="220" y="240"/>
                    </a:lnTo>
                    <a:lnTo>
                      <a:pt x="223" y="232"/>
                    </a:lnTo>
                    <a:lnTo>
                      <a:pt x="226" y="222"/>
                    </a:lnTo>
                    <a:lnTo>
                      <a:pt x="228" y="213"/>
                    </a:lnTo>
                    <a:close/>
                  </a:path>
                </a:pathLst>
              </a:custGeom>
              <a:solidFill>
                <a:srgbClr val="1f1a17"/>
              </a:solidFill>
              <a:ln w="0">
                <a:noFill/>
              </a:ln>
            </p:spPr>
            <p:style>
              <a:lnRef idx="0"/>
              <a:fillRef idx="0"/>
              <a:effectRef idx="0"/>
              <a:fontRef idx="minor"/>
            </p:style>
            <p:txBody>
              <a:bodyPr lIns="90000" rIns="90000" tIns="4680" bIns="4680" anchor="t">
                <a:noAutofit/>
              </a:bodyPr>
              <a:p>
                <a:pPr>
                  <a:lnSpc>
                    <a:spcPct val="100000"/>
                  </a:lnSpc>
                </a:pPr>
                <a:endParaRPr b="0" lang="en-US" sz="1800" spc="-1" strike="noStrike">
                  <a:solidFill>
                    <a:srgbClr val="000000"/>
                  </a:solidFill>
                  <a:latin typeface="Arial"/>
                  <a:ea typeface="宋体"/>
                </a:endParaRPr>
              </a:p>
            </p:txBody>
          </p:sp>
          <p:sp>
            <p:nvSpPr>
              <p:cNvPr id="233" name="Freeform 36"/>
              <p:cNvSpPr/>
              <p:nvPr/>
            </p:nvSpPr>
            <p:spPr>
              <a:xfrm>
                <a:off x="4295520" y="1404720"/>
                <a:ext cx="45360" cy="49320"/>
              </a:xfrm>
              <a:custGeom>
                <a:avLst/>
                <a:gdLst>
                  <a:gd name="textAreaLeft" fmla="*/ 0 w 45360"/>
                  <a:gd name="textAreaRight" fmla="*/ 45720 w 45360"/>
                  <a:gd name="textAreaTop" fmla="*/ 0 h 49320"/>
                  <a:gd name="textAreaBottom" fmla="*/ 49680 h 49320"/>
                </a:gdLst>
                <a:ahLst/>
                <a:rect l="textAreaLeft" t="textAreaTop" r="textAreaRight" b="textAreaBottom"/>
                <a:pathLst>
                  <a:path w="291" h="331">
                    <a:moveTo>
                      <a:pt x="0" y="170"/>
                    </a:moveTo>
                    <a:lnTo>
                      <a:pt x="0" y="150"/>
                    </a:lnTo>
                    <a:lnTo>
                      <a:pt x="2" y="132"/>
                    </a:lnTo>
                    <a:lnTo>
                      <a:pt x="5" y="115"/>
                    </a:lnTo>
                    <a:lnTo>
                      <a:pt x="10" y="99"/>
                    </a:lnTo>
                    <a:lnTo>
                      <a:pt x="16" y="83"/>
                    </a:lnTo>
                    <a:lnTo>
                      <a:pt x="22" y="70"/>
                    </a:lnTo>
                    <a:lnTo>
                      <a:pt x="31" y="57"/>
                    </a:lnTo>
                    <a:lnTo>
                      <a:pt x="40" y="45"/>
                    </a:lnTo>
                    <a:lnTo>
                      <a:pt x="51" y="35"/>
                    </a:lnTo>
                    <a:lnTo>
                      <a:pt x="63" y="25"/>
                    </a:lnTo>
                    <a:lnTo>
                      <a:pt x="74" y="18"/>
                    </a:lnTo>
                    <a:lnTo>
                      <a:pt x="87" y="11"/>
                    </a:lnTo>
                    <a:lnTo>
                      <a:pt x="101" y="6"/>
                    </a:lnTo>
                    <a:lnTo>
                      <a:pt x="116" y="3"/>
                    </a:lnTo>
                    <a:lnTo>
                      <a:pt x="130" y="1"/>
                    </a:lnTo>
                    <a:lnTo>
                      <a:pt x="146" y="0"/>
                    </a:lnTo>
                    <a:lnTo>
                      <a:pt x="156" y="1"/>
                    </a:lnTo>
                    <a:lnTo>
                      <a:pt x="166" y="2"/>
                    </a:lnTo>
                    <a:lnTo>
                      <a:pt x="176" y="3"/>
                    </a:lnTo>
                    <a:lnTo>
                      <a:pt x="186" y="5"/>
                    </a:lnTo>
                    <a:lnTo>
                      <a:pt x="195" y="8"/>
                    </a:lnTo>
                    <a:lnTo>
                      <a:pt x="205" y="12"/>
                    </a:lnTo>
                    <a:lnTo>
                      <a:pt x="213" y="17"/>
                    </a:lnTo>
                    <a:lnTo>
                      <a:pt x="222" y="21"/>
                    </a:lnTo>
                    <a:lnTo>
                      <a:pt x="230" y="27"/>
                    </a:lnTo>
                    <a:lnTo>
                      <a:pt x="237" y="33"/>
                    </a:lnTo>
                    <a:lnTo>
                      <a:pt x="245" y="40"/>
                    </a:lnTo>
                    <a:lnTo>
                      <a:pt x="252" y="46"/>
                    </a:lnTo>
                    <a:lnTo>
                      <a:pt x="258" y="55"/>
                    </a:lnTo>
                    <a:lnTo>
                      <a:pt x="264" y="62"/>
                    </a:lnTo>
                    <a:lnTo>
                      <a:pt x="269" y="71"/>
                    </a:lnTo>
                    <a:lnTo>
                      <a:pt x="273" y="80"/>
                    </a:lnTo>
                    <a:lnTo>
                      <a:pt x="278" y="90"/>
                    </a:lnTo>
                    <a:lnTo>
                      <a:pt x="281" y="100"/>
                    </a:lnTo>
                    <a:lnTo>
                      <a:pt x="284" y="110"/>
                    </a:lnTo>
                    <a:lnTo>
                      <a:pt x="287" y="120"/>
                    </a:lnTo>
                    <a:lnTo>
                      <a:pt x="289" y="131"/>
                    </a:lnTo>
                    <a:lnTo>
                      <a:pt x="290" y="143"/>
                    </a:lnTo>
                    <a:lnTo>
                      <a:pt x="291" y="154"/>
                    </a:lnTo>
                    <a:lnTo>
                      <a:pt x="291" y="166"/>
                    </a:lnTo>
                    <a:lnTo>
                      <a:pt x="291" y="178"/>
                    </a:lnTo>
                    <a:lnTo>
                      <a:pt x="290" y="189"/>
                    </a:lnTo>
                    <a:lnTo>
                      <a:pt x="288" y="201"/>
                    </a:lnTo>
                    <a:lnTo>
                      <a:pt x="287" y="213"/>
                    </a:lnTo>
                    <a:lnTo>
                      <a:pt x="284" y="223"/>
                    </a:lnTo>
                    <a:lnTo>
                      <a:pt x="281" y="234"/>
                    </a:lnTo>
                    <a:lnTo>
                      <a:pt x="277" y="243"/>
                    </a:lnTo>
                    <a:lnTo>
                      <a:pt x="272" y="253"/>
                    </a:lnTo>
                    <a:lnTo>
                      <a:pt x="268" y="262"/>
                    </a:lnTo>
                    <a:lnTo>
                      <a:pt x="263" y="271"/>
                    </a:lnTo>
                    <a:lnTo>
                      <a:pt x="257" y="279"/>
                    </a:lnTo>
                    <a:lnTo>
                      <a:pt x="250" y="287"/>
                    </a:lnTo>
                    <a:lnTo>
                      <a:pt x="243" y="294"/>
                    </a:lnTo>
                    <a:lnTo>
                      <a:pt x="236" y="301"/>
                    </a:lnTo>
                    <a:lnTo>
                      <a:pt x="228" y="306"/>
                    </a:lnTo>
                    <a:lnTo>
                      <a:pt x="219" y="311"/>
                    </a:lnTo>
                    <a:lnTo>
                      <a:pt x="211" y="315"/>
                    </a:lnTo>
                    <a:lnTo>
                      <a:pt x="202" y="320"/>
                    </a:lnTo>
                    <a:lnTo>
                      <a:pt x="193" y="323"/>
                    </a:lnTo>
                    <a:lnTo>
                      <a:pt x="184" y="326"/>
                    </a:lnTo>
                    <a:lnTo>
                      <a:pt x="175" y="328"/>
                    </a:lnTo>
                    <a:lnTo>
                      <a:pt x="165" y="330"/>
                    </a:lnTo>
                    <a:lnTo>
                      <a:pt x="156" y="330"/>
                    </a:lnTo>
                    <a:lnTo>
                      <a:pt x="145" y="331"/>
                    </a:lnTo>
                    <a:lnTo>
                      <a:pt x="135" y="330"/>
                    </a:lnTo>
                    <a:lnTo>
                      <a:pt x="125" y="329"/>
                    </a:lnTo>
                    <a:lnTo>
                      <a:pt x="115" y="328"/>
                    </a:lnTo>
                    <a:lnTo>
                      <a:pt x="105" y="326"/>
                    </a:lnTo>
                    <a:lnTo>
                      <a:pt x="96" y="323"/>
                    </a:lnTo>
                    <a:lnTo>
                      <a:pt x="86" y="319"/>
                    </a:lnTo>
                    <a:lnTo>
                      <a:pt x="78" y="314"/>
                    </a:lnTo>
                    <a:lnTo>
                      <a:pt x="69" y="309"/>
                    </a:lnTo>
                    <a:lnTo>
                      <a:pt x="61" y="304"/>
                    </a:lnTo>
                    <a:lnTo>
                      <a:pt x="53" y="297"/>
                    </a:lnTo>
                    <a:lnTo>
                      <a:pt x="46" y="291"/>
                    </a:lnTo>
                    <a:lnTo>
                      <a:pt x="39" y="284"/>
                    </a:lnTo>
                    <a:lnTo>
                      <a:pt x="33" y="276"/>
                    </a:lnTo>
                    <a:lnTo>
                      <a:pt x="28" y="268"/>
                    </a:lnTo>
                    <a:lnTo>
                      <a:pt x="22" y="259"/>
                    </a:lnTo>
                    <a:lnTo>
                      <a:pt x="17" y="250"/>
                    </a:lnTo>
                    <a:lnTo>
                      <a:pt x="13" y="240"/>
                    </a:lnTo>
                    <a:lnTo>
                      <a:pt x="10" y="231"/>
                    </a:lnTo>
                    <a:lnTo>
                      <a:pt x="7" y="221"/>
                    </a:lnTo>
                    <a:lnTo>
                      <a:pt x="4" y="211"/>
                    </a:lnTo>
                    <a:lnTo>
                      <a:pt x="2" y="201"/>
                    </a:lnTo>
                    <a:lnTo>
                      <a:pt x="1" y="190"/>
                    </a:lnTo>
                    <a:lnTo>
                      <a:pt x="0" y="180"/>
                    </a:lnTo>
                    <a:lnTo>
                      <a:pt x="0" y="170"/>
                    </a:lnTo>
                    <a:close/>
                    <a:moveTo>
                      <a:pt x="41" y="170"/>
                    </a:moveTo>
                    <a:lnTo>
                      <a:pt x="43" y="185"/>
                    </a:lnTo>
                    <a:lnTo>
                      <a:pt x="44" y="198"/>
                    </a:lnTo>
                    <a:lnTo>
                      <a:pt x="46" y="211"/>
                    </a:lnTo>
                    <a:lnTo>
                      <a:pt x="49" y="222"/>
                    </a:lnTo>
                    <a:lnTo>
                      <a:pt x="53" y="233"/>
                    </a:lnTo>
                    <a:lnTo>
                      <a:pt x="58" y="243"/>
                    </a:lnTo>
                    <a:lnTo>
                      <a:pt x="64" y="253"/>
                    </a:lnTo>
                    <a:lnTo>
                      <a:pt x="71" y="261"/>
                    </a:lnTo>
                    <a:lnTo>
                      <a:pt x="79" y="270"/>
                    </a:lnTo>
                    <a:lnTo>
                      <a:pt x="87" y="276"/>
                    </a:lnTo>
                    <a:lnTo>
                      <a:pt x="96" y="282"/>
                    </a:lnTo>
                    <a:lnTo>
                      <a:pt x="105" y="287"/>
                    </a:lnTo>
                    <a:lnTo>
                      <a:pt x="115" y="290"/>
                    </a:lnTo>
                    <a:lnTo>
                      <a:pt x="124" y="293"/>
                    </a:lnTo>
                    <a:lnTo>
                      <a:pt x="135" y="294"/>
                    </a:lnTo>
                    <a:lnTo>
                      <a:pt x="145" y="295"/>
                    </a:lnTo>
                    <a:lnTo>
                      <a:pt x="157" y="294"/>
                    </a:lnTo>
                    <a:lnTo>
                      <a:pt x="168" y="293"/>
                    </a:lnTo>
                    <a:lnTo>
                      <a:pt x="177" y="290"/>
                    </a:lnTo>
                    <a:lnTo>
                      <a:pt x="187" y="287"/>
                    </a:lnTo>
                    <a:lnTo>
                      <a:pt x="196" y="282"/>
                    </a:lnTo>
                    <a:lnTo>
                      <a:pt x="205" y="276"/>
                    </a:lnTo>
                    <a:lnTo>
                      <a:pt x="213" y="269"/>
                    </a:lnTo>
                    <a:lnTo>
                      <a:pt x="220" y="261"/>
                    </a:lnTo>
                    <a:lnTo>
                      <a:pt x="227" y="253"/>
                    </a:lnTo>
                    <a:lnTo>
                      <a:pt x="233" y="242"/>
                    </a:lnTo>
                    <a:lnTo>
                      <a:pt x="238" y="232"/>
                    </a:lnTo>
                    <a:lnTo>
                      <a:pt x="243" y="221"/>
                    </a:lnTo>
                    <a:lnTo>
                      <a:pt x="246" y="208"/>
                    </a:lnTo>
                    <a:lnTo>
                      <a:pt x="248" y="195"/>
                    </a:lnTo>
                    <a:lnTo>
                      <a:pt x="249" y="181"/>
                    </a:lnTo>
                    <a:lnTo>
                      <a:pt x="250" y="166"/>
                    </a:lnTo>
                    <a:lnTo>
                      <a:pt x="249" y="147"/>
                    </a:lnTo>
                    <a:lnTo>
                      <a:pt x="247" y="129"/>
                    </a:lnTo>
                    <a:lnTo>
                      <a:pt x="243" y="113"/>
                    </a:lnTo>
                    <a:lnTo>
                      <a:pt x="237" y="98"/>
                    </a:lnTo>
                    <a:lnTo>
                      <a:pt x="230" y="84"/>
                    </a:lnTo>
                    <a:lnTo>
                      <a:pt x="222" y="72"/>
                    </a:lnTo>
                    <a:lnTo>
                      <a:pt x="217" y="66"/>
                    </a:lnTo>
                    <a:lnTo>
                      <a:pt x="212" y="61"/>
                    </a:lnTo>
                    <a:lnTo>
                      <a:pt x="207" y="57"/>
                    </a:lnTo>
                    <a:lnTo>
                      <a:pt x="200" y="53"/>
                    </a:lnTo>
                    <a:lnTo>
                      <a:pt x="188" y="45"/>
                    </a:lnTo>
                    <a:lnTo>
                      <a:pt x="175" y="41"/>
                    </a:lnTo>
                    <a:lnTo>
                      <a:pt x="161" y="38"/>
                    </a:lnTo>
                    <a:lnTo>
                      <a:pt x="146" y="37"/>
                    </a:lnTo>
                    <a:lnTo>
                      <a:pt x="136" y="37"/>
                    </a:lnTo>
                    <a:lnTo>
                      <a:pt x="125" y="39"/>
                    </a:lnTo>
                    <a:lnTo>
                      <a:pt x="116" y="41"/>
                    </a:lnTo>
                    <a:lnTo>
                      <a:pt x="106" y="44"/>
                    </a:lnTo>
                    <a:lnTo>
                      <a:pt x="98" y="48"/>
                    </a:lnTo>
                    <a:lnTo>
                      <a:pt x="88" y="54"/>
                    </a:lnTo>
                    <a:lnTo>
                      <a:pt x="81" y="60"/>
                    </a:lnTo>
                    <a:lnTo>
                      <a:pt x="72" y="68"/>
                    </a:lnTo>
                    <a:lnTo>
                      <a:pt x="65" y="76"/>
                    </a:lnTo>
                    <a:lnTo>
                      <a:pt x="58" y="86"/>
                    </a:lnTo>
                    <a:lnTo>
                      <a:pt x="53" y="96"/>
                    </a:lnTo>
                    <a:lnTo>
                      <a:pt x="49" y="109"/>
                    </a:lnTo>
                    <a:lnTo>
                      <a:pt x="46" y="123"/>
                    </a:lnTo>
                    <a:lnTo>
                      <a:pt x="44" y="137"/>
                    </a:lnTo>
                    <a:lnTo>
                      <a:pt x="43" y="153"/>
                    </a:lnTo>
                    <a:lnTo>
                      <a:pt x="41" y="170"/>
                    </a:lnTo>
                    <a:close/>
                  </a:path>
                </a:pathLst>
              </a:custGeom>
              <a:solidFill>
                <a:srgbClr val="1f1a17"/>
              </a:solidFill>
              <a:ln w="0">
                <a:noFill/>
              </a:ln>
            </p:spPr>
            <p:style>
              <a:lnRef idx="0"/>
              <a:fillRef idx="0"/>
              <a:effectRef idx="0"/>
              <a:fontRef idx="minor"/>
            </p:style>
            <p:txBody>
              <a:bodyPr lIns="90000" rIns="90000" tIns="4680" bIns="4680" anchor="t">
                <a:noAutofit/>
              </a:bodyPr>
              <a:p>
                <a:pPr>
                  <a:lnSpc>
                    <a:spcPct val="100000"/>
                  </a:lnSpc>
                </a:pPr>
                <a:endParaRPr b="0" lang="en-US" sz="1800" spc="-1" strike="noStrike">
                  <a:solidFill>
                    <a:srgbClr val="000000"/>
                  </a:solidFill>
                  <a:latin typeface="Arial"/>
                  <a:ea typeface="宋体"/>
                </a:endParaRPr>
              </a:p>
            </p:txBody>
          </p:sp>
          <p:sp>
            <p:nvSpPr>
              <p:cNvPr id="234" name="Freeform 37"/>
              <p:cNvSpPr/>
              <p:nvPr/>
            </p:nvSpPr>
            <p:spPr>
              <a:xfrm>
                <a:off x="4353480" y="1405800"/>
                <a:ext cx="29880" cy="48240"/>
              </a:xfrm>
              <a:custGeom>
                <a:avLst/>
                <a:gdLst>
                  <a:gd name="textAreaLeft" fmla="*/ 0 w 29880"/>
                  <a:gd name="textAreaRight" fmla="*/ 30240 w 29880"/>
                  <a:gd name="textAreaTop" fmla="*/ 0 h 48240"/>
                  <a:gd name="textAreaBottom" fmla="*/ 48600 h 48240"/>
                </a:gdLst>
                <a:ahLst/>
                <a:rect l="textAreaLeft" t="textAreaTop" r="textAreaRight" b="textAreaBottom"/>
                <a:pathLst>
                  <a:path w="189" h="320">
                    <a:moveTo>
                      <a:pt x="0" y="320"/>
                    </a:moveTo>
                    <a:lnTo>
                      <a:pt x="0" y="0"/>
                    </a:lnTo>
                    <a:lnTo>
                      <a:pt x="40" y="0"/>
                    </a:lnTo>
                    <a:lnTo>
                      <a:pt x="40" y="282"/>
                    </a:lnTo>
                    <a:lnTo>
                      <a:pt x="189" y="282"/>
                    </a:lnTo>
                    <a:lnTo>
                      <a:pt x="189" y="320"/>
                    </a:lnTo>
                    <a:lnTo>
                      <a:pt x="0" y="320"/>
                    </a:lnTo>
                    <a:close/>
                  </a:path>
                </a:pathLst>
              </a:custGeom>
              <a:solidFill>
                <a:srgbClr val="1f1a17"/>
              </a:solidFill>
              <a:ln w="0">
                <a:noFill/>
              </a:ln>
            </p:spPr>
            <p:style>
              <a:lnRef idx="0"/>
              <a:fillRef idx="0"/>
              <a:effectRef idx="0"/>
              <a:fontRef idx="minor"/>
            </p:style>
            <p:txBody>
              <a:bodyPr lIns="90000" rIns="90000" tIns="3600" bIns="3600" anchor="t">
                <a:noAutofit/>
              </a:bodyPr>
              <a:p>
                <a:pPr>
                  <a:lnSpc>
                    <a:spcPct val="100000"/>
                  </a:lnSpc>
                </a:pPr>
                <a:endParaRPr b="0" lang="en-US" sz="1800" spc="-1" strike="noStrike">
                  <a:solidFill>
                    <a:srgbClr val="000000"/>
                  </a:solidFill>
                  <a:latin typeface="Arial"/>
                  <a:ea typeface="宋体"/>
                </a:endParaRPr>
              </a:p>
            </p:txBody>
          </p:sp>
          <p:sp>
            <p:nvSpPr>
              <p:cNvPr id="235" name="Freeform 38"/>
              <p:cNvSpPr/>
              <p:nvPr/>
            </p:nvSpPr>
            <p:spPr>
              <a:xfrm>
                <a:off x="4395960" y="1405800"/>
                <a:ext cx="29880" cy="48240"/>
              </a:xfrm>
              <a:custGeom>
                <a:avLst/>
                <a:gdLst>
                  <a:gd name="textAreaLeft" fmla="*/ 0 w 29880"/>
                  <a:gd name="textAreaRight" fmla="*/ 30240 w 29880"/>
                  <a:gd name="textAreaTop" fmla="*/ 0 h 48240"/>
                  <a:gd name="textAreaBottom" fmla="*/ 48600 h 48240"/>
                </a:gdLst>
                <a:ahLst/>
                <a:rect l="textAreaLeft" t="textAreaTop" r="textAreaRight" b="textAreaBottom"/>
                <a:pathLst>
                  <a:path w="191" h="320">
                    <a:moveTo>
                      <a:pt x="0" y="320"/>
                    </a:moveTo>
                    <a:lnTo>
                      <a:pt x="0" y="0"/>
                    </a:lnTo>
                    <a:lnTo>
                      <a:pt x="42" y="0"/>
                    </a:lnTo>
                    <a:lnTo>
                      <a:pt x="42" y="282"/>
                    </a:lnTo>
                    <a:lnTo>
                      <a:pt x="191" y="282"/>
                    </a:lnTo>
                    <a:lnTo>
                      <a:pt x="191" y="320"/>
                    </a:lnTo>
                    <a:lnTo>
                      <a:pt x="0" y="320"/>
                    </a:lnTo>
                    <a:close/>
                  </a:path>
                </a:pathLst>
              </a:custGeom>
              <a:solidFill>
                <a:srgbClr val="1f1a17"/>
              </a:solidFill>
              <a:ln w="0">
                <a:noFill/>
              </a:ln>
            </p:spPr>
            <p:style>
              <a:lnRef idx="0"/>
              <a:fillRef idx="0"/>
              <a:effectRef idx="0"/>
              <a:fontRef idx="minor"/>
            </p:style>
            <p:txBody>
              <a:bodyPr lIns="90000" rIns="90000" tIns="3600" bIns="3600" anchor="t">
                <a:noAutofit/>
              </a:bodyPr>
              <a:p>
                <a:pPr>
                  <a:lnSpc>
                    <a:spcPct val="100000"/>
                  </a:lnSpc>
                </a:pPr>
                <a:endParaRPr b="0" lang="en-US" sz="1800" spc="-1" strike="noStrike">
                  <a:solidFill>
                    <a:srgbClr val="000000"/>
                  </a:solidFill>
                  <a:latin typeface="Arial"/>
                  <a:ea typeface="宋体"/>
                </a:endParaRPr>
              </a:p>
            </p:txBody>
          </p:sp>
          <p:sp>
            <p:nvSpPr>
              <p:cNvPr id="236" name="Freeform 39"/>
              <p:cNvSpPr/>
              <p:nvPr/>
            </p:nvSpPr>
            <p:spPr>
              <a:xfrm>
                <a:off x="4433040" y="1405800"/>
                <a:ext cx="44280" cy="48240"/>
              </a:xfrm>
              <a:custGeom>
                <a:avLst/>
                <a:gdLst>
                  <a:gd name="textAreaLeft" fmla="*/ 0 w 44280"/>
                  <a:gd name="textAreaRight" fmla="*/ 44640 w 44280"/>
                  <a:gd name="textAreaTop" fmla="*/ 0 h 48240"/>
                  <a:gd name="textAreaBottom" fmla="*/ 48600 h 48240"/>
                </a:gdLst>
                <a:ahLst/>
                <a:rect l="textAreaLeft" t="textAreaTop" r="textAreaRight" b="textAreaBottom"/>
                <a:pathLst>
                  <a:path w="285" h="320">
                    <a:moveTo>
                      <a:pt x="0" y="320"/>
                    </a:moveTo>
                    <a:lnTo>
                      <a:pt x="118" y="0"/>
                    </a:lnTo>
                    <a:lnTo>
                      <a:pt x="161" y="0"/>
                    </a:lnTo>
                    <a:lnTo>
                      <a:pt x="285" y="320"/>
                    </a:lnTo>
                    <a:lnTo>
                      <a:pt x="240" y="320"/>
                    </a:lnTo>
                    <a:lnTo>
                      <a:pt x="204" y="223"/>
                    </a:lnTo>
                    <a:lnTo>
                      <a:pt x="77" y="223"/>
                    </a:lnTo>
                    <a:lnTo>
                      <a:pt x="44" y="320"/>
                    </a:lnTo>
                    <a:lnTo>
                      <a:pt x="0" y="320"/>
                    </a:lnTo>
                    <a:close/>
                    <a:moveTo>
                      <a:pt x="88" y="189"/>
                    </a:moveTo>
                    <a:lnTo>
                      <a:pt x="192" y="189"/>
                    </a:lnTo>
                    <a:lnTo>
                      <a:pt x="160" y="100"/>
                    </a:lnTo>
                    <a:lnTo>
                      <a:pt x="153" y="81"/>
                    </a:lnTo>
                    <a:lnTo>
                      <a:pt x="147" y="63"/>
                    </a:lnTo>
                    <a:lnTo>
                      <a:pt x="142" y="48"/>
                    </a:lnTo>
                    <a:lnTo>
                      <a:pt x="138" y="33"/>
                    </a:lnTo>
                    <a:lnTo>
                      <a:pt x="135" y="49"/>
                    </a:lnTo>
                    <a:lnTo>
                      <a:pt x="132" y="64"/>
                    </a:lnTo>
                    <a:lnTo>
                      <a:pt x="126" y="80"/>
                    </a:lnTo>
                    <a:lnTo>
                      <a:pt x="122" y="94"/>
                    </a:lnTo>
                    <a:lnTo>
                      <a:pt x="88" y="189"/>
                    </a:lnTo>
                    <a:close/>
                  </a:path>
                </a:pathLst>
              </a:custGeom>
              <a:solidFill>
                <a:srgbClr val="1f1a17"/>
              </a:solidFill>
              <a:ln w="0">
                <a:noFill/>
              </a:ln>
            </p:spPr>
            <p:style>
              <a:lnRef idx="0"/>
              <a:fillRef idx="0"/>
              <a:effectRef idx="0"/>
              <a:fontRef idx="minor"/>
            </p:style>
            <p:txBody>
              <a:bodyPr lIns="90000" rIns="90000" tIns="3600" bIns="3600" anchor="t">
                <a:noAutofit/>
              </a:bodyPr>
              <a:p>
                <a:pPr>
                  <a:lnSpc>
                    <a:spcPct val="100000"/>
                  </a:lnSpc>
                </a:pPr>
                <a:endParaRPr b="0" lang="en-US" sz="1800" spc="-1" strike="noStrike">
                  <a:solidFill>
                    <a:srgbClr val="000000"/>
                  </a:solidFill>
                  <a:latin typeface="Arial"/>
                  <a:ea typeface="宋体"/>
                </a:endParaRPr>
              </a:p>
            </p:txBody>
          </p:sp>
          <p:sp>
            <p:nvSpPr>
              <p:cNvPr id="237" name="Freeform 40"/>
              <p:cNvSpPr/>
              <p:nvPr/>
            </p:nvSpPr>
            <p:spPr>
              <a:xfrm>
                <a:off x="4487760" y="1405800"/>
                <a:ext cx="42120" cy="48240"/>
              </a:xfrm>
              <a:custGeom>
                <a:avLst/>
                <a:gdLst>
                  <a:gd name="textAreaLeft" fmla="*/ 0 w 42120"/>
                  <a:gd name="textAreaRight" fmla="*/ 42480 w 42120"/>
                  <a:gd name="textAreaTop" fmla="*/ 0 h 48240"/>
                  <a:gd name="textAreaBottom" fmla="*/ 48600 h 48240"/>
                </a:gdLst>
                <a:ahLst/>
                <a:rect l="textAreaLeft" t="textAreaTop" r="textAreaRight" b="textAreaBottom"/>
                <a:pathLst>
                  <a:path w="268" h="320">
                    <a:moveTo>
                      <a:pt x="0" y="320"/>
                    </a:moveTo>
                    <a:lnTo>
                      <a:pt x="0" y="0"/>
                    </a:lnTo>
                    <a:lnTo>
                      <a:pt x="135" y="0"/>
                    </a:lnTo>
                    <a:lnTo>
                      <a:pt x="154" y="0"/>
                    </a:lnTo>
                    <a:lnTo>
                      <a:pt x="171" y="2"/>
                    </a:lnTo>
                    <a:lnTo>
                      <a:pt x="186" y="4"/>
                    </a:lnTo>
                    <a:lnTo>
                      <a:pt x="197" y="9"/>
                    </a:lnTo>
                    <a:lnTo>
                      <a:pt x="207" y="14"/>
                    </a:lnTo>
                    <a:lnTo>
                      <a:pt x="217" y="20"/>
                    </a:lnTo>
                    <a:lnTo>
                      <a:pt x="224" y="29"/>
                    </a:lnTo>
                    <a:lnTo>
                      <a:pt x="231" y="39"/>
                    </a:lnTo>
                    <a:lnTo>
                      <a:pt x="237" y="50"/>
                    </a:lnTo>
                    <a:lnTo>
                      <a:pt x="241" y="62"/>
                    </a:lnTo>
                    <a:lnTo>
                      <a:pt x="243" y="74"/>
                    </a:lnTo>
                    <a:lnTo>
                      <a:pt x="244" y="87"/>
                    </a:lnTo>
                    <a:lnTo>
                      <a:pt x="243" y="95"/>
                    </a:lnTo>
                    <a:lnTo>
                      <a:pt x="242" y="104"/>
                    </a:lnTo>
                    <a:lnTo>
                      <a:pt x="241" y="111"/>
                    </a:lnTo>
                    <a:lnTo>
                      <a:pt x="239" y="119"/>
                    </a:lnTo>
                    <a:lnTo>
                      <a:pt x="236" y="125"/>
                    </a:lnTo>
                    <a:lnTo>
                      <a:pt x="231" y="133"/>
                    </a:lnTo>
                    <a:lnTo>
                      <a:pt x="227" y="139"/>
                    </a:lnTo>
                    <a:lnTo>
                      <a:pt x="223" y="144"/>
                    </a:lnTo>
                    <a:lnTo>
                      <a:pt x="217" y="151"/>
                    </a:lnTo>
                    <a:lnTo>
                      <a:pt x="211" y="155"/>
                    </a:lnTo>
                    <a:lnTo>
                      <a:pt x="204" y="160"/>
                    </a:lnTo>
                    <a:lnTo>
                      <a:pt x="196" y="163"/>
                    </a:lnTo>
                    <a:lnTo>
                      <a:pt x="188" y="167"/>
                    </a:lnTo>
                    <a:lnTo>
                      <a:pt x="178" y="170"/>
                    </a:lnTo>
                    <a:lnTo>
                      <a:pt x="169" y="173"/>
                    </a:lnTo>
                    <a:lnTo>
                      <a:pt x="158" y="174"/>
                    </a:lnTo>
                    <a:lnTo>
                      <a:pt x="172" y="182"/>
                    </a:lnTo>
                    <a:lnTo>
                      <a:pt x="183" y="190"/>
                    </a:lnTo>
                    <a:lnTo>
                      <a:pt x="191" y="199"/>
                    </a:lnTo>
                    <a:lnTo>
                      <a:pt x="200" y="209"/>
                    </a:lnTo>
                    <a:lnTo>
                      <a:pt x="208" y="220"/>
                    </a:lnTo>
                    <a:lnTo>
                      <a:pt x="215" y="232"/>
                    </a:lnTo>
                    <a:lnTo>
                      <a:pt x="268" y="320"/>
                    </a:lnTo>
                    <a:lnTo>
                      <a:pt x="218" y="320"/>
                    </a:lnTo>
                    <a:lnTo>
                      <a:pt x="177" y="253"/>
                    </a:lnTo>
                    <a:lnTo>
                      <a:pt x="169" y="240"/>
                    </a:lnTo>
                    <a:lnTo>
                      <a:pt x="161" y="228"/>
                    </a:lnTo>
                    <a:lnTo>
                      <a:pt x="155" y="217"/>
                    </a:lnTo>
                    <a:lnTo>
                      <a:pt x="149" y="209"/>
                    </a:lnTo>
                    <a:lnTo>
                      <a:pt x="142" y="202"/>
                    </a:lnTo>
                    <a:lnTo>
                      <a:pt x="138" y="196"/>
                    </a:lnTo>
                    <a:lnTo>
                      <a:pt x="133" y="191"/>
                    </a:lnTo>
                    <a:lnTo>
                      <a:pt x="128" y="188"/>
                    </a:lnTo>
                    <a:lnTo>
                      <a:pt x="119" y="182"/>
                    </a:lnTo>
                    <a:lnTo>
                      <a:pt x="110" y="179"/>
                    </a:lnTo>
                    <a:lnTo>
                      <a:pt x="101" y="178"/>
                    </a:lnTo>
                    <a:lnTo>
                      <a:pt x="87" y="178"/>
                    </a:lnTo>
                    <a:lnTo>
                      <a:pt x="41" y="178"/>
                    </a:lnTo>
                    <a:lnTo>
                      <a:pt x="41" y="320"/>
                    </a:lnTo>
                    <a:lnTo>
                      <a:pt x="0" y="320"/>
                    </a:lnTo>
                    <a:close/>
                    <a:moveTo>
                      <a:pt x="41" y="141"/>
                    </a:moveTo>
                    <a:lnTo>
                      <a:pt x="128" y="141"/>
                    </a:lnTo>
                    <a:lnTo>
                      <a:pt x="140" y="141"/>
                    </a:lnTo>
                    <a:lnTo>
                      <a:pt x="152" y="140"/>
                    </a:lnTo>
                    <a:lnTo>
                      <a:pt x="161" y="138"/>
                    </a:lnTo>
                    <a:lnTo>
                      <a:pt x="170" y="135"/>
                    </a:lnTo>
                    <a:lnTo>
                      <a:pt x="177" y="131"/>
                    </a:lnTo>
                    <a:lnTo>
                      <a:pt x="184" y="127"/>
                    </a:lnTo>
                    <a:lnTo>
                      <a:pt x="189" y="122"/>
                    </a:lnTo>
                    <a:lnTo>
                      <a:pt x="194" y="116"/>
                    </a:lnTo>
                    <a:lnTo>
                      <a:pt x="197" y="109"/>
                    </a:lnTo>
                    <a:lnTo>
                      <a:pt x="200" y="102"/>
                    </a:lnTo>
                    <a:lnTo>
                      <a:pt x="202" y="94"/>
                    </a:lnTo>
                    <a:lnTo>
                      <a:pt x="202" y="87"/>
                    </a:lnTo>
                    <a:lnTo>
                      <a:pt x="201" y="76"/>
                    </a:lnTo>
                    <a:lnTo>
                      <a:pt x="199" y="67"/>
                    </a:lnTo>
                    <a:lnTo>
                      <a:pt x="196" y="62"/>
                    </a:lnTo>
                    <a:lnTo>
                      <a:pt x="193" y="57"/>
                    </a:lnTo>
                    <a:lnTo>
                      <a:pt x="190" y="54"/>
                    </a:lnTo>
                    <a:lnTo>
                      <a:pt x="187" y="50"/>
                    </a:lnTo>
                    <a:lnTo>
                      <a:pt x="183" y="47"/>
                    </a:lnTo>
                    <a:lnTo>
                      <a:pt x="177" y="43"/>
                    </a:lnTo>
                    <a:lnTo>
                      <a:pt x="172" y="41"/>
                    </a:lnTo>
                    <a:lnTo>
                      <a:pt x="166" y="39"/>
                    </a:lnTo>
                    <a:lnTo>
                      <a:pt x="153" y="36"/>
                    </a:lnTo>
                    <a:lnTo>
                      <a:pt x="137" y="35"/>
                    </a:lnTo>
                    <a:lnTo>
                      <a:pt x="41" y="35"/>
                    </a:lnTo>
                    <a:lnTo>
                      <a:pt x="41" y="141"/>
                    </a:lnTo>
                    <a:close/>
                  </a:path>
                </a:pathLst>
              </a:custGeom>
              <a:solidFill>
                <a:srgbClr val="1f1a17"/>
              </a:solidFill>
              <a:ln w="0">
                <a:noFill/>
              </a:ln>
            </p:spPr>
            <p:style>
              <a:lnRef idx="0"/>
              <a:fillRef idx="0"/>
              <a:effectRef idx="0"/>
              <a:fontRef idx="minor"/>
            </p:style>
            <p:txBody>
              <a:bodyPr lIns="90000" rIns="90000" tIns="3600" bIns="3600" anchor="t">
                <a:noAutofit/>
              </a:bodyPr>
              <a:p>
                <a:pPr>
                  <a:lnSpc>
                    <a:spcPct val="100000"/>
                  </a:lnSpc>
                </a:pPr>
                <a:endParaRPr b="0" lang="en-US" sz="1800" spc="-1" strike="noStrike">
                  <a:solidFill>
                    <a:srgbClr val="000000"/>
                  </a:solidFill>
                  <a:latin typeface="Arial"/>
                  <a:ea typeface="宋体"/>
                </a:endParaRPr>
              </a:p>
            </p:txBody>
          </p:sp>
          <p:sp>
            <p:nvSpPr>
              <p:cNvPr id="238" name="Freeform 41"/>
              <p:cNvSpPr/>
              <p:nvPr/>
            </p:nvSpPr>
            <p:spPr>
              <a:xfrm>
                <a:off x="4561560" y="1405800"/>
                <a:ext cx="35280" cy="48240"/>
              </a:xfrm>
              <a:custGeom>
                <a:avLst/>
                <a:gdLst>
                  <a:gd name="textAreaLeft" fmla="*/ 0 w 35280"/>
                  <a:gd name="textAreaRight" fmla="*/ 35640 w 35280"/>
                  <a:gd name="textAreaTop" fmla="*/ 0 h 48240"/>
                  <a:gd name="textAreaBottom" fmla="*/ 48600 h 48240"/>
                </a:gdLst>
                <a:ahLst/>
                <a:rect l="textAreaLeft" t="textAreaTop" r="textAreaRight" b="textAreaBottom"/>
                <a:pathLst>
                  <a:path w="228" h="320">
                    <a:moveTo>
                      <a:pt x="0" y="320"/>
                    </a:moveTo>
                    <a:lnTo>
                      <a:pt x="0" y="0"/>
                    </a:lnTo>
                    <a:lnTo>
                      <a:pt x="220" y="0"/>
                    </a:lnTo>
                    <a:lnTo>
                      <a:pt x="220" y="37"/>
                    </a:lnTo>
                    <a:lnTo>
                      <a:pt x="40" y="37"/>
                    </a:lnTo>
                    <a:lnTo>
                      <a:pt x="40" y="136"/>
                    </a:lnTo>
                    <a:lnTo>
                      <a:pt x="209" y="136"/>
                    </a:lnTo>
                    <a:lnTo>
                      <a:pt x="209" y="173"/>
                    </a:lnTo>
                    <a:lnTo>
                      <a:pt x="40" y="173"/>
                    </a:lnTo>
                    <a:lnTo>
                      <a:pt x="40" y="282"/>
                    </a:lnTo>
                    <a:lnTo>
                      <a:pt x="228" y="282"/>
                    </a:lnTo>
                    <a:lnTo>
                      <a:pt x="228" y="320"/>
                    </a:lnTo>
                    <a:lnTo>
                      <a:pt x="0" y="320"/>
                    </a:lnTo>
                    <a:close/>
                  </a:path>
                </a:pathLst>
              </a:custGeom>
              <a:solidFill>
                <a:srgbClr val="1f1a17"/>
              </a:solidFill>
              <a:ln w="0">
                <a:noFill/>
              </a:ln>
            </p:spPr>
            <p:style>
              <a:lnRef idx="0"/>
              <a:fillRef idx="0"/>
              <a:effectRef idx="0"/>
              <a:fontRef idx="minor"/>
            </p:style>
            <p:txBody>
              <a:bodyPr lIns="90000" rIns="90000" tIns="3600" bIns="3600" anchor="t">
                <a:noAutofit/>
              </a:bodyPr>
              <a:p>
                <a:pPr>
                  <a:lnSpc>
                    <a:spcPct val="100000"/>
                  </a:lnSpc>
                </a:pPr>
                <a:endParaRPr b="0" lang="en-US" sz="1800" spc="-1" strike="noStrike">
                  <a:solidFill>
                    <a:srgbClr val="000000"/>
                  </a:solidFill>
                  <a:latin typeface="Arial"/>
                  <a:ea typeface="宋体"/>
                </a:endParaRPr>
              </a:p>
            </p:txBody>
          </p:sp>
          <p:sp>
            <p:nvSpPr>
              <p:cNvPr id="239" name="Freeform 42"/>
              <p:cNvSpPr/>
              <p:nvPr/>
            </p:nvSpPr>
            <p:spPr>
              <a:xfrm>
                <a:off x="4610520" y="1405800"/>
                <a:ext cx="37800" cy="48240"/>
              </a:xfrm>
              <a:custGeom>
                <a:avLst/>
                <a:gdLst>
                  <a:gd name="textAreaLeft" fmla="*/ 0 w 37800"/>
                  <a:gd name="textAreaRight" fmla="*/ 38160 w 37800"/>
                  <a:gd name="textAreaTop" fmla="*/ 0 h 48240"/>
                  <a:gd name="textAreaBottom" fmla="*/ 48600 h 48240"/>
                </a:gdLst>
                <a:ahLst/>
                <a:rect l="textAreaLeft" t="textAreaTop" r="textAreaRight" b="textAreaBottom"/>
                <a:pathLst>
                  <a:path w="241" h="320">
                    <a:moveTo>
                      <a:pt x="0" y="320"/>
                    </a:moveTo>
                    <a:lnTo>
                      <a:pt x="0" y="0"/>
                    </a:lnTo>
                    <a:lnTo>
                      <a:pt x="42" y="0"/>
                    </a:lnTo>
                    <a:lnTo>
                      <a:pt x="202" y="251"/>
                    </a:lnTo>
                    <a:lnTo>
                      <a:pt x="202" y="0"/>
                    </a:lnTo>
                    <a:lnTo>
                      <a:pt x="241" y="0"/>
                    </a:lnTo>
                    <a:lnTo>
                      <a:pt x="241" y="320"/>
                    </a:lnTo>
                    <a:lnTo>
                      <a:pt x="200" y="320"/>
                    </a:lnTo>
                    <a:lnTo>
                      <a:pt x="40" y="68"/>
                    </a:lnTo>
                    <a:lnTo>
                      <a:pt x="40" y="320"/>
                    </a:lnTo>
                    <a:lnTo>
                      <a:pt x="0" y="320"/>
                    </a:lnTo>
                    <a:close/>
                  </a:path>
                </a:pathLst>
              </a:custGeom>
              <a:solidFill>
                <a:srgbClr val="1f1a17"/>
              </a:solidFill>
              <a:ln w="0">
                <a:noFill/>
              </a:ln>
            </p:spPr>
            <p:style>
              <a:lnRef idx="0"/>
              <a:fillRef idx="0"/>
              <a:effectRef idx="0"/>
              <a:fontRef idx="minor"/>
            </p:style>
            <p:txBody>
              <a:bodyPr lIns="90000" rIns="90000" tIns="3600" bIns="3600" anchor="t">
                <a:noAutofit/>
              </a:bodyPr>
              <a:p>
                <a:pPr>
                  <a:lnSpc>
                    <a:spcPct val="100000"/>
                  </a:lnSpc>
                </a:pPr>
                <a:endParaRPr b="0" lang="en-US" sz="1800" spc="-1" strike="noStrike">
                  <a:solidFill>
                    <a:srgbClr val="000000"/>
                  </a:solidFill>
                  <a:latin typeface="Arial"/>
                  <a:ea typeface="宋体"/>
                </a:endParaRPr>
              </a:p>
            </p:txBody>
          </p:sp>
          <p:sp>
            <p:nvSpPr>
              <p:cNvPr id="240" name="Freeform 43"/>
              <p:cNvSpPr/>
              <p:nvPr/>
            </p:nvSpPr>
            <p:spPr>
              <a:xfrm>
                <a:off x="4659840" y="1405800"/>
                <a:ext cx="38880" cy="48240"/>
              </a:xfrm>
              <a:custGeom>
                <a:avLst/>
                <a:gdLst>
                  <a:gd name="textAreaLeft" fmla="*/ 0 w 38880"/>
                  <a:gd name="textAreaRight" fmla="*/ 39240 w 38880"/>
                  <a:gd name="textAreaTop" fmla="*/ 0 h 48240"/>
                  <a:gd name="textAreaBottom" fmla="*/ 48600 h 48240"/>
                </a:gdLst>
                <a:ahLst/>
                <a:rect l="textAreaLeft" t="textAreaTop" r="textAreaRight" b="textAreaBottom"/>
                <a:pathLst>
                  <a:path w="241" h="320">
                    <a:moveTo>
                      <a:pt x="99" y="320"/>
                    </a:moveTo>
                    <a:lnTo>
                      <a:pt x="99" y="37"/>
                    </a:lnTo>
                    <a:lnTo>
                      <a:pt x="0" y="37"/>
                    </a:lnTo>
                    <a:lnTo>
                      <a:pt x="0" y="0"/>
                    </a:lnTo>
                    <a:lnTo>
                      <a:pt x="241" y="0"/>
                    </a:lnTo>
                    <a:lnTo>
                      <a:pt x="241" y="37"/>
                    </a:lnTo>
                    <a:lnTo>
                      <a:pt x="140" y="37"/>
                    </a:lnTo>
                    <a:lnTo>
                      <a:pt x="140" y="320"/>
                    </a:lnTo>
                    <a:lnTo>
                      <a:pt x="99" y="320"/>
                    </a:lnTo>
                    <a:close/>
                  </a:path>
                </a:pathLst>
              </a:custGeom>
              <a:solidFill>
                <a:srgbClr val="1f1a17"/>
              </a:solidFill>
              <a:ln w="0">
                <a:noFill/>
              </a:ln>
            </p:spPr>
            <p:style>
              <a:lnRef idx="0"/>
              <a:fillRef idx="0"/>
              <a:effectRef idx="0"/>
              <a:fontRef idx="minor"/>
            </p:style>
            <p:txBody>
              <a:bodyPr lIns="90000" rIns="90000" tIns="3600" bIns="3600" anchor="t">
                <a:noAutofit/>
              </a:bodyPr>
              <a:p>
                <a:pPr>
                  <a:lnSpc>
                    <a:spcPct val="100000"/>
                  </a:lnSpc>
                </a:pPr>
                <a:endParaRPr b="0" lang="en-US" sz="1800" spc="-1" strike="noStrike">
                  <a:solidFill>
                    <a:srgbClr val="000000"/>
                  </a:solidFill>
                  <a:latin typeface="Arial"/>
                  <a:ea typeface="宋体"/>
                </a:endParaRPr>
              </a:p>
            </p:txBody>
          </p:sp>
          <p:sp>
            <p:nvSpPr>
              <p:cNvPr id="241" name="Freeform 44"/>
              <p:cNvSpPr/>
              <p:nvPr/>
            </p:nvSpPr>
            <p:spPr>
              <a:xfrm>
                <a:off x="4709160" y="1405800"/>
                <a:ext cx="36720" cy="48240"/>
              </a:xfrm>
              <a:custGeom>
                <a:avLst/>
                <a:gdLst>
                  <a:gd name="textAreaLeft" fmla="*/ 0 w 36720"/>
                  <a:gd name="textAreaRight" fmla="*/ 37080 w 36720"/>
                  <a:gd name="textAreaTop" fmla="*/ 0 h 48240"/>
                  <a:gd name="textAreaBottom" fmla="*/ 48600 h 48240"/>
                </a:gdLst>
                <a:ahLst/>
                <a:rect l="textAreaLeft" t="textAreaTop" r="textAreaRight" b="textAreaBottom"/>
                <a:pathLst>
                  <a:path w="227" h="320">
                    <a:moveTo>
                      <a:pt x="0" y="320"/>
                    </a:moveTo>
                    <a:lnTo>
                      <a:pt x="0" y="0"/>
                    </a:lnTo>
                    <a:lnTo>
                      <a:pt x="220" y="0"/>
                    </a:lnTo>
                    <a:lnTo>
                      <a:pt x="220" y="37"/>
                    </a:lnTo>
                    <a:lnTo>
                      <a:pt x="40" y="37"/>
                    </a:lnTo>
                    <a:lnTo>
                      <a:pt x="40" y="136"/>
                    </a:lnTo>
                    <a:lnTo>
                      <a:pt x="209" y="136"/>
                    </a:lnTo>
                    <a:lnTo>
                      <a:pt x="209" y="173"/>
                    </a:lnTo>
                    <a:lnTo>
                      <a:pt x="40" y="173"/>
                    </a:lnTo>
                    <a:lnTo>
                      <a:pt x="40" y="282"/>
                    </a:lnTo>
                    <a:lnTo>
                      <a:pt x="227" y="282"/>
                    </a:lnTo>
                    <a:lnTo>
                      <a:pt x="227" y="320"/>
                    </a:lnTo>
                    <a:lnTo>
                      <a:pt x="0" y="320"/>
                    </a:lnTo>
                    <a:close/>
                  </a:path>
                </a:pathLst>
              </a:custGeom>
              <a:solidFill>
                <a:srgbClr val="1f1a17"/>
              </a:solidFill>
              <a:ln w="0">
                <a:noFill/>
              </a:ln>
            </p:spPr>
            <p:style>
              <a:lnRef idx="0"/>
              <a:fillRef idx="0"/>
              <a:effectRef idx="0"/>
              <a:fontRef idx="minor"/>
            </p:style>
            <p:txBody>
              <a:bodyPr lIns="90000" rIns="90000" tIns="3600" bIns="3600" anchor="t">
                <a:noAutofit/>
              </a:bodyPr>
              <a:p>
                <a:pPr>
                  <a:lnSpc>
                    <a:spcPct val="100000"/>
                  </a:lnSpc>
                </a:pPr>
                <a:endParaRPr b="0" lang="en-US" sz="1800" spc="-1" strike="noStrike">
                  <a:solidFill>
                    <a:srgbClr val="000000"/>
                  </a:solidFill>
                  <a:latin typeface="Arial"/>
                  <a:ea typeface="宋体"/>
                </a:endParaRPr>
              </a:p>
            </p:txBody>
          </p:sp>
          <p:sp>
            <p:nvSpPr>
              <p:cNvPr id="242" name="Freeform 45"/>
              <p:cNvSpPr/>
              <p:nvPr/>
            </p:nvSpPr>
            <p:spPr>
              <a:xfrm>
                <a:off x="4758480" y="1405800"/>
                <a:ext cx="43200" cy="48240"/>
              </a:xfrm>
              <a:custGeom>
                <a:avLst/>
                <a:gdLst>
                  <a:gd name="textAreaLeft" fmla="*/ 0 w 43200"/>
                  <a:gd name="textAreaRight" fmla="*/ 43560 w 43200"/>
                  <a:gd name="textAreaTop" fmla="*/ 0 h 48240"/>
                  <a:gd name="textAreaBottom" fmla="*/ 48600 h 48240"/>
                </a:gdLst>
                <a:ahLst/>
                <a:rect l="textAreaLeft" t="textAreaTop" r="textAreaRight" b="textAreaBottom"/>
                <a:pathLst>
                  <a:path w="268" h="320">
                    <a:moveTo>
                      <a:pt x="0" y="320"/>
                    </a:moveTo>
                    <a:lnTo>
                      <a:pt x="0" y="0"/>
                    </a:lnTo>
                    <a:lnTo>
                      <a:pt x="135" y="0"/>
                    </a:lnTo>
                    <a:lnTo>
                      <a:pt x="154" y="0"/>
                    </a:lnTo>
                    <a:lnTo>
                      <a:pt x="171" y="2"/>
                    </a:lnTo>
                    <a:lnTo>
                      <a:pt x="186" y="4"/>
                    </a:lnTo>
                    <a:lnTo>
                      <a:pt x="197" y="9"/>
                    </a:lnTo>
                    <a:lnTo>
                      <a:pt x="207" y="14"/>
                    </a:lnTo>
                    <a:lnTo>
                      <a:pt x="216" y="20"/>
                    </a:lnTo>
                    <a:lnTo>
                      <a:pt x="224" y="29"/>
                    </a:lnTo>
                    <a:lnTo>
                      <a:pt x="231" y="39"/>
                    </a:lnTo>
                    <a:lnTo>
                      <a:pt x="237" y="50"/>
                    </a:lnTo>
                    <a:lnTo>
                      <a:pt x="241" y="62"/>
                    </a:lnTo>
                    <a:lnTo>
                      <a:pt x="243" y="74"/>
                    </a:lnTo>
                    <a:lnTo>
                      <a:pt x="244" y="87"/>
                    </a:lnTo>
                    <a:lnTo>
                      <a:pt x="243" y="95"/>
                    </a:lnTo>
                    <a:lnTo>
                      <a:pt x="242" y="104"/>
                    </a:lnTo>
                    <a:lnTo>
                      <a:pt x="241" y="111"/>
                    </a:lnTo>
                    <a:lnTo>
                      <a:pt x="239" y="119"/>
                    </a:lnTo>
                    <a:lnTo>
                      <a:pt x="235" y="125"/>
                    </a:lnTo>
                    <a:lnTo>
                      <a:pt x="232" y="133"/>
                    </a:lnTo>
                    <a:lnTo>
                      <a:pt x="228" y="139"/>
                    </a:lnTo>
                    <a:lnTo>
                      <a:pt x="223" y="144"/>
                    </a:lnTo>
                    <a:lnTo>
                      <a:pt x="217" y="151"/>
                    </a:lnTo>
                    <a:lnTo>
                      <a:pt x="211" y="155"/>
                    </a:lnTo>
                    <a:lnTo>
                      <a:pt x="204" y="160"/>
                    </a:lnTo>
                    <a:lnTo>
                      <a:pt x="196" y="163"/>
                    </a:lnTo>
                    <a:lnTo>
                      <a:pt x="188" y="167"/>
                    </a:lnTo>
                    <a:lnTo>
                      <a:pt x="178" y="170"/>
                    </a:lnTo>
                    <a:lnTo>
                      <a:pt x="169" y="173"/>
                    </a:lnTo>
                    <a:lnTo>
                      <a:pt x="158" y="174"/>
                    </a:lnTo>
                    <a:lnTo>
                      <a:pt x="172" y="182"/>
                    </a:lnTo>
                    <a:lnTo>
                      <a:pt x="183" y="190"/>
                    </a:lnTo>
                    <a:lnTo>
                      <a:pt x="191" y="199"/>
                    </a:lnTo>
                    <a:lnTo>
                      <a:pt x="199" y="209"/>
                    </a:lnTo>
                    <a:lnTo>
                      <a:pt x="208" y="220"/>
                    </a:lnTo>
                    <a:lnTo>
                      <a:pt x="215" y="232"/>
                    </a:lnTo>
                    <a:lnTo>
                      <a:pt x="268" y="320"/>
                    </a:lnTo>
                    <a:lnTo>
                      <a:pt x="217" y="320"/>
                    </a:lnTo>
                    <a:lnTo>
                      <a:pt x="177" y="253"/>
                    </a:lnTo>
                    <a:lnTo>
                      <a:pt x="169" y="240"/>
                    </a:lnTo>
                    <a:lnTo>
                      <a:pt x="161" y="228"/>
                    </a:lnTo>
                    <a:lnTo>
                      <a:pt x="155" y="217"/>
                    </a:lnTo>
                    <a:lnTo>
                      <a:pt x="149" y="209"/>
                    </a:lnTo>
                    <a:lnTo>
                      <a:pt x="143" y="202"/>
                    </a:lnTo>
                    <a:lnTo>
                      <a:pt x="138" y="196"/>
                    </a:lnTo>
                    <a:lnTo>
                      <a:pt x="133" y="191"/>
                    </a:lnTo>
                    <a:lnTo>
                      <a:pt x="129" y="188"/>
                    </a:lnTo>
                    <a:lnTo>
                      <a:pt x="119" y="182"/>
                    </a:lnTo>
                    <a:lnTo>
                      <a:pt x="109" y="179"/>
                    </a:lnTo>
                    <a:lnTo>
                      <a:pt x="101" y="178"/>
                    </a:lnTo>
                    <a:lnTo>
                      <a:pt x="87" y="178"/>
                    </a:lnTo>
                    <a:lnTo>
                      <a:pt x="41" y="178"/>
                    </a:lnTo>
                    <a:lnTo>
                      <a:pt x="41" y="320"/>
                    </a:lnTo>
                    <a:lnTo>
                      <a:pt x="0" y="320"/>
                    </a:lnTo>
                    <a:close/>
                    <a:moveTo>
                      <a:pt x="41" y="141"/>
                    </a:moveTo>
                    <a:lnTo>
                      <a:pt x="127" y="141"/>
                    </a:lnTo>
                    <a:lnTo>
                      <a:pt x="140" y="141"/>
                    </a:lnTo>
                    <a:lnTo>
                      <a:pt x="152" y="140"/>
                    </a:lnTo>
                    <a:lnTo>
                      <a:pt x="161" y="138"/>
                    </a:lnTo>
                    <a:lnTo>
                      <a:pt x="170" y="135"/>
                    </a:lnTo>
                    <a:lnTo>
                      <a:pt x="177" y="131"/>
                    </a:lnTo>
                    <a:lnTo>
                      <a:pt x="184" y="127"/>
                    </a:lnTo>
                    <a:lnTo>
                      <a:pt x="190" y="122"/>
                    </a:lnTo>
                    <a:lnTo>
                      <a:pt x="194" y="116"/>
                    </a:lnTo>
                    <a:lnTo>
                      <a:pt x="197" y="109"/>
                    </a:lnTo>
                    <a:lnTo>
                      <a:pt x="201" y="102"/>
                    </a:lnTo>
                    <a:lnTo>
                      <a:pt x="202" y="94"/>
                    </a:lnTo>
                    <a:lnTo>
                      <a:pt x="202" y="87"/>
                    </a:lnTo>
                    <a:lnTo>
                      <a:pt x="202" y="76"/>
                    </a:lnTo>
                    <a:lnTo>
                      <a:pt x="198" y="67"/>
                    </a:lnTo>
                    <a:lnTo>
                      <a:pt x="196" y="62"/>
                    </a:lnTo>
                    <a:lnTo>
                      <a:pt x="193" y="57"/>
                    </a:lnTo>
                    <a:lnTo>
                      <a:pt x="190" y="54"/>
                    </a:lnTo>
                    <a:lnTo>
                      <a:pt x="187" y="50"/>
                    </a:lnTo>
                    <a:lnTo>
                      <a:pt x="183" y="47"/>
                    </a:lnTo>
                    <a:lnTo>
                      <a:pt x="177" y="43"/>
                    </a:lnTo>
                    <a:lnTo>
                      <a:pt x="172" y="41"/>
                    </a:lnTo>
                    <a:lnTo>
                      <a:pt x="167" y="39"/>
                    </a:lnTo>
                    <a:lnTo>
                      <a:pt x="153" y="36"/>
                    </a:lnTo>
                    <a:lnTo>
                      <a:pt x="137" y="35"/>
                    </a:lnTo>
                    <a:lnTo>
                      <a:pt x="41" y="35"/>
                    </a:lnTo>
                    <a:lnTo>
                      <a:pt x="41" y="141"/>
                    </a:lnTo>
                    <a:close/>
                  </a:path>
                </a:pathLst>
              </a:custGeom>
              <a:solidFill>
                <a:srgbClr val="1f1a17"/>
              </a:solidFill>
              <a:ln w="0">
                <a:noFill/>
              </a:ln>
            </p:spPr>
            <p:style>
              <a:lnRef idx="0"/>
              <a:fillRef idx="0"/>
              <a:effectRef idx="0"/>
              <a:fontRef idx="minor"/>
            </p:style>
            <p:txBody>
              <a:bodyPr lIns="90000" rIns="90000" tIns="3600" bIns="3600" anchor="t">
                <a:noAutofit/>
              </a:bodyPr>
              <a:p>
                <a:pPr>
                  <a:lnSpc>
                    <a:spcPct val="100000"/>
                  </a:lnSpc>
                </a:pPr>
                <a:endParaRPr b="0" lang="en-US" sz="1800" spc="-1" strike="noStrike">
                  <a:solidFill>
                    <a:srgbClr val="000000"/>
                  </a:solidFill>
                  <a:latin typeface="Arial"/>
                  <a:ea typeface="宋体"/>
                </a:endParaRPr>
              </a:p>
            </p:txBody>
          </p:sp>
          <p:sp>
            <p:nvSpPr>
              <p:cNvPr id="243" name="Freeform 46"/>
              <p:cNvSpPr/>
              <p:nvPr/>
            </p:nvSpPr>
            <p:spPr>
              <a:xfrm>
                <a:off x="4812120" y="1405800"/>
                <a:ext cx="36720" cy="48240"/>
              </a:xfrm>
              <a:custGeom>
                <a:avLst/>
                <a:gdLst>
                  <a:gd name="textAreaLeft" fmla="*/ 0 w 36720"/>
                  <a:gd name="textAreaRight" fmla="*/ 37080 w 36720"/>
                  <a:gd name="textAreaTop" fmla="*/ 0 h 48240"/>
                  <a:gd name="textAreaBottom" fmla="*/ 48600 h 48240"/>
                </a:gdLst>
                <a:ahLst/>
                <a:rect l="textAreaLeft" t="textAreaTop" r="textAreaRight" b="textAreaBottom"/>
                <a:pathLst>
                  <a:path w="232" h="320">
                    <a:moveTo>
                      <a:pt x="0" y="320"/>
                    </a:moveTo>
                    <a:lnTo>
                      <a:pt x="0" y="0"/>
                    </a:lnTo>
                    <a:lnTo>
                      <a:pt x="114" y="0"/>
                    </a:lnTo>
                    <a:lnTo>
                      <a:pt x="129" y="0"/>
                    </a:lnTo>
                    <a:lnTo>
                      <a:pt x="141" y="1"/>
                    </a:lnTo>
                    <a:lnTo>
                      <a:pt x="151" y="1"/>
                    </a:lnTo>
                    <a:lnTo>
                      <a:pt x="161" y="3"/>
                    </a:lnTo>
                    <a:lnTo>
                      <a:pt x="172" y="5"/>
                    </a:lnTo>
                    <a:lnTo>
                      <a:pt x="181" y="9"/>
                    </a:lnTo>
                    <a:lnTo>
                      <a:pt x="191" y="13"/>
                    </a:lnTo>
                    <a:lnTo>
                      <a:pt x="198" y="18"/>
                    </a:lnTo>
                    <a:lnTo>
                      <a:pt x="205" y="24"/>
                    </a:lnTo>
                    <a:lnTo>
                      <a:pt x="212" y="31"/>
                    </a:lnTo>
                    <a:lnTo>
                      <a:pt x="218" y="39"/>
                    </a:lnTo>
                    <a:lnTo>
                      <a:pt x="223" y="49"/>
                    </a:lnTo>
                    <a:lnTo>
                      <a:pt x="227" y="58"/>
                    </a:lnTo>
                    <a:lnTo>
                      <a:pt x="230" y="70"/>
                    </a:lnTo>
                    <a:lnTo>
                      <a:pt x="232" y="81"/>
                    </a:lnTo>
                    <a:lnTo>
                      <a:pt x="232" y="92"/>
                    </a:lnTo>
                    <a:lnTo>
                      <a:pt x="232" y="103"/>
                    </a:lnTo>
                    <a:lnTo>
                      <a:pt x="231" y="112"/>
                    </a:lnTo>
                    <a:lnTo>
                      <a:pt x="229" y="121"/>
                    </a:lnTo>
                    <a:lnTo>
                      <a:pt x="226" y="130"/>
                    </a:lnTo>
                    <a:lnTo>
                      <a:pt x="222" y="139"/>
                    </a:lnTo>
                    <a:lnTo>
                      <a:pt x="218" y="146"/>
                    </a:lnTo>
                    <a:lnTo>
                      <a:pt x="213" y="154"/>
                    </a:lnTo>
                    <a:lnTo>
                      <a:pt x="208" y="161"/>
                    </a:lnTo>
                    <a:lnTo>
                      <a:pt x="200" y="169"/>
                    </a:lnTo>
                    <a:lnTo>
                      <a:pt x="193" y="174"/>
                    </a:lnTo>
                    <a:lnTo>
                      <a:pt x="183" y="179"/>
                    </a:lnTo>
                    <a:lnTo>
                      <a:pt x="173" y="182"/>
                    </a:lnTo>
                    <a:lnTo>
                      <a:pt x="161" y="185"/>
                    </a:lnTo>
                    <a:lnTo>
                      <a:pt x="148" y="188"/>
                    </a:lnTo>
                    <a:lnTo>
                      <a:pt x="133" y="190"/>
                    </a:lnTo>
                    <a:lnTo>
                      <a:pt x="119" y="190"/>
                    </a:lnTo>
                    <a:lnTo>
                      <a:pt x="40" y="190"/>
                    </a:lnTo>
                    <a:lnTo>
                      <a:pt x="40" y="320"/>
                    </a:lnTo>
                    <a:lnTo>
                      <a:pt x="0" y="320"/>
                    </a:lnTo>
                    <a:close/>
                    <a:moveTo>
                      <a:pt x="40" y="152"/>
                    </a:moveTo>
                    <a:lnTo>
                      <a:pt x="119" y="152"/>
                    </a:lnTo>
                    <a:lnTo>
                      <a:pt x="128" y="152"/>
                    </a:lnTo>
                    <a:lnTo>
                      <a:pt x="137" y="151"/>
                    </a:lnTo>
                    <a:lnTo>
                      <a:pt x="145" y="149"/>
                    </a:lnTo>
                    <a:lnTo>
                      <a:pt x="152" y="148"/>
                    </a:lnTo>
                    <a:lnTo>
                      <a:pt x="159" y="146"/>
                    </a:lnTo>
                    <a:lnTo>
                      <a:pt x="164" y="143"/>
                    </a:lnTo>
                    <a:lnTo>
                      <a:pt x="169" y="140"/>
                    </a:lnTo>
                    <a:lnTo>
                      <a:pt x="175" y="137"/>
                    </a:lnTo>
                    <a:lnTo>
                      <a:pt x="178" y="133"/>
                    </a:lnTo>
                    <a:lnTo>
                      <a:pt x="181" y="128"/>
                    </a:lnTo>
                    <a:lnTo>
                      <a:pt x="184" y="123"/>
                    </a:lnTo>
                    <a:lnTo>
                      <a:pt x="186" y="119"/>
                    </a:lnTo>
                    <a:lnTo>
                      <a:pt x="188" y="112"/>
                    </a:lnTo>
                    <a:lnTo>
                      <a:pt x="190" y="107"/>
                    </a:lnTo>
                    <a:lnTo>
                      <a:pt x="191" y="101"/>
                    </a:lnTo>
                    <a:lnTo>
                      <a:pt x="191" y="93"/>
                    </a:lnTo>
                    <a:lnTo>
                      <a:pt x="190" y="84"/>
                    </a:lnTo>
                    <a:lnTo>
                      <a:pt x="188" y="75"/>
                    </a:lnTo>
                    <a:lnTo>
                      <a:pt x="185" y="67"/>
                    </a:lnTo>
                    <a:lnTo>
                      <a:pt x="181" y="59"/>
                    </a:lnTo>
                    <a:lnTo>
                      <a:pt x="176" y="53"/>
                    </a:lnTo>
                    <a:lnTo>
                      <a:pt x="169" y="48"/>
                    </a:lnTo>
                    <a:lnTo>
                      <a:pt x="163" y="43"/>
                    </a:lnTo>
                    <a:lnTo>
                      <a:pt x="156" y="40"/>
                    </a:lnTo>
                    <a:lnTo>
                      <a:pt x="149" y="39"/>
                    </a:lnTo>
                    <a:lnTo>
                      <a:pt x="141" y="38"/>
                    </a:lnTo>
                    <a:lnTo>
                      <a:pt x="130" y="38"/>
                    </a:lnTo>
                    <a:lnTo>
                      <a:pt x="118" y="37"/>
                    </a:lnTo>
                    <a:lnTo>
                      <a:pt x="40" y="37"/>
                    </a:lnTo>
                    <a:lnTo>
                      <a:pt x="40" y="152"/>
                    </a:lnTo>
                    <a:close/>
                  </a:path>
                </a:pathLst>
              </a:custGeom>
              <a:solidFill>
                <a:srgbClr val="1f1a17"/>
              </a:solidFill>
              <a:ln w="0">
                <a:noFill/>
              </a:ln>
            </p:spPr>
            <p:style>
              <a:lnRef idx="0"/>
              <a:fillRef idx="0"/>
              <a:effectRef idx="0"/>
              <a:fontRef idx="minor"/>
            </p:style>
            <p:txBody>
              <a:bodyPr lIns="90000" rIns="90000" tIns="3600" bIns="3600" anchor="t">
                <a:noAutofit/>
              </a:bodyPr>
              <a:p>
                <a:pPr>
                  <a:lnSpc>
                    <a:spcPct val="100000"/>
                  </a:lnSpc>
                </a:pPr>
                <a:endParaRPr b="0" lang="en-US" sz="1800" spc="-1" strike="noStrike">
                  <a:solidFill>
                    <a:srgbClr val="000000"/>
                  </a:solidFill>
                  <a:latin typeface="Arial"/>
                  <a:ea typeface="宋体"/>
                </a:endParaRPr>
              </a:p>
            </p:txBody>
          </p:sp>
          <p:sp>
            <p:nvSpPr>
              <p:cNvPr id="244" name="Freeform 47"/>
              <p:cNvSpPr/>
              <p:nvPr/>
            </p:nvSpPr>
            <p:spPr>
              <a:xfrm>
                <a:off x="4861080" y="1405800"/>
                <a:ext cx="43200" cy="48240"/>
              </a:xfrm>
              <a:custGeom>
                <a:avLst/>
                <a:gdLst>
                  <a:gd name="textAreaLeft" fmla="*/ 0 w 43200"/>
                  <a:gd name="textAreaRight" fmla="*/ 43560 w 43200"/>
                  <a:gd name="textAreaTop" fmla="*/ 0 h 48240"/>
                  <a:gd name="textAreaBottom" fmla="*/ 48600 h 48240"/>
                </a:gdLst>
                <a:ahLst/>
                <a:rect l="textAreaLeft" t="textAreaTop" r="textAreaRight" b="textAreaBottom"/>
                <a:pathLst>
                  <a:path w="268" h="320">
                    <a:moveTo>
                      <a:pt x="0" y="320"/>
                    </a:moveTo>
                    <a:lnTo>
                      <a:pt x="0" y="0"/>
                    </a:lnTo>
                    <a:lnTo>
                      <a:pt x="135" y="0"/>
                    </a:lnTo>
                    <a:lnTo>
                      <a:pt x="154" y="0"/>
                    </a:lnTo>
                    <a:lnTo>
                      <a:pt x="171" y="2"/>
                    </a:lnTo>
                    <a:lnTo>
                      <a:pt x="185" y="4"/>
                    </a:lnTo>
                    <a:lnTo>
                      <a:pt x="197" y="9"/>
                    </a:lnTo>
                    <a:lnTo>
                      <a:pt x="207" y="14"/>
                    </a:lnTo>
                    <a:lnTo>
                      <a:pt x="216" y="20"/>
                    </a:lnTo>
                    <a:lnTo>
                      <a:pt x="224" y="29"/>
                    </a:lnTo>
                    <a:lnTo>
                      <a:pt x="231" y="39"/>
                    </a:lnTo>
                    <a:lnTo>
                      <a:pt x="236" y="50"/>
                    </a:lnTo>
                    <a:lnTo>
                      <a:pt x="241" y="62"/>
                    </a:lnTo>
                    <a:lnTo>
                      <a:pt x="243" y="74"/>
                    </a:lnTo>
                    <a:lnTo>
                      <a:pt x="244" y="87"/>
                    </a:lnTo>
                    <a:lnTo>
                      <a:pt x="243" y="95"/>
                    </a:lnTo>
                    <a:lnTo>
                      <a:pt x="242" y="104"/>
                    </a:lnTo>
                    <a:lnTo>
                      <a:pt x="241" y="111"/>
                    </a:lnTo>
                    <a:lnTo>
                      <a:pt x="239" y="119"/>
                    </a:lnTo>
                    <a:lnTo>
                      <a:pt x="235" y="125"/>
                    </a:lnTo>
                    <a:lnTo>
                      <a:pt x="231" y="133"/>
                    </a:lnTo>
                    <a:lnTo>
                      <a:pt x="227" y="139"/>
                    </a:lnTo>
                    <a:lnTo>
                      <a:pt x="223" y="144"/>
                    </a:lnTo>
                    <a:lnTo>
                      <a:pt x="216" y="151"/>
                    </a:lnTo>
                    <a:lnTo>
                      <a:pt x="210" y="155"/>
                    </a:lnTo>
                    <a:lnTo>
                      <a:pt x="204" y="160"/>
                    </a:lnTo>
                    <a:lnTo>
                      <a:pt x="195" y="163"/>
                    </a:lnTo>
                    <a:lnTo>
                      <a:pt x="187" y="167"/>
                    </a:lnTo>
                    <a:lnTo>
                      <a:pt x="178" y="170"/>
                    </a:lnTo>
                    <a:lnTo>
                      <a:pt x="168" y="173"/>
                    </a:lnTo>
                    <a:lnTo>
                      <a:pt x="157" y="174"/>
                    </a:lnTo>
                    <a:lnTo>
                      <a:pt x="172" y="182"/>
                    </a:lnTo>
                    <a:lnTo>
                      <a:pt x="181" y="190"/>
                    </a:lnTo>
                    <a:lnTo>
                      <a:pt x="191" y="199"/>
                    </a:lnTo>
                    <a:lnTo>
                      <a:pt x="199" y="209"/>
                    </a:lnTo>
                    <a:lnTo>
                      <a:pt x="207" y="220"/>
                    </a:lnTo>
                    <a:lnTo>
                      <a:pt x="215" y="232"/>
                    </a:lnTo>
                    <a:lnTo>
                      <a:pt x="268" y="320"/>
                    </a:lnTo>
                    <a:lnTo>
                      <a:pt x="217" y="320"/>
                    </a:lnTo>
                    <a:lnTo>
                      <a:pt x="177" y="253"/>
                    </a:lnTo>
                    <a:lnTo>
                      <a:pt x="169" y="240"/>
                    </a:lnTo>
                    <a:lnTo>
                      <a:pt x="161" y="228"/>
                    </a:lnTo>
                    <a:lnTo>
                      <a:pt x="154" y="217"/>
                    </a:lnTo>
                    <a:lnTo>
                      <a:pt x="149" y="209"/>
                    </a:lnTo>
                    <a:lnTo>
                      <a:pt x="142" y="202"/>
                    </a:lnTo>
                    <a:lnTo>
                      <a:pt x="137" y="196"/>
                    </a:lnTo>
                    <a:lnTo>
                      <a:pt x="133" y="191"/>
                    </a:lnTo>
                    <a:lnTo>
                      <a:pt x="127" y="188"/>
                    </a:lnTo>
                    <a:lnTo>
                      <a:pt x="119" y="182"/>
                    </a:lnTo>
                    <a:lnTo>
                      <a:pt x="109" y="179"/>
                    </a:lnTo>
                    <a:lnTo>
                      <a:pt x="100" y="178"/>
                    </a:lnTo>
                    <a:lnTo>
                      <a:pt x="87" y="178"/>
                    </a:lnTo>
                    <a:lnTo>
                      <a:pt x="41" y="178"/>
                    </a:lnTo>
                    <a:lnTo>
                      <a:pt x="41" y="320"/>
                    </a:lnTo>
                    <a:lnTo>
                      <a:pt x="0" y="320"/>
                    </a:lnTo>
                    <a:close/>
                    <a:moveTo>
                      <a:pt x="41" y="141"/>
                    </a:moveTo>
                    <a:lnTo>
                      <a:pt x="126" y="141"/>
                    </a:lnTo>
                    <a:lnTo>
                      <a:pt x="140" y="141"/>
                    </a:lnTo>
                    <a:lnTo>
                      <a:pt x="152" y="140"/>
                    </a:lnTo>
                    <a:lnTo>
                      <a:pt x="161" y="138"/>
                    </a:lnTo>
                    <a:lnTo>
                      <a:pt x="170" y="135"/>
                    </a:lnTo>
                    <a:lnTo>
                      <a:pt x="177" y="131"/>
                    </a:lnTo>
                    <a:lnTo>
                      <a:pt x="184" y="127"/>
                    </a:lnTo>
                    <a:lnTo>
                      <a:pt x="189" y="122"/>
                    </a:lnTo>
                    <a:lnTo>
                      <a:pt x="194" y="116"/>
                    </a:lnTo>
                    <a:lnTo>
                      <a:pt x="197" y="109"/>
                    </a:lnTo>
                    <a:lnTo>
                      <a:pt x="199" y="102"/>
                    </a:lnTo>
                    <a:lnTo>
                      <a:pt x="202" y="94"/>
                    </a:lnTo>
                    <a:lnTo>
                      <a:pt x="202" y="87"/>
                    </a:lnTo>
                    <a:lnTo>
                      <a:pt x="200" y="76"/>
                    </a:lnTo>
                    <a:lnTo>
                      <a:pt x="198" y="67"/>
                    </a:lnTo>
                    <a:lnTo>
                      <a:pt x="195" y="62"/>
                    </a:lnTo>
                    <a:lnTo>
                      <a:pt x="193" y="57"/>
                    </a:lnTo>
                    <a:lnTo>
                      <a:pt x="190" y="54"/>
                    </a:lnTo>
                    <a:lnTo>
                      <a:pt x="186" y="50"/>
                    </a:lnTo>
                    <a:lnTo>
                      <a:pt x="181" y="47"/>
                    </a:lnTo>
                    <a:lnTo>
                      <a:pt x="177" y="43"/>
                    </a:lnTo>
                    <a:lnTo>
                      <a:pt x="172" y="41"/>
                    </a:lnTo>
                    <a:lnTo>
                      <a:pt x="166" y="39"/>
                    </a:lnTo>
                    <a:lnTo>
                      <a:pt x="153" y="36"/>
                    </a:lnTo>
                    <a:lnTo>
                      <a:pt x="137" y="35"/>
                    </a:lnTo>
                    <a:lnTo>
                      <a:pt x="41" y="35"/>
                    </a:lnTo>
                    <a:lnTo>
                      <a:pt x="41" y="141"/>
                    </a:lnTo>
                    <a:close/>
                  </a:path>
                </a:pathLst>
              </a:custGeom>
              <a:solidFill>
                <a:srgbClr val="1f1a17"/>
              </a:solidFill>
              <a:ln w="0">
                <a:noFill/>
              </a:ln>
            </p:spPr>
            <p:style>
              <a:lnRef idx="0"/>
              <a:fillRef idx="0"/>
              <a:effectRef idx="0"/>
              <a:fontRef idx="minor"/>
            </p:style>
            <p:txBody>
              <a:bodyPr lIns="90000" rIns="90000" tIns="3600" bIns="3600" anchor="t">
                <a:noAutofit/>
              </a:bodyPr>
              <a:p>
                <a:pPr>
                  <a:lnSpc>
                    <a:spcPct val="100000"/>
                  </a:lnSpc>
                </a:pPr>
                <a:endParaRPr b="0" lang="en-US" sz="1800" spc="-1" strike="noStrike">
                  <a:solidFill>
                    <a:srgbClr val="000000"/>
                  </a:solidFill>
                  <a:latin typeface="Arial"/>
                  <a:ea typeface="宋体"/>
                </a:endParaRPr>
              </a:p>
            </p:txBody>
          </p:sp>
          <p:sp>
            <p:nvSpPr>
              <p:cNvPr id="245" name="Rectangle 48"/>
              <p:cNvSpPr/>
              <p:nvPr/>
            </p:nvSpPr>
            <p:spPr>
              <a:xfrm>
                <a:off x="4915800" y="1405800"/>
                <a:ext cx="5400" cy="48240"/>
              </a:xfrm>
              <a:prstGeom prst="rect">
                <a:avLst/>
              </a:prstGeom>
              <a:solidFill>
                <a:srgbClr val="1f1a17"/>
              </a:solidFill>
              <a:ln w="0">
                <a:noFill/>
              </a:ln>
            </p:spPr>
            <p:style>
              <a:lnRef idx="0"/>
              <a:fillRef idx="0"/>
              <a:effectRef idx="0"/>
              <a:fontRef idx="minor"/>
            </p:style>
            <p:txBody>
              <a:bodyPr lIns="90000" rIns="90000" tIns="3600" bIns="3600" anchor="t">
                <a:noAutofit/>
              </a:bodyPr>
              <a:p>
                <a:pPr>
                  <a:lnSpc>
                    <a:spcPct val="100000"/>
                  </a:lnSpc>
                </a:pPr>
                <a:endParaRPr b="0" lang="en-US" sz="1800" spc="-1" strike="noStrike">
                  <a:solidFill>
                    <a:srgbClr val="000000"/>
                  </a:solidFill>
                  <a:latin typeface="Arial"/>
                  <a:ea typeface="宋体"/>
                </a:endParaRPr>
              </a:p>
            </p:txBody>
          </p:sp>
          <p:sp>
            <p:nvSpPr>
              <p:cNvPr id="246" name="Freeform 49"/>
              <p:cNvSpPr/>
              <p:nvPr/>
            </p:nvSpPr>
            <p:spPr>
              <a:xfrm>
                <a:off x="4934880" y="1404720"/>
                <a:ext cx="38880" cy="49320"/>
              </a:xfrm>
              <a:custGeom>
                <a:avLst/>
                <a:gdLst>
                  <a:gd name="textAreaLeft" fmla="*/ 0 w 38880"/>
                  <a:gd name="textAreaRight" fmla="*/ 39240 w 38880"/>
                  <a:gd name="textAreaTop" fmla="*/ 0 h 49320"/>
                  <a:gd name="textAreaBottom" fmla="*/ 49680 h 49320"/>
                </a:gdLst>
                <a:ahLst/>
                <a:rect l="textAreaLeft" t="textAreaTop" r="textAreaRight" b="textAreaBottom"/>
                <a:pathLst>
                  <a:path w="243" h="330">
                    <a:moveTo>
                      <a:pt x="0" y="222"/>
                    </a:moveTo>
                    <a:lnTo>
                      <a:pt x="38" y="218"/>
                    </a:lnTo>
                    <a:lnTo>
                      <a:pt x="40" y="230"/>
                    </a:lnTo>
                    <a:lnTo>
                      <a:pt x="44" y="240"/>
                    </a:lnTo>
                    <a:lnTo>
                      <a:pt x="47" y="250"/>
                    </a:lnTo>
                    <a:lnTo>
                      <a:pt x="51" y="257"/>
                    </a:lnTo>
                    <a:lnTo>
                      <a:pt x="56" y="265"/>
                    </a:lnTo>
                    <a:lnTo>
                      <a:pt x="64" y="272"/>
                    </a:lnTo>
                    <a:lnTo>
                      <a:pt x="72" y="277"/>
                    </a:lnTo>
                    <a:lnTo>
                      <a:pt x="82" y="283"/>
                    </a:lnTo>
                    <a:lnTo>
                      <a:pt x="92" y="287"/>
                    </a:lnTo>
                    <a:lnTo>
                      <a:pt x="104" y="290"/>
                    </a:lnTo>
                    <a:lnTo>
                      <a:pt x="116" y="291"/>
                    </a:lnTo>
                    <a:lnTo>
                      <a:pt x="128" y="292"/>
                    </a:lnTo>
                    <a:lnTo>
                      <a:pt x="140" y="291"/>
                    </a:lnTo>
                    <a:lnTo>
                      <a:pt x="150" y="290"/>
                    </a:lnTo>
                    <a:lnTo>
                      <a:pt x="160" y="288"/>
                    </a:lnTo>
                    <a:lnTo>
                      <a:pt x="170" y="285"/>
                    </a:lnTo>
                    <a:lnTo>
                      <a:pt x="177" y="281"/>
                    </a:lnTo>
                    <a:lnTo>
                      <a:pt x="184" y="276"/>
                    </a:lnTo>
                    <a:lnTo>
                      <a:pt x="191" y="271"/>
                    </a:lnTo>
                    <a:lnTo>
                      <a:pt x="196" y="266"/>
                    </a:lnTo>
                    <a:lnTo>
                      <a:pt x="199" y="258"/>
                    </a:lnTo>
                    <a:lnTo>
                      <a:pt x="202" y="252"/>
                    </a:lnTo>
                    <a:lnTo>
                      <a:pt x="203" y="246"/>
                    </a:lnTo>
                    <a:lnTo>
                      <a:pt x="205" y="238"/>
                    </a:lnTo>
                    <a:lnTo>
                      <a:pt x="203" y="231"/>
                    </a:lnTo>
                    <a:lnTo>
                      <a:pt x="202" y="223"/>
                    </a:lnTo>
                    <a:lnTo>
                      <a:pt x="199" y="217"/>
                    </a:lnTo>
                    <a:lnTo>
                      <a:pt x="196" y="212"/>
                    </a:lnTo>
                    <a:lnTo>
                      <a:pt x="191" y="206"/>
                    </a:lnTo>
                    <a:lnTo>
                      <a:pt x="184" y="201"/>
                    </a:lnTo>
                    <a:lnTo>
                      <a:pt x="177" y="197"/>
                    </a:lnTo>
                    <a:lnTo>
                      <a:pt x="168" y="193"/>
                    </a:lnTo>
                    <a:lnTo>
                      <a:pt x="160" y="189"/>
                    </a:lnTo>
                    <a:lnTo>
                      <a:pt x="148" y="186"/>
                    </a:lnTo>
                    <a:lnTo>
                      <a:pt x="134" y="182"/>
                    </a:lnTo>
                    <a:lnTo>
                      <a:pt x="114" y="177"/>
                    </a:lnTo>
                    <a:lnTo>
                      <a:pt x="94" y="171"/>
                    </a:lnTo>
                    <a:lnTo>
                      <a:pt x="78" y="167"/>
                    </a:lnTo>
                    <a:lnTo>
                      <a:pt x="66" y="162"/>
                    </a:lnTo>
                    <a:lnTo>
                      <a:pt x="55" y="157"/>
                    </a:lnTo>
                    <a:lnTo>
                      <a:pt x="46" y="151"/>
                    </a:lnTo>
                    <a:lnTo>
                      <a:pt x="36" y="144"/>
                    </a:lnTo>
                    <a:lnTo>
                      <a:pt x="29" y="135"/>
                    </a:lnTo>
                    <a:lnTo>
                      <a:pt x="22" y="127"/>
                    </a:lnTo>
                    <a:lnTo>
                      <a:pt x="18" y="118"/>
                    </a:lnTo>
                    <a:lnTo>
                      <a:pt x="15" y="109"/>
                    </a:lnTo>
                    <a:lnTo>
                      <a:pt x="13" y="98"/>
                    </a:lnTo>
                    <a:lnTo>
                      <a:pt x="12" y="88"/>
                    </a:lnTo>
                    <a:lnTo>
                      <a:pt x="13" y="76"/>
                    </a:lnTo>
                    <a:lnTo>
                      <a:pt x="15" y="64"/>
                    </a:lnTo>
                    <a:lnTo>
                      <a:pt x="19" y="53"/>
                    </a:lnTo>
                    <a:lnTo>
                      <a:pt x="26" y="42"/>
                    </a:lnTo>
                    <a:lnTo>
                      <a:pt x="33" y="33"/>
                    </a:lnTo>
                    <a:lnTo>
                      <a:pt x="41" y="24"/>
                    </a:lnTo>
                    <a:lnTo>
                      <a:pt x="52" y="17"/>
                    </a:lnTo>
                    <a:lnTo>
                      <a:pt x="64" y="10"/>
                    </a:lnTo>
                    <a:lnTo>
                      <a:pt x="76" y="5"/>
                    </a:lnTo>
                    <a:lnTo>
                      <a:pt x="90" y="2"/>
                    </a:lnTo>
                    <a:lnTo>
                      <a:pt x="104" y="0"/>
                    </a:lnTo>
                    <a:lnTo>
                      <a:pt x="120" y="0"/>
                    </a:lnTo>
                    <a:lnTo>
                      <a:pt x="136" y="0"/>
                    </a:lnTo>
                    <a:lnTo>
                      <a:pt x="152" y="2"/>
                    </a:lnTo>
                    <a:lnTo>
                      <a:pt x="165" y="6"/>
                    </a:lnTo>
                    <a:lnTo>
                      <a:pt x="179" y="10"/>
                    </a:lnTo>
                    <a:lnTo>
                      <a:pt x="192" y="18"/>
                    </a:lnTo>
                    <a:lnTo>
                      <a:pt x="202" y="25"/>
                    </a:lnTo>
                    <a:lnTo>
                      <a:pt x="211" y="34"/>
                    </a:lnTo>
                    <a:lnTo>
                      <a:pt x="219" y="44"/>
                    </a:lnTo>
                    <a:lnTo>
                      <a:pt x="225" y="56"/>
                    </a:lnTo>
                    <a:lnTo>
                      <a:pt x="230" y="69"/>
                    </a:lnTo>
                    <a:lnTo>
                      <a:pt x="232" y="81"/>
                    </a:lnTo>
                    <a:lnTo>
                      <a:pt x="234" y="95"/>
                    </a:lnTo>
                    <a:lnTo>
                      <a:pt x="195" y="98"/>
                    </a:lnTo>
                    <a:lnTo>
                      <a:pt x="194" y="91"/>
                    </a:lnTo>
                    <a:lnTo>
                      <a:pt x="193" y="83"/>
                    </a:lnTo>
                    <a:lnTo>
                      <a:pt x="191" y="77"/>
                    </a:lnTo>
                    <a:lnTo>
                      <a:pt x="189" y="72"/>
                    </a:lnTo>
                    <a:lnTo>
                      <a:pt x="185" y="65"/>
                    </a:lnTo>
                    <a:lnTo>
                      <a:pt x="182" y="61"/>
                    </a:lnTo>
                    <a:lnTo>
                      <a:pt x="178" y="56"/>
                    </a:lnTo>
                    <a:lnTo>
                      <a:pt x="174" y="52"/>
                    </a:lnTo>
                    <a:lnTo>
                      <a:pt x="170" y="48"/>
                    </a:lnTo>
                    <a:lnTo>
                      <a:pt x="164" y="45"/>
                    </a:lnTo>
                    <a:lnTo>
                      <a:pt x="158" y="43"/>
                    </a:lnTo>
                    <a:lnTo>
                      <a:pt x="152" y="41"/>
                    </a:lnTo>
                    <a:lnTo>
                      <a:pt x="145" y="39"/>
                    </a:lnTo>
                    <a:lnTo>
                      <a:pt x="138" y="38"/>
                    </a:lnTo>
                    <a:lnTo>
                      <a:pt x="129" y="37"/>
                    </a:lnTo>
                    <a:lnTo>
                      <a:pt x="121" y="37"/>
                    </a:lnTo>
                    <a:lnTo>
                      <a:pt x="104" y="38"/>
                    </a:lnTo>
                    <a:lnTo>
                      <a:pt x="89" y="40"/>
                    </a:lnTo>
                    <a:lnTo>
                      <a:pt x="83" y="42"/>
                    </a:lnTo>
                    <a:lnTo>
                      <a:pt x="77" y="44"/>
                    </a:lnTo>
                    <a:lnTo>
                      <a:pt x="72" y="47"/>
                    </a:lnTo>
                    <a:lnTo>
                      <a:pt x="68" y="51"/>
                    </a:lnTo>
                    <a:lnTo>
                      <a:pt x="60" y="58"/>
                    </a:lnTo>
                    <a:lnTo>
                      <a:pt x="55" y="67"/>
                    </a:lnTo>
                    <a:lnTo>
                      <a:pt x="53" y="71"/>
                    </a:lnTo>
                    <a:lnTo>
                      <a:pt x="52" y="75"/>
                    </a:lnTo>
                    <a:lnTo>
                      <a:pt x="51" y="80"/>
                    </a:lnTo>
                    <a:lnTo>
                      <a:pt x="51" y="85"/>
                    </a:lnTo>
                    <a:lnTo>
                      <a:pt x="52" y="93"/>
                    </a:lnTo>
                    <a:lnTo>
                      <a:pt x="54" y="100"/>
                    </a:lnTo>
                    <a:lnTo>
                      <a:pt x="57" y="107"/>
                    </a:lnTo>
                    <a:lnTo>
                      <a:pt x="63" y="113"/>
                    </a:lnTo>
                    <a:lnTo>
                      <a:pt x="67" y="116"/>
                    </a:lnTo>
                    <a:lnTo>
                      <a:pt x="71" y="118"/>
                    </a:lnTo>
                    <a:lnTo>
                      <a:pt x="76" y="122"/>
                    </a:lnTo>
                    <a:lnTo>
                      <a:pt x="84" y="125"/>
                    </a:lnTo>
                    <a:lnTo>
                      <a:pt x="102" y="130"/>
                    </a:lnTo>
                    <a:lnTo>
                      <a:pt x="124" y="135"/>
                    </a:lnTo>
                    <a:lnTo>
                      <a:pt x="146" y="142"/>
                    </a:lnTo>
                    <a:lnTo>
                      <a:pt x="165" y="147"/>
                    </a:lnTo>
                    <a:lnTo>
                      <a:pt x="180" y="151"/>
                    </a:lnTo>
                    <a:lnTo>
                      <a:pt x="191" y="157"/>
                    </a:lnTo>
                    <a:lnTo>
                      <a:pt x="203" y="163"/>
                    </a:lnTo>
                    <a:lnTo>
                      <a:pt x="214" y="170"/>
                    </a:lnTo>
                    <a:lnTo>
                      <a:pt x="224" y="180"/>
                    </a:lnTo>
                    <a:lnTo>
                      <a:pt x="230" y="188"/>
                    </a:lnTo>
                    <a:lnTo>
                      <a:pt x="236" y="199"/>
                    </a:lnTo>
                    <a:lnTo>
                      <a:pt x="239" y="211"/>
                    </a:lnTo>
                    <a:lnTo>
                      <a:pt x="243" y="222"/>
                    </a:lnTo>
                    <a:lnTo>
                      <a:pt x="243" y="234"/>
                    </a:lnTo>
                    <a:lnTo>
                      <a:pt x="243" y="247"/>
                    </a:lnTo>
                    <a:lnTo>
                      <a:pt x="239" y="259"/>
                    </a:lnTo>
                    <a:lnTo>
                      <a:pt x="235" y="271"/>
                    </a:lnTo>
                    <a:lnTo>
                      <a:pt x="229" y="283"/>
                    </a:lnTo>
                    <a:lnTo>
                      <a:pt x="221" y="293"/>
                    </a:lnTo>
                    <a:lnTo>
                      <a:pt x="212" y="303"/>
                    </a:lnTo>
                    <a:lnTo>
                      <a:pt x="201" y="310"/>
                    </a:lnTo>
                    <a:lnTo>
                      <a:pt x="189" y="318"/>
                    </a:lnTo>
                    <a:lnTo>
                      <a:pt x="176" y="323"/>
                    </a:lnTo>
                    <a:lnTo>
                      <a:pt x="161" y="327"/>
                    </a:lnTo>
                    <a:lnTo>
                      <a:pt x="146" y="329"/>
                    </a:lnTo>
                    <a:lnTo>
                      <a:pt x="130" y="330"/>
                    </a:lnTo>
                    <a:lnTo>
                      <a:pt x="110" y="329"/>
                    </a:lnTo>
                    <a:lnTo>
                      <a:pt x="92" y="327"/>
                    </a:lnTo>
                    <a:lnTo>
                      <a:pt x="76" y="323"/>
                    </a:lnTo>
                    <a:lnTo>
                      <a:pt x="62" y="318"/>
                    </a:lnTo>
                    <a:lnTo>
                      <a:pt x="54" y="314"/>
                    </a:lnTo>
                    <a:lnTo>
                      <a:pt x="48" y="310"/>
                    </a:lnTo>
                    <a:lnTo>
                      <a:pt x="41" y="306"/>
                    </a:lnTo>
                    <a:lnTo>
                      <a:pt x="36" y="302"/>
                    </a:lnTo>
                    <a:lnTo>
                      <a:pt x="31" y="296"/>
                    </a:lnTo>
                    <a:lnTo>
                      <a:pt x="26" y="291"/>
                    </a:lnTo>
                    <a:lnTo>
                      <a:pt x="21" y="286"/>
                    </a:lnTo>
                    <a:lnTo>
                      <a:pt x="17" y="280"/>
                    </a:lnTo>
                    <a:lnTo>
                      <a:pt x="11" y="267"/>
                    </a:lnTo>
                    <a:lnTo>
                      <a:pt x="5" y="252"/>
                    </a:lnTo>
                    <a:lnTo>
                      <a:pt x="2" y="237"/>
                    </a:lnTo>
                    <a:lnTo>
                      <a:pt x="0" y="222"/>
                    </a:lnTo>
                    <a:close/>
                  </a:path>
                </a:pathLst>
              </a:custGeom>
              <a:solidFill>
                <a:srgbClr val="1f1a17"/>
              </a:solidFill>
              <a:ln w="0">
                <a:noFill/>
              </a:ln>
            </p:spPr>
            <p:style>
              <a:lnRef idx="0"/>
              <a:fillRef idx="0"/>
              <a:effectRef idx="0"/>
              <a:fontRef idx="minor"/>
            </p:style>
            <p:txBody>
              <a:bodyPr lIns="90000" rIns="90000" tIns="4680" bIns="4680" anchor="t">
                <a:noAutofit/>
              </a:bodyPr>
              <a:p>
                <a:pPr>
                  <a:lnSpc>
                    <a:spcPct val="100000"/>
                  </a:lnSpc>
                </a:pPr>
                <a:endParaRPr b="0" lang="en-US" sz="1800" spc="-1" strike="noStrike">
                  <a:solidFill>
                    <a:srgbClr val="000000"/>
                  </a:solidFill>
                  <a:latin typeface="Arial"/>
                  <a:ea typeface="宋体"/>
                </a:endParaRPr>
              </a:p>
            </p:txBody>
          </p:sp>
          <p:sp>
            <p:nvSpPr>
              <p:cNvPr id="247" name="Freeform 50"/>
              <p:cNvSpPr/>
              <p:nvPr/>
            </p:nvSpPr>
            <p:spPr>
              <a:xfrm>
                <a:off x="4987440" y="1405800"/>
                <a:ext cx="35280" cy="48240"/>
              </a:xfrm>
              <a:custGeom>
                <a:avLst/>
                <a:gdLst>
                  <a:gd name="textAreaLeft" fmla="*/ 0 w 35280"/>
                  <a:gd name="textAreaRight" fmla="*/ 35640 w 35280"/>
                  <a:gd name="textAreaTop" fmla="*/ 0 h 48240"/>
                  <a:gd name="textAreaBottom" fmla="*/ 48600 h 48240"/>
                </a:gdLst>
                <a:ahLst/>
                <a:rect l="textAreaLeft" t="textAreaTop" r="textAreaRight" b="textAreaBottom"/>
                <a:pathLst>
                  <a:path w="228" h="320">
                    <a:moveTo>
                      <a:pt x="0" y="320"/>
                    </a:moveTo>
                    <a:lnTo>
                      <a:pt x="0" y="0"/>
                    </a:lnTo>
                    <a:lnTo>
                      <a:pt x="221" y="0"/>
                    </a:lnTo>
                    <a:lnTo>
                      <a:pt x="221" y="37"/>
                    </a:lnTo>
                    <a:lnTo>
                      <a:pt x="40" y="37"/>
                    </a:lnTo>
                    <a:lnTo>
                      <a:pt x="40" y="136"/>
                    </a:lnTo>
                    <a:lnTo>
                      <a:pt x="210" y="136"/>
                    </a:lnTo>
                    <a:lnTo>
                      <a:pt x="210" y="173"/>
                    </a:lnTo>
                    <a:lnTo>
                      <a:pt x="40" y="173"/>
                    </a:lnTo>
                    <a:lnTo>
                      <a:pt x="40" y="282"/>
                    </a:lnTo>
                    <a:lnTo>
                      <a:pt x="228" y="282"/>
                    </a:lnTo>
                    <a:lnTo>
                      <a:pt x="228" y="320"/>
                    </a:lnTo>
                    <a:lnTo>
                      <a:pt x="0" y="320"/>
                    </a:lnTo>
                    <a:close/>
                  </a:path>
                </a:pathLst>
              </a:custGeom>
              <a:solidFill>
                <a:srgbClr val="1f1a17"/>
              </a:solidFill>
              <a:ln w="0">
                <a:noFill/>
              </a:ln>
            </p:spPr>
            <p:style>
              <a:lnRef idx="0"/>
              <a:fillRef idx="0"/>
              <a:effectRef idx="0"/>
              <a:fontRef idx="minor"/>
            </p:style>
            <p:txBody>
              <a:bodyPr lIns="90000" rIns="90000" tIns="3600" bIns="3600" anchor="t">
                <a:noAutofit/>
              </a:bodyPr>
              <a:p>
                <a:pPr>
                  <a:lnSpc>
                    <a:spcPct val="100000"/>
                  </a:lnSpc>
                </a:pPr>
                <a:endParaRPr b="0" lang="en-US" sz="1800" spc="-1" strike="noStrike">
                  <a:solidFill>
                    <a:srgbClr val="000000"/>
                  </a:solidFill>
                  <a:latin typeface="Arial"/>
                  <a:ea typeface="宋体"/>
                </a:endParaRPr>
              </a:p>
            </p:txBody>
          </p:sp>
          <p:sp>
            <p:nvSpPr>
              <p:cNvPr id="248" name="Freeform 51"/>
              <p:cNvSpPr/>
              <p:nvPr/>
            </p:nvSpPr>
            <p:spPr>
              <a:xfrm>
                <a:off x="5056920" y="1405800"/>
                <a:ext cx="45360" cy="48240"/>
              </a:xfrm>
              <a:custGeom>
                <a:avLst/>
                <a:gdLst>
                  <a:gd name="textAreaLeft" fmla="*/ 0 w 45360"/>
                  <a:gd name="textAreaRight" fmla="*/ 45720 w 45360"/>
                  <a:gd name="textAreaTop" fmla="*/ 0 h 48240"/>
                  <a:gd name="textAreaBottom" fmla="*/ 48600 h 48240"/>
                </a:gdLst>
                <a:ahLst/>
                <a:rect l="textAreaLeft" t="textAreaTop" r="textAreaRight" b="textAreaBottom"/>
                <a:pathLst>
                  <a:path w="290" h="320">
                    <a:moveTo>
                      <a:pt x="0" y="320"/>
                    </a:moveTo>
                    <a:lnTo>
                      <a:pt x="0" y="0"/>
                    </a:lnTo>
                    <a:lnTo>
                      <a:pt x="60" y="0"/>
                    </a:lnTo>
                    <a:lnTo>
                      <a:pt x="132" y="226"/>
                    </a:lnTo>
                    <a:lnTo>
                      <a:pt x="136" y="241"/>
                    </a:lnTo>
                    <a:lnTo>
                      <a:pt x="140" y="254"/>
                    </a:lnTo>
                    <a:lnTo>
                      <a:pt x="144" y="265"/>
                    </a:lnTo>
                    <a:lnTo>
                      <a:pt x="147" y="273"/>
                    </a:lnTo>
                    <a:lnTo>
                      <a:pt x="150" y="264"/>
                    </a:lnTo>
                    <a:lnTo>
                      <a:pt x="153" y="252"/>
                    </a:lnTo>
                    <a:lnTo>
                      <a:pt x="157" y="238"/>
                    </a:lnTo>
                    <a:lnTo>
                      <a:pt x="163" y="223"/>
                    </a:lnTo>
                    <a:lnTo>
                      <a:pt x="236" y="0"/>
                    </a:lnTo>
                    <a:lnTo>
                      <a:pt x="290" y="0"/>
                    </a:lnTo>
                    <a:lnTo>
                      <a:pt x="290" y="320"/>
                    </a:lnTo>
                    <a:lnTo>
                      <a:pt x="251" y="320"/>
                    </a:lnTo>
                    <a:lnTo>
                      <a:pt x="251" y="52"/>
                    </a:lnTo>
                    <a:lnTo>
                      <a:pt x="163" y="320"/>
                    </a:lnTo>
                    <a:lnTo>
                      <a:pt x="127" y="320"/>
                    </a:lnTo>
                    <a:lnTo>
                      <a:pt x="38" y="48"/>
                    </a:lnTo>
                    <a:lnTo>
                      <a:pt x="38" y="320"/>
                    </a:lnTo>
                    <a:lnTo>
                      <a:pt x="0" y="320"/>
                    </a:lnTo>
                    <a:close/>
                  </a:path>
                </a:pathLst>
              </a:custGeom>
              <a:solidFill>
                <a:srgbClr val="1f1a17"/>
              </a:solidFill>
              <a:ln w="0">
                <a:noFill/>
              </a:ln>
            </p:spPr>
            <p:style>
              <a:lnRef idx="0"/>
              <a:fillRef idx="0"/>
              <a:effectRef idx="0"/>
              <a:fontRef idx="minor"/>
            </p:style>
            <p:txBody>
              <a:bodyPr lIns="90000" rIns="90000" tIns="3600" bIns="3600" anchor="t">
                <a:noAutofit/>
              </a:bodyPr>
              <a:p>
                <a:pPr>
                  <a:lnSpc>
                    <a:spcPct val="100000"/>
                  </a:lnSpc>
                </a:pPr>
                <a:endParaRPr b="0" lang="en-US" sz="1800" spc="-1" strike="noStrike">
                  <a:solidFill>
                    <a:srgbClr val="000000"/>
                  </a:solidFill>
                  <a:latin typeface="Arial"/>
                  <a:ea typeface="宋体"/>
                </a:endParaRPr>
              </a:p>
            </p:txBody>
          </p:sp>
          <p:sp>
            <p:nvSpPr>
              <p:cNvPr id="249" name="Freeform 52"/>
              <p:cNvSpPr/>
              <p:nvPr/>
            </p:nvSpPr>
            <p:spPr>
              <a:xfrm>
                <a:off x="5111640" y="1405800"/>
                <a:ext cx="45360" cy="48240"/>
              </a:xfrm>
              <a:custGeom>
                <a:avLst/>
                <a:gdLst>
                  <a:gd name="textAreaLeft" fmla="*/ 0 w 45360"/>
                  <a:gd name="textAreaRight" fmla="*/ 45720 w 45360"/>
                  <a:gd name="textAreaTop" fmla="*/ 0 h 48240"/>
                  <a:gd name="textAreaBottom" fmla="*/ 48600 h 48240"/>
                </a:gdLst>
                <a:ahLst/>
                <a:rect l="textAreaLeft" t="textAreaTop" r="textAreaRight" b="textAreaBottom"/>
                <a:pathLst>
                  <a:path w="285" h="320">
                    <a:moveTo>
                      <a:pt x="0" y="320"/>
                    </a:moveTo>
                    <a:lnTo>
                      <a:pt x="118" y="0"/>
                    </a:lnTo>
                    <a:lnTo>
                      <a:pt x="161" y="0"/>
                    </a:lnTo>
                    <a:lnTo>
                      <a:pt x="285" y="320"/>
                    </a:lnTo>
                    <a:lnTo>
                      <a:pt x="239" y="320"/>
                    </a:lnTo>
                    <a:lnTo>
                      <a:pt x="204" y="223"/>
                    </a:lnTo>
                    <a:lnTo>
                      <a:pt x="76" y="223"/>
                    </a:lnTo>
                    <a:lnTo>
                      <a:pt x="43" y="320"/>
                    </a:lnTo>
                    <a:lnTo>
                      <a:pt x="0" y="320"/>
                    </a:lnTo>
                    <a:close/>
                    <a:moveTo>
                      <a:pt x="88" y="189"/>
                    </a:moveTo>
                    <a:lnTo>
                      <a:pt x="192" y="189"/>
                    </a:lnTo>
                    <a:lnTo>
                      <a:pt x="160" y="100"/>
                    </a:lnTo>
                    <a:lnTo>
                      <a:pt x="152" y="81"/>
                    </a:lnTo>
                    <a:lnTo>
                      <a:pt x="147" y="63"/>
                    </a:lnTo>
                    <a:lnTo>
                      <a:pt x="142" y="48"/>
                    </a:lnTo>
                    <a:lnTo>
                      <a:pt x="138" y="33"/>
                    </a:lnTo>
                    <a:lnTo>
                      <a:pt x="134" y="49"/>
                    </a:lnTo>
                    <a:lnTo>
                      <a:pt x="131" y="64"/>
                    </a:lnTo>
                    <a:lnTo>
                      <a:pt x="127" y="80"/>
                    </a:lnTo>
                    <a:lnTo>
                      <a:pt x="122" y="94"/>
                    </a:lnTo>
                    <a:lnTo>
                      <a:pt x="88" y="189"/>
                    </a:lnTo>
                    <a:close/>
                  </a:path>
                </a:pathLst>
              </a:custGeom>
              <a:solidFill>
                <a:srgbClr val="1f1a17"/>
              </a:solidFill>
              <a:ln w="0">
                <a:noFill/>
              </a:ln>
            </p:spPr>
            <p:style>
              <a:lnRef idx="0"/>
              <a:fillRef idx="0"/>
              <a:effectRef idx="0"/>
              <a:fontRef idx="minor"/>
            </p:style>
            <p:txBody>
              <a:bodyPr lIns="90000" rIns="90000" tIns="3600" bIns="3600" anchor="t">
                <a:noAutofit/>
              </a:bodyPr>
              <a:p>
                <a:pPr>
                  <a:lnSpc>
                    <a:spcPct val="100000"/>
                  </a:lnSpc>
                </a:pPr>
                <a:endParaRPr b="0" lang="en-US" sz="1800" spc="-1" strike="noStrike">
                  <a:solidFill>
                    <a:srgbClr val="000000"/>
                  </a:solidFill>
                  <a:latin typeface="Arial"/>
                  <a:ea typeface="宋体"/>
                </a:endParaRPr>
              </a:p>
            </p:txBody>
          </p:sp>
          <p:sp>
            <p:nvSpPr>
              <p:cNvPr id="250" name="Freeform 53"/>
              <p:cNvSpPr/>
              <p:nvPr/>
            </p:nvSpPr>
            <p:spPr>
              <a:xfrm>
                <a:off x="5166360" y="1405800"/>
                <a:ext cx="38880" cy="48240"/>
              </a:xfrm>
              <a:custGeom>
                <a:avLst/>
                <a:gdLst>
                  <a:gd name="textAreaLeft" fmla="*/ 0 w 38880"/>
                  <a:gd name="textAreaRight" fmla="*/ 39240 w 38880"/>
                  <a:gd name="textAreaTop" fmla="*/ 0 h 48240"/>
                  <a:gd name="textAreaBottom" fmla="*/ 48600 h 48240"/>
                </a:gdLst>
                <a:ahLst/>
                <a:rect l="textAreaLeft" t="textAreaTop" r="textAreaRight" b="textAreaBottom"/>
                <a:pathLst>
                  <a:path w="239" h="320">
                    <a:moveTo>
                      <a:pt x="0" y="320"/>
                    </a:moveTo>
                    <a:lnTo>
                      <a:pt x="0" y="0"/>
                    </a:lnTo>
                    <a:lnTo>
                      <a:pt x="41" y="0"/>
                    </a:lnTo>
                    <a:lnTo>
                      <a:pt x="201" y="251"/>
                    </a:lnTo>
                    <a:lnTo>
                      <a:pt x="201" y="0"/>
                    </a:lnTo>
                    <a:lnTo>
                      <a:pt x="239" y="0"/>
                    </a:lnTo>
                    <a:lnTo>
                      <a:pt x="239" y="320"/>
                    </a:lnTo>
                    <a:lnTo>
                      <a:pt x="198" y="320"/>
                    </a:lnTo>
                    <a:lnTo>
                      <a:pt x="38" y="68"/>
                    </a:lnTo>
                    <a:lnTo>
                      <a:pt x="38" y="320"/>
                    </a:lnTo>
                    <a:lnTo>
                      <a:pt x="0" y="320"/>
                    </a:lnTo>
                    <a:close/>
                  </a:path>
                </a:pathLst>
              </a:custGeom>
              <a:solidFill>
                <a:srgbClr val="1f1a17"/>
              </a:solidFill>
              <a:ln w="0">
                <a:noFill/>
              </a:ln>
            </p:spPr>
            <p:style>
              <a:lnRef idx="0"/>
              <a:fillRef idx="0"/>
              <a:effectRef idx="0"/>
              <a:fontRef idx="minor"/>
            </p:style>
            <p:txBody>
              <a:bodyPr lIns="90000" rIns="90000" tIns="3600" bIns="3600" anchor="t">
                <a:noAutofit/>
              </a:bodyPr>
              <a:p>
                <a:pPr>
                  <a:lnSpc>
                    <a:spcPct val="100000"/>
                  </a:lnSpc>
                </a:pPr>
                <a:endParaRPr b="0" lang="en-US" sz="1800" spc="-1" strike="noStrike">
                  <a:solidFill>
                    <a:srgbClr val="000000"/>
                  </a:solidFill>
                  <a:latin typeface="Arial"/>
                  <a:ea typeface="宋体"/>
                </a:endParaRPr>
              </a:p>
            </p:txBody>
          </p:sp>
          <p:sp>
            <p:nvSpPr>
              <p:cNvPr id="251" name="Freeform 54"/>
              <p:cNvSpPr/>
              <p:nvPr/>
            </p:nvSpPr>
            <p:spPr>
              <a:xfrm>
                <a:off x="5214600" y="1405800"/>
                <a:ext cx="45360" cy="48240"/>
              </a:xfrm>
              <a:custGeom>
                <a:avLst/>
                <a:gdLst>
                  <a:gd name="textAreaLeft" fmla="*/ 0 w 45360"/>
                  <a:gd name="textAreaRight" fmla="*/ 45720 w 45360"/>
                  <a:gd name="textAreaTop" fmla="*/ 0 h 48240"/>
                  <a:gd name="textAreaBottom" fmla="*/ 48600 h 48240"/>
                </a:gdLst>
                <a:ahLst/>
                <a:rect l="textAreaLeft" t="textAreaTop" r="textAreaRight" b="textAreaBottom"/>
                <a:pathLst>
                  <a:path w="285" h="320">
                    <a:moveTo>
                      <a:pt x="0" y="320"/>
                    </a:moveTo>
                    <a:lnTo>
                      <a:pt x="116" y="0"/>
                    </a:lnTo>
                    <a:lnTo>
                      <a:pt x="160" y="0"/>
                    </a:lnTo>
                    <a:lnTo>
                      <a:pt x="285" y="320"/>
                    </a:lnTo>
                    <a:lnTo>
                      <a:pt x="239" y="320"/>
                    </a:lnTo>
                    <a:lnTo>
                      <a:pt x="203" y="223"/>
                    </a:lnTo>
                    <a:lnTo>
                      <a:pt x="76" y="223"/>
                    </a:lnTo>
                    <a:lnTo>
                      <a:pt x="42" y="320"/>
                    </a:lnTo>
                    <a:lnTo>
                      <a:pt x="0" y="320"/>
                    </a:lnTo>
                    <a:close/>
                    <a:moveTo>
                      <a:pt x="88" y="189"/>
                    </a:moveTo>
                    <a:lnTo>
                      <a:pt x="192" y="189"/>
                    </a:lnTo>
                    <a:lnTo>
                      <a:pt x="159" y="100"/>
                    </a:lnTo>
                    <a:lnTo>
                      <a:pt x="152" y="81"/>
                    </a:lnTo>
                    <a:lnTo>
                      <a:pt x="147" y="63"/>
                    </a:lnTo>
                    <a:lnTo>
                      <a:pt x="142" y="48"/>
                    </a:lnTo>
                    <a:lnTo>
                      <a:pt x="138" y="33"/>
                    </a:lnTo>
                    <a:lnTo>
                      <a:pt x="134" y="49"/>
                    </a:lnTo>
                    <a:lnTo>
                      <a:pt x="130" y="64"/>
                    </a:lnTo>
                    <a:lnTo>
                      <a:pt x="126" y="80"/>
                    </a:lnTo>
                    <a:lnTo>
                      <a:pt x="122" y="94"/>
                    </a:lnTo>
                    <a:lnTo>
                      <a:pt x="88" y="189"/>
                    </a:lnTo>
                    <a:close/>
                  </a:path>
                </a:pathLst>
              </a:custGeom>
              <a:solidFill>
                <a:srgbClr val="1f1a17"/>
              </a:solidFill>
              <a:ln w="0">
                <a:noFill/>
              </a:ln>
            </p:spPr>
            <p:style>
              <a:lnRef idx="0"/>
              <a:fillRef idx="0"/>
              <a:effectRef idx="0"/>
              <a:fontRef idx="minor"/>
            </p:style>
            <p:txBody>
              <a:bodyPr lIns="90000" rIns="90000" tIns="3600" bIns="3600" anchor="t">
                <a:noAutofit/>
              </a:bodyPr>
              <a:p>
                <a:pPr>
                  <a:lnSpc>
                    <a:spcPct val="100000"/>
                  </a:lnSpc>
                </a:pPr>
                <a:endParaRPr b="0" lang="en-US" sz="1800" spc="-1" strike="noStrike">
                  <a:solidFill>
                    <a:srgbClr val="000000"/>
                  </a:solidFill>
                  <a:latin typeface="Arial"/>
                  <a:ea typeface="宋体"/>
                </a:endParaRPr>
              </a:p>
            </p:txBody>
          </p:sp>
          <p:sp>
            <p:nvSpPr>
              <p:cNvPr id="252" name="Freeform 55"/>
              <p:cNvSpPr/>
              <p:nvPr/>
            </p:nvSpPr>
            <p:spPr>
              <a:xfrm>
                <a:off x="5268240" y="1404720"/>
                <a:ext cx="44280" cy="49320"/>
              </a:xfrm>
              <a:custGeom>
                <a:avLst/>
                <a:gdLst>
                  <a:gd name="textAreaLeft" fmla="*/ 0 w 44280"/>
                  <a:gd name="textAreaRight" fmla="*/ 44640 w 44280"/>
                  <a:gd name="textAreaTop" fmla="*/ 0 h 49320"/>
                  <a:gd name="textAreaBottom" fmla="*/ 49680 h 49320"/>
                </a:gdLst>
                <a:ahLst/>
                <a:rect l="textAreaLeft" t="textAreaTop" r="textAreaRight" b="textAreaBottom"/>
                <a:pathLst>
                  <a:path w="282" h="330">
                    <a:moveTo>
                      <a:pt x="154" y="199"/>
                    </a:moveTo>
                    <a:lnTo>
                      <a:pt x="154" y="162"/>
                    </a:lnTo>
                    <a:lnTo>
                      <a:pt x="282" y="162"/>
                    </a:lnTo>
                    <a:lnTo>
                      <a:pt x="282" y="281"/>
                    </a:lnTo>
                    <a:lnTo>
                      <a:pt x="267" y="292"/>
                    </a:lnTo>
                    <a:lnTo>
                      <a:pt x="253" y="302"/>
                    </a:lnTo>
                    <a:lnTo>
                      <a:pt x="237" y="310"/>
                    </a:lnTo>
                    <a:lnTo>
                      <a:pt x="221" y="318"/>
                    </a:lnTo>
                    <a:lnTo>
                      <a:pt x="205" y="323"/>
                    </a:lnTo>
                    <a:lnTo>
                      <a:pt x="189" y="327"/>
                    </a:lnTo>
                    <a:lnTo>
                      <a:pt x="173" y="329"/>
                    </a:lnTo>
                    <a:lnTo>
                      <a:pt x="156" y="330"/>
                    </a:lnTo>
                    <a:lnTo>
                      <a:pt x="146" y="329"/>
                    </a:lnTo>
                    <a:lnTo>
                      <a:pt x="135" y="329"/>
                    </a:lnTo>
                    <a:lnTo>
                      <a:pt x="124" y="327"/>
                    </a:lnTo>
                    <a:lnTo>
                      <a:pt x="114" y="325"/>
                    </a:lnTo>
                    <a:lnTo>
                      <a:pt x="103" y="322"/>
                    </a:lnTo>
                    <a:lnTo>
                      <a:pt x="94" y="319"/>
                    </a:lnTo>
                    <a:lnTo>
                      <a:pt x="84" y="314"/>
                    </a:lnTo>
                    <a:lnTo>
                      <a:pt x="75" y="310"/>
                    </a:lnTo>
                    <a:lnTo>
                      <a:pt x="66" y="305"/>
                    </a:lnTo>
                    <a:lnTo>
                      <a:pt x="58" y="299"/>
                    </a:lnTo>
                    <a:lnTo>
                      <a:pt x="50" y="292"/>
                    </a:lnTo>
                    <a:lnTo>
                      <a:pt x="43" y="285"/>
                    </a:lnTo>
                    <a:lnTo>
                      <a:pt x="36" y="277"/>
                    </a:lnTo>
                    <a:lnTo>
                      <a:pt x="30" y="270"/>
                    </a:lnTo>
                    <a:lnTo>
                      <a:pt x="25" y="260"/>
                    </a:lnTo>
                    <a:lnTo>
                      <a:pt x="20" y="252"/>
                    </a:lnTo>
                    <a:lnTo>
                      <a:pt x="15" y="242"/>
                    </a:lnTo>
                    <a:lnTo>
                      <a:pt x="11" y="232"/>
                    </a:lnTo>
                    <a:lnTo>
                      <a:pt x="8" y="221"/>
                    </a:lnTo>
                    <a:lnTo>
                      <a:pt x="6" y="212"/>
                    </a:lnTo>
                    <a:lnTo>
                      <a:pt x="4" y="200"/>
                    </a:lnTo>
                    <a:lnTo>
                      <a:pt x="2" y="189"/>
                    </a:lnTo>
                    <a:lnTo>
                      <a:pt x="2" y="178"/>
                    </a:lnTo>
                    <a:lnTo>
                      <a:pt x="0" y="166"/>
                    </a:lnTo>
                    <a:lnTo>
                      <a:pt x="2" y="154"/>
                    </a:lnTo>
                    <a:lnTo>
                      <a:pt x="2" y="143"/>
                    </a:lnTo>
                    <a:lnTo>
                      <a:pt x="4" y="132"/>
                    </a:lnTo>
                    <a:lnTo>
                      <a:pt x="6" y="122"/>
                    </a:lnTo>
                    <a:lnTo>
                      <a:pt x="8" y="110"/>
                    </a:lnTo>
                    <a:lnTo>
                      <a:pt x="11" y="99"/>
                    </a:lnTo>
                    <a:lnTo>
                      <a:pt x="15" y="90"/>
                    </a:lnTo>
                    <a:lnTo>
                      <a:pt x="20" y="79"/>
                    </a:lnTo>
                    <a:lnTo>
                      <a:pt x="24" y="70"/>
                    </a:lnTo>
                    <a:lnTo>
                      <a:pt x="30" y="60"/>
                    </a:lnTo>
                    <a:lnTo>
                      <a:pt x="35" y="52"/>
                    </a:lnTo>
                    <a:lnTo>
                      <a:pt x="42" y="44"/>
                    </a:lnTo>
                    <a:lnTo>
                      <a:pt x="49" y="37"/>
                    </a:lnTo>
                    <a:lnTo>
                      <a:pt x="57" y="30"/>
                    </a:lnTo>
                    <a:lnTo>
                      <a:pt x="64" y="24"/>
                    </a:lnTo>
                    <a:lnTo>
                      <a:pt x="72" y="19"/>
                    </a:lnTo>
                    <a:lnTo>
                      <a:pt x="82" y="15"/>
                    </a:lnTo>
                    <a:lnTo>
                      <a:pt x="90" y="10"/>
                    </a:lnTo>
                    <a:lnTo>
                      <a:pt x="100" y="7"/>
                    </a:lnTo>
                    <a:lnTo>
                      <a:pt x="111" y="4"/>
                    </a:lnTo>
                    <a:lnTo>
                      <a:pt x="120" y="2"/>
                    </a:lnTo>
                    <a:lnTo>
                      <a:pt x="131" y="1"/>
                    </a:lnTo>
                    <a:lnTo>
                      <a:pt x="142" y="0"/>
                    </a:lnTo>
                    <a:lnTo>
                      <a:pt x="153" y="0"/>
                    </a:lnTo>
                    <a:lnTo>
                      <a:pt x="170" y="0"/>
                    </a:lnTo>
                    <a:lnTo>
                      <a:pt x="185" y="2"/>
                    </a:lnTo>
                    <a:lnTo>
                      <a:pt x="200" y="6"/>
                    </a:lnTo>
                    <a:lnTo>
                      <a:pt x="213" y="10"/>
                    </a:lnTo>
                    <a:lnTo>
                      <a:pt x="226" y="17"/>
                    </a:lnTo>
                    <a:lnTo>
                      <a:pt x="237" y="24"/>
                    </a:lnTo>
                    <a:lnTo>
                      <a:pt x="246" y="33"/>
                    </a:lnTo>
                    <a:lnTo>
                      <a:pt x="255" y="42"/>
                    </a:lnTo>
                    <a:lnTo>
                      <a:pt x="262" y="53"/>
                    </a:lnTo>
                    <a:lnTo>
                      <a:pt x="268" y="65"/>
                    </a:lnTo>
                    <a:lnTo>
                      <a:pt x="274" y="79"/>
                    </a:lnTo>
                    <a:lnTo>
                      <a:pt x="278" y="94"/>
                    </a:lnTo>
                    <a:lnTo>
                      <a:pt x="242" y="105"/>
                    </a:lnTo>
                    <a:lnTo>
                      <a:pt x="238" y="93"/>
                    </a:lnTo>
                    <a:lnTo>
                      <a:pt x="233" y="82"/>
                    </a:lnTo>
                    <a:lnTo>
                      <a:pt x="229" y="74"/>
                    </a:lnTo>
                    <a:lnTo>
                      <a:pt x="225" y="67"/>
                    </a:lnTo>
                    <a:lnTo>
                      <a:pt x="219" y="60"/>
                    </a:lnTo>
                    <a:lnTo>
                      <a:pt x="212" y="54"/>
                    </a:lnTo>
                    <a:lnTo>
                      <a:pt x="205" y="48"/>
                    </a:lnTo>
                    <a:lnTo>
                      <a:pt x="195" y="44"/>
                    </a:lnTo>
                    <a:lnTo>
                      <a:pt x="186" y="40"/>
                    </a:lnTo>
                    <a:lnTo>
                      <a:pt x="175" y="38"/>
                    </a:lnTo>
                    <a:lnTo>
                      <a:pt x="165" y="36"/>
                    </a:lnTo>
                    <a:lnTo>
                      <a:pt x="154" y="36"/>
                    </a:lnTo>
                    <a:lnTo>
                      <a:pt x="140" y="36"/>
                    </a:lnTo>
                    <a:lnTo>
                      <a:pt x="128" y="38"/>
                    </a:lnTo>
                    <a:lnTo>
                      <a:pt x="116" y="41"/>
                    </a:lnTo>
                    <a:lnTo>
                      <a:pt x="105" y="44"/>
                    </a:lnTo>
                    <a:lnTo>
                      <a:pt x="96" y="50"/>
                    </a:lnTo>
                    <a:lnTo>
                      <a:pt x="87" y="55"/>
                    </a:lnTo>
                    <a:lnTo>
                      <a:pt x="80" y="61"/>
                    </a:lnTo>
                    <a:lnTo>
                      <a:pt x="74" y="68"/>
                    </a:lnTo>
                    <a:lnTo>
                      <a:pt x="67" y="75"/>
                    </a:lnTo>
                    <a:lnTo>
                      <a:pt x="62" y="82"/>
                    </a:lnTo>
                    <a:lnTo>
                      <a:pt x="58" y="91"/>
                    </a:lnTo>
                    <a:lnTo>
                      <a:pt x="53" y="99"/>
                    </a:lnTo>
                    <a:lnTo>
                      <a:pt x="49" y="114"/>
                    </a:lnTo>
                    <a:lnTo>
                      <a:pt x="45" y="130"/>
                    </a:lnTo>
                    <a:lnTo>
                      <a:pt x="43" y="147"/>
                    </a:lnTo>
                    <a:lnTo>
                      <a:pt x="43" y="164"/>
                    </a:lnTo>
                    <a:lnTo>
                      <a:pt x="43" y="184"/>
                    </a:lnTo>
                    <a:lnTo>
                      <a:pt x="46" y="203"/>
                    </a:lnTo>
                    <a:lnTo>
                      <a:pt x="48" y="212"/>
                    </a:lnTo>
                    <a:lnTo>
                      <a:pt x="50" y="220"/>
                    </a:lnTo>
                    <a:lnTo>
                      <a:pt x="53" y="228"/>
                    </a:lnTo>
                    <a:lnTo>
                      <a:pt x="57" y="235"/>
                    </a:lnTo>
                    <a:lnTo>
                      <a:pt x="60" y="242"/>
                    </a:lnTo>
                    <a:lnTo>
                      <a:pt x="64" y="249"/>
                    </a:lnTo>
                    <a:lnTo>
                      <a:pt x="68" y="255"/>
                    </a:lnTo>
                    <a:lnTo>
                      <a:pt x="74" y="260"/>
                    </a:lnTo>
                    <a:lnTo>
                      <a:pt x="79" y="266"/>
                    </a:lnTo>
                    <a:lnTo>
                      <a:pt x="84" y="270"/>
                    </a:lnTo>
                    <a:lnTo>
                      <a:pt x="90" y="274"/>
                    </a:lnTo>
                    <a:lnTo>
                      <a:pt x="97" y="278"/>
                    </a:lnTo>
                    <a:lnTo>
                      <a:pt x="111" y="284"/>
                    </a:lnTo>
                    <a:lnTo>
                      <a:pt x="124" y="288"/>
                    </a:lnTo>
                    <a:lnTo>
                      <a:pt x="139" y="291"/>
                    </a:lnTo>
                    <a:lnTo>
                      <a:pt x="154" y="292"/>
                    </a:lnTo>
                    <a:lnTo>
                      <a:pt x="167" y="291"/>
                    </a:lnTo>
                    <a:lnTo>
                      <a:pt x="181" y="289"/>
                    </a:lnTo>
                    <a:lnTo>
                      <a:pt x="192" y="286"/>
                    </a:lnTo>
                    <a:lnTo>
                      <a:pt x="205" y="282"/>
                    </a:lnTo>
                    <a:lnTo>
                      <a:pt x="217" y="276"/>
                    </a:lnTo>
                    <a:lnTo>
                      <a:pt x="227" y="270"/>
                    </a:lnTo>
                    <a:lnTo>
                      <a:pt x="236" y="265"/>
                    </a:lnTo>
                    <a:lnTo>
                      <a:pt x="243" y="258"/>
                    </a:lnTo>
                    <a:lnTo>
                      <a:pt x="243" y="199"/>
                    </a:lnTo>
                    <a:lnTo>
                      <a:pt x="154" y="199"/>
                    </a:lnTo>
                    <a:close/>
                  </a:path>
                </a:pathLst>
              </a:custGeom>
              <a:solidFill>
                <a:srgbClr val="1f1a17"/>
              </a:solidFill>
              <a:ln w="0">
                <a:noFill/>
              </a:ln>
            </p:spPr>
            <p:style>
              <a:lnRef idx="0"/>
              <a:fillRef idx="0"/>
              <a:effectRef idx="0"/>
              <a:fontRef idx="minor"/>
            </p:style>
            <p:txBody>
              <a:bodyPr lIns="90000" rIns="90000" tIns="4680" bIns="4680" anchor="t">
                <a:noAutofit/>
              </a:bodyPr>
              <a:p>
                <a:pPr>
                  <a:lnSpc>
                    <a:spcPct val="100000"/>
                  </a:lnSpc>
                </a:pPr>
                <a:endParaRPr b="0" lang="en-US" sz="1800" spc="-1" strike="noStrike">
                  <a:solidFill>
                    <a:srgbClr val="000000"/>
                  </a:solidFill>
                  <a:latin typeface="Arial"/>
                  <a:ea typeface="宋体"/>
                </a:endParaRPr>
              </a:p>
            </p:txBody>
          </p:sp>
          <p:sp>
            <p:nvSpPr>
              <p:cNvPr id="253" name="Freeform 56"/>
              <p:cNvSpPr/>
              <p:nvPr/>
            </p:nvSpPr>
            <p:spPr>
              <a:xfrm>
                <a:off x="5326200" y="1405800"/>
                <a:ext cx="36720" cy="48240"/>
              </a:xfrm>
              <a:custGeom>
                <a:avLst/>
                <a:gdLst>
                  <a:gd name="textAreaLeft" fmla="*/ 0 w 36720"/>
                  <a:gd name="textAreaRight" fmla="*/ 37080 w 36720"/>
                  <a:gd name="textAreaTop" fmla="*/ 0 h 48240"/>
                  <a:gd name="textAreaBottom" fmla="*/ 48600 h 48240"/>
                </a:gdLst>
                <a:ahLst/>
                <a:rect l="textAreaLeft" t="textAreaTop" r="textAreaRight" b="textAreaBottom"/>
                <a:pathLst>
                  <a:path w="227" h="320">
                    <a:moveTo>
                      <a:pt x="0" y="320"/>
                    </a:moveTo>
                    <a:lnTo>
                      <a:pt x="0" y="0"/>
                    </a:lnTo>
                    <a:lnTo>
                      <a:pt x="219" y="0"/>
                    </a:lnTo>
                    <a:lnTo>
                      <a:pt x="219" y="37"/>
                    </a:lnTo>
                    <a:lnTo>
                      <a:pt x="40" y="37"/>
                    </a:lnTo>
                    <a:lnTo>
                      <a:pt x="40" y="136"/>
                    </a:lnTo>
                    <a:lnTo>
                      <a:pt x="209" y="136"/>
                    </a:lnTo>
                    <a:lnTo>
                      <a:pt x="209" y="173"/>
                    </a:lnTo>
                    <a:lnTo>
                      <a:pt x="40" y="173"/>
                    </a:lnTo>
                    <a:lnTo>
                      <a:pt x="40" y="282"/>
                    </a:lnTo>
                    <a:lnTo>
                      <a:pt x="227" y="282"/>
                    </a:lnTo>
                    <a:lnTo>
                      <a:pt x="227" y="320"/>
                    </a:lnTo>
                    <a:lnTo>
                      <a:pt x="0" y="320"/>
                    </a:lnTo>
                    <a:close/>
                  </a:path>
                </a:pathLst>
              </a:custGeom>
              <a:solidFill>
                <a:srgbClr val="1f1a17"/>
              </a:solidFill>
              <a:ln w="0">
                <a:noFill/>
              </a:ln>
            </p:spPr>
            <p:style>
              <a:lnRef idx="0"/>
              <a:fillRef idx="0"/>
              <a:effectRef idx="0"/>
              <a:fontRef idx="minor"/>
            </p:style>
            <p:txBody>
              <a:bodyPr lIns="90000" rIns="90000" tIns="3600" bIns="3600" anchor="t">
                <a:noAutofit/>
              </a:bodyPr>
              <a:p>
                <a:pPr>
                  <a:lnSpc>
                    <a:spcPct val="100000"/>
                  </a:lnSpc>
                </a:pPr>
                <a:endParaRPr b="0" lang="en-US" sz="1800" spc="-1" strike="noStrike">
                  <a:solidFill>
                    <a:srgbClr val="000000"/>
                  </a:solidFill>
                  <a:latin typeface="Arial"/>
                  <a:ea typeface="宋体"/>
                </a:endParaRPr>
              </a:p>
            </p:txBody>
          </p:sp>
          <p:sp>
            <p:nvSpPr>
              <p:cNvPr id="254" name="Freeform 57"/>
              <p:cNvSpPr/>
              <p:nvPr/>
            </p:nvSpPr>
            <p:spPr>
              <a:xfrm>
                <a:off x="5375520" y="1405800"/>
                <a:ext cx="46440" cy="48240"/>
              </a:xfrm>
              <a:custGeom>
                <a:avLst/>
                <a:gdLst>
                  <a:gd name="textAreaLeft" fmla="*/ 0 w 46440"/>
                  <a:gd name="textAreaRight" fmla="*/ 46800 w 46440"/>
                  <a:gd name="textAreaTop" fmla="*/ 0 h 48240"/>
                  <a:gd name="textAreaBottom" fmla="*/ 48600 h 48240"/>
                </a:gdLst>
                <a:ahLst/>
                <a:rect l="textAreaLeft" t="textAreaTop" r="textAreaRight" b="textAreaBottom"/>
                <a:pathLst>
                  <a:path w="290" h="320">
                    <a:moveTo>
                      <a:pt x="0" y="320"/>
                    </a:moveTo>
                    <a:lnTo>
                      <a:pt x="0" y="0"/>
                    </a:lnTo>
                    <a:lnTo>
                      <a:pt x="61" y="0"/>
                    </a:lnTo>
                    <a:lnTo>
                      <a:pt x="133" y="226"/>
                    </a:lnTo>
                    <a:lnTo>
                      <a:pt x="138" y="241"/>
                    </a:lnTo>
                    <a:lnTo>
                      <a:pt x="141" y="254"/>
                    </a:lnTo>
                    <a:lnTo>
                      <a:pt x="144" y="265"/>
                    </a:lnTo>
                    <a:lnTo>
                      <a:pt x="147" y="273"/>
                    </a:lnTo>
                    <a:lnTo>
                      <a:pt x="151" y="264"/>
                    </a:lnTo>
                    <a:lnTo>
                      <a:pt x="154" y="252"/>
                    </a:lnTo>
                    <a:lnTo>
                      <a:pt x="158" y="238"/>
                    </a:lnTo>
                    <a:lnTo>
                      <a:pt x="163" y="223"/>
                    </a:lnTo>
                    <a:lnTo>
                      <a:pt x="236" y="0"/>
                    </a:lnTo>
                    <a:lnTo>
                      <a:pt x="290" y="0"/>
                    </a:lnTo>
                    <a:lnTo>
                      <a:pt x="290" y="320"/>
                    </a:lnTo>
                    <a:lnTo>
                      <a:pt x="252" y="320"/>
                    </a:lnTo>
                    <a:lnTo>
                      <a:pt x="252" y="52"/>
                    </a:lnTo>
                    <a:lnTo>
                      <a:pt x="163" y="320"/>
                    </a:lnTo>
                    <a:lnTo>
                      <a:pt x="127" y="320"/>
                    </a:lnTo>
                    <a:lnTo>
                      <a:pt x="39" y="48"/>
                    </a:lnTo>
                    <a:lnTo>
                      <a:pt x="39" y="320"/>
                    </a:lnTo>
                    <a:lnTo>
                      <a:pt x="0" y="320"/>
                    </a:lnTo>
                    <a:close/>
                  </a:path>
                </a:pathLst>
              </a:custGeom>
              <a:solidFill>
                <a:srgbClr val="1f1a17"/>
              </a:solidFill>
              <a:ln w="0">
                <a:noFill/>
              </a:ln>
            </p:spPr>
            <p:style>
              <a:lnRef idx="0"/>
              <a:fillRef idx="0"/>
              <a:effectRef idx="0"/>
              <a:fontRef idx="minor"/>
            </p:style>
            <p:txBody>
              <a:bodyPr lIns="90000" rIns="90000" tIns="3600" bIns="3600" anchor="t">
                <a:noAutofit/>
              </a:bodyPr>
              <a:p>
                <a:pPr>
                  <a:lnSpc>
                    <a:spcPct val="100000"/>
                  </a:lnSpc>
                </a:pPr>
                <a:endParaRPr b="0" lang="en-US" sz="1800" spc="-1" strike="noStrike">
                  <a:solidFill>
                    <a:srgbClr val="000000"/>
                  </a:solidFill>
                  <a:latin typeface="Arial"/>
                  <a:ea typeface="宋体"/>
                </a:endParaRPr>
              </a:p>
            </p:txBody>
          </p:sp>
          <p:sp>
            <p:nvSpPr>
              <p:cNvPr id="255" name="Freeform 58"/>
              <p:cNvSpPr/>
              <p:nvPr/>
            </p:nvSpPr>
            <p:spPr>
              <a:xfrm>
                <a:off x="5437080" y="1405800"/>
                <a:ext cx="35280" cy="48240"/>
              </a:xfrm>
              <a:custGeom>
                <a:avLst/>
                <a:gdLst>
                  <a:gd name="textAreaLeft" fmla="*/ 0 w 35280"/>
                  <a:gd name="textAreaRight" fmla="*/ 35640 w 35280"/>
                  <a:gd name="textAreaTop" fmla="*/ 0 h 48240"/>
                  <a:gd name="textAreaBottom" fmla="*/ 48600 h 48240"/>
                </a:gdLst>
                <a:ahLst/>
                <a:rect l="textAreaLeft" t="textAreaTop" r="textAreaRight" b="textAreaBottom"/>
                <a:pathLst>
                  <a:path w="227" h="320">
                    <a:moveTo>
                      <a:pt x="0" y="320"/>
                    </a:moveTo>
                    <a:lnTo>
                      <a:pt x="0" y="0"/>
                    </a:lnTo>
                    <a:lnTo>
                      <a:pt x="220" y="0"/>
                    </a:lnTo>
                    <a:lnTo>
                      <a:pt x="220" y="37"/>
                    </a:lnTo>
                    <a:lnTo>
                      <a:pt x="40" y="37"/>
                    </a:lnTo>
                    <a:lnTo>
                      <a:pt x="40" y="136"/>
                    </a:lnTo>
                    <a:lnTo>
                      <a:pt x="208" y="136"/>
                    </a:lnTo>
                    <a:lnTo>
                      <a:pt x="208" y="173"/>
                    </a:lnTo>
                    <a:lnTo>
                      <a:pt x="40" y="173"/>
                    </a:lnTo>
                    <a:lnTo>
                      <a:pt x="40" y="282"/>
                    </a:lnTo>
                    <a:lnTo>
                      <a:pt x="227" y="282"/>
                    </a:lnTo>
                    <a:lnTo>
                      <a:pt x="227" y="320"/>
                    </a:lnTo>
                    <a:lnTo>
                      <a:pt x="0" y="320"/>
                    </a:lnTo>
                    <a:close/>
                  </a:path>
                </a:pathLst>
              </a:custGeom>
              <a:solidFill>
                <a:srgbClr val="1f1a17"/>
              </a:solidFill>
              <a:ln w="0">
                <a:noFill/>
              </a:ln>
            </p:spPr>
            <p:style>
              <a:lnRef idx="0"/>
              <a:fillRef idx="0"/>
              <a:effectRef idx="0"/>
              <a:fontRef idx="minor"/>
            </p:style>
            <p:txBody>
              <a:bodyPr lIns="90000" rIns="90000" tIns="3600" bIns="3600" anchor="t">
                <a:noAutofit/>
              </a:bodyPr>
              <a:p>
                <a:pPr>
                  <a:lnSpc>
                    <a:spcPct val="100000"/>
                  </a:lnSpc>
                </a:pPr>
                <a:endParaRPr b="0" lang="en-US" sz="1800" spc="-1" strike="noStrike">
                  <a:solidFill>
                    <a:srgbClr val="000000"/>
                  </a:solidFill>
                  <a:latin typeface="Arial"/>
                  <a:ea typeface="宋体"/>
                </a:endParaRPr>
              </a:p>
            </p:txBody>
          </p:sp>
          <p:sp>
            <p:nvSpPr>
              <p:cNvPr id="256" name="Freeform 59"/>
              <p:cNvSpPr/>
              <p:nvPr/>
            </p:nvSpPr>
            <p:spPr>
              <a:xfrm>
                <a:off x="5486400" y="1405800"/>
                <a:ext cx="37800" cy="48240"/>
              </a:xfrm>
              <a:custGeom>
                <a:avLst/>
                <a:gdLst>
                  <a:gd name="textAreaLeft" fmla="*/ 0 w 37800"/>
                  <a:gd name="textAreaRight" fmla="*/ 38160 w 37800"/>
                  <a:gd name="textAreaTop" fmla="*/ 0 h 48240"/>
                  <a:gd name="textAreaBottom" fmla="*/ 48600 h 48240"/>
                </a:gdLst>
                <a:ahLst/>
                <a:rect l="textAreaLeft" t="textAreaTop" r="textAreaRight" b="textAreaBottom"/>
                <a:pathLst>
                  <a:path w="240" h="320">
                    <a:moveTo>
                      <a:pt x="0" y="320"/>
                    </a:moveTo>
                    <a:lnTo>
                      <a:pt x="0" y="0"/>
                    </a:lnTo>
                    <a:lnTo>
                      <a:pt x="41" y="0"/>
                    </a:lnTo>
                    <a:lnTo>
                      <a:pt x="201" y="251"/>
                    </a:lnTo>
                    <a:lnTo>
                      <a:pt x="201" y="0"/>
                    </a:lnTo>
                    <a:lnTo>
                      <a:pt x="240" y="0"/>
                    </a:lnTo>
                    <a:lnTo>
                      <a:pt x="240" y="320"/>
                    </a:lnTo>
                    <a:lnTo>
                      <a:pt x="199" y="320"/>
                    </a:lnTo>
                    <a:lnTo>
                      <a:pt x="38" y="68"/>
                    </a:lnTo>
                    <a:lnTo>
                      <a:pt x="38" y="320"/>
                    </a:lnTo>
                    <a:lnTo>
                      <a:pt x="0" y="320"/>
                    </a:lnTo>
                    <a:close/>
                  </a:path>
                </a:pathLst>
              </a:custGeom>
              <a:solidFill>
                <a:srgbClr val="1f1a17"/>
              </a:solidFill>
              <a:ln w="0">
                <a:noFill/>
              </a:ln>
            </p:spPr>
            <p:style>
              <a:lnRef idx="0"/>
              <a:fillRef idx="0"/>
              <a:effectRef idx="0"/>
              <a:fontRef idx="minor"/>
            </p:style>
            <p:txBody>
              <a:bodyPr lIns="90000" rIns="90000" tIns="3600" bIns="3600" anchor="t">
                <a:noAutofit/>
              </a:bodyPr>
              <a:p>
                <a:pPr>
                  <a:lnSpc>
                    <a:spcPct val="100000"/>
                  </a:lnSpc>
                </a:pPr>
                <a:endParaRPr b="0" lang="en-US" sz="1800" spc="-1" strike="noStrike">
                  <a:solidFill>
                    <a:srgbClr val="000000"/>
                  </a:solidFill>
                  <a:latin typeface="Arial"/>
                  <a:ea typeface="宋体"/>
                </a:endParaRPr>
              </a:p>
            </p:txBody>
          </p:sp>
          <p:sp>
            <p:nvSpPr>
              <p:cNvPr id="257" name="Freeform 60"/>
              <p:cNvSpPr/>
              <p:nvPr/>
            </p:nvSpPr>
            <p:spPr>
              <a:xfrm>
                <a:off x="5535360" y="1405800"/>
                <a:ext cx="38880" cy="48240"/>
              </a:xfrm>
              <a:custGeom>
                <a:avLst/>
                <a:gdLst>
                  <a:gd name="textAreaLeft" fmla="*/ 0 w 38880"/>
                  <a:gd name="textAreaRight" fmla="*/ 39240 w 38880"/>
                  <a:gd name="textAreaTop" fmla="*/ 0 h 48240"/>
                  <a:gd name="textAreaBottom" fmla="*/ 48600 h 48240"/>
                </a:gdLst>
                <a:ahLst/>
                <a:rect l="textAreaLeft" t="textAreaTop" r="textAreaRight" b="textAreaBottom"/>
                <a:pathLst>
                  <a:path w="242" h="320">
                    <a:moveTo>
                      <a:pt x="101" y="320"/>
                    </a:moveTo>
                    <a:lnTo>
                      <a:pt x="101" y="37"/>
                    </a:lnTo>
                    <a:lnTo>
                      <a:pt x="0" y="37"/>
                    </a:lnTo>
                    <a:lnTo>
                      <a:pt x="0" y="0"/>
                    </a:lnTo>
                    <a:lnTo>
                      <a:pt x="242" y="0"/>
                    </a:lnTo>
                    <a:lnTo>
                      <a:pt x="242" y="37"/>
                    </a:lnTo>
                    <a:lnTo>
                      <a:pt x="141" y="37"/>
                    </a:lnTo>
                    <a:lnTo>
                      <a:pt x="141" y="320"/>
                    </a:lnTo>
                    <a:lnTo>
                      <a:pt x="101" y="320"/>
                    </a:lnTo>
                    <a:close/>
                  </a:path>
                </a:pathLst>
              </a:custGeom>
              <a:solidFill>
                <a:srgbClr val="1f1a17"/>
              </a:solidFill>
              <a:ln w="0">
                <a:noFill/>
              </a:ln>
            </p:spPr>
            <p:style>
              <a:lnRef idx="0"/>
              <a:fillRef idx="0"/>
              <a:effectRef idx="0"/>
              <a:fontRef idx="minor"/>
            </p:style>
            <p:txBody>
              <a:bodyPr lIns="90000" rIns="90000" tIns="3600" bIns="3600" anchor="t">
                <a:noAutofit/>
              </a:bodyPr>
              <a:p>
                <a:pPr>
                  <a:lnSpc>
                    <a:spcPct val="100000"/>
                  </a:lnSpc>
                </a:pPr>
                <a:endParaRPr b="0" lang="en-US" sz="1800" spc="-1" strike="noStrike">
                  <a:solidFill>
                    <a:srgbClr val="000000"/>
                  </a:solidFill>
                  <a:latin typeface="Arial"/>
                  <a:ea typeface="宋体"/>
                </a:endParaRPr>
              </a:p>
            </p:txBody>
          </p:sp>
          <p:sp>
            <p:nvSpPr>
              <p:cNvPr id="258" name="Freeform 61"/>
              <p:cNvSpPr/>
              <p:nvPr/>
            </p:nvSpPr>
            <p:spPr>
              <a:xfrm>
                <a:off x="5603760" y="1404720"/>
                <a:ext cx="42120" cy="49320"/>
              </a:xfrm>
              <a:custGeom>
                <a:avLst/>
                <a:gdLst>
                  <a:gd name="textAreaLeft" fmla="*/ 0 w 42120"/>
                  <a:gd name="textAreaRight" fmla="*/ 42480 w 42120"/>
                  <a:gd name="textAreaTop" fmla="*/ 0 h 49320"/>
                  <a:gd name="textAreaBottom" fmla="*/ 49680 h 49320"/>
                </a:gdLst>
                <a:ahLst/>
                <a:rect l="textAreaLeft" t="textAreaTop" r="textAreaRight" b="textAreaBottom"/>
                <a:pathLst>
                  <a:path w="270" h="330">
                    <a:moveTo>
                      <a:pt x="230" y="213"/>
                    </a:moveTo>
                    <a:lnTo>
                      <a:pt x="270" y="223"/>
                    </a:lnTo>
                    <a:lnTo>
                      <a:pt x="266" y="236"/>
                    </a:lnTo>
                    <a:lnTo>
                      <a:pt x="262" y="248"/>
                    </a:lnTo>
                    <a:lnTo>
                      <a:pt x="257" y="258"/>
                    </a:lnTo>
                    <a:lnTo>
                      <a:pt x="252" y="269"/>
                    </a:lnTo>
                    <a:lnTo>
                      <a:pt x="246" y="278"/>
                    </a:lnTo>
                    <a:lnTo>
                      <a:pt x="239" y="288"/>
                    </a:lnTo>
                    <a:lnTo>
                      <a:pt x="232" y="295"/>
                    </a:lnTo>
                    <a:lnTo>
                      <a:pt x="224" y="303"/>
                    </a:lnTo>
                    <a:lnTo>
                      <a:pt x="216" y="309"/>
                    </a:lnTo>
                    <a:lnTo>
                      <a:pt x="206" y="314"/>
                    </a:lnTo>
                    <a:lnTo>
                      <a:pt x="197" y="320"/>
                    </a:lnTo>
                    <a:lnTo>
                      <a:pt x="187" y="323"/>
                    </a:lnTo>
                    <a:lnTo>
                      <a:pt x="177" y="326"/>
                    </a:lnTo>
                    <a:lnTo>
                      <a:pt x="166" y="328"/>
                    </a:lnTo>
                    <a:lnTo>
                      <a:pt x="156" y="329"/>
                    </a:lnTo>
                    <a:lnTo>
                      <a:pt x="144" y="330"/>
                    </a:lnTo>
                    <a:lnTo>
                      <a:pt x="131" y="329"/>
                    </a:lnTo>
                    <a:lnTo>
                      <a:pt x="120" y="329"/>
                    </a:lnTo>
                    <a:lnTo>
                      <a:pt x="109" y="327"/>
                    </a:lnTo>
                    <a:lnTo>
                      <a:pt x="98" y="325"/>
                    </a:lnTo>
                    <a:lnTo>
                      <a:pt x="89" y="322"/>
                    </a:lnTo>
                    <a:lnTo>
                      <a:pt x="80" y="319"/>
                    </a:lnTo>
                    <a:lnTo>
                      <a:pt x="71" y="314"/>
                    </a:lnTo>
                    <a:lnTo>
                      <a:pt x="63" y="309"/>
                    </a:lnTo>
                    <a:lnTo>
                      <a:pt x="56" y="304"/>
                    </a:lnTo>
                    <a:lnTo>
                      <a:pt x="49" y="298"/>
                    </a:lnTo>
                    <a:lnTo>
                      <a:pt x="42" y="290"/>
                    </a:lnTo>
                    <a:lnTo>
                      <a:pt x="36" y="284"/>
                    </a:lnTo>
                    <a:lnTo>
                      <a:pt x="31" y="275"/>
                    </a:lnTo>
                    <a:lnTo>
                      <a:pt x="25" y="267"/>
                    </a:lnTo>
                    <a:lnTo>
                      <a:pt x="21" y="257"/>
                    </a:lnTo>
                    <a:lnTo>
                      <a:pt x="17" y="248"/>
                    </a:lnTo>
                    <a:lnTo>
                      <a:pt x="13" y="238"/>
                    </a:lnTo>
                    <a:lnTo>
                      <a:pt x="9" y="228"/>
                    </a:lnTo>
                    <a:lnTo>
                      <a:pt x="6" y="217"/>
                    </a:lnTo>
                    <a:lnTo>
                      <a:pt x="4" y="206"/>
                    </a:lnTo>
                    <a:lnTo>
                      <a:pt x="3" y="196"/>
                    </a:lnTo>
                    <a:lnTo>
                      <a:pt x="1" y="185"/>
                    </a:lnTo>
                    <a:lnTo>
                      <a:pt x="1" y="174"/>
                    </a:lnTo>
                    <a:lnTo>
                      <a:pt x="0" y="162"/>
                    </a:lnTo>
                    <a:lnTo>
                      <a:pt x="1" y="150"/>
                    </a:lnTo>
                    <a:lnTo>
                      <a:pt x="1" y="139"/>
                    </a:lnTo>
                    <a:lnTo>
                      <a:pt x="3" y="127"/>
                    </a:lnTo>
                    <a:lnTo>
                      <a:pt x="5" y="115"/>
                    </a:lnTo>
                    <a:lnTo>
                      <a:pt x="7" y="105"/>
                    </a:lnTo>
                    <a:lnTo>
                      <a:pt x="10" y="95"/>
                    </a:lnTo>
                    <a:lnTo>
                      <a:pt x="15" y="85"/>
                    </a:lnTo>
                    <a:lnTo>
                      <a:pt x="19" y="75"/>
                    </a:lnTo>
                    <a:lnTo>
                      <a:pt x="23" y="67"/>
                    </a:lnTo>
                    <a:lnTo>
                      <a:pt x="28" y="58"/>
                    </a:lnTo>
                    <a:lnTo>
                      <a:pt x="34" y="50"/>
                    </a:lnTo>
                    <a:lnTo>
                      <a:pt x="40" y="42"/>
                    </a:lnTo>
                    <a:lnTo>
                      <a:pt x="47" y="36"/>
                    </a:lnTo>
                    <a:lnTo>
                      <a:pt x="54" y="29"/>
                    </a:lnTo>
                    <a:lnTo>
                      <a:pt x="62" y="24"/>
                    </a:lnTo>
                    <a:lnTo>
                      <a:pt x="70" y="19"/>
                    </a:lnTo>
                    <a:lnTo>
                      <a:pt x="78" y="15"/>
                    </a:lnTo>
                    <a:lnTo>
                      <a:pt x="88" y="10"/>
                    </a:lnTo>
                    <a:lnTo>
                      <a:pt x="96" y="7"/>
                    </a:lnTo>
                    <a:lnTo>
                      <a:pt x="106" y="4"/>
                    </a:lnTo>
                    <a:lnTo>
                      <a:pt x="114" y="2"/>
                    </a:lnTo>
                    <a:lnTo>
                      <a:pt x="125" y="1"/>
                    </a:lnTo>
                    <a:lnTo>
                      <a:pt x="134" y="0"/>
                    </a:lnTo>
                    <a:lnTo>
                      <a:pt x="144" y="0"/>
                    </a:lnTo>
                    <a:lnTo>
                      <a:pt x="156" y="0"/>
                    </a:lnTo>
                    <a:lnTo>
                      <a:pt x="166" y="1"/>
                    </a:lnTo>
                    <a:lnTo>
                      <a:pt x="177" y="3"/>
                    </a:lnTo>
                    <a:lnTo>
                      <a:pt x="186" y="5"/>
                    </a:lnTo>
                    <a:lnTo>
                      <a:pt x="196" y="9"/>
                    </a:lnTo>
                    <a:lnTo>
                      <a:pt x="204" y="14"/>
                    </a:lnTo>
                    <a:lnTo>
                      <a:pt x="213" y="18"/>
                    </a:lnTo>
                    <a:lnTo>
                      <a:pt x="221" y="24"/>
                    </a:lnTo>
                    <a:lnTo>
                      <a:pt x="229" y="30"/>
                    </a:lnTo>
                    <a:lnTo>
                      <a:pt x="235" y="37"/>
                    </a:lnTo>
                    <a:lnTo>
                      <a:pt x="241" y="45"/>
                    </a:lnTo>
                    <a:lnTo>
                      <a:pt x="248" y="53"/>
                    </a:lnTo>
                    <a:lnTo>
                      <a:pt x="253" y="62"/>
                    </a:lnTo>
                    <a:lnTo>
                      <a:pt x="257" y="72"/>
                    </a:lnTo>
                    <a:lnTo>
                      <a:pt x="261" y="81"/>
                    </a:lnTo>
                    <a:lnTo>
                      <a:pt x="265" y="93"/>
                    </a:lnTo>
                    <a:lnTo>
                      <a:pt x="224" y="103"/>
                    </a:lnTo>
                    <a:lnTo>
                      <a:pt x="219" y="86"/>
                    </a:lnTo>
                    <a:lnTo>
                      <a:pt x="212" y="72"/>
                    </a:lnTo>
                    <a:lnTo>
                      <a:pt x="207" y="67"/>
                    </a:lnTo>
                    <a:lnTo>
                      <a:pt x="203" y="61"/>
                    </a:lnTo>
                    <a:lnTo>
                      <a:pt x="199" y="56"/>
                    </a:lnTo>
                    <a:lnTo>
                      <a:pt x="194" y="52"/>
                    </a:lnTo>
                    <a:lnTo>
                      <a:pt x="188" y="47"/>
                    </a:lnTo>
                    <a:lnTo>
                      <a:pt x="183" y="44"/>
                    </a:lnTo>
                    <a:lnTo>
                      <a:pt x="178" y="42"/>
                    </a:lnTo>
                    <a:lnTo>
                      <a:pt x="171" y="40"/>
                    </a:lnTo>
                    <a:lnTo>
                      <a:pt x="165" y="38"/>
                    </a:lnTo>
                    <a:lnTo>
                      <a:pt x="158" y="37"/>
                    </a:lnTo>
                    <a:lnTo>
                      <a:pt x="150" y="36"/>
                    </a:lnTo>
                    <a:lnTo>
                      <a:pt x="143" y="36"/>
                    </a:lnTo>
                    <a:lnTo>
                      <a:pt x="134" y="36"/>
                    </a:lnTo>
                    <a:lnTo>
                      <a:pt x="126" y="37"/>
                    </a:lnTo>
                    <a:lnTo>
                      <a:pt x="118" y="38"/>
                    </a:lnTo>
                    <a:lnTo>
                      <a:pt x="111" y="40"/>
                    </a:lnTo>
                    <a:lnTo>
                      <a:pt x="104" y="42"/>
                    </a:lnTo>
                    <a:lnTo>
                      <a:pt x="97" y="45"/>
                    </a:lnTo>
                    <a:lnTo>
                      <a:pt x="91" y="50"/>
                    </a:lnTo>
                    <a:lnTo>
                      <a:pt x="85" y="53"/>
                    </a:lnTo>
                    <a:lnTo>
                      <a:pt x="79" y="58"/>
                    </a:lnTo>
                    <a:lnTo>
                      <a:pt x="74" y="63"/>
                    </a:lnTo>
                    <a:lnTo>
                      <a:pt x="69" y="69"/>
                    </a:lnTo>
                    <a:lnTo>
                      <a:pt x="64" y="74"/>
                    </a:lnTo>
                    <a:lnTo>
                      <a:pt x="60" y="80"/>
                    </a:lnTo>
                    <a:lnTo>
                      <a:pt x="57" y="87"/>
                    </a:lnTo>
                    <a:lnTo>
                      <a:pt x="54" y="93"/>
                    </a:lnTo>
                    <a:lnTo>
                      <a:pt x="52" y="100"/>
                    </a:lnTo>
                    <a:lnTo>
                      <a:pt x="47" y="115"/>
                    </a:lnTo>
                    <a:lnTo>
                      <a:pt x="44" y="131"/>
                    </a:lnTo>
                    <a:lnTo>
                      <a:pt x="42" y="146"/>
                    </a:lnTo>
                    <a:lnTo>
                      <a:pt x="42" y="162"/>
                    </a:lnTo>
                    <a:lnTo>
                      <a:pt x="42" y="182"/>
                    </a:lnTo>
                    <a:lnTo>
                      <a:pt x="44" y="200"/>
                    </a:lnTo>
                    <a:lnTo>
                      <a:pt x="49" y="217"/>
                    </a:lnTo>
                    <a:lnTo>
                      <a:pt x="53" y="233"/>
                    </a:lnTo>
                    <a:lnTo>
                      <a:pt x="56" y="240"/>
                    </a:lnTo>
                    <a:lnTo>
                      <a:pt x="59" y="248"/>
                    </a:lnTo>
                    <a:lnTo>
                      <a:pt x="63" y="254"/>
                    </a:lnTo>
                    <a:lnTo>
                      <a:pt x="68" y="260"/>
                    </a:lnTo>
                    <a:lnTo>
                      <a:pt x="72" y="266"/>
                    </a:lnTo>
                    <a:lnTo>
                      <a:pt x="77" y="270"/>
                    </a:lnTo>
                    <a:lnTo>
                      <a:pt x="82" y="275"/>
                    </a:lnTo>
                    <a:lnTo>
                      <a:pt x="89" y="278"/>
                    </a:lnTo>
                    <a:lnTo>
                      <a:pt x="100" y="286"/>
                    </a:lnTo>
                    <a:lnTo>
                      <a:pt x="113" y="290"/>
                    </a:lnTo>
                    <a:lnTo>
                      <a:pt x="127" y="293"/>
                    </a:lnTo>
                    <a:lnTo>
                      <a:pt x="140" y="294"/>
                    </a:lnTo>
                    <a:lnTo>
                      <a:pt x="148" y="293"/>
                    </a:lnTo>
                    <a:lnTo>
                      <a:pt x="157" y="292"/>
                    </a:lnTo>
                    <a:lnTo>
                      <a:pt x="164" y="291"/>
                    </a:lnTo>
                    <a:lnTo>
                      <a:pt x="171" y="289"/>
                    </a:lnTo>
                    <a:lnTo>
                      <a:pt x="179" y="286"/>
                    </a:lnTo>
                    <a:lnTo>
                      <a:pt x="185" y="283"/>
                    </a:lnTo>
                    <a:lnTo>
                      <a:pt x="192" y="278"/>
                    </a:lnTo>
                    <a:lnTo>
                      <a:pt x="198" y="273"/>
                    </a:lnTo>
                    <a:lnTo>
                      <a:pt x="203" y="268"/>
                    </a:lnTo>
                    <a:lnTo>
                      <a:pt x="208" y="261"/>
                    </a:lnTo>
                    <a:lnTo>
                      <a:pt x="213" y="255"/>
                    </a:lnTo>
                    <a:lnTo>
                      <a:pt x="217" y="248"/>
                    </a:lnTo>
                    <a:lnTo>
                      <a:pt x="221" y="240"/>
                    </a:lnTo>
                    <a:lnTo>
                      <a:pt x="224" y="232"/>
                    </a:lnTo>
                    <a:lnTo>
                      <a:pt x="226" y="222"/>
                    </a:lnTo>
                    <a:lnTo>
                      <a:pt x="230" y="213"/>
                    </a:lnTo>
                    <a:close/>
                  </a:path>
                </a:pathLst>
              </a:custGeom>
              <a:solidFill>
                <a:srgbClr val="1f1a17"/>
              </a:solidFill>
              <a:ln w="0">
                <a:noFill/>
              </a:ln>
            </p:spPr>
            <p:style>
              <a:lnRef idx="0"/>
              <a:fillRef idx="0"/>
              <a:effectRef idx="0"/>
              <a:fontRef idx="minor"/>
            </p:style>
            <p:txBody>
              <a:bodyPr lIns="90000" rIns="90000" tIns="4680" bIns="4680" anchor="t">
                <a:noAutofit/>
              </a:bodyPr>
              <a:p>
                <a:pPr>
                  <a:lnSpc>
                    <a:spcPct val="100000"/>
                  </a:lnSpc>
                </a:pPr>
                <a:endParaRPr b="0" lang="en-US" sz="1800" spc="-1" strike="noStrike">
                  <a:solidFill>
                    <a:srgbClr val="000000"/>
                  </a:solidFill>
                  <a:latin typeface="Arial"/>
                  <a:ea typeface="宋体"/>
                </a:endParaRPr>
              </a:p>
            </p:txBody>
          </p:sp>
          <p:sp>
            <p:nvSpPr>
              <p:cNvPr id="259" name="Freeform 62"/>
              <p:cNvSpPr/>
              <p:nvPr/>
            </p:nvSpPr>
            <p:spPr>
              <a:xfrm>
                <a:off x="5656320" y="140472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292" h="331">
                    <a:moveTo>
                      <a:pt x="0" y="170"/>
                    </a:moveTo>
                    <a:lnTo>
                      <a:pt x="1" y="150"/>
                    </a:lnTo>
                    <a:lnTo>
                      <a:pt x="4" y="132"/>
                    </a:lnTo>
                    <a:lnTo>
                      <a:pt x="7" y="115"/>
                    </a:lnTo>
                    <a:lnTo>
                      <a:pt x="11" y="99"/>
                    </a:lnTo>
                    <a:lnTo>
                      <a:pt x="16" y="83"/>
                    </a:lnTo>
                    <a:lnTo>
                      <a:pt x="24" y="70"/>
                    </a:lnTo>
                    <a:lnTo>
                      <a:pt x="32" y="57"/>
                    </a:lnTo>
                    <a:lnTo>
                      <a:pt x="42" y="45"/>
                    </a:lnTo>
                    <a:lnTo>
                      <a:pt x="52" y="35"/>
                    </a:lnTo>
                    <a:lnTo>
                      <a:pt x="63" y="25"/>
                    </a:lnTo>
                    <a:lnTo>
                      <a:pt x="76" y="18"/>
                    </a:lnTo>
                    <a:lnTo>
                      <a:pt x="88" y="11"/>
                    </a:lnTo>
                    <a:lnTo>
                      <a:pt x="102" y="6"/>
                    </a:lnTo>
                    <a:lnTo>
                      <a:pt x="116" y="3"/>
                    </a:lnTo>
                    <a:lnTo>
                      <a:pt x="131" y="1"/>
                    </a:lnTo>
                    <a:lnTo>
                      <a:pt x="147" y="0"/>
                    </a:lnTo>
                    <a:lnTo>
                      <a:pt x="157" y="1"/>
                    </a:lnTo>
                    <a:lnTo>
                      <a:pt x="167" y="2"/>
                    </a:lnTo>
                    <a:lnTo>
                      <a:pt x="177" y="3"/>
                    </a:lnTo>
                    <a:lnTo>
                      <a:pt x="187" y="5"/>
                    </a:lnTo>
                    <a:lnTo>
                      <a:pt x="196" y="8"/>
                    </a:lnTo>
                    <a:lnTo>
                      <a:pt x="205" y="12"/>
                    </a:lnTo>
                    <a:lnTo>
                      <a:pt x="214" y="17"/>
                    </a:lnTo>
                    <a:lnTo>
                      <a:pt x="223" y="21"/>
                    </a:lnTo>
                    <a:lnTo>
                      <a:pt x="231" y="27"/>
                    </a:lnTo>
                    <a:lnTo>
                      <a:pt x="239" y="33"/>
                    </a:lnTo>
                    <a:lnTo>
                      <a:pt x="246" y="40"/>
                    </a:lnTo>
                    <a:lnTo>
                      <a:pt x="252" y="46"/>
                    </a:lnTo>
                    <a:lnTo>
                      <a:pt x="259" y="55"/>
                    </a:lnTo>
                    <a:lnTo>
                      <a:pt x="264" y="62"/>
                    </a:lnTo>
                    <a:lnTo>
                      <a:pt x="269" y="71"/>
                    </a:lnTo>
                    <a:lnTo>
                      <a:pt x="275" y="80"/>
                    </a:lnTo>
                    <a:lnTo>
                      <a:pt x="279" y="90"/>
                    </a:lnTo>
                    <a:lnTo>
                      <a:pt x="282" y="100"/>
                    </a:lnTo>
                    <a:lnTo>
                      <a:pt x="285" y="110"/>
                    </a:lnTo>
                    <a:lnTo>
                      <a:pt x="287" y="120"/>
                    </a:lnTo>
                    <a:lnTo>
                      <a:pt x="290" y="131"/>
                    </a:lnTo>
                    <a:lnTo>
                      <a:pt x="291" y="143"/>
                    </a:lnTo>
                    <a:lnTo>
                      <a:pt x="292" y="154"/>
                    </a:lnTo>
                    <a:lnTo>
                      <a:pt x="292" y="166"/>
                    </a:lnTo>
                    <a:lnTo>
                      <a:pt x="292" y="178"/>
                    </a:lnTo>
                    <a:lnTo>
                      <a:pt x="291" y="189"/>
                    </a:lnTo>
                    <a:lnTo>
                      <a:pt x="290" y="201"/>
                    </a:lnTo>
                    <a:lnTo>
                      <a:pt x="287" y="213"/>
                    </a:lnTo>
                    <a:lnTo>
                      <a:pt x="284" y="223"/>
                    </a:lnTo>
                    <a:lnTo>
                      <a:pt x="281" y="234"/>
                    </a:lnTo>
                    <a:lnTo>
                      <a:pt x="278" y="243"/>
                    </a:lnTo>
                    <a:lnTo>
                      <a:pt x="274" y="253"/>
                    </a:lnTo>
                    <a:lnTo>
                      <a:pt x="268" y="262"/>
                    </a:lnTo>
                    <a:lnTo>
                      <a:pt x="263" y="271"/>
                    </a:lnTo>
                    <a:lnTo>
                      <a:pt x="257" y="279"/>
                    </a:lnTo>
                    <a:lnTo>
                      <a:pt x="250" y="287"/>
                    </a:lnTo>
                    <a:lnTo>
                      <a:pt x="244" y="294"/>
                    </a:lnTo>
                    <a:lnTo>
                      <a:pt x="237" y="301"/>
                    </a:lnTo>
                    <a:lnTo>
                      <a:pt x="229" y="306"/>
                    </a:lnTo>
                    <a:lnTo>
                      <a:pt x="221" y="311"/>
                    </a:lnTo>
                    <a:lnTo>
                      <a:pt x="211" y="315"/>
                    </a:lnTo>
                    <a:lnTo>
                      <a:pt x="203" y="320"/>
                    </a:lnTo>
                    <a:lnTo>
                      <a:pt x="194" y="323"/>
                    </a:lnTo>
                    <a:lnTo>
                      <a:pt x="185" y="326"/>
                    </a:lnTo>
                    <a:lnTo>
                      <a:pt x="175" y="328"/>
                    </a:lnTo>
                    <a:lnTo>
                      <a:pt x="166" y="330"/>
                    </a:lnTo>
                    <a:lnTo>
                      <a:pt x="156" y="330"/>
                    </a:lnTo>
                    <a:lnTo>
                      <a:pt x="147" y="331"/>
                    </a:lnTo>
                    <a:lnTo>
                      <a:pt x="136" y="330"/>
                    </a:lnTo>
                    <a:lnTo>
                      <a:pt x="125" y="329"/>
                    </a:lnTo>
                    <a:lnTo>
                      <a:pt x="116" y="328"/>
                    </a:lnTo>
                    <a:lnTo>
                      <a:pt x="105" y="326"/>
                    </a:lnTo>
                    <a:lnTo>
                      <a:pt x="96" y="323"/>
                    </a:lnTo>
                    <a:lnTo>
                      <a:pt x="87" y="319"/>
                    </a:lnTo>
                    <a:lnTo>
                      <a:pt x="78" y="314"/>
                    </a:lnTo>
                    <a:lnTo>
                      <a:pt x="69" y="309"/>
                    </a:lnTo>
                    <a:lnTo>
                      <a:pt x="61" y="304"/>
                    </a:lnTo>
                    <a:lnTo>
                      <a:pt x="53" y="297"/>
                    </a:lnTo>
                    <a:lnTo>
                      <a:pt x="46" y="291"/>
                    </a:lnTo>
                    <a:lnTo>
                      <a:pt x="40" y="284"/>
                    </a:lnTo>
                    <a:lnTo>
                      <a:pt x="33" y="276"/>
                    </a:lnTo>
                    <a:lnTo>
                      <a:pt x="28" y="268"/>
                    </a:lnTo>
                    <a:lnTo>
                      <a:pt x="23" y="259"/>
                    </a:lnTo>
                    <a:lnTo>
                      <a:pt x="18" y="250"/>
                    </a:lnTo>
                    <a:lnTo>
                      <a:pt x="14" y="240"/>
                    </a:lnTo>
                    <a:lnTo>
                      <a:pt x="11" y="231"/>
                    </a:lnTo>
                    <a:lnTo>
                      <a:pt x="8" y="221"/>
                    </a:lnTo>
                    <a:lnTo>
                      <a:pt x="5" y="211"/>
                    </a:lnTo>
                    <a:lnTo>
                      <a:pt x="4" y="201"/>
                    </a:lnTo>
                    <a:lnTo>
                      <a:pt x="1" y="190"/>
                    </a:lnTo>
                    <a:lnTo>
                      <a:pt x="1" y="180"/>
                    </a:lnTo>
                    <a:lnTo>
                      <a:pt x="0" y="170"/>
                    </a:lnTo>
                    <a:close/>
                    <a:moveTo>
                      <a:pt x="43" y="170"/>
                    </a:moveTo>
                    <a:lnTo>
                      <a:pt x="43" y="185"/>
                    </a:lnTo>
                    <a:lnTo>
                      <a:pt x="44" y="198"/>
                    </a:lnTo>
                    <a:lnTo>
                      <a:pt x="46" y="211"/>
                    </a:lnTo>
                    <a:lnTo>
                      <a:pt x="49" y="222"/>
                    </a:lnTo>
                    <a:lnTo>
                      <a:pt x="53" y="233"/>
                    </a:lnTo>
                    <a:lnTo>
                      <a:pt x="59" y="243"/>
                    </a:lnTo>
                    <a:lnTo>
                      <a:pt x="65" y="253"/>
                    </a:lnTo>
                    <a:lnTo>
                      <a:pt x="71" y="261"/>
                    </a:lnTo>
                    <a:lnTo>
                      <a:pt x="80" y="270"/>
                    </a:lnTo>
                    <a:lnTo>
                      <a:pt x="87" y="276"/>
                    </a:lnTo>
                    <a:lnTo>
                      <a:pt x="96" y="282"/>
                    </a:lnTo>
                    <a:lnTo>
                      <a:pt x="105" y="287"/>
                    </a:lnTo>
                    <a:lnTo>
                      <a:pt x="115" y="290"/>
                    </a:lnTo>
                    <a:lnTo>
                      <a:pt x="124" y="293"/>
                    </a:lnTo>
                    <a:lnTo>
                      <a:pt x="135" y="294"/>
                    </a:lnTo>
                    <a:lnTo>
                      <a:pt x="147" y="295"/>
                    </a:lnTo>
                    <a:lnTo>
                      <a:pt x="157" y="294"/>
                    </a:lnTo>
                    <a:lnTo>
                      <a:pt x="168" y="293"/>
                    </a:lnTo>
                    <a:lnTo>
                      <a:pt x="178" y="290"/>
                    </a:lnTo>
                    <a:lnTo>
                      <a:pt x="188" y="287"/>
                    </a:lnTo>
                    <a:lnTo>
                      <a:pt x="196" y="282"/>
                    </a:lnTo>
                    <a:lnTo>
                      <a:pt x="206" y="276"/>
                    </a:lnTo>
                    <a:lnTo>
                      <a:pt x="213" y="269"/>
                    </a:lnTo>
                    <a:lnTo>
                      <a:pt x="221" y="261"/>
                    </a:lnTo>
                    <a:lnTo>
                      <a:pt x="228" y="253"/>
                    </a:lnTo>
                    <a:lnTo>
                      <a:pt x="233" y="242"/>
                    </a:lnTo>
                    <a:lnTo>
                      <a:pt x="239" y="232"/>
                    </a:lnTo>
                    <a:lnTo>
                      <a:pt x="243" y="221"/>
                    </a:lnTo>
                    <a:lnTo>
                      <a:pt x="246" y="208"/>
                    </a:lnTo>
                    <a:lnTo>
                      <a:pt x="248" y="195"/>
                    </a:lnTo>
                    <a:lnTo>
                      <a:pt x="250" y="181"/>
                    </a:lnTo>
                    <a:lnTo>
                      <a:pt x="250" y="166"/>
                    </a:lnTo>
                    <a:lnTo>
                      <a:pt x="249" y="147"/>
                    </a:lnTo>
                    <a:lnTo>
                      <a:pt x="247" y="129"/>
                    </a:lnTo>
                    <a:lnTo>
                      <a:pt x="243" y="113"/>
                    </a:lnTo>
                    <a:lnTo>
                      <a:pt x="238" y="98"/>
                    </a:lnTo>
                    <a:lnTo>
                      <a:pt x="231" y="84"/>
                    </a:lnTo>
                    <a:lnTo>
                      <a:pt x="223" y="72"/>
                    </a:lnTo>
                    <a:lnTo>
                      <a:pt x="218" y="66"/>
                    </a:lnTo>
                    <a:lnTo>
                      <a:pt x="212" y="61"/>
                    </a:lnTo>
                    <a:lnTo>
                      <a:pt x="207" y="57"/>
                    </a:lnTo>
                    <a:lnTo>
                      <a:pt x="202" y="53"/>
                    </a:lnTo>
                    <a:lnTo>
                      <a:pt x="189" y="45"/>
                    </a:lnTo>
                    <a:lnTo>
                      <a:pt x="175" y="41"/>
                    </a:lnTo>
                    <a:lnTo>
                      <a:pt x="161" y="38"/>
                    </a:lnTo>
                    <a:lnTo>
                      <a:pt x="147" y="37"/>
                    </a:lnTo>
                    <a:lnTo>
                      <a:pt x="136" y="37"/>
                    </a:lnTo>
                    <a:lnTo>
                      <a:pt x="126" y="39"/>
                    </a:lnTo>
                    <a:lnTo>
                      <a:pt x="116" y="41"/>
                    </a:lnTo>
                    <a:lnTo>
                      <a:pt x="107" y="44"/>
                    </a:lnTo>
                    <a:lnTo>
                      <a:pt x="98" y="48"/>
                    </a:lnTo>
                    <a:lnTo>
                      <a:pt x="89" y="54"/>
                    </a:lnTo>
                    <a:lnTo>
                      <a:pt x="81" y="60"/>
                    </a:lnTo>
                    <a:lnTo>
                      <a:pt x="73" y="68"/>
                    </a:lnTo>
                    <a:lnTo>
                      <a:pt x="66" y="76"/>
                    </a:lnTo>
                    <a:lnTo>
                      <a:pt x="60" y="86"/>
                    </a:lnTo>
                    <a:lnTo>
                      <a:pt x="54" y="96"/>
                    </a:lnTo>
                    <a:lnTo>
                      <a:pt x="50" y="109"/>
                    </a:lnTo>
                    <a:lnTo>
                      <a:pt x="47" y="123"/>
                    </a:lnTo>
                    <a:lnTo>
                      <a:pt x="44" y="137"/>
                    </a:lnTo>
                    <a:lnTo>
                      <a:pt x="43" y="153"/>
                    </a:lnTo>
                    <a:lnTo>
                      <a:pt x="43" y="170"/>
                    </a:lnTo>
                    <a:close/>
                  </a:path>
                </a:pathLst>
              </a:custGeom>
              <a:solidFill>
                <a:srgbClr val="1f1a17"/>
              </a:solidFill>
              <a:ln w="0">
                <a:noFill/>
              </a:ln>
            </p:spPr>
            <p:style>
              <a:lnRef idx="0"/>
              <a:fillRef idx="0"/>
              <a:effectRef idx="0"/>
              <a:fontRef idx="minor"/>
            </p:style>
            <p:txBody>
              <a:bodyPr lIns="90000" rIns="90000" tIns="4680" bIns="4680" anchor="t">
                <a:noAutofit/>
              </a:bodyPr>
              <a:p>
                <a:pPr>
                  <a:lnSpc>
                    <a:spcPct val="100000"/>
                  </a:lnSpc>
                </a:pPr>
                <a:endParaRPr b="0" lang="en-US" sz="1800" spc="-1" strike="noStrike">
                  <a:solidFill>
                    <a:srgbClr val="000000"/>
                  </a:solidFill>
                  <a:latin typeface="Arial"/>
                  <a:ea typeface="宋体"/>
                </a:endParaRPr>
              </a:p>
            </p:txBody>
          </p:sp>
          <p:sp>
            <p:nvSpPr>
              <p:cNvPr id="260" name="Freeform 63"/>
              <p:cNvSpPr/>
              <p:nvPr/>
            </p:nvSpPr>
            <p:spPr>
              <a:xfrm>
                <a:off x="5715360" y="1405800"/>
                <a:ext cx="37800" cy="48240"/>
              </a:xfrm>
              <a:custGeom>
                <a:avLst/>
                <a:gdLst>
                  <a:gd name="textAreaLeft" fmla="*/ 0 w 37800"/>
                  <a:gd name="textAreaRight" fmla="*/ 38160 w 37800"/>
                  <a:gd name="textAreaTop" fmla="*/ 0 h 48240"/>
                  <a:gd name="textAreaBottom" fmla="*/ 48600 h 48240"/>
                </a:gdLst>
                <a:ahLst/>
                <a:rect l="textAreaLeft" t="textAreaTop" r="textAreaRight" b="textAreaBottom"/>
                <a:pathLst>
                  <a:path w="240" h="320">
                    <a:moveTo>
                      <a:pt x="0" y="320"/>
                    </a:moveTo>
                    <a:lnTo>
                      <a:pt x="0" y="0"/>
                    </a:lnTo>
                    <a:lnTo>
                      <a:pt x="41" y="0"/>
                    </a:lnTo>
                    <a:lnTo>
                      <a:pt x="201" y="251"/>
                    </a:lnTo>
                    <a:lnTo>
                      <a:pt x="201" y="0"/>
                    </a:lnTo>
                    <a:lnTo>
                      <a:pt x="240" y="0"/>
                    </a:lnTo>
                    <a:lnTo>
                      <a:pt x="240" y="320"/>
                    </a:lnTo>
                    <a:lnTo>
                      <a:pt x="199" y="320"/>
                    </a:lnTo>
                    <a:lnTo>
                      <a:pt x="39" y="68"/>
                    </a:lnTo>
                    <a:lnTo>
                      <a:pt x="39" y="320"/>
                    </a:lnTo>
                    <a:lnTo>
                      <a:pt x="0" y="320"/>
                    </a:lnTo>
                    <a:close/>
                  </a:path>
                </a:pathLst>
              </a:custGeom>
              <a:solidFill>
                <a:srgbClr val="1f1a17"/>
              </a:solidFill>
              <a:ln w="0">
                <a:noFill/>
              </a:ln>
            </p:spPr>
            <p:style>
              <a:lnRef idx="0"/>
              <a:fillRef idx="0"/>
              <a:effectRef idx="0"/>
              <a:fontRef idx="minor"/>
            </p:style>
            <p:txBody>
              <a:bodyPr lIns="90000" rIns="90000" tIns="3600" bIns="3600" anchor="t">
                <a:noAutofit/>
              </a:bodyPr>
              <a:p>
                <a:pPr>
                  <a:lnSpc>
                    <a:spcPct val="100000"/>
                  </a:lnSpc>
                </a:pPr>
                <a:endParaRPr b="0" lang="en-US" sz="1800" spc="-1" strike="noStrike">
                  <a:solidFill>
                    <a:srgbClr val="000000"/>
                  </a:solidFill>
                  <a:latin typeface="Arial"/>
                  <a:ea typeface="宋体"/>
                </a:endParaRPr>
              </a:p>
            </p:txBody>
          </p:sp>
          <p:sp>
            <p:nvSpPr>
              <p:cNvPr id="261" name="Freeform 64"/>
              <p:cNvSpPr/>
              <p:nvPr/>
            </p:nvSpPr>
            <p:spPr>
              <a:xfrm>
                <a:off x="5766840" y="1404720"/>
                <a:ext cx="37800" cy="49320"/>
              </a:xfrm>
              <a:custGeom>
                <a:avLst/>
                <a:gdLst>
                  <a:gd name="textAreaLeft" fmla="*/ 0 w 37800"/>
                  <a:gd name="textAreaRight" fmla="*/ 38160 w 37800"/>
                  <a:gd name="textAreaTop" fmla="*/ 0 h 49320"/>
                  <a:gd name="textAreaBottom" fmla="*/ 49680 h 49320"/>
                </a:gdLst>
                <a:ahLst/>
                <a:rect l="textAreaLeft" t="textAreaTop" r="textAreaRight" b="textAreaBottom"/>
                <a:pathLst>
                  <a:path w="242" h="330">
                    <a:moveTo>
                      <a:pt x="0" y="222"/>
                    </a:moveTo>
                    <a:lnTo>
                      <a:pt x="38" y="218"/>
                    </a:lnTo>
                    <a:lnTo>
                      <a:pt x="40" y="230"/>
                    </a:lnTo>
                    <a:lnTo>
                      <a:pt x="42" y="240"/>
                    </a:lnTo>
                    <a:lnTo>
                      <a:pt x="46" y="250"/>
                    </a:lnTo>
                    <a:lnTo>
                      <a:pt x="51" y="257"/>
                    </a:lnTo>
                    <a:lnTo>
                      <a:pt x="56" y="265"/>
                    </a:lnTo>
                    <a:lnTo>
                      <a:pt x="63" y="272"/>
                    </a:lnTo>
                    <a:lnTo>
                      <a:pt x="72" y="277"/>
                    </a:lnTo>
                    <a:lnTo>
                      <a:pt x="81" y="283"/>
                    </a:lnTo>
                    <a:lnTo>
                      <a:pt x="92" y="287"/>
                    </a:lnTo>
                    <a:lnTo>
                      <a:pt x="104" y="290"/>
                    </a:lnTo>
                    <a:lnTo>
                      <a:pt x="115" y="291"/>
                    </a:lnTo>
                    <a:lnTo>
                      <a:pt x="128" y="292"/>
                    </a:lnTo>
                    <a:lnTo>
                      <a:pt x="140" y="291"/>
                    </a:lnTo>
                    <a:lnTo>
                      <a:pt x="150" y="290"/>
                    </a:lnTo>
                    <a:lnTo>
                      <a:pt x="160" y="288"/>
                    </a:lnTo>
                    <a:lnTo>
                      <a:pt x="168" y="285"/>
                    </a:lnTo>
                    <a:lnTo>
                      <a:pt x="177" y="281"/>
                    </a:lnTo>
                    <a:lnTo>
                      <a:pt x="184" y="276"/>
                    </a:lnTo>
                    <a:lnTo>
                      <a:pt x="191" y="271"/>
                    </a:lnTo>
                    <a:lnTo>
                      <a:pt x="195" y="266"/>
                    </a:lnTo>
                    <a:lnTo>
                      <a:pt x="199" y="258"/>
                    </a:lnTo>
                    <a:lnTo>
                      <a:pt x="201" y="252"/>
                    </a:lnTo>
                    <a:lnTo>
                      <a:pt x="203" y="246"/>
                    </a:lnTo>
                    <a:lnTo>
                      <a:pt x="204" y="238"/>
                    </a:lnTo>
                    <a:lnTo>
                      <a:pt x="203" y="231"/>
                    </a:lnTo>
                    <a:lnTo>
                      <a:pt x="202" y="223"/>
                    </a:lnTo>
                    <a:lnTo>
                      <a:pt x="199" y="217"/>
                    </a:lnTo>
                    <a:lnTo>
                      <a:pt x="196" y="212"/>
                    </a:lnTo>
                    <a:lnTo>
                      <a:pt x="191" y="206"/>
                    </a:lnTo>
                    <a:lnTo>
                      <a:pt x="184" y="201"/>
                    </a:lnTo>
                    <a:lnTo>
                      <a:pt x="177" y="197"/>
                    </a:lnTo>
                    <a:lnTo>
                      <a:pt x="168" y="193"/>
                    </a:lnTo>
                    <a:lnTo>
                      <a:pt x="160" y="189"/>
                    </a:lnTo>
                    <a:lnTo>
                      <a:pt x="148" y="186"/>
                    </a:lnTo>
                    <a:lnTo>
                      <a:pt x="133" y="182"/>
                    </a:lnTo>
                    <a:lnTo>
                      <a:pt x="114" y="177"/>
                    </a:lnTo>
                    <a:lnTo>
                      <a:pt x="94" y="171"/>
                    </a:lnTo>
                    <a:lnTo>
                      <a:pt x="78" y="167"/>
                    </a:lnTo>
                    <a:lnTo>
                      <a:pt x="64" y="162"/>
                    </a:lnTo>
                    <a:lnTo>
                      <a:pt x="55" y="157"/>
                    </a:lnTo>
                    <a:lnTo>
                      <a:pt x="44" y="151"/>
                    </a:lnTo>
                    <a:lnTo>
                      <a:pt x="36" y="144"/>
                    </a:lnTo>
                    <a:lnTo>
                      <a:pt x="28" y="135"/>
                    </a:lnTo>
                    <a:lnTo>
                      <a:pt x="22" y="127"/>
                    </a:lnTo>
                    <a:lnTo>
                      <a:pt x="18" y="118"/>
                    </a:lnTo>
                    <a:lnTo>
                      <a:pt x="15" y="109"/>
                    </a:lnTo>
                    <a:lnTo>
                      <a:pt x="13" y="98"/>
                    </a:lnTo>
                    <a:lnTo>
                      <a:pt x="12" y="88"/>
                    </a:lnTo>
                    <a:lnTo>
                      <a:pt x="13" y="76"/>
                    </a:lnTo>
                    <a:lnTo>
                      <a:pt x="15" y="64"/>
                    </a:lnTo>
                    <a:lnTo>
                      <a:pt x="19" y="53"/>
                    </a:lnTo>
                    <a:lnTo>
                      <a:pt x="25" y="42"/>
                    </a:lnTo>
                    <a:lnTo>
                      <a:pt x="32" y="33"/>
                    </a:lnTo>
                    <a:lnTo>
                      <a:pt x="41" y="24"/>
                    </a:lnTo>
                    <a:lnTo>
                      <a:pt x="51" y="17"/>
                    </a:lnTo>
                    <a:lnTo>
                      <a:pt x="63" y="10"/>
                    </a:lnTo>
                    <a:lnTo>
                      <a:pt x="76" y="5"/>
                    </a:lnTo>
                    <a:lnTo>
                      <a:pt x="90" y="2"/>
                    </a:lnTo>
                    <a:lnTo>
                      <a:pt x="104" y="0"/>
                    </a:lnTo>
                    <a:lnTo>
                      <a:pt x="119" y="0"/>
                    </a:lnTo>
                    <a:lnTo>
                      <a:pt x="135" y="0"/>
                    </a:lnTo>
                    <a:lnTo>
                      <a:pt x="151" y="2"/>
                    </a:lnTo>
                    <a:lnTo>
                      <a:pt x="165" y="6"/>
                    </a:lnTo>
                    <a:lnTo>
                      <a:pt x="179" y="10"/>
                    </a:lnTo>
                    <a:lnTo>
                      <a:pt x="191" y="18"/>
                    </a:lnTo>
                    <a:lnTo>
                      <a:pt x="201" y="25"/>
                    </a:lnTo>
                    <a:lnTo>
                      <a:pt x="211" y="34"/>
                    </a:lnTo>
                    <a:lnTo>
                      <a:pt x="218" y="44"/>
                    </a:lnTo>
                    <a:lnTo>
                      <a:pt x="224" y="56"/>
                    </a:lnTo>
                    <a:lnTo>
                      <a:pt x="230" y="69"/>
                    </a:lnTo>
                    <a:lnTo>
                      <a:pt x="232" y="81"/>
                    </a:lnTo>
                    <a:lnTo>
                      <a:pt x="234" y="95"/>
                    </a:lnTo>
                    <a:lnTo>
                      <a:pt x="195" y="98"/>
                    </a:lnTo>
                    <a:lnTo>
                      <a:pt x="194" y="91"/>
                    </a:lnTo>
                    <a:lnTo>
                      <a:pt x="193" y="83"/>
                    </a:lnTo>
                    <a:lnTo>
                      <a:pt x="191" y="77"/>
                    </a:lnTo>
                    <a:lnTo>
                      <a:pt x="188" y="72"/>
                    </a:lnTo>
                    <a:lnTo>
                      <a:pt x="185" y="65"/>
                    </a:lnTo>
                    <a:lnTo>
                      <a:pt x="182" y="61"/>
                    </a:lnTo>
                    <a:lnTo>
                      <a:pt x="178" y="56"/>
                    </a:lnTo>
                    <a:lnTo>
                      <a:pt x="174" y="52"/>
                    </a:lnTo>
                    <a:lnTo>
                      <a:pt x="169" y="48"/>
                    </a:lnTo>
                    <a:lnTo>
                      <a:pt x="164" y="45"/>
                    </a:lnTo>
                    <a:lnTo>
                      <a:pt x="158" y="43"/>
                    </a:lnTo>
                    <a:lnTo>
                      <a:pt x="151" y="41"/>
                    </a:lnTo>
                    <a:lnTo>
                      <a:pt x="145" y="39"/>
                    </a:lnTo>
                    <a:lnTo>
                      <a:pt x="138" y="38"/>
                    </a:lnTo>
                    <a:lnTo>
                      <a:pt x="129" y="37"/>
                    </a:lnTo>
                    <a:lnTo>
                      <a:pt x="121" y="37"/>
                    </a:lnTo>
                    <a:lnTo>
                      <a:pt x="104" y="38"/>
                    </a:lnTo>
                    <a:lnTo>
                      <a:pt x="89" y="40"/>
                    </a:lnTo>
                    <a:lnTo>
                      <a:pt x="82" y="42"/>
                    </a:lnTo>
                    <a:lnTo>
                      <a:pt x="77" y="44"/>
                    </a:lnTo>
                    <a:lnTo>
                      <a:pt x="72" y="47"/>
                    </a:lnTo>
                    <a:lnTo>
                      <a:pt x="68" y="51"/>
                    </a:lnTo>
                    <a:lnTo>
                      <a:pt x="60" y="58"/>
                    </a:lnTo>
                    <a:lnTo>
                      <a:pt x="55" y="67"/>
                    </a:lnTo>
                    <a:lnTo>
                      <a:pt x="53" y="71"/>
                    </a:lnTo>
                    <a:lnTo>
                      <a:pt x="52" y="75"/>
                    </a:lnTo>
                    <a:lnTo>
                      <a:pt x="51" y="80"/>
                    </a:lnTo>
                    <a:lnTo>
                      <a:pt x="51" y="85"/>
                    </a:lnTo>
                    <a:lnTo>
                      <a:pt x="52" y="93"/>
                    </a:lnTo>
                    <a:lnTo>
                      <a:pt x="54" y="100"/>
                    </a:lnTo>
                    <a:lnTo>
                      <a:pt x="57" y="107"/>
                    </a:lnTo>
                    <a:lnTo>
                      <a:pt x="62" y="113"/>
                    </a:lnTo>
                    <a:lnTo>
                      <a:pt x="66" y="116"/>
                    </a:lnTo>
                    <a:lnTo>
                      <a:pt x="71" y="118"/>
                    </a:lnTo>
                    <a:lnTo>
                      <a:pt x="76" y="122"/>
                    </a:lnTo>
                    <a:lnTo>
                      <a:pt x="84" y="125"/>
                    </a:lnTo>
                    <a:lnTo>
                      <a:pt x="100" y="130"/>
                    </a:lnTo>
                    <a:lnTo>
                      <a:pt x="123" y="135"/>
                    </a:lnTo>
                    <a:lnTo>
                      <a:pt x="146" y="142"/>
                    </a:lnTo>
                    <a:lnTo>
                      <a:pt x="165" y="147"/>
                    </a:lnTo>
                    <a:lnTo>
                      <a:pt x="180" y="151"/>
                    </a:lnTo>
                    <a:lnTo>
                      <a:pt x="191" y="157"/>
                    </a:lnTo>
                    <a:lnTo>
                      <a:pt x="203" y="163"/>
                    </a:lnTo>
                    <a:lnTo>
                      <a:pt x="214" y="170"/>
                    </a:lnTo>
                    <a:lnTo>
                      <a:pt x="222" y="180"/>
                    </a:lnTo>
                    <a:lnTo>
                      <a:pt x="230" y="188"/>
                    </a:lnTo>
                    <a:lnTo>
                      <a:pt x="235" y="199"/>
                    </a:lnTo>
                    <a:lnTo>
                      <a:pt x="239" y="211"/>
                    </a:lnTo>
                    <a:lnTo>
                      <a:pt x="241" y="222"/>
                    </a:lnTo>
                    <a:lnTo>
                      <a:pt x="242" y="234"/>
                    </a:lnTo>
                    <a:lnTo>
                      <a:pt x="241" y="247"/>
                    </a:lnTo>
                    <a:lnTo>
                      <a:pt x="239" y="259"/>
                    </a:lnTo>
                    <a:lnTo>
                      <a:pt x="235" y="271"/>
                    </a:lnTo>
                    <a:lnTo>
                      <a:pt x="229" y="283"/>
                    </a:lnTo>
                    <a:lnTo>
                      <a:pt x="221" y="293"/>
                    </a:lnTo>
                    <a:lnTo>
                      <a:pt x="212" y="303"/>
                    </a:lnTo>
                    <a:lnTo>
                      <a:pt x="201" y="310"/>
                    </a:lnTo>
                    <a:lnTo>
                      <a:pt x="188" y="318"/>
                    </a:lnTo>
                    <a:lnTo>
                      <a:pt x="176" y="323"/>
                    </a:lnTo>
                    <a:lnTo>
                      <a:pt x="161" y="327"/>
                    </a:lnTo>
                    <a:lnTo>
                      <a:pt x="146" y="329"/>
                    </a:lnTo>
                    <a:lnTo>
                      <a:pt x="130" y="330"/>
                    </a:lnTo>
                    <a:lnTo>
                      <a:pt x="110" y="329"/>
                    </a:lnTo>
                    <a:lnTo>
                      <a:pt x="92" y="327"/>
                    </a:lnTo>
                    <a:lnTo>
                      <a:pt x="75" y="323"/>
                    </a:lnTo>
                    <a:lnTo>
                      <a:pt x="60" y="318"/>
                    </a:lnTo>
                    <a:lnTo>
                      <a:pt x="54" y="314"/>
                    </a:lnTo>
                    <a:lnTo>
                      <a:pt x="48" y="310"/>
                    </a:lnTo>
                    <a:lnTo>
                      <a:pt x="41" y="306"/>
                    </a:lnTo>
                    <a:lnTo>
                      <a:pt x="36" y="302"/>
                    </a:lnTo>
                    <a:lnTo>
                      <a:pt x="31" y="296"/>
                    </a:lnTo>
                    <a:lnTo>
                      <a:pt x="25" y="291"/>
                    </a:lnTo>
                    <a:lnTo>
                      <a:pt x="21" y="286"/>
                    </a:lnTo>
                    <a:lnTo>
                      <a:pt x="17" y="280"/>
                    </a:lnTo>
                    <a:lnTo>
                      <a:pt x="9" y="267"/>
                    </a:lnTo>
                    <a:lnTo>
                      <a:pt x="5" y="252"/>
                    </a:lnTo>
                    <a:lnTo>
                      <a:pt x="1" y="237"/>
                    </a:lnTo>
                    <a:lnTo>
                      <a:pt x="0" y="222"/>
                    </a:lnTo>
                    <a:close/>
                  </a:path>
                </a:pathLst>
              </a:custGeom>
              <a:solidFill>
                <a:srgbClr val="1f1a17"/>
              </a:solidFill>
              <a:ln w="0">
                <a:noFill/>
              </a:ln>
            </p:spPr>
            <p:style>
              <a:lnRef idx="0"/>
              <a:fillRef idx="0"/>
              <a:effectRef idx="0"/>
              <a:fontRef idx="minor"/>
            </p:style>
            <p:txBody>
              <a:bodyPr lIns="90000" rIns="90000" tIns="4680" bIns="4680" anchor="t">
                <a:noAutofit/>
              </a:bodyPr>
              <a:p>
                <a:pPr>
                  <a:lnSpc>
                    <a:spcPct val="100000"/>
                  </a:lnSpc>
                </a:pPr>
                <a:endParaRPr b="0" lang="en-US" sz="1800" spc="-1" strike="noStrike">
                  <a:solidFill>
                    <a:srgbClr val="000000"/>
                  </a:solidFill>
                  <a:latin typeface="Arial"/>
                  <a:ea typeface="宋体"/>
                </a:endParaRPr>
              </a:p>
            </p:txBody>
          </p:sp>
          <p:sp>
            <p:nvSpPr>
              <p:cNvPr id="262" name="Freeform 65"/>
              <p:cNvSpPr/>
              <p:nvPr/>
            </p:nvSpPr>
            <p:spPr>
              <a:xfrm>
                <a:off x="5818320" y="1405800"/>
                <a:ext cx="37800" cy="48240"/>
              </a:xfrm>
              <a:custGeom>
                <a:avLst/>
                <a:gdLst>
                  <a:gd name="textAreaLeft" fmla="*/ 0 w 37800"/>
                  <a:gd name="textAreaRight" fmla="*/ 38160 w 37800"/>
                  <a:gd name="textAreaTop" fmla="*/ 0 h 48240"/>
                  <a:gd name="textAreaBottom" fmla="*/ 48600 h 48240"/>
                </a:gdLst>
                <a:ahLst/>
                <a:rect l="textAreaLeft" t="textAreaTop" r="textAreaRight" b="textAreaBottom"/>
                <a:pathLst>
                  <a:path w="239" h="325">
                    <a:moveTo>
                      <a:pt x="199" y="0"/>
                    </a:moveTo>
                    <a:lnTo>
                      <a:pt x="239" y="0"/>
                    </a:lnTo>
                    <a:lnTo>
                      <a:pt x="239" y="184"/>
                    </a:lnTo>
                    <a:lnTo>
                      <a:pt x="239" y="208"/>
                    </a:lnTo>
                    <a:lnTo>
                      <a:pt x="237" y="228"/>
                    </a:lnTo>
                    <a:lnTo>
                      <a:pt x="234" y="246"/>
                    </a:lnTo>
                    <a:lnTo>
                      <a:pt x="229" y="261"/>
                    </a:lnTo>
                    <a:lnTo>
                      <a:pt x="227" y="268"/>
                    </a:lnTo>
                    <a:lnTo>
                      <a:pt x="223" y="275"/>
                    </a:lnTo>
                    <a:lnTo>
                      <a:pt x="219" y="281"/>
                    </a:lnTo>
                    <a:lnTo>
                      <a:pt x="215" y="287"/>
                    </a:lnTo>
                    <a:lnTo>
                      <a:pt x="210" y="293"/>
                    </a:lnTo>
                    <a:lnTo>
                      <a:pt x="204" y="298"/>
                    </a:lnTo>
                    <a:lnTo>
                      <a:pt x="198" y="303"/>
                    </a:lnTo>
                    <a:lnTo>
                      <a:pt x="192" y="307"/>
                    </a:lnTo>
                    <a:lnTo>
                      <a:pt x="184" y="312"/>
                    </a:lnTo>
                    <a:lnTo>
                      <a:pt x="177" y="315"/>
                    </a:lnTo>
                    <a:lnTo>
                      <a:pt x="169" y="318"/>
                    </a:lnTo>
                    <a:lnTo>
                      <a:pt x="160" y="321"/>
                    </a:lnTo>
                    <a:lnTo>
                      <a:pt x="151" y="322"/>
                    </a:lnTo>
                    <a:lnTo>
                      <a:pt x="142" y="324"/>
                    </a:lnTo>
                    <a:lnTo>
                      <a:pt x="131" y="324"/>
                    </a:lnTo>
                    <a:lnTo>
                      <a:pt x="121" y="325"/>
                    </a:lnTo>
                    <a:lnTo>
                      <a:pt x="110" y="325"/>
                    </a:lnTo>
                    <a:lnTo>
                      <a:pt x="101" y="324"/>
                    </a:lnTo>
                    <a:lnTo>
                      <a:pt x="91" y="323"/>
                    </a:lnTo>
                    <a:lnTo>
                      <a:pt x="82" y="321"/>
                    </a:lnTo>
                    <a:lnTo>
                      <a:pt x="73" y="319"/>
                    </a:lnTo>
                    <a:lnTo>
                      <a:pt x="65" y="317"/>
                    </a:lnTo>
                    <a:lnTo>
                      <a:pt x="57" y="314"/>
                    </a:lnTo>
                    <a:lnTo>
                      <a:pt x="51" y="309"/>
                    </a:lnTo>
                    <a:lnTo>
                      <a:pt x="44" y="305"/>
                    </a:lnTo>
                    <a:lnTo>
                      <a:pt x="38" y="301"/>
                    </a:lnTo>
                    <a:lnTo>
                      <a:pt x="33" y="296"/>
                    </a:lnTo>
                    <a:lnTo>
                      <a:pt x="28" y="290"/>
                    </a:lnTo>
                    <a:lnTo>
                      <a:pt x="22" y="285"/>
                    </a:lnTo>
                    <a:lnTo>
                      <a:pt x="18" y="279"/>
                    </a:lnTo>
                    <a:lnTo>
                      <a:pt x="15" y="272"/>
                    </a:lnTo>
                    <a:lnTo>
                      <a:pt x="12" y="265"/>
                    </a:lnTo>
                    <a:lnTo>
                      <a:pt x="6" y="249"/>
                    </a:lnTo>
                    <a:lnTo>
                      <a:pt x="3" y="230"/>
                    </a:lnTo>
                    <a:lnTo>
                      <a:pt x="1" y="209"/>
                    </a:lnTo>
                    <a:lnTo>
                      <a:pt x="0" y="184"/>
                    </a:lnTo>
                    <a:lnTo>
                      <a:pt x="0" y="0"/>
                    </a:lnTo>
                    <a:lnTo>
                      <a:pt x="40" y="0"/>
                    </a:lnTo>
                    <a:lnTo>
                      <a:pt x="40" y="184"/>
                    </a:lnTo>
                    <a:lnTo>
                      <a:pt x="41" y="204"/>
                    </a:lnTo>
                    <a:lnTo>
                      <a:pt x="42" y="220"/>
                    </a:lnTo>
                    <a:lnTo>
                      <a:pt x="44" y="234"/>
                    </a:lnTo>
                    <a:lnTo>
                      <a:pt x="48" y="246"/>
                    </a:lnTo>
                    <a:lnTo>
                      <a:pt x="52" y="255"/>
                    </a:lnTo>
                    <a:lnTo>
                      <a:pt x="58" y="263"/>
                    </a:lnTo>
                    <a:lnTo>
                      <a:pt x="65" y="270"/>
                    </a:lnTo>
                    <a:lnTo>
                      <a:pt x="73" y="277"/>
                    </a:lnTo>
                    <a:lnTo>
                      <a:pt x="83" y="281"/>
                    </a:lnTo>
                    <a:lnTo>
                      <a:pt x="93" y="284"/>
                    </a:lnTo>
                    <a:lnTo>
                      <a:pt x="105" y="286"/>
                    </a:lnTo>
                    <a:lnTo>
                      <a:pt x="116" y="287"/>
                    </a:lnTo>
                    <a:lnTo>
                      <a:pt x="128" y="286"/>
                    </a:lnTo>
                    <a:lnTo>
                      <a:pt x="138" y="286"/>
                    </a:lnTo>
                    <a:lnTo>
                      <a:pt x="147" y="284"/>
                    </a:lnTo>
                    <a:lnTo>
                      <a:pt x="155" y="282"/>
                    </a:lnTo>
                    <a:lnTo>
                      <a:pt x="163" y="279"/>
                    </a:lnTo>
                    <a:lnTo>
                      <a:pt x="169" y="276"/>
                    </a:lnTo>
                    <a:lnTo>
                      <a:pt x="176" y="270"/>
                    </a:lnTo>
                    <a:lnTo>
                      <a:pt x="180" y="266"/>
                    </a:lnTo>
                    <a:lnTo>
                      <a:pt x="185" y="260"/>
                    </a:lnTo>
                    <a:lnTo>
                      <a:pt x="189" y="252"/>
                    </a:lnTo>
                    <a:lnTo>
                      <a:pt x="192" y="245"/>
                    </a:lnTo>
                    <a:lnTo>
                      <a:pt x="195" y="235"/>
                    </a:lnTo>
                    <a:lnTo>
                      <a:pt x="197" y="224"/>
                    </a:lnTo>
                    <a:lnTo>
                      <a:pt x="198" y="212"/>
                    </a:lnTo>
                    <a:lnTo>
                      <a:pt x="199" y="199"/>
                    </a:lnTo>
                    <a:lnTo>
                      <a:pt x="199" y="184"/>
                    </a:lnTo>
                    <a:lnTo>
                      <a:pt x="199" y="0"/>
                    </a:lnTo>
                    <a:close/>
                  </a:path>
                </a:pathLst>
              </a:custGeom>
              <a:solidFill>
                <a:srgbClr val="1f1a17"/>
              </a:solidFill>
              <a:ln w="0">
                <a:noFill/>
              </a:ln>
            </p:spPr>
            <p:style>
              <a:lnRef idx="0"/>
              <a:fillRef idx="0"/>
              <a:effectRef idx="0"/>
              <a:fontRef idx="minor"/>
            </p:style>
            <p:txBody>
              <a:bodyPr lIns="90000" rIns="90000" tIns="3600" bIns="3600" anchor="t">
                <a:noAutofit/>
              </a:bodyPr>
              <a:p>
                <a:pPr>
                  <a:lnSpc>
                    <a:spcPct val="100000"/>
                  </a:lnSpc>
                </a:pPr>
                <a:endParaRPr b="0" lang="en-US" sz="1800" spc="-1" strike="noStrike">
                  <a:solidFill>
                    <a:srgbClr val="000000"/>
                  </a:solidFill>
                  <a:latin typeface="Arial"/>
                  <a:ea typeface="宋体"/>
                </a:endParaRPr>
              </a:p>
            </p:txBody>
          </p:sp>
          <p:sp>
            <p:nvSpPr>
              <p:cNvPr id="263" name="Freeform 66"/>
              <p:cNvSpPr/>
              <p:nvPr/>
            </p:nvSpPr>
            <p:spPr>
              <a:xfrm>
                <a:off x="5870880" y="1405800"/>
                <a:ext cx="29880" cy="48240"/>
              </a:xfrm>
              <a:custGeom>
                <a:avLst/>
                <a:gdLst>
                  <a:gd name="textAreaLeft" fmla="*/ 0 w 29880"/>
                  <a:gd name="textAreaRight" fmla="*/ 30240 w 29880"/>
                  <a:gd name="textAreaTop" fmla="*/ 0 h 48240"/>
                  <a:gd name="textAreaBottom" fmla="*/ 48600 h 48240"/>
                </a:gdLst>
                <a:ahLst/>
                <a:rect l="textAreaLeft" t="textAreaTop" r="textAreaRight" b="textAreaBottom"/>
                <a:pathLst>
                  <a:path w="191" h="320">
                    <a:moveTo>
                      <a:pt x="0" y="320"/>
                    </a:moveTo>
                    <a:lnTo>
                      <a:pt x="0" y="0"/>
                    </a:lnTo>
                    <a:lnTo>
                      <a:pt x="41" y="0"/>
                    </a:lnTo>
                    <a:lnTo>
                      <a:pt x="41" y="282"/>
                    </a:lnTo>
                    <a:lnTo>
                      <a:pt x="191" y="282"/>
                    </a:lnTo>
                    <a:lnTo>
                      <a:pt x="191" y="320"/>
                    </a:lnTo>
                    <a:lnTo>
                      <a:pt x="0" y="320"/>
                    </a:lnTo>
                    <a:close/>
                  </a:path>
                </a:pathLst>
              </a:custGeom>
              <a:solidFill>
                <a:srgbClr val="1f1a17"/>
              </a:solidFill>
              <a:ln w="0">
                <a:noFill/>
              </a:ln>
            </p:spPr>
            <p:style>
              <a:lnRef idx="0"/>
              <a:fillRef idx="0"/>
              <a:effectRef idx="0"/>
              <a:fontRef idx="minor"/>
            </p:style>
            <p:txBody>
              <a:bodyPr lIns="90000" rIns="90000" tIns="3600" bIns="3600" anchor="t">
                <a:noAutofit/>
              </a:bodyPr>
              <a:p>
                <a:pPr>
                  <a:lnSpc>
                    <a:spcPct val="100000"/>
                  </a:lnSpc>
                </a:pPr>
                <a:endParaRPr b="0" lang="en-US" sz="1800" spc="-1" strike="noStrike">
                  <a:solidFill>
                    <a:srgbClr val="000000"/>
                  </a:solidFill>
                  <a:latin typeface="Arial"/>
                  <a:ea typeface="宋体"/>
                </a:endParaRPr>
              </a:p>
            </p:txBody>
          </p:sp>
          <p:sp>
            <p:nvSpPr>
              <p:cNvPr id="264" name="Freeform 67"/>
              <p:cNvSpPr/>
              <p:nvPr/>
            </p:nvSpPr>
            <p:spPr>
              <a:xfrm>
                <a:off x="5904360" y="1405800"/>
                <a:ext cx="38880" cy="48240"/>
              </a:xfrm>
              <a:custGeom>
                <a:avLst/>
                <a:gdLst>
                  <a:gd name="textAreaLeft" fmla="*/ 0 w 38880"/>
                  <a:gd name="textAreaRight" fmla="*/ 39240 w 38880"/>
                  <a:gd name="textAreaTop" fmla="*/ 0 h 48240"/>
                  <a:gd name="textAreaBottom" fmla="*/ 48600 h 48240"/>
                </a:gdLst>
                <a:ahLst/>
                <a:rect l="textAreaLeft" t="textAreaTop" r="textAreaRight" b="textAreaBottom"/>
                <a:pathLst>
                  <a:path w="242" h="320">
                    <a:moveTo>
                      <a:pt x="101" y="320"/>
                    </a:moveTo>
                    <a:lnTo>
                      <a:pt x="101" y="37"/>
                    </a:lnTo>
                    <a:lnTo>
                      <a:pt x="0" y="37"/>
                    </a:lnTo>
                    <a:lnTo>
                      <a:pt x="0" y="0"/>
                    </a:lnTo>
                    <a:lnTo>
                      <a:pt x="242" y="0"/>
                    </a:lnTo>
                    <a:lnTo>
                      <a:pt x="242" y="37"/>
                    </a:lnTo>
                    <a:lnTo>
                      <a:pt x="141" y="37"/>
                    </a:lnTo>
                    <a:lnTo>
                      <a:pt x="141" y="320"/>
                    </a:lnTo>
                    <a:lnTo>
                      <a:pt x="101" y="320"/>
                    </a:lnTo>
                    <a:close/>
                  </a:path>
                </a:pathLst>
              </a:custGeom>
              <a:solidFill>
                <a:srgbClr val="1f1a17"/>
              </a:solidFill>
              <a:ln w="0">
                <a:noFill/>
              </a:ln>
            </p:spPr>
            <p:style>
              <a:lnRef idx="0"/>
              <a:fillRef idx="0"/>
              <a:effectRef idx="0"/>
              <a:fontRef idx="minor"/>
            </p:style>
            <p:txBody>
              <a:bodyPr lIns="90000" rIns="90000" tIns="3600" bIns="3600" anchor="t">
                <a:noAutofit/>
              </a:bodyPr>
              <a:p>
                <a:pPr>
                  <a:lnSpc>
                    <a:spcPct val="100000"/>
                  </a:lnSpc>
                </a:pPr>
                <a:endParaRPr b="0" lang="en-US" sz="1800" spc="-1" strike="noStrike">
                  <a:solidFill>
                    <a:srgbClr val="000000"/>
                  </a:solidFill>
                  <a:latin typeface="Arial"/>
                  <a:ea typeface="宋体"/>
                </a:endParaRPr>
              </a:p>
            </p:txBody>
          </p:sp>
          <p:sp>
            <p:nvSpPr>
              <p:cNvPr id="265" name="Rectangle 68"/>
              <p:cNvSpPr/>
              <p:nvPr/>
            </p:nvSpPr>
            <p:spPr>
              <a:xfrm>
                <a:off x="5954760" y="1405800"/>
                <a:ext cx="6480" cy="48240"/>
              </a:xfrm>
              <a:prstGeom prst="rect">
                <a:avLst/>
              </a:prstGeom>
              <a:solidFill>
                <a:srgbClr val="1f1a17"/>
              </a:solidFill>
              <a:ln w="0">
                <a:noFill/>
              </a:ln>
            </p:spPr>
            <p:style>
              <a:lnRef idx="0"/>
              <a:fillRef idx="0"/>
              <a:effectRef idx="0"/>
              <a:fontRef idx="minor"/>
            </p:style>
            <p:txBody>
              <a:bodyPr lIns="90000" rIns="90000" tIns="3600" bIns="3600" anchor="t">
                <a:noAutofit/>
              </a:bodyPr>
              <a:p>
                <a:pPr>
                  <a:lnSpc>
                    <a:spcPct val="100000"/>
                  </a:lnSpc>
                </a:pPr>
                <a:endParaRPr b="0" lang="en-US" sz="1800" spc="-1" strike="noStrike">
                  <a:solidFill>
                    <a:srgbClr val="000000"/>
                  </a:solidFill>
                  <a:latin typeface="Arial"/>
                  <a:ea typeface="宋体"/>
                </a:endParaRPr>
              </a:p>
            </p:txBody>
          </p:sp>
          <p:sp>
            <p:nvSpPr>
              <p:cNvPr id="266" name="Freeform 69"/>
              <p:cNvSpPr/>
              <p:nvPr/>
            </p:nvSpPr>
            <p:spPr>
              <a:xfrm>
                <a:off x="5977080" y="1405800"/>
                <a:ext cx="37800" cy="48240"/>
              </a:xfrm>
              <a:custGeom>
                <a:avLst/>
                <a:gdLst>
                  <a:gd name="textAreaLeft" fmla="*/ 0 w 37800"/>
                  <a:gd name="textAreaRight" fmla="*/ 38160 w 37800"/>
                  <a:gd name="textAreaTop" fmla="*/ 0 h 48240"/>
                  <a:gd name="textAreaBottom" fmla="*/ 48600 h 48240"/>
                </a:gdLst>
                <a:ahLst/>
                <a:rect l="textAreaLeft" t="textAreaTop" r="textAreaRight" b="textAreaBottom"/>
                <a:pathLst>
                  <a:path w="241" h="320">
                    <a:moveTo>
                      <a:pt x="0" y="320"/>
                    </a:moveTo>
                    <a:lnTo>
                      <a:pt x="0" y="0"/>
                    </a:lnTo>
                    <a:lnTo>
                      <a:pt x="42" y="0"/>
                    </a:lnTo>
                    <a:lnTo>
                      <a:pt x="202" y="251"/>
                    </a:lnTo>
                    <a:lnTo>
                      <a:pt x="202" y="0"/>
                    </a:lnTo>
                    <a:lnTo>
                      <a:pt x="241" y="0"/>
                    </a:lnTo>
                    <a:lnTo>
                      <a:pt x="241" y="320"/>
                    </a:lnTo>
                    <a:lnTo>
                      <a:pt x="200" y="320"/>
                    </a:lnTo>
                    <a:lnTo>
                      <a:pt x="40" y="68"/>
                    </a:lnTo>
                    <a:lnTo>
                      <a:pt x="40" y="320"/>
                    </a:lnTo>
                    <a:lnTo>
                      <a:pt x="0" y="320"/>
                    </a:lnTo>
                    <a:close/>
                  </a:path>
                </a:pathLst>
              </a:custGeom>
              <a:solidFill>
                <a:srgbClr val="1f1a17"/>
              </a:solidFill>
              <a:ln w="0">
                <a:noFill/>
              </a:ln>
            </p:spPr>
            <p:style>
              <a:lnRef idx="0"/>
              <a:fillRef idx="0"/>
              <a:effectRef idx="0"/>
              <a:fontRef idx="minor"/>
            </p:style>
            <p:txBody>
              <a:bodyPr lIns="90000" rIns="90000" tIns="3600" bIns="3600" anchor="t">
                <a:noAutofit/>
              </a:bodyPr>
              <a:p>
                <a:pPr>
                  <a:lnSpc>
                    <a:spcPct val="100000"/>
                  </a:lnSpc>
                </a:pPr>
                <a:endParaRPr b="0" lang="en-US" sz="1800" spc="-1" strike="noStrike">
                  <a:solidFill>
                    <a:srgbClr val="000000"/>
                  </a:solidFill>
                  <a:latin typeface="Arial"/>
                  <a:ea typeface="宋体"/>
                </a:endParaRPr>
              </a:p>
            </p:txBody>
          </p:sp>
          <p:sp>
            <p:nvSpPr>
              <p:cNvPr id="267" name="Freeform 70"/>
              <p:cNvSpPr/>
              <p:nvPr/>
            </p:nvSpPr>
            <p:spPr>
              <a:xfrm>
                <a:off x="6028560" y="1404720"/>
                <a:ext cx="44280" cy="49320"/>
              </a:xfrm>
              <a:custGeom>
                <a:avLst/>
                <a:gdLst>
                  <a:gd name="textAreaLeft" fmla="*/ 0 w 44280"/>
                  <a:gd name="textAreaRight" fmla="*/ 44640 w 44280"/>
                  <a:gd name="textAreaTop" fmla="*/ 0 h 49320"/>
                  <a:gd name="textAreaBottom" fmla="*/ 49680 h 49320"/>
                </a:gdLst>
                <a:ahLst/>
                <a:rect l="textAreaLeft" t="textAreaTop" r="textAreaRight" b="textAreaBottom"/>
                <a:pathLst>
                  <a:path w="282" h="330">
                    <a:moveTo>
                      <a:pt x="154" y="199"/>
                    </a:moveTo>
                    <a:lnTo>
                      <a:pt x="154" y="162"/>
                    </a:lnTo>
                    <a:lnTo>
                      <a:pt x="282" y="162"/>
                    </a:lnTo>
                    <a:lnTo>
                      <a:pt x="282" y="281"/>
                    </a:lnTo>
                    <a:lnTo>
                      <a:pt x="267" y="292"/>
                    </a:lnTo>
                    <a:lnTo>
                      <a:pt x="253" y="302"/>
                    </a:lnTo>
                    <a:lnTo>
                      <a:pt x="237" y="310"/>
                    </a:lnTo>
                    <a:lnTo>
                      <a:pt x="222" y="318"/>
                    </a:lnTo>
                    <a:lnTo>
                      <a:pt x="206" y="323"/>
                    </a:lnTo>
                    <a:lnTo>
                      <a:pt x="189" y="327"/>
                    </a:lnTo>
                    <a:lnTo>
                      <a:pt x="173" y="329"/>
                    </a:lnTo>
                    <a:lnTo>
                      <a:pt x="156" y="330"/>
                    </a:lnTo>
                    <a:lnTo>
                      <a:pt x="146" y="329"/>
                    </a:lnTo>
                    <a:lnTo>
                      <a:pt x="135" y="329"/>
                    </a:lnTo>
                    <a:lnTo>
                      <a:pt x="124" y="327"/>
                    </a:lnTo>
                    <a:lnTo>
                      <a:pt x="114" y="325"/>
                    </a:lnTo>
                    <a:lnTo>
                      <a:pt x="103" y="322"/>
                    </a:lnTo>
                    <a:lnTo>
                      <a:pt x="94" y="319"/>
                    </a:lnTo>
                    <a:lnTo>
                      <a:pt x="84" y="314"/>
                    </a:lnTo>
                    <a:lnTo>
                      <a:pt x="75" y="310"/>
                    </a:lnTo>
                    <a:lnTo>
                      <a:pt x="66" y="305"/>
                    </a:lnTo>
                    <a:lnTo>
                      <a:pt x="58" y="299"/>
                    </a:lnTo>
                    <a:lnTo>
                      <a:pt x="50" y="292"/>
                    </a:lnTo>
                    <a:lnTo>
                      <a:pt x="43" y="285"/>
                    </a:lnTo>
                    <a:lnTo>
                      <a:pt x="37" y="277"/>
                    </a:lnTo>
                    <a:lnTo>
                      <a:pt x="30" y="270"/>
                    </a:lnTo>
                    <a:lnTo>
                      <a:pt x="25" y="260"/>
                    </a:lnTo>
                    <a:lnTo>
                      <a:pt x="20" y="252"/>
                    </a:lnTo>
                    <a:lnTo>
                      <a:pt x="15" y="242"/>
                    </a:lnTo>
                    <a:lnTo>
                      <a:pt x="11" y="232"/>
                    </a:lnTo>
                    <a:lnTo>
                      <a:pt x="8" y="221"/>
                    </a:lnTo>
                    <a:lnTo>
                      <a:pt x="6" y="212"/>
                    </a:lnTo>
                    <a:lnTo>
                      <a:pt x="4" y="200"/>
                    </a:lnTo>
                    <a:lnTo>
                      <a:pt x="2" y="189"/>
                    </a:lnTo>
                    <a:lnTo>
                      <a:pt x="2" y="178"/>
                    </a:lnTo>
                    <a:lnTo>
                      <a:pt x="0" y="166"/>
                    </a:lnTo>
                    <a:lnTo>
                      <a:pt x="2" y="154"/>
                    </a:lnTo>
                    <a:lnTo>
                      <a:pt x="2" y="143"/>
                    </a:lnTo>
                    <a:lnTo>
                      <a:pt x="4" y="132"/>
                    </a:lnTo>
                    <a:lnTo>
                      <a:pt x="6" y="122"/>
                    </a:lnTo>
                    <a:lnTo>
                      <a:pt x="8" y="110"/>
                    </a:lnTo>
                    <a:lnTo>
                      <a:pt x="11" y="99"/>
                    </a:lnTo>
                    <a:lnTo>
                      <a:pt x="15" y="90"/>
                    </a:lnTo>
                    <a:lnTo>
                      <a:pt x="20" y="79"/>
                    </a:lnTo>
                    <a:lnTo>
                      <a:pt x="25" y="70"/>
                    </a:lnTo>
                    <a:lnTo>
                      <a:pt x="30" y="60"/>
                    </a:lnTo>
                    <a:lnTo>
                      <a:pt x="35" y="52"/>
                    </a:lnTo>
                    <a:lnTo>
                      <a:pt x="42" y="44"/>
                    </a:lnTo>
                    <a:lnTo>
                      <a:pt x="49" y="37"/>
                    </a:lnTo>
                    <a:lnTo>
                      <a:pt x="57" y="30"/>
                    </a:lnTo>
                    <a:lnTo>
                      <a:pt x="64" y="24"/>
                    </a:lnTo>
                    <a:lnTo>
                      <a:pt x="73" y="19"/>
                    </a:lnTo>
                    <a:lnTo>
                      <a:pt x="82" y="15"/>
                    </a:lnTo>
                    <a:lnTo>
                      <a:pt x="92" y="10"/>
                    </a:lnTo>
                    <a:lnTo>
                      <a:pt x="101" y="7"/>
                    </a:lnTo>
                    <a:lnTo>
                      <a:pt x="111" y="4"/>
                    </a:lnTo>
                    <a:lnTo>
                      <a:pt x="121" y="2"/>
                    </a:lnTo>
                    <a:lnTo>
                      <a:pt x="132" y="1"/>
                    </a:lnTo>
                    <a:lnTo>
                      <a:pt x="142" y="0"/>
                    </a:lnTo>
                    <a:lnTo>
                      <a:pt x="153" y="0"/>
                    </a:lnTo>
                    <a:lnTo>
                      <a:pt x="170" y="0"/>
                    </a:lnTo>
                    <a:lnTo>
                      <a:pt x="185" y="2"/>
                    </a:lnTo>
                    <a:lnTo>
                      <a:pt x="200" y="6"/>
                    </a:lnTo>
                    <a:lnTo>
                      <a:pt x="213" y="10"/>
                    </a:lnTo>
                    <a:lnTo>
                      <a:pt x="226" y="17"/>
                    </a:lnTo>
                    <a:lnTo>
                      <a:pt x="237" y="24"/>
                    </a:lnTo>
                    <a:lnTo>
                      <a:pt x="246" y="33"/>
                    </a:lnTo>
                    <a:lnTo>
                      <a:pt x="255" y="42"/>
                    </a:lnTo>
                    <a:lnTo>
                      <a:pt x="262" y="53"/>
                    </a:lnTo>
                    <a:lnTo>
                      <a:pt x="268" y="65"/>
                    </a:lnTo>
                    <a:lnTo>
                      <a:pt x="274" y="79"/>
                    </a:lnTo>
                    <a:lnTo>
                      <a:pt x="278" y="94"/>
                    </a:lnTo>
                    <a:lnTo>
                      <a:pt x="242" y="105"/>
                    </a:lnTo>
                    <a:lnTo>
                      <a:pt x="238" y="93"/>
                    </a:lnTo>
                    <a:lnTo>
                      <a:pt x="234" y="82"/>
                    </a:lnTo>
                    <a:lnTo>
                      <a:pt x="229" y="74"/>
                    </a:lnTo>
                    <a:lnTo>
                      <a:pt x="225" y="67"/>
                    </a:lnTo>
                    <a:lnTo>
                      <a:pt x="219" y="60"/>
                    </a:lnTo>
                    <a:lnTo>
                      <a:pt x="212" y="54"/>
                    </a:lnTo>
                    <a:lnTo>
                      <a:pt x="205" y="48"/>
                    </a:lnTo>
                    <a:lnTo>
                      <a:pt x="195" y="44"/>
                    </a:lnTo>
                    <a:lnTo>
                      <a:pt x="186" y="40"/>
                    </a:lnTo>
                    <a:lnTo>
                      <a:pt x="175" y="38"/>
                    </a:lnTo>
                    <a:lnTo>
                      <a:pt x="165" y="36"/>
                    </a:lnTo>
                    <a:lnTo>
                      <a:pt x="154" y="36"/>
                    </a:lnTo>
                    <a:lnTo>
                      <a:pt x="140" y="36"/>
                    </a:lnTo>
                    <a:lnTo>
                      <a:pt x="128" y="38"/>
                    </a:lnTo>
                    <a:lnTo>
                      <a:pt x="116" y="41"/>
                    </a:lnTo>
                    <a:lnTo>
                      <a:pt x="105" y="44"/>
                    </a:lnTo>
                    <a:lnTo>
                      <a:pt x="96" y="50"/>
                    </a:lnTo>
                    <a:lnTo>
                      <a:pt x="87" y="55"/>
                    </a:lnTo>
                    <a:lnTo>
                      <a:pt x="80" y="61"/>
                    </a:lnTo>
                    <a:lnTo>
                      <a:pt x="74" y="68"/>
                    </a:lnTo>
                    <a:lnTo>
                      <a:pt x="67" y="75"/>
                    </a:lnTo>
                    <a:lnTo>
                      <a:pt x="62" y="82"/>
                    </a:lnTo>
                    <a:lnTo>
                      <a:pt x="58" y="91"/>
                    </a:lnTo>
                    <a:lnTo>
                      <a:pt x="55" y="99"/>
                    </a:lnTo>
                    <a:lnTo>
                      <a:pt x="49" y="114"/>
                    </a:lnTo>
                    <a:lnTo>
                      <a:pt x="45" y="130"/>
                    </a:lnTo>
                    <a:lnTo>
                      <a:pt x="43" y="147"/>
                    </a:lnTo>
                    <a:lnTo>
                      <a:pt x="43" y="164"/>
                    </a:lnTo>
                    <a:lnTo>
                      <a:pt x="43" y="184"/>
                    </a:lnTo>
                    <a:lnTo>
                      <a:pt x="46" y="203"/>
                    </a:lnTo>
                    <a:lnTo>
                      <a:pt x="48" y="212"/>
                    </a:lnTo>
                    <a:lnTo>
                      <a:pt x="50" y="220"/>
                    </a:lnTo>
                    <a:lnTo>
                      <a:pt x="53" y="228"/>
                    </a:lnTo>
                    <a:lnTo>
                      <a:pt x="57" y="235"/>
                    </a:lnTo>
                    <a:lnTo>
                      <a:pt x="60" y="242"/>
                    </a:lnTo>
                    <a:lnTo>
                      <a:pt x="64" y="249"/>
                    </a:lnTo>
                    <a:lnTo>
                      <a:pt x="68" y="255"/>
                    </a:lnTo>
                    <a:lnTo>
                      <a:pt x="74" y="260"/>
                    </a:lnTo>
                    <a:lnTo>
                      <a:pt x="79" y="266"/>
                    </a:lnTo>
                    <a:lnTo>
                      <a:pt x="85" y="270"/>
                    </a:lnTo>
                    <a:lnTo>
                      <a:pt x="91" y="274"/>
                    </a:lnTo>
                    <a:lnTo>
                      <a:pt x="97" y="278"/>
                    </a:lnTo>
                    <a:lnTo>
                      <a:pt x="111" y="284"/>
                    </a:lnTo>
                    <a:lnTo>
                      <a:pt x="124" y="288"/>
                    </a:lnTo>
                    <a:lnTo>
                      <a:pt x="139" y="291"/>
                    </a:lnTo>
                    <a:lnTo>
                      <a:pt x="154" y="292"/>
                    </a:lnTo>
                    <a:lnTo>
                      <a:pt x="167" y="291"/>
                    </a:lnTo>
                    <a:lnTo>
                      <a:pt x="181" y="289"/>
                    </a:lnTo>
                    <a:lnTo>
                      <a:pt x="193" y="286"/>
                    </a:lnTo>
                    <a:lnTo>
                      <a:pt x="205" y="282"/>
                    </a:lnTo>
                    <a:lnTo>
                      <a:pt x="217" y="276"/>
                    </a:lnTo>
                    <a:lnTo>
                      <a:pt x="227" y="270"/>
                    </a:lnTo>
                    <a:lnTo>
                      <a:pt x="236" y="265"/>
                    </a:lnTo>
                    <a:lnTo>
                      <a:pt x="243" y="258"/>
                    </a:lnTo>
                    <a:lnTo>
                      <a:pt x="243" y="199"/>
                    </a:lnTo>
                    <a:lnTo>
                      <a:pt x="154" y="199"/>
                    </a:lnTo>
                    <a:close/>
                  </a:path>
                </a:pathLst>
              </a:custGeom>
              <a:solidFill>
                <a:srgbClr val="1f1a17"/>
              </a:solidFill>
              <a:ln w="0">
                <a:noFill/>
              </a:ln>
            </p:spPr>
            <p:style>
              <a:lnRef idx="0"/>
              <a:fillRef idx="0"/>
              <a:effectRef idx="0"/>
              <a:fontRef idx="minor"/>
            </p:style>
            <p:txBody>
              <a:bodyPr lIns="90000" rIns="90000" tIns="4680" bIns="4680" anchor="t">
                <a:noAutofit/>
              </a:bodyPr>
              <a:p>
                <a:pPr>
                  <a:lnSpc>
                    <a:spcPct val="100000"/>
                  </a:lnSpc>
                </a:pPr>
                <a:endParaRPr b="0" lang="en-US" sz="1800" spc="-1" strike="noStrike">
                  <a:solidFill>
                    <a:srgbClr val="000000"/>
                  </a:solidFill>
                  <a:latin typeface="Arial"/>
                  <a:ea typeface="宋体"/>
                </a:endParaRPr>
              </a:p>
            </p:txBody>
          </p:sp>
          <p:sp>
            <p:nvSpPr>
              <p:cNvPr id="268" name="Freeform 71"/>
              <p:cNvSpPr/>
              <p:nvPr/>
            </p:nvSpPr>
            <p:spPr>
              <a:xfrm>
                <a:off x="6105960" y="1404720"/>
                <a:ext cx="42120" cy="49320"/>
              </a:xfrm>
              <a:custGeom>
                <a:avLst/>
                <a:gdLst>
                  <a:gd name="textAreaLeft" fmla="*/ 0 w 42120"/>
                  <a:gd name="textAreaRight" fmla="*/ 42480 w 42120"/>
                  <a:gd name="textAreaTop" fmla="*/ 0 h 49320"/>
                  <a:gd name="textAreaBottom" fmla="*/ 49680 h 49320"/>
                </a:gdLst>
                <a:ahLst/>
                <a:rect l="textAreaLeft" t="textAreaTop" r="textAreaRight" b="textAreaBottom"/>
                <a:pathLst>
                  <a:path w="270" h="330">
                    <a:moveTo>
                      <a:pt x="229" y="213"/>
                    </a:moveTo>
                    <a:lnTo>
                      <a:pt x="270" y="223"/>
                    </a:lnTo>
                    <a:lnTo>
                      <a:pt x="266" y="236"/>
                    </a:lnTo>
                    <a:lnTo>
                      <a:pt x="262" y="248"/>
                    </a:lnTo>
                    <a:lnTo>
                      <a:pt x="257" y="258"/>
                    </a:lnTo>
                    <a:lnTo>
                      <a:pt x="252" y="269"/>
                    </a:lnTo>
                    <a:lnTo>
                      <a:pt x="246" y="278"/>
                    </a:lnTo>
                    <a:lnTo>
                      <a:pt x="239" y="288"/>
                    </a:lnTo>
                    <a:lnTo>
                      <a:pt x="231" y="295"/>
                    </a:lnTo>
                    <a:lnTo>
                      <a:pt x="224" y="303"/>
                    </a:lnTo>
                    <a:lnTo>
                      <a:pt x="216" y="309"/>
                    </a:lnTo>
                    <a:lnTo>
                      <a:pt x="207" y="314"/>
                    </a:lnTo>
                    <a:lnTo>
                      <a:pt x="197" y="320"/>
                    </a:lnTo>
                    <a:lnTo>
                      <a:pt x="187" y="323"/>
                    </a:lnTo>
                    <a:lnTo>
                      <a:pt x="177" y="326"/>
                    </a:lnTo>
                    <a:lnTo>
                      <a:pt x="166" y="328"/>
                    </a:lnTo>
                    <a:lnTo>
                      <a:pt x="155" y="329"/>
                    </a:lnTo>
                    <a:lnTo>
                      <a:pt x="143" y="330"/>
                    </a:lnTo>
                    <a:lnTo>
                      <a:pt x="131" y="329"/>
                    </a:lnTo>
                    <a:lnTo>
                      <a:pt x="120" y="329"/>
                    </a:lnTo>
                    <a:lnTo>
                      <a:pt x="109" y="327"/>
                    </a:lnTo>
                    <a:lnTo>
                      <a:pt x="99" y="325"/>
                    </a:lnTo>
                    <a:lnTo>
                      <a:pt x="89" y="322"/>
                    </a:lnTo>
                    <a:lnTo>
                      <a:pt x="80" y="319"/>
                    </a:lnTo>
                    <a:lnTo>
                      <a:pt x="71" y="314"/>
                    </a:lnTo>
                    <a:lnTo>
                      <a:pt x="63" y="309"/>
                    </a:lnTo>
                    <a:lnTo>
                      <a:pt x="56" y="304"/>
                    </a:lnTo>
                    <a:lnTo>
                      <a:pt x="49" y="298"/>
                    </a:lnTo>
                    <a:lnTo>
                      <a:pt x="42" y="290"/>
                    </a:lnTo>
                    <a:lnTo>
                      <a:pt x="36" y="284"/>
                    </a:lnTo>
                    <a:lnTo>
                      <a:pt x="30" y="275"/>
                    </a:lnTo>
                    <a:lnTo>
                      <a:pt x="25" y="267"/>
                    </a:lnTo>
                    <a:lnTo>
                      <a:pt x="21" y="257"/>
                    </a:lnTo>
                    <a:lnTo>
                      <a:pt x="16" y="248"/>
                    </a:lnTo>
                    <a:lnTo>
                      <a:pt x="12" y="238"/>
                    </a:lnTo>
                    <a:lnTo>
                      <a:pt x="9" y="228"/>
                    </a:lnTo>
                    <a:lnTo>
                      <a:pt x="7" y="217"/>
                    </a:lnTo>
                    <a:lnTo>
                      <a:pt x="5" y="206"/>
                    </a:lnTo>
                    <a:lnTo>
                      <a:pt x="3" y="196"/>
                    </a:lnTo>
                    <a:lnTo>
                      <a:pt x="2" y="185"/>
                    </a:lnTo>
                    <a:lnTo>
                      <a:pt x="0" y="174"/>
                    </a:lnTo>
                    <a:lnTo>
                      <a:pt x="0" y="162"/>
                    </a:lnTo>
                    <a:lnTo>
                      <a:pt x="0" y="150"/>
                    </a:lnTo>
                    <a:lnTo>
                      <a:pt x="2" y="139"/>
                    </a:lnTo>
                    <a:lnTo>
                      <a:pt x="3" y="127"/>
                    </a:lnTo>
                    <a:lnTo>
                      <a:pt x="5" y="115"/>
                    </a:lnTo>
                    <a:lnTo>
                      <a:pt x="7" y="105"/>
                    </a:lnTo>
                    <a:lnTo>
                      <a:pt x="10" y="95"/>
                    </a:lnTo>
                    <a:lnTo>
                      <a:pt x="14" y="85"/>
                    </a:lnTo>
                    <a:lnTo>
                      <a:pt x="18" y="75"/>
                    </a:lnTo>
                    <a:lnTo>
                      <a:pt x="23" y="67"/>
                    </a:lnTo>
                    <a:lnTo>
                      <a:pt x="28" y="58"/>
                    </a:lnTo>
                    <a:lnTo>
                      <a:pt x="34" y="50"/>
                    </a:lnTo>
                    <a:lnTo>
                      <a:pt x="41" y="42"/>
                    </a:lnTo>
                    <a:lnTo>
                      <a:pt x="47" y="36"/>
                    </a:lnTo>
                    <a:lnTo>
                      <a:pt x="55" y="29"/>
                    </a:lnTo>
                    <a:lnTo>
                      <a:pt x="62" y="24"/>
                    </a:lnTo>
                    <a:lnTo>
                      <a:pt x="70" y="19"/>
                    </a:lnTo>
                    <a:lnTo>
                      <a:pt x="79" y="15"/>
                    </a:lnTo>
                    <a:lnTo>
                      <a:pt x="87" y="10"/>
                    </a:lnTo>
                    <a:lnTo>
                      <a:pt x="96" y="7"/>
                    </a:lnTo>
                    <a:lnTo>
                      <a:pt x="105" y="4"/>
                    </a:lnTo>
                    <a:lnTo>
                      <a:pt x="115" y="2"/>
                    </a:lnTo>
                    <a:lnTo>
                      <a:pt x="124" y="1"/>
                    </a:lnTo>
                    <a:lnTo>
                      <a:pt x="134" y="0"/>
                    </a:lnTo>
                    <a:lnTo>
                      <a:pt x="143" y="0"/>
                    </a:lnTo>
                    <a:lnTo>
                      <a:pt x="155" y="0"/>
                    </a:lnTo>
                    <a:lnTo>
                      <a:pt x="166" y="1"/>
                    </a:lnTo>
                    <a:lnTo>
                      <a:pt x="176" y="3"/>
                    </a:lnTo>
                    <a:lnTo>
                      <a:pt x="186" y="5"/>
                    </a:lnTo>
                    <a:lnTo>
                      <a:pt x="195" y="9"/>
                    </a:lnTo>
                    <a:lnTo>
                      <a:pt x="204" y="14"/>
                    </a:lnTo>
                    <a:lnTo>
                      <a:pt x="212" y="18"/>
                    </a:lnTo>
                    <a:lnTo>
                      <a:pt x="221" y="24"/>
                    </a:lnTo>
                    <a:lnTo>
                      <a:pt x="228" y="30"/>
                    </a:lnTo>
                    <a:lnTo>
                      <a:pt x="236" y="37"/>
                    </a:lnTo>
                    <a:lnTo>
                      <a:pt x="242" y="45"/>
                    </a:lnTo>
                    <a:lnTo>
                      <a:pt x="247" y="53"/>
                    </a:lnTo>
                    <a:lnTo>
                      <a:pt x="253" y="62"/>
                    </a:lnTo>
                    <a:lnTo>
                      <a:pt x="257" y="72"/>
                    </a:lnTo>
                    <a:lnTo>
                      <a:pt x="261" y="81"/>
                    </a:lnTo>
                    <a:lnTo>
                      <a:pt x="264" y="93"/>
                    </a:lnTo>
                    <a:lnTo>
                      <a:pt x="225" y="103"/>
                    </a:lnTo>
                    <a:lnTo>
                      <a:pt x="219" y="86"/>
                    </a:lnTo>
                    <a:lnTo>
                      <a:pt x="211" y="72"/>
                    </a:lnTo>
                    <a:lnTo>
                      <a:pt x="208" y="67"/>
                    </a:lnTo>
                    <a:lnTo>
                      <a:pt x="203" y="61"/>
                    </a:lnTo>
                    <a:lnTo>
                      <a:pt x="199" y="56"/>
                    </a:lnTo>
                    <a:lnTo>
                      <a:pt x="194" y="52"/>
                    </a:lnTo>
                    <a:lnTo>
                      <a:pt x="189" y="47"/>
                    </a:lnTo>
                    <a:lnTo>
                      <a:pt x="183" y="44"/>
                    </a:lnTo>
                    <a:lnTo>
                      <a:pt x="177" y="42"/>
                    </a:lnTo>
                    <a:lnTo>
                      <a:pt x="171" y="40"/>
                    </a:lnTo>
                    <a:lnTo>
                      <a:pt x="165" y="38"/>
                    </a:lnTo>
                    <a:lnTo>
                      <a:pt x="157" y="37"/>
                    </a:lnTo>
                    <a:lnTo>
                      <a:pt x="151" y="36"/>
                    </a:lnTo>
                    <a:lnTo>
                      <a:pt x="143" y="36"/>
                    </a:lnTo>
                    <a:lnTo>
                      <a:pt x="135" y="36"/>
                    </a:lnTo>
                    <a:lnTo>
                      <a:pt x="127" y="37"/>
                    </a:lnTo>
                    <a:lnTo>
                      <a:pt x="118" y="38"/>
                    </a:lnTo>
                    <a:lnTo>
                      <a:pt x="111" y="40"/>
                    </a:lnTo>
                    <a:lnTo>
                      <a:pt x="103" y="42"/>
                    </a:lnTo>
                    <a:lnTo>
                      <a:pt x="97" y="45"/>
                    </a:lnTo>
                    <a:lnTo>
                      <a:pt x="91" y="50"/>
                    </a:lnTo>
                    <a:lnTo>
                      <a:pt x="84" y="53"/>
                    </a:lnTo>
                    <a:lnTo>
                      <a:pt x="79" y="58"/>
                    </a:lnTo>
                    <a:lnTo>
                      <a:pt x="74" y="63"/>
                    </a:lnTo>
                    <a:lnTo>
                      <a:pt x="68" y="69"/>
                    </a:lnTo>
                    <a:lnTo>
                      <a:pt x="64" y="74"/>
                    </a:lnTo>
                    <a:lnTo>
                      <a:pt x="61" y="80"/>
                    </a:lnTo>
                    <a:lnTo>
                      <a:pt x="57" y="87"/>
                    </a:lnTo>
                    <a:lnTo>
                      <a:pt x="53" y="93"/>
                    </a:lnTo>
                    <a:lnTo>
                      <a:pt x="51" y="100"/>
                    </a:lnTo>
                    <a:lnTo>
                      <a:pt x="47" y="115"/>
                    </a:lnTo>
                    <a:lnTo>
                      <a:pt x="44" y="131"/>
                    </a:lnTo>
                    <a:lnTo>
                      <a:pt x="42" y="146"/>
                    </a:lnTo>
                    <a:lnTo>
                      <a:pt x="42" y="162"/>
                    </a:lnTo>
                    <a:lnTo>
                      <a:pt x="43" y="182"/>
                    </a:lnTo>
                    <a:lnTo>
                      <a:pt x="45" y="200"/>
                    </a:lnTo>
                    <a:lnTo>
                      <a:pt x="48" y="217"/>
                    </a:lnTo>
                    <a:lnTo>
                      <a:pt x="53" y="233"/>
                    </a:lnTo>
                    <a:lnTo>
                      <a:pt x="56" y="240"/>
                    </a:lnTo>
                    <a:lnTo>
                      <a:pt x="60" y="248"/>
                    </a:lnTo>
                    <a:lnTo>
                      <a:pt x="63" y="254"/>
                    </a:lnTo>
                    <a:lnTo>
                      <a:pt x="67" y="260"/>
                    </a:lnTo>
                    <a:lnTo>
                      <a:pt x="73" y="266"/>
                    </a:lnTo>
                    <a:lnTo>
                      <a:pt x="77" y="270"/>
                    </a:lnTo>
                    <a:lnTo>
                      <a:pt x="82" y="275"/>
                    </a:lnTo>
                    <a:lnTo>
                      <a:pt x="88" y="278"/>
                    </a:lnTo>
                    <a:lnTo>
                      <a:pt x="100" y="286"/>
                    </a:lnTo>
                    <a:lnTo>
                      <a:pt x="113" y="290"/>
                    </a:lnTo>
                    <a:lnTo>
                      <a:pt x="127" y="293"/>
                    </a:lnTo>
                    <a:lnTo>
                      <a:pt x="140" y="294"/>
                    </a:lnTo>
                    <a:lnTo>
                      <a:pt x="149" y="293"/>
                    </a:lnTo>
                    <a:lnTo>
                      <a:pt x="156" y="292"/>
                    </a:lnTo>
                    <a:lnTo>
                      <a:pt x="164" y="291"/>
                    </a:lnTo>
                    <a:lnTo>
                      <a:pt x="171" y="289"/>
                    </a:lnTo>
                    <a:lnTo>
                      <a:pt x="178" y="286"/>
                    </a:lnTo>
                    <a:lnTo>
                      <a:pt x="185" y="283"/>
                    </a:lnTo>
                    <a:lnTo>
                      <a:pt x="191" y="278"/>
                    </a:lnTo>
                    <a:lnTo>
                      <a:pt x="197" y="273"/>
                    </a:lnTo>
                    <a:lnTo>
                      <a:pt x="203" y="268"/>
                    </a:lnTo>
                    <a:lnTo>
                      <a:pt x="208" y="261"/>
                    </a:lnTo>
                    <a:lnTo>
                      <a:pt x="212" y="255"/>
                    </a:lnTo>
                    <a:lnTo>
                      <a:pt x="217" y="248"/>
                    </a:lnTo>
                    <a:lnTo>
                      <a:pt x="221" y="240"/>
                    </a:lnTo>
                    <a:lnTo>
                      <a:pt x="224" y="232"/>
                    </a:lnTo>
                    <a:lnTo>
                      <a:pt x="227" y="222"/>
                    </a:lnTo>
                    <a:lnTo>
                      <a:pt x="229" y="213"/>
                    </a:lnTo>
                    <a:close/>
                  </a:path>
                </a:pathLst>
              </a:custGeom>
              <a:solidFill>
                <a:srgbClr val="1f1a17"/>
              </a:solidFill>
              <a:ln w="0">
                <a:noFill/>
              </a:ln>
            </p:spPr>
            <p:style>
              <a:lnRef idx="0"/>
              <a:fillRef idx="0"/>
              <a:effectRef idx="0"/>
              <a:fontRef idx="minor"/>
            </p:style>
            <p:txBody>
              <a:bodyPr lIns="90000" rIns="90000" tIns="4680" bIns="4680" anchor="t">
                <a:noAutofit/>
              </a:bodyPr>
              <a:p>
                <a:pPr>
                  <a:lnSpc>
                    <a:spcPct val="100000"/>
                  </a:lnSpc>
                </a:pPr>
                <a:endParaRPr b="0" lang="en-US" sz="1800" spc="-1" strike="noStrike">
                  <a:solidFill>
                    <a:srgbClr val="000000"/>
                  </a:solidFill>
                  <a:latin typeface="Arial"/>
                  <a:ea typeface="宋体"/>
                </a:endParaRPr>
              </a:p>
            </p:txBody>
          </p:sp>
          <p:sp>
            <p:nvSpPr>
              <p:cNvPr id="269" name="Freeform 72"/>
              <p:cNvSpPr/>
              <p:nvPr/>
            </p:nvSpPr>
            <p:spPr>
              <a:xfrm>
                <a:off x="6158520" y="140472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291" h="331">
                    <a:moveTo>
                      <a:pt x="0" y="170"/>
                    </a:moveTo>
                    <a:lnTo>
                      <a:pt x="0" y="150"/>
                    </a:lnTo>
                    <a:lnTo>
                      <a:pt x="2" y="132"/>
                    </a:lnTo>
                    <a:lnTo>
                      <a:pt x="5" y="115"/>
                    </a:lnTo>
                    <a:lnTo>
                      <a:pt x="10" y="99"/>
                    </a:lnTo>
                    <a:lnTo>
                      <a:pt x="16" y="83"/>
                    </a:lnTo>
                    <a:lnTo>
                      <a:pt x="22" y="70"/>
                    </a:lnTo>
                    <a:lnTo>
                      <a:pt x="31" y="57"/>
                    </a:lnTo>
                    <a:lnTo>
                      <a:pt x="40" y="45"/>
                    </a:lnTo>
                    <a:lnTo>
                      <a:pt x="51" y="35"/>
                    </a:lnTo>
                    <a:lnTo>
                      <a:pt x="63" y="25"/>
                    </a:lnTo>
                    <a:lnTo>
                      <a:pt x="74" y="18"/>
                    </a:lnTo>
                    <a:lnTo>
                      <a:pt x="87" y="11"/>
                    </a:lnTo>
                    <a:lnTo>
                      <a:pt x="101" y="6"/>
                    </a:lnTo>
                    <a:lnTo>
                      <a:pt x="114" y="3"/>
                    </a:lnTo>
                    <a:lnTo>
                      <a:pt x="129" y="1"/>
                    </a:lnTo>
                    <a:lnTo>
                      <a:pt x="145" y="0"/>
                    </a:lnTo>
                    <a:lnTo>
                      <a:pt x="156" y="1"/>
                    </a:lnTo>
                    <a:lnTo>
                      <a:pt x="166" y="2"/>
                    </a:lnTo>
                    <a:lnTo>
                      <a:pt x="176" y="3"/>
                    </a:lnTo>
                    <a:lnTo>
                      <a:pt x="185" y="5"/>
                    </a:lnTo>
                    <a:lnTo>
                      <a:pt x="195" y="8"/>
                    </a:lnTo>
                    <a:lnTo>
                      <a:pt x="204" y="12"/>
                    </a:lnTo>
                    <a:lnTo>
                      <a:pt x="213" y="17"/>
                    </a:lnTo>
                    <a:lnTo>
                      <a:pt x="221" y="21"/>
                    </a:lnTo>
                    <a:lnTo>
                      <a:pt x="230" y="27"/>
                    </a:lnTo>
                    <a:lnTo>
                      <a:pt x="237" y="33"/>
                    </a:lnTo>
                    <a:lnTo>
                      <a:pt x="245" y="40"/>
                    </a:lnTo>
                    <a:lnTo>
                      <a:pt x="251" y="46"/>
                    </a:lnTo>
                    <a:lnTo>
                      <a:pt x="257" y="55"/>
                    </a:lnTo>
                    <a:lnTo>
                      <a:pt x="264" y="62"/>
                    </a:lnTo>
                    <a:lnTo>
                      <a:pt x="268" y="71"/>
                    </a:lnTo>
                    <a:lnTo>
                      <a:pt x="273" y="80"/>
                    </a:lnTo>
                    <a:lnTo>
                      <a:pt x="278" y="90"/>
                    </a:lnTo>
                    <a:lnTo>
                      <a:pt x="281" y="100"/>
                    </a:lnTo>
                    <a:lnTo>
                      <a:pt x="284" y="110"/>
                    </a:lnTo>
                    <a:lnTo>
                      <a:pt x="286" y="120"/>
                    </a:lnTo>
                    <a:lnTo>
                      <a:pt x="288" y="131"/>
                    </a:lnTo>
                    <a:lnTo>
                      <a:pt x="290" y="143"/>
                    </a:lnTo>
                    <a:lnTo>
                      <a:pt x="290" y="154"/>
                    </a:lnTo>
                    <a:lnTo>
                      <a:pt x="291" y="166"/>
                    </a:lnTo>
                    <a:lnTo>
                      <a:pt x="290" y="178"/>
                    </a:lnTo>
                    <a:lnTo>
                      <a:pt x="290" y="189"/>
                    </a:lnTo>
                    <a:lnTo>
                      <a:pt x="288" y="201"/>
                    </a:lnTo>
                    <a:lnTo>
                      <a:pt x="286" y="213"/>
                    </a:lnTo>
                    <a:lnTo>
                      <a:pt x="284" y="223"/>
                    </a:lnTo>
                    <a:lnTo>
                      <a:pt x="281" y="234"/>
                    </a:lnTo>
                    <a:lnTo>
                      <a:pt x="277" y="243"/>
                    </a:lnTo>
                    <a:lnTo>
                      <a:pt x="272" y="253"/>
                    </a:lnTo>
                    <a:lnTo>
                      <a:pt x="267" y="262"/>
                    </a:lnTo>
                    <a:lnTo>
                      <a:pt x="262" y="271"/>
                    </a:lnTo>
                    <a:lnTo>
                      <a:pt x="256" y="279"/>
                    </a:lnTo>
                    <a:lnTo>
                      <a:pt x="250" y="287"/>
                    </a:lnTo>
                    <a:lnTo>
                      <a:pt x="243" y="294"/>
                    </a:lnTo>
                    <a:lnTo>
                      <a:pt x="235" y="301"/>
                    </a:lnTo>
                    <a:lnTo>
                      <a:pt x="228" y="306"/>
                    </a:lnTo>
                    <a:lnTo>
                      <a:pt x="219" y="311"/>
                    </a:lnTo>
                    <a:lnTo>
                      <a:pt x="211" y="315"/>
                    </a:lnTo>
                    <a:lnTo>
                      <a:pt x="201" y="320"/>
                    </a:lnTo>
                    <a:lnTo>
                      <a:pt x="193" y="323"/>
                    </a:lnTo>
                    <a:lnTo>
                      <a:pt x="183" y="326"/>
                    </a:lnTo>
                    <a:lnTo>
                      <a:pt x="174" y="328"/>
                    </a:lnTo>
                    <a:lnTo>
                      <a:pt x="165" y="330"/>
                    </a:lnTo>
                    <a:lnTo>
                      <a:pt x="155" y="330"/>
                    </a:lnTo>
                    <a:lnTo>
                      <a:pt x="145" y="331"/>
                    </a:lnTo>
                    <a:lnTo>
                      <a:pt x="135" y="330"/>
                    </a:lnTo>
                    <a:lnTo>
                      <a:pt x="124" y="329"/>
                    </a:lnTo>
                    <a:lnTo>
                      <a:pt x="114" y="328"/>
                    </a:lnTo>
                    <a:lnTo>
                      <a:pt x="105" y="326"/>
                    </a:lnTo>
                    <a:lnTo>
                      <a:pt x="95" y="323"/>
                    </a:lnTo>
                    <a:lnTo>
                      <a:pt x="86" y="319"/>
                    </a:lnTo>
                    <a:lnTo>
                      <a:pt x="77" y="314"/>
                    </a:lnTo>
                    <a:lnTo>
                      <a:pt x="69" y="309"/>
                    </a:lnTo>
                    <a:lnTo>
                      <a:pt x="60" y="304"/>
                    </a:lnTo>
                    <a:lnTo>
                      <a:pt x="52" y="297"/>
                    </a:lnTo>
                    <a:lnTo>
                      <a:pt x="46" y="291"/>
                    </a:lnTo>
                    <a:lnTo>
                      <a:pt x="38" y="284"/>
                    </a:lnTo>
                    <a:lnTo>
                      <a:pt x="33" y="276"/>
                    </a:lnTo>
                    <a:lnTo>
                      <a:pt x="27" y="268"/>
                    </a:lnTo>
                    <a:lnTo>
                      <a:pt x="21" y="259"/>
                    </a:lnTo>
                    <a:lnTo>
                      <a:pt x="17" y="250"/>
                    </a:lnTo>
                    <a:lnTo>
                      <a:pt x="13" y="240"/>
                    </a:lnTo>
                    <a:lnTo>
                      <a:pt x="10" y="231"/>
                    </a:lnTo>
                    <a:lnTo>
                      <a:pt x="6" y="221"/>
                    </a:lnTo>
                    <a:lnTo>
                      <a:pt x="4" y="211"/>
                    </a:lnTo>
                    <a:lnTo>
                      <a:pt x="2" y="201"/>
                    </a:lnTo>
                    <a:lnTo>
                      <a:pt x="1" y="190"/>
                    </a:lnTo>
                    <a:lnTo>
                      <a:pt x="0" y="180"/>
                    </a:lnTo>
                    <a:lnTo>
                      <a:pt x="0" y="170"/>
                    </a:lnTo>
                    <a:close/>
                    <a:moveTo>
                      <a:pt x="41" y="170"/>
                    </a:moveTo>
                    <a:lnTo>
                      <a:pt x="41" y="185"/>
                    </a:lnTo>
                    <a:lnTo>
                      <a:pt x="43" y="198"/>
                    </a:lnTo>
                    <a:lnTo>
                      <a:pt x="46" y="211"/>
                    </a:lnTo>
                    <a:lnTo>
                      <a:pt x="49" y="222"/>
                    </a:lnTo>
                    <a:lnTo>
                      <a:pt x="53" y="233"/>
                    </a:lnTo>
                    <a:lnTo>
                      <a:pt x="57" y="243"/>
                    </a:lnTo>
                    <a:lnTo>
                      <a:pt x="64" y="253"/>
                    </a:lnTo>
                    <a:lnTo>
                      <a:pt x="71" y="261"/>
                    </a:lnTo>
                    <a:lnTo>
                      <a:pt x="78" y="270"/>
                    </a:lnTo>
                    <a:lnTo>
                      <a:pt x="87" y="276"/>
                    </a:lnTo>
                    <a:lnTo>
                      <a:pt x="95" y="282"/>
                    </a:lnTo>
                    <a:lnTo>
                      <a:pt x="104" y="287"/>
                    </a:lnTo>
                    <a:lnTo>
                      <a:pt x="113" y="290"/>
                    </a:lnTo>
                    <a:lnTo>
                      <a:pt x="124" y="293"/>
                    </a:lnTo>
                    <a:lnTo>
                      <a:pt x="135" y="294"/>
                    </a:lnTo>
                    <a:lnTo>
                      <a:pt x="145" y="295"/>
                    </a:lnTo>
                    <a:lnTo>
                      <a:pt x="156" y="294"/>
                    </a:lnTo>
                    <a:lnTo>
                      <a:pt x="166" y="293"/>
                    </a:lnTo>
                    <a:lnTo>
                      <a:pt x="177" y="290"/>
                    </a:lnTo>
                    <a:lnTo>
                      <a:pt x="186" y="287"/>
                    </a:lnTo>
                    <a:lnTo>
                      <a:pt x="196" y="282"/>
                    </a:lnTo>
                    <a:lnTo>
                      <a:pt x="204" y="276"/>
                    </a:lnTo>
                    <a:lnTo>
                      <a:pt x="212" y="269"/>
                    </a:lnTo>
                    <a:lnTo>
                      <a:pt x="220" y="261"/>
                    </a:lnTo>
                    <a:lnTo>
                      <a:pt x="227" y="253"/>
                    </a:lnTo>
                    <a:lnTo>
                      <a:pt x="233" y="242"/>
                    </a:lnTo>
                    <a:lnTo>
                      <a:pt x="238" y="232"/>
                    </a:lnTo>
                    <a:lnTo>
                      <a:pt x="242" y="221"/>
                    </a:lnTo>
                    <a:lnTo>
                      <a:pt x="245" y="208"/>
                    </a:lnTo>
                    <a:lnTo>
                      <a:pt x="248" y="195"/>
                    </a:lnTo>
                    <a:lnTo>
                      <a:pt x="249" y="181"/>
                    </a:lnTo>
                    <a:lnTo>
                      <a:pt x="249" y="166"/>
                    </a:lnTo>
                    <a:lnTo>
                      <a:pt x="249" y="147"/>
                    </a:lnTo>
                    <a:lnTo>
                      <a:pt x="246" y="129"/>
                    </a:lnTo>
                    <a:lnTo>
                      <a:pt x="243" y="113"/>
                    </a:lnTo>
                    <a:lnTo>
                      <a:pt x="237" y="98"/>
                    </a:lnTo>
                    <a:lnTo>
                      <a:pt x="230" y="84"/>
                    </a:lnTo>
                    <a:lnTo>
                      <a:pt x="221" y="72"/>
                    </a:lnTo>
                    <a:lnTo>
                      <a:pt x="216" y="66"/>
                    </a:lnTo>
                    <a:lnTo>
                      <a:pt x="212" y="61"/>
                    </a:lnTo>
                    <a:lnTo>
                      <a:pt x="206" y="57"/>
                    </a:lnTo>
                    <a:lnTo>
                      <a:pt x="200" y="53"/>
                    </a:lnTo>
                    <a:lnTo>
                      <a:pt x="188" y="45"/>
                    </a:lnTo>
                    <a:lnTo>
                      <a:pt x="175" y="41"/>
                    </a:lnTo>
                    <a:lnTo>
                      <a:pt x="160" y="38"/>
                    </a:lnTo>
                    <a:lnTo>
                      <a:pt x="146" y="37"/>
                    </a:lnTo>
                    <a:lnTo>
                      <a:pt x="136" y="37"/>
                    </a:lnTo>
                    <a:lnTo>
                      <a:pt x="125" y="39"/>
                    </a:lnTo>
                    <a:lnTo>
                      <a:pt x="116" y="41"/>
                    </a:lnTo>
                    <a:lnTo>
                      <a:pt x="106" y="44"/>
                    </a:lnTo>
                    <a:lnTo>
                      <a:pt x="96" y="48"/>
                    </a:lnTo>
                    <a:lnTo>
                      <a:pt x="88" y="54"/>
                    </a:lnTo>
                    <a:lnTo>
                      <a:pt x="80" y="60"/>
                    </a:lnTo>
                    <a:lnTo>
                      <a:pt x="72" y="68"/>
                    </a:lnTo>
                    <a:lnTo>
                      <a:pt x="65" y="76"/>
                    </a:lnTo>
                    <a:lnTo>
                      <a:pt x="58" y="86"/>
                    </a:lnTo>
                    <a:lnTo>
                      <a:pt x="53" y="96"/>
                    </a:lnTo>
                    <a:lnTo>
                      <a:pt x="49" y="109"/>
                    </a:lnTo>
                    <a:lnTo>
                      <a:pt x="46" y="123"/>
                    </a:lnTo>
                    <a:lnTo>
                      <a:pt x="43" y="137"/>
                    </a:lnTo>
                    <a:lnTo>
                      <a:pt x="41" y="153"/>
                    </a:lnTo>
                    <a:lnTo>
                      <a:pt x="41" y="170"/>
                    </a:lnTo>
                    <a:close/>
                  </a:path>
                </a:pathLst>
              </a:custGeom>
              <a:solidFill>
                <a:srgbClr val="1f1a17"/>
              </a:solidFill>
              <a:ln w="0">
                <a:noFill/>
              </a:ln>
            </p:spPr>
            <p:style>
              <a:lnRef idx="0"/>
              <a:fillRef idx="0"/>
              <a:effectRef idx="0"/>
              <a:fontRef idx="minor"/>
            </p:style>
            <p:txBody>
              <a:bodyPr lIns="90000" rIns="90000" tIns="4680" bIns="4680" anchor="t">
                <a:noAutofit/>
              </a:bodyPr>
              <a:p>
                <a:pPr>
                  <a:lnSpc>
                    <a:spcPct val="100000"/>
                  </a:lnSpc>
                </a:pPr>
                <a:endParaRPr b="0" lang="en-US" sz="1800" spc="-1" strike="noStrike">
                  <a:solidFill>
                    <a:srgbClr val="000000"/>
                  </a:solidFill>
                  <a:latin typeface="Arial"/>
                  <a:ea typeface="宋体"/>
                </a:endParaRPr>
              </a:p>
            </p:txBody>
          </p:sp>
          <p:sp>
            <p:nvSpPr>
              <p:cNvPr id="270" name="Freeform 73"/>
              <p:cNvSpPr/>
              <p:nvPr/>
            </p:nvSpPr>
            <p:spPr>
              <a:xfrm>
                <a:off x="6275880" y="1405800"/>
                <a:ext cx="29880" cy="48240"/>
              </a:xfrm>
              <a:custGeom>
                <a:avLst/>
                <a:gdLst>
                  <a:gd name="textAreaLeft" fmla="*/ 0 w 29880"/>
                  <a:gd name="textAreaRight" fmla="*/ 30240 w 29880"/>
                  <a:gd name="textAreaTop" fmla="*/ 0 h 48240"/>
                  <a:gd name="textAreaBottom" fmla="*/ 48600 h 48240"/>
                </a:gdLst>
                <a:ahLst/>
                <a:rect l="textAreaLeft" t="textAreaTop" r="textAreaRight" b="textAreaBottom"/>
                <a:pathLst>
                  <a:path w="191" h="320">
                    <a:moveTo>
                      <a:pt x="0" y="320"/>
                    </a:moveTo>
                    <a:lnTo>
                      <a:pt x="0" y="0"/>
                    </a:lnTo>
                    <a:lnTo>
                      <a:pt x="40" y="0"/>
                    </a:lnTo>
                    <a:lnTo>
                      <a:pt x="40" y="282"/>
                    </a:lnTo>
                    <a:lnTo>
                      <a:pt x="191" y="282"/>
                    </a:lnTo>
                    <a:lnTo>
                      <a:pt x="191" y="320"/>
                    </a:lnTo>
                    <a:lnTo>
                      <a:pt x="0" y="320"/>
                    </a:lnTo>
                    <a:close/>
                  </a:path>
                </a:pathLst>
              </a:custGeom>
              <a:solidFill>
                <a:srgbClr val="1f1a17"/>
              </a:solidFill>
              <a:ln w="0">
                <a:noFill/>
              </a:ln>
            </p:spPr>
            <p:style>
              <a:lnRef idx="0"/>
              <a:fillRef idx="0"/>
              <a:effectRef idx="0"/>
              <a:fontRef idx="minor"/>
            </p:style>
            <p:txBody>
              <a:bodyPr lIns="90000" rIns="90000" tIns="3600" bIns="3600" anchor="t">
                <a:noAutofit/>
              </a:bodyPr>
              <a:p>
                <a:pPr>
                  <a:lnSpc>
                    <a:spcPct val="100000"/>
                  </a:lnSpc>
                </a:pPr>
                <a:endParaRPr b="0" lang="en-US" sz="1800" spc="-1" strike="noStrike">
                  <a:solidFill>
                    <a:srgbClr val="000000"/>
                  </a:solidFill>
                  <a:latin typeface="Arial"/>
                  <a:ea typeface="宋体"/>
                </a:endParaRPr>
              </a:p>
            </p:txBody>
          </p:sp>
          <p:sp>
            <p:nvSpPr>
              <p:cNvPr id="271" name="Freeform 74"/>
              <p:cNvSpPr/>
              <p:nvPr/>
            </p:nvSpPr>
            <p:spPr>
              <a:xfrm>
                <a:off x="6309360" y="1405800"/>
                <a:ext cx="37800" cy="48240"/>
              </a:xfrm>
              <a:custGeom>
                <a:avLst/>
                <a:gdLst>
                  <a:gd name="textAreaLeft" fmla="*/ 0 w 37800"/>
                  <a:gd name="textAreaRight" fmla="*/ 38160 w 37800"/>
                  <a:gd name="textAreaTop" fmla="*/ 0 h 48240"/>
                  <a:gd name="textAreaBottom" fmla="*/ 48600 h 48240"/>
                </a:gdLst>
                <a:ahLst/>
                <a:rect l="textAreaLeft" t="textAreaTop" r="textAreaRight" b="textAreaBottom"/>
                <a:pathLst>
                  <a:path w="241" h="320">
                    <a:moveTo>
                      <a:pt x="100" y="320"/>
                    </a:moveTo>
                    <a:lnTo>
                      <a:pt x="100" y="37"/>
                    </a:lnTo>
                    <a:lnTo>
                      <a:pt x="0" y="37"/>
                    </a:lnTo>
                    <a:lnTo>
                      <a:pt x="0" y="0"/>
                    </a:lnTo>
                    <a:lnTo>
                      <a:pt x="241" y="0"/>
                    </a:lnTo>
                    <a:lnTo>
                      <a:pt x="241" y="37"/>
                    </a:lnTo>
                    <a:lnTo>
                      <a:pt x="141" y="37"/>
                    </a:lnTo>
                    <a:lnTo>
                      <a:pt x="141" y="320"/>
                    </a:lnTo>
                    <a:lnTo>
                      <a:pt x="100" y="320"/>
                    </a:lnTo>
                    <a:close/>
                  </a:path>
                </a:pathLst>
              </a:custGeom>
              <a:solidFill>
                <a:srgbClr val="1f1a17"/>
              </a:solidFill>
              <a:ln w="0">
                <a:noFill/>
              </a:ln>
            </p:spPr>
            <p:style>
              <a:lnRef idx="0"/>
              <a:fillRef idx="0"/>
              <a:effectRef idx="0"/>
              <a:fontRef idx="minor"/>
            </p:style>
            <p:txBody>
              <a:bodyPr lIns="90000" rIns="90000" tIns="3600" bIns="3600" anchor="t">
                <a:noAutofit/>
              </a:bodyPr>
              <a:p>
                <a:pPr>
                  <a:lnSpc>
                    <a:spcPct val="100000"/>
                  </a:lnSpc>
                </a:pPr>
                <a:endParaRPr b="0" lang="en-US" sz="1800" spc="-1" strike="noStrike">
                  <a:solidFill>
                    <a:srgbClr val="000000"/>
                  </a:solidFill>
                  <a:latin typeface="Arial"/>
                  <a:ea typeface="宋体"/>
                </a:endParaRPr>
              </a:p>
            </p:txBody>
          </p:sp>
          <p:sp>
            <p:nvSpPr>
              <p:cNvPr id="272" name="Freeform 75"/>
              <p:cNvSpPr/>
              <p:nvPr/>
            </p:nvSpPr>
            <p:spPr>
              <a:xfrm>
                <a:off x="6358680" y="1405800"/>
                <a:ext cx="39960" cy="48240"/>
              </a:xfrm>
              <a:custGeom>
                <a:avLst/>
                <a:gdLst>
                  <a:gd name="textAreaLeft" fmla="*/ 0 w 39960"/>
                  <a:gd name="textAreaRight" fmla="*/ 40320 w 39960"/>
                  <a:gd name="textAreaTop" fmla="*/ 0 h 48240"/>
                  <a:gd name="textAreaBottom" fmla="*/ 48600 h 48240"/>
                </a:gdLst>
                <a:ahLst/>
                <a:rect l="textAreaLeft" t="textAreaTop" r="textAreaRight" b="textAreaBottom"/>
                <a:pathLst>
                  <a:path w="252" h="320">
                    <a:moveTo>
                      <a:pt x="0" y="320"/>
                    </a:moveTo>
                    <a:lnTo>
                      <a:pt x="0" y="0"/>
                    </a:lnTo>
                    <a:lnTo>
                      <a:pt x="105" y="0"/>
                    </a:lnTo>
                    <a:lnTo>
                      <a:pt x="122" y="0"/>
                    </a:lnTo>
                    <a:lnTo>
                      <a:pt x="137" y="1"/>
                    </a:lnTo>
                    <a:lnTo>
                      <a:pt x="149" y="2"/>
                    </a:lnTo>
                    <a:lnTo>
                      <a:pt x="159" y="4"/>
                    </a:lnTo>
                    <a:lnTo>
                      <a:pt x="172" y="9"/>
                    </a:lnTo>
                    <a:lnTo>
                      <a:pt x="183" y="14"/>
                    </a:lnTo>
                    <a:lnTo>
                      <a:pt x="194" y="20"/>
                    </a:lnTo>
                    <a:lnTo>
                      <a:pt x="204" y="28"/>
                    </a:lnTo>
                    <a:lnTo>
                      <a:pt x="215" y="39"/>
                    </a:lnTo>
                    <a:lnTo>
                      <a:pt x="226" y="52"/>
                    </a:lnTo>
                    <a:lnTo>
                      <a:pt x="233" y="66"/>
                    </a:lnTo>
                    <a:lnTo>
                      <a:pt x="240" y="82"/>
                    </a:lnTo>
                    <a:lnTo>
                      <a:pt x="246" y="100"/>
                    </a:lnTo>
                    <a:lnTo>
                      <a:pt x="249" y="118"/>
                    </a:lnTo>
                    <a:lnTo>
                      <a:pt x="251" y="137"/>
                    </a:lnTo>
                    <a:lnTo>
                      <a:pt x="252" y="158"/>
                    </a:lnTo>
                    <a:lnTo>
                      <a:pt x="252" y="176"/>
                    </a:lnTo>
                    <a:lnTo>
                      <a:pt x="250" y="192"/>
                    </a:lnTo>
                    <a:lnTo>
                      <a:pt x="248" y="208"/>
                    </a:lnTo>
                    <a:lnTo>
                      <a:pt x="244" y="223"/>
                    </a:lnTo>
                    <a:lnTo>
                      <a:pt x="239" y="236"/>
                    </a:lnTo>
                    <a:lnTo>
                      <a:pt x="235" y="248"/>
                    </a:lnTo>
                    <a:lnTo>
                      <a:pt x="229" y="260"/>
                    </a:lnTo>
                    <a:lnTo>
                      <a:pt x="223" y="269"/>
                    </a:lnTo>
                    <a:lnTo>
                      <a:pt x="217" y="278"/>
                    </a:lnTo>
                    <a:lnTo>
                      <a:pt x="210" y="286"/>
                    </a:lnTo>
                    <a:lnTo>
                      <a:pt x="202" y="293"/>
                    </a:lnTo>
                    <a:lnTo>
                      <a:pt x="195" y="298"/>
                    </a:lnTo>
                    <a:lnTo>
                      <a:pt x="187" y="303"/>
                    </a:lnTo>
                    <a:lnTo>
                      <a:pt x="179" y="307"/>
                    </a:lnTo>
                    <a:lnTo>
                      <a:pt x="169" y="312"/>
                    </a:lnTo>
                    <a:lnTo>
                      <a:pt x="159" y="314"/>
                    </a:lnTo>
                    <a:lnTo>
                      <a:pt x="148" y="317"/>
                    </a:lnTo>
                    <a:lnTo>
                      <a:pt x="137" y="318"/>
                    </a:lnTo>
                    <a:lnTo>
                      <a:pt x="124" y="319"/>
                    </a:lnTo>
                    <a:lnTo>
                      <a:pt x="110" y="320"/>
                    </a:lnTo>
                    <a:lnTo>
                      <a:pt x="0" y="320"/>
                    </a:lnTo>
                    <a:close/>
                    <a:moveTo>
                      <a:pt x="40" y="282"/>
                    </a:moveTo>
                    <a:lnTo>
                      <a:pt x="106" y="282"/>
                    </a:lnTo>
                    <a:lnTo>
                      <a:pt x="120" y="282"/>
                    </a:lnTo>
                    <a:lnTo>
                      <a:pt x="132" y="281"/>
                    </a:lnTo>
                    <a:lnTo>
                      <a:pt x="143" y="279"/>
                    </a:lnTo>
                    <a:lnTo>
                      <a:pt x="152" y="276"/>
                    </a:lnTo>
                    <a:lnTo>
                      <a:pt x="161" y="272"/>
                    </a:lnTo>
                    <a:lnTo>
                      <a:pt x="168" y="269"/>
                    </a:lnTo>
                    <a:lnTo>
                      <a:pt x="175" y="265"/>
                    </a:lnTo>
                    <a:lnTo>
                      <a:pt x="180" y="260"/>
                    </a:lnTo>
                    <a:lnTo>
                      <a:pt x="186" y="251"/>
                    </a:lnTo>
                    <a:lnTo>
                      <a:pt x="193" y="242"/>
                    </a:lnTo>
                    <a:lnTo>
                      <a:pt x="198" y="231"/>
                    </a:lnTo>
                    <a:lnTo>
                      <a:pt x="202" y="219"/>
                    </a:lnTo>
                    <a:lnTo>
                      <a:pt x="205" y="206"/>
                    </a:lnTo>
                    <a:lnTo>
                      <a:pt x="209" y="191"/>
                    </a:lnTo>
                    <a:lnTo>
                      <a:pt x="210" y="175"/>
                    </a:lnTo>
                    <a:lnTo>
                      <a:pt x="211" y="157"/>
                    </a:lnTo>
                    <a:lnTo>
                      <a:pt x="210" y="145"/>
                    </a:lnTo>
                    <a:lnTo>
                      <a:pt x="210" y="134"/>
                    </a:lnTo>
                    <a:lnTo>
                      <a:pt x="209" y="123"/>
                    </a:lnTo>
                    <a:lnTo>
                      <a:pt x="206" y="113"/>
                    </a:lnTo>
                    <a:lnTo>
                      <a:pt x="204" y="104"/>
                    </a:lnTo>
                    <a:lnTo>
                      <a:pt x="201" y="95"/>
                    </a:lnTo>
                    <a:lnTo>
                      <a:pt x="198" y="87"/>
                    </a:lnTo>
                    <a:lnTo>
                      <a:pt x="195" y="81"/>
                    </a:lnTo>
                    <a:lnTo>
                      <a:pt x="186" y="68"/>
                    </a:lnTo>
                    <a:lnTo>
                      <a:pt x="178" y="57"/>
                    </a:lnTo>
                    <a:lnTo>
                      <a:pt x="173" y="53"/>
                    </a:lnTo>
                    <a:lnTo>
                      <a:pt x="167" y="50"/>
                    </a:lnTo>
                    <a:lnTo>
                      <a:pt x="162" y="47"/>
                    </a:lnTo>
                    <a:lnTo>
                      <a:pt x="157" y="45"/>
                    </a:lnTo>
                    <a:lnTo>
                      <a:pt x="147" y="41"/>
                    </a:lnTo>
                    <a:lnTo>
                      <a:pt x="135" y="39"/>
                    </a:lnTo>
                    <a:lnTo>
                      <a:pt x="121" y="38"/>
                    </a:lnTo>
                    <a:lnTo>
                      <a:pt x="105" y="37"/>
                    </a:lnTo>
                    <a:lnTo>
                      <a:pt x="40" y="37"/>
                    </a:lnTo>
                    <a:lnTo>
                      <a:pt x="40" y="282"/>
                    </a:lnTo>
                    <a:close/>
                  </a:path>
                </a:pathLst>
              </a:custGeom>
              <a:solidFill>
                <a:srgbClr val="1f1a17"/>
              </a:solidFill>
              <a:ln w="0">
                <a:noFill/>
              </a:ln>
            </p:spPr>
            <p:style>
              <a:lnRef idx="0"/>
              <a:fillRef idx="0"/>
              <a:effectRef idx="0"/>
              <a:fontRef idx="minor"/>
            </p:style>
            <p:txBody>
              <a:bodyPr lIns="90000" rIns="90000" tIns="3600" bIns="3600" anchor="t">
                <a:noAutofit/>
              </a:bodyPr>
              <a:p>
                <a:pPr>
                  <a:lnSpc>
                    <a:spcPct val="100000"/>
                  </a:lnSpc>
                </a:pPr>
                <a:endParaRPr b="0" lang="en-US" sz="1800" spc="-1" strike="noStrike">
                  <a:solidFill>
                    <a:srgbClr val="000000"/>
                  </a:solidFill>
                  <a:latin typeface="Arial"/>
                  <a:ea typeface="宋体"/>
                </a:endParaRPr>
              </a:p>
            </p:txBody>
          </p:sp>
          <p:sp>
            <p:nvSpPr>
              <p:cNvPr id="273" name="Freeform 76"/>
              <p:cNvSpPr/>
              <p:nvPr/>
            </p:nvSpPr>
            <p:spPr>
              <a:xfrm>
                <a:off x="6216480" y="1446120"/>
                <a:ext cx="8640" cy="7200"/>
              </a:xfrm>
              <a:custGeom>
                <a:avLst/>
                <a:gdLst>
                  <a:gd name="textAreaLeft" fmla="*/ 0 w 8640"/>
                  <a:gd name="textAreaRight" fmla="*/ 9000 w 8640"/>
                  <a:gd name="textAreaTop" fmla="*/ 0 h 7200"/>
                  <a:gd name="textAreaBottom" fmla="*/ 7560 h 7200"/>
                </a:gdLst>
                <a:ahLst/>
                <a:rect l="textAreaLeft" t="textAreaTop" r="textAreaRight" b="textAreaBottom"/>
                <a:pathLst>
                  <a:path w="50" h="52">
                    <a:moveTo>
                      <a:pt x="25" y="52"/>
                    </a:moveTo>
                    <a:lnTo>
                      <a:pt x="21" y="52"/>
                    </a:lnTo>
                    <a:lnTo>
                      <a:pt x="15" y="50"/>
                    </a:lnTo>
                    <a:lnTo>
                      <a:pt x="11" y="48"/>
                    </a:lnTo>
                    <a:lnTo>
                      <a:pt x="8" y="45"/>
                    </a:lnTo>
                    <a:lnTo>
                      <a:pt x="5" y="41"/>
                    </a:lnTo>
                    <a:lnTo>
                      <a:pt x="1" y="37"/>
                    </a:lnTo>
                    <a:lnTo>
                      <a:pt x="0" y="32"/>
                    </a:lnTo>
                    <a:lnTo>
                      <a:pt x="0" y="25"/>
                    </a:lnTo>
                    <a:lnTo>
                      <a:pt x="0" y="20"/>
                    </a:lnTo>
                    <a:lnTo>
                      <a:pt x="1" y="15"/>
                    </a:lnTo>
                    <a:lnTo>
                      <a:pt x="5" y="11"/>
                    </a:lnTo>
                    <a:lnTo>
                      <a:pt x="8" y="6"/>
                    </a:lnTo>
                    <a:lnTo>
                      <a:pt x="11" y="3"/>
                    </a:lnTo>
                    <a:lnTo>
                      <a:pt x="15" y="1"/>
                    </a:lnTo>
                    <a:lnTo>
                      <a:pt x="21" y="0"/>
                    </a:lnTo>
                    <a:lnTo>
                      <a:pt x="25" y="0"/>
                    </a:lnTo>
                    <a:lnTo>
                      <a:pt x="30" y="0"/>
                    </a:lnTo>
                    <a:lnTo>
                      <a:pt x="34" y="1"/>
                    </a:lnTo>
                    <a:lnTo>
                      <a:pt x="39" y="4"/>
                    </a:lnTo>
                    <a:lnTo>
                      <a:pt x="43" y="7"/>
                    </a:lnTo>
                    <a:lnTo>
                      <a:pt x="46" y="12"/>
                    </a:lnTo>
                    <a:lnTo>
                      <a:pt x="48" y="16"/>
                    </a:lnTo>
                    <a:lnTo>
                      <a:pt x="49" y="21"/>
                    </a:lnTo>
                    <a:lnTo>
                      <a:pt x="50" y="25"/>
                    </a:lnTo>
                    <a:lnTo>
                      <a:pt x="49" y="32"/>
                    </a:lnTo>
                    <a:lnTo>
                      <a:pt x="48" y="37"/>
                    </a:lnTo>
                    <a:lnTo>
                      <a:pt x="46" y="41"/>
                    </a:lnTo>
                    <a:lnTo>
                      <a:pt x="43" y="45"/>
                    </a:lnTo>
                    <a:lnTo>
                      <a:pt x="39" y="48"/>
                    </a:lnTo>
                    <a:lnTo>
                      <a:pt x="34" y="50"/>
                    </a:lnTo>
                    <a:lnTo>
                      <a:pt x="30" y="52"/>
                    </a:lnTo>
                    <a:lnTo>
                      <a:pt x="25" y="52"/>
                    </a:lnTo>
                    <a:close/>
                  </a:path>
                </a:pathLst>
              </a:custGeom>
              <a:solidFill>
                <a:srgbClr val="1f1a17"/>
              </a:solidFill>
              <a:ln w="0">
                <a:noFill/>
              </a:ln>
            </p:spPr>
            <p:style>
              <a:lnRef idx="0"/>
              <a:fillRef idx="0"/>
              <a:effectRef idx="0"/>
              <a:fontRef idx="minor"/>
            </p:style>
            <p:txBody>
              <a:bodyPr lIns="90000" rIns="90000" tIns="-37440" bIns="-37440" anchor="t">
                <a:noAutofit/>
              </a:bodyPr>
              <a:p>
                <a:pPr>
                  <a:lnSpc>
                    <a:spcPct val="100000"/>
                  </a:lnSpc>
                </a:pPr>
                <a:endParaRPr b="0" lang="en-US" sz="1800" spc="-1" strike="noStrike">
                  <a:solidFill>
                    <a:srgbClr val="000000"/>
                  </a:solidFill>
                  <a:latin typeface="Arial"/>
                  <a:ea typeface="宋体"/>
                </a:endParaRPr>
              </a:p>
            </p:txBody>
          </p:sp>
          <p:sp>
            <p:nvSpPr>
              <p:cNvPr id="274" name="Freeform 77"/>
              <p:cNvSpPr/>
              <p:nvPr/>
            </p:nvSpPr>
            <p:spPr>
              <a:xfrm>
                <a:off x="6238800" y="1445040"/>
                <a:ext cx="9720" cy="16560"/>
              </a:xfrm>
              <a:custGeom>
                <a:avLst/>
                <a:gdLst>
                  <a:gd name="textAreaLeft" fmla="*/ 0 w 9720"/>
                  <a:gd name="textAreaRight" fmla="*/ 10080 w 9720"/>
                  <a:gd name="textAreaTop" fmla="*/ 0 h 16560"/>
                  <a:gd name="textAreaBottom" fmla="*/ 16920 h 16560"/>
                </a:gdLst>
                <a:ahLst/>
                <a:rect l="textAreaLeft" t="textAreaTop" r="textAreaRight" b="textAreaBottom"/>
                <a:pathLst>
                  <a:path w="58" h="111">
                    <a:moveTo>
                      <a:pt x="7" y="20"/>
                    </a:moveTo>
                    <a:lnTo>
                      <a:pt x="8" y="17"/>
                    </a:lnTo>
                    <a:lnTo>
                      <a:pt x="9" y="14"/>
                    </a:lnTo>
                    <a:lnTo>
                      <a:pt x="10" y="9"/>
                    </a:lnTo>
                    <a:lnTo>
                      <a:pt x="13" y="6"/>
                    </a:lnTo>
                    <a:lnTo>
                      <a:pt x="16" y="3"/>
                    </a:lnTo>
                    <a:lnTo>
                      <a:pt x="20" y="1"/>
                    </a:lnTo>
                    <a:lnTo>
                      <a:pt x="25" y="0"/>
                    </a:lnTo>
                    <a:lnTo>
                      <a:pt x="30" y="0"/>
                    </a:lnTo>
                    <a:lnTo>
                      <a:pt x="36" y="0"/>
                    </a:lnTo>
                    <a:lnTo>
                      <a:pt x="41" y="2"/>
                    </a:lnTo>
                    <a:lnTo>
                      <a:pt x="47" y="6"/>
                    </a:lnTo>
                    <a:lnTo>
                      <a:pt x="51" y="10"/>
                    </a:lnTo>
                    <a:lnTo>
                      <a:pt x="54" y="17"/>
                    </a:lnTo>
                    <a:lnTo>
                      <a:pt x="56" y="22"/>
                    </a:lnTo>
                    <a:lnTo>
                      <a:pt x="58" y="28"/>
                    </a:lnTo>
                    <a:lnTo>
                      <a:pt x="58" y="35"/>
                    </a:lnTo>
                    <a:lnTo>
                      <a:pt x="57" y="46"/>
                    </a:lnTo>
                    <a:lnTo>
                      <a:pt x="55" y="58"/>
                    </a:lnTo>
                    <a:lnTo>
                      <a:pt x="51" y="69"/>
                    </a:lnTo>
                    <a:lnTo>
                      <a:pt x="45" y="79"/>
                    </a:lnTo>
                    <a:lnTo>
                      <a:pt x="37" y="90"/>
                    </a:lnTo>
                    <a:lnTo>
                      <a:pt x="29" y="98"/>
                    </a:lnTo>
                    <a:lnTo>
                      <a:pt x="18" y="105"/>
                    </a:lnTo>
                    <a:lnTo>
                      <a:pt x="7" y="111"/>
                    </a:lnTo>
                    <a:lnTo>
                      <a:pt x="0" y="103"/>
                    </a:lnTo>
                    <a:lnTo>
                      <a:pt x="8" y="97"/>
                    </a:lnTo>
                    <a:lnTo>
                      <a:pt x="15" y="92"/>
                    </a:lnTo>
                    <a:lnTo>
                      <a:pt x="20" y="86"/>
                    </a:lnTo>
                    <a:lnTo>
                      <a:pt x="26" y="80"/>
                    </a:lnTo>
                    <a:lnTo>
                      <a:pt x="29" y="75"/>
                    </a:lnTo>
                    <a:lnTo>
                      <a:pt x="31" y="69"/>
                    </a:lnTo>
                    <a:lnTo>
                      <a:pt x="33" y="63"/>
                    </a:lnTo>
                    <a:lnTo>
                      <a:pt x="33" y="57"/>
                    </a:lnTo>
                    <a:lnTo>
                      <a:pt x="33" y="53"/>
                    </a:lnTo>
                    <a:lnTo>
                      <a:pt x="30" y="48"/>
                    </a:lnTo>
                    <a:lnTo>
                      <a:pt x="26" y="45"/>
                    </a:lnTo>
                    <a:lnTo>
                      <a:pt x="20" y="41"/>
                    </a:lnTo>
                    <a:lnTo>
                      <a:pt x="14" y="37"/>
                    </a:lnTo>
                    <a:lnTo>
                      <a:pt x="10" y="33"/>
                    </a:lnTo>
                    <a:lnTo>
                      <a:pt x="8" y="27"/>
                    </a:lnTo>
                    <a:lnTo>
                      <a:pt x="7" y="20"/>
                    </a:lnTo>
                    <a:close/>
                  </a:path>
                </a:pathLst>
              </a:custGeom>
              <a:solidFill>
                <a:srgbClr val="1f1a17"/>
              </a:solidFill>
              <a:ln w="0">
                <a:noFill/>
              </a:ln>
            </p:spPr>
            <p:style>
              <a:lnRef idx="0"/>
              <a:fillRef idx="0"/>
              <a:effectRef idx="0"/>
              <a:fontRef idx="minor"/>
            </p:style>
            <p:txBody>
              <a:bodyPr lIns="90000" rIns="90000" tIns="-28080" bIns="-28080" anchor="t">
                <a:noAutofit/>
              </a:bodyPr>
              <a:p>
                <a:pPr>
                  <a:lnSpc>
                    <a:spcPct val="100000"/>
                  </a:lnSpc>
                </a:pPr>
                <a:endParaRPr b="0" lang="en-US" sz="1800" spc="-1" strike="noStrike">
                  <a:solidFill>
                    <a:srgbClr val="000000"/>
                  </a:solidFill>
                  <a:latin typeface="Arial"/>
                  <a:ea typeface="宋体"/>
                </a:endParaRPr>
              </a:p>
            </p:txBody>
          </p:sp>
        </p:grpSp>
        <p:grpSp>
          <p:nvGrpSpPr>
            <p:cNvPr id="275" name="Group 71"/>
            <p:cNvGrpSpPr/>
            <p:nvPr/>
          </p:nvGrpSpPr>
          <p:grpSpPr>
            <a:xfrm>
              <a:off x="3696840" y="289440"/>
              <a:ext cx="2681280" cy="874440"/>
              <a:chOff x="3696840" y="289440"/>
              <a:chExt cx="2681280" cy="874440"/>
            </a:xfrm>
          </p:grpSpPr>
          <p:sp>
            <p:nvSpPr>
              <p:cNvPr id="276" name="Rectangle 7"/>
              <p:cNvSpPr/>
              <p:nvPr/>
            </p:nvSpPr>
            <p:spPr>
              <a:xfrm>
                <a:off x="3696840" y="1087920"/>
                <a:ext cx="2681280" cy="10080"/>
              </a:xfrm>
              <a:prstGeom prst="rect">
                <a:avLst/>
              </a:prstGeom>
              <a:solidFill>
                <a:srgbClr val="d79f00"/>
              </a:solidFill>
              <a:ln w="0">
                <a:noFill/>
              </a:ln>
            </p:spPr>
            <p:style>
              <a:lnRef idx="0"/>
              <a:fillRef idx="0"/>
              <a:effectRef idx="0"/>
              <a:fontRef idx="minor"/>
            </p:style>
            <p:txBody>
              <a:bodyPr lIns="90000" rIns="90000" tIns="-34560" bIns="-34560" anchor="t">
                <a:noAutofit/>
              </a:bodyPr>
              <a:p>
                <a:pPr>
                  <a:lnSpc>
                    <a:spcPct val="100000"/>
                  </a:lnSpc>
                </a:pPr>
                <a:endParaRPr b="0" lang="en-US" sz="1800" spc="-1" strike="noStrike">
                  <a:solidFill>
                    <a:srgbClr val="000000"/>
                  </a:solidFill>
                  <a:latin typeface="Arial"/>
                  <a:ea typeface="宋体"/>
                </a:endParaRPr>
              </a:p>
            </p:txBody>
          </p:sp>
          <p:sp>
            <p:nvSpPr>
              <p:cNvPr id="277" name="Freeform 8"/>
              <p:cNvSpPr/>
              <p:nvPr/>
            </p:nvSpPr>
            <p:spPr>
              <a:xfrm>
                <a:off x="3733920" y="289440"/>
                <a:ext cx="877320" cy="874440"/>
              </a:xfrm>
              <a:custGeom>
                <a:avLst/>
                <a:gdLst>
                  <a:gd name="textAreaLeft" fmla="*/ 0 w 877320"/>
                  <a:gd name="textAreaRight" fmla="*/ 877680 w 877320"/>
                  <a:gd name="textAreaTop" fmla="*/ 0 h 874440"/>
                  <a:gd name="textAreaBottom" fmla="*/ 874800 h 874440"/>
                </a:gdLst>
                <a:ahLst/>
                <a:rect l="textAreaLeft" t="textAreaTop" r="textAreaRight" b="textAreaBottom"/>
                <a:pathLst>
                  <a:path w="5495" h="5786">
                    <a:moveTo>
                      <a:pt x="730" y="46"/>
                    </a:moveTo>
                    <a:lnTo>
                      <a:pt x="0" y="4624"/>
                    </a:lnTo>
                    <a:lnTo>
                      <a:pt x="1589" y="2642"/>
                    </a:lnTo>
                    <a:lnTo>
                      <a:pt x="2760" y="5786"/>
                    </a:lnTo>
                    <a:lnTo>
                      <a:pt x="3854" y="2574"/>
                    </a:lnTo>
                    <a:lnTo>
                      <a:pt x="5495" y="4647"/>
                    </a:lnTo>
                    <a:lnTo>
                      <a:pt x="4713" y="0"/>
                    </a:lnTo>
                    <a:lnTo>
                      <a:pt x="2760" y="2368"/>
                    </a:lnTo>
                    <a:lnTo>
                      <a:pt x="730" y="46"/>
                    </a:lnTo>
                    <a:close/>
                  </a:path>
                </a:pathLst>
              </a:custGeom>
              <a:solidFill>
                <a:srgbClr val="fcdb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278" name="Freeform 9"/>
              <p:cNvSpPr/>
              <p:nvPr/>
            </p:nvSpPr>
            <p:spPr>
              <a:xfrm>
                <a:off x="3733920" y="296640"/>
                <a:ext cx="253440" cy="691560"/>
              </a:xfrm>
              <a:custGeom>
                <a:avLst/>
                <a:gdLst>
                  <a:gd name="textAreaLeft" fmla="*/ 0 w 253440"/>
                  <a:gd name="textAreaRight" fmla="*/ 253800 w 253440"/>
                  <a:gd name="textAreaTop" fmla="*/ 0 h 691560"/>
                  <a:gd name="textAreaBottom" fmla="*/ 691920 h 691560"/>
                </a:gdLst>
                <a:ahLst/>
                <a:rect l="textAreaLeft" t="textAreaTop" r="textAreaRight" b="textAreaBottom"/>
                <a:pathLst>
                  <a:path w="1589" h="4578">
                    <a:moveTo>
                      <a:pt x="730" y="0"/>
                    </a:moveTo>
                    <a:lnTo>
                      <a:pt x="1589" y="2596"/>
                    </a:lnTo>
                    <a:lnTo>
                      <a:pt x="0" y="4578"/>
                    </a:lnTo>
                    <a:lnTo>
                      <a:pt x="730" y="0"/>
                    </a:lnTo>
                    <a:close/>
                  </a:path>
                </a:pathLst>
              </a:custGeom>
              <a:solidFill>
                <a:srgbClr val="d79f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279" name="Freeform 10"/>
              <p:cNvSpPr/>
              <p:nvPr/>
            </p:nvSpPr>
            <p:spPr>
              <a:xfrm>
                <a:off x="4174560" y="289440"/>
                <a:ext cx="311760" cy="874440"/>
              </a:xfrm>
              <a:custGeom>
                <a:avLst/>
                <a:gdLst>
                  <a:gd name="textAreaLeft" fmla="*/ 0 w 311760"/>
                  <a:gd name="textAreaRight" fmla="*/ 312120 w 311760"/>
                  <a:gd name="textAreaTop" fmla="*/ 0 h 874440"/>
                  <a:gd name="textAreaBottom" fmla="*/ 874800 h 874440"/>
                </a:gdLst>
                <a:ahLst/>
                <a:rect l="textAreaLeft" t="textAreaTop" r="textAreaRight" b="textAreaBottom"/>
                <a:pathLst>
                  <a:path w="1953" h="5786">
                    <a:moveTo>
                      <a:pt x="0" y="2368"/>
                    </a:moveTo>
                    <a:lnTo>
                      <a:pt x="0" y="5786"/>
                    </a:lnTo>
                    <a:lnTo>
                      <a:pt x="1094" y="2574"/>
                    </a:lnTo>
                    <a:lnTo>
                      <a:pt x="1953" y="0"/>
                    </a:lnTo>
                    <a:lnTo>
                      <a:pt x="0" y="2368"/>
                    </a:lnTo>
                    <a:close/>
                  </a:path>
                </a:pathLst>
              </a:custGeom>
              <a:solidFill>
                <a:srgbClr val="d79f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280" name="Freeform 78"/>
              <p:cNvSpPr/>
              <p:nvPr/>
            </p:nvSpPr>
            <p:spPr>
              <a:xfrm>
                <a:off x="4657680" y="772920"/>
                <a:ext cx="272520" cy="239760"/>
              </a:xfrm>
              <a:custGeom>
                <a:avLst/>
                <a:gdLst>
                  <a:gd name="textAreaLeft" fmla="*/ 0 w 272520"/>
                  <a:gd name="textAreaRight" fmla="*/ 272880 w 272520"/>
                  <a:gd name="textAreaTop" fmla="*/ 0 h 239760"/>
                  <a:gd name="textAreaBottom" fmla="*/ 240120 h 239760"/>
                </a:gdLst>
                <a:ahLst/>
                <a:rect l="textAreaLeft" t="textAreaTop" r="textAreaRight" b="textAreaBottom"/>
                <a:pathLst>
                  <a:path w="1708" h="1590">
                    <a:moveTo>
                      <a:pt x="817" y="0"/>
                    </a:moveTo>
                    <a:lnTo>
                      <a:pt x="885" y="0"/>
                    </a:lnTo>
                    <a:lnTo>
                      <a:pt x="904" y="48"/>
                    </a:lnTo>
                    <a:lnTo>
                      <a:pt x="925" y="98"/>
                    </a:lnTo>
                    <a:lnTo>
                      <a:pt x="944" y="147"/>
                    </a:lnTo>
                    <a:lnTo>
                      <a:pt x="965" y="197"/>
                    </a:lnTo>
                    <a:lnTo>
                      <a:pt x="985" y="249"/>
                    </a:lnTo>
                    <a:lnTo>
                      <a:pt x="1007" y="301"/>
                    </a:lnTo>
                    <a:lnTo>
                      <a:pt x="1029" y="354"/>
                    </a:lnTo>
                    <a:lnTo>
                      <a:pt x="1052" y="408"/>
                    </a:lnTo>
                    <a:lnTo>
                      <a:pt x="1075" y="462"/>
                    </a:lnTo>
                    <a:lnTo>
                      <a:pt x="1098" y="517"/>
                    </a:lnTo>
                    <a:lnTo>
                      <a:pt x="1123" y="573"/>
                    </a:lnTo>
                    <a:lnTo>
                      <a:pt x="1147" y="631"/>
                    </a:lnTo>
                    <a:lnTo>
                      <a:pt x="1172" y="689"/>
                    </a:lnTo>
                    <a:lnTo>
                      <a:pt x="1198" y="747"/>
                    </a:lnTo>
                    <a:lnTo>
                      <a:pt x="1224" y="807"/>
                    </a:lnTo>
                    <a:lnTo>
                      <a:pt x="1252" y="867"/>
                    </a:lnTo>
                    <a:lnTo>
                      <a:pt x="1508" y="1428"/>
                    </a:lnTo>
                    <a:lnTo>
                      <a:pt x="1517" y="1441"/>
                    </a:lnTo>
                    <a:lnTo>
                      <a:pt x="1526" y="1453"/>
                    </a:lnTo>
                    <a:lnTo>
                      <a:pt x="1536" y="1464"/>
                    </a:lnTo>
                    <a:lnTo>
                      <a:pt x="1546" y="1472"/>
                    </a:lnTo>
                    <a:lnTo>
                      <a:pt x="1552" y="1474"/>
                    </a:lnTo>
                    <a:lnTo>
                      <a:pt x="1562" y="1478"/>
                    </a:lnTo>
                    <a:lnTo>
                      <a:pt x="1576" y="1484"/>
                    </a:lnTo>
                    <a:lnTo>
                      <a:pt x="1594" y="1490"/>
                    </a:lnTo>
                    <a:lnTo>
                      <a:pt x="1616" y="1496"/>
                    </a:lnTo>
                    <a:lnTo>
                      <a:pt x="1643" y="1505"/>
                    </a:lnTo>
                    <a:lnTo>
                      <a:pt x="1673" y="1514"/>
                    </a:lnTo>
                    <a:lnTo>
                      <a:pt x="1708" y="1524"/>
                    </a:lnTo>
                    <a:lnTo>
                      <a:pt x="1708" y="1590"/>
                    </a:lnTo>
                    <a:lnTo>
                      <a:pt x="1660" y="1587"/>
                    </a:lnTo>
                    <a:lnTo>
                      <a:pt x="1614" y="1584"/>
                    </a:lnTo>
                    <a:lnTo>
                      <a:pt x="1573" y="1582"/>
                    </a:lnTo>
                    <a:lnTo>
                      <a:pt x="1535" y="1580"/>
                    </a:lnTo>
                    <a:lnTo>
                      <a:pt x="1499" y="1579"/>
                    </a:lnTo>
                    <a:lnTo>
                      <a:pt x="1467" y="1578"/>
                    </a:lnTo>
                    <a:lnTo>
                      <a:pt x="1438" y="1577"/>
                    </a:lnTo>
                    <a:lnTo>
                      <a:pt x="1413" y="1577"/>
                    </a:lnTo>
                    <a:lnTo>
                      <a:pt x="1386" y="1577"/>
                    </a:lnTo>
                    <a:lnTo>
                      <a:pt x="1356" y="1578"/>
                    </a:lnTo>
                    <a:lnTo>
                      <a:pt x="1321" y="1579"/>
                    </a:lnTo>
                    <a:lnTo>
                      <a:pt x="1282" y="1580"/>
                    </a:lnTo>
                    <a:lnTo>
                      <a:pt x="1238" y="1582"/>
                    </a:lnTo>
                    <a:lnTo>
                      <a:pt x="1190" y="1584"/>
                    </a:lnTo>
                    <a:lnTo>
                      <a:pt x="1139" y="1587"/>
                    </a:lnTo>
                    <a:lnTo>
                      <a:pt x="1082" y="1590"/>
                    </a:lnTo>
                    <a:lnTo>
                      <a:pt x="1082" y="1524"/>
                    </a:lnTo>
                    <a:lnTo>
                      <a:pt x="1143" y="1511"/>
                    </a:lnTo>
                    <a:lnTo>
                      <a:pt x="1188" y="1500"/>
                    </a:lnTo>
                    <a:lnTo>
                      <a:pt x="1206" y="1494"/>
                    </a:lnTo>
                    <a:lnTo>
                      <a:pt x="1220" y="1489"/>
                    </a:lnTo>
                    <a:lnTo>
                      <a:pt x="1231" y="1485"/>
                    </a:lnTo>
                    <a:lnTo>
                      <a:pt x="1238" y="1481"/>
                    </a:lnTo>
                    <a:lnTo>
                      <a:pt x="1243" y="1476"/>
                    </a:lnTo>
                    <a:lnTo>
                      <a:pt x="1248" y="1472"/>
                    </a:lnTo>
                    <a:lnTo>
                      <a:pt x="1252" y="1467"/>
                    </a:lnTo>
                    <a:lnTo>
                      <a:pt x="1255" y="1463"/>
                    </a:lnTo>
                    <a:lnTo>
                      <a:pt x="1257" y="1457"/>
                    </a:lnTo>
                    <a:lnTo>
                      <a:pt x="1258" y="1453"/>
                    </a:lnTo>
                    <a:lnTo>
                      <a:pt x="1259" y="1448"/>
                    </a:lnTo>
                    <a:lnTo>
                      <a:pt x="1260" y="1441"/>
                    </a:lnTo>
                    <a:lnTo>
                      <a:pt x="1259" y="1436"/>
                    </a:lnTo>
                    <a:lnTo>
                      <a:pt x="1258" y="1429"/>
                    </a:lnTo>
                    <a:lnTo>
                      <a:pt x="1257" y="1420"/>
                    </a:lnTo>
                    <a:lnTo>
                      <a:pt x="1254" y="1411"/>
                    </a:lnTo>
                    <a:lnTo>
                      <a:pt x="1247" y="1389"/>
                    </a:lnTo>
                    <a:lnTo>
                      <a:pt x="1237" y="1364"/>
                    </a:lnTo>
                    <a:lnTo>
                      <a:pt x="1127" y="1095"/>
                    </a:lnTo>
                    <a:lnTo>
                      <a:pt x="1070" y="1095"/>
                    </a:lnTo>
                    <a:lnTo>
                      <a:pt x="1018" y="1094"/>
                    </a:lnTo>
                    <a:lnTo>
                      <a:pt x="969" y="1094"/>
                    </a:lnTo>
                    <a:lnTo>
                      <a:pt x="925" y="1093"/>
                    </a:lnTo>
                    <a:lnTo>
                      <a:pt x="883" y="1093"/>
                    </a:lnTo>
                    <a:lnTo>
                      <a:pt x="847" y="1093"/>
                    </a:lnTo>
                    <a:lnTo>
                      <a:pt x="814" y="1093"/>
                    </a:lnTo>
                    <a:lnTo>
                      <a:pt x="786" y="1093"/>
                    </a:lnTo>
                    <a:lnTo>
                      <a:pt x="483" y="1095"/>
                    </a:lnTo>
                    <a:lnTo>
                      <a:pt x="368" y="1374"/>
                    </a:lnTo>
                    <a:lnTo>
                      <a:pt x="356" y="1404"/>
                    </a:lnTo>
                    <a:lnTo>
                      <a:pt x="347" y="1428"/>
                    </a:lnTo>
                    <a:lnTo>
                      <a:pt x="342" y="1446"/>
                    </a:lnTo>
                    <a:lnTo>
                      <a:pt x="340" y="1457"/>
                    </a:lnTo>
                    <a:lnTo>
                      <a:pt x="341" y="1464"/>
                    </a:lnTo>
                    <a:lnTo>
                      <a:pt x="343" y="1470"/>
                    </a:lnTo>
                    <a:lnTo>
                      <a:pt x="347" y="1476"/>
                    </a:lnTo>
                    <a:lnTo>
                      <a:pt x="354" y="1481"/>
                    </a:lnTo>
                    <a:lnTo>
                      <a:pt x="359" y="1484"/>
                    </a:lnTo>
                    <a:lnTo>
                      <a:pt x="366" y="1487"/>
                    </a:lnTo>
                    <a:lnTo>
                      <a:pt x="378" y="1490"/>
                    </a:lnTo>
                    <a:lnTo>
                      <a:pt x="393" y="1494"/>
                    </a:lnTo>
                    <a:lnTo>
                      <a:pt x="431" y="1503"/>
                    </a:lnTo>
                    <a:lnTo>
                      <a:pt x="482" y="1514"/>
                    </a:lnTo>
                    <a:lnTo>
                      <a:pt x="488" y="1517"/>
                    </a:lnTo>
                    <a:lnTo>
                      <a:pt x="497" y="1519"/>
                    </a:lnTo>
                    <a:lnTo>
                      <a:pt x="505" y="1521"/>
                    </a:lnTo>
                    <a:lnTo>
                      <a:pt x="516" y="1524"/>
                    </a:lnTo>
                    <a:lnTo>
                      <a:pt x="516" y="1590"/>
                    </a:lnTo>
                    <a:lnTo>
                      <a:pt x="470" y="1587"/>
                    </a:lnTo>
                    <a:lnTo>
                      <a:pt x="429" y="1584"/>
                    </a:lnTo>
                    <a:lnTo>
                      <a:pt x="391" y="1582"/>
                    </a:lnTo>
                    <a:lnTo>
                      <a:pt x="356" y="1580"/>
                    </a:lnTo>
                    <a:lnTo>
                      <a:pt x="324" y="1579"/>
                    </a:lnTo>
                    <a:lnTo>
                      <a:pt x="296" y="1578"/>
                    </a:lnTo>
                    <a:lnTo>
                      <a:pt x="271" y="1577"/>
                    </a:lnTo>
                    <a:lnTo>
                      <a:pt x="251" y="1577"/>
                    </a:lnTo>
                    <a:lnTo>
                      <a:pt x="226" y="1577"/>
                    </a:lnTo>
                    <a:lnTo>
                      <a:pt x="198" y="1578"/>
                    </a:lnTo>
                    <a:lnTo>
                      <a:pt x="169" y="1579"/>
                    </a:lnTo>
                    <a:lnTo>
                      <a:pt x="139" y="1580"/>
                    </a:lnTo>
                    <a:lnTo>
                      <a:pt x="107" y="1582"/>
                    </a:lnTo>
                    <a:lnTo>
                      <a:pt x="73" y="1584"/>
                    </a:lnTo>
                    <a:lnTo>
                      <a:pt x="37" y="1587"/>
                    </a:lnTo>
                    <a:lnTo>
                      <a:pt x="0" y="1590"/>
                    </a:lnTo>
                    <a:lnTo>
                      <a:pt x="0" y="1524"/>
                    </a:lnTo>
                    <a:lnTo>
                      <a:pt x="23" y="1519"/>
                    </a:lnTo>
                    <a:lnTo>
                      <a:pt x="45" y="1512"/>
                    </a:lnTo>
                    <a:lnTo>
                      <a:pt x="66" y="1507"/>
                    </a:lnTo>
                    <a:lnTo>
                      <a:pt x="84" y="1501"/>
                    </a:lnTo>
                    <a:lnTo>
                      <a:pt x="101" y="1494"/>
                    </a:lnTo>
                    <a:lnTo>
                      <a:pt x="114" y="1488"/>
                    </a:lnTo>
                    <a:lnTo>
                      <a:pt x="127" y="1482"/>
                    </a:lnTo>
                    <a:lnTo>
                      <a:pt x="138" y="1475"/>
                    </a:lnTo>
                    <a:lnTo>
                      <a:pt x="144" y="1469"/>
                    </a:lnTo>
                    <a:lnTo>
                      <a:pt x="151" y="1463"/>
                    </a:lnTo>
                    <a:lnTo>
                      <a:pt x="158" y="1455"/>
                    </a:lnTo>
                    <a:lnTo>
                      <a:pt x="165" y="1447"/>
                    </a:lnTo>
                    <a:lnTo>
                      <a:pt x="180" y="1428"/>
                    </a:lnTo>
                    <a:lnTo>
                      <a:pt x="195" y="1404"/>
                    </a:lnTo>
                    <a:lnTo>
                      <a:pt x="213" y="1369"/>
                    </a:lnTo>
                    <a:lnTo>
                      <a:pt x="238" y="1319"/>
                    </a:lnTo>
                    <a:lnTo>
                      <a:pt x="269" y="1255"/>
                    </a:lnTo>
                    <a:lnTo>
                      <a:pt x="306" y="1174"/>
                    </a:lnTo>
                    <a:lnTo>
                      <a:pt x="348" y="1079"/>
                    </a:lnTo>
                    <a:lnTo>
                      <a:pt x="398" y="969"/>
                    </a:lnTo>
                    <a:lnTo>
                      <a:pt x="453" y="844"/>
                    </a:lnTo>
                    <a:lnTo>
                      <a:pt x="514" y="703"/>
                    </a:lnTo>
                    <a:lnTo>
                      <a:pt x="817" y="0"/>
                    </a:lnTo>
                    <a:close/>
                    <a:moveTo>
                      <a:pt x="526" y="985"/>
                    </a:moveTo>
                    <a:lnTo>
                      <a:pt x="562" y="986"/>
                    </a:lnTo>
                    <a:lnTo>
                      <a:pt x="597" y="987"/>
                    </a:lnTo>
                    <a:lnTo>
                      <a:pt x="628" y="988"/>
                    </a:lnTo>
                    <a:lnTo>
                      <a:pt x="658" y="988"/>
                    </a:lnTo>
                    <a:lnTo>
                      <a:pt x="683" y="989"/>
                    </a:lnTo>
                    <a:lnTo>
                      <a:pt x="706" y="989"/>
                    </a:lnTo>
                    <a:lnTo>
                      <a:pt x="728" y="989"/>
                    </a:lnTo>
                    <a:lnTo>
                      <a:pt x="745" y="989"/>
                    </a:lnTo>
                    <a:lnTo>
                      <a:pt x="754" y="989"/>
                    </a:lnTo>
                    <a:lnTo>
                      <a:pt x="773" y="989"/>
                    </a:lnTo>
                    <a:lnTo>
                      <a:pt x="802" y="989"/>
                    </a:lnTo>
                    <a:lnTo>
                      <a:pt x="840" y="988"/>
                    </a:lnTo>
                    <a:lnTo>
                      <a:pt x="886" y="988"/>
                    </a:lnTo>
                    <a:lnTo>
                      <a:pt x="943" y="987"/>
                    </a:lnTo>
                    <a:lnTo>
                      <a:pt x="1008" y="986"/>
                    </a:lnTo>
                    <a:lnTo>
                      <a:pt x="1082" y="985"/>
                    </a:lnTo>
                    <a:lnTo>
                      <a:pt x="804" y="323"/>
                    </a:lnTo>
                    <a:lnTo>
                      <a:pt x="526" y="985"/>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281" name="Freeform 79"/>
              <p:cNvSpPr/>
              <p:nvPr/>
            </p:nvSpPr>
            <p:spPr>
              <a:xfrm>
                <a:off x="4951800" y="776880"/>
                <a:ext cx="286920" cy="240840"/>
              </a:xfrm>
              <a:custGeom>
                <a:avLst/>
                <a:gdLst>
                  <a:gd name="textAreaLeft" fmla="*/ 0 w 286920"/>
                  <a:gd name="textAreaRight" fmla="*/ 287280 w 286920"/>
                  <a:gd name="textAreaTop" fmla="*/ 0 h 240840"/>
                  <a:gd name="textAreaBottom" fmla="*/ 241200 h 240840"/>
                </a:gdLst>
                <a:ahLst/>
                <a:rect l="textAreaLeft" t="textAreaTop" r="textAreaRight" b="textAreaBottom"/>
                <a:pathLst>
                  <a:path w="1799" h="1596">
                    <a:moveTo>
                      <a:pt x="0" y="64"/>
                    </a:moveTo>
                    <a:lnTo>
                      <a:pt x="0" y="0"/>
                    </a:lnTo>
                    <a:lnTo>
                      <a:pt x="34" y="2"/>
                    </a:lnTo>
                    <a:lnTo>
                      <a:pt x="66" y="5"/>
                    </a:lnTo>
                    <a:lnTo>
                      <a:pt x="96" y="7"/>
                    </a:lnTo>
                    <a:lnTo>
                      <a:pt x="125" y="8"/>
                    </a:lnTo>
                    <a:lnTo>
                      <a:pt x="151" y="10"/>
                    </a:lnTo>
                    <a:lnTo>
                      <a:pt x="176" y="10"/>
                    </a:lnTo>
                    <a:lnTo>
                      <a:pt x="199" y="11"/>
                    </a:lnTo>
                    <a:lnTo>
                      <a:pt x="220" y="11"/>
                    </a:lnTo>
                    <a:lnTo>
                      <a:pt x="237" y="11"/>
                    </a:lnTo>
                    <a:lnTo>
                      <a:pt x="258" y="10"/>
                    </a:lnTo>
                    <a:lnTo>
                      <a:pt x="283" y="10"/>
                    </a:lnTo>
                    <a:lnTo>
                      <a:pt x="310" y="8"/>
                    </a:lnTo>
                    <a:lnTo>
                      <a:pt x="341" y="7"/>
                    </a:lnTo>
                    <a:lnTo>
                      <a:pt x="375" y="5"/>
                    </a:lnTo>
                    <a:lnTo>
                      <a:pt x="412" y="2"/>
                    </a:lnTo>
                    <a:lnTo>
                      <a:pt x="452" y="0"/>
                    </a:lnTo>
                    <a:lnTo>
                      <a:pt x="765" y="391"/>
                    </a:lnTo>
                    <a:lnTo>
                      <a:pt x="772" y="399"/>
                    </a:lnTo>
                    <a:lnTo>
                      <a:pt x="785" y="414"/>
                    </a:lnTo>
                    <a:lnTo>
                      <a:pt x="801" y="434"/>
                    </a:lnTo>
                    <a:lnTo>
                      <a:pt x="822" y="461"/>
                    </a:lnTo>
                    <a:lnTo>
                      <a:pt x="847" y="491"/>
                    </a:lnTo>
                    <a:lnTo>
                      <a:pt x="878" y="527"/>
                    </a:lnTo>
                    <a:lnTo>
                      <a:pt x="913" y="570"/>
                    </a:lnTo>
                    <a:lnTo>
                      <a:pt x="952" y="617"/>
                    </a:lnTo>
                    <a:lnTo>
                      <a:pt x="996" y="670"/>
                    </a:lnTo>
                    <a:lnTo>
                      <a:pt x="1043" y="729"/>
                    </a:lnTo>
                    <a:lnTo>
                      <a:pt x="1096" y="792"/>
                    </a:lnTo>
                    <a:lnTo>
                      <a:pt x="1153" y="861"/>
                    </a:lnTo>
                    <a:lnTo>
                      <a:pt x="1215" y="936"/>
                    </a:lnTo>
                    <a:lnTo>
                      <a:pt x="1282" y="1017"/>
                    </a:lnTo>
                    <a:lnTo>
                      <a:pt x="1352" y="1103"/>
                    </a:lnTo>
                    <a:lnTo>
                      <a:pt x="1428" y="1194"/>
                    </a:lnTo>
                    <a:lnTo>
                      <a:pt x="1428" y="1156"/>
                    </a:lnTo>
                    <a:lnTo>
                      <a:pt x="1428" y="1122"/>
                    </a:lnTo>
                    <a:lnTo>
                      <a:pt x="1428" y="1090"/>
                    </a:lnTo>
                    <a:lnTo>
                      <a:pt x="1429" y="1060"/>
                    </a:lnTo>
                    <a:lnTo>
                      <a:pt x="1429" y="1034"/>
                    </a:lnTo>
                    <a:lnTo>
                      <a:pt x="1429" y="1010"/>
                    </a:lnTo>
                    <a:lnTo>
                      <a:pt x="1429" y="988"/>
                    </a:lnTo>
                    <a:lnTo>
                      <a:pt x="1429" y="969"/>
                    </a:lnTo>
                    <a:lnTo>
                      <a:pt x="1429" y="925"/>
                    </a:lnTo>
                    <a:lnTo>
                      <a:pt x="1428" y="871"/>
                    </a:lnTo>
                    <a:lnTo>
                      <a:pt x="1427" y="808"/>
                    </a:lnTo>
                    <a:lnTo>
                      <a:pt x="1426" y="737"/>
                    </a:lnTo>
                    <a:lnTo>
                      <a:pt x="1424" y="659"/>
                    </a:lnTo>
                    <a:lnTo>
                      <a:pt x="1422" y="571"/>
                    </a:lnTo>
                    <a:lnTo>
                      <a:pt x="1420" y="474"/>
                    </a:lnTo>
                    <a:lnTo>
                      <a:pt x="1418" y="369"/>
                    </a:lnTo>
                    <a:lnTo>
                      <a:pt x="1417" y="322"/>
                    </a:lnTo>
                    <a:lnTo>
                      <a:pt x="1416" y="279"/>
                    </a:lnTo>
                    <a:lnTo>
                      <a:pt x="1415" y="243"/>
                    </a:lnTo>
                    <a:lnTo>
                      <a:pt x="1414" y="213"/>
                    </a:lnTo>
                    <a:lnTo>
                      <a:pt x="1413" y="187"/>
                    </a:lnTo>
                    <a:lnTo>
                      <a:pt x="1411" y="168"/>
                    </a:lnTo>
                    <a:lnTo>
                      <a:pt x="1410" y="155"/>
                    </a:lnTo>
                    <a:lnTo>
                      <a:pt x="1409" y="148"/>
                    </a:lnTo>
                    <a:lnTo>
                      <a:pt x="1404" y="140"/>
                    </a:lnTo>
                    <a:lnTo>
                      <a:pt x="1399" y="131"/>
                    </a:lnTo>
                    <a:lnTo>
                      <a:pt x="1392" y="124"/>
                    </a:lnTo>
                    <a:lnTo>
                      <a:pt x="1383" y="116"/>
                    </a:lnTo>
                    <a:lnTo>
                      <a:pt x="1376" y="113"/>
                    </a:lnTo>
                    <a:lnTo>
                      <a:pt x="1366" y="109"/>
                    </a:lnTo>
                    <a:lnTo>
                      <a:pt x="1352" y="103"/>
                    </a:lnTo>
                    <a:lnTo>
                      <a:pt x="1334" y="99"/>
                    </a:lnTo>
                    <a:lnTo>
                      <a:pt x="1289" y="89"/>
                    </a:lnTo>
                    <a:lnTo>
                      <a:pt x="1230" y="77"/>
                    </a:lnTo>
                    <a:lnTo>
                      <a:pt x="1219" y="75"/>
                    </a:lnTo>
                    <a:lnTo>
                      <a:pt x="1207" y="72"/>
                    </a:lnTo>
                    <a:lnTo>
                      <a:pt x="1194" y="69"/>
                    </a:lnTo>
                    <a:lnTo>
                      <a:pt x="1178" y="64"/>
                    </a:lnTo>
                    <a:lnTo>
                      <a:pt x="1178" y="0"/>
                    </a:lnTo>
                    <a:lnTo>
                      <a:pt x="1225" y="2"/>
                    </a:lnTo>
                    <a:lnTo>
                      <a:pt x="1271" y="5"/>
                    </a:lnTo>
                    <a:lnTo>
                      <a:pt x="1313" y="7"/>
                    </a:lnTo>
                    <a:lnTo>
                      <a:pt x="1354" y="8"/>
                    </a:lnTo>
                    <a:lnTo>
                      <a:pt x="1391" y="10"/>
                    </a:lnTo>
                    <a:lnTo>
                      <a:pt x="1427" y="10"/>
                    </a:lnTo>
                    <a:lnTo>
                      <a:pt x="1458" y="11"/>
                    </a:lnTo>
                    <a:lnTo>
                      <a:pt x="1489" y="11"/>
                    </a:lnTo>
                    <a:lnTo>
                      <a:pt x="1519" y="11"/>
                    </a:lnTo>
                    <a:lnTo>
                      <a:pt x="1551" y="10"/>
                    </a:lnTo>
                    <a:lnTo>
                      <a:pt x="1585" y="10"/>
                    </a:lnTo>
                    <a:lnTo>
                      <a:pt x="1623" y="8"/>
                    </a:lnTo>
                    <a:lnTo>
                      <a:pt x="1663" y="7"/>
                    </a:lnTo>
                    <a:lnTo>
                      <a:pt x="1706" y="5"/>
                    </a:lnTo>
                    <a:lnTo>
                      <a:pt x="1752" y="2"/>
                    </a:lnTo>
                    <a:lnTo>
                      <a:pt x="1799" y="0"/>
                    </a:lnTo>
                    <a:lnTo>
                      <a:pt x="1799" y="64"/>
                    </a:lnTo>
                    <a:lnTo>
                      <a:pt x="1786" y="69"/>
                    </a:lnTo>
                    <a:lnTo>
                      <a:pt x="1773" y="71"/>
                    </a:lnTo>
                    <a:lnTo>
                      <a:pt x="1763" y="73"/>
                    </a:lnTo>
                    <a:lnTo>
                      <a:pt x="1755" y="74"/>
                    </a:lnTo>
                    <a:lnTo>
                      <a:pt x="1721" y="81"/>
                    </a:lnTo>
                    <a:lnTo>
                      <a:pt x="1690" y="89"/>
                    </a:lnTo>
                    <a:lnTo>
                      <a:pt x="1663" y="95"/>
                    </a:lnTo>
                    <a:lnTo>
                      <a:pt x="1641" y="100"/>
                    </a:lnTo>
                    <a:lnTo>
                      <a:pt x="1623" y="105"/>
                    </a:lnTo>
                    <a:lnTo>
                      <a:pt x="1608" y="109"/>
                    </a:lnTo>
                    <a:lnTo>
                      <a:pt x="1597" y="112"/>
                    </a:lnTo>
                    <a:lnTo>
                      <a:pt x="1591" y="115"/>
                    </a:lnTo>
                    <a:lnTo>
                      <a:pt x="1585" y="118"/>
                    </a:lnTo>
                    <a:lnTo>
                      <a:pt x="1580" y="124"/>
                    </a:lnTo>
                    <a:lnTo>
                      <a:pt x="1576" y="129"/>
                    </a:lnTo>
                    <a:lnTo>
                      <a:pt x="1572" y="135"/>
                    </a:lnTo>
                    <a:lnTo>
                      <a:pt x="1569" y="140"/>
                    </a:lnTo>
                    <a:lnTo>
                      <a:pt x="1566" y="146"/>
                    </a:lnTo>
                    <a:lnTo>
                      <a:pt x="1564" y="152"/>
                    </a:lnTo>
                    <a:lnTo>
                      <a:pt x="1562" y="161"/>
                    </a:lnTo>
                    <a:lnTo>
                      <a:pt x="1559" y="179"/>
                    </a:lnTo>
                    <a:lnTo>
                      <a:pt x="1556" y="201"/>
                    </a:lnTo>
                    <a:lnTo>
                      <a:pt x="1556" y="211"/>
                    </a:lnTo>
                    <a:lnTo>
                      <a:pt x="1556" y="227"/>
                    </a:lnTo>
                    <a:lnTo>
                      <a:pt x="1555" y="253"/>
                    </a:lnTo>
                    <a:lnTo>
                      <a:pt x="1555" y="287"/>
                    </a:lnTo>
                    <a:lnTo>
                      <a:pt x="1554" y="328"/>
                    </a:lnTo>
                    <a:lnTo>
                      <a:pt x="1553" y="378"/>
                    </a:lnTo>
                    <a:lnTo>
                      <a:pt x="1552" y="435"/>
                    </a:lnTo>
                    <a:lnTo>
                      <a:pt x="1551" y="501"/>
                    </a:lnTo>
                    <a:lnTo>
                      <a:pt x="1551" y="571"/>
                    </a:lnTo>
                    <a:lnTo>
                      <a:pt x="1549" y="640"/>
                    </a:lnTo>
                    <a:lnTo>
                      <a:pt x="1548" y="709"/>
                    </a:lnTo>
                    <a:lnTo>
                      <a:pt x="1548" y="776"/>
                    </a:lnTo>
                    <a:lnTo>
                      <a:pt x="1547" y="843"/>
                    </a:lnTo>
                    <a:lnTo>
                      <a:pt x="1547" y="910"/>
                    </a:lnTo>
                    <a:lnTo>
                      <a:pt x="1547" y="976"/>
                    </a:lnTo>
                    <a:lnTo>
                      <a:pt x="1547" y="1041"/>
                    </a:lnTo>
                    <a:lnTo>
                      <a:pt x="1547" y="1117"/>
                    </a:lnTo>
                    <a:lnTo>
                      <a:pt x="1548" y="1190"/>
                    </a:lnTo>
                    <a:lnTo>
                      <a:pt x="1548" y="1259"/>
                    </a:lnTo>
                    <a:lnTo>
                      <a:pt x="1551" y="1325"/>
                    </a:lnTo>
                    <a:lnTo>
                      <a:pt x="1552" y="1389"/>
                    </a:lnTo>
                    <a:lnTo>
                      <a:pt x="1554" y="1450"/>
                    </a:lnTo>
                    <a:lnTo>
                      <a:pt x="1556" y="1508"/>
                    </a:lnTo>
                    <a:lnTo>
                      <a:pt x="1559" y="1563"/>
                    </a:lnTo>
                    <a:lnTo>
                      <a:pt x="1487" y="1596"/>
                    </a:lnTo>
                    <a:lnTo>
                      <a:pt x="1027" y="1025"/>
                    </a:lnTo>
                    <a:lnTo>
                      <a:pt x="426" y="301"/>
                    </a:lnTo>
                    <a:lnTo>
                      <a:pt x="431" y="951"/>
                    </a:lnTo>
                    <a:lnTo>
                      <a:pt x="432" y="1052"/>
                    </a:lnTo>
                    <a:lnTo>
                      <a:pt x="434" y="1140"/>
                    </a:lnTo>
                    <a:lnTo>
                      <a:pt x="435" y="1215"/>
                    </a:lnTo>
                    <a:lnTo>
                      <a:pt x="437" y="1279"/>
                    </a:lnTo>
                    <a:lnTo>
                      <a:pt x="438" y="1330"/>
                    </a:lnTo>
                    <a:lnTo>
                      <a:pt x="439" y="1368"/>
                    </a:lnTo>
                    <a:lnTo>
                      <a:pt x="442" y="1393"/>
                    </a:lnTo>
                    <a:lnTo>
                      <a:pt x="444" y="1407"/>
                    </a:lnTo>
                    <a:lnTo>
                      <a:pt x="446" y="1416"/>
                    </a:lnTo>
                    <a:lnTo>
                      <a:pt x="450" y="1426"/>
                    </a:lnTo>
                    <a:lnTo>
                      <a:pt x="456" y="1433"/>
                    </a:lnTo>
                    <a:lnTo>
                      <a:pt x="463" y="1441"/>
                    </a:lnTo>
                    <a:lnTo>
                      <a:pt x="470" y="1447"/>
                    </a:lnTo>
                    <a:lnTo>
                      <a:pt x="482" y="1452"/>
                    </a:lnTo>
                    <a:lnTo>
                      <a:pt x="498" y="1458"/>
                    </a:lnTo>
                    <a:lnTo>
                      <a:pt x="516" y="1464"/>
                    </a:lnTo>
                    <a:lnTo>
                      <a:pt x="538" y="1469"/>
                    </a:lnTo>
                    <a:lnTo>
                      <a:pt x="564" y="1476"/>
                    </a:lnTo>
                    <a:lnTo>
                      <a:pt x="594" y="1481"/>
                    </a:lnTo>
                    <a:lnTo>
                      <a:pt x="627" y="1487"/>
                    </a:lnTo>
                    <a:lnTo>
                      <a:pt x="636" y="1489"/>
                    </a:lnTo>
                    <a:lnTo>
                      <a:pt x="648" y="1491"/>
                    </a:lnTo>
                    <a:lnTo>
                      <a:pt x="661" y="1494"/>
                    </a:lnTo>
                    <a:lnTo>
                      <a:pt x="677" y="1497"/>
                    </a:lnTo>
                    <a:lnTo>
                      <a:pt x="677" y="1563"/>
                    </a:lnTo>
                    <a:lnTo>
                      <a:pt x="635" y="1560"/>
                    </a:lnTo>
                    <a:lnTo>
                      <a:pt x="595" y="1557"/>
                    </a:lnTo>
                    <a:lnTo>
                      <a:pt x="558" y="1555"/>
                    </a:lnTo>
                    <a:lnTo>
                      <a:pt x="521" y="1553"/>
                    </a:lnTo>
                    <a:lnTo>
                      <a:pt x="487" y="1552"/>
                    </a:lnTo>
                    <a:lnTo>
                      <a:pt x="453" y="1551"/>
                    </a:lnTo>
                    <a:lnTo>
                      <a:pt x="423" y="1550"/>
                    </a:lnTo>
                    <a:lnTo>
                      <a:pt x="393" y="1550"/>
                    </a:lnTo>
                    <a:lnTo>
                      <a:pt x="366" y="1550"/>
                    </a:lnTo>
                    <a:lnTo>
                      <a:pt x="335" y="1551"/>
                    </a:lnTo>
                    <a:lnTo>
                      <a:pt x="300" y="1552"/>
                    </a:lnTo>
                    <a:lnTo>
                      <a:pt x="259" y="1553"/>
                    </a:lnTo>
                    <a:lnTo>
                      <a:pt x="215" y="1555"/>
                    </a:lnTo>
                    <a:lnTo>
                      <a:pt x="166" y="1557"/>
                    </a:lnTo>
                    <a:lnTo>
                      <a:pt x="112" y="1560"/>
                    </a:lnTo>
                    <a:lnTo>
                      <a:pt x="55" y="1563"/>
                    </a:lnTo>
                    <a:lnTo>
                      <a:pt x="55" y="1497"/>
                    </a:lnTo>
                    <a:lnTo>
                      <a:pt x="73" y="1493"/>
                    </a:lnTo>
                    <a:lnTo>
                      <a:pt x="89" y="1490"/>
                    </a:lnTo>
                    <a:lnTo>
                      <a:pt x="102" y="1486"/>
                    </a:lnTo>
                    <a:lnTo>
                      <a:pt x="113" y="1484"/>
                    </a:lnTo>
                    <a:lnTo>
                      <a:pt x="144" y="1478"/>
                    </a:lnTo>
                    <a:lnTo>
                      <a:pt x="173" y="1473"/>
                    </a:lnTo>
                    <a:lnTo>
                      <a:pt x="196" y="1467"/>
                    </a:lnTo>
                    <a:lnTo>
                      <a:pt x="217" y="1462"/>
                    </a:lnTo>
                    <a:lnTo>
                      <a:pt x="235" y="1457"/>
                    </a:lnTo>
                    <a:lnTo>
                      <a:pt x="249" y="1451"/>
                    </a:lnTo>
                    <a:lnTo>
                      <a:pt x="259" y="1446"/>
                    </a:lnTo>
                    <a:lnTo>
                      <a:pt x="266" y="1441"/>
                    </a:lnTo>
                    <a:lnTo>
                      <a:pt x="272" y="1436"/>
                    </a:lnTo>
                    <a:lnTo>
                      <a:pt x="276" y="1428"/>
                    </a:lnTo>
                    <a:lnTo>
                      <a:pt x="281" y="1419"/>
                    </a:lnTo>
                    <a:lnTo>
                      <a:pt x="284" y="1407"/>
                    </a:lnTo>
                    <a:lnTo>
                      <a:pt x="286" y="1390"/>
                    </a:lnTo>
                    <a:lnTo>
                      <a:pt x="288" y="1363"/>
                    </a:lnTo>
                    <a:lnTo>
                      <a:pt x="291" y="1330"/>
                    </a:lnTo>
                    <a:lnTo>
                      <a:pt x="292" y="1286"/>
                    </a:lnTo>
                    <a:lnTo>
                      <a:pt x="294" y="1233"/>
                    </a:lnTo>
                    <a:lnTo>
                      <a:pt x="295" y="1173"/>
                    </a:lnTo>
                    <a:lnTo>
                      <a:pt x="296" y="1103"/>
                    </a:lnTo>
                    <a:lnTo>
                      <a:pt x="298" y="1024"/>
                    </a:lnTo>
                    <a:lnTo>
                      <a:pt x="300" y="912"/>
                    </a:lnTo>
                    <a:lnTo>
                      <a:pt x="301" y="812"/>
                    </a:lnTo>
                    <a:lnTo>
                      <a:pt x="302" y="724"/>
                    </a:lnTo>
                    <a:lnTo>
                      <a:pt x="302" y="649"/>
                    </a:lnTo>
                    <a:lnTo>
                      <a:pt x="303" y="586"/>
                    </a:lnTo>
                    <a:lnTo>
                      <a:pt x="303" y="534"/>
                    </a:lnTo>
                    <a:lnTo>
                      <a:pt x="304" y="493"/>
                    </a:lnTo>
                    <a:lnTo>
                      <a:pt x="304" y="466"/>
                    </a:lnTo>
                    <a:lnTo>
                      <a:pt x="304" y="401"/>
                    </a:lnTo>
                    <a:lnTo>
                      <a:pt x="303" y="344"/>
                    </a:lnTo>
                    <a:lnTo>
                      <a:pt x="303" y="293"/>
                    </a:lnTo>
                    <a:lnTo>
                      <a:pt x="302" y="252"/>
                    </a:lnTo>
                    <a:lnTo>
                      <a:pt x="301" y="217"/>
                    </a:lnTo>
                    <a:lnTo>
                      <a:pt x="299" y="190"/>
                    </a:lnTo>
                    <a:lnTo>
                      <a:pt x="298" y="170"/>
                    </a:lnTo>
                    <a:lnTo>
                      <a:pt x="295" y="160"/>
                    </a:lnTo>
                    <a:lnTo>
                      <a:pt x="294" y="154"/>
                    </a:lnTo>
                    <a:lnTo>
                      <a:pt x="292" y="149"/>
                    </a:lnTo>
                    <a:lnTo>
                      <a:pt x="289" y="144"/>
                    </a:lnTo>
                    <a:lnTo>
                      <a:pt x="286" y="138"/>
                    </a:lnTo>
                    <a:lnTo>
                      <a:pt x="283" y="134"/>
                    </a:lnTo>
                    <a:lnTo>
                      <a:pt x="277" y="130"/>
                    </a:lnTo>
                    <a:lnTo>
                      <a:pt x="273" y="126"/>
                    </a:lnTo>
                    <a:lnTo>
                      <a:pt x="267" y="123"/>
                    </a:lnTo>
                    <a:lnTo>
                      <a:pt x="258" y="118"/>
                    </a:lnTo>
                    <a:lnTo>
                      <a:pt x="245" y="114"/>
                    </a:lnTo>
                    <a:lnTo>
                      <a:pt x="227" y="109"/>
                    </a:lnTo>
                    <a:lnTo>
                      <a:pt x="203" y="103"/>
                    </a:lnTo>
                    <a:lnTo>
                      <a:pt x="175" y="97"/>
                    </a:lnTo>
                    <a:lnTo>
                      <a:pt x="141" y="91"/>
                    </a:lnTo>
                    <a:lnTo>
                      <a:pt x="103" y="84"/>
                    </a:lnTo>
                    <a:lnTo>
                      <a:pt x="59" y="77"/>
                    </a:lnTo>
                    <a:lnTo>
                      <a:pt x="48" y="75"/>
                    </a:lnTo>
                    <a:lnTo>
                      <a:pt x="34" y="72"/>
                    </a:lnTo>
                    <a:lnTo>
                      <a:pt x="18" y="69"/>
                    </a:lnTo>
                    <a:lnTo>
                      <a:pt x="0" y="64"/>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282" name="Freeform 80"/>
              <p:cNvSpPr/>
              <p:nvPr/>
            </p:nvSpPr>
            <p:spPr>
              <a:xfrm>
                <a:off x="5249160" y="772920"/>
                <a:ext cx="272520" cy="239760"/>
              </a:xfrm>
              <a:custGeom>
                <a:avLst/>
                <a:gdLst>
                  <a:gd name="textAreaLeft" fmla="*/ 0 w 272520"/>
                  <a:gd name="textAreaRight" fmla="*/ 272880 w 272520"/>
                  <a:gd name="textAreaTop" fmla="*/ 0 h 239760"/>
                  <a:gd name="textAreaBottom" fmla="*/ 240120 h 239760"/>
                </a:gdLst>
                <a:ahLst/>
                <a:rect l="textAreaLeft" t="textAreaTop" r="textAreaRight" b="textAreaBottom"/>
                <a:pathLst>
                  <a:path w="1708" h="1590">
                    <a:moveTo>
                      <a:pt x="816" y="0"/>
                    </a:moveTo>
                    <a:lnTo>
                      <a:pt x="886" y="0"/>
                    </a:lnTo>
                    <a:lnTo>
                      <a:pt x="905" y="48"/>
                    </a:lnTo>
                    <a:lnTo>
                      <a:pt x="924" y="98"/>
                    </a:lnTo>
                    <a:lnTo>
                      <a:pt x="945" y="147"/>
                    </a:lnTo>
                    <a:lnTo>
                      <a:pt x="965" y="197"/>
                    </a:lnTo>
                    <a:lnTo>
                      <a:pt x="986" y="249"/>
                    </a:lnTo>
                    <a:lnTo>
                      <a:pt x="1007" y="301"/>
                    </a:lnTo>
                    <a:lnTo>
                      <a:pt x="1029" y="354"/>
                    </a:lnTo>
                    <a:lnTo>
                      <a:pt x="1052" y="408"/>
                    </a:lnTo>
                    <a:lnTo>
                      <a:pt x="1075" y="462"/>
                    </a:lnTo>
                    <a:lnTo>
                      <a:pt x="1099" y="517"/>
                    </a:lnTo>
                    <a:lnTo>
                      <a:pt x="1123" y="573"/>
                    </a:lnTo>
                    <a:lnTo>
                      <a:pt x="1148" y="631"/>
                    </a:lnTo>
                    <a:lnTo>
                      <a:pt x="1173" y="689"/>
                    </a:lnTo>
                    <a:lnTo>
                      <a:pt x="1199" y="747"/>
                    </a:lnTo>
                    <a:lnTo>
                      <a:pt x="1225" y="807"/>
                    </a:lnTo>
                    <a:lnTo>
                      <a:pt x="1252" y="867"/>
                    </a:lnTo>
                    <a:lnTo>
                      <a:pt x="1508" y="1428"/>
                    </a:lnTo>
                    <a:lnTo>
                      <a:pt x="1518" y="1441"/>
                    </a:lnTo>
                    <a:lnTo>
                      <a:pt x="1527" y="1453"/>
                    </a:lnTo>
                    <a:lnTo>
                      <a:pt x="1537" y="1464"/>
                    </a:lnTo>
                    <a:lnTo>
                      <a:pt x="1547" y="1472"/>
                    </a:lnTo>
                    <a:lnTo>
                      <a:pt x="1553" y="1474"/>
                    </a:lnTo>
                    <a:lnTo>
                      <a:pt x="1562" y="1478"/>
                    </a:lnTo>
                    <a:lnTo>
                      <a:pt x="1576" y="1484"/>
                    </a:lnTo>
                    <a:lnTo>
                      <a:pt x="1594" y="1490"/>
                    </a:lnTo>
                    <a:lnTo>
                      <a:pt x="1616" y="1496"/>
                    </a:lnTo>
                    <a:lnTo>
                      <a:pt x="1643" y="1505"/>
                    </a:lnTo>
                    <a:lnTo>
                      <a:pt x="1673" y="1514"/>
                    </a:lnTo>
                    <a:lnTo>
                      <a:pt x="1708" y="1524"/>
                    </a:lnTo>
                    <a:lnTo>
                      <a:pt x="1708" y="1590"/>
                    </a:lnTo>
                    <a:lnTo>
                      <a:pt x="1660" y="1587"/>
                    </a:lnTo>
                    <a:lnTo>
                      <a:pt x="1615" y="1584"/>
                    </a:lnTo>
                    <a:lnTo>
                      <a:pt x="1573" y="1582"/>
                    </a:lnTo>
                    <a:lnTo>
                      <a:pt x="1535" y="1580"/>
                    </a:lnTo>
                    <a:lnTo>
                      <a:pt x="1500" y="1579"/>
                    </a:lnTo>
                    <a:lnTo>
                      <a:pt x="1468" y="1578"/>
                    </a:lnTo>
                    <a:lnTo>
                      <a:pt x="1439" y="1577"/>
                    </a:lnTo>
                    <a:lnTo>
                      <a:pt x="1414" y="1577"/>
                    </a:lnTo>
                    <a:lnTo>
                      <a:pt x="1387" y="1577"/>
                    </a:lnTo>
                    <a:lnTo>
                      <a:pt x="1357" y="1578"/>
                    </a:lnTo>
                    <a:lnTo>
                      <a:pt x="1322" y="1579"/>
                    </a:lnTo>
                    <a:lnTo>
                      <a:pt x="1282" y="1580"/>
                    </a:lnTo>
                    <a:lnTo>
                      <a:pt x="1239" y="1582"/>
                    </a:lnTo>
                    <a:lnTo>
                      <a:pt x="1191" y="1584"/>
                    </a:lnTo>
                    <a:lnTo>
                      <a:pt x="1140" y="1587"/>
                    </a:lnTo>
                    <a:lnTo>
                      <a:pt x="1083" y="1590"/>
                    </a:lnTo>
                    <a:lnTo>
                      <a:pt x="1083" y="1524"/>
                    </a:lnTo>
                    <a:lnTo>
                      <a:pt x="1143" y="1511"/>
                    </a:lnTo>
                    <a:lnTo>
                      <a:pt x="1188" y="1500"/>
                    </a:lnTo>
                    <a:lnTo>
                      <a:pt x="1206" y="1494"/>
                    </a:lnTo>
                    <a:lnTo>
                      <a:pt x="1220" y="1489"/>
                    </a:lnTo>
                    <a:lnTo>
                      <a:pt x="1231" y="1485"/>
                    </a:lnTo>
                    <a:lnTo>
                      <a:pt x="1238" y="1481"/>
                    </a:lnTo>
                    <a:lnTo>
                      <a:pt x="1243" y="1476"/>
                    </a:lnTo>
                    <a:lnTo>
                      <a:pt x="1248" y="1472"/>
                    </a:lnTo>
                    <a:lnTo>
                      <a:pt x="1252" y="1467"/>
                    </a:lnTo>
                    <a:lnTo>
                      <a:pt x="1255" y="1463"/>
                    </a:lnTo>
                    <a:lnTo>
                      <a:pt x="1257" y="1457"/>
                    </a:lnTo>
                    <a:lnTo>
                      <a:pt x="1259" y="1453"/>
                    </a:lnTo>
                    <a:lnTo>
                      <a:pt x="1260" y="1448"/>
                    </a:lnTo>
                    <a:lnTo>
                      <a:pt x="1260" y="1441"/>
                    </a:lnTo>
                    <a:lnTo>
                      <a:pt x="1260" y="1436"/>
                    </a:lnTo>
                    <a:lnTo>
                      <a:pt x="1259" y="1429"/>
                    </a:lnTo>
                    <a:lnTo>
                      <a:pt x="1257" y="1420"/>
                    </a:lnTo>
                    <a:lnTo>
                      <a:pt x="1255" y="1411"/>
                    </a:lnTo>
                    <a:lnTo>
                      <a:pt x="1248" y="1389"/>
                    </a:lnTo>
                    <a:lnTo>
                      <a:pt x="1237" y="1364"/>
                    </a:lnTo>
                    <a:lnTo>
                      <a:pt x="1127" y="1095"/>
                    </a:lnTo>
                    <a:lnTo>
                      <a:pt x="1071" y="1095"/>
                    </a:lnTo>
                    <a:lnTo>
                      <a:pt x="1018" y="1094"/>
                    </a:lnTo>
                    <a:lnTo>
                      <a:pt x="969" y="1094"/>
                    </a:lnTo>
                    <a:lnTo>
                      <a:pt x="924" y="1093"/>
                    </a:lnTo>
                    <a:lnTo>
                      <a:pt x="884" y="1093"/>
                    </a:lnTo>
                    <a:lnTo>
                      <a:pt x="847" y="1093"/>
                    </a:lnTo>
                    <a:lnTo>
                      <a:pt x="814" y="1093"/>
                    </a:lnTo>
                    <a:lnTo>
                      <a:pt x="786" y="1093"/>
                    </a:lnTo>
                    <a:lnTo>
                      <a:pt x="484" y="1095"/>
                    </a:lnTo>
                    <a:lnTo>
                      <a:pt x="368" y="1374"/>
                    </a:lnTo>
                    <a:lnTo>
                      <a:pt x="357" y="1404"/>
                    </a:lnTo>
                    <a:lnTo>
                      <a:pt x="347" y="1428"/>
                    </a:lnTo>
                    <a:lnTo>
                      <a:pt x="342" y="1446"/>
                    </a:lnTo>
                    <a:lnTo>
                      <a:pt x="340" y="1457"/>
                    </a:lnTo>
                    <a:lnTo>
                      <a:pt x="341" y="1464"/>
                    </a:lnTo>
                    <a:lnTo>
                      <a:pt x="344" y="1470"/>
                    </a:lnTo>
                    <a:lnTo>
                      <a:pt x="348" y="1476"/>
                    </a:lnTo>
                    <a:lnTo>
                      <a:pt x="354" y="1481"/>
                    </a:lnTo>
                    <a:lnTo>
                      <a:pt x="359" y="1484"/>
                    </a:lnTo>
                    <a:lnTo>
                      <a:pt x="367" y="1487"/>
                    </a:lnTo>
                    <a:lnTo>
                      <a:pt x="378" y="1490"/>
                    </a:lnTo>
                    <a:lnTo>
                      <a:pt x="393" y="1494"/>
                    </a:lnTo>
                    <a:lnTo>
                      <a:pt x="431" y="1503"/>
                    </a:lnTo>
                    <a:lnTo>
                      <a:pt x="483" y="1514"/>
                    </a:lnTo>
                    <a:lnTo>
                      <a:pt x="489" y="1517"/>
                    </a:lnTo>
                    <a:lnTo>
                      <a:pt x="497" y="1519"/>
                    </a:lnTo>
                    <a:lnTo>
                      <a:pt x="506" y="1521"/>
                    </a:lnTo>
                    <a:lnTo>
                      <a:pt x="516" y="1524"/>
                    </a:lnTo>
                    <a:lnTo>
                      <a:pt x="516" y="1590"/>
                    </a:lnTo>
                    <a:lnTo>
                      <a:pt x="471" y="1587"/>
                    </a:lnTo>
                    <a:lnTo>
                      <a:pt x="429" y="1584"/>
                    </a:lnTo>
                    <a:lnTo>
                      <a:pt x="391" y="1582"/>
                    </a:lnTo>
                    <a:lnTo>
                      <a:pt x="356" y="1580"/>
                    </a:lnTo>
                    <a:lnTo>
                      <a:pt x="324" y="1579"/>
                    </a:lnTo>
                    <a:lnTo>
                      <a:pt x="296" y="1578"/>
                    </a:lnTo>
                    <a:lnTo>
                      <a:pt x="272" y="1577"/>
                    </a:lnTo>
                    <a:lnTo>
                      <a:pt x="251" y="1577"/>
                    </a:lnTo>
                    <a:lnTo>
                      <a:pt x="225" y="1577"/>
                    </a:lnTo>
                    <a:lnTo>
                      <a:pt x="199" y="1578"/>
                    </a:lnTo>
                    <a:lnTo>
                      <a:pt x="169" y="1579"/>
                    </a:lnTo>
                    <a:lnTo>
                      <a:pt x="140" y="1580"/>
                    </a:lnTo>
                    <a:lnTo>
                      <a:pt x="107" y="1582"/>
                    </a:lnTo>
                    <a:lnTo>
                      <a:pt x="73" y="1584"/>
                    </a:lnTo>
                    <a:lnTo>
                      <a:pt x="37" y="1587"/>
                    </a:lnTo>
                    <a:lnTo>
                      <a:pt x="0" y="1590"/>
                    </a:lnTo>
                    <a:lnTo>
                      <a:pt x="0" y="1524"/>
                    </a:lnTo>
                    <a:lnTo>
                      <a:pt x="24" y="1519"/>
                    </a:lnTo>
                    <a:lnTo>
                      <a:pt x="46" y="1512"/>
                    </a:lnTo>
                    <a:lnTo>
                      <a:pt x="67" y="1507"/>
                    </a:lnTo>
                    <a:lnTo>
                      <a:pt x="85" y="1501"/>
                    </a:lnTo>
                    <a:lnTo>
                      <a:pt x="100" y="1494"/>
                    </a:lnTo>
                    <a:lnTo>
                      <a:pt x="115" y="1488"/>
                    </a:lnTo>
                    <a:lnTo>
                      <a:pt x="127" y="1482"/>
                    </a:lnTo>
                    <a:lnTo>
                      <a:pt x="138" y="1475"/>
                    </a:lnTo>
                    <a:lnTo>
                      <a:pt x="145" y="1469"/>
                    </a:lnTo>
                    <a:lnTo>
                      <a:pt x="151" y="1463"/>
                    </a:lnTo>
                    <a:lnTo>
                      <a:pt x="159" y="1455"/>
                    </a:lnTo>
                    <a:lnTo>
                      <a:pt x="166" y="1447"/>
                    </a:lnTo>
                    <a:lnTo>
                      <a:pt x="180" y="1428"/>
                    </a:lnTo>
                    <a:lnTo>
                      <a:pt x="195" y="1404"/>
                    </a:lnTo>
                    <a:lnTo>
                      <a:pt x="214" y="1369"/>
                    </a:lnTo>
                    <a:lnTo>
                      <a:pt x="238" y="1319"/>
                    </a:lnTo>
                    <a:lnTo>
                      <a:pt x="269" y="1255"/>
                    </a:lnTo>
                    <a:lnTo>
                      <a:pt x="306" y="1174"/>
                    </a:lnTo>
                    <a:lnTo>
                      <a:pt x="349" y="1079"/>
                    </a:lnTo>
                    <a:lnTo>
                      <a:pt x="398" y="969"/>
                    </a:lnTo>
                    <a:lnTo>
                      <a:pt x="453" y="844"/>
                    </a:lnTo>
                    <a:lnTo>
                      <a:pt x="515" y="703"/>
                    </a:lnTo>
                    <a:lnTo>
                      <a:pt x="816" y="0"/>
                    </a:lnTo>
                    <a:close/>
                    <a:moveTo>
                      <a:pt x="526" y="985"/>
                    </a:moveTo>
                    <a:lnTo>
                      <a:pt x="563" y="986"/>
                    </a:lnTo>
                    <a:lnTo>
                      <a:pt x="597" y="987"/>
                    </a:lnTo>
                    <a:lnTo>
                      <a:pt x="629" y="988"/>
                    </a:lnTo>
                    <a:lnTo>
                      <a:pt x="658" y="988"/>
                    </a:lnTo>
                    <a:lnTo>
                      <a:pt x="684" y="989"/>
                    </a:lnTo>
                    <a:lnTo>
                      <a:pt x="707" y="989"/>
                    </a:lnTo>
                    <a:lnTo>
                      <a:pt x="727" y="989"/>
                    </a:lnTo>
                    <a:lnTo>
                      <a:pt x="745" y="989"/>
                    </a:lnTo>
                    <a:lnTo>
                      <a:pt x="755" y="989"/>
                    </a:lnTo>
                    <a:lnTo>
                      <a:pt x="774" y="989"/>
                    </a:lnTo>
                    <a:lnTo>
                      <a:pt x="802" y="989"/>
                    </a:lnTo>
                    <a:lnTo>
                      <a:pt x="840" y="988"/>
                    </a:lnTo>
                    <a:lnTo>
                      <a:pt x="886" y="988"/>
                    </a:lnTo>
                    <a:lnTo>
                      <a:pt x="942" y="987"/>
                    </a:lnTo>
                    <a:lnTo>
                      <a:pt x="1008" y="986"/>
                    </a:lnTo>
                    <a:lnTo>
                      <a:pt x="1083" y="985"/>
                    </a:lnTo>
                    <a:lnTo>
                      <a:pt x="805" y="323"/>
                    </a:lnTo>
                    <a:lnTo>
                      <a:pt x="526" y="985"/>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283" name="Freeform 81"/>
              <p:cNvSpPr/>
              <p:nvPr/>
            </p:nvSpPr>
            <p:spPr>
              <a:xfrm>
                <a:off x="5552280" y="77184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726" h="1629">
                    <a:moveTo>
                      <a:pt x="1726" y="790"/>
                    </a:moveTo>
                    <a:lnTo>
                      <a:pt x="1726" y="851"/>
                    </a:lnTo>
                    <a:lnTo>
                      <a:pt x="1558" y="891"/>
                    </a:lnTo>
                    <a:lnTo>
                      <a:pt x="1545" y="895"/>
                    </a:lnTo>
                    <a:lnTo>
                      <a:pt x="1534" y="899"/>
                    </a:lnTo>
                    <a:lnTo>
                      <a:pt x="1526" y="905"/>
                    </a:lnTo>
                    <a:lnTo>
                      <a:pt x="1519" y="911"/>
                    </a:lnTo>
                    <a:lnTo>
                      <a:pt x="1513" y="917"/>
                    </a:lnTo>
                    <a:lnTo>
                      <a:pt x="1509" y="926"/>
                    </a:lnTo>
                    <a:lnTo>
                      <a:pt x="1505" y="937"/>
                    </a:lnTo>
                    <a:lnTo>
                      <a:pt x="1503" y="948"/>
                    </a:lnTo>
                    <a:lnTo>
                      <a:pt x="1501" y="962"/>
                    </a:lnTo>
                    <a:lnTo>
                      <a:pt x="1498" y="982"/>
                    </a:lnTo>
                    <a:lnTo>
                      <a:pt x="1497" y="1005"/>
                    </a:lnTo>
                    <a:lnTo>
                      <a:pt x="1495" y="1034"/>
                    </a:lnTo>
                    <a:lnTo>
                      <a:pt x="1494" y="1068"/>
                    </a:lnTo>
                    <a:lnTo>
                      <a:pt x="1494" y="1106"/>
                    </a:lnTo>
                    <a:lnTo>
                      <a:pt x="1493" y="1149"/>
                    </a:lnTo>
                    <a:lnTo>
                      <a:pt x="1493" y="1195"/>
                    </a:lnTo>
                    <a:lnTo>
                      <a:pt x="1493" y="1227"/>
                    </a:lnTo>
                    <a:lnTo>
                      <a:pt x="1494" y="1261"/>
                    </a:lnTo>
                    <a:lnTo>
                      <a:pt x="1494" y="1297"/>
                    </a:lnTo>
                    <a:lnTo>
                      <a:pt x="1495" y="1336"/>
                    </a:lnTo>
                    <a:lnTo>
                      <a:pt x="1497" y="1377"/>
                    </a:lnTo>
                    <a:lnTo>
                      <a:pt x="1498" y="1422"/>
                    </a:lnTo>
                    <a:lnTo>
                      <a:pt x="1501" y="1469"/>
                    </a:lnTo>
                    <a:lnTo>
                      <a:pt x="1503" y="1518"/>
                    </a:lnTo>
                    <a:lnTo>
                      <a:pt x="1489" y="1520"/>
                    </a:lnTo>
                    <a:lnTo>
                      <a:pt x="1471" y="1524"/>
                    </a:lnTo>
                    <a:lnTo>
                      <a:pt x="1451" y="1528"/>
                    </a:lnTo>
                    <a:lnTo>
                      <a:pt x="1426" y="1533"/>
                    </a:lnTo>
                    <a:lnTo>
                      <a:pt x="1398" y="1540"/>
                    </a:lnTo>
                    <a:lnTo>
                      <a:pt x="1367" y="1546"/>
                    </a:lnTo>
                    <a:lnTo>
                      <a:pt x="1332" y="1553"/>
                    </a:lnTo>
                    <a:lnTo>
                      <a:pt x="1294" y="1562"/>
                    </a:lnTo>
                    <a:lnTo>
                      <a:pt x="1244" y="1573"/>
                    </a:lnTo>
                    <a:lnTo>
                      <a:pt x="1200" y="1583"/>
                    </a:lnTo>
                    <a:lnTo>
                      <a:pt x="1160" y="1591"/>
                    </a:lnTo>
                    <a:lnTo>
                      <a:pt x="1124" y="1599"/>
                    </a:lnTo>
                    <a:lnTo>
                      <a:pt x="1093" y="1604"/>
                    </a:lnTo>
                    <a:lnTo>
                      <a:pt x="1067" y="1609"/>
                    </a:lnTo>
                    <a:lnTo>
                      <a:pt x="1046" y="1613"/>
                    </a:lnTo>
                    <a:lnTo>
                      <a:pt x="1030" y="1615"/>
                    </a:lnTo>
                    <a:lnTo>
                      <a:pt x="1003" y="1618"/>
                    </a:lnTo>
                    <a:lnTo>
                      <a:pt x="976" y="1621"/>
                    </a:lnTo>
                    <a:lnTo>
                      <a:pt x="948" y="1623"/>
                    </a:lnTo>
                    <a:lnTo>
                      <a:pt x="920" y="1625"/>
                    </a:lnTo>
                    <a:lnTo>
                      <a:pt x="892" y="1626"/>
                    </a:lnTo>
                    <a:lnTo>
                      <a:pt x="862" y="1627"/>
                    </a:lnTo>
                    <a:lnTo>
                      <a:pt x="833" y="1629"/>
                    </a:lnTo>
                    <a:lnTo>
                      <a:pt x="804" y="1629"/>
                    </a:lnTo>
                    <a:lnTo>
                      <a:pt x="755" y="1627"/>
                    </a:lnTo>
                    <a:lnTo>
                      <a:pt x="709" y="1625"/>
                    </a:lnTo>
                    <a:lnTo>
                      <a:pt x="664" y="1621"/>
                    </a:lnTo>
                    <a:lnTo>
                      <a:pt x="620" y="1616"/>
                    </a:lnTo>
                    <a:lnTo>
                      <a:pt x="579" y="1608"/>
                    </a:lnTo>
                    <a:lnTo>
                      <a:pt x="538" y="1600"/>
                    </a:lnTo>
                    <a:lnTo>
                      <a:pt x="499" y="1589"/>
                    </a:lnTo>
                    <a:lnTo>
                      <a:pt x="460" y="1577"/>
                    </a:lnTo>
                    <a:lnTo>
                      <a:pt x="424" y="1563"/>
                    </a:lnTo>
                    <a:lnTo>
                      <a:pt x="389" y="1548"/>
                    </a:lnTo>
                    <a:lnTo>
                      <a:pt x="356" y="1531"/>
                    </a:lnTo>
                    <a:lnTo>
                      <a:pt x="323" y="1513"/>
                    </a:lnTo>
                    <a:lnTo>
                      <a:pt x="307" y="1504"/>
                    </a:lnTo>
                    <a:lnTo>
                      <a:pt x="292" y="1493"/>
                    </a:lnTo>
                    <a:lnTo>
                      <a:pt x="277" y="1482"/>
                    </a:lnTo>
                    <a:lnTo>
                      <a:pt x="262" y="1471"/>
                    </a:lnTo>
                    <a:lnTo>
                      <a:pt x="249" y="1460"/>
                    </a:lnTo>
                    <a:lnTo>
                      <a:pt x="234" y="1448"/>
                    </a:lnTo>
                    <a:lnTo>
                      <a:pt x="221" y="1436"/>
                    </a:lnTo>
                    <a:lnTo>
                      <a:pt x="207" y="1423"/>
                    </a:lnTo>
                    <a:lnTo>
                      <a:pt x="182" y="1396"/>
                    </a:lnTo>
                    <a:lnTo>
                      <a:pt x="159" y="1369"/>
                    </a:lnTo>
                    <a:lnTo>
                      <a:pt x="137" y="1340"/>
                    </a:lnTo>
                    <a:lnTo>
                      <a:pt x="116" y="1311"/>
                    </a:lnTo>
                    <a:lnTo>
                      <a:pt x="98" y="1280"/>
                    </a:lnTo>
                    <a:lnTo>
                      <a:pt x="81" y="1248"/>
                    </a:lnTo>
                    <a:lnTo>
                      <a:pt x="65" y="1214"/>
                    </a:lnTo>
                    <a:lnTo>
                      <a:pt x="52" y="1180"/>
                    </a:lnTo>
                    <a:lnTo>
                      <a:pt x="40" y="1144"/>
                    </a:lnTo>
                    <a:lnTo>
                      <a:pt x="29" y="1108"/>
                    </a:lnTo>
                    <a:lnTo>
                      <a:pt x="20" y="1070"/>
                    </a:lnTo>
                    <a:lnTo>
                      <a:pt x="12" y="1031"/>
                    </a:lnTo>
                    <a:lnTo>
                      <a:pt x="7" y="991"/>
                    </a:lnTo>
                    <a:lnTo>
                      <a:pt x="3" y="949"/>
                    </a:lnTo>
                    <a:lnTo>
                      <a:pt x="1" y="907"/>
                    </a:lnTo>
                    <a:lnTo>
                      <a:pt x="0" y="862"/>
                    </a:lnTo>
                    <a:lnTo>
                      <a:pt x="1" y="816"/>
                    </a:lnTo>
                    <a:lnTo>
                      <a:pt x="4" y="769"/>
                    </a:lnTo>
                    <a:lnTo>
                      <a:pt x="8" y="724"/>
                    </a:lnTo>
                    <a:lnTo>
                      <a:pt x="15" y="680"/>
                    </a:lnTo>
                    <a:lnTo>
                      <a:pt x="19" y="658"/>
                    </a:lnTo>
                    <a:lnTo>
                      <a:pt x="23" y="637"/>
                    </a:lnTo>
                    <a:lnTo>
                      <a:pt x="28" y="615"/>
                    </a:lnTo>
                    <a:lnTo>
                      <a:pt x="34" y="595"/>
                    </a:lnTo>
                    <a:lnTo>
                      <a:pt x="40" y="574"/>
                    </a:lnTo>
                    <a:lnTo>
                      <a:pt x="46" y="554"/>
                    </a:lnTo>
                    <a:lnTo>
                      <a:pt x="54" y="534"/>
                    </a:lnTo>
                    <a:lnTo>
                      <a:pt x="61" y="515"/>
                    </a:lnTo>
                    <a:lnTo>
                      <a:pt x="69" y="496"/>
                    </a:lnTo>
                    <a:lnTo>
                      <a:pt x="77" y="477"/>
                    </a:lnTo>
                    <a:lnTo>
                      <a:pt x="86" y="458"/>
                    </a:lnTo>
                    <a:lnTo>
                      <a:pt x="95" y="438"/>
                    </a:lnTo>
                    <a:lnTo>
                      <a:pt x="105" y="420"/>
                    </a:lnTo>
                    <a:lnTo>
                      <a:pt x="115" y="402"/>
                    </a:lnTo>
                    <a:lnTo>
                      <a:pt x="126" y="386"/>
                    </a:lnTo>
                    <a:lnTo>
                      <a:pt x="137" y="367"/>
                    </a:lnTo>
                    <a:lnTo>
                      <a:pt x="149" y="351"/>
                    </a:lnTo>
                    <a:lnTo>
                      <a:pt x="161" y="334"/>
                    </a:lnTo>
                    <a:lnTo>
                      <a:pt x="173" y="318"/>
                    </a:lnTo>
                    <a:lnTo>
                      <a:pt x="186" y="301"/>
                    </a:lnTo>
                    <a:lnTo>
                      <a:pt x="200" y="285"/>
                    </a:lnTo>
                    <a:lnTo>
                      <a:pt x="214" y="269"/>
                    </a:lnTo>
                    <a:lnTo>
                      <a:pt x="228" y="254"/>
                    </a:lnTo>
                    <a:lnTo>
                      <a:pt x="243" y="239"/>
                    </a:lnTo>
                    <a:lnTo>
                      <a:pt x="259" y="224"/>
                    </a:lnTo>
                    <a:lnTo>
                      <a:pt x="275" y="210"/>
                    </a:lnTo>
                    <a:lnTo>
                      <a:pt x="291" y="196"/>
                    </a:lnTo>
                    <a:lnTo>
                      <a:pt x="307" y="183"/>
                    </a:lnTo>
                    <a:lnTo>
                      <a:pt x="324" y="170"/>
                    </a:lnTo>
                    <a:lnTo>
                      <a:pt x="341" y="158"/>
                    </a:lnTo>
                    <a:lnTo>
                      <a:pt x="358" y="146"/>
                    </a:lnTo>
                    <a:lnTo>
                      <a:pt x="376" y="134"/>
                    </a:lnTo>
                    <a:lnTo>
                      <a:pt x="394" y="123"/>
                    </a:lnTo>
                    <a:lnTo>
                      <a:pt x="412" y="113"/>
                    </a:lnTo>
                    <a:lnTo>
                      <a:pt x="430" y="103"/>
                    </a:lnTo>
                    <a:lnTo>
                      <a:pt x="449" y="93"/>
                    </a:lnTo>
                    <a:lnTo>
                      <a:pt x="468" y="83"/>
                    </a:lnTo>
                    <a:lnTo>
                      <a:pt x="488" y="75"/>
                    </a:lnTo>
                    <a:lnTo>
                      <a:pt x="507" y="68"/>
                    </a:lnTo>
                    <a:lnTo>
                      <a:pt x="527" y="59"/>
                    </a:lnTo>
                    <a:lnTo>
                      <a:pt x="548" y="52"/>
                    </a:lnTo>
                    <a:lnTo>
                      <a:pt x="568" y="45"/>
                    </a:lnTo>
                    <a:lnTo>
                      <a:pt x="590" y="39"/>
                    </a:lnTo>
                    <a:lnTo>
                      <a:pt x="611" y="33"/>
                    </a:lnTo>
                    <a:lnTo>
                      <a:pt x="655" y="23"/>
                    </a:lnTo>
                    <a:lnTo>
                      <a:pt x="700" y="15"/>
                    </a:lnTo>
                    <a:lnTo>
                      <a:pt x="746" y="8"/>
                    </a:lnTo>
                    <a:lnTo>
                      <a:pt x="794" y="3"/>
                    </a:lnTo>
                    <a:lnTo>
                      <a:pt x="843" y="1"/>
                    </a:lnTo>
                    <a:lnTo>
                      <a:pt x="893" y="0"/>
                    </a:lnTo>
                    <a:lnTo>
                      <a:pt x="918" y="0"/>
                    </a:lnTo>
                    <a:lnTo>
                      <a:pt x="942" y="0"/>
                    </a:lnTo>
                    <a:lnTo>
                      <a:pt x="967" y="1"/>
                    </a:lnTo>
                    <a:lnTo>
                      <a:pt x="991" y="3"/>
                    </a:lnTo>
                    <a:lnTo>
                      <a:pt x="1015" y="4"/>
                    </a:lnTo>
                    <a:lnTo>
                      <a:pt x="1040" y="6"/>
                    </a:lnTo>
                    <a:lnTo>
                      <a:pt x="1063" y="8"/>
                    </a:lnTo>
                    <a:lnTo>
                      <a:pt x="1086" y="11"/>
                    </a:lnTo>
                    <a:lnTo>
                      <a:pt x="1097" y="12"/>
                    </a:lnTo>
                    <a:lnTo>
                      <a:pt x="1117" y="17"/>
                    </a:lnTo>
                    <a:lnTo>
                      <a:pt x="1149" y="22"/>
                    </a:lnTo>
                    <a:lnTo>
                      <a:pt x="1190" y="29"/>
                    </a:lnTo>
                    <a:lnTo>
                      <a:pt x="1243" y="39"/>
                    </a:lnTo>
                    <a:lnTo>
                      <a:pt x="1306" y="51"/>
                    </a:lnTo>
                    <a:lnTo>
                      <a:pt x="1379" y="63"/>
                    </a:lnTo>
                    <a:lnTo>
                      <a:pt x="1462" y="78"/>
                    </a:lnTo>
                    <a:lnTo>
                      <a:pt x="1462" y="108"/>
                    </a:lnTo>
                    <a:lnTo>
                      <a:pt x="1461" y="133"/>
                    </a:lnTo>
                    <a:lnTo>
                      <a:pt x="1461" y="156"/>
                    </a:lnTo>
                    <a:lnTo>
                      <a:pt x="1461" y="176"/>
                    </a:lnTo>
                    <a:lnTo>
                      <a:pt x="1461" y="213"/>
                    </a:lnTo>
                    <a:lnTo>
                      <a:pt x="1462" y="252"/>
                    </a:lnTo>
                    <a:lnTo>
                      <a:pt x="1464" y="292"/>
                    </a:lnTo>
                    <a:lnTo>
                      <a:pt x="1465" y="333"/>
                    </a:lnTo>
                    <a:lnTo>
                      <a:pt x="1467" y="375"/>
                    </a:lnTo>
                    <a:lnTo>
                      <a:pt x="1470" y="418"/>
                    </a:lnTo>
                    <a:lnTo>
                      <a:pt x="1472" y="464"/>
                    </a:lnTo>
                    <a:lnTo>
                      <a:pt x="1476" y="509"/>
                    </a:lnTo>
                    <a:lnTo>
                      <a:pt x="1394" y="509"/>
                    </a:lnTo>
                    <a:lnTo>
                      <a:pt x="1381" y="464"/>
                    </a:lnTo>
                    <a:lnTo>
                      <a:pt x="1368" y="424"/>
                    </a:lnTo>
                    <a:lnTo>
                      <a:pt x="1357" y="387"/>
                    </a:lnTo>
                    <a:lnTo>
                      <a:pt x="1344" y="354"/>
                    </a:lnTo>
                    <a:lnTo>
                      <a:pt x="1332" y="324"/>
                    </a:lnTo>
                    <a:lnTo>
                      <a:pt x="1321" y="300"/>
                    </a:lnTo>
                    <a:lnTo>
                      <a:pt x="1309" y="278"/>
                    </a:lnTo>
                    <a:lnTo>
                      <a:pt x="1298" y="262"/>
                    </a:lnTo>
                    <a:lnTo>
                      <a:pt x="1286" y="247"/>
                    </a:lnTo>
                    <a:lnTo>
                      <a:pt x="1272" y="233"/>
                    </a:lnTo>
                    <a:lnTo>
                      <a:pt x="1257" y="220"/>
                    </a:lnTo>
                    <a:lnTo>
                      <a:pt x="1240" y="207"/>
                    </a:lnTo>
                    <a:lnTo>
                      <a:pt x="1221" y="196"/>
                    </a:lnTo>
                    <a:lnTo>
                      <a:pt x="1200" y="185"/>
                    </a:lnTo>
                    <a:lnTo>
                      <a:pt x="1178" y="175"/>
                    </a:lnTo>
                    <a:lnTo>
                      <a:pt x="1153" y="165"/>
                    </a:lnTo>
                    <a:lnTo>
                      <a:pt x="1120" y="152"/>
                    </a:lnTo>
                    <a:lnTo>
                      <a:pt x="1086" y="143"/>
                    </a:lnTo>
                    <a:lnTo>
                      <a:pt x="1051" y="134"/>
                    </a:lnTo>
                    <a:lnTo>
                      <a:pt x="1015" y="127"/>
                    </a:lnTo>
                    <a:lnTo>
                      <a:pt x="979" y="122"/>
                    </a:lnTo>
                    <a:lnTo>
                      <a:pt x="942" y="117"/>
                    </a:lnTo>
                    <a:lnTo>
                      <a:pt x="905" y="115"/>
                    </a:lnTo>
                    <a:lnTo>
                      <a:pt x="867" y="114"/>
                    </a:lnTo>
                    <a:lnTo>
                      <a:pt x="825" y="115"/>
                    </a:lnTo>
                    <a:lnTo>
                      <a:pt x="785" y="118"/>
                    </a:lnTo>
                    <a:lnTo>
                      <a:pt x="764" y="121"/>
                    </a:lnTo>
                    <a:lnTo>
                      <a:pt x="745" y="123"/>
                    </a:lnTo>
                    <a:lnTo>
                      <a:pt x="726" y="126"/>
                    </a:lnTo>
                    <a:lnTo>
                      <a:pt x="707" y="130"/>
                    </a:lnTo>
                    <a:lnTo>
                      <a:pt x="688" y="134"/>
                    </a:lnTo>
                    <a:lnTo>
                      <a:pt x="670" y="140"/>
                    </a:lnTo>
                    <a:lnTo>
                      <a:pt x="652" y="145"/>
                    </a:lnTo>
                    <a:lnTo>
                      <a:pt x="635" y="150"/>
                    </a:lnTo>
                    <a:lnTo>
                      <a:pt x="618" y="157"/>
                    </a:lnTo>
                    <a:lnTo>
                      <a:pt x="601" y="163"/>
                    </a:lnTo>
                    <a:lnTo>
                      <a:pt x="584" y="170"/>
                    </a:lnTo>
                    <a:lnTo>
                      <a:pt x="568" y="179"/>
                    </a:lnTo>
                    <a:lnTo>
                      <a:pt x="553" y="186"/>
                    </a:lnTo>
                    <a:lnTo>
                      <a:pt x="537" y="196"/>
                    </a:lnTo>
                    <a:lnTo>
                      <a:pt x="522" y="204"/>
                    </a:lnTo>
                    <a:lnTo>
                      <a:pt x="507" y="215"/>
                    </a:lnTo>
                    <a:lnTo>
                      <a:pt x="492" y="224"/>
                    </a:lnTo>
                    <a:lnTo>
                      <a:pt x="478" y="236"/>
                    </a:lnTo>
                    <a:lnTo>
                      <a:pt x="464" y="247"/>
                    </a:lnTo>
                    <a:lnTo>
                      <a:pt x="451" y="258"/>
                    </a:lnTo>
                    <a:lnTo>
                      <a:pt x="437" y="271"/>
                    </a:lnTo>
                    <a:lnTo>
                      <a:pt x="424" y="284"/>
                    </a:lnTo>
                    <a:lnTo>
                      <a:pt x="412" y="298"/>
                    </a:lnTo>
                    <a:lnTo>
                      <a:pt x="400" y="311"/>
                    </a:lnTo>
                    <a:lnTo>
                      <a:pt x="387" y="325"/>
                    </a:lnTo>
                    <a:lnTo>
                      <a:pt x="377" y="340"/>
                    </a:lnTo>
                    <a:lnTo>
                      <a:pt x="365" y="356"/>
                    </a:lnTo>
                    <a:lnTo>
                      <a:pt x="355" y="372"/>
                    </a:lnTo>
                    <a:lnTo>
                      <a:pt x="340" y="395"/>
                    </a:lnTo>
                    <a:lnTo>
                      <a:pt x="326" y="418"/>
                    </a:lnTo>
                    <a:lnTo>
                      <a:pt x="313" y="443"/>
                    </a:lnTo>
                    <a:lnTo>
                      <a:pt x="302" y="468"/>
                    </a:lnTo>
                    <a:lnTo>
                      <a:pt x="291" y="494"/>
                    </a:lnTo>
                    <a:lnTo>
                      <a:pt x="281" y="520"/>
                    </a:lnTo>
                    <a:lnTo>
                      <a:pt x="272" y="547"/>
                    </a:lnTo>
                    <a:lnTo>
                      <a:pt x="265" y="574"/>
                    </a:lnTo>
                    <a:lnTo>
                      <a:pt x="257" y="603"/>
                    </a:lnTo>
                    <a:lnTo>
                      <a:pt x="251" y="631"/>
                    </a:lnTo>
                    <a:lnTo>
                      <a:pt x="245" y="661"/>
                    </a:lnTo>
                    <a:lnTo>
                      <a:pt x="241" y="692"/>
                    </a:lnTo>
                    <a:lnTo>
                      <a:pt x="238" y="723"/>
                    </a:lnTo>
                    <a:lnTo>
                      <a:pt x="236" y="754"/>
                    </a:lnTo>
                    <a:lnTo>
                      <a:pt x="235" y="786"/>
                    </a:lnTo>
                    <a:lnTo>
                      <a:pt x="234" y="819"/>
                    </a:lnTo>
                    <a:lnTo>
                      <a:pt x="235" y="860"/>
                    </a:lnTo>
                    <a:lnTo>
                      <a:pt x="237" y="902"/>
                    </a:lnTo>
                    <a:lnTo>
                      <a:pt x="241" y="941"/>
                    </a:lnTo>
                    <a:lnTo>
                      <a:pt x="246" y="978"/>
                    </a:lnTo>
                    <a:lnTo>
                      <a:pt x="253" y="1015"/>
                    </a:lnTo>
                    <a:lnTo>
                      <a:pt x="261" y="1050"/>
                    </a:lnTo>
                    <a:lnTo>
                      <a:pt x="271" y="1084"/>
                    </a:lnTo>
                    <a:lnTo>
                      <a:pt x="281" y="1117"/>
                    </a:lnTo>
                    <a:lnTo>
                      <a:pt x="294" y="1149"/>
                    </a:lnTo>
                    <a:lnTo>
                      <a:pt x="308" y="1178"/>
                    </a:lnTo>
                    <a:lnTo>
                      <a:pt x="324" y="1208"/>
                    </a:lnTo>
                    <a:lnTo>
                      <a:pt x="341" y="1235"/>
                    </a:lnTo>
                    <a:lnTo>
                      <a:pt x="360" y="1262"/>
                    </a:lnTo>
                    <a:lnTo>
                      <a:pt x="380" y="1287"/>
                    </a:lnTo>
                    <a:lnTo>
                      <a:pt x="401" y="1311"/>
                    </a:lnTo>
                    <a:lnTo>
                      <a:pt x="424" y="1333"/>
                    </a:lnTo>
                    <a:lnTo>
                      <a:pt x="448" y="1354"/>
                    </a:lnTo>
                    <a:lnTo>
                      <a:pt x="473" y="1374"/>
                    </a:lnTo>
                    <a:lnTo>
                      <a:pt x="499" y="1393"/>
                    </a:lnTo>
                    <a:lnTo>
                      <a:pt x="525" y="1410"/>
                    </a:lnTo>
                    <a:lnTo>
                      <a:pt x="553" y="1426"/>
                    </a:lnTo>
                    <a:lnTo>
                      <a:pt x="580" y="1440"/>
                    </a:lnTo>
                    <a:lnTo>
                      <a:pt x="609" y="1453"/>
                    </a:lnTo>
                    <a:lnTo>
                      <a:pt x="638" y="1464"/>
                    </a:lnTo>
                    <a:lnTo>
                      <a:pt x="669" y="1475"/>
                    </a:lnTo>
                    <a:lnTo>
                      <a:pt x="700" y="1483"/>
                    </a:lnTo>
                    <a:lnTo>
                      <a:pt x="733" y="1492"/>
                    </a:lnTo>
                    <a:lnTo>
                      <a:pt x="764" y="1497"/>
                    </a:lnTo>
                    <a:lnTo>
                      <a:pt x="798" y="1502"/>
                    </a:lnTo>
                    <a:lnTo>
                      <a:pt x="832" y="1506"/>
                    </a:lnTo>
                    <a:lnTo>
                      <a:pt x="867" y="1508"/>
                    </a:lnTo>
                    <a:lnTo>
                      <a:pt x="903" y="1509"/>
                    </a:lnTo>
                    <a:lnTo>
                      <a:pt x="926" y="1508"/>
                    </a:lnTo>
                    <a:lnTo>
                      <a:pt x="950" y="1507"/>
                    </a:lnTo>
                    <a:lnTo>
                      <a:pt x="973" y="1506"/>
                    </a:lnTo>
                    <a:lnTo>
                      <a:pt x="996" y="1504"/>
                    </a:lnTo>
                    <a:lnTo>
                      <a:pt x="1020" y="1500"/>
                    </a:lnTo>
                    <a:lnTo>
                      <a:pt x="1043" y="1497"/>
                    </a:lnTo>
                    <a:lnTo>
                      <a:pt x="1067" y="1494"/>
                    </a:lnTo>
                    <a:lnTo>
                      <a:pt x="1091" y="1489"/>
                    </a:lnTo>
                    <a:lnTo>
                      <a:pt x="1115" y="1484"/>
                    </a:lnTo>
                    <a:lnTo>
                      <a:pt x="1139" y="1478"/>
                    </a:lnTo>
                    <a:lnTo>
                      <a:pt x="1164" y="1472"/>
                    </a:lnTo>
                    <a:lnTo>
                      <a:pt x="1188" y="1465"/>
                    </a:lnTo>
                    <a:lnTo>
                      <a:pt x="1238" y="1449"/>
                    </a:lnTo>
                    <a:lnTo>
                      <a:pt x="1288" y="1431"/>
                    </a:lnTo>
                    <a:lnTo>
                      <a:pt x="1289" y="1400"/>
                    </a:lnTo>
                    <a:lnTo>
                      <a:pt x="1290" y="1365"/>
                    </a:lnTo>
                    <a:lnTo>
                      <a:pt x="1290" y="1327"/>
                    </a:lnTo>
                    <a:lnTo>
                      <a:pt x="1291" y="1284"/>
                    </a:lnTo>
                    <a:lnTo>
                      <a:pt x="1291" y="1239"/>
                    </a:lnTo>
                    <a:lnTo>
                      <a:pt x="1292" y="1190"/>
                    </a:lnTo>
                    <a:lnTo>
                      <a:pt x="1292" y="1138"/>
                    </a:lnTo>
                    <a:lnTo>
                      <a:pt x="1292" y="1082"/>
                    </a:lnTo>
                    <a:lnTo>
                      <a:pt x="1292" y="1027"/>
                    </a:lnTo>
                    <a:lnTo>
                      <a:pt x="1291" y="983"/>
                    </a:lnTo>
                    <a:lnTo>
                      <a:pt x="1289" y="952"/>
                    </a:lnTo>
                    <a:lnTo>
                      <a:pt x="1286" y="936"/>
                    </a:lnTo>
                    <a:lnTo>
                      <a:pt x="1281" y="925"/>
                    </a:lnTo>
                    <a:lnTo>
                      <a:pt x="1276" y="916"/>
                    </a:lnTo>
                    <a:lnTo>
                      <a:pt x="1268" y="908"/>
                    </a:lnTo>
                    <a:lnTo>
                      <a:pt x="1259" y="902"/>
                    </a:lnTo>
                    <a:lnTo>
                      <a:pt x="1251" y="897"/>
                    </a:lnTo>
                    <a:lnTo>
                      <a:pt x="1240" y="893"/>
                    </a:lnTo>
                    <a:lnTo>
                      <a:pt x="1226" y="889"/>
                    </a:lnTo>
                    <a:lnTo>
                      <a:pt x="1209" y="884"/>
                    </a:lnTo>
                    <a:lnTo>
                      <a:pt x="1166" y="873"/>
                    </a:lnTo>
                    <a:lnTo>
                      <a:pt x="1110" y="860"/>
                    </a:lnTo>
                    <a:lnTo>
                      <a:pt x="1066" y="851"/>
                    </a:lnTo>
                    <a:lnTo>
                      <a:pt x="1066" y="790"/>
                    </a:lnTo>
                    <a:lnTo>
                      <a:pt x="1443" y="798"/>
                    </a:lnTo>
                    <a:lnTo>
                      <a:pt x="1474" y="798"/>
                    </a:lnTo>
                    <a:lnTo>
                      <a:pt x="1507" y="798"/>
                    </a:lnTo>
                    <a:lnTo>
                      <a:pt x="1541" y="797"/>
                    </a:lnTo>
                    <a:lnTo>
                      <a:pt x="1576" y="796"/>
                    </a:lnTo>
                    <a:lnTo>
                      <a:pt x="1612" y="795"/>
                    </a:lnTo>
                    <a:lnTo>
                      <a:pt x="1649" y="794"/>
                    </a:lnTo>
                    <a:lnTo>
                      <a:pt x="1687" y="792"/>
                    </a:lnTo>
                    <a:lnTo>
                      <a:pt x="1726" y="790"/>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284" name="Freeform 82"/>
              <p:cNvSpPr/>
              <p:nvPr/>
            </p:nvSpPr>
            <p:spPr>
              <a:xfrm>
                <a:off x="5857560" y="776880"/>
                <a:ext cx="219960" cy="235440"/>
              </a:xfrm>
              <a:custGeom>
                <a:avLst/>
                <a:gdLst>
                  <a:gd name="textAreaLeft" fmla="*/ 0 w 219960"/>
                  <a:gd name="textAreaRight" fmla="*/ 220320 w 219960"/>
                  <a:gd name="textAreaTop" fmla="*/ 0 h 235440"/>
                  <a:gd name="textAreaBottom" fmla="*/ 235800 h 235440"/>
                </a:gdLst>
                <a:ahLst/>
                <a:rect l="textAreaLeft" t="textAreaTop" r="textAreaRight" b="textAreaBottom"/>
                <a:pathLst>
                  <a:path w="1380" h="1563">
                    <a:moveTo>
                      <a:pt x="458" y="688"/>
                    </a:moveTo>
                    <a:lnTo>
                      <a:pt x="724" y="688"/>
                    </a:lnTo>
                    <a:lnTo>
                      <a:pt x="761" y="688"/>
                    </a:lnTo>
                    <a:lnTo>
                      <a:pt x="793" y="688"/>
                    </a:lnTo>
                    <a:lnTo>
                      <a:pt x="822" y="687"/>
                    </a:lnTo>
                    <a:lnTo>
                      <a:pt x="847" y="687"/>
                    </a:lnTo>
                    <a:lnTo>
                      <a:pt x="867" y="685"/>
                    </a:lnTo>
                    <a:lnTo>
                      <a:pt x="884" y="684"/>
                    </a:lnTo>
                    <a:lnTo>
                      <a:pt x="897" y="683"/>
                    </a:lnTo>
                    <a:lnTo>
                      <a:pt x="906" y="681"/>
                    </a:lnTo>
                    <a:lnTo>
                      <a:pt x="913" y="678"/>
                    </a:lnTo>
                    <a:lnTo>
                      <a:pt x="919" y="676"/>
                    </a:lnTo>
                    <a:lnTo>
                      <a:pt x="926" y="673"/>
                    </a:lnTo>
                    <a:lnTo>
                      <a:pt x="931" y="668"/>
                    </a:lnTo>
                    <a:lnTo>
                      <a:pt x="936" y="664"/>
                    </a:lnTo>
                    <a:lnTo>
                      <a:pt x="941" y="659"/>
                    </a:lnTo>
                    <a:lnTo>
                      <a:pt x="947" y="653"/>
                    </a:lnTo>
                    <a:lnTo>
                      <a:pt x="951" y="647"/>
                    </a:lnTo>
                    <a:lnTo>
                      <a:pt x="955" y="640"/>
                    </a:lnTo>
                    <a:lnTo>
                      <a:pt x="959" y="628"/>
                    </a:lnTo>
                    <a:lnTo>
                      <a:pt x="965" y="614"/>
                    </a:lnTo>
                    <a:lnTo>
                      <a:pt x="970" y="598"/>
                    </a:lnTo>
                    <a:lnTo>
                      <a:pt x="981" y="555"/>
                    </a:lnTo>
                    <a:lnTo>
                      <a:pt x="993" y="501"/>
                    </a:lnTo>
                    <a:lnTo>
                      <a:pt x="995" y="493"/>
                    </a:lnTo>
                    <a:lnTo>
                      <a:pt x="998" y="485"/>
                    </a:lnTo>
                    <a:lnTo>
                      <a:pt x="1000" y="474"/>
                    </a:lnTo>
                    <a:lnTo>
                      <a:pt x="1003" y="463"/>
                    </a:lnTo>
                    <a:lnTo>
                      <a:pt x="1076" y="463"/>
                    </a:lnTo>
                    <a:lnTo>
                      <a:pt x="1073" y="507"/>
                    </a:lnTo>
                    <a:lnTo>
                      <a:pt x="1071" y="549"/>
                    </a:lnTo>
                    <a:lnTo>
                      <a:pt x="1068" y="588"/>
                    </a:lnTo>
                    <a:lnTo>
                      <a:pt x="1066" y="624"/>
                    </a:lnTo>
                    <a:lnTo>
                      <a:pt x="1065" y="658"/>
                    </a:lnTo>
                    <a:lnTo>
                      <a:pt x="1064" y="688"/>
                    </a:lnTo>
                    <a:lnTo>
                      <a:pt x="1063" y="717"/>
                    </a:lnTo>
                    <a:lnTo>
                      <a:pt x="1063" y="744"/>
                    </a:lnTo>
                    <a:lnTo>
                      <a:pt x="1063" y="769"/>
                    </a:lnTo>
                    <a:lnTo>
                      <a:pt x="1064" y="799"/>
                    </a:lnTo>
                    <a:lnTo>
                      <a:pt x="1065" y="829"/>
                    </a:lnTo>
                    <a:lnTo>
                      <a:pt x="1066" y="863"/>
                    </a:lnTo>
                    <a:lnTo>
                      <a:pt x="1068" y="898"/>
                    </a:lnTo>
                    <a:lnTo>
                      <a:pt x="1071" y="937"/>
                    </a:lnTo>
                    <a:lnTo>
                      <a:pt x="1073" y="978"/>
                    </a:lnTo>
                    <a:lnTo>
                      <a:pt x="1076" y="1020"/>
                    </a:lnTo>
                    <a:lnTo>
                      <a:pt x="1003" y="1020"/>
                    </a:lnTo>
                    <a:lnTo>
                      <a:pt x="995" y="983"/>
                    </a:lnTo>
                    <a:lnTo>
                      <a:pt x="988" y="949"/>
                    </a:lnTo>
                    <a:lnTo>
                      <a:pt x="983" y="921"/>
                    </a:lnTo>
                    <a:lnTo>
                      <a:pt x="977" y="896"/>
                    </a:lnTo>
                    <a:lnTo>
                      <a:pt x="972" y="876"/>
                    </a:lnTo>
                    <a:lnTo>
                      <a:pt x="969" y="860"/>
                    </a:lnTo>
                    <a:lnTo>
                      <a:pt x="966" y="848"/>
                    </a:lnTo>
                    <a:lnTo>
                      <a:pt x="964" y="842"/>
                    </a:lnTo>
                    <a:lnTo>
                      <a:pt x="960" y="836"/>
                    </a:lnTo>
                    <a:lnTo>
                      <a:pt x="957" y="829"/>
                    </a:lnTo>
                    <a:lnTo>
                      <a:pt x="953" y="824"/>
                    </a:lnTo>
                    <a:lnTo>
                      <a:pt x="948" y="819"/>
                    </a:lnTo>
                    <a:lnTo>
                      <a:pt x="944" y="815"/>
                    </a:lnTo>
                    <a:lnTo>
                      <a:pt x="937" y="810"/>
                    </a:lnTo>
                    <a:lnTo>
                      <a:pt x="932" y="807"/>
                    </a:lnTo>
                    <a:lnTo>
                      <a:pt x="924" y="804"/>
                    </a:lnTo>
                    <a:lnTo>
                      <a:pt x="916" y="802"/>
                    </a:lnTo>
                    <a:lnTo>
                      <a:pt x="904" y="799"/>
                    </a:lnTo>
                    <a:lnTo>
                      <a:pt x="888" y="797"/>
                    </a:lnTo>
                    <a:lnTo>
                      <a:pt x="870" y="795"/>
                    </a:lnTo>
                    <a:lnTo>
                      <a:pt x="848" y="794"/>
                    </a:lnTo>
                    <a:lnTo>
                      <a:pt x="823" y="793"/>
                    </a:lnTo>
                    <a:lnTo>
                      <a:pt x="793" y="792"/>
                    </a:lnTo>
                    <a:lnTo>
                      <a:pt x="761" y="792"/>
                    </a:lnTo>
                    <a:lnTo>
                      <a:pt x="459" y="792"/>
                    </a:lnTo>
                    <a:lnTo>
                      <a:pt x="465" y="1440"/>
                    </a:lnTo>
                    <a:lnTo>
                      <a:pt x="926" y="1440"/>
                    </a:lnTo>
                    <a:lnTo>
                      <a:pt x="967" y="1439"/>
                    </a:lnTo>
                    <a:lnTo>
                      <a:pt x="1009" y="1439"/>
                    </a:lnTo>
                    <a:lnTo>
                      <a:pt x="1044" y="1437"/>
                    </a:lnTo>
                    <a:lnTo>
                      <a:pt x="1070" y="1434"/>
                    </a:lnTo>
                    <a:lnTo>
                      <a:pt x="1085" y="1431"/>
                    </a:lnTo>
                    <a:lnTo>
                      <a:pt x="1096" y="1427"/>
                    </a:lnTo>
                    <a:lnTo>
                      <a:pt x="1106" y="1423"/>
                    </a:lnTo>
                    <a:lnTo>
                      <a:pt x="1115" y="1418"/>
                    </a:lnTo>
                    <a:lnTo>
                      <a:pt x="1125" y="1412"/>
                    </a:lnTo>
                    <a:lnTo>
                      <a:pt x="1134" y="1406"/>
                    </a:lnTo>
                    <a:lnTo>
                      <a:pt x="1143" y="1398"/>
                    </a:lnTo>
                    <a:lnTo>
                      <a:pt x="1151" y="1391"/>
                    </a:lnTo>
                    <a:lnTo>
                      <a:pt x="1160" y="1384"/>
                    </a:lnTo>
                    <a:lnTo>
                      <a:pt x="1168" y="1373"/>
                    </a:lnTo>
                    <a:lnTo>
                      <a:pt x="1179" y="1359"/>
                    </a:lnTo>
                    <a:lnTo>
                      <a:pt x="1191" y="1341"/>
                    </a:lnTo>
                    <a:lnTo>
                      <a:pt x="1205" y="1319"/>
                    </a:lnTo>
                    <a:lnTo>
                      <a:pt x="1220" y="1294"/>
                    </a:lnTo>
                    <a:lnTo>
                      <a:pt x="1238" y="1264"/>
                    </a:lnTo>
                    <a:lnTo>
                      <a:pt x="1257" y="1231"/>
                    </a:lnTo>
                    <a:lnTo>
                      <a:pt x="1277" y="1194"/>
                    </a:lnTo>
                    <a:lnTo>
                      <a:pt x="1282" y="1184"/>
                    </a:lnTo>
                    <a:lnTo>
                      <a:pt x="1288" y="1174"/>
                    </a:lnTo>
                    <a:lnTo>
                      <a:pt x="1295" y="1162"/>
                    </a:lnTo>
                    <a:lnTo>
                      <a:pt x="1304" y="1148"/>
                    </a:lnTo>
                    <a:lnTo>
                      <a:pt x="1380" y="1148"/>
                    </a:lnTo>
                    <a:lnTo>
                      <a:pt x="1375" y="1162"/>
                    </a:lnTo>
                    <a:lnTo>
                      <a:pt x="1366" y="1188"/>
                    </a:lnTo>
                    <a:lnTo>
                      <a:pt x="1354" y="1223"/>
                    </a:lnTo>
                    <a:lnTo>
                      <a:pt x="1339" y="1269"/>
                    </a:lnTo>
                    <a:lnTo>
                      <a:pt x="1321" y="1326"/>
                    </a:lnTo>
                    <a:lnTo>
                      <a:pt x="1298" y="1394"/>
                    </a:lnTo>
                    <a:lnTo>
                      <a:pt x="1272" y="1473"/>
                    </a:lnTo>
                    <a:lnTo>
                      <a:pt x="1243" y="1563"/>
                    </a:lnTo>
                    <a:lnTo>
                      <a:pt x="1144" y="1560"/>
                    </a:lnTo>
                    <a:lnTo>
                      <a:pt x="1047" y="1557"/>
                    </a:lnTo>
                    <a:lnTo>
                      <a:pt x="952" y="1555"/>
                    </a:lnTo>
                    <a:lnTo>
                      <a:pt x="860" y="1553"/>
                    </a:lnTo>
                    <a:lnTo>
                      <a:pt x="769" y="1552"/>
                    </a:lnTo>
                    <a:lnTo>
                      <a:pt x="681" y="1551"/>
                    </a:lnTo>
                    <a:lnTo>
                      <a:pt x="595" y="1550"/>
                    </a:lnTo>
                    <a:lnTo>
                      <a:pt x="511" y="1550"/>
                    </a:lnTo>
                    <a:lnTo>
                      <a:pt x="452" y="1550"/>
                    </a:lnTo>
                    <a:lnTo>
                      <a:pt x="393" y="1551"/>
                    </a:lnTo>
                    <a:lnTo>
                      <a:pt x="330" y="1552"/>
                    </a:lnTo>
                    <a:lnTo>
                      <a:pt x="268" y="1553"/>
                    </a:lnTo>
                    <a:lnTo>
                      <a:pt x="203" y="1555"/>
                    </a:lnTo>
                    <a:lnTo>
                      <a:pt x="136" y="1557"/>
                    </a:lnTo>
                    <a:lnTo>
                      <a:pt x="70" y="1560"/>
                    </a:lnTo>
                    <a:lnTo>
                      <a:pt x="0" y="1563"/>
                    </a:lnTo>
                    <a:lnTo>
                      <a:pt x="0" y="1497"/>
                    </a:lnTo>
                    <a:lnTo>
                      <a:pt x="179" y="1459"/>
                    </a:lnTo>
                    <a:lnTo>
                      <a:pt x="198" y="1452"/>
                    </a:lnTo>
                    <a:lnTo>
                      <a:pt x="213" y="1446"/>
                    </a:lnTo>
                    <a:lnTo>
                      <a:pt x="219" y="1444"/>
                    </a:lnTo>
                    <a:lnTo>
                      <a:pt x="224" y="1441"/>
                    </a:lnTo>
                    <a:lnTo>
                      <a:pt x="229" y="1438"/>
                    </a:lnTo>
                    <a:lnTo>
                      <a:pt x="231" y="1434"/>
                    </a:lnTo>
                    <a:lnTo>
                      <a:pt x="235" y="1428"/>
                    </a:lnTo>
                    <a:lnTo>
                      <a:pt x="238" y="1421"/>
                    </a:lnTo>
                    <a:lnTo>
                      <a:pt x="241" y="1412"/>
                    </a:lnTo>
                    <a:lnTo>
                      <a:pt x="243" y="1403"/>
                    </a:lnTo>
                    <a:lnTo>
                      <a:pt x="246" y="1391"/>
                    </a:lnTo>
                    <a:lnTo>
                      <a:pt x="247" y="1377"/>
                    </a:lnTo>
                    <a:lnTo>
                      <a:pt x="248" y="1363"/>
                    </a:lnTo>
                    <a:lnTo>
                      <a:pt x="248" y="1348"/>
                    </a:lnTo>
                    <a:lnTo>
                      <a:pt x="248" y="1327"/>
                    </a:lnTo>
                    <a:lnTo>
                      <a:pt x="253" y="1069"/>
                    </a:lnTo>
                    <a:lnTo>
                      <a:pt x="254" y="1048"/>
                    </a:lnTo>
                    <a:lnTo>
                      <a:pt x="254" y="1022"/>
                    </a:lnTo>
                    <a:lnTo>
                      <a:pt x="254" y="993"/>
                    </a:lnTo>
                    <a:lnTo>
                      <a:pt x="254" y="958"/>
                    </a:lnTo>
                    <a:lnTo>
                      <a:pt x="254" y="918"/>
                    </a:lnTo>
                    <a:lnTo>
                      <a:pt x="254" y="875"/>
                    </a:lnTo>
                    <a:lnTo>
                      <a:pt x="254" y="827"/>
                    </a:lnTo>
                    <a:lnTo>
                      <a:pt x="254" y="774"/>
                    </a:lnTo>
                    <a:lnTo>
                      <a:pt x="254" y="698"/>
                    </a:lnTo>
                    <a:lnTo>
                      <a:pt x="254" y="626"/>
                    </a:lnTo>
                    <a:lnTo>
                      <a:pt x="254" y="560"/>
                    </a:lnTo>
                    <a:lnTo>
                      <a:pt x="254" y="499"/>
                    </a:lnTo>
                    <a:lnTo>
                      <a:pt x="254" y="444"/>
                    </a:lnTo>
                    <a:lnTo>
                      <a:pt x="253" y="393"/>
                    </a:lnTo>
                    <a:lnTo>
                      <a:pt x="253" y="348"/>
                    </a:lnTo>
                    <a:lnTo>
                      <a:pt x="252" y="308"/>
                    </a:lnTo>
                    <a:lnTo>
                      <a:pt x="252" y="273"/>
                    </a:lnTo>
                    <a:lnTo>
                      <a:pt x="251" y="242"/>
                    </a:lnTo>
                    <a:lnTo>
                      <a:pt x="250" y="216"/>
                    </a:lnTo>
                    <a:lnTo>
                      <a:pt x="249" y="192"/>
                    </a:lnTo>
                    <a:lnTo>
                      <a:pt x="247" y="173"/>
                    </a:lnTo>
                    <a:lnTo>
                      <a:pt x="246" y="159"/>
                    </a:lnTo>
                    <a:lnTo>
                      <a:pt x="243" y="147"/>
                    </a:lnTo>
                    <a:lnTo>
                      <a:pt x="241" y="141"/>
                    </a:lnTo>
                    <a:lnTo>
                      <a:pt x="237" y="134"/>
                    </a:lnTo>
                    <a:lnTo>
                      <a:pt x="233" y="129"/>
                    </a:lnTo>
                    <a:lnTo>
                      <a:pt x="228" y="124"/>
                    </a:lnTo>
                    <a:lnTo>
                      <a:pt x="221" y="119"/>
                    </a:lnTo>
                    <a:lnTo>
                      <a:pt x="209" y="114"/>
                    </a:lnTo>
                    <a:lnTo>
                      <a:pt x="188" y="108"/>
                    </a:lnTo>
                    <a:lnTo>
                      <a:pt x="159" y="100"/>
                    </a:lnTo>
                    <a:lnTo>
                      <a:pt x="119" y="91"/>
                    </a:lnTo>
                    <a:lnTo>
                      <a:pt x="0" y="64"/>
                    </a:lnTo>
                    <a:lnTo>
                      <a:pt x="0" y="0"/>
                    </a:lnTo>
                    <a:lnTo>
                      <a:pt x="53" y="2"/>
                    </a:lnTo>
                    <a:lnTo>
                      <a:pt x="109" y="5"/>
                    </a:lnTo>
                    <a:lnTo>
                      <a:pt x="167" y="7"/>
                    </a:lnTo>
                    <a:lnTo>
                      <a:pt x="228" y="8"/>
                    </a:lnTo>
                    <a:lnTo>
                      <a:pt x="290" y="10"/>
                    </a:lnTo>
                    <a:lnTo>
                      <a:pt x="356" y="10"/>
                    </a:lnTo>
                    <a:lnTo>
                      <a:pt x="423" y="11"/>
                    </a:lnTo>
                    <a:lnTo>
                      <a:pt x="494" y="11"/>
                    </a:lnTo>
                    <a:lnTo>
                      <a:pt x="516" y="11"/>
                    </a:lnTo>
                    <a:lnTo>
                      <a:pt x="541" y="11"/>
                    </a:lnTo>
                    <a:lnTo>
                      <a:pt x="569" y="11"/>
                    </a:lnTo>
                    <a:lnTo>
                      <a:pt x="600" y="10"/>
                    </a:lnTo>
                    <a:lnTo>
                      <a:pt x="635" y="10"/>
                    </a:lnTo>
                    <a:lnTo>
                      <a:pt x="673" y="10"/>
                    </a:lnTo>
                    <a:lnTo>
                      <a:pt x="715" y="9"/>
                    </a:lnTo>
                    <a:lnTo>
                      <a:pt x="760" y="8"/>
                    </a:lnTo>
                    <a:lnTo>
                      <a:pt x="809" y="8"/>
                    </a:lnTo>
                    <a:lnTo>
                      <a:pt x="861" y="7"/>
                    </a:lnTo>
                    <a:lnTo>
                      <a:pt x="916" y="6"/>
                    </a:lnTo>
                    <a:lnTo>
                      <a:pt x="974" y="5"/>
                    </a:lnTo>
                    <a:lnTo>
                      <a:pt x="1037" y="4"/>
                    </a:lnTo>
                    <a:lnTo>
                      <a:pt x="1102" y="2"/>
                    </a:lnTo>
                    <a:lnTo>
                      <a:pt x="1171" y="1"/>
                    </a:lnTo>
                    <a:lnTo>
                      <a:pt x="1243" y="0"/>
                    </a:lnTo>
                    <a:lnTo>
                      <a:pt x="1244" y="47"/>
                    </a:lnTo>
                    <a:lnTo>
                      <a:pt x="1245" y="95"/>
                    </a:lnTo>
                    <a:lnTo>
                      <a:pt x="1248" y="142"/>
                    </a:lnTo>
                    <a:lnTo>
                      <a:pt x="1251" y="189"/>
                    </a:lnTo>
                    <a:lnTo>
                      <a:pt x="1254" y="236"/>
                    </a:lnTo>
                    <a:lnTo>
                      <a:pt x="1259" y="283"/>
                    </a:lnTo>
                    <a:lnTo>
                      <a:pt x="1263" y="329"/>
                    </a:lnTo>
                    <a:lnTo>
                      <a:pt x="1270" y="376"/>
                    </a:lnTo>
                    <a:lnTo>
                      <a:pt x="1192" y="376"/>
                    </a:lnTo>
                    <a:lnTo>
                      <a:pt x="1182" y="340"/>
                    </a:lnTo>
                    <a:lnTo>
                      <a:pt x="1171" y="308"/>
                    </a:lnTo>
                    <a:lnTo>
                      <a:pt x="1162" y="278"/>
                    </a:lnTo>
                    <a:lnTo>
                      <a:pt x="1152" y="252"/>
                    </a:lnTo>
                    <a:lnTo>
                      <a:pt x="1144" y="229"/>
                    </a:lnTo>
                    <a:lnTo>
                      <a:pt x="1135" y="208"/>
                    </a:lnTo>
                    <a:lnTo>
                      <a:pt x="1128" y="190"/>
                    </a:lnTo>
                    <a:lnTo>
                      <a:pt x="1121" y="177"/>
                    </a:lnTo>
                    <a:lnTo>
                      <a:pt x="1116" y="169"/>
                    </a:lnTo>
                    <a:lnTo>
                      <a:pt x="1111" y="161"/>
                    </a:lnTo>
                    <a:lnTo>
                      <a:pt x="1106" y="154"/>
                    </a:lnTo>
                    <a:lnTo>
                      <a:pt x="1100" y="148"/>
                    </a:lnTo>
                    <a:lnTo>
                      <a:pt x="1094" y="143"/>
                    </a:lnTo>
                    <a:lnTo>
                      <a:pt x="1088" y="138"/>
                    </a:lnTo>
                    <a:lnTo>
                      <a:pt x="1081" y="135"/>
                    </a:lnTo>
                    <a:lnTo>
                      <a:pt x="1075" y="132"/>
                    </a:lnTo>
                    <a:lnTo>
                      <a:pt x="1064" y="128"/>
                    </a:lnTo>
                    <a:lnTo>
                      <a:pt x="1050" y="126"/>
                    </a:lnTo>
                    <a:lnTo>
                      <a:pt x="1035" y="123"/>
                    </a:lnTo>
                    <a:lnTo>
                      <a:pt x="1017" y="120"/>
                    </a:lnTo>
                    <a:lnTo>
                      <a:pt x="994" y="119"/>
                    </a:lnTo>
                    <a:lnTo>
                      <a:pt x="971" y="118"/>
                    </a:lnTo>
                    <a:lnTo>
                      <a:pt x="944" y="117"/>
                    </a:lnTo>
                    <a:lnTo>
                      <a:pt x="914" y="117"/>
                    </a:lnTo>
                    <a:lnTo>
                      <a:pt x="469" y="117"/>
                    </a:lnTo>
                    <a:lnTo>
                      <a:pt x="462" y="472"/>
                    </a:lnTo>
                    <a:lnTo>
                      <a:pt x="458" y="688"/>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285" name="Freeform 83"/>
              <p:cNvSpPr/>
              <p:nvPr/>
            </p:nvSpPr>
            <p:spPr>
              <a:xfrm>
                <a:off x="6115680" y="776880"/>
                <a:ext cx="255600" cy="235440"/>
              </a:xfrm>
              <a:custGeom>
                <a:avLst/>
                <a:gdLst>
                  <a:gd name="textAreaLeft" fmla="*/ 0 w 255600"/>
                  <a:gd name="textAreaRight" fmla="*/ 255960 w 255600"/>
                  <a:gd name="textAreaTop" fmla="*/ 0 h 235440"/>
                  <a:gd name="textAreaBottom" fmla="*/ 235800 h 235440"/>
                </a:gdLst>
                <a:ahLst/>
                <a:rect l="textAreaLeft" t="textAreaTop" r="textAreaRight" b="textAreaBottom"/>
                <a:pathLst>
                  <a:path w="1601" h="1563">
                    <a:moveTo>
                      <a:pt x="0" y="64"/>
                    </a:moveTo>
                    <a:lnTo>
                      <a:pt x="0" y="0"/>
                    </a:lnTo>
                    <a:lnTo>
                      <a:pt x="71" y="2"/>
                    </a:lnTo>
                    <a:lnTo>
                      <a:pt x="139" y="5"/>
                    </a:lnTo>
                    <a:lnTo>
                      <a:pt x="202" y="7"/>
                    </a:lnTo>
                    <a:lnTo>
                      <a:pt x="263" y="8"/>
                    </a:lnTo>
                    <a:lnTo>
                      <a:pt x="320" y="10"/>
                    </a:lnTo>
                    <a:lnTo>
                      <a:pt x="373" y="10"/>
                    </a:lnTo>
                    <a:lnTo>
                      <a:pt x="423" y="11"/>
                    </a:lnTo>
                    <a:lnTo>
                      <a:pt x="468" y="11"/>
                    </a:lnTo>
                    <a:lnTo>
                      <a:pt x="494" y="11"/>
                    </a:lnTo>
                    <a:lnTo>
                      <a:pt x="518" y="11"/>
                    </a:lnTo>
                    <a:lnTo>
                      <a:pt x="542" y="11"/>
                    </a:lnTo>
                    <a:lnTo>
                      <a:pt x="566" y="11"/>
                    </a:lnTo>
                    <a:lnTo>
                      <a:pt x="590" y="10"/>
                    </a:lnTo>
                    <a:lnTo>
                      <a:pt x="612" y="10"/>
                    </a:lnTo>
                    <a:lnTo>
                      <a:pt x="636" y="10"/>
                    </a:lnTo>
                    <a:lnTo>
                      <a:pt x="658" y="9"/>
                    </a:lnTo>
                    <a:lnTo>
                      <a:pt x="685" y="8"/>
                    </a:lnTo>
                    <a:lnTo>
                      <a:pt x="712" y="7"/>
                    </a:lnTo>
                    <a:lnTo>
                      <a:pt x="735" y="7"/>
                    </a:lnTo>
                    <a:lnTo>
                      <a:pt x="756" y="6"/>
                    </a:lnTo>
                    <a:lnTo>
                      <a:pt x="775" y="6"/>
                    </a:lnTo>
                    <a:lnTo>
                      <a:pt x="792" y="5"/>
                    </a:lnTo>
                    <a:lnTo>
                      <a:pt x="807" y="5"/>
                    </a:lnTo>
                    <a:lnTo>
                      <a:pt x="820" y="5"/>
                    </a:lnTo>
                    <a:lnTo>
                      <a:pt x="845" y="6"/>
                    </a:lnTo>
                    <a:lnTo>
                      <a:pt x="872" y="7"/>
                    </a:lnTo>
                    <a:lnTo>
                      <a:pt x="896" y="8"/>
                    </a:lnTo>
                    <a:lnTo>
                      <a:pt x="921" y="11"/>
                    </a:lnTo>
                    <a:lnTo>
                      <a:pt x="943" y="14"/>
                    </a:lnTo>
                    <a:lnTo>
                      <a:pt x="966" y="20"/>
                    </a:lnTo>
                    <a:lnTo>
                      <a:pt x="987" y="24"/>
                    </a:lnTo>
                    <a:lnTo>
                      <a:pt x="1007" y="30"/>
                    </a:lnTo>
                    <a:lnTo>
                      <a:pt x="1028" y="37"/>
                    </a:lnTo>
                    <a:lnTo>
                      <a:pt x="1047" y="44"/>
                    </a:lnTo>
                    <a:lnTo>
                      <a:pt x="1065" y="53"/>
                    </a:lnTo>
                    <a:lnTo>
                      <a:pt x="1082" y="62"/>
                    </a:lnTo>
                    <a:lnTo>
                      <a:pt x="1099" y="72"/>
                    </a:lnTo>
                    <a:lnTo>
                      <a:pt x="1114" y="82"/>
                    </a:lnTo>
                    <a:lnTo>
                      <a:pt x="1129" y="94"/>
                    </a:lnTo>
                    <a:lnTo>
                      <a:pt x="1143" y="107"/>
                    </a:lnTo>
                    <a:lnTo>
                      <a:pt x="1156" y="119"/>
                    </a:lnTo>
                    <a:lnTo>
                      <a:pt x="1168" y="133"/>
                    </a:lnTo>
                    <a:lnTo>
                      <a:pt x="1180" y="147"/>
                    </a:lnTo>
                    <a:lnTo>
                      <a:pt x="1191" y="162"/>
                    </a:lnTo>
                    <a:lnTo>
                      <a:pt x="1200" y="178"/>
                    </a:lnTo>
                    <a:lnTo>
                      <a:pt x="1209" y="194"/>
                    </a:lnTo>
                    <a:lnTo>
                      <a:pt x="1217" y="209"/>
                    </a:lnTo>
                    <a:lnTo>
                      <a:pt x="1224" y="226"/>
                    </a:lnTo>
                    <a:lnTo>
                      <a:pt x="1230" y="244"/>
                    </a:lnTo>
                    <a:lnTo>
                      <a:pt x="1236" y="262"/>
                    </a:lnTo>
                    <a:lnTo>
                      <a:pt x="1240" y="282"/>
                    </a:lnTo>
                    <a:lnTo>
                      <a:pt x="1244" y="301"/>
                    </a:lnTo>
                    <a:lnTo>
                      <a:pt x="1247" y="320"/>
                    </a:lnTo>
                    <a:lnTo>
                      <a:pt x="1249" y="341"/>
                    </a:lnTo>
                    <a:lnTo>
                      <a:pt x="1250" y="361"/>
                    </a:lnTo>
                    <a:lnTo>
                      <a:pt x="1251" y="383"/>
                    </a:lnTo>
                    <a:lnTo>
                      <a:pt x="1250" y="412"/>
                    </a:lnTo>
                    <a:lnTo>
                      <a:pt x="1248" y="439"/>
                    </a:lnTo>
                    <a:lnTo>
                      <a:pt x="1244" y="467"/>
                    </a:lnTo>
                    <a:lnTo>
                      <a:pt x="1238" y="492"/>
                    </a:lnTo>
                    <a:lnTo>
                      <a:pt x="1232" y="518"/>
                    </a:lnTo>
                    <a:lnTo>
                      <a:pt x="1224" y="543"/>
                    </a:lnTo>
                    <a:lnTo>
                      <a:pt x="1214" y="567"/>
                    </a:lnTo>
                    <a:lnTo>
                      <a:pt x="1202" y="589"/>
                    </a:lnTo>
                    <a:lnTo>
                      <a:pt x="1189" y="611"/>
                    </a:lnTo>
                    <a:lnTo>
                      <a:pt x="1175" y="632"/>
                    </a:lnTo>
                    <a:lnTo>
                      <a:pt x="1159" y="652"/>
                    </a:lnTo>
                    <a:lnTo>
                      <a:pt x="1142" y="671"/>
                    </a:lnTo>
                    <a:lnTo>
                      <a:pt x="1124" y="691"/>
                    </a:lnTo>
                    <a:lnTo>
                      <a:pt x="1104" y="709"/>
                    </a:lnTo>
                    <a:lnTo>
                      <a:pt x="1083" y="724"/>
                    </a:lnTo>
                    <a:lnTo>
                      <a:pt x="1060" y="740"/>
                    </a:lnTo>
                    <a:lnTo>
                      <a:pt x="1042" y="752"/>
                    </a:lnTo>
                    <a:lnTo>
                      <a:pt x="1023" y="763"/>
                    </a:lnTo>
                    <a:lnTo>
                      <a:pt x="1002" y="772"/>
                    </a:lnTo>
                    <a:lnTo>
                      <a:pt x="979" y="783"/>
                    </a:lnTo>
                    <a:lnTo>
                      <a:pt x="954" y="792"/>
                    </a:lnTo>
                    <a:lnTo>
                      <a:pt x="928" y="801"/>
                    </a:lnTo>
                    <a:lnTo>
                      <a:pt x="899" y="810"/>
                    </a:lnTo>
                    <a:lnTo>
                      <a:pt x="869" y="819"/>
                    </a:lnTo>
                    <a:lnTo>
                      <a:pt x="1235" y="1297"/>
                    </a:lnTo>
                    <a:lnTo>
                      <a:pt x="1266" y="1337"/>
                    </a:lnTo>
                    <a:lnTo>
                      <a:pt x="1291" y="1368"/>
                    </a:lnTo>
                    <a:lnTo>
                      <a:pt x="1309" y="1389"/>
                    </a:lnTo>
                    <a:lnTo>
                      <a:pt x="1321" y="1402"/>
                    </a:lnTo>
                    <a:lnTo>
                      <a:pt x="1336" y="1412"/>
                    </a:lnTo>
                    <a:lnTo>
                      <a:pt x="1353" y="1423"/>
                    </a:lnTo>
                    <a:lnTo>
                      <a:pt x="1372" y="1432"/>
                    </a:lnTo>
                    <a:lnTo>
                      <a:pt x="1393" y="1441"/>
                    </a:lnTo>
                    <a:lnTo>
                      <a:pt x="1410" y="1447"/>
                    </a:lnTo>
                    <a:lnTo>
                      <a:pt x="1429" y="1454"/>
                    </a:lnTo>
                    <a:lnTo>
                      <a:pt x="1451" y="1461"/>
                    </a:lnTo>
                    <a:lnTo>
                      <a:pt x="1476" y="1467"/>
                    </a:lnTo>
                    <a:lnTo>
                      <a:pt x="1503" y="1475"/>
                    </a:lnTo>
                    <a:lnTo>
                      <a:pt x="1533" y="1482"/>
                    </a:lnTo>
                    <a:lnTo>
                      <a:pt x="1566" y="1490"/>
                    </a:lnTo>
                    <a:lnTo>
                      <a:pt x="1601" y="1497"/>
                    </a:lnTo>
                    <a:lnTo>
                      <a:pt x="1601" y="1563"/>
                    </a:lnTo>
                    <a:lnTo>
                      <a:pt x="1559" y="1560"/>
                    </a:lnTo>
                    <a:lnTo>
                      <a:pt x="1520" y="1557"/>
                    </a:lnTo>
                    <a:lnTo>
                      <a:pt x="1484" y="1555"/>
                    </a:lnTo>
                    <a:lnTo>
                      <a:pt x="1451" y="1553"/>
                    </a:lnTo>
                    <a:lnTo>
                      <a:pt x="1421" y="1552"/>
                    </a:lnTo>
                    <a:lnTo>
                      <a:pt x="1393" y="1551"/>
                    </a:lnTo>
                    <a:lnTo>
                      <a:pt x="1369" y="1550"/>
                    </a:lnTo>
                    <a:lnTo>
                      <a:pt x="1347" y="1550"/>
                    </a:lnTo>
                    <a:lnTo>
                      <a:pt x="1325" y="1550"/>
                    </a:lnTo>
                    <a:lnTo>
                      <a:pt x="1302" y="1551"/>
                    </a:lnTo>
                    <a:lnTo>
                      <a:pt x="1279" y="1552"/>
                    </a:lnTo>
                    <a:lnTo>
                      <a:pt x="1255" y="1553"/>
                    </a:lnTo>
                    <a:lnTo>
                      <a:pt x="1232" y="1555"/>
                    </a:lnTo>
                    <a:lnTo>
                      <a:pt x="1209" y="1557"/>
                    </a:lnTo>
                    <a:lnTo>
                      <a:pt x="1184" y="1560"/>
                    </a:lnTo>
                    <a:lnTo>
                      <a:pt x="1161" y="1563"/>
                    </a:lnTo>
                    <a:lnTo>
                      <a:pt x="1147" y="1542"/>
                    </a:lnTo>
                    <a:lnTo>
                      <a:pt x="1133" y="1518"/>
                    </a:lnTo>
                    <a:lnTo>
                      <a:pt x="1119" y="1495"/>
                    </a:lnTo>
                    <a:lnTo>
                      <a:pt x="1103" y="1469"/>
                    </a:lnTo>
                    <a:lnTo>
                      <a:pt x="1085" y="1443"/>
                    </a:lnTo>
                    <a:lnTo>
                      <a:pt x="1067" y="1414"/>
                    </a:lnTo>
                    <a:lnTo>
                      <a:pt x="1047" y="1386"/>
                    </a:lnTo>
                    <a:lnTo>
                      <a:pt x="1027" y="1355"/>
                    </a:lnTo>
                    <a:lnTo>
                      <a:pt x="988" y="1299"/>
                    </a:lnTo>
                    <a:lnTo>
                      <a:pt x="958" y="1255"/>
                    </a:lnTo>
                    <a:lnTo>
                      <a:pt x="936" y="1225"/>
                    </a:lnTo>
                    <a:lnTo>
                      <a:pt x="923" y="1207"/>
                    </a:lnTo>
                    <a:lnTo>
                      <a:pt x="912" y="1193"/>
                    </a:lnTo>
                    <a:lnTo>
                      <a:pt x="903" y="1179"/>
                    </a:lnTo>
                    <a:lnTo>
                      <a:pt x="660" y="846"/>
                    </a:lnTo>
                    <a:lnTo>
                      <a:pt x="636" y="845"/>
                    </a:lnTo>
                    <a:lnTo>
                      <a:pt x="610" y="844"/>
                    </a:lnTo>
                    <a:lnTo>
                      <a:pt x="586" y="843"/>
                    </a:lnTo>
                    <a:lnTo>
                      <a:pt x="562" y="842"/>
                    </a:lnTo>
                    <a:lnTo>
                      <a:pt x="536" y="840"/>
                    </a:lnTo>
                    <a:lnTo>
                      <a:pt x="512" y="838"/>
                    </a:lnTo>
                    <a:lnTo>
                      <a:pt x="486" y="835"/>
                    </a:lnTo>
                    <a:lnTo>
                      <a:pt x="462" y="833"/>
                    </a:lnTo>
                    <a:lnTo>
                      <a:pt x="470" y="1387"/>
                    </a:lnTo>
                    <a:lnTo>
                      <a:pt x="471" y="1395"/>
                    </a:lnTo>
                    <a:lnTo>
                      <a:pt x="473" y="1403"/>
                    </a:lnTo>
                    <a:lnTo>
                      <a:pt x="475" y="1410"/>
                    </a:lnTo>
                    <a:lnTo>
                      <a:pt x="477" y="1416"/>
                    </a:lnTo>
                    <a:lnTo>
                      <a:pt x="479" y="1422"/>
                    </a:lnTo>
                    <a:lnTo>
                      <a:pt x="482" y="1427"/>
                    </a:lnTo>
                    <a:lnTo>
                      <a:pt x="486" y="1432"/>
                    </a:lnTo>
                    <a:lnTo>
                      <a:pt x="491" y="1437"/>
                    </a:lnTo>
                    <a:lnTo>
                      <a:pt x="499" y="1442"/>
                    </a:lnTo>
                    <a:lnTo>
                      <a:pt x="511" y="1448"/>
                    </a:lnTo>
                    <a:lnTo>
                      <a:pt x="526" y="1454"/>
                    </a:lnTo>
                    <a:lnTo>
                      <a:pt x="545" y="1460"/>
                    </a:lnTo>
                    <a:lnTo>
                      <a:pt x="567" y="1465"/>
                    </a:lnTo>
                    <a:lnTo>
                      <a:pt x="593" y="1472"/>
                    </a:lnTo>
                    <a:lnTo>
                      <a:pt x="622" y="1478"/>
                    </a:lnTo>
                    <a:lnTo>
                      <a:pt x="656" y="1484"/>
                    </a:lnTo>
                    <a:lnTo>
                      <a:pt x="666" y="1486"/>
                    </a:lnTo>
                    <a:lnTo>
                      <a:pt x="680" y="1490"/>
                    </a:lnTo>
                    <a:lnTo>
                      <a:pt x="697" y="1493"/>
                    </a:lnTo>
                    <a:lnTo>
                      <a:pt x="716" y="1497"/>
                    </a:lnTo>
                    <a:lnTo>
                      <a:pt x="716" y="1563"/>
                    </a:lnTo>
                    <a:lnTo>
                      <a:pt x="667" y="1560"/>
                    </a:lnTo>
                    <a:lnTo>
                      <a:pt x="620" y="1557"/>
                    </a:lnTo>
                    <a:lnTo>
                      <a:pt x="573" y="1555"/>
                    </a:lnTo>
                    <a:lnTo>
                      <a:pt x="529" y="1553"/>
                    </a:lnTo>
                    <a:lnTo>
                      <a:pt x="485" y="1552"/>
                    </a:lnTo>
                    <a:lnTo>
                      <a:pt x="444" y="1551"/>
                    </a:lnTo>
                    <a:lnTo>
                      <a:pt x="404" y="1550"/>
                    </a:lnTo>
                    <a:lnTo>
                      <a:pt x="365" y="1550"/>
                    </a:lnTo>
                    <a:lnTo>
                      <a:pt x="323" y="1550"/>
                    </a:lnTo>
                    <a:lnTo>
                      <a:pt x="281" y="1551"/>
                    </a:lnTo>
                    <a:lnTo>
                      <a:pt x="237" y="1552"/>
                    </a:lnTo>
                    <a:lnTo>
                      <a:pt x="192" y="1553"/>
                    </a:lnTo>
                    <a:lnTo>
                      <a:pt x="146" y="1555"/>
                    </a:lnTo>
                    <a:lnTo>
                      <a:pt x="99" y="1557"/>
                    </a:lnTo>
                    <a:lnTo>
                      <a:pt x="50" y="1560"/>
                    </a:lnTo>
                    <a:lnTo>
                      <a:pt x="0" y="1563"/>
                    </a:lnTo>
                    <a:lnTo>
                      <a:pt x="0" y="1497"/>
                    </a:lnTo>
                    <a:lnTo>
                      <a:pt x="48" y="1487"/>
                    </a:lnTo>
                    <a:lnTo>
                      <a:pt x="85" y="1480"/>
                    </a:lnTo>
                    <a:lnTo>
                      <a:pt x="118" y="1474"/>
                    </a:lnTo>
                    <a:lnTo>
                      <a:pt x="146" y="1466"/>
                    </a:lnTo>
                    <a:lnTo>
                      <a:pt x="171" y="1460"/>
                    </a:lnTo>
                    <a:lnTo>
                      <a:pt x="192" y="1455"/>
                    </a:lnTo>
                    <a:lnTo>
                      <a:pt x="208" y="1448"/>
                    </a:lnTo>
                    <a:lnTo>
                      <a:pt x="219" y="1444"/>
                    </a:lnTo>
                    <a:lnTo>
                      <a:pt x="227" y="1439"/>
                    </a:lnTo>
                    <a:lnTo>
                      <a:pt x="232" y="1433"/>
                    </a:lnTo>
                    <a:lnTo>
                      <a:pt x="236" y="1427"/>
                    </a:lnTo>
                    <a:lnTo>
                      <a:pt x="240" y="1420"/>
                    </a:lnTo>
                    <a:lnTo>
                      <a:pt x="244" y="1411"/>
                    </a:lnTo>
                    <a:lnTo>
                      <a:pt x="246" y="1403"/>
                    </a:lnTo>
                    <a:lnTo>
                      <a:pt x="248" y="1392"/>
                    </a:lnTo>
                    <a:lnTo>
                      <a:pt x="250" y="1381"/>
                    </a:lnTo>
                    <a:lnTo>
                      <a:pt x="251" y="1370"/>
                    </a:lnTo>
                    <a:lnTo>
                      <a:pt x="252" y="1354"/>
                    </a:lnTo>
                    <a:lnTo>
                      <a:pt x="252" y="1322"/>
                    </a:lnTo>
                    <a:lnTo>
                      <a:pt x="253" y="1276"/>
                    </a:lnTo>
                    <a:lnTo>
                      <a:pt x="254" y="1212"/>
                    </a:lnTo>
                    <a:lnTo>
                      <a:pt x="254" y="1134"/>
                    </a:lnTo>
                    <a:lnTo>
                      <a:pt x="255" y="1039"/>
                    </a:lnTo>
                    <a:lnTo>
                      <a:pt x="256" y="929"/>
                    </a:lnTo>
                    <a:lnTo>
                      <a:pt x="256" y="804"/>
                    </a:lnTo>
                    <a:lnTo>
                      <a:pt x="252" y="286"/>
                    </a:lnTo>
                    <a:lnTo>
                      <a:pt x="251" y="233"/>
                    </a:lnTo>
                    <a:lnTo>
                      <a:pt x="250" y="192"/>
                    </a:lnTo>
                    <a:lnTo>
                      <a:pt x="249" y="164"/>
                    </a:lnTo>
                    <a:lnTo>
                      <a:pt x="247" y="149"/>
                    </a:lnTo>
                    <a:lnTo>
                      <a:pt x="243" y="141"/>
                    </a:lnTo>
                    <a:lnTo>
                      <a:pt x="238" y="134"/>
                    </a:lnTo>
                    <a:lnTo>
                      <a:pt x="232" y="128"/>
                    </a:lnTo>
                    <a:lnTo>
                      <a:pt x="225" y="123"/>
                    </a:lnTo>
                    <a:lnTo>
                      <a:pt x="211" y="116"/>
                    </a:lnTo>
                    <a:lnTo>
                      <a:pt x="194" y="109"/>
                    </a:lnTo>
                    <a:lnTo>
                      <a:pt x="176" y="102"/>
                    </a:lnTo>
                    <a:lnTo>
                      <a:pt x="156" y="96"/>
                    </a:lnTo>
                    <a:lnTo>
                      <a:pt x="133" y="91"/>
                    </a:lnTo>
                    <a:lnTo>
                      <a:pt x="109" y="85"/>
                    </a:lnTo>
                    <a:lnTo>
                      <a:pt x="83" y="80"/>
                    </a:lnTo>
                    <a:lnTo>
                      <a:pt x="54" y="75"/>
                    </a:lnTo>
                    <a:lnTo>
                      <a:pt x="45" y="74"/>
                    </a:lnTo>
                    <a:lnTo>
                      <a:pt x="32" y="71"/>
                    </a:lnTo>
                    <a:lnTo>
                      <a:pt x="17" y="69"/>
                    </a:lnTo>
                    <a:lnTo>
                      <a:pt x="0" y="64"/>
                    </a:lnTo>
                    <a:close/>
                    <a:moveTo>
                      <a:pt x="462" y="738"/>
                    </a:moveTo>
                    <a:lnTo>
                      <a:pt x="490" y="741"/>
                    </a:lnTo>
                    <a:lnTo>
                      <a:pt x="516" y="744"/>
                    </a:lnTo>
                    <a:lnTo>
                      <a:pt x="540" y="746"/>
                    </a:lnTo>
                    <a:lnTo>
                      <a:pt x="564" y="748"/>
                    </a:lnTo>
                    <a:lnTo>
                      <a:pt x="585" y="749"/>
                    </a:lnTo>
                    <a:lnTo>
                      <a:pt x="604" y="750"/>
                    </a:lnTo>
                    <a:lnTo>
                      <a:pt x="622" y="750"/>
                    </a:lnTo>
                    <a:lnTo>
                      <a:pt x="639" y="751"/>
                    </a:lnTo>
                    <a:lnTo>
                      <a:pt x="663" y="750"/>
                    </a:lnTo>
                    <a:lnTo>
                      <a:pt x="688" y="749"/>
                    </a:lnTo>
                    <a:lnTo>
                      <a:pt x="710" y="748"/>
                    </a:lnTo>
                    <a:lnTo>
                      <a:pt x="732" y="745"/>
                    </a:lnTo>
                    <a:lnTo>
                      <a:pt x="754" y="741"/>
                    </a:lnTo>
                    <a:lnTo>
                      <a:pt x="774" y="738"/>
                    </a:lnTo>
                    <a:lnTo>
                      <a:pt x="795" y="734"/>
                    </a:lnTo>
                    <a:lnTo>
                      <a:pt x="814" y="729"/>
                    </a:lnTo>
                    <a:lnTo>
                      <a:pt x="832" y="722"/>
                    </a:lnTo>
                    <a:lnTo>
                      <a:pt x="849" y="716"/>
                    </a:lnTo>
                    <a:lnTo>
                      <a:pt x="866" y="709"/>
                    </a:lnTo>
                    <a:lnTo>
                      <a:pt x="881" y="700"/>
                    </a:lnTo>
                    <a:lnTo>
                      <a:pt x="896" y="692"/>
                    </a:lnTo>
                    <a:lnTo>
                      <a:pt x="910" y="682"/>
                    </a:lnTo>
                    <a:lnTo>
                      <a:pt x="923" y="673"/>
                    </a:lnTo>
                    <a:lnTo>
                      <a:pt x="935" y="662"/>
                    </a:lnTo>
                    <a:lnTo>
                      <a:pt x="947" y="650"/>
                    </a:lnTo>
                    <a:lnTo>
                      <a:pt x="958" y="639"/>
                    </a:lnTo>
                    <a:lnTo>
                      <a:pt x="968" y="626"/>
                    </a:lnTo>
                    <a:lnTo>
                      <a:pt x="978" y="612"/>
                    </a:lnTo>
                    <a:lnTo>
                      <a:pt x="986" y="599"/>
                    </a:lnTo>
                    <a:lnTo>
                      <a:pt x="995" y="585"/>
                    </a:lnTo>
                    <a:lnTo>
                      <a:pt x="1001" y="570"/>
                    </a:lnTo>
                    <a:lnTo>
                      <a:pt x="1007" y="555"/>
                    </a:lnTo>
                    <a:lnTo>
                      <a:pt x="1014" y="539"/>
                    </a:lnTo>
                    <a:lnTo>
                      <a:pt x="1018" y="523"/>
                    </a:lnTo>
                    <a:lnTo>
                      <a:pt x="1022" y="506"/>
                    </a:lnTo>
                    <a:lnTo>
                      <a:pt x="1025" y="488"/>
                    </a:lnTo>
                    <a:lnTo>
                      <a:pt x="1029" y="471"/>
                    </a:lnTo>
                    <a:lnTo>
                      <a:pt x="1031" y="452"/>
                    </a:lnTo>
                    <a:lnTo>
                      <a:pt x="1032" y="433"/>
                    </a:lnTo>
                    <a:lnTo>
                      <a:pt x="1032" y="414"/>
                    </a:lnTo>
                    <a:lnTo>
                      <a:pt x="1032" y="397"/>
                    </a:lnTo>
                    <a:lnTo>
                      <a:pt x="1031" y="380"/>
                    </a:lnTo>
                    <a:lnTo>
                      <a:pt x="1029" y="363"/>
                    </a:lnTo>
                    <a:lnTo>
                      <a:pt x="1027" y="348"/>
                    </a:lnTo>
                    <a:lnTo>
                      <a:pt x="1023" y="332"/>
                    </a:lnTo>
                    <a:lnTo>
                      <a:pt x="1020" y="318"/>
                    </a:lnTo>
                    <a:lnTo>
                      <a:pt x="1016" y="304"/>
                    </a:lnTo>
                    <a:lnTo>
                      <a:pt x="1011" y="289"/>
                    </a:lnTo>
                    <a:lnTo>
                      <a:pt x="1005" y="276"/>
                    </a:lnTo>
                    <a:lnTo>
                      <a:pt x="999" y="262"/>
                    </a:lnTo>
                    <a:lnTo>
                      <a:pt x="992" y="251"/>
                    </a:lnTo>
                    <a:lnTo>
                      <a:pt x="984" y="238"/>
                    </a:lnTo>
                    <a:lnTo>
                      <a:pt x="976" y="226"/>
                    </a:lnTo>
                    <a:lnTo>
                      <a:pt x="966" y="216"/>
                    </a:lnTo>
                    <a:lnTo>
                      <a:pt x="957" y="205"/>
                    </a:lnTo>
                    <a:lnTo>
                      <a:pt x="946" y="195"/>
                    </a:lnTo>
                    <a:lnTo>
                      <a:pt x="935" y="185"/>
                    </a:lnTo>
                    <a:lnTo>
                      <a:pt x="924" y="176"/>
                    </a:lnTo>
                    <a:lnTo>
                      <a:pt x="912" y="167"/>
                    </a:lnTo>
                    <a:lnTo>
                      <a:pt x="899" y="160"/>
                    </a:lnTo>
                    <a:lnTo>
                      <a:pt x="886" y="152"/>
                    </a:lnTo>
                    <a:lnTo>
                      <a:pt x="872" y="146"/>
                    </a:lnTo>
                    <a:lnTo>
                      <a:pt x="857" y="140"/>
                    </a:lnTo>
                    <a:lnTo>
                      <a:pt x="842" y="134"/>
                    </a:lnTo>
                    <a:lnTo>
                      <a:pt x="826" y="130"/>
                    </a:lnTo>
                    <a:lnTo>
                      <a:pt x="809" y="126"/>
                    </a:lnTo>
                    <a:lnTo>
                      <a:pt x="792" y="121"/>
                    </a:lnTo>
                    <a:lnTo>
                      <a:pt x="775" y="119"/>
                    </a:lnTo>
                    <a:lnTo>
                      <a:pt x="756" y="117"/>
                    </a:lnTo>
                    <a:lnTo>
                      <a:pt x="738" y="115"/>
                    </a:lnTo>
                    <a:lnTo>
                      <a:pt x="718" y="114"/>
                    </a:lnTo>
                    <a:lnTo>
                      <a:pt x="698" y="114"/>
                    </a:lnTo>
                    <a:lnTo>
                      <a:pt x="682" y="114"/>
                    </a:lnTo>
                    <a:lnTo>
                      <a:pt x="662" y="115"/>
                    </a:lnTo>
                    <a:lnTo>
                      <a:pt x="639" y="116"/>
                    </a:lnTo>
                    <a:lnTo>
                      <a:pt x="611" y="117"/>
                    </a:lnTo>
                    <a:lnTo>
                      <a:pt x="581" y="119"/>
                    </a:lnTo>
                    <a:lnTo>
                      <a:pt x="547" y="121"/>
                    </a:lnTo>
                    <a:lnTo>
                      <a:pt x="510" y="124"/>
                    </a:lnTo>
                    <a:lnTo>
                      <a:pt x="468" y="127"/>
                    </a:lnTo>
                    <a:lnTo>
                      <a:pt x="462" y="738"/>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grpSp>
      </p:grpSp>
      <p:sp>
        <p:nvSpPr>
          <p:cNvPr id="286" name="TextBox 86"/>
          <p:cNvSpPr/>
          <p:nvPr/>
        </p:nvSpPr>
        <p:spPr>
          <a:xfrm>
            <a:off x="889920" y="3224160"/>
            <a:ext cx="2338920" cy="3401640"/>
          </a:xfrm>
          <a:prstGeom prst="rect">
            <a:avLst/>
          </a:prstGeom>
          <a:noFill/>
          <a:ln w="0">
            <a:noFill/>
          </a:ln>
        </p:spPr>
        <p:style>
          <a:lnRef idx="0"/>
          <a:fillRef idx="0"/>
          <a:effectRef idx="0"/>
          <a:fontRef idx="minor"/>
        </p:style>
        <p:txBody>
          <a:bodyPr lIns="90000" rIns="90000" tIns="45000" bIns="45000" anchor="t" vert="vert" rot="5400000">
            <a:noAutofit/>
            <a:scene3d>
              <a:camera prst="orthographicFront"/>
              <a:lightRig dir="tl" rig="soft">
                <a:rot lat="0" lon="0" rev="0"/>
              </a:lightRig>
            </a:scene3d>
            <a:sp3d contourW="25400" prstMaterial="matte">
              <a:bevelT prst="artDeco" w="25400" h="55880"/>
              <a:contourClr>
                <a:schemeClr val="accent2"/>
              </a:contourClr>
            </a:sp3d>
          </a:bodyPr>
          <a:p>
            <a:pPr>
              <a:lnSpc>
                <a:spcPct val="100000"/>
              </a:lnSpc>
            </a:pPr>
            <a:r>
              <a:rPr b="1" lang="zh-CN" sz="2800" spc="49" strike="noStrike">
                <a:solidFill>
                  <a:schemeClr val="accent2"/>
                </a:solidFill>
                <a:latin typeface="微软雅黑"/>
                <a:ea typeface="微软雅黑"/>
              </a:rPr>
              <a:t>高端猎头</a:t>
            </a:r>
            <a:endParaRPr b="0" lang="en-US" sz="2800" spc="-1" strike="noStrike">
              <a:solidFill>
                <a:srgbClr val="ffffff"/>
              </a:solidFill>
              <a:latin typeface="Arial"/>
            </a:endParaRPr>
          </a:p>
          <a:p>
            <a:pPr>
              <a:lnSpc>
                <a:spcPct val="100000"/>
              </a:lnSpc>
            </a:pPr>
            <a:endParaRPr b="0" lang="en-US" sz="2800" spc="-1" strike="noStrike">
              <a:solidFill>
                <a:srgbClr val="ffffff"/>
              </a:solidFill>
              <a:latin typeface="Arial"/>
            </a:endParaRPr>
          </a:p>
          <a:p>
            <a:pPr>
              <a:lnSpc>
                <a:spcPct val="100000"/>
              </a:lnSpc>
            </a:pPr>
            <a:r>
              <a:rPr b="1" lang="en-US" sz="2800" spc="49" strike="noStrike">
                <a:solidFill>
                  <a:schemeClr val="accent2"/>
                </a:solidFill>
                <a:latin typeface="微软雅黑"/>
                <a:ea typeface="微软雅黑"/>
              </a:rPr>
              <a:t>   </a:t>
            </a:r>
            <a:r>
              <a:rPr b="1" lang="zh-CN" sz="2800" spc="49" strike="noStrike">
                <a:solidFill>
                  <a:schemeClr val="accent2"/>
                </a:solidFill>
                <a:latin typeface="微软雅黑"/>
                <a:ea typeface="微软雅黑"/>
              </a:rPr>
              <a:t>企业培训</a:t>
            </a:r>
            <a:endParaRPr b="0" lang="en-US" sz="2800" spc="-1" strike="noStrike">
              <a:solidFill>
                <a:srgbClr val="ffffff"/>
              </a:solidFill>
              <a:latin typeface="Arial"/>
            </a:endParaRPr>
          </a:p>
          <a:p>
            <a:pPr>
              <a:lnSpc>
                <a:spcPct val="100000"/>
              </a:lnSpc>
            </a:pPr>
            <a:endParaRPr b="0" lang="en-US" sz="2800" spc="-1" strike="noStrike">
              <a:solidFill>
                <a:srgbClr val="ffffff"/>
              </a:solidFill>
              <a:latin typeface="Arial"/>
            </a:endParaRPr>
          </a:p>
          <a:p>
            <a:pPr>
              <a:lnSpc>
                <a:spcPct val="100000"/>
              </a:lnSpc>
            </a:pPr>
            <a:r>
              <a:rPr b="1" lang="en-US" sz="2800" spc="49" strike="noStrike">
                <a:solidFill>
                  <a:schemeClr val="accent2"/>
                </a:solidFill>
                <a:latin typeface="微软雅黑"/>
                <a:ea typeface="微软雅黑"/>
              </a:rPr>
              <a:t>      </a:t>
            </a:r>
            <a:r>
              <a:rPr b="1" lang="zh-CN" sz="2800" spc="49" strike="noStrike">
                <a:solidFill>
                  <a:schemeClr val="accent2"/>
                </a:solidFill>
                <a:latin typeface="微软雅黑"/>
                <a:ea typeface="微软雅黑"/>
              </a:rPr>
              <a:t>企业管理咨询</a:t>
            </a:r>
            <a:endParaRPr b="0" lang="en-US" sz="2800" spc="-1" strike="noStrike">
              <a:solidFill>
                <a:srgbClr val="ffffff"/>
              </a:solidFill>
              <a:latin typeface="Arial"/>
            </a:endParaRPr>
          </a:p>
        </p:txBody>
      </p:sp>
      <p:sp>
        <p:nvSpPr>
          <p:cNvPr id="287" name="TextBox 87"/>
          <p:cNvSpPr/>
          <p:nvPr/>
        </p:nvSpPr>
        <p:spPr>
          <a:xfrm>
            <a:off x="1038960" y="1757520"/>
            <a:ext cx="3490920" cy="1186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7200" spc="-1" strike="noStrike">
                <a:solidFill>
                  <a:srgbClr val="ff0000"/>
                </a:solidFill>
                <a:latin typeface="微软雅黑"/>
                <a:ea typeface="微软雅黑"/>
              </a:rPr>
              <a:t>三 </a:t>
            </a:r>
            <a:r>
              <a:rPr b="1" lang="zh-CN" sz="3200" spc="-1" strike="noStrike">
                <a:solidFill>
                  <a:srgbClr val="000000"/>
                </a:solidFill>
                <a:latin typeface="微软雅黑"/>
                <a:ea typeface="微软雅黑"/>
              </a:rPr>
              <a:t>大核心业务</a:t>
            </a:r>
            <a:endParaRPr b="0" lang="en-US" sz="3200" spc="-1" strike="noStrike">
              <a:solidFill>
                <a:srgbClr val="ffffff"/>
              </a:solidFill>
              <a:latin typeface="Arial"/>
            </a:endParaRPr>
          </a:p>
        </p:txBody>
      </p:sp>
      <p:sp>
        <p:nvSpPr>
          <p:cNvPr id="288" name="任意多边形 8"/>
          <p:cNvSpPr/>
          <p:nvPr/>
        </p:nvSpPr>
        <p:spPr>
          <a:xfrm rot="5400000">
            <a:off x="-321480" y="1820160"/>
            <a:ext cx="2103840" cy="170280"/>
          </a:xfrm>
          <a:custGeom>
            <a:avLst/>
            <a:gdLst>
              <a:gd name="textAreaLeft" fmla="*/ 0 w 2103840"/>
              <a:gd name="textAreaRight" fmla="*/ 2104200 w 2103840"/>
              <a:gd name="textAreaTop" fmla="*/ 0 h 170280"/>
              <a:gd name="textAreaBottom" fmla="*/ 170640 h 170280"/>
            </a:gdLst>
            <a:ahLst/>
            <a:rect l="textAreaLeft" t="textAreaTop" r="textAreaRight" b="textAreaBottom"/>
            <a:pathLst>
              <a:path w="353683" h="635">
                <a:moveTo>
                  <a:pt x="0" y="0"/>
                </a:moveTo>
                <a:lnTo>
                  <a:pt x="353683" y="0"/>
                </a:lnTo>
              </a:path>
            </a:pathLst>
          </a:custGeom>
          <a:solidFill>
            <a:schemeClr val="tx1"/>
          </a:solidFill>
          <a:ln w="38100">
            <a:solidFill>
              <a:srgbClr val="000000"/>
            </a:solidFill>
            <a:miter/>
          </a:ln>
        </p:spPr>
        <p:style>
          <a:lnRef idx="0"/>
          <a:fillRef idx="0"/>
          <a:effectRef idx="0"/>
          <a:fontRef idx="minor"/>
        </p:style>
        <p:txBody>
          <a:bodyPr lIns="90000" rIns="90000" tIns="47160" bIns="47160" anchor="ctr">
            <a:noAutofit/>
          </a:bodyPr>
          <a:p>
            <a:pPr algn="ctr">
              <a:lnSpc>
                <a:spcPct val="100000"/>
              </a:lnSpc>
            </a:pPr>
            <a:endParaRPr b="0" lang="en-US" sz="1800" spc="-1" strike="noStrike">
              <a:solidFill>
                <a:srgbClr val="000000"/>
              </a:solidFill>
              <a:latin typeface="Calibri"/>
              <a:ea typeface="宋体"/>
            </a:endParaRPr>
          </a:p>
        </p:txBody>
      </p:sp>
      <p:cxnSp>
        <p:nvCxnSpPr>
          <p:cNvPr id="289" name="直接连接符 173"/>
          <p:cNvCxnSpPr/>
          <p:nvPr/>
        </p:nvCxnSpPr>
        <p:spPr>
          <a:xfrm>
            <a:off x="799920" y="1504440"/>
            <a:ext cx="914760" cy="914760"/>
          </a:xfrm>
          <a:prstGeom prst="straightConnector1">
            <a:avLst/>
          </a:prstGeom>
          <a:ln w="0">
            <a:noFill/>
          </a:ln>
        </p:spPr>
      </p:cxnSp>
      <p:cxnSp>
        <p:nvCxnSpPr>
          <p:cNvPr id="290" name="直接箭头连接符 444"/>
          <p:cNvCxnSpPr/>
          <p:nvPr/>
        </p:nvCxnSpPr>
        <p:spPr>
          <a:xfrm flipH="1" flipV="1">
            <a:off x="2914560" y="4902120"/>
            <a:ext cx="314640" cy="927360"/>
          </a:xfrm>
          <a:prstGeom prst="straightConnector1">
            <a:avLst/>
          </a:prstGeom>
          <a:ln w="0">
            <a:solidFill>
              <a:srgbClr val="000000"/>
            </a:solidFill>
            <a:tailEnd len="med" type="arrow" w="med"/>
          </a:ln>
        </p:spPr>
      </p:cxnSp>
      <p:cxnSp>
        <p:nvCxnSpPr>
          <p:cNvPr id="291" name="直接箭头连接符 449"/>
          <p:cNvCxnSpPr/>
          <p:nvPr/>
        </p:nvCxnSpPr>
        <p:spPr>
          <a:xfrm flipH="1" flipV="1">
            <a:off x="2128680" y="5206680"/>
            <a:ext cx="1100520" cy="1965960"/>
          </a:xfrm>
          <a:prstGeom prst="straightConnector1">
            <a:avLst/>
          </a:prstGeom>
          <a:ln w="0">
            <a:solidFill>
              <a:srgbClr val="000000"/>
            </a:solidFill>
            <a:tailEnd len="med" type="arrow" w="med"/>
          </a:ln>
        </p:spPr>
      </p:cxnSp>
      <p:cxnSp>
        <p:nvCxnSpPr>
          <p:cNvPr id="292" name="直接箭头连接符 450"/>
          <p:cNvCxnSpPr/>
          <p:nvPr/>
        </p:nvCxnSpPr>
        <p:spPr>
          <a:xfrm flipH="1" flipV="1">
            <a:off x="1242720" y="6262560"/>
            <a:ext cx="1986480" cy="3281760"/>
          </a:xfrm>
          <a:prstGeom prst="straightConnector1">
            <a:avLst/>
          </a:prstGeom>
          <a:ln w="0">
            <a:solidFill>
              <a:srgbClr val="000000"/>
            </a:solidFill>
            <a:tailEnd len="med" type="arrow" w="med"/>
          </a:ln>
        </p:spPr>
      </p:cxnSp>
      <p:sp>
        <p:nvSpPr>
          <p:cNvPr id="293" name="任意多边形 8"/>
          <p:cNvSpPr/>
          <p:nvPr/>
        </p:nvSpPr>
        <p:spPr>
          <a:xfrm flipV="1" rot="5400000">
            <a:off x="1762200" y="9186480"/>
            <a:ext cx="1393920" cy="45360"/>
          </a:xfrm>
          <a:custGeom>
            <a:avLst/>
            <a:gdLst>
              <a:gd name="textAreaLeft" fmla="*/ 0 w 1393920"/>
              <a:gd name="textAreaRight" fmla="*/ 1394280 w 1393920"/>
              <a:gd name="textAreaTop" fmla="*/ 360 h 45360"/>
              <a:gd name="textAreaBottom" fmla="*/ 46080 h 45360"/>
            </a:gdLst>
            <a:ahLst/>
            <a:rect l="textAreaLeft" t="textAreaTop" r="textAreaRight" b="textAreaBottom"/>
            <a:pathLst>
              <a:path w="353683" h="635">
                <a:moveTo>
                  <a:pt x="0" y="0"/>
                </a:moveTo>
                <a:lnTo>
                  <a:pt x="353683" y="0"/>
                </a:lnTo>
              </a:path>
            </a:pathLst>
          </a:custGeom>
          <a:solidFill>
            <a:schemeClr val="tx1"/>
          </a:solidFill>
          <a:ln w="38100">
            <a:solidFill>
              <a:srgbClr val="000000"/>
            </a:solidFill>
            <a:miter/>
          </a:ln>
        </p:spPr>
        <p:style>
          <a:lnRef idx="0"/>
          <a:fillRef idx="0"/>
          <a:effectRef idx="0"/>
          <a:fontRef idx="minor"/>
        </p:style>
        <p:txBody>
          <a:bodyPr lIns="90000" rIns="90000" tIns="22680" bIns="22680" anchor="ctr">
            <a:noAutofit/>
          </a:bodyPr>
          <a:p>
            <a:pPr algn="ctr">
              <a:lnSpc>
                <a:spcPct val="100000"/>
              </a:lnSpc>
            </a:pPr>
            <a:endParaRPr b="0" lang="en-US" sz="1800" spc="-1" strike="noStrike">
              <a:solidFill>
                <a:srgbClr val="000000"/>
              </a:solidFill>
              <a:latin typeface="Calibri"/>
              <a:ea typeface="宋体"/>
            </a:endParaRPr>
          </a:p>
        </p:txBody>
      </p:sp>
      <p:sp>
        <p:nvSpPr>
          <p:cNvPr id="294" name="任意多边形 8"/>
          <p:cNvSpPr/>
          <p:nvPr/>
        </p:nvSpPr>
        <p:spPr>
          <a:xfrm rot="5400000">
            <a:off x="2580840" y="340200"/>
            <a:ext cx="822600" cy="154800"/>
          </a:xfrm>
          <a:custGeom>
            <a:avLst/>
            <a:gdLst>
              <a:gd name="textAreaLeft" fmla="*/ 0 w 822600"/>
              <a:gd name="textAreaRight" fmla="*/ 822960 w 822600"/>
              <a:gd name="textAreaTop" fmla="*/ 0 h 154800"/>
              <a:gd name="textAreaBottom" fmla="*/ 155160 h 154800"/>
            </a:gdLst>
            <a:ahLst/>
            <a:rect l="textAreaLeft" t="textAreaTop" r="textAreaRight" b="textAreaBottom"/>
            <a:pathLst>
              <a:path w="353683" h="635">
                <a:moveTo>
                  <a:pt x="0" y="0"/>
                </a:moveTo>
                <a:lnTo>
                  <a:pt x="353683" y="0"/>
                </a:lnTo>
              </a:path>
            </a:pathLst>
          </a:custGeom>
          <a:solidFill>
            <a:schemeClr val="tx1"/>
          </a:solidFill>
          <a:ln w="38100">
            <a:solidFill>
              <a:srgbClr val="000000"/>
            </a:solidFill>
            <a:miter/>
          </a:ln>
        </p:spPr>
        <p:style>
          <a:lnRef idx="0"/>
          <a:fillRef idx="0"/>
          <a:effectRef idx="0"/>
          <a:fontRef idx="minor"/>
        </p:style>
        <p:txBody>
          <a:bodyPr lIns="90000" rIns="90000" tIns="47160" bIns="47160" anchor="ctr">
            <a:noAutofit/>
          </a:bodyPr>
          <a:p>
            <a:pPr algn="ctr">
              <a:lnSpc>
                <a:spcPct val="100000"/>
              </a:lnSpc>
            </a:pPr>
            <a:endParaRPr b="0" lang="en-US" sz="1800" spc="-1" strike="noStrike">
              <a:solidFill>
                <a:srgbClr val="000000"/>
              </a:solidFill>
              <a:latin typeface="Calibri"/>
              <a:ea typeface="宋体"/>
            </a:endParaRPr>
          </a:p>
        </p:txBody>
      </p:sp>
      <p:cxnSp>
        <p:nvCxnSpPr>
          <p:cNvPr id="295" name="直接连接符 2"/>
          <p:cNvCxnSpPr/>
          <p:nvPr/>
        </p:nvCxnSpPr>
        <p:spPr>
          <a:xfrm flipH="1">
            <a:off x="799920" y="852120"/>
            <a:ext cx="2279160" cy="360"/>
          </a:xfrm>
          <a:prstGeom prst="straightConnector1">
            <a:avLst/>
          </a:prstGeom>
          <a:ln w="38100">
            <a:solidFill>
              <a:srgbClr val="000000"/>
            </a:solidFill>
            <a:round/>
          </a:ln>
        </p:spPr>
      </p:cxnSp>
      <p:cxnSp>
        <p:nvCxnSpPr>
          <p:cNvPr id="296" name="直接连接符 94"/>
          <p:cNvCxnSpPr/>
          <p:nvPr/>
        </p:nvCxnSpPr>
        <p:spPr>
          <a:xfrm flipH="1">
            <a:off x="815040" y="2957400"/>
            <a:ext cx="3480480" cy="3960"/>
          </a:xfrm>
          <a:prstGeom prst="straightConnector1">
            <a:avLst/>
          </a:prstGeom>
          <a:ln w="38100">
            <a:solidFill>
              <a:srgbClr val="000000"/>
            </a:solidFill>
            <a:round/>
          </a:ln>
        </p:spPr>
      </p:cxnSp>
    </p:spTree>
  </p:cSld>
  <p:transition spd="slow" advTm="5000">
    <p:push dir="u"/>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2" presetSubtype="1">
                                  <p:stCondLst>
                                    <p:cond delay="0"/>
                                  </p:stCondLst>
                                  <p:childTnLst>
                                    <p:set>
                                      <p:cBhvr>
                                        <p:cTn id="40" dur="1" fill="hold">
                                          <p:stCondLst>
                                            <p:cond delay="0"/>
                                          </p:stCondLst>
                                        </p:cTn>
                                        <p:tgtEl>
                                          <p:spTgt spid="294"/>
                                        </p:tgtEl>
                                        <p:attrNameLst>
                                          <p:attrName>style.visibility</p:attrName>
                                        </p:attrNameLst>
                                      </p:cBhvr>
                                      <p:to>
                                        <p:strVal val="visible"/>
                                      </p:to>
                                    </p:set>
                                    <p:animEffect filter="wipe(up)" transition="in">
                                      <p:cBhvr additive="repl">
                                        <p:cTn id="41" dur="1000"/>
                                        <p:tgtEl>
                                          <p:spTgt spid="294"/>
                                        </p:tgtEl>
                                      </p:cBhvr>
                                    </p:animEffect>
                                  </p:childTnLst>
                                </p:cTn>
                              </p:par>
                            </p:childTnLst>
                          </p:cTn>
                        </p:par>
                        <p:par>
                          <p:cTn id="42" fill="hold">
                            <p:stCondLst>
                              <p:cond delay="1000"/>
                            </p:stCondLst>
                            <p:childTnLst>
                              <p:par>
                                <p:cTn id="43" nodeType="afterEffect" fill="hold" presetClass="entr" presetID="22" presetSubtype="2">
                                  <p:stCondLst>
                                    <p:cond delay="0"/>
                                  </p:stCondLst>
                                  <p:childTnLst>
                                    <p:set>
                                      <p:cBhvr>
                                        <p:cTn id="44" dur="1" fill="hold">
                                          <p:stCondLst>
                                            <p:cond delay="0"/>
                                          </p:stCondLst>
                                        </p:cTn>
                                        <p:tgtEl>
                                          <p:spTgt spid="295"/>
                                        </p:tgtEl>
                                        <p:attrNameLst>
                                          <p:attrName>style.visibility</p:attrName>
                                        </p:attrNameLst>
                                      </p:cBhvr>
                                      <p:to>
                                        <p:strVal val="visible"/>
                                      </p:to>
                                    </p:set>
                                    <p:animEffect filter="wipe(right)" transition="in">
                                      <p:cBhvr additive="repl">
                                        <p:cTn id="45" dur="1000"/>
                                        <p:tgtEl>
                                          <p:spTgt spid="295"/>
                                        </p:tgtEl>
                                      </p:cBhvr>
                                    </p:animEffect>
                                  </p:childTnLst>
                                </p:cTn>
                              </p:par>
                            </p:childTnLst>
                          </p:cTn>
                        </p:par>
                        <p:par>
                          <p:cTn id="46" fill="hold">
                            <p:stCondLst>
                              <p:cond delay="2000"/>
                            </p:stCondLst>
                            <p:childTnLst>
                              <p:par>
                                <p:cTn id="47" nodeType="afterEffect" fill="hold" presetClass="entr" presetID="22" presetSubtype="1">
                                  <p:stCondLst>
                                    <p:cond delay="0"/>
                                  </p:stCondLst>
                                  <p:childTnLst>
                                    <p:set>
                                      <p:cBhvr>
                                        <p:cTn id="48" dur="1" fill="hold">
                                          <p:stCondLst>
                                            <p:cond delay="0"/>
                                          </p:stCondLst>
                                        </p:cTn>
                                        <p:tgtEl>
                                          <p:spTgt spid="288"/>
                                        </p:tgtEl>
                                        <p:attrNameLst>
                                          <p:attrName>style.visibility</p:attrName>
                                        </p:attrNameLst>
                                      </p:cBhvr>
                                      <p:to>
                                        <p:strVal val="visible"/>
                                      </p:to>
                                    </p:set>
                                    <p:animEffect filter="wipe(up)" transition="in">
                                      <p:cBhvr additive="repl">
                                        <p:cTn id="49" dur="1000"/>
                                        <p:tgtEl>
                                          <p:spTgt spid="288"/>
                                        </p:tgtEl>
                                      </p:cBhvr>
                                    </p:animEffect>
                                  </p:childTnLst>
                                </p:cTn>
                              </p:par>
                            </p:childTnLst>
                          </p:cTn>
                        </p:par>
                        <p:par>
                          <p:cTn id="50" fill="hold">
                            <p:stCondLst>
                              <p:cond delay="3000"/>
                            </p:stCondLst>
                            <p:childTnLst>
                              <p:par>
                                <p:cTn id="51" nodeType="afterEffect" fill="hold" presetClass="entr" presetID="22" presetSubtype="8">
                                  <p:stCondLst>
                                    <p:cond delay="0"/>
                                  </p:stCondLst>
                                  <p:childTnLst>
                                    <p:set>
                                      <p:cBhvr>
                                        <p:cTn id="52" dur="1" fill="hold">
                                          <p:stCondLst>
                                            <p:cond delay="0"/>
                                          </p:stCondLst>
                                        </p:cTn>
                                        <p:tgtEl>
                                          <p:spTgt spid="296"/>
                                        </p:tgtEl>
                                        <p:attrNameLst>
                                          <p:attrName>style.visibility</p:attrName>
                                        </p:attrNameLst>
                                      </p:cBhvr>
                                      <p:to>
                                        <p:strVal val="visible"/>
                                      </p:to>
                                    </p:set>
                                    <p:animEffect filter="wipe(left)" transition="in">
                                      <p:cBhvr additive="repl">
                                        <p:cTn id="53" dur="1000"/>
                                        <p:tgtEl>
                                          <p:spTgt spid="296"/>
                                        </p:tgtEl>
                                      </p:cBhvr>
                                    </p:animEffect>
                                  </p:childTnLst>
                                </p:cTn>
                              </p:par>
                            </p:childTnLst>
                          </p:cTn>
                        </p:par>
                        <p:par>
                          <p:cTn id="54" fill="hold">
                            <p:stCondLst>
                              <p:cond delay="4000"/>
                            </p:stCondLst>
                            <p:childTnLst>
                              <p:par>
                                <p:cTn id="55" nodeType="afterEffect" fill="hold" presetClass="entr" presetID="53" presetSubtype="16">
                                  <p:stCondLst>
                                    <p:cond delay="0"/>
                                  </p:stCondLst>
                                  <p:childTnLst>
                                    <p:set>
                                      <p:cBhvr>
                                        <p:cTn id="56" dur="1" fill="hold">
                                          <p:stCondLst>
                                            <p:cond delay="0"/>
                                          </p:stCondLst>
                                        </p:cTn>
                                        <p:tgtEl>
                                          <p:spTgt spid="287"/>
                                        </p:tgtEl>
                                        <p:attrNameLst>
                                          <p:attrName>style.visibility</p:attrName>
                                        </p:attrNameLst>
                                      </p:cBhvr>
                                      <p:to>
                                        <p:strVal val="visible"/>
                                      </p:to>
                                    </p:set>
                                    <p:anim calcmode="lin" valueType="num">
                                      <p:cBhvr additive="repl">
                                        <p:cTn id="57" dur="500" fill="hold"/>
                                        <p:tgtEl>
                                          <p:spTgt spid="287"/>
                                        </p:tgtEl>
                                        <p:attrNameLst>
                                          <p:attrName>ppt_w</p:attrName>
                                        </p:attrNameLst>
                                      </p:cBhvr>
                                      <p:tavLst>
                                        <p:tav tm="0">
                                          <p:val>
                                            <p:fltVal val="0"/>
                                          </p:val>
                                        </p:tav>
                                        <p:tav tm="100000">
                                          <p:val>
                                            <p:strVal val="#ppt_w"/>
                                          </p:val>
                                        </p:tav>
                                      </p:tavLst>
                                    </p:anim>
                                    <p:anim calcmode="lin" valueType="num">
                                      <p:cBhvr additive="repl">
                                        <p:cTn id="58" dur="500" fill="hold"/>
                                        <p:tgtEl>
                                          <p:spTgt spid="287"/>
                                        </p:tgtEl>
                                        <p:attrNameLst>
                                          <p:attrName>ppt_h</p:attrName>
                                        </p:attrNameLst>
                                      </p:cBhvr>
                                      <p:tavLst>
                                        <p:tav tm="0">
                                          <p:val>
                                            <p:fltVal val="0"/>
                                          </p:val>
                                        </p:tav>
                                        <p:tav tm="100000">
                                          <p:val>
                                            <p:strVal val="#ppt_h"/>
                                          </p:val>
                                        </p:tav>
                                      </p:tavLst>
                                    </p:anim>
                                    <p:animEffect filter="fade" transition="in">
                                      <p:cBhvr additive="repl">
                                        <p:cTn id="59" dur="500"/>
                                        <p:tgtEl>
                                          <p:spTgt spid="287"/>
                                        </p:tgtEl>
                                      </p:cBhvr>
                                    </p:animEffect>
                                  </p:childTnLst>
                                </p:cTn>
                              </p:par>
                            </p:childTnLst>
                          </p:cTn>
                        </p:par>
                        <p:par>
                          <p:cTn id="60" fill="hold">
                            <p:stCondLst>
                              <p:cond delay="4500"/>
                            </p:stCondLst>
                            <p:childTnLst>
                              <p:par>
                                <p:cTn id="61" nodeType="afterEffect" fill="hold" presetClass="entr" presetID="22" presetSubtype="4">
                                  <p:stCondLst>
                                    <p:cond delay="0"/>
                                  </p:stCondLst>
                                  <p:childTnLst>
                                    <p:set>
                                      <p:cBhvr>
                                        <p:cTn id="62" dur="1" fill="hold">
                                          <p:stCondLst>
                                            <p:cond delay="0"/>
                                          </p:stCondLst>
                                        </p:cTn>
                                        <p:tgtEl>
                                          <p:spTgt spid="290"/>
                                        </p:tgtEl>
                                        <p:attrNameLst>
                                          <p:attrName>style.visibility</p:attrName>
                                        </p:attrNameLst>
                                      </p:cBhvr>
                                      <p:to>
                                        <p:strVal val="visible"/>
                                      </p:to>
                                    </p:set>
                                    <p:animEffect filter="wipe(down)" transition="in">
                                      <p:cBhvr additive="repl">
                                        <p:cTn id="63" dur="1000"/>
                                        <p:tgtEl>
                                          <p:spTgt spid="290"/>
                                        </p:tgtEl>
                                      </p:cBhvr>
                                    </p:animEffect>
                                  </p:childTnLst>
                                </p:cTn>
                              </p:par>
                            </p:childTnLst>
                          </p:cTn>
                        </p:par>
                        <p:par>
                          <p:cTn id="64" fill="hold">
                            <p:stCondLst>
                              <p:cond delay="5500"/>
                            </p:stCondLst>
                            <p:childTnLst>
                              <p:par>
                                <p:cTn id="65" nodeType="afterEffect" fill="hold" presetClass="entr" presetID="22" presetSubtype="4">
                                  <p:stCondLst>
                                    <p:cond delay="0"/>
                                  </p:stCondLst>
                                  <p:childTnLst>
                                    <p:set>
                                      <p:cBhvr>
                                        <p:cTn id="66" dur="1" fill="hold">
                                          <p:stCondLst>
                                            <p:cond delay="0"/>
                                          </p:stCondLst>
                                        </p:cTn>
                                        <p:tgtEl>
                                          <p:spTgt spid="291"/>
                                        </p:tgtEl>
                                        <p:attrNameLst>
                                          <p:attrName>style.visibility</p:attrName>
                                        </p:attrNameLst>
                                      </p:cBhvr>
                                      <p:to>
                                        <p:strVal val="visible"/>
                                      </p:to>
                                    </p:set>
                                    <p:animEffect filter="wipe(down)" transition="in">
                                      <p:cBhvr additive="repl">
                                        <p:cTn id="67" dur="1000"/>
                                        <p:tgtEl>
                                          <p:spTgt spid="291"/>
                                        </p:tgtEl>
                                      </p:cBhvr>
                                    </p:animEffect>
                                  </p:childTnLst>
                                </p:cTn>
                              </p:par>
                            </p:childTnLst>
                          </p:cTn>
                        </p:par>
                        <p:par>
                          <p:cTn id="68" fill="hold">
                            <p:stCondLst>
                              <p:cond delay="6500"/>
                            </p:stCondLst>
                            <p:childTnLst>
                              <p:par>
                                <p:cTn id="69" nodeType="afterEffect" fill="hold" presetClass="entr" presetID="22" presetSubtype="4">
                                  <p:stCondLst>
                                    <p:cond delay="0"/>
                                  </p:stCondLst>
                                  <p:childTnLst>
                                    <p:set>
                                      <p:cBhvr>
                                        <p:cTn id="70" dur="1" fill="hold">
                                          <p:stCondLst>
                                            <p:cond delay="0"/>
                                          </p:stCondLst>
                                        </p:cTn>
                                        <p:tgtEl>
                                          <p:spTgt spid="292"/>
                                        </p:tgtEl>
                                        <p:attrNameLst>
                                          <p:attrName>style.visibility</p:attrName>
                                        </p:attrNameLst>
                                      </p:cBhvr>
                                      <p:to>
                                        <p:strVal val="visible"/>
                                      </p:to>
                                    </p:set>
                                    <p:animEffect filter="wipe(down)" transition="in">
                                      <p:cBhvr additive="repl">
                                        <p:cTn id="71" dur="1000"/>
                                        <p:tgtEl>
                                          <p:spTgt spid="292"/>
                                        </p:tgtEl>
                                      </p:cBhvr>
                                    </p:animEffect>
                                  </p:childTnLst>
                                </p:cTn>
                              </p:par>
                            </p:childTnLst>
                          </p:cTn>
                        </p:par>
                        <p:par>
                          <p:cTn id="72" fill="hold">
                            <p:stCondLst>
                              <p:cond delay="7500"/>
                            </p:stCondLst>
                            <p:childTnLst>
                              <p:par>
                                <p:cTn id="73" nodeType="afterEffect" fill="hold" presetClass="entr" presetID="41">
                                  <p:stCondLst>
                                    <p:cond delay="0"/>
                                  </p:stCondLst>
                                  <p:iterate type="lt">
                                    <p:tmAbs val="100"/>
                                  </p:iterate>
                                  <p:childTnLst>
                                    <p:set>
                                      <p:cBhvr>
                                        <p:cTn id="74" dur="1" fill="hold">
                                          <p:stCondLst>
                                            <p:cond delay="0"/>
                                          </p:stCondLst>
                                        </p:cTn>
                                        <p:tgtEl>
                                          <p:spTgt spid="286"/>
                                        </p:tgtEl>
                                        <p:attrNameLst>
                                          <p:attrName>style.visibility</p:attrName>
                                        </p:attrNameLst>
                                      </p:cBhvr>
                                      <p:to>
                                        <p:strVal val="visible"/>
                                      </p:to>
                                    </p:set>
                                    <p:anim calcmode="lin" valueType="num">
                                      <p:cBhvr additive="repl">
                                        <p:cTn id="75" dur="1000" fill="hold"/>
                                        <p:tgtEl>
                                          <p:spTgt spid="286"/>
                                        </p:tgtEl>
                                        <p:attrNameLst>
                                          <p:attrName>ppt_x</p:attrName>
                                        </p:attrNameLst>
                                      </p:cBhvr>
                                      <p:tavLst>
                                        <p:tav tm="0">
                                          <p:val>
                                            <p:strVal val="#ppt_x"/>
                                          </p:val>
                                        </p:tav>
                                        <p:tav tm="50000">
                                          <p:val>
                                            <p:strVal val="#ppt_x+.1"/>
                                          </p:val>
                                        </p:tav>
                                        <p:tav tm="100000">
                                          <p:val>
                                            <p:strVal val="#ppt_x"/>
                                          </p:val>
                                        </p:tav>
                                      </p:tavLst>
                                    </p:anim>
                                    <p:anim calcmode="lin" valueType="num">
                                      <p:cBhvr additive="repl">
                                        <p:cTn id="76" dur="1000" fill="hold"/>
                                        <p:tgtEl>
                                          <p:spTgt spid="286"/>
                                        </p:tgtEl>
                                        <p:attrNameLst>
                                          <p:attrName>ppt_y</p:attrName>
                                        </p:attrNameLst>
                                      </p:cBhvr>
                                      <p:tavLst>
                                        <p:tav tm="0">
                                          <p:val>
                                            <p:strVal val="#ppt_y"/>
                                          </p:val>
                                        </p:tav>
                                        <p:tav tm="100000">
                                          <p:val>
                                            <p:strVal val="#ppt_y"/>
                                          </p:val>
                                        </p:tav>
                                      </p:tavLst>
                                    </p:anim>
                                    <p:anim calcmode="lin" valueType="num">
                                      <p:cBhvr additive="repl">
                                        <p:cTn id="77" dur="1000" fill="hold"/>
                                        <p:tgtEl>
                                          <p:spTgt spid="28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8" dur="1000" fill="hold"/>
                                        <p:tgtEl>
                                          <p:spTgt spid="28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9" dur="1000"/>
                                        <p:tgtEl>
                                          <p:spTgt spid="286"/>
                                        </p:tgtEl>
                                      </p:cBhvr>
                                    </p:animEffect>
                                  </p:childTnLst>
                                </p:cTn>
                              </p:par>
                            </p:childTnLst>
                          </p:cTn>
                        </p:par>
                        <p:par>
                          <p:cTn id="80" fill="hold">
                            <p:stCondLst>
                              <p:cond delay="9800"/>
                            </p:stCondLst>
                            <p:childTnLst>
                              <p:par>
                                <p:cTn id="81" nodeType="afterEffect" fill="hold" presetClass="entr" presetID="22" presetSubtype="1">
                                  <p:stCondLst>
                                    <p:cond delay="1000"/>
                                  </p:stCondLst>
                                  <p:childTnLst>
                                    <p:set>
                                      <p:cBhvr>
                                        <p:cTn id="82" dur="1" fill="hold">
                                          <p:stCondLst>
                                            <p:cond delay="0"/>
                                          </p:stCondLst>
                                        </p:cTn>
                                        <p:tgtEl>
                                          <p:spTgt spid="293"/>
                                        </p:tgtEl>
                                        <p:attrNameLst>
                                          <p:attrName>style.visibility</p:attrName>
                                        </p:attrNameLst>
                                      </p:cBhvr>
                                      <p:to>
                                        <p:strVal val="visible"/>
                                      </p:to>
                                    </p:set>
                                    <p:animEffect filter="wipe(up)" transition="in">
                                      <p:cBhvr additive="repl">
                                        <p:cTn id="83" dur="10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矩形 19"/>
          <p:cNvSpPr/>
          <p:nvPr/>
        </p:nvSpPr>
        <p:spPr>
          <a:xfrm>
            <a:off x="6243480" y="0"/>
            <a:ext cx="614160" cy="9905760"/>
          </a:xfrm>
          <a:prstGeom prst="rect">
            <a:avLst/>
          </a:prstGeom>
          <a:solidFill>
            <a:srgbClr val="d79f00"/>
          </a:solidFill>
          <a:ln w="0">
            <a:noFill/>
          </a:ln>
        </p:spPr>
        <p:style>
          <a:lnRef idx="0"/>
          <a:fillRef idx="0"/>
          <a:effectRef idx="0"/>
          <a:fontRef idx="minor"/>
        </p:style>
        <p:txBody>
          <a:bodyPr numCol="1" spcCol="0" anchor="ctr">
            <a:noAutofit/>
          </a:bodyPr>
          <a:p>
            <a:pPr>
              <a:lnSpc>
                <a:spcPct val="100000"/>
              </a:lnSpc>
              <a:tabLst>
                <a:tab algn="l" pos="0"/>
              </a:tabLst>
            </a:pPr>
            <a:endParaRPr b="0" lang="en-US" sz="1800" spc="-1" strike="noStrike">
              <a:solidFill>
                <a:srgbClr val="000000"/>
              </a:solidFill>
              <a:latin typeface="Arial"/>
              <a:ea typeface="宋体"/>
            </a:endParaRPr>
          </a:p>
        </p:txBody>
      </p:sp>
      <p:pic>
        <p:nvPicPr>
          <p:cNvPr id="298" name="Picture 19" descr="2457331_225344695000_2"/>
          <p:cNvPicPr/>
          <p:nvPr/>
        </p:nvPicPr>
        <p:blipFill>
          <a:blip r:embed="rId1"/>
          <a:stretch/>
        </p:blipFill>
        <p:spPr>
          <a:xfrm>
            <a:off x="0" y="224640"/>
            <a:ext cx="6857640" cy="5536800"/>
          </a:xfrm>
          <a:prstGeom prst="rect">
            <a:avLst/>
          </a:prstGeom>
          <a:ln w="0">
            <a:noFill/>
          </a:ln>
        </p:spPr>
      </p:pic>
      <p:sp>
        <p:nvSpPr>
          <p:cNvPr id="299" name="TextBox 14"/>
          <p:cNvSpPr/>
          <p:nvPr/>
        </p:nvSpPr>
        <p:spPr>
          <a:xfrm>
            <a:off x="385920" y="4071960"/>
            <a:ext cx="5785920" cy="5205960"/>
          </a:xfrm>
          <a:prstGeom prst="rect">
            <a:avLst/>
          </a:prstGeom>
          <a:noFill/>
          <a:ln w="0">
            <a:noFill/>
          </a:ln>
        </p:spPr>
        <p:style>
          <a:lnRef idx="0"/>
          <a:fillRef idx="0"/>
          <a:effectRef idx="0"/>
          <a:fontRef idx="minor"/>
        </p:style>
        <p:txBody>
          <a:bodyPr numCol="2" spcCol="360000" lIns="90000" rIns="90000" tIns="45000" bIns="45000" anchor="t">
            <a:spAutoFit/>
          </a:bodyPr>
          <a:p>
            <a:pPr algn="just">
              <a:lnSpc>
                <a:spcPct val="150000"/>
              </a:lnSpc>
              <a:spcBef>
                <a:spcPts val="601"/>
              </a:spcBef>
            </a:pPr>
            <a:r>
              <a:rPr b="0" lang="en-US" sz="2000" spc="-1" strike="noStrike">
                <a:solidFill>
                  <a:srgbClr val="000000"/>
                </a:solidFill>
                <a:latin typeface="微软雅黑"/>
                <a:ea typeface="微软雅黑"/>
              </a:rPr>
              <a:t> </a:t>
            </a:r>
            <a:endParaRPr b="0" lang="en-US" sz="2000" spc="-1" strike="noStrike">
              <a:solidFill>
                <a:srgbClr val="000000"/>
              </a:solidFill>
              <a:latin typeface="Arial"/>
            </a:endParaRPr>
          </a:p>
          <a:p>
            <a:pPr algn="just">
              <a:lnSpc>
                <a:spcPct val="150000"/>
              </a:lnSpc>
              <a:spcBef>
                <a:spcPts val="601"/>
              </a:spcBef>
            </a:pPr>
            <a:endParaRPr b="0" lang="en-US" sz="2000" spc="-1" strike="noStrike">
              <a:solidFill>
                <a:srgbClr val="000000"/>
              </a:solidFill>
              <a:latin typeface="Arial"/>
            </a:endParaRPr>
          </a:p>
          <a:p>
            <a:pPr algn="just">
              <a:lnSpc>
                <a:spcPct val="150000"/>
              </a:lnSpc>
              <a:spcBef>
                <a:spcPts val="601"/>
              </a:spcBef>
            </a:pPr>
            <a:endParaRPr b="0" lang="en-US" sz="2000" spc="-1" strike="noStrike">
              <a:solidFill>
                <a:srgbClr val="000000"/>
              </a:solidFill>
              <a:latin typeface="Arial"/>
            </a:endParaRPr>
          </a:p>
          <a:p>
            <a:pPr algn="just">
              <a:lnSpc>
                <a:spcPct val="150000"/>
              </a:lnSpc>
              <a:spcBef>
                <a:spcPts val="601"/>
              </a:spcBef>
            </a:pPr>
            <a:endParaRPr b="0" lang="en-US" sz="2000" spc="-1" strike="noStrike">
              <a:solidFill>
                <a:srgbClr val="000000"/>
              </a:solidFill>
              <a:latin typeface="Arial"/>
            </a:endParaRPr>
          </a:p>
          <a:p>
            <a:pPr algn="just">
              <a:lnSpc>
                <a:spcPct val="150000"/>
              </a:lnSpc>
              <a:spcBef>
                <a:spcPts val="601"/>
              </a:spcBef>
            </a:pPr>
            <a:r>
              <a:rPr b="0"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猎头</a:t>
            </a:r>
            <a:r>
              <a:rPr b="0" lang="zh-CN" sz="1300" spc="-1" strike="noStrike">
                <a:solidFill>
                  <a:srgbClr val="000000"/>
                </a:solidFill>
                <a:latin typeface="微软雅黑"/>
                <a:ea typeface="微软雅黑"/>
              </a:rPr>
              <a:t>是金领咨询的核心项目之一。为此公司特别成立了金领猎头服务中心，中心自建立之日起就始终致力于和企业、人才建立长期的战略合作伙伴关系。 通过我们的精益服务，帮助客户获得优秀的人才，在市场竞争中保持优势；同时通过我们的服务，帮助人才获得职业发展的机会。我们始终以高度职业化、专业化的运作能力，已形成辐射珠三角的人才寻访网络，其中专业的人力资源顾问为企业招聘顺利完成提供强有力的支持。</a:t>
            </a:r>
            <a:endParaRPr b="0" lang="en-US" sz="1300" spc="-1" strike="noStrike">
              <a:solidFill>
                <a:srgbClr val="000000"/>
              </a:solidFill>
              <a:latin typeface="Arial"/>
            </a:endParaRPr>
          </a:p>
          <a:p>
            <a:pPr algn="just">
              <a:lnSpc>
                <a:spcPct val="150000"/>
              </a:lnSpc>
              <a:spcBef>
                <a:spcPts val="601"/>
              </a:spcBef>
            </a:pPr>
            <a:r>
              <a:rPr b="0" lang="en-US" sz="1300" spc="-1" strike="noStrike">
                <a:solidFill>
                  <a:srgbClr val="000000"/>
                </a:solidFill>
                <a:latin typeface="微软雅黑"/>
                <a:ea typeface="微软雅黑"/>
              </a:rPr>
              <a:t>         </a:t>
            </a:r>
            <a:r>
              <a:rPr b="0" lang="zh-CN" sz="1300" spc="-1" strike="noStrike">
                <a:solidFill>
                  <a:srgbClr val="000000"/>
                </a:solidFill>
                <a:latin typeface="微软雅黑"/>
                <a:ea typeface="微软雅黑"/>
              </a:rPr>
              <a:t>金领猎头服务中心主要是为企业提供急需的高级人才，已经成功为省内外企业寻猎了大批年薪</a:t>
            </a:r>
            <a:r>
              <a:rPr b="0" lang="en-US" sz="1300" spc="-1" strike="noStrike">
                <a:solidFill>
                  <a:srgbClr val="000000"/>
                </a:solidFill>
                <a:latin typeface="微软雅黑"/>
                <a:ea typeface="微软雅黑"/>
              </a:rPr>
              <a:t>10</a:t>
            </a:r>
            <a:r>
              <a:rPr b="0" lang="zh-CN" sz="1300" spc="-1" strike="noStrike">
                <a:solidFill>
                  <a:srgbClr val="000000"/>
                </a:solidFill>
                <a:latin typeface="微软雅黑"/>
                <a:ea typeface="微软雅黑"/>
              </a:rPr>
              <a:t>万</a:t>
            </a:r>
            <a:r>
              <a:rPr b="0" lang="en-US" sz="1300" spc="-1" strike="noStrike">
                <a:solidFill>
                  <a:srgbClr val="000000"/>
                </a:solidFill>
                <a:latin typeface="微软雅黑"/>
                <a:ea typeface="微软雅黑"/>
              </a:rPr>
              <a:t>-300</a:t>
            </a:r>
            <a:r>
              <a:rPr b="0" lang="zh-CN" sz="1300" spc="-1" strike="noStrike">
                <a:solidFill>
                  <a:srgbClr val="000000"/>
                </a:solidFill>
                <a:latin typeface="微软雅黑"/>
                <a:ea typeface="微软雅黑"/>
              </a:rPr>
              <a:t>万的高、精、尖管理人才和专业的技术人才。我们随时接受企业的猎头业务，快捷、务实的为企业猎寻最需要的人才。为客户寻找任何角落的优秀人才，从而使企业持续、健康、稳定的发展；同时为各类高级人才提供进一步发展的职业空间，进而实现人生的最大价值！</a:t>
            </a:r>
            <a:endParaRPr b="0" lang="en-US" sz="1300" spc="-1" strike="noStrike">
              <a:solidFill>
                <a:srgbClr val="000000"/>
              </a:solidFill>
              <a:latin typeface="Arial"/>
            </a:endParaRPr>
          </a:p>
        </p:txBody>
      </p:sp>
      <p:sp>
        <p:nvSpPr>
          <p:cNvPr id="300" name="任意多边形 8"/>
          <p:cNvSpPr/>
          <p:nvPr/>
        </p:nvSpPr>
        <p:spPr>
          <a:xfrm flipV="1">
            <a:off x="2645640" y="9251640"/>
            <a:ext cx="4212000" cy="45360"/>
          </a:xfrm>
          <a:custGeom>
            <a:avLst/>
            <a:gdLst>
              <a:gd name="textAreaLeft" fmla="*/ 0 w 4212000"/>
              <a:gd name="textAreaRight" fmla="*/ 4212360 w 4212000"/>
              <a:gd name="textAreaTop" fmla="*/ 360 h 45360"/>
              <a:gd name="textAreaBottom" fmla="*/ 46080 h 45360"/>
            </a:gdLst>
            <a:ahLst/>
            <a:rect l="textAreaLeft" t="textAreaTop" r="textAreaRight" b="textAreaBottom"/>
            <a:pathLst>
              <a:path w="353683" h="635">
                <a:moveTo>
                  <a:pt x="0" y="0"/>
                </a:moveTo>
                <a:lnTo>
                  <a:pt x="353683" y="0"/>
                </a:lnTo>
              </a:path>
            </a:pathLst>
          </a:custGeom>
          <a:solidFill>
            <a:schemeClr val="tx1"/>
          </a:solidFill>
          <a:ln w="38100">
            <a:solidFill>
              <a:srgbClr val="000000"/>
            </a:solidFill>
            <a:miter/>
          </a:ln>
        </p:spPr>
        <p:style>
          <a:lnRef idx="0"/>
          <a:fillRef idx="0"/>
          <a:effectRef idx="0"/>
          <a:fontRef idx="minor"/>
        </p:style>
        <p:txBody>
          <a:bodyPr lIns="90000" rIns="90000" tIns="22680" bIns="22680" anchor="ctr">
            <a:noAutofit/>
          </a:bodyPr>
          <a:p>
            <a:pPr algn="ctr">
              <a:lnSpc>
                <a:spcPct val="100000"/>
              </a:lnSpc>
            </a:pPr>
            <a:endParaRPr b="0" lang="en-US" sz="1800" spc="-1" strike="noStrike">
              <a:solidFill>
                <a:srgbClr val="000000"/>
              </a:solidFill>
              <a:latin typeface="Calibri"/>
              <a:ea typeface="宋体"/>
            </a:endParaRPr>
          </a:p>
        </p:txBody>
      </p:sp>
      <p:sp>
        <p:nvSpPr>
          <p:cNvPr id="301" name="任意多边形 8"/>
          <p:cNvSpPr/>
          <p:nvPr/>
        </p:nvSpPr>
        <p:spPr>
          <a:xfrm flipV="1" rot="5400000">
            <a:off x="1645560" y="891000"/>
            <a:ext cx="1828440" cy="45360"/>
          </a:xfrm>
          <a:custGeom>
            <a:avLst/>
            <a:gdLst>
              <a:gd name="textAreaLeft" fmla="*/ 0 w 1828440"/>
              <a:gd name="textAreaRight" fmla="*/ 1828800 w 1828440"/>
              <a:gd name="textAreaTop" fmla="*/ 360 h 45360"/>
              <a:gd name="textAreaBottom" fmla="*/ 46080 h 45360"/>
            </a:gdLst>
            <a:ahLst/>
            <a:rect l="textAreaLeft" t="textAreaTop" r="textAreaRight" b="textAreaBottom"/>
            <a:pathLst>
              <a:path w="353683" h="635">
                <a:moveTo>
                  <a:pt x="0" y="0"/>
                </a:moveTo>
                <a:lnTo>
                  <a:pt x="353683" y="0"/>
                </a:lnTo>
              </a:path>
            </a:pathLst>
          </a:custGeom>
          <a:solidFill>
            <a:schemeClr val="tx1"/>
          </a:solidFill>
          <a:ln w="38100">
            <a:solidFill>
              <a:srgbClr val="000000"/>
            </a:solidFill>
            <a:miter/>
          </a:ln>
        </p:spPr>
        <p:style>
          <a:lnRef idx="0"/>
          <a:fillRef idx="0"/>
          <a:effectRef idx="0"/>
          <a:fontRef idx="minor"/>
        </p:style>
        <p:txBody>
          <a:bodyPr lIns="90000" rIns="90000" tIns="22680" bIns="22680" anchor="ctr">
            <a:noAutofit/>
          </a:bodyPr>
          <a:p>
            <a:pPr algn="ctr">
              <a:lnSpc>
                <a:spcPct val="100000"/>
              </a:lnSpc>
            </a:pPr>
            <a:endParaRPr b="0" lang="en-US" sz="1800" spc="-1" strike="noStrike">
              <a:solidFill>
                <a:srgbClr val="000000"/>
              </a:solidFill>
              <a:latin typeface="Calibri"/>
              <a:ea typeface="宋体"/>
            </a:endParaRPr>
          </a:p>
        </p:txBody>
      </p:sp>
      <p:sp>
        <p:nvSpPr>
          <p:cNvPr id="302" name="TextBox 17"/>
          <p:cNvSpPr/>
          <p:nvPr/>
        </p:nvSpPr>
        <p:spPr>
          <a:xfrm>
            <a:off x="3370320" y="905400"/>
            <a:ext cx="1674000" cy="912600"/>
          </a:xfrm>
          <a:prstGeom prst="rect">
            <a:avLst/>
          </a:prstGeom>
          <a:noFill/>
          <a:ln w="0">
            <a:noFill/>
          </a:ln>
        </p:spPr>
        <p:style>
          <a:lnRef idx="0"/>
          <a:fillRef idx="0"/>
          <a:effectRef idx="0"/>
          <a:fontRef idx="minor"/>
        </p:style>
        <p:txBody>
          <a:bodyPr wrap="none" lIns="90000" rIns="90000" tIns="45000" bIns="45000" anchor="t">
            <a:spAutoFit/>
          </a:bodyPr>
          <a:p>
            <a:pPr algn="r">
              <a:lnSpc>
                <a:spcPct val="100000"/>
              </a:lnSpc>
            </a:pPr>
            <a:r>
              <a:rPr b="1" lang="zh-CN" sz="1800" spc="-1" strike="noStrike">
                <a:solidFill>
                  <a:srgbClr val="000000"/>
                </a:solidFill>
                <a:latin typeface="微软雅黑"/>
                <a:ea typeface="微软雅黑"/>
              </a:rPr>
              <a:t>金领咨询核心业务之一：</a:t>
            </a:r>
            <a:endParaRPr b="0" lang="en-US" sz="1800" spc="-1" strike="noStrike">
              <a:solidFill>
                <a:srgbClr val="000000"/>
              </a:solidFill>
              <a:latin typeface="Arial"/>
            </a:endParaRPr>
          </a:p>
          <a:p>
            <a:pPr algn="r">
              <a:lnSpc>
                <a:spcPct val="100000"/>
              </a:lnSpc>
            </a:pPr>
            <a:r>
              <a:rPr b="1" lang="zh-CN" sz="3600" spc="49" strike="noStrike">
                <a:solidFill>
                  <a:srgbClr val="d79f00"/>
                </a:solidFill>
                <a:latin typeface="微软雅黑"/>
                <a:ea typeface="微软雅黑"/>
              </a:rPr>
              <a:t>高 端 猎 头</a:t>
            </a:r>
            <a:endParaRPr b="0" lang="en-US" sz="3600" spc="-1" strike="noStrike">
              <a:solidFill>
                <a:srgbClr val="000000"/>
              </a:solidFill>
              <a:latin typeface="Arial"/>
            </a:endParaRPr>
          </a:p>
        </p:txBody>
      </p:sp>
      <p:sp>
        <p:nvSpPr>
          <p:cNvPr id="303" name="任意多边形 8"/>
          <p:cNvSpPr/>
          <p:nvPr/>
        </p:nvSpPr>
        <p:spPr>
          <a:xfrm flipV="1" rot="5400000">
            <a:off x="2424600" y="9021240"/>
            <a:ext cx="441720" cy="45360"/>
          </a:xfrm>
          <a:custGeom>
            <a:avLst/>
            <a:gdLst>
              <a:gd name="textAreaLeft" fmla="*/ 0 w 441720"/>
              <a:gd name="textAreaRight" fmla="*/ 442080 w 441720"/>
              <a:gd name="textAreaTop" fmla="*/ 360 h 45360"/>
              <a:gd name="textAreaBottom" fmla="*/ 46080 h 45360"/>
            </a:gdLst>
            <a:ahLst/>
            <a:rect l="textAreaLeft" t="textAreaTop" r="textAreaRight" b="textAreaBottom"/>
            <a:pathLst>
              <a:path w="353683" h="635">
                <a:moveTo>
                  <a:pt x="0" y="0"/>
                </a:moveTo>
                <a:lnTo>
                  <a:pt x="353683" y="0"/>
                </a:lnTo>
              </a:path>
            </a:pathLst>
          </a:custGeom>
          <a:solidFill>
            <a:schemeClr val="tx1"/>
          </a:solidFill>
          <a:ln w="38100">
            <a:solidFill>
              <a:srgbClr val="000000"/>
            </a:solidFill>
            <a:miter/>
          </a:ln>
        </p:spPr>
        <p:style>
          <a:lnRef idx="0"/>
          <a:fillRef idx="0"/>
          <a:effectRef idx="0"/>
          <a:fontRef idx="minor"/>
        </p:style>
        <p:txBody>
          <a:bodyPr lIns="90000" rIns="90000" tIns="22680" bIns="22680" anchor="ctr">
            <a:noAutofit/>
          </a:bodyPr>
          <a:p>
            <a:pPr algn="ctr">
              <a:lnSpc>
                <a:spcPct val="100000"/>
              </a:lnSpc>
            </a:pPr>
            <a:endParaRPr b="0" lang="en-US" sz="1800" spc="-1" strike="noStrike">
              <a:solidFill>
                <a:srgbClr val="000000"/>
              </a:solidFill>
              <a:latin typeface="Calibri"/>
              <a:ea typeface="宋体"/>
            </a:endParaRPr>
          </a:p>
        </p:txBody>
      </p:sp>
    </p:spTree>
  </p:cSld>
  <p:transition spd="slow" advTm="5000">
    <p:cover dir="u"/>
  </p:transition>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withEffect" fill="hold" presetClass="entr" presetID="22" presetSubtype="1">
                                  <p:stCondLst>
                                    <p:cond delay="0"/>
                                  </p:stCondLst>
                                  <p:childTnLst>
                                    <p:set>
                                      <p:cBhvr>
                                        <p:cTn id="89" dur="1" fill="hold">
                                          <p:stCondLst>
                                            <p:cond delay="0"/>
                                          </p:stCondLst>
                                        </p:cTn>
                                        <p:tgtEl>
                                          <p:spTgt spid="301"/>
                                        </p:tgtEl>
                                        <p:attrNameLst>
                                          <p:attrName>style.visibility</p:attrName>
                                        </p:attrNameLst>
                                      </p:cBhvr>
                                      <p:to>
                                        <p:strVal val="visible"/>
                                      </p:to>
                                    </p:set>
                                    <p:animEffect filter="wipe(up)" transition="in">
                                      <p:cBhvr additive="repl">
                                        <p:cTn id="90" dur="1000"/>
                                        <p:tgtEl>
                                          <p:spTgt spid="301"/>
                                        </p:tgtEl>
                                      </p:cBhvr>
                                    </p:animEffect>
                                  </p:childTnLst>
                                </p:cTn>
                              </p:par>
                              <p:par>
                                <p:cTn id="91" nodeType="withEffect" fill="hold" presetClass="entr" presetID="53" presetSubtype="16">
                                  <p:stCondLst>
                                    <p:cond delay="0"/>
                                  </p:stCondLst>
                                  <p:childTnLst>
                                    <p:set>
                                      <p:cBhvr>
                                        <p:cTn id="92" dur="1" fill="hold">
                                          <p:stCondLst>
                                            <p:cond delay="0"/>
                                          </p:stCondLst>
                                        </p:cTn>
                                        <p:tgtEl>
                                          <p:spTgt spid="302"/>
                                        </p:tgtEl>
                                        <p:attrNameLst>
                                          <p:attrName>style.visibility</p:attrName>
                                        </p:attrNameLst>
                                      </p:cBhvr>
                                      <p:to>
                                        <p:strVal val="visible"/>
                                      </p:to>
                                    </p:set>
                                    <p:anim calcmode="lin" valueType="num">
                                      <p:cBhvr additive="repl">
                                        <p:cTn id="93" dur="500" fill="hold"/>
                                        <p:tgtEl>
                                          <p:spTgt spid="302"/>
                                        </p:tgtEl>
                                        <p:attrNameLst>
                                          <p:attrName>ppt_w</p:attrName>
                                        </p:attrNameLst>
                                      </p:cBhvr>
                                      <p:tavLst>
                                        <p:tav tm="0">
                                          <p:val>
                                            <p:fltVal val="0"/>
                                          </p:val>
                                        </p:tav>
                                        <p:tav tm="100000">
                                          <p:val>
                                            <p:strVal val="#ppt_w"/>
                                          </p:val>
                                        </p:tav>
                                      </p:tavLst>
                                    </p:anim>
                                    <p:anim calcmode="lin" valueType="num">
                                      <p:cBhvr additive="repl">
                                        <p:cTn id="94" dur="500" fill="hold"/>
                                        <p:tgtEl>
                                          <p:spTgt spid="302"/>
                                        </p:tgtEl>
                                        <p:attrNameLst>
                                          <p:attrName>ppt_h</p:attrName>
                                        </p:attrNameLst>
                                      </p:cBhvr>
                                      <p:tavLst>
                                        <p:tav tm="0">
                                          <p:val>
                                            <p:fltVal val="0"/>
                                          </p:val>
                                        </p:tav>
                                        <p:tav tm="100000">
                                          <p:val>
                                            <p:strVal val="#ppt_h"/>
                                          </p:val>
                                        </p:tav>
                                      </p:tavLst>
                                    </p:anim>
                                    <p:animEffect filter="fade" transition="in">
                                      <p:cBhvr additive="repl">
                                        <p:cTn id="95" dur="500"/>
                                        <p:tgtEl>
                                          <p:spTgt spid="302"/>
                                        </p:tgtEl>
                                      </p:cBhvr>
                                    </p:animEffect>
                                  </p:childTnLst>
                                </p:cTn>
                              </p:par>
                            </p:childTnLst>
                          </p:cTn>
                        </p:par>
                        <p:par>
                          <p:cTn id="96" fill="hold">
                            <p:stCondLst>
                              <p:cond delay="1000"/>
                            </p:stCondLst>
                            <p:childTnLst>
                              <p:par>
                                <p:cTn id="97" nodeType="afterEffect" fill="hold" presetClass="entr" presetID="22" presetSubtype="1">
                                  <p:stCondLst>
                                    <p:cond delay="2000"/>
                                  </p:stCondLst>
                                  <p:childTnLst>
                                    <p:set>
                                      <p:cBhvr>
                                        <p:cTn id="98" dur="1" fill="hold">
                                          <p:stCondLst>
                                            <p:cond delay="0"/>
                                          </p:stCondLst>
                                        </p:cTn>
                                        <p:tgtEl>
                                          <p:spTgt spid="303"/>
                                        </p:tgtEl>
                                        <p:attrNameLst>
                                          <p:attrName>style.visibility</p:attrName>
                                        </p:attrNameLst>
                                      </p:cBhvr>
                                      <p:to>
                                        <p:strVal val="visible"/>
                                      </p:to>
                                    </p:set>
                                    <p:animEffect filter="wipe(up)" transition="in">
                                      <p:cBhvr additive="repl">
                                        <p:cTn id="99" dur="1000"/>
                                        <p:tgtEl>
                                          <p:spTgt spid="303"/>
                                        </p:tgtEl>
                                      </p:cBhvr>
                                    </p:animEffect>
                                  </p:childTnLst>
                                </p:cTn>
                              </p:par>
                            </p:childTnLst>
                          </p:cTn>
                        </p:par>
                        <p:par>
                          <p:cTn id="100" fill="hold">
                            <p:stCondLst>
                              <p:cond delay="4000"/>
                            </p:stCondLst>
                            <p:childTnLst>
                              <p:par>
                                <p:cTn id="101" nodeType="afterEffect" fill="hold" presetClass="entr" presetID="22" presetSubtype="8">
                                  <p:stCondLst>
                                    <p:cond delay="0"/>
                                  </p:stCondLst>
                                  <p:childTnLst>
                                    <p:set>
                                      <p:cBhvr>
                                        <p:cTn id="102" dur="1" fill="hold">
                                          <p:stCondLst>
                                            <p:cond delay="0"/>
                                          </p:stCondLst>
                                        </p:cTn>
                                        <p:tgtEl>
                                          <p:spTgt spid="300"/>
                                        </p:tgtEl>
                                        <p:attrNameLst>
                                          <p:attrName>style.visibility</p:attrName>
                                        </p:attrNameLst>
                                      </p:cBhvr>
                                      <p:to>
                                        <p:strVal val="visible"/>
                                      </p:to>
                                    </p:set>
                                    <p:animEffect filter="wipe(left)" transition="in">
                                      <p:cBhvr additive="repl">
                                        <p:cTn id="103" dur="1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矩形 22"/>
          <p:cNvSpPr/>
          <p:nvPr/>
        </p:nvSpPr>
        <p:spPr>
          <a:xfrm>
            <a:off x="-19440" y="9033480"/>
            <a:ext cx="6879960" cy="872280"/>
          </a:xfrm>
          <a:prstGeom prst="rect">
            <a:avLst/>
          </a:prstGeom>
          <a:solidFill>
            <a:srgbClr val="d79f00"/>
          </a:solidFill>
          <a:ln w="0">
            <a:noFill/>
          </a:ln>
        </p:spPr>
        <p:style>
          <a:lnRef idx="0"/>
          <a:fillRef idx="0"/>
          <a:effectRef idx="0"/>
          <a:fontRef idx="minor"/>
        </p:style>
        <p:txBody>
          <a:bodyPr numCol="1" spcCol="0" anchor="ctr">
            <a:noAutofit/>
          </a:bodyPr>
          <a:p>
            <a:pPr>
              <a:lnSpc>
                <a:spcPct val="100000"/>
              </a:lnSpc>
              <a:tabLst>
                <a:tab algn="l" pos="0"/>
              </a:tabLst>
            </a:pPr>
            <a:endParaRPr b="0" lang="en-US" sz="1800" spc="-1" strike="noStrike">
              <a:solidFill>
                <a:srgbClr val="000000"/>
              </a:solidFill>
              <a:latin typeface="Arial"/>
              <a:ea typeface="宋体"/>
            </a:endParaRPr>
          </a:p>
        </p:txBody>
      </p:sp>
      <p:sp>
        <p:nvSpPr>
          <p:cNvPr id="305" name="矩形 10"/>
          <p:cNvSpPr/>
          <p:nvPr/>
        </p:nvSpPr>
        <p:spPr>
          <a:xfrm>
            <a:off x="-22320" y="3987720"/>
            <a:ext cx="6879960" cy="228240"/>
          </a:xfrm>
          <a:prstGeom prst="rect">
            <a:avLst/>
          </a:prstGeom>
          <a:solidFill>
            <a:srgbClr val="d79f00"/>
          </a:solidFill>
          <a:ln w="0">
            <a:noFill/>
          </a:ln>
        </p:spPr>
        <p:style>
          <a:lnRef idx="0"/>
          <a:fillRef idx="0"/>
          <a:effectRef idx="0"/>
          <a:fontRef idx="minor"/>
        </p:style>
        <p:txBody>
          <a:bodyPr numCol="1" spcCol="0" anchor="ctr">
            <a:noAutofit/>
          </a:bodyPr>
          <a:p>
            <a:pPr>
              <a:lnSpc>
                <a:spcPct val="100000"/>
              </a:lnSpc>
              <a:tabLst>
                <a:tab algn="l" pos="0"/>
              </a:tabLst>
            </a:pPr>
            <a:endParaRPr b="0" lang="en-US" sz="1800" spc="-1" strike="noStrike">
              <a:solidFill>
                <a:srgbClr val="000000"/>
              </a:solidFill>
              <a:latin typeface="Arial"/>
              <a:ea typeface="宋体"/>
            </a:endParaRPr>
          </a:p>
        </p:txBody>
      </p:sp>
      <p:pic>
        <p:nvPicPr>
          <p:cNvPr id="306" name="图片 12" descr="2457331_224908934001_2.jpg"/>
          <p:cNvPicPr/>
          <p:nvPr/>
        </p:nvPicPr>
        <p:blipFill>
          <a:blip r:embed="rId1"/>
          <a:stretch/>
        </p:blipFill>
        <p:spPr>
          <a:xfrm flipH="1">
            <a:off x="-21960" y="0"/>
            <a:ext cx="6879960" cy="3987360"/>
          </a:xfrm>
          <a:prstGeom prst="rect">
            <a:avLst/>
          </a:prstGeom>
          <a:ln w="0">
            <a:noFill/>
          </a:ln>
        </p:spPr>
      </p:pic>
      <p:sp>
        <p:nvSpPr>
          <p:cNvPr id="307" name="Freeform 57"/>
          <p:cNvSpPr/>
          <p:nvPr/>
        </p:nvSpPr>
        <p:spPr>
          <a:xfrm>
            <a:off x="5108760" y="7492680"/>
            <a:ext cx="563040" cy="1164960"/>
          </a:xfrm>
          <a:custGeom>
            <a:avLst/>
            <a:gdLst>
              <a:gd name="textAreaLeft" fmla="*/ 0 w 563040"/>
              <a:gd name="textAreaRight" fmla="*/ 563400 w 563040"/>
              <a:gd name="textAreaTop" fmla="*/ 0 h 1164960"/>
              <a:gd name="textAreaBottom" fmla="*/ 1165320 h 1164960"/>
            </a:gdLst>
            <a:ahLst/>
            <a:rect l="textAreaLeft" t="textAreaTop" r="textAreaRight" b="textAreaBottom"/>
            <a:pathLst>
              <a:path w="352" h="729">
                <a:moveTo>
                  <a:pt x="0" y="4"/>
                </a:moveTo>
                <a:cubicBezTo>
                  <a:pt x="31" y="0"/>
                  <a:pt x="82" y="4"/>
                  <a:pt x="111" y="7"/>
                </a:cubicBezTo>
                <a:cubicBezTo>
                  <a:pt x="148" y="12"/>
                  <a:pt x="186" y="49"/>
                  <a:pt x="193" y="57"/>
                </a:cubicBezTo>
                <a:cubicBezTo>
                  <a:pt x="200" y="64"/>
                  <a:pt x="218" y="110"/>
                  <a:pt x="225" y="117"/>
                </a:cubicBezTo>
                <a:cubicBezTo>
                  <a:pt x="232" y="124"/>
                  <a:pt x="227" y="142"/>
                  <a:pt x="231" y="185"/>
                </a:cubicBezTo>
                <a:cubicBezTo>
                  <a:pt x="235" y="228"/>
                  <a:pt x="216" y="268"/>
                  <a:pt x="213" y="279"/>
                </a:cubicBezTo>
                <a:cubicBezTo>
                  <a:pt x="210" y="290"/>
                  <a:pt x="213" y="303"/>
                  <a:pt x="213" y="313"/>
                </a:cubicBezTo>
                <a:cubicBezTo>
                  <a:pt x="213" y="322"/>
                  <a:pt x="203" y="323"/>
                  <a:pt x="203" y="323"/>
                </a:cubicBezTo>
                <a:cubicBezTo>
                  <a:pt x="220" y="365"/>
                  <a:pt x="220" y="365"/>
                  <a:pt x="220" y="365"/>
                </a:cubicBezTo>
                <a:cubicBezTo>
                  <a:pt x="234" y="367"/>
                  <a:pt x="234" y="367"/>
                  <a:pt x="234" y="367"/>
                </a:cubicBezTo>
                <a:cubicBezTo>
                  <a:pt x="234" y="367"/>
                  <a:pt x="278" y="394"/>
                  <a:pt x="286" y="401"/>
                </a:cubicBezTo>
                <a:cubicBezTo>
                  <a:pt x="295" y="408"/>
                  <a:pt x="327" y="469"/>
                  <a:pt x="332" y="479"/>
                </a:cubicBezTo>
                <a:cubicBezTo>
                  <a:pt x="352" y="520"/>
                  <a:pt x="352" y="562"/>
                  <a:pt x="347" y="601"/>
                </a:cubicBezTo>
                <a:cubicBezTo>
                  <a:pt x="346" y="614"/>
                  <a:pt x="341" y="673"/>
                  <a:pt x="336" y="729"/>
                </a:cubicBezTo>
              </a:path>
            </a:pathLst>
          </a:custGeom>
          <a:noFill/>
          <a:ln cap="rnd" w="2857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308" name="Freeform 58"/>
          <p:cNvSpPr/>
          <p:nvPr/>
        </p:nvSpPr>
        <p:spPr>
          <a:xfrm>
            <a:off x="4879800" y="7501680"/>
            <a:ext cx="228240" cy="1155600"/>
          </a:xfrm>
          <a:custGeom>
            <a:avLst/>
            <a:gdLst>
              <a:gd name="textAreaLeft" fmla="*/ 0 w 228240"/>
              <a:gd name="textAreaRight" fmla="*/ 228600 w 228240"/>
              <a:gd name="textAreaTop" fmla="*/ 0 h 1155600"/>
              <a:gd name="textAreaBottom" fmla="*/ 1155960 h 1155600"/>
            </a:gdLst>
            <a:ahLst/>
            <a:rect l="textAreaLeft" t="textAreaTop" r="textAreaRight" b="textAreaBottom"/>
            <a:pathLst>
              <a:path w="143" h="723">
                <a:moveTo>
                  <a:pt x="4" y="723"/>
                </a:moveTo>
                <a:cubicBezTo>
                  <a:pt x="4" y="723"/>
                  <a:pt x="5" y="718"/>
                  <a:pt x="7" y="710"/>
                </a:cubicBezTo>
                <a:cubicBezTo>
                  <a:pt x="9" y="702"/>
                  <a:pt x="22" y="683"/>
                  <a:pt x="26" y="677"/>
                </a:cubicBezTo>
                <a:cubicBezTo>
                  <a:pt x="29" y="671"/>
                  <a:pt x="48" y="654"/>
                  <a:pt x="48" y="654"/>
                </a:cubicBezTo>
                <a:cubicBezTo>
                  <a:pt x="48" y="654"/>
                  <a:pt x="49" y="649"/>
                  <a:pt x="53" y="637"/>
                </a:cubicBezTo>
                <a:cubicBezTo>
                  <a:pt x="58" y="626"/>
                  <a:pt x="78" y="595"/>
                  <a:pt x="78" y="595"/>
                </a:cubicBezTo>
                <a:cubicBezTo>
                  <a:pt x="78" y="595"/>
                  <a:pt x="80" y="560"/>
                  <a:pt x="80" y="555"/>
                </a:cubicBezTo>
                <a:cubicBezTo>
                  <a:pt x="80" y="550"/>
                  <a:pt x="90" y="519"/>
                  <a:pt x="98" y="495"/>
                </a:cubicBezTo>
                <a:cubicBezTo>
                  <a:pt x="105" y="471"/>
                  <a:pt x="133" y="451"/>
                  <a:pt x="133" y="451"/>
                </a:cubicBezTo>
                <a:cubicBezTo>
                  <a:pt x="143" y="433"/>
                  <a:pt x="143" y="433"/>
                  <a:pt x="143" y="433"/>
                </a:cubicBezTo>
                <a:cubicBezTo>
                  <a:pt x="143" y="433"/>
                  <a:pt x="134" y="415"/>
                  <a:pt x="132" y="412"/>
                </a:cubicBezTo>
                <a:cubicBezTo>
                  <a:pt x="130" y="409"/>
                  <a:pt x="120" y="405"/>
                  <a:pt x="118" y="400"/>
                </a:cubicBezTo>
                <a:cubicBezTo>
                  <a:pt x="117" y="396"/>
                  <a:pt x="105" y="378"/>
                  <a:pt x="101" y="373"/>
                </a:cubicBezTo>
                <a:cubicBezTo>
                  <a:pt x="97" y="368"/>
                  <a:pt x="67" y="356"/>
                  <a:pt x="62" y="353"/>
                </a:cubicBezTo>
                <a:cubicBezTo>
                  <a:pt x="56" y="350"/>
                  <a:pt x="50" y="352"/>
                  <a:pt x="38" y="350"/>
                </a:cubicBezTo>
                <a:cubicBezTo>
                  <a:pt x="26" y="347"/>
                  <a:pt x="26" y="329"/>
                  <a:pt x="27" y="326"/>
                </a:cubicBezTo>
                <a:cubicBezTo>
                  <a:pt x="27" y="323"/>
                  <a:pt x="34" y="304"/>
                  <a:pt x="35" y="302"/>
                </a:cubicBezTo>
                <a:cubicBezTo>
                  <a:pt x="35" y="299"/>
                  <a:pt x="26" y="296"/>
                  <a:pt x="22" y="294"/>
                </a:cubicBezTo>
                <a:cubicBezTo>
                  <a:pt x="19" y="291"/>
                  <a:pt x="22" y="283"/>
                  <a:pt x="23" y="281"/>
                </a:cubicBezTo>
                <a:cubicBezTo>
                  <a:pt x="24" y="280"/>
                  <a:pt x="22" y="275"/>
                  <a:pt x="19" y="272"/>
                </a:cubicBezTo>
                <a:cubicBezTo>
                  <a:pt x="16" y="270"/>
                  <a:pt x="16" y="262"/>
                  <a:pt x="16" y="259"/>
                </a:cubicBezTo>
                <a:cubicBezTo>
                  <a:pt x="16" y="256"/>
                  <a:pt x="28" y="234"/>
                  <a:pt x="28" y="234"/>
                </a:cubicBezTo>
                <a:cubicBezTo>
                  <a:pt x="28" y="234"/>
                  <a:pt x="18" y="233"/>
                  <a:pt x="11" y="232"/>
                </a:cubicBezTo>
                <a:cubicBezTo>
                  <a:pt x="5" y="231"/>
                  <a:pt x="0" y="219"/>
                  <a:pt x="1" y="213"/>
                </a:cubicBezTo>
                <a:cubicBezTo>
                  <a:pt x="1" y="206"/>
                  <a:pt x="24" y="175"/>
                  <a:pt x="24" y="175"/>
                </a:cubicBezTo>
                <a:cubicBezTo>
                  <a:pt x="31" y="164"/>
                  <a:pt x="43" y="151"/>
                  <a:pt x="43" y="149"/>
                </a:cubicBezTo>
                <a:cubicBezTo>
                  <a:pt x="43" y="147"/>
                  <a:pt x="38" y="130"/>
                  <a:pt x="38" y="127"/>
                </a:cubicBezTo>
                <a:cubicBezTo>
                  <a:pt x="38" y="123"/>
                  <a:pt x="41" y="117"/>
                  <a:pt x="44" y="114"/>
                </a:cubicBezTo>
                <a:cubicBezTo>
                  <a:pt x="46" y="112"/>
                  <a:pt x="57" y="78"/>
                  <a:pt x="57" y="78"/>
                </a:cubicBezTo>
                <a:cubicBezTo>
                  <a:pt x="70" y="57"/>
                  <a:pt x="70" y="57"/>
                  <a:pt x="70" y="57"/>
                </a:cubicBezTo>
                <a:cubicBezTo>
                  <a:pt x="70" y="57"/>
                  <a:pt x="52" y="74"/>
                  <a:pt x="55" y="64"/>
                </a:cubicBezTo>
                <a:cubicBezTo>
                  <a:pt x="59" y="55"/>
                  <a:pt x="92" y="16"/>
                  <a:pt x="114" y="5"/>
                </a:cubicBezTo>
                <a:cubicBezTo>
                  <a:pt x="119" y="3"/>
                  <a:pt x="125" y="1"/>
                  <a:pt x="134" y="0"/>
                </a:cubicBezTo>
              </a:path>
            </a:pathLst>
          </a:custGeom>
          <a:noFill/>
          <a:ln cap="rnd" w="2857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309" name="Freeform 59"/>
          <p:cNvSpPr/>
          <p:nvPr/>
        </p:nvSpPr>
        <p:spPr>
          <a:xfrm>
            <a:off x="4403880" y="8156160"/>
            <a:ext cx="445680" cy="501480"/>
          </a:xfrm>
          <a:custGeom>
            <a:avLst/>
            <a:gdLst>
              <a:gd name="textAreaLeft" fmla="*/ 0 w 445680"/>
              <a:gd name="textAreaRight" fmla="*/ 446040 w 445680"/>
              <a:gd name="textAreaTop" fmla="*/ 0 h 501480"/>
              <a:gd name="textAreaBottom" fmla="*/ 501840 h 501480"/>
            </a:gdLst>
            <a:ahLst/>
            <a:rect l="textAreaLeft" t="textAreaTop" r="textAreaRight" b="textAreaBottom"/>
            <a:pathLst>
              <a:path w="279" h="314">
                <a:moveTo>
                  <a:pt x="0" y="0"/>
                </a:moveTo>
                <a:cubicBezTo>
                  <a:pt x="4" y="3"/>
                  <a:pt x="14" y="21"/>
                  <a:pt x="18" y="25"/>
                </a:cubicBezTo>
                <a:cubicBezTo>
                  <a:pt x="21" y="30"/>
                  <a:pt x="21" y="41"/>
                  <a:pt x="22" y="45"/>
                </a:cubicBezTo>
                <a:cubicBezTo>
                  <a:pt x="23" y="50"/>
                  <a:pt x="37" y="71"/>
                  <a:pt x="42" y="75"/>
                </a:cubicBezTo>
                <a:cubicBezTo>
                  <a:pt x="48" y="80"/>
                  <a:pt x="74" y="118"/>
                  <a:pt x="76" y="121"/>
                </a:cubicBezTo>
                <a:cubicBezTo>
                  <a:pt x="77" y="124"/>
                  <a:pt x="76" y="158"/>
                  <a:pt x="76" y="158"/>
                </a:cubicBezTo>
                <a:cubicBezTo>
                  <a:pt x="76" y="158"/>
                  <a:pt x="87" y="160"/>
                  <a:pt x="92" y="163"/>
                </a:cubicBezTo>
                <a:cubicBezTo>
                  <a:pt x="96" y="165"/>
                  <a:pt x="149" y="225"/>
                  <a:pt x="149" y="225"/>
                </a:cubicBezTo>
                <a:cubicBezTo>
                  <a:pt x="149" y="225"/>
                  <a:pt x="162" y="236"/>
                  <a:pt x="166" y="240"/>
                </a:cubicBezTo>
                <a:cubicBezTo>
                  <a:pt x="169" y="244"/>
                  <a:pt x="183" y="258"/>
                  <a:pt x="183" y="258"/>
                </a:cubicBezTo>
                <a:cubicBezTo>
                  <a:pt x="183" y="258"/>
                  <a:pt x="190" y="258"/>
                  <a:pt x="195" y="261"/>
                </a:cubicBezTo>
                <a:cubicBezTo>
                  <a:pt x="199" y="264"/>
                  <a:pt x="256" y="314"/>
                  <a:pt x="256" y="314"/>
                </a:cubicBezTo>
                <a:cubicBezTo>
                  <a:pt x="279" y="310"/>
                  <a:pt x="279" y="310"/>
                  <a:pt x="279" y="310"/>
                </a:cubicBezTo>
              </a:path>
            </a:pathLst>
          </a:custGeom>
          <a:noFill/>
          <a:ln cap="rnd" w="2857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310" name="Freeform 60"/>
          <p:cNvSpPr/>
          <p:nvPr/>
        </p:nvSpPr>
        <p:spPr>
          <a:xfrm>
            <a:off x="4358160" y="8156160"/>
            <a:ext cx="45360" cy="145440"/>
          </a:xfrm>
          <a:custGeom>
            <a:avLst/>
            <a:gdLst>
              <a:gd name="textAreaLeft" fmla="*/ 0 w 45360"/>
              <a:gd name="textAreaRight" fmla="*/ 45720 w 45360"/>
              <a:gd name="textAreaTop" fmla="*/ 0 h 145440"/>
              <a:gd name="textAreaBottom" fmla="*/ 145800 h 145440"/>
            </a:gdLst>
            <a:ahLst/>
            <a:rect l="textAreaLeft" t="textAreaTop" r="textAreaRight" b="textAreaBottom"/>
            <a:pathLst>
              <a:path w="26" h="84">
                <a:moveTo>
                  <a:pt x="13" y="84"/>
                </a:moveTo>
                <a:cubicBezTo>
                  <a:pt x="17" y="83"/>
                  <a:pt x="21" y="83"/>
                  <a:pt x="21" y="83"/>
                </a:cubicBezTo>
                <a:cubicBezTo>
                  <a:pt x="21" y="83"/>
                  <a:pt x="19" y="72"/>
                  <a:pt x="18" y="69"/>
                </a:cubicBezTo>
                <a:cubicBezTo>
                  <a:pt x="17" y="66"/>
                  <a:pt x="10" y="55"/>
                  <a:pt x="5" y="48"/>
                </a:cubicBezTo>
                <a:cubicBezTo>
                  <a:pt x="0" y="40"/>
                  <a:pt x="0" y="24"/>
                  <a:pt x="2" y="12"/>
                </a:cubicBezTo>
                <a:cubicBezTo>
                  <a:pt x="5" y="0"/>
                  <a:pt x="22" y="1"/>
                  <a:pt x="26" y="3"/>
                </a:cubicBezTo>
              </a:path>
            </a:pathLst>
          </a:custGeom>
          <a:noFill/>
          <a:ln cap="rnd" w="2857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311" name="Freeform 61"/>
          <p:cNvSpPr/>
          <p:nvPr/>
        </p:nvSpPr>
        <p:spPr>
          <a:xfrm>
            <a:off x="4219560" y="8228880"/>
            <a:ext cx="161280" cy="66600"/>
          </a:xfrm>
          <a:custGeom>
            <a:avLst/>
            <a:gdLst>
              <a:gd name="textAreaLeft" fmla="*/ 0 w 161280"/>
              <a:gd name="textAreaRight" fmla="*/ 161640 w 161280"/>
              <a:gd name="textAreaTop" fmla="*/ 0 h 66600"/>
              <a:gd name="textAreaBottom" fmla="*/ 66960 h 66600"/>
            </a:gdLst>
            <a:ahLst/>
            <a:rect l="textAreaLeft" t="textAreaTop" r="textAreaRight" b="textAreaBottom"/>
            <a:pathLst>
              <a:path w="101" h="42">
                <a:moveTo>
                  <a:pt x="0" y="0"/>
                </a:moveTo>
                <a:cubicBezTo>
                  <a:pt x="0" y="0"/>
                  <a:pt x="31" y="15"/>
                  <a:pt x="37" y="20"/>
                </a:cubicBezTo>
                <a:cubicBezTo>
                  <a:pt x="54" y="34"/>
                  <a:pt x="65" y="36"/>
                  <a:pt x="87" y="42"/>
                </a:cubicBezTo>
                <a:cubicBezTo>
                  <a:pt x="90" y="42"/>
                  <a:pt x="96" y="42"/>
                  <a:pt x="101" y="42"/>
                </a:cubicBezTo>
              </a:path>
            </a:pathLst>
          </a:custGeom>
          <a:noFill/>
          <a:ln cap="rnd" w="28575">
            <a:solidFill>
              <a:srgbClr val="000000"/>
            </a:solidFill>
            <a:miter/>
          </a:ln>
        </p:spPr>
        <p:style>
          <a:lnRef idx="0"/>
          <a:fillRef idx="0"/>
          <a:effectRef idx="0"/>
          <a:fontRef idx="minor"/>
        </p:style>
        <p:txBody>
          <a:bodyPr lIns="90000" rIns="90000" tIns="21960" bIns="21960" anchor="t">
            <a:noAutofit/>
          </a:bodyPr>
          <a:p>
            <a:pPr>
              <a:lnSpc>
                <a:spcPct val="100000"/>
              </a:lnSpc>
            </a:pPr>
            <a:endParaRPr b="0" lang="en-US" sz="1800" spc="-1" strike="noStrike">
              <a:solidFill>
                <a:srgbClr val="000000"/>
              </a:solidFill>
              <a:latin typeface="Arial"/>
              <a:ea typeface="宋体"/>
            </a:endParaRPr>
          </a:p>
        </p:txBody>
      </p:sp>
      <p:sp>
        <p:nvSpPr>
          <p:cNvPr id="312" name="Freeform 62"/>
          <p:cNvSpPr/>
          <p:nvPr/>
        </p:nvSpPr>
        <p:spPr>
          <a:xfrm>
            <a:off x="4167360" y="8228880"/>
            <a:ext cx="666360" cy="955440"/>
          </a:xfrm>
          <a:custGeom>
            <a:avLst/>
            <a:gdLst>
              <a:gd name="textAreaLeft" fmla="*/ 0 w 666360"/>
              <a:gd name="textAreaRight" fmla="*/ 666720 w 666360"/>
              <a:gd name="textAreaTop" fmla="*/ 0 h 955440"/>
              <a:gd name="textAreaBottom" fmla="*/ 955800 h 955440"/>
            </a:gdLst>
            <a:ahLst/>
            <a:rect l="textAreaLeft" t="textAreaTop" r="textAreaRight" b="textAreaBottom"/>
            <a:pathLst>
              <a:path w="417" h="598">
                <a:moveTo>
                  <a:pt x="385" y="598"/>
                </a:moveTo>
                <a:cubicBezTo>
                  <a:pt x="385" y="598"/>
                  <a:pt x="397" y="562"/>
                  <a:pt x="399" y="556"/>
                </a:cubicBezTo>
                <a:cubicBezTo>
                  <a:pt x="401" y="551"/>
                  <a:pt x="414" y="503"/>
                  <a:pt x="414" y="503"/>
                </a:cubicBezTo>
                <a:cubicBezTo>
                  <a:pt x="417" y="473"/>
                  <a:pt x="417" y="473"/>
                  <a:pt x="417" y="473"/>
                </a:cubicBezTo>
                <a:cubicBezTo>
                  <a:pt x="417" y="473"/>
                  <a:pt x="397" y="472"/>
                  <a:pt x="389" y="470"/>
                </a:cubicBezTo>
                <a:cubicBezTo>
                  <a:pt x="382" y="469"/>
                  <a:pt x="365" y="451"/>
                  <a:pt x="361" y="449"/>
                </a:cubicBezTo>
                <a:cubicBezTo>
                  <a:pt x="357" y="447"/>
                  <a:pt x="338" y="435"/>
                  <a:pt x="332" y="434"/>
                </a:cubicBezTo>
                <a:cubicBezTo>
                  <a:pt x="326" y="433"/>
                  <a:pt x="310" y="422"/>
                  <a:pt x="306" y="418"/>
                </a:cubicBezTo>
                <a:cubicBezTo>
                  <a:pt x="303" y="413"/>
                  <a:pt x="273" y="398"/>
                  <a:pt x="263" y="390"/>
                </a:cubicBezTo>
                <a:cubicBezTo>
                  <a:pt x="253" y="381"/>
                  <a:pt x="235" y="357"/>
                  <a:pt x="229" y="347"/>
                </a:cubicBezTo>
                <a:cubicBezTo>
                  <a:pt x="224" y="338"/>
                  <a:pt x="198" y="297"/>
                  <a:pt x="194" y="292"/>
                </a:cubicBezTo>
                <a:cubicBezTo>
                  <a:pt x="190" y="287"/>
                  <a:pt x="167" y="252"/>
                  <a:pt x="164" y="248"/>
                </a:cubicBezTo>
                <a:cubicBezTo>
                  <a:pt x="161" y="243"/>
                  <a:pt x="147" y="225"/>
                  <a:pt x="141" y="218"/>
                </a:cubicBezTo>
                <a:cubicBezTo>
                  <a:pt x="134" y="210"/>
                  <a:pt x="148" y="180"/>
                  <a:pt x="148" y="180"/>
                </a:cubicBezTo>
                <a:cubicBezTo>
                  <a:pt x="148" y="180"/>
                  <a:pt x="152" y="176"/>
                  <a:pt x="151" y="174"/>
                </a:cubicBezTo>
                <a:cubicBezTo>
                  <a:pt x="150" y="172"/>
                  <a:pt x="144" y="173"/>
                  <a:pt x="141" y="172"/>
                </a:cubicBezTo>
                <a:cubicBezTo>
                  <a:pt x="139" y="171"/>
                  <a:pt x="121" y="158"/>
                  <a:pt x="119" y="156"/>
                </a:cubicBezTo>
                <a:cubicBezTo>
                  <a:pt x="115" y="151"/>
                  <a:pt x="100" y="147"/>
                  <a:pt x="94" y="143"/>
                </a:cubicBezTo>
                <a:cubicBezTo>
                  <a:pt x="77" y="132"/>
                  <a:pt x="60" y="123"/>
                  <a:pt x="49" y="107"/>
                </a:cubicBezTo>
                <a:cubicBezTo>
                  <a:pt x="44" y="99"/>
                  <a:pt x="17" y="74"/>
                  <a:pt x="17" y="69"/>
                </a:cubicBezTo>
                <a:cubicBezTo>
                  <a:pt x="16" y="55"/>
                  <a:pt x="0" y="16"/>
                  <a:pt x="14" y="5"/>
                </a:cubicBezTo>
                <a:cubicBezTo>
                  <a:pt x="17" y="2"/>
                  <a:pt x="18" y="0"/>
                  <a:pt x="23" y="2"/>
                </a:cubicBezTo>
              </a:path>
            </a:pathLst>
          </a:custGeom>
          <a:noFill/>
          <a:ln cap="rnd" w="2857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313" name="TextBox 9"/>
          <p:cNvSpPr/>
          <p:nvPr/>
        </p:nvSpPr>
        <p:spPr>
          <a:xfrm>
            <a:off x="2743920" y="4089240"/>
            <a:ext cx="1902600" cy="638280"/>
          </a:xfrm>
          <a:prstGeom prst="rect">
            <a:avLst/>
          </a:prstGeom>
          <a:noFill/>
          <a:ln w="0">
            <a:noFill/>
          </a:ln>
        </p:spPr>
        <p:style>
          <a:lnRef idx="0"/>
          <a:fillRef idx="0"/>
          <a:effectRef idx="0"/>
          <a:fontRef idx="minor"/>
        </p:style>
        <p:txBody>
          <a:bodyPr wrap="none" lIns="90000" rIns="90000" tIns="45000" bIns="45000" anchor="t">
            <a:spAutoFit/>
          </a:bodyPr>
          <a:p>
            <a:pPr algn="r">
              <a:lnSpc>
                <a:spcPct val="100000"/>
              </a:lnSpc>
            </a:pPr>
            <a:r>
              <a:rPr b="1" lang="zh-CN" sz="1800" spc="-1" strike="noStrike">
                <a:solidFill>
                  <a:srgbClr val="000000"/>
                </a:solidFill>
                <a:latin typeface="微软雅黑"/>
                <a:ea typeface="微软雅黑"/>
              </a:rPr>
              <a:t>金领咨询核心业务之一：</a:t>
            </a:r>
            <a:r>
              <a:rPr b="1" lang="zh-CN" sz="3600" spc="49" strike="noStrike">
                <a:solidFill>
                  <a:srgbClr val="d79f00"/>
                </a:solidFill>
                <a:latin typeface="微软雅黑"/>
                <a:ea typeface="微软雅黑"/>
              </a:rPr>
              <a:t>企 业 培 训</a:t>
            </a:r>
            <a:endParaRPr b="0" lang="en-US" sz="3600" spc="-1" strike="noStrike">
              <a:solidFill>
                <a:srgbClr val="000000"/>
              </a:solidFill>
              <a:latin typeface="Arial"/>
            </a:endParaRPr>
          </a:p>
        </p:txBody>
      </p:sp>
      <p:sp>
        <p:nvSpPr>
          <p:cNvPr id="314" name="TextBox 11"/>
          <p:cNvSpPr/>
          <p:nvPr/>
        </p:nvSpPr>
        <p:spPr>
          <a:xfrm>
            <a:off x="762120" y="5241600"/>
            <a:ext cx="2366280" cy="104868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n-US" sz="1300" spc="-1" strike="noStrike">
                <a:solidFill>
                  <a:srgbClr val="000000"/>
                </a:solidFill>
                <a:latin typeface="微软雅黑"/>
                <a:ea typeface="微软雅黑"/>
              </a:rPr>
              <a:t>       </a:t>
            </a:r>
            <a:r>
              <a:rPr b="0" lang="zh-CN" sz="1300" spc="-1" strike="noStrike">
                <a:solidFill>
                  <a:srgbClr val="000000"/>
                </a:solidFill>
                <a:latin typeface="微软雅黑"/>
                <a:ea typeface="微软雅黑"/>
              </a:rPr>
              <a:t>金领咨询拥有</a:t>
            </a:r>
            <a:r>
              <a:rPr b="1" lang="zh-CN" sz="1600" spc="-1" strike="noStrike">
                <a:solidFill>
                  <a:srgbClr val="c00000"/>
                </a:solidFill>
                <a:latin typeface="微软雅黑"/>
                <a:ea typeface="微软雅黑"/>
              </a:rPr>
              <a:t>强大的师资实力</a:t>
            </a:r>
            <a:r>
              <a:rPr b="0" lang="zh-CN" sz="1300" spc="-1" strike="noStrike">
                <a:solidFill>
                  <a:srgbClr val="000000"/>
                </a:solidFill>
                <a:latin typeface="微软雅黑"/>
                <a:ea typeface="微软雅黑"/>
              </a:rPr>
              <a:t>，与来自深圳、广州、上海及珠海本地的六十多位实战派讲师（如臧其超、谢玉雄、安岷等）建立了长期战略合作关系，课程满意度均在</a:t>
            </a:r>
            <a:r>
              <a:rPr b="0" lang="en-US" sz="1300" spc="-1" strike="noStrike">
                <a:solidFill>
                  <a:srgbClr val="000000"/>
                </a:solidFill>
                <a:latin typeface="微软雅黑"/>
                <a:ea typeface="微软雅黑"/>
              </a:rPr>
              <a:t>90%</a:t>
            </a:r>
            <a:r>
              <a:rPr b="0" lang="zh-CN" sz="1300" spc="-1" strike="noStrike">
                <a:solidFill>
                  <a:srgbClr val="000000"/>
                </a:solidFill>
                <a:latin typeface="微软雅黑"/>
                <a:ea typeface="微软雅黑"/>
              </a:rPr>
              <a:t>以上，部分顶尖讲师课程满意度甚至高达</a:t>
            </a:r>
            <a:r>
              <a:rPr b="0" lang="en-US" sz="1300" spc="-1" strike="noStrike">
                <a:solidFill>
                  <a:srgbClr val="000000"/>
                </a:solidFill>
                <a:latin typeface="微软雅黑"/>
                <a:ea typeface="微软雅黑"/>
              </a:rPr>
              <a:t>98%</a:t>
            </a:r>
            <a:r>
              <a:rPr b="0" lang="zh-CN" sz="1300" spc="-1" strike="noStrike">
                <a:solidFill>
                  <a:srgbClr val="000000"/>
                </a:solidFill>
                <a:latin typeface="微软雅黑"/>
                <a:ea typeface="微软雅黑"/>
              </a:rPr>
              <a:t>以上；</a:t>
            </a:r>
            <a:endParaRPr b="0" lang="en-US" sz="1300" spc="-1" strike="noStrike">
              <a:solidFill>
                <a:srgbClr val="000000"/>
              </a:solidFill>
              <a:latin typeface="Arial"/>
            </a:endParaRPr>
          </a:p>
        </p:txBody>
      </p:sp>
      <p:sp>
        <p:nvSpPr>
          <p:cNvPr id="315" name="TextBox 13"/>
          <p:cNvSpPr/>
          <p:nvPr/>
        </p:nvSpPr>
        <p:spPr>
          <a:xfrm>
            <a:off x="3700800" y="5241600"/>
            <a:ext cx="2325600" cy="75168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1" lang="zh-CN" sz="1600" spc="-1" strike="noStrike">
                <a:solidFill>
                  <a:srgbClr val="c00000"/>
                </a:solidFill>
                <a:latin typeface="微软雅黑"/>
                <a:ea typeface="微软雅黑"/>
              </a:rPr>
              <a:t>八大课程体系</a:t>
            </a:r>
            <a:r>
              <a:rPr b="0" lang="zh-CN" sz="1300" spc="-1" strike="noStrike">
                <a:solidFill>
                  <a:srgbClr val="000000"/>
                </a:solidFill>
                <a:latin typeface="微软雅黑"/>
                <a:ea typeface="微软雅黑"/>
              </a:rPr>
              <a:t>（银行、连锁终端、市场营销、生产管理、综合管理、性格思维、职业化、人力资源）全面覆盖企业各个领域，为企业提供一站式的内训服务。</a:t>
            </a:r>
            <a:endParaRPr b="0" lang="en-US" sz="1300" spc="-1" strike="noStrike">
              <a:solidFill>
                <a:srgbClr val="000000"/>
              </a:solidFill>
              <a:latin typeface="Arial"/>
            </a:endParaRPr>
          </a:p>
        </p:txBody>
      </p:sp>
      <p:sp>
        <p:nvSpPr>
          <p:cNvPr id="316" name="Freeform 8"/>
          <p:cNvSpPr/>
          <p:nvPr/>
        </p:nvSpPr>
        <p:spPr>
          <a:xfrm flipH="1">
            <a:off x="5421240" y="254160"/>
            <a:ext cx="1074240" cy="1071360"/>
          </a:xfrm>
          <a:custGeom>
            <a:avLst/>
            <a:gdLst>
              <a:gd name="textAreaLeft" fmla="*/ 360 w 1074240"/>
              <a:gd name="textAreaRight" fmla="*/ 1074960 w 1074240"/>
              <a:gd name="textAreaTop" fmla="*/ 0 h 1071360"/>
              <a:gd name="textAreaBottom" fmla="*/ 1071720 h 1071360"/>
            </a:gdLst>
            <a:ahLst/>
            <a:rect l="textAreaLeft" t="textAreaTop" r="textAreaRight" b="textAreaBottom"/>
            <a:pathLst>
              <a:path w="5495" h="5786">
                <a:moveTo>
                  <a:pt x="730" y="46"/>
                </a:moveTo>
                <a:lnTo>
                  <a:pt x="0" y="4624"/>
                </a:lnTo>
                <a:lnTo>
                  <a:pt x="1589" y="2642"/>
                </a:lnTo>
                <a:lnTo>
                  <a:pt x="2760" y="5786"/>
                </a:lnTo>
                <a:lnTo>
                  <a:pt x="3854" y="2574"/>
                </a:lnTo>
                <a:lnTo>
                  <a:pt x="5495" y="4647"/>
                </a:lnTo>
                <a:lnTo>
                  <a:pt x="4713" y="0"/>
                </a:lnTo>
                <a:lnTo>
                  <a:pt x="2760" y="2368"/>
                </a:lnTo>
                <a:lnTo>
                  <a:pt x="730" y="46"/>
                </a:lnTo>
                <a:close/>
              </a:path>
            </a:pathLst>
          </a:custGeom>
          <a:noFill/>
          <a:ln>
            <a:solidFill>
              <a:srgbClr val="bcbcbc"/>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t">
            <a:noAutofit/>
          </a:bodyPr>
          <a:p>
            <a:pPr>
              <a:lnSpc>
                <a:spcPct val="100000"/>
              </a:lnSpc>
            </a:pPr>
            <a:endParaRPr b="0" lang="en-US" sz="1800" spc="-1" strike="noStrike">
              <a:solidFill>
                <a:schemeClr val="lt1"/>
              </a:solidFill>
              <a:latin typeface="Arial"/>
              <a:ea typeface="宋体"/>
            </a:endParaRPr>
          </a:p>
        </p:txBody>
      </p:sp>
      <p:sp>
        <p:nvSpPr>
          <p:cNvPr id="317" name="TextBox 16"/>
          <p:cNvSpPr/>
          <p:nvPr/>
        </p:nvSpPr>
        <p:spPr>
          <a:xfrm>
            <a:off x="6381720" y="1062360"/>
            <a:ext cx="399600" cy="1401120"/>
          </a:xfrm>
          <a:prstGeom prst="rect">
            <a:avLst/>
          </a:prstGeom>
          <a:noFill/>
          <a:ln w="0">
            <a:noFill/>
          </a:ln>
        </p:spPr>
        <p:style>
          <a:lnRef idx="0"/>
          <a:fillRef idx="0"/>
          <a:effectRef idx="0"/>
          <a:fontRef idx="minor"/>
        </p:style>
        <p:txBody>
          <a:bodyPr lIns="90000" rIns="90000" tIns="45000" bIns="45000" anchor="t" vert="vert" rot="5400000">
            <a:noAutofit/>
          </a:bodyPr>
          <a:p>
            <a:pPr>
              <a:lnSpc>
                <a:spcPct val="100000"/>
              </a:lnSpc>
            </a:pPr>
            <a:r>
              <a:rPr b="1" lang="zh-CN" sz="1400" spc="49" strike="noStrike">
                <a:solidFill>
                  <a:srgbClr val="a6a6a6"/>
                </a:solidFill>
                <a:latin typeface="幼圆"/>
                <a:ea typeface="幼圆"/>
              </a:rPr>
              <a:t>企业管理咨询</a:t>
            </a:r>
            <a:endParaRPr b="0" lang="en-US" sz="1400" spc="-1" strike="noStrike">
              <a:solidFill>
                <a:srgbClr val="000000"/>
              </a:solidFill>
              <a:latin typeface="Arial"/>
            </a:endParaRPr>
          </a:p>
        </p:txBody>
      </p:sp>
      <p:sp>
        <p:nvSpPr>
          <p:cNvPr id="318" name="TextBox 17"/>
          <p:cNvSpPr/>
          <p:nvPr/>
        </p:nvSpPr>
        <p:spPr>
          <a:xfrm>
            <a:off x="5120640" y="1100160"/>
            <a:ext cx="399600" cy="956880"/>
          </a:xfrm>
          <a:prstGeom prst="rect">
            <a:avLst/>
          </a:prstGeom>
          <a:noFill/>
          <a:ln w="0">
            <a:noFill/>
          </a:ln>
        </p:spPr>
        <p:style>
          <a:lnRef idx="0"/>
          <a:fillRef idx="0"/>
          <a:effectRef idx="0"/>
          <a:fontRef idx="minor"/>
        </p:style>
        <p:txBody>
          <a:bodyPr lIns="90000" rIns="90000" tIns="45000" bIns="45000" anchor="t" vert="vert" rot="5400000">
            <a:noAutofit/>
          </a:bodyPr>
          <a:p>
            <a:pPr>
              <a:lnSpc>
                <a:spcPct val="100000"/>
              </a:lnSpc>
            </a:pPr>
            <a:r>
              <a:rPr b="1" lang="zh-CN" sz="1400" spc="49" strike="noStrike">
                <a:solidFill>
                  <a:srgbClr val="a6a6a6"/>
                </a:solidFill>
                <a:latin typeface="幼圆"/>
                <a:ea typeface="幼圆"/>
              </a:rPr>
              <a:t>高端猎头</a:t>
            </a:r>
            <a:endParaRPr b="0" lang="en-US" sz="1400" spc="-1" strike="noStrike">
              <a:solidFill>
                <a:srgbClr val="000000"/>
              </a:solidFill>
              <a:latin typeface="Arial"/>
            </a:endParaRPr>
          </a:p>
        </p:txBody>
      </p:sp>
      <p:sp>
        <p:nvSpPr>
          <p:cNvPr id="319" name="TextBox 19"/>
          <p:cNvSpPr/>
          <p:nvPr/>
        </p:nvSpPr>
        <p:spPr>
          <a:xfrm>
            <a:off x="5743080" y="1344600"/>
            <a:ext cx="399600" cy="991800"/>
          </a:xfrm>
          <a:prstGeom prst="rect">
            <a:avLst/>
          </a:prstGeom>
          <a:noFill/>
          <a:ln w="0">
            <a:noFill/>
          </a:ln>
        </p:spPr>
        <p:style>
          <a:lnRef idx="0"/>
          <a:fillRef idx="0"/>
          <a:effectRef idx="0"/>
          <a:fontRef idx="minor"/>
        </p:style>
        <p:txBody>
          <a:bodyPr lIns="90000" rIns="90000" tIns="45000" bIns="45000" anchor="t" vert="vert" rot="5400000">
            <a:noAutofit/>
          </a:bodyPr>
          <a:p>
            <a:pPr>
              <a:lnSpc>
                <a:spcPct val="100000"/>
              </a:lnSpc>
            </a:pPr>
            <a:r>
              <a:rPr b="1" lang="zh-CN" sz="1400" spc="49" strike="noStrike">
                <a:solidFill>
                  <a:srgbClr val="a6a6a6"/>
                </a:solidFill>
                <a:latin typeface="幼圆"/>
                <a:ea typeface="幼圆"/>
              </a:rPr>
              <a:t>企业培训</a:t>
            </a:r>
            <a:endParaRPr b="0" lang="en-US" sz="1400" spc="-1" strike="noStrike">
              <a:solidFill>
                <a:srgbClr val="000000"/>
              </a:solidFill>
              <a:latin typeface="Arial"/>
            </a:endParaRPr>
          </a:p>
        </p:txBody>
      </p:sp>
      <p:sp>
        <p:nvSpPr>
          <p:cNvPr id="320" name="TextBox 21"/>
          <p:cNvSpPr/>
          <p:nvPr/>
        </p:nvSpPr>
        <p:spPr>
          <a:xfrm>
            <a:off x="3912840" y="6840"/>
            <a:ext cx="17290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1800" spc="-1" strike="noStrike">
                <a:solidFill>
                  <a:srgbClr val="a6a6a6"/>
                </a:solidFill>
                <a:latin typeface="微软雅黑"/>
                <a:ea typeface="微软雅黑"/>
              </a:rPr>
              <a:t>三 大核心业务</a:t>
            </a:r>
            <a:endParaRPr b="0" lang="en-US" sz="1800" spc="-1" strike="noStrike">
              <a:solidFill>
                <a:srgbClr val="000000"/>
              </a:solidFill>
              <a:latin typeface="Arial"/>
            </a:endParaRPr>
          </a:p>
        </p:txBody>
      </p:sp>
      <p:sp>
        <p:nvSpPr>
          <p:cNvPr id="321" name="任意多边形 8"/>
          <p:cNvSpPr/>
          <p:nvPr/>
        </p:nvSpPr>
        <p:spPr>
          <a:xfrm>
            <a:off x="-25560" y="9191160"/>
            <a:ext cx="4833720" cy="45360"/>
          </a:xfrm>
          <a:custGeom>
            <a:avLst/>
            <a:gdLst>
              <a:gd name="textAreaLeft" fmla="*/ 0 w 4833720"/>
              <a:gd name="textAreaRight" fmla="*/ 4834080 w 4833720"/>
              <a:gd name="textAreaTop" fmla="*/ 0 h 45360"/>
              <a:gd name="textAreaBottom" fmla="*/ 45720 h 45360"/>
            </a:gdLst>
            <a:ahLst/>
            <a:rect l="textAreaLeft" t="textAreaTop" r="textAreaRight" b="textAreaBottom"/>
            <a:pathLst>
              <a:path w="353683" h="635">
                <a:moveTo>
                  <a:pt x="0" y="0"/>
                </a:moveTo>
                <a:lnTo>
                  <a:pt x="353683" y="0"/>
                </a:lnTo>
              </a:path>
            </a:pathLst>
          </a:custGeom>
          <a:solidFill>
            <a:schemeClr val="tx1"/>
          </a:solidFill>
          <a:ln w="28575">
            <a:solidFill>
              <a:srgbClr val="000000"/>
            </a:solidFill>
            <a:miter/>
          </a:ln>
        </p:spPr>
        <p:style>
          <a:lnRef idx="0"/>
          <a:fillRef idx="0"/>
          <a:effectRef idx="0"/>
          <a:fontRef idx="minor"/>
        </p:style>
        <p:txBody>
          <a:bodyPr lIns="90000" rIns="90000" tIns="22680" bIns="22680" anchor="ctr">
            <a:noAutofit/>
          </a:bodyPr>
          <a:p>
            <a:pPr algn="ctr">
              <a:lnSpc>
                <a:spcPct val="100000"/>
              </a:lnSpc>
            </a:pPr>
            <a:endParaRPr b="0" lang="en-US" sz="1800" spc="-1" strike="noStrike">
              <a:solidFill>
                <a:srgbClr val="000000"/>
              </a:solidFill>
              <a:latin typeface="Calibri"/>
              <a:ea typeface="宋体"/>
            </a:endParaRPr>
          </a:p>
        </p:txBody>
      </p:sp>
      <p:sp>
        <p:nvSpPr>
          <p:cNvPr id="322" name="任意多边形 8"/>
          <p:cNvSpPr/>
          <p:nvPr/>
        </p:nvSpPr>
        <p:spPr>
          <a:xfrm>
            <a:off x="5642280" y="8656920"/>
            <a:ext cx="739080" cy="89640"/>
          </a:xfrm>
          <a:custGeom>
            <a:avLst/>
            <a:gdLst>
              <a:gd name="textAreaLeft" fmla="*/ 0 w 739080"/>
              <a:gd name="textAreaRight" fmla="*/ 739440 w 739080"/>
              <a:gd name="textAreaTop" fmla="*/ 0 h 89640"/>
              <a:gd name="textAreaBottom" fmla="*/ 90000 h 89640"/>
            </a:gdLst>
            <a:ahLst/>
            <a:rect l="textAreaLeft" t="textAreaTop" r="textAreaRight" b="textAreaBottom"/>
            <a:pathLst>
              <a:path w="353683" h="635">
                <a:moveTo>
                  <a:pt x="0" y="0"/>
                </a:moveTo>
                <a:lnTo>
                  <a:pt x="353683" y="0"/>
                </a:lnTo>
              </a:path>
            </a:pathLst>
          </a:custGeom>
          <a:solidFill>
            <a:schemeClr val="tx1"/>
          </a:solidFill>
          <a:ln w="28575">
            <a:solidFill>
              <a:srgbClr val="000000"/>
            </a:solidFill>
            <a:miter/>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宋体"/>
            </a:endParaRPr>
          </a:p>
        </p:txBody>
      </p:sp>
      <p:grpSp>
        <p:nvGrpSpPr>
          <p:cNvPr id="323" name="Group 2"/>
          <p:cNvGrpSpPr/>
          <p:nvPr/>
        </p:nvGrpSpPr>
        <p:grpSpPr>
          <a:xfrm>
            <a:off x="1969920" y="9347040"/>
            <a:ext cx="3306600" cy="326880"/>
            <a:chOff x="1969920" y="9347040"/>
            <a:chExt cx="3306600" cy="326880"/>
          </a:xfrm>
        </p:grpSpPr>
        <p:sp>
          <p:nvSpPr>
            <p:cNvPr id="324" name="Freeform 11"/>
            <p:cNvSpPr/>
            <p:nvPr/>
          </p:nvSpPr>
          <p:spPr>
            <a:xfrm>
              <a:off x="1969920" y="9354960"/>
              <a:ext cx="239400" cy="211320"/>
            </a:xfrm>
            <a:custGeom>
              <a:avLst/>
              <a:gdLst>
                <a:gd name="textAreaLeft" fmla="*/ 0 w 239400"/>
                <a:gd name="textAreaRight" fmla="*/ 239760 w 239400"/>
                <a:gd name="textAreaTop" fmla="*/ 0 h 211320"/>
                <a:gd name="textAreaBottom" fmla="*/ 211680 h 211320"/>
              </a:gdLst>
              <a:ahLst/>
              <a:rect l="textAreaLeft" t="textAreaTop" r="textAreaRight" b="textAreaBottom"/>
              <a:pathLst>
                <a:path w="1227" h="1136">
                  <a:moveTo>
                    <a:pt x="540" y="176"/>
                  </a:moveTo>
                  <a:lnTo>
                    <a:pt x="551" y="181"/>
                  </a:lnTo>
                  <a:lnTo>
                    <a:pt x="562" y="188"/>
                  </a:lnTo>
                  <a:lnTo>
                    <a:pt x="573" y="193"/>
                  </a:lnTo>
                  <a:lnTo>
                    <a:pt x="585" y="198"/>
                  </a:lnTo>
                  <a:lnTo>
                    <a:pt x="611" y="208"/>
                  </a:lnTo>
                  <a:lnTo>
                    <a:pt x="640" y="215"/>
                  </a:lnTo>
                  <a:lnTo>
                    <a:pt x="635" y="224"/>
                  </a:lnTo>
                  <a:lnTo>
                    <a:pt x="628" y="231"/>
                  </a:lnTo>
                  <a:lnTo>
                    <a:pt x="623" y="240"/>
                  </a:lnTo>
                  <a:lnTo>
                    <a:pt x="619" y="248"/>
                  </a:lnTo>
                  <a:lnTo>
                    <a:pt x="615" y="257"/>
                  </a:lnTo>
                  <a:lnTo>
                    <a:pt x="611" y="266"/>
                  </a:lnTo>
                  <a:lnTo>
                    <a:pt x="608" y="276"/>
                  </a:lnTo>
                  <a:lnTo>
                    <a:pt x="605" y="285"/>
                  </a:lnTo>
                  <a:lnTo>
                    <a:pt x="604" y="293"/>
                  </a:lnTo>
                  <a:lnTo>
                    <a:pt x="603" y="301"/>
                  </a:lnTo>
                  <a:lnTo>
                    <a:pt x="600" y="309"/>
                  </a:lnTo>
                  <a:lnTo>
                    <a:pt x="596" y="316"/>
                  </a:lnTo>
                  <a:lnTo>
                    <a:pt x="615" y="313"/>
                  </a:lnTo>
                  <a:lnTo>
                    <a:pt x="637" y="309"/>
                  </a:lnTo>
                  <a:lnTo>
                    <a:pt x="662" y="302"/>
                  </a:lnTo>
                  <a:lnTo>
                    <a:pt x="690" y="296"/>
                  </a:lnTo>
                  <a:lnTo>
                    <a:pt x="702" y="292"/>
                  </a:lnTo>
                  <a:lnTo>
                    <a:pt x="710" y="291"/>
                  </a:lnTo>
                  <a:lnTo>
                    <a:pt x="710" y="243"/>
                  </a:lnTo>
                  <a:lnTo>
                    <a:pt x="708" y="197"/>
                  </a:lnTo>
                  <a:lnTo>
                    <a:pt x="705" y="156"/>
                  </a:lnTo>
                  <a:lnTo>
                    <a:pt x="700" y="118"/>
                  </a:lnTo>
                  <a:lnTo>
                    <a:pt x="695" y="84"/>
                  </a:lnTo>
                  <a:lnTo>
                    <a:pt x="688" y="52"/>
                  </a:lnTo>
                  <a:lnTo>
                    <a:pt x="683" y="38"/>
                  </a:lnTo>
                  <a:lnTo>
                    <a:pt x="679" y="25"/>
                  </a:lnTo>
                  <a:lnTo>
                    <a:pt x="675" y="12"/>
                  </a:lnTo>
                  <a:lnTo>
                    <a:pt x="671" y="0"/>
                  </a:lnTo>
                  <a:lnTo>
                    <a:pt x="688" y="7"/>
                  </a:lnTo>
                  <a:lnTo>
                    <a:pt x="705" y="11"/>
                  </a:lnTo>
                  <a:lnTo>
                    <a:pt x="722" y="15"/>
                  </a:lnTo>
                  <a:lnTo>
                    <a:pt x="739" y="18"/>
                  </a:lnTo>
                  <a:lnTo>
                    <a:pt x="755" y="20"/>
                  </a:lnTo>
                  <a:lnTo>
                    <a:pt x="772" y="21"/>
                  </a:lnTo>
                  <a:lnTo>
                    <a:pt x="789" y="21"/>
                  </a:lnTo>
                  <a:lnTo>
                    <a:pt x="805" y="20"/>
                  </a:lnTo>
                  <a:lnTo>
                    <a:pt x="800" y="44"/>
                  </a:lnTo>
                  <a:lnTo>
                    <a:pt x="795" y="70"/>
                  </a:lnTo>
                  <a:lnTo>
                    <a:pt x="790" y="99"/>
                  </a:lnTo>
                  <a:lnTo>
                    <a:pt x="786" y="129"/>
                  </a:lnTo>
                  <a:lnTo>
                    <a:pt x="784" y="162"/>
                  </a:lnTo>
                  <a:lnTo>
                    <a:pt x="782" y="198"/>
                  </a:lnTo>
                  <a:lnTo>
                    <a:pt x="781" y="235"/>
                  </a:lnTo>
                  <a:lnTo>
                    <a:pt x="780" y="276"/>
                  </a:lnTo>
                  <a:lnTo>
                    <a:pt x="811" y="268"/>
                  </a:lnTo>
                  <a:lnTo>
                    <a:pt x="841" y="261"/>
                  </a:lnTo>
                  <a:lnTo>
                    <a:pt x="873" y="253"/>
                  </a:lnTo>
                  <a:lnTo>
                    <a:pt x="906" y="246"/>
                  </a:lnTo>
                  <a:lnTo>
                    <a:pt x="913" y="244"/>
                  </a:lnTo>
                  <a:lnTo>
                    <a:pt x="921" y="244"/>
                  </a:lnTo>
                  <a:lnTo>
                    <a:pt x="928" y="247"/>
                  </a:lnTo>
                  <a:lnTo>
                    <a:pt x="936" y="250"/>
                  </a:lnTo>
                  <a:lnTo>
                    <a:pt x="936" y="249"/>
                  </a:lnTo>
                  <a:lnTo>
                    <a:pt x="937" y="248"/>
                  </a:lnTo>
                  <a:lnTo>
                    <a:pt x="938" y="249"/>
                  </a:lnTo>
                  <a:lnTo>
                    <a:pt x="941" y="250"/>
                  </a:lnTo>
                  <a:lnTo>
                    <a:pt x="945" y="257"/>
                  </a:lnTo>
                  <a:lnTo>
                    <a:pt x="950" y="266"/>
                  </a:lnTo>
                  <a:lnTo>
                    <a:pt x="960" y="276"/>
                  </a:lnTo>
                  <a:lnTo>
                    <a:pt x="966" y="284"/>
                  </a:lnTo>
                  <a:lnTo>
                    <a:pt x="972" y="293"/>
                  </a:lnTo>
                  <a:lnTo>
                    <a:pt x="976" y="301"/>
                  </a:lnTo>
                  <a:lnTo>
                    <a:pt x="979" y="305"/>
                  </a:lnTo>
                  <a:lnTo>
                    <a:pt x="981" y="309"/>
                  </a:lnTo>
                  <a:lnTo>
                    <a:pt x="982" y="310"/>
                  </a:lnTo>
                  <a:lnTo>
                    <a:pt x="982" y="311"/>
                  </a:lnTo>
                  <a:lnTo>
                    <a:pt x="981" y="311"/>
                  </a:lnTo>
                  <a:lnTo>
                    <a:pt x="980" y="311"/>
                  </a:lnTo>
                  <a:lnTo>
                    <a:pt x="979" y="313"/>
                  </a:lnTo>
                  <a:lnTo>
                    <a:pt x="977" y="315"/>
                  </a:lnTo>
                  <a:lnTo>
                    <a:pt x="972" y="315"/>
                  </a:lnTo>
                  <a:lnTo>
                    <a:pt x="965" y="316"/>
                  </a:lnTo>
                  <a:lnTo>
                    <a:pt x="943" y="321"/>
                  </a:lnTo>
                  <a:lnTo>
                    <a:pt x="915" y="327"/>
                  </a:lnTo>
                  <a:lnTo>
                    <a:pt x="883" y="334"/>
                  </a:lnTo>
                  <a:lnTo>
                    <a:pt x="845" y="340"/>
                  </a:lnTo>
                  <a:lnTo>
                    <a:pt x="824" y="343"/>
                  </a:lnTo>
                  <a:lnTo>
                    <a:pt x="806" y="346"/>
                  </a:lnTo>
                  <a:lnTo>
                    <a:pt x="791" y="348"/>
                  </a:lnTo>
                  <a:lnTo>
                    <a:pt x="780" y="351"/>
                  </a:lnTo>
                  <a:lnTo>
                    <a:pt x="780" y="384"/>
                  </a:lnTo>
                  <a:lnTo>
                    <a:pt x="780" y="417"/>
                  </a:lnTo>
                  <a:lnTo>
                    <a:pt x="780" y="452"/>
                  </a:lnTo>
                  <a:lnTo>
                    <a:pt x="780" y="486"/>
                  </a:lnTo>
                  <a:lnTo>
                    <a:pt x="806" y="480"/>
                  </a:lnTo>
                  <a:lnTo>
                    <a:pt x="834" y="474"/>
                  </a:lnTo>
                  <a:lnTo>
                    <a:pt x="860" y="467"/>
                  </a:lnTo>
                  <a:lnTo>
                    <a:pt x="888" y="462"/>
                  </a:lnTo>
                  <a:lnTo>
                    <a:pt x="915" y="457"/>
                  </a:lnTo>
                  <a:lnTo>
                    <a:pt x="943" y="452"/>
                  </a:lnTo>
                  <a:lnTo>
                    <a:pt x="972" y="446"/>
                  </a:lnTo>
                  <a:lnTo>
                    <a:pt x="1000" y="441"/>
                  </a:lnTo>
                  <a:lnTo>
                    <a:pt x="1005" y="440"/>
                  </a:lnTo>
                  <a:lnTo>
                    <a:pt x="1011" y="440"/>
                  </a:lnTo>
                  <a:lnTo>
                    <a:pt x="1015" y="440"/>
                  </a:lnTo>
                  <a:lnTo>
                    <a:pt x="1020" y="441"/>
                  </a:lnTo>
                  <a:lnTo>
                    <a:pt x="1026" y="442"/>
                  </a:lnTo>
                  <a:lnTo>
                    <a:pt x="1031" y="444"/>
                  </a:lnTo>
                  <a:lnTo>
                    <a:pt x="1035" y="447"/>
                  </a:lnTo>
                  <a:lnTo>
                    <a:pt x="1040" y="451"/>
                  </a:lnTo>
                  <a:lnTo>
                    <a:pt x="1047" y="458"/>
                  </a:lnTo>
                  <a:lnTo>
                    <a:pt x="1055" y="471"/>
                  </a:lnTo>
                  <a:lnTo>
                    <a:pt x="1068" y="491"/>
                  </a:lnTo>
                  <a:lnTo>
                    <a:pt x="1075" y="500"/>
                  </a:lnTo>
                  <a:lnTo>
                    <a:pt x="1080" y="508"/>
                  </a:lnTo>
                  <a:lnTo>
                    <a:pt x="1082" y="513"/>
                  </a:lnTo>
                  <a:lnTo>
                    <a:pt x="1082" y="517"/>
                  </a:lnTo>
                  <a:lnTo>
                    <a:pt x="1081" y="520"/>
                  </a:lnTo>
                  <a:lnTo>
                    <a:pt x="1080" y="523"/>
                  </a:lnTo>
                  <a:lnTo>
                    <a:pt x="1076" y="525"/>
                  </a:lnTo>
                  <a:lnTo>
                    <a:pt x="1072" y="526"/>
                  </a:lnTo>
                  <a:lnTo>
                    <a:pt x="1066" y="526"/>
                  </a:lnTo>
                  <a:lnTo>
                    <a:pt x="1049" y="526"/>
                  </a:lnTo>
                  <a:lnTo>
                    <a:pt x="1031" y="527"/>
                  </a:lnTo>
                  <a:lnTo>
                    <a:pt x="1011" y="528"/>
                  </a:lnTo>
                  <a:lnTo>
                    <a:pt x="987" y="530"/>
                  </a:lnTo>
                  <a:lnTo>
                    <a:pt x="963" y="532"/>
                  </a:lnTo>
                  <a:lnTo>
                    <a:pt x="936" y="534"/>
                  </a:lnTo>
                  <a:lnTo>
                    <a:pt x="907" y="537"/>
                  </a:lnTo>
                  <a:lnTo>
                    <a:pt x="875" y="541"/>
                  </a:lnTo>
                  <a:lnTo>
                    <a:pt x="850" y="544"/>
                  </a:lnTo>
                  <a:lnTo>
                    <a:pt x="827" y="546"/>
                  </a:lnTo>
                  <a:lnTo>
                    <a:pt x="809" y="548"/>
                  </a:lnTo>
                  <a:lnTo>
                    <a:pt x="796" y="551"/>
                  </a:lnTo>
                  <a:lnTo>
                    <a:pt x="812" y="568"/>
                  </a:lnTo>
                  <a:lnTo>
                    <a:pt x="831" y="588"/>
                  </a:lnTo>
                  <a:lnTo>
                    <a:pt x="852" y="613"/>
                  </a:lnTo>
                  <a:lnTo>
                    <a:pt x="875" y="641"/>
                  </a:lnTo>
                  <a:lnTo>
                    <a:pt x="902" y="671"/>
                  </a:lnTo>
                  <a:lnTo>
                    <a:pt x="927" y="696"/>
                  </a:lnTo>
                  <a:lnTo>
                    <a:pt x="950" y="720"/>
                  </a:lnTo>
                  <a:lnTo>
                    <a:pt x="972" y="740"/>
                  </a:lnTo>
                  <a:lnTo>
                    <a:pt x="992" y="757"/>
                  </a:lnTo>
                  <a:lnTo>
                    <a:pt x="1010" y="770"/>
                  </a:lnTo>
                  <a:lnTo>
                    <a:pt x="1018" y="775"/>
                  </a:lnTo>
                  <a:lnTo>
                    <a:pt x="1026" y="779"/>
                  </a:lnTo>
                  <a:lnTo>
                    <a:pt x="1033" y="783"/>
                  </a:lnTo>
                  <a:lnTo>
                    <a:pt x="1040" y="786"/>
                  </a:lnTo>
                  <a:lnTo>
                    <a:pt x="1064" y="797"/>
                  </a:lnTo>
                  <a:lnTo>
                    <a:pt x="1087" y="809"/>
                  </a:lnTo>
                  <a:lnTo>
                    <a:pt x="1109" y="821"/>
                  </a:lnTo>
                  <a:lnTo>
                    <a:pt x="1130" y="834"/>
                  </a:lnTo>
                  <a:lnTo>
                    <a:pt x="1152" y="846"/>
                  </a:lnTo>
                  <a:lnTo>
                    <a:pt x="1172" y="860"/>
                  </a:lnTo>
                  <a:lnTo>
                    <a:pt x="1191" y="872"/>
                  </a:lnTo>
                  <a:lnTo>
                    <a:pt x="1210" y="886"/>
                  </a:lnTo>
                  <a:lnTo>
                    <a:pt x="1218" y="896"/>
                  </a:lnTo>
                  <a:lnTo>
                    <a:pt x="1224" y="904"/>
                  </a:lnTo>
                  <a:lnTo>
                    <a:pt x="1226" y="907"/>
                  </a:lnTo>
                  <a:lnTo>
                    <a:pt x="1227" y="910"/>
                  </a:lnTo>
                  <a:lnTo>
                    <a:pt x="1227" y="914"/>
                  </a:lnTo>
                  <a:lnTo>
                    <a:pt x="1226" y="916"/>
                  </a:lnTo>
                  <a:lnTo>
                    <a:pt x="1225" y="919"/>
                  </a:lnTo>
                  <a:lnTo>
                    <a:pt x="1224" y="921"/>
                  </a:lnTo>
                  <a:lnTo>
                    <a:pt x="1221" y="922"/>
                  </a:lnTo>
                  <a:lnTo>
                    <a:pt x="1219" y="923"/>
                  </a:lnTo>
                  <a:lnTo>
                    <a:pt x="1211" y="925"/>
                  </a:lnTo>
                  <a:lnTo>
                    <a:pt x="1200" y="926"/>
                  </a:lnTo>
                  <a:lnTo>
                    <a:pt x="1152" y="927"/>
                  </a:lnTo>
                  <a:lnTo>
                    <a:pt x="1109" y="927"/>
                  </a:lnTo>
                  <a:lnTo>
                    <a:pt x="1089" y="927"/>
                  </a:lnTo>
                  <a:lnTo>
                    <a:pt x="1071" y="926"/>
                  </a:lnTo>
                  <a:lnTo>
                    <a:pt x="1054" y="924"/>
                  </a:lnTo>
                  <a:lnTo>
                    <a:pt x="1039" y="922"/>
                  </a:lnTo>
                  <a:lnTo>
                    <a:pt x="1026" y="920"/>
                  </a:lnTo>
                  <a:lnTo>
                    <a:pt x="1013" y="917"/>
                  </a:lnTo>
                  <a:lnTo>
                    <a:pt x="1001" y="914"/>
                  </a:lnTo>
                  <a:lnTo>
                    <a:pt x="992" y="910"/>
                  </a:lnTo>
                  <a:lnTo>
                    <a:pt x="983" y="906"/>
                  </a:lnTo>
                  <a:lnTo>
                    <a:pt x="976" y="902"/>
                  </a:lnTo>
                  <a:lnTo>
                    <a:pt x="969" y="897"/>
                  </a:lnTo>
                  <a:lnTo>
                    <a:pt x="965" y="891"/>
                  </a:lnTo>
                  <a:lnTo>
                    <a:pt x="946" y="867"/>
                  </a:lnTo>
                  <a:lnTo>
                    <a:pt x="922" y="833"/>
                  </a:lnTo>
                  <a:lnTo>
                    <a:pt x="893" y="792"/>
                  </a:lnTo>
                  <a:lnTo>
                    <a:pt x="860" y="741"/>
                  </a:lnTo>
                  <a:lnTo>
                    <a:pt x="839" y="704"/>
                  </a:lnTo>
                  <a:lnTo>
                    <a:pt x="819" y="671"/>
                  </a:lnTo>
                  <a:lnTo>
                    <a:pt x="801" y="643"/>
                  </a:lnTo>
                  <a:lnTo>
                    <a:pt x="785" y="621"/>
                  </a:lnTo>
                  <a:lnTo>
                    <a:pt x="785" y="636"/>
                  </a:lnTo>
                  <a:lnTo>
                    <a:pt x="785" y="652"/>
                  </a:lnTo>
                  <a:lnTo>
                    <a:pt x="785" y="671"/>
                  </a:lnTo>
                  <a:lnTo>
                    <a:pt x="785" y="691"/>
                  </a:lnTo>
                  <a:lnTo>
                    <a:pt x="785" y="713"/>
                  </a:lnTo>
                  <a:lnTo>
                    <a:pt x="785" y="738"/>
                  </a:lnTo>
                  <a:lnTo>
                    <a:pt x="785" y="763"/>
                  </a:lnTo>
                  <a:lnTo>
                    <a:pt x="785" y="791"/>
                  </a:lnTo>
                  <a:lnTo>
                    <a:pt x="786" y="820"/>
                  </a:lnTo>
                  <a:lnTo>
                    <a:pt x="787" y="848"/>
                  </a:lnTo>
                  <a:lnTo>
                    <a:pt x="788" y="873"/>
                  </a:lnTo>
                  <a:lnTo>
                    <a:pt x="789" y="898"/>
                  </a:lnTo>
                  <a:lnTo>
                    <a:pt x="789" y="920"/>
                  </a:lnTo>
                  <a:lnTo>
                    <a:pt x="790" y="940"/>
                  </a:lnTo>
                  <a:lnTo>
                    <a:pt x="790" y="959"/>
                  </a:lnTo>
                  <a:lnTo>
                    <a:pt x="790" y="976"/>
                  </a:lnTo>
                  <a:lnTo>
                    <a:pt x="793" y="1015"/>
                  </a:lnTo>
                  <a:lnTo>
                    <a:pt x="794" y="1048"/>
                  </a:lnTo>
                  <a:lnTo>
                    <a:pt x="795" y="1076"/>
                  </a:lnTo>
                  <a:lnTo>
                    <a:pt x="794" y="1099"/>
                  </a:lnTo>
                  <a:lnTo>
                    <a:pt x="793" y="1116"/>
                  </a:lnTo>
                  <a:lnTo>
                    <a:pt x="791" y="1128"/>
                  </a:lnTo>
                  <a:lnTo>
                    <a:pt x="790" y="1132"/>
                  </a:lnTo>
                  <a:lnTo>
                    <a:pt x="788" y="1135"/>
                  </a:lnTo>
                  <a:lnTo>
                    <a:pt x="787" y="1136"/>
                  </a:lnTo>
                  <a:lnTo>
                    <a:pt x="785" y="1136"/>
                  </a:lnTo>
                  <a:lnTo>
                    <a:pt x="770" y="1128"/>
                  </a:lnTo>
                  <a:lnTo>
                    <a:pt x="755" y="1118"/>
                  </a:lnTo>
                  <a:lnTo>
                    <a:pt x="741" y="1108"/>
                  </a:lnTo>
                  <a:lnTo>
                    <a:pt x="727" y="1095"/>
                  </a:lnTo>
                  <a:lnTo>
                    <a:pt x="712" y="1081"/>
                  </a:lnTo>
                  <a:lnTo>
                    <a:pt x="698" y="1066"/>
                  </a:lnTo>
                  <a:lnTo>
                    <a:pt x="684" y="1049"/>
                  </a:lnTo>
                  <a:lnTo>
                    <a:pt x="671" y="1031"/>
                  </a:lnTo>
                  <a:lnTo>
                    <a:pt x="675" y="1026"/>
                  </a:lnTo>
                  <a:lnTo>
                    <a:pt x="678" y="1019"/>
                  </a:lnTo>
                  <a:lnTo>
                    <a:pt x="682" y="1008"/>
                  </a:lnTo>
                  <a:lnTo>
                    <a:pt x="686" y="994"/>
                  </a:lnTo>
                  <a:lnTo>
                    <a:pt x="689" y="978"/>
                  </a:lnTo>
                  <a:lnTo>
                    <a:pt x="692" y="959"/>
                  </a:lnTo>
                  <a:lnTo>
                    <a:pt x="694" y="938"/>
                  </a:lnTo>
                  <a:lnTo>
                    <a:pt x="696" y="914"/>
                  </a:lnTo>
                  <a:lnTo>
                    <a:pt x="700" y="857"/>
                  </a:lnTo>
                  <a:lnTo>
                    <a:pt x="702" y="790"/>
                  </a:lnTo>
                  <a:lnTo>
                    <a:pt x="705" y="710"/>
                  </a:lnTo>
                  <a:lnTo>
                    <a:pt x="706" y="621"/>
                  </a:lnTo>
                  <a:lnTo>
                    <a:pt x="680" y="666"/>
                  </a:lnTo>
                  <a:lnTo>
                    <a:pt x="655" y="709"/>
                  </a:lnTo>
                  <a:lnTo>
                    <a:pt x="629" y="749"/>
                  </a:lnTo>
                  <a:lnTo>
                    <a:pt x="604" y="788"/>
                  </a:lnTo>
                  <a:lnTo>
                    <a:pt x="579" y="824"/>
                  </a:lnTo>
                  <a:lnTo>
                    <a:pt x="552" y="856"/>
                  </a:lnTo>
                  <a:lnTo>
                    <a:pt x="527" y="887"/>
                  </a:lnTo>
                  <a:lnTo>
                    <a:pt x="500" y="916"/>
                  </a:lnTo>
                  <a:lnTo>
                    <a:pt x="487" y="926"/>
                  </a:lnTo>
                  <a:lnTo>
                    <a:pt x="475" y="935"/>
                  </a:lnTo>
                  <a:lnTo>
                    <a:pt x="462" y="943"/>
                  </a:lnTo>
                  <a:lnTo>
                    <a:pt x="449" y="950"/>
                  </a:lnTo>
                  <a:lnTo>
                    <a:pt x="437" y="955"/>
                  </a:lnTo>
                  <a:lnTo>
                    <a:pt x="423" y="959"/>
                  </a:lnTo>
                  <a:lnTo>
                    <a:pt x="410" y="962"/>
                  </a:lnTo>
                  <a:lnTo>
                    <a:pt x="396" y="963"/>
                  </a:lnTo>
                  <a:lnTo>
                    <a:pt x="383" y="964"/>
                  </a:lnTo>
                  <a:lnTo>
                    <a:pt x="369" y="963"/>
                  </a:lnTo>
                  <a:lnTo>
                    <a:pt x="355" y="962"/>
                  </a:lnTo>
                  <a:lnTo>
                    <a:pt x="341" y="959"/>
                  </a:lnTo>
                  <a:lnTo>
                    <a:pt x="328" y="955"/>
                  </a:lnTo>
                  <a:lnTo>
                    <a:pt x="314" y="950"/>
                  </a:lnTo>
                  <a:lnTo>
                    <a:pt x="299" y="943"/>
                  </a:lnTo>
                  <a:lnTo>
                    <a:pt x="285" y="936"/>
                  </a:lnTo>
                  <a:lnTo>
                    <a:pt x="308" y="925"/>
                  </a:lnTo>
                  <a:lnTo>
                    <a:pt x="333" y="912"/>
                  </a:lnTo>
                  <a:lnTo>
                    <a:pt x="356" y="898"/>
                  </a:lnTo>
                  <a:lnTo>
                    <a:pt x="379" y="882"/>
                  </a:lnTo>
                  <a:lnTo>
                    <a:pt x="403" y="865"/>
                  </a:lnTo>
                  <a:lnTo>
                    <a:pt x="426" y="847"/>
                  </a:lnTo>
                  <a:lnTo>
                    <a:pt x="449" y="827"/>
                  </a:lnTo>
                  <a:lnTo>
                    <a:pt x="473" y="804"/>
                  </a:lnTo>
                  <a:lnTo>
                    <a:pt x="496" y="782"/>
                  </a:lnTo>
                  <a:lnTo>
                    <a:pt x="518" y="758"/>
                  </a:lnTo>
                  <a:lnTo>
                    <a:pt x="541" y="731"/>
                  </a:lnTo>
                  <a:lnTo>
                    <a:pt x="565" y="705"/>
                  </a:lnTo>
                  <a:lnTo>
                    <a:pt x="587" y="676"/>
                  </a:lnTo>
                  <a:lnTo>
                    <a:pt x="610" y="646"/>
                  </a:lnTo>
                  <a:lnTo>
                    <a:pt x="633" y="614"/>
                  </a:lnTo>
                  <a:lnTo>
                    <a:pt x="655" y="581"/>
                  </a:lnTo>
                  <a:lnTo>
                    <a:pt x="623" y="586"/>
                  </a:lnTo>
                  <a:lnTo>
                    <a:pt x="591" y="593"/>
                  </a:lnTo>
                  <a:lnTo>
                    <a:pt x="561" y="599"/>
                  </a:lnTo>
                  <a:lnTo>
                    <a:pt x="530" y="606"/>
                  </a:lnTo>
                  <a:lnTo>
                    <a:pt x="516" y="605"/>
                  </a:lnTo>
                  <a:lnTo>
                    <a:pt x="502" y="603"/>
                  </a:lnTo>
                  <a:lnTo>
                    <a:pt x="491" y="600"/>
                  </a:lnTo>
                  <a:lnTo>
                    <a:pt x="480" y="596"/>
                  </a:lnTo>
                  <a:lnTo>
                    <a:pt x="475" y="591"/>
                  </a:lnTo>
                  <a:lnTo>
                    <a:pt x="466" y="585"/>
                  </a:lnTo>
                  <a:lnTo>
                    <a:pt x="457" y="575"/>
                  </a:lnTo>
                  <a:lnTo>
                    <a:pt x="445" y="561"/>
                  </a:lnTo>
                  <a:lnTo>
                    <a:pt x="437" y="552"/>
                  </a:lnTo>
                  <a:lnTo>
                    <a:pt x="430" y="546"/>
                  </a:lnTo>
                  <a:lnTo>
                    <a:pt x="448" y="545"/>
                  </a:lnTo>
                  <a:lnTo>
                    <a:pt x="468" y="542"/>
                  </a:lnTo>
                  <a:lnTo>
                    <a:pt x="491" y="540"/>
                  </a:lnTo>
                  <a:lnTo>
                    <a:pt x="515" y="536"/>
                  </a:lnTo>
                  <a:lnTo>
                    <a:pt x="541" y="532"/>
                  </a:lnTo>
                  <a:lnTo>
                    <a:pt x="569" y="527"/>
                  </a:lnTo>
                  <a:lnTo>
                    <a:pt x="599" y="522"/>
                  </a:lnTo>
                  <a:lnTo>
                    <a:pt x="630" y="516"/>
                  </a:lnTo>
                  <a:lnTo>
                    <a:pt x="656" y="511"/>
                  </a:lnTo>
                  <a:lnTo>
                    <a:pt x="678" y="507"/>
                  </a:lnTo>
                  <a:lnTo>
                    <a:pt x="696" y="504"/>
                  </a:lnTo>
                  <a:lnTo>
                    <a:pt x="710" y="500"/>
                  </a:lnTo>
                  <a:lnTo>
                    <a:pt x="710" y="360"/>
                  </a:lnTo>
                  <a:lnTo>
                    <a:pt x="677" y="367"/>
                  </a:lnTo>
                  <a:lnTo>
                    <a:pt x="652" y="372"/>
                  </a:lnTo>
                  <a:lnTo>
                    <a:pt x="635" y="375"/>
                  </a:lnTo>
                  <a:lnTo>
                    <a:pt x="625" y="375"/>
                  </a:lnTo>
                  <a:lnTo>
                    <a:pt x="621" y="375"/>
                  </a:lnTo>
                  <a:lnTo>
                    <a:pt x="617" y="374"/>
                  </a:lnTo>
                  <a:lnTo>
                    <a:pt x="612" y="372"/>
                  </a:lnTo>
                  <a:lnTo>
                    <a:pt x="607" y="369"/>
                  </a:lnTo>
                  <a:lnTo>
                    <a:pt x="597" y="362"/>
                  </a:lnTo>
                  <a:lnTo>
                    <a:pt x="585" y="351"/>
                  </a:lnTo>
                  <a:lnTo>
                    <a:pt x="582" y="366"/>
                  </a:lnTo>
                  <a:lnTo>
                    <a:pt x="576" y="382"/>
                  </a:lnTo>
                  <a:lnTo>
                    <a:pt x="569" y="399"/>
                  </a:lnTo>
                  <a:lnTo>
                    <a:pt x="561" y="416"/>
                  </a:lnTo>
                  <a:lnTo>
                    <a:pt x="557" y="425"/>
                  </a:lnTo>
                  <a:lnTo>
                    <a:pt x="555" y="433"/>
                  </a:lnTo>
                  <a:lnTo>
                    <a:pt x="553" y="438"/>
                  </a:lnTo>
                  <a:lnTo>
                    <a:pt x="550" y="441"/>
                  </a:lnTo>
                  <a:lnTo>
                    <a:pt x="546" y="448"/>
                  </a:lnTo>
                  <a:lnTo>
                    <a:pt x="540" y="455"/>
                  </a:lnTo>
                  <a:lnTo>
                    <a:pt x="535" y="460"/>
                  </a:lnTo>
                  <a:lnTo>
                    <a:pt x="529" y="465"/>
                  </a:lnTo>
                  <a:lnTo>
                    <a:pt x="522" y="471"/>
                  </a:lnTo>
                  <a:lnTo>
                    <a:pt x="515" y="475"/>
                  </a:lnTo>
                  <a:lnTo>
                    <a:pt x="507" y="478"/>
                  </a:lnTo>
                  <a:lnTo>
                    <a:pt x="499" y="481"/>
                  </a:lnTo>
                  <a:lnTo>
                    <a:pt x="491" y="483"/>
                  </a:lnTo>
                  <a:lnTo>
                    <a:pt x="481" y="484"/>
                  </a:lnTo>
                  <a:lnTo>
                    <a:pt x="472" y="486"/>
                  </a:lnTo>
                  <a:lnTo>
                    <a:pt x="461" y="486"/>
                  </a:lnTo>
                  <a:lnTo>
                    <a:pt x="450" y="486"/>
                  </a:lnTo>
                  <a:lnTo>
                    <a:pt x="439" y="484"/>
                  </a:lnTo>
                  <a:lnTo>
                    <a:pt x="427" y="483"/>
                  </a:lnTo>
                  <a:lnTo>
                    <a:pt x="415" y="480"/>
                  </a:lnTo>
                  <a:lnTo>
                    <a:pt x="430" y="466"/>
                  </a:lnTo>
                  <a:lnTo>
                    <a:pt x="444" y="452"/>
                  </a:lnTo>
                  <a:lnTo>
                    <a:pt x="458" y="437"/>
                  </a:lnTo>
                  <a:lnTo>
                    <a:pt x="469" y="421"/>
                  </a:lnTo>
                  <a:lnTo>
                    <a:pt x="481" y="404"/>
                  </a:lnTo>
                  <a:lnTo>
                    <a:pt x="492" y="386"/>
                  </a:lnTo>
                  <a:lnTo>
                    <a:pt x="500" y="368"/>
                  </a:lnTo>
                  <a:lnTo>
                    <a:pt x="509" y="350"/>
                  </a:lnTo>
                  <a:lnTo>
                    <a:pt x="516" y="330"/>
                  </a:lnTo>
                  <a:lnTo>
                    <a:pt x="522" y="310"/>
                  </a:lnTo>
                  <a:lnTo>
                    <a:pt x="528" y="289"/>
                  </a:lnTo>
                  <a:lnTo>
                    <a:pt x="532" y="268"/>
                  </a:lnTo>
                  <a:lnTo>
                    <a:pt x="536" y="246"/>
                  </a:lnTo>
                  <a:lnTo>
                    <a:pt x="538" y="223"/>
                  </a:lnTo>
                  <a:lnTo>
                    <a:pt x="539" y="199"/>
                  </a:lnTo>
                  <a:lnTo>
                    <a:pt x="540" y="176"/>
                  </a:lnTo>
                  <a:close/>
                  <a:moveTo>
                    <a:pt x="436" y="520"/>
                  </a:moveTo>
                  <a:lnTo>
                    <a:pt x="399" y="528"/>
                  </a:lnTo>
                  <a:lnTo>
                    <a:pt x="361" y="536"/>
                  </a:lnTo>
                  <a:lnTo>
                    <a:pt x="325" y="544"/>
                  </a:lnTo>
                  <a:lnTo>
                    <a:pt x="290" y="551"/>
                  </a:lnTo>
                  <a:lnTo>
                    <a:pt x="290" y="569"/>
                  </a:lnTo>
                  <a:lnTo>
                    <a:pt x="290" y="588"/>
                  </a:lnTo>
                  <a:lnTo>
                    <a:pt x="290" y="608"/>
                  </a:lnTo>
                  <a:lnTo>
                    <a:pt x="290" y="630"/>
                  </a:lnTo>
                  <a:lnTo>
                    <a:pt x="290" y="652"/>
                  </a:lnTo>
                  <a:lnTo>
                    <a:pt x="290" y="675"/>
                  </a:lnTo>
                  <a:lnTo>
                    <a:pt x="290" y="701"/>
                  </a:lnTo>
                  <a:lnTo>
                    <a:pt x="290" y="726"/>
                  </a:lnTo>
                  <a:lnTo>
                    <a:pt x="325" y="706"/>
                  </a:lnTo>
                  <a:lnTo>
                    <a:pt x="361" y="687"/>
                  </a:lnTo>
                  <a:lnTo>
                    <a:pt x="399" y="669"/>
                  </a:lnTo>
                  <a:lnTo>
                    <a:pt x="436" y="651"/>
                  </a:lnTo>
                  <a:lnTo>
                    <a:pt x="439" y="650"/>
                  </a:lnTo>
                  <a:lnTo>
                    <a:pt x="442" y="650"/>
                  </a:lnTo>
                  <a:lnTo>
                    <a:pt x="446" y="650"/>
                  </a:lnTo>
                  <a:lnTo>
                    <a:pt x="449" y="651"/>
                  </a:lnTo>
                  <a:lnTo>
                    <a:pt x="451" y="653"/>
                  </a:lnTo>
                  <a:lnTo>
                    <a:pt x="455" y="655"/>
                  </a:lnTo>
                  <a:lnTo>
                    <a:pt x="458" y="657"/>
                  </a:lnTo>
                  <a:lnTo>
                    <a:pt x="460" y="661"/>
                  </a:lnTo>
                  <a:lnTo>
                    <a:pt x="462" y="665"/>
                  </a:lnTo>
                  <a:lnTo>
                    <a:pt x="463" y="668"/>
                  </a:lnTo>
                  <a:lnTo>
                    <a:pt x="464" y="672"/>
                  </a:lnTo>
                  <a:lnTo>
                    <a:pt x="464" y="675"/>
                  </a:lnTo>
                  <a:lnTo>
                    <a:pt x="463" y="677"/>
                  </a:lnTo>
                  <a:lnTo>
                    <a:pt x="461" y="680"/>
                  </a:lnTo>
                  <a:lnTo>
                    <a:pt x="459" y="684"/>
                  </a:lnTo>
                  <a:lnTo>
                    <a:pt x="455" y="686"/>
                  </a:lnTo>
                  <a:lnTo>
                    <a:pt x="386" y="733"/>
                  </a:lnTo>
                  <a:lnTo>
                    <a:pt x="323" y="778"/>
                  </a:lnTo>
                  <a:lnTo>
                    <a:pt x="268" y="818"/>
                  </a:lnTo>
                  <a:lnTo>
                    <a:pt x="221" y="853"/>
                  </a:lnTo>
                  <a:lnTo>
                    <a:pt x="178" y="885"/>
                  </a:lnTo>
                  <a:lnTo>
                    <a:pt x="144" y="913"/>
                  </a:lnTo>
                  <a:lnTo>
                    <a:pt x="116" y="937"/>
                  </a:lnTo>
                  <a:lnTo>
                    <a:pt x="96" y="956"/>
                  </a:lnTo>
                  <a:lnTo>
                    <a:pt x="85" y="940"/>
                  </a:lnTo>
                  <a:lnTo>
                    <a:pt x="74" y="925"/>
                  </a:lnTo>
                  <a:lnTo>
                    <a:pt x="63" y="910"/>
                  </a:lnTo>
                  <a:lnTo>
                    <a:pt x="51" y="897"/>
                  </a:lnTo>
                  <a:lnTo>
                    <a:pt x="39" y="883"/>
                  </a:lnTo>
                  <a:lnTo>
                    <a:pt x="27" y="870"/>
                  </a:lnTo>
                  <a:lnTo>
                    <a:pt x="14" y="857"/>
                  </a:lnTo>
                  <a:lnTo>
                    <a:pt x="0" y="846"/>
                  </a:lnTo>
                  <a:lnTo>
                    <a:pt x="22" y="838"/>
                  </a:lnTo>
                  <a:lnTo>
                    <a:pt x="46" y="829"/>
                  </a:lnTo>
                  <a:lnTo>
                    <a:pt x="70" y="819"/>
                  </a:lnTo>
                  <a:lnTo>
                    <a:pt x="97" y="809"/>
                  </a:lnTo>
                  <a:lnTo>
                    <a:pt x="124" y="797"/>
                  </a:lnTo>
                  <a:lnTo>
                    <a:pt x="153" y="784"/>
                  </a:lnTo>
                  <a:lnTo>
                    <a:pt x="183" y="771"/>
                  </a:lnTo>
                  <a:lnTo>
                    <a:pt x="215" y="756"/>
                  </a:lnTo>
                  <a:lnTo>
                    <a:pt x="215" y="737"/>
                  </a:lnTo>
                  <a:lnTo>
                    <a:pt x="216" y="713"/>
                  </a:lnTo>
                  <a:lnTo>
                    <a:pt x="217" y="687"/>
                  </a:lnTo>
                  <a:lnTo>
                    <a:pt x="221" y="656"/>
                  </a:lnTo>
                  <a:lnTo>
                    <a:pt x="221" y="628"/>
                  </a:lnTo>
                  <a:lnTo>
                    <a:pt x="221" y="603"/>
                  </a:lnTo>
                  <a:lnTo>
                    <a:pt x="221" y="583"/>
                  </a:lnTo>
                  <a:lnTo>
                    <a:pt x="221" y="566"/>
                  </a:lnTo>
                  <a:lnTo>
                    <a:pt x="209" y="568"/>
                  </a:lnTo>
                  <a:lnTo>
                    <a:pt x="197" y="571"/>
                  </a:lnTo>
                  <a:lnTo>
                    <a:pt x="185" y="573"/>
                  </a:lnTo>
                  <a:lnTo>
                    <a:pt x="170" y="576"/>
                  </a:lnTo>
                  <a:lnTo>
                    <a:pt x="147" y="580"/>
                  </a:lnTo>
                  <a:lnTo>
                    <a:pt x="132" y="582"/>
                  </a:lnTo>
                  <a:lnTo>
                    <a:pt x="125" y="583"/>
                  </a:lnTo>
                  <a:lnTo>
                    <a:pt x="120" y="583"/>
                  </a:lnTo>
                  <a:lnTo>
                    <a:pt x="117" y="582"/>
                  </a:lnTo>
                  <a:lnTo>
                    <a:pt x="115" y="581"/>
                  </a:lnTo>
                  <a:lnTo>
                    <a:pt x="104" y="575"/>
                  </a:lnTo>
                  <a:lnTo>
                    <a:pt x="90" y="564"/>
                  </a:lnTo>
                  <a:lnTo>
                    <a:pt x="73" y="549"/>
                  </a:lnTo>
                  <a:lnTo>
                    <a:pt x="55" y="531"/>
                  </a:lnTo>
                  <a:lnTo>
                    <a:pt x="72" y="528"/>
                  </a:lnTo>
                  <a:lnTo>
                    <a:pt x="95" y="524"/>
                  </a:lnTo>
                  <a:lnTo>
                    <a:pt x="122" y="517"/>
                  </a:lnTo>
                  <a:lnTo>
                    <a:pt x="155" y="511"/>
                  </a:lnTo>
                  <a:lnTo>
                    <a:pt x="174" y="509"/>
                  </a:lnTo>
                  <a:lnTo>
                    <a:pt x="190" y="506"/>
                  </a:lnTo>
                  <a:lnTo>
                    <a:pt x="204" y="504"/>
                  </a:lnTo>
                  <a:lnTo>
                    <a:pt x="215" y="500"/>
                  </a:lnTo>
                  <a:lnTo>
                    <a:pt x="215" y="475"/>
                  </a:lnTo>
                  <a:lnTo>
                    <a:pt x="214" y="451"/>
                  </a:lnTo>
                  <a:lnTo>
                    <a:pt x="213" y="427"/>
                  </a:lnTo>
                  <a:lnTo>
                    <a:pt x="211" y="405"/>
                  </a:lnTo>
                  <a:lnTo>
                    <a:pt x="209" y="383"/>
                  </a:lnTo>
                  <a:lnTo>
                    <a:pt x="207" y="363"/>
                  </a:lnTo>
                  <a:lnTo>
                    <a:pt x="204" y="343"/>
                  </a:lnTo>
                  <a:lnTo>
                    <a:pt x="200" y="325"/>
                  </a:lnTo>
                  <a:lnTo>
                    <a:pt x="165" y="332"/>
                  </a:lnTo>
                  <a:lnTo>
                    <a:pt x="137" y="337"/>
                  </a:lnTo>
                  <a:lnTo>
                    <a:pt x="113" y="339"/>
                  </a:lnTo>
                  <a:lnTo>
                    <a:pt x="96" y="340"/>
                  </a:lnTo>
                  <a:lnTo>
                    <a:pt x="91" y="339"/>
                  </a:lnTo>
                  <a:lnTo>
                    <a:pt x="87" y="337"/>
                  </a:lnTo>
                  <a:lnTo>
                    <a:pt x="83" y="334"/>
                  </a:lnTo>
                  <a:lnTo>
                    <a:pt x="79" y="330"/>
                  </a:lnTo>
                  <a:lnTo>
                    <a:pt x="70" y="319"/>
                  </a:lnTo>
                  <a:lnTo>
                    <a:pt x="60" y="305"/>
                  </a:lnTo>
                  <a:lnTo>
                    <a:pt x="48" y="293"/>
                  </a:lnTo>
                  <a:lnTo>
                    <a:pt x="40" y="285"/>
                  </a:lnTo>
                  <a:lnTo>
                    <a:pt x="77" y="279"/>
                  </a:lnTo>
                  <a:lnTo>
                    <a:pt x="115" y="271"/>
                  </a:lnTo>
                  <a:lnTo>
                    <a:pt x="156" y="262"/>
                  </a:lnTo>
                  <a:lnTo>
                    <a:pt x="198" y="252"/>
                  </a:lnTo>
                  <a:lnTo>
                    <a:pt x="244" y="241"/>
                  </a:lnTo>
                  <a:lnTo>
                    <a:pt x="293" y="228"/>
                  </a:lnTo>
                  <a:lnTo>
                    <a:pt x="342" y="215"/>
                  </a:lnTo>
                  <a:lnTo>
                    <a:pt x="395" y="200"/>
                  </a:lnTo>
                  <a:lnTo>
                    <a:pt x="407" y="212"/>
                  </a:lnTo>
                  <a:lnTo>
                    <a:pt x="418" y="223"/>
                  </a:lnTo>
                  <a:lnTo>
                    <a:pt x="427" y="232"/>
                  </a:lnTo>
                  <a:lnTo>
                    <a:pt x="436" y="242"/>
                  </a:lnTo>
                  <a:lnTo>
                    <a:pt x="442" y="251"/>
                  </a:lnTo>
                  <a:lnTo>
                    <a:pt x="447" y="260"/>
                  </a:lnTo>
                  <a:lnTo>
                    <a:pt x="451" y="268"/>
                  </a:lnTo>
                  <a:lnTo>
                    <a:pt x="455" y="276"/>
                  </a:lnTo>
                  <a:lnTo>
                    <a:pt x="426" y="282"/>
                  </a:lnTo>
                  <a:lnTo>
                    <a:pt x="397" y="287"/>
                  </a:lnTo>
                  <a:lnTo>
                    <a:pt x="370" y="293"/>
                  </a:lnTo>
                  <a:lnTo>
                    <a:pt x="343" y="298"/>
                  </a:lnTo>
                  <a:lnTo>
                    <a:pt x="319" y="303"/>
                  </a:lnTo>
                  <a:lnTo>
                    <a:pt x="295" y="307"/>
                  </a:lnTo>
                  <a:lnTo>
                    <a:pt x="271" y="312"/>
                  </a:lnTo>
                  <a:lnTo>
                    <a:pt x="250" y="316"/>
                  </a:lnTo>
                  <a:lnTo>
                    <a:pt x="263" y="318"/>
                  </a:lnTo>
                  <a:lnTo>
                    <a:pt x="278" y="319"/>
                  </a:lnTo>
                  <a:lnTo>
                    <a:pt x="294" y="320"/>
                  </a:lnTo>
                  <a:lnTo>
                    <a:pt x="311" y="320"/>
                  </a:lnTo>
                  <a:lnTo>
                    <a:pt x="306" y="332"/>
                  </a:lnTo>
                  <a:lnTo>
                    <a:pt x="303" y="346"/>
                  </a:lnTo>
                  <a:lnTo>
                    <a:pt x="300" y="362"/>
                  </a:lnTo>
                  <a:lnTo>
                    <a:pt x="298" y="381"/>
                  </a:lnTo>
                  <a:lnTo>
                    <a:pt x="296" y="402"/>
                  </a:lnTo>
                  <a:lnTo>
                    <a:pt x="294" y="426"/>
                  </a:lnTo>
                  <a:lnTo>
                    <a:pt x="292" y="452"/>
                  </a:lnTo>
                  <a:lnTo>
                    <a:pt x="290" y="480"/>
                  </a:lnTo>
                  <a:lnTo>
                    <a:pt x="313" y="476"/>
                  </a:lnTo>
                  <a:lnTo>
                    <a:pt x="335" y="470"/>
                  </a:lnTo>
                  <a:lnTo>
                    <a:pt x="357" y="463"/>
                  </a:lnTo>
                  <a:lnTo>
                    <a:pt x="380" y="456"/>
                  </a:lnTo>
                  <a:lnTo>
                    <a:pt x="390" y="463"/>
                  </a:lnTo>
                  <a:lnTo>
                    <a:pt x="399" y="471"/>
                  </a:lnTo>
                  <a:lnTo>
                    <a:pt x="407" y="479"/>
                  </a:lnTo>
                  <a:lnTo>
                    <a:pt x="414" y="488"/>
                  </a:lnTo>
                  <a:lnTo>
                    <a:pt x="421" y="495"/>
                  </a:lnTo>
                  <a:lnTo>
                    <a:pt x="426" y="504"/>
                  </a:lnTo>
                  <a:lnTo>
                    <a:pt x="431" y="512"/>
                  </a:lnTo>
                  <a:lnTo>
                    <a:pt x="436" y="520"/>
                  </a:lnTo>
                  <a:close/>
                </a:path>
              </a:pathLst>
            </a:custGeom>
            <a:solidFill>
              <a:schemeClr val="tx1"/>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d79f00"/>
                </a:solidFill>
                <a:latin typeface="Arial"/>
                <a:ea typeface="宋体"/>
              </a:endParaRPr>
            </a:p>
          </p:txBody>
        </p:sp>
        <p:sp>
          <p:nvSpPr>
            <p:cNvPr id="325" name="Freeform 12"/>
            <p:cNvSpPr/>
            <p:nvPr/>
          </p:nvSpPr>
          <p:spPr>
            <a:xfrm>
              <a:off x="2219400" y="9353520"/>
              <a:ext cx="224280" cy="212400"/>
            </a:xfrm>
            <a:custGeom>
              <a:avLst/>
              <a:gdLst>
                <a:gd name="textAreaLeft" fmla="*/ 0 w 224280"/>
                <a:gd name="textAreaRight" fmla="*/ 224640 w 224280"/>
                <a:gd name="textAreaTop" fmla="*/ 0 h 212400"/>
                <a:gd name="textAreaBottom" fmla="*/ 212760 h 212400"/>
              </a:gdLst>
              <a:ahLst/>
              <a:rect l="textAreaLeft" t="textAreaTop" r="textAreaRight" b="textAreaBottom"/>
              <a:pathLst>
                <a:path w="1146" h="1150">
                  <a:moveTo>
                    <a:pt x="1064" y="535"/>
                  </a:moveTo>
                  <a:lnTo>
                    <a:pt x="1067" y="534"/>
                  </a:lnTo>
                  <a:lnTo>
                    <a:pt x="1071" y="534"/>
                  </a:lnTo>
                  <a:lnTo>
                    <a:pt x="1075" y="534"/>
                  </a:lnTo>
                  <a:lnTo>
                    <a:pt x="1079" y="535"/>
                  </a:lnTo>
                  <a:lnTo>
                    <a:pt x="1086" y="539"/>
                  </a:lnTo>
                  <a:lnTo>
                    <a:pt x="1094" y="544"/>
                  </a:lnTo>
                  <a:lnTo>
                    <a:pt x="1099" y="549"/>
                  </a:lnTo>
                  <a:lnTo>
                    <a:pt x="1105" y="554"/>
                  </a:lnTo>
                  <a:lnTo>
                    <a:pt x="1112" y="561"/>
                  </a:lnTo>
                  <a:lnTo>
                    <a:pt x="1119" y="570"/>
                  </a:lnTo>
                  <a:lnTo>
                    <a:pt x="1125" y="577"/>
                  </a:lnTo>
                  <a:lnTo>
                    <a:pt x="1131" y="584"/>
                  </a:lnTo>
                  <a:lnTo>
                    <a:pt x="1136" y="590"/>
                  </a:lnTo>
                  <a:lnTo>
                    <a:pt x="1139" y="595"/>
                  </a:lnTo>
                  <a:lnTo>
                    <a:pt x="1142" y="599"/>
                  </a:lnTo>
                  <a:lnTo>
                    <a:pt x="1145" y="604"/>
                  </a:lnTo>
                  <a:lnTo>
                    <a:pt x="1146" y="607"/>
                  </a:lnTo>
                  <a:lnTo>
                    <a:pt x="1143" y="610"/>
                  </a:lnTo>
                  <a:lnTo>
                    <a:pt x="1140" y="612"/>
                  </a:lnTo>
                  <a:lnTo>
                    <a:pt x="1135" y="613"/>
                  </a:lnTo>
                  <a:lnTo>
                    <a:pt x="1128" y="614"/>
                  </a:lnTo>
                  <a:lnTo>
                    <a:pt x="1119" y="615"/>
                  </a:lnTo>
                  <a:lnTo>
                    <a:pt x="1104" y="615"/>
                  </a:lnTo>
                  <a:lnTo>
                    <a:pt x="1087" y="615"/>
                  </a:lnTo>
                  <a:lnTo>
                    <a:pt x="1068" y="615"/>
                  </a:lnTo>
                  <a:lnTo>
                    <a:pt x="1045" y="616"/>
                  </a:lnTo>
                  <a:lnTo>
                    <a:pt x="1020" y="616"/>
                  </a:lnTo>
                  <a:lnTo>
                    <a:pt x="990" y="617"/>
                  </a:lnTo>
                  <a:lnTo>
                    <a:pt x="958" y="618"/>
                  </a:lnTo>
                  <a:lnTo>
                    <a:pt x="923" y="620"/>
                  </a:lnTo>
                  <a:lnTo>
                    <a:pt x="907" y="622"/>
                  </a:lnTo>
                  <a:lnTo>
                    <a:pt x="894" y="624"/>
                  </a:lnTo>
                  <a:lnTo>
                    <a:pt x="883" y="625"/>
                  </a:lnTo>
                  <a:lnTo>
                    <a:pt x="873" y="625"/>
                  </a:lnTo>
                  <a:lnTo>
                    <a:pt x="871" y="646"/>
                  </a:lnTo>
                  <a:lnTo>
                    <a:pt x="867" y="673"/>
                  </a:lnTo>
                  <a:lnTo>
                    <a:pt x="864" y="705"/>
                  </a:lnTo>
                  <a:lnTo>
                    <a:pt x="859" y="745"/>
                  </a:lnTo>
                  <a:lnTo>
                    <a:pt x="856" y="766"/>
                  </a:lnTo>
                  <a:lnTo>
                    <a:pt x="853" y="785"/>
                  </a:lnTo>
                  <a:lnTo>
                    <a:pt x="851" y="802"/>
                  </a:lnTo>
                  <a:lnTo>
                    <a:pt x="849" y="816"/>
                  </a:lnTo>
                  <a:lnTo>
                    <a:pt x="863" y="816"/>
                  </a:lnTo>
                  <a:lnTo>
                    <a:pt x="879" y="816"/>
                  </a:lnTo>
                  <a:lnTo>
                    <a:pt x="898" y="816"/>
                  </a:lnTo>
                  <a:lnTo>
                    <a:pt x="919" y="816"/>
                  </a:lnTo>
                  <a:lnTo>
                    <a:pt x="942" y="818"/>
                  </a:lnTo>
                  <a:lnTo>
                    <a:pt x="961" y="819"/>
                  </a:lnTo>
                  <a:lnTo>
                    <a:pt x="977" y="820"/>
                  </a:lnTo>
                  <a:lnTo>
                    <a:pt x="989" y="820"/>
                  </a:lnTo>
                  <a:lnTo>
                    <a:pt x="994" y="820"/>
                  </a:lnTo>
                  <a:lnTo>
                    <a:pt x="1001" y="821"/>
                  </a:lnTo>
                  <a:lnTo>
                    <a:pt x="1005" y="822"/>
                  </a:lnTo>
                  <a:lnTo>
                    <a:pt x="1009" y="824"/>
                  </a:lnTo>
                  <a:lnTo>
                    <a:pt x="1012" y="826"/>
                  </a:lnTo>
                  <a:lnTo>
                    <a:pt x="1015" y="828"/>
                  </a:lnTo>
                  <a:lnTo>
                    <a:pt x="1017" y="831"/>
                  </a:lnTo>
                  <a:lnTo>
                    <a:pt x="1019" y="835"/>
                  </a:lnTo>
                  <a:lnTo>
                    <a:pt x="1030" y="852"/>
                  </a:lnTo>
                  <a:lnTo>
                    <a:pt x="1040" y="868"/>
                  </a:lnTo>
                  <a:lnTo>
                    <a:pt x="1048" y="882"/>
                  </a:lnTo>
                  <a:lnTo>
                    <a:pt x="1053" y="895"/>
                  </a:lnTo>
                  <a:lnTo>
                    <a:pt x="1056" y="902"/>
                  </a:lnTo>
                  <a:lnTo>
                    <a:pt x="1057" y="908"/>
                  </a:lnTo>
                  <a:lnTo>
                    <a:pt x="1056" y="912"/>
                  </a:lnTo>
                  <a:lnTo>
                    <a:pt x="1053" y="915"/>
                  </a:lnTo>
                  <a:lnTo>
                    <a:pt x="1050" y="917"/>
                  </a:lnTo>
                  <a:lnTo>
                    <a:pt x="1046" y="917"/>
                  </a:lnTo>
                  <a:lnTo>
                    <a:pt x="1041" y="917"/>
                  </a:lnTo>
                  <a:lnTo>
                    <a:pt x="1033" y="915"/>
                  </a:lnTo>
                  <a:lnTo>
                    <a:pt x="1011" y="911"/>
                  </a:lnTo>
                  <a:lnTo>
                    <a:pt x="988" y="906"/>
                  </a:lnTo>
                  <a:lnTo>
                    <a:pt x="964" y="902"/>
                  </a:lnTo>
                  <a:lnTo>
                    <a:pt x="940" y="899"/>
                  </a:lnTo>
                  <a:lnTo>
                    <a:pt x="916" y="896"/>
                  </a:lnTo>
                  <a:lnTo>
                    <a:pt x="890" y="894"/>
                  </a:lnTo>
                  <a:lnTo>
                    <a:pt x="865" y="892"/>
                  </a:lnTo>
                  <a:lnTo>
                    <a:pt x="838" y="890"/>
                  </a:lnTo>
                  <a:lnTo>
                    <a:pt x="836" y="898"/>
                  </a:lnTo>
                  <a:lnTo>
                    <a:pt x="835" y="908"/>
                  </a:lnTo>
                  <a:lnTo>
                    <a:pt x="834" y="918"/>
                  </a:lnTo>
                  <a:lnTo>
                    <a:pt x="833" y="930"/>
                  </a:lnTo>
                  <a:lnTo>
                    <a:pt x="831" y="940"/>
                  </a:lnTo>
                  <a:lnTo>
                    <a:pt x="830" y="949"/>
                  </a:lnTo>
                  <a:lnTo>
                    <a:pt x="829" y="958"/>
                  </a:lnTo>
                  <a:lnTo>
                    <a:pt x="829" y="965"/>
                  </a:lnTo>
                  <a:lnTo>
                    <a:pt x="824" y="1002"/>
                  </a:lnTo>
                  <a:lnTo>
                    <a:pt x="817" y="1035"/>
                  </a:lnTo>
                  <a:lnTo>
                    <a:pt x="812" y="1064"/>
                  </a:lnTo>
                  <a:lnTo>
                    <a:pt x="805" y="1089"/>
                  </a:lnTo>
                  <a:lnTo>
                    <a:pt x="798" y="1110"/>
                  </a:lnTo>
                  <a:lnTo>
                    <a:pt x="790" y="1127"/>
                  </a:lnTo>
                  <a:lnTo>
                    <a:pt x="787" y="1135"/>
                  </a:lnTo>
                  <a:lnTo>
                    <a:pt x="782" y="1141"/>
                  </a:lnTo>
                  <a:lnTo>
                    <a:pt x="778" y="1146"/>
                  </a:lnTo>
                  <a:lnTo>
                    <a:pt x="774" y="1150"/>
                  </a:lnTo>
                  <a:lnTo>
                    <a:pt x="765" y="1147"/>
                  </a:lnTo>
                  <a:lnTo>
                    <a:pt x="757" y="1144"/>
                  </a:lnTo>
                  <a:lnTo>
                    <a:pt x="747" y="1139"/>
                  </a:lnTo>
                  <a:lnTo>
                    <a:pt x="738" y="1134"/>
                  </a:lnTo>
                  <a:lnTo>
                    <a:pt x="717" y="1121"/>
                  </a:lnTo>
                  <a:lnTo>
                    <a:pt x="694" y="1104"/>
                  </a:lnTo>
                  <a:lnTo>
                    <a:pt x="671" y="1085"/>
                  </a:lnTo>
                  <a:lnTo>
                    <a:pt x="646" y="1061"/>
                  </a:lnTo>
                  <a:lnTo>
                    <a:pt x="618" y="1035"/>
                  </a:lnTo>
                  <a:lnTo>
                    <a:pt x="588" y="1005"/>
                  </a:lnTo>
                  <a:lnTo>
                    <a:pt x="582" y="999"/>
                  </a:lnTo>
                  <a:lnTo>
                    <a:pt x="579" y="993"/>
                  </a:lnTo>
                  <a:lnTo>
                    <a:pt x="578" y="990"/>
                  </a:lnTo>
                  <a:lnTo>
                    <a:pt x="577" y="988"/>
                  </a:lnTo>
                  <a:lnTo>
                    <a:pt x="578" y="986"/>
                  </a:lnTo>
                  <a:lnTo>
                    <a:pt x="579" y="985"/>
                  </a:lnTo>
                  <a:lnTo>
                    <a:pt x="579" y="983"/>
                  </a:lnTo>
                  <a:lnTo>
                    <a:pt x="580" y="981"/>
                  </a:lnTo>
                  <a:lnTo>
                    <a:pt x="581" y="980"/>
                  </a:lnTo>
                  <a:lnTo>
                    <a:pt x="583" y="979"/>
                  </a:lnTo>
                  <a:lnTo>
                    <a:pt x="590" y="979"/>
                  </a:lnTo>
                  <a:lnTo>
                    <a:pt x="599" y="980"/>
                  </a:lnTo>
                  <a:lnTo>
                    <a:pt x="626" y="986"/>
                  </a:lnTo>
                  <a:lnTo>
                    <a:pt x="649" y="990"/>
                  </a:lnTo>
                  <a:lnTo>
                    <a:pt x="669" y="993"/>
                  </a:lnTo>
                  <a:lnTo>
                    <a:pt x="686" y="993"/>
                  </a:lnTo>
                  <a:lnTo>
                    <a:pt x="693" y="992"/>
                  </a:lnTo>
                  <a:lnTo>
                    <a:pt x="700" y="990"/>
                  </a:lnTo>
                  <a:lnTo>
                    <a:pt x="705" y="988"/>
                  </a:lnTo>
                  <a:lnTo>
                    <a:pt x="709" y="986"/>
                  </a:lnTo>
                  <a:lnTo>
                    <a:pt x="712" y="983"/>
                  </a:lnTo>
                  <a:lnTo>
                    <a:pt x="716" y="979"/>
                  </a:lnTo>
                  <a:lnTo>
                    <a:pt x="718" y="975"/>
                  </a:lnTo>
                  <a:lnTo>
                    <a:pt x="719" y="970"/>
                  </a:lnTo>
                  <a:lnTo>
                    <a:pt x="723" y="953"/>
                  </a:lnTo>
                  <a:lnTo>
                    <a:pt x="727" y="934"/>
                  </a:lnTo>
                  <a:lnTo>
                    <a:pt x="730" y="911"/>
                  </a:lnTo>
                  <a:lnTo>
                    <a:pt x="734" y="886"/>
                  </a:lnTo>
                  <a:lnTo>
                    <a:pt x="674" y="886"/>
                  </a:lnTo>
                  <a:lnTo>
                    <a:pt x="617" y="888"/>
                  </a:lnTo>
                  <a:lnTo>
                    <a:pt x="562" y="891"/>
                  </a:lnTo>
                  <a:lnTo>
                    <a:pt x="511" y="895"/>
                  </a:lnTo>
                  <a:lnTo>
                    <a:pt x="462" y="900"/>
                  </a:lnTo>
                  <a:lnTo>
                    <a:pt x="417" y="908"/>
                  </a:lnTo>
                  <a:lnTo>
                    <a:pt x="373" y="916"/>
                  </a:lnTo>
                  <a:lnTo>
                    <a:pt x="333" y="925"/>
                  </a:lnTo>
                  <a:lnTo>
                    <a:pt x="333" y="913"/>
                  </a:lnTo>
                  <a:lnTo>
                    <a:pt x="331" y="900"/>
                  </a:lnTo>
                  <a:lnTo>
                    <a:pt x="329" y="889"/>
                  </a:lnTo>
                  <a:lnTo>
                    <a:pt x="325" y="876"/>
                  </a:lnTo>
                  <a:lnTo>
                    <a:pt x="319" y="864"/>
                  </a:lnTo>
                  <a:lnTo>
                    <a:pt x="314" y="853"/>
                  </a:lnTo>
                  <a:lnTo>
                    <a:pt x="307" y="841"/>
                  </a:lnTo>
                  <a:lnTo>
                    <a:pt x="298" y="830"/>
                  </a:lnTo>
                  <a:lnTo>
                    <a:pt x="310" y="820"/>
                  </a:lnTo>
                  <a:lnTo>
                    <a:pt x="322" y="807"/>
                  </a:lnTo>
                  <a:lnTo>
                    <a:pt x="333" y="791"/>
                  </a:lnTo>
                  <a:lnTo>
                    <a:pt x="346" y="772"/>
                  </a:lnTo>
                  <a:lnTo>
                    <a:pt x="359" y="751"/>
                  </a:lnTo>
                  <a:lnTo>
                    <a:pt x="371" y="727"/>
                  </a:lnTo>
                  <a:lnTo>
                    <a:pt x="385" y="700"/>
                  </a:lnTo>
                  <a:lnTo>
                    <a:pt x="399" y="670"/>
                  </a:lnTo>
                  <a:lnTo>
                    <a:pt x="384" y="675"/>
                  </a:lnTo>
                  <a:lnTo>
                    <a:pt x="368" y="678"/>
                  </a:lnTo>
                  <a:lnTo>
                    <a:pt x="353" y="679"/>
                  </a:lnTo>
                  <a:lnTo>
                    <a:pt x="339" y="680"/>
                  </a:lnTo>
                  <a:lnTo>
                    <a:pt x="331" y="680"/>
                  </a:lnTo>
                  <a:lnTo>
                    <a:pt x="324" y="679"/>
                  </a:lnTo>
                  <a:lnTo>
                    <a:pt x="316" y="677"/>
                  </a:lnTo>
                  <a:lnTo>
                    <a:pt x="309" y="675"/>
                  </a:lnTo>
                  <a:lnTo>
                    <a:pt x="294" y="662"/>
                  </a:lnTo>
                  <a:lnTo>
                    <a:pt x="281" y="649"/>
                  </a:lnTo>
                  <a:lnTo>
                    <a:pt x="270" y="634"/>
                  </a:lnTo>
                  <a:lnTo>
                    <a:pt x="258" y="620"/>
                  </a:lnTo>
                  <a:lnTo>
                    <a:pt x="277" y="620"/>
                  </a:lnTo>
                  <a:lnTo>
                    <a:pt x="296" y="620"/>
                  </a:lnTo>
                  <a:lnTo>
                    <a:pt x="316" y="618"/>
                  </a:lnTo>
                  <a:lnTo>
                    <a:pt x="336" y="617"/>
                  </a:lnTo>
                  <a:lnTo>
                    <a:pt x="357" y="616"/>
                  </a:lnTo>
                  <a:lnTo>
                    <a:pt x="377" y="614"/>
                  </a:lnTo>
                  <a:lnTo>
                    <a:pt x="398" y="612"/>
                  </a:lnTo>
                  <a:lnTo>
                    <a:pt x="419" y="610"/>
                  </a:lnTo>
                  <a:lnTo>
                    <a:pt x="429" y="574"/>
                  </a:lnTo>
                  <a:lnTo>
                    <a:pt x="438" y="540"/>
                  </a:lnTo>
                  <a:lnTo>
                    <a:pt x="445" y="506"/>
                  </a:lnTo>
                  <a:lnTo>
                    <a:pt x="451" y="473"/>
                  </a:lnTo>
                  <a:lnTo>
                    <a:pt x="455" y="443"/>
                  </a:lnTo>
                  <a:lnTo>
                    <a:pt x="458" y="412"/>
                  </a:lnTo>
                  <a:lnTo>
                    <a:pt x="459" y="383"/>
                  </a:lnTo>
                  <a:lnTo>
                    <a:pt x="458" y="355"/>
                  </a:lnTo>
                  <a:lnTo>
                    <a:pt x="544" y="395"/>
                  </a:lnTo>
                  <a:lnTo>
                    <a:pt x="580" y="391"/>
                  </a:lnTo>
                  <a:lnTo>
                    <a:pt x="615" y="385"/>
                  </a:lnTo>
                  <a:lnTo>
                    <a:pt x="647" y="379"/>
                  </a:lnTo>
                  <a:lnTo>
                    <a:pt x="677" y="371"/>
                  </a:lnTo>
                  <a:lnTo>
                    <a:pt x="706" y="362"/>
                  </a:lnTo>
                  <a:lnTo>
                    <a:pt x="733" y="352"/>
                  </a:lnTo>
                  <a:lnTo>
                    <a:pt x="757" y="342"/>
                  </a:lnTo>
                  <a:lnTo>
                    <a:pt x="779" y="329"/>
                  </a:lnTo>
                  <a:lnTo>
                    <a:pt x="781" y="330"/>
                  </a:lnTo>
                  <a:lnTo>
                    <a:pt x="783" y="331"/>
                  </a:lnTo>
                  <a:lnTo>
                    <a:pt x="787" y="332"/>
                  </a:lnTo>
                  <a:lnTo>
                    <a:pt x="789" y="334"/>
                  </a:lnTo>
                  <a:lnTo>
                    <a:pt x="813" y="346"/>
                  </a:lnTo>
                  <a:lnTo>
                    <a:pt x="835" y="357"/>
                  </a:lnTo>
                  <a:lnTo>
                    <a:pt x="856" y="366"/>
                  </a:lnTo>
                  <a:lnTo>
                    <a:pt x="877" y="374"/>
                  </a:lnTo>
                  <a:lnTo>
                    <a:pt x="895" y="380"/>
                  </a:lnTo>
                  <a:lnTo>
                    <a:pt x="910" y="384"/>
                  </a:lnTo>
                  <a:lnTo>
                    <a:pt x="925" y="387"/>
                  </a:lnTo>
                  <a:lnTo>
                    <a:pt x="939" y="390"/>
                  </a:lnTo>
                  <a:lnTo>
                    <a:pt x="932" y="403"/>
                  </a:lnTo>
                  <a:lnTo>
                    <a:pt x="924" y="418"/>
                  </a:lnTo>
                  <a:lnTo>
                    <a:pt x="918" y="436"/>
                  </a:lnTo>
                  <a:lnTo>
                    <a:pt x="912" y="455"/>
                  </a:lnTo>
                  <a:lnTo>
                    <a:pt x="905" y="475"/>
                  </a:lnTo>
                  <a:lnTo>
                    <a:pt x="899" y="499"/>
                  </a:lnTo>
                  <a:lnTo>
                    <a:pt x="894" y="523"/>
                  </a:lnTo>
                  <a:lnTo>
                    <a:pt x="888" y="550"/>
                  </a:lnTo>
                  <a:lnTo>
                    <a:pt x="910" y="547"/>
                  </a:lnTo>
                  <a:lnTo>
                    <a:pt x="932" y="545"/>
                  </a:lnTo>
                  <a:lnTo>
                    <a:pt x="953" y="543"/>
                  </a:lnTo>
                  <a:lnTo>
                    <a:pt x="975" y="541"/>
                  </a:lnTo>
                  <a:lnTo>
                    <a:pt x="997" y="539"/>
                  </a:lnTo>
                  <a:lnTo>
                    <a:pt x="1020" y="538"/>
                  </a:lnTo>
                  <a:lnTo>
                    <a:pt x="1042" y="536"/>
                  </a:lnTo>
                  <a:lnTo>
                    <a:pt x="1064" y="535"/>
                  </a:lnTo>
                  <a:close/>
                  <a:moveTo>
                    <a:pt x="544" y="0"/>
                  </a:moveTo>
                  <a:lnTo>
                    <a:pt x="559" y="9"/>
                  </a:lnTo>
                  <a:lnTo>
                    <a:pt x="574" y="19"/>
                  </a:lnTo>
                  <a:lnTo>
                    <a:pt x="588" y="27"/>
                  </a:lnTo>
                  <a:lnTo>
                    <a:pt x="603" y="35"/>
                  </a:lnTo>
                  <a:lnTo>
                    <a:pt x="618" y="42"/>
                  </a:lnTo>
                  <a:lnTo>
                    <a:pt x="634" y="48"/>
                  </a:lnTo>
                  <a:lnTo>
                    <a:pt x="649" y="55"/>
                  </a:lnTo>
                  <a:lnTo>
                    <a:pt x="664" y="60"/>
                  </a:lnTo>
                  <a:lnTo>
                    <a:pt x="655" y="66"/>
                  </a:lnTo>
                  <a:lnTo>
                    <a:pt x="646" y="74"/>
                  </a:lnTo>
                  <a:lnTo>
                    <a:pt x="637" y="82"/>
                  </a:lnTo>
                  <a:lnTo>
                    <a:pt x="629" y="92"/>
                  </a:lnTo>
                  <a:lnTo>
                    <a:pt x="620" y="102"/>
                  </a:lnTo>
                  <a:lnTo>
                    <a:pt x="611" y="114"/>
                  </a:lnTo>
                  <a:lnTo>
                    <a:pt x="602" y="127"/>
                  </a:lnTo>
                  <a:lnTo>
                    <a:pt x="594" y="139"/>
                  </a:lnTo>
                  <a:lnTo>
                    <a:pt x="587" y="152"/>
                  </a:lnTo>
                  <a:lnTo>
                    <a:pt x="579" y="169"/>
                  </a:lnTo>
                  <a:lnTo>
                    <a:pt x="572" y="184"/>
                  </a:lnTo>
                  <a:lnTo>
                    <a:pt x="565" y="196"/>
                  </a:lnTo>
                  <a:lnTo>
                    <a:pt x="559" y="206"/>
                  </a:lnTo>
                  <a:lnTo>
                    <a:pt x="554" y="215"/>
                  </a:lnTo>
                  <a:lnTo>
                    <a:pt x="577" y="208"/>
                  </a:lnTo>
                  <a:lnTo>
                    <a:pt x="604" y="201"/>
                  </a:lnTo>
                  <a:lnTo>
                    <a:pt x="639" y="191"/>
                  </a:lnTo>
                  <a:lnTo>
                    <a:pt x="679" y="180"/>
                  </a:lnTo>
                  <a:lnTo>
                    <a:pt x="708" y="172"/>
                  </a:lnTo>
                  <a:lnTo>
                    <a:pt x="736" y="166"/>
                  </a:lnTo>
                  <a:lnTo>
                    <a:pt x="761" y="160"/>
                  </a:lnTo>
                  <a:lnTo>
                    <a:pt x="787" y="153"/>
                  </a:lnTo>
                  <a:lnTo>
                    <a:pt x="809" y="148"/>
                  </a:lnTo>
                  <a:lnTo>
                    <a:pt x="831" y="143"/>
                  </a:lnTo>
                  <a:lnTo>
                    <a:pt x="850" y="138"/>
                  </a:lnTo>
                  <a:lnTo>
                    <a:pt x="868" y="134"/>
                  </a:lnTo>
                  <a:lnTo>
                    <a:pt x="876" y="133"/>
                  </a:lnTo>
                  <a:lnTo>
                    <a:pt x="882" y="133"/>
                  </a:lnTo>
                  <a:lnTo>
                    <a:pt x="888" y="135"/>
                  </a:lnTo>
                  <a:lnTo>
                    <a:pt x="894" y="139"/>
                  </a:lnTo>
                  <a:lnTo>
                    <a:pt x="895" y="137"/>
                  </a:lnTo>
                  <a:lnTo>
                    <a:pt x="897" y="137"/>
                  </a:lnTo>
                  <a:lnTo>
                    <a:pt x="899" y="139"/>
                  </a:lnTo>
                  <a:lnTo>
                    <a:pt x="913" y="151"/>
                  </a:lnTo>
                  <a:lnTo>
                    <a:pt x="923" y="162"/>
                  </a:lnTo>
                  <a:lnTo>
                    <a:pt x="933" y="171"/>
                  </a:lnTo>
                  <a:lnTo>
                    <a:pt x="939" y="180"/>
                  </a:lnTo>
                  <a:lnTo>
                    <a:pt x="942" y="183"/>
                  </a:lnTo>
                  <a:lnTo>
                    <a:pt x="944" y="186"/>
                  </a:lnTo>
                  <a:lnTo>
                    <a:pt x="945" y="189"/>
                  </a:lnTo>
                  <a:lnTo>
                    <a:pt x="945" y="192"/>
                  </a:lnTo>
                  <a:lnTo>
                    <a:pt x="943" y="195"/>
                  </a:lnTo>
                  <a:lnTo>
                    <a:pt x="941" y="197"/>
                  </a:lnTo>
                  <a:lnTo>
                    <a:pt x="938" y="198"/>
                  </a:lnTo>
                  <a:lnTo>
                    <a:pt x="934" y="200"/>
                  </a:lnTo>
                  <a:lnTo>
                    <a:pt x="871" y="212"/>
                  </a:lnTo>
                  <a:lnTo>
                    <a:pt x="815" y="222"/>
                  </a:lnTo>
                  <a:lnTo>
                    <a:pt x="765" y="232"/>
                  </a:lnTo>
                  <a:lnTo>
                    <a:pt x="721" y="239"/>
                  </a:lnTo>
                  <a:lnTo>
                    <a:pt x="683" y="247"/>
                  </a:lnTo>
                  <a:lnTo>
                    <a:pt x="651" y="252"/>
                  </a:lnTo>
                  <a:lnTo>
                    <a:pt x="624" y="256"/>
                  </a:lnTo>
                  <a:lnTo>
                    <a:pt x="603" y="259"/>
                  </a:lnTo>
                  <a:lnTo>
                    <a:pt x="593" y="256"/>
                  </a:lnTo>
                  <a:lnTo>
                    <a:pt x="580" y="251"/>
                  </a:lnTo>
                  <a:lnTo>
                    <a:pt x="565" y="243"/>
                  </a:lnTo>
                  <a:lnTo>
                    <a:pt x="548" y="235"/>
                  </a:lnTo>
                  <a:lnTo>
                    <a:pt x="545" y="231"/>
                  </a:lnTo>
                  <a:lnTo>
                    <a:pt x="544" y="230"/>
                  </a:lnTo>
                  <a:lnTo>
                    <a:pt x="538" y="238"/>
                  </a:lnTo>
                  <a:lnTo>
                    <a:pt x="531" y="249"/>
                  </a:lnTo>
                  <a:lnTo>
                    <a:pt x="523" y="260"/>
                  </a:lnTo>
                  <a:lnTo>
                    <a:pt x="513" y="275"/>
                  </a:lnTo>
                  <a:lnTo>
                    <a:pt x="497" y="302"/>
                  </a:lnTo>
                  <a:lnTo>
                    <a:pt x="484" y="324"/>
                  </a:lnTo>
                  <a:lnTo>
                    <a:pt x="472" y="340"/>
                  </a:lnTo>
                  <a:lnTo>
                    <a:pt x="463" y="349"/>
                  </a:lnTo>
                  <a:lnTo>
                    <a:pt x="456" y="359"/>
                  </a:lnTo>
                  <a:lnTo>
                    <a:pt x="448" y="367"/>
                  </a:lnTo>
                  <a:lnTo>
                    <a:pt x="440" y="375"/>
                  </a:lnTo>
                  <a:lnTo>
                    <a:pt x="431" y="381"/>
                  </a:lnTo>
                  <a:lnTo>
                    <a:pt x="422" y="386"/>
                  </a:lnTo>
                  <a:lnTo>
                    <a:pt x="413" y="391"/>
                  </a:lnTo>
                  <a:lnTo>
                    <a:pt x="403" y="394"/>
                  </a:lnTo>
                  <a:lnTo>
                    <a:pt x="394" y="396"/>
                  </a:lnTo>
                  <a:lnTo>
                    <a:pt x="383" y="397"/>
                  </a:lnTo>
                  <a:lnTo>
                    <a:pt x="373" y="397"/>
                  </a:lnTo>
                  <a:lnTo>
                    <a:pt x="362" y="396"/>
                  </a:lnTo>
                  <a:lnTo>
                    <a:pt x="351" y="394"/>
                  </a:lnTo>
                  <a:lnTo>
                    <a:pt x="340" y="391"/>
                  </a:lnTo>
                  <a:lnTo>
                    <a:pt x="328" y="386"/>
                  </a:lnTo>
                  <a:lnTo>
                    <a:pt x="316" y="381"/>
                  </a:lnTo>
                  <a:lnTo>
                    <a:pt x="304" y="375"/>
                  </a:lnTo>
                  <a:lnTo>
                    <a:pt x="327" y="357"/>
                  </a:lnTo>
                  <a:lnTo>
                    <a:pt x="350" y="339"/>
                  </a:lnTo>
                  <a:lnTo>
                    <a:pt x="371" y="319"/>
                  </a:lnTo>
                  <a:lnTo>
                    <a:pt x="391" y="298"/>
                  </a:lnTo>
                  <a:lnTo>
                    <a:pt x="411" y="278"/>
                  </a:lnTo>
                  <a:lnTo>
                    <a:pt x="429" y="256"/>
                  </a:lnTo>
                  <a:lnTo>
                    <a:pt x="445" y="234"/>
                  </a:lnTo>
                  <a:lnTo>
                    <a:pt x="461" y="210"/>
                  </a:lnTo>
                  <a:lnTo>
                    <a:pt x="475" y="187"/>
                  </a:lnTo>
                  <a:lnTo>
                    <a:pt x="489" y="163"/>
                  </a:lnTo>
                  <a:lnTo>
                    <a:pt x="501" y="137"/>
                  </a:lnTo>
                  <a:lnTo>
                    <a:pt x="511" y="111"/>
                  </a:lnTo>
                  <a:lnTo>
                    <a:pt x="522" y="84"/>
                  </a:lnTo>
                  <a:lnTo>
                    <a:pt x="530" y="57"/>
                  </a:lnTo>
                  <a:lnTo>
                    <a:pt x="538" y="28"/>
                  </a:lnTo>
                  <a:lnTo>
                    <a:pt x="544" y="0"/>
                  </a:lnTo>
                  <a:close/>
                  <a:moveTo>
                    <a:pt x="399" y="835"/>
                  </a:moveTo>
                  <a:lnTo>
                    <a:pt x="413" y="835"/>
                  </a:lnTo>
                  <a:lnTo>
                    <a:pt x="432" y="834"/>
                  </a:lnTo>
                  <a:lnTo>
                    <a:pt x="456" y="833"/>
                  </a:lnTo>
                  <a:lnTo>
                    <a:pt x="484" y="830"/>
                  </a:lnTo>
                  <a:lnTo>
                    <a:pt x="525" y="827"/>
                  </a:lnTo>
                  <a:lnTo>
                    <a:pt x="564" y="826"/>
                  </a:lnTo>
                  <a:lnTo>
                    <a:pt x="600" y="824"/>
                  </a:lnTo>
                  <a:lnTo>
                    <a:pt x="635" y="823"/>
                  </a:lnTo>
                  <a:lnTo>
                    <a:pt x="667" y="822"/>
                  </a:lnTo>
                  <a:lnTo>
                    <a:pt x="697" y="821"/>
                  </a:lnTo>
                  <a:lnTo>
                    <a:pt x="724" y="820"/>
                  </a:lnTo>
                  <a:lnTo>
                    <a:pt x="748" y="820"/>
                  </a:lnTo>
                  <a:lnTo>
                    <a:pt x="753" y="798"/>
                  </a:lnTo>
                  <a:lnTo>
                    <a:pt x="756" y="774"/>
                  </a:lnTo>
                  <a:lnTo>
                    <a:pt x="759" y="751"/>
                  </a:lnTo>
                  <a:lnTo>
                    <a:pt x="762" y="728"/>
                  </a:lnTo>
                  <a:lnTo>
                    <a:pt x="765" y="703"/>
                  </a:lnTo>
                  <a:lnTo>
                    <a:pt x="769" y="679"/>
                  </a:lnTo>
                  <a:lnTo>
                    <a:pt x="771" y="655"/>
                  </a:lnTo>
                  <a:lnTo>
                    <a:pt x="774" y="630"/>
                  </a:lnTo>
                  <a:lnTo>
                    <a:pt x="734" y="633"/>
                  </a:lnTo>
                  <a:lnTo>
                    <a:pt x="694" y="638"/>
                  </a:lnTo>
                  <a:lnTo>
                    <a:pt x="655" y="641"/>
                  </a:lnTo>
                  <a:lnTo>
                    <a:pt x="617" y="645"/>
                  </a:lnTo>
                  <a:lnTo>
                    <a:pt x="579" y="648"/>
                  </a:lnTo>
                  <a:lnTo>
                    <a:pt x="542" y="652"/>
                  </a:lnTo>
                  <a:lnTo>
                    <a:pt x="505" y="657"/>
                  </a:lnTo>
                  <a:lnTo>
                    <a:pt x="469" y="660"/>
                  </a:lnTo>
                  <a:lnTo>
                    <a:pt x="461" y="680"/>
                  </a:lnTo>
                  <a:lnTo>
                    <a:pt x="455" y="701"/>
                  </a:lnTo>
                  <a:lnTo>
                    <a:pt x="447" y="722"/>
                  </a:lnTo>
                  <a:lnTo>
                    <a:pt x="438" y="744"/>
                  </a:lnTo>
                  <a:lnTo>
                    <a:pt x="430" y="766"/>
                  </a:lnTo>
                  <a:lnTo>
                    <a:pt x="420" y="788"/>
                  </a:lnTo>
                  <a:lnTo>
                    <a:pt x="409" y="811"/>
                  </a:lnTo>
                  <a:lnTo>
                    <a:pt x="399" y="835"/>
                  </a:lnTo>
                  <a:close/>
                  <a:moveTo>
                    <a:pt x="544" y="425"/>
                  </a:moveTo>
                  <a:lnTo>
                    <a:pt x="541" y="437"/>
                  </a:lnTo>
                  <a:lnTo>
                    <a:pt x="537" y="452"/>
                  </a:lnTo>
                  <a:lnTo>
                    <a:pt x="532" y="470"/>
                  </a:lnTo>
                  <a:lnTo>
                    <a:pt x="526" y="491"/>
                  </a:lnTo>
                  <a:lnTo>
                    <a:pt x="520" y="515"/>
                  </a:lnTo>
                  <a:lnTo>
                    <a:pt x="512" y="540"/>
                  </a:lnTo>
                  <a:lnTo>
                    <a:pt x="503" y="569"/>
                  </a:lnTo>
                  <a:lnTo>
                    <a:pt x="493" y="599"/>
                  </a:lnTo>
                  <a:lnTo>
                    <a:pt x="516" y="597"/>
                  </a:lnTo>
                  <a:lnTo>
                    <a:pt x="544" y="594"/>
                  </a:lnTo>
                  <a:lnTo>
                    <a:pt x="576" y="590"/>
                  </a:lnTo>
                  <a:lnTo>
                    <a:pt x="614" y="585"/>
                  </a:lnTo>
                  <a:lnTo>
                    <a:pt x="641" y="581"/>
                  </a:lnTo>
                  <a:lnTo>
                    <a:pt x="668" y="578"/>
                  </a:lnTo>
                  <a:lnTo>
                    <a:pt x="691" y="575"/>
                  </a:lnTo>
                  <a:lnTo>
                    <a:pt x="713" y="573"/>
                  </a:lnTo>
                  <a:lnTo>
                    <a:pt x="734" y="570"/>
                  </a:lnTo>
                  <a:lnTo>
                    <a:pt x="753" y="568"/>
                  </a:lnTo>
                  <a:lnTo>
                    <a:pt x="769" y="567"/>
                  </a:lnTo>
                  <a:lnTo>
                    <a:pt x="783" y="564"/>
                  </a:lnTo>
                  <a:lnTo>
                    <a:pt x="789" y="521"/>
                  </a:lnTo>
                  <a:lnTo>
                    <a:pt x="793" y="481"/>
                  </a:lnTo>
                  <a:lnTo>
                    <a:pt x="796" y="444"/>
                  </a:lnTo>
                  <a:lnTo>
                    <a:pt x="798" y="410"/>
                  </a:lnTo>
                  <a:lnTo>
                    <a:pt x="798" y="407"/>
                  </a:lnTo>
                  <a:lnTo>
                    <a:pt x="798" y="403"/>
                  </a:lnTo>
                  <a:lnTo>
                    <a:pt x="796" y="401"/>
                  </a:lnTo>
                  <a:lnTo>
                    <a:pt x="795" y="400"/>
                  </a:lnTo>
                  <a:lnTo>
                    <a:pt x="793" y="399"/>
                  </a:lnTo>
                  <a:lnTo>
                    <a:pt x="790" y="398"/>
                  </a:lnTo>
                  <a:lnTo>
                    <a:pt x="788" y="399"/>
                  </a:lnTo>
                  <a:lnTo>
                    <a:pt x="783" y="400"/>
                  </a:lnTo>
                  <a:lnTo>
                    <a:pt x="764" y="401"/>
                  </a:lnTo>
                  <a:lnTo>
                    <a:pt x="743" y="404"/>
                  </a:lnTo>
                  <a:lnTo>
                    <a:pt x="720" y="409"/>
                  </a:lnTo>
                  <a:lnTo>
                    <a:pt x="694" y="414"/>
                  </a:lnTo>
                  <a:lnTo>
                    <a:pt x="668" y="419"/>
                  </a:lnTo>
                  <a:lnTo>
                    <a:pt x="640" y="427"/>
                  </a:lnTo>
                  <a:lnTo>
                    <a:pt x="611" y="435"/>
                  </a:lnTo>
                  <a:lnTo>
                    <a:pt x="579" y="445"/>
                  </a:lnTo>
                  <a:lnTo>
                    <a:pt x="573" y="442"/>
                  </a:lnTo>
                  <a:lnTo>
                    <a:pt x="565" y="437"/>
                  </a:lnTo>
                  <a:lnTo>
                    <a:pt x="556" y="432"/>
                  </a:lnTo>
                  <a:lnTo>
                    <a:pt x="544" y="425"/>
                  </a:lnTo>
                  <a:close/>
                  <a:moveTo>
                    <a:pt x="228" y="580"/>
                  </a:moveTo>
                  <a:lnTo>
                    <a:pt x="240" y="562"/>
                  </a:lnTo>
                  <a:lnTo>
                    <a:pt x="250" y="551"/>
                  </a:lnTo>
                  <a:lnTo>
                    <a:pt x="254" y="547"/>
                  </a:lnTo>
                  <a:lnTo>
                    <a:pt x="258" y="545"/>
                  </a:lnTo>
                  <a:lnTo>
                    <a:pt x="261" y="544"/>
                  </a:lnTo>
                  <a:lnTo>
                    <a:pt x="263" y="544"/>
                  </a:lnTo>
                  <a:lnTo>
                    <a:pt x="265" y="546"/>
                  </a:lnTo>
                  <a:lnTo>
                    <a:pt x="266" y="550"/>
                  </a:lnTo>
                  <a:lnTo>
                    <a:pt x="268" y="554"/>
                  </a:lnTo>
                  <a:lnTo>
                    <a:pt x="268" y="560"/>
                  </a:lnTo>
                  <a:lnTo>
                    <a:pt x="264" y="575"/>
                  </a:lnTo>
                  <a:lnTo>
                    <a:pt x="258" y="595"/>
                  </a:lnTo>
                  <a:lnTo>
                    <a:pt x="253" y="612"/>
                  </a:lnTo>
                  <a:lnTo>
                    <a:pt x="244" y="635"/>
                  </a:lnTo>
                  <a:lnTo>
                    <a:pt x="235" y="663"/>
                  </a:lnTo>
                  <a:lnTo>
                    <a:pt x="223" y="695"/>
                  </a:lnTo>
                  <a:lnTo>
                    <a:pt x="207" y="747"/>
                  </a:lnTo>
                  <a:lnTo>
                    <a:pt x="192" y="795"/>
                  </a:lnTo>
                  <a:lnTo>
                    <a:pt x="178" y="842"/>
                  </a:lnTo>
                  <a:lnTo>
                    <a:pt x="164" y="883"/>
                  </a:lnTo>
                  <a:lnTo>
                    <a:pt x="150" y="923"/>
                  </a:lnTo>
                  <a:lnTo>
                    <a:pt x="137" y="959"/>
                  </a:lnTo>
                  <a:lnTo>
                    <a:pt x="125" y="992"/>
                  </a:lnTo>
                  <a:lnTo>
                    <a:pt x="113" y="1020"/>
                  </a:lnTo>
                  <a:lnTo>
                    <a:pt x="101" y="1010"/>
                  </a:lnTo>
                  <a:lnTo>
                    <a:pt x="89" y="998"/>
                  </a:lnTo>
                  <a:lnTo>
                    <a:pt x="75" y="984"/>
                  </a:lnTo>
                  <a:lnTo>
                    <a:pt x="62" y="970"/>
                  </a:lnTo>
                  <a:lnTo>
                    <a:pt x="49" y="954"/>
                  </a:lnTo>
                  <a:lnTo>
                    <a:pt x="36" y="937"/>
                  </a:lnTo>
                  <a:lnTo>
                    <a:pt x="22" y="919"/>
                  </a:lnTo>
                  <a:lnTo>
                    <a:pt x="8" y="900"/>
                  </a:lnTo>
                  <a:lnTo>
                    <a:pt x="5" y="896"/>
                  </a:lnTo>
                  <a:lnTo>
                    <a:pt x="3" y="893"/>
                  </a:lnTo>
                  <a:lnTo>
                    <a:pt x="1" y="890"/>
                  </a:lnTo>
                  <a:lnTo>
                    <a:pt x="0" y="887"/>
                  </a:lnTo>
                  <a:lnTo>
                    <a:pt x="0" y="883"/>
                  </a:lnTo>
                  <a:lnTo>
                    <a:pt x="0" y="880"/>
                  </a:lnTo>
                  <a:lnTo>
                    <a:pt x="2" y="878"/>
                  </a:lnTo>
                  <a:lnTo>
                    <a:pt x="4" y="875"/>
                  </a:lnTo>
                  <a:lnTo>
                    <a:pt x="6" y="873"/>
                  </a:lnTo>
                  <a:lnTo>
                    <a:pt x="9" y="872"/>
                  </a:lnTo>
                  <a:lnTo>
                    <a:pt x="12" y="871"/>
                  </a:lnTo>
                  <a:lnTo>
                    <a:pt x="15" y="870"/>
                  </a:lnTo>
                  <a:lnTo>
                    <a:pt x="24" y="872"/>
                  </a:lnTo>
                  <a:lnTo>
                    <a:pt x="33" y="875"/>
                  </a:lnTo>
                  <a:lnTo>
                    <a:pt x="37" y="878"/>
                  </a:lnTo>
                  <a:lnTo>
                    <a:pt x="41" y="880"/>
                  </a:lnTo>
                  <a:lnTo>
                    <a:pt x="45" y="881"/>
                  </a:lnTo>
                  <a:lnTo>
                    <a:pt x="48" y="881"/>
                  </a:lnTo>
                  <a:lnTo>
                    <a:pt x="53" y="880"/>
                  </a:lnTo>
                  <a:lnTo>
                    <a:pt x="56" y="878"/>
                  </a:lnTo>
                  <a:lnTo>
                    <a:pt x="60" y="875"/>
                  </a:lnTo>
                  <a:lnTo>
                    <a:pt x="63" y="871"/>
                  </a:lnTo>
                  <a:lnTo>
                    <a:pt x="80" y="843"/>
                  </a:lnTo>
                  <a:lnTo>
                    <a:pt x="98" y="812"/>
                  </a:lnTo>
                  <a:lnTo>
                    <a:pt x="117" y="781"/>
                  </a:lnTo>
                  <a:lnTo>
                    <a:pt x="137" y="745"/>
                  </a:lnTo>
                  <a:lnTo>
                    <a:pt x="158" y="708"/>
                  </a:lnTo>
                  <a:lnTo>
                    <a:pt x="181" y="667"/>
                  </a:lnTo>
                  <a:lnTo>
                    <a:pt x="204" y="625"/>
                  </a:lnTo>
                  <a:lnTo>
                    <a:pt x="228" y="580"/>
                  </a:lnTo>
                  <a:close/>
                  <a:moveTo>
                    <a:pt x="43" y="355"/>
                  </a:moveTo>
                  <a:lnTo>
                    <a:pt x="100" y="382"/>
                  </a:lnTo>
                  <a:lnTo>
                    <a:pt x="143" y="403"/>
                  </a:lnTo>
                  <a:lnTo>
                    <a:pt x="157" y="412"/>
                  </a:lnTo>
                  <a:lnTo>
                    <a:pt x="168" y="419"/>
                  </a:lnTo>
                  <a:lnTo>
                    <a:pt x="175" y="426"/>
                  </a:lnTo>
                  <a:lnTo>
                    <a:pt x="179" y="430"/>
                  </a:lnTo>
                  <a:lnTo>
                    <a:pt x="181" y="438"/>
                  </a:lnTo>
                  <a:lnTo>
                    <a:pt x="182" y="448"/>
                  </a:lnTo>
                  <a:lnTo>
                    <a:pt x="181" y="457"/>
                  </a:lnTo>
                  <a:lnTo>
                    <a:pt x="180" y="467"/>
                  </a:lnTo>
                  <a:lnTo>
                    <a:pt x="178" y="478"/>
                  </a:lnTo>
                  <a:lnTo>
                    <a:pt x="173" y="488"/>
                  </a:lnTo>
                  <a:lnTo>
                    <a:pt x="169" y="499"/>
                  </a:lnTo>
                  <a:lnTo>
                    <a:pt x="164" y="509"/>
                  </a:lnTo>
                  <a:lnTo>
                    <a:pt x="158" y="521"/>
                  </a:lnTo>
                  <a:lnTo>
                    <a:pt x="153" y="528"/>
                  </a:lnTo>
                  <a:lnTo>
                    <a:pt x="151" y="532"/>
                  </a:lnTo>
                  <a:lnTo>
                    <a:pt x="149" y="534"/>
                  </a:lnTo>
                  <a:lnTo>
                    <a:pt x="146" y="535"/>
                  </a:lnTo>
                  <a:lnTo>
                    <a:pt x="144" y="535"/>
                  </a:lnTo>
                  <a:lnTo>
                    <a:pt x="140" y="534"/>
                  </a:lnTo>
                  <a:lnTo>
                    <a:pt x="136" y="532"/>
                  </a:lnTo>
                  <a:lnTo>
                    <a:pt x="130" y="526"/>
                  </a:lnTo>
                  <a:lnTo>
                    <a:pt x="123" y="520"/>
                  </a:lnTo>
                  <a:lnTo>
                    <a:pt x="112" y="507"/>
                  </a:lnTo>
                  <a:lnTo>
                    <a:pt x="100" y="492"/>
                  </a:lnTo>
                  <a:lnTo>
                    <a:pt x="89" y="476"/>
                  </a:lnTo>
                  <a:lnTo>
                    <a:pt x="76" y="460"/>
                  </a:lnTo>
                  <a:lnTo>
                    <a:pt x="50" y="422"/>
                  </a:lnTo>
                  <a:lnTo>
                    <a:pt x="24" y="380"/>
                  </a:lnTo>
                  <a:lnTo>
                    <a:pt x="18" y="371"/>
                  </a:lnTo>
                  <a:lnTo>
                    <a:pt x="13" y="363"/>
                  </a:lnTo>
                  <a:lnTo>
                    <a:pt x="12" y="361"/>
                  </a:lnTo>
                  <a:lnTo>
                    <a:pt x="12" y="358"/>
                  </a:lnTo>
                  <a:lnTo>
                    <a:pt x="12" y="357"/>
                  </a:lnTo>
                  <a:lnTo>
                    <a:pt x="13" y="355"/>
                  </a:lnTo>
                  <a:lnTo>
                    <a:pt x="15" y="352"/>
                  </a:lnTo>
                  <a:lnTo>
                    <a:pt x="18" y="351"/>
                  </a:lnTo>
                  <a:lnTo>
                    <a:pt x="20" y="350"/>
                  </a:lnTo>
                  <a:lnTo>
                    <a:pt x="23" y="349"/>
                  </a:lnTo>
                  <a:lnTo>
                    <a:pt x="32" y="351"/>
                  </a:lnTo>
                  <a:lnTo>
                    <a:pt x="43" y="355"/>
                  </a:lnTo>
                  <a:close/>
                  <a:moveTo>
                    <a:pt x="164" y="134"/>
                  </a:moveTo>
                  <a:lnTo>
                    <a:pt x="185" y="139"/>
                  </a:lnTo>
                  <a:lnTo>
                    <a:pt x="206" y="145"/>
                  </a:lnTo>
                  <a:lnTo>
                    <a:pt x="225" y="151"/>
                  </a:lnTo>
                  <a:lnTo>
                    <a:pt x="243" y="158"/>
                  </a:lnTo>
                  <a:lnTo>
                    <a:pt x="260" y="164"/>
                  </a:lnTo>
                  <a:lnTo>
                    <a:pt x="276" y="170"/>
                  </a:lnTo>
                  <a:lnTo>
                    <a:pt x="291" y="178"/>
                  </a:lnTo>
                  <a:lnTo>
                    <a:pt x="304" y="185"/>
                  </a:lnTo>
                  <a:lnTo>
                    <a:pt x="306" y="191"/>
                  </a:lnTo>
                  <a:lnTo>
                    <a:pt x="307" y="199"/>
                  </a:lnTo>
                  <a:lnTo>
                    <a:pt x="308" y="208"/>
                  </a:lnTo>
                  <a:lnTo>
                    <a:pt x="307" y="218"/>
                  </a:lnTo>
                  <a:lnTo>
                    <a:pt x="306" y="230"/>
                  </a:lnTo>
                  <a:lnTo>
                    <a:pt x="305" y="242"/>
                  </a:lnTo>
                  <a:lnTo>
                    <a:pt x="301" y="255"/>
                  </a:lnTo>
                  <a:lnTo>
                    <a:pt x="298" y="270"/>
                  </a:lnTo>
                  <a:lnTo>
                    <a:pt x="296" y="278"/>
                  </a:lnTo>
                  <a:lnTo>
                    <a:pt x="292" y="286"/>
                  </a:lnTo>
                  <a:lnTo>
                    <a:pt x="289" y="291"/>
                  </a:lnTo>
                  <a:lnTo>
                    <a:pt x="283" y="294"/>
                  </a:lnTo>
                  <a:lnTo>
                    <a:pt x="278" y="293"/>
                  </a:lnTo>
                  <a:lnTo>
                    <a:pt x="271" y="291"/>
                  </a:lnTo>
                  <a:lnTo>
                    <a:pt x="263" y="286"/>
                  </a:lnTo>
                  <a:lnTo>
                    <a:pt x="254" y="279"/>
                  </a:lnTo>
                  <a:lnTo>
                    <a:pt x="244" y="271"/>
                  </a:lnTo>
                  <a:lnTo>
                    <a:pt x="235" y="261"/>
                  </a:lnTo>
                  <a:lnTo>
                    <a:pt x="224" y="250"/>
                  </a:lnTo>
                  <a:lnTo>
                    <a:pt x="212" y="237"/>
                  </a:lnTo>
                  <a:lnTo>
                    <a:pt x="187" y="206"/>
                  </a:lnTo>
                  <a:lnTo>
                    <a:pt x="158" y="169"/>
                  </a:lnTo>
                  <a:lnTo>
                    <a:pt x="153" y="161"/>
                  </a:lnTo>
                  <a:lnTo>
                    <a:pt x="148" y="154"/>
                  </a:lnTo>
                  <a:lnTo>
                    <a:pt x="142" y="138"/>
                  </a:lnTo>
                  <a:lnTo>
                    <a:pt x="138" y="130"/>
                  </a:lnTo>
                  <a:lnTo>
                    <a:pt x="140" y="129"/>
                  </a:lnTo>
                  <a:lnTo>
                    <a:pt x="142" y="128"/>
                  </a:lnTo>
                  <a:lnTo>
                    <a:pt x="145" y="128"/>
                  </a:lnTo>
                  <a:lnTo>
                    <a:pt x="147" y="128"/>
                  </a:lnTo>
                  <a:lnTo>
                    <a:pt x="154" y="130"/>
                  </a:lnTo>
                  <a:lnTo>
                    <a:pt x="164" y="134"/>
                  </a:lnTo>
                  <a:close/>
                  <a:moveTo>
                    <a:pt x="559" y="675"/>
                  </a:moveTo>
                  <a:lnTo>
                    <a:pt x="591" y="687"/>
                  </a:lnTo>
                  <a:lnTo>
                    <a:pt x="618" y="699"/>
                  </a:lnTo>
                  <a:lnTo>
                    <a:pt x="641" y="710"/>
                  </a:lnTo>
                  <a:lnTo>
                    <a:pt x="658" y="720"/>
                  </a:lnTo>
                  <a:lnTo>
                    <a:pt x="659" y="723"/>
                  </a:lnTo>
                  <a:lnTo>
                    <a:pt x="659" y="729"/>
                  </a:lnTo>
                  <a:lnTo>
                    <a:pt x="659" y="735"/>
                  </a:lnTo>
                  <a:lnTo>
                    <a:pt x="658" y="742"/>
                  </a:lnTo>
                  <a:lnTo>
                    <a:pt x="655" y="764"/>
                  </a:lnTo>
                  <a:lnTo>
                    <a:pt x="649" y="790"/>
                  </a:lnTo>
                  <a:lnTo>
                    <a:pt x="646" y="797"/>
                  </a:lnTo>
                  <a:lnTo>
                    <a:pt x="644" y="803"/>
                  </a:lnTo>
                  <a:lnTo>
                    <a:pt x="641" y="807"/>
                  </a:lnTo>
                  <a:lnTo>
                    <a:pt x="638" y="810"/>
                  </a:lnTo>
                  <a:lnTo>
                    <a:pt x="634" y="809"/>
                  </a:lnTo>
                  <a:lnTo>
                    <a:pt x="629" y="807"/>
                  </a:lnTo>
                  <a:lnTo>
                    <a:pt x="623" y="805"/>
                  </a:lnTo>
                  <a:lnTo>
                    <a:pt x="619" y="800"/>
                  </a:lnTo>
                  <a:lnTo>
                    <a:pt x="609" y="788"/>
                  </a:lnTo>
                  <a:lnTo>
                    <a:pt x="599" y="776"/>
                  </a:lnTo>
                  <a:lnTo>
                    <a:pt x="590" y="763"/>
                  </a:lnTo>
                  <a:lnTo>
                    <a:pt x="580" y="749"/>
                  </a:lnTo>
                  <a:lnTo>
                    <a:pt x="570" y="734"/>
                  </a:lnTo>
                  <a:lnTo>
                    <a:pt x="561" y="718"/>
                  </a:lnTo>
                  <a:lnTo>
                    <a:pt x="552" y="702"/>
                  </a:lnTo>
                  <a:lnTo>
                    <a:pt x="544" y="685"/>
                  </a:lnTo>
                  <a:lnTo>
                    <a:pt x="542" y="681"/>
                  </a:lnTo>
                  <a:lnTo>
                    <a:pt x="541" y="678"/>
                  </a:lnTo>
                  <a:lnTo>
                    <a:pt x="542" y="676"/>
                  </a:lnTo>
                  <a:lnTo>
                    <a:pt x="544" y="675"/>
                  </a:lnTo>
                  <a:lnTo>
                    <a:pt x="544" y="674"/>
                  </a:lnTo>
                  <a:lnTo>
                    <a:pt x="547" y="673"/>
                  </a:lnTo>
                  <a:lnTo>
                    <a:pt x="552" y="674"/>
                  </a:lnTo>
                  <a:lnTo>
                    <a:pt x="559" y="675"/>
                  </a:lnTo>
                  <a:close/>
                  <a:moveTo>
                    <a:pt x="603" y="454"/>
                  </a:moveTo>
                  <a:lnTo>
                    <a:pt x="639" y="467"/>
                  </a:lnTo>
                  <a:lnTo>
                    <a:pt x="665" y="478"/>
                  </a:lnTo>
                  <a:lnTo>
                    <a:pt x="674" y="482"/>
                  </a:lnTo>
                  <a:lnTo>
                    <a:pt x="682" y="487"/>
                  </a:lnTo>
                  <a:lnTo>
                    <a:pt x="686" y="491"/>
                  </a:lnTo>
                  <a:lnTo>
                    <a:pt x="689" y="495"/>
                  </a:lnTo>
                  <a:lnTo>
                    <a:pt x="689" y="497"/>
                  </a:lnTo>
                  <a:lnTo>
                    <a:pt x="690" y="500"/>
                  </a:lnTo>
                  <a:lnTo>
                    <a:pt x="689" y="504"/>
                  </a:lnTo>
                  <a:lnTo>
                    <a:pt x="689" y="510"/>
                  </a:lnTo>
                  <a:lnTo>
                    <a:pt x="685" y="525"/>
                  </a:lnTo>
                  <a:lnTo>
                    <a:pt x="679" y="544"/>
                  </a:lnTo>
                  <a:lnTo>
                    <a:pt x="679" y="550"/>
                  </a:lnTo>
                  <a:lnTo>
                    <a:pt x="679" y="555"/>
                  </a:lnTo>
                  <a:lnTo>
                    <a:pt x="676" y="561"/>
                  </a:lnTo>
                  <a:lnTo>
                    <a:pt x="673" y="567"/>
                  </a:lnTo>
                  <a:lnTo>
                    <a:pt x="671" y="569"/>
                  </a:lnTo>
                  <a:lnTo>
                    <a:pt x="669" y="570"/>
                  </a:lnTo>
                  <a:lnTo>
                    <a:pt x="666" y="572"/>
                  </a:lnTo>
                  <a:lnTo>
                    <a:pt x="663" y="571"/>
                  </a:lnTo>
                  <a:lnTo>
                    <a:pt x="658" y="569"/>
                  </a:lnTo>
                  <a:lnTo>
                    <a:pt x="654" y="564"/>
                  </a:lnTo>
                  <a:lnTo>
                    <a:pt x="636" y="540"/>
                  </a:lnTo>
                  <a:lnTo>
                    <a:pt x="620" y="515"/>
                  </a:lnTo>
                  <a:lnTo>
                    <a:pt x="604" y="490"/>
                  </a:lnTo>
                  <a:lnTo>
                    <a:pt x="588" y="465"/>
                  </a:lnTo>
                  <a:lnTo>
                    <a:pt x="586" y="461"/>
                  </a:lnTo>
                  <a:lnTo>
                    <a:pt x="586" y="457"/>
                  </a:lnTo>
                  <a:lnTo>
                    <a:pt x="586" y="455"/>
                  </a:lnTo>
                  <a:lnTo>
                    <a:pt x="588" y="454"/>
                  </a:lnTo>
                  <a:lnTo>
                    <a:pt x="590" y="453"/>
                  </a:lnTo>
                  <a:lnTo>
                    <a:pt x="593" y="452"/>
                  </a:lnTo>
                  <a:lnTo>
                    <a:pt x="597" y="453"/>
                  </a:lnTo>
                  <a:lnTo>
                    <a:pt x="603" y="454"/>
                  </a:lnTo>
                  <a:close/>
                </a:path>
              </a:pathLst>
            </a:custGeom>
            <a:solidFill>
              <a:schemeClr val="tx1"/>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d79f00"/>
                </a:solidFill>
                <a:latin typeface="Arial"/>
                <a:ea typeface="宋体"/>
              </a:endParaRPr>
            </a:p>
          </p:txBody>
        </p:sp>
        <p:sp>
          <p:nvSpPr>
            <p:cNvPr id="326" name="Freeform 13"/>
            <p:cNvSpPr/>
            <p:nvPr/>
          </p:nvSpPr>
          <p:spPr>
            <a:xfrm>
              <a:off x="2442600" y="9351000"/>
              <a:ext cx="243360" cy="203400"/>
            </a:xfrm>
            <a:custGeom>
              <a:avLst/>
              <a:gdLst>
                <a:gd name="textAreaLeft" fmla="*/ 0 w 243360"/>
                <a:gd name="textAreaRight" fmla="*/ 243720 w 243360"/>
                <a:gd name="textAreaTop" fmla="*/ 0 h 203400"/>
                <a:gd name="textAreaBottom" fmla="*/ 203760 h 203400"/>
              </a:gdLst>
              <a:ahLst/>
              <a:rect l="textAreaLeft" t="textAreaTop" r="textAreaRight" b="textAreaBottom"/>
              <a:pathLst>
                <a:path w="1246" h="1097">
                  <a:moveTo>
                    <a:pt x="796" y="610"/>
                  </a:moveTo>
                  <a:lnTo>
                    <a:pt x="800" y="608"/>
                  </a:lnTo>
                  <a:lnTo>
                    <a:pt x="804" y="607"/>
                  </a:lnTo>
                  <a:lnTo>
                    <a:pt x="808" y="607"/>
                  </a:lnTo>
                  <a:lnTo>
                    <a:pt x="813" y="609"/>
                  </a:lnTo>
                  <a:lnTo>
                    <a:pt x="817" y="611"/>
                  </a:lnTo>
                  <a:lnTo>
                    <a:pt x="821" y="614"/>
                  </a:lnTo>
                  <a:lnTo>
                    <a:pt x="826" y="620"/>
                  </a:lnTo>
                  <a:lnTo>
                    <a:pt x="831" y="625"/>
                  </a:lnTo>
                  <a:lnTo>
                    <a:pt x="839" y="631"/>
                  </a:lnTo>
                  <a:lnTo>
                    <a:pt x="846" y="639"/>
                  </a:lnTo>
                  <a:lnTo>
                    <a:pt x="854" y="648"/>
                  </a:lnTo>
                  <a:lnTo>
                    <a:pt x="861" y="660"/>
                  </a:lnTo>
                  <a:lnTo>
                    <a:pt x="863" y="662"/>
                  </a:lnTo>
                  <a:lnTo>
                    <a:pt x="864" y="665"/>
                  </a:lnTo>
                  <a:lnTo>
                    <a:pt x="866" y="667"/>
                  </a:lnTo>
                  <a:lnTo>
                    <a:pt x="866" y="670"/>
                  </a:lnTo>
                  <a:lnTo>
                    <a:pt x="868" y="675"/>
                  </a:lnTo>
                  <a:lnTo>
                    <a:pt x="869" y="678"/>
                  </a:lnTo>
                  <a:lnTo>
                    <a:pt x="868" y="679"/>
                  </a:lnTo>
                  <a:lnTo>
                    <a:pt x="866" y="680"/>
                  </a:lnTo>
                  <a:lnTo>
                    <a:pt x="866" y="682"/>
                  </a:lnTo>
                  <a:lnTo>
                    <a:pt x="863" y="683"/>
                  </a:lnTo>
                  <a:lnTo>
                    <a:pt x="860" y="684"/>
                  </a:lnTo>
                  <a:lnTo>
                    <a:pt x="856" y="685"/>
                  </a:lnTo>
                  <a:lnTo>
                    <a:pt x="840" y="686"/>
                  </a:lnTo>
                  <a:lnTo>
                    <a:pt x="822" y="689"/>
                  </a:lnTo>
                  <a:lnTo>
                    <a:pt x="801" y="690"/>
                  </a:lnTo>
                  <a:lnTo>
                    <a:pt x="779" y="693"/>
                  </a:lnTo>
                  <a:lnTo>
                    <a:pt x="753" y="695"/>
                  </a:lnTo>
                  <a:lnTo>
                    <a:pt x="727" y="698"/>
                  </a:lnTo>
                  <a:lnTo>
                    <a:pt x="697" y="701"/>
                  </a:lnTo>
                  <a:lnTo>
                    <a:pt x="666" y="704"/>
                  </a:lnTo>
                  <a:lnTo>
                    <a:pt x="649" y="708"/>
                  </a:lnTo>
                  <a:lnTo>
                    <a:pt x="635" y="709"/>
                  </a:lnTo>
                  <a:lnTo>
                    <a:pt x="622" y="710"/>
                  </a:lnTo>
                  <a:lnTo>
                    <a:pt x="611" y="710"/>
                  </a:lnTo>
                  <a:lnTo>
                    <a:pt x="611" y="739"/>
                  </a:lnTo>
                  <a:lnTo>
                    <a:pt x="611" y="770"/>
                  </a:lnTo>
                  <a:lnTo>
                    <a:pt x="611" y="802"/>
                  </a:lnTo>
                  <a:lnTo>
                    <a:pt x="611" y="835"/>
                  </a:lnTo>
                  <a:lnTo>
                    <a:pt x="611" y="870"/>
                  </a:lnTo>
                  <a:lnTo>
                    <a:pt x="611" y="905"/>
                  </a:lnTo>
                  <a:lnTo>
                    <a:pt x="611" y="942"/>
                  </a:lnTo>
                  <a:lnTo>
                    <a:pt x="611" y="980"/>
                  </a:lnTo>
                  <a:lnTo>
                    <a:pt x="674" y="973"/>
                  </a:lnTo>
                  <a:lnTo>
                    <a:pt x="731" y="966"/>
                  </a:lnTo>
                  <a:lnTo>
                    <a:pt x="784" y="961"/>
                  </a:lnTo>
                  <a:lnTo>
                    <a:pt x="833" y="956"/>
                  </a:lnTo>
                  <a:lnTo>
                    <a:pt x="875" y="950"/>
                  </a:lnTo>
                  <a:lnTo>
                    <a:pt x="914" y="946"/>
                  </a:lnTo>
                  <a:lnTo>
                    <a:pt x="947" y="943"/>
                  </a:lnTo>
                  <a:lnTo>
                    <a:pt x="976" y="940"/>
                  </a:lnTo>
                  <a:lnTo>
                    <a:pt x="983" y="941"/>
                  </a:lnTo>
                  <a:lnTo>
                    <a:pt x="989" y="941"/>
                  </a:lnTo>
                  <a:lnTo>
                    <a:pt x="996" y="942"/>
                  </a:lnTo>
                  <a:lnTo>
                    <a:pt x="1001" y="944"/>
                  </a:lnTo>
                  <a:lnTo>
                    <a:pt x="1005" y="946"/>
                  </a:lnTo>
                  <a:lnTo>
                    <a:pt x="1010" y="948"/>
                  </a:lnTo>
                  <a:lnTo>
                    <a:pt x="1013" y="951"/>
                  </a:lnTo>
                  <a:lnTo>
                    <a:pt x="1016" y="956"/>
                  </a:lnTo>
                  <a:lnTo>
                    <a:pt x="1028" y="967"/>
                  </a:lnTo>
                  <a:lnTo>
                    <a:pt x="1041" y="985"/>
                  </a:lnTo>
                  <a:lnTo>
                    <a:pt x="1048" y="997"/>
                  </a:lnTo>
                  <a:lnTo>
                    <a:pt x="1053" y="1007"/>
                  </a:lnTo>
                  <a:lnTo>
                    <a:pt x="1058" y="1014"/>
                  </a:lnTo>
                  <a:lnTo>
                    <a:pt x="1062" y="1020"/>
                  </a:lnTo>
                  <a:lnTo>
                    <a:pt x="1063" y="1025"/>
                  </a:lnTo>
                  <a:lnTo>
                    <a:pt x="1064" y="1029"/>
                  </a:lnTo>
                  <a:lnTo>
                    <a:pt x="1063" y="1032"/>
                  </a:lnTo>
                  <a:lnTo>
                    <a:pt x="1062" y="1035"/>
                  </a:lnTo>
                  <a:lnTo>
                    <a:pt x="1060" y="1037"/>
                  </a:lnTo>
                  <a:lnTo>
                    <a:pt x="1057" y="1037"/>
                  </a:lnTo>
                  <a:lnTo>
                    <a:pt x="1053" y="1037"/>
                  </a:lnTo>
                  <a:lnTo>
                    <a:pt x="1047" y="1035"/>
                  </a:lnTo>
                  <a:lnTo>
                    <a:pt x="1002" y="1034"/>
                  </a:lnTo>
                  <a:lnTo>
                    <a:pt x="957" y="1034"/>
                  </a:lnTo>
                  <a:lnTo>
                    <a:pt x="911" y="1034"/>
                  </a:lnTo>
                  <a:lnTo>
                    <a:pt x="864" y="1035"/>
                  </a:lnTo>
                  <a:lnTo>
                    <a:pt x="818" y="1037"/>
                  </a:lnTo>
                  <a:lnTo>
                    <a:pt x="769" y="1039"/>
                  </a:lnTo>
                  <a:lnTo>
                    <a:pt x="720" y="1041"/>
                  </a:lnTo>
                  <a:lnTo>
                    <a:pt x="671" y="1046"/>
                  </a:lnTo>
                  <a:lnTo>
                    <a:pt x="621" y="1049"/>
                  </a:lnTo>
                  <a:lnTo>
                    <a:pt x="569" y="1054"/>
                  </a:lnTo>
                  <a:lnTo>
                    <a:pt x="517" y="1059"/>
                  </a:lnTo>
                  <a:lnTo>
                    <a:pt x="465" y="1065"/>
                  </a:lnTo>
                  <a:lnTo>
                    <a:pt x="411" y="1072"/>
                  </a:lnTo>
                  <a:lnTo>
                    <a:pt x="357" y="1079"/>
                  </a:lnTo>
                  <a:lnTo>
                    <a:pt x="302" y="1087"/>
                  </a:lnTo>
                  <a:lnTo>
                    <a:pt x="246" y="1096"/>
                  </a:lnTo>
                  <a:lnTo>
                    <a:pt x="240" y="1097"/>
                  </a:lnTo>
                  <a:lnTo>
                    <a:pt x="234" y="1097"/>
                  </a:lnTo>
                  <a:lnTo>
                    <a:pt x="229" y="1097"/>
                  </a:lnTo>
                  <a:lnTo>
                    <a:pt x="224" y="1096"/>
                  </a:lnTo>
                  <a:lnTo>
                    <a:pt x="218" y="1093"/>
                  </a:lnTo>
                  <a:lnTo>
                    <a:pt x="214" y="1091"/>
                  </a:lnTo>
                  <a:lnTo>
                    <a:pt x="210" y="1089"/>
                  </a:lnTo>
                  <a:lnTo>
                    <a:pt x="206" y="1085"/>
                  </a:lnTo>
                  <a:lnTo>
                    <a:pt x="197" y="1075"/>
                  </a:lnTo>
                  <a:lnTo>
                    <a:pt x="181" y="1055"/>
                  </a:lnTo>
                  <a:lnTo>
                    <a:pt x="172" y="1044"/>
                  </a:lnTo>
                  <a:lnTo>
                    <a:pt x="163" y="1035"/>
                  </a:lnTo>
                  <a:lnTo>
                    <a:pt x="157" y="1029"/>
                  </a:lnTo>
                  <a:lnTo>
                    <a:pt x="151" y="1026"/>
                  </a:lnTo>
                  <a:lnTo>
                    <a:pt x="187" y="1025"/>
                  </a:lnTo>
                  <a:lnTo>
                    <a:pt x="225" y="1023"/>
                  </a:lnTo>
                  <a:lnTo>
                    <a:pt x="267" y="1020"/>
                  </a:lnTo>
                  <a:lnTo>
                    <a:pt x="314" y="1016"/>
                  </a:lnTo>
                  <a:lnTo>
                    <a:pt x="362" y="1012"/>
                  </a:lnTo>
                  <a:lnTo>
                    <a:pt x="415" y="1005"/>
                  </a:lnTo>
                  <a:lnTo>
                    <a:pt x="472" y="998"/>
                  </a:lnTo>
                  <a:lnTo>
                    <a:pt x="531" y="991"/>
                  </a:lnTo>
                  <a:lnTo>
                    <a:pt x="531" y="973"/>
                  </a:lnTo>
                  <a:lnTo>
                    <a:pt x="531" y="954"/>
                  </a:lnTo>
                  <a:lnTo>
                    <a:pt x="532" y="932"/>
                  </a:lnTo>
                  <a:lnTo>
                    <a:pt x="532" y="911"/>
                  </a:lnTo>
                  <a:lnTo>
                    <a:pt x="533" y="889"/>
                  </a:lnTo>
                  <a:lnTo>
                    <a:pt x="534" y="866"/>
                  </a:lnTo>
                  <a:lnTo>
                    <a:pt x="535" y="841"/>
                  </a:lnTo>
                  <a:lnTo>
                    <a:pt x="536" y="815"/>
                  </a:lnTo>
                  <a:lnTo>
                    <a:pt x="536" y="785"/>
                  </a:lnTo>
                  <a:lnTo>
                    <a:pt x="536" y="760"/>
                  </a:lnTo>
                  <a:lnTo>
                    <a:pt x="536" y="741"/>
                  </a:lnTo>
                  <a:lnTo>
                    <a:pt x="536" y="725"/>
                  </a:lnTo>
                  <a:lnTo>
                    <a:pt x="496" y="733"/>
                  </a:lnTo>
                  <a:lnTo>
                    <a:pt x="457" y="741"/>
                  </a:lnTo>
                  <a:lnTo>
                    <a:pt x="419" y="748"/>
                  </a:lnTo>
                  <a:lnTo>
                    <a:pt x="382" y="755"/>
                  </a:lnTo>
                  <a:lnTo>
                    <a:pt x="373" y="754"/>
                  </a:lnTo>
                  <a:lnTo>
                    <a:pt x="363" y="751"/>
                  </a:lnTo>
                  <a:lnTo>
                    <a:pt x="353" y="747"/>
                  </a:lnTo>
                  <a:lnTo>
                    <a:pt x="341" y="741"/>
                  </a:lnTo>
                  <a:lnTo>
                    <a:pt x="334" y="736"/>
                  </a:lnTo>
                  <a:lnTo>
                    <a:pt x="326" y="732"/>
                  </a:lnTo>
                  <a:lnTo>
                    <a:pt x="320" y="727"/>
                  </a:lnTo>
                  <a:lnTo>
                    <a:pt x="314" y="721"/>
                  </a:lnTo>
                  <a:lnTo>
                    <a:pt x="307" y="715"/>
                  </a:lnTo>
                  <a:lnTo>
                    <a:pt x="301" y="709"/>
                  </a:lnTo>
                  <a:lnTo>
                    <a:pt x="296" y="702"/>
                  </a:lnTo>
                  <a:lnTo>
                    <a:pt x="290" y="695"/>
                  </a:lnTo>
                  <a:lnTo>
                    <a:pt x="317" y="693"/>
                  </a:lnTo>
                  <a:lnTo>
                    <a:pt x="343" y="691"/>
                  </a:lnTo>
                  <a:lnTo>
                    <a:pt x="372" y="686"/>
                  </a:lnTo>
                  <a:lnTo>
                    <a:pt x="401" y="682"/>
                  </a:lnTo>
                  <a:lnTo>
                    <a:pt x="431" y="677"/>
                  </a:lnTo>
                  <a:lnTo>
                    <a:pt x="463" y="671"/>
                  </a:lnTo>
                  <a:lnTo>
                    <a:pt x="497" y="663"/>
                  </a:lnTo>
                  <a:lnTo>
                    <a:pt x="531" y="655"/>
                  </a:lnTo>
                  <a:lnTo>
                    <a:pt x="530" y="622"/>
                  </a:lnTo>
                  <a:lnTo>
                    <a:pt x="528" y="591"/>
                  </a:lnTo>
                  <a:lnTo>
                    <a:pt x="526" y="577"/>
                  </a:lnTo>
                  <a:lnTo>
                    <a:pt x="522" y="564"/>
                  </a:lnTo>
                  <a:lnTo>
                    <a:pt x="519" y="552"/>
                  </a:lnTo>
                  <a:lnTo>
                    <a:pt x="516" y="540"/>
                  </a:lnTo>
                  <a:lnTo>
                    <a:pt x="499" y="542"/>
                  </a:lnTo>
                  <a:lnTo>
                    <a:pt x="482" y="547"/>
                  </a:lnTo>
                  <a:lnTo>
                    <a:pt x="466" y="550"/>
                  </a:lnTo>
                  <a:lnTo>
                    <a:pt x="451" y="555"/>
                  </a:lnTo>
                  <a:lnTo>
                    <a:pt x="447" y="556"/>
                  </a:lnTo>
                  <a:lnTo>
                    <a:pt x="443" y="556"/>
                  </a:lnTo>
                  <a:lnTo>
                    <a:pt x="439" y="556"/>
                  </a:lnTo>
                  <a:lnTo>
                    <a:pt x="434" y="555"/>
                  </a:lnTo>
                  <a:lnTo>
                    <a:pt x="426" y="551"/>
                  </a:lnTo>
                  <a:lnTo>
                    <a:pt x="416" y="544"/>
                  </a:lnTo>
                  <a:lnTo>
                    <a:pt x="397" y="531"/>
                  </a:lnTo>
                  <a:lnTo>
                    <a:pt x="383" y="519"/>
                  </a:lnTo>
                  <a:lnTo>
                    <a:pt x="370" y="508"/>
                  </a:lnTo>
                  <a:lnTo>
                    <a:pt x="361" y="500"/>
                  </a:lnTo>
                  <a:lnTo>
                    <a:pt x="377" y="497"/>
                  </a:lnTo>
                  <a:lnTo>
                    <a:pt x="395" y="494"/>
                  </a:lnTo>
                  <a:lnTo>
                    <a:pt x="415" y="489"/>
                  </a:lnTo>
                  <a:lnTo>
                    <a:pt x="439" y="485"/>
                  </a:lnTo>
                  <a:lnTo>
                    <a:pt x="463" y="480"/>
                  </a:lnTo>
                  <a:lnTo>
                    <a:pt x="491" y="473"/>
                  </a:lnTo>
                  <a:lnTo>
                    <a:pt x="519" y="467"/>
                  </a:lnTo>
                  <a:lnTo>
                    <a:pt x="551" y="460"/>
                  </a:lnTo>
                  <a:lnTo>
                    <a:pt x="580" y="452"/>
                  </a:lnTo>
                  <a:lnTo>
                    <a:pt x="607" y="446"/>
                  </a:lnTo>
                  <a:lnTo>
                    <a:pt x="634" y="441"/>
                  </a:lnTo>
                  <a:lnTo>
                    <a:pt x="657" y="435"/>
                  </a:lnTo>
                  <a:lnTo>
                    <a:pt x="679" y="430"/>
                  </a:lnTo>
                  <a:lnTo>
                    <a:pt x="700" y="426"/>
                  </a:lnTo>
                  <a:lnTo>
                    <a:pt x="719" y="423"/>
                  </a:lnTo>
                  <a:lnTo>
                    <a:pt x="736" y="419"/>
                  </a:lnTo>
                  <a:lnTo>
                    <a:pt x="741" y="418"/>
                  </a:lnTo>
                  <a:lnTo>
                    <a:pt x="746" y="417"/>
                  </a:lnTo>
                  <a:lnTo>
                    <a:pt x="751" y="417"/>
                  </a:lnTo>
                  <a:lnTo>
                    <a:pt x="756" y="418"/>
                  </a:lnTo>
                  <a:lnTo>
                    <a:pt x="761" y="420"/>
                  </a:lnTo>
                  <a:lnTo>
                    <a:pt x="766" y="425"/>
                  </a:lnTo>
                  <a:lnTo>
                    <a:pt x="771" y="429"/>
                  </a:lnTo>
                  <a:lnTo>
                    <a:pt x="776" y="434"/>
                  </a:lnTo>
                  <a:lnTo>
                    <a:pt x="777" y="437"/>
                  </a:lnTo>
                  <a:lnTo>
                    <a:pt x="778" y="440"/>
                  </a:lnTo>
                  <a:lnTo>
                    <a:pt x="779" y="443"/>
                  </a:lnTo>
                  <a:lnTo>
                    <a:pt x="781" y="445"/>
                  </a:lnTo>
                  <a:lnTo>
                    <a:pt x="788" y="452"/>
                  </a:lnTo>
                  <a:lnTo>
                    <a:pt x="794" y="460"/>
                  </a:lnTo>
                  <a:lnTo>
                    <a:pt x="798" y="467"/>
                  </a:lnTo>
                  <a:lnTo>
                    <a:pt x="801" y="475"/>
                  </a:lnTo>
                  <a:lnTo>
                    <a:pt x="805" y="484"/>
                  </a:lnTo>
                  <a:lnTo>
                    <a:pt x="806" y="489"/>
                  </a:lnTo>
                  <a:lnTo>
                    <a:pt x="803" y="493"/>
                  </a:lnTo>
                  <a:lnTo>
                    <a:pt x="800" y="494"/>
                  </a:lnTo>
                  <a:lnTo>
                    <a:pt x="796" y="495"/>
                  </a:lnTo>
                  <a:lnTo>
                    <a:pt x="791" y="495"/>
                  </a:lnTo>
                  <a:lnTo>
                    <a:pt x="767" y="497"/>
                  </a:lnTo>
                  <a:lnTo>
                    <a:pt x="743" y="499"/>
                  </a:lnTo>
                  <a:lnTo>
                    <a:pt x="715" y="502"/>
                  </a:lnTo>
                  <a:lnTo>
                    <a:pt x="685" y="506"/>
                  </a:lnTo>
                  <a:lnTo>
                    <a:pt x="655" y="511"/>
                  </a:lnTo>
                  <a:lnTo>
                    <a:pt x="622" y="517"/>
                  </a:lnTo>
                  <a:lnTo>
                    <a:pt x="587" y="523"/>
                  </a:lnTo>
                  <a:lnTo>
                    <a:pt x="551" y="530"/>
                  </a:lnTo>
                  <a:lnTo>
                    <a:pt x="573" y="537"/>
                  </a:lnTo>
                  <a:lnTo>
                    <a:pt x="595" y="542"/>
                  </a:lnTo>
                  <a:lnTo>
                    <a:pt x="619" y="547"/>
                  </a:lnTo>
                  <a:lnTo>
                    <a:pt x="641" y="550"/>
                  </a:lnTo>
                  <a:lnTo>
                    <a:pt x="638" y="556"/>
                  </a:lnTo>
                  <a:lnTo>
                    <a:pt x="634" y="562"/>
                  </a:lnTo>
                  <a:lnTo>
                    <a:pt x="631" y="572"/>
                  </a:lnTo>
                  <a:lnTo>
                    <a:pt x="628" y="583"/>
                  </a:lnTo>
                  <a:lnTo>
                    <a:pt x="624" y="608"/>
                  </a:lnTo>
                  <a:lnTo>
                    <a:pt x="621" y="640"/>
                  </a:lnTo>
                  <a:lnTo>
                    <a:pt x="633" y="638"/>
                  </a:lnTo>
                  <a:lnTo>
                    <a:pt x="647" y="635"/>
                  </a:lnTo>
                  <a:lnTo>
                    <a:pt x="665" y="632"/>
                  </a:lnTo>
                  <a:lnTo>
                    <a:pt x="685" y="630"/>
                  </a:lnTo>
                  <a:lnTo>
                    <a:pt x="722" y="623"/>
                  </a:lnTo>
                  <a:lnTo>
                    <a:pt x="751" y="618"/>
                  </a:lnTo>
                  <a:lnTo>
                    <a:pt x="777" y="613"/>
                  </a:lnTo>
                  <a:lnTo>
                    <a:pt x="796" y="610"/>
                  </a:lnTo>
                  <a:close/>
                  <a:moveTo>
                    <a:pt x="551" y="0"/>
                  </a:moveTo>
                  <a:lnTo>
                    <a:pt x="569" y="16"/>
                  </a:lnTo>
                  <a:lnTo>
                    <a:pt x="587" y="31"/>
                  </a:lnTo>
                  <a:lnTo>
                    <a:pt x="603" y="43"/>
                  </a:lnTo>
                  <a:lnTo>
                    <a:pt x="619" y="55"/>
                  </a:lnTo>
                  <a:lnTo>
                    <a:pt x="633" y="63"/>
                  </a:lnTo>
                  <a:lnTo>
                    <a:pt x="646" y="71"/>
                  </a:lnTo>
                  <a:lnTo>
                    <a:pt x="659" y="76"/>
                  </a:lnTo>
                  <a:lnTo>
                    <a:pt x="671" y="79"/>
                  </a:lnTo>
                  <a:lnTo>
                    <a:pt x="656" y="91"/>
                  </a:lnTo>
                  <a:lnTo>
                    <a:pt x="641" y="105"/>
                  </a:lnTo>
                  <a:lnTo>
                    <a:pt x="626" y="121"/>
                  </a:lnTo>
                  <a:lnTo>
                    <a:pt x="611" y="140"/>
                  </a:lnTo>
                  <a:lnTo>
                    <a:pt x="631" y="154"/>
                  </a:lnTo>
                  <a:lnTo>
                    <a:pt x="659" y="176"/>
                  </a:lnTo>
                  <a:lnTo>
                    <a:pt x="692" y="202"/>
                  </a:lnTo>
                  <a:lnTo>
                    <a:pt x="731" y="235"/>
                  </a:lnTo>
                  <a:lnTo>
                    <a:pt x="768" y="266"/>
                  </a:lnTo>
                  <a:lnTo>
                    <a:pt x="803" y="293"/>
                  </a:lnTo>
                  <a:lnTo>
                    <a:pt x="835" y="318"/>
                  </a:lnTo>
                  <a:lnTo>
                    <a:pt x="863" y="339"/>
                  </a:lnTo>
                  <a:lnTo>
                    <a:pt x="890" y="356"/>
                  </a:lnTo>
                  <a:lnTo>
                    <a:pt x="913" y="371"/>
                  </a:lnTo>
                  <a:lnTo>
                    <a:pt x="933" y="381"/>
                  </a:lnTo>
                  <a:lnTo>
                    <a:pt x="951" y="390"/>
                  </a:lnTo>
                  <a:lnTo>
                    <a:pt x="991" y="405"/>
                  </a:lnTo>
                  <a:lnTo>
                    <a:pt x="1028" y="420"/>
                  </a:lnTo>
                  <a:lnTo>
                    <a:pt x="1063" y="435"/>
                  </a:lnTo>
                  <a:lnTo>
                    <a:pt x="1096" y="451"/>
                  </a:lnTo>
                  <a:lnTo>
                    <a:pt x="1127" y="467"/>
                  </a:lnTo>
                  <a:lnTo>
                    <a:pt x="1158" y="483"/>
                  </a:lnTo>
                  <a:lnTo>
                    <a:pt x="1185" y="499"/>
                  </a:lnTo>
                  <a:lnTo>
                    <a:pt x="1211" y="515"/>
                  </a:lnTo>
                  <a:lnTo>
                    <a:pt x="1219" y="520"/>
                  </a:lnTo>
                  <a:lnTo>
                    <a:pt x="1227" y="524"/>
                  </a:lnTo>
                  <a:lnTo>
                    <a:pt x="1232" y="530"/>
                  </a:lnTo>
                  <a:lnTo>
                    <a:pt x="1237" y="535"/>
                  </a:lnTo>
                  <a:lnTo>
                    <a:pt x="1242" y="540"/>
                  </a:lnTo>
                  <a:lnTo>
                    <a:pt x="1244" y="544"/>
                  </a:lnTo>
                  <a:lnTo>
                    <a:pt x="1246" y="550"/>
                  </a:lnTo>
                  <a:lnTo>
                    <a:pt x="1246" y="555"/>
                  </a:lnTo>
                  <a:lnTo>
                    <a:pt x="1245" y="558"/>
                  </a:lnTo>
                  <a:lnTo>
                    <a:pt x="1242" y="561"/>
                  </a:lnTo>
                  <a:lnTo>
                    <a:pt x="1237" y="564"/>
                  </a:lnTo>
                  <a:lnTo>
                    <a:pt x="1232" y="566"/>
                  </a:lnTo>
                  <a:lnTo>
                    <a:pt x="1226" y="568"/>
                  </a:lnTo>
                  <a:lnTo>
                    <a:pt x="1219" y="569"/>
                  </a:lnTo>
                  <a:lnTo>
                    <a:pt x="1211" y="570"/>
                  </a:lnTo>
                  <a:lnTo>
                    <a:pt x="1201" y="570"/>
                  </a:lnTo>
                  <a:lnTo>
                    <a:pt x="1171" y="570"/>
                  </a:lnTo>
                  <a:lnTo>
                    <a:pt x="1141" y="569"/>
                  </a:lnTo>
                  <a:lnTo>
                    <a:pt x="1111" y="567"/>
                  </a:lnTo>
                  <a:lnTo>
                    <a:pt x="1084" y="565"/>
                  </a:lnTo>
                  <a:lnTo>
                    <a:pt x="1056" y="562"/>
                  </a:lnTo>
                  <a:lnTo>
                    <a:pt x="1031" y="558"/>
                  </a:lnTo>
                  <a:lnTo>
                    <a:pt x="1005" y="554"/>
                  </a:lnTo>
                  <a:lnTo>
                    <a:pt x="981" y="550"/>
                  </a:lnTo>
                  <a:lnTo>
                    <a:pt x="966" y="547"/>
                  </a:lnTo>
                  <a:lnTo>
                    <a:pt x="951" y="541"/>
                  </a:lnTo>
                  <a:lnTo>
                    <a:pt x="937" y="535"/>
                  </a:lnTo>
                  <a:lnTo>
                    <a:pt x="923" y="528"/>
                  </a:lnTo>
                  <a:lnTo>
                    <a:pt x="908" y="518"/>
                  </a:lnTo>
                  <a:lnTo>
                    <a:pt x="894" y="506"/>
                  </a:lnTo>
                  <a:lnTo>
                    <a:pt x="880" y="494"/>
                  </a:lnTo>
                  <a:lnTo>
                    <a:pt x="866" y="480"/>
                  </a:lnTo>
                  <a:lnTo>
                    <a:pt x="839" y="454"/>
                  </a:lnTo>
                  <a:lnTo>
                    <a:pt x="806" y="422"/>
                  </a:lnTo>
                  <a:lnTo>
                    <a:pt x="768" y="381"/>
                  </a:lnTo>
                  <a:lnTo>
                    <a:pt x="726" y="335"/>
                  </a:lnTo>
                  <a:lnTo>
                    <a:pt x="679" y="282"/>
                  </a:lnTo>
                  <a:lnTo>
                    <a:pt x="639" y="238"/>
                  </a:lnTo>
                  <a:lnTo>
                    <a:pt x="621" y="220"/>
                  </a:lnTo>
                  <a:lnTo>
                    <a:pt x="604" y="204"/>
                  </a:lnTo>
                  <a:lnTo>
                    <a:pt x="589" y="191"/>
                  </a:lnTo>
                  <a:lnTo>
                    <a:pt x="576" y="180"/>
                  </a:lnTo>
                  <a:lnTo>
                    <a:pt x="566" y="194"/>
                  </a:lnTo>
                  <a:lnTo>
                    <a:pt x="556" y="204"/>
                  </a:lnTo>
                  <a:lnTo>
                    <a:pt x="518" y="262"/>
                  </a:lnTo>
                  <a:lnTo>
                    <a:pt x="480" y="316"/>
                  </a:lnTo>
                  <a:lnTo>
                    <a:pt x="441" y="369"/>
                  </a:lnTo>
                  <a:lnTo>
                    <a:pt x="401" y="419"/>
                  </a:lnTo>
                  <a:lnTo>
                    <a:pt x="360" y="469"/>
                  </a:lnTo>
                  <a:lnTo>
                    <a:pt x="320" y="516"/>
                  </a:lnTo>
                  <a:lnTo>
                    <a:pt x="278" y="561"/>
                  </a:lnTo>
                  <a:lnTo>
                    <a:pt x="236" y="605"/>
                  </a:lnTo>
                  <a:lnTo>
                    <a:pt x="221" y="619"/>
                  </a:lnTo>
                  <a:lnTo>
                    <a:pt x="205" y="631"/>
                  </a:lnTo>
                  <a:lnTo>
                    <a:pt x="190" y="642"/>
                  </a:lnTo>
                  <a:lnTo>
                    <a:pt x="174" y="650"/>
                  </a:lnTo>
                  <a:lnTo>
                    <a:pt x="159" y="658"/>
                  </a:lnTo>
                  <a:lnTo>
                    <a:pt x="144" y="663"/>
                  </a:lnTo>
                  <a:lnTo>
                    <a:pt x="129" y="667"/>
                  </a:lnTo>
                  <a:lnTo>
                    <a:pt x="115" y="668"/>
                  </a:lnTo>
                  <a:lnTo>
                    <a:pt x="100" y="668"/>
                  </a:lnTo>
                  <a:lnTo>
                    <a:pt x="85" y="667"/>
                  </a:lnTo>
                  <a:lnTo>
                    <a:pt x="71" y="664"/>
                  </a:lnTo>
                  <a:lnTo>
                    <a:pt x="56" y="659"/>
                  </a:lnTo>
                  <a:lnTo>
                    <a:pt x="43" y="652"/>
                  </a:lnTo>
                  <a:lnTo>
                    <a:pt x="29" y="643"/>
                  </a:lnTo>
                  <a:lnTo>
                    <a:pt x="15" y="632"/>
                  </a:lnTo>
                  <a:lnTo>
                    <a:pt x="0" y="620"/>
                  </a:lnTo>
                  <a:lnTo>
                    <a:pt x="31" y="608"/>
                  </a:lnTo>
                  <a:lnTo>
                    <a:pt x="61" y="593"/>
                  </a:lnTo>
                  <a:lnTo>
                    <a:pt x="90" y="577"/>
                  </a:lnTo>
                  <a:lnTo>
                    <a:pt x="120" y="560"/>
                  </a:lnTo>
                  <a:lnTo>
                    <a:pt x="150" y="540"/>
                  </a:lnTo>
                  <a:lnTo>
                    <a:pt x="179" y="519"/>
                  </a:lnTo>
                  <a:lnTo>
                    <a:pt x="209" y="495"/>
                  </a:lnTo>
                  <a:lnTo>
                    <a:pt x="239" y="470"/>
                  </a:lnTo>
                  <a:lnTo>
                    <a:pt x="268" y="443"/>
                  </a:lnTo>
                  <a:lnTo>
                    <a:pt x="297" y="413"/>
                  </a:lnTo>
                  <a:lnTo>
                    <a:pt x="326" y="382"/>
                  </a:lnTo>
                  <a:lnTo>
                    <a:pt x="355" y="349"/>
                  </a:lnTo>
                  <a:lnTo>
                    <a:pt x="385" y="315"/>
                  </a:lnTo>
                  <a:lnTo>
                    <a:pt x="413" y="278"/>
                  </a:lnTo>
                  <a:lnTo>
                    <a:pt x="442" y="240"/>
                  </a:lnTo>
                  <a:lnTo>
                    <a:pt x="470" y="200"/>
                  </a:lnTo>
                  <a:lnTo>
                    <a:pt x="488" y="170"/>
                  </a:lnTo>
                  <a:lnTo>
                    <a:pt x="504" y="142"/>
                  </a:lnTo>
                  <a:lnTo>
                    <a:pt x="517" y="115"/>
                  </a:lnTo>
                  <a:lnTo>
                    <a:pt x="529" y="90"/>
                  </a:lnTo>
                  <a:lnTo>
                    <a:pt x="537" y="65"/>
                  </a:lnTo>
                  <a:lnTo>
                    <a:pt x="544" y="42"/>
                  </a:lnTo>
                  <a:lnTo>
                    <a:pt x="549" y="20"/>
                  </a:lnTo>
                  <a:lnTo>
                    <a:pt x="551" y="0"/>
                  </a:lnTo>
                  <a:close/>
                  <a:moveTo>
                    <a:pt x="641" y="915"/>
                  </a:moveTo>
                  <a:lnTo>
                    <a:pt x="630" y="901"/>
                  </a:lnTo>
                  <a:lnTo>
                    <a:pt x="662" y="875"/>
                  </a:lnTo>
                  <a:lnTo>
                    <a:pt x="689" y="851"/>
                  </a:lnTo>
                  <a:lnTo>
                    <a:pt x="701" y="839"/>
                  </a:lnTo>
                  <a:lnTo>
                    <a:pt x="713" y="827"/>
                  </a:lnTo>
                  <a:lnTo>
                    <a:pt x="724" y="816"/>
                  </a:lnTo>
                  <a:lnTo>
                    <a:pt x="733" y="804"/>
                  </a:lnTo>
                  <a:lnTo>
                    <a:pt x="743" y="792"/>
                  </a:lnTo>
                  <a:lnTo>
                    <a:pt x="750" y="781"/>
                  </a:lnTo>
                  <a:lnTo>
                    <a:pt x="758" y="769"/>
                  </a:lnTo>
                  <a:lnTo>
                    <a:pt x="764" y="759"/>
                  </a:lnTo>
                  <a:lnTo>
                    <a:pt x="769" y="748"/>
                  </a:lnTo>
                  <a:lnTo>
                    <a:pt x="774" y="736"/>
                  </a:lnTo>
                  <a:lnTo>
                    <a:pt x="778" y="726"/>
                  </a:lnTo>
                  <a:lnTo>
                    <a:pt x="781" y="715"/>
                  </a:lnTo>
                  <a:lnTo>
                    <a:pt x="791" y="731"/>
                  </a:lnTo>
                  <a:lnTo>
                    <a:pt x="804" y="746"/>
                  </a:lnTo>
                  <a:lnTo>
                    <a:pt x="817" y="760"/>
                  </a:lnTo>
                  <a:lnTo>
                    <a:pt x="831" y="772"/>
                  </a:lnTo>
                  <a:lnTo>
                    <a:pt x="846" y="785"/>
                  </a:lnTo>
                  <a:lnTo>
                    <a:pt x="863" y="796"/>
                  </a:lnTo>
                  <a:lnTo>
                    <a:pt x="881" y="806"/>
                  </a:lnTo>
                  <a:lnTo>
                    <a:pt x="902" y="815"/>
                  </a:lnTo>
                  <a:lnTo>
                    <a:pt x="890" y="817"/>
                  </a:lnTo>
                  <a:lnTo>
                    <a:pt x="878" y="820"/>
                  </a:lnTo>
                  <a:lnTo>
                    <a:pt x="864" y="824"/>
                  </a:lnTo>
                  <a:lnTo>
                    <a:pt x="850" y="828"/>
                  </a:lnTo>
                  <a:lnTo>
                    <a:pt x="816" y="842"/>
                  </a:lnTo>
                  <a:lnTo>
                    <a:pt x="776" y="860"/>
                  </a:lnTo>
                  <a:lnTo>
                    <a:pt x="735" y="878"/>
                  </a:lnTo>
                  <a:lnTo>
                    <a:pt x="700" y="894"/>
                  </a:lnTo>
                  <a:lnTo>
                    <a:pt x="669" y="906"/>
                  </a:lnTo>
                  <a:lnTo>
                    <a:pt x="641" y="915"/>
                  </a:lnTo>
                  <a:close/>
                  <a:moveTo>
                    <a:pt x="345" y="796"/>
                  </a:moveTo>
                  <a:lnTo>
                    <a:pt x="392" y="818"/>
                  </a:lnTo>
                  <a:lnTo>
                    <a:pt x="427" y="836"/>
                  </a:lnTo>
                  <a:lnTo>
                    <a:pt x="440" y="844"/>
                  </a:lnTo>
                  <a:lnTo>
                    <a:pt x="450" y="851"/>
                  </a:lnTo>
                  <a:lnTo>
                    <a:pt x="457" y="856"/>
                  </a:lnTo>
                  <a:lnTo>
                    <a:pt x="461" y="860"/>
                  </a:lnTo>
                  <a:lnTo>
                    <a:pt x="462" y="866"/>
                  </a:lnTo>
                  <a:lnTo>
                    <a:pt x="462" y="873"/>
                  </a:lnTo>
                  <a:lnTo>
                    <a:pt x="461" y="881"/>
                  </a:lnTo>
                  <a:lnTo>
                    <a:pt x="459" y="891"/>
                  </a:lnTo>
                  <a:lnTo>
                    <a:pt x="451" y="915"/>
                  </a:lnTo>
                  <a:lnTo>
                    <a:pt x="441" y="945"/>
                  </a:lnTo>
                  <a:lnTo>
                    <a:pt x="438" y="954"/>
                  </a:lnTo>
                  <a:lnTo>
                    <a:pt x="434" y="960"/>
                  </a:lnTo>
                  <a:lnTo>
                    <a:pt x="432" y="962"/>
                  </a:lnTo>
                  <a:lnTo>
                    <a:pt x="430" y="964"/>
                  </a:lnTo>
                  <a:lnTo>
                    <a:pt x="428" y="965"/>
                  </a:lnTo>
                  <a:lnTo>
                    <a:pt x="426" y="965"/>
                  </a:lnTo>
                  <a:lnTo>
                    <a:pt x="423" y="964"/>
                  </a:lnTo>
                  <a:lnTo>
                    <a:pt x="420" y="961"/>
                  </a:lnTo>
                  <a:lnTo>
                    <a:pt x="415" y="957"/>
                  </a:lnTo>
                  <a:lnTo>
                    <a:pt x="411" y="950"/>
                  </a:lnTo>
                  <a:lnTo>
                    <a:pt x="410" y="949"/>
                  </a:lnTo>
                  <a:lnTo>
                    <a:pt x="406" y="945"/>
                  </a:lnTo>
                  <a:lnTo>
                    <a:pt x="394" y="928"/>
                  </a:lnTo>
                  <a:lnTo>
                    <a:pt x="383" y="910"/>
                  </a:lnTo>
                  <a:lnTo>
                    <a:pt x="372" y="893"/>
                  </a:lnTo>
                  <a:lnTo>
                    <a:pt x="362" y="876"/>
                  </a:lnTo>
                  <a:lnTo>
                    <a:pt x="353" y="859"/>
                  </a:lnTo>
                  <a:lnTo>
                    <a:pt x="344" y="843"/>
                  </a:lnTo>
                  <a:lnTo>
                    <a:pt x="337" y="826"/>
                  </a:lnTo>
                  <a:lnTo>
                    <a:pt x="331" y="810"/>
                  </a:lnTo>
                  <a:lnTo>
                    <a:pt x="327" y="798"/>
                  </a:lnTo>
                  <a:lnTo>
                    <a:pt x="326" y="790"/>
                  </a:lnTo>
                  <a:lnTo>
                    <a:pt x="329" y="788"/>
                  </a:lnTo>
                  <a:lnTo>
                    <a:pt x="334" y="789"/>
                  </a:lnTo>
                  <a:lnTo>
                    <a:pt x="339" y="791"/>
                  </a:lnTo>
                  <a:lnTo>
                    <a:pt x="345" y="796"/>
                  </a:lnTo>
                  <a:close/>
                </a:path>
              </a:pathLst>
            </a:custGeom>
            <a:solidFill>
              <a:schemeClr val="tx1"/>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d79f00"/>
                </a:solidFill>
                <a:latin typeface="Arial"/>
                <a:ea typeface="宋体"/>
              </a:endParaRPr>
            </a:p>
          </p:txBody>
        </p:sp>
        <p:sp>
          <p:nvSpPr>
            <p:cNvPr id="327" name="Freeform 14"/>
            <p:cNvSpPr/>
            <p:nvPr/>
          </p:nvSpPr>
          <p:spPr>
            <a:xfrm>
              <a:off x="2682000" y="9360000"/>
              <a:ext cx="231120" cy="195480"/>
            </a:xfrm>
            <a:custGeom>
              <a:avLst/>
              <a:gdLst>
                <a:gd name="textAreaLeft" fmla="*/ 0 w 231120"/>
                <a:gd name="textAreaRight" fmla="*/ 231480 w 231120"/>
                <a:gd name="textAreaTop" fmla="*/ 0 h 195480"/>
                <a:gd name="textAreaBottom" fmla="*/ 195840 h 195480"/>
              </a:gdLst>
              <a:ahLst/>
              <a:rect l="textAreaLeft" t="textAreaTop" r="textAreaRight" b="textAreaBottom"/>
              <a:pathLst>
                <a:path w="1185" h="1056">
                  <a:moveTo>
                    <a:pt x="695" y="800"/>
                  </a:moveTo>
                  <a:lnTo>
                    <a:pt x="687" y="792"/>
                  </a:lnTo>
                  <a:lnTo>
                    <a:pt x="674" y="781"/>
                  </a:lnTo>
                  <a:lnTo>
                    <a:pt x="659" y="766"/>
                  </a:lnTo>
                  <a:lnTo>
                    <a:pt x="647" y="754"/>
                  </a:lnTo>
                  <a:lnTo>
                    <a:pt x="643" y="749"/>
                  </a:lnTo>
                  <a:lnTo>
                    <a:pt x="638" y="744"/>
                  </a:lnTo>
                  <a:lnTo>
                    <a:pt x="636" y="739"/>
                  </a:lnTo>
                  <a:lnTo>
                    <a:pt x="634" y="735"/>
                  </a:lnTo>
                  <a:lnTo>
                    <a:pt x="639" y="714"/>
                  </a:lnTo>
                  <a:lnTo>
                    <a:pt x="644" y="693"/>
                  </a:lnTo>
                  <a:lnTo>
                    <a:pt x="648" y="670"/>
                  </a:lnTo>
                  <a:lnTo>
                    <a:pt x="651" y="648"/>
                  </a:lnTo>
                  <a:lnTo>
                    <a:pt x="653" y="626"/>
                  </a:lnTo>
                  <a:lnTo>
                    <a:pt x="655" y="603"/>
                  </a:lnTo>
                  <a:lnTo>
                    <a:pt x="656" y="578"/>
                  </a:lnTo>
                  <a:lnTo>
                    <a:pt x="656" y="554"/>
                  </a:lnTo>
                  <a:lnTo>
                    <a:pt x="656" y="528"/>
                  </a:lnTo>
                  <a:lnTo>
                    <a:pt x="655" y="503"/>
                  </a:lnTo>
                  <a:lnTo>
                    <a:pt x="653" y="478"/>
                  </a:lnTo>
                  <a:lnTo>
                    <a:pt x="651" y="451"/>
                  </a:lnTo>
                  <a:lnTo>
                    <a:pt x="648" y="423"/>
                  </a:lnTo>
                  <a:lnTo>
                    <a:pt x="644" y="396"/>
                  </a:lnTo>
                  <a:lnTo>
                    <a:pt x="639" y="368"/>
                  </a:lnTo>
                  <a:lnTo>
                    <a:pt x="634" y="340"/>
                  </a:lnTo>
                  <a:lnTo>
                    <a:pt x="655" y="347"/>
                  </a:lnTo>
                  <a:lnTo>
                    <a:pt x="677" y="355"/>
                  </a:lnTo>
                  <a:lnTo>
                    <a:pt x="700" y="362"/>
                  </a:lnTo>
                  <a:lnTo>
                    <a:pt x="724" y="369"/>
                  </a:lnTo>
                  <a:lnTo>
                    <a:pt x="731" y="369"/>
                  </a:lnTo>
                  <a:lnTo>
                    <a:pt x="739" y="369"/>
                  </a:lnTo>
                  <a:lnTo>
                    <a:pt x="753" y="366"/>
                  </a:lnTo>
                  <a:lnTo>
                    <a:pt x="764" y="365"/>
                  </a:lnTo>
                  <a:lnTo>
                    <a:pt x="775" y="341"/>
                  </a:lnTo>
                  <a:lnTo>
                    <a:pt x="785" y="316"/>
                  </a:lnTo>
                  <a:lnTo>
                    <a:pt x="792" y="294"/>
                  </a:lnTo>
                  <a:lnTo>
                    <a:pt x="798" y="273"/>
                  </a:lnTo>
                  <a:lnTo>
                    <a:pt x="803" y="253"/>
                  </a:lnTo>
                  <a:lnTo>
                    <a:pt x="807" y="234"/>
                  </a:lnTo>
                  <a:lnTo>
                    <a:pt x="809" y="217"/>
                  </a:lnTo>
                  <a:lnTo>
                    <a:pt x="810" y="200"/>
                  </a:lnTo>
                  <a:lnTo>
                    <a:pt x="764" y="206"/>
                  </a:lnTo>
                  <a:lnTo>
                    <a:pt x="723" y="213"/>
                  </a:lnTo>
                  <a:lnTo>
                    <a:pt x="686" y="217"/>
                  </a:lnTo>
                  <a:lnTo>
                    <a:pt x="654" y="220"/>
                  </a:lnTo>
                  <a:lnTo>
                    <a:pt x="647" y="218"/>
                  </a:lnTo>
                  <a:lnTo>
                    <a:pt x="638" y="215"/>
                  </a:lnTo>
                  <a:lnTo>
                    <a:pt x="630" y="209"/>
                  </a:lnTo>
                  <a:lnTo>
                    <a:pt x="620" y="203"/>
                  </a:lnTo>
                  <a:lnTo>
                    <a:pt x="611" y="196"/>
                  </a:lnTo>
                  <a:lnTo>
                    <a:pt x="601" y="187"/>
                  </a:lnTo>
                  <a:lnTo>
                    <a:pt x="591" y="177"/>
                  </a:lnTo>
                  <a:lnTo>
                    <a:pt x="579" y="165"/>
                  </a:lnTo>
                  <a:lnTo>
                    <a:pt x="605" y="161"/>
                  </a:lnTo>
                  <a:lnTo>
                    <a:pt x="637" y="155"/>
                  </a:lnTo>
                  <a:lnTo>
                    <a:pt x="679" y="148"/>
                  </a:lnTo>
                  <a:lnTo>
                    <a:pt x="728" y="138"/>
                  </a:lnTo>
                  <a:lnTo>
                    <a:pt x="786" y="127"/>
                  </a:lnTo>
                  <a:lnTo>
                    <a:pt x="850" y="113"/>
                  </a:lnTo>
                  <a:lnTo>
                    <a:pt x="923" y="97"/>
                  </a:lnTo>
                  <a:lnTo>
                    <a:pt x="1005" y="80"/>
                  </a:lnTo>
                  <a:lnTo>
                    <a:pt x="1037" y="71"/>
                  </a:lnTo>
                  <a:lnTo>
                    <a:pt x="1064" y="63"/>
                  </a:lnTo>
                  <a:lnTo>
                    <a:pt x="1088" y="58"/>
                  </a:lnTo>
                  <a:lnTo>
                    <a:pt x="1104" y="55"/>
                  </a:lnTo>
                  <a:lnTo>
                    <a:pt x="1108" y="53"/>
                  </a:lnTo>
                  <a:lnTo>
                    <a:pt x="1112" y="52"/>
                  </a:lnTo>
                  <a:lnTo>
                    <a:pt x="1115" y="50"/>
                  </a:lnTo>
                  <a:lnTo>
                    <a:pt x="1118" y="50"/>
                  </a:lnTo>
                  <a:lnTo>
                    <a:pt x="1121" y="52"/>
                  </a:lnTo>
                  <a:lnTo>
                    <a:pt x="1125" y="54"/>
                  </a:lnTo>
                  <a:lnTo>
                    <a:pt x="1127" y="56"/>
                  </a:lnTo>
                  <a:lnTo>
                    <a:pt x="1130" y="60"/>
                  </a:lnTo>
                  <a:lnTo>
                    <a:pt x="1136" y="66"/>
                  </a:lnTo>
                  <a:lnTo>
                    <a:pt x="1145" y="75"/>
                  </a:lnTo>
                  <a:lnTo>
                    <a:pt x="1150" y="79"/>
                  </a:lnTo>
                  <a:lnTo>
                    <a:pt x="1158" y="85"/>
                  </a:lnTo>
                  <a:lnTo>
                    <a:pt x="1168" y="96"/>
                  </a:lnTo>
                  <a:lnTo>
                    <a:pt x="1180" y="110"/>
                  </a:lnTo>
                  <a:lnTo>
                    <a:pt x="1183" y="118"/>
                  </a:lnTo>
                  <a:lnTo>
                    <a:pt x="1185" y="125"/>
                  </a:lnTo>
                  <a:lnTo>
                    <a:pt x="1182" y="127"/>
                  </a:lnTo>
                  <a:lnTo>
                    <a:pt x="1179" y="128"/>
                  </a:lnTo>
                  <a:lnTo>
                    <a:pt x="1174" y="129"/>
                  </a:lnTo>
                  <a:lnTo>
                    <a:pt x="1169" y="130"/>
                  </a:lnTo>
                  <a:lnTo>
                    <a:pt x="1139" y="135"/>
                  </a:lnTo>
                  <a:lnTo>
                    <a:pt x="1106" y="142"/>
                  </a:lnTo>
                  <a:lnTo>
                    <a:pt x="1068" y="148"/>
                  </a:lnTo>
                  <a:lnTo>
                    <a:pt x="1028" y="155"/>
                  </a:lnTo>
                  <a:lnTo>
                    <a:pt x="985" y="165"/>
                  </a:lnTo>
                  <a:lnTo>
                    <a:pt x="938" y="173"/>
                  </a:lnTo>
                  <a:lnTo>
                    <a:pt x="887" y="184"/>
                  </a:lnTo>
                  <a:lnTo>
                    <a:pt x="834" y="195"/>
                  </a:lnTo>
                  <a:lnTo>
                    <a:pt x="846" y="201"/>
                  </a:lnTo>
                  <a:lnTo>
                    <a:pt x="858" y="206"/>
                  </a:lnTo>
                  <a:lnTo>
                    <a:pt x="869" y="212"/>
                  </a:lnTo>
                  <a:lnTo>
                    <a:pt x="882" y="216"/>
                  </a:lnTo>
                  <a:lnTo>
                    <a:pt x="895" y="220"/>
                  </a:lnTo>
                  <a:lnTo>
                    <a:pt x="907" y="224"/>
                  </a:lnTo>
                  <a:lnTo>
                    <a:pt x="921" y="227"/>
                  </a:lnTo>
                  <a:lnTo>
                    <a:pt x="935" y="230"/>
                  </a:lnTo>
                  <a:lnTo>
                    <a:pt x="925" y="237"/>
                  </a:lnTo>
                  <a:lnTo>
                    <a:pt x="913" y="249"/>
                  </a:lnTo>
                  <a:lnTo>
                    <a:pt x="898" y="265"/>
                  </a:lnTo>
                  <a:lnTo>
                    <a:pt x="880" y="285"/>
                  </a:lnTo>
                  <a:lnTo>
                    <a:pt x="862" y="306"/>
                  </a:lnTo>
                  <a:lnTo>
                    <a:pt x="846" y="326"/>
                  </a:lnTo>
                  <a:lnTo>
                    <a:pt x="830" y="344"/>
                  </a:lnTo>
                  <a:lnTo>
                    <a:pt x="814" y="360"/>
                  </a:lnTo>
                  <a:lnTo>
                    <a:pt x="841" y="354"/>
                  </a:lnTo>
                  <a:lnTo>
                    <a:pt x="866" y="346"/>
                  </a:lnTo>
                  <a:lnTo>
                    <a:pt x="889" y="340"/>
                  </a:lnTo>
                  <a:lnTo>
                    <a:pt x="911" y="332"/>
                  </a:lnTo>
                  <a:lnTo>
                    <a:pt x="931" y="325"/>
                  </a:lnTo>
                  <a:lnTo>
                    <a:pt x="949" y="316"/>
                  </a:lnTo>
                  <a:lnTo>
                    <a:pt x="965" y="308"/>
                  </a:lnTo>
                  <a:lnTo>
                    <a:pt x="979" y="299"/>
                  </a:lnTo>
                  <a:lnTo>
                    <a:pt x="994" y="310"/>
                  </a:lnTo>
                  <a:lnTo>
                    <a:pt x="1009" y="320"/>
                  </a:lnTo>
                  <a:lnTo>
                    <a:pt x="1026" y="328"/>
                  </a:lnTo>
                  <a:lnTo>
                    <a:pt x="1043" y="336"/>
                  </a:lnTo>
                  <a:lnTo>
                    <a:pt x="1062" y="342"/>
                  </a:lnTo>
                  <a:lnTo>
                    <a:pt x="1081" y="347"/>
                  </a:lnTo>
                  <a:lnTo>
                    <a:pt x="1102" y="351"/>
                  </a:lnTo>
                  <a:lnTo>
                    <a:pt x="1125" y="355"/>
                  </a:lnTo>
                  <a:lnTo>
                    <a:pt x="1120" y="359"/>
                  </a:lnTo>
                  <a:lnTo>
                    <a:pt x="1117" y="365"/>
                  </a:lnTo>
                  <a:lnTo>
                    <a:pt x="1114" y="373"/>
                  </a:lnTo>
                  <a:lnTo>
                    <a:pt x="1112" y="382"/>
                  </a:lnTo>
                  <a:lnTo>
                    <a:pt x="1107" y="404"/>
                  </a:lnTo>
                  <a:lnTo>
                    <a:pt x="1103" y="434"/>
                  </a:lnTo>
                  <a:lnTo>
                    <a:pt x="1100" y="469"/>
                  </a:lnTo>
                  <a:lnTo>
                    <a:pt x="1099" y="509"/>
                  </a:lnTo>
                  <a:lnTo>
                    <a:pt x="1099" y="557"/>
                  </a:lnTo>
                  <a:lnTo>
                    <a:pt x="1099" y="610"/>
                  </a:lnTo>
                  <a:lnTo>
                    <a:pt x="1100" y="642"/>
                  </a:lnTo>
                  <a:lnTo>
                    <a:pt x="1101" y="670"/>
                  </a:lnTo>
                  <a:lnTo>
                    <a:pt x="1102" y="697"/>
                  </a:lnTo>
                  <a:lnTo>
                    <a:pt x="1102" y="721"/>
                  </a:lnTo>
                  <a:lnTo>
                    <a:pt x="1102" y="744"/>
                  </a:lnTo>
                  <a:lnTo>
                    <a:pt x="1101" y="763"/>
                  </a:lnTo>
                  <a:lnTo>
                    <a:pt x="1100" y="781"/>
                  </a:lnTo>
                  <a:lnTo>
                    <a:pt x="1099" y="795"/>
                  </a:lnTo>
                  <a:lnTo>
                    <a:pt x="1097" y="802"/>
                  </a:lnTo>
                  <a:lnTo>
                    <a:pt x="1095" y="807"/>
                  </a:lnTo>
                  <a:lnTo>
                    <a:pt x="1092" y="812"/>
                  </a:lnTo>
                  <a:lnTo>
                    <a:pt x="1090" y="816"/>
                  </a:lnTo>
                  <a:lnTo>
                    <a:pt x="1084" y="815"/>
                  </a:lnTo>
                  <a:lnTo>
                    <a:pt x="1078" y="811"/>
                  </a:lnTo>
                  <a:lnTo>
                    <a:pt x="1072" y="807"/>
                  </a:lnTo>
                  <a:lnTo>
                    <a:pt x="1064" y="800"/>
                  </a:lnTo>
                  <a:lnTo>
                    <a:pt x="1059" y="794"/>
                  </a:lnTo>
                  <a:lnTo>
                    <a:pt x="1050" y="786"/>
                  </a:lnTo>
                  <a:lnTo>
                    <a:pt x="1041" y="776"/>
                  </a:lnTo>
                  <a:lnTo>
                    <a:pt x="1029" y="765"/>
                  </a:lnTo>
                  <a:lnTo>
                    <a:pt x="1008" y="746"/>
                  </a:lnTo>
                  <a:lnTo>
                    <a:pt x="992" y="730"/>
                  </a:lnTo>
                  <a:lnTo>
                    <a:pt x="983" y="720"/>
                  </a:lnTo>
                  <a:lnTo>
                    <a:pt x="979" y="715"/>
                  </a:lnTo>
                  <a:lnTo>
                    <a:pt x="981" y="710"/>
                  </a:lnTo>
                  <a:lnTo>
                    <a:pt x="982" y="704"/>
                  </a:lnTo>
                  <a:lnTo>
                    <a:pt x="985" y="697"/>
                  </a:lnTo>
                  <a:lnTo>
                    <a:pt x="989" y="691"/>
                  </a:lnTo>
                  <a:lnTo>
                    <a:pt x="994" y="682"/>
                  </a:lnTo>
                  <a:lnTo>
                    <a:pt x="997" y="675"/>
                  </a:lnTo>
                  <a:lnTo>
                    <a:pt x="999" y="667"/>
                  </a:lnTo>
                  <a:lnTo>
                    <a:pt x="1000" y="660"/>
                  </a:lnTo>
                  <a:lnTo>
                    <a:pt x="1000" y="642"/>
                  </a:lnTo>
                  <a:lnTo>
                    <a:pt x="1000" y="623"/>
                  </a:lnTo>
                  <a:lnTo>
                    <a:pt x="1000" y="602"/>
                  </a:lnTo>
                  <a:lnTo>
                    <a:pt x="1000" y="580"/>
                  </a:lnTo>
                  <a:lnTo>
                    <a:pt x="1001" y="542"/>
                  </a:lnTo>
                  <a:lnTo>
                    <a:pt x="1001" y="506"/>
                  </a:lnTo>
                  <a:lnTo>
                    <a:pt x="999" y="470"/>
                  </a:lnTo>
                  <a:lnTo>
                    <a:pt x="994" y="435"/>
                  </a:lnTo>
                  <a:lnTo>
                    <a:pt x="993" y="418"/>
                  </a:lnTo>
                  <a:lnTo>
                    <a:pt x="991" y="404"/>
                  </a:lnTo>
                  <a:lnTo>
                    <a:pt x="989" y="393"/>
                  </a:lnTo>
                  <a:lnTo>
                    <a:pt x="987" y="383"/>
                  </a:lnTo>
                  <a:lnTo>
                    <a:pt x="985" y="377"/>
                  </a:lnTo>
                  <a:lnTo>
                    <a:pt x="982" y="372"/>
                  </a:lnTo>
                  <a:lnTo>
                    <a:pt x="979" y="370"/>
                  </a:lnTo>
                  <a:lnTo>
                    <a:pt x="978" y="369"/>
                  </a:lnTo>
                  <a:lnTo>
                    <a:pt x="976" y="369"/>
                  </a:lnTo>
                  <a:lnTo>
                    <a:pt x="974" y="369"/>
                  </a:lnTo>
                  <a:lnTo>
                    <a:pt x="959" y="374"/>
                  </a:lnTo>
                  <a:lnTo>
                    <a:pt x="939" y="379"/>
                  </a:lnTo>
                  <a:lnTo>
                    <a:pt x="915" y="385"/>
                  </a:lnTo>
                  <a:lnTo>
                    <a:pt x="884" y="395"/>
                  </a:lnTo>
                  <a:lnTo>
                    <a:pt x="839" y="407"/>
                  </a:lnTo>
                  <a:lnTo>
                    <a:pt x="799" y="416"/>
                  </a:lnTo>
                  <a:lnTo>
                    <a:pt x="768" y="423"/>
                  </a:lnTo>
                  <a:lnTo>
                    <a:pt x="744" y="430"/>
                  </a:lnTo>
                  <a:lnTo>
                    <a:pt x="724" y="404"/>
                  </a:lnTo>
                  <a:lnTo>
                    <a:pt x="724" y="418"/>
                  </a:lnTo>
                  <a:lnTo>
                    <a:pt x="724" y="435"/>
                  </a:lnTo>
                  <a:lnTo>
                    <a:pt x="724" y="453"/>
                  </a:lnTo>
                  <a:lnTo>
                    <a:pt x="724" y="474"/>
                  </a:lnTo>
                  <a:lnTo>
                    <a:pt x="724" y="499"/>
                  </a:lnTo>
                  <a:lnTo>
                    <a:pt x="724" y="525"/>
                  </a:lnTo>
                  <a:lnTo>
                    <a:pt x="724" y="554"/>
                  </a:lnTo>
                  <a:lnTo>
                    <a:pt x="724" y="585"/>
                  </a:lnTo>
                  <a:lnTo>
                    <a:pt x="723" y="620"/>
                  </a:lnTo>
                  <a:lnTo>
                    <a:pt x="722" y="652"/>
                  </a:lnTo>
                  <a:lnTo>
                    <a:pt x="721" y="682"/>
                  </a:lnTo>
                  <a:lnTo>
                    <a:pt x="721" y="709"/>
                  </a:lnTo>
                  <a:lnTo>
                    <a:pt x="720" y="733"/>
                  </a:lnTo>
                  <a:lnTo>
                    <a:pt x="720" y="755"/>
                  </a:lnTo>
                  <a:lnTo>
                    <a:pt x="720" y="774"/>
                  </a:lnTo>
                  <a:lnTo>
                    <a:pt x="720" y="790"/>
                  </a:lnTo>
                  <a:lnTo>
                    <a:pt x="719" y="796"/>
                  </a:lnTo>
                  <a:lnTo>
                    <a:pt x="717" y="802"/>
                  </a:lnTo>
                  <a:lnTo>
                    <a:pt x="716" y="803"/>
                  </a:lnTo>
                  <a:lnTo>
                    <a:pt x="714" y="804"/>
                  </a:lnTo>
                  <a:lnTo>
                    <a:pt x="712" y="805"/>
                  </a:lnTo>
                  <a:lnTo>
                    <a:pt x="709" y="805"/>
                  </a:lnTo>
                  <a:lnTo>
                    <a:pt x="706" y="807"/>
                  </a:lnTo>
                  <a:lnTo>
                    <a:pt x="703" y="806"/>
                  </a:lnTo>
                  <a:lnTo>
                    <a:pt x="699" y="804"/>
                  </a:lnTo>
                  <a:lnTo>
                    <a:pt x="695" y="800"/>
                  </a:lnTo>
                  <a:close/>
                  <a:moveTo>
                    <a:pt x="414" y="170"/>
                  </a:moveTo>
                  <a:lnTo>
                    <a:pt x="445" y="180"/>
                  </a:lnTo>
                  <a:lnTo>
                    <a:pt x="473" y="189"/>
                  </a:lnTo>
                  <a:lnTo>
                    <a:pt x="499" y="199"/>
                  </a:lnTo>
                  <a:lnTo>
                    <a:pt x="523" y="208"/>
                  </a:lnTo>
                  <a:lnTo>
                    <a:pt x="545" y="218"/>
                  </a:lnTo>
                  <a:lnTo>
                    <a:pt x="565" y="226"/>
                  </a:lnTo>
                  <a:lnTo>
                    <a:pt x="583" y="236"/>
                  </a:lnTo>
                  <a:lnTo>
                    <a:pt x="599" y="244"/>
                  </a:lnTo>
                  <a:lnTo>
                    <a:pt x="601" y="252"/>
                  </a:lnTo>
                  <a:lnTo>
                    <a:pt x="603" y="259"/>
                  </a:lnTo>
                  <a:lnTo>
                    <a:pt x="605" y="269"/>
                  </a:lnTo>
                  <a:lnTo>
                    <a:pt x="606" y="279"/>
                  </a:lnTo>
                  <a:lnTo>
                    <a:pt x="606" y="305"/>
                  </a:lnTo>
                  <a:lnTo>
                    <a:pt x="605" y="334"/>
                  </a:lnTo>
                  <a:lnTo>
                    <a:pt x="602" y="341"/>
                  </a:lnTo>
                  <a:lnTo>
                    <a:pt x="600" y="345"/>
                  </a:lnTo>
                  <a:lnTo>
                    <a:pt x="598" y="348"/>
                  </a:lnTo>
                  <a:lnTo>
                    <a:pt x="594" y="351"/>
                  </a:lnTo>
                  <a:lnTo>
                    <a:pt x="591" y="352"/>
                  </a:lnTo>
                  <a:lnTo>
                    <a:pt x="585" y="352"/>
                  </a:lnTo>
                  <a:lnTo>
                    <a:pt x="580" y="351"/>
                  </a:lnTo>
                  <a:lnTo>
                    <a:pt x="574" y="349"/>
                  </a:lnTo>
                  <a:lnTo>
                    <a:pt x="548" y="329"/>
                  </a:lnTo>
                  <a:lnTo>
                    <a:pt x="524" y="308"/>
                  </a:lnTo>
                  <a:lnTo>
                    <a:pt x="501" y="288"/>
                  </a:lnTo>
                  <a:lnTo>
                    <a:pt x="480" y="269"/>
                  </a:lnTo>
                  <a:lnTo>
                    <a:pt x="458" y="250"/>
                  </a:lnTo>
                  <a:lnTo>
                    <a:pt x="439" y="231"/>
                  </a:lnTo>
                  <a:lnTo>
                    <a:pt x="421" y="213"/>
                  </a:lnTo>
                  <a:lnTo>
                    <a:pt x="404" y="195"/>
                  </a:lnTo>
                  <a:lnTo>
                    <a:pt x="378" y="259"/>
                  </a:lnTo>
                  <a:lnTo>
                    <a:pt x="350" y="321"/>
                  </a:lnTo>
                  <a:lnTo>
                    <a:pt x="324" y="380"/>
                  </a:lnTo>
                  <a:lnTo>
                    <a:pt x="295" y="435"/>
                  </a:lnTo>
                  <a:lnTo>
                    <a:pt x="268" y="487"/>
                  </a:lnTo>
                  <a:lnTo>
                    <a:pt x="238" y="536"/>
                  </a:lnTo>
                  <a:lnTo>
                    <a:pt x="224" y="559"/>
                  </a:lnTo>
                  <a:lnTo>
                    <a:pt x="209" y="582"/>
                  </a:lnTo>
                  <a:lnTo>
                    <a:pt x="195" y="604"/>
                  </a:lnTo>
                  <a:lnTo>
                    <a:pt x="180" y="625"/>
                  </a:lnTo>
                  <a:lnTo>
                    <a:pt x="170" y="638"/>
                  </a:lnTo>
                  <a:lnTo>
                    <a:pt x="160" y="650"/>
                  </a:lnTo>
                  <a:lnTo>
                    <a:pt x="150" y="661"/>
                  </a:lnTo>
                  <a:lnTo>
                    <a:pt x="140" y="670"/>
                  </a:lnTo>
                  <a:lnTo>
                    <a:pt x="129" y="678"/>
                  </a:lnTo>
                  <a:lnTo>
                    <a:pt x="118" y="685"/>
                  </a:lnTo>
                  <a:lnTo>
                    <a:pt x="108" y="691"/>
                  </a:lnTo>
                  <a:lnTo>
                    <a:pt x="97" y="695"/>
                  </a:lnTo>
                  <a:lnTo>
                    <a:pt x="86" y="698"/>
                  </a:lnTo>
                  <a:lnTo>
                    <a:pt x="74" y="700"/>
                  </a:lnTo>
                  <a:lnTo>
                    <a:pt x="62" y="701"/>
                  </a:lnTo>
                  <a:lnTo>
                    <a:pt x="50" y="700"/>
                  </a:lnTo>
                  <a:lnTo>
                    <a:pt x="38" y="698"/>
                  </a:lnTo>
                  <a:lnTo>
                    <a:pt x="25" y="695"/>
                  </a:lnTo>
                  <a:lnTo>
                    <a:pt x="12" y="691"/>
                  </a:lnTo>
                  <a:lnTo>
                    <a:pt x="0" y="685"/>
                  </a:lnTo>
                  <a:lnTo>
                    <a:pt x="24" y="664"/>
                  </a:lnTo>
                  <a:lnTo>
                    <a:pt x="48" y="642"/>
                  </a:lnTo>
                  <a:lnTo>
                    <a:pt x="72" y="618"/>
                  </a:lnTo>
                  <a:lnTo>
                    <a:pt x="95" y="594"/>
                  </a:lnTo>
                  <a:lnTo>
                    <a:pt x="117" y="568"/>
                  </a:lnTo>
                  <a:lnTo>
                    <a:pt x="138" y="540"/>
                  </a:lnTo>
                  <a:lnTo>
                    <a:pt x="160" y="510"/>
                  </a:lnTo>
                  <a:lnTo>
                    <a:pt x="181" y="480"/>
                  </a:lnTo>
                  <a:lnTo>
                    <a:pt x="201" y="448"/>
                  </a:lnTo>
                  <a:lnTo>
                    <a:pt x="220" y="415"/>
                  </a:lnTo>
                  <a:lnTo>
                    <a:pt x="239" y="380"/>
                  </a:lnTo>
                  <a:lnTo>
                    <a:pt x="257" y="344"/>
                  </a:lnTo>
                  <a:lnTo>
                    <a:pt x="275" y="306"/>
                  </a:lnTo>
                  <a:lnTo>
                    <a:pt x="292" y="267"/>
                  </a:lnTo>
                  <a:lnTo>
                    <a:pt x="308" y="226"/>
                  </a:lnTo>
                  <a:lnTo>
                    <a:pt x="324" y="185"/>
                  </a:lnTo>
                  <a:lnTo>
                    <a:pt x="332" y="151"/>
                  </a:lnTo>
                  <a:lnTo>
                    <a:pt x="339" y="120"/>
                  </a:lnTo>
                  <a:lnTo>
                    <a:pt x="344" y="93"/>
                  </a:lnTo>
                  <a:lnTo>
                    <a:pt x="348" y="68"/>
                  </a:lnTo>
                  <a:lnTo>
                    <a:pt x="350" y="46"/>
                  </a:lnTo>
                  <a:lnTo>
                    <a:pt x="351" y="28"/>
                  </a:lnTo>
                  <a:lnTo>
                    <a:pt x="351" y="12"/>
                  </a:lnTo>
                  <a:lnTo>
                    <a:pt x="349" y="0"/>
                  </a:lnTo>
                  <a:lnTo>
                    <a:pt x="361" y="8"/>
                  </a:lnTo>
                  <a:lnTo>
                    <a:pt x="375" y="15"/>
                  </a:lnTo>
                  <a:lnTo>
                    <a:pt x="390" y="23"/>
                  </a:lnTo>
                  <a:lnTo>
                    <a:pt x="405" y="29"/>
                  </a:lnTo>
                  <a:lnTo>
                    <a:pt x="423" y="36"/>
                  </a:lnTo>
                  <a:lnTo>
                    <a:pt x="442" y="41"/>
                  </a:lnTo>
                  <a:lnTo>
                    <a:pt x="463" y="45"/>
                  </a:lnTo>
                  <a:lnTo>
                    <a:pt x="484" y="49"/>
                  </a:lnTo>
                  <a:lnTo>
                    <a:pt x="474" y="61"/>
                  </a:lnTo>
                  <a:lnTo>
                    <a:pt x="465" y="74"/>
                  </a:lnTo>
                  <a:lnTo>
                    <a:pt x="455" y="88"/>
                  </a:lnTo>
                  <a:lnTo>
                    <a:pt x="447" y="102"/>
                  </a:lnTo>
                  <a:lnTo>
                    <a:pt x="438" y="117"/>
                  </a:lnTo>
                  <a:lnTo>
                    <a:pt x="430" y="134"/>
                  </a:lnTo>
                  <a:lnTo>
                    <a:pt x="422" y="151"/>
                  </a:lnTo>
                  <a:lnTo>
                    <a:pt x="414" y="170"/>
                  </a:lnTo>
                  <a:close/>
                  <a:moveTo>
                    <a:pt x="799" y="460"/>
                  </a:moveTo>
                  <a:lnTo>
                    <a:pt x="818" y="467"/>
                  </a:lnTo>
                  <a:lnTo>
                    <a:pt x="838" y="472"/>
                  </a:lnTo>
                  <a:lnTo>
                    <a:pt x="855" y="478"/>
                  </a:lnTo>
                  <a:lnTo>
                    <a:pt x="870" y="481"/>
                  </a:lnTo>
                  <a:lnTo>
                    <a:pt x="886" y="484"/>
                  </a:lnTo>
                  <a:lnTo>
                    <a:pt x="900" y="485"/>
                  </a:lnTo>
                  <a:lnTo>
                    <a:pt x="913" y="486"/>
                  </a:lnTo>
                  <a:lnTo>
                    <a:pt x="924" y="485"/>
                  </a:lnTo>
                  <a:lnTo>
                    <a:pt x="919" y="497"/>
                  </a:lnTo>
                  <a:lnTo>
                    <a:pt x="915" y="509"/>
                  </a:lnTo>
                  <a:lnTo>
                    <a:pt x="911" y="522"/>
                  </a:lnTo>
                  <a:lnTo>
                    <a:pt x="906" y="536"/>
                  </a:lnTo>
                  <a:lnTo>
                    <a:pt x="900" y="567"/>
                  </a:lnTo>
                  <a:lnTo>
                    <a:pt x="895" y="599"/>
                  </a:lnTo>
                  <a:lnTo>
                    <a:pt x="891" y="635"/>
                  </a:lnTo>
                  <a:lnTo>
                    <a:pt x="884" y="669"/>
                  </a:lnTo>
                  <a:lnTo>
                    <a:pt x="878" y="703"/>
                  </a:lnTo>
                  <a:lnTo>
                    <a:pt x="870" y="734"/>
                  </a:lnTo>
                  <a:lnTo>
                    <a:pt x="862" y="765"/>
                  </a:lnTo>
                  <a:lnTo>
                    <a:pt x="851" y="793"/>
                  </a:lnTo>
                  <a:lnTo>
                    <a:pt x="841" y="821"/>
                  </a:lnTo>
                  <a:lnTo>
                    <a:pt x="828" y="847"/>
                  </a:lnTo>
                  <a:lnTo>
                    <a:pt x="814" y="873"/>
                  </a:lnTo>
                  <a:lnTo>
                    <a:pt x="800" y="896"/>
                  </a:lnTo>
                  <a:lnTo>
                    <a:pt x="785" y="918"/>
                  </a:lnTo>
                  <a:lnTo>
                    <a:pt x="768" y="940"/>
                  </a:lnTo>
                  <a:lnTo>
                    <a:pt x="750" y="960"/>
                  </a:lnTo>
                  <a:lnTo>
                    <a:pt x="731" y="978"/>
                  </a:lnTo>
                  <a:lnTo>
                    <a:pt x="710" y="995"/>
                  </a:lnTo>
                  <a:lnTo>
                    <a:pt x="689" y="1011"/>
                  </a:lnTo>
                  <a:lnTo>
                    <a:pt x="675" y="1021"/>
                  </a:lnTo>
                  <a:lnTo>
                    <a:pt x="662" y="1030"/>
                  </a:lnTo>
                  <a:lnTo>
                    <a:pt x="648" y="1038"/>
                  </a:lnTo>
                  <a:lnTo>
                    <a:pt x="634" y="1044"/>
                  </a:lnTo>
                  <a:lnTo>
                    <a:pt x="621" y="1050"/>
                  </a:lnTo>
                  <a:lnTo>
                    <a:pt x="608" y="1053"/>
                  </a:lnTo>
                  <a:lnTo>
                    <a:pt x="594" y="1055"/>
                  </a:lnTo>
                  <a:lnTo>
                    <a:pt x="580" y="1056"/>
                  </a:lnTo>
                  <a:lnTo>
                    <a:pt x="567" y="1056"/>
                  </a:lnTo>
                  <a:lnTo>
                    <a:pt x="554" y="1054"/>
                  </a:lnTo>
                  <a:lnTo>
                    <a:pt x="540" y="1051"/>
                  </a:lnTo>
                  <a:lnTo>
                    <a:pt x="527" y="1047"/>
                  </a:lnTo>
                  <a:lnTo>
                    <a:pt x="513" y="1041"/>
                  </a:lnTo>
                  <a:lnTo>
                    <a:pt x="501" y="1034"/>
                  </a:lnTo>
                  <a:lnTo>
                    <a:pt x="487" y="1025"/>
                  </a:lnTo>
                  <a:lnTo>
                    <a:pt x="474" y="1015"/>
                  </a:lnTo>
                  <a:lnTo>
                    <a:pt x="494" y="1009"/>
                  </a:lnTo>
                  <a:lnTo>
                    <a:pt x="513" y="1002"/>
                  </a:lnTo>
                  <a:lnTo>
                    <a:pt x="531" y="996"/>
                  </a:lnTo>
                  <a:lnTo>
                    <a:pt x="549" y="988"/>
                  </a:lnTo>
                  <a:lnTo>
                    <a:pt x="567" y="980"/>
                  </a:lnTo>
                  <a:lnTo>
                    <a:pt x="584" y="971"/>
                  </a:lnTo>
                  <a:lnTo>
                    <a:pt x="600" y="963"/>
                  </a:lnTo>
                  <a:lnTo>
                    <a:pt x="616" y="954"/>
                  </a:lnTo>
                  <a:lnTo>
                    <a:pt x="631" y="945"/>
                  </a:lnTo>
                  <a:lnTo>
                    <a:pt x="646" y="934"/>
                  </a:lnTo>
                  <a:lnTo>
                    <a:pt x="660" y="924"/>
                  </a:lnTo>
                  <a:lnTo>
                    <a:pt x="672" y="913"/>
                  </a:lnTo>
                  <a:lnTo>
                    <a:pt x="686" y="901"/>
                  </a:lnTo>
                  <a:lnTo>
                    <a:pt x="698" y="890"/>
                  </a:lnTo>
                  <a:lnTo>
                    <a:pt x="709" y="878"/>
                  </a:lnTo>
                  <a:lnTo>
                    <a:pt x="721" y="865"/>
                  </a:lnTo>
                  <a:lnTo>
                    <a:pt x="731" y="853"/>
                  </a:lnTo>
                  <a:lnTo>
                    <a:pt x="741" y="839"/>
                  </a:lnTo>
                  <a:lnTo>
                    <a:pt x="751" y="825"/>
                  </a:lnTo>
                  <a:lnTo>
                    <a:pt x="759" y="810"/>
                  </a:lnTo>
                  <a:lnTo>
                    <a:pt x="768" y="795"/>
                  </a:lnTo>
                  <a:lnTo>
                    <a:pt x="775" y="781"/>
                  </a:lnTo>
                  <a:lnTo>
                    <a:pt x="782" y="765"/>
                  </a:lnTo>
                  <a:lnTo>
                    <a:pt x="789" y="749"/>
                  </a:lnTo>
                  <a:lnTo>
                    <a:pt x="794" y="733"/>
                  </a:lnTo>
                  <a:lnTo>
                    <a:pt x="799" y="716"/>
                  </a:lnTo>
                  <a:lnTo>
                    <a:pt x="805" y="698"/>
                  </a:lnTo>
                  <a:lnTo>
                    <a:pt x="809" y="680"/>
                  </a:lnTo>
                  <a:lnTo>
                    <a:pt x="812" y="662"/>
                  </a:lnTo>
                  <a:lnTo>
                    <a:pt x="815" y="644"/>
                  </a:lnTo>
                  <a:lnTo>
                    <a:pt x="817" y="625"/>
                  </a:lnTo>
                  <a:lnTo>
                    <a:pt x="820" y="605"/>
                  </a:lnTo>
                  <a:lnTo>
                    <a:pt x="822" y="582"/>
                  </a:lnTo>
                  <a:lnTo>
                    <a:pt x="822" y="560"/>
                  </a:lnTo>
                  <a:lnTo>
                    <a:pt x="822" y="540"/>
                  </a:lnTo>
                  <a:lnTo>
                    <a:pt x="820" y="521"/>
                  </a:lnTo>
                  <a:lnTo>
                    <a:pt x="816" y="504"/>
                  </a:lnTo>
                  <a:lnTo>
                    <a:pt x="812" y="488"/>
                  </a:lnTo>
                  <a:lnTo>
                    <a:pt x="807" y="473"/>
                  </a:lnTo>
                  <a:lnTo>
                    <a:pt x="799" y="460"/>
                  </a:lnTo>
                  <a:close/>
                  <a:moveTo>
                    <a:pt x="294" y="760"/>
                  </a:moveTo>
                  <a:lnTo>
                    <a:pt x="297" y="763"/>
                  </a:lnTo>
                  <a:lnTo>
                    <a:pt x="302" y="765"/>
                  </a:lnTo>
                  <a:lnTo>
                    <a:pt x="307" y="768"/>
                  </a:lnTo>
                  <a:lnTo>
                    <a:pt x="314" y="770"/>
                  </a:lnTo>
                  <a:lnTo>
                    <a:pt x="321" y="773"/>
                  </a:lnTo>
                  <a:lnTo>
                    <a:pt x="332" y="778"/>
                  </a:lnTo>
                  <a:lnTo>
                    <a:pt x="346" y="786"/>
                  </a:lnTo>
                  <a:lnTo>
                    <a:pt x="364" y="795"/>
                  </a:lnTo>
                  <a:lnTo>
                    <a:pt x="379" y="769"/>
                  </a:lnTo>
                  <a:lnTo>
                    <a:pt x="393" y="745"/>
                  </a:lnTo>
                  <a:lnTo>
                    <a:pt x="405" y="720"/>
                  </a:lnTo>
                  <a:lnTo>
                    <a:pt x="418" y="696"/>
                  </a:lnTo>
                  <a:lnTo>
                    <a:pt x="430" y="674"/>
                  </a:lnTo>
                  <a:lnTo>
                    <a:pt x="440" y="651"/>
                  </a:lnTo>
                  <a:lnTo>
                    <a:pt x="450" y="630"/>
                  </a:lnTo>
                  <a:lnTo>
                    <a:pt x="459" y="610"/>
                  </a:lnTo>
                  <a:lnTo>
                    <a:pt x="434" y="616"/>
                  </a:lnTo>
                  <a:lnTo>
                    <a:pt x="410" y="624"/>
                  </a:lnTo>
                  <a:lnTo>
                    <a:pt x="384" y="631"/>
                  </a:lnTo>
                  <a:lnTo>
                    <a:pt x="360" y="640"/>
                  </a:lnTo>
                  <a:lnTo>
                    <a:pt x="334" y="649"/>
                  </a:lnTo>
                  <a:lnTo>
                    <a:pt x="309" y="659"/>
                  </a:lnTo>
                  <a:lnTo>
                    <a:pt x="285" y="669"/>
                  </a:lnTo>
                  <a:lnTo>
                    <a:pt x="259" y="680"/>
                  </a:lnTo>
                  <a:lnTo>
                    <a:pt x="244" y="666"/>
                  </a:lnTo>
                  <a:lnTo>
                    <a:pt x="229" y="651"/>
                  </a:lnTo>
                  <a:lnTo>
                    <a:pt x="212" y="634"/>
                  </a:lnTo>
                  <a:lnTo>
                    <a:pt x="195" y="615"/>
                  </a:lnTo>
                  <a:lnTo>
                    <a:pt x="235" y="610"/>
                  </a:lnTo>
                  <a:lnTo>
                    <a:pt x="273" y="605"/>
                  </a:lnTo>
                  <a:lnTo>
                    <a:pt x="309" y="596"/>
                  </a:lnTo>
                  <a:lnTo>
                    <a:pt x="344" y="588"/>
                  </a:lnTo>
                  <a:lnTo>
                    <a:pt x="361" y="582"/>
                  </a:lnTo>
                  <a:lnTo>
                    <a:pt x="377" y="577"/>
                  </a:lnTo>
                  <a:lnTo>
                    <a:pt x="393" y="571"/>
                  </a:lnTo>
                  <a:lnTo>
                    <a:pt x="408" y="564"/>
                  </a:lnTo>
                  <a:lnTo>
                    <a:pt x="422" y="558"/>
                  </a:lnTo>
                  <a:lnTo>
                    <a:pt x="437" y="551"/>
                  </a:lnTo>
                  <a:lnTo>
                    <a:pt x="451" y="543"/>
                  </a:lnTo>
                  <a:lnTo>
                    <a:pt x="465" y="535"/>
                  </a:lnTo>
                  <a:lnTo>
                    <a:pt x="480" y="550"/>
                  </a:lnTo>
                  <a:lnTo>
                    <a:pt x="495" y="563"/>
                  </a:lnTo>
                  <a:lnTo>
                    <a:pt x="512" y="576"/>
                  </a:lnTo>
                  <a:lnTo>
                    <a:pt x="529" y="588"/>
                  </a:lnTo>
                  <a:lnTo>
                    <a:pt x="547" y="598"/>
                  </a:lnTo>
                  <a:lnTo>
                    <a:pt x="565" y="608"/>
                  </a:lnTo>
                  <a:lnTo>
                    <a:pt x="584" y="617"/>
                  </a:lnTo>
                  <a:lnTo>
                    <a:pt x="605" y="625"/>
                  </a:lnTo>
                  <a:lnTo>
                    <a:pt x="576" y="648"/>
                  </a:lnTo>
                  <a:lnTo>
                    <a:pt x="547" y="670"/>
                  </a:lnTo>
                  <a:lnTo>
                    <a:pt x="520" y="694"/>
                  </a:lnTo>
                  <a:lnTo>
                    <a:pt x="493" y="717"/>
                  </a:lnTo>
                  <a:lnTo>
                    <a:pt x="467" y="741"/>
                  </a:lnTo>
                  <a:lnTo>
                    <a:pt x="440" y="766"/>
                  </a:lnTo>
                  <a:lnTo>
                    <a:pt x="415" y="790"/>
                  </a:lnTo>
                  <a:lnTo>
                    <a:pt x="390" y="816"/>
                  </a:lnTo>
                  <a:lnTo>
                    <a:pt x="413" y="827"/>
                  </a:lnTo>
                  <a:lnTo>
                    <a:pt x="434" y="840"/>
                  </a:lnTo>
                  <a:lnTo>
                    <a:pt x="453" y="853"/>
                  </a:lnTo>
                  <a:lnTo>
                    <a:pt x="469" y="865"/>
                  </a:lnTo>
                  <a:lnTo>
                    <a:pt x="471" y="870"/>
                  </a:lnTo>
                  <a:lnTo>
                    <a:pt x="472" y="876"/>
                  </a:lnTo>
                  <a:lnTo>
                    <a:pt x="472" y="884"/>
                  </a:lnTo>
                  <a:lnTo>
                    <a:pt x="472" y="895"/>
                  </a:lnTo>
                  <a:lnTo>
                    <a:pt x="470" y="908"/>
                  </a:lnTo>
                  <a:lnTo>
                    <a:pt x="468" y="922"/>
                  </a:lnTo>
                  <a:lnTo>
                    <a:pt x="464" y="937"/>
                  </a:lnTo>
                  <a:lnTo>
                    <a:pt x="459" y="955"/>
                  </a:lnTo>
                  <a:lnTo>
                    <a:pt x="457" y="961"/>
                  </a:lnTo>
                  <a:lnTo>
                    <a:pt x="455" y="965"/>
                  </a:lnTo>
                  <a:lnTo>
                    <a:pt x="452" y="968"/>
                  </a:lnTo>
                  <a:lnTo>
                    <a:pt x="448" y="970"/>
                  </a:lnTo>
                  <a:lnTo>
                    <a:pt x="444" y="971"/>
                  </a:lnTo>
                  <a:lnTo>
                    <a:pt x="438" y="970"/>
                  </a:lnTo>
                  <a:lnTo>
                    <a:pt x="432" y="968"/>
                  </a:lnTo>
                  <a:lnTo>
                    <a:pt x="424" y="965"/>
                  </a:lnTo>
                  <a:lnTo>
                    <a:pt x="405" y="946"/>
                  </a:lnTo>
                  <a:lnTo>
                    <a:pt x="387" y="926"/>
                  </a:lnTo>
                  <a:lnTo>
                    <a:pt x="368" y="905"/>
                  </a:lnTo>
                  <a:lnTo>
                    <a:pt x="350" y="881"/>
                  </a:lnTo>
                  <a:lnTo>
                    <a:pt x="332" y="858"/>
                  </a:lnTo>
                  <a:lnTo>
                    <a:pt x="314" y="833"/>
                  </a:lnTo>
                  <a:lnTo>
                    <a:pt x="296" y="807"/>
                  </a:lnTo>
                  <a:lnTo>
                    <a:pt x="279" y="781"/>
                  </a:lnTo>
                  <a:lnTo>
                    <a:pt x="275" y="773"/>
                  </a:lnTo>
                  <a:lnTo>
                    <a:pt x="273" y="768"/>
                  </a:lnTo>
                  <a:lnTo>
                    <a:pt x="273" y="764"/>
                  </a:lnTo>
                  <a:lnTo>
                    <a:pt x="274" y="760"/>
                  </a:lnTo>
                  <a:lnTo>
                    <a:pt x="277" y="758"/>
                  </a:lnTo>
                  <a:lnTo>
                    <a:pt x="281" y="757"/>
                  </a:lnTo>
                  <a:lnTo>
                    <a:pt x="288" y="758"/>
                  </a:lnTo>
                  <a:lnTo>
                    <a:pt x="294" y="760"/>
                  </a:lnTo>
                  <a:close/>
                  <a:moveTo>
                    <a:pt x="900" y="800"/>
                  </a:moveTo>
                  <a:lnTo>
                    <a:pt x="936" y="816"/>
                  </a:lnTo>
                  <a:lnTo>
                    <a:pt x="970" y="830"/>
                  </a:lnTo>
                  <a:lnTo>
                    <a:pt x="1003" y="845"/>
                  </a:lnTo>
                  <a:lnTo>
                    <a:pt x="1034" y="860"/>
                  </a:lnTo>
                  <a:lnTo>
                    <a:pt x="1061" y="875"/>
                  </a:lnTo>
                  <a:lnTo>
                    <a:pt x="1088" y="890"/>
                  </a:lnTo>
                  <a:lnTo>
                    <a:pt x="1112" y="906"/>
                  </a:lnTo>
                  <a:lnTo>
                    <a:pt x="1134" y="920"/>
                  </a:lnTo>
                  <a:lnTo>
                    <a:pt x="1138" y="927"/>
                  </a:lnTo>
                  <a:lnTo>
                    <a:pt x="1140" y="935"/>
                  </a:lnTo>
                  <a:lnTo>
                    <a:pt x="1143" y="945"/>
                  </a:lnTo>
                  <a:lnTo>
                    <a:pt x="1144" y="957"/>
                  </a:lnTo>
                  <a:lnTo>
                    <a:pt x="1144" y="969"/>
                  </a:lnTo>
                  <a:lnTo>
                    <a:pt x="1143" y="983"/>
                  </a:lnTo>
                  <a:lnTo>
                    <a:pt x="1142" y="999"/>
                  </a:lnTo>
                  <a:lnTo>
                    <a:pt x="1139" y="1015"/>
                  </a:lnTo>
                  <a:lnTo>
                    <a:pt x="1137" y="1026"/>
                  </a:lnTo>
                  <a:lnTo>
                    <a:pt x="1134" y="1035"/>
                  </a:lnTo>
                  <a:lnTo>
                    <a:pt x="1132" y="1041"/>
                  </a:lnTo>
                  <a:lnTo>
                    <a:pt x="1130" y="1046"/>
                  </a:lnTo>
                  <a:lnTo>
                    <a:pt x="1127" y="1047"/>
                  </a:lnTo>
                  <a:lnTo>
                    <a:pt x="1125" y="1047"/>
                  </a:lnTo>
                  <a:lnTo>
                    <a:pt x="1121" y="1047"/>
                  </a:lnTo>
                  <a:lnTo>
                    <a:pt x="1118" y="1046"/>
                  </a:lnTo>
                  <a:lnTo>
                    <a:pt x="1112" y="1041"/>
                  </a:lnTo>
                  <a:lnTo>
                    <a:pt x="1104" y="1035"/>
                  </a:lnTo>
                  <a:lnTo>
                    <a:pt x="1072" y="1007"/>
                  </a:lnTo>
                  <a:lnTo>
                    <a:pt x="1040" y="981"/>
                  </a:lnTo>
                  <a:lnTo>
                    <a:pt x="1010" y="954"/>
                  </a:lnTo>
                  <a:lnTo>
                    <a:pt x="982" y="928"/>
                  </a:lnTo>
                  <a:lnTo>
                    <a:pt x="955" y="901"/>
                  </a:lnTo>
                  <a:lnTo>
                    <a:pt x="930" y="876"/>
                  </a:lnTo>
                  <a:lnTo>
                    <a:pt x="906" y="851"/>
                  </a:lnTo>
                  <a:lnTo>
                    <a:pt x="884" y="825"/>
                  </a:lnTo>
                  <a:lnTo>
                    <a:pt x="878" y="818"/>
                  </a:lnTo>
                  <a:lnTo>
                    <a:pt x="875" y="811"/>
                  </a:lnTo>
                  <a:lnTo>
                    <a:pt x="874" y="808"/>
                  </a:lnTo>
                  <a:lnTo>
                    <a:pt x="874" y="805"/>
                  </a:lnTo>
                  <a:lnTo>
                    <a:pt x="874" y="803"/>
                  </a:lnTo>
                  <a:lnTo>
                    <a:pt x="875" y="800"/>
                  </a:lnTo>
                  <a:lnTo>
                    <a:pt x="876" y="798"/>
                  </a:lnTo>
                  <a:lnTo>
                    <a:pt x="878" y="796"/>
                  </a:lnTo>
                  <a:lnTo>
                    <a:pt x="880" y="795"/>
                  </a:lnTo>
                  <a:lnTo>
                    <a:pt x="883" y="795"/>
                  </a:lnTo>
                  <a:lnTo>
                    <a:pt x="891" y="796"/>
                  </a:lnTo>
                  <a:lnTo>
                    <a:pt x="900" y="800"/>
                  </a:lnTo>
                  <a:close/>
                  <a:moveTo>
                    <a:pt x="364" y="369"/>
                  </a:moveTo>
                  <a:lnTo>
                    <a:pt x="398" y="378"/>
                  </a:lnTo>
                  <a:lnTo>
                    <a:pt x="428" y="387"/>
                  </a:lnTo>
                  <a:lnTo>
                    <a:pt x="442" y="393"/>
                  </a:lnTo>
                  <a:lnTo>
                    <a:pt x="455" y="398"/>
                  </a:lnTo>
                  <a:lnTo>
                    <a:pt x="468" y="403"/>
                  </a:lnTo>
                  <a:lnTo>
                    <a:pt x="480" y="410"/>
                  </a:lnTo>
                  <a:lnTo>
                    <a:pt x="482" y="416"/>
                  </a:lnTo>
                  <a:lnTo>
                    <a:pt x="483" y="423"/>
                  </a:lnTo>
                  <a:lnTo>
                    <a:pt x="484" y="432"/>
                  </a:lnTo>
                  <a:lnTo>
                    <a:pt x="485" y="441"/>
                  </a:lnTo>
                  <a:lnTo>
                    <a:pt x="483" y="462"/>
                  </a:lnTo>
                  <a:lnTo>
                    <a:pt x="480" y="485"/>
                  </a:lnTo>
                  <a:lnTo>
                    <a:pt x="480" y="491"/>
                  </a:lnTo>
                  <a:lnTo>
                    <a:pt x="478" y="498"/>
                  </a:lnTo>
                  <a:lnTo>
                    <a:pt x="476" y="502"/>
                  </a:lnTo>
                  <a:lnTo>
                    <a:pt x="474" y="505"/>
                  </a:lnTo>
                  <a:lnTo>
                    <a:pt x="470" y="504"/>
                  </a:lnTo>
                  <a:lnTo>
                    <a:pt x="466" y="502"/>
                  </a:lnTo>
                  <a:lnTo>
                    <a:pt x="463" y="500"/>
                  </a:lnTo>
                  <a:lnTo>
                    <a:pt x="459" y="494"/>
                  </a:lnTo>
                  <a:lnTo>
                    <a:pt x="445" y="484"/>
                  </a:lnTo>
                  <a:lnTo>
                    <a:pt x="430" y="472"/>
                  </a:lnTo>
                  <a:lnTo>
                    <a:pt x="416" y="460"/>
                  </a:lnTo>
                  <a:lnTo>
                    <a:pt x="403" y="447"/>
                  </a:lnTo>
                  <a:lnTo>
                    <a:pt x="391" y="435"/>
                  </a:lnTo>
                  <a:lnTo>
                    <a:pt x="378" y="421"/>
                  </a:lnTo>
                  <a:lnTo>
                    <a:pt x="366" y="409"/>
                  </a:lnTo>
                  <a:lnTo>
                    <a:pt x="355" y="395"/>
                  </a:lnTo>
                  <a:lnTo>
                    <a:pt x="350" y="387"/>
                  </a:lnTo>
                  <a:lnTo>
                    <a:pt x="347" y="382"/>
                  </a:lnTo>
                  <a:lnTo>
                    <a:pt x="345" y="378"/>
                  </a:lnTo>
                  <a:lnTo>
                    <a:pt x="344" y="375"/>
                  </a:lnTo>
                  <a:lnTo>
                    <a:pt x="346" y="373"/>
                  </a:lnTo>
                  <a:lnTo>
                    <a:pt x="347" y="370"/>
                  </a:lnTo>
                  <a:lnTo>
                    <a:pt x="349" y="369"/>
                  </a:lnTo>
                  <a:lnTo>
                    <a:pt x="351" y="368"/>
                  </a:lnTo>
                  <a:lnTo>
                    <a:pt x="358" y="368"/>
                  </a:lnTo>
                  <a:lnTo>
                    <a:pt x="364" y="369"/>
                  </a:lnTo>
                  <a:close/>
                </a:path>
              </a:pathLst>
            </a:custGeom>
            <a:solidFill>
              <a:schemeClr val="tx1"/>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d79f00"/>
                </a:solidFill>
                <a:latin typeface="Arial"/>
                <a:ea typeface="宋体"/>
              </a:endParaRPr>
            </a:p>
          </p:txBody>
        </p:sp>
        <p:sp>
          <p:nvSpPr>
            <p:cNvPr id="328" name="Freeform 15"/>
            <p:cNvSpPr/>
            <p:nvPr/>
          </p:nvSpPr>
          <p:spPr>
            <a:xfrm>
              <a:off x="2930040" y="9354960"/>
              <a:ext cx="232560" cy="198360"/>
            </a:xfrm>
            <a:custGeom>
              <a:avLst/>
              <a:gdLst>
                <a:gd name="textAreaLeft" fmla="*/ 0 w 232560"/>
                <a:gd name="textAreaRight" fmla="*/ 232920 w 232560"/>
                <a:gd name="textAreaTop" fmla="*/ 0 h 198360"/>
                <a:gd name="textAreaBottom" fmla="*/ 198720 h 198360"/>
              </a:gdLst>
              <a:ahLst/>
              <a:rect l="textAreaLeft" t="textAreaTop" r="textAreaRight" b="textAreaBottom"/>
              <a:pathLst>
                <a:path w="1196" h="1066">
                  <a:moveTo>
                    <a:pt x="146" y="1066"/>
                  </a:moveTo>
                  <a:lnTo>
                    <a:pt x="137" y="1060"/>
                  </a:lnTo>
                  <a:lnTo>
                    <a:pt x="129" y="1051"/>
                  </a:lnTo>
                  <a:lnTo>
                    <a:pt x="118" y="1040"/>
                  </a:lnTo>
                  <a:lnTo>
                    <a:pt x="105" y="1026"/>
                  </a:lnTo>
                  <a:lnTo>
                    <a:pt x="94" y="1017"/>
                  </a:lnTo>
                  <a:lnTo>
                    <a:pt x="84" y="1010"/>
                  </a:lnTo>
                  <a:lnTo>
                    <a:pt x="77" y="1005"/>
                  </a:lnTo>
                  <a:lnTo>
                    <a:pt x="70" y="1002"/>
                  </a:lnTo>
                  <a:lnTo>
                    <a:pt x="101" y="999"/>
                  </a:lnTo>
                  <a:lnTo>
                    <a:pt x="131" y="998"/>
                  </a:lnTo>
                  <a:lnTo>
                    <a:pt x="160" y="996"/>
                  </a:lnTo>
                  <a:lnTo>
                    <a:pt x="189" y="994"/>
                  </a:lnTo>
                  <a:lnTo>
                    <a:pt x="219" y="991"/>
                  </a:lnTo>
                  <a:lnTo>
                    <a:pt x="248" y="988"/>
                  </a:lnTo>
                  <a:lnTo>
                    <a:pt x="277" y="985"/>
                  </a:lnTo>
                  <a:lnTo>
                    <a:pt x="305" y="981"/>
                  </a:lnTo>
                  <a:lnTo>
                    <a:pt x="305" y="959"/>
                  </a:lnTo>
                  <a:lnTo>
                    <a:pt x="305" y="936"/>
                  </a:lnTo>
                  <a:lnTo>
                    <a:pt x="304" y="914"/>
                  </a:lnTo>
                  <a:lnTo>
                    <a:pt x="303" y="891"/>
                  </a:lnTo>
                  <a:lnTo>
                    <a:pt x="302" y="869"/>
                  </a:lnTo>
                  <a:lnTo>
                    <a:pt x="300" y="846"/>
                  </a:lnTo>
                  <a:lnTo>
                    <a:pt x="298" y="824"/>
                  </a:lnTo>
                  <a:lnTo>
                    <a:pt x="296" y="801"/>
                  </a:lnTo>
                  <a:lnTo>
                    <a:pt x="293" y="777"/>
                  </a:lnTo>
                  <a:lnTo>
                    <a:pt x="290" y="754"/>
                  </a:lnTo>
                  <a:lnTo>
                    <a:pt x="285" y="731"/>
                  </a:lnTo>
                  <a:lnTo>
                    <a:pt x="281" y="711"/>
                  </a:lnTo>
                  <a:lnTo>
                    <a:pt x="276" y="692"/>
                  </a:lnTo>
                  <a:lnTo>
                    <a:pt x="269" y="673"/>
                  </a:lnTo>
                  <a:lnTo>
                    <a:pt x="263" y="656"/>
                  </a:lnTo>
                  <a:lnTo>
                    <a:pt x="256" y="641"/>
                  </a:lnTo>
                  <a:lnTo>
                    <a:pt x="273" y="647"/>
                  </a:lnTo>
                  <a:lnTo>
                    <a:pt x="290" y="652"/>
                  </a:lnTo>
                  <a:lnTo>
                    <a:pt x="307" y="656"/>
                  </a:lnTo>
                  <a:lnTo>
                    <a:pt x="325" y="659"/>
                  </a:lnTo>
                  <a:lnTo>
                    <a:pt x="343" y="662"/>
                  </a:lnTo>
                  <a:lnTo>
                    <a:pt x="362" y="665"/>
                  </a:lnTo>
                  <a:lnTo>
                    <a:pt x="381" y="666"/>
                  </a:lnTo>
                  <a:lnTo>
                    <a:pt x="401" y="666"/>
                  </a:lnTo>
                  <a:lnTo>
                    <a:pt x="397" y="676"/>
                  </a:lnTo>
                  <a:lnTo>
                    <a:pt x="392" y="689"/>
                  </a:lnTo>
                  <a:lnTo>
                    <a:pt x="388" y="702"/>
                  </a:lnTo>
                  <a:lnTo>
                    <a:pt x="386" y="717"/>
                  </a:lnTo>
                  <a:lnTo>
                    <a:pt x="384" y="731"/>
                  </a:lnTo>
                  <a:lnTo>
                    <a:pt x="382" y="748"/>
                  </a:lnTo>
                  <a:lnTo>
                    <a:pt x="381" y="766"/>
                  </a:lnTo>
                  <a:lnTo>
                    <a:pt x="381" y="786"/>
                  </a:lnTo>
                  <a:lnTo>
                    <a:pt x="381" y="798"/>
                  </a:lnTo>
                  <a:lnTo>
                    <a:pt x="381" y="815"/>
                  </a:lnTo>
                  <a:lnTo>
                    <a:pt x="381" y="836"/>
                  </a:lnTo>
                  <a:lnTo>
                    <a:pt x="381" y="862"/>
                  </a:lnTo>
                  <a:lnTo>
                    <a:pt x="383" y="897"/>
                  </a:lnTo>
                  <a:lnTo>
                    <a:pt x="385" y="927"/>
                  </a:lnTo>
                  <a:lnTo>
                    <a:pt x="385" y="954"/>
                  </a:lnTo>
                  <a:lnTo>
                    <a:pt x="386" y="976"/>
                  </a:lnTo>
                  <a:lnTo>
                    <a:pt x="411" y="971"/>
                  </a:lnTo>
                  <a:lnTo>
                    <a:pt x="443" y="967"/>
                  </a:lnTo>
                  <a:lnTo>
                    <a:pt x="481" y="961"/>
                  </a:lnTo>
                  <a:lnTo>
                    <a:pt x="526" y="956"/>
                  </a:lnTo>
                  <a:lnTo>
                    <a:pt x="534" y="956"/>
                  </a:lnTo>
                  <a:lnTo>
                    <a:pt x="541" y="956"/>
                  </a:lnTo>
                  <a:lnTo>
                    <a:pt x="542" y="931"/>
                  </a:lnTo>
                  <a:lnTo>
                    <a:pt x="543" y="902"/>
                  </a:lnTo>
                  <a:lnTo>
                    <a:pt x="544" y="869"/>
                  </a:lnTo>
                  <a:lnTo>
                    <a:pt x="545" y="833"/>
                  </a:lnTo>
                  <a:lnTo>
                    <a:pt x="545" y="794"/>
                  </a:lnTo>
                  <a:lnTo>
                    <a:pt x="546" y="751"/>
                  </a:lnTo>
                  <a:lnTo>
                    <a:pt x="546" y="706"/>
                  </a:lnTo>
                  <a:lnTo>
                    <a:pt x="546" y="656"/>
                  </a:lnTo>
                  <a:lnTo>
                    <a:pt x="544" y="618"/>
                  </a:lnTo>
                  <a:lnTo>
                    <a:pt x="542" y="582"/>
                  </a:lnTo>
                  <a:lnTo>
                    <a:pt x="538" y="549"/>
                  </a:lnTo>
                  <a:lnTo>
                    <a:pt x="534" y="519"/>
                  </a:lnTo>
                  <a:lnTo>
                    <a:pt x="530" y="493"/>
                  </a:lnTo>
                  <a:lnTo>
                    <a:pt x="524" y="470"/>
                  </a:lnTo>
                  <a:lnTo>
                    <a:pt x="517" y="448"/>
                  </a:lnTo>
                  <a:lnTo>
                    <a:pt x="511" y="430"/>
                  </a:lnTo>
                  <a:lnTo>
                    <a:pt x="525" y="436"/>
                  </a:lnTo>
                  <a:lnTo>
                    <a:pt x="541" y="440"/>
                  </a:lnTo>
                  <a:lnTo>
                    <a:pt x="556" y="443"/>
                  </a:lnTo>
                  <a:lnTo>
                    <a:pt x="574" y="446"/>
                  </a:lnTo>
                  <a:lnTo>
                    <a:pt x="594" y="448"/>
                  </a:lnTo>
                  <a:lnTo>
                    <a:pt x="613" y="449"/>
                  </a:lnTo>
                  <a:lnTo>
                    <a:pt x="634" y="451"/>
                  </a:lnTo>
                  <a:lnTo>
                    <a:pt x="656" y="451"/>
                  </a:lnTo>
                  <a:lnTo>
                    <a:pt x="652" y="463"/>
                  </a:lnTo>
                  <a:lnTo>
                    <a:pt x="649" y="477"/>
                  </a:lnTo>
                  <a:lnTo>
                    <a:pt x="645" y="493"/>
                  </a:lnTo>
                  <a:lnTo>
                    <a:pt x="643" y="511"/>
                  </a:lnTo>
                  <a:lnTo>
                    <a:pt x="639" y="552"/>
                  </a:lnTo>
                  <a:lnTo>
                    <a:pt x="636" y="601"/>
                  </a:lnTo>
                  <a:lnTo>
                    <a:pt x="634" y="612"/>
                  </a:lnTo>
                  <a:lnTo>
                    <a:pt x="632" y="622"/>
                  </a:lnTo>
                  <a:lnTo>
                    <a:pt x="631" y="634"/>
                  </a:lnTo>
                  <a:lnTo>
                    <a:pt x="631" y="646"/>
                  </a:lnTo>
                  <a:lnTo>
                    <a:pt x="643" y="644"/>
                  </a:lnTo>
                  <a:lnTo>
                    <a:pt x="660" y="641"/>
                  </a:lnTo>
                  <a:lnTo>
                    <a:pt x="707" y="632"/>
                  </a:lnTo>
                  <a:lnTo>
                    <a:pt x="747" y="622"/>
                  </a:lnTo>
                  <a:lnTo>
                    <a:pt x="780" y="614"/>
                  </a:lnTo>
                  <a:lnTo>
                    <a:pt x="805" y="606"/>
                  </a:lnTo>
                  <a:lnTo>
                    <a:pt x="816" y="614"/>
                  </a:lnTo>
                  <a:lnTo>
                    <a:pt x="824" y="622"/>
                  </a:lnTo>
                  <a:lnTo>
                    <a:pt x="834" y="632"/>
                  </a:lnTo>
                  <a:lnTo>
                    <a:pt x="842" y="641"/>
                  </a:lnTo>
                  <a:lnTo>
                    <a:pt x="850" y="651"/>
                  </a:lnTo>
                  <a:lnTo>
                    <a:pt x="857" y="662"/>
                  </a:lnTo>
                  <a:lnTo>
                    <a:pt x="865" y="674"/>
                  </a:lnTo>
                  <a:lnTo>
                    <a:pt x="871" y="686"/>
                  </a:lnTo>
                  <a:lnTo>
                    <a:pt x="846" y="689"/>
                  </a:lnTo>
                  <a:lnTo>
                    <a:pt x="815" y="692"/>
                  </a:lnTo>
                  <a:lnTo>
                    <a:pt x="778" y="696"/>
                  </a:lnTo>
                  <a:lnTo>
                    <a:pt x="735" y="701"/>
                  </a:lnTo>
                  <a:lnTo>
                    <a:pt x="705" y="704"/>
                  </a:lnTo>
                  <a:lnTo>
                    <a:pt x="677" y="706"/>
                  </a:lnTo>
                  <a:lnTo>
                    <a:pt x="653" y="708"/>
                  </a:lnTo>
                  <a:lnTo>
                    <a:pt x="631" y="711"/>
                  </a:lnTo>
                  <a:lnTo>
                    <a:pt x="630" y="743"/>
                  </a:lnTo>
                  <a:lnTo>
                    <a:pt x="629" y="775"/>
                  </a:lnTo>
                  <a:lnTo>
                    <a:pt x="627" y="806"/>
                  </a:lnTo>
                  <a:lnTo>
                    <a:pt x="627" y="835"/>
                  </a:lnTo>
                  <a:lnTo>
                    <a:pt x="626" y="864"/>
                  </a:lnTo>
                  <a:lnTo>
                    <a:pt x="626" y="892"/>
                  </a:lnTo>
                  <a:lnTo>
                    <a:pt x="625" y="920"/>
                  </a:lnTo>
                  <a:lnTo>
                    <a:pt x="625" y="946"/>
                  </a:lnTo>
                  <a:lnTo>
                    <a:pt x="640" y="943"/>
                  </a:lnTo>
                  <a:lnTo>
                    <a:pt x="658" y="941"/>
                  </a:lnTo>
                  <a:lnTo>
                    <a:pt x="680" y="939"/>
                  </a:lnTo>
                  <a:lnTo>
                    <a:pt x="706" y="936"/>
                  </a:lnTo>
                  <a:lnTo>
                    <a:pt x="744" y="933"/>
                  </a:lnTo>
                  <a:lnTo>
                    <a:pt x="780" y="930"/>
                  </a:lnTo>
                  <a:lnTo>
                    <a:pt x="814" y="926"/>
                  </a:lnTo>
                  <a:lnTo>
                    <a:pt x="846" y="923"/>
                  </a:lnTo>
                  <a:lnTo>
                    <a:pt x="876" y="921"/>
                  </a:lnTo>
                  <a:lnTo>
                    <a:pt x="905" y="919"/>
                  </a:lnTo>
                  <a:lnTo>
                    <a:pt x="931" y="918"/>
                  </a:lnTo>
                  <a:lnTo>
                    <a:pt x="956" y="916"/>
                  </a:lnTo>
                  <a:lnTo>
                    <a:pt x="962" y="916"/>
                  </a:lnTo>
                  <a:lnTo>
                    <a:pt x="967" y="916"/>
                  </a:lnTo>
                  <a:lnTo>
                    <a:pt x="973" y="916"/>
                  </a:lnTo>
                  <a:lnTo>
                    <a:pt x="978" y="918"/>
                  </a:lnTo>
                  <a:lnTo>
                    <a:pt x="983" y="920"/>
                  </a:lnTo>
                  <a:lnTo>
                    <a:pt x="988" y="923"/>
                  </a:lnTo>
                  <a:lnTo>
                    <a:pt x="992" y="926"/>
                  </a:lnTo>
                  <a:lnTo>
                    <a:pt x="996" y="932"/>
                  </a:lnTo>
                  <a:lnTo>
                    <a:pt x="999" y="935"/>
                  </a:lnTo>
                  <a:lnTo>
                    <a:pt x="1005" y="942"/>
                  </a:lnTo>
                  <a:lnTo>
                    <a:pt x="1012" y="953"/>
                  </a:lnTo>
                  <a:lnTo>
                    <a:pt x="1020" y="967"/>
                  </a:lnTo>
                  <a:lnTo>
                    <a:pt x="1033" y="984"/>
                  </a:lnTo>
                  <a:lnTo>
                    <a:pt x="1041" y="996"/>
                  </a:lnTo>
                  <a:lnTo>
                    <a:pt x="1045" y="998"/>
                  </a:lnTo>
                  <a:lnTo>
                    <a:pt x="1047" y="1001"/>
                  </a:lnTo>
                  <a:lnTo>
                    <a:pt x="1048" y="1001"/>
                  </a:lnTo>
                  <a:lnTo>
                    <a:pt x="1046" y="1002"/>
                  </a:lnTo>
                  <a:lnTo>
                    <a:pt x="1043" y="1004"/>
                  </a:lnTo>
                  <a:lnTo>
                    <a:pt x="1037" y="1005"/>
                  </a:lnTo>
                  <a:lnTo>
                    <a:pt x="1030" y="1006"/>
                  </a:lnTo>
                  <a:lnTo>
                    <a:pt x="1020" y="1006"/>
                  </a:lnTo>
                  <a:lnTo>
                    <a:pt x="971" y="1005"/>
                  </a:lnTo>
                  <a:lnTo>
                    <a:pt x="920" y="1005"/>
                  </a:lnTo>
                  <a:lnTo>
                    <a:pt x="868" y="1005"/>
                  </a:lnTo>
                  <a:lnTo>
                    <a:pt x="816" y="1006"/>
                  </a:lnTo>
                  <a:lnTo>
                    <a:pt x="763" y="1008"/>
                  </a:lnTo>
                  <a:lnTo>
                    <a:pt x="710" y="1010"/>
                  </a:lnTo>
                  <a:lnTo>
                    <a:pt x="656" y="1013"/>
                  </a:lnTo>
                  <a:lnTo>
                    <a:pt x="602" y="1016"/>
                  </a:lnTo>
                  <a:lnTo>
                    <a:pt x="547" y="1021"/>
                  </a:lnTo>
                  <a:lnTo>
                    <a:pt x="492" y="1025"/>
                  </a:lnTo>
                  <a:lnTo>
                    <a:pt x="436" y="1030"/>
                  </a:lnTo>
                  <a:lnTo>
                    <a:pt x="379" y="1037"/>
                  </a:lnTo>
                  <a:lnTo>
                    <a:pt x="321" y="1043"/>
                  </a:lnTo>
                  <a:lnTo>
                    <a:pt x="263" y="1050"/>
                  </a:lnTo>
                  <a:lnTo>
                    <a:pt x="205" y="1058"/>
                  </a:lnTo>
                  <a:lnTo>
                    <a:pt x="146" y="1066"/>
                  </a:lnTo>
                  <a:close/>
                  <a:moveTo>
                    <a:pt x="500" y="0"/>
                  </a:moveTo>
                  <a:lnTo>
                    <a:pt x="515" y="11"/>
                  </a:lnTo>
                  <a:lnTo>
                    <a:pt x="530" y="21"/>
                  </a:lnTo>
                  <a:lnTo>
                    <a:pt x="545" y="30"/>
                  </a:lnTo>
                  <a:lnTo>
                    <a:pt x="560" y="38"/>
                  </a:lnTo>
                  <a:lnTo>
                    <a:pt x="573" y="45"/>
                  </a:lnTo>
                  <a:lnTo>
                    <a:pt x="588" y="51"/>
                  </a:lnTo>
                  <a:lnTo>
                    <a:pt x="602" y="56"/>
                  </a:lnTo>
                  <a:lnTo>
                    <a:pt x="616" y="61"/>
                  </a:lnTo>
                  <a:lnTo>
                    <a:pt x="597" y="81"/>
                  </a:lnTo>
                  <a:lnTo>
                    <a:pt x="581" y="101"/>
                  </a:lnTo>
                  <a:lnTo>
                    <a:pt x="567" y="121"/>
                  </a:lnTo>
                  <a:lnTo>
                    <a:pt x="555" y="141"/>
                  </a:lnTo>
                  <a:lnTo>
                    <a:pt x="583" y="161"/>
                  </a:lnTo>
                  <a:lnTo>
                    <a:pt x="616" y="188"/>
                  </a:lnTo>
                  <a:lnTo>
                    <a:pt x="653" y="222"/>
                  </a:lnTo>
                  <a:lnTo>
                    <a:pt x="696" y="261"/>
                  </a:lnTo>
                  <a:lnTo>
                    <a:pt x="734" y="297"/>
                  </a:lnTo>
                  <a:lnTo>
                    <a:pt x="771" y="329"/>
                  </a:lnTo>
                  <a:lnTo>
                    <a:pt x="805" y="357"/>
                  </a:lnTo>
                  <a:lnTo>
                    <a:pt x="837" y="382"/>
                  </a:lnTo>
                  <a:lnTo>
                    <a:pt x="867" y="403"/>
                  </a:lnTo>
                  <a:lnTo>
                    <a:pt x="893" y="421"/>
                  </a:lnTo>
                  <a:lnTo>
                    <a:pt x="906" y="428"/>
                  </a:lnTo>
                  <a:lnTo>
                    <a:pt x="919" y="436"/>
                  </a:lnTo>
                  <a:lnTo>
                    <a:pt x="930" y="441"/>
                  </a:lnTo>
                  <a:lnTo>
                    <a:pt x="941" y="445"/>
                  </a:lnTo>
                  <a:lnTo>
                    <a:pt x="973" y="458"/>
                  </a:lnTo>
                  <a:lnTo>
                    <a:pt x="1003" y="472"/>
                  </a:lnTo>
                  <a:lnTo>
                    <a:pt x="1033" y="484"/>
                  </a:lnTo>
                  <a:lnTo>
                    <a:pt x="1061" y="498"/>
                  </a:lnTo>
                  <a:lnTo>
                    <a:pt x="1088" y="512"/>
                  </a:lnTo>
                  <a:lnTo>
                    <a:pt x="1114" y="527"/>
                  </a:lnTo>
                  <a:lnTo>
                    <a:pt x="1138" y="541"/>
                  </a:lnTo>
                  <a:lnTo>
                    <a:pt x="1161" y="555"/>
                  </a:lnTo>
                  <a:lnTo>
                    <a:pt x="1176" y="566"/>
                  </a:lnTo>
                  <a:lnTo>
                    <a:pt x="1187" y="575"/>
                  </a:lnTo>
                  <a:lnTo>
                    <a:pt x="1191" y="579"/>
                  </a:lnTo>
                  <a:lnTo>
                    <a:pt x="1194" y="583"/>
                  </a:lnTo>
                  <a:lnTo>
                    <a:pt x="1195" y="587"/>
                  </a:lnTo>
                  <a:lnTo>
                    <a:pt x="1196" y="590"/>
                  </a:lnTo>
                  <a:lnTo>
                    <a:pt x="1195" y="595"/>
                  </a:lnTo>
                  <a:lnTo>
                    <a:pt x="1193" y="598"/>
                  </a:lnTo>
                  <a:lnTo>
                    <a:pt x="1190" y="600"/>
                  </a:lnTo>
                  <a:lnTo>
                    <a:pt x="1186" y="602"/>
                  </a:lnTo>
                  <a:lnTo>
                    <a:pt x="1180" y="604"/>
                  </a:lnTo>
                  <a:lnTo>
                    <a:pt x="1174" y="605"/>
                  </a:lnTo>
                  <a:lnTo>
                    <a:pt x="1166" y="605"/>
                  </a:lnTo>
                  <a:lnTo>
                    <a:pt x="1156" y="606"/>
                  </a:lnTo>
                  <a:lnTo>
                    <a:pt x="1108" y="605"/>
                  </a:lnTo>
                  <a:lnTo>
                    <a:pt x="1066" y="604"/>
                  </a:lnTo>
                  <a:lnTo>
                    <a:pt x="1029" y="602"/>
                  </a:lnTo>
                  <a:lnTo>
                    <a:pt x="997" y="599"/>
                  </a:lnTo>
                  <a:lnTo>
                    <a:pt x="971" y="595"/>
                  </a:lnTo>
                  <a:lnTo>
                    <a:pt x="948" y="589"/>
                  </a:lnTo>
                  <a:lnTo>
                    <a:pt x="940" y="586"/>
                  </a:lnTo>
                  <a:lnTo>
                    <a:pt x="932" y="583"/>
                  </a:lnTo>
                  <a:lnTo>
                    <a:pt x="926" y="580"/>
                  </a:lnTo>
                  <a:lnTo>
                    <a:pt x="921" y="576"/>
                  </a:lnTo>
                  <a:lnTo>
                    <a:pt x="903" y="563"/>
                  </a:lnTo>
                  <a:lnTo>
                    <a:pt x="882" y="545"/>
                  </a:lnTo>
                  <a:lnTo>
                    <a:pt x="856" y="522"/>
                  </a:lnTo>
                  <a:lnTo>
                    <a:pt x="829" y="495"/>
                  </a:lnTo>
                  <a:lnTo>
                    <a:pt x="797" y="463"/>
                  </a:lnTo>
                  <a:lnTo>
                    <a:pt x="761" y="427"/>
                  </a:lnTo>
                  <a:lnTo>
                    <a:pt x="723" y="386"/>
                  </a:lnTo>
                  <a:lnTo>
                    <a:pt x="680" y="340"/>
                  </a:lnTo>
                  <a:lnTo>
                    <a:pt x="633" y="288"/>
                  </a:lnTo>
                  <a:lnTo>
                    <a:pt x="592" y="246"/>
                  </a:lnTo>
                  <a:lnTo>
                    <a:pt x="560" y="213"/>
                  </a:lnTo>
                  <a:lnTo>
                    <a:pt x="536" y="191"/>
                  </a:lnTo>
                  <a:lnTo>
                    <a:pt x="518" y="223"/>
                  </a:lnTo>
                  <a:lnTo>
                    <a:pt x="501" y="254"/>
                  </a:lnTo>
                  <a:lnTo>
                    <a:pt x="484" y="284"/>
                  </a:lnTo>
                  <a:lnTo>
                    <a:pt x="466" y="314"/>
                  </a:lnTo>
                  <a:lnTo>
                    <a:pt x="448" y="343"/>
                  </a:lnTo>
                  <a:lnTo>
                    <a:pt x="429" y="371"/>
                  </a:lnTo>
                  <a:lnTo>
                    <a:pt x="411" y="399"/>
                  </a:lnTo>
                  <a:lnTo>
                    <a:pt x="392" y="425"/>
                  </a:lnTo>
                  <a:lnTo>
                    <a:pt x="373" y="451"/>
                  </a:lnTo>
                  <a:lnTo>
                    <a:pt x="353" y="475"/>
                  </a:lnTo>
                  <a:lnTo>
                    <a:pt x="334" y="498"/>
                  </a:lnTo>
                  <a:lnTo>
                    <a:pt x="314" y="522"/>
                  </a:lnTo>
                  <a:lnTo>
                    <a:pt x="293" y="544"/>
                  </a:lnTo>
                  <a:lnTo>
                    <a:pt x="273" y="565"/>
                  </a:lnTo>
                  <a:lnTo>
                    <a:pt x="251" y="586"/>
                  </a:lnTo>
                  <a:lnTo>
                    <a:pt x="230" y="606"/>
                  </a:lnTo>
                  <a:lnTo>
                    <a:pt x="218" y="617"/>
                  </a:lnTo>
                  <a:lnTo>
                    <a:pt x="205" y="626"/>
                  </a:lnTo>
                  <a:lnTo>
                    <a:pt x="192" y="635"/>
                  </a:lnTo>
                  <a:lnTo>
                    <a:pt x="178" y="642"/>
                  </a:lnTo>
                  <a:lnTo>
                    <a:pt x="166" y="648"/>
                  </a:lnTo>
                  <a:lnTo>
                    <a:pt x="152" y="653"/>
                  </a:lnTo>
                  <a:lnTo>
                    <a:pt x="137" y="657"/>
                  </a:lnTo>
                  <a:lnTo>
                    <a:pt x="123" y="659"/>
                  </a:lnTo>
                  <a:lnTo>
                    <a:pt x="108" y="661"/>
                  </a:lnTo>
                  <a:lnTo>
                    <a:pt x="94" y="661"/>
                  </a:lnTo>
                  <a:lnTo>
                    <a:pt x="79" y="661"/>
                  </a:lnTo>
                  <a:lnTo>
                    <a:pt x="64" y="659"/>
                  </a:lnTo>
                  <a:lnTo>
                    <a:pt x="48" y="656"/>
                  </a:lnTo>
                  <a:lnTo>
                    <a:pt x="32" y="652"/>
                  </a:lnTo>
                  <a:lnTo>
                    <a:pt x="16" y="648"/>
                  </a:lnTo>
                  <a:lnTo>
                    <a:pt x="0" y="641"/>
                  </a:lnTo>
                  <a:lnTo>
                    <a:pt x="33" y="624"/>
                  </a:lnTo>
                  <a:lnTo>
                    <a:pt x="65" y="605"/>
                  </a:lnTo>
                  <a:lnTo>
                    <a:pt x="97" y="586"/>
                  </a:lnTo>
                  <a:lnTo>
                    <a:pt x="128" y="565"/>
                  </a:lnTo>
                  <a:lnTo>
                    <a:pt x="157" y="542"/>
                  </a:lnTo>
                  <a:lnTo>
                    <a:pt x="187" y="518"/>
                  </a:lnTo>
                  <a:lnTo>
                    <a:pt x="215" y="493"/>
                  </a:lnTo>
                  <a:lnTo>
                    <a:pt x="243" y="465"/>
                  </a:lnTo>
                  <a:lnTo>
                    <a:pt x="270" y="438"/>
                  </a:lnTo>
                  <a:lnTo>
                    <a:pt x="297" y="408"/>
                  </a:lnTo>
                  <a:lnTo>
                    <a:pt x="322" y="377"/>
                  </a:lnTo>
                  <a:lnTo>
                    <a:pt x="348" y="345"/>
                  </a:lnTo>
                  <a:lnTo>
                    <a:pt x="372" y="311"/>
                  </a:lnTo>
                  <a:lnTo>
                    <a:pt x="395" y="276"/>
                  </a:lnTo>
                  <a:lnTo>
                    <a:pt x="419" y="239"/>
                  </a:lnTo>
                  <a:lnTo>
                    <a:pt x="441" y="200"/>
                  </a:lnTo>
                  <a:lnTo>
                    <a:pt x="455" y="171"/>
                  </a:lnTo>
                  <a:lnTo>
                    <a:pt x="466" y="143"/>
                  </a:lnTo>
                  <a:lnTo>
                    <a:pt x="477" y="116"/>
                  </a:lnTo>
                  <a:lnTo>
                    <a:pt x="486" y="90"/>
                  </a:lnTo>
                  <a:lnTo>
                    <a:pt x="492" y="66"/>
                  </a:lnTo>
                  <a:lnTo>
                    <a:pt x="497" y="43"/>
                  </a:lnTo>
                  <a:lnTo>
                    <a:pt x="499" y="21"/>
                  </a:lnTo>
                  <a:lnTo>
                    <a:pt x="500" y="0"/>
                  </a:lnTo>
                  <a:close/>
                </a:path>
              </a:pathLst>
            </a:custGeom>
            <a:solidFill>
              <a:schemeClr val="tx1"/>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d79f00"/>
                </a:solidFill>
                <a:latin typeface="Arial"/>
                <a:ea typeface="宋体"/>
              </a:endParaRPr>
            </a:p>
          </p:txBody>
        </p:sp>
        <p:sp>
          <p:nvSpPr>
            <p:cNvPr id="329" name="Freeform 16"/>
            <p:cNvSpPr/>
            <p:nvPr/>
          </p:nvSpPr>
          <p:spPr>
            <a:xfrm>
              <a:off x="3173760" y="9365400"/>
              <a:ext cx="216000" cy="176040"/>
            </a:xfrm>
            <a:custGeom>
              <a:avLst/>
              <a:gdLst>
                <a:gd name="textAreaLeft" fmla="*/ 0 w 216000"/>
                <a:gd name="textAreaRight" fmla="*/ 216360 w 216000"/>
                <a:gd name="textAreaTop" fmla="*/ 0 h 176040"/>
                <a:gd name="textAreaBottom" fmla="*/ 176400 h 176040"/>
              </a:gdLst>
              <a:ahLst/>
              <a:rect l="textAreaLeft" t="textAreaTop" r="textAreaRight" b="textAreaBottom"/>
              <a:pathLst>
                <a:path w="1104" h="947">
                  <a:moveTo>
                    <a:pt x="708" y="35"/>
                  </a:moveTo>
                  <a:lnTo>
                    <a:pt x="701" y="55"/>
                  </a:lnTo>
                  <a:lnTo>
                    <a:pt x="696" y="79"/>
                  </a:lnTo>
                  <a:lnTo>
                    <a:pt x="691" y="104"/>
                  </a:lnTo>
                  <a:lnTo>
                    <a:pt x="688" y="133"/>
                  </a:lnTo>
                  <a:lnTo>
                    <a:pt x="683" y="165"/>
                  </a:lnTo>
                  <a:lnTo>
                    <a:pt x="681" y="198"/>
                  </a:lnTo>
                  <a:lnTo>
                    <a:pt x="679" y="236"/>
                  </a:lnTo>
                  <a:lnTo>
                    <a:pt x="677" y="276"/>
                  </a:lnTo>
                  <a:lnTo>
                    <a:pt x="677" y="313"/>
                  </a:lnTo>
                  <a:lnTo>
                    <a:pt x="677" y="349"/>
                  </a:lnTo>
                  <a:lnTo>
                    <a:pt x="677" y="385"/>
                  </a:lnTo>
                  <a:lnTo>
                    <a:pt x="677" y="420"/>
                  </a:lnTo>
                  <a:lnTo>
                    <a:pt x="677" y="454"/>
                  </a:lnTo>
                  <a:lnTo>
                    <a:pt x="677" y="487"/>
                  </a:lnTo>
                  <a:lnTo>
                    <a:pt x="677" y="520"/>
                  </a:lnTo>
                  <a:lnTo>
                    <a:pt x="677" y="551"/>
                  </a:lnTo>
                  <a:lnTo>
                    <a:pt x="695" y="531"/>
                  </a:lnTo>
                  <a:lnTo>
                    <a:pt x="713" y="511"/>
                  </a:lnTo>
                  <a:lnTo>
                    <a:pt x="729" y="492"/>
                  </a:lnTo>
                  <a:lnTo>
                    <a:pt x="745" y="472"/>
                  </a:lnTo>
                  <a:lnTo>
                    <a:pt x="760" y="453"/>
                  </a:lnTo>
                  <a:lnTo>
                    <a:pt x="773" y="435"/>
                  </a:lnTo>
                  <a:lnTo>
                    <a:pt x="786" y="416"/>
                  </a:lnTo>
                  <a:lnTo>
                    <a:pt x="799" y="397"/>
                  </a:lnTo>
                  <a:lnTo>
                    <a:pt x="809" y="379"/>
                  </a:lnTo>
                  <a:lnTo>
                    <a:pt x="820" y="361"/>
                  </a:lnTo>
                  <a:lnTo>
                    <a:pt x="830" y="343"/>
                  </a:lnTo>
                  <a:lnTo>
                    <a:pt x="838" y="325"/>
                  </a:lnTo>
                  <a:lnTo>
                    <a:pt x="845" y="308"/>
                  </a:lnTo>
                  <a:lnTo>
                    <a:pt x="852" y="290"/>
                  </a:lnTo>
                  <a:lnTo>
                    <a:pt x="857" y="273"/>
                  </a:lnTo>
                  <a:lnTo>
                    <a:pt x="862" y="256"/>
                  </a:lnTo>
                  <a:lnTo>
                    <a:pt x="875" y="268"/>
                  </a:lnTo>
                  <a:lnTo>
                    <a:pt x="892" y="285"/>
                  </a:lnTo>
                  <a:lnTo>
                    <a:pt x="905" y="301"/>
                  </a:lnTo>
                  <a:lnTo>
                    <a:pt x="916" y="315"/>
                  </a:lnTo>
                  <a:lnTo>
                    <a:pt x="929" y="328"/>
                  </a:lnTo>
                  <a:lnTo>
                    <a:pt x="941" y="339"/>
                  </a:lnTo>
                  <a:lnTo>
                    <a:pt x="952" y="349"/>
                  </a:lnTo>
                  <a:lnTo>
                    <a:pt x="964" y="358"/>
                  </a:lnTo>
                  <a:lnTo>
                    <a:pt x="976" y="365"/>
                  </a:lnTo>
                  <a:lnTo>
                    <a:pt x="987" y="371"/>
                  </a:lnTo>
                  <a:lnTo>
                    <a:pt x="975" y="376"/>
                  </a:lnTo>
                  <a:lnTo>
                    <a:pt x="962" y="383"/>
                  </a:lnTo>
                  <a:lnTo>
                    <a:pt x="949" y="390"/>
                  </a:lnTo>
                  <a:lnTo>
                    <a:pt x="937" y="400"/>
                  </a:lnTo>
                  <a:lnTo>
                    <a:pt x="923" y="409"/>
                  </a:lnTo>
                  <a:lnTo>
                    <a:pt x="909" y="421"/>
                  </a:lnTo>
                  <a:lnTo>
                    <a:pt x="896" y="433"/>
                  </a:lnTo>
                  <a:lnTo>
                    <a:pt x="882" y="445"/>
                  </a:lnTo>
                  <a:lnTo>
                    <a:pt x="858" y="468"/>
                  </a:lnTo>
                  <a:lnTo>
                    <a:pt x="834" y="490"/>
                  </a:lnTo>
                  <a:lnTo>
                    <a:pt x="808" y="511"/>
                  </a:lnTo>
                  <a:lnTo>
                    <a:pt x="783" y="531"/>
                  </a:lnTo>
                  <a:lnTo>
                    <a:pt x="758" y="550"/>
                  </a:lnTo>
                  <a:lnTo>
                    <a:pt x="731" y="569"/>
                  </a:lnTo>
                  <a:lnTo>
                    <a:pt x="705" y="588"/>
                  </a:lnTo>
                  <a:lnTo>
                    <a:pt x="677" y="606"/>
                  </a:lnTo>
                  <a:lnTo>
                    <a:pt x="677" y="807"/>
                  </a:lnTo>
                  <a:lnTo>
                    <a:pt x="702" y="804"/>
                  </a:lnTo>
                  <a:lnTo>
                    <a:pt x="733" y="800"/>
                  </a:lnTo>
                  <a:lnTo>
                    <a:pt x="770" y="796"/>
                  </a:lnTo>
                  <a:lnTo>
                    <a:pt x="813" y="791"/>
                  </a:lnTo>
                  <a:lnTo>
                    <a:pt x="845" y="788"/>
                  </a:lnTo>
                  <a:lnTo>
                    <a:pt x="876" y="784"/>
                  </a:lnTo>
                  <a:lnTo>
                    <a:pt x="905" y="781"/>
                  </a:lnTo>
                  <a:lnTo>
                    <a:pt x="931" y="779"/>
                  </a:lnTo>
                  <a:lnTo>
                    <a:pt x="956" y="776"/>
                  </a:lnTo>
                  <a:lnTo>
                    <a:pt x="978" y="774"/>
                  </a:lnTo>
                  <a:lnTo>
                    <a:pt x="999" y="773"/>
                  </a:lnTo>
                  <a:lnTo>
                    <a:pt x="1017" y="771"/>
                  </a:lnTo>
                  <a:lnTo>
                    <a:pt x="1024" y="772"/>
                  </a:lnTo>
                  <a:lnTo>
                    <a:pt x="1032" y="773"/>
                  </a:lnTo>
                  <a:lnTo>
                    <a:pt x="1038" y="774"/>
                  </a:lnTo>
                  <a:lnTo>
                    <a:pt x="1043" y="776"/>
                  </a:lnTo>
                  <a:lnTo>
                    <a:pt x="1049" y="779"/>
                  </a:lnTo>
                  <a:lnTo>
                    <a:pt x="1054" y="782"/>
                  </a:lnTo>
                  <a:lnTo>
                    <a:pt x="1058" y="787"/>
                  </a:lnTo>
                  <a:lnTo>
                    <a:pt x="1063" y="791"/>
                  </a:lnTo>
                  <a:lnTo>
                    <a:pt x="1074" y="811"/>
                  </a:lnTo>
                  <a:lnTo>
                    <a:pt x="1084" y="829"/>
                  </a:lnTo>
                  <a:lnTo>
                    <a:pt x="1091" y="846"/>
                  </a:lnTo>
                  <a:lnTo>
                    <a:pt x="1098" y="861"/>
                  </a:lnTo>
                  <a:lnTo>
                    <a:pt x="1102" y="872"/>
                  </a:lnTo>
                  <a:lnTo>
                    <a:pt x="1104" y="881"/>
                  </a:lnTo>
                  <a:lnTo>
                    <a:pt x="1104" y="887"/>
                  </a:lnTo>
                  <a:lnTo>
                    <a:pt x="1103" y="891"/>
                  </a:lnTo>
                  <a:lnTo>
                    <a:pt x="1101" y="894"/>
                  </a:lnTo>
                  <a:lnTo>
                    <a:pt x="1098" y="895"/>
                  </a:lnTo>
                  <a:lnTo>
                    <a:pt x="1091" y="896"/>
                  </a:lnTo>
                  <a:lnTo>
                    <a:pt x="1083" y="897"/>
                  </a:lnTo>
                  <a:lnTo>
                    <a:pt x="1041" y="891"/>
                  </a:lnTo>
                  <a:lnTo>
                    <a:pt x="997" y="887"/>
                  </a:lnTo>
                  <a:lnTo>
                    <a:pt x="950" y="884"/>
                  </a:lnTo>
                  <a:lnTo>
                    <a:pt x="900" y="883"/>
                  </a:lnTo>
                  <a:lnTo>
                    <a:pt x="849" y="882"/>
                  </a:lnTo>
                  <a:lnTo>
                    <a:pt x="794" y="882"/>
                  </a:lnTo>
                  <a:lnTo>
                    <a:pt x="736" y="884"/>
                  </a:lnTo>
                  <a:lnTo>
                    <a:pt x="676" y="886"/>
                  </a:lnTo>
                  <a:lnTo>
                    <a:pt x="613" y="890"/>
                  </a:lnTo>
                  <a:lnTo>
                    <a:pt x="548" y="895"/>
                  </a:lnTo>
                  <a:lnTo>
                    <a:pt x="479" y="901"/>
                  </a:lnTo>
                  <a:lnTo>
                    <a:pt x="408" y="907"/>
                  </a:lnTo>
                  <a:lnTo>
                    <a:pt x="335" y="916"/>
                  </a:lnTo>
                  <a:lnTo>
                    <a:pt x="258" y="924"/>
                  </a:lnTo>
                  <a:lnTo>
                    <a:pt x="179" y="935"/>
                  </a:lnTo>
                  <a:lnTo>
                    <a:pt x="97" y="947"/>
                  </a:lnTo>
                  <a:lnTo>
                    <a:pt x="90" y="946"/>
                  </a:lnTo>
                  <a:lnTo>
                    <a:pt x="83" y="942"/>
                  </a:lnTo>
                  <a:lnTo>
                    <a:pt x="73" y="938"/>
                  </a:lnTo>
                  <a:lnTo>
                    <a:pt x="64" y="933"/>
                  </a:lnTo>
                  <a:lnTo>
                    <a:pt x="52" y="924"/>
                  </a:lnTo>
                  <a:lnTo>
                    <a:pt x="39" y="915"/>
                  </a:lnTo>
                  <a:lnTo>
                    <a:pt x="27" y="904"/>
                  </a:lnTo>
                  <a:lnTo>
                    <a:pt x="12" y="891"/>
                  </a:lnTo>
                  <a:lnTo>
                    <a:pt x="5" y="884"/>
                  </a:lnTo>
                  <a:lnTo>
                    <a:pt x="2" y="879"/>
                  </a:lnTo>
                  <a:lnTo>
                    <a:pt x="1" y="877"/>
                  </a:lnTo>
                  <a:lnTo>
                    <a:pt x="0" y="875"/>
                  </a:lnTo>
                  <a:lnTo>
                    <a:pt x="1" y="872"/>
                  </a:lnTo>
                  <a:lnTo>
                    <a:pt x="2" y="871"/>
                  </a:lnTo>
                  <a:lnTo>
                    <a:pt x="2" y="870"/>
                  </a:lnTo>
                  <a:lnTo>
                    <a:pt x="3" y="869"/>
                  </a:lnTo>
                  <a:lnTo>
                    <a:pt x="4" y="869"/>
                  </a:lnTo>
                  <a:lnTo>
                    <a:pt x="7" y="869"/>
                  </a:lnTo>
                  <a:lnTo>
                    <a:pt x="13" y="869"/>
                  </a:lnTo>
                  <a:lnTo>
                    <a:pt x="22" y="871"/>
                  </a:lnTo>
                  <a:lnTo>
                    <a:pt x="61" y="868"/>
                  </a:lnTo>
                  <a:lnTo>
                    <a:pt x="101" y="865"/>
                  </a:lnTo>
                  <a:lnTo>
                    <a:pt x="142" y="862"/>
                  </a:lnTo>
                  <a:lnTo>
                    <a:pt x="186" y="859"/>
                  </a:lnTo>
                  <a:lnTo>
                    <a:pt x="231" y="854"/>
                  </a:lnTo>
                  <a:lnTo>
                    <a:pt x="278" y="850"/>
                  </a:lnTo>
                  <a:lnTo>
                    <a:pt x="326" y="846"/>
                  </a:lnTo>
                  <a:lnTo>
                    <a:pt x="377" y="842"/>
                  </a:lnTo>
                  <a:lnTo>
                    <a:pt x="377" y="793"/>
                  </a:lnTo>
                  <a:lnTo>
                    <a:pt x="377" y="747"/>
                  </a:lnTo>
                  <a:lnTo>
                    <a:pt x="377" y="704"/>
                  </a:lnTo>
                  <a:lnTo>
                    <a:pt x="377" y="665"/>
                  </a:lnTo>
                  <a:lnTo>
                    <a:pt x="377" y="628"/>
                  </a:lnTo>
                  <a:lnTo>
                    <a:pt x="377" y="595"/>
                  </a:lnTo>
                  <a:lnTo>
                    <a:pt x="377" y="564"/>
                  </a:lnTo>
                  <a:lnTo>
                    <a:pt x="377" y="535"/>
                  </a:lnTo>
                  <a:lnTo>
                    <a:pt x="377" y="505"/>
                  </a:lnTo>
                  <a:lnTo>
                    <a:pt x="377" y="475"/>
                  </a:lnTo>
                  <a:lnTo>
                    <a:pt x="376" y="445"/>
                  </a:lnTo>
                  <a:lnTo>
                    <a:pt x="376" y="416"/>
                  </a:lnTo>
                  <a:lnTo>
                    <a:pt x="375" y="387"/>
                  </a:lnTo>
                  <a:lnTo>
                    <a:pt x="374" y="359"/>
                  </a:lnTo>
                  <a:lnTo>
                    <a:pt x="373" y="332"/>
                  </a:lnTo>
                  <a:lnTo>
                    <a:pt x="372" y="305"/>
                  </a:lnTo>
                  <a:lnTo>
                    <a:pt x="371" y="273"/>
                  </a:lnTo>
                  <a:lnTo>
                    <a:pt x="368" y="241"/>
                  </a:lnTo>
                  <a:lnTo>
                    <a:pt x="365" y="211"/>
                  </a:lnTo>
                  <a:lnTo>
                    <a:pt x="359" y="184"/>
                  </a:lnTo>
                  <a:lnTo>
                    <a:pt x="354" y="156"/>
                  </a:lnTo>
                  <a:lnTo>
                    <a:pt x="348" y="132"/>
                  </a:lnTo>
                  <a:lnTo>
                    <a:pt x="340" y="107"/>
                  </a:lnTo>
                  <a:lnTo>
                    <a:pt x="332" y="86"/>
                  </a:lnTo>
                  <a:lnTo>
                    <a:pt x="345" y="91"/>
                  </a:lnTo>
                  <a:lnTo>
                    <a:pt x="360" y="97"/>
                  </a:lnTo>
                  <a:lnTo>
                    <a:pt x="376" y="102"/>
                  </a:lnTo>
                  <a:lnTo>
                    <a:pt x="394" y="107"/>
                  </a:lnTo>
                  <a:lnTo>
                    <a:pt x="414" y="112"/>
                  </a:lnTo>
                  <a:lnTo>
                    <a:pt x="436" y="115"/>
                  </a:lnTo>
                  <a:lnTo>
                    <a:pt x="458" y="118"/>
                  </a:lnTo>
                  <a:lnTo>
                    <a:pt x="482" y="121"/>
                  </a:lnTo>
                  <a:lnTo>
                    <a:pt x="476" y="141"/>
                  </a:lnTo>
                  <a:lnTo>
                    <a:pt x="470" y="163"/>
                  </a:lnTo>
                  <a:lnTo>
                    <a:pt x="466" y="190"/>
                  </a:lnTo>
                  <a:lnTo>
                    <a:pt x="462" y="219"/>
                  </a:lnTo>
                  <a:lnTo>
                    <a:pt x="459" y="249"/>
                  </a:lnTo>
                  <a:lnTo>
                    <a:pt x="456" y="284"/>
                  </a:lnTo>
                  <a:lnTo>
                    <a:pt x="454" y="321"/>
                  </a:lnTo>
                  <a:lnTo>
                    <a:pt x="452" y="361"/>
                  </a:lnTo>
                  <a:lnTo>
                    <a:pt x="454" y="382"/>
                  </a:lnTo>
                  <a:lnTo>
                    <a:pt x="455" y="405"/>
                  </a:lnTo>
                  <a:lnTo>
                    <a:pt x="456" y="432"/>
                  </a:lnTo>
                  <a:lnTo>
                    <a:pt x="456" y="459"/>
                  </a:lnTo>
                  <a:lnTo>
                    <a:pt x="457" y="490"/>
                  </a:lnTo>
                  <a:lnTo>
                    <a:pt x="457" y="523"/>
                  </a:lnTo>
                  <a:lnTo>
                    <a:pt x="457" y="559"/>
                  </a:lnTo>
                  <a:lnTo>
                    <a:pt x="457" y="596"/>
                  </a:lnTo>
                  <a:lnTo>
                    <a:pt x="457" y="633"/>
                  </a:lnTo>
                  <a:lnTo>
                    <a:pt x="457" y="667"/>
                  </a:lnTo>
                  <a:lnTo>
                    <a:pt x="457" y="700"/>
                  </a:lnTo>
                  <a:lnTo>
                    <a:pt x="457" y="729"/>
                  </a:lnTo>
                  <a:lnTo>
                    <a:pt x="457" y="758"/>
                  </a:lnTo>
                  <a:lnTo>
                    <a:pt x="457" y="784"/>
                  </a:lnTo>
                  <a:lnTo>
                    <a:pt x="457" y="809"/>
                  </a:lnTo>
                  <a:lnTo>
                    <a:pt x="457" y="831"/>
                  </a:lnTo>
                  <a:lnTo>
                    <a:pt x="491" y="827"/>
                  </a:lnTo>
                  <a:lnTo>
                    <a:pt x="524" y="823"/>
                  </a:lnTo>
                  <a:lnTo>
                    <a:pt x="560" y="819"/>
                  </a:lnTo>
                  <a:lnTo>
                    <a:pt x="598" y="816"/>
                  </a:lnTo>
                  <a:lnTo>
                    <a:pt x="597" y="745"/>
                  </a:lnTo>
                  <a:lnTo>
                    <a:pt x="597" y="674"/>
                  </a:lnTo>
                  <a:lnTo>
                    <a:pt x="595" y="601"/>
                  </a:lnTo>
                  <a:lnTo>
                    <a:pt x="594" y="527"/>
                  </a:lnTo>
                  <a:lnTo>
                    <a:pt x="593" y="453"/>
                  </a:lnTo>
                  <a:lnTo>
                    <a:pt x="591" y="376"/>
                  </a:lnTo>
                  <a:lnTo>
                    <a:pt x="589" y="299"/>
                  </a:lnTo>
                  <a:lnTo>
                    <a:pt x="587" y="221"/>
                  </a:lnTo>
                  <a:lnTo>
                    <a:pt x="588" y="183"/>
                  </a:lnTo>
                  <a:lnTo>
                    <a:pt x="587" y="146"/>
                  </a:lnTo>
                  <a:lnTo>
                    <a:pt x="585" y="115"/>
                  </a:lnTo>
                  <a:lnTo>
                    <a:pt x="582" y="86"/>
                  </a:lnTo>
                  <a:lnTo>
                    <a:pt x="577" y="60"/>
                  </a:lnTo>
                  <a:lnTo>
                    <a:pt x="572" y="36"/>
                  </a:lnTo>
                  <a:lnTo>
                    <a:pt x="569" y="27"/>
                  </a:lnTo>
                  <a:lnTo>
                    <a:pt x="566" y="17"/>
                  </a:lnTo>
                  <a:lnTo>
                    <a:pt x="562" y="9"/>
                  </a:lnTo>
                  <a:lnTo>
                    <a:pt x="557" y="0"/>
                  </a:lnTo>
                  <a:lnTo>
                    <a:pt x="570" y="7"/>
                  </a:lnTo>
                  <a:lnTo>
                    <a:pt x="585" y="12"/>
                  </a:lnTo>
                  <a:lnTo>
                    <a:pt x="602" y="17"/>
                  </a:lnTo>
                  <a:lnTo>
                    <a:pt x="620" y="21"/>
                  </a:lnTo>
                  <a:lnTo>
                    <a:pt x="639" y="26"/>
                  </a:lnTo>
                  <a:lnTo>
                    <a:pt x="660" y="30"/>
                  </a:lnTo>
                  <a:lnTo>
                    <a:pt x="683" y="33"/>
                  </a:lnTo>
                  <a:lnTo>
                    <a:pt x="708" y="35"/>
                  </a:lnTo>
                  <a:close/>
                  <a:moveTo>
                    <a:pt x="137" y="410"/>
                  </a:moveTo>
                  <a:lnTo>
                    <a:pt x="171" y="429"/>
                  </a:lnTo>
                  <a:lnTo>
                    <a:pt x="200" y="446"/>
                  </a:lnTo>
                  <a:lnTo>
                    <a:pt x="227" y="462"/>
                  </a:lnTo>
                  <a:lnTo>
                    <a:pt x="251" y="477"/>
                  </a:lnTo>
                  <a:lnTo>
                    <a:pt x="271" y="491"/>
                  </a:lnTo>
                  <a:lnTo>
                    <a:pt x="288" y="504"/>
                  </a:lnTo>
                  <a:lnTo>
                    <a:pt x="302" y="515"/>
                  </a:lnTo>
                  <a:lnTo>
                    <a:pt x="312" y="526"/>
                  </a:lnTo>
                  <a:lnTo>
                    <a:pt x="313" y="534"/>
                  </a:lnTo>
                  <a:lnTo>
                    <a:pt x="313" y="544"/>
                  </a:lnTo>
                  <a:lnTo>
                    <a:pt x="311" y="557"/>
                  </a:lnTo>
                  <a:lnTo>
                    <a:pt x="308" y="569"/>
                  </a:lnTo>
                  <a:lnTo>
                    <a:pt x="304" y="585"/>
                  </a:lnTo>
                  <a:lnTo>
                    <a:pt x="300" y="602"/>
                  </a:lnTo>
                  <a:lnTo>
                    <a:pt x="294" y="620"/>
                  </a:lnTo>
                  <a:lnTo>
                    <a:pt x="287" y="641"/>
                  </a:lnTo>
                  <a:lnTo>
                    <a:pt x="282" y="652"/>
                  </a:lnTo>
                  <a:lnTo>
                    <a:pt x="279" y="659"/>
                  </a:lnTo>
                  <a:lnTo>
                    <a:pt x="275" y="665"/>
                  </a:lnTo>
                  <a:lnTo>
                    <a:pt x="272" y="666"/>
                  </a:lnTo>
                  <a:lnTo>
                    <a:pt x="267" y="665"/>
                  </a:lnTo>
                  <a:lnTo>
                    <a:pt x="262" y="663"/>
                  </a:lnTo>
                  <a:lnTo>
                    <a:pt x="257" y="657"/>
                  </a:lnTo>
                  <a:lnTo>
                    <a:pt x="252" y="651"/>
                  </a:lnTo>
                  <a:lnTo>
                    <a:pt x="243" y="638"/>
                  </a:lnTo>
                  <a:lnTo>
                    <a:pt x="232" y="621"/>
                  </a:lnTo>
                  <a:lnTo>
                    <a:pt x="220" y="602"/>
                  </a:lnTo>
                  <a:lnTo>
                    <a:pt x="207" y="579"/>
                  </a:lnTo>
                  <a:lnTo>
                    <a:pt x="193" y="551"/>
                  </a:lnTo>
                  <a:lnTo>
                    <a:pt x="177" y="522"/>
                  </a:lnTo>
                  <a:lnTo>
                    <a:pt x="160" y="488"/>
                  </a:lnTo>
                  <a:lnTo>
                    <a:pt x="142" y="451"/>
                  </a:lnTo>
                  <a:lnTo>
                    <a:pt x="134" y="434"/>
                  </a:lnTo>
                  <a:lnTo>
                    <a:pt x="127" y="421"/>
                  </a:lnTo>
                  <a:lnTo>
                    <a:pt x="125" y="416"/>
                  </a:lnTo>
                  <a:lnTo>
                    <a:pt x="124" y="410"/>
                  </a:lnTo>
                  <a:lnTo>
                    <a:pt x="124" y="407"/>
                  </a:lnTo>
                  <a:lnTo>
                    <a:pt x="124" y="406"/>
                  </a:lnTo>
                  <a:lnTo>
                    <a:pt x="126" y="405"/>
                  </a:lnTo>
                  <a:lnTo>
                    <a:pt x="129" y="406"/>
                  </a:lnTo>
                  <a:lnTo>
                    <a:pt x="133" y="407"/>
                  </a:lnTo>
                  <a:lnTo>
                    <a:pt x="137" y="410"/>
                  </a:lnTo>
                  <a:close/>
                </a:path>
              </a:pathLst>
            </a:custGeom>
            <a:solidFill>
              <a:schemeClr val="tx1"/>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d79f00"/>
                </a:solidFill>
                <a:latin typeface="Arial"/>
                <a:ea typeface="宋体"/>
              </a:endParaRPr>
            </a:p>
          </p:txBody>
        </p:sp>
        <p:sp>
          <p:nvSpPr>
            <p:cNvPr id="330" name="Freeform 17"/>
            <p:cNvSpPr/>
            <p:nvPr/>
          </p:nvSpPr>
          <p:spPr>
            <a:xfrm>
              <a:off x="3422880" y="9347040"/>
              <a:ext cx="202320" cy="222840"/>
            </a:xfrm>
            <a:custGeom>
              <a:avLst/>
              <a:gdLst>
                <a:gd name="textAreaLeft" fmla="*/ 0 w 202320"/>
                <a:gd name="textAreaRight" fmla="*/ 202680 w 202320"/>
                <a:gd name="textAreaTop" fmla="*/ 0 h 222840"/>
                <a:gd name="textAreaBottom" fmla="*/ 223200 h 222840"/>
              </a:gdLst>
              <a:ahLst/>
              <a:rect l="textAreaLeft" t="textAreaTop" r="textAreaRight" b="textAreaBottom"/>
              <a:pathLst>
                <a:path w="1037" h="1206">
                  <a:moveTo>
                    <a:pt x="246" y="560"/>
                  </a:moveTo>
                  <a:lnTo>
                    <a:pt x="263" y="566"/>
                  </a:lnTo>
                  <a:lnTo>
                    <a:pt x="282" y="573"/>
                  </a:lnTo>
                  <a:lnTo>
                    <a:pt x="303" y="580"/>
                  </a:lnTo>
                  <a:lnTo>
                    <a:pt x="326" y="590"/>
                  </a:lnTo>
                  <a:lnTo>
                    <a:pt x="335" y="594"/>
                  </a:lnTo>
                  <a:lnTo>
                    <a:pt x="341" y="595"/>
                  </a:lnTo>
                  <a:lnTo>
                    <a:pt x="389" y="588"/>
                  </a:lnTo>
                  <a:lnTo>
                    <a:pt x="432" y="579"/>
                  </a:lnTo>
                  <a:lnTo>
                    <a:pt x="470" y="572"/>
                  </a:lnTo>
                  <a:lnTo>
                    <a:pt x="504" y="563"/>
                  </a:lnTo>
                  <a:lnTo>
                    <a:pt x="533" y="555"/>
                  </a:lnTo>
                  <a:lnTo>
                    <a:pt x="557" y="548"/>
                  </a:lnTo>
                  <a:lnTo>
                    <a:pt x="568" y="543"/>
                  </a:lnTo>
                  <a:lnTo>
                    <a:pt x="576" y="539"/>
                  </a:lnTo>
                  <a:lnTo>
                    <a:pt x="585" y="534"/>
                  </a:lnTo>
                  <a:lnTo>
                    <a:pt x="591" y="530"/>
                  </a:lnTo>
                  <a:lnTo>
                    <a:pt x="607" y="541"/>
                  </a:lnTo>
                  <a:lnTo>
                    <a:pt x="624" y="551"/>
                  </a:lnTo>
                  <a:lnTo>
                    <a:pt x="642" y="560"/>
                  </a:lnTo>
                  <a:lnTo>
                    <a:pt x="661" y="569"/>
                  </a:lnTo>
                  <a:lnTo>
                    <a:pt x="682" y="576"/>
                  </a:lnTo>
                  <a:lnTo>
                    <a:pt x="705" y="584"/>
                  </a:lnTo>
                  <a:lnTo>
                    <a:pt x="727" y="590"/>
                  </a:lnTo>
                  <a:lnTo>
                    <a:pt x="751" y="595"/>
                  </a:lnTo>
                  <a:lnTo>
                    <a:pt x="738" y="601"/>
                  </a:lnTo>
                  <a:lnTo>
                    <a:pt x="726" y="609"/>
                  </a:lnTo>
                  <a:lnTo>
                    <a:pt x="713" y="620"/>
                  </a:lnTo>
                  <a:lnTo>
                    <a:pt x="699" y="631"/>
                  </a:lnTo>
                  <a:lnTo>
                    <a:pt x="686" y="645"/>
                  </a:lnTo>
                  <a:lnTo>
                    <a:pt x="671" y="662"/>
                  </a:lnTo>
                  <a:lnTo>
                    <a:pt x="657" y="680"/>
                  </a:lnTo>
                  <a:lnTo>
                    <a:pt x="642" y="700"/>
                  </a:lnTo>
                  <a:lnTo>
                    <a:pt x="651" y="705"/>
                  </a:lnTo>
                  <a:lnTo>
                    <a:pt x="658" y="711"/>
                  </a:lnTo>
                  <a:lnTo>
                    <a:pt x="665" y="717"/>
                  </a:lnTo>
                  <a:lnTo>
                    <a:pt x="673" y="723"/>
                  </a:lnTo>
                  <a:lnTo>
                    <a:pt x="679" y="731"/>
                  </a:lnTo>
                  <a:lnTo>
                    <a:pt x="686" y="738"/>
                  </a:lnTo>
                  <a:lnTo>
                    <a:pt x="692" y="747"/>
                  </a:lnTo>
                  <a:lnTo>
                    <a:pt x="697" y="755"/>
                  </a:lnTo>
                  <a:lnTo>
                    <a:pt x="658" y="757"/>
                  </a:lnTo>
                  <a:lnTo>
                    <a:pt x="619" y="761"/>
                  </a:lnTo>
                  <a:lnTo>
                    <a:pt x="577" y="765"/>
                  </a:lnTo>
                  <a:lnTo>
                    <a:pt x="535" y="769"/>
                  </a:lnTo>
                  <a:lnTo>
                    <a:pt x="492" y="773"/>
                  </a:lnTo>
                  <a:lnTo>
                    <a:pt x="446" y="779"/>
                  </a:lnTo>
                  <a:lnTo>
                    <a:pt x="400" y="784"/>
                  </a:lnTo>
                  <a:lnTo>
                    <a:pt x="352" y="790"/>
                  </a:lnTo>
                  <a:lnTo>
                    <a:pt x="352" y="895"/>
                  </a:lnTo>
                  <a:lnTo>
                    <a:pt x="415" y="886"/>
                  </a:lnTo>
                  <a:lnTo>
                    <a:pt x="472" y="876"/>
                  </a:lnTo>
                  <a:lnTo>
                    <a:pt x="520" y="868"/>
                  </a:lnTo>
                  <a:lnTo>
                    <a:pt x="562" y="859"/>
                  </a:lnTo>
                  <a:lnTo>
                    <a:pt x="595" y="851"/>
                  </a:lnTo>
                  <a:lnTo>
                    <a:pt x="622" y="843"/>
                  </a:lnTo>
                  <a:lnTo>
                    <a:pt x="631" y="840"/>
                  </a:lnTo>
                  <a:lnTo>
                    <a:pt x="640" y="837"/>
                  </a:lnTo>
                  <a:lnTo>
                    <a:pt x="647" y="834"/>
                  </a:lnTo>
                  <a:lnTo>
                    <a:pt x="652" y="830"/>
                  </a:lnTo>
                  <a:lnTo>
                    <a:pt x="671" y="844"/>
                  </a:lnTo>
                  <a:lnTo>
                    <a:pt x="691" y="857"/>
                  </a:lnTo>
                  <a:lnTo>
                    <a:pt x="711" y="869"/>
                  </a:lnTo>
                  <a:lnTo>
                    <a:pt x="732" y="878"/>
                  </a:lnTo>
                  <a:lnTo>
                    <a:pt x="753" y="886"/>
                  </a:lnTo>
                  <a:lnTo>
                    <a:pt x="776" y="892"/>
                  </a:lnTo>
                  <a:lnTo>
                    <a:pt x="798" y="897"/>
                  </a:lnTo>
                  <a:lnTo>
                    <a:pt x="821" y="900"/>
                  </a:lnTo>
                  <a:lnTo>
                    <a:pt x="813" y="905"/>
                  </a:lnTo>
                  <a:lnTo>
                    <a:pt x="803" y="910"/>
                  </a:lnTo>
                  <a:lnTo>
                    <a:pt x="795" y="915"/>
                  </a:lnTo>
                  <a:lnTo>
                    <a:pt x="786" y="922"/>
                  </a:lnTo>
                  <a:lnTo>
                    <a:pt x="778" y="928"/>
                  </a:lnTo>
                  <a:lnTo>
                    <a:pt x="770" y="935"/>
                  </a:lnTo>
                  <a:lnTo>
                    <a:pt x="763" y="943"/>
                  </a:lnTo>
                  <a:lnTo>
                    <a:pt x="755" y="950"/>
                  </a:lnTo>
                  <a:lnTo>
                    <a:pt x="742" y="967"/>
                  </a:lnTo>
                  <a:lnTo>
                    <a:pt x="729" y="986"/>
                  </a:lnTo>
                  <a:lnTo>
                    <a:pt x="717" y="1007"/>
                  </a:lnTo>
                  <a:lnTo>
                    <a:pt x="707" y="1031"/>
                  </a:lnTo>
                  <a:lnTo>
                    <a:pt x="715" y="1036"/>
                  </a:lnTo>
                  <a:lnTo>
                    <a:pt x="724" y="1041"/>
                  </a:lnTo>
                  <a:lnTo>
                    <a:pt x="731" y="1048"/>
                  </a:lnTo>
                  <a:lnTo>
                    <a:pt x="740" y="1054"/>
                  </a:lnTo>
                  <a:lnTo>
                    <a:pt x="747" y="1061"/>
                  </a:lnTo>
                  <a:lnTo>
                    <a:pt x="753" y="1069"/>
                  </a:lnTo>
                  <a:lnTo>
                    <a:pt x="761" y="1076"/>
                  </a:lnTo>
                  <a:lnTo>
                    <a:pt x="767" y="1085"/>
                  </a:lnTo>
                  <a:lnTo>
                    <a:pt x="722" y="1086"/>
                  </a:lnTo>
                  <a:lnTo>
                    <a:pt x="675" y="1087"/>
                  </a:lnTo>
                  <a:lnTo>
                    <a:pt x="626" y="1088"/>
                  </a:lnTo>
                  <a:lnTo>
                    <a:pt x="575" y="1090"/>
                  </a:lnTo>
                  <a:lnTo>
                    <a:pt x="522" y="1093"/>
                  </a:lnTo>
                  <a:lnTo>
                    <a:pt x="467" y="1096"/>
                  </a:lnTo>
                  <a:lnTo>
                    <a:pt x="410" y="1101"/>
                  </a:lnTo>
                  <a:lnTo>
                    <a:pt x="352" y="1105"/>
                  </a:lnTo>
                  <a:lnTo>
                    <a:pt x="351" y="1113"/>
                  </a:lnTo>
                  <a:lnTo>
                    <a:pt x="350" y="1122"/>
                  </a:lnTo>
                  <a:lnTo>
                    <a:pt x="349" y="1130"/>
                  </a:lnTo>
                  <a:lnTo>
                    <a:pt x="347" y="1140"/>
                  </a:lnTo>
                  <a:lnTo>
                    <a:pt x="346" y="1171"/>
                  </a:lnTo>
                  <a:lnTo>
                    <a:pt x="344" y="1192"/>
                  </a:lnTo>
                  <a:lnTo>
                    <a:pt x="342" y="1198"/>
                  </a:lnTo>
                  <a:lnTo>
                    <a:pt x="341" y="1203"/>
                  </a:lnTo>
                  <a:lnTo>
                    <a:pt x="340" y="1205"/>
                  </a:lnTo>
                  <a:lnTo>
                    <a:pt x="339" y="1206"/>
                  </a:lnTo>
                  <a:lnTo>
                    <a:pt x="338" y="1206"/>
                  </a:lnTo>
                  <a:lnTo>
                    <a:pt x="336" y="1206"/>
                  </a:lnTo>
                  <a:lnTo>
                    <a:pt x="326" y="1197"/>
                  </a:lnTo>
                  <a:lnTo>
                    <a:pt x="316" y="1189"/>
                  </a:lnTo>
                  <a:lnTo>
                    <a:pt x="305" y="1179"/>
                  </a:lnTo>
                  <a:lnTo>
                    <a:pt x="296" y="1167"/>
                  </a:lnTo>
                  <a:lnTo>
                    <a:pt x="273" y="1143"/>
                  </a:lnTo>
                  <a:lnTo>
                    <a:pt x="251" y="1116"/>
                  </a:lnTo>
                  <a:lnTo>
                    <a:pt x="258" y="1090"/>
                  </a:lnTo>
                  <a:lnTo>
                    <a:pt x="263" y="1057"/>
                  </a:lnTo>
                  <a:lnTo>
                    <a:pt x="267" y="1019"/>
                  </a:lnTo>
                  <a:lnTo>
                    <a:pt x="270" y="976"/>
                  </a:lnTo>
                  <a:lnTo>
                    <a:pt x="273" y="925"/>
                  </a:lnTo>
                  <a:lnTo>
                    <a:pt x="275" y="868"/>
                  </a:lnTo>
                  <a:lnTo>
                    <a:pt x="276" y="804"/>
                  </a:lnTo>
                  <a:lnTo>
                    <a:pt x="277" y="735"/>
                  </a:lnTo>
                  <a:lnTo>
                    <a:pt x="276" y="711"/>
                  </a:lnTo>
                  <a:lnTo>
                    <a:pt x="275" y="686"/>
                  </a:lnTo>
                  <a:lnTo>
                    <a:pt x="272" y="663"/>
                  </a:lnTo>
                  <a:lnTo>
                    <a:pt x="269" y="641"/>
                  </a:lnTo>
                  <a:lnTo>
                    <a:pt x="265" y="620"/>
                  </a:lnTo>
                  <a:lnTo>
                    <a:pt x="260" y="599"/>
                  </a:lnTo>
                  <a:lnTo>
                    <a:pt x="253" y="579"/>
                  </a:lnTo>
                  <a:lnTo>
                    <a:pt x="246" y="560"/>
                  </a:lnTo>
                  <a:close/>
                  <a:moveTo>
                    <a:pt x="416" y="314"/>
                  </a:moveTo>
                  <a:lnTo>
                    <a:pt x="460" y="320"/>
                  </a:lnTo>
                  <a:lnTo>
                    <a:pt x="494" y="325"/>
                  </a:lnTo>
                  <a:lnTo>
                    <a:pt x="519" y="329"/>
                  </a:lnTo>
                  <a:lnTo>
                    <a:pt x="536" y="335"/>
                  </a:lnTo>
                  <a:lnTo>
                    <a:pt x="539" y="339"/>
                  </a:lnTo>
                  <a:lnTo>
                    <a:pt x="541" y="345"/>
                  </a:lnTo>
                  <a:lnTo>
                    <a:pt x="543" y="353"/>
                  </a:lnTo>
                  <a:lnTo>
                    <a:pt x="544" y="361"/>
                  </a:lnTo>
                  <a:lnTo>
                    <a:pt x="546" y="382"/>
                  </a:lnTo>
                  <a:lnTo>
                    <a:pt x="547" y="410"/>
                  </a:lnTo>
                  <a:lnTo>
                    <a:pt x="547" y="411"/>
                  </a:lnTo>
                  <a:lnTo>
                    <a:pt x="547" y="415"/>
                  </a:lnTo>
                  <a:lnTo>
                    <a:pt x="611" y="403"/>
                  </a:lnTo>
                  <a:lnTo>
                    <a:pt x="669" y="394"/>
                  </a:lnTo>
                  <a:lnTo>
                    <a:pt x="718" y="384"/>
                  </a:lnTo>
                  <a:lnTo>
                    <a:pt x="761" y="375"/>
                  </a:lnTo>
                  <a:lnTo>
                    <a:pt x="795" y="366"/>
                  </a:lnTo>
                  <a:lnTo>
                    <a:pt x="821" y="359"/>
                  </a:lnTo>
                  <a:lnTo>
                    <a:pt x="832" y="355"/>
                  </a:lnTo>
                  <a:lnTo>
                    <a:pt x="840" y="351"/>
                  </a:lnTo>
                  <a:lnTo>
                    <a:pt x="847" y="348"/>
                  </a:lnTo>
                  <a:lnTo>
                    <a:pt x="852" y="345"/>
                  </a:lnTo>
                  <a:lnTo>
                    <a:pt x="871" y="364"/>
                  </a:lnTo>
                  <a:lnTo>
                    <a:pt x="891" y="382"/>
                  </a:lnTo>
                  <a:lnTo>
                    <a:pt x="913" y="400"/>
                  </a:lnTo>
                  <a:lnTo>
                    <a:pt x="935" y="416"/>
                  </a:lnTo>
                  <a:lnTo>
                    <a:pt x="959" y="431"/>
                  </a:lnTo>
                  <a:lnTo>
                    <a:pt x="984" y="445"/>
                  </a:lnTo>
                  <a:lnTo>
                    <a:pt x="1010" y="458"/>
                  </a:lnTo>
                  <a:lnTo>
                    <a:pt x="1037" y="470"/>
                  </a:lnTo>
                  <a:lnTo>
                    <a:pt x="1002" y="488"/>
                  </a:lnTo>
                  <a:lnTo>
                    <a:pt x="969" y="505"/>
                  </a:lnTo>
                  <a:lnTo>
                    <a:pt x="937" y="520"/>
                  </a:lnTo>
                  <a:lnTo>
                    <a:pt x="906" y="535"/>
                  </a:lnTo>
                  <a:lnTo>
                    <a:pt x="875" y="548"/>
                  </a:lnTo>
                  <a:lnTo>
                    <a:pt x="847" y="560"/>
                  </a:lnTo>
                  <a:lnTo>
                    <a:pt x="819" y="571"/>
                  </a:lnTo>
                  <a:lnTo>
                    <a:pt x="791" y="579"/>
                  </a:lnTo>
                  <a:lnTo>
                    <a:pt x="771" y="584"/>
                  </a:lnTo>
                  <a:lnTo>
                    <a:pt x="762" y="585"/>
                  </a:lnTo>
                  <a:lnTo>
                    <a:pt x="760" y="581"/>
                  </a:lnTo>
                  <a:lnTo>
                    <a:pt x="761" y="576"/>
                  </a:lnTo>
                  <a:lnTo>
                    <a:pt x="763" y="569"/>
                  </a:lnTo>
                  <a:lnTo>
                    <a:pt x="767" y="560"/>
                  </a:lnTo>
                  <a:lnTo>
                    <a:pt x="788" y="521"/>
                  </a:lnTo>
                  <a:lnTo>
                    <a:pt x="806" y="486"/>
                  </a:lnTo>
                  <a:lnTo>
                    <a:pt x="823" y="454"/>
                  </a:lnTo>
                  <a:lnTo>
                    <a:pt x="837" y="425"/>
                  </a:lnTo>
                  <a:lnTo>
                    <a:pt x="791" y="433"/>
                  </a:lnTo>
                  <a:lnTo>
                    <a:pt x="736" y="442"/>
                  </a:lnTo>
                  <a:lnTo>
                    <a:pt x="671" y="452"/>
                  </a:lnTo>
                  <a:lnTo>
                    <a:pt x="594" y="464"/>
                  </a:lnTo>
                  <a:lnTo>
                    <a:pt x="508" y="475"/>
                  </a:lnTo>
                  <a:lnTo>
                    <a:pt x="411" y="489"/>
                  </a:lnTo>
                  <a:lnTo>
                    <a:pt x="304" y="504"/>
                  </a:lnTo>
                  <a:lnTo>
                    <a:pt x="187" y="520"/>
                  </a:lnTo>
                  <a:lnTo>
                    <a:pt x="167" y="500"/>
                  </a:lnTo>
                  <a:lnTo>
                    <a:pt x="163" y="527"/>
                  </a:lnTo>
                  <a:lnTo>
                    <a:pt x="160" y="554"/>
                  </a:lnTo>
                  <a:lnTo>
                    <a:pt x="156" y="580"/>
                  </a:lnTo>
                  <a:lnTo>
                    <a:pt x="152" y="606"/>
                  </a:lnTo>
                  <a:lnTo>
                    <a:pt x="146" y="631"/>
                  </a:lnTo>
                  <a:lnTo>
                    <a:pt x="140" y="657"/>
                  </a:lnTo>
                  <a:lnTo>
                    <a:pt x="134" y="681"/>
                  </a:lnTo>
                  <a:lnTo>
                    <a:pt x="126" y="705"/>
                  </a:lnTo>
                  <a:lnTo>
                    <a:pt x="114" y="697"/>
                  </a:lnTo>
                  <a:lnTo>
                    <a:pt x="101" y="688"/>
                  </a:lnTo>
                  <a:lnTo>
                    <a:pt x="87" y="681"/>
                  </a:lnTo>
                  <a:lnTo>
                    <a:pt x="72" y="674"/>
                  </a:lnTo>
                  <a:lnTo>
                    <a:pt x="58" y="667"/>
                  </a:lnTo>
                  <a:lnTo>
                    <a:pt x="43" y="661"/>
                  </a:lnTo>
                  <a:lnTo>
                    <a:pt x="28" y="656"/>
                  </a:lnTo>
                  <a:lnTo>
                    <a:pt x="12" y="650"/>
                  </a:lnTo>
                  <a:lnTo>
                    <a:pt x="7" y="648"/>
                  </a:lnTo>
                  <a:lnTo>
                    <a:pt x="3" y="646"/>
                  </a:lnTo>
                  <a:lnTo>
                    <a:pt x="1" y="644"/>
                  </a:lnTo>
                  <a:lnTo>
                    <a:pt x="0" y="641"/>
                  </a:lnTo>
                  <a:lnTo>
                    <a:pt x="0" y="638"/>
                  </a:lnTo>
                  <a:lnTo>
                    <a:pt x="1" y="634"/>
                  </a:lnTo>
                  <a:lnTo>
                    <a:pt x="3" y="630"/>
                  </a:lnTo>
                  <a:lnTo>
                    <a:pt x="7" y="625"/>
                  </a:lnTo>
                  <a:lnTo>
                    <a:pt x="26" y="606"/>
                  </a:lnTo>
                  <a:lnTo>
                    <a:pt x="44" y="584"/>
                  </a:lnTo>
                  <a:lnTo>
                    <a:pt x="63" y="561"/>
                  </a:lnTo>
                  <a:lnTo>
                    <a:pt x="82" y="536"/>
                  </a:lnTo>
                  <a:lnTo>
                    <a:pt x="100" y="509"/>
                  </a:lnTo>
                  <a:lnTo>
                    <a:pt x="119" y="482"/>
                  </a:lnTo>
                  <a:lnTo>
                    <a:pt x="138" y="451"/>
                  </a:lnTo>
                  <a:lnTo>
                    <a:pt x="156" y="419"/>
                  </a:lnTo>
                  <a:lnTo>
                    <a:pt x="159" y="415"/>
                  </a:lnTo>
                  <a:lnTo>
                    <a:pt x="161" y="412"/>
                  </a:lnTo>
                  <a:lnTo>
                    <a:pt x="164" y="411"/>
                  </a:lnTo>
                  <a:lnTo>
                    <a:pt x="167" y="410"/>
                  </a:lnTo>
                  <a:lnTo>
                    <a:pt x="169" y="413"/>
                  </a:lnTo>
                  <a:lnTo>
                    <a:pt x="171" y="416"/>
                  </a:lnTo>
                  <a:lnTo>
                    <a:pt x="171" y="420"/>
                  </a:lnTo>
                  <a:lnTo>
                    <a:pt x="172" y="425"/>
                  </a:lnTo>
                  <a:lnTo>
                    <a:pt x="172" y="433"/>
                  </a:lnTo>
                  <a:lnTo>
                    <a:pt x="172" y="443"/>
                  </a:lnTo>
                  <a:lnTo>
                    <a:pt x="172" y="453"/>
                  </a:lnTo>
                  <a:lnTo>
                    <a:pt x="172" y="465"/>
                  </a:lnTo>
                  <a:lnTo>
                    <a:pt x="221" y="458"/>
                  </a:lnTo>
                  <a:lnTo>
                    <a:pt x="268" y="452"/>
                  </a:lnTo>
                  <a:lnTo>
                    <a:pt x="313" y="447"/>
                  </a:lnTo>
                  <a:lnTo>
                    <a:pt x="356" y="440"/>
                  </a:lnTo>
                  <a:lnTo>
                    <a:pt x="398" y="435"/>
                  </a:lnTo>
                  <a:lnTo>
                    <a:pt x="438" y="430"/>
                  </a:lnTo>
                  <a:lnTo>
                    <a:pt x="476" y="425"/>
                  </a:lnTo>
                  <a:lnTo>
                    <a:pt x="512" y="419"/>
                  </a:lnTo>
                  <a:lnTo>
                    <a:pt x="479" y="396"/>
                  </a:lnTo>
                  <a:lnTo>
                    <a:pt x="451" y="374"/>
                  </a:lnTo>
                  <a:lnTo>
                    <a:pt x="440" y="363"/>
                  </a:lnTo>
                  <a:lnTo>
                    <a:pt x="429" y="354"/>
                  </a:lnTo>
                  <a:lnTo>
                    <a:pt x="420" y="344"/>
                  </a:lnTo>
                  <a:lnTo>
                    <a:pt x="411" y="335"/>
                  </a:lnTo>
                  <a:lnTo>
                    <a:pt x="407" y="328"/>
                  </a:lnTo>
                  <a:lnTo>
                    <a:pt x="404" y="322"/>
                  </a:lnTo>
                  <a:lnTo>
                    <a:pt x="403" y="318"/>
                  </a:lnTo>
                  <a:lnTo>
                    <a:pt x="402" y="314"/>
                  </a:lnTo>
                  <a:lnTo>
                    <a:pt x="405" y="312"/>
                  </a:lnTo>
                  <a:lnTo>
                    <a:pt x="408" y="312"/>
                  </a:lnTo>
                  <a:lnTo>
                    <a:pt x="412" y="312"/>
                  </a:lnTo>
                  <a:lnTo>
                    <a:pt x="416" y="314"/>
                  </a:lnTo>
                  <a:close/>
                  <a:moveTo>
                    <a:pt x="462" y="130"/>
                  </a:moveTo>
                  <a:lnTo>
                    <a:pt x="470" y="138"/>
                  </a:lnTo>
                  <a:lnTo>
                    <a:pt x="486" y="154"/>
                  </a:lnTo>
                  <a:lnTo>
                    <a:pt x="491" y="159"/>
                  </a:lnTo>
                  <a:lnTo>
                    <a:pt x="492" y="160"/>
                  </a:lnTo>
                  <a:lnTo>
                    <a:pt x="494" y="163"/>
                  </a:lnTo>
                  <a:lnTo>
                    <a:pt x="495" y="166"/>
                  </a:lnTo>
                  <a:lnTo>
                    <a:pt x="495" y="169"/>
                  </a:lnTo>
                  <a:lnTo>
                    <a:pt x="494" y="172"/>
                  </a:lnTo>
                  <a:lnTo>
                    <a:pt x="493" y="174"/>
                  </a:lnTo>
                  <a:lnTo>
                    <a:pt x="490" y="177"/>
                  </a:lnTo>
                  <a:lnTo>
                    <a:pt x="486" y="178"/>
                  </a:lnTo>
                  <a:lnTo>
                    <a:pt x="482" y="180"/>
                  </a:lnTo>
                  <a:lnTo>
                    <a:pt x="446" y="189"/>
                  </a:lnTo>
                  <a:lnTo>
                    <a:pt x="414" y="197"/>
                  </a:lnTo>
                  <a:lnTo>
                    <a:pt x="386" y="204"/>
                  </a:lnTo>
                  <a:lnTo>
                    <a:pt x="361" y="209"/>
                  </a:lnTo>
                  <a:lnTo>
                    <a:pt x="341" y="214"/>
                  </a:lnTo>
                  <a:lnTo>
                    <a:pt x="324" y="217"/>
                  </a:lnTo>
                  <a:lnTo>
                    <a:pt x="311" y="219"/>
                  </a:lnTo>
                  <a:lnTo>
                    <a:pt x="301" y="220"/>
                  </a:lnTo>
                  <a:lnTo>
                    <a:pt x="289" y="219"/>
                  </a:lnTo>
                  <a:lnTo>
                    <a:pt x="277" y="216"/>
                  </a:lnTo>
                  <a:lnTo>
                    <a:pt x="264" y="212"/>
                  </a:lnTo>
                  <a:lnTo>
                    <a:pt x="251" y="204"/>
                  </a:lnTo>
                  <a:lnTo>
                    <a:pt x="228" y="250"/>
                  </a:lnTo>
                  <a:lnTo>
                    <a:pt x="207" y="287"/>
                  </a:lnTo>
                  <a:lnTo>
                    <a:pt x="197" y="303"/>
                  </a:lnTo>
                  <a:lnTo>
                    <a:pt x="188" y="315"/>
                  </a:lnTo>
                  <a:lnTo>
                    <a:pt x="179" y="326"/>
                  </a:lnTo>
                  <a:lnTo>
                    <a:pt x="172" y="335"/>
                  </a:lnTo>
                  <a:lnTo>
                    <a:pt x="165" y="341"/>
                  </a:lnTo>
                  <a:lnTo>
                    <a:pt x="159" y="347"/>
                  </a:lnTo>
                  <a:lnTo>
                    <a:pt x="153" y="353"/>
                  </a:lnTo>
                  <a:lnTo>
                    <a:pt x="145" y="357"/>
                  </a:lnTo>
                  <a:lnTo>
                    <a:pt x="138" y="360"/>
                  </a:lnTo>
                  <a:lnTo>
                    <a:pt x="129" y="363"/>
                  </a:lnTo>
                  <a:lnTo>
                    <a:pt x="121" y="364"/>
                  </a:lnTo>
                  <a:lnTo>
                    <a:pt x="111" y="366"/>
                  </a:lnTo>
                  <a:lnTo>
                    <a:pt x="102" y="366"/>
                  </a:lnTo>
                  <a:lnTo>
                    <a:pt x="91" y="366"/>
                  </a:lnTo>
                  <a:lnTo>
                    <a:pt x="81" y="365"/>
                  </a:lnTo>
                  <a:lnTo>
                    <a:pt x="70" y="364"/>
                  </a:lnTo>
                  <a:lnTo>
                    <a:pt x="58" y="361"/>
                  </a:lnTo>
                  <a:lnTo>
                    <a:pt x="47" y="358"/>
                  </a:lnTo>
                  <a:lnTo>
                    <a:pt x="34" y="355"/>
                  </a:lnTo>
                  <a:lnTo>
                    <a:pt x="21" y="349"/>
                  </a:lnTo>
                  <a:lnTo>
                    <a:pt x="44" y="335"/>
                  </a:lnTo>
                  <a:lnTo>
                    <a:pt x="64" y="320"/>
                  </a:lnTo>
                  <a:lnTo>
                    <a:pt x="83" y="304"/>
                  </a:lnTo>
                  <a:lnTo>
                    <a:pt x="101" y="287"/>
                  </a:lnTo>
                  <a:lnTo>
                    <a:pt x="118" y="269"/>
                  </a:lnTo>
                  <a:lnTo>
                    <a:pt x="134" y="251"/>
                  </a:lnTo>
                  <a:lnTo>
                    <a:pt x="147" y="232"/>
                  </a:lnTo>
                  <a:lnTo>
                    <a:pt x="160" y="212"/>
                  </a:lnTo>
                  <a:lnTo>
                    <a:pt x="172" y="191"/>
                  </a:lnTo>
                  <a:lnTo>
                    <a:pt x="182" y="170"/>
                  </a:lnTo>
                  <a:lnTo>
                    <a:pt x="191" y="149"/>
                  </a:lnTo>
                  <a:lnTo>
                    <a:pt x="198" y="127"/>
                  </a:lnTo>
                  <a:lnTo>
                    <a:pt x="205" y="103"/>
                  </a:lnTo>
                  <a:lnTo>
                    <a:pt x="210" y="79"/>
                  </a:lnTo>
                  <a:lnTo>
                    <a:pt x="214" y="55"/>
                  </a:lnTo>
                  <a:lnTo>
                    <a:pt x="216" y="29"/>
                  </a:lnTo>
                  <a:lnTo>
                    <a:pt x="229" y="39"/>
                  </a:lnTo>
                  <a:lnTo>
                    <a:pt x="242" y="47"/>
                  </a:lnTo>
                  <a:lnTo>
                    <a:pt x="255" y="55"/>
                  </a:lnTo>
                  <a:lnTo>
                    <a:pt x="269" y="61"/>
                  </a:lnTo>
                  <a:lnTo>
                    <a:pt x="283" y="65"/>
                  </a:lnTo>
                  <a:lnTo>
                    <a:pt x="297" y="70"/>
                  </a:lnTo>
                  <a:lnTo>
                    <a:pt x="312" y="73"/>
                  </a:lnTo>
                  <a:lnTo>
                    <a:pt x="326" y="75"/>
                  </a:lnTo>
                  <a:lnTo>
                    <a:pt x="317" y="85"/>
                  </a:lnTo>
                  <a:lnTo>
                    <a:pt x="307" y="97"/>
                  </a:lnTo>
                  <a:lnTo>
                    <a:pt x="299" y="109"/>
                  </a:lnTo>
                  <a:lnTo>
                    <a:pt x="291" y="120"/>
                  </a:lnTo>
                  <a:lnTo>
                    <a:pt x="284" y="133"/>
                  </a:lnTo>
                  <a:lnTo>
                    <a:pt x="278" y="145"/>
                  </a:lnTo>
                  <a:lnTo>
                    <a:pt x="271" y="158"/>
                  </a:lnTo>
                  <a:lnTo>
                    <a:pt x="266" y="169"/>
                  </a:lnTo>
                  <a:lnTo>
                    <a:pt x="266" y="171"/>
                  </a:lnTo>
                  <a:lnTo>
                    <a:pt x="265" y="173"/>
                  </a:lnTo>
                  <a:lnTo>
                    <a:pt x="264" y="174"/>
                  </a:lnTo>
                  <a:lnTo>
                    <a:pt x="262" y="174"/>
                  </a:lnTo>
                  <a:lnTo>
                    <a:pt x="279" y="171"/>
                  </a:lnTo>
                  <a:lnTo>
                    <a:pt x="300" y="166"/>
                  </a:lnTo>
                  <a:lnTo>
                    <a:pt x="326" y="159"/>
                  </a:lnTo>
                  <a:lnTo>
                    <a:pt x="356" y="150"/>
                  </a:lnTo>
                  <a:lnTo>
                    <a:pt x="380" y="143"/>
                  </a:lnTo>
                  <a:lnTo>
                    <a:pt x="401" y="137"/>
                  </a:lnTo>
                  <a:lnTo>
                    <a:pt x="418" y="133"/>
                  </a:lnTo>
                  <a:lnTo>
                    <a:pt x="431" y="130"/>
                  </a:lnTo>
                  <a:lnTo>
                    <a:pt x="441" y="126"/>
                  </a:lnTo>
                  <a:lnTo>
                    <a:pt x="449" y="125"/>
                  </a:lnTo>
                  <a:lnTo>
                    <a:pt x="452" y="125"/>
                  </a:lnTo>
                  <a:lnTo>
                    <a:pt x="456" y="126"/>
                  </a:lnTo>
                  <a:lnTo>
                    <a:pt x="459" y="128"/>
                  </a:lnTo>
                  <a:lnTo>
                    <a:pt x="462" y="130"/>
                  </a:lnTo>
                  <a:close/>
                  <a:moveTo>
                    <a:pt x="881" y="95"/>
                  </a:moveTo>
                  <a:lnTo>
                    <a:pt x="885" y="95"/>
                  </a:lnTo>
                  <a:lnTo>
                    <a:pt x="888" y="97"/>
                  </a:lnTo>
                  <a:lnTo>
                    <a:pt x="892" y="100"/>
                  </a:lnTo>
                  <a:lnTo>
                    <a:pt x="896" y="105"/>
                  </a:lnTo>
                  <a:lnTo>
                    <a:pt x="906" y="113"/>
                  </a:lnTo>
                  <a:lnTo>
                    <a:pt x="911" y="119"/>
                  </a:lnTo>
                  <a:lnTo>
                    <a:pt x="914" y="125"/>
                  </a:lnTo>
                  <a:lnTo>
                    <a:pt x="915" y="130"/>
                  </a:lnTo>
                  <a:lnTo>
                    <a:pt x="916" y="134"/>
                  </a:lnTo>
                  <a:lnTo>
                    <a:pt x="916" y="140"/>
                  </a:lnTo>
                  <a:lnTo>
                    <a:pt x="914" y="142"/>
                  </a:lnTo>
                  <a:lnTo>
                    <a:pt x="910" y="143"/>
                  </a:lnTo>
                  <a:lnTo>
                    <a:pt x="906" y="144"/>
                  </a:lnTo>
                  <a:lnTo>
                    <a:pt x="902" y="145"/>
                  </a:lnTo>
                  <a:lnTo>
                    <a:pt x="893" y="147"/>
                  </a:lnTo>
                  <a:lnTo>
                    <a:pt x="881" y="149"/>
                  </a:lnTo>
                  <a:lnTo>
                    <a:pt x="868" y="152"/>
                  </a:lnTo>
                  <a:lnTo>
                    <a:pt x="852" y="154"/>
                  </a:lnTo>
                  <a:lnTo>
                    <a:pt x="820" y="161"/>
                  </a:lnTo>
                  <a:lnTo>
                    <a:pt x="791" y="165"/>
                  </a:lnTo>
                  <a:lnTo>
                    <a:pt x="766" y="170"/>
                  </a:lnTo>
                  <a:lnTo>
                    <a:pt x="744" y="173"/>
                  </a:lnTo>
                  <a:lnTo>
                    <a:pt x="726" y="176"/>
                  </a:lnTo>
                  <a:lnTo>
                    <a:pt x="711" y="178"/>
                  </a:lnTo>
                  <a:lnTo>
                    <a:pt x="699" y="179"/>
                  </a:lnTo>
                  <a:lnTo>
                    <a:pt x="692" y="180"/>
                  </a:lnTo>
                  <a:lnTo>
                    <a:pt x="683" y="179"/>
                  </a:lnTo>
                  <a:lnTo>
                    <a:pt x="675" y="179"/>
                  </a:lnTo>
                  <a:lnTo>
                    <a:pt x="668" y="177"/>
                  </a:lnTo>
                  <a:lnTo>
                    <a:pt x="660" y="174"/>
                  </a:lnTo>
                  <a:lnTo>
                    <a:pt x="654" y="171"/>
                  </a:lnTo>
                  <a:lnTo>
                    <a:pt x="647" y="168"/>
                  </a:lnTo>
                  <a:lnTo>
                    <a:pt x="642" y="164"/>
                  </a:lnTo>
                  <a:lnTo>
                    <a:pt x="637" y="160"/>
                  </a:lnTo>
                  <a:lnTo>
                    <a:pt x="630" y="176"/>
                  </a:lnTo>
                  <a:lnTo>
                    <a:pt x="623" y="190"/>
                  </a:lnTo>
                  <a:lnTo>
                    <a:pt x="616" y="205"/>
                  </a:lnTo>
                  <a:lnTo>
                    <a:pt x="608" y="218"/>
                  </a:lnTo>
                  <a:lnTo>
                    <a:pt x="600" y="231"/>
                  </a:lnTo>
                  <a:lnTo>
                    <a:pt x="590" y="243"/>
                  </a:lnTo>
                  <a:lnTo>
                    <a:pt x="582" y="254"/>
                  </a:lnTo>
                  <a:lnTo>
                    <a:pt x="572" y="265"/>
                  </a:lnTo>
                  <a:lnTo>
                    <a:pt x="566" y="273"/>
                  </a:lnTo>
                  <a:lnTo>
                    <a:pt x="559" y="280"/>
                  </a:lnTo>
                  <a:lnTo>
                    <a:pt x="553" y="287"/>
                  </a:lnTo>
                  <a:lnTo>
                    <a:pt x="547" y="292"/>
                  </a:lnTo>
                  <a:lnTo>
                    <a:pt x="539" y="297"/>
                  </a:lnTo>
                  <a:lnTo>
                    <a:pt x="532" y="301"/>
                  </a:lnTo>
                  <a:lnTo>
                    <a:pt x="523" y="304"/>
                  </a:lnTo>
                  <a:lnTo>
                    <a:pt x="515" y="306"/>
                  </a:lnTo>
                  <a:lnTo>
                    <a:pt x="507" y="307"/>
                  </a:lnTo>
                  <a:lnTo>
                    <a:pt x="498" y="307"/>
                  </a:lnTo>
                  <a:lnTo>
                    <a:pt x="488" y="307"/>
                  </a:lnTo>
                  <a:lnTo>
                    <a:pt x="479" y="305"/>
                  </a:lnTo>
                  <a:lnTo>
                    <a:pt x="468" y="303"/>
                  </a:lnTo>
                  <a:lnTo>
                    <a:pt x="459" y="300"/>
                  </a:lnTo>
                  <a:lnTo>
                    <a:pt x="447" y="295"/>
                  </a:lnTo>
                  <a:lnTo>
                    <a:pt x="437" y="290"/>
                  </a:lnTo>
                  <a:lnTo>
                    <a:pt x="457" y="274"/>
                  </a:lnTo>
                  <a:lnTo>
                    <a:pt x="475" y="259"/>
                  </a:lnTo>
                  <a:lnTo>
                    <a:pt x="493" y="243"/>
                  </a:lnTo>
                  <a:lnTo>
                    <a:pt x="509" y="226"/>
                  </a:lnTo>
                  <a:lnTo>
                    <a:pt x="523" y="209"/>
                  </a:lnTo>
                  <a:lnTo>
                    <a:pt x="537" y="193"/>
                  </a:lnTo>
                  <a:lnTo>
                    <a:pt x="549" y="176"/>
                  </a:lnTo>
                  <a:lnTo>
                    <a:pt x="561" y="158"/>
                  </a:lnTo>
                  <a:lnTo>
                    <a:pt x="570" y="138"/>
                  </a:lnTo>
                  <a:lnTo>
                    <a:pt x="579" y="120"/>
                  </a:lnTo>
                  <a:lnTo>
                    <a:pt x="585" y="101"/>
                  </a:lnTo>
                  <a:lnTo>
                    <a:pt x="591" y="81"/>
                  </a:lnTo>
                  <a:lnTo>
                    <a:pt x="595" y="61"/>
                  </a:lnTo>
                  <a:lnTo>
                    <a:pt x="599" y="41"/>
                  </a:lnTo>
                  <a:lnTo>
                    <a:pt x="601" y="21"/>
                  </a:lnTo>
                  <a:lnTo>
                    <a:pt x="602" y="0"/>
                  </a:lnTo>
                  <a:lnTo>
                    <a:pt x="610" y="8"/>
                  </a:lnTo>
                  <a:lnTo>
                    <a:pt x="621" y="16"/>
                  </a:lnTo>
                  <a:lnTo>
                    <a:pt x="633" y="22"/>
                  </a:lnTo>
                  <a:lnTo>
                    <a:pt x="644" y="28"/>
                  </a:lnTo>
                  <a:lnTo>
                    <a:pt x="657" y="34"/>
                  </a:lnTo>
                  <a:lnTo>
                    <a:pt x="671" y="38"/>
                  </a:lnTo>
                  <a:lnTo>
                    <a:pt x="686" y="41"/>
                  </a:lnTo>
                  <a:lnTo>
                    <a:pt x="701" y="44"/>
                  </a:lnTo>
                  <a:lnTo>
                    <a:pt x="687" y="63"/>
                  </a:lnTo>
                  <a:lnTo>
                    <a:pt x="673" y="84"/>
                  </a:lnTo>
                  <a:lnTo>
                    <a:pt x="659" y="108"/>
                  </a:lnTo>
                  <a:lnTo>
                    <a:pt x="646" y="134"/>
                  </a:lnTo>
                  <a:lnTo>
                    <a:pt x="671" y="131"/>
                  </a:lnTo>
                  <a:lnTo>
                    <a:pt x="702" y="125"/>
                  </a:lnTo>
                  <a:lnTo>
                    <a:pt x="743" y="116"/>
                  </a:lnTo>
                  <a:lnTo>
                    <a:pt x="791" y="105"/>
                  </a:lnTo>
                  <a:lnTo>
                    <a:pt x="810" y="100"/>
                  </a:lnTo>
                  <a:lnTo>
                    <a:pt x="826" y="96"/>
                  </a:lnTo>
                  <a:lnTo>
                    <a:pt x="840" y="92"/>
                  </a:lnTo>
                  <a:lnTo>
                    <a:pt x="852" y="90"/>
                  </a:lnTo>
                  <a:lnTo>
                    <a:pt x="859" y="88"/>
                  </a:lnTo>
                  <a:lnTo>
                    <a:pt x="866" y="89"/>
                  </a:lnTo>
                  <a:lnTo>
                    <a:pt x="871" y="91"/>
                  </a:lnTo>
                  <a:lnTo>
                    <a:pt x="876" y="95"/>
                  </a:lnTo>
                  <a:lnTo>
                    <a:pt x="877" y="93"/>
                  </a:lnTo>
                  <a:lnTo>
                    <a:pt x="878" y="92"/>
                  </a:lnTo>
                  <a:lnTo>
                    <a:pt x="879" y="93"/>
                  </a:lnTo>
                  <a:lnTo>
                    <a:pt x="881" y="95"/>
                  </a:lnTo>
                  <a:close/>
                  <a:moveTo>
                    <a:pt x="352" y="950"/>
                  </a:moveTo>
                  <a:lnTo>
                    <a:pt x="352" y="977"/>
                  </a:lnTo>
                  <a:lnTo>
                    <a:pt x="352" y="1003"/>
                  </a:lnTo>
                  <a:lnTo>
                    <a:pt x="352" y="1028"/>
                  </a:lnTo>
                  <a:lnTo>
                    <a:pt x="352" y="1050"/>
                  </a:lnTo>
                  <a:lnTo>
                    <a:pt x="366" y="1048"/>
                  </a:lnTo>
                  <a:lnTo>
                    <a:pt x="384" y="1047"/>
                  </a:lnTo>
                  <a:lnTo>
                    <a:pt x="406" y="1046"/>
                  </a:lnTo>
                  <a:lnTo>
                    <a:pt x="431" y="1046"/>
                  </a:lnTo>
                  <a:lnTo>
                    <a:pt x="466" y="1042"/>
                  </a:lnTo>
                  <a:lnTo>
                    <a:pt x="498" y="1040"/>
                  </a:lnTo>
                  <a:lnTo>
                    <a:pt x="527" y="1038"/>
                  </a:lnTo>
                  <a:lnTo>
                    <a:pt x="553" y="1035"/>
                  </a:lnTo>
                  <a:lnTo>
                    <a:pt x="575" y="1033"/>
                  </a:lnTo>
                  <a:lnTo>
                    <a:pt x="595" y="1030"/>
                  </a:lnTo>
                  <a:lnTo>
                    <a:pt x="612" y="1028"/>
                  </a:lnTo>
                  <a:lnTo>
                    <a:pt x="626" y="1025"/>
                  </a:lnTo>
                  <a:lnTo>
                    <a:pt x="629" y="1007"/>
                  </a:lnTo>
                  <a:lnTo>
                    <a:pt x="634" y="987"/>
                  </a:lnTo>
                  <a:lnTo>
                    <a:pt x="640" y="967"/>
                  </a:lnTo>
                  <a:lnTo>
                    <a:pt x="646" y="945"/>
                  </a:lnTo>
                  <a:lnTo>
                    <a:pt x="649" y="933"/>
                  </a:lnTo>
                  <a:lnTo>
                    <a:pt x="652" y="923"/>
                  </a:lnTo>
                  <a:lnTo>
                    <a:pt x="654" y="913"/>
                  </a:lnTo>
                  <a:lnTo>
                    <a:pt x="657" y="906"/>
                  </a:lnTo>
                  <a:lnTo>
                    <a:pt x="629" y="909"/>
                  </a:lnTo>
                  <a:lnTo>
                    <a:pt x="599" y="914"/>
                  </a:lnTo>
                  <a:lnTo>
                    <a:pt x="565" y="918"/>
                  </a:lnTo>
                  <a:lnTo>
                    <a:pt x="528" y="924"/>
                  </a:lnTo>
                  <a:lnTo>
                    <a:pt x="488" y="930"/>
                  </a:lnTo>
                  <a:lnTo>
                    <a:pt x="445" y="936"/>
                  </a:lnTo>
                  <a:lnTo>
                    <a:pt x="400" y="943"/>
                  </a:lnTo>
                  <a:lnTo>
                    <a:pt x="352" y="950"/>
                  </a:lnTo>
                  <a:close/>
                  <a:moveTo>
                    <a:pt x="352" y="640"/>
                  </a:moveTo>
                  <a:lnTo>
                    <a:pt x="352" y="745"/>
                  </a:lnTo>
                  <a:lnTo>
                    <a:pt x="360" y="743"/>
                  </a:lnTo>
                  <a:lnTo>
                    <a:pt x="370" y="740"/>
                  </a:lnTo>
                  <a:lnTo>
                    <a:pt x="383" y="737"/>
                  </a:lnTo>
                  <a:lnTo>
                    <a:pt x="396" y="735"/>
                  </a:lnTo>
                  <a:lnTo>
                    <a:pt x="414" y="731"/>
                  </a:lnTo>
                  <a:lnTo>
                    <a:pt x="433" y="728"/>
                  </a:lnTo>
                  <a:lnTo>
                    <a:pt x="452" y="723"/>
                  </a:lnTo>
                  <a:lnTo>
                    <a:pt x="473" y="720"/>
                  </a:lnTo>
                  <a:lnTo>
                    <a:pt x="494" y="716"/>
                  </a:lnTo>
                  <a:lnTo>
                    <a:pt x="516" y="713"/>
                  </a:lnTo>
                  <a:lnTo>
                    <a:pt x="538" y="709"/>
                  </a:lnTo>
                  <a:lnTo>
                    <a:pt x="562" y="705"/>
                  </a:lnTo>
                  <a:lnTo>
                    <a:pt x="565" y="694"/>
                  </a:lnTo>
                  <a:lnTo>
                    <a:pt x="568" y="681"/>
                  </a:lnTo>
                  <a:lnTo>
                    <a:pt x="572" y="666"/>
                  </a:lnTo>
                  <a:lnTo>
                    <a:pt x="576" y="650"/>
                  </a:lnTo>
                  <a:lnTo>
                    <a:pt x="581" y="633"/>
                  </a:lnTo>
                  <a:lnTo>
                    <a:pt x="584" y="620"/>
                  </a:lnTo>
                  <a:lnTo>
                    <a:pt x="586" y="609"/>
                  </a:lnTo>
                  <a:lnTo>
                    <a:pt x="587" y="599"/>
                  </a:lnTo>
                  <a:lnTo>
                    <a:pt x="579" y="601"/>
                  </a:lnTo>
                  <a:lnTo>
                    <a:pt x="568" y="603"/>
                  </a:lnTo>
                  <a:lnTo>
                    <a:pt x="555" y="606"/>
                  </a:lnTo>
                  <a:lnTo>
                    <a:pt x="541" y="610"/>
                  </a:lnTo>
                  <a:lnTo>
                    <a:pt x="511" y="614"/>
                  </a:lnTo>
                  <a:lnTo>
                    <a:pt x="483" y="620"/>
                  </a:lnTo>
                  <a:lnTo>
                    <a:pt x="456" y="624"/>
                  </a:lnTo>
                  <a:lnTo>
                    <a:pt x="431" y="627"/>
                  </a:lnTo>
                  <a:lnTo>
                    <a:pt x="409" y="631"/>
                  </a:lnTo>
                  <a:lnTo>
                    <a:pt x="388" y="634"/>
                  </a:lnTo>
                  <a:lnTo>
                    <a:pt x="369" y="638"/>
                  </a:lnTo>
                  <a:lnTo>
                    <a:pt x="352" y="640"/>
                  </a:lnTo>
                  <a:close/>
                  <a:moveTo>
                    <a:pt x="642" y="230"/>
                  </a:moveTo>
                  <a:lnTo>
                    <a:pt x="639" y="226"/>
                  </a:lnTo>
                  <a:lnTo>
                    <a:pt x="638" y="223"/>
                  </a:lnTo>
                  <a:lnTo>
                    <a:pt x="637" y="219"/>
                  </a:lnTo>
                  <a:lnTo>
                    <a:pt x="637" y="215"/>
                  </a:lnTo>
                  <a:lnTo>
                    <a:pt x="637" y="213"/>
                  </a:lnTo>
                  <a:lnTo>
                    <a:pt x="639" y="213"/>
                  </a:lnTo>
                  <a:lnTo>
                    <a:pt x="642" y="213"/>
                  </a:lnTo>
                  <a:lnTo>
                    <a:pt x="646" y="215"/>
                  </a:lnTo>
                  <a:lnTo>
                    <a:pt x="653" y="215"/>
                  </a:lnTo>
                  <a:lnTo>
                    <a:pt x="661" y="215"/>
                  </a:lnTo>
                  <a:lnTo>
                    <a:pt x="698" y="220"/>
                  </a:lnTo>
                  <a:lnTo>
                    <a:pt x="728" y="224"/>
                  </a:lnTo>
                  <a:lnTo>
                    <a:pt x="751" y="230"/>
                  </a:lnTo>
                  <a:lnTo>
                    <a:pt x="767" y="235"/>
                  </a:lnTo>
                  <a:lnTo>
                    <a:pt x="768" y="236"/>
                  </a:lnTo>
                  <a:lnTo>
                    <a:pt x="769" y="239"/>
                  </a:lnTo>
                  <a:lnTo>
                    <a:pt x="769" y="245"/>
                  </a:lnTo>
                  <a:lnTo>
                    <a:pt x="770" y="253"/>
                  </a:lnTo>
                  <a:lnTo>
                    <a:pt x="771" y="277"/>
                  </a:lnTo>
                  <a:lnTo>
                    <a:pt x="771" y="310"/>
                  </a:lnTo>
                  <a:lnTo>
                    <a:pt x="771" y="316"/>
                  </a:lnTo>
                  <a:lnTo>
                    <a:pt x="770" y="322"/>
                  </a:lnTo>
                  <a:lnTo>
                    <a:pt x="769" y="326"/>
                  </a:lnTo>
                  <a:lnTo>
                    <a:pt x="767" y="329"/>
                  </a:lnTo>
                  <a:lnTo>
                    <a:pt x="764" y="331"/>
                  </a:lnTo>
                  <a:lnTo>
                    <a:pt x="761" y="331"/>
                  </a:lnTo>
                  <a:lnTo>
                    <a:pt x="756" y="329"/>
                  </a:lnTo>
                  <a:lnTo>
                    <a:pt x="751" y="325"/>
                  </a:lnTo>
                  <a:lnTo>
                    <a:pt x="720" y="300"/>
                  </a:lnTo>
                  <a:lnTo>
                    <a:pt x="692" y="276"/>
                  </a:lnTo>
                  <a:lnTo>
                    <a:pt x="665" y="253"/>
                  </a:lnTo>
                  <a:lnTo>
                    <a:pt x="642" y="230"/>
                  </a:lnTo>
                  <a:close/>
                  <a:moveTo>
                    <a:pt x="246" y="255"/>
                  </a:moveTo>
                  <a:lnTo>
                    <a:pt x="243" y="245"/>
                  </a:lnTo>
                  <a:lnTo>
                    <a:pt x="242" y="240"/>
                  </a:lnTo>
                  <a:lnTo>
                    <a:pt x="244" y="237"/>
                  </a:lnTo>
                  <a:lnTo>
                    <a:pt x="248" y="236"/>
                  </a:lnTo>
                  <a:lnTo>
                    <a:pt x="252" y="235"/>
                  </a:lnTo>
                  <a:lnTo>
                    <a:pt x="257" y="235"/>
                  </a:lnTo>
                  <a:lnTo>
                    <a:pt x="285" y="242"/>
                  </a:lnTo>
                  <a:lnTo>
                    <a:pt x="313" y="250"/>
                  </a:lnTo>
                  <a:lnTo>
                    <a:pt x="338" y="257"/>
                  </a:lnTo>
                  <a:lnTo>
                    <a:pt x="361" y="265"/>
                  </a:lnTo>
                  <a:lnTo>
                    <a:pt x="364" y="269"/>
                  </a:lnTo>
                  <a:lnTo>
                    <a:pt x="366" y="275"/>
                  </a:lnTo>
                  <a:lnTo>
                    <a:pt x="366" y="283"/>
                  </a:lnTo>
                  <a:lnTo>
                    <a:pt x="367" y="291"/>
                  </a:lnTo>
                  <a:lnTo>
                    <a:pt x="366" y="312"/>
                  </a:lnTo>
                  <a:lnTo>
                    <a:pt x="361" y="340"/>
                  </a:lnTo>
                  <a:lnTo>
                    <a:pt x="361" y="346"/>
                  </a:lnTo>
                  <a:lnTo>
                    <a:pt x="360" y="353"/>
                  </a:lnTo>
                  <a:lnTo>
                    <a:pt x="358" y="357"/>
                  </a:lnTo>
                  <a:lnTo>
                    <a:pt x="356" y="360"/>
                  </a:lnTo>
                  <a:lnTo>
                    <a:pt x="352" y="361"/>
                  </a:lnTo>
                  <a:lnTo>
                    <a:pt x="347" y="361"/>
                  </a:lnTo>
                  <a:lnTo>
                    <a:pt x="341" y="359"/>
                  </a:lnTo>
                  <a:lnTo>
                    <a:pt x="336" y="355"/>
                  </a:lnTo>
                  <a:lnTo>
                    <a:pt x="320" y="339"/>
                  </a:lnTo>
                  <a:lnTo>
                    <a:pt x="299" y="318"/>
                  </a:lnTo>
                  <a:lnTo>
                    <a:pt x="275" y="289"/>
                  </a:lnTo>
                  <a:lnTo>
                    <a:pt x="246" y="255"/>
                  </a:lnTo>
                  <a:close/>
                </a:path>
              </a:pathLst>
            </a:custGeom>
            <a:solidFill>
              <a:schemeClr val="tx1"/>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d79f00"/>
                </a:solidFill>
                <a:latin typeface="Arial"/>
                <a:ea typeface="宋体"/>
              </a:endParaRPr>
            </a:p>
          </p:txBody>
        </p:sp>
        <p:sp>
          <p:nvSpPr>
            <p:cNvPr id="331" name="Freeform 18"/>
            <p:cNvSpPr/>
            <p:nvPr/>
          </p:nvSpPr>
          <p:spPr>
            <a:xfrm>
              <a:off x="3643200" y="9367920"/>
              <a:ext cx="226800" cy="173520"/>
            </a:xfrm>
            <a:custGeom>
              <a:avLst/>
              <a:gdLst>
                <a:gd name="textAreaLeft" fmla="*/ 0 w 226800"/>
                <a:gd name="textAreaRight" fmla="*/ 227160 w 226800"/>
                <a:gd name="textAreaTop" fmla="*/ 0 h 173520"/>
                <a:gd name="textAreaBottom" fmla="*/ 173880 h 173520"/>
              </a:gdLst>
              <a:ahLst/>
              <a:rect l="textAreaLeft" t="textAreaTop" r="textAreaRight" b="textAreaBottom"/>
              <a:pathLst>
                <a:path w="1167" h="933">
                  <a:moveTo>
                    <a:pt x="1090" y="796"/>
                  </a:moveTo>
                  <a:lnTo>
                    <a:pt x="1098" y="797"/>
                  </a:lnTo>
                  <a:lnTo>
                    <a:pt x="1105" y="800"/>
                  </a:lnTo>
                  <a:lnTo>
                    <a:pt x="1112" y="804"/>
                  </a:lnTo>
                  <a:lnTo>
                    <a:pt x="1120" y="811"/>
                  </a:lnTo>
                  <a:lnTo>
                    <a:pt x="1125" y="815"/>
                  </a:lnTo>
                  <a:lnTo>
                    <a:pt x="1131" y="821"/>
                  </a:lnTo>
                  <a:lnTo>
                    <a:pt x="1138" y="830"/>
                  </a:lnTo>
                  <a:lnTo>
                    <a:pt x="1145" y="842"/>
                  </a:lnTo>
                  <a:lnTo>
                    <a:pt x="1158" y="858"/>
                  </a:lnTo>
                  <a:lnTo>
                    <a:pt x="1165" y="871"/>
                  </a:lnTo>
                  <a:lnTo>
                    <a:pt x="1167" y="879"/>
                  </a:lnTo>
                  <a:lnTo>
                    <a:pt x="1167" y="884"/>
                  </a:lnTo>
                  <a:lnTo>
                    <a:pt x="1167" y="889"/>
                  </a:lnTo>
                  <a:lnTo>
                    <a:pt x="1166" y="893"/>
                  </a:lnTo>
                  <a:lnTo>
                    <a:pt x="1164" y="897"/>
                  </a:lnTo>
                  <a:lnTo>
                    <a:pt x="1160" y="900"/>
                  </a:lnTo>
                  <a:lnTo>
                    <a:pt x="1156" y="901"/>
                  </a:lnTo>
                  <a:lnTo>
                    <a:pt x="1150" y="901"/>
                  </a:lnTo>
                  <a:lnTo>
                    <a:pt x="1119" y="898"/>
                  </a:lnTo>
                  <a:lnTo>
                    <a:pt x="1084" y="896"/>
                  </a:lnTo>
                  <a:lnTo>
                    <a:pt x="1046" y="893"/>
                  </a:lnTo>
                  <a:lnTo>
                    <a:pt x="1005" y="892"/>
                  </a:lnTo>
                  <a:lnTo>
                    <a:pt x="961" y="892"/>
                  </a:lnTo>
                  <a:lnTo>
                    <a:pt x="914" y="892"/>
                  </a:lnTo>
                  <a:lnTo>
                    <a:pt x="863" y="894"/>
                  </a:lnTo>
                  <a:lnTo>
                    <a:pt x="810" y="897"/>
                  </a:lnTo>
                  <a:lnTo>
                    <a:pt x="753" y="899"/>
                  </a:lnTo>
                  <a:lnTo>
                    <a:pt x="698" y="902"/>
                  </a:lnTo>
                  <a:lnTo>
                    <a:pt x="645" y="906"/>
                  </a:lnTo>
                  <a:lnTo>
                    <a:pt x="593" y="910"/>
                  </a:lnTo>
                  <a:lnTo>
                    <a:pt x="544" y="915"/>
                  </a:lnTo>
                  <a:lnTo>
                    <a:pt x="496" y="920"/>
                  </a:lnTo>
                  <a:lnTo>
                    <a:pt x="449" y="925"/>
                  </a:lnTo>
                  <a:lnTo>
                    <a:pt x="405" y="932"/>
                  </a:lnTo>
                  <a:lnTo>
                    <a:pt x="397" y="933"/>
                  </a:lnTo>
                  <a:lnTo>
                    <a:pt x="389" y="933"/>
                  </a:lnTo>
                  <a:lnTo>
                    <a:pt x="379" y="931"/>
                  </a:lnTo>
                  <a:lnTo>
                    <a:pt x="370" y="926"/>
                  </a:lnTo>
                  <a:lnTo>
                    <a:pt x="350" y="906"/>
                  </a:lnTo>
                  <a:lnTo>
                    <a:pt x="334" y="889"/>
                  </a:lnTo>
                  <a:lnTo>
                    <a:pt x="322" y="875"/>
                  </a:lnTo>
                  <a:lnTo>
                    <a:pt x="315" y="866"/>
                  </a:lnTo>
                  <a:lnTo>
                    <a:pt x="362" y="864"/>
                  </a:lnTo>
                  <a:lnTo>
                    <a:pt x="409" y="861"/>
                  </a:lnTo>
                  <a:lnTo>
                    <a:pt x="456" y="857"/>
                  </a:lnTo>
                  <a:lnTo>
                    <a:pt x="502" y="853"/>
                  </a:lnTo>
                  <a:lnTo>
                    <a:pt x="549" y="850"/>
                  </a:lnTo>
                  <a:lnTo>
                    <a:pt x="594" y="846"/>
                  </a:lnTo>
                  <a:lnTo>
                    <a:pt x="640" y="842"/>
                  </a:lnTo>
                  <a:lnTo>
                    <a:pt x="684" y="836"/>
                  </a:lnTo>
                  <a:lnTo>
                    <a:pt x="684" y="825"/>
                  </a:lnTo>
                  <a:lnTo>
                    <a:pt x="684" y="809"/>
                  </a:lnTo>
                  <a:lnTo>
                    <a:pt x="684" y="790"/>
                  </a:lnTo>
                  <a:lnTo>
                    <a:pt x="684" y="766"/>
                  </a:lnTo>
                  <a:lnTo>
                    <a:pt x="688" y="743"/>
                  </a:lnTo>
                  <a:lnTo>
                    <a:pt x="689" y="723"/>
                  </a:lnTo>
                  <a:lnTo>
                    <a:pt x="690" y="705"/>
                  </a:lnTo>
                  <a:lnTo>
                    <a:pt x="690" y="691"/>
                  </a:lnTo>
                  <a:lnTo>
                    <a:pt x="674" y="691"/>
                  </a:lnTo>
                  <a:lnTo>
                    <a:pt x="656" y="692"/>
                  </a:lnTo>
                  <a:lnTo>
                    <a:pt x="637" y="694"/>
                  </a:lnTo>
                  <a:lnTo>
                    <a:pt x="615" y="696"/>
                  </a:lnTo>
                  <a:lnTo>
                    <a:pt x="589" y="701"/>
                  </a:lnTo>
                  <a:lnTo>
                    <a:pt x="570" y="703"/>
                  </a:lnTo>
                  <a:lnTo>
                    <a:pt x="564" y="703"/>
                  </a:lnTo>
                  <a:lnTo>
                    <a:pt x="558" y="703"/>
                  </a:lnTo>
                  <a:lnTo>
                    <a:pt x="556" y="702"/>
                  </a:lnTo>
                  <a:lnTo>
                    <a:pt x="555" y="702"/>
                  </a:lnTo>
                  <a:lnTo>
                    <a:pt x="549" y="700"/>
                  </a:lnTo>
                  <a:lnTo>
                    <a:pt x="541" y="695"/>
                  </a:lnTo>
                  <a:lnTo>
                    <a:pt x="534" y="691"/>
                  </a:lnTo>
                  <a:lnTo>
                    <a:pt x="527" y="685"/>
                  </a:lnTo>
                  <a:lnTo>
                    <a:pt x="518" y="677"/>
                  </a:lnTo>
                  <a:lnTo>
                    <a:pt x="509" y="668"/>
                  </a:lnTo>
                  <a:lnTo>
                    <a:pt x="500" y="658"/>
                  </a:lnTo>
                  <a:lnTo>
                    <a:pt x="490" y="647"/>
                  </a:lnTo>
                  <a:lnTo>
                    <a:pt x="509" y="645"/>
                  </a:lnTo>
                  <a:lnTo>
                    <a:pt x="529" y="644"/>
                  </a:lnTo>
                  <a:lnTo>
                    <a:pt x="551" y="642"/>
                  </a:lnTo>
                  <a:lnTo>
                    <a:pt x="575" y="640"/>
                  </a:lnTo>
                  <a:lnTo>
                    <a:pt x="601" y="636"/>
                  </a:lnTo>
                  <a:lnTo>
                    <a:pt x="628" y="632"/>
                  </a:lnTo>
                  <a:lnTo>
                    <a:pt x="658" y="626"/>
                  </a:lnTo>
                  <a:lnTo>
                    <a:pt x="690" y="621"/>
                  </a:lnTo>
                  <a:lnTo>
                    <a:pt x="691" y="607"/>
                  </a:lnTo>
                  <a:lnTo>
                    <a:pt x="691" y="591"/>
                  </a:lnTo>
                  <a:lnTo>
                    <a:pt x="693" y="572"/>
                  </a:lnTo>
                  <a:lnTo>
                    <a:pt x="695" y="551"/>
                  </a:lnTo>
                  <a:lnTo>
                    <a:pt x="695" y="528"/>
                  </a:lnTo>
                  <a:lnTo>
                    <a:pt x="695" y="509"/>
                  </a:lnTo>
                  <a:lnTo>
                    <a:pt x="695" y="493"/>
                  </a:lnTo>
                  <a:lnTo>
                    <a:pt x="695" y="481"/>
                  </a:lnTo>
                  <a:lnTo>
                    <a:pt x="669" y="483"/>
                  </a:lnTo>
                  <a:lnTo>
                    <a:pt x="642" y="488"/>
                  </a:lnTo>
                  <a:lnTo>
                    <a:pt x="618" y="491"/>
                  </a:lnTo>
                  <a:lnTo>
                    <a:pt x="594" y="496"/>
                  </a:lnTo>
                  <a:lnTo>
                    <a:pt x="594" y="513"/>
                  </a:lnTo>
                  <a:lnTo>
                    <a:pt x="593" y="526"/>
                  </a:lnTo>
                  <a:lnTo>
                    <a:pt x="593" y="530"/>
                  </a:lnTo>
                  <a:lnTo>
                    <a:pt x="592" y="533"/>
                  </a:lnTo>
                  <a:lnTo>
                    <a:pt x="591" y="535"/>
                  </a:lnTo>
                  <a:lnTo>
                    <a:pt x="590" y="536"/>
                  </a:lnTo>
                  <a:lnTo>
                    <a:pt x="582" y="532"/>
                  </a:lnTo>
                  <a:lnTo>
                    <a:pt x="573" y="526"/>
                  </a:lnTo>
                  <a:lnTo>
                    <a:pt x="565" y="519"/>
                  </a:lnTo>
                  <a:lnTo>
                    <a:pt x="555" y="511"/>
                  </a:lnTo>
                  <a:lnTo>
                    <a:pt x="534" y="491"/>
                  </a:lnTo>
                  <a:lnTo>
                    <a:pt x="510" y="465"/>
                  </a:lnTo>
                  <a:lnTo>
                    <a:pt x="505" y="406"/>
                  </a:lnTo>
                  <a:lnTo>
                    <a:pt x="499" y="350"/>
                  </a:lnTo>
                  <a:lnTo>
                    <a:pt x="495" y="323"/>
                  </a:lnTo>
                  <a:lnTo>
                    <a:pt x="491" y="297"/>
                  </a:lnTo>
                  <a:lnTo>
                    <a:pt x="486" y="271"/>
                  </a:lnTo>
                  <a:lnTo>
                    <a:pt x="481" y="247"/>
                  </a:lnTo>
                  <a:lnTo>
                    <a:pt x="476" y="224"/>
                  </a:lnTo>
                  <a:lnTo>
                    <a:pt x="469" y="200"/>
                  </a:lnTo>
                  <a:lnTo>
                    <a:pt x="463" y="178"/>
                  </a:lnTo>
                  <a:lnTo>
                    <a:pt x="457" y="157"/>
                  </a:lnTo>
                  <a:lnTo>
                    <a:pt x="449" y="137"/>
                  </a:lnTo>
                  <a:lnTo>
                    <a:pt x="442" y="118"/>
                  </a:lnTo>
                  <a:lnTo>
                    <a:pt x="433" y="99"/>
                  </a:lnTo>
                  <a:lnTo>
                    <a:pt x="425" y="81"/>
                  </a:lnTo>
                  <a:lnTo>
                    <a:pt x="437" y="81"/>
                  </a:lnTo>
                  <a:lnTo>
                    <a:pt x="450" y="82"/>
                  </a:lnTo>
                  <a:lnTo>
                    <a:pt x="466" y="84"/>
                  </a:lnTo>
                  <a:lnTo>
                    <a:pt x="485" y="86"/>
                  </a:lnTo>
                  <a:lnTo>
                    <a:pt x="501" y="88"/>
                  </a:lnTo>
                  <a:lnTo>
                    <a:pt x="514" y="89"/>
                  </a:lnTo>
                  <a:lnTo>
                    <a:pt x="523" y="90"/>
                  </a:lnTo>
                  <a:lnTo>
                    <a:pt x="530" y="90"/>
                  </a:lnTo>
                  <a:lnTo>
                    <a:pt x="563" y="88"/>
                  </a:lnTo>
                  <a:lnTo>
                    <a:pt x="594" y="85"/>
                  </a:lnTo>
                  <a:lnTo>
                    <a:pt x="625" y="82"/>
                  </a:lnTo>
                  <a:lnTo>
                    <a:pt x="655" y="77"/>
                  </a:lnTo>
                  <a:lnTo>
                    <a:pt x="682" y="73"/>
                  </a:lnTo>
                  <a:lnTo>
                    <a:pt x="709" y="69"/>
                  </a:lnTo>
                  <a:lnTo>
                    <a:pt x="734" y="64"/>
                  </a:lnTo>
                  <a:lnTo>
                    <a:pt x="758" y="58"/>
                  </a:lnTo>
                  <a:lnTo>
                    <a:pt x="780" y="52"/>
                  </a:lnTo>
                  <a:lnTo>
                    <a:pt x="801" y="46"/>
                  </a:lnTo>
                  <a:lnTo>
                    <a:pt x="821" y="39"/>
                  </a:lnTo>
                  <a:lnTo>
                    <a:pt x="839" y="33"/>
                  </a:lnTo>
                  <a:lnTo>
                    <a:pt x="857" y="26"/>
                  </a:lnTo>
                  <a:lnTo>
                    <a:pt x="872" y="17"/>
                  </a:lnTo>
                  <a:lnTo>
                    <a:pt x="887" y="10"/>
                  </a:lnTo>
                  <a:lnTo>
                    <a:pt x="900" y="0"/>
                  </a:lnTo>
                  <a:lnTo>
                    <a:pt x="920" y="19"/>
                  </a:lnTo>
                  <a:lnTo>
                    <a:pt x="940" y="35"/>
                  </a:lnTo>
                  <a:lnTo>
                    <a:pt x="962" y="51"/>
                  </a:lnTo>
                  <a:lnTo>
                    <a:pt x="985" y="65"/>
                  </a:lnTo>
                  <a:lnTo>
                    <a:pt x="1010" y="76"/>
                  </a:lnTo>
                  <a:lnTo>
                    <a:pt x="1035" y="88"/>
                  </a:lnTo>
                  <a:lnTo>
                    <a:pt x="1061" y="98"/>
                  </a:lnTo>
                  <a:lnTo>
                    <a:pt x="1090" y="106"/>
                  </a:lnTo>
                  <a:lnTo>
                    <a:pt x="1085" y="111"/>
                  </a:lnTo>
                  <a:lnTo>
                    <a:pt x="1078" y="119"/>
                  </a:lnTo>
                  <a:lnTo>
                    <a:pt x="1072" y="127"/>
                  </a:lnTo>
                  <a:lnTo>
                    <a:pt x="1067" y="138"/>
                  </a:lnTo>
                  <a:lnTo>
                    <a:pt x="1053" y="163"/>
                  </a:lnTo>
                  <a:lnTo>
                    <a:pt x="1040" y="194"/>
                  </a:lnTo>
                  <a:lnTo>
                    <a:pt x="1025" y="232"/>
                  </a:lnTo>
                  <a:lnTo>
                    <a:pt x="1012" y="276"/>
                  </a:lnTo>
                  <a:lnTo>
                    <a:pt x="996" y="325"/>
                  </a:lnTo>
                  <a:lnTo>
                    <a:pt x="980" y="381"/>
                  </a:lnTo>
                  <a:lnTo>
                    <a:pt x="962" y="438"/>
                  </a:lnTo>
                  <a:lnTo>
                    <a:pt x="947" y="478"/>
                  </a:lnTo>
                  <a:lnTo>
                    <a:pt x="942" y="493"/>
                  </a:lnTo>
                  <a:lnTo>
                    <a:pt x="937" y="502"/>
                  </a:lnTo>
                  <a:lnTo>
                    <a:pt x="933" y="509"/>
                  </a:lnTo>
                  <a:lnTo>
                    <a:pt x="930" y="511"/>
                  </a:lnTo>
                  <a:lnTo>
                    <a:pt x="926" y="510"/>
                  </a:lnTo>
                  <a:lnTo>
                    <a:pt x="922" y="508"/>
                  </a:lnTo>
                  <a:lnTo>
                    <a:pt x="916" y="503"/>
                  </a:lnTo>
                  <a:lnTo>
                    <a:pt x="911" y="498"/>
                  </a:lnTo>
                  <a:lnTo>
                    <a:pt x="899" y="482"/>
                  </a:lnTo>
                  <a:lnTo>
                    <a:pt x="885" y="461"/>
                  </a:lnTo>
                  <a:lnTo>
                    <a:pt x="855" y="465"/>
                  </a:lnTo>
                  <a:lnTo>
                    <a:pt x="824" y="468"/>
                  </a:lnTo>
                  <a:lnTo>
                    <a:pt x="792" y="471"/>
                  </a:lnTo>
                  <a:lnTo>
                    <a:pt x="760" y="471"/>
                  </a:lnTo>
                  <a:lnTo>
                    <a:pt x="760" y="506"/>
                  </a:lnTo>
                  <a:lnTo>
                    <a:pt x="760" y="541"/>
                  </a:lnTo>
                  <a:lnTo>
                    <a:pt x="760" y="576"/>
                  </a:lnTo>
                  <a:lnTo>
                    <a:pt x="760" y="610"/>
                  </a:lnTo>
                  <a:lnTo>
                    <a:pt x="799" y="604"/>
                  </a:lnTo>
                  <a:lnTo>
                    <a:pt x="835" y="597"/>
                  </a:lnTo>
                  <a:lnTo>
                    <a:pt x="869" y="591"/>
                  </a:lnTo>
                  <a:lnTo>
                    <a:pt x="900" y="586"/>
                  </a:lnTo>
                  <a:lnTo>
                    <a:pt x="909" y="586"/>
                  </a:lnTo>
                  <a:lnTo>
                    <a:pt x="917" y="588"/>
                  </a:lnTo>
                  <a:lnTo>
                    <a:pt x="925" y="591"/>
                  </a:lnTo>
                  <a:lnTo>
                    <a:pt x="930" y="596"/>
                  </a:lnTo>
                  <a:lnTo>
                    <a:pt x="940" y="604"/>
                  </a:lnTo>
                  <a:lnTo>
                    <a:pt x="949" y="614"/>
                  </a:lnTo>
                  <a:lnTo>
                    <a:pt x="958" y="624"/>
                  </a:lnTo>
                  <a:lnTo>
                    <a:pt x="965" y="636"/>
                  </a:lnTo>
                  <a:lnTo>
                    <a:pt x="969" y="640"/>
                  </a:lnTo>
                  <a:lnTo>
                    <a:pt x="971" y="644"/>
                  </a:lnTo>
                  <a:lnTo>
                    <a:pt x="971" y="649"/>
                  </a:lnTo>
                  <a:lnTo>
                    <a:pt x="970" y="651"/>
                  </a:lnTo>
                  <a:lnTo>
                    <a:pt x="969" y="653"/>
                  </a:lnTo>
                  <a:lnTo>
                    <a:pt x="967" y="655"/>
                  </a:lnTo>
                  <a:lnTo>
                    <a:pt x="964" y="656"/>
                  </a:lnTo>
                  <a:lnTo>
                    <a:pt x="960" y="656"/>
                  </a:lnTo>
                  <a:lnTo>
                    <a:pt x="946" y="657"/>
                  </a:lnTo>
                  <a:lnTo>
                    <a:pt x="929" y="659"/>
                  </a:lnTo>
                  <a:lnTo>
                    <a:pt x="909" y="662"/>
                  </a:lnTo>
                  <a:lnTo>
                    <a:pt x="885" y="665"/>
                  </a:lnTo>
                  <a:lnTo>
                    <a:pt x="858" y="668"/>
                  </a:lnTo>
                  <a:lnTo>
                    <a:pt x="828" y="672"/>
                  </a:lnTo>
                  <a:lnTo>
                    <a:pt x="796" y="676"/>
                  </a:lnTo>
                  <a:lnTo>
                    <a:pt x="760" y="681"/>
                  </a:lnTo>
                  <a:lnTo>
                    <a:pt x="760" y="827"/>
                  </a:lnTo>
                  <a:lnTo>
                    <a:pt x="801" y="821"/>
                  </a:lnTo>
                  <a:lnTo>
                    <a:pt x="842" y="817"/>
                  </a:lnTo>
                  <a:lnTo>
                    <a:pt x="884" y="813"/>
                  </a:lnTo>
                  <a:lnTo>
                    <a:pt x="925" y="809"/>
                  </a:lnTo>
                  <a:lnTo>
                    <a:pt x="966" y="805"/>
                  </a:lnTo>
                  <a:lnTo>
                    <a:pt x="1007" y="801"/>
                  </a:lnTo>
                  <a:lnTo>
                    <a:pt x="1049" y="799"/>
                  </a:lnTo>
                  <a:lnTo>
                    <a:pt x="1090" y="796"/>
                  </a:lnTo>
                  <a:close/>
                  <a:moveTo>
                    <a:pt x="430" y="410"/>
                  </a:moveTo>
                  <a:lnTo>
                    <a:pt x="393" y="419"/>
                  </a:lnTo>
                  <a:lnTo>
                    <a:pt x="357" y="426"/>
                  </a:lnTo>
                  <a:lnTo>
                    <a:pt x="323" y="434"/>
                  </a:lnTo>
                  <a:lnTo>
                    <a:pt x="290" y="441"/>
                  </a:lnTo>
                  <a:lnTo>
                    <a:pt x="290" y="456"/>
                  </a:lnTo>
                  <a:lnTo>
                    <a:pt x="290" y="475"/>
                  </a:lnTo>
                  <a:lnTo>
                    <a:pt x="290" y="498"/>
                  </a:lnTo>
                  <a:lnTo>
                    <a:pt x="290" y="526"/>
                  </a:lnTo>
                  <a:lnTo>
                    <a:pt x="287" y="556"/>
                  </a:lnTo>
                  <a:lnTo>
                    <a:pt x="286" y="584"/>
                  </a:lnTo>
                  <a:lnTo>
                    <a:pt x="285" y="606"/>
                  </a:lnTo>
                  <a:lnTo>
                    <a:pt x="285" y="626"/>
                  </a:lnTo>
                  <a:lnTo>
                    <a:pt x="323" y="612"/>
                  </a:lnTo>
                  <a:lnTo>
                    <a:pt x="360" y="596"/>
                  </a:lnTo>
                  <a:lnTo>
                    <a:pt x="393" y="581"/>
                  </a:lnTo>
                  <a:lnTo>
                    <a:pt x="425" y="566"/>
                  </a:lnTo>
                  <a:lnTo>
                    <a:pt x="434" y="564"/>
                  </a:lnTo>
                  <a:lnTo>
                    <a:pt x="441" y="565"/>
                  </a:lnTo>
                  <a:lnTo>
                    <a:pt x="444" y="566"/>
                  </a:lnTo>
                  <a:lnTo>
                    <a:pt x="446" y="567"/>
                  </a:lnTo>
                  <a:lnTo>
                    <a:pt x="448" y="568"/>
                  </a:lnTo>
                  <a:lnTo>
                    <a:pt x="450" y="571"/>
                  </a:lnTo>
                  <a:lnTo>
                    <a:pt x="450" y="574"/>
                  </a:lnTo>
                  <a:lnTo>
                    <a:pt x="451" y="578"/>
                  </a:lnTo>
                  <a:lnTo>
                    <a:pt x="450" y="582"/>
                  </a:lnTo>
                  <a:lnTo>
                    <a:pt x="450" y="585"/>
                  </a:lnTo>
                  <a:lnTo>
                    <a:pt x="448" y="588"/>
                  </a:lnTo>
                  <a:lnTo>
                    <a:pt x="446" y="590"/>
                  </a:lnTo>
                  <a:lnTo>
                    <a:pt x="443" y="594"/>
                  </a:lnTo>
                  <a:lnTo>
                    <a:pt x="440" y="596"/>
                  </a:lnTo>
                  <a:lnTo>
                    <a:pt x="377" y="636"/>
                  </a:lnTo>
                  <a:lnTo>
                    <a:pt x="320" y="673"/>
                  </a:lnTo>
                  <a:lnTo>
                    <a:pt x="269" y="708"/>
                  </a:lnTo>
                  <a:lnTo>
                    <a:pt x="223" y="740"/>
                  </a:lnTo>
                  <a:lnTo>
                    <a:pt x="181" y="769"/>
                  </a:lnTo>
                  <a:lnTo>
                    <a:pt x="145" y="796"/>
                  </a:lnTo>
                  <a:lnTo>
                    <a:pt x="115" y="820"/>
                  </a:lnTo>
                  <a:lnTo>
                    <a:pt x="90" y="842"/>
                  </a:lnTo>
                  <a:lnTo>
                    <a:pt x="84" y="830"/>
                  </a:lnTo>
                  <a:lnTo>
                    <a:pt x="76" y="817"/>
                  </a:lnTo>
                  <a:lnTo>
                    <a:pt x="68" y="803"/>
                  </a:lnTo>
                  <a:lnTo>
                    <a:pt x="57" y="790"/>
                  </a:lnTo>
                  <a:lnTo>
                    <a:pt x="45" y="775"/>
                  </a:lnTo>
                  <a:lnTo>
                    <a:pt x="32" y="760"/>
                  </a:lnTo>
                  <a:lnTo>
                    <a:pt x="16" y="743"/>
                  </a:lnTo>
                  <a:lnTo>
                    <a:pt x="0" y="726"/>
                  </a:lnTo>
                  <a:lnTo>
                    <a:pt x="17" y="723"/>
                  </a:lnTo>
                  <a:lnTo>
                    <a:pt x="38" y="718"/>
                  </a:lnTo>
                  <a:lnTo>
                    <a:pt x="62" y="711"/>
                  </a:lnTo>
                  <a:lnTo>
                    <a:pt x="87" y="703"/>
                  </a:lnTo>
                  <a:lnTo>
                    <a:pt x="117" y="692"/>
                  </a:lnTo>
                  <a:lnTo>
                    <a:pt x="147" y="680"/>
                  </a:lnTo>
                  <a:lnTo>
                    <a:pt x="182" y="667"/>
                  </a:lnTo>
                  <a:lnTo>
                    <a:pt x="219" y="651"/>
                  </a:lnTo>
                  <a:lnTo>
                    <a:pt x="219" y="621"/>
                  </a:lnTo>
                  <a:lnTo>
                    <a:pt x="219" y="591"/>
                  </a:lnTo>
                  <a:lnTo>
                    <a:pt x="219" y="565"/>
                  </a:lnTo>
                  <a:lnTo>
                    <a:pt x="218" y="539"/>
                  </a:lnTo>
                  <a:lnTo>
                    <a:pt x="218" y="516"/>
                  </a:lnTo>
                  <a:lnTo>
                    <a:pt x="217" y="494"/>
                  </a:lnTo>
                  <a:lnTo>
                    <a:pt x="216" y="474"/>
                  </a:lnTo>
                  <a:lnTo>
                    <a:pt x="215" y="456"/>
                  </a:lnTo>
                  <a:lnTo>
                    <a:pt x="207" y="458"/>
                  </a:lnTo>
                  <a:lnTo>
                    <a:pt x="196" y="461"/>
                  </a:lnTo>
                  <a:lnTo>
                    <a:pt x="183" y="463"/>
                  </a:lnTo>
                  <a:lnTo>
                    <a:pt x="170" y="465"/>
                  </a:lnTo>
                  <a:lnTo>
                    <a:pt x="147" y="470"/>
                  </a:lnTo>
                  <a:lnTo>
                    <a:pt x="133" y="472"/>
                  </a:lnTo>
                  <a:lnTo>
                    <a:pt x="127" y="473"/>
                  </a:lnTo>
                  <a:lnTo>
                    <a:pt x="123" y="473"/>
                  </a:lnTo>
                  <a:lnTo>
                    <a:pt x="121" y="472"/>
                  </a:lnTo>
                  <a:lnTo>
                    <a:pt x="120" y="471"/>
                  </a:lnTo>
                  <a:lnTo>
                    <a:pt x="111" y="466"/>
                  </a:lnTo>
                  <a:lnTo>
                    <a:pt x="103" y="462"/>
                  </a:lnTo>
                  <a:lnTo>
                    <a:pt x="96" y="457"/>
                  </a:lnTo>
                  <a:lnTo>
                    <a:pt x="87" y="450"/>
                  </a:lnTo>
                  <a:lnTo>
                    <a:pt x="80" y="444"/>
                  </a:lnTo>
                  <a:lnTo>
                    <a:pt x="73" y="437"/>
                  </a:lnTo>
                  <a:lnTo>
                    <a:pt x="66" y="429"/>
                  </a:lnTo>
                  <a:lnTo>
                    <a:pt x="60" y="421"/>
                  </a:lnTo>
                  <a:lnTo>
                    <a:pt x="96" y="416"/>
                  </a:lnTo>
                  <a:lnTo>
                    <a:pt x="134" y="408"/>
                  </a:lnTo>
                  <a:lnTo>
                    <a:pt x="173" y="401"/>
                  </a:lnTo>
                  <a:lnTo>
                    <a:pt x="215" y="391"/>
                  </a:lnTo>
                  <a:lnTo>
                    <a:pt x="213" y="365"/>
                  </a:lnTo>
                  <a:lnTo>
                    <a:pt x="212" y="339"/>
                  </a:lnTo>
                  <a:lnTo>
                    <a:pt x="210" y="315"/>
                  </a:lnTo>
                  <a:lnTo>
                    <a:pt x="208" y="294"/>
                  </a:lnTo>
                  <a:lnTo>
                    <a:pt x="205" y="272"/>
                  </a:lnTo>
                  <a:lnTo>
                    <a:pt x="201" y="253"/>
                  </a:lnTo>
                  <a:lnTo>
                    <a:pt x="198" y="236"/>
                  </a:lnTo>
                  <a:lnTo>
                    <a:pt x="195" y="221"/>
                  </a:lnTo>
                  <a:lnTo>
                    <a:pt x="181" y="221"/>
                  </a:lnTo>
                  <a:lnTo>
                    <a:pt x="166" y="222"/>
                  </a:lnTo>
                  <a:lnTo>
                    <a:pt x="148" y="224"/>
                  </a:lnTo>
                  <a:lnTo>
                    <a:pt x="129" y="226"/>
                  </a:lnTo>
                  <a:lnTo>
                    <a:pt x="110" y="229"/>
                  </a:lnTo>
                  <a:lnTo>
                    <a:pt x="100" y="231"/>
                  </a:lnTo>
                  <a:lnTo>
                    <a:pt x="93" y="228"/>
                  </a:lnTo>
                  <a:lnTo>
                    <a:pt x="87" y="224"/>
                  </a:lnTo>
                  <a:lnTo>
                    <a:pt x="80" y="218"/>
                  </a:lnTo>
                  <a:lnTo>
                    <a:pt x="72" y="213"/>
                  </a:lnTo>
                  <a:lnTo>
                    <a:pt x="56" y="198"/>
                  </a:lnTo>
                  <a:lnTo>
                    <a:pt x="39" y="180"/>
                  </a:lnTo>
                  <a:lnTo>
                    <a:pt x="61" y="177"/>
                  </a:lnTo>
                  <a:lnTo>
                    <a:pt x="85" y="173"/>
                  </a:lnTo>
                  <a:lnTo>
                    <a:pt x="112" y="168"/>
                  </a:lnTo>
                  <a:lnTo>
                    <a:pt x="145" y="160"/>
                  </a:lnTo>
                  <a:lnTo>
                    <a:pt x="180" y="153"/>
                  </a:lnTo>
                  <a:lnTo>
                    <a:pt x="219" y="143"/>
                  </a:lnTo>
                  <a:lnTo>
                    <a:pt x="263" y="133"/>
                  </a:lnTo>
                  <a:lnTo>
                    <a:pt x="309" y="121"/>
                  </a:lnTo>
                  <a:lnTo>
                    <a:pt x="331" y="116"/>
                  </a:lnTo>
                  <a:lnTo>
                    <a:pt x="349" y="111"/>
                  </a:lnTo>
                  <a:lnTo>
                    <a:pt x="363" y="108"/>
                  </a:lnTo>
                  <a:lnTo>
                    <a:pt x="375" y="106"/>
                  </a:lnTo>
                  <a:lnTo>
                    <a:pt x="380" y="109"/>
                  </a:lnTo>
                  <a:lnTo>
                    <a:pt x="386" y="113"/>
                  </a:lnTo>
                  <a:lnTo>
                    <a:pt x="393" y="120"/>
                  </a:lnTo>
                  <a:lnTo>
                    <a:pt x="400" y="127"/>
                  </a:lnTo>
                  <a:lnTo>
                    <a:pt x="416" y="146"/>
                  </a:lnTo>
                  <a:lnTo>
                    <a:pt x="434" y="171"/>
                  </a:lnTo>
                  <a:lnTo>
                    <a:pt x="427" y="172"/>
                  </a:lnTo>
                  <a:lnTo>
                    <a:pt x="415" y="176"/>
                  </a:lnTo>
                  <a:lnTo>
                    <a:pt x="387" y="181"/>
                  </a:lnTo>
                  <a:lnTo>
                    <a:pt x="360" y="188"/>
                  </a:lnTo>
                  <a:lnTo>
                    <a:pt x="336" y="192"/>
                  </a:lnTo>
                  <a:lnTo>
                    <a:pt x="313" y="197"/>
                  </a:lnTo>
                  <a:lnTo>
                    <a:pt x="290" y="201"/>
                  </a:lnTo>
                  <a:lnTo>
                    <a:pt x="270" y="205"/>
                  </a:lnTo>
                  <a:lnTo>
                    <a:pt x="252" y="208"/>
                  </a:lnTo>
                  <a:lnTo>
                    <a:pt x="235" y="211"/>
                  </a:lnTo>
                  <a:lnTo>
                    <a:pt x="254" y="215"/>
                  </a:lnTo>
                  <a:lnTo>
                    <a:pt x="272" y="218"/>
                  </a:lnTo>
                  <a:lnTo>
                    <a:pt x="289" y="221"/>
                  </a:lnTo>
                  <a:lnTo>
                    <a:pt x="305" y="221"/>
                  </a:lnTo>
                  <a:lnTo>
                    <a:pt x="302" y="243"/>
                  </a:lnTo>
                  <a:lnTo>
                    <a:pt x="299" y="276"/>
                  </a:lnTo>
                  <a:lnTo>
                    <a:pt x="295" y="318"/>
                  </a:lnTo>
                  <a:lnTo>
                    <a:pt x="290" y="371"/>
                  </a:lnTo>
                  <a:lnTo>
                    <a:pt x="312" y="364"/>
                  </a:lnTo>
                  <a:lnTo>
                    <a:pt x="334" y="357"/>
                  </a:lnTo>
                  <a:lnTo>
                    <a:pt x="355" y="351"/>
                  </a:lnTo>
                  <a:lnTo>
                    <a:pt x="375" y="346"/>
                  </a:lnTo>
                  <a:lnTo>
                    <a:pt x="383" y="351"/>
                  </a:lnTo>
                  <a:lnTo>
                    <a:pt x="390" y="357"/>
                  </a:lnTo>
                  <a:lnTo>
                    <a:pt x="396" y="365"/>
                  </a:lnTo>
                  <a:lnTo>
                    <a:pt x="404" y="372"/>
                  </a:lnTo>
                  <a:lnTo>
                    <a:pt x="410" y="381"/>
                  </a:lnTo>
                  <a:lnTo>
                    <a:pt x="418" y="390"/>
                  </a:lnTo>
                  <a:lnTo>
                    <a:pt x="424" y="400"/>
                  </a:lnTo>
                  <a:lnTo>
                    <a:pt x="430" y="410"/>
                  </a:lnTo>
                  <a:close/>
                  <a:moveTo>
                    <a:pt x="930" y="86"/>
                  </a:moveTo>
                  <a:lnTo>
                    <a:pt x="900" y="89"/>
                  </a:lnTo>
                  <a:lnTo>
                    <a:pt x="871" y="93"/>
                  </a:lnTo>
                  <a:lnTo>
                    <a:pt x="840" y="99"/>
                  </a:lnTo>
                  <a:lnTo>
                    <a:pt x="808" y="103"/>
                  </a:lnTo>
                  <a:lnTo>
                    <a:pt x="777" y="108"/>
                  </a:lnTo>
                  <a:lnTo>
                    <a:pt x="744" y="113"/>
                  </a:lnTo>
                  <a:lnTo>
                    <a:pt x="710" y="120"/>
                  </a:lnTo>
                  <a:lnTo>
                    <a:pt x="675" y="126"/>
                  </a:lnTo>
                  <a:lnTo>
                    <a:pt x="687" y="130"/>
                  </a:lnTo>
                  <a:lnTo>
                    <a:pt x="699" y="135"/>
                  </a:lnTo>
                  <a:lnTo>
                    <a:pt x="712" y="138"/>
                  </a:lnTo>
                  <a:lnTo>
                    <a:pt x="726" y="141"/>
                  </a:lnTo>
                  <a:lnTo>
                    <a:pt x="741" y="143"/>
                  </a:lnTo>
                  <a:lnTo>
                    <a:pt x="756" y="144"/>
                  </a:lnTo>
                  <a:lnTo>
                    <a:pt x="773" y="145"/>
                  </a:lnTo>
                  <a:lnTo>
                    <a:pt x="790" y="145"/>
                  </a:lnTo>
                  <a:lnTo>
                    <a:pt x="783" y="165"/>
                  </a:lnTo>
                  <a:lnTo>
                    <a:pt x="777" y="188"/>
                  </a:lnTo>
                  <a:lnTo>
                    <a:pt x="770" y="215"/>
                  </a:lnTo>
                  <a:lnTo>
                    <a:pt x="765" y="246"/>
                  </a:lnTo>
                  <a:lnTo>
                    <a:pt x="780" y="241"/>
                  </a:lnTo>
                  <a:lnTo>
                    <a:pt x="795" y="237"/>
                  </a:lnTo>
                  <a:lnTo>
                    <a:pt x="810" y="233"/>
                  </a:lnTo>
                  <a:lnTo>
                    <a:pt x="825" y="231"/>
                  </a:lnTo>
                  <a:lnTo>
                    <a:pt x="828" y="230"/>
                  </a:lnTo>
                  <a:lnTo>
                    <a:pt x="833" y="229"/>
                  </a:lnTo>
                  <a:lnTo>
                    <a:pt x="836" y="230"/>
                  </a:lnTo>
                  <a:lnTo>
                    <a:pt x="839" y="231"/>
                  </a:lnTo>
                  <a:lnTo>
                    <a:pt x="842" y="232"/>
                  </a:lnTo>
                  <a:lnTo>
                    <a:pt x="844" y="234"/>
                  </a:lnTo>
                  <a:lnTo>
                    <a:pt x="848" y="237"/>
                  </a:lnTo>
                  <a:lnTo>
                    <a:pt x="850" y="241"/>
                  </a:lnTo>
                  <a:lnTo>
                    <a:pt x="857" y="249"/>
                  </a:lnTo>
                  <a:lnTo>
                    <a:pt x="866" y="260"/>
                  </a:lnTo>
                  <a:lnTo>
                    <a:pt x="873" y="271"/>
                  </a:lnTo>
                  <a:lnTo>
                    <a:pt x="880" y="286"/>
                  </a:lnTo>
                  <a:lnTo>
                    <a:pt x="851" y="289"/>
                  </a:lnTo>
                  <a:lnTo>
                    <a:pt x="821" y="294"/>
                  </a:lnTo>
                  <a:lnTo>
                    <a:pt x="792" y="299"/>
                  </a:lnTo>
                  <a:lnTo>
                    <a:pt x="765" y="305"/>
                  </a:lnTo>
                  <a:lnTo>
                    <a:pt x="765" y="330"/>
                  </a:lnTo>
                  <a:lnTo>
                    <a:pt x="764" y="356"/>
                  </a:lnTo>
                  <a:lnTo>
                    <a:pt x="762" y="385"/>
                  </a:lnTo>
                  <a:lnTo>
                    <a:pt x="760" y="416"/>
                  </a:lnTo>
                  <a:lnTo>
                    <a:pt x="789" y="411"/>
                  </a:lnTo>
                  <a:lnTo>
                    <a:pt x="819" y="407"/>
                  </a:lnTo>
                  <a:lnTo>
                    <a:pt x="848" y="404"/>
                  </a:lnTo>
                  <a:lnTo>
                    <a:pt x="875" y="401"/>
                  </a:lnTo>
                  <a:lnTo>
                    <a:pt x="879" y="379"/>
                  </a:lnTo>
                  <a:lnTo>
                    <a:pt x="884" y="355"/>
                  </a:lnTo>
                  <a:lnTo>
                    <a:pt x="889" y="329"/>
                  </a:lnTo>
                  <a:lnTo>
                    <a:pt x="894" y="300"/>
                  </a:lnTo>
                  <a:lnTo>
                    <a:pt x="899" y="267"/>
                  </a:lnTo>
                  <a:lnTo>
                    <a:pt x="906" y="233"/>
                  </a:lnTo>
                  <a:lnTo>
                    <a:pt x="913" y="195"/>
                  </a:lnTo>
                  <a:lnTo>
                    <a:pt x="920" y="156"/>
                  </a:lnTo>
                  <a:lnTo>
                    <a:pt x="923" y="130"/>
                  </a:lnTo>
                  <a:lnTo>
                    <a:pt x="925" y="110"/>
                  </a:lnTo>
                  <a:lnTo>
                    <a:pt x="928" y="95"/>
                  </a:lnTo>
                  <a:lnTo>
                    <a:pt x="930" y="86"/>
                  </a:lnTo>
                  <a:close/>
                  <a:moveTo>
                    <a:pt x="580" y="281"/>
                  </a:moveTo>
                  <a:lnTo>
                    <a:pt x="591" y="280"/>
                  </a:lnTo>
                  <a:lnTo>
                    <a:pt x="605" y="276"/>
                  </a:lnTo>
                  <a:lnTo>
                    <a:pt x="618" y="275"/>
                  </a:lnTo>
                  <a:lnTo>
                    <a:pt x="638" y="272"/>
                  </a:lnTo>
                  <a:lnTo>
                    <a:pt x="663" y="267"/>
                  </a:lnTo>
                  <a:lnTo>
                    <a:pt x="695" y="261"/>
                  </a:lnTo>
                  <a:lnTo>
                    <a:pt x="690" y="221"/>
                  </a:lnTo>
                  <a:lnTo>
                    <a:pt x="682" y="186"/>
                  </a:lnTo>
                  <a:lnTo>
                    <a:pt x="678" y="170"/>
                  </a:lnTo>
                  <a:lnTo>
                    <a:pt x="675" y="156"/>
                  </a:lnTo>
                  <a:lnTo>
                    <a:pt x="670" y="142"/>
                  </a:lnTo>
                  <a:lnTo>
                    <a:pt x="665" y="130"/>
                  </a:lnTo>
                  <a:lnTo>
                    <a:pt x="654" y="134"/>
                  </a:lnTo>
                  <a:lnTo>
                    <a:pt x="640" y="136"/>
                  </a:lnTo>
                  <a:lnTo>
                    <a:pt x="624" y="138"/>
                  </a:lnTo>
                  <a:lnTo>
                    <a:pt x="605" y="141"/>
                  </a:lnTo>
                  <a:lnTo>
                    <a:pt x="593" y="145"/>
                  </a:lnTo>
                  <a:lnTo>
                    <a:pt x="583" y="148"/>
                  </a:lnTo>
                  <a:lnTo>
                    <a:pt x="573" y="151"/>
                  </a:lnTo>
                  <a:lnTo>
                    <a:pt x="565" y="151"/>
                  </a:lnTo>
                  <a:lnTo>
                    <a:pt x="545" y="126"/>
                  </a:lnTo>
                  <a:lnTo>
                    <a:pt x="546" y="137"/>
                  </a:lnTo>
                  <a:lnTo>
                    <a:pt x="548" y="151"/>
                  </a:lnTo>
                  <a:lnTo>
                    <a:pt x="551" y="166"/>
                  </a:lnTo>
                  <a:lnTo>
                    <a:pt x="555" y="186"/>
                  </a:lnTo>
                  <a:lnTo>
                    <a:pt x="559" y="227"/>
                  </a:lnTo>
                  <a:lnTo>
                    <a:pt x="565" y="265"/>
                  </a:lnTo>
                  <a:lnTo>
                    <a:pt x="569" y="301"/>
                  </a:lnTo>
                  <a:lnTo>
                    <a:pt x="572" y="335"/>
                  </a:lnTo>
                  <a:lnTo>
                    <a:pt x="576" y="365"/>
                  </a:lnTo>
                  <a:lnTo>
                    <a:pt x="580" y="393"/>
                  </a:lnTo>
                  <a:lnTo>
                    <a:pt x="583" y="419"/>
                  </a:lnTo>
                  <a:lnTo>
                    <a:pt x="585" y="441"/>
                  </a:lnTo>
                  <a:lnTo>
                    <a:pt x="610" y="437"/>
                  </a:lnTo>
                  <a:lnTo>
                    <a:pt x="638" y="432"/>
                  </a:lnTo>
                  <a:lnTo>
                    <a:pt x="665" y="428"/>
                  </a:lnTo>
                  <a:lnTo>
                    <a:pt x="695" y="426"/>
                  </a:lnTo>
                  <a:lnTo>
                    <a:pt x="695" y="316"/>
                  </a:lnTo>
                  <a:lnTo>
                    <a:pt x="683" y="317"/>
                  </a:lnTo>
                  <a:lnTo>
                    <a:pt x="670" y="321"/>
                  </a:lnTo>
                  <a:lnTo>
                    <a:pt x="661" y="321"/>
                  </a:lnTo>
                  <a:lnTo>
                    <a:pt x="654" y="322"/>
                  </a:lnTo>
                  <a:lnTo>
                    <a:pt x="648" y="323"/>
                  </a:lnTo>
                  <a:lnTo>
                    <a:pt x="645" y="325"/>
                  </a:lnTo>
                  <a:lnTo>
                    <a:pt x="640" y="325"/>
                  </a:lnTo>
                  <a:lnTo>
                    <a:pt x="634" y="323"/>
                  </a:lnTo>
                  <a:lnTo>
                    <a:pt x="626" y="319"/>
                  </a:lnTo>
                  <a:lnTo>
                    <a:pt x="619" y="315"/>
                  </a:lnTo>
                  <a:lnTo>
                    <a:pt x="610" y="308"/>
                  </a:lnTo>
                  <a:lnTo>
                    <a:pt x="601" y="300"/>
                  </a:lnTo>
                  <a:lnTo>
                    <a:pt x="591" y="292"/>
                  </a:lnTo>
                  <a:lnTo>
                    <a:pt x="580" y="281"/>
                  </a:lnTo>
                  <a:close/>
                </a:path>
              </a:pathLst>
            </a:custGeom>
            <a:solidFill>
              <a:schemeClr val="tx1"/>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d79f00"/>
                </a:solidFill>
                <a:latin typeface="Arial"/>
                <a:ea typeface="宋体"/>
              </a:endParaRPr>
            </a:p>
          </p:txBody>
        </p:sp>
        <p:sp>
          <p:nvSpPr>
            <p:cNvPr id="332" name="Freeform 19"/>
            <p:cNvSpPr/>
            <p:nvPr/>
          </p:nvSpPr>
          <p:spPr>
            <a:xfrm>
              <a:off x="3893760" y="9354960"/>
              <a:ext cx="217440" cy="205920"/>
            </a:xfrm>
            <a:custGeom>
              <a:avLst/>
              <a:gdLst>
                <a:gd name="textAreaLeft" fmla="*/ 0 w 217440"/>
                <a:gd name="textAreaRight" fmla="*/ 217800 w 217440"/>
                <a:gd name="textAreaTop" fmla="*/ 0 h 205920"/>
                <a:gd name="textAreaBottom" fmla="*/ 206280 h 205920"/>
              </a:gdLst>
              <a:ahLst/>
              <a:rect l="textAreaLeft" t="textAreaTop" r="textAreaRight" b="textAreaBottom"/>
              <a:pathLst>
                <a:path w="1111" h="1116">
                  <a:moveTo>
                    <a:pt x="767" y="1015"/>
                  </a:moveTo>
                  <a:lnTo>
                    <a:pt x="730" y="1018"/>
                  </a:lnTo>
                  <a:lnTo>
                    <a:pt x="688" y="1021"/>
                  </a:lnTo>
                  <a:lnTo>
                    <a:pt x="643" y="1025"/>
                  </a:lnTo>
                  <a:lnTo>
                    <a:pt x="591" y="1029"/>
                  </a:lnTo>
                  <a:lnTo>
                    <a:pt x="535" y="1034"/>
                  </a:lnTo>
                  <a:lnTo>
                    <a:pt x="473" y="1038"/>
                  </a:lnTo>
                  <a:lnTo>
                    <a:pt x="408" y="1045"/>
                  </a:lnTo>
                  <a:lnTo>
                    <a:pt x="336" y="1050"/>
                  </a:lnTo>
                  <a:lnTo>
                    <a:pt x="336" y="1059"/>
                  </a:lnTo>
                  <a:lnTo>
                    <a:pt x="336" y="1067"/>
                  </a:lnTo>
                  <a:lnTo>
                    <a:pt x="336" y="1076"/>
                  </a:lnTo>
                  <a:lnTo>
                    <a:pt x="336" y="1085"/>
                  </a:lnTo>
                  <a:lnTo>
                    <a:pt x="338" y="1099"/>
                  </a:lnTo>
                  <a:lnTo>
                    <a:pt x="339" y="1108"/>
                  </a:lnTo>
                  <a:lnTo>
                    <a:pt x="339" y="1112"/>
                  </a:lnTo>
                  <a:lnTo>
                    <a:pt x="338" y="1114"/>
                  </a:lnTo>
                  <a:lnTo>
                    <a:pt x="338" y="1115"/>
                  </a:lnTo>
                  <a:lnTo>
                    <a:pt x="336" y="1116"/>
                  </a:lnTo>
                  <a:lnTo>
                    <a:pt x="333" y="1116"/>
                  </a:lnTo>
                  <a:lnTo>
                    <a:pt x="327" y="1114"/>
                  </a:lnTo>
                  <a:lnTo>
                    <a:pt x="320" y="1110"/>
                  </a:lnTo>
                  <a:lnTo>
                    <a:pt x="310" y="1105"/>
                  </a:lnTo>
                  <a:lnTo>
                    <a:pt x="285" y="1089"/>
                  </a:lnTo>
                  <a:lnTo>
                    <a:pt x="251" y="1065"/>
                  </a:lnTo>
                  <a:lnTo>
                    <a:pt x="252" y="1044"/>
                  </a:lnTo>
                  <a:lnTo>
                    <a:pt x="253" y="1021"/>
                  </a:lnTo>
                  <a:lnTo>
                    <a:pt x="252" y="1000"/>
                  </a:lnTo>
                  <a:lnTo>
                    <a:pt x="252" y="979"/>
                  </a:lnTo>
                  <a:lnTo>
                    <a:pt x="250" y="959"/>
                  </a:lnTo>
                  <a:lnTo>
                    <a:pt x="248" y="938"/>
                  </a:lnTo>
                  <a:lnTo>
                    <a:pt x="246" y="918"/>
                  </a:lnTo>
                  <a:lnTo>
                    <a:pt x="242" y="897"/>
                  </a:lnTo>
                  <a:lnTo>
                    <a:pt x="238" y="877"/>
                  </a:lnTo>
                  <a:lnTo>
                    <a:pt x="234" y="858"/>
                  </a:lnTo>
                  <a:lnTo>
                    <a:pt x="230" y="838"/>
                  </a:lnTo>
                  <a:lnTo>
                    <a:pt x="224" y="819"/>
                  </a:lnTo>
                  <a:lnTo>
                    <a:pt x="218" y="800"/>
                  </a:lnTo>
                  <a:lnTo>
                    <a:pt x="212" y="782"/>
                  </a:lnTo>
                  <a:lnTo>
                    <a:pt x="204" y="763"/>
                  </a:lnTo>
                  <a:lnTo>
                    <a:pt x="196" y="745"/>
                  </a:lnTo>
                  <a:lnTo>
                    <a:pt x="204" y="747"/>
                  </a:lnTo>
                  <a:lnTo>
                    <a:pt x="215" y="750"/>
                  </a:lnTo>
                  <a:lnTo>
                    <a:pt x="228" y="752"/>
                  </a:lnTo>
                  <a:lnTo>
                    <a:pt x="241" y="755"/>
                  </a:lnTo>
                  <a:lnTo>
                    <a:pt x="262" y="760"/>
                  </a:lnTo>
                  <a:lnTo>
                    <a:pt x="278" y="764"/>
                  </a:lnTo>
                  <a:lnTo>
                    <a:pt x="292" y="767"/>
                  </a:lnTo>
                  <a:lnTo>
                    <a:pt x="301" y="770"/>
                  </a:lnTo>
                  <a:lnTo>
                    <a:pt x="366" y="763"/>
                  </a:lnTo>
                  <a:lnTo>
                    <a:pt x="426" y="755"/>
                  </a:lnTo>
                  <a:lnTo>
                    <a:pt x="479" y="747"/>
                  </a:lnTo>
                  <a:lnTo>
                    <a:pt x="525" y="737"/>
                  </a:lnTo>
                  <a:lnTo>
                    <a:pt x="545" y="732"/>
                  </a:lnTo>
                  <a:lnTo>
                    <a:pt x="566" y="727"/>
                  </a:lnTo>
                  <a:lnTo>
                    <a:pt x="582" y="722"/>
                  </a:lnTo>
                  <a:lnTo>
                    <a:pt x="598" y="715"/>
                  </a:lnTo>
                  <a:lnTo>
                    <a:pt x="613" y="710"/>
                  </a:lnTo>
                  <a:lnTo>
                    <a:pt x="626" y="704"/>
                  </a:lnTo>
                  <a:lnTo>
                    <a:pt x="636" y="697"/>
                  </a:lnTo>
                  <a:lnTo>
                    <a:pt x="646" y="690"/>
                  </a:lnTo>
                  <a:lnTo>
                    <a:pt x="664" y="704"/>
                  </a:lnTo>
                  <a:lnTo>
                    <a:pt x="683" y="716"/>
                  </a:lnTo>
                  <a:lnTo>
                    <a:pt x="703" y="728"/>
                  </a:lnTo>
                  <a:lnTo>
                    <a:pt x="727" y="739"/>
                  </a:lnTo>
                  <a:lnTo>
                    <a:pt x="751" y="749"/>
                  </a:lnTo>
                  <a:lnTo>
                    <a:pt x="777" y="759"/>
                  </a:lnTo>
                  <a:lnTo>
                    <a:pt x="806" y="767"/>
                  </a:lnTo>
                  <a:lnTo>
                    <a:pt x="837" y="776"/>
                  </a:lnTo>
                  <a:lnTo>
                    <a:pt x="828" y="781"/>
                  </a:lnTo>
                  <a:lnTo>
                    <a:pt x="819" y="788"/>
                  </a:lnTo>
                  <a:lnTo>
                    <a:pt x="811" y="796"/>
                  </a:lnTo>
                  <a:lnTo>
                    <a:pt x="803" y="803"/>
                  </a:lnTo>
                  <a:lnTo>
                    <a:pt x="794" y="813"/>
                  </a:lnTo>
                  <a:lnTo>
                    <a:pt x="787" y="822"/>
                  </a:lnTo>
                  <a:lnTo>
                    <a:pt x="778" y="833"/>
                  </a:lnTo>
                  <a:lnTo>
                    <a:pt x="771" y="843"/>
                  </a:lnTo>
                  <a:lnTo>
                    <a:pt x="756" y="869"/>
                  </a:lnTo>
                  <a:lnTo>
                    <a:pt x="742" y="896"/>
                  </a:lnTo>
                  <a:lnTo>
                    <a:pt x="730" y="927"/>
                  </a:lnTo>
                  <a:lnTo>
                    <a:pt x="717" y="960"/>
                  </a:lnTo>
                  <a:lnTo>
                    <a:pt x="731" y="975"/>
                  </a:lnTo>
                  <a:lnTo>
                    <a:pt x="743" y="989"/>
                  </a:lnTo>
                  <a:lnTo>
                    <a:pt x="756" y="1002"/>
                  </a:lnTo>
                  <a:lnTo>
                    <a:pt x="767" y="1015"/>
                  </a:lnTo>
                  <a:close/>
                  <a:moveTo>
                    <a:pt x="546" y="289"/>
                  </a:moveTo>
                  <a:lnTo>
                    <a:pt x="559" y="298"/>
                  </a:lnTo>
                  <a:lnTo>
                    <a:pt x="572" y="305"/>
                  </a:lnTo>
                  <a:lnTo>
                    <a:pt x="586" y="313"/>
                  </a:lnTo>
                  <a:lnTo>
                    <a:pt x="598" y="319"/>
                  </a:lnTo>
                  <a:lnTo>
                    <a:pt x="613" y="324"/>
                  </a:lnTo>
                  <a:lnTo>
                    <a:pt x="627" y="328"/>
                  </a:lnTo>
                  <a:lnTo>
                    <a:pt x="642" y="332"/>
                  </a:lnTo>
                  <a:lnTo>
                    <a:pt x="657" y="335"/>
                  </a:lnTo>
                  <a:lnTo>
                    <a:pt x="642" y="351"/>
                  </a:lnTo>
                  <a:lnTo>
                    <a:pt x="629" y="368"/>
                  </a:lnTo>
                  <a:lnTo>
                    <a:pt x="617" y="386"/>
                  </a:lnTo>
                  <a:lnTo>
                    <a:pt x="607" y="405"/>
                  </a:lnTo>
                  <a:lnTo>
                    <a:pt x="614" y="410"/>
                  </a:lnTo>
                  <a:lnTo>
                    <a:pt x="624" y="417"/>
                  </a:lnTo>
                  <a:lnTo>
                    <a:pt x="634" y="426"/>
                  </a:lnTo>
                  <a:lnTo>
                    <a:pt x="646" y="434"/>
                  </a:lnTo>
                  <a:lnTo>
                    <a:pt x="683" y="459"/>
                  </a:lnTo>
                  <a:lnTo>
                    <a:pt x="718" y="480"/>
                  </a:lnTo>
                  <a:lnTo>
                    <a:pt x="751" y="499"/>
                  </a:lnTo>
                  <a:lnTo>
                    <a:pt x="782" y="516"/>
                  </a:lnTo>
                  <a:lnTo>
                    <a:pt x="810" y="531"/>
                  </a:lnTo>
                  <a:lnTo>
                    <a:pt x="838" y="542"/>
                  </a:lnTo>
                  <a:lnTo>
                    <a:pt x="863" y="552"/>
                  </a:lnTo>
                  <a:lnTo>
                    <a:pt x="886" y="559"/>
                  </a:lnTo>
                  <a:lnTo>
                    <a:pt x="914" y="569"/>
                  </a:lnTo>
                  <a:lnTo>
                    <a:pt x="940" y="579"/>
                  </a:lnTo>
                  <a:lnTo>
                    <a:pt x="966" y="588"/>
                  </a:lnTo>
                  <a:lnTo>
                    <a:pt x="991" y="599"/>
                  </a:lnTo>
                  <a:lnTo>
                    <a:pt x="1016" y="609"/>
                  </a:lnTo>
                  <a:lnTo>
                    <a:pt x="1040" y="621"/>
                  </a:lnTo>
                  <a:lnTo>
                    <a:pt x="1063" y="633"/>
                  </a:lnTo>
                  <a:lnTo>
                    <a:pt x="1087" y="645"/>
                  </a:lnTo>
                  <a:lnTo>
                    <a:pt x="1097" y="650"/>
                  </a:lnTo>
                  <a:lnTo>
                    <a:pt x="1106" y="655"/>
                  </a:lnTo>
                  <a:lnTo>
                    <a:pt x="1108" y="658"/>
                  </a:lnTo>
                  <a:lnTo>
                    <a:pt x="1110" y="660"/>
                  </a:lnTo>
                  <a:lnTo>
                    <a:pt x="1111" y="662"/>
                  </a:lnTo>
                  <a:lnTo>
                    <a:pt x="1111" y="665"/>
                  </a:lnTo>
                  <a:lnTo>
                    <a:pt x="1111" y="668"/>
                  </a:lnTo>
                  <a:lnTo>
                    <a:pt x="1110" y="670"/>
                  </a:lnTo>
                  <a:lnTo>
                    <a:pt x="1108" y="672"/>
                  </a:lnTo>
                  <a:lnTo>
                    <a:pt x="1106" y="674"/>
                  </a:lnTo>
                  <a:lnTo>
                    <a:pt x="1097" y="677"/>
                  </a:lnTo>
                  <a:lnTo>
                    <a:pt x="1087" y="680"/>
                  </a:lnTo>
                  <a:lnTo>
                    <a:pt x="1075" y="682"/>
                  </a:lnTo>
                  <a:lnTo>
                    <a:pt x="1061" y="684"/>
                  </a:lnTo>
                  <a:lnTo>
                    <a:pt x="1044" y="687"/>
                  </a:lnTo>
                  <a:lnTo>
                    <a:pt x="1024" y="688"/>
                  </a:lnTo>
                  <a:lnTo>
                    <a:pt x="1001" y="689"/>
                  </a:lnTo>
                  <a:lnTo>
                    <a:pt x="975" y="690"/>
                  </a:lnTo>
                  <a:lnTo>
                    <a:pt x="948" y="690"/>
                  </a:lnTo>
                  <a:lnTo>
                    <a:pt x="916" y="690"/>
                  </a:lnTo>
                  <a:lnTo>
                    <a:pt x="898" y="690"/>
                  </a:lnTo>
                  <a:lnTo>
                    <a:pt x="881" y="688"/>
                  </a:lnTo>
                  <a:lnTo>
                    <a:pt x="865" y="686"/>
                  </a:lnTo>
                  <a:lnTo>
                    <a:pt x="850" y="682"/>
                  </a:lnTo>
                  <a:lnTo>
                    <a:pt x="837" y="678"/>
                  </a:lnTo>
                  <a:lnTo>
                    <a:pt x="824" y="673"/>
                  </a:lnTo>
                  <a:lnTo>
                    <a:pt x="812" y="668"/>
                  </a:lnTo>
                  <a:lnTo>
                    <a:pt x="802" y="660"/>
                  </a:lnTo>
                  <a:lnTo>
                    <a:pt x="782" y="644"/>
                  </a:lnTo>
                  <a:lnTo>
                    <a:pt x="756" y="621"/>
                  </a:lnTo>
                  <a:lnTo>
                    <a:pt x="727" y="591"/>
                  </a:lnTo>
                  <a:lnTo>
                    <a:pt x="692" y="555"/>
                  </a:lnTo>
                  <a:lnTo>
                    <a:pt x="659" y="520"/>
                  </a:lnTo>
                  <a:lnTo>
                    <a:pt x="629" y="491"/>
                  </a:lnTo>
                  <a:lnTo>
                    <a:pt x="604" y="467"/>
                  </a:lnTo>
                  <a:lnTo>
                    <a:pt x="581" y="449"/>
                  </a:lnTo>
                  <a:lnTo>
                    <a:pt x="557" y="491"/>
                  </a:lnTo>
                  <a:lnTo>
                    <a:pt x="533" y="529"/>
                  </a:lnTo>
                  <a:lnTo>
                    <a:pt x="508" y="564"/>
                  </a:lnTo>
                  <a:lnTo>
                    <a:pt x="484" y="597"/>
                  </a:lnTo>
                  <a:lnTo>
                    <a:pt x="471" y="611"/>
                  </a:lnTo>
                  <a:lnTo>
                    <a:pt x="459" y="625"/>
                  </a:lnTo>
                  <a:lnTo>
                    <a:pt x="446" y="639"/>
                  </a:lnTo>
                  <a:lnTo>
                    <a:pt x="433" y="652"/>
                  </a:lnTo>
                  <a:lnTo>
                    <a:pt x="420" y="663"/>
                  </a:lnTo>
                  <a:lnTo>
                    <a:pt x="408" y="675"/>
                  </a:lnTo>
                  <a:lnTo>
                    <a:pt x="394" y="686"/>
                  </a:lnTo>
                  <a:lnTo>
                    <a:pt x="381" y="695"/>
                  </a:lnTo>
                  <a:lnTo>
                    <a:pt x="371" y="701"/>
                  </a:lnTo>
                  <a:lnTo>
                    <a:pt x="360" y="707"/>
                  </a:lnTo>
                  <a:lnTo>
                    <a:pt x="349" y="711"/>
                  </a:lnTo>
                  <a:lnTo>
                    <a:pt x="339" y="715"/>
                  </a:lnTo>
                  <a:lnTo>
                    <a:pt x="327" y="717"/>
                  </a:lnTo>
                  <a:lnTo>
                    <a:pt x="317" y="718"/>
                  </a:lnTo>
                  <a:lnTo>
                    <a:pt x="306" y="719"/>
                  </a:lnTo>
                  <a:lnTo>
                    <a:pt x="295" y="718"/>
                  </a:lnTo>
                  <a:lnTo>
                    <a:pt x="284" y="717"/>
                  </a:lnTo>
                  <a:lnTo>
                    <a:pt x="273" y="715"/>
                  </a:lnTo>
                  <a:lnTo>
                    <a:pt x="262" y="712"/>
                  </a:lnTo>
                  <a:lnTo>
                    <a:pt x="251" y="707"/>
                  </a:lnTo>
                  <a:lnTo>
                    <a:pt x="239" y="701"/>
                  </a:lnTo>
                  <a:lnTo>
                    <a:pt x="229" y="695"/>
                  </a:lnTo>
                  <a:lnTo>
                    <a:pt x="217" y="689"/>
                  </a:lnTo>
                  <a:lnTo>
                    <a:pt x="206" y="680"/>
                  </a:lnTo>
                  <a:lnTo>
                    <a:pt x="231" y="671"/>
                  </a:lnTo>
                  <a:lnTo>
                    <a:pt x="255" y="661"/>
                  </a:lnTo>
                  <a:lnTo>
                    <a:pt x="277" y="650"/>
                  </a:lnTo>
                  <a:lnTo>
                    <a:pt x="301" y="638"/>
                  </a:lnTo>
                  <a:lnTo>
                    <a:pt x="322" y="625"/>
                  </a:lnTo>
                  <a:lnTo>
                    <a:pt x="343" y="611"/>
                  </a:lnTo>
                  <a:lnTo>
                    <a:pt x="363" y="597"/>
                  </a:lnTo>
                  <a:lnTo>
                    <a:pt x="382" y="581"/>
                  </a:lnTo>
                  <a:lnTo>
                    <a:pt x="401" y="565"/>
                  </a:lnTo>
                  <a:lnTo>
                    <a:pt x="419" y="548"/>
                  </a:lnTo>
                  <a:lnTo>
                    <a:pt x="436" y="530"/>
                  </a:lnTo>
                  <a:lnTo>
                    <a:pt x="453" y="510"/>
                  </a:lnTo>
                  <a:lnTo>
                    <a:pt x="469" y="491"/>
                  </a:lnTo>
                  <a:lnTo>
                    <a:pt x="484" y="469"/>
                  </a:lnTo>
                  <a:lnTo>
                    <a:pt x="498" y="447"/>
                  </a:lnTo>
                  <a:lnTo>
                    <a:pt x="512" y="425"/>
                  </a:lnTo>
                  <a:lnTo>
                    <a:pt x="521" y="406"/>
                  </a:lnTo>
                  <a:lnTo>
                    <a:pt x="528" y="388"/>
                  </a:lnTo>
                  <a:lnTo>
                    <a:pt x="535" y="371"/>
                  </a:lnTo>
                  <a:lnTo>
                    <a:pt x="540" y="354"/>
                  </a:lnTo>
                  <a:lnTo>
                    <a:pt x="543" y="337"/>
                  </a:lnTo>
                  <a:lnTo>
                    <a:pt x="546" y="321"/>
                  </a:lnTo>
                  <a:lnTo>
                    <a:pt x="546" y="305"/>
                  </a:lnTo>
                  <a:lnTo>
                    <a:pt x="546" y="289"/>
                  </a:lnTo>
                  <a:close/>
                  <a:moveTo>
                    <a:pt x="767" y="129"/>
                  </a:moveTo>
                  <a:lnTo>
                    <a:pt x="788" y="147"/>
                  </a:lnTo>
                  <a:lnTo>
                    <a:pt x="809" y="164"/>
                  </a:lnTo>
                  <a:lnTo>
                    <a:pt x="830" y="180"/>
                  </a:lnTo>
                  <a:lnTo>
                    <a:pt x="852" y="194"/>
                  </a:lnTo>
                  <a:lnTo>
                    <a:pt x="873" y="205"/>
                  </a:lnTo>
                  <a:lnTo>
                    <a:pt x="894" y="217"/>
                  </a:lnTo>
                  <a:lnTo>
                    <a:pt x="915" y="227"/>
                  </a:lnTo>
                  <a:lnTo>
                    <a:pt x="936" y="235"/>
                  </a:lnTo>
                  <a:lnTo>
                    <a:pt x="912" y="249"/>
                  </a:lnTo>
                  <a:lnTo>
                    <a:pt x="882" y="266"/>
                  </a:lnTo>
                  <a:lnTo>
                    <a:pt x="849" y="286"/>
                  </a:lnTo>
                  <a:lnTo>
                    <a:pt x="811" y="309"/>
                  </a:lnTo>
                  <a:lnTo>
                    <a:pt x="786" y="326"/>
                  </a:lnTo>
                  <a:lnTo>
                    <a:pt x="763" y="340"/>
                  </a:lnTo>
                  <a:lnTo>
                    <a:pt x="743" y="351"/>
                  </a:lnTo>
                  <a:lnTo>
                    <a:pt x="727" y="360"/>
                  </a:lnTo>
                  <a:lnTo>
                    <a:pt x="719" y="361"/>
                  </a:lnTo>
                  <a:lnTo>
                    <a:pt x="713" y="362"/>
                  </a:lnTo>
                  <a:lnTo>
                    <a:pt x="706" y="361"/>
                  </a:lnTo>
                  <a:lnTo>
                    <a:pt x="701" y="360"/>
                  </a:lnTo>
                  <a:lnTo>
                    <a:pt x="700" y="359"/>
                  </a:lnTo>
                  <a:lnTo>
                    <a:pt x="700" y="358"/>
                  </a:lnTo>
                  <a:lnTo>
                    <a:pt x="700" y="356"/>
                  </a:lnTo>
                  <a:lnTo>
                    <a:pt x="702" y="352"/>
                  </a:lnTo>
                  <a:lnTo>
                    <a:pt x="706" y="344"/>
                  </a:lnTo>
                  <a:lnTo>
                    <a:pt x="713" y="333"/>
                  </a:lnTo>
                  <a:lnTo>
                    <a:pt x="721" y="315"/>
                  </a:lnTo>
                  <a:lnTo>
                    <a:pt x="741" y="279"/>
                  </a:lnTo>
                  <a:lnTo>
                    <a:pt x="756" y="249"/>
                  </a:lnTo>
                  <a:lnTo>
                    <a:pt x="763" y="236"/>
                  </a:lnTo>
                  <a:lnTo>
                    <a:pt x="767" y="226"/>
                  </a:lnTo>
                  <a:lnTo>
                    <a:pt x="770" y="217"/>
                  </a:lnTo>
                  <a:lnTo>
                    <a:pt x="771" y="210"/>
                  </a:lnTo>
                  <a:lnTo>
                    <a:pt x="750" y="216"/>
                  </a:lnTo>
                  <a:lnTo>
                    <a:pt x="728" y="222"/>
                  </a:lnTo>
                  <a:lnTo>
                    <a:pt x="702" y="230"/>
                  </a:lnTo>
                  <a:lnTo>
                    <a:pt x="675" y="237"/>
                  </a:lnTo>
                  <a:lnTo>
                    <a:pt x="646" y="245"/>
                  </a:lnTo>
                  <a:lnTo>
                    <a:pt x="615" y="253"/>
                  </a:lnTo>
                  <a:lnTo>
                    <a:pt x="581" y="261"/>
                  </a:lnTo>
                  <a:lnTo>
                    <a:pt x="546" y="270"/>
                  </a:lnTo>
                  <a:lnTo>
                    <a:pt x="538" y="266"/>
                  </a:lnTo>
                  <a:lnTo>
                    <a:pt x="528" y="258"/>
                  </a:lnTo>
                  <a:lnTo>
                    <a:pt x="518" y="248"/>
                  </a:lnTo>
                  <a:lnTo>
                    <a:pt x="506" y="235"/>
                  </a:lnTo>
                  <a:lnTo>
                    <a:pt x="498" y="251"/>
                  </a:lnTo>
                  <a:lnTo>
                    <a:pt x="487" y="268"/>
                  </a:lnTo>
                  <a:lnTo>
                    <a:pt x="475" y="288"/>
                  </a:lnTo>
                  <a:lnTo>
                    <a:pt x="462" y="309"/>
                  </a:lnTo>
                  <a:lnTo>
                    <a:pt x="459" y="317"/>
                  </a:lnTo>
                  <a:lnTo>
                    <a:pt x="456" y="322"/>
                  </a:lnTo>
                  <a:lnTo>
                    <a:pt x="453" y="326"/>
                  </a:lnTo>
                  <a:lnTo>
                    <a:pt x="451" y="329"/>
                  </a:lnTo>
                  <a:lnTo>
                    <a:pt x="446" y="338"/>
                  </a:lnTo>
                  <a:lnTo>
                    <a:pt x="439" y="344"/>
                  </a:lnTo>
                  <a:lnTo>
                    <a:pt x="433" y="351"/>
                  </a:lnTo>
                  <a:lnTo>
                    <a:pt x="426" y="356"/>
                  </a:lnTo>
                  <a:lnTo>
                    <a:pt x="418" y="360"/>
                  </a:lnTo>
                  <a:lnTo>
                    <a:pt x="411" y="364"/>
                  </a:lnTo>
                  <a:lnTo>
                    <a:pt x="402" y="368"/>
                  </a:lnTo>
                  <a:lnTo>
                    <a:pt x="394" y="370"/>
                  </a:lnTo>
                  <a:lnTo>
                    <a:pt x="384" y="371"/>
                  </a:lnTo>
                  <a:lnTo>
                    <a:pt x="376" y="372"/>
                  </a:lnTo>
                  <a:lnTo>
                    <a:pt x="365" y="372"/>
                  </a:lnTo>
                  <a:lnTo>
                    <a:pt x="356" y="371"/>
                  </a:lnTo>
                  <a:lnTo>
                    <a:pt x="345" y="370"/>
                  </a:lnTo>
                  <a:lnTo>
                    <a:pt x="335" y="367"/>
                  </a:lnTo>
                  <a:lnTo>
                    <a:pt x="323" y="363"/>
                  </a:lnTo>
                  <a:lnTo>
                    <a:pt x="311" y="360"/>
                  </a:lnTo>
                  <a:lnTo>
                    <a:pt x="331" y="342"/>
                  </a:lnTo>
                  <a:lnTo>
                    <a:pt x="351" y="323"/>
                  </a:lnTo>
                  <a:lnTo>
                    <a:pt x="367" y="304"/>
                  </a:lnTo>
                  <a:lnTo>
                    <a:pt x="384" y="285"/>
                  </a:lnTo>
                  <a:lnTo>
                    <a:pt x="399" y="265"/>
                  </a:lnTo>
                  <a:lnTo>
                    <a:pt x="414" y="244"/>
                  </a:lnTo>
                  <a:lnTo>
                    <a:pt x="427" y="221"/>
                  </a:lnTo>
                  <a:lnTo>
                    <a:pt x="438" y="199"/>
                  </a:lnTo>
                  <a:lnTo>
                    <a:pt x="449" y="177"/>
                  </a:lnTo>
                  <a:lnTo>
                    <a:pt x="459" y="154"/>
                  </a:lnTo>
                  <a:lnTo>
                    <a:pt x="467" y="129"/>
                  </a:lnTo>
                  <a:lnTo>
                    <a:pt x="474" y="105"/>
                  </a:lnTo>
                  <a:lnTo>
                    <a:pt x="481" y="79"/>
                  </a:lnTo>
                  <a:lnTo>
                    <a:pt x="485" y="53"/>
                  </a:lnTo>
                  <a:lnTo>
                    <a:pt x="489" y="26"/>
                  </a:lnTo>
                  <a:lnTo>
                    <a:pt x="491" y="0"/>
                  </a:lnTo>
                  <a:lnTo>
                    <a:pt x="506" y="8"/>
                  </a:lnTo>
                  <a:lnTo>
                    <a:pt x="521" y="17"/>
                  </a:lnTo>
                  <a:lnTo>
                    <a:pt x="536" y="24"/>
                  </a:lnTo>
                  <a:lnTo>
                    <a:pt x="550" y="30"/>
                  </a:lnTo>
                  <a:lnTo>
                    <a:pt x="564" y="34"/>
                  </a:lnTo>
                  <a:lnTo>
                    <a:pt x="578" y="37"/>
                  </a:lnTo>
                  <a:lnTo>
                    <a:pt x="592" y="39"/>
                  </a:lnTo>
                  <a:lnTo>
                    <a:pt x="607" y="39"/>
                  </a:lnTo>
                  <a:lnTo>
                    <a:pt x="600" y="45"/>
                  </a:lnTo>
                  <a:lnTo>
                    <a:pt x="593" y="53"/>
                  </a:lnTo>
                  <a:lnTo>
                    <a:pt x="587" y="62"/>
                  </a:lnTo>
                  <a:lnTo>
                    <a:pt x="580" y="74"/>
                  </a:lnTo>
                  <a:lnTo>
                    <a:pt x="573" y="88"/>
                  </a:lnTo>
                  <a:lnTo>
                    <a:pt x="566" y="103"/>
                  </a:lnTo>
                  <a:lnTo>
                    <a:pt x="559" y="121"/>
                  </a:lnTo>
                  <a:lnTo>
                    <a:pt x="552" y="140"/>
                  </a:lnTo>
                  <a:lnTo>
                    <a:pt x="549" y="145"/>
                  </a:lnTo>
                  <a:lnTo>
                    <a:pt x="545" y="154"/>
                  </a:lnTo>
                  <a:lnTo>
                    <a:pt x="541" y="163"/>
                  </a:lnTo>
                  <a:lnTo>
                    <a:pt x="536" y="175"/>
                  </a:lnTo>
                  <a:lnTo>
                    <a:pt x="530" y="186"/>
                  </a:lnTo>
                  <a:lnTo>
                    <a:pt x="524" y="197"/>
                  </a:lnTo>
                  <a:lnTo>
                    <a:pt x="520" y="207"/>
                  </a:lnTo>
                  <a:lnTo>
                    <a:pt x="517" y="215"/>
                  </a:lnTo>
                  <a:lnTo>
                    <a:pt x="563" y="207"/>
                  </a:lnTo>
                  <a:lnTo>
                    <a:pt x="605" y="198"/>
                  </a:lnTo>
                  <a:lnTo>
                    <a:pt x="643" y="189"/>
                  </a:lnTo>
                  <a:lnTo>
                    <a:pt x="677" y="178"/>
                  </a:lnTo>
                  <a:lnTo>
                    <a:pt x="692" y="173"/>
                  </a:lnTo>
                  <a:lnTo>
                    <a:pt x="705" y="167"/>
                  </a:lnTo>
                  <a:lnTo>
                    <a:pt x="718" y="161"/>
                  </a:lnTo>
                  <a:lnTo>
                    <a:pt x="730" y="156"/>
                  </a:lnTo>
                  <a:lnTo>
                    <a:pt x="740" y="149"/>
                  </a:lnTo>
                  <a:lnTo>
                    <a:pt x="751" y="143"/>
                  </a:lnTo>
                  <a:lnTo>
                    <a:pt x="759" y="137"/>
                  </a:lnTo>
                  <a:lnTo>
                    <a:pt x="767" y="129"/>
                  </a:lnTo>
                  <a:close/>
                  <a:moveTo>
                    <a:pt x="317" y="830"/>
                  </a:moveTo>
                  <a:lnTo>
                    <a:pt x="320" y="855"/>
                  </a:lnTo>
                  <a:lnTo>
                    <a:pt x="323" y="878"/>
                  </a:lnTo>
                  <a:lnTo>
                    <a:pt x="325" y="902"/>
                  </a:lnTo>
                  <a:lnTo>
                    <a:pt x="327" y="924"/>
                  </a:lnTo>
                  <a:lnTo>
                    <a:pt x="329" y="945"/>
                  </a:lnTo>
                  <a:lnTo>
                    <a:pt x="330" y="966"/>
                  </a:lnTo>
                  <a:lnTo>
                    <a:pt x="331" y="987"/>
                  </a:lnTo>
                  <a:lnTo>
                    <a:pt x="331" y="1006"/>
                  </a:lnTo>
                  <a:lnTo>
                    <a:pt x="346" y="1003"/>
                  </a:lnTo>
                  <a:lnTo>
                    <a:pt x="364" y="1001"/>
                  </a:lnTo>
                  <a:lnTo>
                    <a:pt x="385" y="999"/>
                  </a:lnTo>
                  <a:lnTo>
                    <a:pt x="409" y="996"/>
                  </a:lnTo>
                  <a:lnTo>
                    <a:pt x="435" y="993"/>
                  </a:lnTo>
                  <a:lnTo>
                    <a:pt x="464" y="990"/>
                  </a:lnTo>
                  <a:lnTo>
                    <a:pt x="497" y="985"/>
                  </a:lnTo>
                  <a:lnTo>
                    <a:pt x="532" y="980"/>
                  </a:lnTo>
                  <a:lnTo>
                    <a:pt x="563" y="976"/>
                  </a:lnTo>
                  <a:lnTo>
                    <a:pt x="590" y="972"/>
                  </a:lnTo>
                  <a:lnTo>
                    <a:pt x="611" y="968"/>
                  </a:lnTo>
                  <a:lnTo>
                    <a:pt x="626" y="965"/>
                  </a:lnTo>
                  <a:lnTo>
                    <a:pt x="629" y="946"/>
                  </a:lnTo>
                  <a:lnTo>
                    <a:pt x="632" y="925"/>
                  </a:lnTo>
                  <a:lnTo>
                    <a:pt x="636" y="902"/>
                  </a:lnTo>
                  <a:lnTo>
                    <a:pt x="642" y="875"/>
                  </a:lnTo>
                  <a:lnTo>
                    <a:pt x="646" y="855"/>
                  </a:lnTo>
                  <a:lnTo>
                    <a:pt x="649" y="838"/>
                  </a:lnTo>
                  <a:lnTo>
                    <a:pt x="651" y="823"/>
                  </a:lnTo>
                  <a:lnTo>
                    <a:pt x="652" y="812"/>
                  </a:lnTo>
                  <a:lnTo>
                    <a:pt x="652" y="802"/>
                  </a:lnTo>
                  <a:lnTo>
                    <a:pt x="651" y="796"/>
                  </a:lnTo>
                  <a:lnTo>
                    <a:pt x="650" y="793"/>
                  </a:lnTo>
                  <a:lnTo>
                    <a:pt x="649" y="792"/>
                  </a:lnTo>
                  <a:lnTo>
                    <a:pt x="648" y="790"/>
                  </a:lnTo>
                  <a:lnTo>
                    <a:pt x="646" y="790"/>
                  </a:lnTo>
                  <a:lnTo>
                    <a:pt x="642" y="789"/>
                  </a:lnTo>
                  <a:lnTo>
                    <a:pt x="635" y="788"/>
                  </a:lnTo>
                  <a:lnTo>
                    <a:pt x="627" y="788"/>
                  </a:lnTo>
                  <a:lnTo>
                    <a:pt x="616" y="788"/>
                  </a:lnTo>
                  <a:lnTo>
                    <a:pt x="588" y="792"/>
                  </a:lnTo>
                  <a:lnTo>
                    <a:pt x="552" y="795"/>
                  </a:lnTo>
                  <a:lnTo>
                    <a:pt x="506" y="801"/>
                  </a:lnTo>
                  <a:lnTo>
                    <a:pt x="451" y="808"/>
                  </a:lnTo>
                  <a:lnTo>
                    <a:pt x="389" y="819"/>
                  </a:lnTo>
                  <a:lnTo>
                    <a:pt x="317" y="830"/>
                  </a:lnTo>
                  <a:close/>
                  <a:moveTo>
                    <a:pt x="71" y="705"/>
                  </a:moveTo>
                  <a:lnTo>
                    <a:pt x="60" y="689"/>
                  </a:lnTo>
                  <a:lnTo>
                    <a:pt x="47" y="669"/>
                  </a:lnTo>
                  <a:lnTo>
                    <a:pt x="30" y="646"/>
                  </a:lnTo>
                  <a:lnTo>
                    <a:pt x="12" y="620"/>
                  </a:lnTo>
                  <a:lnTo>
                    <a:pt x="7" y="617"/>
                  </a:lnTo>
                  <a:lnTo>
                    <a:pt x="6" y="615"/>
                  </a:lnTo>
                  <a:lnTo>
                    <a:pt x="3" y="610"/>
                  </a:lnTo>
                  <a:lnTo>
                    <a:pt x="1" y="606"/>
                  </a:lnTo>
                  <a:lnTo>
                    <a:pt x="0" y="602"/>
                  </a:lnTo>
                  <a:lnTo>
                    <a:pt x="0" y="599"/>
                  </a:lnTo>
                  <a:lnTo>
                    <a:pt x="1" y="595"/>
                  </a:lnTo>
                  <a:lnTo>
                    <a:pt x="3" y="593"/>
                  </a:lnTo>
                  <a:lnTo>
                    <a:pt x="6" y="591"/>
                  </a:lnTo>
                  <a:lnTo>
                    <a:pt x="12" y="590"/>
                  </a:lnTo>
                  <a:lnTo>
                    <a:pt x="53" y="573"/>
                  </a:lnTo>
                  <a:lnTo>
                    <a:pt x="94" y="555"/>
                  </a:lnTo>
                  <a:lnTo>
                    <a:pt x="137" y="535"/>
                  </a:lnTo>
                  <a:lnTo>
                    <a:pt x="179" y="515"/>
                  </a:lnTo>
                  <a:lnTo>
                    <a:pt x="221" y="493"/>
                  </a:lnTo>
                  <a:lnTo>
                    <a:pt x="265" y="469"/>
                  </a:lnTo>
                  <a:lnTo>
                    <a:pt x="308" y="445"/>
                  </a:lnTo>
                  <a:lnTo>
                    <a:pt x="352" y="420"/>
                  </a:lnTo>
                  <a:lnTo>
                    <a:pt x="357" y="418"/>
                  </a:lnTo>
                  <a:lnTo>
                    <a:pt x="362" y="420"/>
                  </a:lnTo>
                  <a:lnTo>
                    <a:pt x="365" y="421"/>
                  </a:lnTo>
                  <a:lnTo>
                    <a:pt x="369" y="423"/>
                  </a:lnTo>
                  <a:lnTo>
                    <a:pt x="371" y="425"/>
                  </a:lnTo>
                  <a:lnTo>
                    <a:pt x="372" y="429"/>
                  </a:lnTo>
                  <a:lnTo>
                    <a:pt x="372" y="434"/>
                  </a:lnTo>
                  <a:lnTo>
                    <a:pt x="372" y="440"/>
                  </a:lnTo>
                  <a:lnTo>
                    <a:pt x="354" y="455"/>
                  </a:lnTo>
                  <a:lnTo>
                    <a:pt x="331" y="475"/>
                  </a:lnTo>
                  <a:lnTo>
                    <a:pt x="304" y="500"/>
                  </a:lnTo>
                  <a:lnTo>
                    <a:pt x="271" y="530"/>
                  </a:lnTo>
                  <a:lnTo>
                    <a:pt x="234" y="564"/>
                  </a:lnTo>
                  <a:lnTo>
                    <a:pt x="200" y="593"/>
                  </a:lnTo>
                  <a:lnTo>
                    <a:pt x="170" y="620"/>
                  </a:lnTo>
                  <a:lnTo>
                    <a:pt x="144" y="643"/>
                  </a:lnTo>
                  <a:lnTo>
                    <a:pt x="121" y="664"/>
                  </a:lnTo>
                  <a:lnTo>
                    <a:pt x="101" y="681"/>
                  </a:lnTo>
                  <a:lnTo>
                    <a:pt x="85" y="695"/>
                  </a:lnTo>
                  <a:lnTo>
                    <a:pt x="71" y="705"/>
                  </a:lnTo>
                  <a:close/>
                  <a:moveTo>
                    <a:pt x="111" y="195"/>
                  </a:moveTo>
                  <a:lnTo>
                    <a:pt x="143" y="200"/>
                  </a:lnTo>
                  <a:lnTo>
                    <a:pt x="172" y="207"/>
                  </a:lnTo>
                  <a:lnTo>
                    <a:pt x="197" y="212"/>
                  </a:lnTo>
                  <a:lnTo>
                    <a:pt x="219" y="217"/>
                  </a:lnTo>
                  <a:lnTo>
                    <a:pt x="237" y="222"/>
                  </a:lnTo>
                  <a:lnTo>
                    <a:pt x="252" y="227"/>
                  </a:lnTo>
                  <a:lnTo>
                    <a:pt x="264" y="231"/>
                  </a:lnTo>
                  <a:lnTo>
                    <a:pt x="271" y="235"/>
                  </a:lnTo>
                  <a:lnTo>
                    <a:pt x="273" y="242"/>
                  </a:lnTo>
                  <a:lnTo>
                    <a:pt x="275" y="250"/>
                  </a:lnTo>
                  <a:lnTo>
                    <a:pt x="276" y="261"/>
                  </a:lnTo>
                  <a:lnTo>
                    <a:pt x="277" y="272"/>
                  </a:lnTo>
                  <a:lnTo>
                    <a:pt x="277" y="300"/>
                  </a:lnTo>
                  <a:lnTo>
                    <a:pt x="276" y="335"/>
                  </a:lnTo>
                  <a:lnTo>
                    <a:pt x="274" y="341"/>
                  </a:lnTo>
                  <a:lnTo>
                    <a:pt x="272" y="346"/>
                  </a:lnTo>
                  <a:lnTo>
                    <a:pt x="269" y="351"/>
                  </a:lnTo>
                  <a:lnTo>
                    <a:pt x="265" y="352"/>
                  </a:lnTo>
                  <a:lnTo>
                    <a:pt x="260" y="353"/>
                  </a:lnTo>
                  <a:lnTo>
                    <a:pt x="255" y="352"/>
                  </a:lnTo>
                  <a:lnTo>
                    <a:pt x="249" y="349"/>
                  </a:lnTo>
                  <a:lnTo>
                    <a:pt x="241" y="344"/>
                  </a:lnTo>
                  <a:lnTo>
                    <a:pt x="227" y="336"/>
                  </a:lnTo>
                  <a:lnTo>
                    <a:pt x="212" y="325"/>
                  </a:lnTo>
                  <a:lnTo>
                    <a:pt x="196" y="313"/>
                  </a:lnTo>
                  <a:lnTo>
                    <a:pt x="179" y="299"/>
                  </a:lnTo>
                  <a:lnTo>
                    <a:pt x="161" y="282"/>
                  </a:lnTo>
                  <a:lnTo>
                    <a:pt x="142" y="263"/>
                  </a:lnTo>
                  <a:lnTo>
                    <a:pt x="122" y="243"/>
                  </a:lnTo>
                  <a:lnTo>
                    <a:pt x="102" y="219"/>
                  </a:lnTo>
                  <a:lnTo>
                    <a:pt x="97" y="213"/>
                  </a:lnTo>
                  <a:lnTo>
                    <a:pt x="94" y="207"/>
                  </a:lnTo>
                  <a:lnTo>
                    <a:pt x="92" y="202"/>
                  </a:lnTo>
                  <a:lnTo>
                    <a:pt x="91" y="200"/>
                  </a:lnTo>
                  <a:lnTo>
                    <a:pt x="93" y="197"/>
                  </a:lnTo>
                  <a:lnTo>
                    <a:pt x="94" y="196"/>
                  </a:lnTo>
                  <a:lnTo>
                    <a:pt x="96" y="194"/>
                  </a:lnTo>
                  <a:lnTo>
                    <a:pt x="98" y="193"/>
                  </a:lnTo>
                  <a:lnTo>
                    <a:pt x="105" y="193"/>
                  </a:lnTo>
                  <a:lnTo>
                    <a:pt x="111" y="195"/>
                  </a:lnTo>
                  <a:close/>
                </a:path>
              </a:pathLst>
            </a:custGeom>
            <a:solidFill>
              <a:schemeClr val="tx1"/>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d79f00"/>
                </a:solidFill>
                <a:latin typeface="Arial"/>
                <a:ea typeface="宋体"/>
              </a:endParaRPr>
            </a:p>
          </p:txBody>
        </p:sp>
        <p:sp>
          <p:nvSpPr>
            <p:cNvPr id="333" name="Freeform 20"/>
            <p:cNvSpPr/>
            <p:nvPr/>
          </p:nvSpPr>
          <p:spPr>
            <a:xfrm>
              <a:off x="4118400" y="9352440"/>
              <a:ext cx="218880" cy="205920"/>
            </a:xfrm>
            <a:custGeom>
              <a:avLst/>
              <a:gdLst>
                <a:gd name="textAreaLeft" fmla="*/ 0 w 218880"/>
                <a:gd name="textAreaRight" fmla="*/ 219240 w 218880"/>
                <a:gd name="textAreaTop" fmla="*/ 0 h 205920"/>
                <a:gd name="textAreaBottom" fmla="*/ 206280 h 205920"/>
              </a:gdLst>
              <a:ahLst/>
              <a:rect l="textAreaLeft" t="textAreaTop" r="textAreaRight" b="textAreaBottom"/>
              <a:pathLst>
                <a:path w="1116" h="1113">
                  <a:moveTo>
                    <a:pt x="706" y="0"/>
                  </a:moveTo>
                  <a:lnTo>
                    <a:pt x="715" y="10"/>
                  </a:lnTo>
                  <a:lnTo>
                    <a:pt x="727" y="18"/>
                  </a:lnTo>
                  <a:lnTo>
                    <a:pt x="740" y="27"/>
                  </a:lnTo>
                  <a:lnTo>
                    <a:pt x="754" y="34"/>
                  </a:lnTo>
                  <a:lnTo>
                    <a:pt x="771" y="42"/>
                  </a:lnTo>
                  <a:lnTo>
                    <a:pt x="789" y="50"/>
                  </a:lnTo>
                  <a:lnTo>
                    <a:pt x="809" y="58"/>
                  </a:lnTo>
                  <a:lnTo>
                    <a:pt x="831" y="66"/>
                  </a:lnTo>
                  <a:lnTo>
                    <a:pt x="821" y="72"/>
                  </a:lnTo>
                  <a:lnTo>
                    <a:pt x="812" y="82"/>
                  </a:lnTo>
                  <a:lnTo>
                    <a:pt x="801" y="91"/>
                  </a:lnTo>
                  <a:lnTo>
                    <a:pt x="793" y="103"/>
                  </a:lnTo>
                  <a:lnTo>
                    <a:pt x="783" y="117"/>
                  </a:lnTo>
                  <a:lnTo>
                    <a:pt x="773" y="131"/>
                  </a:lnTo>
                  <a:lnTo>
                    <a:pt x="765" y="147"/>
                  </a:lnTo>
                  <a:lnTo>
                    <a:pt x="755" y="165"/>
                  </a:lnTo>
                  <a:lnTo>
                    <a:pt x="742" y="193"/>
                  </a:lnTo>
                  <a:lnTo>
                    <a:pt x="725" y="225"/>
                  </a:lnTo>
                  <a:lnTo>
                    <a:pt x="705" y="261"/>
                  </a:lnTo>
                  <a:lnTo>
                    <a:pt x="680" y="301"/>
                  </a:lnTo>
                  <a:lnTo>
                    <a:pt x="672" y="313"/>
                  </a:lnTo>
                  <a:lnTo>
                    <a:pt x="664" y="322"/>
                  </a:lnTo>
                  <a:lnTo>
                    <a:pt x="659" y="330"/>
                  </a:lnTo>
                  <a:lnTo>
                    <a:pt x="656" y="336"/>
                  </a:lnTo>
                  <a:lnTo>
                    <a:pt x="710" y="332"/>
                  </a:lnTo>
                  <a:lnTo>
                    <a:pt x="760" y="326"/>
                  </a:lnTo>
                  <a:lnTo>
                    <a:pt x="805" y="320"/>
                  </a:lnTo>
                  <a:lnTo>
                    <a:pt x="847" y="312"/>
                  </a:lnTo>
                  <a:lnTo>
                    <a:pt x="867" y="307"/>
                  </a:lnTo>
                  <a:lnTo>
                    <a:pt x="885" y="303"/>
                  </a:lnTo>
                  <a:lnTo>
                    <a:pt x="902" y="299"/>
                  </a:lnTo>
                  <a:lnTo>
                    <a:pt x="918" y="294"/>
                  </a:lnTo>
                  <a:lnTo>
                    <a:pt x="932" y="288"/>
                  </a:lnTo>
                  <a:lnTo>
                    <a:pt x="946" y="283"/>
                  </a:lnTo>
                  <a:lnTo>
                    <a:pt x="959" y="277"/>
                  </a:lnTo>
                  <a:lnTo>
                    <a:pt x="970" y="270"/>
                  </a:lnTo>
                  <a:lnTo>
                    <a:pt x="985" y="285"/>
                  </a:lnTo>
                  <a:lnTo>
                    <a:pt x="1000" y="297"/>
                  </a:lnTo>
                  <a:lnTo>
                    <a:pt x="1017" y="308"/>
                  </a:lnTo>
                  <a:lnTo>
                    <a:pt x="1035" y="317"/>
                  </a:lnTo>
                  <a:lnTo>
                    <a:pt x="1053" y="324"/>
                  </a:lnTo>
                  <a:lnTo>
                    <a:pt x="1073" y="330"/>
                  </a:lnTo>
                  <a:lnTo>
                    <a:pt x="1094" y="334"/>
                  </a:lnTo>
                  <a:lnTo>
                    <a:pt x="1116" y="336"/>
                  </a:lnTo>
                  <a:lnTo>
                    <a:pt x="1110" y="343"/>
                  </a:lnTo>
                  <a:lnTo>
                    <a:pt x="1104" y="352"/>
                  </a:lnTo>
                  <a:lnTo>
                    <a:pt x="1099" y="361"/>
                  </a:lnTo>
                  <a:lnTo>
                    <a:pt x="1093" y="372"/>
                  </a:lnTo>
                  <a:lnTo>
                    <a:pt x="1089" y="385"/>
                  </a:lnTo>
                  <a:lnTo>
                    <a:pt x="1085" y="397"/>
                  </a:lnTo>
                  <a:lnTo>
                    <a:pt x="1081" y="411"/>
                  </a:lnTo>
                  <a:lnTo>
                    <a:pt x="1077" y="427"/>
                  </a:lnTo>
                  <a:lnTo>
                    <a:pt x="1071" y="461"/>
                  </a:lnTo>
                  <a:lnTo>
                    <a:pt x="1066" y="500"/>
                  </a:lnTo>
                  <a:lnTo>
                    <a:pt x="1063" y="543"/>
                  </a:lnTo>
                  <a:lnTo>
                    <a:pt x="1061" y="591"/>
                  </a:lnTo>
                  <a:lnTo>
                    <a:pt x="1059" y="609"/>
                  </a:lnTo>
                  <a:lnTo>
                    <a:pt x="1058" y="631"/>
                  </a:lnTo>
                  <a:lnTo>
                    <a:pt x="1057" y="653"/>
                  </a:lnTo>
                  <a:lnTo>
                    <a:pt x="1056" y="678"/>
                  </a:lnTo>
                  <a:lnTo>
                    <a:pt x="1054" y="706"/>
                  </a:lnTo>
                  <a:lnTo>
                    <a:pt x="1053" y="735"/>
                  </a:lnTo>
                  <a:lnTo>
                    <a:pt x="1052" y="767"/>
                  </a:lnTo>
                  <a:lnTo>
                    <a:pt x="1051" y="801"/>
                  </a:lnTo>
                  <a:lnTo>
                    <a:pt x="1047" y="879"/>
                  </a:lnTo>
                  <a:lnTo>
                    <a:pt x="1044" y="944"/>
                  </a:lnTo>
                  <a:lnTo>
                    <a:pt x="1039" y="999"/>
                  </a:lnTo>
                  <a:lnTo>
                    <a:pt x="1036" y="1044"/>
                  </a:lnTo>
                  <a:lnTo>
                    <a:pt x="1032" y="1077"/>
                  </a:lnTo>
                  <a:lnTo>
                    <a:pt x="1029" y="1099"/>
                  </a:lnTo>
                  <a:lnTo>
                    <a:pt x="1027" y="1106"/>
                  </a:lnTo>
                  <a:lnTo>
                    <a:pt x="1024" y="1111"/>
                  </a:lnTo>
                  <a:lnTo>
                    <a:pt x="1023" y="1112"/>
                  </a:lnTo>
                  <a:lnTo>
                    <a:pt x="1022" y="1113"/>
                  </a:lnTo>
                  <a:lnTo>
                    <a:pt x="1021" y="1113"/>
                  </a:lnTo>
                  <a:lnTo>
                    <a:pt x="1021" y="1112"/>
                  </a:lnTo>
                  <a:lnTo>
                    <a:pt x="1011" y="1111"/>
                  </a:lnTo>
                  <a:lnTo>
                    <a:pt x="1001" y="1110"/>
                  </a:lnTo>
                  <a:lnTo>
                    <a:pt x="990" y="1106"/>
                  </a:lnTo>
                  <a:lnTo>
                    <a:pt x="978" y="1103"/>
                  </a:lnTo>
                  <a:lnTo>
                    <a:pt x="965" y="1099"/>
                  </a:lnTo>
                  <a:lnTo>
                    <a:pt x="951" y="1093"/>
                  </a:lnTo>
                  <a:lnTo>
                    <a:pt x="938" y="1086"/>
                  </a:lnTo>
                  <a:lnTo>
                    <a:pt x="924" y="1079"/>
                  </a:lnTo>
                  <a:lnTo>
                    <a:pt x="892" y="1061"/>
                  </a:lnTo>
                  <a:lnTo>
                    <a:pt x="858" y="1039"/>
                  </a:lnTo>
                  <a:lnTo>
                    <a:pt x="821" y="1012"/>
                  </a:lnTo>
                  <a:lnTo>
                    <a:pt x="781" y="981"/>
                  </a:lnTo>
                  <a:lnTo>
                    <a:pt x="775" y="972"/>
                  </a:lnTo>
                  <a:lnTo>
                    <a:pt x="769" y="965"/>
                  </a:lnTo>
                  <a:lnTo>
                    <a:pt x="767" y="960"/>
                  </a:lnTo>
                  <a:lnTo>
                    <a:pt x="766" y="956"/>
                  </a:lnTo>
                  <a:lnTo>
                    <a:pt x="767" y="954"/>
                  </a:lnTo>
                  <a:lnTo>
                    <a:pt x="769" y="952"/>
                  </a:lnTo>
                  <a:lnTo>
                    <a:pt x="772" y="951"/>
                  </a:lnTo>
                  <a:lnTo>
                    <a:pt x="776" y="950"/>
                  </a:lnTo>
                  <a:lnTo>
                    <a:pt x="784" y="950"/>
                  </a:lnTo>
                  <a:lnTo>
                    <a:pt x="796" y="952"/>
                  </a:lnTo>
                  <a:lnTo>
                    <a:pt x="818" y="954"/>
                  </a:lnTo>
                  <a:lnTo>
                    <a:pt x="843" y="955"/>
                  </a:lnTo>
                  <a:lnTo>
                    <a:pt x="873" y="956"/>
                  </a:lnTo>
                  <a:lnTo>
                    <a:pt x="906" y="956"/>
                  </a:lnTo>
                  <a:lnTo>
                    <a:pt x="914" y="955"/>
                  </a:lnTo>
                  <a:lnTo>
                    <a:pt x="921" y="952"/>
                  </a:lnTo>
                  <a:lnTo>
                    <a:pt x="927" y="948"/>
                  </a:lnTo>
                  <a:lnTo>
                    <a:pt x="932" y="944"/>
                  </a:lnTo>
                  <a:lnTo>
                    <a:pt x="936" y="938"/>
                  </a:lnTo>
                  <a:lnTo>
                    <a:pt x="939" y="932"/>
                  </a:lnTo>
                  <a:lnTo>
                    <a:pt x="940" y="924"/>
                  </a:lnTo>
                  <a:lnTo>
                    <a:pt x="941" y="917"/>
                  </a:lnTo>
                  <a:lnTo>
                    <a:pt x="943" y="891"/>
                  </a:lnTo>
                  <a:lnTo>
                    <a:pt x="946" y="859"/>
                  </a:lnTo>
                  <a:lnTo>
                    <a:pt x="949" y="820"/>
                  </a:lnTo>
                  <a:lnTo>
                    <a:pt x="952" y="774"/>
                  </a:lnTo>
                  <a:lnTo>
                    <a:pt x="956" y="720"/>
                  </a:lnTo>
                  <a:lnTo>
                    <a:pt x="959" y="659"/>
                  </a:lnTo>
                  <a:lnTo>
                    <a:pt x="962" y="591"/>
                  </a:lnTo>
                  <a:lnTo>
                    <a:pt x="966" y="516"/>
                  </a:lnTo>
                  <a:lnTo>
                    <a:pt x="968" y="469"/>
                  </a:lnTo>
                  <a:lnTo>
                    <a:pt x="970" y="429"/>
                  </a:lnTo>
                  <a:lnTo>
                    <a:pt x="974" y="396"/>
                  </a:lnTo>
                  <a:lnTo>
                    <a:pt x="976" y="371"/>
                  </a:lnTo>
                  <a:lnTo>
                    <a:pt x="977" y="366"/>
                  </a:lnTo>
                  <a:lnTo>
                    <a:pt x="977" y="362"/>
                  </a:lnTo>
                  <a:lnTo>
                    <a:pt x="976" y="359"/>
                  </a:lnTo>
                  <a:lnTo>
                    <a:pt x="975" y="357"/>
                  </a:lnTo>
                  <a:lnTo>
                    <a:pt x="973" y="355"/>
                  </a:lnTo>
                  <a:lnTo>
                    <a:pt x="969" y="355"/>
                  </a:lnTo>
                  <a:lnTo>
                    <a:pt x="965" y="355"/>
                  </a:lnTo>
                  <a:lnTo>
                    <a:pt x="961" y="356"/>
                  </a:lnTo>
                  <a:lnTo>
                    <a:pt x="932" y="358"/>
                  </a:lnTo>
                  <a:lnTo>
                    <a:pt x="903" y="362"/>
                  </a:lnTo>
                  <a:lnTo>
                    <a:pt x="871" y="367"/>
                  </a:lnTo>
                  <a:lnTo>
                    <a:pt x="838" y="372"/>
                  </a:lnTo>
                  <a:lnTo>
                    <a:pt x="804" y="378"/>
                  </a:lnTo>
                  <a:lnTo>
                    <a:pt x="767" y="385"/>
                  </a:lnTo>
                  <a:lnTo>
                    <a:pt x="730" y="392"/>
                  </a:lnTo>
                  <a:lnTo>
                    <a:pt x="691" y="401"/>
                  </a:lnTo>
                  <a:lnTo>
                    <a:pt x="682" y="394"/>
                  </a:lnTo>
                  <a:lnTo>
                    <a:pt x="671" y="385"/>
                  </a:lnTo>
                  <a:lnTo>
                    <a:pt x="657" y="372"/>
                  </a:lnTo>
                  <a:lnTo>
                    <a:pt x="641" y="356"/>
                  </a:lnTo>
                  <a:lnTo>
                    <a:pt x="626" y="375"/>
                  </a:lnTo>
                  <a:lnTo>
                    <a:pt x="609" y="397"/>
                  </a:lnTo>
                  <a:lnTo>
                    <a:pt x="589" y="423"/>
                  </a:lnTo>
                  <a:lnTo>
                    <a:pt x="566" y="450"/>
                  </a:lnTo>
                  <a:lnTo>
                    <a:pt x="562" y="458"/>
                  </a:lnTo>
                  <a:lnTo>
                    <a:pt x="561" y="461"/>
                  </a:lnTo>
                  <a:lnTo>
                    <a:pt x="553" y="468"/>
                  </a:lnTo>
                  <a:lnTo>
                    <a:pt x="546" y="475"/>
                  </a:lnTo>
                  <a:lnTo>
                    <a:pt x="537" y="480"/>
                  </a:lnTo>
                  <a:lnTo>
                    <a:pt x="530" y="485"/>
                  </a:lnTo>
                  <a:lnTo>
                    <a:pt x="521" y="491"/>
                  </a:lnTo>
                  <a:lnTo>
                    <a:pt x="513" y="495"/>
                  </a:lnTo>
                  <a:lnTo>
                    <a:pt x="504" y="498"/>
                  </a:lnTo>
                  <a:lnTo>
                    <a:pt x="496" y="500"/>
                  </a:lnTo>
                  <a:lnTo>
                    <a:pt x="511" y="504"/>
                  </a:lnTo>
                  <a:lnTo>
                    <a:pt x="526" y="509"/>
                  </a:lnTo>
                  <a:lnTo>
                    <a:pt x="540" y="514"/>
                  </a:lnTo>
                  <a:lnTo>
                    <a:pt x="556" y="520"/>
                  </a:lnTo>
                  <a:lnTo>
                    <a:pt x="585" y="516"/>
                  </a:lnTo>
                  <a:lnTo>
                    <a:pt x="610" y="510"/>
                  </a:lnTo>
                  <a:lnTo>
                    <a:pt x="635" y="504"/>
                  </a:lnTo>
                  <a:lnTo>
                    <a:pt x="656" y="498"/>
                  </a:lnTo>
                  <a:lnTo>
                    <a:pt x="675" y="492"/>
                  </a:lnTo>
                  <a:lnTo>
                    <a:pt x="691" y="485"/>
                  </a:lnTo>
                  <a:lnTo>
                    <a:pt x="705" y="478"/>
                  </a:lnTo>
                  <a:lnTo>
                    <a:pt x="716" y="471"/>
                  </a:lnTo>
                  <a:lnTo>
                    <a:pt x="730" y="481"/>
                  </a:lnTo>
                  <a:lnTo>
                    <a:pt x="744" y="491"/>
                  </a:lnTo>
                  <a:lnTo>
                    <a:pt x="759" y="499"/>
                  </a:lnTo>
                  <a:lnTo>
                    <a:pt x="775" y="507"/>
                  </a:lnTo>
                  <a:lnTo>
                    <a:pt x="790" y="513"/>
                  </a:lnTo>
                  <a:lnTo>
                    <a:pt x="806" y="518"/>
                  </a:lnTo>
                  <a:lnTo>
                    <a:pt x="823" y="522"/>
                  </a:lnTo>
                  <a:lnTo>
                    <a:pt x="840" y="526"/>
                  </a:lnTo>
                  <a:lnTo>
                    <a:pt x="835" y="537"/>
                  </a:lnTo>
                  <a:lnTo>
                    <a:pt x="830" y="549"/>
                  </a:lnTo>
                  <a:lnTo>
                    <a:pt x="825" y="562"/>
                  </a:lnTo>
                  <a:lnTo>
                    <a:pt x="822" y="574"/>
                  </a:lnTo>
                  <a:lnTo>
                    <a:pt x="819" y="588"/>
                  </a:lnTo>
                  <a:lnTo>
                    <a:pt x="817" y="602"/>
                  </a:lnTo>
                  <a:lnTo>
                    <a:pt x="816" y="616"/>
                  </a:lnTo>
                  <a:lnTo>
                    <a:pt x="816" y="631"/>
                  </a:lnTo>
                  <a:lnTo>
                    <a:pt x="815" y="650"/>
                  </a:lnTo>
                  <a:lnTo>
                    <a:pt x="814" y="670"/>
                  </a:lnTo>
                  <a:lnTo>
                    <a:pt x="813" y="691"/>
                  </a:lnTo>
                  <a:lnTo>
                    <a:pt x="812" y="712"/>
                  </a:lnTo>
                  <a:lnTo>
                    <a:pt x="812" y="734"/>
                  </a:lnTo>
                  <a:lnTo>
                    <a:pt x="812" y="758"/>
                  </a:lnTo>
                  <a:lnTo>
                    <a:pt x="811" y="781"/>
                  </a:lnTo>
                  <a:lnTo>
                    <a:pt x="811" y="806"/>
                  </a:lnTo>
                  <a:lnTo>
                    <a:pt x="808" y="832"/>
                  </a:lnTo>
                  <a:lnTo>
                    <a:pt x="807" y="855"/>
                  </a:lnTo>
                  <a:lnTo>
                    <a:pt x="806" y="874"/>
                  </a:lnTo>
                  <a:lnTo>
                    <a:pt x="805" y="891"/>
                  </a:lnTo>
                  <a:lnTo>
                    <a:pt x="805" y="898"/>
                  </a:lnTo>
                  <a:lnTo>
                    <a:pt x="804" y="904"/>
                  </a:lnTo>
                  <a:lnTo>
                    <a:pt x="803" y="908"/>
                  </a:lnTo>
                  <a:lnTo>
                    <a:pt x="801" y="911"/>
                  </a:lnTo>
                  <a:lnTo>
                    <a:pt x="796" y="912"/>
                  </a:lnTo>
                  <a:lnTo>
                    <a:pt x="790" y="912"/>
                  </a:lnTo>
                  <a:lnTo>
                    <a:pt x="786" y="910"/>
                  </a:lnTo>
                  <a:lnTo>
                    <a:pt x="781" y="906"/>
                  </a:lnTo>
                  <a:lnTo>
                    <a:pt x="775" y="902"/>
                  </a:lnTo>
                  <a:lnTo>
                    <a:pt x="768" y="897"/>
                  </a:lnTo>
                  <a:lnTo>
                    <a:pt x="762" y="890"/>
                  </a:lnTo>
                  <a:lnTo>
                    <a:pt x="754" y="884"/>
                  </a:lnTo>
                  <a:lnTo>
                    <a:pt x="741" y="867"/>
                  </a:lnTo>
                  <a:lnTo>
                    <a:pt x="726" y="846"/>
                  </a:lnTo>
                  <a:lnTo>
                    <a:pt x="711" y="847"/>
                  </a:lnTo>
                  <a:lnTo>
                    <a:pt x="693" y="848"/>
                  </a:lnTo>
                  <a:lnTo>
                    <a:pt x="672" y="849"/>
                  </a:lnTo>
                  <a:lnTo>
                    <a:pt x="645" y="851"/>
                  </a:lnTo>
                  <a:lnTo>
                    <a:pt x="620" y="851"/>
                  </a:lnTo>
                  <a:lnTo>
                    <a:pt x="599" y="852"/>
                  </a:lnTo>
                  <a:lnTo>
                    <a:pt x="580" y="854"/>
                  </a:lnTo>
                  <a:lnTo>
                    <a:pt x="566" y="856"/>
                  </a:lnTo>
                  <a:lnTo>
                    <a:pt x="566" y="891"/>
                  </a:lnTo>
                  <a:lnTo>
                    <a:pt x="566" y="901"/>
                  </a:lnTo>
                  <a:lnTo>
                    <a:pt x="565" y="907"/>
                  </a:lnTo>
                  <a:lnTo>
                    <a:pt x="563" y="912"/>
                  </a:lnTo>
                  <a:lnTo>
                    <a:pt x="561" y="917"/>
                  </a:lnTo>
                  <a:lnTo>
                    <a:pt x="557" y="918"/>
                  </a:lnTo>
                  <a:lnTo>
                    <a:pt x="554" y="918"/>
                  </a:lnTo>
                  <a:lnTo>
                    <a:pt x="550" y="916"/>
                  </a:lnTo>
                  <a:lnTo>
                    <a:pt x="546" y="911"/>
                  </a:lnTo>
                  <a:lnTo>
                    <a:pt x="525" y="894"/>
                  </a:lnTo>
                  <a:lnTo>
                    <a:pt x="507" y="879"/>
                  </a:lnTo>
                  <a:lnTo>
                    <a:pt x="492" y="865"/>
                  </a:lnTo>
                  <a:lnTo>
                    <a:pt x="481" y="851"/>
                  </a:lnTo>
                  <a:lnTo>
                    <a:pt x="483" y="848"/>
                  </a:lnTo>
                  <a:lnTo>
                    <a:pt x="485" y="844"/>
                  </a:lnTo>
                  <a:lnTo>
                    <a:pt x="487" y="837"/>
                  </a:lnTo>
                  <a:lnTo>
                    <a:pt x="490" y="830"/>
                  </a:lnTo>
                  <a:lnTo>
                    <a:pt x="493" y="810"/>
                  </a:lnTo>
                  <a:lnTo>
                    <a:pt x="496" y="785"/>
                  </a:lnTo>
                  <a:lnTo>
                    <a:pt x="498" y="753"/>
                  </a:lnTo>
                  <a:lnTo>
                    <a:pt x="499" y="717"/>
                  </a:lnTo>
                  <a:lnTo>
                    <a:pt x="500" y="674"/>
                  </a:lnTo>
                  <a:lnTo>
                    <a:pt x="501" y="626"/>
                  </a:lnTo>
                  <a:lnTo>
                    <a:pt x="499" y="614"/>
                  </a:lnTo>
                  <a:lnTo>
                    <a:pt x="496" y="596"/>
                  </a:lnTo>
                  <a:lnTo>
                    <a:pt x="495" y="581"/>
                  </a:lnTo>
                  <a:lnTo>
                    <a:pt x="495" y="566"/>
                  </a:lnTo>
                  <a:lnTo>
                    <a:pt x="494" y="553"/>
                  </a:lnTo>
                  <a:lnTo>
                    <a:pt x="492" y="540"/>
                  </a:lnTo>
                  <a:lnTo>
                    <a:pt x="490" y="530"/>
                  </a:lnTo>
                  <a:lnTo>
                    <a:pt x="487" y="521"/>
                  </a:lnTo>
                  <a:lnTo>
                    <a:pt x="484" y="513"/>
                  </a:lnTo>
                  <a:lnTo>
                    <a:pt x="481" y="506"/>
                  </a:lnTo>
                  <a:lnTo>
                    <a:pt x="472" y="506"/>
                  </a:lnTo>
                  <a:lnTo>
                    <a:pt x="462" y="504"/>
                  </a:lnTo>
                  <a:lnTo>
                    <a:pt x="453" y="503"/>
                  </a:lnTo>
                  <a:lnTo>
                    <a:pt x="442" y="501"/>
                  </a:lnTo>
                  <a:lnTo>
                    <a:pt x="420" y="495"/>
                  </a:lnTo>
                  <a:lnTo>
                    <a:pt x="395" y="485"/>
                  </a:lnTo>
                  <a:lnTo>
                    <a:pt x="417" y="471"/>
                  </a:lnTo>
                  <a:lnTo>
                    <a:pt x="438" y="454"/>
                  </a:lnTo>
                  <a:lnTo>
                    <a:pt x="458" y="437"/>
                  </a:lnTo>
                  <a:lnTo>
                    <a:pt x="477" y="419"/>
                  </a:lnTo>
                  <a:lnTo>
                    <a:pt x="496" y="400"/>
                  </a:lnTo>
                  <a:lnTo>
                    <a:pt x="515" y="380"/>
                  </a:lnTo>
                  <a:lnTo>
                    <a:pt x="533" y="359"/>
                  </a:lnTo>
                  <a:lnTo>
                    <a:pt x="551" y="338"/>
                  </a:lnTo>
                  <a:lnTo>
                    <a:pt x="568" y="316"/>
                  </a:lnTo>
                  <a:lnTo>
                    <a:pt x="585" y="292"/>
                  </a:lnTo>
                  <a:lnTo>
                    <a:pt x="601" y="269"/>
                  </a:lnTo>
                  <a:lnTo>
                    <a:pt x="617" y="244"/>
                  </a:lnTo>
                  <a:lnTo>
                    <a:pt x="633" y="218"/>
                  </a:lnTo>
                  <a:lnTo>
                    <a:pt x="647" y="192"/>
                  </a:lnTo>
                  <a:lnTo>
                    <a:pt x="662" y="164"/>
                  </a:lnTo>
                  <a:lnTo>
                    <a:pt x="676" y="136"/>
                  </a:lnTo>
                  <a:lnTo>
                    <a:pt x="683" y="116"/>
                  </a:lnTo>
                  <a:lnTo>
                    <a:pt x="691" y="98"/>
                  </a:lnTo>
                  <a:lnTo>
                    <a:pt x="696" y="79"/>
                  </a:lnTo>
                  <a:lnTo>
                    <a:pt x="700" y="61"/>
                  </a:lnTo>
                  <a:lnTo>
                    <a:pt x="704" y="46"/>
                  </a:lnTo>
                  <a:lnTo>
                    <a:pt x="706" y="30"/>
                  </a:lnTo>
                  <a:lnTo>
                    <a:pt x="707" y="15"/>
                  </a:lnTo>
                  <a:lnTo>
                    <a:pt x="706" y="0"/>
                  </a:lnTo>
                  <a:close/>
                  <a:moveTo>
                    <a:pt x="320" y="571"/>
                  </a:moveTo>
                  <a:lnTo>
                    <a:pt x="320" y="583"/>
                  </a:lnTo>
                  <a:lnTo>
                    <a:pt x="319" y="600"/>
                  </a:lnTo>
                  <a:lnTo>
                    <a:pt x="318" y="621"/>
                  </a:lnTo>
                  <a:lnTo>
                    <a:pt x="316" y="645"/>
                  </a:lnTo>
                  <a:lnTo>
                    <a:pt x="312" y="679"/>
                  </a:lnTo>
                  <a:lnTo>
                    <a:pt x="308" y="710"/>
                  </a:lnTo>
                  <a:lnTo>
                    <a:pt x="305" y="739"/>
                  </a:lnTo>
                  <a:lnTo>
                    <a:pt x="303" y="764"/>
                  </a:lnTo>
                  <a:lnTo>
                    <a:pt x="301" y="786"/>
                  </a:lnTo>
                  <a:lnTo>
                    <a:pt x="299" y="805"/>
                  </a:lnTo>
                  <a:lnTo>
                    <a:pt x="297" y="822"/>
                  </a:lnTo>
                  <a:lnTo>
                    <a:pt x="296" y="836"/>
                  </a:lnTo>
                  <a:lnTo>
                    <a:pt x="310" y="828"/>
                  </a:lnTo>
                  <a:lnTo>
                    <a:pt x="329" y="818"/>
                  </a:lnTo>
                  <a:lnTo>
                    <a:pt x="350" y="808"/>
                  </a:lnTo>
                  <a:lnTo>
                    <a:pt x="375" y="796"/>
                  </a:lnTo>
                  <a:lnTo>
                    <a:pt x="388" y="790"/>
                  </a:lnTo>
                  <a:lnTo>
                    <a:pt x="399" y="783"/>
                  </a:lnTo>
                  <a:lnTo>
                    <a:pt x="407" y="779"/>
                  </a:lnTo>
                  <a:lnTo>
                    <a:pt x="415" y="776"/>
                  </a:lnTo>
                  <a:lnTo>
                    <a:pt x="425" y="771"/>
                  </a:lnTo>
                  <a:lnTo>
                    <a:pt x="433" y="768"/>
                  </a:lnTo>
                  <a:lnTo>
                    <a:pt x="441" y="765"/>
                  </a:lnTo>
                  <a:lnTo>
                    <a:pt x="448" y="763"/>
                  </a:lnTo>
                  <a:lnTo>
                    <a:pt x="454" y="763"/>
                  </a:lnTo>
                  <a:lnTo>
                    <a:pt x="459" y="763"/>
                  </a:lnTo>
                  <a:lnTo>
                    <a:pt x="463" y="764"/>
                  </a:lnTo>
                  <a:lnTo>
                    <a:pt x="466" y="766"/>
                  </a:lnTo>
                  <a:lnTo>
                    <a:pt x="466" y="770"/>
                  </a:lnTo>
                  <a:lnTo>
                    <a:pt x="466" y="775"/>
                  </a:lnTo>
                  <a:lnTo>
                    <a:pt x="464" y="780"/>
                  </a:lnTo>
                  <a:lnTo>
                    <a:pt x="462" y="785"/>
                  </a:lnTo>
                  <a:lnTo>
                    <a:pt x="458" y="791"/>
                  </a:lnTo>
                  <a:lnTo>
                    <a:pt x="454" y="797"/>
                  </a:lnTo>
                  <a:lnTo>
                    <a:pt x="447" y="804"/>
                  </a:lnTo>
                  <a:lnTo>
                    <a:pt x="441" y="811"/>
                  </a:lnTo>
                  <a:lnTo>
                    <a:pt x="411" y="837"/>
                  </a:lnTo>
                  <a:lnTo>
                    <a:pt x="383" y="864"/>
                  </a:lnTo>
                  <a:lnTo>
                    <a:pt x="355" y="890"/>
                  </a:lnTo>
                  <a:lnTo>
                    <a:pt x="328" y="917"/>
                  </a:lnTo>
                  <a:lnTo>
                    <a:pt x="302" y="942"/>
                  </a:lnTo>
                  <a:lnTo>
                    <a:pt x="278" y="969"/>
                  </a:lnTo>
                  <a:lnTo>
                    <a:pt x="253" y="995"/>
                  </a:lnTo>
                  <a:lnTo>
                    <a:pt x="230" y="1022"/>
                  </a:lnTo>
                  <a:lnTo>
                    <a:pt x="224" y="1004"/>
                  </a:lnTo>
                  <a:lnTo>
                    <a:pt x="216" y="986"/>
                  </a:lnTo>
                  <a:lnTo>
                    <a:pt x="208" y="970"/>
                  </a:lnTo>
                  <a:lnTo>
                    <a:pt x="199" y="955"/>
                  </a:lnTo>
                  <a:lnTo>
                    <a:pt x="190" y="941"/>
                  </a:lnTo>
                  <a:lnTo>
                    <a:pt x="179" y="928"/>
                  </a:lnTo>
                  <a:lnTo>
                    <a:pt x="168" y="917"/>
                  </a:lnTo>
                  <a:lnTo>
                    <a:pt x="156" y="906"/>
                  </a:lnTo>
                  <a:lnTo>
                    <a:pt x="170" y="894"/>
                  </a:lnTo>
                  <a:lnTo>
                    <a:pt x="182" y="882"/>
                  </a:lnTo>
                  <a:lnTo>
                    <a:pt x="193" y="868"/>
                  </a:lnTo>
                  <a:lnTo>
                    <a:pt x="203" y="852"/>
                  </a:lnTo>
                  <a:lnTo>
                    <a:pt x="211" y="836"/>
                  </a:lnTo>
                  <a:lnTo>
                    <a:pt x="217" y="819"/>
                  </a:lnTo>
                  <a:lnTo>
                    <a:pt x="223" y="800"/>
                  </a:lnTo>
                  <a:lnTo>
                    <a:pt x="226" y="781"/>
                  </a:lnTo>
                  <a:lnTo>
                    <a:pt x="231" y="721"/>
                  </a:lnTo>
                  <a:lnTo>
                    <a:pt x="236" y="667"/>
                  </a:lnTo>
                  <a:lnTo>
                    <a:pt x="241" y="617"/>
                  </a:lnTo>
                  <a:lnTo>
                    <a:pt x="244" y="572"/>
                  </a:lnTo>
                  <a:lnTo>
                    <a:pt x="247" y="533"/>
                  </a:lnTo>
                  <a:lnTo>
                    <a:pt x="249" y="499"/>
                  </a:lnTo>
                  <a:lnTo>
                    <a:pt x="250" y="469"/>
                  </a:lnTo>
                  <a:lnTo>
                    <a:pt x="250" y="446"/>
                  </a:lnTo>
                  <a:lnTo>
                    <a:pt x="231" y="455"/>
                  </a:lnTo>
                  <a:lnTo>
                    <a:pt x="207" y="466"/>
                  </a:lnTo>
                  <a:lnTo>
                    <a:pt x="178" y="480"/>
                  </a:lnTo>
                  <a:lnTo>
                    <a:pt x="145" y="496"/>
                  </a:lnTo>
                  <a:lnTo>
                    <a:pt x="122" y="508"/>
                  </a:lnTo>
                  <a:lnTo>
                    <a:pt x="102" y="517"/>
                  </a:lnTo>
                  <a:lnTo>
                    <a:pt x="85" y="525"/>
                  </a:lnTo>
                  <a:lnTo>
                    <a:pt x="70" y="531"/>
                  </a:lnTo>
                  <a:lnTo>
                    <a:pt x="53" y="510"/>
                  </a:lnTo>
                  <a:lnTo>
                    <a:pt x="35" y="490"/>
                  </a:lnTo>
                  <a:lnTo>
                    <a:pt x="18" y="472"/>
                  </a:lnTo>
                  <a:lnTo>
                    <a:pt x="0" y="456"/>
                  </a:lnTo>
                  <a:lnTo>
                    <a:pt x="47" y="449"/>
                  </a:lnTo>
                  <a:lnTo>
                    <a:pt x="89" y="441"/>
                  </a:lnTo>
                  <a:lnTo>
                    <a:pt x="108" y="436"/>
                  </a:lnTo>
                  <a:lnTo>
                    <a:pt x="127" y="430"/>
                  </a:lnTo>
                  <a:lnTo>
                    <a:pt x="144" y="425"/>
                  </a:lnTo>
                  <a:lnTo>
                    <a:pt x="160" y="420"/>
                  </a:lnTo>
                  <a:lnTo>
                    <a:pt x="176" y="413"/>
                  </a:lnTo>
                  <a:lnTo>
                    <a:pt x="190" y="407"/>
                  </a:lnTo>
                  <a:lnTo>
                    <a:pt x="203" y="401"/>
                  </a:lnTo>
                  <a:lnTo>
                    <a:pt x="214" y="393"/>
                  </a:lnTo>
                  <a:lnTo>
                    <a:pt x="225" y="386"/>
                  </a:lnTo>
                  <a:lnTo>
                    <a:pt x="234" y="377"/>
                  </a:lnTo>
                  <a:lnTo>
                    <a:pt x="243" y="369"/>
                  </a:lnTo>
                  <a:lnTo>
                    <a:pt x="250" y="360"/>
                  </a:lnTo>
                  <a:lnTo>
                    <a:pt x="265" y="371"/>
                  </a:lnTo>
                  <a:lnTo>
                    <a:pt x="280" y="380"/>
                  </a:lnTo>
                  <a:lnTo>
                    <a:pt x="296" y="389"/>
                  </a:lnTo>
                  <a:lnTo>
                    <a:pt x="312" y="395"/>
                  </a:lnTo>
                  <a:lnTo>
                    <a:pt x="330" y="402"/>
                  </a:lnTo>
                  <a:lnTo>
                    <a:pt x="348" y="406"/>
                  </a:lnTo>
                  <a:lnTo>
                    <a:pt x="366" y="409"/>
                  </a:lnTo>
                  <a:lnTo>
                    <a:pt x="386" y="411"/>
                  </a:lnTo>
                  <a:lnTo>
                    <a:pt x="373" y="426"/>
                  </a:lnTo>
                  <a:lnTo>
                    <a:pt x="361" y="443"/>
                  </a:lnTo>
                  <a:lnTo>
                    <a:pt x="351" y="461"/>
                  </a:lnTo>
                  <a:lnTo>
                    <a:pt x="342" y="481"/>
                  </a:lnTo>
                  <a:lnTo>
                    <a:pt x="335" y="501"/>
                  </a:lnTo>
                  <a:lnTo>
                    <a:pt x="329" y="524"/>
                  </a:lnTo>
                  <a:lnTo>
                    <a:pt x="323" y="547"/>
                  </a:lnTo>
                  <a:lnTo>
                    <a:pt x="320" y="571"/>
                  </a:lnTo>
                  <a:close/>
                  <a:moveTo>
                    <a:pt x="566" y="711"/>
                  </a:moveTo>
                  <a:lnTo>
                    <a:pt x="566" y="816"/>
                  </a:lnTo>
                  <a:lnTo>
                    <a:pt x="579" y="815"/>
                  </a:lnTo>
                  <a:lnTo>
                    <a:pt x="596" y="811"/>
                  </a:lnTo>
                  <a:lnTo>
                    <a:pt x="624" y="806"/>
                  </a:lnTo>
                  <a:lnTo>
                    <a:pt x="653" y="801"/>
                  </a:lnTo>
                  <a:lnTo>
                    <a:pt x="683" y="796"/>
                  </a:lnTo>
                  <a:lnTo>
                    <a:pt x="716" y="792"/>
                  </a:lnTo>
                  <a:lnTo>
                    <a:pt x="716" y="788"/>
                  </a:lnTo>
                  <a:lnTo>
                    <a:pt x="716" y="781"/>
                  </a:lnTo>
                  <a:lnTo>
                    <a:pt x="718" y="776"/>
                  </a:lnTo>
                  <a:lnTo>
                    <a:pt x="719" y="771"/>
                  </a:lnTo>
                  <a:lnTo>
                    <a:pt x="721" y="766"/>
                  </a:lnTo>
                  <a:lnTo>
                    <a:pt x="721" y="761"/>
                  </a:lnTo>
                  <a:lnTo>
                    <a:pt x="723" y="735"/>
                  </a:lnTo>
                  <a:lnTo>
                    <a:pt x="725" y="710"/>
                  </a:lnTo>
                  <a:lnTo>
                    <a:pt x="726" y="685"/>
                  </a:lnTo>
                  <a:lnTo>
                    <a:pt x="726" y="658"/>
                  </a:lnTo>
                  <a:lnTo>
                    <a:pt x="726" y="632"/>
                  </a:lnTo>
                  <a:lnTo>
                    <a:pt x="725" y="605"/>
                  </a:lnTo>
                  <a:lnTo>
                    <a:pt x="723" y="579"/>
                  </a:lnTo>
                  <a:lnTo>
                    <a:pt x="721" y="551"/>
                  </a:lnTo>
                  <a:lnTo>
                    <a:pt x="717" y="545"/>
                  </a:lnTo>
                  <a:lnTo>
                    <a:pt x="713" y="539"/>
                  </a:lnTo>
                  <a:lnTo>
                    <a:pt x="711" y="538"/>
                  </a:lnTo>
                  <a:lnTo>
                    <a:pt x="708" y="537"/>
                  </a:lnTo>
                  <a:lnTo>
                    <a:pt x="705" y="536"/>
                  </a:lnTo>
                  <a:lnTo>
                    <a:pt x="700" y="536"/>
                  </a:lnTo>
                  <a:lnTo>
                    <a:pt x="670" y="544"/>
                  </a:lnTo>
                  <a:lnTo>
                    <a:pt x="637" y="551"/>
                  </a:lnTo>
                  <a:lnTo>
                    <a:pt x="602" y="558"/>
                  </a:lnTo>
                  <a:lnTo>
                    <a:pt x="566" y="566"/>
                  </a:lnTo>
                  <a:lnTo>
                    <a:pt x="566" y="661"/>
                  </a:lnTo>
                  <a:lnTo>
                    <a:pt x="585" y="658"/>
                  </a:lnTo>
                  <a:lnTo>
                    <a:pt x="607" y="654"/>
                  </a:lnTo>
                  <a:lnTo>
                    <a:pt x="633" y="648"/>
                  </a:lnTo>
                  <a:lnTo>
                    <a:pt x="661" y="641"/>
                  </a:lnTo>
                  <a:lnTo>
                    <a:pt x="673" y="637"/>
                  </a:lnTo>
                  <a:lnTo>
                    <a:pt x="680" y="636"/>
                  </a:lnTo>
                  <a:lnTo>
                    <a:pt x="684" y="641"/>
                  </a:lnTo>
                  <a:lnTo>
                    <a:pt x="692" y="652"/>
                  </a:lnTo>
                  <a:lnTo>
                    <a:pt x="703" y="669"/>
                  </a:lnTo>
                  <a:lnTo>
                    <a:pt x="716" y="691"/>
                  </a:lnTo>
                  <a:lnTo>
                    <a:pt x="707" y="691"/>
                  </a:lnTo>
                  <a:lnTo>
                    <a:pt x="691" y="691"/>
                  </a:lnTo>
                  <a:lnTo>
                    <a:pt x="653" y="696"/>
                  </a:lnTo>
                  <a:lnTo>
                    <a:pt x="620" y="700"/>
                  </a:lnTo>
                  <a:lnTo>
                    <a:pt x="590" y="706"/>
                  </a:lnTo>
                  <a:lnTo>
                    <a:pt x="566" y="711"/>
                  </a:lnTo>
                  <a:close/>
                  <a:moveTo>
                    <a:pt x="281" y="75"/>
                  </a:moveTo>
                  <a:lnTo>
                    <a:pt x="344" y="96"/>
                  </a:lnTo>
                  <a:lnTo>
                    <a:pt x="392" y="113"/>
                  </a:lnTo>
                  <a:lnTo>
                    <a:pt x="409" y="120"/>
                  </a:lnTo>
                  <a:lnTo>
                    <a:pt x="422" y="126"/>
                  </a:lnTo>
                  <a:lnTo>
                    <a:pt x="431" y="131"/>
                  </a:lnTo>
                  <a:lnTo>
                    <a:pt x="436" y="136"/>
                  </a:lnTo>
                  <a:lnTo>
                    <a:pt x="438" y="140"/>
                  </a:lnTo>
                  <a:lnTo>
                    <a:pt x="439" y="147"/>
                  </a:lnTo>
                  <a:lnTo>
                    <a:pt x="440" y="156"/>
                  </a:lnTo>
                  <a:lnTo>
                    <a:pt x="440" y="166"/>
                  </a:lnTo>
                  <a:lnTo>
                    <a:pt x="437" y="195"/>
                  </a:lnTo>
                  <a:lnTo>
                    <a:pt x="430" y="231"/>
                  </a:lnTo>
                  <a:lnTo>
                    <a:pt x="428" y="242"/>
                  </a:lnTo>
                  <a:lnTo>
                    <a:pt x="425" y="249"/>
                  </a:lnTo>
                  <a:lnTo>
                    <a:pt x="423" y="252"/>
                  </a:lnTo>
                  <a:lnTo>
                    <a:pt x="421" y="254"/>
                  </a:lnTo>
                  <a:lnTo>
                    <a:pt x="418" y="255"/>
                  </a:lnTo>
                  <a:lnTo>
                    <a:pt x="415" y="255"/>
                  </a:lnTo>
                  <a:lnTo>
                    <a:pt x="414" y="256"/>
                  </a:lnTo>
                  <a:lnTo>
                    <a:pt x="412" y="256"/>
                  </a:lnTo>
                  <a:lnTo>
                    <a:pt x="410" y="256"/>
                  </a:lnTo>
                  <a:lnTo>
                    <a:pt x="408" y="255"/>
                  </a:lnTo>
                  <a:lnTo>
                    <a:pt x="403" y="252"/>
                  </a:lnTo>
                  <a:lnTo>
                    <a:pt x="395" y="246"/>
                  </a:lnTo>
                  <a:lnTo>
                    <a:pt x="376" y="230"/>
                  </a:lnTo>
                  <a:lnTo>
                    <a:pt x="357" y="214"/>
                  </a:lnTo>
                  <a:lnTo>
                    <a:pt x="338" y="196"/>
                  </a:lnTo>
                  <a:lnTo>
                    <a:pt x="321" y="178"/>
                  </a:lnTo>
                  <a:lnTo>
                    <a:pt x="303" y="159"/>
                  </a:lnTo>
                  <a:lnTo>
                    <a:pt x="287" y="139"/>
                  </a:lnTo>
                  <a:lnTo>
                    <a:pt x="271" y="118"/>
                  </a:lnTo>
                  <a:lnTo>
                    <a:pt x="256" y="95"/>
                  </a:lnTo>
                  <a:lnTo>
                    <a:pt x="249" y="85"/>
                  </a:lnTo>
                  <a:lnTo>
                    <a:pt x="246" y="76"/>
                  </a:lnTo>
                  <a:lnTo>
                    <a:pt x="245" y="74"/>
                  </a:lnTo>
                  <a:lnTo>
                    <a:pt x="244" y="72"/>
                  </a:lnTo>
                  <a:lnTo>
                    <a:pt x="245" y="71"/>
                  </a:lnTo>
                  <a:lnTo>
                    <a:pt x="246" y="71"/>
                  </a:lnTo>
                  <a:lnTo>
                    <a:pt x="246" y="70"/>
                  </a:lnTo>
                  <a:lnTo>
                    <a:pt x="248" y="69"/>
                  </a:lnTo>
                  <a:lnTo>
                    <a:pt x="250" y="69"/>
                  </a:lnTo>
                  <a:lnTo>
                    <a:pt x="254" y="69"/>
                  </a:lnTo>
                  <a:lnTo>
                    <a:pt x="265" y="71"/>
                  </a:lnTo>
                  <a:lnTo>
                    <a:pt x="281" y="75"/>
                  </a:lnTo>
                  <a:close/>
                </a:path>
              </a:pathLst>
            </a:custGeom>
            <a:solidFill>
              <a:schemeClr val="tx1"/>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d79f00"/>
                </a:solidFill>
                <a:latin typeface="Arial"/>
                <a:ea typeface="宋体"/>
              </a:endParaRPr>
            </a:p>
          </p:txBody>
        </p:sp>
        <p:sp>
          <p:nvSpPr>
            <p:cNvPr id="334" name="Freeform 21"/>
            <p:cNvSpPr/>
            <p:nvPr/>
          </p:nvSpPr>
          <p:spPr>
            <a:xfrm>
              <a:off x="4359600" y="9348480"/>
              <a:ext cx="228240" cy="216360"/>
            </a:xfrm>
            <a:custGeom>
              <a:avLst/>
              <a:gdLst>
                <a:gd name="textAreaLeft" fmla="*/ 0 w 228240"/>
                <a:gd name="textAreaRight" fmla="*/ 228600 w 228240"/>
                <a:gd name="textAreaTop" fmla="*/ 0 h 216360"/>
                <a:gd name="textAreaBottom" fmla="*/ 216720 h 216360"/>
              </a:gdLst>
              <a:ahLst/>
              <a:rect l="textAreaLeft" t="textAreaTop" r="textAreaRight" b="textAreaBottom"/>
              <a:pathLst>
                <a:path w="1175" h="1166">
                  <a:moveTo>
                    <a:pt x="1135" y="165"/>
                  </a:moveTo>
                  <a:lnTo>
                    <a:pt x="1149" y="186"/>
                  </a:lnTo>
                  <a:lnTo>
                    <a:pt x="1158" y="202"/>
                  </a:lnTo>
                  <a:lnTo>
                    <a:pt x="1166" y="213"/>
                  </a:lnTo>
                  <a:lnTo>
                    <a:pt x="1170" y="221"/>
                  </a:lnTo>
                  <a:lnTo>
                    <a:pt x="1173" y="227"/>
                  </a:lnTo>
                  <a:lnTo>
                    <a:pt x="1175" y="232"/>
                  </a:lnTo>
                  <a:lnTo>
                    <a:pt x="1175" y="236"/>
                  </a:lnTo>
                  <a:lnTo>
                    <a:pt x="1174" y="241"/>
                  </a:lnTo>
                  <a:lnTo>
                    <a:pt x="1171" y="244"/>
                  </a:lnTo>
                  <a:lnTo>
                    <a:pt x="1167" y="247"/>
                  </a:lnTo>
                  <a:lnTo>
                    <a:pt x="1162" y="249"/>
                  </a:lnTo>
                  <a:lnTo>
                    <a:pt x="1155" y="250"/>
                  </a:lnTo>
                  <a:lnTo>
                    <a:pt x="1095" y="251"/>
                  </a:lnTo>
                  <a:lnTo>
                    <a:pt x="1031" y="253"/>
                  </a:lnTo>
                  <a:lnTo>
                    <a:pt x="963" y="257"/>
                  </a:lnTo>
                  <a:lnTo>
                    <a:pt x="889" y="262"/>
                  </a:lnTo>
                  <a:lnTo>
                    <a:pt x="811" y="268"/>
                  </a:lnTo>
                  <a:lnTo>
                    <a:pt x="728" y="276"/>
                  </a:lnTo>
                  <a:lnTo>
                    <a:pt x="642" y="285"/>
                  </a:lnTo>
                  <a:lnTo>
                    <a:pt x="551" y="296"/>
                  </a:lnTo>
                  <a:lnTo>
                    <a:pt x="541" y="316"/>
                  </a:lnTo>
                  <a:lnTo>
                    <a:pt x="533" y="336"/>
                  </a:lnTo>
                  <a:lnTo>
                    <a:pt x="522" y="355"/>
                  </a:lnTo>
                  <a:lnTo>
                    <a:pt x="512" y="375"/>
                  </a:lnTo>
                  <a:lnTo>
                    <a:pt x="503" y="395"/>
                  </a:lnTo>
                  <a:lnTo>
                    <a:pt x="492" y="416"/>
                  </a:lnTo>
                  <a:lnTo>
                    <a:pt x="482" y="436"/>
                  </a:lnTo>
                  <a:lnTo>
                    <a:pt x="470" y="456"/>
                  </a:lnTo>
                  <a:lnTo>
                    <a:pt x="475" y="456"/>
                  </a:lnTo>
                  <a:lnTo>
                    <a:pt x="481" y="457"/>
                  </a:lnTo>
                  <a:lnTo>
                    <a:pt x="485" y="459"/>
                  </a:lnTo>
                  <a:lnTo>
                    <a:pt x="490" y="461"/>
                  </a:lnTo>
                  <a:lnTo>
                    <a:pt x="499" y="461"/>
                  </a:lnTo>
                  <a:lnTo>
                    <a:pt x="505" y="461"/>
                  </a:lnTo>
                  <a:lnTo>
                    <a:pt x="552" y="455"/>
                  </a:lnTo>
                  <a:lnTo>
                    <a:pt x="595" y="447"/>
                  </a:lnTo>
                  <a:lnTo>
                    <a:pt x="634" y="439"/>
                  </a:lnTo>
                  <a:lnTo>
                    <a:pt x="669" y="430"/>
                  </a:lnTo>
                  <a:lnTo>
                    <a:pt x="700" y="422"/>
                  </a:lnTo>
                  <a:lnTo>
                    <a:pt x="727" y="412"/>
                  </a:lnTo>
                  <a:lnTo>
                    <a:pt x="739" y="407"/>
                  </a:lnTo>
                  <a:lnTo>
                    <a:pt x="751" y="402"/>
                  </a:lnTo>
                  <a:lnTo>
                    <a:pt x="761" y="397"/>
                  </a:lnTo>
                  <a:lnTo>
                    <a:pt x="770" y="391"/>
                  </a:lnTo>
                  <a:lnTo>
                    <a:pt x="784" y="401"/>
                  </a:lnTo>
                  <a:lnTo>
                    <a:pt x="798" y="408"/>
                  </a:lnTo>
                  <a:lnTo>
                    <a:pt x="815" y="416"/>
                  </a:lnTo>
                  <a:lnTo>
                    <a:pt x="834" y="422"/>
                  </a:lnTo>
                  <a:lnTo>
                    <a:pt x="855" y="427"/>
                  </a:lnTo>
                  <a:lnTo>
                    <a:pt x="876" y="431"/>
                  </a:lnTo>
                  <a:lnTo>
                    <a:pt x="900" y="434"/>
                  </a:lnTo>
                  <a:lnTo>
                    <a:pt x="925" y="436"/>
                  </a:lnTo>
                  <a:lnTo>
                    <a:pt x="919" y="447"/>
                  </a:lnTo>
                  <a:lnTo>
                    <a:pt x="914" y="461"/>
                  </a:lnTo>
                  <a:lnTo>
                    <a:pt x="910" y="477"/>
                  </a:lnTo>
                  <a:lnTo>
                    <a:pt x="905" y="496"/>
                  </a:lnTo>
                  <a:lnTo>
                    <a:pt x="902" y="517"/>
                  </a:lnTo>
                  <a:lnTo>
                    <a:pt x="899" y="541"/>
                  </a:lnTo>
                  <a:lnTo>
                    <a:pt x="897" y="567"/>
                  </a:lnTo>
                  <a:lnTo>
                    <a:pt x="895" y="596"/>
                  </a:lnTo>
                  <a:lnTo>
                    <a:pt x="895" y="628"/>
                  </a:lnTo>
                  <a:lnTo>
                    <a:pt x="894" y="660"/>
                  </a:lnTo>
                  <a:lnTo>
                    <a:pt x="895" y="697"/>
                  </a:lnTo>
                  <a:lnTo>
                    <a:pt x="895" y="736"/>
                  </a:lnTo>
                  <a:lnTo>
                    <a:pt x="899" y="821"/>
                  </a:lnTo>
                  <a:lnTo>
                    <a:pt x="905" y="916"/>
                  </a:lnTo>
                  <a:lnTo>
                    <a:pt x="905" y="972"/>
                  </a:lnTo>
                  <a:lnTo>
                    <a:pt x="905" y="1020"/>
                  </a:lnTo>
                  <a:lnTo>
                    <a:pt x="903" y="1062"/>
                  </a:lnTo>
                  <a:lnTo>
                    <a:pt x="900" y="1096"/>
                  </a:lnTo>
                  <a:lnTo>
                    <a:pt x="898" y="1111"/>
                  </a:lnTo>
                  <a:lnTo>
                    <a:pt x="896" y="1125"/>
                  </a:lnTo>
                  <a:lnTo>
                    <a:pt x="893" y="1135"/>
                  </a:lnTo>
                  <a:lnTo>
                    <a:pt x="891" y="1145"/>
                  </a:lnTo>
                  <a:lnTo>
                    <a:pt x="887" y="1153"/>
                  </a:lnTo>
                  <a:lnTo>
                    <a:pt x="883" y="1160"/>
                  </a:lnTo>
                  <a:lnTo>
                    <a:pt x="880" y="1164"/>
                  </a:lnTo>
                  <a:lnTo>
                    <a:pt x="876" y="1166"/>
                  </a:lnTo>
                  <a:lnTo>
                    <a:pt x="867" y="1165"/>
                  </a:lnTo>
                  <a:lnTo>
                    <a:pt x="858" y="1162"/>
                  </a:lnTo>
                  <a:lnTo>
                    <a:pt x="848" y="1158"/>
                  </a:lnTo>
                  <a:lnTo>
                    <a:pt x="839" y="1154"/>
                  </a:lnTo>
                  <a:lnTo>
                    <a:pt x="816" y="1144"/>
                  </a:lnTo>
                  <a:lnTo>
                    <a:pt x="793" y="1129"/>
                  </a:lnTo>
                  <a:lnTo>
                    <a:pt x="767" y="1111"/>
                  </a:lnTo>
                  <a:lnTo>
                    <a:pt x="738" y="1090"/>
                  </a:lnTo>
                  <a:lnTo>
                    <a:pt x="707" y="1064"/>
                  </a:lnTo>
                  <a:lnTo>
                    <a:pt x="676" y="1037"/>
                  </a:lnTo>
                  <a:lnTo>
                    <a:pt x="667" y="1025"/>
                  </a:lnTo>
                  <a:lnTo>
                    <a:pt x="662" y="1016"/>
                  </a:lnTo>
                  <a:lnTo>
                    <a:pt x="660" y="1013"/>
                  </a:lnTo>
                  <a:lnTo>
                    <a:pt x="660" y="1010"/>
                  </a:lnTo>
                  <a:lnTo>
                    <a:pt x="660" y="1008"/>
                  </a:lnTo>
                  <a:lnTo>
                    <a:pt x="660" y="1006"/>
                  </a:lnTo>
                  <a:lnTo>
                    <a:pt x="661" y="1004"/>
                  </a:lnTo>
                  <a:lnTo>
                    <a:pt x="662" y="1002"/>
                  </a:lnTo>
                  <a:lnTo>
                    <a:pt x="664" y="1001"/>
                  </a:lnTo>
                  <a:lnTo>
                    <a:pt x="666" y="999"/>
                  </a:lnTo>
                  <a:lnTo>
                    <a:pt x="674" y="999"/>
                  </a:lnTo>
                  <a:lnTo>
                    <a:pt x="685" y="1002"/>
                  </a:lnTo>
                  <a:lnTo>
                    <a:pt x="713" y="1004"/>
                  </a:lnTo>
                  <a:lnTo>
                    <a:pt x="737" y="1005"/>
                  </a:lnTo>
                  <a:lnTo>
                    <a:pt x="748" y="1005"/>
                  </a:lnTo>
                  <a:lnTo>
                    <a:pt x="757" y="1004"/>
                  </a:lnTo>
                  <a:lnTo>
                    <a:pt x="766" y="1003"/>
                  </a:lnTo>
                  <a:lnTo>
                    <a:pt x="773" y="1002"/>
                  </a:lnTo>
                  <a:lnTo>
                    <a:pt x="779" y="999"/>
                  </a:lnTo>
                  <a:lnTo>
                    <a:pt x="785" y="996"/>
                  </a:lnTo>
                  <a:lnTo>
                    <a:pt x="789" y="993"/>
                  </a:lnTo>
                  <a:lnTo>
                    <a:pt x="792" y="990"/>
                  </a:lnTo>
                  <a:lnTo>
                    <a:pt x="794" y="986"/>
                  </a:lnTo>
                  <a:lnTo>
                    <a:pt x="795" y="981"/>
                  </a:lnTo>
                  <a:lnTo>
                    <a:pt x="796" y="976"/>
                  </a:lnTo>
                  <a:lnTo>
                    <a:pt x="795" y="971"/>
                  </a:lnTo>
                  <a:lnTo>
                    <a:pt x="797" y="904"/>
                  </a:lnTo>
                  <a:lnTo>
                    <a:pt x="798" y="839"/>
                  </a:lnTo>
                  <a:lnTo>
                    <a:pt x="798" y="776"/>
                  </a:lnTo>
                  <a:lnTo>
                    <a:pt x="797" y="713"/>
                  </a:lnTo>
                  <a:lnTo>
                    <a:pt x="796" y="653"/>
                  </a:lnTo>
                  <a:lnTo>
                    <a:pt x="793" y="594"/>
                  </a:lnTo>
                  <a:lnTo>
                    <a:pt x="790" y="536"/>
                  </a:lnTo>
                  <a:lnTo>
                    <a:pt x="786" y="480"/>
                  </a:lnTo>
                  <a:lnTo>
                    <a:pt x="785" y="477"/>
                  </a:lnTo>
                  <a:lnTo>
                    <a:pt x="784" y="474"/>
                  </a:lnTo>
                  <a:lnTo>
                    <a:pt x="782" y="472"/>
                  </a:lnTo>
                  <a:lnTo>
                    <a:pt x="780" y="470"/>
                  </a:lnTo>
                  <a:lnTo>
                    <a:pt x="777" y="468"/>
                  </a:lnTo>
                  <a:lnTo>
                    <a:pt x="774" y="466"/>
                  </a:lnTo>
                  <a:lnTo>
                    <a:pt x="770" y="466"/>
                  </a:lnTo>
                  <a:lnTo>
                    <a:pt x="766" y="465"/>
                  </a:lnTo>
                  <a:lnTo>
                    <a:pt x="732" y="472"/>
                  </a:lnTo>
                  <a:lnTo>
                    <a:pt x="700" y="478"/>
                  </a:lnTo>
                  <a:lnTo>
                    <a:pt x="670" y="486"/>
                  </a:lnTo>
                  <a:lnTo>
                    <a:pt x="642" y="492"/>
                  </a:lnTo>
                  <a:lnTo>
                    <a:pt x="614" y="499"/>
                  </a:lnTo>
                  <a:lnTo>
                    <a:pt x="588" y="506"/>
                  </a:lnTo>
                  <a:lnTo>
                    <a:pt x="563" y="513"/>
                  </a:lnTo>
                  <a:lnTo>
                    <a:pt x="540" y="521"/>
                  </a:lnTo>
                  <a:lnTo>
                    <a:pt x="537" y="521"/>
                  </a:lnTo>
                  <a:lnTo>
                    <a:pt x="533" y="519"/>
                  </a:lnTo>
                  <a:lnTo>
                    <a:pt x="528" y="517"/>
                  </a:lnTo>
                  <a:lnTo>
                    <a:pt x="524" y="514"/>
                  </a:lnTo>
                  <a:lnTo>
                    <a:pt x="515" y="507"/>
                  </a:lnTo>
                  <a:lnTo>
                    <a:pt x="505" y="496"/>
                  </a:lnTo>
                  <a:lnTo>
                    <a:pt x="503" y="519"/>
                  </a:lnTo>
                  <a:lnTo>
                    <a:pt x="502" y="550"/>
                  </a:lnTo>
                  <a:lnTo>
                    <a:pt x="501" y="587"/>
                  </a:lnTo>
                  <a:lnTo>
                    <a:pt x="500" y="631"/>
                  </a:lnTo>
                  <a:lnTo>
                    <a:pt x="515" y="630"/>
                  </a:lnTo>
                  <a:lnTo>
                    <a:pt x="534" y="628"/>
                  </a:lnTo>
                  <a:lnTo>
                    <a:pt x="557" y="622"/>
                  </a:lnTo>
                  <a:lnTo>
                    <a:pt x="585" y="616"/>
                  </a:lnTo>
                  <a:lnTo>
                    <a:pt x="627" y="607"/>
                  </a:lnTo>
                  <a:lnTo>
                    <a:pt x="663" y="600"/>
                  </a:lnTo>
                  <a:lnTo>
                    <a:pt x="692" y="595"/>
                  </a:lnTo>
                  <a:lnTo>
                    <a:pt x="715" y="590"/>
                  </a:lnTo>
                  <a:lnTo>
                    <a:pt x="719" y="594"/>
                  </a:lnTo>
                  <a:lnTo>
                    <a:pt x="726" y="602"/>
                  </a:lnTo>
                  <a:lnTo>
                    <a:pt x="737" y="616"/>
                  </a:lnTo>
                  <a:lnTo>
                    <a:pt x="750" y="636"/>
                  </a:lnTo>
                  <a:lnTo>
                    <a:pt x="753" y="638"/>
                  </a:lnTo>
                  <a:lnTo>
                    <a:pt x="754" y="641"/>
                  </a:lnTo>
                  <a:lnTo>
                    <a:pt x="755" y="643"/>
                  </a:lnTo>
                  <a:lnTo>
                    <a:pt x="755" y="646"/>
                  </a:lnTo>
                  <a:lnTo>
                    <a:pt x="732" y="651"/>
                  </a:lnTo>
                  <a:lnTo>
                    <a:pt x="700" y="656"/>
                  </a:lnTo>
                  <a:lnTo>
                    <a:pt x="662" y="661"/>
                  </a:lnTo>
                  <a:lnTo>
                    <a:pt x="615" y="666"/>
                  </a:lnTo>
                  <a:lnTo>
                    <a:pt x="578" y="673"/>
                  </a:lnTo>
                  <a:lnTo>
                    <a:pt x="545" y="678"/>
                  </a:lnTo>
                  <a:lnTo>
                    <a:pt x="518" y="683"/>
                  </a:lnTo>
                  <a:lnTo>
                    <a:pt x="495" y="686"/>
                  </a:lnTo>
                  <a:lnTo>
                    <a:pt x="495" y="710"/>
                  </a:lnTo>
                  <a:lnTo>
                    <a:pt x="495" y="736"/>
                  </a:lnTo>
                  <a:lnTo>
                    <a:pt x="495" y="765"/>
                  </a:lnTo>
                  <a:lnTo>
                    <a:pt x="495" y="796"/>
                  </a:lnTo>
                  <a:lnTo>
                    <a:pt x="509" y="793"/>
                  </a:lnTo>
                  <a:lnTo>
                    <a:pt x="527" y="790"/>
                  </a:lnTo>
                  <a:lnTo>
                    <a:pt x="549" y="785"/>
                  </a:lnTo>
                  <a:lnTo>
                    <a:pt x="575" y="781"/>
                  </a:lnTo>
                  <a:lnTo>
                    <a:pt x="623" y="772"/>
                  </a:lnTo>
                  <a:lnTo>
                    <a:pt x="664" y="764"/>
                  </a:lnTo>
                  <a:lnTo>
                    <a:pt x="700" y="759"/>
                  </a:lnTo>
                  <a:lnTo>
                    <a:pt x="731" y="756"/>
                  </a:lnTo>
                  <a:lnTo>
                    <a:pt x="735" y="759"/>
                  </a:lnTo>
                  <a:lnTo>
                    <a:pt x="740" y="763"/>
                  </a:lnTo>
                  <a:lnTo>
                    <a:pt x="745" y="770"/>
                  </a:lnTo>
                  <a:lnTo>
                    <a:pt x="750" y="776"/>
                  </a:lnTo>
                  <a:lnTo>
                    <a:pt x="755" y="784"/>
                  </a:lnTo>
                  <a:lnTo>
                    <a:pt x="760" y="794"/>
                  </a:lnTo>
                  <a:lnTo>
                    <a:pt x="766" y="805"/>
                  </a:lnTo>
                  <a:lnTo>
                    <a:pt x="770" y="816"/>
                  </a:lnTo>
                  <a:lnTo>
                    <a:pt x="753" y="818"/>
                  </a:lnTo>
                  <a:lnTo>
                    <a:pt x="733" y="821"/>
                  </a:lnTo>
                  <a:lnTo>
                    <a:pt x="708" y="824"/>
                  </a:lnTo>
                  <a:lnTo>
                    <a:pt x="680" y="826"/>
                  </a:lnTo>
                  <a:lnTo>
                    <a:pt x="648" y="830"/>
                  </a:lnTo>
                  <a:lnTo>
                    <a:pt x="618" y="833"/>
                  </a:lnTo>
                  <a:lnTo>
                    <a:pt x="591" y="836"/>
                  </a:lnTo>
                  <a:lnTo>
                    <a:pt x="566" y="838"/>
                  </a:lnTo>
                  <a:lnTo>
                    <a:pt x="544" y="841"/>
                  </a:lnTo>
                  <a:lnTo>
                    <a:pt x="525" y="843"/>
                  </a:lnTo>
                  <a:lnTo>
                    <a:pt x="509" y="845"/>
                  </a:lnTo>
                  <a:lnTo>
                    <a:pt x="495" y="846"/>
                  </a:lnTo>
                  <a:lnTo>
                    <a:pt x="493" y="884"/>
                  </a:lnTo>
                  <a:lnTo>
                    <a:pt x="491" y="922"/>
                  </a:lnTo>
                  <a:lnTo>
                    <a:pt x="490" y="961"/>
                  </a:lnTo>
                  <a:lnTo>
                    <a:pt x="490" y="1002"/>
                  </a:lnTo>
                  <a:lnTo>
                    <a:pt x="487" y="1027"/>
                  </a:lnTo>
                  <a:lnTo>
                    <a:pt x="485" y="1049"/>
                  </a:lnTo>
                  <a:lnTo>
                    <a:pt x="482" y="1069"/>
                  </a:lnTo>
                  <a:lnTo>
                    <a:pt x="478" y="1085"/>
                  </a:lnTo>
                  <a:lnTo>
                    <a:pt x="475" y="1098"/>
                  </a:lnTo>
                  <a:lnTo>
                    <a:pt x="472" y="1108"/>
                  </a:lnTo>
                  <a:lnTo>
                    <a:pt x="470" y="1111"/>
                  </a:lnTo>
                  <a:lnTo>
                    <a:pt x="469" y="1113"/>
                  </a:lnTo>
                  <a:lnTo>
                    <a:pt x="467" y="1115"/>
                  </a:lnTo>
                  <a:lnTo>
                    <a:pt x="465" y="1116"/>
                  </a:lnTo>
                  <a:lnTo>
                    <a:pt x="449" y="1107"/>
                  </a:lnTo>
                  <a:lnTo>
                    <a:pt x="435" y="1096"/>
                  </a:lnTo>
                  <a:lnTo>
                    <a:pt x="421" y="1085"/>
                  </a:lnTo>
                  <a:lnTo>
                    <a:pt x="409" y="1075"/>
                  </a:lnTo>
                  <a:lnTo>
                    <a:pt x="398" y="1064"/>
                  </a:lnTo>
                  <a:lnTo>
                    <a:pt x="387" y="1054"/>
                  </a:lnTo>
                  <a:lnTo>
                    <a:pt x="378" y="1043"/>
                  </a:lnTo>
                  <a:lnTo>
                    <a:pt x="370" y="1031"/>
                  </a:lnTo>
                  <a:lnTo>
                    <a:pt x="376" y="1024"/>
                  </a:lnTo>
                  <a:lnTo>
                    <a:pt x="382" y="1013"/>
                  </a:lnTo>
                  <a:lnTo>
                    <a:pt x="387" y="1001"/>
                  </a:lnTo>
                  <a:lnTo>
                    <a:pt x="393" y="986"/>
                  </a:lnTo>
                  <a:lnTo>
                    <a:pt x="397" y="968"/>
                  </a:lnTo>
                  <a:lnTo>
                    <a:pt x="401" y="948"/>
                  </a:lnTo>
                  <a:lnTo>
                    <a:pt x="405" y="924"/>
                  </a:lnTo>
                  <a:lnTo>
                    <a:pt x="409" y="899"/>
                  </a:lnTo>
                  <a:lnTo>
                    <a:pt x="412" y="870"/>
                  </a:lnTo>
                  <a:lnTo>
                    <a:pt x="415" y="839"/>
                  </a:lnTo>
                  <a:lnTo>
                    <a:pt x="417" y="807"/>
                  </a:lnTo>
                  <a:lnTo>
                    <a:pt x="420" y="771"/>
                  </a:lnTo>
                  <a:lnTo>
                    <a:pt x="423" y="691"/>
                  </a:lnTo>
                  <a:lnTo>
                    <a:pt x="426" y="601"/>
                  </a:lnTo>
                  <a:lnTo>
                    <a:pt x="426" y="593"/>
                  </a:lnTo>
                  <a:lnTo>
                    <a:pt x="426" y="576"/>
                  </a:lnTo>
                  <a:lnTo>
                    <a:pt x="423" y="564"/>
                  </a:lnTo>
                  <a:lnTo>
                    <a:pt x="421" y="554"/>
                  </a:lnTo>
                  <a:lnTo>
                    <a:pt x="420" y="547"/>
                  </a:lnTo>
                  <a:lnTo>
                    <a:pt x="420" y="541"/>
                  </a:lnTo>
                  <a:lnTo>
                    <a:pt x="398" y="572"/>
                  </a:lnTo>
                  <a:lnTo>
                    <a:pt x="377" y="603"/>
                  </a:lnTo>
                  <a:lnTo>
                    <a:pt x="354" y="633"/>
                  </a:lnTo>
                  <a:lnTo>
                    <a:pt x="330" y="664"/>
                  </a:lnTo>
                  <a:lnTo>
                    <a:pt x="306" y="693"/>
                  </a:lnTo>
                  <a:lnTo>
                    <a:pt x="281" y="723"/>
                  </a:lnTo>
                  <a:lnTo>
                    <a:pt x="256" y="753"/>
                  </a:lnTo>
                  <a:lnTo>
                    <a:pt x="230" y="781"/>
                  </a:lnTo>
                  <a:lnTo>
                    <a:pt x="216" y="795"/>
                  </a:lnTo>
                  <a:lnTo>
                    <a:pt x="202" y="808"/>
                  </a:lnTo>
                  <a:lnTo>
                    <a:pt x="188" y="819"/>
                  </a:lnTo>
                  <a:lnTo>
                    <a:pt x="175" y="829"/>
                  </a:lnTo>
                  <a:lnTo>
                    <a:pt x="161" y="837"/>
                  </a:lnTo>
                  <a:lnTo>
                    <a:pt x="146" y="845"/>
                  </a:lnTo>
                  <a:lnTo>
                    <a:pt x="132" y="850"/>
                  </a:lnTo>
                  <a:lnTo>
                    <a:pt x="117" y="853"/>
                  </a:lnTo>
                  <a:lnTo>
                    <a:pt x="102" y="856"/>
                  </a:lnTo>
                  <a:lnTo>
                    <a:pt x="89" y="856"/>
                  </a:lnTo>
                  <a:lnTo>
                    <a:pt x="74" y="856"/>
                  </a:lnTo>
                  <a:lnTo>
                    <a:pt x="59" y="854"/>
                  </a:lnTo>
                  <a:lnTo>
                    <a:pt x="44" y="851"/>
                  </a:lnTo>
                  <a:lnTo>
                    <a:pt x="29" y="846"/>
                  </a:lnTo>
                  <a:lnTo>
                    <a:pt x="15" y="839"/>
                  </a:lnTo>
                  <a:lnTo>
                    <a:pt x="0" y="831"/>
                  </a:lnTo>
                  <a:lnTo>
                    <a:pt x="36" y="807"/>
                  </a:lnTo>
                  <a:lnTo>
                    <a:pt x="72" y="780"/>
                  </a:lnTo>
                  <a:lnTo>
                    <a:pt x="106" y="754"/>
                  </a:lnTo>
                  <a:lnTo>
                    <a:pt x="138" y="725"/>
                  </a:lnTo>
                  <a:lnTo>
                    <a:pt x="170" y="696"/>
                  </a:lnTo>
                  <a:lnTo>
                    <a:pt x="201" y="667"/>
                  </a:lnTo>
                  <a:lnTo>
                    <a:pt x="232" y="635"/>
                  </a:lnTo>
                  <a:lnTo>
                    <a:pt x="260" y="603"/>
                  </a:lnTo>
                  <a:lnTo>
                    <a:pt x="288" y="570"/>
                  </a:lnTo>
                  <a:lnTo>
                    <a:pt x="314" y="536"/>
                  </a:lnTo>
                  <a:lnTo>
                    <a:pt x="340" y="501"/>
                  </a:lnTo>
                  <a:lnTo>
                    <a:pt x="364" y="465"/>
                  </a:lnTo>
                  <a:lnTo>
                    <a:pt x="387" y="428"/>
                  </a:lnTo>
                  <a:lnTo>
                    <a:pt x="410" y="390"/>
                  </a:lnTo>
                  <a:lnTo>
                    <a:pt x="430" y="351"/>
                  </a:lnTo>
                  <a:lnTo>
                    <a:pt x="450" y="311"/>
                  </a:lnTo>
                  <a:lnTo>
                    <a:pt x="415" y="316"/>
                  </a:lnTo>
                  <a:lnTo>
                    <a:pt x="380" y="321"/>
                  </a:lnTo>
                  <a:lnTo>
                    <a:pt x="344" y="328"/>
                  </a:lnTo>
                  <a:lnTo>
                    <a:pt x="309" y="333"/>
                  </a:lnTo>
                  <a:lnTo>
                    <a:pt x="273" y="339"/>
                  </a:lnTo>
                  <a:lnTo>
                    <a:pt x="237" y="347"/>
                  </a:lnTo>
                  <a:lnTo>
                    <a:pt x="201" y="353"/>
                  </a:lnTo>
                  <a:lnTo>
                    <a:pt x="165" y="360"/>
                  </a:lnTo>
                  <a:lnTo>
                    <a:pt x="147" y="347"/>
                  </a:lnTo>
                  <a:lnTo>
                    <a:pt x="129" y="331"/>
                  </a:lnTo>
                  <a:lnTo>
                    <a:pt x="110" y="312"/>
                  </a:lnTo>
                  <a:lnTo>
                    <a:pt x="90" y="291"/>
                  </a:lnTo>
                  <a:lnTo>
                    <a:pt x="86" y="286"/>
                  </a:lnTo>
                  <a:lnTo>
                    <a:pt x="83" y="282"/>
                  </a:lnTo>
                  <a:lnTo>
                    <a:pt x="83" y="279"/>
                  </a:lnTo>
                  <a:lnTo>
                    <a:pt x="86" y="276"/>
                  </a:lnTo>
                  <a:lnTo>
                    <a:pt x="86" y="274"/>
                  </a:lnTo>
                  <a:lnTo>
                    <a:pt x="88" y="271"/>
                  </a:lnTo>
                  <a:lnTo>
                    <a:pt x="91" y="271"/>
                  </a:lnTo>
                  <a:lnTo>
                    <a:pt x="95" y="270"/>
                  </a:lnTo>
                  <a:lnTo>
                    <a:pt x="140" y="268"/>
                  </a:lnTo>
                  <a:lnTo>
                    <a:pt x="185" y="264"/>
                  </a:lnTo>
                  <a:lnTo>
                    <a:pt x="232" y="260"/>
                  </a:lnTo>
                  <a:lnTo>
                    <a:pt x="280" y="255"/>
                  </a:lnTo>
                  <a:lnTo>
                    <a:pt x="329" y="248"/>
                  </a:lnTo>
                  <a:lnTo>
                    <a:pt x="380" y="242"/>
                  </a:lnTo>
                  <a:lnTo>
                    <a:pt x="432" y="234"/>
                  </a:lnTo>
                  <a:lnTo>
                    <a:pt x="485" y="226"/>
                  </a:lnTo>
                  <a:lnTo>
                    <a:pt x="489" y="216"/>
                  </a:lnTo>
                  <a:lnTo>
                    <a:pt x="490" y="211"/>
                  </a:lnTo>
                  <a:lnTo>
                    <a:pt x="504" y="175"/>
                  </a:lnTo>
                  <a:lnTo>
                    <a:pt x="516" y="141"/>
                  </a:lnTo>
                  <a:lnTo>
                    <a:pt x="524" y="110"/>
                  </a:lnTo>
                  <a:lnTo>
                    <a:pt x="531" y="83"/>
                  </a:lnTo>
                  <a:lnTo>
                    <a:pt x="536" y="58"/>
                  </a:lnTo>
                  <a:lnTo>
                    <a:pt x="538" y="36"/>
                  </a:lnTo>
                  <a:lnTo>
                    <a:pt x="538" y="26"/>
                  </a:lnTo>
                  <a:lnTo>
                    <a:pt x="538" y="17"/>
                  </a:lnTo>
                  <a:lnTo>
                    <a:pt x="537" y="9"/>
                  </a:lnTo>
                  <a:lnTo>
                    <a:pt x="535" y="0"/>
                  </a:lnTo>
                  <a:lnTo>
                    <a:pt x="548" y="9"/>
                  </a:lnTo>
                  <a:lnTo>
                    <a:pt x="562" y="17"/>
                  </a:lnTo>
                  <a:lnTo>
                    <a:pt x="578" y="23"/>
                  </a:lnTo>
                  <a:lnTo>
                    <a:pt x="595" y="31"/>
                  </a:lnTo>
                  <a:lnTo>
                    <a:pt x="613" y="36"/>
                  </a:lnTo>
                  <a:lnTo>
                    <a:pt x="632" y="42"/>
                  </a:lnTo>
                  <a:lnTo>
                    <a:pt x="653" y="47"/>
                  </a:lnTo>
                  <a:lnTo>
                    <a:pt x="676" y="50"/>
                  </a:lnTo>
                  <a:lnTo>
                    <a:pt x="665" y="61"/>
                  </a:lnTo>
                  <a:lnTo>
                    <a:pt x="654" y="74"/>
                  </a:lnTo>
                  <a:lnTo>
                    <a:pt x="643" y="90"/>
                  </a:lnTo>
                  <a:lnTo>
                    <a:pt x="631" y="109"/>
                  </a:lnTo>
                  <a:lnTo>
                    <a:pt x="619" y="132"/>
                  </a:lnTo>
                  <a:lnTo>
                    <a:pt x="607" y="156"/>
                  </a:lnTo>
                  <a:lnTo>
                    <a:pt x="594" y="185"/>
                  </a:lnTo>
                  <a:lnTo>
                    <a:pt x="580" y="215"/>
                  </a:lnTo>
                  <a:lnTo>
                    <a:pt x="598" y="213"/>
                  </a:lnTo>
                  <a:lnTo>
                    <a:pt x="619" y="210"/>
                  </a:lnTo>
                  <a:lnTo>
                    <a:pt x="643" y="207"/>
                  </a:lnTo>
                  <a:lnTo>
                    <a:pt x="668" y="203"/>
                  </a:lnTo>
                  <a:lnTo>
                    <a:pt x="695" y="199"/>
                  </a:lnTo>
                  <a:lnTo>
                    <a:pt x="724" y="195"/>
                  </a:lnTo>
                  <a:lnTo>
                    <a:pt x="756" y="191"/>
                  </a:lnTo>
                  <a:lnTo>
                    <a:pt x="790" y="186"/>
                  </a:lnTo>
                  <a:lnTo>
                    <a:pt x="841" y="178"/>
                  </a:lnTo>
                  <a:lnTo>
                    <a:pt x="887" y="172"/>
                  </a:lnTo>
                  <a:lnTo>
                    <a:pt x="930" y="165"/>
                  </a:lnTo>
                  <a:lnTo>
                    <a:pt x="969" y="160"/>
                  </a:lnTo>
                  <a:lnTo>
                    <a:pt x="1004" y="156"/>
                  </a:lnTo>
                  <a:lnTo>
                    <a:pt x="1035" y="152"/>
                  </a:lnTo>
                  <a:lnTo>
                    <a:pt x="1062" y="149"/>
                  </a:lnTo>
                  <a:lnTo>
                    <a:pt x="1085" y="145"/>
                  </a:lnTo>
                  <a:lnTo>
                    <a:pt x="1092" y="145"/>
                  </a:lnTo>
                  <a:lnTo>
                    <a:pt x="1098" y="146"/>
                  </a:lnTo>
                  <a:lnTo>
                    <a:pt x="1104" y="149"/>
                  </a:lnTo>
                  <a:lnTo>
                    <a:pt x="1110" y="151"/>
                  </a:lnTo>
                  <a:lnTo>
                    <a:pt x="1116" y="154"/>
                  </a:lnTo>
                  <a:lnTo>
                    <a:pt x="1122" y="157"/>
                  </a:lnTo>
                  <a:lnTo>
                    <a:pt x="1129" y="161"/>
                  </a:lnTo>
                  <a:lnTo>
                    <a:pt x="1135" y="165"/>
                  </a:lnTo>
                  <a:close/>
                </a:path>
              </a:pathLst>
            </a:custGeom>
            <a:solidFill>
              <a:schemeClr val="tx1"/>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d79f00"/>
                </a:solidFill>
                <a:latin typeface="Arial"/>
                <a:ea typeface="宋体"/>
              </a:endParaRPr>
            </a:p>
          </p:txBody>
        </p:sp>
        <p:sp>
          <p:nvSpPr>
            <p:cNvPr id="335" name="Freeform 22"/>
            <p:cNvSpPr/>
            <p:nvPr/>
          </p:nvSpPr>
          <p:spPr>
            <a:xfrm>
              <a:off x="4615560" y="9365400"/>
              <a:ext cx="218880" cy="189000"/>
            </a:xfrm>
            <a:custGeom>
              <a:avLst/>
              <a:gdLst>
                <a:gd name="textAreaLeft" fmla="*/ 0 w 218880"/>
                <a:gd name="textAreaRight" fmla="*/ 219240 w 218880"/>
                <a:gd name="textAreaTop" fmla="*/ 0 h 189000"/>
                <a:gd name="textAreaBottom" fmla="*/ 189360 h 189000"/>
              </a:gdLst>
              <a:ahLst/>
              <a:rect l="textAreaLeft" t="textAreaTop" r="textAreaRight" b="textAreaBottom"/>
              <a:pathLst>
                <a:path w="1122" h="1023">
                  <a:moveTo>
                    <a:pt x="736" y="451"/>
                  </a:moveTo>
                  <a:lnTo>
                    <a:pt x="733" y="449"/>
                  </a:lnTo>
                  <a:lnTo>
                    <a:pt x="725" y="441"/>
                  </a:lnTo>
                  <a:lnTo>
                    <a:pt x="712" y="431"/>
                  </a:lnTo>
                  <a:lnTo>
                    <a:pt x="701" y="421"/>
                  </a:lnTo>
                  <a:lnTo>
                    <a:pt x="667" y="423"/>
                  </a:lnTo>
                  <a:lnTo>
                    <a:pt x="635" y="426"/>
                  </a:lnTo>
                  <a:lnTo>
                    <a:pt x="607" y="429"/>
                  </a:lnTo>
                  <a:lnTo>
                    <a:pt x="580" y="432"/>
                  </a:lnTo>
                  <a:lnTo>
                    <a:pt x="557" y="435"/>
                  </a:lnTo>
                  <a:lnTo>
                    <a:pt x="536" y="439"/>
                  </a:lnTo>
                  <a:lnTo>
                    <a:pt x="517" y="442"/>
                  </a:lnTo>
                  <a:lnTo>
                    <a:pt x="501" y="445"/>
                  </a:lnTo>
                  <a:lnTo>
                    <a:pt x="501" y="480"/>
                  </a:lnTo>
                  <a:lnTo>
                    <a:pt x="514" y="488"/>
                  </a:lnTo>
                  <a:lnTo>
                    <a:pt x="530" y="497"/>
                  </a:lnTo>
                  <a:lnTo>
                    <a:pt x="546" y="508"/>
                  </a:lnTo>
                  <a:lnTo>
                    <a:pt x="566" y="521"/>
                  </a:lnTo>
                  <a:lnTo>
                    <a:pt x="587" y="535"/>
                  </a:lnTo>
                  <a:lnTo>
                    <a:pt x="609" y="552"/>
                  </a:lnTo>
                  <a:lnTo>
                    <a:pt x="634" y="570"/>
                  </a:lnTo>
                  <a:lnTo>
                    <a:pt x="661" y="591"/>
                  </a:lnTo>
                  <a:lnTo>
                    <a:pt x="692" y="568"/>
                  </a:lnTo>
                  <a:lnTo>
                    <a:pt x="720" y="547"/>
                  </a:lnTo>
                  <a:lnTo>
                    <a:pt x="747" y="525"/>
                  </a:lnTo>
                  <a:lnTo>
                    <a:pt x="771" y="504"/>
                  </a:lnTo>
                  <a:lnTo>
                    <a:pt x="792" y="482"/>
                  </a:lnTo>
                  <a:lnTo>
                    <a:pt x="810" y="461"/>
                  </a:lnTo>
                  <a:lnTo>
                    <a:pt x="827" y="441"/>
                  </a:lnTo>
                  <a:lnTo>
                    <a:pt x="841" y="421"/>
                  </a:lnTo>
                  <a:lnTo>
                    <a:pt x="852" y="433"/>
                  </a:lnTo>
                  <a:lnTo>
                    <a:pt x="864" y="444"/>
                  </a:lnTo>
                  <a:lnTo>
                    <a:pt x="876" y="456"/>
                  </a:lnTo>
                  <a:lnTo>
                    <a:pt x="889" y="465"/>
                  </a:lnTo>
                  <a:lnTo>
                    <a:pt x="901" y="476"/>
                  </a:lnTo>
                  <a:lnTo>
                    <a:pt x="914" y="485"/>
                  </a:lnTo>
                  <a:lnTo>
                    <a:pt x="927" y="493"/>
                  </a:lnTo>
                  <a:lnTo>
                    <a:pt x="941" y="500"/>
                  </a:lnTo>
                  <a:lnTo>
                    <a:pt x="926" y="506"/>
                  </a:lnTo>
                  <a:lnTo>
                    <a:pt x="906" y="513"/>
                  </a:lnTo>
                  <a:lnTo>
                    <a:pt x="880" y="525"/>
                  </a:lnTo>
                  <a:lnTo>
                    <a:pt x="850" y="541"/>
                  </a:lnTo>
                  <a:lnTo>
                    <a:pt x="826" y="553"/>
                  </a:lnTo>
                  <a:lnTo>
                    <a:pt x="803" y="564"/>
                  </a:lnTo>
                  <a:lnTo>
                    <a:pt x="782" y="575"/>
                  </a:lnTo>
                  <a:lnTo>
                    <a:pt x="760" y="583"/>
                  </a:lnTo>
                  <a:lnTo>
                    <a:pt x="741" y="592"/>
                  </a:lnTo>
                  <a:lnTo>
                    <a:pt x="723" y="599"/>
                  </a:lnTo>
                  <a:lnTo>
                    <a:pt x="706" y="605"/>
                  </a:lnTo>
                  <a:lnTo>
                    <a:pt x="691" y="611"/>
                  </a:lnTo>
                  <a:lnTo>
                    <a:pt x="723" y="637"/>
                  </a:lnTo>
                  <a:lnTo>
                    <a:pt x="755" y="662"/>
                  </a:lnTo>
                  <a:lnTo>
                    <a:pt x="785" y="683"/>
                  </a:lnTo>
                  <a:lnTo>
                    <a:pt x="813" y="702"/>
                  </a:lnTo>
                  <a:lnTo>
                    <a:pt x="840" y="719"/>
                  </a:lnTo>
                  <a:lnTo>
                    <a:pt x="865" y="734"/>
                  </a:lnTo>
                  <a:lnTo>
                    <a:pt x="889" y="746"/>
                  </a:lnTo>
                  <a:lnTo>
                    <a:pt x="911" y="756"/>
                  </a:lnTo>
                  <a:lnTo>
                    <a:pt x="945" y="771"/>
                  </a:lnTo>
                  <a:lnTo>
                    <a:pt x="975" y="786"/>
                  </a:lnTo>
                  <a:lnTo>
                    <a:pt x="1004" y="799"/>
                  </a:lnTo>
                  <a:lnTo>
                    <a:pt x="1029" y="812"/>
                  </a:lnTo>
                  <a:lnTo>
                    <a:pt x="1053" y="826"/>
                  </a:lnTo>
                  <a:lnTo>
                    <a:pt x="1073" y="837"/>
                  </a:lnTo>
                  <a:lnTo>
                    <a:pt x="1091" y="850"/>
                  </a:lnTo>
                  <a:lnTo>
                    <a:pt x="1106" y="861"/>
                  </a:lnTo>
                  <a:lnTo>
                    <a:pt x="1114" y="868"/>
                  </a:lnTo>
                  <a:lnTo>
                    <a:pt x="1120" y="875"/>
                  </a:lnTo>
                  <a:lnTo>
                    <a:pt x="1121" y="878"/>
                  </a:lnTo>
                  <a:lnTo>
                    <a:pt x="1122" y="881"/>
                  </a:lnTo>
                  <a:lnTo>
                    <a:pt x="1122" y="884"/>
                  </a:lnTo>
                  <a:lnTo>
                    <a:pt x="1121" y="886"/>
                  </a:lnTo>
                  <a:lnTo>
                    <a:pt x="1121" y="888"/>
                  </a:lnTo>
                  <a:lnTo>
                    <a:pt x="1120" y="890"/>
                  </a:lnTo>
                  <a:lnTo>
                    <a:pt x="1117" y="893"/>
                  </a:lnTo>
                  <a:lnTo>
                    <a:pt x="1115" y="895"/>
                  </a:lnTo>
                  <a:lnTo>
                    <a:pt x="1110" y="898"/>
                  </a:lnTo>
                  <a:lnTo>
                    <a:pt x="1100" y="901"/>
                  </a:lnTo>
                  <a:lnTo>
                    <a:pt x="1076" y="901"/>
                  </a:lnTo>
                  <a:lnTo>
                    <a:pt x="1053" y="901"/>
                  </a:lnTo>
                  <a:lnTo>
                    <a:pt x="1029" y="901"/>
                  </a:lnTo>
                  <a:lnTo>
                    <a:pt x="1008" y="900"/>
                  </a:lnTo>
                  <a:lnTo>
                    <a:pt x="987" y="899"/>
                  </a:lnTo>
                  <a:lnTo>
                    <a:pt x="967" y="899"/>
                  </a:lnTo>
                  <a:lnTo>
                    <a:pt x="949" y="898"/>
                  </a:lnTo>
                  <a:lnTo>
                    <a:pt x="931" y="897"/>
                  </a:lnTo>
                  <a:lnTo>
                    <a:pt x="917" y="895"/>
                  </a:lnTo>
                  <a:lnTo>
                    <a:pt x="905" y="891"/>
                  </a:lnTo>
                  <a:lnTo>
                    <a:pt x="892" y="888"/>
                  </a:lnTo>
                  <a:lnTo>
                    <a:pt x="879" y="884"/>
                  </a:lnTo>
                  <a:lnTo>
                    <a:pt x="867" y="878"/>
                  </a:lnTo>
                  <a:lnTo>
                    <a:pt x="857" y="871"/>
                  </a:lnTo>
                  <a:lnTo>
                    <a:pt x="846" y="864"/>
                  </a:lnTo>
                  <a:lnTo>
                    <a:pt x="836" y="857"/>
                  </a:lnTo>
                  <a:lnTo>
                    <a:pt x="817" y="837"/>
                  </a:lnTo>
                  <a:lnTo>
                    <a:pt x="790" y="811"/>
                  </a:lnTo>
                  <a:lnTo>
                    <a:pt x="757" y="777"/>
                  </a:lnTo>
                  <a:lnTo>
                    <a:pt x="716" y="736"/>
                  </a:lnTo>
                  <a:lnTo>
                    <a:pt x="678" y="695"/>
                  </a:lnTo>
                  <a:lnTo>
                    <a:pt x="644" y="659"/>
                  </a:lnTo>
                  <a:lnTo>
                    <a:pt x="612" y="628"/>
                  </a:lnTo>
                  <a:lnTo>
                    <a:pt x="585" y="600"/>
                  </a:lnTo>
                  <a:lnTo>
                    <a:pt x="559" y="576"/>
                  </a:lnTo>
                  <a:lnTo>
                    <a:pt x="537" y="557"/>
                  </a:lnTo>
                  <a:lnTo>
                    <a:pt x="517" y="542"/>
                  </a:lnTo>
                  <a:lnTo>
                    <a:pt x="501" y="531"/>
                  </a:lnTo>
                  <a:lnTo>
                    <a:pt x="501" y="545"/>
                  </a:lnTo>
                  <a:lnTo>
                    <a:pt x="500" y="561"/>
                  </a:lnTo>
                  <a:lnTo>
                    <a:pt x="500" y="579"/>
                  </a:lnTo>
                  <a:lnTo>
                    <a:pt x="499" y="599"/>
                  </a:lnTo>
                  <a:lnTo>
                    <a:pt x="499" y="621"/>
                  </a:lnTo>
                  <a:lnTo>
                    <a:pt x="498" y="646"/>
                  </a:lnTo>
                  <a:lnTo>
                    <a:pt x="497" y="672"/>
                  </a:lnTo>
                  <a:lnTo>
                    <a:pt x="496" y="701"/>
                  </a:lnTo>
                  <a:lnTo>
                    <a:pt x="496" y="754"/>
                  </a:lnTo>
                  <a:lnTo>
                    <a:pt x="496" y="797"/>
                  </a:lnTo>
                  <a:lnTo>
                    <a:pt x="496" y="831"/>
                  </a:lnTo>
                  <a:lnTo>
                    <a:pt x="496" y="857"/>
                  </a:lnTo>
                  <a:lnTo>
                    <a:pt x="504" y="850"/>
                  </a:lnTo>
                  <a:lnTo>
                    <a:pt x="517" y="844"/>
                  </a:lnTo>
                  <a:lnTo>
                    <a:pt x="532" y="835"/>
                  </a:lnTo>
                  <a:lnTo>
                    <a:pt x="551" y="826"/>
                  </a:lnTo>
                  <a:lnTo>
                    <a:pt x="578" y="812"/>
                  </a:lnTo>
                  <a:lnTo>
                    <a:pt x="602" y="800"/>
                  </a:lnTo>
                  <a:lnTo>
                    <a:pt x="621" y="790"/>
                  </a:lnTo>
                  <a:lnTo>
                    <a:pt x="635" y="781"/>
                  </a:lnTo>
                  <a:lnTo>
                    <a:pt x="658" y="771"/>
                  </a:lnTo>
                  <a:lnTo>
                    <a:pt x="676" y="763"/>
                  </a:lnTo>
                  <a:lnTo>
                    <a:pt x="682" y="761"/>
                  </a:lnTo>
                  <a:lnTo>
                    <a:pt x="688" y="760"/>
                  </a:lnTo>
                  <a:lnTo>
                    <a:pt x="693" y="760"/>
                  </a:lnTo>
                  <a:lnTo>
                    <a:pt x="696" y="761"/>
                  </a:lnTo>
                  <a:lnTo>
                    <a:pt x="696" y="764"/>
                  </a:lnTo>
                  <a:lnTo>
                    <a:pt x="696" y="767"/>
                  </a:lnTo>
                  <a:lnTo>
                    <a:pt x="694" y="772"/>
                  </a:lnTo>
                  <a:lnTo>
                    <a:pt x="691" y="777"/>
                  </a:lnTo>
                  <a:lnTo>
                    <a:pt x="681" y="790"/>
                  </a:lnTo>
                  <a:lnTo>
                    <a:pt x="665" y="807"/>
                  </a:lnTo>
                  <a:lnTo>
                    <a:pt x="638" y="831"/>
                  </a:lnTo>
                  <a:lnTo>
                    <a:pt x="610" y="858"/>
                  </a:lnTo>
                  <a:lnTo>
                    <a:pt x="581" y="883"/>
                  </a:lnTo>
                  <a:lnTo>
                    <a:pt x="553" y="909"/>
                  </a:lnTo>
                  <a:lnTo>
                    <a:pt x="524" y="937"/>
                  </a:lnTo>
                  <a:lnTo>
                    <a:pt x="495" y="965"/>
                  </a:lnTo>
                  <a:lnTo>
                    <a:pt x="465" y="993"/>
                  </a:lnTo>
                  <a:lnTo>
                    <a:pt x="435" y="1022"/>
                  </a:lnTo>
                  <a:lnTo>
                    <a:pt x="426" y="1005"/>
                  </a:lnTo>
                  <a:lnTo>
                    <a:pt x="416" y="989"/>
                  </a:lnTo>
                  <a:lnTo>
                    <a:pt x="406" y="976"/>
                  </a:lnTo>
                  <a:lnTo>
                    <a:pt x="397" y="964"/>
                  </a:lnTo>
                  <a:lnTo>
                    <a:pt x="388" y="953"/>
                  </a:lnTo>
                  <a:lnTo>
                    <a:pt x="378" y="944"/>
                  </a:lnTo>
                  <a:lnTo>
                    <a:pt x="370" y="937"/>
                  </a:lnTo>
                  <a:lnTo>
                    <a:pt x="360" y="932"/>
                  </a:lnTo>
                  <a:lnTo>
                    <a:pt x="367" y="925"/>
                  </a:lnTo>
                  <a:lnTo>
                    <a:pt x="375" y="919"/>
                  </a:lnTo>
                  <a:lnTo>
                    <a:pt x="381" y="912"/>
                  </a:lnTo>
                  <a:lnTo>
                    <a:pt x="387" y="903"/>
                  </a:lnTo>
                  <a:lnTo>
                    <a:pt x="393" y="895"/>
                  </a:lnTo>
                  <a:lnTo>
                    <a:pt x="398" y="885"/>
                  </a:lnTo>
                  <a:lnTo>
                    <a:pt x="402" y="875"/>
                  </a:lnTo>
                  <a:lnTo>
                    <a:pt x="407" y="864"/>
                  </a:lnTo>
                  <a:lnTo>
                    <a:pt x="411" y="852"/>
                  </a:lnTo>
                  <a:lnTo>
                    <a:pt x="414" y="840"/>
                  </a:lnTo>
                  <a:lnTo>
                    <a:pt x="417" y="827"/>
                  </a:lnTo>
                  <a:lnTo>
                    <a:pt x="419" y="813"/>
                  </a:lnTo>
                  <a:lnTo>
                    <a:pt x="424" y="783"/>
                  </a:lnTo>
                  <a:lnTo>
                    <a:pt x="426" y="752"/>
                  </a:lnTo>
                  <a:lnTo>
                    <a:pt x="430" y="685"/>
                  </a:lnTo>
                  <a:lnTo>
                    <a:pt x="433" y="617"/>
                  </a:lnTo>
                  <a:lnTo>
                    <a:pt x="435" y="549"/>
                  </a:lnTo>
                  <a:lnTo>
                    <a:pt x="436" y="479"/>
                  </a:lnTo>
                  <a:lnTo>
                    <a:pt x="436" y="410"/>
                  </a:lnTo>
                  <a:lnTo>
                    <a:pt x="436" y="339"/>
                  </a:lnTo>
                  <a:lnTo>
                    <a:pt x="434" y="267"/>
                  </a:lnTo>
                  <a:lnTo>
                    <a:pt x="430" y="195"/>
                  </a:lnTo>
                  <a:lnTo>
                    <a:pt x="428" y="174"/>
                  </a:lnTo>
                  <a:lnTo>
                    <a:pt x="424" y="153"/>
                  </a:lnTo>
                  <a:lnTo>
                    <a:pt x="419" y="133"/>
                  </a:lnTo>
                  <a:lnTo>
                    <a:pt x="414" y="113"/>
                  </a:lnTo>
                  <a:lnTo>
                    <a:pt x="408" y="95"/>
                  </a:lnTo>
                  <a:lnTo>
                    <a:pt x="401" y="78"/>
                  </a:lnTo>
                  <a:lnTo>
                    <a:pt x="394" y="61"/>
                  </a:lnTo>
                  <a:lnTo>
                    <a:pt x="385" y="46"/>
                  </a:lnTo>
                  <a:lnTo>
                    <a:pt x="417" y="49"/>
                  </a:lnTo>
                  <a:lnTo>
                    <a:pt x="448" y="54"/>
                  </a:lnTo>
                  <a:lnTo>
                    <a:pt x="478" y="62"/>
                  </a:lnTo>
                  <a:lnTo>
                    <a:pt x="505" y="70"/>
                  </a:lnTo>
                  <a:lnTo>
                    <a:pt x="545" y="64"/>
                  </a:lnTo>
                  <a:lnTo>
                    <a:pt x="581" y="56"/>
                  </a:lnTo>
                  <a:lnTo>
                    <a:pt x="615" y="49"/>
                  </a:lnTo>
                  <a:lnTo>
                    <a:pt x="645" y="41"/>
                  </a:lnTo>
                  <a:lnTo>
                    <a:pt x="673" y="31"/>
                  </a:lnTo>
                  <a:lnTo>
                    <a:pt x="697" y="21"/>
                  </a:lnTo>
                  <a:lnTo>
                    <a:pt x="718" y="12"/>
                  </a:lnTo>
                  <a:lnTo>
                    <a:pt x="736" y="0"/>
                  </a:lnTo>
                  <a:lnTo>
                    <a:pt x="750" y="14"/>
                  </a:lnTo>
                  <a:lnTo>
                    <a:pt x="765" y="26"/>
                  </a:lnTo>
                  <a:lnTo>
                    <a:pt x="781" y="37"/>
                  </a:lnTo>
                  <a:lnTo>
                    <a:pt x="796" y="47"/>
                  </a:lnTo>
                  <a:lnTo>
                    <a:pt x="814" y="55"/>
                  </a:lnTo>
                  <a:lnTo>
                    <a:pt x="832" y="64"/>
                  </a:lnTo>
                  <a:lnTo>
                    <a:pt x="850" y="70"/>
                  </a:lnTo>
                  <a:lnTo>
                    <a:pt x="871" y="75"/>
                  </a:lnTo>
                  <a:lnTo>
                    <a:pt x="863" y="83"/>
                  </a:lnTo>
                  <a:lnTo>
                    <a:pt x="856" y="90"/>
                  </a:lnTo>
                  <a:lnTo>
                    <a:pt x="849" y="100"/>
                  </a:lnTo>
                  <a:lnTo>
                    <a:pt x="843" y="110"/>
                  </a:lnTo>
                  <a:lnTo>
                    <a:pt x="837" y="122"/>
                  </a:lnTo>
                  <a:lnTo>
                    <a:pt x="831" y="136"/>
                  </a:lnTo>
                  <a:lnTo>
                    <a:pt x="826" y="150"/>
                  </a:lnTo>
                  <a:lnTo>
                    <a:pt x="821" y="166"/>
                  </a:lnTo>
                  <a:lnTo>
                    <a:pt x="817" y="185"/>
                  </a:lnTo>
                  <a:lnTo>
                    <a:pt x="812" y="206"/>
                  </a:lnTo>
                  <a:lnTo>
                    <a:pt x="807" y="229"/>
                  </a:lnTo>
                  <a:lnTo>
                    <a:pt x="802" y="255"/>
                  </a:lnTo>
                  <a:lnTo>
                    <a:pt x="796" y="282"/>
                  </a:lnTo>
                  <a:lnTo>
                    <a:pt x="790" y="313"/>
                  </a:lnTo>
                  <a:lnTo>
                    <a:pt x="783" y="346"/>
                  </a:lnTo>
                  <a:lnTo>
                    <a:pt x="775" y="381"/>
                  </a:lnTo>
                  <a:lnTo>
                    <a:pt x="773" y="400"/>
                  </a:lnTo>
                  <a:lnTo>
                    <a:pt x="771" y="416"/>
                  </a:lnTo>
                  <a:lnTo>
                    <a:pt x="768" y="429"/>
                  </a:lnTo>
                  <a:lnTo>
                    <a:pt x="766" y="441"/>
                  </a:lnTo>
                  <a:lnTo>
                    <a:pt x="763" y="450"/>
                  </a:lnTo>
                  <a:lnTo>
                    <a:pt x="760" y="456"/>
                  </a:lnTo>
                  <a:lnTo>
                    <a:pt x="758" y="460"/>
                  </a:lnTo>
                  <a:lnTo>
                    <a:pt x="755" y="461"/>
                  </a:lnTo>
                  <a:lnTo>
                    <a:pt x="754" y="462"/>
                  </a:lnTo>
                  <a:lnTo>
                    <a:pt x="752" y="462"/>
                  </a:lnTo>
                  <a:lnTo>
                    <a:pt x="751" y="462"/>
                  </a:lnTo>
                  <a:lnTo>
                    <a:pt x="748" y="461"/>
                  </a:lnTo>
                  <a:lnTo>
                    <a:pt x="742" y="457"/>
                  </a:lnTo>
                  <a:lnTo>
                    <a:pt x="736" y="451"/>
                  </a:lnTo>
                  <a:close/>
                  <a:moveTo>
                    <a:pt x="240" y="110"/>
                  </a:moveTo>
                  <a:lnTo>
                    <a:pt x="105" y="151"/>
                  </a:lnTo>
                  <a:lnTo>
                    <a:pt x="105" y="842"/>
                  </a:lnTo>
                  <a:lnTo>
                    <a:pt x="105" y="886"/>
                  </a:lnTo>
                  <a:lnTo>
                    <a:pt x="105" y="925"/>
                  </a:lnTo>
                  <a:lnTo>
                    <a:pt x="104" y="958"/>
                  </a:lnTo>
                  <a:lnTo>
                    <a:pt x="103" y="984"/>
                  </a:lnTo>
                  <a:lnTo>
                    <a:pt x="102" y="1003"/>
                  </a:lnTo>
                  <a:lnTo>
                    <a:pt x="100" y="1015"/>
                  </a:lnTo>
                  <a:lnTo>
                    <a:pt x="98" y="1020"/>
                  </a:lnTo>
                  <a:lnTo>
                    <a:pt x="97" y="1022"/>
                  </a:lnTo>
                  <a:lnTo>
                    <a:pt x="96" y="1023"/>
                  </a:lnTo>
                  <a:lnTo>
                    <a:pt x="95" y="1022"/>
                  </a:lnTo>
                  <a:lnTo>
                    <a:pt x="80" y="1013"/>
                  </a:lnTo>
                  <a:lnTo>
                    <a:pt x="67" y="1005"/>
                  </a:lnTo>
                  <a:lnTo>
                    <a:pt x="54" y="995"/>
                  </a:lnTo>
                  <a:lnTo>
                    <a:pt x="41" y="985"/>
                  </a:lnTo>
                  <a:lnTo>
                    <a:pt x="30" y="974"/>
                  </a:lnTo>
                  <a:lnTo>
                    <a:pt x="19" y="962"/>
                  </a:lnTo>
                  <a:lnTo>
                    <a:pt x="9" y="950"/>
                  </a:lnTo>
                  <a:lnTo>
                    <a:pt x="0" y="936"/>
                  </a:lnTo>
                  <a:lnTo>
                    <a:pt x="4" y="919"/>
                  </a:lnTo>
                  <a:lnTo>
                    <a:pt x="8" y="900"/>
                  </a:lnTo>
                  <a:lnTo>
                    <a:pt x="13" y="880"/>
                  </a:lnTo>
                  <a:lnTo>
                    <a:pt x="16" y="858"/>
                  </a:lnTo>
                  <a:lnTo>
                    <a:pt x="22" y="809"/>
                  </a:lnTo>
                  <a:lnTo>
                    <a:pt x="26" y="754"/>
                  </a:lnTo>
                  <a:lnTo>
                    <a:pt x="31" y="691"/>
                  </a:lnTo>
                  <a:lnTo>
                    <a:pt x="33" y="622"/>
                  </a:lnTo>
                  <a:lnTo>
                    <a:pt x="35" y="548"/>
                  </a:lnTo>
                  <a:lnTo>
                    <a:pt x="35" y="465"/>
                  </a:lnTo>
                  <a:lnTo>
                    <a:pt x="35" y="396"/>
                  </a:lnTo>
                  <a:lnTo>
                    <a:pt x="33" y="331"/>
                  </a:lnTo>
                  <a:lnTo>
                    <a:pt x="31" y="274"/>
                  </a:lnTo>
                  <a:lnTo>
                    <a:pt x="26" y="222"/>
                  </a:lnTo>
                  <a:lnTo>
                    <a:pt x="22" y="177"/>
                  </a:lnTo>
                  <a:lnTo>
                    <a:pt x="16" y="138"/>
                  </a:lnTo>
                  <a:lnTo>
                    <a:pt x="13" y="121"/>
                  </a:lnTo>
                  <a:lnTo>
                    <a:pt x="8" y="106"/>
                  </a:lnTo>
                  <a:lnTo>
                    <a:pt x="4" y="92"/>
                  </a:lnTo>
                  <a:lnTo>
                    <a:pt x="0" y="81"/>
                  </a:lnTo>
                  <a:lnTo>
                    <a:pt x="13" y="84"/>
                  </a:lnTo>
                  <a:lnTo>
                    <a:pt x="27" y="88"/>
                  </a:lnTo>
                  <a:lnTo>
                    <a:pt x="48" y="94"/>
                  </a:lnTo>
                  <a:lnTo>
                    <a:pt x="70" y="101"/>
                  </a:lnTo>
                  <a:lnTo>
                    <a:pt x="90" y="108"/>
                  </a:lnTo>
                  <a:lnTo>
                    <a:pt x="101" y="110"/>
                  </a:lnTo>
                  <a:lnTo>
                    <a:pt x="125" y="102"/>
                  </a:lnTo>
                  <a:lnTo>
                    <a:pt x="147" y="92"/>
                  </a:lnTo>
                  <a:lnTo>
                    <a:pt x="167" y="83"/>
                  </a:lnTo>
                  <a:lnTo>
                    <a:pt x="185" y="73"/>
                  </a:lnTo>
                  <a:lnTo>
                    <a:pt x="202" y="63"/>
                  </a:lnTo>
                  <a:lnTo>
                    <a:pt x="217" y="52"/>
                  </a:lnTo>
                  <a:lnTo>
                    <a:pt x="230" y="42"/>
                  </a:lnTo>
                  <a:lnTo>
                    <a:pt x="240" y="31"/>
                  </a:lnTo>
                  <a:lnTo>
                    <a:pt x="253" y="41"/>
                  </a:lnTo>
                  <a:lnTo>
                    <a:pt x="267" y="50"/>
                  </a:lnTo>
                  <a:lnTo>
                    <a:pt x="282" y="60"/>
                  </a:lnTo>
                  <a:lnTo>
                    <a:pt x="297" y="68"/>
                  </a:lnTo>
                  <a:lnTo>
                    <a:pt x="312" y="77"/>
                  </a:lnTo>
                  <a:lnTo>
                    <a:pt x="329" y="85"/>
                  </a:lnTo>
                  <a:lnTo>
                    <a:pt x="347" y="92"/>
                  </a:lnTo>
                  <a:lnTo>
                    <a:pt x="365" y="101"/>
                  </a:lnTo>
                  <a:lnTo>
                    <a:pt x="347" y="117"/>
                  </a:lnTo>
                  <a:lnTo>
                    <a:pt x="329" y="136"/>
                  </a:lnTo>
                  <a:lnTo>
                    <a:pt x="310" y="158"/>
                  </a:lnTo>
                  <a:lnTo>
                    <a:pt x="291" y="181"/>
                  </a:lnTo>
                  <a:lnTo>
                    <a:pt x="272" y="209"/>
                  </a:lnTo>
                  <a:lnTo>
                    <a:pt x="252" y="239"/>
                  </a:lnTo>
                  <a:lnTo>
                    <a:pt x="232" y="270"/>
                  </a:lnTo>
                  <a:lnTo>
                    <a:pt x="211" y="305"/>
                  </a:lnTo>
                  <a:lnTo>
                    <a:pt x="233" y="319"/>
                  </a:lnTo>
                  <a:lnTo>
                    <a:pt x="254" y="334"/>
                  </a:lnTo>
                  <a:lnTo>
                    <a:pt x="272" y="349"/>
                  </a:lnTo>
                  <a:lnTo>
                    <a:pt x="289" y="365"/>
                  </a:lnTo>
                  <a:lnTo>
                    <a:pt x="304" y="381"/>
                  </a:lnTo>
                  <a:lnTo>
                    <a:pt x="317" y="397"/>
                  </a:lnTo>
                  <a:lnTo>
                    <a:pt x="327" y="414"/>
                  </a:lnTo>
                  <a:lnTo>
                    <a:pt x="336" y="431"/>
                  </a:lnTo>
                  <a:lnTo>
                    <a:pt x="342" y="454"/>
                  </a:lnTo>
                  <a:lnTo>
                    <a:pt x="346" y="475"/>
                  </a:lnTo>
                  <a:lnTo>
                    <a:pt x="348" y="494"/>
                  </a:lnTo>
                  <a:lnTo>
                    <a:pt x="349" y="512"/>
                  </a:lnTo>
                  <a:lnTo>
                    <a:pt x="348" y="521"/>
                  </a:lnTo>
                  <a:lnTo>
                    <a:pt x="347" y="528"/>
                  </a:lnTo>
                  <a:lnTo>
                    <a:pt x="346" y="535"/>
                  </a:lnTo>
                  <a:lnTo>
                    <a:pt x="344" y="543"/>
                  </a:lnTo>
                  <a:lnTo>
                    <a:pt x="341" y="549"/>
                  </a:lnTo>
                  <a:lnTo>
                    <a:pt x="338" y="556"/>
                  </a:lnTo>
                  <a:lnTo>
                    <a:pt x="335" y="561"/>
                  </a:lnTo>
                  <a:lnTo>
                    <a:pt x="330" y="566"/>
                  </a:lnTo>
                  <a:lnTo>
                    <a:pt x="318" y="564"/>
                  </a:lnTo>
                  <a:lnTo>
                    <a:pt x="303" y="560"/>
                  </a:lnTo>
                  <a:lnTo>
                    <a:pt x="286" y="554"/>
                  </a:lnTo>
                  <a:lnTo>
                    <a:pt x="266" y="547"/>
                  </a:lnTo>
                  <a:lnTo>
                    <a:pt x="243" y="539"/>
                  </a:lnTo>
                  <a:lnTo>
                    <a:pt x="218" y="528"/>
                  </a:lnTo>
                  <a:lnTo>
                    <a:pt x="191" y="515"/>
                  </a:lnTo>
                  <a:lnTo>
                    <a:pt x="160" y="500"/>
                  </a:lnTo>
                  <a:lnTo>
                    <a:pt x="154" y="496"/>
                  </a:lnTo>
                  <a:lnTo>
                    <a:pt x="149" y="492"/>
                  </a:lnTo>
                  <a:lnTo>
                    <a:pt x="146" y="489"/>
                  </a:lnTo>
                  <a:lnTo>
                    <a:pt x="145" y="486"/>
                  </a:lnTo>
                  <a:lnTo>
                    <a:pt x="146" y="483"/>
                  </a:lnTo>
                  <a:lnTo>
                    <a:pt x="150" y="481"/>
                  </a:lnTo>
                  <a:lnTo>
                    <a:pt x="157" y="478"/>
                  </a:lnTo>
                  <a:lnTo>
                    <a:pt x="165" y="476"/>
                  </a:lnTo>
                  <a:lnTo>
                    <a:pt x="185" y="475"/>
                  </a:lnTo>
                  <a:lnTo>
                    <a:pt x="205" y="473"/>
                  </a:lnTo>
                  <a:lnTo>
                    <a:pt x="226" y="471"/>
                  </a:lnTo>
                  <a:lnTo>
                    <a:pt x="246" y="465"/>
                  </a:lnTo>
                  <a:lnTo>
                    <a:pt x="250" y="464"/>
                  </a:lnTo>
                  <a:lnTo>
                    <a:pt x="253" y="462"/>
                  </a:lnTo>
                  <a:lnTo>
                    <a:pt x="256" y="459"/>
                  </a:lnTo>
                  <a:lnTo>
                    <a:pt x="258" y="455"/>
                  </a:lnTo>
                  <a:lnTo>
                    <a:pt x="258" y="450"/>
                  </a:lnTo>
                  <a:lnTo>
                    <a:pt x="258" y="444"/>
                  </a:lnTo>
                  <a:lnTo>
                    <a:pt x="257" y="438"/>
                  </a:lnTo>
                  <a:lnTo>
                    <a:pt x="255" y="431"/>
                  </a:lnTo>
                  <a:lnTo>
                    <a:pt x="252" y="423"/>
                  </a:lnTo>
                  <a:lnTo>
                    <a:pt x="248" y="412"/>
                  </a:lnTo>
                  <a:lnTo>
                    <a:pt x="241" y="401"/>
                  </a:lnTo>
                  <a:lnTo>
                    <a:pt x="234" y="388"/>
                  </a:lnTo>
                  <a:lnTo>
                    <a:pt x="215" y="357"/>
                  </a:lnTo>
                  <a:lnTo>
                    <a:pt x="191" y="320"/>
                  </a:lnTo>
                  <a:lnTo>
                    <a:pt x="185" y="312"/>
                  </a:lnTo>
                  <a:lnTo>
                    <a:pt x="180" y="305"/>
                  </a:lnTo>
                  <a:lnTo>
                    <a:pt x="192" y="277"/>
                  </a:lnTo>
                  <a:lnTo>
                    <a:pt x="201" y="248"/>
                  </a:lnTo>
                  <a:lnTo>
                    <a:pt x="210" y="222"/>
                  </a:lnTo>
                  <a:lnTo>
                    <a:pt x="218" y="197"/>
                  </a:lnTo>
                  <a:lnTo>
                    <a:pt x="225" y="173"/>
                  </a:lnTo>
                  <a:lnTo>
                    <a:pt x="231" y="151"/>
                  </a:lnTo>
                  <a:lnTo>
                    <a:pt x="236" y="130"/>
                  </a:lnTo>
                  <a:lnTo>
                    <a:pt x="240" y="110"/>
                  </a:lnTo>
                  <a:close/>
                  <a:moveTo>
                    <a:pt x="501" y="116"/>
                  </a:moveTo>
                  <a:lnTo>
                    <a:pt x="501" y="236"/>
                  </a:lnTo>
                  <a:lnTo>
                    <a:pt x="522" y="230"/>
                  </a:lnTo>
                  <a:lnTo>
                    <a:pt x="545" y="225"/>
                  </a:lnTo>
                  <a:lnTo>
                    <a:pt x="572" y="217"/>
                  </a:lnTo>
                  <a:lnTo>
                    <a:pt x="601" y="211"/>
                  </a:lnTo>
                  <a:lnTo>
                    <a:pt x="616" y="206"/>
                  </a:lnTo>
                  <a:lnTo>
                    <a:pt x="630" y="202"/>
                  </a:lnTo>
                  <a:lnTo>
                    <a:pt x="642" y="198"/>
                  </a:lnTo>
                  <a:lnTo>
                    <a:pt x="650" y="195"/>
                  </a:lnTo>
                  <a:lnTo>
                    <a:pt x="664" y="208"/>
                  </a:lnTo>
                  <a:lnTo>
                    <a:pt x="676" y="221"/>
                  </a:lnTo>
                  <a:lnTo>
                    <a:pt x="684" y="233"/>
                  </a:lnTo>
                  <a:lnTo>
                    <a:pt x="691" y="246"/>
                  </a:lnTo>
                  <a:lnTo>
                    <a:pt x="677" y="248"/>
                  </a:lnTo>
                  <a:lnTo>
                    <a:pt x="658" y="250"/>
                  </a:lnTo>
                  <a:lnTo>
                    <a:pt x="637" y="254"/>
                  </a:lnTo>
                  <a:lnTo>
                    <a:pt x="611" y="256"/>
                  </a:lnTo>
                  <a:lnTo>
                    <a:pt x="574" y="263"/>
                  </a:lnTo>
                  <a:lnTo>
                    <a:pt x="543" y="268"/>
                  </a:lnTo>
                  <a:lnTo>
                    <a:pt x="519" y="273"/>
                  </a:lnTo>
                  <a:lnTo>
                    <a:pt x="501" y="276"/>
                  </a:lnTo>
                  <a:lnTo>
                    <a:pt x="501" y="396"/>
                  </a:lnTo>
                  <a:lnTo>
                    <a:pt x="513" y="393"/>
                  </a:lnTo>
                  <a:lnTo>
                    <a:pt x="526" y="391"/>
                  </a:lnTo>
                  <a:lnTo>
                    <a:pt x="544" y="388"/>
                  </a:lnTo>
                  <a:lnTo>
                    <a:pt x="566" y="386"/>
                  </a:lnTo>
                  <a:lnTo>
                    <a:pt x="608" y="379"/>
                  </a:lnTo>
                  <a:lnTo>
                    <a:pt x="643" y="373"/>
                  </a:lnTo>
                  <a:lnTo>
                    <a:pt x="673" y="369"/>
                  </a:lnTo>
                  <a:lnTo>
                    <a:pt x="696" y="366"/>
                  </a:lnTo>
                  <a:lnTo>
                    <a:pt x="700" y="333"/>
                  </a:lnTo>
                  <a:lnTo>
                    <a:pt x="705" y="298"/>
                  </a:lnTo>
                  <a:lnTo>
                    <a:pt x="710" y="263"/>
                  </a:lnTo>
                  <a:lnTo>
                    <a:pt x="714" y="227"/>
                  </a:lnTo>
                  <a:lnTo>
                    <a:pt x="718" y="190"/>
                  </a:lnTo>
                  <a:lnTo>
                    <a:pt x="722" y="151"/>
                  </a:lnTo>
                  <a:lnTo>
                    <a:pt x="727" y="112"/>
                  </a:lnTo>
                  <a:lnTo>
                    <a:pt x="731" y="70"/>
                  </a:lnTo>
                  <a:lnTo>
                    <a:pt x="721" y="73"/>
                  </a:lnTo>
                  <a:lnTo>
                    <a:pt x="706" y="77"/>
                  </a:lnTo>
                  <a:lnTo>
                    <a:pt x="688" y="81"/>
                  </a:lnTo>
                  <a:lnTo>
                    <a:pt x="665" y="86"/>
                  </a:lnTo>
                  <a:lnTo>
                    <a:pt x="637" y="90"/>
                  </a:lnTo>
                  <a:lnTo>
                    <a:pt x="610" y="95"/>
                  </a:lnTo>
                  <a:lnTo>
                    <a:pt x="586" y="99"/>
                  </a:lnTo>
                  <a:lnTo>
                    <a:pt x="565" y="103"/>
                  </a:lnTo>
                  <a:lnTo>
                    <a:pt x="544" y="106"/>
                  </a:lnTo>
                  <a:lnTo>
                    <a:pt x="527" y="109"/>
                  </a:lnTo>
                  <a:lnTo>
                    <a:pt x="513" y="113"/>
                  </a:lnTo>
                  <a:lnTo>
                    <a:pt x="501" y="116"/>
                  </a:lnTo>
                  <a:close/>
                </a:path>
              </a:pathLst>
            </a:custGeom>
            <a:solidFill>
              <a:schemeClr val="tx1"/>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d79f00"/>
                </a:solidFill>
                <a:latin typeface="Arial"/>
                <a:ea typeface="宋体"/>
              </a:endParaRPr>
            </a:p>
          </p:txBody>
        </p:sp>
        <p:sp>
          <p:nvSpPr>
            <p:cNvPr id="336" name="Freeform 23"/>
            <p:cNvSpPr/>
            <p:nvPr/>
          </p:nvSpPr>
          <p:spPr>
            <a:xfrm>
              <a:off x="4838760" y="9366840"/>
              <a:ext cx="232560" cy="180000"/>
            </a:xfrm>
            <a:custGeom>
              <a:avLst/>
              <a:gdLst>
                <a:gd name="textAreaLeft" fmla="*/ 0 w 232560"/>
                <a:gd name="textAreaRight" fmla="*/ 232920 w 232560"/>
                <a:gd name="textAreaTop" fmla="*/ 0 h 180000"/>
                <a:gd name="textAreaBottom" fmla="*/ 180360 h 180000"/>
              </a:gdLst>
              <a:ahLst/>
              <a:rect l="textAreaLeft" t="textAreaTop" r="textAreaRight" b="textAreaBottom"/>
              <a:pathLst>
                <a:path w="1185" h="971">
                  <a:moveTo>
                    <a:pt x="660" y="675"/>
                  </a:moveTo>
                  <a:lnTo>
                    <a:pt x="694" y="698"/>
                  </a:lnTo>
                  <a:lnTo>
                    <a:pt x="724" y="720"/>
                  </a:lnTo>
                  <a:lnTo>
                    <a:pt x="754" y="740"/>
                  </a:lnTo>
                  <a:lnTo>
                    <a:pt x="780" y="760"/>
                  </a:lnTo>
                  <a:lnTo>
                    <a:pt x="804" y="778"/>
                  </a:lnTo>
                  <a:lnTo>
                    <a:pt x="825" y="795"/>
                  </a:lnTo>
                  <a:lnTo>
                    <a:pt x="844" y="811"/>
                  </a:lnTo>
                  <a:lnTo>
                    <a:pt x="860" y="825"/>
                  </a:lnTo>
                  <a:lnTo>
                    <a:pt x="863" y="834"/>
                  </a:lnTo>
                  <a:lnTo>
                    <a:pt x="865" y="844"/>
                  </a:lnTo>
                  <a:lnTo>
                    <a:pt x="865" y="856"/>
                  </a:lnTo>
                  <a:lnTo>
                    <a:pt x="865" y="869"/>
                  </a:lnTo>
                  <a:lnTo>
                    <a:pt x="863" y="884"/>
                  </a:lnTo>
                  <a:lnTo>
                    <a:pt x="860" y="901"/>
                  </a:lnTo>
                  <a:lnTo>
                    <a:pt x="856" y="919"/>
                  </a:lnTo>
                  <a:lnTo>
                    <a:pt x="849" y="941"/>
                  </a:lnTo>
                  <a:lnTo>
                    <a:pt x="848" y="947"/>
                  </a:lnTo>
                  <a:lnTo>
                    <a:pt x="846" y="953"/>
                  </a:lnTo>
                  <a:lnTo>
                    <a:pt x="845" y="959"/>
                  </a:lnTo>
                  <a:lnTo>
                    <a:pt x="842" y="963"/>
                  </a:lnTo>
                  <a:lnTo>
                    <a:pt x="840" y="966"/>
                  </a:lnTo>
                  <a:lnTo>
                    <a:pt x="837" y="968"/>
                  </a:lnTo>
                  <a:lnTo>
                    <a:pt x="834" y="970"/>
                  </a:lnTo>
                  <a:lnTo>
                    <a:pt x="830" y="970"/>
                  </a:lnTo>
                  <a:lnTo>
                    <a:pt x="827" y="971"/>
                  </a:lnTo>
                  <a:lnTo>
                    <a:pt x="825" y="971"/>
                  </a:lnTo>
                  <a:lnTo>
                    <a:pt x="822" y="970"/>
                  </a:lnTo>
                  <a:lnTo>
                    <a:pt x="819" y="968"/>
                  </a:lnTo>
                  <a:lnTo>
                    <a:pt x="812" y="961"/>
                  </a:lnTo>
                  <a:lnTo>
                    <a:pt x="805" y="950"/>
                  </a:lnTo>
                  <a:lnTo>
                    <a:pt x="797" y="944"/>
                  </a:lnTo>
                  <a:lnTo>
                    <a:pt x="788" y="936"/>
                  </a:lnTo>
                  <a:lnTo>
                    <a:pt x="778" y="926"/>
                  </a:lnTo>
                  <a:lnTo>
                    <a:pt x="768" y="913"/>
                  </a:lnTo>
                  <a:lnTo>
                    <a:pt x="744" y="881"/>
                  </a:lnTo>
                  <a:lnTo>
                    <a:pt x="715" y="840"/>
                  </a:lnTo>
                  <a:lnTo>
                    <a:pt x="643" y="853"/>
                  </a:lnTo>
                  <a:lnTo>
                    <a:pt x="574" y="866"/>
                  </a:lnTo>
                  <a:lnTo>
                    <a:pt x="507" y="880"/>
                  </a:lnTo>
                  <a:lnTo>
                    <a:pt x="445" y="894"/>
                  </a:lnTo>
                  <a:lnTo>
                    <a:pt x="386" y="909"/>
                  </a:lnTo>
                  <a:lnTo>
                    <a:pt x="328" y="924"/>
                  </a:lnTo>
                  <a:lnTo>
                    <a:pt x="275" y="940"/>
                  </a:lnTo>
                  <a:lnTo>
                    <a:pt x="225" y="955"/>
                  </a:lnTo>
                  <a:lnTo>
                    <a:pt x="225" y="941"/>
                  </a:lnTo>
                  <a:lnTo>
                    <a:pt x="223" y="926"/>
                  </a:lnTo>
                  <a:lnTo>
                    <a:pt x="222" y="912"/>
                  </a:lnTo>
                  <a:lnTo>
                    <a:pt x="219" y="898"/>
                  </a:lnTo>
                  <a:lnTo>
                    <a:pt x="217" y="884"/>
                  </a:lnTo>
                  <a:lnTo>
                    <a:pt x="214" y="871"/>
                  </a:lnTo>
                  <a:lnTo>
                    <a:pt x="210" y="858"/>
                  </a:lnTo>
                  <a:lnTo>
                    <a:pt x="204" y="845"/>
                  </a:lnTo>
                  <a:lnTo>
                    <a:pt x="221" y="841"/>
                  </a:lnTo>
                  <a:lnTo>
                    <a:pt x="237" y="836"/>
                  </a:lnTo>
                  <a:lnTo>
                    <a:pt x="253" y="828"/>
                  </a:lnTo>
                  <a:lnTo>
                    <a:pt x="269" y="820"/>
                  </a:lnTo>
                  <a:lnTo>
                    <a:pt x="284" y="811"/>
                  </a:lnTo>
                  <a:lnTo>
                    <a:pt x="300" y="800"/>
                  </a:lnTo>
                  <a:lnTo>
                    <a:pt x="315" y="788"/>
                  </a:lnTo>
                  <a:lnTo>
                    <a:pt x="329" y="775"/>
                  </a:lnTo>
                  <a:lnTo>
                    <a:pt x="345" y="756"/>
                  </a:lnTo>
                  <a:lnTo>
                    <a:pt x="361" y="737"/>
                  </a:lnTo>
                  <a:lnTo>
                    <a:pt x="375" y="718"/>
                  </a:lnTo>
                  <a:lnTo>
                    <a:pt x="389" y="698"/>
                  </a:lnTo>
                  <a:lnTo>
                    <a:pt x="401" y="679"/>
                  </a:lnTo>
                  <a:lnTo>
                    <a:pt x="413" y="659"/>
                  </a:lnTo>
                  <a:lnTo>
                    <a:pt x="425" y="639"/>
                  </a:lnTo>
                  <a:lnTo>
                    <a:pt x="435" y="617"/>
                  </a:lnTo>
                  <a:lnTo>
                    <a:pt x="445" y="597"/>
                  </a:lnTo>
                  <a:lnTo>
                    <a:pt x="453" y="576"/>
                  </a:lnTo>
                  <a:lnTo>
                    <a:pt x="462" y="555"/>
                  </a:lnTo>
                  <a:lnTo>
                    <a:pt x="468" y="533"/>
                  </a:lnTo>
                  <a:lnTo>
                    <a:pt x="476" y="511"/>
                  </a:lnTo>
                  <a:lnTo>
                    <a:pt x="481" y="489"/>
                  </a:lnTo>
                  <a:lnTo>
                    <a:pt x="486" y="467"/>
                  </a:lnTo>
                  <a:lnTo>
                    <a:pt x="490" y="445"/>
                  </a:lnTo>
                  <a:lnTo>
                    <a:pt x="513" y="461"/>
                  </a:lnTo>
                  <a:lnTo>
                    <a:pt x="534" y="474"/>
                  </a:lnTo>
                  <a:lnTo>
                    <a:pt x="554" y="486"/>
                  </a:lnTo>
                  <a:lnTo>
                    <a:pt x="572" y="497"/>
                  </a:lnTo>
                  <a:lnTo>
                    <a:pt x="589" y="505"/>
                  </a:lnTo>
                  <a:lnTo>
                    <a:pt x="604" y="511"/>
                  </a:lnTo>
                  <a:lnTo>
                    <a:pt x="618" y="517"/>
                  </a:lnTo>
                  <a:lnTo>
                    <a:pt x="630" y="520"/>
                  </a:lnTo>
                  <a:lnTo>
                    <a:pt x="616" y="527"/>
                  </a:lnTo>
                  <a:lnTo>
                    <a:pt x="604" y="537"/>
                  </a:lnTo>
                  <a:lnTo>
                    <a:pt x="592" y="546"/>
                  </a:lnTo>
                  <a:lnTo>
                    <a:pt x="581" y="556"/>
                  </a:lnTo>
                  <a:lnTo>
                    <a:pt x="571" y="568"/>
                  </a:lnTo>
                  <a:lnTo>
                    <a:pt x="561" y="579"/>
                  </a:lnTo>
                  <a:lnTo>
                    <a:pt x="553" y="592"/>
                  </a:lnTo>
                  <a:lnTo>
                    <a:pt x="544" y="605"/>
                  </a:lnTo>
                  <a:lnTo>
                    <a:pt x="525" y="633"/>
                  </a:lnTo>
                  <a:lnTo>
                    <a:pt x="506" y="662"/>
                  </a:lnTo>
                  <a:lnTo>
                    <a:pt x="486" y="689"/>
                  </a:lnTo>
                  <a:lnTo>
                    <a:pt x="466" y="718"/>
                  </a:lnTo>
                  <a:lnTo>
                    <a:pt x="445" y="745"/>
                  </a:lnTo>
                  <a:lnTo>
                    <a:pt x="424" y="772"/>
                  </a:lnTo>
                  <a:lnTo>
                    <a:pt x="402" y="799"/>
                  </a:lnTo>
                  <a:lnTo>
                    <a:pt x="380" y="825"/>
                  </a:lnTo>
                  <a:lnTo>
                    <a:pt x="690" y="790"/>
                  </a:lnTo>
                  <a:lnTo>
                    <a:pt x="687" y="787"/>
                  </a:lnTo>
                  <a:lnTo>
                    <a:pt x="685" y="783"/>
                  </a:lnTo>
                  <a:lnTo>
                    <a:pt x="682" y="777"/>
                  </a:lnTo>
                  <a:lnTo>
                    <a:pt x="680" y="770"/>
                  </a:lnTo>
                  <a:lnTo>
                    <a:pt x="669" y="754"/>
                  </a:lnTo>
                  <a:lnTo>
                    <a:pt x="660" y="735"/>
                  </a:lnTo>
                  <a:lnTo>
                    <a:pt x="650" y="714"/>
                  </a:lnTo>
                  <a:lnTo>
                    <a:pt x="640" y="690"/>
                  </a:lnTo>
                  <a:lnTo>
                    <a:pt x="636" y="681"/>
                  </a:lnTo>
                  <a:lnTo>
                    <a:pt x="633" y="674"/>
                  </a:lnTo>
                  <a:lnTo>
                    <a:pt x="633" y="668"/>
                  </a:lnTo>
                  <a:lnTo>
                    <a:pt x="634" y="665"/>
                  </a:lnTo>
                  <a:lnTo>
                    <a:pt x="637" y="664"/>
                  </a:lnTo>
                  <a:lnTo>
                    <a:pt x="639" y="664"/>
                  </a:lnTo>
                  <a:lnTo>
                    <a:pt x="641" y="664"/>
                  </a:lnTo>
                  <a:lnTo>
                    <a:pt x="644" y="665"/>
                  </a:lnTo>
                  <a:lnTo>
                    <a:pt x="650" y="669"/>
                  </a:lnTo>
                  <a:lnTo>
                    <a:pt x="660" y="675"/>
                  </a:lnTo>
                  <a:close/>
                  <a:moveTo>
                    <a:pt x="550" y="9"/>
                  </a:moveTo>
                  <a:lnTo>
                    <a:pt x="567" y="23"/>
                  </a:lnTo>
                  <a:lnTo>
                    <a:pt x="586" y="39"/>
                  </a:lnTo>
                  <a:lnTo>
                    <a:pt x="606" y="59"/>
                  </a:lnTo>
                  <a:lnTo>
                    <a:pt x="629" y="82"/>
                  </a:lnTo>
                  <a:lnTo>
                    <a:pt x="652" y="109"/>
                  </a:lnTo>
                  <a:lnTo>
                    <a:pt x="678" y="139"/>
                  </a:lnTo>
                  <a:lnTo>
                    <a:pt x="705" y="172"/>
                  </a:lnTo>
                  <a:lnTo>
                    <a:pt x="735" y="209"/>
                  </a:lnTo>
                  <a:lnTo>
                    <a:pt x="767" y="249"/>
                  </a:lnTo>
                  <a:lnTo>
                    <a:pt x="795" y="285"/>
                  </a:lnTo>
                  <a:lnTo>
                    <a:pt x="823" y="315"/>
                  </a:lnTo>
                  <a:lnTo>
                    <a:pt x="848" y="342"/>
                  </a:lnTo>
                  <a:lnTo>
                    <a:pt x="872" y="365"/>
                  </a:lnTo>
                  <a:lnTo>
                    <a:pt x="893" y="384"/>
                  </a:lnTo>
                  <a:lnTo>
                    <a:pt x="903" y="392"/>
                  </a:lnTo>
                  <a:lnTo>
                    <a:pt x="913" y="399"/>
                  </a:lnTo>
                  <a:lnTo>
                    <a:pt x="921" y="405"/>
                  </a:lnTo>
                  <a:lnTo>
                    <a:pt x="930" y="410"/>
                  </a:lnTo>
                  <a:lnTo>
                    <a:pt x="965" y="429"/>
                  </a:lnTo>
                  <a:lnTo>
                    <a:pt x="999" y="447"/>
                  </a:lnTo>
                  <a:lnTo>
                    <a:pt x="1030" y="464"/>
                  </a:lnTo>
                  <a:lnTo>
                    <a:pt x="1059" y="481"/>
                  </a:lnTo>
                  <a:lnTo>
                    <a:pt x="1086" y="498"/>
                  </a:lnTo>
                  <a:lnTo>
                    <a:pt x="1111" y="514"/>
                  </a:lnTo>
                  <a:lnTo>
                    <a:pt x="1134" y="529"/>
                  </a:lnTo>
                  <a:lnTo>
                    <a:pt x="1156" y="545"/>
                  </a:lnTo>
                  <a:lnTo>
                    <a:pt x="1163" y="551"/>
                  </a:lnTo>
                  <a:lnTo>
                    <a:pt x="1170" y="557"/>
                  </a:lnTo>
                  <a:lnTo>
                    <a:pt x="1176" y="562"/>
                  </a:lnTo>
                  <a:lnTo>
                    <a:pt x="1180" y="568"/>
                  </a:lnTo>
                  <a:lnTo>
                    <a:pt x="1183" y="573"/>
                  </a:lnTo>
                  <a:lnTo>
                    <a:pt x="1185" y="577"/>
                  </a:lnTo>
                  <a:lnTo>
                    <a:pt x="1185" y="581"/>
                  </a:lnTo>
                  <a:lnTo>
                    <a:pt x="1185" y="585"/>
                  </a:lnTo>
                  <a:lnTo>
                    <a:pt x="1183" y="590"/>
                  </a:lnTo>
                  <a:lnTo>
                    <a:pt x="1180" y="593"/>
                  </a:lnTo>
                  <a:lnTo>
                    <a:pt x="1176" y="596"/>
                  </a:lnTo>
                  <a:lnTo>
                    <a:pt x="1170" y="598"/>
                  </a:lnTo>
                  <a:lnTo>
                    <a:pt x="1163" y="600"/>
                  </a:lnTo>
                  <a:lnTo>
                    <a:pt x="1156" y="600"/>
                  </a:lnTo>
                  <a:lnTo>
                    <a:pt x="1146" y="600"/>
                  </a:lnTo>
                  <a:lnTo>
                    <a:pt x="1135" y="600"/>
                  </a:lnTo>
                  <a:lnTo>
                    <a:pt x="1090" y="597"/>
                  </a:lnTo>
                  <a:lnTo>
                    <a:pt x="1048" y="593"/>
                  </a:lnTo>
                  <a:lnTo>
                    <a:pt x="1010" y="588"/>
                  </a:lnTo>
                  <a:lnTo>
                    <a:pt x="977" y="581"/>
                  </a:lnTo>
                  <a:lnTo>
                    <a:pt x="961" y="578"/>
                  </a:lnTo>
                  <a:lnTo>
                    <a:pt x="946" y="574"/>
                  </a:lnTo>
                  <a:lnTo>
                    <a:pt x="933" y="570"/>
                  </a:lnTo>
                  <a:lnTo>
                    <a:pt x="920" y="565"/>
                  </a:lnTo>
                  <a:lnTo>
                    <a:pt x="909" y="560"/>
                  </a:lnTo>
                  <a:lnTo>
                    <a:pt x="898" y="556"/>
                  </a:lnTo>
                  <a:lnTo>
                    <a:pt x="889" y="551"/>
                  </a:lnTo>
                  <a:lnTo>
                    <a:pt x="880" y="545"/>
                  </a:lnTo>
                  <a:lnTo>
                    <a:pt x="866" y="532"/>
                  </a:lnTo>
                  <a:lnTo>
                    <a:pt x="851" y="514"/>
                  </a:lnTo>
                  <a:lnTo>
                    <a:pt x="834" y="492"/>
                  </a:lnTo>
                  <a:lnTo>
                    <a:pt x="813" y="466"/>
                  </a:lnTo>
                  <a:lnTo>
                    <a:pt x="792" y="436"/>
                  </a:lnTo>
                  <a:lnTo>
                    <a:pt x="768" y="401"/>
                  </a:lnTo>
                  <a:lnTo>
                    <a:pt x="742" y="363"/>
                  </a:lnTo>
                  <a:lnTo>
                    <a:pt x="715" y="320"/>
                  </a:lnTo>
                  <a:lnTo>
                    <a:pt x="677" y="263"/>
                  </a:lnTo>
                  <a:lnTo>
                    <a:pt x="642" y="213"/>
                  </a:lnTo>
                  <a:lnTo>
                    <a:pt x="609" y="167"/>
                  </a:lnTo>
                  <a:lnTo>
                    <a:pt x="578" y="127"/>
                  </a:lnTo>
                  <a:lnTo>
                    <a:pt x="551" y="92"/>
                  </a:lnTo>
                  <a:lnTo>
                    <a:pt x="524" y="63"/>
                  </a:lnTo>
                  <a:lnTo>
                    <a:pt x="513" y="50"/>
                  </a:lnTo>
                  <a:lnTo>
                    <a:pt x="501" y="39"/>
                  </a:lnTo>
                  <a:lnTo>
                    <a:pt x="490" y="28"/>
                  </a:lnTo>
                  <a:lnTo>
                    <a:pt x="480" y="20"/>
                  </a:lnTo>
                  <a:lnTo>
                    <a:pt x="482" y="15"/>
                  </a:lnTo>
                  <a:lnTo>
                    <a:pt x="484" y="11"/>
                  </a:lnTo>
                  <a:lnTo>
                    <a:pt x="487" y="8"/>
                  </a:lnTo>
                  <a:lnTo>
                    <a:pt x="490" y="6"/>
                  </a:lnTo>
                  <a:lnTo>
                    <a:pt x="494" y="4"/>
                  </a:lnTo>
                  <a:lnTo>
                    <a:pt x="497" y="2"/>
                  </a:lnTo>
                  <a:lnTo>
                    <a:pt x="501" y="1"/>
                  </a:lnTo>
                  <a:lnTo>
                    <a:pt x="505" y="0"/>
                  </a:lnTo>
                  <a:lnTo>
                    <a:pt x="515" y="0"/>
                  </a:lnTo>
                  <a:lnTo>
                    <a:pt x="525" y="1"/>
                  </a:lnTo>
                  <a:lnTo>
                    <a:pt x="537" y="4"/>
                  </a:lnTo>
                  <a:lnTo>
                    <a:pt x="550" y="9"/>
                  </a:lnTo>
                  <a:close/>
                  <a:moveTo>
                    <a:pt x="380" y="165"/>
                  </a:moveTo>
                  <a:lnTo>
                    <a:pt x="392" y="174"/>
                  </a:lnTo>
                  <a:lnTo>
                    <a:pt x="404" y="184"/>
                  </a:lnTo>
                  <a:lnTo>
                    <a:pt x="417" y="193"/>
                  </a:lnTo>
                  <a:lnTo>
                    <a:pt x="431" y="202"/>
                  </a:lnTo>
                  <a:lnTo>
                    <a:pt x="446" y="210"/>
                  </a:lnTo>
                  <a:lnTo>
                    <a:pt x="462" y="219"/>
                  </a:lnTo>
                  <a:lnTo>
                    <a:pt x="478" y="227"/>
                  </a:lnTo>
                  <a:lnTo>
                    <a:pt x="495" y="235"/>
                  </a:lnTo>
                  <a:lnTo>
                    <a:pt x="484" y="244"/>
                  </a:lnTo>
                  <a:lnTo>
                    <a:pt x="473" y="255"/>
                  </a:lnTo>
                  <a:lnTo>
                    <a:pt x="464" y="266"/>
                  </a:lnTo>
                  <a:lnTo>
                    <a:pt x="454" y="276"/>
                  </a:lnTo>
                  <a:lnTo>
                    <a:pt x="446" y="287"/>
                  </a:lnTo>
                  <a:lnTo>
                    <a:pt x="438" y="297"/>
                  </a:lnTo>
                  <a:lnTo>
                    <a:pt x="431" y="309"/>
                  </a:lnTo>
                  <a:lnTo>
                    <a:pt x="425" y="320"/>
                  </a:lnTo>
                  <a:lnTo>
                    <a:pt x="394" y="376"/>
                  </a:lnTo>
                  <a:lnTo>
                    <a:pt x="363" y="428"/>
                  </a:lnTo>
                  <a:lnTo>
                    <a:pt x="348" y="451"/>
                  </a:lnTo>
                  <a:lnTo>
                    <a:pt x="334" y="473"/>
                  </a:lnTo>
                  <a:lnTo>
                    <a:pt x="319" y="494"/>
                  </a:lnTo>
                  <a:lnTo>
                    <a:pt x="305" y="515"/>
                  </a:lnTo>
                  <a:lnTo>
                    <a:pt x="290" y="534"/>
                  </a:lnTo>
                  <a:lnTo>
                    <a:pt x="276" y="552"/>
                  </a:lnTo>
                  <a:lnTo>
                    <a:pt x="263" y="568"/>
                  </a:lnTo>
                  <a:lnTo>
                    <a:pt x="249" y="582"/>
                  </a:lnTo>
                  <a:lnTo>
                    <a:pt x="235" y="596"/>
                  </a:lnTo>
                  <a:lnTo>
                    <a:pt x="221" y="609"/>
                  </a:lnTo>
                  <a:lnTo>
                    <a:pt x="208" y="619"/>
                  </a:lnTo>
                  <a:lnTo>
                    <a:pt x="195" y="630"/>
                  </a:lnTo>
                  <a:lnTo>
                    <a:pt x="183" y="639"/>
                  </a:lnTo>
                  <a:lnTo>
                    <a:pt x="172" y="645"/>
                  </a:lnTo>
                  <a:lnTo>
                    <a:pt x="161" y="651"/>
                  </a:lnTo>
                  <a:lnTo>
                    <a:pt x="149" y="657"/>
                  </a:lnTo>
                  <a:lnTo>
                    <a:pt x="137" y="661"/>
                  </a:lnTo>
                  <a:lnTo>
                    <a:pt x="125" y="664"/>
                  </a:lnTo>
                  <a:lnTo>
                    <a:pt x="113" y="665"/>
                  </a:lnTo>
                  <a:lnTo>
                    <a:pt x="101" y="666"/>
                  </a:lnTo>
                  <a:lnTo>
                    <a:pt x="89" y="666"/>
                  </a:lnTo>
                  <a:lnTo>
                    <a:pt x="76" y="665"/>
                  </a:lnTo>
                  <a:lnTo>
                    <a:pt x="64" y="663"/>
                  </a:lnTo>
                  <a:lnTo>
                    <a:pt x="51" y="659"/>
                  </a:lnTo>
                  <a:lnTo>
                    <a:pt x="38" y="654"/>
                  </a:lnTo>
                  <a:lnTo>
                    <a:pt x="25" y="649"/>
                  </a:lnTo>
                  <a:lnTo>
                    <a:pt x="13" y="643"/>
                  </a:lnTo>
                  <a:lnTo>
                    <a:pt x="0" y="635"/>
                  </a:lnTo>
                  <a:lnTo>
                    <a:pt x="36" y="616"/>
                  </a:lnTo>
                  <a:lnTo>
                    <a:pt x="70" y="596"/>
                  </a:lnTo>
                  <a:lnTo>
                    <a:pt x="103" y="574"/>
                  </a:lnTo>
                  <a:lnTo>
                    <a:pt x="135" y="552"/>
                  </a:lnTo>
                  <a:lnTo>
                    <a:pt x="149" y="539"/>
                  </a:lnTo>
                  <a:lnTo>
                    <a:pt x="164" y="526"/>
                  </a:lnTo>
                  <a:lnTo>
                    <a:pt x="178" y="514"/>
                  </a:lnTo>
                  <a:lnTo>
                    <a:pt x="192" y="501"/>
                  </a:lnTo>
                  <a:lnTo>
                    <a:pt x="204" y="487"/>
                  </a:lnTo>
                  <a:lnTo>
                    <a:pt x="218" y="473"/>
                  </a:lnTo>
                  <a:lnTo>
                    <a:pt x="230" y="459"/>
                  </a:lnTo>
                  <a:lnTo>
                    <a:pt x="243" y="445"/>
                  </a:lnTo>
                  <a:lnTo>
                    <a:pt x="254" y="430"/>
                  </a:lnTo>
                  <a:lnTo>
                    <a:pt x="265" y="415"/>
                  </a:lnTo>
                  <a:lnTo>
                    <a:pt x="276" y="399"/>
                  </a:lnTo>
                  <a:lnTo>
                    <a:pt x="286" y="383"/>
                  </a:lnTo>
                  <a:lnTo>
                    <a:pt x="297" y="367"/>
                  </a:lnTo>
                  <a:lnTo>
                    <a:pt x="306" y="350"/>
                  </a:lnTo>
                  <a:lnTo>
                    <a:pt x="316" y="333"/>
                  </a:lnTo>
                  <a:lnTo>
                    <a:pt x="324" y="316"/>
                  </a:lnTo>
                  <a:lnTo>
                    <a:pt x="341" y="280"/>
                  </a:lnTo>
                  <a:lnTo>
                    <a:pt x="355" y="243"/>
                  </a:lnTo>
                  <a:lnTo>
                    <a:pt x="369" y="204"/>
                  </a:lnTo>
                  <a:lnTo>
                    <a:pt x="380" y="165"/>
                  </a:lnTo>
                  <a:close/>
                </a:path>
              </a:pathLst>
            </a:custGeom>
            <a:solidFill>
              <a:schemeClr val="tx1"/>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d79f00"/>
                </a:solidFill>
                <a:latin typeface="Arial"/>
                <a:ea typeface="宋体"/>
              </a:endParaRPr>
            </a:p>
          </p:txBody>
        </p:sp>
        <p:sp>
          <p:nvSpPr>
            <p:cNvPr id="337" name="Freeform 24"/>
            <p:cNvSpPr/>
            <p:nvPr/>
          </p:nvSpPr>
          <p:spPr>
            <a:xfrm>
              <a:off x="5103000" y="9358920"/>
              <a:ext cx="165240" cy="198360"/>
            </a:xfrm>
            <a:custGeom>
              <a:avLst/>
              <a:gdLst>
                <a:gd name="textAreaLeft" fmla="*/ 0 w 165240"/>
                <a:gd name="textAreaRight" fmla="*/ 165600 w 165240"/>
                <a:gd name="textAreaTop" fmla="*/ 0 h 198360"/>
                <a:gd name="textAreaBottom" fmla="*/ 198720 h 198360"/>
              </a:gdLst>
              <a:ahLst/>
              <a:rect l="textAreaLeft" t="textAreaTop" r="textAreaRight" b="textAreaBottom"/>
              <a:pathLst>
                <a:path w="846" h="1072">
                  <a:moveTo>
                    <a:pt x="651" y="0"/>
                  </a:moveTo>
                  <a:lnTo>
                    <a:pt x="671" y="13"/>
                  </a:lnTo>
                  <a:lnTo>
                    <a:pt x="692" y="25"/>
                  </a:lnTo>
                  <a:lnTo>
                    <a:pt x="715" y="35"/>
                  </a:lnTo>
                  <a:lnTo>
                    <a:pt x="739" y="45"/>
                  </a:lnTo>
                  <a:lnTo>
                    <a:pt x="764" y="52"/>
                  </a:lnTo>
                  <a:lnTo>
                    <a:pt x="791" y="58"/>
                  </a:lnTo>
                  <a:lnTo>
                    <a:pt x="817" y="63"/>
                  </a:lnTo>
                  <a:lnTo>
                    <a:pt x="846" y="66"/>
                  </a:lnTo>
                  <a:lnTo>
                    <a:pt x="841" y="71"/>
                  </a:lnTo>
                  <a:lnTo>
                    <a:pt x="837" y="78"/>
                  </a:lnTo>
                  <a:lnTo>
                    <a:pt x="834" y="85"/>
                  </a:lnTo>
                  <a:lnTo>
                    <a:pt x="831" y="94"/>
                  </a:lnTo>
                  <a:lnTo>
                    <a:pt x="825" y="116"/>
                  </a:lnTo>
                  <a:lnTo>
                    <a:pt x="819" y="142"/>
                  </a:lnTo>
                  <a:lnTo>
                    <a:pt x="815" y="173"/>
                  </a:lnTo>
                  <a:lnTo>
                    <a:pt x="811" y="210"/>
                  </a:lnTo>
                  <a:lnTo>
                    <a:pt x="808" y="251"/>
                  </a:lnTo>
                  <a:lnTo>
                    <a:pt x="805" y="297"/>
                  </a:lnTo>
                  <a:lnTo>
                    <a:pt x="804" y="348"/>
                  </a:lnTo>
                  <a:lnTo>
                    <a:pt x="803" y="404"/>
                  </a:lnTo>
                  <a:lnTo>
                    <a:pt x="803" y="464"/>
                  </a:lnTo>
                  <a:lnTo>
                    <a:pt x="804" y="530"/>
                  </a:lnTo>
                  <a:lnTo>
                    <a:pt x="805" y="600"/>
                  </a:lnTo>
                  <a:lnTo>
                    <a:pt x="809" y="675"/>
                  </a:lnTo>
                  <a:lnTo>
                    <a:pt x="812" y="756"/>
                  </a:lnTo>
                  <a:lnTo>
                    <a:pt x="815" y="842"/>
                  </a:lnTo>
                  <a:lnTo>
                    <a:pt x="816" y="890"/>
                  </a:lnTo>
                  <a:lnTo>
                    <a:pt x="816" y="934"/>
                  </a:lnTo>
                  <a:lnTo>
                    <a:pt x="814" y="972"/>
                  </a:lnTo>
                  <a:lnTo>
                    <a:pt x="812" y="1004"/>
                  </a:lnTo>
                  <a:lnTo>
                    <a:pt x="810" y="1018"/>
                  </a:lnTo>
                  <a:lnTo>
                    <a:pt x="808" y="1029"/>
                  </a:lnTo>
                  <a:lnTo>
                    <a:pt x="805" y="1040"/>
                  </a:lnTo>
                  <a:lnTo>
                    <a:pt x="803" y="1049"/>
                  </a:lnTo>
                  <a:lnTo>
                    <a:pt x="800" y="1057"/>
                  </a:lnTo>
                  <a:lnTo>
                    <a:pt x="797" y="1063"/>
                  </a:lnTo>
                  <a:lnTo>
                    <a:pt x="794" y="1068"/>
                  </a:lnTo>
                  <a:lnTo>
                    <a:pt x="791" y="1072"/>
                  </a:lnTo>
                  <a:lnTo>
                    <a:pt x="779" y="1068"/>
                  </a:lnTo>
                  <a:lnTo>
                    <a:pt x="766" y="1064"/>
                  </a:lnTo>
                  <a:lnTo>
                    <a:pt x="754" y="1060"/>
                  </a:lnTo>
                  <a:lnTo>
                    <a:pt x="741" y="1054"/>
                  </a:lnTo>
                  <a:lnTo>
                    <a:pt x="727" y="1047"/>
                  </a:lnTo>
                  <a:lnTo>
                    <a:pt x="712" y="1040"/>
                  </a:lnTo>
                  <a:lnTo>
                    <a:pt x="697" y="1030"/>
                  </a:lnTo>
                  <a:lnTo>
                    <a:pt x="682" y="1021"/>
                  </a:lnTo>
                  <a:lnTo>
                    <a:pt x="649" y="1000"/>
                  </a:lnTo>
                  <a:lnTo>
                    <a:pt x="613" y="974"/>
                  </a:lnTo>
                  <a:lnTo>
                    <a:pt x="576" y="944"/>
                  </a:lnTo>
                  <a:lnTo>
                    <a:pt x="535" y="912"/>
                  </a:lnTo>
                  <a:lnTo>
                    <a:pt x="527" y="904"/>
                  </a:lnTo>
                  <a:lnTo>
                    <a:pt x="521" y="898"/>
                  </a:lnTo>
                  <a:lnTo>
                    <a:pt x="516" y="892"/>
                  </a:lnTo>
                  <a:lnTo>
                    <a:pt x="515" y="886"/>
                  </a:lnTo>
                  <a:lnTo>
                    <a:pt x="517" y="884"/>
                  </a:lnTo>
                  <a:lnTo>
                    <a:pt x="519" y="882"/>
                  </a:lnTo>
                  <a:lnTo>
                    <a:pt x="522" y="881"/>
                  </a:lnTo>
                  <a:lnTo>
                    <a:pt x="526" y="880"/>
                  </a:lnTo>
                  <a:lnTo>
                    <a:pt x="534" y="880"/>
                  </a:lnTo>
                  <a:lnTo>
                    <a:pt x="545" y="881"/>
                  </a:lnTo>
                  <a:lnTo>
                    <a:pt x="584" y="886"/>
                  </a:lnTo>
                  <a:lnTo>
                    <a:pt x="616" y="889"/>
                  </a:lnTo>
                  <a:lnTo>
                    <a:pt x="631" y="889"/>
                  </a:lnTo>
                  <a:lnTo>
                    <a:pt x="643" y="889"/>
                  </a:lnTo>
                  <a:lnTo>
                    <a:pt x="654" y="888"/>
                  </a:lnTo>
                  <a:lnTo>
                    <a:pt x="665" y="887"/>
                  </a:lnTo>
                  <a:lnTo>
                    <a:pt x="672" y="885"/>
                  </a:lnTo>
                  <a:lnTo>
                    <a:pt x="679" y="883"/>
                  </a:lnTo>
                  <a:lnTo>
                    <a:pt x="685" y="880"/>
                  </a:lnTo>
                  <a:lnTo>
                    <a:pt x="689" y="877"/>
                  </a:lnTo>
                  <a:lnTo>
                    <a:pt x="691" y="872"/>
                  </a:lnTo>
                  <a:lnTo>
                    <a:pt x="692" y="867"/>
                  </a:lnTo>
                  <a:lnTo>
                    <a:pt x="692" y="862"/>
                  </a:lnTo>
                  <a:lnTo>
                    <a:pt x="690" y="857"/>
                  </a:lnTo>
                  <a:lnTo>
                    <a:pt x="691" y="827"/>
                  </a:lnTo>
                  <a:lnTo>
                    <a:pt x="692" y="793"/>
                  </a:lnTo>
                  <a:lnTo>
                    <a:pt x="693" y="755"/>
                  </a:lnTo>
                  <a:lnTo>
                    <a:pt x="694" y="713"/>
                  </a:lnTo>
                  <a:lnTo>
                    <a:pt x="694" y="668"/>
                  </a:lnTo>
                  <a:lnTo>
                    <a:pt x="695" y="618"/>
                  </a:lnTo>
                  <a:lnTo>
                    <a:pt x="695" y="564"/>
                  </a:lnTo>
                  <a:lnTo>
                    <a:pt x="695" y="506"/>
                  </a:lnTo>
                  <a:lnTo>
                    <a:pt x="695" y="441"/>
                  </a:lnTo>
                  <a:lnTo>
                    <a:pt x="694" y="382"/>
                  </a:lnTo>
                  <a:lnTo>
                    <a:pt x="694" y="326"/>
                  </a:lnTo>
                  <a:lnTo>
                    <a:pt x="693" y="275"/>
                  </a:lnTo>
                  <a:lnTo>
                    <a:pt x="691" y="227"/>
                  </a:lnTo>
                  <a:lnTo>
                    <a:pt x="690" y="184"/>
                  </a:lnTo>
                  <a:lnTo>
                    <a:pt x="688" y="145"/>
                  </a:lnTo>
                  <a:lnTo>
                    <a:pt x="686" y="110"/>
                  </a:lnTo>
                  <a:lnTo>
                    <a:pt x="685" y="107"/>
                  </a:lnTo>
                  <a:lnTo>
                    <a:pt x="685" y="104"/>
                  </a:lnTo>
                  <a:lnTo>
                    <a:pt x="684" y="101"/>
                  </a:lnTo>
                  <a:lnTo>
                    <a:pt x="682" y="99"/>
                  </a:lnTo>
                  <a:lnTo>
                    <a:pt x="679" y="98"/>
                  </a:lnTo>
                  <a:lnTo>
                    <a:pt x="677" y="97"/>
                  </a:lnTo>
                  <a:lnTo>
                    <a:pt x="674" y="96"/>
                  </a:lnTo>
                  <a:lnTo>
                    <a:pt x="671" y="96"/>
                  </a:lnTo>
                  <a:lnTo>
                    <a:pt x="612" y="103"/>
                  </a:lnTo>
                  <a:lnTo>
                    <a:pt x="552" y="112"/>
                  </a:lnTo>
                  <a:lnTo>
                    <a:pt x="492" y="121"/>
                  </a:lnTo>
                  <a:lnTo>
                    <a:pt x="432" y="131"/>
                  </a:lnTo>
                  <a:lnTo>
                    <a:pt x="371" y="141"/>
                  </a:lnTo>
                  <a:lnTo>
                    <a:pt x="310" y="152"/>
                  </a:lnTo>
                  <a:lnTo>
                    <a:pt x="247" y="163"/>
                  </a:lnTo>
                  <a:lnTo>
                    <a:pt x="185" y="176"/>
                  </a:lnTo>
                  <a:lnTo>
                    <a:pt x="175" y="169"/>
                  </a:lnTo>
                  <a:lnTo>
                    <a:pt x="165" y="161"/>
                  </a:lnTo>
                  <a:lnTo>
                    <a:pt x="155" y="152"/>
                  </a:lnTo>
                  <a:lnTo>
                    <a:pt x="146" y="142"/>
                  </a:lnTo>
                  <a:lnTo>
                    <a:pt x="135" y="131"/>
                  </a:lnTo>
                  <a:lnTo>
                    <a:pt x="125" y="118"/>
                  </a:lnTo>
                  <a:lnTo>
                    <a:pt x="115" y="105"/>
                  </a:lnTo>
                  <a:lnTo>
                    <a:pt x="105" y="90"/>
                  </a:lnTo>
                  <a:lnTo>
                    <a:pt x="157" y="88"/>
                  </a:lnTo>
                  <a:lnTo>
                    <a:pt x="208" y="85"/>
                  </a:lnTo>
                  <a:lnTo>
                    <a:pt x="256" y="81"/>
                  </a:lnTo>
                  <a:lnTo>
                    <a:pt x="300" y="78"/>
                  </a:lnTo>
                  <a:lnTo>
                    <a:pt x="344" y="73"/>
                  </a:lnTo>
                  <a:lnTo>
                    <a:pt x="384" y="68"/>
                  </a:lnTo>
                  <a:lnTo>
                    <a:pt x="421" y="64"/>
                  </a:lnTo>
                  <a:lnTo>
                    <a:pt x="457" y="58"/>
                  </a:lnTo>
                  <a:lnTo>
                    <a:pt x="490" y="52"/>
                  </a:lnTo>
                  <a:lnTo>
                    <a:pt x="519" y="46"/>
                  </a:lnTo>
                  <a:lnTo>
                    <a:pt x="548" y="39"/>
                  </a:lnTo>
                  <a:lnTo>
                    <a:pt x="573" y="32"/>
                  </a:lnTo>
                  <a:lnTo>
                    <a:pt x="596" y="25"/>
                  </a:lnTo>
                  <a:lnTo>
                    <a:pt x="617" y="17"/>
                  </a:lnTo>
                  <a:lnTo>
                    <a:pt x="635" y="9"/>
                  </a:lnTo>
                  <a:lnTo>
                    <a:pt x="651" y="0"/>
                  </a:lnTo>
                  <a:close/>
                  <a:moveTo>
                    <a:pt x="410" y="431"/>
                  </a:moveTo>
                  <a:lnTo>
                    <a:pt x="427" y="446"/>
                  </a:lnTo>
                  <a:lnTo>
                    <a:pt x="445" y="461"/>
                  </a:lnTo>
                  <a:lnTo>
                    <a:pt x="464" y="475"/>
                  </a:lnTo>
                  <a:lnTo>
                    <a:pt x="486" y="489"/>
                  </a:lnTo>
                  <a:lnTo>
                    <a:pt x="507" y="500"/>
                  </a:lnTo>
                  <a:lnTo>
                    <a:pt x="530" y="511"/>
                  </a:lnTo>
                  <a:lnTo>
                    <a:pt x="554" y="522"/>
                  </a:lnTo>
                  <a:lnTo>
                    <a:pt x="581" y="531"/>
                  </a:lnTo>
                  <a:lnTo>
                    <a:pt x="565" y="544"/>
                  </a:lnTo>
                  <a:lnTo>
                    <a:pt x="550" y="559"/>
                  </a:lnTo>
                  <a:lnTo>
                    <a:pt x="535" y="576"/>
                  </a:lnTo>
                  <a:lnTo>
                    <a:pt x="521" y="596"/>
                  </a:lnTo>
                  <a:lnTo>
                    <a:pt x="506" y="618"/>
                  </a:lnTo>
                  <a:lnTo>
                    <a:pt x="490" y="644"/>
                  </a:lnTo>
                  <a:lnTo>
                    <a:pt x="475" y="671"/>
                  </a:lnTo>
                  <a:lnTo>
                    <a:pt x="460" y="701"/>
                  </a:lnTo>
                  <a:lnTo>
                    <a:pt x="460" y="704"/>
                  </a:lnTo>
                  <a:lnTo>
                    <a:pt x="461" y="706"/>
                  </a:lnTo>
                  <a:lnTo>
                    <a:pt x="463" y="708"/>
                  </a:lnTo>
                  <a:lnTo>
                    <a:pt x="465" y="711"/>
                  </a:lnTo>
                  <a:lnTo>
                    <a:pt x="479" y="727"/>
                  </a:lnTo>
                  <a:lnTo>
                    <a:pt x="489" y="741"/>
                  </a:lnTo>
                  <a:lnTo>
                    <a:pt x="496" y="753"/>
                  </a:lnTo>
                  <a:lnTo>
                    <a:pt x="500" y="761"/>
                  </a:lnTo>
                  <a:lnTo>
                    <a:pt x="476" y="764"/>
                  </a:lnTo>
                  <a:lnTo>
                    <a:pt x="444" y="768"/>
                  </a:lnTo>
                  <a:lnTo>
                    <a:pt x="404" y="772"/>
                  </a:lnTo>
                  <a:lnTo>
                    <a:pt x="355" y="776"/>
                  </a:lnTo>
                  <a:lnTo>
                    <a:pt x="316" y="779"/>
                  </a:lnTo>
                  <a:lnTo>
                    <a:pt x="280" y="783"/>
                  </a:lnTo>
                  <a:lnTo>
                    <a:pt x="248" y="786"/>
                  </a:lnTo>
                  <a:lnTo>
                    <a:pt x="220" y="789"/>
                  </a:lnTo>
                  <a:lnTo>
                    <a:pt x="195" y="791"/>
                  </a:lnTo>
                  <a:lnTo>
                    <a:pt x="175" y="793"/>
                  </a:lnTo>
                  <a:lnTo>
                    <a:pt x="158" y="795"/>
                  </a:lnTo>
                  <a:lnTo>
                    <a:pt x="146" y="796"/>
                  </a:lnTo>
                  <a:lnTo>
                    <a:pt x="147" y="816"/>
                  </a:lnTo>
                  <a:lnTo>
                    <a:pt x="147" y="833"/>
                  </a:lnTo>
                  <a:lnTo>
                    <a:pt x="146" y="841"/>
                  </a:lnTo>
                  <a:lnTo>
                    <a:pt x="145" y="847"/>
                  </a:lnTo>
                  <a:lnTo>
                    <a:pt x="142" y="852"/>
                  </a:lnTo>
                  <a:lnTo>
                    <a:pt x="140" y="857"/>
                  </a:lnTo>
                  <a:lnTo>
                    <a:pt x="135" y="855"/>
                  </a:lnTo>
                  <a:lnTo>
                    <a:pt x="129" y="853"/>
                  </a:lnTo>
                  <a:lnTo>
                    <a:pt x="121" y="850"/>
                  </a:lnTo>
                  <a:lnTo>
                    <a:pt x="114" y="846"/>
                  </a:lnTo>
                  <a:lnTo>
                    <a:pt x="105" y="841"/>
                  </a:lnTo>
                  <a:lnTo>
                    <a:pt x="96" y="833"/>
                  </a:lnTo>
                  <a:lnTo>
                    <a:pt x="86" y="826"/>
                  </a:lnTo>
                  <a:lnTo>
                    <a:pt x="76" y="816"/>
                  </a:lnTo>
                  <a:lnTo>
                    <a:pt x="69" y="754"/>
                  </a:lnTo>
                  <a:lnTo>
                    <a:pt x="63" y="699"/>
                  </a:lnTo>
                  <a:lnTo>
                    <a:pt x="56" y="649"/>
                  </a:lnTo>
                  <a:lnTo>
                    <a:pt x="46" y="604"/>
                  </a:lnTo>
                  <a:lnTo>
                    <a:pt x="42" y="585"/>
                  </a:lnTo>
                  <a:lnTo>
                    <a:pt x="36" y="567"/>
                  </a:lnTo>
                  <a:lnTo>
                    <a:pt x="31" y="550"/>
                  </a:lnTo>
                  <a:lnTo>
                    <a:pt x="26" y="535"/>
                  </a:lnTo>
                  <a:lnTo>
                    <a:pt x="20" y="522"/>
                  </a:lnTo>
                  <a:lnTo>
                    <a:pt x="13" y="510"/>
                  </a:lnTo>
                  <a:lnTo>
                    <a:pt x="7" y="499"/>
                  </a:lnTo>
                  <a:lnTo>
                    <a:pt x="0" y="491"/>
                  </a:lnTo>
                  <a:lnTo>
                    <a:pt x="29" y="494"/>
                  </a:lnTo>
                  <a:lnTo>
                    <a:pt x="57" y="497"/>
                  </a:lnTo>
                  <a:lnTo>
                    <a:pt x="82" y="502"/>
                  </a:lnTo>
                  <a:lnTo>
                    <a:pt x="105" y="506"/>
                  </a:lnTo>
                  <a:lnTo>
                    <a:pt x="163" y="499"/>
                  </a:lnTo>
                  <a:lnTo>
                    <a:pt x="214" y="492"/>
                  </a:lnTo>
                  <a:lnTo>
                    <a:pt x="261" y="484"/>
                  </a:lnTo>
                  <a:lnTo>
                    <a:pt x="301" y="475"/>
                  </a:lnTo>
                  <a:lnTo>
                    <a:pt x="320" y="470"/>
                  </a:lnTo>
                  <a:lnTo>
                    <a:pt x="337" y="464"/>
                  </a:lnTo>
                  <a:lnTo>
                    <a:pt x="352" y="459"/>
                  </a:lnTo>
                  <a:lnTo>
                    <a:pt x="367" y="454"/>
                  </a:lnTo>
                  <a:lnTo>
                    <a:pt x="380" y="449"/>
                  </a:lnTo>
                  <a:lnTo>
                    <a:pt x="391" y="443"/>
                  </a:lnTo>
                  <a:lnTo>
                    <a:pt x="402" y="437"/>
                  </a:lnTo>
                  <a:lnTo>
                    <a:pt x="410" y="431"/>
                  </a:lnTo>
                  <a:close/>
                  <a:moveTo>
                    <a:pt x="410" y="526"/>
                  </a:moveTo>
                  <a:lnTo>
                    <a:pt x="407" y="525"/>
                  </a:lnTo>
                  <a:lnTo>
                    <a:pt x="400" y="525"/>
                  </a:lnTo>
                  <a:lnTo>
                    <a:pt x="389" y="526"/>
                  </a:lnTo>
                  <a:lnTo>
                    <a:pt x="374" y="527"/>
                  </a:lnTo>
                  <a:lnTo>
                    <a:pt x="332" y="532"/>
                  </a:lnTo>
                  <a:lnTo>
                    <a:pt x="275" y="541"/>
                  </a:lnTo>
                  <a:lnTo>
                    <a:pt x="248" y="546"/>
                  </a:lnTo>
                  <a:lnTo>
                    <a:pt x="224" y="550"/>
                  </a:lnTo>
                  <a:lnTo>
                    <a:pt x="201" y="553"/>
                  </a:lnTo>
                  <a:lnTo>
                    <a:pt x="181" y="557"/>
                  </a:lnTo>
                  <a:lnTo>
                    <a:pt x="161" y="560"/>
                  </a:lnTo>
                  <a:lnTo>
                    <a:pt x="143" y="563"/>
                  </a:lnTo>
                  <a:lnTo>
                    <a:pt x="129" y="564"/>
                  </a:lnTo>
                  <a:lnTo>
                    <a:pt x="115" y="566"/>
                  </a:lnTo>
                  <a:lnTo>
                    <a:pt x="119" y="585"/>
                  </a:lnTo>
                  <a:lnTo>
                    <a:pt x="122" y="605"/>
                  </a:lnTo>
                  <a:lnTo>
                    <a:pt x="125" y="626"/>
                  </a:lnTo>
                  <a:lnTo>
                    <a:pt x="129" y="647"/>
                  </a:lnTo>
                  <a:lnTo>
                    <a:pt x="132" y="670"/>
                  </a:lnTo>
                  <a:lnTo>
                    <a:pt x="135" y="692"/>
                  </a:lnTo>
                  <a:lnTo>
                    <a:pt x="137" y="717"/>
                  </a:lnTo>
                  <a:lnTo>
                    <a:pt x="140" y="741"/>
                  </a:lnTo>
                  <a:lnTo>
                    <a:pt x="186" y="733"/>
                  </a:lnTo>
                  <a:lnTo>
                    <a:pt x="226" y="725"/>
                  </a:lnTo>
                  <a:lnTo>
                    <a:pt x="263" y="719"/>
                  </a:lnTo>
                  <a:lnTo>
                    <a:pt x="295" y="713"/>
                  </a:lnTo>
                  <a:lnTo>
                    <a:pt x="324" y="709"/>
                  </a:lnTo>
                  <a:lnTo>
                    <a:pt x="347" y="705"/>
                  </a:lnTo>
                  <a:lnTo>
                    <a:pt x="366" y="703"/>
                  </a:lnTo>
                  <a:lnTo>
                    <a:pt x="381" y="701"/>
                  </a:lnTo>
                  <a:lnTo>
                    <a:pt x="387" y="671"/>
                  </a:lnTo>
                  <a:lnTo>
                    <a:pt x="393" y="644"/>
                  </a:lnTo>
                  <a:lnTo>
                    <a:pt x="399" y="618"/>
                  </a:lnTo>
                  <a:lnTo>
                    <a:pt x="403" y="595"/>
                  </a:lnTo>
                  <a:lnTo>
                    <a:pt x="406" y="574"/>
                  </a:lnTo>
                  <a:lnTo>
                    <a:pt x="408" y="556"/>
                  </a:lnTo>
                  <a:lnTo>
                    <a:pt x="409" y="540"/>
                  </a:lnTo>
                  <a:lnTo>
                    <a:pt x="410" y="526"/>
                  </a:lnTo>
                  <a:close/>
                  <a:moveTo>
                    <a:pt x="76" y="316"/>
                  </a:moveTo>
                  <a:lnTo>
                    <a:pt x="93" y="314"/>
                  </a:lnTo>
                  <a:lnTo>
                    <a:pt x="114" y="312"/>
                  </a:lnTo>
                  <a:lnTo>
                    <a:pt x="137" y="309"/>
                  </a:lnTo>
                  <a:lnTo>
                    <a:pt x="163" y="304"/>
                  </a:lnTo>
                  <a:lnTo>
                    <a:pt x="192" y="300"/>
                  </a:lnTo>
                  <a:lnTo>
                    <a:pt x="223" y="294"/>
                  </a:lnTo>
                  <a:lnTo>
                    <a:pt x="258" y="287"/>
                  </a:lnTo>
                  <a:lnTo>
                    <a:pt x="295" y="281"/>
                  </a:lnTo>
                  <a:lnTo>
                    <a:pt x="321" y="276"/>
                  </a:lnTo>
                  <a:lnTo>
                    <a:pt x="347" y="272"/>
                  </a:lnTo>
                  <a:lnTo>
                    <a:pt x="370" y="267"/>
                  </a:lnTo>
                  <a:lnTo>
                    <a:pt x="391" y="263"/>
                  </a:lnTo>
                  <a:lnTo>
                    <a:pt x="411" y="260"/>
                  </a:lnTo>
                  <a:lnTo>
                    <a:pt x="429" y="257"/>
                  </a:lnTo>
                  <a:lnTo>
                    <a:pt x="445" y="254"/>
                  </a:lnTo>
                  <a:lnTo>
                    <a:pt x="460" y="250"/>
                  </a:lnTo>
                  <a:lnTo>
                    <a:pt x="468" y="249"/>
                  </a:lnTo>
                  <a:lnTo>
                    <a:pt x="475" y="249"/>
                  </a:lnTo>
                  <a:lnTo>
                    <a:pt x="482" y="251"/>
                  </a:lnTo>
                  <a:lnTo>
                    <a:pt x="490" y="256"/>
                  </a:lnTo>
                  <a:lnTo>
                    <a:pt x="492" y="257"/>
                  </a:lnTo>
                  <a:lnTo>
                    <a:pt x="495" y="261"/>
                  </a:lnTo>
                  <a:lnTo>
                    <a:pt x="509" y="276"/>
                  </a:lnTo>
                  <a:lnTo>
                    <a:pt x="521" y="291"/>
                  </a:lnTo>
                  <a:lnTo>
                    <a:pt x="525" y="298"/>
                  </a:lnTo>
                  <a:lnTo>
                    <a:pt x="529" y="305"/>
                  </a:lnTo>
                  <a:lnTo>
                    <a:pt x="532" y="313"/>
                  </a:lnTo>
                  <a:lnTo>
                    <a:pt x="535" y="320"/>
                  </a:lnTo>
                  <a:lnTo>
                    <a:pt x="522" y="322"/>
                  </a:lnTo>
                  <a:lnTo>
                    <a:pt x="505" y="325"/>
                  </a:lnTo>
                  <a:lnTo>
                    <a:pt x="486" y="327"/>
                  </a:lnTo>
                  <a:lnTo>
                    <a:pt x="464" y="330"/>
                  </a:lnTo>
                  <a:lnTo>
                    <a:pt x="440" y="333"/>
                  </a:lnTo>
                  <a:lnTo>
                    <a:pt x="412" y="336"/>
                  </a:lnTo>
                  <a:lnTo>
                    <a:pt x="383" y="340"/>
                  </a:lnTo>
                  <a:lnTo>
                    <a:pt x="350" y="346"/>
                  </a:lnTo>
                  <a:lnTo>
                    <a:pt x="302" y="353"/>
                  </a:lnTo>
                  <a:lnTo>
                    <a:pt x="259" y="358"/>
                  </a:lnTo>
                  <a:lnTo>
                    <a:pt x="223" y="364"/>
                  </a:lnTo>
                  <a:lnTo>
                    <a:pt x="191" y="368"/>
                  </a:lnTo>
                  <a:lnTo>
                    <a:pt x="167" y="371"/>
                  </a:lnTo>
                  <a:lnTo>
                    <a:pt x="147" y="374"/>
                  </a:lnTo>
                  <a:lnTo>
                    <a:pt x="133" y="375"/>
                  </a:lnTo>
                  <a:lnTo>
                    <a:pt x="125" y="375"/>
                  </a:lnTo>
                  <a:lnTo>
                    <a:pt x="108" y="366"/>
                  </a:lnTo>
                  <a:lnTo>
                    <a:pt x="94" y="354"/>
                  </a:lnTo>
                  <a:lnTo>
                    <a:pt x="81" y="343"/>
                  </a:lnTo>
                  <a:lnTo>
                    <a:pt x="70" y="331"/>
                  </a:lnTo>
                  <a:lnTo>
                    <a:pt x="68" y="328"/>
                  </a:lnTo>
                  <a:lnTo>
                    <a:pt x="66" y="326"/>
                  </a:lnTo>
                  <a:lnTo>
                    <a:pt x="65" y="323"/>
                  </a:lnTo>
                  <a:lnTo>
                    <a:pt x="65" y="320"/>
                  </a:lnTo>
                  <a:lnTo>
                    <a:pt x="66" y="318"/>
                  </a:lnTo>
                  <a:lnTo>
                    <a:pt x="67" y="317"/>
                  </a:lnTo>
                  <a:lnTo>
                    <a:pt x="70" y="316"/>
                  </a:lnTo>
                  <a:lnTo>
                    <a:pt x="76" y="316"/>
                  </a:lnTo>
                  <a:close/>
                </a:path>
              </a:pathLst>
            </a:custGeom>
            <a:solidFill>
              <a:schemeClr val="tx1"/>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d79f00"/>
                </a:solidFill>
                <a:latin typeface="Arial"/>
                <a:ea typeface="宋体"/>
              </a:endParaRPr>
            </a:p>
          </p:txBody>
        </p:sp>
        <p:sp>
          <p:nvSpPr>
            <p:cNvPr id="338" name="Freeform 25"/>
            <p:cNvSpPr/>
            <p:nvPr/>
          </p:nvSpPr>
          <p:spPr>
            <a:xfrm>
              <a:off x="1975680" y="9605520"/>
              <a:ext cx="46080" cy="59400"/>
            </a:xfrm>
            <a:custGeom>
              <a:avLst/>
              <a:gdLst>
                <a:gd name="textAreaLeft" fmla="*/ 0 w 46080"/>
                <a:gd name="textAreaRight" fmla="*/ 46440 w 46080"/>
                <a:gd name="textAreaTop" fmla="*/ 0 h 59400"/>
                <a:gd name="textAreaBottom" fmla="*/ 59760 h 59400"/>
              </a:gdLst>
              <a:ahLst/>
              <a:rect l="textAreaLeft" t="textAreaTop" r="textAreaRight" b="textAreaBottom"/>
              <a:pathLst>
                <a:path w="240" h="320">
                  <a:moveTo>
                    <a:pt x="0" y="320"/>
                  </a:moveTo>
                  <a:lnTo>
                    <a:pt x="0" y="281"/>
                  </a:lnTo>
                  <a:lnTo>
                    <a:pt x="156" y="75"/>
                  </a:lnTo>
                  <a:lnTo>
                    <a:pt x="164" y="65"/>
                  </a:lnTo>
                  <a:lnTo>
                    <a:pt x="171" y="55"/>
                  </a:lnTo>
                  <a:lnTo>
                    <a:pt x="180" y="46"/>
                  </a:lnTo>
                  <a:lnTo>
                    <a:pt x="187" y="37"/>
                  </a:lnTo>
                  <a:lnTo>
                    <a:pt x="17" y="37"/>
                  </a:lnTo>
                  <a:lnTo>
                    <a:pt x="17" y="0"/>
                  </a:lnTo>
                  <a:lnTo>
                    <a:pt x="235" y="0"/>
                  </a:lnTo>
                  <a:lnTo>
                    <a:pt x="235" y="37"/>
                  </a:lnTo>
                  <a:lnTo>
                    <a:pt x="64" y="260"/>
                  </a:lnTo>
                  <a:lnTo>
                    <a:pt x="46" y="282"/>
                  </a:lnTo>
                  <a:lnTo>
                    <a:pt x="240" y="282"/>
                  </a:lnTo>
                  <a:lnTo>
                    <a:pt x="240" y="320"/>
                  </a:lnTo>
                  <a:lnTo>
                    <a:pt x="0" y="320"/>
                  </a:lnTo>
                  <a:close/>
                </a:path>
              </a:pathLst>
            </a:custGeom>
            <a:solidFill>
              <a:schemeClr val="tx1"/>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339" name="Freeform 26"/>
            <p:cNvSpPr/>
            <p:nvPr/>
          </p:nvSpPr>
          <p:spPr>
            <a:xfrm>
              <a:off x="2035800" y="9605520"/>
              <a:ext cx="46080" cy="59400"/>
            </a:xfrm>
            <a:custGeom>
              <a:avLst/>
              <a:gdLst>
                <a:gd name="textAreaLeft" fmla="*/ 0 w 46080"/>
                <a:gd name="textAreaRight" fmla="*/ 46440 w 46080"/>
                <a:gd name="textAreaTop" fmla="*/ 0 h 59400"/>
                <a:gd name="textAreaBottom" fmla="*/ 59760 h 59400"/>
              </a:gdLst>
              <a:ahLst/>
              <a:rect l="textAreaLeft" t="textAreaTop" r="textAreaRight" b="textAreaBottom"/>
              <a:pathLst>
                <a:path w="239" h="320">
                  <a:moveTo>
                    <a:pt x="0" y="320"/>
                  </a:moveTo>
                  <a:lnTo>
                    <a:pt x="0" y="0"/>
                  </a:lnTo>
                  <a:lnTo>
                    <a:pt x="40" y="0"/>
                  </a:lnTo>
                  <a:lnTo>
                    <a:pt x="40" y="131"/>
                  </a:lnTo>
                  <a:lnTo>
                    <a:pt x="198" y="131"/>
                  </a:lnTo>
                  <a:lnTo>
                    <a:pt x="198" y="0"/>
                  </a:lnTo>
                  <a:lnTo>
                    <a:pt x="239" y="0"/>
                  </a:lnTo>
                  <a:lnTo>
                    <a:pt x="239" y="320"/>
                  </a:lnTo>
                  <a:lnTo>
                    <a:pt x="198" y="320"/>
                  </a:lnTo>
                  <a:lnTo>
                    <a:pt x="198" y="169"/>
                  </a:lnTo>
                  <a:lnTo>
                    <a:pt x="40" y="169"/>
                  </a:lnTo>
                  <a:lnTo>
                    <a:pt x="40" y="320"/>
                  </a:lnTo>
                  <a:lnTo>
                    <a:pt x="0" y="320"/>
                  </a:lnTo>
                  <a:close/>
                </a:path>
              </a:pathLst>
            </a:custGeom>
            <a:solidFill>
              <a:schemeClr val="tx1"/>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340" name="Freeform 27"/>
            <p:cNvSpPr/>
            <p:nvPr/>
          </p:nvSpPr>
          <p:spPr>
            <a:xfrm>
              <a:off x="2101680" y="9605520"/>
              <a:ext cx="46080" cy="59400"/>
            </a:xfrm>
            <a:custGeom>
              <a:avLst/>
              <a:gdLst>
                <a:gd name="textAreaLeft" fmla="*/ 0 w 46080"/>
                <a:gd name="textAreaRight" fmla="*/ 46440 w 46080"/>
                <a:gd name="textAreaTop" fmla="*/ 0 h 59400"/>
                <a:gd name="textAreaBottom" fmla="*/ 59760 h 59400"/>
              </a:gdLst>
              <a:ahLst/>
              <a:rect l="textAreaLeft" t="textAreaTop" r="textAreaRight" b="textAreaBottom"/>
              <a:pathLst>
                <a:path w="239" h="325">
                  <a:moveTo>
                    <a:pt x="199" y="0"/>
                  </a:moveTo>
                  <a:lnTo>
                    <a:pt x="239" y="0"/>
                  </a:lnTo>
                  <a:lnTo>
                    <a:pt x="239" y="184"/>
                  </a:lnTo>
                  <a:lnTo>
                    <a:pt x="238" y="208"/>
                  </a:lnTo>
                  <a:lnTo>
                    <a:pt x="236" y="228"/>
                  </a:lnTo>
                  <a:lnTo>
                    <a:pt x="233" y="246"/>
                  </a:lnTo>
                  <a:lnTo>
                    <a:pt x="229" y="261"/>
                  </a:lnTo>
                  <a:lnTo>
                    <a:pt x="225" y="268"/>
                  </a:lnTo>
                  <a:lnTo>
                    <a:pt x="222" y="275"/>
                  </a:lnTo>
                  <a:lnTo>
                    <a:pt x="218" y="281"/>
                  </a:lnTo>
                  <a:lnTo>
                    <a:pt x="214" y="287"/>
                  </a:lnTo>
                  <a:lnTo>
                    <a:pt x="208" y="293"/>
                  </a:lnTo>
                  <a:lnTo>
                    <a:pt x="203" y="298"/>
                  </a:lnTo>
                  <a:lnTo>
                    <a:pt x="198" y="303"/>
                  </a:lnTo>
                  <a:lnTo>
                    <a:pt x="192" y="307"/>
                  </a:lnTo>
                  <a:lnTo>
                    <a:pt x="184" y="312"/>
                  </a:lnTo>
                  <a:lnTo>
                    <a:pt x="177" y="315"/>
                  </a:lnTo>
                  <a:lnTo>
                    <a:pt x="168" y="318"/>
                  </a:lnTo>
                  <a:lnTo>
                    <a:pt x="160" y="321"/>
                  </a:lnTo>
                  <a:lnTo>
                    <a:pt x="150" y="322"/>
                  </a:lnTo>
                  <a:lnTo>
                    <a:pt x="141" y="324"/>
                  </a:lnTo>
                  <a:lnTo>
                    <a:pt x="130" y="324"/>
                  </a:lnTo>
                  <a:lnTo>
                    <a:pt x="120" y="325"/>
                  </a:lnTo>
                  <a:lnTo>
                    <a:pt x="109" y="325"/>
                  </a:lnTo>
                  <a:lnTo>
                    <a:pt x="99" y="324"/>
                  </a:lnTo>
                  <a:lnTo>
                    <a:pt x="90" y="323"/>
                  </a:lnTo>
                  <a:lnTo>
                    <a:pt x="81" y="321"/>
                  </a:lnTo>
                  <a:lnTo>
                    <a:pt x="73" y="319"/>
                  </a:lnTo>
                  <a:lnTo>
                    <a:pt x="64" y="317"/>
                  </a:lnTo>
                  <a:lnTo>
                    <a:pt x="57" y="314"/>
                  </a:lnTo>
                  <a:lnTo>
                    <a:pt x="50" y="309"/>
                  </a:lnTo>
                  <a:lnTo>
                    <a:pt x="43" y="305"/>
                  </a:lnTo>
                  <a:lnTo>
                    <a:pt x="37" y="301"/>
                  </a:lnTo>
                  <a:lnTo>
                    <a:pt x="32" y="296"/>
                  </a:lnTo>
                  <a:lnTo>
                    <a:pt x="26" y="290"/>
                  </a:lnTo>
                  <a:lnTo>
                    <a:pt x="22" y="285"/>
                  </a:lnTo>
                  <a:lnTo>
                    <a:pt x="18" y="279"/>
                  </a:lnTo>
                  <a:lnTo>
                    <a:pt x="14" y="272"/>
                  </a:lnTo>
                  <a:lnTo>
                    <a:pt x="11" y="265"/>
                  </a:lnTo>
                  <a:lnTo>
                    <a:pt x="6" y="249"/>
                  </a:lnTo>
                  <a:lnTo>
                    <a:pt x="2" y="230"/>
                  </a:lnTo>
                  <a:lnTo>
                    <a:pt x="0" y="209"/>
                  </a:lnTo>
                  <a:lnTo>
                    <a:pt x="0" y="184"/>
                  </a:lnTo>
                  <a:lnTo>
                    <a:pt x="0" y="0"/>
                  </a:lnTo>
                  <a:lnTo>
                    <a:pt x="40" y="0"/>
                  </a:lnTo>
                  <a:lnTo>
                    <a:pt x="40" y="184"/>
                  </a:lnTo>
                  <a:lnTo>
                    <a:pt x="40" y="204"/>
                  </a:lnTo>
                  <a:lnTo>
                    <a:pt x="41" y="220"/>
                  </a:lnTo>
                  <a:lnTo>
                    <a:pt x="43" y="234"/>
                  </a:lnTo>
                  <a:lnTo>
                    <a:pt x="47" y="246"/>
                  </a:lnTo>
                  <a:lnTo>
                    <a:pt x="52" y="255"/>
                  </a:lnTo>
                  <a:lnTo>
                    <a:pt x="57" y="263"/>
                  </a:lnTo>
                  <a:lnTo>
                    <a:pt x="64" y="270"/>
                  </a:lnTo>
                  <a:lnTo>
                    <a:pt x="72" y="277"/>
                  </a:lnTo>
                  <a:lnTo>
                    <a:pt x="81" y="281"/>
                  </a:lnTo>
                  <a:lnTo>
                    <a:pt x="92" y="284"/>
                  </a:lnTo>
                  <a:lnTo>
                    <a:pt x="104" y="286"/>
                  </a:lnTo>
                  <a:lnTo>
                    <a:pt x="116" y="287"/>
                  </a:lnTo>
                  <a:lnTo>
                    <a:pt x="127" y="286"/>
                  </a:lnTo>
                  <a:lnTo>
                    <a:pt x="136" y="286"/>
                  </a:lnTo>
                  <a:lnTo>
                    <a:pt x="146" y="284"/>
                  </a:lnTo>
                  <a:lnTo>
                    <a:pt x="154" y="282"/>
                  </a:lnTo>
                  <a:lnTo>
                    <a:pt x="162" y="279"/>
                  </a:lnTo>
                  <a:lnTo>
                    <a:pt x="168" y="276"/>
                  </a:lnTo>
                  <a:lnTo>
                    <a:pt x="175" y="270"/>
                  </a:lnTo>
                  <a:lnTo>
                    <a:pt x="180" y="266"/>
                  </a:lnTo>
                  <a:lnTo>
                    <a:pt x="184" y="260"/>
                  </a:lnTo>
                  <a:lnTo>
                    <a:pt x="188" y="252"/>
                  </a:lnTo>
                  <a:lnTo>
                    <a:pt x="192" y="245"/>
                  </a:lnTo>
                  <a:lnTo>
                    <a:pt x="194" y="235"/>
                  </a:lnTo>
                  <a:lnTo>
                    <a:pt x="196" y="224"/>
                  </a:lnTo>
                  <a:lnTo>
                    <a:pt x="198" y="212"/>
                  </a:lnTo>
                  <a:lnTo>
                    <a:pt x="198" y="199"/>
                  </a:lnTo>
                  <a:lnTo>
                    <a:pt x="199" y="184"/>
                  </a:lnTo>
                  <a:lnTo>
                    <a:pt x="199" y="0"/>
                  </a:lnTo>
                  <a:close/>
                </a:path>
              </a:pathLst>
            </a:custGeom>
            <a:solidFill>
              <a:schemeClr val="tx1"/>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341" name="Freeform 28"/>
            <p:cNvSpPr/>
            <p:nvPr/>
          </p:nvSpPr>
          <p:spPr>
            <a:xfrm>
              <a:off x="2165760" y="9605520"/>
              <a:ext cx="47520" cy="59400"/>
            </a:xfrm>
            <a:custGeom>
              <a:avLst/>
              <a:gdLst>
                <a:gd name="textAreaLeft" fmla="*/ 0 w 47520"/>
                <a:gd name="textAreaRight" fmla="*/ 47880 w 47520"/>
                <a:gd name="textAreaTop" fmla="*/ 0 h 59400"/>
                <a:gd name="textAreaBottom" fmla="*/ 59760 h 59400"/>
              </a:gdLst>
              <a:ahLst/>
              <a:rect l="textAreaLeft" t="textAreaTop" r="textAreaRight" b="textAreaBottom"/>
              <a:pathLst>
                <a:path w="239" h="320">
                  <a:moveTo>
                    <a:pt x="0" y="320"/>
                  </a:moveTo>
                  <a:lnTo>
                    <a:pt x="0" y="0"/>
                  </a:lnTo>
                  <a:lnTo>
                    <a:pt x="41" y="0"/>
                  </a:lnTo>
                  <a:lnTo>
                    <a:pt x="41" y="131"/>
                  </a:lnTo>
                  <a:lnTo>
                    <a:pt x="199" y="131"/>
                  </a:lnTo>
                  <a:lnTo>
                    <a:pt x="199" y="0"/>
                  </a:lnTo>
                  <a:lnTo>
                    <a:pt x="239" y="0"/>
                  </a:lnTo>
                  <a:lnTo>
                    <a:pt x="239" y="320"/>
                  </a:lnTo>
                  <a:lnTo>
                    <a:pt x="199" y="320"/>
                  </a:lnTo>
                  <a:lnTo>
                    <a:pt x="199" y="169"/>
                  </a:lnTo>
                  <a:lnTo>
                    <a:pt x="41" y="169"/>
                  </a:lnTo>
                  <a:lnTo>
                    <a:pt x="41" y="320"/>
                  </a:lnTo>
                  <a:lnTo>
                    <a:pt x="0" y="320"/>
                  </a:lnTo>
                  <a:close/>
                </a:path>
              </a:pathLst>
            </a:custGeom>
            <a:solidFill>
              <a:schemeClr val="tx1"/>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342" name="Freeform 29"/>
            <p:cNvSpPr/>
            <p:nvPr/>
          </p:nvSpPr>
          <p:spPr>
            <a:xfrm>
              <a:off x="2224800" y="9605520"/>
              <a:ext cx="55800" cy="59400"/>
            </a:xfrm>
            <a:custGeom>
              <a:avLst/>
              <a:gdLst>
                <a:gd name="textAreaLeft" fmla="*/ 0 w 55800"/>
                <a:gd name="textAreaRight" fmla="*/ 56160 w 55800"/>
                <a:gd name="textAreaTop" fmla="*/ 0 h 59400"/>
                <a:gd name="textAreaBottom" fmla="*/ 59760 h 59400"/>
              </a:gdLst>
              <a:ahLst/>
              <a:rect l="textAreaLeft" t="textAreaTop" r="textAreaRight" b="textAreaBottom"/>
              <a:pathLst>
                <a:path w="285" h="320">
                  <a:moveTo>
                    <a:pt x="0" y="320"/>
                  </a:moveTo>
                  <a:lnTo>
                    <a:pt x="118" y="0"/>
                  </a:lnTo>
                  <a:lnTo>
                    <a:pt x="161" y="0"/>
                  </a:lnTo>
                  <a:lnTo>
                    <a:pt x="285" y="320"/>
                  </a:lnTo>
                  <a:lnTo>
                    <a:pt x="239" y="320"/>
                  </a:lnTo>
                  <a:lnTo>
                    <a:pt x="205" y="223"/>
                  </a:lnTo>
                  <a:lnTo>
                    <a:pt x="76" y="223"/>
                  </a:lnTo>
                  <a:lnTo>
                    <a:pt x="44" y="320"/>
                  </a:lnTo>
                  <a:lnTo>
                    <a:pt x="0" y="320"/>
                  </a:lnTo>
                  <a:close/>
                  <a:moveTo>
                    <a:pt x="88" y="189"/>
                  </a:moveTo>
                  <a:lnTo>
                    <a:pt x="192" y="189"/>
                  </a:lnTo>
                  <a:lnTo>
                    <a:pt x="160" y="100"/>
                  </a:lnTo>
                  <a:lnTo>
                    <a:pt x="153" y="81"/>
                  </a:lnTo>
                  <a:lnTo>
                    <a:pt x="147" y="63"/>
                  </a:lnTo>
                  <a:lnTo>
                    <a:pt x="142" y="48"/>
                  </a:lnTo>
                  <a:lnTo>
                    <a:pt x="138" y="33"/>
                  </a:lnTo>
                  <a:lnTo>
                    <a:pt x="135" y="49"/>
                  </a:lnTo>
                  <a:lnTo>
                    <a:pt x="131" y="64"/>
                  </a:lnTo>
                  <a:lnTo>
                    <a:pt x="127" y="80"/>
                  </a:lnTo>
                  <a:lnTo>
                    <a:pt x="122" y="94"/>
                  </a:lnTo>
                  <a:lnTo>
                    <a:pt x="88" y="189"/>
                  </a:lnTo>
                  <a:close/>
                </a:path>
              </a:pathLst>
            </a:custGeom>
            <a:solidFill>
              <a:schemeClr val="tx1"/>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343" name="Rectangle 30"/>
            <p:cNvSpPr/>
            <p:nvPr/>
          </p:nvSpPr>
          <p:spPr>
            <a:xfrm>
              <a:off x="2293200" y="9605520"/>
              <a:ext cx="7920" cy="59400"/>
            </a:xfrm>
            <a:prstGeom prst="rect">
              <a:avLst/>
            </a:prstGeom>
            <a:solidFill>
              <a:schemeClr val="tx1"/>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344" name="Freeform 31"/>
            <p:cNvSpPr/>
            <p:nvPr/>
          </p:nvSpPr>
          <p:spPr>
            <a:xfrm>
              <a:off x="2354760" y="9604080"/>
              <a:ext cx="55800" cy="60480"/>
            </a:xfrm>
            <a:custGeom>
              <a:avLst/>
              <a:gdLst>
                <a:gd name="textAreaLeft" fmla="*/ 0 w 55800"/>
                <a:gd name="textAreaRight" fmla="*/ 56160 w 55800"/>
                <a:gd name="textAreaTop" fmla="*/ 0 h 60480"/>
                <a:gd name="textAreaBottom" fmla="*/ 60840 h 60480"/>
              </a:gdLst>
              <a:ahLst/>
              <a:rect l="textAreaLeft" t="textAreaTop" r="textAreaRight" b="textAreaBottom"/>
              <a:pathLst>
                <a:path w="282" h="330">
                  <a:moveTo>
                    <a:pt x="153" y="199"/>
                  </a:moveTo>
                  <a:lnTo>
                    <a:pt x="153" y="162"/>
                  </a:lnTo>
                  <a:lnTo>
                    <a:pt x="282" y="162"/>
                  </a:lnTo>
                  <a:lnTo>
                    <a:pt x="282" y="281"/>
                  </a:lnTo>
                  <a:lnTo>
                    <a:pt x="267" y="292"/>
                  </a:lnTo>
                  <a:lnTo>
                    <a:pt x="251" y="302"/>
                  </a:lnTo>
                  <a:lnTo>
                    <a:pt x="237" y="310"/>
                  </a:lnTo>
                  <a:lnTo>
                    <a:pt x="221" y="318"/>
                  </a:lnTo>
                  <a:lnTo>
                    <a:pt x="205" y="323"/>
                  </a:lnTo>
                  <a:lnTo>
                    <a:pt x="189" y="327"/>
                  </a:lnTo>
                  <a:lnTo>
                    <a:pt x="172" y="329"/>
                  </a:lnTo>
                  <a:lnTo>
                    <a:pt x="156" y="330"/>
                  </a:lnTo>
                  <a:lnTo>
                    <a:pt x="145" y="329"/>
                  </a:lnTo>
                  <a:lnTo>
                    <a:pt x="134" y="329"/>
                  </a:lnTo>
                  <a:lnTo>
                    <a:pt x="123" y="327"/>
                  </a:lnTo>
                  <a:lnTo>
                    <a:pt x="113" y="325"/>
                  </a:lnTo>
                  <a:lnTo>
                    <a:pt x="103" y="322"/>
                  </a:lnTo>
                  <a:lnTo>
                    <a:pt x="93" y="319"/>
                  </a:lnTo>
                  <a:lnTo>
                    <a:pt x="83" y="314"/>
                  </a:lnTo>
                  <a:lnTo>
                    <a:pt x="75" y="310"/>
                  </a:lnTo>
                  <a:lnTo>
                    <a:pt x="65" y="305"/>
                  </a:lnTo>
                  <a:lnTo>
                    <a:pt x="57" y="299"/>
                  </a:lnTo>
                  <a:lnTo>
                    <a:pt x="49" y="292"/>
                  </a:lnTo>
                  <a:lnTo>
                    <a:pt x="42" y="285"/>
                  </a:lnTo>
                  <a:lnTo>
                    <a:pt x="35" y="277"/>
                  </a:lnTo>
                  <a:lnTo>
                    <a:pt x="29" y="270"/>
                  </a:lnTo>
                  <a:lnTo>
                    <a:pt x="24" y="260"/>
                  </a:lnTo>
                  <a:lnTo>
                    <a:pt x="18" y="252"/>
                  </a:lnTo>
                  <a:lnTo>
                    <a:pt x="14" y="242"/>
                  </a:lnTo>
                  <a:lnTo>
                    <a:pt x="10" y="232"/>
                  </a:lnTo>
                  <a:lnTo>
                    <a:pt x="7" y="221"/>
                  </a:lnTo>
                  <a:lnTo>
                    <a:pt x="5" y="212"/>
                  </a:lnTo>
                  <a:lnTo>
                    <a:pt x="3" y="200"/>
                  </a:lnTo>
                  <a:lnTo>
                    <a:pt x="2" y="189"/>
                  </a:lnTo>
                  <a:lnTo>
                    <a:pt x="0" y="178"/>
                  </a:lnTo>
                  <a:lnTo>
                    <a:pt x="0" y="166"/>
                  </a:lnTo>
                  <a:lnTo>
                    <a:pt x="0" y="154"/>
                  </a:lnTo>
                  <a:lnTo>
                    <a:pt x="2" y="143"/>
                  </a:lnTo>
                  <a:lnTo>
                    <a:pt x="3" y="132"/>
                  </a:lnTo>
                  <a:lnTo>
                    <a:pt x="5" y="122"/>
                  </a:lnTo>
                  <a:lnTo>
                    <a:pt x="7" y="110"/>
                  </a:lnTo>
                  <a:lnTo>
                    <a:pt x="10" y="99"/>
                  </a:lnTo>
                  <a:lnTo>
                    <a:pt x="14" y="90"/>
                  </a:lnTo>
                  <a:lnTo>
                    <a:pt x="18" y="79"/>
                  </a:lnTo>
                  <a:lnTo>
                    <a:pt x="24" y="70"/>
                  </a:lnTo>
                  <a:lnTo>
                    <a:pt x="29" y="60"/>
                  </a:lnTo>
                  <a:lnTo>
                    <a:pt x="34" y="52"/>
                  </a:lnTo>
                  <a:lnTo>
                    <a:pt x="42" y="44"/>
                  </a:lnTo>
                  <a:lnTo>
                    <a:pt x="48" y="37"/>
                  </a:lnTo>
                  <a:lnTo>
                    <a:pt x="56" y="30"/>
                  </a:lnTo>
                  <a:lnTo>
                    <a:pt x="64" y="24"/>
                  </a:lnTo>
                  <a:lnTo>
                    <a:pt x="72" y="19"/>
                  </a:lnTo>
                  <a:lnTo>
                    <a:pt x="81" y="15"/>
                  </a:lnTo>
                  <a:lnTo>
                    <a:pt x="90" y="10"/>
                  </a:lnTo>
                  <a:lnTo>
                    <a:pt x="100" y="7"/>
                  </a:lnTo>
                  <a:lnTo>
                    <a:pt x="110" y="4"/>
                  </a:lnTo>
                  <a:lnTo>
                    <a:pt x="120" y="2"/>
                  </a:lnTo>
                  <a:lnTo>
                    <a:pt x="131" y="1"/>
                  </a:lnTo>
                  <a:lnTo>
                    <a:pt x="141" y="0"/>
                  </a:lnTo>
                  <a:lnTo>
                    <a:pt x="153" y="0"/>
                  </a:lnTo>
                  <a:lnTo>
                    <a:pt x="169" y="0"/>
                  </a:lnTo>
                  <a:lnTo>
                    <a:pt x="184" y="2"/>
                  </a:lnTo>
                  <a:lnTo>
                    <a:pt x="199" y="6"/>
                  </a:lnTo>
                  <a:lnTo>
                    <a:pt x="212" y="10"/>
                  </a:lnTo>
                  <a:lnTo>
                    <a:pt x="225" y="17"/>
                  </a:lnTo>
                  <a:lnTo>
                    <a:pt x="237" y="24"/>
                  </a:lnTo>
                  <a:lnTo>
                    <a:pt x="246" y="33"/>
                  </a:lnTo>
                  <a:lnTo>
                    <a:pt x="255" y="42"/>
                  </a:lnTo>
                  <a:lnTo>
                    <a:pt x="261" y="53"/>
                  </a:lnTo>
                  <a:lnTo>
                    <a:pt x="267" y="65"/>
                  </a:lnTo>
                  <a:lnTo>
                    <a:pt x="273" y="79"/>
                  </a:lnTo>
                  <a:lnTo>
                    <a:pt x="277" y="94"/>
                  </a:lnTo>
                  <a:lnTo>
                    <a:pt x="241" y="105"/>
                  </a:lnTo>
                  <a:lnTo>
                    <a:pt x="238" y="93"/>
                  </a:lnTo>
                  <a:lnTo>
                    <a:pt x="233" y="82"/>
                  </a:lnTo>
                  <a:lnTo>
                    <a:pt x="229" y="74"/>
                  </a:lnTo>
                  <a:lnTo>
                    <a:pt x="224" y="67"/>
                  </a:lnTo>
                  <a:lnTo>
                    <a:pt x="219" y="60"/>
                  </a:lnTo>
                  <a:lnTo>
                    <a:pt x="211" y="54"/>
                  </a:lnTo>
                  <a:lnTo>
                    <a:pt x="204" y="48"/>
                  </a:lnTo>
                  <a:lnTo>
                    <a:pt x="194" y="44"/>
                  </a:lnTo>
                  <a:lnTo>
                    <a:pt x="185" y="40"/>
                  </a:lnTo>
                  <a:lnTo>
                    <a:pt x="175" y="38"/>
                  </a:lnTo>
                  <a:lnTo>
                    <a:pt x="164" y="36"/>
                  </a:lnTo>
                  <a:lnTo>
                    <a:pt x="153" y="36"/>
                  </a:lnTo>
                  <a:lnTo>
                    <a:pt x="139" y="36"/>
                  </a:lnTo>
                  <a:lnTo>
                    <a:pt x="126" y="38"/>
                  </a:lnTo>
                  <a:lnTo>
                    <a:pt x="116" y="41"/>
                  </a:lnTo>
                  <a:lnTo>
                    <a:pt x="105" y="44"/>
                  </a:lnTo>
                  <a:lnTo>
                    <a:pt x="96" y="50"/>
                  </a:lnTo>
                  <a:lnTo>
                    <a:pt x="86" y="55"/>
                  </a:lnTo>
                  <a:lnTo>
                    <a:pt x="79" y="61"/>
                  </a:lnTo>
                  <a:lnTo>
                    <a:pt x="72" y="68"/>
                  </a:lnTo>
                  <a:lnTo>
                    <a:pt x="66" y="75"/>
                  </a:lnTo>
                  <a:lnTo>
                    <a:pt x="62" y="82"/>
                  </a:lnTo>
                  <a:lnTo>
                    <a:pt x="57" y="91"/>
                  </a:lnTo>
                  <a:lnTo>
                    <a:pt x="53" y="99"/>
                  </a:lnTo>
                  <a:lnTo>
                    <a:pt x="48" y="114"/>
                  </a:lnTo>
                  <a:lnTo>
                    <a:pt x="45" y="130"/>
                  </a:lnTo>
                  <a:lnTo>
                    <a:pt x="43" y="147"/>
                  </a:lnTo>
                  <a:lnTo>
                    <a:pt x="42" y="164"/>
                  </a:lnTo>
                  <a:lnTo>
                    <a:pt x="43" y="184"/>
                  </a:lnTo>
                  <a:lnTo>
                    <a:pt x="45" y="203"/>
                  </a:lnTo>
                  <a:lnTo>
                    <a:pt x="47" y="212"/>
                  </a:lnTo>
                  <a:lnTo>
                    <a:pt x="49" y="220"/>
                  </a:lnTo>
                  <a:lnTo>
                    <a:pt x="52" y="228"/>
                  </a:lnTo>
                  <a:lnTo>
                    <a:pt x="56" y="235"/>
                  </a:lnTo>
                  <a:lnTo>
                    <a:pt x="60" y="242"/>
                  </a:lnTo>
                  <a:lnTo>
                    <a:pt x="63" y="249"/>
                  </a:lnTo>
                  <a:lnTo>
                    <a:pt x="68" y="255"/>
                  </a:lnTo>
                  <a:lnTo>
                    <a:pt x="72" y="260"/>
                  </a:lnTo>
                  <a:lnTo>
                    <a:pt x="78" y="266"/>
                  </a:lnTo>
                  <a:lnTo>
                    <a:pt x="84" y="270"/>
                  </a:lnTo>
                  <a:lnTo>
                    <a:pt x="90" y="274"/>
                  </a:lnTo>
                  <a:lnTo>
                    <a:pt x="97" y="278"/>
                  </a:lnTo>
                  <a:lnTo>
                    <a:pt x="110" y="284"/>
                  </a:lnTo>
                  <a:lnTo>
                    <a:pt x="124" y="288"/>
                  </a:lnTo>
                  <a:lnTo>
                    <a:pt x="138" y="291"/>
                  </a:lnTo>
                  <a:lnTo>
                    <a:pt x="153" y="292"/>
                  </a:lnTo>
                  <a:lnTo>
                    <a:pt x="167" y="291"/>
                  </a:lnTo>
                  <a:lnTo>
                    <a:pt x="179" y="289"/>
                  </a:lnTo>
                  <a:lnTo>
                    <a:pt x="192" y="286"/>
                  </a:lnTo>
                  <a:lnTo>
                    <a:pt x="205" y="282"/>
                  </a:lnTo>
                  <a:lnTo>
                    <a:pt x="217" y="276"/>
                  </a:lnTo>
                  <a:lnTo>
                    <a:pt x="226" y="270"/>
                  </a:lnTo>
                  <a:lnTo>
                    <a:pt x="236" y="265"/>
                  </a:lnTo>
                  <a:lnTo>
                    <a:pt x="242" y="258"/>
                  </a:lnTo>
                  <a:lnTo>
                    <a:pt x="242" y="199"/>
                  </a:lnTo>
                  <a:lnTo>
                    <a:pt x="153" y="199"/>
                  </a:lnTo>
                  <a:close/>
                </a:path>
              </a:pathLst>
            </a:custGeom>
            <a:solidFill>
              <a:schemeClr val="tx1"/>
            </a:solidFill>
            <a:ln w="0">
              <a:noFill/>
            </a:ln>
          </p:spPr>
          <p:style>
            <a:lnRef idx="0"/>
            <a:fillRef idx="0"/>
            <a:effectRef idx="0"/>
            <a:fontRef idx="minor"/>
          </p:style>
          <p:txBody>
            <a:bodyPr lIns="90000" rIns="90000" tIns="15840" bIns="15840" anchor="t">
              <a:noAutofit/>
            </a:bodyPr>
            <a:p>
              <a:pPr>
                <a:lnSpc>
                  <a:spcPct val="100000"/>
                </a:lnSpc>
              </a:pPr>
              <a:endParaRPr b="0" lang="en-US" sz="1800" spc="-1" strike="noStrike">
                <a:solidFill>
                  <a:srgbClr val="d79f00"/>
                </a:solidFill>
                <a:latin typeface="Arial"/>
                <a:ea typeface="宋体"/>
              </a:endParaRPr>
            </a:p>
          </p:txBody>
        </p:sp>
        <p:sp>
          <p:nvSpPr>
            <p:cNvPr id="345" name="Freeform 32"/>
            <p:cNvSpPr/>
            <p:nvPr/>
          </p:nvSpPr>
          <p:spPr>
            <a:xfrm>
              <a:off x="2424600" y="9604080"/>
              <a:ext cx="57240" cy="60480"/>
            </a:xfrm>
            <a:custGeom>
              <a:avLst/>
              <a:gdLst>
                <a:gd name="textAreaLeft" fmla="*/ 0 w 57240"/>
                <a:gd name="textAreaRight" fmla="*/ 57600 w 57240"/>
                <a:gd name="textAreaTop" fmla="*/ 0 h 60480"/>
                <a:gd name="textAreaBottom" fmla="*/ 60840 h 60480"/>
              </a:gdLst>
              <a:ahLst/>
              <a:rect l="textAreaLeft" t="textAreaTop" r="textAreaRight" b="textAreaBottom"/>
              <a:pathLst>
                <a:path w="293" h="331">
                  <a:moveTo>
                    <a:pt x="0" y="170"/>
                  </a:moveTo>
                  <a:lnTo>
                    <a:pt x="1" y="150"/>
                  </a:lnTo>
                  <a:lnTo>
                    <a:pt x="3" y="132"/>
                  </a:lnTo>
                  <a:lnTo>
                    <a:pt x="7" y="115"/>
                  </a:lnTo>
                  <a:lnTo>
                    <a:pt x="11" y="99"/>
                  </a:lnTo>
                  <a:lnTo>
                    <a:pt x="16" y="83"/>
                  </a:lnTo>
                  <a:lnTo>
                    <a:pt x="24" y="70"/>
                  </a:lnTo>
                  <a:lnTo>
                    <a:pt x="32" y="57"/>
                  </a:lnTo>
                  <a:lnTo>
                    <a:pt x="42" y="45"/>
                  </a:lnTo>
                  <a:lnTo>
                    <a:pt x="52" y="35"/>
                  </a:lnTo>
                  <a:lnTo>
                    <a:pt x="64" y="25"/>
                  </a:lnTo>
                  <a:lnTo>
                    <a:pt x="75" y="18"/>
                  </a:lnTo>
                  <a:lnTo>
                    <a:pt x="88" y="11"/>
                  </a:lnTo>
                  <a:lnTo>
                    <a:pt x="102" y="6"/>
                  </a:lnTo>
                  <a:lnTo>
                    <a:pt x="116" y="3"/>
                  </a:lnTo>
                  <a:lnTo>
                    <a:pt x="131" y="1"/>
                  </a:lnTo>
                  <a:lnTo>
                    <a:pt x="146" y="0"/>
                  </a:lnTo>
                  <a:lnTo>
                    <a:pt x="157" y="1"/>
                  </a:lnTo>
                  <a:lnTo>
                    <a:pt x="168" y="2"/>
                  </a:lnTo>
                  <a:lnTo>
                    <a:pt x="177" y="3"/>
                  </a:lnTo>
                  <a:lnTo>
                    <a:pt x="187" y="5"/>
                  </a:lnTo>
                  <a:lnTo>
                    <a:pt x="196" y="8"/>
                  </a:lnTo>
                  <a:lnTo>
                    <a:pt x="206" y="12"/>
                  </a:lnTo>
                  <a:lnTo>
                    <a:pt x="214" y="17"/>
                  </a:lnTo>
                  <a:lnTo>
                    <a:pt x="223" y="21"/>
                  </a:lnTo>
                  <a:lnTo>
                    <a:pt x="231" y="27"/>
                  </a:lnTo>
                  <a:lnTo>
                    <a:pt x="239" y="33"/>
                  </a:lnTo>
                  <a:lnTo>
                    <a:pt x="246" y="40"/>
                  </a:lnTo>
                  <a:lnTo>
                    <a:pt x="252" y="46"/>
                  </a:lnTo>
                  <a:lnTo>
                    <a:pt x="259" y="55"/>
                  </a:lnTo>
                  <a:lnTo>
                    <a:pt x="264" y="62"/>
                  </a:lnTo>
                  <a:lnTo>
                    <a:pt x="269" y="71"/>
                  </a:lnTo>
                  <a:lnTo>
                    <a:pt x="275" y="80"/>
                  </a:lnTo>
                  <a:lnTo>
                    <a:pt x="279" y="90"/>
                  </a:lnTo>
                  <a:lnTo>
                    <a:pt x="282" y="100"/>
                  </a:lnTo>
                  <a:lnTo>
                    <a:pt x="285" y="110"/>
                  </a:lnTo>
                  <a:lnTo>
                    <a:pt x="287" y="120"/>
                  </a:lnTo>
                  <a:lnTo>
                    <a:pt x="289" y="131"/>
                  </a:lnTo>
                  <a:lnTo>
                    <a:pt x="290" y="143"/>
                  </a:lnTo>
                  <a:lnTo>
                    <a:pt x="292" y="154"/>
                  </a:lnTo>
                  <a:lnTo>
                    <a:pt x="293" y="166"/>
                  </a:lnTo>
                  <a:lnTo>
                    <a:pt x="292" y="178"/>
                  </a:lnTo>
                  <a:lnTo>
                    <a:pt x="290" y="189"/>
                  </a:lnTo>
                  <a:lnTo>
                    <a:pt x="289" y="201"/>
                  </a:lnTo>
                  <a:lnTo>
                    <a:pt x="287" y="213"/>
                  </a:lnTo>
                  <a:lnTo>
                    <a:pt x="285" y="223"/>
                  </a:lnTo>
                  <a:lnTo>
                    <a:pt x="282" y="234"/>
                  </a:lnTo>
                  <a:lnTo>
                    <a:pt x="278" y="243"/>
                  </a:lnTo>
                  <a:lnTo>
                    <a:pt x="273" y="253"/>
                  </a:lnTo>
                  <a:lnTo>
                    <a:pt x="268" y="262"/>
                  </a:lnTo>
                  <a:lnTo>
                    <a:pt x="263" y="271"/>
                  </a:lnTo>
                  <a:lnTo>
                    <a:pt x="258" y="279"/>
                  </a:lnTo>
                  <a:lnTo>
                    <a:pt x="251" y="287"/>
                  </a:lnTo>
                  <a:lnTo>
                    <a:pt x="244" y="294"/>
                  </a:lnTo>
                  <a:lnTo>
                    <a:pt x="236" y="301"/>
                  </a:lnTo>
                  <a:lnTo>
                    <a:pt x="229" y="306"/>
                  </a:lnTo>
                  <a:lnTo>
                    <a:pt x="221" y="311"/>
                  </a:lnTo>
                  <a:lnTo>
                    <a:pt x="212" y="315"/>
                  </a:lnTo>
                  <a:lnTo>
                    <a:pt x="203" y="320"/>
                  </a:lnTo>
                  <a:lnTo>
                    <a:pt x="194" y="323"/>
                  </a:lnTo>
                  <a:lnTo>
                    <a:pt x="185" y="326"/>
                  </a:lnTo>
                  <a:lnTo>
                    <a:pt x="175" y="328"/>
                  </a:lnTo>
                  <a:lnTo>
                    <a:pt x="165" y="330"/>
                  </a:lnTo>
                  <a:lnTo>
                    <a:pt x="156" y="330"/>
                  </a:lnTo>
                  <a:lnTo>
                    <a:pt x="146" y="331"/>
                  </a:lnTo>
                  <a:lnTo>
                    <a:pt x="136" y="330"/>
                  </a:lnTo>
                  <a:lnTo>
                    <a:pt x="125" y="329"/>
                  </a:lnTo>
                  <a:lnTo>
                    <a:pt x="116" y="328"/>
                  </a:lnTo>
                  <a:lnTo>
                    <a:pt x="106" y="326"/>
                  </a:lnTo>
                  <a:lnTo>
                    <a:pt x="97" y="323"/>
                  </a:lnTo>
                  <a:lnTo>
                    <a:pt x="87" y="319"/>
                  </a:lnTo>
                  <a:lnTo>
                    <a:pt x="79" y="314"/>
                  </a:lnTo>
                  <a:lnTo>
                    <a:pt x="69" y="309"/>
                  </a:lnTo>
                  <a:lnTo>
                    <a:pt x="62" y="304"/>
                  </a:lnTo>
                  <a:lnTo>
                    <a:pt x="53" y="297"/>
                  </a:lnTo>
                  <a:lnTo>
                    <a:pt x="47" y="291"/>
                  </a:lnTo>
                  <a:lnTo>
                    <a:pt x="39" y="284"/>
                  </a:lnTo>
                  <a:lnTo>
                    <a:pt x="33" y="276"/>
                  </a:lnTo>
                  <a:lnTo>
                    <a:pt x="28" y="268"/>
                  </a:lnTo>
                  <a:lnTo>
                    <a:pt x="22" y="259"/>
                  </a:lnTo>
                  <a:lnTo>
                    <a:pt x="18" y="250"/>
                  </a:lnTo>
                  <a:lnTo>
                    <a:pt x="14" y="240"/>
                  </a:lnTo>
                  <a:lnTo>
                    <a:pt x="11" y="231"/>
                  </a:lnTo>
                  <a:lnTo>
                    <a:pt x="8" y="221"/>
                  </a:lnTo>
                  <a:lnTo>
                    <a:pt x="6" y="211"/>
                  </a:lnTo>
                  <a:lnTo>
                    <a:pt x="3" y="201"/>
                  </a:lnTo>
                  <a:lnTo>
                    <a:pt x="1" y="190"/>
                  </a:lnTo>
                  <a:lnTo>
                    <a:pt x="1" y="180"/>
                  </a:lnTo>
                  <a:lnTo>
                    <a:pt x="0" y="170"/>
                  </a:lnTo>
                  <a:close/>
                  <a:moveTo>
                    <a:pt x="43" y="170"/>
                  </a:moveTo>
                  <a:lnTo>
                    <a:pt x="43" y="185"/>
                  </a:lnTo>
                  <a:lnTo>
                    <a:pt x="44" y="198"/>
                  </a:lnTo>
                  <a:lnTo>
                    <a:pt x="47" y="211"/>
                  </a:lnTo>
                  <a:lnTo>
                    <a:pt x="50" y="222"/>
                  </a:lnTo>
                  <a:lnTo>
                    <a:pt x="54" y="233"/>
                  </a:lnTo>
                  <a:lnTo>
                    <a:pt x="58" y="243"/>
                  </a:lnTo>
                  <a:lnTo>
                    <a:pt x="65" y="253"/>
                  </a:lnTo>
                  <a:lnTo>
                    <a:pt x="72" y="261"/>
                  </a:lnTo>
                  <a:lnTo>
                    <a:pt x="80" y="270"/>
                  </a:lnTo>
                  <a:lnTo>
                    <a:pt x="88" y="276"/>
                  </a:lnTo>
                  <a:lnTo>
                    <a:pt x="97" y="282"/>
                  </a:lnTo>
                  <a:lnTo>
                    <a:pt x="105" y="287"/>
                  </a:lnTo>
                  <a:lnTo>
                    <a:pt x="115" y="290"/>
                  </a:lnTo>
                  <a:lnTo>
                    <a:pt x="125" y="293"/>
                  </a:lnTo>
                  <a:lnTo>
                    <a:pt x="135" y="294"/>
                  </a:lnTo>
                  <a:lnTo>
                    <a:pt x="146" y="295"/>
                  </a:lnTo>
                  <a:lnTo>
                    <a:pt x="157" y="294"/>
                  </a:lnTo>
                  <a:lnTo>
                    <a:pt x="168" y="293"/>
                  </a:lnTo>
                  <a:lnTo>
                    <a:pt x="178" y="290"/>
                  </a:lnTo>
                  <a:lnTo>
                    <a:pt x="188" y="287"/>
                  </a:lnTo>
                  <a:lnTo>
                    <a:pt x="197" y="282"/>
                  </a:lnTo>
                  <a:lnTo>
                    <a:pt x="206" y="276"/>
                  </a:lnTo>
                  <a:lnTo>
                    <a:pt x="213" y="269"/>
                  </a:lnTo>
                  <a:lnTo>
                    <a:pt x="222" y="261"/>
                  </a:lnTo>
                  <a:lnTo>
                    <a:pt x="228" y="253"/>
                  </a:lnTo>
                  <a:lnTo>
                    <a:pt x="234" y="242"/>
                  </a:lnTo>
                  <a:lnTo>
                    <a:pt x="239" y="232"/>
                  </a:lnTo>
                  <a:lnTo>
                    <a:pt x="243" y="221"/>
                  </a:lnTo>
                  <a:lnTo>
                    <a:pt x="246" y="208"/>
                  </a:lnTo>
                  <a:lnTo>
                    <a:pt x="249" y="195"/>
                  </a:lnTo>
                  <a:lnTo>
                    <a:pt x="250" y="181"/>
                  </a:lnTo>
                  <a:lnTo>
                    <a:pt x="250" y="166"/>
                  </a:lnTo>
                  <a:lnTo>
                    <a:pt x="250" y="147"/>
                  </a:lnTo>
                  <a:lnTo>
                    <a:pt x="247" y="129"/>
                  </a:lnTo>
                  <a:lnTo>
                    <a:pt x="244" y="113"/>
                  </a:lnTo>
                  <a:lnTo>
                    <a:pt x="237" y="98"/>
                  </a:lnTo>
                  <a:lnTo>
                    <a:pt x="231" y="84"/>
                  </a:lnTo>
                  <a:lnTo>
                    <a:pt x="223" y="72"/>
                  </a:lnTo>
                  <a:lnTo>
                    <a:pt x="217" y="66"/>
                  </a:lnTo>
                  <a:lnTo>
                    <a:pt x="212" y="61"/>
                  </a:lnTo>
                  <a:lnTo>
                    <a:pt x="207" y="57"/>
                  </a:lnTo>
                  <a:lnTo>
                    <a:pt x="201" y="53"/>
                  </a:lnTo>
                  <a:lnTo>
                    <a:pt x="189" y="45"/>
                  </a:lnTo>
                  <a:lnTo>
                    <a:pt x="175" y="41"/>
                  </a:lnTo>
                  <a:lnTo>
                    <a:pt x="161" y="38"/>
                  </a:lnTo>
                  <a:lnTo>
                    <a:pt x="146" y="37"/>
                  </a:lnTo>
                  <a:lnTo>
                    <a:pt x="136" y="37"/>
                  </a:lnTo>
                  <a:lnTo>
                    <a:pt x="126" y="39"/>
                  </a:lnTo>
                  <a:lnTo>
                    <a:pt x="117" y="41"/>
                  </a:lnTo>
                  <a:lnTo>
                    <a:pt x="107" y="44"/>
                  </a:lnTo>
                  <a:lnTo>
                    <a:pt x="98" y="48"/>
                  </a:lnTo>
                  <a:lnTo>
                    <a:pt x="89" y="54"/>
                  </a:lnTo>
                  <a:lnTo>
                    <a:pt x="81" y="60"/>
                  </a:lnTo>
                  <a:lnTo>
                    <a:pt x="73" y="68"/>
                  </a:lnTo>
                  <a:lnTo>
                    <a:pt x="66" y="76"/>
                  </a:lnTo>
                  <a:lnTo>
                    <a:pt x="60" y="86"/>
                  </a:lnTo>
                  <a:lnTo>
                    <a:pt x="54" y="96"/>
                  </a:lnTo>
                  <a:lnTo>
                    <a:pt x="50" y="109"/>
                  </a:lnTo>
                  <a:lnTo>
                    <a:pt x="47" y="123"/>
                  </a:lnTo>
                  <a:lnTo>
                    <a:pt x="45" y="137"/>
                  </a:lnTo>
                  <a:lnTo>
                    <a:pt x="43" y="153"/>
                  </a:lnTo>
                  <a:lnTo>
                    <a:pt x="43" y="170"/>
                  </a:lnTo>
                  <a:close/>
                </a:path>
              </a:pathLst>
            </a:custGeom>
            <a:solidFill>
              <a:schemeClr val="tx1"/>
            </a:solidFill>
            <a:ln w="0">
              <a:noFill/>
            </a:ln>
          </p:spPr>
          <p:style>
            <a:lnRef idx="0"/>
            <a:fillRef idx="0"/>
            <a:effectRef idx="0"/>
            <a:fontRef idx="minor"/>
          </p:style>
          <p:txBody>
            <a:bodyPr lIns="90000" rIns="90000" tIns="15840" bIns="15840" anchor="t">
              <a:noAutofit/>
            </a:bodyPr>
            <a:p>
              <a:pPr>
                <a:lnSpc>
                  <a:spcPct val="100000"/>
                </a:lnSpc>
              </a:pPr>
              <a:endParaRPr b="0" lang="en-US" sz="1800" spc="-1" strike="noStrike">
                <a:solidFill>
                  <a:srgbClr val="d79f00"/>
                </a:solidFill>
                <a:latin typeface="Arial"/>
                <a:ea typeface="宋体"/>
              </a:endParaRPr>
            </a:p>
          </p:txBody>
        </p:sp>
        <p:sp>
          <p:nvSpPr>
            <p:cNvPr id="346" name="Freeform 33"/>
            <p:cNvSpPr/>
            <p:nvPr/>
          </p:nvSpPr>
          <p:spPr>
            <a:xfrm>
              <a:off x="2497320" y="9605520"/>
              <a:ext cx="36720" cy="59400"/>
            </a:xfrm>
            <a:custGeom>
              <a:avLst/>
              <a:gdLst>
                <a:gd name="textAreaLeft" fmla="*/ 0 w 36720"/>
                <a:gd name="textAreaRight" fmla="*/ 37080 w 36720"/>
                <a:gd name="textAreaTop" fmla="*/ 0 h 59400"/>
                <a:gd name="textAreaBottom" fmla="*/ 59760 h 59400"/>
              </a:gdLst>
              <a:ahLst/>
              <a:rect l="textAreaLeft" t="textAreaTop" r="textAreaRight" b="textAreaBottom"/>
              <a:pathLst>
                <a:path w="190" h="320">
                  <a:moveTo>
                    <a:pt x="0" y="320"/>
                  </a:moveTo>
                  <a:lnTo>
                    <a:pt x="0" y="0"/>
                  </a:lnTo>
                  <a:lnTo>
                    <a:pt x="40" y="0"/>
                  </a:lnTo>
                  <a:lnTo>
                    <a:pt x="40" y="282"/>
                  </a:lnTo>
                  <a:lnTo>
                    <a:pt x="190" y="282"/>
                  </a:lnTo>
                  <a:lnTo>
                    <a:pt x="190" y="320"/>
                  </a:lnTo>
                  <a:lnTo>
                    <a:pt x="0" y="320"/>
                  </a:lnTo>
                  <a:close/>
                </a:path>
              </a:pathLst>
            </a:custGeom>
            <a:solidFill>
              <a:schemeClr val="tx1"/>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347" name="Freeform 34"/>
            <p:cNvSpPr/>
            <p:nvPr/>
          </p:nvSpPr>
          <p:spPr>
            <a:xfrm>
              <a:off x="2548080" y="9605520"/>
              <a:ext cx="48960" cy="59400"/>
            </a:xfrm>
            <a:custGeom>
              <a:avLst/>
              <a:gdLst>
                <a:gd name="textAreaLeft" fmla="*/ 0 w 48960"/>
                <a:gd name="textAreaRight" fmla="*/ 49320 w 48960"/>
                <a:gd name="textAreaTop" fmla="*/ 0 h 59400"/>
                <a:gd name="textAreaBottom" fmla="*/ 59760 h 59400"/>
              </a:gdLst>
              <a:ahLst/>
              <a:rect l="textAreaLeft" t="textAreaTop" r="textAreaRight" b="textAreaBottom"/>
              <a:pathLst>
                <a:path w="251" h="320">
                  <a:moveTo>
                    <a:pt x="0" y="320"/>
                  </a:moveTo>
                  <a:lnTo>
                    <a:pt x="0" y="0"/>
                  </a:lnTo>
                  <a:lnTo>
                    <a:pt x="104" y="0"/>
                  </a:lnTo>
                  <a:lnTo>
                    <a:pt x="120" y="0"/>
                  </a:lnTo>
                  <a:lnTo>
                    <a:pt x="135" y="1"/>
                  </a:lnTo>
                  <a:lnTo>
                    <a:pt x="148" y="2"/>
                  </a:lnTo>
                  <a:lnTo>
                    <a:pt x="158" y="4"/>
                  </a:lnTo>
                  <a:lnTo>
                    <a:pt x="171" y="9"/>
                  </a:lnTo>
                  <a:lnTo>
                    <a:pt x="183" y="14"/>
                  </a:lnTo>
                  <a:lnTo>
                    <a:pt x="193" y="20"/>
                  </a:lnTo>
                  <a:lnTo>
                    <a:pt x="203" y="28"/>
                  </a:lnTo>
                  <a:lnTo>
                    <a:pt x="215" y="39"/>
                  </a:lnTo>
                  <a:lnTo>
                    <a:pt x="224" y="52"/>
                  </a:lnTo>
                  <a:lnTo>
                    <a:pt x="233" y="66"/>
                  </a:lnTo>
                  <a:lnTo>
                    <a:pt x="239" y="82"/>
                  </a:lnTo>
                  <a:lnTo>
                    <a:pt x="244" y="100"/>
                  </a:lnTo>
                  <a:lnTo>
                    <a:pt x="248" y="118"/>
                  </a:lnTo>
                  <a:lnTo>
                    <a:pt x="251" y="137"/>
                  </a:lnTo>
                  <a:lnTo>
                    <a:pt x="251" y="158"/>
                  </a:lnTo>
                  <a:lnTo>
                    <a:pt x="251" y="176"/>
                  </a:lnTo>
                  <a:lnTo>
                    <a:pt x="250" y="192"/>
                  </a:lnTo>
                  <a:lnTo>
                    <a:pt x="246" y="208"/>
                  </a:lnTo>
                  <a:lnTo>
                    <a:pt x="243" y="223"/>
                  </a:lnTo>
                  <a:lnTo>
                    <a:pt x="239" y="236"/>
                  </a:lnTo>
                  <a:lnTo>
                    <a:pt x="234" y="248"/>
                  </a:lnTo>
                  <a:lnTo>
                    <a:pt x="228" y="260"/>
                  </a:lnTo>
                  <a:lnTo>
                    <a:pt x="222" y="269"/>
                  </a:lnTo>
                  <a:lnTo>
                    <a:pt x="216" y="278"/>
                  </a:lnTo>
                  <a:lnTo>
                    <a:pt x="209" y="286"/>
                  </a:lnTo>
                  <a:lnTo>
                    <a:pt x="202" y="293"/>
                  </a:lnTo>
                  <a:lnTo>
                    <a:pt x="194" y="298"/>
                  </a:lnTo>
                  <a:lnTo>
                    <a:pt x="186" y="303"/>
                  </a:lnTo>
                  <a:lnTo>
                    <a:pt x="178" y="307"/>
                  </a:lnTo>
                  <a:lnTo>
                    <a:pt x="168" y="312"/>
                  </a:lnTo>
                  <a:lnTo>
                    <a:pt x="158" y="314"/>
                  </a:lnTo>
                  <a:lnTo>
                    <a:pt x="147" y="317"/>
                  </a:lnTo>
                  <a:lnTo>
                    <a:pt x="135" y="318"/>
                  </a:lnTo>
                  <a:lnTo>
                    <a:pt x="122" y="319"/>
                  </a:lnTo>
                  <a:lnTo>
                    <a:pt x="109" y="320"/>
                  </a:lnTo>
                  <a:lnTo>
                    <a:pt x="0" y="320"/>
                  </a:lnTo>
                  <a:close/>
                  <a:moveTo>
                    <a:pt x="40" y="282"/>
                  </a:moveTo>
                  <a:lnTo>
                    <a:pt x="104" y="282"/>
                  </a:lnTo>
                  <a:lnTo>
                    <a:pt x="119" y="282"/>
                  </a:lnTo>
                  <a:lnTo>
                    <a:pt x="131" y="281"/>
                  </a:lnTo>
                  <a:lnTo>
                    <a:pt x="143" y="279"/>
                  </a:lnTo>
                  <a:lnTo>
                    <a:pt x="152" y="276"/>
                  </a:lnTo>
                  <a:lnTo>
                    <a:pt x="159" y="272"/>
                  </a:lnTo>
                  <a:lnTo>
                    <a:pt x="167" y="269"/>
                  </a:lnTo>
                  <a:lnTo>
                    <a:pt x="173" y="265"/>
                  </a:lnTo>
                  <a:lnTo>
                    <a:pt x="180" y="260"/>
                  </a:lnTo>
                  <a:lnTo>
                    <a:pt x="186" y="251"/>
                  </a:lnTo>
                  <a:lnTo>
                    <a:pt x="192" y="242"/>
                  </a:lnTo>
                  <a:lnTo>
                    <a:pt x="198" y="231"/>
                  </a:lnTo>
                  <a:lnTo>
                    <a:pt x="202" y="219"/>
                  </a:lnTo>
                  <a:lnTo>
                    <a:pt x="205" y="206"/>
                  </a:lnTo>
                  <a:lnTo>
                    <a:pt x="207" y="191"/>
                  </a:lnTo>
                  <a:lnTo>
                    <a:pt x="209" y="175"/>
                  </a:lnTo>
                  <a:lnTo>
                    <a:pt x="209" y="157"/>
                  </a:lnTo>
                  <a:lnTo>
                    <a:pt x="209" y="145"/>
                  </a:lnTo>
                  <a:lnTo>
                    <a:pt x="208" y="134"/>
                  </a:lnTo>
                  <a:lnTo>
                    <a:pt x="207" y="123"/>
                  </a:lnTo>
                  <a:lnTo>
                    <a:pt x="206" y="113"/>
                  </a:lnTo>
                  <a:lnTo>
                    <a:pt x="203" y="104"/>
                  </a:lnTo>
                  <a:lnTo>
                    <a:pt x="201" y="95"/>
                  </a:lnTo>
                  <a:lnTo>
                    <a:pt x="198" y="87"/>
                  </a:lnTo>
                  <a:lnTo>
                    <a:pt x="193" y="81"/>
                  </a:lnTo>
                  <a:lnTo>
                    <a:pt x="186" y="68"/>
                  </a:lnTo>
                  <a:lnTo>
                    <a:pt x="176" y="57"/>
                  </a:lnTo>
                  <a:lnTo>
                    <a:pt x="171" y="53"/>
                  </a:lnTo>
                  <a:lnTo>
                    <a:pt x="167" y="50"/>
                  </a:lnTo>
                  <a:lnTo>
                    <a:pt x="162" y="47"/>
                  </a:lnTo>
                  <a:lnTo>
                    <a:pt x="155" y="45"/>
                  </a:lnTo>
                  <a:lnTo>
                    <a:pt x="147" y="41"/>
                  </a:lnTo>
                  <a:lnTo>
                    <a:pt x="134" y="39"/>
                  </a:lnTo>
                  <a:lnTo>
                    <a:pt x="120" y="38"/>
                  </a:lnTo>
                  <a:lnTo>
                    <a:pt x="103" y="37"/>
                  </a:lnTo>
                  <a:lnTo>
                    <a:pt x="40" y="37"/>
                  </a:lnTo>
                  <a:lnTo>
                    <a:pt x="40" y="282"/>
                  </a:lnTo>
                  <a:close/>
                </a:path>
              </a:pathLst>
            </a:custGeom>
            <a:solidFill>
              <a:schemeClr val="tx1"/>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348" name="Freeform 35"/>
            <p:cNvSpPr/>
            <p:nvPr/>
          </p:nvSpPr>
          <p:spPr>
            <a:xfrm>
              <a:off x="2635560" y="9604080"/>
              <a:ext cx="52920" cy="60480"/>
            </a:xfrm>
            <a:custGeom>
              <a:avLst/>
              <a:gdLst>
                <a:gd name="textAreaLeft" fmla="*/ 0 w 52920"/>
                <a:gd name="textAreaRight" fmla="*/ 53280 w 52920"/>
                <a:gd name="textAreaTop" fmla="*/ 0 h 60480"/>
                <a:gd name="textAreaBottom" fmla="*/ 60840 h 60480"/>
              </a:gdLst>
              <a:ahLst/>
              <a:rect l="textAreaLeft" t="textAreaTop" r="textAreaRight" b="textAreaBottom"/>
              <a:pathLst>
                <a:path w="269" h="330">
                  <a:moveTo>
                    <a:pt x="228" y="213"/>
                  </a:moveTo>
                  <a:lnTo>
                    <a:pt x="269" y="223"/>
                  </a:lnTo>
                  <a:lnTo>
                    <a:pt x="265" y="236"/>
                  </a:lnTo>
                  <a:lnTo>
                    <a:pt x="261" y="248"/>
                  </a:lnTo>
                  <a:lnTo>
                    <a:pt x="257" y="258"/>
                  </a:lnTo>
                  <a:lnTo>
                    <a:pt x="252" y="269"/>
                  </a:lnTo>
                  <a:lnTo>
                    <a:pt x="245" y="278"/>
                  </a:lnTo>
                  <a:lnTo>
                    <a:pt x="239" y="288"/>
                  </a:lnTo>
                  <a:lnTo>
                    <a:pt x="232" y="295"/>
                  </a:lnTo>
                  <a:lnTo>
                    <a:pt x="223" y="303"/>
                  </a:lnTo>
                  <a:lnTo>
                    <a:pt x="215" y="309"/>
                  </a:lnTo>
                  <a:lnTo>
                    <a:pt x="206" y="314"/>
                  </a:lnTo>
                  <a:lnTo>
                    <a:pt x="197" y="320"/>
                  </a:lnTo>
                  <a:lnTo>
                    <a:pt x="187" y="323"/>
                  </a:lnTo>
                  <a:lnTo>
                    <a:pt x="176" y="326"/>
                  </a:lnTo>
                  <a:lnTo>
                    <a:pt x="166" y="328"/>
                  </a:lnTo>
                  <a:lnTo>
                    <a:pt x="154" y="329"/>
                  </a:lnTo>
                  <a:lnTo>
                    <a:pt x="143" y="330"/>
                  </a:lnTo>
                  <a:lnTo>
                    <a:pt x="131" y="329"/>
                  </a:lnTo>
                  <a:lnTo>
                    <a:pt x="119" y="329"/>
                  </a:lnTo>
                  <a:lnTo>
                    <a:pt x="109" y="327"/>
                  </a:lnTo>
                  <a:lnTo>
                    <a:pt x="98" y="325"/>
                  </a:lnTo>
                  <a:lnTo>
                    <a:pt x="89" y="322"/>
                  </a:lnTo>
                  <a:lnTo>
                    <a:pt x="79" y="319"/>
                  </a:lnTo>
                  <a:lnTo>
                    <a:pt x="71" y="314"/>
                  </a:lnTo>
                  <a:lnTo>
                    <a:pt x="63" y="309"/>
                  </a:lnTo>
                  <a:lnTo>
                    <a:pt x="55" y="304"/>
                  </a:lnTo>
                  <a:lnTo>
                    <a:pt x="48" y="298"/>
                  </a:lnTo>
                  <a:lnTo>
                    <a:pt x="42" y="290"/>
                  </a:lnTo>
                  <a:lnTo>
                    <a:pt x="36" y="284"/>
                  </a:lnTo>
                  <a:lnTo>
                    <a:pt x="30" y="275"/>
                  </a:lnTo>
                  <a:lnTo>
                    <a:pt x="25" y="267"/>
                  </a:lnTo>
                  <a:lnTo>
                    <a:pt x="20" y="257"/>
                  </a:lnTo>
                  <a:lnTo>
                    <a:pt x="15" y="248"/>
                  </a:lnTo>
                  <a:lnTo>
                    <a:pt x="12" y="238"/>
                  </a:lnTo>
                  <a:lnTo>
                    <a:pt x="9" y="228"/>
                  </a:lnTo>
                  <a:lnTo>
                    <a:pt x="6" y="217"/>
                  </a:lnTo>
                  <a:lnTo>
                    <a:pt x="4" y="206"/>
                  </a:lnTo>
                  <a:lnTo>
                    <a:pt x="2" y="196"/>
                  </a:lnTo>
                  <a:lnTo>
                    <a:pt x="1" y="185"/>
                  </a:lnTo>
                  <a:lnTo>
                    <a:pt x="0" y="174"/>
                  </a:lnTo>
                  <a:lnTo>
                    <a:pt x="0" y="162"/>
                  </a:lnTo>
                  <a:lnTo>
                    <a:pt x="0" y="150"/>
                  </a:lnTo>
                  <a:lnTo>
                    <a:pt x="1" y="139"/>
                  </a:lnTo>
                  <a:lnTo>
                    <a:pt x="2" y="127"/>
                  </a:lnTo>
                  <a:lnTo>
                    <a:pt x="4" y="115"/>
                  </a:lnTo>
                  <a:lnTo>
                    <a:pt x="7" y="105"/>
                  </a:lnTo>
                  <a:lnTo>
                    <a:pt x="10" y="95"/>
                  </a:lnTo>
                  <a:lnTo>
                    <a:pt x="13" y="85"/>
                  </a:lnTo>
                  <a:lnTo>
                    <a:pt x="18" y="75"/>
                  </a:lnTo>
                  <a:lnTo>
                    <a:pt x="23" y="67"/>
                  </a:lnTo>
                  <a:lnTo>
                    <a:pt x="28" y="58"/>
                  </a:lnTo>
                  <a:lnTo>
                    <a:pt x="33" y="50"/>
                  </a:lnTo>
                  <a:lnTo>
                    <a:pt x="40" y="42"/>
                  </a:lnTo>
                  <a:lnTo>
                    <a:pt x="46" y="36"/>
                  </a:lnTo>
                  <a:lnTo>
                    <a:pt x="54" y="29"/>
                  </a:lnTo>
                  <a:lnTo>
                    <a:pt x="61" y="24"/>
                  </a:lnTo>
                  <a:lnTo>
                    <a:pt x="70" y="19"/>
                  </a:lnTo>
                  <a:lnTo>
                    <a:pt x="78" y="15"/>
                  </a:lnTo>
                  <a:lnTo>
                    <a:pt x="86" y="10"/>
                  </a:lnTo>
                  <a:lnTo>
                    <a:pt x="96" y="7"/>
                  </a:lnTo>
                  <a:lnTo>
                    <a:pt x="104" y="4"/>
                  </a:lnTo>
                  <a:lnTo>
                    <a:pt x="114" y="2"/>
                  </a:lnTo>
                  <a:lnTo>
                    <a:pt x="124" y="1"/>
                  </a:lnTo>
                  <a:lnTo>
                    <a:pt x="133" y="0"/>
                  </a:lnTo>
                  <a:lnTo>
                    <a:pt x="144" y="0"/>
                  </a:lnTo>
                  <a:lnTo>
                    <a:pt x="154" y="0"/>
                  </a:lnTo>
                  <a:lnTo>
                    <a:pt x="165" y="1"/>
                  </a:lnTo>
                  <a:lnTo>
                    <a:pt x="175" y="3"/>
                  </a:lnTo>
                  <a:lnTo>
                    <a:pt x="185" y="5"/>
                  </a:lnTo>
                  <a:lnTo>
                    <a:pt x="194" y="9"/>
                  </a:lnTo>
                  <a:lnTo>
                    <a:pt x="204" y="14"/>
                  </a:lnTo>
                  <a:lnTo>
                    <a:pt x="212" y="18"/>
                  </a:lnTo>
                  <a:lnTo>
                    <a:pt x="220" y="24"/>
                  </a:lnTo>
                  <a:lnTo>
                    <a:pt x="227" y="30"/>
                  </a:lnTo>
                  <a:lnTo>
                    <a:pt x="235" y="37"/>
                  </a:lnTo>
                  <a:lnTo>
                    <a:pt x="241" y="45"/>
                  </a:lnTo>
                  <a:lnTo>
                    <a:pt x="246" y="53"/>
                  </a:lnTo>
                  <a:lnTo>
                    <a:pt x="252" y="62"/>
                  </a:lnTo>
                  <a:lnTo>
                    <a:pt x="256" y="72"/>
                  </a:lnTo>
                  <a:lnTo>
                    <a:pt x="260" y="81"/>
                  </a:lnTo>
                  <a:lnTo>
                    <a:pt x="263" y="93"/>
                  </a:lnTo>
                  <a:lnTo>
                    <a:pt x="224" y="103"/>
                  </a:lnTo>
                  <a:lnTo>
                    <a:pt x="218" y="86"/>
                  </a:lnTo>
                  <a:lnTo>
                    <a:pt x="211" y="72"/>
                  </a:lnTo>
                  <a:lnTo>
                    <a:pt x="207" y="67"/>
                  </a:lnTo>
                  <a:lnTo>
                    <a:pt x="203" y="61"/>
                  </a:lnTo>
                  <a:lnTo>
                    <a:pt x="198" y="56"/>
                  </a:lnTo>
                  <a:lnTo>
                    <a:pt x="193" y="52"/>
                  </a:lnTo>
                  <a:lnTo>
                    <a:pt x="188" y="47"/>
                  </a:lnTo>
                  <a:lnTo>
                    <a:pt x="183" y="44"/>
                  </a:lnTo>
                  <a:lnTo>
                    <a:pt x="176" y="42"/>
                  </a:lnTo>
                  <a:lnTo>
                    <a:pt x="170" y="40"/>
                  </a:lnTo>
                  <a:lnTo>
                    <a:pt x="164" y="38"/>
                  </a:lnTo>
                  <a:lnTo>
                    <a:pt x="157" y="37"/>
                  </a:lnTo>
                  <a:lnTo>
                    <a:pt x="150" y="36"/>
                  </a:lnTo>
                  <a:lnTo>
                    <a:pt x="143" y="36"/>
                  </a:lnTo>
                  <a:lnTo>
                    <a:pt x="134" y="36"/>
                  </a:lnTo>
                  <a:lnTo>
                    <a:pt x="126" y="37"/>
                  </a:lnTo>
                  <a:lnTo>
                    <a:pt x="118" y="38"/>
                  </a:lnTo>
                  <a:lnTo>
                    <a:pt x="111" y="40"/>
                  </a:lnTo>
                  <a:lnTo>
                    <a:pt x="103" y="42"/>
                  </a:lnTo>
                  <a:lnTo>
                    <a:pt x="96" y="45"/>
                  </a:lnTo>
                  <a:lnTo>
                    <a:pt x="90" y="50"/>
                  </a:lnTo>
                  <a:lnTo>
                    <a:pt x="84" y="53"/>
                  </a:lnTo>
                  <a:lnTo>
                    <a:pt x="78" y="58"/>
                  </a:lnTo>
                  <a:lnTo>
                    <a:pt x="73" y="63"/>
                  </a:lnTo>
                  <a:lnTo>
                    <a:pt x="68" y="69"/>
                  </a:lnTo>
                  <a:lnTo>
                    <a:pt x="64" y="74"/>
                  </a:lnTo>
                  <a:lnTo>
                    <a:pt x="60" y="80"/>
                  </a:lnTo>
                  <a:lnTo>
                    <a:pt x="57" y="87"/>
                  </a:lnTo>
                  <a:lnTo>
                    <a:pt x="54" y="93"/>
                  </a:lnTo>
                  <a:lnTo>
                    <a:pt x="50" y="100"/>
                  </a:lnTo>
                  <a:lnTo>
                    <a:pt x="46" y="115"/>
                  </a:lnTo>
                  <a:lnTo>
                    <a:pt x="43" y="131"/>
                  </a:lnTo>
                  <a:lnTo>
                    <a:pt x="42" y="146"/>
                  </a:lnTo>
                  <a:lnTo>
                    <a:pt x="41" y="162"/>
                  </a:lnTo>
                  <a:lnTo>
                    <a:pt x="42" y="182"/>
                  </a:lnTo>
                  <a:lnTo>
                    <a:pt x="44" y="200"/>
                  </a:lnTo>
                  <a:lnTo>
                    <a:pt x="47" y="217"/>
                  </a:lnTo>
                  <a:lnTo>
                    <a:pt x="53" y="233"/>
                  </a:lnTo>
                  <a:lnTo>
                    <a:pt x="56" y="240"/>
                  </a:lnTo>
                  <a:lnTo>
                    <a:pt x="59" y="248"/>
                  </a:lnTo>
                  <a:lnTo>
                    <a:pt x="63" y="254"/>
                  </a:lnTo>
                  <a:lnTo>
                    <a:pt x="67" y="260"/>
                  </a:lnTo>
                  <a:lnTo>
                    <a:pt x="72" y="266"/>
                  </a:lnTo>
                  <a:lnTo>
                    <a:pt x="77" y="270"/>
                  </a:lnTo>
                  <a:lnTo>
                    <a:pt x="82" y="275"/>
                  </a:lnTo>
                  <a:lnTo>
                    <a:pt x="88" y="278"/>
                  </a:lnTo>
                  <a:lnTo>
                    <a:pt x="100" y="286"/>
                  </a:lnTo>
                  <a:lnTo>
                    <a:pt x="113" y="290"/>
                  </a:lnTo>
                  <a:lnTo>
                    <a:pt x="126" y="293"/>
                  </a:lnTo>
                  <a:lnTo>
                    <a:pt x="139" y="294"/>
                  </a:lnTo>
                  <a:lnTo>
                    <a:pt x="148" y="293"/>
                  </a:lnTo>
                  <a:lnTo>
                    <a:pt x="155" y="292"/>
                  </a:lnTo>
                  <a:lnTo>
                    <a:pt x="164" y="291"/>
                  </a:lnTo>
                  <a:lnTo>
                    <a:pt x="171" y="289"/>
                  </a:lnTo>
                  <a:lnTo>
                    <a:pt x="178" y="286"/>
                  </a:lnTo>
                  <a:lnTo>
                    <a:pt x="184" y="283"/>
                  </a:lnTo>
                  <a:lnTo>
                    <a:pt x="190" y="278"/>
                  </a:lnTo>
                  <a:lnTo>
                    <a:pt x="197" y="273"/>
                  </a:lnTo>
                  <a:lnTo>
                    <a:pt x="202" y="268"/>
                  </a:lnTo>
                  <a:lnTo>
                    <a:pt x="207" y="261"/>
                  </a:lnTo>
                  <a:lnTo>
                    <a:pt x="212" y="255"/>
                  </a:lnTo>
                  <a:lnTo>
                    <a:pt x="217" y="248"/>
                  </a:lnTo>
                  <a:lnTo>
                    <a:pt x="220" y="240"/>
                  </a:lnTo>
                  <a:lnTo>
                    <a:pt x="223" y="232"/>
                  </a:lnTo>
                  <a:lnTo>
                    <a:pt x="226" y="222"/>
                  </a:lnTo>
                  <a:lnTo>
                    <a:pt x="228" y="213"/>
                  </a:lnTo>
                  <a:close/>
                </a:path>
              </a:pathLst>
            </a:custGeom>
            <a:solidFill>
              <a:schemeClr val="tx1"/>
            </a:solidFill>
            <a:ln w="0">
              <a:noFill/>
            </a:ln>
          </p:spPr>
          <p:style>
            <a:lnRef idx="0"/>
            <a:fillRef idx="0"/>
            <a:effectRef idx="0"/>
            <a:fontRef idx="minor"/>
          </p:style>
          <p:txBody>
            <a:bodyPr lIns="90000" rIns="90000" tIns="15840" bIns="15840" anchor="t">
              <a:noAutofit/>
            </a:bodyPr>
            <a:p>
              <a:pPr>
                <a:lnSpc>
                  <a:spcPct val="100000"/>
                </a:lnSpc>
              </a:pPr>
              <a:endParaRPr b="0" lang="en-US" sz="1800" spc="-1" strike="noStrike">
                <a:solidFill>
                  <a:srgbClr val="d79f00"/>
                </a:solidFill>
                <a:latin typeface="Arial"/>
                <a:ea typeface="宋体"/>
              </a:endParaRPr>
            </a:p>
          </p:txBody>
        </p:sp>
        <p:sp>
          <p:nvSpPr>
            <p:cNvPr id="349" name="Freeform 36"/>
            <p:cNvSpPr/>
            <p:nvPr/>
          </p:nvSpPr>
          <p:spPr>
            <a:xfrm>
              <a:off x="2701440" y="9604080"/>
              <a:ext cx="55800" cy="60480"/>
            </a:xfrm>
            <a:custGeom>
              <a:avLst/>
              <a:gdLst>
                <a:gd name="textAreaLeft" fmla="*/ 0 w 55800"/>
                <a:gd name="textAreaRight" fmla="*/ 56160 w 55800"/>
                <a:gd name="textAreaTop" fmla="*/ 0 h 60480"/>
                <a:gd name="textAreaBottom" fmla="*/ 60840 h 60480"/>
              </a:gdLst>
              <a:ahLst/>
              <a:rect l="textAreaLeft" t="textAreaTop" r="textAreaRight" b="textAreaBottom"/>
              <a:pathLst>
                <a:path w="291" h="331">
                  <a:moveTo>
                    <a:pt x="0" y="170"/>
                  </a:moveTo>
                  <a:lnTo>
                    <a:pt x="0" y="150"/>
                  </a:lnTo>
                  <a:lnTo>
                    <a:pt x="2" y="132"/>
                  </a:lnTo>
                  <a:lnTo>
                    <a:pt x="5" y="115"/>
                  </a:lnTo>
                  <a:lnTo>
                    <a:pt x="10" y="99"/>
                  </a:lnTo>
                  <a:lnTo>
                    <a:pt x="16" y="83"/>
                  </a:lnTo>
                  <a:lnTo>
                    <a:pt x="22" y="70"/>
                  </a:lnTo>
                  <a:lnTo>
                    <a:pt x="31" y="57"/>
                  </a:lnTo>
                  <a:lnTo>
                    <a:pt x="40" y="45"/>
                  </a:lnTo>
                  <a:lnTo>
                    <a:pt x="51" y="35"/>
                  </a:lnTo>
                  <a:lnTo>
                    <a:pt x="63" y="25"/>
                  </a:lnTo>
                  <a:lnTo>
                    <a:pt x="74" y="18"/>
                  </a:lnTo>
                  <a:lnTo>
                    <a:pt x="87" y="11"/>
                  </a:lnTo>
                  <a:lnTo>
                    <a:pt x="101" y="6"/>
                  </a:lnTo>
                  <a:lnTo>
                    <a:pt x="116" y="3"/>
                  </a:lnTo>
                  <a:lnTo>
                    <a:pt x="130" y="1"/>
                  </a:lnTo>
                  <a:lnTo>
                    <a:pt x="146" y="0"/>
                  </a:lnTo>
                  <a:lnTo>
                    <a:pt x="156" y="1"/>
                  </a:lnTo>
                  <a:lnTo>
                    <a:pt x="166" y="2"/>
                  </a:lnTo>
                  <a:lnTo>
                    <a:pt x="176" y="3"/>
                  </a:lnTo>
                  <a:lnTo>
                    <a:pt x="186" y="5"/>
                  </a:lnTo>
                  <a:lnTo>
                    <a:pt x="195" y="8"/>
                  </a:lnTo>
                  <a:lnTo>
                    <a:pt x="205" y="12"/>
                  </a:lnTo>
                  <a:lnTo>
                    <a:pt x="213" y="17"/>
                  </a:lnTo>
                  <a:lnTo>
                    <a:pt x="222" y="21"/>
                  </a:lnTo>
                  <a:lnTo>
                    <a:pt x="230" y="27"/>
                  </a:lnTo>
                  <a:lnTo>
                    <a:pt x="237" y="33"/>
                  </a:lnTo>
                  <a:lnTo>
                    <a:pt x="245" y="40"/>
                  </a:lnTo>
                  <a:lnTo>
                    <a:pt x="252" y="46"/>
                  </a:lnTo>
                  <a:lnTo>
                    <a:pt x="258" y="55"/>
                  </a:lnTo>
                  <a:lnTo>
                    <a:pt x="264" y="62"/>
                  </a:lnTo>
                  <a:lnTo>
                    <a:pt x="269" y="71"/>
                  </a:lnTo>
                  <a:lnTo>
                    <a:pt x="273" y="80"/>
                  </a:lnTo>
                  <a:lnTo>
                    <a:pt x="278" y="90"/>
                  </a:lnTo>
                  <a:lnTo>
                    <a:pt x="281" y="100"/>
                  </a:lnTo>
                  <a:lnTo>
                    <a:pt x="284" y="110"/>
                  </a:lnTo>
                  <a:lnTo>
                    <a:pt x="287" y="120"/>
                  </a:lnTo>
                  <a:lnTo>
                    <a:pt x="289" y="131"/>
                  </a:lnTo>
                  <a:lnTo>
                    <a:pt x="290" y="143"/>
                  </a:lnTo>
                  <a:lnTo>
                    <a:pt x="291" y="154"/>
                  </a:lnTo>
                  <a:lnTo>
                    <a:pt x="291" y="166"/>
                  </a:lnTo>
                  <a:lnTo>
                    <a:pt x="291" y="178"/>
                  </a:lnTo>
                  <a:lnTo>
                    <a:pt x="290" y="189"/>
                  </a:lnTo>
                  <a:lnTo>
                    <a:pt x="288" y="201"/>
                  </a:lnTo>
                  <a:lnTo>
                    <a:pt x="287" y="213"/>
                  </a:lnTo>
                  <a:lnTo>
                    <a:pt x="284" y="223"/>
                  </a:lnTo>
                  <a:lnTo>
                    <a:pt x="281" y="234"/>
                  </a:lnTo>
                  <a:lnTo>
                    <a:pt x="277" y="243"/>
                  </a:lnTo>
                  <a:lnTo>
                    <a:pt x="272" y="253"/>
                  </a:lnTo>
                  <a:lnTo>
                    <a:pt x="268" y="262"/>
                  </a:lnTo>
                  <a:lnTo>
                    <a:pt x="263" y="271"/>
                  </a:lnTo>
                  <a:lnTo>
                    <a:pt x="257" y="279"/>
                  </a:lnTo>
                  <a:lnTo>
                    <a:pt x="250" y="287"/>
                  </a:lnTo>
                  <a:lnTo>
                    <a:pt x="243" y="294"/>
                  </a:lnTo>
                  <a:lnTo>
                    <a:pt x="236" y="301"/>
                  </a:lnTo>
                  <a:lnTo>
                    <a:pt x="228" y="306"/>
                  </a:lnTo>
                  <a:lnTo>
                    <a:pt x="219" y="311"/>
                  </a:lnTo>
                  <a:lnTo>
                    <a:pt x="211" y="315"/>
                  </a:lnTo>
                  <a:lnTo>
                    <a:pt x="202" y="320"/>
                  </a:lnTo>
                  <a:lnTo>
                    <a:pt x="193" y="323"/>
                  </a:lnTo>
                  <a:lnTo>
                    <a:pt x="184" y="326"/>
                  </a:lnTo>
                  <a:lnTo>
                    <a:pt x="175" y="328"/>
                  </a:lnTo>
                  <a:lnTo>
                    <a:pt x="165" y="330"/>
                  </a:lnTo>
                  <a:lnTo>
                    <a:pt x="156" y="330"/>
                  </a:lnTo>
                  <a:lnTo>
                    <a:pt x="145" y="331"/>
                  </a:lnTo>
                  <a:lnTo>
                    <a:pt x="135" y="330"/>
                  </a:lnTo>
                  <a:lnTo>
                    <a:pt x="125" y="329"/>
                  </a:lnTo>
                  <a:lnTo>
                    <a:pt x="115" y="328"/>
                  </a:lnTo>
                  <a:lnTo>
                    <a:pt x="105" y="326"/>
                  </a:lnTo>
                  <a:lnTo>
                    <a:pt x="96" y="323"/>
                  </a:lnTo>
                  <a:lnTo>
                    <a:pt x="86" y="319"/>
                  </a:lnTo>
                  <a:lnTo>
                    <a:pt x="78" y="314"/>
                  </a:lnTo>
                  <a:lnTo>
                    <a:pt x="69" y="309"/>
                  </a:lnTo>
                  <a:lnTo>
                    <a:pt x="61" y="304"/>
                  </a:lnTo>
                  <a:lnTo>
                    <a:pt x="53" y="297"/>
                  </a:lnTo>
                  <a:lnTo>
                    <a:pt x="46" y="291"/>
                  </a:lnTo>
                  <a:lnTo>
                    <a:pt x="39" y="284"/>
                  </a:lnTo>
                  <a:lnTo>
                    <a:pt x="33" y="276"/>
                  </a:lnTo>
                  <a:lnTo>
                    <a:pt x="28" y="268"/>
                  </a:lnTo>
                  <a:lnTo>
                    <a:pt x="22" y="259"/>
                  </a:lnTo>
                  <a:lnTo>
                    <a:pt x="17" y="250"/>
                  </a:lnTo>
                  <a:lnTo>
                    <a:pt x="13" y="240"/>
                  </a:lnTo>
                  <a:lnTo>
                    <a:pt x="10" y="231"/>
                  </a:lnTo>
                  <a:lnTo>
                    <a:pt x="7" y="221"/>
                  </a:lnTo>
                  <a:lnTo>
                    <a:pt x="4" y="211"/>
                  </a:lnTo>
                  <a:lnTo>
                    <a:pt x="2" y="201"/>
                  </a:lnTo>
                  <a:lnTo>
                    <a:pt x="1" y="190"/>
                  </a:lnTo>
                  <a:lnTo>
                    <a:pt x="0" y="180"/>
                  </a:lnTo>
                  <a:lnTo>
                    <a:pt x="0" y="170"/>
                  </a:lnTo>
                  <a:close/>
                  <a:moveTo>
                    <a:pt x="41" y="170"/>
                  </a:moveTo>
                  <a:lnTo>
                    <a:pt x="43" y="185"/>
                  </a:lnTo>
                  <a:lnTo>
                    <a:pt x="44" y="198"/>
                  </a:lnTo>
                  <a:lnTo>
                    <a:pt x="46" y="211"/>
                  </a:lnTo>
                  <a:lnTo>
                    <a:pt x="49" y="222"/>
                  </a:lnTo>
                  <a:lnTo>
                    <a:pt x="53" y="233"/>
                  </a:lnTo>
                  <a:lnTo>
                    <a:pt x="58" y="243"/>
                  </a:lnTo>
                  <a:lnTo>
                    <a:pt x="64" y="253"/>
                  </a:lnTo>
                  <a:lnTo>
                    <a:pt x="71" y="261"/>
                  </a:lnTo>
                  <a:lnTo>
                    <a:pt x="79" y="270"/>
                  </a:lnTo>
                  <a:lnTo>
                    <a:pt x="87" y="276"/>
                  </a:lnTo>
                  <a:lnTo>
                    <a:pt x="96" y="282"/>
                  </a:lnTo>
                  <a:lnTo>
                    <a:pt x="105" y="287"/>
                  </a:lnTo>
                  <a:lnTo>
                    <a:pt x="115" y="290"/>
                  </a:lnTo>
                  <a:lnTo>
                    <a:pt x="124" y="293"/>
                  </a:lnTo>
                  <a:lnTo>
                    <a:pt x="135" y="294"/>
                  </a:lnTo>
                  <a:lnTo>
                    <a:pt x="145" y="295"/>
                  </a:lnTo>
                  <a:lnTo>
                    <a:pt x="157" y="294"/>
                  </a:lnTo>
                  <a:lnTo>
                    <a:pt x="168" y="293"/>
                  </a:lnTo>
                  <a:lnTo>
                    <a:pt x="177" y="290"/>
                  </a:lnTo>
                  <a:lnTo>
                    <a:pt x="187" y="287"/>
                  </a:lnTo>
                  <a:lnTo>
                    <a:pt x="196" y="282"/>
                  </a:lnTo>
                  <a:lnTo>
                    <a:pt x="205" y="276"/>
                  </a:lnTo>
                  <a:lnTo>
                    <a:pt x="213" y="269"/>
                  </a:lnTo>
                  <a:lnTo>
                    <a:pt x="220" y="261"/>
                  </a:lnTo>
                  <a:lnTo>
                    <a:pt x="227" y="253"/>
                  </a:lnTo>
                  <a:lnTo>
                    <a:pt x="233" y="242"/>
                  </a:lnTo>
                  <a:lnTo>
                    <a:pt x="238" y="232"/>
                  </a:lnTo>
                  <a:lnTo>
                    <a:pt x="243" y="221"/>
                  </a:lnTo>
                  <a:lnTo>
                    <a:pt x="246" y="208"/>
                  </a:lnTo>
                  <a:lnTo>
                    <a:pt x="248" y="195"/>
                  </a:lnTo>
                  <a:lnTo>
                    <a:pt x="249" y="181"/>
                  </a:lnTo>
                  <a:lnTo>
                    <a:pt x="250" y="166"/>
                  </a:lnTo>
                  <a:lnTo>
                    <a:pt x="249" y="147"/>
                  </a:lnTo>
                  <a:lnTo>
                    <a:pt x="247" y="129"/>
                  </a:lnTo>
                  <a:lnTo>
                    <a:pt x="243" y="113"/>
                  </a:lnTo>
                  <a:lnTo>
                    <a:pt x="237" y="98"/>
                  </a:lnTo>
                  <a:lnTo>
                    <a:pt x="230" y="84"/>
                  </a:lnTo>
                  <a:lnTo>
                    <a:pt x="222" y="72"/>
                  </a:lnTo>
                  <a:lnTo>
                    <a:pt x="217" y="66"/>
                  </a:lnTo>
                  <a:lnTo>
                    <a:pt x="212" y="61"/>
                  </a:lnTo>
                  <a:lnTo>
                    <a:pt x="207" y="57"/>
                  </a:lnTo>
                  <a:lnTo>
                    <a:pt x="200" y="53"/>
                  </a:lnTo>
                  <a:lnTo>
                    <a:pt x="188" y="45"/>
                  </a:lnTo>
                  <a:lnTo>
                    <a:pt x="175" y="41"/>
                  </a:lnTo>
                  <a:lnTo>
                    <a:pt x="161" y="38"/>
                  </a:lnTo>
                  <a:lnTo>
                    <a:pt x="146" y="37"/>
                  </a:lnTo>
                  <a:lnTo>
                    <a:pt x="136" y="37"/>
                  </a:lnTo>
                  <a:lnTo>
                    <a:pt x="125" y="39"/>
                  </a:lnTo>
                  <a:lnTo>
                    <a:pt x="116" y="41"/>
                  </a:lnTo>
                  <a:lnTo>
                    <a:pt x="106" y="44"/>
                  </a:lnTo>
                  <a:lnTo>
                    <a:pt x="98" y="48"/>
                  </a:lnTo>
                  <a:lnTo>
                    <a:pt x="88" y="54"/>
                  </a:lnTo>
                  <a:lnTo>
                    <a:pt x="81" y="60"/>
                  </a:lnTo>
                  <a:lnTo>
                    <a:pt x="72" y="68"/>
                  </a:lnTo>
                  <a:lnTo>
                    <a:pt x="65" y="76"/>
                  </a:lnTo>
                  <a:lnTo>
                    <a:pt x="58" y="86"/>
                  </a:lnTo>
                  <a:lnTo>
                    <a:pt x="53" y="96"/>
                  </a:lnTo>
                  <a:lnTo>
                    <a:pt x="49" y="109"/>
                  </a:lnTo>
                  <a:lnTo>
                    <a:pt x="46" y="123"/>
                  </a:lnTo>
                  <a:lnTo>
                    <a:pt x="44" y="137"/>
                  </a:lnTo>
                  <a:lnTo>
                    <a:pt x="43" y="153"/>
                  </a:lnTo>
                  <a:lnTo>
                    <a:pt x="41" y="170"/>
                  </a:lnTo>
                  <a:close/>
                </a:path>
              </a:pathLst>
            </a:custGeom>
            <a:solidFill>
              <a:schemeClr val="tx1"/>
            </a:solidFill>
            <a:ln w="0">
              <a:noFill/>
            </a:ln>
          </p:spPr>
          <p:style>
            <a:lnRef idx="0"/>
            <a:fillRef idx="0"/>
            <a:effectRef idx="0"/>
            <a:fontRef idx="minor"/>
          </p:style>
          <p:txBody>
            <a:bodyPr lIns="90000" rIns="90000" tIns="15840" bIns="15840" anchor="t">
              <a:noAutofit/>
            </a:bodyPr>
            <a:p>
              <a:pPr>
                <a:lnSpc>
                  <a:spcPct val="100000"/>
                </a:lnSpc>
              </a:pPr>
              <a:endParaRPr b="0" lang="en-US" sz="1800" spc="-1" strike="noStrike">
                <a:solidFill>
                  <a:srgbClr val="d79f00"/>
                </a:solidFill>
                <a:latin typeface="Arial"/>
                <a:ea typeface="宋体"/>
              </a:endParaRPr>
            </a:p>
          </p:txBody>
        </p:sp>
        <p:sp>
          <p:nvSpPr>
            <p:cNvPr id="350" name="Freeform 37"/>
            <p:cNvSpPr/>
            <p:nvPr/>
          </p:nvSpPr>
          <p:spPr>
            <a:xfrm>
              <a:off x="2772360" y="9605520"/>
              <a:ext cx="36720" cy="59400"/>
            </a:xfrm>
            <a:custGeom>
              <a:avLst/>
              <a:gdLst>
                <a:gd name="textAreaLeft" fmla="*/ 0 w 36720"/>
                <a:gd name="textAreaRight" fmla="*/ 37080 w 36720"/>
                <a:gd name="textAreaTop" fmla="*/ 0 h 59400"/>
                <a:gd name="textAreaBottom" fmla="*/ 59760 h 59400"/>
              </a:gdLst>
              <a:ahLst/>
              <a:rect l="textAreaLeft" t="textAreaTop" r="textAreaRight" b="textAreaBottom"/>
              <a:pathLst>
                <a:path w="189" h="320">
                  <a:moveTo>
                    <a:pt x="0" y="320"/>
                  </a:moveTo>
                  <a:lnTo>
                    <a:pt x="0" y="0"/>
                  </a:lnTo>
                  <a:lnTo>
                    <a:pt x="40" y="0"/>
                  </a:lnTo>
                  <a:lnTo>
                    <a:pt x="40" y="282"/>
                  </a:lnTo>
                  <a:lnTo>
                    <a:pt x="189" y="282"/>
                  </a:lnTo>
                  <a:lnTo>
                    <a:pt x="189" y="320"/>
                  </a:lnTo>
                  <a:lnTo>
                    <a:pt x="0" y="320"/>
                  </a:lnTo>
                  <a:close/>
                </a:path>
              </a:pathLst>
            </a:custGeom>
            <a:solidFill>
              <a:schemeClr val="tx1"/>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351" name="Freeform 38"/>
            <p:cNvSpPr/>
            <p:nvPr/>
          </p:nvSpPr>
          <p:spPr>
            <a:xfrm>
              <a:off x="2824560" y="9605520"/>
              <a:ext cx="36720" cy="59400"/>
            </a:xfrm>
            <a:custGeom>
              <a:avLst/>
              <a:gdLst>
                <a:gd name="textAreaLeft" fmla="*/ 0 w 36720"/>
                <a:gd name="textAreaRight" fmla="*/ 37080 w 36720"/>
                <a:gd name="textAreaTop" fmla="*/ 0 h 59400"/>
                <a:gd name="textAreaBottom" fmla="*/ 59760 h 59400"/>
              </a:gdLst>
              <a:ahLst/>
              <a:rect l="textAreaLeft" t="textAreaTop" r="textAreaRight" b="textAreaBottom"/>
              <a:pathLst>
                <a:path w="191" h="320">
                  <a:moveTo>
                    <a:pt x="0" y="320"/>
                  </a:moveTo>
                  <a:lnTo>
                    <a:pt x="0" y="0"/>
                  </a:lnTo>
                  <a:lnTo>
                    <a:pt x="42" y="0"/>
                  </a:lnTo>
                  <a:lnTo>
                    <a:pt x="42" y="282"/>
                  </a:lnTo>
                  <a:lnTo>
                    <a:pt x="191" y="282"/>
                  </a:lnTo>
                  <a:lnTo>
                    <a:pt x="191" y="320"/>
                  </a:lnTo>
                  <a:lnTo>
                    <a:pt x="0" y="320"/>
                  </a:lnTo>
                  <a:close/>
                </a:path>
              </a:pathLst>
            </a:custGeom>
            <a:solidFill>
              <a:schemeClr val="tx1"/>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352" name="Freeform 39"/>
            <p:cNvSpPr/>
            <p:nvPr/>
          </p:nvSpPr>
          <p:spPr>
            <a:xfrm>
              <a:off x="2869560" y="9605520"/>
              <a:ext cx="54360" cy="59400"/>
            </a:xfrm>
            <a:custGeom>
              <a:avLst/>
              <a:gdLst>
                <a:gd name="textAreaLeft" fmla="*/ 0 w 54360"/>
                <a:gd name="textAreaRight" fmla="*/ 54720 w 54360"/>
                <a:gd name="textAreaTop" fmla="*/ 0 h 59400"/>
                <a:gd name="textAreaBottom" fmla="*/ 59760 h 59400"/>
              </a:gdLst>
              <a:ahLst/>
              <a:rect l="textAreaLeft" t="textAreaTop" r="textAreaRight" b="textAreaBottom"/>
              <a:pathLst>
                <a:path w="285" h="320">
                  <a:moveTo>
                    <a:pt x="0" y="320"/>
                  </a:moveTo>
                  <a:lnTo>
                    <a:pt x="118" y="0"/>
                  </a:lnTo>
                  <a:lnTo>
                    <a:pt x="161" y="0"/>
                  </a:lnTo>
                  <a:lnTo>
                    <a:pt x="285" y="320"/>
                  </a:lnTo>
                  <a:lnTo>
                    <a:pt x="240" y="320"/>
                  </a:lnTo>
                  <a:lnTo>
                    <a:pt x="204" y="223"/>
                  </a:lnTo>
                  <a:lnTo>
                    <a:pt x="77" y="223"/>
                  </a:lnTo>
                  <a:lnTo>
                    <a:pt x="44" y="320"/>
                  </a:lnTo>
                  <a:lnTo>
                    <a:pt x="0" y="320"/>
                  </a:lnTo>
                  <a:close/>
                  <a:moveTo>
                    <a:pt x="88" y="189"/>
                  </a:moveTo>
                  <a:lnTo>
                    <a:pt x="192" y="189"/>
                  </a:lnTo>
                  <a:lnTo>
                    <a:pt x="160" y="100"/>
                  </a:lnTo>
                  <a:lnTo>
                    <a:pt x="153" y="81"/>
                  </a:lnTo>
                  <a:lnTo>
                    <a:pt x="147" y="63"/>
                  </a:lnTo>
                  <a:lnTo>
                    <a:pt x="142" y="48"/>
                  </a:lnTo>
                  <a:lnTo>
                    <a:pt x="138" y="33"/>
                  </a:lnTo>
                  <a:lnTo>
                    <a:pt x="135" y="49"/>
                  </a:lnTo>
                  <a:lnTo>
                    <a:pt x="132" y="64"/>
                  </a:lnTo>
                  <a:lnTo>
                    <a:pt x="126" y="80"/>
                  </a:lnTo>
                  <a:lnTo>
                    <a:pt x="122" y="94"/>
                  </a:lnTo>
                  <a:lnTo>
                    <a:pt x="88" y="189"/>
                  </a:lnTo>
                  <a:close/>
                </a:path>
              </a:pathLst>
            </a:custGeom>
            <a:solidFill>
              <a:schemeClr val="tx1"/>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353" name="Freeform 40"/>
            <p:cNvSpPr/>
            <p:nvPr/>
          </p:nvSpPr>
          <p:spPr>
            <a:xfrm>
              <a:off x="2936880" y="9605520"/>
              <a:ext cx="51840" cy="59400"/>
            </a:xfrm>
            <a:custGeom>
              <a:avLst/>
              <a:gdLst>
                <a:gd name="textAreaLeft" fmla="*/ 0 w 51840"/>
                <a:gd name="textAreaRight" fmla="*/ 52200 w 51840"/>
                <a:gd name="textAreaTop" fmla="*/ 0 h 59400"/>
                <a:gd name="textAreaBottom" fmla="*/ 59760 h 59400"/>
              </a:gdLst>
              <a:ahLst/>
              <a:rect l="textAreaLeft" t="textAreaTop" r="textAreaRight" b="textAreaBottom"/>
              <a:pathLst>
                <a:path w="268" h="320">
                  <a:moveTo>
                    <a:pt x="0" y="320"/>
                  </a:moveTo>
                  <a:lnTo>
                    <a:pt x="0" y="0"/>
                  </a:lnTo>
                  <a:lnTo>
                    <a:pt x="135" y="0"/>
                  </a:lnTo>
                  <a:lnTo>
                    <a:pt x="154" y="0"/>
                  </a:lnTo>
                  <a:lnTo>
                    <a:pt x="171" y="2"/>
                  </a:lnTo>
                  <a:lnTo>
                    <a:pt x="186" y="4"/>
                  </a:lnTo>
                  <a:lnTo>
                    <a:pt x="197" y="9"/>
                  </a:lnTo>
                  <a:lnTo>
                    <a:pt x="207" y="14"/>
                  </a:lnTo>
                  <a:lnTo>
                    <a:pt x="217" y="20"/>
                  </a:lnTo>
                  <a:lnTo>
                    <a:pt x="224" y="29"/>
                  </a:lnTo>
                  <a:lnTo>
                    <a:pt x="231" y="39"/>
                  </a:lnTo>
                  <a:lnTo>
                    <a:pt x="237" y="50"/>
                  </a:lnTo>
                  <a:lnTo>
                    <a:pt x="241" y="62"/>
                  </a:lnTo>
                  <a:lnTo>
                    <a:pt x="243" y="74"/>
                  </a:lnTo>
                  <a:lnTo>
                    <a:pt x="244" y="87"/>
                  </a:lnTo>
                  <a:lnTo>
                    <a:pt x="243" y="95"/>
                  </a:lnTo>
                  <a:lnTo>
                    <a:pt x="242" y="104"/>
                  </a:lnTo>
                  <a:lnTo>
                    <a:pt x="241" y="111"/>
                  </a:lnTo>
                  <a:lnTo>
                    <a:pt x="239" y="119"/>
                  </a:lnTo>
                  <a:lnTo>
                    <a:pt x="236" y="125"/>
                  </a:lnTo>
                  <a:lnTo>
                    <a:pt x="231" y="133"/>
                  </a:lnTo>
                  <a:lnTo>
                    <a:pt x="227" y="139"/>
                  </a:lnTo>
                  <a:lnTo>
                    <a:pt x="223" y="144"/>
                  </a:lnTo>
                  <a:lnTo>
                    <a:pt x="217" y="151"/>
                  </a:lnTo>
                  <a:lnTo>
                    <a:pt x="211" y="155"/>
                  </a:lnTo>
                  <a:lnTo>
                    <a:pt x="204" y="160"/>
                  </a:lnTo>
                  <a:lnTo>
                    <a:pt x="196" y="163"/>
                  </a:lnTo>
                  <a:lnTo>
                    <a:pt x="188" y="167"/>
                  </a:lnTo>
                  <a:lnTo>
                    <a:pt x="178" y="170"/>
                  </a:lnTo>
                  <a:lnTo>
                    <a:pt x="169" y="173"/>
                  </a:lnTo>
                  <a:lnTo>
                    <a:pt x="158" y="174"/>
                  </a:lnTo>
                  <a:lnTo>
                    <a:pt x="172" y="182"/>
                  </a:lnTo>
                  <a:lnTo>
                    <a:pt x="183" y="190"/>
                  </a:lnTo>
                  <a:lnTo>
                    <a:pt x="191" y="199"/>
                  </a:lnTo>
                  <a:lnTo>
                    <a:pt x="200" y="209"/>
                  </a:lnTo>
                  <a:lnTo>
                    <a:pt x="208" y="220"/>
                  </a:lnTo>
                  <a:lnTo>
                    <a:pt x="215" y="232"/>
                  </a:lnTo>
                  <a:lnTo>
                    <a:pt x="268" y="320"/>
                  </a:lnTo>
                  <a:lnTo>
                    <a:pt x="218" y="320"/>
                  </a:lnTo>
                  <a:lnTo>
                    <a:pt x="177" y="253"/>
                  </a:lnTo>
                  <a:lnTo>
                    <a:pt x="169" y="240"/>
                  </a:lnTo>
                  <a:lnTo>
                    <a:pt x="161" y="228"/>
                  </a:lnTo>
                  <a:lnTo>
                    <a:pt x="155" y="217"/>
                  </a:lnTo>
                  <a:lnTo>
                    <a:pt x="149" y="209"/>
                  </a:lnTo>
                  <a:lnTo>
                    <a:pt x="142" y="202"/>
                  </a:lnTo>
                  <a:lnTo>
                    <a:pt x="138" y="196"/>
                  </a:lnTo>
                  <a:lnTo>
                    <a:pt x="133" y="191"/>
                  </a:lnTo>
                  <a:lnTo>
                    <a:pt x="128" y="188"/>
                  </a:lnTo>
                  <a:lnTo>
                    <a:pt x="119" y="182"/>
                  </a:lnTo>
                  <a:lnTo>
                    <a:pt x="110" y="179"/>
                  </a:lnTo>
                  <a:lnTo>
                    <a:pt x="101" y="178"/>
                  </a:lnTo>
                  <a:lnTo>
                    <a:pt x="87" y="178"/>
                  </a:lnTo>
                  <a:lnTo>
                    <a:pt x="41" y="178"/>
                  </a:lnTo>
                  <a:lnTo>
                    <a:pt x="41" y="320"/>
                  </a:lnTo>
                  <a:lnTo>
                    <a:pt x="0" y="320"/>
                  </a:lnTo>
                  <a:close/>
                  <a:moveTo>
                    <a:pt x="41" y="141"/>
                  </a:moveTo>
                  <a:lnTo>
                    <a:pt x="128" y="141"/>
                  </a:lnTo>
                  <a:lnTo>
                    <a:pt x="140" y="141"/>
                  </a:lnTo>
                  <a:lnTo>
                    <a:pt x="152" y="140"/>
                  </a:lnTo>
                  <a:lnTo>
                    <a:pt x="161" y="138"/>
                  </a:lnTo>
                  <a:lnTo>
                    <a:pt x="170" y="135"/>
                  </a:lnTo>
                  <a:lnTo>
                    <a:pt x="177" y="131"/>
                  </a:lnTo>
                  <a:lnTo>
                    <a:pt x="184" y="127"/>
                  </a:lnTo>
                  <a:lnTo>
                    <a:pt x="189" y="122"/>
                  </a:lnTo>
                  <a:lnTo>
                    <a:pt x="194" y="116"/>
                  </a:lnTo>
                  <a:lnTo>
                    <a:pt x="197" y="109"/>
                  </a:lnTo>
                  <a:lnTo>
                    <a:pt x="200" y="102"/>
                  </a:lnTo>
                  <a:lnTo>
                    <a:pt x="202" y="94"/>
                  </a:lnTo>
                  <a:lnTo>
                    <a:pt x="202" y="87"/>
                  </a:lnTo>
                  <a:lnTo>
                    <a:pt x="201" y="76"/>
                  </a:lnTo>
                  <a:lnTo>
                    <a:pt x="199" y="67"/>
                  </a:lnTo>
                  <a:lnTo>
                    <a:pt x="196" y="62"/>
                  </a:lnTo>
                  <a:lnTo>
                    <a:pt x="193" y="57"/>
                  </a:lnTo>
                  <a:lnTo>
                    <a:pt x="190" y="54"/>
                  </a:lnTo>
                  <a:lnTo>
                    <a:pt x="187" y="50"/>
                  </a:lnTo>
                  <a:lnTo>
                    <a:pt x="183" y="47"/>
                  </a:lnTo>
                  <a:lnTo>
                    <a:pt x="177" y="43"/>
                  </a:lnTo>
                  <a:lnTo>
                    <a:pt x="172" y="41"/>
                  </a:lnTo>
                  <a:lnTo>
                    <a:pt x="166" y="39"/>
                  </a:lnTo>
                  <a:lnTo>
                    <a:pt x="153" y="36"/>
                  </a:lnTo>
                  <a:lnTo>
                    <a:pt x="137" y="35"/>
                  </a:lnTo>
                  <a:lnTo>
                    <a:pt x="41" y="35"/>
                  </a:lnTo>
                  <a:lnTo>
                    <a:pt x="41" y="141"/>
                  </a:lnTo>
                  <a:close/>
                </a:path>
              </a:pathLst>
            </a:custGeom>
            <a:solidFill>
              <a:schemeClr val="tx1"/>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354" name="Freeform 41"/>
            <p:cNvSpPr/>
            <p:nvPr/>
          </p:nvSpPr>
          <p:spPr>
            <a:xfrm>
              <a:off x="3027240" y="9605520"/>
              <a:ext cx="43560" cy="59400"/>
            </a:xfrm>
            <a:custGeom>
              <a:avLst/>
              <a:gdLst>
                <a:gd name="textAreaLeft" fmla="*/ 0 w 43560"/>
                <a:gd name="textAreaRight" fmla="*/ 43920 w 43560"/>
                <a:gd name="textAreaTop" fmla="*/ 0 h 59400"/>
                <a:gd name="textAreaBottom" fmla="*/ 59760 h 59400"/>
              </a:gdLst>
              <a:ahLst/>
              <a:rect l="textAreaLeft" t="textAreaTop" r="textAreaRight" b="textAreaBottom"/>
              <a:pathLst>
                <a:path w="228" h="320">
                  <a:moveTo>
                    <a:pt x="0" y="320"/>
                  </a:moveTo>
                  <a:lnTo>
                    <a:pt x="0" y="0"/>
                  </a:lnTo>
                  <a:lnTo>
                    <a:pt x="220" y="0"/>
                  </a:lnTo>
                  <a:lnTo>
                    <a:pt x="220" y="37"/>
                  </a:lnTo>
                  <a:lnTo>
                    <a:pt x="40" y="37"/>
                  </a:lnTo>
                  <a:lnTo>
                    <a:pt x="40" y="136"/>
                  </a:lnTo>
                  <a:lnTo>
                    <a:pt x="209" y="136"/>
                  </a:lnTo>
                  <a:lnTo>
                    <a:pt x="209" y="173"/>
                  </a:lnTo>
                  <a:lnTo>
                    <a:pt x="40" y="173"/>
                  </a:lnTo>
                  <a:lnTo>
                    <a:pt x="40" y="282"/>
                  </a:lnTo>
                  <a:lnTo>
                    <a:pt x="228" y="282"/>
                  </a:lnTo>
                  <a:lnTo>
                    <a:pt x="228" y="320"/>
                  </a:lnTo>
                  <a:lnTo>
                    <a:pt x="0" y="320"/>
                  </a:lnTo>
                  <a:close/>
                </a:path>
              </a:pathLst>
            </a:custGeom>
            <a:solidFill>
              <a:schemeClr val="tx1"/>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355" name="Freeform 42"/>
            <p:cNvSpPr/>
            <p:nvPr/>
          </p:nvSpPr>
          <p:spPr>
            <a:xfrm>
              <a:off x="3087360" y="9605520"/>
              <a:ext cx="46080" cy="59400"/>
            </a:xfrm>
            <a:custGeom>
              <a:avLst/>
              <a:gdLst>
                <a:gd name="textAreaLeft" fmla="*/ 0 w 46080"/>
                <a:gd name="textAreaRight" fmla="*/ 46440 w 46080"/>
                <a:gd name="textAreaTop" fmla="*/ 0 h 59400"/>
                <a:gd name="textAreaBottom" fmla="*/ 59760 h 59400"/>
              </a:gdLst>
              <a:ahLst/>
              <a:rect l="textAreaLeft" t="textAreaTop" r="textAreaRight" b="textAreaBottom"/>
              <a:pathLst>
                <a:path w="241" h="320">
                  <a:moveTo>
                    <a:pt x="0" y="320"/>
                  </a:moveTo>
                  <a:lnTo>
                    <a:pt x="0" y="0"/>
                  </a:lnTo>
                  <a:lnTo>
                    <a:pt x="42" y="0"/>
                  </a:lnTo>
                  <a:lnTo>
                    <a:pt x="202" y="251"/>
                  </a:lnTo>
                  <a:lnTo>
                    <a:pt x="202" y="0"/>
                  </a:lnTo>
                  <a:lnTo>
                    <a:pt x="241" y="0"/>
                  </a:lnTo>
                  <a:lnTo>
                    <a:pt x="241" y="320"/>
                  </a:lnTo>
                  <a:lnTo>
                    <a:pt x="200" y="320"/>
                  </a:lnTo>
                  <a:lnTo>
                    <a:pt x="40" y="68"/>
                  </a:lnTo>
                  <a:lnTo>
                    <a:pt x="40" y="320"/>
                  </a:lnTo>
                  <a:lnTo>
                    <a:pt x="0" y="320"/>
                  </a:lnTo>
                  <a:close/>
                </a:path>
              </a:pathLst>
            </a:custGeom>
            <a:solidFill>
              <a:schemeClr val="tx1"/>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356" name="Freeform 43"/>
            <p:cNvSpPr/>
            <p:nvPr/>
          </p:nvSpPr>
          <p:spPr>
            <a:xfrm>
              <a:off x="3147480" y="9605520"/>
              <a:ext cx="47520" cy="59400"/>
            </a:xfrm>
            <a:custGeom>
              <a:avLst/>
              <a:gdLst>
                <a:gd name="textAreaLeft" fmla="*/ 0 w 47520"/>
                <a:gd name="textAreaRight" fmla="*/ 47880 w 47520"/>
                <a:gd name="textAreaTop" fmla="*/ 0 h 59400"/>
                <a:gd name="textAreaBottom" fmla="*/ 59760 h 59400"/>
              </a:gdLst>
              <a:ahLst/>
              <a:rect l="textAreaLeft" t="textAreaTop" r="textAreaRight" b="textAreaBottom"/>
              <a:pathLst>
                <a:path w="241" h="320">
                  <a:moveTo>
                    <a:pt x="99" y="320"/>
                  </a:moveTo>
                  <a:lnTo>
                    <a:pt x="99" y="37"/>
                  </a:lnTo>
                  <a:lnTo>
                    <a:pt x="0" y="37"/>
                  </a:lnTo>
                  <a:lnTo>
                    <a:pt x="0" y="0"/>
                  </a:lnTo>
                  <a:lnTo>
                    <a:pt x="241" y="0"/>
                  </a:lnTo>
                  <a:lnTo>
                    <a:pt x="241" y="37"/>
                  </a:lnTo>
                  <a:lnTo>
                    <a:pt x="140" y="37"/>
                  </a:lnTo>
                  <a:lnTo>
                    <a:pt x="140" y="320"/>
                  </a:lnTo>
                  <a:lnTo>
                    <a:pt x="99" y="320"/>
                  </a:lnTo>
                  <a:close/>
                </a:path>
              </a:pathLst>
            </a:custGeom>
            <a:solidFill>
              <a:schemeClr val="tx1"/>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357" name="Freeform 44"/>
            <p:cNvSpPr/>
            <p:nvPr/>
          </p:nvSpPr>
          <p:spPr>
            <a:xfrm>
              <a:off x="3207960" y="9605520"/>
              <a:ext cx="45000" cy="59400"/>
            </a:xfrm>
            <a:custGeom>
              <a:avLst/>
              <a:gdLst>
                <a:gd name="textAreaLeft" fmla="*/ 0 w 45000"/>
                <a:gd name="textAreaRight" fmla="*/ 45360 w 45000"/>
                <a:gd name="textAreaTop" fmla="*/ 0 h 59400"/>
                <a:gd name="textAreaBottom" fmla="*/ 59760 h 59400"/>
              </a:gdLst>
              <a:ahLst/>
              <a:rect l="textAreaLeft" t="textAreaTop" r="textAreaRight" b="textAreaBottom"/>
              <a:pathLst>
                <a:path w="227" h="320">
                  <a:moveTo>
                    <a:pt x="0" y="320"/>
                  </a:moveTo>
                  <a:lnTo>
                    <a:pt x="0" y="0"/>
                  </a:lnTo>
                  <a:lnTo>
                    <a:pt x="220" y="0"/>
                  </a:lnTo>
                  <a:lnTo>
                    <a:pt x="220" y="37"/>
                  </a:lnTo>
                  <a:lnTo>
                    <a:pt x="40" y="37"/>
                  </a:lnTo>
                  <a:lnTo>
                    <a:pt x="40" y="136"/>
                  </a:lnTo>
                  <a:lnTo>
                    <a:pt x="209" y="136"/>
                  </a:lnTo>
                  <a:lnTo>
                    <a:pt x="209" y="173"/>
                  </a:lnTo>
                  <a:lnTo>
                    <a:pt x="40" y="173"/>
                  </a:lnTo>
                  <a:lnTo>
                    <a:pt x="40" y="282"/>
                  </a:lnTo>
                  <a:lnTo>
                    <a:pt x="227" y="282"/>
                  </a:lnTo>
                  <a:lnTo>
                    <a:pt x="227" y="320"/>
                  </a:lnTo>
                  <a:lnTo>
                    <a:pt x="0" y="320"/>
                  </a:lnTo>
                  <a:close/>
                </a:path>
              </a:pathLst>
            </a:custGeom>
            <a:solidFill>
              <a:schemeClr val="tx1"/>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358" name="Freeform 45"/>
            <p:cNvSpPr/>
            <p:nvPr/>
          </p:nvSpPr>
          <p:spPr>
            <a:xfrm>
              <a:off x="3268080" y="9605520"/>
              <a:ext cx="52920" cy="59400"/>
            </a:xfrm>
            <a:custGeom>
              <a:avLst/>
              <a:gdLst>
                <a:gd name="textAreaLeft" fmla="*/ 0 w 52920"/>
                <a:gd name="textAreaRight" fmla="*/ 53280 w 52920"/>
                <a:gd name="textAreaTop" fmla="*/ 0 h 59400"/>
                <a:gd name="textAreaBottom" fmla="*/ 59760 h 59400"/>
              </a:gdLst>
              <a:ahLst/>
              <a:rect l="textAreaLeft" t="textAreaTop" r="textAreaRight" b="textAreaBottom"/>
              <a:pathLst>
                <a:path w="268" h="320">
                  <a:moveTo>
                    <a:pt x="0" y="320"/>
                  </a:moveTo>
                  <a:lnTo>
                    <a:pt x="0" y="0"/>
                  </a:lnTo>
                  <a:lnTo>
                    <a:pt x="135" y="0"/>
                  </a:lnTo>
                  <a:lnTo>
                    <a:pt x="154" y="0"/>
                  </a:lnTo>
                  <a:lnTo>
                    <a:pt x="171" y="2"/>
                  </a:lnTo>
                  <a:lnTo>
                    <a:pt x="186" y="4"/>
                  </a:lnTo>
                  <a:lnTo>
                    <a:pt x="197" y="9"/>
                  </a:lnTo>
                  <a:lnTo>
                    <a:pt x="207" y="14"/>
                  </a:lnTo>
                  <a:lnTo>
                    <a:pt x="216" y="20"/>
                  </a:lnTo>
                  <a:lnTo>
                    <a:pt x="224" y="29"/>
                  </a:lnTo>
                  <a:lnTo>
                    <a:pt x="231" y="39"/>
                  </a:lnTo>
                  <a:lnTo>
                    <a:pt x="237" y="50"/>
                  </a:lnTo>
                  <a:lnTo>
                    <a:pt x="241" y="62"/>
                  </a:lnTo>
                  <a:lnTo>
                    <a:pt x="243" y="74"/>
                  </a:lnTo>
                  <a:lnTo>
                    <a:pt x="244" y="87"/>
                  </a:lnTo>
                  <a:lnTo>
                    <a:pt x="243" y="95"/>
                  </a:lnTo>
                  <a:lnTo>
                    <a:pt x="242" y="104"/>
                  </a:lnTo>
                  <a:lnTo>
                    <a:pt x="241" y="111"/>
                  </a:lnTo>
                  <a:lnTo>
                    <a:pt x="239" y="119"/>
                  </a:lnTo>
                  <a:lnTo>
                    <a:pt x="235" y="125"/>
                  </a:lnTo>
                  <a:lnTo>
                    <a:pt x="232" y="133"/>
                  </a:lnTo>
                  <a:lnTo>
                    <a:pt x="228" y="139"/>
                  </a:lnTo>
                  <a:lnTo>
                    <a:pt x="223" y="144"/>
                  </a:lnTo>
                  <a:lnTo>
                    <a:pt x="217" y="151"/>
                  </a:lnTo>
                  <a:lnTo>
                    <a:pt x="211" y="155"/>
                  </a:lnTo>
                  <a:lnTo>
                    <a:pt x="204" y="160"/>
                  </a:lnTo>
                  <a:lnTo>
                    <a:pt x="196" y="163"/>
                  </a:lnTo>
                  <a:lnTo>
                    <a:pt x="188" y="167"/>
                  </a:lnTo>
                  <a:lnTo>
                    <a:pt x="178" y="170"/>
                  </a:lnTo>
                  <a:lnTo>
                    <a:pt x="169" y="173"/>
                  </a:lnTo>
                  <a:lnTo>
                    <a:pt x="158" y="174"/>
                  </a:lnTo>
                  <a:lnTo>
                    <a:pt x="172" y="182"/>
                  </a:lnTo>
                  <a:lnTo>
                    <a:pt x="183" y="190"/>
                  </a:lnTo>
                  <a:lnTo>
                    <a:pt x="191" y="199"/>
                  </a:lnTo>
                  <a:lnTo>
                    <a:pt x="199" y="209"/>
                  </a:lnTo>
                  <a:lnTo>
                    <a:pt x="208" y="220"/>
                  </a:lnTo>
                  <a:lnTo>
                    <a:pt x="215" y="232"/>
                  </a:lnTo>
                  <a:lnTo>
                    <a:pt x="268" y="320"/>
                  </a:lnTo>
                  <a:lnTo>
                    <a:pt x="217" y="320"/>
                  </a:lnTo>
                  <a:lnTo>
                    <a:pt x="177" y="253"/>
                  </a:lnTo>
                  <a:lnTo>
                    <a:pt x="169" y="240"/>
                  </a:lnTo>
                  <a:lnTo>
                    <a:pt x="161" y="228"/>
                  </a:lnTo>
                  <a:lnTo>
                    <a:pt x="155" y="217"/>
                  </a:lnTo>
                  <a:lnTo>
                    <a:pt x="149" y="209"/>
                  </a:lnTo>
                  <a:lnTo>
                    <a:pt x="143" y="202"/>
                  </a:lnTo>
                  <a:lnTo>
                    <a:pt x="138" y="196"/>
                  </a:lnTo>
                  <a:lnTo>
                    <a:pt x="133" y="191"/>
                  </a:lnTo>
                  <a:lnTo>
                    <a:pt x="129" y="188"/>
                  </a:lnTo>
                  <a:lnTo>
                    <a:pt x="119" y="182"/>
                  </a:lnTo>
                  <a:lnTo>
                    <a:pt x="109" y="179"/>
                  </a:lnTo>
                  <a:lnTo>
                    <a:pt x="101" y="178"/>
                  </a:lnTo>
                  <a:lnTo>
                    <a:pt x="87" y="178"/>
                  </a:lnTo>
                  <a:lnTo>
                    <a:pt x="41" y="178"/>
                  </a:lnTo>
                  <a:lnTo>
                    <a:pt x="41" y="320"/>
                  </a:lnTo>
                  <a:lnTo>
                    <a:pt x="0" y="320"/>
                  </a:lnTo>
                  <a:close/>
                  <a:moveTo>
                    <a:pt x="41" y="141"/>
                  </a:moveTo>
                  <a:lnTo>
                    <a:pt x="127" y="141"/>
                  </a:lnTo>
                  <a:lnTo>
                    <a:pt x="140" y="141"/>
                  </a:lnTo>
                  <a:lnTo>
                    <a:pt x="152" y="140"/>
                  </a:lnTo>
                  <a:lnTo>
                    <a:pt x="161" y="138"/>
                  </a:lnTo>
                  <a:lnTo>
                    <a:pt x="170" y="135"/>
                  </a:lnTo>
                  <a:lnTo>
                    <a:pt x="177" y="131"/>
                  </a:lnTo>
                  <a:lnTo>
                    <a:pt x="184" y="127"/>
                  </a:lnTo>
                  <a:lnTo>
                    <a:pt x="190" y="122"/>
                  </a:lnTo>
                  <a:lnTo>
                    <a:pt x="194" y="116"/>
                  </a:lnTo>
                  <a:lnTo>
                    <a:pt x="197" y="109"/>
                  </a:lnTo>
                  <a:lnTo>
                    <a:pt x="201" y="102"/>
                  </a:lnTo>
                  <a:lnTo>
                    <a:pt x="202" y="94"/>
                  </a:lnTo>
                  <a:lnTo>
                    <a:pt x="202" y="87"/>
                  </a:lnTo>
                  <a:lnTo>
                    <a:pt x="202" y="76"/>
                  </a:lnTo>
                  <a:lnTo>
                    <a:pt x="198" y="67"/>
                  </a:lnTo>
                  <a:lnTo>
                    <a:pt x="196" y="62"/>
                  </a:lnTo>
                  <a:lnTo>
                    <a:pt x="193" y="57"/>
                  </a:lnTo>
                  <a:lnTo>
                    <a:pt x="190" y="54"/>
                  </a:lnTo>
                  <a:lnTo>
                    <a:pt x="187" y="50"/>
                  </a:lnTo>
                  <a:lnTo>
                    <a:pt x="183" y="47"/>
                  </a:lnTo>
                  <a:lnTo>
                    <a:pt x="177" y="43"/>
                  </a:lnTo>
                  <a:lnTo>
                    <a:pt x="172" y="41"/>
                  </a:lnTo>
                  <a:lnTo>
                    <a:pt x="167" y="39"/>
                  </a:lnTo>
                  <a:lnTo>
                    <a:pt x="153" y="36"/>
                  </a:lnTo>
                  <a:lnTo>
                    <a:pt x="137" y="35"/>
                  </a:lnTo>
                  <a:lnTo>
                    <a:pt x="41" y="35"/>
                  </a:lnTo>
                  <a:lnTo>
                    <a:pt x="41" y="141"/>
                  </a:lnTo>
                  <a:close/>
                </a:path>
              </a:pathLst>
            </a:custGeom>
            <a:solidFill>
              <a:schemeClr val="tx1"/>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359" name="Freeform 46"/>
            <p:cNvSpPr/>
            <p:nvPr/>
          </p:nvSpPr>
          <p:spPr>
            <a:xfrm>
              <a:off x="3333960" y="9605520"/>
              <a:ext cx="45000" cy="59400"/>
            </a:xfrm>
            <a:custGeom>
              <a:avLst/>
              <a:gdLst>
                <a:gd name="textAreaLeft" fmla="*/ 0 w 45000"/>
                <a:gd name="textAreaRight" fmla="*/ 45360 w 45000"/>
                <a:gd name="textAreaTop" fmla="*/ 0 h 59400"/>
                <a:gd name="textAreaBottom" fmla="*/ 59760 h 59400"/>
              </a:gdLst>
              <a:ahLst/>
              <a:rect l="textAreaLeft" t="textAreaTop" r="textAreaRight" b="textAreaBottom"/>
              <a:pathLst>
                <a:path w="232" h="320">
                  <a:moveTo>
                    <a:pt x="0" y="320"/>
                  </a:moveTo>
                  <a:lnTo>
                    <a:pt x="0" y="0"/>
                  </a:lnTo>
                  <a:lnTo>
                    <a:pt x="114" y="0"/>
                  </a:lnTo>
                  <a:lnTo>
                    <a:pt x="129" y="0"/>
                  </a:lnTo>
                  <a:lnTo>
                    <a:pt x="141" y="1"/>
                  </a:lnTo>
                  <a:lnTo>
                    <a:pt x="151" y="1"/>
                  </a:lnTo>
                  <a:lnTo>
                    <a:pt x="161" y="3"/>
                  </a:lnTo>
                  <a:lnTo>
                    <a:pt x="172" y="5"/>
                  </a:lnTo>
                  <a:lnTo>
                    <a:pt x="181" y="9"/>
                  </a:lnTo>
                  <a:lnTo>
                    <a:pt x="191" y="13"/>
                  </a:lnTo>
                  <a:lnTo>
                    <a:pt x="198" y="18"/>
                  </a:lnTo>
                  <a:lnTo>
                    <a:pt x="205" y="24"/>
                  </a:lnTo>
                  <a:lnTo>
                    <a:pt x="212" y="31"/>
                  </a:lnTo>
                  <a:lnTo>
                    <a:pt x="218" y="39"/>
                  </a:lnTo>
                  <a:lnTo>
                    <a:pt x="223" y="49"/>
                  </a:lnTo>
                  <a:lnTo>
                    <a:pt x="227" y="58"/>
                  </a:lnTo>
                  <a:lnTo>
                    <a:pt x="230" y="70"/>
                  </a:lnTo>
                  <a:lnTo>
                    <a:pt x="232" y="81"/>
                  </a:lnTo>
                  <a:lnTo>
                    <a:pt x="232" y="92"/>
                  </a:lnTo>
                  <a:lnTo>
                    <a:pt x="232" y="103"/>
                  </a:lnTo>
                  <a:lnTo>
                    <a:pt x="231" y="112"/>
                  </a:lnTo>
                  <a:lnTo>
                    <a:pt x="229" y="121"/>
                  </a:lnTo>
                  <a:lnTo>
                    <a:pt x="226" y="130"/>
                  </a:lnTo>
                  <a:lnTo>
                    <a:pt x="222" y="139"/>
                  </a:lnTo>
                  <a:lnTo>
                    <a:pt x="218" y="146"/>
                  </a:lnTo>
                  <a:lnTo>
                    <a:pt x="213" y="154"/>
                  </a:lnTo>
                  <a:lnTo>
                    <a:pt x="208" y="161"/>
                  </a:lnTo>
                  <a:lnTo>
                    <a:pt x="200" y="169"/>
                  </a:lnTo>
                  <a:lnTo>
                    <a:pt x="193" y="174"/>
                  </a:lnTo>
                  <a:lnTo>
                    <a:pt x="183" y="179"/>
                  </a:lnTo>
                  <a:lnTo>
                    <a:pt x="173" y="182"/>
                  </a:lnTo>
                  <a:lnTo>
                    <a:pt x="161" y="185"/>
                  </a:lnTo>
                  <a:lnTo>
                    <a:pt x="148" y="188"/>
                  </a:lnTo>
                  <a:lnTo>
                    <a:pt x="133" y="190"/>
                  </a:lnTo>
                  <a:lnTo>
                    <a:pt x="119" y="190"/>
                  </a:lnTo>
                  <a:lnTo>
                    <a:pt x="40" y="190"/>
                  </a:lnTo>
                  <a:lnTo>
                    <a:pt x="40" y="320"/>
                  </a:lnTo>
                  <a:lnTo>
                    <a:pt x="0" y="320"/>
                  </a:lnTo>
                  <a:close/>
                  <a:moveTo>
                    <a:pt x="40" y="152"/>
                  </a:moveTo>
                  <a:lnTo>
                    <a:pt x="119" y="152"/>
                  </a:lnTo>
                  <a:lnTo>
                    <a:pt x="128" y="152"/>
                  </a:lnTo>
                  <a:lnTo>
                    <a:pt x="137" y="151"/>
                  </a:lnTo>
                  <a:lnTo>
                    <a:pt x="145" y="149"/>
                  </a:lnTo>
                  <a:lnTo>
                    <a:pt x="152" y="148"/>
                  </a:lnTo>
                  <a:lnTo>
                    <a:pt x="159" y="146"/>
                  </a:lnTo>
                  <a:lnTo>
                    <a:pt x="164" y="143"/>
                  </a:lnTo>
                  <a:lnTo>
                    <a:pt x="169" y="140"/>
                  </a:lnTo>
                  <a:lnTo>
                    <a:pt x="175" y="137"/>
                  </a:lnTo>
                  <a:lnTo>
                    <a:pt x="178" y="133"/>
                  </a:lnTo>
                  <a:lnTo>
                    <a:pt x="181" y="128"/>
                  </a:lnTo>
                  <a:lnTo>
                    <a:pt x="184" y="123"/>
                  </a:lnTo>
                  <a:lnTo>
                    <a:pt x="186" y="119"/>
                  </a:lnTo>
                  <a:lnTo>
                    <a:pt x="188" y="112"/>
                  </a:lnTo>
                  <a:lnTo>
                    <a:pt x="190" y="107"/>
                  </a:lnTo>
                  <a:lnTo>
                    <a:pt x="191" y="101"/>
                  </a:lnTo>
                  <a:lnTo>
                    <a:pt x="191" y="93"/>
                  </a:lnTo>
                  <a:lnTo>
                    <a:pt x="190" y="84"/>
                  </a:lnTo>
                  <a:lnTo>
                    <a:pt x="188" y="75"/>
                  </a:lnTo>
                  <a:lnTo>
                    <a:pt x="185" y="67"/>
                  </a:lnTo>
                  <a:lnTo>
                    <a:pt x="181" y="59"/>
                  </a:lnTo>
                  <a:lnTo>
                    <a:pt x="176" y="53"/>
                  </a:lnTo>
                  <a:lnTo>
                    <a:pt x="169" y="48"/>
                  </a:lnTo>
                  <a:lnTo>
                    <a:pt x="163" y="43"/>
                  </a:lnTo>
                  <a:lnTo>
                    <a:pt x="156" y="40"/>
                  </a:lnTo>
                  <a:lnTo>
                    <a:pt x="149" y="39"/>
                  </a:lnTo>
                  <a:lnTo>
                    <a:pt x="141" y="38"/>
                  </a:lnTo>
                  <a:lnTo>
                    <a:pt x="130" y="38"/>
                  </a:lnTo>
                  <a:lnTo>
                    <a:pt x="118" y="37"/>
                  </a:lnTo>
                  <a:lnTo>
                    <a:pt x="40" y="37"/>
                  </a:lnTo>
                  <a:lnTo>
                    <a:pt x="40" y="152"/>
                  </a:lnTo>
                  <a:close/>
                </a:path>
              </a:pathLst>
            </a:custGeom>
            <a:solidFill>
              <a:schemeClr val="tx1"/>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360" name="Freeform 47"/>
            <p:cNvSpPr/>
            <p:nvPr/>
          </p:nvSpPr>
          <p:spPr>
            <a:xfrm>
              <a:off x="3394080" y="9605520"/>
              <a:ext cx="52920" cy="59400"/>
            </a:xfrm>
            <a:custGeom>
              <a:avLst/>
              <a:gdLst>
                <a:gd name="textAreaLeft" fmla="*/ 0 w 52920"/>
                <a:gd name="textAreaRight" fmla="*/ 53280 w 52920"/>
                <a:gd name="textAreaTop" fmla="*/ 0 h 59400"/>
                <a:gd name="textAreaBottom" fmla="*/ 59760 h 59400"/>
              </a:gdLst>
              <a:ahLst/>
              <a:rect l="textAreaLeft" t="textAreaTop" r="textAreaRight" b="textAreaBottom"/>
              <a:pathLst>
                <a:path w="268" h="320">
                  <a:moveTo>
                    <a:pt x="0" y="320"/>
                  </a:moveTo>
                  <a:lnTo>
                    <a:pt x="0" y="0"/>
                  </a:lnTo>
                  <a:lnTo>
                    <a:pt x="135" y="0"/>
                  </a:lnTo>
                  <a:lnTo>
                    <a:pt x="154" y="0"/>
                  </a:lnTo>
                  <a:lnTo>
                    <a:pt x="171" y="2"/>
                  </a:lnTo>
                  <a:lnTo>
                    <a:pt x="185" y="4"/>
                  </a:lnTo>
                  <a:lnTo>
                    <a:pt x="197" y="9"/>
                  </a:lnTo>
                  <a:lnTo>
                    <a:pt x="207" y="14"/>
                  </a:lnTo>
                  <a:lnTo>
                    <a:pt x="216" y="20"/>
                  </a:lnTo>
                  <a:lnTo>
                    <a:pt x="224" y="29"/>
                  </a:lnTo>
                  <a:lnTo>
                    <a:pt x="231" y="39"/>
                  </a:lnTo>
                  <a:lnTo>
                    <a:pt x="236" y="50"/>
                  </a:lnTo>
                  <a:lnTo>
                    <a:pt x="241" y="62"/>
                  </a:lnTo>
                  <a:lnTo>
                    <a:pt x="243" y="74"/>
                  </a:lnTo>
                  <a:lnTo>
                    <a:pt x="244" y="87"/>
                  </a:lnTo>
                  <a:lnTo>
                    <a:pt x="243" y="95"/>
                  </a:lnTo>
                  <a:lnTo>
                    <a:pt x="242" y="104"/>
                  </a:lnTo>
                  <a:lnTo>
                    <a:pt x="241" y="111"/>
                  </a:lnTo>
                  <a:lnTo>
                    <a:pt x="239" y="119"/>
                  </a:lnTo>
                  <a:lnTo>
                    <a:pt x="235" y="125"/>
                  </a:lnTo>
                  <a:lnTo>
                    <a:pt x="231" y="133"/>
                  </a:lnTo>
                  <a:lnTo>
                    <a:pt x="227" y="139"/>
                  </a:lnTo>
                  <a:lnTo>
                    <a:pt x="223" y="144"/>
                  </a:lnTo>
                  <a:lnTo>
                    <a:pt x="216" y="151"/>
                  </a:lnTo>
                  <a:lnTo>
                    <a:pt x="210" y="155"/>
                  </a:lnTo>
                  <a:lnTo>
                    <a:pt x="204" y="160"/>
                  </a:lnTo>
                  <a:lnTo>
                    <a:pt x="195" y="163"/>
                  </a:lnTo>
                  <a:lnTo>
                    <a:pt x="187" y="167"/>
                  </a:lnTo>
                  <a:lnTo>
                    <a:pt x="178" y="170"/>
                  </a:lnTo>
                  <a:lnTo>
                    <a:pt x="168" y="173"/>
                  </a:lnTo>
                  <a:lnTo>
                    <a:pt x="157" y="174"/>
                  </a:lnTo>
                  <a:lnTo>
                    <a:pt x="172" y="182"/>
                  </a:lnTo>
                  <a:lnTo>
                    <a:pt x="181" y="190"/>
                  </a:lnTo>
                  <a:lnTo>
                    <a:pt x="191" y="199"/>
                  </a:lnTo>
                  <a:lnTo>
                    <a:pt x="199" y="209"/>
                  </a:lnTo>
                  <a:lnTo>
                    <a:pt x="207" y="220"/>
                  </a:lnTo>
                  <a:lnTo>
                    <a:pt x="215" y="232"/>
                  </a:lnTo>
                  <a:lnTo>
                    <a:pt x="268" y="320"/>
                  </a:lnTo>
                  <a:lnTo>
                    <a:pt x="217" y="320"/>
                  </a:lnTo>
                  <a:lnTo>
                    <a:pt x="177" y="253"/>
                  </a:lnTo>
                  <a:lnTo>
                    <a:pt x="169" y="240"/>
                  </a:lnTo>
                  <a:lnTo>
                    <a:pt x="161" y="228"/>
                  </a:lnTo>
                  <a:lnTo>
                    <a:pt x="154" y="217"/>
                  </a:lnTo>
                  <a:lnTo>
                    <a:pt x="149" y="209"/>
                  </a:lnTo>
                  <a:lnTo>
                    <a:pt x="142" y="202"/>
                  </a:lnTo>
                  <a:lnTo>
                    <a:pt x="137" y="196"/>
                  </a:lnTo>
                  <a:lnTo>
                    <a:pt x="133" y="191"/>
                  </a:lnTo>
                  <a:lnTo>
                    <a:pt x="127" y="188"/>
                  </a:lnTo>
                  <a:lnTo>
                    <a:pt x="119" y="182"/>
                  </a:lnTo>
                  <a:lnTo>
                    <a:pt x="109" y="179"/>
                  </a:lnTo>
                  <a:lnTo>
                    <a:pt x="100" y="178"/>
                  </a:lnTo>
                  <a:lnTo>
                    <a:pt x="87" y="178"/>
                  </a:lnTo>
                  <a:lnTo>
                    <a:pt x="41" y="178"/>
                  </a:lnTo>
                  <a:lnTo>
                    <a:pt x="41" y="320"/>
                  </a:lnTo>
                  <a:lnTo>
                    <a:pt x="0" y="320"/>
                  </a:lnTo>
                  <a:close/>
                  <a:moveTo>
                    <a:pt x="41" y="141"/>
                  </a:moveTo>
                  <a:lnTo>
                    <a:pt x="126" y="141"/>
                  </a:lnTo>
                  <a:lnTo>
                    <a:pt x="140" y="141"/>
                  </a:lnTo>
                  <a:lnTo>
                    <a:pt x="152" y="140"/>
                  </a:lnTo>
                  <a:lnTo>
                    <a:pt x="161" y="138"/>
                  </a:lnTo>
                  <a:lnTo>
                    <a:pt x="170" y="135"/>
                  </a:lnTo>
                  <a:lnTo>
                    <a:pt x="177" y="131"/>
                  </a:lnTo>
                  <a:lnTo>
                    <a:pt x="184" y="127"/>
                  </a:lnTo>
                  <a:lnTo>
                    <a:pt x="189" y="122"/>
                  </a:lnTo>
                  <a:lnTo>
                    <a:pt x="194" y="116"/>
                  </a:lnTo>
                  <a:lnTo>
                    <a:pt x="197" y="109"/>
                  </a:lnTo>
                  <a:lnTo>
                    <a:pt x="199" y="102"/>
                  </a:lnTo>
                  <a:lnTo>
                    <a:pt x="202" y="94"/>
                  </a:lnTo>
                  <a:lnTo>
                    <a:pt x="202" y="87"/>
                  </a:lnTo>
                  <a:lnTo>
                    <a:pt x="200" y="76"/>
                  </a:lnTo>
                  <a:lnTo>
                    <a:pt x="198" y="67"/>
                  </a:lnTo>
                  <a:lnTo>
                    <a:pt x="195" y="62"/>
                  </a:lnTo>
                  <a:lnTo>
                    <a:pt x="193" y="57"/>
                  </a:lnTo>
                  <a:lnTo>
                    <a:pt x="190" y="54"/>
                  </a:lnTo>
                  <a:lnTo>
                    <a:pt x="186" y="50"/>
                  </a:lnTo>
                  <a:lnTo>
                    <a:pt x="181" y="47"/>
                  </a:lnTo>
                  <a:lnTo>
                    <a:pt x="177" y="43"/>
                  </a:lnTo>
                  <a:lnTo>
                    <a:pt x="172" y="41"/>
                  </a:lnTo>
                  <a:lnTo>
                    <a:pt x="166" y="39"/>
                  </a:lnTo>
                  <a:lnTo>
                    <a:pt x="153" y="36"/>
                  </a:lnTo>
                  <a:lnTo>
                    <a:pt x="137" y="35"/>
                  </a:lnTo>
                  <a:lnTo>
                    <a:pt x="41" y="35"/>
                  </a:lnTo>
                  <a:lnTo>
                    <a:pt x="41" y="141"/>
                  </a:lnTo>
                  <a:close/>
                </a:path>
              </a:pathLst>
            </a:custGeom>
            <a:solidFill>
              <a:schemeClr val="tx1"/>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361" name="Rectangle 48"/>
            <p:cNvSpPr/>
            <p:nvPr/>
          </p:nvSpPr>
          <p:spPr>
            <a:xfrm>
              <a:off x="3461040" y="9605520"/>
              <a:ext cx="6480" cy="59400"/>
            </a:xfrm>
            <a:prstGeom prst="rect">
              <a:avLst/>
            </a:prstGeom>
            <a:solidFill>
              <a:schemeClr val="tx1"/>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362" name="Freeform 49"/>
            <p:cNvSpPr/>
            <p:nvPr/>
          </p:nvSpPr>
          <p:spPr>
            <a:xfrm>
              <a:off x="3484440" y="9604080"/>
              <a:ext cx="47520" cy="60480"/>
            </a:xfrm>
            <a:custGeom>
              <a:avLst/>
              <a:gdLst>
                <a:gd name="textAreaLeft" fmla="*/ 0 w 47520"/>
                <a:gd name="textAreaRight" fmla="*/ 47880 w 47520"/>
                <a:gd name="textAreaTop" fmla="*/ 0 h 60480"/>
                <a:gd name="textAreaBottom" fmla="*/ 60840 h 60480"/>
              </a:gdLst>
              <a:ahLst/>
              <a:rect l="textAreaLeft" t="textAreaTop" r="textAreaRight" b="textAreaBottom"/>
              <a:pathLst>
                <a:path w="243" h="330">
                  <a:moveTo>
                    <a:pt x="0" y="222"/>
                  </a:moveTo>
                  <a:lnTo>
                    <a:pt x="38" y="218"/>
                  </a:lnTo>
                  <a:lnTo>
                    <a:pt x="40" y="230"/>
                  </a:lnTo>
                  <a:lnTo>
                    <a:pt x="44" y="240"/>
                  </a:lnTo>
                  <a:lnTo>
                    <a:pt x="47" y="250"/>
                  </a:lnTo>
                  <a:lnTo>
                    <a:pt x="51" y="257"/>
                  </a:lnTo>
                  <a:lnTo>
                    <a:pt x="56" y="265"/>
                  </a:lnTo>
                  <a:lnTo>
                    <a:pt x="64" y="272"/>
                  </a:lnTo>
                  <a:lnTo>
                    <a:pt x="72" y="277"/>
                  </a:lnTo>
                  <a:lnTo>
                    <a:pt x="82" y="283"/>
                  </a:lnTo>
                  <a:lnTo>
                    <a:pt x="92" y="287"/>
                  </a:lnTo>
                  <a:lnTo>
                    <a:pt x="104" y="290"/>
                  </a:lnTo>
                  <a:lnTo>
                    <a:pt x="116" y="291"/>
                  </a:lnTo>
                  <a:lnTo>
                    <a:pt x="128" y="292"/>
                  </a:lnTo>
                  <a:lnTo>
                    <a:pt x="140" y="291"/>
                  </a:lnTo>
                  <a:lnTo>
                    <a:pt x="150" y="290"/>
                  </a:lnTo>
                  <a:lnTo>
                    <a:pt x="160" y="288"/>
                  </a:lnTo>
                  <a:lnTo>
                    <a:pt x="170" y="285"/>
                  </a:lnTo>
                  <a:lnTo>
                    <a:pt x="177" y="281"/>
                  </a:lnTo>
                  <a:lnTo>
                    <a:pt x="184" y="276"/>
                  </a:lnTo>
                  <a:lnTo>
                    <a:pt x="191" y="271"/>
                  </a:lnTo>
                  <a:lnTo>
                    <a:pt x="196" y="266"/>
                  </a:lnTo>
                  <a:lnTo>
                    <a:pt x="199" y="258"/>
                  </a:lnTo>
                  <a:lnTo>
                    <a:pt x="202" y="252"/>
                  </a:lnTo>
                  <a:lnTo>
                    <a:pt x="203" y="246"/>
                  </a:lnTo>
                  <a:lnTo>
                    <a:pt x="205" y="238"/>
                  </a:lnTo>
                  <a:lnTo>
                    <a:pt x="203" y="231"/>
                  </a:lnTo>
                  <a:lnTo>
                    <a:pt x="202" y="223"/>
                  </a:lnTo>
                  <a:lnTo>
                    <a:pt x="199" y="217"/>
                  </a:lnTo>
                  <a:lnTo>
                    <a:pt x="196" y="212"/>
                  </a:lnTo>
                  <a:lnTo>
                    <a:pt x="191" y="206"/>
                  </a:lnTo>
                  <a:lnTo>
                    <a:pt x="184" y="201"/>
                  </a:lnTo>
                  <a:lnTo>
                    <a:pt x="177" y="197"/>
                  </a:lnTo>
                  <a:lnTo>
                    <a:pt x="168" y="193"/>
                  </a:lnTo>
                  <a:lnTo>
                    <a:pt x="160" y="189"/>
                  </a:lnTo>
                  <a:lnTo>
                    <a:pt x="148" y="186"/>
                  </a:lnTo>
                  <a:lnTo>
                    <a:pt x="134" y="182"/>
                  </a:lnTo>
                  <a:lnTo>
                    <a:pt x="114" y="177"/>
                  </a:lnTo>
                  <a:lnTo>
                    <a:pt x="94" y="171"/>
                  </a:lnTo>
                  <a:lnTo>
                    <a:pt x="78" y="167"/>
                  </a:lnTo>
                  <a:lnTo>
                    <a:pt x="66" y="162"/>
                  </a:lnTo>
                  <a:lnTo>
                    <a:pt x="55" y="157"/>
                  </a:lnTo>
                  <a:lnTo>
                    <a:pt x="46" y="151"/>
                  </a:lnTo>
                  <a:lnTo>
                    <a:pt x="36" y="144"/>
                  </a:lnTo>
                  <a:lnTo>
                    <a:pt x="29" y="135"/>
                  </a:lnTo>
                  <a:lnTo>
                    <a:pt x="22" y="127"/>
                  </a:lnTo>
                  <a:lnTo>
                    <a:pt x="18" y="118"/>
                  </a:lnTo>
                  <a:lnTo>
                    <a:pt x="15" y="109"/>
                  </a:lnTo>
                  <a:lnTo>
                    <a:pt x="13" y="98"/>
                  </a:lnTo>
                  <a:lnTo>
                    <a:pt x="12" y="88"/>
                  </a:lnTo>
                  <a:lnTo>
                    <a:pt x="13" y="76"/>
                  </a:lnTo>
                  <a:lnTo>
                    <a:pt x="15" y="64"/>
                  </a:lnTo>
                  <a:lnTo>
                    <a:pt x="19" y="53"/>
                  </a:lnTo>
                  <a:lnTo>
                    <a:pt x="26" y="42"/>
                  </a:lnTo>
                  <a:lnTo>
                    <a:pt x="33" y="33"/>
                  </a:lnTo>
                  <a:lnTo>
                    <a:pt x="41" y="24"/>
                  </a:lnTo>
                  <a:lnTo>
                    <a:pt x="52" y="17"/>
                  </a:lnTo>
                  <a:lnTo>
                    <a:pt x="64" y="10"/>
                  </a:lnTo>
                  <a:lnTo>
                    <a:pt x="76" y="5"/>
                  </a:lnTo>
                  <a:lnTo>
                    <a:pt x="90" y="2"/>
                  </a:lnTo>
                  <a:lnTo>
                    <a:pt x="104" y="0"/>
                  </a:lnTo>
                  <a:lnTo>
                    <a:pt x="120" y="0"/>
                  </a:lnTo>
                  <a:lnTo>
                    <a:pt x="136" y="0"/>
                  </a:lnTo>
                  <a:lnTo>
                    <a:pt x="152" y="2"/>
                  </a:lnTo>
                  <a:lnTo>
                    <a:pt x="165" y="6"/>
                  </a:lnTo>
                  <a:lnTo>
                    <a:pt x="179" y="10"/>
                  </a:lnTo>
                  <a:lnTo>
                    <a:pt x="192" y="18"/>
                  </a:lnTo>
                  <a:lnTo>
                    <a:pt x="202" y="25"/>
                  </a:lnTo>
                  <a:lnTo>
                    <a:pt x="211" y="34"/>
                  </a:lnTo>
                  <a:lnTo>
                    <a:pt x="219" y="44"/>
                  </a:lnTo>
                  <a:lnTo>
                    <a:pt x="225" y="56"/>
                  </a:lnTo>
                  <a:lnTo>
                    <a:pt x="230" y="69"/>
                  </a:lnTo>
                  <a:lnTo>
                    <a:pt x="232" y="81"/>
                  </a:lnTo>
                  <a:lnTo>
                    <a:pt x="234" y="95"/>
                  </a:lnTo>
                  <a:lnTo>
                    <a:pt x="195" y="98"/>
                  </a:lnTo>
                  <a:lnTo>
                    <a:pt x="194" y="91"/>
                  </a:lnTo>
                  <a:lnTo>
                    <a:pt x="193" y="83"/>
                  </a:lnTo>
                  <a:lnTo>
                    <a:pt x="191" y="77"/>
                  </a:lnTo>
                  <a:lnTo>
                    <a:pt x="189" y="72"/>
                  </a:lnTo>
                  <a:lnTo>
                    <a:pt x="185" y="65"/>
                  </a:lnTo>
                  <a:lnTo>
                    <a:pt x="182" y="61"/>
                  </a:lnTo>
                  <a:lnTo>
                    <a:pt x="178" y="56"/>
                  </a:lnTo>
                  <a:lnTo>
                    <a:pt x="174" y="52"/>
                  </a:lnTo>
                  <a:lnTo>
                    <a:pt x="170" y="48"/>
                  </a:lnTo>
                  <a:lnTo>
                    <a:pt x="164" y="45"/>
                  </a:lnTo>
                  <a:lnTo>
                    <a:pt x="158" y="43"/>
                  </a:lnTo>
                  <a:lnTo>
                    <a:pt x="152" y="41"/>
                  </a:lnTo>
                  <a:lnTo>
                    <a:pt x="145" y="39"/>
                  </a:lnTo>
                  <a:lnTo>
                    <a:pt x="138" y="38"/>
                  </a:lnTo>
                  <a:lnTo>
                    <a:pt x="129" y="37"/>
                  </a:lnTo>
                  <a:lnTo>
                    <a:pt x="121" y="37"/>
                  </a:lnTo>
                  <a:lnTo>
                    <a:pt x="104" y="38"/>
                  </a:lnTo>
                  <a:lnTo>
                    <a:pt x="89" y="40"/>
                  </a:lnTo>
                  <a:lnTo>
                    <a:pt x="83" y="42"/>
                  </a:lnTo>
                  <a:lnTo>
                    <a:pt x="77" y="44"/>
                  </a:lnTo>
                  <a:lnTo>
                    <a:pt x="72" y="47"/>
                  </a:lnTo>
                  <a:lnTo>
                    <a:pt x="68" y="51"/>
                  </a:lnTo>
                  <a:lnTo>
                    <a:pt x="60" y="58"/>
                  </a:lnTo>
                  <a:lnTo>
                    <a:pt x="55" y="67"/>
                  </a:lnTo>
                  <a:lnTo>
                    <a:pt x="53" y="71"/>
                  </a:lnTo>
                  <a:lnTo>
                    <a:pt x="52" y="75"/>
                  </a:lnTo>
                  <a:lnTo>
                    <a:pt x="51" y="80"/>
                  </a:lnTo>
                  <a:lnTo>
                    <a:pt x="51" y="85"/>
                  </a:lnTo>
                  <a:lnTo>
                    <a:pt x="52" y="93"/>
                  </a:lnTo>
                  <a:lnTo>
                    <a:pt x="54" y="100"/>
                  </a:lnTo>
                  <a:lnTo>
                    <a:pt x="57" y="107"/>
                  </a:lnTo>
                  <a:lnTo>
                    <a:pt x="63" y="113"/>
                  </a:lnTo>
                  <a:lnTo>
                    <a:pt x="67" y="116"/>
                  </a:lnTo>
                  <a:lnTo>
                    <a:pt x="71" y="118"/>
                  </a:lnTo>
                  <a:lnTo>
                    <a:pt x="76" y="122"/>
                  </a:lnTo>
                  <a:lnTo>
                    <a:pt x="84" y="125"/>
                  </a:lnTo>
                  <a:lnTo>
                    <a:pt x="102" y="130"/>
                  </a:lnTo>
                  <a:lnTo>
                    <a:pt x="124" y="135"/>
                  </a:lnTo>
                  <a:lnTo>
                    <a:pt x="146" y="142"/>
                  </a:lnTo>
                  <a:lnTo>
                    <a:pt x="165" y="147"/>
                  </a:lnTo>
                  <a:lnTo>
                    <a:pt x="180" y="151"/>
                  </a:lnTo>
                  <a:lnTo>
                    <a:pt x="191" y="157"/>
                  </a:lnTo>
                  <a:lnTo>
                    <a:pt x="203" y="163"/>
                  </a:lnTo>
                  <a:lnTo>
                    <a:pt x="214" y="170"/>
                  </a:lnTo>
                  <a:lnTo>
                    <a:pt x="224" y="180"/>
                  </a:lnTo>
                  <a:lnTo>
                    <a:pt x="230" y="188"/>
                  </a:lnTo>
                  <a:lnTo>
                    <a:pt x="236" y="199"/>
                  </a:lnTo>
                  <a:lnTo>
                    <a:pt x="239" y="211"/>
                  </a:lnTo>
                  <a:lnTo>
                    <a:pt x="243" y="222"/>
                  </a:lnTo>
                  <a:lnTo>
                    <a:pt x="243" y="234"/>
                  </a:lnTo>
                  <a:lnTo>
                    <a:pt x="243" y="247"/>
                  </a:lnTo>
                  <a:lnTo>
                    <a:pt x="239" y="259"/>
                  </a:lnTo>
                  <a:lnTo>
                    <a:pt x="235" y="271"/>
                  </a:lnTo>
                  <a:lnTo>
                    <a:pt x="229" y="283"/>
                  </a:lnTo>
                  <a:lnTo>
                    <a:pt x="221" y="293"/>
                  </a:lnTo>
                  <a:lnTo>
                    <a:pt x="212" y="303"/>
                  </a:lnTo>
                  <a:lnTo>
                    <a:pt x="201" y="310"/>
                  </a:lnTo>
                  <a:lnTo>
                    <a:pt x="189" y="318"/>
                  </a:lnTo>
                  <a:lnTo>
                    <a:pt x="176" y="323"/>
                  </a:lnTo>
                  <a:lnTo>
                    <a:pt x="161" y="327"/>
                  </a:lnTo>
                  <a:lnTo>
                    <a:pt x="146" y="329"/>
                  </a:lnTo>
                  <a:lnTo>
                    <a:pt x="130" y="330"/>
                  </a:lnTo>
                  <a:lnTo>
                    <a:pt x="110" y="329"/>
                  </a:lnTo>
                  <a:lnTo>
                    <a:pt x="92" y="327"/>
                  </a:lnTo>
                  <a:lnTo>
                    <a:pt x="76" y="323"/>
                  </a:lnTo>
                  <a:lnTo>
                    <a:pt x="62" y="318"/>
                  </a:lnTo>
                  <a:lnTo>
                    <a:pt x="54" y="314"/>
                  </a:lnTo>
                  <a:lnTo>
                    <a:pt x="48" y="310"/>
                  </a:lnTo>
                  <a:lnTo>
                    <a:pt x="41" y="306"/>
                  </a:lnTo>
                  <a:lnTo>
                    <a:pt x="36" y="302"/>
                  </a:lnTo>
                  <a:lnTo>
                    <a:pt x="31" y="296"/>
                  </a:lnTo>
                  <a:lnTo>
                    <a:pt x="26" y="291"/>
                  </a:lnTo>
                  <a:lnTo>
                    <a:pt x="21" y="286"/>
                  </a:lnTo>
                  <a:lnTo>
                    <a:pt x="17" y="280"/>
                  </a:lnTo>
                  <a:lnTo>
                    <a:pt x="11" y="267"/>
                  </a:lnTo>
                  <a:lnTo>
                    <a:pt x="5" y="252"/>
                  </a:lnTo>
                  <a:lnTo>
                    <a:pt x="2" y="237"/>
                  </a:lnTo>
                  <a:lnTo>
                    <a:pt x="0" y="222"/>
                  </a:lnTo>
                  <a:close/>
                </a:path>
              </a:pathLst>
            </a:custGeom>
            <a:solidFill>
              <a:schemeClr val="tx1"/>
            </a:solidFill>
            <a:ln w="0">
              <a:noFill/>
            </a:ln>
          </p:spPr>
          <p:style>
            <a:lnRef idx="0"/>
            <a:fillRef idx="0"/>
            <a:effectRef idx="0"/>
            <a:fontRef idx="minor"/>
          </p:style>
          <p:txBody>
            <a:bodyPr lIns="90000" rIns="90000" tIns="15840" bIns="15840" anchor="t">
              <a:noAutofit/>
            </a:bodyPr>
            <a:p>
              <a:pPr>
                <a:lnSpc>
                  <a:spcPct val="100000"/>
                </a:lnSpc>
              </a:pPr>
              <a:endParaRPr b="0" lang="en-US" sz="1800" spc="-1" strike="noStrike">
                <a:solidFill>
                  <a:srgbClr val="d79f00"/>
                </a:solidFill>
                <a:latin typeface="Arial"/>
                <a:ea typeface="宋体"/>
              </a:endParaRPr>
            </a:p>
          </p:txBody>
        </p:sp>
        <p:sp>
          <p:nvSpPr>
            <p:cNvPr id="363" name="Freeform 50"/>
            <p:cNvSpPr/>
            <p:nvPr/>
          </p:nvSpPr>
          <p:spPr>
            <a:xfrm>
              <a:off x="3548880" y="9605520"/>
              <a:ext cx="43560" cy="59400"/>
            </a:xfrm>
            <a:custGeom>
              <a:avLst/>
              <a:gdLst>
                <a:gd name="textAreaLeft" fmla="*/ 0 w 43560"/>
                <a:gd name="textAreaRight" fmla="*/ 43920 w 43560"/>
                <a:gd name="textAreaTop" fmla="*/ 0 h 59400"/>
                <a:gd name="textAreaBottom" fmla="*/ 59760 h 59400"/>
              </a:gdLst>
              <a:ahLst/>
              <a:rect l="textAreaLeft" t="textAreaTop" r="textAreaRight" b="textAreaBottom"/>
              <a:pathLst>
                <a:path w="228" h="320">
                  <a:moveTo>
                    <a:pt x="0" y="320"/>
                  </a:moveTo>
                  <a:lnTo>
                    <a:pt x="0" y="0"/>
                  </a:lnTo>
                  <a:lnTo>
                    <a:pt x="221" y="0"/>
                  </a:lnTo>
                  <a:lnTo>
                    <a:pt x="221" y="37"/>
                  </a:lnTo>
                  <a:lnTo>
                    <a:pt x="40" y="37"/>
                  </a:lnTo>
                  <a:lnTo>
                    <a:pt x="40" y="136"/>
                  </a:lnTo>
                  <a:lnTo>
                    <a:pt x="210" y="136"/>
                  </a:lnTo>
                  <a:lnTo>
                    <a:pt x="210" y="173"/>
                  </a:lnTo>
                  <a:lnTo>
                    <a:pt x="40" y="173"/>
                  </a:lnTo>
                  <a:lnTo>
                    <a:pt x="40" y="282"/>
                  </a:lnTo>
                  <a:lnTo>
                    <a:pt x="228" y="282"/>
                  </a:lnTo>
                  <a:lnTo>
                    <a:pt x="228" y="320"/>
                  </a:lnTo>
                  <a:lnTo>
                    <a:pt x="0" y="320"/>
                  </a:lnTo>
                  <a:close/>
                </a:path>
              </a:pathLst>
            </a:custGeom>
            <a:solidFill>
              <a:schemeClr val="tx1"/>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364" name="Freeform 51"/>
            <p:cNvSpPr/>
            <p:nvPr/>
          </p:nvSpPr>
          <p:spPr>
            <a:xfrm>
              <a:off x="3633840" y="9605520"/>
              <a:ext cx="55800" cy="59400"/>
            </a:xfrm>
            <a:custGeom>
              <a:avLst/>
              <a:gdLst>
                <a:gd name="textAreaLeft" fmla="*/ 0 w 55800"/>
                <a:gd name="textAreaRight" fmla="*/ 56160 w 55800"/>
                <a:gd name="textAreaTop" fmla="*/ 0 h 59400"/>
                <a:gd name="textAreaBottom" fmla="*/ 59760 h 59400"/>
              </a:gdLst>
              <a:ahLst/>
              <a:rect l="textAreaLeft" t="textAreaTop" r="textAreaRight" b="textAreaBottom"/>
              <a:pathLst>
                <a:path w="290" h="320">
                  <a:moveTo>
                    <a:pt x="0" y="320"/>
                  </a:moveTo>
                  <a:lnTo>
                    <a:pt x="0" y="0"/>
                  </a:lnTo>
                  <a:lnTo>
                    <a:pt x="60" y="0"/>
                  </a:lnTo>
                  <a:lnTo>
                    <a:pt x="132" y="226"/>
                  </a:lnTo>
                  <a:lnTo>
                    <a:pt x="136" y="241"/>
                  </a:lnTo>
                  <a:lnTo>
                    <a:pt x="140" y="254"/>
                  </a:lnTo>
                  <a:lnTo>
                    <a:pt x="144" y="265"/>
                  </a:lnTo>
                  <a:lnTo>
                    <a:pt x="147" y="273"/>
                  </a:lnTo>
                  <a:lnTo>
                    <a:pt x="150" y="264"/>
                  </a:lnTo>
                  <a:lnTo>
                    <a:pt x="153" y="252"/>
                  </a:lnTo>
                  <a:lnTo>
                    <a:pt x="157" y="238"/>
                  </a:lnTo>
                  <a:lnTo>
                    <a:pt x="163" y="223"/>
                  </a:lnTo>
                  <a:lnTo>
                    <a:pt x="236" y="0"/>
                  </a:lnTo>
                  <a:lnTo>
                    <a:pt x="290" y="0"/>
                  </a:lnTo>
                  <a:lnTo>
                    <a:pt x="290" y="320"/>
                  </a:lnTo>
                  <a:lnTo>
                    <a:pt x="251" y="320"/>
                  </a:lnTo>
                  <a:lnTo>
                    <a:pt x="251" y="52"/>
                  </a:lnTo>
                  <a:lnTo>
                    <a:pt x="163" y="320"/>
                  </a:lnTo>
                  <a:lnTo>
                    <a:pt x="127" y="320"/>
                  </a:lnTo>
                  <a:lnTo>
                    <a:pt x="38" y="48"/>
                  </a:lnTo>
                  <a:lnTo>
                    <a:pt x="38" y="320"/>
                  </a:lnTo>
                  <a:lnTo>
                    <a:pt x="0" y="320"/>
                  </a:lnTo>
                  <a:close/>
                </a:path>
              </a:pathLst>
            </a:custGeom>
            <a:solidFill>
              <a:schemeClr val="tx1"/>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365" name="Freeform 52"/>
            <p:cNvSpPr/>
            <p:nvPr/>
          </p:nvSpPr>
          <p:spPr>
            <a:xfrm>
              <a:off x="3700800" y="9605520"/>
              <a:ext cx="55800" cy="59400"/>
            </a:xfrm>
            <a:custGeom>
              <a:avLst/>
              <a:gdLst>
                <a:gd name="textAreaLeft" fmla="*/ 0 w 55800"/>
                <a:gd name="textAreaRight" fmla="*/ 56160 w 55800"/>
                <a:gd name="textAreaTop" fmla="*/ 0 h 59400"/>
                <a:gd name="textAreaBottom" fmla="*/ 59760 h 59400"/>
              </a:gdLst>
              <a:ahLst/>
              <a:rect l="textAreaLeft" t="textAreaTop" r="textAreaRight" b="textAreaBottom"/>
              <a:pathLst>
                <a:path w="285" h="320">
                  <a:moveTo>
                    <a:pt x="0" y="320"/>
                  </a:moveTo>
                  <a:lnTo>
                    <a:pt x="118" y="0"/>
                  </a:lnTo>
                  <a:lnTo>
                    <a:pt x="161" y="0"/>
                  </a:lnTo>
                  <a:lnTo>
                    <a:pt x="285" y="320"/>
                  </a:lnTo>
                  <a:lnTo>
                    <a:pt x="239" y="320"/>
                  </a:lnTo>
                  <a:lnTo>
                    <a:pt x="204" y="223"/>
                  </a:lnTo>
                  <a:lnTo>
                    <a:pt x="76" y="223"/>
                  </a:lnTo>
                  <a:lnTo>
                    <a:pt x="43" y="320"/>
                  </a:lnTo>
                  <a:lnTo>
                    <a:pt x="0" y="320"/>
                  </a:lnTo>
                  <a:close/>
                  <a:moveTo>
                    <a:pt x="88" y="189"/>
                  </a:moveTo>
                  <a:lnTo>
                    <a:pt x="192" y="189"/>
                  </a:lnTo>
                  <a:lnTo>
                    <a:pt x="160" y="100"/>
                  </a:lnTo>
                  <a:lnTo>
                    <a:pt x="152" y="81"/>
                  </a:lnTo>
                  <a:lnTo>
                    <a:pt x="147" y="63"/>
                  </a:lnTo>
                  <a:lnTo>
                    <a:pt x="142" y="48"/>
                  </a:lnTo>
                  <a:lnTo>
                    <a:pt x="138" y="33"/>
                  </a:lnTo>
                  <a:lnTo>
                    <a:pt x="134" y="49"/>
                  </a:lnTo>
                  <a:lnTo>
                    <a:pt x="131" y="64"/>
                  </a:lnTo>
                  <a:lnTo>
                    <a:pt x="127" y="80"/>
                  </a:lnTo>
                  <a:lnTo>
                    <a:pt x="122" y="94"/>
                  </a:lnTo>
                  <a:lnTo>
                    <a:pt x="88" y="189"/>
                  </a:lnTo>
                  <a:close/>
                </a:path>
              </a:pathLst>
            </a:custGeom>
            <a:solidFill>
              <a:schemeClr val="tx1"/>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366" name="Freeform 53"/>
            <p:cNvSpPr/>
            <p:nvPr/>
          </p:nvSpPr>
          <p:spPr>
            <a:xfrm>
              <a:off x="3767760" y="9605520"/>
              <a:ext cx="47520" cy="59400"/>
            </a:xfrm>
            <a:custGeom>
              <a:avLst/>
              <a:gdLst>
                <a:gd name="textAreaLeft" fmla="*/ 0 w 47520"/>
                <a:gd name="textAreaRight" fmla="*/ 47880 w 47520"/>
                <a:gd name="textAreaTop" fmla="*/ 0 h 59400"/>
                <a:gd name="textAreaBottom" fmla="*/ 59760 h 59400"/>
              </a:gdLst>
              <a:ahLst/>
              <a:rect l="textAreaLeft" t="textAreaTop" r="textAreaRight" b="textAreaBottom"/>
              <a:pathLst>
                <a:path w="239" h="320">
                  <a:moveTo>
                    <a:pt x="0" y="320"/>
                  </a:moveTo>
                  <a:lnTo>
                    <a:pt x="0" y="0"/>
                  </a:lnTo>
                  <a:lnTo>
                    <a:pt x="41" y="0"/>
                  </a:lnTo>
                  <a:lnTo>
                    <a:pt x="201" y="251"/>
                  </a:lnTo>
                  <a:lnTo>
                    <a:pt x="201" y="0"/>
                  </a:lnTo>
                  <a:lnTo>
                    <a:pt x="239" y="0"/>
                  </a:lnTo>
                  <a:lnTo>
                    <a:pt x="239" y="320"/>
                  </a:lnTo>
                  <a:lnTo>
                    <a:pt x="198" y="320"/>
                  </a:lnTo>
                  <a:lnTo>
                    <a:pt x="38" y="68"/>
                  </a:lnTo>
                  <a:lnTo>
                    <a:pt x="38" y="320"/>
                  </a:lnTo>
                  <a:lnTo>
                    <a:pt x="0" y="320"/>
                  </a:lnTo>
                  <a:close/>
                </a:path>
              </a:pathLst>
            </a:custGeom>
            <a:solidFill>
              <a:schemeClr val="tx1"/>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367" name="Freeform 54"/>
            <p:cNvSpPr/>
            <p:nvPr/>
          </p:nvSpPr>
          <p:spPr>
            <a:xfrm>
              <a:off x="3826800" y="9605520"/>
              <a:ext cx="55800" cy="59400"/>
            </a:xfrm>
            <a:custGeom>
              <a:avLst/>
              <a:gdLst>
                <a:gd name="textAreaLeft" fmla="*/ 0 w 55800"/>
                <a:gd name="textAreaRight" fmla="*/ 56160 w 55800"/>
                <a:gd name="textAreaTop" fmla="*/ 0 h 59400"/>
                <a:gd name="textAreaBottom" fmla="*/ 59760 h 59400"/>
              </a:gdLst>
              <a:ahLst/>
              <a:rect l="textAreaLeft" t="textAreaTop" r="textAreaRight" b="textAreaBottom"/>
              <a:pathLst>
                <a:path w="285" h="320">
                  <a:moveTo>
                    <a:pt x="0" y="320"/>
                  </a:moveTo>
                  <a:lnTo>
                    <a:pt x="116" y="0"/>
                  </a:lnTo>
                  <a:lnTo>
                    <a:pt x="160" y="0"/>
                  </a:lnTo>
                  <a:lnTo>
                    <a:pt x="285" y="320"/>
                  </a:lnTo>
                  <a:lnTo>
                    <a:pt x="239" y="320"/>
                  </a:lnTo>
                  <a:lnTo>
                    <a:pt x="203" y="223"/>
                  </a:lnTo>
                  <a:lnTo>
                    <a:pt x="76" y="223"/>
                  </a:lnTo>
                  <a:lnTo>
                    <a:pt x="42" y="320"/>
                  </a:lnTo>
                  <a:lnTo>
                    <a:pt x="0" y="320"/>
                  </a:lnTo>
                  <a:close/>
                  <a:moveTo>
                    <a:pt x="88" y="189"/>
                  </a:moveTo>
                  <a:lnTo>
                    <a:pt x="192" y="189"/>
                  </a:lnTo>
                  <a:lnTo>
                    <a:pt x="159" y="100"/>
                  </a:lnTo>
                  <a:lnTo>
                    <a:pt x="152" y="81"/>
                  </a:lnTo>
                  <a:lnTo>
                    <a:pt x="147" y="63"/>
                  </a:lnTo>
                  <a:lnTo>
                    <a:pt x="142" y="48"/>
                  </a:lnTo>
                  <a:lnTo>
                    <a:pt x="138" y="33"/>
                  </a:lnTo>
                  <a:lnTo>
                    <a:pt x="134" y="49"/>
                  </a:lnTo>
                  <a:lnTo>
                    <a:pt x="130" y="64"/>
                  </a:lnTo>
                  <a:lnTo>
                    <a:pt x="126" y="80"/>
                  </a:lnTo>
                  <a:lnTo>
                    <a:pt x="122" y="94"/>
                  </a:lnTo>
                  <a:lnTo>
                    <a:pt x="88" y="189"/>
                  </a:lnTo>
                  <a:close/>
                </a:path>
              </a:pathLst>
            </a:custGeom>
            <a:solidFill>
              <a:schemeClr val="tx1"/>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368" name="Freeform 55"/>
            <p:cNvSpPr/>
            <p:nvPr/>
          </p:nvSpPr>
          <p:spPr>
            <a:xfrm>
              <a:off x="3892680" y="9604080"/>
              <a:ext cx="54360" cy="60480"/>
            </a:xfrm>
            <a:custGeom>
              <a:avLst/>
              <a:gdLst>
                <a:gd name="textAreaLeft" fmla="*/ 0 w 54360"/>
                <a:gd name="textAreaRight" fmla="*/ 54720 w 54360"/>
                <a:gd name="textAreaTop" fmla="*/ 0 h 60480"/>
                <a:gd name="textAreaBottom" fmla="*/ 60840 h 60480"/>
              </a:gdLst>
              <a:ahLst/>
              <a:rect l="textAreaLeft" t="textAreaTop" r="textAreaRight" b="textAreaBottom"/>
              <a:pathLst>
                <a:path w="282" h="330">
                  <a:moveTo>
                    <a:pt x="154" y="199"/>
                  </a:moveTo>
                  <a:lnTo>
                    <a:pt x="154" y="162"/>
                  </a:lnTo>
                  <a:lnTo>
                    <a:pt x="282" y="162"/>
                  </a:lnTo>
                  <a:lnTo>
                    <a:pt x="282" y="281"/>
                  </a:lnTo>
                  <a:lnTo>
                    <a:pt x="267" y="292"/>
                  </a:lnTo>
                  <a:lnTo>
                    <a:pt x="253" y="302"/>
                  </a:lnTo>
                  <a:lnTo>
                    <a:pt x="237" y="310"/>
                  </a:lnTo>
                  <a:lnTo>
                    <a:pt x="221" y="318"/>
                  </a:lnTo>
                  <a:lnTo>
                    <a:pt x="205" y="323"/>
                  </a:lnTo>
                  <a:lnTo>
                    <a:pt x="189" y="327"/>
                  </a:lnTo>
                  <a:lnTo>
                    <a:pt x="173" y="329"/>
                  </a:lnTo>
                  <a:lnTo>
                    <a:pt x="156" y="330"/>
                  </a:lnTo>
                  <a:lnTo>
                    <a:pt x="146" y="329"/>
                  </a:lnTo>
                  <a:lnTo>
                    <a:pt x="135" y="329"/>
                  </a:lnTo>
                  <a:lnTo>
                    <a:pt x="124" y="327"/>
                  </a:lnTo>
                  <a:lnTo>
                    <a:pt x="114" y="325"/>
                  </a:lnTo>
                  <a:lnTo>
                    <a:pt x="103" y="322"/>
                  </a:lnTo>
                  <a:lnTo>
                    <a:pt x="94" y="319"/>
                  </a:lnTo>
                  <a:lnTo>
                    <a:pt x="84" y="314"/>
                  </a:lnTo>
                  <a:lnTo>
                    <a:pt x="75" y="310"/>
                  </a:lnTo>
                  <a:lnTo>
                    <a:pt x="66" y="305"/>
                  </a:lnTo>
                  <a:lnTo>
                    <a:pt x="58" y="299"/>
                  </a:lnTo>
                  <a:lnTo>
                    <a:pt x="50" y="292"/>
                  </a:lnTo>
                  <a:lnTo>
                    <a:pt x="43" y="285"/>
                  </a:lnTo>
                  <a:lnTo>
                    <a:pt x="36" y="277"/>
                  </a:lnTo>
                  <a:lnTo>
                    <a:pt x="30" y="270"/>
                  </a:lnTo>
                  <a:lnTo>
                    <a:pt x="25" y="260"/>
                  </a:lnTo>
                  <a:lnTo>
                    <a:pt x="20" y="252"/>
                  </a:lnTo>
                  <a:lnTo>
                    <a:pt x="15" y="242"/>
                  </a:lnTo>
                  <a:lnTo>
                    <a:pt x="11" y="232"/>
                  </a:lnTo>
                  <a:lnTo>
                    <a:pt x="8" y="221"/>
                  </a:lnTo>
                  <a:lnTo>
                    <a:pt x="6" y="212"/>
                  </a:lnTo>
                  <a:lnTo>
                    <a:pt x="4" y="200"/>
                  </a:lnTo>
                  <a:lnTo>
                    <a:pt x="2" y="189"/>
                  </a:lnTo>
                  <a:lnTo>
                    <a:pt x="2" y="178"/>
                  </a:lnTo>
                  <a:lnTo>
                    <a:pt x="0" y="166"/>
                  </a:lnTo>
                  <a:lnTo>
                    <a:pt x="2" y="154"/>
                  </a:lnTo>
                  <a:lnTo>
                    <a:pt x="2" y="143"/>
                  </a:lnTo>
                  <a:lnTo>
                    <a:pt x="4" y="132"/>
                  </a:lnTo>
                  <a:lnTo>
                    <a:pt x="6" y="122"/>
                  </a:lnTo>
                  <a:lnTo>
                    <a:pt x="8" y="110"/>
                  </a:lnTo>
                  <a:lnTo>
                    <a:pt x="11" y="99"/>
                  </a:lnTo>
                  <a:lnTo>
                    <a:pt x="15" y="90"/>
                  </a:lnTo>
                  <a:lnTo>
                    <a:pt x="20" y="79"/>
                  </a:lnTo>
                  <a:lnTo>
                    <a:pt x="24" y="70"/>
                  </a:lnTo>
                  <a:lnTo>
                    <a:pt x="30" y="60"/>
                  </a:lnTo>
                  <a:lnTo>
                    <a:pt x="35" y="52"/>
                  </a:lnTo>
                  <a:lnTo>
                    <a:pt x="42" y="44"/>
                  </a:lnTo>
                  <a:lnTo>
                    <a:pt x="49" y="37"/>
                  </a:lnTo>
                  <a:lnTo>
                    <a:pt x="57" y="30"/>
                  </a:lnTo>
                  <a:lnTo>
                    <a:pt x="64" y="24"/>
                  </a:lnTo>
                  <a:lnTo>
                    <a:pt x="72" y="19"/>
                  </a:lnTo>
                  <a:lnTo>
                    <a:pt x="82" y="15"/>
                  </a:lnTo>
                  <a:lnTo>
                    <a:pt x="90" y="10"/>
                  </a:lnTo>
                  <a:lnTo>
                    <a:pt x="100" y="7"/>
                  </a:lnTo>
                  <a:lnTo>
                    <a:pt x="111" y="4"/>
                  </a:lnTo>
                  <a:lnTo>
                    <a:pt x="120" y="2"/>
                  </a:lnTo>
                  <a:lnTo>
                    <a:pt x="131" y="1"/>
                  </a:lnTo>
                  <a:lnTo>
                    <a:pt x="142" y="0"/>
                  </a:lnTo>
                  <a:lnTo>
                    <a:pt x="153" y="0"/>
                  </a:lnTo>
                  <a:lnTo>
                    <a:pt x="170" y="0"/>
                  </a:lnTo>
                  <a:lnTo>
                    <a:pt x="185" y="2"/>
                  </a:lnTo>
                  <a:lnTo>
                    <a:pt x="200" y="6"/>
                  </a:lnTo>
                  <a:lnTo>
                    <a:pt x="213" y="10"/>
                  </a:lnTo>
                  <a:lnTo>
                    <a:pt x="226" y="17"/>
                  </a:lnTo>
                  <a:lnTo>
                    <a:pt x="237" y="24"/>
                  </a:lnTo>
                  <a:lnTo>
                    <a:pt x="246" y="33"/>
                  </a:lnTo>
                  <a:lnTo>
                    <a:pt x="255" y="42"/>
                  </a:lnTo>
                  <a:lnTo>
                    <a:pt x="262" y="53"/>
                  </a:lnTo>
                  <a:lnTo>
                    <a:pt x="268" y="65"/>
                  </a:lnTo>
                  <a:lnTo>
                    <a:pt x="274" y="79"/>
                  </a:lnTo>
                  <a:lnTo>
                    <a:pt x="278" y="94"/>
                  </a:lnTo>
                  <a:lnTo>
                    <a:pt x="242" y="105"/>
                  </a:lnTo>
                  <a:lnTo>
                    <a:pt x="238" y="93"/>
                  </a:lnTo>
                  <a:lnTo>
                    <a:pt x="233" y="82"/>
                  </a:lnTo>
                  <a:lnTo>
                    <a:pt x="229" y="74"/>
                  </a:lnTo>
                  <a:lnTo>
                    <a:pt x="225" y="67"/>
                  </a:lnTo>
                  <a:lnTo>
                    <a:pt x="219" y="60"/>
                  </a:lnTo>
                  <a:lnTo>
                    <a:pt x="212" y="54"/>
                  </a:lnTo>
                  <a:lnTo>
                    <a:pt x="205" y="48"/>
                  </a:lnTo>
                  <a:lnTo>
                    <a:pt x="195" y="44"/>
                  </a:lnTo>
                  <a:lnTo>
                    <a:pt x="186" y="40"/>
                  </a:lnTo>
                  <a:lnTo>
                    <a:pt x="175" y="38"/>
                  </a:lnTo>
                  <a:lnTo>
                    <a:pt x="165" y="36"/>
                  </a:lnTo>
                  <a:lnTo>
                    <a:pt x="154" y="36"/>
                  </a:lnTo>
                  <a:lnTo>
                    <a:pt x="140" y="36"/>
                  </a:lnTo>
                  <a:lnTo>
                    <a:pt x="128" y="38"/>
                  </a:lnTo>
                  <a:lnTo>
                    <a:pt x="116" y="41"/>
                  </a:lnTo>
                  <a:lnTo>
                    <a:pt x="105" y="44"/>
                  </a:lnTo>
                  <a:lnTo>
                    <a:pt x="96" y="50"/>
                  </a:lnTo>
                  <a:lnTo>
                    <a:pt x="87" y="55"/>
                  </a:lnTo>
                  <a:lnTo>
                    <a:pt x="80" y="61"/>
                  </a:lnTo>
                  <a:lnTo>
                    <a:pt x="74" y="68"/>
                  </a:lnTo>
                  <a:lnTo>
                    <a:pt x="67" y="75"/>
                  </a:lnTo>
                  <a:lnTo>
                    <a:pt x="62" y="82"/>
                  </a:lnTo>
                  <a:lnTo>
                    <a:pt x="58" y="91"/>
                  </a:lnTo>
                  <a:lnTo>
                    <a:pt x="53" y="99"/>
                  </a:lnTo>
                  <a:lnTo>
                    <a:pt x="49" y="114"/>
                  </a:lnTo>
                  <a:lnTo>
                    <a:pt x="45" y="130"/>
                  </a:lnTo>
                  <a:lnTo>
                    <a:pt x="43" y="147"/>
                  </a:lnTo>
                  <a:lnTo>
                    <a:pt x="43" y="164"/>
                  </a:lnTo>
                  <a:lnTo>
                    <a:pt x="43" y="184"/>
                  </a:lnTo>
                  <a:lnTo>
                    <a:pt x="46" y="203"/>
                  </a:lnTo>
                  <a:lnTo>
                    <a:pt x="48" y="212"/>
                  </a:lnTo>
                  <a:lnTo>
                    <a:pt x="50" y="220"/>
                  </a:lnTo>
                  <a:lnTo>
                    <a:pt x="53" y="228"/>
                  </a:lnTo>
                  <a:lnTo>
                    <a:pt x="57" y="235"/>
                  </a:lnTo>
                  <a:lnTo>
                    <a:pt x="60" y="242"/>
                  </a:lnTo>
                  <a:lnTo>
                    <a:pt x="64" y="249"/>
                  </a:lnTo>
                  <a:lnTo>
                    <a:pt x="68" y="255"/>
                  </a:lnTo>
                  <a:lnTo>
                    <a:pt x="74" y="260"/>
                  </a:lnTo>
                  <a:lnTo>
                    <a:pt x="79" y="266"/>
                  </a:lnTo>
                  <a:lnTo>
                    <a:pt x="84" y="270"/>
                  </a:lnTo>
                  <a:lnTo>
                    <a:pt x="90" y="274"/>
                  </a:lnTo>
                  <a:lnTo>
                    <a:pt x="97" y="278"/>
                  </a:lnTo>
                  <a:lnTo>
                    <a:pt x="111" y="284"/>
                  </a:lnTo>
                  <a:lnTo>
                    <a:pt x="124" y="288"/>
                  </a:lnTo>
                  <a:lnTo>
                    <a:pt x="139" y="291"/>
                  </a:lnTo>
                  <a:lnTo>
                    <a:pt x="154" y="292"/>
                  </a:lnTo>
                  <a:lnTo>
                    <a:pt x="167" y="291"/>
                  </a:lnTo>
                  <a:lnTo>
                    <a:pt x="181" y="289"/>
                  </a:lnTo>
                  <a:lnTo>
                    <a:pt x="192" y="286"/>
                  </a:lnTo>
                  <a:lnTo>
                    <a:pt x="205" y="282"/>
                  </a:lnTo>
                  <a:lnTo>
                    <a:pt x="217" y="276"/>
                  </a:lnTo>
                  <a:lnTo>
                    <a:pt x="227" y="270"/>
                  </a:lnTo>
                  <a:lnTo>
                    <a:pt x="236" y="265"/>
                  </a:lnTo>
                  <a:lnTo>
                    <a:pt x="243" y="258"/>
                  </a:lnTo>
                  <a:lnTo>
                    <a:pt x="243" y="199"/>
                  </a:lnTo>
                  <a:lnTo>
                    <a:pt x="154" y="199"/>
                  </a:lnTo>
                  <a:close/>
                </a:path>
              </a:pathLst>
            </a:custGeom>
            <a:solidFill>
              <a:schemeClr val="tx1"/>
            </a:solidFill>
            <a:ln w="0">
              <a:noFill/>
            </a:ln>
          </p:spPr>
          <p:style>
            <a:lnRef idx="0"/>
            <a:fillRef idx="0"/>
            <a:effectRef idx="0"/>
            <a:fontRef idx="minor"/>
          </p:style>
          <p:txBody>
            <a:bodyPr lIns="90000" rIns="90000" tIns="15840" bIns="15840" anchor="t">
              <a:noAutofit/>
            </a:bodyPr>
            <a:p>
              <a:pPr>
                <a:lnSpc>
                  <a:spcPct val="100000"/>
                </a:lnSpc>
              </a:pPr>
              <a:endParaRPr b="0" lang="en-US" sz="1800" spc="-1" strike="noStrike">
                <a:solidFill>
                  <a:srgbClr val="d79f00"/>
                </a:solidFill>
                <a:latin typeface="Arial"/>
                <a:ea typeface="宋体"/>
              </a:endParaRPr>
            </a:p>
          </p:txBody>
        </p:sp>
        <p:sp>
          <p:nvSpPr>
            <p:cNvPr id="369" name="Freeform 56"/>
            <p:cNvSpPr/>
            <p:nvPr/>
          </p:nvSpPr>
          <p:spPr>
            <a:xfrm>
              <a:off x="3963600" y="9605520"/>
              <a:ext cx="45000" cy="59400"/>
            </a:xfrm>
            <a:custGeom>
              <a:avLst/>
              <a:gdLst>
                <a:gd name="textAreaLeft" fmla="*/ 0 w 45000"/>
                <a:gd name="textAreaRight" fmla="*/ 45360 w 45000"/>
                <a:gd name="textAreaTop" fmla="*/ 0 h 59400"/>
                <a:gd name="textAreaBottom" fmla="*/ 59760 h 59400"/>
              </a:gdLst>
              <a:ahLst/>
              <a:rect l="textAreaLeft" t="textAreaTop" r="textAreaRight" b="textAreaBottom"/>
              <a:pathLst>
                <a:path w="227" h="320">
                  <a:moveTo>
                    <a:pt x="0" y="320"/>
                  </a:moveTo>
                  <a:lnTo>
                    <a:pt x="0" y="0"/>
                  </a:lnTo>
                  <a:lnTo>
                    <a:pt x="219" y="0"/>
                  </a:lnTo>
                  <a:lnTo>
                    <a:pt x="219" y="37"/>
                  </a:lnTo>
                  <a:lnTo>
                    <a:pt x="40" y="37"/>
                  </a:lnTo>
                  <a:lnTo>
                    <a:pt x="40" y="136"/>
                  </a:lnTo>
                  <a:lnTo>
                    <a:pt x="209" y="136"/>
                  </a:lnTo>
                  <a:lnTo>
                    <a:pt x="209" y="173"/>
                  </a:lnTo>
                  <a:lnTo>
                    <a:pt x="40" y="173"/>
                  </a:lnTo>
                  <a:lnTo>
                    <a:pt x="40" y="282"/>
                  </a:lnTo>
                  <a:lnTo>
                    <a:pt x="227" y="282"/>
                  </a:lnTo>
                  <a:lnTo>
                    <a:pt x="227" y="320"/>
                  </a:lnTo>
                  <a:lnTo>
                    <a:pt x="0" y="320"/>
                  </a:lnTo>
                  <a:close/>
                </a:path>
              </a:pathLst>
            </a:custGeom>
            <a:solidFill>
              <a:schemeClr val="tx1"/>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370" name="Freeform 57"/>
            <p:cNvSpPr/>
            <p:nvPr/>
          </p:nvSpPr>
          <p:spPr>
            <a:xfrm>
              <a:off x="4024080" y="9605520"/>
              <a:ext cx="57240" cy="59400"/>
            </a:xfrm>
            <a:custGeom>
              <a:avLst/>
              <a:gdLst>
                <a:gd name="textAreaLeft" fmla="*/ 0 w 57240"/>
                <a:gd name="textAreaRight" fmla="*/ 57600 w 57240"/>
                <a:gd name="textAreaTop" fmla="*/ 0 h 59400"/>
                <a:gd name="textAreaBottom" fmla="*/ 59760 h 59400"/>
              </a:gdLst>
              <a:ahLst/>
              <a:rect l="textAreaLeft" t="textAreaTop" r="textAreaRight" b="textAreaBottom"/>
              <a:pathLst>
                <a:path w="290" h="320">
                  <a:moveTo>
                    <a:pt x="0" y="320"/>
                  </a:moveTo>
                  <a:lnTo>
                    <a:pt x="0" y="0"/>
                  </a:lnTo>
                  <a:lnTo>
                    <a:pt x="61" y="0"/>
                  </a:lnTo>
                  <a:lnTo>
                    <a:pt x="133" y="226"/>
                  </a:lnTo>
                  <a:lnTo>
                    <a:pt x="138" y="241"/>
                  </a:lnTo>
                  <a:lnTo>
                    <a:pt x="141" y="254"/>
                  </a:lnTo>
                  <a:lnTo>
                    <a:pt x="144" y="265"/>
                  </a:lnTo>
                  <a:lnTo>
                    <a:pt x="147" y="273"/>
                  </a:lnTo>
                  <a:lnTo>
                    <a:pt x="151" y="264"/>
                  </a:lnTo>
                  <a:lnTo>
                    <a:pt x="154" y="252"/>
                  </a:lnTo>
                  <a:lnTo>
                    <a:pt x="158" y="238"/>
                  </a:lnTo>
                  <a:lnTo>
                    <a:pt x="163" y="223"/>
                  </a:lnTo>
                  <a:lnTo>
                    <a:pt x="236" y="0"/>
                  </a:lnTo>
                  <a:lnTo>
                    <a:pt x="290" y="0"/>
                  </a:lnTo>
                  <a:lnTo>
                    <a:pt x="290" y="320"/>
                  </a:lnTo>
                  <a:lnTo>
                    <a:pt x="252" y="320"/>
                  </a:lnTo>
                  <a:lnTo>
                    <a:pt x="252" y="52"/>
                  </a:lnTo>
                  <a:lnTo>
                    <a:pt x="163" y="320"/>
                  </a:lnTo>
                  <a:lnTo>
                    <a:pt x="127" y="320"/>
                  </a:lnTo>
                  <a:lnTo>
                    <a:pt x="39" y="48"/>
                  </a:lnTo>
                  <a:lnTo>
                    <a:pt x="39" y="320"/>
                  </a:lnTo>
                  <a:lnTo>
                    <a:pt x="0" y="320"/>
                  </a:lnTo>
                  <a:close/>
                </a:path>
              </a:pathLst>
            </a:custGeom>
            <a:solidFill>
              <a:schemeClr val="tx1"/>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371" name="Freeform 58"/>
            <p:cNvSpPr/>
            <p:nvPr/>
          </p:nvSpPr>
          <p:spPr>
            <a:xfrm>
              <a:off x="4099320" y="9605520"/>
              <a:ext cx="43560" cy="59400"/>
            </a:xfrm>
            <a:custGeom>
              <a:avLst/>
              <a:gdLst>
                <a:gd name="textAreaLeft" fmla="*/ 0 w 43560"/>
                <a:gd name="textAreaRight" fmla="*/ 43920 w 43560"/>
                <a:gd name="textAreaTop" fmla="*/ 0 h 59400"/>
                <a:gd name="textAreaBottom" fmla="*/ 59760 h 59400"/>
              </a:gdLst>
              <a:ahLst/>
              <a:rect l="textAreaLeft" t="textAreaTop" r="textAreaRight" b="textAreaBottom"/>
              <a:pathLst>
                <a:path w="227" h="320">
                  <a:moveTo>
                    <a:pt x="0" y="320"/>
                  </a:moveTo>
                  <a:lnTo>
                    <a:pt x="0" y="0"/>
                  </a:lnTo>
                  <a:lnTo>
                    <a:pt x="220" y="0"/>
                  </a:lnTo>
                  <a:lnTo>
                    <a:pt x="220" y="37"/>
                  </a:lnTo>
                  <a:lnTo>
                    <a:pt x="40" y="37"/>
                  </a:lnTo>
                  <a:lnTo>
                    <a:pt x="40" y="136"/>
                  </a:lnTo>
                  <a:lnTo>
                    <a:pt x="208" y="136"/>
                  </a:lnTo>
                  <a:lnTo>
                    <a:pt x="208" y="173"/>
                  </a:lnTo>
                  <a:lnTo>
                    <a:pt x="40" y="173"/>
                  </a:lnTo>
                  <a:lnTo>
                    <a:pt x="40" y="282"/>
                  </a:lnTo>
                  <a:lnTo>
                    <a:pt x="227" y="282"/>
                  </a:lnTo>
                  <a:lnTo>
                    <a:pt x="227" y="320"/>
                  </a:lnTo>
                  <a:lnTo>
                    <a:pt x="0" y="320"/>
                  </a:lnTo>
                  <a:close/>
                </a:path>
              </a:pathLst>
            </a:custGeom>
            <a:solidFill>
              <a:schemeClr val="tx1"/>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372" name="Freeform 59"/>
            <p:cNvSpPr/>
            <p:nvPr/>
          </p:nvSpPr>
          <p:spPr>
            <a:xfrm>
              <a:off x="4159440" y="9605520"/>
              <a:ext cx="46080" cy="59400"/>
            </a:xfrm>
            <a:custGeom>
              <a:avLst/>
              <a:gdLst>
                <a:gd name="textAreaLeft" fmla="*/ 0 w 46080"/>
                <a:gd name="textAreaRight" fmla="*/ 46440 w 46080"/>
                <a:gd name="textAreaTop" fmla="*/ 0 h 59400"/>
                <a:gd name="textAreaBottom" fmla="*/ 59760 h 59400"/>
              </a:gdLst>
              <a:ahLst/>
              <a:rect l="textAreaLeft" t="textAreaTop" r="textAreaRight" b="textAreaBottom"/>
              <a:pathLst>
                <a:path w="240" h="320">
                  <a:moveTo>
                    <a:pt x="0" y="320"/>
                  </a:moveTo>
                  <a:lnTo>
                    <a:pt x="0" y="0"/>
                  </a:lnTo>
                  <a:lnTo>
                    <a:pt x="41" y="0"/>
                  </a:lnTo>
                  <a:lnTo>
                    <a:pt x="201" y="251"/>
                  </a:lnTo>
                  <a:lnTo>
                    <a:pt x="201" y="0"/>
                  </a:lnTo>
                  <a:lnTo>
                    <a:pt x="240" y="0"/>
                  </a:lnTo>
                  <a:lnTo>
                    <a:pt x="240" y="320"/>
                  </a:lnTo>
                  <a:lnTo>
                    <a:pt x="199" y="320"/>
                  </a:lnTo>
                  <a:lnTo>
                    <a:pt x="38" y="68"/>
                  </a:lnTo>
                  <a:lnTo>
                    <a:pt x="38" y="320"/>
                  </a:lnTo>
                  <a:lnTo>
                    <a:pt x="0" y="320"/>
                  </a:lnTo>
                  <a:close/>
                </a:path>
              </a:pathLst>
            </a:custGeom>
            <a:solidFill>
              <a:schemeClr val="tx1"/>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373" name="Freeform 60"/>
            <p:cNvSpPr/>
            <p:nvPr/>
          </p:nvSpPr>
          <p:spPr>
            <a:xfrm>
              <a:off x="4219920" y="9605520"/>
              <a:ext cx="47520" cy="59400"/>
            </a:xfrm>
            <a:custGeom>
              <a:avLst/>
              <a:gdLst>
                <a:gd name="textAreaLeft" fmla="*/ 0 w 47520"/>
                <a:gd name="textAreaRight" fmla="*/ 47880 w 47520"/>
                <a:gd name="textAreaTop" fmla="*/ 0 h 59400"/>
                <a:gd name="textAreaBottom" fmla="*/ 59760 h 59400"/>
              </a:gdLst>
              <a:ahLst/>
              <a:rect l="textAreaLeft" t="textAreaTop" r="textAreaRight" b="textAreaBottom"/>
              <a:pathLst>
                <a:path w="242" h="320">
                  <a:moveTo>
                    <a:pt x="101" y="320"/>
                  </a:moveTo>
                  <a:lnTo>
                    <a:pt x="101" y="37"/>
                  </a:lnTo>
                  <a:lnTo>
                    <a:pt x="0" y="37"/>
                  </a:lnTo>
                  <a:lnTo>
                    <a:pt x="0" y="0"/>
                  </a:lnTo>
                  <a:lnTo>
                    <a:pt x="242" y="0"/>
                  </a:lnTo>
                  <a:lnTo>
                    <a:pt x="242" y="37"/>
                  </a:lnTo>
                  <a:lnTo>
                    <a:pt x="141" y="37"/>
                  </a:lnTo>
                  <a:lnTo>
                    <a:pt x="141" y="320"/>
                  </a:lnTo>
                  <a:lnTo>
                    <a:pt x="101" y="320"/>
                  </a:lnTo>
                  <a:close/>
                </a:path>
              </a:pathLst>
            </a:custGeom>
            <a:solidFill>
              <a:schemeClr val="tx1"/>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374" name="Freeform 61"/>
            <p:cNvSpPr/>
            <p:nvPr/>
          </p:nvSpPr>
          <p:spPr>
            <a:xfrm>
              <a:off x="4303440" y="9604080"/>
              <a:ext cx="51840" cy="60480"/>
            </a:xfrm>
            <a:custGeom>
              <a:avLst/>
              <a:gdLst>
                <a:gd name="textAreaLeft" fmla="*/ 0 w 51840"/>
                <a:gd name="textAreaRight" fmla="*/ 52200 w 51840"/>
                <a:gd name="textAreaTop" fmla="*/ 0 h 60480"/>
                <a:gd name="textAreaBottom" fmla="*/ 60840 h 60480"/>
              </a:gdLst>
              <a:ahLst/>
              <a:rect l="textAreaLeft" t="textAreaTop" r="textAreaRight" b="textAreaBottom"/>
              <a:pathLst>
                <a:path w="270" h="330">
                  <a:moveTo>
                    <a:pt x="230" y="213"/>
                  </a:moveTo>
                  <a:lnTo>
                    <a:pt x="270" y="223"/>
                  </a:lnTo>
                  <a:lnTo>
                    <a:pt x="266" y="236"/>
                  </a:lnTo>
                  <a:lnTo>
                    <a:pt x="262" y="248"/>
                  </a:lnTo>
                  <a:lnTo>
                    <a:pt x="257" y="258"/>
                  </a:lnTo>
                  <a:lnTo>
                    <a:pt x="252" y="269"/>
                  </a:lnTo>
                  <a:lnTo>
                    <a:pt x="246" y="278"/>
                  </a:lnTo>
                  <a:lnTo>
                    <a:pt x="239" y="288"/>
                  </a:lnTo>
                  <a:lnTo>
                    <a:pt x="232" y="295"/>
                  </a:lnTo>
                  <a:lnTo>
                    <a:pt x="224" y="303"/>
                  </a:lnTo>
                  <a:lnTo>
                    <a:pt x="216" y="309"/>
                  </a:lnTo>
                  <a:lnTo>
                    <a:pt x="206" y="314"/>
                  </a:lnTo>
                  <a:lnTo>
                    <a:pt x="197" y="320"/>
                  </a:lnTo>
                  <a:lnTo>
                    <a:pt x="187" y="323"/>
                  </a:lnTo>
                  <a:lnTo>
                    <a:pt x="177" y="326"/>
                  </a:lnTo>
                  <a:lnTo>
                    <a:pt x="166" y="328"/>
                  </a:lnTo>
                  <a:lnTo>
                    <a:pt x="156" y="329"/>
                  </a:lnTo>
                  <a:lnTo>
                    <a:pt x="144" y="330"/>
                  </a:lnTo>
                  <a:lnTo>
                    <a:pt x="131" y="329"/>
                  </a:lnTo>
                  <a:lnTo>
                    <a:pt x="120" y="329"/>
                  </a:lnTo>
                  <a:lnTo>
                    <a:pt x="109" y="327"/>
                  </a:lnTo>
                  <a:lnTo>
                    <a:pt x="98" y="325"/>
                  </a:lnTo>
                  <a:lnTo>
                    <a:pt x="89" y="322"/>
                  </a:lnTo>
                  <a:lnTo>
                    <a:pt x="80" y="319"/>
                  </a:lnTo>
                  <a:lnTo>
                    <a:pt x="71" y="314"/>
                  </a:lnTo>
                  <a:lnTo>
                    <a:pt x="63" y="309"/>
                  </a:lnTo>
                  <a:lnTo>
                    <a:pt x="56" y="304"/>
                  </a:lnTo>
                  <a:lnTo>
                    <a:pt x="49" y="298"/>
                  </a:lnTo>
                  <a:lnTo>
                    <a:pt x="42" y="290"/>
                  </a:lnTo>
                  <a:lnTo>
                    <a:pt x="36" y="284"/>
                  </a:lnTo>
                  <a:lnTo>
                    <a:pt x="31" y="275"/>
                  </a:lnTo>
                  <a:lnTo>
                    <a:pt x="25" y="267"/>
                  </a:lnTo>
                  <a:lnTo>
                    <a:pt x="21" y="257"/>
                  </a:lnTo>
                  <a:lnTo>
                    <a:pt x="17" y="248"/>
                  </a:lnTo>
                  <a:lnTo>
                    <a:pt x="13" y="238"/>
                  </a:lnTo>
                  <a:lnTo>
                    <a:pt x="9" y="228"/>
                  </a:lnTo>
                  <a:lnTo>
                    <a:pt x="6" y="217"/>
                  </a:lnTo>
                  <a:lnTo>
                    <a:pt x="4" y="206"/>
                  </a:lnTo>
                  <a:lnTo>
                    <a:pt x="3" y="196"/>
                  </a:lnTo>
                  <a:lnTo>
                    <a:pt x="1" y="185"/>
                  </a:lnTo>
                  <a:lnTo>
                    <a:pt x="1" y="174"/>
                  </a:lnTo>
                  <a:lnTo>
                    <a:pt x="0" y="162"/>
                  </a:lnTo>
                  <a:lnTo>
                    <a:pt x="1" y="150"/>
                  </a:lnTo>
                  <a:lnTo>
                    <a:pt x="1" y="139"/>
                  </a:lnTo>
                  <a:lnTo>
                    <a:pt x="3" y="127"/>
                  </a:lnTo>
                  <a:lnTo>
                    <a:pt x="5" y="115"/>
                  </a:lnTo>
                  <a:lnTo>
                    <a:pt x="7" y="105"/>
                  </a:lnTo>
                  <a:lnTo>
                    <a:pt x="10" y="95"/>
                  </a:lnTo>
                  <a:lnTo>
                    <a:pt x="15" y="85"/>
                  </a:lnTo>
                  <a:lnTo>
                    <a:pt x="19" y="75"/>
                  </a:lnTo>
                  <a:lnTo>
                    <a:pt x="23" y="67"/>
                  </a:lnTo>
                  <a:lnTo>
                    <a:pt x="28" y="58"/>
                  </a:lnTo>
                  <a:lnTo>
                    <a:pt x="34" y="50"/>
                  </a:lnTo>
                  <a:lnTo>
                    <a:pt x="40" y="42"/>
                  </a:lnTo>
                  <a:lnTo>
                    <a:pt x="47" y="36"/>
                  </a:lnTo>
                  <a:lnTo>
                    <a:pt x="54" y="29"/>
                  </a:lnTo>
                  <a:lnTo>
                    <a:pt x="62" y="24"/>
                  </a:lnTo>
                  <a:lnTo>
                    <a:pt x="70" y="19"/>
                  </a:lnTo>
                  <a:lnTo>
                    <a:pt x="78" y="15"/>
                  </a:lnTo>
                  <a:lnTo>
                    <a:pt x="88" y="10"/>
                  </a:lnTo>
                  <a:lnTo>
                    <a:pt x="96" y="7"/>
                  </a:lnTo>
                  <a:lnTo>
                    <a:pt x="106" y="4"/>
                  </a:lnTo>
                  <a:lnTo>
                    <a:pt x="114" y="2"/>
                  </a:lnTo>
                  <a:lnTo>
                    <a:pt x="125" y="1"/>
                  </a:lnTo>
                  <a:lnTo>
                    <a:pt x="134" y="0"/>
                  </a:lnTo>
                  <a:lnTo>
                    <a:pt x="144" y="0"/>
                  </a:lnTo>
                  <a:lnTo>
                    <a:pt x="156" y="0"/>
                  </a:lnTo>
                  <a:lnTo>
                    <a:pt x="166" y="1"/>
                  </a:lnTo>
                  <a:lnTo>
                    <a:pt x="177" y="3"/>
                  </a:lnTo>
                  <a:lnTo>
                    <a:pt x="186" y="5"/>
                  </a:lnTo>
                  <a:lnTo>
                    <a:pt x="196" y="9"/>
                  </a:lnTo>
                  <a:lnTo>
                    <a:pt x="204" y="14"/>
                  </a:lnTo>
                  <a:lnTo>
                    <a:pt x="213" y="18"/>
                  </a:lnTo>
                  <a:lnTo>
                    <a:pt x="221" y="24"/>
                  </a:lnTo>
                  <a:lnTo>
                    <a:pt x="229" y="30"/>
                  </a:lnTo>
                  <a:lnTo>
                    <a:pt x="235" y="37"/>
                  </a:lnTo>
                  <a:lnTo>
                    <a:pt x="241" y="45"/>
                  </a:lnTo>
                  <a:lnTo>
                    <a:pt x="248" y="53"/>
                  </a:lnTo>
                  <a:lnTo>
                    <a:pt x="253" y="62"/>
                  </a:lnTo>
                  <a:lnTo>
                    <a:pt x="257" y="72"/>
                  </a:lnTo>
                  <a:lnTo>
                    <a:pt x="261" y="81"/>
                  </a:lnTo>
                  <a:lnTo>
                    <a:pt x="265" y="93"/>
                  </a:lnTo>
                  <a:lnTo>
                    <a:pt x="224" y="103"/>
                  </a:lnTo>
                  <a:lnTo>
                    <a:pt x="219" y="86"/>
                  </a:lnTo>
                  <a:lnTo>
                    <a:pt x="212" y="72"/>
                  </a:lnTo>
                  <a:lnTo>
                    <a:pt x="207" y="67"/>
                  </a:lnTo>
                  <a:lnTo>
                    <a:pt x="203" y="61"/>
                  </a:lnTo>
                  <a:lnTo>
                    <a:pt x="199" y="56"/>
                  </a:lnTo>
                  <a:lnTo>
                    <a:pt x="194" y="52"/>
                  </a:lnTo>
                  <a:lnTo>
                    <a:pt x="188" y="47"/>
                  </a:lnTo>
                  <a:lnTo>
                    <a:pt x="183" y="44"/>
                  </a:lnTo>
                  <a:lnTo>
                    <a:pt x="178" y="42"/>
                  </a:lnTo>
                  <a:lnTo>
                    <a:pt x="171" y="40"/>
                  </a:lnTo>
                  <a:lnTo>
                    <a:pt x="165" y="38"/>
                  </a:lnTo>
                  <a:lnTo>
                    <a:pt x="158" y="37"/>
                  </a:lnTo>
                  <a:lnTo>
                    <a:pt x="150" y="36"/>
                  </a:lnTo>
                  <a:lnTo>
                    <a:pt x="143" y="36"/>
                  </a:lnTo>
                  <a:lnTo>
                    <a:pt x="134" y="36"/>
                  </a:lnTo>
                  <a:lnTo>
                    <a:pt x="126" y="37"/>
                  </a:lnTo>
                  <a:lnTo>
                    <a:pt x="118" y="38"/>
                  </a:lnTo>
                  <a:lnTo>
                    <a:pt x="111" y="40"/>
                  </a:lnTo>
                  <a:lnTo>
                    <a:pt x="104" y="42"/>
                  </a:lnTo>
                  <a:lnTo>
                    <a:pt x="97" y="45"/>
                  </a:lnTo>
                  <a:lnTo>
                    <a:pt x="91" y="50"/>
                  </a:lnTo>
                  <a:lnTo>
                    <a:pt x="85" y="53"/>
                  </a:lnTo>
                  <a:lnTo>
                    <a:pt x="79" y="58"/>
                  </a:lnTo>
                  <a:lnTo>
                    <a:pt x="74" y="63"/>
                  </a:lnTo>
                  <a:lnTo>
                    <a:pt x="69" y="69"/>
                  </a:lnTo>
                  <a:lnTo>
                    <a:pt x="64" y="74"/>
                  </a:lnTo>
                  <a:lnTo>
                    <a:pt x="60" y="80"/>
                  </a:lnTo>
                  <a:lnTo>
                    <a:pt x="57" y="87"/>
                  </a:lnTo>
                  <a:lnTo>
                    <a:pt x="54" y="93"/>
                  </a:lnTo>
                  <a:lnTo>
                    <a:pt x="52" y="100"/>
                  </a:lnTo>
                  <a:lnTo>
                    <a:pt x="47" y="115"/>
                  </a:lnTo>
                  <a:lnTo>
                    <a:pt x="44" y="131"/>
                  </a:lnTo>
                  <a:lnTo>
                    <a:pt x="42" y="146"/>
                  </a:lnTo>
                  <a:lnTo>
                    <a:pt x="42" y="162"/>
                  </a:lnTo>
                  <a:lnTo>
                    <a:pt x="42" y="182"/>
                  </a:lnTo>
                  <a:lnTo>
                    <a:pt x="44" y="200"/>
                  </a:lnTo>
                  <a:lnTo>
                    <a:pt x="49" y="217"/>
                  </a:lnTo>
                  <a:lnTo>
                    <a:pt x="53" y="233"/>
                  </a:lnTo>
                  <a:lnTo>
                    <a:pt x="56" y="240"/>
                  </a:lnTo>
                  <a:lnTo>
                    <a:pt x="59" y="248"/>
                  </a:lnTo>
                  <a:lnTo>
                    <a:pt x="63" y="254"/>
                  </a:lnTo>
                  <a:lnTo>
                    <a:pt x="68" y="260"/>
                  </a:lnTo>
                  <a:lnTo>
                    <a:pt x="72" y="266"/>
                  </a:lnTo>
                  <a:lnTo>
                    <a:pt x="77" y="270"/>
                  </a:lnTo>
                  <a:lnTo>
                    <a:pt x="82" y="275"/>
                  </a:lnTo>
                  <a:lnTo>
                    <a:pt x="89" y="278"/>
                  </a:lnTo>
                  <a:lnTo>
                    <a:pt x="100" y="286"/>
                  </a:lnTo>
                  <a:lnTo>
                    <a:pt x="113" y="290"/>
                  </a:lnTo>
                  <a:lnTo>
                    <a:pt x="127" y="293"/>
                  </a:lnTo>
                  <a:lnTo>
                    <a:pt x="140" y="294"/>
                  </a:lnTo>
                  <a:lnTo>
                    <a:pt x="148" y="293"/>
                  </a:lnTo>
                  <a:lnTo>
                    <a:pt x="157" y="292"/>
                  </a:lnTo>
                  <a:lnTo>
                    <a:pt x="164" y="291"/>
                  </a:lnTo>
                  <a:lnTo>
                    <a:pt x="171" y="289"/>
                  </a:lnTo>
                  <a:lnTo>
                    <a:pt x="179" y="286"/>
                  </a:lnTo>
                  <a:lnTo>
                    <a:pt x="185" y="283"/>
                  </a:lnTo>
                  <a:lnTo>
                    <a:pt x="192" y="278"/>
                  </a:lnTo>
                  <a:lnTo>
                    <a:pt x="198" y="273"/>
                  </a:lnTo>
                  <a:lnTo>
                    <a:pt x="203" y="268"/>
                  </a:lnTo>
                  <a:lnTo>
                    <a:pt x="208" y="261"/>
                  </a:lnTo>
                  <a:lnTo>
                    <a:pt x="213" y="255"/>
                  </a:lnTo>
                  <a:lnTo>
                    <a:pt x="217" y="248"/>
                  </a:lnTo>
                  <a:lnTo>
                    <a:pt x="221" y="240"/>
                  </a:lnTo>
                  <a:lnTo>
                    <a:pt x="224" y="232"/>
                  </a:lnTo>
                  <a:lnTo>
                    <a:pt x="226" y="222"/>
                  </a:lnTo>
                  <a:lnTo>
                    <a:pt x="230" y="213"/>
                  </a:lnTo>
                  <a:close/>
                </a:path>
              </a:pathLst>
            </a:custGeom>
            <a:solidFill>
              <a:schemeClr val="tx1"/>
            </a:solidFill>
            <a:ln w="0">
              <a:noFill/>
            </a:ln>
          </p:spPr>
          <p:style>
            <a:lnRef idx="0"/>
            <a:fillRef idx="0"/>
            <a:effectRef idx="0"/>
            <a:fontRef idx="minor"/>
          </p:style>
          <p:txBody>
            <a:bodyPr lIns="90000" rIns="90000" tIns="15840" bIns="15840" anchor="t">
              <a:noAutofit/>
            </a:bodyPr>
            <a:p>
              <a:pPr>
                <a:lnSpc>
                  <a:spcPct val="100000"/>
                </a:lnSpc>
              </a:pPr>
              <a:endParaRPr b="0" lang="en-US" sz="1800" spc="-1" strike="noStrike">
                <a:solidFill>
                  <a:srgbClr val="d79f00"/>
                </a:solidFill>
                <a:latin typeface="Arial"/>
                <a:ea typeface="宋体"/>
              </a:endParaRPr>
            </a:p>
          </p:txBody>
        </p:sp>
        <p:sp>
          <p:nvSpPr>
            <p:cNvPr id="375" name="Freeform 62"/>
            <p:cNvSpPr/>
            <p:nvPr/>
          </p:nvSpPr>
          <p:spPr>
            <a:xfrm>
              <a:off x="4367520" y="9604080"/>
              <a:ext cx="57240" cy="60480"/>
            </a:xfrm>
            <a:custGeom>
              <a:avLst/>
              <a:gdLst>
                <a:gd name="textAreaLeft" fmla="*/ 0 w 57240"/>
                <a:gd name="textAreaRight" fmla="*/ 57600 w 57240"/>
                <a:gd name="textAreaTop" fmla="*/ 0 h 60480"/>
                <a:gd name="textAreaBottom" fmla="*/ 60840 h 60480"/>
              </a:gdLst>
              <a:ahLst/>
              <a:rect l="textAreaLeft" t="textAreaTop" r="textAreaRight" b="textAreaBottom"/>
              <a:pathLst>
                <a:path w="292" h="331">
                  <a:moveTo>
                    <a:pt x="0" y="170"/>
                  </a:moveTo>
                  <a:lnTo>
                    <a:pt x="1" y="150"/>
                  </a:lnTo>
                  <a:lnTo>
                    <a:pt x="4" y="132"/>
                  </a:lnTo>
                  <a:lnTo>
                    <a:pt x="7" y="115"/>
                  </a:lnTo>
                  <a:lnTo>
                    <a:pt x="11" y="99"/>
                  </a:lnTo>
                  <a:lnTo>
                    <a:pt x="16" y="83"/>
                  </a:lnTo>
                  <a:lnTo>
                    <a:pt x="24" y="70"/>
                  </a:lnTo>
                  <a:lnTo>
                    <a:pt x="32" y="57"/>
                  </a:lnTo>
                  <a:lnTo>
                    <a:pt x="42" y="45"/>
                  </a:lnTo>
                  <a:lnTo>
                    <a:pt x="52" y="35"/>
                  </a:lnTo>
                  <a:lnTo>
                    <a:pt x="63" y="25"/>
                  </a:lnTo>
                  <a:lnTo>
                    <a:pt x="76" y="18"/>
                  </a:lnTo>
                  <a:lnTo>
                    <a:pt x="88" y="11"/>
                  </a:lnTo>
                  <a:lnTo>
                    <a:pt x="102" y="6"/>
                  </a:lnTo>
                  <a:lnTo>
                    <a:pt x="116" y="3"/>
                  </a:lnTo>
                  <a:lnTo>
                    <a:pt x="131" y="1"/>
                  </a:lnTo>
                  <a:lnTo>
                    <a:pt x="147" y="0"/>
                  </a:lnTo>
                  <a:lnTo>
                    <a:pt x="157" y="1"/>
                  </a:lnTo>
                  <a:lnTo>
                    <a:pt x="167" y="2"/>
                  </a:lnTo>
                  <a:lnTo>
                    <a:pt x="177" y="3"/>
                  </a:lnTo>
                  <a:lnTo>
                    <a:pt x="187" y="5"/>
                  </a:lnTo>
                  <a:lnTo>
                    <a:pt x="196" y="8"/>
                  </a:lnTo>
                  <a:lnTo>
                    <a:pt x="205" y="12"/>
                  </a:lnTo>
                  <a:lnTo>
                    <a:pt x="214" y="17"/>
                  </a:lnTo>
                  <a:lnTo>
                    <a:pt x="223" y="21"/>
                  </a:lnTo>
                  <a:lnTo>
                    <a:pt x="231" y="27"/>
                  </a:lnTo>
                  <a:lnTo>
                    <a:pt x="239" y="33"/>
                  </a:lnTo>
                  <a:lnTo>
                    <a:pt x="246" y="40"/>
                  </a:lnTo>
                  <a:lnTo>
                    <a:pt x="252" y="46"/>
                  </a:lnTo>
                  <a:lnTo>
                    <a:pt x="259" y="55"/>
                  </a:lnTo>
                  <a:lnTo>
                    <a:pt x="264" y="62"/>
                  </a:lnTo>
                  <a:lnTo>
                    <a:pt x="269" y="71"/>
                  </a:lnTo>
                  <a:lnTo>
                    <a:pt x="275" y="80"/>
                  </a:lnTo>
                  <a:lnTo>
                    <a:pt x="279" y="90"/>
                  </a:lnTo>
                  <a:lnTo>
                    <a:pt x="282" y="100"/>
                  </a:lnTo>
                  <a:lnTo>
                    <a:pt x="285" y="110"/>
                  </a:lnTo>
                  <a:lnTo>
                    <a:pt x="287" y="120"/>
                  </a:lnTo>
                  <a:lnTo>
                    <a:pt x="290" y="131"/>
                  </a:lnTo>
                  <a:lnTo>
                    <a:pt x="291" y="143"/>
                  </a:lnTo>
                  <a:lnTo>
                    <a:pt x="292" y="154"/>
                  </a:lnTo>
                  <a:lnTo>
                    <a:pt x="292" y="166"/>
                  </a:lnTo>
                  <a:lnTo>
                    <a:pt x="292" y="178"/>
                  </a:lnTo>
                  <a:lnTo>
                    <a:pt x="291" y="189"/>
                  </a:lnTo>
                  <a:lnTo>
                    <a:pt x="290" y="201"/>
                  </a:lnTo>
                  <a:lnTo>
                    <a:pt x="287" y="213"/>
                  </a:lnTo>
                  <a:lnTo>
                    <a:pt x="284" y="223"/>
                  </a:lnTo>
                  <a:lnTo>
                    <a:pt x="281" y="234"/>
                  </a:lnTo>
                  <a:lnTo>
                    <a:pt x="278" y="243"/>
                  </a:lnTo>
                  <a:lnTo>
                    <a:pt x="274" y="253"/>
                  </a:lnTo>
                  <a:lnTo>
                    <a:pt x="268" y="262"/>
                  </a:lnTo>
                  <a:lnTo>
                    <a:pt x="263" y="271"/>
                  </a:lnTo>
                  <a:lnTo>
                    <a:pt x="257" y="279"/>
                  </a:lnTo>
                  <a:lnTo>
                    <a:pt x="250" y="287"/>
                  </a:lnTo>
                  <a:lnTo>
                    <a:pt x="244" y="294"/>
                  </a:lnTo>
                  <a:lnTo>
                    <a:pt x="237" y="301"/>
                  </a:lnTo>
                  <a:lnTo>
                    <a:pt x="229" y="306"/>
                  </a:lnTo>
                  <a:lnTo>
                    <a:pt x="221" y="311"/>
                  </a:lnTo>
                  <a:lnTo>
                    <a:pt x="211" y="315"/>
                  </a:lnTo>
                  <a:lnTo>
                    <a:pt x="203" y="320"/>
                  </a:lnTo>
                  <a:lnTo>
                    <a:pt x="194" y="323"/>
                  </a:lnTo>
                  <a:lnTo>
                    <a:pt x="185" y="326"/>
                  </a:lnTo>
                  <a:lnTo>
                    <a:pt x="175" y="328"/>
                  </a:lnTo>
                  <a:lnTo>
                    <a:pt x="166" y="330"/>
                  </a:lnTo>
                  <a:lnTo>
                    <a:pt x="156" y="330"/>
                  </a:lnTo>
                  <a:lnTo>
                    <a:pt x="147" y="331"/>
                  </a:lnTo>
                  <a:lnTo>
                    <a:pt x="136" y="330"/>
                  </a:lnTo>
                  <a:lnTo>
                    <a:pt x="125" y="329"/>
                  </a:lnTo>
                  <a:lnTo>
                    <a:pt x="116" y="328"/>
                  </a:lnTo>
                  <a:lnTo>
                    <a:pt x="105" y="326"/>
                  </a:lnTo>
                  <a:lnTo>
                    <a:pt x="96" y="323"/>
                  </a:lnTo>
                  <a:lnTo>
                    <a:pt x="87" y="319"/>
                  </a:lnTo>
                  <a:lnTo>
                    <a:pt x="78" y="314"/>
                  </a:lnTo>
                  <a:lnTo>
                    <a:pt x="69" y="309"/>
                  </a:lnTo>
                  <a:lnTo>
                    <a:pt x="61" y="304"/>
                  </a:lnTo>
                  <a:lnTo>
                    <a:pt x="53" y="297"/>
                  </a:lnTo>
                  <a:lnTo>
                    <a:pt x="46" y="291"/>
                  </a:lnTo>
                  <a:lnTo>
                    <a:pt x="40" y="284"/>
                  </a:lnTo>
                  <a:lnTo>
                    <a:pt x="33" y="276"/>
                  </a:lnTo>
                  <a:lnTo>
                    <a:pt x="28" y="268"/>
                  </a:lnTo>
                  <a:lnTo>
                    <a:pt x="23" y="259"/>
                  </a:lnTo>
                  <a:lnTo>
                    <a:pt x="18" y="250"/>
                  </a:lnTo>
                  <a:lnTo>
                    <a:pt x="14" y="240"/>
                  </a:lnTo>
                  <a:lnTo>
                    <a:pt x="11" y="231"/>
                  </a:lnTo>
                  <a:lnTo>
                    <a:pt x="8" y="221"/>
                  </a:lnTo>
                  <a:lnTo>
                    <a:pt x="5" y="211"/>
                  </a:lnTo>
                  <a:lnTo>
                    <a:pt x="4" y="201"/>
                  </a:lnTo>
                  <a:lnTo>
                    <a:pt x="1" y="190"/>
                  </a:lnTo>
                  <a:lnTo>
                    <a:pt x="1" y="180"/>
                  </a:lnTo>
                  <a:lnTo>
                    <a:pt x="0" y="170"/>
                  </a:lnTo>
                  <a:close/>
                  <a:moveTo>
                    <a:pt x="43" y="170"/>
                  </a:moveTo>
                  <a:lnTo>
                    <a:pt x="43" y="185"/>
                  </a:lnTo>
                  <a:lnTo>
                    <a:pt x="44" y="198"/>
                  </a:lnTo>
                  <a:lnTo>
                    <a:pt x="46" y="211"/>
                  </a:lnTo>
                  <a:lnTo>
                    <a:pt x="49" y="222"/>
                  </a:lnTo>
                  <a:lnTo>
                    <a:pt x="53" y="233"/>
                  </a:lnTo>
                  <a:lnTo>
                    <a:pt x="59" y="243"/>
                  </a:lnTo>
                  <a:lnTo>
                    <a:pt x="65" y="253"/>
                  </a:lnTo>
                  <a:lnTo>
                    <a:pt x="71" y="261"/>
                  </a:lnTo>
                  <a:lnTo>
                    <a:pt x="80" y="270"/>
                  </a:lnTo>
                  <a:lnTo>
                    <a:pt x="87" y="276"/>
                  </a:lnTo>
                  <a:lnTo>
                    <a:pt x="96" y="282"/>
                  </a:lnTo>
                  <a:lnTo>
                    <a:pt x="105" y="287"/>
                  </a:lnTo>
                  <a:lnTo>
                    <a:pt x="115" y="290"/>
                  </a:lnTo>
                  <a:lnTo>
                    <a:pt x="124" y="293"/>
                  </a:lnTo>
                  <a:lnTo>
                    <a:pt x="135" y="294"/>
                  </a:lnTo>
                  <a:lnTo>
                    <a:pt x="147" y="295"/>
                  </a:lnTo>
                  <a:lnTo>
                    <a:pt x="157" y="294"/>
                  </a:lnTo>
                  <a:lnTo>
                    <a:pt x="168" y="293"/>
                  </a:lnTo>
                  <a:lnTo>
                    <a:pt x="178" y="290"/>
                  </a:lnTo>
                  <a:lnTo>
                    <a:pt x="188" y="287"/>
                  </a:lnTo>
                  <a:lnTo>
                    <a:pt x="196" y="282"/>
                  </a:lnTo>
                  <a:lnTo>
                    <a:pt x="206" y="276"/>
                  </a:lnTo>
                  <a:lnTo>
                    <a:pt x="213" y="269"/>
                  </a:lnTo>
                  <a:lnTo>
                    <a:pt x="221" y="261"/>
                  </a:lnTo>
                  <a:lnTo>
                    <a:pt x="228" y="253"/>
                  </a:lnTo>
                  <a:lnTo>
                    <a:pt x="233" y="242"/>
                  </a:lnTo>
                  <a:lnTo>
                    <a:pt x="239" y="232"/>
                  </a:lnTo>
                  <a:lnTo>
                    <a:pt x="243" y="221"/>
                  </a:lnTo>
                  <a:lnTo>
                    <a:pt x="246" y="208"/>
                  </a:lnTo>
                  <a:lnTo>
                    <a:pt x="248" y="195"/>
                  </a:lnTo>
                  <a:lnTo>
                    <a:pt x="250" y="181"/>
                  </a:lnTo>
                  <a:lnTo>
                    <a:pt x="250" y="166"/>
                  </a:lnTo>
                  <a:lnTo>
                    <a:pt x="249" y="147"/>
                  </a:lnTo>
                  <a:lnTo>
                    <a:pt x="247" y="129"/>
                  </a:lnTo>
                  <a:lnTo>
                    <a:pt x="243" y="113"/>
                  </a:lnTo>
                  <a:lnTo>
                    <a:pt x="238" y="98"/>
                  </a:lnTo>
                  <a:lnTo>
                    <a:pt x="231" y="84"/>
                  </a:lnTo>
                  <a:lnTo>
                    <a:pt x="223" y="72"/>
                  </a:lnTo>
                  <a:lnTo>
                    <a:pt x="218" y="66"/>
                  </a:lnTo>
                  <a:lnTo>
                    <a:pt x="212" y="61"/>
                  </a:lnTo>
                  <a:lnTo>
                    <a:pt x="207" y="57"/>
                  </a:lnTo>
                  <a:lnTo>
                    <a:pt x="202" y="53"/>
                  </a:lnTo>
                  <a:lnTo>
                    <a:pt x="189" y="45"/>
                  </a:lnTo>
                  <a:lnTo>
                    <a:pt x="175" y="41"/>
                  </a:lnTo>
                  <a:lnTo>
                    <a:pt x="161" y="38"/>
                  </a:lnTo>
                  <a:lnTo>
                    <a:pt x="147" y="37"/>
                  </a:lnTo>
                  <a:lnTo>
                    <a:pt x="136" y="37"/>
                  </a:lnTo>
                  <a:lnTo>
                    <a:pt x="126" y="39"/>
                  </a:lnTo>
                  <a:lnTo>
                    <a:pt x="116" y="41"/>
                  </a:lnTo>
                  <a:lnTo>
                    <a:pt x="107" y="44"/>
                  </a:lnTo>
                  <a:lnTo>
                    <a:pt x="98" y="48"/>
                  </a:lnTo>
                  <a:lnTo>
                    <a:pt x="89" y="54"/>
                  </a:lnTo>
                  <a:lnTo>
                    <a:pt x="81" y="60"/>
                  </a:lnTo>
                  <a:lnTo>
                    <a:pt x="73" y="68"/>
                  </a:lnTo>
                  <a:lnTo>
                    <a:pt x="66" y="76"/>
                  </a:lnTo>
                  <a:lnTo>
                    <a:pt x="60" y="86"/>
                  </a:lnTo>
                  <a:lnTo>
                    <a:pt x="54" y="96"/>
                  </a:lnTo>
                  <a:lnTo>
                    <a:pt x="50" y="109"/>
                  </a:lnTo>
                  <a:lnTo>
                    <a:pt x="47" y="123"/>
                  </a:lnTo>
                  <a:lnTo>
                    <a:pt x="44" y="137"/>
                  </a:lnTo>
                  <a:lnTo>
                    <a:pt x="43" y="153"/>
                  </a:lnTo>
                  <a:lnTo>
                    <a:pt x="43" y="170"/>
                  </a:lnTo>
                  <a:close/>
                </a:path>
              </a:pathLst>
            </a:custGeom>
            <a:solidFill>
              <a:schemeClr val="tx1"/>
            </a:solidFill>
            <a:ln w="0">
              <a:noFill/>
            </a:ln>
          </p:spPr>
          <p:style>
            <a:lnRef idx="0"/>
            <a:fillRef idx="0"/>
            <a:effectRef idx="0"/>
            <a:fontRef idx="minor"/>
          </p:style>
          <p:txBody>
            <a:bodyPr lIns="90000" rIns="90000" tIns="15840" bIns="15840" anchor="t">
              <a:noAutofit/>
            </a:bodyPr>
            <a:p>
              <a:pPr>
                <a:lnSpc>
                  <a:spcPct val="100000"/>
                </a:lnSpc>
              </a:pPr>
              <a:endParaRPr b="0" lang="en-US" sz="1800" spc="-1" strike="noStrike">
                <a:solidFill>
                  <a:srgbClr val="d79f00"/>
                </a:solidFill>
                <a:latin typeface="Arial"/>
                <a:ea typeface="宋体"/>
              </a:endParaRPr>
            </a:p>
          </p:txBody>
        </p:sp>
        <p:sp>
          <p:nvSpPr>
            <p:cNvPr id="376" name="Freeform 63"/>
            <p:cNvSpPr/>
            <p:nvPr/>
          </p:nvSpPr>
          <p:spPr>
            <a:xfrm>
              <a:off x="4440240" y="9605520"/>
              <a:ext cx="46080" cy="59400"/>
            </a:xfrm>
            <a:custGeom>
              <a:avLst/>
              <a:gdLst>
                <a:gd name="textAreaLeft" fmla="*/ 0 w 46080"/>
                <a:gd name="textAreaRight" fmla="*/ 46440 w 46080"/>
                <a:gd name="textAreaTop" fmla="*/ 0 h 59400"/>
                <a:gd name="textAreaBottom" fmla="*/ 59760 h 59400"/>
              </a:gdLst>
              <a:ahLst/>
              <a:rect l="textAreaLeft" t="textAreaTop" r="textAreaRight" b="textAreaBottom"/>
              <a:pathLst>
                <a:path w="240" h="320">
                  <a:moveTo>
                    <a:pt x="0" y="320"/>
                  </a:moveTo>
                  <a:lnTo>
                    <a:pt x="0" y="0"/>
                  </a:lnTo>
                  <a:lnTo>
                    <a:pt x="41" y="0"/>
                  </a:lnTo>
                  <a:lnTo>
                    <a:pt x="201" y="251"/>
                  </a:lnTo>
                  <a:lnTo>
                    <a:pt x="201" y="0"/>
                  </a:lnTo>
                  <a:lnTo>
                    <a:pt x="240" y="0"/>
                  </a:lnTo>
                  <a:lnTo>
                    <a:pt x="240" y="320"/>
                  </a:lnTo>
                  <a:lnTo>
                    <a:pt x="199" y="320"/>
                  </a:lnTo>
                  <a:lnTo>
                    <a:pt x="39" y="68"/>
                  </a:lnTo>
                  <a:lnTo>
                    <a:pt x="39" y="320"/>
                  </a:lnTo>
                  <a:lnTo>
                    <a:pt x="0" y="320"/>
                  </a:lnTo>
                  <a:close/>
                </a:path>
              </a:pathLst>
            </a:custGeom>
            <a:solidFill>
              <a:schemeClr val="tx1"/>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377" name="Freeform 64"/>
            <p:cNvSpPr/>
            <p:nvPr/>
          </p:nvSpPr>
          <p:spPr>
            <a:xfrm>
              <a:off x="4503240" y="9604080"/>
              <a:ext cx="46080" cy="60480"/>
            </a:xfrm>
            <a:custGeom>
              <a:avLst/>
              <a:gdLst>
                <a:gd name="textAreaLeft" fmla="*/ 0 w 46080"/>
                <a:gd name="textAreaRight" fmla="*/ 46440 w 46080"/>
                <a:gd name="textAreaTop" fmla="*/ 0 h 60480"/>
                <a:gd name="textAreaBottom" fmla="*/ 60840 h 60480"/>
              </a:gdLst>
              <a:ahLst/>
              <a:rect l="textAreaLeft" t="textAreaTop" r="textAreaRight" b="textAreaBottom"/>
              <a:pathLst>
                <a:path w="242" h="330">
                  <a:moveTo>
                    <a:pt x="0" y="222"/>
                  </a:moveTo>
                  <a:lnTo>
                    <a:pt x="38" y="218"/>
                  </a:lnTo>
                  <a:lnTo>
                    <a:pt x="40" y="230"/>
                  </a:lnTo>
                  <a:lnTo>
                    <a:pt x="42" y="240"/>
                  </a:lnTo>
                  <a:lnTo>
                    <a:pt x="46" y="250"/>
                  </a:lnTo>
                  <a:lnTo>
                    <a:pt x="51" y="257"/>
                  </a:lnTo>
                  <a:lnTo>
                    <a:pt x="56" y="265"/>
                  </a:lnTo>
                  <a:lnTo>
                    <a:pt x="63" y="272"/>
                  </a:lnTo>
                  <a:lnTo>
                    <a:pt x="72" y="277"/>
                  </a:lnTo>
                  <a:lnTo>
                    <a:pt x="81" y="283"/>
                  </a:lnTo>
                  <a:lnTo>
                    <a:pt x="92" y="287"/>
                  </a:lnTo>
                  <a:lnTo>
                    <a:pt x="104" y="290"/>
                  </a:lnTo>
                  <a:lnTo>
                    <a:pt x="115" y="291"/>
                  </a:lnTo>
                  <a:lnTo>
                    <a:pt x="128" y="292"/>
                  </a:lnTo>
                  <a:lnTo>
                    <a:pt x="140" y="291"/>
                  </a:lnTo>
                  <a:lnTo>
                    <a:pt x="150" y="290"/>
                  </a:lnTo>
                  <a:lnTo>
                    <a:pt x="160" y="288"/>
                  </a:lnTo>
                  <a:lnTo>
                    <a:pt x="168" y="285"/>
                  </a:lnTo>
                  <a:lnTo>
                    <a:pt x="177" y="281"/>
                  </a:lnTo>
                  <a:lnTo>
                    <a:pt x="184" y="276"/>
                  </a:lnTo>
                  <a:lnTo>
                    <a:pt x="191" y="271"/>
                  </a:lnTo>
                  <a:lnTo>
                    <a:pt x="195" y="266"/>
                  </a:lnTo>
                  <a:lnTo>
                    <a:pt x="199" y="258"/>
                  </a:lnTo>
                  <a:lnTo>
                    <a:pt x="201" y="252"/>
                  </a:lnTo>
                  <a:lnTo>
                    <a:pt x="203" y="246"/>
                  </a:lnTo>
                  <a:lnTo>
                    <a:pt x="204" y="238"/>
                  </a:lnTo>
                  <a:lnTo>
                    <a:pt x="203" y="231"/>
                  </a:lnTo>
                  <a:lnTo>
                    <a:pt x="202" y="223"/>
                  </a:lnTo>
                  <a:lnTo>
                    <a:pt x="199" y="217"/>
                  </a:lnTo>
                  <a:lnTo>
                    <a:pt x="196" y="212"/>
                  </a:lnTo>
                  <a:lnTo>
                    <a:pt x="191" y="206"/>
                  </a:lnTo>
                  <a:lnTo>
                    <a:pt x="184" y="201"/>
                  </a:lnTo>
                  <a:lnTo>
                    <a:pt x="177" y="197"/>
                  </a:lnTo>
                  <a:lnTo>
                    <a:pt x="168" y="193"/>
                  </a:lnTo>
                  <a:lnTo>
                    <a:pt x="160" y="189"/>
                  </a:lnTo>
                  <a:lnTo>
                    <a:pt x="148" y="186"/>
                  </a:lnTo>
                  <a:lnTo>
                    <a:pt x="133" y="182"/>
                  </a:lnTo>
                  <a:lnTo>
                    <a:pt x="114" y="177"/>
                  </a:lnTo>
                  <a:lnTo>
                    <a:pt x="94" y="171"/>
                  </a:lnTo>
                  <a:lnTo>
                    <a:pt x="78" y="167"/>
                  </a:lnTo>
                  <a:lnTo>
                    <a:pt x="64" y="162"/>
                  </a:lnTo>
                  <a:lnTo>
                    <a:pt x="55" y="157"/>
                  </a:lnTo>
                  <a:lnTo>
                    <a:pt x="44" y="151"/>
                  </a:lnTo>
                  <a:lnTo>
                    <a:pt x="36" y="144"/>
                  </a:lnTo>
                  <a:lnTo>
                    <a:pt x="28" y="135"/>
                  </a:lnTo>
                  <a:lnTo>
                    <a:pt x="22" y="127"/>
                  </a:lnTo>
                  <a:lnTo>
                    <a:pt x="18" y="118"/>
                  </a:lnTo>
                  <a:lnTo>
                    <a:pt x="15" y="109"/>
                  </a:lnTo>
                  <a:lnTo>
                    <a:pt x="13" y="98"/>
                  </a:lnTo>
                  <a:lnTo>
                    <a:pt x="12" y="88"/>
                  </a:lnTo>
                  <a:lnTo>
                    <a:pt x="13" y="76"/>
                  </a:lnTo>
                  <a:lnTo>
                    <a:pt x="15" y="64"/>
                  </a:lnTo>
                  <a:lnTo>
                    <a:pt x="19" y="53"/>
                  </a:lnTo>
                  <a:lnTo>
                    <a:pt x="25" y="42"/>
                  </a:lnTo>
                  <a:lnTo>
                    <a:pt x="32" y="33"/>
                  </a:lnTo>
                  <a:lnTo>
                    <a:pt x="41" y="24"/>
                  </a:lnTo>
                  <a:lnTo>
                    <a:pt x="51" y="17"/>
                  </a:lnTo>
                  <a:lnTo>
                    <a:pt x="63" y="10"/>
                  </a:lnTo>
                  <a:lnTo>
                    <a:pt x="76" y="5"/>
                  </a:lnTo>
                  <a:lnTo>
                    <a:pt x="90" y="2"/>
                  </a:lnTo>
                  <a:lnTo>
                    <a:pt x="104" y="0"/>
                  </a:lnTo>
                  <a:lnTo>
                    <a:pt x="119" y="0"/>
                  </a:lnTo>
                  <a:lnTo>
                    <a:pt x="135" y="0"/>
                  </a:lnTo>
                  <a:lnTo>
                    <a:pt x="151" y="2"/>
                  </a:lnTo>
                  <a:lnTo>
                    <a:pt x="165" y="6"/>
                  </a:lnTo>
                  <a:lnTo>
                    <a:pt x="179" y="10"/>
                  </a:lnTo>
                  <a:lnTo>
                    <a:pt x="191" y="18"/>
                  </a:lnTo>
                  <a:lnTo>
                    <a:pt x="201" y="25"/>
                  </a:lnTo>
                  <a:lnTo>
                    <a:pt x="211" y="34"/>
                  </a:lnTo>
                  <a:lnTo>
                    <a:pt x="218" y="44"/>
                  </a:lnTo>
                  <a:lnTo>
                    <a:pt x="224" y="56"/>
                  </a:lnTo>
                  <a:lnTo>
                    <a:pt x="230" y="69"/>
                  </a:lnTo>
                  <a:lnTo>
                    <a:pt x="232" y="81"/>
                  </a:lnTo>
                  <a:lnTo>
                    <a:pt x="234" y="95"/>
                  </a:lnTo>
                  <a:lnTo>
                    <a:pt x="195" y="98"/>
                  </a:lnTo>
                  <a:lnTo>
                    <a:pt x="194" y="91"/>
                  </a:lnTo>
                  <a:lnTo>
                    <a:pt x="193" y="83"/>
                  </a:lnTo>
                  <a:lnTo>
                    <a:pt x="191" y="77"/>
                  </a:lnTo>
                  <a:lnTo>
                    <a:pt x="188" y="72"/>
                  </a:lnTo>
                  <a:lnTo>
                    <a:pt x="185" y="65"/>
                  </a:lnTo>
                  <a:lnTo>
                    <a:pt x="182" y="61"/>
                  </a:lnTo>
                  <a:lnTo>
                    <a:pt x="178" y="56"/>
                  </a:lnTo>
                  <a:lnTo>
                    <a:pt x="174" y="52"/>
                  </a:lnTo>
                  <a:lnTo>
                    <a:pt x="169" y="48"/>
                  </a:lnTo>
                  <a:lnTo>
                    <a:pt x="164" y="45"/>
                  </a:lnTo>
                  <a:lnTo>
                    <a:pt x="158" y="43"/>
                  </a:lnTo>
                  <a:lnTo>
                    <a:pt x="151" y="41"/>
                  </a:lnTo>
                  <a:lnTo>
                    <a:pt x="145" y="39"/>
                  </a:lnTo>
                  <a:lnTo>
                    <a:pt x="138" y="38"/>
                  </a:lnTo>
                  <a:lnTo>
                    <a:pt x="129" y="37"/>
                  </a:lnTo>
                  <a:lnTo>
                    <a:pt x="121" y="37"/>
                  </a:lnTo>
                  <a:lnTo>
                    <a:pt x="104" y="38"/>
                  </a:lnTo>
                  <a:lnTo>
                    <a:pt x="89" y="40"/>
                  </a:lnTo>
                  <a:lnTo>
                    <a:pt x="82" y="42"/>
                  </a:lnTo>
                  <a:lnTo>
                    <a:pt x="77" y="44"/>
                  </a:lnTo>
                  <a:lnTo>
                    <a:pt x="72" y="47"/>
                  </a:lnTo>
                  <a:lnTo>
                    <a:pt x="68" y="51"/>
                  </a:lnTo>
                  <a:lnTo>
                    <a:pt x="60" y="58"/>
                  </a:lnTo>
                  <a:lnTo>
                    <a:pt x="55" y="67"/>
                  </a:lnTo>
                  <a:lnTo>
                    <a:pt x="53" y="71"/>
                  </a:lnTo>
                  <a:lnTo>
                    <a:pt x="52" y="75"/>
                  </a:lnTo>
                  <a:lnTo>
                    <a:pt x="51" y="80"/>
                  </a:lnTo>
                  <a:lnTo>
                    <a:pt x="51" y="85"/>
                  </a:lnTo>
                  <a:lnTo>
                    <a:pt x="52" y="93"/>
                  </a:lnTo>
                  <a:lnTo>
                    <a:pt x="54" y="100"/>
                  </a:lnTo>
                  <a:lnTo>
                    <a:pt x="57" y="107"/>
                  </a:lnTo>
                  <a:lnTo>
                    <a:pt x="62" y="113"/>
                  </a:lnTo>
                  <a:lnTo>
                    <a:pt x="66" y="116"/>
                  </a:lnTo>
                  <a:lnTo>
                    <a:pt x="71" y="118"/>
                  </a:lnTo>
                  <a:lnTo>
                    <a:pt x="76" y="122"/>
                  </a:lnTo>
                  <a:lnTo>
                    <a:pt x="84" y="125"/>
                  </a:lnTo>
                  <a:lnTo>
                    <a:pt x="100" y="130"/>
                  </a:lnTo>
                  <a:lnTo>
                    <a:pt x="123" y="135"/>
                  </a:lnTo>
                  <a:lnTo>
                    <a:pt x="146" y="142"/>
                  </a:lnTo>
                  <a:lnTo>
                    <a:pt x="165" y="147"/>
                  </a:lnTo>
                  <a:lnTo>
                    <a:pt x="180" y="151"/>
                  </a:lnTo>
                  <a:lnTo>
                    <a:pt x="191" y="157"/>
                  </a:lnTo>
                  <a:lnTo>
                    <a:pt x="203" y="163"/>
                  </a:lnTo>
                  <a:lnTo>
                    <a:pt x="214" y="170"/>
                  </a:lnTo>
                  <a:lnTo>
                    <a:pt x="222" y="180"/>
                  </a:lnTo>
                  <a:lnTo>
                    <a:pt x="230" y="188"/>
                  </a:lnTo>
                  <a:lnTo>
                    <a:pt x="235" y="199"/>
                  </a:lnTo>
                  <a:lnTo>
                    <a:pt x="239" y="211"/>
                  </a:lnTo>
                  <a:lnTo>
                    <a:pt x="241" y="222"/>
                  </a:lnTo>
                  <a:lnTo>
                    <a:pt x="242" y="234"/>
                  </a:lnTo>
                  <a:lnTo>
                    <a:pt x="241" y="247"/>
                  </a:lnTo>
                  <a:lnTo>
                    <a:pt x="239" y="259"/>
                  </a:lnTo>
                  <a:lnTo>
                    <a:pt x="235" y="271"/>
                  </a:lnTo>
                  <a:lnTo>
                    <a:pt x="229" y="283"/>
                  </a:lnTo>
                  <a:lnTo>
                    <a:pt x="221" y="293"/>
                  </a:lnTo>
                  <a:lnTo>
                    <a:pt x="212" y="303"/>
                  </a:lnTo>
                  <a:lnTo>
                    <a:pt x="201" y="310"/>
                  </a:lnTo>
                  <a:lnTo>
                    <a:pt x="188" y="318"/>
                  </a:lnTo>
                  <a:lnTo>
                    <a:pt x="176" y="323"/>
                  </a:lnTo>
                  <a:lnTo>
                    <a:pt x="161" y="327"/>
                  </a:lnTo>
                  <a:lnTo>
                    <a:pt x="146" y="329"/>
                  </a:lnTo>
                  <a:lnTo>
                    <a:pt x="130" y="330"/>
                  </a:lnTo>
                  <a:lnTo>
                    <a:pt x="110" y="329"/>
                  </a:lnTo>
                  <a:lnTo>
                    <a:pt x="92" y="327"/>
                  </a:lnTo>
                  <a:lnTo>
                    <a:pt x="75" y="323"/>
                  </a:lnTo>
                  <a:lnTo>
                    <a:pt x="60" y="318"/>
                  </a:lnTo>
                  <a:lnTo>
                    <a:pt x="54" y="314"/>
                  </a:lnTo>
                  <a:lnTo>
                    <a:pt x="48" y="310"/>
                  </a:lnTo>
                  <a:lnTo>
                    <a:pt x="41" y="306"/>
                  </a:lnTo>
                  <a:lnTo>
                    <a:pt x="36" y="302"/>
                  </a:lnTo>
                  <a:lnTo>
                    <a:pt x="31" y="296"/>
                  </a:lnTo>
                  <a:lnTo>
                    <a:pt x="25" y="291"/>
                  </a:lnTo>
                  <a:lnTo>
                    <a:pt x="21" y="286"/>
                  </a:lnTo>
                  <a:lnTo>
                    <a:pt x="17" y="280"/>
                  </a:lnTo>
                  <a:lnTo>
                    <a:pt x="9" y="267"/>
                  </a:lnTo>
                  <a:lnTo>
                    <a:pt x="5" y="252"/>
                  </a:lnTo>
                  <a:lnTo>
                    <a:pt x="1" y="237"/>
                  </a:lnTo>
                  <a:lnTo>
                    <a:pt x="0" y="222"/>
                  </a:lnTo>
                  <a:close/>
                </a:path>
              </a:pathLst>
            </a:custGeom>
            <a:solidFill>
              <a:schemeClr val="tx1"/>
            </a:solidFill>
            <a:ln w="0">
              <a:noFill/>
            </a:ln>
          </p:spPr>
          <p:style>
            <a:lnRef idx="0"/>
            <a:fillRef idx="0"/>
            <a:effectRef idx="0"/>
            <a:fontRef idx="minor"/>
          </p:style>
          <p:txBody>
            <a:bodyPr lIns="90000" rIns="90000" tIns="15840" bIns="15840" anchor="t">
              <a:noAutofit/>
            </a:bodyPr>
            <a:p>
              <a:pPr>
                <a:lnSpc>
                  <a:spcPct val="100000"/>
                </a:lnSpc>
              </a:pPr>
              <a:endParaRPr b="0" lang="en-US" sz="1800" spc="-1" strike="noStrike">
                <a:solidFill>
                  <a:srgbClr val="d79f00"/>
                </a:solidFill>
                <a:latin typeface="Arial"/>
                <a:ea typeface="宋体"/>
              </a:endParaRPr>
            </a:p>
          </p:txBody>
        </p:sp>
        <p:sp>
          <p:nvSpPr>
            <p:cNvPr id="378" name="Freeform 65"/>
            <p:cNvSpPr/>
            <p:nvPr/>
          </p:nvSpPr>
          <p:spPr>
            <a:xfrm>
              <a:off x="4566240" y="9605520"/>
              <a:ext cx="46080" cy="59400"/>
            </a:xfrm>
            <a:custGeom>
              <a:avLst/>
              <a:gdLst>
                <a:gd name="textAreaLeft" fmla="*/ 0 w 46080"/>
                <a:gd name="textAreaRight" fmla="*/ 46440 w 46080"/>
                <a:gd name="textAreaTop" fmla="*/ 0 h 59400"/>
                <a:gd name="textAreaBottom" fmla="*/ 59760 h 59400"/>
              </a:gdLst>
              <a:ahLst/>
              <a:rect l="textAreaLeft" t="textAreaTop" r="textAreaRight" b="textAreaBottom"/>
              <a:pathLst>
                <a:path w="239" h="325">
                  <a:moveTo>
                    <a:pt x="199" y="0"/>
                  </a:moveTo>
                  <a:lnTo>
                    <a:pt x="239" y="0"/>
                  </a:lnTo>
                  <a:lnTo>
                    <a:pt x="239" y="184"/>
                  </a:lnTo>
                  <a:lnTo>
                    <a:pt x="239" y="208"/>
                  </a:lnTo>
                  <a:lnTo>
                    <a:pt x="237" y="228"/>
                  </a:lnTo>
                  <a:lnTo>
                    <a:pt x="234" y="246"/>
                  </a:lnTo>
                  <a:lnTo>
                    <a:pt x="229" y="261"/>
                  </a:lnTo>
                  <a:lnTo>
                    <a:pt x="227" y="268"/>
                  </a:lnTo>
                  <a:lnTo>
                    <a:pt x="223" y="275"/>
                  </a:lnTo>
                  <a:lnTo>
                    <a:pt x="219" y="281"/>
                  </a:lnTo>
                  <a:lnTo>
                    <a:pt x="215" y="287"/>
                  </a:lnTo>
                  <a:lnTo>
                    <a:pt x="210" y="293"/>
                  </a:lnTo>
                  <a:lnTo>
                    <a:pt x="204" y="298"/>
                  </a:lnTo>
                  <a:lnTo>
                    <a:pt x="198" y="303"/>
                  </a:lnTo>
                  <a:lnTo>
                    <a:pt x="192" y="307"/>
                  </a:lnTo>
                  <a:lnTo>
                    <a:pt x="184" y="312"/>
                  </a:lnTo>
                  <a:lnTo>
                    <a:pt x="177" y="315"/>
                  </a:lnTo>
                  <a:lnTo>
                    <a:pt x="169" y="318"/>
                  </a:lnTo>
                  <a:lnTo>
                    <a:pt x="160" y="321"/>
                  </a:lnTo>
                  <a:lnTo>
                    <a:pt x="151" y="322"/>
                  </a:lnTo>
                  <a:lnTo>
                    <a:pt x="142" y="324"/>
                  </a:lnTo>
                  <a:lnTo>
                    <a:pt x="131" y="324"/>
                  </a:lnTo>
                  <a:lnTo>
                    <a:pt x="121" y="325"/>
                  </a:lnTo>
                  <a:lnTo>
                    <a:pt x="110" y="325"/>
                  </a:lnTo>
                  <a:lnTo>
                    <a:pt x="101" y="324"/>
                  </a:lnTo>
                  <a:lnTo>
                    <a:pt x="91" y="323"/>
                  </a:lnTo>
                  <a:lnTo>
                    <a:pt x="82" y="321"/>
                  </a:lnTo>
                  <a:lnTo>
                    <a:pt x="73" y="319"/>
                  </a:lnTo>
                  <a:lnTo>
                    <a:pt x="65" y="317"/>
                  </a:lnTo>
                  <a:lnTo>
                    <a:pt x="57" y="314"/>
                  </a:lnTo>
                  <a:lnTo>
                    <a:pt x="51" y="309"/>
                  </a:lnTo>
                  <a:lnTo>
                    <a:pt x="44" y="305"/>
                  </a:lnTo>
                  <a:lnTo>
                    <a:pt x="38" y="301"/>
                  </a:lnTo>
                  <a:lnTo>
                    <a:pt x="33" y="296"/>
                  </a:lnTo>
                  <a:lnTo>
                    <a:pt x="28" y="290"/>
                  </a:lnTo>
                  <a:lnTo>
                    <a:pt x="22" y="285"/>
                  </a:lnTo>
                  <a:lnTo>
                    <a:pt x="18" y="279"/>
                  </a:lnTo>
                  <a:lnTo>
                    <a:pt x="15" y="272"/>
                  </a:lnTo>
                  <a:lnTo>
                    <a:pt x="12" y="265"/>
                  </a:lnTo>
                  <a:lnTo>
                    <a:pt x="6" y="249"/>
                  </a:lnTo>
                  <a:lnTo>
                    <a:pt x="3" y="230"/>
                  </a:lnTo>
                  <a:lnTo>
                    <a:pt x="1" y="209"/>
                  </a:lnTo>
                  <a:lnTo>
                    <a:pt x="0" y="184"/>
                  </a:lnTo>
                  <a:lnTo>
                    <a:pt x="0" y="0"/>
                  </a:lnTo>
                  <a:lnTo>
                    <a:pt x="40" y="0"/>
                  </a:lnTo>
                  <a:lnTo>
                    <a:pt x="40" y="184"/>
                  </a:lnTo>
                  <a:lnTo>
                    <a:pt x="41" y="204"/>
                  </a:lnTo>
                  <a:lnTo>
                    <a:pt x="42" y="220"/>
                  </a:lnTo>
                  <a:lnTo>
                    <a:pt x="44" y="234"/>
                  </a:lnTo>
                  <a:lnTo>
                    <a:pt x="48" y="246"/>
                  </a:lnTo>
                  <a:lnTo>
                    <a:pt x="52" y="255"/>
                  </a:lnTo>
                  <a:lnTo>
                    <a:pt x="58" y="263"/>
                  </a:lnTo>
                  <a:lnTo>
                    <a:pt x="65" y="270"/>
                  </a:lnTo>
                  <a:lnTo>
                    <a:pt x="73" y="277"/>
                  </a:lnTo>
                  <a:lnTo>
                    <a:pt x="83" y="281"/>
                  </a:lnTo>
                  <a:lnTo>
                    <a:pt x="93" y="284"/>
                  </a:lnTo>
                  <a:lnTo>
                    <a:pt x="105" y="286"/>
                  </a:lnTo>
                  <a:lnTo>
                    <a:pt x="116" y="287"/>
                  </a:lnTo>
                  <a:lnTo>
                    <a:pt x="128" y="286"/>
                  </a:lnTo>
                  <a:lnTo>
                    <a:pt x="138" y="286"/>
                  </a:lnTo>
                  <a:lnTo>
                    <a:pt x="147" y="284"/>
                  </a:lnTo>
                  <a:lnTo>
                    <a:pt x="155" y="282"/>
                  </a:lnTo>
                  <a:lnTo>
                    <a:pt x="163" y="279"/>
                  </a:lnTo>
                  <a:lnTo>
                    <a:pt x="169" y="276"/>
                  </a:lnTo>
                  <a:lnTo>
                    <a:pt x="176" y="270"/>
                  </a:lnTo>
                  <a:lnTo>
                    <a:pt x="180" y="266"/>
                  </a:lnTo>
                  <a:lnTo>
                    <a:pt x="185" y="260"/>
                  </a:lnTo>
                  <a:lnTo>
                    <a:pt x="189" y="252"/>
                  </a:lnTo>
                  <a:lnTo>
                    <a:pt x="192" y="245"/>
                  </a:lnTo>
                  <a:lnTo>
                    <a:pt x="195" y="235"/>
                  </a:lnTo>
                  <a:lnTo>
                    <a:pt x="197" y="224"/>
                  </a:lnTo>
                  <a:lnTo>
                    <a:pt x="198" y="212"/>
                  </a:lnTo>
                  <a:lnTo>
                    <a:pt x="199" y="199"/>
                  </a:lnTo>
                  <a:lnTo>
                    <a:pt x="199" y="184"/>
                  </a:lnTo>
                  <a:lnTo>
                    <a:pt x="199" y="0"/>
                  </a:lnTo>
                  <a:close/>
                </a:path>
              </a:pathLst>
            </a:custGeom>
            <a:solidFill>
              <a:schemeClr val="tx1"/>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379" name="Freeform 66"/>
            <p:cNvSpPr/>
            <p:nvPr/>
          </p:nvSpPr>
          <p:spPr>
            <a:xfrm>
              <a:off x="4630680" y="9605520"/>
              <a:ext cx="36720" cy="59400"/>
            </a:xfrm>
            <a:custGeom>
              <a:avLst/>
              <a:gdLst>
                <a:gd name="textAreaLeft" fmla="*/ 0 w 36720"/>
                <a:gd name="textAreaRight" fmla="*/ 37080 w 36720"/>
                <a:gd name="textAreaTop" fmla="*/ 0 h 59400"/>
                <a:gd name="textAreaBottom" fmla="*/ 59760 h 59400"/>
              </a:gdLst>
              <a:ahLst/>
              <a:rect l="textAreaLeft" t="textAreaTop" r="textAreaRight" b="textAreaBottom"/>
              <a:pathLst>
                <a:path w="191" h="320">
                  <a:moveTo>
                    <a:pt x="0" y="320"/>
                  </a:moveTo>
                  <a:lnTo>
                    <a:pt x="0" y="0"/>
                  </a:lnTo>
                  <a:lnTo>
                    <a:pt x="41" y="0"/>
                  </a:lnTo>
                  <a:lnTo>
                    <a:pt x="41" y="282"/>
                  </a:lnTo>
                  <a:lnTo>
                    <a:pt x="191" y="282"/>
                  </a:lnTo>
                  <a:lnTo>
                    <a:pt x="191" y="320"/>
                  </a:lnTo>
                  <a:lnTo>
                    <a:pt x="0" y="320"/>
                  </a:lnTo>
                  <a:close/>
                </a:path>
              </a:pathLst>
            </a:custGeom>
            <a:solidFill>
              <a:schemeClr val="tx1"/>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380" name="Freeform 67"/>
            <p:cNvSpPr/>
            <p:nvPr/>
          </p:nvSpPr>
          <p:spPr>
            <a:xfrm>
              <a:off x="4671720" y="9605520"/>
              <a:ext cx="47520" cy="59400"/>
            </a:xfrm>
            <a:custGeom>
              <a:avLst/>
              <a:gdLst>
                <a:gd name="textAreaLeft" fmla="*/ 0 w 47520"/>
                <a:gd name="textAreaRight" fmla="*/ 47880 w 47520"/>
                <a:gd name="textAreaTop" fmla="*/ 0 h 59400"/>
                <a:gd name="textAreaBottom" fmla="*/ 59760 h 59400"/>
              </a:gdLst>
              <a:ahLst/>
              <a:rect l="textAreaLeft" t="textAreaTop" r="textAreaRight" b="textAreaBottom"/>
              <a:pathLst>
                <a:path w="242" h="320">
                  <a:moveTo>
                    <a:pt x="101" y="320"/>
                  </a:moveTo>
                  <a:lnTo>
                    <a:pt x="101" y="37"/>
                  </a:lnTo>
                  <a:lnTo>
                    <a:pt x="0" y="37"/>
                  </a:lnTo>
                  <a:lnTo>
                    <a:pt x="0" y="0"/>
                  </a:lnTo>
                  <a:lnTo>
                    <a:pt x="242" y="0"/>
                  </a:lnTo>
                  <a:lnTo>
                    <a:pt x="242" y="37"/>
                  </a:lnTo>
                  <a:lnTo>
                    <a:pt x="141" y="37"/>
                  </a:lnTo>
                  <a:lnTo>
                    <a:pt x="141" y="320"/>
                  </a:lnTo>
                  <a:lnTo>
                    <a:pt x="101" y="320"/>
                  </a:lnTo>
                  <a:close/>
                </a:path>
              </a:pathLst>
            </a:custGeom>
            <a:solidFill>
              <a:schemeClr val="tx1"/>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381" name="Rectangle 68"/>
            <p:cNvSpPr/>
            <p:nvPr/>
          </p:nvSpPr>
          <p:spPr>
            <a:xfrm>
              <a:off x="4733280" y="9605520"/>
              <a:ext cx="7920" cy="59400"/>
            </a:xfrm>
            <a:prstGeom prst="rect">
              <a:avLst/>
            </a:prstGeom>
            <a:solidFill>
              <a:schemeClr val="tx1"/>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382" name="Freeform 69"/>
            <p:cNvSpPr/>
            <p:nvPr/>
          </p:nvSpPr>
          <p:spPr>
            <a:xfrm>
              <a:off x="4760640" y="9605520"/>
              <a:ext cx="46080" cy="59400"/>
            </a:xfrm>
            <a:custGeom>
              <a:avLst/>
              <a:gdLst>
                <a:gd name="textAreaLeft" fmla="*/ 0 w 46080"/>
                <a:gd name="textAreaRight" fmla="*/ 46440 w 46080"/>
                <a:gd name="textAreaTop" fmla="*/ 0 h 59400"/>
                <a:gd name="textAreaBottom" fmla="*/ 59760 h 59400"/>
              </a:gdLst>
              <a:ahLst/>
              <a:rect l="textAreaLeft" t="textAreaTop" r="textAreaRight" b="textAreaBottom"/>
              <a:pathLst>
                <a:path w="241" h="320">
                  <a:moveTo>
                    <a:pt x="0" y="320"/>
                  </a:moveTo>
                  <a:lnTo>
                    <a:pt x="0" y="0"/>
                  </a:lnTo>
                  <a:lnTo>
                    <a:pt x="42" y="0"/>
                  </a:lnTo>
                  <a:lnTo>
                    <a:pt x="202" y="251"/>
                  </a:lnTo>
                  <a:lnTo>
                    <a:pt x="202" y="0"/>
                  </a:lnTo>
                  <a:lnTo>
                    <a:pt x="241" y="0"/>
                  </a:lnTo>
                  <a:lnTo>
                    <a:pt x="241" y="320"/>
                  </a:lnTo>
                  <a:lnTo>
                    <a:pt x="200" y="320"/>
                  </a:lnTo>
                  <a:lnTo>
                    <a:pt x="40" y="68"/>
                  </a:lnTo>
                  <a:lnTo>
                    <a:pt x="40" y="320"/>
                  </a:lnTo>
                  <a:lnTo>
                    <a:pt x="0" y="320"/>
                  </a:lnTo>
                  <a:close/>
                </a:path>
              </a:pathLst>
            </a:custGeom>
            <a:solidFill>
              <a:schemeClr val="tx1"/>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383" name="Freeform 70"/>
            <p:cNvSpPr/>
            <p:nvPr/>
          </p:nvSpPr>
          <p:spPr>
            <a:xfrm>
              <a:off x="4823640" y="9604080"/>
              <a:ext cx="54360" cy="60480"/>
            </a:xfrm>
            <a:custGeom>
              <a:avLst/>
              <a:gdLst>
                <a:gd name="textAreaLeft" fmla="*/ 0 w 54360"/>
                <a:gd name="textAreaRight" fmla="*/ 54720 w 54360"/>
                <a:gd name="textAreaTop" fmla="*/ 0 h 60480"/>
                <a:gd name="textAreaBottom" fmla="*/ 60840 h 60480"/>
              </a:gdLst>
              <a:ahLst/>
              <a:rect l="textAreaLeft" t="textAreaTop" r="textAreaRight" b="textAreaBottom"/>
              <a:pathLst>
                <a:path w="282" h="330">
                  <a:moveTo>
                    <a:pt x="154" y="199"/>
                  </a:moveTo>
                  <a:lnTo>
                    <a:pt x="154" y="162"/>
                  </a:lnTo>
                  <a:lnTo>
                    <a:pt x="282" y="162"/>
                  </a:lnTo>
                  <a:lnTo>
                    <a:pt x="282" y="281"/>
                  </a:lnTo>
                  <a:lnTo>
                    <a:pt x="267" y="292"/>
                  </a:lnTo>
                  <a:lnTo>
                    <a:pt x="253" y="302"/>
                  </a:lnTo>
                  <a:lnTo>
                    <a:pt x="237" y="310"/>
                  </a:lnTo>
                  <a:lnTo>
                    <a:pt x="222" y="318"/>
                  </a:lnTo>
                  <a:lnTo>
                    <a:pt x="206" y="323"/>
                  </a:lnTo>
                  <a:lnTo>
                    <a:pt x="189" y="327"/>
                  </a:lnTo>
                  <a:lnTo>
                    <a:pt x="173" y="329"/>
                  </a:lnTo>
                  <a:lnTo>
                    <a:pt x="156" y="330"/>
                  </a:lnTo>
                  <a:lnTo>
                    <a:pt x="146" y="329"/>
                  </a:lnTo>
                  <a:lnTo>
                    <a:pt x="135" y="329"/>
                  </a:lnTo>
                  <a:lnTo>
                    <a:pt x="124" y="327"/>
                  </a:lnTo>
                  <a:lnTo>
                    <a:pt x="114" y="325"/>
                  </a:lnTo>
                  <a:lnTo>
                    <a:pt x="103" y="322"/>
                  </a:lnTo>
                  <a:lnTo>
                    <a:pt x="94" y="319"/>
                  </a:lnTo>
                  <a:lnTo>
                    <a:pt x="84" y="314"/>
                  </a:lnTo>
                  <a:lnTo>
                    <a:pt x="75" y="310"/>
                  </a:lnTo>
                  <a:lnTo>
                    <a:pt x="66" y="305"/>
                  </a:lnTo>
                  <a:lnTo>
                    <a:pt x="58" y="299"/>
                  </a:lnTo>
                  <a:lnTo>
                    <a:pt x="50" y="292"/>
                  </a:lnTo>
                  <a:lnTo>
                    <a:pt x="43" y="285"/>
                  </a:lnTo>
                  <a:lnTo>
                    <a:pt x="37" y="277"/>
                  </a:lnTo>
                  <a:lnTo>
                    <a:pt x="30" y="270"/>
                  </a:lnTo>
                  <a:lnTo>
                    <a:pt x="25" y="260"/>
                  </a:lnTo>
                  <a:lnTo>
                    <a:pt x="20" y="252"/>
                  </a:lnTo>
                  <a:lnTo>
                    <a:pt x="15" y="242"/>
                  </a:lnTo>
                  <a:lnTo>
                    <a:pt x="11" y="232"/>
                  </a:lnTo>
                  <a:lnTo>
                    <a:pt x="8" y="221"/>
                  </a:lnTo>
                  <a:lnTo>
                    <a:pt x="6" y="212"/>
                  </a:lnTo>
                  <a:lnTo>
                    <a:pt x="4" y="200"/>
                  </a:lnTo>
                  <a:lnTo>
                    <a:pt x="2" y="189"/>
                  </a:lnTo>
                  <a:lnTo>
                    <a:pt x="2" y="178"/>
                  </a:lnTo>
                  <a:lnTo>
                    <a:pt x="0" y="166"/>
                  </a:lnTo>
                  <a:lnTo>
                    <a:pt x="2" y="154"/>
                  </a:lnTo>
                  <a:lnTo>
                    <a:pt x="2" y="143"/>
                  </a:lnTo>
                  <a:lnTo>
                    <a:pt x="4" y="132"/>
                  </a:lnTo>
                  <a:lnTo>
                    <a:pt x="6" y="122"/>
                  </a:lnTo>
                  <a:lnTo>
                    <a:pt x="8" y="110"/>
                  </a:lnTo>
                  <a:lnTo>
                    <a:pt x="11" y="99"/>
                  </a:lnTo>
                  <a:lnTo>
                    <a:pt x="15" y="90"/>
                  </a:lnTo>
                  <a:lnTo>
                    <a:pt x="20" y="79"/>
                  </a:lnTo>
                  <a:lnTo>
                    <a:pt x="25" y="70"/>
                  </a:lnTo>
                  <a:lnTo>
                    <a:pt x="30" y="60"/>
                  </a:lnTo>
                  <a:lnTo>
                    <a:pt x="35" y="52"/>
                  </a:lnTo>
                  <a:lnTo>
                    <a:pt x="42" y="44"/>
                  </a:lnTo>
                  <a:lnTo>
                    <a:pt x="49" y="37"/>
                  </a:lnTo>
                  <a:lnTo>
                    <a:pt x="57" y="30"/>
                  </a:lnTo>
                  <a:lnTo>
                    <a:pt x="64" y="24"/>
                  </a:lnTo>
                  <a:lnTo>
                    <a:pt x="73" y="19"/>
                  </a:lnTo>
                  <a:lnTo>
                    <a:pt x="82" y="15"/>
                  </a:lnTo>
                  <a:lnTo>
                    <a:pt x="92" y="10"/>
                  </a:lnTo>
                  <a:lnTo>
                    <a:pt x="101" y="7"/>
                  </a:lnTo>
                  <a:lnTo>
                    <a:pt x="111" y="4"/>
                  </a:lnTo>
                  <a:lnTo>
                    <a:pt x="121" y="2"/>
                  </a:lnTo>
                  <a:lnTo>
                    <a:pt x="132" y="1"/>
                  </a:lnTo>
                  <a:lnTo>
                    <a:pt x="142" y="0"/>
                  </a:lnTo>
                  <a:lnTo>
                    <a:pt x="153" y="0"/>
                  </a:lnTo>
                  <a:lnTo>
                    <a:pt x="170" y="0"/>
                  </a:lnTo>
                  <a:lnTo>
                    <a:pt x="185" y="2"/>
                  </a:lnTo>
                  <a:lnTo>
                    <a:pt x="200" y="6"/>
                  </a:lnTo>
                  <a:lnTo>
                    <a:pt x="213" y="10"/>
                  </a:lnTo>
                  <a:lnTo>
                    <a:pt x="226" y="17"/>
                  </a:lnTo>
                  <a:lnTo>
                    <a:pt x="237" y="24"/>
                  </a:lnTo>
                  <a:lnTo>
                    <a:pt x="246" y="33"/>
                  </a:lnTo>
                  <a:lnTo>
                    <a:pt x="255" y="42"/>
                  </a:lnTo>
                  <a:lnTo>
                    <a:pt x="262" y="53"/>
                  </a:lnTo>
                  <a:lnTo>
                    <a:pt x="268" y="65"/>
                  </a:lnTo>
                  <a:lnTo>
                    <a:pt x="274" y="79"/>
                  </a:lnTo>
                  <a:lnTo>
                    <a:pt x="278" y="94"/>
                  </a:lnTo>
                  <a:lnTo>
                    <a:pt x="242" y="105"/>
                  </a:lnTo>
                  <a:lnTo>
                    <a:pt x="238" y="93"/>
                  </a:lnTo>
                  <a:lnTo>
                    <a:pt x="234" y="82"/>
                  </a:lnTo>
                  <a:lnTo>
                    <a:pt x="229" y="74"/>
                  </a:lnTo>
                  <a:lnTo>
                    <a:pt x="225" y="67"/>
                  </a:lnTo>
                  <a:lnTo>
                    <a:pt x="219" y="60"/>
                  </a:lnTo>
                  <a:lnTo>
                    <a:pt x="212" y="54"/>
                  </a:lnTo>
                  <a:lnTo>
                    <a:pt x="205" y="48"/>
                  </a:lnTo>
                  <a:lnTo>
                    <a:pt x="195" y="44"/>
                  </a:lnTo>
                  <a:lnTo>
                    <a:pt x="186" y="40"/>
                  </a:lnTo>
                  <a:lnTo>
                    <a:pt x="175" y="38"/>
                  </a:lnTo>
                  <a:lnTo>
                    <a:pt x="165" y="36"/>
                  </a:lnTo>
                  <a:lnTo>
                    <a:pt x="154" y="36"/>
                  </a:lnTo>
                  <a:lnTo>
                    <a:pt x="140" y="36"/>
                  </a:lnTo>
                  <a:lnTo>
                    <a:pt x="128" y="38"/>
                  </a:lnTo>
                  <a:lnTo>
                    <a:pt x="116" y="41"/>
                  </a:lnTo>
                  <a:lnTo>
                    <a:pt x="105" y="44"/>
                  </a:lnTo>
                  <a:lnTo>
                    <a:pt x="96" y="50"/>
                  </a:lnTo>
                  <a:lnTo>
                    <a:pt x="87" y="55"/>
                  </a:lnTo>
                  <a:lnTo>
                    <a:pt x="80" y="61"/>
                  </a:lnTo>
                  <a:lnTo>
                    <a:pt x="74" y="68"/>
                  </a:lnTo>
                  <a:lnTo>
                    <a:pt x="67" y="75"/>
                  </a:lnTo>
                  <a:lnTo>
                    <a:pt x="62" y="82"/>
                  </a:lnTo>
                  <a:lnTo>
                    <a:pt x="58" y="91"/>
                  </a:lnTo>
                  <a:lnTo>
                    <a:pt x="55" y="99"/>
                  </a:lnTo>
                  <a:lnTo>
                    <a:pt x="49" y="114"/>
                  </a:lnTo>
                  <a:lnTo>
                    <a:pt x="45" y="130"/>
                  </a:lnTo>
                  <a:lnTo>
                    <a:pt x="43" y="147"/>
                  </a:lnTo>
                  <a:lnTo>
                    <a:pt x="43" y="164"/>
                  </a:lnTo>
                  <a:lnTo>
                    <a:pt x="43" y="184"/>
                  </a:lnTo>
                  <a:lnTo>
                    <a:pt x="46" y="203"/>
                  </a:lnTo>
                  <a:lnTo>
                    <a:pt x="48" y="212"/>
                  </a:lnTo>
                  <a:lnTo>
                    <a:pt x="50" y="220"/>
                  </a:lnTo>
                  <a:lnTo>
                    <a:pt x="53" y="228"/>
                  </a:lnTo>
                  <a:lnTo>
                    <a:pt x="57" y="235"/>
                  </a:lnTo>
                  <a:lnTo>
                    <a:pt x="60" y="242"/>
                  </a:lnTo>
                  <a:lnTo>
                    <a:pt x="64" y="249"/>
                  </a:lnTo>
                  <a:lnTo>
                    <a:pt x="68" y="255"/>
                  </a:lnTo>
                  <a:lnTo>
                    <a:pt x="74" y="260"/>
                  </a:lnTo>
                  <a:lnTo>
                    <a:pt x="79" y="266"/>
                  </a:lnTo>
                  <a:lnTo>
                    <a:pt x="85" y="270"/>
                  </a:lnTo>
                  <a:lnTo>
                    <a:pt x="91" y="274"/>
                  </a:lnTo>
                  <a:lnTo>
                    <a:pt x="97" y="278"/>
                  </a:lnTo>
                  <a:lnTo>
                    <a:pt x="111" y="284"/>
                  </a:lnTo>
                  <a:lnTo>
                    <a:pt x="124" y="288"/>
                  </a:lnTo>
                  <a:lnTo>
                    <a:pt x="139" y="291"/>
                  </a:lnTo>
                  <a:lnTo>
                    <a:pt x="154" y="292"/>
                  </a:lnTo>
                  <a:lnTo>
                    <a:pt x="167" y="291"/>
                  </a:lnTo>
                  <a:lnTo>
                    <a:pt x="181" y="289"/>
                  </a:lnTo>
                  <a:lnTo>
                    <a:pt x="193" y="286"/>
                  </a:lnTo>
                  <a:lnTo>
                    <a:pt x="205" y="282"/>
                  </a:lnTo>
                  <a:lnTo>
                    <a:pt x="217" y="276"/>
                  </a:lnTo>
                  <a:lnTo>
                    <a:pt x="227" y="270"/>
                  </a:lnTo>
                  <a:lnTo>
                    <a:pt x="236" y="265"/>
                  </a:lnTo>
                  <a:lnTo>
                    <a:pt x="243" y="258"/>
                  </a:lnTo>
                  <a:lnTo>
                    <a:pt x="243" y="199"/>
                  </a:lnTo>
                  <a:lnTo>
                    <a:pt x="154" y="199"/>
                  </a:lnTo>
                  <a:close/>
                </a:path>
              </a:pathLst>
            </a:custGeom>
            <a:solidFill>
              <a:schemeClr val="tx1"/>
            </a:solidFill>
            <a:ln w="0">
              <a:noFill/>
            </a:ln>
          </p:spPr>
          <p:style>
            <a:lnRef idx="0"/>
            <a:fillRef idx="0"/>
            <a:effectRef idx="0"/>
            <a:fontRef idx="minor"/>
          </p:style>
          <p:txBody>
            <a:bodyPr lIns="90000" rIns="90000" tIns="15840" bIns="15840" anchor="t">
              <a:noAutofit/>
            </a:bodyPr>
            <a:p>
              <a:pPr>
                <a:lnSpc>
                  <a:spcPct val="100000"/>
                </a:lnSpc>
              </a:pPr>
              <a:endParaRPr b="0" lang="en-US" sz="1800" spc="-1" strike="noStrike">
                <a:solidFill>
                  <a:srgbClr val="d79f00"/>
                </a:solidFill>
                <a:latin typeface="Arial"/>
                <a:ea typeface="宋体"/>
              </a:endParaRPr>
            </a:p>
          </p:txBody>
        </p:sp>
        <p:sp>
          <p:nvSpPr>
            <p:cNvPr id="384" name="Freeform 71"/>
            <p:cNvSpPr/>
            <p:nvPr/>
          </p:nvSpPr>
          <p:spPr>
            <a:xfrm>
              <a:off x="4917960" y="9604080"/>
              <a:ext cx="51840" cy="60480"/>
            </a:xfrm>
            <a:custGeom>
              <a:avLst/>
              <a:gdLst>
                <a:gd name="textAreaLeft" fmla="*/ 0 w 51840"/>
                <a:gd name="textAreaRight" fmla="*/ 52200 w 51840"/>
                <a:gd name="textAreaTop" fmla="*/ 0 h 60480"/>
                <a:gd name="textAreaBottom" fmla="*/ 60840 h 60480"/>
              </a:gdLst>
              <a:ahLst/>
              <a:rect l="textAreaLeft" t="textAreaTop" r="textAreaRight" b="textAreaBottom"/>
              <a:pathLst>
                <a:path w="270" h="330">
                  <a:moveTo>
                    <a:pt x="229" y="213"/>
                  </a:moveTo>
                  <a:lnTo>
                    <a:pt x="270" y="223"/>
                  </a:lnTo>
                  <a:lnTo>
                    <a:pt x="266" y="236"/>
                  </a:lnTo>
                  <a:lnTo>
                    <a:pt x="262" y="248"/>
                  </a:lnTo>
                  <a:lnTo>
                    <a:pt x="257" y="258"/>
                  </a:lnTo>
                  <a:lnTo>
                    <a:pt x="252" y="269"/>
                  </a:lnTo>
                  <a:lnTo>
                    <a:pt x="246" y="278"/>
                  </a:lnTo>
                  <a:lnTo>
                    <a:pt x="239" y="288"/>
                  </a:lnTo>
                  <a:lnTo>
                    <a:pt x="231" y="295"/>
                  </a:lnTo>
                  <a:lnTo>
                    <a:pt x="224" y="303"/>
                  </a:lnTo>
                  <a:lnTo>
                    <a:pt x="216" y="309"/>
                  </a:lnTo>
                  <a:lnTo>
                    <a:pt x="207" y="314"/>
                  </a:lnTo>
                  <a:lnTo>
                    <a:pt x="197" y="320"/>
                  </a:lnTo>
                  <a:lnTo>
                    <a:pt x="187" y="323"/>
                  </a:lnTo>
                  <a:lnTo>
                    <a:pt x="177" y="326"/>
                  </a:lnTo>
                  <a:lnTo>
                    <a:pt x="166" y="328"/>
                  </a:lnTo>
                  <a:lnTo>
                    <a:pt x="155" y="329"/>
                  </a:lnTo>
                  <a:lnTo>
                    <a:pt x="143" y="330"/>
                  </a:lnTo>
                  <a:lnTo>
                    <a:pt x="131" y="329"/>
                  </a:lnTo>
                  <a:lnTo>
                    <a:pt x="120" y="329"/>
                  </a:lnTo>
                  <a:lnTo>
                    <a:pt x="109" y="327"/>
                  </a:lnTo>
                  <a:lnTo>
                    <a:pt x="99" y="325"/>
                  </a:lnTo>
                  <a:lnTo>
                    <a:pt x="89" y="322"/>
                  </a:lnTo>
                  <a:lnTo>
                    <a:pt x="80" y="319"/>
                  </a:lnTo>
                  <a:lnTo>
                    <a:pt x="71" y="314"/>
                  </a:lnTo>
                  <a:lnTo>
                    <a:pt x="63" y="309"/>
                  </a:lnTo>
                  <a:lnTo>
                    <a:pt x="56" y="304"/>
                  </a:lnTo>
                  <a:lnTo>
                    <a:pt x="49" y="298"/>
                  </a:lnTo>
                  <a:lnTo>
                    <a:pt x="42" y="290"/>
                  </a:lnTo>
                  <a:lnTo>
                    <a:pt x="36" y="284"/>
                  </a:lnTo>
                  <a:lnTo>
                    <a:pt x="30" y="275"/>
                  </a:lnTo>
                  <a:lnTo>
                    <a:pt x="25" y="267"/>
                  </a:lnTo>
                  <a:lnTo>
                    <a:pt x="21" y="257"/>
                  </a:lnTo>
                  <a:lnTo>
                    <a:pt x="16" y="248"/>
                  </a:lnTo>
                  <a:lnTo>
                    <a:pt x="12" y="238"/>
                  </a:lnTo>
                  <a:lnTo>
                    <a:pt x="9" y="228"/>
                  </a:lnTo>
                  <a:lnTo>
                    <a:pt x="7" y="217"/>
                  </a:lnTo>
                  <a:lnTo>
                    <a:pt x="5" y="206"/>
                  </a:lnTo>
                  <a:lnTo>
                    <a:pt x="3" y="196"/>
                  </a:lnTo>
                  <a:lnTo>
                    <a:pt x="2" y="185"/>
                  </a:lnTo>
                  <a:lnTo>
                    <a:pt x="0" y="174"/>
                  </a:lnTo>
                  <a:lnTo>
                    <a:pt x="0" y="162"/>
                  </a:lnTo>
                  <a:lnTo>
                    <a:pt x="0" y="150"/>
                  </a:lnTo>
                  <a:lnTo>
                    <a:pt x="2" y="139"/>
                  </a:lnTo>
                  <a:lnTo>
                    <a:pt x="3" y="127"/>
                  </a:lnTo>
                  <a:lnTo>
                    <a:pt x="5" y="115"/>
                  </a:lnTo>
                  <a:lnTo>
                    <a:pt x="7" y="105"/>
                  </a:lnTo>
                  <a:lnTo>
                    <a:pt x="10" y="95"/>
                  </a:lnTo>
                  <a:lnTo>
                    <a:pt x="14" y="85"/>
                  </a:lnTo>
                  <a:lnTo>
                    <a:pt x="18" y="75"/>
                  </a:lnTo>
                  <a:lnTo>
                    <a:pt x="23" y="67"/>
                  </a:lnTo>
                  <a:lnTo>
                    <a:pt x="28" y="58"/>
                  </a:lnTo>
                  <a:lnTo>
                    <a:pt x="34" y="50"/>
                  </a:lnTo>
                  <a:lnTo>
                    <a:pt x="41" y="42"/>
                  </a:lnTo>
                  <a:lnTo>
                    <a:pt x="47" y="36"/>
                  </a:lnTo>
                  <a:lnTo>
                    <a:pt x="55" y="29"/>
                  </a:lnTo>
                  <a:lnTo>
                    <a:pt x="62" y="24"/>
                  </a:lnTo>
                  <a:lnTo>
                    <a:pt x="70" y="19"/>
                  </a:lnTo>
                  <a:lnTo>
                    <a:pt x="79" y="15"/>
                  </a:lnTo>
                  <a:lnTo>
                    <a:pt x="87" y="10"/>
                  </a:lnTo>
                  <a:lnTo>
                    <a:pt x="96" y="7"/>
                  </a:lnTo>
                  <a:lnTo>
                    <a:pt x="105" y="4"/>
                  </a:lnTo>
                  <a:lnTo>
                    <a:pt x="115" y="2"/>
                  </a:lnTo>
                  <a:lnTo>
                    <a:pt x="124" y="1"/>
                  </a:lnTo>
                  <a:lnTo>
                    <a:pt x="134" y="0"/>
                  </a:lnTo>
                  <a:lnTo>
                    <a:pt x="143" y="0"/>
                  </a:lnTo>
                  <a:lnTo>
                    <a:pt x="155" y="0"/>
                  </a:lnTo>
                  <a:lnTo>
                    <a:pt x="166" y="1"/>
                  </a:lnTo>
                  <a:lnTo>
                    <a:pt x="176" y="3"/>
                  </a:lnTo>
                  <a:lnTo>
                    <a:pt x="186" y="5"/>
                  </a:lnTo>
                  <a:lnTo>
                    <a:pt x="195" y="9"/>
                  </a:lnTo>
                  <a:lnTo>
                    <a:pt x="204" y="14"/>
                  </a:lnTo>
                  <a:lnTo>
                    <a:pt x="212" y="18"/>
                  </a:lnTo>
                  <a:lnTo>
                    <a:pt x="221" y="24"/>
                  </a:lnTo>
                  <a:lnTo>
                    <a:pt x="228" y="30"/>
                  </a:lnTo>
                  <a:lnTo>
                    <a:pt x="236" y="37"/>
                  </a:lnTo>
                  <a:lnTo>
                    <a:pt x="242" y="45"/>
                  </a:lnTo>
                  <a:lnTo>
                    <a:pt x="247" y="53"/>
                  </a:lnTo>
                  <a:lnTo>
                    <a:pt x="253" y="62"/>
                  </a:lnTo>
                  <a:lnTo>
                    <a:pt x="257" y="72"/>
                  </a:lnTo>
                  <a:lnTo>
                    <a:pt x="261" y="81"/>
                  </a:lnTo>
                  <a:lnTo>
                    <a:pt x="264" y="93"/>
                  </a:lnTo>
                  <a:lnTo>
                    <a:pt x="225" y="103"/>
                  </a:lnTo>
                  <a:lnTo>
                    <a:pt x="219" y="86"/>
                  </a:lnTo>
                  <a:lnTo>
                    <a:pt x="211" y="72"/>
                  </a:lnTo>
                  <a:lnTo>
                    <a:pt x="208" y="67"/>
                  </a:lnTo>
                  <a:lnTo>
                    <a:pt x="203" y="61"/>
                  </a:lnTo>
                  <a:lnTo>
                    <a:pt x="199" y="56"/>
                  </a:lnTo>
                  <a:lnTo>
                    <a:pt x="194" y="52"/>
                  </a:lnTo>
                  <a:lnTo>
                    <a:pt x="189" y="47"/>
                  </a:lnTo>
                  <a:lnTo>
                    <a:pt x="183" y="44"/>
                  </a:lnTo>
                  <a:lnTo>
                    <a:pt x="177" y="42"/>
                  </a:lnTo>
                  <a:lnTo>
                    <a:pt x="171" y="40"/>
                  </a:lnTo>
                  <a:lnTo>
                    <a:pt x="165" y="38"/>
                  </a:lnTo>
                  <a:lnTo>
                    <a:pt x="157" y="37"/>
                  </a:lnTo>
                  <a:lnTo>
                    <a:pt x="151" y="36"/>
                  </a:lnTo>
                  <a:lnTo>
                    <a:pt x="143" y="36"/>
                  </a:lnTo>
                  <a:lnTo>
                    <a:pt x="135" y="36"/>
                  </a:lnTo>
                  <a:lnTo>
                    <a:pt x="127" y="37"/>
                  </a:lnTo>
                  <a:lnTo>
                    <a:pt x="118" y="38"/>
                  </a:lnTo>
                  <a:lnTo>
                    <a:pt x="111" y="40"/>
                  </a:lnTo>
                  <a:lnTo>
                    <a:pt x="103" y="42"/>
                  </a:lnTo>
                  <a:lnTo>
                    <a:pt x="97" y="45"/>
                  </a:lnTo>
                  <a:lnTo>
                    <a:pt x="91" y="50"/>
                  </a:lnTo>
                  <a:lnTo>
                    <a:pt x="84" y="53"/>
                  </a:lnTo>
                  <a:lnTo>
                    <a:pt x="79" y="58"/>
                  </a:lnTo>
                  <a:lnTo>
                    <a:pt x="74" y="63"/>
                  </a:lnTo>
                  <a:lnTo>
                    <a:pt x="68" y="69"/>
                  </a:lnTo>
                  <a:lnTo>
                    <a:pt x="64" y="74"/>
                  </a:lnTo>
                  <a:lnTo>
                    <a:pt x="61" y="80"/>
                  </a:lnTo>
                  <a:lnTo>
                    <a:pt x="57" y="87"/>
                  </a:lnTo>
                  <a:lnTo>
                    <a:pt x="53" y="93"/>
                  </a:lnTo>
                  <a:lnTo>
                    <a:pt x="51" y="100"/>
                  </a:lnTo>
                  <a:lnTo>
                    <a:pt x="47" y="115"/>
                  </a:lnTo>
                  <a:lnTo>
                    <a:pt x="44" y="131"/>
                  </a:lnTo>
                  <a:lnTo>
                    <a:pt x="42" y="146"/>
                  </a:lnTo>
                  <a:lnTo>
                    <a:pt x="42" y="162"/>
                  </a:lnTo>
                  <a:lnTo>
                    <a:pt x="43" y="182"/>
                  </a:lnTo>
                  <a:lnTo>
                    <a:pt x="45" y="200"/>
                  </a:lnTo>
                  <a:lnTo>
                    <a:pt x="48" y="217"/>
                  </a:lnTo>
                  <a:lnTo>
                    <a:pt x="53" y="233"/>
                  </a:lnTo>
                  <a:lnTo>
                    <a:pt x="56" y="240"/>
                  </a:lnTo>
                  <a:lnTo>
                    <a:pt x="60" y="248"/>
                  </a:lnTo>
                  <a:lnTo>
                    <a:pt x="63" y="254"/>
                  </a:lnTo>
                  <a:lnTo>
                    <a:pt x="67" y="260"/>
                  </a:lnTo>
                  <a:lnTo>
                    <a:pt x="73" y="266"/>
                  </a:lnTo>
                  <a:lnTo>
                    <a:pt x="77" y="270"/>
                  </a:lnTo>
                  <a:lnTo>
                    <a:pt x="82" y="275"/>
                  </a:lnTo>
                  <a:lnTo>
                    <a:pt x="88" y="278"/>
                  </a:lnTo>
                  <a:lnTo>
                    <a:pt x="100" y="286"/>
                  </a:lnTo>
                  <a:lnTo>
                    <a:pt x="113" y="290"/>
                  </a:lnTo>
                  <a:lnTo>
                    <a:pt x="127" y="293"/>
                  </a:lnTo>
                  <a:lnTo>
                    <a:pt x="140" y="294"/>
                  </a:lnTo>
                  <a:lnTo>
                    <a:pt x="149" y="293"/>
                  </a:lnTo>
                  <a:lnTo>
                    <a:pt x="156" y="292"/>
                  </a:lnTo>
                  <a:lnTo>
                    <a:pt x="164" y="291"/>
                  </a:lnTo>
                  <a:lnTo>
                    <a:pt x="171" y="289"/>
                  </a:lnTo>
                  <a:lnTo>
                    <a:pt x="178" y="286"/>
                  </a:lnTo>
                  <a:lnTo>
                    <a:pt x="185" y="283"/>
                  </a:lnTo>
                  <a:lnTo>
                    <a:pt x="191" y="278"/>
                  </a:lnTo>
                  <a:lnTo>
                    <a:pt x="197" y="273"/>
                  </a:lnTo>
                  <a:lnTo>
                    <a:pt x="203" y="268"/>
                  </a:lnTo>
                  <a:lnTo>
                    <a:pt x="208" y="261"/>
                  </a:lnTo>
                  <a:lnTo>
                    <a:pt x="212" y="255"/>
                  </a:lnTo>
                  <a:lnTo>
                    <a:pt x="217" y="248"/>
                  </a:lnTo>
                  <a:lnTo>
                    <a:pt x="221" y="240"/>
                  </a:lnTo>
                  <a:lnTo>
                    <a:pt x="224" y="232"/>
                  </a:lnTo>
                  <a:lnTo>
                    <a:pt x="227" y="222"/>
                  </a:lnTo>
                  <a:lnTo>
                    <a:pt x="229" y="213"/>
                  </a:lnTo>
                  <a:close/>
                </a:path>
              </a:pathLst>
            </a:custGeom>
            <a:solidFill>
              <a:schemeClr val="tx1"/>
            </a:solidFill>
            <a:ln w="0">
              <a:noFill/>
            </a:ln>
          </p:spPr>
          <p:style>
            <a:lnRef idx="0"/>
            <a:fillRef idx="0"/>
            <a:effectRef idx="0"/>
            <a:fontRef idx="minor"/>
          </p:style>
          <p:txBody>
            <a:bodyPr lIns="90000" rIns="90000" tIns="15840" bIns="15840" anchor="t">
              <a:noAutofit/>
            </a:bodyPr>
            <a:p>
              <a:pPr>
                <a:lnSpc>
                  <a:spcPct val="100000"/>
                </a:lnSpc>
              </a:pPr>
              <a:endParaRPr b="0" lang="en-US" sz="1800" spc="-1" strike="noStrike">
                <a:solidFill>
                  <a:srgbClr val="d79f00"/>
                </a:solidFill>
                <a:latin typeface="Arial"/>
                <a:ea typeface="宋体"/>
              </a:endParaRPr>
            </a:p>
          </p:txBody>
        </p:sp>
        <p:sp>
          <p:nvSpPr>
            <p:cNvPr id="385" name="Freeform 72"/>
            <p:cNvSpPr/>
            <p:nvPr/>
          </p:nvSpPr>
          <p:spPr>
            <a:xfrm>
              <a:off x="4982400" y="9604080"/>
              <a:ext cx="57240" cy="60480"/>
            </a:xfrm>
            <a:custGeom>
              <a:avLst/>
              <a:gdLst>
                <a:gd name="textAreaLeft" fmla="*/ 0 w 57240"/>
                <a:gd name="textAreaRight" fmla="*/ 57600 w 57240"/>
                <a:gd name="textAreaTop" fmla="*/ 0 h 60480"/>
                <a:gd name="textAreaBottom" fmla="*/ 60840 h 60480"/>
              </a:gdLst>
              <a:ahLst/>
              <a:rect l="textAreaLeft" t="textAreaTop" r="textAreaRight" b="textAreaBottom"/>
              <a:pathLst>
                <a:path w="291" h="331">
                  <a:moveTo>
                    <a:pt x="0" y="170"/>
                  </a:moveTo>
                  <a:lnTo>
                    <a:pt x="0" y="150"/>
                  </a:lnTo>
                  <a:lnTo>
                    <a:pt x="2" y="132"/>
                  </a:lnTo>
                  <a:lnTo>
                    <a:pt x="5" y="115"/>
                  </a:lnTo>
                  <a:lnTo>
                    <a:pt x="10" y="99"/>
                  </a:lnTo>
                  <a:lnTo>
                    <a:pt x="16" y="83"/>
                  </a:lnTo>
                  <a:lnTo>
                    <a:pt x="22" y="70"/>
                  </a:lnTo>
                  <a:lnTo>
                    <a:pt x="31" y="57"/>
                  </a:lnTo>
                  <a:lnTo>
                    <a:pt x="40" y="45"/>
                  </a:lnTo>
                  <a:lnTo>
                    <a:pt x="51" y="35"/>
                  </a:lnTo>
                  <a:lnTo>
                    <a:pt x="63" y="25"/>
                  </a:lnTo>
                  <a:lnTo>
                    <a:pt x="74" y="18"/>
                  </a:lnTo>
                  <a:lnTo>
                    <a:pt x="87" y="11"/>
                  </a:lnTo>
                  <a:lnTo>
                    <a:pt x="101" y="6"/>
                  </a:lnTo>
                  <a:lnTo>
                    <a:pt x="114" y="3"/>
                  </a:lnTo>
                  <a:lnTo>
                    <a:pt x="129" y="1"/>
                  </a:lnTo>
                  <a:lnTo>
                    <a:pt x="145" y="0"/>
                  </a:lnTo>
                  <a:lnTo>
                    <a:pt x="156" y="1"/>
                  </a:lnTo>
                  <a:lnTo>
                    <a:pt x="166" y="2"/>
                  </a:lnTo>
                  <a:lnTo>
                    <a:pt x="176" y="3"/>
                  </a:lnTo>
                  <a:lnTo>
                    <a:pt x="185" y="5"/>
                  </a:lnTo>
                  <a:lnTo>
                    <a:pt x="195" y="8"/>
                  </a:lnTo>
                  <a:lnTo>
                    <a:pt x="204" y="12"/>
                  </a:lnTo>
                  <a:lnTo>
                    <a:pt x="213" y="17"/>
                  </a:lnTo>
                  <a:lnTo>
                    <a:pt x="221" y="21"/>
                  </a:lnTo>
                  <a:lnTo>
                    <a:pt x="230" y="27"/>
                  </a:lnTo>
                  <a:lnTo>
                    <a:pt x="237" y="33"/>
                  </a:lnTo>
                  <a:lnTo>
                    <a:pt x="245" y="40"/>
                  </a:lnTo>
                  <a:lnTo>
                    <a:pt x="251" y="46"/>
                  </a:lnTo>
                  <a:lnTo>
                    <a:pt x="257" y="55"/>
                  </a:lnTo>
                  <a:lnTo>
                    <a:pt x="264" y="62"/>
                  </a:lnTo>
                  <a:lnTo>
                    <a:pt x="268" y="71"/>
                  </a:lnTo>
                  <a:lnTo>
                    <a:pt x="273" y="80"/>
                  </a:lnTo>
                  <a:lnTo>
                    <a:pt x="278" y="90"/>
                  </a:lnTo>
                  <a:lnTo>
                    <a:pt x="281" y="100"/>
                  </a:lnTo>
                  <a:lnTo>
                    <a:pt x="284" y="110"/>
                  </a:lnTo>
                  <a:lnTo>
                    <a:pt x="286" y="120"/>
                  </a:lnTo>
                  <a:lnTo>
                    <a:pt x="288" y="131"/>
                  </a:lnTo>
                  <a:lnTo>
                    <a:pt x="290" y="143"/>
                  </a:lnTo>
                  <a:lnTo>
                    <a:pt x="290" y="154"/>
                  </a:lnTo>
                  <a:lnTo>
                    <a:pt x="291" y="166"/>
                  </a:lnTo>
                  <a:lnTo>
                    <a:pt x="290" y="178"/>
                  </a:lnTo>
                  <a:lnTo>
                    <a:pt x="290" y="189"/>
                  </a:lnTo>
                  <a:lnTo>
                    <a:pt x="288" y="201"/>
                  </a:lnTo>
                  <a:lnTo>
                    <a:pt x="286" y="213"/>
                  </a:lnTo>
                  <a:lnTo>
                    <a:pt x="284" y="223"/>
                  </a:lnTo>
                  <a:lnTo>
                    <a:pt x="281" y="234"/>
                  </a:lnTo>
                  <a:lnTo>
                    <a:pt x="277" y="243"/>
                  </a:lnTo>
                  <a:lnTo>
                    <a:pt x="272" y="253"/>
                  </a:lnTo>
                  <a:lnTo>
                    <a:pt x="267" y="262"/>
                  </a:lnTo>
                  <a:lnTo>
                    <a:pt x="262" y="271"/>
                  </a:lnTo>
                  <a:lnTo>
                    <a:pt x="256" y="279"/>
                  </a:lnTo>
                  <a:lnTo>
                    <a:pt x="250" y="287"/>
                  </a:lnTo>
                  <a:lnTo>
                    <a:pt x="243" y="294"/>
                  </a:lnTo>
                  <a:lnTo>
                    <a:pt x="235" y="301"/>
                  </a:lnTo>
                  <a:lnTo>
                    <a:pt x="228" y="306"/>
                  </a:lnTo>
                  <a:lnTo>
                    <a:pt x="219" y="311"/>
                  </a:lnTo>
                  <a:lnTo>
                    <a:pt x="211" y="315"/>
                  </a:lnTo>
                  <a:lnTo>
                    <a:pt x="201" y="320"/>
                  </a:lnTo>
                  <a:lnTo>
                    <a:pt x="193" y="323"/>
                  </a:lnTo>
                  <a:lnTo>
                    <a:pt x="183" y="326"/>
                  </a:lnTo>
                  <a:lnTo>
                    <a:pt x="174" y="328"/>
                  </a:lnTo>
                  <a:lnTo>
                    <a:pt x="165" y="330"/>
                  </a:lnTo>
                  <a:lnTo>
                    <a:pt x="155" y="330"/>
                  </a:lnTo>
                  <a:lnTo>
                    <a:pt x="145" y="331"/>
                  </a:lnTo>
                  <a:lnTo>
                    <a:pt x="135" y="330"/>
                  </a:lnTo>
                  <a:lnTo>
                    <a:pt x="124" y="329"/>
                  </a:lnTo>
                  <a:lnTo>
                    <a:pt x="114" y="328"/>
                  </a:lnTo>
                  <a:lnTo>
                    <a:pt x="105" y="326"/>
                  </a:lnTo>
                  <a:lnTo>
                    <a:pt x="95" y="323"/>
                  </a:lnTo>
                  <a:lnTo>
                    <a:pt x="86" y="319"/>
                  </a:lnTo>
                  <a:lnTo>
                    <a:pt x="77" y="314"/>
                  </a:lnTo>
                  <a:lnTo>
                    <a:pt x="69" y="309"/>
                  </a:lnTo>
                  <a:lnTo>
                    <a:pt x="60" y="304"/>
                  </a:lnTo>
                  <a:lnTo>
                    <a:pt x="52" y="297"/>
                  </a:lnTo>
                  <a:lnTo>
                    <a:pt x="46" y="291"/>
                  </a:lnTo>
                  <a:lnTo>
                    <a:pt x="38" y="284"/>
                  </a:lnTo>
                  <a:lnTo>
                    <a:pt x="33" y="276"/>
                  </a:lnTo>
                  <a:lnTo>
                    <a:pt x="27" y="268"/>
                  </a:lnTo>
                  <a:lnTo>
                    <a:pt x="21" y="259"/>
                  </a:lnTo>
                  <a:lnTo>
                    <a:pt x="17" y="250"/>
                  </a:lnTo>
                  <a:lnTo>
                    <a:pt x="13" y="240"/>
                  </a:lnTo>
                  <a:lnTo>
                    <a:pt x="10" y="231"/>
                  </a:lnTo>
                  <a:lnTo>
                    <a:pt x="6" y="221"/>
                  </a:lnTo>
                  <a:lnTo>
                    <a:pt x="4" y="211"/>
                  </a:lnTo>
                  <a:lnTo>
                    <a:pt x="2" y="201"/>
                  </a:lnTo>
                  <a:lnTo>
                    <a:pt x="1" y="190"/>
                  </a:lnTo>
                  <a:lnTo>
                    <a:pt x="0" y="180"/>
                  </a:lnTo>
                  <a:lnTo>
                    <a:pt x="0" y="170"/>
                  </a:lnTo>
                  <a:close/>
                  <a:moveTo>
                    <a:pt x="41" y="170"/>
                  </a:moveTo>
                  <a:lnTo>
                    <a:pt x="41" y="185"/>
                  </a:lnTo>
                  <a:lnTo>
                    <a:pt x="43" y="198"/>
                  </a:lnTo>
                  <a:lnTo>
                    <a:pt x="46" y="211"/>
                  </a:lnTo>
                  <a:lnTo>
                    <a:pt x="49" y="222"/>
                  </a:lnTo>
                  <a:lnTo>
                    <a:pt x="53" y="233"/>
                  </a:lnTo>
                  <a:lnTo>
                    <a:pt x="57" y="243"/>
                  </a:lnTo>
                  <a:lnTo>
                    <a:pt x="64" y="253"/>
                  </a:lnTo>
                  <a:lnTo>
                    <a:pt x="71" y="261"/>
                  </a:lnTo>
                  <a:lnTo>
                    <a:pt x="78" y="270"/>
                  </a:lnTo>
                  <a:lnTo>
                    <a:pt x="87" y="276"/>
                  </a:lnTo>
                  <a:lnTo>
                    <a:pt x="95" y="282"/>
                  </a:lnTo>
                  <a:lnTo>
                    <a:pt x="104" y="287"/>
                  </a:lnTo>
                  <a:lnTo>
                    <a:pt x="113" y="290"/>
                  </a:lnTo>
                  <a:lnTo>
                    <a:pt x="124" y="293"/>
                  </a:lnTo>
                  <a:lnTo>
                    <a:pt x="135" y="294"/>
                  </a:lnTo>
                  <a:lnTo>
                    <a:pt x="145" y="295"/>
                  </a:lnTo>
                  <a:lnTo>
                    <a:pt x="156" y="294"/>
                  </a:lnTo>
                  <a:lnTo>
                    <a:pt x="166" y="293"/>
                  </a:lnTo>
                  <a:lnTo>
                    <a:pt x="177" y="290"/>
                  </a:lnTo>
                  <a:lnTo>
                    <a:pt x="186" y="287"/>
                  </a:lnTo>
                  <a:lnTo>
                    <a:pt x="196" y="282"/>
                  </a:lnTo>
                  <a:lnTo>
                    <a:pt x="204" y="276"/>
                  </a:lnTo>
                  <a:lnTo>
                    <a:pt x="212" y="269"/>
                  </a:lnTo>
                  <a:lnTo>
                    <a:pt x="220" y="261"/>
                  </a:lnTo>
                  <a:lnTo>
                    <a:pt x="227" y="253"/>
                  </a:lnTo>
                  <a:lnTo>
                    <a:pt x="233" y="242"/>
                  </a:lnTo>
                  <a:lnTo>
                    <a:pt x="238" y="232"/>
                  </a:lnTo>
                  <a:lnTo>
                    <a:pt x="242" y="221"/>
                  </a:lnTo>
                  <a:lnTo>
                    <a:pt x="245" y="208"/>
                  </a:lnTo>
                  <a:lnTo>
                    <a:pt x="248" y="195"/>
                  </a:lnTo>
                  <a:lnTo>
                    <a:pt x="249" y="181"/>
                  </a:lnTo>
                  <a:lnTo>
                    <a:pt x="249" y="166"/>
                  </a:lnTo>
                  <a:lnTo>
                    <a:pt x="249" y="147"/>
                  </a:lnTo>
                  <a:lnTo>
                    <a:pt x="246" y="129"/>
                  </a:lnTo>
                  <a:lnTo>
                    <a:pt x="243" y="113"/>
                  </a:lnTo>
                  <a:lnTo>
                    <a:pt x="237" y="98"/>
                  </a:lnTo>
                  <a:lnTo>
                    <a:pt x="230" y="84"/>
                  </a:lnTo>
                  <a:lnTo>
                    <a:pt x="221" y="72"/>
                  </a:lnTo>
                  <a:lnTo>
                    <a:pt x="216" y="66"/>
                  </a:lnTo>
                  <a:lnTo>
                    <a:pt x="212" y="61"/>
                  </a:lnTo>
                  <a:lnTo>
                    <a:pt x="206" y="57"/>
                  </a:lnTo>
                  <a:lnTo>
                    <a:pt x="200" y="53"/>
                  </a:lnTo>
                  <a:lnTo>
                    <a:pt x="188" y="45"/>
                  </a:lnTo>
                  <a:lnTo>
                    <a:pt x="175" y="41"/>
                  </a:lnTo>
                  <a:lnTo>
                    <a:pt x="160" y="38"/>
                  </a:lnTo>
                  <a:lnTo>
                    <a:pt x="146" y="37"/>
                  </a:lnTo>
                  <a:lnTo>
                    <a:pt x="136" y="37"/>
                  </a:lnTo>
                  <a:lnTo>
                    <a:pt x="125" y="39"/>
                  </a:lnTo>
                  <a:lnTo>
                    <a:pt x="116" y="41"/>
                  </a:lnTo>
                  <a:lnTo>
                    <a:pt x="106" y="44"/>
                  </a:lnTo>
                  <a:lnTo>
                    <a:pt x="96" y="48"/>
                  </a:lnTo>
                  <a:lnTo>
                    <a:pt x="88" y="54"/>
                  </a:lnTo>
                  <a:lnTo>
                    <a:pt x="80" y="60"/>
                  </a:lnTo>
                  <a:lnTo>
                    <a:pt x="72" y="68"/>
                  </a:lnTo>
                  <a:lnTo>
                    <a:pt x="65" y="76"/>
                  </a:lnTo>
                  <a:lnTo>
                    <a:pt x="58" y="86"/>
                  </a:lnTo>
                  <a:lnTo>
                    <a:pt x="53" y="96"/>
                  </a:lnTo>
                  <a:lnTo>
                    <a:pt x="49" y="109"/>
                  </a:lnTo>
                  <a:lnTo>
                    <a:pt x="46" y="123"/>
                  </a:lnTo>
                  <a:lnTo>
                    <a:pt x="43" y="137"/>
                  </a:lnTo>
                  <a:lnTo>
                    <a:pt x="41" y="153"/>
                  </a:lnTo>
                  <a:lnTo>
                    <a:pt x="41" y="170"/>
                  </a:lnTo>
                  <a:close/>
                </a:path>
              </a:pathLst>
            </a:custGeom>
            <a:solidFill>
              <a:schemeClr val="tx1"/>
            </a:solidFill>
            <a:ln w="0">
              <a:noFill/>
            </a:ln>
          </p:spPr>
          <p:style>
            <a:lnRef idx="0"/>
            <a:fillRef idx="0"/>
            <a:effectRef idx="0"/>
            <a:fontRef idx="minor"/>
          </p:style>
          <p:txBody>
            <a:bodyPr lIns="90000" rIns="90000" tIns="15840" bIns="15840" anchor="t">
              <a:noAutofit/>
            </a:bodyPr>
            <a:p>
              <a:pPr>
                <a:lnSpc>
                  <a:spcPct val="100000"/>
                </a:lnSpc>
              </a:pPr>
              <a:endParaRPr b="0" lang="en-US" sz="1800" spc="-1" strike="noStrike">
                <a:solidFill>
                  <a:srgbClr val="d79f00"/>
                </a:solidFill>
                <a:latin typeface="Arial"/>
                <a:ea typeface="宋体"/>
              </a:endParaRPr>
            </a:p>
          </p:txBody>
        </p:sp>
        <p:sp>
          <p:nvSpPr>
            <p:cNvPr id="386" name="Freeform 73"/>
            <p:cNvSpPr/>
            <p:nvPr/>
          </p:nvSpPr>
          <p:spPr>
            <a:xfrm>
              <a:off x="5126400" y="9605520"/>
              <a:ext cx="36720" cy="59400"/>
            </a:xfrm>
            <a:custGeom>
              <a:avLst/>
              <a:gdLst>
                <a:gd name="textAreaLeft" fmla="*/ 0 w 36720"/>
                <a:gd name="textAreaRight" fmla="*/ 37080 w 36720"/>
                <a:gd name="textAreaTop" fmla="*/ 0 h 59400"/>
                <a:gd name="textAreaBottom" fmla="*/ 59760 h 59400"/>
              </a:gdLst>
              <a:ahLst/>
              <a:rect l="textAreaLeft" t="textAreaTop" r="textAreaRight" b="textAreaBottom"/>
              <a:pathLst>
                <a:path w="191" h="320">
                  <a:moveTo>
                    <a:pt x="0" y="320"/>
                  </a:moveTo>
                  <a:lnTo>
                    <a:pt x="0" y="0"/>
                  </a:lnTo>
                  <a:lnTo>
                    <a:pt x="40" y="0"/>
                  </a:lnTo>
                  <a:lnTo>
                    <a:pt x="40" y="282"/>
                  </a:lnTo>
                  <a:lnTo>
                    <a:pt x="191" y="282"/>
                  </a:lnTo>
                  <a:lnTo>
                    <a:pt x="191" y="320"/>
                  </a:lnTo>
                  <a:lnTo>
                    <a:pt x="0" y="320"/>
                  </a:lnTo>
                  <a:close/>
                </a:path>
              </a:pathLst>
            </a:custGeom>
            <a:solidFill>
              <a:schemeClr val="tx1"/>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387" name="Freeform 74"/>
            <p:cNvSpPr/>
            <p:nvPr/>
          </p:nvSpPr>
          <p:spPr>
            <a:xfrm>
              <a:off x="5167440" y="9605520"/>
              <a:ext cx="46080" cy="59400"/>
            </a:xfrm>
            <a:custGeom>
              <a:avLst/>
              <a:gdLst>
                <a:gd name="textAreaLeft" fmla="*/ 0 w 46080"/>
                <a:gd name="textAreaRight" fmla="*/ 46440 w 46080"/>
                <a:gd name="textAreaTop" fmla="*/ 0 h 59400"/>
                <a:gd name="textAreaBottom" fmla="*/ 59760 h 59400"/>
              </a:gdLst>
              <a:ahLst/>
              <a:rect l="textAreaLeft" t="textAreaTop" r="textAreaRight" b="textAreaBottom"/>
              <a:pathLst>
                <a:path w="241" h="320">
                  <a:moveTo>
                    <a:pt x="100" y="320"/>
                  </a:moveTo>
                  <a:lnTo>
                    <a:pt x="100" y="37"/>
                  </a:lnTo>
                  <a:lnTo>
                    <a:pt x="0" y="37"/>
                  </a:lnTo>
                  <a:lnTo>
                    <a:pt x="0" y="0"/>
                  </a:lnTo>
                  <a:lnTo>
                    <a:pt x="241" y="0"/>
                  </a:lnTo>
                  <a:lnTo>
                    <a:pt x="241" y="37"/>
                  </a:lnTo>
                  <a:lnTo>
                    <a:pt x="141" y="37"/>
                  </a:lnTo>
                  <a:lnTo>
                    <a:pt x="141" y="320"/>
                  </a:lnTo>
                  <a:lnTo>
                    <a:pt x="100" y="320"/>
                  </a:lnTo>
                  <a:close/>
                </a:path>
              </a:pathLst>
            </a:custGeom>
            <a:solidFill>
              <a:schemeClr val="tx1"/>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388" name="Freeform 75"/>
            <p:cNvSpPr/>
            <p:nvPr/>
          </p:nvSpPr>
          <p:spPr>
            <a:xfrm>
              <a:off x="5227560" y="9605520"/>
              <a:ext cx="48960" cy="59400"/>
            </a:xfrm>
            <a:custGeom>
              <a:avLst/>
              <a:gdLst>
                <a:gd name="textAreaLeft" fmla="*/ 0 w 48960"/>
                <a:gd name="textAreaRight" fmla="*/ 49320 w 48960"/>
                <a:gd name="textAreaTop" fmla="*/ 0 h 59400"/>
                <a:gd name="textAreaBottom" fmla="*/ 59760 h 59400"/>
              </a:gdLst>
              <a:ahLst/>
              <a:rect l="textAreaLeft" t="textAreaTop" r="textAreaRight" b="textAreaBottom"/>
              <a:pathLst>
                <a:path w="252" h="320">
                  <a:moveTo>
                    <a:pt x="0" y="320"/>
                  </a:moveTo>
                  <a:lnTo>
                    <a:pt x="0" y="0"/>
                  </a:lnTo>
                  <a:lnTo>
                    <a:pt x="105" y="0"/>
                  </a:lnTo>
                  <a:lnTo>
                    <a:pt x="122" y="0"/>
                  </a:lnTo>
                  <a:lnTo>
                    <a:pt x="137" y="1"/>
                  </a:lnTo>
                  <a:lnTo>
                    <a:pt x="149" y="2"/>
                  </a:lnTo>
                  <a:lnTo>
                    <a:pt x="159" y="4"/>
                  </a:lnTo>
                  <a:lnTo>
                    <a:pt x="172" y="9"/>
                  </a:lnTo>
                  <a:lnTo>
                    <a:pt x="183" y="14"/>
                  </a:lnTo>
                  <a:lnTo>
                    <a:pt x="194" y="20"/>
                  </a:lnTo>
                  <a:lnTo>
                    <a:pt x="204" y="28"/>
                  </a:lnTo>
                  <a:lnTo>
                    <a:pt x="215" y="39"/>
                  </a:lnTo>
                  <a:lnTo>
                    <a:pt x="226" y="52"/>
                  </a:lnTo>
                  <a:lnTo>
                    <a:pt x="233" y="66"/>
                  </a:lnTo>
                  <a:lnTo>
                    <a:pt x="240" y="82"/>
                  </a:lnTo>
                  <a:lnTo>
                    <a:pt x="246" y="100"/>
                  </a:lnTo>
                  <a:lnTo>
                    <a:pt x="249" y="118"/>
                  </a:lnTo>
                  <a:lnTo>
                    <a:pt x="251" y="137"/>
                  </a:lnTo>
                  <a:lnTo>
                    <a:pt x="252" y="158"/>
                  </a:lnTo>
                  <a:lnTo>
                    <a:pt x="252" y="176"/>
                  </a:lnTo>
                  <a:lnTo>
                    <a:pt x="250" y="192"/>
                  </a:lnTo>
                  <a:lnTo>
                    <a:pt x="248" y="208"/>
                  </a:lnTo>
                  <a:lnTo>
                    <a:pt x="244" y="223"/>
                  </a:lnTo>
                  <a:lnTo>
                    <a:pt x="239" y="236"/>
                  </a:lnTo>
                  <a:lnTo>
                    <a:pt x="235" y="248"/>
                  </a:lnTo>
                  <a:lnTo>
                    <a:pt x="229" y="260"/>
                  </a:lnTo>
                  <a:lnTo>
                    <a:pt x="223" y="269"/>
                  </a:lnTo>
                  <a:lnTo>
                    <a:pt x="217" y="278"/>
                  </a:lnTo>
                  <a:lnTo>
                    <a:pt x="210" y="286"/>
                  </a:lnTo>
                  <a:lnTo>
                    <a:pt x="202" y="293"/>
                  </a:lnTo>
                  <a:lnTo>
                    <a:pt x="195" y="298"/>
                  </a:lnTo>
                  <a:lnTo>
                    <a:pt x="187" y="303"/>
                  </a:lnTo>
                  <a:lnTo>
                    <a:pt x="179" y="307"/>
                  </a:lnTo>
                  <a:lnTo>
                    <a:pt x="169" y="312"/>
                  </a:lnTo>
                  <a:lnTo>
                    <a:pt x="159" y="314"/>
                  </a:lnTo>
                  <a:lnTo>
                    <a:pt x="148" y="317"/>
                  </a:lnTo>
                  <a:lnTo>
                    <a:pt x="137" y="318"/>
                  </a:lnTo>
                  <a:lnTo>
                    <a:pt x="124" y="319"/>
                  </a:lnTo>
                  <a:lnTo>
                    <a:pt x="110" y="320"/>
                  </a:lnTo>
                  <a:lnTo>
                    <a:pt x="0" y="320"/>
                  </a:lnTo>
                  <a:close/>
                  <a:moveTo>
                    <a:pt x="40" y="282"/>
                  </a:moveTo>
                  <a:lnTo>
                    <a:pt x="106" y="282"/>
                  </a:lnTo>
                  <a:lnTo>
                    <a:pt x="120" y="282"/>
                  </a:lnTo>
                  <a:lnTo>
                    <a:pt x="132" y="281"/>
                  </a:lnTo>
                  <a:lnTo>
                    <a:pt x="143" y="279"/>
                  </a:lnTo>
                  <a:lnTo>
                    <a:pt x="152" y="276"/>
                  </a:lnTo>
                  <a:lnTo>
                    <a:pt x="161" y="272"/>
                  </a:lnTo>
                  <a:lnTo>
                    <a:pt x="168" y="269"/>
                  </a:lnTo>
                  <a:lnTo>
                    <a:pt x="175" y="265"/>
                  </a:lnTo>
                  <a:lnTo>
                    <a:pt x="180" y="260"/>
                  </a:lnTo>
                  <a:lnTo>
                    <a:pt x="186" y="251"/>
                  </a:lnTo>
                  <a:lnTo>
                    <a:pt x="193" y="242"/>
                  </a:lnTo>
                  <a:lnTo>
                    <a:pt x="198" y="231"/>
                  </a:lnTo>
                  <a:lnTo>
                    <a:pt x="202" y="219"/>
                  </a:lnTo>
                  <a:lnTo>
                    <a:pt x="205" y="206"/>
                  </a:lnTo>
                  <a:lnTo>
                    <a:pt x="209" y="191"/>
                  </a:lnTo>
                  <a:lnTo>
                    <a:pt x="210" y="175"/>
                  </a:lnTo>
                  <a:lnTo>
                    <a:pt x="211" y="157"/>
                  </a:lnTo>
                  <a:lnTo>
                    <a:pt x="210" y="145"/>
                  </a:lnTo>
                  <a:lnTo>
                    <a:pt x="210" y="134"/>
                  </a:lnTo>
                  <a:lnTo>
                    <a:pt x="209" y="123"/>
                  </a:lnTo>
                  <a:lnTo>
                    <a:pt x="206" y="113"/>
                  </a:lnTo>
                  <a:lnTo>
                    <a:pt x="204" y="104"/>
                  </a:lnTo>
                  <a:lnTo>
                    <a:pt x="201" y="95"/>
                  </a:lnTo>
                  <a:lnTo>
                    <a:pt x="198" y="87"/>
                  </a:lnTo>
                  <a:lnTo>
                    <a:pt x="195" y="81"/>
                  </a:lnTo>
                  <a:lnTo>
                    <a:pt x="186" y="68"/>
                  </a:lnTo>
                  <a:lnTo>
                    <a:pt x="178" y="57"/>
                  </a:lnTo>
                  <a:lnTo>
                    <a:pt x="173" y="53"/>
                  </a:lnTo>
                  <a:lnTo>
                    <a:pt x="167" y="50"/>
                  </a:lnTo>
                  <a:lnTo>
                    <a:pt x="162" y="47"/>
                  </a:lnTo>
                  <a:lnTo>
                    <a:pt x="157" y="45"/>
                  </a:lnTo>
                  <a:lnTo>
                    <a:pt x="147" y="41"/>
                  </a:lnTo>
                  <a:lnTo>
                    <a:pt x="135" y="39"/>
                  </a:lnTo>
                  <a:lnTo>
                    <a:pt x="121" y="38"/>
                  </a:lnTo>
                  <a:lnTo>
                    <a:pt x="105" y="37"/>
                  </a:lnTo>
                  <a:lnTo>
                    <a:pt x="40" y="37"/>
                  </a:lnTo>
                  <a:lnTo>
                    <a:pt x="40" y="282"/>
                  </a:lnTo>
                  <a:close/>
                </a:path>
              </a:pathLst>
            </a:custGeom>
            <a:solidFill>
              <a:schemeClr val="tx1"/>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389" name="Freeform 76"/>
            <p:cNvSpPr/>
            <p:nvPr/>
          </p:nvSpPr>
          <p:spPr>
            <a:xfrm>
              <a:off x="5053680" y="9654840"/>
              <a:ext cx="10440" cy="8640"/>
            </a:xfrm>
            <a:custGeom>
              <a:avLst/>
              <a:gdLst>
                <a:gd name="textAreaLeft" fmla="*/ 0 w 10440"/>
                <a:gd name="textAreaRight" fmla="*/ 10800 w 10440"/>
                <a:gd name="textAreaTop" fmla="*/ 0 h 8640"/>
                <a:gd name="textAreaBottom" fmla="*/ 9000 h 8640"/>
              </a:gdLst>
              <a:ahLst/>
              <a:rect l="textAreaLeft" t="textAreaTop" r="textAreaRight" b="textAreaBottom"/>
              <a:pathLst>
                <a:path w="50" h="52">
                  <a:moveTo>
                    <a:pt x="25" y="52"/>
                  </a:moveTo>
                  <a:lnTo>
                    <a:pt x="21" y="52"/>
                  </a:lnTo>
                  <a:lnTo>
                    <a:pt x="15" y="50"/>
                  </a:lnTo>
                  <a:lnTo>
                    <a:pt x="11" y="48"/>
                  </a:lnTo>
                  <a:lnTo>
                    <a:pt x="8" y="45"/>
                  </a:lnTo>
                  <a:lnTo>
                    <a:pt x="5" y="41"/>
                  </a:lnTo>
                  <a:lnTo>
                    <a:pt x="1" y="37"/>
                  </a:lnTo>
                  <a:lnTo>
                    <a:pt x="0" y="32"/>
                  </a:lnTo>
                  <a:lnTo>
                    <a:pt x="0" y="25"/>
                  </a:lnTo>
                  <a:lnTo>
                    <a:pt x="0" y="20"/>
                  </a:lnTo>
                  <a:lnTo>
                    <a:pt x="1" y="15"/>
                  </a:lnTo>
                  <a:lnTo>
                    <a:pt x="5" y="11"/>
                  </a:lnTo>
                  <a:lnTo>
                    <a:pt x="8" y="6"/>
                  </a:lnTo>
                  <a:lnTo>
                    <a:pt x="11" y="3"/>
                  </a:lnTo>
                  <a:lnTo>
                    <a:pt x="15" y="1"/>
                  </a:lnTo>
                  <a:lnTo>
                    <a:pt x="21" y="0"/>
                  </a:lnTo>
                  <a:lnTo>
                    <a:pt x="25" y="0"/>
                  </a:lnTo>
                  <a:lnTo>
                    <a:pt x="30" y="0"/>
                  </a:lnTo>
                  <a:lnTo>
                    <a:pt x="34" y="1"/>
                  </a:lnTo>
                  <a:lnTo>
                    <a:pt x="39" y="4"/>
                  </a:lnTo>
                  <a:lnTo>
                    <a:pt x="43" y="7"/>
                  </a:lnTo>
                  <a:lnTo>
                    <a:pt x="46" y="12"/>
                  </a:lnTo>
                  <a:lnTo>
                    <a:pt x="48" y="16"/>
                  </a:lnTo>
                  <a:lnTo>
                    <a:pt x="49" y="21"/>
                  </a:lnTo>
                  <a:lnTo>
                    <a:pt x="50" y="25"/>
                  </a:lnTo>
                  <a:lnTo>
                    <a:pt x="49" y="32"/>
                  </a:lnTo>
                  <a:lnTo>
                    <a:pt x="48" y="37"/>
                  </a:lnTo>
                  <a:lnTo>
                    <a:pt x="46" y="41"/>
                  </a:lnTo>
                  <a:lnTo>
                    <a:pt x="43" y="45"/>
                  </a:lnTo>
                  <a:lnTo>
                    <a:pt x="39" y="48"/>
                  </a:lnTo>
                  <a:lnTo>
                    <a:pt x="34" y="50"/>
                  </a:lnTo>
                  <a:lnTo>
                    <a:pt x="30" y="52"/>
                  </a:lnTo>
                  <a:lnTo>
                    <a:pt x="25" y="52"/>
                  </a:lnTo>
                  <a:close/>
                </a:path>
              </a:pathLst>
            </a:custGeom>
            <a:solidFill>
              <a:schemeClr val="tx1"/>
            </a:solidFill>
            <a:ln w="0">
              <a:noFill/>
            </a:ln>
          </p:spPr>
          <p:style>
            <a:lnRef idx="0"/>
            <a:fillRef idx="0"/>
            <a:effectRef idx="0"/>
            <a:fontRef idx="minor"/>
          </p:style>
          <p:txBody>
            <a:bodyPr lIns="90000" rIns="90000" tIns="-36000" bIns="-36000" anchor="t">
              <a:noAutofit/>
            </a:bodyPr>
            <a:p>
              <a:pPr>
                <a:lnSpc>
                  <a:spcPct val="100000"/>
                </a:lnSpc>
              </a:pPr>
              <a:endParaRPr b="0" lang="en-US" sz="1800" spc="-1" strike="noStrike">
                <a:solidFill>
                  <a:srgbClr val="d79f00"/>
                </a:solidFill>
                <a:latin typeface="Arial"/>
                <a:ea typeface="宋体"/>
              </a:endParaRPr>
            </a:p>
          </p:txBody>
        </p:sp>
        <p:sp>
          <p:nvSpPr>
            <p:cNvPr id="390" name="Freeform 77"/>
            <p:cNvSpPr/>
            <p:nvPr/>
          </p:nvSpPr>
          <p:spPr>
            <a:xfrm>
              <a:off x="5081040" y="9653400"/>
              <a:ext cx="11880" cy="20520"/>
            </a:xfrm>
            <a:custGeom>
              <a:avLst/>
              <a:gdLst>
                <a:gd name="textAreaLeft" fmla="*/ 0 w 11880"/>
                <a:gd name="textAreaRight" fmla="*/ 12240 w 11880"/>
                <a:gd name="textAreaTop" fmla="*/ 0 h 20520"/>
                <a:gd name="textAreaBottom" fmla="*/ 20880 h 20520"/>
              </a:gdLst>
              <a:ahLst/>
              <a:rect l="textAreaLeft" t="textAreaTop" r="textAreaRight" b="textAreaBottom"/>
              <a:pathLst>
                <a:path w="58" h="111">
                  <a:moveTo>
                    <a:pt x="7" y="20"/>
                  </a:moveTo>
                  <a:lnTo>
                    <a:pt x="8" y="17"/>
                  </a:lnTo>
                  <a:lnTo>
                    <a:pt x="9" y="14"/>
                  </a:lnTo>
                  <a:lnTo>
                    <a:pt x="10" y="9"/>
                  </a:lnTo>
                  <a:lnTo>
                    <a:pt x="13" y="6"/>
                  </a:lnTo>
                  <a:lnTo>
                    <a:pt x="16" y="3"/>
                  </a:lnTo>
                  <a:lnTo>
                    <a:pt x="20" y="1"/>
                  </a:lnTo>
                  <a:lnTo>
                    <a:pt x="25" y="0"/>
                  </a:lnTo>
                  <a:lnTo>
                    <a:pt x="30" y="0"/>
                  </a:lnTo>
                  <a:lnTo>
                    <a:pt x="36" y="0"/>
                  </a:lnTo>
                  <a:lnTo>
                    <a:pt x="41" y="2"/>
                  </a:lnTo>
                  <a:lnTo>
                    <a:pt x="47" y="6"/>
                  </a:lnTo>
                  <a:lnTo>
                    <a:pt x="51" y="10"/>
                  </a:lnTo>
                  <a:lnTo>
                    <a:pt x="54" y="17"/>
                  </a:lnTo>
                  <a:lnTo>
                    <a:pt x="56" y="22"/>
                  </a:lnTo>
                  <a:lnTo>
                    <a:pt x="58" y="28"/>
                  </a:lnTo>
                  <a:lnTo>
                    <a:pt x="58" y="35"/>
                  </a:lnTo>
                  <a:lnTo>
                    <a:pt x="57" y="46"/>
                  </a:lnTo>
                  <a:lnTo>
                    <a:pt x="55" y="58"/>
                  </a:lnTo>
                  <a:lnTo>
                    <a:pt x="51" y="69"/>
                  </a:lnTo>
                  <a:lnTo>
                    <a:pt x="45" y="79"/>
                  </a:lnTo>
                  <a:lnTo>
                    <a:pt x="37" y="90"/>
                  </a:lnTo>
                  <a:lnTo>
                    <a:pt x="29" y="98"/>
                  </a:lnTo>
                  <a:lnTo>
                    <a:pt x="18" y="105"/>
                  </a:lnTo>
                  <a:lnTo>
                    <a:pt x="7" y="111"/>
                  </a:lnTo>
                  <a:lnTo>
                    <a:pt x="0" y="103"/>
                  </a:lnTo>
                  <a:lnTo>
                    <a:pt x="8" y="97"/>
                  </a:lnTo>
                  <a:lnTo>
                    <a:pt x="15" y="92"/>
                  </a:lnTo>
                  <a:lnTo>
                    <a:pt x="20" y="86"/>
                  </a:lnTo>
                  <a:lnTo>
                    <a:pt x="26" y="80"/>
                  </a:lnTo>
                  <a:lnTo>
                    <a:pt x="29" y="75"/>
                  </a:lnTo>
                  <a:lnTo>
                    <a:pt x="31" y="69"/>
                  </a:lnTo>
                  <a:lnTo>
                    <a:pt x="33" y="63"/>
                  </a:lnTo>
                  <a:lnTo>
                    <a:pt x="33" y="57"/>
                  </a:lnTo>
                  <a:lnTo>
                    <a:pt x="33" y="53"/>
                  </a:lnTo>
                  <a:lnTo>
                    <a:pt x="30" y="48"/>
                  </a:lnTo>
                  <a:lnTo>
                    <a:pt x="26" y="45"/>
                  </a:lnTo>
                  <a:lnTo>
                    <a:pt x="20" y="41"/>
                  </a:lnTo>
                  <a:lnTo>
                    <a:pt x="14" y="37"/>
                  </a:lnTo>
                  <a:lnTo>
                    <a:pt x="10" y="33"/>
                  </a:lnTo>
                  <a:lnTo>
                    <a:pt x="8" y="27"/>
                  </a:lnTo>
                  <a:lnTo>
                    <a:pt x="7" y="20"/>
                  </a:lnTo>
                  <a:close/>
                </a:path>
              </a:pathLst>
            </a:custGeom>
            <a:solidFill>
              <a:schemeClr val="tx1"/>
            </a:solidFill>
            <a:ln w="0">
              <a:noFill/>
            </a:ln>
          </p:spPr>
          <p:style>
            <a:lnRef idx="0"/>
            <a:fillRef idx="0"/>
            <a:effectRef idx="0"/>
            <a:fontRef idx="minor"/>
          </p:style>
          <p:txBody>
            <a:bodyPr lIns="90000" rIns="90000" tIns="-24120" bIns="-24120" anchor="t">
              <a:noAutofit/>
            </a:bodyPr>
            <a:p>
              <a:pPr>
                <a:lnSpc>
                  <a:spcPct val="100000"/>
                </a:lnSpc>
              </a:pPr>
              <a:endParaRPr b="0" lang="en-US" sz="1800" spc="-1" strike="noStrike">
                <a:solidFill>
                  <a:srgbClr val="d79f00"/>
                </a:solidFill>
                <a:latin typeface="Arial"/>
                <a:ea typeface="宋体"/>
              </a:endParaRPr>
            </a:p>
          </p:txBody>
        </p:sp>
      </p:grpSp>
      <p:cxnSp>
        <p:nvCxnSpPr>
          <p:cNvPr id="391" name="直接连接符 5"/>
          <p:cNvCxnSpPr>
            <a:stCxn id="322" idx="1"/>
          </p:cNvCxnSpPr>
          <p:nvPr/>
        </p:nvCxnSpPr>
        <p:spPr>
          <a:xfrm flipV="1">
            <a:off x="6354720" y="2790360"/>
            <a:ext cx="47520" cy="5866560"/>
          </a:xfrm>
          <a:prstGeom prst="straightConnector1">
            <a:avLst/>
          </a:prstGeom>
          <a:ln>
            <a:solidFill>
              <a:srgbClr val="000000"/>
            </a:solidFill>
            <a:round/>
          </a:ln>
        </p:spPr>
      </p:cxnSp>
      <p:cxnSp>
        <p:nvCxnSpPr>
          <p:cNvPr id="392" name="直接连接符 8"/>
          <p:cNvCxnSpPr/>
          <p:nvPr/>
        </p:nvCxnSpPr>
        <p:spPr>
          <a:xfrm flipH="1">
            <a:off x="6368040" y="2790360"/>
            <a:ext cx="518400" cy="360"/>
          </a:xfrm>
          <a:prstGeom prst="straightConnector1">
            <a:avLst/>
          </a:prstGeom>
          <a:ln>
            <a:solidFill>
              <a:srgbClr val="000000"/>
            </a:solidFill>
            <a:round/>
          </a:ln>
        </p:spPr>
      </p:cxnSp>
    </p:spTree>
  </p:cSld>
  <p:transition spd="slow" advTm="5000">
    <p:cover dir="r"/>
  </p:transition>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withEffect" fill="hold" presetClass="entr" presetID="22" presetSubtype="8">
                                  <p:stCondLst>
                                    <p:cond delay="0"/>
                                  </p:stCondLst>
                                  <p:childTnLst>
                                    <p:set>
                                      <p:cBhvr>
                                        <p:cTn id="109" dur="1" fill="hold">
                                          <p:stCondLst>
                                            <p:cond delay="0"/>
                                          </p:stCondLst>
                                        </p:cTn>
                                        <p:tgtEl>
                                          <p:spTgt spid="321"/>
                                        </p:tgtEl>
                                        <p:attrNameLst>
                                          <p:attrName>style.visibility</p:attrName>
                                        </p:attrNameLst>
                                      </p:cBhvr>
                                      <p:to>
                                        <p:strVal val="visible"/>
                                      </p:to>
                                    </p:set>
                                    <p:animEffect filter="wipe(left)" transition="in">
                                      <p:cBhvr additive="repl">
                                        <p:cTn id="110" dur="1000"/>
                                        <p:tgtEl>
                                          <p:spTgt spid="321"/>
                                        </p:tgtEl>
                                      </p:cBhvr>
                                    </p:animEffect>
                                  </p:childTnLst>
                                </p:cTn>
                              </p:par>
                            </p:childTnLst>
                          </p:cTn>
                        </p:par>
                        <p:par>
                          <p:cTn id="111" fill="hold">
                            <p:stCondLst>
                              <p:cond delay="1000"/>
                            </p:stCondLst>
                            <p:childTnLst>
                              <p:par>
                                <p:cTn id="112" nodeType="afterEffect" fill="hold" presetClass="entr" presetID="22" presetSubtype="4">
                                  <p:stCondLst>
                                    <p:cond delay="0"/>
                                  </p:stCondLst>
                                  <p:childTnLst>
                                    <p:set>
                                      <p:cBhvr>
                                        <p:cTn id="113" dur="1" fill="hold">
                                          <p:stCondLst>
                                            <p:cond delay="0"/>
                                          </p:stCondLst>
                                        </p:cTn>
                                        <p:tgtEl>
                                          <p:spTgt spid="312"/>
                                        </p:tgtEl>
                                        <p:attrNameLst>
                                          <p:attrName>style.visibility</p:attrName>
                                        </p:attrNameLst>
                                      </p:cBhvr>
                                      <p:to>
                                        <p:strVal val="visible"/>
                                      </p:to>
                                    </p:set>
                                    <p:animEffect filter="dissolve" transition="in">
                                      <p:cBhvr additive="repl">
                                        <p:cTn id="114" dur="5000"/>
                                        <p:tgtEl>
                                          <p:spTgt spid="312"/>
                                        </p:tgtEl>
                                      </p:cBhvr>
                                    </p:animEffect>
                                  </p:childTnLst>
                                </p:cTn>
                              </p:par>
                              <p:par>
                                <p:cTn id="115" nodeType="withEffect" fill="hold" presetClass="entr" presetID="22" presetSubtype="8">
                                  <p:stCondLst>
                                    <p:cond delay="1000"/>
                                  </p:stCondLst>
                                  <p:childTnLst>
                                    <p:set>
                                      <p:cBhvr>
                                        <p:cTn id="116" dur="1" fill="hold">
                                          <p:stCondLst>
                                            <p:cond delay="0"/>
                                          </p:stCondLst>
                                        </p:cTn>
                                        <p:tgtEl>
                                          <p:spTgt spid="311"/>
                                        </p:tgtEl>
                                        <p:attrNameLst>
                                          <p:attrName>style.visibility</p:attrName>
                                        </p:attrNameLst>
                                      </p:cBhvr>
                                      <p:to>
                                        <p:strVal val="visible"/>
                                      </p:to>
                                    </p:set>
                                    <p:animEffect filter="dissolve" transition="in">
                                      <p:cBhvr additive="repl">
                                        <p:cTn id="117" dur="3000"/>
                                        <p:tgtEl>
                                          <p:spTgt spid="311"/>
                                        </p:tgtEl>
                                      </p:cBhvr>
                                    </p:animEffect>
                                  </p:childTnLst>
                                </p:cTn>
                              </p:par>
                              <p:par>
                                <p:cTn id="118" nodeType="withEffect" fill="hold" presetClass="entr" presetID="22" presetSubtype="4">
                                  <p:stCondLst>
                                    <p:cond delay="1500"/>
                                  </p:stCondLst>
                                  <p:childTnLst>
                                    <p:set>
                                      <p:cBhvr>
                                        <p:cTn id="119" dur="1" fill="hold">
                                          <p:stCondLst>
                                            <p:cond delay="0"/>
                                          </p:stCondLst>
                                        </p:cTn>
                                        <p:tgtEl>
                                          <p:spTgt spid="310"/>
                                        </p:tgtEl>
                                        <p:attrNameLst>
                                          <p:attrName>style.visibility</p:attrName>
                                        </p:attrNameLst>
                                      </p:cBhvr>
                                      <p:to>
                                        <p:strVal val="visible"/>
                                      </p:to>
                                    </p:set>
                                    <p:animEffect filter="dissolve" transition="in">
                                      <p:cBhvr additive="repl">
                                        <p:cTn id="120" dur="1000"/>
                                        <p:tgtEl>
                                          <p:spTgt spid="310"/>
                                        </p:tgtEl>
                                      </p:cBhvr>
                                    </p:animEffect>
                                  </p:childTnLst>
                                </p:cTn>
                              </p:par>
                              <p:par>
                                <p:cTn id="121" nodeType="withEffect" fill="hold" presetClass="entr" presetID="22" presetSubtype="1">
                                  <p:stCondLst>
                                    <p:cond delay="1900"/>
                                  </p:stCondLst>
                                  <p:childTnLst>
                                    <p:set>
                                      <p:cBhvr>
                                        <p:cTn id="122" dur="1" fill="hold">
                                          <p:stCondLst>
                                            <p:cond delay="0"/>
                                          </p:stCondLst>
                                        </p:cTn>
                                        <p:tgtEl>
                                          <p:spTgt spid="309"/>
                                        </p:tgtEl>
                                        <p:attrNameLst>
                                          <p:attrName>style.visibility</p:attrName>
                                        </p:attrNameLst>
                                      </p:cBhvr>
                                      <p:to>
                                        <p:strVal val="visible"/>
                                      </p:to>
                                    </p:set>
                                    <p:animEffect filter="dissolve" transition="in">
                                      <p:cBhvr additive="repl">
                                        <p:cTn id="123" dur="1000"/>
                                        <p:tgtEl>
                                          <p:spTgt spid="309"/>
                                        </p:tgtEl>
                                      </p:cBhvr>
                                    </p:animEffect>
                                  </p:childTnLst>
                                </p:cTn>
                              </p:par>
                              <p:par>
                                <p:cTn id="124" nodeType="withEffect" fill="hold" presetClass="entr" presetID="22" presetSubtype="4">
                                  <p:stCondLst>
                                    <p:cond delay="2500"/>
                                  </p:stCondLst>
                                  <p:childTnLst>
                                    <p:set>
                                      <p:cBhvr>
                                        <p:cTn id="125" dur="1" fill="hold">
                                          <p:stCondLst>
                                            <p:cond delay="0"/>
                                          </p:stCondLst>
                                        </p:cTn>
                                        <p:tgtEl>
                                          <p:spTgt spid="308"/>
                                        </p:tgtEl>
                                        <p:attrNameLst>
                                          <p:attrName>style.visibility</p:attrName>
                                        </p:attrNameLst>
                                      </p:cBhvr>
                                      <p:to>
                                        <p:strVal val="visible"/>
                                      </p:to>
                                    </p:set>
                                    <p:animEffect filter="dissolve" transition="in">
                                      <p:cBhvr additive="repl">
                                        <p:cTn id="126" dur="2000"/>
                                        <p:tgtEl>
                                          <p:spTgt spid="308"/>
                                        </p:tgtEl>
                                      </p:cBhvr>
                                    </p:animEffect>
                                  </p:childTnLst>
                                </p:cTn>
                              </p:par>
                              <p:par>
                                <p:cTn id="127" nodeType="withEffect" fill="hold" presetClass="entr" presetID="18" presetSubtype="6">
                                  <p:stCondLst>
                                    <p:cond delay="3000"/>
                                  </p:stCondLst>
                                  <p:childTnLst>
                                    <p:set>
                                      <p:cBhvr>
                                        <p:cTn id="128" dur="1" fill="hold">
                                          <p:stCondLst>
                                            <p:cond delay="0"/>
                                          </p:stCondLst>
                                        </p:cTn>
                                        <p:tgtEl>
                                          <p:spTgt spid="307"/>
                                        </p:tgtEl>
                                        <p:attrNameLst>
                                          <p:attrName>style.visibility</p:attrName>
                                        </p:attrNameLst>
                                      </p:cBhvr>
                                      <p:to>
                                        <p:strVal val="visible"/>
                                      </p:to>
                                    </p:set>
                                    <p:animEffect filter="strips(downRight)" transition="in">
                                      <p:cBhvr additive="repl">
                                        <p:cTn id="129" dur="1500"/>
                                        <p:tgtEl>
                                          <p:spTgt spid="307"/>
                                        </p:tgtEl>
                                      </p:cBhvr>
                                    </p:animEffect>
                                  </p:childTnLst>
                                </p:cTn>
                              </p:par>
                            </p:childTnLst>
                          </p:cTn>
                        </p:par>
                        <p:par>
                          <p:cTn id="130" fill="hold">
                            <p:stCondLst>
                              <p:cond delay="6000"/>
                            </p:stCondLst>
                            <p:childTnLst>
                              <p:par>
                                <p:cTn id="131" nodeType="afterEffect" fill="hold" presetClass="entr" presetID="22" presetSubtype="8">
                                  <p:stCondLst>
                                    <p:cond delay="0"/>
                                  </p:stCondLst>
                                  <p:childTnLst>
                                    <p:set>
                                      <p:cBhvr>
                                        <p:cTn id="132" dur="1" fill="hold">
                                          <p:stCondLst>
                                            <p:cond delay="0"/>
                                          </p:stCondLst>
                                        </p:cTn>
                                        <p:tgtEl>
                                          <p:spTgt spid="322"/>
                                        </p:tgtEl>
                                        <p:attrNameLst>
                                          <p:attrName>style.visibility</p:attrName>
                                        </p:attrNameLst>
                                      </p:cBhvr>
                                      <p:to>
                                        <p:strVal val="visible"/>
                                      </p:to>
                                    </p:set>
                                    <p:animEffect filter="wipe(left)" transition="in">
                                      <p:cBhvr additive="repl">
                                        <p:cTn id="133" dur="1000"/>
                                        <p:tgtEl>
                                          <p:spTgt spid="322"/>
                                        </p:tgtEl>
                                      </p:cBhvr>
                                    </p:animEffect>
                                  </p:childTnLst>
                                </p:cTn>
                              </p:par>
                            </p:childTnLst>
                          </p:cTn>
                        </p:par>
                        <p:par>
                          <p:cTn id="134" fill="hold">
                            <p:stCondLst>
                              <p:cond delay="7000"/>
                            </p:stCondLst>
                            <p:childTnLst>
                              <p:par>
                                <p:cTn id="135" nodeType="afterEffect" fill="hold" presetClass="entr" presetID="22" presetSubtype="4">
                                  <p:stCondLst>
                                    <p:cond delay="0"/>
                                  </p:stCondLst>
                                  <p:childTnLst>
                                    <p:set>
                                      <p:cBhvr>
                                        <p:cTn id="136" dur="1" fill="hold">
                                          <p:stCondLst>
                                            <p:cond delay="0"/>
                                          </p:stCondLst>
                                        </p:cTn>
                                        <p:tgtEl>
                                          <p:spTgt spid="391"/>
                                        </p:tgtEl>
                                        <p:attrNameLst>
                                          <p:attrName>style.visibility</p:attrName>
                                        </p:attrNameLst>
                                      </p:cBhvr>
                                      <p:to>
                                        <p:strVal val="visible"/>
                                      </p:to>
                                    </p:set>
                                    <p:animEffect filter="wipe(down)" transition="in">
                                      <p:cBhvr additive="repl">
                                        <p:cTn id="137" dur="1000"/>
                                        <p:tgtEl>
                                          <p:spTgt spid="391"/>
                                        </p:tgtEl>
                                      </p:cBhvr>
                                    </p:animEffect>
                                  </p:childTnLst>
                                </p:cTn>
                              </p:par>
                            </p:childTnLst>
                          </p:cTn>
                        </p:par>
                        <p:par>
                          <p:cTn id="138" fill="hold">
                            <p:stCondLst>
                              <p:cond delay="8000"/>
                            </p:stCondLst>
                            <p:childTnLst>
                              <p:par>
                                <p:cTn id="139" nodeType="afterEffect" fill="hold" presetClass="entr" presetID="22" presetSubtype="2">
                                  <p:stCondLst>
                                    <p:cond delay="0"/>
                                  </p:stCondLst>
                                  <p:childTnLst>
                                    <p:set>
                                      <p:cBhvr>
                                        <p:cTn id="140" dur="1" fill="hold">
                                          <p:stCondLst>
                                            <p:cond delay="0"/>
                                          </p:stCondLst>
                                        </p:cTn>
                                        <p:tgtEl>
                                          <p:spTgt spid="313"/>
                                        </p:tgtEl>
                                        <p:attrNameLst>
                                          <p:attrName>style.visibility</p:attrName>
                                        </p:attrNameLst>
                                      </p:cBhvr>
                                      <p:to>
                                        <p:strVal val="visible"/>
                                      </p:to>
                                    </p:set>
                                    <p:animEffect filter="wipe(right)" transition="in">
                                      <p:cBhvr additive="repl">
                                        <p:cTn id="141" dur="1000"/>
                                        <p:tgtEl>
                                          <p:spTgt spid="313"/>
                                        </p:tgtEl>
                                      </p:cBhvr>
                                    </p:animEffect>
                                  </p:childTnLst>
                                </p:cTn>
                              </p:par>
                            </p:childTnLst>
                          </p:cTn>
                        </p:par>
                        <p:par>
                          <p:cTn id="142" fill="hold">
                            <p:stCondLst>
                              <p:cond delay="9000"/>
                            </p:stCondLst>
                            <p:childTnLst>
                              <p:par>
                                <p:cTn id="143" nodeType="afterEffect" fill="hold" presetClass="entr" presetID="22" presetSubtype="8">
                                  <p:stCondLst>
                                    <p:cond delay="0"/>
                                  </p:stCondLst>
                                  <p:childTnLst>
                                    <p:set>
                                      <p:cBhvr>
                                        <p:cTn id="144" dur="1" fill="hold">
                                          <p:stCondLst>
                                            <p:cond delay="0"/>
                                          </p:stCondLst>
                                        </p:cTn>
                                        <p:tgtEl>
                                          <p:spTgt spid="392"/>
                                        </p:tgtEl>
                                        <p:attrNameLst>
                                          <p:attrName>style.visibility</p:attrName>
                                        </p:attrNameLst>
                                      </p:cBhvr>
                                      <p:to>
                                        <p:strVal val="visible"/>
                                      </p:to>
                                    </p:set>
                                    <p:animEffect filter="wipe(left)" transition="in">
                                      <p:cBhvr additive="repl">
                                        <p:cTn id="145" dur="1000"/>
                                        <p:tgtEl>
                                          <p:spTgt spid="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矩形 15"/>
          <p:cNvSpPr/>
          <p:nvPr/>
        </p:nvSpPr>
        <p:spPr>
          <a:xfrm>
            <a:off x="0" y="9321840"/>
            <a:ext cx="6857640" cy="583920"/>
          </a:xfrm>
          <a:prstGeom prst="rect">
            <a:avLst/>
          </a:prstGeom>
          <a:solidFill>
            <a:srgbClr val="fcdb00"/>
          </a:solidFill>
          <a:ln w="0">
            <a:noFill/>
          </a:ln>
        </p:spPr>
        <p:style>
          <a:lnRef idx="0"/>
          <a:fillRef idx="0"/>
          <a:effectRef idx="0"/>
          <a:fontRef idx="minor"/>
        </p:style>
        <p:txBody>
          <a:bodyPr numCol="1" spcCol="0" anchor="ctr">
            <a:noAutofit/>
          </a:bodyPr>
          <a:p>
            <a:pPr>
              <a:lnSpc>
                <a:spcPct val="100000"/>
              </a:lnSpc>
              <a:tabLst>
                <a:tab algn="l" pos="0"/>
              </a:tabLst>
            </a:pPr>
            <a:endParaRPr b="0" lang="en-US" sz="1800" spc="-1" strike="noStrike">
              <a:solidFill>
                <a:srgbClr val="000000"/>
              </a:solidFill>
              <a:latin typeface="Arial"/>
              <a:ea typeface="宋体"/>
            </a:endParaRPr>
          </a:p>
        </p:txBody>
      </p:sp>
      <p:sp>
        <p:nvSpPr>
          <p:cNvPr id="394" name="矩形 11"/>
          <p:cNvSpPr/>
          <p:nvPr/>
        </p:nvSpPr>
        <p:spPr>
          <a:xfrm>
            <a:off x="0" y="0"/>
            <a:ext cx="6857640" cy="3364200"/>
          </a:xfrm>
          <a:prstGeom prst="rect">
            <a:avLst/>
          </a:prstGeom>
          <a:solidFill>
            <a:schemeClr val="tx1"/>
          </a:solidFill>
          <a:ln w="0">
            <a:noFill/>
          </a:ln>
        </p:spPr>
        <p:style>
          <a:lnRef idx="0"/>
          <a:fillRef idx="0"/>
          <a:effectRef idx="0"/>
          <a:fontRef idx="minor"/>
        </p:style>
        <p:txBody>
          <a:bodyPr numCol="1" spcCol="0" anchor="ctr">
            <a:noAutofit/>
          </a:bodyPr>
          <a:p>
            <a:pPr>
              <a:lnSpc>
                <a:spcPct val="100000"/>
              </a:lnSpc>
              <a:tabLst>
                <a:tab algn="l" pos="0"/>
              </a:tabLst>
            </a:pPr>
            <a:endParaRPr b="0" lang="en-US" sz="1800" spc="-1" strike="noStrike">
              <a:solidFill>
                <a:srgbClr val="000000"/>
              </a:solidFill>
              <a:latin typeface="Arial"/>
              <a:ea typeface="宋体"/>
            </a:endParaRPr>
          </a:p>
        </p:txBody>
      </p:sp>
      <p:sp>
        <p:nvSpPr>
          <p:cNvPr id="395" name="任意多边形 53"/>
          <p:cNvSpPr/>
          <p:nvPr/>
        </p:nvSpPr>
        <p:spPr>
          <a:xfrm>
            <a:off x="3147840" y="3052080"/>
            <a:ext cx="3709800" cy="312120"/>
          </a:xfrm>
          <a:custGeom>
            <a:avLst/>
            <a:gdLst>
              <a:gd name="textAreaLeft" fmla="*/ 0 w 3709800"/>
              <a:gd name="textAreaRight" fmla="*/ 3710160 w 3709800"/>
              <a:gd name="textAreaTop" fmla="*/ 0 h 312120"/>
              <a:gd name="textAreaBottom" fmla="*/ 312480 h 312120"/>
            </a:gdLst>
            <a:ahLst/>
            <a:rect l="textAreaLeft" t="textAreaTop" r="textAreaRight" b="textAreaBottom"/>
            <a:pathLst>
              <a:path w="2047164" h="423080">
                <a:moveTo>
                  <a:pt x="0" y="0"/>
                </a:moveTo>
                <a:lnTo>
                  <a:pt x="1637731" y="0"/>
                </a:lnTo>
                <a:lnTo>
                  <a:pt x="2047164" y="423080"/>
                </a:lnTo>
              </a:path>
            </a:pathLst>
          </a:custGeom>
          <a:noFill/>
          <a:ln w="38100">
            <a:solidFill>
              <a:srgbClr val="d79f00"/>
            </a:solidFill>
            <a:miter/>
          </a:ln>
        </p:spPr>
        <p:style>
          <a:lnRef idx="0"/>
          <a:fillRef idx="0"/>
          <a:effectRef idx="0"/>
          <a:fontRef idx="minor"/>
        </p:style>
        <p:txBody>
          <a:bodyPr lIns="90000" rIns="90000" tIns="47160" bIns="47160" anchor="ctr">
            <a:noAutofit/>
          </a:bodyPr>
          <a:p>
            <a:pPr algn="ctr">
              <a:lnSpc>
                <a:spcPct val="100000"/>
              </a:lnSpc>
            </a:pPr>
            <a:endParaRPr b="0" lang="en-US" sz="1800" spc="-1" strike="noStrike">
              <a:solidFill>
                <a:srgbClr val="000000"/>
              </a:solidFill>
              <a:latin typeface="Calibri"/>
              <a:ea typeface="宋体"/>
            </a:endParaRPr>
          </a:p>
        </p:txBody>
      </p:sp>
      <p:grpSp>
        <p:nvGrpSpPr>
          <p:cNvPr id="396" name="Group 3"/>
          <p:cNvGrpSpPr/>
          <p:nvPr/>
        </p:nvGrpSpPr>
        <p:grpSpPr>
          <a:xfrm>
            <a:off x="289080" y="516600"/>
            <a:ext cx="960120" cy="2411640"/>
            <a:chOff x="289080" y="516600"/>
            <a:chExt cx="960120" cy="2411640"/>
          </a:xfrm>
        </p:grpSpPr>
        <p:sp>
          <p:nvSpPr>
            <p:cNvPr id="397" name="任意多边形 3"/>
            <p:cNvSpPr/>
            <p:nvPr/>
          </p:nvSpPr>
          <p:spPr>
            <a:xfrm>
              <a:off x="289080" y="1413360"/>
              <a:ext cx="836640" cy="1514880"/>
            </a:xfrm>
            <a:custGeom>
              <a:avLst/>
              <a:gdLst>
                <a:gd name="textAreaLeft" fmla="*/ 0 w 836640"/>
                <a:gd name="textAreaRight" fmla="*/ 837000 w 836640"/>
                <a:gd name="textAreaTop" fmla="*/ 0 h 1514880"/>
                <a:gd name="textAreaBottom" fmla="*/ 1515240 h 1514880"/>
              </a:gdLst>
              <a:ahLst/>
              <a:rect l="textAreaLeft" t="textAreaTop" r="textAreaRight" b="textAreaBottom"/>
              <a:pathLst>
                <a:path w="1353403" h="2593075">
                  <a:moveTo>
                    <a:pt x="15922" y="2593075"/>
                  </a:moveTo>
                  <a:cubicBezTo>
                    <a:pt x="17059" y="2521424"/>
                    <a:pt x="18197" y="2449773"/>
                    <a:pt x="15922" y="2388358"/>
                  </a:cubicBezTo>
                  <a:cubicBezTo>
                    <a:pt x="13648" y="2326943"/>
                    <a:pt x="0" y="2279176"/>
                    <a:pt x="2275" y="2224585"/>
                  </a:cubicBezTo>
                  <a:cubicBezTo>
                    <a:pt x="4550" y="2169994"/>
                    <a:pt x="9098" y="2147248"/>
                    <a:pt x="29570" y="2060812"/>
                  </a:cubicBezTo>
                  <a:cubicBezTo>
                    <a:pt x="50042" y="1974376"/>
                    <a:pt x="97810" y="1801504"/>
                    <a:pt x="125105" y="1705970"/>
                  </a:cubicBezTo>
                  <a:cubicBezTo>
                    <a:pt x="152400" y="1610436"/>
                    <a:pt x="188794" y="1546746"/>
                    <a:pt x="193343" y="1487606"/>
                  </a:cubicBezTo>
                  <a:cubicBezTo>
                    <a:pt x="197892" y="1428466"/>
                    <a:pt x="145576" y="1382973"/>
                    <a:pt x="152400" y="1351128"/>
                  </a:cubicBezTo>
                  <a:cubicBezTo>
                    <a:pt x="159224" y="1319283"/>
                    <a:pt x="234287" y="1344304"/>
                    <a:pt x="234287" y="1296537"/>
                  </a:cubicBezTo>
                  <a:cubicBezTo>
                    <a:pt x="234287" y="1248770"/>
                    <a:pt x="159224" y="1144137"/>
                    <a:pt x="152400" y="1064525"/>
                  </a:cubicBezTo>
                  <a:cubicBezTo>
                    <a:pt x="145576" y="984913"/>
                    <a:pt x="154674" y="887105"/>
                    <a:pt x="193343" y="818866"/>
                  </a:cubicBezTo>
                  <a:cubicBezTo>
                    <a:pt x="232012" y="750627"/>
                    <a:pt x="272955" y="723331"/>
                    <a:pt x="384412" y="655092"/>
                  </a:cubicBezTo>
                  <a:cubicBezTo>
                    <a:pt x="495869" y="586853"/>
                    <a:pt x="766550" y="466299"/>
                    <a:pt x="862084" y="409433"/>
                  </a:cubicBezTo>
                  <a:cubicBezTo>
                    <a:pt x="957618" y="352567"/>
                    <a:pt x="916675" y="341193"/>
                    <a:pt x="957618" y="313898"/>
                  </a:cubicBezTo>
                  <a:cubicBezTo>
                    <a:pt x="998561" y="286603"/>
                    <a:pt x="1064525" y="272955"/>
                    <a:pt x="1107743" y="245660"/>
                  </a:cubicBezTo>
                  <a:cubicBezTo>
                    <a:pt x="1150961" y="218365"/>
                    <a:pt x="1189630" y="184244"/>
                    <a:pt x="1216925" y="150125"/>
                  </a:cubicBezTo>
                  <a:cubicBezTo>
                    <a:pt x="1244220" y="116006"/>
                    <a:pt x="1248770" y="65964"/>
                    <a:pt x="1271516" y="40943"/>
                  </a:cubicBezTo>
                  <a:cubicBezTo>
                    <a:pt x="1294262" y="15922"/>
                    <a:pt x="1323832" y="7961"/>
                    <a:pt x="1353403" y="0"/>
                  </a:cubicBezTo>
                </a:path>
              </a:pathLst>
            </a:custGeom>
            <a:noFill/>
            <a:ln w="38100">
              <a:solidFill>
                <a:srgbClr val="d79f00"/>
              </a:solidFill>
              <a:miter/>
            </a:ln>
          </p:spPr>
          <p:style>
            <a:lnRef idx="0"/>
            <a:fillRef idx="0"/>
            <a:effectRef idx="0"/>
            <a:fontRef idx="minor"/>
          </p:style>
          <p:txBody>
            <a:bodyPr lIns="90000" rIns="90000" tIns="47160" bIns="47160" anchor="ctr">
              <a:noAutofit/>
            </a:bodyPr>
            <a:p>
              <a:pPr algn="ctr">
                <a:lnSpc>
                  <a:spcPct val="100000"/>
                </a:lnSpc>
              </a:pPr>
              <a:endParaRPr b="0" lang="en-US" sz="1800" spc="-1" strike="noStrike">
                <a:solidFill>
                  <a:srgbClr val="000000"/>
                </a:solidFill>
                <a:latin typeface="Calibri"/>
                <a:ea typeface="宋体"/>
              </a:endParaRPr>
            </a:p>
          </p:txBody>
        </p:sp>
        <p:sp>
          <p:nvSpPr>
            <p:cNvPr id="398" name="任意多边形 4"/>
            <p:cNvSpPr/>
            <p:nvPr/>
          </p:nvSpPr>
          <p:spPr>
            <a:xfrm>
              <a:off x="951120" y="516600"/>
              <a:ext cx="298080" cy="897120"/>
            </a:xfrm>
            <a:custGeom>
              <a:avLst/>
              <a:gdLst>
                <a:gd name="textAreaLeft" fmla="*/ 0 w 298080"/>
                <a:gd name="textAreaRight" fmla="*/ 298440 w 298080"/>
                <a:gd name="textAreaTop" fmla="*/ 0 h 897120"/>
                <a:gd name="textAreaBottom" fmla="*/ 897480 h 897120"/>
              </a:gdLst>
              <a:ahLst/>
              <a:rect l="textAreaLeft" t="textAreaTop" r="textAreaRight" b="textAreaBottom"/>
              <a:pathLst>
                <a:path w="483079" h="1535502">
                  <a:moveTo>
                    <a:pt x="284671" y="1535502"/>
                  </a:moveTo>
                  <a:cubicBezTo>
                    <a:pt x="286827" y="1506747"/>
                    <a:pt x="288984" y="1477993"/>
                    <a:pt x="284671" y="1440612"/>
                  </a:cubicBezTo>
                  <a:cubicBezTo>
                    <a:pt x="280358" y="1403231"/>
                    <a:pt x="258792" y="1311215"/>
                    <a:pt x="258792" y="1311215"/>
                  </a:cubicBezTo>
                  <a:cubicBezTo>
                    <a:pt x="253041" y="1282460"/>
                    <a:pt x="260230" y="1266645"/>
                    <a:pt x="250166" y="1268083"/>
                  </a:cubicBezTo>
                  <a:cubicBezTo>
                    <a:pt x="240102" y="1269521"/>
                    <a:pt x="221411" y="1315529"/>
                    <a:pt x="198407" y="1319842"/>
                  </a:cubicBezTo>
                  <a:cubicBezTo>
                    <a:pt x="175403" y="1324155"/>
                    <a:pt x="135147" y="1315529"/>
                    <a:pt x="112143" y="1293963"/>
                  </a:cubicBezTo>
                  <a:cubicBezTo>
                    <a:pt x="89139" y="1272397"/>
                    <a:pt x="76200" y="1237891"/>
                    <a:pt x="60385" y="1190446"/>
                  </a:cubicBezTo>
                  <a:cubicBezTo>
                    <a:pt x="44570" y="1143001"/>
                    <a:pt x="27316" y="1062487"/>
                    <a:pt x="17252" y="1009291"/>
                  </a:cubicBezTo>
                  <a:cubicBezTo>
                    <a:pt x="7188" y="956095"/>
                    <a:pt x="0" y="895709"/>
                    <a:pt x="0" y="871268"/>
                  </a:cubicBezTo>
                  <a:cubicBezTo>
                    <a:pt x="0" y="846827"/>
                    <a:pt x="12939" y="884208"/>
                    <a:pt x="17252" y="862642"/>
                  </a:cubicBezTo>
                  <a:cubicBezTo>
                    <a:pt x="21565" y="841076"/>
                    <a:pt x="23004" y="800819"/>
                    <a:pt x="25879" y="741872"/>
                  </a:cubicBezTo>
                  <a:cubicBezTo>
                    <a:pt x="28754" y="682925"/>
                    <a:pt x="23003" y="582284"/>
                    <a:pt x="34505" y="508959"/>
                  </a:cubicBezTo>
                  <a:cubicBezTo>
                    <a:pt x="46007" y="435634"/>
                    <a:pt x="54633" y="370936"/>
                    <a:pt x="94890" y="301925"/>
                  </a:cubicBezTo>
                  <a:cubicBezTo>
                    <a:pt x="135147" y="232914"/>
                    <a:pt x="211347" y="145212"/>
                    <a:pt x="276045" y="94891"/>
                  </a:cubicBezTo>
                  <a:cubicBezTo>
                    <a:pt x="340743" y="44570"/>
                    <a:pt x="411911" y="22285"/>
                    <a:pt x="483079" y="0"/>
                  </a:cubicBezTo>
                </a:path>
              </a:pathLst>
            </a:custGeom>
            <a:noFill/>
            <a:ln w="38100">
              <a:solidFill>
                <a:srgbClr val="d79f00"/>
              </a:solidFill>
              <a:miter/>
            </a:ln>
          </p:spPr>
          <p:style>
            <a:lnRef idx="0"/>
            <a:fillRef idx="0"/>
            <a:effectRef idx="0"/>
            <a:fontRef idx="minor"/>
          </p:style>
          <p:txBody>
            <a:bodyPr lIns="90000" rIns="90000" tIns="47160" bIns="47160" anchor="ctr">
              <a:noAutofit/>
            </a:bodyPr>
            <a:p>
              <a:pPr algn="ctr">
                <a:lnSpc>
                  <a:spcPct val="100000"/>
                </a:lnSpc>
              </a:pPr>
              <a:endParaRPr b="0" lang="en-US" sz="1800" spc="-1" strike="noStrike">
                <a:solidFill>
                  <a:srgbClr val="000000"/>
                </a:solidFill>
                <a:latin typeface="Calibri"/>
                <a:ea typeface="宋体"/>
              </a:endParaRPr>
            </a:p>
          </p:txBody>
        </p:sp>
      </p:grpSp>
      <p:grpSp>
        <p:nvGrpSpPr>
          <p:cNvPr id="399" name="Group 6"/>
          <p:cNvGrpSpPr/>
          <p:nvPr/>
        </p:nvGrpSpPr>
        <p:grpSpPr>
          <a:xfrm>
            <a:off x="1235880" y="525960"/>
            <a:ext cx="1926360" cy="2517480"/>
            <a:chOff x="1235880" y="525960"/>
            <a:chExt cx="1926360" cy="2517480"/>
          </a:xfrm>
        </p:grpSpPr>
        <p:sp>
          <p:nvSpPr>
            <p:cNvPr id="400" name="任意多边形 5"/>
            <p:cNvSpPr/>
            <p:nvPr/>
          </p:nvSpPr>
          <p:spPr>
            <a:xfrm>
              <a:off x="1235880" y="525960"/>
              <a:ext cx="1848600" cy="2478240"/>
            </a:xfrm>
            <a:custGeom>
              <a:avLst/>
              <a:gdLst>
                <a:gd name="textAreaLeft" fmla="*/ 0 w 1848600"/>
                <a:gd name="textAreaRight" fmla="*/ 1848960 w 1848600"/>
                <a:gd name="textAreaTop" fmla="*/ 0 h 2478240"/>
                <a:gd name="textAreaBottom" fmla="*/ 2478600 h 2478240"/>
              </a:gdLst>
              <a:ahLst/>
              <a:rect l="textAreaLeft" t="textAreaTop" r="textAreaRight" b="textAreaBottom"/>
              <a:pathLst>
                <a:path w="3096883" h="4281578">
                  <a:moveTo>
                    <a:pt x="0" y="2876"/>
                  </a:moveTo>
                  <a:cubicBezTo>
                    <a:pt x="49602" y="1438"/>
                    <a:pt x="99204" y="0"/>
                    <a:pt x="146649" y="2876"/>
                  </a:cubicBezTo>
                  <a:cubicBezTo>
                    <a:pt x="194094" y="5752"/>
                    <a:pt x="253041" y="10065"/>
                    <a:pt x="284671" y="20129"/>
                  </a:cubicBezTo>
                  <a:cubicBezTo>
                    <a:pt x="316301" y="30193"/>
                    <a:pt x="306238" y="51759"/>
                    <a:pt x="336430" y="63261"/>
                  </a:cubicBezTo>
                  <a:cubicBezTo>
                    <a:pt x="366622" y="74763"/>
                    <a:pt x="422694" y="67574"/>
                    <a:pt x="465826" y="89140"/>
                  </a:cubicBezTo>
                  <a:cubicBezTo>
                    <a:pt x="508958" y="110706"/>
                    <a:pt x="562154" y="153838"/>
                    <a:pt x="595222" y="192657"/>
                  </a:cubicBezTo>
                  <a:cubicBezTo>
                    <a:pt x="628290" y="231476"/>
                    <a:pt x="639793" y="277483"/>
                    <a:pt x="664234" y="322053"/>
                  </a:cubicBezTo>
                  <a:cubicBezTo>
                    <a:pt x="688676" y="366623"/>
                    <a:pt x="720305" y="399691"/>
                    <a:pt x="741871" y="460076"/>
                  </a:cubicBezTo>
                  <a:cubicBezTo>
                    <a:pt x="763437" y="520461"/>
                    <a:pt x="785003" y="634042"/>
                    <a:pt x="793630" y="684363"/>
                  </a:cubicBezTo>
                  <a:cubicBezTo>
                    <a:pt x="802257" y="734684"/>
                    <a:pt x="789317" y="726057"/>
                    <a:pt x="793630" y="762000"/>
                  </a:cubicBezTo>
                  <a:cubicBezTo>
                    <a:pt x="797943" y="797943"/>
                    <a:pt x="816634" y="854015"/>
                    <a:pt x="819509" y="900023"/>
                  </a:cubicBezTo>
                  <a:cubicBezTo>
                    <a:pt x="822384" y="946031"/>
                    <a:pt x="813758" y="999227"/>
                    <a:pt x="810883" y="1038046"/>
                  </a:cubicBezTo>
                  <a:cubicBezTo>
                    <a:pt x="808008" y="1076865"/>
                    <a:pt x="813758" y="1112808"/>
                    <a:pt x="802256" y="1132936"/>
                  </a:cubicBezTo>
                  <a:cubicBezTo>
                    <a:pt x="790754" y="1153064"/>
                    <a:pt x="751935" y="1153064"/>
                    <a:pt x="741871" y="1158815"/>
                  </a:cubicBezTo>
                  <a:cubicBezTo>
                    <a:pt x="731807" y="1164566"/>
                    <a:pt x="749060" y="1135812"/>
                    <a:pt x="741871" y="1167442"/>
                  </a:cubicBezTo>
                  <a:cubicBezTo>
                    <a:pt x="734682" y="1199072"/>
                    <a:pt x="710241" y="1305464"/>
                    <a:pt x="698739" y="1348596"/>
                  </a:cubicBezTo>
                  <a:cubicBezTo>
                    <a:pt x="687237" y="1391728"/>
                    <a:pt x="677173" y="1383102"/>
                    <a:pt x="672860" y="1426234"/>
                  </a:cubicBezTo>
                  <a:cubicBezTo>
                    <a:pt x="668547" y="1469366"/>
                    <a:pt x="674298" y="1567132"/>
                    <a:pt x="672860" y="1607389"/>
                  </a:cubicBezTo>
                  <a:cubicBezTo>
                    <a:pt x="671422" y="1647646"/>
                    <a:pt x="658483" y="1647646"/>
                    <a:pt x="664234" y="1667774"/>
                  </a:cubicBezTo>
                  <a:cubicBezTo>
                    <a:pt x="669985" y="1687902"/>
                    <a:pt x="671423" y="1713782"/>
                    <a:pt x="707366" y="1728159"/>
                  </a:cubicBezTo>
                  <a:cubicBezTo>
                    <a:pt x="743309" y="1742536"/>
                    <a:pt x="818072" y="1743974"/>
                    <a:pt x="879894" y="1754038"/>
                  </a:cubicBezTo>
                  <a:cubicBezTo>
                    <a:pt x="941716" y="1764102"/>
                    <a:pt x="1009290" y="1769854"/>
                    <a:pt x="1078301" y="1788544"/>
                  </a:cubicBezTo>
                  <a:cubicBezTo>
                    <a:pt x="1147312" y="1807234"/>
                    <a:pt x="1293962" y="1866181"/>
                    <a:pt x="1293962" y="1866181"/>
                  </a:cubicBezTo>
                  <a:cubicBezTo>
                    <a:pt x="1364411" y="1892060"/>
                    <a:pt x="1446362" y="1909313"/>
                    <a:pt x="1500996" y="1943819"/>
                  </a:cubicBezTo>
                  <a:cubicBezTo>
                    <a:pt x="1555630" y="1978325"/>
                    <a:pt x="1598762" y="2031521"/>
                    <a:pt x="1621766" y="2073215"/>
                  </a:cubicBezTo>
                  <a:cubicBezTo>
                    <a:pt x="1644770" y="2114909"/>
                    <a:pt x="1630392" y="2159479"/>
                    <a:pt x="1639018" y="2193985"/>
                  </a:cubicBezTo>
                  <a:cubicBezTo>
                    <a:pt x="1647644" y="2228491"/>
                    <a:pt x="1667773" y="2248619"/>
                    <a:pt x="1673524" y="2280249"/>
                  </a:cubicBezTo>
                  <a:cubicBezTo>
                    <a:pt x="1679275" y="2311879"/>
                    <a:pt x="1669211" y="2360762"/>
                    <a:pt x="1673524" y="2383766"/>
                  </a:cubicBezTo>
                  <a:cubicBezTo>
                    <a:pt x="1677837" y="2406770"/>
                    <a:pt x="1693652" y="2392393"/>
                    <a:pt x="1699403" y="2418272"/>
                  </a:cubicBezTo>
                  <a:cubicBezTo>
                    <a:pt x="1705154" y="2444151"/>
                    <a:pt x="1712343" y="2503099"/>
                    <a:pt x="1708030" y="2539042"/>
                  </a:cubicBezTo>
                  <a:cubicBezTo>
                    <a:pt x="1703717" y="2574985"/>
                    <a:pt x="1673524" y="2609491"/>
                    <a:pt x="1673524" y="2633932"/>
                  </a:cubicBezTo>
                  <a:cubicBezTo>
                    <a:pt x="1673524" y="2658373"/>
                    <a:pt x="1696528" y="2661250"/>
                    <a:pt x="1708030" y="2685691"/>
                  </a:cubicBezTo>
                  <a:cubicBezTo>
                    <a:pt x="1719532" y="2710133"/>
                    <a:pt x="1738222" y="2757577"/>
                    <a:pt x="1742535" y="2780581"/>
                  </a:cubicBezTo>
                  <a:cubicBezTo>
                    <a:pt x="1746848" y="2803585"/>
                    <a:pt x="1726720" y="2806460"/>
                    <a:pt x="1733909" y="2823713"/>
                  </a:cubicBezTo>
                  <a:cubicBezTo>
                    <a:pt x="1741098" y="2840966"/>
                    <a:pt x="1772728" y="2853906"/>
                    <a:pt x="1785668" y="2884098"/>
                  </a:cubicBezTo>
                  <a:cubicBezTo>
                    <a:pt x="1798608" y="2914290"/>
                    <a:pt x="1810109" y="2955985"/>
                    <a:pt x="1811547" y="3004868"/>
                  </a:cubicBezTo>
                  <a:cubicBezTo>
                    <a:pt x="1812985" y="3053751"/>
                    <a:pt x="1789981" y="3140015"/>
                    <a:pt x="1794294" y="3177396"/>
                  </a:cubicBezTo>
                  <a:cubicBezTo>
                    <a:pt x="1798607" y="3214777"/>
                    <a:pt x="1814422" y="3209027"/>
                    <a:pt x="1837426" y="3229155"/>
                  </a:cubicBezTo>
                  <a:cubicBezTo>
                    <a:pt x="1860430" y="3249283"/>
                    <a:pt x="1892060" y="3253596"/>
                    <a:pt x="1932317" y="3298166"/>
                  </a:cubicBezTo>
                  <a:cubicBezTo>
                    <a:pt x="1972574" y="3342736"/>
                    <a:pt x="2045898" y="3450566"/>
                    <a:pt x="2078966" y="3496574"/>
                  </a:cubicBezTo>
                  <a:cubicBezTo>
                    <a:pt x="2112034" y="3542582"/>
                    <a:pt x="2120660" y="3548333"/>
                    <a:pt x="2130724" y="3574212"/>
                  </a:cubicBezTo>
                  <a:cubicBezTo>
                    <a:pt x="2140788" y="3600091"/>
                    <a:pt x="2119223" y="3627408"/>
                    <a:pt x="2139351" y="3651849"/>
                  </a:cubicBezTo>
                  <a:cubicBezTo>
                    <a:pt x="2159479" y="3676290"/>
                    <a:pt x="2216988" y="3700733"/>
                    <a:pt x="2251494" y="3720861"/>
                  </a:cubicBezTo>
                  <a:cubicBezTo>
                    <a:pt x="2286000" y="3740989"/>
                    <a:pt x="2293189" y="3738113"/>
                    <a:pt x="2346385" y="3772619"/>
                  </a:cubicBezTo>
                  <a:cubicBezTo>
                    <a:pt x="2399581" y="3807125"/>
                    <a:pt x="2520350" y="3884763"/>
                    <a:pt x="2570671" y="3927895"/>
                  </a:cubicBezTo>
                  <a:cubicBezTo>
                    <a:pt x="2620992" y="3971027"/>
                    <a:pt x="2618117" y="4008408"/>
                    <a:pt x="2648309" y="4031412"/>
                  </a:cubicBezTo>
                  <a:cubicBezTo>
                    <a:pt x="2678502" y="4054416"/>
                    <a:pt x="2677064" y="4024223"/>
                    <a:pt x="2751826" y="4065917"/>
                  </a:cubicBezTo>
                  <a:cubicBezTo>
                    <a:pt x="2826588" y="4107611"/>
                    <a:pt x="2961735" y="4194594"/>
                    <a:pt x="3096883" y="4281578"/>
                  </a:cubicBezTo>
                </a:path>
              </a:pathLst>
            </a:custGeom>
            <a:noFill/>
            <a:ln w="38100">
              <a:solidFill>
                <a:srgbClr val="d79f00"/>
              </a:solidFill>
              <a:miter/>
            </a:ln>
          </p:spPr>
          <p:style>
            <a:lnRef idx="0"/>
            <a:fillRef idx="0"/>
            <a:effectRef idx="0"/>
            <a:fontRef idx="minor"/>
          </p:style>
          <p:txBody>
            <a:bodyPr lIns="90000" rIns="90000" tIns="47160" bIns="47160" anchor="ctr">
              <a:noAutofit/>
            </a:bodyPr>
            <a:p>
              <a:pPr algn="ctr">
                <a:lnSpc>
                  <a:spcPct val="100000"/>
                </a:lnSpc>
              </a:pPr>
              <a:endParaRPr b="0" lang="en-US" sz="1800" spc="-1" strike="noStrike">
                <a:solidFill>
                  <a:srgbClr val="000000"/>
                </a:solidFill>
                <a:latin typeface="Calibri"/>
                <a:ea typeface="宋体"/>
              </a:endParaRPr>
            </a:p>
          </p:txBody>
        </p:sp>
        <p:sp>
          <p:nvSpPr>
            <p:cNvPr id="401" name="任意多边形 6"/>
            <p:cNvSpPr/>
            <p:nvPr/>
          </p:nvSpPr>
          <p:spPr>
            <a:xfrm>
              <a:off x="3069720" y="3004200"/>
              <a:ext cx="92520" cy="39240"/>
            </a:xfrm>
            <a:custGeom>
              <a:avLst/>
              <a:gdLst>
                <a:gd name="textAreaLeft" fmla="*/ 0 w 92520"/>
                <a:gd name="textAreaRight" fmla="*/ 92880 w 92520"/>
                <a:gd name="textAreaTop" fmla="*/ 0 h 39240"/>
                <a:gd name="textAreaBottom" fmla="*/ 39600 h 39240"/>
              </a:gdLst>
              <a:ahLst/>
              <a:rect l="textAreaLeft" t="textAreaTop" r="textAreaRight" b="textAreaBottom"/>
              <a:pathLst>
                <a:path w="155276" h="69011">
                  <a:moveTo>
                    <a:pt x="0" y="0"/>
                  </a:moveTo>
                  <a:lnTo>
                    <a:pt x="155276" y="69011"/>
                  </a:lnTo>
                </a:path>
              </a:pathLst>
            </a:custGeom>
            <a:noFill/>
            <a:ln w="38100">
              <a:solidFill>
                <a:srgbClr val="d79f00"/>
              </a:solidFill>
              <a:miter/>
            </a:ln>
          </p:spPr>
          <p:style>
            <a:lnRef idx="0"/>
            <a:fillRef idx="0"/>
            <a:effectRef idx="0"/>
            <a:fontRef idx="minor"/>
          </p:style>
          <p:txBody>
            <a:bodyPr lIns="90000" rIns="90000" tIns="19800" bIns="19800" anchor="ctr">
              <a:noAutofit/>
            </a:bodyPr>
            <a:p>
              <a:pPr algn="ctr">
                <a:lnSpc>
                  <a:spcPct val="100000"/>
                </a:lnSpc>
              </a:pPr>
              <a:endParaRPr b="0" lang="en-US" sz="1800" spc="-1" strike="noStrike">
                <a:solidFill>
                  <a:srgbClr val="000000"/>
                </a:solidFill>
                <a:latin typeface="Calibri"/>
                <a:ea typeface="宋体"/>
              </a:endParaRPr>
            </a:p>
          </p:txBody>
        </p:sp>
      </p:grpSp>
      <p:sp>
        <p:nvSpPr>
          <p:cNvPr id="402" name="任意多边形 8"/>
          <p:cNvSpPr/>
          <p:nvPr/>
        </p:nvSpPr>
        <p:spPr>
          <a:xfrm>
            <a:off x="-39600" y="2931120"/>
            <a:ext cx="360360" cy="45360"/>
          </a:xfrm>
          <a:custGeom>
            <a:avLst/>
            <a:gdLst>
              <a:gd name="textAreaLeft" fmla="*/ 0 w 360360"/>
              <a:gd name="textAreaRight" fmla="*/ 360720 w 360360"/>
              <a:gd name="textAreaTop" fmla="*/ 0 h 45360"/>
              <a:gd name="textAreaBottom" fmla="*/ 45720 h 45360"/>
            </a:gdLst>
            <a:ahLst/>
            <a:rect l="textAreaLeft" t="textAreaTop" r="textAreaRight" b="textAreaBottom"/>
            <a:pathLst>
              <a:path w="353683" h="635">
                <a:moveTo>
                  <a:pt x="0" y="0"/>
                </a:moveTo>
                <a:lnTo>
                  <a:pt x="353683" y="0"/>
                </a:lnTo>
              </a:path>
            </a:pathLst>
          </a:custGeom>
          <a:noFill/>
          <a:ln w="38100">
            <a:solidFill>
              <a:srgbClr val="d79f00"/>
            </a:solidFill>
            <a:miter/>
          </a:ln>
        </p:spPr>
        <p:style>
          <a:lnRef idx="0"/>
          <a:fillRef idx="0"/>
          <a:effectRef idx="0"/>
          <a:fontRef idx="minor"/>
        </p:style>
        <p:txBody>
          <a:bodyPr lIns="90000" rIns="90000" tIns="22680" bIns="22680" anchor="ctr">
            <a:noAutofit/>
          </a:bodyPr>
          <a:p>
            <a:pPr algn="ctr">
              <a:lnSpc>
                <a:spcPct val="100000"/>
              </a:lnSpc>
            </a:pPr>
            <a:endParaRPr b="0" lang="en-US" sz="1800" spc="-1" strike="noStrike">
              <a:solidFill>
                <a:srgbClr val="000000"/>
              </a:solidFill>
              <a:latin typeface="Calibri"/>
              <a:ea typeface="宋体"/>
            </a:endParaRPr>
          </a:p>
        </p:txBody>
      </p:sp>
      <p:sp>
        <p:nvSpPr>
          <p:cNvPr id="403" name="TextBox 12"/>
          <p:cNvSpPr/>
          <p:nvPr/>
        </p:nvSpPr>
        <p:spPr>
          <a:xfrm>
            <a:off x="3162600" y="1181880"/>
            <a:ext cx="3077640" cy="1461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1800" spc="-1" strike="noStrike">
                <a:solidFill>
                  <a:srgbClr val="ffffff"/>
                </a:solidFill>
                <a:latin typeface="微软雅黑"/>
                <a:ea typeface="微软雅黑"/>
              </a:rPr>
              <a:t>金领咨询核心业务之一：</a:t>
            </a:r>
            <a:endParaRPr b="0" lang="en-US" sz="1800" spc="-1" strike="noStrike">
              <a:solidFill>
                <a:srgbClr val="000000"/>
              </a:solidFill>
              <a:latin typeface="Arial"/>
            </a:endParaRPr>
          </a:p>
          <a:p>
            <a:pPr>
              <a:lnSpc>
                <a:spcPct val="100000"/>
              </a:lnSpc>
            </a:pPr>
            <a:r>
              <a:rPr b="1" lang="zh-CN" sz="3600" spc="49" strike="noStrike">
                <a:solidFill>
                  <a:srgbClr val="d79f00"/>
                </a:solidFill>
                <a:latin typeface="微软雅黑"/>
                <a:ea typeface="微软雅黑"/>
              </a:rPr>
              <a:t>企业管理咨询</a:t>
            </a:r>
            <a:endParaRPr b="0" lang="en-US" sz="3600" spc="-1" strike="noStrike">
              <a:solidFill>
                <a:srgbClr val="000000"/>
              </a:solidFill>
              <a:latin typeface="Arial"/>
            </a:endParaRPr>
          </a:p>
          <a:p>
            <a:pPr>
              <a:lnSpc>
                <a:spcPct val="100000"/>
              </a:lnSpc>
            </a:pPr>
            <a:endParaRPr b="0" lang="en-US" sz="3600" spc="-1" strike="noStrike">
              <a:solidFill>
                <a:srgbClr val="000000"/>
              </a:solidFill>
              <a:latin typeface="Arial"/>
            </a:endParaRPr>
          </a:p>
        </p:txBody>
      </p:sp>
      <p:sp>
        <p:nvSpPr>
          <p:cNvPr id="404" name="TextBox 13"/>
          <p:cNvSpPr/>
          <p:nvPr/>
        </p:nvSpPr>
        <p:spPr>
          <a:xfrm>
            <a:off x="422640" y="3467160"/>
            <a:ext cx="6015960" cy="6046560"/>
          </a:xfrm>
          <a:prstGeom prst="rect">
            <a:avLst/>
          </a:prstGeom>
          <a:noFill/>
          <a:ln w="0">
            <a:noFill/>
          </a:ln>
        </p:spPr>
        <p:style>
          <a:lnRef idx="0"/>
          <a:fillRef idx="0"/>
          <a:effectRef idx="0"/>
          <a:fontRef idx="minor"/>
        </p:style>
        <p:txBody>
          <a:bodyPr numCol="2" spcCol="288000" lIns="90000" rIns="90000" tIns="45000" bIns="45000" anchor="t">
            <a:spAutoFit/>
          </a:bodyPr>
          <a:p>
            <a:pPr algn="just">
              <a:lnSpc>
                <a:spcPct val="100000"/>
              </a:lnSpc>
            </a:pPr>
            <a:r>
              <a:rPr b="1" lang="zh-CN" sz="1400" spc="-1" strike="noStrike">
                <a:solidFill>
                  <a:srgbClr val="ff0000"/>
                </a:solidFill>
                <a:latin typeface="微软雅黑"/>
                <a:ea typeface="微软雅黑"/>
              </a:rPr>
              <a:t>规划体系建设：</a:t>
            </a:r>
            <a:endParaRPr b="0" lang="en-US" sz="1400" spc="-1" strike="noStrike">
              <a:solidFill>
                <a:srgbClr val="000000"/>
              </a:solidFill>
              <a:latin typeface="Arial"/>
            </a:endParaRPr>
          </a:p>
          <a:p>
            <a:pPr algn="just">
              <a:lnSpc>
                <a:spcPct val="100000"/>
              </a:lnSpc>
            </a:pPr>
            <a:r>
              <a:rPr b="0" lang="zh-CN" sz="1200" spc="-1" strike="noStrike">
                <a:solidFill>
                  <a:srgbClr val="000000"/>
                </a:solidFill>
                <a:latin typeface="微软雅黑"/>
                <a:ea typeface="微软雅黑"/>
              </a:rPr>
              <a:t>企业战略梳理与规划体系建设从行业发展趋势、业务发展方向、企业运营重心等角度，与企业经营层共同完成</a:t>
            </a:r>
            <a:r>
              <a:rPr b="0" lang="zh-CN" sz="1200" spc="-1" strike="noStrike">
                <a:solidFill>
                  <a:srgbClr val="000000"/>
                </a:solidFill>
                <a:latin typeface="微软雅黑"/>
                <a:ea typeface="微软雅黑"/>
              </a:rPr>
              <a:t>《企业战略路径设计与规划文件》。为企业的持续运营和战略定位进行明确。</a:t>
            </a:r>
            <a:endParaRPr b="0" lang="en-US" sz="1200" spc="-1" strike="noStrike">
              <a:solidFill>
                <a:srgbClr val="000000"/>
              </a:solidFill>
              <a:latin typeface="Arial"/>
            </a:endParaRPr>
          </a:p>
          <a:p>
            <a:pPr algn="just">
              <a:lnSpc>
                <a:spcPct val="100000"/>
              </a:lnSpc>
              <a:spcBef>
                <a:spcPts val="601"/>
              </a:spcBef>
            </a:pPr>
            <a:r>
              <a:rPr b="1" lang="zh-CN" sz="1400" spc="-1" strike="noStrike">
                <a:solidFill>
                  <a:srgbClr val="ff0000"/>
                </a:solidFill>
                <a:latin typeface="微软雅黑"/>
                <a:ea typeface="微软雅黑"/>
              </a:rPr>
              <a:t>业务体系设计：</a:t>
            </a:r>
            <a:endParaRPr b="0" lang="en-US" sz="1400" spc="-1" strike="noStrike">
              <a:solidFill>
                <a:srgbClr val="000000"/>
              </a:solidFill>
              <a:latin typeface="Arial"/>
            </a:endParaRPr>
          </a:p>
          <a:p>
            <a:pPr algn="just">
              <a:lnSpc>
                <a:spcPct val="100000"/>
              </a:lnSpc>
            </a:pPr>
            <a:r>
              <a:rPr b="0" lang="zh-CN" sz="1200" spc="-1" strike="noStrike">
                <a:solidFill>
                  <a:srgbClr val="000000"/>
                </a:solidFill>
                <a:latin typeface="微软雅黑"/>
                <a:ea typeface="微软雅黑"/>
              </a:rPr>
              <a:t>清晰业务产品体系和组合规划梳理企业产品规划情况，设计产品组合和销售模式，规划产品体系的发展方向，编制《业务产品规划和销售模式优化方案》，明确企业业务产品的发展方向。</a:t>
            </a:r>
            <a:endParaRPr b="0" lang="en-US" sz="1200" spc="-1" strike="noStrike">
              <a:solidFill>
                <a:srgbClr val="000000"/>
              </a:solidFill>
              <a:latin typeface="Arial"/>
            </a:endParaRPr>
          </a:p>
          <a:p>
            <a:pPr algn="just">
              <a:lnSpc>
                <a:spcPct val="100000"/>
              </a:lnSpc>
              <a:spcBef>
                <a:spcPts val="601"/>
              </a:spcBef>
            </a:pPr>
            <a:r>
              <a:rPr b="1" lang="zh-CN" sz="1400" spc="-1" strike="noStrike">
                <a:solidFill>
                  <a:srgbClr val="ff0000"/>
                </a:solidFill>
                <a:latin typeface="微软雅黑"/>
                <a:ea typeface="微软雅黑"/>
              </a:rPr>
              <a:t>组织体系构建：</a:t>
            </a:r>
            <a:endParaRPr b="0" lang="en-US" sz="1400" spc="-1" strike="noStrike">
              <a:solidFill>
                <a:srgbClr val="000000"/>
              </a:solidFill>
              <a:latin typeface="Arial"/>
            </a:endParaRPr>
          </a:p>
          <a:p>
            <a:pPr algn="just">
              <a:lnSpc>
                <a:spcPct val="100000"/>
              </a:lnSpc>
            </a:pPr>
            <a:r>
              <a:rPr b="0" lang="zh-CN" sz="1200" spc="-1" strike="noStrike">
                <a:solidFill>
                  <a:srgbClr val="000000"/>
                </a:solidFill>
                <a:latin typeface="微软雅黑"/>
                <a:ea typeface="微软雅黑"/>
              </a:rPr>
              <a:t>优化企业组织职能设计、岗位分工基于企业战略需要和业务发展规划，全面优化企业组织职能设计，明确职能和职责划分，完成《部门组织设计和职能规划》；通过岗位分析和评估，优化岗位职责，编制《岗位说明书》；最后设计开展各岗位《工作操作指引》，指导员工高效开展工作。</a:t>
            </a:r>
            <a:endParaRPr b="0" lang="en-US" sz="1200" spc="-1" strike="noStrike">
              <a:solidFill>
                <a:srgbClr val="000000"/>
              </a:solidFill>
              <a:latin typeface="Arial"/>
            </a:endParaRPr>
          </a:p>
          <a:p>
            <a:pPr algn="just">
              <a:lnSpc>
                <a:spcPct val="100000"/>
              </a:lnSpc>
              <a:spcBef>
                <a:spcPts val="601"/>
              </a:spcBef>
            </a:pPr>
            <a:r>
              <a:rPr b="1" lang="zh-CN" sz="1400" spc="-1" strike="noStrike">
                <a:solidFill>
                  <a:srgbClr val="ff0000"/>
                </a:solidFill>
                <a:latin typeface="微软雅黑"/>
                <a:ea typeface="微软雅黑"/>
              </a:rPr>
              <a:t>机制体系建设：</a:t>
            </a:r>
            <a:endParaRPr b="0" lang="en-US" sz="1400" spc="-1" strike="noStrike">
              <a:solidFill>
                <a:srgbClr val="000000"/>
              </a:solidFill>
              <a:latin typeface="Arial"/>
            </a:endParaRPr>
          </a:p>
          <a:p>
            <a:pPr algn="just">
              <a:lnSpc>
                <a:spcPct val="100000"/>
              </a:lnSpc>
            </a:pPr>
            <a:r>
              <a:rPr b="0" lang="zh-CN" sz="1200" spc="-1" strike="noStrike">
                <a:solidFill>
                  <a:srgbClr val="000000"/>
                </a:solidFill>
                <a:latin typeface="微软雅黑"/>
                <a:ea typeface="微软雅黑"/>
              </a:rPr>
              <a:t>构建清晰科学的核心运营流程管理体系与制度体系基于组织职能和岗位分工，结合科学的流程管理方法，设计开发《企业核心运营流程体系方案》，明确流程节点流向、关键责任人等流程要素；同时基于流程要求，构建基于企业流程行为和管理行为的《企业核心运营制度体系》，明确流程执行的要求和规划，最后设计开发关键岗位的《核心岗位业务指导手册》，指导关键岗位高效开展工作。</a:t>
            </a:r>
            <a:endParaRPr b="0" lang="en-US" sz="1200" spc="-1" strike="noStrike">
              <a:solidFill>
                <a:srgbClr val="000000"/>
              </a:solidFill>
              <a:latin typeface="Arial"/>
            </a:endParaRPr>
          </a:p>
          <a:p>
            <a:pPr algn="just">
              <a:lnSpc>
                <a:spcPct val="100000"/>
              </a:lnSpc>
              <a:spcBef>
                <a:spcPts val="601"/>
              </a:spcBef>
            </a:pPr>
            <a:r>
              <a:rPr b="1" lang="zh-CN" sz="1400" spc="-1" strike="noStrike">
                <a:solidFill>
                  <a:srgbClr val="ff0000"/>
                </a:solidFill>
                <a:latin typeface="微软雅黑"/>
                <a:ea typeface="微软雅黑"/>
              </a:rPr>
              <a:t>激励体系设计：</a:t>
            </a:r>
            <a:endParaRPr b="0" lang="en-US" sz="1400" spc="-1" strike="noStrike">
              <a:solidFill>
                <a:srgbClr val="000000"/>
              </a:solidFill>
              <a:latin typeface="Arial"/>
            </a:endParaRPr>
          </a:p>
          <a:p>
            <a:pPr algn="just">
              <a:lnSpc>
                <a:spcPct val="100000"/>
              </a:lnSpc>
            </a:pPr>
            <a:r>
              <a:rPr b="0" lang="zh-CN" sz="1200" spc="-1" strike="noStrike">
                <a:solidFill>
                  <a:srgbClr val="000000"/>
                </a:solidFill>
                <a:latin typeface="微软雅黑"/>
                <a:ea typeface="微软雅黑"/>
              </a:rPr>
              <a:t>基于战略和目标体系，构建规范有效的绩效、薪酬激励体系基于战略目标和年度经营计划，构建上下一致，沟通及时，考核到位的绩效考核体系，开发《公司级、部门级、岗位级绩效管理体系》，同时优化设计绩效管理的实用领域，从培训、薪酬、晋升等角度设计《薪酬激励体系方案》。</a:t>
            </a:r>
            <a:endParaRPr b="0" lang="en-US" sz="1200" spc="-1" strike="noStrike">
              <a:solidFill>
                <a:srgbClr val="000000"/>
              </a:solidFill>
              <a:latin typeface="Arial"/>
            </a:endParaRPr>
          </a:p>
          <a:p>
            <a:pPr algn="just">
              <a:lnSpc>
                <a:spcPct val="100000"/>
              </a:lnSpc>
              <a:spcBef>
                <a:spcPts val="601"/>
              </a:spcBef>
            </a:pPr>
            <a:r>
              <a:rPr b="1" lang="zh-CN" sz="1400" spc="-1" strike="noStrike">
                <a:solidFill>
                  <a:srgbClr val="ff0000"/>
                </a:solidFill>
                <a:latin typeface="微软雅黑"/>
                <a:ea typeface="微软雅黑"/>
              </a:rPr>
              <a:t>管控体系设计：</a:t>
            </a:r>
            <a:endParaRPr b="0" lang="en-US" sz="1400" spc="-1" strike="noStrike">
              <a:solidFill>
                <a:srgbClr val="000000"/>
              </a:solidFill>
              <a:latin typeface="Arial"/>
            </a:endParaRPr>
          </a:p>
          <a:p>
            <a:pPr algn="just">
              <a:lnSpc>
                <a:spcPct val="100000"/>
              </a:lnSpc>
            </a:pPr>
            <a:r>
              <a:rPr b="0" lang="zh-CN" sz="1200" spc="-1" strike="noStrike">
                <a:solidFill>
                  <a:srgbClr val="000000"/>
                </a:solidFill>
                <a:latin typeface="微软雅黑"/>
                <a:ea typeface="微软雅黑"/>
              </a:rPr>
              <a:t>优化科学的财务管理和行政督察体系从财务管理和行政督察支持角度，优化设计财务核算、费用预算、应收账款管理机制，形成《财务管理机制》，同时优化设计行政对制度文件、流程文件、后勤等的督察执行力度，提升行政督察支持对企业的运营支持功能。</a:t>
            </a:r>
            <a:endParaRPr b="0" lang="en-US" sz="1200" spc="-1" strike="noStrike">
              <a:solidFill>
                <a:srgbClr val="000000"/>
              </a:solidFill>
              <a:latin typeface="Arial"/>
            </a:endParaRPr>
          </a:p>
          <a:p>
            <a:pPr algn="just">
              <a:lnSpc>
                <a:spcPct val="100000"/>
              </a:lnSpc>
              <a:spcBef>
                <a:spcPts val="601"/>
              </a:spcBef>
            </a:pPr>
            <a:r>
              <a:rPr b="1" lang="zh-CN" sz="1400" spc="-1" strike="noStrike">
                <a:solidFill>
                  <a:srgbClr val="ff0000"/>
                </a:solidFill>
                <a:latin typeface="微软雅黑"/>
                <a:ea typeface="微软雅黑"/>
              </a:rPr>
              <a:t>成长体系设计：</a:t>
            </a:r>
            <a:endParaRPr b="0" lang="en-US" sz="1400" spc="-1" strike="noStrike">
              <a:solidFill>
                <a:srgbClr val="000000"/>
              </a:solidFill>
              <a:latin typeface="Arial"/>
            </a:endParaRPr>
          </a:p>
          <a:p>
            <a:pPr algn="just">
              <a:lnSpc>
                <a:spcPct val="100000"/>
              </a:lnSpc>
            </a:pPr>
            <a:r>
              <a:rPr b="0" lang="zh-CN" sz="1200" spc="-1" strike="noStrike">
                <a:solidFill>
                  <a:srgbClr val="000000"/>
                </a:solidFill>
                <a:latin typeface="微软雅黑"/>
                <a:ea typeface="微软雅黑"/>
              </a:rPr>
              <a:t>针对开发基于员工责任感、员工管理技能水平的内训课程培训结合企业实际情况，设计开展《提高员工责任人感、凝聚力的培训课程》、针对中层管理者《中层管理干部技能提升课程》、针对基础管理提升的《非财务管理的财务管理》、《非人力资源的人力资源管理》《“制度”如何有效执行》等课程，针对性、系统化、有效化提升企业员工素质和技能水平。</a:t>
            </a:r>
            <a:endParaRPr b="0" lang="en-US" sz="1200" spc="-1" strike="noStrike">
              <a:solidFill>
                <a:srgbClr val="000000"/>
              </a:solidFill>
              <a:latin typeface="Arial"/>
            </a:endParaRPr>
          </a:p>
        </p:txBody>
      </p:sp>
      <p:sp>
        <p:nvSpPr>
          <p:cNvPr id="405" name="任意多边形 8"/>
          <p:cNvSpPr/>
          <p:nvPr/>
        </p:nvSpPr>
        <p:spPr>
          <a:xfrm>
            <a:off x="0" y="9594720"/>
            <a:ext cx="6857640" cy="83160"/>
          </a:xfrm>
          <a:custGeom>
            <a:avLst/>
            <a:gdLst>
              <a:gd name="textAreaLeft" fmla="*/ 0 w 6857640"/>
              <a:gd name="textAreaRight" fmla="*/ 6858000 w 6857640"/>
              <a:gd name="textAreaTop" fmla="*/ 0 h 83160"/>
              <a:gd name="textAreaBottom" fmla="*/ 83520 h 83160"/>
            </a:gdLst>
            <a:ahLst/>
            <a:rect l="textAreaLeft" t="textAreaTop" r="textAreaRight" b="textAreaBottom"/>
            <a:pathLst>
              <a:path w="353683" h="635">
                <a:moveTo>
                  <a:pt x="0" y="0"/>
                </a:moveTo>
                <a:lnTo>
                  <a:pt x="353683" y="0"/>
                </a:lnTo>
              </a:path>
            </a:pathLst>
          </a:custGeom>
          <a:solidFill>
            <a:schemeClr val="tx1"/>
          </a:solidFill>
          <a:ln w="28575">
            <a:solidFill>
              <a:srgbClr val="000000"/>
            </a:solidFill>
            <a:miter/>
          </a:ln>
        </p:spPr>
        <p:style>
          <a:lnRef idx="0"/>
          <a:fillRef idx="0"/>
          <a:effectRef idx="0"/>
          <a:fontRef idx="minor"/>
        </p:style>
        <p:txBody>
          <a:bodyPr lIns="90000" rIns="90000" tIns="41760" bIns="41760" anchor="ctr">
            <a:noAutofit/>
          </a:bodyPr>
          <a:p>
            <a:pPr algn="ctr">
              <a:lnSpc>
                <a:spcPct val="100000"/>
              </a:lnSpc>
            </a:pPr>
            <a:endParaRPr b="0" lang="en-US" sz="1800" spc="-1" strike="noStrike">
              <a:solidFill>
                <a:srgbClr val="000000"/>
              </a:solidFill>
              <a:latin typeface="Calibri"/>
              <a:ea typeface="宋体"/>
            </a:endParaRPr>
          </a:p>
        </p:txBody>
      </p:sp>
    </p:spTree>
  </p:cSld>
  <p:transition spd="slow" advTm="5000">
    <p:push dir="r"/>
  </p:transition>
  <p:timing>
    <p:tnLst>
      <p:par>
        <p:cTn id="146" dur="indefinite" restart="never" nodeType="tmRoot">
          <p:childTnLst>
            <p:seq>
              <p:cTn id="147" dur="indefinite" nodeType="mainSeq">
                <p:childTnLst>
                  <p:par>
                    <p:cTn id="148" nodeType="clickEffect" fill="hold">
                      <p:stCondLst>
                        <p:cond delay="0"/>
                      </p:stCondLst>
                      <p:childTnLst>
                        <p:par>
                          <p:cTn id="149" nodeType="withEffect" fill="hold">
                            <p:stCondLst>
                              <p:cond delay="0"/>
                            </p:stCondLst>
                            <p:childTnLst>
                              <p:par>
                                <p:cTn id="150" nodeType="withEffect" fill="hold" presetClass="entr" presetID="22" presetSubtype="8">
                                  <p:stCondLst>
                                    <p:cond delay="0"/>
                                  </p:stCondLst>
                                  <p:childTnLst>
                                    <p:set>
                                      <p:cBhvr>
                                        <p:cTn id="151" dur="1" fill="hold">
                                          <p:stCondLst>
                                            <p:cond delay="0"/>
                                          </p:stCondLst>
                                        </p:cTn>
                                        <p:tgtEl>
                                          <p:spTgt spid="402"/>
                                        </p:tgtEl>
                                        <p:attrNameLst>
                                          <p:attrName>style.visibility</p:attrName>
                                        </p:attrNameLst>
                                      </p:cBhvr>
                                      <p:to>
                                        <p:strVal val="visible"/>
                                      </p:to>
                                    </p:set>
                                    <p:animEffect filter="wipe(left)" transition="in">
                                      <p:cBhvr additive="repl">
                                        <p:cTn id="152" dur="1000"/>
                                        <p:tgtEl>
                                          <p:spTgt spid="402"/>
                                        </p:tgtEl>
                                      </p:cBhvr>
                                    </p:animEffect>
                                  </p:childTnLst>
                                </p:cTn>
                              </p:par>
                            </p:childTnLst>
                          </p:cTn>
                        </p:par>
                        <p:par>
                          <p:cTn id="153" fill="hold">
                            <p:stCondLst>
                              <p:cond delay="1000"/>
                            </p:stCondLst>
                            <p:childTnLst>
                              <p:par>
                                <p:cTn id="154" nodeType="afterEffect" fill="hold" presetClass="entr" presetID="22" presetSubtype="4">
                                  <p:stCondLst>
                                    <p:cond delay="0"/>
                                  </p:stCondLst>
                                  <p:childTnLst>
                                    <p:set>
                                      <p:cBhvr>
                                        <p:cTn id="155" dur="1" fill="hold">
                                          <p:stCondLst>
                                            <p:cond delay="0"/>
                                          </p:stCondLst>
                                        </p:cTn>
                                        <p:tgtEl>
                                          <p:spTgt spid="396"/>
                                        </p:tgtEl>
                                        <p:attrNameLst>
                                          <p:attrName>style.visibility</p:attrName>
                                        </p:attrNameLst>
                                      </p:cBhvr>
                                      <p:to>
                                        <p:strVal val="visible"/>
                                      </p:to>
                                    </p:set>
                                    <p:animEffect filter="wipe(down)" transition="in">
                                      <p:cBhvr additive="repl">
                                        <p:cTn id="156" dur="1000"/>
                                        <p:tgtEl>
                                          <p:spTgt spid="396"/>
                                        </p:tgtEl>
                                      </p:cBhvr>
                                    </p:animEffect>
                                  </p:childTnLst>
                                </p:cTn>
                              </p:par>
                            </p:childTnLst>
                          </p:cTn>
                        </p:par>
                        <p:par>
                          <p:cTn id="157" fill="hold">
                            <p:stCondLst>
                              <p:cond delay="2000"/>
                            </p:stCondLst>
                            <p:childTnLst>
                              <p:par>
                                <p:cTn id="158" nodeType="afterEffect" fill="hold" presetClass="entr" presetID="22" presetSubtype="1">
                                  <p:stCondLst>
                                    <p:cond delay="0"/>
                                  </p:stCondLst>
                                  <p:childTnLst>
                                    <p:set>
                                      <p:cBhvr>
                                        <p:cTn id="159" dur="1" fill="hold">
                                          <p:stCondLst>
                                            <p:cond delay="0"/>
                                          </p:stCondLst>
                                        </p:cTn>
                                        <p:tgtEl>
                                          <p:spTgt spid="399"/>
                                        </p:tgtEl>
                                        <p:attrNameLst>
                                          <p:attrName>style.visibility</p:attrName>
                                        </p:attrNameLst>
                                      </p:cBhvr>
                                      <p:to>
                                        <p:strVal val="visible"/>
                                      </p:to>
                                    </p:set>
                                    <p:animEffect filter="wipe(up)" transition="in">
                                      <p:cBhvr additive="repl">
                                        <p:cTn id="160" dur="1000"/>
                                        <p:tgtEl>
                                          <p:spTgt spid="399"/>
                                        </p:tgtEl>
                                      </p:cBhvr>
                                    </p:animEffect>
                                  </p:childTnLst>
                                </p:cTn>
                              </p:par>
                            </p:childTnLst>
                          </p:cTn>
                        </p:par>
                        <p:par>
                          <p:cTn id="161" fill="hold">
                            <p:stCondLst>
                              <p:cond delay="3000"/>
                            </p:stCondLst>
                            <p:childTnLst>
                              <p:par>
                                <p:cTn id="162" nodeType="afterEffect" fill="hold" presetClass="entr" presetID="22" presetSubtype="8">
                                  <p:stCondLst>
                                    <p:cond delay="0"/>
                                  </p:stCondLst>
                                  <p:childTnLst>
                                    <p:set>
                                      <p:cBhvr>
                                        <p:cTn id="163" dur="1" fill="hold">
                                          <p:stCondLst>
                                            <p:cond delay="0"/>
                                          </p:stCondLst>
                                        </p:cTn>
                                        <p:tgtEl>
                                          <p:spTgt spid="395"/>
                                        </p:tgtEl>
                                        <p:attrNameLst>
                                          <p:attrName>style.visibility</p:attrName>
                                        </p:attrNameLst>
                                      </p:cBhvr>
                                      <p:to>
                                        <p:strVal val="visible"/>
                                      </p:to>
                                    </p:set>
                                    <p:animEffect filter="wipe(left)" transition="in">
                                      <p:cBhvr additive="repl">
                                        <p:cTn id="164" dur="1000"/>
                                        <p:tgtEl>
                                          <p:spTgt spid="395"/>
                                        </p:tgtEl>
                                      </p:cBhvr>
                                    </p:animEffect>
                                  </p:childTnLst>
                                </p:cTn>
                              </p:par>
                            </p:childTnLst>
                          </p:cTn>
                        </p:par>
                        <p:par>
                          <p:cTn id="165" fill="hold">
                            <p:stCondLst>
                              <p:cond delay="4000"/>
                            </p:stCondLst>
                            <p:childTnLst>
                              <p:par>
                                <p:cTn id="166" nodeType="afterEffect" fill="hold" presetClass="entr" presetID="22" presetSubtype="8">
                                  <p:stCondLst>
                                    <p:cond delay="2000"/>
                                  </p:stCondLst>
                                  <p:childTnLst>
                                    <p:set>
                                      <p:cBhvr>
                                        <p:cTn id="167" dur="1" fill="hold">
                                          <p:stCondLst>
                                            <p:cond delay="0"/>
                                          </p:stCondLst>
                                        </p:cTn>
                                        <p:tgtEl>
                                          <p:spTgt spid="405"/>
                                        </p:tgtEl>
                                        <p:attrNameLst>
                                          <p:attrName>style.visibility</p:attrName>
                                        </p:attrNameLst>
                                      </p:cBhvr>
                                      <p:to>
                                        <p:strVal val="visible"/>
                                      </p:to>
                                    </p:set>
                                    <p:animEffect filter="wipe(left)" transition="in">
                                      <p:cBhvr additive="repl">
                                        <p:cTn id="168" dur="20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406" name="直接连接符 6"/>
          <p:cNvCxnSpPr/>
          <p:nvPr/>
        </p:nvCxnSpPr>
        <p:spPr>
          <a:xfrm flipH="1" flipV="1">
            <a:off x="3364560" y="3935880"/>
            <a:ext cx="26640" cy="5615280"/>
          </a:xfrm>
          <a:prstGeom prst="straightConnector1">
            <a:avLst/>
          </a:prstGeom>
          <a:ln w="38100">
            <a:solidFill>
              <a:srgbClr val="000000"/>
            </a:solidFill>
            <a:round/>
          </a:ln>
        </p:spPr>
      </p:cxnSp>
      <p:sp>
        <p:nvSpPr>
          <p:cNvPr id="407" name="矩形 165"/>
          <p:cNvSpPr/>
          <p:nvPr/>
        </p:nvSpPr>
        <p:spPr>
          <a:xfrm>
            <a:off x="0" y="2292480"/>
            <a:ext cx="6857640" cy="1643040"/>
          </a:xfrm>
          <a:prstGeom prst="rect">
            <a:avLst/>
          </a:prstGeom>
          <a:solidFill>
            <a:srgbClr val="ffff00"/>
          </a:solidFill>
          <a:ln w="0">
            <a:noFill/>
          </a:ln>
        </p:spPr>
        <p:style>
          <a:lnRef idx="0"/>
          <a:fillRef idx="0"/>
          <a:effectRef idx="0"/>
          <a:fontRef idx="minor"/>
        </p:style>
        <p:txBody>
          <a:bodyPr numCol="1" spcCol="0" anchor="ctr">
            <a:noAutofit/>
          </a:bodyPr>
          <a:p>
            <a:pPr>
              <a:lnSpc>
                <a:spcPct val="100000"/>
              </a:lnSpc>
              <a:tabLst>
                <a:tab algn="l" pos="0"/>
              </a:tabLst>
            </a:pPr>
            <a:endParaRPr b="0" lang="en-US" sz="1800" spc="-1" strike="noStrike">
              <a:solidFill>
                <a:srgbClr val="000000"/>
              </a:solidFill>
              <a:latin typeface="Arial"/>
              <a:ea typeface="宋体"/>
            </a:endParaRPr>
          </a:p>
        </p:txBody>
      </p:sp>
      <p:sp>
        <p:nvSpPr>
          <p:cNvPr id="408" name="矩形 3"/>
          <p:cNvSpPr/>
          <p:nvPr/>
        </p:nvSpPr>
        <p:spPr>
          <a:xfrm>
            <a:off x="1391760" y="2557800"/>
            <a:ext cx="4024440" cy="1431720"/>
          </a:xfrm>
          <a:prstGeom prst="rect">
            <a:avLst/>
          </a:prstGeom>
          <a:noFill/>
          <a:ln w="0">
            <a:noFill/>
          </a:ln>
        </p:spPr>
        <p:style>
          <a:lnRef idx="0"/>
          <a:fillRef idx="0"/>
          <a:effectRef idx="0"/>
          <a:fontRef idx="minor"/>
        </p:style>
        <p:txBody>
          <a:bodyPr wrap="none" anchor="t">
            <a:spAutoFit/>
          </a:bodyPr>
          <a:p>
            <a:pPr algn="ctr">
              <a:lnSpc>
                <a:spcPct val="100000"/>
              </a:lnSpc>
            </a:pPr>
            <a:r>
              <a:rPr b="1" lang="zh-CN" sz="2200" spc="-1" strike="noStrike">
                <a:solidFill>
                  <a:srgbClr val="ff0000"/>
                </a:solidFill>
                <a:latin typeface="微软雅黑"/>
                <a:ea typeface="微软雅黑"/>
              </a:rPr>
              <a:t>金领咨询以良好的口碑和诚信的服务为基础，</a:t>
            </a:r>
            <a:endParaRPr b="0" lang="en-US" sz="2200" spc="-1" strike="noStrike">
              <a:solidFill>
                <a:srgbClr val="000000"/>
              </a:solidFill>
              <a:latin typeface="Arial"/>
            </a:endParaRPr>
          </a:p>
          <a:p>
            <a:pPr algn="ctr">
              <a:lnSpc>
                <a:spcPct val="100000"/>
              </a:lnSpc>
            </a:pPr>
            <a:endParaRPr b="0" lang="en-US" sz="2200" spc="-1" strike="noStrike">
              <a:solidFill>
                <a:srgbClr val="000000"/>
              </a:solidFill>
              <a:latin typeface="Arial"/>
            </a:endParaRPr>
          </a:p>
          <a:p>
            <a:pPr algn="ctr">
              <a:lnSpc>
                <a:spcPct val="100000"/>
              </a:lnSpc>
            </a:pPr>
            <a:r>
              <a:rPr b="1" lang="zh-CN" sz="2200" spc="-1" strike="noStrike">
                <a:solidFill>
                  <a:srgbClr val="ff0000"/>
                </a:solidFill>
                <a:latin typeface="微软雅黑"/>
                <a:ea typeface="微软雅黑"/>
              </a:rPr>
              <a:t>立志成为“珠中江” 最具影响力的人力资源服务品牌</a:t>
            </a:r>
            <a:endParaRPr b="0" lang="en-US" sz="2200" spc="-1" strike="noStrike">
              <a:solidFill>
                <a:srgbClr val="000000"/>
              </a:solidFill>
              <a:latin typeface="Arial"/>
            </a:endParaRPr>
          </a:p>
          <a:p>
            <a:pPr algn="ctr">
              <a:lnSpc>
                <a:spcPct val="100000"/>
              </a:lnSpc>
            </a:pPr>
            <a:endParaRPr b="0" lang="en-US" sz="2200" spc="-1" strike="noStrike">
              <a:solidFill>
                <a:srgbClr val="000000"/>
              </a:solidFill>
              <a:latin typeface="Arial"/>
            </a:endParaRPr>
          </a:p>
        </p:txBody>
      </p:sp>
      <p:pic>
        <p:nvPicPr>
          <p:cNvPr id="409" name="图片 4" descr="3554c9ac029ec2559e3d65defc_560.jpg"/>
          <p:cNvPicPr/>
          <p:nvPr/>
        </p:nvPicPr>
        <p:blipFill>
          <a:blip r:embed="rId1"/>
          <a:stretch/>
        </p:blipFill>
        <p:spPr>
          <a:xfrm>
            <a:off x="0" y="4419720"/>
            <a:ext cx="6857640" cy="5486040"/>
          </a:xfrm>
          <a:prstGeom prst="rect">
            <a:avLst/>
          </a:prstGeom>
          <a:ln w="0">
            <a:noFill/>
          </a:ln>
        </p:spPr>
      </p:pic>
      <p:sp>
        <p:nvSpPr>
          <p:cNvPr id="410" name="任意多边形 8"/>
          <p:cNvSpPr/>
          <p:nvPr/>
        </p:nvSpPr>
        <p:spPr>
          <a:xfrm>
            <a:off x="-7560" y="9550800"/>
            <a:ext cx="3215520" cy="156600"/>
          </a:xfrm>
          <a:custGeom>
            <a:avLst/>
            <a:gdLst>
              <a:gd name="textAreaLeft" fmla="*/ 0 w 3215520"/>
              <a:gd name="textAreaRight" fmla="*/ 3215880 w 3215520"/>
              <a:gd name="textAreaTop" fmla="*/ 0 h 156600"/>
              <a:gd name="textAreaBottom" fmla="*/ 156960 h 156600"/>
            </a:gdLst>
            <a:ahLst/>
            <a:rect l="textAreaLeft" t="textAreaTop" r="textAreaRight" b="textAreaBottom"/>
            <a:pathLst>
              <a:path w="353683" h="635">
                <a:moveTo>
                  <a:pt x="0" y="0"/>
                </a:moveTo>
                <a:lnTo>
                  <a:pt x="353683" y="0"/>
                </a:lnTo>
              </a:path>
            </a:pathLst>
          </a:custGeom>
          <a:solidFill>
            <a:schemeClr val="tx1"/>
          </a:solidFill>
          <a:ln w="28575">
            <a:solidFill>
              <a:srgbClr val="000000"/>
            </a:solidFill>
            <a:miter/>
          </a:ln>
        </p:spPr>
        <p:style>
          <a:lnRef idx="0"/>
          <a:fillRef idx="0"/>
          <a:effectRef idx="0"/>
          <a:fontRef idx="minor"/>
        </p:style>
        <p:txBody>
          <a:bodyPr lIns="90000" rIns="90000" tIns="47160" bIns="47160" anchor="ctr">
            <a:noAutofit/>
          </a:bodyPr>
          <a:p>
            <a:pPr algn="ctr">
              <a:lnSpc>
                <a:spcPct val="100000"/>
              </a:lnSpc>
            </a:pPr>
            <a:endParaRPr b="0" lang="en-US" sz="1800" spc="-1" strike="noStrike">
              <a:solidFill>
                <a:srgbClr val="000000"/>
              </a:solidFill>
              <a:latin typeface="Calibri"/>
              <a:ea typeface="宋体"/>
            </a:endParaRPr>
          </a:p>
        </p:txBody>
      </p:sp>
      <p:grpSp>
        <p:nvGrpSpPr>
          <p:cNvPr id="411" name="Group 3"/>
          <p:cNvGrpSpPr/>
          <p:nvPr/>
        </p:nvGrpSpPr>
        <p:grpSpPr>
          <a:xfrm>
            <a:off x="2217600" y="270720"/>
            <a:ext cx="2521800" cy="1075680"/>
            <a:chOff x="2217600" y="270720"/>
            <a:chExt cx="2521800" cy="1075680"/>
          </a:xfrm>
        </p:grpSpPr>
        <p:grpSp>
          <p:nvGrpSpPr>
            <p:cNvPr id="412" name="Group 4"/>
            <p:cNvGrpSpPr/>
            <p:nvPr/>
          </p:nvGrpSpPr>
          <p:grpSpPr>
            <a:xfrm>
              <a:off x="2218680" y="1101960"/>
              <a:ext cx="2520720" cy="244440"/>
              <a:chOff x="2218680" y="1101960"/>
              <a:chExt cx="2520720" cy="244440"/>
            </a:xfrm>
          </p:grpSpPr>
          <p:sp>
            <p:nvSpPr>
              <p:cNvPr id="413" name="Freeform 11"/>
              <p:cNvSpPr/>
              <p:nvPr/>
            </p:nvSpPr>
            <p:spPr>
              <a:xfrm>
                <a:off x="2218680" y="1107720"/>
                <a:ext cx="182160" cy="158040"/>
              </a:xfrm>
              <a:custGeom>
                <a:avLst/>
                <a:gdLst>
                  <a:gd name="textAreaLeft" fmla="*/ 0 w 182160"/>
                  <a:gd name="textAreaRight" fmla="*/ 182520 w 182160"/>
                  <a:gd name="textAreaTop" fmla="*/ 0 h 158040"/>
                  <a:gd name="textAreaBottom" fmla="*/ 158400 h 158040"/>
                </a:gdLst>
                <a:ahLst/>
                <a:rect l="textAreaLeft" t="textAreaTop" r="textAreaRight" b="textAreaBottom"/>
                <a:pathLst>
                  <a:path w="1227" h="1136">
                    <a:moveTo>
                      <a:pt x="540" y="176"/>
                    </a:moveTo>
                    <a:lnTo>
                      <a:pt x="551" y="181"/>
                    </a:lnTo>
                    <a:lnTo>
                      <a:pt x="562" y="188"/>
                    </a:lnTo>
                    <a:lnTo>
                      <a:pt x="573" y="193"/>
                    </a:lnTo>
                    <a:lnTo>
                      <a:pt x="585" y="198"/>
                    </a:lnTo>
                    <a:lnTo>
                      <a:pt x="611" y="208"/>
                    </a:lnTo>
                    <a:lnTo>
                      <a:pt x="640" y="215"/>
                    </a:lnTo>
                    <a:lnTo>
                      <a:pt x="635" y="224"/>
                    </a:lnTo>
                    <a:lnTo>
                      <a:pt x="628" y="231"/>
                    </a:lnTo>
                    <a:lnTo>
                      <a:pt x="623" y="240"/>
                    </a:lnTo>
                    <a:lnTo>
                      <a:pt x="619" y="248"/>
                    </a:lnTo>
                    <a:lnTo>
                      <a:pt x="615" y="257"/>
                    </a:lnTo>
                    <a:lnTo>
                      <a:pt x="611" y="266"/>
                    </a:lnTo>
                    <a:lnTo>
                      <a:pt x="608" y="276"/>
                    </a:lnTo>
                    <a:lnTo>
                      <a:pt x="605" y="285"/>
                    </a:lnTo>
                    <a:lnTo>
                      <a:pt x="604" y="293"/>
                    </a:lnTo>
                    <a:lnTo>
                      <a:pt x="603" y="301"/>
                    </a:lnTo>
                    <a:lnTo>
                      <a:pt x="600" y="309"/>
                    </a:lnTo>
                    <a:lnTo>
                      <a:pt x="596" y="316"/>
                    </a:lnTo>
                    <a:lnTo>
                      <a:pt x="615" y="313"/>
                    </a:lnTo>
                    <a:lnTo>
                      <a:pt x="637" y="309"/>
                    </a:lnTo>
                    <a:lnTo>
                      <a:pt x="662" y="302"/>
                    </a:lnTo>
                    <a:lnTo>
                      <a:pt x="690" y="296"/>
                    </a:lnTo>
                    <a:lnTo>
                      <a:pt x="702" y="292"/>
                    </a:lnTo>
                    <a:lnTo>
                      <a:pt x="710" y="291"/>
                    </a:lnTo>
                    <a:lnTo>
                      <a:pt x="710" y="243"/>
                    </a:lnTo>
                    <a:lnTo>
                      <a:pt x="708" y="197"/>
                    </a:lnTo>
                    <a:lnTo>
                      <a:pt x="705" y="156"/>
                    </a:lnTo>
                    <a:lnTo>
                      <a:pt x="700" y="118"/>
                    </a:lnTo>
                    <a:lnTo>
                      <a:pt x="695" y="84"/>
                    </a:lnTo>
                    <a:lnTo>
                      <a:pt x="688" y="52"/>
                    </a:lnTo>
                    <a:lnTo>
                      <a:pt x="683" y="38"/>
                    </a:lnTo>
                    <a:lnTo>
                      <a:pt x="679" y="25"/>
                    </a:lnTo>
                    <a:lnTo>
                      <a:pt x="675" y="12"/>
                    </a:lnTo>
                    <a:lnTo>
                      <a:pt x="671" y="0"/>
                    </a:lnTo>
                    <a:lnTo>
                      <a:pt x="688" y="7"/>
                    </a:lnTo>
                    <a:lnTo>
                      <a:pt x="705" y="11"/>
                    </a:lnTo>
                    <a:lnTo>
                      <a:pt x="722" y="15"/>
                    </a:lnTo>
                    <a:lnTo>
                      <a:pt x="739" y="18"/>
                    </a:lnTo>
                    <a:lnTo>
                      <a:pt x="755" y="20"/>
                    </a:lnTo>
                    <a:lnTo>
                      <a:pt x="772" y="21"/>
                    </a:lnTo>
                    <a:lnTo>
                      <a:pt x="789" y="21"/>
                    </a:lnTo>
                    <a:lnTo>
                      <a:pt x="805" y="20"/>
                    </a:lnTo>
                    <a:lnTo>
                      <a:pt x="800" y="44"/>
                    </a:lnTo>
                    <a:lnTo>
                      <a:pt x="795" y="70"/>
                    </a:lnTo>
                    <a:lnTo>
                      <a:pt x="790" y="99"/>
                    </a:lnTo>
                    <a:lnTo>
                      <a:pt x="786" y="129"/>
                    </a:lnTo>
                    <a:lnTo>
                      <a:pt x="784" y="162"/>
                    </a:lnTo>
                    <a:lnTo>
                      <a:pt x="782" y="198"/>
                    </a:lnTo>
                    <a:lnTo>
                      <a:pt x="781" y="235"/>
                    </a:lnTo>
                    <a:lnTo>
                      <a:pt x="780" y="276"/>
                    </a:lnTo>
                    <a:lnTo>
                      <a:pt x="811" y="268"/>
                    </a:lnTo>
                    <a:lnTo>
                      <a:pt x="841" y="261"/>
                    </a:lnTo>
                    <a:lnTo>
                      <a:pt x="873" y="253"/>
                    </a:lnTo>
                    <a:lnTo>
                      <a:pt x="906" y="246"/>
                    </a:lnTo>
                    <a:lnTo>
                      <a:pt x="913" y="244"/>
                    </a:lnTo>
                    <a:lnTo>
                      <a:pt x="921" y="244"/>
                    </a:lnTo>
                    <a:lnTo>
                      <a:pt x="928" y="247"/>
                    </a:lnTo>
                    <a:lnTo>
                      <a:pt x="936" y="250"/>
                    </a:lnTo>
                    <a:lnTo>
                      <a:pt x="936" y="249"/>
                    </a:lnTo>
                    <a:lnTo>
                      <a:pt x="937" y="248"/>
                    </a:lnTo>
                    <a:lnTo>
                      <a:pt x="938" y="249"/>
                    </a:lnTo>
                    <a:lnTo>
                      <a:pt x="941" y="250"/>
                    </a:lnTo>
                    <a:lnTo>
                      <a:pt x="945" y="257"/>
                    </a:lnTo>
                    <a:lnTo>
                      <a:pt x="950" y="266"/>
                    </a:lnTo>
                    <a:lnTo>
                      <a:pt x="960" y="276"/>
                    </a:lnTo>
                    <a:lnTo>
                      <a:pt x="966" y="284"/>
                    </a:lnTo>
                    <a:lnTo>
                      <a:pt x="972" y="293"/>
                    </a:lnTo>
                    <a:lnTo>
                      <a:pt x="976" y="301"/>
                    </a:lnTo>
                    <a:lnTo>
                      <a:pt x="979" y="305"/>
                    </a:lnTo>
                    <a:lnTo>
                      <a:pt x="981" y="309"/>
                    </a:lnTo>
                    <a:lnTo>
                      <a:pt x="982" y="310"/>
                    </a:lnTo>
                    <a:lnTo>
                      <a:pt x="982" y="311"/>
                    </a:lnTo>
                    <a:lnTo>
                      <a:pt x="981" y="311"/>
                    </a:lnTo>
                    <a:lnTo>
                      <a:pt x="980" y="311"/>
                    </a:lnTo>
                    <a:lnTo>
                      <a:pt x="979" y="313"/>
                    </a:lnTo>
                    <a:lnTo>
                      <a:pt x="977" y="315"/>
                    </a:lnTo>
                    <a:lnTo>
                      <a:pt x="972" y="315"/>
                    </a:lnTo>
                    <a:lnTo>
                      <a:pt x="965" y="316"/>
                    </a:lnTo>
                    <a:lnTo>
                      <a:pt x="943" y="321"/>
                    </a:lnTo>
                    <a:lnTo>
                      <a:pt x="915" y="327"/>
                    </a:lnTo>
                    <a:lnTo>
                      <a:pt x="883" y="334"/>
                    </a:lnTo>
                    <a:lnTo>
                      <a:pt x="845" y="340"/>
                    </a:lnTo>
                    <a:lnTo>
                      <a:pt x="824" y="343"/>
                    </a:lnTo>
                    <a:lnTo>
                      <a:pt x="806" y="346"/>
                    </a:lnTo>
                    <a:lnTo>
                      <a:pt x="791" y="348"/>
                    </a:lnTo>
                    <a:lnTo>
                      <a:pt x="780" y="351"/>
                    </a:lnTo>
                    <a:lnTo>
                      <a:pt x="780" y="384"/>
                    </a:lnTo>
                    <a:lnTo>
                      <a:pt x="780" y="417"/>
                    </a:lnTo>
                    <a:lnTo>
                      <a:pt x="780" y="452"/>
                    </a:lnTo>
                    <a:lnTo>
                      <a:pt x="780" y="486"/>
                    </a:lnTo>
                    <a:lnTo>
                      <a:pt x="806" y="480"/>
                    </a:lnTo>
                    <a:lnTo>
                      <a:pt x="834" y="474"/>
                    </a:lnTo>
                    <a:lnTo>
                      <a:pt x="860" y="467"/>
                    </a:lnTo>
                    <a:lnTo>
                      <a:pt x="888" y="462"/>
                    </a:lnTo>
                    <a:lnTo>
                      <a:pt x="915" y="457"/>
                    </a:lnTo>
                    <a:lnTo>
                      <a:pt x="943" y="452"/>
                    </a:lnTo>
                    <a:lnTo>
                      <a:pt x="972" y="446"/>
                    </a:lnTo>
                    <a:lnTo>
                      <a:pt x="1000" y="441"/>
                    </a:lnTo>
                    <a:lnTo>
                      <a:pt x="1005" y="440"/>
                    </a:lnTo>
                    <a:lnTo>
                      <a:pt x="1011" y="440"/>
                    </a:lnTo>
                    <a:lnTo>
                      <a:pt x="1015" y="440"/>
                    </a:lnTo>
                    <a:lnTo>
                      <a:pt x="1020" y="441"/>
                    </a:lnTo>
                    <a:lnTo>
                      <a:pt x="1026" y="442"/>
                    </a:lnTo>
                    <a:lnTo>
                      <a:pt x="1031" y="444"/>
                    </a:lnTo>
                    <a:lnTo>
                      <a:pt x="1035" y="447"/>
                    </a:lnTo>
                    <a:lnTo>
                      <a:pt x="1040" y="451"/>
                    </a:lnTo>
                    <a:lnTo>
                      <a:pt x="1047" y="458"/>
                    </a:lnTo>
                    <a:lnTo>
                      <a:pt x="1055" y="471"/>
                    </a:lnTo>
                    <a:lnTo>
                      <a:pt x="1068" y="491"/>
                    </a:lnTo>
                    <a:lnTo>
                      <a:pt x="1075" y="500"/>
                    </a:lnTo>
                    <a:lnTo>
                      <a:pt x="1080" y="508"/>
                    </a:lnTo>
                    <a:lnTo>
                      <a:pt x="1082" y="513"/>
                    </a:lnTo>
                    <a:lnTo>
                      <a:pt x="1082" y="517"/>
                    </a:lnTo>
                    <a:lnTo>
                      <a:pt x="1081" y="520"/>
                    </a:lnTo>
                    <a:lnTo>
                      <a:pt x="1080" y="523"/>
                    </a:lnTo>
                    <a:lnTo>
                      <a:pt x="1076" y="525"/>
                    </a:lnTo>
                    <a:lnTo>
                      <a:pt x="1072" y="526"/>
                    </a:lnTo>
                    <a:lnTo>
                      <a:pt x="1066" y="526"/>
                    </a:lnTo>
                    <a:lnTo>
                      <a:pt x="1049" y="526"/>
                    </a:lnTo>
                    <a:lnTo>
                      <a:pt x="1031" y="527"/>
                    </a:lnTo>
                    <a:lnTo>
                      <a:pt x="1011" y="528"/>
                    </a:lnTo>
                    <a:lnTo>
                      <a:pt x="987" y="530"/>
                    </a:lnTo>
                    <a:lnTo>
                      <a:pt x="963" y="532"/>
                    </a:lnTo>
                    <a:lnTo>
                      <a:pt x="936" y="534"/>
                    </a:lnTo>
                    <a:lnTo>
                      <a:pt x="907" y="537"/>
                    </a:lnTo>
                    <a:lnTo>
                      <a:pt x="875" y="541"/>
                    </a:lnTo>
                    <a:lnTo>
                      <a:pt x="850" y="544"/>
                    </a:lnTo>
                    <a:lnTo>
                      <a:pt x="827" y="546"/>
                    </a:lnTo>
                    <a:lnTo>
                      <a:pt x="809" y="548"/>
                    </a:lnTo>
                    <a:lnTo>
                      <a:pt x="796" y="551"/>
                    </a:lnTo>
                    <a:lnTo>
                      <a:pt x="812" y="568"/>
                    </a:lnTo>
                    <a:lnTo>
                      <a:pt x="831" y="588"/>
                    </a:lnTo>
                    <a:lnTo>
                      <a:pt x="852" y="613"/>
                    </a:lnTo>
                    <a:lnTo>
                      <a:pt x="875" y="641"/>
                    </a:lnTo>
                    <a:lnTo>
                      <a:pt x="902" y="671"/>
                    </a:lnTo>
                    <a:lnTo>
                      <a:pt x="927" y="696"/>
                    </a:lnTo>
                    <a:lnTo>
                      <a:pt x="950" y="720"/>
                    </a:lnTo>
                    <a:lnTo>
                      <a:pt x="972" y="740"/>
                    </a:lnTo>
                    <a:lnTo>
                      <a:pt x="992" y="757"/>
                    </a:lnTo>
                    <a:lnTo>
                      <a:pt x="1010" y="770"/>
                    </a:lnTo>
                    <a:lnTo>
                      <a:pt x="1018" y="775"/>
                    </a:lnTo>
                    <a:lnTo>
                      <a:pt x="1026" y="779"/>
                    </a:lnTo>
                    <a:lnTo>
                      <a:pt x="1033" y="783"/>
                    </a:lnTo>
                    <a:lnTo>
                      <a:pt x="1040" y="786"/>
                    </a:lnTo>
                    <a:lnTo>
                      <a:pt x="1064" y="797"/>
                    </a:lnTo>
                    <a:lnTo>
                      <a:pt x="1087" y="809"/>
                    </a:lnTo>
                    <a:lnTo>
                      <a:pt x="1109" y="821"/>
                    </a:lnTo>
                    <a:lnTo>
                      <a:pt x="1130" y="834"/>
                    </a:lnTo>
                    <a:lnTo>
                      <a:pt x="1152" y="846"/>
                    </a:lnTo>
                    <a:lnTo>
                      <a:pt x="1172" y="860"/>
                    </a:lnTo>
                    <a:lnTo>
                      <a:pt x="1191" y="872"/>
                    </a:lnTo>
                    <a:lnTo>
                      <a:pt x="1210" y="886"/>
                    </a:lnTo>
                    <a:lnTo>
                      <a:pt x="1218" y="896"/>
                    </a:lnTo>
                    <a:lnTo>
                      <a:pt x="1224" y="904"/>
                    </a:lnTo>
                    <a:lnTo>
                      <a:pt x="1226" y="907"/>
                    </a:lnTo>
                    <a:lnTo>
                      <a:pt x="1227" y="910"/>
                    </a:lnTo>
                    <a:lnTo>
                      <a:pt x="1227" y="914"/>
                    </a:lnTo>
                    <a:lnTo>
                      <a:pt x="1226" y="916"/>
                    </a:lnTo>
                    <a:lnTo>
                      <a:pt x="1225" y="919"/>
                    </a:lnTo>
                    <a:lnTo>
                      <a:pt x="1224" y="921"/>
                    </a:lnTo>
                    <a:lnTo>
                      <a:pt x="1221" y="922"/>
                    </a:lnTo>
                    <a:lnTo>
                      <a:pt x="1219" y="923"/>
                    </a:lnTo>
                    <a:lnTo>
                      <a:pt x="1211" y="925"/>
                    </a:lnTo>
                    <a:lnTo>
                      <a:pt x="1200" y="926"/>
                    </a:lnTo>
                    <a:lnTo>
                      <a:pt x="1152" y="927"/>
                    </a:lnTo>
                    <a:lnTo>
                      <a:pt x="1109" y="927"/>
                    </a:lnTo>
                    <a:lnTo>
                      <a:pt x="1089" y="927"/>
                    </a:lnTo>
                    <a:lnTo>
                      <a:pt x="1071" y="926"/>
                    </a:lnTo>
                    <a:lnTo>
                      <a:pt x="1054" y="924"/>
                    </a:lnTo>
                    <a:lnTo>
                      <a:pt x="1039" y="922"/>
                    </a:lnTo>
                    <a:lnTo>
                      <a:pt x="1026" y="920"/>
                    </a:lnTo>
                    <a:lnTo>
                      <a:pt x="1013" y="917"/>
                    </a:lnTo>
                    <a:lnTo>
                      <a:pt x="1001" y="914"/>
                    </a:lnTo>
                    <a:lnTo>
                      <a:pt x="992" y="910"/>
                    </a:lnTo>
                    <a:lnTo>
                      <a:pt x="983" y="906"/>
                    </a:lnTo>
                    <a:lnTo>
                      <a:pt x="976" y="902"/>
                    </a:lnTo>
                    <a:lnTo>
                      <a:pt x="969" y="897"/>
                    </a:lnTo>
                    <a:lnTo>
                      <a:pt x="965" y="891"/>
                    </a:lnTo>
                    <a:lnTo>
                      <a:pt x="946" y="867"/>
                    </a:lnTo>
                    <a:lnTo>
                      <a:pt x="922" y="833"/>
                    </a:lnTo>
                    <a:lnTo>
                      <a:pt x="893" y="792"/>
                    </a:lnTo>
                    <a:lnTo>
                      <a:pt x="860" y="741"/>
                    </a:lnTo>
                    <a:lnTo>
                      <a:pt x="839" y="704"/>
                    </a:lnTo>
                    <a:lnTo>
                      <a:pt x="819" y="671"/>
                    </a:lnTo>
                    <a:lnTo>
                      <a:pt x="801" y="643"/>
                    </a:lnTo>
                    <a:lnTo>
                      <a:pt x="785" y="621"/>
                    </a:lnTo>
                    <a:lnTo>
                      <a:pt x="785" y="636"/>
                    </a:lnTo>
                    <a:lnTo>
                      <a:pt x="785" y="652"/>
                    </a:lnTo>
                    <a:lnTo>
                      <a:pt x="785" y="671"/>
                    </a:lnTo>
                    <a:lnTo>
                      <a:pt x="785" y="691"/>
                    </a:lnTo>
                    <a:lnTo>
                      <a:pt x="785" y="713"/>
                    </a:lnTo>
                    <a:lnTo>
                      <a:pt x="785" y="738"/>
                    </a:lnTo>
                    <a:lnTo>
                      <a:pt x="785" y="763"/>
                    </a:lnTo>
                    <a:lnTo>
                      <a:pt x="785" y="791"/>
                    </a:lnTo>
                    <a:lnTo>
                      <a:pt x="786" y="820"/>
                    </a:lnTo>
                    <a:lnTo>
                      <a:pt x="787" y="848"/>
                    </a:lnTo>
                    <a:lnTo>
                      <a:pt x="788" y="873"/>
                    </a:lnTo>
                    <a:lnTo>
                      <a:pt x="789" y="898"/>
                    </a:lnTo>
                    <a:lnTo>
                      <a:pt x="789" y="920"/>
                    </a:lnTo>
                    <a:lnTo>
                      <a:pt x="790" y="940"/>
                    </a:lnTo>
                    <a:lnTo>
                      <a:pt x="790" y="959"/>
                    </a:lnTo>
                    <a:lnTo>
                      <a:pt x="790" y="976"/>
                    </a:lnTo>
                    <a:lnTo>
                      <a:pt x="793" y="1015"/>
                    </a:lnTo>
                    <a:lnTo>
                      <a:pt x="794" y="1048"/>
                    </a:lnTo>
                    <a:lnTo>
                      <a:pt x="795" y="1076"/>
                    </a:lnTo>
                    <a:lnTo>
                      <a:pt x="794" y="1099"/>
                    </a:lnTo>
                    <a:lnTo>
                      <a:pt x="793" y="1116"/>
                    </a:lnTo>
                    <a:lnTo>
                      <a:pt x="791" y="1128"/>
                    </a:lnTo>
                    <a:lnTo>
                      <a:pt x="790" y="1132"/>
                    </a:lnTo>
                    <a:lnTo>
                      <a:pt x="788" y="1135"/>
                    </a:lnTo>
                    <a:lnTo>
                      <a:pt x="787" y="1136"/>
                    </a:lnTo>
                    <a:lnTo>
                      <a:pt x="785" y="1136"/>
                    </a:lnTo>
                    <a:lnTo>
                      <a:pt x="770" y="1128"/>
                    </a:lnTo>
                    <a:lnTo>
                      <a:pt x="755" y="1118"/>
                    </a:lnTo>
                    <a:lnTo>
                      <a:pt x="741" y="1108"/>
                    </a:lnTo>
                    <a:lnTo>
                      <a:pt x="727" y="1095"/>
                    </a:lnTo>
                    <a:lnTo>
                      <a:pt x="712" y="1081"/>
                    </a:lnTo>
                    <a:lnTo>
                      <a:pt x="698" y="1066"/>
                    </a:lnTo>
                    <a:lnTo>
                      <a:pt x="684" y="1049"/>
                    </a:lnTo>
                    <a:lnTo>
                      <a:pt x="671" y="1031"/>
                    </a:lnTo>
                    <a:lnTo>
                      <a:pt x="675" y="1026"/>
                    </a:lnTo>
                    <a:lnTo>
                      <a:pt x="678" y="1019"/>
                    </a:lnTo>
                    <a:lnTo>
                      <a:pt x="682" y="1008"/>
                    </a:lnTo>
                    <a:lnTo>
                      <a:pt x="686" y="994"/>
                    </a:lnTo>
                    <a:lnTo>
                      <a:pt x="689" y="978"/>
                    </a:lnTo>
                    <a:lnTo>
                      <a:pt x="692" y="959"/>
                    </a:lnTo>
                    <a:lnTo>
                      <a:pt x="694" y="938"/>
                    </a:lnTo>
                    <a:lnTo>
                      <a:pt x="696" y="914"/>
                    </a:lnTo>
                    <a:lnTo>
                      <a:pt x="700" y="857"/>
                    </a:lnTo>
                    <a:lnTo>
                      <a:pt x="702" y="790"/>
                    </a:lnTo>
                    <a:lnTo>
                      <a:pt x="705" y="710"/>
                    </a:lnTo>
                    <a:lnTo>
                      <a:pt x="706" y="621"/>
                    </a:lnTo>
                    <a:lnTo>
                      <a:pt x="680" y="666"/>
                    </a:lnTo>
                    <a:lnTo>
                      <a:pt x="655" y="709"/>
                    </a:lnTo>
                    <a:lnTo>
                      <a:pt x="629" y="749"/>
                    </a:lnTo>
                    <a:lnTo>
                      <a:pt x="604" y="788"/>
                    </a:lnTo>
                    <a:lnTo>
                      <a:pt x="579" y="824"/>
                    </a:lnTo>
                    <a:lnTo>
                      <a:pt x="552" y="856"/>
                    </a:lnTo>
                    <a:lnTo>
                      <a:pt x="527" y="887"/>
                    </a:lnTo>
                    <a:lnTo>
                      <a:pt x="500" y="916"/>
                    </a:lnTo>
                    <a:lnTo>
                      <a:pt x="487" y="926"/>
                    </a:lnTo>
                    <a:lnTo>
                      <a:pt x="475" y="935"/>
                    </a:lnTo>
                    <a:lnTo>
                      <a:pt x="462" y="943"/>
                    </a:lnTo>
                    <a:lnTo>
                      <a:pt x="449" y="950"/>
                    </a:lnTo>
                    <a:lnTo>
                      <a:pt x="437" y="955"/>
                    </a:lnTo>
                    <a:lnTo>
                      <a:pt x="423" y="959"/>
                    </a:lnTo>
                    <a:lnTo>
                      <a:pt x="410" y="962"/>
                    </a:lnTo>
                    <a:lnTo>
                      <a:pt x="396" y="963"/>
                    </a:lnTo>
                    <a:lnTo>
                      <a:pt x="383" y="964"/>
                    </a:lnTo>
                    <a:lnTo>
                      <a:pt x="369" y="963"/>
                    </a:lnTo>
                    <a:lnTo>
                      <a:pt x="355" y="962"/>
                    </a:lnTo>
                    <a:lnTo>
                      <a:pt x="341" y="959"/>
                    </a:lnTo>
                    <a:lnTo>
                      <a:pt x="328" y="955"/>
                    </a:lnTo>
                    <a:lnTo>
                      <a:pt x="314" y="950"/>
                    </a:lnTo>
                    <a:lnTo>
                      <a:pt x="299" y="943"/>
                    </a:lnTo>
                    <a:lnTo>
                      <a:pt x="285" y="936"/>
                    </a:lnTo>
                    <a:lnTo>
                      <a:pt x="308" y="925"/>
                    </a:lnTo>
                    <a:lnTo>
                      <a:pt x="333" y="912"/>
                    </a:lnTo>
                    <a:lnTo>
                      <a:pt x="356" y="898"/>
                    </a:lnTo>
                    <a:lnTo>
                      <a:pt x="379" y="882"/>
                    </a:lnTo>
                    <a:lnTo>
                      <a:pt x="403" y="865"/>
                    </a:lnTo>
                    <a:lnTo>
                      <a:pt x="426" y="847"/>
                    </a:lnTo>
                    <a:lnTo>
                      <a:pt x="449" y="827"/>
                    </a:lnTo>
                    <a:lnTo>
                      <a:pt x="473" y="804"/>
                    </a:lnTo>
                    <a:lnTo>
                      <a:pt x="496" y="782"/>
                    </a:lnTo>
                    <a:lnTo>
                      <a:pt x="518" y="758"/>
                    </a:lnTo>
                    <a:lnTo>
                      <a:pt x="541" y="731"/>
                    </a:lnTo>
                    <a:lnTo>
                      <a:pt x="565" y="705"/>
                    </a:lnTo>
                    <a:lnTo>
                      <a:pt x="587" y="676"/>
                    </a:lnTo>
                    <a:lnTo>
                      <a:pt x="610" y="646"/>
                    </a:lnTo>
                    <a:lnTo>
                      <a:pt x="633" y="614"/>
                    </a:lnTo>
                    <a:lnTo>
                      <a:pt x="655" y="581"/>
                    </a:lnTo>
                    <a:lnTo>
                      <a:pt x="623" y="586"/>
                    </a:lnTo>
                    <a:lnTo>
                      <a:pt x="591" y="593"/>
                    </a:lnTo>
                    <a:lnTo>
                      <a:pt x="561" y="599"/>
                    </a:lnTo>
                    <a:lnTo>
                      <a:pt x="530" y="606"/>
                    </a:lnTo>
                    <a:lnTo>
                      <a:pt x="516" y="605"/>
                    </a:lnTo>
                    <a:lnTo>
                      <a:pt x="502" y="603"/>
                    </a:lnTo>
                    <a:lnTo>
                      <a:pt x="491" y="600"/>
                    </a:lnTo>
                    <a:lnTo>
                      <a:pt x="480" y="596"/>
                    </a:lnTo>
                    <a:lnTo>
                      <a:pt x="475" y="591"/>
                    </a:lnTo>
                    <a:lnTo>
                      <a:pt x="466" y="585"/>
                    </a:lnTo>
                    <a:lnTo>
                      <a:pt x="457" y="575"/>
                    </a:lnTo>
                    <a:lnTo>
                      <a:pt x="445" y="561"/>
                    </a:lnTo>
                    <a:lnTo>
                      <a:pt x="437" y="552"/>
                    </a:lnTo>
                    <a:lnTo>
                      <a:pt x="430" y="546"/>
                    </a:lnTo>
                    <a:lnTo>
                      <a:pt x="448" y="545"/>
                    </a:lnTo>
                    <a:lnTo>
                      <a:pt x="468" y="542"/>
                    </a:lnTo>
                    <a:lnTo>
                      <a:pt x="491" y="540"/>
                    </a:lnTo>
                    <a:lnTo>
                      <a:pt x="515" y="536"/>
                    </a:lnTo>
                    <a:lnTo>
                      <a:pt x="541" y="532"/>
                    </a:lnTo>
                    <a:lnTo>
                      <a:pt x="569" y="527"/>
                    </a:lnTo>
                    <a:lnTo>
                      <a:pt x="599" y="522"/>
                    </a:lnTo>
                    <a:lnTo>
                      <a:pt x="630" y="516"/>
                    </a:lnTo>
                    <a:lnTo>
                      <a:pt x="656" y="511"/>
                    </a:lnTo>
                    <a:lnTo>
                      <a:pt x="678" y="507"/>
                    </a:lnTo>
                    <a:lnTo>
                      <a:pt x="696" y="504"/>
                    </a:lnTo>
                    <a:lnTo>
                      <a:pt x="710" y="500"/>
                    </a:lnTo>
                    <a:lnTo>
                      <a:pt x="710" y="360"/>
                    </a:lnTo>
                    <a:lnTo>
                      <a:pt x="677" y="367"/>
                    </a:lnTo>
                    <a:lnTo>
                      <a:pt x="652" y="372"/>
                    </a:lnTo>
                    <a:lnTo>
                      <a:pt x="635" y="375"/>
                    </a:lnTo>
                    <a:lnTo>
                      <a:pt x="625" y="375"/>
                    </a:lnTo>
                    <a:lnTo>
                      <a:pt x="621" y="375"/>
                    </a:lnTo>
                    <a:lnTo>
                      <a:pt x="617" y="374"/>
                    </a:lnTo>
                    <a:lnTo>
                      <a:pt x="612" y="372"/>
                    </a:lnTo>
                    <a:lnTo>
                      <a:pt x="607" y="369"/>
                    </a:lnTo>
                    <a:lnTo>
                      <a:pt x="597" y="362"/>
                    </a:lnTo>
                    <a:lnTo>
                      <a:pt x="585" y="351"/>
                    </a:lnTo>
                    <a:lnTo>
                      <a:pt x="582" y="366"/>
                    </a:lnTo>
                    <a:lnTo>
                      <a:pt x="576" y="382"/>
                    </a:lnTo>
                    <a:lnTo>
                      <a:pt x="569" y="399"/>
                    </a:lnTo>
                    <a:lnTo>
                      <a:pt x="561" y="416"/>
                    </a:lnTo>
                    <a:lnTo>
                      <a:pt x="557" y="425"/>
                    </a:lnTo>
                    <a:lnTo>
                      <a:pt x="555" y="433"/>
                    </a:lnTo>
                    <a:lnTo>
                      <a:pt x="553" y="438"/>
                    </a:lnTo>
                    <a:lnTo>
                      <a:pt x="550" y="441"/>
                    </a:lnTo>
                    <a:lnTo>
                      <a:pt x="546" y="448"/>
                    </a:lnTo>
                    <a:lnTo>
                      <a:pt x="540" y="455"/>
                    </a:lnTo>
                    <a:lnTo>
                      <a:pt x="535" y="460"/>
                    </a:lnTo>
                    <a:lnTo>
                      <a:pt x="529" y="465"/>
                    </a:lnTo>
                    <a:lnTo>
                      <a:pt x="522" y="471"/>
                    </a:lnTo>
                    <a:lnTo>
                      <a:pt x="515" y="475"/>
                    </a:lnTo>
                    <a:lnTo>
                      <a:pt x="507" y="478"/>
                    </a:lnTo>
                    <a:lnTo>
                      <a:pt x="499" y="481"/>
                    </a:lnTo>
                    <a:lnTo>
                      <a:pt x="491" y="483"/>
                    </a:lnTo>
                    <a:lnTo>
                      <a:pt x="481" y="484"/>
                    </a:lnTo>
                    <a:lnTo>
                      <a:pt x="472" y="486"/>
                    </a:lnTo>
                    <a:lnTo>
                      <a:pt x="461" y="486"/>
                    </a:lnTo>
                    <a:lnTo>
                      <a:pt x="450" y="486"/>
                    </a:lnTo>
                    <a:lnTo>
                      <a:pt x="439" y="484"/>
                    </a:lnTo>
                    <a:lnTo>
                      <a:pt x="427" y="483"/>
                    </a:lnTo>
                    <a:lnTo>
                      <a:pt x="415" y="480"/>
                    </a:lnTo>
                    <a:lnTo>
                      <a:pt x="430" y="466"/>
                    </a:lnTo>
                    <a:lnTo>
                      <a:pt x="444" y="452"/>
                    </a:lnTo>
                    <a:lnTo>
                      <a:pt x="458" y="437"/>
                    </a:lnTo>
                    <a:lnTo>
                      <a:pt x="469" y="421"/>
                    </a:lnTo>
                    <a:lnTo>
                      <a:pt x="481" y="404"/>
                    </a:lnTo>
                    <a:lnTo>
                      <a:pt x="492" y="386"/>
                    </a:lnTo>
                    <a:lnTo>
                      <a:pt x="500" y="368"/>
                    </a:lnTo>
                    <a:lnTo>
                      <a:pt x="509" y="350"/>
                    </a:lnTo>
                    <a:lnTo>
                      <a:pt x="516" y="330"/>
                    </a:lnTo>
                    <a:lnTo>
                      <a:pt x="522" y="310"/>
                    </a:lnTo>
                    <a:lnTo>
                      <a:pt x="528" y="289"/>
                    </a:lnTo>
                    <a:lnTo>
                      <a:pt x="532" y="268"/>
                    </a:lnTo>
                    <a:lnTo>
                      <a:pt x="536" y="246"/>
                    </a:lnTo>
                    <a:lnTo>
                      <a:pt x="538" y="223"/>
                    </a:lnTo>
                    <a:lnTo>
                      <a:pt x="539" y="199"/>
                    </a:lnTo>
                    <a:lnTo>
                      <a:pt x="540" y="176"/>
                    </a:lnTo>
                    <a:close/>
                    <a:moveTo>
                      <a:pt x="436" y="520"/>
                    </a:moveTo>
                    <a:lnTo>
                      <a:pt x="399" y="528"/>
                    </a:lnTo>
                    <a:lnTo>
                      <a:pt x="361" y="536"/>
                    </a:lnTo>
                    <a:lnTo>
                      <a:pt x="325" y="544"/>
                    </a:lnTo>
                    <a:lnTo>
                      <a:pt x="290" y="551"/>
                    </a:lnTo>
                    <a:lnTo>
                      <a:pt x="290" y="569"/>
                    </a:lnTo>
                    <a:lnTo>
                      <a:pt x="290" y="588"/>
                    </a:lnTo>
                    <a:lnTo>
                      <a:pt x="290" y="608"/>
                    </a:lnTo>
                    <a:lnTo>
                      <a:pt x="290" y="630"/>
                    </a:lnTo>
                    <a:lnTo>
                      <a:pt x="290" y="652"/>
                    </a:lnTo>
                    <a:lnTo>
                      <a:pt x="290" y="675"/>
                    </a:lnTo>
                    <a:lnTo>
                      <a:pt x="290" y="701"/>
                    </a:lnTo>
                    <a:lnTo>
                      <a:pt x="290" y="726"/>
                    </a:lnTo>
                    <a:lnTo>
                      <a:pt x="325" y="706"/>
                    </a:lnTo>
                    <a:lnTo>
                      <a:pt x="361" y="687"/>
                    </a:lnTo>
                    <a:lnTo>
                      <a:pt x="399" y="669"/>
                    </a:lnTo>
                    <a:lnTo>
                      <a:pt x="436" y="651"/>
                    </a:lnTo>
                    <a:lnTo>
                      <a:pt x="439" y="650"/>
                    </a:lnTo>
                    <a:lnTo>
                      <a:pt x="442" y="650"/>
                    </a:lnTo>
                    <a:lnTo>
                      <a:pt x="446" y="650"/>
                    </a:lnTo>
                    <a:lnTo>
                      <a:pt x="449" y="651"/>
                    </a:lnTo>
                    <a:lnTo>
                      <a:pt x="451" y="653"/>
                    </a:lnTo>
                    <a:lnTo>
                      <a:pt x="455" y="655"/>
                    </a:lnTo>
                    <a:lnTo>
                      <a:pt x="458" y="657"/>
                    </a:lnTo>
                    <a:lnTo>
                      <a:pt x="460" y="661"/>
                    </a:lnTo>
                    <a:lnTo>
                      <a:pt x="462" y="665"/>
                    </a:lnTo>
                    <a:lnTo>
                      <a:pt x="463" y="668"/>
                    </a:lnTo>
                    <a:lnTo>
                      <a:pt x="464" y="672"/>
                    </a:lnTo>
                    <a:lnTo>
                      <a:pt x="464" y="675"/>
                    </a:lnTo>
                    <a:lnTo>
                      <a:pt x="463" y="677"/>
                    </a:lnTo>
                    <a:lnTo>
                      <a:pt x="461" y="680"/>
                    </a:lnTo>
                    <a:lnTo>
                      <a:pt x="459" y="684"/>
                    </a:lnTo>
                    <a:lnTo>
                      <a:pt x="455" y="686"/>
                    </a:lnTo>
                    <a:lnTo>
                      <a:pt x="386" y="733"/>
                    </a:lnTo>
                    <a:lnTo>
                      <a:pt x="323" y="778"/>
                    </a:lnTo>
                    <a:lnTo>
                      <a:pt x="268" y="818"/>
                    </a:lnTo>
                    <a:lnTo>
                      <a:pt x="221" y="853"/>
                    </a:lnTo>
                    <a:lnTo>
                      <a:pt x="178" y="885"/>
                    </a:lnTo>
                    <a:lnTo>
                      <a:pt x="144" y="913"/>
                    </a:lnTo>
                    <a:lnTo>
                      <a:pt x="116" y="937"/>
                    </a:lnTo>
                    <a:lnTo>
                      <a:pt x="96" y="956"/>
                    </a:lnTo>
                    <a:lnTo>
                      <a:pt x="85" y="940"/>
                    </a:lnTo>
                    <a:lnTo>
                      <a:pt x="74" y="925"/>
                    </a:lnTo>
                    <a:lnTo>
                      <a:pt x="63" y="910"/>
                    </a:lnTo>
                    <a:lnTo>
                      <a:pt x="51" y="897"/>
                    </a:lnTo>
                    <a:lnTo>
                      <a:pt x="39" y="883"/>
                    </a:lnTo>
                    <a:lnTo>
                      <a:pt x="27" y="870"/>
                    </a:lnTo>
                    <a:lnTo>
                      <a:pt x="14" y="857"/>
                    </a:lnTo>
                    <a:lnTo>
                      <a:pt x="0" y="846"/>
                    </a:lnTo>
                    <a:lnTo>
                      <a:pt x="22" y="838"/>
                    </a:lnTo>
                    <a:lnTo>
                      <a:pt x="46" y="829"/>
                    </a:lnTo>
                    <a:lnTo>
                      <a:pt x="70" y="819"/>
                    </a:lnTo>
                    <a:lnTo>
                      <a:pt x="97" y="809"/>
                    </a:lnTo>
                    <a:lnTo>
                      <a:pt x="124" y="797"/>
                    </a:lnTo>
                    <a:lnTo>
                      <a:pt x="153" y="784"/>
                    </a:lnTo>
                    <a:lnTo>
                      <a:pt x="183" y="771"/>
                    </a:lnTo>
                    <a:lnTo>
                      <a:pt x="215" y="756"/>
                    </a:lnTo>
                    <a:lnTo>
                      <a:pt x="215" y="737"/>
                    </a:lnTo>
                    <a:lnTo>
                      <a:pt x="216" y="713"/>
                    </a:lnTo>
                    <a:lnTo>
                      <a:pt x="217" y="687"/>
                    </a:lnTo>
                    <a:lnTo>
                      <a:pt x="221" y="656"/>
                    </a:lnTo>
                    <a:lnTo>
                      <a:pt x="221" y="628"/>
                    </a:lnTo>
                    <a:lnTo>
                      <a:pt x="221" y="603"/>
                    </a:lnTo>
                    <a:lnTo>
                      <a:pt x="221" y="583"/>
                    </a:lnTo>
                    <a:lnTo>
                      <a:pt x="221" y="566"/>
                    </a:lnTo>
                    <a:lnTo>
                      <a:pt x="209" y="568"/>
                    </a:lnTo>
                    <a:lnTo>
                      <a:pt x="197" y="571"/>
                    </a:lnTo>
                    <a:lnTo>
                      <a:pt x="185" y="573"/>
                    </a:lnTo>
                    <a:lnTo>
                      <a:pt x="170" y="576"/>
                    </a:lnTo>
                    <a:lnTo>
                      <a:pt x="147" y="580"/>
                    </a:lnTo>
                    <a:lnTo>
                      <a:pt x="132" y="582"/>
                    </a:lnTo>
                    <a:lnTo>
                      <a:pt x="125" y="583"/>
                    </a:lnTo>
                    <a:lnTo>
                      <a:pt x="120" y="583"/>
                    </a:lnTo>
                    <a:lnTo>
                      <a:pt x="117" y="582"/>
                    </a:lnTo>
                    <a:lnTo>
                      <a:pt x="115" y="581"/>
                    </a:lnTo>
                    <a:lnTo>
                      <a:pt x="104" y="575"/>
                    </a:lnTo>
                    <a:lnTo>
                      <a:pt x="90" y="564"/>
                    </a:lnTo>
                    <a:lnTo>
                      <a:pt x="73" y="549"/>
                    </a:lnTo>
                    <a:lnTo>
                      <a:pt x="55" y="531"/>
                    </a:lnTo>
                    <a:lnTo>
                      <a:pt x="72" y="528"/>
                    </a:lnTo>
                    <a:lnTo>
                      <a:pt x="95" y="524"/>
                    </a:lnTo>
                    <a:lnTo>
                      <a:pt x="122" y="517"/>
                    </a:lnTo>
                    <a:lnTo>
                      <a:pt x="155" y="511"/>
                    </a:lnTo>
                    <a:lnTo>
                      <a:pt x="174" y="509"/>
                    </a:lnTo>
                    <a:lnTo>
                      <a:pt x="190" y="506"/>
                    </a:lnTo>
                    <a:lnTo>
                      <a:pt x="204" y="504"/>
                    </a:lnTo>
                    <a:lnTo>
                      <a:pt x="215" y="500"/>
                    </a:lnTo>
                    <a:lnTo>
                      <a:pt x="215" y="475"/>
                    </a:lnTo>
                    <a:lnTo>
                      <a:pt x="214" y="451"/>
                    </a:lnTo>
                    <a:lnTo>
                      <a:pt x="213" y="427"/>
                    </a:lnTo>
                    <a:lnTo>
                      <a:pt x="211" y="405"/>
                    </a:lnTo>
                    <a:lnTo>
                      <a:pt x="209" y="383"/>
                    </a:lnTo>
                    <a:lnTo>
                      <a:pt x="207" y="363"/>
                    </a:lnTo>
                    <a:lnTo>
                      <a:pt x="204" y="343"/>
                    </a:lnTo>
                    <a:lnTo>
                      <a:pt x="200" y="325"/>
                    </a:lnTo>
                    <a:lnTo>
                      <a:pt x="165" y="332"/>
                    </a:lnTo>
                    <a:lnTo>
                      <a:pt x="137" y="337"/>
                    </a:lnTo>
                    <a:lnTo>
                      <a:pt x="113" y="339"/>
                    </a:lnTo>
                    <a:lnTo>
                      <a:pt x="96" y="340"/>
                    </a:lnTo>
                    <a:lnTo>
                      <a:pt x="91" y="339"/>
                    </a:lnTo>
                    <a:lnTo>
                      <a:pt x="87" y="337"/>
                    </a:lnTo>
                    <a:lnTo>
                      <a:pt x="83" y="334"/>
                    </a:lnTo>
                    <a:lnTo>
                      <a:pt x="79" y="330"/>
                    </a:lnTo>
                    <a:lnTo>
                      <a:pt x="70" y="319"/>
                    </a:lnTo>
                    <a:lnTo>
                      <a:pt x="60" y="305"/>
                    </a:lnTo>
                    <a:lnTo>
                      <a:pt x="48" y="293"/>
                    </a:lnTo>
                    <a:lnTo>
                      <a:pt x="40" y="285"/>
                    </a:lnTo>
                    <a:lnTo>
                      <a:pt x="77" y="279"/>
                    </a:lnTo>
                    <a:lnTo>
                      <a:pt x="115" y="271"/>
                    </a:lnTo>
                    <a:lnTo>
                      <a:pt x="156" y="262"/>
                    </a:lnTo>
                    <a:lnTo>
                      <a:pt x="198" y="252"/>
                    </a:lnTo>
                    <a:lnTo>
                      <a:pt x="244" y="241"/>
                    </a:lnTo>
                    <a:lnTo>
                      <a:pt x="293" y="228"/>
                    </a:lnTo>
                    <a:lnTo>
                      <a:pt x="342" y="215"/>
                    </a:lnTo>
                    <a:lnTo>
                      <a:pt x="395" y="200"/>
                    </a:lnTo>
                    <a:lnTo>
                      <a:pt x="407" y="212"/>
                    </a:lnTo>
                    <a:lnTo>
                      <a:pt x="418" y="223"/>
                    </a:lnTo>
                    <a:lnTo>
                      <a:pt x="427" y="232"/>
                    </a:lnTo>
                    <a:lnTo>
                      <a:pt x="436" y="242"/>
                    </a:lnTo>
                    <a:lnTo>
                      <a:pt x="442" y="251"/>
                    </a:lnTo>
                    <a:lnTo>
                      <a:pt x="447" y="260"/>
                    </a:lnTo>
                    <a:lnTo>
                      <a:pt x="451" y="268"/>
                    </a:lnTo>
                    <a:lnTo>
                      <a:pt x="455" y="276"/>
                    </a:lnTo>
                    <a:lnTo>
                      <a:pt x="426" y="282"/>
                    </a:lnTo>
                    <a:lnTo>
                      <a:pt x="397" y="287"/>
                    </a:lnTo>
                    <a:lnTo>
                      <a:pt x="370" y="293"/>
                    </a:lnTo>
                    <a:lnTo>
                      <a:pt x="343" y="298"/>
                    </a:lnTo>
                    <a:lnTo>
                      <a:pt x="319" y="303"/>
                    </a:lnTo>
                    <a:lnTo>
                      <a:pt x="295" y="307"/>
                    </a:lnTo>
                    <a:lnTo>
                      <a:pt x="271" y="312"/>
                    </a:lnTo>
                    <a:lnTo>
                      <a:pt x="250" y="316"/>
                    </a:lnTo>
                    <a:lnTo>
                      <a:pt x="263" y="318"/>
                    </a:lnTo>
                    <a:lnTo>
                      <a:pt x="278" y="319"/>
                    </a:lnTo>
                    <a:lnTo>
                      <a:pt x="294" y="320"/>
                    </a:lnTo>
                    <a:lnTo>
                      <a:pt x="311" y="320"/>
                    </a:lnTo>
                    <a:lnTo>
                      <a:pt x="306" y="332"/>
                    </a:lnTo>
                    <a:lnTo>
                      <a:pt x="303" y="346"/>
                    </a:lnTo>
                    <a:lnTo>
                      <a:pt x="300" y="362"/>
                    </a:lnTo>
                    <a:lnTo>
                      <a:pt x="298" y="381"/>
                    </a:lnTo>
                    <a:lnTo>
                      <a:pt x="296" y="402"/>
                    </a:lnTo>
                    <a:lnTo>
                      <a:pt x="294" y="426"/>
                    </a:lnTo>
                    <a:lnTo>
                      <a:pt x="292" y="452"/>
                    </a:lnTo>
                    <a:lnTo>
                      <a:pt x="290" y="480"/>
                    </a:lnTo>
                    <a:lnTo>
                      <a:pt x="313" y="476"/>
                    </a:lnTo>
                    <a:lnTo>
                      <a:pt x="335" y="470"/>
                    </a:lnTo>
                    <a:lnTo>
                      <a:pt x="357" y="463"/>
                    </a:lnTo>
                    <a:lnTo>
                      <a:pt x="380" y="456"/>
                    </a:lnTo>
                    <a:lnTo>
                      <a:pt x="390" y="463"/>
                    </a:lnTo>
                    <a:lnTo>
                      <a:pt x="399" y="471"/>
                    </a:lnTo>
                    <a:lnTo>
                      <a:pt x="407" y="479"/>
                    </a:lnTo>
                    <a:lnTo>
                      <a:pt x="414" y="488"/>
                    </a:lnTo>
                    <a:lnTo>
                      <a:pt x="421" y="495"/>
                    </a:lnTo>
                    <a:lnTo>
                      <a:pt x="426" y="504"/>
                    </a:lnTo>
                    <a:lnTo>
                      <a:pt x="431" y="512"/>
                    </a:lnTo>
                    <a:lnTo>
                      <a:pt x="436" y="520"/>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414" name="Freeform 12"/>
              <p:cNvSpPr/>
              <p:nvPr/>
            </p:nvSpPr>
            <p:spPr>
              <a:xfrm>
                <a:off x="2408760" y="1107000"/>
                <a:ext cx="171000" cy="159120"/>
              </a:xfrm>
              <a:custGeom>
                <a:avLst/>
                <a:gdLst>
                  <a:gd name="textAreaLeft" fmla="*/ 0 w 171000"/>
                  <a:gd name="textAreaRight" fmla="*/ 171360 w 171000"/>
                  <a:gd name="textAreaTop" fmla="*/ 0 h 159120"/>
                  <a:gd name="textAreaBottom" fmla="*/ 159480 h 159120"/>
                </a:gdLst>
                <a:ahLst/>
                <a:rect l="textAreaLeft" t="textAreaTop" r="textAreaRight" b="textAreaBottom"/>
                <a:pathLst>
                  <a:path w="1146" h="1150">
                    <a:moveTo>
                      <a:pt x="1064" y="535"/>
                    </a:moveTo>
                    <a:lnTo>
                      <a:pt x="1067" y="534"/>
                    </a:lnTo>
                    <a:lnTo>
                      <a:pt x="1071" y="534"/>
                    </a:lnTo>
                    <a:lnTo>
                      <a:pt x="1075" y="534"/>
                    </a:lnTo>
                    <a:lnTo>
                      <a:pt x="1079" y="535"/>
                    </a:lnTo>
                    <a:lnTo>
                      <a:pt x="1086" y="539"/>
                    </a:lnTo>
                    <a:lnTo>
                      <a:pt x="1094" y="544"/>
                    </a:lnTo>
                    <a:lnTo>
                      <a:pt x="1099" y="549"/>
                    </a:lnTo>
                    <a:lnTo>
                      <a:pt x="1105" y="554"/>
                    </a:lnTo>
                    <a:lnTo>
                      <a:pt x="1112" y="561"/>
                    </a:lnTo>
                    <a:lnTo>
                      <a:pt x="1119" y="570"/>
                    </a:lnTo>
                    <a:lnTo>
                      <a:pt x="1125" y="577"/>
                    </a:lnTo>
                    <a:lnTo>
                      <a:pt x="1131" y="584"/>
                    </a:lnTo>
                    <a:lnTo>
                      <a:pt x="1136" y="590"/>
                    </a:lnTo>
                    <a:lnTo>
                      <a:pt x="1139" y="595"/>
                    </a:lnTo>
                    <a:lnTo>
                      <a:pt x="1142" y="599"/>
                    </a:lnTo>
                    <a:lnTo>
                      <a:pt x="1145" y="604"/>
                    </a:lnTo>
                    <a:lnTo>
                      <a:pt x="1146" y="607"/>
                    </a:lnTo>
                    <a:lnTo>
                      <a:pt x="1143" y="610"/>
                    </a:lnTo>
                    <a:lnTo>
                      <a:pt x="1140" y="612"/>
                    </a:lnTo>
                    <a:lnTo>
                      <a:pt x="1135" y="613"/>
                    </a:lnTo>
                    <a:lnTo>
                      <a:pt x="1128" y="614"/>
                    </a:lnTo>
                    <a:lnTo>
                      <a:pt x="1119" y="615"/>
                    </a:lnTo>
                    <a:lnTo>
                      <a:pt x="1104" y="615"/>
                    </a:lnTo>
                    <a:lnTo>
                      <a:pt x="1087" y="615"/>
                    </a:lnTo>
                    <a:lnTo>
                      <a:pt x="1068" y="615"/>
                    </a:lnTo>
                    <a:lnTo>
                      <a:pt x="1045" y="616"/>
                    </a:lnTo>
                    <a:lnTo>
                      <a:pt x="1020" y="616"/>
                    </a:lnTo>
                    <a:lnTo>
                      <a:pt x="990" y="617"/>
                    </a:lnTo>
                    <a:lnTo>
                      <a:pt x="958" y="618"/>
                    </a:lnTo>
                    <a:lnTo>
                      <a:pt x="923" y="620"/>
                    </a:lnTo>
                    <a:lnTo>
                      <a:pt x="907" y="622"/>
                    </a:lnTo>
                    <a:lnTo>
                      <a:pt x="894" y="624"/>
                    </a:lnTo>
                    <a:lnTo>
                      <a:pt x="883" y="625"/>
                    </a:lnTo>
                    <a:lnTo>
                      <a:pt x="873" y="625"/>
                    </a:lnTo>
                    <a:lnTo>
                      <a:pt x="871" y="646"/>
                    </a:lnTo>
                    <a:lnTo>
                      <a:pt x="867" y="673"/>
                    </a:lnTo>
                    <a:lnTo>
                      <a:pt x="864" y="705"/>
                    </a:lnTo>
                    <a:lnTo>
                      <a:pt x="859" y="745"/>
                    </a:lnTo>
                    <a:lnTo>
                      <a:pt x="856" y="766"/>
                    </a:lnTo>
                    <a:lnTo>
                      <a:pt x="853" y="785"/>
                    </a:lnTo>
                    <a:lnTo>
                      <a:pt x="851" y="802"/>
                    </a:lnTo>
                    <a:lnTo>
                      <a:pt x="849" y="816"/>
                    </a:lnTo>
                    <a:lnTo>
                      <a:pt x="863" y="816"/>
                    </a:lnTo>
                    <a:lnTo>
                      <a:pt x="879" y="816"/>
                    </a:lnTo>
                    <a:lnTo>
                      <a:pt x="898" y="816"/>
                    </a:lnTo>
                    <a:lnTo>
                      <a:pt x="919" y="816"/>
                    </a:lnTo>
                    <a:lnTo>
                      <a:pt x="942" y="818"/>
                    </a:lnTo>
                    <a:lnTo>
                      <a:pt x="961" y="819"/>
                    </a:lnTo>
                    <a:lnTo>
                      <a:pt x="977" y="820"/>
                    </a:lnTo>
                    <a:lnTo>
                      <a:pt x="989" y="820"/>
                    </a:lnTo>
                    <a:lnTo>
                      <a:pt x="994" y="820"/>
                    </a:lnTo>
                    <a:lnTo>
                      <a:pt x="1001" y="821"/>
                    </a:lnTo>
                    <a:lnTo>
                      <a:pt x="1005" y="822"/>
                    </a:lnTo>
                    <a:lnTo>
                      <a:pt x="1009" y="824"/>
                    </a:lnTo>
                    <a:lnTo>
                      <a:pt x="1012" y="826"/>
                    </a:lnTo>
                    <a:lnTo>
                      <a:pt x="1015" y="828"/>
                    </a:lnTo>
                    <a:lnTo>
                      <a:pt x="1017" y="831"/>
                    </a:lnTo>
                    <a:lnTo>
                      <a:pt x="1019" y="835"/>
                    </a:lnTo>
                    <a:lnTo>
                      <a:pt x="1030" y="852"/>
                    </a:lnTo>
                    <a:lnTo>
                      <a:pt x="1040" y="868"/>
                    </a:lnTo>
                    <a:lnTo>
                      <a:pt x="1048" y="882"/>
                    </a:lnTo>
                    <a:lnTo>
                      <a:pt x="1053" y="895"/>
                    </a:lnTo>
                    <a:lnTo>
                      <a:pt x="1056" y="902"/>
                    </a:lnTo>
                    <a:lnTo>
                      <a:pt x="1057" y="908"/>
                    </a:lnTo>
                    <a:lnTo>
                      <a:pt x="1056" y="912"/>
                    </a:lnTo>
                    <a:lnTo>
                      <a:pt x="1053" y="915"/>
                    </a:lnTo>
                    <a:lnTo>
                      <a:pt x="1050" y="917"/>
                    </a:lnTo>
                    <a:lnTo>
                      <a:pt x="1046" y="917"/>
                    </a:lnTo>
                    <a:lnTo>
                      <a:pt x="1041" y="917"/>
                    </a:lnTo>
                    <a:lnTo>
                      <a:pt x="1033" y="915"/>
                    </a:lnTo>
                    <a:lnTo>
                      <a:pt x="1011" y="911"/>
                    </a:lnTo>
                    <a:lnTo>
                      <a:pt x="988" y="906"/>
                    </a:lnTo>
                    <a:lnTo>
                      <a:pt x="964" y="902"/>
                    </a:lnTo>
                    <a:lnTo>
                      <a:pt x="940" y="899"/>
                    </a:lnTo>
                    <a:lnTo>
                      <a:pt x="916" y="896"/>
                    </a:lnTo>
                    <a:lnTo>
                      <a:pt x="890" y="894"/>
                    </a:lnTo>
                    <a:lnTo>
                      <a:pt x="865" y="892"/>
                    </a:lnTo>
                    <a:lnTo>
                      <a:pt x="838" y="890"/>
                    </a:lnTo>
                    <a:lnTo>
                      <a:pt x="836" y="898"/>
                    </a:lnTo>
                    <a:lnTo>
                      <a:pt x="835" y="908"/>
                    </a:lnTo>
                    <a:lnTo>
                      <a:pt x="834" y="918"/>
                    </a:lnTo>
                    <a:lnTo>
                      <a:pt x="833" y="930"/>
                    </a:lnTo>
                    <a:lnTo>
                      <a:pt x="831" y="940"/>
                    </a:lnTo>
                    <a:lnTo>
                      <a:pt x="830" y="949"/>
                    </a:lnTo>
                    <a:lnTo>
                      <a:pt x="829" y="958"/>
                    </a:lnTo>
                    <a:lnTo>
                      <a:pt x="829" y="965"/>
                    </a:lnTo>
                    <a:lnTo>
                      <a:pt x="824" y="1002"/>
                    </a:lnTo>
                    <a:lnTo>
                      <a:pt x="817" y="1035"/>
                    </a:lnTo>
                    <a:lnTo>
                      <a:pt x="812" y="1064"/>
                    </a:lnTo>
                    <a:lnTo>
                      <a:pt x="805" y="1089"/>
                    </a:lnTo>
                    <a:lnTo>
                      <a:pt x="798" y="1110"/>
                    </a:lnTo>
                    <a:lnTo>
                      <a:pt x="790" y="1127"/>
                    </a:lnTo>
                    <a:lnTo>
                      <a:pt x="787" y="1135"/>
                    </a:lnTo>
                    <a:lnTo>
                      <a:pt x="782" y="1141"/>
                    </a:lnTo>
                    <a:lnTo>
                      <a:pt x="778" y="1146"/>
                    </a:lnTo>
                    <a:lnTo>
                      <a:pt x="774" y="1150"/>
                    </a:lnTo>
                    <a:lnTo>
                      <a:pt x="765" y="1147"/>
                    </a:lnTo>
                    <a:lnTo>
                      <a:pt x="757" y="1144"/>
                    </a:lnTo>
                    <a:lnTo>
                      <a:pt x="747" y="1139"/>
                    </a:lnTo>
                    <a:lnTo>
                      <a:pt x="738" y="1134"/>
                    </a:lnTo>
                    <a:lnTo>
                      <a:pt x="717" y="1121"/>
                    </a:lnTo>
                    <a:lnTo>
                      <a:pt x="694" y="1104"/>
                    </a:lnTo>
                    <a:lnTo>
                      <a:pt x="671" y="1085"/>
                    </a:lnTo>
                    <a:lnTo>
                      <a:pt x="646" y="1061"/>
                    </a:lnTo>
                    <a:lnTo>
                      <a:pt x="618" y="1035"/>
                    </a:lnTo>
                    <a:lnTo>
                      <a:pt x="588" y="1005"/>
                    </a:lnTo>
                    <a:lnTo>
                      <a:pt x="582" y="999"/>
                    </a:lnTo>
                    <a:lnTo>
                      <a:pt x="579" y="993"/>
                    </a:lnTo>
                    <a:lnTo>
                      <a:pt x="578" y="990"/>
                    </a:lnTo>
                    <a:lnTo>
                      <a:pt x="577" y="988"/>
                    </a:lnTo>
                    <a:lnTo>
                      <a:pt x="578" y="986"/>
                    </a:lnTo>
                    <a:lnTo>
                      <a:pt x="579" y="985"/>
                    </a:lnTo>
                    <a:lnTo>
                      <a:pt x="579" y="983"/>
                    </a:lnTo>
                    <a:lnTo>
                      <a:pt x="580" y="981"/>
                    </a:lnTo>
                    <a:lnTo>
                      <a:pt x="581" y="980"/>
                    </a:lnTo>
                    <a:lnTo>
                      <a:pt x="583" y="979"/>
                    </a:lnTo>
                    <a:lnTo>
                      <a:pt x="590" y="979"/>
                    </a:lnTo>
                    <a:lnTo>
                      <a:pt x="599" y="980"/>
                    </a:lnTo>
                    <a:lnTo>
                      <a:pt x="626" y="986"/>
                    </a:lnTo>
                    <a:lnTo>
                      <a:pt x="649" y="990"/>
                    </a:lnTo>
                    <a:lnTo>
                      <a:pt x="669" y="993"/>
                    </a:lnTo>
                    <a:lnTo>
                      <a:pt x="686" y="993"/>
                    </a:lnTo>
                    <a:lnTo>
                      <a:pt x="693" y="992"/>
                    </a:lnTo>
                    <a:lnTo>
                      <a:pt x="700" y="990"/>
                    </a:lnTo>
                    <a:lnTo>
                      <a:pt x="705" y="988"/>
                    </a:lnTo>
                    <a:lnTo>
                      <a:pt x="709" y="986"/>
                    </a:lnTo>
                    <a:lnTo>
                      <a:pt x="712" y="983"/>
                    </a:lnTo>
                    <a:lnTo>
                      <a:pt x="716" y="979"/>
                    </a:lnTo>
                    <a:lnTo>
                      <a:pt x="718" y="975"/>
                    </a:lnTo>
                    <a:lnTo>
                      <a:pt x="719" y="970"/>
                    </a:lnTo>
                    <a:lnTo>
                      <a:pt x="723" y="953"/>
                    </a:lnTo>
                    <a:lnTo>
                      <a:pt x="727" y="934"/>
                    </a:lnTo>
                    <a:lnTo>
                      <a:pt x="730" y="911"/>
                    </a:lnTo>
                    <a:lnTo>
                      <a:pt x="734" y="886"/>
                    </a:lnTo>
                    <a:lnTo>
                      <a:pt x="674" y="886"/>
                    </a:lnTo>
                    <a:lnTo>
                      <a:pt x="617" y="888"/>
                    </a:lnTo>
                    <a:lnTo>
                      <a:pt x="562" y="891"/>
                    </a:lnTo>
                    <a:lnTo>
                      <a:pt x="511" y="895"/>
                    </a:lnTo>
                    <a:lnTo>
                      <a:pt x="462" y="900"/>
                    </a:lnTo>
                    <a:lnTo>
                      <a:pt x="417" y="908"/>
                    </a:lnTo>
                    <a:lnTo>
                      <a:pt x="373" y="916"/>
                    </a:lnTo>
                    <a:lnTo>
                      <a:pt x="333" y="925"/>
                    </a:lnTo>
                    <a:lnTo>
                      <a:pt x="333" y="913"/>
                    </a:lnTo>
                    <a:lnTo>
                      <a:pt x="331" y="900"/>
                    </a:lnTo>
                    <a:lnTo>
                      <a:pt x="329" y="889"/>
                    </a:lnTo>
                    <a:lnTo>
                      <a:pt x="325" y="876"/>
                    </a:lnTo>
                    <a:lnTo>
                      <a:pt x="319" y="864"/>
                    </a:lnTo>
                    <a:lnTo>
                      <a:pt x="314" y="853"/>
                    </a:lnTo>
                    <a:lnTo>
                      <a:pt x="307" y="841"/>
                    </a:lnTo>
                    <a:lnTo>
                      <a:pt x="298" y="830"/>
                    </a:lnTo>
                    <a:lnTo>
                      <a:pt x="310" y="820"/>
                    </a:lnTo>
                    <a:lnTo>
                      <a:pt x="322" y="807"/>
                    </a:lnTo>
                    <a:lnTo>
                      <a:pt x="333" y="791"/>
                    </a:lnTo>
                    <a:lnTo>
                      <a:pt x="346" y="772"/>
                    </a:lnTo>
                    <a:lnTo>
                      <a:pt x="359" y="751"/>
                    </a:lnTo>
                    <a:lnTo>
                      <a:pt x="371" y="727"/>
                    </a:lnTo>
                    <a:lnTo>
                      <a:pt x="385" y="700"/>
                    </a:lnTo>
                    <a:lnTo>
                      <a:pt x="399" y="670"/>
                    </a:lnTo>
                    <a:lnTo>
                      <a:pt x="384" y="675"/>
                    </a:lnTo>
                    <a:lnTo>
                      <a:pt x="368" y="678"/>
                    </a:lnTo>
                    <a:lnTo>
                      <a:pt x="353" y="679"/>
                    </a:lnTo>
                    <a:lnTo>
                      <a:pt x="339" y="680"/>
                    </a:lnTo>
                    <a:lnTo>
                      <a:pt x="331" y="680"/>
                    </a:lnTo>
                    <a:lnTo>
                      <a:pt x="324" y="679"/>
                    </a:lnTo>
                    <a:lnTo>
                      <a:pt x="316" y="677"/>
                    </a:lnTo>
                    <a:lnTo>
                      <a:pt x="309" y="675"/>
                    </a:lnTo>
                    <a:lnTo>
                      <a:pt x="294" y="662"/>
                    </a:lnTo>
                    <a:lnTo>
                      <a:pt x="281" y="649"/>
                    </a:lnTo>
                    <a:lnTo>
                      <a:pt x="270" y="634"/>
                    </a:lnTo>
                    <a:lnTo>
                      <a:pt x="258" y="620"/>
                    </a:lnTo>
                    <a:lnTo>
                      <a:pt x="277" y="620"/>
                    </a:lnTo>
                    <a:lnTo>
                      <a:pt x="296" y="620"/>
                    </a:lnTo>
                    <a:lnTo>
                      <a:pt x="316" y="618"/>
                    </a:lnTo>
                    <a:lnTo>
                      <a:pt x="336" y="617"/>
                    </a:lnTo>
                    <a:lnTo>
                      <a:pt x="357" y="616"/>
                    </a:lnTo>
                    <a:lnTo>
                      <a:pt x="377" y="614"/>
                    </a:lnTo>
                    <a:lnTo>
                      <a:pt x="398" y="612"/>
                    </a:lnTo>
                    <a:lnTo>
                      <a:pt x="419" y="610"/>
                    </a:lnTo>
                    <a:lnTo>
                      <a:pt x="429" y="574"/>
                    </a:lnTo>
                    <a:lnTo>
                      <a:pt x="438" y="540"/>
                    </a:lnTo>
                    <a:lnTo>
                      <a:pt x="445" y="506"/>
                    </a:lnTo>
                    <a:lnTo>
                      <a:pt x="451" y="473"/>
                    </a:lnTo>
                    <a:lnTo>
                      <a:pt x="455" y="443"/>
                    </a:lnTo>
                    <a:lnTo>
                      <a:pt x="458" y="412"/>
                    </a:lnTo>
                    <a:lnTo>
                      <a:pt x="459" y="383"/>
                    </a:lnTo>
                    <a:lnTo>
                      <a:pt x="458" y="355"/>
                    </a:lnTo>
                    <a:lnTo>
                      <a:pt x="544" y="395"/>
                    </a:lnTo>
                    <a:lnTo>
                      <a:pt x="580" y="391"/>
                    </a:lnTo>
                    <a:lnTo>
                      <a:pt x="615" y="385"/>
                    </a:lnTo>
                    <a:lnTo>
                      <a:pt x="647" y="379"/>
                    </a:lnTo>
                    <a:lnTo>
                      <a:pt x="677" y="371"/>
                    </a:lnTo>
                    <a:lnTo>
                      <a:pt x="706" y="362"/>
                    </a:lnTo>
                    <a:lnTo>
                      <a:pt x="733" y="352"/>
                    </a:lnTo>
                    <a:lnTo>
                      <a:pt x="757" y="342"/>
                    </a:lnTo>
                    <a:lnTo>
                      <a:pt x="779" y="329"/>
                    </a:lnTo>
                    <a:lnTo>
                      <a:pt x="781" y="330"/>
                    </a:lnTo>
                    <a:lnTo>
                      <a:pt x="783" y="331"/>
                    </a:lnTo>
                    <a:lnTo>
                      <a:pt x="787" y="332"/>
                    </a:lnTo>
                    <a:lnTo>
                      <a:pt x="789" y="334"/>
                    </a:lnTo>
                    <a:lnTo>
                      <a:pt x="813" y="346"/>
                    </a:lnTo>
                    <a:lnTo>
                      <a:pt x="835" y="357"/>
                    </a:lnTo>
                    <a:lnTo>
                      <a:pt x="856" y="366"/>
                    </a:lnTo>
                    <a:lnTo>
                      <a:pt x="877" y="374"/>
                    </a:lnTo>
                    <a:lnTo>
                      <a:pt x="895" y="380"/>
                    </a:lnTo>
                    <a:lnTo>
                      <a:pt x="910" y="384"/>
                    </a:lnTo>
                    <a:lnTo>
                      <a:pt x="925" y="387"/>
                    </a:lnTo>
                    <a:lnTo>
                      <a:pt x="939" y="390"/>
                    </a:lnTo>
                    <a:lnTo>
                      <a:pt x="932" y="403"/>
                    </a:lnTo>
                    <a:lnTo>
                      <a:pt x="924" y="418"/>
                    </a:lnTo>
                    <a:lnTo>
                      <a:pt x="918" y="436"/>
                    </a:lnTo>
                    <a:lnTo>
                      <a:pt x="912" y="455"/>
                    </a:lnTo>
                    <a:lnTo>
                      <a:pt x="905" y="475"/>
                    </a:lnTo>
                    <a:lnTo>
                      <a:pt x="899" y="499"/>
                    </a:lnTo>
                    <a:lnTo>
                      <a:pt x="894" y="523"/>
                    </a:lnTo>
                    <a:lnTo>
                      <a:pt x="888" y="550"/>
                    </a:lnTo>
                    <a:lnTo>
                      <a:pt x="910" y="547"/>
                    </a:lnTo>
                    <a:lnTo>
                      <a:pt x="932" y="545"/>
                    </a:lnTo>
                    <a:lnTo>
                      <a:pt x="953" y="543"/>
                    </a:lnTo>
                    <a:lnTo>
                      <a:pt x="975" y="541"/>
                    </a:lnTo>
                    <a:lnTo>
                      <a:pt x="997" y="539"/>
                    </a:lnTo>
                    <a:lnTo>
                      <a:pt x="1020" y="538"/>
                    </a:lnTo>
                    <a:lnTo>
                      <a:pt x="1042" y="536"/>
                    </a:lnTo>
                    <a:lnTo>
                      <a:pt x="1064" y="535"/>
                    </a:lnTo>
                    <a:close/>
                    <a:moveTo>
                      <a:pt x="544" y="0"/>
                    </a:moveTo>
                    <a:lnTo>
                      <a:pt x="559" y="9"/>
                    </a:lnTo>
                    <a:lnTo>
                      <a:pt x="574" y="19"/>
                    </a:lnTo>
                    <a:lnTo>
                      <a:pt x="588" y="27"/>
                    </a:lnTo>
                    <a:lnTo>
                      <a:pt x="603" y="35"/>
                    </a:lnTo>
                    <a:lnTo>
                      <a:pt x="618" y="42"/>
                    </a:lnTo>
                    <a:lnTo>
                      <a:pt x="634" y="48"/>
                    </a:lnTo>
                    <a:lnTo>
                      <a:pt x="649" y="55"/>
                    </a:lnTo>
                    <a:lnTo>
                      <a:pt x="664" y="60"/>
                    </a:lnTo>
                    <a:lnTo>
                      <a:pt x="655" y="66"/>
                    </a:lnTo>
                    <a:lnTo>
                      <a:pt x="646" y="74"/>
                    </a:lnTo>
                    <a:lnTo>
                      <a:pt x="637" y="82"/>
                    </a:lnTo>
                    <a:lnTo>
                      <a:pt x="629" y="92"/>
                    </a:lnTo>
                    <a:lnTo>
                      <a:pt x="620" y="102"/>
                    </a:lnTo>
                    <a:lnTo>
                      <a:pt x="611" y="114"/>
                    </a:lnTo>
                    <a:lnTo>
                      <a:pt x="602" y="127"/>
                    </a:lnTo>
                    <a:lnTo>
                      <a:pt x="594" y="139"/>
                    </a:lnTo>
                    <a:lnTo>
                      <a:pt x="587" y="152"/>
                    </a:lnTo>
                    <a:lnTo>
                      <a:pt x="579" y="169"/>
                    </a:lnTo>
                    <a:lnTo>
                      <a:pt x="572" y="184"/>
                    </a:lnTo>
                    <a:lnTo>
                      <a:pt x="565" y="196"/>
                    </a:lnTo>
                    <a:lnTo>
                      <a:pt x="559" y="206"/>
                    </a:lnTo>
                    <a:lnTo>
                      <a:pt x="554" y="215"/>
                    </a:lnTo>
                    <a:lnTo>
                      <a:pt x="577" y="208"/>
                    </a:lnTo>
                    <a:lnTo>
                      <a:pt x="604" y="201"/>
                    </a:lnTo>
                    <a:lnTo>
                      <a:pt x="639" y="191"/>
                    </a:lnTo>
                    <a:lnTo>
                      <a:pt x="679" y="180"/>
                    </a:lnTo>
                    <a:lnTo>
                      <a:pt x="708" y="172"/>
                    </a:lnTo>
                    <a:lnTo>
                      <a:pt x="736" y="166"/>
                    </a:lnTo>
                    <a:lnTo>
                      <a:pt x="761" y="160"/>
                    </a:lnTo>
                    <a:lnTo>
                      <a:pt x="787" y="153"/>
                    </a:lnTo>
                    <a:lnTo>
                      <a:pt x="809" y="148"/>
                    </a:lnTo>
                    <a:lnTo>
                      <a:pt x="831" y="143"/>
                    </a:lnTo>
                    <a:lnTo>
                      <a:pt x="850" y="138"/>
                    </a:lnTo>
                    <a:lnTo>
                      <a:pt x="868" y="134"/>
                    </a:lnTo>
                    <a:lnTo>
                      <a:pt x="876" y="133"/>
                    </a:lnTo>
                    <a:lnTo>
                      <a:pt x="882" y="133"/>
                    </a:lnTo>
                    <a:lnTo>
                      <a:pt x="888" y="135"/>
                    </a:lnTo>
                    <a:lnTo>
                      <a:pt x="894" y="139"/>
                    </a:lnTo>
                    <a:lnTo>
                      <a:pt x="895" y="137"/>
                    </a:lnTo>
                    <a:lnTo>
                      <a:pt x="897" y="137"/>
                    </a:lnTo>
                    <a:lnTo>
                      <a:pt x="899" y="139"/>
                    </a:lnTo>
                    <a:lnTo>
                      <a:pt x="913" y="151"/>
                    </a:lnTo>
                    <a:lnTo>
                      <a:pt x="923" y="162"/>
                    </a:lnTo>
                    <a:lnTo>
                      <a:pt x="933" y="171"/>
                    </a:lnTo>
                    <a:lnTo>
                      <a:pt x="939" y="180"/>
                    </a:lnTo>
                    <a:lnTo>
                      <a:pt x="942" y="183"/>
                    </a:lnTo>
                    <a:lnTo>
                      <a:pt x="944" y="186"/>
                    </a:lnTo>
                    <a:lnTo>
                      <a:pt x="945" y="189"/>
                    </a:lnTo>
                    <a:lnTo>
                      <a:pt x="945" y="192"/>
                    </a:lnTo>
                    <a:lnTo>
                      <a:pt x="943" y="195"/>
                    </a:lnTo>
                    <a:lnTo>
                      <a:pt x="941" y="197"/>
                    </a:lnTo>
                    <a:lnTo>
                      <a:pt x="938" y="198"/>
                    </a:lnTo>
                    <a:lnTo>
                      <a:pt x="934" y="200"/>
                    </a:lnTo>
                    <a:lnTo>
                      <a:pt x="871" y="212"/>
                    </a:lnTo>
                    <a:lnTo>
                      <a:pt x="815" y="222"/>
                    </a:lnTo>
                    <a:lnTo>
                      <a:pt x="765" y="232"/>
                    </a:lnTo>
                    <a:lnTo>
                      <a:pt x="721" y="239"/>
                    </a:lnTo>
                    <a:lnTo>
                      <a:pt x="683" y="247"/>
                    </a:lnTo>
                    <a:lnTo>
                      <a:pt x="651" y="252"/>
                    </a:lnTo>
                    <a:lnTo>
                      <a:pt x="624" y="256"/>
                    </a:lnTo>
                    <a:lnTo>
                      <a:pt x="603" y="259"/>
                    </a:lnTo>
                    <a:lnTo>
                      <a:pt x="593" y="256"/>
                    </a:lnTo>
                    <a:lnTo>
                      <a:pt x="580" y="251"/>
                    </a:lnTo>
                    <a:lnTo>
                      <a:pt x="565" y="243"/>
                    </a:lnTo>
                    <a:lnTo>
                      <a:pt x="548" y="235"/>
                    </a:lnTo>
                    <a:lnTo>
                      <a:pt x="545" y="231"/>
                    </a:lnTo>
                    <a:lnTo>
                      <a:pt x="544" y="230"/>
                    </a:lnTo>
                    <a:lnTo>
                      <a:pt x="538" y="238"/>
                    </a:lnTo>
                    <a:lnTo>
                      <a:pt x="531" y="249"/>
                    </a:lnTo>
                    <a:lnTo>
                      <a:pt x="523" y="260"/>
                    </a:lnTo>
                    <a:lnTo>
                      <a:pt x="513" y="275"/>
                    </a:lnTo>
                    <a:lnTo>
                      <a:pt x="497" y="302"/>
                    </a:lnTo>
                    <a:lnTo>
                      <a:pt x="484" y="324"/>
                    </a:lnTo>
                    <a:lnTo>
                      <a:pt x="472" y="340"/>
                    </a:lnTo>
                    <a:lnTo>
                      <a:pt x="463" y="349"/>
                    </a:lnTo>
                    <a:lnTo>
                      <a:pt x="456" y="359"/>
                    </a:lnTo>
                    <a:lnTo>
                      <a:pt x="448" y="367"/>
                    </a:lnTo>
                    <a:lnTo>
                      <a:pt x="440" y="375"/>
                    </a:lnTo>
                    <a:lnTo>
                      <a:pt x="431" y="381"/>
                    </a:lnTo>
                    <a:lnTo>
                      <a:pt x="422" y="386"/>
                    </a:lnTo>
                    <a:lnTo>
                      <a:pt x="413" y="391"/>
                    </a:lnTo>
                    <a:lnTo>
                      <a:pt x="403" y="394"/>
                    </a:lnTo>
                    <a:lnTo>
                      <a:pt x="394" y="396"/>
                    </a:lnTo>
                    <a:lnTo>
                      <a:pt x="383" y="397"/>
                    </a:lnTo>
                    <a:lnTo>
                      <a:pt x="373" y="397"/>
                    </a:lnTo>
                    <a:lnTo>
                      <a:pt x="362" y="396"/>
                    </a:lnTo>
                    <a:lnTo>
                      <a:pt x="351" y="394"/>
                    </a:lnTo>
                    <a:lnTo>
                      <a:pt x="340" y="391"/>
                    </a:lnTo>
                    <a:lnTo>
                      <a:pt x="328" y="386"/>
                    </a:lnTo>
                    <a:lnTo>
                      <a:pt x="316" y="381"/>
                    </a:lnTo>
                    <a:lnTo>
                      <a:pt x="304" y="375"/>
                    </a:lnTo>
                    <a:lnTo>
                      <a:pt x="327" y="357"/>
                    </a:lnTo>
                    <a:lnTo>
                      <a:pt x="350" y="339"/>
                    </a:lnTo>
                    <a:lnTo>
                      <a:pt x="371" y="319"/>
                    </a:lnTo>
                    <a:lnTo>
                      <a:pt x="391" y="298"/>
                    </a:lnTo>
                    <a:lnTo>
                      <a:pt x="411" y="278"/>
                    </a:lnTo>
                    <a:lnTo>
                      <a:pt x="429" y="256"/>
                    </a:lnTo>
                    <a:lnTo>
                      <a:pt x="445" y="234"/>
                    </a:lnTo>
                    <a:lnTo>
                      <a:pt x="461" y="210"/>
                    </a:lnTo>
                    <a:lnTo>
                      <a:pt x="475" y="187"/>
                    </a:lnTo>
                    <a:lnTo>
                      <a:pt x="489" y="163"/>
                    </a:lnTo>
                    <a:lnTo>
                      <a:pt x="501" y="137"/>
                    </a:lnTo>
                    <a:lnTo>
                      <a:pt x="511" y="111"/>
                    </a:lnTo>
                    <a:lnTo>
                      <a:pt x="522" y="84"/>
                    </a:lnTo>
                    <a:lnTo>
                      <a:pt x="530" y="57"/>
                    </a:lnTo>
                    <a:lnTo>
                      <a:pt x="538" y="28"/>
                    </a:lnTo>
                    <a:lnTo>
                      <a:pt x="544" y="0"/>
                    </a:lnTo>
                    <a:close/>
                    <a:moveTo>
                      <a:pt x="399" y="835"/>
                    </a:moveTo>
                    <a:lnTo>
                      <a:pt x="413" y="835"/>
                    </a:lnTo>
                    <a:lnTo>
                      <a:pt x="432" y="834"/>
                    </a:lnTo>
                    <a:lnTo>
                      <a:pt x="456" y="833"/>
                    </a:lnTo>
                    <a:lnTo>
                      <a:pt x="484" y="830"/>
                    </a:lnTo>
                    <a:lnTo>
                      <a:pt x="525" y="827"/>
                    </a:lnTo>
                    <a:lnTo>
                      <a:pt x="564" y="826"/>
                    </a:lnTo>
                    <a:lnTo>
                      <a:pt x="600" y="824"/>
                    </a:lnTo>
                    <a:lnTo>
                      <a:pt x="635" y="823"/>
                    </a:lnTo>
                    <a:lnTo>
                      <a:pt x="667" y="822"/>
                    </a:lnTo>
                    <a:lnTo>
                      <a:pt x="697" y="821"/>
                    </a:lnTo>
                    <a:lnTo>
                      <a:pt x="724" y="820"/>
                    </a:lnTo>
                    <a:lnTo>
                      <a:pt x="748" y="820"/>
                    </a:lnTo>
                    <a:lnTo>
                      <a:pt x="753" y="798"/>
                    </a:lnTo>
                    <a:lnTo>
                      <a:pt x="756" y="774"/>
                    </a:lnTo>
                    <a:lnTo>
                      <a:pt x="759" y="751"/>
                    </a:lnTo>
                    <a:lnTo>
                      <a:pt x="762" y="728"/>
                    </a:lnTo>
                    <a:lnTo>
                      <a:pt x="765" y="703"/>
                    </a:lnTo>
                    <a:lnTo>
                      <a:pt x="769" y="679"/>
                    </a:lnTo>
                    <a:lnTo>
                      <a:pt x="771" y="655"/>
                    </a:lnTo>
                    <a:lnTo>
                      <a:pt x="774" y="630"/>
                    </a:lnTo>
                    <a:lnTo>
                      <a:pt x="734" y="633"/>
                    </a:lnTo>
                    <a:lnTo>
                      <a:pt x="694" y="638"/>
                    </a:lnTo>
                    <a:lnTo>
                      <a:pt x="655" y="641"/>
                    </a:lnTo>
                    <a:lnTo>
                      <a:pt x="617" y="645"/>
                    </a:lnTo>
                    <a:lnTo>
                      <a:pt x="579" y="648"/>
                    </a:lnTo>
                    <a:lnTo>
                      <a:pt x="542" y="652"/>
                    </a:lnTo>
                    <a:lnTo>
                      <a:pt x="505" y="657"/>
                    </a:lnTo>
                    <a:lnTo>
                      <a:pt x="469" y="660"/>
                    </a:lnTo>
                    <a:lnTo>
                      <a:pt x="461" y="680"/>
                    </a:lnTo>
                    <a:lnTo>
                      <a:pt x="455" y="701"/>
                    </a:lnTo>
                    <a:lnTo>
                      <a:pt x="447" y="722"/>
                    </a:lnTo>
                    <a:lnTo>
                      <a:pt x="438" y="744"/>
                    </a:lnTo>
                    <a:lnTo>
                      <a:pt x="430" y="766"/>
                    </a:lnTo>
                    <a:lnTo>
                      <a:pt x="420" y="788"/>
                    </a:lnTo>
                    <a:lnTo>
                      <a:pt x="409" y="811"/>
                    </a:lnTo>
                    <a:lnTo>
                      <a:pt x="399" y="835"/>
                    </a:lnTo>
                    <a:close/>
                    <a:moveTo>
                      <a:pt x="544" y="425"/>
                    </a:moveTo>
                    <a:lnTo>
                      <a:pt x="541" y="437"/>
                    </a:lnTo>
                    <a:lnTo>
                      <a:pt x="537" y="452"/>
                    </a:lnTo>
                    <a:lnTo>
                      <a:pt x="532" y="470"/>
                    </a:lnTo>
                    <a:lnTo>
                      <a:pt x="526" y="491"/>
                    </a:lnTo>
                    <a:lnTo>
                      <a:pt x="520" y="515"/>
                    </a:lnTo>
                    <a:lnTo>
                      <a:pt x="512" y="540"/>
                    </a:lnTo>
                    <a:lnTo>
                      <a:pt x="503" y="569"/>
                    </a:lnTo>
                    <a:lnTo>
                      <a:pt x="493" y="599"/>
                    </a:lnTo>
                    <a:lnTo>
                      <a:pt x="516" y="597"/>
                    </a:lnTo>
                    <a:lnTo>
                      <a:pt x="544" y="594"/>
                    </a:lnTo>
                    <a:lnTo>
                      <a:pt x="576" y="590"/>
                    </a:lnTo>
                    <a:lnTo>
                      <a:pt x="614" y="585"/>
                    </a:lnTo>
                    <a:lnTo>
                      <a:pt x="641" y="581"/>
                    </a:lnTo>
                    <a:lnTo>
                      <a:pt x="668" y="578"/>
                    </a:lnTo>
                    <a:lnTo>
                      <a:pt x="691" y="575"/>
                    </a:lnTo>
                    <a:lnTo>
                      <a:pt x="713" y="573"/>
                    </a:lnTo>
                    <a:lnTo>
                      <a:pt x="734" y="570"/>
                    </a:lnTo>
                    <a:lnTo>
                      <a:pt x="753" y="568"/>
                    </a:lnTo>
                    <a:lnTo>
                      <a:pt x="769" y="567"/>
                    </a:lnTo>
                    <a:lnTo>
                      <a:pt x="783" y="564"/>
                    </a:lnTo>
                    <a:lnTo>
                      <a:pt x="789" y="521"/>
                    </a:lnTo>
                    <a:lnTo>
                      <a:pt x="793" y="481"/>
                    </a:lnTo>
                    <a:lnTo>
                      <a:pt x="796" y="444"/>
                    </a:lnTo>
                    <a:lnTo>
                      <a:pt x="798" y="410"/>
                    </a:lnTo>
                    <a:lnTo>
                      <a:pt x="798" y="407"/>
                    </a:lnTo>
                    <a:lnTo>
                      <a:pt x="798" y="403"/>
                    </a:lnTo>
                    <a:lnTo>
                      <a:pt x="796" y="401"/>
                    </a:lnTo>
                    <a:lnTo>
                      <a:pt x="795" y="400"/>
                    </a:lnTo>
                    <a:lnTo>
                      <a:pt x="793" y="399"/>
                    </a:lnTo>
                    <a:lnTo>
                      <a:pt x="790" y="398"/>
                    </a:lnTo>
                    <a:lnTo>
                      <a:pt x="788" y="399"/>
                    </a:lnTo>
                    <a:lnTo>
                      <a:pt x="783" y="400"/>
                    </a:lnTo>
                    <a:lnTo>
                      <a:pt x="764" y="401"/>
                    </a:lnTo>
                    <a:lnTo>
                      <a:pt x="743" y="404"/>
                    </a:lnTo>
                    <a:lnTo>
                      <a:pt x="720" y="409"/>
                    </a:lnTo>
                    <a:lnTo>
                      <a:pt x="694" y="414"/>
                    </a:lnTo>
                    <a:lnTo>
                      <a:pt x="668" y="419"/>
                    </a:lnTo>
                    <a:lnTo>
                      <a:pt x="640" y="427"/>
                    </a:lnTo>
                    <a:lnTo>
                      <a:pt x="611" y="435"/>
                    </a:lnTo>
                    <a:lnTo>
                      <a:pt x="579" y="445"/>
                    </a:lnTo>
                    <a:lnTo>
                      <a:pt x="573" y="442"/>
                    </a:lnTo>
                    <a:lnTo>
                      <a:pt x="565" y="437"/>
                    </a:lnTo>
                    <a:lnTo>
                      <a:pt x="556" y="432"/>
                    </a:lnTo>
                    <a:lnTo>
                      <a:pt x="544" y="425"/>
                    </a:lnTo>
                    <a:close/>
                    <a:moveTo>
                      <a:pt x="228" y="580"/>
                    </a:moveTo>
                    <a:lnTo>
                      <a:pt x="240" y="562"/>
                    </a:lnTo>
                    <a:lnTo>
                      <a:pt x="250" y="551"/>
                    </a:lnTo>
                    <a:lnTo>
                      <a:pt x="254" y="547"/>
                    </a:lnTo>
                    <a:lnTo>
                      <a:pt x="258" y="545"/>
                    </a:lnTo>
                    <a:lnTo>
                      <a:pt x="261" y="544"/>
                    </a:lnTo>
                    <a:lnTo>
                      <a:pt x="263" y="544"/>
                    </a:lnTo>
                    <a:lnTo>
                      <a:pt x="265" y="546"/>
                    </a:lnTo>
                    <a:lnTo>
                      <a:pt x="266" y="550"/>
                    </a:lnTo>
                    <a:lnTo>
                      <a:pt x="268" y="554"/>
                    </a:lnTo>
                    <a:lnTo>
                      <a:pt x="268" y="560"/>
                    </a:lnTo>
                    <a:lnTo>
                      <a:pt x="264" y="575"/>
                    </a:lnTo>
                    <a:lnTo>
                      <a:pt x="258" y="595"/>
                    </a:lnTo>
                    <a:lnTo>
                      <a:pt x="253" y="612"/>
                    </a:lnTo>
                    <a:lnTo>
                      <a:pt x="244" y="635"/>
                    </a:lnTo>
                    <a:lnTo>
                      <a:pt x="235" y="663"/>
                    </a:lnTo>
                    <a:lnTo>
                      <a:pt x="223" y="695"/>
                    </a:lnTo>
                    <a:lnTo>
                      <a:pt x="207" y="747"/>
                    </a:lnTo>
                    <a:lnTo>
                      <a:pt x="192" y="795"/>
                    </a:lnTo>
                    <a:lnTo>
                      <a:pt x="178" y="842"/>
                    </a:lnTo>
                    <a:lnTo>
                      <a:pt x="164" y="883"/>
                    </a:lnTo>
                    <a:lnTo>
                      <a:pt x="150" y="923"/>
                    </a:lnTo>
                    <a:lnTo>
                      <a:pt x="137" y="959"/>
                    </a:lnTo>
                    <a:lnTo>
                      <a:pt x="125" y="992"/>
                    </a:lnTo>
                    <a:lnTo>
                      <a:pt x="113" y="1020"/>
                    </a:lnTo>
                    <a:lnTo>
                      <a:pt x="101" y="1010"/>
                    </a:lnTo>
                    <a:lnTo>
                      <a:pt x="89" y="998"/>
                    </a:lnTo>
                    <a:lnTo>
                      <a:pt x="75" y="984"/>
                    </a:lnTo>
                    <a:lnTo>
                      <a:pt x="62" y="970"/>
                    </a:lnTo>
                    <a:lnTo>
                      <a:pt x="49" y="954"/>
                    </a:lnTo>
                    <a:lnTo>
                      <a:pt x="36" y="937"/>
                    </a:lnTo>
                    <a:lnTo>
                      <a:pt x="22" y="919"/>
                    </a:lnTo>
                    <a:lnTo>
                      <a:pt x="8" y="900"/>
                    </a:lnTo>
                    <a:lnTo>
                      <a:pt x="5" y="896"/>
                    </a:lnTo>
                    <a:lnTo>
                      <a:pt x="3" y="893"/>
                    </a:lnTo>
                    <a:lnTo>
                      <a:pt x="1" y="890"/>
                    </a:lnTo>
                    <a:lnTo>
                      <a:pt x="0" y="887"/>
                    </a:lnTo>
                    <a:lnTo>
                      <a:pt x="0" y="883"/>
                    </a:lnTo>
                    <a:lnTo>
                      <a:pt x="0" y="880"/>
                    </a:lnTo>
                    <a:lnTo>
                      <a:pt x="2" y="878"/>
                    </a:lnTo>
                    <a:lnTo>
                      <a:pt x="4" y="875"/>
                    </a:lnTo>
                    <a:lnTo>
                      <a:pt x="6" y="873"/>
                    </a:lnTo>
                    <a:lnTo>
                      <a:pt x="9" y="872"/>
                    </a:lnTo>
                    <a:lnTo>
                      <a:pt x="12" y="871"/>
                    </a:lnTo>
                    <a:lnTo>
                      <a:pt x="15" y="870"/>
                    </a:lnTo>
                    <a:lnTo>
                      <a:pt x="24" y="872"/>
                    </a:lnTo>
                    <a:lnTo>
                      <a:pt x="33" y="875"/>
                    </a:lnTo>
                    <a:lnTo>
                      <a:pt x="37" y="878"/>
                    </a:lnTo>
                    <a:lnTo>
                      <a:pt x="41" y="880"/>
                    </a:lnTo>
                    <a:lnTo>
                      <a:pt x="45" y="881"/>
                    </a:lnTo>
                    <a:lnTo>
                      <a:pt x="48" y="881"/>
                    </a:lnTo>
                    <a:lnTo>
                      <a:pt x="53" y="880"/>
                    </a:lnTo>
                    <a:lnTo>
                      <a:pt x="56" y="878"/>
                    </a:lnTo>
                    <a:lnTo>
                      <a:pt x="60" y="875"/>
                    </a:lnTo>
                    <a:lnTo>
                      <a:pt x="63" y="871"/>
                    </a:lnTo>
                    <a:lnTo>
                      <a:pt x="80" y="843"/>
                    </a:lnTo>
                    <a:lnTo>
                      <a:pt x="98" y="812"/>
                    </a:lnTo>
                    <a:lnTo>
                      <a:pt x="117" y="781"/>
                    </a:lnTo>
                    <a:lnTo>
                      <a:pt x="137" y="745"/>
                    </a:lnTo>
                    <a:lnTo>
                      <a:pt x="158" y="708"/>
                    </a:lnTo>
                    <a:lnTo>
                      <a:pt x="181" y="667"/>
                    </a:lnTo>
                    <a:lnTo>
                      <a:pt x="204" y="625"/>
                    </a:lnTo>
                    <a:lnTo>
                      <a:pt x="228" y="580"/>
                    </a:lnTo>
                    <a:close/>
                    <a:moveTo>
                      <a:pt x="43" y="355"/>
                    </a:moveTo>
                    <a:lnTo>
                      <a:pt x="100" y="382"/>
                    </a:lnTo>
                    <a:lnTo>
                      <a:pt x="143" y="403"/>
                    </a:lnTo>
                    <a:lnTo>
                      <a:pt x="157" y="412"/>
                    </a:lnTo>
                    <a:lnTo>
                      <a:pt x="168" y="419"/>
                    </a:lnTo>
                    <a:lnTo>
                      <a:pt x="175" y="426"/>
                    </a:lnTo>
                    <a:lnTo>
                      <a:pt x="179" y="430"/>
                    </a:lnTo>
                    <a:lnTo>
                      <a:pt x="181" y="438"/>
                    </a:lnTo>
                    <a:lnTo>
                      <a:pt x="182" y="448"/>
                    </a:lnTo>
                    <a:lnTo>
                      <a:pt x="181" y="457"/>
                    </a:lnTo>
                    <a:lnTo>
                      <a:pt x="180" y="467"/>
                    </a:lnTo>
                    <a:lnTo>
                      <a:pt x="178" y="478"/>
                    </a:lnTo>
                    <a:lnTo>
                      <a:pt x="173" y="488"/>
                    </a:lnTo>
                    <a:lnTo>
                      <a:pt x="169" y="499"/>
                    </a:lnTo>
                    <a:lnTo>
                      <a:pt x="164" y="509"/>
                    </a:lnTo>
                    <a:lnTo>
                      <a:pt x="158" y="521"/>
                    </a:lnTo>
                    <a:lnTo>
                      <a:pt x="153" y="528"/>
                    </a:lnTo>
                    <a:lnTo>
                      <a:pt x="151" y="532"/>
                    </a:lnTo>
                    <a:lnTo>
                      <a:pt x="149" y="534"/>
                    </a:lnTo>
                    <a:lnTo>
                      <a:pt x="146" y="535"/>
                    </a:lnTo>
                    <a:lnTo>
                      <a:pt x="144" y="535"/>
                    </a:lnTo>
                    <a:lnTo>
                      <a:pt x="140" y="534"/>
                    </a:lnTo>
                    <a:lnTo>
                      <a:pt x="136" y="532"/>
                    </a:lnTo>
                    <a:lnTo>
                      <a:pt x="130" y="526"/>
                    </a:lnTo>
                    <a:lnTo>
                      <a:pt x="123" y="520"/>
                    </a:lnTo>
                    <a:lnTo>
                      <a:pt x="112" y="507"/>
                    </a:lnTo>
                    <a:lnTo>
                      <a:pt x="100" y="492"/>
                    </a:lnTo>
                    <a:lnTo>
                      <a:pt x="89" y="476"/>
                    </a:lnTo>
                    <a:lnTo>
                      <a:pt x="76" y="460"/>
                    </a:lnTo>
                    <a:lnTo>
                      <a:pt x="50" y="422"/>
                    </a:lnTo>
                    <a:lnTo>
                      <a:pt x="24" y="380"/>
                    </a:lnTo>
                    <a:lnTo>
                      <a:pt x="18" y="371"/>
                    </a:lnTo>
                    <a:lnTo>
                      <a:pt x="13" y="363"/>
                    </a:lnTo>
                    <a:lnTo>
                      <a:pt x="12" y="361"/>
                    </a:lnTo>
                    <a:lnTo>
                      <a:pt x="12" y="358"/>
                    </a:lnTo>
                    <a:lnTo>
                      <a:pt x="12" y="357"/>
                    </a:lnTo>
                    <a:lnTo>
                      <a:pt x="13" y="355"/>
                    </a:lnTo>
                    <a:lnTo>
                      <a:pt x="15" y="352"/>
                    </a:lnTo>
                    <a:lnTo>
                      <a:pt x="18" y="351"/>
                    </a:lnTo>
                    <a:lnTo>
                      <a:pt x="20" y="350"/>
                    </a:lnTo>
                    <a:lnTo>
                      <a:pt x="23" y="349"/>
                    </a:lnTo>
                    <a:lnTo>
                      <a:pt x="32" y="351"/>
                    </a:lnTo>
                    <a:lnTo>
                      <a:pt x="43" y="355"/>
                    </a:lnTo>
                    <a:close/>
                    <a:moveTo>
                      <a:pt x="164" y="134"/>
                    </a:moveTo>
                    <a:lnTo>
                      <a:pt x="185" y="139"/>
                    </a:lnTo>
                    <a:lnTo>
                      <a:pt x="206" y="145"/>
                    </a:lnTo>
                    <a:lnTo>
                      <a:pt x="225" y="151"/>
                    </a:lnTo>
                    <a:lnTo>
                      <a:pt x="243" y="158"/>
                    </a:lnTo>
                    <a:lnTo>
                      <a:pt x="260" y="164"/>
                    </a:lnTo>
                    <a:lnTo>
                      <a:pt x="276" y="170"/>
                    </a:lnTo>
                    <a:lnTo>
                      <a:pt x="291" y="178"/>
                    </a:lnTo>
                    <a:lnTo>
                      <a:pt x="304" y="185"/>
                    </a:lnTo>
                    <a:lnTo>
                      <a:pt x="306" y="191"/>
                    </a:lnTo>
                    <a:lnTo>
                      <a:pt x="307" y="199"/>
                    </a:lnTo>
                    <a:lnTo>
                      <a:pt x="308" y="208"/>
                    </a:lnTo>
                    <a:lnTo>
                      <a:pt x="307" y="218"/>
                    </a:lnTo>
                    <a:lnTo>
                      <a:pt x="306" y="230"/>
                    </a:lnTo>
                    <a:lnTo>
                      <a:pt x="305" y="242"/>
                    </a:lnTo>
                    <a:lnTo>
                      <a:pt x="301" y="255"/>
                    </a:lnTo>
                    <a:lnTo>
                      <a:pt x="298" y="270"/>
                    </a:lnTo>
                    <a:lnTo>
                      <a:pt x="296" y="278"/>
                    </a:lnTo>
                    <a:lnTo>
                      <a:pt x="292" y="286"/>
                    </a:lnTo>
                    <a:lnTo>
                      <a:pt x="289" y="291"/>
                    </a:lnTo>
                    <a:lnTo>
                      <a:pt x="283" y="294"/>
                    </a:lnTo>
                    <a:lnTo>
                      <a:pt x="278" y="293"/>
                    </a:lnTo>
                    <a:lnTo>
                      <a:pt x="271" y="291"/>
                    </a:lnTo>
                    <a:lnTo>
                      <a:pt x="263" y="286"/>
                    </a:lnTo>
                    <a:lnTo>
                      <a:pt x="254" y="279"/>
                    </a:lnTo>
                    <a:lnTo>
                      <a:pt x="244" y="271"/>
                    </a:lnTo>
                    <a:lnTo>
                      <a:pt x="235" y="261"/>
                    </a:lnTo>
                    <a:lnTo>
                      <a:pt x="224" y="250"/>
                    </a:lnTo>
                    <a:lnTo>
                      <a:pt x="212" y="237"/>
                    </a:lnTo>
                    <a:lnTo>
                      <a:pt x="187" y="206"/>
                    </a:lnTo>
                    <a:lnTo>
                      <a:pt x="158" y="169"/>
                    </a:lnTo>
                    <a:lnTo>
                      <a:pt x="153" y="161"/>
                    </a:lnTo>
                    <a:lnTo>
                      <a:pt x="148" y="154"/>
                    </a:lnTo>
                    <a:lnTo>
                      <a:pt x="142" y="138"/>
                    </a:lnTo>
                    <a:lnTo>
                      <a:pt x="138" y="130"/>
                    </a:lnTo>
                    <a:lnTo>
                      <a:pt x="140" y="129"/>
                    </a:lnTo>
                    <a:lnTo>
                      <a:pt x="142" y="128"/>
                    </a:lnTo>
                    <a:lnTo>
                      <a:pt x="145" y="128"/>
                    </a:lnTo>
                    <a:lnTo>
                      <a:pt x="147" y="128"/>
                    </a:lnTo>
                    <a:lnTo>
                      <a:pt x="154" y="130"/>
                    </a:lnTo>
                    <a:lnTo>
                      <a:pt x="164" y="134"/>
                    </a:lnTo>
                    <a:close/>
                    <a:moveTo>
                      <a:pt x="559" y="675"/>
                    </a:moveTo>
                    <a:lnTo>
                      <a:pt x="591" y="687"/>
                    </a:lnTo>
                    <a:lnTo>
                      <a:pt x="618" y="699"/>
                    </a:lnTo>
                    <a:lnTo>
                      <a:pt x="641" y="710"/>
                    </a:lnTo>
                    <a:lnTo>
                      <a:pt x="658" y="720"/>
                    </a:lnTo>
                    <a:lnTo>
                      <a:pt x="659" y="723"/>
                    </a:lnTo>
                    <a:lnTo>
                      <a:pt x="659" y="729"/>
                    </a:lnTo>
                    <a:lnTo>
                      <a:pt x="659" y="735"/>
                    </a:lnTo>
                    <a:lnTo>
                      <a:pt x="658" y="742"/>
                    </a:lnTo>
                    <a:lnTo>
                      <a:pt x="655" y="764"/>
                    </a:lnTo>
                    <a:lnTo>
                      <a:pt x="649" y="790"/>
                    </a:lnTo>
                    <a:lnTo>
                      <a:pt x="646" y="797"/>
                    </a:lnTo>
                    <a:lnTo>
                      <a:pt x="644" y="803"/>
                    </a:lnTo>
                    <a:lnTo>
                      <a:pt x="641" y="807"/>
                    </a:lnTo>
                    <a:lnTo>
                      <a:pt x="638" y="810"/>
                    </a:lnTo>
                    <a:lnTo>
                      <a:pt x="634" y="809"/>
                    </a:lnTo>
                    <a:lnTo>
                      <a:pt x="629" y="807"/>
                    </a:lnTo>
                    <a:lnTo>
                      <a:pt x="623" y="805"/>
                    </a:lnTo>
                    <a:lnTo>
                      <a:pt x="619" y="800"/>
                    </a:lnTo>
                    <a:lnTo>
                      <a:pt x="609" y="788"/>
                    </a:lnTo>
                    <a:lnTo>
                      <a:pt x="599" y="776"/>
                    </a:lnTo>
                    <a:lnTo>
                      <a:pt x="590" y="763"/>
                    </a:lnTo>
                    <a:lnTo>
                      <a:pt x="580" y="749"/>
                    </a:lnTo>
                    <a:lnTo>
                      <a:pt x="570" y="734"/>
                    </a:lnTo>
                    <a:lnTo>
                      <a:pt x="561" y="718"/>
                    </a:lnTo>
                    <a:lnTo>
                      <a:pt x="552" y="702"/>
                    </a:lnTo>
                    <a:lnTo>
                      <a:pt x="544" y="685"/>
                    </a:lnTo>
                    <a:lnTo>
                      <a:pt x="542" y="681"/>
                    </a:lnTo>
                    <a:lnTo>
                      <a:pt x="541" y="678"/>
                    </a:lnTo>
                    <a:lnTo>
                      <a:pt x="542" y="676"/>
                    </a:lnTo>
                    <a:lnTo>
                      <a:pt x="544" y="675"/>
                    </a:lnTo>
                    <a:lnTo>
                      <a:pt x="544" y="674"/>
                    </a:lnTo>
                    <a:lnTo>
                      <a:pt x="547" y="673"/>
                    </a:lnTo>
                    <a:lnTo>
                      <a:pt x="552" y="674"/>
                    </a:lnTo>
                    <a:lnTo>
                      <a:pt x="559" y="675"/>
                    </a:lnTo>
                    <a:close/>
                    <a:moveTo>
                      <a:pt x="603" y="454"/>
                    </a:moveTo>
                    <a:lnTo>
                      <a:pt x="639" y="467"/>
                    </a:lnTo>
                    <a:lnTo>
                      <a:pt x="665" y="478"/>
                    </a:lnTo>
                    <a:lnTo>
                      <a:pt x="674" y="482"/>
                    </a:lnTo>
                    <a:lnTo>
                      <a:pt x="682" y="487"/>
                    </a:lnTo>
                    <a:lnTo>
                      <a:pt x="686" y="491"/>
                    </a:lnTo>
                    <a:lnTo>
                      <a:pt x="689" y="495"/>
                    </a:lnTo>
                    <a:lnTo>
                      <a:pt x="689" y="497"/>
                    </a:lnTo>
                    <a:lnTo>
                      <a:pt x="690" y="500"/>
                    </a:lnTo>
                    <a:lnTo>
                      <a:pt x="689" y="504"/>
                    </a:lnTo>
                    <a:lnTo>
                      <a:pt x="689" y="510"/>
                    </a:lnTo>
                    <a:lnTo>
                      <a:pt x="685" y="525"/>
                    </a:lnTo>
                    <a:lnTo>
                      <a:pt x="679" y="544"/>
                    </a:lnTo>
                    <a:lnTo>
                      <a:pt x="679" y="550"/>
                    </a:lnTo>
                    <a:lnTo>
                      <a:pt x="679" y="555"/>
                    </a:lnTo>
                    <a:lnTo>
                      <a:pt x="676" y="561"/>
                    </a:lnTo>
                    <a:lnTo>
                      <a:pt x="673" y="567"/>
                    </a:lnTo>
                    <a:lnTo>
                      <a:pt x="671" y="569"/>
                    </a:lnTo>
                    <a:lnTo>
                      <a:pt x="669" y="570"/>
                    </a:lnTo>
                    <a:lnTo>
                      <a:pt x="666" y="572"/>
                    </a:lnTo>
                    <a:lnTo>
                      <a:pt x="663" y="571"/>
                    </a:lnTo>
                    <a:lnTo>
                      <a:pt x="658" y="569"/>
                    </a:lnTo>
                    <a:lnTo>
                      <a:pt x="654" y="564"/>
                    </a:lnTo>
                    <a:lnTo>
                      <a:pt x="636" y="540"/>
                    </a:lnTo>
                    <a:lnTo>
                      <a:pt x="620" y="515"/>
                    </a:lnTo>
                    <a:lnTo>
                      <a:pt x="604" y="490"/>
                    </a:lnTo>
                    <a:lnTo>
                      <a:pt x="588" y="465"/>
                    </a:lnTo>
                    <a:lnTo>
                      <a:pt x="586" y="461"/>
                    </a:lnTo>
                    <a:lnTo>
                      <a:pt x="586" y="457"/>
                    </a:lnTo>
                    <a:lnTo>
                      <a:pt x="586" y="455"/>
                    </a:lnTo>
                    <a:lnTo>
                      <a:pt x="588" y="454"/>
                    </a:lnTo>
                    <a:lnTo>
                      <a:pt x="590" y="453"/>
                    </a:lnTo>
                    <a:lnTo>
                      <a:pt x="593" y="452"/>
                    </a:lnTo>
                    <a:lnTo>
                      <a:pt x="597" y="453"/>
                    </a:lnTo>
                    <a:lnTo>
                      <a:pt x="603" y="454"/>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415" name="Freeform 13"/>
              <p:cNvSpPr/>
              <p:nvPr/>
            </p:nvSpPr>
            <p:spPr>
              <a:xfrm>
                <a:off x="2578680" y="1104840"/>
                <a:ext cx="185400" cy="152280"/>
              </a:xfrm>
              <a:custGeom>
                <a:avLst/>
                <a:gdLst>
                  <a:gd name="textAreaLeft" fmla="*/ 0 w 185400"/>
                  <a:gd name="textAreaRight" fmla="*/ 185760 w 185400"/>
                  <a:gd name="textAreaTop" fmla="*/ 0 h 152280"/>
                  <a:gd name="textAreaBottom" fmla="*/ 152640 h 152280"/>
                </a:gdLst>
                <a:ahLst/>
                <a:rect l="textAreaLeft" t="textAreaTop" r="textAreaRight" b="textAreaBottom"/>
                <a:pathLst>
                  <a:path w="1246" h="1097">
                    <a:moveTo>
                      <a:pt x="796" y="610"/>
                    </a:moveTo>
                    <a:lnTo>
                      <a:pt x="800" y="608"/>
                    </a:lnTo>
                    <a:lnTo>
                      <a:pt x="804" y="607"/>
                    </a:lnTo>
                    <a:lnTo>
                      <a:pt x="808" y="607"/>
                    </a:lnTo>
                    <a:lnTo>
                      <a:pt x="813" y="609"/>
                    </a:lnTo>
                    <a:lnTo>
                      <a:pt x="817" y="611"/>
                    </a:lnTo>
                    <a:lnTo>
                      <a:pt x="821" y="614"/>
                    </a:lnTo>
                    <a:lnTo>
                      <a:pt x="826" y="620"/>
                    </a:lnTo>
                    <a:lnTo>
                      <a:pt x="831" y="625"/>
                    </a:lnTo>
                    <a:lnTo>
                      <a:pt x="839" y="631"/>
                    </a:lnTo>
                    <a:lnTo>
                      <a:pt x="846" y="639"/>
                    </a:lnTo>
                    <a:lnTo>
                      <a:pt x="854" y="648"/>
                    </a:lnTo>
                    <a:lnTo>
                      <a:pt x="861" y="660"/>
                    </a:lnTo>
                    <a:lnTo>
                      <a:pt x="863" y="662"/>
                    </a:lnTo>
                    <a:lnTo>
                      <a:pt x="864" y="665"/>
                    </a:lnTo>
                    <a:lnTo>
                      <a:pt x="866" y="667"/>
                    </a:lnTo>
                    <a:lnTo>
                      <a:pt x="866" y="670"/>
                    </a:lnTo>
                    <a:lnTo>
                      <a:pt x="868" y="675"/>
                    </a:lnTo>
                    <a:lnTo>
                      <a:pt x="869" y="678"/>
                    </a:lnTo>
                    <a:lnTo>
                      <a:pt x="868" y="679"/>
                    </a:lnTo>
                    <a:lnTo>
                      <a:pt x="866" y="680"/>
                    </a:lnTo>
                    <a:lnTo>
                      <a:pt x="866" y="682"/>
                    </a:lnTo>
                    <a:lnTo>
                      <a:pt x="863" y="683"/>
                    </a:lnTo>
                    <a:lnTo>
                      <a:pt x="860" y="684"/>
                    </a:lnTo>
                    <a:lnTo>
                      <a:pt x="856" y="685"/>
                    </a:lnTo>
                    <a:lnTo>
                      <a:pt x="840" y="686"/>
                    </a:lnTo>
                    <a:lnTo>
                      <a:pt x="822" y="689"/>
                    </a:lnTo>
                    <a:lnTo>
                      <a:pt x="801" y="690"/>
                    </a:lnTo>
                    <a:lnTo>
                      <a:pt x="779" y="693"/>
                    </a:lnTo>
                    <a:lnTo>
                      <a:pt x="753" y="695"/>
                    </a:lnTo>
                    <a:lnTo>
                      <a:pt x="727" y="698"/>
                    </a:lnTo>
                    <a:lnTo>
                      <a:pt x="697" y="701"/>
                    </a:lnTo>
                    <a:lnTo>
                      <a:pt x="666" y="704"/>
                    </a:lnTo>
                    <a:lnTo>
                      <a:pt x="649" y="708"/>
                    </a:lnTo>
                    <a:lnTo>
                      <a:pt x="635" y="709"/>
                    </a:lnTo>
                    <a:lnTo>
                      <a:pt x="622" y="710"/>
                    </a:lnTo>
                    <a:lnTo>
                      <a:pt x="611" y="710"/>
                    </a:lnTo>
                    <a:lnTo>
                      <a:pt x="611" y="739"/>
                    </a:lnTo>
                    <a:lnTo>
                      <a:pt x="611" y="770"/>
                    </a:lnTo>
                    <a:lnTo>
                      <a:pt x="611" y="802"/>
                    </a:lnTo>
                    <a:lnTo>
                      <a:pt x="611" y="835"/>
                    </a:lnTo>
                    <a:lnTo>
                      <a:pt x="611" y="870"/>
                    </a:lnTo>
                    <a:lnTo>
                      <a:pt x="611" y="905"/>
                    </a:lnTo>
                    <a:lnTo>
                      <a:pt x="611" y="942"/>
                    </a:lnTo>
                    <a:lnTo>
                      <a:pt x="611" y="980"/>
                    </a:lnTo>
                    <a:lnTo>
                      <a:pt x="674" y="973"/>
                    </a:lnTo>
                    <a:lnTo>
                      <a:pt x="731" y="966"/>
                    </a:lnTo>
                    <a:lnTo>
                      <a:pt x="784" y="961"/>
                    </a:lnTo>
                    <a:lnTo>
                      <a:pt x="833" y="956"/>
                    </a:lnTo>
                    <a:lnTo>
                      <a:pt x="875" y="950"/>
                    </a:lnTo>
                    <a:lnTo>
                      <a:pt x="914" y="946"/>
                    </a:lnTo>
                    <a:lnTo>
                      <a:pt x="947" y="943"/>
                    </a:lnTo>
                    <a:lnTo>
                      <a:pt x="976" y="940"/>
                    </a:lnTo>
                    <a:lnTo>
                      <a:pt x="983" y="941"/>
                    </a:lnTo>
                    <a:lnTo>
                      <a:pt x="989" y="941"/>
                    </a:lnTo>
                    <a:lnTo>
                      <a:pt x="996" y="942"/>
                    </a:lnTo>
                    <a:lnTo>
                      <a:pt x="1001" y="944"/>
                    </a:lnTo>
                    <a:lnTo>
                      <a:pt x="1005" y="946"/>
                    </a:lnTo>
                    <a:lnTo>
                      <a:pt x="1010" y="948"/>
                    </a:lnTo>
                    <a:lnTo>
                      <a:pt x="1013" y="951"/>
                    </a:lnTo>
                    <a:lnTo>
                      <a:pt x="1016" y="956"/>
                    </a:lnTo>
                    <a:lnTo>
                      <a:pt x="1028" y="967"/>
                    </a:lnTo>
                    <a:lnTo>
                      <a:pt x="1041" y="985"/>
                    </a:lnTo>
                    <a:lnTo>
                      <a:pt x="1048" y="997"/>
                    </a:lnTo>
                    <a:lnTo>
                      <a:pt x="1053" y="1007"/>
                    </a:lnTo>
                    <a:lnTo>
                      <a:pt x="1058" y="1014"/>
                    </a:lnTo>
                    <a:lnTo>
                      <a:pt x="1062" y="1020"/>
                    </a:lnTo>
                    <a:lnTo>
                      <a:pt x="1063" y="1025"/>
                    </a:lnTo>
                    <a:lnTo>
                      <a:pt x="1064" y="1029"/>
                    </a:lnTo>
                    <a:lnTo>
                      <a:pt x="1063" y="1032"/>
                    </a:lnTo>
                    <a:lnTo>
                      <a:pt x="1062" y="1035"/>
                    </a:lnTo>
                    <a:lnTo>
                      <a:pt x="1060" y="1037"/>
                    </a:lnTo>
                    <a:lnTo>
                      <a:pt x="1057" y="1037"/>
                    </a:lnTo>
                    <a:lnTo>
                      <a:pt x="1053" y="1037"/>
                    </a:lnTo>
                    <a:lnTo>
                      <a:pt x="1047" y="1035"/>
                    </a:lnTo>
                    <a:lnTo>
                      <a:pt x="1002" y="1034"/>
                    </a:lnTo>
                    <a:lnTo>
                      <a:pt x="957" y="1034"/>
                    </a:lnTo>
                    <a:lnTo>
                      <a:pt x="911" y="1034"/>
                    </a:lnTo>
                    <a:lnTo>
                      <a:pt x="864" y="1035"/>
                    </a:lnTo>
                    <a:lnTo>
                      <a:pt x="818" y="1037"/>
                    </a:lnTo>
                    <a:lnTo>
                      <a:pt x="769" y="1039"/>
                    </a:lnTo>
                    <a:lnTo>
                      <a:pt x="720" y="1041"/>
                    </a:lnTo>
                    <a:lnTo>
                      <a:pt x="671" y="1046"/>
                    </a:lnTo>
                    <a:lnTo>
                      <a:pt x="621" y="1049"/>
                    </a:lnTo>
                    <a:lnTo>
                      <a:pt x="569" y="1054"/>
                    </a:lnTo>
                    <a:lnTo>
                      <a:pt x="517" y="1059"/>
                    </a:lnTo>
                    <a:lnTo>
                      <a:pt x="465" y="1065"/>
                    </a:lnTo>
                    <a:lnTo>
                      <a:pt x="411" y="1072"/>
                    </a:lnTo>
                    <a:lnTo>
                      <a:pt x="357" y="1079"/>
                    </a:lnTo>
                    <a:lnTo>
                      <a:pt x="302" y="1087"/>
                    </a:lnTo>
                    <a:lnTo>
                      <a:pt x="246" y="1096"/>
                    </a:lnTo>
                    <a:lnTo>
                      <a:pt x="240" y="1097"/>
                    </a:lnTo>
                    <a:lnTo>
                      <a:pt x="234" y="1097"/>
                    </a:lnTo>
                    <a:lnTo>
                      <a:pt x="229" y="1097"/>
                    </a:lnTo>
                    <a:lnTo>
                      <a:pt x="224" y="1096"/>
                    </a:lnTo>
                    <a:lnTo>
                      <a:pt x="218" y="1093"/>
                    </a:lnTo>
                    <a:lnTo>
                      <a:pt x="214" y="1091"/>
                    </a:lnTo>
                    <a:lnTo>
                      <a:pt x="210" y="1089"/>
                    </a:lnTo>
                    <a:lnTo>
                      <a:pt x="206" y="1085"/>
                    </a:lnTo>
                    <a:lnTo>
                      <a:pt x="197" y="1075"/>
                    </a:lnTo>
                    <a:lnTo>
                      <a:pt x="181" y="1055"/>
                    </a:lnTo>
                    <a:lnTo>
                      <a:pt x="172" y="1044"/>
                    </a:lnTo>
                    <a:lnTo>
                      <a:pt x="163" y="1035"/>
                    </a:lnTo>
                    <a:lnTo>
                      <a:pt x="157" y="1029"/>
                    </a:lnTo>
                    <a:lnTo>
                      <a:pt x="151" y="1026"/>
                    </a:lnTo>
                    <a:lnTo>
                      <a:pt x="187" y="1025"/>
                    </a:lnTo>
                    <a:lnTo>
                      <a:pt x="225" y="1023"/>
                    </a:lnTo>
                    <a:lnTo>
                      <a:pt x="267" y="1020"/>
                    </a:lnTo>
                    <a:lnTo>
                      <a:pt x="314" y="1016"/>
                    </a:lnTo>
                    <a:lnTo>
                      <a:pt x="362" y="1012"/>
                    </a:lnTo>
                    <a:lnTo>
                      <a:pt x="415" y="1005"/>
                    </a:lnTo>
                    <a:lnTo>
                      <a:pt x="472" y="998"/>
                    </a:lnTo>
                    <a:lnTo>
                      <a:pt x="531" y="991"/>
                    </a:lnTo>
                    <a:lnTo>
                      <a:pt x="531" y="973"/>
                    </a:lnTo>
                    <a:lnTo>
                      <a:pt x="531" y="954"/>
                    </a:lnTo>
                    <a:lnTo>
                      <a:pt x="532" y="932"/>
                    </a:lnTo>
                    <a:lnTo>
                      <a:pt x="532" y="911"/>
                    </a:lnTo>
                    <a:lnTo>
                      <a:pt x="533" y="889"/>
                    </a:lnTo>
                    <a:lnTo>
                      <a:pt x="534" y="866"/>
                    </a:lnTo>
                    <a:lnTo>
                      <a:pt x="535" y="841"/>
                    </a:lnTo>
                    <a:lnTo>
                      <a:pt x="536" y="815"/>
                    </a:lnTo>
                    <a:lnTo>
                      <a:pt x="536" y="785"/>
                    </a:lnTo>
                    <a:lnTo>
                      <a:pt x="536" y="760"/>
                    </a:lnTo>
                    <a:lnTo>
                      <a:pt x="536" y="741"/>
                    </a:lnTo>
                    <a:lnTo>
                      <a:pt x="536" y="725"/>
                    </a:lnTo>
                    <a:lnTo>
                      <a:pt x="496" y="733"/>
                    </a:lnTo>
                    <a:lnTo>
                      <a:pt x="457" y="741"/>
                    </a:lnTo>
                    <a:lnTo>
                      <a:pt x="419" y="748"/>
                    </a:lnTo>
                    <a:lnTo>
                      <a:pt x="382" y="755"/>
                    </a:lnTo>
                    <a:lnTo>
                      <a:pt x="373" y="754"/>
                    </a:lnTo>
                    <a:lnTo>
                      <a:pt x="363" y="751"/>
                    </a:lnTo>
                    <a:lnTo>
                      <a:pt x="353" y="747"/>
                    </a:lnTo>
                    <a:lnTo>
                      <a:pt x="341" y="741"/>
                    </a:lnTo>
                    <a:lnTo>
                      <a:pt x="334" y="736"/>
                    </a:lnTo>
                    <a:lnTo>
                      <a:pt x="326" y="732"/>
                    </a:lnTo>
                    <a:lnTo>
                      <a:pt x="320" y="727"/>
                    </a:lnTo>
                    <a:lnTo>
                      <a:pt x="314" y="721"/>
                    </a:lnTo>
                    <a:lnTo>
                      <a:pt x="307" y="715"/>
                    </a:lnTo>
                    <a:lnTo>
                      <a:pt x="301" y="709"/>
                    </a:lnTo>
                    <a:lnTo>
                      <a:pt x="296" y="702"/>
                    </a:lnTo>
                    <a:lnTo>
                      <a:pt x="290" y="695"/>
                    </a:lnTo>
                    <a:lnTo>
                      <a:pt x="317" y="693"/>
                    </a:lnTo>
                    <a:lnTo>
                      <a:pt x="343" y="691"/>
                    </a:lnTo>
                    <a:lnTo>
                      <a:pt x="372" y="686"/>
                    </a:lnTo>
                    <a:lnTo>
                      <a:pt x="401" y="682"/>
                    </a:lnTo>
                    <a:lnTo>
                      <a:pt x="431" y="677"/>
                    </a:lnTo>
                    <a:lnTo>
                      <a:pt x="463" y="671"/>
                    </a:lnTo>
                    <a:lnTo>
                      <a:pt x="497" y="663"/>
                    </a:lnTo>
                    <a:lnTo>
                      <a:pt x="531" y="655"/>
                    </a:lnTo>
                    <a:lnTo>
                      <a:pt x="530" y="622"/>
                    </a:lnTo>
                    <a:lnTo>
                      <a:pt x="528" y="591"/>
                    </a:lnTo>
                    <a:lnTo>
                      <a:pt x="526" y="577"/>
                    </a:lnTo>
                    <a:lnTo>
                      <a:pt x="522" y="564"/>
                    </a:lnTo>
                    <a:lnTo>
                      <a:pt x="519" y="552"/>
                    </a:lnTo>
                    <a:lnTo>
                      <a:pt x="516" y="540"/>
                    </a:lnTo>
                    <a:lnTo>
                      <a:pt x="499" y="542"/>
                    </a:lnTo>
                    <a:lnTo>
                      <a:pt x="482" y="547"/>
                    </a:lnTo>
                    <a:lnTo>
                      <a:pt x="466" y="550"/>
                    </a:lnTo>
                    <a:lnTo>
                      <a:pt x="451" y="555"/>
                    </a:lnTo>
                    <a:lnTo>
                      <a:pt x="447" y="556"/>
                    </a:lnTo>
                    <a:lnTo>
                      <a:pt x="443" y="556"/>
                    </a:lnTo>
                    <a:lnTo>
                      <a:pt x="439" y="556"/>
                    </a:lnTo>
                    <a:lnTo>
                      <a:pt x="434" y="555"/>
                    </a:lnTo>
                    <a:lnTo>
                      <a:pt x="426" y="551"/>
                    </a:lnTo>
                    <a:lnTo>
                      <a:pt x="416" y="544"/>
                    </a:lnTo>
                    <a:lnTo>
                      <a:pt x="397" y="531"/>
                    </a:lnTo>
                    <a:lnTo>
                      <a:pt x="383" y="519"/>
                    </a:lnTo>
                    <a:lnTo>
                      <a:pt x="370" y="508"/>
                    </a:lnTo>
                    <a:lnTo>
                      <a:pt x="361" y="500"/>
                    </a:lnTo>
                    <a:lnTo>
                      <a:pt x="377" y="497"/>
                    </a:lnTo>
                    <a:lnTo>
                      <a:pt x="395" y="494"/>
                    </a:lnTo>
                    <a:lnTo>
                      <a:pt x="415" y="489"/>
                    </a:lnTo>
                    <a:lnTo>
                      <a:pt x="439" y="485"/>
                    </a:lnTo>
                    <a:lnTo>
                      <a:pt x="463" y="480"/>
                    </a:lnTo>
                    <a:lnTo>
                      <a:pt x="491" y="473"/>
                    </a:lnTo>
                    <a:lnTo>
                      <a:pt x="519" y="467"/>
                    </a:lnTo>
                    <a:lnTo>
                      <a:pt x="551" y="460"/>
                    </a:lnTo>
                    <a:lnTo>
                      <a:pt x="580" y="452"/>
                    </a:lnTo>
                    <a:lnTo>
                      <a:pt x="607" y="446"/>
                    </a:lnTo>
                    <a:lnTo>
                      <a:pt x="634" y="441"/>
                    </a:lnTo>
                    <a:lnTo>
                      <a:pt x="657" y="435"/>
                    </a:lnTo>
                    <a:lnTo>
                      <a:pt x="679" y="430"/>
                    </a:lnTo>
                    <a:lnTo>
                      <a:pt x="700" y="426"/>
                    </a:lnTo>
                    <a:lnTo>
                      <a:pt x="719" y="423"/>
                    </a:lnTo>
                    <a:lnTo>
                      <a:pt x="736" y="419"/>
                    </a:lnTo>
                    <a:lnTo>
                      <a:pt x="741" y="418"/>
                    </a:lnTo>
                    <a:lnTo>
                      <a:pt x="746" y="417"/>
                    </a:lnTo>
                    <a:lnTo>
                      <a:pt x="751" y="417"/>
                    </a:lnTo>
                    <a:lnTo>
                      <a:pt x="756" y="418"/>
                    </a:lnTo>
                    <a:lnTo>
                      <a:pt x="761" y="420"/>
                    </a:lnTo>
                    <a:lnTo>
                      <a:pt x="766" y="425"/>
                    </a:lnTo>
                    <a:lnTo>
                      <a:pt x="771" y="429"/>
                    </a:lnTo>
                    <a:lnTo>
                      <a:pt x="776" y="434"/>
                    </a:lnTo>
                    <a:lnTo>
                      <a:pt x="777" y="437"/>
                    </a:lnTo>
                    <a:lnTo>
                      <a:pt x="778" y="440"/>
                    </a:lnTo>
                    <a:lnTo>
                      <a:pt x="779" y="443"/>
                    </a:lnTo>
                    <a:lnTo>
                      <a:pt x="781" y="445"/>
                    </a:lnTo>
                    <a:lnTo>
                      <a:pt x="788" y="452"/>
                    </a:lnTo>
                    <a:lnTo>
                      <a:pt x="794" y="460"/>
                    </a:lnTo>
                    <a:lnTo>
                      <a:pt x="798" y="467"/>
                    </a:lnTo>
                    <a:lnTo>
                      <a:pt x="801" y="475"/>
                    </a:lnTo>
                    <a:lnTo>
                      <a:pt x="805" y="484"/>
                    </a:lnTo>
                    <a:lnTo>
                      <a:pt x="806" y="489"/>
                    </a:lnTo>
                    <a:lnTo>
                      <a:pt x="803" y="493"/>
                    </a:lnTo>
                    <a:lnTo>
                      <a:pt x="800" y="494"/>
                    </a:lnTo>
                    <a:lnTo>
                      <a:pt x="796" y="495"/>
                    </a:lnTo>
                    <a:lnTo>
                      <a:pt x="791" y="495"/>
                    </a:lnTo>
                    <a:lnTo>
                      <a:pt x="767" y="497"/>
                    </a:lnTo>
                    <a:lnTo>
                      <a:pt x="743" y="499"/>
                    </a:lnTo>
                    <a:lnTo>
                      <a:pt x="715" y="502"/>
                    </a:lnTo>
                    <a:lnTo>
                      <a:pt x="685" y="506"/>
                    </a:lnTo>
                    <a:lnTo>
                      <a:pt x="655" y="511"/>
                    </a:lnTo>
                    <a:lnTo>
                      <a:pt x="622" y="517"/>
                    </a:lnTo>
                    <a:lnTo>
                      <a:pt x="587" y="523"/>
                    </a:lnTo>
                    <a:lnTo>
                      <a:pt x="551" y="530"/>
                    </a:lnTo>
                    <a:lnTo>
                      <a:pt x="573" y="537"/>
                    </a:lnTo>
                    <a:lnTo>
                      <a:pt x="595" y="542"/>
                    </a:lnTo>
                    <a:lnTo>
                      <a:pt x="619" y="547"/>
                    </a:lnTo>
                    <a:lnTo>
                      <a:pt x="641" y="550"/>
                    </a:lnTo>
                    <a:lnTo>
                      <a:pt x="638" y="556"/>
                    </a:lnTo>
                    <a:lnTo>
                      <a:pt x="634" y="562"/>
                    </a:lnTo>
                    <a:lnTo>
                      <a:pt x="631" y="572"/>
                    </a:lnTo>
                    <a:lnTo>
                      <a:pt x="628" y="583"/>
                    </a:lnTo>
                    <a:lnTo>
                      <a:pt x="624" y="608"/>
                    </a:lnTo>
                    <a:lnTo>
                      <a:pt x="621" y="640"/>
                    </a:lnTo>
                    <a:lnTo>
                      <a:pt x="633" y="638"/>
                    </a:lnTo>
                    <a:lnTo>
                      <a:pt x="647" y="635"/>
                    </a:lnTo>
                    <a:lnTo>
                      <a:pt x="665" y="632"/>
                    </a:lnTo>
                    <a:lnTo>
                      <a:pt x="685" y="630"/>
                    </a:lnTo>
                    <a:lnTo>
                      <a:pt x="722" y="623"/>
                    </a:lnTo>
                    <a:lnTo>
                      <a:pt x="751" y="618"/>
                    </a:lnTo>
                    <a:lnTo>
                      <a:pt x="777" y="613"/>
                    </a:lnTo>
                    <a:lnTo>
                      <a:pt x="796" y="610"/>
                    </a:lnTo>
                    <a:close/>
                    <a:moveTo>
                      <a:pt x="551" y="0"/>
                    </a:moveTo>
                    <a:lnTo>
                      <a:pt x="569" y="16"/>
                    </a:lnTo>
                    <a:lnTo>
                      <a:pt x="587" y="31"/>
                    </a:lnTo>
                    <a:lnTo>
                      <a:pt x="603" y="43"/>
                    </a:lnTo>
                    <a:lnTo>
                      <a:pt x="619" y="55"/>
                    </a:lnTo>
                    <a:lnTo>
                      <a:pt x="633" y="63"/>
                    </a:lnTo>
                    <a:lnTo>
                      <a:pt x="646" y="71"/>
                    </a:lnTo>
                    <a:lnTo>
                      <a:pt x="659" y="76"/>
                    </a:lnTo>
                    <a:lnTo>
                      <a:pt x="671" y="79"/>
                    </a:lnTo>
                    <a:lnTo>
                      <a:pt x="656" y="91"/>
                    </a:lnTo>
                    <a:lnTo>
                      <a:pt x="641" y="105"/>
                    </a:lnTo>
                    <a:lnTo>
                      <a:pt x="626" y="121"/>
                    </a:lnTo>
                    <a:lnTo>
                      <a:pt x="611" y="140"/>
                    </a:lnTo>
                    <a:lnTo>
                      <a:pt x="631" y="154"/>
                    </a:lnTo>
                    <a:lnTo>
                      <a:pt x="659" y="176"/>
                    </a:lnTo>
                    <a:lnTo>
                      <a:pt x="692" y="202"/>
                    </a:lnTo>
                    <a:lnTo>
                      <a:pt x="731" y="235"/>
                    </a:lnTo>
                    <a:lnTo>
                      <a:pt x="768" y="266"/>
                    </a:lnTo>
                    <a:lnTo>
                      <a:pt x="803" y="293"/>
                    </a:lnTo>
                    <a:lnTo>
                      <a:pt x="835" y="318"/>
                    </a:lnTo>
                    <a:lnTo>
                      <a:pt x="863" y="339"/>
                    </a:lnTo>
                    <a:lnTo>
                      <a:pt x="890" y="356"/>
                    </a:lnTo>
                    <a:lnTo>
                      <a:pt x="913" y="371"/>
                    </a:lnTo>
                    <a:lnTo>
                      <a:pt x="933" y="381"/>
                    </a:lnTo>
                    <a:lnTo>
                      <a:pt x="951" y="390"/>
                    </a:lnTo>
                    <a:lnTo>
                      <a:pt x="991" y="405"/>
                    </a:lnTo>
                    <a:lnTo>
                      <a:pt x="1028" y="420"/>
                    </a:lnTo>
                    <a:lnTo>
                      <a:pt x="1063" y="435"/>
                    </a:lnTo>
                    <a:lnTo>
                      <a:pt x="1096" y="451"/>
                    </a:lnTo>
                    <a:lnTo>
                      <a:pt x="1127" y="467"/>
                    </a:lnTo>
                    <a:lnTo>
                      <a:pt x="1158" y="483"/>
                    </a:lnTo>
                    <a:lnTo>
                      <a:pt x="1185" y="499"/>
                    </a:lnTo>
                    <a:lnTo>
                      <a:pt x="1211" y="515"/>
                    </a:lnTo>
                    <a:lnTo>
                      <a:pt x="1219" y="520"/>
                    </a:lnTo>
                    <a:lnTo>
                      <a:pt x="1227" y="524"/>
                    </a:lnTo>
                    <a:lnTo>
                      <a:pt x="1232" y="530"/>
                    </a:lnTo>
                    <a:lnTo>
                      <a:pt x="1237" y="535"/>
                    </a:lnTo>
                    <a:lnTo>
                      <a:pt x="1242" y="540"/>
                    </a:lnTo>
                    <a:lnTo>
                      <a:pt x="1244" y="544"/>
                    </a:lnTo>
                    <a:lnTo>
                      <a:pt x="1246" y="550"/>
                    </a:lnTo>
                    <a:lnTo>
                      <a:pt x="1246" y="555"/>
                    </a:lnTo>
                    <a:lnTo>
                      <a:pt x="1245" y="558"/>
                    </a:lnTo>
                    <a:lnTo>
                      <a:pt x="1242" y="561"/>
                    </a:lnTo>
                    <a:lnTo>
                      <a:pt x="1237" y="564"/>
                    </a:lnTo>
                    <a:lnTo>
                      <a:pt x="1232" y="566"/>
                    </a:lnTo>
                    <a:lnTo>
                      <a:pt x="1226" y="568"/>
                    </a:lnTo>
                    <a:lnTo>
                      <a:pt x="1219" y="569"/>
                    </a:lnTo>
                    <a:lnTo>
                      <a:pt x="1211" y="570"/>
                    </a:lnTo>
                    <a:lnTo>
                      <a:pt x="1201" y="570"/>
                    </a:lnTo>
                    <a:lnTo>
                      <a:pt x="1171" y="570"/>
                    </a:lnTo>
                    <a:lnTo>
                      <a:pt x="1141" y="569"/>
                    </a:lnTo>
                    <a:lnTo>
                      <a:pt x="1111" y="567"/>
                    </a:lnTo>
                    <a:lnTo>
                      <a:pt x="1084" y="565"/>
                    </a:lnTo>
                    <a:lnTo>
                      <a:pt x="1056" y="562"/>
                    </a:lnTo>
                    <a:lnTo>
                      <a:pt x="1031" y="558"/>
                    </a:lnTo>
                    <a:lnTo>
                      <a:pt x="1005" y="554"/>
                    </a:lnTo>
                    <a:lnTo>
                      <a:pt x="981" y="550"/>
                    </a:lnTo>
                    <a:lnTo>
                      <a:pt x="966" y="547"/>
                    </a:lnTo>
                    <a:lnTo>
                      <a:pt x="951" y="541"/>
                    </a:lnTo>
                    <a:lnTo>
                      <a:pt x="937" y="535"/>
                    </a:lnTo>
                    <a:lnTo>
                      <a:pt x="923" y="528"/>
                    </a:lnTo>
                    <a:lnTo>
                      <a:pt x="908" y="518"/>
                    </a:lnTo>
                    <a:lnTo>
                      <a:pt x="894" y="506"/>
                    </a:lnTo>
                    <a:lnTo>
                      <a:pt x="880" y="494"/>
                    </a:lnTo>
                    <a:lnTo>
                      <a:pt x="866" y="480"/>
                    </a:lnTo>
                    <a:lnTo>
                      <a:pt x="839" y="454"/>
                    </a:lnTo>
                    <a:lnTo>
                      <a:pt x="806" y="422"/>
                    </a:lnTo>
                    <a:lnTo>
                      <a:pt x="768" y="381"/>
                    </a:lnTo>
                    <a:lnTo>
                      <a:pt x="726" y="335"/>
                    </a:lnTo>
                    <a:lnTo>
                      <a:pt x="679" y="282"/>
                    </a:lnTo>
                    <a:lnTo>
                      <a:pt x="639" y="238"/>
                    </a:lnTo>
                    <a:lnTo>
                      <a:pt x="621" y="220"/>
                    </a:lnTo>
                    <a:lnTo>
                      <a:pt x="604" y="204"/>
                    </a:lnTo>
                    <a:lnTo>
                      <a:pt x="589" y="191"/>
                    </a:lnTo>
                    <a:lnTo>
                      <a:pt x="576" y="180"/>
                    </a:lnTo>
                    <a:lnTo>
                      <a:pt x="566" y="194"/>
                    </a:lnTo>
                    <a:lnTo>
                      <a:pt x="556" y="204"/>
                    </a:lnTo>
                    <a:lnTo>
                      <a:pt x="518" y="262"/>
                    </a:lnTo>
                    <a:lnTo>
                      <a:pt x="480" y="316"/>
                    </a:lnTo>
                    <a:lnTo>
                      <a:pt x="441" y="369"/>
                    </a:lnTo>
                    <a:lnTo>
                      <a:pt x="401" y="419"/>
                    </a:lnTo>
                    <a:lnTo>
                      <a:pt x="360" y="469"/>
                    </a:lnTo>
                    <a:lnTo>
                      <a:pt x="320" y="516"/>
                    </a:lnTo>
                    <a:lnTo>
                      <a:pt x="278" y="561"/>
                    </a:lnTo>
                    <a:lnTo>
                      <a:pt x="236" y="605"/>
                    </a:lnTo>
                    <a:lnTo>
                      <a:pt x="221" y="619"/>
                    </a:lnTo>
                    <a:lnTo>
                      <a:pt x="205" y="631"/>
                    </a:lnTo>
                    <a:lnTo>
                      <a:pt x="190" y="642"/>
                    </a:lnTo>
                    <a:lnTo>
                      <a:pt x="174" y="650"/>
                    </a:lnTo>
                    <a:lnTo>
                      <a:pt x="159" y="658"/>
                    </a:lnTo>
                    <a:lnTo>
                      <a:pt x="144" y="663"/>
                    </a:lnTo>
                    <a:lnTo>
                      <a:pt x="129" y="667"/>
                    </a:lnTo>
                    <a:lnTo>
                      <a:pt x="115" y="668"/>
                    </a:lnTo>
                    <a:lnTo>
                      <a:pt x="100" y="668"/>
                    </a:lnTo>
                    <a:lnTo>
                      <a:pt x="85" y="667"/>
                    </a:lnTo>
                    <a:lnTo>
                      <a:pt x="71" y="664"/>
                    </a:lnTo>
                    <a:lnTo>
                      <a:pt x="56" y="659"/>
                    </a:lnTo>
                    <a:lnTo>
                      <a:pt x="43" y="652"/>
                    </a:lnTo>
                    <a:lnTo>
                      <a:pt x="29" y="643"/>
                    </a:lnTo>
                    <a:lnTo>
                      <a:pt x="15" y="632"/>
                    </a:lnTo>
                    <a:lnTo>
                      <a:pt x="0" y="620"/>
                    </a:lnTo>
                    <a:lnTo>
                      <a:pt x="31" y="608"/>
                    </a:lnTo>
                    <a:lnTo>
                      <a:pt x="61" y="593"/>
                    </a:lnTo>
                    <a:lnTo>
                      <a:pt x="90" y="577"/>
                    </a:lnTo>
                    <a:lnTo>
                      <a:pt x="120" y="560"/>
                    </a:lnTo>
                    <a:lnTo>
                      <a:pt x="150" y="540"/>
                    </a:lnTo>
                    <a:lnTo>
                      <a:pt x="179" y="519"/>
                    </a:lnTo>
                    <a:lnTo>
                      <a:pt x="209" y="495"/>
                    </a:lnTo>
                    <a:lnTo>
                      <a:pt x="239" y="470"/>
                    </a:lnTo>
                    <a:lnTo>
                      <a:pt x="268" y="443"/>
                    </a:lnTo>
                    <a:lnTo>
                      <a:pt x="297" y="413"/>
                    </a:lnTo>
                    <a:lnTo>
                      <a:pt x="326" y="382"/>
                    </a:lnTo>
                    <a:lnTo>
                      <a:pt x="355" y="349"/>
                    </a:lnTo>
                    <a:lnTo>
                      <a:pt x="385" y="315"/>
                    </a:lnTo>
                    <a:lnTo>
                      <a:pt x="413" y="278"/>
                    </a:lnTo>
                    <a:lnTo>
                      <a:pt x="442" y="240"/>
                    </a:lnTo>
                    <a:lnTo>
                      <a:pt x="470" y="200"/>
                    </a:lnTo>
                    <a:lnTo>
                      <a:pt x="488" y="170"/>
                    </a:lnTo>
                    <a:lnTo>
                      <a:pt x="504" y="142"/>
                    </a:lnTo>
                    <a:lnTo>
                      <a:pt x="517" y="115"/>
                    </a:lnTo>
                    <a:lnTo>
                      <a:pt x="529" y="90"/>
                    </a:lnTo>
                    <a:lnTo>
                      <a:pt x="537" y="65"/>
                    </a:lnTo>
                    <a:lnTo>
                      <a:pt x="544" y="42"/>
                    </a:lnTo>
                    <a:lnTo>
                      <a:pt x="549" y="20"/>
                    </a:lnTo>
                    <a:lnTo>
                      <a:pt x="551" y="0"/>
                    </a:lnTo>
                    <a:close/>
                    <a:moveTo>
                      <a:pt x="641" y="915"/>
                    </a:moveTo>
                    <a:lnTo>
                      <a:pt x="630" y="901"/>
                    </a:lnTo>
                    <a:lnTo>
                      <a:pt x="662" y="875"/>
                    </a:lnTo>
                    <a:lnTo>
                      <a:pt x="689" y="851"/>
                    </a:lnTo>
                    <a:lnTo>
                      <a:pt x="701" y="839"/>
                    </a:lnTo>
                    <a:lnTo>
                      <a:pt x="713" y="827"/>
                    </a:lnTo>
                    <a:lnTo>
                      <a:pt x="724" y="816"/>
                    </a:lnTo>
                    <a:lnTo>
                      <a:pt x="733" y="804"/>
                    </a:lnTo>
                    <a:lnTo>
                      <a:pt x="743" y="792"/>
                    </a:lnTo>
                    <a:lnTo>
                      <a:pt x="750" y="781"/>
                    </a:lnTo>
                    <a:lnTo>
                      <a:pt x="758" y="769"/>
                    </a:lnTo>
                    <a:lnTo>
                      <a:pt x="764" y="759"/>
                    </a:lnTo>
                    <a:lnTo>
                      <a:pt x="769" y="748"/>
                    </a:lnTo>
                    <a:lnTo>
                      <a:pt x="774" y="736"/>
                    </a:lnTo>
                    <a:lnTo>
                      <a:pt x="778" y="726"/>
                    </a:lnTo>
                    <a:lnTo>
                      <a:pt x="781" y="715"/>
                    </a:lnTo>
                    <a:lnTo>
                      <a:pt x="791" y="731"/>
                    </a:lnTo>
                    <a:lnTo>
                      <a:pt x="804" y="746"/>
                    </a:lnTo>
                    <a:lnTo>
                      <a:pt x="817" y="760"/>
                    </a:lnTo>
                    <a:lnTo>
                      <a:pt x="831" y="772"/>
                    </a:lnTo>
                    <a:lnTo>
                      <a:pt x="846" y="785"/>
                    </a:lnTo>
                    <a:lnTo>
                      <a:pt x="863" y="796"/>
                    </a:lnTo>
                    <a:lnTo>
                      <a:pt x="881" y="806"/>
                    </a:lnTo>
                    <a:lnTo>
                      <a:pt x="902" y="815"/>
                    </a:lnTo>
                    <a:lnTo>
                      <a:pt x="890" y="817"/>
                    </a:lnTo>
                    <a:lnTo>
                      <a:pt x="878" y="820"/>
                    </a:lnTo>
                    <a:lnTo>
                      <a:pt x="864" y="824"/>
                    </a:lnTo>
                    <a:lnTo>
                      <a:pt x="850" y="828"/>
                    </a:lnTo>
                    <a:lnTo>
                      <a:pt x="816" y="842"/>
                    </a:lnTo>
                    <a:lnTo>
                      <a:pt x="776" y="860"/>
                    </a:lnTo>
                    <a:lnTo>
                      <a:pt x="735" y="878"/>
                    </a:lnTo>
                    <a:lnTo>
                      <a:pt x="700" y="894"/>
                    </a:lnTo>
                    <a:lnTo>
                      <a:pt x="669" y="906"/>
                    </a:lnTo>
                    <a:lnTo>
                      <a:pt x="641" y="915"/>
                    </a:lnTo>
                    <a:close/>
                    <a:moveTo>
                      <a:pt x="345" y="796"/>
                    </a:moveTo>
                    <a:lnTo>
                      <a:pt x="392" y="818"/>
                    </a:lnTo>
                    <a:lnTo>
                      <a:pt x="427" y="836"/>
                    </a:lnTo>
                    <a:lnTo>
                      <a:pt x="440" y="844"/>
                    </a:lnTo>
                    <a:lnTo>
                      <a:pt x="450" y="851"/>
                    </a:lnTo>
                    <a:lnTo>
                      <a:pt x="457" y="856"/>
                    </a:lnTo>
                    <a:lnTo>
                      <a:pt x="461" y="860"/>
                    </a:lnTo>
                    <a:lnTo>
                      <a:pt x="462" y="866"/>
                    </a:lnTo>
                    <a:lnTo>
                      <a:pt x="462" y="873"/>
                    </a:lnTo>
                    <a:lnTo>
                      <a:pt x="461" y="881"/>
                    </a:lnTo>
                    <a:lnTo>
                      <a:pt x="459" y="891"/>
                    </a:lnTo>
                    <a:lnTo>
                      <a:pt x="451" y="915"/>
                    </a:lnTo>
                    <a:lnTo>
                      <a:pt x="441" y="945"/>
                    </a:lnTo>
                    <a:lnTo>
                      <a:pt x="438" y="954"/>
                    </a:lnTo>
                    <a:lnTo>
                      <a:pt x="434" y="960"/>
                    </a:lnTo>
                    <a:lnTo>
                      <a:pt x="432" y="962"/>
                    </a:lnTo>
                    <a:lnTo>
                      <a:pt x="430" y="964"/>
                    </a:lnTo>
                    <a:lnTo>
                      <a:pt x="428" y="965"/>
                    </a:lnTo>
                    <a:lnTo>
                      <a:pt x="426" y="965"/>
                    </a:lnTo>
                    <a:lnTo>
                      <a:pt x="423" y="964"/>
                    </a:lnTo>
                    <a:lnTo>
                      <a:pt x="420" y="961"/>
                    </a:lnTo>
                    <a:lnTo>
                      <a:pt x="415" y="957"/>
                    </a:lnTo>
                    <a:lnTo>
                      <a:pt x="411" y="950"/>
                    </a:lnTo>
                    <a:lnTo>
                      <a:pt x="410" y="949"/>
                    </a:lnTo>
                    <a:lnTo>
                      <a:pt x="406" y="945"/>
                    </a:lnTo>
                    <a:lnTo>
                      <a:pt x="394" y="928"/>
                    </a:lnTo>
                    <a:lnTo>
                      <a:pt x="383" y="910"/>
                    </a:lnTo>
                    <a:lnTo>
                      <a:pt x="372" y="893"/>
                    </a:lnTo>
                    <a:lnTo>
                      <a:pt x="362" y="876"/>
                    </a:lnTo>
                    <a:lnTo>
                      <a:pt x="353" y="859"/>
                    </a:lnTo>
                    <a:lnTo>
                      <a:pt x="344" y="843"/>
                    </a:lnTo>
                    <a:lnTo>
                      <a:pt x="337" y="826"/>
                    </a:lnTo>
                    <a:lnTo>
                      <a:pt x="331" y="810"/>
                    </a:lnTo>
                    <a:lnTo>
                      <a:pt x="327" y="798"/>
                    </a:lnTo>
                    <a:lnTo>
                      <a:pt x="326" y="790"/>
                    </a:lnTo>
                    <a:lnTo>
                      <a:pt x="329" y="788"/>
                    </a:lnTo>
                    <a:lnTo>
                      <a:pt x="334" y="789"/>
                    </a:lnTo>
                    <a:lnTo>
                      <a:pt x="339" y="791"/>
                    </a:lnTo>
                    <a:lnTo>
                      <a:pt x="345" y="796"/>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416" name="Freeform 14"/>
              <p:cNvSpPr/>
              <p:nvPr/>
            </p:nvSpPr>
            <p:spPr>
              <a:xfrm>
                <a:off x="2761560" y="1111680"/>
                <a:ext cx="176040" cy="146520"/>
              </a:xfrm>
              <a:custGeom>
                <a:avLst/>
                <a:gdLst>
                  <a:gd name="textAreaLeft" fmla="*/ 0 w 176040"/>
                  <a:gd name="textAreaRight" fmla="*/ 176400 w 176040"/>
                  <a:gd name="textAreaTop" fmla="*/ 0 h 146520"/>
                  <a:gd name="textAreaBottom" fmla="*/ 146880 h 146520"/>
                </a:gdLst>
                <a:ahLst/>
                <a:rect l="textAreaLeft" t="textAreaTop" r="textAreaRight" b="textAreaBottom"/>
                <a:pathLst>
                  <a:path w="1185" h="1056">
                    <a:moveTo>
                      <a:pt x="695" y="800"/>
                    </a:moveTo>
                    <a:lnTo>
                      <a:pt x="687" y="792"/>
                    </a:lnTo>
                    <a:lnTo>
                      <a:pt x="674" y="781"/>
                    </a:lnTo>
                    <a:lnTo>
                      <a:pt x="659" y="766"/>
                    </a:lnTo>
                    <a:lnTo>
                      <a:pt x="647" y="754"/>
                    </a:lnTo>
                    <a:lnTo>
                      <a:pt x="643" y="749"/>
                    </a:lnTo>
                    <a:lnTo>
                      <a:pt x="638" y="744"/>
                    </a:lnTo>
                    <a:lnTo>
                      <a:pt x="636" y="739"/>
                    </a:lnTo>
                    <a:lnTo>
                      <a:pt x="634" y="735"/>
                    </a:lnTo>
                    <a:lnTo>
                      <a:pt x="639" y="714"/>
                    </a:lnTo>
                    <a:lnTo>
                      <a:pt x="644" y="693"/>
                    </a:lnTo>
                    <a:lnTo>
                      <a:pt x="648" y="670"/>
                    </a:lnTo>
                    <a:lnTo>
                      <a:pt x="651" y="648"/>
                    </a:lnTo>
                    <a:lnTo>
                      <a:pt x="653" y="626"/>
                    </a:lnTo>
                    <a:lnTo>
                      <a:pt x="655" y="603"/>
                    </a:lnTo>
                    <a:lnTo>
                      <a:pt x="656" y="578"/>
                    </a:lnTo>
                    <a:lnTo>
                      <a:pt x="656" y="554"/>
                    </a:lnTo>
                    <a:lnTo>
                      <a:pt x="656" y="528"/>
                    </a:lnTo>
                    <a:lnTo>
                      <a:pt x="655" y="503"/>
                    </a:lnTo>
                    <a:lnTo>
                      <a:pt x="653" y="478"/>
                    </a:lnTo>
                    <a:lnTo>
                      <a:pt x="651" y="451"/>
                    </a:lnTo>
                    <a:lnTo>
                      <a:pt x="648" y="423"/>
                    </a:lnTo>
                    <a:lnTo>
                      <a:pt x="644" y="396"/>
                    </a:lnTo>
                    <a:lnTo>
                      <a:pt x="639" y="368"/>
                    </a:lnTo>
                    <a:lnTo>
                      <a:pt x="634" y="340"/>
                    </a:lnTo>
                    <a:lnTo>
                      <a:pt x="655" y="347"/>
                    </a:lnTo>
                    <a:lnTo>
                      <a:pt x="677" y="355"/>
                    </a:lnTo>
                    <a:lnTo>
                      <a:pt x="700" y="362"/>
                    </a:lnTo>
                    <a:lnTo>
                      <a:pt x="724" y="369"/>
                    </a:lnTo>
                    <a:lnTo>
                      <a:pt x="731" y="369"/>
                    </a:lnTo>
                    <a:lnTo>
                      <a:pt x="739" y="369"/>
                    </a:lnTo>
                    <a:lnTo>
                      <a:pt x="753" y="366"/>
                    </a:lnTo>
                    <a:lnTo>
                      <a:pt x="764" y="365"/>
                    </a:lnTo>
                    <a:lnTo>
                      <a:pt x="775" y="341"/>
                    </a:lnTo>
                    <a:lnTo>
                      <a:pt x="785" y="316"/>
                    </a:lnTo>
                    <a:lnTo>
                      <a:pt x="792" y="294"/>
                    </a:lnTo>
                    <a:lnTo>
                      <a:pt x="798" y="273"/>
                    </a:lnTo>
                    <a:lnTo>
                      <a:pt x="803" y="253"/>
                    </a:lnTo>
                    <a:lnTo>
                      <a:pt x="807" y="234"/>
                    </a:lnTo>
                    <a:lnTo>
                      <a:pt x="809" y="217"/>
                    </a:lnTo>
                    <a:lnTo>
                      <a:pt x="810" y="200"/>
                    </a:lnTo>
                    <a:lnTo>
                      <a:pt x="764" y="206"/>
                    </a:lnTo>
                    <a:lnTo>
                      <a:pt x="723" y="213"/>
                    </a:lnTo>
                    <a:lnTo>
                      <a:pt x="686" y="217"/>
                    </a:lnTo>
                    <a:lnTo>
                      <a:pt x="654" y="220"/>
                    </a:lnTo>
                    <a:lnTo>
                      <a:pt x="647" y="218"/>
                    </a:lnTo>
                    <a:lnTo>
                      <a:pt x="638" y="215"/>
                    </a:lnTo>
                    <a:lnTo>
                      <a:pt x="630" y="209"/>
                    </a:lnTo>
                    <a:lnTo>
                      <a:pt x="620" y="203"/>
                    </a:lnTo>
                    <a:lnTo>
                      <a:pt x="611" y="196"/>
                    </a:lnTo>
                    <a:lnTo>
                      <a:pt x="601" y="187"/>
                    </a:lnTo>
                    <a:lnTo>
                      <a:pt x="591" y="177"/>
                    </a:lnTo>
                    <a:lnTo>
                      <a:pt x="579" y="165"/>
                    </a:lnTo>
                    <a:lnTo>
                      <a:pt x="605" y="161"/>
                    </a:lnTo>
                    <a:lnTo>
                      <a:pt x="637" y="155"/>
                    </a:lnTo>
                    <a:lnTo>
                      <a:pt x="679" y="148"/>
                    </a:lnTo>
                    <a:lnTo>
                      <a:pt x="728" y="138"/>
                    </a:lnTo>
                    <a:lnTo>
                      <a:pt x="786" y="127"/>
                    </a:lnTo>
                    <a:lnTo>
                      <a:pt x="850" y="113"/>
                    </a:lnTo>
                    <a:lnTo>
                      <a:pt x="923" y="97"/>
                    </a:lnTo>
                    <a:lnTo>
                      <a:pt x="1005" y="80"/>
                    </a:lnTo>
                    <a:lnTo>
                      <a:pt x="1037" y="71"/>
                    </a:lnTo>
                    <a:lnTo>
                      <a:pt x="1064" y="63"/>
                    </a:lnTo>
                    <a:lnTo>
                      <a:pt x="1088" y="58"/>
                    </a:lnTo>
                    <a:lnTo>
                      <a:pt x="1104" y="55"/>
                    </a:lnTo>
                    <a:lnTo>
                      <a:pt x="1108" y="53"/>
                    </a:lnTo>
                    <a:lnTo>
                      <a:pt x="1112" y="52"/>
                    </a:lnTo>
                    <a:lnTo>
                      <a:pt x="1115" y="50"/>
                    </a:lnTo>
                    <a:lnTo>
                      <a:pt x="1118" y="50"/>
                    </a:lnTo>
                    <a:lnTo>
                      <a:pt x="1121" y="52"/>
                    </a:lnTo>
                    <a:lnTo>
                      <a:pt x="1125" y="54"/>
                    </a:lnTo>
                    <a:lnTo>
                      <a:pt x="1127" y="56"/>
                    </a:lnTo>
                    <a:lnTo>
                      <a:pt x="1130" y="60"/>
                    </a:lnTo>
                    <a:lnTo>
                      <a:pt x="1136" y="66"/>
                    </a:lnTo>
                    <a:lnTo>
                      <a:pt x="1145" y="75"/>
                    </a:lnTo>
                    <a:lnTo>
                      <a:pt x="1150" y="79"/>
                    </a:lnTo>
                    <a:lnTo>
                      <a:pt x="1158" y="85"/>
                    </a:lnTo>
                    <a:lnTo>
                      <a:pt x="1168" y="96"/>
                    </a:lnTo>
                    <a:lnTo>
                      <a:pt x="1180" y="110"/>
                    </a:lnTo>
                    <a:lnTo>
                      <a:pt x="1183" y="118"/>
                    </a:lnTo>
                    <a:lnTo>
                      <a:pt x="1185" y="125"/>
                    </a:lnTo>
                    <a:lnTo>
                      <a:pt x="1182" y="127"/>
                    </a:lnTo>
                    <a:lnTo>
                      <a:pt x="1179" y="128"/>
                    </a:lnTo>
                    <a:lnTo>
                      <a:pt x="1174" y="129"/>
                    </a:lnTo>
                    <a:lnTo>
                      <a:pt x="1169" y="130"/>
                    </a:lnTo>
                    <a:lnTo>
                      <a:pt x="1139" y="135"/>
                    </a:lnTo>
                    <a:lnTo>
                      <a:pt x="1106" y="142"/>
                    </a:lnTo>
                    <a:lnTo>
                      <a:pt x="1068" y="148"/>
                    </a:lnTo>
                    <a:lnTo>
                      <a:pt x="1028" y="155"/>
                    </a:lnTo>
                    <a:lnTo>
                      <a:pt x="985" y="165"/>
                    </a:lnTo>
                    <a:lnTo>
                      <a:pt x="938" y="173"/>
                    </a:lnTo>
                    <a:lnTo>
                      <a:pt x="887" y="184"/>
                    </a:lnTo>
                    <a:lnTo>
                      <a:pt x="834" y="195"/>
                    </a:lnTo>
                    <a:lnTo>
                      <a:pt x="846" y="201"/>
                    </a:lnTo>
                    <a:lnTo>
                      <a:pt x="858" y="206"/>
                    </a:lnTo>
                    <a:lnTo>
                      <a:pt x="869" y="212"/>
                    </a:lnTo>
                    <a:lnTo>
                      <a:pt x="882" y="216"/>
                    </a:lnTo>
                    <a:lnTo>
                      <a:pt x="895" y="220"/>
                    </a:lnTo>
                    <a:lnTo>
                      <a:pt x="907" y="224"/>
                    </a:lnTo>
                    <a:lnTo>
                      <a:pt x="921" y="227"/>
                    </a:lnTo>
                    <a:lnTo>
                      <a:pt x="935" y="230"/>
                    </a:lnTo>
                    <a:lnTo>
                      <a:pt x="925" y="237"/>
                    </a:lnTo>
                    <a:lnTo>
                      <a:pt x="913" y="249"/>
                    </a:lnTo>
                    <a:lnTo>
                      <a:pt x="898" y="265"/>
                    </a:lnTo>
                    <a:lnTo>
                      <a:pt x="880" y="285"/>
                    </a:lnTo>
                    <a:lnTo>
                      <a:pt x="862" y="306"/>
                    </a:lnTo>
                    <a:lnTo>
                      <a:pt x="846" y="326"/>
                    </a:lnTo>
                    <a:lnTo>
                      <a:pt x="830" y="344"/>
                    </a:lnTo>
                    <a:lnTo>
                      <a:pt x="814" y="360"/>
                    </a:lnTo>
                    <a:lnTo>
                      <a:pt x="841" y="354"/>
                    </a:lnTo>
                    <a:lnTo>
                      <a:pt x="866" y="346"/>
                    </a:lnTo>
                    <a:lnTo>
                      <a:pt x="889" y="340"/>
                    </a:lnTo>
                    <a:lnTo>
                      <a:pt x="911" y="332"/>
                    </a:lnTo>
                    <a:lnTo>
                      <a:pt x="931" y="325"/>
                    </a:lnTo>
                    <a:lnTo>
                      <a:pt x="949" y="316"/>
                    </a:lnTo>
                    <a:lnTo>
                      <a:pt x="965" y="308"/>
                    </a:lnTo>
                    <a:lnTo>
                      <a:pt x="979" y="299"/>
                    </a:lnTo>
                    <a:lnTo>
                      <a:pt x="994" y="310"/>
                    </a:lnTo>
                    <a:lnTo>
                      <a:pt x="1009" y="320"/>
                    </a:lnTo>
                    <a:lnTo>
                      <a:pt x="1026" y="328"/>
                    </a:lnTo>
                    <a:lnTo>
                      <a:pt x="1043" y="336"/>
                    </a:lnTo>
                    <a:lnTo>
                      <a:pt x="1062" y="342"/>
                    </a:lnTo>
                    <a:lnTo>
                      <a:pt x="1081" y="347"/>
                    </a:lnTo>
                    <a:lnTo>
                      <a:pt x="1102" y="351"/>
                    </a:lnTo>
                    <a:lnTo>
                      <a:pt x="1125" y="355"/>
                    </a:lnTo>
                    <a:lnTo>
                      <a:pt x="1120" y="359"/>
                    </a:lnTo>
                    <a:lnTo>
                      <a:pt x="1117" y="365"/>
                    </a:lnTo>
                    <a:lnTo>
                      <a:pt x="1114" y="373"/>
                    </a:lnTo>
                    <a:lnTo>
                      <a:pt x="1112" y="382"/>
                    </a:lnTo>
                    <a:lnTo>
                      <a:pt x="1107" y="404"/>
                    </a:lnTo>
                    <a:lnTo>
                      <a:pt x="1103" y="434"/>
                    </a:lnTo>
                    <a:lnTo>
                      <a:pt x="1100" y="469"/>
                    </a:lnTo>
                    <a:lnTo>
                      <a:pt x="1099" y="509"/>
                    </a:lnTo>
                    <a:lnTo>
                      <a:pt x="1099" y="557"/>
                    </a:lnTo>
                    <a:lnTo>
                      <a:pt x="1099" y="610"/>
                    </a:lnTo>
                    <a:lnTo>
                      <a:pt x="1100" y="642"/>
                    </a:lnTo>
                    <a:lnTo>
                      <a:pt x="1101" y="670"/>
                    </a:lnTo>
                    <a:lnTo>
                      <a:pt x="1102" y="697"/>
                    </a:lnTo>
                    <a:lnTo>
                      <a:pt x="1102" y="721"/>
                    </a:lnTo>
                    <a:lnTo>
                      <a:pt x="1102" y="744"/>
                    </a:lnTo>
                    <a:lnTo>
                      <a:pt x="1101" y="763"/>
                    </a:lnTo>
                    <a:lnTo>
                      <a:pt x="1100" y="781"/>
                    </a:lnTo>
                    <a:lnTo>
                      <a:pt x="1099" y="795"/>
                    </a:lnTo>
                    <a:lnTo>
                      <a:pt x="1097" y="802"/>
                    </a:lnTo>
                    <a:lnTo>
                      <a:pt x="1095" y="807"/>
                    </a:lnTo>
                    <a:lnTo>
                      <a:pt x="1092" y="812"/>
                    </a:lnTo>
                    <a:lnTo>
                      <a:pt x="1090" y="816"/>
                    </a:lnTo>
                    <a:lnTo>
                      <a:pt x="1084" y="815"/>
                    </a:lnTo>
                    <a:lnTo>
                      <a:pt x="1078" y="811"/>
                    </a:lnTo>
                    <a:lnTo>
                      <a:pt x="1072" y="807"/>
                    </a:lnTo>
                    <a:lnTo>
                      <a:pt x="1064" y="800"/>
                    </a:lnTo>
                    <a:lnTo>
                      <a:pt x="1059" y="794"/>
                    </a:lnTo>
                    <a:lnTo>
                      <a:pt x="1050" y="786"/>
                    </a:lnTo>
                    <a:lnTo>
                      <a:pt x="1041" y="776"/>
                    </a:lnTo>
                    <a:lnTo>
                      <a:pt x="1029" y="765"/>
                    </a:lnTo>
                    <a:lnTo>
                      <a:pt x="1008" y="746"/>
                    </a:lnTo>
                    <a:lnTo>
                      <a:pt x="992" y="730"/>
                    </a:lnTo>
                    <a:lnTo>
                      <a:pt x="983" y="720"/>
                    </a:lnTo>
                    <a:lnTo>
                      <a:pt x="979" y="715"/>
                    </a:lnTo>
                    <a:lnTo>
                      <a:pt x="981" y="710"/>
                    </a:lnTo>
                    <a:lnTo>
                      <a:pt x="982" y="704"/>
                    </a:lnTo>
                    <a:lnTo>
                      <a:pt x="985" y="697"/>
                    </a:lnTo>
                    <a:lnTo>
                      <a:pt x="989" y="691"/>
                    </a:lnTo>
                    <a:lnTo>
                      <a:pt x="994" y="682"/>
                    </a:lnTo>
                    <a:lnTo>
                      <a:pt x="997" y="675"/>
                    </a:lnTo>
                    <a:lnTo>
                      <a:pt x="999" y="667"/>
                    </a:lnTo>
                    <a:lnTo>
                      <a:pt x="1000" y="660"/>
                    </a:lnTo>
                    <a:lnTo>
                      <a:pt x="1000" y="642"/>
                    </a:lnTo>
                    <a:lnTo>
                      <a:pt x="1000" y="623"/>
                    </a:lnTo>
                    <a:lnTo>
                      <a:pt x="1000" y="602"/>
                    </a:lnTo>
                    <a:lnTo>
                      <a:pt x="1000" y="580"/>
                    </a:lnTo>
                    <a:lnTo>
                      <a:pt x="1001" y="542"/>
                    </a:lnTo>
                    <a:lnTo>
                      <a:pt x="1001" y="506"/>
                    </a:lnTo>
                    <a:lnTo>
                      <a:pt x="999" y="470"/>
                    </a:lnTo>
                    <a:lnTo>
                      <a:pt x="994" y="435"/>
                    </a:lnTo>
                    <a:lnTo>
                      <a:pt x="993" y="418"/>
                    </a:lnTo>
                    <a:lnTo>
                      <a:pt x="991" y="404"/>
                    </a:lnTo>
                    <a:lnTo>
                      <a:pt x="989" y="393"/>
                    </a:lnTo>
                    <a:lnTo>
                      <a:pt x="987" y="383"/>
                    </a:lnTo>
                    <a:lnTo>
                      <a:pt x="985" y="377"/>
                    </a:lnTo>
                    <a:lnTo>
                      <a:pt x="982" y="372"/>
                    </a:lnTo>
                    <a:lnTo>
                      <a:pt x="979" y="370"/>
                    </a:lnTo>
                    <a:lnTo>
                      <a:pt x="978" y="369"/>
                    </a:lnTo>
                    <a:lnTo>
                      <a:pt x="976" y="369"/>
                    </a:lnTo>
                    <a:lnTo>
                      <a:pt x="974" y="369"/>
                    </a:lnTo>
                    <a:lnTo>
                      <a:pt x="959" y="374"/>
                    </a:lnTo>
                    <a:lnTo>
                      <a:pt x="939" y="379"/>
                    </a:lnTo>
                    <a:lnTo>
                      <a:pt x="915" y="385"/>
                    </a:lnTo>
                    <a:lnTo>
                      <a:pt x="884" y="395"/>
                    </a:lnTo>
                    <a:lnTo>
                      <a:pt x="839" y="407"/>
                    </a:lnTo>
                    <a:lnTo>
                      <a:pt x="799" y="416"/>
                    </a:lnTo>
                    <a:lnTo>
                      <a:pt x="768" y="423"/>
                    </a:lnTo>
                    <a:lnTo>
                      <a:pt x="744" y="430"/>
                    </a:lnTo>
                    <a:lnTo>
                      <a:pt x="724" y="404"/>
                    </a:lnTo>
                    <a:lnTo>
                      <a:pt x="724" y="418"/>
                    </a:lnTo>
                    <a:lnTo>
                      <a:pt x="724" y="435"/>
                    </a:lnTo>
                    <a:lnTo>
                      <a:pt x="724" y="453"/>
                    </a:lnTo>
                    <a:lnTo>
                      <a:pt x="724" y="474"/>
                    </a:lnTo>
                    <a:lnTo>
                      <a:pt x="724" y="499"/>
                    </a:lnTo>
                    <a:lnTo>
                      <a:pt x="724" y="525"/>
                    </a:lnTo>
                    <a:lnTo>
                      <a:pt x="724" y="554"/>
                    </a:lnTo>
                    <a:lnTo>
                      <a:pt x="724" y="585"/>
                    </a:lnTo>
                    <a:lnTo>
                      <a:pt x="723" y="620"/>
                    </a:lnTo>
                    <a:lnTo>
                      <a:pt x="722" y="652"/>
                    </a:lnTo>
                    <a:lnTo>
                      <a:pt x="721" y="682"/>
                    </a:lnTo>
                    <a:lnTo>
                      <a:pt x="721" y="709"/>
                    </a:lnTo>
                    <a:lnTo>
                      <a:pt x="720" y="733"/>
                    </a:lnTo>
                    <a:lnTo>
                      <a:pt x="720" y="755"/>
                    </a:lnTo>
                    <a:lnTo>
                      <a:pt x="720" y="774"/>
                    </a:lnTo>
                    <a:lnTo>
                      <a:pt x="720" y="790"/>
                    </a:lnTo>
                    <a:lnTo>
                      <a:pt x="719" y="796"/>
                    </a:lnTo>
                    <a:lnTo>
                      <a:pt x="717" y="802"/>
                    </a:lnTo>
                    <a:lnTo>
                      <a:pt x="716" y="803"/>
                    </a:lnTo>
                    <a:lnTo>
                      <a:pt x="714" y="804"/>
                    </a:lnTo>
                    <a:lnTo>
                      <a:pt x="712" y="805"/>
                    </a:lnTo>
                    <a:lnTo>
                      <a:pt x="709" y="805"/>
                    </a:lnTo>
                    <a:lnTo>
                      <a:pt x="706" y="807"/>
                    </a:lnTo>
                    <a:lnTo>
                      <a:pt x="703" y="806"/>
                    </a:lnTo>
                    <a:lnTo>
                      <a:pt x="699" y="804"/>
                    </a:lnTo>
                    <a:lnTo>
                      <a:pt x="695" y="800"/>
                    </a:lnTo>
                    <a:close/>
                    <a:moveTo>
                      <a:pt x="414" y="170"/>
                    </a:moveTo>
                    <a:lnTo>
                      <a:pt x="445" y="180"/>
                    </a:lnTo>
                    <a:lnTo>
                      <a:pt x="473" y="189"/>
                    </a:lnTo>
                    <a:lnTo>
                      <a:pt x="499" y="199"/>
                    </a:lnTo>
                    <a:lnTo>
                      <a:pt x="523" y="208"/>
                    </a:lnTo>
                    <a:lnTo>
                      <a:pt x="545" y="218"/>
                    </a:lnTo>
                    <a:lnTo>
                      <a:pt x="565" y="226"/>
                    </a:lnTo>
                    <a:lnTo>
                      <a:pt x="583" y="236"/>
                    </a:lnTo>
                    <a:lnTo>
                      <a:pt x="599" y="244"/>
                    </a:lnTo>
                    <a:lnTo>
                      <a:pt x="601" y="252"/>
                    </a:lnTo>
                    <a:lnTo>
                      <a:pt x="603" y="259"/>
                    </a:lnTo>
                    <a:lnTo>
                      <a:pt x="605" y="269"/>
                    </a:lnTo>
                    <a:lnTo>
                      <a:pt x="606" y="279"/>
                    </a:lnTo>
                    <a:lnTo>
                      <a:pt x="606" y="305"/>
                    </a:lnTo>
                    <a:lnTo>
                      <a:pt x="605" y="334"/>
                    </a:lnTo>
                    <a:lnTo>
                      <a:pt x="602" y="341"/>
                    </a:lnTo>
                    <a:lnTo>
                      <a:pt x="600" y="345"/>
                    </a:lnTo>
                    <a:lnTo>
                      <a:pt x="598" y="348"/>
                    </a:lnTo>
                    <a:lnTo>
                      <a:pt x="594" y="351"/>
                    </a:lnTo>
                    <a:lnTo>
                      <a:pt x="591" y="352"/>
                    </a:lnTo>
                    <a:lnTo>
                      <a:pt x="585" y="352"/>
                    </a:lnTo>
                    <a:lnTo>
                      <a:pt x="580" y="351"/>
                    </a:lnTo>
                    <a:lnTo>
                      <a:pt x="574" y="349"/>
                    </a:lnTo>
                    <a:lnTo>
                      <a:pt x="548" y="329"/>
                    </a:lnTo>
                    <a:lnTo>
                      <a:pt x="524" y="308"/>
                    </a:lnTo>
                    <a:lnTo>
                      <a:pt x="501" y="288"/>
                    </a:lnTo>
                    <a:lnTo>
                      <a:pt x="480" y="269"/>
                    </a:lnTo>
                    <a:lnTo>
                      <a:pt x="458" y="250"/>
                    </a:lnTo>
                    <a:lnTo>
                      <a:pt x="439" y="231"/>
                    </a:lnTo>
                    <a:lnTo>
                      <a:pt x="421" y="213"/>
                    </a:lnTo>
                    <a:lnTo>
                      <a:pt x="404" y="195"/>
                    </a:lnTo>
                    <a:lnTo>
                      <a:pt x="378" y="259"/>
                    </a:lnTo>
                    <a:lnTo>
                      <a:pt x="350" y="321"/>
                    </a:lnTo>
                    <a:lnTo>
                      <a:pt x="324" y="380"/>
                    </a:lnTo>
                    <a:lnTo>
                      <a:pt x="295" y="435"/>
                    </a:lnTo>
                    <a:lnTo>
                      <a:pt x="268" y="487"/>
                    </a:lnTo>
                    <a:lnTo>
                      <a:pt x="238" y="536"/>
                    </a:lnTo>
                    <a:lnTo>
                      <a:pt x="224" y="559"/>
                    </a:lnTo>
                    <a:lnTo>
                      <a:pt x="209" y="582"/>
                    </a:lnTo>
                    <a:lnTo>
                      <a:pt x="195" y="604"/>
                    </a:lnTo>
                    <a:lnTo>
                      <a:pt x="180" y="625"/>
                    </a:lnTo>
                    <a:lnTo>
                      <a:pt x="170" y="638"/>
                    </a:lnTo>
                    <a:lnTo>
                      <a:pt x="160" y="650"/>
                    </a:lnTo>
                    <a:lnTo>
                      <a:pt x="150" y="661"/>
                    </a:lnTo>
                    <a:lnTo>
                      <a:pt x="140" y="670"/>
                    </a:lnTo>
                    <a:lnTo>
                      <a:pt x="129" y="678"/>
                    </a:lnTo>
                    <a:lnTo>
                      <a:pt x="118" y="685"/>
                    </a:lnTo>
                    <a:lnTo>
                      <a:pt x="108" y="691"/>
                    </a:lnTo>
                    <a:lnTo>
                      <a:pt x="97" y="695"/>
                    </a:lnTo>
                    <a:lnTo>
                      <a:pt x="86" y="698"/>
                    </a:lnTo>
                    <a:lnTo>
                      <a:pt x="74" y="700"/>
                    </a:lnTo>
                    <a:lnTo>
                      <a:pt x="62" y="701"/>
                    </a:lnTo>
                    <a:lnTo>
                      <a:pt x="50" y="700"/>
                    </a:lnTo>
                    <a:lnTo>
                      <a:pt x="38" y="698"/>
                    </a:lnTo>
                    <a:lnTo>
                      <a:pt x="25" y="695"/>
                    </a:lnTo>
                    <a:lnTo>
                      <a:pt x="12" y="691"/>
                    </a:lnTo>
                    <a:lnTo>
                      <a:pt x="0" y="685"/>
                    </a:lnTo>
                    <a:lnTo>
                      <a:pt x="24" y="664"/>
                    </a:lnTo>
                    <a:lnTo>
                      <a:pt x="48" y="642"/>
                    </a:lnTo>
                    <a:lnTo>
                      <a:pt x="72" y="618"/>
                    </a:lnTo>
                    <a:lnTo>
                      <a:pt x="95" y="594"/>
                    </a:lnTo>
                    <a:lnTo>
                      <a:pt x="117" y="568"/>
                    </a:lnTo>
                    <a:lnTo>
                      <a:pt x="138" y="540"/>
                    </a:lnTo>
                    <a:lnTo>
                      <a:pt x="160" y="510"/>
                    </a:lnTo>
                    <a:lnTo>
                      <a:pt x="181" y="480"/>
                    </a:lnTo>
                    <a:lnTo>
                      <a:pt x="201" y="448"/>
                    </a:lnTo>
                    <a:lnTo>
                      <a:pt x="220" y="415"/>
                    </a:lnTo>
                    <a:lnTo>
                      <a:pt x="239" y="380"/>
                    </a:lnTo>
                    <a:lnTo>
                      <a:pt x="257" y="344"/>
                    </a:lnTo>
                    <a:lnTo>
                      <a:pt x="275" y="306"/>
                    </a:lnTo>
                    <a:lnTo>
                      <a:pt x="292" y="267"/>
                    </a:lnTo>
                    <a:lnTo>
                      <a:pt x="308" y="226"/>
                    </a:lnTo>
                    <a:lnTo>
                      <a:pt x="324" y="185"/>
                    </a:lnTo>
                    <a:lnTo>
                      <a:pt x="332" y="151"/>
                    </a:lnTo>
                    <a:lnTo>
                      <a:pt x="339" y="120"/>
                    </a:lnTo>
                    <a:lnTo>
                      <a:pt x="344" y="93"/>
                    </a:lnTo>
                    <a:lnTo>
                      <a:pt x="348" y="68"/>
                    </a:lnTo>
                    <a:lnTo>
                      <a:pt x="350" y="46"/>
                    </a:lnTo>
                    <a:lnTo>
                      <a:pt x="351" y="28"/>
                    </a:lnTo>
                    <a:lnTo>
                      <a:pt x="351" y="12"/>
                    </a:lnTo>
                    <a:lnTo>
                      <a:pt x="349" y="0"/>
                    </a:lnTo>
                    <a:lnTo>
                      <a:pt x="361" y="8"/>
                    </a:lnTo>
                    <a:lnTo>
                      <a:pt x="375" y="15"/>
                    </a:lnTo>
                    <a:lnTo>
                      <a:pt x="390" y="23"/>
                    </a:lnTo>
                    <a:lnTo>
                      <a:pt x="405" y="29"/>
                    </a:lnTo>
                    <a:lnTo>
                      <a:pt x="423" y="36"/>
                    </a:lnTo>
                    <a:lnTo>
                      <a:pt x="442" y="41"/>
                    </a:lnTo>
                    <a:lnTo>
                      <a:pt x="463" y="45"/>
                    </a:lnTo>
                    <a:lnTo>
                      <a:pt x="484" y="49"/>
                    </a:lnTo>
                    <a:lnTo>
                      <a:pt x="474" y="61"/>
                    </a:lnTo>
                    <a:lnTo>
                      <a:pt x="465" y="74"/>
                    </a:lnTo>
                    <a:lnTo>
                      <a:pt x="455" y="88"/>
                    </a:lnTo>
                    <a:lnTo>
                      <a:pt x="447" y="102"/>
                    </a:lnTo>
                    <a:lnTo>
                      <a:pt x="438" y="117"/>
                    </a:lnTo>
                    <a:lnTo>
                      <a:pt x="430" y="134"/>
                    </a:lnTo>
                    <a:lnTo>
                      <a:pt x="422" y="151"/>
                    </a:lnTo>
                    <a:lnTo>
                      <a:pt x="414" y="170"/>
                    </a:lnTo>
                    <a:close/>
                    <a:moveTo>
                      <a:pt x="799" y="460"/>
                    </a:moveTo>
                    <a:lnTo>
                      <a:pt x="818" y="467"/>
                    </a:lnTo>
                    <a:lnTo>
                      <a:pt x="838" y="472"/>
                    </a:lnTo>
                    <a:lnTo>
                      <a:pt x="855" y="478"/>
                    </a:lnTo>
                    <a:lnTo>
                      <a:pt x="870" y="481"/>
                    </a:lnTo>
                    <a:lnTo>
                      <a:pt x="886" y="484"/>
                    </a:lnTo>
                    <a:lnTo>
                      <a:pt x="900" y="485"/>
                    </a:lnTo>
                    <a:lnTo>
                      <a:pt x="913" y="486"/>
                    </a:lnTo>
                    <a:lnTo>
                      <a:pt x="924" y="485"/>
                    </a:lnTo>
                    <a:lnTo>
                      <a:pt x="919" y="497"/>
                    </a:lnTo>
                    <a:lnTo>
                      <a:pt x="915" y="509"/>
                    </a:lnTo>
                    <a:lnTo>
                      <a:pt x="911" y="522"/>
                    </a:lnTo>
                    <a:lnTo>
                      <a:pt x="906" y="536"/>
                    </a:lnTo>
                    <a:lnTo>
                      <a:pt x="900" y="567"/>
                    </a:lnTo>
                    <a:lnTo>
                      <a:pt x="895" y="599"/>
                    </a:lnTo>
                    <a:lnTo>
                      <a:pt x="891" y="635"/>
                    </a:lnTo>
                    <a:lnTo>
                      <a:pt x="884" y="669"/>
                    </a:lnTo>
                    <a:lnTo>
                      <a:pt x="878" y="703"/>
                    </a:lnTo>
                    <a:lnTo>
                      <a:pt x="870" y="734"/>
                    </a:lnTo>
                    <a:lnTo>
                      <a:pt x="862" y="765"/>
                    </a:lnTo>
                    <a:lnTo>
                      <a:pt x="851" y="793"/>
                    </a:lnTo>
                    <a:lnTo>
                      <a:pt x="841" y="821"/>
                    </a:lnTo>
                    <a:lnTo>
                      <a:pt x="828" y="847"/>
                    </a:lnTo>
                    <a:lnTo>
                      <a:pt x="814" y="873"/>
                    </a:lnTo>
                    <a:lnTo>
                      <a:pt x="800" y="896"/>
                    </a:lnTo>
                    <a:lnTo>
                      <a:pt x="785" y="918"/>
                    </a:lnTo>
                    <a:lnTo>
                      <a:pt x="768" y="940"/>
                    </a:lnTo>
                    <a:lnTo>
                      <a:pt x="750" y="960"/>
                    </a:lnTo>
                    <a:lnTo>
                      <a:pt x="731" y="978"/>
                    </a:lnTo>
                    <a:lnTo>
                      <a:pt x="710" y="995"/>
                    </a:lnTo>
                    <a:lnTo>
                      <a:pt x="689" y="1011"/>
                    </a:lnTo>
                    <a:lnTo>
                      <a:pt x="675" y="1021"/>
                    </a:lnTo>
                    <a:lnTo>
                      <a:pt x="662" y="1030"/>
                    </a:lnTo>
                    <a:lnTo>
                      <a:pt x="648" y="1038"/>
                    </a:lnTo>
                    <a:lnTo>
                      <a:pt x="634" y="1044"/>
                    </a:lnTo>
                    <a:lnTo>
                      <a:pt x="621" y="1050"/>
                    </a:lnTo>
                    <a:lnTo>
                      <a:pt x="608" y="1053"/>
                    </a:lnTo>
                    <a:lnTo>
                      <a:pt x="594" y="1055"/>
                    </a:lnTo>
                    <a:lnTo>
                      <a:pt x="580" y="1056"/>
                    </a:lnTo>
                    <a:lnTo>
                      <a:pt x="567" y="1056"/>
                    </a:lnTo>
                    <a:lnTo>
                      <a:pt x="554" y="1054"/>
                    </a:lnTo>
                    <a:lnTo>
                      <a:pt x="540" y="1051"/>
                    </a:lnTo>
                    <a:lnTo>
                      <a:pt x="527" y="1047"/>
                    </a:lnTo>
                    <a:lnTo>
                      <a:pt x="513" y="1041"/>
                    </a:lnTo>
                    <a:lnTo>
                      <a:pt x="501" y="1034"/>
                    </a:lnTo>
                    <a:lnTo>
                      <a:pt x="487" y="1025"/>
                    </a:lnTo>
                    <a:lnTo>
                      <a:pt x="474" y="1015"/>
                    </a:lnTo>
                    <a:lnTo>
                      <a:pt x="494" y="1009"/>
                    </a:lnTo>
                    <a:lnTo>
                      <a:pt x="513" y="1002"/>
                    </a:lnTo>
                    <a:lnTo>
                      <a:pt x="531" y="996"/>
                    </a:lnTo>
                    <a:lnTo>
                      <a:pt x="549" y="988"/>
                    </a:lnTo>
                    <a:lnTo>
                      <a:pt x="567" y="980"/>
                    </a:lnTo>
                    <a:lnTo>
                      <a:pt x="584" y="971"/>
                    </a:lnTo>
                    <a:lnTo>
                      <a:pt x="600" y="963"/>
                    </a:lnTo>
                    <a:lnTo>
                      <a:pt x="616" y="954"/>
                    </a:lnTo>
                    <a:lnTo>
                      <a:pt x="631" y="945"/>
                    </a:lnTo>
                    <a:lnTo>
                      <a:pt x="646" y="934"/>
                    </a:lnTo>
                    <a:lnTo>
                      <a:pt x="660" y="924"/>
                    </a:lnTo>
                    <a:lnTo>
                      <a:pt x="672" y="913"/>
                    </a:lnTo>
                    <a:lnTo>
                      <a:pt x="686" y="901"/>
                    </a:lnTo>
                    <a:lnTo>
                      <a:pt x="698" y="890"/>
                    </a:lnTo>
                    <a:lnTo>
                      <a:pt x="709" y="878"/>
                    </a:lnTo>
                    <a:lnTo>
                      <a:pt x="721" y="865"/>
                    </a:lnTo>
                    <a:lnTo>
                      <a:pt x="731" y="853"/>
                    </a:lnTo>
                    <a:lnTo>
                      <a:pt x="741" y="839"/>
                    </a:lnTo>
                    <a:lnTo>
                      <a:pt x="751" y="825"/>
                    </a:lnTo>
                    <a:lnTo>
                      <a:pt x="759" y="810"/>
                    </a:lnTo>
                    <a:lnTo>
                      <a:pt x="768" y="795"/>
                    </a:lnTo>
                    <a:lnTo>
                      <a:pt x="775" y="781"/>
                    </a:lnTo>
                    <a:lnTo>
                      <a:pt x="782" y="765"/>
                    </a:lnTo>
                    <a:lnTo>
                      <a:pt x="789" y="749"/>
                    </a:lnTo>
                    <a:lnTo>
                      <a:pt x="794" y="733"/>
                    </a:lnTo>
                    <a:lnTo>
                      <a:pt x="799" y="716"/>
                    </a:lnTo>
                    <a:lnTo>
                      <a:pt x="805" y="698"/>
                    </a:lnTo>
                    <a:lnTo>
                      <a:pt x="809" y="680"/>
                    </a:lnTo>
                    <a:lnTo>
                      <a:pt x="812" y="662"/>
                    </a:lnTo>
                    <a:lnTo>
                      <a:pt x="815" y="644"/>
                    </a:lnTo>
                    <a:lnTo>
                      <a:pt x="817" y="625"/>
                    </a:lnTo>
                    <a:lnTo>
                      <a:pt x="820" y="605"/>
                    </a:lnTo>
                    <a:lnTo>
                      <a:pt x="822" y="582"/>
                    </a:lnTo>
                    <a:lnTo>
                      <a:pt x="822" y="560"/>
                    </a:lnTo>
                    <a:lnTo>
                      <a:pt x="822" y="540"/>
                    </a:lnTo>
                    <a:lnTo>
                      <a:pt x="820" y="521"/>
                    </a:lnTo>
                    <a:lnTo>
                      <a:pt x="816" y="504"/>
                    </a:lnTo>
                    <a:lnTo>
                      <a:pt x="812" y="488"/>
                    </a:lnTo>
                    <a:lnTo>
                      <a:pt x="807" y="473"/>
                    </a:lnTo>
                    <a:lnTo>
                      <a:pt x="799" y="460"/>
                    </a:lnTo>
                    <a:close/>
                    <a:moveTo>
                      <a:pt x="294" y="760"/>
                    </a:moveTo>
                    <a:lnTo>
                      <a:pt x="297" y="763"/>
                    </a:lnTo>
                    <a:lnTo>
                      <a:pt x="302" y="765"/>
                    </a:lnTo>
                    <a:lnTo>
                      <a:pt x="307" y="768"/>
                    </a:lnTo>
                    <a:lnTo>
                      <a:pt x="314" y="770"/>
                    </a:lnTo>
                    <a:lnTo>
                      <a:pt x="321" y="773"/>
                    </a:lnTo>
                    <a:lnTo>
                      <a:pt x="332" y="778"/>
                    </a:lnTo>
                    <a:lnTo>
                      <a:pt x="346" y="786"/>
                    </a:lnTo>
                    <a:lnTo>
                      <a:pt x="364" y="795"/>
                    </a:lnTo>
                    <a:lnTo>
                      <a:pt x="379" y="769"/>
                    </a:lnTo>
                    <a:lnTo>
                      <a:pt x="393" y="745"/>
                    </a:lnTo>
                    <a:lnTo>
                      <a:pt x="405" y="720"/>
                    </a:lnTo>
                    <a:lnTo>
                      <a:pt x="418" y="696"/>
                    </a:lnTo>
                    <a:lnTo>
                      <a:pt x="430" y="674"/>
                    </a:lnTo>
                    <a:lnTo>
                      <a:pt x="440" y="651"/>
                    </a:lnTo>
                    <a:lnTo>
                      <a:pt x="450" y="630"/>
                    </a:lnTo>
                    <a:lnTo>
                      <a:pt x="459" y="610"/>
                    </a:lnTo>
                    <a:lnTo>
                      <a:pt x="434" y="616"/>
                    </a:lnTo>
                    <a:lnTo>
                      <a:pt x="410" y="624"/>
                    </a:lnTo>
                    <a:lnTo>
                      <a:pt x="384" y="631"/>
                    </a:lnTo>
                    <a:lnTo>
                      <a:pt x="360" y="640"/>
                    </a:lnTo>
                    <a:lnTo>
                      <a:pt x="334" y="649"/>
                    </a:lnTo>
                    <a:lnTo>
                      <a:pt x="309" y="659"/>
                    </a:lnTo>
                    <a:lnTo>
                      <a:pt x="285" y="669"/>
                    </a:lnTo>
                    <a:lnTo>
                      <a:pt x="259" y="680"/>
                    </a:lnTo>
                    <a:lnTo>
                      <a:pt x="244" y="666"/>
                    </a:lnTo>
                    <a:lnTo>
                      <a:pt x="229" y="651"/>
                    </a:lnTo>
                    <a:lnTo>
                      <a:pt x="212" y="634"/>
                    </a:lnTo>
                    <a:lnTo>
                      <a:pt x="195" y="615"/>
                    </a:lnTo>
                    <a:lnTo>
                      <a:pt x="235" y="610"/>
                    </a:lnTo>
                    <a:lnTo>
                      <a:pt x="273" y="605"/>
                    </a:lnTo>
                    <a:lnTo>
                      <a:pt x="309" y="596"/>
                    </a:lnTo>
                    <a:lnTo>
                      <a:pt x="344" y="588"/>
                    </a:lnTo>
                    <a:lnTo>
                      <a:pt x="361" y="582"/>
                    </a:lnTo>
                    <a:lnTo>
                      <a:pt x="377" y="577"/>
                    </a:lnTo>
                    <a:lnTo>
                      <a:pt x="393" y="571"/>
                    </a:lnTo>
                    <a:lnTo>
                      <a:pt x="408" y="564"/>
                    </a:lnTo>
                    <a:lnTo>
                      <a:pt x="422" y="558"/>
                    </a:lnTo>
                    <a:lnTo>
                      <a:pt x="437" y="551"/>
                    </a:lnTo>
                    <a:lnTo>
                      <a:pt x="451" y="543"/>
                    </a:lnTo>
                    <a:lnTo>
                      <a:pt x="465" y="535"/>
                    </a:lnTo>
                    <a:lnTo>
                      <a:pt x="480" y="550"/>
                    </a:lnTo>
                    <a:lnTo>
                      <a:pt x="495" y="563"/>
                    </a:lnTo>
                    <a:lnTo>
                      <a:pt x="512" y="576"/>
                    </a:lnTo>
                    <a:lnTo>
                      <a:pt x="529" y="588"/>
                    </a:lnTo>
                    <a:lnTo>
                      <a:pt x="547" y="598"/>
                    </a:lnTo>
                    <a:lnTo>
                      <a:pt x="565" y="608"/>
                    </a:lnTo>
                    <a:lnTo>
                      <a:pt x="584" y="617"/>
                    </a:lnTo>
                    <a:lnTo>
                      <a:pt x="605" y="625"/>
                    </a:lnTo>
                    <a:lnTo>
                      <a:pt x="576" y="648"/>
                    </a:lnTo>
                    <a:lnTo>
                      <a:pt x="547" y="670"/>
                    </a:lnTo>
                    <a:lnTo>
                      <a:pt x="520" y="694"/>
                    </a:lnTo>
                    <a:lnTo>
                      <a:pt x="493" y="717"/>
                    </a:lnTo>
                    <a:lnTo>
                      <a:pt x="467" y="741"/>
                    </a:lnTo>
                    <a:lnTo>
                      <a:pt x="440" y="766"/>
                    </a:lnTo>
                    <a:lnTo>
                      <a:pt x="415" y="790"/>
                    </a:lnTo>
                    <a:lnTo>
                      <a:pt x="390" y="816"/>
                    </a:lnTo>
                    <a:lnTo>
                      <a:pt x="413" y="827"/>
                    </a:lnTo>
                    <a:lnTo>
                      <a:pt x="434" y="840"/>
                    </a:lnTo>
                    <a:lnTo>
                      <a:pt x="453" y="853"/>
                    </a:lnTo>
                    <a:lnTo>
                      <a:pt x="469" y="865"/>
                    </a:lnTo>
                    <a:lnTo>
                      <a:pt x="471" y="870"/>
                    </a:lnTo>
                    <a:lnTo>
                      <a:pt x="472" y="876"/>
                    </a:lnTo>
                    <a:lnTo>
                      <a:pt x="472" y="884"/>
                    </a:lnTo>
                    <a:lnTo>
                      <a:pt x="472" y="895"/>
                    </a:lnTo>
                    <a:lnTo>
                      <a:pt x="470" y="908"/>
                    </a:lnTo>
                    <a:lnTo>
                      <a:pt x="468" y="922"/>
                    </a:lnTo>
                    <a:lnTo>
                      <a:pt x="464" y="937"/>
                    </a:lnTo>
                    <a:lnTo>
                      <a:pt x="459" y="955"/>
                    </a:lnTo>
                    <a:lnTo>
                      <a:pt x="457" y="961"/>
                    </a:lnTo>
                    <a:lnTo>
                      <a:pt x="455" y="965"/>
                    </a:lnTo>
                    <a:lnTo>
                      <a:pt x="452" y="968"/>
                    </a:lnTo>
                    <a:lnTo>
                      <a:pt x="448" y="970"/>
                    </a:lnTo>
                    <a:lnTo>
                      <a:pt x="444" y="971"/>
                    </a:lnTo>
                    <a:lnTo>
                      <a:pt x="438" y="970"/>
                    </a:lnTo>
                    <a:lnTo>
                      <a:pt x="432" y="968"/>
                    </a:lnTo>
                    <a:lnTo>
                      <a:pt x="424" y="965"/>
                    </a:lnTo>
                    <a:lnTo>
                      <a:pt x="405" y="946"/>
                    </a:lnTo>
                    <a:lnTo>
                      <a:pt x="387" y="926"/>
                    </a:lnTo>
                    <a:lnTo>
                      <a:pt x="368" y="905"/>
                    </a:lnTo>
                    <a:lnTo>
                      <a:pt x="350" y="881"/>
                    </a:lnTo>
                    <a:lnTo>
                      <a:pt x="332" y="858"/>
                    </a:lnTo>
                    <a:lnTo>
                      <a:pt x="314" y="833"/>
                    </a:lnTo>
                    <a:lnTo>
                      <a:pt x="296" y="807"/>
                    </a:lnTo>
                    <a:lnTo>
                      <a:pt x="279" y="781"/>
                    </a:lnTo>
                    <a:lnTo>
                      <a:pt x="275" y="773"/>
                    </a:lnTo>
                    <a:lnTo>
                      <a:pt x="273" y="768"/>
                    </a:lnTo>
                    <a:lnTo>
                      <a:pt x="273" y="764"/>
                    </a:lnTo>
                    <a:lnTo>
                      <a:pt x="274" y="760"/>
                    </a:lnTo>
                    <a:lnTo>
                      <a:pt x="277" y="758"/>
                    </a:lnTo>
                    <a:lnTo>
                      <a:pt x="281" y="757"/>
                    </a:lnTo>
                    <a:lnTo>
                      <a:pt x="288" y="758"/>
                    </a:lnTo>
                    <a:lnTo>
                      <a:pt x="294" y="760"/>
                    </a:lnTo>
                    <a:close/>
                    <a:moveTo>
                      <a:pt x="900" y="800"/>
                    </a:moveTo>
                    <a:lnTo>
                      <a:pt x="936" y="816"/>
                    </a:lnTo>
                    <a:lnTo>
                      <a:pt x="970" y="830"/>
                    </a:lnTo>
                    <a:lnTo>
                      <a:pt x="1003" y="845"/>
                    </a:lnTo>
                    <a:lnTo>
                      <a:pt x="1034" y="860"/>
                    </a:lnTo>
                    <a:lnTo>
                      <a:pt x="1061" y="875"/>
                    </a:lnTo>
                    <a:lnTo>
                      <a:pt x="1088" y="890"/>
                    </a:lnTo>
                    <a:lnTo>
                      <a:pt x="1112" y="906"/>
                    </a:lnTo>
                    <a:lnTo>
                      <a:pt x="1134" y="920"/>
                    </a:lnTo>
                    <a:lnTo>
                      <a:pt x="1138" y="927"/>
                    </a:lnTo>
                    <a:lnTo>
                      <a:pt x="1140" y="935"/>
                    </a:lnTo>
                    <a:lnTo>
                      <a:pt x="1143" y="945"/>
                    </a:lnTo>
                    <a:lnTo>
                      <a:pt x="1144" y="957"/>
                    </a:lnTo>
                    <a:lnTo>
                      <a:pt x="1144" y="969"/>
                    </a:lnTo>
                    <a:lnTo>
                      <a:pt x="1143" y="983"/>
                    </a:lnTo>
                    <a:lnTo>
                      <a:pt x="1142" y="999"/>
                    </a:lnTo>
                    <a:lnTo>
                      <a:pt x="1139" y="1015"/>
                    </a:lnTo>
                    <a:lnTo>
                      <a:pt x="1137" y="1026"/>
                    </a:lnTo>
                    <a:lnTo>
                      <a:pt x="1134" y="1035"/>
                    </a:lnTo>
                    <a:lnTo>
                      <a:pt x="1132" y="1041"/>
                    </a:lnTo>
                    <a:lnTo>
                      <a:pt x="1130" y="1046"/>
                    </a:lnTo>
                    <a:lnTo>
                      <a:pt x="1127" y="1047"/>
                    </a:lnTo>
                    <a:lnTo>
                      <a:pt x="1125" y="1047"/>
                    </a:lnTo>
                    <a:lnTo>
                      <a:pt x="1121" y="1047"/>
                    </a:lnTo>
                    <a:lnTo>
                      <a:pt x="1118" y="1046"/>
                    </a:lnTo>
                    <a:lnTo>
                      <a:pt x="1112" y="1041"/>
                    </a:lnTo>
                    <a:lnTo>
                      <a:pt x="1104" y="1035"/>
                    </a:lnTo>
                    <a:lnTo>
                      <a:pt x="1072" y="1007"/>
                    </a:lnTo>
                    <a:lnTo>
                      <a:pt x="1040" y="981"/>
                    </a:lnTo>
                    <a:lnTo>
                      <a:pt x="1010" y="954"/>
                    </a:lnTo>
                    <a:lnTo>
                      <a:pt x="982" y="928"/>
                    </a:lnTo>
                    <a:lnTo>
                      <a:pt x="955" y="901"/>
                    </a:lnTo>
                    <a:lnTo>
                      <a:pt x="930" y="876"/>
                    </a:lnTo>
                    <a:lnTo>
                      <a:pt x="906" y="851"/>
                    </a:lnTo>
                    <a:lnTo>
                      <a:pt x="884" y="825"/>
                    </a:lnTo>
                    <a:lnTo>
                      <a:pt x="878" y="818"/>
                    </a:lnTo>
                    <a:lnTo>
                      <a:pt x="875" y="811"/>
                    </a:lnTo>
                    <a:lnTo>
                      <a:pt x="874" y="808"/>
                    </a:lnTo>
                    <a:lnTo>
                      <a:pt x="874" y="805"/>
                    </a:lnTo>
                    <a:lnTo>
                      <a:pt x="874" y="803"/>
                    </a:lnTo>
                    <a:lnTo>
                      <a:pt x="875" y="800"/>
                    </a:lnTo>
                    <a:lnTo>
                      <a:pt x="876" y="798"/>
                    </a:lnTo>
                    <a:lnTo>
                      <a:pt x="878" y="796"/>
                    </a:lnTo>
                    <a:lnTo>
                      <a:pt x="880" y="795"/>
                    </a:lnTo>
                    <a:lnTo>
                      <a:pt x="883" y="795"/>
                    </a:lnTo>
                    <a:lnTo>
                      <a:pt x="891" y="796"/>
                    </a:lnTo>
                    <a:lnTo>
                      <a:pt x="900" y="800"/>
                    </a:lnTo>
                    <a:close/>
                    <a:moveTo>
                      <a:pt x="364" y="369"/>
                    </a:moveTo>
                    <a:lnTo>
                      <a:pt x="398" y="378"/>
                    </a:lnTo>
                    <a:lnTo>
                      <a:pt x="428" y="387"/>
                    </a:lnTo>
                    <a:lnTo>
                      <a:pt x="442" y="393"/>
                    </a:lnTo>
                    <a:lnTo>
                      <a:pt x="455" y="398"/>
                    </a:lnTo>
                    <a:lnTo>
                      <a:pt x="468" y="403"/>
                    </a:lnTo>
                    <a:lnTo>
                      <a:pt x="480" y="410"/>
                    </a:lnTo>
                    <a:lnTo>
                      <a:pt x="482" y="416"/>
                    </a:lnTo>
                    <a:lnTo>
                      <a:pt x="483" y="423"/>
                    </a:lnTo>
                    <a:lnTo>
                      <a:pt x="484" y="432"/>
                    </a:lnTo>
                    <a:lnTo>
                      <a:pt x="485" y="441"/>
                    </a:lnTo>
                    <a:lnTo>
                      <a:pt x="483" y="462"/>
                    </a:lnTo>
                    <a:lnTo>
                      <a:pt x="480" y="485"/>
                    </a:lnTo>
                    <a:lnTo>
                      <a:pt x="480" y="491"/>
                    </a:lnTo>
                    <a:lnTo>
                      <a:pt x="478" y="498"/>
                    </a:lnTo>
                    <a:lnTo>
                      <a:pt x="476" y="502"/>
                    </a:lnTo>
                    <a:lnTo>
                      <a:pt x="474" y="505"/>
                    </a:lnTo>
                    <a:lnTo>
                      <a:pt x="470" y="504"/>
                    </a:lnTo>
                    <a:lnTo>
                      <a:pt x="466" y="502"/>
                    </a:lnTo>
                    <a:lnTo>
                      <a:pt x="463" y="500"/>
                    </a:lnTo>
                    <a:lnTo>
                      <a:pt x="459" y="494"/>
                    </a:lnTo>
                    <a:lnTo>
                      <a:pt x="445" y="484"/>
                    </a:lnTo>
                    <a:lnTo>
                      <a:pt x="430" y="472"/>
                    </a:lnTo>
                    <a:lnTo>
                      <a:pt x="416" y="460"/>
                    </a:lnTo>
                    <a:lnTo>
                      <a:pt x="403" y="447"/>
                    </a:lnTo>
                    <a:lnTo>
                      <a:pt x="391" y="435"/>
                    </a:lnTo>
                    <a:lnTo>
                      <a:pt x="378" y="421"/>
                    </a:lnTo>
                    <a:lnTo>
                      <a:pt x="366" y="409"/>
                    </a:lnTo>
                    <a:lnTo>
                      <a:pt x="355" y="395"/>
                    </a:lnTo>
                    <a:lnTo>
                      <a:pt x="350" y="387"/>
                    </a:lnTo>
                    <a:lnTo>
                      <a:pt x="347" y="382"/>
                    </a:lnTo>
                    <a:lnTo>
                      <a:pt x="345" y="378"/>
                    </a:lnTo>
                    <a:lnTo>
                      <a:pt x="344" y="375"/>
                    </a:lnTo>
                    <a:lnTo>
                      <a:pt x="346" y="373"/>
                    </a:lnTo>
                    <a:lnTo>
                      <a:pt x="347" y="370"/>
                    </a:lnTo>
                    <a:lnTo>
                      <a:pt x="349" y="369"/>
                    </a:lnTo>
                    <a:lnTo>
                      <a:pt x="351" y="368"/>
                    </a:lnTo>
                    <a:lnTo>
                      <a:pt x="358" y="368"/>
                    </a:lnTo>
                    <a:lnTo>
                      <a:pt x="364" y="369"/>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417" name="Freeform 15"/>
              <p:cNvSpPr/>
              <p:nvPr/>
            </p:nvSpPr>
            <p:spPr>
              <a:xfrm>
                <a:off x="2950560" y="1107720"/>
                <a:ext cx="177120" cy="148320"/>
              </a:xfrm>
              <a:custGeom>
                <a:avLst/>
                <a:gdLst>
                  <a:gd name="textAreaLeft" fmla="*/ 0 w 177120"/>
                  <a:gd name="textAreaRight" fmla="*/ 177480 w 177120"/>
                  <a:gd name="textAreaTop" fmla="*/ 0 h 148320"/>
                  <a:gd name="textAreaBottom" fmla="*/ 148680 h 148320"/>
                </a:gdLst>
                <a:ahLst/>
                <a:rect l="textAreaLeft" t="textAreaTop" r="textAreaRight" b="textAreaBottom"/>
                <a:pathLst>
                  <a:path w="1196" h="1066">
                    <a:moveTo>
                      <a:pt x="146" y="1066"/>
                    </a:moveTo>
                    <a:lnTo>
                      <a:pt x="137" y="1060"/>
                    </a:lnTo>
                    <a:lnTo>
                      <a:pt x="129" y="1051"/>
                    </a:lnTo>
                    <a:lnTo>
                      <a:pt x="118" y="1040"/>
                    </a:lnTo>
                    <a:lnTo>
                      <a:pt x="105" y="1026"/>
                    </a:lnTo>
                    <a:lnTo>
                      <a:pt x="94" y="1017"/>
                    </a:lnTo>
                    <a:lnTo>
                      <a:pt x="84" y="1010"/>
                    </a:lnTo>
                    <a:lnTo>
                      <a:pt x="77" y="1005"/>
                    </a:lnTo>
                    <a:lnTo>
                      <a:pt x="70" y="1002"/>
                    </a:lnTo>
                    <a:lnTo>
                      <a:pt x="101" y="999"/>
                    </a:lnTo>
                    <a:lnTo>
                      <a:pt x="131" y="998"/>
                    </a:lnTo>
                    <a:lnTo>
                      <a:pt x="160" y="996"/>
                    </a:lnTo>
                    <a:lnTo>
                      <a:pt x="189" y="994"/>
                    </a:lnTo>
                    <a:lnTo>
                      <a:pt x="219" y="991"/>
                    </a:lnTo>
                    <a:lnTo>
                      <a:pt x="248" y="988"/>
                    </a:lnTo>
                    <a:lnTo>
                      <a:pt x="277" y="985"/>
                    </a:lnTo>
                    <a:lnTo>
                      <a:pt x="305" y="981"/>
                    </a:lnTo>
                    <a:lnTo>
                      <a:pt x="305" y="959"/>
                    </a:lnTo>
                    <a:lnTo>
                      <a:pt x="305" y="936"/>
                    </a:lnTo>
                    <a:lnTo>
                      <a:pt x="304" y="914"/>
                    </a:lnTo>
                    <a:lnTo>
                      <a:pt x="303" y="891"/>
                    </a:lnTo>
                    <a:lnTo>
                      <a:pt x="302" y="869"/>
                    </a:lnTo>
                    <a:lnTo>
                      <a:pt x="300" y="846"/>
                    </a:lnTo>
                    <a:lnTo>
                      <a:pt x="298" y="824"/>
                    </a:lnTo>
                    <a:lnTo>
                      <a:pt x="296" y="801"/>
                    </a:lnTo>
                    <a:lnTo>
                      <a:pt x="293" y="777"/>
                    </a:lnTo>
                    <a:lnTo>
                      <a:pt x="290" y="754"/>
                    </a:lnTo>
                    <a:lnTo>
                      <a:pt x="285" y="731"/>
                    </a:lnTo>
                    <a:lnTo>
                      <a:pt x="281" y="711"/>
                    </a:lnTo>
                    <a:lnTo>
                      <a:pt x="276" y="692"/>
                    </a:lnTo>
                    <a:lnTo>
                      <a:pt x="269" y="673"/>
                    </a:lnTo>
                    <a:lnTo>
                      <a:pt x="263" y="656"/>
                    </a:lnTo>
                    <a:lnTo>
                      <a:pt x="256" y="641"/>
                    </a:lnTo>
                    <a:lnTo>
                      <a:pt x="273" y="647"/>
                    </a:lnTo>
                    <a:lnTo>
                      <a:pt x="290" y="652"/>
                    </a:lnTo>
                    <a:lnTo>
                      <a:pt x="307" y="656"/>
                    </a:lnTo>
                    <a:lnTo>
                      <a:pt x="325" y="659"/>
                    </a:lnTo>
                    <a:lnTo>
                      <a:pt x="343" y="662"/>
                    </a:lnTo>
                    <a:lnTo>
                      <a:pt x="362" y="665"/>
                    </a:lnTo>
                    <a:lnTo>
                      <a:pt x="381" y="666"/>
                    </a:lnTo>
                    <a:lnTo>
                      <a:pt x="401" y="666"/>
                    </a:lnTo>
                    <a:lnTo>
                      <a:pt x="397" y="676"/>
                    </a:lnTo>
                    <a:lnTo>
                      <a:pt x="392" y="689"/>
                    </a:lnTo>
                    <a:lnTo>
                      <a:pt x="388" y="702"/>
                    </a:lnTo>
                    <a:lnTo>
                      <a:pt x="386" y="717"/>
                    </a:lnTo>
                    <a:lnTo>
                      <a:pt x="384" y="731"/>
                    </a:lnTo>
                    <a:lnTo>
                      <a:pt x="382" y="748"/>
                    </a:lnTo>
                    <a:lnTo>
                      <a:pt x="381" y="766"/>
                    </a:lnTo>
                    <a:lnTo>
                      <a:pt x="381" y="786"/>
                    </a:lnTo>
                    <a:lnTo>
                      <a:pt x="381" y="798"/>
                    </a:lnTo>
                    <a:lnTo>
                      <a:pt x="381" y="815"/>
                    </a:lnTo>
                    <a:lnTo>
                      <a:pt x="381" y="836"/>
                    </a:lnTo>
                    <a:lnTo>
                      <a:pt x="381" y="862"/>
                    </a:lnTo>
                    <a:lnTo>
                      <a:pt x="383" y="897"/>
                    </a:lnTo>
                    <a:lnTo>
                      <a:pt x="385" y="927"/>
                    </a:lnTo>
                    <a:lnTo>
                      <a:pt x="385" y="954"/>
                    </a:lnTo>
                    <a:lnTo>
                      <a:pt x="386" y="976"/>
                    </a:lnTo>
                    <a:lnTo>
                      <a:pt x="411" y="971"/>
                    </a:lnTo>
                    <a:lnTo>
                      <a:pt x="443" y="967"/>
                    </a:lnTo>
                    <a:lnTo>
                      <a:pt x="481" y="961"/>
                    </a:lnTo>
                    <a:lnTo>
                      <a:pt x="526" y="956"/>
                    </a:lnTo>
                    <a:lnTo>
                      <a:pt x="534" y="956"/>
                    </a:lnTo>
                    <a:lnTo>
                      <a:pt x="541" y="956"/>
                    </a:lnTo>
                    <a:lnTo>
                      <a:pt x="542" y="931"/>
                    </a:lnTo>
                    <a:lnTo>
                      <a:pt x="543" y="902"/>
                    </a:lnTo>
                    <a:lnTo>
                      <a:pt x="544" y="869"/>
                    </a:lnTo>
                    <a:lnTo>
                      <a:pt x="545" y="833"/>
                    </a:lnTo>
                    <a:lnTo>
                      <a:pt x="545" y="794"/>
                    </a:lnTo>
                    <a:lnTo>
                      <a:pt x="546" y="751"/>
                    </a:lnTo>
                    <a:lnTo>
                      <a:pt x="546" y="706"/>
                    </a:lnTo>
                    <a:lnTo>
                      <a:pt x="546" y="656"/>
                    </a:lnTo>
                    <a:lnTo>
                      <a:pt x="544" y="618"/>
                    </a:lnTo>
                    <a:lnTo>
                      <a:pt x="542" y="582"/>
                    </a:lnTo>
                    <a:lnTo>
                      <a:pt x="538" y="549"/>
                    </a:lnTo>
                    <a:lnTo>
                      <a:pt x="534" y="519"/>
                    </a:lnTo>
                    <a:lnTo>
                      <a:pt x="530" y="493"/>
                    </a:lnTo>
                    <a:lnTo>
                      <a:pt x="524" y="470"/>
                    </a:lnTo>
                    <a:lnTo>
                      <a:pt x="517" y="448"/>
                    </a:lnTo>
                    <a:lnTo>
                      <a:pt x="511" y="430"/>
                    </a:lnTo>
                    <a:lnTo>
                      <a:pt x="525" y="436"/>
                    </a:lnTo>
                    <a:lnTo>
                      <a:pt x="541" y="440"/>
                    </a:lnTo>
                    <a:lnTo>
                      <a:pt x="556" y="443"/>
                    </a:lnTo>
                    <a:lnTo>
                      <a:pt x="574" y="446"/>
                    </a:lnTo>
                    <a:lnTo>
                      <a:pt x="594" y="448"/>
                    </a:lnTo>
                    <a:lnTo>
                      <a:pt x="613" y="449"/>
                    </a:lnTo>
                    <a:lnTo>
                      <a:pt x="634" y="451"/>
                    </a:lnTo>
                    <a:lnTo>
                      <a:pt x="656" y="451"/>
                    </a:lnTo>
                    <a:lnTo>
                      <a:pt x="652" y="463"/>
                    </a:lnTo>
                    <a:lnTo>
                      <a:pt x="649" y="477"/>
                    </a:lnTo>
                    <a:lnTo>
                      <a:pt x="645" y="493"/>
                    </a:lnTo>
                    <a:lnTo>
                      <a:pt x="643" y="511"/>
                    </a:lnTo>
                    <a:lnTo>
                      <a:pt x="639" y="552"/>
                    </a:lnTo>
                    <a:lnTo>
                      <a:pt x="636" y="601"/>
                    </a:lnTo>
                    <a:lnTo>
                      <a:pt x="634" y="612"/>
                    </a:lnTo>
                    <a:lnTo>
                      <a:pt x="632" y="622"/>
                    </a:lnTo>
                    <a:lnTo>
                      <a:pt x="631" y="634"/>
                    </a:lnTo>
                    <a:lnTo>
                      <a:pt x="631" y="646"/>
                    </a:lnTo>
                    <a:lnTo>
                      <a:pt x="643" y="644"/>
                    </a:lnTo>
                    <a:lnTo>
                      <a:pt x="660" y="641"/>
                    </a:lnTo>
                    <a:lnTo>
                      <a:pt x="707" y="632"/>
                    </a:lnTo>
                    <a:lnTo>
                      <a:pt x="747" y="622"/>
                    </a:lnTo>
                    <a:lnTo>
                      <a:pt x="780" y="614"/>
                    </a:lnTo>
                    <a:lnTo>
                      <a:pt x="805" y="606"/>
                    </a:lnTo>
                    <a:lnTo>
                      <a:pt x="816" y="614"/>
                    </a:lnTo>
                    <a:lnTo>
                      <a:pt x="824" y="622"/>
                    </a:lnTo>
                    <a:lnTo>
                      <a:pt x="834" y="632"/>
                    </a:lnTo>
                    <a:lnTo>
                      <a:pt x="842" y="641"/>
                    </a:lnTo>
                    <a:lnTo>
                      <a:pt x="850" y="651"/>
                    </a:lnTo>
                    <a:lnTo>
                      <a:pt x="857" y="662"/>
                    </a:lnTo>
                    <a:lnTo>
                      <a:pt x="865" y="674"/>
                    </a:lnTo>
                    <a:lnTo>
                      <a:pt x="871" y="686"/>
                    </a:lnTo>
                    <a:lnTo>
                      <a:pt x="846" y="689"/>
                    </a:lnTo>
                    <a:lnTo>
                      <a:pt x="815" y="692"/>
                    </a:lnTo>
                    <a:lnTo>
                      <a:pt x="778" y="696"/>
                    </a:lnTo>
                    <a:lnTo>
                      <a:pt x="735" y="701"/>
                    </a:lnTo>
                    <a:lnTo>
                      <a:pt x="705" y="704"/>
                    </a:lnTo>
                    <a:lnTo>
                      <a:pt x="677" y="706"/>
                    </a:lnTo>
                    <a:lnTo>
                      <a:pt x="653" y="708"/>
                    </a:lnTo>
                    <a:lnTo>
                      <a:pt x="631" y="711"/>
                    </a:lnTo>
                    <a:lnTo>
                      <a:pt x="630" y="743"/>
                    </a:lnTo>
                    <a:lnTo>
                      <a:pt x="629" y="775"/>
                    </a:lnTo>
                    <a:lnTo>
                      <a:pt x="627" y="806"/>
                    </a:lnTo>
                    <a:lnTo>
                      <a:pt x="627" y="835"/>
                    </a:lnTo>
                    <a:lnTo>
                      <a:pt x="626" y="864"/>
                    </a:lnTo>
                    <a:lnTo>
                      <a:pt x="626" y="892"/>
                    </a:lnTo>
                    <a:lnTo>
                      <a:pt x="625" y="920"/>
                    </a:lnTo>
                    <a:lnTo>
                      <a:pt x="625" y="946"/>
                    </a:lnTo>
                    <a:lnTo>
                      <a:pt x="640" y="943"/>
                    </a:lnTo>
                    <a:lnTo>
                      <a:pt x="658" y="941"/>
                    </a:lnTo>
                    <a:lnTo>
                      <a:pt x="680" y="939"/>
                    </a:lnTo>
                    <a:lnTo>
                      <a:pt x="706" y="936"/>
                    </a:lnTo>
                    <a:lnTo>
                      <a:pt x="744" y="933"/>
                    </a:lnTo>
                    <a:lnTo>
                      <a:pt x="780" y="930"/>
                    </a:lnTo>
                    <a:lnTo>
                      <a:pt x="814" y="926"/>
                    </a:lnTo>
                    <a:lnTo>
                      <a:pt x="846" y="923"/>
                    </a:lnTo>
                    <a:lnTo>
                      <a:pt x="876" y="921"/>
                    </a:lnTo>
                    <a:lnTo>
                      <a:pt x="905" y="919"/>
                    </a:lnTo>
                    <a:lnTo>
                      <a:pt x="931" y="918"/>
                    </a:lnTo>
                    <a:lnTo>
                      <a:pt x="956" y="916"/>
                    </a:lnTo>
                    <a:lnTo>
                      <a:pt x="962" y="916"/>
                    </a:lnTo>
                    <a:lnTo>
                      <a:pt x="967" y="916"/>
                    </a:lnTo>
                    <a:lnTo>
                      <a:pt x="973" y="916"/>
                    </a:lnTo>
                    <a:lnTo>
                      <a:pt x="978" y="918"/>
                    </a:lnTo>
                    <a:lnTo>
                      <a:pt x="983" y="920"/>
                    </a:lnTo>
                    <a:lnTo>
                      <a:pt x="988" y="923"/>
                    </a:lnTo>
                    <a:lnTo>
                      <a:pt x="992" y="926"/>
                    </a:lnTo>
                    <a:lnTo>
                      <a:pt x="996" y="932"/>
                    </a:lnTo>
                    <a:lnTo>
                      <a:pt x="999" y="935"/>
                    </a:lnTo>
                    <a:lnTo>
                      <a:pt x="1005" y="942"/>
                    </a:lnTo>
                    <a:lnTo>
                      <a:pt x="1012" y="953"/>
                    </a:lnTo>
                    <a:lnTo>
                      <a:pt x="1020" y="967"/>
                    </a:lnTo>
                    <a:lnTo>
                      <a:pt x="1033" y="984"/>
                    </a:lnTo>
                    <a:lnTo>
                      <a:pt x="1041" y="996"/>
                    </a:lnTo>
                    <a:lnTo>
                      <a:pt x="1045" y="998"/>
                    </a:lnTo>
                    <a:lnTo>
                      <a:pt x="1047" y="1001"/>
                    </a:lnTo>
                    <a:lnTo>
                      <a:pt x="1048" y="1001"/>
                    </a:lnTo>
                    <a:lnTo>
                      <a:pt x="1046" y="1002"/>
                    </a:lnTo>
                    <a:lnTo>
                      <a:pt x="1043" y="1004"/>
                    </a:lnTo>
                    <a:lnTo>
                      <a:pt x="1037" y="1005"/>
                    </a:lnTo>
                    <a:lnTo>
                      <a:pt x="1030" y="1006"/>
                    </a:lnTo>
                    <a:lnTo>
                      <a:pt x="1020" y="1006"/>
                    </a:lnTo>
                    <a:lnTo>
                      <a:pt x="971" y="1005"/>
                    </a:lnTo>
                    <a:lnTo>
                      <a:pt x="920" y="1005"/>
                    </a:lnTo>
                    <a:lnTo>
                      <a:pt x="868" y="1005"/>
                    </a:lnTo>
                    <a:lnTo>
                      <a:pt x="816" y="1006"/>
                    </a:lnTo>
                    <a:lnTo>
                      <a:pt x="763" y="1008"/>
                    </a:lnTo>
                    <a:lnTo>
                      <a:pt x="710" y="1010"/>
                    </a:lnTo>
                    <a:lnTo>
                      <a:pt x="656" y="1013"/>
                    </a:lnTo>
                    <a:lnTo>
                      <a:pt x="602" y="1016"/>
                    </a:lnTo>
                    <a:lnTo>
                      <a:pt x="547" y="1021"/>
                    </a:lnTo>
                    <a:lnTo>
                      <a:pt x="492" y="1025"/>
                    </a:lnTo>
                    <a:lnTo>
                      <a:pt x="436" y="1030"/>
                    </a:lnTo>
                    <a:lnTo>
                      <a:pt x="379" y="1037"/>
                    </a:lnTo>
                    <a:lnTo>
                      <a:pt x="321" y="1043"/>
                    </a:lnTo>
                    <a:lnTo>
                      <a:pt x="263" y="1050"/>
                    </a:lnTo>
                    <a:lnTo>
                      <a:pt x="205" y="1058"/>
                    </a:lnTo>
                    <a:lnTo>
                      <a:pt x="146" y="1066"/>
                    </a:lnTo>
                    <a:close/>
                    <a:moveTo>
                      <a:pt x="500" y="0"/>
                    </a:moveTo>
                    <a:lnTo>
                      <a:pt x="515" y="11"/>
                    </a:lnTo>
                    <a:lnTo>
                      <a:pt x="530" y="21"/>
                    </a:lnTo>
                    <a:lnTo>
                      <a:pt x="545" y="30"/>
                    </a:lnTo>
                    <a:lnTo>
                      <a:pt x="560" y="38"/>
                    </a:lnTo>
                    <a:lnTo>
                      <a:pt x="573" y="45"/>
                    </a:lnTo>
                    <a:lnTo>
                      <a:pt x="588" y="51"/>
                    </a:lnTo>
                    <a:lnTo>
                      <a:pt x="602" y="56"/>
                    </a:lnTo>
                    <a:lnTo>
                      <a:pt x="616" y="61"/>
                    </a:lnTo>
                    <a:lnTo>
                      <a:pt x="597" y="81"/>
                    </a:lnTo>
                    <a:lnTo>
                      <a:pt x="581" y="101"/>
                    </a:lnTo>
                    <a:lnTo>
                      <a:pt x="567" y="121"/>
                    </a:lnTo>
                    <a:lnTo>
                      <a:pt x="555" y="141"/>
                    </a:lnTo>
                    <a:lnTo>
                      <a:pt x="583" y="161"/>
                    </a:lnTo>
                    <a:lnTo>
                      <a:pt x="616" y="188"/>
                    </a:lnTo>
                    <a:lnTo>
                      <a:pt x="653" y="222"/>
                    </a:lnTo>
                    <a:lnTo>
                      <a:pt x="696" y="261"/>
                    </a:lnTo>
                    <a:lnTo>
                      <a:pt x="734" y="297"/>
                    </a:lnTo>
                    <a:lnTo>
                      <a:pt x="771" y="329"/>
                    </a:lnTo>
                    <a:lnTo>
                      <a:pt x="805" y="357"/>
                    </a:lnTo>
                    <a:lnTo>
                      <a:pt x="837" y="382"/>
                    </a:lnTo>
                    <a:lnTo>
                      <a:pt x="867" y="403"/>
                    </a:lnTo>
                    <a:lnTo>
                      <a:pt x="893" y="421"/>
                    </a:lnTo>
                    <a:lnTo>
                      <a:pt x="906" y="428"/>
                    </a:lnTo>
                    <a:lnTo>
                      <a:pt x="919" y="436"/>
                    </a:lnTo>
                    <a:lnTo>
                      <a:pt x="930" y="441"/>
                    </a:lnTo>
                    <a:lnTo>
                      <a:pt x="941" y="445"/>
                    </a:lnTo>
                    <a:lnTo>
                      <a:pt x="973" y="458"/>
                    </a:lnTo>
                    <a:lnTo>
                      <a:pt x="1003" y="472"/>
                    </a:lnTo>
                    <a:lnTo>
                      <a:pt x="1033" y="484"/>
                    </a:lnTo>
                    <a:lnTo>
                      <a:pt x="1061" y="498"/>
                    </a:lnTo>
                    <a:lnTo>
                      <a:pt x="1088" y="512"/>
                    </a:lnTo>
                    <a:lnTo>
                      <a:pt x="1114" y="527"/>
                    </a:lnTo>
                    <a:lnTo>
                      <a:pt x="1138" y="541"/>
                    </a:lnTo>
                    <a:lnTo>
                      <a:pt x="1161" y="555"/>
                    </a:lnTo>
                    <a:lnTo>
                      <a:pt x="1176" y="566"/>
                    </a:lnTo>
                    <a:lnTo>
                      <a:pt x="1187" y="575"/>
                    </a:lnTo>
                    <a:lnTo>
                      <a:pt x="1191" y="579"/>
                    </a:lnTo>
                    <a:lnTo>
                      <a:pt x="1194" y="583"/>
                    </a:lnTo>
                    <a:lnTo>
                      <a:pt x="1195" y="587"/>
                    </a:lnTo>
                    <a:lnTo>
                      <a:pt x="1196" y="590"/>
                    </a:lnTo>
                    <a:lnTo>
                      <a:pt x="1195" y="595"/>
                    </a:lnTo>
                    <a:lnTo>
                      <a:pt x="1193" y="598"/>
                    </a:lnTo>
                    <a:lnTo>
                      <a:pt x="1190" y="600"/>
                    </a:lnTo>
                    <a:lnTo>
                      <a:pt x="1186" y="602"/>
                    </a:lnTo>
                    <a:lnTo>
                      <a:pt x="1180" y="604"/>
                    </a:lnTo>
                    <a:lnTo>
                      <a:pt x="1174" y="605"/>
                    </a:lnTo>
                    <a:lnTo>
                      <a:pt x="1166" y="605"/>
                    </a:lnTo>
                    <a:lnTo>
                      <a:pt x="1156" y="606"/>
                    </a:lnTo>
                    <a:lnTo>
                      <a:pt x="1108" y="605"/>
                    </a:lnTo>
                    <a:lnTo>
                      <a:pt x="1066" y="604"/>
                    </a:lnTo>
                    <a:lnTo>
                      <a:pt x="1029" y="602"/>
                    </a:lnTo>
                    <a:lnTo>
                      <a:pt x="997" y="599"/>
                    </a:lnTo>
                    <a:lnTo>
                      <a:pt x="971" y="595"/>
                    </a:lnTo>
                    <a:lnTo>
                      <a:pt x="948" y="589"/>
                    </a:lnTo>
                    <a:lnTo>
                      <a:pt x="940" y="586"/>
                    </a:lnTo>
                    <a:lnTo>
                      <a:pt x="932" y="583"/>
                    </a:lnTo>
                    <a:lnTo>
                      <a:pt x="926" y="580"/>
                    </a:lnTo>
                    <a:lnTo>
                      <a:pt x="921" y="576"/>
                    </a:lnTo>
                    <a:lnTo>
                      <a:pt x="903" y="563"/>
                    </a:lnTo>
                    <a:lnTo>
                      <a:pt x="882" y="545"/>
                    </a:lnTo>
                    <a:lnTo>
                      <a:pt x="856" y="522"/>
                    </a:lnTo>
                    <a:lnTo>
                      <a:pt x="829" y="495"/>
                    </a:lnTo>
                    <a:lnTo>
                      <a:pt x="797" y="463"/>
                    </a:lnTo>
                    <a:lnTo>
                      <a:pt x="761" y="427"/>
                    </a:lnTo>
                    <a:lnTo>
                      <a:pt x="723" y="386"/>
                    </a:lnTo>
                    <a:lnTo>
                      <a:pt x="680" y="340"/>
                    </a:lnTo>
                    <a:lnTo>
                      <a:pt x="633" y="288"/>
                    </a:lnTo>
                    <a:lnTo>
                      <a:pt x="592" y="246"/>
                    </a:lnTo>
                    <a:lnTo>
                      <a:pt x="560" y="213"/>
                    </a:lnTo>
                    <a:lnTo>
                      <a:pt x="536" y="191"/>
                    </a:lnTo>
                    <a:lnTo>
                      <a:pt x="518" y="223"/>
                    </a:lnTo>
                    <a:lnTo>
                      <a:pt x="501" y="254"/>
                    </a:lnTo>
                    <a:lnTo>
                      <a:pt x="484" y="284"/>
                    </a:lnTo>
                    <a:lnTo>
                      <a:pt x="466" y="314"/>
                    </a:lnTo>
                    <a:lnTo>
                      <a:pt x="448" y="343"/>
                    </a:lnTo>
                    <a:lnTo>
                      <a:pt x="429" y="371"/>
                    </a:lnTo>
                    <a:lnTo>
                      <a:pt x="411" y="399"/>
                    </a:lnTo>
                    <a:lnTo>
                      <a:pt x="392" y="425"/>
                    </a:lnTo>
                    <a:lnTo>
                      <a:pt x="373" y="451"/>
                    </a:lnTo>
                    <a:lnTo>
                      <a:pt x="353" y="475"/>
                    </a:lnTo>
                    <a:lnTo>
                      <a:pt x="334" y="498"/>
                    </a:lnTo>
                    <a:lnTo>
                      <a:pt x="314" y="522"/>
                    </a:lnTo>
                    <a:lnTo>
                      <a:pt x="293" y="544"/>
                    </a:lnTo>
                    <a:lnTo>
                      <a:pt x="273" y="565"/>
                    </a:lnTo>
                    <a:lnTo>
                      <a:pt x="251" y="586"/>
                    </a:lnTo>
                    <a:lnTo>
                      <a:pt x="230" y="606"/>
                    </a:lnTo>
                    <a:lnTo>
                      <a:pt x="218" y="617"/>
                    </a:lnTo>
                    <a:lnTo>
                      <a:pt x="205" y="626"/>
                    </a:lnTo>
                    <a:lnTo>
                      <a:pt x="192" y="635"/>
                    </a:lnTo>
                    <a:lnTo>
                      <a:pt x="178" y="642"/>
                    </a:lnTo>
                    <a:lnTo>
                      <a:pt x="166" y="648"/>
                    </a:lnTo>
                    <a:lnTo>
                      <a:pt x="152" y="653"/>
                    </a:lnTo>
                    <a:lnTo>
                      <a:pt x="137" y="657"/>
                    </a:lnTo>
                    <a:lnTo>
                      <a:pt x="123" y="659"/>
                    </a:lnTo>
                    <a:lnTo>
                      <a:pt x="108" y="661"/>
                    </a:lnTo>
                    <a:lnTo>
                      <a:pt x="94" y="661"/>
                    </a:lnTo>
                    <a:lnTo>
                      <a:pt x="79" y="661"/>
                    </a:lnTo>
                    <a:lnTo>
                      <a:pt x="64" y="659"/>
                    </a:lnTo>
                    <a:lnTo>
                      <a:pt x="48" y="656"/>
                    </a:lnTo>
                    <a:lnTo>
                      <a:pt x="32" y="652"/>
                    </a:lnTo>
                    <a:lnTo>
                      <a:pt x="16" y="648"/>
                    </a:lnTo>
                    <a:lnTo>
                      <a:pt x="0" y="641"/>
                    </a:lnTo>
                    <a:lnTo>
                      <a:pt x="33" y="624"/>
                    </a:lnTo>
                    <a:lnTo>
                      <a:pt x="65" y="605"/>
                    </a:lnTo>
                    <a:lnTo>
                      <a:pt x="97" y="586"/>
                    </a:lnTo>
                    <a:lnTo>
                      <a:pt x="128" y="565"/>
                    </a:lnTo>
                    <a:lnTo>
                      <a:pt x="157" y="542"/>
                    </a:lnTo>
                    <a:lnTo>
                      <a:pt x="187" y="518"/>
                    </a:lnTo>
                    <a:lnTo>
                      <a:pt x="215" y="493"/>
                    </a:lnTo>
                    <a:lnTo>
                      <a:pt x="243" y="465"/>
                    </a:lnTo>
                    <a:lnTo>
                      <a:pt x="270" y="438"/>
                    </a:lnTo>
                    <a:lnTo>
                      <a:pt x="297" y="408"/>
                    </a:lnTo>
                    <a:lnTo>
                      <a:pt x="322" y="377"/>
                    </a:lnTo>
                    <a:lnTo>
                      <a:pt x="348" y="345"/>
                    </a:lnTo>
                    <a:lnTo>
                      <a:pt x="372" y="311"/>
                    </a:lnTo>
                    <a:lnTo>
                      <a:pt x="395" y="276"/>
                    </a:lnTo>
                    <a:lnTo>
                      <a:pt x="419" y="239"/>
                    </a:lnTo>
                    <a:lnTo>
                      <a:pt x="441" y="200"/>
                    </a:lnTo>
                    <a:lnTo>
                      <a:pt x="455" y="171"/>
                    </a:lnTo>
                    <a:lnTo>
                      <a:pt x="466" y="143"/>
                    </a:lnTo>
                    <a:lnTo>
                      <a:pt x="477" y="116"/>
                    </a:lnTo>
                    <a:lnTo>
                      <a:pt x="486" y="90"/>
                    </a:lnTo>
                    <a:lnTo>
                      <a:pt x="492" y="66"/>
                    </a:lnTo>
                    <a:lnTo>
                      <a:pt x="497" y="43"/>
                    </a:lnTo>
                    <a:lnTo>
                      <a:pt x="499" y="21"/>
                    </a:lnTo>
                    <a:lnTo>
                      <a:pt x="500" y="0"/>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418" name="Freeform 16"/>
              <p:cNvSpPr/>
              <p:nvPr/>
            </p:nvSpPr>
            <p:spPr>
              <a:xfrm>
                <a:off x="3136320" y="1115640"/>
                <a:ext cx="164520" cy="131760"/>
              </a:xfrm>
              <a:custGeom>
                <a:avLst/>
                <a:gdLst>
                  <a:gd name="textAreaLeft" fmla="*/ 0 w 164520"/>
                  <a:gd name="textAreaRight" fmla="*/ 164880 w 164520"/>
                  <a:gd name="textAreaTop" fmla="*/ 0 h 131760"/>
                  <a:gd name="textAreaBottom" fmla="*/ 132120 h 131760"/>
                </a:gdLst>
                <a:ahLst/>
                <a:rect l="textAreaLeft" t="textAreaTop" r="textAreaRight" b="textAreaBottom"/>
                <a:pathLst>
                  <a:path w="1104" h="947">
                    <a:moveTo>
                      <a:pt x="708" y="35"/>
                    </a:moveTo>
                    <a:lnTo>
                      <a:pt x="701" y="55"/>
                    </a:lnTo>
                    <a:lnTo>
                      <a:pt x="696" y="79"/>
                    </a:lnTo>
                    <a:lnTo>
                      <a:pt x="691" y="104"/>
                    </a:lnTo>
                    <a:lnTo>
                      <a:pt x="688" y="133"/>
                    </a:lnTo>
                    <a:lnTo>
                      <a:pt x="683" y="165"/>
                    </a:lnTo>
                    <a:lnTo>
                      <a:pt x="681" y="198"/>
                    </a:lnTo>
                    <a:lnTo>
                      <a:pt x="679" y="236"/>
                    </a:lnTo>
                    <a:lnTo>
                      <a:pt x="677" y="276"/>
                    </a:lnTo>
                    <a:lnTo>
                      <a:pt x="677" y="313"/>
                    </a:lnTo>
                    <a:lnTo>
                      <a:pt x="677" y="349"/>
                    </a:lnTo>
                    <a:lnTo>
                      <a:pt x="677" y="385"/>
                    </a:lnTo>
                    <a:lnTo>
                      <a:pt x="677" y="420"/>
                    </a:lnTo>
                    <a:lnTo>
                      <a:pt x="677" y="454"/>
                    </a:lnTo>
                    <a:lnTo>
                      <a:pt x="677" y="487"/>
                    </a:lnTo>
                    <a:lnTo>
                      <a:pt x="677" y="520"/>
                    </a:lnTo>
                    <a:lnTo>
                      <a:pt x="677" y="551"/>
                    </a:lnTo>
                    <a:lnTo>
                      <a:pt x="695" y="531"/>
                    </a:lnTo>
                    <a:lnTo>
                      <a:pt x="713" y="511"/>
                    </a:lnTo>
                    <a:lnTo>
                      <a:pt x="729" y="492"/>
                    </a:lnTo>
                    <a:lnTo>
                      <a:pt x="745" y="472"/>
                    </a:lnTo>
                    <a:lnTo>
                      <a:pt x="760" y="453"/>
                    </a:lnTo>
                    <a:lnTo>
                      <a:pt x="773" y="435"/>
                    </a:lnTo>
                    <a:lnTo>
                      <a:pt x="786" y="416"/>
                    </a:lnTo>
                    <a:lnTo>
                      <a:pt x="799" y="397"/>
                    </a:lnTo>
                    <a:lnTo>
                      <a:pt x="809" y="379"/>
                    </a:lnTo>
                    <a:lnTo>
                      <a:pt x="820" y="361"/>
                    </a:lnTo>
                    <a:lnTo>
                      <a:pt x="830" y="343"/>
                    </a:lnTo>
                    <a:lnTo>
                      <a:pt x="838" y="325"/>
                    </a:lnTo>
                    <a:lnTo>
                      <a:pt x="845" y="308"/>
                    </a:lnTo>
                    <a:lnTo>
                      <a:pt x="852" y="290"/>
                    </a:lnTo>
                    <a:lnTo>
                      <a:pt x="857" y="273"/>
                    </a:lnTo>
                    <a:lnTo>
                      <a:pt x="862" y="256"/>
                    </a:lnTo>
                    <a:lnTo>
                      <a:pt x="875" y="268"/>
                    </a:lnTo>
                    <a:lnTo>
                      <a:pt x="892" y="285"/>
                    </a:lnTo>
                    <a:lnTo>
                      <a:pt x="905" y="301"/>
                    </a:lnTo>
                    <a:lnTo>
                      <a:pt x="916" y="315"/>
                    </a:lnTo>
                    <a:lnTo>
                      <a:pt x="929" y="328"/>
                    </a:lnTo>
                    <a:lnTo>
                      <a:pt x="941" y="339"/>
                    </a:lnTo>
                    <a:lnTo>
                      <a:pt x="952" y="349"/>
                    </a:lnTo>
                    <a:lnTo>
                      <a:pt x="964" y="358"/>
                    </a:lnTo>
                    <a:lnTo>
                      <a:pt x="976" y="365"/>
                    </a:lnTo>
                    <a:lnTo>
                      <a:pt x="987" y="371"/>
                    </a:lnTo>
                    <a:lnTo>
                      <a:pt x="975" y="376"/>
                    </a:lnTo>
                    <a:lnTo>
                      <a:pt x="962" y="383"/>
                    </a:lnTo>
                    <a:lnTo>
                      <a:pt x="949" y="390"/>
                    </a:lnTo>
                    <a:lnTo>
                      <a:pt x="937" y="400"/>
                    </a:lnTo>
                    <a:lnTo>
                      <a:pt x="923" y="409"/>
                    </a:lnTo>
                    <a:lnTo>
                      <a:pt x="909" y="421"/>
                    </a:lnTo>
                    <a:lnTo>
                      <a:pt x="896" y="433"/>
                    </a:lnTo>
                    <a:lnTo>
                      <a:pt x="882" y="445"/>
                    </a:lnTo>
                    <a:lnTo>
                      <a:pt x="858" y="468"/>
                    </a:lnTo>
                    <a:lnTo>
                      <a:pt x="834" y="490"/>
                    </a:lnTo>
                    <a:lnTo>
                      <a:pt x="808" y="511"/>
                    </a:lnTo>
                    <a:lnTo>
                      <a:pt x="783" y="531"/>
                    </a:lnTo>
                    <a:lnTo>
                      <a:pt x="758" y="550"/>
                    </a:lnTo>
                    <a:lnTo>
                      <a:pt x="731" y="569"/>
                    </a:lnTo>
                    <a:lnTo>
                      <a:pt x="705" y="588"/>
                    </a:lnTo>
                    <a:lnTo>
                      <a:pt x="677" y="606"/>
                    </a:lnTo>
                    <a:lnTo>
                      <a:pt x="677" y="807"/>
                    </a:lnTo>
                    <a:lnTo>
                      <a:pt x="702" y="804"/>
                    </a:lnTo>
                    <a:lnTo>
                      <a:pt x="733" y="800"/>
                    </a:lnTo>
                    <a:lnTo>
                      <a:pt x="770" y="796"/>
                    </a:lnTo>
                    <a:lnTo>
                      <a:pt x="813" y="791"/>
                    </a:lnTo>
                    <a:lnTo>
                      <a:pt x="845" y="788"/>
                    </a:lnTo>
                    <a:lnTo>
                      <a:pt x="876" y="784"/>
                    </a:lnTo>
                    <a:lnTo>
                      <a:pt x="905" y="781"/>
                    </a:lnTo>
                    <a:lnTo>
                      <a:pt x="931" y="779"/>
                    </a:lnTo>
                    <a:lnTo>
                      <a:pt x="956" y="776"/>
                    </a:lnTo>
                    <a:lnTo>
                      <a:pt x="978" y="774"/>
                    </a:lnTo>
                    <a:lnTo>
                      <a:pt x="999" y="773"/>
                    </a:lnTo>
                    <a:lnTo>
                      <a:pt x="1017" y="771"/>
                    </a:lnTo>
                    <a:lnTo>
                      <a:pt x="1024" y="772"/>
                    </a:lnTo>
                    <a:lnTo>
                      <a:pt x="1032" y="773"/>
                    </a:lnTo>
                    <a:lnTo>
                      <a:pt x="1038" y="774"/>
                    </a:lnTo>
                    <a:lnTo>
                      <a:pt x="1043" y="776"/>
                    </a:lnTo>
                    <a:lnTo>
                      <a:pt x="1049" y="779"/>
                    </a:lnTo>
                    <a:lnTo>
                      <a:pt x="1054" y="782"/>
                    </a:lnTo>
                    <a:lnTo>
                      <a:pt x="1058" y="787"/>
                    </a:lnTo>
                    <a:lnTo>
                      <a:pt x="1063" y="791"/>
                    </a:lnTo>
                    <a:lnTo>
                      <a:pt x="1074" y="811"/>
                    </a:lnTo>
                    <a:lnTo>
                      <a:pt x="1084" y="829"/>
                    </a:lnTo>
                    <a:lnTo>
                      <a:pt x="1091" y="846"/>
                    </a:lnTo>
                    <a:lnTo>
                      <a:pt x="1098" y="861"/>
                    </a:lnTo>
                    <a:lnTo>
                      <a:pt x="1102" y="872"/>
                    </a:lnTo>
                    <a:lnTo>
                      <a:pt x="1104" y="881"/>
                    </a:lnTo>
                    <a:lnTo>
                      <a:pt x="1104" y="887"/>
                    </a:lnTo>
                    <a:lnTo>
                      <a:pt x="1103" y="891"/>
                    </a:lnTo>
                    <a:lnTo>
                      <a:pt x="1101" y="894"/>
                    </a:lnTo>
                    <a:lnTo>
                      <a:pt x="1098" y="895"/>
                    </a:lnTo>
                    <a:lnTo>
                      <a:pt x="1091" y="896"/>
                    </a:lnTo>
                    <a:lnTo>
                      <a:pt x="1083" y="897"/>
                    </a:lnTo>
                    <a:lnTo>
                      <a:pt x="1041" y="891"/>
                    </a:lnTo>
                    <a:lnTo>
                      <a:pt x="997" y="887"/>
                    </a:lnTo>
                    <a:lnTo>
                      <a:pt x="950" y="884"/>
                    </a:lnTo>
                    <a:lnTo>
                      <a:pt x="900" y="883"/>
                    </a:lnTo>
                    <a:lnTo>
                      <a:pt x="849" y="882"/>
                    </a:lnTo>
                    <a:lnTo>
                      <a:pt x="794" y="882"/>
                    </a:lnTo>
                    <a:lnTo>
                      <a:pt x="736" y="884"/>
                    </a:lnTo>
                    <a:lnTo>
                      <a:pt x="676" y="886"/>
                    </a:lnTo>
                    <a:lnTo>
                      <a:pt x="613" y="890"/>
                    </a:lnTo>
                    <a:lnTo>
                      <a:pt x="548" y="895"/>
                    </a:lnTo>
                    <a:lnTo>
                      <a:pt x="479" y="901"/>
                    </a:lnTo>
                    <a:lnTo>
                      <a:pt x="408" y="907"/>
                    </a:lnTo>
                    <a:lnTo>
                      <a:pt x="335" y="916"/>
                    </a:lnTo>
                    <a:lnTo>
                      <a:pt x="258" y="924"/>
                    </a:lnTo>
                    <a:lnTo>
                      <a:pt x="179" y="935"/>
                    </a:lnTo>
                    <a:lnTo>
                      <a:pt x="97" y="947"/>
                    </a:lnTo>
                    <a:lnTo>
                      <a:pt x="90" y="946"/>
                    </a:lnTo>
                    <a:lnTo>
                      <a:pt x="83" y="942"/>
                    </a:lnTo>
                    <a:lnTo>
                      <a:pt x="73" y="938"/>
                    </a:lnTo>
                    <a:lnTo>
                      <a:pt x="64" y="933"/>
                    </a:lnTo>
                    <a:lnTo>
                      <a:pt x="52" y="924"/>
                    </a:lnTo>
                    <a:lnTo>
                      <a:pt x="39" y="915"/>
                    </a:lnTo>
                    <a:lnTo>
                      <a:pt x="27" y="904"/>
                    </a:lnTo>
                    <a:lnTo>
                      <a:pt x="12" y="891"/>
                    </a:lnTo>
                    <a:lnTo>
                      <a:pt x="5" y="884"/>
                    </a:lnTo>
                    <a:lnTo>
                      <a:pt x="2" y="879"/>
                    </a:lnTo>
                    <a:lnTo>
                      <a:pt x="1" y="877"/>
                    </a:lnTo>
                    <a:lnTo>
                      <a:pt x="0" y="875"/>
                    </a:lnTo>
                    <a:lnTo>
                      <a:pt x="1" y="872"/>
                    </a:lnTo>
                    <a:lnTo>
                      <a:pt x="2" y="871"/>
                    </a:lnTo>
                    <a:lnTo>
                      <a:pt x="2" y="870"/>
                    </a:lnTo>
                    <a:lnTo>
                      <a:pt x="3" y="869"/>
                    </a:lnTo>
                    <a:lnTo>
                      <a:pt x="4" y="869"/>
                    </a:lnTo>
                    <a:lnTo>
                      <a:pt x="7" y="869"/>
                    </a:lnTo>
                    <a:lnTo>
                      <a:pt x="13" y="869"/>
                    </a:lnTo>
                    <a:lnTo>
                      <a:pt x="22" y="871"/>
                    </a:lnTo>
                    <a:lnTo>
                      <a:pt x="61" y="868"/>
                    </a:lnTo>
                    <a:lnTo>
                      <a:pt x="101" y="865"/>
                    </a:lnTo>
                    <a:lnTo>
                      <a:pt x="142" y="862"/>
                    </a:lnTo>
                    <a:lnTo>
                      <a:pt x="186" y="859"/>
                    </a:lnTo>
                    <a:lnTo>
                      <a:pt x="231" y="854"/>
                    </a:lnTo>
                    <a:lnTo>
                      <a:pt x="278" y="850"/>
                    </a:lnTo>
                    <a:lnTo>
                      <a:pt x="326" y="846"/>
                    </a:lnTo>
                    <a:lnTo>
                      <a:pt x="377" y="842"/>
                    </a:lnTo>
                    <a:lnTo>
                      <a:pt x="377" y="793"/>
                    </a:lnTo>
                    <a:lnTo>
                      <a:pt x="377" y="747"/>
                    </a:lnTo>
                    <a:lnTo>
                      <a:pt x="377" y="704"/>
                    </a:lnTo>
                    <a:lnTo>
                      <a:pt x="377" y="665"/>
                    </a:lnTo>
                    <a:lnTo>
                      <a:pt x="377" y="628"/>
                    </a:lnTo>
                    <a:lnTo>
                      <a:pt x="377" y="595"/>
                    </a:lnTo>
                    <a:lnTo>
                      <a:pt x="377" y="564"/>
                    </a:lnTo>
                    <a:lnTo>
                      <a:pt x="377" y="535"/>
                    </a:lnTo>
                    <a:lnTo>
                      <a:pt x="377" y="505"/>
                    </a:lnTo>
                    <a:lnTo>
                      <a:pt x="377" y="475"/>
                    </a:lnTo>
                    <a:lnTo>
                      <a:pt x="376" y="445"/>
                    </a:lnTo>
                    <a:lnTo>
                      <a:pt x="376" y="416"/>
                    </a:lnTo>
                    <a:lnTo>
                      <a:pt x="375" y="387"/>
                    </a:lnTo>
                    <a:lnTo>
                      <a:pt x="374" y="359"/>
                    </a:lnTo>
                    <a:lnTo>
                      <a:pt x="373" y="332"/>
                    </a:lnTo>
                    <a:lnTo>
                      <a:pt x="372" y="305"/>
                    </a:lnTo>
                    <a:lnTo>
                      <a:pt x="371" y="273"/>
                    </a:lnTo>
                    <a:lnTo>
                      <a:pt x="368" y="241"/>
                    </a:lnTo>
                    <a:lnTo>
                      <a:pt x="365" y="211"/>
                    </a:lnTo>
                    <a:lnTo>
                      <a:pt x="359" y="184"/>
                    </a:lnTo>
                    <a:lnTo>
                      <a:pt x="354" y="156"/>
                    </a:lnTo>
                    <a:lnTo>
                      <a:pt x="348" y="132"/>
                    </a:lnTo>
                    <a:lnTo>
                      <a:pt x="340" y="107"/>
                    </a:lnTo>
                    <a:lnTo>
                      <a:pt x="332" y="86"/>
                    </a:lnTo>
                    <a:lnTo>
                      <a:pt x="345" y="91"/>
                    </a:lnTo>
                    <a:lnTo>
                      <a:pt x="360" y="97"/>
                    </a:lnTo>
                    <a:lnTo>
                      <a:pt x="376" y="102"/>
                    </a:lnTo>
                    <a:lnTo>
                      <a:pt x="394" y="107"/>
                    </a:lnTo>
                    <a:lnTo>
                      <a:pt x="414" y="112"/>
                    </a:lnTo>
                    <a:lnTo>
                      <a:pt x="436" y="115"/>
                    </a:lnTo>
                    <a:lnTo>
                      <a:pt x="458" y="118"/>
                    </a:lnTo>
                    <a:lnTo>
                      <a:pt x="482" y="121"/>
                    </a:lnTo>
                    <a:lnTo>
                      <a:pt x="476" y="141"/>
                    </a:lnTo>
                    <a:lnTo>
                      <a:pt x="470" y="163"/>
                    </a:lnTo>
                    <a:lnTo>
                      <a:pt x="466" y="190"/>
                    </a:lnTo>
                    <a:lnTo>
                      <a:pt x="462" y="219"/>
                    </a:lnTo>
                    <a:lnTo>
                      <a:pt x="459" y="249"/>
                    </a:lnTo>
                    <a:lnTo>
                      <a:pt x="456" y="284"/>
                    </a:lnTo>
                    <a:lnTo>
                      <a:pt x="454" y="321"/>
                    </a:lnTo>
                    <a:lnTo>
                      <a:pt x="452" y="361"/>
                    </a:lnTo>
                    <a:lnTo>
                      <a:pt x="454" y="382"/>
                    </a:lnTo>
                    <a:lnTo>
                      <a:pt x="455" y="405"/>
                    </a:lnTo>
                    <a:lnTo>
                      <a:pt x="456" y="432"/>
                    </a:lnTo>
                    <a:lnTo>
                      <a:pt x="456" y="459"/>
                    </a:lnTo>
                    <a:lnTo>
                      <a:pt x="457" y="490"/>
                    </a:lnTo>
                    <a:lnTo>
                      <a:pt x="457" y="523"/>
                    </a:lnTo>
                    <a:lnTo>
                      <a:pt x="457" y="559"/>
                    </a:lnTo>
                    <a:lnTo>
                      <a:pt x="457" y="596"/>
                    </a:lnTo>
                    <a:lnTo>
                      <a:pt x="457" y="633"/>
                    </a:lnTo>
                    <a:lnTo>
                      <a:pt x="457" y="667"/>
                    </a:lnTo>
                    <a:lnTo>
                      <a:pt x="457" y="700"/>
                    </a:lnTo>
                    <a:lnTo>
                      <a:pt x="457" y="729"/>
                    </a:lnTo>
                    <a:lnTo>
                      <a:pt x="457" y="758"/>
                    </a:lnTo>
                    <a:lnTo>
                      <a:pt x="457" y="784"/>
                    </a:lnTo>
                    <a:lnTo>
                      <a:pt x="457" y="809"/>
                    </a:lnTo>
                    <a:lnTo>
                      <a:pt x="457" y="831"/>
                    </a:lnTo>
                    <a:lnTo>
                      <a:pt x="491" y="827"/>
                    </a:lnTo>
                    <a:lnTo>
                      <a:pt x="524" y="823"/>
                    </a:lnTo>
                    <a:lnTo>
                      <a:pt x="560" y="819"/>
                    </a:lnTo>
                    <a:lnTo>
                      <a:pt x="598" y="816"/>
                    </a:lnTo>
                    <a:lnTo>
                      <a:pt x="597" y="745"/>
                    </a:lnTo>
                    <a:lnTo>
                      <a:pt x="597" y="674"/>
                    </a:lnTo>
                    <a:lnTo>
                      <a:pt x="595" y="601"/>
                    </a:lnTo>
                    <a:lnTo>
                      <a:pt x="594" y="527"/>
                    </a:lnTo>
                    <a:lnTo>
                      <a:pt x="593" y="453"/>
                    </a:lnTo>
                    <a:lnTo>
                      <a:pt x="591" y="376"/>
                    </a:lnTo>
                    <a:lnTo>
                      <a:pt x="589" y="299"/>
                    </a:lnTo>
                    <a:lnTo>
                      <a:pt x="587" y="221"/>
                    </a:lnTo>
                    <a:lnTo>
                      <a:pt x="588" y="183"/>
                    </a:lnTo>
                    <a:lnTo>
                      <a:pt x="587" y="146"/>
                    </a:lnTo>
                    <a:lnTo>
                      <a:pt x="585" y="115"/>
                    </a:lnTo>
                    <a:lnTo>
                      <a:pt x="582" y="86"/>
                    </a:lnTo>
                    <a:lnTo>
                      <a:pt x="577" y="60"/>
                    </a:lnTo>
                    <a:lnTo>
                      <a:pt x="572" y="36"/>
                    </a:lnTo>
                    <a:lnTo>
                      <a:pt x="569" y="27"/>
                    </a:lnTo>
                    <a:lnTo>
                      <a:pt x="566" y="17"/>
                    </a:lnTo>
                    <a:lnTo>
                      <a:pt x="562" y="9"/>
                    </a:lnTo>
                    <a:lnTo>
                      <a:pt x="557" y="0"/>
                    </a:lnTo>
                    <a:lnTo>
                      <a:pt x="570" y="7"/>
                    </a:lnTo>
                    <a:lnTo>
                      <a:pt x="585" y="12"/>
                    </a:lnTo>
                    <a:lnTo>
                      <a:pt x="602" y="17"/>
                    </a:lnTo>
                    <a:lnTo>
                      <a:pt x="620" y="21"/>
                    </a:lnTo>
                    <a:lnTo>
                      <a:pt x="639" y="26"/>
                    </a:lnTo>
                    <a:lnTo>
                      <a:pt x="660" y="30"/>
                    </a:lnTo>
                    <a:lnTo>
                      <a:pt x="683" y="33"/>
                    </a:lnTo>
                    <a:lnTo>
                      <a:pt x="708" y="35"/>
                    </a:lnTo>
                    <a:close/>
                    <a:moveTo>
                      <a:pt x="137" y="410"/>
                    </a:moveTo>
                    <a:lnTo>
                      <a:pt x="171" y="429"/>
                    </a:lnTo>
                    <a:lnTo>
                      <a:pt x="200" y="446"/>
                    </a:lnTo>
                    <a:lnTo>
                      <a:pt x="227" y="462"/>
                    </a:lnTo>
                    <a:lnTo>
                      <a:pt x="251" y="477"/>
                    </a:lnTo>
                    <a:lnTo>
                      <a:pt x="271" y="491"/>
                    </a:lnTo>
                    <a:lnTo>
                      <a:pt x="288" y="504"/>
                    </a:lnTo>
                    <a:lnTo>
                      <a:pt x="302" y="515"/>
                    </a:lnTo>
                    <a:lnTo>
                      <a:pt x="312" y="526"/>
                    </a:lnTo>
                    <a:lnTo>
                      <a:pt x="313" y="534"/>
                    </a:lnTo>
                    <a:lnTo>
                      <a:pt x="313" y="544"/>
                    </a:lnTo>
                    <a:lnTo>
                      <a:pt x="311" y="557"/>
                    </a:lnTo>
                    <a:lnTo>
                      <a:pt x="308" y="569"/>
                    </a:lnTo>
                    <a:lnTo>
                      <a:pt x="304" y="585"/>
                    </a:lnTo>
                    <a:lnTo>
                      <a:pt x="300" y="602"/>
                    </a:lnTo>
                    <a:lnTo>
                      <a:pt x="294" y="620"/>
                    </a:lnTo>
                    <a:lnTo>
                      <a:pt x="287" y="641"/>
                    </a:lnTo>
                    <a:lnTo>
                      <a:pt x="282" y="652"/>
                    </a:lnTo>
                    <a:lnTo>
                      <a:pt x="279" y="659"/>
                    </a:lnTo>
                    <a:lnTo>
                      <a:pt x="275" y="665"/>
                    </a:lnTo>
                    <a:lnTo>
                      <a:pt x="272" y="666"/>
                    </a:lnTo>
                    <a:lnTo>
                      <a:pt x="267" y="665"/>
                    </a:lnTo>
                    <a:lnTo>
                      <a:pt x="262" y="663"/>
                    </a:lnTo>
                    <a:lnTo>
                      <a:pt x="257" y="657"/>
                    </a:lnTo>
                    <a:lnTo>
                      <a:pt x="252" y="651"/>
                    </a:lnTo>
                    <a:lnTo>
                      <a:pt x="243" y="638"/>
                    </a:lnTo>
                    <a:lnTo>
                      <a:pt x="232" y="621"/>
                    </a:lnTo>
                    <a:lnTo>
                      <a:pt x="220" y="602"/>
                    </a:lnTo>
                    <a:lnTo>
                      <a:pt x="207" y="579"/>
                    </a:lnTo>
                    <a:lnTo>
                      <a:pt x="193" y="551"/>
                    </a:lnTo>
                    <a:lnTo>
                      <a:pt x="177" y="522"/>
                    </a:lnTo>
                    <a:lnTo>
                      <a:pt x="160" y="488"/>
                    </a:lnTo>
                    <a:lnTo>
                      <a:pt x="142" y="451"/>
                    </a:lnTo>
                    <a:lnTo>
                      <a:pt x="134" y="434"/>
                    </a:lnTo>
                    <a:lnTo>
                      <a:pt x="127" y="421"/>
                    </a:lnTo>
                    <a:lnTo>
                      <a:pt x="125" y="416"/>
                    </a:lnTo>
                    <a:lnTo>
                      <a:pt x="124" y="410"/>
                    </a:lnTo>
                    <a:lnTo>
                      <a:pt x="124" y="407"/>
                    </a:lnTo>
                    <a:lnTo>
                      <a:pt x="124" y="406"/>
                    </a:lnTo>
                    <a:lnTo>
                      <a:pt x="126" y="405"/>
                    </a:lnTo>
                    <a:lnTo>
                      <a:pt x="129" y="406"/>
                    </a:lnTo>
                    <a:lnTo>
                      <a:pt x="133" y="407"/>
                    </a:lnTo>
                    <a:lnTo>
                      <a:pt x="137" y="410"/>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419" name="Freeform 17"/>
              <p:cNvSpPr/>
              <p:nvPr/>
            </p:nvSpPr>
            <p:spPr>
              <a:xfrm>
                <a:off x="3326400" y="1101960"/>
                <a:ext cx="154080" cy="166680"/>
              </a:xfrm>
              <a:custGeom>
                <a:avLst/>
                <a:gdLst>
                  <a:gd name="textAreaLeft" fmla="*/ 0 w 154080"/>
                  <a:gd name="textAreaRight" fmla="*/ 154440 w 154080"/>
                  <a:gd name="textAreaTop" fmla="*/ 0 h 166680"/>
                  <a:gd name="textAreaBottom" fmla="*/ 167040 h 166680"/>
                </a:gdLst>
                <a:ahLst/>
                <a:rect l="textAreaLeft" t="textAreaTop" r="textAreaRight" b="textAreaBottom"/>
                <a:pathLst>
                  <a:path w="1037" h="1206">
                    <a:moveTo>
                      <a:pt x="246" y="560"/>
                    </a:moveTo>
                    <a:lnTo>
                      <a:pt x="263" y="566"/>
                    </a:lnTo>
                    <a:lnTo>
                      <a:pt x="282" y="573"/>
                    </a:lnTo>
                    <a:lnTo>
                      <a:pt x="303" y="580"/>
                    </a:lnTo>
                    <a:lnTo>
                      <a:pt x="326" y="590"/>
                    </a:lnTo>
                    <a:lnTo>
                      <a:pt x="335" y="594"/>
                    </a:lnTo>
                    <a:lnTo>
                      <a:pt x="341" y="595"/>
                    </a:lnTo>
                    <a:lnTo>
                      <a:pt x="389" y="588"/>
                    </a:lnTo>
                    <a:lnTo>
                      <a:pt x="432" y="579"/>
                    </a:lnTo>
                    <a:lnTo>
                      <a:pt x="470" y="572"/>
                    </a:lnTo>
                    <a:lnTo>
                      <a:pt x="504" y="563"/>
                    </a:lnTo>
                    <a:lnTo>
                      <a:pt x="533" y="555"/>
                    </a:lnTo>
                    <a:lnTo>
                      <a:pt x="557" y="548"/>
                    </a:lnTo>
                    <a:lnTo>
                      <a:pt x="568" y="543"/>
                    </a:lnTo>
                    <a:lnTo>
                      <a:pt x="576" y="539"/>
                    </a:lnTo>
                    <a:lnTo>
                      <a:pt x="585" y="534"/>
                    </a:lnTo>
                    <a:lnTo>
                      <a:pt x="591" y="530"/>
                    </a:lnTo>
                    <a:lnTo>
                      <a:pt x="607" y="541"/>
                    </a:lnTo>
                    <a:lnTo>
                      <a:pt x="624" y="551"/>
                    </a:lnTo>
                    <a:lnTo>
                      <a:pt x="642" y="560"/>
                    </a:lnTo>
                    <a:lnTo>
                      <a:pt x="661" y="569"/>
                    </a:lnTo>
                    <a:lnTo>
                      <a:pt x="682" y="576"/>
                    </a:lnTo>
                    <a:lnTo>
                      <a:pt x="705" y="584"/>
                    </a:lnTo>
                    <a:lnTo>
                      <a:pt x="727" y="590"/>
                    </a:lnTo>
                    <a:lnTo>
                      <a:pt x="751" y="595"/>
                    </a:lnTo>
                    <a:lnTo>
                      <a:pt x="738" y="601"/>
                    </a:lnTo>
                    <a:lnTo>
                      <a:pt x="726" y="609"/>
                    </a:lnTo>
                    <a:lnTo>
                      <a:pt x="713" y="620"/>
                    </a:lnTo>
                    <a:lnTo>
                      <a:pt x="699" y="631"/>
                    </a:lnTo>
                    <a:lnTo>
                      <a:pt x="686" y="645"/>
                    </a:lnTo>
                    <a:lnTo>
                      <a:pt x="671" y="662"/>
                    </a:lnTo>
                    <a:lnTo>
                      <a:pt x="657" y="680"/>
                    </a:lnTo>
                    <a:lnTo>
                      <a:pt x="642" y="700"/>
                    </a:lnTo>
                    <a:lnTo>
                      <a:pt x="651" y="705"/>
                    </a:lnTo>
                    <a:lnTo>
                      <a:pt x="658" y="711"/>
                    </a:lnTo>
                    <a:lnTo>
                      <a:pt x="665" y="717"/>
                    </a:lnTo>
                    <a:lnTo>
                      <a:pt x="673" y="723"/>
                    </a:lnTo>
                    <a:lnTo>
                      <a:pt x="679" y="731"/>
                    </a:lnTo>
                    <a:lnTo>
                      <a:pt x="686" y="738"/>
                    </a:lnTo>
                    <a:lnTo>
                      <a:pt x="692" y="747"/>
                    </a:lnTo>
                    <a:lnTo>
                      <a:pt x="697" y="755"/>
                    </a:lnTo>
                    <a:lnTo>
                      <a:pt x="658" y="757"/>
                    </a:lnTo>
                    <a:lnTo>
                      <a:pt x="619" y="761"/>
                    </a:lnTo>
                    <a:lnTo>
                      <a:pt x="577" y="765"/>
                    </a:lnTo>
                    <a:lnTo>
                      <a:pt x="535" y="769"/>
                    </a:lnTo>
                    <a:lnTo>
                      <a:pt x="492" y="773"/>
                    </a:lnTo>
                    <a:lnTo>
                      <a:pt x="446" y="779"/>
                    </a:lnTo>
                    <a:lnTo>
                      <a:pt x="400" y="784"/>
                    </a:lnTo>
                    <a:lnTo>
                      <a:pt x="352" y="790"/>
                    </a:lnTo>
                    <a:lnTo>
                      <a:pt x="352" y="895"/>
                    </a:lnTo>
                    <a:lnTo>
                      <a:pt x="415" y="886"/>
                    </a:lnTo>
                    <a:lnTo>
                      <a:pt x="472" y="876"/>
                    </a:lnTo>
                    <a:lnTo>
                      <a:pt x="520" y="868"/>
                    </a:lnTo>
                    <a:lnTo>
                      <a:pt x="562" y="859"/>
                    </a:lnTo>
                    <a:lnTo>
                      <a:pt x="595" y="851"/>
                    </a:lnTo>
                    <a:lnTo>
                      <a:pt x="622" y="843"/>
                    </a:lnTo>
                    <a:lnTo>
                      <a:pt x="631" y="840"/>
                    </a:lnTo>
                    <a:lnTo>
                      <a:pt x="640" y="837"/>
                    </a:lnTo>
                    <a:lnTo>
                      <a:pt x="647" y="834"/>
                    </a:lnTo>
                    <a:lnTo>
                      <a:pt x="652" y="830"/>
                    </a:lnTo>
                    <a:lnTo>
                      <a:pt x="671" y="844"/>
                    </a:lnTo>
                    <a:lnTo>
                      <a:pt x="691" y="857"/>
                    </a:lnTo>
                    <a:lnTo>
                      <a:pt x="711" y="869"/>
                    </a:lnTo>
                    <a:lnTo>
                      <a:pt x="732" y="878"/>
                    </a:lnTo>
                    <a:lnTo>
                      <a:pt x="753" y="886"/>
                    </a:lnTo>
                    <a:lnTo>
                      <a:pt x="776" y="892"/>
                    </a:lnTo>
                    <a:lnTo>
                      <a:pt x="798" y="897"/>
                    </a:lnTo>
                    <a:lnTo>
                      <a:pt x="821" y="900"/>
                    </a:lnTo>
                    <a:lnTo>
                      <a:pt x="813" y="905"/>
                    </a:lnTo>
                    <a:lnTo>
                      <a:pt x="803" y="910"/>
                    </a:lnTo>
                    <a:lnTo>
                      <a:pt x="795" y="915"/>
                    </a:lnTo>
                    <a:lnTo>
                      <a:pt x="786" y="922"/>
                    </a:lnTo>
                    <a:lnTo>
                      <a:pt x="778" y="928"/>
                    </a:lnTo>
                    <a:lnTo>
                      <a:pt x="770" y="935"/>
                    </a:lnTo>
                    <a:lnTo>
                      <a:pt x="763" y="943"/>
                    </a:lnTo>
                    <a:lnTo>
                      <a:pt x="755" y="950"/>
                    </a:lnTo>
                    <a:lnTo>
                      <a:pt x="742" y="967"/>
                    </a:lnTo>
                    <a:lnTo>
                      <a:pt x="729" y="986"/>
                    </a:lnTo>
                    <a:lnTo>
                      <a:pt x="717" y="1007"/>
                    </a:lnTo>
                    <a:lnTo>
                      <a:pt x="707" y="1031"/>
                    </a:lnTo>
                    <a:lnTo>
                      <a:pt x="715" y="1036"/>
                    </a:lnTo>
                    <a:lnTo>
                      <a:pt x="724" y="1041"/>
                    </a:lnTo>
                    <a:lnTo>
                      <a:pt x="731" y="1048"/>
                    </a:lnTo>
                    <a:lnTo>
                      <a:pt x="740" y="1054"/>
                    </a:lnTo>
                    <a:lnTo>
                      <a:pt x="747" y="1061"/>
                    </a:lnTo>
                    <a:lnTo>
                      <a:pt x="753" y="1069"/>
                    </a:lnTo>
                    <a:lnTo>
                      <a:pt x="761" y="1076"/>
                    </a:lnTo>
                    <a:lnTo>
                      <a:pt x="767" y="1085"/>
                    </a:lnTo>
                    <a:lnTo>
                      <a:pt x="722" y="1086"/>
                    </a:lnTo>
                    <a:lnTo>
                      <a:pt x="675" y="1087"/>
                    </a:lnTo>
                    <a:lnTo>
                      <a:pt x="626" y="1088"/>
                    </a:lnTo>
                    <a:lnTo>
                      <a:pt x="575" y="1090"/>
                    </a:lnTo>
                    <a:lnTo>
                      <a:pt x="522" y="1093"/>
                    </a:lnTo>
                    <a:lnTo>
                      <a:pt x="467" y="1096"/>
                    </a:lnTo>
                    <a:lnTo>
                      <a:pt x="410" y="1101"/>
                    </a:lnTo>
                    <a:lnTo>
                      <a:pt x="352" y="1105"/>
                    </a:lnTo>
                    <a:lnTo>
                      <a:pt x="351" y="1113"/>
                    </a:lnTo>
                    <a:lnTo>
                      <a:pt x="350" y="1122"/>
                    </a:lnTo>
                    <a:lnTo>
                      <a:pt x="349" y="1130"/>
                    </a:lnTo>
                    <a:lnTo>
                      <a:pt x="347" y="1140"/>
                    </a:lnTo>
                    <a:lnTo>
                      <a:pt x="346" y="1171"/>
                    </a:lnTo>
                    <a:lnTo>
                      <a:pt x="344" y="1192"/>
                    </a:lnTo>
                    <a:lnTo>
                      <a:pt x="342" y="1198"/>
                    </a:lnTo>
                    <a:lnTo>
                      <a:pt x="341" y="1203"/>
                    </a:lnTo>
                    <a:lnTo>
                      <a:pt x="340" y="1205"/>
                    </a:lnTo>
                    <a:lnTo>
                      <a:pt x="339" y="1206"/>
                    </a:lnTo>
                    <a:lnTo>
                      <a:pt x="338" y="1206"/>
                    </a:lnTo>
                    <a:lnTo>
                      <a:pt x="336" y="1206"/>
                    </a:lnTo>
                    <a:lnTo>
                      <a:pt x="326" y="1197"/>
                    </a:lnTo>
                    <a:lnTo>
                      <a:pt x="316" y="1189"/>
                    </a:lnTo>
                    <a:lnTo>
                      <a:pt x="305" y="1179"/>
                    </a:lnTo>
                    <a:lnTo>
                      <a:pt x="296" y="1167"/>
                    </a:lnTo>
                    <a:lnTo>
                      <a:pt x="273" y="1143"/>
                    </a:lnTo>
                    <a:lnTo>
                      <a:pt x="251" y="1116"/>
                    </a:lnTo>
                    <a:lnTo>
                      <a:pt x="258" y="1090"/>
                    </a:lnTo>
                    <a:lnTo>
                      <a:pt x="263" y="1057"/>
                    </a:lnTo>
                    <a:lnTo>
                      <a:pt x="267" y="1019"/>
                    </a:lnTo>
                    <a:lnTo>
                      <a:pt x="270" y="976"/>
                    </a:lnTo>
                    <a:lnTo>
                      <a:pt x="273" y="925"/>
                    </a:lnTo>
                    <a:lnTo>
                      <a:pt x="275" y="868"/>
                    </a:lnTo>
                    <a:lnTo>
                      <a:pt x="276" y="804"/>
                    </a:lnTo>
                    <a:lnTo>
                      <a:pt x="277" y="735"/>
                    </a:lnTo>
                    <a:lnTo>
                      <a:pt x="276" y="711"/>
                    </a:lnTo>
                    <a:lnTo>
                      <a:pt x="275" y="686"/>
                    </a:lnTo>
                    <a:lnTo>
                      <a:pt x="272" y="663"/>
                    </a:lnTo>
                    <a:lnTo>
                      <a:pt x="269" y="641"/>
                    </a:lnTo>
                    <a:lnTo>
                      <a:pt x="265" y="620"/>
                    </a:lnTo>
                    <a:lnTo>
                      <a:pt x="260" y="599"/>
                    </a:lnTo>
                    <a:lnTo>
                      <a:pt x="253" y="579"/>
                    </a:lnTo>
                    <a:lnTo>
                      <a:pt x="246" y="560"/>
                    </a:lnTo>
                    <a:close/>
                    <a:moveTo>
                      <a:pt x="416" y="314"/>
                    </a:moveTo>
                    <a:lnTo>
                      <a:pt x="460" y="320"/>
                    </a:lnTo>
                    <a:lnTo>
                      <a:pt x="494" y="325"/>
                    </a:lnTo>
                    <a:lnTo>
                      <a:pt x="519" y="329"/>
                    </a:lnTo>
                    <a:lnTo>
                      <a:pt x="536" y="335"/>
                    </a:lnTo>
                    <a:lnTo>
                      <a:pt x="539" y="339"/>
                    </a:lnTo>
                    <a:lnTo>
                      <a:pt x="541" y="345"/>
                    </a:lnTo>
                    <a:lnTo>
                      <a:pt x="543" y="353"/>
                    </a:lnTo>
                    <a:lnTo>
                      <a:pt x="544" y="361"/>
                    </a:lnTo>
                    <a:lnTo>
                      <a:pt x="546" y="382"/>
                    </a:lnTo>
                    <a:lnTo>
                      <a:pt x="547" y="410"/>
                    </a:lnTo>
                    <a:lnTo>
                      <a:pt x="547" y="411"/>
                    </a:lnTo>
                    <a:lnTo>
                      <a:pt x="547" y="415"/>
                    </a:lnTo>
                    <a:lnTo>
                      <a:pt x="611" y="403"/>
                    </a:lnTo>
                    <a:lnTo>
                      <a:pt x="669" y="394"/>
                    </a:lnTo>
                    <a:lnTo>
                      <a:pt x="718" y="384"/>
                    </a:lnTo>
                    <a:lnTo>
                      <a:pt x="761" y="375"/>
                    </a:lnTo>
                    <a:lnTo>
                      <a:pt x="795" y="366"/>
                    </a:lnTo>
                    <a:lnTo>
                      <a:pt x="821" y="359"/>
                    </a:lnTo>
                    <a:lnTo>
                      <a:pt x="832" y="355"/>
                    </a:lnTo>
                    <a:lnTo>
                      <a:pt x="840" y="351"/>
                    </a:lnTo>
                    <a:lnTo>
                      <a:pt x="847" y="348"/>
                    </a:lnTo>
                    <a:lnTo>
                      <a:pt x="852" y="345"/>
                    </a:lnTo>
                    <a:lnTo>
                      <a:pt x="871" y="364"/>
                    </a:lnTo>
                    <a:lnTo>
                      <a:pt x="891" y="382"/>
                    </a:lnTo>
                    <a:lnTo>
                      <a:pt x="913" y="400"/>
                    </a:lnTo>
                    <a:lnTo>
                      <a:pt x="935" y="416"/>
                    </a:lnTo>
                    <a:lnTo>
                      <a:pt x="959" y="431"/>
                    </a:lnTo>
                    <a:lnTo>
                      <a:pt x="984" y="445"/>
                    </a:lnTo>
                    <a:lnTo>
                      <a:pt x="1010" y="458"/>
                    </a:lnTo>
                    <a:lnTo>
                      <a:pt x="1037" y="470"/>
                    </a:lnTo>
                    <a:lnTo>
                      <a:pt x="1002" y="488"/>
                    </a:lnTo>
                    <a:lnTo>
                      <a:pt x="969" y="505"/>
                    </a:lnTo>
                    <a:lnTo>
                      <a:pt x="937" y="520"/>
                    </a:lnTo>
                    <a:lnTo>
                      <a:pt x="906" y="535"/>
                    </a:lnTo>
                    <a:lnTo>
                      <a:pt x="875" y="548"/>
                    </a:lnTo>
                    <a:lnTo>
                      <a:pt x="847" y="560"/>
                    </a:lnTo>
                    <a:lnTo>
                      <a:pt x="819" y="571"/>
                    </a:lnTo>
                    <a:lnTo>
                      <a:pt x="791" y="579"/>
                    </a:lnTo>
                    <a:lnTo>
                      <a:pt x="771" y="584"/>
                    </a:lnTo>
                    <a:lnTo>
                      <a:pt x="762" y="585"/>
                    </a:lnTo>
                    <a:lnTo>
                      <a:pt x="760" y="581"/>
                    </a:lnTo>
                    <a:lnTo>
                      <a:pt x="761" y="576"/>
                    </a:lnTo>
                    <a:lnTo>
                      <a:pt x="763" y="569"/>
                    </a:lnTo>
                    <a:lnTo>
                      <a:pt x="767" y="560"/>
                    </a:lnTo>
                    <a:lnTo>
                      <a:pt x="788" y="521"/>
                    </a:lnTo>
                    <a:lnTo>
                      <a:pt x="806" y="486"/>
                    </a:lnTo>
                    <a:lnTo>
                      <a:pt x="823" y="454"/>
                    </a:lnTo>
                    <a:lnTo>
                      <a:pt x="837" y="425"/>
                    </a:lnTo>
                    <a:lnTo>
                      <a:pt x="791" y="433"/>
                    </a:lnTo>
                    <a:lnTo>
                      <a:pt x="736" y="442"/>
                    </a:lnTo>
                    <a:lnTo>
                      <a:pt x="671" y="452"/>
                    </a:lnTo>
                    <a:lnTo>
                      <a:pt x="594" y="464"/>
                    </a:lnTo>
                    <a:lnTo>
                      <a:pt x="508" y="475"/>
                    </a:lnTo>
                    <a:lnTo>
                      <a:pt x="411" y="489"/>
                    </a:lnTo>
                    <a:lnTo>
                      <a:pt x="304" y="504"/>
                    </a:lnTo>
                    <a:lnTo>
                      <a:pt x="187" y="520"/>
                    </a:lnTo>
                    <a:lnTo>
                      <a:pt x="167" y="500"/>
                    </a:lnTo>
                    <a:lnTo>
                      <a:pt x="163" y="527"/>
                    </a:lnTo>
                    <a:lnTo>
                      <a:pt x="160" y="554"/>
                    </a:lnTo>
                    <a:lnTo>
                      <a:pt x="156" y="580"/>
                    </a:lnTo>
                    <a:lnTo>
                      <a:pt x="152" y="606"/>
                    </a:lnTo>
                    <a:lnTo>
                      <a:pt x="146" y="631"/>
                    </a:lnTo>
                    <a:lnTo>
                      <a:pt x="140" y="657"/>
                    </a:lnTo>
                    <a:lnTo>
                      <a:pt x="134" y="681"/>
                    </a:lnTo>
                    <a:lnTo>
                      <a:pt x="126" y="705"/>
                    </a:lnTo>
                    <a:lnTo>
                      <a:pt x="114" y="697"/>
                    </a:lnTo>
                    <a:lnTo>
                      <a:pt x="101" y="688"/>
                    </a:lnTo>
                    <a:lnTo>
                      <a:pt x="87" y="681"/>
                    </a:lnTo>
                    <a:lnTo>
                      <a:pt x="72" y="674"/>
                    </a:lnTo>
                    <a:lnTo>
                      <a:pt x="58" y="667"/>
                    </a:lnTo>
                    <a:lnTo>
                      <a:pt x="43" y="661"/>
                    </a:lnTo>
                    <a:lnTo>
                      <a:pt x="28" y="656"/>
                    </a:lnTo>
                    <a:lnTo>
                      <a:pt x="12" y="650"/>
                    </a:lnTo>
                    <a:lnTo>
                      <a:pt x="7" y="648"/>
                    </a:lnTo>
                    <a:lnTo>
                      <a:pt x="3" y="646"/>
                    </a:lnTo>
                    <a:lnTo>
                      <a:pt x="1" y="644"/>
                    </a:lnTo>
                    <a:lnTo>
                      <a:pt x="0" y="641"/>
                    </a:lnTo>
                    <a:lnTo>
                      <a:pt x="0" y="638"/>
                    </a:lnTo>
                    <a:lnTo>
                      <a:pt x="1" y="634"/>
                    </a:lnTo>
                    <a:lnTo>
                      <a:pt x="3" y="630"/>
                    </a:lnTo>
                    <a:lnTo>
                      <a:pt x="7" y="625"/>
                    </a:lnTo>
                    <a:lnTo>
                      <a:pt x="26" y="606"/>
                    </a:lnTo>
                    <a:lnTo>
                      <a:pt x="44" y="584"/>
                    </a:lnTo>
                    <a:lnTo>
                      <a:pt x="63" y="561"/>
                    </a:lnTo>
                    <a:lnTo>
                      <a:pt x="82" y="536"/>
                    </a:lnTo>
                    <a:lnTo>
                      <a:pt x="100" y="509"/>
                    </a:lnTo>
                    <a:lnTo>
                      <a:pt x="119" y="482"/>
                    </a:lnTo>
                    <a:lnTo>
                      <a:pt x="138" y="451"/>
                    </a:lnTo>
                    <a:lnTo>
                      <a:pt x="156" y="419"/>
                    </a:lnTo>
                    <a:lnTo>
                      <a:pt x="159" y="415"/>
                    </a:lnTo>
                    <a:lnTo>
                      <a:pt x="161" y="412"/>
                    </a:lnTo>
                    <a:lnTo>
                      <a:pt x="164" y="411"/>
                    </a:lnTo>
                    <a:lnTo>
                      <a:pt x="167" y="410"/>
                    </a:lnTo>
                    <a:lnTo>
                      <a:pt x="169" y="413"/>
                    </a:lnTo>
                    <a:lnTo>
                      <a:pt x="171" y="416"/>
                    </a:lnTo>
                    <a:lnTo>
                      <a:pt x="171" y="420"/>
                    </a:lnTo>
                    <a:lnTo>
                      <a:pt x="172" y="425"/>
                    </a:lnTo>
                    <a:lnTo>
                      <a:pt x="172" y="433"/>
                    </a:lnTo>
                    <a:lnTo>
                      <a:pt x="172" y="443"/>
                    </a:lnTo>
                    <a:lnTo>
                      <a:pt x="172" y="453"/>
                    </a:lnTo>
                    <a:lnTo>
                      <a:pt x="172" y="465"/>
                    </a:lnTo>
                    <a:lnTo>
                      <a:pt x="221" y="458"/>
                    </a:lnTo>
                    <a:lnTo>
                      <a:pt x="268" y="452"/>
                    </a:lnTo>
                    <a:lnTo>
                      <a:pt x="313" y="447"/>
                    </a:lnTo>
                    <a:lnTo>
                      <a:pt x="356" y="440"/>
                    </a:lnTo>
                    <a:lnTo>
                      <a:pt x="398" y="435"/>
                    </a:lnTo>
                    <a:lnTo>
                      <a:pt x="438" y="430"/>
                    </a:lnTo>
                    <a:lnTo>
                      <a:pt x="476" y="425"/>
                    </a:lnTo>
                    <a:lnTo>
                      <a:pt x="512" y="419"/>
                    </a:lnTo>
                    <a:lnTo>
                      <a:pt x="479" y="396"/>
                    </a:lnTo>
                    <a:lnTo>
                      <a:pt x="451" y="374"/>
                    </a:lnTo>
                    <a:lnTo>
                      <a:pt x="440" y="363"/>
                    </a:lnTo>
                    <a:lnTo>
                      <a:pt x="429" y="354"/>
                    </a:lnTo>
                    <a:lnTo>
                      <a:pt x="420" y="344"/>
                    </a:lnTo>
                    <a:lnTo>
                      <a:pt x="411" y="335"/>
                    </a:lnTo>
                    <a:lnTo>
                      <a:pt x="407" y="328"/>
                    </a:lnTo>
                    <a:lnTo>
                      <a:pt x="404" y="322"/>
                    </a:lnTo>
                    <a:lnTo>
                      <a:pt x="403" y="318"/>
                    </a:lnTo>
                    <a:lnTo>
                      <a:pt x="402" y="314"/>
                    </a:lnTo>
                    <a:lnTo>
                      <a:pt x="405" y="312"/>
                    </a:lnTo>
                    <a:lnTo>
                      <a:pt x="408" y="312"/>
                    </a:lnTo>
                    <a:lnTo>
                      <a:pt x="412" y="312"/>
                    </a:lnTo>
                    <a:lnTo>
                      <a:pt x="416" y="314"/>
                    </a:lnTo>
                    <a:close/>
                    <a:moveTo>
                      <a:pt x="462" y="130"/>
                    </a:moveTo>
                    <a:lnTo>
                      <a:pt x="470" y="138"/>
                    </a:lnTo>
                    <a:lnTo>
                      <a:pt x="486" y="154"/>
                    </a:lnTo>
                    <a:lnTo>
                      <a:pt x="491" y="159"/>
                    </a:lnTo>
                    <a:lnTo>
                      <a:pt x="492" y="160"/>
                    </a:lnTo>
                    <a:lnTo>
                      <a:pt x="494" y="163"/>
                    </a:lnTo>
                    <a:lnTo>
                      <a:pt x="495" y="166"/>
                    </a:lnTo>
                    <a:lnTo>
                      <a:pt x="495" y="169"/>
                    </a:lnTo>
                    <a:lnTo>
                      <a:pt x="494" y="172"/>
                    </a:lnTo>
                    <a:lnTo>
                      <a:pt x="493" y="174"/>
                    </a:lnTo>
                    <a:lnTo>
                      <a:pt x="490" y="177"/>
                    </a:lnTo>
                    <a:lnTo>
                      <a:pt x="486" y="178"/>
                    </a:lnTo>
                    <a:lnTo>
                      <a:pt x="482" y="180"/>
                    </a:lnTo>
                    <a:lnTo>
                      <a:pt x="446" y="189"/>
                    </a:lnTo>
                    <a:lnTo>
                      <a:pt x="414" y="197"/>
                    </a:lnTo>
                    <a:lnTo>
                      <a:pt x="386" y="204"/>
                    </a:lnTo>
                    <a:lnTo>
                      <a:pt x="361" y="209"/>
                    </a:lnTo>
                    <a:lnTo>
                      <a:pt x="341" y="214"/>
                    </a:lnTo>
                    <a:lnTo>
                      <a:pt x="324" y="217"/>
                    </a:lnTo>
                    <a:lnTo>
                      <a:pt x="311" y="219"/>
                    </a:lnTo>
                    <a:lnTo>
                      <a:pt x="301" y="220"/>
                    </a:lnTo>
                    <a:lnTo>
                      <a:pt x="289" y="219"/>
                    </a:lnTo>
                    <a:lnTo>
                      <a:pt x="277" y="216"/>
                    </a:lnTo>
                    <a:lnTo>
                      <a:pt x="264" y="212"/>
                    </a:lnTo>
                    <a:lnTo>
                      <a:pt x="251" y="204"/>
                    </a:lnTo>
                    <a:lnTo>
                      <a:pt x="228" y="250"/>
                    </a:lnTo>
                    <a:lnTo>
                      <a:pt x="207" y="287"/>
                    </a:lnTo>
                    <a:lnTo>
                      <a:pt x="197" y="303"/>
                    </a:lnTo>
                    <a:lnTo>
                      <a:pt x="188" y="315"/>
                    </a:lnTo>
                    <a:lnTo>
                      <a:pt x="179" y="326"/>
                    </a:lnTo>
                    <a:lnTo>
                      <a:pt x="172" y="335"/>
                    </a:lnTo>
                    <a:lnTo>
                      <a:pt x="165" y="341"/>
                    </a:lnTo>
                    <a:lnTo>
                      <a:pt x="159" y="347"/>
                    </a:lnTo>
                    <a:lnTo>
                      <a:pt x="153" y="353"/>
                    </a:lnTo>
                    <a:lnTo>
                      <a:pt x="145" y="357"/>
                    </a:lnTo>
                    <a:lnTo>
                      <a:pt x="138" y="360"/>
                    </a:lnTo>
                    <a:lnTo>
                      <a:pt x="129" y="363"/>
                    </a:lnTo>
                    <a:lnTo>
                      <a:pt x="121" y="364"/>
                    </a:lnTo>
                    <a:lnTo>
                      <a:pt x="111" y="366"/>
                    </a:lnTo>
                    <a:lnTo>
                      <a:pt x="102" y="366"/>
                    </a:lnTo>
                    <a:lnTo>
                      <a:pt x="91" y="366"/>
                    </a:lnTo>
                    <a:lnTo>
                      <a:pt x="81" y="365"/>
                    </a:lnTo>
                    <a:lnTo>
                      <a:pt x="70" y="364"/>
                    </a:lnTo>
                    <a:lnTo>
                      <a:pt x="58" y="361"/>
                    </a:lnTo>
                    <a:lnTo>
                      <a:pt x="47" y="358"/>
                    </a:lnTo>
                    <a:lnTo>
                      <a:pt x="34" y="355"/>
                    </a:lnTo>
                    <a:lnTo>
                      <a:pt x="21" y="349"/>
                    </a:lnTo>
                    <a:lnTo>
                      <a:pt x="44" y="335"/>
                    </a:lnTo>
                    <a:lnTo>
                      <a:pt x="64" y="320"/>
                    </a:lnTo>
                    <a:lnTo>
                      <a:pt x="83" y="304"/>
                    </a:lnTo>
                    <a:lnTo>
                      <a:pt x="101" y="287"/>
                    </a:lnTo>
                    <a:lnTo>
                      <a:pt x="118" y="269"/>
                    </a:lnTo>
                    <a:lnTo>
                      <a:pt x="134" y="251"/>
                    </a:lnTo>
                    <a:lnTo>
                      <a:pt x="147" y="232"/>
                    </a:lnTo>
                    <a:lnTo>
                      <a:pt x="160" y="212"/>
                    </a:lnTo>
                    <a:lnTo>
                      <a:pt x="172" y="191"/>
                    </a:lnTo>
                    <a:lnTo>
                      <a:pt x="182" y="170"/>
                    </a:lnTo>
                    <a:lnTo>
                      <a:pt x="191" y="149"/>
                    </a:lnTo>
                    <a:lnTo>
                      <a:pt x="198" y="127"/>
                    </a:lnTo>
                    <a:lnTo>
                      <a:pt x="205" y="103"/>
                    </a:lnTo>
                    <a:lnTo>
                      <a:pt x="210" y="79"/>
                    </a:lnTo>
                    <a:lnTo>
                      <a:pt x="214" y="55"/>
                    </a:lnTo>
                    <a:lnTo>
                      <a:pt x="216" y="29"/>
                    </a:lnTo>
                    <a:lnTo>
                      <a:pt x="229" y="39"/>
                    </a:lnTo>
                    <a:lnTo>
                      <a:pt x="242" y="47"/>
                    </a:lnTo>
                    <a:lnTo>
                      <a:pt x="255" y="55"/>
                    </a:lnTo>
                    <a:lnTo>
                      <a:pt x="269" y="61"/>
                    </a:lnTo>
                    <a:lnTo>
                      <a:pt x="283" y="65"/>
                    </a:lnTo>
                    <a:lnTo>
                      <a:pt x="297" y="70"/>
                    </a:lnTo>
                    <a:lnTo>
                      <a:pt x="312" y="73"/>
                    </a:lnTo>
                    <a:lnTo>
                      <a:pt x="326" y="75"/>
                    </a:lnTo>
                    <a:lnTo>
                      <a:pt x="317" y="85"/>
                    </a:lnTo>
                    <a:lnTo>
                      <a:pt x="307" y="97"/>
                    </a:lnTo>
                    <a:lnTo>
                      <a:pt x="299" y="109"/>
                    </a:lnTo>
                    <a:lnTo>
                      <a:pt x="291" y="120"/>
                    </a:lnTo>
                    <a:lnTo>
                      <a:pt x="284" y="133"/>
                    </a:lnTo>
                    <a:lnTo>
                      <a:pt x="278" y="145"/>
                    </a:lnTo>
                    <a:lnTo>
                      <a:pt x="271" y="158"/>
                    </a:lnTo>
                    <a:lnTo>
                      <a:pt x="266" y="169"/>
                    </a:lnTo>
                    <a:lnTo>
                      <a:pt x="266" y="171"/>
                    </a:lnTo>
                    <a:lnTo>
                      <a:pt x="265" y="173"/>
                    </a:lnTo>
                    <a:lnTo>
                      <a:pt x="264" y="174"/>
                    </a:lnTo>
                    <a:lnTo>
                      <a:pt x="262" y="174"/>
                    </a:lnTo>
                    <a:lnTo>
                      <a:pt x="279" y="171"/>
                    </a:lnTo>
                    <a:lnTo>
                      <a:pt x="300" y="166"/>
                    </a:lnTo>
                    <a:lnTo>
                      <a:pt x="326" y="159"/>
                    </a:lnTo>
                    <a:lnTo>
                      <a:pt x="356" y="150"/>
                    </a:lnTo>
                    <a:lnTo>
                      <a:pt x="380" y="143"/>
                    </a:lnTo>
                    <a:lnTo>
                      <a:pt x="401" y="137"/>
                    </a:lnTo>
                    <a:lnTo>
                      <a:pt x="418" y="133"/>
                    </a:lnTo>
                    <a:lnTo>
                      <a:pt x="431" y="130"/>
                    </a:lnTo>
                    <a:lnTo>
                      <a:pt x="441" y="126"/>
                    </a:lnTo>
                    <a:lnTo>
                      <a:pt x="449" y="125"/>
                    </a:lnTo>
                    <a:lnTo>
                      <a:pt x="452" y="125"/>
                    </a:lnTo>
                    <a:lnTo>
                      <a:pt x="456" y="126"/>
                    </a:lnTo>
                    <a:lnTo>
                      <a:pt x="459" y="128"/>
                    </a:lnTo>
                    <a:lnTo>
                      <a:pt x="462" y="130"/>
                    </a:lnTo>
                    <a:close/>
                    <a:moveTo>
                      <a:pt x="881" y="95"/>
                    </a:moveTo>
                    <a:lnTo>
                      <a:pt x="885" y="95"/>
                    </a:lnTo>
                    <a:lnTo>
                      <a:pt x="888" y="97"/>
                    </a:lnTo>
                    <a:lnTo>
                      <a:pt x="892" y="100"/>
                    </a:lnTo>
                    <a:lnTo>
                      <a:pt x="896" y="105"/>
                    </a:lnTo>
                    <a:lnTo>
                      <a:pt x="906" y="113"/>
                    </a:lnTo>
                    <a:lnTo>
                      <a:pt x="911" y="119"/>
                    </a:lnTo>
                    <a:lnTo>
                      <a:pt x="914" y="125"/>
                    </a:lnTo>
                    <a:lnTo>
                      <a:pt x="915" y="130"/>
                    </a:lnTo>
                    <a:lnTo>
                      <a:pt x="916" y="134"/>
                    </a:lnTo>
                    <a:lnTo>
                      <a:pt x="916" y="140"/>
                    </a:lnTo>
                    <a:lnTo>
                      <a:pt x="914" y="142"/>
                    </a:lnTo>
                    <a:lnTo>
                      <a:pt x="910" y="143"/>
                    </a:lnTo>
                    <a:lnTo>
                      <a:pt x="906" y="144"/>
                    </a:lnTo>
                    <a:lnTo>
                      <a:pt x="902" y="145"/>
                    </a:lnTo>
                    <a:lnTo>
                      <a:pt x="893" y="147"/>
                    </a:lnTo>
                    <a:lnTo>
                      <a:pt x="881" y="149"/>
                    </a:lnTo>
                    <a:lnTo>
                      <a:pt x="868" y="152"/>
                    </a:lnTo>
                    <a:lnTo>
                      <a:pt x="852" y="154"/>
                    </a:lnTo>
                    <a:lnTo>
                      <a:pt x="820" y="161"/>
                    </a:lnTo>
                    <a:lnTo>
                      <a:pt x="791" y="165"/>
                    </a:lnTo>
                    <a:lnTo>
                      <a:pt x="766" y="170"/>
                    </a:lnTo>
                    <a:lnTo>
                      <a:pt x="744" y="173"/>
                    </a:lnTo>
                    <a:lnTo>
                      <a:pt x="726" y="176"/>
                    </a:lnTo>
                    <a:lnTo>
                      <a:pt x="711" y="178"/>
                    </a:lnTo>
                    <a:lnTo>
                      <a:pt x="699" y="179"/>
                    </a:lnTo>
                    <a:lnTo>
                      <a:pt x="692" y="180"/>
                    </a:lnTo>
                    <a:lnTo>
                      <a:pt x="683" y="179"/>
                    </a:lnTo>
                    <a:lnTo>
                      <a:pt x="675" y="179"/>
                    </a:lnTo>
                    <a:lnTo>
                      <a:pt x="668" y="177"/>
                    </a:lnTo>
                    <a:lnTo>
                      <a:pt x="660" y="174"/>
                    </a:lnTo>
                    <a:lnTo>
                      <a:pt x="654" y="171"/>
                    </a:lnTo>
                    <a:lnTo>
                      <a:pt x="647" y="168"/>
                    </a:lnTo>
                    <a:lnTo>
                      <a:pt x="642" y="164"/>
                    </a:lnTo>
                    <a:lnTo>
                      <a:pt x="637" y="160"/>
                    </a:lnTo>
                    <a:lnTo>
                      <a:pt x="630" y="176"/>
                    </a:lnTo>
                    <a:lnTo>
                      <a:pt x="623" y="190"/>
                    </a:lnTo>
                    <a:lnTo>
                      <a:pt x="616" y="205"/>
                    </a:lnTo>
                    <a:lnTo>
                      <a:pt x="608" y="218"/>
                    </a:lnTo>
                    <a:lnTo>
                      <a:pt x="600" y="231"/>
                    </a:lnTo>
                    <a:lnTo>
                      <a:pt x="590" y="243"/>
                    </a:lnTo>
                    <a:lnTo>
                      <a:pt x="582" y="254"/>
                    </a:lnTo>
                    <a:lnTo>
                      <a:pt x="572" y="265"/>
                    </a:lnTo>
                    <a:lnTo>
                      <a:pt x="566" y="273"/>
                    </a:lnTo>
                    <a:lnTo>
                      <a:pt x="559" y="280"/>
                    </a:lnTo>
                    <a:lnTo>
                      <a:pt x="553" y="287"/>
                    </a:lnTo>
                    <a:lnTo>
                      <a:pt x="547" y="292"/>
                    </a:lnTo>
                    <a:lnTo>
                      <a:pt x="539" y="297"/>
                    </a:lnTo>
                    <a:lnTo>
                      <a:pt x="532" y="301"/>
                    </a:lnTo>
                    <a:lnTo>
                      <a:pt x="523" y="304"/>
                    </a:lnTo>
                    <a:lnTo>
                      <a:pt x="515" y="306"/>
                    </a:lnTo>
                    <a:lnTo>
                      <a:pt x="507" y="307"/>
                    </a:lnTo>
                    <a:lnTo>
                      <a:pt x="498" y="307"/>
                    </a:lnTo>
                    <a:lnTo>
                      <a:pt x="488" y="307"/>
                    </a:lnTo>
                    <a:lnTo>
                      <a:pt x="479" y="305"/>
                    </a:lnTo>
                    <a:lnTo>
                      <a:pt x="468" y="303"/>
                    </a:lnTo>
                    <a:lnTo>
                      <a:pt x="459" y="300"/>
                    </a:lnTo>
                    <a:lnTo>
                      <a:pt x="447" y="295"/>
                    </a:lnTo>
                    <a:lnTo>
                      <a:pt x="437" y="290"/>
                    </a:lnTo>
                    <a:lnTo>
                      <a:pt x="457" y="274"/>
                    </a:lnTo>
                    <a:lnTo>
                      <a:pt x="475" y="259"/>
                    </a:lnTo>
                    <a:lnTo>
                      <a:pt x="493" y="243"/>
                    </a:lnTo>
                    <a:lnTo>
                      <a:pt x="509" y="226"/>
                    </a:lnTo>
                    <a:lnTo>
                      <a:pt x="523" y="209"/>
                    </a:lnTo>
                    <a:lnTo>
                      <a:pt x="537" y="193"/>
                    </a:lnTo>
                    <a:lnTo>
                      <a:pt x="549" y="176"/>
                    </a:lnTo>
                    <a:lnTo>
                      <a:pt x="561" y="158"/>
                    </a:lnTo>
                    <a:lnTo>
                      <a:pt x="570" y="138"/>
                    </a:lnTo>
                    <a:lnTo>
                      <a:pt x="579" y="120"/>
                    </a:lnTo>
                    <a:lnTo>
                      <a:pt x="585" y="101"/>
                    </a:lnTo>
                    <a:lnTo>
                      <a:pt x="591" y="81"/>
                    </a:lnTo>
                    <a:lnTo>
                      <a:pt x="595" y="61"/>
                    </a:lnTo>
                    <a:lnTo>
                      <a:pt x="599" y="41"/>
                    </a:lnTo>
                    <a:lnTo>
                      <a:pt x="601" y="21"/>
                    </a:lnTo>
                    <a:lnTo>
                      <a:pt x="602" y="0"/>
                    </a:lnTo>
                    <a:lnTo>
                      <a:pt x="610" y="8"/>
                    </a:lnTo>
                    <a:lnTo>
                      <a:pt x="621" y="16"/>
                    </a:lnTo>
                    <a:lnTo>
                      <a:pt x="633" y="22"/>
                    </a:lnTo>
                    <a:lnTo>
                      <a:pt x="644" y="28"/>
                    </a:lnTo>
                    <a:lnTo>
                      <a:pt x="657" y="34"/>
                    </a:lnTo>
                    <a:lnTo>
                      <a:pt x="671" y="38"/>
                    </a:lnTo>
                    <a:lnTo>
                      <a:pt x="686" y="41"/>
                    </a:lnTo>
                    <a:lnTo>
                      <a:pt x="701" y="44"/>
                    </a:lnTo>
                    <a:lnTo>
                      <a:pt x="687" y="63"/>
                    </a:lnTo>
                    <a:lnTo>
                      <a:pt x="673" y="84"/>
                    </a:lnTo>
                    <a:lnTo>
                      <a:pt x="659" y="108"/>
                    </a:lnTo>
                    <a:lnTo>
                      <a:pt x="646" y="134"/>
                    </a:lnTo>
                    <a:lnTo>
                      <a:pt x="671" y="131"/>
                    </a:lnTo>
                    <a:lnTo>
                      <a:pt x="702" y="125"/>
                    </a:lnTo>
                    <a:lnTo>
                      <a:pt x="743" y="116"/>
                    </a:lnTo>
                    <a:lnTo>
                      <a:pt x="791" y="105"/>
                    </a:lnTo>
                    <a:lnTo>
                      <a:pt x="810" y="100"/>
                    </a:lnTo>
                    <a:lnTo>
                      <a:pt x="826" y="96"/>
                    </a:lnTo>
                    <a:lnTo>
                      <a:pt x="840" y="92"/>
                    </a:lnTo>
                    <a:lnTo>
                      <a:pt x="852" y="90"/>
                    </a:lnTo>
                    <a:lnTo>
                      <a:pt x="859" y="88"/>
                    </a:lnTo>
                    <a:lnTo>
                      <a:pt x="866" y="89"/>
                    </a:lnTo>
                    <a:lnTo>
                      <a:pt x="871" y="91"/>
                    </a:lnTo>
                    <a:lnTo>
                      <a:pt x="876" y="95"/>
                    </a:lnTo>
                    <a:lnTo>
                      <a:pt x="877" y="93"/>
                    </a:lnTo>
                    <a:lnTo>
                      <a:pt x="878" y="92"/>
                    </a:lnTo>
                    <a:lnTo>
                      <a:pt x="879" y="93"/>
                    </a:lnTo>
                    <a:lnTo>
                      <a:pt x="881" y="95"/>
                    </a:lnTo>
                    <a:close/>
                    <a:moveTo>
                      <a:pt x="352" y="950"/>
                    </a:moveTo>
                    <a:lnTo>
                      <a:pt x="352" y="977"/>
                    </a:lnTo>
                    <a:lnTo>
                      <a:pt x="352" y="1003"/>
                    </a:lnTo>
                    <a:lnTo>
                      <a:pt x="352" y="1028"/>
                    </a:lnTo>
                    <a:lnTo>
                      <a:pt x="352" y="1050"/>
                    </a:lnTo>
                    <a:lnTo>
                      <a:pt x="366" y="1048"/>
                    </a:lnTo>
                    <a:lnTo>
                      <a:pt x="384" y="1047"/>
                    </a:lnTo>
                    <a:lnTo>
                      <a:pt x="406" y="1046"/>
                    </a:lnTo>
                    <a:lnTo>
                      <a:pt x="431" y="1046"/>
                    </a:lnTo>
                    <a:lnTo>
                      <a:pt x="466" y="1042"/>
                    </a:lnTo>
                    <a:lnTo>
                      <a:pt x="498" y="1040"/>
                    </a:lnTo>
                    <a:lnTo>
                      <a:pt x="527" y="1038"/>
                    </a:lnTo>
                    <a:lnTo>
                      <a:pt x="553" y="1035"/>
                    </a:lnTo>
                    <a:lnTo>
                      <a:pt x="575" y="1033"/>
                    </a:lnTo>
                    <a:lnTo>
                      <a:pt x="595" y="1030"/>
                    </a:lnTo>
                    <a:lnTo>
                      <a:pt x="612" y="1028"/>
                    </a:lnTo>
                    <a:lnTo>
                      <a:pt x="626" y="1025"/>
                    </a:lnTo>
                    <a:lnTo>
                      <a:pt x="629" y="1007"/>
                    </a:lnTo>
                    <a:lnTo>
                      <a:pt x="634" y="987"/>
                    </a:lnTo>
                    <a:lnTo>
                      <a:pt x="640" y="967"/>
                    </a:lnTo>
                    <a:lnTo>
                      <a:pt x="646" y="945"/>
                    </a:lnTo>
                    <a:lnTo>
                      <a:pt x="649" y="933"/>
                    </a:lnTo>
                    <a:lnTo>
                      <a:pt x="652" y="923"/>
                    </a:lnTo>
                    <a:lnTo>
                      <a:pt x="654" y="913"/>
                    </a:lnTo>
                    <a:lnTo>
                      <a:pt x="657" y="906"/>
                    </a:lnTo>
                    <a:lnTo>
                      <a:pt x="629" y="909"/>
                    </a:lnTo>
                    <a:lnTo>
                      <a:pt x="599" y="914"/>
                    </a:lnTo>
                    <a:lnTo>
                      <a:pt x="565" y="918"/>
                    </a:lnTo>
                    <a:lnTo>
                      <a:pt x="528" y="924"/>
                    </a:lnTo>
                    <a:lnTo>
                      <a:pt x="488" y="930"/>
                    </a:lnTo>
                    <a:lnTo>
                      <a:pt x="445" y="936"/>
                    </a:lnTo>
                    <a:lnTo>
                      <a:pt x="400" y="943"/>
                    </a:lnTo>
                    <a:lnTo>
                      <a:pt x="352" y="950"/>
                    </a:lnTo>
                    <a:close/>
                    <a:moveTo>
                      <a:pt x="352" y="640"/>
                    </a:moveTo>
                    <a:lnTo>
                      <a:pt x="352" y="745"/>
                    </a:lnTo>
                    <a:lnTo>
                      <a:pt x="360" y="743"/>
                    </a:lnTo>
                    <a:lnTo>
                      <a:pt x="370" y="740"/>
                    </a:lnTo>
                    <a:lnTo>
                      <a:pt x="383" y="737"/>
                    </a:lnTo>
                    <a:lnTo>
                      <a:pt x="396" y="735"/>
                    </a:lnTo>
                    <a:lnTo>
                      <a:pt x="414" y="731"/>
                    </a:lnTo>
                    <a:lnTo>
                      <a:pt x="433" y="728"/>
                    </a:lnTo>
                    <a:lnTo>
                      <a:pt x="452" y="723"/>
                    </a:lnTo>
                    <a:lnTo>
                      <a:pt x="473" y="720"/>
                    </a:lnTo>
                    <a:lnTo>
                      <a:pt x="494" y="716"/>
                    </a:lnTo>
                    <a:lnTo>
                      <a:pt x="516" y="713"/>
                    </a:lnTo>
                    <a:lnTo>
                      <a:pt x="538" y="709"/>
                    </a:lnTo>
                    <a:lnTo>
                      <a:pt x="562" y="705"/>
                    </a:lnTo>
                    <a:lnTo>
                      <a:pt x="565" y="694"/>
                    </a:lnTo>
                    <a:lnTo>
                      <a:pt x="568" y="681"/>
                    </a:lnTo>
                    <a:lnTo>
                      <a:pt x="572" y="666"/>
                    </a:lnTo>
                    <a:lnTo>
                      <a:pt x="576" y="650"/>
                    </a:lnTo>
                    <a:lnTo>
                      <a:pt x="581" y="633"/>
                    </a:lnTo>
                    <a:lnTo>
                      <a:pt x="584" y="620"/>
                    </a:lnTo>
                    <a:lnTo>
                      <a:pt x="586" y="609"/>
                    </a:lnTo>
                    <a:lnTo>
                      <a:pt x="587" y="599"/>
                    </a:lnTo>
                    <a:lnTo>
                      <a:pt x="579" y="601"/>
                    </a:lnTo>
                    <a:lnTo>
                      <a:pt x="568" y="603"/>
                    </a:lnTo>
                    <a:lnTo>
                      <a:pt x="555" y="606"/>
                    </a:lnTo>
                    <a:lnTo>
                      <a:pt x="541" y="610"/>
                    </a:lnTo>
                    <a:lnTo>
                      <a:pt x="511" y="614"/>
                    </a:lnTo>
                    <a:lnTo>
                      <a:pt x="483" y="620"/>
                    </a:lnTo>
                    <a:lnTo>
                      <a:pt x="456" y="624"/>
                    </a:lnTo>
                    <a:lnTo>
                      <a:pt x="431" y="627"/>
                    </a:lnTo>
                    <a:lnTo>
                      <a:pt x="409" y="631"/>
                    </a:lnTo>
                    <a:lnTo>
                      <a:pt x="388" y="634"/>
                    </a:lnTo>
                    <a:lnTo>
                      <a:pt x="369" y="638"/>
                    </a:lnTo>
                    <a:lnTo>
                      <a:pt x="352" y="640"/>
                    </a:lnTo>
                    <a:close/>
                    <a:moveTo>
                      <a:pt x="642" y="230"/>
                    </a:moveTo>
                    <a:lnTo>
                      <a:pt x="639" y="226"/>
                    </a:lnTo>
                    <a:lnTo>
                      <a:pt x="638" y="223"/>
                    </a:lnTo>
                    <a:lnTo>
                      <a:pt x="637" y="219"/>
                    </a:lnTo>
                    <a:lnTo>
                      <a:pt x="637" y="215"/>
                    </a:lnTo>
                    <a:lnTo>
                      <a:pt x="637" y="213"/>
                    </a:lnTo>
                    <a:lnTo>
                      <a:pt x="639" y="213"/>
                    </a:lnTo>
                    <a:lnTo>
                      <a:pt x="642" y="213"/>
                    </a:lnTo>
                    <a:lnTo>
                      <a:pt x="646" y="215"/>
                    </a:lnTo>
                    <a:lnTo>
                      <a:pt x="653" y="215"/>
                    </a:lnTo>
                    <a:lnTo>
                      <a:pt x="661" y="215"/>
                    </a:lnTo>
                    <a:lnTo>
                      <a:pt x="698" y="220"/>
                    </a:lnTo>
                    <a:lnTo>
                      <a:pt x="728" y="224"/>
                    </a:lnTo>
                    <a:lnTo>
                      <a:pt x="751" y="230"/>
                    </a:lnTo>
                    <a:lnTo>
                      <a:pt x="767" y="235"/>
                    </a:lnTo>
                    <a:lnTo>
                      <a:pt x="768" y="236"/>
                    </a:lnTo>
                    <a:lnTo>
                      <a:pt x="769" y="239"/>
                    </a:lnTo>
                    <a:lnTo>
                      <a:pt x="769" y="245"/>
                    </a:lnTo>
                    <a:lnTo>
                      <a:pt x="770" y="253"/>
                    </a:lnTo>
                    <a:lnTo>
                      <a:pt x="771" y="277"/>
                    </a:lnTo>
                    <a:lnTo>
                      <a:pt x="771" y="310"/>
                    </a:lnTo>
                    <a:lnTo>
                      <a:pt x="771" y="316"/>
                    </a:lnTo>
                    <a:lnTo>
                      <a:pt x="770" y="322"/>
                    </a:lnTo>
                    <a:lnTo>
                      <a:pt x="769" y="326"/>
                    </a:lnTo>
                    <a:lnTo>
                      <a:pt x="767" y="329"/>
                    </a:lnTo>
                    <a:lnTo>
                      <a:pt x="764" y="331"/>
                    </a:lnTo>
                    <a:lnTo>
                      <a:pt x="761" y="331"/>
                    </a:lnTo>
                    <a:lnTo>
                      <a:pt x="756" y="329"/>
                    </a:lnTo>
                    <a:lnTo>
                      <a:pt x="751" y="325"/>
                    </a:lnTo>
                    <a:lnTo>
                      <a:pt x="720" y="300"/>
                    </a:lnTo>
                    <a:lnTo>
                      <a:pt x="692" y="276"/>
                    </a:lnTo>
                    <a:lnTo>
                      <a:pt x="665" y="253"/>
                    </a:lnTo>
                    <a:lnTo>
                      <a:pt x="642" y="230"/>
                    </a:lnTo>
                    <a:close/>
                    <a:moveTo>
                      <a:pt x="246" y="255"/>
                    </a:moveTo>
                    <a:lnTo>
                      <a:pt x="243" y="245"/>
                    </a:lnTo>
                    <a:lnTo>
                      <a:pt x="242" y="240"/>
                    </a:lnTo>
                    <a:lnTo>
                      <a:pt x="244" y="237"/>
                    </a:lnTo>
                    <a:lnTo>
                      <a:pt x="248" y="236"/>
                    </a:lnTo>
                    <a:lnTo>
                      <a:pt x="252" y="235"/>
                    </a:lnTo>
                    <a:lnTo>
                      <a:pt x="257" y="235"/>
                    </a:lnTo>
                    <a:lnTo>
                      <a:pt x="285" y="242"/>
                    </a:lnTo>
                    <a:lnTo>
                      <a:pt x="313" y="250"/>
                    </a:lnTo>
                    <a:lnTo>
                      <a:pt x="338" y="257"/>
                    </a:lnTo>
                    <a:lnTo>
                      <a:pt x="361" y="265"/>
                    </a:lnTo>
                    <a:lnTo>
                      <a:pt x="364" y="269"/>
                    </a:lnTo>
                    <a:lnTo>
                      <a:pt x="366" y="275"/>
                    </a:lnTo>
                    <a:lnTo>
                      <a:pt x="366" y="283"/>
                    </a:lnTo>
                    <a:lnTo>
                      <a:pt x="367" y="291"/>
                    </a:lnTo>
                    <a:lnTo>
                      <a:pt x="366" y="312"/>
                    </a:lnTo>
                    <a:lnTo>
                      <a:pt x="361" y="340"/>
                    </a:lnTo>
                    <a:lnTo>
                      <a:pt x="361" y="346"/>
                    </a:lnTo>
                    <a:lnTo>
                      <a:pt x="360" y="353"/>
                    </a:lnTo>
                    <a:lnTo>
                      <a:pt x="358" y="357"/>
                    </a:lnTo>
                    <a:lnTo>
                      <a:pt x="356" y="360"/>
                    </a:lnTo>
                    <a:lnTo>
                      <a:pt x="352" y="361"/>
                    </a:lnTo>
                    <a:lnTo>
                      <a:pt x="347" y="361"/>
                    </a:lnTo>
                    <a:lnTo>
                      <a:pt x="341" y="359"/>
                    </a:lnTo>
                    <a:lnTo>
                      <a:pt x="336" y="355"/>
                    </a:lnTo>
                    <a:lnTo>
                      <a:pt x="320" y="339"/>
                    </a:lnTo>
                    <a:lnTo>
                      <a:pt x="299" y="318"/>
                    </a:lnTo>
                    <a:lnTo>
                      <a:pt x="275" y="289"/>
                    </a:lnTo>
                    <a:lnTo>
                      <a:pt x="246" y="255"/>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420" name="Freeform 18"/>
              <p:cNvSpPr/>
              <p:nvPr/>
            </p:nvSpPr>
            <p:spPr>
              <a:xfrm>
                <a:off x="3494520" y="1117440"/>
                <a:ext cx="172800" cy="129960"/>
              </a:xfrm>
              <a:custGeom>
                <a:avLst/>
                <a:gdLst>
                  <a:gd name="textAreaLeft" fmla="*/ 0 w 172800"/>
                  <a:gd name="textAreaRight" fmla="*/ 173160 w 172800"/>
                  <a:gd name="textAreaTop" fmla="*/ 0 h 129960"/>
                  <a:gd name="textAreaBottom" fmla="*/ 130320 h 129960"/>
                </a:gdLst>
                <a:ahLst/>
                <a:rect l="textAreaLeft" t="textAreaTop" r="textAreaRight" b="textAreaBottom"/>
                <a:pathLst>
                  <a:path w="1167" h="933">
                    <a:moveTo>
                      <a:pt x="1090" y="796"/>
                    </a:moveTo>
                    <a:lnTo>
                      <a:pt x="1098" y="797"/>
                    </a:lnTo>
                    <a:lnTo>
                      <a:pt x="1105" y="800"/>
                    </a:lnTo>
                    <a:lnTo>
                      <a:pt x="1112" y="804"/>
                    </a:lnTo>
                    <a:lnTo>
                      <a:pt x="1120" y="811"/>
                    </a:lnTo>
                    <a:lnTo>
                      <a:pt x="1125" y="815"/>
                    </a:lnTo>
                    <a:lnTo>
                      <a:pt x="1131" y="821"/>
                    </a:lnTo>
                    <a:lnTo>
                      <a:pt x="1138" y="830"/>
                    </a:lnTo>
                    <a:lnTo>
                      <a:pt x="1145" y="842"/>
                    </a:lnTo>
                    <a:lnTo>
                      <a:pt x="1158" y="858"/>
                    </a:lnTo>
                    <a:lnTo>
                      <a:pt x="1165" y="871"/>
                    </a:lnTo>
                    <a:lnTo>
                      <a:pt x="1167" y="879"/>
                    </a:lnTo>
                    <a:lnTo>
                      <a:pt x="1167" y="884"/>
                    </a:lnTo>
                    <a:lnTo>
                      <a:pt x="1167" y="889"/>
                    </a:lnTo>
                    <a:lnTo>
                      <a:pt x="1166" y="893"/>
                    </a:lnTo>
                    <a:lnTo>
                      <a:pt x="1164" y="897"/>
                    </a:lnTo>
                    <a:lnTo>
                      <a:pt x="1160" y="900"/>
                    </a:lnTo>
                    <a:lnTo>
                      <a:pt x="1156" y="901"/>
                    </a:lnTo>
                    <a:lnTo>
                      <a:pt x="1150" y="901"/>
                    </a:lnTo>
                    <a:lnTo>
                      <a:pt x="1119" y="898"/>
                    </a:lnTo>
                    <a:lnTo>
                      <a:pt x="1084" y="896"/>
                    </a:lnTo>
                    <a:lnTo>
                      <a:pt x="1046" y="893"/>
                    </a:lnTo>
                    <a:lnTo>
                      <a:pt x="1005" y="892"/>
                    </a:lnTo>
                    <a:lnTo>
                      <a:pt x="961" y="892"/>
                    </a:lnTo>
                    <a:lnTo>
                      <a:pt x="914" y="892"/>
                    </a:lnTo>
                    <a:lnTo>
                      <a:pt x="863" y="894"/>
                    </a:lnTo>
                    <a:lnTo>
                      <a:pt x="810" y="897"/>
                    </a:lnTo>
                    <a:lnTo>
                      <a:pt x="753" y="899"/>
                    </a:lnTo>
                    <a:lnTo>
                      <a:pt x="698" y="902"/>
                    </a:lnTo>
                    <a:lnTo>
                      <a:pt x="645" y="906"/>
                    </a:lnTo>
                    <a:lnTo>
                      <a:pt x="593" y="910"/>
                    </a:lnTo>
                    <a:lnTo>
                      <a:pt x="544" y="915"/>
                    </a:lnTo>
                    <a:lnTo>
                      <a:pt x="496" y="920"/>
                    </a:lnTo>
                    <a:lnTo>
                      <a:pt x="449" y="925"/>
                    </a:lnTo>
                    <a:lnTo>
                      <a:pt x="405" y="932"/>
                    </a:lnTo>
                    <a:lnTo>
                      <a:pt x="397" y="933"/>
                    </a:lnTo>
                    <a:lnTo>
                      <a:pt x="389" y="933"/>
                    </a:lnTo>
                    <a:lnTo>
                      <a:pt x="379" y="931"/>
                    </a:lnTo>
                    <a:lnTo>
                      <a:pt x="370" y="926"/>
                    </a:lnTo>
                    <a:lnTo>
                      <a:pt x="350" y="906"/>
                    </a:lnTo>
                    <a:lnTo>
                      <a:pt x="334" y="889"/>
                    </a:lnTo>
                    <a:lnTo>
                      <a:pt x="322" y="875"/>
                    </a:lnTo>
                    <a:lnTo>
                      <a:pt x="315" y="866"/>
                    </a:lnTo>
                    <a:lnTo>
                      <a:pt x="362" y="864"/>
                    </a:lnTo>
                    <a:lnTo>
                      <a:pt x="409" y="861"/>
                    </a:lnTo>
                    <a:lnTo>
                      <a:pt x="456" y="857"/>
                    </a:lnTo>
                    <a:lnTo>
                      <a:pt x="502" y="853"/>
                    </a:lnTo>
                    <a:lnTo>
                      <a:pt x="549" y="850"/>
                    </a:lnTo>
                    <a:lnTo>
                      <a:pt x="594" y="846"/>
                    </a:lnTo>
                    <a:lnTo>
                      <a:pt x="640" y="842"/>
                    </a:lnTo>
                    <a:lnTo>
                      <a:pt x="684" y="836"/>
                    </a:lnTo>
                    <a:lnTo>
                      <a:pt x="684" y="825"/>
                    </a:lnTo>
                    <a:lnTo>
                      <a:pt x="684" y="809"/>
                    </a:lnTo>
                    <a:lnTo>
                      <a:pt x="684" y="790"/>
                    </a:lnTo>
                    <a:lnTo>
                      <a:pt x="684" y="766"/>
                    </a:lnTo>
                    <a:lnTo>
                      <a:pt x="688" y="743"/>
                    </a:lnTo>
                    <a:lnTo>
                      <a:pt x="689" y="723"/>
                    </a:lnTo>
                    <a:lnTo>
                      <a:pt x="690" y="705"/>
                    </a:lnTo>
                    <a:lnTo>
                      <a:pt x="690" y="691"/>
                    </a:lnTo>
                    <a:lnTo>
                      <a:pt x="674" y="691"/>
                    </a:lnTo>
                    <a:lnTo>
                      <a:pt x="656" y="692"/>
                    </a:lnTo>
                    <a:lnTo>
                      <a:pt x="637" y="694"/>
                    </a:lnTo>
                    <a:lnTo>
                      <a:pt x="615" y="696"/>
                    </a:lnTo>
                    <a:lnTo>
                      <a:pt x="589" y="701"/>
                    </a:lnTo>
                    <a:lnTo>
                      <a:pt x="570" y="703"/>
                    </a:lnTo>
                    <a:lnTo>
                      <a:pt x="564" y="703"/>
                    </a:lnTo>
                    <a:lnTo>
                      <a:pt x="558" y="703"/>
                    </a:lnTo>
                    <a:lnTo>
                      <a:pt x="556" y="702"/>
                    </a:lnTo>
                    <a:lnTo>
                      <a:pt x="555" y="702"/>
                    </a:lnTo>
                    <a:lnTo>
                      <a:pt x="549" y="700"/>
                    </a:lnTo>
                    <a:lnTo>
                      <a:pt x="541" y="695"/>
                    </a:lnTo>
                    <a:lnTo>
                      <a:pt x="534" y="691"/>
                    </a:lnTo>
                    <a:lnTo>
                      <a:pt x="527" y="685"/>
                    </a:lnTo>
                    <a:lnTo>
                      <a:pt x="518" y="677"/>
                    </a:lnTo>
                    <a:lnTo>
                      <a:pt x="509" y="668"/>
                    </a:lnTo>
                    <a:lnTo>
                      <a:pt x="500" y="658"/>
                    </a:lnTo>
                    <a:lnTo>
                      <a:pt x="490" y="647"/>
                    </a:lnTo>
                    <a:lnTo>
                      <a:pt x="509" y="645"/>
                    </a:lnTo>
                    <a:lnTo>
                      <a:pt x="529" y="644"/>
                    </a:lnTo>
                    <a:lnTo>
                      <a:pt x="551" y="642"/>
                    </a:lnTo>
                    <a:lnTo>
                      <a:pt x="575" y="640"/>
                    </a:lnTo>
                    <a:lnTo>
                      <a:pt x="601" y="636"/>
                    </a:lnTo>
                    <a:lnTo>
                      <a:pt x="628" y="632"/>
                    </a:lnTo>
                    <a:lnTo>
                      <a:pt x="658" y="626"/>
                    </a:lnTo>
                    <a:lnTo>
                      <a:pt x="690" y="621"/>
                    </a:lnTo>
                    <a:lnTo>
                      <a:pt x="691" y="607"/>
                    </a:lnTo>
                    <a:lnTo>
                      <a:pt x="691" y="591"/>
                    </a:lnTo>
                    <a:lnTo>
                      <a:pt x="693" y="572"/>
                    </a:lnTo>
                    <a:lnTo>
                      <a:pt x="695" y="551"/>
                    </a:lnTo>
                    <a:lnTo>
                      <a:pt x="695" y="528"/>
                    </a:lnTo>
                    <a:lnTo>
                      <a:pt x="695" y="509"/>
                    </a:lnTo>
                    <a:lnTo>
                      <a:pt x="695" y="493"/>
                    </a:lnTo>
                    <a:lnTo>
                      <a:pt x="695" y="481"/>
                    </a:lnTo>
                    <a:lnTo>
                      <a:pt x="669" y="483"/>
                    </a:lnTo>
                    <a:lnTo>
                      <a:pt x="642" y="488"/>
                    </a:lnTo>
                    <a:lnTo>
                      <a:pt x="618" y="491"/>
                    </a:lnTo>
                    <a:lnTo>
                      <a:pt x="594" y="496"/>
                    </a:lnTo>
                    <a:lnTo>
                      <a:pt x="594" y="513"/>
                    </a:lnTo>
                    <a:lnTo>
                      <a:pt x="593" y="526"/>
                    </a:lnTo>
                    <a:lnTo>
                      <a:pt x="593" y="530"/>
                    </a:lnTo>
                    <a:lnTo>
                      <a:pt x="592" y="533"/>
                    </a:lnTo>
                    <a:lnTo>
                      <a:pt x="591" y="535"/>
                    </a:lnTo>
                    <a:lnTo>
                      <a:pt x="590" y="536"/>
                    </a:lnTo>
                    <a:lnTo>
                      <a:pt x="582" y="532"/>
                    </a:lnTo>
                    <a:lnTo>
                      <a:pt x="573" y="526"/>
                    </a:lnTo>
                    <a:lnTo>
                      <a:pt x="565" y="519"/>
                    </a:lnTo>
                    <a:lnTo>
                      <a:pt x="555" y="511"/>
                    </a:lnTo>
                    <a:lnTo>
                      <a:pt x="534" y="491"/>
                    </a:lnTo>
                    <a:lnTo>
                      <a:pt x="510" y="465"/>
                    </a:lnTo>
                    <a:lnTo>
                      <a:pt x="505" y="406"/>
                    </a:lnTo>
                    <a:lnTo>
                      <a:pt x="499" y="350"/>
                    </a:lnTo>
                    <a:lnTo>
                      <a:pt x="495" y="323"/>
                    </a:lnTo>
                    <a:lnTo>
                      <a:pt x="491" y="297"/>
                    </a:lnTo>
                    <a:lnTo>
                      <a:pt x="486" y="271"/>
                    </a:lnTo>
                    <a:lnTo>
                      <a:pt x="481" y="247"/>
                    </a:lnTo>
                    <a:lnTo>
                      <a:pt x="476" y="224"/>
                    </a:lnTo>
                    <a:lnTo>
                      <a:pt x="469" y="200"/>
                    </a:lnTo>
                    <a:lnTo>
                      <a:pt x="463" y="178"/>
                    </a:lnTo>
                    <a:lnTo>
                      <a:pt x="457" y="157"/>
                    </a:lnTo>
                    <a:lnTo>
                      <a:pt x="449" y="137"/>
                    </a:lnTo>
                    <a:lnTo>
                      <a:pt x="442" y="118"/>
                    </a:lnTo>
                    <a:lnTo>
                      <a:pt x="433" y="99"/>
                    </a:lnTo>
                    <a:lnTo>
                      <a:pt x="425" y="81"/>
                    </a:lnTo>
                    <a:lnTo>
                      <a:pt x="437" y="81"/>
                    </a:lnTo>
                    <a:lnTo>
                      <a:pt x="450" y="82"/>
                    </a:lnTo>
                    <a:lnTo>
                      <a:pt x="466" y="84"/>
                    </a:lnTo>
                    <a:lnTo>
                      <a:pt x="485" y="86"/>
                    </a:lnTo>
                    <a:lnTo>
                      <a:pt x="501" y="88"/>
                    </a:lnTo>
                    <a:lnTo>
                      <a:pt x="514" y="89"/>
                    </a:lnTo>
                    <a:lnTo>
                      <a:pt x="523" y="90"/>
                    </a:lnTo>
                    <a:lnTo>
                      <a:pt x="530" y="90"/>
                    </a:lnTo>
                    <a:lnTo>
                      <a:pt x="563" y="88"/>
                    </a:lnTo>
                    <a:lnTo>
                      <a:pt x="594" y="85"/>
                    </a:lnTo>
                    <a:lnTo>
                      <a:pt x="625" y="82"/>
                    </a:lnTo>
                    <a:lnTo>
                      <a:pt x="655" y="77"/>
                    </a:lnTo>
                    <a:lnTo>
                      <a:pt x="682" y="73"/>
                    </a:lnTo>
                    <a:lnTo>
                      <a:pt x="709" y="69"/>
                    </a:lnTo>
                    <a:lnTo>
                      <a:pt x="734" y="64"/>
                    </a:lnTo>
                    <a:lnTo>
                      <a:pt x="758" y="58"/>
                    </a:lnTo>
                    <a:lnTo>
                      <a:pt x="780" y="52"/>
                    </a:lnTo>
                    <a:lnTo>
                      <a:pt x="801" y="46"/>
                    </a:lnTo>
                    <a:lnTo>
                      <a:pt x="821" y="39"/>
                    </a:lnTo>
                    <a:lnTo>
                      <a:pt x="839" y="33"/>
                    </a:lnTo>
                    <a:lnTo>
                      <a:pt x="857" y="26"/>
                    </a:lnTo>
                    <a:lnTo>
                      <a:pt x="872" y="17"/>
                    </a:lnTo>
                    <a:lnTo>
                      <a:pt x="887" y="10"/>
                    </a:lnTo>
                    <a:lnTo>
                      <a:pt x="900" y="0"/>
                    </a:lnTo>
                    <a:lnTo>
                      <a:pt x="920" y="19"/>
                    </a:lnTo>
                    <a:lnTo>
                      <a:pt x="940" y="35"/>
                    </a:lnTo>
                    <a:lnTo>
                      <a:pt x="962" y="51"/>
                    </a:lnTo>
                    <a:lnTo>
                      <a:pt x="985" y="65"/>
                    </a:lnTo>
                    <a:lnTo>
                      <a:pt x="1010" y="76"/>
                    </a:lnTo>
                    <a:lnTo>
                      <a:pt x="1035" y="88"/>
                    </a:lnTo>
                    <a:lnTo>
                      <a:pt x="1061" y="98"/>
                    </a:lnTo>
                    <a:lnTo>
                      <a:pt x="1090" y="106"/>
                    </a:lnTo>
                    <a:lnTo>
                      <a:pt x="1085" y="111"/>
                    </a:lnTo>
                    <a:lnTo>
                      <a:pt x="1078" y="119"/>
                    </a:lnTo>
                    <a:lnTo>
                      <a:pt x="1072" y="127"/>
                    </a:lnTo>
                    <a:lnTo>
                      <a:pt x="1067" y="138"/>
                    </a:lnTo>
                    <a:lnTo>
                      <a:pt x="1053" y="163"/>
                    </a:lnTo>
                    <a:lnTo>
                      <a:pt x="1040" y="194"/>
                    </a:lnTo>
                    <a:lnTo>
                      <a:pt x="1025" y="232"/>
                    </a:lnTo>
                    <a:lnTo>
                      <a:pt x="1012" y="276"/>
                    </a:lnTo>
                    <a:lnTo>
                      <a:pt x="996" y="325"/>
                    </a:lnTo>
                    <a:lnTo>
                      <a:pt x="980" y="381"/>
                    </a:lnTo>
                    <a:lnTo>
                      <a:pt x="962" y="438"/>
                    </a:lnTo>
                    <a:lnTo>
                      <a:pt x="947" y="478"/>
                    </a:lnTo>
                    <a:lnTo>
                      <a:pt x="942" y="493"/>
                    </a:lnTo>
                    <a:lnTo>
                      <a:pt x="937" y="502"/>
                    </a:lnTo>
                    <a:lnTo>
                      <a:pt x="933" y="509"/>
                    </a:lnTo>
                    <a:lnTo>
                      <a:pt x="930" y="511"/>
                    </a:lnTo>
                    <a:lnTo>
                      <a:pt x="926" y="510"/>
                    </a:lnTo>
                    <a:lnTo>
                      <a:pt x="922" y="508"/>
                    </a:lnTo>
                    <a:lnTo>
                      <a:pt x="916" y="503"/>
                    </a:lnTo>
                    <a:lnTo>
                      <a:pt x="911" y="498"/>
                    </a:lnTo>
                    <a:lnTo>
                      <a:pt x="899" y="482"/>
                    </a:lnTo>
                    <a:lnTo>
                      <a:pt x="885" y="461"/>
                    </a:lnTo>
                    <a:lnTo>
                      <a:pt x="855" y="465"/>
                    </a:lnTo>
                    <a:lnTo>
                      <a:pt x="824" y="468"/>
                    </a:lnTo>
                    <a:lnTo>
                      <a:pt x="792" y="471"/>
                    </a:lnTo>
                    <a:lnTo>
                      <a:pt x="760" y="471"/>
                    </a:lnTo>
                    <a:lnTo>
                      <a:pt x="760" y="506"/>
                    </a:lnTo>
                    <a:lnTo>
                      <a:pt x="760" y="541"/>
                    </a:lnTo>
                    <a:lnTo>
                      <a:pt x="760" y="576"/>
                    </a:lnTo>
                    <a:lnTo>
                      <a:pt x="760" y="610"/>
                    </a:lnTo>
                    <a:lnTo>
                      <a:pt x="799" y="604"/>
                    </a:lnTo>
                    <a:lnTo>
                      <a:pt x="835" y="597"/>
                    </a:lnTo>
                    <a:lnTo>
                      <a:pt x="869" y="591"/>
                    </a:lnTo>
                    <a:lnTo>
                      <a:pt x="900" y="586"/>
                    </a:lnTo>
                    <a:lnTo>
                      <a:pt x="909" y="586"/>
                    </a:lnTo>
                    <a:lnTo>
                      <a:pt x="917" y="588"/>
                    </a:lnTo>
                    <a:lnTo>
                      <a:pt x="925" y="591"/>
                    </a:lnTo>
                    <a:lnTo>
                      <a:pt x="930" y="596"/>
                    </a:lnTo>
                    <a:lnTo>
                      <a:pt x="940" y="604"/>
                    </a:lnTo>
                    <a:lnTo>
                      <a:pt x="949" y="614"/>
                    </a:lnTo>
                    <a:lnTo>
                      <a:pt x="958" y="624"/>
                    </a:lnTo>
                    <a:lnTo>
                      <a:pt x="965" y="636"/>
                    </a:lnTo>
                    <a:lnTo>
                      <a:pt x="969" y="640"/>
                    </a:lnTo>
                    <a:lnTo>
                      <a:pt x="971" y="644"/>
                    </a:lnTo>
                    <a:lnTo>
                      <a:pt x="971" y="649"/>
                    </a:lnTo>
                    <a:lnTo>
                      <a:pt x="970" y="651"/>
                    </a:lnTo>
                    <a:lnTo>
                      <a:pt x="969" y="653"/>
                    </a:lnTo>
                    <a:lnTo>
                      <a:pt x="967" y="655"/>
                    </a:lnTo>
                    <a:lnTo>
                      <a:pt x="964" y="656"/>
                    </a:lnTo>
                    <a:lnTo>
                      <a:pt x="960" y="656"/>
                    </a:lnTo>
                    <a:lnTo>
                      <a:pt x="946" y="657"/>
                    </a:lnTo>
                    <a:lnTo>
                      <a:pt x="929" y="659"/>
                    </a:lnTo>
                    <a:lnTo>
                      <a:pt x="909" y="662"/>
                    </a:lnTo>
                    <a:lnTo>
                      <a:pt x="885" y="665"/>
                    </a:lnTo>
                    <a:lnTo>
                      <a:pt x="858" y="668"/>
                    </a:lnTo>
                    <a:lnTo>
                      <a:pt x="828" y="672"/>
                    </a:lnTo>
                    <a:lnTo>
                      <a:pt x="796" y="676"/>
                    </a:lnTo>
                    <a:lnTo>
                      <a:pt x="760" y="681"/>
                    </a:lnTo>
                    <a:lnTo>
                      <a:pt x="760" y="827"/>
                    </a:lnTo>
                    <a:lnTo>
                      <a:pt x="801" y="821"/>
                    </a:lnTo>
                    <a:lnTo>
                      <a:pt x="842" y="817"/>
                    </a:lnTo>
                    <a:lnTo>
                      <a:pt x="884" y="813"/>
                    </a:lnTo>
                    <a:lnTo>
                      <a:pt x="925" y="809"/>
                    </a:lnTo>
                    <a:lnTo>
                      <a:pt x="966" y="805"/>
                    </a:lnTo>
                    <a:lnTo>
                      <a:pt x="1007" y="801"/>
                    </a:lnTo>
                    <a:lnTo>
                      <a:pt x="1049" y="799"/>
                    </a:lnTo>
                    <a:lnTo>
                      <a:pt x="1090" y="796"/>
                    </a:lnTo>
                    <a:close/>
                    <a:moveTo>
                      <a:pt x="430" y="410"/>
                    </a:moveTo>
                    <a:lnTo>
                      <a:pt x="393" y="419"/>
                    </a:lnTo>
                    <a:lnTo>
                      <a:pt x="357" y="426"/>
                    </a:lnTo>
                    <a:lnTo>
                      <a:pt x="323" y="434"/>
                    </a:lnTo>
                    <a:lnTo>
                      <a:pt x="290" y="441"/>
                    </a:lnTo>
                    <a:lnTo>
                      <a:pt x="290" y="456"/>
                    </a:lnTo>
                    <a:lnTo>
                      <a:pt x="290" y="475"/>
                    </a:lnTo>
                    <a:lnTo>
                      <a:pt x="290" y="498"/>
                    </a:lnTo>
                    <a:lnTo>
                      <a:pt x="290" y="526"/>
                    </a:lnTo>
                    <a:lnTo>
                      <a:pt x="287" y="556"/>
                    </a:lnTo>
                    <a:lnTo>
                      <a:pt x="286" y="584"/>
                    </a:lnTo>
                    <a:lnTo>
                      <a:pt x="285" y="606"/>
                    </a:lnTo>
                    <a:lnTo>
                      <a:pt x="285" y="626"/>
                    </a:lnTo>
                    <a:lnTo>
                      <a:pt x="323" y="612"/>
                    </a:lnTo>
                    <a:lnTo>
                      <a:pt x="360" y="596"/>
                    </a:lnTo>
                    <a:lnTo>
                      <a:pt x="393" y="581"/>
                    </a:lnTo>
                    <a:lnTo>
                      <a:pt x="425" y="566"/>
                    </a:lnTo>
                    <a:lnTo>
                      <a:pt x="434" y="564"/>
                    </a:lnTo>
                    <a:lnTo>
                      <a:pt x="441" y="565"/>
                    </a:lnTo>
                    <a:lnTo>
                      <a:pt x="444" y="566"/>
                    </a:lnTo>
                    <a:lnTo>
                      <a:pt x="446" y="567"/>
                    </a:lnTo>
                    <a:lnTo>
                      <a:pt x="448" y="568"/>
                    </a:lnTo>
                    <a:lnTo>
                      <a:pt x="450" y="571"/>
                    </a:lnTo>
                    <a:lnTo>
                      <a:pt x="450" y="574"/>
                    </a:lnTo>
                    <a:lnTo>
                      <a:pt x="451" y="578"/>
                    </a:lnTo>
                    <a:lnTo>
                      <a:pt x="450" y="582"/>
                    </a:lnTo>
                    <a:lnTo>
                      <a:pt x="450" y="585"/>
                    </a:lnTo>
                    <a:lnTo>
                      <a:pt x="448" y="588"/>
                    </a:lnTo>
                    <a:lnTo>
                      <a:pt x="446" y="590"/>
                    </a:lnTo>
                    <a:lnTo>
                      <a:pt x="443" y="594"/>
                    </a:lnTo>
                    <a:lnTo>
                      <a:pt x="440" y="596"/>
                    </a:lnTo>
                    <a:lnTo>
                      <a:pt x="377" y="636"/>
                    </a:lnTo>
                    <a:lnTo>
                      <a:pt x="320" y="673"/>
                    </a:lnTo>
                    <a:lnTo>
                      <a:pt x="269" y="708"/>
                    </a:lnTo>
                    <a:lnTo>
                      <a:pt x="223" y="740"/>
                    </a:lnTo>
                    <a:lnTo>
                      <a:pt x="181" y="769"/>
                    </a:lnTo>
                    <a:lnTo>
                      <a:pt x="145" y="796"/>
                    </a:lnTo>
                    <a:lnTo>
                      <a:pt x="115" y="820"/>
                    </a:lnTo>
                    <a:lnTo>
                      <a:pt x="90" y="842"/>
                    </a:lnTo>
                    <a:lnTo>
                      <a:pt x="84" y="830"/>
                    </a:lnTo>
                    <a:lnTo>
                      <a:pt x="76" y="817"/>
                    </a:lnTo>
                    <a:lnTo>
                      <a:pt x="68" y="803"/>
                    </a:lnTo>
                    <a:lnTo>
                      <a:pt x="57" y="790"/>
                    </a:lnTo>
                    <a:lnTo>
                      <a:pt x="45" y="775"/>
                    </a:lnTo>
                    <a:lnTo>
                      <a:pt x="32" y="760"/>
                    </a:lnTo>
                    <a:lnTo>
                      <a:pt x="16" y="743"/>
                    </a:lnTo>
                    <a:lnTo>
                      <a:pt x="0" y="726"/>
                    </a:lnTo>
                    <a:lnTo>
                      <a:pt x="17" y="723"/>
                    </a:lnTo>
                    <a:lnTo>
                      <a:pt x="38" y="718"/>
                    </a:lnTo>
                    <a:lnTo>
                      <a:pt x="62" y="711"/>
                    </a:lnTo>
                    <a:lnTo>
                      <a:pt x="87" y="703"/>
                    </a:lnTo>
                    <a:lnTo>
                      <a:pt x="117" y="692"/>
                    </a:lnTo>
                    <a:lnTo>
                      <a:pt x="147" y="680"/>
                    </a:lnTo>
                    <a:lnTo>
                      <a:pt x="182" y="667"/>
                    </a:lnTo>
                    <a:lnTo>
                      <a:pt x="219" y="651"/>
                    </a:lnTo>
                    <a:lnTo>
                      <a:pt x="219" y="621"/>
                    </a:lnTo>
                    <a:lnTo>
                      <a:pt x="219" y="591"/>
                    </a:lnTo>
                    <a:lnTo>
                      <a:pt x="219" y="565"/>
                    </a:lnTo>
                    <a:lnTo>
                      <a:pt x="218" y="539"/>
                    </a:lnTo>
                    <a:lnTo>
                      <a:pt x="218" y="516"/>
                    </a:lnTo>
                    <a:lnTo>
                      <a:pt x="217" y="494"/>
                    </a:lnTo>
                    <a:lnTo>
                      <a:pt x="216" y="474"/>
                    </a:lnTo>
                    <a:lnTo>
                      <a:pt x="215" y="456"/>
                    </a:lnTo>
                    <a:lnTo>
                      <a:pt x="207" y="458"/>
                    </a:lnTo>
                    <a:lnTo>
                      <a:pt x="196" y="461"/>
                    </a:lnTo>
                    <a:lnTo>
                      <a:pt x="183" y="463"/>
                    </a:lnTo>
                    <a:lnTo>
                      <a:pt x="170" y="465"/>
                    </a:lnTo>
                    <a:lnTo>
                      <a:pt x="147" y="470"/>
                    </a:lnTo>
                    <a:lnTo>
                      <a:pt x="133" y="472"/>
                    </a:lnTo>
                    <a:lnTo>
                      <a:pt x="127" y="473"/>
                    </a:lnTo>
                    <a:lnTo>
                      <a:pt x="123" y="473"/>
                    </a:lnTo>
                    <a:lnTo>
                      <a:pt x="121" y="472"/>
                    </a:lnTo>
                    <a:lnTo>
                      <a:pt x="120" y="471"/>
                    </a:lnTo>
                    <a:lnTo>
                      <a:pt x="111" y="466"/>
                    </a:lnTo>
                    <a:lnTo>
                      <a:pt x="103" y="462"/>
                    </a:lnTo>
                    <a:lnTo>
                      <a:pt x="96" y="457"/>
                    </a:lnTo>
                    <a:lnTo>
                      <a:pt x="87" y="450"/>
                    </a:lnTo>
                    <a:lnTo>
                      <a:pt x="80" y="444"/>
                    </a:lnTo>
                    <a:lnTo>
                      <a:pt x="73" y="437"/>
                    </a:lnTo>
                    <a:lnTo>
                      <a:pt x="66" y="429"/>
                    </a:lnTo>
                    <a:lnTo>
                      <a:pt x="60" y="421"/>
                    </a:lnTo>
                    <a:lnTo>
                      <a:pt x="96" y="416"/>
                    </a:lnTo>
                    <a:lnTo>
                      <a:pt x="134" y="408"/>
                    </a:lnTo>
                    <a:lnTo>
                      <a:pt x="173" y="401"/>
                    </a:lnTo>
                    <a:lnTo>
                      <a:pt x="215" y="391"/>
                    </a:lnTo>
                    <a:lnTo>
                      <a:pt x="213" y="365"/>
                    </a:lnTo>
                    <a:lnTo>
                      <a:pt x="212" y="339"/>
                    </a:lnTo>
                    <a:lnTo>
                      <a:pt x="210" y="315"/>
                    </a:lnTo>
                    <a:lnTo>
                      <a:pt x="208" y="294"/>
                    </a:lnTo>
                    <a:lnTo>
                      <a:pt x="205" y="272"/>
                    </a:lnTo>
                    <a:lnTo>
                      <a:pt x="201" y="253"/>
                    </a:lnTo>
                    <a:lnTo>
                      <a:pt x="198" y="236"/>
                    </a:lnTo>
                    <a:lnTo>
                      <a:pt x="195" y="221"/>
                    </a:lnTo>
                    <a:lnTo>
                      <a:pt x="181" y="221"/>
                    </a:lnTo>
                    <a:lnTo>
                      <a:pt x="166" y="222"/>
                    </a:lnTo>
                    <a:lnTo>
                      <a:pt x="148" y="224"/>
                    </a:lnTo>
                    <a:lnTo>
                      <a:pt x="129" y="226"/>
                    </a:lnTo>
                    <a:lnTo>
                      <a:pt x="110" y="229"/>
                    </a:lnTo>
                    <a:lnTo>
                      <a:pt x="100" y="231"/>
                    </a:lnTo>
                    <a:lnTo>
                      <a:pt x="93" y="228"/>
                    </a:lnTo>
                    <a:lnTo>
                      <a:pt x="87" y="224"/>
                    </a:lnTo>
                    <a:lnTo>
                      <a:pt x="80" y="218"/>
                    </a:lnTo>
                    <a:lnTo>
                      <a:pt x="72" y="213"/>
                    </a:lnTo>
                    <a:lnTo>
                      <a:pt x="56" y="198"/>
                    </a:lnTo>
                    <a:lnTo>
                      <a:pt x="39" y="180"/>
                    </a:lnTo>
                    <a:lnTo>
                      <a:pt x="61" y="177"/>
                    </a:lnTo>
                    <a:lnTo>
                      <a:pt x="85" y="173"/>
                    </a:lnTo>
                    <a:lnTo>
                      <a:pt x="112" y="168"/>
                    </a:lnTo>
                    <a:lnTo>
                      <a:pt x="145" y="160"/>
                    </a:lnTo>
                    <a:lnTo>
                      <a:pt x="180" y="153"/>
                    </a:lnTo>
                    <a:lnTo>
                      <a:pt x="219" y="143"/>
                    </a:lnTo>
                    <a:lnTo>
                      <a:pt x="263" y="133"/>
                    </a:lnTo>
                    <a:lnTo>
                      <a:pt x="309" y="121"/>
                    </a:lnTo>
                    <a:lnTo>
                      <a:pt x="331" y="116"/>
                    </a:lnTo>
                    <a:lnTo>
                      <a:pt x="349" y="111"/>
                    </a:lnTo>
                    <a:lnTo>
                      <a:pt x="363" y="108"/>
                    </a:lnTo>
                    <a:lnTo>
                      <a:pt x="375" y="106"/>
                    </a:lnTo>
                    <a:lnTo>
                      <a:pt x="380" y="109"/>
                    </a:lnTo>
                    <a:lnTo>
                      <a:pt x="386" y="113"/>
                    </a:lnTo>
                    <a:lnTo>
                      <a:pt x="393" y="120"/>
                    </a:lnTo>
                    <a:lnTo>
                      <a:pt x="400" y="127"/>
                    </a:lnTo>
                    <a:lnTo>
                      <a:pt x="416" y="146"/>
                    </a:lnTo>
                    <a:lnTo>
                      <a:pt x="434" y="171"/>
                    </a:lnTo>
                    <a:lnTo>
                      <a:pt x="427" y="172"/>
                    </a:lnTo>
                    <a:lnTo>
                      <a:pt x="415" y="176"/>
                    </a:lnTo>
                    <a:lnTo>
                      <a:pt x="387" y="181"/>
                    </a:lnTo>
                    <a:lnTo>
                      <a:pt x="360" y="188"/>
                    </a:lnTo>
                    <a:lnTo>
                      <a:pt x="336" y="192"/>
                    </a:lnTo>
                    <a:lnTo>
                      <a:pt x="313" y="197"/>
                    </a:lnTo>
                    <a:lnTo>
                      <a:pt x="290" y="201"/>
                    </a:lnTo>
                    <a:lnTo>
                      <a:pt x="270" y="205"/>
                    </a:lnTo>
                    <a:lnTo>
                      <a:pt x="252" y="208"/>
                    </a:lnTo>
                    <a:lnTo>
                      <a:pt x="235" y="211"/>
                    </a:lnTo>
                    <a:lnTo>
                      <a:pt x="254" y="215"/>
                    </a:lnTo>
                    <a:lnTo>
                      <a:pt x="272" y="218"/>
                    </a:lnTo>
                    <a:lnTo>
                      <a:pt x="289" y="221"/>
                    </a:lnTo>
                    <a:lnTo>
                      <a:pt x="305" y="221"/>
                    </a:lnTo>
                    <a:lnTo>
                      <a:pt x="302" y="243"/>
                    </a:lnTo>
                    <a:lnTo>
                      <a:pt x="299" y="276"/>
                    </a:lnTo>
                    <a:lnTo>
                      <a:pt x="295" y="318"/>
                    </a:lnTo>
                    <a:lnTo>
                      <a:pt x="290" y="371"/>
                    </a:lnTo>
                    <a:lnTo>
                      <a:pt x="312" y="364"/>
                    </a:lnTo>
                    <a:lnTo>
                      <a:pt x="334" y="357"/>
                    </a:lnTo>
                    <a:lnTo>
                      <a:pt x="355" y="351"/>
                    </a:lnTo>
                    <a:lnTo>
                      <a:pt x="375" y="346"/>
                    </a:lnTo>
                    <a:lnTo>
                      <a:pt x="383" y="351"/>
                    </a:lnTo>
                    <a:lnTo>
                      <a:pt x="390" y="357"/>
                    </a:lnTo>
                    <a:lnTo>
                      <a:pt x="396" y="365"/>
                    </a:lnTo>
                    <a:lnTo>
                      <a:pt x="404" y="372"/>
                    </a:lnTo>
                    <a:lnTo>
                      <a:pt x="410" y="381"/>
                    </a:lnTo>
                    <a:lnTo>
                      <a:pt x="418" y="390"/>
                    </a:lnTo>
                    <a:lnTo>
                      <a:pt x="424" y="400"/>
                    </a:lnTo>
                    <a:lnTo>
                      <a:pt x="430" y="410"/>
                    </a:lnTo>
                    <a:close/>
                    <a:moveTo>
                      <a:pt x="930" y="86"/>
                    </a:moveTo>
                    <a:lnTo>
                      <a:pt x="900" y="89"/>
                    </a:lnTo>
                    <a:lnTo>
                      <a:pt x="871" y="93"/>
                    </a:lnTo>
                    <a:lnTo>
                      <a:pt x="840" y="99"/>
                    </a:lnTo>
                    <a:lnTo>
                      <a:pt x="808" y="103"/>
                    </a:lnTo>
                    <a:lnTo>
                      <a:pt x="777" y="108"/>
                    </a:lnTo>
                    <a:lnTo>
                      <a:pt x="744" y="113"/>
                    </a:lnTo>
                    <a:lnTo>
                      <a:pt x="710" y="120"/>
                    </a:lnTo>
                    <a:lnTo>
                      <a:pt x="675" y="126"/>
                    </a:lnTo>
                    <a:lnTo>
                      <a:pt x="687" y="130"/>
                    </a:lnTo>
                    <a:lnTo>
                      <a:pt x="699" y="135"/>
                    </a:lnTo>
                    <a:lnTo>
                      <a:pt x="712" y="138"/>
                    </a:lnTo>
                    <a:lnTo>
                      <a:pt x="726" y="141"/>
                    </a:lnTo>
                    <a:lnTo>
                      <a:pt x="741" y="143"/>
                    </a:lnTo>
                    <a:lnTo>
                      <a:pt x="756" y="144"/>
                    </a:lnTo>
                    <a:lnTo>
                      <a:pt x="773" y="145"/>
                    </a:lnTo>
                    <a:lnTo>
                      <a:pt x="790" y="145"/>
                    </a:lnTo>
                    <a:lnTo>
                      <a:pt x="783" y="165"/>
                    </a:lnTo>
                    <a:lnTo>
                      <a:pt x="777" y="188"/>
                    </a:lnTo>
                    <a:lnTo>
                      <a:pt x="770" y="215"/>
                    </a:lnTo>
                    <a:lnTo>
                      <a:pt x="765" y="246"/>
                    </a:lnTo>
                    <a:lnTo>
                      <a:pt x="780" y="241"/>
                    </a:lnTo>
                    <a:lnTo>
                      <a:pt x="795" y="237"/>
                    </a:lnTo>
                    <a:lnTo>
                      <a:pt x="810" y="233"/>
                    </a:lnTo>
                    <a:lnTo>
                      <a:pt x="825" y="231"/>
                    </a:lnTo>
                    <a:lnTo>
                      <a:pt x="828" y="230"/>
                    </a:lnTo>
                    <a:lnTo>
                      <a:pt x="833" y="229"/>
                    </a:lnTo>
                    <a:lnTo>
                      <a:pt x="836" y="230"/>
                    </a:lnTo>
                    <a:lnTo>
                      <a:pt x="839" y="231"/>
                    </a:lnTo>
                    <a:lnTo>
                      <a:pt x="842" y="232"/>
                    </a:lnTo>
                    <a:lnTo>
                      <a:pt x="844" y="234"/>
                    </a:lnTo>
                    <a:lnTo>
                      <a:pt x="848" y="237"/>
                    </a:lnTo>
                    <a:lnTo>
                      <a:pt x="850" y="241"/>
                    </a:lnTo>
                    <a:lnTo>
                      <a:pt x="857" y="249"/>
                    </a:lnTo>
                    <a:lnTo>
                      <a:pt x="866" y="260"/>
                    </a:lnTo>
                    <a:lnTo>
                      <a:pt x="873" y="271"/>
                    </a:lnTo>
                    <a:lnTo>
                      <a:pt x="880" y="286"/>
                    </a:lnTo>
                    <a:lnTo>
                      <a:pt x="851" y="289"/>
                    </a:lnTo>
                    <a:lnTo>
                      <a:pt x="821" y="294"/>
                    </a:lnTo>
                    <a:lnTo>
                      <a:pt x="792" y="299"/>
                    </a:lnTo>
                    <a:lnTo>
                      <a:pt x="765" y="305"/>
                    </a:lnTo>
                    <a:lnTo>
                      <a:pt x="765" y="330"/>
                    </a:lnTo>
                    <a:lnTo>
                      <a:pt x="764" y="356"/>
                    </a:lnTo>
                    <a:lnTo>
                      <a:pt x="762" y="385"/>
                    </a:lnTo>
                    <a:lnTo>
                      <a:pt x="760" y="416"/>
                    </a:lnTo>
                    <a:lnTo>
                      <a:pt x="789" y="411"/>
                    </a:lnTo>
                    <a:lnTo>
                      <a:pt x="819" y="407"/>
                    </a:lnTo>
                    <a:lnTo>
                      <a:pt x="848" y="404"/>
                    </a:lnTo>
                    <a:lnTo>
                      <a:pt x="875" y="401"/>
                    </a:lnTo>
                    <a:lnTo>
                      <a:pt x="879" y="379"/>
                    </a:lnTo>
                    <a:lnTo>
                      <a:pt x="884" y="355"/>
                    </a:lnTo>
                    <a:lnTo>
                      <a:pt x="889" y="329"/>
                    </a:lnTo>
                    <a:lnTo>
                      <a:pt x="894" y="300"/>
                    </a:lnTo>
                    <a:lnTo>
                      <a:pt x="899" y="267"/>
                    </a:lnTo>
                    <a:lnTo>
                      <a:pt x="906" y="233"/>
                    </a:lnTo>
                    <a:lnTo>
                      <a:pt x="913" y="195"/>
                    </a:lnTo>
                    <a:lnTo>
                      <a:pt x="920" y="156"/>
                    </a:lnTo>
                    <a:lnTo>
                      <a:pt x="923" y="130"/>
                    </a:lnTo>
                    <a:lnTo>
                      <a:pt x="925" y="110"/>
                    </a:lnTo>
                    <a:lnTo>
                      <a:pt x="928" y="95"/>
                    </a:lnTo>
                    <a:lnTo>
                      <a:pt x="930" y="86"/>
                    </a:lnTo>
                    <a:close/>
                    <a:moveTo>
                      <a:pt x="580" y="281"/>
                    </a:moveTo>
                    <a:lnTo>
                      <a:pt x="591" y="280"/>
                    </a:lnTo>
                    <a:lnTo>
                      <a:pt x="605" y="276"/>
                    </a:lnTo>
                    <a:lnTo>
                      <a:pt x="618" y="275"/>
                    </a:lnTo>
                    <a:lnTo>
                      <a:pt x="638" y="272"/>
                    </a:lnTo>
                    <a:lnTo>
                      <a:pt x="663" y="267"/>
                    </a:lnTo>
                    <a:lnTo>
                      <a:pt x="695" y="261"/>
                    </a:lnTo>
                    <a:lnTo>
                      <a:pt x="690" y="221"/>
                    </a:lnTo>
                    <a:lnTo>
                      <a:pt x="682" y="186"/>
                    </a:lnTo>
                    <a:lnTo>
                      <a:pt x="678" y="170"/>
                    </a:lnTo>
                    <a:lnTo>
                      <a:pt x="675" y="156"/>
                    </a:lnTo>
                    <a:lnTo>
                      <a:pt x="670" y="142"/>
                    </a:lnTo>
                    <a:lnTo>
                      <a:pt x="665" y="130"/>
                    </a:lnTo>
                    <a:lnTo>
                      <a:pt x="654" y="134"/>
                    </a:lnTo>
                    <a:lnTo>
                      <a:pt x="640" y="136"/>
                    </a:lnTo>
                    <a:lnTo>
                      <a:pt x="624" y="138"/>
                    </a:lnTo>
                    <a:lnTo>
                      <a:pt x="605" y="141"/>
                    </a:lnTo>
                    <a:lnTo>
                      <a:pt x="593" y="145"/>
                    </a:lnTo>
                    <a:lnTo>
                      <a:pt x="583" y="148"/>
                    </a:lnTo>
                    <a:lnTo>
                      <a:pt x="573" y="151"/>
                    </a:lnTo>
                    <a:lnTo>
                      <a:pt x="565" y="151"/>
                    </a:lnTo>
                    <a:lnTo>
                      <a:pt x="545" y="126"/>
                    </a:lnTo>
                    <a:lnTo>
                      <a:pt x="546" y="137"/>
                    </a:lnTo>
                    <a:lnTo>
                      <a:pt x="548" y="151"/>
                    </a:lnTo>
                    <a:lnTo>
                      <a:pt x="551" y="166"/>
                    </a:lnTo>
                    <a:lnTo>
                      <a:pt x="555" y="186"/>
                    </a:lnTo>
                    <a:lnTo>
                      <a:pt x="559" y="227"/>
                    </a:lnTo>
                    <a:lnTo>
                      <a:pt x="565" y="265"/>
                    </a:lnTo>
                    <a:lnTo>
                      <a:pt x="569" y="301"/>
                    </a:lnTo>
                    <a:lnTo>
                      <a:pt x="572" y="335"/>
                    </a:lnTo>
                    <a:lnTo>
                      <a:pt x="576" y="365"/>
                    </a:lnTo>
                    <a:lnTo>
                      <a:pt x="580" y="393"/>
                    </a:lnTo>
                    <a:lnTo>
                      <a:pt x="583" y="419"/>
                    </a:lnTo>
                    <a:lnTo>
                      <a:pt x="585" y="441"/>
                    </a:lnTo>
                    <a:lnTo>
                      <a:pt x="610" y="437"/>
                    </a:lnTo>
                    <a:lnTo>
                      <a:pt x="638" y="432"/>
                    </a:lnTo>
                    <a:lnTo>
                      <a:pt x="665" y="428"/>
                    </a:lnTo>
                    <a:lnTo>
                      <a:pt x="695" y="426"/>
                    </a:lnTo>
                    <a:lnTo>
                      <a:pt x="695" y="316"/>
                    </a:lnTo>
                    <a:lnTo>
                      <a:pt x="683" y="317"/>
                    </a:lnTo>
                    <a:lnTo>
                      <a:pt x="670" y="321"/>
                    </a:lnTo>
                    <a:lnTo>
                      <a:pt x="661" y="321"/>
                    </a:lnTo>
                    <a:lnTo>
                      <a:pt x="654" y="322"/>
                    </a:lnTo>
                    <a:lnTo>
                      <a:pt x="648" y="323"/>
                    </a:lnTo>
                    <a:lnTo>
                      <a:pt x="645" y="325"/>
                    </a:lnTo>
                    <a:lnTo>
                      <a:pt x="640" y="325"/>
                    </a:lnTo>
                    <a:lnTo>
                      <a:pt x="634" y="323"/>
                    </a:lnTo>
                    <a:lnTo>
                      <a:pt x="626" y="319"/>
                    </a:lnTo>
                    <a:lnTo>
                      <a:pt x="619" y="315"/>
                    </a:lnTo>
                    <a:lnTo>
                      <a:pt x="610" y="308"/>
                    </a:lnTo>
                    <a:lnTo>
                      <a:pt x="601" y="300"/>
                    </a:lnTo>
                    <a:lnTo>
                      <a:pt x="591" y="292"/>
                    </a:lnTo>
                    <a:lnTo>
                      <a:pt x="580" y="281"/>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421" name="Freeform 19"/>
              <p:cNvSpPr/>
              <p:nvPr/>
            </p:nvSpPr>
            <p:spPr>
              <a:xfrm>
                <a:off x="3685320" y="1107720"/>
                <a:ext cx="165600" cy="154080"/>
              </a:xfrm>
              <a:custGeom>
                <a:avLst/>
                <a:gdLst>
                  <a:gd name="textAreaLeft" fmla="*/ 0 w 165600"/>
                  <a:gd name="textAreaRight" fmla="*/ 165960 w 165600"/>
                  <a:gd name="textAreaTop" fmla="*/ 0 h 154080"/>
                  <a:gd name="textAreaBottom" fmla="*/ 154440 h 154080"/>
                </a:gdLst>
                <a:ahLst/>
                <a:rect l="textAreaLeft" t="textAreaTop" r="textAreaRight" b="textAreaBottom"/>
                <a:pathLst>
                  <a:path w="1111" h="1116">
                    <a:moveTo>
                      <a:pt x="767" y="1015"/>
                    </a:moveTo>
                    <a:lnTo>
                      <a:pt x="730" y="1018"/>
                    </a:lnTo>
                    <a:lnTo>
                      <a:pt x="688" y="1021"/>
                    </a:lnTo>
                    <a:lnTo>
                      <a:pt x="643" y="1025"/>
                    </a:lnTo>
                    <a:lnTo>
                      <a:pt x="591" y="1029"/>
                    </a:lnTo>
                    <a:lnTo>
                      <a:pt x="535" y="1034"/>
                    </a:lnTo>
                    <a:lnTo>
                      <a:pt x="473" y="1038"/>
                    </a:lnTo>
                    <a:lnTo>
                      <a:pt x="408" y="1045"/>
                    </a:lnTo>
                    <a:lnTo>
                      <a:pt x="336" y="1050"/>
                    </a:lnTo>
                    <a:lnTo>
                      <a:pt x="336" y="1059"/>
                    </a:lnTo>
                    <a:lnTo>
                      <a:pt x="336" y="1067"/>
                    </a:lnTo>
                    <a:lnTo>
                      <a:pt x="336" y="1076"/>
                    </a:lnTo>
                    <a:lnTo>
                      <a:pt x="336" y="1085"/>
                    </a:lnTo>
                    <a:lnTo>
                      <a:pt x="338" y="1099"/>
                    </a:lnTo>
                    <a:lnTo>
                      <a:pt x="339" y="1108"/>
                    </a:lnTo>
                    <a:lnTo>
                      <a:pt x="339" y="1112"/>
                    </a:lnTo>
                    <a:lnTo>
                      <a:pt x="338" y="1114"/>
                    </a:lnTo>
                    <a:lnTo>
                      <a:pt x="338" y="1115"/>
                    </a:lnTo>
                    <a:lnTo>
                      <a:pt x="336" y="1116"/>
                    </a:lnTo>
                    <a:lnTo>
                      <a:pt x="333" y="1116"/>
                    </a:lnTo>
                    <a:lnTo>
                      <a:pt x="327" y="1114"/>
                    </a:lnTo>
                    <a:lnTo>
                      <a:pt x="320" y="1110"/>
                    </a:lnTo>
                    <a:lnTo>
                      <a:pt x="310" y="1105"/>
                    </a:lnTo>
                    <a:lnTo>
                      <a:pt x="285" y="1089"/>
                    </a:lnTo>
                    <a:lnTo>
                      <a:pt x="251" y="1065"/>
                    </a:lnTo>
                    <a:lnTo>
                      <a:pt x="252" y="1044"/>
                    </a:lnTo>
                    <a:lnTo>
                      <a:pt x="253" y="1021"/>
                    </a:lnTo>
                    <a:lnTo>
                      <a:pt x="252" y="1000"/>
                    </a:lnTo>
                    <a:lnTo>
                      <a:pt x="252" y="979"/>
                    </a:lnTo>
                    <a:lnTo>
                      <a:pt x="250" y="959"/>
                    </a:lnTo>
                    <a:lnTo>
                      <a:pt x="248" y="938"/>
                    </a:lnTo>
                    <a:lnTo>
                      <a:pt x="246" y="918"/>
                    </a:lnTo>
                    <a:lnTo>
                      <a:pt x="242" y="897"/>
                    </a:lnTo>
                    <a:lnTo>
                      <a:pt x="238" y="877"/>
                    </a:lnTo>
                    <a:lnTo>
                      <a:pt x="234" y="858"/>
                    </a:lnTo>
                    <a:lnTo>
                      <a:pt x="230" y="838"/>
                    </a:lnTo>
                    <a:lnTo>
                      <a:pt x="224" y="819"/>
                    </a:lnTo>
                    <a:lnTo>
                      <a:pt x="218" y="800"/>
                    </a:lnTo>
                    <a:lnTo>
                      <a:pt x="212" y="782"/>
                    </a:lnTo>
                    <a:lnTo>
                      <a:pt x="204" y="763"/>
                    </a:lnTo>
                    <a:lnTo>
                      <a:pt x="196" y="745"/>
                    </a:lnTo>
                    <a:lnTo>
                      <a:pt x="204" y="747"/>
                    </a:lnTo>
                    <a:lnTo>
                      <a:pt x="215" y="750"/>
                    </a:lnTo>
                    <a:lnTo>
                      <a:pt x="228" y="752"/>
                    </a:lnTo>
                    <a:lnTo>
                      <a:pt x="241" y="755"/>
                    </a:lnTo>
                    <a:lnTo>
                      <a:pt x="262" y="760"/>
                    </a:lnTo>
                    <a:lnTo>
                      <a:pt x="278" y="764"/>
                    </a:lnTo>
                    <a:lnTo>
                      <a:pt x="292" y="767"/>
                    </a:lnTo>
                    <a:lnTo>
                      <a:pt x="301" y="770"/>
                    </a:lnTo>
                    <a:lnTo>
                      <a:pt x="366" y="763"/>
                    </a:lnTo>
                    <a:lnTo>
                      <a:pt x="426" y="755"/>
                    </a:lnTo>
                    <a:lnTo>
                      <a:pt x="479" y="747"/>
                    </a:lnTo>
                    <a:lnTo>
                      <a:pt x="525" y="737"/>
                    </a:lnTo>
                    <a:lnTo>
                      <a:pt x="545" y="732"/>
                    </a:lnTo>
                    <a:lnTo>
                      <a:pt x="566" y="727"/>
                    </a:lnTo>
                    <a:lnTo>
                      <a:pt x="582" y="722"/>
                    </a:lnTo>
                    <a:lnTo>
                      <a:pt x="598" y="715"/>
                    </a:lnTo>
                    <a:lnTo>
                      <a:pt x="613" y="710"/>
                    </a:lnTo>
                    <a:lnTo>
                      <a:pt x="626" y="704"/>
                    </a:lnTo>
                    <a:lnTo>
                      <a:pt x="636" y="697"/>
                    </a:lnTo>
                    <a:lnTo>
                      <a:pt x="646" y="690"/>
                    </a:lnTo>
                    <a:lnTo>
                      <a:pt x="664" y="704"/>
                    </a:lnTo>
                    <a:lnTo>
                      <a:pt x="683" y="716"/>
                    </a:lnTo>
                    <a:lnTo>
                      <a:pt x="703" y="728"/>
                    </a:lnTo>
                    <a:lnTo>
                      <a:pt x="727" y="739"/>
                    </a:lnTo>
                    <a:lnTo>
                      <a:pt x="751" y="749"/>
                    </a:lnTo>
                    <a:lnTo>
                      <a:pt x="777" y="759"/>
                    </a:lnTo>
                    <a:lnTo>
                      <a:pt x="806" y="767"/>
                    </a:lnTo>
                    <a:lnTo>
                      <a:pt x="837" y="776"/>
                    </a:lnTo>
                    <a:lnTo>
                      <a:pt x="828" y="781"/>
                    </a:lnTo>
                    <a:lnTo>
                      <a:pt x="819" y="788"/>
                    </a:lnTo>
                    <a:lnTo>
                      <a:pt x="811" y="796"/>
                    </a:lnTo>
                    <a:lnTo>
                      <a:pt x="803" y="803"/>
                    </a:lnTo>
                    <a:lnTo>
                      <a:pt x="794" y="813"/>
                    </a:lnTo>
                    <a:lnTo>
                      <a:pt x="787" y="822"/>
                    </a:lnTo>
                    <a:lnTo>
                      <a:pt x="778" y="833"/>
                    </a:lnTo>
                    <a:lnTo>
                      <a:pt x="771" y="843"/>
                    </a:lnTo>
                    <a:lnTo>
                      <a:pt x="756" y="869"/>
                    </a:lnTo>
                    <a:lnTo>
                      <a:pt x="742" y="896"/>
                    </a:lnTo>
                    <a:lnTo>
                      <a:pt x="730" y="927"/>
                    </a:lnTo>
                    <a:lnTo>
                      <a:pt x="717" y="960"/>
                    </a:lnTo>
                    <a:lnTo>
                      <a:pt x="731" y="975"/>
                    </a:lnTo>
                    <a:lnTo>
                      <a:pt x="743" y="989"/>
                    </a:lnTo>
                    <a:lnTo>
                      <a:pt x="756" y="1002"/>
                    </a:lnTo>
                    <a:lnTo>
                      <a:pt x="767" y="1015"/>
                    </a:lnTo>
                    <a:close/>
                    <a:moveTo>
                      <a:pt x="546" y="289"/>
                    </a:moveTo>
                    <a:lnTo>
                      <a:pt x="559" y="298"/>
                    </a:lnTo>
                    <a:lnTo>
                      <a:pt x="572" y="305"/>
                    </a:lnTo>
                    <a:lnTo>
                      <a:pt x="586" y="313"/>
                    </a:lnTo>
                    <a:lnTo>
                      <a:pt x="598" y="319"/>
                    </a:lnTo>
                    <a:lnTo>
                      <a:pt x="613" y="324"/>
                    </a:lnTo>
                    <a:lnTo>
                      <a:pt x="627" y="328"/>
                    </a:lnTo>
                    <a:lnTo>
                      <a:pt x="642" y="332"/>
                    </a:lnTo>
                    <a:lnTo>
                      <a:pt x="657" y="335"/>
                    </a:lnTo>
                    <a:lnTo>
                      <a:pt x="642" y="351"/>
                    </a:lnTo>
                    <a:lnTo>
                      <a:pt x="629" y="368"/>
                    </a:lnTo>
                    <a:lnTo>
                      <a:pt x="617" y="386"/>
                    </a:lnTo>
                    <a:lnTo>
                      <a:pt x="607" y="405"/>
                    </a:lnTo>
                    <a:lnTo>
                      <a:pt x="614" y="410"/>
                    </a:lnTo>
                    <a:lnTo>
                      <a:pt x="624" y="417"/>
                    </a:lnTo>
                    <a:lnTo>
                      <a:pt x="634" y="426"/>
                    </a:lnTo>
                    <a:lnTo>
                      <a:pt x="646" y="434"/>
                    </a:lnTo>
                    <a:lnTo>
                      <a:pt x="683" y="459"/>
                    </a:lnTo>
                    <a:lnTo>
                      <a:pt x="718" y="480"/>
                    </a:lnTo>
                    <a:lnTo>
                      <a:pt x="751" y="499"/>
                    </a:lnTo>
                    <a:lnTo>
                      <a:pt x="782" y="516"/>
                    </a:lnTo>
                    <a:lnTo>
                      <a:pt x="810" y="531"/>
                    </a:lnTo>
                    <a:lnTo>
                      <a:pt x="838" y="542"/>
                    </a:lnTo>
                    <a:lnTo>
                      <a:pt x="863" y="552"/>
                    </a:lnTo>
                    <a:lnTo>
                      <a:pt x="886" y="559"/>
                    </a:lnTo>
                    <a:lnTo>
                      <a:pt x="914" y="569"/>
                    </a:lnTo>
                    <a:lnTo>
                      <a:pt x="940" y="579"/>
                    </a:lnTo>
                    <a:lnTo>
                      <a:pt x="966" y="588"/>
                    </a:lnTo>
                    <a:lnTo>
                      <a:pt x="991" y="599"/>
                    </a:lnTo>
                    <a:lnTo>
                      <a:pt x="1016" y="609"/>
                    </a:lnTo>
                    <a:lnTo>
                      <a:pt x="1040" y="621"/>
                    </a:lnTo>
                    <a:lnTo>
                      <a:pt x="1063" y="633"/>
                    </a:lnTo>
                    <a:lnTo>
                      <a:pt x="1087" y="645"/>
                    </a:lnTo>
                    <a:lnTo>
                      <a:pt x="1097" y="650"/>
                    </a:lnTo>
                    <a:lnTo>
                      <a:pt x="1106" y="655"/>
                    </a:lnTo>
                    <a:lnTo>
                      <a:pt x="1108" y="658"/>
                    </a:lnTo>
                    <a:lnTo>
                      <a:pt x="1110" y="660"/>
                    </a:lnTo>
                    <a:lnTo>
                      <a:pt x="1111" y="662"/>
                    </a:lnTo>
                    <a:lnTo>
                      <a:pt x="1111" y="665"/>
                    </a:lnTo>
                    <a:lnTo>
                      <a:pt x="1111" y="668"/>
                    </a:lnTo>
                    <a:lnTo>
                      <a:pt x="1110" y="670"/>
                    </a:lnTo>
                    <a:lnTo>
                      <a:pt x="1108" y="672"/>
                    </a:lnTo>
                    <a:lnTo>
                      <a:pt x="1106" y="674"/>
                    </a:lnTo>
                    <a:lnTo>
                      <a:pt x="1097" y="677"/>
                    </a:lnTo>
                    <a:lnTo>
                      <a:pt x="1087" y="680"/>
                    </a:lnTo>
                    <a:lnTo>
                      <a:pt x="1075" y="682"/>
                    </a:lnTo>
                    <a:lnTo>
                      <a:pt x="1061" y="684"/>
                    </a:lnTo>
                    <a:lnTo>
                      <a:pt x="1044" y="687"/>
                    </a:lnTo>
                    <a:lnTo>
                      <a:pt x="1024" y="688"/>
                    </a:lnTo>
                    <a:lnTo>
                      <a:pt x="1001" y="689"/>
                    </a:lnTo>
                    <a:lnTo>
                      <a:pt x="975" y="690"/>
                    </a:lnTo>
                    <a:lnTo>
                      <a:pt x="948" y="690"/>
                    </a:lnTo>
                    <a:lnTo>
                      <a:pt x="916" y="690"/>
                    </a:lnTo>
                    <a:lnTo>
                      <a:pt x="898" y="690"/>
                    </a:lnTo>
                    <a:lnTo>
                      <a:pt x="881" y="688"/>
                    </a:lnTo>
                    <a:lnTo>
                      <a:pt x="865" y="686"/>
                    </a:lnTo>
                    <a:lnTo>
                      <a:pt x="850" y="682"/>
                    </a:lnTo>
                    <a:lnTo>
                      <a:pt x="837" y="678"/>
                    </a:lnTo>
                    <a:lnTo>
                      <a:pt x="824" y="673"/>
                    </a:lnTo>
                    <a:lnTo>
                      <a:pt x="812" y="668"/>
                    </a:lnTo>
                    <a:lnTo>
                      <a:pt x="802" y="660"/>
                    </a:lnTo>
                    <a:lnTo>
                      <a:pt x="782" y="644"/>
                    </a:lnTo>
                    <a:lnTo>
                      <a:pt x="756" y="621"/>
                    </a:lnTo>
                    <a:lnTo>
                      <a:pt x="727" y="591"/>
                    </a:lnTo>
                    <a:lnTo>
                      <a:pt x="692" y="555"/>
                    </a:lnTo>
                    <a:lnTo>
                      <a:pt x="659" y="520"/>
                    </a:lnTo>
                    <a:lnTo>
                      <a:pt x="629" y="491"/>
                    </a:lnTo>
                    <a:lnTo>
                      <a:pt x="604" y="467"/>
                    </a:lnTo>
                    <a:lnTo>
                      <a:pt x="581" y="449"/>
                    </a:lnTo>
                    <a:lnTo>
                      <a:pt x="557" y="491"/>
                    </a:lnTo>
                    <a:lnTo>
                      <a:pt x="533" y="529"/>
                    </a:lnTo>
                    <a:lnTo>
                      <a:pt x="508" y="564"/>
                    </a:lnTo>
                    <a:lnTo>
                      <a:pt x="484" y="597"/>
                    </a:lnTo>
                    <a:lnTo>
                      <a:pt x="471" y="611"/>
                    </a:lnTo>
                    <a:lnTo>
                      <a:pt x="459" y="625"/>
                    </a:lnTo>
                    <a:lnTo>
                      <a:pt x="446" y="639"/>
                    </a:lnTo>
                    <a:lnTo>
                      <a:pt x="433" y="652"/>
                    </a:lnTo>
                    <a:lnTo>
                      <a:pt x="420" y="663"/>
                    </a:lnTo>
                    <a:lnTo>
                      <a:pt x="408" y="675"/>
                    </a:lnTo>
                    <a:lnTo>
                      <a:pt x="394" y="686"/>
                    </a:lnTo>
                    <a:lnTo>
                      <a:pt x="381" y="695"/>
                    </a:lnTo>
                    <a:lnTo>
                      <a:pt x="371" y="701"/>
                    </a:lnTo>
                    <a:lnTo>
                      <a:pt x="360" y="707"/>
                    </a:lnTo>
                    <a:lnTo>
                      <a:pt x="349" y="711"/>
                    </a:lnTo>
                    <a:lnTo>
                      <a:pt x="339" y="715"/>
                    </a:lnTo>
                    <a:lnTo>
                      <a:pt x="327" y="717"/>
                    </a:lnTo>
                    <a:lnTo>
                      <a:pt x="317" y="718"/>
                    </a:lnTo>
                    <a:lnTo>
                      <a:pt x="306" y="719"/>
                    </a:lnTo>
                    <a:lnTo>
                      <a:pt x="295" y="718"/>
                    </a:lnTo>
                    <a:lnTo>
                      <a:pt x="284" y="717"/>
                    </a:lnTo>
                    <a:lnTo>
                      <a:pt x="273" y="715"/>
                    </a:lnTo>
                    <a:lnTo>
                      <a:pt x="262" y="712"/>
                    </a:lnTo>
                    <a:lnTo>
                      <a:pt x="251" y="707"/>
                    </a:lnTo>
                    <a:lnTo>
                      <a:pt x="239" y="701"/>
                    </a:lnTo>
                    <a:lnTo>
                      <a:pt x="229" y="695"/>
                    </a:lnTo>
                    <a:lnTo>
                      <a:pt x="217" y="689"/>
                    </a:lnTo>
                    <a:lnTo>
                      <a:pt x="206" y="680"/>
                    </a:lnTo>
                    <a:lnTo>
                      <a:pt x="231" y="671"/>
                    </a:lnTo>
                    <a:lnTo>
                      <a:pt x="255" y="661"/>
                    </a:lnTo>
                    <a:lnTo>
                      <a:pt x="277" y="650"/>
                    </a:lnTo>
                    <a:lnTo>
                      <a:pt x="301" y="638"/>
                    </a:lnTo>
                    <a:lnTo>
                      <a:pt x="322" y="625"/>
                    </a:lnTo>
                    <a:lnTo>
                      <a:pt x="343" y="611"/>
                    </a:lnTo>
                    <a:lnTo>
                      <a:pt x="363" y="597"/>
                    </a:lnTo>
                    <a:lnTo>
                      <a:pt x="382" y="581"/>
                    </a:lnTo>
                    <a:lnTo>
                      <a:pt x="401" y="565"/>
                    </a:lnTo>
                    <a:lnTo>
                      <a:pt x="419" y="548"/>
                    </a:lnTo>
                    <a:lnTo>
                      <a:pt x="436" y="530"/>
                    </a:lnTo>
                    <a:lnTo>
                      <a:pt x="453" y="510"/>
                    </a:lnTo>
                    <a:lnTo>
                      <a:pt x="469" y="491"/>
                    </a:lnTo>
                    <a:lnTo>
                      <a:pt x="484" y="469"/>
                    </a:lnTo>
                    <a:lnTo>
                      <a:pt x="498" y="447"/>
                    </a:lnTo>
                    <a:lnTo>
                      <a:pt x="512" y="425"/>
                    </a:lnTo>
                    <a:lnTo>
                      <a:pt x="521" y="406"/>
                    </a:lnTo>
                    <a:lnTo>
                      <a:pt x="528" y="388"/>
                    </a:lnTo>
                    <a:lnTo>
                      <a:pt x="535" y="371"/>
                    </a:lnTo>
                    <a:lnTo>
                      <a:pt x="540" y="354"/>
                    </a:lnTo>
                    <a:lnTo>
                      <a:pt x="543" y="337"/>
                    </a:lnTo>
                    <a:lnTo>
                      <a:pt x="546" y="321"/>
                    </a:lnTo>
                    <a:lnTo>
                      <a:pt x="546" y="305"/>
                    </a:lnTo>
                    <a:lnTo>
                      <a:pt x="546" y="289"/>
                    </a:lnTo>
                    <a:close/>
                    <a:moveTo>
                      <a:pt x="767" y="129"/>
                    </a:moveTo>
                    <a:lnTo>
                      <a:pt x="788" y="147"/>
                    </a:lnTo>
                    <a:lnTo>
                      <a:pt x="809" y="164"/>
                    </a:lnTo>
                    <a:lnTo>
                      <a:pt x="830" y="180"/>
                    </a:lnTo>
                    <a:lnTo>
                      <a:pt x="852" y="194"/>
                    </a:lnTo>
                    <a:lnTo>
                      <a:pt x="873" y="205"/>
                    </a:lnTo>
                    <a:lnTo>
                      <a:pt x="894" y="217"/>
                    </a:lnTo>
                    <a:lnTo>
                      <a:pt x="915" y="227"/>
                    </a:lnTo>
                    <a:lnTo>
                      <a:pt x="936" y="235"/>
                    </a:lnTo>
                    <a:lnTo>
                      <a:pt x="912" y="249"/>
                    </a:lnTo>
                    <a:lnTo>
                      <a:pt x="882" y="266"/>
                    </a:lnTo>
                    <a:lnTo>
                      <a:pt x="849" y="286"/>
                    </a:lnTo>
                    <a:lnTo>
                      <a:pt x="811" y="309"/>
                    </a:lnTo>
                    <a:lnTo>
                      <a:pt x="786" y="326"/>
                    </a:lnTo>
                    <a:lnTo>
                      <a:pt x="763" y="340"/>
                    </a:lnTo>
                    <a:lnTo>
                      <a:pt x="743" y="351"/>
                    </a:lnTo>
                    <a:lnTo>
                      <a:pt x="727" y="360"/>
                    </a:lnTo>
                    <a:lnTo>
                      <a:pt x="719" y="361"/>
                    </a:lnTo>
                    <a:lnTo>
                      <a:pt x="713" y="362"/>
                    </a:lnTo>
                    <a:lnTo>
                      <a:pt x="706" y="361"/>
                    </a:lnTo>
                    <a:lnTo>
                      <a:pt x="701" y="360"/>
                    </a:lnTo>
                    <a:lnTo>
                      <a:pt x="700" y="359"/>
                    </a:lnTo>
                    <a:lnTo>
                      <a:pt x="700" y="358"/>
                    </a:lnTo>
                    <a:lnTo>
                      <a:pt x="700" y="356"/>
                    </a:lnTo>
                    <a:lnTo>
                      <a:pt x="702" y="352"/>
                    </a:lnTo>
                    <a:lnTo>
                      <a:pt x="706" y="344"/>
                    </a:lnTo>
                    <a:lnTo>
                      <a:pt x="713" y="333"/>
                    </a:lnTo>
                    <a:lnTo>
                      <a:pt x="721" y="315"/>
                    </a:lnTo>
                    <a:lnTo>
                      <a:pt x="741" y="279"/>
                    </a:lnTo>
                    <a:lnTo>
                      <a:pt x="756" y="249"/>
                    </a:lnTo>
                    <a:lnTo>
                      <a:pt x="763" y="236"/>
                    </a:lnTo>
                    <a:lnTo>
                      <a:pt x="767" y="226"/>
                    </a:lnTo>
                    <a:lnTo>
                      <a:pt x="770" y="217"/>
                    </a:lnTo>
                    <a:lnTo>
                      <a:pt x="771" y="210"/>
                    </a:lnTo>
                    <a:lnTo>
                      <a:pt x="750" y="216"/>
                    </a:lnTo>
                    <a:lnTo>
                      <a:pt x="728" y="222"/>
                    </a:lnTo>
                    <a:lnTo>
                      <a:pt x="702" y="230"/>
                    </a:lnTo>
                    <a:lnTo>
                      <a:pt x="675" y="237"/>
                    </a:lnTo>
                    <a:lnTo>
                      <a:pt x="646" y="245"/>
                    </a:lnTo>
                    <a:lnTo>
                      <a:pt x="615" y="253"/>
                    </a:lnTo>
                    <a:lnTo>
                      <a:pt x="581" y="261"/>
                    </a:lnTo>
                    <a:lnTo>
                      <a:pt x="546" y="270"/>
                    </a:lnTo>
                    <a:lnTo>
                      <a:pt x="538" y="266"/>
                    </a:lnTo>
                    <a:lnTo>
                      <a:pt x="528" y="258"/>
                    </a:lnTo>
                    <a:lnTo>
                      <a:pt x="518" y="248"/>
                    </a:lnTo>
                    <a:lnTo>
                      <a:pt x="506" y="235"/>
                    </a:lnTo>
                    <a:lnTo>
                      <a:pt x="498" y="251"/>
                    </a:lnTo>
                    <a:lnTo>
                      <a:pt x="487" y="268"/>
                    </a:lnTo>
                    <a:lnTo>
                      <a:pt x="475" y="288"/>
                    </a:lnTo>
                    <a:lnTo>
                      <a:pt x="462" y="309"/>
                    </a:lnTo>
                    <a:lnTo>
                      <a:pt x="459" y="317"/>
                    </a:lnTo>
                    <a:lnTo>
                      <a:pt x="456" y="322"/>
                    </a:lnTo>
                    <a:lnTo>
                      <a:pt x="453" y="326"/>
                    </a:lnTo>
                    <a:lnTo>
                      <a:pt x="451" y="329"/>
                    </a:lnTo>
                    <a:lnTo>
                      <a:pt x="446" y="338"/>
                    </a:lnTo>
                    <a:lnTo>
                      <a:pt x="439" y="344"/>
                    </a:lnTo>
                    <a:lnTo>
                      <a:pt x="433" y="351"/>
                    </a:lnTo>
                    <a:lnTo>
                      <a:pt x="426" y="356"/>
                    </a:lnTo>
                    <a:lnTo>
                      <a:pt x="418" y="360"/>
                    </a:lnTo>
                    <a:lnTo>
                      <a:pt x="411" y="364"/>
                    </a:lnTo>
                    <a:lnTo>
                      <a:pt x="402" y="368"/>
                    </a:lnTo>
                    <a:lnTo>
                      <a:pt x="394" y="370"/>
                    </a:lnTo>
                    <a:lnTo>
                      <a:pt x="384" y="371"/>
                    </a:lnTo>
                    <a:lnTo>
                      <a:pt x="376" y="372"/>
                    </a:lnTo>
                    <a:lnTo>
                      <a:pt x="365" y="372"/>
                    </a:lnTo>
                    <a:lnTo>
                      <a:pt x="356" y="371"/>
                    </a:lnTo>
                    <a:lnTo>
                      <a:pt x="345" y="370"/>
                    </a:lnTo>
                    <a:lnTo>
                      <a:pt x="335" y="367"/>
                    </a:lnTo>
                    <a:lnTo>
                      <a:pt x="323" y="363"/>
                    </a:lnTo>
                    <a:lnTo>
                      <a:pt x="311" y="360"/>
                    </a:lnTo>
                    <a:lnTo>
                      <a:pt x="331" y="342"/>
                    </a:lnTo>
                    <a:lnTo>
                      <a:pt x="351" y="323"/>
                    </a:lnTo>
                    <a:lnTo>
                      <a:pt x="367" y="304"/>
                    </a:lnTo>
                    <a:lnTo>
                      <a:pt x="384" y="285"/>
                    </a:lnTo>
                    <a:lnTo>
                      <a:pt x="399" y="265"/>
                    </a:lnTo>
                    <a:lnTo>
                      <a:pt x="414" y="244"/>
                    </a:lnTo>
                    <a:lnTo>
                      <a:pt x="427" y="221"/>
                    </a:lnTo>
                    <a:lnTo>
                      <a:pt x="438" y="199"/>
                    </a:lnTo>
                    <a:lnTo>
                      <a:pt x="449" y="177"/>
                    </a:lnTo>
                    <a:lnTo>
                      <a:pt x="459" y="154"/>
                    </a:lnTo>
                    <a:lnTo>
                      <a:pt x="467" y="129"/>
                    </a:lnTo>
                    <a:lnTo>
                      <a:pt x="474" y="105"/>
                    </a:lnTo>
                    <a:lnTo>
                      <a:pt x="481" y="79"/>
                    </a:lnTo>
                    <a:lnTo>
                      <a:pt x="485" y="53"/>
                    </a:lnTo>
                    <a:lnTo>
                      <a:pt x="489" y="26"/>
                    </a:lnTo>
                    <a:lnTo>
                      <a:pt x="491" y="0"/>
                    </a:lnTo>
                    <a:lnTo>
                      <a:pt x="506" y="8"/>
                    </a:lnTo>
                    <a:lnTo>
                      <a:pt x="521" y="17"/>
                    </a:lnTo>
                    <a:lnTo>
                      <a:pt x="536" y="24"/>
                    </a:lnTo>
                    <a:lnTo>
                      <a:pt x="550" y="30"/>
                    </a:lnTo>
                    <a:lnTo>
                      <a:pt x="564" y="34"/>
                    </a:lnTo>
                    <a:lnTo>
                      <a:pt x="578" y="37"/>
                    </a:lnTo>
                    <a:lnTo>
                      <a:pt x="592" y="39"/>
                    </a:lnTo>
                    <a:lnTo>
                      <a:pt x="607" y="39"/>
                    </a:lnTo>
                    <a:lnTo>
                      <a:pt x="600" y="45"/>
                    </a:lnTo>
                    <a:lnTo>
                      <a:pt x="593" y="53"/>
                    </a:lnTo>
                    <a:lnTo>
                      <a:pt x="587" y="62"/>
                    </a:lnTo>
                    <a:lnTo>
                      <a:pt x="580" y="74"/>
                    </a:lnTo>
                    <a:lnTo>
                      <a:pt x="573" y="88"/>
                    </a:lnTo>
                    <a:lnTo>
                      <a:pt x="566" y="103"/>
                    </a:lnTo>
                    <a:lnTo>
                      <a:pt x="559" y="121"/>
                    </a:lnTo>
                    <a:lnTo>
                      <a:pt x="552" y="140"/>
                    </a:lnTo>
                    <a:lnTo>
                      <a:pt x="549" y="145"/>
                    </a:lnTo>
                    <a:lnTo>
                      <a:pt x="545" y="154"/>
                    </a:lnTo>
                    <a:lnTo>
                      <a:pt x="541" y="163"/>
                    </a:lnTo>
                    <a:lnTo>
                      <a:pt x="536" y="175"/>
                    </a:lnTo>
                    <a:lnTo>
                      <a:pt x="530" y="186"/>
                    </a:lnTo>
                    <a:lnTo>
                      <a:pt x="524" y="197"/>
                    </a:lnTo>
                    <a:lnTo>
                      <a:pt x="520" y="207"/>
                    </a:lnTo>
                    <a:lnTo>
                      <a:pt x="517" y="215"/>
                    </a:lnTo>
                    <a:lnTo>
                      <a:pt x="563" y="207"/>
                    </a:lnTo>
                    <a:lnTo>
                      <a:pt x="605" y="198"/>
                    </a:lnTo>
                    <a:lnTo>
                      <a:pt x="643" y="189"/>
                    </a:lnTo>
                    <a:lnTo>
                      <a:pt x="677" y="178"/>
                    </a:lnTo>
                    <a:lnTo>
                      <a:pt x="692" y="173"/>
                    </a:lnTo>
                    <a:lnTo>
                      <a:pt x="705" y="167"/>
                    </a:lnTo>
                    <a:lnTo>
                      <a:pt x="718" y="161"/>
                    </a:lnTo>
                    <a:lnTo>
                      <a:pt x="730" y="156"/>
                    </a:lnTo>
                    <a:lnTo>
                      <a:pt x="740" y="149"/>
                    </a:lnTo>
                    <a:lnTo>
                      <a:pt x="751" y="143"/>
                    </a:lnTo>
                    <a:lnTo>
                      <a:pt x="759" y="137"/>
                    </a:lnTo>
                    <a:lnTo>
                      <a:pt x="767" y="129"/>
                    </a:lnTo>
                    <a:close/>
                    <a:moveTo>
                      <a:pt x="317" y="830"/>
                    </a:moveTo>
                    <a:lnTo>
                      <a:pt x="320" y="855"/>
                    </a:lnTo>
                    <a:lnTo>
                      <a:pt x="323" y="878"/>
                    </a:lnTo>
                    <a:lnTo>
                      <a:pt x="325" y="902"/>
                    </a:lnTo>
                    <a:lnTo>
                      <a:pt x="327" y="924"/>
                    </a:lnTo>
                    <a:lnTo>
                      <a:pt x="329" y="945"/>
                    </a:lnTo>
                    <a:lnTo>
                      <a:pt x="330" y="966"/>
                    </a:lnTo>
                    <a:lnTo>
                      <a:pt x="331" y="987"/>
                    </a:lnTo>
                    <a:lnTo>
                      <a:pt x="331" y="1006"/>
                    </a:lnTo>
                    <a:lnTo>
                      <a:pt x="346" y="1003"/>
                    </a:lnTo>
                    <a:lnTo>
                      <a:pt x="364" y="1001"/>
                    </a:lnTo>
                    <a:lnTo>
                      <a:pt x="385" y="999"/>
                    </a:lnTo>
                    <a:lnTo>
                      <a:pt x="409" y="996"/>
                    </a:lnTo>
                    <a:lnTo>
                      <a:pt x="435" y="993"/>
                    </a:lnTo>
                    <a:lnTo>
                      <a:pt x="464" y="990"/>
                    </a:lnTo>
                    <a:lnTo>
                      <a:pt x="497" y="985"/>
                    </a:lnTo>
                    <a:lnTo>
                      <a:pt x="532" y="980"/>
                    </a:lnTo>
                    <a:lnTo>
                      <a:pt x="563" y="976"/>
                    </a:lnTo>
                    <a:lnTo>
                      <a:pt x="590" y="972"/>
                    </a:lnTo>
                    <a:lnTo>
                      <a:pt x="611" y="968"/>
                    </a:lnTo>
                    <a:lnTo>
                      <a:pt x="626" y="965"/>
                    </a:lnTo>
                    <a:lnTo>
                      <a:pt x="629" y="946"/>
                    </a:lnTo>
                    <a:lnTo>
                      <a:pt x="632" y="925"/>
                    </a:lnTo>
                    <a:lnTo>
                      <a:pt x="636" y="902"/>
                    </a:lnTo>
                    <a:lnTo>
                      <a:pt x="642" y="875"/>
                    </a:lnTo>
                    <a:lnTo>
                      <a:pt x="646" y="855"/>
                    </a:lnTo>
                    <a:lnTo>
                      <a:pt x="649" y="838"/>
                    </a:lnTo>
                    <a:lnTo>
                      <a:pt x="651" y="823"/>
                    </a:lnTo>
                    <a:lnTo>
                      <a:pt x="652" y="812"/>
                    </a:lnTo>
                    <a:lnTo>
                      <a:pt x="652" y="802"/>
                    </a:lnTo>
                    <a:lnTo>
                      <a:pt x="651" y="796"/>
                    </a:lnTo>
                    <a:lnTo>
                      <a:pt x="650" y="793"/>
                    </a:lnTo>
                    <a:lnTo>
                      <a:pt x="649" y="792"/>
                    </a:lnTo>
                    <a:lnTo>
                      <a:pt x="648" y="790"/>
                    </a:lnTo>
                    <a:lnTo>
                      <a:pt x="646" y="790"/>
                    </a:lnTo>
                    <a:lnTo>
                      <a:pt x="642" y="789"/>
                    </a:lnTo>
                    <a:lnTo>
                      <a:pt x="635" y="788"/>
                    </a:lnTo>
                    <a:lnTo>
                      <a:pt x="627" y="788"/>
                    </a:lnTo>
                    <a:lnTo>
                      <a:pt x="616" y="788"/>
                    </a:lnTo>
                    <a:lnTo>
                      <a:pt x="588" y="792"/>
                    </a:lnTo>
                    <a:lnTo>
                      <a:pt x="552" y="795"/>
                    </a:lnTo>
                    <a:lnTo>
                      <a:pt x="506" y="801"/>
                    </a:lnTo>
                    <a:lnTo>
                      <a:pt x="451" y="808"/>
                    </a:lnTo>
                    <a:lnTo>
                      <a:pt x="389" y="819"/>
                    </a:lnTo>
                    <a:lnTo>
                      <a:pt x="317" y="830"/>
                    </a:lnTo>
                    <a:close/>
                    <a:moveTo>
                      <a:pt x="71" y="705"/>
                    </a:moveTo>
                    <a:lnTo>
                      <a:pt x="60" y="689"/>
                    </a:lnTo>
                    <a:lnTo>
                      <a:pt x="47" y="669"/>
                    </a:lnTo>
                    <a:lnTo>
                      <a:pt x="30" y="646"/>
                    </a:lnTo>
                    <a:lnTo>
                      <a:pt x="12" y="620"/>
                    </a:lnTo>
                    <a:lnTo>
                      <a:pt x="7" y="617"/>
                    </a:lnTo>
                    <a:lnTo>
                      <a:pt x="6" y="615"/>
                    </a:lnTo>
                    <a:lnTo>
                      <a:pt x="3" y="610"/>
                    </a:lnTo>
                    <a:lnTo>
                      <a:pt x="1" y="606"/>
                    </a:lnTo>
                    <a:lnTo>
                      <a:pt x="0" y="602"/>
                    </a:lnTo>
                    <a:lnTo>
                      <a:pt x="0" y="599"/>
                    </a:lnTo>
                    <a:lnTo>
                      <a:pt x="1" y="595"/>
                    </a:lnTo>
                    <a:lnTo>
                      <a:pt x="3" y="593"/>
                    </a:lnTo>
                    <a:lnTo>
                      <a:pt x="6" y="591"/>
                    </a:lnTo>
                    <a:lnTo>
                      <a:pt x="12" y="590"/>
                    </a:lnTo>
                    <a:lnTo>
                      <a:pt x="53" y="573"/>
                    </a:lnTo>
                    <a:lnTo>
                      <a:pt x="94" y="555"/>
                    </a:lnTo>
                    <a:lnTo>
                      <a:pt x="137" y="535"/>
                    </a:lnTo>
                    <a:lnTo>
                      <a:pt x="179" y="515"/>
                    </a:lnTo>
                    <a:lnTo>
                      <a:pt x="221" y="493"/>
                    </a:lnTo>
                    <a:lnTo>
                      <a:pt x="265" y="469"/>
                    </a:lnTo>
                    <a:lnTo>
                      <a:pt x="308" y="445"/>
                    </a:lnTo>
                    <a:lnTo>
                      <a:pt x="352" y="420"/>
                    </a:lnTo>
                    <a:lnTo>
                      <a:pt x="357" y="418"/>
                    </a:lnTo>
                    <a:lnTo>
                      <a:pt x="362" y="420"/>
                    </a:lnTo>
                    <a:lnTo>
                      <a:pt x="365" y="421"/>
                    </a:lnTo>
                    <a:lnTo>
                      <a:pt x="369" y="423"/>
                    </a:lnTo>
                    <a:lnTo>
                      <a:pt x="371" y="425"/>
                    </a:lnTo>
                    <a:lnTo>
                      <a:pt x="372" y="429"/>
                    </a:lnTo>
                    <a:lnTo>
                      <a:pt x="372" y="434"/>
                    </a:lnTo>
                    <a:lnTo>
                      <a:pt x="372" y="440"/>
                    </a:lnTo>
                    <a:lnTo>
                      <a:pt x="354" y="455"/>
                    </a:lnTo>
                    <a:lnTo>
                      <a:pt x="331" y="475"/>
                    </a:lnTo>
                    <a:lnTo>
                      <a:pt x="304" y="500"/>
                    </a:lnTo>
                    <a:lnTo>
                      <a:pt x="271" y="530"/>
                    </a:lnTo>
                    <a:lnTo>
                      <a:pt x="234" y="564"/>
                    </a:lnTo>
                    <a:lnTo>
                      <a:pt x="200" y="593"/>
                    </a:lnTo>
                    <a:lnTo>
                      <a:pt x="170" y="620"/>
                    </a:lnTo>
                    <a:lnTo>
                      <a:pt x="144" y="643"/>
                    </a:lnTo>
                    <a:lnTo>
                      <a:pt x="121" y="664"/>
                    </a:lnTo>
                    <a:lnTo>
                      <a:pt x="101" y="681"/>
                    </a:lnTo>
                    <a:lnTo>
                      <a:pt x="85" y="695"/>
                    </a:lnTo>
                    <a:lnTo>
                      <a:pt x="71" y="705"/>
                    </a:lnTo>
                    <a:close/>
                    <a:moveTo>
                      <a:pt x="111" y="195"/>
                    </a:moveTo>
                    <a:lnTo>
                      <a:pt x="143" y="200"/>
                    </a:lnTo>
                    <a:lnTo>
                      <a:pt x="172" y="207"/>
                    </a:lnTo>
                    <a:lnTo>
                      <a:pt x="197" y="212"/>
                    </a:lnTo>
                    <a:lnTo>
                      <a:pt x="219" y="217"/>
                    </a:lnTo>
                    <a:lnTo>
                      <a:pt x="237" y="222"/>
                    </a:lnTo>
                    <a:lnTo>
                      <a:pt x="252" y="227"/>
                    </a:lnTo>
                    <a:lnTo>
                      <a:pt x="264" y="231"/>
                    </a:lnTo>
                    <a:lnTo>
                      <a:pt x="271" y="235"/>
                    </a:lnTo>
                    <a:lnTo>
                      <a:pt x="273" y="242"/>
                    </a:lnTo>
                    <a:lnTo>
                      <a:pt x="275" y="250"/>
                    </a:lnTo>
                    <a:lnTo>
                      <a:pt x="276" y="261"/>
                    </a:lnTo>
                    <a:lnTo>
                      <a:pt x="277" y="272"/>
                    </a:lnTo>
                    <a:lnTo>
                      <a:pt x="277" y="300"/>
                    </a:lnTo>
                    <a:lnTo>
                      <a:pt x="276" y="335"/>
                    </a:lnTo>
                    <a:lnTo>
                      <a:pt x="274" y="341"/>
                    </a:lnTo>
                    <a:lnTo>
                      <a:pt x="272" y="346"/>
                    </a:lnTo>
                    <a:lnTo>
                      <a:pt x="269" y="351"/>
                    </a:lnTo>
                    <a:lnTo>
                      <a:pt x="265" y="352"/>
                    </a:lnTo>
                    <a:lnTo>
                      <a:pt x="260" y="353"/>
                    </a:lnTo>
                    <a:lnTo>
                      <a:pt x="255" y="352"/>
                    </a:lnTo>
                    <a:lnTo>
                      <a:pt x="249" y="349"/>
                    </a:lnTo>
                    <a:lnTo>
                      <a:pt x="241" y="344"/>
                    </a:lnTo>
                    <a:lnTo>
                      <a:pt x="227" y="336"/>
                    </a:lnTo>
                    <a:lnTo>
                      <a:pt x="212" y="325"/>
                    </a:lnTo>
                    <a:lnTo>
                      <a:pt x="196" y="313"/>
                    </a:lnTo>
                    <a:lnTo>
                      <a:pt x="179" y="299"/>
                    </a:lnTo>
                    <a:lnTo>
                      <a:pt x="161" y="282"/>
                    </a:lnTo>
                    <a:lnTo>
                      <a:pt x="142" y="263"/>
                    </a:lnTo>
                    <a:lnTo>
                      <a:pt x="122" y="243"/>
                    </a:lnTo>
                    <a:lnTo>
                      <a:pt x="102" y="219"/>
                    </a:lnTo>
                    <a:lnTo>
                      <a:pt x="97" y="213"/>
                    </a:lnTo>
                    <a:lnTo>
                      <a:pt x="94" y="207"/>
                    </a:lnTo>
                    <a:lnTo>
                      <a:pt x="92" y="202"/>
                    </a:lnTo>
                    <a:lnTo>
                      <a:pt x="91" y="200"/>
                    </a:lnTo>
                    <a:lnTo>
                      <a:pt x="93" y="197"/>
                    </a:lnTo>
                    <a:lnTo>
                      <a:pt x="94" y="196"/>
                    </a:lnTo>
                    <a:lnTo>
                      <a:pt x="96" y="194"/>
                    </a:lnTo>
                    <a:lnTo>
                      <a:pt x="98" y="193"/>
                    </a:lnTo>
                    <a:lnTo>
                      <a:pt x="105" y="193"/>
                    </a:lnTo>
                    <a:lnTo>
                      <a:pt x="111" y="195"/>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422" name="Freeform 20"/>
              <p:cNvSpPr/>
              <p:nvPr/>
            </p:nvSpPr>
            <p:spPr>
              <a:xfrm>
                <a:off x="3856680" y="1105920"/>
                <a:ext cx="166680" cy="154080"/>
              </a:xfrm>
              <a:custGeom>
                <a:avLst/>
                <a:gdLst>
                  <a:gd name="textAreaLeft" fmla="*/ 0 w 166680"/>
                  <a:gd name="textAreaRight" fmla="*/ 167040 w 166680"/>
                  <a:gd name="textAreaTop" fmla="*/ 0 h 154080"/>
                  <a:gd name="textAreaBottom" fmla="*/ 154440 h 154080"/>
                </a:gdLst>
                <a:ahLst/>
                <a:rect l="textAreaLeft" t="textAreaTop" r="textAreaRight" b="textAreaBottom"/>
                <a:pathLst>
                  <a:path w="1116" h="1113">
                    <a:moveTo>
                      <a:pt x="706" y="0"/>
                    </a:moveTo>
                    <a:lnTo>
                      <a:pt x="715" y="10"/>
                    </a:lnTo>
                    <a:lnTo>
                      <a:pt x="727" y="18"/>
                    </a:lnTo>
                    <a:lnTo>
                      <a:pt x="740" y="27"/>
                    </a:lnTo>
                    <a:lnTo>
                      <a:pt x="754" y="34"/>
                    </a:lnTo>
                    <a:lnTo>
                      <a:pt x="771" y="42"/>
                    </a:lnTo>
                    <a:lnTo>
                      <a:pt x="789" y="50"/>
                    </a:lnTo>
                    <a:lnTo>
                      <a:pt x="809" y="58"/>
                    </a:lnTo>
                    <a:lnTo>
                      <a:pt x="831" y="66"/>
                    </a:lnTo>
                    <a:lnTo>
                      <a:pt x="821" y="72"/>
                    </a:lnTo>
                    <a:lnTo>
                      <a:pt x="812" y="82"/>
                    </a:lnTo>
                    <a:lnTo>
                      <a:pt x="801" y="91"/>
                    </a:lnTo>
                    <a:lnTo>
                      <a:pt x="793" y="103"/>
                    </a:lnTo>
                    <a:lnTo>
                      <a:pt x="783" y="117"/>
                    </a:lnTo>
                    <a:lnTo>
                      <a:pt x="773" y="131"/>
                    </a:lnTo>
                    <a:lnTo>
                      <a:pt x="765" y="147"/>
                    </a:lnTo>
                    <a:lnTo>
                      <a:pt x="755" y="165"/>
                    </a:lnTo>
                    <a:lnTo>
                      <a:pt x="742" y="193"/>
                    </a:lnTo>
                    <a:lnTo>
                      <a:pt x="725" y="225"/>
                    </a:lnTo>
                    <a:lnTo>
                      <a:pt x="705" y="261"/>
                    </a:lnTo>
                    <a:lnTo>
                      <a:pt x="680" y="301"/>
                    </a:lnTo>
                    <a:lnTo>
                      <a:pt x="672" y="313"/>
                    </a:lnTo>
                    <a:lnTo>
                      <a:pt x="664" y="322"/>
                    </a:lnTo>
                    <a:lnTo>
                      <a:pt x="659" y="330"/>
                    </a:lnTo>
                    <a:lnTo>
                      <a:pt x="656" y="336"/>
                    </a:lnTo>
                    <a:lnTo>
                      <a:pt x="710" y="332"/>
                    </a:lnTo>
                    <a:lnTo>
                      <a:pt x="760" y="326"/>
                    </a:lnTo>
                    <a:lnTo>
                      <a:pt x="805" y="320"/>
                    </a:lnTo>
                    <a:lnTo>
                      <a:pt x="847" y="312"/>
                    </a:lnTo>
                    <a:lnTo>
                      <a:pt x="867" y="307"/>
                    </a:lnTo>
                    <a:lnTo>
                      <a:pt x="885" y="303"/>
                    </a:lnTo>
                    <a:lnTo>
                      <a:pt x="902" y="299"/>
                    </a:lnTo>
                    <a:lnTo>
                      <a:pt x="918" y="294"/>
                    </a:lnTo>
                    <a:lnTo>
                      <a:pt x="932" y="288"/>
                    </a:lnTo>
                    <a:lnTo>
                      <a:pt x="946" y="283"/>
                    </a:lnTo>
                    <a:lnTo>
                      <a:pt x="959" y="277"/>
                    </a:lnTo>
                    <a:lnTo>
                      <a:pt x="970" y="270"/>
                    </a:lnTo>
                    <a:lnTo>
                      <a:pt x="985" y="285"/>
                    </a:lnTo>
                    <a:lnTo>
                      <a:pt x="1000" y="297"/>
                    </a:lnTo>
                    <a:lnTo>
                      <a:pt x="1017" y="308"/>
                    </a:lnTo>
                    <a:lnTo>
                      <a:pt x="1035" y="317"/>
                    </a:lnTo>
                    <a:lnTo>
                      <a:pt x="1053" y="324"/>
                    </a:lnTo>
                    <a:lnTo>
                      <a:pt x="1073" y="330"/>
                    </a:lnTo>
                    <a:lnTo>
                      <a:pt x="1094" y="334"/>
                    </a:lnTo>
                    <a:lnTo>
                      <a:pt x="1116" y="336"/>
                    </a:lnTo>
                    <a:lnTo>
                      <a:pt x="1110" y="343"/>
                    </a:lnTo>
                    <a:lnTo>
                      <a:pt x="1104" y="352"/>
                    </a:lnTo>
                    <a:lnTo>
                      <a:pt x="1099" y="361"/>
                    </a:lnTo>
                    <a:lnTo>
                      <a:pt x="1093" y="372"/>
                    </a:lnTo>
                    <a:lnTo>
                      <a:pt x="1089" y="385"/>
                    </a:lnTo>
                    <a:lnTo>
                      <a:pt x="1085" y="397"/>
                    </a:lnTo>
                    <a:lnTo>
                      <a:pt x="1081" y="411"/>
                    </a:lnTo>
                    <a:lnTo>
                      <a:pt x="1077" y="427"/>
                    </a:lnTo>
                    <a:lnTo>
                      <a:pt x="1071" y="461"/>
                    </a:lnTo>
                    <a:lnTo>
                      <a:pt x="1066" y="500"/>
                    </a:lnTo>
                    <a:lnTo>
                      <a:pt x="1063" y="543"/>
                    </a:lnTo>
                    <a:lnTo>
                      <a:pt x="1061" y="591"/>
                    </a:lnTo>
                    <a:lnTo>
                      <a:pt x="1059" y="609"/>
                    </a:lnTo>
                    <a:lnTo>
                      <a:pt x="1058" y="631"/>
                    </a:lnTo>
                    <a:lnTo>
                      <a:pt x="1057" y="653"/>
                    </a:lnTo>
                    <a:lnTo>
                      <a:pt x="1056" y="678"/>
                    </a:lnTo>
                    <a:lnTo>
                      <a:pt x="1054" y="706"/>
                    </a:lnTo>
                    <a:lnTo>
                      <a:pt x="1053" y="735"/>
                    </a:lnTo>
                    <a:lnTo>
                      <a:pt x="1052" y="767"/>
                    </a:lnTo>
                    <a:lnTo>
                      <a:pt x="1051" y="801"/>
                    </a:lnTo>
                    <a:lnTo>
                      <a:pt x="1047" y="879"/>
                    </a:lnTo>
                    <a:lnTo>
                      <a:pt x="1044" y="944"/>
                    </a:lnTo>
                    <a:lnTo>
                      <a:pt x="1039" y="999"/>
                    </a:lnTo>
                    <a:lnTo>
                      <a:pt x="1036" y="1044"/>
                    </a:lnTo>
                    <a:lnTo>
                      <a:pt x="1032" y="1077"/>
                    </a:lnTo>
                    <a:lnTo>
                      <a:pt x="1029" y="1099"/>
                    </a:lnTo>
                    <a:lnTo>
                      <a:pt x="1027" y="1106"/>
                    </a:lnTo>
                    <a:lnTo>
                      <a:pt x="1024" y="1111"/>
                    </a:lnTo>
                    <a:lnTo>
                      <a:pt x="1023" y="1112"/>
                    </a:lnTo>
                    <a:lnTo>
                      <a:pt x="1022" y="1113"/>
                    </a:lnTo>
                    <a:lnTo>
                      <a:pt x="1021" y="1113"/>
                    </a:lnTo>
                    <a:lnTo>
                      <a:pt x="1021" y="1112"/>
                    </a:lnTo>
                    <a:lnTo>
                      <a:pt x="1011" y="1111"/>
                    </a:lnTo>
                    <a:lnTo>
                      <a:pt x="1001" y="1110"/>
                    </a:lnTo>
                    <a:lnTo>
                      <a:pt x="990" y="1106"/>
                    </a:lnTo>
                    <a:lnTo>
                      <a:pt x="978" y="1103"/>
                    </a:lnTo>
                    <a:lnTo>
                      <a:pt x="965" y="1099"/>
                    </a:lnTo>
                    <a:lnTo>
                      <a:pt x="951" y="1093"/>
                    </a:lnTo>
                    <a:lnTo>
                      <a:pt x="938" y="1086"/>
                    </a:lnTo>
                    <a:lnTo>
                      <a:pt x="924" y="1079"/>
                    </a:lnTo>
                    <a:lnTo>
                      <a:pt x="892" y="1061"/>
                    </a:lnTo>
                    <a:lnTo>
                      <a:pt x="858" y="1039"/>
                    </a:lnTo>
                    <a:lnTo>
                      <a:pt x="821" y="1012"/>
                    </a:lnTo>
                    <a:lnTo>
                      <a:pt x="781" y="981"/>
                    </a:lnTo>
                    <a:lnTo>
                      <a:pt x="775" y="972"/>
                    </a:lnTo>
                    <a:lnTo>
                      <a:pt x="769" y="965"/>
                    </a:lnTo>
                    <a:lnTo>
                      <a:pt x="767" y="960"/>
                    </a:lnTo>
                    <a:lnTo>
                      <a:pt x="766" y="956"/>
                    </a:lnTo>
                    <a:lnTo>
                      <a:pt x="767" y="954"/>
                    </a:lnTo>
                    <a:lnTo>
                      <a:pt x="769" y="952"/>
                    </a:lnTo>
                    <a:lnTo>
                      <a:pt x="772" y="951"/>
                    </a:lnTo>
                    <a:lnTo>
                      <a:pt x="776" y="950"/>
                    </a:lnTo>
                    <a:lnTo>
                      <a:pt x="784" y="950"/>
                    </a:lnTo>
                    <a:lnTo>
                      <a:pt x="796" y="952"/>
                    </a:lnTo>
                    <a:lnTo>
                      <a:pt x="818" y="954"/>
                    </a:lnTo>
                    <a:lnTo>
                      <a:pt x="843" y="955"/>
                    </a:lnTo>
                    <a:lnTo>
                      <a:pt x="873" y="956"/>
                    </a:lnTo>
                    <a:lnTo>
                      <a:pt x="906" y="956"/>
                    </a:lnTo>
                    <a:lnTo>
                      <a:pt x="914" y="955"/>
                    </a:lnTo>
                    <a:lnTo>
                      <a:pt x="921" y="952"/>
                    </a:lnTo>
                    <a:lnTo>
                      <a:pt x="927" y="948"/>
                    </a:lnTo>
                    <a:lnTo>
                      <a:pt x="932" y="944"/>
                    </a:lnTo>
                    <a:lnTo>
                      <a:pt x="936" y="938"/>
                    </a:lnTo>
                    <a:lnTo>
                      <a:pt x="939" y="932"/>
                    </a:lnTo>
                    <a:lnTo>
                      <a:pt x="940" y="924"/>
                    </a:lnTo>
                    <a:lnTo>
                      <a:pt x="941" y="917"/>
                    </a:lnTo>
                    <a:lnTo>
                      <a:pt x="943" y="891"/>
                    </a:lnTo>
                    <a:lnTo>
                      <a:pt x="946" y="859"/>
                    </a:lnTo>
                    <a:lnTo>
                      <a:pt x="949" y="820"/>
                    </a:lnTo>
                    <a:lnTo>
                      <a:pt x="952" y="774"/>
                    </a:lnTo>
                    <a:lnTo>
                      <a:pt x="956" y="720"/>
                    </a:lnTo>
                    <a:lnTo>
                      <a:pt x="959" y="659"/>
                    </a:lnTo>
                    <a:lnTo>
                      <a:pt x="962" y="591"/>
                    </a:lnTo>
                    <a:lnTo>
                      <a:pt x="966" y="516"/>
                    </a:lnTo>
                    <a:lnTo>
                      <a:pt x="968" y="469"/>
                    </a:lnTo>
                    <a:lnTo>
                      <a:pt x="970" y="429"/>
                    </a:lnTo>
                    <a:lnTo>
                      <a:pt x="974" y="396"/>
                    </a:lnTo>
                    <a:lnTo>
                      <a:pt x="976" y="371"/>
                    </a:lnTo>
                    <a:lnTo>
                      <a:pt x="977" y="366"/>
                    </a:lnTo>
                    <a:lnTo>
                      <a:pt x="977" y="362"/>
                    </a:lnTo>
                    <a:lnTo>
                      <a:pt x="976" y="359"/>
                    </a:lnTo>
                    <a:lnTo>
                      <a:pt x="975" y="357"/>
                    </a:lnTo>
                    <a:lnTo>
                      <a:pt x="973" y="355"/>
                    </a:lnTo>
                    <a:lnTo>
                      <a:pt x="969" y="355"/>
                    </a:lnTo>
                    <a:lnTo>
                      <a:pt x="965" y="355"/>
                    </a:lnTo>
                    <a:lnTo>
                      <a:pt x="961" y="356"/>
                    </a:lnTo>
                    <a:lnTo>
                      <a:pt x="932" y="358"/>
                    </a:lnTo>
                    <a:lnTo>
                      <a:pt x="903" y="362"/>
                    </a:lnTo>
                    <a:lnTo>
                      <a:pt x="871" y="367"/>
                    </a:lnTo>
                    <a:lnTo>
                      <a:pt x="838" y="372"/>
                    </a:lnTo>
                    <a:lnTo>
                      <a:pt x="804" y="378"/>
                    </a:lnTo>
                    <a:lnTo>
                      <a:pt x="767" y="385"/>
                    </a:lnTo>
                    <a:lnTo>
                      <a:pt x="730" y="392"/>
                    </a:lnTo>
                    <a:lnTo>
                      <a:pt x="691" y="401"/>
                    </a:lnTo>
                    <a:lnTo>
                      <a:pt x="682" y="394"/>
                    </a:lnTo>
                    <a:lnTo>
                      <a:pt x="671" y="385"/>
                    </a:lnTo>
                    <a:lnTo>
                      <a:pt x="657" y="372"/>
                    </a:lnTo>
                    <a:lnTo>
                      <a:pt x="641" y="356"/>
                    </a:lnTo>
                    <a:lnTo>
                      <a:pt x="626" y="375"/>
                    </a:lnTo>
                    <a:lnTo>
                      <a:pt x="609" y="397"/>
                    </a:lnTo>
                    <a:lnTo>
                      <a:pt x="589" y="423"/>
                    </a:lnTo>
                    <a:lnTo>
                      <a:pt x="566" y="450"/>
                    </a:lnTo>
                    <a:lnTo>
                      <a:pt x="562" y="458"/>
                    </a:lnTo>
                    <a:lnTo>
                      <a:pt x="561" y="461"/>
                    </a:lnTo>
                    <a:lnTo>
                      <a:pt x="553" y="468"/>
                    </a:lnTo>
                    <a:lnTo>
                      <a:pt x="546" y="475"/>
                    </a:lnTo>
                    <a:lnTo>
                      <a:pt x="537" y="480"/>
                    </a:lnTo>
                    <a:lnTo>
                      <a:pt x="530" y="485"/>
                    </a:lnTo>
                    <a:lnTo>
                      <a:pt x="521" y="491"/>
                    </a:lnTo>
                    <a:lnTo>
                      <a:pt x="513" y="495"/>
                    </a:lnTo>
                    <a:lnTo>
                      <a:pt x="504" y="498"/>
                    </a:lnTo>
                    <a:lnTo>
                      <a:pt x="496" y="500"/>
                    </a:lnTo>
                    <a:lnTo>
                      <a:pt x="511" y="504"/>
                    </a:lnTo>
                    <a:lnTo>
                      <a:pt x="526" y="509"/>
                    </a:lnTo>
                    <a:lnTo>
                      <a:pt x="540" y="514"/>
                    </a:lnTo>
                    <a:lnTo>
                      <a:pt x="556" y="520"/>
                    </a:lnTo>
                    <a:lnTo>
                      <a:pt x="585" y="516"/>
                    </a:lnTo>
                    <a:lnTo>
                      <a:pt x="610" y="510"/>
                    </a:lnTo>
                    <a:lnTo>
                      <a:pt x="635" y="504"/>
                    </a:lnTo>
                    <a:lnTo>
                      <a:pt x="656" y="498"/>
                    </a:lnTo>
                    <a:lnTo>
                      <a:pt x="675" y="492"/>
                    </a:lnTo>
                    <a:lnTo>
                      <a:pt x="691" y="485"/>
                    </a:lnTo>
                    <a:lnTo>
                      <a:pt x="705" y="478"/>
                    </a:lnTo>
                    <a:lnTo>
                      <a:pt x="716" y="471"/>
                    </a:lnTo>
                    <a:lnTo>
                      <a:pt x="730" y="481"/>
                    </a:lnTo>
                    <a:lnTo>
                      <a:pt x="744" y="491"/>
                    </a:lnTo>
                    <a:lnTo>
                      <a:pt x="759" y="499"/>
                    </a:lnTo>
                    <a:lnTo>
                      <a:pt x="775" y="507"/>
                    </a:lnTo>
                    <a:lnTo>
                      <a:pt x="790" y="513"/>
                    </a:lnTo>
                    <a:lnTo>
                      <a:pt x="806" y="518"/>
                    </a:lnTo>
                    <a:lnTo>
                      <a:pt x="823" y="522"/>
                    </a:lnTo>
                    <a:lnTo>
                      <a:pt x="840" y="526"/>
                    </a:lnTo>
                    <a:lnTo>
                      <a:pt x="835" y="537"/>
                    </a:lnTo>
                    <a:lnTo>
                      <a:pt x="830" y="549"/>
                    </a:lnTo>
                    <a:lnTo>
                      <a:pt x="825" y="562"/>
                    </a:lnTo>
                    <a:lnTo>
                      <a:pt x="822" y="574"/>
                    </a:lnTo>
                    <a:lnTo>
                      <a:pt x="819" y="588"/>
                    </a:lnTo>
                    <a:lnTo>
                      <a:pt x="817" y="602"/>
                    </a:lnTo>
                    <a:lnTo>
                      <a:pt x="816" y="616"/>
                    </a:lnTo>
                    <a:lnTo>
                      <a:pt x="816" y="631"/>
                    </a:lnTo>
                    <a:lnTo>
                      <a:pt x="815" y="650"/>
                    </a:lnTo>
                    <a:lnTo>
                      <a:pt x="814" y="670"/>
                    </a:lnTo>
                    <a:lnTo>
                      <a:pt x="813" y="691"/>
                    </a:lnTo>
                    <a:lnTo>
                      <a:pt x="812" y="712"/>
                    </a:lnTo>
                    <a:lnTo>
                      <a:pt x="812" y="734"/>
                    </a:lnTo>
                    <a:lnTo>
                      <a:pt x="812" y="758"/>
                    </a:lnTo>
                    <a:lnTo>
                      <a:pt x="811" y="781"/>
                    </a:lnTo>
                    <a:lnTo>
                      <a:pt x="811" y="806"/>
                    </a:lnTo>
                    <a:lnTo>
                      <a:pt x="808" y="832"/>
                    </a:lnTo>
                    <a:lnTo>
                      <a:pt x="807" y="855"/>
                    </a:lnTo>
                    <a:lnTo>
                      <a:pt x="806" y="874"/>
                    </a:lnTo>
                    <a:lnTo>
                      <a:pt x="805" y="891"/>
                    </a:lnTo>
                    <a:lnTo>
                      <a:pt x="805" y="898"/>
                    </a:lnTo>
                    <a:lnTo>
                      <a:pt x="804" y="904"/>
                    </a:lnTo>
                    <a:lnTo>
                      <a:pt x="803" y="908"/>
                    </a:lnTo>
                    <a:lnTo>
                      <a:pt x="801" y="911"/>
                    </a:lnTo>
                    <a:lnTo>
                      <a:pt x="796" y="912"/>
                    </a:lnTo>
                    <a:lnTo>
                      <a:pt x="790" y="912"/>
                    </a:lnTo>
                    <a:lnTo>
                      <a:pt x="786" y="910"/>
                    </a:lnTo>
                    <a:lnTo>
                      <a:pt x="781" y="906"/>
                    </a:lnTo>
                    <a:lnTo>
                      <a:pt x="775" y="902"/>
                    </a:lnTo>
                    <a:lnTo>
                      <a:pt x="768" y="897"/>
                    </a:lnTo>
                    <a:lnTo>
                      <a:pt x="762" y="890"/>
                    </a:lnTo>
                    <a:lnTo>
                      <a:pt x="754" y="884"/>
                    </a:lnTo>
                    <a:lnTo>
                      <a:pt x="741" y="867"/>
                    </a:lnTo>
                    <a:lnTo>
                      <a:pt x="726" y="846"/>
                    </a:lnTo>
                    <a:lnTo>
                      <a:pt x="711" y="847"/>
                    </a:lnTo>
                    <a:lnTo>
                      <a:pt x="693" y="848"/>
                    </a:lnTo>
                    <a:lnTo>
                      <a:pt x="672" y="849"/>
                    </a:lnTo>
                    <a:lnTo>
                      <a:pt x="645" y="851"/>
                    </a:lnTo>
                    <a:lnTo>
                      <a:pt x="620" y="851"/>
                    </a:lnTo>
                    <a:lnTo>
                      <a:pt x="599" y="852"/>
                    </a:lnTo>
                    <a:lnTo>
                      <a:pt x="580" y="854"/>
                    </a:lnTo>
                    <a:lnTo>
                      <a:pt x="566" y="856"/>
                    </a:lnTo>
                    <a:lnTo>
                      <a:pt x="566" y="891"/>
                    </a:lnTo>
                    <a:lnTo>
                      <a:pt x="566" y="901"/>
                    </a:lnTo>
                    <a:lnTo>
                      <a:pt x="565" y="907"/>
                    </a:lnTo>
                    <a:lnTo>
                      <a:pt x="563" y="912"/>
                    </a:lnTo>
                    <a:lnTo>
                      <a:pt x="561" y="917"/>
                    </a:lnTo>
                    <a:lnTo>
                      <a:pt x="557" y="918"/>
                    </a:lnTo>
                    <a:lnTo>
                      <a:pt x="554" y="918"/>
                    </a:lnTo>
                    <a:lnTo>
                      <a:pt x="550" y="916"/>
                    </a:lnTo>
                    <a:lnTo>
                      <a:pt x="546" y="911"/>
                    </a:lnTo>
                    <a:lnTo>
                      <a:pt x="525" y="894"/>
                    </a:lnTo>
                    <a:lnTo>
                      <a:pt x="507" y="879"/>
                    </a:lnTo>
                    <a:lnTo>
                      <a:pt x="492" y="865"/>
                    </a:lnTo>
                    <a:lnTo>
                      <a:pt x="481" y="851"/>
                    </a:lnTo>
                    <a:lnTo>
                      <a:pt x="483" y="848"/>
                    </a:lnTo>
                    <a:lnTo>
                      <a:pt x="485" y="844"/>
                    </a:lnTo>
                    <a:lnTo>
                      <a:pt x="487" y="837"/>
                    </a:lnTo>
                    <a:lnTo>
                      <a:pt x="490" y="830"/>
                    </a:lnTo>
                    <a:lnTo>
                      <a:pt x="493" y="810"/>
                    </a:lnTo>
                    <a:lnTo>
                      <a:pt x="496" y="785"/>
                    </a:lnTo>
                    <a:lnTo>
                      <a:pt x="498" y="753"/>
                    </a:lnTo>
                    <a:lnTo>
                      <a:pt x="499" y="717"/>
                    </a:lnTo>
                    <a:lnTo>
                      <a:pt x="500" y="674"/>
                    </a:lnTo>
                    <a:lnTo>
                      <a:pt x="501" y="626"/>
                    </a:lnTo>
                    <a:lnTo>
                      <a:pt x="499" y="614"/>
                    </a:lnTo>
                    <a:lnTo>
                      <a:pt x="496" y="596"/>
                    </a:lnTo>
                    <a:lnTo>
                      <a:pt x="495" y="581"/>
                    </a:lnTo>
                    <a:lnTo>
                      <a:pt x="495" y="566"/>
                    </a:lnTo>
                    <a:lnTo>
                      <a:pt x="494" y="553"/>
                    </a:lnTo>
                    <a:lnTo>
                      <a:pt x="492" y="540"/>
                    </a:lnTo>
                    <a:lnTo>
                      <a:pt x="490" y="530"/>
                    </a:lnTo>
                    <a:lnTo>
                      <a:pt x="487" y="521"/>
                    </a:lnTo>
                    <a:lnTo>
                      <a:pt x="484" y="513"/>
                    </a:lnTo>
                    <a:lnTo>
                      <a:pt x="481" y="506"/>
                    </a:lnTo>
                    <a:lnTo>
                      <a:pt x="472" y="506"/>
                    </a:lnTo>
                    <a:lnTo>
                      <a:pt x="462" y="504"/>
                    </a:lnTo>
                    <a:lnTo>
                      <a:pt x="453" y="503"/>
                    </a:lnTo>
                    <a:lnTo>
                      <a:pt x="442" y="501"/>
                    </a:lnTo>
                    <a:lnTo>
                      <a:pt x="420" y="495"/>
                    </a:lnTo>
                    <a:lnTo>
                      <a:pt x="395" y="485"/>
                    </a:lnTo>
                    <a:lnTo>
                      <a:pt x="417" y="471"/>
                    </a:lnTo>
                    <a:lnTo>
                      <a:pt x="438" y="454"/>
                    </a:lnTo>
                    <a:lnTo>
                      <a:pt x="458" y="437"/>
                    </a:lnTo>
                    <a:lnTo>
                      <a:pt x="477" y="419"/>
                    </a:lnTo>
                    <a:lnTo>
                      <a:pt x="496" y="400"/>
                    </a:lnTo>
                    <a:lnTo>
                      <a:pt x="515" y="380"/>
                    </a:lnTo>
                    <a:lnTo>
                      <a:pt x="533" y="359"/>
                    </a:lnTo>
                    <a:lnTo>
                      <a:pt x="551" y="338"/>
                    </a:lnTo>
                    <a:lnTo>
                      <a:pt x="568" y="316"/>
                    </a:lnTo>
                    <a:lnTo>
                      <a:pt x="585" y="292"/>
                    </a:lnTo>
                    <a:lnTo>
                      <a:pt x="601" y="269"/>
                    </a:lnTo>
                    <a:lnTo>
                      <a:pt x="617" y="244"/>
                    </a:lnTo>
                    <a:lnTo>
                      <a:pt x="633" y="218"/>
                    </a:lnTo>
                    <a:lnTo>
                      <a:pt x="647" y="192"/>
                    </a:lnTo>
                    <a:lnTo>
                      <a:pt x="662" y="164"/>
                    </a:lnTo>
                    <a:lnTo>
                      <a:pt x="676" y="136"/>
                    </a:lnTo>
                    <a:lnTo>
                      <a:pt x="683" y="116"/>
                    </a:lnTo>
                    <a:lnTo>
                      <a:pt x="691" y="98"/>
                    </a:lnTo>
                    <a:lnTo>
                      <a:pt x="696" y="79"/>
                    </a:lnTo>
                    <a:lnTo>
                      <a:pt x="700" y="61"/>
                    </a:lnTo>
                    <a:lnTo>
                      <a:pt x="704" y="46"/>
                    </a:lnTo>
                    <a:lnTo>
                      <a:pt x="706" y="30"/>
                    </a:lnTo>
                    <a:lnTo>
                      <a:pt x="707" y="15"/>
                    </a:lnTo>
                    <a:lnTo>
                      <a:pt x="706" y="0"/>
                    </a:lnTo>
                    <a:close/>
                    <a:moveTo>
                      <a:pt x="320" y="571"/>
                    </a:moveTo>
                    <a:lnTo>
                      <a:pt x="320" y="583"/>
                    </a:lnTo>
                    <a:lnTo>
                      <a:pt x="319" y="600"/>
                    </a:lnTo>
                    <a:lnTo>
                      <a:pt x="318" y="621"/>
                    </a:lnTo>
                    <a:lnTo>
                      <a:pt x="316" y="645"/>
                    </a:lnTo>
                    <a:lnTo>
                      <a:pt x="312" y="679"/>
                    </a:lnTo>
                    <a:lnTo>
                      <a:pt x="308" y="710"/>
                    </a:lnTo>
                    <a:lnTo>
                      <a:pt x="305" y="739"/>
                    </a:lnTo>
                    <a:lnTo>
                      <a:pt x="303" y="764"/>
                    </a:lnTo>
                    <a:lnTo>
                      <a:pt x="301" y="786"/>
                    </a:lnTo>
                    <a:lnTo>
                      <a:pt x="299" y="805"/>
                    </a:lnTo>
                    <a:lnTo>
                      <a:pt x="297" y="822"/>
                    </a:lnTo>
                    <a:lnTo>
                      <a:pt x="296" y="836"/>
                    </a:lnTo>
                    <a:lnTo>
                      <a:pt x="310" y="828"/>
                    </a:lnTo>
                    <a:lnTo>
                      <a:pt x="329" y="818"/>
                    </a:lnTo>
                    <a:lnTo>
                      <a:pt x="350" y="808"/>
                    </a:lnTo>
                    <a:lnTo>
                      <a:pt x="375" y="796"/>
                    </a:lnTo>
                    <a:lnTo>
                      <a:pt x="388" y="790"/>
                    </a:lnTo>
                    <a:lnTo>
                      <a:pt x="399" y="783"/>
                    </a:lnTo>
                    <a:lnTo>
                      <a:pt x="407" y="779"/>
                    </a:lnTo>
                    <a:lnTo>
                      <a:pt x="415" y="776"/>
                    </a:lnTo>
                    <a:lnTo>
                      <a:pt x="425" y="771"/>
                    </a:lnTo>
                    <a:lnTo>
                      <a:pt x="433" y="768"/>
                    </a:lnTo>
                    <a:lnTo>
                      <a:pt x="441" y="765"/>
                    </a:lnTo>
                    <a:lnTo>
                      <a:pt x="448" y="763"/>
                    </a:lnTo>
                    <a:lnTo>
                      <a:pt x="454" y="763"/>
                    </a:lnTo>
                    <a:lnTo>
                      <a:pt x="459" y="763"/>
                    </a:lnTo>
                    <a:lnTo>
                      <a:pt x="463" y="764"/>
                    </a:lnTo>
                    <a:lnTo>
                      <a:pt x="466" y="766"/>
                    </a:lnTo>
                    <a:lnTo>
                      <a:pt x="466" y="770"/>
                    </a:lnTo>
                    <a:lnTo>
                      <a:pt x="466" y="775"/>
                    </a:lnTo>
                    <a:lnTo>
                      <a:pt x="464" y="780"/>
                    </a:lnTo>
                    <a:lnTo>
                      <a:pt x="462" y="785"/>
                    </a:lnTo>
                    <a:lnTo>
                      <a:pt x="458" y="791"/>
                    </a:lnTo>
                    <a:lnTo>
                      <a:pt x="454" y="797"/>
                    </a:lnTo>
                    <a:lnTo>
                      <a:pt x="447" y="804"/>
                    </a:lnTo>
                    <a:lnTo>
                      <a:pt x="441" y="811"/>
                    </a:lnTo>
                    <a:lnTo>
                      <a:pt x="411" y="837"/>
                    </a:lnTo>
                    <a:lnTo>
                      <a:pt x="383" y="864"/>
                    </a:lnTo>
                    <a:lnTo>
                      <a:pt x="355" y="890"/>
                    </a:lnTo>
                    <a:lnTo>
                      <a:pt x="328" y="917"/>
                    </a:lnTo>
                    <a:lnTo>
                      <a:pt x="302" y="942"/>
                    </a:lnTo>
                    <a:lnTo>
                      <a:pt x="278" y="969"/>
                    </a:lnTo>
                    <a:lnTo>
                      <a:pt x="253" y="995"/>
                    </a:lnTo>
                    <a:lnTo>
                      <a:pt x="230" y="1022"/>
                    </a:lnTo>
                    <a:lnTo>
                      <a:pt x="224" y="1004"/>
                    </a:lnTo>
                    <a:lnTo>
                      <a:pt x="216" y="986"/>
                    </a:lnTo>
                    <a:lnTo>
                      <a:pt x="208" y="970"/>
                    </a:lnTo>
                    <a:lnTo>
                      <a:pt x="199" y="955"/>
                    </a:lnTo>
                    <a:lnTo>
                      <a:pt x="190" y="941"/>
                    </a:lnTo>
                    <a:lnTo>
                      <a:pt x="179" y="928"/>
                    </a:lnTo>
                    <a:lnTo>
                      <a:pt x="168" y="917"/>
                    </a:lnTo>
                    <a:lnTo>
                      <a:pt x="156" y="906"/>
                    </a:lnTo>
                    <a:lnTo>
                      <a:pt x="170" y="894"/>
                    </a:lnTo>
                    <a:lnTo>
                      <a:pt x="182" y="882"/>
                    </a:lnTo>
                    <a:lnTo>
                      <a:pt x="193" y="868"/>
                    </a:lnTo>
                    <a:lnTo>
                      <a:pt x="203" y="852"/>
                    </a:lnTo>
                    <a:lnTo>
                      <a:pt x="211" y="836"/>
                    </a:lnTo>
                    <a:lnTo>
                      <a:pt x="217" y="819"/>
                    </a:lnTo>
                    <a:lnTo>
                      <a:pt x="223" y="800"/>
                    </a:lnTo>
                    <a:lnTo>
                      <a:pt x="226" y="781"/>
                    </a:lnTo>
                    <a:lnTo>
                      <a:pt x="231" y="721"/>
                    </a:lnTo>
                    <a:lnTo>
                      <a:pt x="236" y="667"/>
                    </a:lnTo>
                    <a:lnTo>
                      <a:pt x="241" y="617"/>
                    </a:lnTo>
                    <a:lnTo>
                      <a:pt x="244" y="572"/>
                    </a:lnTo>
                    <a:lnTo>
                      <a:pt x="247" y="533"/>
                    </a:lnTo>
                    <a:lnTo>
                      <a:pt x="249" y="499"/>
                    </a:lnTo>
                    <a:lnTo>
                      <a:pt x="250" y="469"/>
                    </a:lnTo>
                    <a:lnTo>
                      <a:pt x="250" y="446"/>
                    </a:lnTo>
                    <a:lnTo>
                      <a:pt x="231" y="455"/>
                    </a:lnTo>
                    <a:lnTo>
                      <a:pt x="207" y="466"/>
                    </a:lnTo>
                    <a:lnTo>
                      <a:pt x="178" y="480"/>
                    </a:lnTo>
                    <a:lnTo>
                      <a:pt x="145" y="496"/>
                    </a:lnTo>
                    <a:lnTo>
                      <a:pt x="122" y="508"/>
                    </a:lnTo>
                    <a:lnTo>
                      <a:pt x="102" y="517"/>
                    </a:lnTo>
                    <a:lnTo>
                      <a:pt x="85" y="525"/>
                    </a:lnTo>
                    <a:lnTo>
                      <a:pt x="70" y="531"/>
                    </a:lnTo>
                    <a:lnTo>
                      <a:pt x="53" y="510"/>
                    </a:lnTo>
                    <a:lnTo>
                      <a:pt x="35" y="490"/>
                    </a:lnTo>
                    <a:lnTo>
                      <a:pt x="18" y="472"/>
                    </a:lnTo>
                    <a:lnTo>
                      <a:pt x="0" y="456"/>
                    </a:lnTo>
                    <a:lnTo>
                      <a:pt x="47" y="449"/>
                    </a:lnTo>
                    <a:lnTo>
                      <a:pt x="89" y="441"/>
                    </a:lnTo>
                    <a:lnTo>
                      <a:pt x="108" y="436"/>
                    </a:lnTo>
                    <a:lnTo>
                      <a:pt x="127" y="430"/>
                    </a:lnTo>
                    <a:lnTo>
                      <a:pt x="144" y="425"/>
                    </a:lnTo>
                    <a:lnTo>
                      <a:pt x="160" y="420"/>
                    </a:lnTo>
                    <a:lnTo>
                      <a:pt x="176" y="413"/>
                    </a:lnTo>
                    <a:lnTo>
                      <a:pt x="190" y="407"/>
                    </a:lnTo>
                    <a:lnTo>
                      <a:pt x="203" y="401"/>
                    </a:lnTo>
                    <a:lnTo>
                      <a:pt x="214" y="393"/>
                    </a:lnTo>
                    <a:lnTo>
                      <a:pt x="225" y="386"/>
                    </a:lnTo>
                    <a:lnTo>
                      <a:pt x="234" y="377"/>
                    </a:lnTo>
                    <a:lnTo>
                      <a:pt x="243" y="369"/>
                    </a:lnTo>
                    <a:lnTo>
                      <a:pt x="250" y="360"/>
                    </a:lnTo>
                    <a:lnTo>
                      <a:pt x="265" y="371"/>
                    </a:lnTo>
                    <a:lnTo>
                      <a:pt x="280" y="380"/>
                    </a:lnTo>
                    <a:lnTo>
                      <a:pt x="296" y="389"/>
                    </a:lnTo>
                    <a:lnTo>
                      <a:pt x="312" y="395"/>
                    </a:lnTo>
                    <a:lnTo>
                      <a:pt x="330" y="402"/>
                    </a:lnTo>
                    <a:lnTo>
                      <a:pt x="348" y="406"/>
                    </a:lnTo>
                    <a:lnTo>
                      <a:pt x="366" y="409"/>
                    </a:lnTo>
                    <a:lnTo>
                      <a:pt x="386" y="411"/>
                    </a:lnTo>
                    <a:lnTo>
                      <a:pt x="373" y="426"/>
                    </a:lnTo>
                    <a:lnTo>
                      <a:pt x="361" y="443"/>
                    </a:lnTo>
                    <a:lnTo>
                      <a:pt x="351" y="461"/>
                    </a:lnTo>
                    <a:lnTo>
                      <a:pt x="342" y="481"/>
                    </a:lnTo>
                    <a:lnTo>
                      <a:pt x="335" y="501"/>
                    </a:lnTo>
                    <a:lnTo>
                      <a:pt x="329" y="524"/>
                    </a:lnTo>
                    <a:lnTo>
                      <a:pt x="323" y="547"/>
                    </a:lnTo>
                    <a:lnTo>
                      <a:pt x="320" y="571"/>
                    </a:lnTo>
                    <a:close/>
                    <a:moveTo>
                      <a:pt x="566" y="711"/>
                    </a:moveTo>
                    <a:lnTo>
                      <a:pt x="566" y="816"/>
                    </a:lnTo>
                    <a:lnTo>
                      <a:pt x="579" y="815"/>
                    </a:lnTo>
                    <a:lnTo>
                      <a:pt x="596" y="811"/>
                    </a:lnTo>
                    <a:lnTo>
                      <a:pt x="624" y="806"/>
                    </a:lnTo>
                    <a:lnTo>
                      <a:pt x="653" y="801"/>
                    </a:lnTo>
                    <a:lnTo>
                      <a:pt x="683" y="796"/>
                    </a:lnTo>
                    <a:lnTo>
                      <a:pt x="716" y="792"/>
                    </a:lnTo>
                    <a:lnTo>
                      <a:pt x="716" y="788"/>
                    </a:lnTo>
                    <a:lnTo>
                      <a:pt x="716" y="781"/>
                    </a:lnTo>
                    <a:lnTo>
                      <a:pt x="718" y="776"/>
                    </a:lnTo>
                    <a:lnTo>
                      <a:pt x="719" y="771"/>
                    </a:lnTo>
                    <a:lnTo>
                      <a:pt x="721" y="766"/>
                    </a:lnTo>
                    <a:lnTo>
                      <a:pt x="721" y="761"/>
                    </a:lnTo>
                    <a:lnTo>
                      <a:pt x="723" y="735"/>
                    </a:lnTo>
                    <a:lnTo>
                      <a:pt x="725" y="710"/>
                    </a:lnTo>
                    <a:lnTo>
                      <a:pt x="726" y="685"/>
                    </a:lnTo>
                    <a:lnTo>
                      <a:pt x="726" y="658"/>
                    </a:lnTo>
                    <a:lnTo>
                      <a:pt x="726" y="632"/>
                    </a:lnTo>
                    <a:lnTo>
                      <a:pt x="725" y="605"/>
                    </a:lnTo>
                    <a:lnTo>
                      <a:pt x="723" y="579"/>
                    </a:lnTo>
                    <a:lnTo>
                      <a:pt x="721" y="551"/>
                    </a:lnTo>
                    <a:lnTo>
                      <a:pt x="717" y="545"/>
                    </a:lnTo>
                    <a:lnTo>
                      <a:pt x="713" y="539"/>
                    </a:lnTo>
                    <a:lnTo>
                      <a:pt x="711" y="538"/>
                    </a:lnTo>
                    <a:lnTo>
                      <a:pt x="708" y="537"/>
                    </a:lnTo>
                    <a:lnTo>
                      <a:pt x="705" y="536"/>
                    </a:lnTo>
                    <a:lnTo>
                      <a:pt x="700" y="536"/>
                    </a:lnTo>
                    <a:lnTo>
                      <a:pt x="670" y="544"/>
                    </a:lnTo>
                    <a:lnTo>
                      <a:pt x="637" y="551"/>
                    </a:lnTo>
                    <a:lnTo>
                      <a:pt x="602" y="558"/>
                    </a:lnTo>
                    <a:lnTo>
                      <a:pt x="566" y="566"/>
                    </a:lnTo>
                    <a:lnTo>
                      <a:pt x="566" y="661"/>
                    </a:lnTo>
                    <a:lnTo>
                      <a:pt x="585" y="658"/>
                    </a:lnTo>
                    <a:lnTo>
                      <a:pt x="607" y="654"/>
                    </a:lnTo>
                    <a:lnTo>
                      <a:pt x="633" y="648"/>
                    </a:lnTo>
                    <a:lnTo>
                      <a:pt x="661" y="641"/>
                    </a:lnTo>
                    <a:lnTo>
                      <a:pt x="673" y="637"/>
                    </a:lnTo>
                    <a:lnTo>
                      <a:pt x="680" y="636"/>
                    </a:lnTo>
                    <a:lnTo>
                      <a:pt x="684" y="641"/>
                    </a:lnTo>
                    <a:lnTo>
                      <a:pt x="692" y="652"/>
                    </a:lnTo>
                    <a:lnTo>
                      <a:pt x="703" y="669"/>
                    </a:lnTo>
                    <a:lnTo>
                      <a:pt x="716" y="691"/>
                    </a:lnTo>
                    <a:lnTo>
                      <a:pt x="707" y="691"/>
                    </a:lnTo>
                    <a:lnTo>
                      <a:pt x="691" y="691"/>
                    </a:lnTo>
                    <a:lnTo>
                      <a:pt x="653" y="696"/>
                    </a:lnTo>
                    <a:lnTo>
                      <a:pt x="620" y="700"/>
                    </a:lnTo>
                    <a:lnTo>
                      <a:pt x="590" y="706"/>
                    </a:lnTo>
                    <a:lnTo>
                      <a:pt x="566" y="711"/>
                    </a:lnTo>
                    <a:close/>
                    <a:moveTo>
                      <a:pt x="281" y="75"/>
                    </a:moveTo>
                    <a:lnTo>
                      <a:pt x="344" y="96"/>
                    </a:lnTo>
                    <a:lnTo>
                      <a:pt x="392" y="113"/>
                    </a:lnTo>
                    <a:lnTo>
                      <a:pt x="409" y="120"/>
                    </a:lnTo>
                    <a:lnTo>
                      <a:pt x="422" y="126"/>
                    </a:lnTo>
                    <a:lnTo>
                      <a:pt x="431" y="131"/>
                    </a:lnTo>
                    <a:lnTo>
                      <a:pt x="436" y="136"/>
                    </a:lnTo>
                    <a:lnTo>
                      <a:pt x="438" y="140"/>
                    </a:lnTo>
                    <a:lnTo>
                      <a:pt x="439" y="147"/>
                    </a:lnTo>
                    <a:lnTo>
                      <a:pt x="440" y="156"/>
                    </a:lnTo>
                    <a:lnTo>
                      <a:pt x="440" y="166"/>
                    </a:lnTo>
                    <a:lnTo>
                      <a:pt x="437" y="195"/>
                    </a:lnTo>
                    <a:lnTo>
                      <a:pt x="430" y="231"/>
                    </a:lnTo>
                    <a:lnTo>
                      <a:pt x="428" y="242"/>
                    </a:lnTo>
                    <a:lnTo>
                      <a:pt x="425" y="249"/>
                    </a:lnTo>
                    <a:lnTo>
                      <a:pt x="423" y="252"/>
                    </a:lnTo>
                    <a:lnTo>
                      <a:pt x="421" y="254"/>
                    </a:lnTo>
                    <a:lnTo>
                      <a:pt x="418" y="255"/>
                    </a:lnTo>
                    <a:lnTo>
                      <a:pt x="415" y="255"/>
                    </a:lnTo>
                    <a:lnTo>
                      <a:pt x="414" y="256"/>
                    </a:lnTo>
                    <a:lnTo>
                      <a:pt x="412" y="256"/>
                    </a:lnTo>
                    <a:lnTo>
                      <a:pt x="410" y="256"/>
                    </a:lnTo>
                    <a:lnTo>
                      <a:pt x="408" y="255"/>
                    </a:lnTo>
                    <a:lnTo>
                      <a:pt x="403" y="252"/>
                    </a:lnTo>
                    <a:lnTo>
                      <a:pt x="395" y="246"/>
                    </a:lnTo>
                    <a:lnTo>
                      <a:pt x="376" y="230"/>
                    </a:lnTo>
                    <a:lnTo>
                      <a:pt x="357" y="214"/>
                    </a:lnTo>
                    <a:lnTo>
                      <a:pt x="338" y="196"/>
                    </a:lnTo>
                    <a:lnTo>
                      <a:pt x="321" y="178"/>
                    </a:lnTo>
                    <a:lnTo>
                      <a:pt x="303" y="159"/>
                    </a:lnTo>
                    <a:lnTo>
                      <a:pt x="287" y="139"/>
                    </a:lnTo>
                    <a:lnTo>
                      <a:pt x="271" y="118"/>
                    </a:lnTo>
                    <a:lnTo>
                      <a:pt x="256" y="95"/>
                    </a:lnTo>
                    <a:lnTo>
                      <a:pt x="249" y="85"/>
                    </a:lnTo>
                    <a:lnTo>
                      <a:pt x="246" y="76"/>
                    </a:lnTo>
                    <a:lnTo>
                      <a:pt x="245" y="74"/>
                    </a:lnTo>
                    <a:lnTo>
                      <a:pt x="244" y="72"/>
                    </a:lnTo>
                    <a:lnTo>
                      <a:pt x="245" y="71"/>
                    </a:lnTo>
                    <a:lnTo>
                      <a:pt x="246" y="71"/>
                    </a:lnTo>
                    <a:lnTo>
                      <a:pt x="246" y="70"/>
                    </a:lnTo>
                    <a:lnTo>
                      <a:pt x="248" y="69"/>
                    </a:lnTo>
                    <a:lnTo>
                      <a:pt x="250" y="69"/>
                    </a:lnTo>
                    <a:lnTo>
                      <a:pt x="254" y="69"/>
                    </a:lnTo>
                    <a:lnTo>
                      <a:pt x="265" y="71"/>
                    </a:lnTo>
                    <a:lnTo>
                      <a:pt x="281" y="75"/>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423" name="Freeform 21"/>
              <p:cNvSpPr/>
              <p:nvPr/>
            </p:nvSpPr>
            <p:spPr>
              <a:xfrm>
                <a:off x="4040280" y="1103040"/>
                <a:ext cx="173880" cy="162000"/>
              </a:xfrm>
              <a:custGeom>
                <a:avLst/>
                <a:gdLst>
                  <a:gd name="textAreaLeft" fmla="*/ 0 w 173880"/>
                  <a:gd name="textAreaRight" fmla="*/ 174240 w 173880"/>
                  <a:gd name="textAreaTop" fmla="*/ 0 h 162000"/>
                  <a:gd name="textAreaBottom" fmla="*/ 162360 h 162000"/>
                </a:gdLst>
                <a:ahLst/>
                <a:rect l="textAreaLeft" t="textAreaTop" r="textAreaRight" b="textAreaBottom"/>
                <a:pathLst>
                  <a:path w="1175" h="1166">
                    <a:moveTo>
                      <a:pt x="1135" y="165"/>
                    </a:moveTo>
                    <a:lnTo>
                      <a:pt x="1149" y="186"/>
                    </a:lnTo>
                    <a:lnTo>
                      <a:pt x="1158" y="202"/>
                    </a:lnTo>
                    <a:lnTo>
                      <a:pt x="1166" y="213"/>
                    </a:lnTo>
                    <a:lnTo>
                      <a:pt x="1170" y="221"/>
                    </a:lnTo>
                    <a:lnTo>
                      <a:pt x="1173" y="227"/>
                    </a:lnTo>
                    <a:lnTo>
                      <a:pt x="1175" y="232"/>
                    </a:lnTo>
                    <a:lnTo>
                      <a:pt x="1175" y="236"/>
                    </a:lnTo>
                    <a:lnTo>
                      <a:pt x="1174" y="241"/>
                    </a:lnTo>
                    <a:lnTo>
                      <a:pt x="1171" y="244"/>
                    </a:lnTo>
                    <a:lnTo>
                      <a:pt x="1167" y="247"/>
                    </a:lnTo>
                    <a:lnTo>
                      <a:pt x="1162" y="249"/>
                    </a:lnTo>
                    <a:lnTo>
                      <a:pt x="1155" y="250"/>
                    </a:lnTo>
                    <a:lnTo>
                      <a:pt x="1095" y="251"/>
                    </a:lnTo>
                    <a:lnTo>
                      <a:pt x="1031" y="253"/>
                    </a:lnTo>
                    <a:lnTo>
                      <a:pt x="963" y="257"/>
                    </a:lnTo>
                    <a:lnTo>
                      <a:pt x="889" y="262"/>
                    </a:lnTo>
                    <a:lnTo>
                      <a:pt x="811" y="268"/>
                    </a:lnTo>
                    <a:lnTo>
                      <a:pt x="728" y="276"/>
                    </a:lnTo>
                    <a:lnTo>
                      <a:pt x="642" y="285"/>
                    </a:lnTo>
                    <a:lnTo>
                      <a:pt x="551" y="296"/>
                    </a:lnTo>
                    <a:lnTo>
                      <a:pt x="541" y="316"/>
                    </a:lnTo>
                    <a:lnTo>
                      <a:pt x="533" y="336"/>
                    </a:lnTo>
                    <a:lnTo>
                      <a:pt x="522" y="355"/>
                    </a:lnTo>
                    <a:lnTo>
                      <a:pt x="512" y="375"/>
                    </a:lnTo>
                    <a:lnTo>
                      <a:pt x="503" y="395"/>
                    </a:lnTo>
                    <a:lnTo>
                      <a:pt x="492" y="416"/>
                    </a:lnTo>
                    <a:lnTo>
                      <a:pt x="482" y="436"/>
                    </a:lnTo>
                    <a:lnTo>
                      <a:pt x="470" y="456"/>
                    </a:lnTo>
                    <a:lnTo>
                      <a:pt x="475" y="456"/>
                    </a:lnTo>
                    <a:lnTo>
                      <a:pt x="481" y="457"/>
                    </a:lnTo>
                    <a:lnTo>
                      <a:pt x="485" y="459"/>
                    </a:lnTo>
                    <a:lnTo>
                      <a:pt x="490" y="461"/>
                    </a:lnTo>
                    <a:lnTo>
                      <a:pt x="499" y="461"/>
                    </a:lnTo>
                    <a:lnTo>
                      <a:pt x="505" y="461"/>
                    </a:lnTo>
                    <a:lnTo>
                      <a:pt x="552" y="455"/>
                    </a:lnTo>
                    <a:lnTo>
                      <a:pt x="595" y="447"/>
                    </a:lnTo>
                    <a:lnTo>
                      <a:pt x="634" y="439"/>
                    </a:lnTo>
                    <a:lnTo>
                      <a:pt x="669" y="430"/>
                    </a:lnTo>
                    <a:lnTo>
                      <a:pt x="700" y="422"/>
                    </a:lnTo>
                    <a:lnTo>
                      <a:pt x="727" y="412"/>
                    </a:lnTo>
                    <a:lnTo>
                      <a:pt x="739" y="407"/>
                    </a:lnTo>
                    <a:lnTo>
                      <a:pt x="751" y="402"/>
                    </a:lnTo>
                    <a:lnTo>
                      <a:pt x="761" y="397"/>
                    </a:lnTo>
                    <a:lnTo>
                      <a:pt x="770" y="391"/>
                    </a:lnTo>
                    <a:lnTo>
                      <a:pt x="784" y="401"/>
                    </a:lnTo>
                    <a:lnTo>
                      <a:pt x="798" y="408"/>
                    </a:lnTo>
                    <a:lnTo>
                      <a:pt x="815" y="416"/>
                    </a:lnTo>
                    <a:lnTo>
                      <a:pt x="834" y="422"/>
                    </a:lnTo>
                    <a:lnTo>
                      <a:pt x="855" y="427"/>
                    </a:lnTo>
                    <a:lnTo>
                      <a:pt x="876" y="431"/>
                    </a:lnTo>
                    <a:lnTo>
                      <a:pt x="900" y="434"/>
                    </a:lnTo>
                    <a:lnTo>
                      <a:pt x="925" y="436"/>
                    </a:lnTo>
                    <a:lnTo>
                      <a:pt x="919" y="447"/>
                    </a:lnTo>
                    <a:lnTo>
                      <a:pt x="914" y="461"/>
                    </a:lnTo>
                    <a:lnTo>
                      <a:pt x="910" y="477"/>
                    </a:lnTo>
                    <a:lnTo>
                      <a:pt x="905" y="496"/>
                    </a:lnTo>
                    <a:lnTo>
                      <a:pt x="902" y="517"/>
                    </a:lnTo>
                    <a:lnTo>
                      <a:pt x="899" y="541"/>
                    </a:lnTo>
                    <a:lnTo>
                      <a:pt x="897" y="567"/>
                    </a:lnTo>
                    <a:lnTo>
                      <a:pt x="895" y="596"/>
                    </a:lnTo>
                    <a:lnTo>
                      <a:pt x="895" y="628"/>
                    </a:lnTo>
                    <a:lnTo>
                      <a:pt x="894" y="660"/>
                    </a:lnTo>
                    <a:lnTo>
                      <a:pt x="895" y="697"/>
                    </a:lnTo>
                    <a:lnTo>
                      <a:pt x="895" y="736"/>
                    </a:lnTo>
                    <a:lnTo>
                      <a:pt x="899" y="821"/>
                    </a:lnTo>
                    <a:lnTo>
                      <a:pt x="905" y="916"/>
                    </a:lnTo>
                    <a:lnTo>
                      <a:pt x="905" y="972"/>
                    </a:lnTo>
                    <a:lnTo>
                      <a:pt x="905" y="1020"/>
                    </a:lnTo>
                    <a:lnTo>
                      <a:pt x="903" y="1062"/>
                    </a:lnTo>
                    <a:lnTo>
                      <a:pt x="900" y="1096"/>
                    </a:lnTo>
                    <a:lnTo>
                      <a:pt x="898" y="1111"/>
                    </a:lnTo>
                    <a:lnTo>
                      <a:pt x="896" y="1125"/>
                    </a:lnTo>
                    <a:lnTo>
                      <a:pt x="893" y="1135"/>
                    </a:lnTo>
                    <a:lnTo>
                      <a:pt x="891" y="1145"/>
                    </a:lnTo>
                    <a:lnTo>
                      <a:pt x="887" y="1153"/>
                    </a:lnTo>
                    <a:lnTo>
                      <a:pt x="883" y="1160"/>
                    </a:lnTo>
                    <a:lnTo>
                      <a:pt x="880" y="1164"/>
                    </a:lnTo>
                    <a:lnTo>
                      <a:pt x="876" y="1166"/>
                    </a:lnTo>
                    <a:lnTo>
                      <a:pt x="867" y="1165"/>
                    </a:lnTo>
                    <a:lnTo>
                      <a:pt x="858" y="1162"/>
                    </a:lnTo>
                    <a:lnTo>
                      <a:pt x="848" y="1158"/>
                    </a:lnTo>
                    <a:lnTo>
                      <a:pt x="839" y="1154"/>
                    </a:lnTo>
                    <a:lnTo>
                      <a:pt x="816" y="1144"/>
                    </a:lnTo>
                    <a:lnTo>
                      <a:pt x="793" y="1129"/>
                    </a:lnTo>
                    <a:lnTo>
                      <a:pt x="767" y="1111"/>
                    </a:lnTo>
                    <a:lnTo>
                      <a:pt x="738" y="1090"/>
                    </a:lnTo>
                    <a:lnTo>
                      <a:pt x="707" y="1064"/>
                    </a:lnTo>
                    <a:lnTo>
                      <a:pt x="676" y="1037"/>
                    </a:lnTo>
                    <a:lnTo>
                      <a:pt x="667" y="1025"/>
                    </a:lnTo>
                    <a:lnTo>
                      <a:pt x="662" y="1016"/>
                    </a:lnTo>
                    <a:lnTo>
                      <a:pt x="660" y="1013"/>
                    </a:lnTo>
                    <a:lnTo>
                      <a:pt x="660" y="1010"/>
                    </a:lnTo>
                    <a:lnTo>
                      <a:pt x="660" y="1008"/>
                    </a:lnTo>
                    <a:lnTo>
                      <a:pt x="660" y="1006"/>
                    </a:lnTo>
                    <a:lnTo>
                      <a:pt x="661" y="1004"/>
                    </a:lnTo>
                    <a:lnTo>
                      <a:pt x="662" y="1002"/>
                    </a:lnTo>
                    <a:lnTo>
                      <a:pt x="664" y="1001"/>
                    </a:lnTo>
                    <a:lnTo>
                      <a:pt x="666" y="999"/>
                    </a:lnTo>
                    <a:lnTo>
                      <a:pt x="674" y="999"/>
                    </a:lnTo>
                    <a:lnTo>
                      <a:pt x="685" y="1002"/>
                    </a:lnTo>
                    <a:lnTo>
                      <a:pt x="713" y="1004"/>
                    </a:lnTo>
                    <a:lnTo>
                      <a:pt x="737" y="1005"/>
                    </a:lnTo>
                    <a:lnTo>
                      <a:pt x="748" y="1005"/>
                    </a:lnTo>
                    <a:lnTo>
                      <a:pt x="757" y="1004"/>
                    </a:lnTo>
                    <a:lnTo>
                      <a:pt x="766" y="1003"/>
                    </a:lnTo>
                    <a:lnTo>
                      <a:pt x="773" y="1002"/>
                    </a:lnTo>
                    <a:lnTo>
                      <a:pt x="779" y="999"/>
                    </a:lnTo>
                    <a:lnTo>
                      <a:pt x="785" y="996"/>
                    </a:lnTo>
                    <a:lnTo>
                      <a:pt x="789" y="993"/>
                    </a:lnTo>
                    <a:lnTo>
                      <a:pt x="792" y="990"/>
                    </a:lnTo>
                    <a:lnTo>
                      <a:pt x="794" y="986"/>
                    </a:lnTo>
                    <a:lnTo>
                      <a:pt x="795" y="981"/>
                    </a:lnTo>
                    <a:lnTo>
                      <a:pt x="796" y="976"/>
                    </a:lnTo>
                    <a:lnTo>
                      <a:pt x="795" y="971"/>
                    </a:lnTo>
                    <a:lnTo>
                      <a:pt x="797" y="904"/>
                    </a:lnTo>
                    <a:lnTo>
                      <a:pt x="798" y="839"/>
                    </a:lnTo>
                    <a:lnTo>
                      <a:pt x="798" y="776"/>
                    </a:lnTo>
                    <a:lnTo>
                      <a:pt x="797" y="713"/>
                    </a:lnTo>
                    <a:lnTo>
                      <a:pt x="796" y="653"/>
                    </a:lnTo>
                    <a:lnTo>
                      <a:pt x="793" y="594"/>
                    </a:lnTo>
                    <a:lnTo>
                      <a:pt x="790" y="536"/>
                    </a:lnTo>
                    <a:lnTo>
                      <a:pt x="786" y="480"/>
                    </a:lnTo>
                    <a:lnTo>
                      <a:pt x="785" y="477"/>
                    </a:lnTo>
                    <a:lnTo>
                      <a:pt x="784" y="474"/>
                    </a:lnTo>
                    <a:lnTo>
                      <a:pt x="782" y="472"/>
                    </a:lnTo>
                    <a:lnTo>
                      <a:pt x="780" y="470"/>
                    </a:lnTo>
                    <a:lnTo>
                      <a:pt x="777" y="468"/>
                    </a:lnTo>
                    <a:lnTo>
                      <a:pt x="774" y="466"/>
                    </a:lnTo>
                    <a:lnTo>
                      <a:pt x="770" y="466"/>
                    </a:lnTo>
                    <a:lnTo>
                      <a:pt x="766" y="465"/>
                    </a:lnTo>
                    <a:lnTo>
                      <a:pt x="732" y="472"/>
                    </a:lnTo>
                    <a:lnTo>
                      <a:pt x="700" y="478"/>
                    </a:lnTo>
                    <a:lnTo>
                      <a:pt x="670" y="486"/>
                    </a:lnTo>
                    <a:lnTo>
                      <a:pt x="642" y="492"/>
                    </a:lnTo>
                    <a:lnTo>
                      <a:pt x="614" y="499"/>
                    </a:lnTo>
                    <a:lnTo>
                      <a:pt x="588" y="506"/>
                    </a:lnTo>
                    <a:lnTo>
                      <a:pt x="563" y="513"/>
                    </a:lnTo>
                    <a:lnTo>
                      <a:pt x="540" y="521"/>
                    </a:lnTo>
                    <a:lnTo>
                      <a:pt x="537" y="521"/>
                    </a:lnTo>
                    <a:lnTo>
                      <a:pt x="533" y="519"/>
                    </a:lnTo>
                    <a:lnTo>
                      <a:pt x="528" y="517"/>
                    </a:lnTo>
                    <a:lnTo>
                      <a:pt x="524" y="514"/>
                    </a:lnTo>
                    <a:lnTo>
                      <a:pt x="515" y="507"/>
                    </a:lnTo>
                    <a:lnTo>
                      <a:pt x="505" y="496"/>
                    </a:lnTo>
                    <a:lnTo>
                      <a:pt x="503" y="519"/>
                    </a:lnTo>
                    <a:lnTo>
                      <a:pt x="502" y="550"/>
                    </a:lnTo>
                    <a:lnTo>
                      <a:pt x="501" y="587"/>
                    </a:lnTo>
                    <a:lnTo>
                      <a:pt x="500" y="631"/>
                    </a:lnTo>
                    <a:lnTo>
                      <a:pt x="515" y="630"/>
                    </a:lnTo>
                    <a:lnTo>
                      <a:pt x="534" y="628"/>
                    </a:lnTo>
                    <a:lnTo>
                      <a:pt x="557" y="622"/>
                    </a:lnTo>
                    <a:lnTo>
                      <a:pt x="585" y="616"/>
                    </a:lnTo>
                    <a:lnTo>
                      <a:pt x="627" y="607"/>
                    </a:lnTo>
                    <a:lnTo>
                      <a:pt x="663" y="600"/>
                    </a:lnTo>
                    <a:lnTo>
                      <a:pt x="692" y="595"/>
                    </a:lnTo>
                    <a:lnTo>
                      <a:pt x="715" y="590"/>
                    </a:lnTo>
                    <a:lnTo>
                      <a:pt x="719" y="594"/>
                    </a:lnTo>
                    <a:lnTo>
                      <a:pt x="726" y="602"/>
                    </a:lnTo>
                    <a:lnTo>
                      <a:pt x="737" y="616"/>
                    </a:lnTo>
                    <a:lnTo>
                      <a:pt x="750" y="636"/>
                    </a:lnTo>
                    <a:lnTo>
                      <a:pt x="753" y="638"/>
                    </a:lnTo>
                    <a:lnTo>
                      <a:pt x="754" y="641"/>
                    </a:lnTo>
                    <a:lnTo>
                      <a:pt x="755" y="643"/>
                    </a:lnTo>
                    <a:lnTo>
                      <a:pt x="755" y="646"/>
                    </a:lnTo>
                    <a:lnTo>
                      <a:pt x="732" y="651"/>
                    </a:lnTo>
                    <a:lnTo>
                      <a:pt x="700" y="656"/>
                    </a:lnTo>
                    <a:lnTo>
                      <a:pt x="662" y="661"/>
                    </a:lnTo>
                    <a:lnTo>
                      <a:pt x="615" y="666"/>
                    </a:lnTo>
                    <a:lnTo>
                      <a:pt x="578" y="673"/>
                    </a:lnTo>
                    <a:lnTo>
                      <a:pt x="545" y="678"/>
                    </a:lnTo>
                    <a:lnTo>
                      <a:pt x="518" y="683"/>
                    </a:lnTo>
                    <a:lnTo>
                      <a:pt x="495" y="686"/>
                    </a:lnTo>
                    <a:lnTo>
                      <a:pt x="495" y="710"/>
                    </a:lnTo>
                    <a:lnTo>
                      <a:pt x="495" y="736"/>
                    </a:lnTo>
                    <a:lnTo>
                      <a:pt x="495" y="765"/>
                    </a:lnTo>
                    <a:lnTo>
                      <a:pt x="495" y="796"/>
                    </a:lnTo>
                    <a:lnTo>
                      <a:pt x="509" y="793"/>
                    </a:lnTo>
                    <a:lnTo>
                      <a:pt x="527" y="790"/>
                    </a:lnTo>
                    <a:lnTo>
                      <a:pt x="549" y="785"/>
                    </a:lnTo>
                    <a:lnTo>
                      <a:pt x="575" y="781"/>
                    </a:lnTo>
                    <a:lnTo>
                      <a:pt x="623" y="772"/>
                    </a:lnTo>
                    <a:lnTo>
                      <a:pt x="664" y="764"/>
                    </a:lnTo>
                    <a:lnTo>
                      <a:pt x="700" y="759"/>
                    </a:lnTo>
                    <a:lnTo>
                      <a:pt x="731" y="756"/>
                    </a:lnTo>
                    <a:lnTo>
                      <a:pt x="735" y="759"/>
                    </a:lnTo>
                    <a:lnTo>
                      <a:pt x="740" y="763"/>
                    </a:lnTo>
                    <a:lnTo>
                      <a:pt x="745" y="770"/>
                    </a:lnTo>
                    <a:lnTo>
                      <a:pt x="750" y="776"/>
                    </a:lnTo>
                    <a:lnTo>
                      <a:pt x="755" y="784"/>
                    </a:lnTo>
                    <a:lnTo>
                      <a:pt x="760" y="794"/>
                    </a:lnTo>
                    <a:lnTo>
                      <a:pt x="766" y="805"/>
                    </a:lnTo>
                    <a:lnTo>
                      <a:pt x="770" y="816"/>
                    </a:lnTo>
                    <a:lnTo>
                      <a:pt x="753" y="818"/>
                    </a:lnTo>
                    <a:lnTo>
                      <a:pt x="733" y="821"/>
                    </a:lnTo>
                    <a:lnTo>
                      <a:pt x="708" y="824"/>
                    </a:lnTo>
                    <a:lnTo>
                      <a:pt x="680" y="826"/>
                    </a:lnTo>
                    <a:lnTo>
                      <a:pt x="648" y="830"/>
                    </a:lnTo>
                    <a:lnTo>
                      <a:pt x="618" y="833"/>
                    </a:lnTo>
                    <a:lnTo>
                      <a:pt x="591" y="836"/>
                    </a:lnTo>
                    <a:lnTo>
                      <a:pt x="566" y="838"/>
                    </a:lnTo>
                    <a:lnTo>
                      <a:pt x="544" y="841"/>
                    </a:lnTo>
                    <a:lnTo>
                      <a:pt x="525" y="843"/>
                    </a:lnTo>
                    <a:lnTo>
                      <a:pt x="509" y="845"/>
                    </a:lnTo>
                    <a:lnTo>
                      <a:pt x="495" y="846"/>
                    </a:lnTo>
                    <a:lnTo>
                      <a:pt x="493" y="884"/>
                    </a:lnTo>
                    <a:lnTo>
                      <a:pt x="491" y="922"/>
                    </a:lnTo>
                    <a:lnTo>
                      <a:pt x="490" y="961"/>
                    </a:lnTo>
                    <a:lnTo>
                      <a:pt x="490" y="1002"/>
                    </a:lnTo>
                    <a:lnTo>
                      <a:pt x="487" y="1027"/>
                    </a:lnTo>
                    <a:lnTo>
                      <a:pt x="485" y="1049"/>
                    </a:lnTo>
                    <a:lnTo>
                      <a:pt x="482" y="1069"/>
                    </a:lnTo>
                    <a:lnTo>
                      <a:pt x="478" y="1085"/>
                    </a:lnTo>
                    <a:lnTo>
                      <a:pt x="475" y="1098"/>
                    </a:lnTo>
                    <a:lnTo>
                      <a:pt x="472" y="1108"/>
                    </a:lnTo>
                    <a:lnTo>
                      <a:pt x="470" y="1111"/>
                    </a:lnTo>
                    <a:lnTo>
                      <a:pt x="469" y="1113"/>
                    </a:lnTo>
                    <a:lnTo>
                      <a:pt x="467" y="1115"/>
                    </a:lnTo>
                    <a:lnTo>
                      <a:pt x="465" y="1116"/>
                    </a:lnTo>
                    <a:lnTo>
                      <a:pt x="449" y="1107"/>
                    </a:lnTo>
                    <a:lnTo>
                      <a:pt x="435" y="1096"/>
                    </a:lnTo>
                    <a:lnTo>
                      <a:pt x="421" y="1085"/>
                    </a:lnTo>
                    <a:lnTo>
                      <a:pt x="409" y="1075"/>
                    </a:lnTo>
                    <a:lnTo>
                      <a:pt x="398" y="1064"/>
                    </a:lnTo>
                    <a:lnTo>
                      <a:pt x="387" y="1054"/>
                    </a:lnTo>
                    <a:lnTo>
                      <a:pt x="378" y="1043"/>
                    </a:lnTo>
                    <a:lnTo>
                      <a:pt x="370" y="1031"/>
                    </a:lnTo>
                    <a:lnTo>
                      <a:pt x="376" y="1024"/>
                    </a:lnTo>
                    <a:lnTo>
                      <a:pt x="382" y="1013"/>
                    </a:lnTo>
                    <a:lnTo>
                      <a:pt x="387" y="1001"/>
                    </a:lnTo>
                    <a:lnTo>
                      <a:pt x="393" y="986"/>
                    </a:lnTo>
                    <a:lnTo>
                      <a:pt x="397" y="968"/>
                    </a:lnTo>
                    <a:lnTo>
                      <a:pt x="401" y="948"/>
                    </a:lnTo>
                    <a:lnTo>
                      <a:pt x="405" y="924"/>
                    </a:lnTo>
                    <a:lnTo>
                      <a:pt x="409" y="899"/>
                    </a:lnTo>
                    <a:lnTo>
                      <a:pt x="412" y="870"/>
                    </a:lnTo>
                    <a:lnTo>
                      <a:pt x="415" y="839"/>
                    </a:lnTo>
                    <a:lnTo>
                      <a:pt x="417" y="807"/>
                    </a:lnTo>
                    <a:lnTo>
                      <a:pt x="420" y="771"/>
                    </a:lnTo>
                    <a:lnTo>
                      <a:pt x="423" y="691"/>
                    </a:lnTo>
                    <a:lnTo>
                      <a:pt x="426" y="601"/>
                    </a:lnTo>
                    <a:lnTo>
                      <a:pt x="426" y="593"/>
                    </a:lnTo>
                    <a:lnTo>
                      <a:pt x="426" y="576"/>
                    </a:lnTo>
                    <a:lnTo>
                      <a:pt x="423" y="564"/>
                    </a:lnTo>
                    <a:lnTo>
                      <a:pt x="421" y="554"/>
                    </a:lnTo>
                    <a:lnTo>
                      <a:pt x="420" y="547"/>
                    </a:lnTo>
                    <a:lnTo>
                      <a:pt x="420" y="541"/>
                    </a:lnTo>
                    <a:lnTo>
                      <a:pt x="398" y="572"/>
                    </a:lnTo>
                    <a:lnTo>
                      <a:pt x="377" y="603"/>
                    </a:lnTo>
                    <a:lnTo>
                      <a:pt x="354" y="633"/>
                    </a:lnTo>
                    <a:lnTo>
                      <a:pt x="330" y="664"/>
                    </a:lnTo>
                    <a:lnTo>
                      <a:pt x="306" y="693"/>
                    </a:lnTo>
                    <a:lnTo>
                      <a:pt x="281" y="723"/>
                    </a:lnTo>
                    <a:lnTo>
                      <a:pt x="256" y="753"/>
                    </a:lnTo>
                    <a:lnTo>
                      <a:pt x="230" y="781"/>
                    </a:lnTo>
                    <a:lnTo>
                      <a:pt x="216" y="795"/>
                    </a:lnTo>
                    <a:lnTo>
                      <a:pt x="202" y="808"/>
                    </a:lnTo>
                    <a:lnTo>
                      <a:pt x="188" y="819"/>
                    </a:lnTo>
                    <a:lnTo>
                      <a:pt x="175" y="829"/>
                    </a:lnTo>
                    <a:lnTo>
                      <a:pt x="161" y="837"/>
                    </a:lnTo>
                    <a:lnTo>
                      <a:pt x="146" y="845"/>
                    </a:lnTo>
                    <a:lnTo>
                      <a:pt x="132" y="850"/>
                    </a:lnTo>
                    <a:lnTo>
                      <a:pt x="117" y="853"/>
                    </a:lnTo>
                    <a:lnTo>
                      <a:pt x="102" y="856"/>
                    </a:lnTo>
                    <a:lnTo>
                      <a:pt x="89" y="856"/>
                    </a:lnTo>
                    <a:lnTo>
                      <a:pt x="74" y="856"/>
                    </a:lnTo>
                    <a:lnTo>
                      <a:pt x="59" y="854"/>
                    </a:lnTo>
                    <a:lnTo>
                      <a:pt x="44" y="851"/>
                    </a:lnTo>
                    <a:lnTo>
                      <a:pt x="29" y="846"/>
                    </a:lnTo>
                    <a:lnTo>
                      <a:pt x="15" y="839"/>
                    </a:lnTo>
                    <a:lnTo>
                      <a:pt x="0" y="831"/>
                    </a:lnTo>
                    <a:lnTo>
                      <a:pt x="36" y="807"/>
                    </a:lnTo>
                    <a:lnTo>
                      <a:pt x="72" y="780"/>
                    </a:lnTo>
                    <a:lnTo>
                      <a:pt x="106" y="754"/>
                    </a:lnTo>
                    <a:lnTo>
                      <a:pt x="138" y="725"/>
                    </a:lnTo>
                    <a:lnTo>
                      <a:pt x="170" y="696"/>
                    </a:lnTo>
                    <a:lnTo>
                      <a:pt x="201" y="667"/>
                    </a:lnTo>
                    <a:lnTo>
                      <a:pt x="232" y="635"/>
                    </a:lnTo>
                    <a:lnTo>
                      <a:pt x="260" y="603"/>
                    </a:lnTo>
                    <a:lnTo>
                      <a:pt x="288" y="570"/>
                    </a:lnTo>
                    <a:lnTo>
                      <a:pt x="314" y="536"/>
                    </a:lnTo>
                    <a:lnTo>
                      <a:pt x="340" y="501"/>
                    </a:lnTo>
                    <a:lnTo>
                      <a:pt x="364" y="465"/>
                    </a:lnTo>
                    <a:lnTo>
                      <a:pt x="387" y="428"/>
                    </a:lnTo>
                    <a:lnTo>
                      <a:pt x="410" y="390"/>
                    </a:lnTo>
                    <a:lnTo>
                      <a:pt x="430" y="351"/>
                    </a:lnTo>
                    <a:lnTo>
                      <a:pt x="450" y="311"/>
                    </a:lnTo>
                    <a:lnTo>
                      <a:pt x="415" y="316"/>
                    </a:lnTo>
                    <a:lnTo>
                      <a:pt x="380" y="321"/>
                    </a:lnTo>
                    <a:lnTo>
                      <a:pt x="344" y="328"/>
                    </a:lnTo>
                    <a:lnTo>
                      <a:pt x="309" y="333"/>
                    </a:lnTo>
                    <a:lnTo>
                      <a:pt x="273" y="339"/>
                    </a:lnTo>
                    <a:lnTo>
                      <a:pt x="237" y="347"/>
                    </a:lnTo>
                    <a:lnTo>
                      <a:pt x="201" y="353"/>
                    </a:lnTo>
                    <a:lnTo>
                      <a:pt x="165" y="360"/>
                    </a:lnTo>
                    <a:lnTo>
                      <a:pt x="147" y="347"/>
                    </a:lnTo>
                    <a:lnTo>
                      <a:pt x="129" y="331"/>
                    </a:lnTo>
                    <a:lnTo>
                      <a:pt x="110" y="312"/>
                    </a:lnTo>
                    <a:lnTo>
                      <a:pt x="90" y="291"/>
                    </a:lnTo>
                    <a:lnTo>
                      <a:pt x="86" y="286"/>
                    </a:lnTo>
                    <a:lnTo>
                      <a:pt x="83" y="282"/>
                    </a:lnTo>
                    <a:lnTo>
                      <a:pt x="83" y="279"/>
                    </a:lnTo>
                    <a:lnTo>
                      <a:pt x="86" y="276"/>
                    </a:lnTo>
                    <a:lnTo>
                      <a:pt x="86" y="274"/>
                    </a:lnTo>
                    <a:lnTo>
                      <a:pt x="88" y="271"/>
                    </a:lnTo>
                    <a:lnTo>
                      <a:pt x="91" y="271"/>
                    </a:lnTo>
                    <a:lnTo>
                      <a:pt x="95" y="270"/>
                    </a:lnTo>
                    <a:lnTo>
                      <a:pt x="140" y="268"/>
                    </a:lnTo>
                    <a:lnTo>
                      <a:pt x="185" y="264"/>
                    </a:lnTo>
                    <a:lnTo>
                      <a:pt x="232" y="260"/>
                    </a:lnTo>
                    <a:lnTo>
                      <a:pt x="280" y="255"/>
                    </a:lnTo>
                    <a:lnTo>
                      <a:pt x="329" y="248"/>
                    </a:lnTo>
                    <a:lnTo>
                      <a:pt x="380" y="242"/>
                    </a:lnTo>
                    <a:lnTo>
                      <a:pt x="432" y="234"/>
                    </a:lnTo>
                    <a:lnTo>
                      <a:pt x="485" y="226"/>
                    </a:lnTo>
                    <a:lnTo>
                      <a:pt x="489" y="216"/>
                    </a:lnTo>
                    <a:lnTo>
                      <a:pt x="490" y="211"/>
                    </a:lnTo>
                    <a:lnTo>
                      <a:pt x="504" y="175"/>
                    </a:lnTo>
                    <a:lnTo>
                      <a:pt x="516" y="141"/>
                    </a:lnTo>
                    <a:lnTo>
                      <a:pt x="524" y="110"/>
                    </a:lnTo>
                    <a:lnTo>
                      <a:pt x="531" y="83"/>
                    </a:lnTo>
                    <a:lnTo>
                      <a:pt x="536" y="58"/>
                    </a:lnTo>
                    <a:lnTo>
                      <a:pt x="538" y="36"/>
                    </a:lnTo>
                    <a:lnTo>
                      <a:pt x="538" y="26"/>
                    </a:lnTo>
                    <a:lnTo>
                      <a:pt x="538" y="17"/>
                    </a:lnTo>
                    <a:lnTo>
                      <a:pt x="537" y="9"/>
                    </a:lnTo>
                    <a:lnTo>
                      <a:pt x="535" y="0"/>
                    </a:lnTo>
                    <a:lnTo>
                      <a:pt x="548" y="9"/>
                    </a:lnTo>
                    <a:lnTo>
                      <a:pt x="562" y="17"/>
                    </a:lnTo>
                    <a:lnTo>
                      <a:pt x="578" y="23"/>
                    </a:lnTo>
                    <a:lnTo>
                      <a:pt x="595" y="31"/>
                    </a:lnTo>
                    <a:lnTo>
                      <a:pt x="613" y="36"/>
                    </a:lnTo>
                    <a:lnTo>
                      <a:pt x="632" y="42"/>
                    </a:lnTo>
                    <a:lnTo>
                      <a:pt x="653" y="47"/>
                    </a:lnTo>
                    <a:lnTo>
                      <a:pt x="676" y="50"/>
                    </a:lnTo>
                    <a:lnTo>
                      <a:pt x="665" y="61"/>
                    </a:lnTo>
                    <a:lnTo>
                      <a:pt x="654" y="74"/>
                    </a:lnTo>
                    <a:lnTo>
                      <a:pt x="643" y="90"/>
                    </a:lnTo>
                    <a:lnTo>
                      <a:pt x="631" y="109"/>
                    </a:lnTo>
                    <a:lnTo>
                      <a:pt x="619" y="132"/>
                    </a:lnTo>
                    <a:lnTo>
                      <a:pt x="607" y="156"/>
                    </a:lnTo>
                    <a:lnTo>
                      <a:pt x="594" y="185"/>
                    </a:lnTo>
                    <a:lnTo>
                      <a:pt x="580" y="215"/>
                    </a:lnTo>
                    <a:lnTo>
                      <a:pt x="598" y="213"/>
                    </a:lnTo>
                    <a:lnTo>
                      <a:pt x="619" y="210"/>
                    </a:lnTo>
                    <a:lnTo>
                      <a:pt x="643" y="207"/>
                    </a:lnTo>
                    <a:lnTo>
                      <a:pt x="668" y="203"/>
                    </a:lnTo>
                    <a:lnTo>
                      <a:pt x="695" y="199"/>
                    </a:lnTo>
                    <a:lnTo>
                      <a:pt x="724" y="195"/>
                    </a:lnTo>
                    <a:lnTo>
                      <a:pt x="756" y="191"/>
                    </a:lnTo>
                    <a:lnTo>
                      <a:pt x="790" y="186"/>
                    </a:lnTo>
                    <a:lnTo>
                      <a:pt x="841" y="178"/>
                    </a:lnTo>
                    <a:lnTo>
                      <a:pt x="887" y="172"/>
                    </a:lnTo>
                    <a:lnTo>
                      <a:pt x="930" y="165"/>
                    </a:lnTo>
                    <a:lnTo>
                      <a:pt x="969" y="160"/>
                    </a:lnTo>
                    <a:lnTo>
                      <a:pt x="1004" y="156"/>
                    </a:lnTo>
                    <a:lnTo>
                      <a:pt x="1035" y="152"/>
                    </a:lnTo>
                    <a:lnTo>
                      <a:pt x="1062" y="149"/>
                    </a:lnTo>
                    <a:lnTo>
                      <a:pt x="1085" y="145"/>
                    </a:lnTo>
                    <a:lnTo>
                      <a:pt x="1092" y="145"/>
                    </a:lnTo>
                    <a:lnTo>
                      <a:pt x="1098" y="146"/>
                    </a:lnTo>
                    <a:lnTo>
                      <a:pt x="1104" y="149"/>
                    </a:lnTo>
                    <a:lnTo>
                      <a:pt x="1110" y="151"/>
                    </a:lnTo>
                    <a:lnTo>
                      <a:pt x="1116" y="154"/>
                    </a:lnTo>
                    <a:lnTo>
                      <a:pt x="1122" y="157"/>
                    </a:lnTo>
                    <a:lnTo>
                      <a:pt x="1129" y="161"/>
                    </a:lnTo>
                    <a:lnTo>
                      <a:pt x="1135" y="165"/>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424" name="Freeform 22"/>
              <p:cNvSpPr/>
              <p:nvPr/>
            </p:nvSpPr>
            <p:spPr>
              <a:xfrm>
                <a:off x="4235400" y="1115640"/>
                <a:ext cx="166680" cy="141480"/>
              </a:xfrm>
              <a:custGeom>
                <a:avLst/>
                <a:gdLst>
                  <a:gd name="textAreaLeft" fmla="*/ 0 w 166680"/>
                  <a:gd name="textAreaRight" fmla="*/ 167040 w 166680"/>
                  <a:gd name="textAreaTop" fmla="*/ 0 h 141480"/>
                  <a:gd name="textAreaBottom" fmla="*/ 141840 h 141480"/>
                </a:gdLst>
                <a:ahLst/>
                <a:rect l="textAreaLeft" t="textAreaTop" r="textAreaRight" b="textAreaBottom"/>
                <a:pathLst>
                  <a:path w="1122" h="1023">
                    <a:moveTo>
                      <a:pt x="736" y="451"/>
                    </a:moveTo>
                    <a:lnTo>
                      <a:pt x="733" y="449"/>
                    </a:lnTo>
                    <a:lnTo>
                      <a:pt x="725" y="441"/>
                    </a:lnTo>
                    <a:lnTo>
                      <a:pt x="712" y="431"/>
                    </a:lnTo>
                    <a:lnTo>
                      <a:pt x="701" y="421"/>
                    </a:lnTo>
                    <a:lnTo>
                      <a:pt x="667" y="423"/>
                    </a:lnTo>
                    <a:lnTo>
                      <a:pt x="635" y="426"/>
                    </a:lnTo>
                    <a:lnTo>
                      <a:pt x="607" y="429"/>
                    </a:lnTo>
                    <a:lnTo>
                      <a:pt x="580" y="432"/>
                    </a:lnTo>
                    <a:lnTo>
                      <a:pt x="557" y="435"/>
                    </a:lnTo>
                    <a:lnTo>
                      <a:pt x="536" y="439"/>
                    </a:lnTo>
                    <a:lnTo>
                      <a:pt x="517" y="442"/>
                    </a:lnTo>
                    <a:lnTo>
                      <a:pt x="501" y="445"/>
                    </a:lnTo>
                    <a:lnTo>
                      <a:pt x="501" y="480"/>
                    </a:lnTo>
                    <a:lnTo>
                      <a:pt x="514" y="488"/>
                    </a:lnTo>
                    <a:lnTo>
                      <a:pt x="530" y="497"/>
                    </a:lnTo>
                    <a:lnTo>
                      <a:pt x="546" y="508"/>
                    </a:lnTo>
                    <a:lnTo>
                      <a:pt x="566" y="521"/>
                    </a:lnTo>
                    <a:lnTo>
                      <a:pt x="587" y="535"/>
                    </a:lnTo>
                    <a:lnTo>
                      <a:pt x="609" y="552"/>
                    </a:lnTo>
                    <a:lnTo>
                      <a:pt x="634" y="570"/>
                    </a:lnTo>
                    <a:lnTo>
                      <a:pt x="661" y="591"/>
                    </a:lnTo>
                    <a:lnTo>
                      <a:pt x="692" y="568"/>
                    </a:lnTo>
                    <a:lnTo>
                      <a:pt x="720" y="547"/>
                    </a:lnTo>
                    <a:lnTo>
                      <a:pt x="747" y="525"/>
                    </a:lnTo>
                    <a:lnTo>
                      <a:pt x="771" y="504"/>
                    </a:lnTo>
                    <a:lnTo>
                      <a:pt x="792" y="482"/>
                    </a:lnTo>
                    <a:lnTo>
                      <a:pt x="810" y="461"/>
                    </a:lnTo>
                    <a:lnTo>
                      <a:pt x="827" y="441"/>
                    </a:lnTo>
                    <a:lnTo>
                      <a:pt x="841" y="421"/>
                    </a:lnTo>
                    <a:lnTo>
                      <a:pt x="852" y="433"/>
                    </a:lnTo>
                    <a:lnTo>
                      <a:pt x="864" y="444"/>
                    </a:lnTo>
                    <a:lnTo>
                      <a:pt x="876" y="456"/>
                    </a:lnTo>
                    <a:lnTo>
                      <a:pt x="889" y="465"/>
                    </a:lnTo>
                    <a:lnTo>
                      <a:pt x="901" y="476"/>
                    </a:lnTo>
                    <a:lnTo>
                      <a:pt x="914" y="485"/>
                    </a:lnTo>
                    <a:lnTo>
                      <a:pt x="927" y="493"/>
                    </a:lnTo>
                    <a:lnTo>
                      <a:pt x="941" y="500"/>
                    </a:lnTo>
                    <a:lnTo>
                      <a:pt x="926" y="506"/>
                    </a:lnTo>
                    <a:lnTo>
                      <a:pt x="906" y="513"/>
                    </a:lnTo>
                    <a:lnTo>
                      <a:pt x="880" y="525"/>
                    </a:lnTo>
                    <a:lnTo>
                      <a:pt x="850" y="541"/>
                    </a:lnTo>
                    <a:lnTo>
                      <a:pt x="826" y="553"/>
                    </a:lnTo>
                    <a:lnTo>
                      <a:pt x="803" y="564"/>
                    </a:lnTo>
                    <a:lnTo>
                      <a:pt x="782" y="575"/>
                    </a:lnTo>
                    <a:lnTo>
                      <a:pt x="760" y="583"/>
                    </a:lnTo>
                    <a:lnTo>
                      <a:pt x="741" y="592"/>
                    </a:lnTo>
                    <a:lnTo>
                      <a:pt x="723" y="599"/>
                    </a:lnTo>
                    <a:lnTo>
                      <a:pt x="706" y="605"/>
                    </a:lnTo>
                    <a:lnTo>
                      <a:pt x="691" y="611"/>
                    </a:lnTo>
                    <a:lnTo>
                      <a:pt x="723" y="637"/>
                    </a:lnTo>
                    <a:lnTo>
                      <a:pt x="755" y="662"/>
                    </a:lnTo>
                    <a:lnTo>
                      <a:pt x="785" y="683"/>
                    </a:lnTo>
                    <a:lnTo>
                      <a:pt x="813" y="702"/>
                    </a:lnTo>
                    <a:lnTo>
                      <a:pt x="840" y="719"/>
                    </a:lnTo>
                    <a:lnTo>
                      <a:pt x="865" y="734"/>
                    </a:lnTo>
                    <a:lnTo>
                      <a:pt x="889" y="746"/>
                    </a:lnTo>
                    <a:lnTo>
                      <a:pt x="911" y="756"/>
                    </a:lnTo>
                    <a:lnTo>
                      <a:pt x="945" y="771"/>
                    </a:lnTo>
                    <a:lnTo>
                      <a:pt x="975" y="786"/>
                    </a:lnTo>
                    <a:lnTo>
                      <a:pt x="1004" y="799"/>
                    </a:lnTo>
                    <a:lnTo>
                      <a:pt x="1029" y="812"/>
                    </a:lnTo>
                    <a:lnTo>
                      <a:pt x="1053" y="826"/>
                    </a:lnTo>
                    <a:lnTo>
                      <a:pt x="1073" y="837"/>
                    </a:lnTo>
                    <a:lnTo>
                      <a:pt x="1091" y="850"/>
                    </a:lnTo>
                    <a:lnTo>
                      <a:pt x="1106" y="861"/>
                    </a:lnTo>
                    <a:lnTo>
                      <a:pt x="1114" y="868"/>
                    </a:lnTo>
                    <a:lnTo>
                      <a:pt x="1120" y="875"/>
                    </a:lnTo>
                    <a:lnTo>
                      <a:pt x="1121" y="878"/>
                    </a:lnTo>
                    <a:lnTo>
                      <a:pt x="1122" y="881"/>
                    </a:lnTo>
                    <a:lnTo>
                      <a:pt x="1122" y="884"/>
                    </a:lnTo>
                    <a:lnTo>
                      <a:pt x="1121" y="886"/>
                    </a:lnTo>
                    <a:lnTo>
                      <a:pt x="1121" y="888"/>
                    </a:lnTo>
                    <a:lnTo>
                      <a:pt x="1120" y="890"/>
                    </a:lnTo>
                    <a:lnTo>
                      <a:pt x="1117" y="893"/>
                    </a:lnTo>
                    <a:lnTo>
                      <a:pt x="1115" y="895"/>
                    </a:lnTo>
                    <a:lnTo>
                      <a:pt x="1110" y="898"/>
                    </a:lnTo>
                    <a:lnTo>
                      <a:pt x="1100" y="901"/>
                    </a:lnTo>
                    <a:lnTo>
                      <a:pt x="1076" y="901"/>
                    </a:lnTo>
                    <a:lnTo>
                      <a:pt x="1053" y="901"/>
                    </a:lnTo>
                    <a:lnTo>
                      <a:pt x="1029" y="901"/>
                    </a:lnTo>
                    <a:lnTo>
                      <a:pt x="1008" y="900"/>
                    </a:lnTo>
                    <a:lnTo>
                      <a:pt x="987" y="899"/>
                    </a:lnTo>
                    <a:lnTo>
                      <a:pt x="967" y="899"/>
                    </a:lnTo>
                    <a:lnTo>
                      <a:pt x="949" y="898"/>
                    </a:lnTo>
                    <a:lnTo>
                      <a:pt x="931" y="897"/>
                    </a:lnTo>
                    <a:lnTo>
                      <a:pt x="917" y="895"/>
                    </a:lnTo>
                    <a:lnTo>
                      <a:pt x="905" y="891"/>
                    </a:lnTo>
                    <a:lnTo>
                      <a:pt x="892" y="888"/>
                    </a:lnTo>
                    <a:lnTo>
                      <a:pt x="879" y="884"/>
                    </a:lnTo>
                    <a:lnTo>
                      <a:pt x="867" y="878"/>
                    </a:lnTo>
                    <a:lnTo>
                      <a:pt x="857" y="871"/>
                    </a:lnTo>
                    <a:lnTo>
                      <a:pt x="846" y="864"/>
                    </a:lnTo>
                    <a:lnTo>
                      <a:pt x="836" y="857"/>
                    </a:lnTo>
                    <a:lnTo>
                      <a:pt x="817" y="837"/>
                    </a:lnTo>
                    <a:lnTo>
                      <a:pt x="790" y="811"/>
                    </a:lnTo>
                    <a:lnTo>
                      <a:pt x="757" y="777"/>
                    </a:lnTo>
                    <a:lnTo>
                      <a:pt x="716" y="736"/>
                    </a:lnTo>
                    <a:lnTo>
                      <a:pt x="678" y="695"/>
                    </a:lnTo>
                    <a:lnTo>
                      <a:pt x="644" y="659"/>
                    </a:lnTo>
                    <a:lnTo>
                      <a:pt x="612" y="628"/>
                    </a:lnTo>
                    <a:lnTo>
                      <a:pt x="585" y="600"/>
                    </a:lnTo>
                    <a:lnTo>
                      <a:pt x="559" y="576"/>
                    </a:lnTo>
                    <a:lnTo>
                      <a:pt x="537" y="557"/>
                    </a:lnTo>
                    <a:lnTo>
                      <a:pt x="517" y="542"/>
                    </a:lnTo>
                    <a:lnTo>
                      <a:pt x="501" y="531"/>
                    </a:lnTo>
                    <a:lnTo>
                      <a:pt x="501" y="545"/>
                    </a:lnTo>
                    <a:lnTo>
                      <a:pt x="500" y="561"/>
                    </a:lnTo>
                    <a:lnTo>
                      <a:pt x="500" y="579"/>
                    </a:lnTo>
                    <a:lnTo>
                      <a:pt x="499" y="599"/>
                    </a:lnTo>
                    <a:lnTo>
                      <a:pt x="499" y="621"/>
                    </a:lnTo>
                    <a:lnTo>
                      <a:pt x="498" y="646"/>
                    </a:lnTo>
                    <a:lnTo>
                      <a:pt x="497" y="672"/>
                    </a:lnTo>
                    <a:lnTo>
                      <a:pt x="496" y="701"/>
                    </a:lnTo>
                    <a:lnTo>
                      <a:pt x="496" y="754"/>
                    </a:lnTo>
                    <a:lnTo>
                      <a:pt x="496" y="797"/>
                    </a:lnTo>
                    <a:lnTo>
                      <a:pt x="496" y="831"/>
                    </a:lnTo>
                    <a:lnTo>
                      <a:pt x="496" y="857"/>
                    </a:lnTo>
                    <a:lnTo>
                      <a:pt x="504" y="850"/>
                    </a:lnTo>
                    <a:lnTo>
                      <a:pt x="517" y="844"/>
                    </a:lnTo>
                    <a:lnTo>
                      <a:pt x="532" y="835"/>
                    </a:lnTo>
                    <a:lnTo>
                      <a:pt x="551" y="826"/>
                    </a:lnTo>
                    <a:lnTo>
                      <a:pt x="578" y="812"/>
                    </a:lnTo>
                    <a:lnTo>
                      <a:pt x="602" y="800"/>
                    </a:lnTo>
                    <a:lnTo>
                      <a:pt x="621" y="790"/>
                    </a:lnTo>
                    <a:lnTo>
                      <a:pt x="635" y="781"/>
                    </a:lnTo>
                    <a:lnTo>
                      <a:pt x="658" y="771"/>
                    </a:lnTo>
                    <a:lnTo>
                      <a:pt x="676" y="763"/>
                    </a:lnTo>
                    <a:lnTo>
                      <a:pt x="682" y="761"/>
                    </a:lnTo>
                    <a:lnTo>
                      <a:pt x="688" y="760"/>
                    </a:lnTo>
                    <a:lnTo>
                      <a:pt x="693" y="760"/>
                    </a:lnTo>
                    <a:lnTo>
                      <a:pt x="696" y="761"/>
                    </a:lnTo>
                    <a:lnTo>
                      <a:pt x="696" y="764"/>
                    </a:lnTo>
                    <a:lnTo>
                      <a:pt x="696" y="767"/>
                    </a:lnTo>
                    <a:lnTo>
                      <a:pt x="694" y="772"/>
                    </a:lnTo>
                    <a:lnTo>
                      <a:pt x="691" y="777"/>
                    </a:lnTo>
                    <a:lnTo>
                      <a:pt x="681" y="790"/>
                    </a:lnTo>
                    <a:lnTo>
                      <a:pt x="665" y="807"/>
                    </a:lnTo>
                    <a:lnTo>
                      <a:pt x="638" y="831"/>
                    </a:lnTo>
                    <a:lnTo>
                      <a:pt x="610" y="858"/>
                    </a:lnTo>
                    <a:lnTo>
                      <a:pt x="581" y="883"/>
                    </a:lnTo>
                    <a:lnTo>
                      <a:pt x="553" y="909"/>
                    </a:lnTo>
                    <a:lnTo>
                      <a:pt x="524" y="937"/>
                    </a:lnTo>
                    <a:lnTo>
                      <a:pt x="495" y="965"/>
                    </a:lnTo>
                    <a:lnTo>
                      <a:pt x="465" y="993"/>
                    </a:lnTo>
                    <a:lnTo>
                      <a:pt x="435" y="1022"/>
                    </a:lnTo>
                    <a:lnTo>
                      <a:pt x="426" y="1005"/>
                    </a:lnTo>
                    <a:lnTo>
                      <a:pt x="416" y="989"/>
                    </a:lnTo>
                    <a:lnTo>
                      <a:pt x="406" y="976"/>
                    </a:lnTo>
                    <a:lnTo>
                      <a:pt x="397" y="964"/>
                    </a:lnTo>
                    <a:lnTo>
                      <a:pt x="388" y="953"/>
                    </a:lnTo>
                    <a:lnTo>
                      <a:pt x="378" y="944"/>
                    </a:lnTo>
                    <a:lnTo>
                      <a:pt x="370" y="937"/>
                    </a:lnTo>
                    <a:lnTo>
                      <a:pt x="360" y="932"/>
                    </a:lnTo>
                    <a:lnTo>
                      <a:pt x="367" y="925"/>
                    </a:lnTo>
                    <a:lnTo>
                      <a:pt x="375" y="919"/>
                    </a:lnTo>
                    <a:lnTo>
                      <a:pt x="381" y="912"/>
                    </a:lnTo>
                    <a:lnTo>
                      <a:pt x="387" y="903"/>
                    </a:lnTo>
                    <a:lnTo>
                      <a:pt x="393" y="895"/>
                    </a:lnTo>
                    <a:lnTo>
                      <a:pt x="398" y="885"/>
                    </a:lnTo>
                    <a:lnTo>
                      <a:pt x="402" y="875"/>
                    </a:lnTo>
                    <a:lnTo>
                      <a:pt x="407" y="864"/>
                    </a:lnTo>
                    <a:lnTo>
                      <a:pt x="411" y="852"/>
                    </a:lnTo>
                    <a:lnTo>
                      <a:pt x="414" y="840"/>
                    </a:lnTo>
                    <a:lnTo>
                      <a:pt x="417" y="827"/>
                    </a:lnTo>
                    <a:lnTo>
                      <a:pt x="419" y="813"/>
                    </a:lnTo>
                    <a:lnTo>
                      <a:pt x="424" y="783"/>
                    </a:lnTo>
                    <a:lnTo>
                      <a:pt x="426" y="752"/>
                    </a:lnTo>
                    <a:lnTo>
                      <a:pt x="430" y="685"/>
                    </a:lnTo>
                    <a:lnTo>
                      <a:pt x="433" y="617"/>
                    </a:lnTo>
                    <a:lnTo>
                      <a:pt x="435" y="549"/>
                    </a:lnTo>
                    <a:lnTo>
                      <a:pt x="436" y="479"/>
                    </a:lnTo>
                    <a:lnTo>
                      <a:pt x="436" y="410"/>
                    </a:lnTo>
                    <a:lnTo>
                      <a:pt x="436" y="339"/>
                    </a:lnTo>
                    <a:lnTo>
                      <a:pt x="434" y="267"/>
                    </a:lnTo>
                    <a:lnTo>
                      <a:pt x="430" y="195"/>
                    </a:lnTo>
                    <a:lnTo>
                      <a:pt x="428" y="174"/>
                    </a:lnTo>
                    <a:lnTo>
                      <a:pt x="424" y="153"/>
                    </a:lnTo>
                    <a:lnTo>
                      <a:pt x="419" y="133"/>
                    </a:lnTo>
                    <a:lnTo>
                      <a:pt x="414" y="113"/>
                    </a:lnTo>
                    <a:lnTo>
                      <a:pt x="408" y="95"/>
                    </a:lnTo>
                    <a:lnTo>
                      <a:pt x="401" y="78"/>
                    </a:lnTo>
                    <a:lnTo>
                      <a:pt x="394" y="61"/>
                    </a:lnTo>
                    <a:lnTo>
                      <a:pt x="385" y="46"/>
                    </a:lnTo>
                    <a:lnTo>
                      <a:pt x="417" y="49"/>
                    </a:lnTo>
                    <a:lnTo>
                      <a:pt x="448" y="54"/>
                    </a:lnTo>
                    <a:lnTo>
                      <a:pt x="478" y="62"/>
                    </a:lnTo>
                    <a:lnTo>
                      <a:pt x="505" y="70"/>
                    </a:lnTo>
                    <a:lnTo>
                      <a:pt x="545" y="64"/>
                    </a:lnTo>
                    <a:lnTo>
                      <a:pt x="581" y="56"/>
                    </a:lnTo>
                    <a:lnTo>
                      <a:pt x="615" y="49"/>
                    </a:lnTo>
                    <a:lnTo>
                      <a:pt x="645" y="41"/>
                    </a:lnTo>
                    <a:lnTo>
                      <a:pt x="673" y="31"/>
                    </a:lnTo>
                    <a:lnTo>
                      <a:pt x="697" y="21"/>
                    </a:lnTo>
                    <a:lnTo>
                      <a:pt x="718" y="12"/>
                    </a:lnTo>
                    <a:lnTo>
                      <a:pt x="736" y="0"/>
                    </a:lnTo>
                    <a:lnTo>
                      <a:pt x="750" y="14"/>
                    </a:lnTo>
                    <a:lnTo>
                      <a:pt x="765" y="26"/>
                    </a:lnTo>
                    <a:lnTo>
                      <a:pt x="781" y="37"/>
                    </a:lnTo>
                    <a:lnTo>
                      <a:pt x="796" y="47"/>
                    </a:lnTo>
                    <a:lnTo>
                      <a:pt x="814" y="55"/>
                    </a:lnTo>
                    <a:lnTo>
                      <a:pt x="832" y="64"/>
                    </a:lnTo>
                    <a:lnTo>
                      <a:pt x="850" y="70"/>
                    </a:lnTo>
                    <a:lnTo>
                      <a:pt x="871" y="75"/>
                    </a:lnTo>
                    <a:lnTo>
                      <a:pt x="863" y="83"/>
                    </a:lnTo>
                    <a:lnTo>
                      <a:pt x="856" y="90"/>
                    </a:lnTo>
                    <a:lnTo>
                      <a:pt x="849" y="100"/>
                    </a:lnTo>
                    <a:lnTo>
                      <a:pt x="843" y="110"/>
                    </a:lnTo>
                    <a:lnTo>
                      <a:pt x="837" y="122"/>
                    </a:lnTo>
                    <a:lnTo>
                      <a:pt x="831" y="136"/>
                    </a:lnTo>
                    <a:lnTo>
                      <a:pt x="826" y="150"/>
                    </a:lnTo>
                    <a:lnTo>
                      <a:pt x="821" y="166"/>
                    </a:lnTo>
                    <a:lnTo>
                      <a:pt x="817" y="185"/>
                    </a:lnTo>
                    <a:lnTo>
                      <a:pt x="812" y="206"/>
                    </a:lnTo>
                    <a:lnTo>
                      <a:pt x="807" y="229"/>
                    </a:lnTo>
                    <a:lnTo>
                      <a:pt x="802" y="255"/>
                    </a:lnTo>
                    <a:lnTo>
                      <a:pt x="796" y="282"/>
                    </a:lnTo>
                    <a:lnTo>
                      <a:pt x="790" y="313"/>
                    </a:lnTo>
                    <a:lnTo>
                      <a:pt x="783" y="346"/>
                    </a:lnTo>
                    <a:lnTo>
                      <a:pt x="775" y="381"/>
                    </a:lnTo>
                    <a:lnTo>
                      <a:pt x="773" y="400"/>
                    </a:lnTo>
                    <a:lnTo>
                      <a:pt x="771" y="416"/>
                    </a:lnTo>
                    <a:lnTo>
                      <a:pt x="768" y="429"/>
                    </a:lnTo>
                    <a:lnTo>
                      <a:pt x="766" y="441"/>
                    </a:lnTo>
                    <a:lnTo>
                      <a:pt x="763" y="450"/>
                    </a:lnTo>
                    <a:lnTo>
                      <a:pt x="760" y="456"/>
                    </a:lnTo>
                    <a:lnTo>
                      <a:pt x="758" y="460"/>
                    </a:lnTo>
                    <a:lnTo>
                      <a:pt x="755" y="461"/>
                    </a:lnTo>
                    <a:lnTo>
                      <a:pt x="754" y="462"/>
                    </a:lnTo>
                    <a:lnTo>
                      <a:pt x="752" y="462"/>
                    </a:lnTo>
                    <a:lnTo>
                      <a:pt x="751" y="462"/>
                    </a:lnTo>
                    <a:lnTo>
                      <a:pt x="748" y="461"/>
                    </a:lnTo>
                    <a:lnTo>
                      <a:pt x="742" y="457"/>
                    </a:lnTo>
                    <a:lnTo>
                      <a:pt x="736" y="451"/>
                    </a:lnTo>
                    <a:close/>
                    <a:moveTo>
                      <a:pt x="240" y="110"/>
                    </a:moveTo>
                    <a:lnTo>
                      <a:pt x="105" y="151"/>
                    </a:lnTo>
                    <a:lnTo>
                      <a:pt x="105" y="842"/>
                    </a:lnTo>
                    <a:lnTo>
                      <a:pt x="105" y="886"/>
                    </a:lnTo>
                    <a:lnTo>
                      <a:pt x="105" y="925"/>
                    </a:lnTo>
                    <a:lnTo>
                      <a:pt x="104" y="958"/>
                    </a:lnTo>
                    <a:lnTo>
                      <a:pt x="103" y="984"/>
                    </a:lnTo>
                    <a:lnTo>
                      <a:pt x="102" y="1003"/>
                    </a:lnTo>
                    <a:lnTo>
                      <a:pt x="100" y="1015"/>
                    </a:lnTo>
                    <a:lnTo>
                      <a:pt x="98" y="1020"/>
                    </a:lnTo>
                    <a:lnTo>
                      <a:pt x="97" y="1022"/>
                    </a:lnTo>
                    <a:lnTo>
                      <a:pt x="96" y="1023"/>
                    </a:lnTo>
                    <a:lnTo>
                      <a:pt x="95" y="1022"/>
                    </a:lnTo>
                    <a:lnTo>
                      <a:pt x="80" y="1013"/>
                    </a:lnTo>
                    <a:lnTo>
                      <a:pt x="67" y="1005"/>
                    </a:lnTo>
                    <a:lnTo>
                      <a:pt x="54" y="995"/>
                    </a:lnTo>
                    <a:lnTo>
                      <a:pt x="41" y="985"/>
                    </a:lnTo>
                    <a:lnTo>
                      <a:pt x="30" y="974"/>
                    </a:lnTo>
                    <a:lnTo>
                      <a:pt x="19" y="962"/>
                    </a:lnTo>
                    <a:lnTo>
                      <a:pt x="9" y="950"/>
                    </a:lnTo>
                    <a:lnTo>
                      <a:pt x="0" y="936"/>
                    </a:lnTo>
                    <a:lnTo>
                      <a:pt x="4" y="919"/>
                    </a:lnTo>
                    <a:lnTo>
                      <a:pt x="8" y="900"/>
                    </a:lnTo>
                    <a:lnTo>
                      <a:pt x="13" y="880"/>
                    </a:lnTo>
                    <a:lnTo>
                      <a:pt x="16" y="858"/>
                    </a:lnTo>
                    <a:lnTo>
                      <a:pt x="22" y="809"/>
                    </a:lnTo>
                    <a:lnTo>
                      <a:pt x="26" y="754"/>
                    </a:lnTo>
                    <a:lnTo>
                      <a:pt x="31" y="691"/>
                    </a:lnTo>
                    <a:lnTo>
                      <a:pt x="33" y="622"/>
                    </a:lnTo>
                    <a:lnTo>
                      <a:pt x="35" y="548"/>
                    </a:lnTo>
                    <a:lnTo>
                      <a:pt x="35" y="465"/>
                    </a:lnTo>
                    <a:lnTo>
                      <a:pt x="35" y="396"/>
                    </a:lnTo>
                    <a:lnTo>
                      <a:pt x="33" y="331"/>
                    </a:lnTo>
                    <a:lnTo>
                      <a:pt x="31" y="274"/>
                    </a:lnTo>
                    <a:lnTo>
                      <a:pt x="26" y="222"/>
                    </a:lnTo>
                    <a:lnTo>
                      <a:pt x="22" y="177"/>
                    </a:lnTo>
                    <a:lnTo>
                      <a:pt x="16" y="138"/>
                    </a:lnTo>
                    <a:lnTo>
                      <a:pt x="13" y="121"/>
                    </a:lnTo>
                    <a:lnTo>
                      <a:pt x="8" y="106"/>
                    </a:lnTo>
                    <a:lnTo>
                      <a:pt x="4" y="92"/>
                    </a:lnTo>
                    <a:lnTo>
                      <a:pt x="0" y="81"/>
                    </a:lnTo>
                    <a:lnTo>
                      <a:pt x="13" y="84"/>
                    </a:lnTo>
                    <a:lnTo>
                      <a:pt x="27" y="88"/>
                    </a:lnTo>
                    <a:lnTo>
                      <a:pt x="48" y="94"/>
                    </a:lnTo>
                    <a:lnTo>
                      <a:pt x="70" y="101"/>
                    </a:lnTo>
                    <a:lnTo>
                      <a:pt x="90" y="108"/>
                    </a:lnTo>
                    <a:lnTo>
                      <a:pt x="101" y="110"/>
                    </a:lnTo>
                    <a:lnTo>
                      <a:pt x="125" y="102"/>
                    </a:lnTo>
                    <a:lnTo>
                      <a:pt x="147" y="92"/>
                    </a:lnTo>
                    <a:lnTo>
                      <a:pt x="167" y="83"/>
                    </a:lnTo>
                    <a:lnTo>
                      <a:pt x="185" y="73"/>
                    </a:lnTo>
                    <a:lnTo>
                      <a:pt x="202" y="63"/>
                    </a:lnTo>
                    <a:lnTo>
                      <a:pt x="217" y="52"/>
                    </a:lnTo>
                    <a:lnTo>
                      <a:pt x="230" y="42"/>
                    </a:lnTo>
                    <a:lnTo>
                      <a:pt x="240" y="31"/>
                    </a:lnTo>
                    <a:lnTo>
                      <a:pt x="253" y="41"/>
                    </a:lnTo>
                    <a:lnTo>
                      <a:pt x="267" y="50"/>
                    </a:lnTo>
                    <a:lnTo>
                      <a:pt x="282" y="60"/>
                    </a:lnTo>
                    <a:lnTo>
                      <a:pt x="297" y="68"/>
                    </a:lnTo>
                    <a:lnTo>
                      <a:pt x="312" y="77"/>
                    </a:lnTo>
                    <a:lnTo>
                      <a:pt x="329" y="85"/>
                    </a:lnTo>
                    <a:lnTo>
                      <a:pt x="347" y="92"/>
                    </a:lnTo>
                    <a:lnTo>
                      <a:pt x="365" y="101"/>
                    </a:lnTo>
                    <a:lnTo>
                      <a:pt x="347" y="117"/>
                    </a:lnTo>
                    <a:lnTo>
                      <a:pt x="329" y="136"/>
                    </a:lnTo>
                    <a:lnTo>
                      <a:pt x="310" y="158"/>
                    </a:lnTo>
                    <a:lnTo>
                      <a:pt x="291" y="181"/>
                    </a:lnTo>
                    <a:lnTo>
                      <a:pt x="272" y="209"/>
                    </a:lnTo>
                    <a:lnTo>
                      <a:pt x="252" y="239"/>
                    </a:lnTo>
                    <a:lnTo>
                      <a:pt x="232" y="270"/>
                    </a:lnTo>
                    <a:lnTo>
                      <a:pt x="211" y="305"/>
                    </a:lnTo>
                    <a:lnTo>
                      <a:pt x="233" y="319"/>
                    </a:lnTo>
                    <a:lnTo>
                      <a:pt x="254" y="334"/>
                    </a:lnTo>
                    <a:lnTo>
                      <a:pt x="272" y="349"/>
                    </a:lnTo>
                    <a:lnTo>
                      <a:pt x="289" y="365"/>
                    </a:lnTo>
                    <a:lnTo>
                      <a:pt x="304" y="381"/>
                    </a:lnTo>
                    <a:lnTo>
                      <a:pt x="317" y="397"/>
                    </a:lnTo>
                    <a:lnTo>
                      <a:pt x="327" y="414"/>
                    </a:lnTo>
                    <a:lnTo>
                      <a:pt x="336" y="431"/>
                    </a:lnTo>
                    <a:lnTo>
                      <a:pt x="342" y="454"/>
                    </a:lnTo>
                    <a:lnTo>
                      <a:pt x="346" y="475"/>
                    </a:lnTo>
                    <a:lnTo>
                      <a:pt x="348" y="494"/>
                    </a:lnTo>
                    <a:lnTo>
                      <a:pt x="349" y="512"/>
                    </a:lnTo>
                    <a:lnTo>
                      <a:pt x="348" y="521"/>
                    </a:lnTo>
                    <a:lnTo>
                      <a:pt x="347" y="528"/>
                    </a:lnTo>
                    <a:lnTo>
                      <a:pt x="346" y="535"/>
                    </a:lnTo>
                    <a:lnTo>
                      <a:pt x="344" y="543"/>
                    </a:lnTo>
                    <a:lnTo>
                      <a:pt x="341" y="549"/>
                    </a:lnTo>
                    <a:lnTo>
                      <a:pt x="338" y="556"/>
                    </a:lnTo>
                    <a:lnTo>
                      <a:pt x="335" y="561"/>
                    </a:lnTo>
                    <a:lnTo>
                      <a:pt x="330" y="566"/>
                    </a:lnTo>
                    <a:lnTo>
                      <a:pt x="318" y="564"/>
                    </a:lnTo>
                    <a:lnTo>
                      <a:pt x="303" y="560"/>
                    </a:lnTo>
                    <a:lnTo>
                      <a:pt x="286" y="554"/>
                    </a:lnTo>
                    <a:lnTo>
                      <a:pt x="266" y="547"/>
                    </a:lnTo>
                    <a:lnTo>
                      <a:pt x="243" y="539"/>
                    </a:lnTo>
                    <a:lnTo>
                      <a:pt x="218" y="528"/>
                    </a:lnTo>
                    <a:lnTo>
                      <a:pt x="191" y="515"/>
                    </a:lnTo>
                    <a:lnTo>
                      <a:pt x="160" y="500"/>
                    </a:lnTo>
                    <a:lnTo>
                      <a:pt x="154" y="496"/>
                    </a:lnTo>
                    <a:lnTo>
                      <a:pt x="149" y="492"/>
                    </a:lnTo>
                    <a:lnTo>
                      <a:pt x="146" y="489"/>
                    </a:lnTo>
                    <a:lnTo>
                      <a:pt x="145" y="486"/>
                    </a:lnTo>
                    <a:lnTo>
                      <a:pt x="146" y="483"/>
                    </a:lnTo>
                    <a:lnTo>
                      <a:pt x="150" y="481"/>
                    </a:lnTo>
                    <a:lnTo>
                      <a:pt x="157" y="478"/>
                    </a:lnTo>
                    <a:lnTo>
                      <a:pt x="165" y="476"/>
                    </a:lnTo>
                    <a:lnTo>
                      <a:pt x="185" y="475"/>
                    </a:lnTo>
                    <a:lnTo>
                      <a:pt x="205" y="473"/>
                    </a:lnTo>
                    <a:lnTo>
                      <a:pt x="226" y="471"/>
                    </a:lnTo>
                    <a:lnTo>
                      <a:pt x="246" y="465"/>
                    </a:lnTo>
                    <a:lnTo>
                      <a:pt x="250" y="464"/>
                    </a:lnTo>
                    <a:lnTo>
                      <a:pt x="253" y="462"/>
                    </a:lnTo>
                    <a:lnTo>
                      <a:pt x="256" y="459"/>
                    </a:lnTo>
                    <a:lnTo>
                      <a:pt x="258" y="455"/>
                    </a:lnTo>
                    <a:lnTo>
                      <a:pt x="258" y="450"/>
                    </a:lnTo>
                    <a:lnTo>
                      <a:pt x="258" y="444"/>
                    </a:lnTo>
                    <a:lnTo>
                      <a:pt x="257" y="438"/>
                    </a:lnTo>
                    <a:lnTo>
                      <a:pt x="255" y="431"/>
                    </a:lnTo>
                    <a:lnTo>
                      <a:pt x="252" y="423"/>
                    </a:lnTo>
                    <a:lnTo>
                      <a:pt x="248" y="412"/>
                    </a:lnTo>
                    <a:lnTo>
                      <a:pt x="241" y="401"/>
                    </a:lnTo>
                    <a:lnTo>
                      <a:pt x="234" y="388"/>
                    </a:lnTo>
                    <a:lnTo>
                      <a:pt x="215" y="357"/>
                    </a:lnTo>
                    <a:lnTo>
                      <a:pt x="191" y="320"/>
                    </a:lnTo>
                    <a:lnTo>
                      <a:pt x="185" y="312"/>
                    </a:lnTo>
                    <a:lnTo>
                      <a:pt x="180" y="305"/>
                    </a:lnTo>
                    <a:lnTo>
                      <a:pt x="192" y="277"/>
                    </a:lnTo>
                    <a:lnTo>
                      <a:pt x="201" y="248"/>
                    </a:lnTo>
                    <a:lnTo>
                      <a:pt x="210" y="222"/>
                    </a:lnTo>
                    <a:lnTo>
                      <a:pt x="218" y="197"/>
                    </a:lnTo>
                    <a:lnTo>
                      <a:pt x="225" y="173"/>
                    </a:lnTo>
                    <a:lnTo>
                      <a:pt x="231" y="151"/>
                    </a:lnTo>
                    <a:lnTo>
                      <a:pt x="236" y="130"/>
                    </a:lnTo>
                    <a:lnTo>
                      <a:pt x="240" y="110"/>
                    </a:lnTo>
                    <a:close/>
                    <a:moveTo>
                      <a:pt x="501" y="116"/>
                    </a:moveTo>
                    <a:lnTo>
                      <a:pt x="501" y="236"/>
                    </a:lnTo>
                    <a:lnTo>
                      <a:pt x="522" y="230"/>
                    </a:lnTo>
                    <a:lnTo>
                      <a:pt x="545" y="225"/>
                    </a:lnTo>
                    <a:lnTo>
                      <a:pt x="572" y="217"/>
                    </a:lnTo>
                    <a:lnTo>
                      <a:pt x="601" y="211"/>
                    </a:lnTo>
                    <a:lnTo>
                      <a:pt x="616" y="206"/>
                    </a:lnTo>
                    <a:lnTo>
                      <a:pt x="630" y="202"/>
                    </a:lnTo>
                    <a:lnTo>
                      <a:pt x="642" y="198"/>
                    </a:lnTo>
                    <a:lnTo>
                      <a:pt x="650" y="195"/>
                    </a:lnTo>
                    <a:lnTo>
                      <a:pt x="664" y="208"/>
                    </a:lnTo>
                    <a:lnTo>
                      <a:pt x="676" y="221"/>
                    </a:lnTo>
                    <a:lnTo>
                      <a:pt x="684" y="233"/>
                    </a:lnTo>
                    <a:lnTo>
                      <a:pt x="691" y="246"/>
                    </a:lnTo>
                    <a:lnTo>
                      <a:pt x="677" y="248"/>
                    </a:lnTo>
                    <a:lnTo>
                      <a:pt x="658" y="250"/>
                    </a:lnTo>
                    <a:lnTo>
                      <a:pt x="637" y="254"/>
                    </a:lnTo>
                    <a:lnTo>
                      <a:pt x="611" y="256"/>
                    </a:lnTo>
                    <a:lnTo>
                      <a:pt x="574" y="263"/>
                    </a:lnTo>
                    <a:lnTo>
                      <a:pt x="543" y="268"/>
                    </a:lnTo>
                    <a:lnTo>
                      <a:pt x="519" y="273"/>
                    </a:lnTo>
                    <a:lnTo>
                      <a:pt x="501" y="276"/>
                    </a:lnTo>
                    <a:lnTo>
                      <a:pt x="501" y="396"/>
                    </a:lnTo>
                    <a:lnTo>
                      <a:pt x="513" y="393"/>
                    </a:lnTo>
                    <a:lnTo>
                      <a:pt x="526" y="391"/>
                    </a:lnTo>
                    <a:lnTo>
                      <a:pt x="544" y="388"/>
                    </a:lnTo>
                    <a:lnTo>
                      <a:pt x="566" y="386"/>
                    </a:lnTo>
                    <a:lnTo>
                      <a:pt x="608" y="379"/>
                    </a:lnTo>
                    <a:lnTo>
                      <a:pt x="643" y="373"/>
                    </a:lnTo>
                    <a:lnTo>
                      <a:pt x="673" y="369"/>
                    </a:lnTo>
                    <a:lnTo>
                      <a:pt x="696" y="366"/>
                    </a:lnTo>
                    <a:lnTo>
                      <a:pt x="700" y="333"/>
                    </a:lnTo>
                    <a:lnTo>
                      <a:pt x="705" y="298"/>
                    </a:lnTo>
                    <a:lnTo>
                      <a:pt x="710" y="263"/>
                    </a:lnTo>
                    <a:lnTo>
                      <a:pt x="714" y="227"/>
                    </a:lnTo>
                    <a:lnTo>
                      <a:pt x="718" y="190"/>
                    </a:lnTo>
                    <a:lnTo>
                      <a:pt x="722" y="151"/>
                    </a:lnTo>
                    <a:lnTo>
                      <a:pt x="727" y="112"/>
                    </a:lnTo>
                    <a:lnTo>
                      <a:pt x="731" y="70"/>
                    </a:lnTo>
                    <a:lnTo>
                      <a:pt x="721" y="73"/>
                    </a:lnTo>
                    <a:lnTo>
                      <a:pt x="706" y="77"/>
                    </a:lnTo>
                    <a:lnTo>
                      <a:pt x="688" y="81"/>
                    </a:lnTo>
                    <a:lnTo>
                      <a:pt x="665" y="86"/>
                    </a:lnTo>
                    <a:lnTo>
                      <a:pt x="637" y="90"/>
                    </a:lnTo>
                    <a:lnTo>
                      <a:pt x="610" y="95"/>
                    </a:lnTo>
                    <a:lnTo>
                      <a:pt x="586" y="99"/>
                    </a:lnTo>
                    <a:lnTo>
                      <a:pt x="565" y="103"/>
                    </a:lnTo>
                    <a:lnTo>
                      <a:pt x="544" y="106"/>
                    </a:lnTo>
                    <a:lnTo>
                      <a:pt x="527" y="109"/>
                    </a:lnTo>
                    <a:lnTo>
                      <a:pt x="513" y="113"/>
                    </a:lnTo>
                    <a:lnTo>
                      <a:pt x="501" y="116"/>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425" name="Freeform 23"/>
              <p:cNvSpPr/>
              <p:nvPr/>
            </p:nvSpPr>
            <p:spPr>
              <a:xfrm>
                <a:off x="4405680" y="1116720"/>
                <a:ext cx="177120" cy="134640"/>
              </a:xfrm>
              <a:custGeom>
                <a:avLst/>
                <a:gdLst>
                  <a:gd name="textAreaLeft" fmla="*/ 0 w 177120"/>
                  <a:gd name="textAreaRight" fmla="*/ 177480 w 177120"/>
                  <a:gd name="textAreaTop" fmla="*/ 0 h 134640"/>
                  <a:gd name="textAreaBottom" fmla="*/ 135000 h 134640"/>
                </a:gdLst>
                <a:ahLst/>
                <a:rect l="textAreaLeft" t="textAreaTop" r="textAreaRight" b="textAreaBottom"/>
                <a:pathLst>
                  <a:path w="1185" h="971">
                    <a:moveTo>
                      <a:pt x="660" y="675"/>
                    </a:moveTo>
                    <a:lnTo>
                      <a:pt x="694" y="698"/>
                    </a:lnTo>
                    <a:lnTo>
                      <a:pt x="724" y="720"/>
                    </a:lnTo>
                    <a:lnTo>
                      <a:pt x="754" y="740"/>
                    </a:lnTo>
                    <a:lnTo>
                      <a:pt x="780" y="760"/>
                    </a:lnTo>
                    <a:lnTo>
                      <a:pt x="804" y="778"/>
                    </a:lnTo>
                    <a:lnTo>
                      <a:pt x="825" y="795"/>
                    </a:lnTo>
                    <a:lnTo>
                      <a:pt x="844" y="811"/>
                    </a:lnTo>
                    <a:lnTo>
                      <a:pt x="860" y="825"/>
                    </a:lnTo>
                    <a:lnTo>
                      <a:pt x="863" y="834"/>
                    </a:lnTo>
                    <a:lnTo>
                      <a:pt x="865" y="844"/>
                    </a:lnTo>
                    <a:lnTo>
                      <a:pt x="865" y="856"/>
                    </a:lnTo>
                    <a:lnTo>
                      <a:pt x="865" y="869"/>
                    </a:lnTo>
                    <a:lnTo>
                      <a:pt x="863" y="884"/>
                    </a:lnTo>
                    <a:lnTo>
                      <a:pt x="860" y="901"/>
                    </a:lnTo>
                    <a:lnTo>
                      <a:pt x="856" y="919"/>
                    </a:lnTo>
                    <a:lnTo>
                      <a:pt x="849" y="941"/>
                    </a:lnTo>
                    <a:lnTo>
                      <a:pt x="848" y="947"/>
                    </a:lnTo>
                    <a:lnTo>
                      <a:pt x="846" y="953"/>
                    </a:lnTo>
                    <a:lnTo>
                      <a:pt x="845" y="959"/>
                    </a:lnTo>
                    <a:lnTo>
                      <a:pt x="842" y="963"/>
                    </a:lnTo>
                    <a:lnTo>
                      <a:pt x="840" y="966"/>
                    </a:lnTo>
                    <a:lnTo>
                      <a:pt x="837" y="968"/>
                    </a:lnTo>
                    <a:lnTo>
                      <a:pt x="834" y="970"/>
                    </a:lnTo>
                    <a:lnTo>
                      <a:pt x="830" y="970"/>
                    </a:lnTo>
                    <a:lnTo>
                      <a:pt x="827" y="971"/>
                    </a:lnTo>
                    <a:lnTo>
                      <a:pt x="825" y="971"/>
                    </a:lnTo>
                    <a:lnTo>
                      <a:pt x="822" y="970"/>
                    </a:lnTo>
                    <a:lnTo>
                      <a:pt x="819" y="968"/>
                    </a:lnTo>
                    <a:lnTo>
                      <a:pt x="812" y="961"/>
                    </a:lnTo>
                    <a:lnTo>
                      <a:pt x="805" y="950"/>
                    </a:lnTo>
                    <a:lnTo>
                      <a:pt x="797" y="944"/>
                    </a:lnTo>
                    <a:lnTo>
                      <a:pt x="788" y="936"/>
                    </a:lnTo>
                    <a:lnTo>
                      <a:pt x="778" y="926"/>
                    </a:lnTo>
                    <a:lnTo>
                      <a:pt x="768" y="913"/>
                    </a:lnTo>
                    <a:lnTo>
                      <a:pt x="744" y="881"/>
                    </a:lnTo>
                    <a:lnTo>
                      <a:pt x="715" y="840"/>
                    </a:lnTo>
                    <a:lnTo>
                      <a:pt x="643" y="853"/>
                    </a:lnTo>
                    <a:lnTo>
                      <a:pt x="574" y="866"/>
                    </a:lnTo>
                    <a:lnTo>
                      <a:pt x="507" y="880"/>
                    </a:lnTo>
                    <a:lnTo>
                      <a:pt x="445" y="894"/>
                    </a:lnTo>
                    <a:lnTo>
                      <a:pt x="386" y="909"/>
                    </a:lnTo>
                    <a:lnTo>
                      <a:pt x="328" y="924"/>
                    </a:lnTo>
                    <a:lnTo>
                      <a:pt x="275" y="940"/>
                    </a:lnTo>
                    <a:lnTo>
                      <a:pt x="225" y="955"/>
                    </a:lnTo>
                    <a:lnTo>
                      <a:pt x="225" y="941"/>
                    </a:lnTo>
                    <a:lnTo>
                      <a:pt x="223" y="926"/>
                    </a:lnTo>
                    <a:lnTo>
                      <a:pt x="222" y="912"/>
                    </a:lnTo>
                    <a:lnTo>
                      <a:pt x="219" y="898"/>
                    </a:lnTo>
                    <a:lnTo>
                      <a:pt x="217" y="884"/>
                    </a:lnTo>
                    <a:lnTo>
                      <a:pt x="214" y="871"/>
                    </a:lnTo>
                    <a:lnTo>
                      <a:pt x="210" y="858"/>
                    </a:lnTo>
                    <a:lnTo>
                      <a:pt x="204" y="845"/>
                    </a:lnTo>
                    <a:lnTo>
                      <a:pt x="221" y="841"/>
                    </a:lnTo>
                    <a:lnTo>
                      <a:pt x="237" y="836"/>
                    </a:lnTo>
                    <a:lnTo>
                      <a:pt x="253" y="828"/>
                    </a:lnTo>
                    <a:lnTo>
                      <a:pt x="269" y="820"/>
                    </a:lnTo>
                    <a:lnTo>
                      <a:pt x="284" y="811"/>
                    </a:lnTo>
                    <a:lnTo>
                      <a:pt x="300" y="800"/>
                    </a:lnTo>
                    <a:lnTo>
                      <a:pt x="315" y="788"/>
                    </a:lnTo>
                    <a:lnTo>
                      <a:pt x="329" y="775"/>
                    </a:lnTo>
                    <a:lnTo>
                      <a:pt x="345" y="756"/>
                    </a:lnTo>
                    <a:lnTo>
                      <a:pt x="361" y="737"/>
                    </a:lnTo>
                    <a:lnTo>
                      <a:pt x="375" y="718"/>
                    </a:lnTo>
                    <a:lnTo>
                      <a:pt x="389" y="698"/>
                    </a:lnTo>
                    <a:lnTo>
                      <a:pt x="401" y="679"/>
                    </a:lnTo>
                    <a:lnTo>
                      <a:pt x="413" y="659"/>
                    </a:lnTo>
                    <a:lnTo>
                      <a:pt x="425" y="639"/>
                    </a:lnTo>
                    <a:lnTo>
                      <a:pt x="435" y="617"/>
                    </a:lnTo>
                    <a:lnTo>
                      <a:pt x="445" y="597"/>
                    </a:lnTo>
                    <a:lnTo>
                      <a:pt x="453" y="576"/>
                    </a:lnTo>
                    <a:lnTo>
                      <a:pt x="462" y="555"/>
                    </a:lnTo>
                    <a:lnTo>
                      <a:pt x="468" y="533"/>
                    </a:lnTo>
                    <a:lnTo>
                      <a:pt x="476" y="511"/>
                    </a:lnTo>
                    <a:lnTo>
                      <a:pt x="481" y="489"/>
                    </a:lnTo>
                    <a:lnTo>
                      <a:pt x="486" y="467"/>
                    </a:lnTo>
                    <a:lnTo>
                      <a:pt x="490" y="445"/>
                    </a:lnTo>
                    <a:lnTo>
                      <a:pt x="513" y="461"/>
                    </a:lnTo>
                    <a:lnTo>
                      <a:pt x="534" y="474"/>
                    </a:lnTo>
                    <a:lnTo>
                      <a:pt x="554" y="486"/>
                    </a:lnTo>
                    <a:lnTo>
                      <a:pt x="572" y="497"/>
                    </a:lnTo>
                    <a:lnTo>
                      <a:pt x="589" y="505"/>
                    </a:lnTo>
                    <a:lnTo>
                      <a:pt x="604" y="511"/>
                    </a:lnTo>
                    <a:lnTo>
                      <a:pt x="618" y="517"/>
                    </a:lnTo>
                    <a:lnTo>
                      <a:pt x="630" y="520"/>
                    </a:lnTo>
                    <a:lnTo>
                      <a:pt x="616" y="527"/>
                    </a:lnTo>
                    <a:lnTo>
                      <a:pt x="604" y="537"/>
                    </a:lnTo>
                    <a:lnTo>
                      <a:pt x="592" y="546"/>
                    </a:lnTo>
                    <a:lnTo>
                      <a:pt x="581" y="556"/>
                    </a:lnTo>
                    <a:lnTo>
                      <a:pt x="571" y="568"/>
                    </a:lnTo>
                    <a:lnTo>
                      <a:pt x="561" y="579"/>
                    </a:lnTo>
                    <a:lnTo>
                      <a:pt x="553" y="592"/>
                    </a:lnTo>
                    <a:lnTo>
                      <a:pt x="544" y="605"/>
                    </a:lnTo>
                    <a:lnTo>
                      <a:pt x="525" y="633"/>
                    </a:lnTo>
                    <a:lnTo>
                      <a:pt x="506" y="662"/>
                    </a:lnTo>
                    <a:lnTo>
                      <a:pt x="486" y="689"/>
                    </a:lnTo>
                    <a:lnTo>
                      <a:pt x="466" y="718"/>
                    </a:lnTo>
                    <a:lnTo>
                      <a:pt x="445" y="745"/>
                    </a:lnTo>
                    <a:lnTo>
                      <a:pt x="424" y="772"/>
                    </a:lnTo>
                    <a:lnTo>
                      <a:pt x="402" y="799"/>
                    </a:lnTo>
                    <a:lnTo>
                      <a:pt x="380" y="825"/>
                    </a:lnTo>
                    <a:lnTo>
                      <a:pt x="690" y="790"/>
                    </a:lnTo>
                    <a:lnTo>
                      <a:pt x="687" y="787"/>
                    </a:lnTo>
                    <a:lnTo>
                      <a:pt x="685" y="783"/>
                    </a:lnTo>
                    <a:lnTo>
                      <a:pt x="682" y="777"/>
                    </a:lnTo>
                    <a:lnTo>
                      <a:pt x="680" y="770"/>
                    </a:lnTo>
                    <a:lnTo>
                      <a:pt x="669" y="754"/>
                    </a:lnTo>
                    <a:lnTo>
                      <a:pt x="660" y="735"/>
                    </a:lnTo>
                    <a:lnTo>
                      <a:pt x="650" y="714"/>
                    </a:lnTo>
                    <a:lnTo>
                      <a:pt x="640" y="690"/>
                    </a:lnTo>
                    <a:lnTo>
                      <a:pt x="636" y="681"/>
                    </a:lnTo>
                    <a:lnTo>
                      <a:pt x="633" y="674"/>
                    </a:lnTo>
                    <a:lnTo>
                      <a:pt x="633" y="668"/>
                    </a:lnTo>
                    <a:lnTo>
                      <a:pt x="634" y="665"/>
                    </a:lnTo>
                    <a:lnTo>
                      <a:pt x="637" y="664"/>
                    </a:lnTo>
                    <a:lnTo>
                      <a:pt x="639" y="664"/>
                    </a:lnTo>
                    <a:lnTo>
                      <a:pt x="641" y="664"/>
                    </a:lnTo>
                    <a:lnTo>
                      <a:pt x="644" y="665"/>
                    </a:lnTo>
                    <a:lnTo>
                      <a:pt x="650" y="669"/>
                    </a:lnTo>
                    <a:lnTo>
                      <a:pt x="660" y="675"/>
                    </a:lnTo>
                    <a:close/>
                    <a:moveTo>
                      <a:pt x="550" y="9"/>
                    </a:moveTo>
                    <a:lnTo>
                      <a:pt x="567" y="23"/>
                    </a:lnTo>
                    <a:lnTo>
                      <a:pt x="586" y="39"/>
                    </a:lnTo>
                    <a:lnTo>
                      <a:pt x="606" y="59"/>
                    </a:lnTo>
                    <a:lnTo>
                      <a:pt x="629" y="82"/>
                    </a:lnTo>
                    <a:lnTo>
                      <a:pt x="652" y="109"/>
                    </a:lnTo>
                    <a:lnTo>
                      <a:pt x="678" y="139"/>
                    </a:lnTo>
                    <a:lnTo>
                      <a:pt x="705" y="172"/>
                    </a:lnTo>
                    <a:lnTo>
                      <a:pt x="735" y="209"/>
                    </a:lnTo>
                    <a:lnTo>
                      <a:pt x="767" y="249"/>
                    </a:lnTo>
                    <a:lnTo>
                      <a:pt x="795" y="285"/>
                    </a:lnTo>
                    <a:lnTo>
                      <a:pt x="823" y="315"/>
                    </a:lnTo>
                    <a:lnTo>
                      <a:pt x="848" y="342"/>
                    </a:lnTo>
                    <a:lnTo>
                      <a:pt x="872" y="365"/>
                    </a:lnTo>
                    <a:lnTo>
                      <a:pt x="893" y="384"/>
                    </a:lnTo>
                    <a:lnTo>
                      <a:pt x="903" y="392"/>
                    </a:lnTo>
                    <a:lnTo>
                      <a:pt x="913" y="399"/>
                    </a:lnTo>
                    <a:lnTo>
                      <a:pt x="921" y="405"/>
                    </a:lnTo>
                    <a:lnTo>
                      <a:pt x="930" y="410"/>
                    </a:lnTo>
                    <a:lnTo>
                      <a:pt x="965" y="429"/>
                    </a:lnTo>
                    <a:lnTo>
                      <a:pt x="999" y="447"/>
                    </a:lnTo>
                    <a:lnTo>
                      <a:pt x="1030" y="464"/>
                    </a:lnTo>
                    <a:lnTo>
                      <a:pt x="1059" y="481"/>
                    </a:lnTo>
                    <a:lnTo>
                      <a:pt x="1086" y="498"/>
                    </a:lnTo>
                    <a:lnTo>
                      <a:pt x="1111" y="514"/>
                    </a:lnTo>
                    <a:lnTo>
                      <a:pt x="1134" y="529"/>
                    </a:lnTo>
                    <a:lnTo>
                      <a:pt x="1156" y="545"/>
                    </a:lnTo>
                    <a:lnTo>
                      <a:pt x="1163" y="551"/>
                    </a:lnTo>
                    <a:lnTo>
                      <a:pt x="1170" y="557"/>
                    </a:lnTo>
                    <a:lnTo>
                      <a:pt x="1176" y="562"/>
                    </a:lnTo>
                    <a:lnTo>
                      <a:pt x="1180" y="568"/>
                    </a:lnTo>
                    <a:lnTo>
                      <a:pt x="1183" y="573"/>
                    </a:lnTo>
                    <a:lnTo>
                      <a:pt x="1185" y="577"/>
                    </a:lnTo>
                    <a:lnTo>
                      <a:pt x="1185" y="581"/>
                    </a:lnTo>
                    <a:lnTo>
                      <a:pt x="1185" y="585"/>
                    </a:lnTo>
                    <a:lnTo>
                      <a:pt x="1183" y="590"/>
                    </a:lnTo>
                    <a:lnTo>
                      <a:pt x="1180" y="593"/>
                    </a:lnTo>
                    <a:lnTo>
                      <a:pt x="1176" y="596"/>
                    </a:lnTo>
                    <a:lnTo>
                      <a:pt x="1170" y="598"/>
                    </a:lnTo>
                    <a:lnTo>
                      <a:pt x="1163" y="600"/>
                    </a:lnTo>
                    <a:lnTo>
                      <a:pt x="1156" y="600"/>
                    </a:lnTo>
                    <a:lnTo>
                      <a:pt x="1146" y="600"/>
                    </a:lnTo>
                    <a:lnTo>
                      <a:pt x="1135" y="600"/>
                    </a:lnTo>
                    <a:lnTo>
                      <a:pt x="1090" y="597"/>
                    </a:lnTo>
                    <a:lnTo>
                      <a:pt x="1048" y="593"/>
                    </a:lnTo>
                    <a:lnTo>
                      <a:pt x="1010" y="588"/>
                    </a:lnTo>
                    <a:lnTo>
                      <a:pt x="977" y="581"/>
                    </a:lnTo>
                    <a:lnTo>
                      <a:pt x="961" y="578"/>
                    </a:lnTo>
                    <a:lnTo>
                      <a:pt x="946" y="574"/>
                    </a:lnTo>
                    <a:lnTo>
                      <a:pt x="933" y="570"/>
                    </a:lnTo>
                    <a:lnTo>
                      <a:pt x="920" y="565"/>
                    </a:lnTo>
                    <a:lnTo>
                      <a:pt x="909" y="560"/>
                    </a:lnTo>
                    <a:lnTo>
                      <a:pt x="898" y="556"/>
                    </a:lnTo>
                    <a:lnTo>
                      <a:pt x="889" y="551"/>
                    </a:lnTo>
                    <a:lnTo>
                      <a:pt x="880" y="545"/>
                    </a:lnTo>
                    <a:lnTo>
                      <a:pt x="866" y="532"/>
                    </a:lnTo>
                    <a:lnTo>
                      <a:pt x="851" y="514"/>
                    </a:lnTo>
                    <a:lnTo>
                      <a:pt x="834" y="492"/>
                    </a:lnTo>
                    <a:lnTo>
                      <a:pt x="813" y="466"/>
                    </a:lnTo>
                    <a:lnTo>
                      <a:pt x="792" y="436"/>
                    </a:lnTo>
                    <a:lnTo>
                      <a:pt x="768" y="401"/>
                    </a:lnTo>
                    <a:lnTo>
                      <a:pt x="742" y="363"/>
                    </a:lnTo>
                    <a:lnTo>
                      <a:pt x="715" y="320"/>
                    </a:lnTo>
                    <a:lnTo>
                      <a:pt x="677" y="263"/>
                    </a:lnTo>
                    <a:lnTo>
                      <a:pt x="642" y="213"/>
                    </a:lnTo>
                    <a:lnTo>
                      <a:pt x="609" y="167"/>
                    </a:lnTo>
                    <a:lnTo>
                      <a:pt x="578" y="127"/>
                    </a:lnTo>
                    <a:lnTo>
                      <a:pt x="551" y="92"/>
                    </a:lnTo>
                    <a:lnTo>
                      <a:pt x="524" y="63"/>
                    </a:lnTo>
                    <a:lnTo>
                      <a:pt x="513" y="50"/>
                    </a:lnTo>
                    <a:lnTo>
                      <a:pt x="501" y="39"/>
                    </a:lnTo>
                    <a:lnTo>
                      <a:pt x="490" y="28"/>
                    </a:lnTo>
                    <a:lnTo>
                      <a:pt x="480" y="20"/>
                    </a:lnTo>
                    <a:lnTo>
                      <a:pt x="482" y="15"/>
                    </a:lnTo>
                    <a:lnTo>
                      <a:pt x="484" y="11"/>
                    </a:lnTo>
                    <a:lnTo>
                      <a:pt x="487" y="8"/>
                    </a:lnTo>
                    <a:lnTo>
                      <a:pt x="490" y="6"/>
                    </a:lnTo>
                    <a:lnTo>
                      <a:pt x="494" y="4"/>
                    </a:lnTo>
                    <a:lnTo>
                      <a:pt x="497" y="2"/>
                    </a:lnTo>
                    <a:lnTo>
                      <a:pt x="501" y="1"/>
                    </a:lnTo>
                    <a:lnTo>
                      <a:pt x="505" y="0"/>
                    </a:lnTo>
                    <a:lnTo>
                      <a:pt x="515" y="0"/>
                    </a:lnTo>
                    <a:lnTo>
                      <a:pt x="525" y="1"/>
                    </a:lnTo>
                    <a:lnTo>
                      <a:pt x="537" y="4"/>
                    </a:lnTo>
                    <a:lnTo>
                      <a:pt x="550" y="9"/>
                    </a:lnTo>
                    <a:close/>
                    <a:moveTo>
                      <a:pt x="380" y="165"/>
                    </a:moveTo>
                    <a:lnTo>
                      <a:pt x="392" y="174"/>
                    </a:lnTo>
                    <a:lnTo>
                      <a:pt x="404" y="184"/>
                    </a:lnTo>
                    <a:lnTo>
                      <a:pt x="417" y="193"/>
                    </a:lnTo>
                    <a:lnTo>
                      <a:pt x="431" y="202"/>
                    </a:lnTo>
                    <a:lnTo>
                      <a:pt x="446" y="210"/>
                    </a:lnTo>
                    <a:lnTo>
                      <a:pt x="462" y="219"/>
                    </a:lnTo>
                    <a:lnTo>
                      <a:pt x="478" y="227"/>
                    </a:lnTo>
                    <a:lnTo>
                      <a:pt x="495" y="235"/>
                    </a:lnTo>
                    <a:lnTo>
                      <a:pt x="484" y="244"/>
                    </a:lnTo>
                    <a:lnTo>
                      <a:pt x="473" y="255"/>
                    </a:lnTo>
                    <a:lnTo>
                      <a:pt x="464" y="266"/>
                    </a:lnTo>
                    <a:lnTo>
                      <a:pt x="454" y="276"/>
                    </a:lnTo>
                    <a:lnTo>
                      <a:pt x="446" y="287"/>
                    </a:lnTo>
                    <a:lnTo>
                      <a:pt x="438" y="297"/>
                    </a:lnTo>
                    <a:lnTo>
                      <a:pt x="431" y="309"/>
                    </a:lnTo>
                    <a:lnTo>
                      <a:pt x="425" y="320"/>
                    </a:lnTo>
                    <a:lnTo>
                      <a:pt x="394" y="376"/>
                    </a:lnTo>
                    <a:lnTo>
                      <a:pt x="363" y="428"/>
                    </a:lnTo>
                    <a:lnTo>
                      <a:pt x="348" y="451"/>
                    </a:lnTo>
                    <a:lnTo>
                      <a:pt x="334" y="473"/>
                    </a:lnTo>
                    <a:lnTo>
                      <a:pt x="319" y="494"/>
                    </a:lnTo>
                    <a:lnTo>
                      <a:pt x="305" y="515"/>
                    </a:lnTo>
                    <a:lnTo>
                      <a:pt x="290" y="534"/>
                    </a:lnTo>
                    <a:lnTo>
                      <a:pt x="276" y="552"/>
                    </a:lnTo>
                    <a:lnTo>
                      <a:pt x="263" y="568"/>
                    </a:lnTo>
                    <a:lnTo>
                      <a:pt x="249" y="582"/>
                    </a:lnTo>
                    <a:lnTo>
                      <a:pt x="235" y="596"/>
                    </a:lnTo>
                    <a:lnTo>
                      <a:pt x="221" y="609"/>
                    </a:lnTo>
                    <a:lnTo>
                      <a:pt x="208" y="619"/>
                    </a:lnTo>
                    <a:lnTo>
                      <a:pt x="195" y="630"/>
                    </a:lnTo>
                    <a:lnTo>
                      <a:pt x="183" y="639"/>
                    </a:lnTo>
                    <a:lnTo>
                      <a:pt x="172" y="645"/>
                    </a:lnTo>
                    <a:lnTo>
                      <a:pt x="161" y="651"/>
                    </a:lnTo>
                    <a:lnTo>
                      <a:pt x="149" y="657"/>
                    </a:lnTo>
                    <a:lnTo>
                      <a:pt x="137" y="661"/>
                    </a:lnTo>
                    <a:lnTo>
                      <a:pt x="125" y="664"/>
                    </a:lnTo>
                    <a:lnTo>
                      <a:pt x="113" y="665"/>
                    </a:lnTo>
                    <a:lnTo>
                      <a:pt x="101" y="666"/>
                    </a:lnTo>
                    <a:lnTo>
                      <a:pt x="89" y="666"/>
                    </a:lnTo>
                    <a:lnTo>
                      <a:pt x="76" y="665"/>
                    </a:lnTo>
                    <a:lnTo>
                      <a:pt x="64" y="663"/>
                    </a:lnTo>
                    <a:lnTo>
                      <a:pt x="51" y="659"/>
                    </a:lnTo>
                    <a:lnTo>
                      <a:pt x="38" y="654"/>
                    </a:lnTo>
                    <a:lnTo>
                      <a:pt x="25" y="649"/>
                    </a:lnTo>
                    <a:lnTo>
                      <a:pt x="13" y="643"/>
                    </a:lnTo>
                    <a:lnTo>
                      <a:pt x="0" y="635"/>
                    </a:lnTo>
                    <a:lnTo>
                      <a:pt x="36" y="616"/>
                    </a:lnTo>
                    <a:lnTo>
                      <a:pt x="70" y="596"/>
                    </a:lnTo>
                    <a:lnTo>
                      <a:pt x="103" y="574"/>
                    </a:lnTo>
                    <a:lnTo>
                      <a:pt x="135" y="552"/>
                    </a:lnTo>
                    <a:lnTo>
                      <a:pt x="149" y="539"/>
                    </a:lnTo>
                    <a:lnTo>
                      <a:pt x="164" y="526"/>
                    </a:lnTo>
                    <a:lnTo>
                      <a:pt x="178" y="514"/>
                    </a:lnTo>
                    <a:lnTo>
                      <a:pt x="192" y="501"/>
                    </a:lnTo>
                    <a:lnTo>
                      <a:pt x="204" y="487"/>
                    </a:lnTo>
                    <a:lnTo>
                      <a:pt x="218" y="473"/>
                    </a:lnTo>
                    <a:lnTo>
                      <a:pt x="230" y="459"/>
                    </a:lnTo>
                    <a:lnTo>
                      <a:pt x="243" y="445"/>
                    </a:lnTo>
                    <a:lnTo>
                      <a:pt x="254" y="430"/>
                    </a:lnTo>
                    <a:lnTo>
                      <a:pt x="265" y="415"/>
                    </a:lnTo>
                    <a:lnTo>
                      <a:pt x="276" y="399"/>
                    </a:lnTo>
                    <a:lnTo>
                      <a:pt x="286" y="383"/>
                    </a:lnTo>
                    <a:lnTo>
                      <a:pt x="297" y="367"/>
                    </a:lnTo>
                    <a:lnTo>
                      <a:pt x="306" y="350"/>
                    </a:lnTo>
                    <a:lnTo>
                      <a:pt x="316" y="333"/>
                    </a:lnTo>
                    <a:lnTo>
                      <a:pt x="324" y="316"/>
                    </a:lnTo>
                    <a:lnTo>
                      <a:pt x="341" y="280"/>
                    </a:lnTo>
                    <a:lnTo>
                      <a:pt x="355" y="243"/>
                    </a:lnTo>
                    <a:lnTo>
                      <a:pt x="369" y="204"/>
                    </a:lnTo>
                    <a:lnTo>
                      <a:pt x="380" y="165"/>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426" name="Freeform 24"/>
              <p:cNvSpPr/>
              <p:nvPr/>
            </p:nvSpPr>
            <p:spPr>
              <a:xfrm>
                <a:off x="4607280" y="1110960"/>
                <a:ext cx="126000" cy="148320"/>
              </a:xfrm>
              <a:custGeom>
                <a:avLst/>
                <a:gdLst>
                  <a:gd name="textAreaLeft" fmla="*/ 0 w 126000"/>
                  <a:gd name="textAreaRight" fmla="*/ 126360 w 126000"/>
                  <a:gd name="textAreaTop" fmla="*/ 0 h 148320"/>
                  <a:gd name="textAreaBottom" fmla="*/ 148680 h 148320"/>
                </a:gdLst>
                <a:ahLst/>
                <a:rect l="textAreaLeft" t="textAreaTop" r="textAreaRight" b="textAreaBottom"/>
                <a:pathLst>
                  <a:path w="846" h="1072">
                    <a:moveTo>
                      <a:pt x="651" y="0"/>
                    </a:moveTo>
                    <a:lnTo>
                      <a:pt x="671" y="13"/>
                    </a:lnTo>
                    <a:lnTo>
                      <a:pt x="692" y="25"/>
                    </a:lnTo>
                    <a:lnTo>
                      <a:pt x="715" y="35"/>
                    </a:lnTo>
                    <a:lnTo>
                      <a:pt x="739" y="45"/>
                    </a:lnTo>
                    <a:lnTo>
                      <a:pt x="764" y="52"/>
                    </a:lnTo>
                    <a:lnTo>
                      <a:pt x="791" y="58"/>
                    </a:lnTo>
                    <a:lnTo>
                      <a:pt x="817" y="63"/>
                    </a:lnTo>
                    <a:lnTo>
                      <a:pt x="846" y="66"/>
                    </a:lnTo>
                    <a:lnTo>
                      <a:pt x="841" y="71"/>
                    </a:lnTo>
                    <a:lnTo>
                      <a:pt x="837" y="78"/>
                    </a:lnTo>
                    <a:lnTo>
                      <a:pt x="834" y="85"/>
                    </a:lnTo>
                    <a:lnTo>
                      <a:pt x="831" y="94"/>
                    </a:lnTo>
                    <a:lnTo>
                      <a:pt x="825" y="116"/>
                    </a:lnTo>
                    <a:lnTo>
                      <a:pt x="819" y="142"/>
                    </a:lnTo>
                    <a:lnTo>
                      <a:pt x="815" y="173"/>
                    </a:lnTo>
                    <a:lnTo>
                      <a:pt x="811" y="210"/>
                    </a:lnTo>
                    <a:lnTo>
                      <a:pt x="808" y="251"/>
                    </a:lnTo>
                    <a:lnTo>
                      <a:pt x="805" y="297"/>
                    </a:lnTo>
                    <a:lnTo>
                      <a:pt x="804" y="348"/>
                    </a:lnTo>
                    <a:lnTo>
                      <a:pt x="803" y="404"/>
                    </a:lnTo>
                    <a:lnTo>
                      <a:pt x="803" y="464"/>
                    </a:lnTo>
                    <a:lnTo>
                      <a:pt x="804" y="530"/>
                    </a:lnTo>
                    <a:lnTo>
                      <a:pt x="805" y="600"/>
                    </a:lnTo>
                    <a:lnTo>
                      <a:pt x="809" y="675"/>
                    </a:lnTo>
                    <a:lnTo>
                      <a:pt x="812" y="756"/>
                    </a:lnTo>
                    <a:lnTo>
                      <a:pt x="815" y="842"/>
                    </a:lnTo>
                    <a:lnTo>
                      <a:pt x="816" y="890"/>
                    </a:lnTo>
                    <a:lnTo>
                      <a:pt x="816" y="934"/>
                    </a:lnTo>
                    <a:lnTo>
                      <a:pt x="814" y="972"/>
                    </a:lnTo>
                    <a:lnTo>
                      <a:pt x="812" y="1004"/>
                    </a:lnTo>
                    <a:lnTo>
                      <a:pt x="810" y="1018"/>
                    </a:lnTo>
                    <a:lnTo>
                      <a:pt x="808" y="1029"/>
                    </a:lnTo>
                    <a:lnTo>
                      <a:pt x="805" y="1040"/>
                    </a:lnTo>
                    <a:lnTo>
                      <a:pt x="803" y="1049"/>
                    </a:lnTo>
                    <a:lnTo>
                      <a:pt x="800" y="1057"/>
                    </a:lnTo>
                    <a:lnTo>
                      <a:pt x="797" y="1063"/>
                    </a:lnTo>
                    <a:lnTo>
                      <a:pt x="794" y="1068"/>
                    </a:lnTo>
                    <a:lnTo>
                      <a:pt x="791" y="1072"/>
                    </a:lnTo>
                    <a:lnTo>
                      <a:pt x="779" y="1068"/>
                    </a:lnTo>
                    <a:lnTo>
                      <a:pt x="766" y="1064"/>
                    </a:lnTo>
                    <a:lnTo>
                      <a:pt x="754" y="1060"/>
                    </a:lnTo>
                    <a:lnTo>
                      <a:pt x="741" y="1054"/>
                    </a:lnTo>
                    <a:lnTo>
                      <a:pt x="727" y="1047"/>
                    </a:lnTo>
                    <a:lnTo>
                      <a:pt x="712" y="1040"/>
                    </a:lnTo>
                    <a:lnTo>
                      <a:pt x="697" y="1030"/>
                    </a:lnTo>
                    <a:lnTo>
                      <a:pt x="682" y="1021"/>
                    </a:lnTo>
                    <a:lnTo>
                      <a:pt x="649" y="1000"/>
                    </a:lnTo>
                    <a:lnTo>
                      <a:pt x="613" y="974"/>
                    </a:lnTo>
                    <a:lnTo>
                      <a:pt x="576" y="944"/>
                    </a:lnTo>
                    <a:lnTo>
                      <a:pt x="535" y="912"/>
                    </a:lnTo>
                    <a:lnTo>
                      <a:pt x="527" y="904"/>
                    </a:lnTo>
                    <a:lnTo>
                      <a:pt x="521" y="898"/>
                    </a:lnTo>
                    <a:lnTo>
                      <a:pt x="516" y="892"/>
                    </a:lnTo>
                    <a:lnTo>
                      <a:pt x="515" y="886"/>
                    </a:lnTo>
                    <a:lnTo>
                      <a:pt x="517" y="884"/>
                    </a:lnTo>
                    <a:lnTo>
                      <a:pt x="519" y="882"/>
                    </a:lnTo>
                    <a:lnTo>
                      <a:pt x="522" y="881"/>
                    </a:lnTo>
                    <a:lnTo>
                      <a:pt x="526" y="880"/>
                    </a:lnTo>
                    <a:lnTo>
                      <a:pt x="534" y="880"/>
                    </a:lnTo>
                    <a:lnTo>
                      <a:pt x="545" y="881"/>
                    </a:lnTo>
                    <a:lnTo>
                      <a:pt x="584" y="886"/>
                    </a:lnTo>
                    <a:lnTo>
                      <a:pt x="616" y="889"/>
                    </a:lnTo>
                    <a:lnTo>
                      <a:pt x="631" y="889"/>
                    </a:lnTo>
                    <a:lnTo>
                      <a:pt x="643" y="889"/>
                    </a:lnTo>
                    <a:lnTo>
                      <a:pt x="654" y="888"/>
                    </a:lnTo>
                    <a:lnTo>
                      <a:pt x="665" y="887"/>
                    </a:lnTo>
                    <a:lnTo>
                      <a:pt x="672" y="885"/>
                    </a:lnTo>
                    <a:lnTo>
                      <a:pt x="679" y="883"/>
                    </a:lnTo>
                    <a:lnTo>
                      <a:pt x="685" y="880"/>
                    </a:lnTo>
                    <a:lnTo>
                      <a:pt x="689" y="877"/>
                    </a:lnTo>
                    <a:lnTo>
                      <a:pt x="691" y="872"/>
                    </a:lnTo>
                    <a:lnTo>
                      <a:pt x="692" y="867"/>
                    </a:lnTo>
                    <a:lnTo>
                      <a:pt x="692" y="862"/>
                    </a:lnTo>
                    <a:lnTo>
                      <a:pt x="690" y="857"/>
                    </a:lnTo>
                    <a:lnTo>
                      <a:pt x="691" y="827"/>
                    </a:lnTo>
                    <a:lnTo>
                      <a:pt x="692" y="793"/>
                    </a:lnTo>
                    <a:lnTo>
                      <a:pt x="693" y="755"/>
                    </a:lnTo>
                    <a:lnTo>
                      <a:pt x="694" y="713"/>
                    </a:lnTo>
                    <a:lnTo>
                      <a:pt x="694" y="668"/>
                    </a:lnTo>
                    <a:lnTo>
                      <a:pt x="695" y="618"/>
                    </a:lnTo>
                    <a:lnTo>
                      <a:pt x="695" y="564"/>
                    </a:lnTo>
                    <a:lnTo>
                      <a:pt x="695" y="506"/>
                    </a:lnTo>
                    <a:lnTo>
                      <a:pt x="695" y="441"/>
                    </a:lnTo>
                    <a:lnTo>
                      <a:pt x="694" y="382"/>
                    </a:lnTo>
                    <a:lnTo>
                      <a:pt x="694" y="326"/>
                    </a:lnTo>
                    <a:lnTo>
                      <a:pt x="693" y="275"/>
                    </a:lnTo>
                    <a:lnTo>
                      <a:pt x="691" y="227"/>
                    </a:lnTo>
                    <a:lnTo>
                      <a:pt x="690" y="184"/>
                    </a:lnTo>
                    <a:lnTo>
                      <a:pt x="688" y="145"/>
                    </a:lnTo>
                    <a:lnTo>
                      <a:pt x="686" y="110"/>
                    </a:lnTo>
                    <a:lnTo>
                      <a:pt x="685" y="107"/>
                    </a:lnTo>
                    <a:lnTo>
                      <a:pt x="685" y="104"/>
                    </a:lnTo>
                    <a:lnTo>
                      <a:pt x="684" y="101"/>
                    </a:lnTo>
                    <a:lnTo>
                      <a:pt x="682" y="99"/>
                    </a:lnTo>
                    <a:lnTo>
                      <a:pt x="679" y="98"/>
                    </a:lnTo>
                    <a:lnTo>
                      <a:pt x="677" y="97"/>
                    </a:lnTo>
                    <a:lnTo>
                      <a:pt x="674" y="96"/>
                    </a:lnTo>
                    <a:lnTo>
                      <a:pt x="671" y="96"/>
                    </a:lnTo>
                    <a:lnTo>
                      <a:pt x="612" y="103"/>
                    </a:lnTo>
                    <a:lnTo>
                      <a:pt x="552" y="112"/>
                    </a:lnTo>
                    <a:lnTo>
                      <a:pt x="492" y="121"/>
                    </a:lnTo>
                    <a:lnTo>
                      <a:pt x="432" y="131"/>
                    </a:lnTo>
                    <a:lnTo>
                      <a:pt x="371" y="141"/>
                    </a:lnTo>
                    <a:lnTo>
                      <a:pt x="310" y="152"/>
                    </a:lnTo>
                    <a:lnTo>
                      <a:pt x="247" y="163"/>
                    </a:lnTo>
                    <a:lnTo>
                      <a:pt x="185" y="176"/>
                    </a:lnTo>
                    <a:lnTo>
                      <a:pt x="175" y="169"/>
                    </a:lnTo>
                    <a:lnTo>
                      <a:pt x="165" y="161"/>
                    </a:lnTo>
                    <a:lnTo>
                      <a:pt x="155" y="152"/>
                    </a:lnTo>
                    <a:lnTo>
                      <a:pt x="146" y="142"/>
                    </a:lnTo>
                    <a:lnTo>
                      <a:pt x="135" y="131"/>
                    </a:lnTo>
                    <a:lnTo>
                      <a:pt x="125" y="118"/>
                    </a:lnTo>
                    <a:lnTo>
                      <a:pt x="115" y="105"/>
                    </a:lnTo>
                    <a:lnTo>
                      <a:pt x="105" y="90"/>
                    </a:lnTo>
                    <a:lnTo>
                      <a:pt x="157" y="88"/>
                    </a:lnTo>
                    <a:lnTo>
                      <a:pt x="208" y="85"/>
                    </a:lnTo>
                    <a:lnTo>
                      <a:pt x="256" y="81"/>
                    </a:lnTo>
                    <a:lnTo>
                      <a:pt x="300" y="78"/>
                    </a:lnTo>
                    <a:lnTo>
                      <a:pt x="344" y="73"/>
                    </a:lnTo>
                    <a:lnTo>
                      <a:pt x="384" y="68"/>
                    </a:lnTo>
                    <a:lnTo>
                      <a:pt x="421" y="64"/>
                    </a:lnTo>
                    <a:lnTo>
                      <a:pt x="457" y="58"/>
                    </a:lnTo>
                    <a:lnTo>
                      <a:pt x="490" y="52"/>
                    </a:lnTo>
                    <a:lnTo>
                      <a:pt x="519" y="46"/>
                    </a:lnTo>
                    <a:lnTo>
                      <a:pt x="548" y="39"/>
                    </a:lnTo>
                    <a:lnTo>
                      <a:pt x="573" y="32"/>
                    </a:lnTo>
                    <a:lnTo>
                      <a:pt x="596" y="25"/>
                    </a:lnTo>
                    <a:lnTo>
                      <a:pt x="617" y="17"/>
                    </a:lnTo>
                    <a:lnTo>
                      <a:pt x="635" y="9"/>
                    </a:lnTo>
                    <a:lnTo>
                      <a:pt x="651" y="0"/>
                    </a:lnTo>
                    <a:close/>
                    <a:moveTo>
                      <a:pt x="410" y="431"/>
                    </a:moveTo>
                    <a:lnTo>
                      <a:pt x="427" y="446"/>
                    </a:lnTo>
                    <a:lnTo>
                      <a:pt x="445" y="461"/>
                    </a:lnTo>
                    <a:lnTo>
                      <a:pt x="464" y="475"/>
                    </a:lnTo>
                    <a:lnTo>
                      <a:pt x="486" y="489"/>
                    </a:lnTo>
                    <a:lnTo>
                      <a:pt x="507" y="500"/>
                    </a:lnTo>
                    <a:lnTo>
                      <a:pt x="530" y="511"/>
                    </a:lnTo>
                    <a:lnTo>
                      <a:pt x="554" y="522"/>
                    </a:lnTo>
                    <a:lnTo>
                      <a:pt x="581" y="531"/>
                    </a:lnTo>
                    <a:lnTo>
                      <a:pt x="565" y="544"/>
                    </a:lnTo>
                    <a:lnTo>
                      <a:pt x="550" y="559"/>
                    </a:lnTo>
                    <a:lnTo>
                      <a:pt x="535" y="576"/>
                    </a:lnTo>
                    <a:lnTo>
                      <a:pt x="521" y="596"/>
                    </a:lnTo>
                    <a:lnTo>
                      <a:pt x="506" y="618"/>
                    </a:lnTo>
                    <a:lnTo>
                      <a:pt x="490" y="644"/>
                    </a:lnTo>
                    <a:lnTo>
                      <a:pt x="475" y="671"/>
                    </a:lnTo>
                    <a:lnTo>
                      <a:pt x="460" y="701"/>
                    </a:lnTo>
                    <a:lnTo>
                      <a:pt x="460" y="704"/>
                    </a:lnTo>
                    <a:lnTo>
                      <a:pt x="461" y="706"/>
                    </a:lnTo>
                    <a:lnTo>
                      <a:pt x="463" y="708"/>
                    </a:lnTo>
                    <a:lnTo>
                      <a:pt x="465" y="711"/>
                    </a:lnTo>
                    <a:lnTo>
                      <a:pt x="479" y="727"/>
                    </a:lnTo>
                    <a:lnTo>
                      <a:pt x="489" y="741"/>
                    </a:lnTo>
                    <a:lnTo>
                      <a:pt x="496" y="753"/>
                    </a:lnTo>
                    <a:lnTo>
                      <a:pt x="500" y="761"/>
                    </a:lnTo>
                    <a:lnTo>
                      <a:pt x="476" y="764"/>
                    </a:lnTo>
                    <a:lnTo>
                      <a:pt x="444" y="768"/>
                    </a:lnTo>
                    <a:lnTo>
                      <a:pt x="404" y="772"/>
                    </a:lnTo>
                    <a:lnTo>
                      <a:pt x="355" y="776"/>
                    </a:lnTo>
                    <a:lnTo>
                      <a:pt x="316" y="779"/>
                    </a:lnTo>
                    <a:lnTo>
                      <a:pt x="280" y="783"/>
                    </a:lnTo>
                    <a:lnTo>
                      <a:pt x="248" y="786"/>
                    </a:lnTo>
                    <a:lnTo>
                      <a:pt x="220" y="789"/>
                    </a:lnTo>
                    <a:lnTo>
                      <a:pt x="195" y="791"/>
                    </a:lnTo>
                    <a:lnTo>
                      <a:pt x="175" y="793"/>
                    </a:lnTo>
                    <a:lnTo>
                      <a:pt x="158" y="795"/>
                    </a:lnTo>
                    <a:lnTo>
                      <a:pt x="146" y="796"/>
                    </a:lnTo>
                    <a:lnTo>
                      <a:pt x="147" y="816"/>
                    </a:lnTo>
                    <a:lnTo>
                      <a:pt x="147" y="833"/>
                    </a:lnTo>
                    <a:lnTo>
                      <a:pt x="146" y="841"/>
                    </a:lnTo>
                    <a:lnTo>
                      <a:pt x="145" y="847"/>
                    </a:lnTo>
                    <a:lnTo>
                      <a:pt x="142" y="852"/>
                    </a:lnTo>
                    <a:lnTo>
                      <a:pt x="140" y="857"/>
                    </a:lnTo>
                    <a:lnTo>
                      <a:pt x="135" y="855"/>
                    </a:lnTo>
                    <a:lnTo>
                      <a:pt x="129" y="853"/>
                    </a:lnTo>
                    <a:lnTo>
                      <a:pt x="121" y="850"/>
                    </a:lnTo>
                    <a:lnTo>
                      <a:pt x="114" y="846"/>
                    </a:lnTo>
                    <a:lnTo>
                      <a:pt x="105" y="841"/>
                    </a:lnTo>
                    <a:lnTo>
                      <a:pt x="96" y="833"/>
                    </a:lnTo>
                    <a:lnTo>
                      <a:pt x="86" y="826"/>
                    </a:lnTo>
                    <a:lnTo>
                      <a:pt x="76" y="816"/>
                    </a:lnTo>
                    <a:lnTo>
                      <a:pt x="69" y="754"/>
                    </a:lnTo>
                    <a:lnTo>
                      <a:pt x="63" y="699"/>
                    </a:lnTo>
                    <a:lnTo>
                      <a:pt x="56" y="649"/>
                    </a:lnTo>
                    <a:lnTo>
                      <a:pt x="46" y="604"/>
                    </a:lnTo>
                    <a:lnTo>
                      <a:pt x="42" y="585"/>
                    </a:lnTo>
                    <a:lnTo>
                      <a:pt x="36" y="567"/>
                    </a:lnTo>
                    <a:lnTo>
                      <a:pt x="31" y="550"/>
                    </a:lnTo>
                    <a:lnTo>
                      <a:pt x="26" y="535"/>
                    </a:lnTo>
                    <a:lnTo>
                      <a:pt x="20" y="522"/>
                    </a:lnTo>
                    <a:lnTo>
                      <a:pt x="13" y="510"/>
                    </a:lnTo>
                    <a:lnTo>
                      <a:pt x="7" y="499"/>
                    </a:lnTo>
                    <a:lnTo>
                      <a:pt x="0" y="491"/>
                    </a:lnTo>
                    <a:lnTo>
                      <a:pt x="29" y="494"/>
                    </a:lnTo>
                    <a:lnTo>
                      <a:pt x="57" y="497"/>
                    </a:lnTo>
                    <a:lnTo>
                      <a:pt x="82" y="502"/>
                    </a:lnTo>
                    <a:lnTo>
                      <a:pt x="105" y="506"/>
                    </a:lnTo>
                    <a:lnTo>
                      <a:pt x="163" y="499"/>
                    </a:lnTo>
                    <a:lnTo>
                      <a:pt x="214" y="492"/>
                    </a:lnTo>
                    <a:lnTo>
                      <a:pt x="261" y="484"/>
                    </a:lnTo>
                    <a:lnTo>
                      <a:pt x="301" y="475"/>
                    </a:lnTo>
                    <a:lnTo>
                      <a:pt x="320" y="470"/>
                    </a:lnTo>
                    <a:lnTo>
                      <a:pt x="337" y="464"/>
                    </a:lnTo>
                    <a:lnTo>
                      <a:pt x="352" y="459"/>
                    </a:lnTo>
                    <a:lnTo>
                      <a:pt x="367" y="454"/>
                    </a:lnTo>
                    <a:lnTo>
                      <a:pt x="380" y="449"/>
                    </a:lnTo>
                    <a:lnTo>
                      <a:pt x="391" y="443"/>
                    </a:lnTo>
                    <a:lnTo>
                      <a:pt x="402" y="437"/>
                    </a:lnTo>
                    <a:lnTo>
                      <a:pt x="410" y="431"/>
                    </a:lnTo>
                    <a:close/>
                    <a:moveTo>
                      <a:pt x="410" y="526"/>
                    </a:moveTo>
                    <a:lnTo>
                      <a:pt x="407" y="525"/>
                    </a:lnTo>
                    <a:lnTo>
                      <a:pt x="400" y="525"/>
                    </a:lnTo>
                    <a:lnTo>
                      <a:pt x="389" y="526"/>
                    </a:lnTo>
                    <a:lnTo>
                      <a:pt x="374" y="527"/>
                    </a:lnTo>
                    <a:lnTo>
                      <a:pt x="332" y="532"/>
                    </a:lnTo>
                    <a:lnTo>
                      <a:pt x="275" y="541"/>
                    </a:lnTo>
                    <a:lnTo>
                      <a:pt x="248" y="546"/>
                    </a:lnTo>
                    <a:lnTo>
                      <a:pt x="224" y="550"/>
                    </a:lnTo>
                    <a:lnTo>
                      <a:pt x="201" y="553"/>
                    </a:lnTo>
                    <a:lnTo>
                      <a:pt x="181" y="557"/>
                    </a:lnTo>
                    <a:lnTo>
                      <a:pt x="161" y="560"/>
                    </a:lnTo>
                    <a:lnTo>
                      <a:pt x="143" y="563"/>
                    </a:lnTo>
                    <a:lnTo>
                      <a:pt x="129" y="564"/>
                    </a:lnTo>
                    <a:lnTo>
                      <a:pt x="115" y="566"/>
                    </a:lnTo>
                    <a:lnTo>
                      <a:pt x="119" y="585"/>
                    </a:lnTo>
                    <a:lnTo>
                      <a:pt x="122" y="605"/>
                    </a:lnTo>
                    <a:lnTo>
                      <a:pt x="125" y="626"/>
                    </a:lnTo>
                    <a:lnTo>
                      <a:pt x="129" y="647"/>
                    </a:lnTo>
                    <a:lnTo>
                      <a:pt x="132" y="670"/>
                    </a:lnTo>
                    <a:lnTo>
                      <a:pt x="135" y="692"/>
                    </a:lnTo>
                    <a:lnTo>
                      <a:pt x="137" y="717"/>
                    </a:lnTo>
                    <a:lnTo>
                      <a:pt x="140" y="741"/>
                    </a:lnTo>
                    <a:lnTo>
                      <a:pt x="186" y="733"/>
                    </a:lnTo>
                    <a:lnTo>
                      <a:pt x="226" y="725"/>
                    </a:lnTo>
                    <a:lnTo>
                      <a:pt x="263" y="719"/>
                    </a:lnTo>
                    <a:lnTo>
                      <a:pt x="295" y="713"/>
                    </a:lnTo>
                    <a:lnTo>
                      <a:pt x="324" y="709"/>
                    </a:lnTo>
                    <a:lnTo>
                      <a:pt x="347" y="705"/>
                    </a:lnTo>
                    <a:lnTo>
                      <a:pt x="366" y="703"/>
                    </a:lnTo>
                    <a:lnTo>
                      <a:pt x="381" y="701"/>
                    </a:lnTo>
                    <a:lnTo>
                      <a:pt x="387" y="671"/>
                    </a:lnTo>
                    <a:lnTo>
                      <a:pt x="393" y="644"/>
                    </a:lnTo>
                    <a:lnTo>
                      <a:pt x="399" y="618"/>
                    </a:lnTo>
                    <a:lnTo>
                      <a:pt x="403" y="595"/>
                    </a:lnTo>
                    <a:lnTo>
                      <a:pt x="406" y="574"/>
                    </a:lnTo>
                    <a:lnTo>
                      <a:pt x="408" y="556"/>
                    </a:lnTo>
                    <a:lnTo>
                      <a:pt x="409" y="540"/>
                    </a:lnTo>
                    <a:lnTo>
                      <a:pt x="410" y="526"/>
                    </a:lnTo>
                    <a:close/>
                    <a:moveTo>
                      <a:pt x="76" y="316"/>
                    </a:moveTo>
                    <a:lnTo>
                      <a:pt x="93" y="314"/>
                    </a:lnTo>
                    <a:lnTo>
                      <a:pt x="114" y="312"/>
                    </a:lnTo>
                    <a:lnTo>
                      <a:pt x="137" y="309"/>
                    </a:lnTo>
                    <a:lnTo>
                      <a:pt x="163" y="304"/>
                    </a:lnTo>
                    <a:lnTo>
                      <a:pt x="192" y="300"/>
                    </a:lnTo>
                    <a:lnTo>
                      <a:pt x="223" y="294"/>
                    </a:lnTo>
                    <a:lnTo>
                      <a:pt x="258" y="287"/>
                    </a:lnTo>
                    <a:lnTo>
                      <a:pt x="295" y="281"/>
                    </a:lnTo>
                    <a:lnTo>
                      <a:pt x="321" y="276"/>
                    </a:lnTo>
                    <a:lnTo>
                      <a:pt x="347" y="272"/>
                    </a:lnTo>
                    <a:lnTo>
                      <a:pt x="370" y="267"/>
                    </a:lnTo>
                    <a:lnTo>
                      <a:pt x="391" y="263"/>
                    </a:lnTo>
                    <a:lnTo>
                      <a:pt x="411" y="260"/>
                    </a:lnTo>
                    <a:lnTo>
                      <a:pt x="429" y="257"/>
                    </a:lnTo>
                    <a:lnTo>
                      <a:pt x="445" y="254"/>
                    </a:lnTo>
                    <a:lnTo>
                      <a:pt x="460" y="250"/>
                    </a:lnTo>
                    <a:lnTo>
                      <a:pt x="468" y="249"/>
                    </a:lnTo>
                    <a:lnTo>
                      <a:pt x="475" y="249"/>
                    </a:lnTo>
                    <a:lnTo>
                      <a:pt x="482" y="251"/>
                    </a:lnTo>
                    <a:lnTo>
                      <a:pt x="490" y="256"/>
                    </a:lnTo>
                    <a:lnTo>
                      <a:pt x="492" y="257"/>
                    </a:lnTo>
                    <a:lnTo>
                      <a:pt x="495" y="261"/>
                    </a:lnTo>
                    <a:lnTo>
                      <a:pt x="509" y="276"/>
                    </a:lnTo>
                    <a:lnTo>
                      <a:pt x="521" y="291"/>
                    </a:lnTo>
                    <a:lnTo>
                      <a:pt x="525" y="298"/>
                    </a:lnTo>
                    <a:lnTo>
                      <a:pt x="529" y="305"/>
                    </a:lnTo>
                    <a:lnTo>
                      <a:pt x="532" y="313"/>
                    </a:lnTo>
                    <a:lnTo>
                      <a:pt x="535" y="320"/>
                    </a:lnTo>
                    <a:lnTo>
                      <a:pt x="522" y="322"/>
                    </a:lnTo>
                    <a:lnTo>
                      <a:pt x="505" y="325"/>
                    </a:lnTo>
                    <a:lnTo>
                      <a:pt x="486" y="327"/>
                    </a:lnTo>
                    <a:lnTo>
                      <a:pt x="464" y="330"/>
                    </a:lnTo>
                    <a:lnTo>
                      <a:pt x="440" y="333"/>
                    </a:lnTo>
                    <a:lnTo>
                      <a:pt x="412" y="336"/>
                    </a:lnTo>
                    <a:lnTo>
                      <a:pt x="383" y="340"/>
                    </a:lnTo>
                    <a:lnTo>
                      <a:pt x="350" y="346"/>
                    </a:lnTo>
                    <a:lnTo>
                      <a:pt x="302" y="353"/>
                    </a:lnTo>
                    <a:lnTo>
                      <a:pt x="259" y="358"/>
                    </a:lnTo>
                    <a:lnTo>
                      <a:pt x="223" y="364"/>
                    </a:lnTo>
                    <a:lnTo>
                      <a:pt x="191" y="368"/>
                    </a:lnTo>
                    <a:lnTo>
                      <a:pt x="167" y="371"/>
                    </a:lnTo>
                    <a:lnTo>
                      <a:pt x="147" y="374"/>
                    </a:lnTo>
                    <a:lnTo>
                      <a:pt x="133" y="375"/>
                    </a:lnTo>
                    <a:lnTo>
                      <a:pt x="125" y="375"/>
                    </a:lnTo>
                    <a:lnTo>
                      <a:pt x="108" y="366"/>
                    </a:lnTo>
                    <a:lnTo>
                      <a:pt x="94" y="354"/>
                    </a:lnTo>
                    <a:lnTo>
                      <a:pt x="81" y="343"/>
                    </a:lnTo>
                    <a:lnTo>
                      <a:pt x="70" y="331"/>
                    </a:lnTo>
                    <a:lnTo>
                      <a:pt x="68" y="328"/>
                    </a:lnTo>
                    <a:lnTo>
                      <a:pt x="66" y="326"/>
                    </a:lnTo>
                    <a:lnTo>
                      <a:pt x="65" y="323"/>
                    </a:lnTo>
                    <a:lnTo>
                      <a:pt x="65" y="320"/>
                    </a:lnTo>
                    <a:lnTo>
                      <a:pt x="66" y="318"/>
                    </a:lnTo>
                    <a:lnTo>
                      <a:pt x="67" y="317"/>
                    </a:lnTo>
                    <a:lnTo>
                      <a:pt x="70" y="316"/>
                    </a:lnTo>
                    <a:lnTo>
                      <a:pt x="76" y="316"/>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427" name="Freeform 25"/>
              <p:cNvSpPr/>
              <p:nvPr/>
            </p:nvSpPr>
            <p:spPr>
              <a:xfrm>
                <a:off x="2223000" y="1295280"/>
                <a:ext cx="35280" cy="44280"/>
              </a:xfrm>
              <a:custGeom>
                <a:avLst/>
                <a:gdLst>
                  <a:gd name="textAreaLeft" fmla="*/ 0 w 35280"/>
                  <a:gd name="textAreaRight" fmla="*/ 35640 w 35280"/>
                  <a:gd name="textAreaTop" fmla="*/ 0 h 44280"/>
                  <a:gd name="textAreaBottom" fmla="*/ 44640 h 44280"/>
                </a:gdLst>
                <a:ahLst/>
                <a:rect l="textAreaLeft" t="textAreaTop" r="textAreaRight" b="textAreaBottom"/>
                <a:pathLst>
                  <a:path w="240" h="320">
                    <a:moveTo>
                      <a:pt x="0" y="320"/>
                    </a:moveTo>
                    <a:lnTo>
                      <a:pt x="0" y="281"/>
                    </a:lnTo>
                    <a:lnTo>
                      <a:pt x="156" y="75"/>
                    </a:lnTo>
                    <a:lnTo>
                      <a:pt x="164" y="65"/>
                    </a:lnTo>
                    <a:lnTo>
                      <a:pt x="171" y="55"/>
                    </a:lnTo>
                    <a:lnTo>
                      <a:pt x="180" y="46"/>
                    </a:lnTo>
                    <a:lnTo>
                      <a:pt x="187" y="37"/>
                    </a:lnTo>
                    <a:lnTo>
                      <a:pt x="17" y="37"/>
                    </a:lnTo>
                    <a:lnTo>
                      <a:pt x="17" y="0"/>
                    </a:lnTo>
                    <a:lnTo>
                      <a:pt x="235" y="0"/>
                    </a:lnTo>
                    <a:lnTo>
                      <a:pt x="235" y="37"/>
                    </a:lnTo>
                    <a:lnTo>
                      <a:pt x="64" y="260"/>
                    </a:lnTo>
                    <a:lnTo>
                      <a:pt x="46" y="282"/>
                    </a:lnTo>
                    <a:lnTo>
                      <a:pt x="240" y="282"/>
                    </a:lnTo>
                    <a:lnTo>
                      <a:pt x="240" y="320"/>
                    </a:lnTo>
                    <a:lnTo>
                      <a:pt x="0" y="32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428" name="Freeform 26"/>
              <p:cNvSpPr/>
              <p:nvPr/>
            </p:nvSpPr>
            <p:spPr>
              <a:xfrm>
                <a:off x="2268720" y="1295280"/>
                <a:ext cx="35280" cy="44280"/>
              </a:xfrm>
              <a:custGeom>
                <a:avLst/>
                <a:gdLst>
                  <a:gd name="textAreaLeft" fmla="*/ 0 w 35280"/>
                  <a:gd name="textAreaRight" fmla="*/ 35640 w 35280"/>
                  <a:gd name="textAreaTop" fmla="*/ 0 h 44280"/>
                  <a:gd name="textAreaBottom" fmla="*/ 44640 h 44280"/>
                </a:gdLst>
                <a:ahLst/>
                <a:rect l="textAreaLeft" t="textAreaTop" r="textAreaRight" b="textAreaBottom"/>
                <a:pathLst>
                  <a:path w="239" h="320">
                    <a:moveTo>
                      <a:pt x="0" y="320"/>
                    </a:moveTo>
                    <a:lnTo>
                      <a:pt x="0" y="0"/>
                    </a:lnTo>
                    <a:lnTo>
                      <a:pt x="40" y="0"/>
                    </a:lnTo>
                    <a:lnTo>
                      <a:pt x="40" y="131"/>
                    </a:lnTo>
                    <a:lnTo>
                      <a:pt x="198" y="131"/>
                    </a:lnTo>
                    <a:lnTo>
                      <a:pt x="198" y="0"/>
                    </a:lnTo>
                    <a:lnTo>
                      <a:pt x="239" y="0"/>
                    </a:lnTo>
                    <a:lnTo>
                      <a:pt x="239" y="320"/>
                    </a:lnTo>
                    <a:lnTo>
                      <a:pt x="198" y="320"/>
                    </a:lnTo>
                    <a:lnTo>
                      <a:pt x="198" y="169"/>
                    </a:lnTo>
                    <a:lnTo>
                      <a:pt x="40" y="169"/>
                    </a:lnTo>
                    <a:lnTo>
                      <a:pt x="40" y="320"/>
                    </a:lnTo>
                    <a:lnTo>
                      <a:pt x="0" y="32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429" name="Freeform 27"/>
              <p:cNvSpPr/>
              <p:nvPr/>
            </p:nvSpPr>
            <p:spPr>
              <a:xfrm>
                <a:off x="2318760" y="1295280"/>
                <a:ext cx="35280" cy="44280"/>
              </a:xfrm>
              <a:custGeom>
                <a:avLst/>
                <a:gdLst>
                  <a:gd name="textAreaLeft" fmla="*/ 0 w 35280"/>
                  <a:gd name="textAreaRight" fmla="*/ 35640 w 35280"/>
                  <a:gd name="textAreaTop" fmla="*/ 0 h 44280"/>
                  <a:gd name="textAreaBottom" fmla="*/ 44640 h 44280"/>
                </a:gdLst>
                <a:ahLst/>
                <a:rect l="textAreaLeft" t="textAreaTop" r="textAreaRight" b="textAreaBottom"/>
                <a:pathLst>
                  <a:path w="239" h="325">
                    <a:moveTo>
                      <a:pt x="199" y="0"/>
                    </a:moveTo>
                    <a:lnTo>
                      <a:pt x="239" y="0"/>
                    </a:lnTo>
                    <a:lnTo>
                      <a:pt x="239" y="184"/>
                    </a:lnTo>
                    <a:lnTo>
                      <a:pt x="238" y="208"/>
                    </a:lnTo>
                    <a:lnTo>
                      <a:pt x="236" y="228"/>
                    </a:lnTo>
                    <a:lnTo>
                      <a:pt x="233" y="246"/>
                    </a:lnTo>
                    <a:lnTo>
                      <a:pt x="229" y="261"/>
                    </a:lnTo>
                    <a:lnTo>
                      <a:pt x="225" y="268"/>
                    </a:lnTo>
                    <a:lnTo>
                      <a:pt x="222" y="275"/>
                    </a:lnTo>
                    <a:lnTo>
                      <a:pt x="218" y="281"/>
                    </a:lnTo>
                    <a:lnTo>
                      <a:pt x="214" y="287"/>
                    </a:lnTo>
                    <a:lnTo>
                      <a:pt x="208" y="293"/>
                    </a:lnTo>
                    <a:lnTo>
                      <a:pt x="203" y="298"/>
                    </a:lnTo>
                    <a:lnTo>
                      <a:pt x="198" y="303"/>
                    </a:lnTo>
                    <a:lnTo>
                      <a:pt x="192" y="307"/>
                    </a:lnTo>
                    <a:lnTo>
                      <a:pt x="184" y="312"/>
                    </a:lnTo>
                    <a:lnTo>
                      <a:pt x="177" y="315"/>
                    </a:lnTo>
                    <a:lnTo>
                      <a:pt x="168" y="318"/>
                    </a:lnTo>
                    <a:lnTo>
                      <a:pt x="160" y="321"/>
                    </a:lnTo>
                    <a:lnTo>
                      <a:pt x="150" y="322"/>
                    </a:lnTo>
                    <a:lnTo>
                      <a:pt x="141" y="324"/>
                    </a:lnTo>
                    <a:lnTo>
                      <a:pt x="130" y="324"/>
                    </a:lnTo>
                    <a:lnTo>
                      <a:pt x="120" y="325"/>
                    </a:lnTo>
                    <a:lnTo>
                      <a:pt x="109" y="325"/>
                    </a:lnTo>
                    <a:lnTo>
                      <a:pt x="99" y="324"/>
                    </a:lnTo>
                    <a:lnTo>
                      <a:pt x="90" y="323"/>
                    </a:lnTo>
                    <a:lnTo>
                      <a:pt x="81" y="321"/>
                    </a:lnTo>
                    <a:lnTo>
                      <a:pt x="73" y="319"/>
                    </a:lnTo>
                    <a:lnTo>
                      <a:pt x="64" y="317"/>
                    </a:lnTo>
                    <a:lnTo>
                      <a:pt x="57" y="314"/>
                    </a:lnTo>
                    <a:lnTo>
                      <a:pt x="50" y="309"/>
                    </a:lnTo>
                    <a:lnTo>
                      <a:pt x="43" y="305"/>
                    </a:lnTo>
                    <a:lnTo>
                      <a:pt x="37" y="301"/>
                    </a:lnTo>
                    <a:lnTo>
                      <a:pt x="32" y="296"/>
                    </a:lnTo>
                    <a:lnTo>
                      <a:pt x="26" y="290"/>
                    </a:lnTo>
                    <a:lnTo>
                      <a:pt x="22" y="285"/>
                    </a:lnTo>
                    <a:lnTo>
                      <a:pt x="18" y="279"/>
                    </a:lnTo>
                    <a:lnTo>
                      <a:pt x="14" y="272"/>
                    </a:lnTo>
                    <a:lnTo>
                      <a:pt x="11" y="265"/>
                    </a:lnTo>
                    <a:lnTo>
                      <a:pt x="6" y="249"/>
                    </a:lnTo>
                    <a:lnTo>
                      <a:pt x="2" y="230"/>
                    </a:lnTo>
                    <a:lnTo>
                      <a:pt x="0" y="209"/>
                    </a:lnTo>
                    <a:lnTo>
                      <a:pt x="0" y="184"/>
                    </a:lnTo>
                    <a:lnTo>
                      <a:pt x="0" y="0"/>
                    </a:lnTo>
                    <a:lnTo>
                      <a:pt x="40" y="0"/>
                    </a:lnTo>
                    <a:lnTo>
                      <a:pt x="40" y="184"/>
                    </a:lnTo>
                    <a:lnTo>
                      <a:pt x="40" y="204"/>
                    </a:lnTo>
                    <a:lnTo>
                      <a:pt x="41" y="220"/>
                    </a:lnTo>
                    <a:lnTo>
                      <a:pt x="43" y="234"/>
                    </a:lnTo>
                    <a:lnTo>
                      <a:pt x="47" y="246"/>
                    </a:lnTo>
                    <a:lnTo>
                      <a:pt x="52" y="255"/>
                    </a:lnTo>
                    <a:lnTo>
                      <a:pt x="57" y="263"/>
                    </a:lnTo>
                    <a:lnTo>
                      <a:pt x="64" y="270"/>
                    </a:lnTo>
                    <a:lnTo>
                      <a:pt x="72" y="277"/>
                    </a:lnTo>
                    <a:lnTo>
                      <a:pt x="81" y="281"/>
                    </a:lnTo>
                    <a:lnTo>
                      <a:pt x="92" y="284"/>
                    </a:lnTo>
                    <a:lnTo>
                      <a:pt x="104" y="286"/>
                    </a:lnTo>
                    <a:lnTo>
                      <a:pt x="116" y="287"/>
                    </a:lnTo>
                    <a:lnTo>
                      <a:pt x="127" y="286"/>
                    </a:lnTo>
                    <a:lnTo>
                      <a:pt x="136" y="286"/>
                    </a:lnTo>
                    <a:lnTo>
                      <a:pt x="146" y="284"/>
                    </a:lnTo>
                    <a:lnTo>
                      <a:pt x="154" y="282"/>
                    </a:lnTo>
                    <a:lnTo>
                      <a:pt x="162" y="279"/>
                    </a:lnTo>
                    <a:lnTo>
                      <a:pt x="168" y="276"/>
                    </a:lnTo>
                    <a:lnTo>
                      <a:pt x="175" y="270"/>
                    </a:lnTo>
                    <a:lnTo>
                      <a:pt x="180" y="266"/>
                    </a:lnTo>
                    <a:lnTo>
                      <a:pt x="184" y="260"/>
                    </a:lnTo>
                    <a:lnTo>
                      <a:pt x="188" y="252"/>
                    </a:lnTo>
                    <a:lnTo>
                      <a:pt x="192" y="245"/>
                    </a:lnTo>
                    <a:lnTo>
                      <a:pt x="194" y="235"/>
                    </a:lnTo>
                    <a:lnTo>
                      <a:pt x="196" y="224"/>
                    </a:lnTo>
                    <a:lnTo>
                      <a:pt x="198" y="212"/>
                    </a:lnTo>
                    <a:lnTo>
                      <a:pt x="198" y="199"/>
                    </a:lnTo>
                    <a:lnTo>
                      <a:pt x="199" y="184"/>
                    </a:lnTo>
                    <a:lnTo>
                      <a:pt x="199" y="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430" name="Freeform 28"/>
              <p:cNvSpPr/>
              <p:nvPr/>
            </p:nvSpPr>
            <p:spPr>
              <a:xfrm>
                <a:off x="2368080" y="1295280"/>
                <a:ext cx="36000" cy="44280"/>
              </a:xfrm>
              <a:custGeom>
                <a:avLst/>
                <a:gdLst>
                  <a:gd name="textAreaLeft" fmla="*/ 0 w 36000"/>
                  <a:gd name="textAreaRight" fmla="*/ 36360 w 36000"/>
                  <a:gd name="textAreaTop" fmla="*/ 0 h 44280"/>
                  <a:gd name="textAreaBottom" fmla="*/ 44640 h 44280"/>
                </a:gdLst>
                <a:ahLst/>
                <a:rect l="textAreaLeft" t="textAreaTop" r="textAreaRight" b="textAreaBottom"/>
                <a:pathLst>
                  <a:path w="239" h="320">
                    <a:moveTo>
                      <a:pt x="0" y="320"/>
                    </a:moveTo>
                    <a:lnTo>
                      <a:pt x="0" y="0"/>
                    </a:lnTo>
                    <a:lnTo>
                      <a:pt x="41" y="0"/>
                    </a:lnTo>
                    <a:lnTo>
                      <a:pt x="41" y="131"/>
                    </a:lnTo>
                    <a:lnTo>
                      <a:pt x="199" y="131"/>
                    </a:lnTo>
                    <a:lnTo>
                      <a:pt x="199" y="0"/>
                    </a:lnTo>
                    <a:lnTo>
                      <a:pt x="239" y="0"/>
                    </a:lnTo>
                    <a:lnTo>
                      <a:pt x="239" y="320"/>
                    </a:lnTo>
                    <a:lnTo>
                      <a:pt x="199" y="320"/>
                    </a:lnTo>
                    <a:lnTo>
                      <a:pt x="199" y="169"/>
                    </a:lnTo>
                    <a:lnTo>
                      <a:pt x="41" y="169"/>
                    </a:lnTo>
                    <a:lnTo>
                      <a:pt x="41" y="320"/>
                    </a:lnTo>
                    <a:lnTo>
                      <a:pt x="0" y="32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431" name="Freeform 29"/>
              <p:cNvSpPr/>
              <p:nvPr/>
            </p:nvSpPr>
            <p:spPr>
              <a:xfrm>
                <a:off x="2412720" y="1295280"/>
                <a:ext cx="42480" cy="44280"/>
              </a:xfrm>
              <a:custGeom>
                <a:avLst/>
                <a:gdLst>
                  <a:gd name="textAreaLeft" fmla="*/ 0 w 42480"/>
                  <a:gd name="textAreaRight" fmla="*/ 42840 w 42480"/>
                  <a:gd name="textAreaTop" fmla="*/ 0 h 44280"/>
                  <a:gd name="textAreaBottom" fmla="*/ 44640 h 44280"/>
                </a:gdLst>
                <a:ahLst/>
                <a:rect l="textAreaLeft" t="textAreaTop" r="textAreaRight" b="textAreaBottom"/>
                <a:pathLst>
                  <a:path w="285" h="320">
                    <a:moveTo>
                      <a:pt x="0" y="320"/>
                    </a:moveTo>
                    <a:lnTo>
                      <a:pt x="118" y="0"/>
                    </a:lnTo>
                    <a:lnTo>
                      <a:pt x="161" y="0"/>
                    </a:lnTo>
                    <a:lnTo>
                      <a:pt x="285" y="320"/>
                    </a:lnTo>
                    <a:lnTo>
                      <a:pt x="239" y="320"/>
                    </a:lnTo>
                    <a:lnTo>
                      <a:pt x="205" y="223"/>
                    </a:lnTo>
                    <a:lnTo>
                      <a:pt x="76" y="223"/>
                    </a:lnTo>
                    <a:lnTo>
                      <a:pt x="44" y="320"/>
                    </a:lnTo>
                    <a:lnTo>
                      <a:pt x="0" y="320"/>
                    </a:lnTo>
                    <a:close/>
                    <a:moveTo>
                      <a:pt x="88" y="189"/>
                    </a:moveTo>
                    <a:lnTo>
                      <a:pt x="192" y="189"/>
                    </a:lnTo>
                    <a:lnTo>
                      <a:pt x="160" y="100"/>
                    </a:lnTo>
                    <a:lnTo>
                      <a:pt x="153" y="81"/>
                    </a:lnTo>
                    <a:lnTo>
                      <a:pt x="147" y="63"/>
                    </a:lnTo>
                    <a:lnTo>
                      <a:pt x="142" y="48"/>
                    </a:lnTo>
                    <a:lnTo>
                      <a:pt x="138" y="33"/>
                    </a:lnTo>
                    <a:lnTo>
                      <a:pt x="135" y="49"/>
                    </a:lnTo>
                    <a:lnTo>
                      <a:pt x="131" y="64"/>
                    </a:lnTo>
                    <a:lnTo>
                      <a:pt x="127" y="80"/>
                    </a:lnTo>
                    <a:lnTo>
                      <a:pt x="122" y="94"/>
                    </a:lnTo>
                    <a:lnTo>
                      <a:pt x="88" y="189"/>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432" name="Rectangle 30"/>
              <p:cNvSpPr/>
              <p:nvPr/>
            </p:nvSpPr>
            <p:spPr>
              <a:xfrm>
                <a:off x="2464920" y="1295280"/>
                <a:ext cx="5760" cy="44280"/>
              </a:xfrm>
              <a:prstGeom prst="rect">
                <a:avLst/>
              </a:pr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433" name="Freeform 31"/>
              <p:cNvSpPr/>
              <p:nvPr/>
            </p:nvSpPr>
            <p:spPr>
              <a:xfrm>
                <a:off x="2512080" y="1294560"/>
                <a:ext cx="42480" cy="45360"/>
              </a:xfrm>
              <a:custGeom>
                <a:avLst/>
                <a:gdLst>
                  <a:gd name="textAreaLeft" fmla="*/ 0 w 42480"/>
                  <a:gd name="textAreaRight" fmla="*/ 42840 w 42480"/>
                  <a:gd name="textAreaTop" fmla="*/ 0 h 45360"/>
                  <a:gd name="textAreaBottom" fmla="*/ 45720 h 45360"/>
                </a:gdLst>
                <a:ahLst/>
                <a:rect l="textAreaLeft" t="textAreaTop" r="textAreaRight" b="textAreaBottom"/>
                <a:pathLst>
                  <a:path w="282" h="330">
                    <a:moveTo>
                      <a:pt x="153" y="199"/>
                    </a:moveTo>
                    <a:lnTo>
                      <a:pt x="153" y="162"/>
                    </a:lnTo>
                    <a:lnTo>
                      <a:pt x="282" y="162"/>
                    </a:lnTo>
                    <a:lnTo>
                      <a:pt x="282" y="281"/>
                    </a:lnTo>
                    <a:lnTo>
                      <a:pt x="267" y="292"/>
                    </a:lnTo>
                    <a:lnTo>
                      <a:pt x="251" y="302"/>
                    </a:lnTo>
                    <a:lnTo>
                      <a:pt x="237" y="310"/>
                    </a:lnTo>
                    <a:lnTo>
                      <a:pt x="221" y="318"/>
                    </a:lnTo>
                    <a:lnTo>
                      <a:pt x="205" y="323"/>
                    </a:lnTo>
                    <a:lnTo>
                      <a:pt x="189" y="327"/>
                    </a:lnTo>
                    <a:lnTo>
                      <a:pt x="172" y="329"/>
                    </a:lnTo>
                    <a:lnTo>
                      <a:pt x="156" y="330"/>
                    </a:lnTo>
                    <a:lnTo>
                      <a:pt x="145" y="329"/>
                    </a:lnTo>
                    <a:lnTo>
                      <a:pt x="134" y="329"/>
                    </a:lnTo>
                    <a:lnTo>
                      <a:pt x="123" y="327"/>
                    </a:lnTo>
                    <a:lnTo>
                      <a:pt x="113" y="325"/>
                    </a:lnTo>
                    <a:lnTo>
                      <a:pt x="103" y="322"/>
                    </a:lnTo>
                    <a:lnTo>
                      <a:pt x="93" y="319"/>
                    </a:lnTo>
                    <a:lnTo>
                      <a:pt x="83" y="314"/>
                    </a:lnTo>
                    <a:lnTo>
                      <a:pt x="75" y="310"/>
                    </a:lnTo>
                    <a:lnTo>
                      <a:pt x="65" y="305"/>
                    </a:lnTo>
                    <a:lnTo>
                      <a:pt x="57" y="299"/>
                    </a:lnTo>
                    <a:lnTo>
                      <a:pt x="49" y="292"/>
                    </a:lnTo>
                    <a:lnTo>
                      <a:pt x="42" y="285"/>
                    </a:lnTo>
                    <a:lnTo>
                      <a:pt x="35" y="277"/>
                    </a:lnTo>
                    <a:lnTo>
                      <a:pt x="29" y="270"/>
                    </a:lnTo>
                    <a:lnTo>
                      <a:pt x="24" y="260"/>
                    </a:lnTo>
                    <a:lnTo>
                      <a:pt x="18" y="252"/>
                    </a:lnTo>
                    <a:lnTo>
                      <a:pt x="14" y="242"/>
                    </a:lnTo>
                    <a:lnTo>
                      <a:pt x="10" y="232"/>
                    </a:lnTo>
                    <a:lnTo>
                      <a:pt x="7" y="221"/>
                    </a:lnTo>
                    <a:lnTo>
                      <a:pt x="5" y="212"/>
                    </a:lnTo>
                    <a:lnTo>
                      <a:pt x="3" y="200"/>
                    </a:lnTo>
                    <a:lnTo>
                      <a:pt x="2" y="189"/>
                    </a:lnTo>
                    <a:lnTo>
                      <a:pt x="0" y="178"/>
                    </a:lnTo>
                    <a:lnTo>
                      <a:pt x="0" y="166"/>
                    </a:lnTo>
                    <a:lnTo>
                      <a:pt x="0" y="154"/>
                    </a:lnTo>
                    <a:lnTo>
                      <a:pt x="2" y="143"/>
                    </a:lnTo>
                    <a:lnTo>
                      <a:pt x="3" y="132"/>
                    </a:lnTo>
                    <a:lnTo>
                      <a:pt x="5" y="122"/>
                    </a:lnTo>
                    <a:lnTo>
                      <a:pt x="7" y="110"/>
                    </a:lnTo>
                    <a:lnTo>
                      <a:pt x="10" y="99"/>
                    </a:lnTo>
                    <a:lnTo>
                      <a:pt x="14" y="90"/>
                    </a:lnTo>
                    <a:lnTo>
                      <a:pt x="18" y="79"/>
                    </a:lnTo>
                    <a:lnTo>
                      <a:pt x="24" y="70"/>
                    </a:lnTo>
                    <a:lnTo>
                      <a:pt x="29" y="60"/>
                    </a:lnTo>
                    <a:lnTo>
                      <a:pt x="34" y="52"/>
                    </a:lnTo>
                    <a:lnTo>
                      <a:pt x="42" y="44"/>
                    </a:lnTo>
                    <a:lnTo>
                      <a:pt x="48" y="37"/>
                    </a:lnTo>
                    <a:lnTo>
                      <a:pt x="56" y="30"/>
                    </a:lnTo>
                    <a:lnTo>
                      <a:pt x="64" y="24"/>
                    </a:lnTo>
                    <a:lnTo>
                      <a:pt x="72" y="19"/>
                    </a:lnTo>
                    <a:lnTo>
                      <a:pt x="81" y="15"/>
                    </a:lnTo>
                    <a:lnTo>
                      <a:pt x="90" y="10"/>
                    </a:lnTo>
                    <a:lnTo>
                      <a:pt x="100" y="7"/>
                    </a:lnTo>
                    <a:lnTo>
                      <a:pt x="110" y="4"/>
                    </a:lnTo>
                    <a:lnTo>
                      <a:pt x="120" y="2"/>
                    </a:lnTo>
                    <a:lnTo>
                      <a:pt x="131" y="1"/>
                    </a:lnTo>
                    <a:lnTo>
                      <a:pt x="141" y="0"/>
                    </a:lnTo>
                    <a:lnTo>
                      <a:pt x="153" y="0"/>
                    </a:lnTo>
                    <a:lnTo>
                      <a:pt x="169" y="0"/>
                    </a:lnTo>
                    <a:lnTo>
                      <a:pt x="184" y="2"/>
                    </a:lnTo>
                    <a:lnTo>
                      <a:pt x="199" y="6"/>
                    </a:lnTo>
                    <a:lnTo>
                      <a:pt x="212" y="10"/>
                    </a:lnTo>
                    <a:lnTo>
                      <a:pt x="225" y="17"/>
                    </a:lnTo>
                    <a:lnTo>
                      <a:pt x="237" y="24"/>
                    </a:lnTo>
                    <a:lnTo>
                      <a:pt x="246" y="33"/>
                    </a:lnTo>
                    <a:lnTo>
                      <a:pt x="255" y="42"/>
                    </a:lnTo>
                    <a:lnTo>
                      <a:pt x="261" y="53"/>
                    </a:lnTo>
                    <a:lnTo>
                      <a:pt x="267" y="65"/>
                    </a:lnTo>
                    <a:lnTo>
                      <a:pt x="273" y="79"/>
                    </a:lnTo>
                    <a:lnTo>
                      <a:pt x="277" y="94"/>
                    </a:lnTo>
                    <a:lnTo>
                      <a:pt x="241" y="105"/>
                    </a:lnTo>
                    <a:lnTo>
                      <a:pt x="238" y="93"/>
                    </a:lnTo>
                    <a:lnTo>
                      <a:pt x="233" y="82"/>
                    </a:lnTo>
                    <a:lnTo>
                      <a:pt x="229" y="74"/>
                    </a:lnTo>
                    <a:lnTo>
                      <a:pt x="224" y="67"/>
                    </a:lnTo>
                    <a:lnTo>
                      <a:pt x="219" y="60"/>
                    </a:lnTo>
                    <a:lnTo>
                      <a:pt x="211" y="54"/>
                    </a:lnTo>
                    <a:lnTo>
                      <a:pt x="204" y="48"/>
                    </a:lnTo>
                    <a:lnTo>
                      <a:pt x="194" y="44"/>
                    </a:lnTo>
                    <a:lnTo>
                      <a:pt x="185" y="40"/>
                    </a:lnTo>
                    <a:lnTo>
                      <a:pt x="175" y="38"/>
                    </a:lnTo>
                    <a:lnTo>
                      <a:pt x="164" y="36"/>
                    </a:lnTo>
                    <a:lnTo>
                      <a:pt x="153" y="36"/>
                    </a:lnTo>
                    <a:lnTo>
                      <a:pt x="139" y="36"/>
                    </a:lnTo>
                    <a:lnTo>
                      <a:pt x="126" y="38"/>
                    </a:lnTo>
                    <a:lnTo>
                      <a:pt x="116" y="41"/>
                    </a:lnTo>
                    <a:lnTo>
                      <a:pt x="105" y="44"/>
                    </a:lnTo>
                    <a:lnTo>
                      <a:pt x="96" y="50"/>
                    </a:lnTo>
                    <a:lnTo>
                      <a:pt x="86" y="55"/>
                    </a:lnTo>
                    <a:lnTo>
                      <a:pt x="79" y="61"/>
                    </a:lnTo>
                    <a:lnTo>
                      <a:pt x="72" y="68"/>
                    </a:lnTo>
                    <a:lnTo>
                      <a:pt x="66" y="75"/>
                    </a:lnTo>
                    <a:lnTo>
                      <a:pt x="62" y="82"/>
                    </a:lnTo>
                    <a:lnTo>
                      <a:pt x="57" y="91"/>
                    </a:lnTo>
                    <a:lnTo>
                      <a:pt x="53" y="99"/>
                    </a:lnTo>
                    <a:lnTo>
                      <a:pt x="48" y="114"/>
                    </a:lnTo>
                    <a:lnTo>
                      <a:pt x="45" y="130"/>
                    </a:lnTo>
                    <a:lnTo>
                      <a:pt x="43" y="147"/>
                    </a:lnTo>
                    <a:lnTo>
                      <a:pt x="42" y="164"/>
                    </a:lnTo>
                    <a:lnTo>
                      <a:pt x="43" y="184"/>
                    </a:lnTo>
                    <a:lnTo>
                      <a:pt x="45" y="203"/>
                    </a:lnTo>
                    <a:lnTo>
                      <a:pt x="47" y="212"/>
                    </a:lnTo>
                    <a:lnTo>
                      <a:pt x="49" y="220"/>
                    </a:lnTo>
                    <a:lnTo>
                      <a:pt x="52" y="228"/>
                    </a:lnTo>
                    <a:lnTo>
                      <a:pt x="56" y="235"/>
                    </a:lnTo>
                    <a:lnTo>
                      <a:pt x="60" y="242"/>
                    </a:lnTo>
                    <a:lnTo>
                      <a:pt x="63" y="249"/>
                    </a:lnTo>
                    <a:lnTo>
                      <a:pt x="68" y="255"/>
                    </a:lnTo>
                    <a:lnTo>
                      <a:pt x="72" y="260"/>
                    </a:lnTo>
                    <a:lnTo>
                      <a:pt x="78" y="266"/>
                    </a:lnTo>
                    <a:lnTo>
                      <a:pt x="84" y="270"/>
                    </a:lnTo>
                    <a:lnTo>
                      <a:pt x="90" y="274"/>
                    </a:lnTo>
                    <a:lnTo>
                      <a:pt x="97" y="278"/>
                    </a:lnTo>
                    <a:lnTo>
                      <a:pt x="110" y="284"/>
                    </a:lnTo>
                    <a:lnTo>
                      <a:pt x="124" y="288"/>
                    </a:lnTo>
                    <a:lnTo>
                      <a:pt x="138" y="291"/>
                    </a:lnTo>
                    <a:lnTo>
                      <a:pt x="153" y="292"/>
                    </a:lnTo>
                    <a:lnTo>
                      <a:pt x="167" y="291"/>
                    </a:lnTo>
                    <a:lnTo>
                      <a:pt x="179" y="289"/>
                    </a:lnTo>
                    <a:lnTo>
                      <a:pt x="192" y="286"/>
                    </a:lnTo>
                    <a:lnTo>
                      <a:pt x="205" y="282"/>
                    </a:lnTo>
                    <a:lnTo>
                      <a:pt x="217" y="276"/>
                    </a:lnTo>
                    <a:lnTo>
                      <a:pt x="226" y="270"/>
                    </a:lnTo>
                    <a:lnTo>
                      <a:pt x="236" y="265"/>
                    </a:lnTo>
                    <a:lnTo>
                      <a:pt x="242" y="258"/>
                    </a:lnTo>
                    <a:lnTo>
                      <a:pt x="242" y="199"/>
                    </a:lnTo>
                    <a:lnTo>
                      <a:pt x="153" y="199"/>
                    </a:lnTo>
                    <a:close/>
                  </a:path>
                </a:pathLst>
              </a:custGeom>
              <a:solidFill>
                <a:srgbClr val="1f1a17"/>
              </a:solidFill>
              <a:ln w="0">
                <a:noFill/>
              </a:ln>
            </p:spPr>
            <p:style>
              <a:lnRef idx="0"/>
              <a:fillRef idx="0"/>
              <a:effectRef idx="0"/>
              <a:fontRef idx="minor"/>
            </p:style>
            <p:txBody>
              <a:bodyPr lIns="90000" rIns="90000" tIns="720" bIns="720" anchor="t">
                <a:noAutofit/>
              </a:bodyPr>
              <a:p>
                <a:pPr>
                  <a:lnSpc>
                    <a:spcPct val="100000"/>
                  </a:lnSpc>
                </a:pPr>
                <a:endParaRPr b="0" lang="en-US" sz="1800" spc="-1" strike="noStrike">
                  <a:solidFill>
                    <a:srgbClr val="000000"/>
                  </a:solidFill>
                  <a:latin typeface="Arial"/>
                  <a:ea typeface="宋体"/>
                </a:endParaRPr>
              </a:p>
            </p:txBody>
          </p:sp>
          <p:sp>
            <p:nvSpPr>
              <p:cNvPr id="434" name="Freeform 32"/>
              <p:cNvSpPr/>
              <p:nvPr/>
            </p:nvSpPr>
            <p:spPr>
              <a:xfrm>
                <a:off x="2565360" y="1294560"/>
                <a:ext cx="43560" cy="45360"/>
              </a:xfrm>
              <a:custGeom>
                <a:avLst/>
                <a:gdLst>
                  <a:gd name="textAreaLeft" fmla="*/ 0 w 43560"/>
                  <a:gd name="textAreaRight" fmla="*/ 43920 w 43560"/>
                  <a:gd name="textAreaTop" fmla="*/ 0 h 45360"/>
                  <a:gd name="textAreaBottom" fmla="*/ 45720 h 45360"/>
                </a:gdLst>
                <a:ahLst/>
                <a:rect l="textAreaLeft" t="textAreaTop" r="textAreaRight" b="textAreaBottom"/>
                <a:pathLst>
                  <a:path w="293" h="331">
                    <a:moveTo>
                      <a:pt x="0" y="170"/>
                    </a:moveTo>
                    <a:lnTo>
                      <a:pt x="1" y="150"/>
                    </a:lnTo>
                    <a:lnTo>
                      <a:pt x="3" y="132"/>
                    </a:lnTo>
                    <a:lnTo>
                      <a:pt x="7" y="115"/>
                    </a:lnTo>
                    <a:lnTo>
                      <a:pt x="11" y="99"/>
                    </a:lnTo>
                    <a:lnTo>
                      <a:pt x="16" y="83"/>
                    </a:lnTo>
                    <a:lnTo>
                      <a:pt x="24" y="70"/>
                    </a:lnTo>
                    <a:lnTo>
                      <a:pt x="32" y="57"/>
                    </a:lnTo>
                    <a:lnTo>
                      <a:pt x="42" y="45"/>
                    </a:lnTo>
                    <a:lnTo>
                      <a:pt x="52" y="35"/>
                    </a:lnTo>
                    <a:lnTo>
                      <a:pt x="64" y="25"/>
                    </a:lnTo>
                    <a:lnTo>
                      <a:pt x="75" y="18"/>
                    </a:lnTo>
                    <a:lnTo>
                      <a:pt x="88" y="11"/>
                    </a:lnTo>
                    <a:lnTo>
                      <a:pt x="102" y="6"/>
                    </a:lnTo>
                    <a:lnTo>
                      <a:pt x="116" y="3"/>
                    </a:lnTo>
                    <a:lnTo>
                      <a:pt x="131" y="1"/>
                    </a:lnTo>
                    <a:lnTo>
                      <a:pt x="146" y="0"/>
                    </a:lnTo>
                    <a:lnTo>
                      <a:pt x="157" y="1"/>
                    </a:lnTo>
                    <a:lnTo>
                      <a:pt x="168" y="2"/>
                    </a:lnTo>
                    <a:lnTo>
                      <a:pt x="177" y="3"/>
                    </a:lnTo>
                    <a:lnTo>
                      <a:pt x="187" y="5"/>
                    </a:lnTo>
                    <a:lnTo>
                      <a:pt x="196" y="8"/>
                    </a:lnTo>
                    <a:lnTo>
                      <a:pt x="206" y="12"/>
                    </a:lnTo>
                    <a:lnTo>
                      <a:pt x="214" y="17"/>
                    </a:lnTo>
                    <a:lnTo>
                      <a:pt x="223" y="21"/>
                    </a:lnTo>
                    <a:lnTo>
                      <a:pt x="231" y="27"/>
                    </a:lnTo>
                    <a:lnTo>
                      <a:pt x="239" y="33"/>
                    </a:lnTo>
                    <a:lnTo>
                      <a:pt x="246" y="40"/>
                    </a:lnTo>
                    <a:lnTo>
                      <a:pt x="252" y="46"/>
                    </a:lnTo>
                    <a:lnTo>
                      <a:pt x="259" y="55"/>
                    </a:lnTo>
                    <a:lnTo>
                      <a:pt x="264" y="62"/>
                    </a:lnTo>
                    <a:lnTo>
                      <a:pt x="269" y="71"/>
                    </a:lnTo>
                    <a:lnTo>
                      <a:pt x="275" y="80"/>
                    </a:lnTo>
                    <a:lnTo>
                      <a:pt x="279" y="90"/>
                    </a:lnTo>
                    <a:lnTo>
                      <a:pt x="282" y="100"/>
                    </a:lnTo>
                    <a:lnTo>
                      <a:pt x="285" y="110"/>
                    </a:lnTo>
                    <a:lnTo>
                      <a:pt x="287" y="120"/>
                    </a:lnTo>
                    <a:lnTo>
                      <a:pt x="289" y="131"/>
                    </a:lnTo>
                    <a:lnTo>
                      <a:pt x="290" y="143"/>
                    </a:lnTo>
                    <a:lnTo>
                      <a:pt x="292" y="154"/>
                    </a:lnTo>
                    <a:lnTo>
                      <a:pt x="293" y="166"/>
                    </a:lnTo>
                    <a:lnTo>
                      <a:pt x="292" y="178"/>
                    </a:lnTo>
                    <a:lnTo>
                      <a:pt x="290" y="189"/>
                    </a:lnTo>
                    <a:lnTo>
                      <a:pt x="289" y="201"/>
                    </a:lnTo>
                    <a:lnTo>
                      <a:pt x="287" y="213"/>
                    </a:lnTo>
                    <a:lnTo>
                      <a:pt x="285" y="223"/>
                    </a:lnTo>
                    <a:lnTo>
                      <a:pt x="282" y="234"/>
                    </a:lnTo>
                    <a:lnTo>
                      <a:pt x="278" y="243"/>
                    </a:lnTo>
                    <a:lnTo>
                      <a:pt x="273" y="253"/>
                    </a:lnTo>
                    <a:lnTo>
                      <a:pt x="268" y="262"/>
                    </a:lnTo>
                    <a:lnTo>
                      <a:pt x="263" y="271"/>
                    </a:lnTo>
                    <a:lnTo>
                      <a:pt x="258" y="279"/>
                    </a:lnTo>
                    <a:lnTo>
                      <a:pt x="251" y="287"/>
                    </a:lnTo>
                    <a:lnTo>
                      <a:pt x="244" y="294"/>
                    </a:lnTo>
                    <a:lnTo>
                      <a:pt x="236" y="301"/>
                    </a:lnTo>
                    <a:lnTo>
                      <a:pt x="229" y="306"/>
                    </a:lnTo>
                    <a:lnTo>
                      <a:pt x="221" y="311"/>
                    </a:lnTo>
                    <a:lnTo>
                      <a:pt x="212" y="315"/>
                    </a:lnTo>
                    <a:lnTo>
                      <a:pt x="203" y="320"/>
                    </a:lnTo>
                    <a:lnTo>
                      <a:pt x="194" y="323"/>
                    </a:lnTo>
                    <a:lnTo>
                      <a:pt x="185" y="326"/>
                    </a:lnTo>
                    <a:lnTo>
                      <a:pt x="175" y="328"/>
                    </a:lnTo>
                    <a:lnTo>
                      <a:pt x="165" y="330"/>
                    </a:lnTo>
                    <a:lnTo>
                      <a:pt x="156" y="330"/>
                    </a:lnTo>
                    <a:lnTo>
                      <a:pt x="146" y="331"/>
                    </a:lnTo>
                    <a:lnTo>
                      <a:pt x="136" y="330"/>
                    </a:lnTo>
                    <a:lnTo>
                      <a:pt x="125" y="329"/>
                    </a:lnTo>
                    <a:lnTo>
                      <a:pt x="116" y="328"/>
                    </a:lnTo>
                    <a:lnTo>
                      <a:pt x="106" y="326"/>
                    </a:lnTo>
                    <a:lnTo>
                      <a:pt x="97" y="323"/>
                    </a:lnTo>
                    <a:lnTo>
                      <a:pt x="87" y="319"/>
                    </a:lnTo>
                    <a:lnTo>
                      <a:pt x="79" y="314"/>
                    </a:lnTo>
                    <a:lnTo>
                      <a:pt x="69" y="309"/>
                    </a:lnTo>
                    <a:lnTo>
                      <a:pt x="62" y="304"/>
                    </a:lnTo>
                    <a:lnTo>
                      <a:pt x="53" y="297"/>
                    </a:lnTo>
                    <a:lnTo>
                      <a:pt x="47" y="291"/>
                    </a:lnTo>
                    <a:lnTo>
                      <a:pt x="39" y="284"/>
                    </a:lnTo>
                    <a:lnTo>
                      <a:pt x="33" y="276"/>
                    </a:lnTo>
                    <a:lnTo>
                      <a:pt x="28" y="268"/>
                    </a:lnTo>
                    <a:lnTo>
                      <a:pt x="22" y="259"/>
                    </a:lnTo>
                    <a:lnTo>
                      <a:pt x="18" y="250"/>
                    </a:lnTo>
                    <a:lnTo>
                      <a:pt x="14" y="240"/>
                    </a:lnTo>
                    <a:lnTo>
                      <a:pt x="11" y="231"/>
                    </a:lnTo>
                    <a:lnTo>
                      <a:pt x="8" y="221"/>
                    </a:lnTo>
                    <a:lnTo>
                      <a:pt x="6" y="211"/>
                    </a:lnTo>
                    <a:lnTo>
                      <a:pt x="3" y="201"/>
                    </a:lnTo>
                    <a:lnTo>
                      <a:pt x="1" y="190"/>
                    </a:lnTo>
                    <a:lnTo>
                      <a:pt x="1" y="180"/>
                    </a:lnTo>
                    <a:lnTo>
                      <a:pt x="0" y="170"/>
                    </a:lnTo>
                    <a:close/>
                    <a:moveTo>
                      <a:pt x="43" y="170"/>
                    </a:moveTo>
                    <a:lnTo>
                      <a:pt x="43" y="185"/>
                    </a:lnTo>
                    <a:lnTo>
                      <a:pt x="44" y="198"/>
                    </a:lnTo>
                    <a:lnTo>
                      <a:pt x="47" y="211"/>
                    </a:lnTo>
                    <a:lnTo>
                      <a:pt x="50" y="222"/>
                    </a:lnTo>
                    <a:lnTo>
                      <a:pt x="54" y="233"/>
                    </a:lnTo>
                    <a:lnTo>
                      <a:pt x="58" y="243"/>
                    </a:lnTo>
                    <a:lnTo>
                      <a:pt x="65" y="253"/>
                    </a:lnTo>
                    <a:lnTo>
                      <a:pt x="72" y="261"/>
                    </a:lnTo>
                    <a:lnTo>
                      <a:pt x="80" y="270"/>
                    </a:lnTo>
                    <a:lnTo>
                      <a:pt x="88" y="276"/>
                    </a:lnTo>
                    <a:lnTo>
                      <a:pt x="97" y="282"/>
                    </a:lnTo>
                    <a:lnTo>
                      <a:pt x="105" y="287"/>
                    </a:lnTo>
                    <a:lnTo>
                      <a:pt x="115" y="290"/>
                    </a:lnTo>
                    <a:lnTo>
                      <a:pt x="125" y="293"/>
                    </a:lnTo>
                    <a:lnTo>
                      <a:pt x="135" y="294"/>
                    </a:lnTo>
                    <a:lnTo>
                      <a:pt x="146" y="295"/>
                    </a:lnTo>
                    <a:lnTo>
                      <a:pt x="157" y="294"/>
                    </a:lnTo>
                    <a:lnTo>
                      <a:pt x="168" y="293"/>
                    </a:lnTo>
                    <a:lnTo>
                      <a:pt x="178" y="290"/>
                    </a:lnTo>
                    <a:lnTo>
                      <a:pt x="188" y="287"/>
                    </a:lnTo>
                    <a:lnTo>
                      <a:pt x="197" y="282"/>
                    </a:lnTo>
                    <a:lnTo>
                      <a:pt x="206" y="276"/>
                    </a:lnTo>
                    <a:lnTo>
                      <a:pt x="213" y="269"/>
                    </a:lnTo>
                    <a:lnTo>
                      <a:pt x="222" y="261"/>
                    </a:lnTo>
                    <a:lnTo>
                      <a:pt x="228" y="253"/>
                    </a:lnTo>
                    <a:lnTo>
                      <a:pt x="234" y="242"/>
                    </a:lnTo>
                    <a:lnTo>
                      <a:pt x="239" y="232"/>
                    </a:lnTo>
                    <a:lnTo>
                      <a:pt x="243" y="221"/>
                    </a:lnTo>
                    <a:lnTo>
                      <a:pt x="246" y="208"/>
                    </a:lnTo>
                    <a:lnTo>
                      <a:pt x="249" y="195"/>
                    </a:lnTo>
                    <a:lnTo>
                      <a:pt x="250" y="181"/>
                    </a:lnTo>
                    <a:lnTo>
                      <a:pt x="250" y="166"/>
                    </a:lnTo>
                    <a:lnTo>
                      <a:pt x="250" y="147"/>
                    </a:lnTo>
                    <a:lnTo>
                      <a:pt x="247" y="129"/>
                    </a:lnTo>
                    <a:lnTo>
                      <a:pt x="244" y="113"/>
                    </a:lnTo>
                    <a:lnTo>
                      <a:pt x="237" y="98"/>
                    </a:lnTo>
                    <a:lnTo>
                      <a:pt x="231" y="84"/>
                    </a:lnTo>
                    <a:lnTo>
                      <a:pt x="223" y="72"/>
                    </a:lnTo>
                    <a:lnTo>
                      <a:pt x="217" y="66"/>
                    </a:lnTo>
                    <a:lnTo>
                      <a:pt x="212" y="61"/>
                    </a:lnTo>
                    <a:lnTo>
                      <a:pt x="207" y="57"/>
                    </a:lnTo>
                    <a:lnTo>
                      <a:pt x="201" y="53"/>
                    </a:lnTo>
                    <a:lnTo>
                      <a:pt x="189" y="45"/>
                    </a:lnTo>
                    <a:lnTo>
                      <a:pt x="175" y="41"/>
                    </a:lnTo>
                    <a:lnTo>
                      <a:pt x="161" y="38"/>
                    </a:lnTo>
                    <a:lnTo>
                      <a:pt x="146" y="37"/>
                    </a:lnTo>
                    <a:lnTo>
                      <a:pt x="136" y="37"/>
                    </a:lnTo>
                    <a:lnTo>
                      <a:pt x="126" y="39"/>
                    </a:lnTo>
                    <a:lnTo>
                      <a:pt x="117" y="41"/>
                    </a:lnTo>
                    <a:lnTo>
                      <a:pt x="107" y="44"/>
                    </a:lnTo>
                    <a:lnTo>
                      <a:pt x="98" y="48"/>
                    </a:lnTo>
                    <a:lnTo>
                      <a:pt x="89" y="54"/>
                    </a:lnTo>
                    <a:lnTo>
                      <a:pt x="81" y="60"/>
                    </a:lnTo>
                    <a:lnTo>
                      <a:pt x="73" y="68"/>
                    </a:lnTo>
                    <a:lnTo>
                      <a:pt x="66" y="76"/>
                    </a:lnTo>
                    <a:lnTo>
                      <a:pt x="60" y="86"/>
                    </a:lnTo>
                    <a:lnTo>
                      <a:pt x="54" y="96"/>
                    </a:lnTo>
                    <a:lnTo>
                      <a:pt x="50" y="109"/>
                    </a:lnTo>
                    <a:lnTo>
                      <a:pt x="47" y="123"/>
                    </a:lnTo>
                    <a:lnTo>
                      <a:pt x="45" y="137"/>
                    </a:lnTo>
                    <a:lnTo>
                      <a:pt x="43" y="153"/>
                    </a:lnTo>
                    <a:lnTo>
                      <a:pt x="43" y="170"/>
                    </a:lnTo>
                    <a:close/>
                  </a:path>
                </a:pathLst>
              </a:custGeom>
              <a:solidFill>
                <a:srgbClr val="1f1a17"/>
              </a:solidFill>
              <a:ln w="0">
                <a:noFill/>
              </a:ln>
            </p:spPr>
            <p:style>
              <a:lnRef idx="0"/>
              <a:fillRef idx="0"/>
              <a:effectRef idx="0"/>
              <a:fontRef idx="minor"/>
            </p:style>
            <p:txBody>
              <a:bodyPr lIns="90000" rIns="90000" tIns="720" bIns="720" anchor="t">
                <a:noAutofit/>
              </a:bodyPr>
              <a:p>
                <a:pPr>
                  <a:lnSpc>
                    <a:spcPct val="100000"/>
                  </a:lnSpc>
                </a:pPr>
                <a:endParaRPr b="0" lang="en-US" sz="1800" spc="-1" strike="noStrike">
                  <a:solidFill>
                    <a:srgbClr val="000000"/>
                  </a:solidFill>
                  <a:latin typeface="Arial"/>
                  <a:ea typeface="宋体"/>
                </a:endParaRPr>
              </a:p>
            </p:txBody>
          </p:sp>
          <p:sp>
            <p:nvSpPr>
              <p:cNvPr id="435" name="Freeform 33"/>
              <p:cNvSpPr/>
              <p:nvPr/>
            </p:nvSpPr>
            <p:spPr>
              <a:xfrm>
                <a:off x="2620440" y="1295280"/>
                <a:ext cx="27720" cy="44280"/>
              </a:xfrm>
              <a:custGeom>
                <a:avLst/>
                <a:gdLst>
                  <a:gd name="textAreaLeft" fmla="*/ 0 w 27720"/>
                  <a:gd name="textAreaRight" fmla="*/ 28080 w 27720"/>
                  <a:gd name="textAreaTop" fmla="*/ 0 h 44280"/>
                  <a:gd name="textAreaBottom" fmla="*/ 44640 h 44280"/>
                </a:gdLst>
                <a:ahLst/>
                <a:rect l="textAreaLeft" t="textAreaTop" r="textAreaRight" b="textAreaBottom"/>
                <a:pathLst>
                  <a:path w="190" h="320">
                    <a:moveTo>
                      <a:pt x="0" y="320"/>
                    </a:moveTo>
                    <a:lnTo>
                      <a:pt x="0" y="0"/>
                    </a:lnTo>
                    <a:lnTo>
                      <a:pt x="40" y="0"/>
                    </a:lnTo>
                    <a:lnTo>
                      <a:pt x="40" y="282"/>
                    </a:lnTo>
                    <a:lnTo>
                      <a:pt x="190" y="282"/>
                    </a:lnTo>
                    <a:lnTo>
                      <a:pt x="190" y="320"/>
                    </a:lnTo>
                    <a:lnTo>
                      <a:pt x="0" y="32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436" name="Freeform 34"/>
              <p:cNvSpPr/>
              <p:nvPr/>
            </p:nvSpPr>
            <p:spPr>
              <a:xfrm>
                <a:off x="2659320" y="1295280"/>
                <a:ext cx="37080" cy="44280"/>
              </a:xfrm>
              <a:custGeom>
                <a:avLst/>
                <a:gdLst>
                  <a:gd name="textAreaLeft" fmla="*/ 0 w 37080"/>
                  <a:gd name="textAreaRight" fmla="*/ 37440 w 37080"/>
                  <a:gd name="textAreaTop" fmla="*/ 0 h 44280"/>
                  <a:gd name="textAreaBottom" fmla="*/ 44640 h 44280"/>
                </a:gdLst>
                <a:ahLst/>
                <a:rect l="textAreaLeft" t="textAreaTop" r="textAreaRight" b="textAreaBottom"/>
                <a:pathLst>
                  <a:path w="251" h="320">
                    <a:moveTo>
                      <a:pt x="0" y="320"/>
                    </a:moveTo>
                    <a:lnTo>
                      <a:pt x="0" y="0"/>
                    </a:lnTo>
                    <a:lnTo>
                      <a:pt x="104" y="0"/>
                    </a:lnTo>
                    <a:lnTo>
                      <a:pt x="120" y="0"/>
                    </a:lnTo>
                    <a:lnTo>
                      <a:pt x="135" y="1"/>
                    </a:lnTo>
                    <a:lnTo>
                      <a:pt x="148" y="2"/>
                    </a:lnTo>
                    <a:lnTo>
                      <a:pt x="158" y="4"/>
                    </a:lnTo>
                    <a:lnTo>
                      <a:pt x="171" y="9"/>
                    </a:lnTo>
                    <a:lnTo>
                      <a:pt x="183" y="14"/>
                    </a:lnTo>
                    <a:lnTo>
                      <a:pt x="193" y="20"/>
                    </a:lnTo>
                    <a:lnTo>
                      <a:pt x="203" y="28"/>
                    </a:lnTo>
                    <a:lnTo>
                      <a:pt x="215" y="39"/>
                    </a:lnTo>
                    <a:lnTo>
                      <a:pt x="224" y="52"/>
                    </a:lnTo>
                    <a:lnTo>
                      <a:pt x="233" y="66"/>
                    </a:lnTo>
                    <a:lnTo>
                      <a:pt x="239" y="82"/>
                    </a:lnTo>
                    <a:lnTo>
                      <a:pt x="244" y="100"/>
                    </a:lnTo>
                    <a:lnTo>
                      <a:pt x="248" y="118"/>
                    </a:lnTo>
                    <a:lnTo>
                      <a:pt x="251" y="137"/>
                    </a:lnTo>
                    <a:lnTo>
                      <a:pt x="251" y="158"/>
                    </a:lnTo>
                    <a:lnTo>
                      <a:pt x="251" y="176"/>
                    </a:lnTo>
                    <a:lnTo>
                      <a:pt x="250" y="192"/>
                    </a:lnTo>
                    <a:lnTo>
                      <a:pt x="246" y="208"/>
                    </a:lnTo>
                    <a:lnTo>
                      <a:pt x="243" y="223"/>
                    </a:lnTo>
                    <a:lnTo>
                      <a:pt x="239" y="236"/>
                    </a:lnTo>
                    <a:lnTo>
                      <a:pt x="234" y="248"/>
                    </a:lnTo>
                    <a:lnTo>
                      <a:pt x="228" y="260"/>
                    </a:lnTo>
                    <a:lnTo>
                      <a:pt x="222" y="269"/>
                    </a:lnTo>
                    <a:lnTo>
                      <a:pt x="216" y="278"/>
                    </a:lnTo>
                    <a:lnTo>
                      <a:pt x="209" y="286"/>
                    </a:lnTo>
                    <a:lnTo>
                      <a:pt x="202" y="293"/>
                    </a:lnTo>
                    <a:lnTo>
                      <a:pt x="194" y="298"/>
                    </a:lnTo>
                    <a:lnTo>
                      <a:pt x="186" y="303"/>
                    </a:lnTo>
                    <a:lnTo>
                      <a:pt x="178" y="307"/>
                    </a:lnTo>
                    <a:lnTo>
                      <a:pt x="168" y="312"/>
                    </a:lnTo>
                    <a:lnTo>
                      <a:pt x="158" y="314"/>
                    </a:lnTo>
                    <a:lnTo>
                      <a:pt x="147" y="317"/>
                    </a:lnTo>
                    <a:lnTo>
                      <a:pt x="135" y="318"/>
                    </a:lnTo>
                    <a:lnTo>
                      <a:pt x="122" y="319"/>
                    </a:lnTo>
                    <a:lnTo>
                      <a:pt x="109" y="320"/>
                    </a:lnTo>
                    <a:lnTo>
                      <a:pt x="0" y="320"/>
                    </a:lnTo>
                    <a:close/>
                    <a:moveTo>
                      <a:pt x="40" y="282"/>
                    </a:moveTo>
                    <a:lnTo>
                      <a:pt x="104" y="282"/>
                    </a:lnTo>
                    <a:lnTo>
                      <a:pt x="119" y="282"/>
                    </a:lnTo>
                    <a:lnTo>
                      <a:pt x="131" y="281"/>
                    </a:lnTo>
                    <a:lnTo>
                      <a:pt x="143" y="279"/>
                    </a:lnTo>
                    <a:lnTo>
                      <a:pt x="152" y="276"/>
                    </a:lnTo>
                    <a:lnTo>
                      <a:pt x="159" y="272"/>
                    </a:lnTo>
                    <a:lnTo>
                      <a:pt x="167" y="269"/>
                    </a:lnTo>
                    <a:lnTo>
                      <a:pt x="173" y="265"/>
                    </a:lnTo>
                    <a:lnTo>
                      <a:pt x="180" y="260"/>
                    </a:lnTo>
                    <a:lnTo>
                      <a:pt x="186" y="251"/>
                    </a:lnTo>
                    <a:lnTo>
                      <a:pt x="192" y="242"/>
                    </a:lnTo>
                    <a:lnTo>
                      <a:pt x="198" y="231"/>
                    </a:lnTo>
                    <a:lnTo>
                      <a:pt x="202" y="219"/>
                    </a:lnTo>
                    <a:lnTo>
                      <a:pt x="205" y="206"/>
                    </a:lnTo>
                    <a:lnTo>
                      <a:pt x="207" y="191"/>
                    </a:lnTo>
                    <a:lnTo>
                      <a:pt x="209" y="175"/>
                    </a:lnTo>
                    <a:lnTo>
                      <a:pt x="209" y="157"/>
                    </a:lnTo>
                    <a:lnTo>
                      <a:pt x="209" y="145"/>
                    </a:lnTo>
                    <a:lnTo>
                      <a:pt x="208" y="134"/>
                    </a:lnTo>
                    <a:lnTo>
                      <a:pt x="207" y="123"/>
                    </a:lnTo>
                    <a:lnTo>
                      <a:pt x="206" y="113"/>
                    </a:lnTo>
                    <a:lnTo>
                      <a:pt x="203" y="104"/>
                    </a:lnTo>
                    <a:lnTo>
                      <a:pt x="201" y="95"/>
                    </a:lnTo>
                    <a:lnTo>
                      <a:pt x="198" y="87"/>
                    </a:lnTo>
                    <a:lnTo>
                      <a:pt x="193" y="81"/>
                    </a:lnTo>
                    <a:lnTo>
                      <a:pt x="186" y="68"/>
                    </a:lnTo>
                    <a:lnTo>
                      <a:pt x="176" y="57"/>
                    </a:lnTo>
                    <a:lnTo>
                      <a:pt x="171" y="53"/>
                    </a:lnTo>
                    <a:lnTo>
                      <a:pt x="167" y="50"/>
                    </a:lnTo>
                    <a:lnTo>
                      <a:pt x="162" y="47"/>
                    </a:lnTo>
                    <a:lnTo>
                      <a:pt x="155" y="45"/>
                    </a:lnTo>
                    <a:lnTo>
                      <a:pt x="147" y="41"/>
                    </a:lnTo>
                    <a:lnTo>
                      <a:pt x="134" y="39"/>
                    </a:lnTo>
                    <a:lnTo>
                      <a:pt x="120" y="38"/>
                    </a:lnTo>
                    <a:lnTo>
                      <a:pt x="103" y="37"/>
                    </a:lnTo>
                    <a:lnTo>
                      <a:pt x="40" y="37"/>
                    </a:lnTo>
                    <a:lnTo>
                      <a:pt x="40" y="282"/>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437" name="Freeform 35"/>
              <p:cNvSpPr/>
              <p:nvPr/>
            </p:nvSpPr>
            <p:spPr>
              <a:xfrm>
                <a:off x="2725920" y="1294560"/>
                <a:ext cx="40320" cy="45360"/>
              </a:xfrm>
              <a:custGeom>
                <a:avLst/>
                <a:gdLst>
                  <a:gd name="textAreaLeft" fmla="*/ 0 w 40320"/>
                  <a:gd name="textAreaRight" fmla="*/ 40680 w 40320"/>
                  <a:gd name="textAreaTop" fmla="*/ 0 h 45360"/>
                  <a:gd name="textAreaBottom" fmla="*/ 45720 h 45360"/>
                </a:gdLst>
                <a:ahLst/>
                <a:rect l="textAreaLeft" t="textAreaTop" r="textAreaRight" b="textAreaBottom"/>
                <a:pathLst>
                  <a:path w="269" h="330">
                    <a:moveTo>
                      <a:pt x="228" y="213"/>
                    </a:moveTo>
                    <a:lnTo>
                      <a:pt x="269" y="223"/>
                    </a:lnTo>
                    <a:lnTo>
                      <a:pt x="265" y="236"/>
                    </a:lnTo>
                    <a:lnTo>
                      <a:pt x="261" y="248"/>
                    </a:lnTo>
                    <a:lnTo>
                      <a:pt x="257" y="258"/>
                    </a:lnTo>
                    <a:lnTo>
                      <a:pt x="252" y="269"/>
                    </a:lnTo>
                    <a:lnTo>
                      <a:pt x="245" y="278"/>
                    </a:lnTo>
                    <a:lnTo>
                      <a:pt x="239" y="288"/>
                    </a:lnTo>
                    <a:lnTo>
                      <a:pt x="232" y="295"/>
                    </a:lnTo>
                    <a:lnTo>
                      <a:pt x="223" y="303"/>
                    </a:lnTo>
                    <a:lnTo>
                      <a:pt x="215" y="309"/>
                    </a:lnTo>
                    <a:lnTo>
                      <a:pt x="206" y="314"/>
                    </a:lnTo>
                    <a:lnTo>
                      <a:pt x="197" y="320"/>
                    </a:lnTo>
                    <a:lnTo>
                      <a:pt x="187" y="323"/>
                    </a:lnTo>
                    <a:lnTo>
                      <a:pt x="176" y="326"/>
                    </a:lnTo>
                    <a:lnTo>
                      <a:pt x="166" y="328"/>
                    </a:lnTo>
                    <a:lnTo>
                      <a:pt x="154" y="329"/>
                    </a:lnTo>
                    <a:lnTo>
                      <a:pt x="143" y="330"/>
                    </a:lnTo>
                    <a:lnTo>
                      <a:pt x="131" y="329"/>
                    </a:lnTo>
                    <a:lnTo>
                      <a:pt x="119" y="329"/>
                    </a:lnTo>
                    <a:lnTo>
                      <a:pt x="109" y="327"/>
                    </a:lnTo>
                    <a:lnTo>
                      <a:pt x="98" y="325"/>
                    </a:lnTo>
                    <a:lnTo>
                      <a:pt x="89" y="322"/>
                    </a:lnTo>
                    <a:lnTo>
                      <a:pt x="79" y="319"/>
                    </a:lnTo>
                    <a:lnTo>
                      <a:pt x="71" y="314"/>
                    </a:lnTo>
                    <a:lnTo>
                      <a:pt x="63" y="309"/>
                    </a:lnTo>
                    <a:lnTo>
                      <a:pt x="55" y="304"/>
                    </a:lnTo>
                    <a:lnTo>
                      <a:pt x="48" y="298"/>
                    </a:lnTo>
                    <a:lnTo>
                      <a:pt x="42" y="290"/>
                    </a:lnTo>
                    <a:lnTo>
                      <a:pt x="36" y="284"/>
                    </a:lnTo>
                    <a:lnTo>
                      <a:pt x="30" y="275"/>
                    </a:lnTo>
                    <a:lnTo>
                      <a:pt x="25" y="267"/>
                    </a:lnTo>
                    <a:lnTo>
                      <a:pt x="20" y="257"/>
                    </a:lnTo>
                    <a:lnTo>
                      <a:pt x="15" y="248"/>
                    </a:lnTo>
                    <a:lnTo>
                      <a:pt x="12" y="238"/>
                    </a:lnTo>
                    <a:lnTo>
                      <a:pt x="9" y="228"/>
                    </a:lnTo>
                    <a:lnTo>
                      <a:pt x="6" y="217"/>
                    </a:lnTo>
                    <a:lnTo>
                      <a:pt x="4" y="206"/>
                    </a:lnTo>
                    <a:lnTo>
                      <a:pt x="2" y="196"/>
                    </a:lnTo>
                    <a:lnTo>
                      <a:pt x="1" y="185"/>
                    </a:lnTo>
                    <a:lnTo>
                      <a:pt x="0" y="174"/>
                    </a:lnTo>
                    <a:lnTo>
                      <a:pt x="0" y="162"/>
                    </a:lnTo>
                    <a:lnTo>
                      <a:pt x="0" y="150"/>
                    </a:lnTo>
                    <a:lnTo>
                      <a:pt x="1" y="139"/>
                    </a:lnTo>
                    <a:lnTo>
                      <a:pt x="2" y="127"/>
                    </a:lnTo>
                    <a:lnTo>
                      <a:pt x="4" y="115"/>
                    </a:lnTo>
                    <a:lnTo>
                      <a:pt x="7" y="105"/>
                    </a:lnTo>
                    <a:lnTo>
                      <a:pt x="10" y="95"/>
                    </a:lnTo>
                    <a:lnTo>
                      <a:pt x="13" y="85"/>
                    </a:lnTo>
                    <a:lnTo>
                      <a:pt x="18" y="75"/>
                    </a:lnTo>
                    <a:lnTo>
                      <a:pt x="23" y="67"/>
                    </a:lnTo>
                    <a:lnTo>
                      <a:pt x="28" y="58"/>
                    </a:lnTo>
                    <a:lnTo>
                      <a:pt x="33" y="50"/>
                    </a:lnTo>
                    <a:lnTo>
                      <a:pt x="40" y="42"/>
                    </a:lnTo>
                    <a:lnTo>
                      <a:pt x="46" y="36"/>
                    </a:lnTo>
                    <a:lnTo>
                      <a:pt x="54" y="29"/>
                    </a:lnTo>
                    <a:lnTo>
                      <a:pt x="61" y="24"/>
                    </a:lnTo>
                    <a:lnTo>
                      <a:pt x="70" y="19"/>
                    </a:lnTo>
                    <a:lnTo>
                      <a:pt x="78" y="15"/>
                    </a:lnTo>
                    <a:lnTo>
                      <a:pt x="86" y="10"/>
                    </a:lnTo>
                    <a:lnTo>
                      <a:pt x="96" y="7"/>
                    </a:lnTo>
                    <a:lnTo>
                      <a:pt x="104" y="4"/>
                    </a:lnTo>
                    <a:lnTo>
                      <a:pt x="114" y="2"/>
                    </a:lnTo>
                    <a:lnTo>
                      <a:pt x="124" y="1"/>
                    </a:lnTo>
                    <a:lnTo>
                      <a:pt x="133" y="0"/>
                    </a:lnTo>
                    <a:lnTo>
                      <a:pt x="144" y="0"/>
                    </a:lnTo>
                    <a:lnTo>
                      <a:pt x="154" y="0"/>
                    </a:lnTo>
                    <a:lnTo>
                      <a:pt x="165" y="1"/>
                    </a:lnTo>
                    <a:lnTo>
                      <a:pt x="175" y="3"/>
                    </a:lnTo>
                    <a:lnTo>
                      <a:pt x="185" y="5"/>
                    </a:lnTo>
                    <a:lnTo>
                      <a:pt x="194" y="9"/>
                    </a:lnTo>
                    <a:lnTo>
                      <a:pt x="204" y="14"/>
                    </a:lnTo>
                    <a:lnTo>
                      <a:pt x="212" y="18"/>
                    </a:lnTo>
                    <a:lnTo>
                      <a:pt x="220" y="24"/>
                    </a:lnTo>
                    <a:lnTo>
                      <a:pt x="227" y="30"/>
                    </a:lnTo>
                    <a:lnTo>
                      <a:pt x="235" y="37"/>
                    </a:lnTo>
                    <a:lnTo>
                      <a:pt x="241" y="45"/>
                    </a:lnTo>
                    <a:lnTo>
                      <a:pt x="246" y="53"/>
                    </a:lnTo>
                    <a:lnTo>
                      <a:pt x="252" y="62"/>
                    </a:lnTo>
                    <a:lnTo>
                      <a:pt x="256" y="72"/>
                    </a:lnTo>
                    <a:lnTo>
                      <a:pt x="260" y="81"/>
                    </a:lnTo>
                    <a:lnTo>
                      <a:pt x="263" y="93"/>
                    </a:lnTo>
                    <a:lnTo>
                      <a:pt x="224" y="103"/>
                    </a:lnTo>
                    <a:lnTo>
                      <a:pt x="218" y="86"/>
                    </a:lnTo>
                    <a:lnTo>
                      <a:pt x="211" y="72"/>
                    </a:lnTo>
                    <a:lnTo>
                      <a:pt x="207" y="67"/>
                    </a:lnTo>
                    <a:lnTo>
                      <a:pt x="203" y="61"/>
                    </a:lnTo>
                    <a:lnTo>
                      <a:pt x="198" y="56"/>
                    </a:lnTo>
                    <a:lnTo>
                      <a:pt x="193" y="52"/>
                    </a:lnTo>
                    <a:lnTo>
                      <a:pt x="188" y="47"/>
                    </a:lnTo>
                    <a:lnTo>
                      <a:pt x="183" y="44"/>
                    </a:lnTo>
                    <a:lnTo>
                      <a:pt x="176" y="42"/>
                    </a:lnTo>
                    <a:lnTo>
                      <a:pt x="170" y="40"/>
                    </a:lnTo>
                    <a:lnTo>
                      <a:pt x="164" y="38"/>
                    </a:lnTo>
                    <a:lnTo>
                      <a:pt x="157" y="37"/>
                    </a:lnTo>
                    <a:lnTo>
                      <a:pt x="150" y="36"/>
                    </a:lnTo>
                    <a:lnTo>
                      <a:pt x="143" y="36"/>
                    </a:lnTo>
                    <a:lnTo>
                      <a:pt x="134" y="36"/>
                    </a:lnTo>
                    <a:lnTo>
                      <a:pt x="126" y="37"/>
                    </a:lnTo>
                    <a:lnTo>
                      <a:pt x="118" y="38"/>
                    </a:lnTo>
                    <a:lnTo>
                      <a:pt x="111" y="40"/>
                    </a:lnTo>
                    <a:lnTo>
                      <a:pt x="103" y="42"/>
                    </a:lnTo>
                    <a:lnTo>
                      <a:pt x="96" y="45"/>
                    </a:lnTo>
                    <a:lnTo>
                      <a:pt x="90" y="50"/>
                    </a:lnTo>
                    <a:lnTo>
                      <a:pt x="84" y="53"/>
                    </a:lnTo>
                    <a:lnTo>
                      <a:pt x="78" y="58"/>
                    </a:lnTo>
                    <a:lnTo>
                      <a:pt x="73" y="63"/>
                    </a:lnTo>
                    <a:lnTo>
                      <a:pt x="68" y="69"/>
                    </a:lnTo>
                    <a:lnTo>
                      <a:pt x="64" y="74"/>
                    </a:lnTo>
                    <a:lnTo>
                      <a:pt x="60" y="80"/>
                    </a:lnTo>
                    <a:lnTo>
                      <a:pt x="57" y="87"/>
                    </a:lnTo>
                    <a:lnTo>
                      <a:pt x="54" y="93"/>
                    </a:lnTo>
                    <a:lnTo>
                      <a:pt x="50" y="100"/>
                    </a:lnTo>
                    <a:lnTo>
                      <a:pt x="46" y="115"/>
                    </a:lnTo>
                    <a:lnTo>
                      <a:pt x="43" y="131"/>
                    </a:lnTo>
                    <a:lnTo>
                      <a:pt x="42" y="146"/>
                    </a:lnTo>
                    <a:lnTo>
                      <a:pt x="41" y="162"/>
                    </a:lnTo>
                    <a:lnTo>
                      <a:pt x="42" y="182"/>
                    </a:lnTo>
                    <a:lnTo>
                      <a:pt x="44" y="200"/>
                    </a:lnTo>
                    <a:lnTo>
                      <a:pt x="47" y="217"/>
                    </a:lnTo>
                    <a:lnTo>
                      <a:pt x="53" y="233"/>
                    </a:lnTo>
                    <a:lnTo>
                      <a:pt x="56" y="240"/>
                    </a:lnTo>
                    <a:lnTo>
                      <a:pt x="59" y="248"/>
                    </a:lnTo>
                    <a:lnTo>
                      <a:pt x="63" y="254"/>
                    </a:lnTo>
                    <a:lnTo>
                      <a:pt x="67" y="260"/>
                    </a:lnTo>
                    <a:lnTo>
                      <a:pt x="72" y="266"/>
                    </a:lnTo>
                    <a:lnTo>
                      <a:pt x="77" y="270"/>
                    </a:lnTo>
                    <a:lnTo>
                      <a:pt x="82" y="275"/>
                    </a:lnTo>
                    <a:lnTo>
                      <a:pt x="88" y="278"/>
                    </a:lnTo>
                    <a:lnTo>
                      <a:pt x="100" y="286"/>
                    </a:lnTo>
                    <a:lnTo>
                      <a:pt x="113" y="290"/>
                    </a:lnTo>
                    <a:lnTo>
                      <a:pt x="126" y="293"/>
                    </a:lnTo>
                    <a:lnTo>
                      <a:pt x="139" y="294"/>
                    </a:lnTo>
                    <a:lnTo>
                      <a:pt x="148" y="293"/>
                    </a:lnTo>
                    <a:lnTo>
                      <a:pt x="155" y="292"/>
                    </a:lnTo>
                    <a:lnTo>
                      <a:pt x="164" y="291"/>
                    </a:lnTo>
                    <a:lnTo>
                      <a:pt x="171" y="289"/>
                    </a:lnTo>
                    <a:lnTo>
                      <a:pt x="178" y="286"/>
                    </a:lnTo>
                    <a:lnTo>
                      <a:pt x="184" y="283"/>
                    </a:lnTo>
                    <a:lnTo>
                      <a:pt x="190" y="278"/>
                    </a:lnTo>
                    <a:lnTo>
                      <a:pt x="197" y="273"/>
                    </a:lnTo>
                    <a:lnTo>
                      <a:pt x="202" y="268"/>
                    </a:lnTo>
                    <a:lnTo>
                      <a:pt x="207" y="261"/>
                    </a:lnTo>
                    <a:lnTo>
                      <a:pt x="212" y="255"/>
                    </a:lnTo>
                    <a:lnTo>
                      <a:pt x="217" y="248"/>
                    </a:lnTo>
                    <a:lnTo>
                      <a:pt x="220" y="240"/>
                    </a:lnTo>
                    <a:lnTo>
                      <a:pt x="223" y="232"/>
                    </a:lnTo>
                    <a:lnTo>
                      <a:pt x="226" y="222"/>
                    </a:lnTo>
                    <a:lnTo>
                      <a:pt x="228" y="213"/>
                    </a:lnTo>
                    <a:close/>
                  </a:path>
                </a:pathLst>
              </a:custGeom>
              <a:solidFill>
                <a:srgbClr val="1f1a17"/>
              </a:solidFill>
              <a:ln w="0">
                <a:noFill/>
              </a:ln>
            </p:spPr>
            <p:style>
              <a:lnRef idx="0"/>
              <a:fillRef idx="0"/>
              <a:effectRef idx="0"/>
              <a:fontRef idx="minor"/>
            </p:style>
            <p:txBody>
              <a:bodyPr lIns="90000" rIns="90000" tIns="720" bIns="720" anchor="t">
                <a:noAutofit/>
              </a:bodyPr>
              <a:p>
                <a:pPr>
                  <a:lnSpc>
                    <a:spcPct val="100000"/>
                  </a:lnSpc>
                </a:pPr>
                <a:endParaRPr b="0" lang="en-US" sz="1800" spc="-1" strike="noStrike">
                  <a:solidFill>
                    <a:srgbClr val="000000"/>
                  </a:solidFill>
                  <a:latin typeface="Arial"/>
                  <a:ea typeface="宋体"/>
                </a:endParaRPr>
              </a:p>
            </p:txBody>
          </p:sp>
          <p:sp>
            <p:nvSpPr>
              <p:cNvPr id="438" name="Freeform 36"/>
              <p:cNvSpPr/>
              <p:nvPr/>
            </p:nvSpPr>
            <p:spPr>
              <a:xfrm>
                <a:off x="2775960" y="1294560"/>
                <a:ext cx="42480" cy="45360"/>
              </a:xfrm>
              <a:custGeom>
                <a:avLst/>
                <a:gdLst>
                  <a:gd name="textAreaLeft" fmla="*/ 0 w 42480"/>
                  <a:gd name="textAreaRight" fmla="*/ 42840 w 42480"/>
                  <a:gd name="textAreaTop" fmla="*/ 0 h 45360"/>
                  <a:gd name="textAreaBottom" fmla="*/ 45720 h 45360"/>
                </a:gdLst>
                <a:ahLst/>
                <a:rect l="textAreaLeft" t="textAreaTop" r="textAreaRight" b="textAreaBottom"/>
                <a:pathLst>
                  <a:path w="291" h="331">
                    <a:moveTo>
                      <a:pt x="0" y="170"/>
                    </a:moveTo>
                    <a:lnTo>
                      <a:pt x="0" y="150"/>
                    </a:lnTo>
                    <a:lnTo>
                      <a:pt x="2" y="132"/>
                    </a:lnTo>
                    <a:lnTo>
                      <a:pt x="5" y="115"/>
                    </a:lnTo>
                    <a:lnTo>
                      <a:pt x="10" y="99"/>
                    </a:lnTo>
                    <a:lnTo>
                      <a:pt x="16" y="83"/>
                    </a:lnTo>
                    <a:lnTo>
                      <a:pt x="22" y="70"/>
                    </a:lnTo>
                    <a:lnTo>
                      <a:pt x="31" y="57"/>
                    </a:lnTo>
                    <a:lnTo>
                      <a:pt x="40" y="45"/>
                    </a:lnTo>
                    <a:lnTo>
                      <a:pt x="51" y="35"/>
                    </a:lnTo>
                    <a:lnTo>
                      <a:pt x="63" y="25"/>
                    </a:lnTo>
                    <a:lnTo>
                      <a:pt x="74" y="18"/>
                    </a:lnTo>
                    <a:lnTo>
                      <a:pt x="87" y="11"/>
                    </a:lnTo>
                    <a:lnTo>
                      <a:pt x="101" y="6"/>
                    </a:lnTo>
                    <a:lnTo>
                      <a:pt x="116" y="3"/>
                    </a:lnTo>
                    <a:lnTo>
                      <a:pt x="130" y="1"/>
                    </a:lnTo>
                    <a:lnTo>
                      <a:pt x="146" y="0"/>
                    </a:lnTo>
                    <a:lnTo>
                      <a:pt x="156" y="1"/>
                    </a:lnTo>
                    <a:lnTo>
                      <a:pt x="166" y="2"/>
                    </a:lnTo>
                    <a:lnTo>
                      <a:pt x="176" y="3"/>
                    </a:lnTo>
                    <a:lnTo>
                      <a:pt x="186" y="5"/>
                    </a:lnTo>
                    <a:lnTo>
                      <a:pt x="195" y="8"/>
                    </a:lnTo>
                    <a:lnTo>
                      <a:pt x="205" y="12"/>
                    </a:lnTo>
                    <a:lnTo>
                      <a:pt x="213" y="17"/>
                    </a:lnTo>
                    <a:lnTo>
                      <a:pt x="222" y="21"/>
                    </a:lnTo>
                    <a:lnTo>
                      <a:pt x="230" y="27"/>
                    </a:lnTo>
                    <a:lnTo>
                      <a:pt x="237" y="33"/>
                    </a:lnTo>
                    <a:lnTo>
                      <a:pt x="245" y="40"/>
                    </a:lnTo>
                    <a:lnTo>
                      <a:pt x="252" y="46"/>
                    </a:lnTo>
                    <a:lnTo>
                      <a:pt x="258" y="55"/>
                    </a:lnTo>
                    <a:lnTo>
                      <a:pt x="264" y="62"/>
                    </a:lnTo>
                    <a:lnTo>
                      <a:pt x="269" y="71"/>
                    </a:lnTo>
                    <a:lnTo>
                      <a:pt x="273" y="80"/>
                    </a:lnTo>
                    <a:lnTo>
                      <a:pt x="278" y="90"/>
                    </a:lnTo>
                    <a:lnTo>
                      <a:pt x="281" y="100"/>
                    </a:lnTo>
                    <a:lnTo>
                      <a:pt x="284" y="110"/>
                    </a:lnTo>
                    <a:lnTo>
                      <a:pt x="287" y="120"/>
                    </a:lnTo>
                    <a:lnTo>
                      <a:pt x="289" y="131"/>
                    </a:lnTo>
                    <a:lnTo>
                      <a:pt x="290" y="143"/>
                    </a:lnTo>
                    <a:lnTo>
                      <a:pt x="291" y="154"/>
                    </a:lnTo>
                    <a:lnTo>
                      <a:pt x="291" y="166"/>
                    </a:lnTo>
                    <a:lnTo>
                      <a:pt x="291" y="178"/>
                    </a:lnTo>
                    <a:lnTo>
                      <a:pt x="290" y="189"/>
                    </a:lnTo>
                    <a:lnTo>
                      <a:pt x="288" y="201"/>
                    </a:lnTo>
                    <a:lnTo>
                      <a:pt x="287" y="213"/>
                    </a:lnTo>
                    <a:lnTo>
                      <a:pt x="284" y="223"/>
                    </a:lnTo>
                    <a:lnTo>
                      <a:pt x="281" y="234"/>
                    </a:lnTo>
                    <a:lnTo>
                      <a:pt x="277" y="243"/>
                    </a:lnTo>
                    <a:lnTo>
                      <a:pt x="272" y="253"/>
                    </a:lnTo>
                    <a:lnTo>
                      <a:pt x="268" y="262"/>
                    </a:lnTo>
                    <a:lnTo>
                      <a:pt x="263" y="271"/>
                    </a:lnTo>
                    <a:lnTo>
                      <a:pt x="257" y="279"/>
                    </a:lnTo>
                    <a:lnTo>
                      <a:pt x="250" y="287"/>
                    </a:lnTo>
                    <a:lnTo>
                      <a:pt x="243" y="294"/>
                    </a:lnTo>
                    <a:lnTo>
                      <a:pt x="236" y="301"/>
                    </a:lnTo>
                    <a:lnTo>
                      <a:pt x="228" y="306"/>
                    </a:lnTo>
                    <a:lnTo>
                      <a:pt x="219" y="311"/>
                    </a:lnTo>
                    <a:lnTo>
                      <a:pt x="211" y="315"/>
                    </a:lnTo>
                    <a:lnTo>
                      <a:pt x="202" y="320"/>
                    </a:lnTo>
                    <a:lnTo>
                      <a:pt x="193" y="323"/>
                    </a:lnTo>
                    <a:lnTo>
                      <a:pt x="184" y="326"/>
                    </a:lnTo>
                    <a:lnTo>
                      <a:pt x="175" y="328"/>
                    </a:lnTo>
                    <a:lnTo>
                      <a:pt x="165" y="330"/>
                    </a:lnTo>
                    <a:lnTo>
                      <a:pt x="156" y="330"/>
                    </a:lnTo>
                    <a:lnTo>
                      <a:pt x="145" y="331"/>
                    </a:lnTo>
                    <a:lnTo>
                      <a:pt x="135" y="330"/>
                    </a:lnTo>
                    <a:lnTo>
                      <a:pt x="125" y="329"/>
                    </a:lnTo>
                    <a:lnTo>
                      <a:pt x="115" y="328"/>
                    </a:lnTo>
                    <a:lnTo>
                      <a:pt x="105" y="326"/>
                    </a:lnTo>
                    <a:lnTo>
                      <a:pt x="96" y="323"/>
                    </a:lnTo>
                    <a:lnTo>
                      <a:pt x="86" y="319"/>
                    </a:lnTo>
                    <a:lnTo>
                      <a:pt x="78" y="314"/>
                    </a:lnTo>
                    <a:lnTo>
                      <a:pt x="69" y="309"/>
                    </a:lnTo>
                    <a:lnTo>
                      <a:pt x="61" y="304"/>
                    </a:lnTo>
                    <a:lnTo>
                      <a:pt x="53" y="297"/>
                    </a:lnTo>
                    <a:lnTo>
                      <a:pt x="46" y="291"/>
                    </a:lnTo>
                    <a:lnTo>
                      <a:pt x="39" y="284"/>
                    </a:lnTo>
                    <a:lnTo>
                      <a:pt x="33" y="276"/>
                    </a:lnTo>
                    <a:lnTo>
                      <a:pt x="28" y="268"/>
                    </a:lnTo>
                    <a:lnTo>
                      <a:pt x="22" y="259"/>
                    </a:lnTo>
                    <a:lnTo>
                      <a:pt x="17" y="250"/>
                    </a:lnTo>
                    <a:lnTo>
                      <a:pt x="13" y="240"/>
                    </a:lnTo>
                    <a:lnTo>
                      <a:pt x="10" y="231"/>
                    </a:lnTo>
                    <a:lnTo>
                      <a:pt x="7" y="221"/>
                    </a:lnTo>
                    <a:lnTo>
                      <a:pt x="4" y="211"/>
                    </a:lnTo>
                    <a:lnTo>
                      <a:pt x="2" y="201"/>
                    </a:lnTo>
                    <a:lnTo>
                      <a:pt x="1" y="190"/>
                    </a:lnTo>
                    <a:lnTo>
                      <a:pt x="0" y="180"/>
                    </a:lnTo>
                    <a:lnTo>
                      <a:pt x="0" y="170"/>
                    </a:lnTo>
                    <a:close/>
                    <a:moveTo>
                      <a:pt x="41" y="170"/>
                    </a:moveTo>
                    <a:lnTo>
                      <a:pt x="43" y="185"/>
                    </a:lnTo>
                    <a:lnTo>
                      <a:pt x="44" y="198"/>
                    </a:lnTo>
                    <a:lnTo>
                      <a:pt x="46" y="211"/>
                    </a:lnTo>
                    <a:lnTo>
                      <a:pt x="49" y="222"/>
                    </a:lnTo>
                    <a:lnTo>
                      <a:pt x="53" y="233"/>
                    </a:lnTo>
                    <a:lnTo>
                      <a:pt x="58" y="243"/>
                    </a:lnTo>
                    <a:lnTo>
                      <a:pt x="64" y="253"/>
                    </a:lnTo>
                    <a:lnTo>
                      <a:pt x="71" y="261"/>
                    </a:lnTo>
                    <a:lnTo>
                      <a:pt x="79" y="270"/>
                    </a:lnTo>
                    <a:lnTo>
                      <a:pt x="87" y="276"/>
                    </a:lnTo>
                    <a:lnTo>
                      <a:pt x="96" y="282"/>
                    </a:lnTo>
                    <a:lnTo>
                      <a:pt x="105" y="287"/>
                    </a:lnTo>
                    <a:lnTo>
                      <a:pt x="115" y="290"/>
                    </a:lnTo>
                    <a:lnTo>
                      <a:pt x="124" y="293"/>
                    </a:lnTo>
                    <a:lnTo>
                      <a:pt x="135" y="294"/>
                    </a:lnTo>
                    <a:lnTo>
                      <a:pt x="145" y="295"/>
                    </a:lnTo>
                    <a:lnTo>
                      <a:pt x="157" y="294"/>
                    </a:lnTo>
                    <a:lnTo>
                      <a:pt x="168" y="293"/>
                    </a:lnTo>
                    <a:lnTo>
                      <a:pt x="177" y="290"/>
                    </a:lnTo>
                    <a:lnTo>
                      <a:pt x="187" y="287"/>
                    </a:lnTo>
                    <a:lnTo>
                      <a:pt x="196" y="282"/>
                    </a:lnTo>
                    <a:lnTo>
                      <a:pt x="205" y="276"/>
                    </a:lnTo>
                    <a:lnTo>
                      <a:pt x="213" y="269"/>
                    </a:lnTo>
                    <a:lnTo>
                      <a:pt x="220" y="261"/>
                    </a:lnTo>
                    <a:lnTo>
                      <a:pt x="227" y="253"/>
                    </a:lnTo>
                    <a:lnTo>
                      <a:pt x="233" y="242"/>
                    </a:lnTo>
                    <a:lnTo>
                      <a:pt x="238" y="232"/>
                    </a:lnTo>
                    <a:lnTo>
                      <a:pt x="243" y="221"/>
                    </a:lnTo>
                    <a:lnTo>
                      <a:pt x="246" y="208"/>
                    </a:lnTo>
                    <a:lnTo>
                      <a:pt x="248" y="195"/>
                    </a:lnTo>
                    <a:lnTo>
                      <a:pt x="249" y="181"/>
                    </a:lnTo>
                    <a:lnTo>
                      <a:pt x="250" y="166"/>
                    </a:lnTo>
                    <a:lnTo>
                      <a:pt x="249" y="147"/>
                    </a:lnTo>
                    <a:lnTo>
                      <a:pt x="247" y="129"/>
                    </a:lnTo>
                    <a:lnTo>
                      <a:pt x="243" y="113"/>
                    </a:lnTo>
                    <a:lnTo>
                      <a:pt x="237" y="98"/>
                    </a:lnTo>
                    <a:lnTo>
                      <a:pt x="230" y="84"/>
                    </a:lnTo>
                    <a:lnTo>
                      <a:pt x="222" y="72"/>
                    </a:lnTo>
                    <a:lnTo>
                      <a:pt x="217" y="66"/>
                    </a:lnTo>
                    <a:lnTo>
                      <a:pt x="212" y="61"/>
                    </a:lnTo>
                    <a:lnTo>
                      <a:pt x="207" y="57"/>
                    </a:lnTo>
                    <a:lnTo>
                      <a:pt x="200" y="53"/>
                    </a:lnTo>
                    <a:lnTo>
                      <a:pt x="188" y="45"/>
                    </a:lnTo>
                    <a:lnTo>
                      <a:pt x="175" y="41"/>
                    </a:lnTo>
                    <a:lnTo>
                      <a:pt x="161" y="38"/>
                    </a:lnTo>
                    <a:lnTo>
                      <a:pt x="146" y="37"/>
                    </a:lnTo>
                    <a:lnTo>
                      <a:pt x="136" y="37"/>
                    </a:lnTo>
                    <a:lnTo>
                      <a:pt x="125" y="39"/>
                    </a:lnTo>
                    <a:lnTo>
                      <a:pt x="116" y="41"/>
                    </a:lnTo>
                    <a:lnTo>
                      <a:pt x="106" y="44"/>
                    </a:lnTo>
                    <a:lnTo>
                      <a:pt x="98" y="48"/>
                    </a:lnTo>
                    <a:lnTo>
                      <a:pt x="88" y="54"/>
                    </a:lnTo>
                    <a:lnTo>
                      <a:pt x="81" y="60"/>
                    </a:lnTo>
                    <a:lnTo>
                      <a:pt x="72" y="68"/>
                    </a:lnTo>
                    <a:lnTo>
                      <a:pt x="65" y="76"/>
                    </a:lnTo>
                    <a:lnTo>
                      <a:pt x="58" y="86"/>
                    </a:lnTo>
                    <a:lnTo>
                      <a:pt x="53" y="96"/>
                    </a:lnTo>
                    <a:lnTo>
                      <a:pt x="49" y="109"/>
                    </a:lnTo>
                    <a:lnTo>
                      <a:pt x="46" y="123"/>
                    </a:lnTo>
                    <a:lnTo>
                      <a:pt x="44" y="137"/>
                    </a:lnTo>
                    <a:lnTo>
                      <a:pt x="43" y="153"/>
                    </a:lnTo>
                    <a:lnTo>
                      <a:pt x="41" y="170"/>
                    </a:lnTo>
                    <a:close/>
                  </a:path>
                </a:pathLst>
              </a:custGeom>
              <a:solidFill>
                <a:srgbClr val="1f1a17"/>
              </a:solidFill>
              <a:ln w="0">
                <a:noFill/>
              </a:ln>
            </p:spPr>
            <p:style>
              <a:lnRef idx="0"/>
              <a:fillRef idx="0"/>
              <a:effectRef idx="0"/>
              <a:fontRef idx="minor"/>
            </p:style>
            <p:txBody>
              <a:bodyPr lIns="90000" rIns="90000" tIns="720" bIns="720" anchor="t">
                <a:noAutofit/>
              </a:bodyPr>
              <a:p>
                <a:pPr>
                  <a:lnSpc>
                    <a:spcPct val="100000"/>
                  </a:lnSpc>
                </a:pPr>
                <a:endParaRPr b="0" lang="en-US" sz="1800" spc="-1" strike="noStrike">
                  <a:solidFill>
                    <a:srgbClr val="000000"/>
                  </a:solidFill>
                  <a:latin typeface="Arial"/>
                  <a:ea typeface="宋体"/>
                </a:endParaRPr>
              </a:p>
            </p:txBody>
          </p:sp>
          <p:sp>
            <p:nvSpPr>
              <p:cNvPr id="439" name="Freeform 37"/>
              <p:cNvSpPr/>
              <p:nvPr/>
            </p:nvSpPr>
            <p:spPr>
              <a:xfrm>
                <a:off x="2830320" y="1295280"/>
                <a:ext cx="27720" cy="44280"/>
              </a:xfrm>
              <a:custGeom>
                <a:avLst/>
                <a:gdLst>
                  <a:gd name="textAreaLeft" fmla="*/ 0 w 27720"/>
                  <a:gd name="textAreaRight" fmla="*/ 28080 w 27720"/>
                  <a:gd name="textAreaTop" fmla="*/ 0 h 44280"/>
                  <a:gd name="textAreaBottom" fmla="*/ 44640 h 44280"/>
                </a:gdLst>
                <a:ahLst/>
                <a:rect l="textAreaLeft" t="textAreaTop" r="textAreaRight" b="textAreaBottom"/>
                <a:pathLst>
                  <a:path w="189" h="320">
                    <a:moveTo>
                      <a:pt x="0" y="320"/>
                    </a:moveTo>
                    <a:lnTo>
                      <a:pt x="0" y="0"/>
                    </a:lnTo>
                    <a:lnTo>
                      <a:pt x="40" y="0"/>
                    </a:lnTo>
                    <a:lnTo>
                      <a:pt x="40" y="282"/>
                    </a:lnTo>
                    <a:lnTo>
                      <a:pt x="189" y="282"/>
                    </a:lnTo>
                    <a:lnTo>
                      <a:pt x="189" y="320"/>
                    </a:lnTo>
                    <a:lnTo>
                      <a:pt x="0" y="32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440" name="Freeform 38"/>
              <p:cNvSpPr/>
              <p:nvPr/>
            </p:nvSpPr>
            <p:spPr>
              <a:xfrm>
                <a:off x="2869920" y="1295280"/>
                <a:ext cx="27720" cy="44280"/>
              </a:xfrm>
              <a:custGeom>
                <a:avLst/>
                <a:gdLst>
                  <a:gd name="textAreaLeft" fmla="*/ 0 w 27720"/>
                  <a:gd name="textAreaRight" fmla="*/ 28080 w 27720"/>
                  <a:gd name="textAreaTop" fmla="*/ 0 h 44280"/>
                  <a:gd name="textAreaBottom" fmla="*/ 44640 h 44280"/>
                </a:gdLst>
                <a:ahLst/>
                <a:rect l="textAreaLeft" t="textAreaTop" r="textAreaRight" b="textAreaBottom"/>
                <a:pathLst>
                  <a:path w="191" h="320">
                    <a:moveTo>
                      <a:pt x="0" y="320"/>
                    </a:moveTo>
                    <a:lnTo>
                      <a:pt x="0" y="0"/>
                    </a:lnTo>
                    <a:lnTo>
                      <a:pt x="42" y="0"/>
                    </a:lnTo>
                    <a:lnTo>
                      <a:pt x="42" y="282"/>
                    </a:lnTo>
                    <a:lnTo>
                      <a:pt x="191" y="282"/>
                    </a:lnTo>
                    <a:lnTo>
                      <a:pt x="191" y="320"/>
                    </a:lnTo>
                    <a:lnTo>
                      <a:pt x="0" y="32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441" name="Freeform 39"/>
              <p:cNvSpPr/>
              <p:nvPr/>
            </p:nvSpPr>
            <p:spPr>
              <a:xfrm>
                <a:off x="2904480" y="1295280"/>
                <a:ext cx="41400" cy="44280"/>
              </a:xfrm>
              <a:custGeom>
                <a:avLst/>
                <a:gdLst>
                  <a:gd name="textAreaLeft" fmla="*/ 0 w 41400"/>
                  <a:gd name="textAreaRight" fmla="*/ 41760 w 41400"/>
                  <a:gd name="textAreaTop" fmla="*/ 0 h 44280"/>
                  <a:gd name="textAreaBottom" fmla="*/ 44640 h 44280"/>
                </a:gdLst>
                <a:ahLst/>
                <a:rect l="textAreaLeft" t="textAreaTop" r="textAreaRight" b="textAreaBottom"/>
                <a:pathLst>
                  <a:path w="285" h="320">
                    <a:moveTo>
                      <a:pt x="0" y="320"/>
                    </a:moveTo>
                    <a:lnTo>
                      <a:pt x="118" y="0"/>
                    </a:lnTo>
                    <a:lnTo>
                      <a:pt x="161" y="0"/>
                    </a:lnTo>
                    <a:lnTo>
                      <a:pt x="285" y="320"/>
                    </a:lnTo>
                    <a:lnTo>
                      <a:pt x="240" y="320"/>
                    </a:lnTo>
                    <a:lnTo>
                      <a:pt x="204" y="223"/>
                    </a:lnTo>
                    <a:lnTo>
                      <a:pt x="77" y="223"/>
                    </a:lnTo>
                    <a:lnTo>
                      <a:pt x="44" y="320"/>
                    </a:lnTo>
                    <a:lnTo>
                      <a:pt x="0" y="320"/>
                    </a:lnTo>
                    <a:close/>
                    <a:moveTo>
                      <a:pt x="88" y="189"/>
                    </a:moveTo>
                    <a:lnTo>
                      <a:pt x="192" y="189"/>
                    </a:lnTo>
                    <a:lnTo>
                      <a:pt x="160" y="100"/>
                    </a:lnTo>
                    <a:lnTo>
                      <a:pt x="153" y="81"/>
                    </a:lnTo>
                    <a:lnTo>
                      <a:pt x="147" y="63"/>
                    </a:lnTo>
                    <a:lnTo>
                      <a:pt x="142" y="48"/>
                    </a:lnTo>
                    <a:lnTo>
                      <a:pt x="138" y="33"/>
                    </a:lnTo>
                    <a:lnTo>
                      <a:pt x="135" y="49"/>
                    </a:lnTo>
                    <a:lnTo>
                      <a:pt x="132" y="64"/>
                    </a:lnTo>
                    <a:lnTo>
                      <a:pt x="126" y="80"/>
                    </a:lnTo>
                    <a:lnTo>
                      <a:pt x="122" y="94"/>
                    </a:lnTo>
                    <a:lnTo>
                      <a:pt x="88" y="189"/>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442" name="Freeform 40"/>
              <p:cNvSpPr/>
              <p:nvPr/>
            </p:nvSpPr>
            <p:spPr>
              <a:xfrm>
                <a:off x="2955600" y="1295280"/>
                <a:ext cx="39240" cy="44280"/>
              </a:xfrm>
              <a:custGeom>
                <a:avLst/>
                <a:gdLst>
                  <a:gd name="textAreaLeft" fmla="*/ 0 w 39240"/>
                  <a:gd name="textAreaRight" fmla="*/ 39600 w 39240"/>
                  <a:gd name="textAreaTop" fmla="*/ 0 h 44280"/>
                  <a:gd name="textAreaBottom" fmla="*/ 44640 h 44280"/>
                </a:gdLst>
                <a:ahLst/>
                <a:rect l="textAreaLeft" t="textAreaTop" r="textAreaRight" b="textAreaBottom"/>
                <a:pathLst>
                  <a:path w="268" h="320">
                    <a:moveTo>
                      <a:pt x="0" y="320"/>
                    </a:moveTo>
                    <a:lnTo>
                      <a:pt x="0" y="0"/>
                    </a:lnTo>
                    <a:lnTo>
                      <a:pt x="135" y="0"/>
                    </a:lnTo>
                    <a:lnTo>
                      <a:pt x="154" y="0"/>
                    </a:lnTo>
                    <a:lnTo>
                      <a:pt x="171" y="2"/>
                    </a:lnTo>
                    <a:lnTo>
                      <a:pt x="186" y="4"/>
                    </a:lnTo>
                    <a:lnTo>
                      <a:pt x="197" y="9"/>
                    </a:lnTo>
                    <a:lnTo>
                      <a:pt x="207" y="14"/>
                    </a:lnTo>
                    <a:lnTo>
                      <a:pt x="217" y="20"/>
                    </a:lnTo>
                    <a:lnTo>
                      <a:pt x="224" y="29"/>
                    </a:lnTo>
                    <a:lnTo>
                      <a:pt x="231" y="39"/>
                    </a:lnTo>
                    <a:lnTo>
                      <a:pt x="237" y="50"/>
                    </a:lnTo>
                    <a:lnTo>
                      <a:pt x="241" y="62"/>
                    </a:lnTo>
                    <a:lnTo>
                      <a:pt x="243" y="74"/>
                    </a:lnTo>
                    <a:lnTo>
                      <a:pt x="244" y="87"/>
                    </a:lnTo>
                    <a:lnTo>
                      <a:pt x="243" y="95"/>
                    </a:lnTo>
                    <a:lnTo>
                      <a:pt x="242" y="104"/>
                    </a:lnTo>
                    <a:lnTo>
                      <a:pt x="241" y="111"/>
                    </a:lnTo>
                    <a:lnTo>
                      <a:pt x="239" y="119"/>
                    </a:lnTo>
                    <a:lnTo>
                      <a:pt x="236" y="125"/>
                    </a:lnTo>
                    <a:lnTo>
                      <a:pt x="231" y="133"/>
                    </a:lnTo>
                    <a:lnTo>
                      <a:pt x="227" y="139"/>
                    </a:lnTo>
                    <a:lnTo>
                      <a:pt x="223" y="144"/>
                    </a:lnTo>
                    <a:lnTo>
                      <a:pt x="217" y="151"/>
                    </a:lnTo>
                    <a:lnTo>
                      <a:pt x="211" y="155"/>
                    </a:lnTo>
                    <a:lnTo>
                      <a:pt x="204" y="160"/>
                    </a:lnTo>
                    <a:lnTo>
                      <a:pt x="196" y="163"/>
                    </a:lnTo>
                    <a:lnTo>
                      <a:pt x="188" y="167"/>
                    </a:lnTo>
                    <a:lnTo>
                      <a:pt x="178" y="170"/>
                    </a:lnTo>
                    <a:lnTo>
                      <a:pt x="169" y="173"/>
                    </a:lnTo>
                    <a:lnTo>
                      <a:pt x="158" y="174"/>
                    </a:lnTo>
                    <a:lnTo>
                      <a:pt x="172" y="182"/>
                    </a:lnTo>
                    <a:lnTo>
                      <a:pt x="183" y="190"/>
                    </a:lnTo>
                    <a:lnTo>
                      <a:pt x="191" y="199"/>
                    </a:lnTo>
                    <a:lnTo>
                      <a:pt x="200" y="209"/>
                    </a:lnTo>
                    <a:lnTo>
                      <a:pt x="208" y="220"/>
                    </a:lnTo>
                    <a:lnTo>
                      <a:pt x="215" y="232"/>
                    </a:lnTo>
                    <a:lnTo>
                      <a:pt x="268" y="320"/>
                    </a:lnTo>
                    <a:lnTo>
                      <a:pt x="218" y="320"/>
                    </a:lnTo>
                    <a:lnTo>
                      <a:pt x="177" y="253"/>
                    </a:lnTo>
                    <a:lnTo>
                      <a:pt x="169" y="240"/>
                    </a:lnTo>
                    <a:lnTo>
                      <a:pt x="161" y="228"/>
                    </a:lnTo>
                    <a:lnTo>
                      <a:pt x="155" y="217"/>
                    </a:lnTo>
                    <a:lnTo>
                      <a:pt x="149" y="209"/>
                    </a:lnTo>
                    <a:lnTo>
                      <a:pt x="142" y="202"/>
                    </a:lnTo>
                    <a:lnTo>
                      <a:pt x="138" y="196"/>
                    </a:lnTo>
                    <a:lnTo>
                      <a:pt x="133" y="191"/>
                    </a:lnTo>
                    <a:lnTo>
                      <a:pt x="128" y="188"/>
                    </a:lnTo>
                    <a:lnTo>
                      <a:pt x="119" y="182"/>
                    </a:lnTo>
                    <a:lnTo>
                      <a:pt x="110" y="179"/>
                    </a:lnTo>
                    <a:lnTo>
                      <a:pt x="101" y="178"/>
                    </a:lnTo>
                    <a:lnTo>
                      <a:pt x="87" y="178"/>
                    </a:lnTo>
                    <a:lnTo>
                      <a:pt x="41" y="178"/>
                    </a:lnTo>
                    <a:lnTo>
                      <a:pt x="41" y="320"/>
                    </a:lnTo>
                    <a:lnTo>
                      <a:pt x="0" y="320"/>
                    </a:lnTo>
                    <a:close/>
                    <a:moveTo>
                      <a:pt x="41" y="141"/>
                    </a:moveTo>
                    <a:lnTo>
                      <a:pt x="128" y="141"/>
                    </a:lnTo>
                    <a:lnTo>
                      <a:pt x="140" y="141"/>
                    </a:lnTo>
                    <a:lnTo>
                      <a:pt x="152" y="140"/>
                    </a:lnTo>
                    <a:lnTo>
                      <a:pt x="161" y="138"/>
                    </a:lnTo>
                    <a:lnTo>
                      <a:pt x="170" y="135"/>
                    </a:lnTo>
                    <a:lnTo>
                      <a:pt x="177" y="131"/>
                    </a:lnTo>
                    <a:lnTo>
                      <a:pt x="184" y="127"/>
                    </a:lnTo>
                    <a:lnTo>
                      <a:pt x="189" y="122"/>
                    </a:lnTo>
                    <a:lnTo>
                      <a:pt x="194" y="116"/>
                    </a:lnTo>
                    <a:lnTo>
                      <a:pt x="197" y="109"/>
                    </a:lnTo>
                    <a:lnTo>
                      <a:pt x="200" y="102"/>
                    </a:lnTo>
                    <a:lnTo>
                      <a:pt x="202" y="94"/>
                    </a:lnTo>
                    <a:lnTo>
                      <a:pt x="202" y="87"/>
                    </a:lnTo>
                    <a:lnTo>
                      <a:pt x="201" y="76"/>
                    </a:lnTo>
                    <a:lnTo>
                      <a:pt x="199" y="67"/>
                    </a:lnTo>
                    <a:lnTo>
                      <a:pt x="196" y="62"/>
                    </a:lnTo>
                    <a:lnTo>
                      <a:pt x="193" y="57"/>
                    </a:lnTo>
                    <a:lnTo>
                      <a:pt x="190" y="54"/>
                    </a:lnTo>
                    <a:lnTo>
                      <a:pt x="187" y="50"/>
                    </a:lnTo>
                    <a:lnTo>
                      <a:pt x="183" y="47"/>
                    </a:lnTo>
                    <a:lnTo>
                      <a:pt x="177" y="43"/>
                    </a:lnTo>
                    <a:lnTo>
                      <a:pt x="172" y="41"/>
                    </a:lnTo>
                    <a:lnTo>
                      <a:pt x="166" y="39"/>
                    </a:lnTo>
                    <a:lnTo>
                      <a:pt x="153" y="36"/>
                    </a:lnTo>
                    <a:lnTo>
                      <a:pt x="137" y="35"/>
                    </a:lnTo>
                    <a:lnTo>
                      <a:pt x="41" y="35"/>
                    </a:lnTo>
                    <a:lnTo>
                      <a:pt x="41" y="141"/>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443" name="Freeform 41"/>
              <p:cNvSpPr/>
              <p:nvPr/>
            </p:nvSpPr>
            <p:spPr>
              <a:xfrm>
                <a:off x="3024720" y="1295280"/>
                <a:ext cx="33120" cy="44280"/>
              </a:xfrm>
              <a:custGeom>
                <a:avLst/>
                <a:gdLst>
                  <a:gd name="textAreaLeft" fmla="*/ 0 w 33120"/>
                  <a:gd name="textAreaRight" fmla="*/ 33480 w 33120"/>
                  <a:gd name="textAreaTop" fmla="*/ 0 h 44280"/>
                  <a:gd name="textAreaBottom" fmla="*/ 44640 h 44280"/>
                </a:gdLst>
                <a:ahLst/>
                <a:rect l="textAreaLeft" t="textAreaTop" r="textAreaRight" b="textAreaBottom"/>
                <a:pathLst>
                  <a:path w="228" h="320">
                    <a:moveTo>
                      <a:pt x="0" y="320"/>
                    </a:moveTo>
                    <a:lnTo>
                      <a:pt x="0" y="0"/>
                    </a:lnTo>
                    <a:lnTo>
                      <a:pt x="220" y="0"/>
                    </a:lnTo>
                    <a:lnTo>
                      <a:pt x="220" y="37"/>
                    </a:lnTo>
                    <a:lnTo>
                      <a:pt x="40" y="37"/>
                    </a:lnTo>
                    <a:lnTo>
                      <a:pt x="40" y="136"/>
                    </a:lnTo>
                    <a:lnTo>
                      <a:pt x="209" y="136"/>
                    </a:lnTo>
                    <a:lnTo>
                      <a:pt x="209" y="173"/>
                    </a:lnTo>
                    <a:lnTo>
                      <a:pt x="40" y="173"/>
                    </a:lnTo>
                    <a:lnTo>
                      <a:pt x="40" y="282"/>
                    </a:lnTo>
                    <a:lnTo>
                      <a:pt x="228" y="282"/>
                    </a:lnTo>
                    <a:lnTo>
                      <a:pt x="228" y="320"/>
                    </a:lnTo>
                    <a:lnTo>
                      <a:pt x="0" y="32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444" name="Freeform 42"/>
              <p:cNvSpPr/>
              <p:nvPr/>
            </p:nvSpPr>
            <p:spPr>
              <a:xfrm>
                <a:off x="3070440" y="1295280"/>
                <a:ext cx="35280" cy="44280"/>
              </a:xfrm>
              <a:custGeom>
                <a:avLst/>
                <a:gdLst>
                  <a:gd name="textAreaLeft" fmla="*/ 0 w 35280"/>
                  <a:gd name="textAreaRight" fmla="*/ 35640 w 35280"/>
                  <a:gd name="textAreaTop" fmla="*/ 0 h 44280"/>
                  <a:gd name="textAreaBottom" fmla="*/ 44640 h 44280"/>
                </a:gdLst>
                <a:ahLst/>
                <a:rect l="textAreaLeft" t="textAreaTop" r="textAreaRight" b="textAreaBottom"/>
                <a:pathLst>
                  <a:path w="241" h="320">
                    <a:moveTo>
                      <a:pt x="0" y="320"/>
                    </a:moveTo>
                    <a:lnTo>
                      <a:pt x="0" y="0"/>
                    </a:lnTo>
                    <a:lnTo>
                      <a:pt x="42" y="0"/>
                    </a:lnTo>
                    <a:lnTo>
                      <a:pt x="202" y="251"/>
                    </a:lnTo>
                    <a:lnTo>
                      <a:pt x="202" y="0"/>
                    </a:lnTo>
                    <a:lnTo>
                      <a:pt x="241" y="0"/>
                    </a:lnTo>
                    <a:lnTo>
                      <a:pt x="241" y="320"/>
                    </a:lnTo>
                    <a:lnTo>
                      <a:pt x="200" y="320"/>
                    </a:lnTo>
                    <a:lnTo>
                      <a:pt x="40" y="68"/>
                    </a:lnTo>
                    <a:lnTo>
                      <a:pt x="40" y="320"/>
                    </a:lnTo>
                    <a:lnTo>
                      <a:pt x="0" y="32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445" name="Freeform 43"/>
              <p:cNvSpPr/>
              <p:nvPr/>
            </p:nvSpPr>
            <p:spPr>
              <a:xfrm>
                <a:off x="3116520" y="1295280"/>
                <a:ext cx="36000" cy="44280"/>
              </a:xfrm>
              <a:custGeom>
                <a:avLst/>
                <a:gdLst>
                  <a:gd name="textAreaLeft" fmla="*/ 0 w 36000"/>
                  <a:gd name="textAreaRight" fmla="*/ 36360 w 36000"/>
                  <a:gd name="textAreaTop" fmla="*/ 0 h 44280"/>
                  <a:gd name="textAreaBottom" fmla="*/ 44640 h 44280"/>
                </a:gdLst>
                <a:ahLst/>
                <a:rect l="textAreaLeft" t="textAreaTop" r="textAreaRight" b="textAreaBottom"/>
                <a:pathLst>
                  <a:path w="241" h="320">
                    <a:moveTo>
                      <a:pt x="99" y="320"/>
                    </a:moveTo>
                    <a:lnTo>
                      <a:pt x="99" y="37"/>
                    </a:lnTo>
                    <a:lnTo>
                      <a:pt x="0" y="37"/>
                    </a:lnTo>
                    <a:lnTo>
                      <a:pt x="0" y="0"/>
                    </a:lnTo>
                    <a:lnTo>
                      <a:pt x="241" y="0"/>
                    </a:lnTo>
                    <a:lnTo>
                      <a:pt x="241" y="37"/>
                    </a:lnTo>
                    <a:lnTo>
                      <a:pt x="140" y="37"/>
                    </a:lnTo>
                    <a:lnTo>
                      <a:pt x="140" y="320"/>
                    </a:lnTo>
                    <a:lnTo>
                      <a:pt x="99" y="32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446" name="Freeform 44"/>
              <p:cNvSpPr/>
              <p:nvPr/>
            </p:nvSpPr>
            <p:spPr>
              <a:xfrm>
                <a:off x="3162240" y="1295280"/>
                <a:ext cx="34200" cy="44280"/>
              </a:xfrm>
              <a:custGeom>
                <a:avLst/>
                <a:gdLst>
                  <a:gd name="textAreaLeft" fmla="*/ 0 w 34200"/>
                  <a:gd name="textAreaRight" fmla="*/ 34560 w 34200"/>
                  <a:gd name="textAreaTop" fmla="*/ 0 h 44280"/>
                  <a:gd name="textAreaBottom" fmla="*/ 44640 h 44280"/>
                </a:gdLst>
                <a:ahLst/>
                <a:rect l="textAreaLeft" t="textAreaTop" r="textAreaRight" b="textAreaBottom"/>
                <a:pathLst>
                  <a:path w="227" h="320">
                    <a:moveTo>
                      <a:pt x="0" y="320"/>
                    </a:moveTo>
                    <a:lnTo>
                      <a:pt x="0" y="0"/>
                    </a:lnTo>
                    <a:lnTo>
                      <a:pt x="220" y="0"/>
                    </a:lnTo>
                    <a:lnTo>
                      <a:pt x="220" y="37"/>
                    </a:lnTo>
                    <a:lnTo>
                      <a:pt x="40" y="37"/>
                    </a:lnTo>
                    <a:lnTo>
                      <a:pt x="40" y="136"/>
                    </a:lnTo>
                    <a:lnTo>
                      <a:pt x="209" y="136"/>
                    </a:lnTo>
                    <a:lnTo>
                      <a:pt x="209" y="173"/>
                    </a:lnTo>
                    <a:lnTo>
                      <a:pt x="40" y="173"/>
                    </a:lnTo>
                    <a:lnTo>
                      <a:pt x="40" y="282"/>
                    </a:lnTo>
                    <a:lnTo>
                      <a:pt x="227" y="282"/>
                    </a:lnTo>
                    <a:lnTo>
                      <a:pt x="227" y="320"/>
                    </a:lnTo>
                    <a:lnTo>
                      <a:pt x="0" y="32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447" name="Freeform 45"/>
              <p:cNvSpPr/>
              <p:nvPr/>
            </p:nvSpPr>
            <p:spPr>
              <a:xfrm>
                <a:off x="3208320" y="1295280"/>
                <a:ext cx="40320" cy="44280"/>
              </a:xfrm>
              <a:custGeom>
                <a:avLst/>
                <a:gdLst>
                  <a:gd name="textAreaLeft" fmla="*/ 0 w 40320"/>
                  <a:gd name="textAreaRight" fmla="*/ 40680 w 40320"/>
                  <a:gd name="textAreaTop" fmla="*/ 0 h 44280"/>
                  <a:gd name="textAreaBottom" fmla="*/ 44640 h 44280"/>
                </a:gdLst>
                <a:ahLst/>
                <a:rect l="textAreaLeft" t="textAreaTop" r="textAreaRight" b="textAreaBottom"/>
                <a:pathLst>
                  <a:path w="268" h="320">
                    <a:moveTo>
                      <a:pt x="0" y="320"/>
                    </a:moveTo>
                    <a:lnTo>
                      <a:pt x="0" y="0"/>
                    </a:lnTo>
                    <a:lnTo>
                      <a:pt x="135" y="0"/>
                    </a:lnTo>
                    <a:lnTo>
                      <a:pt x="154" y="0"/>
                    </a:lnTo>
                    <a:lnTo>
                      <a:pt x="171" y="2"/>
                    </a:lnTo>
                    <a:lnTo>
                      <a:pt x="186" y="4"/>
                    </a:lnTo>
                    <a:lnTo>
                      <a:pt x="197" y="9"/>
                    </a:lnTo>
                    <a:lnTo>
                      <a:pt x="207" y="14"/>
                    </a:lnTo>
                    <a:lnTo>
                      <a:pt x="216" y="20"/>
                    </a:lnTo>
                    <a:lnTo>
                      <a:pt x="224" y="29"/>
                    </a:lnTo>
                    <a:lnTo>
                      <a:pt x="231" y="39"/>
                    </a:lnTo>
                    <a:lnTo>
                      <a:pt x="237" y="50"/>
                    </a:lnTo>
                    <a:lnTo>
                      <a:pt x="241" y="62"/>
                    </a:lnTo>
                    <a:lnTo>
                      <a:pt x="243" y="74"/>
                    </a:lnTo>
                    <a:lnTo>
                      <a:pt x="244" y="87"/>
                    </a:lnTo>
                    <a:lnTo>
                      <a:pt x="243" y="95"/>
                    </a:lnTo>
                    <a:lnTo>
                      <a:pt x="242" y="104"/>
                    </a:lnTo>
                    <a:lnTo>
                      <a:pt x="241" y="111"/>
                    </a:lnTo>
                    <a:lnTo>
                      <a:pt x="239" y="119"/>
                    </a:lnTo>
                    <a:lnTo>
                      <a:pt x="235" y="125"/>
                    </a:lnTo>
                    <a:lnTo>
                      <a:pt x="232" y="133"/>
                    </a:lnTo>
                    <a:lnTo>
                      <a:pt x="228" y="139"/>
                    </a:lnTo>
                    <a:lnTo>
                      <a:pt x="223" y="144"/>
                    </a:lnTo>
                    <a:lnTo>
                      <a:pt x="217" y="151"/>
                    </a:lnTo>
                    <a:lnTo>
                      <a:pt x="211" y="155"/>
                    </a:lnTo>
                    <a:lnTo>
                      <a:pt x="204" y="160"/>
                    </a:lnTo>
                    <a:lnTo>
                      <a:pt x="196" y="163"/>
                    </a:lnTo>
                    <a:lnTo>
                      <a:pt x="188" y="167"/>
                    </a:lnTo>
                    <a:lnTo>
                      <a:pt x="178" y="170"/>
                    </a:lnTo>
                    <a:lnTo>
                      <a:pt x="169" y="173"/>
                    </a:lnTo>
                    <a:lnTo>
                      <a:pt x="158" y="174"/>
                    </a:lnTo>
                    <a:lnTo>
                      <a:pt x="172" y="182"/>
                    </a:lnTo>
                    <a:lnTo>
                      <a:pt x="183" y="190"/>
                    </a:lnTo>
                    <a:lnTo>
                      <a:pt x="191" y="199"/>
                    </a:lnTo>
                    <a:lnTo>
                      <a:pt x="199" y="209"/>
                    </a:lnTo>
                    <a:lnTo>
                      <a:pt x="208" y="220"/>
                    </a:lnTo>
                    <a:lnTo>
                      <a:pt x="215" y="232"/>
                    </a:lnTo>
                    <a:lnTo>
                      <a:pt x="268" y="320"/>
                    </a:lnTo>
                    <a:lnTo>
                      <a:pt x="217" y="320"/>
                    </a:lnTo>
                    <a:lnTo>
                      <a:pt x="177" y="253"/>
                    </a:lnTo>
                    <a:lnTo>
                      <a:pt x="169" y="240"/>
                    </a:lnTo>
                    <a:lnTo>
                      <a:pt x="161" y="228"/>
                    </a:lnTo>
                    <a:lnTo>
                      <a:pt x="155" y="217"/>
                    </a:lnTo>
                    <a:lnTo>
                      <a:pt x="149" y="209"/>
                    </a:lnTo>
                    <a:lnTo>
                      <a:pt x="143" y="202"/>
                    </a:lnTo>
                    <a:lnTo>
                      <a:pt x="138" y="196"/>
                    </a:lnTo>
                    <a:lnTo>
                      <a:pt x="133" y="191"/>
                    </a:lnTo>
                    <a:lnTo>
                      <a:pt x="129" y="188"/>
                    </a:lnTo>
                    <a:lnTo>
                      <a:pt x="119" y="182"/>
                    </a:lnTo>
                    <a:lnTo>
                      <a:pt x="109" y="179"/>
                    </a:lnTo>
                    <a:lnTo>
                      <a:pt x="101" y="178"/>
                    </a:lnTo>
                    <a:lnTo>
                      <a:pt x="87" y="178"/>
                    </a:lnTo>
                    <a:lnTo>
                      <a:pt x="41" y="178"/>
                    </a:lnTo>
                    <a:lnTo>
                      <a:pt x="41" y="320"/>
                    </a:lnTo>
                    <a:lnTo>
                      <a:pt x="0" y="320"/>
                    </a:lnTo>
                    <a:close/>
                    <a:moveTo>
                      <a:pt x="41" y="141"/>
                    </a:moveTo>
                    <a:lnTo>
                      <a:pt x="127" y="141"/>
                    </a:lnTo>
                    <a:lnTo>
                      <a:pt x="140" y="141"/>
                    </a:lnTo>
                    <a:lnTo>
                      <a:pt x="152" y="140"/>
                    </a:lnTo>
                    <a:lnTo>
                      <a:pt x="161" y="138"/>
                    </a:lnTo>
                    <a:lnTo>
                      <a:pt x="170" y="135"/>
                    </a:lnTo>
                    <a:lnTo>
                      <a:pt x="177" y="131"/>
                    </a:lnTo>
                    <a:lnTo>
                      <a:pt x="184" y="127"/>
                    </a:lnTo>
                    <a:lnTo>
                      <a:pt x="190" y="122"/>
                    </a:lnTo>
                    <a:lnTo>
                      <a:pt x="194" y="116"/>
                    </a:lnTo>
                    <a:lnTo>
                      <a:pt x="197" y="109"/>
                    </a:lnTo>
                    <a:lnTo>
                      <a:pt x="201" y="102"/>
                    </a:lnTo>
                    <a:lnTo>
                      <a:pt x="202" y="94"/>
                    </a:lnTo>
                    <a:lnTo>
                      <a:pt x="202" y="87"/>
                    </a:lnTo>
                    <a:lnTo>
                      <a:pt x="202" y="76"/>
                    </a:lnTo>
                    <a:lnTo>
                      <a:pt x="198" y="67"/>
                    </a:lnTo>
                    <a:lnTo>
                      <a:pt x="196" y="62"/>
                    </a:lnTo>
                    <a:lnTo>
                      <a:pt x="193" y="57"/>
                    </a:lnTo>
                    <a:lnTo>
                      <a:pt x="190" y="54"/>
                    </a:lnTo>
                    <a:lnTo>
                      <a:pt x="187" y="50"/>
                    </a:lnTo>
                    <a:lnTo>
                      <a:pt x="183" y="47"/>
                    </a:lnTo>
                    <a:lnTo>
                      <a:pt x="177" y="43"/>
                    </a:lnTo>
                    <a:lnTo>
                      <a:pt x="172" y="41"/>
                    </a:lnTo>
                    <a:lnTo>
                      <a:pt x="167" y="39"/>
                    </a:lnTo>
                    <a:lnTo>
                      <a:pt x="153" y="36"/>
                    </a:lnTo>
                    <a:lnTo>
                      <a:pt x="137" y="35"/>
                    </a:lnTo>
                    <a:lnTo>
                      <a:pt x="41" y="35"/>
                    </a:lnTo>
                    <a:lnTo>
                      <a:pt x="41" y="141"/>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448" name="Freeform 46"/>
              <p:cNvSpPr/>
              <p:nvPr/>
            </p:nvSpPr>
            <p:spPr>
              <a:xfrm>
                <a:off x="3258360" y="1295280"/>
                <a:ext cx="34200" cy="44280"/>
              </a:xfrm>
              <a:custGeom>
                <a:avLst/>
                <a:gdLst>
                  <a:gd name="textAreaLeft" fmla="*/ 0 w 34200"/>
                  <a:gd name="textAreaRight" fmla="*/ 34560 w 34200"/>
                  <a:gd name="textAreaTop" fmla="*/ 0 h 44280"/>
                  <a:gd name="textAreaBottom" fmla="*/ 44640 h 44280"/>
                </a:gdLst>
                <a:ahLst/>
                <a:rect l="textAreaLeft" t="textAreaTop" r="textAreaRight" b="textAreaBottom"/>
                <a:pathLst>
                  <a:path w="232" h="320">
                    <a:moveTo>
                      <a:pt x="0" y="320"/>
                    </a:moveTo>
                    <a:lnTo>
                      <a:pt x="0" y="0"/>
                    </a:lnTo>
                    <a:lnTo>
                      <a:pt x="114" y="0"/>
                    </a:lnTo>
                    <a:lnTo>
                      <a:pt x="129" y="0"/>
                    </a:lnTo>
                    <a:lnTo>
                      <a:pt x="141" y="1"/>
                    </a:lnTo>
                    <a:lnTo>
                      <a:pt x="151" y="1"/>
                    </a:lnTo>
                    <a:lnTo>
                      <a:pt x="161" y="3"/>
                    </a:lnTo>
                    <a:lnTo>
                      <a:pt x="172" y="5"/>
                    </a:lnTo>
                    <a:lnTo>
                      <a:pt x="181" y="9"/>
                    </a:lnTo>
                    <a:lnTo>
                      <a:pt x="191" y="13"/>
                    </a:lnTo>
                    <a:lnTo>
                      <a:pt x="198" y="18"/>
                    </a:lnTo>
                    <a:lnTo>
                      <a:pt x="205" y="24"/>
                    </a:lnTo>
                    <a:lnTo>
                      <a:pt x="212" y="31"/>
                    </a:lnTo>
                    <a:lnTo>
                      <a:pt x="218" y="39"/>
                    </a:lnTo>
                    <a:lnTo>
                      <a:pt x="223" y="49"/>
                    </a:lnTo>
                    <a:lnTo>
                      <a:pt x="227" y="58"/>
                    </a:lnTo>
                    <a:lnTo>
                      <a:pt x="230" y="70"/>
                    </a:lnTo>
                    <a:lnTo>
                      <a:pt x="232" y="81"/>
                    </a:lnTo>
                    <a:lnTo>
                      <a:pt x="232" y="92"/>
                    </a:lnTo>
                    <a:lnTo>
                      <a:pt x="232" y="103"/>
                    </a:lnTo>
                    <a:lnTo>
                      <a:pt x="231" y="112"/>
                    </a:lnTo>
                    <a:lnTo>
                      <a:pt x="229" y="121"/>
                    </a:lnTo>
                    <a:lnTo>
                      <a:pt x="226" y="130"/>
                    </a:lnTo>
                    <a:lnTo>
                      <a:pt x="222" y="139"/>
                    </a:lnTo>
                    <a:lnTo>
                      <a:pt x="218" y="146"/>
                    </a:lnTo>
                    <a:lnTo>
                      <a:pt x="213" y="154"/>
                    </a:lnTo>
                    <a:lnTo>
                      <a:pt x="208" y="161"/>
                    </a:lnTo>
                    <a:lnTo>
                      <a:pt x="200" y="169"/>
                    </a:lnTo>
                    <a:lnTo>
                      <a:pt x="193" y="174"/>
                    </a:lnTo>
                    <a:lnTo>
                      <a:pt x="183" y="179"/>
                    </a:lnTo>
                    <a:lnTo>
                      <a:pt x="173" y="182"/>
                    </a:lnTo>
                    <a:lnTo>
                      <a:pt x="161" y="185"/>
                    </a:lnTo>
                    <a:lnTo>
                      <a:pt x="148" y="188"/>
                    </a:lnTo>
                    <a:lnTo>
                      <a:pt x="133" y="190"/>
                    </a:lnTo>
                    <a:lnTo>
                      <a:pt x="119" y="190"/>
                    </a:lnTo>
                    <a:lnTo>
                      <a:pt x="40" y="190"/>
                    </a:lnTo>
                    <a:lnTo>
                      <a:pt x="40" y="320"/>
                    </a:lnTo>
                    <a:lnTo>
                      <a:pt x="0" y="320"/>
                    </a:lnTo>
                    <a:close/>
                    <a:moveTo>
                      <a:pt x="40" y="152"/>
                    </a:moveTo>
                    <a:lnTo>
                      <a:pt x="119" y="152"/>
                    </a:lnTo>
                    <a:lnTo>
                      <a:pt x="128" y="152"/>
                    </a:lnTo>
                    <a:lnTo>
                      <a:pt x="137" y="151"/>
                    </a:lnTo>
                    <a:lnTo>
                      <a:pt x="145" y="149"/>
                    </a:lnTo>
                    <a:lnTo>
                      <a:pt x="152" y="148"/>
                    </a:lnTo>
                    <a:lnTo>
                      <a:pt x="159" y="146"/>
                    </a:lnTo>
                    <a:lnTo>
                      <a:pt x="164" y="143"/>
                    </a:lnTo>
                    <a:lnTo>
                      <a:pt x="169" y="140"/>
                    </a:lnTo>
                    <a:lnTo>
                      <a:pt x="175" y="137"/>
                    </a:lnTo>
                    <a:lnTo>
                      <a:pt x="178" y="133"/>
                    </a:lnTo>
                    <a:lnTo>
                      <a:pt x="181" y="128"/>
                    </a:lnTo>
                    <a:lnTo>
                      <a:pt x="184" y="123"/>
                    </a:lnTo>
                    <a:lnTo>
                      <a:pt x="186" y="119"/>
                    </a:lnTo>
                    <a:lnTo>
                      <a:pt x="188" y="112"/>
                    </a:lnTo>
                    <a:lnTo>
                      <a:pt x="190" y="107"/>
                    </a:lnTo>
                    <a:lnTo>
                      <a:pt x="191" y="101"/>
                    </a:lnTo>
                    <a:lnTo>
                      <a:pt x="191" y="93"/>
                    </a:lnTo>
                    <a:lnTo>
                      <a:pt x="190" y="84"/>
                    </a:lnTo>
                    <a:lnTo>
                      <a:pt x="188" y="75"/>
                    </a:lnTo>
                    <a:lnTo>
                      <a:pt x="185" y="67"/>
                    </a:lnTo>
                    <a:lnTo>
                      <a:pt x="181" y="59"/>
                    </a:lnTo>
                    <a:lnTo>
                      <a:pt x="176" y="53"/>
                    </a:lnTo>
                    <a:lnTo>
                      <a:pt x="169" y="48"/>
                    </a:lnTo>
                    <a:lnTo>
                      <a:pt x="163" y="43"/>
                    </a:lnTo>
                    <a:lnTo>
                      <a:pt x="156" y="40"/>
                    </a:lnTo>
                    <a:lnTo>
                      <a:pt x="149" y="39"/>
                    </a:lnTo>
                    <a:lnTo>
                      <a:pt x="141" y="38"/>
                    </a:lnTo>
                    <a:lnTo>
                      <a:pt x="130" y="38"/>
                    </a:lnTo>
                    <a:lnTo>
                      <a:pt x="118" y="37"/>
                    </a:lnTo>
                    <a:lnTo>
                      <a:pt x="40" y="37"/>
                    </a:lnTo>
                    <a:lnTo>
                      <a:pt x="40" y="152"/>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449" name="Freeform 47"/>
              <p:cNvSpPr/>
              <p:nvPr/>
            </p:nvSpPr>
            <p:spPr>
              <a:xfrm>
                <a:off x="3304440" y="1295280"/>
                <a:ext cx="40320" cy="44280"/>
              </a:xfrm>
              <a:custGeom>
                <a:avLst/>
                <a:gdLst>
                  <a:gd name="textAreaLeft" fmla="*/ 0 w 40320"/>
                  <a:gd name="textAreaRight" fmla="*/ 40680 w 40320"/>
                  <a:gd name="textAreaTop" fmla="*/ 0 h 44280"/>
                  <a:gd name="textAreaBottom" fmla="*/ 44640 h 44280"/>
                </a:gdLst>
                <a:ahLst/>
                <a:rect l="textAreaLeft" t="textAreaTop" r="textAreaRight" b="textAreaBottom"/>
                <a:pathLst>
                  <a:path w="268" h="320">
                    <a:moveTo>
                      <a:pt x="0" y="320"/>
                    </a:moveTo>
                    <a:lnTo>
                      <a:pt x="0" y="0"/>
                    </a:lnTo>
                    <a:lnTo>
                      <a:pt x="135" y="0"/>
                    </a:lnTo>
                    <a:lnTo>
                      <a:pt x="154" y="0"/>
                    </a:lnTo>
                    <a:lnTo>
                      <a:pt x="171" y="2"/>
                    </a:lnTo>
                    <a:lnTo>
                      <a:pt x="185" y="4"/>
                    </a:lnTo>
                    <a:lnTo>
                      <a:pt x="197" y="9"/>
                    </a:lnTo>
                    <a:lnTo>
                      <a:pt x="207" y="14"/>
                    </a:lnTo>
                    <a:lnTo>
                      <a:pt x="216" y="20"/>
                    </a:lnTo>
                    <a:lnTo>
                      <a:pt x="224" y="29"/>
                    </a:lnTo>
                    <a:lnTo>
                      <a:pt x="231" y="39"/>
                    </a:lnTo>
                    <a:lnTo>
                      <a:pt x="236" y="50"/>
                    </a:lnTo>
                    <a:lnTo>
                      <a:pt x="241" y="62"/>
                    </a:lnTo>
                    <a:lnTo>
                      <a:pt x="243" y="74"/>
                    </a:lnTo>
                    <a:lnTo>
                      <a:pt x="244" y="87"/>
                    </a:lnTo>
                    <a:lnTo>
                      <a:pt x="243" y="95"/>
                    </a:lnTo>
                    <a:lnTo>
                      <a:pt x="242" y="104"/>
                    </a:lnTo>
                    <a:lnTo>
                      <a:pt x="241" y="111"/>
                    </a:lnTo>
                    <a:lnTo>
                      <a:pt x="239" y="119"/>
                    </a:lnTo>
                    <a:lnTo>
                      <a:pt x="235" y="125"/>
                    </a:lnTo>
                    <a:lnTo>
                      <a:pt x="231" y="133"/>
                    </a:lnTo>
                    <a:lnTo>
                      <a:pt x="227" y="139"/>
                    </a:lnTo>
                    <a:lnTo>
                      <a:pt x="223" y="144"/>
                    </a:lnTo>
                    <a:lnTo>
                      <a:pt x="216" y="151"/>
                    </a:lnTo>
                    <a:lnTo>
                      <a:pt x="210" y="155"/>
                    </a:lnTo>
                    <a:lnTo>
                      <a:pt x="204" y="160"/>
                    </a:lnTo>
                    <a:lnTo>
                      <a:pt x="195" y="163"/>
                    </a:lnTo>
                    <a:lnTo>
                      <a:pt x="187" y="167"/>
                    </a:lnTo>
                    <a:lnTo>
                      <a:pt x="178" y="170"/>
                    </a:lnTo>
                    <a:lnTo>
                      <a:pt x="168" y="173"/>
                    </a:lnTo>
                    <a:lnTo>
                      <a:pt x="157" y="174"/>
                    </a:lnTo>
                    <a:lnTo>
                      <a:pt x="172" y="182"/>
                    </a:lnTo>
                    <a:lnTo>
                      <a:pt x="181" y="190"/>
                    </a:lnTo>
                    <a:lnTo>
                      <a:pt x="191" y="199"/>
                    </a:lnTo>
                    <a:lnTo>
                      <a:pt x="199" y="209"/>
                    </a:lnTo>
                    <a:lnTo>
                      <a:pt x="207" y="220"/>
                    </a:lnTo>
                    <a:lnTo>
                      <a:pt x="215" y="232"/>
                    </a:lnTo>
                    <a:lnTo>
                      <a:pt x="268" y="320"/>
                    </a:lnTo>
                    <a:lnTo>
                      <a:pt x="217" y="320"/>
                    </a:lnTo>
                    <a:lnTo>
                      <a:pt x="177" y="253"/>
                    </a:lnTo>
                    <a:lnTo>
                      <a:pt x="169" y="240"/>
                    </a:lnTo>
                    <a:lnTo>
                      <a:pt x="161" y="228"/>
                    </a:lnTo>
                    <a:lnTo>
                      <a:pt x="154" y="217"/>
                    </a:lnTo>
                    <a:lnTo>
                      <a:pt x="149" y="209"/>
                    </a:lnTo>
                    <a:lnTo>
                      <a:pt x="142" y="202"/>
                    </a:lnTo>
                    <a:lnTo>
                      <a:pt x="137" y="196"/>
                    </a:lnTo>
                    <a:lnTo>
                      <a:pt x="133" y="191"/>
                    </a:lnTo>
                    <a:lnTo>
                      <a:pt x="127" y="188"/>
                    </a:lnTo>
                    <a:lnTo>
                      <a:pt x="119" y="182"/>
                    </a:lnTo>
                    <a:lnTo>
                      <a:pt x="109" y="179"/>
                    </a:lnTo>
                    <a:lnTo>
                      <a:pt x="100" y="178"/>
                    </a:lnTo>
                    <a:lnTo>
                      <a:pt x="87" y="178"/>
                    </a:lnTo>
                    <a:lnTo>
                      <a:pt x="41" y="178"/>
                    </a:lnTo>
                    <a:lnTo>
                      <a:pt x="41" y="320"/>
                    </a:lnTo>
                    <a:lnTo>
                      <a:pt x="0" y="320"/>
                    </a:lnTo>
                    <a:close/>
                    <a:moveTo>
                      <a:pt x="41" y="141"/>
                    </a:moveTo>
                    <a:lnTo>
                      <a:pt x="126" y="141"/>
                    </a:lnTo>
                    <a:lnTo>
                      <a:pt x="140" y="141"/>
                    </a:lnTo>
                    <a:lnTo>
                      <a:pt x="152" y="140"/>
                    </a:lnTo>
                    <a:lnTo>
                      <a:pt x="161" y="138"/>
                    </a:lnTo>
                    <a:lnTo>
                      <a:pt x="170" y="135"/>
                    </a:lnTo>
                    <a:lnTo>
                      <a:pt x="177" y="131"/>
                    </a:lnTo>
                    <a:lnTo>
                      <a:pt x="184" y="127"/>
                    </a:lnTo>
                    <a:lnTo>
                      <a:pt x="189" y="122"/>
                    </a:lnTo>
                    <a:lnTo>
                      <a:pt x="194" y="116"/>
                    </a:lnTo>
                    <a:lnTo>
                      <a:pt x="197" y="109"/>
                    </a:lnTo>
                    <a:lnTo>
                      <a:pt x="199" y="102"/>
                    </a:lnTo>
                    <a:lnTo>
                      <a:pt x="202" y="94"/>
                    </a:lnTo>
                    <a:lnTo>
                      <a:pt x="202" y="87"/>
                    </a:lnTo>
                    <a:lnTo>
                      <a:pt x="200" y="76"/>
                    </a:lnTo>
                    <a:lnTo>
                      <a:pt x="198" y="67"/>
                    </a:lnTo>
                    <a:lnTo>
                      <a:pt x="195" y="62"/>
                    </a:lnTo>
                    <a:lnTo>
                      <a:pt x="193" y="57"/>
                    </a:lnTo>
                    <a:lnTo>
                      <a:pt x="190" y="54"/>
                    </a:lnTo>
                    <a:lnTo>
                      <a:pt x="186" y="50"/>
                    </a:lnTo>
                    <a:lnTo>
                      <a:pt x="181" y="47"/>
                    </a:lnTo>
                    <a:lnTo>
                      <a:pt x="177" y="43"/>
                    </a:lnTo>
                    <a:lnTo>
                      <a:pt x="172" y="41"/>
                    </a:lnTo>
                    <a:lnTo>
                      <a:pt x="166" y="39"/>
                    </a:lnTo>
                    <a:lnTo>
                      <a:pt x="153" y="36"/>
                    </a:lnTo>
                    <a:lnTo>
                      <a:pt x="137" y="35"/>
                    </a:lnTo>
                    <a:lnTo>
                      <a:pt x="41" y="35"/>
                    </a:lnTo>
                    <a:lnTo>
                      <a:pt x="41" y="141"/>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450" name="Rectangle 48"/>
              <p:cNvSpPr/>
              <p:nvPr/>
            </p:nvSpPr>
            <p:spPr>
              <a:xfrm>
                <a:off x="3355560" y="1295280"/>
                <a:ext cx="5040" cy="44280"/>
              </a:xfrm>
              <a:prstGeom prst="rect">
                <a:avLst/>
              </a:pr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451" name="Freeform 49"/>
              <p:cNvSpPr/>
              <p:nvPr/>
            </p:nvSpPr>
            <p:spPr>
              <a:xfrm>
                <a:off x="3373200" y="1294560"/>
                <a:ext cx="36000" cy="45360"/>
              </a:xfrm>
              <a:custGeom>
                <a:avLst/>
                <a:gdLst>
                  <a:gd name="textAreaLeft" fmla="*/ 0 w 36000"/>
                  <a:gd name="textAreaRight" fmla="*/ 36360 w 36000"/>
                  <a:gd name="textAreaTop" fmla="*/ 0 h 45360"/>
                  <a:gd name="textAreaBottom" fmla="*/ 45720 h 45360"/>
                </a:gdLst>
                <a:ahLst/>
                <a:rect l="textAreaLeft" t="textAreaTop" r="textAreaRight" b="textAreaBottom"/>
                <a:pathLst>
                  <a:path w="243" h="330">
                    <a:moveTo>
                      <a:pt x="0" y="222"/>
                    </a:moveTo>
                    <a:lnTo>
                      <a:pt x="38" y="218"/>
                    </a:lnTo>
                    <a:lnTo>
                      <a:pt x="40" y="230"/>
                    </a:lnTo>
                    <a:lnTo>
                      <a:pt x="44" y="240"/>
                    </a:lnTo>
                    <a:lnTo>
                      <a:pt x="47" y="250"/>
                    </a:lnTo>
                    <a:lnTo>
                      <a:pt x="51" y="257"/>
                    </a:lnTo>
                    <a:lnTo>
                      <a:pt x="56" y="265"/>
                    </a:lnTo>
                    <a:lnTo>
                      <a:pt x="64" y="272"/>
                    </a:lnTo>
                    <a:lnTo>
                      <a:pt x="72" y="277"/>
                    </a:lnTo>
                    <a:lnTo>
                      <a:pt x="82" y="283"/>
                    </a:lnTo>
                    <a:lnTo>
                      <a:pt x="92" y="287"/>
                    </a:lnTo>
                    <a:lnTo>
                      <a:pt x="104" y="290"/>
                    </a:lnTo>
                    <a:lnTo>
                      <a:pt x="116" y="291"/>
                    </a:lnTo>
                    <a:lnTo>
                      <a:pt x="128" y="292"/>
                    </a:lnTo>
                    <a:lnTo>
                      <a:pt x="140" y="291"/>
                    </a:lnTo>
                    <a:lnTo>
                      <a:pt x="150" y="290"/>
                    </a:lnTo>
                    <a:lnTo>
                      <a:pt x="160" y="288"/>
                    </a:lnTo>
                    <a:lnTo>
                      <a:pt x="170" y="285"/>
                    </a:lnTo>
                    <a:lnTo>
                      <a:pt x="177" y="281"/>
                    </a:lnTo>
                    <a:lnTo>
                      <a:pt x="184" y="276"/>
                    </a:lnTo>
                    <a:lnTo>
                      <a:pt x="191" y="271"/>
                    </a:lnTo>
                    <a:lnTo>
                      <a:pt x="196" y="266"/>
                    </a:lnTo>
                    <a:lnTo>
                      <a:pt x="199" y="258"/>
                    </a:lnTo>
                    <a:lnTo>
                      <a:pt x="202" y="252"/>
                    </a:lnTo>
                    <a:lnTo>
                      <a:pt x="203" y="246"/>
                    </a:lnTo>
                    <a:lnTo>
                      <a:pt x="205" y="238"/>
                    </a:lnTo>
                    <a:lnTo>
                      <a:pt x="203" y="231"/>
                    </a:lnTo>
                    <a:lnTo>
                      <a:pt x="202" y="223"/>
                    </a:lnTo>
                    <a:lnTo>
                      <a:pt x="199" y="217"/>
                    </a:lnTo>
                    <a:lnTo>
                      <a:pt x="196" y="212"/>
                    </a:lnTo>
                    <a:lnTo>
                      <a:pt x="191" y="206"/>
                    </a:lnTo>
                    <a:lnTo>
                      <a:pt x="184" y="201"/>
                    </a:lnTo>
                    <a:lnTo>
                      <a:pt x="177" y="197"/>
                    </a:lnTo>
                    <a:lnTo>
                      <a:pt x="168" y="193"/>
                    </a:lnTo>
                    <a:lnTo>
                      <a:pt x="160" y="189"/>
                    </a:lnTo>
                    <a:lnTo>
                      <a:pt x="148" y="186"/>
                    </a:lnTo>
                    <a:lnTo>
                      <a:pt x="134" y="182"/>
                    </a:lnTo>
                    <a:lnTo>
                      <a:pt x="114" y="177"/>
                    </a:lnTo>
                    <a:lnTo>
                      <a:pt x="94" y="171"/>
                    </a:lnTo>
                    <a:lnTo>
                      <a:pt x="78" y="167"/>
                    </a:lnTo>
                    <a:lnTo>
                      <a:pt x="66" y="162"/>
                    </a:lnTo>
                    <a:lnTo>
                      <a:pt x="55" y="157"/>
                    </a:lnTo>
                    <a:lnTo>
                      <a:pt x="46" y="151"/>
                    </a:lnTo>
                    <a:lnTo>
                      <a:pt x="36" y="144"/>
                    </a:lnTo>
                    <a:lnTo>
                      <a:pt x="29" y="135"/>
                    </a:lnTo>
                    <a:lnTo>
                      <a:pt x="22" y="127"/>
                    </a:lnTo>
                    <a:lnTo>
                      <a:pt x="18" y="118"/>
                    </a:lnTo>
                    <a:lnTo>
                      <a:pt x="15" y="109"/>
                    </a:lnTo>
                    <a:lnTo>
                      <a:pt x="13" y="98"/>
                    </a:lnTo>
                    <a:lnTo>
                      <a:pt x="12" y="88"/>
                    </a:lnTo>
                    <a:lnTo>
                      <a:pt x="13" y="76"/>
                    </a:lnTo>
                    <a:lnTo>
                      <a:pt x="15" y="64"/>
                    </a:lnTo>
                    <a:lnTo>
                      <a:pt x="19" y="53"/>
                    </a:lnTo>
                    <a:lnTo>
                      <a:pt x="26" y="42"/>
                    </a:lnTo>
                    <a:lnTo>
                      <a:pt x="33" y="33"/>
                    </a:lnTo>
                    <a:lnTo>
                      <a:pt x="41" y="24"/>
                    </a:lnTo>
                    <a:lnTo>
                      <a:pt x="52" y="17"/>
                    </a:lnTo>
                    <a:lnTo>
                      <a:pt x="64" y="10"/>
                    </a:lnTo>
                    <a:lnTo>
                      <a:pt x="76" y="5"/>
                    </a:lnTo>
                    <a:lnTo>
                      <a:pt x="90" y="2"/>
                    </a:lnTo>
                    <a:lnTo>
                      <a:pt x="104" y="0"/>
                    </a:lnTo>
                    <a:lnTo>
                      <a:pt x="120" y="0"/>
                    </a:lnTo>
                    <a:lnTo>
                      <a:pt x="136" y="0"/>
                    </a:lnTo>
                    <a:lnTo>
                      <a:pt x="152" y="2"/>
                    </a:lnTo>
                    <a:lnTo>
                      <a:pt x="165" y="6"/>
                    </a:lnTo>
                    <a:lnTo>
                      <a:pt x="179" y="10"/>
                    </a:lnTo>
                    <a:lnTo>
                      <a:pt x="192" y="18"/>
                    </a:lnTo>
                    <a:lnTo>
                      <a:pt x="202" y="25"/>
                    </a:lnTo>
                    <a:lnTo>
                      <a:pt x="211" y="34"/>
                    </a:lnTo>
                    <a:lnTo>
                      <a:pt x="219" y="44"/>
                    </a:lnTo>
                    <a:lnTo>
                      <a:pt x="225" y="56"/>
                    </a:lnTo>
                    <a:lnTo>
                      <a:pt x="230" y="69"/>
                    </a:lnTo>
                    <a:lnTo>
                      <a:pt x="232" y="81"/>
                    </a:lnTo>
                    <a:lnTo>
                      <a:pt x="234" y="95"/>
                    </a:lnTo>
                    <a:lnTo>
                      <a:pt x="195" y="98"/>
                    </a:lnTo>
                    <a:lnTo>
                      <a:pt x="194" y="91"/>
                    </a:lnTo>
                    <a:lnTo>
                      <a:pt x="193" y="83"/>
                    </a:lnTo>
                    <a:lnTo>
                      <a:pt x="191" y="77"/>
                    </a:lnTo>
                    <a:lnTo>
                      <a:pt x="189" y="72"/>
                    </a:lnTo>
                    <a:lnTo>
                      <a:pt x="185" y="65"/>
                    </a:lnTo>
                    <a:lnTo>
                      <a:pt x="182" y="61"/>
                    </a:lnTo>
                    <a:lnTo>
                      <a:pt x="178" y="56"/>
                    </a:lnTo>
                    <a:lnTo>
                      <a:pt x="174" y="52"/>
                    </a:lnTo>
                    <a:lnTo>
                      <a:pt x="170" y="48"/>
                    </a:lnTo>
                    <a:lnTo>
                      <a:pt x="164" y="45"/>
                    </a:lnTo>
                    <a:lnTo>
                      <a:pt x="158" y="43"/>
                    </a:lnTo>
                    <a:lnTo>
                      <a:pt x="152" y="41"/>
                    </a:lnTo>
                    <a:lnTo>
                      <a:pt x="145" y="39"/>
                    </a:lnTo>
                    <a:lnTo>
                      <a:pt x="138" y="38"/>
                    </a:lnTo>
                    <a:lnTo>
                      <a:pt x="129" y="37"/>
                    </a:lnTo>
                    <a:lnTo>
                      <a:pt x="121" y="37"/>
                    </a:lnTo>
                    <a:lnTo>
                      <a:pt x="104" y="38"/>
                    </a:lnTo>
                    <a:lnTo>
                      <a:pt x="89" y="40"/>
                    </a:lnTo>
                    <a:lnTo>
                      <a:pt x="83" y="42"/>
                    </a:lnTo>
                    <a:lnTo>
                      <a:pt x="77" y="44"/>
                    </a:lnTo>
                    <a:lnTo>
                      <a:pt x="72" y="47"/>
                    </a:lnTo>
                    <a:lnTo>
                      <a:pt x="68" y="51"/>
                    </a:lnTo>
                    <a:lnTo>
                      <a:pt x="60" y="58"/>
                    </a:lnTo>
                    <a:lnTo>
                      <a:pt x="55" y="67"/>
                    </a:lnTo>
                    <a:lnTo>
                      <a:pt x="53" y="71"/>
                    </a:lnTo>
                    <a:lnTo>
                      <a:pt x="52" y="75"/>
                    </a:lnTo>
                    <a:lnTo>
                      <a:pt x="51" y="80"/>
                    </a:lnTo>
                    <a:lnTo>
                      <a:pt x="51" y="85"/>
                    </a:lnTo>
                    <a:lnTo>
                      <a:pt x="52" y="93"/>
                    </a:lnTo>
                    <a:lnTo>
                      <a:pt x="54" y="100"/>
                    </a:lnTo>
                    <a:lnTo>
                      <a:pt x="57" y="107"/>
                    </a:lnTo>
                    <a:lnTo>
                      <a:pt x="63" y="113"/>
                    </a:lnTo>
                    <a:lnTo>
                      <a:pt x="67" y="116"/>
                    </a:lnTo>
                    <a:lnTo>
                      <a:pt x="71" y="118"/>
                    </a:lnTo>
                    <a:lnTo>
                      <a:pt x="76" y="122"/>
                    </a:lnTo>
                    <a:lnTo>
                      <a:pt x="84" y="125"/>
                    </a:lnTo>
                    <a:lnTo>
                      <a:pt x="102" y="130"/>
                    </a:lnTo>
                    <a:lnTo>
                      <a:pt x="124" y="135"/>
                    </a:lnTo>
                    <a:lnTo>
                      <a:pt x="146" y="142"/>
                    </a:lnTo>
                    <a:lnTo>
                      <a:pt x="165" y="147"/>
                    </a:lnTo>
                    <a:lnTo>
                      <a:pt x="180" y="151"/>
                    </a:lnTo>
                    <a:lnTo>
                      <a:pt x="191" y="157"/>
                    </a:lnTo>
                    <a:lnTo>
                      <a:pt x="203" y="163"/>
                    </a:lnTo>
                    <a:lnTo>
                      <a:pt x="214" y="170"/>
                    </a:lnTo>
                    <a:lnTo>
                      <a:pt x="224" y="180"/>
                    </a:lnTo>
                    <a:lnTo>
                      <a:pt x="230" y="188"/>
                    </a:lnTo>
                    <a:lnTo>
                      <a:pt x="236" y="199"/>
                    </a:lnTo>
                    <a:lnTo>
                      <a:pt x="239" y="211"/>
                    </a:lnTo>
                    <a:lnTo>
                      <a:pt x="243" y="222"/>
                    </a:lnTo>
                    <a:lnTo>
                      <a:pt x="243" y="234"/>
                    </a:lnTo>
                    <a:lnTo>
                      <a:pt x="243" y="247"/>
                    </a:lnTo>
                    <a:lnTo>
                      <a:pt x="239" y="259"/>
                    </a:lnTo>
                    <a:lnTo>
                      <a:pt x="235" y="271"/>
                    </a:lnTo>
                    <a:lnTo>
                      <a:pt x="229" y="283"/>
                    </a:lnTo>
                    <a:lnTo>
                      <a:pt x="221" y="293"/>
                    </a:lnTo>
                    <a:lnTo>
                      <a:pt x="212" y="303"/>
                    </a:lnTo>
                    <a:lnTo>
                      <a:pt x="201" y="310"/>
                    </a:lnTo>
                    <a:lnTo>
                      <a:pt x="189" y="318"/>
                    </a:lnTo>
                    <a:lnTo>
                      <a:pt x="176" y="323"/>
                    </a:lnTo>
                    <a:lnTo>
                      <a:pt x="161" y="327"/>
                    </a:lnTo>
                    <a:lnTo>
                      <a:pt x="146" y="329"/>
                    </a:lnTo>
                    <a:lnTo>
                      <a:pt x="130" y="330"/>
                    </a:lnTo>
                    <a:lnTo>
                      <a:pt x="110" y="329"/>
                    </a:lnTo>
                    <a:lnTo>
                      <a:pt x="92" y="327"/>
                    </a:lnTo>
                    <a:lnTo>
                      <a:pt x="76" y="323"/>
                    </a:lnTo>
                    <a:lnTo>
                      <a:pt x="62" y="318"/>
                    </a:lnTo>
                    <a:lnTo>
                      <a:pt x="54" y="314"/>
                    </a:lnTo>
                    <a:lnTo>
                      <a:pt x="48" y="310"/>
                    </a:lnTo>
                    <a:lnTo>
                      <a:pt x="41" y="306"/>
                    </a:lnTo>
                    <a:lnTo>
                      <a:pt x="36" y="302"/>
                    </a:lnTo>
                    <a:lnTo>
                      <a:pt x="31" y="296"/>
                    </a:lnTo>
                    <a:lnTo>
                      <a:pt x="26" y="291"/>
                    </a:lnTo>
                    <a:lnTo>
                      <a:pt x="21" y="286"/>
                    </a:lnTo>
                    <a:lnTo>
                      <a:pt x="17" y="280"/>
                    </a:lnTo>
                    <a:lnTo>
                      <a:pt x="11" y="267"/>
                    </a:lnTo>
                    <a:lnTo>
                      <a:pt x="5" y="252"/>
                    </a:lnTo>
                    <a:lnTo>
                      <a:pt x="2" y="237"/>
                    </a:lnTo>
                    <a:lnTo>
                      <a:pt x="0" y="222"/>
                    </a:lnTo>
                    <a:close/>
                  </a:path>
                </a:pathLst>
              </a:custGeom>
              <a:solidFill>
                <a:srgbClr val="1f1a17"/>
              </a:solidFill>
              <a:ln w="0">
                <a:noFill/>
              </a:ln>
            </p:spPr>
            <p:style>
              <a:lnRef idx="0"/>
              <a:fillRef idx="0"/>
              <a:effectRef idx="0"/>
              <a:fontRef idx="minor"/>
            </p:style>
            <p:txBody>
              <a:bodyPr lIns="90000" rIns="90000" tIns="720" bIns="720" anchor="t">
                <a:noAutofit/>
              </a:bodyPr>
              <a:p>
                <a:pPr>
                  <a:lnSpc>
                    <a:spcPct val="100000"/>
                  </a:lnSpc>
                </a:pPr>
                <a:endParaRPr b="0" lang="en-US" sz="1800" spc="-1" strike="noStrike">
                  <a:solidFill>
                    <a:srgbClr val="000000"/>
                  </a:solidFill>
                  <a:latin typeface="Arial"/>
                  <a:ea typeface="宋体"/>
                </a:endParaRPr>
              </a:p>
            </p:txBody>
          </p:sp>
          <p:sp>
            <p:nvSpPr>
              <p:cNvPr id="452" name="Freeform 50"/>
              <p:cNvSpPr/>
              <p:nvPr/>
            </p:nvSpPr>
            <p:spPr>
              <a:xfrm>
                <a:off x="3422160" y="1295280"/>
                <a:ext cx="33120" cy="44280"/>
              </a:xfrm>
              <a:custGeom>
                <a:avLst/>
                <a:gdLst>
                  <a:gd name="textAreaLeft" fmla="*/ 0 w 33120"/>
                  <a:gd name="textAreaRight" fmla="*/ 33480 w 33120"/>
                  <a:gd name="textAreaTop" fmla="*/ 0 h 44280"/>
                  <a:gd name="textAreaBottom" fmla="*/ 44640 h 44280"/>
                </a:gdLst>
                <a:ahLst/>
                <a:rect l="textAreaLeft" t="textAreaTop" r="textAreaRight" b="textAreaBottom"/>
                <a:pathLst>
                  <a:path w="228" h="320">
                    <a:moveTo>
                      <a:pt x="0" y="320"/>
                    </a:moveTo>
                    <a:lnTo>
                      <a:pt x="0" y="0"/>
                    </a:lnTo>
                    <a:lnTo>
                      <a:pt x="221" y="0"/>
                    </a:lnTo>
                    <a:lnTo>
                      <a:pt x="221" y="37"/>
                    </a:lnTo>
                    <a:lnTo>
                      <a:pt x="40" y="37"/>
                    </a:lnTo>
                    <a:lnTo>
                      <a:pt x="40" y="136"/>
                    </a:lnTo>
                    <a:lnTo>
                      <a:pt x="210" y="136"/>
                    </a:lnTo>
                    <a:lnTo>
                      <a:pt x="210" y="173"/>
                    </a:lnTo>
                    <a:lnTo>
                      <a:pt x="40" y="173"/>
                    </a:lnTo>
                    <a:lnTo>
                      <a:pt x="40" y="282"/>
                    </a:lnTo>
                    <a:lnTo>
                      <a:pt x="228" y="282"/>
                    </a:lnTo>
                    <a:lnTo>
                      <a:pt x="228" y="320"/>
                    </a:lnTo>
                    <a:lnTo>
                      <a:pt x="0" y="32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453" name="Freeform 51"/>
              <p:cNvSpPr/>
              <p:nvPr/>
            </p:nvSpPr>
            <p:spPr>
              <a:xfrm>
                <a:off x="3486960" y="1295280"/>
                <a:ext cx="42480" cy="44280"/>
              </a:xfrm>
              <a:custGeom>
                <a:avLst/>
                <a:gdLst>
                  <a:gd name="textAreaLeft" fmla="*/ 0 w 42480"/>
                  <a:gd name="textAreaRight" fmla="*/ 42840 w 42480"/>
                  <a:gd name="textAreaTop" fmla="*/ 0 h 44280"/>
                  <a:gd name="textAreaBottom" fmla="*/ 44640 h 44280"/>
                </a:gdLst>
                <a:ahLst/>
                <a:rect l="textAreaLeft" t="textAreaTop" r="textAreaRight" b="textAreaBottom"/>
                <a:pathLst>
                  <a:path w="290" h="320">
                    <a:moveTo>
                      <a:pt x="0" y="320"/>
                    </a:moveTo>
                    <a:lnTo>
                      <a:pt x="0" y="0"/>
                    </a:lnTo>
                    <a:lnTo>
                      <a:pt x="60" y="0"/>
                    </a:lnTo>
                    <a:lnTo>
                      <a:pt x="132" y="226"/>
                    </a:lnTo>
                    <a:lnTo>
                      <a:pt x="136" y="241"/>
                    </a:lnTo>
                    <a:lnTo>
                      <a:pt x="140" y="254"/>
                    </a:lnTo>
                    <a:lnTo>
                      <a:pt x="144" y="265"/>
                    </a:lnTo>
                    <a:lnTo>
                      <a:pt x="147" y="273"/>
                    </a:lnTo>
                    <a:lnTo>
                      <a:pt x="150" y="264"/>
                    </a:lnTo>
                    <a:lnTo>
                      <a:pt x="153" y="252"/>
                    </a:lnTo>
                    <a:lnTo>
                      <a:pt x="157" y="238"/>
                    </a:lnTo>
                    <a:lnTo>
                      <a:pt x="163" y="223"/>
                    </a:lnTo>
                    <a:lnTo>
                      <a:pt x="236" y="0"/>
                    </a:lnTo>
                    <a:lnTo>
                      <a:pt x="290" y="0"/>
                    </a:lnTo>
                    <a:lnTo>
                      <a:pt x="290" y="320"/>
                    </a:lnTo>
                    <a:lnTo>
                      <a:pt x="251" y="320"/>
                    </a:lnTo>
                    <a:lnTo>
                      <a:pt x="251" y="52"/>
                    </a:lnTo>
                    <a:lnTo>
                      <a:pt x="163" y="320"/>
                    </a:lnTo>
                    <a:lnTo>
                      <a:pt x="127" y="320"/>
                    </a:lnTo>
                    <a:lnTo>
                      <a:pt x="38" y="48"/>
                    </a:lnTo>
                    <a:lnTo>
                      <a:pt x="38" y="320"/>
                    </a:lnTo>
                    <a:lnTo>
                      <a:pt x="0" y="32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454" name="Freeform 52"/>
              <p:cNvSpPr/>
              <p:nvPr/>
            </p:nvSpPr>
            <p:spPr>
              <a:xfrm>
                <a:off x="3538080" y="1295280"/>
                <a:ext cx="42480" cy="44280"/>
              </a:xfrm>
              <a:custGeom>
                <a:avLst/>
                <a:gdLst>
                  <a:gd name="textAreaLeft" fmla="*/ 0 w 42480"/>
                  <a:gd name="textAreaRight" fmla="*/ 42840 w 42480"/>
                  <a:gd name="textAreaTop" fmla="*/ 0 h 44280"/>
                  <a:gd name="textAreaBottom" fmla="*/ 44640 h 44280"/>
                </a:gdLst>
                <a:ahLst/>
                <a:rect l="textAreaLeft" t="textAreaTop" r="textAreaRight" b="textAreaBottom"/>
                <a:pathLst>
                  <a:path w="285" h="320">
                    <a:moveTo>
                      <a:pt x="0" y="320"/>
                    </a:moveTo>
                    <a:lnTo>
                      <a:pt x="118" y="0"/>
                    </a:lnTo>
                    <a:lnTo>
                      <a:pt x="161" y="0"/>
                    </a:lnTo>
                    <a:lnTo>
                      <a:pt x="285" y="320"/>
                    </a:lnTo>
                    <a:lnTo>
                      <a:pt x="239" y="320"/>
                    </a:lnTo>
                    <a:lnTo>
                      <a:pt x="204" y="223"/>
                    </a:lnTo>
                    <a:lnTo>
                      <a:pt x="76" y="223"/>
                    </a:lnTo>
                    <a:lnTo>
                      <a:pt x="43" y="320"/>
                    </a:lnTo>
                    <a:lnTo>
                      <a:pt x="0" y="320"/>
                    </a:lnTo>
                    <a:close/>
                    <a:moveTo>
                      <a:pt x="88" y="189"/>
                    </a:moveTo>
                    <a:lnTo>
                      <a:pt x="192" y="189"/>
                    </a:lnTo>
                    <a:lnTo>
                      <a:pt x="160" y="100"/>
                    </a:lnTo>
                    <a:lnTo>
                      <a:pt x="152" y="81"/>
                    </a:lnTo>
                    <a:lnTo>
                      <a:pt x="147" y="63"/>
                    </a:lnTo>
                    <a:lnTo>
                      <a:pt x="142" y="48"/>
                    </a:lnTo>
                    <a:lnTo>
                      <a:pt x="138" y="33"/>
                    </a:lnTo>
                    <a:lnTo>
                      <a:pt x="134" y="49"/>
                    </a:lnTo>
                    <a:lnTo>
                      <a:pt x="131" y="64"/>
                    </a:lnTo>
                    <a:lnTo>
                      <a:pt x="127" y="80"/>
                    </a:lnTo>
                    <a:lnTo>
                      <a:pt x="122" y="94"/>
                    </a:lnTo>
                    <a:lnTo>
                      <a:pt x="88" y="189"/>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455" name="Freeform 53"/>
              <p:cNvSpPr/>
              <p:nvPr/>
            </p:nvSpPr>
            <p:spPr>
              <a:xfrm>
                <a:off x="3589200" y="1295280"/>
                <a:ext cx="36000" cy="44280"/>
              </a:xfrm>
              <a:custGeom>
                <a:avLst/>
                <a:gdLst>
                  <a:gd name="textAreaLeft" fmla="*/ 0 w 36000"/>
                  <a:gd name="textAreaRight" fmla="*/ 36360 w 36000"/>
                  <a:gd name="textAreaTop" fmla="*/ 0 h 44280"/>
                  <a:gd name="textAreaBottom" fmla="*/ 44640 h 44280"/>
                </a:gdLst>
                <a:ahLst/>
                <a:rect l="textAreaLeft" t="textAreaTop" r="textAreaRight" b="textAreaBottom"/>
                <a:pathLst>
                  <a:path w="239" h="320">
                    <a:moveTo>
                      <a:pt x="0" y="320"/>
                    </a:moveTo>
                    <a:lnTo>
                      <a:pt x="0" y="0"/>
                    </a:lnTo>
                    <a:lnTo>
                      <a:pt x="41" y="0"/>
                    </a:lnTo>
                    <a:lnTo>
                      <a:pt x="201" y="251"/>
                    </a:lnTo>
                    <a:lnTo>
                      <a:pt x="201" y="0"/>
                    </a:lnTo>
                    <a:lnTo>
                      <a:pt x="239" y="0"/>
                    </a:lnTo>
                    <a:lnTo>
                      <a:pt x="239" y="320"/>
                    </a:lnTo>
                    <a:lnTo>
                      <a:pt x="198" y="320"/>
                    </a:lnTo>
                    <a:lnTo>
                      <a:pt x="38" y="68"/>
                    </a:lnTo>
                    <a:lnTo>
                      <a:pt x="38" y="320"/>
                    </a:lnTo>
                    <a:lnTo>
                      <a:pt x="0" y="32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456" name="Freeform 54"/>
              <p:cNvSpPr/>
              <p:nvPr/>
            </p:nvSpPr>
            <p:spPr>
              <a:xfrm>
                <a:off x="3634200" y="1295280"/>
                <a:ext cx="42480" cy="44280"/>
              </a:xfrm>
              <a:custGeom>
                <a:avLst/>
                <a:gdLst>
                  <a:gd name="textAreaLeft" fmla="*/ 0 w 42480"/>
                  <a:gd name="textAreaRight" fmla="*/ 42840 w 42480"/>
                  <a:gd name="textAreaTop" fmla="*/ 0 h 44280"/>
                  <a:gd name="textAreaBottom" fmla="*/ 44640 h 44280"/>
                </a:gdLst>
                <a:ahLst/>
                <a:rect l="textAreaLeft" t="textAreaTop" r="textAreaRight" b="textAreaBottom"/>
                <a:pathLst>
                  <a:path w="285" h="320">
                    <a:moveTo>
                      <a:pt x="0" y="320"/>
                    </a:moveTo>
                    <a:lnTo>
                      <a:pt x="116" y="0"/>
                    </a:lnTo>
                    <a:lnTo>
                      <a:pt x="160" y="0"/>
                    </a:lnTo>
                    <a:lnTo>
                      <a:pt x="285" y="320"/>
                    </a:lnTo>
                    <a:lnTo>
                      <a:pt x="239" y="320"/>
                    </a:lnTo>
                    <a:lnTo>
                      <a:pt x="203" y="223"/>
                    </a:lnTo>
                    <a:lnTo>
                      <a:pt x="76" y="223"/>
                    </a:lnTo>
                    <a:lnTo>
                      <a:pt x="42" y="320"/>
                    </a:lnTo>
                    <a:lnTo>
                      <a:pt x="0" y="320"/>
                    </a:lnTo>
                    <a:close/>
                    <a:moveTo>
                      <a:pt x="88" y="189"/>
                    </a:moveTo>
                    <a:lnTo>
                      <a:pt x="192" y="189"/>
                    </a:lnTo>
                    <a:lnTo>
                      <a:pt x="159" y="100"/>
                    </a:lnTo>
                    <a:lnTo>
                      <a:pt x="152" y="81"/>
                    </a:lnTo>
                    <a:lnTo>
                      <a:pt x="147" y="63"/>
                    </a:lnTo>
                    <a:lnTo>
                      <a:pt x="142" y="48"/>
                    </a:lnTo>
                    <a:lnTo>
                      <a:pt x="138" y="33"/>
                    </a:lnTo>
                    <a:lnTo>
                      <a:pt x="134" y="49"/>
                    </a:lnTo>
                    <a:lnTo>
                      <a:pt x="130" y="64"/>
                    </a:lnTo>
                    <a:lnTo>
                      <a:pt x="126" y="80"/>
                    </a:lnTo>
                    <a:lnTo>
                      <a:pt x="122" y="94"/>
                    </a:lnTo>
                    <a:lnTo>
                      <a:pt x="88" y="189"/>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457" name="Freeform 55"/>
              <p:cNvSpPr/>
              <p:nvPr/>
            </p:nvSpPr>
            <p:spPr>
              <a:xfrm>
                <a:off x="3684240" y="1294560"/>
                <a:ext cx="41400" cy="45360"/>
              </a:xfrm>
              <a:custGeom>
                <a:avLst/>
                <a:gdLst>
                  <a:gd name="textAreaLeft" fmla="*/ 0 w 41400"/>
                  <a:gd name="textAreaRight" fmla="*/ 41760 w 41400"/>
                  <a:gd name="textAreaTop" fmla="*/ 0 h 45360"/>
                  <a:gd name="textAreaBottom" fmla="*/ 45720 h 45360"/>
                </a:gdLst>
                <a:ahLst/>
                <a:rect l="textAreaLeft" t="textAreaTop" r="textAreaRight" b="textAreaBottom"/>
                <a:pathLst>
                  <a:path w="282" h="330">
                    <a:moveTo>
                      <a:pt x="154" y="199"/>
                    </a:moveTo>
                    <a:lnTo>
                      <a:pt x="154" y="162"/>
                    </a:lnTo>
                    <a:lnTo>
                      <a:pt x="282" y="162"/>
                    </a:lnTo>
                    <a:lnTo>
                      <a:pt x="282" y="281"/>
                    </a:lnTo>
                    <a:lnTo>
                      <a:pt x="267" y="292"/>
                    </a:lnTo>
                    <a:lnTo>
                      <a:pt x="253" y="302"/>
                    </a:lnTo>
                    <a:lnTo>
                      <a:pt x="237" y="310"/>
                    </a:lnTo>
                    <a:lnTo>
                      <a:pt x="221" y="318"/>
                    </a:lnTo>
                    <a:lnTo>
                      <a:pt x="205" y="323"/>
                    </a:lnTo>
                    <a:lnTo>
                      <a:pt x="189" y="327"/>
                    </a:lnTo>
                    <a:lnTo>
                      <a:pt x="173" y="329"/>
                    </a:lnTo>
                    <a:lnTo>
                      <a:pt x="156" y="330"/>
                    </a:lnTo>
                    <a:lnTo>
                      <a:pt x="146" y="329"/>
                    </a:lnTo>
                    <a:lnTo>
                      <a:pt x="135" y="329"/>
                    </a:lnTo>
                    <a:lnTo>
                      <a:pt x="124" y="327"/>
                    </a:lnTo>
                    <a:lnTo>
                      <a:pt x="114" y="325"/>
                    </a:lnTo>
                    <a:lnTo>
                      <a:pt x="103" y="322"/>
                    </a:lnTo>
                    <a:lnTo>
                      <a:pt x="94" y="319"/>
                    </a:lnTo>
                    <a:lnTo>
                      <a:pt x="84" y="314"/>
                    </a:lnTo>
                    <a:lnTo>
                      <a:pt x="75" y="310"/>
                    </a:lnTo>
                    <a:lnTo>
                      <a:pt x="66" y="305"/>
                    </a:lnTo>
                    <a:lnTo>
                      <a:pt x="58" y="299"/>
                    </a:lnTo>
                    <a:lnTo>
                      <a:pt x="50" y="292"/>
                    </a:lnTo>
                    <a:lnTo>
                      <a:pt x="43" y="285"/>
                    </a:lnTo>
                    <a:lnTo>
                      <a:pt x="36" y="277"/>
                    </a:lnTo>
                    <a:lnTo>
                      <a:pt x="30" y="270"/>
                    </a:lnTo>
                    <a:lnTo>
                      <a:pt x="25" y="260"/>
                    </a:lnTo>
                    <a:lnTo>
                      <a:pt x="20" y="252"/>
                    </a:lnTo>
                    <a:lnTo>
                      <a:pt x="15" y="242"/>
                    </a:lnTo>
                    <a:lnTo>
                      <a:pt x="11" y="232"/>
                    </a:lnTo>
                    <a:lnTo>
                      <a:pt x="8" y="221"/>
                    </a:lnTo>
                    <a:lnTo>
                      <a:pt x="6" y="212"/>
                    </a:lnTo>
                    <a:lnTo>
                      <a:pt x="4" y="200"/>
                    </a:lnTo>
                    <a:lnTo>
                      <a:pt x="2" y="189"/>
                    </a:lnTo>
                    <a:lnTo>
                      <a:pt x="2" y="178"/>
                    </a:lnTo>
                    <a:lnTo>
                      <a:pt x="0" y="166"/>
                    </a:lnTo>
                    <a:lnTo>
                      <a:pt x="2" y="154"/>
                    </a:lnTo>
                    <a:lnTo>
                      <a:pt x="2" y="143"/>
                    </a:lnTo>
                    <a:lnTo>
                      <a:pt x="4" y="132"/>
                    </a:lnTo>
                    <a:lnTo>
                      <a:pt x="6" y="122"/>
                    </a:lnTo>
                    <a:lnTo>
                      <a:pt x="8" y="110"/>
                    </a:lnTo>
                    <a:lnTo>
                      <a:pt x="11" y="99"/>
                    </a:lnTo>
                    <a:lnTo>
                      <a:pt x="15" y="90"/>
                    </a:lnTo>
                    <a:lnTo>
                      <a:pt x="20" y="79"/>
                    </a:lnTo>
                    <a:lnTo>
                      <a:pt x="24" y="70"/>
                    </a:lnTo>
                    <a:lnTo>
                      <a:pt x="30" y="60"/>
                    </a:lnTo>
                    <a:lnTo>
                      <a:pt x="35" y="52"/>
                    </a:lnTo>
                    <a:lnTo>
                      <a:pt x="42" y="44"/>
                    </a:lnTo>
                    <a:lnTo>
                      <a:pt x="49" y="37"/>
                    </a:lnTo>
                    <a:lnTo>
                      <a:pt x="57" y="30"/>
                    </a:lnTo>
                    <a:lnTo>
                      <a:pt x="64" y="24"/>
                    </a:lnTo>
                    <a:lnTo>
                      <a:pt x="72" y="19"/>
                    </a:lnTo>
                    <a:lnTo>
                      <a:pt x="82" y="15"/>
                    </a:lnTo>
                    <a:lnTo>
                      <a:pt x="90" y="10"/>
                    </a:lnTo>
                    <a:lnTo>
                      <a:pt x="100" y="7"/>
                    </a:lnTo>
                    <a:lnTo>
                      <a:pt x="111" y="4"/>
                    </a:lnTo>
                    <a:lnTo>
                      <a:pt x="120" y="2"/>
                    </a:lnTo>
                    <a:lnTo>
                      <a:pt x="131" y="1"/>
                    </a:lnTo>
                    <a:lnTo>
                      <a:pt x="142" y="0"/>
                    </a:lnTo>
                    <a:lnTo>
                      <a:pt x="153" y="0"/>
                    </a:lnTo>
                    <a:lnTo>
                      <a:pt x="170" y="0"/>
                    </a:lnTo>
                    <a:lnTo>
                      <a:pt x="185" y="2"/>
                    </a:lnTo>
                    <a:lnTo>
                      <a:pt x="200" y="6"/>
                    </a:lnTo>
                    <a:lnTo>
                      <a:pt x="213" y="10"/>
                    </a:lnTo>
                    <a:lnTo>
                      <a:pt x="226" y="17"/>
                    </a:lnTo>
                    <a:lnTo>
                      <a:pt x="237" y="24"/>
                    </a:lnTo>
                    <a:lnTo>
                      <a:pt x="246" y="33"/>
                    </a:lnTo>
                    <a:lnTo>
                      <a:pt x="255" y="42"/>
                    </a:lnTo>
                    <a:lnTo>
                      <a:pt x="262" y="53"/>
                    </a:lnTo>
                    <a:lnTo>
                      <a:pt x="268" y="65"/>
                    </a:lnTo>
                    <a:lnTo>
                      <a:pt x="274" y="79"/>
                    </a:lnTo>
                    <a:lnTo>
                      <a:pt x="278" y="94"/>
                    </a:lnTo>
                    <a:lnTo>
                      <a:pt x="242" y="105"/>
                    </a:lnTo>
                    <a:lnTo>
                      <a:pt x="238" y="93"/>
                    </a:lnTo>
                    <a:lnTo>
                      <a:pt x="233" y="82"/>
                    </a:lnTo>
                    <a:lnTo>
                      <a:pt x="229" y="74"/>
                    </a:lnTo>
                    <a:lnTo>
                      <a:pt x="225" y="67"/>
                    </a:lnTo>
                    <a:lnTo>
                      <a:pt x="219" y="60"/>
                    </a:lnTo>
                    <a:lnTo>
                      <a:pt x="212" y="54"/>
                    </a:lnTo>
                    <a:lnTo>
                      <a:pt x="205" y="48"/>
                    </a:lnTo>
                    <a:lnTo>
                      <a:pt x="195" y="44"/>
                    </a:lnTo>
                    <a:lnTo>
                      <a:pt x="186" y="40"/>
                    </a:lnTo>
                    <a:lnTo>
                      <a:pt x="175" y="38"/>
                    </a:lnTo>
                    <a:lnTo>
                      <a:pt x="165" y="36"/>
                    </a:lnTo>
                    <a:lnTo>
                      <a:pt x="154" y="36"/>
                    </a:lnTo>
                    <a:lnTo>
                      <a:pt x="140" y="36"/>
                    </a:lnTo>
                    <a:lnTo>
                      <a:pt x="128" y="38"/>
                    </a:lnTo>
                    <a:lnTo>
                      <a:pt x="116" y="41"/>
                    </a:lnTo>
                    <a:lnTo>
                      <a:pt x="105" y="44"/>
                    </a:lnTo>
                    <a:lnTo>
                      <a:pt x="96" y="50"/>
                    </a:lnTo>
                    <a:lnTo>
                      <a:pt x="87" y="55"/>
                    </a:lnTo>
                    <a:lnTo>
                      <a:pt x="80" y="61"/>
                    </a:lnTo>
                    <a:lnTo>
                      <a:pt x="74" y="68"/>
                    </a:lnTo>
                    <a:lnTo>
                      <a:pt x="67" y="75"/>
                    </a:lnTo>
                    <a:lnTo>
                      <a:pt x="62" y="82"/>
                    </a:lnTo>
                    <a:lnTo>
                      <a:pt x="58" y="91"/>
                    </a:lnTo>
                    <a:lnTo>
                      <a:pt x="53" y="99"/>
                    </a:lnTo>
                    <a:lnTo>
                      <a:pt x="49" y="114"/>
                    </a:lnTo>
                    <a:lnTo>
                      <a:pt x="45" y="130"/>
                    </a:lnTo>
                    <a:lnTo>
                      <a:pt x="43" y="147"/>
                    </a:lnTo>
                    <a:lnTo>
                      <a:pt x="43" y="164"/>
                    </a:lnTo>
                    <a:lnTo>
                      <a:pt x="43" y="184"/>
                    </a:lnTo>
                    <a:lnTo>
                      <a:pt x="46" y="203"/>
                    </a:lnTo>
                    <a:lnTo>
                      <a:pt x="48" y="212"/>
                    </a:lnTo>
                    <a:lnTo>
                      <a:pt x="50" y="220"/>
                    </a:lnTo>
                    <a:lnTo>
                      <a:pt x="53" y="228"/>
                    </a:lnTo>
                    <a:lnTo>
                      <a:pt x="57" y="235"/>
                    </a:lnTo>
                    <a:lnTo>
                      <a:pt x="60" y="242"/>
                    </a:lnTo>
                    <a:lnTo>
                      <a:pt x="64" y="249"/>
                    </a:lnTo>
                    <a:lnTo>
                      <a:pt x="68" y="255"/>
                    </a:lnTo>
                    <a:lnTo>
                      <a:pt x="74" y="260"/>
                    </a:lnTo>
                    <a:lnTo>
                      <a:pt x="79" y="266"/>
                    </a:lnTo>
                    <a:lnTo>
                      <a:pt x="84" y="270"/>
                    </a:lnTo>
                    <a:lnTo>
                      <a:pt x="90" y="274"/>
                    </a:lnTo>
                    <a:lnTo>
                      <a:pt x="97" y="278"/>
                    </a:lnTo>
                    <a:lnTo>
                      <a:pt x="111" y="284"/>
                    </a:lnTo>
                    <a:lnTo>
                      <a:pt x="124" y="288"/>
                    </a:lnTo>
                    <a:lnTo>
                      <a:pt x="139" y="291"/>
                    </a:lnTo>
                    <a:lnTo>
                      <a:pt x="154" y="292"/>
                    </a:lnTo>
                    <a:lnTo>
                      <a:pt x="167" y="291"/>
                    </a:lnTo>
                    <a:lnTo>
                      <a:pt x="181" y="289"/>
                    </a:lnTo>
                    <a:lnTo>
                      <a:pt x="192" y="286"/>
                    </a:lnTo>
                    <a:lnTo>
                      <a:pt x="205" y="282"/>
                    </a:lnTo>
                    <a:lnTo>
                      <a:pt x="217" y="276"/>
                    </a:lnTo>
                    <a:lnTo>
                      <a:pt x="227" y="270"/>
                    </a:lnTo>
                    <a:lnTo>
                      <a:pt x="236" y="265"/>
                    </a:lnTo>
                    <a:lnTo>
                      <a:pt x="243" y="258"/>
                    </a:lnTo>
                    <a:lnTo>
                      <a:pt x="243" y="199"/>
                    </a:lnTo>
                    <a:lnTo>
                      <a:pt x="154" y="199"/>
                    </a:lnTo>
                    <a:close/>
                  </a:path>
                </a:pathLst>
              </a:custGeom>
              <a:solidFill>
                <a:srgbClr val="1f1a17"/>
              </a:solidFill>
              <a:ln w="0">
                <a:noFill/>
              </a:ln>
            </p:spPr>
            <p:style>
              <a:lnRef idx="0"/>
              <a:fillRef idx="0"/>
              <a:effectRef idx="0"/>
              <a:fontRef idx="minor"/>
            </p:style>
            <p:txBody>
              <a:bodyPr lIns="90000" rIns="90000" tIns="720" bIns="720" anchor="t">
                <a:noAutofit/>
              </a:bodyPr>
              <a:p>
                <a:pPr>
                  <a:lnSpc>
                    <a:spcPct val="100000"/>
                  </a:lnSpc>
                </a:pPr>
                <a:endParaRPr b="0" lang="en-US" sz="1800" spc="-1" strike="noStrike">
                  <a:solidFill>
                    <a:srgbClr val="000000"/>
                  </a:solidFill>
                  <a:latin typeface="Arial"/>
                  <a:ea typeface="宋体"/>
                </a:endParaRPr>
              </a:p>
            </p:txBody>
          </p:sp>
          <p:sp>
            <p:nvSpPr>
              <p:cNvPr id="458" name="Freeform 56"/>
              <p:cNvSpPr/>
              <p:nvPr/>
            </p:nvSpPr>
            <p:spPr>
              <a:xfrm>
                <a:off x="3738600" y="1295280"/>
                <a:ext cx="34200" cy="44280"/>
              </a:xfrm>
              <a:custGeom>
                <a:avLst/>
                <a:gdLst>
                  <a:gd name="textAreaLeft" fmla="*/ 0 w 34200"/>
                  <a:gd name="textAreaRight" fmla="*/ 34560 w 34200"/>
                  <a:gd name="textAreaTop" fmla="*/ 0 h 44280"/>
                  <a:gd name="textAreaBottom" fmla="*/ 44640 h 44280"/>
                </a:gdLst>
                <a:ahLst/>
                <a:rect l="textAreaLeft" t="textAreaTop" r="textAreaRight" b="textAreaBottom"/>
                <a:pathLst>
                  <a:path w="227" h="320">
                    <a:moveTo>
                      <a:pt x="0" y="320"/>
                    </a:moveTo>
                    <a:lnTo>
                      <a:pt x="0" y="0"/>
                    </a:lnTo>
                    <a:lnTo>
                      <a:pt x="219" y="0"/>
                    </a:lnTo>
                    <a:lnTo>
                      <a:pt x="219" y="37"/>
                    </a:lnTo>
                    <a:lnTo>
                      <a:pt x="40" y="37"/>
                    </a:lnTo>
                    <a:lnTo>
                      <a:pt x="40" y="136"/>
                    </a:lnTo>
                    <a:lnTo>
                      <a:pt x="209" y="136"/>
                    </a:lnTo>
                    <a:lnTo>
                      <a:pt x="209" y="173"/>
                    </a:lnTo>
                    <a:lnTo>
                      <a:pt x="40" y="173"/>
                    </a:lnTo>
                    <a:lnTo>
                      <a:pt x="40" y="282"/>
                    </a:lnTo>
                    <a:lnTo>
                      <a:pt x="227" y="282"/>
                    </a:lnTo>
                    <a:lnTo>
                      <a:pt x="227" y="320"/>
                    </a:lnTo>
                    <a:lnTo>
                      <a:pt x="0" y="32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459" name="Freeform 57"/>
              <p:cNvSpPr/>
              <p:nvPr/>
            </p:nvSpPr>
            <p:spPr>
              <a:xfrm>
                <a:off x="3784680" y="1295280"/>
                <a:ext cx="43560" cy="44280"/>
              </a:xfrm>
              <a:custGeom>
                <a:avLst/>
                <a:gdLst>
                  <a:gd name="textAreaLeft" fmla="*/ 0 w 43560"/>
                  <a:gd name="textAreaRight" fmla="*/ 43920 w 43560"/>
                  <a:gd name="textAreaTop" fmla="*/ 0 h 44280"/>
                  <a:gd name="textAreaBottom" fmla="*/ 44640 h 44280"/>
                </a:gdLst>
                <a:ahLst/>
                <a:rect l="textAreaLeft" t="textAreaTop" r="textAreaRight" b="textAreaBottom"/>
                <a:pathLst>
                  <a:path w="290" h="320">
                    <a:moveTo>
                      <a:pt x="0" y="320"/>
                    </a:moveTo>
                    <a:lnTo>
                      <a:pt x="0" y="0"/>
                    </a:lnTo>
                    <a:lnTo>
                      <a:pt x="61" y="0"/>
                    </a:lnTo>
                    <a:lnTo>
                      <a:pt x="133" y="226"/>
                    </a:lnTo>
                    <a:lnTo>
                      <a:pt x="138" y="241"/>
                    </a:lnTo>
                    <a:lnTo>
                      <a:pt x="141" y="254"/>
                    </a:lnTo>
                    <a:lnTo>
                      <a:pt x="144" y="265"/>
                    </a:lnTo>
                    <a:lnTo>
                      <a:pt x="147" y="273"/>
                    </a:lnTo>
                    <a:lnTo>
                      <a:pt x="151" y="264"/>
                    </a:lnTo>
                    <a:lnTo>
                      <a:pt x="154" y="252"/>
                    </a:lnTo>
                    <a:lnTo>
                      <a:pt x="158" y="238"/>
                    </a:lnTo>
                    <a:lnTo>
                      <a:pt x="163" y="223"/>
                    </a:lnTo>
                    <a:lnTo>
                      <a:pt x="236" y="0"/>
                    </a:lnTo>
                    <a:lnTo>
                      <a:pt x="290" y="0"/>
                    </a:lnTo>
                    <a:lnTo>
                      <a:pt x="290" y="320"/>
                    </a:lnTo>
                    <a:lnTo>
                      <a:pt x="252" y="320"/>
                    </a:lnTo>
                    <a:lnTo>
                      <a:pt x="252" y="52"/>
                    </a:lnTo>
                    <a:lnTo>
                      <a:pt x="163" y="320"/>
                    </a:lnTo>
                    <a:lnTo>
                      <a:pt x="127" y="320"/>
                    </a:lnTo>
                    <a:lnTo>
                      <a:pt x="39" y="48"/>
                    </a:lnTo>
                    <a:lnTo>
                      <a:pt x="39" y="320"/>
                    </a:lnTo>
                    <a:lnTo>
                      <a:pt x="0" y="32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460" name="Freeform 58"/>
              <p:cNvSpPr/>
              <p:nvPr/>
            </p:nvSpPr>
            <p:spPr>
              <a:xfrm>
                <a:off x="3841920" y="1295280"/>
                <a:ext cx="33120" cy="44280"/>
              </a:xfrm>
              <a:custGeom>
                <a:avLst/>
                <a:gdLst>
                  <a:gd name="textAreaLeft" fmla="*/ 0 w 33120"/>
                  <a:gd name="textAreaRight" fmla="*/ 33480 w 33120"/>
                  <a:gd name="textAreaTop" fmla="*/ 0 h 44280"/>
                  <a:gd name="textAreaBottom" fmla="*/ 44640 h 44280"/>
                </a:gdLst>
                <a:ahLst/>
                <a:rect l="textAreaLeft" t="textAreaTop" r="textAreaRight" b="textAreaBottom"/>
                <a:pathLst>
                  <a:path w="227" h="320">
                    <a:moveTo>
                      <a:pt x="0" y="320"/>
                    </a:moveTo>
                    <a:lnTo>
                      <a:pt x="0" y="0"/>
                    </a:lnTo>
                    <a:lnTo>
                      <a:pt x="220" y="0"/>
                    </a:lnTo>
                    <a:lnTo>
                      <a:pt x="220" y="37"/>
                    </a:lnTo>
                    <a:lnTo>
                      <a:pt x="40" y="37"/>
                    </a:lnTo>
                    <a:lnTo>
                      <a:pt x="40" y="136"/>
                    </a:lnTo>
                    <a:lnTo>
                      <a:pt x="208" y="136"/>
                    </a:lnTo>
                    <a:lnTo>
                      <a:pt x="208" y="173"/>
                    </a:lnTo>
                    <a:lnTo>
                      <a:pt x="40" y="173"/>
                    </a:lnTo>
                    <a:lnTo>
                      <a:pt x="40" y="282"/>
                    </a:lnTo>
                    <a:lnTo>
                      <a:pt x="227" y="282"/>
                    </a:lnTo>
                    <a:lnTo>
                      <a:pt x="227" y="320"/>
                    </a:lnTo>
                    <a:lnTo>
                      <a:pt x="0" y="32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461" name="Freeform 59"/>
              <p:cNvSpPr/>
              <p:nvPr/>
            </p:nvSpPr>
            <p:spPr>
              <a:xfrm>
                <a:off x="3888000" y="1295280"/>
                <a:ext cx="35280" cy="44280"/>
              </a:xfrm>
              <a:custGeom>
                <a:avLst/>
                <a:gdLst>
                  <a:gd name="textAreaLeft" fmla="*/ 0 w 35280"/>
                  <a:gd name="textAreaRight" fmla="*/ 35640 w 35280"/>
                  <a:gd name="textAreaTop" fmla="*/ 0 h 44280"/>
                  <a:gd name="textAreaBottom" fmla="*/ 44640 h 44280"/>
                </a:gdLst>
                <a:ahLst/>
                <a:rect l="textAreaLeft" t="textAreaTop" r="textAreaRight" b="textAreaBottom"/>
                <a:pathLst>
                  <a:path w="240" h="320">
                    <a:moveTo>
                      <a:pt x="0" y="320"/>
                    </a:moveTo>
                    <a:lnTo>
                      <a:pt x="0" y="0"/>
                    </a:lnTo>
                    <a:lnTo>
                      <a:pt x="41" y="0"/>
                    </a:lnTo>
                    <a:lnTo>
                      <a:pt x="201" y="251"/>
                    </a:lnTo>
                    <a:lnTo>
                      <a:pt x="201" y="0"/>
                    </a:lnTo>
                    <a:lnTo>
                      <a:pt x="240" y="0"/>
                    </a:lnTo>
                    <a:lnTo>
                      <a:pt x="240" y="320"/>
                    </a:lnTo>
                    <a:lnTo>
                      <a:pt x="199" y="320"/>
                    </a:lnTo>
                    <a:lnTo>
                      <a:pt x="38" y="68"/>
                    </a:lnTo>
                    <a:lnTo>
                      <a:pt x="38" y="320"/>
                    </a:lnTo>
                    <a:lnTo>
                      <a:pt x="0" y="32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462" name="Freeform 60"/>
              <p:cNvSpPr/>
              <p:nvPr/>
            </p:nvSpPr>
            <p:spPr>
              <a:xfrm>
                <a:off x="3933720" y="1295280"/>
                <a:ext cx="36000" cy="44280"/>
              </a:xfrm>
              <a:custGeom>
                <a:avLst/>
                <a:gdLst>
                  <a:gd name="textAreaLeft" fmla="*/ 0 w 36000"/>
                  <a:gd name="textAreaRight" fmla="*/ 36360 w 36000"/>
                  <a:gd name="textAreaTop" fmla="*/ 0 h 44280"/>
                  <a:gd name="textAreaBottom" fmla="*/ 44640 h 44280"/>
                </a:gdLst>
                <a:ahLst/>
                <a:rect l="textAreaLeft" t="textAreaTop" r="textAreaRight" b="textAreaBottom"/>
                <a:pathLst>
                  <a:path w="242" h="320">
                    <a:moveTo>
                      <a:pt x="101" y="320"/>
                    </a:moveTo>
                    <a:lnTo>
                      <a:pt x="101" y="37"/>
                    </a:lnTo>
                    <a:lnTo>
                      <a:pt x="0" y="37"/>
                    </a:lnTo>
                    <a:lnTo>
                      <a:pt x="0" y="0"/>
                    </a:lnTo>
                    <a:lnTo>
                      <a:pt x="242" y="0"/>
                    </a:lnTo>
                    <a:lnTo>
                      <a:pt x="242" y="37"/>
                    </a:lnTo>
                    <a:lnTo>
                      <a:pt x="141" y="37"/>
                    </a:lnTo>
                    <a:lnTo>
                      <a:pt x="141" y="320"/>
                    </a:lnTo>
                    <a:lnTo>
                      <a:pt x="101" y="32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463" name="Freeform 61"/>
              <p:cNvSpPr/>
              <p:nvPr/>
            </p:nvSpPr>
            <p:spPr>
              <a:xfrm>
                <a:off x="3997440" y="1294560"/>
                <a:ext cx="39240" cy="45360"/>
              </a:xfrm>
              <a:custGeom>
                <a:avLst/>
                <a:gdLst>
                  <a:gd name="textAreaLeft" fmla="*/ 0 w 39240"/>
                  <a:gd name="textAreaRight" fmla="*/ 39600 w 39240"/>
                  <a:gd name="textAreaTop" fmla="*/ 0 h 45360"/>
                  <a:gd name="textAreaBottom" fmla="*/ 45720 h 45360"/>
                </a:gdLst>
                <a:ahLst/>
                <a:rect l="textAreaLeft" t="textAreaTop" r="textAreaRight" b="textAreaBottom"/>
                <a:pathLst>
                  <a:path w="270" h="330">
                    <a:moveTo>
                      <a:pt x="230" y="213"/>
                    </a:moveTo>
                    <a:lnTo>
                      <a:pt x="270" y="223"/>
                    </a:lnTo>
                    <a:lnTo>
                      <a:pt x="266" y="236"/>
                    </a:lnTo>
                    <a:lnTo>
                      <a:pt x="262" y="248"/>
                    </a:lnTo>
                    <a:lnTo>
                      <a:pt x="257" y="258"/>
                    </a:lnTo>
                    <a:lnTo>
                      <a:pt x="252" y="269"/>
                    </a:lnTo>
                    <a:lnTo>
                      <a:pt x="246" y="278"/>
                    </a:lnTo>
                    <a:lnTo>
                      <a:pt x="239" y="288"/>
                    </a:lnTo>
                    <a:lnTo>
                      <a:pt x="232" y="295"/>
                    </a:lnTo>
                    <a:lnTo>
                      <a:pt x="224" y="303"/>
                    </a:lnTo>
                    <a:lnTo>
                      <a:pt x="216" y="309"/>
                    </a:lnTo>
                    <a:lnTo>
                      <a:pt x="206" y="314"/>
                    </a:lnTo>
                    <a:lnTo>
                      <a:pt x="197" y="320"/>
                    </a:lnTo>
                    <a:lnTo>
                      <a:pt x="187" y="323"/>
                    </a:lnTo>
                    <a:lnTo>
                      <a:pt x="177" y="326"/>
                    </a:lnTo>
                    <a:lnTo>
                      <a:pt x="166" y="328"/>
                    </a:lnTo>
                    <a:lnTo>
                      <a:pt x="156" y="329"/>
                    </a:lnTo>
                    <a:lnTo>
                      <a:pt x="144" y="330"/>
                    </a:lnTo>
                    <a:lnTo>
                      <a:pt x="131" y="329"/>
                    </a:lnTo>
                    <a:lnTo>
                      <a:pt x="120" y="329"/>
                    </a:lnTo>
                    <a:lnTo>
                      <a:pt x="109" y="327"/>
                    </a:lnTo>
                    <a:lnTo>
                      <a:pt x="98" y="325"/>
                    </a:lnTo>
                    <a:lnTo>
                      <a:pt x="89" y="322"/>
                    </a:lnTo>
                    <a:lnTo>
                      <a:pt x="80" y="319"/>
                    </a:lnTo>
                    <a:lnTo>
                      <a:pt x="71" y="314"/>
                    </a:lnTo>
                    <a:lnTo>
                      <a:pt x="63" y="309"/>
                    </a:lnTo>
                    <a:lnTo>
                      <a:pt x="56" y="304"/>
                    </a:lnTo>
                    <a:lnTo>
                      <a:pt x="49" y="298"/>
                    </a:lnTo>
                    <a:lnTo>
                      <a:pt x="42" y="290"/>
                    </a:lnTo>
                    <a:lnTo>
                      <a:pt x="36" y="284"/>
                    </a:lnTo>
                    <a:lnTo>
                      <a:pt x="31" y="275"/>
                    </a:lnTo>
                    <a:lnTo>
                      <a:pt x="25" y="267"/>
                    </a:lnTo>
                    <a:lnTo>
                      <a:pt x="21" y="257"/>
                    </a:lnTo>
                    <a:lnTo>
                      <a:pt x="17" y="248"/>
                    </a:lnTo>
                    <a:lnTo>
                      <a:pt x="13" y="238"/>
                    </a:lnTo>
                    <a:lnTo>
                      <a:pt x="9" y="228"/>
                    </a:lnTo>
                    <a:lnTo>
                      <a:pt x="6" y="217"/>
                    </a:lnTo>
                    <a:lnTo>
                      <a:pt x="4" y="206"/>
                    </a:lnTo>
                    <a:lnTo>
                      <a:pt x="3" y="196"/>
                    </a:lnTo>
                    <a:lnTo>
                      <a:pt x="1" y="185"/>
                    </a:lnTo>
                    <a:lnTo>
                      <a:pt x="1" y="174"/>
                    </a:lnTo>
                    <a:lnTo>
                      <a:pt x="0" y="162"/>
                    </a:lnTo>
                    <a:lnTo>
                      <a:pt x="1" y="150"/>
                    </a:lnTo>
                    <a:lnTo>
                      <a:pt x="1" y="139"/>
                    </a:lnTo>
                    <a:lnTo>
                      <a:pt x="3" y="127"/>
                    </a:lnTo>
                    <a:lnTo>
                      <a:pt x="5" y="115"/>
                    </a:lnTo>
                    <a:lnTo>
                      <a:pt x="7" y="105"/>
                    </a:lnTo>
                    <a:lnTo>
                      <a:pt x="10" y="95"/>
                    </a:lnTo>
                    <a:lnTo>
                      <a:pt x="15" y="85"/>
                    </a:lnTo>
                    <a:lnTo>
                      <a:pt x="19" y="75"/>
                    </a:lnTo>
                    <a:lnTo>
                      <a:pt x="23" y="67"/>
                    </a:lnTo>
                    <a:lnTo>
                      <a:pt x="28" y="58"/>
                    </a:lnTo>
                    <a:lnTo>
                      <a:pt x="34" y="50"/>
                    </a:lnTo>
                    <a:lnTo>
                      <a:pt x="40" y="42"/>
                    </a:lnTo>
                    <a:lnTo>
                      <a:pt x="47" y="36"/>
                    </a:lnTo>
                    <a:lnTo>
                      <a:pt x="54" y="29"/>
                    </a:lnTo>
                    <a:lnTo>
                      <a:pt x="62" y="24"/>
                    </a:lnTo>
                    <a:lnTo>
                      <a:pt x="70" y="19"/>
                    </a:lnTo>
                    <a:lnTo>
                      <a:pt x="78" y="15"/>
                    </a:lnTo>
                    <a:lnTo>
                      <a:pt x="88" y="10"/>
                    </a:lnTo>
                    <a:lnTo>
                      <a:pt x="96" y="7"/>
                    </a:lnTo>
                    <a:lnTo>
                      <a:pt x="106" y="4"/>
                    </a:lnTo>
                    <a:lnTo>
                      <a:pt x="114" y="2"/>
                    </a:lnTo>
                    <a:lnTo>
                      <a:pt x="125" y="1"/>
                    </a:lnTo>
                    <a:lnTo>
                      <a:pt x="134" y="0"/>
                    </a:lnTo>
                    <a:lnTo>
                      <a:pt x="144" y="0"/>
                    </a:lnTo>
                    <a:lnTo>
                      <a:pt x="156" y="0"/>
                    </a:lnTo>
                    <a:lnTo>
                      <a:pt x="166" y="1"/>
                    </a:lnTo>
                    <a:lnTo>
                      <a:pt x="177" y="3"/>
                    </a:lnTo>
                    <a:lnTo>
                      <a:pt x="186" y="5"/>
                    </a:lnTo>
                    <a:lnTo>
                      <a:pt x="196" y="9"/>
                    </a:lnTo>
                    <a:lnTo>
                      <a:pt x="204" y="14"/>
                    </a:lnTo>
                    <a:lnTo>
                      <a:pt x="213" y="18"/>
                    </a:lnTo>
                    <a:lnTo>
                      <a:pt x="221" y="24"/>
                    </a:lnTo>
                    <a:lnTo>
                      <a:pt x="229" y="30"/>
                    </a:lnTo>
                    <a:lnTo>
                      <a:pt x="235" y="37"/>
                    </a:lnTo>
                    <a:lnTo>
                      <a:pt x="241" y="45"/>
                    </a:lnTo>
                    <a:lnTo>
                      <a:pt x="248" y="53"/>
                    </a:lnTo>
                    <a:lnTo>
                      <a:pt x="253" y="62"/>
                    </a:lnTo>
                    <a:lnTo>
                      <a:pt x="257" y="72"/>
                    </a:lnTo>
                    <a:lnTo>
                      <a:pt x="261" y="81"/>
                    </a:lnTo>
                    <a:lnTo>
                      <a:pt x="265" y="93"/>
                    </a:lnTo>
                    <a:lnTo>
                      <a:pt x="224" y="103"/>
                    </a:lnTo>
                    <a:lnTo>
                      <a:pt x="219" y="86"/>
                    </a:lnTo>
                    <a:lnTo>
                      <a:pt x="212" y="72"/>
                    </a:lnTo>
                    <a:lnTo>
                      <a:pt x="207" y="67"/>
                    </a:lnTo>
                    <a:lnTo>
                      <a:pt x="203" y="61"/>
                    </a:lnTo>
                    <a:lnTo>
                      <a:pt x="199" y="56"/>
                    </a:lnTo>
                    <a:lnTo>
                      <a:pt x="194" y="52"/>
                    </a:lnTo>
                    <a:lnTo>
                      <a:pt x="188" y="47"/>
                    </a:lnTo>
                    <a:lnTo>
                      <a:pt x="183" y="44"/>
                    </a:lnTo>
                    <a:lnTo>
                      <a:pt x="178" y="42"/>
                    </a:lnTo>
                    <a:lnTo>
                      <a:pt x="171" y="40"/>
                    </a:lnTo>
                    <a:lnTo>
                      <a:pt x="165" y="38"/>
                    </a:lnTo>
                    <a:lnTo>
                      <a:pt x="158" y="37"/>
                    </a:lnTo>
                    <a:lnTo>
                      <a:pt x="150" y="36"/>
                    </a:lnTo>
                    <a:lnTo>
                      <a:pt x="143" y="36"/>
                    </a:lnTo>
                    <a:lnTo>
                      <a:pt x="134" y="36"/>
                    </a:lnTo>
                    <a:lnTo>
                      <a:pt x="126" y="37"/>
                    </a:lnTo>
                    <a:lnTo>
                      <a:pt x="118" y="38"/>
                    </a:lnTo>
                    <a:lnTo>
                      <a:pt x="111" y="40"/>
                    </a:lnTo>
                    <a:lnTo>
                      <a:pt x="104" y="42"/>
                    </a:lnTo>
                    <a:lnTo>
                      <a:pt x="97" y="45"/>
                    </a:lnTo>
                    <a:lnTo>
                      <a:pt x="91" y="50"/>
                    </a:lnTo>
                    <a:lnTo>
                      <a:pt x="85" y="53"/>
                    </a:lnTo>
                    <a:lnTo>
                      <a:pt x="79" y="58"/>
                    </a:lnTo>
                    <a:lnTo>
                      <a:pt x="74" y="63"/>
                    </a:lnTo>
                    <a:lnTo>
                      <a:pt x="69" y="69"/>
                    </a:lnTo>
                    <a:lnTo>
                      <a:pt x="64" y="74"/>
                    </a:lnTo>
                    <a:lnTo>
                      <a:pt x="60" y="80"/>
                    </a:lnTo>
                    <a:lnTo>
                      <a:pt x="57" y="87"/>
                    </a:lnTo>
                    <a:lnTo>
                      <a:pt x="54" y="93"/>
                    </a:lnTo>
                    <a:lnTo>
                      <a:pt x="52" y="100"/>
                    </a:lnTo>
                    <a:lnTo>
                      <a:pt x="47" y="115"/>
                    </a:lnTo>
                    <a:lnTo>
                      <a:pt x="44" y="131"/>
                    </a:lnTo>
                    <a:lnTo>
                      <a:pt x="42" y="146"/>
                    </a:lnTo>
                    <a:lnTo>
                      <a:pt x="42" y="162"/>
                    </a:lnTo>
                    <a:lnTo>
                      <a:pt x="42" y="182"/>
                    </a:lnTo>
                    <a:lnTo>
                      <a:pt x="44" y="200"/>
                    </a:lnTo>
                    <a:lnTo>
                      <a:pt x="49" y="217"/>
                    </a:lnTo>
                    <a:lnTo>
                      <a:pt x="53" y="233"/>
                    </a:lnTo>
                    <a:lnTo>
                      <a:pt x="56" y="240"/>
                    </a:lnTo>
                    <a:lnTo>
                      <a:pt x="59" y="248"/>
                    </a:lnTo>
                    <a:lnTo>
                      <a:pt x="63" y="254"/>
                    </a:lnTo>
                    <a:lnTo>
                      <a:pt x="68" y="260"/>
                    </a:lnTo>
                    <a:lnTo>
                      <a:pt x="72" y="266"/>
                    </a:lnTo>
                    <a:lnTo>
                      <a:pt x="77" y="270"/>
                    </a:lnTo>
                    <a:lnTo>
                      <a:pt x="82" y="275"/>
                    </a:lnTo>
                    <a:lnTo>
                      <a:pt x="89" y="278"/>
                    </a:lnTo>
                    <a:lnTo>
                      <a:pt x="100" y="286"/>
                    </a:lnTo>
                    <a:lnTo>
                      <a:pt x="113" y="290"/>
                    </a:lnTo>
                    <a:lnTo>
                      <a:pt x="127" y="293"/>
                    </a:lnTo>
                    <a:lnTo>
                      <a:pt x="140" y="294"/>
                    </a:lnTo>
                    <a:lnTo>
                      <a:pt x="148" y="293"/>
                    </a:lnTo>
                    <a:lnTo>
                      <a:pt x="157" y="292"/>
                    </a:lnTo>
                    <a:lnTo>
                      <a:pt x="164" y="291"/>
                    </a:lnTo>
                    <a:lnTo>
                      <a:pt x="171" y="289"/>
                    </a:lnTo>
                    <a:lnTo>
                      <a:pt x="179" y="286"/>
                    </a:lnTo>
                    <a:lnTo>
                      <a:pt x="185" y="283"/>
                    </a:lnTo>
                    <a:lnTo>
                      <a:pt x="192" y="278"/>
                    </a:lnTo>
                    <a:lnTo>
                      <a:pt x="198" y="273"/>
                    </a:lnTo>
                    <a:lnTo>
                      <a:pt x="203" y="268"/>
                    </a:lnTo>
                    <a:lnTo>
                      <a:pt x="208" y="261"/>
                    </a:lnTo>
                    <a:lnTo>
                      <a:pt x="213" y="255"/>
                    </a:lnTo>
                    <a:lnTo>
                      <a:pt x="217" y="248"/>
                    </a:lnTo>
                    <a:lnTo>
                      <a:pt x="221" y="240"/>
                    </a:lnTo>
                    <a:lnTo>
                      <a:pt x="224" y="232"/>
                    </a:lnTo>
                    <a:lnTo>
                      <a:pt x="226" y="222"/>
                    </a:lnTo>
                    <a:lnTo>
                      <a:pt x="230" y="213"/>
                    </a:lnTo>
                    <a:close/>
                  </a:path>
                </a:pathLst>
              </a:custGeom>
              <a:solidFill>
                <a:srgbClr val="1f1a17"/>
              </a:solidFill>
              <a:ln w="0">
                <a:noFill/>
              </a:ln>
            </p:spPr>
            <p:style>
              <a:lnRef idx="0"/>
              <a:fillRef idx="0"/>
              <a:effectRef idx="0"/>
              <a:fontRef idx="minor"/>
            </p:style>
            <p:txBody>
              <a:bodyPr lIns="90000" rIns="90000" tIns="720" bIns="720" anchor="t">
                <a:noAutofit/>
              </a:bodyPr>
              <a:p>
                <a:pPr>
                  <a:lnSpc>
                    <a:spcPct val="100000"/>
                  </a:lnSpc>
                </a:pPr>
                <a:endParaRPr b="0" lang="en-US" sz="1800" spc="-1" strike="noStrike">
                  <a:solidFill>
                    <a:srgbClr val="000000"/>
                  </a:solidFill>
                  <a:latin typeface="Arial"/>
                  <a:ea typeface="宋体"/>
                </a:endParaRPr>
              </a:p>
            </p:txBody>
          </p:sp>
          <p:sp>
            <p:nvSpPr>
              <p:cNvPr id="464" name="Freeform 62"/>
              <p:cNvSpPr/>
              <p:nvPr/>
            </p:nvSpPr>
            <p:spPr>
              <a:xfrm>
                <a:off x="4046760" y="1294560"/>
                <a:ext cx="43560" cy="45360"/>
              </a:xfrm>
              <a:custGeom>
                <a:avLst/>
                <a:gdLst>
                  <a:gd name="textAreaLeft" fmla="*/ 0 w 43560"/>
                  <a:gd name="textAreaRight" fmla="*/ 43920 w 43560"/>
                  <a:gd name="textAreaTop" fmla="*/ 0 h 45360"/>
                  <a:gd name="textAreaBottom" fmla="*/ 45720 h 45360"/>
                </a:gdLst>
                <a:ahLst/>
                <a:rect l="textAreaLeft" t="textAreaTop" r="textAreaRight" b="textAreaBottom"/>
                <a:pathLst>
                  <a:path w="292" h="331">
                    <a:moveTo>
                      <a:pt x="0" y="170"/>
                    </a:moveTo>
                    <a:lnTo>
                      <a:pt x="1" y="150"/>
                    </a:lnTo>
                    <a:lnTo>
                      <a:pt x="4" y="132"/>
                    </a:lnTo>
                    <a:lnTo>
                      <a:pt x="7" y="115"/>
                    </a:lnTo>
                    <a:lnTo>
                      <a:pt x="11" y="99"/>
                    </a:lnTo>
                    <a:lnTo>
                      <a:pt x="16" y="83"/>
                    </a:lnTo>
                    <a:lnTo>
                      <a:pt x="24" y="70"/>
                    </a:lnTo>
                    <a:lnTo>
                      <a:pt x="32" y="57"/>
                    </a:lnTo>
                    <a:lnTo>
                      <a:pt x="42" y="45"/>
                    </a:lnTo>
                    <a:lnTo>
                      <a:pt x="52" y="35"/>
                    </a:lnTo>
                    <a:lnTo>
                      <a:pt x="63" y="25"/>
                    </a:lnTo>
                    <a:lnTo>
                      <a:pt x="76" y="18"/>
                    </a:lnTo>
                    <a:lnTo>
                      <a:pt x="88" y="11"/>
                    </a:lnTo>
                    <a:lnTo>
                      <a:pt x="102" y="6"/>
                    </a:lnTo>
                    <a:lnTo>
                      <a:pt x="116" y="3"/>
                    </a:lnTo>
                    <a:lnTo>
                      <a:pt x="131" y="1"/>
                    </a:lnTo>
                    <a:lnTo>
                      <a:pt x="147" y="0"/>
                    </a:lnTo>
                    <a:lnTo>
                      <a:pt x="157" y="1"/>
                    </a:lnTo>
                    <a:lnTo>
                      <a:pt x="167" y="2"/>
                    </a:lnTo>
                    <a:lnTo>
                      <a:pt x="177" y="3"/>
                    </a:lnTo>
                    <a:lnTo>
                      <a:pt x="187" y="5"/>
                    </a:lnTo>
                    <a:lnTo>
                      <a:pt x="196" y="8"/>
                    </a:lnTo>
                    <a:lnTo>
                      <a:pt x="205" y="12"/>
                    </a:lnTo>
                    <a:lnTo>
                      <a:pt x="214" y="17"/>
                    </a:lnTo>
                    <a:lnTo>
                      <a:pt x="223" y="21"/>
                    </a:lnTo>
                    <a:lnTo>
                      <a:pt x="231" y="27"/>
                    </a:lnTo>
                    <a:lnTo>
                      <a:pt x="239" y="33"/>
                    </a:lnTo>
                    <a:lnTo>
                      <a:pt x="246" y="40"/>
                    </a:lnTo>
                    <a:lnTo>
                      <a:pt x="252" y="46"/>
                    </a:lnTo>
                    <a:lnTo>
                      <a:pt x="259" y="55"/>
                    </a:lnTo>
                    <a:lnTo>
                      <a:pt x="264" y="62"/>
                    </a:lnTo>
                    <a:lnTo>
                      <a:pt x="269" y="71"/>
                    </a:lnTo>
                    <a:lnTo>
                      <a:pt x="275" y="80"/>
                    </a:lnTo>
                    <a:lnTo>
                      <a:pt x="279" y="90"/>
                    </a:lnTo>
                    <a:lnTo>
                      <a:pt x="282" y="100"/>
                    </a:lnTo>
                    <a:lnTo>
                      <a:pt x="285" y="110"/>
                    </a:lnTo>
                    <a:lnTo>
                      <a:pt x="287" y="120"/>
                    </a:lnTo>
                    <a:lnTo>
                      <a:pt x="290" y="131"/>
                    </a:lnTo>
                    <a:lnTo>
                      <a:pt x="291" y="143"/>
                    </a:lnTo>
                    <a:lnTo>
                      <a:pt x="292" y="154"/>
                    </a:lnTo>
                    <a:lnTo>
                      <a:pt x="292" y="166"/>
                    </a:lnTo>
                    <a:lnTo>
                      <a:pt x="292" y="178"/>
                    </a:lnTo>
                    <a:lnTo>
                      <a:pt x="291" y="189"/>
                    </a:lnTo>
                    <a:lnTo>
                      <a:pt x="290" y="201"/>
                    </a:lnTo>
                    <a:lnTo>
                      <a:pt x="287" y="213"/>
                    </a:lnTo>
                    <a:lnTo>
                      <a:pt x="284" y="223"/>
                    </a:lnTo>
                    <a:lnTo>
                      <a:pt x="281" y="234"/>
                    </a:lnTo>
                    <a:lnTo>
                      <a:pt x="278" y="243"/>
                    </a:lnTo>
                    <a:lnTo>
                      <a:pt x="274" y="253"/>
                    </a:lnTo>
                    <a:lnTo>
                      <a:pt x="268" y="262"/>
                    </a:lnTo>
                    <a:lnTo>
                      <a:pt x="263" y="271"/>
                    </a:lnTo>
                    <a:lnTo>
                      <a:pt x="257" y="279"/>
                    </a:lnTo>
                    <a:lnTo>
                      <a:pt x="250" y="287"/>
                    </a:lnTo>
                    <a:lnTo>
                      <a:pt x="244" y="294"/>
                    </a:lnTo>
                    <a:lnTo>
                      <a:pt x="237" y="301"/>
                    </a:lnTo>
                    <a:lnTo>
                      <a:pt x="229" y="306"/>
                    </a:lnTo>
                    <a:lnTo>
                      <a:pt x="221" y="311"/>
                    </a:lnTo>
                    <a:lnTo>
                      <a:pt x="211" y="315"/>
                    </a:lnTo>
                    <a:lnTo>
                      <a:pt x="203" y="320"/>
                    </a:lnTo>
                    <a:lnTo>
                      <a:pt x="194" y="323"/>
                    </a:lnTo>
                    <a:lnTo>
                      <a:pt x="185" y="326"/>
                    </a:lnTo>
                    <a:lnTo>
                      <a:pt x="175" y="328"/>
                    </a:lnTo>
                    <a:lnTo>
                      <a:pt x="166" y="330"/>
                    </a:lnTo>
                    <a:lnTo>
                      <a:pt x="156" y="330"/>
                    </a:lnTo>
                    <a:lnTo>
                      <a:pt x="147" y="331"/>
                    </a:lnTo>
                    <a:lnTo>
                      <a:pt x="136" y="330"/>
                    </a:lnTo>
                    <a:lnTo>
                      <a:pt x="125" y="329"/>
                    </a:lnTo>
                    <a:lnTo>
                      <a:pt x="116" y="328"/>
                    </a:lnTo>
                    <a:lnTo>
                      <a:pt x="105" y="326"/>
                    </a:lnTo>
                    <a:lnTo>
                      <a:pt x="96" y="323"/>
                    </a:lnTo>
                    <a:lnTo>
                      <a:pt x="87" y="319"/>
                    </a:lnTo>
                    <a:lnTo>
                      <a:pt x="78" y="314"/>
                    </a:lnTo>
                    <a:lnTo>
                      <a:pt x="69" y="309"/>
                    </a:lnTo>
                    <a:lnTo>
                      <a:pt x="61" y="304"/>
                    </a:lnTo>
                    <a:lnTo>
                      <a:pt x="53" y="297"/>
                    </a:lnTo>
                    <a:lnTo>
                      <a:pt x="46" y="291"/>
                    </a:lnTo>
                    <a:lnTo>
                      <a:pt x="40" y="284"/>
                    </a:lnTo>
                    <a:lnTo>
                      <a:pt x="33" y="276"/>
                    </a:lnTo>
                    <a:lnTo>
                      <a:pt x="28" y="268"/>
                    </a:lnTo>
                    <a:lnTo>
                      <a:pt x="23" y="259"/>
                    </a:lnTo>
                    <a:lnTo>
                      <a:pt x="18" y="250"/>
                    </a:lnTo>
                    <a:lnTo>
                      <a:pt x="14" y="240"/>
                    </a:lnTo>
                    <a:lnTo>
                      <a:pt x="11" y="231"/>
                    </a:lnTo>
                    <a:lnTo>
                      <a:pt x="8" y="221"/>
                    </a:lnTo>
                    <a:lnTo>
                      <a:pt x="5" y="211"/>
                    </a:lnTo>
                    <a:lnTo>
                      <a:pt x="4" y="201"/>
                    </a:lnTo>
                    <a:lnTo>
                      <a:pt x="1" y="190"/>
                    </a:lnTo>
                    <a:lnTo>
                      <a:pt x="1" y="180"/>
                    </a:lnTo>
                    <a:lnTo>
                      <a:pt x="0" y="170"/>
                    </a:lnTo>
                    <a:close/>
                    <a:moveTo>
                      <a:pt x="43" y="170"/>
                    </a:moveTo>
                    <a:lnTo>
                      <a:pt x="43" y="185"/>
                    </a:lnTo>
                    <a:lnTo>
                      <a:pt x="44" y="198"/>
                    </a:lnTo>
                    <a:lnTo>
                      <a:pt x="46" y="211"/>
                    </a:lnTo>
                    <a:lnTo>
                      <a:pt x="49" y="222"/>
                    </a:lnTo>
                    <a:lnTo>
                      <a:pt x="53" y="233"/>
                    </a:lnTo>
                    <a:lnTo>
                      <a:pt x="59" y="243"/>
                    </a:lnTo>
                    <a:lnTo>
                      <a:pt x="65" y="253"/>
                    </a:lnTo>
                    <a:lnTo>
                      <a:pt x="71" y="261"/>
                    </a:lnTo>
                    <a:lnTo>
                      <a:pt x="80" y="270"/>
                    </a:lnTo>
                    <a:lnTo>
                      <a:pt x="87" y="276"/>
                    </a:lnTo>
                    <a:lnTo>
                      <a:pt x="96" y="282"/>
                    </a:lnTo>
                    <a:lnTo>
                      <a:pt x="105" y="287"/>
                    </a:lnTo>
                    <a:lnTo>
                      <a:pt x="115" y="290"/>
                    </a:lnTo>
                    <a:lnTo>
                      <a:pt x="124" y="293"/>
                    </a:lnTo>
                    <a:lnTo>
                      <a:pt x="135" y="294"/>
                    </a:lnTo>
                    <a:lnTo>
                      <a:pt x="147" y="295"/>
                    </a:lnTo>
                    <a:lnTo>
                      <a:pt x="157" y="294"/>
                    </a:lnTo>
                    <a:lnTo>
                      <a:pt x="168" y="293"/>
                    </a:lnTo>
                    <a:lnTo>
                      <a:pt x="178" y="290"/>
                    </a:lnTo>
                    <a:lnTo>
                      <a:pt x="188" y="287"/>
                    </a:lnTo>
                    <a:lnTo>
                      <a:pt x="196" y="282"/>
                    </a:lnTo>
                    <a:lnTo>
                      <a:pt x="206" y="276"/>
                    </a:lnTo>
                    <a:lnTo>
                      <a:pt x="213" y="269"/>
                    </a:lnTo>
                    <a:lnTo>
                      <a:pt x="221" y="261"/>
                    </a:lnTo>
                    <a:lnTo>
                      <a:pt x="228" y="253"/>
                    </a:lnTo>
                    <a:lnTo>
                      <a:pt x="233" y="242"/>
                    </a:lnTo>
                    <a:lnTo>
                      <a:pt x="239" y="232"/>
                    </a:lnTo>
                    <a:lnTo>
                      <a:pt x="243" y="221"/>
                    </a:lnTo>
                    <a:lnTo>
                      <a:pt x="246" y="208"/>
                    </a:lnTo>
                    <a:lnTo>
                      <a:pt x="248" y="195"/>
                    </a:lnTo>
                    <a:lnTo>
                      <a:pt x="250" y="181"/>
                    </a:lnTo>
                    <a:lnTo>
                      <a:pt x="250" y="166"/>
                    </a:lnTo>
                    <a:lnTo>
                      <a:pt x="249" y="147"/>
                    </a:lnTo>
                    <a:lnTo>
                      <a:pt x="247" y="129"/>
                    </a:lnTo>
                    <a:lnTo>
                      <a:pt x="243" y="113"/>
                    </a:lnTo>
                    <a:lnTo>
                      <a:pt x="238" y="98"/>
                    </a:lnTo>
                    <a:lnTo>
                      <a:pt x="231" y="84"/>
                    </a:lnTo>
                    <a:lnTo>
                      <a:pt x="223" y="72"/>
                    </a:lnTo>
                    <a:lnTo>
                      <a:pt x="218" y="66"/>
                    </a:lnTo>
                    <a:lnTo>
                      <a:pt x="212" y="61"/>
                    </a:lnTo>
                    <a:lnTo>
                      <a:pt x="207" y="57"/>
                    </a:lnTo>
                    <a:lnTo>
                      <a:pt x="202" y="53"/>
                    </a:lnTo>
                    <a:lnTo>
                      <a:pt x="189" y="45"/>
                    </a:lnTo>
                    <a:lnTo>
                      <a:pt x="175" y="41"/>
                    </a:lnTo>
                    <a:lnTo>
                      <a:pt x="161" y="38"/>
                    </a:lnTo>
                    <a:lnTo>
                      <a:pt x="147" y="37"/>
                    </a:lnTo>
                    <a:lnTo>
                      <a:pt x="136" y="37"/>
                    </a:lnTo>
                    <a:lnTo>
                      <a:pt x="126" y="39"/>
                    </a:lnTo>
                    <a:lnTo>
                      <a:pt x="116" y="41"/>
                    </a:lnTo>
                    <a:lnTo>
                      <a:pt x="107" y="44"/>
                    </a:lnTo>
                    <a:lnTo>
                      <a:pt x="98" y="48"/>
                    </a:lnTo>
                    <a:lnTo>
                      <a:pt x="89" y="54"/>
                    </a:lnTo>
                    <a:lnTo>
                      <a:pt x="81" y="60"/>
                    </a:lnTo>
                    <a:lnTo>
                      <a:pt x="73" y="68"/>
                    </a:lnTo>
                    <a:lnTo>
                      <a:pt x="66" y="76"/>
                    </a:lnTo>
                    <a:lnTo>
                      <a:pt x="60" y="86"/>
                    </a:lnTo>
                    <a:lnTo>
                      <a:pt x="54" y="96"/>
                    </a:lnTo>
                    <a:lnTo>
                      <a:pt x="50" y="109"/>
                    </a:lnTo>
                    <a:lnTo>
                      <a:pt x="47" y="123"/>
                    </a:lnTo>
                    <a:lnTo>
                      <a:pt x="44" y="137"/>
                    </a:lnTo>
                    <a:lnTo>
                      <a:pt x="43" y="153"/>
                    </a:lnTo>
                    <a:lnTo>
                      <a:pt x="43" y="170"/>
                    </a:lnTo>
                    <a:close/>
                  </a:path>
                </a:pathLst>
              </a:custGeom>
              <a:solidFill>
                <a:srgbClr val="1f1a17"/>
              </a:solidFill>
              <a:ln w="0">
                <a:noFill/>
              </a:ln>
            </p:spPr>
            <p:style>
              <a:lnRef idx="0"/>
              <a:fillRef idx="0"/>
              <a:effectRef idx="0"/>
              <a:fontRef idx="minor"/>
            </p:style>
            <p:txBody>
              <a:bodyPr lIns="90000" rIns="90000" tIns="720" bIns="720" anchor="t">
                <a:noAutofit/>
              </a:bodyPr>
              <a:p>
                <a:pPr>
                  <a:lnSpc>
                    <a:spcPct val="100000"/>
                  </a:lnSpc>
                </a:pPr>
                <a:endParaRPr b="0" lang="en-US" sz="1800" spc="-1" strike="noStrike">
                  <a:solidFill>
                    <a:srgbClr val="000000"/>
                  </a:solidFill>
                  <a:latin typeface="Arial"/>
                  <a:ea typeface="宋体"/>
                </a:endParaRPr>
              </a:p>
            </p:txBody>
          </p:sp>
          <p:sp>
            <p:nvSpPr>
              <p:cNvPr id="465" name="Freeform 63"/>
              <p:cNvSpPr/>
              <p:nvPr/>
            </p:nvSpPr>
            <p:spPr>
              <a:xfrm>
                <a:off x="4101840" y="1295280"/>
                <a:ext cx="35280" cy="44280"/>
              </a:xfrm>
              <a:custGeom>
                <a:avLst/>
                <a:gdLst>
                  <a:gd name="textAreaLeft" fmla="*/ 0 w 35280"/>
                  <a:gd name="textAreaRight" fmla="*/ 35640 w 35280"/>
                  <a:gd name="textAreaTop" fmla="*/ 0 h 44280"/>
                  <a:gd name="textAreaBottom" fmla="*/ 44640 h 44280"/>
                </a:gdLst>
                <a:ahLst/>
                <a:rect l="textAreaLeft" t="textAreaTop" r="textAreaRight" b="textAreaBottom"/>
                <a:pathLst>
                  <a:path w="240" h="320">
                    <a:moveTo>
                      <a:pt x="0" y="320"/>
                    </a:moveTo>
                    <a:lnTo>
                      <a:pt x="0" y="0"/>
                    </a:lnTo>
                    <a:lnTo>
                      <a:pt x="41" y="0"/>
                    </a:lnTo>
                    <a:lnTo>
                      <a:pt x="201" y="251"/>
                    </a:lnTo>
                    <a:lnTo>
                      <a:pt x="201" y="0"/>
                    </a:lnTo>
                    <a:lnTo>
                      <a:pt x="240" y="0"/>
                    </a:lnTo>
                    <a:lnTo>
                      <a:pt x="240" y="320"/>
                    </a:lnTo>
                    <a:lnTo>
                      <a:pt x="199" y="320"/>
                    </a:lnTo>
                    <a:lnTo>
                      <a:pt x="39" y="68"/>
                    </a:lnTo>
                    <a:lnTo>
                      <a:pt x="39" y="320"/>
                    </a:lnTo>
                    <a:lnTo>
                      <a:pt x="0" y="32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466" name="Freeform 64"/>
              <p:cNvSpPr/>
              <p:nvPr/>
            </p:nvSpPr>
            <p:spPr>
              <a:xfrm>
                <a:off x="4150080" y="1294560"/>
                <a:ext cx="35280" cy="45360"/>
              </a:xfrm>
              <a:custGeom>
                <a:avLst/>
                <a:gdLst>
                  <a:gd name="textAreaLeft" fmla="*/ 0 w 35280"/>
                  <a:gd name="textAreaRight" fmla="*/ 35640 w 35280"/>
                  <a:gd name="textAreaTop" fmla="*/ 0 h 45360"/>
                  <a:gd name="textAreaBottom" fmla="*/ 45720 h 45360"/>
                </a:gdLst>
                <a:ahLst/>
                <a:rect l="textAreaLeft" t="textAreaTop" r="textAreaRight" b="textAreaBottom"/>
                <a:pathLst>
                  <a:path w="242" h="330">
                    <a:moveTo>
                      <a:pt x="0" y="222"/>
                    </a:moveTo>
                    <a:lnTo>
                      <a:pt x="38" y="218"/>
                    </a:lnTo>
                    <a:lnTo>
                      <a:pt x="40" y="230"/>
                    </a:lnTo>
                    <a:lnTo>
                      <a:pt x="42" y="240"/>
                    </a:lnTo>
                    <a:lnTo>
                      <a:pt x="46" y="250"/>
                    </a:lnTo>
                    <a:lnTo>
                      <a:pt x="51" y="257"/>
                    </a:lnTo>
                    <a:lnTo>
                      <a:pt x="56" y="265"/>
                    </a:lnTo>
                    <a:lnTo>
                      <a:pt x="63" y="272"/>
                    </a:lnTo>
                    <a:lnTo>
                      <a:pt x="72" y="277"/>
                    </a:lnTo>
                    <a:lnTo>
                      <a:pt x="81" y="283"/>
                    </a:lnTo>
                    <a:lnTo>
                      <a:pt x="92" y="287"/>
                    </a:lnTo>
                    <a:lnTo>
                      <a:pt x="104" y="290"/>
                    </a:lnTo>
                    <a:lnTo>
                      <a:pt x="115" y="291"/>
                    </a:lnTo>
                    <a:lnTo>
                      <a:pt x="128" y="292"/>
                    </a:lnTo>
                    <a:lnTo>
                      <a:pt x="140" y="291"/>
                    </a:lnTo>
                    <a:lnTo>
                      <a:pt x="150" y="290"/>
                    </a:lnTo>
                    <a:lnTo>
                      <a:pt x="160" y="288"/>
                    </a:lnTo>
                    <a:lnTo>
                      <a:pt x="168" y="285"/>
                    </a:lnTo>
                    <a:lnTo>
                      <a:pt x="177" y="281"/>
                    </a:lnTo>
                    <a:lnTo>
                      <a:pt x="184" y="276"/>
                    </a:lnTo>
                    <a:lnTo>
                      <a:pt x="191" y="271"/>
                    </a:lnTo>
                    <a:lnTo>
                      <a:pt x="195" y="266"/>
                    </a:lnTo>
                    <a:lnTo>
                      <a:pt x="199" y="258"/>
                    </a:lnTo>
                    <a:lnTo>
                      <a:pt x="201" y="252"/>
                    </a:lnTo>
                    <a:lnTo>
                      <a:pt x="203" y="246"/>
                    </a:lnTo>
                    <a:lnTo>
                      <a:pt x="204" y="238"/>
                    </a:lnTo>
                    <a:lnTo>
                      <a:pt x="203" y="231"/>
                    </a:lnTo>
                    <a:lnTo>
                      <a:pt x="202" y="223"/>
                    </a:lnTo>
                    <a:lnTo>
                      <a:pt x="199" y="217"/>
                    </a:lnTo>
                    <a:lnTo>
                      <a:pt x="196" y="212"/>
                    </a:lnTo>
                    <a:lnTo>
                      <a:pt x="191" y="206"/>
                    </a:lnTo>
                    <a:lnTo>
                      <a:pt x="184" y="201"/>
                    </a:lnTo>
                    <a:lnTo>
                      <a:pt x="177" y="197"/>
                    </a:lnTo>
                    <a:lnTo>
                      <a:pt x="168" y="193"/>
                    </a:lnTo>
                    <a:lnTo>
                      <a:pt x="160" y="189"/>
                    </a:lnTo>
                    <a:lnTo>
                      <a:pt x="148" y="186"/>
                    </a:lnTo>
                    <a:lnTo>
                      <a:pt x="133" y="182"/>
                    </a:lnTo>
                    <a:lnTo>
                      <a:pt x="114" y="177"/>
                    </a:lnTo>
                    <a:lnTo>
                      <a:pt x="94" y="171"/>
                    </a:lnTo>
                    <a:lnTo>
                      <a:pt x="78" y="167"/>
                    </a:lnTo>
                    <a:lnTo>
                      <a:pt x="64" y="162"/>
                    </a:lnTo>
                    <a:lnTo>
                      <a:pt x="55" y="157"/>
                    </a:lnTo>
                    <a:lnTo>
                      <a:pt x="44" y="151"/>
                    </a:lnTo>
                    <a:lnTo>
                      <a:pt x="36" y="144"/>
                    </a:lnTo>
                    <a:lnTo>
                      <a:pt x="28" y="135"/>
                    </a:lnTo>
                    <a:lnTo>
                      <a:pt x="22" y="127"/>
                    </a:lnTo>
                    <a:lnTo>
                      <a:pt x="18" y="118"/>
                    </a:lnTo>
                    <a:lnTo>
                      <a:pt x="15" y="109"/>
                    </a:lnTo>
                    <a:lnTo>
                      <a:pt x="13" y="98"/>
                    </a:lnTo>
                    <a:lnTo>
                      <a:pt x="12" y="88"/>
                    </a:lnTo>
                    <a:lnTo>
                      <a:pt x="13" y="76"/>
                    </a:lnTo>
                    <a:lnTo>
                      <a:pt x="15" y="64"/>
                    </a:lnTo>
                    <a:lnTo>
                      <a:pt x="19" y="53"/>
                    </a:lnTo>
                    <a:lnTo>
                      <a:pt x="25" y="42"/>
                    </a:lnTo>
                    <a:lnTo>
                      <a:pt x="32" y="33"/>
                    </a:lnTo>
                    <a:lnTo>
                      <a:pt x="41" y="24"/>
                    </a:lnTo>
                    <a:lnTo>
                      <a:pt x="51" y="17"/>
                    </a:lnTo>
                    <a:lnTo>
                      <a:pt x="63" y="10"/>
                    </a:lnTo>
                    <a:lnTo>
                      <a:pt x="76" y="5"/>
                    </a:lnTo>
                    <a:lnTo>
                      <a:pt x="90" y="2"/>
                    </a:lnTo>
                    <a:lnTo>
                      <a:pt x="104" y="0"/>
                    </a:lnTo>
                    <a:lnTo>
                      <a:pt x="119" y="0"/>
                    </a:lnTo>
                    <a:lnTo>
                      <a:pt x="135" y="0"/>
                    </a:lnTo>
                    <a:lnTo>
                      <a:pt x="151" y="2"/>
                    </a:lnTo>
                    <a:lnTo>
                      <a:pt x="165" y="6"/>
                    </a:lnTo>
                    <a:lnTo>
                      <a:pt x="179" y="10"/>
                    </a:lnTo>
                    <a:lnTo>
                      <a:pt x="191" y="18"/>
                    </a:lnTo>
                    <a:lnTo>
                      <a:pt x="201" y="25"/>
                    </a:lnTo>
                    <a:lnTo>
                      <a:pt x="211" y="34"/>
                    </a:lnTo>
                    <a:lnTo>
                      <a:pt x="218" y="44"/>
                    </a:lnTo>
                    <a:lnTo>
                      <a:pt x="224" y="56"/>
                    </a:lnTo>
                    <a:lnTo>
                      <a:pt x="230" y="69"/>
                    </a:lnTo>
                    <a:lnTo>
                      <a:pt x="232" y="81"/>
                    </a:lnTo>
                    <a:lnTo>
                      <a:pt x="234" y="95"/>
                    </a:lnTo>
                    <a:lnTo>
                      <a:pt x="195" y="98"/>
                    </a:lnTo>
                    <a:lnTo>
                      <a:pt x="194" y="91"/>
                    </a:lnTo>
                    <a:lnTo>
                      <a:pt x="193" y="83"/>
                    </a:lnTo>
                    <a:lnTo>
                      <a:pt x="191" y="77"/>
                    </a:lnTo>
                    <a:lnTo>
                      <a:pt x="188" y="72"/>
                    </a:lnTo>
                    <a:lnTo>
                      <a:pt x="185" y="65"/>
                    </a:lnTo>
                    <a:lnTo>
                      <a:pt x="182" y="61"/>
                    </a:lnTo>
                    <a:lnTo>
                      <a:pt x="178" y="56"/>
                    </a:lnTo>
                    <a:lnTo>
                      <a:pt x="174" y="52"/>
                    </a:lnTo>
                    <a:lnTo>
                      <a:pt x="169" y="48"/>
                    </a:lnTo>
                    <a:lnTo>
                      <a:pt x="164" y="45"/>
                    </a:lnTo>
                    <a:lnTo>
                      <a:pt x="158" y="43"/>
                    </a:lnTo>
                    <a:lnTo>
                      <a:pt x="151" y="41"/>
                    </a:lnTo>
                    <a:lnTo>
                      <a:pt x="145" y="39"/>
                    </a:lnTo>
                    <a:lnTo>
                      <a:pt x="138" y="38"/>
                    </a:lnTo>
                    <a:lnTo>
                      <a:pt x="129" y="37"/>
                    </a:lnTo>
                    <a:lnTo>
                      <a:pt x="121" y="37"/>
                    </a:lnTo>
                    <a:lnTo>
                      <a:pt x="104" y="38"/>
                    </a:lnTo>
                    <a:lnTo>
                      <a:pt x="89" y="40"/>
                    </a:lnTo>
                    <a:lnTo>
                      <a:pt x="82" y="42"/>
                    </a:lnTo>
                    <a:lnTo>
                      <a:pt x="77" y="44"/>
                    </a:lnTo>
                    <a:lnTo>
                      <a:pt x="72" y="47"/>
                    </a:lnTo>
                    <a:lnTo>
                      <a:pt x="68" y="51"/>
                    </a:lnTo>
                    <a:lnTo>
                      <a:pt x="60" y="58"/>
                    </a:lnTo>
                    <a:lnTo>
                      <a:pt x="55" y="67"/>
                    </a:lnTo>
                    <a:lnTo>
                      <a:pt x="53" y="71"/>
                    </a:lnTo>
                    <a:lnTo>
                      <a:pt x="52" y="75"/>
                    </a:lnTo>
                    <a:lnTo>
                      <a:pt x="51" y="80"/>
                    </a:lnTo>
                    <a:lnTo>
                      <a:pt x="51" y="85"/>
                    </a:lnTo>
                    <a:lnTo>
                      <a:pt x="52" y="93"/>
                    </a:lnTo>
                    <a:lnTo>
                      <a:pt x="54" y="100"/>
                    </a:lnTo>
                    <a:lnTo>
                      <a:pt x="57" y="107"/>
                    </a:lnTo>
                    <a:lnTo>
                      <a:pt x="62" y="113"/>
                    </a:lnTo>
                    <a:lnTo>
                      <a:pt x="66" y="116"/>
                    </a:lnTo>
                    <a:lnTo>
                      <a:pt x="71" y="118"/>
                    </a:lnTo>
                    <a:lnTo>
                      <a:pt x="76" y="122"/>
                    </a:lnTo>
                    <a:lnTo>
                      <a:pt x="84" y="125"/>
                    </a:lnTo>
                    <a:lnTo>
                      <a:pt x="100" y="130"/>
                    </a:lnTo>
                    <a:lnTo>
                      <a:pt x="123" y="135"/>
                    </a:lnTo>
                    <a:lnTo>
                      <a:pt x="146" y="142"/>
                    </a:lnTo>
                    <a:lnTo>
                      <a:pt x="165" y="147"/>
                    </a:lnTo>
                    <a:lnTo>
                      <a:pt x="180" y="151"/>
                    </a:lnTo>
                    <a:lnTo>
                      <a:pt x="191" y="157"/>
                    </a:lnTo>
                    <a:lnTo>
                      <a:pt x="203" y="163"/>
                    </a:lnTo>
                    <a:lnTo>
                      <a:pt x="214" y="170"/>
                    </a:lnTo>
                    <a:lnTo>
                      <a:pt x="222" y="180"/>
                    </a:lnTo>
                    <a:lnTo>
                      <a:pt x="230" y="188"/>
                    </a:lnTo>
                    <a:lnTo>
                      <a:pt x="235" y="199"/>
                    </a:lnTo>
                    <a:lnTo>
                      <a:pt x="239" y="211"/>
                    </a:lnTo>
                    <a:lnTo>
                      <a:pt x="241" y="222"/>
                    </a:lnTo>
                    <a:lnTo>
                      <a:pt x="242" y="234"/>
                    </a:lnTo>
                    <a:lnTo>
                      <a:pt x="241" y="247"/>
                    </a:lnTo>
                    <a:lnTo>
                      <a:pt x="239" y="259"/>
                    </a:lnTo>
                    <a:lnTo>
                      <a:pt x="235" y="271"/>
                    </a:lnTo>
                    <a:lnTo>
                      <a:pt x="229" y="283"/>
                    </a:lnTo>
                    <a:lnTo>
                      <a:pt x="221" y="293"/>
                    </a:lnTo>
                    <a:lnTo>
                      <a:pt x="212" y="303"/>
                    </a:lnTo>
                    <a:lnTo>
                      <a:pt x="201" y="310"/>
                    </a:lnTo>
                    <a:lnTo>
                      <a:pt x="188" y="318"/>
                    </a:lnTo>
                    <a:lnTo>
                      <a:pt x="176" y="323"/>
                    </a:lnTo>
                    <a:lnTo>
                      <a:pt x="161" y="327"/>
                    </a:lnTo>
                    <a:lnTo>
                      <a:pt x="146" y="329"/>
                    </a:lnTo>
                    <a:lnTo>
                      <a:pt x="130" y="330"/>
                    </a:lnTo>
                    <a:lnTo>
                      <a:pt x="110" y="329"/>
                    </a:lnTo>
                    <a:lnTo>
                      <a:pt x="92" y="327"/>
                    </a:lnTo>
                    <a:lnTo>
                      <a:pt x="75" y="323"/>
                    </a:lnTo>
                    <a:lnTo>
                      <a:pt x="60" y="318"/>
                    </a:lnTo>
                    <a:lnTo>
                      <a:pt x="54" y="314"/>
                    </a:lnTo>
                    <a:lnTo>
                      <a:pt x="48" y="310"/>
                    </a:lnTo>
                    <a:lnTo>
                      <a:pt x="41" y="306"/>
                    </a:lnTo>
                    <a:lnTo>
                      <a:pt x="36" y="302"/>
                    </a:lnTo>
                    <a:lnTo>
                      <a:pt x="31" y="296"/>
                    </a:lnTo>
                    <a:lnTo>
                      <a:pt x="25" y="291"/>
                    </a:lnTo>
                    <a:lnTo>
                      <a:pt x="21" y="286"/>
                    </a:lnTo>
                    <a:lnTo>
                      <a:pt x="17" y="280"/>
                    </a:lnTo>
                    <a:lnTo>
                      <a:pt x="9" y="267"/>
                    </a:lnTo>
                    <a:lnTo>
                      <a:pt x="5" y="252"/>
                    </a:lnTo>
                    <a:lnTo>
                      <a:pt x="1" y="237"/>
                    </a:lnTo>
                    <a:lnTo>
                      <a:pt x="0" y="222"/>
                    </a:lnTo>
                    <a:close/>
                  </a:path>
                </a:pathLst>
              </a:custGeom>
              <a:solidFill>
                <a:srgbClr val="1f1a17"/>
              </a:solidFill>
              <a:ln w="0">
                <a:noFill/>
              </a:ln>
            </p:spPr>
            <p:style>
              <a:lnRef idx="0"/>
              <a:fillRef idx="0"/>
              <a:effectRef idx="0"/>
              <a:fontRef idx="minor"/>
            </p:style>
            <p:txBody>
              <a:bodyPr lIns="90000" rIns="90000" tIns="720" bIns="720" anchor="t">
                <a:noAutofit/>
              </a:bodyPr>
              <a:p>
                <a:pPr>
                  <a:lnSpc>
                    <a:spcPct val="100000"/>
                  </a:lnSpc>
                </a:pPr>
                <a:endParaRPr b="0" lang="en-US" sz="1800" spc="-1" strike="noStrike">
                  <a:solidFill>
                    <a:srgbClr val="000000"/>
                  </a:solidFill>
                  <a:latin typeface="Arial"/>
                  <a:ea typeface="宋体"/>
                </a:endParaRPr>
              </a:p>
            </p:txBody>
          </p:sp>
          <p:sp>
            <p:nvSpPr>
              <p:cNvPr id="467" name="Freeform 65"/>
              <p:cNvSpPr/>
              <p:nvPr/>
            </p:nvSpPr>
            <p:spPr>
              <a:xfrm>
                <a:off x="4197960" y="1295280"/>
                <a:ext cx="35280" cy="44280"/>
              </a:xfrm>
              <a:custGeom>
                <a:avLst/>
                <a:gdLst>
                  <a:gd name="textAreaLeft" fmla="*/ 0 w 35280"/>
                  <a:gd name="textAreaRight" fmla="*/ 35640 w 35280"/>
                  <a:gd name="textAreaTop" fmla="*/ 0 h 44280"/>
                  <a:gd name="textAreaBottom" fmla="*/ 44640 h 44280"/>
                </a:gdLst>
                <a:ahLst/>
                <a:rect l="textAreaLeft" t="textAreaTop" r="textAreaRight" b="textAreaBottom"/>
                <a:pathLst>
                  <a:path w="239" h="325">
                    <a:moveTo>
                      <a:pt x="199" y="0"/>
                    </a:moveTo>
                    <a:lnTo>
                      <a:pt x="239" y="0"/>
                    </a:lnTo>
                    <a:lnTo>
                      <a:pt x="239" y="184"/>
                    </a:lnTo>
                    <a:lnTo>
                      <a:pt x="239" y="208"/>
                    </a:lnTo>
                    <a:lnTo>
                      <a:pt x="237" y="228"/>
                    </a:lnTo>
                    <a:lnTo>
                      <a:pt x="234" y="246"/>
                    </a:lnTo>
                    <a:lnTo>
                      <a:pt x="229" y="261"/>
                    </a:lnTo>
                    <a:lnTo>
                      <a:pt x="227" y="268"/>
                    </a:lnTo>
                    <a:lnTo>
                      <a:pt x="223" y="275"/>
                    </a:lnTo>
                    <a:lnTo>
                      <a:pt x="219" y="281"/>
                    </a:lnTo>
                    <a:lnTo>
                      <a:pt x="215" y="287"/>
                    </a:lnTo>
                    <a:lnTo>
                      <a:pt x="210" y="293"/>
                    </a:lnTo>
                    <a:lnTo>
                      <a:pt x="204" y="298"/>
                    </a:lnTo>
                    <a:lnTo>
                      <a:pt x="198" y="303"/>
                    </a:lnTo>
                    <a:lnTo>
                      <a:pt x="192" y="307"/>
                    </a:lnTo>
                    <a:lnTo>
                      <a:pt x="184" y="312"/>
                    </a:lnTo>
                    <a:lnTo>
                      <a:pt x="177" y="315"/>
                    </a:lnTo>
                    <a:lnTo>
                      <a:pt x="169" y="318"/>
                    </a:lnTo>
                    <a:lnTo>
                      <a:pt x="160" y="321"/>
                    </a:lnTo>
                    <a:lnTo>
                      <a:pt x="151" y="322"/>
                    </a:lnTo>
                    <a:lnTo>
                      <a:pt x="142" y="324"/>
                    </a:lnTo>
                    <a:lnTo>
                      <a:pt x="131" y="324"/>
                    </a:lnTo>
                    <a:lnTo>
                      <a:pt x="121" y="325"/>
                    </a:lnTo>
                    <a:lnTo>
                      <a:pt x="110" y="325"/>
                    </a:lnTo>
                    <a:lnTo>
                      <a:pt x="101" y="324"/>
                    </a:lnTo>
                    <a:lnTo>
                      <a:pt x="91" y="323"/>
                    </a:lnTo>
                    <a:lnTo>
                      <a:pt x="82" y="321"/>
                    </a:lnTo>
                    <a:lnTo>
                      <a:pt x="73" y="319"/>
                    </a:lnTo>
                    <a:lnTo>
                      <a:pt x="65" y="317"/>
                    </a:lnTo>
                    <a:lnTo>
                      <a:pt x="57" y="314"/>
                    </a:lnTo>
                    <a:lnTo>
                      <a:pt x="51" y="309"/>
                    </a:lnTo>
                    <a:lnTo>
                      <a:pt x="44" y="305"/>
                    </a:lnTo>
                    <a:lnTo>
                      <a:pt x="38" y="301"/>
                    </a:lnTo>
                    <a:lnTo>
                      <a:pt x="33" y="296"/>
                    </a:lnTo>
                    <a:lnTo>
                      <a:pt x="28" y="290"/>
                    </a:lnTo>
                    <a:lnTo>
                      <a:pt x="22" y="285"/>
                    </a:lnTo>
                    <a:lnTo>
                      <a:pt x="18" y="279"/>
                    </a:lnTo>
                    <a:lnTo>
                      <a:pt x="15" y="272"/>
                    </a:lnTo>
                    <a:lnTo>
                      <a:pt x="12" y="265"/>
                    </a:lnTo>
                    <a:lnTo>
                      <a:pt x="6" y="249"/>
                    </a:lnTo>
                    <a:lnTo>
                      <a:pt x="3" y="230"/>
                    </a:lnTo>
                    <a:lnTo>
                      <a:pt x="1" y="209"/>
                    </a:lnTo>
                    <a:lnTo>
                      <a:pt x="0" y="184"/>
                    </a:lnTo>
                    <a:lnTo>
                      <a:pt x="0" y="0"/>
                    </a:lnTo>
                    <a:lnTo>
                      <a:pt x="40" y="0"/>
                    </a:lnTo>
                    <a:lnTo>
                      <a:pt x="40" y="184"/>
                    </a:lnTo>
                    <a:lnTo>
                      <a:pt x="41" y="204"/>
                    </a:lnTo>
                    <a:lnTo>
                      <a:pt x="42" y="220"/>
                    </a:lnTo>
                    <a:lnTo>
                      <a:pt x="44" y="234"/>
                    </a:lnTo>
                    <a:lnTo>
                      <a:pt x="48" y="246"/>
                    </a:lnTo>
                    <a:lnTo>
                      <a:pt x="52" y="255"/>
                    </a:lnTo>
                    <a:lnTo>
                      <a:pt x="58" y="263"/>
                    </a:lnTo>
                    <a:lnTo>
                      <a:pt x="65" y="270"/>
                    </a:lnTo>
                    <a:lnTo>
                      <a:pt x="73" y="277"/>
                    </a:lnTo>
                    <a:lnTo>
                      <a:pt x="83" y="281"/>
                    </a:lnTo>
                    <a:lnTo>
                      <a:pt x="93" y="284"/>
                    </a:lnTo>
                    <a:lnTo>
                      <a:pt x="105" y="286"/>
                    </a:lnTo>
                    <a:lnTo>
                      <a:pt x="116" y="287"/>
                    </a:lnTo>
                    <a:lnTo>
                      <a:pt x="128" y="286"/>
                    </a:lnTo>
                    <a:lnTo>
                      <a:pt x="138" y="286"/>
                    </a:lnTo>
                    <a:lnTo>
                      <a:pt x="147" y="284"/>
                    </a:lnTo>
                    <a:lnTo>
                      <a:pt x="155" y="282"/>
                    </a:lnTo>
                    <a:lnTo>
                      <a:pt x="163" y="279"/>
                    </a:lnTo>
                    <a:lnTo>
                      <a:pt x="169" y="276"/>
                    </a:lnTo>
                    <a:lnTo>
                      <a:pt x="176" y="270"/>
                    </a:lnTo>
                    <a:lnTo>
                      <a:pt x="180" y="266"/>
                    </a:lnTo>
                    <a:lnTo>
                      <a:pt x="185" y="260"/>
                    </a:lnTo>
                    <a:lnTo>
                      <a:pt x="189" y="252"/>
                    </a:lnTo>
                    <a:lnTo>
                      <a:pt x="192" y="245"/>
                    </a:lnTo>
                    <a:lnTo>
                      <a:pt x="195" y="235"/>
                    </a:lnTo>
                    <a:lnTo>
                      <a:pt x="197" y="224"/>
                    </a:lnTo>
                    <a:lnTo>
                      <a:pt x="198" y="212"/>
                    </a:lnTo>
                    <a:lnTo>
                      <a:pt x="199" y="199"/>
                    </a:lnTo>
                    <a:lnTo>
                      <a:pt x="199" y="184"/>
                    </a:lnTo>
                    <a:lnTo>
                      <a:pt x="199" y="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468" name="Freeform 66"/>
              <p:cNvSpPr/>
              <p:nvPr/>
            </p:nvSpPr>
            <p:spPr>
              <a:xfrm>
                <a:off x="4246920" y="1295280"/>
                <a:ext cx="27720" cy="44280"/>
              </a:xfrm>
              <a:custGeom>
                <a:avLst/>
                <a:gdLst>
                  <a:gd name="textAreaLeft" fmla="*/ 0 w 27720"/>
                  <a:gd name="textAreaRight" fmla="*/ 28080 w 27720"/>
                  <a:gd name="textAreaTop" fmla="*/ 0 h 44280"/>
                  <a:gd name="textAreaBottom" fmla="*/ 44640 h 44280"/>
                </a:gdLst>
                <a:ahLst/>
                <a:rect l="textAreaLeft" t="textAreaTop" r="textAreaRight" b="textAreaBottom"/>
                <a:pathLst>
                  <a:path w="191" h="320">
                    <a:moveTo>
                      <a:pt x="0" y="320"/>
                    </a:moveTo>
                    <a:lnTo>
                      <a:pt x="0" y="0"/>
                    </a:lnTo>
                    <a:lnTo>
                      <a:pt x="41" y="0"/>
                    </a:lnTo>
                    <a:lnTo>
                      <a:pt x="41" y="282"/>
                    </a:lnTo>
                    <a:lnTo>
                      <a:pt x="191" y="282"/>
                    </a:lnTo>
                    <a:lnTo>
                      <a:pt x="191" y="320"/>
                    </a:lnTo>
                    <a:lnTo>
                      <a:pt x="0" y="32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469" name="Freeform 67"/>
              <p:cNvSpPr/>
              <p:nvPr/>
            </p:nvSpPr>
            <p:spPr>
              <a:xfrm>
                <a:off x="4278240" y="1295280"/>
                <a:ext cx="36000" cy="44280"/>
              </a:xfrm>
              <a:custGeom>
                <a:avLst/>
                <a:gdLst>
                  <a:gd name="textAreaLeft" fmla="*/ 0 w 36000"/>
                  <a:gd name="textAreaRight" fmla="*/ 36360 w 36000"/>
                  <a:gd name="textAreaTop" fmla="*/ 0 h 44280"/>
                  <a:gd name="textAreaBottom" fmla="*/ 44640 h 44280"/>
                </a:gdLst>
                <a:ahLst/>
                <a:rect l="textAreaLeft" t="textAreaTop" r="textAreaRight" b="textAreaBottom"/>
                <a:pathLst>
                  <a:path w="242" h="320">
                    <a:moveTo>
                      <a:pt x="101" y="320"/>
                    </a:moveTo>
                    <a:lnTo>
                      <a:pt x="101" y="37"/>
                    </a:lnTo>
                    <a:lnTo>
                      <a:pt x="0" y="37"/>
                    </a:lnTo>
                    <a:lnTo>
                      <a:pt x="0" y="0"/>
                    </a:lnTo>
                    <a:lnTo>
                      <a:pt x="242" y="0"/>
                    </a:lnTo>
                    <a:lnTo>
                      <a:pt x="242" y="37"/>
                    </a:lnTo>
                    <a:lnTo>
                      <a:pt x="141" y="37"/>
                    </a:lnTo>
                    <a:lnTo>
                      <a:pt x="141" y="320"/>
                    </a:lnTo>
                    <a:lnTo>
                      <a:pt x="101" y="32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470" name="Rectangle 68"/>
              <p:cNvSpPr/>
              <p:nvPr/>
            </p:nvSpPr>
            <p:spPr>
              <a:xfrm>
                <a:off x="4325400" y="1295280"/>
                <a:ext cx="5760" cy="44280"/>
              </a:xfrm>
              <a:prstGeom prst="rect">
                <a:avLst/>
              </a:pr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471" name="Freeform 69"/>
              <p:cNvSpPr/>
              <p:nvPr/>
            </p:nvSpPr>
            <p:spPr>
              <a:xfrm>
                <a:off x="4346280" y="1295280"/>
                <a:ext cx="35280" cy="44280"/>
              </a:xfrm>
              <a:custGeom>
                <a:avLst/>
                <a:gdLst>
                  <a:gd name="textAreaLeft" fmla="*/ 0 w 35280"/>
                  <a:gd name="textAreaRight" fmla="*/ 35640 w 35280"/>
                  <a:gd name="textAreaTop" fmla="*/ 0 h 44280"/>
                  <a:gd name="textAreaBottom" fmla="*/ 44640 h 44280"/>
                </a:gdLst>
                <a:ahLst/>
                <a:rect l="textAreaLeft" t="textAreaTop" r="textAreaRight" b="textAreaBottom"/>
                <a:pathLst>
                  <a:path w="241" h="320">
                    <a:moveTo>
                      <a:pt x="0" y="320"/>
                    </a:moveTo>
                    <a:lnTo>
                      <a:pt x="0" y="0"/>
                    </a:lnTo>
                    <a:lnTo>
                      <a:pt x="42" y="0"/>
                    </a:lnTo>
                    <a:lnTo>
                      <a:pt x="202" y="251"/>
                    </a:lnTo>
                    <a:lnTo>
                      <a:pt x="202" y="0"/>
                    </a:lnTo>
                    <a:lnTo>
                      <a:pt x="241" y="0"/>
                    </a:lnTo>
                    <a:lnTo>
                      <a:pt x="241" y="320"/>
                    </a:lnTo>
                    <a:lnTo>
                      <a:pt x="200" y="320"/>
                    </a:lnTo>
                    <a:lnTo>
                      <a:pt x="40" y="68"/>
                    </a:lnTo>
                    <a:lnTo>
                      <a:pt x="40" y="320"/>
                    </a:lnTo>
                    <a:lnTo>
                      <a:pt x="0" y="32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472" name="Freeform 70"/>
              <p:cNvSpPr/>
              <p:nvPr/>
            </p:nvSpPr>
            <p:spPr>
              <a:xfrm>
                <a:off x="4394160" y="1294560"/>
                <a:ext cx="41400" cy="45360"/>
              </a:xfrm>
              <a:custGeom>
                <a:avLst/>
                <a:gdLst>
                  <a:gd name="textAreaLeft" fmla="*/ 0 w 41400"/>
                  <a:gd name="textAreaRight" fmla="*/ 41760 w 41400"/>
                  <a:gd name="textAreaTop" fmla="*/ 0 h 45360"/>
                  <a:gd name="textAreaBottom" fmla="*/ 45720 h 45360"/>
                </a:gdLst>
                <a:ahLst/>
                <a:rect l="textAreaLeft" t="textAreaTop" r="textAreaRight" b="textAreaBottom"/>
                <a:pathLst>
                  <a:path w="282" h="330">
                    <a:moveTo>
                      <a:pt x="154" y="199"/>
                    </a:moveTo>
                    <a:lnTo>
                      <a:pt x="154" y="162"/>
                    </a:lnTo>
                    <a:lnTo>
                      <a:pt x="282" y="162"/>
                    </a:lnTo>
                    <a:lnTo>
                      <a:pt x="282" y="281"/>
                    </a:lnTo>
                    <a:lnTo>
                      <a:pt x="267" y="292"/>
                    </a:lnTo>
                    <a:lnTo>
                      <a:pt x="253" y="302"/>
                    </a:lnTo>
                    <a:lnTo>
                      <a:pt x="237" y="310"/>
                    </a:lnTo>
                    <a:lnTo>
                      <a:pt x="222" y="318"/>
                    </a:lnTo>
                    <a:lnTo>
                      <a:pt x="206" y="323"/>
                    </a:lnTo>
                    <a:lnTo>
                      <a:pt x="189" y="327"/>
                    </a:lnTo>
                    <a:lnTo>
                      <a:pt x="173" y="329"/>
                    </a:lnTo>
                    <a:lnTo>
                      <a:pt x="156" y="330"/>
                    </a:lnTo>
                    <a:lnTo>
                      <a:pt x="146" y="329"/>
                    </a:lnTo>
                    <a:lnTo>
                      <a:pt x="135" y="329"/>
                    </a:lnTo>
                    <a:lnTo>
                      <a:pt x="124" y="327"/>
                    </a:lnTo>
                    <a:lnTo>
                      <a:pt x="114" y="325"/>
                    </a:lnTo>
                    <a:lnTo>
                      <a:pt x="103" y="322"/>
                    </a:lnTo>
                    <a:lnTo>
                      <a:pt x="94" y="319"/>
                    </a:lnTo>
                    <a:lnTo>
                      <a:pt x="84" y="314"/>
                    </a:lnTo>
                    <a:lnTo>
                      <a:pt x="75" y="310"/>
                    </a:lnTo>
                    <a:lnTo>
                      <a:pt x="66" y="305"/>
                    </a:lnTo>
                    <a:lnTo>
                      <a:pt x="58" y="299"/>
                    </a:lnTo>
                    <a:lnTo>
                      <a:pt x="50" y="292"/>
                    </a:lnTo>
                    <a:lnTo>
                      <a:pt x="43" y="285"/>
                    </a:lnTo>
                    <a:lnTo>
                      <a:pt x="37" y="277"/>
                    </a:lnTo>
                    <a:lnTo>
                      <a:pt x="30" y="270"/>
                    </a:lnTo>
                    <a:lnTo>
                      <a:pt x="25" y="260"/>
                    </a:lnTo>
                    <a:lnTo>
                      <a:pt x="20" y="252"/>
                    </a:lnTo>
                    <a:lnTo>
                      <a:pt x="15" y="242"/>
                    </a:lnTo>
                    <a:lnTo>
                      <a:pt x="11" y="232"/>
                    </a:lnTo>
                    <a:lnTo>
                      <a:pt x="8" y="221"/>
                    </a:lnTo>
                    <a:lnTo>
                      <a:pt x="6" y="212"/>
                    </a:lnTo>
                    <a:lnTo>
                      <a:pt x="4" y="200"/>
                    </a:lnTo>
                    <a:lnTo>
                      <a:pt x="2" y="189"/>
                    </a:lnTo>
                    <a:lnTo>
                      <a:pt x="2" y="178"/>
                    </a:lnTo>
                    <a:lnTo>
                      <a:pt x="0" y="166"/>
                    </a:lnTo>
                    <a:lnTo>
                      <a:pt x="2" y="154"/>
                    </a:lnTo>
                    <a:lnTo>
                      <a:pt x="2" y="143"/>
                    </a:lnTo>
                    <a:lnTo>
                      <a:pt x="4" y="132"/>
                    </a:lnTo>
                    <a:lnTo>
                      <a:pt x="6" y="122"/>
                    </a:lnTo>
                    <a:lnTo>
                      <a:pt x="8" y="110"/>
                    </a:lnTo>
                    <a:lnTo>
                      <a:pt x="11" y="99"/>
                    </a:lnTo>
                    <a:lnTo>
                      <a:pt x="15" y="90"/>
                    </a:lnTo>
                    <a:lnTo>
                      <a:pt x="20" y="79"/>
                    </a:lnTo>
                    <a:lnTo>
                      <a:pt x="25" y="70"/>
                    </a:lnTo>
                    <a:lnTo>
                      <a:pt x="30" y="60"/>
                    </a:lnTo>
                    <a:lnTo>
                      <a:pt x="35" y="52"/>
                    </a:lnTo>
                    <a:lnTo>
                      <a:pt x="42" y="44"/>
                    </a:lnTo>
                    <a:lnTo>
                      <a:pt x="49" y="37"/>
                    </a:lnTo>
                    <a:lnTo>
                      <a:pt x="57" y="30"/>
                    </a:lnTo>
                    <a:lnTo>
                      <a:pt x="64" y="24"/>
                    </a:lnTo>
                    <a:lnTo>
                      <a:pt x="73" y="19"/>
                    </a:lnTo>
                    <a:lnTo>
                      <a:pt x="82" y="15"/>
                    </a:lnTo>
                    <a:lnTo>
                      <a:pt x="92" y="10"/>
                    </a:lnTo>
                    <a:lnTo>
                      <a:pt x="101" y="7"/>
                    </a:lnTo>
                    <a:lnTo>
                      <a:pt x="111" y="4"/>
                    </a:lnTo>
                    <a:lnTo>
                      <a:pt x="121" y="2"/>
                    </a:lnTo>
                    <a:lnTo>
                      <a:pt x="132" y="1"/>
                    </a:lnTo>
                    <a:lnTo>
                      <a:pt x="142" y="0"/>
                    </a:lnTo>
                    <a:lnTo>
                      <a:pt x="153" y="0"/>
                    </a:lnTo>
                    <a:lnTo>
                      <a:pt x="170" y="0"/>
                    </a:lnTo>
                    <a:lnTo>
                      <a:pt x="185" y="2"/>
                    </a:lnTo>
                    <a:lnTo>
                      <a:pt x="200" y="6"/>
                    </a:lnTo>
                    <a:lnTo>
                      <a:pt x="213" y="10"/>
                    </a:lnTo>
                    <a:lnTo>
                      <a:pt x="226" y="17"/>
                    </a:lnTo>
                    <a:lnTo>
                      <a:pt x="237" y="24"/>
                    </a:lnTo>
                    <a:lnTo>
                      <a:pt x="246" y="33"/>
                    </a:lnTo>
                    <a:lnTo>
                      <a:pt x="255" y="42"/>
                    </a:lnTo>
                    <a:lnTo>
                      <a:pt x="262" y="53"/>
                    </a:lnTo>
                    <a:lnTo>
                      <a:pt x="268" y="65"/>
                    </a:lnTo>
                    <a:lnTo>
                      <a:pt x="274" y="79"/>
                    </a:lnTo>
                    <a:lnTo>
                      <a:pt x="278" y="94"/>
                    </a:lnTo>
                    <a:lnTo>
                      <a:pt x="242" y="105"/>
                    </a:lnTo>
                    <a:lnTo>
                      <a:pt x="238" y="93"/>
                    </a:lnTo>
                    <a:lnTo>
                      <a:pt x="234" y="82"/>
                    </a:lnTo>
                    <a:lnTo>
                      <a:pt x="229" y="74"/>
                    </a:lnTo>
                    <a:lnTo>
                      <a:pt x="225" y="67"/>
                    </a:lnTo>
                    <a:lnTo>
                      <a:pt x="219" y="60"/>
                    </a:lnTo>
                    <a:lnTo>
                      <a:pt x="212" y="54"/>
                    </a:lnTo>
                    <a:lnTo>
                      <a:pt x="205" y="48"/>
                    </a:lnTo>
                    <a:lnTo>
                      <a:pt x="195" y="44"/>
                    </a:lnTo>
                    <a:lnTo>
                      <a:pt x="186" y="40"/>
                    </a:lnTo>
                    <a:lnTo>
                      <a:pt x="175" y="38"/>
                    </a:lnTo>
                    <a:lnTo>
                      <a:pt x="165" y="36"/>
                    </a:lnTo>
                    <a:lnTo>
                      <a:pt x="154" y="36"/>
                    </a:lnTo>
                    <a:lnTo>
                      <a:pt x="140" y="36"/>
                    </a:lnTo>
                    <a:lnTo>
                      <a:pt x="128" y="38"/>
                    </a:lnTo>
                    <a:lnTo>
                      <a:pt x="116" y="41"/>
                    </a:lnTo>
                    <a:lnTo>
                      <a:pt x="105" y="44"/>
                    </a:lnTo>
                    <a:lnTo>
                      <a:pt x="96" y="50"/>
                    </a:lnTo>
                    <a:lnTo>
                      <a:pt x="87" y="55"/>
                    </a:lnTo>
                    <a:lnTo>
                      <a:pt x="80" y="61"/>
                    </a:lnTo>
                    <a:lnTo>
                      <a:pt x="74" y="68"/>
                    </a:lnTo>
                    <a:lnTo>
                      <a:pt x="67" y="75"/>
                    </a:lnTo>
                    <a:lnTo>
                      <a:pt x="62" y="82"/>
                    </a:lnTo>
                    <a:lnTo>
                      <a:pt x="58" y="91"/>
                    </a:lnTo>
                    <a:lnTo>
                      <a:pt x="55" y="99"/>
                    </a:lnTo>
                    <a:lnTo>
                      <a:pt x="49" y="114"/>
                    </a:lnTo>
                    <a:lnTo>
                      <a:pt x="45" y="130"/>
                    </a:lnTo>
                    <a:lnTo>
                      <a:pt x="43" y="147"/>
                    </a:lnTo>
                    <a:lnTo>
                      <a:pt x="43" y="164"/>
                    </a:lnTo>
                    <a:lnTo>
                      <a:pt x="43" y="184"/>
                    </a:lnTo>
                    <a:lnTo>
                      <a:pt x="46" y="203"/>
                    </a:lnTo>
                    <a:lnTo>
                      <a:pt x="48" y="212"/>
                    </a:lnTo>
                    <a:lnTo>
                      <a:pt x="50" y="220"/>
                    </a:lnTo>
                    <a:lnTo>
                      <a:pt x="53" y="228"/>
                    </a:lnTo>
                    <a:lnTo>
                      <a:pt x="57" y="235"/>
                    </a:lnTo>
                    <a:lnTo>
                      <a:pt x="60" y="242"/>
                    </a:lnTo>
                    <a:lnTo>
                      <a:pt x="64" y="249"/>
                    </a:lnTo>
                    <a:lnTo>
                      <a:pt x="68" y="255"/>
                    </a:lnTo>
                    <a:lnTo>
                      <a:pt x="74" y="260"/>
                    </a:lnTo>
                    <a:lnTo>
                      <a:pt x="79" y="266"/>
                    </a:lnTo>
                    <a:lnTo>
                      <a:pt x="85" y="270"/>
                    </a:lnTo>
                    <a:lnTo>
                      <a:pt x="91" y="274"/>
                    </a:lnTo>
                    <a:lnTo>
                      <a:pt x="97" y="278"/>
                    </a:lnTo>
                    <a:lnTo>
                      <a:pt x="111" y="284"/>
                    </a:lnTo>
                    <a:lnTo>
                      <a:pt x="124" y="288"/>
                    </a:lnTo>
                    <a:lnTo>
                      <a:pt x="139" y="291"/>
                    </a:lnTo>
                    <a:lnTo>
                      <a:pt x="154" y="292"/>
                    </a:lnTo>
                    <a:lnTo>
                      <a:pt x="167" y="291"/>
                    </a:lnTo>
                    <a:lnTo>
                      <a:pt x="181" y="289"/>
                    </a:lnTo>
                    <a:lnTo>
                      <a:pt x="193" y="286"/>
                    </a:lnTo>
                    <a:lnTo>
                      <a:pt x="205" y="282"/>
                    </a:lnTo>
                    <a:lnTo>
                      <a:pt x="217" y="276"/>
                    </a:lnTo>
                    <a:lnTo>
                      <a:pt x="227" y="270"/>
                    </a:lnTo>
                    <a:lnTo>
                      <a:pt x="236" y="265"/>
                    </a:lnTo>
                    <a:lnTo>
                      <a:pt x="243" y="258"/>
                    </a:lnTo>
                    <a:lnTo>
                      <a:pt x="243" y="199"/>
                    </a:lnTo>
                    <a:lnTo>
                      <a:pt x="154" y="199"/>
                    </a:lnTo>
                    <a:close/>
                  </a:path>
                </a:pathLst>
              </a:custGeom>
              <a:solidFill>
                <a:srgbClr val="1f1a17"/>
              </a:solidFill>
              <a:ln w="0">
                <a:noFill/>
              </a:ln>
            </p:spPr>
            <p:style>
              <a:lnRef idx="0"/>
              <a:fillRef idx="0"/>
              <a:effectRef idx="0"/>
              <a:fontRef idx="minor"/>
            </p:style>
            <p:txBody>
              <a:bodyPr lIns="90000" rIns="90000" tIns="720" bIns="720" anchor="t">
                <a:noAutofit/>
              </a:bodyPr>
              <a:p>
                <a:pPr>
                  <a:lnSpc>
                    <a:spcPct val="100000"/>
                  </a:lnSpc>
                </a:pPr>
                <a:endParaRPr b="0" lang="en-US" sz="1800" spc="-1" strike="noStrike">
                  <a:solidFill>
                    <a:srgbClr val="000000"/>
                  </a:solidFill>
                  <a:latin typeface="Arial"/>
                  <a:ea typeface="宋体"/>
                </a:endParaRPr>
              </a:p>
            </p:txBody>
          </p:sp>
          <p:sp>
            <p:nvSpPr>
              <p:cNvPr id="473" name="Freeform 71"/>
              <p:cNvSpPr/>
              <p:nvPr/>
            </p:nvSpPr>
            <p:spPr>
              <a:xfrm>
                <a:off x="4466160" y="1294560"/>
                <a:ext cx="39240" cy="45360"/>
              </a:xfrm>
              <a:custGeom>
                <a:avLst/>
                <a:gdLst>
                  <a:gd name="textAreaLeft" fmla="*/ 0 w 39240"/>
                  <a:gd name="textAreaRight" fmla="*/ 39600 w 39240"/>
                  <a:gd name="textAreaTop" fmla="*/ 0 h 45360"/>
                  <a:gd name="textAreaBottom" fmla="*/ 45720 h 45360"/>
                </a:gdLst>
                <a:ahLst/>
                <a:rect l="textAreaLeft" t="textAreaTop" r="textAreaRight" b="textAreaBottom"/>
                <a:pathLst>
                  <a:path w="270" h="330">
                    <a:moveTo>
                      <a:pt x="229" y="213"/>
                    </a:moveTo>
                    <a:lnTo>
                      <a:pt x="270" y="223"/>
                    </a:lnTo>
                    <a:lnTo>
                      <a:pt x="266" y="236"/>
                    </a:lnTo>
                    <a:lnTo>
                      <a:pt x="262" y="248"/>
                    </a:lnTo>
                    <a:lnTo>
                      <a:pt x="257" y="258"/>
                    </a:lnTo>
                    <a:lnTo>
                      <a:pt x="252" y="269"/>
                    </a:lnTo>
                    <a:lnTo>
                      <a:pt x="246" y="278"/>
                    </a:lnTo>
                    <a:lnTo>
                      <a:pt x="239" y="288"/>
                    </a:lnTo>
                    <a:lnTo>
                      <a:pt x="231" y="295"/>
                    </a:lnTo>
                    <a:lnTo>
                      <a:pt x="224" y="303"/>
                    </a:lnTo>
                    <a:lnTo>
                      <a:pt x="216" y="309"/>
                    </a:lnTo>
                    <a:lnTo>
                      <a:pt x="207" y="314"/>
                    </a:lnTo>
                    <a:lnTo>
                      <a:pt x="197" y="320"/>
                    </a:lnTo>
                    <a:lnTo>
                      <a:pt x="187" y="323"/>
                    </a:lnTo>
                    <a:lnTo>
                      <a:pt x="177" y="326"/>
                    </a:lnTo>
                    <a:lnTo>
                      <a:pt x="166" y="328"/>
                    </a:lnTo>
                    <a:lnTo>
                      <a:pt x="155" y="329"/>
                    </a:lnTo>
                    <a:lnTo>
                      <a:pt x="143" y="330"/>
                    </a:lnTo>
                    <a:lnTo>
                      <a:pt x="131" y="329"/>
                    </a:lnTo>
                    <a:lnTo>
                      <a:pt x="120" y="329"/>
                    </a:lnTo>
                    <a:lnTo>
                      <a:pt x="109" y="327"/>
                    </a:lnTo>
                    <a:lnTo>
                      <a:pt x="99" y="325"/>
                    </a:lnTo>
                    <a:lnTo>
                      <a:pt x="89" y="322"/>
                    </a:lnTo>
                    <a:lnTo>
                      <a:pt x="80" y="319"/>
                    </a:lnTo>
                    <a:lnTo>
                      <a:pt x="71" y="314"/>
                    </a:lnTo>
                    <a:lnTo>
                      <a:pt x="63" y="309"/>
                    </a:lnTo>
                    <a:lnTo>
                      <a:pt x="56" y="304"/>
                    </a:lnTo>
                    <a:lnTo>
                      <a:pt x="49" y="298"/>
                    </a:lnTo>
                    <a:lnTo>
                      <a:pt x="42" y="290"/>
                    </a:lnTo>
                    <a:lnTo>
                      <a:pt x="36" y="284"/>
                    </a:lnTo>
                    <a:lnTo>
                      <a:pt x="30" y="275"/>
                    </a:lnTo>
                    <a:lnTo>
                      <a:pt x="25" y="267"/>
                    </a:lnTo>
                    <a:lnTo>
                      <a:pt x="21" y="257"/>
                    </a:lnTo>
                    <a:lnTo>
                      <a:pt x="16" y="248"/>
                    </a:lnTo>
                    <a:lnTo>
                      <a:pt x="12" y="238"/>
                    </a:lnTo>
                    <a:lnTo>
                      <a:pt x="9" y="228"/>
                    </a:lnTo>
                    <a:lnTo>
                      <a:pt x="7" y="217"/>
                    </a:lnTo>
                    <a:lnTo>
                      <a:pt x="5" y="206"/>
                    </a:lnTo>
                    <a:lnTo>
                      <a:pt x="3" y="196"/>
                    </a:lnTo>
                    <a:lnTo>
                      <a:pt x="2" y="185"/>
                    </a:lnTo>
                    <a:lnTo>
                      <a:pt x="0" y="174"/>
                    </a:lnTo>
                    <a:lnTo>
                      <a:pt x="0" y="162"/>
                    </a:lnTo>
                    <a:lnTo>
                      <a:pt x="0" y="150"/>
                    </a:lnTo>
                    <a:lnTo>
                      <a:pt x="2" y="139"/>
                    </a:lnTo>
                    <a:lnTo>
                      <a:pt x="3" y="127"/>
                    </a:lnTo>
                    <a:lnTo>
                      <a:pt x="5" y="115"/>
                    </a:lnTo>
                    <a:lnTo>
                      <a:pt x="7" y="105"/>
                    </a:lnTo>
                    <a:lnTo>
                      <a:pt x="10" y="95"/>
                    </a:lnTo>
                    <a:lnTo>
                      <a:pt x="14" y="85"/>
                    </a:lnTo>
                    <a:lnTo>
                      <a:pt x="18" y="75"/>
                    </a:lnTo>
                    <a:lnTo>
                      <a:pt x="23" y="67"/>
                    </a:lnTo>
                    <a:lnTo>
                      <a:pt x="28" y="58"/>
                    </a:lnTo>
                    <a:lnTo>
                      <a:pt x="34" y="50"/>
                    </a:lnTo>
                    <a:lnTo>
                      <a:pt x="41" y="42"/>
                    </a:lnTo>
                    <a:lnTo>
                      <a:pt x="47" y="36"/>
                    </a:lnTo>
                    <a:lnTo>
                      <a:pt x="55" y="29"/>
                    </a:lnTo>
                    <a:lnTo>
                      <a:pt x="62" y="24"/>
                    </a:lnTo>
                    <a:lnTo>
                      <a:pt x="70" y="19"/>
                    </a:lnTo>
                    <a:lnTo>
                      <a:pt x="79" y="15"/>
                    </a:lnTo>
                    <a:lnTo>
                      <a:pt x="87" y="10"/>
                    </a:lnTo>
                    <a:lnTo>
                      <a:pt x="96" y="7"/>
                    </a:lnTo>
                    <a:lnTo>
                      <a:pt x="105" y="4"/>
                    </a:lnTo>
                    <a:lnTo>
                      <a:pt x="115" y="2"/>
                    </a:lnTo>
                    <a:lnTo>
                      <a:pt x="124" y="1"/>
                    </a:lnTo>
                    <a:lnTo>
                      <a:pt x="134" y="0"/>
                    </a:lnTo>
                    <a:lnTo>
                      <a:pt x="143" y="0"/>
                    </a:lnTo>
                    <a:lnTo>
                      <a:pt x="155" y="0"/>
                    </a:lnTo>
                    <a:lnTo>
                      <a:pt x="166" y="1"/>
                    </a:lnTo>
                    <a:lnTo>
                      <a:pt x="176" y="3"/>
                    </a:lnTo>
                    <a:lnTo>
                      <a:pt x="186" y="5"/>
                    </a:lnTo>
                    <a:lnTo>
                      <a:pt x="195" y="9"/>
                    </a:lnTo>
                    <a:lnTo>
                      <a:pt x="204" y="14"/>
                    </a:lnTo>
                    <a:lnTo>
                      <a:pt x="212" y="18"/>
                    </a:lnTo>
                    <a:lnTo>
                      <a:pt x="221" y="24"/>
                    </a:lnTo>
                    <a:lnTo>
                      <a:pt x="228" y="30"/>
                    </a:lnTo>
                    <a:lnTo>
                      <a:pt x="236" y="37"/>
                    </a:lnTo>
                    <a:lnTo>
                      <a:pt x="242" y="45"/>
                    </a:lnTo>
                    <a:lnTo>
                      <a:pt x="247" y="53"/>
                    </a:lnTo>
                    <a:lnTo>
                      <a:pt x="253" y="62"/>
                    </a:lnTo>
                    <a:lnTo>
                      <a:pt x="257" y="72"/>
                    </a:lnTo>
                    <a:lnTo>
                      <a:pt x="261" y="81"/>
                    </a:lnTo>
                    <a:lnTo>
                      <a:pt x="264" y="93"/>
                    </a:lnTo>
                    <a:lnTo>
                      <a:pt x="225" y="103"/>
                    </a:lnTo>
                    <a:lnTo>
                      <a:pt x="219" y="86"/>
                    </a:lnTo>
                    <a:lnTo>
                      <a:pt x="211" y="72"/>
                    </a:lnTo>
                    <a:lnTo>
                      <a:pt x="208" y="67"/>
                    </a:lnTo>
                    <a:lnTo>
                      <a:pt x="203" y="61"/>
                    </a:lnTo>
                    <a:lnTo>
                      <a:pt x="199" y="56"/>
                    </a:lnTo>
                    <a:lnTo>
                      <a:pt x="194" y="52"/>
                    </a:lnTo>
                    <a:lnTo>
                      <a:pt x="189" y="47"/>
                    </a:lnTo>
                    <a:lnTo>
                      <a:pt x="183" y="44"/>
                    </a:lnTo>
                    <a:lnTo>
                      <a:pt x="177" y="42"/>
                    </a:lnTo>
                    <a:lnTo>
                      <a:pt x="171" y="40"/>
                    </a:lnTo>
                    <a:lnTo>
                      <a:pt x="165" y="38"/>
                    </a:lnTo>
                    <a:lnTo>
                      <a:pt x="157" y="37"/>
                    </a:lnTo>
                    <a:lnTo>
                      <a:pt x="151" y="36"/>
                    </a:lnTo>
                    <a:lnTo>
                      <a:pt x="143" y="36"/>
                    </a:lnTo>
                    <a:lnTo>
                      <a:pt x="135" y="36"/>
                    </a:lnTo>
                    <a:lnTo>
                      <a:pt x="127" y="37"/>
                    </a:lnTo>
                    <a:lnTo>
                      <a:pt x="118" y="38"/>
                    </a:lnTo>
                    <a:lnTo>
                      <a:pt x="111" y="40"/>
                    </a:lnTo>
                    <a:lnTo>
                      <a:pt x="103" y="42"/>
                    </a:lnTo>
                    <a:lnTo>
                      <a:pt x="97" y="45"/>
                    </a:lnTo>
                    <a:lnTo>
                      <a:pt x="91" y="50"/>
                    </a:lnTo>
                    <a:lnTo>
                      <a:pt x="84" y="53"/>
                    </a:lnTo>
                    <a:lnTo>
                      <a:pt x="79" y="58"/>
                    </a:lnTo>
                    <a:lnTo>
                      <a:pt x="74" y="63"/>
                    </a:lnTo>
                    <a:lnTo>
                      <a:pt x="68" y="69"/>
                    </a:lnTo>
                    <a:lnTo>
                      <a:pt x="64" y="74"/>
                    </a:lnTo>
                    <a:lnTo>
                      <a:pt x="61" y="80"/>
                    </a:lnTo>
                    <a:lnTo>
                      <a:pt x="57" y="87"/>
                    </a:lnTo>
                    <a:lnTo>
                      <a:pt x="53" y="93"/>
                    </a:lnTo>
                    <a:lnTo>
                      <a:pt x="51" y="100"/>
                    </a:lnTo>
                    <a:lnTo>
                      <a:pt x="47" y="115"/>
                    </a:lnTo>
                    <a:lnTo>
                      <a:pt x="44" y="131"/>
                    </a:lnTo>
                    <a:lnTo>
                      <a:pt x="42" y="146"/>
                    </a:lnTo>
                    <a:lnTo>
                      <a:pt x="42" y="162"/>
                    </a:lnTo>
                    <a:lnTo>
                      <a:pt x="43" y="182"/>
                    </a:lnTo>
                    <a:lnTo>
                      <a:pt x="45" y="200"/>
                    </a:lnTo>
                    <a:lnTo>
                      <a:pt x="48" y="217"/>
                    </a:lnTo>
                    <a:lnTo>
                      <a:pt x="53" y="233"/>
                    </a:lnTo>
                    <a:lnTo>
                      <a:pt x="56" y="240"/>
                    </a:lnTo>
                    <a:lnTo>
                      <a:pt x="60" y="248"/>
                    </a:lnTo>
                    <a:lnTo>
                      <a:pt x="63" y="254"/>
                    </a:lnTo>
                    <a:lnTo>
                      <a:pt x="67" y="260"/>
                    </a:lnTo>
                    <a:lnTo>
                      <a:pt x="73" y="266"/>
                    </a:lnTo>
                    <a:lnTo>
                      <a:pt x="77" y="270"/>
                    </a:lnTo>
                    <a:lnTo>
                      <a:pt x="82" y="275"/>
                    </a:lnTo>
                    <a:lnTo>
                      <a:pt x="88" y="278"/>
                    </a:lnTo>
                    <a:lnTo>
                      <a:pt x="100" y="286"/>
                    </a:lnTo>
                    <a:lnTo>
                      <a:pt x="113" y="290"/>
                    </a:lnTo>
                    <a:lnTo>
                      <a:pt x="127" y="293"/>
                    </a:lnTo>
                    <a:lnTo>
                      <a:pt x="140" y="294"/>
                    </a:lnTo>
                    <a:lnTo>
                      <a:pt x="149" y="293"/>
                    </a:lnTo>
                    <a:lnTo>
                      <a:pt x="156" y="292"/>
                    </a:lnTo>
                    <a:lnTo>
                      <a:pt x="164" y="291"/>
                    </a:lnTo>
                    <a:lnTo>
                      <a:pt x="171" y="289"/>
                    </a:lnTo>
                    <a:lnTo>
                      <a:pt x="178" y="286"/>
                    </a:lnTo>
                    <a:lnTo>
                      <a:pt x="185" y="283"/>
                    </a:lnTo>
                    <a:lnTo>
                      <a:pt x="191" y="278"/>
                    </a:lnTo>
                    <a:lnTo>
                      <a:pt x="197" y="273"/>
                    </a:lnTo>
                    <a:lnTo>
                      <a:pt x="203" y="268"/>
                    </a:lnTo>
                    <a:lnTo>
                      <a:pt x="208" y="261"/>
                    </a:lnTo>
                    <a:lnTo>
                      <a:pt x="212" y="255"/>
                    </a:lnTo>
                    <a:lnTo>
                      <a:pt x="217" y="248"/>
                    </a:lnTo>
                    <a:lnTo>
                      <a:pt x="221" y="240"/>
                    </a:lnTo>
                    <a:lnTo>
                      <a:pt x="224" y="232"/>
                    </a:lnTo>
                    <a:lnTo>
                      <a:pt x="227" y="222"/>
                    </a:lnTo>
                    <a:lnTo>
                      <a:pt x="229" y="213"/>
                    </a:lnTo>
                    <a:close/>
                  </a:path>
                </a:pathLst>
              </a:custGeom>
              <a:solidFill>
                <a:srgbClr val="1f1a17"/>
              </a:solidFill>
              <a:ln w="0">
                <a:noFill/>
              </a:ln>
            </p:spPr>
            <p:style>
              <a:lnRef idx="0"/>
              <a:fillRef idx="0"/>
              <a:effectRef idx="0"/>
              <a:fontRef idx="minor"/>
            </p:style>
            <p:txBody>
              <a:bodyPr lIns="90000" rIns="90000" tIns="720" bIns="720" anchor="t">
                <a:noAutofit/>
              </a:bodyPr>
              <a:p>
                <a:pPr>
                  <a:lnSpc>
                    <a:spcPct val="100000"/>
                  </a:lnSpc>
                </a:pPr>
                <a:endParaRPr b="0" lang="en-US" sz="1800" spc="-1" strike="noStrike">
                  <a:solidFill>
                    <a:srgbClr val="000000"/>
                  </a:solidFill>
                  <a:latin typeface="Arial"/>
                  <a:ea typeface="宋体"/>
                </a:endParaRPr>
              </a:p>
            </p:txBody>
          </p:sp>
          <p:sp>
            <p:nvSpPr>
              <p:cNvPr id="474" name="Freeform 72"/>
              <p:cNvSpPr/>
              <p:nvPr/>
            </p:nvSpPr>
            <p:spPr>
              <a:xfrm>
                <a:off x="4515480" y="1294560"/>
                <a:ext cx="43560" cy="45360"/>
              </a:xfrm>
              <a:custGeom>
                <a:avLst/>
                <a:gdLst>
                  <a:gd name="textAreaLeft" fmla="*/ 0 w 43560"/>
                  <a:gd name="textAreaRight" fmla="*/ 43920 w 43560"/>
                  <a:gd name="textAreaTop" fmla="*/ 0 h 45360"/>
                  <a:gd name="textAreaBottom" fmla="*/ 45720 h 45360"/>
                </a:gdLst>
                <a:ahLst/>
                <a:rect l="textAreaLeft" t="textAreaTop" r="textAreaRight" b="textAreaBottom"/>
                <a:pathLst>
                  <a:path w="291" h="331">
                    <a:moveTo>
                      <a:pt x="0" y="170"/>
                    </a:moveTo>
                    <a:lnTo>
                      <a:pt x="0" y="150"/>
                    </a:lnTo>
                    <a:lnTo>
                      <a:pt x="2" y="132"/>
                    </a:lnTo>
                    <a:lnTo>
                      <a:pt x="5" y="115"/>
                    </a:lnTo>
                    <a:lnTo>
                      <a:pt x="10" y="99"/>
                    </a:lnTo>
                    <a:lnTo>
                      <a:pt x="16" y="83"/>
                    </a:lnTo>
                    <a:lnTo>
                      <a:pt x="22" y="70"/>
                    </a:lnTo>
                    <a:lnTo>
                      <a:pt x="31" y="57"/>
                    </a:lnTo>
                    <a:lnTo>
                      <a:pt x="40" y="45"/>
                    </a:lnTo>
                    <a:lnTo>
                      <a:pt x="51" y="35"/>
                    </a:lnTo>
                    <a:lnTo>
                      <a:pt x="63" y="25"/>
                    </a:lnTo>
                    <a:lnTo>
                      <a:pt x="74" y="18"/>
                    </a:lnTo>
                    <a:lnTo>
                      <a:pt x="87" y="11"/>
                    </a:lnTo>
                    <a:lnTo>
                      <a:pt x="101" y="6"/>
                    </a:lnTo>
                    <a:lnTo>
                      <a:pt x="114" y="3"/>
                    </a:lnTo>
                    <a:lnTo>
                      <a:pt x="129" y="1"/>
                    </a:lnTo>
                    <a:lnTo>
                      <a:pt x="145" y="0"/>
                    </a:lnTo>
                    <a:lnTo>
                      <a:pt x="156" y="1"/>
                    </a:lnTo>
                    <a:lnTo>
                      <a:pt x="166" y="2"/>
                    </a:lnTo>
                    <a:lnTo>
                      <a:pt x="176" y="3"/>
                    </a:lnTo>
                    <a:lnTo>
                      <a:pt x="185" y="5"/>
                    </a:lnTo>
                    <a:lnTo>
                      <a:pt x="195" y="8"/>
                    </a:lnTo>
                    <a:lnTo>
                      <a:pt x="204" y="12"/>
                    </a:lnTo>
                    <a:lnTo>
                      <a:pt x="213" y="17"/>
                    </a:lnTo>
                    <a:lnTo>
                      <a:pt x="221" y="21"/>
                    </a:lnTo>
                    <a:lnTo>
                      <a:pt x="230" y="27"/>
                    </a:lnTo>
                    <a:lnTo>
                      <a:pt x="237" y="33"/>
                    </a:lnTo>
                    <a:lnTo>
                      <a:pt x="245" y="40"/>
                    </a:lnTo>
                    <a:lnTo>
                      <a:pt x="251" y="46"/>
                    </a:lnTo>
                    <a:lnTo>
                      <a:pt x="257" y="55"/>
                    </a:lnTo>
                    <a:lnTo>
                      <a:pt x="264" y="62"/>
                    </a:lnTo>
                    <a:lnTo>
                      <a:pt x="268" y="71"/>
                    </a:lnTo>
                    <a:lnTo>
                      <a:pt x="273" y="80"/>
                    </a:lnTo>
                    <a:lnTo>
                      <a:pt x="278" y="90"/>
                    </a:lnTo>
                    <a:lnTo>
                      <a:pt x="281" y="100"/>
                    </a:lnTo>
                    <a:lnTo>
                      <a:pt x="284" y="110"/>
                    </a:lnTo>
                    <a:lnTo>
                      <a:pt x="286" y="120"/>
                    </a:lnTo>
                    <a:lnTo>
                      <a:pt x="288" y="131"/>
                    </a:lnTo>
                    <a:lnTo>
                      <a:pt x="290" y="143"/>
                    </a:lnTo>
                    <a:lnTo>
                      <a:pt x="290" y="154"/>
                    </a:lnTo>
                    <a:lnTo>
                      <a:pt x="291" y="166"/>
                    </a:lnTo>
                    <a:lnTo>
                      <a:pt x="290" y="178"/>
                    </a:lnTo>
                    <a:lnTo>
                      <a:pt x="290" y="189"/>
                    </a:lnTo>
                    <a:lnTo>
                      <a:pt x="288" y="201"/>
                    </a:lnTo>
                    <a:lnTo>
                      <a:pt x="286" y="213"/>
                    </a:lnTo>
                    <a:lnTo>
                      <a:pt x="284" y="223"/>
                    </a:lnTo>
                    <a:lnTo>
                      <a:pt x="281" y="234"/>
                    </a:lnTo>
                    <a:lnTo>
                      <a:pt x="277" y="243"/>
                    </a:lnTo>
                    <a:lnTo>
                      <a:pt x="272" y="253"/>
                    </a:lnTo>
                    <a:lnTo>
                      <a:pt x="267" y="262"/>
                    </a:lnTo>
                    <a:lnTo>
                      <a:pt x="262" y="271"/>
                    </a:lnTo>
                    <a:lnTo>
                      <a:pt x="256" y="279"/>
                    </a:lnTo>
                    <a:lnTo>
                      <a:pt x="250" y="287"/>
                    </a:lnTo>
                    <a:lnTo>
                      <a:pt x="243" y="294"/>
                    </a:lnTo>
                    <a:lnTo>
                      <a:pt x="235" y="301"/>
                    </a:lnTo>
                    <a:lnTo>
                      <a:pt x="228" y="306"/>
                    </a:lnTo>
                    <a:lnTo>
                      <a:pt x="219" y="311"/>
                    </a:lnTo>
                    <a:lnTo>
                      <a:pt x="211" y="315"/>
                    </a:lnTo>
                    <a:lnTo>
                      <a:pt x="201" y="320"/>
                    </a:lnTo>
                    <a:lnTo>
                      <a:pt x="193" y="323"/>
                    </a:lnTo>
                    <a:lnTo>
                      <a:pt x="183" y="326"/>
                    </a:lnTo>
                    <a:lnTo>
                      <a:pt x="174" y="328"/>
                    </a:lnTo>
                    <a:lnTo>
                      <a:pt x="165" y="330"/>
                    </a:lnTo>
                    <a:lnTo>
                      <a:pt x="155" y="330"/>
                    </a:lnTo>
                    <a:lnTo>
                      <a:pt x="145" y="331"/>
                    </a:lnTo>
                    <a:lnTo>
                      <a:pt x="135" y="330"/>
                    </a:lnTo>
                    <a:lnTo>
                      <a:pt x="124" y="329"/>
                    </a:lnTo>
                    <a:lnTo>
                      <a:pt x="114" y="328"/>
                    </a:lnTo>
                    <a:lnTo>
                      <a:pt x="105" y="326"/>
                    </a:lnTo>
                    <a:lnTo>
                      <a:pt x="95" y="323"/>
                    </a:lnTo>
                    <a:lnTo>
                      <a:pt x="86" y="319"/>
                    </a:lnTo>
                    <a:lnTo>
                      <a:pt x="77" y="314"/>
                    </a:lnTo>
                    <a:lnTo>
                      <a:pt x="69" y="309"/>
                    </a:lnTo>
                    <a:lnTo>
                      <a:pt x="60" y="304"/>
                    </a:lnTo>
                    <a:lnTo>
                      <a:pt x="52" y="297"/>
                    </a:lnTo>
                    <a:lnTo>
                      <a:pt x="46" y="291"/>
                    </a:lnTo>
                    <a:lnTo>
                      <a:pt x="38" y="284"/>
                    </a:lnTo>
                    <a:lnTo>
                      <a:pt x="33" y="276"/>
                    </a:lnTo>
                    <a:lnTo>
                      <a:pt x="27" y="268"/>
                    </a:lnTo>
                    <a:lnTo>
                      <a:pt x="21" y="259"/>
                    </a:lnTo>
                    <a:lnTo>
                      <a:pt x="17" y="250"/>
                    </a:lnTo>
                    <a:lnTo>
                      <a:pt x="13" y="240"/>
                    </a:lnTo>
                    <a:lnTo>
                      <a:pt x="10" y="231"/>
                    </a:lnTo>
                    <a:lnTo>
                      <a:pt x="6" y="221"/>
                    </a:lnTo>
                    <a:lnTo>
                      <a:pt x="4" y="211"/>
                    </a:lnTo>
                    <a:lnTo>
                      <a:pt x="2" y="201"/>
                    </a:lnTo>
                    <a:lnTo>
                      <a:pt x="1" y="190"/>
                    </a:lnTo>
                    <a:lnTo>
                      <a:pt x="0" y="180"/>
                    </a:lnTo>
                    <a:lnTo>
                      <a:pt x="0" y="170"/>
                    </a:lnTo>
                    <a:close/>
                    <a:moveTo>
                      <a:pt x="41" y="170"/>
                    </a:moveTo>
                    <a:lnTo>
                      <a:pt x="41" y="185"/>
                    </a:lnTo>
                    <a:lnTo>
                      <a:pt x="43" y="198"/>
                    </a:lnTo>
                    <a:lnTo>
                      <a:pt x="46" y="211"/>
                    </a:lnTo>
                    <a:lnTo>
                      <a:pt x="49" y="222"/>
                    </a:lnTo>
                    <a:lnTo>
                      <a:pt x="53" y="233"/>
                    </a:lnTo>
                    <a:lnTo>
                      <a:pt x="57" y="243"/>
                    </a:lnTo>
                    <a:lnTo>
                      <a:pt x="64" y="253"/>
                    </a:lnTo>
                    <a:lnTo>
                      <a:pt x="71" y="261"/>
                    </a:lnTo>
                    <a:lnTo>
                      <a:pt x="78" y="270"/>
                    </a:lnTo>
                    <a:lnTo>
                      <a:pt x="87" y="276"/>
                    </a:lnTo>
                    <a:lnTo>
                      <a:pt x="95" y="282"/>
                    </a:lnTo>
                    <a:lnTo>
                      <a:pt x="104" y="287"/>
                    </a:lnTo>
                    <a:lnTo>
                      <a:pt x="113" y="290"/>
                    </a:lnTo>
                    <a:lnTo>
                      <a:pt x="124" y="293"/>
                    </a:lnTo>
                    <a:lnTo>
                      <a:pt x="135" y="294"/>
                    </a:lnTo>
                    <a:lnTo>
                      <a:pt x="145" y="295"/>
                    </a:lnTo>
                    <a:lnTo>
                      <a:pt x="156" y="294"/>
                    </a:lnTo>
                    <a:lnTo>
                      <a:pt x="166" y="293"/>
                    </a:lnTo>
                    <a:lnTo>
                      <a:pt x="177" y="290"/>
                    </a:lnTo>
                    <a:lnTo>
                      <a:pt x="186" y="287"/>
                    </a:lnTo>
                    <a:lnTo>
                      <a:pt x="196" y="282"/>
                    </a:lnTo>
                    <a:lnTo>
                      <a:pt x="204" y="276"/>
                    </a:lnTo>
                    <a:lnTo>
                      <a:pt x="212" y="269"/>
                    </a:lnTo>
                    <a:lnTo>
                      <a:pt x="220" y="261"/>
                    </a:lnTo>
                    <a:lnTo>
                      <a:pt x="227" y="253"/>
                    </a:lnTo>
                    <a:lnTo>
                      <a:pt x="233" y="242"/>
                    </a:lnTo>
                    <a:lnTo>
                      <a:pt x="238" y="232"/>
                    </a:lnTo>
                    <a:lnTo>
                      <a:pt x="242" y="221"/>
                    </a:lnTo>
                    <a:lnTo>
                      <a:pt x="245" y="208"/>
                    </a:lnTo>
                    <a:lnTo>
                      <a:pt x="248" y="195"/>
                    </a:lnTo>
                    <a:lnTo>
                      <a:pt x="249" y="181"/>
                    </a:lnTo>
                    <a:lnTo>
                      <a:pt x="249" y="166"/>
                    </a:lnTo>
                    <a:lnTo>
                      <a:pt x="249" y="147"/>
                    </a:lnTo>
                    <a:lnTo>
                      <a:pt x="246" y="129"/>
                    </a:lnTo>
                    <a:lnTo>
                      <a:pt x="243" y="113"/>
                    </a:lnTo>
                    <a:lnTo>
                      <a:pt x="237" y="98"/>
                    </a:lnTo>
                    <a:lnTo>
                      <a:pt x="230" y="84"/>
                    </a:lnTo>
                    <a:lnTo>
                      <a:pt x="221" y="72"/>
                    </a:lnTo>
                    <a:lnTo>
                      <a:pt x="216" y="66"/>
                    </a:lnTo>
                    <a:lnTo>
                      <a:pt x="212" y="61"/>
                    </a:lnTo>
                    <a:lnTo>
                      <a:pt x="206" y="57"/>
                    </a:lnTo>
                    <a:lnTo>
                      <a:pt x="200" y="53"/>
                    </a:lnTo>
                    <a:lnTo>
                      <a:pt x="188" y="45"/>
                    </a:lnTo>
                    <a:lnTo>
                      <a:pt x="175" y="41"/>
                    </a:lnTo>
                    <a:lnTo>
                      <a:pt x="160" y="38"/>
                    </a:lnTo>
                    <a:lnTo>
                      <a:pt x="146" y="37"/>
                    </a:lnTo>
                    <a:lnTo>
                      <a:pt x="136" y="37"/>
                    </a:lnTo>
                    <a:lnTo>
                      <a:pt x="125" y="39"/>
                    </a:lnTo>
                    <a:lnTo>
                      <a:pt x="116" y="41"/>
                    </a:lnTo>
                    <a:lnTo>
                      <a:pt x="106" y="44"/>
                    </a:lnTo>
                    <a:lnTo>
                      <a:pt x="96" y="48"/>
                    </a:lnTo>
                    <a:lnTo>
                      <a:pt x="88" y="54"/>
                    </a:lnTo>
                    <a:lnTo>
                      <a:pt x="80" y="60"/>
                    </a:lnTo>
                    <a:lnTo>
                      <a:pt x="72" y="68"/>
                    </a:lnTo>
                    <a:lnTo>
                      <a:pt x="65" y="76"/>
                    </a:lnTo>
                    <a:lnTo>
                      <a:pt x="58" y="86"/>
                    </a:lnTo>
                    <a:lnTo>
                      <a:pt x="53" y="96"/>
                    </a:lnTo>
                    <a:lnTo>
                      <a:pt x="49" y="109"/>
                    </a:lnTo>
                    <a:lnTo>
                      <a:pt x="46" y="123"/>
                    </a:lnTo>
                    <a:lnTo>
                      <a:pt x="43" y="137"/>
                    </a:lnTo>
                    <a:lnTo>
                      <a:pt x="41" y="153"/>
                    </a:lnTo>
                    <a:lnTo>
                      <a:pt x="41" y="170"/>
                    </a:lnTo>
                    <a:close/>
                  </a:path>
                </a:pathLst>
              </a:custGeom>
              <a:solidFill>
                <a:srgbClr val="1f1a17"/>
              </a:solidFill>
              <a:ln w="0">
                <a:noFill/>
              </a:ln>
            </p:spPr>
            <p:style>
              <a:lnRef idx="0"/>
              <a:fillRef idx="0"/>
              <a:effectRef idx="0"/>
              <a:fontRef idx="minor"/>
            </p:style>
            <p:txBody>
              <a:bodyPr lIns="90000" rIns="90000" tIns="720" bIns="720" anchor="t">
                <a:noAutofit/>
              </a:bodyPr>
              <a:p>
                <a:pPr>
                  <a:lnSpc>
                    <a:spcPct val="100000"/>
                  </a:lnSpc>
                </a:pPr>
                <a:endParaRPr b="0" lang="en-US" sz="1800" spc="-1" strike="noStrike">
                  <a:solidFill>
                    <a:srgbClr val="000000"/>
                  </a:solidFill>
                  <a:latin typeface="Arial"/>
                  <a:ea typeface="宋体"/>
                </a:endParaRPr>
              </a:p>
            </p:txBody>
          </p:sp>
          <p:sp>
            <p:nvSpPr>
              <p:cNvPr id="475" name="Freeform 73"/>
              <p:cNvSpPr/>
              <p:nvPr/>
            </p:nvSpPr>
            <p:spPr>
              <a:xfrm>
                <a:off x="4624920" y="1295280"/>
                <a:ext cx="27720" cy="44280"/>
              </a:xfrm>
              <a:custGeom>
                <a:avLst/>
                <a:gdLst>
                  <a:gd name="textAreaLeft" fmla="*/ 0 w 27720"/>
                  <a:gd name="textAreaRight" fmla="*/ 28080 w 27720"/>
                  <a:gd name="textAreaTop" fmla="*/ 0 h 44280"/>
                  <a:gd name="textAreaBottom" fmla="*/ 44640 h 44280"/>
                </a:gdLst>
                <a:ahLst/>
                <a:rect l="textAreaLeft" t="textAreaTop" r="textAreaRight" b="textAreaBottom"/>
                <a:pathLst>
                  <a:path w="191" h="320">
                    <a:moveTo>
                      <a:pt x="0" y="320"/>
                    </a:moveTo>
                    <a:lnTo>
                      <a:pt x="0" y="0"/>
                    </a:lnTo>
                    <a:lnTo>
                      <a:pt x="40" y="0"/>
                    </a:lnTo>
                    <a:lnTo>
                      <a:pt x="40" y="282"/>
                    </a:lnTo>
                    <a:lnTo>
                      <a:pt x="191" y="282"/>
                    </a:lnTo>
                    <a:lnTo>
                      <a:pt x="191" y="320"/>
                    </a:lnTo>
                    <a:lnTo>
                      <a:pt x="0" y="32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476" name="Freeform 74"/>
              <p:cNvSpPr/>
              <p:nvPr/>
            </p:nvSpPr>
            <p:spPr>
              <a:xfrm>
                <a:off x="4656240" y="1295280"/>
                <a:ext cx="35280" cy="44280"/>
              </a:xfrm>
              <a:custGeom>
                <a:avLst/>
                <a:gdLst>
                  <a:gd name="textAreaLeft" fmla="*/ 0 w 35280"/>
                  <a:gd name="textAreaRight" fmla="*/ 35640 w 35280"/>
                  <a:gd name="textAreaTop" fmla="*/ 0 h 44280"/>
                  <a:gd name="textAreaBottom" fmla="*/ 44640 h 44280"/>
                </a:gdLst>
                <a:ahLst/>
                <a:rect l="textAreaLeft" t="textAreaTop" r="textAreaRight" b="textAreaBottom"/>
                <a:pathLst>
                  <a:path w="241" h="320">
                    <a:moveTo>
                      <a:pt x="100" y="320"/>
                    </a:moveTo>
                    <a:lnTo>
                      <a:pt x="100" y="37"/>
                    </a:lnTo>
                    <a:lnTo>
                      <a:pt x="0" y="37"/>
                    </a:lnTo>
                    <a:lnTo>
                      <a:pt x="0" y="0"/>
                    </a:lnTo>
                    <a:lnTo>
                      <a:pt x="241" y="0"/>
                    </a:lnTo>
                    <a:lnTo>
                      <a:pt x="241" y="37"/>
                    </a:lnTo>
                    <a:lnTo>
                      <a:pt x="141" y="37"/>
                    </a:lnTo>
                    <a:lnTo>
                      <a:pt x="141" y="320"/>
                    </a:lnTo>
                    <a:lnTo>
                      <a:pt x="100" y="32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477" name="Freeform 75"/>
              <p:cNvSpPr/>
              <p:nvPr/>
            </p:nvSpPr>
            <p:spPr>
              <a:xfrm>
                <a:off x="4702320" y="1295280"/>
                <a:ext cx="37080" cy="44280"/>
              </a:xfrm>
              <a:custGeom>
                <a:avLst/>
                <a:gdLst>
                  <a:gd name="textAreaLeft" fmla="*/ 0 w 37080"/>
                  <a:gd name="textAreaRight" fmla="*/ 37440 w 37080"/>
                  <a:gd name="textAreaTop" fmla="*/ 0 h 44280"/>
                  <a:gd name="textAreaBottom" fmla="*/ 44640 h 44280"/>
                </a:gdLst>
                <a:ahLst/>
                <a:rect l="textAreaLeft" t="textAreaTop" r="textAreaRight" b="textAreaBottom"/>
                <a:pathLst>
                  <a:path w="252" h="320">
                    <a:moveTo>
                      <a:pt x="0" y="320"/>
                    </a:moveTo>
                    <a:lnTo>
                      <a:pt x="0" y="0"/>
                    </a:lnTo>
                    <a:lnTo>
                      <a:pt x="105" y="0"/>
                    </a:lnTo>
                    <a:lnTo>
                      <a:pt x="122" y="0"/>
                    </a:lnTo>
                    <a:lnTo>
                      <a:pt x="137" y="1"/>
                    </a:lnTo>
                    <a:lnTo>
                      <a:pt x="149" y="2"/>
                    </a:lnTo>
                    <a:lnTo>
                      <a:pt x="159" y="4"/>
                    </a:lnTo>
                    <a:lnTo>
                      <a:pt x="172" y="9"/>
                    </a:lnTo>
                    <a:lnTo>
                      <a:pt x="183" y="14"/>
                    </a:lnTo>
                    <a:lnTo>
                      <a:pt x="194" y="20"/>
                    </a:lnTo>
                    <a:lnTo>
                      <a:pt x="204" y="28"/>
                    </a:lnTo>
                    <a:lnTo>
                      <a:pt x="215" y="39"/>
                    </a:lnTo>
                    <a:lnTo>
                      <a:pt x="226" y="52"/>
                    </a:lnTo>
                    <a:lnTo>
                      <a:pt x="233" y="66"/>
                    </a:lnTo>
                    <a:lnTo>
                      <a:pt x="240" y="82"/>
                    </a:lnTo>
                    <a:lnTo>
                      <a:pt x="246" y="100"/>
                    </a:lnTo>
                    <a:lnTo>
                      <a:pt x="249" y="118"/>
                    </a:lnTo>
                    <a:lnTo>
                      <a:pt x="251" y="137"/>
                    </a:lnTo>
                    <a:lnTo>
                      <a:pt x="252" y="158"/>
                    </a:lnTo>
                    <a:lnTo>
                      <a:pt x="252" y="176"/>
                    </a:lnTo>
                    <a:lnTo>
                      <a:pt x="250" y="192"/>
                    </a:lnTo>
                    <a:lnTo>
                      <a:pt x="248" y="208"/>
                    </a:lnTo>
                    <a:lnTo>
                      <a:pt x="244" y="223"/>
                    </a:lnTo>
                    <a:lnTo>
                      <a:pt x="239" y="236"/>
                    </a:lnTo>
                    <a:lnTo>
                      <a:pt x="235" y="248"/>
                    </a:lnTo>
                    <a:lnTo>
                      <a:pt x="229" y="260"/>
                    </a:lnTo>
                    <a:lnTo>
                      <a:pt x="223" y="269"/>
                    </a:lnTo>
                    <a:lnTo>
                      <a:pt x="217" y="278"/>
                    </a:lnTo>
                    <a:lnTo>
                      <a:pt x="210" y="286"/>
                    </a:lnTo>
                    <a:lnTo>
                      <a:pt x="202" y="293"/>
                    </a:lnTo>
                    <a:lnTo>
                      <a:pt x="195" y="298"/>
                    </a:lnTo>
                    <a:lnTo>
                      <a:pt x="187" y="303"/>
                    </a:lnTo>
                    <a:lnTo>
                      <a:pt x="179" y="307"/>
                    </a:lnTo>
                    <a:lnTo>
                      <a:pt x="169" y="312"/>
                    </a:lnTo>
                    <a:lnTo>
                      <a:pt x="159" y="314"/>
                    </a:lnTo>
                    <a:lnTo>
                      <a:pt x="148" y="317"/>
                    </a:lnTo>
                    <a:lnTo>
                      <a:pt x="137" y="318"/>
                    </a:lnTo>
                    <a:lnTo>
                      <a:pt x="124" y="319"/>
                    </a:lnTo>
                    <a:lnTo>
                      <a:pt x="110" y="320"/>
                    </a:lnTo>
                    <a:lnTo>
                      <a:pt x="0" y="320"/>
                    </a:lnTo>
                    <a:close/>
                    <a:moveTo>
                      <a:pt x="40" y="282"/>
                    </a:moveTo>
                    <a:lnTo>
                      <a:pt x="106" y="282"/>
                    </a:lnTo>
                    <a:lnTo>
                      <a:pt x="120" y="282"/>
                    </a:lnTo>
                    <a:lnTo>
                      <a:pt x="132" y="281"/>
                    </a:lnTo>
                    <a:lnTo>
                      <a:pt x="143" y="279"/>
                    </a:lnTo>
                    <a:lnTo>
                      <a:pt x="152" y="276"/>
                    </a:lnTo>
                    <a:lnTo>
                      <a:pt x="161" y="272"/>
                    </a:lnTo>
                    <a:lnTo>
                      <a:pt x="168" y="269"/>
                    </a:lnTo>
                    <a:lnTo>
                      <a:pt x="175" y="265"/>
                    </a:lnTo>
                    <a:lnTo>
                      <a:pt x="180" y="260"/>
                    </a:lnTo>
                    <a:lnTo>
                      <a:pt x="186" y="251"/>
                    </a:lnTo>
                    <a:lnTo>
                      <a:pt x="193" y="242"/>
                    </a:lnTo>
                    <a:lnTo>
                      <a:pt x="198" y="231"/>
                    </a:lnTo>
                    <a:lnTo>
                      <a:pt x="202" y="219"/>
                    </a:lnTo>
                    <a:lnTo>
                      <a:pt x="205" y="206"/>
                    </a:lnTo>
                    <a:lnTo>
                      <a:pt x="209" y="191"/>
                    </a:lnTo>
                    <a:lnTo>
                      <a:pt x="210" y="175"/>
                    </a:lnTo>
                    <a:lnTo>
                      <a:pt x="211" y="157"/>
                    </a:lnTo>
                    <a:lnTo>
                      <a:pt x="210" y="145"/>
                    </a:lnTo>
                    <a:lnTo>
                      <a:pt x="210" y="134"/>
                    </a:lnTo>
                    <a:lnTo>
                      <a:pt x="209" y="123"/>
                    </a:lnTo>
                    <a:lnTo>
                      <a:pt x="206" y="113"/>
                    </a:lnTo>
                    <a:lnTo>
                      <a:pt x="204" y="104"/>
                    </a:lnTo>
                    <a:lnTo>
                      <a:pt x="201" y="95"/>
                    </a:lnTo>
                    <a:lnTo>
                      <a:pt x="198" y="87"/>
                    </a:lnTo>
                    <a:lnTo>
                      <a:pt x="195" y="81"/>
                    </a:lnTo>
                    <a:lnTo>
                      <a:pt x="186" y="68"/>
                    </a:lnTo>
                    <a:lnTo>
                      <a:pt x="178" y="57"/>
                    </a:lnTo>
                    <a:lnTo>
                      <a:pt x="173" y="53"/>
                    </a:lnTo>
                    <a:lnTo>
                      <a:pt x="167" y="50"/>
                    </a:lnTo>
                    <a:lnTo>
                      <a:pt x="162" y="47"/>
                    </a:lnTo>
                    <a:lnTo>
                      <a:pt x="157" y="45"/>
                    </a:lnTo>
                    <a:lnTo>
                      <a:pt x="147" y="41"/>
                    </a:lnTo>
                    <a:lnTo>
                      <a:pt x="135" y="39"/>
                    </a:lnTo>
                    <a:lnTo>
                      <a:pt x="121" y="38"/>
                    </a:lnTo>
                    <a:lnTo>
                      <a:pt x="105" y="37"/>
                    </a:lnTo>
                    <a:lnTo>
                      <a:pt x="40" y="37"/>
                    </a:lnTo>
                    <a:lnTo>
                      <a:pt x="40" y="282"/>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478" name="Freeform 76"/>
              <p:cNvSpPr/>
              <p:nvPr/>
            </p:nvSpPr>
            <p:spPr>
              <a:xfrm>
                <a:off x="4569480" y="1332360"/>
                <a:ext cx="7920" cy="6480"/>
              </a:xfrm>
              <a:custGeom>
                <a:avLst/>
                <a:gdLst>
                  <a:gd name="textAreaLeft" fmla="*/ 0 w 7920"/>
                  <a:gd name="textAreaRight" fmla="*/ 8280 w 7920"/>
                  <a:gd name="textAreaTop" fmla="*/ 0 h 6480"/>
                  <a:gd name="textAreaBottom" fmla="*/ 6840 h 6480"/>
                </a:gdLst>
                <a:ahLst/>
                <a:rect l="textAreaLeft" t="textAreaTop" r="textAreaRight" b="textAreaBottom"/>
                <a:pathLst>
                  <a:path w="50" h="52">
                    <a:moveTo>
                      <a:pt x="25" y="52"/>
                    </a:moveTo>
                    <a:lnTo>
                      <a:pt x="21" y="52"/>
                    </a:lnTo>
                    <a:lnTo>
                      <a:pt x="15" y="50"/>
                    </a:lnTo>
                    <a:lnTo>
                      <a:pt x="11" y="48"/>
                    </a:lnTo>
                    <a:lnTo>
                      <a:pt x="8" y="45"/>
                    </a:lnTo>
                    <a:lnTo>
                      <a:pt x="5" y="41"/>
                    </a:lnTo>
                    <a:lnTo>
                      <a:pt x="1" y="37"/>
                    </a:lnTo>
                    <a:lnTo>
                      <a:pt x="0" y="32"/>
                    </a:lnTo>
                    <a:lnTo>
                      <a:pt x="0" y="25"/>
                    </a:lnTo>
                    <a:lnTo>
                      <a:pt x="0" y="20"/>
                    </a:lnTo>
                    <a:lnTo>
                      <a:pt x="1" y="15"/>
                    </a:lnTo>
                    <a:lnTo>
                      <a:pt x="5" y="11"/>
                    </a:lnTo>
                    <a:lnTo>
                      <a:pt x="8" y="6"/>
                    </a:lnTo>
                    <a:lnTo>
                      <a:pt x="11" y="3"/>
                    </a:lnTo>
                    <a:lnTo>
                      <a:pt x="15" y="1"/>
                    </a:lnTo>
                    <a:lnTo>
                      <a:pt x="21" y="0"/>
                    </a:lnTo>
                    <a:lnTo>
                      <a:pt x="25" y="0"/>
                    </a:lnTo>
                    <a:lnTo>
                      <a:pt x="30" y="0"/>
                    </a:lnTo>
                    <a:lnTo>
                      <a:pt x="34" y="1"/>
                    </a:lnTo>
                    <a:lnTo>
                      <a:pt x="39" y="4"/>
                    </a:lnTo>
                    <a:lnTo>
                      <a:pt x="43" y="7"/>
                    </a:lnTo>
                    <a:lnTo>
                      <a:pt x="46" y="12"/>
                    </a:lnTo>
                    <a:lnTo>
                      <a:pt x="48" y="16"/>
                    </a:lnTo>
                    <a:lnTo>
                      <a:pt x="49" y="21"/>
                    </a:lnTo>
                    <a:lnTo>
                      <a:pt x="50" y="25"/>
                    </a:lnTo>
                    <a:lnTo>
                      <a:pt x="49" y="32"/>
                    </a:lnTo>
                    <a:lnTo>
                      <a:pt x="48" y="37"/>
                    </a:lnTo>
                    <a:lnTo>
                      <a:pt x="46" y="41"/>
                    </a:lnTo>
                    <a:lnTo>
                      <a:pt x="43" y="45"/>
                    </a:lnTo>
                    <a:lnTo>
                      <a:pt x="39" y="48"/>
                    </a:lnTo>
                    <a:lnTo>
                      <a:pt x="34" y="50"/>
                    </a:lnTo>
                    <a:lnTo>
                      <a:pt x="30" y="52"/>
                    </a:lnTo>
                    <a:lnTo>
                      <a:pt x="25" y="52"/>
                    </a:lnTo>
                    <a:close/>
                  </a:path>
                </a:pathLst>
              </a:custGeom>
              <a:solidFill>
                <a:srgbClr val="1f1a17"/>
              </a:solidFill>
              <a:ln w="0">
                <a:noFill/>
              </a:ln>
            </p:spPr>
            <p:style>
              <a:lnRef idx="0"/>
              <a:fillRef idx="0"/>
              <a:effectRef idx="0"/>
              <a:fontRef idx="minor"/>
            </p:style>
            <p:txBody>
              <a:bodyPr lIns="90000" rIns="90000" tIns="-38160" bIns="-38160" anchor="t">
                <a:noAutofit/>
              </a:bodyPr>
              <a:p>
                <a:pPr>
                  <a:lnSpc>
                    <a:spcPct val="100000"/>
                  </a:lnSpc>
                </a:pPr>
                <a:endParaRPr b="0" lang="en-US" sz="1800" spc="-1" strike="noStrike">
                  <a:solidFill>
                    <a:srgbClr val="000000"/>
                  </a:solidFill>
                  <a:latin typeface="Arial"/>
                  <a:ea typeface="宋体"/>
                </a:endParaRPr>
              </a:p>
            </p:txBody>
          </p:sp>
          <p:sp>
            <p:nvSpPr>
              <p:cNvPr id="479" name="Freeform 77"/>
              <p:cNvSpPr/>
              <p:nvPr/>
            </p:nvSpPr>
            <p:spPr>
              <a:xfrm>
                <a:off x="4590360" y="1331280"/>
                <a:ext cx="9000" cy="15120"/>
              </a:xfrm>
              <a:custGeom>
                <a:avLst/>
                <a:gdLst>
                  <a:gd name="textAreaLeft" fmla="*/ 0 w 9000"/>
                  <a:gd name="textAreaRight" fmla="*/ 9360 w 9000"/>
                  <a:gd name="textAreaTop" fmla="*/ 0 h 15120"/>
                  <a:gd name="textAreaBottom" fmla="*/ 15480 h 15120"/>
                </a:gdLst>
                <a:ahLst/>
                <a:rect l="textAreaLeft" t="textAreaTop" r="textAreaRight" b="textAreaBottom"/>
                <a:pathLst>
                  <a:path w="58" h="111">
                    <a:moveTo>
                      <a:pt x="7" y="20"/>
                    </a:moveTo>
                    <a:lnTo>
                      <a:pt x="8" y="17"/>
                    </a:lnTo>
                    <a:lnTo>
                      <a:pt x="9" y="14"/>
                    </a:lnTo>
                    <a:lnTo>
                      <a:pt x="10" y="9"/>
                    </a:lnTo>
                    <a:lnTo>
                      <a:pt x="13" y="6"/>
                    </a:lnTo>
                    <a:lnTo>
                      <a:pt x="16" y="3"/>
                    </a:lnTo>
                    <a:lnTo>
                      <a:pt x="20" y="1"/>
                    </a:lnTo>
                    <a:lnTo>
                      <a:pt x="25" y="0"/>
                    </a:lnTo>
                    <a:lnTo>
                      <a:pt x="30" y="0"/>
                    </a:lnTo>
                    <a:lnTo>
                      <a:pt x="36" y="0"/>
                    </a:lnTo>
                    <a:lnTo>
                      <a:pt x="41" y="2"/>
                    </a:lnTo>
                    <a:lnTo>
                      <a:pt x="47" y="6"/>
                    </a:lnTo>
                    <a:lnTo>
                      <a:pt x="51" y="10"/>
                    </a:lnTo>
                    <a:lnTo>
                      <a:pt x="54" y="17"/>
                    </a:lnTo>
                    <a:lnTo>
                      <a:pt x="56" y="22"/>
                    </a:lnTo>
                    <a:lnTo>
                      <a:pt x="58" y="28"/>
                    </a:lnTo>
                    <a:lnTo>
                      <a:pt x="58" y="35"/>
                    </a:lnTo>
                    <a:lnTo>
                      <a:pt x="57" y="46"/>
                    </a:lnTo>
                    <a:lnTo>
                      <a:pt x="55" y="58"/>
                    </a:lnTo>
                    <a:lnTo>
                      <a:pt x="51" y="69"/>
                    </a:lnTo>
                    <a:lnTo>
                      <a:pt x="45" y="79"/>
                    </a:lnTo>
                    <a:lnTo>
                      <a:pt x="37" y="90"/>
                    </a:lnTo>
                    <a:lnTo>
                      <a:pt x="29" y="98"/>
                    </a:lnTo>
                    <a:lnTo>
                      <a:pt x="18" y="105"/>
                    </a:lnTo>
                    <a:lnTo>
                      <a:pt x="7" y="111"/>
                    </a:lnTo>
                    <a:lnTo>
                      <a:pt x="0" y="103"/>
                    </a:lnTo>
                    <a:lnTo>
                      <a:pt x="8" y="97"/>
                    </a:lnTo>
                    <a:lnTo>
                      <a:pt x="15" y="92"/>
                    </a:lnTo>
                    <a:lnTo>
                      <a:pt x="20" y="86"/>
                    </a:lnTo>
                    <a:lnTo>
                      <a:pt x="26" y="80"/>
                    </a:lnTo>
                    <a:lnTo>
                      <a:pt x="29" y="75"/>
                    </a:lnTo>
                    <a:lnTo>
                      <a:pt x="31" y="69"/>
                    </a:lnTo>
                    <a:lnTo>
                      <a:pt x="33" y="63"/>
                    </a:lnTo>
                    <a:lnTo>
                      <a:pt x="33" y="57"/>
                    </a:lnTo>
                    <a:lnTo>
                      <a:pt x="33" y="53"/>
                    </a:lnTo>
                    <a:lnTo>
                      <a:pt x="30" y="48"/>
                    </a:lnTo>
                    <a:lnTo>
                      <a:pt x="26" y="45"/>
                    </a:lnTo>
                    <a:lnTo>
                      <a:pt x="20" y="41"/>
                    </a:lnTo>
                    <a:lnTo>
                      <a:pt x="14" y="37"/>
                    </a:lnTo>
                    <a:lnTo>
                      <a:pt x="10" y="33"/>
                    </a:lnTo>
                    <a:lnTo>
                      <a:pt x="8" y="27"/>
                    </a:lnTo>
                    <a:lnTo>
                      <a:pt x="7" y="20"/>
                    </a:lnTo>
                    <a:close/>
                  </a:path>
                </a:pathLst>
              </a:custGeom>
              <a:solidFill>
                <a:srgbClr val="1f1a17"/>
              </a:solidFill>
              <a:ln w="0">
                <a:noFill/>
              </a:ln>
            </p:spPr>
            <p:style>
              <a:lnRef idx="0"/>
              <a:fillRef idx="0"/>
              <a:effectRef idx="0"/>
              <a:fontRef idx="minor"/>
            </p:style>
            <p:txBody>
              <a:bodyPr lIns="90000" rIns="90000" tIns="-29520" bIns="-29520" anchor="t">
                <a:noAutofit/>
              </a:bodyPr>
              <a:p>
                <a:pPr>
                  <a:lnSpc>
                    <a:spcPct val="100000"/>
                  </a:lnSpc>
                </a:pPr>
                <a:endParaRPr b="0" lang="en-US" sz="1800" spc="-1" strike="noStrike">
                  <a:solidFill>
                    <a:srgbClr val="000000"/>
                  </a:solidFill>
                  <a:latin typeface="Arial"/>
                  <a:ea typeface="宋体"/>
                </a:endParaRPr>
              </a:p>
            </p:txBody>
          </p:sp>
        </p:grpSp>
        <p:sp>
          <p:nvSpPr>
            <p:cNvPr id="480" name="Rectangle 7"/>
            <p:cNvSpPr/>
            <p:nvPr/>
          </p:nvSpPr>
          <p:spPr>
            <a:xfrm>
              <a:off x="2217600" y="1004040"/>
              <a:ext cx="2502000" cy="9000"/>
            </a:xfrm>
            <a:prstGeom prst="rect">
              <a:avLst/>
            </a:prstGeom>
            <a:solidFill>
              <a:srgbClr val="d79f00"/>
            </a:solidFill>
            <a:ln w="3810">
              <a:solidFill>
                <a:srgbClr val="000000"/>
              </a:solidFill>
              <a:miter/>
            </a:ln>
          </p:spPr>
          <p:style>
            <a:lnRef idx="0"/>
            <a:fillRef idx="0"/>
            <a:effectRef idx="0"/>
            <a:fontRef idx="minor"/>
          </p:style>
          <p:txBody>
            <a:bodyPr lIns="90000" rIns="90000" tIns="4680" bIns="4680" anchor="t">
              <a:noAutofit/>
            </a:bodyPr>
            <a:p>
              <a:pPr>
                <a:lnSpc>
                  <a:spcPct val="100000"/>
                </a:lnSpc>
              </a:pPr>
              <a:endParaRPr b="0" lang="en-US" sz="1800" spc="-1" strike="noStrike">
                <a:solidFill>
                  <a:srgbClr val="000000"/>
                </a:solidFill>
                <a:latin typeface="Arial"/>
                <a:ea typeface="宋体"/>
              </a:endParaRPr>
            </a:p>
          </p:txBody>
        </p:sp>
        <p:sp>
          <p:nvSpPr>
            <p:cNvPr id="481" name="Freeform 8"/>
            <p:cNvSpPr/>
            <p:nvPr/>
          </p:nvSpPr>
          <p:spPr>
            <a:xfrm>
              <a:off x="2251800" y="270720"/>
              <a:ext cx="819000" cy="803160"/>
            </a:xfrm>
            <a:custGeom>
              <a:avLst/>
              <a:gdLst>
                <a:gd name="textAreaLeft" fmla="*/ 0 w 819000"/>
                <a:gd name="textAreaRight" fmla="*/ 819360 w 819000"/>
                <a:gd name="textAreaTop" fmla="*/ 0 h 803160"/>
                <a:gd name="textAreaBottom" fmla="*/ 803520 h 803160"/>
              </a:gdLst>
              <a:ahLst/>
              <a:rect l="textAreaLeft" t="textAreaTop" r="textAreaRight" b="textAreaBottom"/>
              <a:pathLst>
                <a:path w="5495" h="5786">
                  <a:moveTo>
                    <a:pt x="730" y="46"/>
                  </a:moveTo>
                  <a:lnTo>
                    <a:pt x="0" y="4624"/>
                  </a:lnTo>
                  <a:lnTo>
                    <a:pt x="1589" y="2642"/>
                  </a:lnTo>
                  <a:lnTo>
                    <a:pt x="2760" y="5786"/>
                  </a:lnTo>
                  <a:lnTo>
                    <a:pt x="3854" y="2574"/>
                  </a:lnTo>
                  <a:lnTo>
                    <a:pt x="5495" y="4647"/>
                  </a:lnTo>
                  <a:lnTo>
                    <a:pt x="4713" y="0"/>
                  </a:lnTo>
                  <a:lnTo>
                    <a:pt x="2760" y="2368"/>
                  </a:lnTo>
                  <a:lnTo>
                    <a:pt x="730" y="46"/>
                  </a:lnTo>
                  <a:close/>
                </a:path>
              </a:pathLst>
            </a:custGeom>
            <a:solidFill>
              <a:srgbClr val="fcdb00"/>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482" name="Freeform 9"/>
            <p:cNvSpPr/>
            <p:nvPr/>
          </p:nvSpPr>
          <p:spPr>
            <a:xfrm>
              <a:off x="2251800" y="277200"/>
              <a:ext cx="236880" cy="634680"/>
            </a:xfrm>
            <a:custGeom>
              <a:avLst/>
              <a:gdLst>
                <a:gd name="textAreaLeft" fmla="*/ 0 w 236880"/>
                <a:gd name="textAreaRight" fmla="*/ 237240 w 236880"/>
                <a:gd name="textAreaTop" fmla="*/ 0 h 634680"/>
                <a:gd name="textAreaBottom" fmla="*/ 635040 h 634680"/>
              </a:gdLst>
              <a:ahLst/>
              <a:rect l="textAreaLeft" t="textAreaTop" r="textAreaRight" b="textAreaBottom"/>
              <a:pathLst>
                <a:path w="1589" h="4578">
                  <a:moveTo>
                    <a:pt x="730" y="0"/>
                  </a:moveTo>
                  <a:lnTo>
                    <a:pt x="1589" y="2596"/>
                  </a:lnTo>
                  <a:lnTo>
                    <a:pt x="0" y="4578"/>
                  </a:lnTo>
                  <a:lnTo>
                    <a:pt x="730" y="0"/>
                  </a:lnTo>
                  <a:close/>
                </a:path>
              </a:pathLst>
            </a:custGeom>
            <a:solidFill>
              <a:srgbClr val="d79f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483" name="Freeform 10"/>
            <p:cNvSpPr/>
            <p:nvPr/>
          </p:nvSpPr>
          <p:spPr>
            <a:xfrm>
              <a:off x="2663280" y="270720"/>
              <a:ext cx="290520" cy="803160"/>
            </a:xfrm>
            <a:custGeom>
              <a:avLst/>
              <a:gdLst>
                <a:gd name="textAreaLeft" fmla="*/ 0 w 290520"/>
                <a:gd name="textAreaRight" fmla="*/ 290880 w 290520"/>
                <a:gd name="textAreaTop" fmla="*/ 0 h 803160"/>
                <a:gd name="textAreaBottom" fmla="*/ 803520 h 803160"/>
              </a:gdLst>
              <a:ahLst/>
              <a:rect l="textAreaLeft" t="textAreaTop" r="textAreaRight" b="textAreaBottom"/>
              <a:pathLst>
                <a:path w="1953" h="5786">
                  <a:moveTo>
                    <a:pt x="0" y="2368"/>
                  </a:moveTo>
                  <a:lnTo>
                    <a:pt x="0" y="5786"/>
                  </a:lnTo>
                  <a:lnTo>
                    <a:pt x="1094" y="2574"/>
                  </a:lnTo>
                  <a:lnTo>
                    <a:pt x="1953" y="0"/>
                  </a:lnTo>
                  <a:lnTo>
                    <a:pt x="0" y="2368"/>
                  </a:lnTo>
                  <a:close/>
                </a:path>
              </a:pathLst>
            </a:custGeom>
            <a:solidFill>
              <a:srgbClr val="d79f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484" name="Freeform 78"/>
            <p:cNvSpPr/>
            <p:nvPr/>
          </p:nvSpPr>
          <p:spPr>
            <a:xfrm>
              <a:off x="3113640" y="714240"/>
              <a:ext cx="254160" cy="220320"/>
            </a:xfrm>
            <a:custGeom>
              <a:avLst/>
              <a:gdLst>
                <a:gd name="textAreaLeft" fmla="*/ 0 w 254160"/>
                <a:gd name="textAreaRight" fmla="*/ 254520 w 254160"/>
                <a:gd name="textAreaTop" fmla="*/ 0 h 220320"/>
                <a:gd name="textAreaBottom" fmla="*/ 220680 h 220320"/>
              </a:gdLst>
              <a:ahLst/>
              <a:rect l="textAreaLeft" t="textAreaTop" r="textAreaRight" b="textAreaBottom"/>
              <a:pathLst>
                <a:path w="1708" h="1590">
                  <a:moveTo>
                    <a:pt x="817" y="0"/>
                  </a:moveTo>
                  <a:lnTo>
                    <a:pt x="885" y="0"/>
                  </a:lnTo>
                  <a:lnTo>
                    <a:pt x="904" y="48"/>
                  </a:lnTo>
                  <a:lnTo>
                    <a:pt x="925" y="98"/>
                  </a:lnTo>
                  <a:lnTo>
                    <a:pt x="944" y="147"/>
                  </a:lnTo>
                  <a:lnTo>
                    <a:pt x="965" y="197"/>
                  </a:lnTo>
                  <a:lnTo>
                    <a:pt x="985" y="249"/>
                  </a:lnTo>
                  <a:lnTo>
                    <a:pt x="1007" y="301"/>
                  </a:lnTo>
                  <a:lnTo>
                    <a:pt x="1029" y="354"/>
                  </a:lnTo>
                  <a:lnTo>
                    <a:pt x="1052" y="408"/>
                  </a:lnTo>
                  <a:lnTo>
                    <a:pt x="1075" y="462"/>
                  </a:lnTo>
                  <a:lnTo>
                    <a:pt x="1098" y="517"/>
                  </a:lnTo>
                  <a:lnTo>
                    <a:pt x="1123" y="573"/>
                  </a:lnTo>
                  <a:lnTo>
                    <a:pt x="1147" y="631"/>
                  </a:lnTo>
                  <a:lnTo>
                    <a:pt x="1172" y="689"/>
                  </a:lnTo>
                  <a:lnTo>
                    <a:pt x="1198" y="747"/>
                  </a:lnTo>
                  <a:lnTo>
                    <a:pt x="1224" y="807"/>
                  </a:lnTo>
                  <a:lnTo>
                    <a:pt x="1252" y="867"/>
                  </a:lnTo>
                  <a:lnTo>
                    <a:pt x="1508" y="1428"/>
                  </a:lnTo>
                  <a:lnTo>
                    <a:pt x="1517" y="1441"/>
                  </a:lnTo>
                  <a:lnTo>
                    <a:pt x="1526" y="1453"/>
                  </a:lnTo>
                  <a:lnTo>
                    <a:pt x="1536" y="1464"/>
                  </a:lnTo>
                  <a:lnTo>
                    <a:pt x="1546" y="1472"/>
                  </a:lnTo>
                  <a:lnTo>
                    <a:pt x="1552" y="1474"/>
                  </a:lnTo>
                  <a:lnTo>
                    <a:pt x="1562" y="1478"/>
                  </a:lnTo>
                  <a:lnTo>
                    <a:pt x="1576" y="1484"/>
                  </a:lnTo>
                  <a:lnTo>
                    <a:pt x="1594" y="1490"/>
                  </a:lnTo>
                  <a:lnTo>
                    <a:pt x="1616" y="1496"/>
                  </a:lnTo>
                  <a:lnTo>
                    <a:pt x="1643" y="1505"/>
                  </a:lnTo>
                  <a:lnTo>
                    <a:pt x="1673" y="1514"/>
                  </a:lnTo>
                  <a:lnTo>
                    <a:pt x="1708" y="1524"/>
                  </a:lnTo>
                  <a:lnTo>
                    <a:pt x="1708" y="1590"/>
                  </a:lnTo>
                  <a:lnTo>
                    <a:pt x="1660" y="1587"/>
                  </a:lnTo>
                  <a:lnTo>
                    <a:pt x="1614" y="1584"/>
                  </a:lnTo>
                  <a:lnTo>
                    <a:pt x="1573" y="1582"/>
                  </a:lnTo>
                  <a:lnTo>
                    <a:pt x="1535" y="1580"/>
                  </a:lnTo>
                  <a:lnTo>
                    <a:pt x="1499" y="1579"/>
                  </a:lnTo>
                  <a:lnTo>
                    <a:pt x="1467" y="1578"/>
                  </a:lnTo>
                  <a:lnTo>
                    <a:pt x="1438" y="1577"/>
                  </a:lnTo>
                  <a:lnTo>
                    <a:pt x="1413" y="1577"/>
                  </a:lnTo>
                  <a:lnTo>
                    <a:pt x="1386" y="1577"/>
                  </a:lnTo>
                  <a:lnTo>
                    <a:pt x="1356" y="1578"/>
                  </a:lnTo>
                  <a:lnTo>
                    <a:pt x="1321" y="1579"/>
                  </a:lnTo>
                  <a:lnTo>
                    <a:pt x="1282" y="1580"/>
                  </a:lnTo>
                  <a:lnTo>
                    <a:pt x="1238" y="1582"/>
                  </a:lnTo>
                  <a:lnTo>
                    <a:pt x="1190" y="1584"/>
                  </a:lnTo>
                  <a:lnTo>
                    <a:pt x="1139" y="1587"/>
                  </a:lnTo>
                  <a:lnTo>
                    <a:pt x="1082" y="1590"/>
                  </a:lnTo>
                  <a:lnTo>
                    <a:pt x="1082" y="1524"/>
                  </a:lnTo>
                  <a:lnTo>
                    <a:pt x="1143" y="1511"/>
                  </a:lnTo>
                  <a:lnTo>
                    <a:pt x="1188" y="1500"/>
                  </a:lnTo>
                  <a:lnTo>
                    <a:pt x="1206" y="1494"/>
                  </a:lnTo>
                  <a:lnTo>
                    <a:pt x="1220" y="1489"/>
                  </a:lnTo>
                  <a:lnTo>
                    <a:pt x="1231" y="1485"/>
                  </a:lnTo>
                  <a:lnTo>
                    <a:pt x="1238" y="1481"/>
                  </a:lnTo>
                  <a:lnTo>
                    <a:pt x="1243" y="1476"/>
                  </a:lnTo>
                  <a:lnTo>
                    <a:pt x="1248" y="1472"/>
                  </a:lnTo>
                  <a:lnTo>
                    <a:pt x="1252" y="1467"/>
                  </a:lnTo>
                  <a:lnTo>
                    <a:pt x="1255" y="1463"/>
                  </a:lnTo>
                  <a:lnTo>
                    <a:pt x="1257" y="1457"/>
                  </a:lnTo>
                  <a:lnTo>
                    <a:pt x="1258" y="1453"/>
                  </a:lnTo>
                  <a:lnTo>
                    <a:pt x="1259" y="1448"/>
                  </a:lnTo>
                  <a:lnTo>
                    <a:pt x="1260" y="1441"/>
                  </a:lnTo>
                  <a:lnTo>
                    <a:pt x="1259" y="1436"/>
                  </a:lnTo>
                  <a:lnTo>
                    <a:pt x="1258" y="1429"/>
                  </a:lnTo>
                  <a:lnTo>
                    <a:pt x="1257" y="1420"/>
                  </a:lnTo>
                  <a:lnTo>
                    <a:pt x="1254" y="1411"/>
                  </a:lnTo>
                  <a:lnTo>
                    <a:pt x="1247" y="1389"/>
                  </a:lnTo>
                  <a:lnTo>
                    <a:pt x="1237" y="1364"/>
                  </a:lnTo>
                  <a:lnTo>
                    <a:pt x="1127" y="1095"/>
                  </a:lnTo>
                  <a:lnTo>
                    <a:pt x="1070" y="1095"/>
                  </a:lnTo>
                  <a:lnTo>
                    <a:pt x="1018" y="1094"/>
                  </a:lnTo>
                  <a:lnTo>
                    <a:pt x="969" y="1094"/>
                  </a:lnTo>
                  <a:lnTo>
                    <a:pt x="925" y="1093"/>
                  </a:lnTo>
                  <a:lnTo>
                    <a:pt x="883" y="1093"/>
                  </a:lnTo>
                  <a:lnTo>
                    <a:pt x="847" y="1093"/>
                  </a:lnTo>
                  <a:lnTo>
                    <a:pt x="814" y="1093"/>
                  </a:lnTo>
                  <a:lnTo>
                    <a:pt x="786" y="1093"/>
                  </a:lnTo>
                  <a:lnTo>
                    <a:pt x="483" y="1095"/>
                  </a:lnTo>
                  <a:lnTo>
                    <a:pt x="368" y="1374"/>
                  </a:lnTo>
                  <a:lnTo>
                    <a:pt x="356" y="1404"/>
                  </a:lnTo>
                  <a:lnTo>
                    <a:pt x="347" y="1428"/>
                  </a:lnTo>
                  <a:lnTo>
                    <a:pt x="342" y="1446"/>
                  </a:lnTo>
                  <a:lnTo>
                    <a:pt x="340" y="1457"/>
                  </a:lnTo>
                  <a:lnTo>
                    <a:pt x="341" y="1464"/>
                  </a:lnTo>
                  <a:lnTo>
                    <a:pt x="343" y="1470"/>
                  </a:lnTo>
                  <a:lnTo>
                    <a:pt x="347" y="1476"/>
                  </a:lnTo>
                  <a:lnTo>
                    <a:pt x="354" y="1481"/>
                  </a:lnTo>
                  <a:lnTo>
                    <a:pt x="359" y="1484"/>
                  </a:lnTo>
                  <a:lnTo>
                    <a:pt x="366" y="1487"/>
                  </a:lnTo>
                  <a:lnTo>
                    <a:pt x="378" y="1490"/>
                  </a:lnTo>
                  <a:lnTo>
                    <a:pt x="393" y="1494"/>
                  </a:lnTo>
                  <a:lnTo>
                    <a:pt x="431" y="1503"/>
                  </a:lnTo>
                  <a:lnTo>
                    <a:pt x="482" y="1514"/>
                  </a:lnTo>
                  <a:lnTo>
                    <a:pt x="488" y="1517"/>
                  </a:lnTo>
                  <a:lnTo>
                    <a:pt x="497" y="1519"/>
                  </a:lnTo>
                  <a:lnTo>
                    <a:pt x="505" y="1521"/>
                  </a:lnTo>
                  <a:lnTo>
                    <a:pt x="516" y="1524"/>
                  </a:lnTo>
                  <a:lnTo>
                    <a:pt x="516" y="1590"/>
                  </a:lnTo>
                  <a:lnTo>
                    <a:pt x="470" y="1587"/>
                  </a:lnTo>
                  <a:lnTo>
                    <a:pt x="429" y="1584"/>
                  </a:lnTo>
                  <a:lnTo>
                    <a:pt x="391" y="1582"/>
                  </a:lnTo>
                  <a:lnTo>
                    <a:pt x="356" y="1580"/>
                  </a:lnTo>
                  <a:lnTo>
                    <a:pt x="324" y="1579"/>
                  </a:lnTo>
                  <a:lnTo>
                    <a:pt x="296" y="1578"/>
                  </a:lnTo>
                  <a:lnTo>
                    <a:pt x="271" y="1577"/>
                  </a:lnTo>
                  <a:lnTo>
                    <a:pt x="251" y="1577"/>
                  </a:lnTo>
                  <a:lnTo>
                    <a:pt x="226" y="1577"/>
                  </a:lnTo>
                  <a:lnTo>
                    <a:pt x="198" y="1578"/>
                  </a:lnTo>
                  <a:lnTo>
                    <a:pt x="169" y="1579"/>
                  </a:lnTo>
                  <a:lnTo>
                    <a:pt x="139" y="1580"/>
                  </a:lnTo>
                  <a:lnTo>
                    <a:pt x="107" y="1582"/>
                  </a:lnTo>
                  <a:lnTo>
                    <a:pt x="73" y="1584"/>
                  </a:lnTo>
                  <a:lnTo>
                    <a:pt x="37" y="1587"/>
                  </a:lnTo>
                  <a:lnTo>
                    <a:pt x="0" y="1590"/>
                  </a:lnTo>
                  <a:lnTo>
                    <a:pt x="0" y="1524"/>
                  </a:lnTo>
                  <a:lnTo>
                    <a:pt x="23" y="1519"/>
                  </a:lnTo>
                  <a:lnTo>
                    <a:pt x="45" y="1512"/>
                  </a:lnTo>
                  <a:lnTo>
                    <a:pt x="66" y="1507"/>
                  </a:lnTo>
                  <a:lnTo>
                    <a:pt x="84" y="1501"/>
                  </a:lnTo>
                  <a:lnTo>
                    <a:pt x="101" y="1494"/>
                  </a:lnTo>
                  <a:lnTo>
                    <a:pt x="114" y="1488"/>
                  </a:lnTo>
                  <a:lnTo>
                    <a:pt x="127" y="1482"/>
                  </a:lnTo>
                  <a:lnTo>
                    <a:pt x="138" y="1475"/>
                  </a:lnTo>
                  <a:lnTo>
                    <a:pt x="144" y="1469"/>
                  </a:lnTo>
                  <a:lnTo>
                    <a:pt x="151" y="1463"/>
                  </a:lnTo>
                  <a:lnTo>
                    <a:pt x="158" y="1455"/>
                  </a:lnTo>
                  <a:lnTo>
                    <a:pt x="165" y="1447"/>
                  </a:lnTo>
                  <a:lnTo>
                    <a:pt x="180" y="1428"/>
                  </a:lnTo>
                  <a:lnTo>
                    <a:pt x="195" y="1404"/>
                  </a:lnTo>
                  <a:lnTo>
                    <a:pt x="213" y="1369"/>
                  </a:lnTo>
                  <a:lnTo>
                    <a:pt x="238" y="1319"/>
                  </a:lnTo>
                  <a:lnTo>
                    <a:pt x="269" y="1255"/>
                  </a:lnTo>
                  <a:lnTo>
                    <a:pt x="306" y="1174"/>
                  </a:lnTo>
                  <a:lnTo>
                    <a:pt x="348" y="1079"/>
                  </a:lnTo>
                  <a:lnTo>
                    <a:pt x="398" y="969"/>
                  </a:lnTo>
                  <a:lnTo>
                    <a:pt x="453" y="844"/>
                  </a:lnTo>
                  <a:lnTo>
                    <a:pt x="514" y="703"/>
                  </a:lnTo>
                  <a:lnTo>
                    <a:pt x="817" y="0"/>
                  </a:lnTo>
                  <a:close/>
                  <a:moveTo>
                    <a:pt x="526" y="985"/>
                  </a:moveTo>
                  <a:lnTo>
                    <a:pt x="562" y="986"/>
                  </a:lnTo>
                  <a:lnTo>
                    <a:pt x="597" y="987"/>
                  </a:lnTo>
                  <a:lnTo>
                    <a:pt x="628" y="988"/>
                  </a:lnTo>
                  <a:lnTo>
                    <a:pt x="658" y="988"/>
                  </a:lnTo>
                  <a:lnTo>
                    <a:pt x="683" y="989"/>
                  </a:lnTo>
                  <a:lnTo>
                    <a:pt x="706" y="989"/>
                  </a:lnTo>
                  <a:lnTo>
                    <a:pt x="728" y="989"/>
                  </a:lnTo>
                  <a:lnTo>
                    <a:pt x="745" y="989"/>
                  </a:lnTo>
                  <a:lnTo>
                    <a:pt x="754" y="989"/>
                  </a:lnTo>
                  <a:lnTo>
                    <a:pt x="773" y="989"/>
                  </a:lnTo>
                  <a:lnTo>
                    <a:pt x="802" y="989"/>
                  </a:lnTo>
                  <a:lnTo>
                    <a:pt x="840" y="988"/>
                  </a:lnTo>
                  <a:lnTo>
                    <a:pt x="886" y="988"/>
                  </a:lnTo>
                  <a:lnTo>
                    <a:pt x="943" y="987"/>
                  </a:lnTo>
                  <a:lnTo>
                    <a:pt x="1008" y="986"/>
                  </a:lnTo>
                  <a:lnTo>
                    <a:pt x="1082" y="985"/>
                  </a:lnTo>
                  <a:lnTo>
                    <a:pt x="804" y="323"/>
                  </a:lnTo>
                  <a:lnTo>
                    <a:pt x="526" y="985"/>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485" name="Freeform 79"/>
            <p:cNvSpPr/>
            <p:nvPr/>
          </p:nvSpPr>
          <p:spPr>
            <a:xfrm>
              <a:off x="3387960" y="717840"/>
              <a:ext cx="267840" cy="221040"/>
            </a:xfrm>
            <a:custGeom>
              <a:avLst/>
              <a:gdLst>
                <a:gd name="textAreaLeft" fmla="*/ 0 w 267840"/>
                <a:gd name="textAreaRight" fmla="*/ 268200 w 267840"/>
                <a:gd name="textAreaTop" fmla="*/ 0 h 221040"/>
                <a:gd name="textAreaBottom" fmla="*/ 221400 h 221040"/>
              </a:gdLst>
              <a:ahLst/>
              <a:rect l="textAreaLeft" t="textAreaTop" r="textAreaRight" b="textAreaBottom"/>
              <a:pathLst>
                <a:path w="1799" h="1596">
                  <a:moveTo>
                    <a:pt x="0" y="64"/>
                  </a:moveTo>
                  <a:lnTo>
                    <a:pt x="0" y="0"/>
                  </a:lnTo>
                  <a:lnTo>
                    <a:pt x="34" y="2"/>
                  </a:lnTo>
                  <a:lnTo>
                    <a:pt x="66" y="5"/>
                  </a:lnTo>
                  <a:lnTo>
                    <a:pt x="96" y="7"/>
                  </a:lnTo>
                  <a:lnTo>
                    <a:pt x="125" y="8"/>
                  </a:lnTo>
                  <a:lnTo>
                    <a:pt x="151" y="10"/>
                  </a:lnTo>
                  <a:lnTo>
                    <a:pt x="176" y="10"/>
                  </a:lnTo>
                  <a:lnTo>
                    <a:pt x="199" y="11"/>
                  </a:lnTo>
                  <a:lnTo>
                    <a:pt x="220" y="11"/>
                  </a:lnTo>
                  <a:lnTo>
                    <a:pt x="237" y="11"/>
                  </a:lnTo>
                  <a:lnTo>
                    <a:pt x="258" y="10"/>
                  </a:lnTo>
                  <a:lnTo>
                    <a:pt x="283" y="10"/>
                  </a:lnTo>
                  <a:lnTo>
                    <a:pt x="310" y="8"/>
                  </a:lnTo>
                  <a:lnTo>
                    <a:pt x="341" y="7"/>
                  </a:lnTo>
                  <a:lnTo>
                    <a:pt x="375" y="5"/>
                  </a:lnTo>
                  <a:lnTo>
                    <a:pt x="412" y="2"/>
                  </a:lnTo>
                  <a:lnTo>
                    <a:pt x="452" y="0"/>
                  </a:lnTo>
                  <a:lnTo>
                    <a:pt x="765" y="391"/>
                  </a:lnTo>
                  <a:lnTo>
                    <a:pt x="772" y="399"/>
                  </a:lnTo>
                  <a:lnTo>
                    <a:pt x="785" y="414"/>
                  </a:lnTo>
                  <a:lnTo>
                    <a:pt x="801" y="434"/>
                  </a:lnTo>
                  <a:lnTo>
                    <a:pt x="822" y="461"/>
                  </a:lnTo>
                  <a:lnTo>
                    <a:pt x="847" y="491"/>
                  </a:lnTo>
                  <a:lnTo>
                    <a:pt x="878" y="527"/>
                  </a:lnTo>
                  <a:lnTo>
                    <a:pt x="913" y="570"/>
                  </a:lnTo>
                  <a:lnTo>
                    <a:pt x="952" y="617"/>
                  </a:lnTo>
                  <a:lnTo>
                    <a:pt x="996" y="670"/>
                  </a:lnTo>
                  <a:lnTo>
                    <a:pt x="1043" y="729"/>
                  </a:lnTo>
                  <a:lnTo>
                    <a:pt x="1096" y="792"/>
                  </a:lnTo>
                  <a:lnTo>
                    <a:pt x="1153" y="861"/>
                  </a:lnTo>
                  <a:lnTo>
                    <a:pt x="1215" y="936"/>
                  </a:lnTo>
                  <a:lnTo>
                    <a:pt x="1282" y="1017"/>
                  </a:lnTo>
                  <a:lnTo>
                    <a:pt x="1352" y="1103"/>
                  </a:lnTo>
                  <a:lnTo>
                    <a:pt x="1428" y="1194"/>
                  </a:lnTo>
                  <a:lnTo>
                    <a:pt x="1428" y="1156"/>
                  </a:lnTo>
                  <a:lnTo>
                    <a:pt x="1428" y="1122"/>
                  </a:lnTo>
                  <a:lnTo>
                    <a:pt x="1428" y="1090"/>
                  </a:lnTo>
                  <a:lnTo>
                    <a:pt x="1429" y="1060"/>
                  </a:lnTo>
                  <a:lnTo>
                    <a:pt x="1429" y="1034"/>
                  </a:lnTo>
                  <a:lnTo>
                    <a:pt x="1429" y="1010"/>
                  </a:lnTo>
                  <a:lnTo>
                    <a:pt x="1429" y="988"/>
                  </a:lnTo>
                  <a:lnTo>
                    <a:pt x="1429" y="969"/>
                  </a:lnTo>
                  <a:lnTo>
                    <a:pt x="1429" y="925"/>
                  </a:lnTo>
                  <a:lnTo>
                    <a:pt x="1428" y="871"/>
                  </a:lnTo>
                  <a:lnTo>
                    <a:pt x="1427" y="808"/>
                  </a:lnTo>
                  <a:lnTo>
                    <a:pt x="1426" y="737"/>
                  </a:lnTo>
                  <a:lnTo>
                    <a:pt x="1424" y="659"/>
                  </a:lnTo>
                  <a:lnTo>
                    <a:pt x="1422" y="571"/>
                  </a:lnTo>
                  <a:lnTo>
                    <a:pt x="1420" y="474"/>
                  </a:lnTo>
                  <a:lnTo>
                    <a:pt x="1418" y="369"/>
                  </a:lnTo>
                  <a:lnTo>
                    <a:pt x="1417" y="322"/>
                  </a:lnTo>
                  <a:lnTo>
                    <a:pt x="1416" y="279"/>
                  </a:lnTo>
                  <a:lnTo>
                    <a:pt x="1415" y="243"/>
                  </a:lnTo>
                  <a:lnTo>
                    <a:pt x="1414" y="213"/>
                  </a:lnTo>
                  <a:lnTo>
                    <a:pt x="1413" y="187"/>
                  </a:lnTo>
                  <a:lnTo>
                    <a:pt x="1411" y="168"/>
                  </a:lnTo>
                  <a:lnTo>
                    <a:pt x="1410" y="155"/>
                  </a:lnTo>
                  <a:lnTo>
                    <a:pt x="1409" y="148"/>
                  </a:lnTo>
                  <a:lnTo>
                    <a:pt x="1404" y="140"/>
                  </a:lnTo>
                  <a:lnTo>
                    <a:pt x="1399" y="131"/>
                  </a:lnTo>
                  <a:lnTo>
                    <a:pt x="1392" y="124"/>
                  </a:lnTo>
                  <a:lnTo>
                    <a:pt x="1383" y="116"/>
                  </a:lnTo>
                  <a:lnTo>
                    <a:pt x="1376" y="113"/>
                  </a:lnTo>
                  <a:lnTo>
                    <a:pt x="1366" y="109"/>
                  </a:lnTo>
                  <a:lnTo>
                    <a:pt x="1352" y="103"/>
                  </a:lnTo>
                  <a:lnTo>
                    <a:pt x="1334" y="99"/>
                  </a:lnTo>
                  <a:lnTo>
                    <a:pt x="1289" y="89"/>
                  </a:lnTo>
                  <a:lnTo>
                    <a:pt x="1230" y="77"/>
                  </a:lnTo>
                  <a:lnTo>
                    <a:pt x="1219" y="75"/>
                  </a:lnTo>
                  <a:lnTo>
                    <a:pt x="1207" y="72"/>
                  </a:lnTo>
                  <a:lnTo>
                    <a:pt x="1194" y="69"/>
                  </a:lnTo>
                  <a:lnTo>
                    <a:pt x="1178" y="64"/>
                  </a:lnTo>
                  <a:lnTo>
                    <a:pt x="1178" y="0"/>
                  </a:lnTo>
                  <a:lnTo>
                    <a:pt x="1225" y="2"/>
                  </a:lnTo>
                  <a:lnTo>
                    <a:pt x="1271" y="5"/>
                  </a:lnTo>
                  <a:lnTo>
                    <a:pt x="1313" y="7"/>
                  </a:lnTo>
                  <a:lnTo>
                    <a:pt x="1354" y="8"/>
                  </a:lnTo>
                  <a:lnTo>
                    <a:pt x="1391" y="10"/>
                  </a:lnTo>
                  <a:lnTo>
                    <a:pt x="1427" y="10"/>
                  </a:lnTo>
                  <a:lnTo>
                    <a:pt x="1458" y="11"/>
                  </a:lnTo>
                  <a:lnTo>
                    <a:pt x="1489" y="11"/>
                  </a:lnTo>
                  <a:lnTo>
                    <a:pt x="1519" y="11"/>
                  </a:lnTo>
                  <a:lnTo>
                    <a:pt x="1551" y="10"/>
                  </a:lnTo>
                  <a:lnTo>
                    <a:pt x="1585" y="10"/>
                  </a:lnTo>
                  <a:lnTo>
                    <a:pt x="1623" y="8"/>
                  </a:lnTo>
                  <a:lnTo>
                    <a:pt x="1663" y="7"/>
                  </a:lnTo>
                  <a:lnTo>
                    <a:pt x="1706" y="5"/>
                  </a:lnTo>
                  <a:lnTo>
                    <a:pt x="1752" y="2"/>
                  </a:lnTo>
                  <a:lnTo>
                    <a:pt x="1799" y="0"/>
                  </a:lnTo>
                  <a:lnTo>
                    <a:pt x="1799" y="64"/>
                  </a:lnTo>
                  <a:lnTo>
                    <a:pt x="1786" y="69"/>
                  </a:lnTo>
                  <a:lnTo>
                    <a:pt x="1773" y="71"/>
                  </a:lnTo>
                  <a:lnTo>
                    <a:pt x="1763" y="73"/>
                  </a:lnTo>
                  <a:lnTo>
                    <a:pt x="1755" y="74"/>
                  </a:lnTo>
                  <a:lnTo>
                    <a:pt x="1721" y="81"/>
                  </a:lnTo>
                  <a:lnTo>
                    <a:pt x="1690" y="89"/>
                  </a:lnTo>
                  <a:lnTo>
                    <a:pt x="1663" y="95"/>
                  </a:lnTo>
                  <a:lnTo>
                    <a:pt x="1641" y="100"/>
                  </a:lnTo>
                  <a:lnTo>
                    <a:pt x="1623" y="105"/>
                  </a:lnTo>
                  <a:lnTo>
                    <a:pt x="1608" y="109"/>
                  </a:lnTo>
                  <a:lnTo>
                    <a:pt x="1597" y="112"/>
                  </a:lnTo>
                  <a:lnTo>
                    <a:pt x="1591" y="115"/>
                  </a:lnTo>
                  <a:lnTo>
                    <a:pt x="1585" y="118"/>
                  </a:lnTo>
                  <a:lnTo>
                    <a:pt x="1580" y="124"/>
                  </a:lnTo>
                  <a:lnTo>
                    <a:pt x="1576" y="129"/>
                  </a:lnTo>
                  <a:lnTo>
                    <a:pt x="1572" y="135"/>
                  </a:lnTo>
                  <a:lnTo>
                    <a:pt x="1569" y="140"/>
                  </a:lnTo>
                  <a:lnTo>
                    <a:pt x="1566" y="146"/>
                  </a:lnTo>
                  <a:lnTo>
                    <a:pt x="1564" y="152"/>
                  </a:lnTo>
                  <a:lnTo>
                    <a:pt x="1562" y="161"/>
                  </a:lnTo>
                  <a:lnTo>
                    <a:pt x="1559" y="179"/>
                  </a:lnTo>
                  <a:lnTo>
                    <a:pt x="1556" y="201"/>
                  </a:lnTo>
                  <a:lnTo>
                    <a:pt x="1556" y="211"/>
                  </a:lnTo>
                  <a:lnTo>
                    <a:pt x="1556" y="227"/>
                  </a:lnTo>
                  <a:lnTo>
                    <a:pt x="1555" y="253"/>
                  </a:lnTo>
                  <a:lnTo>
                    <a:pt x="1555" y="287"/>
                  </a:lnTo>
                  <a:lnTo>
                    <a:pt x="1554" y="328"/>
                  </a:lnTo>
                  <a:lnTo>
                    <a:pt x="1553" y="378"/>
                  </a:lnTo>
                  <a:lnTo>
                    <a:pt x="1552" y="435"/>
                  </a:lnTo>
                  <a:lnTo>
                    <a:pt x="1551" y="501"/>
                  </a:lnTo>
                  <a:lnTo>
                    <a:pt x="1551" y="571"/>
                  </a:lnTo>
                  <a:lnTo>
                    <a:pt x="1549" y="640"/>
                  </a:lnTo>
                  <a:lnTo>
                    <a:pt x="1548" y="709"/>
                  </a:lnTo>
                  <a:lnTo>
                    <a:pt x="1548" y="776"/>
                  </a:lnTo>
                  <a:lnTo>
                    <a:pt x="1547" y="843"/>
                  </a:lnTo>
                  <a:lnTo>
                    <a:pt x="1547" y="910"/>
                  </a:lnTo>
                  <a:lnTo>
                    <a:pt x="1547" y="976"/>
                  </a:lnTo>
                  <a:lnTo>
                    <a:pt x="1547" y="1041"/>
                  </a:lnTo>
                  <a:lnTo>
                    <a:pt x="1547" y="1117"/>
                  </a:lnTo>
                  <a:lnTo>
                    <a:pt x="1548" y="1190"/>
                  </a:lnTo>
                  <a:lnTo>
                    <a:pt x="1548" y="1259"/>
                  </a:lnTo>
                  <a:lnTo>
                    <a:pt x="1551" y="1325"/>
                  </a:lnTo>
                  <a:lnTo>
                    <a:pt x="1552" y="1389"/>
                  </a:lnTo>
                  <a:lnTo>
                    <a:pt x="1554" y="1450"/>
                  </a:lnTo>
                  <a:lnTo>
                    <a:pt x="1556" y="1508"/>
                  </a:lnTo>
                  <a:lnTo>
                    <a:pt x="1559" y="1563"/>
                  </a:lnTo>
                  <a:lnTo>
                    <a:pt x="1487" y="1596"/>
                  </a:lnTo>
                  <a:lnTo>
                    <a:pt x="1027" y="1025"/>
                  </a:lnTo>
                  <a:lnTo>
                    <a:pt x="426" y="301"/>
                  </a:lnTo>
                  <a:lnTo>
                    <a:pt x="431" y="951"/>
                  </a:lnTo>
                  <a:lnTo>
                    <a:pt x="432" y="1052"/>
                  </a:lnTo>
                  <a:lnTo>
                    <a:pt x="434" y="1140"/>
                  </a:lnTo>
                  <a:lnTo>
                    <a:pt x="435" y="1215"/>
                  </a:lnTo>
                  <a:lnTo>
                    <a:pt x="437" y="1279"/>
                  </a:lnTo>
                  <a:lnTo>
                    <a:pt x="438" y="1330"/>
                  </a:lnTo>
                  <a:lnTo>
                    <a:pt x="439" y="1368"/>
                  </a:lnTo>
                  <a:lnTo>
                    <a:pt x="442" y="1393"/>
                  </a:lnTo>
                  <a:lnTo>
                    <a:pt x="444" y="1407"/>
                  </a:lnTo>
                  <a:lnTo>
                    <a:pt x="446" y="1416"/>
                  </a:lnTo>
                  <a:lnTo>
                    <a:pt x="450" y="1426"/>
                  </a:lnTo>
                  <a:lnTo>
                    <a:pt x="456" y="1433"/>
                  </a:lnTo>
                  <a:lnTo>
                    <a:pt x="463" y="1441"/>
                  </a:lnTo>
                  <a:lnTo>
                    <a:pt x="470" y="1447"/>
                  </a:lnTo>
                  <a:lnTo>
                    <a:pt x="482" y="1452"/>
                  </a:lnTo>
                  <a:lnTo>
                    <a:pt x="498" y="1458"/>
                  </a:lnTo>
                  <a:lnTo>
                    <a:pt x="516" y="1464"/>
                  </a:lnTo>
                  <a:lnTo>
                    <a:pt x="538" y="1469"/>
                  </a:lnTo>
                  <a:lnTo>
                    <a:pt x="564" y="1476"/>
                  </a:lnTo>
                  <a:lnTo>
                    <a:pt x="594" y="1481"/>
                  </a:lnTo>
                  <a:lnTo>
                    <a:pt x="627" y="1487"/>
                  </a:lnTo>
                  <a:lnTo>
                    <a:pt x="636" y="1489"/>
                  </a:lnTo>
                  <a:lnTo>
                    <a:pt x="648" y="1491"/>
                  </a:lnTo>
                  <a:lnTo>
                    <a:pt x="661" y="1494"/>
                  </a:lnTo>
                  <a:lnTo>
                    <a:pt x="677" y="1497"/>
                  </a:lnTo>
                  <a:lnTo>
                    <a:pt x="677" y="1563"/>
                  </a:lnTo>
                  <a:lnTo>
                    <a:pt x="635" y="1560"/>
                  </a:lnTo>
                  <a:lnTo>
                    <a:pt x="595" y="1557"/>
                  </a:lnTo>
                  <a:lnTo>
                    <a:pt x="558" y="1555"/>
                  </a:lnTo>
                  <a:lnTo>
                    <a:pt x="521" y="1553"/>
                  </a:lnTo>
                  <a:lnTo>
                    <a:pt x="487" y="1552"/>
                  </a:lnTo>
                  <a:lnTo>
                    <a:pt x="453" y="1551"/>
                  </a:lnTo>
                  <a:lnTo>
                    <a:pt x="423" y="1550"/>
                  </a:lnTo>
                  <a:lnTo>
                    <a:pt x="393" y="1550"/>
                  </a:lnTo>
                  <a:lnTo>
                    <a:pt x="366" y="1550"/>
                  </a:lnTo>
                  <a:lnTo>
                    <a:pt x="335" y="1551"/>
                  </a:lnTo>
                  <a:lnTo>
                    <a:pt x="300" y="1552"/>
                  </a:lnTo>
                  <a:lnTo>
                    <a:pt x="259" y="1553"/>
                  </a:lnTo>
                  <a:lnTo>
                    <a:pt x="215" y="1555"/>
                  </a:lnTo>
                  <a:lnTo>
                    <a:pt x="166" y="1557"/>
                  </a:lnTo>
                  <a:lnTo>
                    <a:pt x="112" y="1560"/>
                  </a:lnTo>
                  <a:lnTo>
                    <a:pt x="55" y="1563"/>
                  </a:lnTo>
                  <a:lnTo>
                    <a:pt x="55" y="1497"/>
                  </a:lnTo>
                  <a:lnTo>
                    <a:pt x="73" y="1493"/>
                  </a:lnTo>
                  <a:lnTo>
                    <a:pt x="89" y="1490"/>
                  </a:lnTo>
                  <a:lnTo>
                    <a:pt x="102" y="1486"/>
                  </a:lnTo>
                  <a:lnTo>
                    <a:pt x="113" y="1484"/>
                  </a:lnTo>
                  <a:lnTo>
                    <a:pt x="144" y="1478"/>
                  </a:lnTo>
                  <a:lnTo>
                    <a:pt x="173" y="1473"/>
                  </a:lnTo>
                  <a:lnTo>
                    <a:pt x="196" y="1467"/>
                  </a:lnTo>
                  <a:lnTo>
                    <a:pt x="217" y="1462"/>
                  </a:lnTo>
                  <a:lnTo>
                    <a:pt x="235" y="1457"/>
                  </a:lnTo>
                  <a:lnTo>
                    <a:pt x="249" y="1451"/>
                  </a:lnTo>
                  <a:lnTo>
                    <a:pt x="259" y="1446"/>
                  </a:lnTo>
                  <a:lnTo>
                    <a:pt x="266" y="1441"/>
                  </a:lnTo>
                  <a:lnTo>
                    <a:pt x="272" y="1436"/>
                  </a:lnTo>
                  <a:lnTo>
                    <a:pt x="276" y="1428"/>
                  </a:lnTo>
                  <a:lnTo>
                    <a:pt x="281" y="1419"/>
                  </a:lnTo>
                  <a:lnTo>
                    <a:pt x="284" y="1407"/>
                  </a:lnTo>
                  <a:lnTo>
                    <a:pt x="286" y="1390"/>
                  </a:lnTo>
                  <a:lnTo>
                    <a:pt x="288" y="1363"/>
                  </a:lnTo>
                  <a:lnTo>
                    <a:pt x="291" y="1330"/>
                  </a:lnTo>
                  <a:lnTo>
                    <a:pt x="292" y="1286"/>
                  </a:lnTo>
                  <a:lnTo>
                    <a:pt x="294" y="1233"/>
                  </a:lnTo>
                  <a:lnTo>
                    <a:pt x="295" y="1173"/>
                  </a:lnTo>
                  <a:lnTo>
                    <a:pt x="296" y="1103"/>
                  </a:lnTo>
                  <a:lnTo>
                    <a:pt x="298" y="1024"/>
                  </a:lnTo>
                  <a:lnTo>
                    <a:pt x="300" y="912"/>
                  </a:lnTo>
                  <a:lnTo>
                    <a:pt x="301" y="812"/>
                  </a:lnTo>
                  <a:lnTo>
                    <a:pt x="302" y="724"/>
                  </a:lnTo>
                  <a:lnTo>
                    <a:pt x="302" y="649"/>
                  </a:lnTo>
                  <a:lnTo>
                    <a:pt x="303" y="586"/>
                  </a:lnTo>
                  <a:lnTo>
                    <a:pt x="303" y="534"/>
                  </a:lnTo>
                  <a:lnTo>
                    <a:pt x="304" y="493"/>
                  </a:lnTo>
                  <a:lnTo>
                    <a:pt x="304" y="466"/>
                  </a:lnTo>
                  <a:lnTo>
                    <a:pt x="304" y="401"/>
                  </a:lnTo>
                  <a:lnTo>
                    <a:pt x="303" y="344"/>
                  </a:lnTo>
                  <a:lnTo>
                    <a:pt x="303" y="293"/>
                  </a:lnTo>
                  <a:lnTo>
                    <a:pt x="302" y="252"/>
                  </a:lnTo>
                  <a:lnTo>
                    <a:pt x="301" y="217"/>
                  </a:lnTo>
                  <a:lnTo>
                    <a:pt x="299" y="190"/>
                  </a:lnTo>
                  <a:lnTo>
                    <a:pt x="298" y="170"/>
                  </a:lnTo>
                  <a:lnTo>
                    <a:pt x="295" y="160"/>
                  </a:lnTo>
                  <a:lnTo>
                    <a:pt x="294" y="154"/>
                  </a:lnTo>
                  <a:lnTo>
                    <a:pt x="292" y="149"/>
                  </a:lnTo>
                  <a:lnTo>
                    <a:pt x="289" y="144"/>
                  </a:lnTo>
                  <a:lnTo>
                    <a:pt x="286" y="138"/>
                  </a:lnTo>
                  <a:lnTo>
                    <a:pt x="283" y="134"/>
                  </a:lnTo>
                  <a:lnTo>
                    <a:pt x="277" y="130"/>
                  </a:lnTo>
                  <a:lnTo>
                    <a:pt x="273" y="126"/>
                  </a:lnTo>
                  <a:lnTo>
                    <a:pt x="267" y="123"/>
                  </a:lnTo>
                  <a:lnTo>
                    <a:pt x="258" y="118"/>
                  </a:lnTo>
                  <a:lnTo>
                    <a:pt x="245" y="114"/>
                  </a:lnTo>
                  <a:lnTo>
                    <a:pt x="227" y="109"/>
                  </a:lnTo>
                  <a:lnTo>
                    <a:pt x="203" y="103"/>
                  </a:lnTo>
                  <a:lnTo>
                    <a:pt x="175" y="97"/>
                  </a:lnTo>
                  <a:lnTo>
                    <a:pt x="141" y="91"/>
                  </a:lnTo>
                  <a:lnTo>
                    <a:pt x="103" y="84"/>
                  </a:lnTo>
                  <a:lnTo>
                    <a:pt x="59" y="77"/>
                  </a:lnTo>
                  <a:lnTo>
                    <a:pt x="48" y="75"/>
                  </a:lnTo>
                  <a:lnTo>
                    <a:pt x="34" y="72"/>
                  </a:lnTo>
                  <a:lnTo>
                    <a:pt x="18" y="69"/>
                  </a:lnTo>
                  <a:lnTo>
                    <a:pt x="0" y="64"/>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486" name="Freeform 80"/>
            <p:cNvSpPr/>
            <p:nvPr/>
          </p:nvSpPr>
          <p:spPr>
            <a:xfrm>
              <a:off x="3665880" y="714240"/>
              <a:ext cx="254160" cy="220320"/>
            </a:xfrm>
            <a:custGeom>
              <a:avLst/>
              <a:gdLst>
                <a:gd name="textAreaLeft" fmla="*/ 0 w 254160"/>
                <a:gd name="textAreaRight" fmla="*/ 254520 w 254160"/>
                <a:gd name="textAreaTop" fmla="*/ 0 h 220320"/>
                <a:gd name="textAreaBottom" fmla="*/ 220680 h 220320"/>
              </a:gdLst>
              <a:ahLst/>
              <a:rect l="textAreaLeft" t="textAreaTop" r="textAreaRight" b="textAreaBottom"/>
              <a:pathLst>
                <a:path w="1708" h="1590">
                  <a:moveTo>
                    <a:pt x="816" y="0"/>
                  </a:moveTo>
                  <a:lnTo>
                    <a:pt x="886" y="0"/>
                  </a:lnTo>
                  <a:lnTo>
                    <a:pt x="905" y="48"/>
                  </a:lnTo>
                  <a:lnTo>
                    <a:pt x="924" y="98"/>
                  </a:lnTo>
                  <a:lnTo>
                    <a:pt x="945" y="147"/>
                  </a:lnTo>
                  <a:lnTo>
                    <a:pt x="965" y="197"/>
                  </a:lnTo>
                  <a:lnTo>
                    <a:pt x="986" y="249"/>
                  </a:lnTo>
                  <a:lnTo>
                    <a:pt x="1007" y="301"/>
                  </a:lnTo>
                  <a:lnTo>
                    <a:pt x="1029" y="354"/>
                  </a:lnTo>
                  <a:lnTo>
                    <a:pt x="1052" y="408"/>
                  </a:lnTo>
                  <a:lnTo>
                    <a:pt x="1075" y="462"/>
                  </a:lnTo>
                  <a:lnTo>
                    <a:pt x="1099" y="517"/>
                  </a:lnTo>
                  <a:lnTo>
                    <a:pt x="1123" y="573"/>
                  </a:lnTo>
                  <a:lnTo>
                    <a:pt x="1148" y="631"/>
                  </a:lnTo>
                  <a:lnTo>
                    <a:pt x="1173" y="689"/>
                  </a:lnTo>
                  <a:lnTo>
                    <a:pt x="1199" y="747"/>
                  </a:lnTo>
                  <a:lnTo>
                    <a:pt x="1225" y="807"/>
                  </a:lnTo>
                  <a:lnTo>
                    <a:pt x="1252" y="867"/>
                  </a:lnTo>
                  <a:lnTo>
                    <a:pt x="1508" y="1428"/>
                  </a:lnTo>
                  <a:lnTo>
                    <a:pt x="1518" y="1441"/>
                  </a:lnTo>
                  <a:lnTo>
                    <a:pt x="1527" y="1453"/>
                  </a:lnTo>
                  <a:lnTo>
                    <a:pt x="1537" y="1464"/>
                  </a:lnTo>
                  <a:lnTo>
                    <a:pt x="1547" y="1472"/>
                  </a:lnTo>
                  <a:lnTo>
                    <a:pt x="1553" y="1474"/>
                  </a:lnTo>
                  <a:lnTo>
                    <a:pt x="1562" y="1478"/>
                  </a:lnTo>
                  <a:lnTo>
                    <a:pt x="1576" y="1484"/>
                  </a:lnTo>
                  <a:lnTo>
                    <a:pt x="1594" y="1490"/>
                  </a:lnTo>
                  <a:lnTo>
                    <a:pt x="1616" y="1496"/>
                  </a:lnTo>
                  <a:lnTo>
                    <a:pt x="1643" y="1505"/>
                  </a:lnTo>
                  <a:lnTo>
                    <a:pt x="1673" y="1514"/>
                  </a:lnTo>
                  <a:lnTo>
                    <a:pt x="1708" y="1524"/>
                  </a:lnTo>
                  <a:lnTo>
                    <a:pt x="1708" y="1590"/>
                  </a:lnTo>
                  <a:lnTo>
                    <a:pt x="1660" y="1587"/>
                  </a:lnTo>
                  <a:lnTo>
                    <a:pt x="1615" y="1584"/>
                  </a:lnTo>
                  <a:lnTo>
                    <a:pt x="1573" y="1582"/>
                  </a:lnTo>
                  <a:lnTo>
                    <a:pt x="1535" y="1580"/>
                  </a:lnTo>
                  <a:lnTo>
                    <a:pt x="1500" y="1579"/>
                  </a:lnTo>
                  <a:lnTo>
                    <a:pt x="1468" y="1578"/>
                  </a:lnTo>
                  <a:lnTo>
                    <a:pt x="1439" y="1577"/>
                  </a:lnTo>
                  <a:lnTo>
                    <a:pt x="1414" y="1577"/>
                  </a:lnTo>
                  <a:lnTo>
                    <a:pt x="1387" y="1577"/>
                  </a:lnTo>
                  <a:lnTo>
                    <a:pt x="1357" y="1578"/>
                  </a:lnTo>
                  <a:lnTo>
                    <a:pt x="1322" y="1579"/>
                  </a:lnTo>
                  <a:lnTo>
                    <a:pt x="1282" y="1580"/>
                  </a:lnTo>
                  <a:lnTo>
                    <a:pt x="1239" y="1582"/>
                  </a:lnTo>
                  <a:lnTo>
                    <a:pt x="1191" y="1584"/>
                  </a:lnTo>
                  <a:lnTo>
                    <a:pt x="1140" y="1587"/>
                  </a:lnTo>
                  <a:lnTo>
                    <a:pt x="1083" y="1590"/>
                  </a:lnTo>
                  <a:lnTo>
                    <a:pt x="1083" y="1524"/>
                  </a:lnTo>
                  <a:lnTo>
                    <a:pt x="1143" y="1511"/>
                  </a:lnTo>
                  <a:lnTo>
                    <a:pt x="1188" y="1500"/>
                  </a:lnTo>
                  <a:lnTo>
                    <a:pt x="1206" y="1494"/>
                  </a:lnTo>
                  <a:lnTo>
                    <a:pt x="1220" y="1489"/>
                  </a:lnTo>
                  <a:lnTo>
                    <a:pt x="1231" y="1485"/>
                  </a:lnTo>
                  <a:lnTo>
                    <a:pt x="1238" y="1481"/>
                  </a:lnTo>
                  <a:lnTo>
                    <a:pt x="1243" y="1476"/>
                  </a:lnTo>
                  <a:lnTo>
                    <a:pt x="1248" y="1472"/>
                  </a:lnTo>
                  <a:lnTo>
                    <a:pt x="1252" y="1467"/>
                  </a:lnTo>
                  <a:lnTo>
                    <a:pt x="1255" y="1463"/>
                  </a:lnTo>
                  <a:lnTo>
                    <a:pt x="1257" y="1457"/>
                  </a:lnTo>
                  <a:lnTo>
                    <a:pt x="1259" y="1453"/>
                  </a:lnTo>
                  <a:lnTo>
                    <a:pt x="1260" y="1448"/>
                  </a:lnTo>
                  <a:lnTo>
                    <a:pt x="1260" y="1441"/>
                  </a:lnTo>
                  <a:lnTo>
                    <a:pt x="1260" y="1436"/>
                  </a:lnTo>
                  <a:lnTo>
                    <a:pt x="1259" y="1429"/>
                  </a:lnTo>
                  <a:lnTo>
                    <a:pt x="1257" y="1420"/>
                  </a:lnTo>
                  <a:lnTo>
                    <a:pt x="1255" y="1411"/>
                  </a:lnTo>
                  <a:lnTo>
                    <a:pt x="1248" y="1389"/>
                  </a:lnTo>
                  <a:lnTo>
                    <a:pt x="1237" y="1364"/>
                  </a:lnTo>
                  <a:lnTo>
                    <a:pt x="1127" y="1095"/>
                  </a:lnTo>
                  <a:lnTo>
                    <a:pt x="1071" y="1095"/>
                  </a:lnTo>
                  <a:lnTo>
                    <a:pt x="1018" y="1094"/>
                  </a:lnTo>
                  <a:lnTo>
                    <a:pt x="969" y="1094"/>
                  </a:lnTo>
                  <a:lnTo>
                    <a:pt x="924" y="1093"/>
                  </a:lnTo>
                  <a:lnTo>
                    <a:pt x="884" y="1093"/>
                  </a:lnTo>
                  <a:lnTo>
                    <a:pt x="847" y="1093"/>
                  </a:lnTo>
                  <a:lnTo>
                    <a:pt x="814" y="1093"/>
                  </a:lnTo>
                  <a:lnTo>
                    <a:pt x="786" y="1093"/>
                  </a:lnTo>
                  <a:lnTo>
                    <a:pt x="484" y="1095"/>
                  </a:lnTo>
                  <a:lnTo>
                    <a:pt x="368" y="1374"/>
                  </a:lnTo>
                  <a:lnTo>
                    <a:pt x="357" y="1404"/>
                  </a:lnTo>
                  <a:lnTo>
                    <a:pt x="347" y="1428"/>
                  </a:lnTo>
                  <a:lnTo>
                    <a:pt x="342" y="1446"/>
                  </a:lnTo>
                  <a:lnTo>
                    <a:pt x="340" y="1457"/>
                  </a:lnTo>
                  <a:lnTo>
                    <a:pt x="341" y="1464"/>
                  </a:lnTo>
                  <a:lnTo>
                    <a:pt x="344" y="1470"/>
                  </a:lnTo>
                  <a:lnTo>
                    <a:pt x="348" y="1476"/>
                  </a:lnTo>
                  <a:lnTo>
                    <a:pt x="354" y="1481"/>
                  </a:lnTo>
                  <a:lnTo>
                    <a:pt x="359" y="1484"/>
                  </a:lnTo>
                  <a:lnTo>
                    <a:pt x="367" y="1487"/>
                  </a:lnTo>
                  <a:lnTo>
                    <a:pt x="378" y="1490"/>
                  </a:lnTo>
                  <a:lnTo>
                    <a:pt x="393" y="1494"/>
                  </a:lnTo>
                  <a:lnTo>
                    <a:pt x="431" y="1503"/>
                  </a:lnTo>
                  <a:lnTo>
                    <a:pt x="483" y="1514"/>
                  </a:lnTo>
                  <a:lnTo>
                    <a:pt x="489" y="1517"/>
                  </a:lnTo>
                  <a:lnTo>
                    <a:pt x="497" y="1519"/>
                  </a:lnTo>
                  <a:lnTo>
                    <a:pt x="506" y="1521"/>
                  </a:lnTo>
                  <a:lnTo>
                    <a:pt x="516" y="1524"/>
                  </a:lnTo>
                  <a:lnTo>
                    <a:pt x="516" y="1590"/>
                  </a:lnTo>
                  <a:lnTo>
                    <a:pt x="471" y="1587"/>
                  </a:lnTo>
                  <a:lnTo>
                    <a:pt x="429" y="1584"/>
                  </a:lnTo>
                  <a:lnTo>
                    <a:pt x="391" y="1582"/>
                  </a:lnTo>
                  <a:lnTo>
                    <a:pt x="356" y="1580"/>
                  </a:lnTo>
                  <a:lnTo>
                    <a:pt x="324" y="1579"/>
                  </a:lnTo>
                  <a:lnTo>
                    <a:pt x="296" y="1578"/>
                  </a:lnTo>
                  <a:lnTo>
                    <a:pt x="272" y="1577"/>
                  </a:lnTo>
                  <a:lnTo>
                    <a:pt x="251" y="1577"/>
                  </a:lnTo>
                  <a:lnTo>
                    <a:pt x="225" y="1577"/>
                  </a:lnTo>
                  <a:lnTo>
                    <a:pt x="199" y="1578"/>
                  </a:lnTo>
                  <a:lnTo>
                    <a:pt x="169" y="1579"/>
                  </a:lnTo>
                  <a:lnTo>
                    <a:pt x="140" y="1580"/>
                  </a:lnTo>
                  <a:lnTo>
                    <a:pt x="107" y="1582"/>
                  </a:lnTo>
                  <a:lnTo>
                    <a:pt x="73" y="1584"/>
                  </a:lnTo>
                  <a:lnTo>
                    <a:pt x="37" y="1587"/>
                  </a:lnTo>
                  <a:lnTo>
                    <a:pt x="0" y="1590"/>
                  </a:lnTo>
                  <a:lnTo>
                    <a:pt x="0" y="1524"/>
                  </a:lnTo>
                  <a:lnTo>
                    <a:pt x="24" y="1519"/>
                  </a:lnTo>
                  <a:lnTo>
                    <a:pt x="46" y="1512"/>
                  </a:lnTo>
                  <a:lnTo>
                    <a:pt x="67" y="1507"/>
                  </a:lnTo>
                  <a:lnTo>
                    <a:pt x="85" y="1501"/>
                  </a:lnTo>
                  <a:lnTo>
                    <a:pt x="100" y="1494"/>
                  </a:lnTo>
                  <a:lnTo>
                    <a:pt x="115" y="1488"/>
                  </a:lnTo>
                  <a:lnTo>
                    <a:pt x="127" y="1482"/>
                  </a:lnTo>
                  <a:lnTo>
                    <a:pt x="138" y="1475"/>
                  </a:lnTo>
                  <a:lnTo>
                    <a:pt x="145" y="1469"/>
                  </a:lnTo>
                  <a:lnTo>
                    <a:pt x="151" y="1463"/>
                  </a:lnTo>
                  <a:lnTo>
                    <a:pt x="159" y="1455"/>
                  </a:lnTo>
                  <a:lnTo>
                    <a:pt x="166" y="1447"/>
                  </a:lnTo>
                  <a:lnTo>
                    <a:pt x="180" y="1428"/>
                  </a:lnTo>
                  <a:lnTo>
                    <a:pt x="195" y="1404"/>
                  </a:lnTo>
                  <a:lnTo>
                    <a:pt x="214" y="1369"/>
                  </a:lnTo>
                  <a:lnTo>
                    <a:pt x="238" y="1319"/>
                  </a:lnTo>
                  <a:lnTo>
                    <a:pt x="269" y="1255"/>
                  </a:lnTo>
                  <a:lnTo>
                    <a:pt x="306" y="1174"/>
                  </a:lnTo>
                  <a:lnTo>
                    <a:pt x="349" y="1079"/>
                  </a:lnTo>
                  <a:lnTo>
                    <a:pt x="398" y="969"/>
                  </a:lnTo>
                  <a:lnTo>
                    <a:pt x="453" y="844"/>
                  </a:lnTo>
                  <a:lnTo>
                    <a:pt x="515" y="703"/>
                  </a:lnTo>
                  <a:lnTo>
                    <a:pt x="816" y="0"/>
                  </a:lnTo>
                  <a:close/>
                  <a:moveTo>
                    <a:pt x="526" y="985"/>
                  </a:moveTo>
                  <a:lnTo>
                    <a:pt x="563" y="986"/>
                  </a:lnTo>
                  <a:lnTo>
                    <a:pt x="597" y="987"/>
                  </a:lnTo>
                  <a:lnTo>
                    <a:pt x="629" y="988"/>
                  </a:lnTo>
                  <a:lnTo>
                    <a:pt x="658" y="988"/>
                  </a:lnTo>
                  <a:lnTo>
                    <a:pt x="684" y="989"/>
                  </a:lnTo>
                  <a:lnTo>
                    <a:pt x="707" y="989"/>
                  </a:lnTo>
                  <a:lnTo>
                    <a:pt x="727" y="989"/>
                  </a:lnTo>
                  <a:lnTo>
                    <a:pt x="745" y="989"/>
                  </a:lnTo>
                  <a:lnTo>
                    <a:pt x="755" y="989"/>
                  </a:lnTo>
                  <a:lnTo>
                    <a:pt x="774" y="989"/>
                  </a:lnTo>
                  <a:lnTo>
                    <a:pt x="802" y="989"/>
                  </a:lnTo>
                  <a:lnTo>
                    <a:pt x="840" y="988"/>
                  </a:lnTo>
                  <a:lnTo>
                    <a:pt x="886" y="988"/>
                  </a:lnTo>
                  <a:lnTo>
                    <a:pt x="942" y="987"/>
                  </a:lnTo>
                  <a:lnTo>
                    <a:pt x="1008" y="986"/>
                  </a:lnTo>
                  <a:lnTo>
                    <a:pt x="1083" y="985"/>
                  </a:lnTo>
                  <a:lnTo>
                    <a:pt x="805" y="323"/>
                  </a:lnTo>
                  <a:lnTo>
                    <a:pt x="526" y="985"/>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487" name="Freeform 81"/>
            <p:cNvSpPr/>
            <p:nvPr/>
          </p:nvSpPr>
          <p:spPr>
            <a:xfrm>
              <a:off x="3948840" y="713160"/>
              <a:ext cx="255960" cy="226080"/>
            </a:xfrm>
            <a:custGeom>
              <a:avLst/>
              <a:gdLst>
                <a:gd name="textAreaLeft" fmla="*/ 0 w 255960"/>
                <a:gd name="textAreaRight" fmla="*/ 256320 w 255960"/>
                <a:gd name="textAreaTop" fmla="*/ 0 h 226080"/>
                <a:gd name="textAreaBottom" fmla="*/ 226440 h 226080"/>
              </a:gdLst>
              <a:ahLst/>
              <a:rect l="textAreaLeft" t="textAreaTop" r="textAreaRight" b="textAreaBottom"/>
              <a:pathLst>
                <a:path w="1726" h="1629">
                  <a:moveTo>
                    <a:pt x="1726" y="790"/>
                  </a:moveTo>
                  <a:lnTo>
                    <a:pt x="1726" y="851"/>
                  </a:lnTo>
                  <a:lnTo>
                    <a:pt x="1558" y="891"/>
                  </a:lnTo>
                  <a:lnTo>
                    <a:pt x="1545" y="895"/>
                  </a:lnTo>
                  <a:lnTo>
                    <a:pt x="1534" y="899"/>
                  </a:lnTo>
                  <a:lnTo>
                    <a:pt x="1526" y="905"/>
                  </a:lnTo>
                  <a:lnTo>
                    <a:pt x="1519" y="911"/>
                  </a:lnTo>
                  <a:lnTo>
                    <a:pt x="1513" y="917"/>
                  </a:lnTo>
                  <a:lnTo>
                    <a:pt x="1509" y="926"/>
                  </a:lnTo>
                  <a:lnTo>
                    <a:pt x="1505" y="937"/>
                  </a:lnTo>
                  <a:lnTo>
                    <a:pt x="1503" y="948"/>
                  </a:lnTo>
                  <a:lnTo>
                    <a:pt x="1501" y="962"/>
                  </a:lnTo>
                  <a:lnTo>
                    <a:pt x="1498" y="982"/>
                  </a:lnTo>
                  <a:lnTo>
                    <a:pt x="1497" y="1005"/>
                  </a:lnTo>
                  <a:lnTo>
                    <a:pt x="1495" y="1034"/>
                  </a:lnTo>
                  <a:lnTo>
                    <a:pt x="1494" y="1068"/>
                  </a:lnTo>
                  <a:lnTo>
                    <a:pt x="1494" y="1106"/>
                  </a:lnTo>
                  <a:lnTo>
                    <a:pt x="1493" y="1149"/>
                  </a:lnTo>
                  <a:lnTo>
                    <a:pt x="1493" y="1195"/>
                  </a:lnTo>
                  <a:lnTo>
                    <a:pt x="1493" y="1227"/>
                  </a:lnTo>
                  <a:lnTo>
                    <a:pt x="1494" y="1261"/>
                  </a:lnTo>
                  <a:lnTo>
                    <a:pt x="1494" y="1297"/>
                  </a:lnTo>
                  <a:lnTo>
                    <a:pt x="1495" y="1336"/>
                  </a:lnTo>
                  <a:lnTo>
                    <a:pt x="1497" y="1377"/>
                  </a:lnTo>
                  <a:lnTo>
                    <a:pt x="1498" y="1422"/>
                  </a:lnTo>
                  <a:lnTo>
                    <a:pt x="1501" y="1469"/>
                  </a:lnTo>
                  <a:lnTo>
                    <a:pt x="1503" y="1518"/>
                  </a:lnTo>
                  <a:lnTo>
                    <a:pt x="1489" y="1520"/>
                  </a:lnTo>
                  <a:lnTo>
                    <a:pt x="1471" y="1524"/>
                  </a:lnTo>
                  <a:lnTo>
                    <a:pt x="1451" y="1528"/>
                  </a:lnTo>
                  <a:lnTo>
                    <a:pt x="1426" y="1533"/>
                  </a:lnTo>
                  <a:lnTo>
                    <a:pt x="1398" y="1540"/>
                  </a:lnTo>
                  <a:lnTo>
                    <a:pt x="1367" y="1546"/>
                  </a:lnTo>
                  <a:lnTo>
                    <a:pt x="1332" y="1553"/>
                  </a:lnTo>
                  <a:lnTo>
                    <a:pt x="1294" y="1562"/>
                  </a:lnTo>
                  <a:lnTo>
                    <a:pt x="1244" y="1573"/>
                  </a:lnTo>
                  <a:lnTo>
                    <a:pt x="1200" y="1583"/>
                  </a:lnTo>
                  <a:lnTo>
                    <a:pt x="1160" y="1591"/>
                  </a:lnTo>
                  <a:lnTo>
                    <a:pt x="1124" y="1599"/>
                  </a:lnTo>
                  <a:lnTo>
                    <a:pt x="1093" y="1604"/>
                  </a:lnTo>
                  <a:lnTo>
                    <a:pt x="1067" y="1609"/>
                  </a:lnTo>
                  <a:lnTo>
                    <a:pt x="1046" y="1613"/>
                  </a:lnTo>
                  <a:lnTo>
                    <a:pt x="1030" y="1615"/>
                  </a:lnTo>
                  <a:lnTo>
                    <a:pt x="1003" y="1618"/>
                  </a:lnTo>
                  <a:lnTo>
                    <a:pt x="976" y="1621"/>
                  </a:lnTo>
                  <a:lnTo>
                    <a:pt x="948" y="1623"/>
                  </a:lnTo>
                  <a:lnTo>
                    <a:pt x="920" y="1625"/>
                  </a:lnTo>
                  <a:lnTo>
                    <a:pt x="892" y="1626"/>
                  </a:lnTo>
                  <a:lnTo>
                    <a:pt x="862" y="1627"/>
                  </a:lnTo>
                  <a:lnTo>
                    <a:pt x="833" y="1629"/>
                  </a:lnTo>
                  <a:lnTo>
                    <a:pt x="804" y="1629"/>
                  </a:lnTo>
                  <a:lnTo>
                    <a:pt x="755" y="1627"/>
                  </a:lnTo>
                  <a:lnTo>
                    <a:pt x="709" y="1625"/>
                  </a:lnTo>
                  <a:lnTo>
                    <a:pt x="664" y="1621"/>
                  </a:lnTo>
                  <a:lnTo>
                    <a:pt x="620" y="1616"/>
                  </a:lnTo>
                  <a:lnTo>
                    <a:pt x="579" y="1608"/>
                  </a:lnTo>
                  <a:lnTo>
                    <a:pt x="538" y="1600"/>
                  </a:lnTo>
                  <a:lnTo>
                    <a:pt x="499" y="1589"/>
                  </a:lnTo>
                  <a:lnTo>
                    <a:pt x="460" y="1577"/>
                  </a:lnTo>
                  <a:lnTo>
                    <a:pt x="424" y="1563"/>
                  </a:lnTo>
                  <a:lnTo>
                    <a:pt x="389" y="1548"/>
                  </a:lnTo>
                  <a:lnTo>
                    <a:pt x="356" y="1531"/>
                  </a:lnTo>
                  <a:lnTo>
                    <a:pt x="323" y="1513"/>
                  </a:lnTo>
                  <a:lnTo>
                    <a:pt x="307" y="1504"/>
                  </a:lnTo>
                  <a:lnTo>
                    <a:pt x="292" y="1493"/>
                  </a:lnTo>
                  <a:lnTo>
                    <a:pt x="277" y="1482"/>
                  </a:lnTo>
                  <a:lnTo>
                    <a:pt x="262" y="1471"/>
                  </a:lnTo>
                  <a:lnTo>
                    <a:pt x="249" y="1460"/>
                  </a:lnTo>
                  <a:lnTo>
                    <a:pt x="234" y="1448"/>
                  </a:lnTo>
                  <a:lnTo>
                    <a:pt x="221" y="1436"/>
                  </a:lnTo>
                  <a:lnTo>
                    <a:pt x="207" y="1423"/>
                  </a:lnTo>
                  <a:lnTo>
                    <a:pt x="182" y="1396"/>
                  </a:lnTo>
                  <a:lnTo>
                    <a:pt x="159" y="1369"/>
                  </a:lnTo>
                  <a:lnTo>
                    <a:pt x="137" y="1340"/>
                  </a:lnTo>
                  <a:lnTo>
                    <a:pt x="116" y="1311"/>
                  </a:lnTo>
                  <a:lnTo>
                    <a:pt x="98" y="1280"/>
                  </a:lnTo>
                  <a:lnTo>
                    <a:pt x="81" y="1248"/>
                  </a:lnTo>
                  <a:lnTo>
                    <a:pt x="65" y="1214"/>
                  </a:lnTo>
                  <a:lnTo>
                    <a:pt x="52" y="1180"/>
                  </a:lnTo>
                  <a:lnTo>
                    <a:pt x="40" y="1144"/>
                  </a:lnTo>
                  <a:lnTo>
                    <a:pt x="29" y="1108"/>
                  </a:lnTo>
                  <a:lnTo>
                    <a:pt x="20" y="1070"/>
                  </a:lnTo>
                  <a:lnTo>
                    <a:pt x="12" y="1031"/>
                  </a:lnTo>
                  <a:lnTo>
                    <a:pt x="7" y="991"/>
                  </a:lnTo>
                  <a:lnTo>
                    <a:pt x="3" y="949"/>
                  </a:lnTo>
                  <a:lnTo>
                    <a:pt x="1" y="907"/>
                  </a:lnTo>
                  <a:lnTo>
                    <a:pt x="0" y="862"/>
                  </a:lnTo>
                  <a:lnTo>
                    <a:pt x="1" y="816"/>
                  </a:lnTo>
                  <a:lnTo>
                    <a:pt x="4" y="769"/>
                  </a:lnTo>
                  <a:lnTo>
                    <a:pt x="8" y="724"/>
                  </a:lnTo>
                  <a:lnTo>
                    <a:pt x="15" y="680"/>
                  </a:lnTo>
                  <a:lnTo>
                    <a:pt x="19" y="658"/>
                  </a:lnTo>
                  <a:lnTo>
                    <a:pt x="23" y="637"/>
                  </a:lnTo>
                  <a:lnTo>
                    <a:pt x="28" y="615"/>
                  </a:lnTo>
                  <a:lnTo>
                    <a:pt x="34" y="595"/>
                  </a:lnTo>
                  <a:lnTo>
                    <a:pt x="40" y="574"/>
                  </a:lnTo>
                  <a:lnTo>
                    <a:pt x="46" y="554"/>
                  </a:lnTo>
                  <a:lnTo>
                    <a:pt x="54" y="534"/>
                  </a:lnTo>
                  <a:lnTo>
                    <a:pt x="61" y="515"/>
                  </a:lnTo>
                  <a:lnTo>
                    <a:pt x="69" y="496"/>
                  </a:lnTo>
                  <a:lnTo>
                    <a:pt x="77" y="477"/>
                  </a:lnTo>
                  <a:lnTo>
                    <a:pt x="86" y="458"/>
                  </a:lnTo>
                  <a:lnTo>
                    <a:pt x="95" y="438"/>
                  </a:lnTo>
                  <a:lnTo>
                    <a:pt x="105" y="420"/>
                  </a:lnTo>
                  <a:lnTo>
                    <a:pt x="115" y="402"/>
                  </a:lnTo>
                  <a:lnTo>
                    <a:pt x="126" y="386"/>
                  </a:lnTo>
                  <a:lnTo>
                    <a:pt x="137" y="367"/>
                  </a:lnTo>
                  <a:lnTo>
                    <a:pt x="149" y="351"/>
                  </a:lnTo>
                  <a:lnTo>
                    <a:pt x="161" y="334"/>
                  </a:lnTo>
                  <a:lnTo>
                    <a:pt x="173" y="318"/>
                  </a:lnTo>
                  <a:lnTo>
                    <a:pt x="186" y="301"/>
                  </a:lnTo>
                  <a:lnTo>
                    <a:pt x="200" y="285"/>
                  </a:lnTo>
                  <a:lnTo>
                    <a:pt x="214" y="269"/>
                  </a:lnTo>
                  <a:lnTo>
                    <a:pt x="228" y="254"/>
                  </a:lnTo>
                  <a:lnTo>
                    <a:pt x="243" y="239"/>
                  </a:lnTo>
                  <a:lnTo>
                    <a:pt x="259" y="224"/>
                  </a:lnTo>
                  <a:lnTo>
                    <a:pt x="275" y="210"/>
                  </a:lnTo>
                  <a:lnTo>
                    <a:pt x="291" y="196"/>
                  </a:lnTo>
                  <a:lnTo>
                    <a:pt x="307" y="183"/>
                  </a:lnTo>
                  <a:lnTo>
                    <a:pt x="324" y="170"/>
                  </a:lnTo>
                  <a:lnTo>
                    <a:pt x="341" y="158"/>
                  </a:lnTo>
                  <a:lnTo>
                    <a:pt x="358" y="146"/>
                  </a:lnTo>
                  <a:lnTo>
                    <a:pt x="376" y="134"/>
                  </a:lnTo>
                  <a:lnTo>
                    <a:pt x="394" y="123"/>
                  </a:lnTo>
                  <a:lnTo>
                    <a:pt x="412" y="113"/>
                  </a:lnTo>
                  <a:lnTo>
                    <a:pt x="430" y="103"/>
                  </a:lnTo>
                  <a:lnTo>
                    <a:pt x="449" y="93"/>
                  </a:lnTo>
                  <a:lnTo>
                    <a:pt x="468" y="83"/>
                  </a:lnTo>
                  <a:lnTo>
                    <a:pt x="488" y="75"/>
                  </a:lnTo>
                  <a:lnTo>
                    <a:pt x="507" y="68"/>
                  </a:lnTo>
                  <a:lnTo>
                    <a:pt x="527" y="59"/>
                  </a:lnTo>
                  <a:lnTo>
                    <a:pt x="548" y="52"/>
                  </a:lnTo>
                  <a:lnTo>
                    <a:pt x="568" y="45"/>
                  </a:lnTo>
                  <a:lnTo>
                    <a:pt x="590" y="39"/>
                  </a:lnTo>
                  <a:lnTo>
                    <a:pt x="611" y="33"/>
                  </a:lnTo>
                  <a:lnTo>
                    <a:pt x="655" y="23"/>
                  </a:lnTo>
                  <a:lnTo>
                    <a:pt x="700" y="15"/>
                  </a:lnTo>
                  <a:lnTo>
                    <a:pt x="746" y="8"/>
                  </a:lnTo>
                  <a:lnTo>
                    <a:pt x="794" y="3"/>
                  </a:lnTo>
                  <a:lnTo>
                    <a:pt x="843" y="1"/>
                  </a:lnTo>
                  <a:lnTo>
                    <a:pt x="893" y="0"/>
                  </a:lnTo>
                  <a:lnTo>
                    <a:pt x="918" y="0"/>
                  </a:lnTo>
                  <a:lnTo>
                    <a:pt x="942" y="0"/>
                  </a:lnTo>
                  <a:lnTo>
                    <a:pt x="967" y="1"/>
                  </a:lnTo>
                  <a:lnTo>
                    <a:pt x="991" y="3"/>
                  </a:lnTo>
                  <a:lnTo>
                    <a:pt x="1015" y="4"/>
                  </a:lnTo>
                  <a:lnTo>
                    <a:pt x="1040" y="6"/>
                  </a:lnTo>
                  <a:lnTo>
                    <a:pt x="1063" y="8"/>
                  </a:lnTo>
                  <a:lnTo>
                    <a:pt x="1086" y="11"/>
                  </a:lnTo>
                  <a:lnTo>
                    <a:pt x="1097" y="12"/>
                  </a:lnTo>
                  <a:lnTo>
                    <a:pt x="1117" y="17"/>
                  </a:lnTo>
                  <a:lnTo>
                    <a:pt x="1149" y="22"/>
                  </a:lnTo>
                  <a:lnTo>
                    <a:pt x="1190" y="29"/>
                  </a:lnTo>
                  <a:lnTo>
                    <a:pt x="1243" y="39"/>
                  </a:lnTo>
                  <a:lnTo>
                    <a:pt x="1306" y="51"/>
                  </a:lnTo>
                  <a:lnTo>
                    <a:pt x="1379" y="63"/>
                  </a:lnTo>
                  <a:lnTo>
                    <a:pt x="1462" y="78"/>
                  </a:lnTo>
                  <a:lnTo>
                    <a:pt x="1462" y="108"/>
                  </a:lnTo>
                  <a:lnTo>
                    <a:pt x="1461" y="133"/>
                  </a:lnTo>
                  <a:lnTo>
                    <a:pt x="1461" y="156"/>
                  </a:lnTo>
                  <a:lnTo>
                    <a:pt x="1461" y="176"/>
                  </a:lnTo>
                  <a:lnTo>
                    <a:pt x="1461" y="213"/>
                  </a:lnTo>
                  <a:lnTo>
                    <a:pt x="1462" y="252"/>
                  </a:lnTo>
                  <a:lnTo>
                    <a:pt x="1464" y="292"/>
                  </a:lnTo>
                  <a:lnTo>
                    <a:pt x="1465" y="333"/>
                  </a:lnTo>
                  <a:lnTo>
                    <a:pt x="1467" y="375"/>
                  </a:lnTo>
                  <a:lnTo>
                    <a:pt x="1470" y="418"/>
                  </a:lnTo>
                  <a:lnTo>
                    <a:pt x="1472" y="464"/>
                  </a:lnTo>
                  <a:lnTo>
                    <a:pt x="1476" y="509"/>
                  </a:lnTo>
                  <a:lnTo>
                    <a:pt x="1394" y="509"/>
                  </a:lnTo>
                  <a:lnTo>
                    <a:pt x="1381" y="464"/>
                  </a:lnTo>
                  <a:lnTo>
                    <a:pt x="1368" y="424"/>
                  </a:lnTo>
                  <a:lnTo>
                    <a:pt x="1357" y="387"/>
                  </a:lnTo>
                  <a:lnTo>
                    <a:pt x="1344" y="354"/>
                  </a:lnTo>
                  <a:lnTo>
                    <a:pt x="1332" y="324"/>
                  </a:lnTo>
                  <a:lnTo>
                    <a:pt x="1321" y="300"/>
                  </a:lnTo>
                  <a:lnTo>
                    <a:pt x="1309" y="278"/>
                  </a:lnTo>
                  <a:lnTo>
                    <a:pt x="1298" y="262"/>
                  </a:lnTo>
                  <a:lnTo>
                    <a:pt x="1286" y="247"/>
                  </a:lnTo>
                  <a:lnTo>
                    <a:pt x="1272" y="233"/>
                  </a:lnTo>
                  <a:lnTo>
                    <a:pt x="1257" y="220"/>
                  </a:lnTo>
                  <a:lnTo>
                    <a:pt x="1240" y="207"/>
                  </a:lnTo>
                  <a:lnTo>
                    <a:pt x="1221" y="196"/>
                  </a:lnTo>
                  <a:lnTo>
                    <a:pt x="1200" y="185"/>
                  </a:lnTo>
                  <a:lnTo>
                    <a:pt x="1178" y="175"/>
                  </a:lnTo>
                  <a:lnTo>
                    <a:pt x="1153" y="165"/>
                  </a:lnTo>
                  <a:lnTo>
                    <a:pt x="1120" y="152"/>
                  </a:lnTo>
                  <a:lnTo>
                    <a:pt x="1086" y="143"/>
                  </a:lnTo>
                  <a:lnTo>
                    <a:pt x="1051" y="134"/>
                  </a:lnTo>
                  <a:lnTo>
                    <a:pt x="1015" y="127"/>
                  </a:lnTo>
                  <a:lnTo>
                    <a:pt x="979" y="122"/>
                  </a:lnTo>
                  <a:lnTo>
                    <a:pt x="942" y="117"/>
                  </a:lnTo>
                  <a:lnTo>
                    <a:pt x="905" y="115"/>
                  </a:lnTo>
                  <a:lnTo>
                    <a:pt x="867" y="114"/>
                  </a:lnTo>
                  <a:lnTo>
                    <a:pt x="825" y="115"/>
                  </a:lnTo>
                  <a:lnTo>
                    <a:pt x="785" y="118"/>
                  </a:lnTo>
                  <a:lnTo>
                    <a:pt x="764" y="121"/>
                  </a:lnTo>
                  <a:lnTo>
                    <a:pt x="745" y="123"/>
                  </a:lnTo>
                  <a:lnTo>
                    <a:pt x="726" y="126"/>
                  </a:lnTo>
                  <a:lnTo>
                    <a:pt x="707" y="130"/>
                  </a:lnTo>
                  <a:lnTo>
                    <a:pt x="688" y="134"/>
                  </a:lnTo>
                  <a:lnTo>
                    <a:pt x="670" y="140"/>
                  </a:lnTo>
                  <a:lnTo>
                    <a:pt x="652" y="145"/>
                  </a:lnTo>
                  <a:lnTo>
                    <a:pt x="635" y="150"/>
                  </a:lnTo>
                  <a:lnTo>
                    <a:pt x="618" y="157"/>
                  </a:lnTo>
                  <a:lnTo>
                    <a:pt x="601" y="163"/>
                  </a:lnTo>
                  <a:lnTo>
                    <a:pt x="584" y="170"/>
                  </a:lnTo>
                  <a:lnTo>
                    <a:pt x="568" y="179"/>
                  </a:lnTo>
                  <a:lnTo>
                    <a:pt x="553" y="186"/>
                  </a:lnTo>
                  <a:lnTo>
                    <a:pt x="537" y="196"/>
                  </a:lnTo>
                  <a:lnTo>
                    <a:pt x="522" y="204"/>
                  </a:lnTo>
                  <a:lnTo>
                    <a:pt x="507" y="215"/>
                  </a:lnTo>
                  <a:lnTo>
                    <a:pt x="492" y="224"/>
                  </a:lnTo>
                  <a:lnTo>
                    <a:pt x="478" y="236"/>
                  </a:lnTo>
                  <a:lnTo>
                    <a:pt x="464" y="247"/>
                  </a:lnTo>
                  <a:lnTo>
                    <a:pt x="451" y="258"/>
                  </a:lnTo>
                  <a:lnTo>
                    <a:pt x="437" y="271"/>
                  </a:lnTo>
                  <a:lnTo>
                    <a:pt x="424" y="284"/>
                  </a:lnTo>
                  <a:lnTo>
                    <a:pt x="412" y="298"/>
                  </a:lnTo>
                  <a:lnTo>
                    <a:pt x="400" y="311"/>
                  </a:lnTo>
                  <a:lnTo>
                    <a:pt x="387" y="325"/>
                  </a:lnTo>
                  <a:lnTo>
                    <a:pt x="377" y="340"/>
                  </a:lnTo>
                  <a:lnTo>
                    <a:pt x="365" y="356"/>
                  </a:lnTo>
                  <a:lnTo>
                    <a:pt x="355" y="372"/>
                  </a:lnTo>
                  <a:lnTo>
                    <a:pt x="340" y="395"/>
                  </a:lnTo>
                  <a:lnTo>
                    <a:pt x="326" y="418"/>
                  </a:lnTo>
                  <a:lnTo>
                    <a:pt x="313" y="443"/>
                  </a:lnTo>
                  <a:lnTo>
                    <a:pt x="302" y="468"/>
                  </a:lnTo>
                  <a:lnTo>
                    <a:pt x="291" y="494"/>
                  </a:lnTo>
                  <a:lnTo>
                    <a:pt x="281" y="520"/>
                  </a:lnTo>
                  <a:lnTo>
                    <a:pt x="272" y="547"/>
                  </a:lnTo>
                  <a:lnTo>
                    <a:pt x="265" y="574"/>
                  </a:lnTo>
                  <a:lnTo>
                    <a:pt x="257" y="603"/>
                  </a:lnTo>
                  <a:lnTo>
                    <a:pt x="251" y="631"/>
                  </a:lnTo>
                  <a:lnTo>
                    <a:pt x="245" y="661"/>
                  </a:lnTo>
                  <a:lnTo>
                    <a:pt x="241" y="692"/>
                  </a:lnTo>
                  <a:lnTo>
                    <a:pt x="238" y="723"/>
                  </a:lnTo>
                  <a:lnTo>
                    <a:pt x="236" y="754"/>
                  </a:lnTo>
                  <a:lnTo>
                    <a:pt x="235" y="786"/>
                  </a:lnTo>
                  <a:lnTo>
                    <a:pt x="234" y="819"/>
                  </a:lnTo>
                  <a:lnTo>
                    <a:pt x="235" y="860"/>
                  </a:lnTo>
                  <a:lnTo>
                    <a:pt x="237" y="902"/>
                  </a:lnTo>
                  <a:lnTo>
                    <a:pt x="241" y="941"/>
                  </a:lnTo>
                  <a:lnTo>
                    <a:pt x="246" y="978"/>
                  </a:lnTo>
                  <a:lnTo>
                    <a:pt x="253" y="1015"/>
                  </a:lnTo>
                  <a:lnTo>
                    <a:pt x="261" y="1050"/>
                  </a:lnTo>
                  <a:lnTo>
                    <a:pt x="271" y="1084"/>
                  </a:lnTo>
                  <a:lnTo>
                    <a:pt x="281" y="1117"/>
                  </a:lnTo>
                  <a:lnTo>
                    <a:pt x="294" y="1149"/>
                  </a:lnTo>
                  <a:lnTo>
                    <a:pt x="308" y="1178"/>
                  </a:lnTo>
                  <a:lnTo>
                    <a:pt x="324" y="1208"/>
                  </a:lnTo>
                  <a:lnTo>
                    <a:pt x="341" y="1235"/>
                  </a:lnTo>
                  <a:lnTo>
                    <a:pt x="360" y="1262"/>
                  </a:lnTo>
                  <a:lnTo>
                    <a:pt x="380" y="1287"/>
                  </a:lnTo>
                  <a:lnTo>
                    <a:pt x="401" y="1311"/>
                  </a:lnTo>
                  <a:lnTo>
                    <a:pt x="424" y="1333"/>
                  </a:lnTo>
                  <a:lnTo>
                    <a:pt x="448" y="1354"/>
                  </a:lnTo>
                  <a:lnTo>
                    <a:pt x="473" y="1374"/>
                  </a:lnTo>
                  <a:lnTo>
                    <a:pt x="499" y="1393"/>
                  </a:lnTo>
                  <a:lnTo>
                    <a:pt x="525" y="1410"/>
                  </a:lnTo>
                  <a:lnTo>
                    <a:pt x="553" y="1426"/>
                  </a:lnTo>
                  <a:lnTo>
                    <a:pt x="580" y="1440"/>
                  </a:lnTo>
                  <a:lnTo>
                    <a:pt x="609" y="1453"/>
                  </a:lnTo>
                  <a:lnTo>
                    <a:pt x="638" y="1464"/>
                  </a:lnTo>
                  <a:lnTo>
                    <a:pt x="669" y="1475"/>
                  </a:lnTo>
                  <a:lnTo>
                    <a:pt x="700" y="1483"/>
                  </a:lnTo>
                  <a:lnTo>
                    <a:pt x="733" y="1492"/>
                  </a:lnTo>
                  <a:lnTo>
                    <a:pt x="764" y="1497"/>
                  </a:lnTo>
                  <a:lnTo>
                    <a:pt x="798" y="1502"/>
                  </a:lnTo>
                  <a:lnTo>
                    <a:pt x="832" y="1506"/>
                  </a:lnTo>
                  <a:lnTo>
                    <a:pt x="867" y="1508"/>
                  </a:lnTo>
                  <a:lnTo>
                    <a:pt x="903" y="1509"/>
                  </a:lnTo>
                  <a:lnTo>
                    <a:pt x="926" y="1508"/>
                  </a:lnTo>
                  <a:lnTo>
                    <a:pt x="950" y="1507"/>
                  </a:lnTo>
                  <a:lnTo>
                    <a:pt x="973" y="1506"/>
                  </a:lnTo>
                  <a:lnTo>
                    <a:pt x="996" y="1504"/>
                  </a:lnTo>
                  <a:lnTo>
                    <a:pt x="1020" y="1500"/>
                  </a:lnTo>
                  <a:lnTo>
                    <a:pt x="1043" y="1497"/>
                  </a:lnTo>
                  <a:lnTo>
                    <a:pt x="1067" y="1494"/>
                  </a:lnTo>
                  <a:lnTo>
                    <a:pt x="1091" y="1489"/>
                  </a:lnTo>
                  <a:lnTo>
                    <a:pt x="1115" y="1484"/>
                  </a:lnTo>
                  <a:lnTo>
                    <a:pt x="1139" y="1478"/>
                  </a:lnTo>
                  <a:lnTo>
                    <a:pt x="1164" y="1472"/>
                  </a:lnTo>
                  <a:lnTo>
                    <a:pt x="1188" y="1465"/>
                  </a:lnTo>
                  <a:lnTo>
                    <a:pt x="1238" y="1449"/>
                  </a:lnTo>
                  <a:lnTo>
                    <a:pt x="1288" y="1431"/>
                  </a:lnTo>
                  <a:lnTo>
                    <a:pt x="1289" y="1400"/>
                  </a:lnTo>
                  <a:lnTo>
                    <a:pt x="1290" y="1365"/>
                  </a:lnTo>
                  <a:lnTo>
                    <a:pt x="1290" y="1327"/>
                  </a:lnTo>
                  <a:lnTo>
                    <a:pt x="1291" y="1284"/>
                  </a:lnTo>
                  <a:lnTo>
                    <a:pt x="1291" y="1239"/>
                  </a:lnTo>
                  <a:lnTo>
                    <a:pt x="1292" y="1190"/>
                  </a:lnTo>
                  <a:lnTo>
                    <a:pt x="1292" y="1138"/>
                  </a:lnTo>
                  <a:lnTo>
                    <a:pt x="1292" y="1082"/>
                  </a:lnTo>
                  <a:lnTo>
                    <a:pt x="1292" y="1027"/>
                  </a:lnTo>
                  <a:lnTo>
                    <a:pt x="1291" y="983"/>
                  </a:lnTo>
                  <a:lnTo>
                    <a:pt x="1289" y="952"/>
                  </a:lnTo>
                  <a:lnTo>
                    <a:pt x="1286" y="936"/>
                  </a:lnTo>
                  <a:lnTo>
                    <a:pt x="1281" y="925"/>
                  </a:lnTo>
                  <a:lnTo>
                    <a:pt x="1276" y="916"/>
                  </a:lnTo>
                  <a:lnTo>
                    <a:pt x="1268" y="908"/>
                  </a:lnTo>
                  <a:lnTo>
                    <a:pt x="1259" y="902"/>
                  </a:lnTo>
                  <a:lnTo>
                    <a:pt x="1251" y="897"/>
                  </a:lnTo>
                  <a:lnTo>
                    <a:pt x="1240" y="893"/>
                  </a:lnTo>
                  <a:lnTo>
                    <a:pt x="1226" y="889"/>
                  </a:lnTo>
                  <a:lnTo>
                    <a:pt x="1209" y="884"/>
                  </a:lnTo>
                  <a:lnTo>
                    <a:pt x="1166" y="873"/>
                  </a:lnTo>
                  <a:lnTo>
                    <a:pt x="1110" y="860"/>
                  </a:lnTo>
                  <a:lnTo>
                    <a:pt x="1066" y="851"/>
                  </a:lnTo>
                  <a:lnTo>
                    <a:pt x="1066" y="790"/>
                  </a:lnTo>
                  <a:lnTo>
                    <a:pt x="1443" y="798"/>
                  </a:lnTo>
                  <a:lnTo>
                    <a:pt x="1474" y="798"/>
                  </a:lnTo>
                  <a:lnTo>
                    <a:pt x="1507" y="798"/>
                  </a:lnTo>
                  <a:lnTo>
                    <a:pt x="1541" y="797"/>
                  </a:lnTo>
                  <a:lnTo>
                    <a:pt x="1576" y="796"/>
                  </a:lnTo>
                  <a:lnTo>
                    <a:pt x="1612" y="795"/>
                  </a:lnTo>
                  <a:lnTo>
                    <a:pt x="1649" y="794"/>
                  </a:lnTo>
                  <a:lnTo>
                    <a:pt x="1687" y="792"/>
                  </a:lnTo>
                  <a:lnTo>
                    <a:pt x="1726" y="790"/>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488" name="Freeform 82"/>
            <p:cNvSpPr/>
            <p:nvPr/>
          </p:nvSpPr>
          <p:spPr>
            <a:xfrm>
              <a:off x="4233600" y="717840"/>
              <a:ext cx="205200" cy="216360"/>
            </a:xfrm>
            <a:custGeom>
              <a:avLst/>
              <a:gdLst>
                <a:gd name="textAreaLeft" fmla="*/ 0 w 205200"/>
                <a:gd name="textAreaRight" fmla="*/ 205560 w 205200"/>
                <a:gd name="textAreaTop" fmla="*/ 0 h 216360"/>
                <a:gd name="textAreaBottom" fmla="*/ 216720 h 216360"/>
              </a:gdLst>
              <a:ahLst/>
              <a:rect l="textAreaLeft" t="textAreaTop" r="textAreaRight" b="textAreaBottom"/>
              <a:pathLst>
                <a:path w="1380" h="1563">
                  <a:moveTo>
                    <a:pt x="458" y="688"/>
                  </a:moveTo>
                  <a:lnTo>
                    <a:pt x="724" y="688"/>
                  </a:lnTo>
                  <a:lnTo>
                    <a:pt x="761" y="688"/>
                  </a:lnTo>
                  <a:lnTo>
                    <a:pt x="793" y="688"/>
                  </a:lnTo>
                  <a:lnTo>
                    <a:pt x="822" y="687"/>
                  </a:lnTo>
                  <a:lnTo>
                    <a:pt x="847" y="687"/>
                  </a:lnTo>
                  <a:lnTo>
                    <a:pt x="867" y="685"/>
                  </a:lnTo>
                  <a:lnTo>
                    <a:pt x="884" y="684"/>
                  </a:lnTo>
                  <a:lnTo>
                    <a:pt x="897" y="683"/>
                  </a:lnTo>
                  <a:lnTo>
                    <a:pt x="906" y="681"/>
                  </a:lnTo>
                  <a:lnTo>
                    <a:pt x="913" y="678"/>
                  </a:lnTo>
                  <a:lnTo>
                    <a:pt x="919" y="676"/>
                  </a:lnTo>
                  <a:lnTo>
                    <a:pt x="926" y="673"/>
                  </a:lnTo>
                  <a:lnTo>
                    <a:pt x="931" y="668"/>
                  </a:lnTo>
                  <a:lnTo>
                    <a:pt x="936" y="664"/>
                  </a:lnTo>
                  <a:lnTo>
                    <a:pt x="941" y="659"/>
                  </a:lnTo>
                  <a:lnTo>
                    <a:pt x="947" y="653"/>
                  </a:lnTo>
                  <a:lnTo>
                    <a:pt x="951" y="647"/>
                  </a:lnTo>
                  <a:lnTo>
                    <a:pt x="955" y="640"/>
                  </a:lnTo>
                  <a:lnTo>
                    <a:pt x="959" y="628"/>
                  </a:lnTo>
                  <a:lnTo>
                    <a:pt x="965" y="614"/>
                  </a:lnTo>
                  <a:lnTo>
                    <a:pt x="970" y="598"/>
                  </a:lnTo>
                  <a:lnTo>
                    <a:pt x="981" y="555"/>
                  </a:lnTo>
                  <a:lnTo>
                    <a:pt x="993" y="501"/>
                  </a:lnTo>
                  <a:lnTo>
                    <a:pt x="995" y="493"/>
                  </a:lnTo>
                  <a:lnTo>
                    <a:pt x="998" y="485"/>
                  </a:lnTo>
                  <a:lnTo>
                    <a:pt x="1000" y="474"/>
                  </a:lnTo>
                  <a:lnTo>
                    <a:pt x="1003" y="463"/>
                  </a:lnTo>
                  <a:lnTo>
                    <a:pt x="1076" y="463"/>
                  </a:lnTo>
                  <a:lnTo>
                    <a:pt x="1073" y="507"/>
                  </a:lnTo>
                  <a:lnTo>
                    <a:pt x="1071" y="549"/>
                  </a:lnTo>
                  <a:lnTo>
                    <a:pt x="1068" y="588"/>
                  </a:lnTo>
                  <a:lnTo>
                    <a:pt x="1066" y="624"/>
                  </a:lnTo>
                  <a:lnTo>
                    <a:pt x="1065" y="658"/>
                  </a:lnTo>
                  <a:lnTo>
                    <a:pt x="1064" y="688"/>
                  </a:lnTo>
                  <a:lnTo>
                    <a:pt x="1063" y="717"/>
                  </a:lnTo>
                  <a:lnTo>
                    <a:pt x="1063" y="744"/>
                  </a:lnTo>
                  <a:lnTo>
                    <a:pt x="1063" y="769"/>
                  </a:lnTo>
                  <a:lnTo>
                    <a:pt x="1064" y="799"/>
                  </a:lnTo>
                  <a:lnTo>
                    <a:pt x="1065" y="829"/>
                  </a:lnTo>
                  <a:lnTo>
                    <a:pt x="1066" y="863"/>
                  </a:lnTo>
                  <a:lnTo>
                    <a:pt x="1068" y="898"/>
                  </a:lnTo>
                  <a:lnTo>
                    <a:pt x="1071" y="937"/>
                  </a:lnTo>
                  <a:lnTo>
                    <a:pt x="1073" y="978"/>
                  </a:lnTo>
                  <a:lnTo>
                    <a:pt x="1076" y="1020"/>
                  </a:lnTo>
                  <a:lnTo>
                    <a:pt x="1003" y="1020"/>
                  </a:lnTo>
                  <a:lnTo>
                    <a:pt x="995" y="983"/>
                  </a:lnTo>
                  <a:lnTo>
                    <a:pt x="988" y="949"/>
                  </a:lnTo>
                  <a:lnTo>
                    <a:pt x="983" y="921"/>
                  </a:lnTo>
                  <a:lnTo>
                    <a:pt x="977" y="896"/>
                  </a:lnTo>
                  <a:lnTo>
                    <a:pt x="972" y="876"/>
                  </a:lnTo>
                  <a:lnTo>
                    <a:pt x="969" y="860"/>
                  </a:lnTo>
                  <a:lnTo>
                    <a:pt x="966" y="848"/>
                  </a:lnTo>
                  <a:lnTo>
                    <a:pt x="964" y="842"/>
                  </a:lnTo>
                  <a:lnTo>
                    <a:pt x="960" y="836"/>
                  </a:lnTo>
                  <a:lnTo>
                    <a:pt x="957" y="829"/>
                  </a:lnTo>
                  <a:lnTo>
                    <a:pt x="953" y="824"/>
                  </a:lnTo>
                  <a:lnTo>
                    <a:pt x="948" y="819"/>
                  </a:lnTo>
                  <a:lnTo>
                    <a:pt x="944" y="815"/>
                  </a:lnTo>
                  <a:lnTo>
                    <a:pt x="937" y="810"/>
                  </a:lnTo>
                  <a:lnTo>
                    <a:pt x="932" y="807"/>
                  </a:lnTo>
                  <a:lnTo>
                    <a:pt x="924" y="804"/>
                  </a:lnTo>
                  <a:lnTo>
                    <a:pt x="916" y="802"/>
                  </a:lnTo>
                  <a:lnTo>
                    <a:pt x="904" y="799"/>
                  </a:lnTo>
                  <a:lnTo>
                    <a:pt x="888" y="797"/>
                  </a:lnTo>
                  <a:lnTo>
                    <a:pt x="870" y="795"/>
                  </a:lnTo>
                  <a:lnTo>
                    <a:pt x="848" y="794"/>
                  </a:lnTo>
                  <a:lnTo>
                    <a:pt x="823" y="793"/>
                  </a:lnTo>
                  <a:lnTo>
                    <a:pt x="793" y="792"/>
                  </a:lnTo>
                  <a:lnTo>
                    <a:pt x="761" y="792"/>
                  </a:lnTo>
                  <a:lnTo>
                    <a:pt x="459" y="792"/>
                  </a:lnTo>
                  <a:lnTo>
                    <a:pt x="465" y="1440"/>
                  </a:lnTo>
                  <a:lnTo>
                    <a:pt x="926" y="1440"/>
                  </a:lnTo>
                  <a:lnTo>
                    <a:pt x="967" y="1439"/>
                  </a:lnTo>
                  <a:lnTo>
                    <a:pt x="1009" y="1439"/>
                  </a:lnTo>
                  <a:lnTo>
                    <a:pt x="1044" y="1437"/>
                  </a:lnTo>
                  <a:lnTo>
                    <a:pt x="1070" y="1434"/>
                  </a:lnTo>
                  <a:lnTo>
                    <a:pt x="1085" y="1431"/>
                  </a:lnTo>
                  <a:lnTo>
                    <a:pt x="1096" y="1427"/>
                  </a:lnTo>
                  <a:lnTo>
                    <a:pt x="1106" y="1423"/>
                  </a:lnTo>
                  <a:lnTo>
                    <a:pt x="1115" y="1418"/>
                  </a:lnTo>
                  <a:lnTo>
                    <a:pt x="1125" y="1412"/>
                  </a:lnTo>
                  <a:lnTo>
                    <a:pt x="1134" y="1406"/>
                  </a:lnTo>
                  <a:lnTo>
                    <a:pt x="1143" y="1398"/>
                  </a:lnTo>
                  <a:lnTo>
                    <a:pt x="1151" y="1391"/>
                  </a:lnTo>
                  <a:lnTo>
                    <a:pt x="1160" y="1384"/>
                  </a:lnTo>
                  <a:lnTo>
                    <a:pt x="1168" y="1373"/>
                  </a:lnTo>
                  <a:lnTo>
                    <a:pt x="1179" y="1359"/>
                  </a:lnTo>
                  <a:lnTo>
                    <a:pt x="1191" y="1341"/>
                  </a:lnTo>
                  <a:lnTo>
                    <a:pt x="1205" y="1319"/>
                  </a:lnTo>
                  <a:lnTo>
                    <a:pt x="1220" y="1294"/>
                  </a:lnTo>
                  <a:lnTo>
                    <a:pt x="1238" y="1264"/>
                  </a:lnTo>
                  <a:lnTo>
                    <a:pt x="1257" y="1231"/>
                  </a:lnTo>
                  <a:lnTo>
                    <a:pt x="1277" y="1194"/>
                  </a:lnTo>
                  <a:lnTo>
                    <a:pt x="1282" y="1184"/>
                  </a:lnTo>
                  <a:lnTo>
                    <a:pt x="1288" y="1174"/>
                  </a:lnTo>
                  <a:lnTo>
                    <a:pt x="1295" y="1162"/>
                  </a:lnTo>
                  <a:lnTo>
                    <a:pt x="1304" y="1148"/>
                  </a:lnTo>
                  <a:lnTo>
                    <a:pt x="1380" y="1148"/>
                  </a:lnTo>
                  <a:lnTo>
                    <a:pt x="1375" y="1162"/>
                  </a:lnTo>
                  <a:lnTo>
                    <a:pt x="1366" y="1188"/>
                  </a:lnTo>
                  <a:lnTo>
                    <a:pt x="1354" y="1223"/>
                  </a:lnTo>
                  <a:lnTo>
                    <a:pt x="1339" y="1269"/>
                  </a:lnTo>
                  <a:lnTo>
                    <a:pt x="1321" y="1326"/>
                  </a:lnTo>
                  <a:lnTo>
                    <a:pt x="1298" y="1394"/>
                  </a:lnTo>
                  <a:lnTo>
                    <a:pt x="1272" y="1473"/>
                  </a:lnTo>
                  <a:lnTo>
                    <a:pt x="1243" y="1563"/>
                  </a:lnTo>
                  <a:lnTo>
                    <a:pt x="1144" y="1560"/>
                  </a:lnTo>
                  <a:lnTo>
                    <a:pt x="1047" y="1557"/>
                  </a:lnTo>
                  <a:lnTo>
                    <a:pt x="952" y="1555"/>
                  </a:lnTo>
                  <a:lnTo>
                    <a:pt x="860" y="1553"/>
                  </a:lnTo>
                  <a:lnTo>
                    <a:pt x="769" y="1552"/>
                  </a:lnTo>
                  <a:lnTo>
                    <a:pt x="681" y="1551"/>
                  </a:lnTo>
                  <a:lnTo>
                    <a:pt x="595" y="1550"/>
                  </a:lnTo>
                  <a:lnTo>
                    <a:pt x="511" y="1550"/>
                  </a:lnTo>
                  <a:lnTo>
                    <a:pt x="452" y="1550"/>
                  </a:lnTo>
                  <a:lnTo>
                    <a:pt x="393" y="1551"/>
                  </a:lnTo>
                  <a:lnTo>
                    <a:pt x="330" y="1552"/>
                  </a:lnTo>
                  <a:lnTo>
                    <a:pt x="268" y="1553"/>
                  </a:lnTo>
                  <a:lnTo>
                    <a:pt x="203" y="1555"/>
                  </a:lnTo>
                  <a:lnTo>
                    <a:pt x="136" y="1557"/>
                  </a:lnTo>
                  <a:lnTo>
                    <a:pt x="70" y="1560"/>
                  </a:lnTo>
                  <a:lnTo>
                    <a:pt x="0" y="1563"/>
                  </a:lnTo>
                  <a:lnTo>
                    <a:pt x="0" y="1497"/>
                  </a:lnTo>
                  <a:lnTo>
                    <a:pt x="179" y="1459"/>
                  </a:lnTo>
                  <a:lnTo>
                    <a:pt x="198" y="1452"/>
                  </a:lnTo>
                  <a:lnTo>
                    <a:pt x="213" y="1446"/>
                  </a:lnTo>
                  <a:lnTo>
                    <a:pt x="219" y="1444"/>
                  </a:lnTo>
                  <a:lnTo>
                    <a:pt x="224" y="1441"/>
                  </a:lnTo>
                  <a:lnTo>
                    <a:pt x="229" y="1438"/>
                  </a:lnTo>
                  <a:lnTo>
                    <a:pt x="231" y="1434"/>
                  </a:lnTo>
                  <a:lnTo>
                    <a:pt x="235" y="1428"/>
                  </a:lnTo>
                  <a:lnTo>
                    <a:pt x="238" y="1421"/>
                  </a:lnTo>
                  <a:lnTo>
                    <a:pt x="241" y="1412"/>
                  </a:lnTo>
                  <a:lnTo>
                    <a:pt x="243" y="1403"/>
                  </a:lnTo>
                  <a:lnTo>
                    <a:pt x="246" y="1391"/>
                  </a:lnTo>
                  <a:lnTo>
                    <a:pt x="247" y="1377"/>
                  </a:lnTo>
                  <a:lnTo>
                    <a:pt x="248" y="1363"/>
                  </a:lnTo>
                  <a:lnTo>
                    <a:pt x="248" y="1348"/>
                  </a:lnTo>
                  <a:lnTo>
                    <a:pt x="248" y="1327"/>
                  </a:lnTo>
                  <a:lnTo>
                    <a:pt x="253" y="1069"/>
                  </a:lnTo>
                  <a:lnTo>
                    <a:pt x="254" y="1048"/>
                  </a:lnTo>
                  <a:lnTo>
                    <a:pt x="254" y="1022"/>
                  </a:lnTo>
                  <a:lnTo>
                    <a:pt x="254" y="993"/>
                  </a:lnTo>
                  <a:lnTo>
                    <a:pt x="254" y="958"/>
                  </a:lnTo>
                  <a:lnTo>
                    <a:pt x="254" y="918"/>
                  </a:lnTo>
                  <a:lnTo>
                    <a:pt x="254" y="875"/>
                  </a:lnTo>
                  <a:lnTo>
                    <a:pt x="254" y="827"/>
                  </a:lnTo>
                  <a:lnTo>
                    <a:pt x="254" y="774"/>
                  </a:lnTo>
                  <a:lnTo>
                    <a:pt x="254" y="698"/>
                  </a:lnTo>
                  <a:lnTo>
                    <a:pt x="254" y="626"/>
                  </a:lnTo>
                  <a:lnTo>
                    <a:pt x="254" y="560"/>
                  </a:lnTo>
                  <a:lnTo>
                    <a:pt x="254" y="499"/>
                  </a:lnTo>
                  <a:lnTo>
                    <a:pt x="254" y="444"/>
                  </a:lnTo>
                  <a:lnTo>
                    <a:pt x="253" y="393"/>
                  </a:lnTo>
                  <a:lnTo>
                    <a:pt x="253" y="348"/>
                  </a:lnTo>
                  <a:lnTo>
                    <a:pt x="252" y="308"/>
                  </a:lnTo>
                  <a:lnTo>
                    <a:pt x="252" y="273"/>
                  </a:lnTo>
                  <a:lnTo>
                    <a:pt x="251" y="242"/>
                  </a:lnTo>
                  <a:lnTo>
                    <a:pt x="250" y="216"/>
                  </a:lnTo>
                  <a:lnTo>
                    <a:pt x="249" y="192"/>
                  </a:lnTo>
                  <a:lnTo>
                    <a:pt x="247" y="173"/>
                  </a:lnTo>
                  <a:lnTo>
                    <a:pt x="246" y="159"/>
                  </a:lnTo>
                  <a:lnTo>
                    <a:pt x="243" y="147"/>
                  </a:lnTo>
                  <a:lnTo>
                    <a:pt x="241" y="141"/>
                  </a:lnTo>
                  <a:lnTo>
                    <a:pt x="237" y="134"/>
                  </a:lnTo>
                  <a:lnTo>
                    <a:pt x="233" y="129"/>
                  </a:lnTo>
                  <a:lnTo>
                    <a:pt x="228" y="124"/>
                  </a:lnTo>
                  <a:lnTo>
                    <a:pt x="221" y="119"/>
                  </a:lnTo>
                  <a:lnTo>
                    <a:pt x="209" y="114"/>
                  </a:lnTo>
                  <a:lnTo>
                    <a:pt x="188" y="108"/>
                  </a:lnTo>
                  <a:lnTo>
                    <a:pt x="159" y="100"/>
                  </a:lnTo>
                  <a:lnTo>
                    <a:pt x="119" y="91"/>
                  </a:lnTo>
                  <a:lnTo>
                    <a:pt x="0" y="64"/>
                  </a:lnTo>
                  <a:lnTo>
                    <a:pt x="0" y="0"/>
                  </a:lnTo>
                  <a:lnTo>
                    <a:pt x="53" y="2"/>
                  </a:lnTo>
                  <a:lnTo>
                    <a:pt x="109" y="5"/>
                  </a:lnTo>
                  <a:lnTo>
                    <a:pt x="167" y="7"/>
                  </a:lnTo>
                  <a:lnTo>
                    <a:pt x="228" y="8"/>
                  </a:lnTo>
                  <a:lnTo>
                    <a:pt x="290" y="10"/>
                  </a:lnTo>
                  <a:lnTo>
                    <a:pt x="356" y="10"/>
                  </a:lnTo>
                  <a:lnTo>
                    <a:pt x="423" y="11"/>
                  </a:lnTo>
                  <a:lnTo>
                    <a:pt x="494" y="11"/>
                  </a:lnTo>
                  <a:lnTo>
                    <a:pt x="516" y="11"/>
                  </a:lnTo>
                  <a:lnTo>
                    <a:pt x="541" y="11"/>
                  </a:lnTo>
                  <a:lnTo>
                    <a:pt x="569" y="11"/>
                  </a:lnTo>
                  <a:lnTo>
                    <a:pt x="600" y="10"/>
                  </a:lnTo>
                  <a:lnTo>
                    <a:pt x="635" y="10"/>
                  </a:lnTo>
                  <a:lnTo>
                    <a:pt x="673" y="10"/>
                  </a:lnTo>
                  <a:lnTo>
                    <a:pt x="715" y="9"/>
                  </a:lnTo>
                  <a:lnTo>
                    <a:pt x="760" y="8"/>
                  </a:lnTo>
                  <a:lnTo>
                    <a:pt x="809" y="8"/>
                  </a:lnTo>
                  <a:lnTo>
                    <a:pt x="861" y="7"/>
                  </a:lnTo>
                  <a:lnTo>
                    <a:pt x="916" y="6"/>
                  </a:lnTo>
                  <a:lnTo>
                    <a:pt x="974" y="5"/>
                  </a:lnTo>
                  <a:lnTo>
                    <a:pt x="1037" y="4"/>
                  </a:lnTo>
                  <a:lnTo>
                    <a:pt x="1102" y="2"/>
                  </a:lnTo>
                  <a:lnTo>
                    <a:pt x="1171" y="1"/>
                  </a:lnTo>
                  <a:lnTo>
                    <a:pt x="1243" y="0"/>
                  </a:lnTo>
                  <a:lnTo>
                    <a:pt x="1244" y="47"/>
                  </a:lnTo>
                  <a:lnTo>
                    <a:pt x="1245" y="95"/>
                  </a:lnTo>
                  <a:lnTo>
                    <a:pt x="1248" y="142"/>
                  </a:lnTo>
                  <a:lnTo>
                    <a:pt x="1251" y="189"/>
                  </a:lnTo>
                  <a:lnTo>
                    <a:pt x="1254" y="236"/>
                  </a:lnTo>
                  <a:lnTo>
                    <a:pt x="1259" y="283"/>
                  </a:lnTo>
                  <a:lnTo>
                    <a:pt x="1263" y="329"/>
                  </a:lnTo>
                  <a:lnTo>
                    <a:pt x="1270" y="376"/>
                  </a:lnTo>
                  <a:lnTo>
                    <a:pt x="1192" y="376"/>
                  </a:lnTo>
                  <a:lnTo>
                    <a:pt x="1182" y="340"/>
                  </a:lnTo>
                  <a:lnTo>
                    <a:pt x="1171" y="308"/>
                  </a:lnTo>
                  <a:lnTo>
                    <a:pt x="1162" y="278"/>
                  </a:lnTo>
                  <a:lnTo>
                    <a:pt x="1152" y="252"/>
                  </a:lnTo>
                  <a:lnTo>
                    <a:pt x="1144" y="229"/>
                  </a:lnTo>
                  <a:lnTo>
                    <a:pt x="1135" y="208"/>
                  </a:lnTo>
                  <a:lnTo>
                    <a:pt x="1128" y="190"/>
                  </a:lnTo>
                  <a:lnTo>
                    <a:pt x="1121" y="177"/>
                  </a:lnTo>
                  <a:lnTo>
                    <a:pt x="1116" y="169"/>
                  </a:lnTo>
                  <a:lnTo>
                    <a:pt x="1111" y="161"/>
                  </a:lnTo>
                  <a:lnTo>
                    <a:pt x="1106" y="154"/>
                  </a:lnTo>
                  <a:lnTo>
                    <a:pt x="1100" y="148"/>
                  </a:lnTo>
                  <a:lnTo>
                    <a:pt x="1094" y="143"/>
                  </a:lnTo>
                  <a:lnTo>
                    <a:pt x="1088" y="138"/>
                  </a:lnTo>
                  <a:lnTo>
                    <a:pt x="1081" y="135"/>
                  </a:lnTo>
                  <a:lnTo>
                    <a:pt x="1075" y="132"/>
                  </a:lnTo>
                  <a:lnTo>
                    <a:pt x="1064" y="128"/>
                  </a:lnTo>
                  <a:lnTo>
                    <a:pt x="1050" y="126"/>
                  </a:lnTo>
                  <a:lnTo>
                    <a:pt x="1035" y="123"/>
                  </a:lnTo>
                  <a:lnTo>
                    <a:pt x="1017" y="120"/>
                  </a:lnTo>
                  <a:lnTo>
                    <a:pt x="994" y="119"/>
                  </a:lnTo>
                  <a:lnTo>
                    <a:pt x="971" y="118"/>
                  </a:lnTo>
                  <a:lnTo>
                    <a:pt x="944" y="117"/>
                  </a:lnTo>
                  <a:lnTo>
                    <a:pt x="914" y="117"/>
                  </a:lnTo>
                  <a:lnTo>
                    <a:pt x="469" y="117"/>
                  </a:lnTo>
                  <a:lnTo>
                    <a:pt x="462" y="472"/>
                  </a:lnTo>
                  <a:lnTo>
                    <a:pt x="458" y="688"/>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489" name="Freeform 83"/>
            <p:cNvSpPr/>
            <p:nvPr/>
          </p:nvSpPr>
          <p:spPr>
            <a:xfrm>
              <a:off x="4474440" y="717840"/>
              <a:ext cx="238680" cy="216360"/>
            </a:xfrm>
            <a:custGeom>
              <a:avLst/>
              <a:gdLst>
                <a:gd name="textAreaLeft" fmla="*/ 0 w 238680"/>
                <a:gd name="textAreaRight" fmla="*/ 239040 w 238680"/>
                <a:gd name="textAreaTop" fmla="*/ 0 h 216360"/>
                <a:gd name="textAreaBottom" fmla="*/ 216720 h 216360"/>
              </a:gdLst>
              <a:ahLst/>
              <a:rect l="textAreaLeft" t="textAreaTop" r="textAreaRight" b="textAreaBottom"/>
              <a:pathLst>
                <a:path w="1601" h="1563">
                  <a:moveTo>
                    <a:pt x="0" y="64"/>
                  </a:moveTo>
                  <a:lnTo>
                    <a:pt x="0" y="0"/>
                  </a:lnTo>
                  <a:lnTo>
                    <a:pt x="71" y="2"/>
                  </a:lnTo>
                  <a:lnTo>
                    <a:pt x="139" y="5"/>
                  </a:lnTo>
                  <a:lnTo>
                    <a:pt x="202" y="7"/>
                  </a:lnTo>
                  <a:lnTo>
                    <a:pt x="263" y="8"/>
                  </a:lnTo>
                  <a:lnTo>
                    <a:pt x="320" y="10"/>
                  </a:lnTo>
                  <a:lnTo>
                    <a:pt x="373" y="10"/>
                  </a:lnTo>
                  <a:lnTo>
                    <a:pt x="423" y="11"/>
                  </a:lnTo>
                  <a:lnTo>
                    <a:pt x="468" y="11"/>
                  </a:lnTo>
                  <a:lnTo>
                    <a:pt x="494" y="11"/>
                  </a:lnTo>
                  <a:lnTo>
                    <a:pt x="518" y="11"/>
                  </a:lnTo>
                  <a:lnTo>
                    <a:pt x="542" y="11"/>
                  </a:lnTo>
                  <a:lnTo>
                    <a:pt x="566" y="11"/>
                  </a:lnTo>
                  <a:lnTo>
                    <a:pt x="590" y="10"/>
                  </a:lnTo>
                  <a:lnTo>
                    <a:pt x="612" y="10"/>
                  </a:lnTo>
                  <a:lnTo>
                    <a:pt x="636" y="10"/>
                  </a:lnTo>
                  <a:lnTo>
                    <a:pt x="658" y="9"/>
                  </a:lnTo>
                  <a:lnTo>
                    <a:pt x="685" y="8"/>
                  </a:lnTo>
                  <a:lnTo>
                    <a:pt x="712" y="7"/>
                  </a:lnTo>
                  <a:lnTo>
                    <a:pt x="735" y="7"/>
                  </a:lnTo>
                  <a:lnTo>
                    <a:pt x="756" y="6"/>
                  </a:lnTo>
                  <a:lnTo>
                    <a:pt x="775" y="6"/>
                  </a:lnTo>
                  <a:lnTo>
                    <a:pt x="792" y="5"/>
                  </a:lnTo>
                  <a:lnTo>
                    <a:pt x="807" y="5"/>
                  </a:lnTo>
                  <a:lnTo>
                    <a:pt x="820" y="5"/>
                  </a:lnTo>
                  <a:lnTo>
                    <a:pt x="845" y="6"/>
                  </a:lnTo>
                  <a:lnTo>
                    <a:pt x="872" y="7"/>
                  </a:lnTo>
                  <a:lnTo>
                    <a:pt x="896" y="8"/>
                  </a:lnTo>
                  <a:lnTo>
                    <a:pt x="921" y="11"/>
                  </a:lnTo>
                  <a:lnTo>
                    <a:pt x="943" y="14"/>
                  </a:lnTo>
                  <a:lnTo>
                    <a:pt x="966" y="20"/>
                  </a:lnTo>
                  <a:lnTo>
                    <a:pt x="987" y="24"/>
                  </a:lnTo>
                  <a:lnTo>
                    <a:pt x="1007" y="30"/>
                  </a:lnTo>
                  <a:lnTo>
                    <a:pt x="1028" y="37"/>
                  </a:lnTo>
                  <a:lnTo>
                    <a:pt x="1047" y="44"/>
                  </a:lnTo>
                  <a:lnTo>
                    <a:pt x="1065" y="53"/>
                  </a:lnTo>
                  <a:lnTo>
                    <a:pt x="1082" y="62"/>
                  </a:lnTo>
                  <a:lnTo>
                    <a:pt x="1099" y="72"/>
                  </a:lnTo>
                  <a:lnTo>
                    <a:pt x="1114" y="82"/>
                  </a:lnTo>
                  <a:lnTo>
                    <a:pt x="1129" y="94"/>
                  </a:lnTo>
                  <a:lnTo>
                    <a:pt x="1143" y="107"/>
                  </a:lnTo>
                  <a:lnTo>
                    <a:pt x="1156" y="119"/>
                  </a:lnTo>
                  <a:lnTo>
                    <a:pt x="1168" y="133"/>
                  </a:lnTo>
                  <a:lnTo>
                    <a:pt x="1180" y="147"/>
                  </a:lnTo>
                  <a:lnTo>
                    <a:pt x="1191" y="162"/>
                  </a:lnTo>
                  <a:lnTo>
                    <a:pt x="1200" y="178"/>
                  </a:lnTo>
                  <a:lnTo>
                    <a:pt x="1209" y="194"/>
                  </a:lnTo>
                  <a:lnTo>
                    <a:pt x="1217" y="209"/>
                  </a:lnTo>
                  <a:lnTo>
                    <a:pt x="1224" y="226"/>
                  </a:lnTo>
                  <a:lnTo>
                    <a:pt x="1230" y="244"/>
                  </a:lnTo>
                  <a:lnTo>
                    <a:pt x="1236" y="262"/>
                  </a:lnTo>
                  <a:lnTo>
                    <a:pt x="1240" y="282"/>
                  </a:lnTo>
                  <a:lnTo>
                    <a:pt x="1244" y="301"/>
                  </a:lnTo>
                  <a:lnTo>
                    <a:pt x="1247" y="320"/>
                  </a:lnTo>
                  <a:lnTo>
                    <a:pt x="1249" y="341"/>
                  </a:lnTo>
                  <a:lnTo>
                    <a:pt x="1250" y="361"/>
                  </a:lnTo>
                  <a:lnTo>
                    <a:pt x="1251" y="383"/>
                  </a:lnTo>
                  <a:lnTo>
                    <a:pt x="1250" y="412"/>
                  </a:lnTo>
                  <a:lnTo>
                    <a:pt x="1248" y="439"/>
                  </a:lnTo>
                  <a:lnTo>
                    <a:pt x="1244" y="467"/>
                  </a:lnTo>
                  <a:lnTo>
                    <a:pt x="1238" y="492"/>
                  </a:lnTo>
                  <a:lnTo>
                    <a:pt x="1232" y="518"/>
                  </a:lnTo>
                  <a:lnTo>
                    <a:pt x="1224" y="543"/>
                  </a:lnTo>
                  <a:lnTo>
                    <a:pt x="1214" y="567"/>
                  </a:lnTo>
                  <a:lnTo>
                    <a:pt x="1202" y="589"/>
                  </a:lnTo>
                  <a:lnTo>
                    <a:pt x="1189" y="611"/>
                  </a:lnTo>
                  <a:lnTo>
                    <a:pt x="1175" y="632"/>
                  </a:lnTo>
                  <a:lnTo>
                    <a:pt x="1159" y="652"/>
                  </a:lnTo>
                  <a:lnTo>
                    <a:pt x="1142" y="671"/>
                  </a:lnTo>
                  <a:lnTo>
                    <a:pt x="1124" y="691"/>
                  </a:lnTo>
                  <a:lnTo>
                    <a:pt x="1104" y="709"/>
                  </a:lnTo>
                  <a:lnTo>
                    <a:pt x="1083" y="724"/>
                  </a:lnTo>
                  <a:lnTo>
                    <a:pt x="1060" y="740"/>
                  </a:lnTo>
                  <a:lnTo>
                    <a:pt x="1042" y="752"/>
                  </a:lnTo>
                  <a:lnTo>
                    <a:pt x="1023" y="763"/>
                  </a:lnTo>
                  <a:lnTo>
                    <a:pt x="1002" y="772"/>
                  </a:lnTo>
                  <a:lnTo>
                    <a:pt x="979" y="783"/>
                  </a:lnTo>
                  <a:lnTo>
                    <a:pt x="954" y="792"/>
                  </a:lnTo>
                  <a:lnTo>
                    <a:pt x="928" y="801"/>
                  </a:lnTo>
                  <a:lnTo>
                    <a:pt x="899" y="810"/>
                  </a:lnTo>
                  <a:lnTo>
                    <a:pt x="869" y="819"/>
                  </a:lnTo>
                  <a:lnTo>
                    <a:pt x="1235" y="1297"/>
                  </a:lnTo>
                  <a:lnTo>
                    <a:pt x="1266" y="1337"/>
                  </a:lnTo>
                  <a:lnTo>
                    <a:pt x="1291" y="1368"/>
                  </a:lnTo>
                  <a:lnTo>
                    <a:pt x="1309" y="1389"/>
                  </a:lnTo>
                  <a:lnTo>
                    <a:pt x="1321" y="1402"/>
                  </a:lnTo>
                  <a:lnTo>
                    <a:pt x="1336" y="1412"/>
                  </a:lnTo>
                  <a:lnTo>
                    <a:pt x="1353" y="1423"/>
                  </a:lnTo>
                  <a:lnTo>
                    <a:pt x="1372" y="1432"/>
                  </a:lnTo>
                  <a:lnTo>
                    <a:pt x="1393" y="1441"/>
                  </a:lnTo>
                  <a:lnTo>
                    <a:pt x="1410" y="1447"/>
                  </a:lnTo>
                  <a:lnTo>
                    <a:pt x="1429" y="1454"/>
                  </a:lnTo>
                  <a:lnTo>
                    <a:pt x="1451" y="1461"/>
                  </a:lnTo>
                  <a:lnTo>
                    <a:pt x="1476" y="1467"/>
                  </a:lnTo>
                  <a:lnTo>
                    <a:pt x="1503" y="1475"/>
                  </a:lnTo>
                  <a:lnTo>
                    <a:pt x="1533" y="1482"/>
                  </a:lnTo>
                  <a:lnTo>
                    <a:pt x="1566" y="1490"/>
                  </a:lnTo>
                  <a:lnTo>
                    <a:pt x="1601" y="1497"/>
                  </a:lnTo>
                  <a:lnTo>
                    <a:pt x="1601" y="1563"/>
                  </a:lnTo>
                  <a:lnTo>
                    <a:pt x="1559" y="1560"/>
                  </a:lnTo>
                  <a:lnTo>
                    <a:pt x="1520" y="1557"/>
                  </a:lnTo>
                  <a:lnTo>
                    <a:pt x="1484" y="1555"/>
                  </a:lnTo>
                  <a:lnTo>
                    <a:pt x="1451" y="1553"/>
                  </a:lnTo>
                  <a:lnTo>
                    <a:pt x="1421" y="1552"/>
                  </a:lnTo>
                  <a:lnTo>
                    <a:pt x="1393" y="1551"/>
                  </a:lnTo>
                  <a:lnTo>
                    <a:pt x="1369" y="1550"/>
                  </a:lnTo>
                  <a:lnTo>
                    <a:pt x="1347" y="1550"/>
                  </a:lnTo>
                  <a:lnTo>
                    <a:pt x="1325" y="1550"/>
                  </a:lnTo>
                  <a:lnTo>
                    <a:pt x="1302" y="1551"/>
                  </a:lnTo>
                  <a:lnTo>
                    <a:pt x="1279" y="1552"/>
                  </a:lnTo>
                  <a:lnTo>
                    <a:pt x="1255" y="1553"/>
                  </a:lnTo>
                  <a:lnTo>
                    <a:pt x="1232" y="1555"/>
                  </a:lnTo>
                  <a:lnTo>
                    <a:pt x="1209" y="1557"/>
                  </a:lnTo>
                  <a:lnTo>
                    <a:pt x="1184" y="1560"/>
                  </a:lnTo>
                  <a:lnTo>
                    <a:pt x="1161" y="1563"/>
                  </a:lnTo>
                  <a:lnTo>
                    <a:pt x="1147" y="1542"/>
                  </a:lnTo>
                  <a:lnTo>
                    <a:pt x="1133" y="1518"/>
                  </a:lnTo>
                  <a:lnTo>
                    <a:pt x="1119" y="1495"/>
                  </a:lnTo>
                  <a:lnTo>
                    <a:pt x="1103" y="1469"/>
                  </a:lnTo>
                  <a:lnTo>
                    <a:pt x="1085" y="1443"/>
                  </a:lnTo>
                  <a:lnTo>
                    <a:pt x="1067" y="1414"/>
                  </a:lnTo>
                  <a:lnTo>
                    <a:pt x="1047" y="1386"/>
                  </a:lnTo>
                  <a:lnTo>
                    <a:pt x="1027" y="1355"/>
                  </a:lnTo>
                  <a:lnTo>
                    <a:pt x="988" y="1299"/>
                  </a:lnTo>
                  <a:lnTo>
                    <a:pt x="958" y="1255"/>
                  </a:lnTo>
                  <a:lnTo>
                    <a:pt x="936" y="1225"/>
                  </a:lnTo>
                  <a:lnTo>
                    <a:pt x="923" y="1207"/>
                  </a:lnTo>
                  <a:lnTo>
                    <a:pt x="912" y="1193"/>
                  </a:lnTo>
                  <a:lnTo>
                    <a:pt x="903" y="1179"/>
                  </a:lnTo>
                  <a:lnTo>
                    <a:pt x="660" y="846"/>
                  </a:lnTo>
                  <a:lnTo>
                    <a:pt x="636" y="845"/>
                  </a:lnTo>
                  <a:lnTo>
                    <a:pt x="610" y="844"/>
                  </a:lnTo>
                  <a:lnTo>
                    <a:pt x="586" y="843"/>
                  </a:lnTo>
                  <a:lnTo>
                    <a:pt x="562" y="842"/>
                  </a:lnTo>
                  <a:lnTo>
                    <a:pt x="536" y="840"/>
                  </a:lnTo>
                  <a:lnTo>
                    <a:pt x="512" y="838"/>
                  </a:lnTo>
                  <a:lnTo>
                    <a:pt x="486" y="835"/>
                  </a:lnTo>
                  <a:lnTo>
                    <a:pt x="462" y="833"/>
                  </a:lnTo>
                  <a:lnTo>
                    <a:pt x="470" y="1387"/>
                  </a:lnTo>
                  <a:lnTo>
                    <a:pt x="471" y="1395"/>
                  </a:lnTo>
                  <a:lnTo>
                    <a:pt x="473" y="1403"/>
                  </a:lnTo>
                  <a:lnTo>
                    <a:pt x="475" y="1410"/>
                  </a:lnTo>
                  <a:lnTo>
                    <a:pt x="477" y="1416"/>
                  </a:lnTo>
                  <a:lnTo>
                    <a:pt x="479" y="1422"/>
                  </a:lnTo>
                  <a:lnTo>
                    <a:pt x="482" y="1427"/>
                  </a:lnTo>
                  <a:lnTo>
                    <a:pt x="486" y="1432"/>
                  </a:lnTo>
                  <a:lnTo>
                    <a:pt x="491" y="1437"/>
                  </a:lnTo>
                  <a:lnTo>
                    <a:pt x="499" y="1442"/>
                  </a:lnTo>
                  <a:lnTo>
                    <a:pt x="511" y="1448"/>
                  </a:lnTo>
                  <a:lnTo>
                    <a:pt x="526" y="1454"/>
                  </a:lnTo>
                  <a:lnTo>
                    <a:pt x="545" y="1460"/>
                  </a:lnTo>
                  <a:lnTo>
                    <a:pt x="567" y="1465"/>
                  </a:lnTo>
                  <a:lnTo>
                    <a:pt x="593" y="1472"/>
                  </a:lnTo>
                  <a:lnTo>
                    <a:pt x="622" y="1478"/>
                  </a:lnTo>
                  <a:lnTo>
                    <a:pt x="656" y="1484"/>
                  </a:lnTo>
                  <a:lnTo>
                    <a:pt x="666" y="1486"/>
                  </a:lnTo>
                  <a:lnTo>
                    <a:pt x="680" y="1490"/>
                  </a:lnTo>
                  <a:lnTo>
                    <a:pt x="697" y="1493"/>
                  </a:lnTo>
                  <a:lnTo>
                    <a:pt x="716" y="1497"/>
                  </a:lnTo>
                  <a:lnTo>
                    <a:pt x="716" y="1563"/>
                  </a:lnTo>
                  <a:lnTo>
                    <a:pt x="667" y="1560"/>
                  </a:lnTo>
                  <a:lnTo>
                    <a:pt x="620" y="1557"/>
                  </a:lnTo>
                  <a:lnTo>
                    <a:pt x="573" y="1555"/>
                  </a:lnTo>
                  <a:lnTo>
                    <a:pt x="529" y="1553"/>
                  </a:lnTo>
                  <a:lnTo>
                    <a:pt x="485" y="1552"/>
                  </a:lnTo>
                  <a:lnTo>
                    <a:pt x="444" y="1551"/>
                  </a:lnTo>
                  <a:lnTo>
                    <a:pt x="404" y="1550"/>
                  </a:lnTo>
                  <a:lnTo>
                    <a:pt x="365" y="1550"/>
                  </a:lnTo>
                  <a:lnTo>
                    <a:pt x="323" y="1550"/>
                  </a:lnTo>
                  <a:lnTo>
                    <a:pt x="281" y="1551"/>
                  </a:lnTo>
                  <a:lnTo>
                    <a:pt x="237" y="1552"/>
                  </a:lnTo>
                  <a:lnTo>
                    <a:pt x="192" y="1553"/>
                  </a:lnTo>
                  <a:lnTo>
                    <a:pt x="146" y="1555"/>
                  </a:lnTo>
                  <a:lnTo>
                    <a:pt x="99" y="1557"/>
                  </a:lnTo>
                  <a:lnTo>
                    <a:pt x="50" y="1560"/>
                  </a:lnTo>
                  <a:lnTo>
                    <a:pt x="0" y="1563"/>
                  </a:lnTo>
                  <a:lnTo>
                    <a:pt x="0" y="1497"/>
                  </a:lnTo>
                  <a:lnTo>
                    <a:pt x="48" y="1487"/>
                  </a:lnTo>
                  <a:lnTo>
                    <a:pt x="85" y="1480"/>
                  </a:lnTo>
                  <a:lnTo>
                    <a:pt x="118" y="1474"/>
                  </a:lnTo>
                  <a:lnTo>
                    <a:pt x="146" y="1466"/>
                  </a:lnTo>
                  <a:lnTo>
                    <a:pt x="171" y="1460"/>
                  </a:lnTo>
                  <a:lnTo>
                    <a:pt x="192" y="1455"/>
                  </a:lnTo>
                  <a:lnTo>
                    <a:pt x="208" y="1448"/>
                  </a:lnTo>
                  <a:lnTo>
                    <a:pt x="219" y="1444"/>
                  </a:lnTo>
                  <a:lnTo>
                    <a:pt x="227" y="1439"/>
                  </a:lnTo>
                  <a:lnTo>
                    <a:pt x="232" y="1433"/>
                  </a:lnTo>
                  <a:lnTo>
                    <a:pt x="236" y="1427"/>
                  </a:lnTo>
                  <a:lnTo>
                    <a:pt x="240" y="1420"/>
                  </a:lnTo>
                  <a:lnTo>
                    <a:pt x="244" y="1411"/>
                  </a:lnTo>
                  <a:lnTo>
                    <a:pt x="246" y="1403"/>
                  </a:lnTo>
                  <a:lnTo>
                    <a:pt x="248" y="1392"/>
                  </a:lnTo>
                  <a:lnTo>
                    <a:pt x="250" y="1381"/>
                  </a:lnTo>
                  <a:lnTo>
                    <a:pt x="251" y="1370"/>
                  </a:lnTo>
                  <a:lnTo>
                    <a:pt x="252" y="1354"/>
                  </a:lnTo>
                  <a:lnTo>
                    <a:pt x="252" y="1322"/>
                  </a:lnTo>
                  <a:lnTo>
                    <a:pt x="253" y="1276"/>
                  </a:lnTo>
                  <a:lnTo>
                    <a:pt x="254" y="1212"/>
                  </a:lnTo>
                  <a:lnTo>
                    <a:pt x="254" y="1134"/>
                  </a:lnTo>
                  <a:lnTo>
                    <a:pt x="255" y="1039"/>
                  </a:lnTo>
                  <a:lnTo>
                    <a:pt x="256" y="929"/>
                  </a:lnTo>
                  <a:lnTo>
                    <a:pt x="256" y="804"/>
                  </a:lnTo>
                  <a:lnTo>
                    <a:pt x="252" y="286"/>
                  </a:lnTo>
                  <a:lnTo>
                    <a:pt x="251" y="233"/>
                  </a:lnTo>
                  <a:lnTo>
                    <a:pt x="250" y="192"/>
                  </a:lnTo>
                  <a:lnTo>
                    <a:pt x="249" y="164"/>
                  </a:lnTo>
                  <a:lnTo>
                    <a:pt x="247" y="149"/>
                  </a:lnTo>
                  <a:lnTo>
                    <a:pt x="243" y="141"/>
                  </a:lnTo>
                  <a:lnTo>
                    <a:pt x="238" y="134"/>
                  </a:lnTo>
                  <a:lnTo>
                    <a:pt x="232" y="128"/>
                  </a:lnTo>
                  <a:lnTo>
                    <a:pt x="225" y="123"/>
                  </a:lnTo>
                  <a:lnTo>
                    <a:pt x="211" y="116"/>
                  </a:lnTo>
                  <a:lnTo>
                    <a:pt x="194" y="109"/>
                  </a:lnTo>
                  <a:lnTo>
                    <a:pt x="176" y="102"/>
                  </a:lnTo>
                  <a:lnTo>
                    <a:pt x="156" y="96"/>
                  </a:lnTo>
                  <a:lnTo>
                    <a:pt x="133" y="91"/>
                  </a:lnTo>
                  <a:lnTo>
                    <a:pt x="109" y="85"/>
                  </a:lnTo>
                  <a:lnTo>
                    <a:pt x="83" y="80"/>
                  </a:lnTo>
                  <a:lnTo>
                    <a:pt x="54" y="75"/>
                  </a:lnTo>
                  <a:lnTo>
                    <a:pt x="45" y="74"/>
                  </a:lnTo>
                  <a:lnTo>
                    <a:pt x="32" y="71"/>
                  </a:lnTo>
                  <a:lnTo>
                    <a:pt x="17" y="69"/>
                  </a:lnTo>
                  <a:lnTo>
                    <a:pt x="0" y="64"/>
                  </a:lnTo>
                  <a:close/>
                  <a:moveTo>
                    <a:pt x="462" y="738"/>
                  </a:moveTo>
                  <a:lnTo>
                    <a:pt x="490" y="741"/>
                  </a:lnTo>
                  <a:lnTo>
                    <a:pt x="516" y="744"/>
                  </a:lnTo>
                  <a:lnTo>
                    <a:pt x="540" y="746"/>
                  </a:lnTo>
                  <a:lnTo>
                    <a:pt x="564" y="748"/>
                  </a:lnTo>
                  <a:lnTo>
                    <a:pt x="585" y="749"/>
                  </a:lnTo>
                  <a:lnTo>
                    <a:pt x="604" y="750"/>
                  </a:lnTo>
                  <a:lnTo>
                    <a:pt x="622" y="750"/>
                  </a:lnTo>
                  <a:lnTo>
                    <a:pt x="639" y="751"/>
                  </a:lnTo>
                  <a:lnTo>
                    <a:pt x="663" y="750"/>
                  </a:lnTo>
                  <a:lnTo>
                    <a:pt x="688" y="749"/>
                  </a:lnTo>
                  <a:lnTo>
                    <a:pt x="710" y="748"/>
                  </a:lnTo>
                  <a:lnTo>
                    <a:pt x="732" y="745"/>
                  </a:lnTo>
                  <a:lnTo>
                    <a:pt x="754" y="741"/>
                  </a:lnTo>
                  <a:lnTo>
                    <a:pt x="774" y="738"/>
                  </a:lnTo>
                  <a:lnTo>
                    <a:pt x="795" y="734"/>
                  </a:lnTo>
                  <a:lnTo>
                    <a:pt x="814" y="729"/>
                  </a:lnTo>
                  <a:lnTo>
                    <a:pt x="832" y="722"/>
                  </a:lnTo>
                  <a:lnTo>
                    <a:pt x="849" y="716"/>
                  </a:lnTo>
                  <a:lnTo>
                    <a:pt x="866" y="709"/>
                  </a:lnTo>
                  <a:lnTo>
                    <a:pt x="881" y="700"/>
                  </a:lnTo>
                  <a:lnTo>
                    <a:pt x="896" y="692"/>
                  </a:lnTo>
                  <a:lnTo>
                    <a:pt x="910" y="682"/>
                  </a:lnTo>
                  <a:lnTo>
                    <a:pt x="923" y="673"/>
                  </a:lnTo>
                  <a:lnTo>
                    <a:pt x="935" y="662"/>
                  </a:lnTo>
                  <a:lnTo>
                    <a:pt x="947" y="650"/>
                  </a:lnTo>
                  <a:lnTo>
                    <a:pt x="958" y="639"/>
                  </a:lnTo>
                  <a:lnTo>
                    <a:pt x="968" y="626"/>
                  </a:lnTo>
                  <a:lnTo>
                    <a:pt x="978" y="612"/>
                  </a:lnTo>
                  <a:lnTo>
                    <a:pt x="986" y="599"/>
                  </a:lnTo>
                  <a:lnTo>
                    <a:pt x="995" y="585"/>
                  </a:lnTo>
                  <a:lnTo>
                    <a:pt x="1001" y="570"/>
                  </a:lnTo>
                  <a:lnTo>
                    <a:pt x="1007" y="555"/>
                  </a:lnTo>
                  <a:lnTo>
                    <a:pt x="1014" y="539"/>
                  </a:lnTo>
                  <a:lnTo>
                    <a:pt x="1018" y="523"/>
                  </a:lnTo>
                  <a:lnTo>
                    <a:pt x="1022" y="506"/>
                  </a:lnTo>
                  <a:lnTo>
                    <a:pt x="1025" y="488"/>
                  </a:lnTo>
                  <a:lnTo>
                    <a:pt x="1029" y="471"/>
                  </a:lnTo>
                  <a:lnTo>
                    <a:pt x="1031" y="452"/>
                  </a:lnTo>
                  <a:lnTo>
                    <a:pt x="1032" y="433"/>
                  </a:lnTo>
                  <a:lnTo>
                    <a:pt x="1032" y="414"/>
                  </a:lnTo>
                  <a:lnTo>
                    <a:pt x="1032" y="397"/>
                  </a:lnTo>
                  <a:lnTo>
                    <a:pt x="1031" y="380"/>
                  </a:lnTo>
                  <a:lnTo>
                    <a:pt x="1029" y="363"/>
                  </a:lnTo>
                  <a:lnTo>
                    <a:pt x="1027" y="348"/>
                  </a:lnTo>
                  <a:lnTo>
                    <a:pt x="1023" y="332"/>
                  </a:lnTo>
                  <a:lnTo>
                    <a:pt x="1020" y="318"/>
                  </a:lnTo>
                  <a:lnTo>
                    <a:pt x="1016" y="304"/>
                  </a:lnTo>
                  <a:lnTo>
                    <a:pt x="1011" y="289"/>
                  </a:lnTo>
                  <a:lnTo>
                    <a:pt x="1005" y="276"/>
                  </a:lnTo>
                  <a:lnTo>
                    <a:pt x="999" y="262"/>
                  </a:lnTo>
                  <a:lnTo>
                    <a:pt x="992" y="251"/>
                  </a:lnTo>
                  <a:lnTo>
                    <a:pt x="984" y="238"/>
                  </a:lnTo>
                  <a:lnTo>
                    <a:pt x="976" y="226"/>
                  </a:lnTo>
                  <a:lnTo>
                    <a:pt x="966" y="216"/>
                  </a:lnTo>
                  <a:lnTo>
                    <a:pt x="957" y="205"/>
                  </a:lnTo>
                  <a:lnTo>
                    <a:pt x="946" y="195"/>
                  </a:lnTo>
                  <a:lnTo>
                    <a:pt x="935" y="185"/>
                  </a:lnTo>
                  <a:lnTo>
                    <a:pt x="924" y="176"/>
                  </a:lnTo>
                  <a:lnTo>
                    <a:pt x="912" y="167"/>
                  </a:lnTo>
                  <a:lnTo>
                    <a:pt x="899" y="160"/>
                  </a:lnTo>
                  <a:lnTo>
                    <a:pt x="886" y="152"/>
                  </a:lnTo>
                  <a:lnTo>
                    <a:pt x="872" y="146"/>
                  </a:lnTo>
                  <a:lnTo>
                    <a:pt x="857" y="140"/>
                  </a:lnTo>
                  <a:lnTo>
                    <a:pt x="842" y="134"/>
                  </a:lnTo>
                  <a:lnTo>
                    <a:pt x="826" y="130"/>
                  </a:lnTo>
                  <a:lnTo>
                    <a:pt x="809" y="126"/>
                  </a:lnTo>
                  <a:lnTo>
                    <a:pt x="792" y="121"/>
                  </a:lnTo>
                  <a:lnTo>
                    <a:pt x="775" y="119"/>
                  </a:lnTo>
                  <a:lnTo>
                    <a:pt x="756" y="117"/>
                  </a:lnTo>
                  <a:lnTo>
                    <a:pt x="738" y="115"/>
                  </a:lnTo>
                  <a:lnTo>
                    <a:pt x="718" y="114"/>
                  </a:lnTo>
                  <a:lnTo>
                    <a:pt x="698" y="114"/>
                  </a:lnTo>
                  <a:lnTo>
                    <a:pt x="682" y="114"/>
                  </a:lnTo>
                  <a:lnTo>
                    <a:pt x="662" y="115"/>
                  </a:lnTo>
                  <a:lnTo>
                    <a:pt x="639" y="116"/>
                  </a:lnTo>
                  <a:lnTo>
                    <a:pt x="611" y="117"/>
                  </a:lnTo>
                  <a:lnTo>
                    <a:pt x="581" y="119"/>
                  </a:lnTo>
                  <a:lnTo>
                    <a:pt x="547" y="121"/>
                  </a:lnTo>
                  <a:lnTo>
                    <a:pt x="510" y="124"/>
                  </a:lnTo>
                  <a:lnTo>
                    <a:pt x="468" y="127"/>
                  </a:lnTo>
                  <a:lnTo>
                    <a:pt x="462" y="738"/>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grpSp>
      <p:cxnSp>
        <p:nvCxnSpPr>
          <p:cNvPr id="490" name="直接连接符 2"/>
          <p:cNvCxnSpPr/>
          <p:nvPr/>
        </p:nvCxnSpPr>
        <p:spPr>
          <a:xfrm>
            <a:off x="3196800" y="9550800"/>
            <a:ext cx="914760" cy="914760"/>
          </a:xfrm>
          <a:prstGeom prst="straightConnector1">
            <a:avLst/>
          </a:prstGeom>
          <a:ln w="0">
            <a:noFill/>
          </a:ln>
        </p:spPr>
      </p:cxnSp>
    </p:spTree>
  </p:cSld>
  <p:transition spd="slow" advTm="5000">
    <p:push dir="r"/>
  </p:transition>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withEffect" fill="hold" presetClass="entr" presetID="22" presetSubtype="8">
                                  <p:stCondLst>
                                    <p:cond delay="0"/>
                                  </p:stCondLst>
                                  <p:childTnLst>
                                    <p:set>
                                      <p:cBhvr>
                                        <p:cTn id="174" dur="1" fill="hold">
                                          <p:stCondLst>
                                            <p:cond delay="0"/>
                                          </p:stCondLst>
                                        </p:cTn>
                                        <p:tgtEl>
                                          <p:spTgt spid="410"/>
                                        </p:tgtEl>
                                        <p:attrNameLst>
                                          <p:attrName>style.visibility</p:attrName>
                                        </p:attrNameLst>
                                      </p:cBhvr>
                                      <p:to>
                                        <p:strVal val="visible"/>
                                      </p:to>
                                    </p:set>
                                    <p:animEffect filter="wipe(left)" transition="in">
                                      <p:cBhvr additive="repl">
                                        <p:cTn id="175" dur="2000"/>
                                        <p:tgtEl>
                                          <p:spTgt spid="410"/>
                                        </p:tgtEl>
                                      </p:cBhvr>
                                    </p:animEffect>
                                  </p:childTnLst>
                                </p:cTn>
                              </p:par>
                            </p:childTnLst>
                          </p:cTn>
                        </p:par>
                        <p:par>
                          <p:cTn id="176" fill="hold">
                            <p:stCondLst>
                              <p:cond delay="2000"/>
                            </p:stCondLst>
                            <p:childTnLst>
                              <p:par>
                                <p:cTn id="177" nodeType="afterEffect" fill="hold" presetClass="entr" presetID="22" presetSubtype="4">
                                  <p:stCondLst>
                                    <p:cond delay="0"/>
                                  </p:stCondLst>
                                  <p:childTnLst>
                                    <p:set>
                                      <p:cBhvr>
                                        <p:cTn id="178" dur="1" fill="hold">
                                          <p:stCondLst>
                                            <p:cond delay="0"/>
                                          </p:stCondLst>
                                        </p:cTn>
                                        <p:tgtEl>
                                          <p:spTgt spid="406"/>
                                        </p:tgtEl>
                                        <p:attrNameLst>
                                          <p:attrName>style.visibility</p:attrName>
                                        </p:attrNameLst>
                                      </p:cBhvr>
                                      <p:to>
                                        <p:strVal val="visible"/>
                                      </p:to>
                                    </p:set>
                                    <p:animEffect filter="wipe(down)" transition="in">
                                      <p:cBhvr additive="repl">
                                        <p:cTn id="179" dur="1000"/>
                                        <p:tgtEl>
                                          <p:spTgt spid="406"/>
                                        </p:tgtEl>
                                      </p:cBhvr>
                                    </p:animEffect>
                                  </p:childTnLst>
                                </p:cTn>
                              </p:par>
                            </p:childTnLst>
                          </p:cTn>
                        </p:par>
                        <p:par>
                          <p:cTn id="180" fill="hold">
                            <p:stCondLst>
                              <p:cond delay="3000"/>
                            </p:stCondLst>
                            <p:childTnLst>
                              <p:par>
                                <p:cTn id="181" nodeType="afterEffect" fill="hold" presetClass="entr" presetID="41">
                                  <p:stCondLst>
                                    <p:cond delay="0"/>
                                  </p:stCondLst>
                                  <p:iterate type="wd">
                                    <p:tmAbs val="100"/>
                                  </p:iterate>
                                  <p:childTnLst>
                                    <p:set>
                                      <p:cBhvr>
                                        <p:cTn id="182" dur="1" fill="hold">
                                          <p:stCondLst>
                                            <p:cond delay="0"/>
                                          </p:stCondLst>
                                        </p:cTn>
                                        <p:tgtEl>
                                          <p:spTgt spid="408"/>
                                        </p:tgtEl>
                                        <p:attrNameLst>
                                          <p:attrName>style.visibility</p:attrName>
                                        </p:attrNameLst>
                                      </p:cBhvr>
                                      <p:to>
                                        <p:strVal val="visible"/>
                                      </p:to>
                                    </p:set>
                                    <p:anim calcmode="lin" valueType="num">
                                      <p:cBhvr additive="repl">
                                        <p:cTn id="183" dur="1000" fill="hold"/>
                                        <p:tgtEl>
                                          <p:spTgt spid="40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4" dur="1000" fill="hold"/>
                                        <p:tgtEl>
                                          <p:spTgt spid="408"/>
                                        </p:tgtEl>
                                        <p:attrNameLst>
                                          <p:attrName>ppt_y</p:attrName>
                                        </p:attrNameLst>
                                      </p:cBhvr>
                                      <p:tavLst>
                                        <p:tav tm="0">
                                          <p:val>
                                            <p:strVal val="#ppt_y"/>
                                          </p:val>
                                        </p:tav>
                                        <p:tav tm="100000">
                                          <p:val>
                                            <p:strVal val="#ppt_y"/>
                                          </p:val>
                                        </p:tav>
                                      </p:tavLst>
                                    </p:anim>
                                    <p:anim calcmode="lin" valueType="num">
                                      <p:cBhvr additive="repl">
                                        <p:cTn id="185" dur="1000" fill="hold"/>
                                        <p:tgtEl>
                                          <p:spTgt spid="40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6" dur="1000" fill="hold"/>
                                        <p:tgtEl>
                                          <p:spTgt spid="40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7" dur="1000"/>
                                        <p:tgtEl>
                                          <p:spTgt spid="408"/>
                                        </p:tgtEl>
                                      </p:cBhvr>
                                    </p:animEffect>
                                  </p:childTnLst>
                                </p:cTn>
                              </p:par>
                            </p:childTnLst>
                          </p:cTn>
                        </p:par>
                        <p:par>
                          <p:cTn id="188" fill="hold">
                            <p:stCondLst>
                              <p:cond delay="6300"/>
                            </p:stCondLst>
                            <p:childTnLst>
                              <p:par>
                                <p:cTn id="189" nodeType="afterEffect" fill="hold" presetClass="entr" presetID="16" presetSubtype="37">
                                  <p:stCondLst>
                                    <p:cond delay="0"/>
                                  </p:stCondLst>
                                  <p:childTnLst>
                                    <p:set>
                                      <p:cBhvr>
                                        <p:cTn id="190" dur="1" fill="hold">
                                          <p:stCondLst>
                                            <p:cond delay="0"/>
                                          </p:stCondLst>
                                        </p:cTn>
                                        <p:tgtEl>
                                          <p:spTgt spid="407"/>
                                        </p:tgtEl>
                                        <p:attrNameLst>
                                          <p:attrName>style.visibility</p:attrName>
                                        </p:attrNameLst>
                                      </p:cBhvr>
                                      <p:to>
                                        <p:strVal val="visible"/>
                                      </p:to>
                                    </p:set>
                                    <p:animEffect filter="barn(outVertical)" transition="in">
                                      <p:cBhvr additive="repl">
                                        <p:cTn id="191" dur="10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1" name="图片 4" descr="0cf878b404e44238ba56decc9b5e6d740001.jpg"/>
          <p:cNvPicPr/>
          <p:nvPr/>
        </p:nvPicPr>
        <p:blipFill>
          <a:blip r:embed="rId1"/>
          <a:stretch/>
        </p:blipFill>
        <p:spPr>
          <a:xfrm>
            <a:off x="2184480" y="3701880"/>
            <a:ext cx="2488680" cy="2501640"/>
          </a:xfrm>
          <a:prstGeom prst="rect">
            <a:avLst/>
          </a:prstGeom>
          <a:ln w="0">
            <a:noFill/>
          </a:ln>
        </p:spPr>
      </p:pic>
      <p:pic>
        <p:nvPicPr>
          <p:cNvPr id="492" name="图片 5" descr="2457331_100413172000_2.jpg"/>
          <p:cNvPicPr/>
          <p:nvPr/>
        </p:nvPicPr>
        <p:blipFill>
          <a:blip r:embed="rId2"/>
          <a:stretch/>
        </p:blipFill>
        <p:spPr>
          <a:xfrm>
            <a:off x="0" y="1317600"/>
            <a:ext cx="6857640" cy="8601480"/>
          </a:xfrm>
          <a:prstGeom prst="rect">
            <a:avLst/>
          </a:prstGeom>
          <a:ln w="0">
            <a:noFill/>
          </a:ln>
        </p:spPr>
      </p:pic>
      <p:sp>
        <p:nvSpPr>
          <p:cNvPr id="493" name="矩形 6"/>
          <p:cNvSpPr/>
          <p:nvPr/>
        </p:nvSpPr>
        <p:spPr>
          <a:xfrm>
            <a:off x="1201680" y="2266200"/>
            <a:ext cx="5655960" cy="136908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1" lang="zh-CN" sz="2800" spc="-1" strike="noStrike">
                <a:solidFill>
                  <a:srgbClr val="ff0000"/>
                </a:solidFill>
                <a:latin typeface="微软雅黑"/>
                <a:ea typeface="微软雅黑"/>
              </a:rPr>
              <a:t>助企业腾飞，圆经营梦想！</a:t>
            </a:r>
            <a:endParaRPr b="0" lang="en-US" sz="2800" spc="-1" strike="noStrike">
              <a:solidFill>
                <a:srgbClr val="ffffff"/>
              </a:solidFill>
              <a:latin typeface="Arial"/>
            </a:endParaRPr>
          </a:p>
          <a:p>
            <a:pPr>
              <a:lnSpc>
                <a:spcPct val="150000"/>
              </a:lnSpc>
            </a:pPr>
            <a:r>
              <a:rPr b="1" lang="zh-CN" sz="2800" spc="-1" strike="noStrike">
                <a:solidFill>
                  <a:srgbClr val="ff0000"/>
                </a:solidFill>
                <a:latin typeface="微软雅黑"/>
                <a:ea typeface="微软雅黑"/>
              </a:rPr>
              <a:t>始终是我们服务的宗旨和使命！</a:t>
            </a:r>
            <a:endParaRPr b="0" lang="en-US" sz="2800" spc="-1" strike="noStrike">
              <a:solidFill>
                <a:srgbClr val="ffffff"/>
              </a:solidFill>
              <a:latin typeface="Arial"/>
            </a:endParaRPr>
          </a:p>
        </p:txBody>
      </p:sp>
      <p:grpSp>
        <p:nvGrpSpPr>
          <p:cNvPr id="494" name="组合 88"/>
          <p:cNvGrpSpPr/>
          <p:nvPr/>
        </p:nvGrpSpPr>
        <p:grpSpPr>
          <a:xfrm>
            <a:off x="4434480" y="147240"/>
            <a:ext cx="2233800" cy="729000"/>
            <a:chOff x="4434480" y="147240"/>
            <a:chExt cx="2233800" cy="729000"/>
          </a:xfrm>
        </p:grpSpPr>
        <p:sp>
          <p:nvSpPr>
            <p:cNvPr id="495" name="Rectangle 7"/>
            <p:cNvSpPr/>
            <p:nvPr/>
          </p:nvSpPr>
          <p:spPr>
            <a:xfrm>
              <a:off x="4434480" y="812880"/>
              <a:ext cx="2233800" cy="8280"/>
            </a:xfrm>
            <a:prstGeom prst="rect">
              <a:avLst/>
            </a:prstGeom>
            <a:solidFill>
              <a:srgbClr val="d79f00"/>
            </a:solidFill>
            <a:ln w="0">
              <a:noFill/>
            </a:ln>
          </p:spPr>
          <p:style>
            <a:lnRef idx="0"/>
            <a:fillRef idx="0"/>
            <a:effectRef idx="0"/>
            <a:fontRef idx="minor"/>
          </p:style>
          <p:txBody>
            <a:bodyPr lIns="90000" rIns="90000" tIns="-36360" bIns="-36360" anchor="t">
              <a:noAutofit/>
            </a:bodyPr>
            <a:p>
              <a:pPr>
                <a:lnSpc>
                  <a:spcPct val="100000"/>
                </a:lnSpc>
              </a:pPr>
              <a:endParaRPr b="0" lang="en-US" sz="1800" spc="-1" strike="noStrike">
                <a:solidFill>
                  <a:srgbClr val="000000"/>
                </a:solidFill>
                <a:latin typeface="Arial"/>
                <a:ea typeface="宋体"/>
              </a:endParaRPr>
            </a:p>
          </p:txBody>
        </p:sp>
        <p:sp>
          <p:nvSpPr>
            <p:cNvPr id="496" name="Freeform 8"/>
            <p:cNvSpPr/>
            <p:nvPr/>
          </p:nvSpPr>
          <p:spPr>
            <a:xfrm>
              <a:off x="4465440" y="147240"/>
              <a:ext cx="731160" cy="729000"/>
            </a:xfrm>
            <a:custGeom>
              <a:avLst/>
              <a:gdLst>
                <a:gd name="textAreaLeft" fmla="*/ 0 w 731160"/>
                <a:gd name="textAreaRight" fmla="*/ 731520 w 731160"/>
                <a:gd name="textAreaTop" fmla="*/ 0 h 729000"/>
                <a:gd name="textAreaBottom" fmla="*/ 729360 h 729000"/>
              </a:gdLst>
              <a:ahLst/>
              <a:rect l="textAreaLeft" t="textAreaTop" r="textAreaRight" b="textAreaBottom"/>
              <a:pathLst>
                <a:path w="5495" h="5786">
                  <a:moveTo>
                    <a:pt x="730" y="46"/>
                  </a:moveTo>
                  <a:lnTo>
                    <a:pt x="0" y="4624"/>
                  </a:lnTo>
                  <a:lnTo>
                    <a:pt x="1589" y="2642"/>
                  </a:lnTo>
                  <a:lnTo>
                    <a:pt x="2760" y="5786"/>
                  </a:lnTo>
                  <a:lnTo>
                    <a:pt x="3854" y="2574"/>
                  </a:lnTo>
                  <a:lnTo>
                    <a:pt x="5495" y="4647"/>
                  </a:lnTo>
                  <a:lnTo>
                    <a:pt x="4713" y="0"/>
                  </a:lnTo>
                  <a:lnTo>
                    <a:pt x="2760" y="2368"/>
                  </a:lnTo>
                  <a:lnTo>
                    <a:pt x="730" y="46"/>
                  </a:lnTo>
                  <a:close/>
                </a:path>
              </a:pathLst>
            </a:custGeom>
            <a:solidFill>
              <a:srgbClr val="fcdb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497" name="Freeform 9"/>
            <p:cNvSpPr/>
            <p:nvPr/>
          </p:nvSpPr>
          <p:spPr>
            <a:xfrm>
              <a:off x="4465440" y="153360"/>
              <a:ext cx="210960" cy="576360"/>
            </a:xfrm>
            <a:custGeom>
              <a:avLst/>
              <a:gdLst>
                <a:gd name="textAreaLeft" fmla="*/ 0 w 210960"/>
                <a:gd name="textAreaRight" fmla="*/ 211320 w 210960"/>
                <a:gd name="textAreaTop" fmla="*/ 0 h 576360"/>
                <a:gd name="textAreaBottom" fmla="*/ 576720 h 576360"/>
              </a:gdLst>
              <a:ahLst/>
              <a:rect l="textAreaLeft" t="textAreaTop" r="textAreaRight" b="textAreaBottom"/>
              <a:pathLst>
                <a:path w="1589" h="4578">
                  <a:moveTo>
                    <a:pt x="730" y="0"/>
                  </a:moveTo>
                  <a:lnTo>
                    <a:pt x="1589" y="2596"/>
                  </a:lnTo>
                  <a:lnTo>
                    <a:pt x="0" y="4578"/>
                  </a:lnTo>
                  <a:lnTo>
                    <a:pt x="730" y="0"/>
                  </a:lnTo>
                  <a:close/>
                </a:path>
              </a:pathLst>
            </a:custGeom>
            <a:solidFill>
              <a:srgbClr val="d79f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498" name="Freeform 10"/>
            <p:cNvSpPr/>
            <p:nvPr/>
          </p:nvSpPr>
          <p:spPr>
            <a:xfrm>
              <a:off x="4832280" y="147240"/>
              <a:ext cx="259560" cy="729000"/>
            </a:xfrm>
            <a:custGeom>
              <a:avLst/>
              <a:gdLst>
                <a:gd name="textAreaLeft" fmla="*/ 0 w 259560"/>
                <a:gd name="textAreaRight" fmla="*/ 259920 w 259560"/>
                <a:gd name="textAreaTop" fmla="*/ 0 h 729000"/>
                <a:gd name="textAreaBottom" fmla="*/ 729360 h 729000"/>
              </a:gdLst>
              <a:ahLst/>
              <a:rect l="textAreaLeft" t="textAreaTop" r="textAreaRight" b="textAreaBottom"/>
              <a:pathLst>
                <a:path w="1953" h="5786">
                  <a:moveTo>
                    <a:pt x="0" y="2368"/>
                  </a:moveTo>
                  <a:lnTo>
                    <a:pt x="0" y="5786"/>
                  </a:lnTo>
                  <a:lnTo>
                    <a:pt x="1094" y="2574"/>
                  </a:lnTo>
                  <a:lnTo>
                    <a:pt x="1953" y="0"/>
                  </a:lnTo>
                  <a:lnTo>
                    <a:pt x="0" y="2368"/>
                  </a:lnTo>
                  <a:close/>
                </a:path>
              </a:pathLst>
            </a:custGeom>
            <a:solidFill>
              <a:srgbClr val="d79f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grpSp>
          <p:nvGrpSpPr>
            <p:cNvPr id="499" name="组合 87"/>
            <p:cNvGrpSpPr/>
            <p:nvPr/>
          </p:nvGrpSpPr>
          <p:grpSpPr>
            <a:xfrm>
              <a:off x="5234760" y="549360"/>
              <a:ext cx="1428120" cy="205200"/>
              <a:chOff x="5234760" y="549360"/>
              <a:chExt cx="1428120" cy="205200"/>
            </a:xfrm>
          </p:grpSpPr>
          <p:sp>
            <p:nvSpPr>
              <p:cNvPr id="500" name="Freeform 78"/>
              <p:cNvSpPr/>
              <p:nvPr/>
            </p:nvSpPr>
            <p:spPr>
              <a:xfrm>
                <a:off x="5234760" y="550080"/>
                <a:ext cx="226800" cy="199800"/>
              </a:xfrm>
              <a:custGeom>
                <a:avLst/>
                <a:gdLst>
                  <a:gd name="textAreaLeft" fmla="*/ 0 w 226800"/>
                  <a:gd name="textAreaRight" fmla="*/ 227160 w 226800"/>
                  <a:gd name="textAreaTop" fmla="*/ 0 h 199800"/>
                  <a:gd name="textAreaBottom" fmla="*/ 200160 h 199800"/>
                </a:gdLst>
                <a:ahLst/>
                <a:rect l="textAreaLeft" t="textAreaTop" r="textAreaRight" b="textAreaBottom"/>
                <a:pathLst>
                  <a:path w="1708" h="1590">
                    <a:moveTo>
                      <a:pt x="817" y="0"/>
                    </a:moveTo>
                    <a:lnTo>
                      <a:pt x="885" y="0"/>
                    </a:lnTo>
                    <a:lnTo>
                      <a:pt x="904" y="48"/>
                    </a:lnTo>
                    <a:lnTo>
                      <a:pt x="925" y="98"/>
                    </a:lnTo>
                    <a:lnTo>
                      <a:pt x="944" y="147"/>
                    </a:lnTo>
                    <a:lnTo>
                      <a:pt x="965" y="197"/>
                    </a:lnTo>
                    <a:lnTo>
                      <a:pt x="985" y="249"/>
                    </a:lnTo>
                    <a:lnTo>
                      <a:pt x="1007" y="301"/>
                    </a:lnTo>
                    <a:lnTo>
                      <a:pt x="1029" y="354"/>
                    </a:lnTo>
                    <a:lnTo>
                      <a:pt x="1052" y="408"/>
                    </a:lnTo>
                    <a:lnTo>
                      <a:pt x="1075" y="462"/>
                    </a:lnTo>
                    <a:lnTo>
                      <a:pt x="1098" y="517"/>
                    </a:lnTo>
                    <a:lnTo>
                      <a:pt x="1123" y="573"/>
                    </a:lnTo>
                    <a:lnTo>
                      <a:pt x="1147" y="631"/>
                    </a:lnTo>
                    <a:lnTo>
                      <a:pt x="1172" y="689"/>
                    </a:lnTo>
                    <a:lnTo>
                      <a:pt x="1198" y="747"/>
                    </a:lnTo>
                    <a:lnTo>
                      <a:pt x="1224" y="807"/>
                    </a:lnTo>
                    <a:lnTo>
                      <a:pt x="1252" y="867"/>
                    </a:lnTo>
                    <a:lnTo>
                      <a:pt x="1508" y="1428"/>
                    </a:lnTo>
                    <a:lnTo>
                      <a:pt x="1517" y="1441"/>
                    </a:lnTo>
                    <a:lnTo>
                      <a:pt x="1526" y="1453"/>
                    </a:lnTo>
                    <a:lnTo>
                      <a:pt x="1536" y="1464"/>
                    </a:lnTo>
                    <a:lnTo>
                      <a:pt x="1546" y="1472"/>
                    </a:lnTo>
                    <a:lnTo>
                      <a:pt x="1552" y="1474"/>
                    </a:lnTo>
                    <a:lnTo>
                      <a:pt x="1562" y="1478"/>
                    </a:lnTo>
                    <a:lnTo>
                      <a:pt x="1576" y="1484"/>
                    </a:lnTo>
                    <a:lnTo>
                      <a:pt x="1594" y="1490"/>
                    </a:lnTo>
                    <a:lnTo>
                      <a:pt x="1616" y="1496"/>
                    </a:lnTo>
                    <a:lnTo>
                      <a:pt x="1643" y="1505"/>
                    </a:lnTo>
                    <a:lnTo>
                      <a:pt x="1673" y="1514"/>
                    </a:lnTo>
                    <a:lnTo>
                      <a:pt x="1708" y="1524"/>
                    </a:lnTo>
                    <a:lnTo>
                      <a:pt x="1708" y="1590"/>
                    </a:lnTo>
                    <a:lnTo>
                      <a:pt x="1660" y="1587"/>
                    </a:lnTo>
                    <a:lnTo>
                      <a:pt x="1614" y="1584"/>
                    </a:lnTo>
                    <a:lnTo>
                      <a:pt x="1573" y="1582"/>
                    </a:lnTo>
                    <a:lnTo>
                      <a:pt x="1535" y="1580"/>
                    </a:lnTo>
                    <a:lnTo>
                      <a:pt x="1499" y="1579"/>
                    </a:lnTo>
                    <a:lnTo>
                      <a:pt x="1467" y="1578"/>
                    </a:lnTo>
                    <a:lnTo>
                      <a:pt x="1438" y="1577"/>
                    </a:lnTo>
                    <a:lnTo>
                      <a:pt x="1413" y="1577"/>
                    </a:lnTo>
                    <a:lnTo>
                      <a:pt x="1386" y="1577"/>
                    </a:lnTo>
                    <a:lnTo>
                      <a:pt x="1356" y="1578"/>
                    </a:lnTo>
                    <a:lnTo>
                      <a:pt x="1321" y="1579"/>
                    </a:lnTo>
                    <a:lnTo>
                      <a:pt x="1282" y="1580"/>
                    </a:lnTo>
                    <a:lnTo>
                      <a:pt x="1238" y="1582"/>
                    </a:lnTo>
                    <a:lnTo>
                      <a:pt x="1190" y="1584"/>
                    </a:lnTo>
                    <a:lnTo>
                      <a:pt x="1139" y="1587"/>
                    </a:lnTo>
                    <a:lnTo>
                      <a:pt x="1082" y="1590"/>
                    </a:lnTo>
                    <a:lnTo>
                      <a:pt x="1082" y="1524"/>
                    </a:lnTo>
                    <a:lnTo>
                      <a:pt x="1143" y="1511"/>
                    </a:lnTo>
                    <a:lnTo>
                      <a:pt x="1188" y="1500"/>
                    </a:lnTo>
                    <a:lnTo>
                      <a:pt x="1206" y="1494"/>
                    </a:lnTo>
                    <a:lnTo>
                      <a:pt x="1220" y="1489"/>
                    </a:lnTo>
                    <a:lnTo>
                      <a:pt x="1231" y="1485"/>
                    </a:lnTo>
                    <a:lnTo>
                      <a:pt x="1238" y="1481"/>
                    </a:lnTo>
                    <a:lnTo>
                      <a:pt x="1243" y="1476"/>
                    </a:lnTo>
                    <a:lnTo>
                      <a:pt x="1248" y="1472"/>
                    </a:lnTo>
                    <a:lnTo>
                      <a:pt x="1252" y="1467"/>
                    </a:lnTo>
                    <a:lnTo>
                      <a:pt x="1255" y="1463"/>
                    </a:lnTo>
                    <a:lnTo>
                      <a:pt x="1257" y="1457"/>
                    </a:lnTo>
                    <a:lnTo>
                      <a:pt x="1258" y="1453"/>
                    </a:lnTo>
                    <a:lnTo>
                      <a:pt x="1259" y="1448"/>
                    </a:lnTo>
                    <a:lnTo>
                      <a:pt x="1260" y="1441"/>
                    </a:lnTo>
                    <a:lnTo>
                      <a:pt x="1259" y="1436"/>
                    </a:lnTo>
                    <a:lnTo>
                      <a:pt x="1258" y="1429"/>
                    </a:lnTo>
                    <a:lnTo>
                      <a:pt x="1257" y="1420"/>
                    </a:lnTo>
                    <a:lnTo>
                      <a:pt x="1254" y="1411"/>
                    </a:lnTo>
                    <a:lnTo>
                      <a:pt x="1247" y="1389"/>
                    </a:lnTo>
                    <a:lnTo>
                      <a:pt x="1237" y="1364"/>
                    </a:lnTo>
                    <a:lnTo>
                      <a:pt x="1127" y="1095"/>
                    </a:lnTo>
                    <a:lnTo>
                      <a:pt x="1070" y="1095"/>
                    </a:lnTo>
                    <a:lnTo>
                      <a:pt x="1018" y="1094"/>
                    </a:lnTo>
                    <a:lnTo>
                      <a:pt x="969" y="1094"/>
                    </a:lnTo>
                    <a:lnTo>
                      <a:pt x="925" y="1093"/>
                    </a:lnTo>
                    <a:lnTo>
                      <a:pt x="883" y="1093"/>
                    </a:lnTo>
                    <a:lnTo>
                      <a:pt x="847" y="1093"/>
                    </a:lnTo>
                    <a:lnTo>
                      <a:pt x="814" y="1093"/>
                    </a:lnTo>
                    <a:lnTo>
                      <a:pt x="786" y="1093"/>
                    </a:lnTo>
                    <a:lnTo>
                      <a:pt x="483" y="1095"/>
                    </a:lnTo>
                    <a:lnTo>
                      <a:pt x="368" y="1374"/>
                    </a:lnTo>
                    <a:lnTo>
                      <a:pt x="356" y="1404"/>
                    </a:lnTo>
                    <a:lnTo>
                      <a:pt x="347" y="1428"/>
                    </a:lnTo>
                    <a:lnTo>
                      <a:pt x="342" y="1446"/>
                    </a:lnTo>
                    <a:lnTo>
                      <a:pt x="340" y="1457"/>
                    </a:lnTo>
                    <a:lnTo>
                      <a:pt x="341" y="1464"/>
                    </a:lnTo>
                    <a:lnTo>
                      <a:pt x="343" y="1470"/>
                    </a:lnTo>
                    <a:lnTo>
                      <a:pt x="347" y="1476"/>
                    </a:lnTo>
                    <a:lnTo>
                      <a:pt x="354" y="1481"/>
                    </a:lnTo>
                    <a:lnTo>
                      <a:pt x="359" y="1484"/>
                    </a:lnTo>
                    <a:lnTo>
                      <a:pt x="366" y="1487"/>
                    </a:lnTo>
                    <a:lnTo>
                      <a:pt x="378" y="1490"/>
                    </a:lnTo>
                    <a:lnTo>
                      <a:pt x="393" y="1494"/>
                    </a:lnTo>
                    <a:lnTo>
                      <a:pt x="431" y="1503"/>
                    </a:lnTo>
                    <a:lnTo>
                      <a:pt x="482" y="1514"/>
                    </a:lnTo>
                    <a:lnTo>
                      <a:pt x="488" y="1517"/>
                    </a:lnTo>
                    <a:lnTo>
                      <a:pt x="497" y="1519"/>
                    </a:lnTo>
                    <a:lnTo>
                      <a:pt x="505" y="1521"/>
                    </a:lnTo>
                    <a:lnTo>
                      <a:pt x="516" y="1524"/>
                    </a:lnTo>
                    <a:lnTo>
                      <a:pt x="516" y="1590"/>
                    </a:lnTo>
                    <a:lnTo>
                      <a:pt x="470" y="1587"/>
                    </a:lnTo>
                    <a:lnTo>
                      <a:pt x="429" y="1584"/>
                    </a:lnTo>
                    <a:lnTo>
                      <a:pt x="391" y="1582"/>
                    </a:lnTo>
                    <a:lnTo>
                      <a:pt x="356" y="1580"/>
                    </a:lnTo>
                    <a:lnTo>
                      <a:pt x="324" y="1579"/>
                    </a:lnTo>
                    <a:lnTo>
                      <a:pt x="296" y="1578"/>
                    </a:lnTo>
                    <a:lnTo>
                      <a:pt x="271" y="1577"/>
                    </a:lnTo>
                    <a:lnTo>
                      <a:pt x="251" y="1577"/>
                    </a:lnTo>
                    <a:lnTo>
                      <a:pt x="226" y="1577"/>
                    </a:lnTo>
                    <a:lnTo>
                      <a:pt x="198" y="1578"/>
                    </a:lnTo>
                    <a:lnTo>
                      <a:pt x="169" y="1579"/>
                    </a:lnTo>
                    <a:lnTo>
                      <a:pt x="139" y="1580"/>
                    </a:lnTo>
                    <a:lnTo>
                      <a:pt x="107" y="1582"/>
                    </a:lnTo>
                    <a:lnTo>
                      <a:pt x="73" y="1584"/>
                    </a:lnTo>
                    <a:lnTo>
                      <a:pt x="37" y="1587"/>
                    </a:lnTo>
                    <a:lnTo>
                      <a:pt x="0" y="1590"/>
                    </a:lnTo>
                    <a:lnTo>
                      <a:pt x="0" y="1524"/>
                    </a:lnTo>
                    <a:lnTo>
                      <a:pt x="23" y="1519"/>
                    </a:lnTo>
                    <a:lnTo>
                      <a:pt x="45" y="1512"/>
                    </a:lnTo>
                    <a:lnTo>
                      <a:pt x="66" y="1507"/>
                    </a:lnTo>
                    <a:lnTo>
                      <a:pt x="84" y="1501"/>
                    </a:lnTo>
                    <a:lnTo>
                      <a:pt x="101" y="1494"/>
                    </a:lnTo>
                    <a:lnTo>
                      <a:pt x="114" y="1488"/>
                    </a:lnTo>
                    <a:lnTo>
                      <a:pt x="127" y="1482"/>
                    </a:lnTo>
                    <a:lnTo>
                      <a:pt x="138" y="1475"/>
                    </a:lnTo>
                    <a:lnTo>
                      <a:pt x="144" y="1469"/>
                    </a:lnTo>
                    <a:lnTo>
                      <a:pt x="151" y="1463"/>
                    </a:lnTo>
                    <a:lnTo>
                      <a:pt x="158" y="1455"/>
                    </a:lnTo>
                    <a:lnTo>
                      <a:pt x="165" y="1447"/>
                    </a:lnTo>
                    <a:lnTo>
                      <a:pt x="180" y="1428"/>
                    </a:lnTo>
                    <a:lnTo>
                      <a:pt x="195" y="1404"/>
                    </a:lnTo>
                    <a:lnTo>
                      <a:pt x="213" y="1369"/>
                    </a:lnTo>
                    <a:lnTo>
                      <a:pt x="238" y="1319"/>
                    </a:lnTo>
                    <a:lnTo>
                      <a:pt x="269" y="1255"/>
                    </a:lnTo>
                    <a:lnTo>
                      <a:pt x="306" y="1174"/>
                    </a:lnTo>
                    <a:lnTo>
                      <a:pt x="348" y="1079"/>
                    </a:lnTo>
                    <a:lnTo>
                      <a:pt x="398" y="969"/>
                    </a:lnTo>
                    <a:lnTo>
                      <a:pt x="453" y="844"/>
                    </a:lnTo>
                    <a:lnTo>
                      <a:pt x="514" y="703"/>
                    </a:lnTo>
                    <a:lnTo>
                      <a:pt x="817" y="0"/>
                    </a:lnTo>
                    <a:close/>
                    <a:moveTo>
                      <a:pt x="526" y="985"/>
                    </a:moveTo>
                    <a:lnTo>
                      <a:pt x="562" y="986"/>
                    </a:lnTo>
                    <a:lnTo>
                      <a:pt x="597" y="987"/>
                    </a:lnTo>
                    <a:lnTo>
                      <a:pt x="628" y="988"/>
                    </a:lnTo>
                    <a:lnTo>
                      <a:pt x="658" y="988"/>
                    </a:lnTo>
                    <a:lnTo>
                      <a:pt x="683" y="989"/>
                    </a:lnTo>
                    <a:lnTo>
                      <a:pt x="706" y="989"/>
                    </a:lnTo>
                    <a:lnTo>
                      <a:pt x="728" y="989"/>
                    </a:lnTo>
                    <a:lnTo>
                      <a:pt x="745" y="989"/>
                    </a:lnTo>
                    <a:lnTo>
                      <a:pt x="754" y="989"/>
                    </a:lnTo>
                    <a:lnTo>
                      <a:pt x="773" y="989"/>
                    </a:lnTo>
                    <a:lnTo>
                      <a:pt x="802" y="989"/>
                    </a:lnTo>
                    <a:lnTo>
                      <a:pt x="840" y="988"/>
                    </a:lnTo>
                    <a:lnTo>
                      <a:pt x="886" y="988"/>
                    </a:lnTo>
                    <a:lnTo>
                      <a:pt x="943" y="987"/>
                    </a:lnTo>
                    <a:lnTo>
                      <a:pt x="1008" y="986"/>
                    </a:lnTo>
                    <a:lnTo>
                      <a:pt x="1082" y="985"/>
                    </a:lnTo>
                    <a:lnTo>
                      <a:pt x="804" y="323"/>
                    </a:lnTo>
                    <a:lnTo>
                      <a:pt x="526" y="985"/>
                    </a:lnTo>
                    <a:close/>
                  </a:path>
                </a:pathLst>
              </a:custGeom>
              <a:solidFill>
                <a:srgbClr val="ffff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00"/>
                  </a:solidFill>
                  <a:latin typeface="Arial"/>
                  <a:ea typeface="宋体"/>
                </a:endParaRPr>
              </a:p>
            </p:txBody>
          </p:sp>
          <p:sp>
            <p:nvSpPr>
              <p:cNvPr id="501" name="Freeform 79"/>
              <p:cNvSpPr/>
              <p:nvPr/>
            </p:nvSpPr>
            <p:spPr>
              <a:xfrm>
                <a:off x="5479920" y="553680"/>
                <a:ext cx="239040" cy="200880"/>
              </a:xfrm>
              <a:custGeom>
                <a:avLst/>
                <a:gdLst>
                  <a:gd name="textAreaLeft" fmla="*/ 0 w 239040"/>
                  <a:gd name="textAreaRight" fmla="*/ 239400 w 239040"/>
                  <a:gd name="textAreaTop" fmla="*/ 0 h 200880"/>
                  <a:gd name="textAreaBottom" fmla="*/ 201240 h 200880"/>
                </a:gdLst>
                <a:ahLst/>
                <a:rect l="textAreaLeft" t="textAreaTop" r="textAreaRight" b="textAreaBottom"/>
                <a:pathLst>
                  <a:path w="1799" h="1596">
                    <a:moveTo>
                      <a:pt x="0" y="64"/>
                    </a:moveTo>
                    <a:lnTo>
                      <a:pt x="0" y="0"/>
                    </a:lnTo>
                    <a:lnTo>
                      <a:pt x="34" y="2"/>
                    </a:lnTo>
                    <a:lnTo>
                      <a:pt x="66" y="5"/>
                    </a:lnTo>
                    <a:lnTo>
                      <a:pt x="96" y="7"/>
                    </a:lnTo>
                    <a:lnTo>
                      <a:pt x="125" y="8"/>
                    </a:lnTo>
                    <a:lnTo>
                      <a:pt x="151" y="10"/>
                    </a:lnTo>
                    <a:lnTo>
                      <a:pt x="176" y="10"/>
                    </a:lnTo>
                    <a:lnTo>
                      <a:pt x="199" y="11"/>
                    </a:lnTo>
                    <a:lnTo>
                      <a:pt x="220" y="11"/>
                    </a:lnTo>
                    <a:lnTo>
                      <a:pt x="237" y="11"/>
                    </a:lnTo>
                    <a:lnTo>
                      <a:pt x="258" y="10"/>
                    </a:lnTo>
                    <a:lnTo>
                      <a:pt x="283" y="10"/>
                    </a:lnTo>
                    <a:lnTo>
                      <a:pt x="310" y="8"/>
                    </a:lnTo>
                    <a:lnTo>
                      <a:pt x="341" y="7"/>
                    </a:lnTo>
                    <a:lnTo>
                      <a:pt x="375" y="5"/>
                    </a:lnTo>
                    <a:lnTo>
                      <a:pt x="412" y="2"/>
                    </a:lnTo>
                    <a:lnTo>
                      <a:pt x="452" y="0"/>
                    </a:lnTo>
                    <a:lnTo>
                      <a:pt x="765" y="391"/>
                    </a:lnTo>
                    <a:lnTo>
                      <a:pt x="772" y="399"/>
                    </a:lnTo>
                    <a:lnTo>
                      <a:pt x="785" y="414"/>
                    </a:lnTo>
                    <a:lnTo>
                      <a:pt x="801" y="434"/>
                    </a:lnTo>
                    <a:lnTo>
                      <a:pt x="822" y="461"/>
                    </a:lnTo>
                    <a:lnTo>
                      <a:pt x="847" y="491"/>
                    </a:lnTo>
                    <a:lnTo>
                      <a:pt x="878" y="527"/>
                    </a:lnTo>
                    <a:lnTo>
                      <a:pt x="913" y="570"/>
                    </a:lnTo>
                    <a:lnTo>
                      <a:pt x="952" y="617"/>
                    </a:lnTo>
                    <a:lnTo>
                      <a:pt x="996" y="670"/>
                    </a:lnTo>
                    <a:lnTo>
                      <a:pt x="1043" y="729"/>
                    </a:lnTo>
                    <a:lnTo>
                      <a:pt x="1096" y="792"/>
                    </a:lnTo>
                    <a:lnTo>
                      <a:pt x="1153" y="861"/>
                    </a:lnTo>
                    <a:lnTo>
                      <a:pt x="1215" y="936"/>
                    </a:lnTo>
                    <a:lnTo>
                      <a:pt x="1282" y="1017"/>
                    </a:lnTo>
                    <a:lnTo>
                      <a:pt x="1352" y="1103"/>
                    </a:lnTo>
                    <a:lnTo>
                      <a:pt x="1428" y="1194"/>
                    </a:lnTo>
                    <a:lnTo>
                      <a:pt x="1428" y="1156"/>
                    </a:lnTo>
                    <a:lnTo>
                      <a:pt x="1428" y="1122"/>
                    </a:lnTo>
                    <a:lnTo>
                      <a:pt x="1428" y="1090"/>
                    </a:lnTo>
                    <a:lnTo>
                      <a:pt x="1429" y="1060"/>
                    </a:lnTo>
                    <a:lnTo>
                      <a:pt x="1429" y="1034"/>
                    </a:lnTo>
                    <a:lnTo>
                      <a:pt x="1429" y="1010"/>
                    </a:lnTo>
                    <a:lnTo>
                      <a:pt x="1429" y="988"/>
                    </a:lnTo>
                    <a:lnTo>
                      <a:pt x="1429" y="969"/>
                    </a:lnTo>
                    <a:lnTo>
                      <a:pt x="1429" y="925"/>
                    </a:lnTo>
                    <a:lnTo>
                      <a:pt x="1428" y="871"/>
                    </a:lnTo>
                    <a:lnTo>
                      <a:pt x="1427" y="808"/>
                    </a:lnTo>
                    <a:lnTo>
                      <a:pt x="1426" y="737"/>
                    </a:lnTo>
                    <a:lnTo>
                      <a:pt x="1424" y="659"/>
                    </a:lnTo>
                    <a:lnTo>
                      <a:pt x="1422" y="571"/>
                    </a:lnTo>
                    <a:lnTo>
                      <a:pt x="1420" y="474"/>
                    </a:lnTo>
                    <a:lnTo>
                      <a:pt x="1418" y="369"/>
                    </a:lnTo>
                    <a:lnTo>
                      <a:pt x="1417" y="322"/>
                    </a:lnTo>
                    <a:lnTo>
                      <a:pt x="1416" y="279"/>
                    </a:lnTo>
                    <a:lnTo>
                      <a:pt x="1415" y="243"/>
                    </a:lnTo>
                    <a:lnTo>
                      <a:pt x="1414" y="213"/>
                    </a:lnTo>
                    <a:lnTo>
                      <a:pt x="1413" y="187"/>
                    </a:lnTo>
                    <a:lnTo>
                      <a:pt x="1411" y="168"/>
                    </a:lnTo>
                    <a:lnTo>
                      <a:pt x="1410" y="155"/>
                    </a:lnTo>
                    <a:lnTo>
                      <a:pt x="1409" y="148"/>
                    </a:lnTo>
                    <a:lnTo>
                      <a:pt x="1404" y="140"/>
                    </a:lnTo>
                    <a:lnTo>
                      <a:pt x="1399" y="131"/>
                    </a:lnTo>
                    <a:lnTo>
                      <a:pt x="1392" y="124"/>
                    </a:lnTo>
                    <a:lnTo>
                      <a:pt x="1383" y="116"/>
                    </a:lnTo>
                    <a:lnTo>
                      <a:pt x="1376" y="113"/>
                    </a:lnTo>
                    <a:lnTo>
                      <a:pt x="1366" y="109"/>
                    </a:lnTo>
                    <a:lnTo>
                      <a:pt x="1352" y="103"/>
                    </a:lnTo>
                    <a:lnTo>
                      <a:pt x="1334" y="99"/>
                    </a:lnTo>
                    <a:lnTo>
                      <a:pt x="1289" y="89"/>
                    </a:lnTo>
                    <a:lnTo>
                      <a:pt x="1230" y="77"/>
                    </a:lnTo>
                    <a:lnTo>
                      <a:pt x="1219" y="75"/>
                    </a:lnTo>
                    <a:lnTo>
                      <a:pt x="1207" y="72"/>
                    </a:lnTo>
                    <a:lnTo>
                      <a:pt x="1194" y="69"/>
                    </a:lnTo>
                    <a:lnTo>
                      <a:pt x="1178" y="64"/>
                    </a:lnTo>
                    <a:lnTo>
                      <a:pt x="1178" y="0"/>
                    </a:lnTo>
                    <a:lnTo>
                      <a:pt x="1225" y="2"/>
                    </a:lnTo>
                    <a:lnTo>
                      <a:pt x="1271" y="5"/>
                    </a:lnTo>
                    <a:lnTo>
                      <a:pt x="1313" y="7"/>
                    </a:lnTo>
                    <a:lnTo>
                      <a:pt x="1354" y="8"/>
                    </a:lnTo>
                    <a:lnTo>
                      <a:pt x="1391" y="10"/>
                    </a:lnTo>
                    <a:lnTo>
                      <a:pt x="1427" y="10"/>
                    </a:lnTo>
                    <a:lnTo>
                      <a:pt x="1458" y="11"/>
                    </a:lnTo>
                    <a:lnTo>
                      <a:pt x="1489" y="11"/>
                    </a:lnTo>
                    <a:lnTo>
                      <a:pt x="1519" y="11"/>
                    </a:lnTo>
                    <a:lnTo>
                      <a:pt x="1551" y="10"/>
                    </a:lnTo>
                    <a:lnTo>
                      <a:pt x="1585" y="10"/>
                    </a:lnTo>
                    <a:lnTo>
                      <a:pt x="1623" y="8"/>
                    </a:lnTo>
                    <a:lnTo>
                      <a:pt x="1663" y="7"/>
                    </a:lnTo>
                    <a:lnTo>
                      <a:pt x="1706" y="5"/>
                    </a:lnTo>
                    <a:lnTo>
                      <a:pt x="1752" y="2"/>
                    </a:lnTo>
                    <a:lnTo>
                      <a:pt x="1799" y="0"/>
                    </a:lnTo>
                    <a:lnTo>
                      <a:pt x="1799" y="64"/>
                    </a:lnTo>
                    <a:lnTo>
                      <a:pt x="1786" y="69"/>
                    </a:lnTo>
                    <a:lnTo>
                      <a:pt x="1773" y="71"/>
                    </a:lnTo>
                    <a:lnTo>
                      <a:pt x="1763" y="73"/>
                    </a:lnTo>
                    <a:lnTo>
                      <a:pt x="1755" y="74"/>
                    </a:lnTo>
                    <a:lnTo>
                      <a:pt x="1721" y="81"/>
                    </a:lnTo>
                    <a:lnTo>
                      <a:pt x="1690" y="89"/>
                    </a:lnTo>
                    <a:lnTo>
                      <a:pt x="1663" y="95"/>
                    </a:lnTo>
                    <a:lnTo>
                      <a:pt x="1641" y="100"/>
                    </a:lnTo>
                    <a:lnTo>
                      <a:pt x="1623" y="105"/>
                    </a:lnTo>
                    <a:lnTo>
                      <a:pt x="1608" y="109"/>
                    </a:lnTo>
                    <a:lnTo>
                      <a:pt x="1597" y="112"/>
                    </a:lnTo>
                    <a:lnTo>
                      <a:pt x="1591" y="115"/>
                    </a:lnTo>
                    <a:lnTo>
                      <a:pt x="1585" y="118"/>
                    </a:lnTo>
                    <a:lnTo>
                      <a:pt x="1580" y="124"/>
                    </a:lnTo>
                    <a:lnTo>
                      <a:pt x="1576" y="129"/>
                    </a:lnTo>
                    <a:lnTo>
                      <a:pt x="1572" y="135"/>
                    </a:lnTo>
                    <a:lnTo>
                      <a:pt x="1569" y="140"/>
                    </a:lnTo>
                    <a:lnTo>
                      <a:pt x="1566" y="146"/>
                    </a:lnTo>
                    <a:lnTo>
                      <a:pt x="1564" y="152"/>
                    </a:lnTo>
                    <a:lnTo>
                      <a:pt x="1562" y="161"/>
                    </a:lnTo>
                    <a:lnTo>
                      <a:pt x="1559" y="179"/>
                    </a:lnTo>
                    <a:lnTo>
                      <a:pt x="1556" y="201"/>
                    </a:lnTo>
                    <a:lnTo>
                      <a:pt x="1556" y="211"/>
                    </a:lnTo>
                    <a:lnTo>
                      <a:pt x="1556" y="227"/>
                    </a:lnTo>
                    <a:lnTo>
                      <a:pt x="1555" y="253"/>
                    </a:lnTo>
                    <a:lnTo>
                      <a:pt x="1555" y="287"/>
                    </a:lnTo>
                    <a:lnTo>
                      <a:pt x="1554" y="328"/>
                    </a:lnTo>
                    <a:lnTo>
                      <a:pt x="1553" y="378"/>
                    </a:lnTo>
                    <a:lnTo>
                      <a:pt x="1552" y="435"/>
                    </a:lnTo>
                    <a:lnTo>
                      <a:pt x="1551" y="501"/>
                    </a:lnTo>
                    <a:lnTo>
                      <a:pt x="1551" y="571"/>
                    </a:lnTo>
                    <a:lnTo>
                      <a:pt x="1549" y="640"/>
                    </a:lnTo>
                    <a:lnTo>
                      <a:pt x="1548" y="709"/>
                    </a:lnTo>
                    <a:lnTo>
                      <a:pt x="1548" y="776"/>
                    </a:lnTo>
                    <a:lnTo>
                      <a:pt x="1547" y="843"/>
                    </a:lnTo>
                    <a:lnTo>
                      <a:pt x="1547" y="910"/>
                    </a:lnTo>
                    <a:lnTo>
                      <a:pt x="1547" y="976"/>
                    </a:lnTo>
                    <a:lnTo>
                      <a:pt x="1547" y="1041"/>
                    </a:lnTo>
                    <a:lnTo>
                      <a:pt x="1547" y="1117"/>
                    </a:lnTo>
                    <a:lnTo>
                      <a:pt x="1548" y="1190"/>
                    </a:lnTo>
                    <a:lnTo>
                      <a:pt x="1548" y="1259"/>
                    </a:lnTo>
                    <a:lnTo>
                      <a:pt x="1551" y="1325"/>
                    </a:lnTo>
                    <a:lnTo>
                      <a:pt x="1552" y="1389"/>
                    </a:lnTo>
                    <a:lnTo>
                      <a:pt x="1554" y="1450"/>
                    </a:lnTo>
                    <a:lnTo>
                      <a:pt x="1556" y="1508"/>
                    </a:lnTo>
                    <a:lnTo>
                      <a:pt x="1559" y="1563"/>
                    </a:lnTo>
                    <a:lnTo>
                      <a:pt x="1487" y="1596"/>
                    </a:lnTo>
                    <a:lnTo>
                      <a:pt x="1027" y="1025"/>
                    </a:lnTo>
                    <a:lnTo>
                      <a:pt x="426" y="301"/>
                    </a:lnTo>
                    <a:lnTo>
                      <a:pt x="431" y="951"/>
                    </a:lnTo>
                    <a:lnTo>
                      <a:pt x="432" y="1052"/>
                    </a:lnTo>
                    <a:lnTo>
                      <a:pt x="434" y="1140"/>
                    </a:lnTo>
                    <a:lnTo>
                      <a:pt x="435" y="1215"/>
                    </a:lnTo>
                    <a:lnTo>
                      <a:pt x="437" y="1279"/>
                    </a:lnTo>
                    <a:lnTo>
                      <a:pt x="438" y="1330"/>
                    </a:lnTo>
                    <a:lnTo>
                      <a:pt x="439" y="1368"/>
                    </a:lnTo>
                    <a:lnTo>
                      <a:pt x="442" y="1393"/>
                    </a:lnTo>
                    <a:lnTo>
                      <a:pt x="444" y="1407"/>
                    </a:lnTo>
                    <a:lnTo>
                      <a:pt x="446" y="1416"/>
                    </a:lnTo>
                    <a:lnTo>
                      <a:pt x="450" y="1426"/>
                    </a:lnTo>
                    <a:lnTo>
                      <a:pt x="456" y="1433"/>
                    </a:lnTo>
                    <a:lnTo>
                      <a:pt x="463" y="1441"/>
                    </a:lnTo>
                    <a:lnTo>
                      <a:pt x="470" y="1447"/>
                    </a:lnTo>
                    <a:lnTo>
                      <a:pt x="482" y="1452"/>
                    </a:lnTo>
                    <a:lnTo>
                      <a:pt x="498" y="1458"/>
                    </a:lnTo>
                    <a:lnTo>
                      <a:pt x="516" y="1464"/>
                    </a:lnTo>
                    <a:lnTo>
                      <a:pt x="538" y="1469"/>
                    </a:lnTo>
                    <a:lnTo>
                      <a:pt x="564" y="1476"/>
                    </a:lnTo>
                    <a:lnTo>
                      <a:pt x="594" y="1481"/>
                    </a:lnTo>
                    <a:lnTo>
                      <a:pt x="627" y="1487"/>
                    </a:lnTo>
                    <a:lnTo>
                      <a:pt x="636" y="1489"/>
                    </a:lnTo>
                    <a:lnTo>
                      <a:pt x="648" y="1491"/>
                    </a:lnTo>
                    <a:lnTo>
                      <a:pt x="661" y="1494"/>
                    </a:lnTo>
                    <a:lnTo>
                      <a:pt x="677" y="1497"/>
                    </a:lnTo>
                    <a:lnTo>
                      <a:pt x="677" y="1563"/>
                    </a:lnTo>
                    <a:lnTo>
                      <a:pt x="635" y="1560"/>
                    </a:lnTo>
                    <a:lnTo>
                      <a:pt x="595" y="1557"/>
                    </a:lnTo>
                    <a:lnTo>
                      <a:pt x="558" y="1555"/>
                    </a:lnTo>
                    <a:lnTo>
                      <a:pt x="521" y="1553"/>
                    </a:lnTo>
                    <a:lnTo>
                      <a:pt x="487" y="1552"/>
                    </a:lnTo>
                    <a:lnTo>
                      <a:pt x="453" y="1551"/>
                    </a:lnTo>
                    <a:lnTo>
                      <a:pt x="423" y="1550"/>
                    </a:lnTo>
                    <a:lnTo>
                      <a:pt x="393" y="1550"/>
                    </a:lnTo>
                    <a:lnTo>
                      <a:pt x="366" y="1550"/>
                    </a:lnTo>
                    <a:lnTo>
                      <a:pt x="335" y="1551"/>
                    </a:lnTo>
                    <a:lnTo>
                      <a:pt x="300" y="1552"/>
                    </a:lnTo>
                    <a:lnTo>
                      <a:pt x="259" y="1553"/>
                    </a:lnTo>
                    <a:lnTo>
                      <a:pt x="215" y="1555"/>
                    </a:lnTo>
                    <a:lnTo>
                      <a:pt x="166" y="1557"/>
                    </a:lnTo>
                    <a:lnTo>
                      <a:pt x="112" y="1560"/>
                    </a:lnTo>
                    <a:lnTo>
                      <a:pt x="55" y="1563"/>
                    </a:lnTo>
                    <a:lnTo>
                      <a:pt x="55" y="1497"/>
                    </a:lnTo>
                    <a:lnTo>
                      <a:pt x="73" y="1493"/>
                    </a:lnTo>
                    <a:lnTo>
                      <a:pt x="89" y="1490"/>
                    </a:lnTo>
                    <a:lnTo>
                      <a:pt x="102" y="1486"/>
                    </a:lnTo>
                    <a:lnTo>
                      <a:pt x="113" y="1484"/>
                    </a:lnTo>
                    <a:lnTo>
                      <a:pt x="144" y="1478"/>
                    </a:lnTo>
                    <a:lnTo>
                      <a:pt x="173" y="1473"/>
                    </a:lnTo>
                    <a:lnTo>
                      <a:pt x="196" y="1467"/>
                    </a:lnTo>
                    <a:lnTo>
                      <a:pt x="217" y="1462"/>
                    </a:lnTo>
                    <a:lnTo>
                      <a:pt x="235" y="1457"/>
                    </a:lnTo>
                    <a:lnTo>
                      <a:pt x="249" y="1451"/>
                    </a:lnTo>
                    <a:lnTo>
                      <a:pt x="259" y="1446"/>
                    </a:lnTo>
                    <a:lnTo>
                      <a:pt x="266" y="1441"/>
                    </a:lnTo>
                    <a:lnTo>
                      <a:pt x="272" y="1436"/>
                    </a:lnTo>
                    <a:lnTo>
                      <a:pt x="276" y="1428"/>
                    </a:lnTo>
                    <a:lnTo>
                      <a:pt x="281" y="1419"/>
                    </a:lnTo>
                    <a:lnTo>
                      <a:pt x="284" y="1407"/>
                    </a:lnTo>
                    <a:lnTo>
                      <a:pt x="286" y="1390"/>
                    </a:lnTo>
                    <a:lnTo>
                      <a:pt x="288" y="1363"/>
                    </a:lnTo>
                    <a:lnTo>
                      <a:pt x="291" y="1330"/>
                    </a:lnTo>
                    <a:lnTo>
                      <a:pt x="292" y="1286"/>
                    </a:lnTo>
                    <a:lnTo>
                      <a:pt x="294" y="1233"/>
                    </a:lnTo>
                    <a:lnTo>
                      <a:pt x="295" y="1173"/>
                    </a:lnTo>
                    <a:lnTo>
                      <a:pt x="296" y="1103"/>
                    </a:lnTo>
                    <a:lnTo>
                      <a:pt x="298" y="1024"/>
                    </a:lnTo>
                    <a:lnTo>
                      <a:pt x="300" y="912"/>
                    </a:lnTo>
                    <a:lnTo>
                      <a:pt x="301" y="812"/>
                    </a:lnTo>
                    <a:lnTo>
                      <a:pt x="302" y="724"/>
                    </a:lnTo>
                    <a:lnTo>
                      <a:pt x="302" y="649"/>
                    </a:lnTo>
                    <a:lnTo>
                      <a:pt x="303" y="586"/>
                    </a:lnTo>
                    <a:lnTo>
                      <a:pt x="303" y="534"/>
                    </a:lnTo>
                    <a:lnTo>
                      <a:pt x="304" y="493"/>
                    </a:lnTo>
                    <a:lnTo>
                      <a:pt x="304" y="466"/>
                    </a:lnTo>
                    <a:lnTo>
                      <a:pt x="304" y="401"/>
                    </a:lnTo>
                    <a:lnTo>
                      <a:pt x="303" y="344"/>
                    </a:lnTo>
                    <a:lnTo>
                      <a:pt x="303" y="293"/>
                    </a:lnTo>
                    <a:lnTo>
                      <a:pt x="302" y="252"/>
                    </a:lnTo>
                    <a:lnTo>
                      <a:pt x="301" y="217"/>
                    </a:lnTo>
                    <a:lnTo>
                      <a:pt x="299" y="190"/>
                    </a:lnTo>
                    <a:lnTo>
                      <a:pt x="298" y="170"/>
                    </a:lnTo>
                    <a:lnTo>
                      <a:pt x="295" y="160"/>
                    </a:lnTo>
                    <a:lnTo>
                      <a:pt x="294" y="154"/>
                    </a:lnTo>
                    <a:lnTo>
                      <a:pt x="292" y="149"/>
                    </a:lnTo>
                    <a:lnTo>
                      <a:pt x="289" y="144"/>
                    </a:lnTo>
                    <a:lnTo>
                      <a:pt x="286" y="138"/>
                    </a:lnTo>
                    <a:lnTo>
                      <a:pt x="283" y="134"/>
                    </a:lnTo>
                    <a:lnTo>
                      <a:pt x="277" y="130"/>
                    </a:lnTo>
                    <a:lnTo>
                      <a:pt x="273" y="126"/>
                    </a:lnTo>
                    <a:lnTo>
                      <a:pt x="267" y="123"/>
                    </a:lnTo>
                    <a:lnTo>
                      <a:pt x="258" y="118"/>
                    </a:lnTo>
                    <a:lnTo>
                      <a:pt x="245" y="114"/>
                    </a:lnTo>
                    <a:lnTo>
                      <a:pt x="227" y="109"/>
                    </a:lnTo>
                    <a:lnTo>
                      <a:pt x="203" y="103"/>
                    </a:lnTo>
                    <a:lnTo>
                      <a:pt x="175" y="97"/>
                    </a:lnTo>
                    <a:lnTo>
                      <a:pt x="141" y="91"/>
                    </a:lnTo>
                    <a:lnTo>
                      <a:pt x="103" y="84"/>
                    </a:lnTo>
                    <a:lnTo>
                      <a:pt x="59" y="77"/>
                    </a:lnTo>
                    <a:lnTo>
                      <a:pt x="48" y="75"/>
                    </a:lnTo>
                    <a:lnTo>
                      <a:pt x="34" y="72"/>
                    </a:lnTo>
                    <a:lnTo>
                      <a:pt x="18" y="69"/>
                    </a:lnTo>
                    <a:lnTo>
                      <a:pt x="0" y="64"/>
                    </a:lnTo>
                    <a:close/>
                  </a:path>
                </a:pathLst>
              </a:custGeom>
              <a:solidFill>
                <a:srgbClr val="ffff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00"/>
                  </a:solidFill>
                  <a:latin typeface="Arial"/>
                  <a:ea typeface="宋体"/>
                </a:endParaRPr>
              </a:p>
            </p:txBody>
          </p:sp>
          <p:sp>
            <p:nvSpPr>
              <p:cNvPr id="502" name="Freeform 80"/>
              <p:cNvSpPr/>
              <p:nvPr/>
            </p:nvSpPr>
            <p:spPr>
              <a:xfrm>
                <a:off x="5727600" y="550080"/>
                <a:ext cx="226800" cy="199800"/>
              </a:xfrm>
              <a:custGeom>
                <a:avLst/>
                <a:gdLst>
                  <a:gd name="textAreaLeft" fmla="*/ 0 w 226800"/>
                  <a:gd name="textAreaRight" fmla="*/ 227160 w 226800"/>
                  <a:gd name="textAreaTop" fmla="*/ 0 h 199800"/>
                  <a:gd name="textAreaBottom" fmla="*/ 200160 h 199800"/>
                </a:gdLst>
                <a:ahLst/>
                <a:rect l="textAreaLeft" t="textAreaTop" r="textAreaRight" b="textAreaBottom"/>
                <a:pathLst>
                  <a:path w="1708" h="1590">
                    <a:moveTo>
                      <a:pt x="816" y="0"/>
                    </a:moveTo>
                    <a:lnTo>
                      <a:pt x="886" y="0"/>
                    </a:lnTo>
                    <a:lnTo>
                      <a:pt x="905" y="48"/>
                    </a:lnTo>
                    <a:lnTo>
                      <a:pt x="924" y="98"/>
                    </a:lnTo>
                    <a:lnTo>
                      <a:pt x="945" y="147"/>
                    </a:lnTo>
                    <a:lnTo>
                      <a:pt x="965" y="197"/>
                    </a:lnTo>
                    <a:lnTo>
                      <a:pt x="986" y="249"/>
                    </a:lnTo>
                    <a:lnTo>
                      <a:pt x="1007" y="301"/>
                    </a:lnTo>
                    <a:lnTo>
                      <a:pt x="1029" y="354"/>
                    </a:lnTo>
                    <a:lnTo>
                      <a:pt x="1052" y="408"/>
                    </a:lnTo>
                    <a:lnTo>
                      <a:pt x="1075" y="462"/>
                    </a:lnTo>
                    <a:lnTo>
                      <a:pt x="1099" y="517"/>
                    </a:lnTo>
                    <a:lnTo>
                      <a:pt x="1123" y="573"/>
                    </a:lnTo>
                    <a:lnTo>
                      <a:pt x="1148" y="631"/>
                    </a:lnTo>
                    <a:lnTo>
                      <a:pt x="1173" y="689"/>
                    </a:lnTo>
                    <a:lnTo>
                      <a:pt x="1199" y="747"/>
                    </a:lnTo>
                    <a:lnTo>
                      <a:pt x="1225" y="807"/>
                    </a:lnTo>
                    <a:lnTo>
                      <a:pt x="1252" y="867"/>
                    </a:lnTo>
                    <a:lnTo>
                      <a:pt x="1508" y="1428"/>
                    </a:lnTo>
                    <a:lnTo>
                      <a:pt x="1518" y="1441"/>
                    </a:lnTo>
                    <a:lnTo>
                      <a:pt x="1527" y="1453"/>
                    </a:lnTo>
                    <a:lnTo>
                      <a:pt x="1537" y="1464"/>
                    </a:lnTo>
                    <a:lnTo>
                      <a:pt x="1547" y="1472"/>
                    </a:lnTo>
                    <a:lnTo>
                      <a:pt x="1553" y="1474"/>
                    </a:lnTo>
                    <a:lnTo>
                      <a:pt x="1562" y="1478"/>
                    </a:lnTo>
                    <a:lnTo>
                      <a:pt x="1576" y="1484"/>
                    </a:lnTo>
                    <a:lnTo>
                      <a:pt x="1594" y="1490"/>
                    </a:lnTo>
                    <a:lnTo>
                      <a:pt x="1616" y="1496"/>
                    </a:lnTo>
                    <a:lnTo>
                      <a:pt x="1643" y="1505"/>
                    </a:lnTo>
                    <a:lnTo>
                      <a:pt x="1673" y="1514"/>
                    </a:lnTo>
                    <a:lnTo>
                      <a:pt x="1708" y="1524"/>
                    </a:lnTo>
                    <a:lnTo>
                      <a:pt x="1708" y="1590"/>
                    </a:lnTo>
                    <a:lnTo>
                      <a:pt x="1660" y="1587"/>
                    </a:lnTo>
                    <a:lnTo>
                      <a:pt x="1615" y="1584"/>
                    </a:lnTo>
                    <a:lnTo>
                      <a:pt x="1573" y="1582"/>
                    </a:lnTo>
                    <a:lnTo>
                      <a:pt x="1535" y="1580"/>
                    </a:lnTo>
                    <a:lnTo>
                      <a:pt x="1500" y="1579"/>
                    </a:lnTo>
                    <a:lnTo>
                      <a:pt x="1468" y="1578"/>
                    </a:lnTo>
                    <a:lnTo>
                      <a:pt x="1439" y="1577"/>
                    </a:lnTo>
                    <a:lnTo>
                      <a:pt x="1414" y="1577"/>
                    </a:lnTo>
                    <a:lnTo>
                      <a:pt x="1387" y="1577"/>
                    </a:lnTo>
                    <a:lnTo>
                      <a:pt x="1357" y="1578"/>
                    </a:lnTo>
                    <a:lnTo>
                      <a:pt x="1322" y="1579"/>
                    </a:lnTo>
                    <a:lnTo>
                      <a:pt x="1282" y="1580"/>
                    </a:lnTo>
                    <a:lnTo>
                      <a:pt x="1239" y="1582"/>
                    </a:lnTo>
                    <a:lnTo>
                      <a:pt x="1191" y="1584"/>
                    </a:lnTo>
                    <a:lnTo>
                      <a:pt x="1140" y="1587"/>
                    </a:lnTo>
                    <a:lnTo>
                      <a:pt x="1083" y="1590"/>
                    </a:lnTo>
                    <a:lnTo>
                      <a:pt x="1083" y="1524"/>
                    </a:lnTo>
                    <a:lnTo>
                      <a:pt x="1143" y="1511"/>
                    </a:lnTo>
                    <a:lnTo>
                      <a:pt x="1188" y="1500"/>
                    </a:lnTo>
                    <a:lnTo>
                      <a:pt x="1206" y="1494"/>
                    </a:lnTo>
                    <a:lnTo>
                      <a:pt x="1220" y="1489"/>
                    </a:lnTo>
                    <a:lnTo>
                      <a:pt x="1231" y="1485"/>
                    </a:lnTo>
                    <a:lnTo>
                      <a:pt x="1238" y="1481"/>
                    </a:lnTo>
                    <a:lnTo>
                      <a:pt x="1243" y="1476"/>
                    </a:lnTo>
                    <a:lnTo>
                      <a:pt x="1248" y="1472"/>
                    </a:lnTo>
                    <a:lnTo>
                      <a:pt x="1252" y="1467"/>
                    </a:lnTo>
                    <a:lnTo>
                      <a:pt x="1255" y="1463"/>
                    </a:lnTo>
                    <a:lnTo>
                      <a:pt x="1257" y="1457"/>
                    </a:lnTo>
                    <a:lnTo>
                      <a:pt x="1259" y="1453"/>
                    </a:lnTo>
                    <a:lnTo>
                      <a:pt x="1260" y="1448"/>
                    </a:lnTo>
                    <a:lnTo>
                      <a:pt x="1260" y="1441"/>
                    </a:lnTo>
                    <a:lnTo>
                      <a:pt x="1260" y="1436"/>
                    </a:lnTo>
                    <a:lnTo>
                      <a:pt x="1259" y="1429"/>
                    </a:lnTo>
                    <a:lnTo>
                      <a:pt x="1257" y="1420"/>
                    </a:lnTo>
                    <a:lnTo>
                      <a:pt x="1255" y="1411"/>
                    </a:lnTo>
                    <a:lnTo>
                      <a:pt x="1248" y="1389"/>
                    </a:lnTo>
                    <a:lnTo>
                      <a:pt x="1237" y="1364"/>
                    </a:lnTo>
                    <a:lnTo>
                      <a:pt x="1127" y="1095"/>
                    </a:lnTo>
                    <a:lnTo>
                      <a:pt x="1071" y="1095"/>
                    </a:lnTo>
                    <a:lnTo>
                      <a:pt x="1018" y="1094"/>
                    </a:lnTo>
                    <a:lnTo>
                      <a:pt x="969" y="1094"/>
                    </a:lnTo>
                    <a:lnTo>
                      <a:pt x="924" y="1093"/>
                    </a:lnTo>
                    <a:lnTo>
                      <a:pt x="884" y="1093"/>
                    </a:lnTo>
                    <a:lnTo>
                      <a:pt x="847" y="1093"/>
                    </a:lnTo>
                    <a:lnTo>
                      <a:pt x="814" y="1093"/>
                    </a:lnTo>
                    <a:lnTo>
                      <a:pt x="786" y="1093"/>
                    </a:lnTo>
                    <a:lnTo>
                      <a:pt x="484" y="1095"/>
                    </a:lnTo>
                    <a:lnTo>
                      <a:pt x="368" y="1374"/>
                    </a:lnTo>
                    <a:lnTo>
                      <a:pt x="357" y="1404"/>
                    </a:lnTo>
                    <a:lnTo>
                      <a:pt x="347" y="1428"/>
                    </a:lnTo>
                    <a:lnTo>
                      <a:pt x="342" y="1446"/>
                    </a:lnTo>
                    <a:lnTo>
                      <a:pt x="340" y="1457"/>
                    </a:lnTo>
                    <a:lnTo>
                      <a:pt x="341" y="1464"/>
                    </a:lnTo>
                    <a:lnTo>
                      <a:pt x="344" y="1470"/>
                    </a:lnTo>
                    <a:lnTo>
                      <a:pt x="348" y="1476"/>
                    </a:lnTo>
                    <a:lnTo>
                      <a:pt x="354" y="1481"/>
                    </a:lnTo>
                    <a:lnTo>
                      <a:pt x="359" y="1484"/>
                    </a:lnTo>
                    <a:lnTo>
                      <a:pt x="367" y="1487"/>
                    </a:lnTo>
                    <a:lnTo>
                      <a:pt x="378" y="1490"/>
                    </a:lnTo>
                    <a:lnTo>
                      <a:pt x="393" y="1494"/>
                    </a:lnTo>
                    <a:lnTo>
                      <a:pt x="431" y="1503"/>
                    </a:lnTo>
                    <a:lnTo>
                      <a:pt x="483" y="1514"/>
                    </a:lnTo>
                    <a:lnTo>
                      <a:pt x="489" y="1517"/>
                    </a:lnTo>
                    <a:lnTo>
                      <a:pt x="497" y="1519"/>
                    </a:lnTo>
                    <a:lnTo>
                      <a:pt x="506" y="1521"/>
                    </a:lnTo>
                    <a:lnTo>
                      <a:pt x="516" y="1524"/>
                    </a:lnTo>
                    <a:lnTo>
                      <a:pt x="516" y="1590"/>
                    </a:lnTo>
                    <a:lnTo>
                      <a:pt x="471" y="1587"/>
                    </a:lnTo>
                    <a:lnTo>
                      <a:pt x="429" y="1584"/>
                    </a:lnTo>
                    <a:lnTo>
                      <a:pt x="391" y="1582"/>
                    </a:lnTo>
                    <a:lnTo>
                      <a:pt x="356" y="1580"/>
                    </a:lnTo>
                    <a:lnTo>
                      <a:pt x="324" y="1579"/>
                    </a:lnTo>
                    <a:lnTo>
                      <a:pt x="296" y="1578"/>
                    </a:lnTo>
                    <a:lnTo>
                      <a:pt x="272" y="1577"/>
                    </a:lnTo>
                    <a:lnTo>
                      <a:pt x="251" y="1577"/>
                    </a:lnTo>
                    <a:lnTo>
                      <a:pt x="225" y="1577"/>
                    </a:lnTo>
                    <a:lnTo>
                      <a:pt x="199" y="1578"/>
                    </a:lnTo>
                    <a:lnTo>
                      <a:pt x="169" y="1579"/>
                    </a:lnTo>
                    <a:lnTo>
                      <a:pt x="140" y="1580"/>
                    </a:lnTo>
                    <a:lnTo>
                      <a:pt x="107" y="1582"/>
                    </a:lnTo>
                    <a:lnTo>
                      <a:pt x="73" y="1584"/>
                    </a:lnTo>
                    <a:lnTo>
                      <a:pt x="37" y="1587"/>
                    </a:lnTo>
                    <a:lnTo>
                      <a:pt x="0" y="1590"/>
                    </a:lnTo>
                    <a:lnTo>
                      <a:pt x="0" y="1524"/>
                    </a:lnTo>
                    <a:lnTo>
                      <a:pt x="24" y="1519"/>
                    </a:lnTo>
                    <a:lnTo>
                      <a:pt x="46" y="1512"/>
                    </a:lnTo>
                    <a:lnTo>
                      <a:pt x="67" y="1507"/>
                    </a:lnTo>
                    <a:lnTo>
                      <a:pt x="85" y="1501"/>
                    </a:lnTo>
                    <a:lnTo>
                      <a:pt x="100" y="1494"/>
                    </a:lnTo>
                    <a:lnTo>
                      <a:pt x="115" y="1488"/>
                    </a:lnTo>
                    <a:lnTo>
                      <a:pt x="127" y="1482"/>
                    </a:lnTo>
                    <a:lnTo>
                      <a:pt x="138" y="1475"/>
                    </a:lnTo>
                    <a:lnTo>
                      <a:pt x="145" y="1469"/>
                    </a:lnTo>
                    <a:lnTo>
                      <a:pt x="151" y="1463"/>
                    </a:lnTo>
                    <a:lnTo>
                      <a:pt x="159" y="1455"/>
                    </a:lnTo>
                    <a:lnTo>
                      <a:pt x="166" y="1447"/>
                    </a:lnTo>
                    <a:lnTo>
                      <a:pt x="180" y="1428"/>
                    </a:lnTo>
                    <a:lnTo>
                      <a:pt x="195" y="1404"/>
                    </a:lnTo>
                    <a:lnTo>
                      <a:pt x="214" y="1369"/>
                    </a:lnTo>
                    <a:lnTo>
                      <a:pt x="238" y="1319"/>
                    </a:lnTo>
                    <a:lnTo>
                      <a:pt x="269" y="1255"/>
                    </a:lnTo>
                    <a:lnTo>
                      <a:pt x="306" y="1174"/>
                    </a:lnTo>
                    <a:lnTo>
                      <a:pt x="349" y="1079"/>
                    </a:lnTo>
                    <a:lnTo>
                      <a:pt x="398" y="969"/>
                    </a:lnTo>
                    <a:lnTo>
                      <a:pt x="453" y="844"/>
                    </a:lnTo>
                    <a:lnTo>
                      <a:pt x="515" y="703"/>
                    </a:lnTo>
                    <a:lnTo>
                      <a:pt x="816" y="0"/>
                    </a:lnTo>
                    <a:close/>
                    <a:moveTo>
                      <a:pt x="526" y="985"/>
                    </a:moveTo>
                    <a:lnTo>
                      <a:pt x="563" y="986"/>
                    </a:lnTo>
                    <a:lnTo>
                      <a:pt x="597" y="987"/>
                    </a:lnTo>
                    <a:lnTo>
                      <a:pt x="629" y="988"/>
                    </a:lnTo>
                    <a:lnTo>
                      <a:pt x="658" y="988"/>
                    </a:lnTo>
                    <a:lnTo>
                      <a:pt x="684" y="989"/>
                    </a:lnTo>
                    <a:lnTo>
                      <a:pt x="707" y="989"/>
                    </a:lnTo>
                    <a:lnTo>
                      <a:pt x="727" y="989"/>
                    </a:lnTo>
                    <a:lnTo>
                      <a:pt x="745" y="989"/>
                    </a:lnTo>
                    <a:lnTo>
                      <a:pt x="755" y="989"/>
                    </a:lnTo>
                    <a:lnTo>
                      <a:pt x="774" y="989"/>
                    </a:lnTo>
                    <a:lnTo>
                      <a:pt x="802" y="989"/>
                    </a:lnTo>
                    <a:lnTo>
                      <a:pt x="840" y="988"/>
                    </a:lnTo>
                    <a:lnTo>
                      <a:pt x="886" y="988"/>
                    </a:lnTo>
                    <a:lnTo>
                      <a:pt x="942" y="987"/>
                    </a:lnTo>
                    <a:lnTo>
                      <a:pt x="1008" y="986"/>
                    </a:lnTo>
                    <a:lnTo>
                      <a:pt x="1083" y="985"/>
                    </a:lnTo>
                    <a:lnTo>
                      <a:pt x="805" y="323"/>
                    </a:lnTo>
                    <a:lnTo>
                      <a:pt x="526" y="985"/>
                    </a:lnTo>
                    <a:close/>
                  </a:path>
                </a:pathLst>
              </a:custGeom>
              <a:solidFill>
                <a:srgbClr val="ffff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00"/>
                  </a:solidFill>
                  <a:latin typeface="Arial"/>
                  <a:ea typeface="宋体"/>
                </a:endParaRPr>
              </a:p>
            </p:txBody>
          </p:sp>
          <p:sp>
            <p:nvSpPr>
              <p:cNvPr id="503" name="Freeform 81"/>
              <p:cNvSpPr/>
              <p:nvPr/>
            </p:nvSpPr>
            <p:spPr>
              <a:xfrm>
                <a:off x="5980320" y="549360"/>
                <a:ext cx="228960" cy="205200"/>
              </a:xfrm>
              <a:custGeom>
                <a:avLst/>
                <a:gdLst>
                  <a:gd name="textAreaLeft" fmla="*/ 0 w 228960"/>
                  <a:gd name="textAreaRight" fmla="*/ 229320 w 228960"/>
                  <a:gd name="textAreaTop" fmla="*/ 0 h 205200"/>
                  <a:gd name="textAreaBottom" fmla="*/ 205560 h 205200"/>
                </a:gdLst>
                <a:ahLst/>
                <a:rect l="textAreaLeft" t="textAreaTop" r="textAreaRight" b="textAreaBottom"/>
                <a:pathLst>
                  <a:path w="1726" h="1629">
                    <a:moveTo>
                      <a:pt x="1726" y="790"/>
                    </a:moveTo>
                    <a:lnTo>
                      <a:pt x="1726" y="851"/>
                    </a:lnTo>
                    <a:lnTo>
                      <a:pt x="1558" y="891"/>
                    </a:lnTo>
                    <a:lnTo>
                      <a:pt x="1545" y="895"/>
                    </a:lnTo>
                    <a:lnTo>
                      <a:pt x="1534" y="899"/>
                    </a:lnTo>
                    <a:lnTo>
                      <a:pt x="1526" y="905"/>
                    </a:lnTo>
                    <a:lnTo>
                      <a:pt x="1519" y="911"/>
                    </a:lnTo>
                    <a:lnTo>
                      <a:pt x="1513" y="917"/>
                    </a:lnTo>
                    <a:lnTo>
                      <a:pt x="1509" y="926"/>
                    </a:lnTo>
                    <a:lnTo>
                      <a:pt x="1505" y="937"/>
                    </a:lnTo>
                    <a:lnTo>
                      <a:pt x="1503" y="948"/>
                    </a:lnTo>
                    <a:lnTo>
                      <a:pt x="1501" y="962"/>
                    </a:lnTo>
                    <a:lnTo>
                      <a:pt x="1498" y="982"/>
                    </a:lnTo>
                    <a:lnTo>
                      <a:pt x="1497" y="1005"/>
                    </a:lnTo>
                    <a:lnTo>
                      <a:pt x="1495" y="1034"/>
                    </a:lnTo>
                    <a:lnTo>
                      <a:pt x="1494" y="1068"/>
                    </a:lnTo>
                    <a:lnTo>
                      <a:pt x="1494" y="1106"/>
                    </a:lnTo>
                    <a:lnTo>
                      <a:pt x="1493" y="1149"/>
                    </a:lnTo>
                    <a:lnTo>
                      <a:pt x="1493" y="1195"/>
                    </a:lnTo>
                    <a:lnTo>
                      <a:pt x="1493" y="1227"/>
                    </a:lnTo>
                    <a:lnTo>
                      <a:pt x="1494" y="1261"/>
                    </a:lnTo>
                    <a:lnTo>
                      <a:pt x="1494" y="1297"/>
                    </a:lnTo>
                    <a:lnTo>
                      <a:pt x="1495" y="1336"/>
                    </a:lnTo>
                    <a:lnTo>
                      <a:pt x="1497" y="1377"/>
                    </a:lnTo>
                    <a:lnTo>
                      <a:pt x="1498" y="1422"/>
                    </a:lnTo>
                    <a:lnTo>
                      <a:pt x="1501" y="1469"/>
                    </a:lnTo>
                    <a:lnTo>
                      <a:pt x="1503" y="1518"/>
                    </a:lnTo>
                    <a:lnTo>
                      <a:pt x="1489" y="1520"/>
                    </a:lnTo>
                    <a:lnTo>
                      <a:pt x="1471" y="1524"/>
                    </a:lnTo>
                    <a:lnTo>
                      <a:pt x="1451" y="1528"/>
                    </a:lnTo>
                    <a:lnTo>
                      <a:pt x="1426" y="1533"/>
                    </a:lnTo>
                    <a:lnTo>
                      <a:pt x="1398" y="1540"/>
                    </a:lnTo>
                    <a:lnTo>
                      <a:pt x="1367" y="1546"/>
                    </a:lnTo>
                    <a:lnTo>
                      <a:pt x="1332" y="1553"/>
                    </a:lnTo>
                    <a:lnTo>
                      <a:pt x="1294" y="1562"/>
                    </a:lnTo>
                    <a:lnTo>
                      <a:pt x="1244" y="1573"/>
                    </a:lnTo>
                    <a:lnTo>
                      <a:pt x="1200" y="1583"/>
                    </a:lnTo>
                    <a:lnTo>
                      <a:pt x="1160" y="1591"/>
                    </a:lnTo>
                    <a:lnTo>
                      <a:pt x="1124" y="1599"/>
                    </a:lnTo>
                    <a:lnTo>
                      <a:pt x="1093" y="1604"/>
                    </a:lnTo>
                    <a:lnTo>
                      <a:pt x="1067" y="1609"/>
                    </a:lnTo>
                    <a:lnTo>
                      <a:pt x="1046" y="1613"/>
                    </a:lnTo>
                    <a:lnTo>
                      <a:pt x="1030" y="1615"/>
                    </a:lnTo>
                    <a:lnTo>
                      <a:pt x="1003" y="1618"/>
                    </a:lnTo>
                    <a:lnTo>
                      <a:pt x="976" y="1621"/>
                    </a:lnTo>
                    <a:lnTo>
                      <a:pt x="948" y="1623"/>
                    </a:lnTo>
                    <a:lnTo>
                      <a:pt x="920" y="1625"/>
                    </a:lnTo>
                    <a:lnTo>
                      <a:pt x="892" y="1626"/>
                    </a:lnTo>
                    <a:lnTo>
                      <a:pt x="862" y="1627"/>
                    </a:lnTo>
                    <a:lnTo>
                      <a:pt x="833" y="1629"/>
                    </a:lnTo>
                    <a:lnTo>
                      <a:pt x="804" y="1629"/>
                    </a:lnTo>
                    <a:lnTo>
                      <a:pt x="755" y="1627"/>
                    </a:lnTo>
                    <a:lnTo>
                      <a:pt x="709" y="1625"/>
                    </a:lnTo>
                    <a:lnTo>
                      <a:pt x="664" y="1621"/>
                    </a:lnTo>
                    <a:lnTo>
                      <a:pt x="620" y="1616"/>
                    </a:lnTo>
                    <a:lnTo>
                      <a:pt x="579" y="1608"/>
                    </a:lnTo>
                    <a:lnTo>
                      <a:pt x="538" y="1600"/>
                    </a:lnTo>
                    <a:lnTo>
                      <a:pt x="499" y="1589"/>
                    </a:lnTo>
                    <a:lnTo>
                      <a:pt x="460" y="1577"/>
                    </a:lnTo>
                    <a:lnTo>
                      <a:pt x="424" y="1563"/>
                    </a:lnTo>
                    <a:lnTo>
                      <a:pt x="389" y="1548"/>
                    </a:lnTo>
                    <a:lnTo>
                      <a:pt x="356" y="1531"/>
                    </a:lnTo>
                    <a:lnTo>
                      <a:pt x="323" y="1513"/>
                    </a:lnTo>
                    <a:lnTo>
                      <a:pt x="307" y="1504"/>
                    </a:lnTo>
                    <a:lnTo>
                      <a:pt x="292" y="1493"/>
                    </a:lnTo>
                    <a:lnTo>
                      <a:pt x="277" y="1482"/>
                    </a:lnTo>
                    <a:lnTo>
                      <a:pt x="262" y="1471"/>
                    </a:lnTo>
                    <a:lnTo>
                      <a:pt x="249" y="1460"/>
                    </a:lnTo>
                    <a:lnTo>
                      <a:pt x="234" y="1448"/>
                    </a:lnTo>
                    <a:lnTo>
                      <a:pt x="221" y="1436"/>
                    </a:lnTo>
                    <a:lnTo>
                      <a:pt x="207" y="1423"/>
                    </a:lnTo>
                    <a:lnTo>
                      <a:pt x="182" y="1396"/>
                    </a:lnTo>
                    <a:lnTo>
                      <a:pt x="159" y="1369"/>
                    </a:lnTo>
                    <a:lnTo>
                      <a:pt x="137" y="1340"/>
                    </a:lnTo>
                    <a:lnTo>
                      <a:pt x="116" y="1311"/>
                    </a:lnTo>
                    <a:lnTo>
                      <a:pt x="98" y="1280"/>
                    </a:lnTo>
                    <a:lnTo>
                      <a:pt x="81" y="1248"/>
                    </a:lnTo>
                    <a:lnTo>
                      <a:pt x="65" y="1214"/>
                    </a:lnTo>
                    <a:lnTo>
                      <a:pt x="52" y="1180"/>
                    </a:lnTo>
                    <a:lnTo>
                      <a:pt x="40" y="1144"/>
                    </a:lnTo>
                    <a:lnTo>
                      <a:pt x="29" y="1108"/>
                    </a:lnTo>
                    <a:lnTo>
                      <a:pt x="20" y="1070"/>
                    </a:lnTo>
                    <a:lnTo>
                      <a:pt x="12" y="1031"/>
                    </a:lnTo>
                    <a:lnTo>
                      <a:pt x="7" y="991"/>
                    </a:lnTo>
                    <a:lnTo>
                      <a:pt x="3" y="949"/>
                    </a:lnTo>
                    <a:lnTo>
                      <a:pt x="1" y="907"/>
                    </a:lnTo>
                    <a:lnTo>
                      <a:pt x="0" y="862"/>
                    </a:lnTo>
                    <a:lnTo>
                      <a:pt x="1" y="816"/>
                    </a:lnTo>
                    <a:lnTo>
                      <a:pt x="4" y="769"/>
                    </a:lnTo>
                    <a:lnTo>
                      <a:pt x="8" y="724"/>
                    </a:lnTo>
                    <a:lnTo>
                      <a:pt x="15" y="680"/>
                    </a:lnTo>
                    <a:lnTo>
                      <a:pt x="19" y="658"/>
                    </a:lnTo>
                    <a:lnTo>
                      <a:pt x="23" y="637"/>
                    </a:lnTo>
                    <a:lnTo>
                      <a:pt x="28" y="615"/>
                    </a:lnTo>
                    <a:lnTo>
                      <a:pt x="34" y="595"/>
                    </a:lnTo>
                    <a:lnTo>
                      <a:pt x="40" y="574"/>
                    </a:lnTo>
                    <a:lnTo>
                      <a:pt x="46" y="554"/>
                    </a:lnTo>
                    <a:lnTo>
                      <a:pt x="54" y="534"/>
                    </a:lnTo>
                    <a:lnTo>
                      <a:pt x="61" y="515"/>
                    </a:lnTo>
                    <a:lnTo>
                      <a:pt x="69" y="496"/>
                    </a:lnTo>
                    <a:lnTo>
                      <a:pt x="77" y="477"/>
                    </a:lnTo>
                    <a:lnTo>
                      <a:pt x="86" y="458"/>
                    </a:lnTo>
                    <a:lnTo>
                      <a:pt x="95" y="438"/>
                    </a:lnTo>
                    <a:lnTo>
                      <a:pt x="105" y="420"/>
                    </a:lnTo>
                    <a:lnTo>
                      <a:pt x="115" y="402"/>
                    </a:lnTo>
                    <a:lnTo>
                      <a:pt x="126" y="386"/>
                    </a:lnTo>
                    <a:lnTo>
                      <a:pt x="137" y="367"/>
                    </a:lnTo>
                    <a:lnTo>
                      <a:pt x="149" y="351"/>
                    </a:lnTo>
                    <a:lnTo>
                      <a:pt x="161" y="334"/>
                    </a:lnTo>
                    <a:lnTo>
                      <a:pt x="173" y="318"/>
                    </a:lnTo>
                    <a:lnTo>
                      <a:pt x="186" y="301"/>
                    </a:lnTo>
                    <a:lnTo>
                      <a:pt x="200" y="285"/>
                    </a:lnTo>
                    <a:lnTo>
                      <a:pt x="214" y="269"/>
                    </a:lnTo>
                    <a:lnTo>
                      <a:pt x="228" y="254"/>
                    </a:lnTo>
                    <a:lnTo>
                      <a:pt x="243" y="239"/>
                    </a:lnTo>
                    <a:lnTo>
                      <a:pt x="259" y="224"/>
                    </a:lnTo>
                    <a:lnTo>
                      <a:pt x="275" y="210"/>
                    </a:lnTo>
                    <a:lnTo>
                      <a:pt x="291" y="196"/>
                    </a:lnTo>
                    <a:lnTo>
                      <a:pt x="307" y="183"/>
                    </a:lnTo>
                    <a:lnTo>
                      <a:pt x="324" y="170"/>
                    </a:lnTo>
                    <a:lnTo>
                      <a:pt x="341" y="158"/>
                    </a:lnTo>
                    <a:lnTo>
                      <a:pt x="358" y="146"/>
                    </a:lnTo>
                    <a:lnTo>
                      <a:pt x="376" y="134"/>
                    </a:lnTo>
                    <a:lnTo>
                      <a:pt x="394" y="123"/>
                    </a:lnTo>
                    <a:lnTo>
                      <a:pt x="412" y="113"/>
                    </a:lnTo>
                    <a:lnTo>
                      <a:pt x="430" y="103"/>
                    </a:lnTo>
                    <a:lnTo>
                      <a:pt x="449" y="93"/>
                    </a:lnTo>
                    <a:lnTo>
                      <a:pt x="468" y="83"/>
                    </a:lnTo>
                    <a:lnTo>
                      <a:pt x="488" y="75"/>
                    </a:lnTo>
                    <a:lnTo>
                      <a:pt x="507" y="68"/>
                    </a:lnTo>
                    <a:lnTo>
                      <a:pt x="527" y="59"/>
                    </a:lnTo>
                    <a:lnTo>
                      <a:pt x="548" y="52"/>
                    </a:lnTo>
                    <a:lnTo>
                      <a:pt x="568" y="45"/>
                    </a:lnTo>
                    <a:lnTo>
                      <a:pt x="590" y="39"/>
                    </a:lnTo>
                    <a:lnTo>
                      <a:pt x="611" y="33"/>
                    </a:lnTo>
                    <a:lnTo>
                      <a:pt x="655" y="23"/>
                    </a:lnTo>
                    <a:lnTo>
                      <a:pt x="700" y="15"/>
                    </a:lnTo>
                    <a:lnTo>
                      <a:pt x="746" y="8"/>
                    </a:lnTo>
                    <a:lnTo>
                      <a:pt x="794" y="3"/>
                    </a:lnTo>
                    <a:lnTo>
                      <a:pt x="843" y="1"/>
                    </a:lnTo>
                    <a:lnTo>
                      <a:pt x="893" y="0"/>
                    </a:lnTo>
                    <a:lnTo>
                      <a:pt x="918" y="0"/>
                    </a:lnTo>
                    <a:lnTo>
                      <a:pt x="942" y="0"/>
                    </a:lnTo>
                    <a:lnTo>
                      <a:pt x="967" y="1"/>
                    </a:lnTo>
                    <a:lnTo>
                      <a:pt x="991" y="3"/>
                    </a:lnTo>
                    <a:lnTo>
                      <a:pt x="1015" y="4"/>
                    </a:lnTo>
                    <a:lnTo>
                      <a:pt x="1040" y="6"/>
                    </a:lnTo>
                    <a:lnTo>
                      <a:pt x="1063" y="8"/>
                    </a:lnTo>
                    <a:lnTo>
                      <a:pt x="1086" y="11"/>
                    </a:lnTo>
                    <a:lnTo>
                      <a:pt x="1097" y="12"/>
                    </a:lnTo>
                    <a:lnTo>
                      <a:pt x="1117" y="17"/>
                    </a:lnTo>
                    <a:lnTo>
                      <a:pt x="1149" y="22"/>
                    </a:lnTo>
                    <a:lnTo>
                      <a:pt x="1190" y="29"/>
                    </a:lnTo>
                    <a:lnTo>
                      <a:pt x="1243" y="39"/>
                    </a:lnTo>
                    <a:lnTo>
                      <a:pt x="1306" y="51"/>
                    </a:lnTo>
                    <a:lnTo>
                      <a:pt x="1379" y="63"/>
                    </a:lnTo>
                    <a:lnTo>
                      <a:pt x="1462" y="78"/>
                    </a:lnTo>
                    <a:lnTo>
                      <a:pt x="1462" y="108"/>
                    </a:lnTo>
                    <a:lnTo>
                      <a:pt x="1461" y="133"/>
                    </a:lnTo>
                    <a:lnTo>
                      <a:pt x="1461" y="156"/>
                    </a:lnTo>
                    <a:lnTo>
                      <a:pt x="1461" y="176"/>
                    </a:lnTo>
                    <a:lnTo>
                      <a:pt x="1461" y="213"/>
                    </a:lnTo>
                    <a:lnTo>
                      <a:pt x="1462" y="252"/>
                    </a:lnTo>
                    <a:lnTo>
                      <a:pt x="1464" y="292"/>
                    </a:lnTo>
                    <a:lnTo>
                      <a:pt x="1465" y="333"/>
                    </a:lnTo>
                    <a:lnTo>
                      <a:pt x="1467" y="375"/>
                    </a:lnTo>
                    <a:lnTo>
                      <a:pt x="1470" y="418"/>
                    </a:lnTo>
                    <a:lnTo>
                      <a:pt x="1472" y="464"/>
                    </a:lnTo>
                    <a:lnTo>
                      <a:pt x="1476" y="509"/>
                    </a:lnTo>
                    <a:lnTo>
                      <a:pt x="1394" y="509"/>
                    </a:lnTo>
                    <a:lnTo>
                      <a:pt x="1381" y="464"/>
                    </a:lnTo>
                    <a:lnTo>
                      <a:pt x="1368" y="424"/>
                    </a:lnTo>
                    <a:lnTo>
                      <a:pt x="1357" y="387"/>
                    </a:lnTo>
                    <a:lnTo>
                      <a:pt x="1344" y="354"/>
                    </a:lnTo>
                    <a:lnTo>
                      <a:pt x="1332" y="324"/>
                    </a:lnTo>
                    <a:lnTo>
                      <a:pt x="1321" y="300"/>
                    </a:lnTo>
                    <a:lnTo>
                      <a:pt x="1309" y="278"/>
                    </a:lnTo>
                    <a:lnTo>
                      <a:pt x="1298" y="262"/>
                    </a:lnTo>
                    <a:lnTo>
                      <a:pt x="1286" y="247"/>
                    </a:lnTo>
                    <a:lnTo>
                      <a:pt x="1272" y="233"/>
                    </a:lnTo>
                    <a:lnTo>
                      <a:pt x="1257" y="220"/>
                    </a:lnTo>
                    <a:lnTo>
                      <a:pt x="1240" y="207"/>
                    </a:lnTo>
                    <a:lnTo>
                      <a:pt x="1221" y="196"/>
                    </a:lnTo>
                    <a:lnTo>
                      <a:pt x="1200" y="185"/>
                    </a:lnTo>
                    <a:lnTo>
                      <a:pt x="1178" y="175"/>
                    </a:lnTo>
                    <a:lnTo>
                      <a:pt x="1153" y="165"/>
                    </a:lnTo>
                    <a:lnTo>
                      <a:pt x="1120" y="152"/>
                    </a:lnTo>
                    <a:lnTo>
                      <a:pt x="1086" y="143"/>
                    </a:lnTo>
                    <a:lnTo>
                      <a:pt x="1051" y="134"/>
                    </a:lnTo>
                    <a:lnTo>
                      <a:pt x="1015" y="127"/>
                    </a:lnTo>
                    <a:lnTo>
                      <a:pt x="979" y="122"/>
                    </a:lnTo>
                    <a:lnTo>
                      <a:pt x="942" y="117"/>
                    </a:lnTo>
                    <a:lnTo>
                      <a:pt x="905" y="115"/>
                    </a:lnTo>
                    <a:lnTo>
                      <a:pt x="867" y="114"/>
                    </a:lnTo>
                    <a:lnTo>
                      <a:pt x="825" y="115"/>
                    </a:lnTo>
                    <a:lnTo>
                      <a:pt x="785" y="118"/>
                    </a:lnTo>
                    <a:lnTo>
                      <a:pt x="764" y="121"/>
                    </a:lnTo>
                    <a:lnTo>
                      <a:pt x="745" y="123"/>
                    </a:lnTo>
                    <a:lnTo>
                      <a:pt x="726" y="126"/>
                    </a:lnTo>
                    <a:lnTo>
                      <a:pt x="707" y="130"/>
                    </a:lnTo>
                    <a:lnTo>
                      <a:pt x="688" y="134"/>
                    </a:lnTo>
                    <a:lnTo>
                      <a:pt x="670" y="140"/>
                    </a:lnTo>
                    <a:lnTo>
                      <a:pt x="652" y="145"/>
                    </a:lnTo>
                    <a:lnTo>
                      <a:pt x="635" y="150"/>
                    </a:lnTo>
                    <a:lnTo>
                      <a:pt x="618" y="157"/>
                    </a:lnTo>
                    <a:lnTo>
                      <a:pt x="601" y="163"/>
                    </a:lnTo>
                    <a:lnTo>
                      <a:pt x="584" y="170"/>
                    </a:lnTo>
                    <a:lnTo>
                      <a:pt x="568" y="179"/>
                    </a:lnTo>
                    <a:lnTo>
                      <a:pt x="553" y="186"/>
                    </a:lnTo>
                    <a:lnTo>
                      <a:pt x="537" y="196"/>
                    </a:lnTo>
                    <a:lnTo>
                      <a:pt x="522" y="204"/>
                    </a:lnTo>
                    <a:lnTo>
                      <a:pt x="507" y="215"/>
                    </a:lnTo>
                    <a:lnTo>
                      <a:pt x="492" y="224"/>
                    </a:lnTo>
                    <a:lnTo>
                      <a:pt x="478" y="236"/>
                    </a:lnTo>
                    <a:lnTo>
                      <a:pt x="464" y="247"/>
                    </a:lnTo>
                    <a:lnTo>
                      <a:pt x="451" y="258"/>
                    </a:lnTo>
                    <a:lnTo>
                      <a:pt x="437" y="271"/>
                    </a:lnTo>
                    <a:lnTo>
                      <a:pt x="424" y="284"/>
                    </a:lnTo>
                    <a:lnTo>
                      <a:pt x="412" y="298"/>
                    </a:lnTo>
                    <a:lnTo>
                      <a:pt x="400" y="311"/>
                    </a:lnTo>
                    <a:lnTo>
                      <a:pt x="387" y="325"/>
                    </a:lnTo>
                    <a:lnTo>
                      <a:pt x="377" y="340"/>
                    </a:lnTo>
                    <a:lnTo>
                      <a:pt x="365" y="356"/>
                    </a:lnTo>
                    <a:lnTo>
                      <a:pt x="355" y="372"/>
                    </a:lnTo>
                    <a:lnTo>
                      <a:pt x="340" y="395"/>
                    </a:lnTo>
                    <a:lnTo>
                      <a:pt x="326" y="418"/>
                    </a:lnTo>
                    <a:lnTo>
                      <a:pt x="313" y="443"/>
                    </a:lnTo>
                    <a:lnTo>
                      <a:pt x="302" y="468"/>
                    </a:lnTo>
                    <a:lnTo>
                      <a:pt x="291" y="494"/>
                    </a:lnTo>
                    <a:lnTo>
                      <a:pt x="281" y="520"/>
                    </a:lnTo>
                    <a:lnTo>
                      <a:pt x="272" y="547"/>
                    </a:lnTo>
                    <a:lnTo>
                      <a:pt x="265" y="574"/>
                    </a:lnTo>
                    <a:lnTo>
                      <a:pt x="257" y="603"/>
                    </a:lnTo>
                    <a:lnTo>
                      <a:pt x="251" y="631"/>
                    </a:lnTo>
                    <a:lnTo>
                      <a:pt x="245" y="661"/>
                    </a:lnTo>
                    <a:lnTo>
                      <a:pt x="241" y="692"/>
                    </a:lnTo>
                    <a:lnTo>
                      <a:pt x="238" y="723"/>
                    </a:lnTo>
                    <a:lnTo>
                      <a:pt x="236" y="754"/>
                    </a:lnTo>
                    <a:lnTo>
                      <a:pt x="235" y="786"/>
                    </a:lnTo>
                    <a:lnTo>
                      <a:pt x="234" y="819"/>
                    </a:lnTo>
                    <a:lnTo>
                      <a:pt x="235" y="860"/>
                    </a:lnTo>
                    <a:lnTo>
                      <a:pt x="237" y="902"/>
                    </a:lnTo>
                    <a:lnTo>
                      <a:pt x="241" y="941"/>
                    </a:lnTo>
                    <a:lnTo>
                      <a:pt x="246" y="978"/>
                    </a:lnTo>
                    <a:lnTo>
                      <a:pt x="253" y="1015"/>
                    </a:lnTo>
                    <a:lnTo>
                      <a:pt x="261" y="1050"/>
                    </a:lnTo>
                    <a:lnTo>
                      <a:pt x="271" y="1084"/>
                    </a:lnTo>
                    <a:lnTo>
                      <a:pt x="281" y="1117"/>
                    </a:lnTo>
                    <a:lnTo>
                      <a:pt x="294" y="1149"/>
                    </a:lnTo>
                    <a:lnTo>
                      <a:pt x="308" y="1178"/>
                    </a:lnTo>
                    <a:lnTo>
                      <a:pt x="324" y="1208"/>
                    </a:lnTo>
                    <a:lnTo>
                      <a:pt x="341" y="1235"/>
                    </a:lnTo>
                    <a:lnTo>
                      <a:pt x="360" y="1262"/>
                    </a:lnTo>
                    <a:lnTo>
                      <a:pt x="380" y="1287"/>
                    </a:lnTo>
                    <a:lnTo>
                      <a:pt x="401" y="1311"/>
                    </a:lnTo>
                    <a:lnTo>
                      <a:pt x="424" y="1333"/>
                    </a:lnTo>
                    <a:lnTo>
                      <a:pt x="448" y="1354"/>
                    </a:lnTo>
                    <a:lnTo>
                      <a:pt x="473" y="1374"/>
                    </a:lnTo>
                    <a:lnTo>
                      <a:pt x="499" y="1393"/>
                    </a:lnTo>
                    <a:lnTo>
                      <a:pt x="525" y="1410"/>
                    </a:lnTo>
                    <a:lnTo>
                      <a:pt x="553" y="1426"/>
                    </a:lnTo>
                    <a:lnTo>
                      <a:pt x="580" y="1440"/>
                    </a:lnTo>
                    <a:lnTo>
                      <a:pt x="609" y="1453"/>
                    </a:lnTo>
                    <a:lnTo>
                      <a:pt x="638" y="1464"/>
                    </a:lnTo>
                    <a:lnTo>
                      <a:pt x="669" y="1475"/>
                    </a:lnTo>
                    <a:lnTo>
                      <a:pt x="700" y="1483"/>
                    </a:lnTo>
                    <a:lnTo>
                      <a:pt x="733" y="1492"/>
                    </a:lnTo>
                    <a:lnTo>
                      <a:pt x="764" y="1497"/>
                    </a:lnTo>
                    <a:lnTo>
                      <a:pt x="798" y="1502"/>
                    </a:lnTo>
                    <a:lnTo>
                      <a:pt x="832" y="1506"/>
                    </a:lnTo>
                    <a:lnTo>
                      <a:pt x="867" y="1508"/>
                    </a:lnTo>
                    <a:lnTo>
                      <a:pt x="903" y="1509"/>
                    </a:lnTo>
                    <a:lnTo>
                      <a:pt x="926" y="1508"/>
                    </a:lnTo>
                    <a:lnTo>
                      <a:pt x="950" y="1507"/>
                    </a:lnTo>
                    <a:lnTo>
                      <a:pt x="973" y="1506"/>
                    </a:lnTo>
                    <a:lnTo>
                      <a:pt x="996" y="1504"/>
                    </a:lnTo>
                    <a:lnTo>
                      <a:pt x="1020" y="1500"/>
                    </a:lnTo>
                    <a:lnTo>
                      <a:pt x="1043" y="1497"/>
                    </a:lnTo>
                    <a:lnTo>
                      <a:pt x="1067" y="1494"/>
                    </a:lnTo>
                    <a:lnTo>
                      <a:pt x="1091" y="1489"/>
                    </a:lnTo>
                    <a:lnTo>
                      <a:pt x="1115" y="1484"/>
                    </a:lnTo>
                    <a:lnTo>
                      <a:pt x="1139" y="1478"/>
                    </a:lnTo>
                    <a:lnTo>
                      <a:pt x="1164" y="1472"/>
                    </a:lnTo>
                    <a:lnTo>
                      <a:pt x="1188" y="1465"/>
                    </a:lnTo>
                    <a:lnTo>
                      <a:pt x="1238" y="1449"/>
                    </a:lnTo>
                    <a:lnTo>
                      <a:pt x="1288" y="1431"/>
                    </a:lnTo>
                    <a:lnTo>
                      <a:pt x="1289" y="1400"/>
                    </a:lnTo>
                    <a:lnTo>
                      <a:pt x="1290" y="1365"/>
                    </a:lnTo>
                    <a:lnTo>
                      <a:pt x="1290" y="1327"/>
                    </a:lnTo>
                    <a:lnTo>
                      <a:pt x="1291" y="1284"/>
                    </a:lnTo>
                    <a:lnTo>
                      <a:pt x="1291" y="1239"/>
                    </a:lnTo>
                    <a:lnTo>
                      <a:pt x="1292" y="1190"/>
                    </a:lnTo>
                    <a:lnTo>
                      <a:pt x="1292" y="1138"/>
                    </a:lnTo>
                    <a:lnTo>
                      <a:pt x="1292" y="1082"/>
                    </a:lnTo>
                    <a:lnTo>
                      <a:pt x="1292" y="1027"/>
                    </a:lnTo>
                    <a:lnTo>
                      <a:pt x="1291" y="983"/>
                    </a:lnTo>
                    <a:lnTo>
                      <a:pt x="1289" y="952"/>
                    </a:lnTo>
                    <a:lnTo>
                      <a:pt x="1286" y="936"/>
                    </a:lnTo>
                    <a:lnTo>
                      <a:pt x="1281" y="925"/>
                    </a:lnTo>
                    <a:lnTo>
                      <a:pt x="1276" y="916"/>
                    </a:lnTo>
                    <a:lnTo>
                      <a:pt x="1268" y="908"/>
                    </a:lnTo>
                    <a:lnTo>
                      <a:pt x="1259" y="902"/>
                    </a:lnTo>
                    <a:lnTo>
                      <a:pt x="1251" y="897"/>
                    </a:lnTo>
                    <a:lnTo>
                      <a:pt x="1240" y="893"/>
                    </a:lnTo>
                    <a:lnTo>
                      <a:pt x="1226" y="889"/>
                    </a:lnTo>
                    <a:lnTo>
                      <a:pt x="1209" y="884"/>
                    </a:lnTo>
                    <a:lnTo>
                      <a:pt x="1166" y="873"/>
                    </a:lnTo>
                    <a:lnTo>
                      <a:pt x="1110" y="860"/>
                    </a:lnTo>
                    <a:lnTo>
                      <a:pt x="1066" y="851"/>
                    </a:lnTo>
                    <a:lnTo>
                      <a:pt x="1066" y="790"/>
                    </a:lnTo>
                    <a:lnTo>
                      <a:pt x="1443" y="798"/>
                    </a:lnTo>
                    <a:lnTo>
                      <a:pt x="1474" y="798"/>
                    </a:lnTo>
                    <a:lnTo>
                      <a:pt x="1507" y="798"/>
                    </a:lnTo>
                    <a:lnTo>
                      <a:pt x="1541" y="797"/>
                    </a:lnTo>
                    <a:lnTo>
                      <a:pt x="1576" y="796"/>
                    </a:lnTo>
                    <a:lnTo>
                      <a:pt x="1612" y="795"/>
                    </a:lnTo>
                    <a:lnTo>
                      <a:pt x="1649" y="794"/>
                    </a:lnTo>
                    <a:lnTo>
                      <a:pt x="1687" y="792"/>
                    </a:lnTo>
                    <a:lnTo>
                      <a:pt x="1726" y="790"/>
                    </a:lnTo>
                    <a:close/>
                  </a:path>
                </a:pathLst>
              </a:custGeom>
              <a:solidFill>
                <a:srgbClr val="ffff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00"/>
                  </a:solidFill>
                  <a:latin typeface="Arial"/>
                  <a:ea typeface="宋体"/>
                </a:endParaRPr>
              </a:p>
            </p:txBody>
          </p:sp>
          <p:sp>
            <p:nvSpPr>
              <p:cNvPr id="504" name="Freeform 82"/>
              <p:cNvSpPr/>
              <p:nvPr/>
            </p:nvSpPr>
            <p:spPr>
              <a:xfrm>
                <a:off x="6234480" y="553680"/>
                <a:ext cx="183240" cy="196200"/>
              </a:xfrm>
              <a:custGeom>
                <a:avLst/>
                <a:gdLst>
                  <a:gd name="textAreaLeft" fmla="*/ 0 w 183240"/>
                  <a:gd name="textAreaRight" fmla="*/ 183600 w 183240"/>
                  <a:gd name="textAreaTop" fmla="*/ 0 h 196200"/>
                  <a:gd name="textAreaBottom" fmla="*/ 196560 h 196200"/>
                </a:gdLst>
                <a:ahLst/>
                <a:rect l="textAreaLeft" t="textAreaTop" r="textAreaRight" b="textAreaBottom"/>
                <a:pathLst>
                  <a:path w="1380" h="1563">
                    <a:moveTo>
                      <a:pt x="458" y="688"/>
                    </a:moveTo>
                    <a:lnTo>
                      <a:pt x="724" y="688"/>
                    </a:lnTo>
                    <a:lnTo>
                      <a:pt x="761" y="688"/>
                    </a:lnTo>
                    <a:lnTo>
                      <a:pt x="793" y="688"/>
                    </a:lnTo>
                    <a:lnTo>
                      <a:pt x="822" y="687"/>
                    </a:lnTo>
                    <a:lnTo>
                      <a:pt x="847" y="687"/>
                    </a:lnTo>
                    <a:lnTo>
                      <a:pt x="867" y="685"/>
                    </a:lnTo>
                    <a:lnTo>
                      <a:pt x="884" y="684"/>
                    </a:lnTo>
                    <a:lnTo>
                      <a:pt x="897" y="683"/>
                    </a:lnTo>
                    <a:lnTo>
                      <a:pt x="906" y="681"/>
                    </a:lnTo>
                    <a:lnTo>
                      <a:pt x="913" y="678"/>
                    </a:lnTo>
                    <a:lnTo>
                      <a:pt x="919" y="676"/>
                    </a:lnTo>
                    <a:lnTo>
                      <a:pt x="926" y="673"/>
                    </a:lnTo>
                    <a:lnTo>
                      <a:pt x="931" y="668"/>
                    </a:lnTo>
                    <a:lnTo>
                      <a:pt x="936" y="664"/>
                    </a:lnTo>
                    <a:lnTo>
                      <a:pt x="941" y="659"/>
                    </a:lnTo>
                    <a:lnTo>
                      <a:pt x="947" y="653"/>
                    </a:lnTo>
                    <a:lnTo>
                      <a:pt x="951" y="647"/>
                    </a:lnTo>
                    <a:lnTo>
                      <a:pt x="955" y="640"/>
                    </a:lnTo>
                    <a:lnTo>
                      <a:pt x="959" y="628"/>
                    </a:lnTo>
                    <a:lnTo>
                      <a:pt x="965" y="614"/>
                    </a:lnTo>
                    <a:lnTo>
                      <a:pt x="970" y="598"/>
                    </a:lnTo>
                    <a:lnTo>
                      <a:pt x="981" y="555"/>
                    </a:lnTo>
                    <a:lnTo>
                      <a:pt x="993" y="501"/>
                    </a:lnTo>
                    <a:lnTo>
                      <a:pt x="995" y="493"/>
                    </a:lnTo>
                    <a:lnTo>
                      <a:pt x="998" y="485"/>
                    </a:lnTo>
                    <a:lnTo>
                      <a:pt x="1000" y="474"/>
                    </a:lnTo>
                    <a:lnTo>
                      <a:pt x="1003" y="463"/>
                    </a:lnTo>
                    <a:lnTo>
                      <a:pt x="1076" y="463"/>
                    </a:lnTo>
                    <a:lnTo>
                      <a:pt x="1073" y="507"/>
                    </a:lnTo>
                    <a:lnTo>
                      <a:pt x="1071" y="549"/>
                    </a:lnTo>
                    <a:lnTo>
                      <a:pt x="1068" y="588"/>
                    </a:lnTo>
                    <a:lnTo>
                      <a:pt x="1066" y="624"/>
                    </a:lnTo>
                    <a:lnTo>
                      <a:pt x="1065" y="658"/>
                    </a:lnTo>
                    <a:lnTo>
                      <a:pt x="1064" y="688"/>
                    </a:lnTo>
                    <a:lnTo>
                      <a:pt x="1063" y="717"/>
                    </a:lnTo>
                    <a:lnTo>
                      <a:pt x="1063" y="744"/>
                    </a:lnTo>
                    <a:lnTo>
                      <a:pt x="1063" y="769"/>
                    </a:lnTo>
                    <a:lnTo>
                      <a:pt x="1064" y="799"/>
                    </a:lnTo>
                    <a:lnTo>
                      <a:pt x="1065" y="829"/>
                    </a:lnTo>
                    <a:lnTo>
                      <a:pt x="1066" y="863"/>
                    </a:lnTo>
                    <a:lnTo>
                      <a:pt x="1068" y="898"/>
                    </a:lnTo>
                    <a:lnTo>
                      <a:pt x="1071" y="937"/>
                    </a:lnTo>
                    <a:lnTo>
                      <a:pt x="1073" y="978"/>
                    </a:lnTo>
                    <a:lnTo>
                      <a:pt x="1076" y="1020"/>
                    </a:lnTo>
                    <a:lnTo>
                      <a:pt x="1003" y="1020"/>
                    </a:lnTo>
                    <a:lnTo>
                      <a:pt x="995" y="983"/>
                    </a:lnTo>
                    <a:lnTo>
                      <a:pt x="988" y="949"/>
                    </a:lnTo>
                    <a:lnTo>
                      <a:pt x="983" y="921"/>
                    </a:lnTo>
                    <a:lnTo>
                      <a:pt x="977" y="896"/>
                    </a:lnTo>
                    <a:lnTo>
                      <a:pt x="972" y="876"/>
                    </a:lnTo>
                    <a:lnTo>
                      <a:pt x="969" y="860"/>
                    </a:lnTo>
                    <a:lnTo>
                      <a:pt x="966" y="848"/>
                    </a:lnTo>
                    <a:lnTo>
                      <a:pt x="964" y="842"/>
                    </a:lnTo>
                    <a:lnTo>
                      <a:pt x="960" y="836"/>
                    </a:lnTo>
                    <a:lnTo>
                      <a:pt x="957" y="829"/>
                    </a:lnTo>
                    <a:lnTo>
                      <a:pt x="953" y="824"/>
                    </a:lnTo>
                    <a:lnTo>
                      <a:pt x="948" y="819"/>
                    </a:lnTo>
                    <a:lnTo>
                      <a:pt x="944" y="815"/>
                    </a:lnTo>
                    <a:lnTo>
                      <a:pt x="937" y="810"/>
                    </a:lnTo>
                    <a:lnTo>
                      <a:pt x="932" y="807"/>
                    </a:lnTo>
                    <a:lnTo>
                      <a:pt x="924" y="804"/>
                    </a:lnTo>
                    <a:lnTo>
                      <a:pt x="916" y="802"/>
                    </a:lnTo>
                    <a:lnTo>
                      <a:pt x="904" y="799"/>
                    </a:lnTo>
                    <a:lnTo>
                      <a:pt x="888" y="797"/>
                    </a:lnTo>
                    <a:lnTo>
                      <a:pt x="870" y="795"/>
                    </a:lnTo>
                    <a:lnTo>
                      <a:pt x="848" y="794"/>
                    </a:lnTo>
                    <a:lnTo>
                      <a:pt x="823" y="793"/>
                    </a:lnTo>
                    <a:lnTo>
                      <a:pt x="793" y="792"/>
                    </a:lnTo>
                    <a:lnTo>
                      <a:pt x="761" y="792"/>
                    </a:lnTo>
                    <a:lnTo>
                      <a:pt x="459" y="792"/>
                    </a:lnTo>
                    <a:lnTo>
                      <a:pt x="465" y="1440"/>
                    </a:lnTo>
                    <a:lnTo>
                      <a:pt x="926" y="1440"/>
                    </a:lnTo>
                    <a:lnTo>
                      <a:pt x="967" y="1439"/>
                    </a:lnTo>
                    <a:lnTo>
                      <a:pt x="1009" y="1439"/>
                    </a:lnTo>
                    <a:lnTo>
                      <a:pt x="1044" y="1437"/>
                    </a:lnTo>
                    <a:lnTo>
                      <a:pt x="1070" y="1434"/>
                    </a:lnTo>
                    <a:lnTo>
                      <a:pt x="1085" y="1431"/>
                    </a:lnTo>
                    <a:lnTo>
                      <a:pt x="1096" y="1427"/>
                    </a:lnTo>
                    <a:lnTo>
                      <a:pt x="1106" y="1423"/>
                    </a:lnTo>
                    <a:lnTo>
                      <a:pt x="1115" y="1418"/>
                    </a:lnTo>
                    <a:lnTo>
                      <a:pt x="1125" y="1412"/>
                    </a:lnTo>
                    <a:lnTo>
                      <a:pt x="1134" y="1406"/>
                    </a:lnTo>
                    <a:lnTo>
                      <a:pt x="1143" y="1398"/>
                    </a:lnTo>
                    <a:lnTo>
                      <a:pt x="1151" y="1391"/>
                    </a:lnTo>
                    <a:lnTo>
                      <a:pt x="1160" y="1384"/>
                    </a:lnTo>
                    <a:lnTo>
                      <a:pt x="1168" y="1373"/>
                    </a:lnTo>
                    <a:lnTo>
                      <a:pt x="1179" y="1359"/>
                    </a:lnTo>
                    <a:lnTo>
                      <a:pt x="1191" y="1341"/>
                    </a:lnTo>
                    <a:lnTo>
                      <a:pt x="1205" y="1319"/>
                    </a:lnTo>
                    <a:lnTo>
                      <a:pt x="1220" y="1294"/>
                    </a:lnTo>
                    <a:lnTo>
                      <a:pt x="1238" y="1264"/>
                    </a:lnTo>
                    <a:lnTo>
                      <a:pt x="1257" y="1231"/>
                    </a:lnTo>
                    <a:lnTo>
                      <a:pt x="1277" y="1194"/>
                    </a:lnTo>
                    <a:lnTo>
                      <a:pt x="1282" y="1184"/>
                    </a:lnTo>
                    <a:lnTo>
                      <a:pt x="1288" y="1174"/>
                    </a:lnTo>
                    <a:lnTo>
                      <a:pt x="1295" y="1162"/>
                    </a:lnTo>
                    <a:lnTo>
                      <a:pt x="1304" y="1148"/>
                    </a:lnTo>
                    <a:lnTo>
                      <a:pt x="1380" y="1148"/>
                    </a:lnTo>
                    <a:lnTo>
                      <a:pt x="1375" y="1162"/>
                    </a:lnTo>
                    <a:lnTo>
                      <a:pt x="1366" y="1188"/>
                    </a:lnTo>
                    <a:lnTo>
                      <a:pt x="1354" y="1223"/>
                    </a:lnTo>
                    <a:lnTo>
                      <a:pt x="1339" y="1269"/>
                    </a:lnTo>
                    <a:lnTo>
                      <a:pt x="1321" y="1326"/>
                    </a:lnTo>
                    <a:lnTo>
                      <a:pt x="1298" y="1394"/>
                    </a:lnTo>
                    <a:lnTo>
                      <a:pt x="1272" y="1473"/>
                    </a:lnTo>
                    <a:lnTo>
                      <a:pt x="1243" y="1563"/>
                    </a:lnTo>
                    <a:lnTo>
                      <a:pt x="1144" y="1560"/>
                    </a:lnTo>
                    <a:lnTo>
                      <a:pt x="1047" y="1557"/>
                    </a:lnTo>
                    <a:lnTo>
                      <a:pt x="952" y="1555"/>
                    </a:lnTo>
                    <a:lnTo>
                      <a:pt x="860" y="1553"/>
                    </a:lnTo>
                    <a:lnTo>
                      <a:pt x="769" y="1552"/>
                    </a:lnTo>
                    <a:lnTo>
                      <a:pt x="681" y="1551"/>
                    </a:lnTo>
                    <a:lnTo>
                      <a:pt x="595" y="1550"/>
                    </a:lnTo>
                    <a:lnTo>
                      <a:pt x="511" y="1550"/>
                    </a:lnTo>
                    <a:lnTo>
                      <a:pt x="452" y="1550"/>
                    </a:lnTo>
                    <a:lnTo>
                      <a:pt x="393" y="1551"/>
                    </a:lnTo>
                    <a:lnTo>
                      <a:pt x="330" y="1552"/>
                    </a:lnTo>
                    <a:lnTo>
                      <a:pt x="268" y="1553"/>
                    </a:lnTo>
                    <a:lnTo>
                      <a:pt x="203" y="1555"/>
                    </a:lnTo>
                    <a:lnTo>
                      <a:pt x="136" y="1557"/>
                    </a:lnTo>
                    <a:lnTo>
                      <a:pt x="70" y="1560"/>
                    </a:lnTo>
                    <a:lnTo>
                      <a:pt x="0" y="1563"/>
                    </a:lnTo>
                    <a:lnTo>
                      <a:pt x="0" y="1497"/>
                    </a:lnTo>
                    <a:lnTo>
                      <a:pt x="179" y="1459"/>
                    </a:lnTo>
                    <a:lnTo>
                      <a:pt x="198" y="1452"/>
                    </a:lnTo>
                    <a:lnTo>
                      <a:pt x="213" y="1446"/>
                    </a:lnTo>
                    <a:lnTo>
                      <a:pt x="219" y="1444"/>
                    </a:lnTo>
                    <a:lnTo>
                      <a:pt x="224" y="1441"/>
                    </a:lnTo>
                    <a:lnTo>
                      <a:pt x="229" y="1438"/>
                    </a:lnTo>
                    <a:lnTo>
                      <a:pt x="231" y="1434"/>
                    </a:lnTo>
                    <a:lnTo>
                      <a:pt x="235" y="1428"/>
                    </a:lnTo>
                    <a:lnTo>
                      <a:pt x="238" y="1421"/>
                    </a:lnTo>
                    <a:lnTo>
                      <a:pt x="241" y="1412"/>
                    </a:lnTo>
                    <a:lnTo>
                      <a:pt x="243" y="1403"/>
                    </a:lnTo>
                    <a:lnTo>
                      <a:pt x="246" y="1391"/>
                    </a:lnTo>
                    <a:lnTo>
                      <a:pt x="247" y="1377"/>
                    </a:lnTo>
                    <a:lnTo>
                      <a:pt x="248" y="1363"/>
                    </a:lnTo>
                    <a:lnTo>
                      <a:pt x="248" y="1348"/>
                    </a:lnTo>
                    <a:lnTo>
                      <a:pt x="248" y="1327"/>
                    </a:lnTo>
                    <a:lnTo>
                      <a:pt x="253" y="1069"/>
                    </a:lnTo>
                    <a:lnTo>
                      <a:pt x="254" y="1048"/>
                    </a:lnTo>
                    <a:lnTo>
                      <a:pt x="254" y="1022"/>
                    </a:lnTo>
                    <a:lnTo>
                      <a:pt x="254" y="993"/>
                    </a:lnTo>
                    <a:lnTo>
                      <a:pt x="254" y="958"/>
                    </a:lnTo>
                    <a:lnTo>
                      <a:pt x="254" y="918"/>
                    </a:lnTo>
                    <a:lnTo>
                      <a:pt x="254" y="875"/>
                    </a:lnTo>
                    <a:lnTo>
                      <a:pt x="254" y="827"/>
                    </a:lnTo>
                    <a:lnTo>
                      <a:pt x="254" y="774"/>
                    </a:lnTo>
                    <a:lnTo>
                      <a:pt x="254" y="698"/>
                    </a:lnTo>
                    <a:lnTo>
                      <a:pt x="254" y="626"/>
                    </a:lnTo>
                    <a:lnTo>
                      <a:pt x="254" y="560"/>
                    </a:lnTo>
                    <a:lnTo>
                      <a:pt x="254" y="499"/>
                    </a:lnTo>
                    <a:lnTo>
                      <a:pt x="254" y="444"/>
                    </a:lnTo>
                    <a:lnTo>
                      <a:pt x="253" y="393"/>
                    </a:lnTo>
                    <a:lnTo>
                      <a:pt x="253" y="348"/>
                    </a:lnTo>
                    <a:lnTo>
                      <a:pt x="252" y="308"/>
                    </a:lnTo>
                    <a:lnTo>
                      <a:pt x="252" y="273"/>
                    </a:lnTo>
                    <a:lnTo>
                      <a:pt x="251" y="242"/>
                    </a:lnTo>
                    <a:lnTo>
                      <a:pt x="250" y="216"/>
                    </a:lnTo>
                    <a:lnTo>
                      <a:pt x="249" y="192"/>
                    </a:lnTo>
                    <a:lnTo>
                      <a:pt x="247" y="173"/>
                    </a:lnTo>
                    <a:lnTo>
                      <a:pt x="246" y="159"/>
                    </a:lnTo>
                    <a:lnTo>
                      <a:pt x="243" y="147"/>
                    </a:lnTo>
                    <a:lnTo>
                      <a:pt x="241" y="141"/>
                    </a:lnTo>
                    <a:lnTo>
                      <a:pt x="237" y="134"/>
                    </a:lnTo>
                    <a:lnTo>
                      <a:pt x="233" y="129"/>
                    </a:lnTo>
                    <a:lnTo>
                      <a:pt x="228" y="124"/>
                    </a:lnTo>
                    <a:lnTo>
                      <a:pt x="221" y="119"/>
                    </a:lnTo>
                    <a:lnTo>
                      <a:pt x="209" y="114"/>
                    </a:lnTo>
                    <a:lnTo>
                      <a:pt x="188" y="108"/>
                    </a:lnTo>
                    <a:lnTo>
                      <a:pt x="159" y="100"/>
                    </a:lnTo>
                    <a:lnTo>
                      <a:pt x="119" y="91"/>
                    </a:lnTo>
                    <a:lnTo>
                      <a:pt x="0" y="64"/>
                    </a:lnTo>
                    <a:lnTo>
                      <a:pt x="0" y="0"/>
                    </a:lnTo>
                    <a:lnTo>
                      <a:pt x="53" y="2"/>
                    </a:lnTo>
                    <a:lnTo>
                      <a:pt x="109" y="5"/>
                    </a:lnTo>
                    <a:lnTo>
                      <a:pt x="167" y="7"/>
                    </a:lnTo>
                    <a:lnTo>
                      <a:pt x="228" y="8"/>
                    </a:lnTo>
                    <a:lnTo>
                      <a:pt x="290" y="10"/>
                    </a:lnTo>
                    <a:lnTo>
                      <a:pt x="356" y="10"/>
                    </a:lnTo>
                    <a:lnTo>
                      <a:pt x="423" y="11"/>
                    </a:lnTo>
                    <a:lnTo>
                      <a:pt x="494" y="11"/>
                    </a:lnTo>
                    <a:lnTo>
                      <a:pt x="516" y="11"/>
                    </a:lnTo>
                    <a:lnTo>
                      <a:pt x="541" y="11"/>
                    </a:lnTo>
                    <a:lnTo>
                      <a:pt x="569" y="11"/>
                    </a:lnTo>
                    <a:lnTo>
                      <a:pt x="600" y="10"/>
                    </a:lnTo>
                    <a:lnTo>
                      <a:pt x="635" y="10"/>
                    </a:lnTo>
                    <a:lnTo>
                      <a:pt x="673" y="10"/>
                    </a:lnTo>
                    <a:lnTo>
                      <a:pt x="715" y="9"/>
                    </a:lnTo>
                    <a:lnTo>
                      <a:pt x="760" y="8"/>
                    </a:lnTo>
                    <a:lnTo>
                      <a:pt x="809" y="8"/>
                    </a:lnTo>
                    <a:lnTo>
                      <a:pt x="861" y="7"/>
                    </a:lnTo>
                    <a:lnTo>
                      <a:pt x="916" y="6"/>
                    </a:lnTo>
                    <a:lnTo>
                      <a:pt x="974" y="5"/>
                    </a:lnTo>
                    <a:lnTo>
                      <a:pt x="1037" y="4"/>
                    </a:lnTo>
                    <a:lnTo>
                      <a:pt x="1102" y="2"/>
                    </a:lnTo>
                    <a:lnTo>
                      <a:pt x="1171" y="1"/>
                    </a:lnTo>
                    <a:lnTo>
                      <a:pt x="1243" y="0"/>
                    </a:lnTo>
                    <a:lnTo>
                      <a:pt x="1244" y="47"/>
                    </a:lnTo>
                    <a:lnTo>
                      <a:pt x="1245" y="95"/>
                    </a:lnTo>
                    <a:lnTo>
                      <a:pt x="1248" y="142"/>
                    </a:lnTo>
                    <a:lnTo>
                      <a:pt x="1251" y="189"/>
                    </a:lnTo>
                    <a:lnTo>
                      <a:pt x="1254" y="236"/>
                    </a:lnTo>
                    <a:lnTo>
                      <a:pt x="1259" y="283"/>
                    </a:lnTo>
                    <a:lnTo>
                      <a:pt x="1263" y="329"/>
                    </a:lnTo>
                    <a:lnTo>
                      <a:pt x="1270" y="376"/>
                    </a:lnTo>
                    <a:lnTo>
                      <a:pt x="1192" y="376"/>
                    </a:lnTo>
                    <a:lnTo>
                      <a:pt x="1182" y="340"/>
                    </a:lnTo>
                    <a:lnTo>
                      <a:pt x="1171" y="308"/>
                    </a:lnTo>
                    <a:lnTo>
                      <a:pt x="1162" y="278"/>
                    </a:lnTo>
                    <a:lnTo>
                      <a:pt x="1152" y="252"/>
                    </a:lnTo>
                    <a:lnTo>
                      <a:pt x="1144" y="229"/>
                    </a:lnTo>
                    <a:lnTo>
                      <a:pt x="1135" y="208"/>
                    </a:lnTo>
                    <a:lnTo>
                      <a:pt x="1128" y="190"/>
                    </a:lnTo>
                    <a:lnTo>
                      <a:pt x="1121" y="177"/>
                    </a:lnTo>
                    <a:lnTo>
                      <a:pt x="1116" y="169"/>
                    </a:lnTo>
                    <a:lnTo>
                      <a:pt x="1111" y="161"/>
                    </a:lnTo>
                    <a:lnTo>
                      <a:pt x="1106" y="154"/>
                    </a:lnTo>
                    <a:lnTo>
                      <a:pt x="1100" y="148"/>
                    </a:lnTo>
                    <a:lnTo>
                      <a:pt x="1094" y="143"/>
                    </a:lnTo>
                    <a:lnTo>
                      <a:pt x="1088" y="138"/>
                    </a:lnTo>
                    <a:lnTo>
                      <a:pt x="1081" y="135"/>
                    </a:lnTo>
                    <a:lnTo>
                      <a:pt x="1075" y="132"/>
                    </a:lnTo>
                    <a:lnTo>
                      <a:pt x="1064" y="128"/>
                    </a:lnTo>
                    <a:lnTo>
                      <a:pt x="1050" y="126"/>
                    </a:lnTo>
                    <a:lnTo>
                      <a:pt x="1035" y="123"/>
                    </a:lnTo>
                    <a:lnTo>
                      <a:pt x="1017" y="120"/>
                    </a:lnTo>
                    <a:lnTo>
                      <a:pt x="994" y="119"/>
                    </a:lnTo>
                    <a:lnTo>
                      <a:pt x="971" y="118"/>
                    </a:lnTo>
                    <a:lnTo>
                      <a:pt x="944" y="117"/>
                    </a:lnTo>
                    <a:lnTo>
                      <a:pt x="914" y="117"/>
                    </a:lnTo>
                    <a:lnTo>
                      <a:pt x="469" y="117"/>
                    </a:lnTo>
                    <a:lnTo>
                      <a:pt x="462" y="472"/>
                    </a:lnTo>
                    <a:lnTo>
                      <a:pt x="458" y="688"/>
                    </a:lnTo>
                    <a:close/>
                  </a:path>
                </a:pathLst>
              </a:custGeom>
              <a:solidFill>
                <a:srgbClr val="ffff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00"/>
                  </a:solidFill>
                  <a:latin typeface="Arial"/>
                  <a:ea typeface="宋体"/>
                </a:endParaRPr>
              </a:p>
            </p:txBody>
          </p:sp>
          <p:sp>
            <p:nvSpPr>
              <p:cNvPr id="505" name="Freeform 83"/>
              <p:cNvSpPr/>
              <p:nvPr/>
            </p:nvSpPr>
            <p:spPr>
              <a:xfrm>
                <a:off x="6449760" y="553680"/>
                <a:ext cx="213120" cy="196200"/>
              </a:xfrm>
              <a:custGeom>
                <a:avLst/>
                <a:gdLst>
                  <a:gd name="textAreaLeft" fmla="*/ 0 w 213120"/>
                  <a:gd name="textAreaRight" fmla="*/ 213480 w 213120"/>
                  <a:gd name="textAreaTop" fmla="*/ 0 h 196200"/>
                  <a:gd name="textAreaBottom" fmla="*/ 196560 h 196200"/>
                </a:gdLst>
                <a:ahLst/>
                <a:rect l="textAreaLeft" t="textAreaTop" r="textAreaRight" b="textAreaBottom"/>
                <a:pathLst>
                  <a:path w="1601" h="1563">
                    <a:moveTo>
                      <a:pt x="0" y="64"/>
                    </a:moveTo>
                    <a:lnTo>
                      <a:pt x="0" y="0"/>
                    </a:lnTo>
                    <a:lnTo>
                      <a:pt x="71" y="2"/>
                    </a:lnTo>
                    <a:lnTo>
                      <a:pt x="139" y="5"/>
                    </a:lnTo>
                    <a:lnTo>
                      <a:pt x="202" y="7"/>
                    </a:lnTo>
                    <a:lnTo>
                      <a:pt x="263" y="8"/>
                    </a:lnTo>
                    <a:lnTo>
                      <a:pt x="320" y="10"/>
                    </a:lnTo>
                    <a:lnTo>
                      <a:pt x="373" y="10"/>
                    </a:lnTo>
                    <a:lnTo>
                      <a:pt x="423" y="11"/>
                    </a:lnTo>
                    <a:lnTo>
                      <a:pt x="468" y="11"/>
                    </a:lnTo>
                    <a:lnTo>
                      <a:pt x="494" y="11"/>
                    </a:lnTo>
                    <a:lnTo>
                      <a:pt x="518" y="11"/>
                    </a:lnTo>
                    <a:lnTo>
                      <a:pt x="542" y="11"/>
                    </a:lnTo>
                    <a:lnTo>
                      <a:pt x="566" y="11"/>
                    </a:lnTo>
                    <a:lnTo>
                      <a:pt x="590" y="10"/>
                    </a:lnTo>
                    <a:lnTo>
                      <a:pt x="612" y="10"/>
                    </a:lnTo>
                    <a:lnTo>
                      <a:pt x="636" y="10"/>
                    </a:lnTo>
                    <a:lnTo>
                      <a:pt x="658" y="9"/>
                    </a:lnTo>
                    <a:lnTo>
                      <a:pt x="685" y="8"/>
                    </a:lnTo>
                    <a:lnTo>
                      <a:pt x="712" y="7"/>
                    </a:lnTo>
                    <a:lnTo>
                      <a:pt x="735" y="7"/>
                    </a:lnTo>
                    <a:lnTo>
                      <a:pt x="756" y="6"/>
                    </a:lnTo>
                    <a:lnTo>
                      <a:pt x="775" y="6"/>
                    </a:lnTo>
                    <a:lnTo>
                      <a:pt x="792" y="5"/>
                    </a:lnTo>
                    <a:lnTo>
                      <a:pt x="807" y="5"/>
                    </a:lnTo>
                    <a:lnTo>
                      <a:pt x="820" y="5"/>
                    </a:lnTo>
                    <a:lnTo>
                      <a:pt x="845" y="6"/>
                    </a:lnTo>
                    <a:lnTo>
                      <a:pt x="872" y="7"/>
                    </a:lnTo>
                    <a:lnTo>
                      <a:pt x="896" y="8"/>
                    </a:lnTo>
                    <a:lnTo>
                      <a:pt x="921" y="11"/>
                    </a:lnTo>
                    <a:lnTo>
                      <a:pt x="943" y="14"/>
                    </a:lnTo>
                    <a:lnTo>
                      <a:pt x="966" y="20"/>
                    </a:lnTo>
                    <a:lnTo>
                      <a:pt x="987" y="24"/>
                    </a:lnTo>
                    <a:lnTo>
                      <a:pt x="1007" y="30"/>
                    </a:lnTo>
                    <a:lnTo>
                      <a:pt x="1028" y="37"/>
                    </a:lnTo>
                    <a:lnTo>
                      <a:pt x="1047" y="44"/>
                    </a:lnTo>
                    <a:lnTo>
                      <a:pt x="1065" y="53"/>
                    </a:lnTo>
                    <a:lnTo>
                      <a:pt x="1082" y="62"/>
                    </a:lnTo>
                    <a:lnTo>
                      <a:pt x="1099" y="72"/>
                    </a:lnTo>
                    <a:lnTo>
                      <a:pt x="1114" y="82"/>
                    </a:lnTo>
                    <a:lnTo>
                      <a:pt x="1129" y="94"/>
                    </a:lnTo>
                    <a:lnTo>
                      <a:pt x="1143" y="107"/>
                    </a:lnTo>
                    <a:lnTo>
                      <a:pt x="1156" y="119"/>
                    </a:lnTo>
                    <a:lnTo>
                      <a:pt x="1168" y="133"/>
                    </a:lnTo>
                    <a:lnTo>
                      <a:pt x="1180" y="147"/>
                    </a:lnTo>
                    <a:lnTo>
                      <a:pt x="1191" y="162"/>
                    </a:lnTo>
                    <a:lnTo>
                      <a:pt x="1200" y="178"/>
                    </a:lnTo>
                    <a:lnTo>
                      <a:pt x="1209" y="194"/>
                    </a:lnTo>
                    <a:lnTo>
                      <a:pt x="1217" y="209"/>
                    </a:lnTo>
                    <a:lnTo>
                      <a:pt x="1224" y="226"/>
                    </a:lnTo>
                    <a:lnTo>
                      <a:pt x="1230" y="244"/>
                    </a:lnTo>
                    <a:lnTo>
                      <a:pt x="1236" y="262"/>
                    </a:lnTo>
                    <a:lnTo>
                      <a:pt x="1240" y="282"/>
                    </a:lnTo>
                    <a:lnTo>
                      <a:pt x="1244" y="301"/>
                    </a:lnTo>
                    <a:lnTo>
                      <a:pt x="1247" y="320"/>
                    </a:lnTo>
                    <a:lnTo>
                      <a:pt x="1249" y="341"/>
                    </a:lnTo>
                    <a:lnTo>
                      <a:pt x="1250" y="361"/>
                    </a:lnTo>
                    <a:lnTo>
                      <a:pt x="1251" y="383"/>
                    </a:lnTo>
                    <a:lnTo>
                      <a:pt x="1250" y="412"/>
                    </a:lnTo>
                    <a:lnTo>
                      <a:pt x="1248" y="439"/>
                    </a:lnTo>
                    <a:lnTo>
                      <a:pt x="1244" y="467"/>
                    </a:lnTo>
                    <a:lnTo>
                      <a:pt x="1238" y="492"/>
                    </a:lnTo>
                    <a:lnTo>
                      <a:pt x="1232" y="518"/>
                    </a:lnTo>
                    <a:lnTo>
                      <a:pt x="1224" y="543"/>
                    </a:lnTo>
                    <a:lnTo>
                      <a:pt x="1214" y="567"/>
                    </a:lnTo>
                    <a:lnTo>
                      <a:pt x="1202" y="589"/>
                    </a:lnTo>
                    <a:lnTo>
                      <a:pt x="1189" y="611"/>
                    </a:lnTo>
                    <a:lnTo>
                      <a:pt x="1175" y="632"/>
                    </a:lnTo>
                    <a:lnTo>
                      <a:pt x="1159" y="652"/>
                    </a:lnTo>
                    <a:lnTo>
                      <a:pt x="1142" y="671"/>
                    </a:lnTo>
                    <a:lnTo>
                      <a:pt x="1124" y="691"/>
                    </a:lnTo>
                    <a:lnTo>
                      <a:pt x="1104" y="709"/>
                    </a:lnTo>
                    <a:lnTo>
                      <a:pt x="1083" y="724"/>
                    </a:lnTo>
                    <a:lnTo>
                      <a:pt x="1060" y="740"/>
                    </a:lnTo>
                    <a:lnTo>
                      <a:pt x="1042" y="752"/>
                    </a:lnTo>
                    <a:lnTo>
                      <a:pt x="1023" y="763"/>
                    </a:lnTo>
                    <a:lnTo>
                      <a:pt x="1002" y="772"/>
                    </a:lnTo>
                    <a:lnTo>
                      <a:pt x="979" y="783"/>
                    </a:lnTo>
                    <a:lnTo>
                      <a:pt x="954" y="792"/>
                    </a:lnTo>
                    <a:lnTo>
                      <a:pt x="928" y="801"/>
                    </a:lnTo>
                    <a:lnTo>
                      <a:pt x="899" y="810"/>
                    </a:lnTo>
                    <a:lnTo>
                      <a:pt x="869" y="819"/>
                    </a:lnTo>
                    <a:lnTo>
                      <a:pt x="1235" y="1297"/>
                    </a:lnTo>
                    <a:lnTo>
                      <a:pt x="1266" y="1337"/>
                    </a:lnTo>
                    <a:lnTo>
                      <a:pt x="1291" y="1368"/>
                    </a:lnTo>
                    <a:lnTo>
                      <a:pt x="1309" y="1389"/>
                    </a:lnTo>
                    <a:lnTo>
                      <a:pt x="1321" y="1402"/>
                    </a:lnTo>
                    <a:lnTo>
                      <a:pt x="1336" y="1412"/>
                    </a:lnTo>
                    <a:lnTo>
                      <a:pt x="1353" y="1423"/>
                    </a:lnTo>
                    <a:lnTo>
                      <a:pt x="1372" y="1432"/>
                    </a:lnTo>
                    <a:lnTo>
                      <a:pt x="1393" y="1441"/>
                    </a:lnTo>
                    <a:lnTo>
                      <a:pt x="1410" y="1447"/>
                    </a:lnTo>
                    <a:lnTo>
                      <a:pt x="1429" y="1454"/>
                    </a:lnTo>
                    <a:lnTo>
                      <a:pt x="1451" y="1461"/>
                    </a:lnTo>
                    <a:lnTo>
                      <a:pt x="1476" y="1467"/>
                    </a:lnTo>
                    <a:lnTo>
                      <a:pt x="1503" y="1475"/>
                    </a:lnTo>
                    <a:lnTo>
                      <a:pt x="1533" y="1482"/>
                    </a:lnTo>
                    <a:lnTo>
                      <a:pt x="1566" y="1490"/>
                    </a:lnTo>
                    <a:lnTo>
                      <a:pt x="1601" y="1497"/>
                    </a:lnTo>
                    <a:lnTo>
                      <a:pt x="1601" y="1563"/>
                    </a:lnTo>
                    <a:lnTo>
                      <a:pt x="1559" y="1560"/>
                    </a:lnTo>
                    <a:lnTo>
                      <a:pt x="1520" y="1557"/>
                    </a:lnTo>
                    <a:lnTo>
                      <a:pt x="1484" y="1555"/>
                    </a:lnTo>
                    <a:lnTo>
                      <a:pt x="1451" y="1553"/>
                    </a:lnTo>
                    <a:lnTo>
                      <a:pt x="1421" y="1552"/>
                    </a:lnTo>
                    <a:lnTo>
                      <a:pt x="1393" y="1551"/>
                    </a:lnTo>
                    <a:lnTo>
                      <a:pt x="1369" y="1550"/>
                    </a:lnTo>
                    <a:lnTo>
                      <a:pt x="1347" y="1550"/>
                    </a:lnTo>
                    <a:lnTo>
                      <a:pt x="1325" y="1550"/>
                    </a:lnTo>
                    <a:lnTo>
                      <a:pt x="1302" y="1551"/>
                    </a:lnTo>
                    <a:lnTo>
                      <a:pt x="1279" y="1552"/>
                    </a:lnTo>
                    <a:lnTo>
                      <a:pt x="1255" y="1553"/>
                    </a:lnTo>
                    <a:lnTo>
                      <a:pt x="1232" y="1555"/>
                    </a:lnTo>
                    <a:lnTo>
                      <a:pt x="1209" y="1557"/>
                    </a:lnTo>
                    <a:lnTo>
                      <a:pt x="1184" y="1560"/>
                    </a:lnTo>
                    <a:lnTo>
                      <a:pt x="1161" y="1563"/>
                    </a:lnTo>
                    <a:lnTo>
                      <a:pt x="1147" y="1542"/>
                    </a:lnTo>
                    <a:lnTo>
                      <a:pt x="1133" y="1518"/>
                    </a:lnTo>
                    <a:lnTo>
                      <a:pt x="1119" y="1495"/>
                    </a:lnTo>
                    <a:lnTo>
                      <a:pt x="1103" y="1469"/>
                    </a:lnTo>
                    <a:lnTo>
                      <a:pt x="1085" y="1443"/>
                    </a:lnTo>
                    <a:lnTo>
                      <a:pt x="1067" y="1414"/>
                    </a:lnTo>
                    <a:lnTo>
                      <a:pt x="1047" y="1386"/>
                    </a:lnTo>
                    <a:lnTo>
                      <a:pt x="1027" y="1355"/>
                    </a:lnTo>
                    <a:lnTo>
                      <a:pt x="988" y="1299"/>
                    </a:lnTo>
                    <a:lnTo>
                      <a:pt x="958" y="1255"/>
                    </a:lnTo>
                    <a:lnTo>
                      <a:pt x="936" y="1225"/>
                    </a:lnTo>
                    <a:lnTo>
                      <a:pt x="923" y="1207"/>
                    </a:lnTo>
                    <a:lnTo>
                      <a:pt x="912" y="1193"/>
                    </a:lnTo>
                    <a:lnTo>
                      <a:pt x="903" y="1179"/>
                    </a:lnTo>
                    <a:lnTo>
                      <a:pt x="660" y="846"/>
                    </a:lnTo>
                    <a:lnTo>
                      <a:pt x="636" y="845"/>
                    </a:lnTo>
                    <a:lnTo>
                      <a:pt x="610" y="844"/>
                    </a:lnTo>
                    <a:lnTo>
                      <a:pt x="586" y="843"/>
                    </a:lnTo>
                    <a:lnTo>
                      <a:pt x="562" y="842"/>
                    </a:lnTo>
                    <a:lnTo>
                      <a:pt x="536" y="840"/>
                    </a:lnTo>
                    <a:lnTo>
                      <a:pt x="512" y="838"/>
                    </a:lnTo>
                    <a:lnTo>
                      <a:pt x="486" y="835"/>
                    </a:lnTo>
                    <a:lnTo>
                      <a:pt x="462" y="833"/>
                    </a:lnTo>
                    <a:lnTo>
                      <a:pt x="470" y="1387"/>
                    </a:lnTo>
                    <a:lnTo>
                      <a:pt x="471" y="1395"/>
                    </a:lnTo>
                    <a:lnTo>
                      <a:pt x="473" y="1403"/>
                    </a:lnTo>
                    <a:lnTo>
                      <a:pt x="475" y="1410"/>
                    </a:lnTo>
                    <a:lnTo>
                      <a:pt x="477" y="1416"/>
                    </a:lnTo>
                    <a:lnTo>
                      <a:pt x="479" y="1422"/>
                    </a:lnTo>
                    <a:lnTo>
                      <a:pt x="482" y="1427"/>
                    </a:lnTo>
                    <a:lnTo>
                      <a:pt x="486" y="1432"/>
                    </a:lnTo>
                    <a:lnTo>
                      <a:pt x="491" y="1437"/>
                    </a:lnTo>
                    <a:lnTo>
                      <a:pt x="499" y="1442"/>
                    </a:lnTo>
                    <a:lnTo>
                      <a:pt x="511" y="1448"/>
                    </a:lnTo>
                    <a:lnTo>
                      <a:pt x="526" y="1454"/>
                    </a:lnTo>
                    <a:lnTo>
                      <a:pt x="545" y="1460"/>
                    </a:lnTo>
                    <a:lnTo>
                      <a:pt x="567" y="1465"/>
                    </a:lnTo>
                    <a:lnTo>
                      <a:pt x="593" y="1472"/>
                    </a:lnTo>
                    <a:lnTo>
                      <a:pt x="622" y="1478"/>
                    </a:lnTo>
                    <a:lnTo>
                      <a:pt x="656" y="1484"/>
                    </a:lnTo>
                    <a:lnTo>
                      <a:pt x="666" y="1486"/>
                    </a:lnTo>
                    <a:lnTo>
                      <a:pt x="680" y="1490"/>
                    </a:lnTo>
                    <a:lnTo>
                      <a:pt x="697" y="1493"/>
                    </a:lnTo>
                    <a:lnTo>
                      <a:pt x="716" y="1497"/>
                    </a:lnTo>
                    <a:lnTo>
                      <a:pt x="716" y="1563"/>
                    </a:lnTo>
                    <a:lnTo>
                      <a:pt x="667" y="1560"/>
                    </a:lnTo>
                    <a:lnTo>
                      <a:pt x="620" y="1557"/>
                    </a:lnTo>
                    <a:lnTo>
                      <a:pt x="573" y="1555"/>
                    </a:lnTo>
                    <a:lnTo>
                      <a:pt x="529" y="1553"/>
                    </a:lnTo>
                    <a:lnTo>
                      <a:pt x="485" y="1552"/>
                    </a:lnTo>
                    <a:lnTo>
                      <a:pt x="444" y="1551"/>
                    </a:lnTo>
                    <a:lnTo>
                      <a:pt x="404" y="1550"/>
                    </a:lnTo>
                    <a:lnTo>
                      <a:pt x="365" y="1550"/>
                    </a:lnTo>
                    <a:lnTo>
                      <a:pt x="323" y="1550"/>
                    </a:lnTo>
                    <a:lnTo>
                      <a:pt x="281" y="1551"/>
                    </a:lnTo>
                    <a:lnTo>
                      <a:pt x="237" y="1552"/>
                    </a:lnTo>
                    <a:lnTo>
                      <a:pt x="192" y="1553"/>
                    </a:lnTo>
                    <a:lnTo>
                      <a:pt x="146" y="1555"/>
                    </a:lnTo>
                    <a:lnTo>
                      <a:pt x="99" y="1557"/>
                    </a:lnTo>
                    <a:lnTo>
                      <a:pt x="50" y="1560"/>
                    </a:lnTo>
                    <a:lnTo>
                      <a:pt x="0" y="1563"/>
                    </a:lnTo>
                    <a:lnTo>
                      <a:pt x="0" y="1497"/>
                    </a:lnTo>
                    <a:lnTo>
                      <a:pt x="48" y="1487"/>
                    </a:lnTo>
                    <a:lnTo>
                      <a:pt x="85" y="1480"/>
                    </a:lnTo>
                    <a:lnTo>
                      <a:pt x="118" y="1474"/>
                    </a:lnTo>
                    <a:lnTo>
                      <a:pt x="146" y="1466"/>
                    </a:lnTo>
                    <a:lnTo>
                      <a:pt x="171" y="1460"/>
                    </a:lnTo>
                    <a:lnTo>
                      <a:pt x="192" y="1455"/>
                    </a:lnTo>
                    <a:lnTo>
                      <a:pt x="208" y="1448"/>
                    </a:lnTo>
                    <a:lnTo>
                      <a:pt x="219" y="1444"/>
                    </a:lnTo>
                    <a:lnTo>
                      <a:pt x="227" y="1439"/>
                    </a:lnTo>
                    <a:lnTo>
                      <a:pt x="232" y="1433"/>
                    </a:lnTo>
                    <a:lnTo>
                      <a:pt x="236" y="1427"/>
                    </a:lnTo>
                    <a:lnTo>
                      <a:pt x="240" y="1420"/>
                    </a:lnTo>
                    <a:lnTo>
                      <a:pt x="244" y="1411"/>
                    </a:lnTo>
                    <a:lnTo>
                      <a:pt x="246" y="1403"/>
                    </a:lnTo>
                    <a:lnTo>
                      <a:pt x="248" y="1392"/>
                    </a:lnTo>
                    <a:lnTo>
                      <a:pt x="250" y="1381"/>
                    </a:lnTo>
                    <a:lnTo>
                      <a:pt x="251" y="1370"/>
                    </a:lnTo>
                    <a:lnTo>
                      <a:pt x="252" y="1354"/>
                    </a:lnTo>
                    <a:lnTo>
                      <a:pt x="252" y="1322"/>
                    </a:lnTo>
                    <a:lnTo>
                      <a:pt x="253" y="1276"/>
                    </a:lnTo>
                    <a:lnTo>
                      <a:pt x="254" y="1212"/>
                    </a:lnTo>
                    <a:lnTo>
                      <a:pt x="254" y="1134"/>
                    </a:lnTo>
                    <a:lnTo>
                      <a:pt x="255" y="1039"/>
                    </a:lnTo>
                    <a:lnTo>
                      <a:pt x="256" y="929"/>
                    </a:lnTo>
                    <a:lnTo>
                      <a:pt x="256" y="804"/>
                    </a:lnTo>
                    <a:lnTo>
                      <a:pt x="252" y="286"/>
                    </a:lnTo>
                    <a:lnTo>
                      <a:pt x="251" y="233"/>
                    </a:lnTo>
                    <a:lnTo>
                      <a:pt x="250" y="192"/>
                    </a:lnTo>
                    <a:lnTo>
                      <a:pt x="249" y="164"/>
                    </a:lnTo>
                    <a:lnTo>
                      <a:pt x="247" y="149"/>
                    </a:lnTo>
                    <a:lnTo>
                      <a:pt x="243" y="141"/>
                    </a:lnTo>
                    <a:lnTo>
                      <a:pt x="238" y="134"/>
                    </a:lnTo>
                    <a:lnTo>
                      <a:pt x="232" y="128"/>
                    </a:lnTo>
                    <a:lnTo>
                      <a:pt x="225" y="123"/>
                    </a:lnTo>
                    <a:lnTo>
                      <a:pt x="211" y="116"/>
                    </a:lnTo>
                    <a:lnTo>
                      <a:pt x="194" y="109"/>
                    </a:lnTo>
                    <a:lnTo>
                      <a:pt x="176" y="102"/>
                    </a:lnTo>
                    <a:lnTo>
                      <a:pt x="156" y="96"/>
                    </a:lnTo>
                    <a:lnTo>
                      <a:pt x="133" y="91"/>
                    </a:lnTo>
                    <a:lnTo>
                      <a:pt x="109" y="85"/>
                    </a:lnTo>
                    <a:lnTo>
                      <a:pt x="83" y="80"/>
                    </a:lnTo>
                    <a:lnTo>
                      <a:pt x="54" y="75"/>
                    </a:lnTo>
                    <a:lnTo>
                      <a:pt x="45" y="74"/>
                    </a:lnTo>
                    <a:lnTo>
                      <a:pt x="32" y="71"/>
                    </a:lnTo>
                    <a:lnTo>
                      <a:pt x="17" y="69"/>
                    </a:lnTo>
                    <a:lnTo>
                      <a:pt x="0" y="64"/>
                    </a:lnTo>
                    <a:close/>
                    <a:moveTo>
                      <a:pt x="462" y="738"/>
                    </a:moveTo>
                    <a:lnTo>
                      <a:pt x="490" y="741"/>
                    </a:lnTo>
                    <a:lnTo>
                      <a:pt x="516" y="744"/>
                    </a:lnTo>
                    <a:lnTo>
                      <a:pt x="540" y="746"/>
                    </a:lnTo>
                    <a:lnTo>
                      <a:pt x="564" y="748"/>
                    </a:lnTo>
                    <a:lnTo>
                      <a:pt x="585" y="749"/>
                    </a:lnTo>
                    <a:lnTo>
                      <a:pt x="604" y="750"/>
                    </a:lnTo>
                    <a:lnTo>
                      <a:pt x="622" y="750"/>
                    </a:lnTo>
                    <a:lnTo>
                      <a:pt x="639" y="751"/>
                    </a:lnTo>
                    <a:lnTo>
                      <a:pt x="663" y="750"/>
                    </a:lnTo>
                    <a:lnTo>
                      <a:pt x="688" y="749"/>
                    </a:lnTo>
                    <a:lnTo>
                      <a:pt x="710" y="748"/>
                    </a:lnTo>
                    <a:lnTo>
                      <a:pt x="732" y="745"/>
                    </a:lnTo>
                    <a:lnTo>
                      <a:pt x="754" y="741"/>
                    </a:lnTo>
                    <a:lnTo>
                      <a:pt x="774" y="738"/>
                    </a:lnTo>
                    <a:lnTo>
                      <a:pt x="795" y="734"/>
                    </a:lnTo>
                    <a:lnTo>
                      <a:pt x="814" y="729"/>
                    </a:lnTo>
                    <a:lnTo>
                      <a:pt x="832" y="722"/>
                    </a:lnTo>
                    <a:lnTo>
                      <a:pt x="849" y="716"/>
                    </a:lnTo>
                    <a:lnTo>
                      <a:pt x="866" y="709"/>
                    </a:lnTo>
                    <a:lnTo>
                      <a:pt x="881" y="700"/>
                    </a:lnTo>
                    <a:lnTo>
                      <a:pt x="896" y="692"/>
                    </a:lnTo>
                    <a:lnTo>
                      <a:pt x="910" y="682"/>
                    </a:lnTo>
                    <a:lnTo>
                      <a:pt x="923" y="673"/>
                    </a:lnTo>
                    <a:lnTo>
                      <a:pt x="935" y="662"/>
                    </a:lnTo>
                    <a:lnTo>
                      <a:pt x="947" y="650"/>
                    </a:lnTo>
                    <a:lnTo>
                      <a:pt x="958" y="639"/>
                    </a:lnTo>
                    <a:lnTo>
                      <a:pt x="968" y="626"/>
                    </a:lnTo>
                    <a:lnTo>
                      <a:pt x="978" y="612"/>
                    </a:lnTo>
                    <a:lnTo>
                      <a:pt x="986" y="599"/>
                    </a:lnTo>
                    <a:lnTo>
                      <a:pt x="995" y="585"/>
                    </a:lnTo>
                    <a:lnTo>
                      <a:pt x="1001" y="570"/>
                    </a:lnTo>
                    <a:lnTo>
                      <a:pt x="1007" y="555"/>
                    </a:lnTo>
                    <a:lnTo>
                      <a:pt x="1014" y="539"/>
                    </a:lnTo>
                    <a:lnTo>
                      <a:pt x="1018" y="523"/>
                    </a:lnTo>
                    <a:lnTo>
                      <a:pt x="1022" y="506"/>
                    </a:lnTo>
                    <a:lnTo>
                      <a:pt x="1025" y="488"/>
                    </a:lnTo>
                    <a:lnTo>
                      <a:pt x="1029" y="471"/>
                    </a:lnTo>
                    <a:lnTo>
                      <a:pt x="1031" y="452"/>
                    </a:lnTo>
                    <a:lnTo>
                      <a:pt x="1032" y="433"/>
                    </a:lnTo>
                    <a:lnTo>
                      <a:pt x="1032" y="414"/>
                    </a:lnTo>
                    <a:lnTo>
                      <a:pt x="1032" y="397"/>
                    </a:lnTo>
                    <a:lnTo>
                      <a:pt x="1031" y="380"/>
                    </a:lnTo>
                    <a:lnTo>
                      <a:pt x="1029" y="363"/>
                    </a:lnTo>
                    <a:lnTo>
                      <a:pt x="1027" y="348"/>
                    </a:lnTo>
                    <a:lnTo>
                      <a:pt x="1023" y="332"/>
                    </a:lnTo>
                    <a:lnTo>
                      <a:pt x="1020" y="318"/>
                    </a:lnTo>
                    <a:lnTo>
                      <a:pt x="1016" y="304"/>
                    </a:lnTo>
                    <a:lnTo>
                      <a:pt x="1011" y="289"/>
                    </a:lnTo>
                    <a:lnTo>
                      <a:pt x="1005" y="276"/>
                    </a:lnTo>
                    <a:lnTo>
                      <a:pt x="999" y="262"/>
                    </a:lnTo>
                    <a:lnTo>
                      <a:pt x="992" y="251"/>
                    </a:lnTo>
                    <a:lnTo>
                      <a:pt x="984" y="238"/>
                    </a:lnTo>
                    <a:lnTo>
                      <a:pt x="976" y="226"/>
                    </a:lnTo>
                    <a:lnTo>
                      <a:pt x="966" y="216"/>
                    </a:lnTo>
                    <a:lnTo>
                      <a:pt x="957" y="205"/>
                    </a:lnTo>
                    <a:lnTo>
                      <a:pt x="946" y="195"/>
                    </a:lnTo>
                    <a:lnTo>
                      <a:pt x="935" y="185"/>
                    </a:lnTo>
                    <a:lnTo>
                      <a:pt x="924" y="176"/>
                    </a:lnTo>
                    <a:lnTo>
                      <a:pt x="912" y="167"/>
                    </a:lnTo>
                    <a:lnTo>
                      <a:pt x="899" y="160"/>
                    </a:lnTo>
                    <a:lnTo>
                      <a:pt x="886" y="152"/>
                    </a:lnTo>
                    <a:lnTo>
                      <a:pt x="872" y="146"/>
                    </a:lnTo>
                    <a:lnTo>
                      <a:pt x="857" y="140"/>
                    </a:lnTo>
                    <a:lnTo>
                      <a:pt x="842" y="134"/>
                    </a:lnTo>
                    <a:lnTo>
                      <a:pt x="826" y="130"/>
                    </a:lnTo>
                    <a:lnTo>
                      <a:pt x="809" y="126"/>
                    </a:lnTo>
                    <a:lnTo>
                      <a:pt x="792" y="121"/>
                    </a:lnTo>
                    <a:lnTo>
                      <a:pt x="775" y="119"/>
                    </a:lnTo>
                    <a:lnTo>
                      <a:pt x="756" y="117"/>
                    </a:lnTo>
                    <a:lnTo>
                      <a:pt x="738" y="115"/>
                    </a:lnTo>
                    <a:lnTo>
                      <a:pt x="718" y="114"/>
                    </a:lnTo>
                    <a:lnTo>
                      <a:pt x="698" y="114"/>
                    </a:lnTo>
                    <a:lnTo>
                      <a:pt x="682" y="114"/>
                    </a:lnTo>
                    <a:lnTo>
                      <a:pt x="662" y="115"/>
                    </a:lnTo>
                    <a:lnTo>
                      <a:pt x="639" y="116"/>
                    </a:lnTo>
                    <a:lnTo>
                      <a:pt x="611" y="117"/>
                    </a:lnTo>
                    <a:lnTo>
                      <a:pt x="581" y="119"/>
                    </a:lnTo>
                    <a:lnTo>
                      <a:pt x="547" y="121"/>
                    </a:lnTo>
                    <a:lnTo>
                      <a:pt x="510" y="124"/>
                    </a:lnTo>
                    <a:lnTo>
                      <a:pt x="468" y="127"/>
                    </a:lnTo>
                    <a:lnTo>
                      <a:pt x="462" y="738"/>
                    </a:lnTo>
                    <a:close/>
                  </a:path>
                </a:pathLst>
              </a:custGeom>
              <a:solidFill>
                <a:srgbClr val="ffff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00"/>
                  </a:solidFill>
                  <a:latin typeface="Arial"/>
                  <a:ea typeface="宋体"/>
                </a:endParaRPr>
              </a:p>
            </p:txBody>
          </p:sp>
        </p:grpSp>
      </p:grpSp>
      <p:sp>
        <p:nvSpPr>
          <p:cNvPr id="506" name="矩形 90"/>
          <p:cNvSpPr/>
          <p:nvPr/>
        </p:nvSpPr>
        <p:spPr>
          <a:xfrm>
            <a:off x="0" y="2451600"/>
            <a:ext cx="1102680" cy="1083240"/>
          </a:xfrm>
          <a:prstGeom prst="rect">
            <a:avLst/>
          </a:prstGeom>
          <a:solidFill>
            <a:srgbClr val="ffff00"/>
          </a:solidFill>
          <a:ln w="0">
            <a:noFill/>
          </a:ln>
        </p:spPr>
        <p:style>
          <a:lnRef idx="0"/>
          <a:fillRef idx="0"/>
          <a:effectRef idx="0"/>
          <a:fontRef idx="minor"/>
        </p:style>
        <p:txBody>
          <a:bodyPr numCol="1" spcCol="0" anchor="ctr">
            <a:noAutofit/>
          </a:bodyPr>
          <a:p>
            <a:pPr>
              <a:lnSpc>
                <a:spcPct val="100000"/>
              </a:lnSpc>
              <a:tabLst>
                <a:tab algn="l" pos="0"/>
              </a:tabLst>
            </a:pPr>
            <a:endParaRPr b="0" lang="en-US" sz="1800" spc="-1" strike="noStrike">
              <a:solidFill>
                <a:srgbClr val="000000"/>
              </a:solidFill>
              <a:latin typeface="Arial"/>
              <a:ea typeface="宋体"/>
            </a:endParaRPr>
          </a:p>
        </p:txBody>
      </p:sp>
      <p:sp>
        <p:nvSpPr>
          <p:cNvPr id="507" name="矩形 91"/>
          <p:cNvSpPr/>
          <p:nvPr/>
        </p:nvSpPr>
        <p:spPr>
          <a:xfrm>
            <a:off x="2014200" y="9302400"/>
            <a:ext cx="3077640" cy="616320"/>
          </a:xfrm>
          <a:prstGeom prst="rect">
            <a:avLst/>
          </a:prstGeom>
          <a:solidFill>
            <a:schemeClr val="tx1"/>
          </a:solidFill>
          <a:ln w="0">
            <a:noFill/>
          </a:ln>
        </p:spPr>
        <p:style>
          <a:lnRef idx="0"/>
          <a:fillRef idx="0"/>
          <a:effectRef idx="0"/>
          <a:fontRef idx="minor"/>
        </p:style>
        <p:txBody>
          <a:bodyPr numCol="1" spcCol="0" anchor="ctr">
            <a:noAutofit/>
          </a:bodyPr>
          <a:p>
            <a:pPr>
              <a:lnSpc>
                <a:spcPct val="100000"/>
              </a:lnSpc>
              <a:tabLst>
                <a:tab algn="l" pos="0"/>
              </a:tabLst>
            </a:pPr>
            <a:endParaRPr b="0" lang="en-US" sz="1800" spc="-1" strike="noStrike">
              <a:solidFill>
                <a:srgbClr val="000000"/>
              </a:solidFill>
              <a:latin typeface="Arial"/>
              <a:ea typeface="宋体"/>
            </a:endParaRPr>
          </a:p>
        </p:txBody>
      </p:sp>
      <p:grpSp>
        <p:nvGrpSpPr>
          <p:cNvPr id="508" name="Group 3"/>
          <p:cNvGrpSpPr/>
          <p:nvPr/>
        </p:nvGrpSpPr>
        <p:grpSpPr>
          <a:xfrm>
            <a:off x="2191680" y="9449640"/>
            <a:ext cx="2700000" cy="267480"/>
            <a:chOff x="2191680" y="9449640"/>
            <a:chExt cx="2700000" cy="267480"/>
          </a:xfrm>
        </p:grpSpPr>
        <p:sp>
          <p:nvSpPr>
            <p:cNvPr id="509" name="Freeform 11"/>
            <p:cNvSpPr/>
            <p:nvPr/>
          </p:nvSpPr>
          <p:spPr>
            <a:xfrm>
              <a:off x="2191680" y="9456120"/>
              <a:ext cx="195480" cy="172800"/>
            </a:xfrm>
            <a:custGeom>
              <a:avLst/>
              <a:gdLst>
                <a:gd name="textAreaLeft" fmla="*/ 0 w 195480"/>
                <a:gd name="textAreaRight" fmla="*/ 195840 w 195480"/>
                <a:gd name="textAreaTop" fmla="*/ 0 h 172800"/>
                <a:gd name="textAreaBottom" fmla="*/ 173160 h 172800"/>
              </a:gdLst>
              <a:ahLst/>
              <a:rect l="textAreaLeft" t="textAreaTop" r="textAreaRight" b="textAreaBottom"/>
              <a:pathLst>
                <a:path w="1227" h="1136">
                  <a:moveTo>
                    <a:pt x="540" y="176"/>
                  </a:moveTo>
                  <a:lnTo>
                    <a:pt x="551" y="181"/>
                  </a:lnTo>
                  <a:lnTo>
                    <a:pt x="562" y="188"/>
                  </a:lnTo>
                  <a:lnTo>
                    <a:pt x="573" y="193"/>
                  </a:lnTo>
                  <a:lnTo>
                    <a:pt x="585" y="198"/>
                  </a:lnTo>
                  <a:lnTo>
                    <a:pt x="611" y="208"/>
                  </a:lnTo>
                  <a:lnTo>
                    <a:pt x="640" y="215"/>
                  </a:lnTo>
                  <a:lnTo>
                    <a:pt x="635" y="224"/>
                  </a:lnTo>
                  <a:lnTo>
                    <a:pt x="628" y="231"/>
                  </a:lnTo>
                  <a:lnTo>
                    <a:pt x="623" y="240"/>
                  </a:lnTo>
                  <a:lnTo>
                    <a:pt x="619" y="248"/>
                  </a:lnTo>
                  <a:lnTo>
                    <a:pt x="615" y="257"/>
                  </a:lnTo>
                  <a:lnTo>
                    <a:pt x="611" y="266"/>
                  </a:lnTo>
                  <a:lnTo>
                    <a:pt x="608" y="276"/>
                  </a:lnTo>
                  <a:lnTo>
                    <a:pt x="605" y="285"/>
                  </a:lnTo>
                  <a:lnTo>
                    <a:pt x="604" y="293"/>
                  </a:lnTo>
                  <a:lnTo>
                    <a:pt x="603" y="301"/>
                  </a:lnTo>
                  <a:lnTo>
                    <a:pt x="600" y="309"/>
                  </a:lnTo>
                  <a:lnTo>
                    <a:pt x="596" y="316"/>
                  </a:lnTo>
                  <a:lnTo>
                    <a:pt x="615" y="313"/>
                  </a:lnTo>
                  <a:lnTo>
                    <a:pt x="637" y="309"/>
                  </a:lnTo>
                  <a:lnTo>
                    <a:pt x="662" y="302"/>
                  </a:lnTo>
                  <a:lnTo>
                    <a:pt x="690" y="296"/>
                  </a:lnTo>
                  <a:lnTo>
                    <a:pt x="702" y="292"/>
                  </a:lnTo>
                  <a:lnTo>
                    <a:pt x="710" y="291"/>
                  </a:lnTo>
                  <a:lnTo>
                    <a:pt x="710" y="243"/>
                  </a:lnTo>
                  <a:lnTo>
                    <a:pt x="708" y="197"/>
                  </a:lnTo>
                  <a:lnTo>
                    <a:pt x="705" y="156"/>
                  </a:lnTo>
                  <a:lnTo>
                    <a:pt x="700" y="118"/>
                  </a:lnTo>
                  <a:lnTo>
                    <a:pt x="695" y="84"/>
                  </a:lnTo>
                  <a:lnTo>
                    <a:pt x="688" y="52"/>
                  </a:lnTo>
                  <a:lnTo>
                    <a:pt x="683" y="38"/>
                  </a:lnTo>
                  <a:lnTo>
                    <a:pt x="679" y="25"/>
                  </a:lnTo>
                  <a:lnTo>
                    <a:pt x="675" y="12"/>
                  </a:lnTo>
                  <a:lnTo>
                    <a:pt x="671" y="0"/>
                  </a:lnTo>
                  <a:lnTo>
                    <a:pt x="688" y="7"/>
                  </a:lnTo>
                  <a:lnTo>
                    <a:pt x="705" y="11"/>
                  </a:lnTo>
                  <a:lnTo>
                    <a:pt x="722" y="15"/>
                  </a:lnTo>
                  <a:lnTo>
                    <a:pt x="739" y="18"/>
                  </a:lnTo>
                  <a:lnTo>
                    <a:pt x="755" y="20"/>
                  </a:lnTo>
                  <a:lnTo>
                    <a:pt x="772" y="21"/>
                  </a:lnTo>
                  <a:lnTo>
                    <a:pt x="789" y="21"/>
                  </a:lnTo>
                  <a:lnTo>
                    <a:pt x="805" y="20"/>
                  </a:lnTo>
                  <a:lnTo>
                    <a:pt x="800" y="44"/>
                  </a:lnTo>
                  <a:lnTo>
                    <a:pt x="795" y="70"/>
                  </a:lnTo>
                  <a:lnTo>
                    <a:pt x="790" y="99"/>
                  </a:lnTo>
                  <a:lnTo>
                    <a:pt x="786" y="129"/>
                  </a:lnTo>
                  <a:lnTo>
                    <a:pt x="784" y="162"/>
                  </a:lnTo>
                  <a:lnTo>
                    <a:pt x="782" y="198"/>
                  </a:lnTo>
                  <a:lnTo>
                    <a:pt x="781" y="235"/>
                  </a:lnTo>
                  <a:lnTo>
                    <a:pt x="780" y="276"/>
                  </a:lnTo>
                  <a:lnTo>
                    <a:pt x="811" y="268"/>
                  </a:lnTo>
                  <a:lnTo>
                    <a:pt x="841" y="261"/>
                  </a:lnTo>
                  <a:lnTo>
                    <a:pt x="873" y="253"/>
                  </a:lnTo>
                  <a:lnTo>
                    <a:pt x="906" y="246"/>
                  </a:lnTo>
                  <a:lnTo>
                    <a:pt x="913" y="244"/>
                  </a:lnTo>
                  <a:lnTo>
                    <a:pt x="921" y="244"/>
                  </a:lnTo>
                  <a:lnTo>
                    <a:pt x="928" y="247"/>
                  </a:lnTo>
                  <a:lnTo>
                    <a:pt x="936" y="250"/>
                  </a:lnTo>
                  <a:lnTo>
                    <a:pt x="936" y="249"/>
                  </a:lnTo>
                  <a:lnTo>
                    <a:pt x="937" y="248"/>
                  </a:lnTo>
                  <a:lnTo>
                    <a:pt x="938" y="249"/>
                  </a:lnTo>
                  <a:lnTo>
                    <a:pt x="941" y="250"/>
                  </a:lnTo>
                  <a:lnTo>
                    <a:pt x="945" y="257"/>
                  </a:lnTo>
                  <a:lnTo>
                    <a:pt x="950" y="266"/>
                  </a:lnTo>
                  <a:lnTo>
                    <a:pt x="960" y="276"/>
                  </a:lnTo>
                  <a:lnTo>
                    <a:pt x="966" y="284"/>
                  </a:lnTo>
                  <a:lnTo>
                    <a:pt x="972" y="293"/>
                  </a:lnTo>
                  <a:lnTo>
                    <a:pt x="976" y="301"/>
                  </a:lnTo>
                  <a:lnTo>
                    <a:pt x="979" y="305"/>
                  </a:lnTo>
                  <a:lnTo>
                    <a:pt x="981" y="309"/>
                  </a:lnTo>
                  <a:lnTo>
                    <a:pt x="982" y="310"/>
                  </a:lnTo>
                  <a:lnTo>
                    <a:pt x="982" y="311"/>
                  </a:lnTo>
                  <a:lnTo>
                    <a:pt x="981" y="311"/>
                  </a:lnTo>
                  <a:lnTo>
                    <a:pt x="980" y="311"/>
                  </a:lnTo>
                  <a:lnTo>
                    <a:pt x="979" y="313"/>
                  </a:lnTo>
                  <a:lnTo>
                    <a:pt x="977" y="315"/>
                  </a:lnTo>
                  <a:lnTo>
                    <a:pt x="972" y="315"/>
                  </a:lnTo>
                  <a:lnTo>
                    <a:pt x="965" y="316"/>
                  </a:lnTo>
                  <a:lnTo>
                    <a:pt x="943" y="321"/>
                  </a:lnTo>
                  <a:lnTo>
                    <a:pt x="915" y="327"/>
                  </a:lnTo>
                  <a:lnTo>
                    <a:pt x="883" y="334"/>
                  </a:lnTo>
                  <a:lnTo>
                    <a:pt x="845" y="340"/>
                  </a:lnTo>
                  <a:lnTo>
                    <a:pt x="824" y="343"/>
                  </a:lnTo>
                  <a:lnTo>
                    <a:pt x="806" y="346"/>
                  </a:lnTo>
                  <a:lnTo>
                    <a:pt x="791" y="348"/>
                  </a:lnTo>
                  <a:lnTo>
                    <a:pt x="780" y="351"/>
                  </a:lnTo>
                  <a:lnTo>
                    <a:pt x="780" y="384"/>
                  </a:lnTo>
                  <a:lnTo>
                    <a:pt x="780" y="417"/>
                  </a:lnTo>
                  <a:lnTo>
                    <a:pt x="780" y="452"/>
                  </a:lnTo>
                  <a:lnTo>
                    <a:pt x="780" y="486"/>
                  </a:lnTo>
                  <a:lnTo>
                    <a:pt x="806" y="480"/>
                  </a:lnTo>
                  <a:lnTo>
                    <a:pt x="834" y="474"/>
                  </a:lnTo>
                  <a:lnTo>
                    <a:pt x="860" y="467"/>
                  </a:lnTo>
                  <a:lnTo>
                    <a:pt x="888" y="462"/>
                  </a:lnTo>
                  <a:lnTo>
                    <a:pt x="915" y="457"/>
                  </a:lnTo>
                  <a:lnTo>
                    <a:pt x="943" y="452"/>
                  </a:lnTo>
                  <a:lnTo>
                    <a:pt x="972" y="446"/>
                  </a:lnTo>
                  <a:lnTo>
                    <a:pt x="1000" y="441"/>
                  </a:lnTo>
                  <a:lnTo>
                    <a:pt x="1005" y="440"/>
                  </a:lnTo>
                  <a:lnTo>
                    <a:pt x="1011" y="440"/>
                  </a:lnTo>
                  <a:lnTo>
                    <a:pt x="1015" y="440"/>
                  </a:lnTo>
                  <a:lnTo>
                    <a:pt x="1020" y="441"/>
                  </a:lnTo>
                  <a:lnTo>
                    <a:pt x="1026" y="442"/>
                  </a:lnTo>
                  <a:lnTo>
                    <a:pt x="1031" y="444"/>
                  </a:lnTo>
                  <a:lnTo>
                    <a:pt x="1035" y="447"/>
                  </a:lnTo>
                  <a:lnTo>
                    <a:pt x="1040" y="451"/>
                  </a:lnTo>
                  <a:lnTo>
                    <a:pt x="1047" y="458"/>
                  </a:lnTo>
                  <a:lnTo>
                    <a:pt x="1055" y="471"/>
                  </a:lnTo>
                  <a:lnTo>
                    <a:pt x="1068" y="491"/>
                  </a:lnTo>
                  <a:lnTo>
                    <a:pt x="1075" y="500"/>
                  </a:lnTo>
                  <a:lnTo>
                    <a:pt x="1080" y="508"/>
                  </a:lnTo>
                  <a:lnTo>
                    <a:pt x="1082" y="513"/>
                  </a:lnTo>
                  <a:lnTo>
                    <a:pt x="1082" y="517"/>
                  </a:lnTo>
                  <a:lnTo>
                    <a:pt x="1081" y="520"/>
                  </a:lnTo>
                  <a:lnTo>
                    <a:pt x="1080" y="523"/>
                  </a:lnTo>
                  <a:lnTo>
                    <a:pt x="1076" y="525"/>
                  </a:lnTo>
                  <a:lnTo>
                    <a:pt x="1072" y="526"/>
                  </a:lnTo>
                  <a:lnTo>
                    <a:pt x="1066" y="526"/>
                  </a:lnTo>
                  <a:lnTo>
                    <a:pt x="1049" y="526"/>
                  </a:lnTo>
                  <a:lnTo>
                    <a:pt x="1031" y="527"/>
                  </a:lnTo>
                  <a:lnTo>
                    <a:pt x="1011" y="528"/>
                  </a:lnTo>
                  <a:lnTo>
                    <a:pt x="987" y="530"/>
                  </a:lnTo>
                  <a:lnTo>
                    <a:pt x="963" y="532"/>
                  </a:lnTo>
                  <a:lnTo>
                    <a:pt x="936" y="534"/>
                  </a:lnTo>
                  <a:lnTo>
                    <a:pt x="907" y="537"/>
                  </a:lnTo>
                  <a:lnTo>
                    <a:pt x="875" y="541"/>
                  </a:lnTo>
                  <a:lnTo>
                    <a:pt x="850" y="544"/>
                  </a:lnTo>
                  <a:lnTo>
                    <a:pt x="827" y="546"/>
                  </a:lnTo>
                  <a:lnTo>
                    <a:pt x="809" y="548"/>
                  </a:lnTo>
                  <a:lnTo>
                    <a:pt x="796" y="551"/>
                  </a:lnTo>
                  <a:lnTo>
                    <a:pt x="812" y="568"/>
                  </a:lnTo>
                  <a:lnTo>
                    <a:pt x="831" y="588"/>
                  </a:lnTo>
                  <a:lnTo>
                    <a:pt x="852" y="613"/>
                  </a:lnTo>
                  <a:lnTo>
                    <a:pt x="875" y="641"/>
                  </a:lnTo>
                  <a:lnTo>
                    <a:pt x="902" y="671"/>
                  </a:lnTo>
                  <a:lnTo>
                    <a:pt x="927" y="696"/>
                  </a:lnTo>
                  <a:lnTo>
                    <a:pt x="950" y="720"/>
                  </a:lnTo>
                  <a:lnTo>
                    <a:pt x="972" y="740"/>
                  </a:lnTo>
                  <a:lnTo>
                    <a:pt x="992" y="757"/>
                  </a:lnTo>
                  <a:lnTo>
                    <a:pt x="1010" y="770"/>
                  </a:lnTo>
                  <a:lnTo>
                    <a:pt x="1018" y="775"/>
                  </a:lnTo>
                  <a:lnTo>
                    <a:pt x="1026" y="779"/>
                  </a:lnTo>
                  <a:lnTo>
                    <a:pt x="1033" y="783"/>
                  </a:lnTo>
                  <a:lnTo>
                    <a:pt x="1040" y="786"/>
                  </a:lnTo>
                  <a:lnTo>
                    <a:pt x="1064" y="797"/>
                  </a:lnTo>
                  <a:lnTo>
                    <a:pt x="1087" y="809"/>
                  </a:lnTo>
                  <a:lnTo>
                    <a:pt x="1109" y="821"/>
                  </a:lnTo>
                  <a:lnTo>
                    <a:pt x="1130" y="834"/>
                  </a:lnTo>
                  <a:lnTo>
                    <a:pt x="1152" y="846"/>
                  </a:lnTo>
                  <a:lnTo>
                    <a:pt x="1172" y="860"/>
                  </a:lnTo>
                  <a:lnTo>
                    <a:pt x="1191" y="872"/>
                  </a:lnTo>
                  <a:lnTo>
                    <a:pt x="1210" y="886"/>
                  </a:lnTo>
                  <a:lnTo>
                    <a:pt x="1218" y="896"/>
                  </a:lnTo>
                  <a:lnTo>
                    <a:pt x="1224" y="904"/>
                  </a:lnTo>
                  <a:lnTo>
                    <a:pt x="1226" y="907"/>
                  </a:lnTo>
                  <a:lnTo>
                    <a:pt x="1227" y="910"/>
                  </a:lnTo>
                  <a:lnTo>
                    <a:pt x="1227" y="914"/>
                  </a:lnTo>
                  <a:lnTo>
                    <a:pt x="1226" y="916"/>
                  </a:lnTo>
                  <a:lnTo>
                    <a:pt x="1225" y="919"/>
                  </a:lnTo>
                  <a:lnTo>
                    <a:pt x="1224" y="921"/>
                  </a:lnTo>
                  <a:lnTo>
                    <a:pt x="1221" y="922"/>
                  </a:lnTo>
                  <a:lnTo>
                    <a:pt x="1219" y="923"/>
                  </a:lnTo>
                  <a:lnTo>
                    <a:pt x="1211" y="925"/>
                  </a:lnTo>
                  <a:lnTo>
                    <a:pt x="1200" y="926"/>
                  </a:lnTo>
                  <a:lnTo>
                    <a:pt x="1152" y="927"/>
                  </a:lnTo>
                  <a:lnTo>
                    <a:pt x="1109" y="927"/>
                  </a:lnTo>
                  <a:lnTo>
                    <a:pt x="1089" y="927"/>
                  </a:lnTo>
                  <a:lnTo>
                    <a:pt x="1071" y="926"/>
                  </a:lnTo>
                  <a:lnTo>
                    <a:pt x="1054" y="924"/>
                  </a:lnTo>
                  <a:lnTo>
                    <a:pt x="1039" y="922"/>
                  </a:lnTo>
                  <a:lnTo>
                    <a:pt x="1026" y="920"/>
                  </a:lnTo>
                  <a:lnTo>
                    <a:pt x="1013" y="917"/>
                  </a:lnTo>
                  <a:lnTo>
                    <a:pt x="1001" y="914"/>
                  </a:lnTo>
                  <a:lnTo>
                    <a:pt x="992" y="910"/>
                  </a:lnTo>
                  <a:lnTo>
                    <a:pt x="983" y="906"/>
                  </a:lnTo>
                  <a:lnTo>
                    <a:pt x="976" y="902"/>
                  </a:lnTo>
                  <a:lnTo>
                    <a:pt x="969" y="897"/>
                  </a:lnTo>
                  <a:lnTo>
                    <a:pt x="965" y="891"/>
                  </a:lnTo>
                  <a:lnTo>
                    <a:pt x="946" y="867"/>
                  </a:lnTo>
                  <a:lnTo>
                    <a:pt x="922" y="833"/>
                  </a:lnTo>
                  <a:lnTo>
                    <a:pt x="893" y="792"/>
                  </a:lnTo>
                  <a:lnTo>
                    <a:pt x="860" y="741"/>
                  </a:lnTo>
                  <a:lnTo>
                    <a:pt x="839" y="704"/>
                  </a:lnTo>
                  <a:lnTo>
                    <a:pt x="819" y="671"/>
                  </a:lnTo>
                  <a:lnTo>
                    <a:pt x="801" y="643"/>
                  </a:lnTo>
                  <a:lnTo>
                    <a:pt x="785" y="621"/>
                  </a:lnTo>
                  <a:lnTo>
                    <a:pt x="785" y="636"/>
                  </a:lnTo>
                  <a:lnTo>
                    <a:pt x="785" y="652"/>
                  </a:lnTo>
                  <a:lnTo>
                    <a:pt x="785" y="671"/>
                  </a:lnTo>
                  <a:lnTo>
                    <a:pt x="785" y="691"/>
                  </a:lnTo>
                  <a:lnTo>
                    <a:pt x="785" y="713"/>
                  </a:lnTo>
                  <a:lnTo>
                    <a:pt x="785" y="738"/>
                  </a:lnTo>
                  <a:lnTo>
                    <a:pt x="785" y="763"/>
                  </a:lnTo>
                  <a:lnTo>
                    <a:pt x="785" y="791"/>
                  </a:lnTo>
                  <a:lnTo>
                    <a:pt x="786" y="820"/>
                  </a:lnTo>
                  <a:lnTo>
                    <a:pt x="787" y="848"/>
                  </a:lnTo>
                  <a:lnTo>
                    <a:pt x="788" y="873"/>
                  </a:lnTo>
                  <a:lnTo>
                    <a:pt x="789" y="898"/>
                  </a:lnTo>
                  <a:lnTo>
                    <a:pt x="789" y="920"/>
                  </a:lnTo>
                  <a:lnTo>
                    <a:pt x="790" y="940"/>
                  </a:lnTo>
                  <a:lnTo>
                    <a:pt x="790" y="959"/>
                  </a:lnTo>
                  <a:lnTo>
                    <a:pt x="790" y="976"/>
                  </a:lnTo>
                  <a:lnTo>
                    <a:pt x="793" y="1015"/>
                  </a:lnTo>
                  <a:lnTo>
                    <a:pt x="794" y="1048"/>
                  </a:lnTo>
                  <a:lnTo>
                    <a:pt x="795" y="1076"/>
                  </a:lnTo>
                  <a:lnTo>
                    <a:pt x="794" y="1099"/>
                  </a:lnTo>
                  <a:lnTo>
                    <a:pt x="793" y="1116"/>
                  </a:lnTo>
                  <a:lnTo>
                    <a:pt x="791" y="1128"/>
                  </a:lnTo>
                  <a:lnTo>
                    <a:pt x="790" y="1132"/>
                  </a:lnTo>
                  <a:lnTo>
                    <a:pt x="788" y="1135"/>
                  </a:lnTo>
                  <a:lnTo>
                    <a:pt x="787" y="1136"/>
                  </a:lnTo>
                  <a:lnTo>
                    <a:pt x="785" y="1136"/>
                  </a:lnTo>
                  <a:lnTo>
                    <a:pt x="770" y="1128"/>
                  </a:lnTo>
                  <a:lnTo>
                    <a:pt x="755" y="1118"/>
                  </a:lnTo>
                  <a:lnTo>
                    <a:pt x="741" y="1108"/>
                  </a:lnTo>
                  <a:lnTo>
                    <a:pt x="727" y="1095"/>
                  </a:lnTo>
                  <a:lnTo>
                    <a:pt x="712" y="1081"/>
                  </a:lnTo>
                  <a:lnTo>
                    <a:pt x="698" y="1066"/>
                  </a:lnTo>
                  <a:lnTo>
                    <a:pt x="684" y="1049"/>
                  </a:lnTo>
                  <a:lnTo>
                    <a:pt x="671" y="1031"/>
                  </a:lnTo>
                  <a:lnTo>
                    <a:pt x="675" y="1026"/>
                  </a:lnTo>
                  <a:lnTo>
                    <a:pt x="678" y="1019"/>
                  </a:lnTo>
                  <a:lnTo>
                    <a:pt x="682" y="1008"/>
                  </a:lnTo>
                  <a:lnTo>
                    <a:pt x="686" y="994"/>
                  </a:lnTo>
                  <a:lnTo>
                    <a:pt x="689" y="978"/>
                  </a:lnTo>
                  <a:lnTo>
                    <a:pt x="692" y="959"/>
                  </a:lnTo>
                  <a:lnTo>
                    <a:pt x="694" y="938"/>
                  </a:lnTo>
                  <a:lnTo>
                    <a:pt x="696" y="914"/>
                  </a:lnTo>
                  <a:lnTo>
                    <a:pt x="700" y="857"/>
                  </a:lnTo>
                  <a:lnTo>
                    <a:pt x="702" y="790"/>
                  </a:lnTo>
                  <a:lnTo>
                    <a:pt x="705" y="710"/>
                  </a:lnTo>
                  <a:lnTo>
                    <a:pt x="706" y="621"/>
                  </a:lnTo>
                  <a:lnTo>
                    <a:pt x="680" y="666"/>
                  </a:lnTo>
                  <a:lnTo>
                    <a:pt x="655" y="709"/>
                  </a:lnTo>
                  <a:lnTo>
                    <a:pt x="629" y="749"/>
                  </a:lnTo>
                  <a:lnTo>
                    <a:pt x="604" y="788"/>
                  </a:lnTo>
                  <a:lnTo>
                    <a:pt x="579" y="824"/>
                  </a:lnTo>
                  <a:lnTo>
                    <a:pt x="552" y="856"/>
                  </a:lnTo>
                  <a:lnTo>
                    <a:pt x="527" y="887"/>
                  </a:lnTo>
                  <a:lnTo>
                    <a:pt x="500" y="916"/>
                  </a:lnTo>
                  <a:lnTo>
                    <a:pt x="487" y="926"/>
                  </a:lnTo>
                  <a:lnTo>
                    <a:pt x="475" y="935"/>
                  </a:lnTo>
                  <a:lnTo>
                    <a:pt x="462" y="943"/>
                  </a:lnTo>
                  <a:lnTo>
                    <a:pt x="449" y="950"/>
                  </a:lnTo>
                  <a:lnTo>
                    <a:pt x="437" y="955"/>
                  </a:lnTo>
                  <a:lnTo>
                    <a:pt x="423" y="959"/>
                  </a:lnTo>
                  <a:lnTo>
                    <a:pt x="410" y="962"/>
                  </a:lnTo>
                  <a:lnTo>
                    <a:pt x="396" y="963"/>
                  </a:lnTo>
                  <a:lnTo>
                    <a:pt x="383" y="964"/>
                  </a:lnTo>
                  <a:lnTo>
                    <a:pt x="369" y="963"/>
                  </a:lnTo>
                  <a:lnTo>
                    <a:pt x="355" y="962"/>
                  </a:lnTo>
                  <a:lnTo>
                    <a:pt x="341" y="959"/>
                  </a:lnTo>
                  <a:lnTo>
                    <a:pt x="328" y="955"/>
                  </a:lnTo>
                  <a:lnTo>
                    <a:pt x="314" y="950"/>
                  </a:lnTo>
                  <a:lnTo>
                    <a:pt x="299" y="943"/>
                  </a:lnTo>
                  <a:lnTo>
                    <a:pt x="285" y="936"/>
                  </a:lnTo>
                  <a:lnTo>
                    <a:pt x="308" y="925"/>
                  </a:lnTo>
                  <a:lnTo>
                    <a:pt x="333" y="912"/>
                  </a:lnTo>
                  <a:lnTo>
                    <a:pt x="356" y="898"/>
                  </a:lnTo>
                  <a:lnTo>
                    <a:pt x="379" y="882"/>
                  </a:lnTo>
                  <a:lnTo>
                    <a:pt x="403" y="865"/>
                  </a:lnTo>
                  <a:lnTo>
                    <a:pt x="426" y="847"/>
                  </a:lnTo>
                  <a:lnTo>
                    <a:pt x="449" y="827"/>
                  </a:lnTo>
                  <a:lnTo>
                    <a:pt x="473" y="804"/>
                  </a:lnTo>
                  <a:lnTo>
                    <a:pt x="496" y="782"/>
                  </a:lnTo>
                  <a:lnTo>
                    <a:pt x="518" y="758"/>
                  </a:lnTo>
                  <a:lnTo>
                    <a:pt x="541" y="731"/>
                  </a:lnTo>
                  <a:lnTo>
                    <a:pt x="565" y="705"/>
                  </a:lnTo>
                  <a:lnTo>
                    <a:pt x="587" y="676"/>
                  </a:lnTo>
                  <a:lnTo>
                    <a:pt x="610" y="646"/>
                  </a:lnTo>
                  <a:lnTo>
                    <a:pt x="633" y="614"/>
                  </a:lnTo>
                  <a:lnTo>
                    <a:pt x="655" y="581"/>
                  </a:lnTo>
                  <a:lnTo>
                    <a:pt x="623" y="586"/>
                  </a:lnTo>
                  <a:lnTo>
                    <a:pt x="591" y="593"/>
                  </a:lnTo>
                  <a:lnTo>
                    <a:pt x="561" y="599"/>
                  </a:lnTo>
                  <a:lnTo>
                    <a:pt x="530" y="606"/>
                  </a:lnTo>
                  <a:lnTo>
                    <a:pt x="516" y="605"/>
                  </a:lnTo>
                  <a:lnTo>
                    <a:pt x="502" y="603"/>
                  </a:lnTo>
                  <a:lnTo>
                    <a:pt x="491" y="600"/>
                  </a:lnTo>
                  <a:lnTo>
                    <a:pt x="480" y="596"/>
                  </a:lnTo>
                  <a:lnTo>
                    <a:pt x="475" y="591"/>
                  </a:lnTo>
                  <a:lnTo>
                    <a:pt x="466" y="585"/>
                  </a:lnTo>
                  <a:lnTo>
                    <a:pt x="457" y="575"/>
                  </a:lnTo>
                  <a:lnTo>
                    <a:pt x="445" y="561"/>
                  </a:lnTo>
                  <a:lnTo>
                    <a:pt x="437" y="552"/>
                  </a:lnTo>
                  <a:lnTo>
                    <a:pt x="430" y="546"/>
                  </a:lnTo>
                  <a:lnTo>
                    <a:pt x="448" y="545"/>
                  </a:lnTo>
                  <a:lnTo>
                    <a:pt x="468" y="542"/>
                  </a:lnTo>
                  <a:lnTo>
                    <a:pt x="491" y="540"/>
                  </a:lnTo>
                  <a:lnTo>
                    <a:pt x="515" y="536"/>
                  </a:lnTo>
                  <a:lnTo>
                    <a:pt x="541" y="532"/>
                  </a:lnTo>
                  <a:lnTo>
                    <a:pt x="569" y="527"/>
                  </a:lnTo>
                  <a:lnTo>
                    <a:pt x="599" y="522"/>
                  </a:lnTo>
                  <a:lnTo>
                    <a:pt x="630" y="516"/>
                  </a:lnTo>
                  <a:lnTo>
                    <a:pt x="656" y="511"/>
                  </a:lnTo>
                  <a:lnTo>
                    <a:pt x="678" y="507"/>
                  </a:lnTo>
                  <a:lnTo>
                    <a:pt x="696" y="504"/>
                  </a:lnTo>
                  <a:lnTo>
                    <a:pt x="710" y="500"/>
                  </a:lnTo>
                  <a:lnTo>
                    <a:pt x="710" y="360"/>
                  </a:lnTo>
                  <a:lnTo>
                    <a:pt x="677" y="367"/>
                  </a:lnTo>
                  <a:lnTo>
                    <a:pt x="652" y="372"/>
                  </a:lnTo>
                  <a:lnTo>
                    <a:pt x="635" y="375"/>
                  </a:lnTo>
                  <a:lnTo>
                    <a:pt x="625" y="375"/>
                  </a:lnTo>
                  <a:lnTo>
                    <a:pt x="621" y="375"/>
                  </a:lnTo>
                  <a:lnTo>
                    <a:pt x="617" y="374"/>
                  </a:lnTo>
                  <a:lnTo>
                    <a:pt x="612" y="372"/>
                  </a:lnTo>
                  <a:lnTo>
                    <a:pt x="607" y="369"/>
                  </a:lnTo>
                  <a:lnTo>
                    <a:pt x="597" y="362"/>
                  </a:lnTo>
                  <a:lnTo>
                    <a:pt x="585" y="351"/>
                  </a:lnTo>
                  <a:lnTo>
                    <a:pt x="582" y="366"/>
                  </a:lnTo>
                  <a:lnTo>
                    <a:pt x="576" y="382"/>
                  </a:lnTo>
                  <a:lnTo>
                    <a:pt x="569" y="399"/>
                  </a:lnTo>
                  <a:lnTo>
                    <a:pt x="561" y="416"/>
                  </a:lnTo>
                  <a:lnTo>
                    <a:pt x="557" y="425"/>
                  </a:lnTo>
                  <a:lnTo>
                    <a:pt x="555" y="433"/>
                  </a:lnTo>
                  <a:lnTo>
                    <a:pt x="553" y="438"/>
                  </a:lnTo>
                  <a:lnTo>
                    <a:pt x="550" y="441"/>
                  </a:lnTo>
                  <a:lnTo>
                    <a:pt x="546" y="448"/>
                  </a:lnTo>
                  <a:lnTo>
                    <a:pt x="540" y="455"/>
                  </a:lnTo>
                  <a:lnTo>
                    <a:pt x="535" y="460"/>
                  </a:lnTo>
                  <a:lnTo>
                    <a:pt x="529" y="465"/>
                  </a:lnTo>
                  <a:lnTo>
                    <a:pt x="522" y="471"/>
                  </a:lnTo>
                  <a:lnTo>
                    <a:pt x="515" y="475"/>
                  </a:lnTo>
                  <a:lnTo>
                    <a:pt x="507" y="478"/>
                  </a:lnTo>
                  <a:lnTo>
                    <a:pt x="499" y="481"/>
                  </a:lnTo>
                  <a:lnTo>
                    <a:pt x="491" y="483"/>
                  </a:lnTo>
                  <a:lnTo>
                    <a:pt x="481" y="484"/>
                  </a:lnTo>
                  <a:lnTo>
                    <a:pt x="472" y="486"/>
                  </a:lnTo>
                  <a:lnTo>
                    <a:pt x="461" y="486"/>
                  </a:lnTo>
                  <a:lnTo>
                    <a:pt x="450" y="486"/>
                  </a:lnTo>
                  <a:lnTo>
                    <a:pt x="439" y="484"/>
                  </a:lnTo>
                  <a:lnTo>
                    <a:pt x="427" y="483"/>
                  </a:lnTo>
                  <a:lnTo>
                    <a:pt x="415" y="480"/>
                  </a:lnTo>
                  <a:lnTo>
                    <a:pt x="430" y="466"/>
                  </a:lnTo>
                  <a:lnTo>
                    <a:pt x="444" y="452"/>
                  </a:lnTo>
                  <a:lnTo>
                    <a:pt x="458" y="437"/>
                  </a:lnTo>
                  <a:lnTo>
                    <a:pt x="469" y="421"/>
                  </a:lnTo>
                  <a:lnTo>
                    <a:pt x="481" y="404"/>
                  </a:lnTo>
                  <a:lnTo>
                    <a:pt x="492" y="386"/>
                  </a:lnTo>
                  <a:lnTo>
                    <a:pt x="500" y="368"/>
                  </a:lnTo>
                  <a:lnTo>
                    <a:pt x="509" y="350"/>
                  </a:lnTo>
                  <a:lnTo>
                    <a:pt x="516" y="330"/>
                  </a:lnTo>
                  <a:lnTo>
                    <a:pt x="522" y="310"/>
                  </a:lnTo>
                  <a:lnTo>
                    <a:pt x="528" y="289"/>
                  </a:lnTo>
                  <a:lnTo>
                    <a:pt x="532" y="268"/>
                  </a:lnTo>
                  <a:lnTo>
                    <a:pt x="536" y="246"/>
                  </a:lnTo>
                  <a:lnTo>
                    <a:pt x="538" y="223"/>
                  </a:lnTo>
                  <a:lnTo>
                    <a:pt x="539" y="199"/>
                  </a:lnTo>
                  <a:lnTo>
                    <a:pt x="540" y="176"/>
                  </a:lnTo>
                  <a:close/>
                  <a:moveTo>
                    <a:pt x="436" y="520"/>
                  </a:moveTo>
                  <a:lnTo>
                    <a:pt x="399" y="528"/>
                  </a:lnTo>
                  <a:lnTo>
                    <a:pt x="361" y="536"/>
                  </a:lnTo>
                  <a:lnTo>
                    <a:pt x="325" y="544"/>
                  </a:lnTo>
                  <a:lnTo>
                    <a:pt x="290" y="551"/>
                  </a:lnTo>
                  <a:lnTo>
                    <a:pt x="290" y="569"/>
                  </a:lnTo>
                  <a:lnTo>
                    <a:pt x="290" y="588"/>
                  </a:lnTo>
                  <a:lnTo>
                    <a:pt x="290" y="608"/>
                  </a:lnTo>
                  <a:lnTo>
                    <a:pt x="290" y="630"/>
                  </a:lnTo>
                  <a:lnTo>
                    <a:pt x="290" y="652"/>
                  </a:lnTo>
                  <a:lnTo>
                    <a:pt x="290" y="675"/>
                  </a:lnTo>
                  <a:lnTo>
                    <a:pt x="290" y="701"/>
                  </a:lnTo>
                  <a:lnTo>
                    <a:pt x="290" y="726"/>
                  </a:lnTo>
                  <a:lnTo>
                    <a:pt x="325" y="706"/>
                  </a:lnTo>
                  <a:lnTo>
                    <a:pt x="361" y="687"/>
                  </a:lnTo>
                  <a:lnTo>
                    <a:pt x="399" y="669"/>
                  </a:lnTo>
                  <a:lnTo>
                    <a:pt x="436" y="651"/>
                  </a:lnTo>
                  <a:lnTo>
                    <a:pt x="439" y="650"/>
                  </a:lnTo>
                  <a:lnTo>
                    <a:pt x="442" y="650"/>
                  </a:lnTo>
                  <a:lnTo>
                    <a:pt x="446" y="650"/>
                  </a:lnTo>
                  <a:lnTo>
                    <a:pt x="449" y="651"/>
                  </a:lnTo>
                  <a:lnTo>
                    <a:pt x="451" y="653"/>
                  </a:lnTo>
                  <a:lnTo>
                    <a:pt x="455" y="655"/>
                  </a:lnTo>
                  <a:lnTo>
                    <a:pt x="458" y="657"/>
                  </a:lnTo>
                  <a:lnTo>
                    <a:pt x="460" y="661"/>
                  </a:lnTo>
                  <a:lnTo>
                    <a:pt x="462" y="665"/>
                  </a:lnTo>
                  <a:lnTo>
                    <a:pt x="463" y="668"/>
                  </a:lnTo>
                  <a:lnTo>
                    <a:pt x="464" y="672"/>
                  </a:lnTo>
                  <a:lnTo>
                    <a:pt x="464" y="675"/>
                  </a:lnTo>
                  <a:lnTo>
                    <a:pt x="463" y="677"/>
                  </a:lnTo>
                  <a:lnTo>
                    <a:pt x="461" y="680"/>
                  </a:lnTo>
                  <a:lnTo>
                    <a:pt x="459" y="684"/>
                  </a:lnTo>
                  <a:lnTo>
                    <a:pt x="455" y="686"/>
                  </a:lnTo>
                  <a:lnTo>
                    <a:pt x="386" y="733"/>
                  </a:lnTo>
                  <a:lnTo>
                    <a:pt x="323" y="778"/>
                  </a:lnTo>
                  <a:lnTo>
                    <a:pt x="268" y="818"/>
                  </a:lnTo>
                  <a:lnTo>
                    <a:pt x="221" y="853"/>
                  </a:lnTo>
                  <a:lnTo>
                    <a:pt x="178" y="885"/>
                  </a:lnTo>
                  <a:lnTo>
                    <a:pt x="144" y="913"/>
                  </a:lnTo>
                  <a:lnTo>
                    <a:pt x="116" y="937"/>
                  </a:lnTo>
                  <a:lnTo>
                    <a:pt x="96" y="956"/>
                  </a:lnTo>
                  <a:lnTo>
                    <a:pt x="85" y="940"/>
                  </a:lnTo>
                  <a:lnTo>
                    <a:pt x="74" y="925"/>
                  </a:lnTo>
                  <a:lnTo>
                    <a:pt x="63" y="910"/>
                  </a:lnTo>
                  <a:lnTo>
                    <a:pt x="51" y="897"/>
                  </a:lnTo>
                  <a:lnTo>
                    <a:pt x="39" y="883"/>
                  </a:lnTo>
                  <a:lnTo>
                    <a:pt x="27" y="870"/>
                  </a:lnTo>
                  <a:lnTo>
                    <a:pt x="14" y="857"/>
                  </a:lnTo>
                  <a:lnTo>
                    <a:pt x="0" y="846"/>
                  </a:lnTo>
                  <a:lnTo>
                    <a:pt x="22" y="838"/>
                  </a:lnTo>
                  <a:lnTo>
                    <a:pt x="46" y="829"/>
                  </a:lnTo>
                  <a:lnTo>
                    <a:pt x="70" y="819"/>
                  </a:lnTo>
                  <a:lnTo>
                    <a:pt x="97" y="809"/>
                  </a:lnTo>
                  <a:lnTo>
                    <a:pt x="124" y="797"/>
                  </a:lnTo>
                  <a:lnTo>
                    <a:pt x="153" y="784"/>
                  </a:lnTo>
                  <a:lnTo>
                    <a:pt x="183" y="771"/>
                  </a:lnTo>
                  <a:lnTo>
                    <a:pt x="215" y="756"/>
                  </a:lnTo>
                  <a:lnTo>
                    <a:pt x="215" y="737"/>
                  </a:lnTo>
                  <a:lnTo>
                    <a:pt x="216" y="713"/>
                  </a:lnTo>
                  <a:lnTo>
                    <a:pt x="217" y="687"/>
                  </a:lnTo>
                  <a:lnTo>
                    <a:pt x="221" y="656"/>
                  </a:lnTo>
                  <a:lnTo>
                    <a:pt x="221" y="628"/>
                  </a:lnTo>
                  <a:lnTo>
                    <a:pt x="221" y="603"/>
                  </a:lnTo>
                  <a:lnTo>
                    <a:pt x="221" y="583"/>
                  </a:lnTo>
                  <a:lnTo>
                    <a:pt x="221" y="566"/>
                  </a:lnTo>
                  <a:lnTo>
                    <a:pt x="209" y="568"/>
                  </a:lnTo>
                  <a:lnTo>
                    <a:pt x="197" y="571"/>
                  </a:lnTo>
                  <a:lnTo>
                    <a:pt x="185" y="573"/>
                  </a:lnTo>
                  <a:lnTo>
                    <a:pt x="170" y="576"/>
                  </a:lnTo>
                  <a:lnTo>
                    <a:pt x="147" y="580"/>
                  </a:lnTo>
                  <a:lnTo>
                    <a:pt x="132" y="582"/>
                  </a:lnTo>
                  <a:lnTo>
                    <a:pt x="125" y="583"/>
                  </a:lnTo>
                  <a:lnTo>
                    <a:pt x="120" y="583"/>
                  </a:lnTo>
                  <a:lnTo>
                    <a:pt x="117" y="582"/>
                  </a:lnTo>
                  <a:lnTo>
                    <a:pt x="115" y="581"/>
                  </a:lnTo>
                  <a:lnTo>
                    <a:pt x="104" y="575"/>
                  </a:lnTo>
                  <a:lnTo>
                    <a:pt x="90" y="564"/>
                  </a:lnTo>
                  <a:lnTo>
                    <a:pt x="73" y="549"/>
                  </a:lnTo>
                  <a:lnTo>
                    <a:pt x="55" y="531"/>
                  </a:lnTo>
                  <a:lnTo>
                    <a:pt x="72" y="528"/>
                  </a:lnTo>
                  <a:lnTo>
                    <a:pt x="95" y="524"/>
                  </a:lnTo>
                  <a:lnTo>
                    <a:pt x="122" y="517"/>
                  </a:lnTo>
                  <a:lnTo>
                    <a:pt x="155" y="511"/>
                  </a:lnTo>
                  <a:lnTo>
                    <a:pt x="174" y="509"/>
                  </a:lnTo>
                  <a:lnTo>
                    <a:pt x="190" y="506"/>
                  </a:lnTo>
                  <a:lnTo>
                    <a:pt x="204" y="504"/>
                  </a:lnTo>
                  <a:lnTo>
                    <a:pt x="215" y="500"/>
                  </a:lnTo>
                  <a:lnTo>
                    <a:pt x="215" y="475"/>
                  </a:lnTo>
                  <a:lnTo>
                    <a:pt x="214" y="451"/>
                  </a:lnTo>
                  <a:lnTo>
                    <a:pt x="213" y="427"/>
                  </a:lnTo>
                  <a:lnTo>
                    <a:pt x="211" y="405"/>
                  </a:lnTo>
                  <a:lnTo>
                    <a:pt x="209" y="383"/>
                  </a:lnTo>
                  <a:lnTo>
                    <a:pt x="207" y="363"/>
                  </a:lnTo>
                  <a:lnTo>
                    <a:pt x="204" y="343"/>
                  </a:lnTo>
                  <a:lnTo>
                    <a:pt x="200" y="325"/>
                  </a:lnTo>
                  <a:lnTo>
                    <a:pt x="165" y="332"/>
                  </a:lnTo>
                  <a:lnTo>
                    <a:pt x="137" y="337"/>
                  </a:lnTo>
                  <a:lnTo>
                    <a:pt x="113" y="339"/>
                  </a:lnTo>
                  <a:lnTo>
                    <a:pt x="96" y="340"/>
                  </a:lnTo>
                  <a:lnTo>
                    <a:pt x="91" y="339"/>
                  </a:lnTo>
                  <a:lnTo>
                    <a:pt x="87" y="337"/>
                  </a:lnTo>
                  <a:lnTo>
                    <a:pt x="83" y="334"/>
                  </a:lnTo>
                  <a:lnTo>
                    <a:pt x="79" y="330"/>
                  </a:lnTo>
                  <a:lnTo>
                    <a:pt x="70" y="319"/>
                  </a:lnTo>
                  <a:lnTo>
                    <a:pt x="60" y="305"/>
                  </a:lnTo>
                  <a:lnTo>
                    <a:pt x="48" y="293"/>
                  </a:lnTo>
                  <a:lnTo>
                    <a:pt x="40" y="285"/>
                  </a:lnTo>
                  <a:lnTo>
                    <a:pt x="77" y="279"/>
                  </a:lnTo>
                  <a:lnTo>
                    <a:pt x="115" y="271"/>
                  </a:lnTo>
                  <a:lnTo>
                    <a:pt x="156" y="262"/>
                  </a:lnTo>
                  <a:lnTo>
                    <a:pt x="198" y="252"/>
                  </a:lnTo>
                  <a:lnTo>
                    <a:pt x="244" y="241"/>
                  </a:lnTo>
                  <a:lnTo>
                    <a:pt x="293" y="228"/>
                  </a:lnTo>
                  <a:lnTo>
                    <a:pt x="342" y="215"/>
                  </a:lnTo>
                  <a:lnTo>
                    <a:pt x="395" y="200"/>
                  </a:lnTo>
                  <a:lnTo>
                    <a:pt x="407" y="212"/>
                  </a:lnTo>
                  <a:lnTo>
                    <a:pt x="418" y="223"/>
                  </a:lnTo>
                  <a:lnTo>
                    <a:pt x="427" y="232"/>
                  </a:lnTo>
                  <a:lnTo>
                    <a:pt x="436" y="242"/>
                  </a:lnTo>
                  <a:lnTo>
                    <a:pt x="442" y="251"/>
                  </a:lnTo>
                  <a:lnTo>
                    <a:pt x="447" y="260"/>
                  </a:lnTo>
                  <a:lnTo>
                    <a:pt x="451" y="268"/>
                  </a:lnTo>
                  <a:lnTo>
                    <a:pt x="455" y="276"/>
                  </a:lnTo>
                  <a:lnTo>
                    <a:pt x="426" y="282"/>
                  </a:lnTo>
                  <a:lnTo>
                    <a:pt x="397" y="287"/>
                  </a:lnTo>
                  <a:lnTo>
                    <a:pt x="370" y="293"/>
                  </a:lnTo>
                  <a:lnTo>
                    <a:pt x="343" y="298"/>
                  </a:lnTo>
                  <a:lnTo>
                    <a:pt x="319" y="303"/>
                  </a:lnTo>
                  <a:lnTo>
                    <a:pt x="295" y="307"/>
                  </a:lnTo>
                  <a:lnTo>
                    <a:pt x="271" y="312"/>
                  </a:lnTo>
                  <a:lnTo>
                    <a:pt x="250" y="316"/>
                  </a:lnTo>
                  <a:lnTo>
                    <a:pt x="263" y="318"/>
                  </a:lnTo>
                  <a:lnTo>
                    <a:pt x="278" y="319"/>
                  </a:lnTo>
                  <a:lnTo>
                    <a:pt x="294" y="320"/>
                  </a:lnTo>
                  <a:lnTo>
                    <a:pt x="311" y="320"/>
                  </a:lnTo>
                  <a:lnTo>
                    <a:pt x="306" y="332"/>
                  </a:lnTo>
                  <a:lnTo>
                    <a:pt x="303" y="346"/>
                  </a:lnTo>
                  <a:lnTo>
                    <a:pt x="300" y="362"/>
                  </a:lnTo>
                  <a:lnTo>
                    <a:pt x="298" y="381"/>
                  </a:lnTo>
                  <a:lnTo>
                    <a:pt x="296" y="402"/>
                  </a:lnTo>
                  <a:lnTo>
                    <a:pt x="294" y="426"/>
                  </a:lnTo>
                  <a:lnTo>
                    <a:pt x="292" y="452"/>
                  </a:lnTo>
                  <a:lnTo>
                    <a:pt x="290" y="480"/>
                  </a:lnTo>
                  <a:lnTo>
                    <a:pt x="313" y="476"/>
                  </a:lnTo>
                  <a:lnTo>
                    <a:pt x="335" y="470"/>
                  </a:lnTo>
                  <a:lnTo>
                    <a:pt x="357" y="463"/>
                  </a:lnTo>
                  <a:lnTo>
                    <a:pt x="380" y="456"/>
                  </a:lnTo>
                  <a:lnTo>
                    <a:pt x="390" y="463"/>
                  </a:lnTo>
                  <a:lnTo>
                    <a:pt x="399" y="471"/>
                  </a:lnTo>
                  <a:lnTo>
                    <a:pt x="407" y="479"/>
                  </a:lnTo>
                  <a:lnTo>
                    <a:pt x="414" y="488"/>
                  </a:lnTo>
                  <a:lnTo>
                    <a:pt x="421" y="495"/>
                  </a:lnTo>
                  <a:lnTo>
                    <a:pt x="426" y="504"/>
                  </a:lnTo>
                  <a:lnTo>
                    <a:pt x="431" y="512"/>
                  </a:lnTo>
                  <a:lnTo>
                    <a:pt x="436" y="520"/>
                  </a:lnTo>
                  <a:close/>
                </a:path>
              </a:pathLst>
            </a:custGeom>
            <a:solidFill>
              <a:srgbClr val="ffff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00"/>
                </a:solidFill>
                <a:latin typeface="Arial"/>
                <a:ea typeface="宋体"/>
              </a:endParaRPr>
            </a:p>
          </p:txBody>
        </p:sp>
        <p:sp>
          <p:nvSpPr>
            <p:cNvPr id="510" name="Freeform 12"/>
            <p:cNvSpPr/>
            <p:nvPr/>
          </p:nvSpPr>
          <p:spPr>
            <a:xfrm>
              <a:off x="2395080" y="9455040"/>
              <a:ext cx="182880" cy="173880"/>
            </a:xfrm>
            <a:custGeom>
              <a:avLst/>
              <a:gdLst>
                <a:gd name="textAreaLeft" fmla="*/ 0 w 182880"/>
                <a:gd name="textAreaRight" fmla="*/ 183240 w 182880"/>
                <a:gd name="textAreaTop" fmla="*/ 0 h 173880"/>
                <a:gd name="textAreaBottom" fmla="*/ 174240 h 173880"/>
              </a:gdLst>
              <a:ahLst/>
              <a:rect l="textAreaLeft" t="textAreaTop" r="textAreaRight" b="textAreaBottom"/>
              <a:pathLst>
                <a:path w="1146" h="1150">
                  <a:moveTo>
                    <a:pt x="1064" y="535"/>
                  </a:moveTo>
                  <a:lnTo>
                    <a:pt x="1067" y="534"/>
                  </a:lnTo>
                  <a:lnTo>
                    <a:pt x="1071" y="534"/>
                  </a:lnTo>
                  <a:lnTo>
                    <a:pt x="1075" y="534"/>
                  </a:lnTo>
                  <a:lnTo>
                    <a:pt x="1079" y="535"/>
                  </a:lnTo>
                  <a:lnTo>
                    <a:pt x="1086" y="539"/>
                  </a:lnTo>
                  <a:lnTo>
                    <a:pt x="1094" y="544"/>
                  </a:lnTo>
                  <a:lnTo>
                    <a:pt x="1099" y="549"/>
                  </a:lnTo>
                  <a:lnTo>
                    <a:pt x="1105" y="554"/>
                  </a:lnTo>
                  <a:lnTo>
                    <a:pt x="1112" y="561"/>
                  </a:lnTo>
                  <a:lnTo>
                    <a:pt x="1119" y="570"/>
                  </a:lnTo>
                  <a:lnTo>
                    <a:pt x="1125" y="577"/>
                  </a:lnTo>
                  <a:lnTo>
                    <a:pt x="1131" y="584"/>
                  </a:lnTo>
                  <a:lnTo>
                    <a:pt x="1136" y="590"/>
                  </a:lnTo>
                  <a:lnTo>
                    <a:pt x="1139" y="595"/>
                  </a:lnTo>
                  <a:lnTo>
                    <a:pt x="1142" y="599"/>
                  </a:lnTo>
                  <a:lnTo>
                    <a:pt x="1145" y="604"/>
                  </a:lnTo>
                  <a:lnTo>
                    <a:pt x="1146" y="607"/>
                  </a:lnTo>
                  <a:lnTo>
                    <a:pt x="1143" y="610"/>
                  </a:lnTo>
                  <a:lnTo>
                    <a:pt x="1140" y="612"/>
                  </a:lnTo>
                  <a:lnTo>
                    <a:pt x="1135" y="613"/>
                  </a:lnTo>
                  <a:lnTo>
                    <a:pt x="1128" y="614"/>
                  </a:lnTo>
                  <a:lnTo>
                    <a:pt x="1119" y="615"/>
                  </a:lnTo>
                  <a:lnTo>
                    <a:pt x="1104" y="615"/>
                  </a:lnTo>
                  <a:lnTo>
                    <a:pt x="1087" y="615"/>
                  </a:lnTo>
                  <a:lnTo>
                    <a:pt x="1068" y="615"/>
                  </a:lnTo>
                  <a:lnTo>
                    <a:pt x="1045" y="616"/>
                  </a:lnTo>
                  <a:lnTo>
                    <a:pt x="1020" y="616"/>
                  </a:lnTo>
                  <a:lnTo>
                    <a:pt x="990" y="617"/>
                  </a:lnTo>
                  <a:lnTo>
                    <a:pt x="958" y="618"/>
                  </a:lnTo>
                  <a:lnTo>
                    <a:pt x="923" y="620"/>
                  </a:lnTo>
                  <a:lnTo>
                    <a:pt x="907" y="622"/>
                  </a:lnTo>
                  <a:lnTo>
                    <a:pt x="894" y="624"/>
                  </a:lnTo>
                  <a:lnTo>
                    <a:pt x="883" y="625"/>
                  </a:lnTo>
                  <a:lnTo>
                    <a:pt x="873" y="625"/>
                  </a:lnTo>
                  <a:lnTo>
                    <a:pt x="871" y="646"/>
                  </a:lnTo>
                  <a:lnTo>
                    <a:pt x="867" y="673"/>
                  </a:lnTo>
                  <a:lnTo>
                    <a:pt x="864" y="705"/>
                  </a:lnTo>
                  <a:lnTo>
                    <a:pt x="859" y="745"/>
                  </a:lnTo>
                  <a:lnTo>
                    <a:pt x="856" y="766"/>
                  </a:lnTo>
                  <a:lnTo>
                    <a:pt x="853" y="785"/>
                  </a:lnTo>
                  <a:lnTo>
                    <a:pt x="851" y="802"/>
                  </a:lnTo>
                  <a:lnTo>
                    <a:pt x="849" y="816"/>
                  </a:lnTo>
                  <a:lnTo>
                    <a:pt x="863" y="816"/>
                  </a:lnTo>
                  <a:lnTo>
                    <a:pt x="879" y="816"/>
                  </a:lnTo>
                  <a:lnTo>
                    <a:pt x="898" y="816"/>
                  </a:lnTo>
                  <a:lnTo>
                    <a:pt x="919" y="816"/>
                  </a:lnTo>
                  <a:lnTo>
                    <a:pt x="942" y="818"/>
                  </a:lnTo>
                  <a:lnTo>
                    <a:pt x="961" y="819"/>
                  </a:lnTo>
                  <a:lnTo>
                    <a:pt x="977" y="820"/>
                  </a:lnTo>
                  <a:lnTo>
                    <a:pt x="989" y="820"/>
                  </a:lnTo>
                  <a:lnTo>
                    <a:pt x="994" y="820"/>
                  </a:lnTo>
                  <a:lnTo>
                    <a:pt x="1001" y="821"/>
                  </a:lnTo>
                  <a:lnTo>
                    <a:pt x="1005" y="822"/>
                  </a:lnTo>
                  <a:lnTo>
                    <a:pt x="1009" y="824"/>
                  </a:lnTo>
                  <a:lnTo>
                    <a:pt x="1012" y="826"/>
                  </a:lnTo>
                  <a:lnTo>
                    <a:pt x="1015" y="828"/>
                  </a:lnTo>
                  <a:lnTo>
                    <a:pt x="1017" y="831"/>
                  </a:lnTo>
                  <a:lnTo>
                    <a:pt x="1019" y="835"/>
                  </a:lnTo>
                  <a:lnTo>
                    <a:pt x="1030" y="852"/>
                  </a:lnTo>
                  <a:lnTo>
                    <a:pt x="1040" y="868"/>
                  </a:lnTo>
                  <a:lnTo>
                    <a:pt x="1048" y="882"/>
                  </a:lnTo>
                  <a:lnTo>
                    <a:pt x="1053" y="895"/>
                  </a:lnTo>
                  <a:lnTo>
                    <a:pt x="1056" y="902"/>
                  </a:lnTo>
                  <a:lnTo>
                    <a:pt x="1057" y="908"/>
                  </a:lnTo>
                  <a:lnTo>
                    <a:pt x="1056" y="912"/>
                  </a:lnTo>
                  <a:lnTo>
                    <a:pt x="1053" y="915"/>
                  </a:lnTo>
                  <a:lnTo>
                    <a:pt x="1050" y="917"/>
                  </a:lnTo>
                  <a:lnTo>
                    <a:pt x="1046" y="917"/>
                  </a:lnTo>
                  <a:lnTo>
                    <a:pt x="1041" y="917"/>
                  </a:lnTo>
                  <a:lnTo>
                    <a:pt x="1033" y="915"/>
                  </a:lnTo>
                  <a:lnTo>
                    <a:pt x="1011" y="911"/>
                  </a:lnTo>
                  <a:lnTo>
                    <a:pt x="988" y="906"/>
                  </a:lnTo>
                  <a:lnTo>
                    <a:pt x="964" y="902"/>
                  </a:lnTo>
                  <a:lnTo>
                    <a:pt x="940" y="899"/>
                  </a:lnTo>
                  <a:lnTo>
                    <a:pt x="916" y="896"/>
                  </a:lnTo>
                  <a:lnTo>
                    <a:pt x="890" y="894"/>
                  </a:lnTo>
                  <a:lnTo>
                    <a:pt x="865" y="892"/>
                  </a:lnTo>
                  <a:lnTo>
                    <a:pt x="838" y="890"/>
                  </a:lnTo>
                  <a:lnTo>
                    <a:pt x="836" y="898"/>
                  </a:lnTo>
                  <a:lnTo>
                    <a:pt x="835" y="908"/>
                  </a:lnTo>
                  <a:lnTo>
                    <a:pt x="834" y="918"/>
                  </a:lnTo>
                  <a:lnTo>
                    <a:pt x="833" y="930"/>
                  </a:lnTo>
                  <a:lnTo>
                    <a:pt x="831" y="940"/>
                  </a:lnTo>
                  <a:lnTo>
                    <a:pt x="830" y="949"/>
                  </a:lnTo>
                  <a:lnTo>
                    <a:pt x="829" y="958"/>
                  </a:lnTo>
                  <a:lnTo>
                    <a:pt x="829" y="965"/>
                  </a:lnTo>
                  <a:lnTo>
                    <a:pt x="824" y="1002"/>
                  </a:lnTo>
                  <a:lnTo>
                    <a:pt x="817" y="1035"/>
                  </a:lnTo>
                  <a:lnTo>
                    <a:pt x="812" y="1064"/>
                  </a:lnTo>
                  <a:lnTo>
                    <a:pt x="805" y="1089"/>
                  </a:lnTo>
                  <a:lnTo>
                    <a:pt x="798" y="1110"/>
                  </a:lnTo>
                  <a:lnTo>
                    <a:pt x="790" y="1127"/>
                  </a:lnTo>
                  <a:lnTo>
                    <a:pt x="787" y="1135"/>
                  </a:lnTo>
                  <a:lnTo>
                    <a:pt x="782" y="1141"/>
                  </a:lnTo>
                  <a:lnTo>
                    <a:pt x="778" y="1146"/>
                  </a:lnTo>
                  <a:lnTo>
                    <a:pt x="774" y="1150"/>
                  </a:lnTo>
                  <a:lnTo>
                    <a:pt x="765" y="1147"/>
                  </a:lnTo>
                  <a:lnTo>
                    <a:pt x="757" y="1144"/>
                  </a:lnTo>
                  <a:lnTo>
                    <a:pt x="747" y="1139"/>
                  </a:lnTo>
                  <a:lnTo>
                    <a:pt x="738" y="1134"/>
                  </a:lnTo>
                  <a:lnTo>
                    <a:pt x="717" y="1121"/>
                  </a:lnTo>
                  <a:lnTo>
                    <a:pt x="694" y="1104"/>
                  </a:lnTo>
                  <a:lnTo>
                    <a:pt x="671" y="1085"/>
                  </a:lnTo>
                  <a:lnTo>
                    <a:pt x="646" y="1061"/>
                  </a:lnTo>
                  <a:lnTo>
                    <a:pt x="618" y="1035"/>
                  </a:lnTo>
                  <a:lnTo>
                    <a:pt x="588" y="1005"/>
                  </a:lnTo>
                  <a:lnTo>
                    <a:pt x="582" y="999"/>
                  </a:lnTo>
                  <a:lnTo>
                    <a:pt x="579" y="993"/>
                  </a:lnTo>
                  <a:lnTo>
                    <a:pt x="578" y="990"/>
                  </a:lnTo>
                  <a:lnTo>
                    <a:pt x="577" y="988"/>
                  </a:lnTo>
                  <a:lnTo>
                    <a:pt x="578" y="986"/>
                  </a:lnTo>
                  <a:lnTo>
                    <a:pt x="579" y="985"/>
                  </a:lnTo>
                  <a:lnTo>
                    <a:pt x="579" y="983"/>
                  </a:lnTo>
                  <a:lnTo>
                    <a:pt x="580" y="981"/>
                  </a:lnTo>
                  <a:lnTo>
                    <a:pt x="581" y="980"/>
                  </a:lnTo>
                  <a:lnTo>
                    <a:pt x="583" y="979"/>
                  </a:lnTo>
                  <a:lnTo>
                    <a:pt x="590" y="979"/>
                  </a:lnTo>
                  <a:lnTo>
                    <a:pt x="599" y="980"/>
                  </a:lnTo>
                  <a:lnTo>
                    <a:pt x="626" y="986"/>
                  </a:lnTo>
                  <a:lnTo>
                    <a:pt x="649" y="990"/>
                  </a:lnTo>
                  <a:lnTo>
                    <a:pt x="669" y="993"/>
                  </a:lnTo>
                  <a:lnTo>
                    <a:pt x="686" y="993"/>
                  </a:lnTo>
                  <a:lnTo>
                    <a:pt x="693" y="992"/>
                  </a:lnTo>
                  <a:lnTo>
                    <a:pt x="700" y="990"/>
                  </a:lnTo>
                  <a:lnTo>
                    <a:pt x="705" y="988"/>
                  </a:lnTo>
                  <a:lnTo>
                    <a:pt x="709" y="986"/>
                  </a:lnTo>
                  <a:lnTo>
                    <a:pt x="712" y="983"/>
                  </a:lnTo>
                  <a:lnTo>
                    <a:pt x="716" y="979"/>
                  </a:lnTo>
                  <a:lnTo>
                    <a:pt x="718" y="975"/>
                  </a:lnTo>
                  <a:lnTo>
                    <a:pt x="719" y="970"/>
                  </a:lnTo>
                  <a:lnTo>
                    <a:pt x="723" y="953"/>
                  </a:lnTo>
                  <a:lnTo>
                    <a:pt x="727" y="934"/>
                  </a:lnTo>
                  <a:lnTo>
                    <a:pt x="730" y="911"/>
                  </a:lnTo>
                  <a:lnTo>
                    <a:pt x="734" y="886"/>
                  </a:lnTo>
                  <a:lnTo>
                    <a:pt x="674" y="886"/>
                  </a:lnTo>
                  <a:lnTo>
                    <a:pt x="617" y="888"/>
                  </a:lnTo>
                  <a:lnTo>
                    <a:pt x="562" y="891"/>
                  </a:lnTo>
                  <a:lnTo>
                    <a:pt x="511" y="895"/>
                  </a:lnTo>
                  <a:lnTo>
                    <a:pt x="462" y="900"/>
                  </a:lnTo>
                  <a:lnTo>
                    <a:pt x="417" y="908"/>
                  </a:lnTo>
                  <a:lnTo>
                    <a:pt x="373" y="916"/>
                  </a:lnTo>
                  <a:lnTo>
                    <a:pt x="333" y="925"/>
                  </a:lnTo>
                  <a:lnTo>
                    <a:pt x="333" y="913"/>
                  </a:lnTo>
                  <a:lnTo>
                    <a:pt x="331" y="900"/>
                  </a:lnTo>
                  <a:lnTo>
                    <a:pt x="329" y="889"/>
                  </a:lnTo>
                  <a:lnTo>
                    <a:pt x="325" y="876"/>
                  </a:lnTo>
                  <a:lnTo>
                    <a:pt x="319" y="864"/>
                  </a:lnTo>
                  <a:lnTo>
                    <a:pt x="314" y="853"/>
                  </a:lnTo>
                  <a:lnTo>
                    <a:pt x="307" y="841"/>
                  </a:lnTo>
                  <a:lnTo>
                    <a:pt x="298" y="830"/>
                  </a:lnTo>
                  <a:lnTo>
                    <a:pt x="310" y="820"/>
                  </a:lnTo>
                  <a:lnTo>
                    <a:pt x="322" y="807"/>
                  </a:lnTo>
                  <a:lnTo>
                    <a:pt x="333" y="791"/>
                  </a:lnTo>
                  <a:lnTo>
                    <a:pt x="346" y="772"/>
                  </a:lnTo>
                  <a:lnTo>
                    <a:pt x="359" y="751"/>
                  </a:lnTo>
                  <a:lnTo>
                    <a:pt x="371" y="727"/>
                  </a:lnTo>
                  <a:lnTo>
                    <a:pt x="385" y="700"/>
                  </a:lnTo>
                  <a:lnTo>
                    <a:pt x="399" y="670"/>
                  </a:lnTo>
                  <a:lnTo>
                    <a:pt x="384" y="675"/>
                  </a:lnTo>
                  <a:lnTo>
                    <a:pt x="368" y="678"/>
                  </a:lnTo>
                  <a:lnTo>
                    <a:pt x="353" y="679"/>
                  </a:lnTo>
                  <a:lnTo>
                    <a:pt x="339" y="680"/>
                  </a:lnTo>
                  <a:lnTo>
                    <a:pt x="331" y="680"/>
                  </a:lnTo>
                  <a:lnTo>
                    <a:pt x="324" y="679"/>
                  </a:lnTo>
                  <a:lnTo>
                    <a:pt x="316" y="677"/>
                  </a:lnTo>
                  <a:lnTo>
                    <a:pt x="309" y="675"/>
                  </a:lnTo>
                  <a:lnTo>
                    <a:pt x="294" y="662"/>
                  </a:lnTo>
                  <a:lnTo>
                    <a:pt x="281" y="649"/>
                  </a:lnTo>
                  <a:lnTo>
                    <a:pt x="270" y="634"/>
                  </a:lnTo>
                  <a:lnTo>
                    <a:pt x="258" y="620"/>
                  </a:lnTo>
                  <a:lnTo>
                    <a:pt x="277" y="620"/>
                  </a:lnTo>
                  <a:lnTo>
                    <a:pt x="296" y="620"/>
                  </a:lnTo>
                  <a:lnTo>
                    <a:pt x="316" y="618"/>
                  </a:lnTo>
                  <a:lnTo>
                    <a:pt x="336" y="617"/>
                  </a:lnTo>
                  <a:lnTo>
                    <a:pt x="357" y="616"/>
                  </a:lnTo>
                  <a:lnTo>
                    <a:pt x="377" y="614"/>
                  </a:lnTo>
                  <a:lnTo>
                    <a:pt x="398" y="612"/>
                  </a:lnTo>
                  <a:lnTo>
                    <a:pt x="419" y="610"/>
                  </a:lnTo>
                  <a:lnTo>
                    <a:pt x="429" y="574"/>
                  </a:lnTo>
                  <a:lnTo>
                    <a:pt x="438" y="540"/>
                  </a:lnTo>
                  <a:lnTo>
                    <a:pt x="445" y="506"/>
                  </a:lnTo>
                  <a:lnTo>
                    <a:pt x="451" y="473"/>
                  </a:lnTo>
                  <a:lnTo>
                    <a:pt x="455" y="443"/>
                  </a:lnTo>
                  <a:lnTo>
                    <a:pt x="458" y="412"/>
                  </a:lnTo>
                  <a:lnTo>
                    <a:pt x="459" y="383"/>
                  </a:lnTo>
                  <a:lnTo>
                    <a:pt x="458" y="355"/>
                  </a:lnTo>
                  <a:lnTo>
                    <a:pt x="544" y="395"/>
                  </a:lnTo>
                  <a:lnTo>
                    <a:pt x="580" y="391"/>
                  </a:lnTo>
                  <a:lnTo>
                    <a:pt x="615" y="385"/>
                  </a:lnTo>
                  <a:lnTo>
                    <a:pt x="647" y="379"/>
                  </a:lnTo>
                  <a:lnTo>
                    <a:pt x="677" y="371"/>
                  </a:lnTo>
                  <a:lnTo>
                    <a:pt x="706" y="362"/>
                  </a:lnTo>
                  <a:lnTo>
                    <a:pt x="733" y="352"/>
                  </a:lnTo>
                  <a:lnTo>
                    <a:pt x="757" y="342"/>
                  </a:lnTo>
                  <a:lnTo>
                    <a:pt x="779" y="329"/>
                  </a:lnTo>
                  <a:lnTo>
                    <a:pt x="781" y="330"/>
                  </a:lnTo>
                  <a:lnTo>
                    <a:pt x="783" y="331"/>
                  </a:lnTo>
                  <a:lnTo>
                    <a:pt x="787" y="332"/>
                  </a:lnTo>
                  <a:lnTo>
                    <a:pt x="789" y="334"/>
                  </a:lnTo>
                  <a:lnTo>
                    <a:pt x="813" y="346"/>
                  </a:lnTo>
                  <a:lnTo>
                    <a:pt x="835" y="357"/>
                  </a:lnTo>
                  <a:lnTo>
                    <a:pt x="856" y="366"/>
                  </a:lnTo>
                  <a:lnTo>
                    <a:pt x="877" y="374"/>
                  </a:lnTo>
                  <a:lnTo>
                    <a:pt x="895" y="380"/>
                  </a:lnTo>
                  <a:lnTo>
                    <a:pt x="910" y="384"/>
                  </a:lnTo>
                  <a:lnTo>
                    <a:pt x="925" y="387"/>
                  </a:lnTo>
                  <a:lnTo>
                    <a:pt x="939" y="390"/>
                  </a:lnTo>
                  <a:lnTo>
                    <a:pt x="932" y="403"/>
                  </a:lnTo>
                  <a:lnTo>
                    <a:pt x="924" y="418"/>
                  </a:lnTo>
                  <a:lnTo>
                    <a:pt x="918" y="436"/>
                  </a:lnTo>
                  <a:lnTo>
                    <a:pt x="912" y="455"/>
                  </a:lnTo>
                  <a:lnTo>
                    <a:pt x="905" y="475"/>
                  </a:lnTo>
                  <a:lnTo>
                    <a:pt x="899" y="499"/>
                  </a:lnTo>
                  <a:lnTo>
                    <a:pt x="894" y="523"/>
                  </a:lnTo>
                  <a:lnTo>
                    <a:pt x="888" y="550"/>
                  </a:lnTo>
                  <a:lnTo>
                    <a:pt x="910" y="547"/>
                  </a:lnTo>
                  <a:lnTo>
                    <a:pt x="932" y="545"/>
                  </a:lnTo>
                  <a:lnTo>
                    <a:pt x="953" y="543"/>
                  </a:lnTo>
                  <a:lnTo>
                    <a:pt x="975" y="541"/>
                  </a:lnTo>
                  <a:lnTo>
                    <a:pt x="997" y="539"/>
                  </a:lnTo>
                  <a:lnTo>
                    <a:pt x="1020" y="538"/>
                  </a:lnTo>
                  <a:lnTo>
                    <a:pt x="1042" y="536"/>
                  </a:lnTo>
                  <a:lnTo>
                    <a:pt x="1064" y="535"/>
                  </a:lnTo>
                  <a:close/>
                  <a:moveTo>
                    <a:pt x="544" y="0"/>
                  </a:moveTo>
                  <a:lnTo>
                    <a:pt x="559" y="9"/>
                  </a:lnTo>
                  <a:lnTo>
                    <a:pt x="574" y="19"/>
                  </a:lnTo>
                  <a:lnTo>
                    <a:pt x="588" y="27"/>
                  </a:lnTo>
                  <a:lnTo>
                    <a:pt x="603" y="35"/>
                  </a:lnTo>
                  <a:lnTo>
                    <a:pt x="618" y="42"/>
                  </a:lnTo>
                  <a:lnTo>
                    <a:pt x="634" y="48"/>
                  </a:lnTo>
                  <a:lnTo>
                    <a:pt x="649" y="55"/>
                  </a:lnTo>
                  <a:lnTo>
                    <a:pt x="664" y="60"/>
                  </a:lnTo>
                  <a:lnTo>
                    <a:pt x="655" y="66"/>
                  </a:lnTo>
                  <a:lnTo>
                    <a:pt x="646" y="74"/>
                  </a:lnTo>
                  <a:lnTo>
                    <a:pt x="637" y="82"/>
                  </a:lnTo>
                  <a:lnTo>
                    <a:pt x="629" y="92"/>
                  </a:lnTo>
                  <a:lnTo>
                    <a:pt x="620" y="102"/>
                  </a:lnTo>
                  <a:lnTo>
                    <a:pt x="611" y="114"/>
                  </a:lnTo>
                  <a:lnTo>
                    <a:pt x="602" y="127"/>
                  </a:lnTo>
                  <a:lnTo>
                    <a:pt x="594" y="139"/>
                  </a:lnTo>
                  <a:lnTo>
                    <a:pt x="587" y="152"/>
                  </a:lnTo>
                  <a:lnTo>
                    <a:pt x="579" y="169"/>
                  </a:lnTo>
                  <a:lnTo>
                    <a:pt x="572" y="184"/>
                  </a:lnTo>
                  <a:lnTo>
                    <a:pt x="565" y="196"/>
                  </a:lnTo>
                  <a:lnTo>
                    <a:pt x="559" y="206"/>
                  </a:lnTo>
                  <a:lnTo>
                    <a:pt x="554" y="215"/>
                  </a:lnTo>
                  <a:lnTo>
                    <a:pt x="577" y="208"/>
                  </a:lnTo>
                  <a:lnTo>
                    <a:pt x="604" y="201"/>
                  </a:lnTo>
                  <a:lnTo>
                    <a:pt x="639" y="191"/>
                  </a:lnTo>
                  <a:lnTo>
                    <a:pt x="679" y="180"/>
                  </a:lnTo>
                  <a:lnTo>
                    <a:pt x="708" y="172"/>
                  </a:lnTo>
                  <a:lnTo>
                    <a:pt x="736" y="166"/>
                  </a:lnTo>
                  <a:lnTo>
                    <a:pt x="761" y="160"/>
                  </a:lnTo>
                  <a:lnTo>
                    <a:pt x="787" y="153"/>
                  </a:lnTo>
                  <a:lnTo>
                    <a:pt x="809" y="148"/>
                  </a:lnTo>
                  <a:lnTo>
                    <a:pt x="831" y="143"/>
                  </a:lnTo>
                  <a:lnTo>
                    <a:pt x="850" y="138"/>
                  </a:lnTo>
                  <a:lnTo>
                    <a:pt x="868" y="134"/>
                  </a:lnTo>
                  <a:lnTo>
                    <a:pt x="876" y="133"/>
                  </a:lnTo>
                  <a:lnTo>
                    <a:pt x="882" y="133"/>
                  </a:lnTo>
                  <a:lnTo>
                    <a:pt x="888" y="135"/>
                  </a:lnTo>
                  <a:lnTo>
                    <a:pt x="894" y="139"/>
                  </a:lnTo>
                  <a:lnTo>
                    <a:pt x="895" y="137"/>
                  </a:lnTo>
                  <a:lnTo>
                    <a:pt x="897" y="137"/>
                  </a:lnTo>
                  <a:lnTo>
                    <a:pt x="899" y="139"/>
                  </a:lnTo>
                  <a:lnTo>
                    <a:pt x="913" y="151"/>
                  </a:lnTo>
                  <a:lnTo>
                    <a:pt x="923" y="162"/>
                  </a:lnTo>
                  <a:lnTo>
                    <a:pt x="933" y="171"/>
                  </a:lnTo>
                  <a:lnTo>
                    <a:pt x="939" y="180"/>
                  </a:lnTo>
                  <a:lnTo>
                    <a:pt x="942" y="183"/>
                  </a:lnTo>
                  <a:lnTo>
                    <a:pt x="944" y="186"/>
                  </a:lnTo>
                  <a:lnTo>
                    <a:pt x="945" y="189"/>
                  </a:lnTo>
                  <a:lnTo>
                    <a:pt x="945" y="192"/>
                  </a:lnTo>
                  <a:lnTo>
                    <a:pt x="943" y="195"/>
                  </a:lnTo>
                  <a:lnTo>
                    <a:pt x="941" y="197"/>
                  </a:lnTo>
                  <a:lnTo>
                    <a:pt x="938" y="198"/>
                  </a:lnTo>
                  <a:lnTo>
                    <a:pt x="934" y="200"/>
                  </a:lnTo>
                  <a:lnTo>
                    <a:pt x="871" y="212"/>
                  </a:lnTo>
                  <a:lnTo>
                    <a:pt x="815" y="222"/>
                  </a:lnTo>
                  <a:lnTo>
                    <a:pt x="765" y="232"/>
                  </a:lnTo>
                  <a:lnTo>
                    <a:pt x="721" y="239"/>
                  </a:lnTo>
                  <a:lnTo>
                    <a:pt x="683" y="247"/>
                  </a:lnTo>
                  <a:lnTo>
                    <a:pt x="651" y="252"/>
                  </a:lnTo>
                  <a:lnTo>
                    <a:pt x="624" y="256"/>
                  </a:lnTo>
                  <a:lnTo>
                    <a:pt x="603" y="259"/>
                  </a:lnTo>
                  <a:lnTo>
                    <a:pt x="593" y="256"/>
                  </a:lnTo>
                  <a:lnTo>
                    <a:pt x="580" y="251"/>
                  </a:lnTo>
                  <a:lnTo>
                    <a:pt x="565" y="243"/>
                  </a:lnTo>
                  <a:lnTo>
                    <a:pt x="548" y="235"/>
                  </a:lnTo>
                  <a:lnTo>
                    <a:pt x="545" y="231"/>
                  </a:lnTo>
                  <a:lnTo>
                    <a:pt x="544" y="230"/>
                  </a:lnTo>
                  <a:lnTo>
                    <a:pt x="538" y="238"/>
                  </a:lnTo>
                  <a:lnTo>
                    <a:pt x="531" y="249"/>
                  </a:lnTo>
                  <a:lnTo>
                    <a:pt x="523" y="260"/>
                  </a:lnTo>
                  <a:lnTo>
                    <a:pt x="513" y="275"/>
                  </a:lnTo>
                  <a:lnTo>
                    <a:pt x="497" y="302"/>
                  </a:lnTo>
                  <a:lnTo>
                    <a:pt x="484" y="324"/>
                  </a:lnTo>
                  <a:lnTo>
                    <a:pt x="472" y="340"/>
                  </a:lnTo>
                  <a:lnTo>
                    <a:pt x="463" y="349"/>
                  </a:lnTo>
                  <a:lnTo>
                    <a:pt x="456" y="359"/>
                  </a:lnTo>
                  <a:lnTo>
                    <a:pt x="448" y="367"/>
                  </a:lnTo>
                  <a:lnTo>
                    <a:pt x="440" y="375"/>
                  </a:lnTo>
                  <a:lnTo>
                    <a:pt x="431" y="381"/>
                  </a:lnTo>
                  <a:lnTo>
                    <a:pt x="422" y="386"/>
                  </a:lnTo>
                  <a:lnTo>
                    <a:pt x="413" y="391"/>
                  </a:lnTo>
                  <a:lnTo>
                    <a:pt x="403" y="394"/>
                  </a:lnTo>
                  <a:lnTo>
                    <a:pt x="394" y="396"/>
                  </a:lnTo>
                  <a:lnTo>
                    <a:pt x="383" y="397"/>
                  </a:lnTo>
                  <a:lnTo>
                    <a:pt x="373" y="397"/>
                  </a:lnTo>
                  <a:lnTo>
                    <a:pt x="362" y="396"/>
                  </a:lnTo>
                  <a:lnTo>
                    <a:pt x="351" y="394"/>
                  </a:lnTo>
                  <a:lnTo>
                    <a:pt x="340" y="391"/>
                  </a:lnTo>
                  <a:lnTo>
                    <a:pt x="328" y="386"/>
                  </a:lnTo>
                  <a:lnTo>
                    <a:pt x="316" y="381"/>
                  </a:lnTo>
                  <a:lnTo>
                    <a:pt x="304" y="375"/>
                  </a:lnTo>
                  <a:lnTo>
                    <a:pt x="327" y="357"/>
                  </a:lnTo>
                  <a:lnTo>
                    <a:pt x="350" y="339"/>
                  </a:lnTo>
                  <a:lnTo>
                    <a:pt x="371" y="319"/>
                  </a:lnTo>
                  <a:lnTo>
                    <a:pt x="391" y="298"/>
                  </a:lnTo>
                  <a:lnTo>
                    <a:pt x="411" y="278"/>
                  </a:lnTo>
                  <a:lnTo>
                    <a:pt x="429" y="256"/>
                  </a:lnTo>
                  <a:lnTo>
                    <a:pt x="445" y="234"/>
                  </a:lnTo>
                  <a:lnTo>
                    <a:pt x="461" y="210"/>
                  </a:lnTo>
                  <a:lnTo>
                    <a:pt x="475" y="187"/>
                  </a:lnTo>
                  <a:lnTo>
                    <a:pt x="489" y="163"/>
                  </a:lnTo>
                  <a:lnTo>
                    <a:pt x="501" y="137"/>
                  </a:lnTo>
                  <a:lnTo>
                    <a:pt x="511" y="111"/>
                  </a:lnTo>
                  <a:lnTo>
                    <a:pt x="522" y="84"/>
                  </a:lnTo>
                  <a:lnTo>
                    <a:pt x="530" y="57"/>
                  </a:lnTo>
                  <a:lnTo>
                    <a:pt x="538" y="28"/>
                  </a:lnTo>
                  <a:lnTo>
                    <a:pt x="544" y="0"/>
                  </a:lnTo>
                  <a:close/>
                  <a:moveTo>
                    <a:pt x="399" y="835"/>
                  </a:moveTo>
                  <a:lnTo>
                    <a:pt x="413" y="835"/>
                  </a:lnTo>
                  <a:lnTo>
                    <a:pt x="432" y="834"/>
                  </a:lnTo>
                  <a:lnTo>
                    <a:pt x="456" y="833"/>
                  </a:lnTo>
                  <a:lnTo>
                    <a:pt x="484" y="830"/>
                  </a:lnTo>
                  <a:lnTo>
                    <a:pt x="525" y="827"/>
                  </a:lnTo>
                  <a:lnTo>
                    <a:pt x="564" y="826"/>
                  </a:lnTo>
                  <a:lnTo>
                    <a:pt x="600" y="824"/>
                  </a:lnTo>
                  <a:lnTo>
                    <a:pt x="635" y="823"/>
                  </a:lnTo>
                  <a:lnTo>
                    <a:pt x="667" y="822"/>
                  </a:lnTo>
                  <a:lnTo>
                    <a:pt x="697" y="821"/>
                  </a:lnTo>
                  <a:lnTo>
                    <a:pt x="724" y="820"/>
                  </a:lnTo>
                  <a:lnTo>
                    <a:pt x="748" y="820"/>
                  </a:lnTo>
                  <a:lnTo>
                    <a:pt x="753" y="798"/>
                  </a:lnTo>
                  <a:lnTo>
                    <a:pt x="756" y="774"/>
                  </a:lnTo>
                  <a:lnTo>
                    <a:pt x="759" y="751"/>
                  </a:lnTo>
                  <a:lnTo>
                    <a:pt x="762" y="728"/>
                  </a:lnTo>
                  <a:lnTo>
                    <a:pt x="765" y="703"/>
                  </a:lnTo>
                  <a:lnTo>
                    <a:pt x="769" y="679"/>
                  </a:lnTo>
                  <a:lnTo>
                    <a:pt x="771" y="655"/>
                  </a:lnTo>
                  <a:lnTo>
                    <a:pt x="774" y="630"/>
                  </a:lnTo>
                  <a:lnTo>
                    <a:pt x="734" y="633"/>
                  </a:lnTo>
                  <a:lnTo>
                    <a:pt x="694" y="638"/>
                  </a:lnTo>
                  <a:lnTo>
                    <a:pt x="655" y="641"/>
                  </a:lnTo>
                  <a:lnTo>
                    <a:pt x="617" y="645"/>
                  </a:lnTo>
                  <a:lnTo>
                    <a:pt x="579" y="648"/>
                  </a:lnTo>
                  <a:lnTo>
                    <a:pt x="542" y="652"/>
                  </a:lnTo>
                  <a:lnTo>
                    <a:pt x="505" y="657"/>
                  </a:lnTo>
                  <a:lnTo>
                    <a:pt x="469" y="660"/>
                  </a:lnTo>
                  <a:lnTo>
                    <a:pt x="461" y="680"/>
                  </a:lnTo>
                  <a:lnTo>
                    <a:pt x="455" y="701"/>
                  </a:lnTo>
                  <a:lnTo>
                    <a:pt x="447" y="722"/>
                  </a:lnTo>
                  <a:lnTo>
                    <a:pt x="438" y="744"/>
                  </a:lnTo>
                  <a:lnTo>
                    <a:pt x="430" y="766"/>
                  </a:lnTo>
                  <a:lnTo>
                    <a:pt x="420" y="788"/>
                  </a:lnTo>
                  <a:lnTo>
                    <a:pt x="409" y="811"/>
                  </a:lnTo>
                  <a:lnTo>
                    <a:pt x="399" y="835"/>
                  </a:lnTo>
                  <a:close/>
                  <a:moveTo>
                    <a:pt x="544" y="425"/>
                  </a:moveTo>
                  <a:lnTo>
                    <a:pt x="541" y="437"/>
                  </a:lnTo>
                  <a:lnTo>
                    <a:pt x="537" y="452"/>
                  </a:lnTo>
                  <a:lnTo>
                    <a:pt x="532" y="470"/>
                  </a:lnTo>
                  <a:lnTo>
                    <a:pt x="526" y="491"/>
                  </a:lnTo>
                  <a:lnTo>
                    <a:pt x="520" y="515"/>
                  </a:lnTo>
                  <a:lnTo>
                    <a:pt x="512" y="540"/>
                  </a:lnTo>
                  <a:lnTo>
                    <a:pt x="503" y="569"/>
                  </a:lnTo>
                  <a:lnTo>
                    <a:pt x="493" y="599"/>
                  </a:lnTo>
                  <a:lnTo>
                    <a:pt x="516" y="597"/>
                  </a:lnTo>
                  <a:lnTo>
                    <a:pt x="544" y="594"/>
                  </a:lnTo>
                  <a:lnTo>
                    <a:pt x="576" y="590"/>
                  </a:lnTo>
                  <a:lnTo>
                    <a:pt x="614" y="585"/>
                  </a:lnTo>
                  <a:lnTo>
                    <a:pt x="641" y="581"/>
                  </a:lnTo>
                  <a:lnTo>
                    <a:pt x="668" y="578"/>
                  </a:lnTo>
                  <a:lnTo>
                    <a:pt x="691" y="575"/>
                  </a:lnTo>
                  <a:lnTo>
                    <a:pt x="713" y="573"/>
                  </a:lnTo>
                  <a:lnTo>
                    <a:pt x="734" y="570"/>
                  </a:lnTo>
                  <a:lnTo>
                    <a:pt x="753" y="568"/>
                  </a:lnTo>
                  <a:lnTo>
                    <a:pt x="769" y="567"/>
                  </a:lnTo>
                  <a:lnTo>
                    <a:pt x="783" y="564"/>
                  </a:lnTo>
                  <a:lnTo>
                    <a:pt x="789" y="521"/>
                  </a:lnTo>
                  <a:lnTo>
                    <a:pt x="793" y="481"/>
                  </a:lnTo>
                  <a:lnTo>
                    <a:pt x="796" y="444"/>
                  </a:lnTo>
                  <a:lnTo>
                    <a:pt x="798" y="410"/>
                  </a:lnTo>
                  <a:lnTo>
                    <a:pt x="798" y="407"/>
                  </a:lnTo>
                  <a:lnTo>
                    <a:pt x="798" y="403"/>
                  </a:lnTo>
                  <a:lnTo>
                    <a:pt x="796" y="401"/>
                  </a:lnTo>
                  <a:lnTo>
                    <a:pt x="795" y="400"/>
                  </a:lnTo>
                  <a:lnTo>
                    <a:pt x="793" y="399"/>
                  </a:lnTo>
                  <a:lnTo>
                    <a:pt x="790" y="398"/>
                  </a:lnTo>
                  <a:lnTo>
                    <a:pt x="788" y="399"/>
                  </a:lnTo>
                  <a:lnTo>
                    <a:pt x="783" y="400"/>
                  </a:lnTo>
                  <a:lnTo>
                    <a:pt x="764" y="401"/>
                  </a:lnTo>
                  <a:lnTo>
                    <a:pt x="743" y="404"/>
                  </a:lnTo>
                  <a:lnTo>
                    <a:pt x="720" y="409"/>
                  </a:lnTo>
                  <a:lnTo>
                    <a:pt x="694" y="414"/>
                  </a:lnTo>
                  <a:lnTo>
                    <a:pt x="668" y="419"/>
                  </a:lnTo>
                  <a:lnTo>
                    <a:pt x="640" y="427"/>
                  </a:lnTo>
                  <a:lnTo>
                    <a:pt x="611" y="435"/>
                  </a:lnTo>
                  <a:lnTo>
                    <a:pt x="579" y="445"/>
                  </a:lnTo>
                  <a:lnTo>
                    <a:pt x="573" y="442"/>
                  </a:lnTo>
                  <a:lnTo>
                    <a:pt x="565" y="437"/>
                  </a:lnTo>
                  <a:lnTo>
                    <a:pt x="556" y="432"/>
                  </a:lnTo>
                  <a:lnTo>
                    <a:pt x="544" y="425"/>
                  </a:lnTo>
                  <a:close/>
                  <a:moveTo>
                    <a:pt x="228" y="580"/>
                  </a:moveTo>
                  <a:lnTo>
                    <a:pt x="240" y="562"/>
                  </a:lnTo>
                  <a:lnTo>
                    <a:pt x="250" y="551"/>
                  </a:lnTo>
                  <a:lnTo>
                    <a:pt x="254" y="547"/>
                  </a:lnTo>
                  <a:lnTo>
                    <a:pt x="258" y="545"/>
                  </a:lnTo>
                  <a:lnTo>
                    <a:pt x="261" y="544"/>
                  </a:lnTo>
                  <a:lnTo>
                    <a:pt x="263" y="544"/>
                  </a:lnTo>
                  <a:lnTo>
                    <a:pt x="265" y="546"/>
                  </a:lnTo>
                  <a:lnTo>
                    <a:pt x="266" y="550"/>
                  </a:lnTo>
                  <a:lnTo>
                    <a:pt x="268" y="554"/>
                  </a:lnTo>
                  <a:lnTo>
                    <a:pt x="268" y="560"/>
                  </a:lnTo>
                  <a:lnTo>
                    <a:pt x="264" y="575"/>
                  </a:lnTo>
                  <a:lnTo>
                    <a:pt x="258" y="595"/>
                  </a:lnTo>
                  <a:lnTo>
                    <a:pt x="253" y="612"/>
                  </a:lnTo>
                  <a:lnTo>
                    <a:pt x="244" y="635"/>
                  </a:lnTo>
                  <a:lnTo>
                    <a:pt x="235" y="663"/>
                  </a:lnTo>
                  <a:lnTo>
                    <a:pt x="223" y="695"/>
                  </a:lnTo>
                  <a:lnTo>
                    <a:pt x="207" y="747"/>
                  </a:lnTo>
                  <a:lnTo>
                    <a:pt x="192" y="795"/>
                  </a:lnTo>
                  <a:lnTo>
                    <a:pt x="178" y="842"/>
                  </a:lnTo>
                  <a:lnTo>
                    <a:pt x="164" y="883"/>
                  </a:lnTo>
                  <a:lnTo>
                    <a:pt x="150" y="923"/>
                  </a:lnTo>
                  <a:lnTo>
                    <a:pt x="137" y="959"/>
                  </a:lnTo>
                  <a:lnTo>
                    <a:pt x="125" y="992"/>
                  </a:lnTo>
                  <a:lnTo>
                    <a:pt x="113" y="1020"/>
                  </a:lnTo>
                  <a:lnTo>
                    <a:pt x="101" y="1010"/>
                  </a:lnTo>
                  <a:lnTo>
                    <a:pt x="89" y="998"/>
                  </a:lnTo>
                  <a:lnTo>
                    <a:pt x="75" y="984"/>
                  </a:lnTo>
                  <a:lnTo>
                    <a:pt x="62" y="970"/>
                  </a:lnTo>
                  <a:lnTo>
                    <a:pt x="49" y="954"/>
                  </a:lnTo>
                  <a:lnTo>
                    <a:pt x="36" y="937"/>
                  </a:lnTo>
                  <a:lnTo>
                    <a:pt x="22" y="919"/>
                  </a:lnTo>
                  <a:lnTo>
                    <a:pt x="8" y="900"/>
                  </a:lnTo>
                  <a:lnTo>
                    <a:pt x="5" y="896"/>
                  </a:lnTo>
                  <a:lnTo>
                    <a:pt x="3" y="893"/>
                  </a:lnTo>
                  <a:lnTo>
                    <a:pt x="1" y="890"/>
                  </a:lnTo>
                  <a:lnTo>
                    <a:pt x="0" y="887"/>
                  </a:lnTo>
                  <a:lnTo>
                    <a:pt x="0" y="883"/>
                  </a:lnTo>
                  <a:lnTo>
                    <a:pt x="0" y="880"/>
                  </a:lnTo>
                  <a:lnTo>
                    <a:pt x="2" y="878"/>
                  </a:lnTo>
                  <a:lnTo>
                    <a:pt x="4" y="875"/>
                  </a:lnTo>
                  <a:lnTo>
                    <a:pt x="6" y="873"/>
                  </a:lnTo>
                  <a:lnTo>
                    <a:pt x="9" y="872"/>
                  </a:lnTo>
                  <a:lnTo>
                    <a:pt x="12" y="871"/>
                  </a:lnTo>
                  <a:lnTo>
                    <a:pt x="15" y="870"/>
                  </a:lnTo>
                  <a:lnTo>
                    <a:pt x="24" y="872"/>
                  </a:lnTo>
                  <a:lnTo>
                    <a:pt x="33" y="875"/>
                  </a:lnTo>
                  <a:lnTo>
                    <a:pt x="37" y="878"/>
                  </a:lnTo>
                  <a:lnTo>
                    <a:pt x="41" y="880"/>
                  </a:lnTo>
                  <a:lnTo>
                    <a:pt x="45" y="881"/>
                  </a:lnTo>
                  <a:lnTo>
                    <a:pt x="48" y="881"/>
                  </a:lnTo>
                  <a:lnTo>
                    <a:pt x="53" y="880"/>
                  </a:lnTo>
                  <a:lnTo>
                    <a:pt x="56" y="878"/>
                  </a:lnTo>
                  <a:lnTo>
                    <a:pt x="60" y="875"/>
                  </a:lnTo>
                  <a:lnTo>
                    <a:pt x="63" y="871"/>
                  </a:lnTo>
                  <a:lnTo>
                    <a:pt x="80" y="843"/>
                  </a:lnTo>
                  <a:lnTo>
                    <a:pt x="98" y="812"/>
                  </a:lnTo>
                  <a:lnTo>
                    <a:pt x="117" y="781"/>
                  </a:lnTo>
                  <a:lnTo>
                    <a:pt x="137" y="745"/>
                  </a:lnTo>
                  <a:lnTo>
                    <a:pt x="158" y="708"/>
                  </a:lnTo>
                  <a:lnTo>
                    <a:pt x="181" y="667"/>
                  </a:lnTo>
                  <a:lnTo>
                    <a:pt x="204" y="625"/>
                  </a:lnTo>
                  <a:lnTo>
                    <a:pt x="228" y="580"/>
                  </a:lnTo>
                  <a:close/>
                  <a:moveTo>
                    <a:pt x="43" y="355"/>
                  </a:moveTo>
                  <a:lnTo>
                    <a:pt x="100" y="382"/>
                  </a:lnTo>
                  <a:lnTo>
                    <a:pt x="143" y="403"/>
                  </a:lnTo>
                  <a:lnTo>
                    <a:pt x="157" y="412"/>
                  </a:lnTo>
                  <a:lnTo>
                    <a:pt x="168" y="419"/>
                  </a:lnTo>
                  <a:lnTo>
                    <a:pt x="175" y="426"/>
                  </a:lnTo>
                  <a:lnTo>
                    <a:pt x="179" y="430"/>
                  </a:lnTo>
                  <a:lnTo>
                    <a:pt x="181" y="438"/>
                  </a:lnTo>
                  <a:lnTo>
                    <a:pt x="182" y="448"/>
                  </a:lnTo>
                  <a:lnTo>
                    <a:pt x="181" y="457"/>
                  </a:lnTo>
                  <a:lnTo>
                    <a:pt x="180" y="467"/>
                  </a:lnTo>
                  <a:lnTo>
                    <a:pt x="178" y="478"/>
                  </a:lnTo>
                  <a:lnTo>
                    <a:pt x="173" y="488"/>
                  </a:lnTo>
                  <a:lnTo>
                    <a:pt x="169" y="499"/>
                  </a:lnTo>
                  <a:lnTo>
                    <a:pt x="164" y="509"/>
                  </a:lnTo>
                  <a:lnTo>
                    <a:pt x="158" y="521"/>
                  </a:lnTo>
                  <a:lnTo>
                    <a:pt x="153" y="528"/>
                  </a:lnTo>
                  <a:lnTo>
                    <a:pt x="151" y="532"/>
                  </a:lnTo>
                  <a:lnTo>
                    <a:pt x="149" y="534"/>
                  </a:lnTo>
                  <a:lnTo>
                    <a:pt x="146" y="535"/>
                  </a:lnTo>
                  <a:lnTo>
                    <a:pt x="144" y="535"/>
                  </a:lnTo>
                  <a:lnTo>
                    <a:pt x="140" y="534"/>
                  </a:lnTo>
                  <a:lnTo>
                    <a:pt x="136" y="532"/>
                  </a:lnTo>
                  <a:lnTo>
                    <a:pt x="130" y="526"/>
                  </a:lnTo>
                  <a:lnTo>
                    <a:pt x="123" y="520"/>
                  </a:lnTo>
                  <a:lnTo>
                    <a:pt x="112" y="507"/>
                  </a:lnTo>
                  <a:lnTo>
                    <a:pt x="100" y="492"/>
                  </a:lnTo>
                  <a:lnTo>
                    <a:pt x="89" y="476"/>
                  </a:lnTo>
                  <a:lnTo>
                    <a:pt x="76" y="460"/>
                  </a:lnTo>
                  <a:lnTo>
                    <a:pt x="50" y="422"/>
                  </a:lnTo>
                  <a:lnTo>
                    <a:pt x="24" y="380"/>
                  </a:lnTo>
                  <a:lnTo>
                    <a:pt x="18" y="371"/>
                  </a:lnTo>
                  <a:lnTo>
                    <a:pt x="13" y="363"/>
                  </a:lnTo>
                  <a:lnTo>
                    <a:pt x="12" y="361"/>
                  </a:lnTo>
                  <a:lnTo>
                    <a:pt x="12" y="358"/>
                  </a:lnTo>
                  <a:lnTo>
                    <a:pt x="12" y="357"/>
                  </a:lnTo>
                  <a:lnTo>
                    <a:pt x="13" y="355"/>
                  </a:lnTo>
                  <a:lnTo>
                    <a:pt x="15" y="352"/>
                  </a:lnTo>
                  <a:lnTo>
                    <a:pt x="18" y="351"/>
                  </a:lnTo>
                  <a:lnTo>
                    <a:pt x="20" y="350"/>
                  </a:lnTo>
                  <a:lnTo>
                    <a:pt x="23" y="349"/>
                  </a:lnTo>
                  <a:lnTo>
                    <a:pt x="32" y="351"/>
                  </a:lnTo>
                  <a:lnTo>
                    <a:pt x="43" y="355"/>
                  </a:lnTo>
                  <a:close/>
                  <a:moveTo>
                    <a:pt x="164" y="134"/>
                  </a:moveTo>
                  <a:lnTo>
                    <a:pt x="185" y="139"/>
                  </a:lnTo>
                  <a:lnTo>
                    <a:pt x="206" y="145"/>
                  </a:lnTo>
                  <a:lnTo>
                    <a:pt x="225" y="151"/>
                  </a:lnTo>
                  <a:lnTo>
                    <a:pt x="243" y="158"/>
                  </a:lnTo>
                  <a:lnTo>
                    <a:pt x="260" y="164"/>
                  </a:lnTo>
                  <a:lnTo>
                    <a:pt x="276" y="170"/>
                  </a:lnTo>
                  <a:lnTo>
                    <a:pt x="291" y="178"/>
                  </a:lnTo>
                  <a:lnTo>
                    <a:pt x="304" y="185"/>
                  </a:lnTo>
                  <a:lnTo>
                    <a:pt x="306" y="191"/>
                  </a:lnTo>
                  <a:lnTo>
                    <a:pt x="307" y="199"/>
                  </a:lnTo>
                  <a:lnTo>
                    <a:pt x="308" y="208"/>
                  </a:lnTo>
                  <a:lnTo>
                    <a:pt x="307" y="218"/>
                  </a:lnTo>
                  <a:lnTo>
                    <a:pt x="306" y="230"/>
                  </a:lnTo>
                  <a:lnTo>
                    <a:pt x="305" y="242"/>
                  </a:lnTo>
                  <a:lnTo>
                    <a:pt x="301" y="255"/>
                  </a:lnTo>
                  <a:lnTo>
                    <a:pt x="298" y="270"/>
                  </a:lnTo>
                  <a:lnTo>
                    <a:pt x="296" y="278"/>
                  </a:lnTo>
                  <a:lnTo>
                    <a:pt x="292" y="286"/>
                  </a:lnTo>
                  <a:lnTo>
                    <a:pt x="289" y="291"/>
                  </a:lnTo>
                  <a:lnTo>
                    <a:pt x="283" y="294"/>
                  </a:lnTo>
                  <a:lnTo>
                    <a:pt x="278" y="293"/>
                  </a:lnTo>
                  <a:lnTo>
                    <a:pt x="271" y="291"/>
                  </a:lnTo>
                  <a:lnTo>
                    <a:pt x="263" y="286"/>
                  </a:lnTo>
                  <a:lnTo>
                    <a:pt x="254" y="279"/>
                  </a:lnTo>
                  <a:lnTo>
                    <a:pt x="244" y="271"/>
                  </a:lnTo>
                  <a:lnTo>
                    <a:pt x="235" y="261"/>
                  </a:lnTo>
                  <a:lnTo>
                    <a:pt x="224" y="250"/>
                  </a:lnTo>
                  <a:lnTo>
                    <a:pt x="212" y="237"/>
                  </a:lnTo>
                  <a:lnTo>
                    <a:pt x="187" y="206"/>
                  </a:lnTo>
                  <a:lnTo>
                    <a:pt x="158" y="169"/>
                  </a:lnTo>
                  <a:lnTo>
                    <a:pt x="153" y="161"/>
                  </a:lnTo>
                  <a:lnTo>
                    <a:pt x="148" y="154"/>
                  </a:lnTo>
                  <a:lnTo>
                    <a:pt x="142" y="138"/>
                  </a:lnTo>
                  <a:lnTo>
                    <a:pt x="138" y="130"/>
                  </a:lnTo>
                  <a:lnTo>
                    <a:pt x="140" y="129"/>
                  </a:lnTo>
                  <a:lnTo>
                    <a:pt x="142" y="128"/>
                  </a:lnTo>
                  <a:lnTo>
                    <a:pt x="145" y="128"/>
                  </a:lnTo>
                  <a:lnTo>
                    <a:pt x="147" y="128"/>
                  </a:lnTo>
                  <a:lnTo>
                    <a:pt x="154" y="130"/>
                  </a:lnTo>
                  <a:lnTo>
                    <a:pt x="164" y="134"/>
                  </a:lnTo>
                  <a:close/>
                  <a:moveTo>
                    <a:pt x="559" y="675"/>
                  </a:moveTo>
                  <a:lnTo>
                    <a:pt x="591" y="687"/>
                  </a:lnTo>
                  <a:lnTo>
                    <a:pt x="618" y="699"/>
                  </a:lnTo>
                  <a:lnTo>
                    <a:pt x="641" y="710"/>
                  </a:lnTo>
                  <a:lnTo>
                    <a:pt x="658" y="720"/>
                  </a:lnTo>
                  <a:lnTo>
                    <a:pt x="659" y="723"/>
                  </a:lnTo>
                  <a:lnTo>
                    <a:pt x="659" y="729"/>
                  </a:lnTo>
                  <a:lnTo>
                    <a:pt x="659" y="735"/>
                  </a:lnTo>
                  <a:lnTo>
                    <a:pt x="658" y="742"/>
                  </a:lnTo>
                  <a:lnTo>
                    <a:pt x="655" y="764"/>
                  </a:lnTo>
                  <a:lnTo>
                    <a:pt x="649" y="790"/>
                  </a:lnTo>
                  <a:lnTo>
                    <a:pt x="646" y="797"/>
                  </a:lnTo>
                  <a:lnTo>
                    <a:pt x="644" y="803"/>
                  </a:lnTo>
                  <a:lnTo>
                    <a:pt x="641" y="807"/>
                  </a:lnTo>
                  <a:lnTo>
                    <a:pt x="638" y="810"/>
                  </a:lnTo>
                  <a:lnTo>
                    <a:pt x="634" y="809"/>
                  </a:lnTo>
                  <a:lnTo>
                    <a:pt x="629" y="807"/>
                  </a:lnTo>
                  <a:lnTo>
                    <a:pt x="623" y="805"/>
                  </a:lnTo>
                  <a:lnTo>
                    <a:pt x="619" y="800"/>
                  </a:lnTo>
                  <a:lnTo>
                    <a:pt x="609" y="788"/>
                  </a:lnTo>
                  <a:lnTo>
                    <a:pt x="599" y="776"/>
                  </a:lnTo>
                  <a:lnTo>
                    <a:pt x="590" y="763"/>
                  </a:lnTo>
                  <a:lnTo>
                    <a:pt x="580" y="749"/>
                  </a:lnTo>
                  <a:lnTo>
                    <a:pt x="570" y="734"/>
                  </a:lnTo>
                  <a:lnTo>
                    <a:pt x="561" y="718"/>
                  </a:lnTo>
                  <a:lnTo>
                    <a:pt x="552" y="702"/>
                  </a:lnTo>
                  <a:lnTo>
                    <a:pt x="544" y="685"/>
                  </a:lnTo>
                  <a:lnTo>
                    <a:pt x="542" y="681"/>
                  </a:lnTo>
                  <a:lnTo>
                    <a:pt x="541" y="678"/>
                  </a:lnTo>
                  <a:lnTo>
                    <a:pt x="542" y="676"/>
                  </a:lnTo>
                  <a:lnTo>
                    <a:pt x="544" y="675"/>
                  </a:lnTo>
                  <a:lnTo>
                    <a:pt x="544" y="674"/>
                  </a:lnTo>
                  <a:lnTo>
                    <a:pt x="547" y="673"/>
                  </a:lnTo>
                  <a:lnTo>
                    <a:pt x="552" y="674"/>
                  </a:lnTo>
                  <a:lnTo>
                    <a:pt x="559" y="675"/>
                  </a:lnTo>
                  <a:close/>
                  <a:moveTo>
                    <a:pt x="603" y="454"/>
                  </a:moveTo>
                  <a:lnTo>
                    <a:pt x="639" y="467"/>
                  </a:lnTo>
                  <a:lnTo>
                    <a:pt x="665" y="478"/>
                  </a:lnTo>
                  <a:lnTo>
                    <a:pt x="674" y="482"/>
                  </a:lnTo>
                  <a:lnTo>
                    <a:pt x="682" y="487"/>
                  </a:lnTo>
                  <a:lnTo>
                    <a:pt x="686" y="491"/>
                  </a:lnTo>
                  <a:lnTo>
                    <a:pt x="689" y="495"/>
                  </a:lnTo>
                  <a:lnTo>
                    <a:pt x="689" y="497"/>
                  </a:lnTo>
                  <a:lnTo>
                    <a:pt x="690" y="500"/>
                  </a:lnTo>
                  <a:lnTo>
                    <a:pt x="689" y="504"/>
                  </a:lnTo>
                  <a:lnTo>
                    <a:pt x="689" y="510"/>
                  </a:lnTo>
                  <a:lnTo>
                    <a:pt x="685" y="525"/>
                  </a:lnTo>
                  <a:lnTo>
                    <a:pt x="679" y="544"/>
                  </a:lnTo>
                  <a:lnTo>
                    <a:pt x="679" y="550"/>
                  </a:lnTo>
                  <a:lnTo>
                    <a:pt x="679" y="555"/>
                  </a:lnTo>
                  <a:lnTo>
                    <a:pt x="676" y="561"/>
                  </a:lnTo>
                  <a:lnTo>
                    <a:pt x="673" y="567"/>
                  </a:lnTo>
                  <a:lnTo>
                    <a:pt x="671" y="569"/>
                  </a:lnTo>
                  <a:lnTo>
                    <a:pt x="669" y="570"/>
                  </a:lnTo>
                  <a:lnTo>
                    <a:pt x="666" y="572"/>
                  </a:lnTo>
                  <a:lnTo>
                    <a:pt x="663" y="571"/>
                  </a:lnTo>
                  <a:lnTo>
                    <a:pt x="658" y="569"/>
                  </a:lnTo>
                  <a:lnTo>
                    <a:pt x="654" y="564"/>
                  </a:lnTo>
                  <a:lnTo>
                    <a:pt x="636" y="540"/>
                  </a:lnTo>
                  <a:lnTo>
                    <a:pt x="620" y="515"/>
                  </a:lnTo>
                  <a:lnTo>
                    <a:pt x="604" y="490"/>
                  </a:lnTo>
                  <a:lnTo>
                    <a:pt x="588" y="465"/>
                  </a:lnTo>
                  <a:lnTo>
                    <a:pt x="586" y="461"/>
                  </a:lnTo>
                  <a:lnTo>
                    <a:pt x="586" y="457"/>
                  </a:lnTo>
                  <a:lnTo>
                    <a:pt x="586" y="455"/>
                  </a:lnTo>
                  <a:lnTo>
                    <a:pt x="588" y="454"/>
                  </a:lnTo>
                  <a:lnTo>
                    <a:pt x="590" y="453"/>
                  </a:lnTo>
                  <a:lnTo>
                    <a:pt x="593" y="452"/>
                  </a:lnTo>
                  <a:lnTo>
                    <a:pt x="597" y="453"/>
                  </a:lnTo>
                  <a:lnTo>
                    <a:pt x="603" y="454"/>
                  </a:lnTo>
                  <a:close/>
                </a:path>
              </a:pathLst>
            </a:custGeom>
            <a:solidFill>
              <a:srgbClr val="ffff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00"/>
                </a:solidFill>
                <a:latin typeface="Arial"/>
                <a:ea typeface="宋体"/>
              </a:endParaRPr>
            </a:p>
          </p:txBody>
        </p:sp>
        <p:sp>
          <p:nvSpPr>
            <p:cNvPr id="511" name="Freeform 13"/>
            <p:cNvSpPr/>
            <p:nvPr/>
          </p:nvSpPr>
          <p:spPr>
            <a:xfrm>
              <a:off x="2577240" y="9452880"/>
              <a:ext cx="198720" cy="166680"/>
            </a:xfrm>
            <a:custGeom>
              <a:avLst/>
              <a:gdLst>
                <a:gd name="textAreaLeft" fmla="*/ 0 w 198720"/>
                <a:gd name="textAreaRight" fmla="*/ 199080 w 198720"/>
                <a:gd name="textAreaTop" fmla="*/ 0 h 166680"/>
                <a:gd name="textAreaBottom" fmla="*/ 167040 h 166680"/>
              </a:gdLst>
              <a:ahLst/>
              <a:rect l="textAreaLeft" t="textAreaTop" r="textAreaRight" b="textAreaBottom"/>
              <a:pathLst>
                <a:path w="1246" h="1097">
                  <a:moveTo>
                    <a:pt x="796" y="610"/>
                  </a:moveTo>
                  <a:lnTo>
                    <a:pt x="800" y="608"/>
                  </a:lnTo>
                  <a:lnTo>
                    <a:pt x="804" y="607"/>
                  </a:lnTo>
                  <a:lnTo>
                    <a:pt x="808" y="607"/>
                  </a:lnTo>
                  <a:lnTo>
                    <a:pt x="813" y="609"/>
                  </a:lnTo>
                  <a:lnTo>
                    <a:pt x="817" y="611"/>
                  </a:lnTo>
                  <a:lnTo>
                    <a:pt x="821" y="614"/>
                  </a:lnTo>
                  <a:lnTo>
                    <a:pt x="826" y="620"/>
                  </a:lnTo>
                  <a:lnTo>
                    <a:pt x="831" y="625"/>
                  </a:lnTo>
                  <a:lnTo>
                    <a:pt x="839" y="631"/>
                  </a:lnTo>
                  <a:lnTo>
                    <a:pt x="846" y="639"/>
                  </a:lnTo>
                  <a:lnTo>
                    <a:pt x="854" y="648"/>
                  </a:lnTo>
                  <a:lnTo>
                    <a:pt x="861" y="660"/>
                  </a:lnTo>
                  <a:lnTo>
                    <a:pt x="863" y="662"/>
                  </a:lnTo>
                  <a:lnTo>
                    <a:pt x="864" y="665"/>
                  </a:lnTo>
                  <a:lnTo>
                    <a:pt x="866" y="667"/>
                  </a:lnTo>
                  <a:lnTo>
                    <a:pt x="866" y="670"/>
                  </a:lnTo>
                  <a:lnTo>
                    <a:pt x="868" y="675"/>
                  </a:lnTo>
                  <a:lnTo>
                    <a:pt x="869" y="678"/>
                  </a:lnTo>
                  <a:lnTo>
                    <a:pt x="868" y="679"/>
                  </a:lnTo>
                  <a:lnTo>
                    <a:pt x="866" y="680"/>
                  </a:lnTo>
                  <a:lnTo>
                    <a:pt x="866" y="682"/>
                  </a:lnTo>
                  <a:lnTo>
                    <a:pt x="863" y="683"/>
                  </a:lnTo>
                  <a:lnTo>
                    <a:pt x="860" y="684"/>
                  </a:lnTo>
                  <a:lnTo>
                    <a:pt x="856" y="685"/>
                  </a:lnTo>
                  <a:lnTo>
                    <a:pt x="840" y="686"/>
                  </a:lnTo>
                  <a:lnTo>
                    <a:pt x="822" y="689"/>
                  </a:lnTo>
                  <a:lnTo>
                    <a:pt x="801" y="690"/>
                  </a:lnTo>
                  <a:lnTo>
                    <a:pt x="779" y="693"/>
                  </a:lnTo>
                  <a:lnTo>
                    <a:pt x="753" y="695"/>
                  </a:lnTo>
                  <a:lnTo>
                    <a:pt x="727" y="698"/>
                  </a:lnTo>
                  <a:lnTo>
                    <a:pt x="697" y="701"/>
                  </a:lnTo>
                  <a:lnTo>
                    <a:pt x="666" y="704"/>
                  </a:lnTo>
                  <a:lnTo>
                    <a:pt x="649" y="708"/>
                  </a:lnTo>
                  <a:lnTo>
                    <a:pt x="635" y="709"/>
                  </a:lnTo>
                  <a:lnTo>
                    <a:pt x="622" y="710"/>
                  </a:lnTo>
                  <a:lnTo>
                    <a:pt x="611" y="710"/>
                  </a:lnTo>
                  <a:lnTo>
                    <a:pt x="611" y="739"/>
                  </a:lnTo>
                  <a:lnTo>
                    <a:pt x="611" y="770"/>
                  </a:lnTo>
                  <a:lnTo>
                    <a:pt x="611" y="802"/>
                  </a:lnTo>
                  <a:lnTo>
                    <a:pt x="611" y="835"/>
                  </a:lnTo>
                  <a:lnTo>
                    <a:pt x="611" y="870"/>
                  </a:lnTo>
                  <a:lnTo>
                    <a:pt x="611" y="905"/>
                  </a:lnTo>
                  <a:lnTo>
                    <a:pt x="611" y="942"/>
                  </a:lnTo>
                  <a:lnTo>
                    <a:pt x="611" y="980"/>
                  </a:lnTo>
                  <a:lnTo>
                    <a:pt x="674" y="973"/>
                  </a:lnTo>
                  <a:lnTo>
                    <a:pt x="731" y="966"/>
                  </a:lnTo>
                  <a:lnTo>
                    <a:pt x="784" y="961"/>
                  </a:lnTo>
                  <a:lnTo>
                    <a:pt x="833" y="956"/>
                  </a:lnTo>
                  <a:lnTo>
                    <a:pt x="875" y="950"/>
                  </a:lnTo>
                  <a:lnTo>
                    <a:pt x="914" y="946"/>
                  </a:lnTo>
                  <a:lnTo>
                    <a:pt x="947" y="943"/>
                  </a:lnTo>
                  <a:lnTo>
                    <a:pt x="976" y="940"/>
                  </a:lnTo>
                  <a:lnTo>
                    <a:pt x="983" y="941"/>
                  </a:lnTo>
                  <a:lnTo>
                    <a:pt x="989" y="941"/>
                  </a:lnTo>
                  <a:lnTo>
                    <a:pt x="996" y="942"/>
                  </a:lnTo>
                  <a:lnTo>
                    <a:pt x="1001" y="944"/>
                  </a:lnTo>
                  <a:lnTo>
                    <a:pt x="1005" y="946"/>
                  </a:lnTo>
                  <a:lnTo>
                    <a:pt x="1010" y="948"/>
                  </a:lnTo>
                  <a:lnTo>
                    <a:pt x="1013" y="951"/>
                  </a:lnTo>
                  <a:lnTo>
                    <a:pt x="1016" y="956"/>
                  </a:lnTo>
                  <a:lnTo>
                    <a:pt x="1028" y="967"/>
                  </a:lnTo>
                  <a:lnTo>
                    <a:pt x="1041" y="985"/>
                  </a:lnTo>
                  <a:lnTo>
                    <a:pt x="1048" y="997"/>
                  </a:lnTo>
                  <a:lnTo>
                    <a:pt x="1053" y="1007"/>
                  </a:lnTo>
                  <a:lnTo>
                    <a:pt x="1058" y="1014"/>
                  </a:lnTo>
                  <a:lnTo>
                    <a:pt x="1062" y="1020"/>
                  </a:lnTo>
                  <a:lnTo>
                    <a:pt x="1063" y="1025"/>
                  </a:lnTo>
                  <a:lnTo>
                    <a:pt x="1064" y="1029"/>
                  </a:lnTo>
                  <a:lnTo>
                    <a:pt x="1063" y="1032"/>
                  </a:lnTo>
                  <a:lnTo>
                    <a:pt x="1062" y="1035"/>
                  </a:lnTo>
                  <a:lnTo>
                    <a:pt x="1060" y="1037"/>
                  </a:lnTo>
                  <a:lnTo>
                    <a:pt x="1057" y="1037"/>
                  </a:lnTo>
                  <a:lnTo>
                    <a:pt x="1053" y="1037"/>
                  </a:lnTo>
                  <a:lnTo>
                    <a:pt x="1047" y="1035"/>
                  </a:lnTo>
                  <a:lnTo>
                    <a:pt x="1002" y="1034"/>
                  </a:lnTo>
                  <a:lnTo>
                    <a:pt x="957" y="1034"/>
                  </a:lnTo>
                  <a:lnTo>
                    <a:pt x="911" y="1034"/>
                  </a:lnTo>
                  <a:lnTo>
                    <a:pt x="864" y="1035"/>
                  </a:lnTo>
                  <a:lnTo>
                    <a:pt x="818" y="1037"/>
                  </a:lnTo>
                  <a:lnTo>
                    <a:pt x="769" y="1039"/>
                  </a:lnTo>
                  <a:lnTo>
                    <a:pt x="720" y="1041"/>
                  </a:lnTo>
                  <a:lnTo>
                    <a:pt x="671" y="1046"/>
                  </a:lnTo>
                  <a:lnTo>
                    <a:pt x="621" y="1049"/>
                  </a:lnTo>
                  <a:lnTo>
                    <a:pt x="569" y="1054"/>
                  </a:lnTo>
                  <a:lnTo>
                    <a:pt x="517" y="1059"/>
                  </a:lnTo>
                  <a:lnTo>
                    <a:pt x="465" y="1065"/>
                  </a:lnTo>
                  <a:lnTo>
                    <a:pt x="411" y="1072"/>
                  </a:lnTo>
                  <a:lnTo>
                    <a:pt x="357" y="1079"/>
                  </a:lnTo>
                  <a:lnTo>
                    <a:pt x="302" y="1087"/>
                  </a:lnTo>
                  <a:lnTo>
                    <a:pt x="246" y="1096"/>
                  </a:lnTo>
                  <a:lnTo>
                    <a:pt x="240" y="1097"/>
                  </a:lnTo>
                  <a:lnTo>
                    <a:pt x="234" y="1097"/>
                  </a:lnTo>
                  <a:lnTo>
                    <a:pt x="229" y="1097"/>
                  </a:lnTo>
                  <a:lnTo>
                    <a:pt x="224" y="1096"/>
                  </a:lnTo>
                  <a:lnTo>
                    <a:pt x="218" y="1093"/>
                  </a:lnTo>
                  <a:lnTo>
                    <a:pt x="214" y="1091"/>
                  </a:lnTo>
                  <a:lnTo>
                    <a:pt x="210" y="1089"/>
                  </a:lnTo>
                  <a:lnTo>
                    <a:pt x="206" y="1085"/>
                  </a:lnTo>
                  <a:lnTo>
                    <a:pt x="197" y="1075"/>
                  </a:lnTo>
                  <a:lnTo>
                    <a:pt x="181" y="1055"/>
                  </a:lnTo>
                  <a:lnTo>
                    <a:pt x="172" y="1044"/>
                  </a:lnTo>
                  <a:lnTo>
                    <a:pt x="163" y="1035"/>
                  </a:lnTo>
                  <a:lnTo>
                    <a:pt x="157" y="1029"/>
                  </a:lnTo>
                  <a:lnTo>
                    <a:pt x="151" y="1026"/>
                  </a:lnTo>
                  <a:lnTo>
                    <a:pt x="187" y="1025"/>
                  </a:lnTo>
                  <a:lnTo>
                    <a:pt x="225" y="1023"/>
                  </a:lnTo>
                  <a:lnTo>
                    <a:pt x="267" y="1020"/>
                  </a:lnTo>
                  <a:lnTo>
                    <a:pt x="314" y="1016"/>
                  </a:lnTo>
                  <a:lnTo>
                    <a:pt x="362" y="1012"/>
                  </a:lnTo>
                  <a:lnTo>
                    <a:pt x="415" y="1005"/>
                  </a:lnTo>
                  <a:lnTo>
                    <a:pt x="472" y="998"/>
                  </a:lnTo>
                  <a:lnTo>
                    <a:pt x="531" y="991"/>
                  </a:lnTo>
                  <a:lnTo>
                    <a:pt x="531" y="973"/>
                  </a:lnTo>
                  <a:lnTo>
                    <a:pt x="531" y="954"/>
                  </a:lnTo>
                  <a:lnTo>
                    <a:pt x="532" y="932"/>
                  </a:lnTo>
                  <a:lnTo>
                    <a:pt x="532" y="911"/>
                  </a:lnTo>
                  <a:lnTo>
                    <a:pt x="533" y="889"/>
                  </a:lnTo>
                  <a:lnTo>
                    <a:pt x="534" y="866"/>
                  </a:lnTo>
                  <a:lnTo>
                    <a:pt x="535" y="841"/>
                  </a:lnTo>
                  <a:lnTo>
                    <a:pt x="536" y="815"/>
                  </a:lnTo>
                  <a:lnTo>
                    <a:pt x="536" y="785"/>
                  </a:lnTo>
                  <a:lnTo>
                    <a:pt x="536" y="760"/>
                  </a:lnTo>
                  <a:lnTo>
                    <a:pt x="536" y="741"/>
                  </a:lnTo>
                  <a:lnTo>
                    <a:pt x="536" y="725"/>
                  </a:lnTo>
                  <a:lnTo>
                    <a:pt x="496" y="733"/>
                  </a:lnTo>
                  <a:lnTo>
                    <a:pt x="457" y="741"/>
                  </a:lnTo>
                  <a:lnTo>
                    <a:pt x="419" y="748"/>
                  </a:lnTo>
                  <a:lnTo>
                    <a:pt x="382" y="755"/>
                  </a:lnTo>
                  <a:lnTo>
                    <a:pt x="373" y="754"/>
                  </a:lnTo>
                  <a:lnTo>
                    <a:pt x="363" y="751"/>
                  </a:lnTo>
                  <a:lnTo>
                    <a:pt x="353" y="747"/>
                  </a:lnTo>
                  <a:lnTo>
                    <a:pt x="341" y="741"/>
                  </a:lnTo>
                  <a:lnTo>
                    <a:pt x="334" y="736"/>
                  </a:lnTo>
                  <a:lnTo>
                    <a:pt x="326" y="732"/>
                  </a:lnTo>
                  <a:lnTo>
                    <a:pt x="320" y="727"/>
                  </a:lnTo>
                  <a:lnTo>
                    <a:pt x="314" y="721"/>
                  </a:lnTo>
                  <a:lnTo>
                    <a:pt x="307" y="715"/>
                  </a:lnTo>
                  <a:lnTo>
                    <a:pt x="301" y="709"/>
                  </a:lnTo>
                  <a:lnTo>
                    <a:pt x="296" y="702"/>
                  </a:lnTo>
                  <a:lnTo>
                    <a:pt x="290" y="695"/>
                  </a:lnTo>
                  <a:lnTo>
                    <a:pt x="317" y="693"/>
                  </a:lnTo>
                  <a:lnTo>
                    <a:pt x="343" y="691"/>
                  </a:lnTo>
                  <a:lnTo>
                    <a:pt x="372" y="686"/>
                  </a:lnTo>
                  <a:lnTo>
                    <a:pt x="401" y="682"/>
                  </a:lnTo>
                  <a:lnTo>
                    <a:pt x="431" y="677"/>
                  </a:lnTo>
                  <a:lnTo>
                    <a:pt x="463" y="671"/>
                  </a:lnTo>
                  <a:lnTo>
                    <a:pt x="497" y="663"/>
                  </a:lnTo>
                  <a:lnTo>
                    <a:pt x="531" y="655"/>
                  </a:lnTo>
                  <a:lnTo>
                    <a:pt x="530" y="622"/>
                  </a:lnTo>
                  <a:lnTo>
                    <a:pt x="528" y="591"/>
                  </a:lnTo>
                  <a:lnTo>
                    <a:pt x="526" y="577"/>
                  </a:lnTo>
                  <a:lnTo>
                    <a:pt x="522" y="564"/>
                  </a:lnTo>
                  <a:lnTo>
                    <a:pt x="519" y="552"/>
                  </a:lnTo>
                  <a:lnTo>
                    <a:pt x="516" y="540"/>
                  </a:lnTo>
                  <a:lnTo>
                    <a:pt x="499" y="542"/>
                  </a:lnTo>
                  <a:lnTo>
                    <a:pt x="482" y="547"/>
                  </a:lnTo>
                  <a:lnTo>
                    <a:pt x="466" y="550"/>
                  </a:lnTo>
                  <a:lnTo>
                    <a:pt x="451" y="555"/>
                  </a:lnTo>
                  <a:lnTo>
                    <a:pt x="447" y="556"/>
                  </a:lnTo>
                  <a:lnTo>
                    <a:pt x="443" y="556"/>
                  </a:lnTo>
                  <a:lnTo>
                    <a:pt x="439" y="556"/>
                  </a:lnTo>
                  <a:lnTo>
                    <a:pt x="434" y="555"/>
                  </a:lnTo>
                  <a:lnTo>
                    <a:pt x="426" y="551"/>
                  </a:lnTo>
                  <a:lnTo>
                    <a:pt x="416" y="544"/>
                  </a:lnTo>
                  <a:lnTo>
                    <a:pt x="397" y="531"/>
                  </a:lnTo>
                  <a:lnTo>
                    <a:pt x="383" y="519"/>
                  </a:lnTo>
                  <a:lnTo>
                    <a:pt x="370" y="508"/>
                  </a:lnTo>
                  <a:lnTo>
                    <a:pt x="361" y="500"/>
                  </a:lnTo>
                  <a:lnTo>
                    <a:pt x="377" y="497"/>
                  </a:lnTo>
                  <a:lnTo>
                    <a:pt x="395" y="494"/>
                  </a:lnTo>
                  <a:lnTo>
                    <a:pt x="415" y="489"/>
                  </a:lnTo>
                  <a:lnTo>
                    <a:pt x="439" y="485"/>
                  </a:lnTo>
                  <a:lnTo>
                    <a:pt x="463" y="480"/>
                  </a:lnTo>
                  <a:lnTo>
                    <a:pt x="491" y="473"/>
                  </a:lnTo>
                  <a:lnTo>
                    <a:pt x="519" y="467"/>
                  </a:lnTo>
                  <a:lnTo>
                    <a:pt x="551" y="460"/>
                  </a:lnTo>
                  <a:lnTo>
                    <a:pt x="580" y="452"/>
                  </a:lnTo>
                  <a:lnTo>
                    <a:pt x="607" y="446"/>
                  </a:lnTo>
                  <a:lnTo>
                    <a:pt x="634" y="441"/>
                  </a:lnTo>
                  <a:lnTo>
                    <a:pt x="657" y="435"/>
                  </a:lnTo>
                  <a:lnTo>
                    <a:pt x="679" y="430"/>
                  </a:lnTo>
                  <a:lnTo>
                    <a:pt x="700" y="426"/>
                  </a:lnTo>
                  <a:lnTo>
                    <a:pt x="719" y="423"/>
                  </a:lnTo>
                  <a:lnTo>
                    <a:pt x="736" y="419"/>
                  </a:lnTo>
                  <a:lnTo>
                    <a:pt x="741" y="418"/>
                  </a:lnTo>
                  <a:lnTo>
                    <a:pt x="746" y="417"/>
                  </a:lnTo>
                  <a:lnTo>
                    <a:pt x="751" y="417"/>
                  </a:lnTo>
                  <a:lnTo>
                    <a:pt x="756" y="418"/>
                  </a:lnTo>
                  <a:lnTo>
                    <a:pt x="761" y="420"/>
                  </a:lnTo>
                  <a:lnTo>
                    <a:pt x="766" y="425"/>
                  </a:lnTo>
                  <a:lnTo>
                    <a:pt x="771" y="429"/>
                  </a:lnTo>
                  <a:lnTo>
                    <a:pt x="776" y="434"/>
                  </a:lnTo>
                  <a:lnTo>
                    <a:pt x="777" y="437"/>
                  </a:lnTo>
                  <a:lnTo>
                    <a:pt x="778" y="440"/>
                  </a:lnTo>
                  <a:lnTo>
                    <a:pt x="779" y="443"/>
                  </a:lnTo>
                  <a:lnTo>
                    <a:pt x="781" y="445"/>
                  </a:lnTo>
                  <a:lnTo>
                    <a:pt x="788" y="452"/>
                  </a:lnTo>
                  <a:lnTo>
                    <a:pt x="794" y="460"/>
                  </a:lnTo>
                  <a:lnTo>
                    <a:pt x="798" y="467"/>
                  </a:lnTo>
                  <a:lnTo>
                    <a:pt x="801" y="475"/>
                  </a:lnTo>
                  <a:lnTo>
                    <a:pt x="805" y="484"/>
                  </a:lnTo>
                  <a:lnTo>
                    <a:pt x="806" y="489"/>
                  </a:lnTo>
                  <a:lnTo>
                    <a:pt x="803" y="493"/>
                  </a:lnTo>
                  <a:lnTo>
                    <a:pt x="800" y="494"/>
                  </a:lnTo>
                  <a:lnTo>
                    <a:pt x="796" y="495"/>
                  </a:lnTo>
                  <a:lnTo>
                    <a:pt x="791" y="495"/>
                  </a:lnTo>
                  <a:lnTo>
                    <a:pt x="767" y="497"/>
                  </a:lnTo>
                  <a:lnTo>
                    <a:pt x="743" y="499"/>
                  </a:lnTo>
                  <a:lnTo>
                    <a:pt x="715" y="502"/>
                  </a:lnTo>
                  <a:lnTo>
                    <a:pt x="685" y="506"/>
                  </a:lnTo>
                  <a:lnTo>
                    <a:pt x="655" y="511"/>
                  </a:lnTo>
                  <a:lnTo>
                    <a:pt x="622" y="517"/>
                  </a:lnTo>
                  <a:lnTo>
                    <a:pt x="587" y="523"/>
                  </a:lnTo>
                  <a:lnTo>
                    <a:pt x="551" y="530"/>
                  </a:lnTo>
                  <a:lnTo>
                    <a:pt x="573" y="537"/>
                  </a:lnTo>
                  <a:lnTo>
                    <a:pt x="595" y="542"/>
                  </a:lnTo>
                  <a:lnTo>
                    <a:pt x="619" y="547"/>
                  </a:lnTo>
                  <a:lnTo>
                    <a:pt x="641" y="550"/>
                  </a:lnTo>
                  <a:lnTo>
                    <a:pt x="638" y="556"/>
                  </a:lnTo>
                  <a:lnTo>
                    <a:pt x="634" y="562"/>
                  </a:lnTo>
                  <a:lnTo>
                    <a:pt x="631" y="572"/>
                  </a:lnTo>
                  <a:lnTo>
                    <a:pt x="628" y="583"/>
                  </a:lnTo>
                  <a:lnTo>
                    <a:pt x="624" y="608"/>
                  </a:lnTo>
                  <a:lnTo>
                    <a:pt x="621" y="640"/>
                  </a:lnTo>
                  <a:lnTo>
                    <a:pt x="633" y="638"/>
                  </a:lnTo>
                  <a:lnTo>
                    <a:pt x="647" y="635"/>
                  </a:lnTo>
                  <a:lnTo>
                    <a:pt x="665" y="632"/>
                  </a:lnTo>
                  <a:lnTo>
                    <a:pt x="685" y="630"/>
                  </a:lnTo>
                  <a:lnTo>
                    <a:pt x="722" y="623"/>
                  </a:lnTo>
                  <a:lnTo>
                    <a:pt x="751" y="618"/>
                  </a:lnTo>
                  <a:lnTo>
                    <a:pt x="777" y="613"/>
                  </a:lnTo>
                  <a:lnTo>
                    <a:pt x="796" y="610"/>
                  </a:lnTo>
                  <a:close/>
                  <a:moveTo>
                    <a:pt x="551" y="0"/>
                  </a:moveTo>
                  <a:lnTo>
                    <a:pt x="569" y="16"/>
                  </a:lnTo>
                  <a:lnTo>
                    <a:pt x="587" y="31"/>
                  </a:lnTo>
                  <a:lnTo>
                    <a:pt x="603" y="43"/>
                  </a:lnTo>
                  <a:lnTo>
                    <a:pt x="619" y="55"/>
                  </a:lnTo>
                  <a:lnTo>
                    <a:pt x="633" y="63"/>
                  </a:lnTo>
                  <a:lnTo>
                    <a:pt x="646" y="71"/>
                  </a:lnTo>
                  <a:lnTo>
                    <a:pt x="659" y="76"/>
                  </a:lnTo>
                  <a:lnTo>
                    <a:pt x="671" y="79"/>
                  </a:lnTo>
                  <a:lnTo>
                    <a:pt x="656" y="91"/>
                  </a:lnTo>
                  <a:lnTo>
                    <a:pt x="641" y="105"/>
                  </a:lnTo>
                  <a:lnTo>
                    <a:pt x="626" y="121"/>
                  </a:lnTo>
                  <a:lnTo>
                    <a:pt x="611" y="140"/>
                  </a:lnTo>
                  <a:lnTo>
                    <a:pt x="631" y="154"/>
                  </a:lnTo>
                  <a:lnTo>
                    <a:pt x="659" y="176"/>
                  </a:lnTo>
                  <a:lnTo>
                    <a:pt x="692" y="202"/>
                  </a:lnTo>
                  <a:lnTo>
                    <a:pt x="731" y="235"/>
                  </a:lnTo>
                  <a:lnTo>
                    <a:pt x="768" y="266"/>
                  </a:lnTo>
                  <a:lnTo>
                    <a:pt x="803" y="293"/>
                  </a:lnTo>
                  <a:lnTo>
                    <a:pt x="835" y="318"/>
                  </a:lnTo>
                  <a:lnTo>
                    <a:pt x="863" y="339"/>
                  </a:lnTo>
                  <a:lnTo>
                    <a:pt x="890" y="356"/>
                  </a:lnTo>
                  <a:lnTo>
                    <a:pt x="913" y="371"/>
                  </a:lnTo>
                  <a:lnTo>
                    <a:pt x="933" y="381"/>
                  </a:lnTo>
                  <a:lnTo>
                    <a:pt x="951" y="390"/>
                  </a:lnTo>
                  <a:lnTo>
                    <a:pt x="991" y="405"/>
                  </a:lnTo>
                  <a:lnTo>
                    <a:pt x="1028" y="420"/>
                  </a:lnTo>
                  <a:lnTo>
                    <a:pt x="1063" y="435"/>
                  </a:lnTo>
                  <a:lnTo>
                    <a:pt x="1096" y="451"/>
                  </a:lnTo>
                  <a:lnTo>
                    <a:pt x="1127" y="467"/>
                  </a:lnTo>
                  <a:lnTo>
                    <a:pt x="1158" y="483"/>
                  </a:lnTo>
                  <a:lnTo>
                    <a:pt x="1185" y="499"/>
                  </a:lnTo>
                  <a:lnTo>
                    <a:pt x="1211" y="515"/>
                  </a:lnTo>
                  <a:lnTo>
                    <a:pt x="1219" y="520"/>
                  </a:lnTo>
                  <a:lnTo>
                    <a:pt x="1227" y="524"/>
                  </a:lnTo>
                  <a:lnTo>
                    <a:pt x="1232" y="530"/>
                  </a:lnTo>
                  <a:lnTo>
                    <a:pt x="1237" y="535"/>
                  </a:lnTo>
                  <a:lnTo>
                    <a:pt x="1242" y="540"/>
                  </a:lnTo>
                  <a:lnTo>
                    <a:pt x="1244" y="544"/>
                  </a:lnTo>
                  <a:lnTo>
                    <a:pt x="1246" y="550"/>
                  </a:lnTo>
                  <a:lnTo>
                    <a:pt x="1246" y="555"/>
                  </a:lnTo>
                  <a:lnTo>
                    <a:pt x="1245" y="558"/>
                  </a:lnTo>
                  <a:lnTo>
                    <a:pt x="1242" y="561"/>
                  </a:lnTo>
                  <a:lnTo>
                    <a:pt x="1237" y="564"/>
                  </a:lnTo>
                  <a:lnTo>
                    <a:pt x="1232" y="566"/>
                  </a:lnTo>
                  <a:lnTo>
                    <a:pt x="1226" y="568"/>
                  </a:lnTo>
                  <a:lnTo>
                    <a:pt x="1219" y="569"/>
                  </a:lnTo>
                  <a:lnTo>
                    <a:pt x="1211" y="570"/>
                  </a:lnTo>
                  <a:lnTo>
                    <a:pt x="1201" y="570"/>
                  </a:lnTo>
                  <a:lnTo>
                    <a:pt x="1171" y="570"/>
                  </a:lnTo>
                  <a:lnTo>
                    <a:pt x="1141" y="569"/>
                  </a:lnTo>
                  <a:lnTo>
                    <a:pt x="1111" y="567"/>
                  </a:lnTo>
                  <a:lnTo>
                    <a:pt x="1084" y="565"/>
                  </a:lnTo>
                  <a:lnTo>
                    <a:pt x="1056" y="562"/>
                  </a:lnTo>
                  <a:lnTo>
                    <a:pt x="1031" y="558"/>
                  </a:lnTo>
                  <a:lnTo>
                    <a:pt x="1005" y="554"/>
                  </a:lnTo>
                  <a:lnTo>
                    <a:pt x="981" y="550"/>
                  </a:lnTo>
                  <a:lnTo>
                    <a:pt x="966" y="547"/>
                  </a:lnTo>
                  <a:lnTo>
                    <a:pt x="951" y="541"/>
                  </a:lnTo>
                  <a:lnTo>
                    <a:pt x="937" y="535"/>
                  </a:lnTo>
                  <a:lnTo>
                    <a:pt x="923" y="528"/>
                  </a:lnTo>
                  <a:lnTo>
                    <a:pt x="908" y="518"/>
                  </a:lnTo>
                  <a:lnTo>
                    <a:pt x="894" y="506"/>
                  </a:lnTo>
                  <a:lnTo>
                    <a:pt x="880" y="494"/>
                  </a:lnTo>
                  <a:lnTo>
                    <a:pt x="866" y="480"/>
                  </a:lnTo>
                  <a:lnTo>
                    <a:pt x="839" y="454"/>
                  </a:lnTo>
                  <a:lnTo>
                    <a:pt x="806" y="422"/>
                  </a:lnTo>
                  <a:lnTo>
                    <a:pt x="768" y="381"/>
                  </a:lnTo>
                  <a:lnTo>
                    <a:pt x="726" y="335"/>
                  </a:lnTo>
                  <a:lnTo>
                    <a:pt x="679" y="282"/>
                  </a:lnTo>
                  <a:lnTo>
                    <a:pt x="639" y="238"/>
                  </a:lnTo>
                  <a:lnTo>
                    <a:pt x="621" y="220"/>
                  </a:lnTo>
                  <a:lnTo>
                    <a:pt x="604" y="204"/>
                  </a:lnTo>
                  <a:lnTo>
                    <a:pt x="589" y="191"/>
                  </a:lnTo>
                  <a:lnTo>
                    <a:pt x="576" y="180"/>
                  </a:lnTo>
                  <a:lnTo>
                    <a:pt x="566" y="194"/>
                  </a:lnTo>
                  <a:lnTo>
                    <a:pt x="556" y="204"/>
                  </a:lnTo>
                  <a:lnTo>
                    <a:pt x="518" y="262"/>
                  </a:lnTo>
                  <a:lnTo>
                    <a:pt x="480" y="316"/>
                  </a:lnTo>
                  <a:lnTo>
                    <a:pt x="441" y="369"/>
                  </a:lnTo>
                  <a:lnTo>
                    <a:pt x="401" y="419"/>
                  </a:lnTo>
                  <a:lnTo>
                    <a:pt x="360" y="469"/>
                  </a:lnTo>
                  <a:lnTo>
                    <a:pt x="320" y="516"/>
                  </a:lnTo>
                  <a:lnTo>
                    <a:pt x="278" y="561"/>
                  </a:lnTo>
                  <a:lnTo>
                    <a:pt x="236" y="605"/>
                  </a:lnTo>
                  <a:lnTo>
                    <a:pt x="221" y="619"/>
                  </a:lnTo>
                  <a:lnTo>
                    <a:pt x="205" y="631"/>
                  </a:lnTo>
                  <a:lnTo>
                    <a:pt x="190" y="642"/>
                  </a:lnTo>
                  <a:lnTo>
                    <a:pt x="174" y="650"/>
                  </a:lnTo>
                  <a:lnTo>
                    <a:pt x="159" y="658"/>
                  </a:lnTo>
                  <a:lnTo>
                    <a:pt x="144" y="663"/>
                  </a:lnTo>
                  <a:lnTo>
                    <a:pt x="129" y="667"/>
                  </a:lnTo>
                  <a:lnTo>
                    <a:pt x="115" y="668"/>
                  </a:lnTo>
                  <a:lnTo>
                    <a:pt x="100" y="668"/>
                  </a:lnTo>
                  <a:lnTo>
                    <a:pt x="85" y="667"/>
                  </a:lnTo>
                  <a:lnTo>
                    <a:pt x="71" y="664"/>
                  </a:lnTo>
                  <a:lnTo>
                    <a:pt x="56" y="659"/>
                  </a:lnTo>
                  <a:lnTo>
                    <a:pt x="43" y="652"/>
                  </a:lnTo>
                  <a:lnTo>
                    <a:pt x="29" y="643"/>
                  </a:lnTo>
                  <a:lnTo>
                    <a:pt x="15" y="632"/>
                  </a:lnTo>
                  <a:lnTo>
                    <a:pt x="0" y="620"/>
                  </a:lnTo>
                  <a:lnTo>
                    <a:pt x="31" y="608"/>
                  </a:lnTo>
                  <a:lnTo>
                    <a:pt x="61" y="593"/>
                  </a:lnTo>
                  <a:lnTo>
                    <a:pt x="90" y="577"/>
                  </a:lnTo>
                  <a:lnTo>
                    <a:pt x="120" y="560"/>
                  </a:lnTo>
                  <a:lnTo>
                    <a:pt x="150" y="540"/>
                  </a:lnTo>
                  <a:lnTo>
                    <a:pt x="179" y="519"/>
                  </a:lnTo>
                  <a:lnTo>
                    <a:pt x="209" y="495"/>
                  </a:lnTo>
                  <a:lnTo>
                    <a:pt x="239" y="470"/>
                  </a:lnTo>
                  <a:lnTo>
                    <a:pt x="268" y="443"/>
                  </a:lnTo>
                  <a:lnTo>
                    <a:pt x="297" y="413"/>
                  </a:lnTo>
                  <a:lnTo>
                    <a:pt x="326" y="382"/>
                  </a:lnTo>
                  <a:lnTo>
                    <a:pt x="355" y="349"/>
                  </a:lnTo>
                  <a:lnTo>
                    <a:pt x="385" y="315"/>
                  </a:lnTo>
                  <a:lnTo>
                    <a:pt x="413" y="278"/>
                  </a:lnTo>
                  <a:lnTo>
                    <a:pt x="442" y="240"/>
                  </a:lnTo>
                  <a:lnTo>
                    <a:pt x="470" y="200"/>
                  </a:lnTo>
                  <a:lnTo>
                    <a:pt x="488" y="170"/>
                  </a:lnTo>
                  <a:lnTo>
                    <a:pt x="504" y="142"/>
                  </a:lnTo>
                  <a:lnTo>
                    <a:pt x="517" y="115"/>
                  </a:lnTo>
                  <a:lnTo>
                    <a:pt x="529" y="90"/>
                  </a:lnTo>
                  <a:lnTo>
                    <a:pt x="537" y="65"/>
                  </a:lnTo>
                  <a:lnTo>
                    <a:pt x="544" y="42"/>
                  </a:lnTo>
                  <a:lnTo>
                    <a:pt x="549" y="20"/>
                  </a:lnTo>
                  <a:lnTo>
                    <a:pt x="551" y="0"/>
                  </a:lnTo>
                  <a:close/>
                  <a:moveTo>
                    <a:pt x="641" y="915"/>
                  </a:moveTo>
                  <a:lnTo>
                    <a:pt x="630" y="901"/>
                  </a:lnTo>
                  <a:lnTo>
                    <a:pt x="662" y="875"/>
                  </a:lnTo>
                  <a:lnTo>
                    <a:pt x="689" y="851"/>
                  </a:lnTo>
                  <a:lnTo>
                    <a:pt x="701" y="839"/>
                  </a:lnTo>
                  <a:lnTo>
                    <a:pt x="713" y="827"/>
                  </a:lnTo>
                  <a:lnTo>
                    <a:pt x="724" y="816"/>
                  </a:lnTo>
                  <a:lnTo>
                    <a:pt x="733" y="804"/>
                  </a:lnTo>
                  <a:lnTo>
                    <a:pt x="743" y="792"/>
                  </a:lnTo>
                  <a:lnTo>
                    <a:pt x="750" y="781"/>
                  </a:lnTo>
                  <a:lnTo>
                    <a:pt x="758" y="769"/>
                  </a:lnTo>
                  <a:lnTo>
                    <a:pt x="764" y="759"/>
                  </a:lnTo>
                  <a:lnTo>
                    <a:pt x="769" y="748"/>
                  </a:lnTo>
                  <a:lnTo>
                    <a:pt x="774" y="736"/>
                  </a:lnTo>
                  <a:lnTo>
                    <a:pt x="778" y="726"/>
                  </a:lnTo>
                  <a:lnTo>
                    <a:pt x="781" y="715"/>
                  </a:lnTo>
                  <a:lnTo>
                    <a:pt x="791" y="731"/>
                  </a:lnTo>
                  <a:lnTo>
                    <a:pt x="804" y="746"/>
                  </a:lnTo>
                  <a:lnTo>
                    <a:pt x="817" y="760"/>
                  </a:lnTo>
                  <a:lnTo>
                    <a:pt x="831" y="772"/>
                  </a:lnTo>
                  <a:lnTo>
                    <a:pt x="846" y="785"/>
                  </a:lnTo>
                  <a:lnTo>
                    <a:pt x="863" y="796"/>
                  </a:lnTo>
                  <a:lnTo>
                    <a:pt x="881" y="806"/>
                  </a:lnTo>
                  <a:lnTo>
                    <a:pt x="902" y="815"/>
                  </a:lnTo>
                  <a:lnTo>
                    <a:pt x="890" y="817"/>
                  </a:lnTo>
                  <a:lnTo>
                    <a:pt x="878" y="820"/>
                  </a:lnTo>
                  <a:lnTo>
                    <a:pt x="864" y="824"/>
                  </a:lnTo>
                  <a:lnTo>
                    <a:pt x="850" y="828"/>
                  </a:lnTo>
                  <a:lnTo>
                    <a:pt x="816" y="842"/>
                  </a:lnTo>
                  <a:lnTo>
                    <a:pt x="776" y="860"/>
                  </a:lnTo>
                  <a:lnTo>
                    <a:pt x="735" y="878"/>
                  </a:lnTo>
                  <a:lnTo>
                    <a:pt x="700" y="894"/>
                  </a:lnTo>
                  <a:lnTo>
                    <a:pt x="669" y="906"/>
                  </a:lnTo>
                  <a:lnTo>
                    <a:pt x="641" y="915"/>
                  </a:lnTo>
                  <a:close/>
                  <a:moveTo>
                    <a:pt x="345" y="796"/>
                  </a:moveTo>
                  <a:lnTo>
                    <a:pt x="392" y="818"/>
                  </a:lnTo>
                  <a:lnTo>
                    <a:pt x="427" y="836"/>
                  </a:lnTo>
                  <a:lnTo>
                    <a:pt x="440" y="844"/>
                  </a:lnTo>
                  <a:lnTo>
                    <a:pt x="450" y="851"/>
                  </a:lnTo>
                  <a:lnTo>
                    <a:pt x="457" y="856"/>
                  </a:lnTo>
                  <a:lnTo>
                    <a:pt x="461" y="860"/>
                  </a:lnTo>
                  <a:lnTo>
                    <a:pt x="462" y="866"/>
                  </a:lnTo>
                  <a:lnTo>
                    <a:pt x="462" y="873"/>
                  </a:lnTo>
                  <a:lnTo>
                    <a:pt x="461" y="881"/>
                  </a:lnTo>
                  <a:lnTo>
                    <a:pt x="459" y="891"/>
                  </a:lnTo>
                  <a:lnTo>
                    <a:pt x="451" y="915"/>
                  </a:lnTo>
                  <a:lnTo>
                    <a:pt x="441" y="945"/>
                  </a:lnTo>
                  <a:lnTo>
                    <a:pt x="438" y="954"/>
                  </a:lnTo>
                  <a:lnTo>
                    <a:pt x="434" y="960"/>
                  </a:lnTo>
                  <a:lnTo>
                    <a:pt x="432" y="962"/>
                  </a:lnTo>
                  <a:lnTo>
                    <a:pt x="430" y="964"/>
                  </a:lnTo>
                  <a:lnTo>
                    <a:pt x="428" y="965"/>
                  </a:lnTo>
                  <a:lnTo>
                    <a:pt x="426" y="965"/>
                  </a:lnTo>
                  <a:lnTo>
                    <a:pt x="423" y="964"/>
                  </a:lnTo>
                  <a:lnTo>
                    <a:pt x="420" y="961"/>
                  </a:lnTo>
                  <a:lnTo>
                    <a:pt x="415" y="957"/>
                  </a:lnTo>
                  <a:lnTo>
                    <a:pt x="411" y="950"/>
                  </a:lnTo>
                  <a:lnTo>
                    <a:pt x="410" y="949"/>
                  </a:lnTo>
                  <a:lnTo>
                    <a:pt x="406" y="945"/>
                  </a:lnTo>
                  <a:lnTo>
                    <a:pt x="394" y="928"/>
                  </a:lnTo>
                  <a:lnTo>
                    <a:pt x="383" y="910"/>
                  </a:lnTo>
                  <a:lnTo>
                    <a:pt x="372" y="893"/>
                  </a:lnTo>
                  <a:lnTo>
                    <a:pt x="362" y="876"/>
                  </a:lnTo>
                  <a:lnTo>
                    <a:pt x="353" y="859"/>
                  </a:lnTo>
                  <a:lnTo>
                    <a:pt x="344" y="843"/>
                  </a:lnTo>
                  <a:lnTo>
                    <a:pt x="337" y="826"/>
                  </a:lnTo>
                  <a:lnTo>
                    <a:pt x="331" y="810"/>
                  </a:lnTo>
                  <a:lnTo>
                    <a:pt x="327" y="798"/>
                  </a:lnTo>
                  <a:lnTo>
                    <a:pt x="326" y="790"/>
                  </a:lnTo>
                  <a:lnTo>
                    <a:pt x="329" y="788"/>
                  </a:lnTo>
                  <a:lnTo>
                    <a:pt x="334" y="789"/>
                  </a:lnTo>
                  <a:lnTo>
                    <a:pt x="339" y="791"/>
                  </a:lnTo>
                  <a:lnTo>
                    <a:pt x="345" y="796"/>
                  </a:lnTo>
                  <a:close/>
                </a:path>
              </a:pathLst>
            </a:custGeom>
            <a:solidFill>
              <a:srgbClr val="ffff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00"/>
                </a:solidFill>
                <a:latin typeface="Arial"/>
                <a:ea typeface="宋体"/>
              </a:endParaRPr>
            </a:p>
          </p:txBody>
        </p:sp>
        <p:sp>
          <p:nvSpPr>
            <p:cNvPr id="512" name="Freeform 14"/>
            <p:cNvSpPr/>
            <p:nvPr/>
          </p:nvSpPr>
          <p:spPr>
            <a:xfrm>
              <a:off x="2773080" y="9460440"/>
              <a:ext cx="188640" cy="160200"/>
            </a:xfrm>
            <a:custGeom>
              <a:avLst/>
              <a:gdLst>
                <a:gd name="textAreaLeft" fmla="*/ 0 w 188640"/>
                <a:gd name="textAreaRight" fmla="*/ 189000 w 188640"/>
                <a:gd name="textAreaTop" fmla="*/ 0 h 160200"/>
                <a:gd name="textAreaBottom" fmla="*/ 160560 h 160200"/>
              </a:gdLst>
              <a:ahLst/>
              <a:rect l="textAreaLeft" t="textAreaTop" r="textAreaRight" b="textAreaBottom"/>
              <a:pathLst>
                <a:path w="1185" h="1056">
                  <a:moveTo>
                    <a:pt x="695" y="800"/>
                  </a:moveTo>
                  <a:lnTo>
                    <a:pt x="687" y="792"/>
                  </a:lnTo>
                  <a:lnTo>
                    <a:pt x="674" y="781"/>
                  </a:lnTo>
                  <a:lnTo>
                    <a:pt x="659" y="766"/>
                  </a:lnTo>
                  <a:lnTo>
                    <a:pt x="647" y="754"/>
                  </a:lnTo>
                  <a:lnTo>
                    <a:pt x="643" y="749"/>
                  </a:lnTo>
                  <a:lnTo>
                    <a:pt x="638" y="744"/>
                  </a:lnTo>
                  <a:lnTo>
                    <a:pt x="636" y="739"/>
                  </a:lnTo>
                  <a:lnTo>
                    <a:pt x="634" y="735"/>
                  </a:lnTo>
                  <a:lnTo>
                    <a:pt x="639" y="714"/>
                  </a:lnTo>
                  <a:lnTo>
                    <a:pt x="644" y="693"/>
                  </a:lnTo>
                  <a:lnTo>
                    <a:pt x="648" y="670"/>
                  </a:lnTo>
                  <a:lnTo>
                    <a:pt x="651" y="648"/>
                  </a:lnTo>
                  <a:lnTo>
                    <a:pt x="653" y="626"/>
                  </a:lnTo>
                  <a:lnTo>
                    <a:pt x="655" y="603"/>
                  </a:lnTo>
                  <a:lnTo>
                    <a:pt x="656" y="578"/>
                  </a:lnTo>
                  <a:lnTo>
                    <a:pt x="656" y="554"/>
                  </a:lnTo>
                  <a:lnTo>
                    <a:pt x="656" y="528"/>
                  </a:lnTo>
                  <a:lnTo>
                    <a:pt x="655" y="503"/>
                  </a:lnTo>
                  <a:lnTo>
                    <a:pt x="653" y="478"/>
                  </a:lnTo>
                  <a:lnTo>
                    <a:pt x="651" y="451"/>
                  </a:lnTo>
                  <a:lnTo>
                    <a:pt x="648" y="423"/>
                  </a:lnTo>
                  <a:lnTo>
                    <a:pt x="644" y="396"/>
                  </a:lnTo>
                  <a:lnTo>
                    <a:pt x="639" y="368"/>
                  </a:lnTo>
                  <a:lnTo>
                    <a:pt x="634" y="340"/>
                  </a:lnTo>
                  <a:lnTo>
                    <a:pt x="655" y="347"/>
                  </a:lnTo>
                  <a:lnTo>
                    <a:pt x="677" y="355"/>
                  </a:lnTo>
                  <a:lnTo>
                    <a:pt x="700" y="362"/>
                  </a:lnTo>
                  <a:lnTo>
                    <a:pt x="724" y="369"/>
                  </a:lnTo>
                  <a:lnTo>
                    <a:pt x="731" y="369"/>
                  </a:lnTo>
                  <a:lnTo>
                    <a:pt x="739" y="369"/>
                  </a:lnTo>
                  <a:lnTo>
                    <a:pt x="753" y="366"/>
                  </a:lnTo>
                  <a:lnTo>
                    <a:pt x="764" y="365"/>
                  </a:lnTo>
                  <a:lnTo>
                    <a:pt x="775" y="341"/>
                  </a:lnTo>
                  <a:lnTo>
                    <a:pt x="785" y="316"/>
                  </a:lnTo>
                  <a:lnTo>
                    <a:pt x="792" y="294"/>
                  </a:lnTo>
                  <a:lnTo>
                    <a:pt x="798" y="273"/>
                  </a:lnTo>
                  <a:lnTo>
                    <a:pt x="803" y="253"/>
                  </a:lnTo>
                  <a:lnTo>
                    <a:pt x="807" y="234"/>
                  </a:lnTo>
                  <a:lnTo>
                    <a:pt x="809" y="217"/>
                  </a:lnTo>
                  <a:lnTo>
                    <a:pt x="810" y="200"/>
                  </a:lnTo>
                  <a:lnTo>
                    <a:pt x="764" y="206"/>
                  </a:lnTo>
                  <a:lnTo>
                    <a:pt x="723" y="213"/>
                  </a:lnTo>
                  <a:lnTo>
                    <a:pt x="686" y="217"/>
                  </a:lnTo>
                  <a:lnTo>
                    <a:pt x="654" y="220"/>
                  </a:lnTo>
                  <a:lnTo>
                    <a:pt x="647" y="218"/>
                  </a:lnTo>
                  <a:lnTo>
                    <a:pt x="638" y="215"/>
                  </a:lnTo>
                  <a:lnTo>
                    <a:pt x="630" y="209"/>
                  </a:lnTo>
                  <a:lnTo>
                    <a:pt x="620" y="203"/>
                  </a:lnTo>
                  <a:lnTo>
                    <a:pt x="611" y="196"/>
                  </a:lnTo>
                  <a:lnTo>
                    <a:pt x="601" y="187"/>
                  </a:lnTo>
                  <a:lnTo>
                    <a:pt x="591" y="177"/>
                  </a:lnTo>
                  <a:lnTo>
                    <a:pt x="579" y="165"/>
                  </a:lnTo>
                  <a:lnTo>
                    <a:pt x="605" y="161"/>
                  </a:lnTo>
                  <a:lnTo>
                    <a:pt x="637" y="155"/>
                  </a:lnTo>
                  <a:lnTo>
                    <a:pt x="679" y="148"/>
                  </a:lnTo>
                  <a:lnTo>
                    <a:pt x="728" y="138"/>
                  </a:lnTo>
                  <a:lnTo>
                    <a:pt x="786" y="127"/>
                  </a:lnTo>
                  <a:lnTo>
                    <a:pt x="850" y="113"/>
                  </a:lnTo>
                  <a:lnTo>
                    <a:pt x="923" y="97"/>
                  </a:lnTo>
                  <a:lnTo>
                    <a:pt x="1005" y="80"/>
                  </a:lnTo>
                  <a:lnTo>
                    <a:pt x="1037" y="71"/>
                  </a:lnTo>
                  <a:lnTo>
                    <a:pt x="1064" y="63"/>
                  </a:lnTo>
                  <a:lnTo>
                    <a:pt x="1088" y="58"/>
                  </a:lnTo>
                  <a:lnTo>
                    <a:pt x="1104" y="55"/>
                  </a:lnTo>
                  <a:lnTo>
                    <a:pt x="1108" y="53"/>
                  </a:lnTo>
                  <a:lnTo>
                    <a:pt x="1112" y="52"/>
                  </a:lnTo>
                  <a:lnTo>
                    <a:pt x="1115" y="50"/>
                  </a:lnTo>
                  <a:lnTo>
                    <a:pt x="1118" y="50"/>
                  </a:lnTo>
                  <a:lnTo>
                    <a:pt x="1121" y="52"/>
                  </a:lnTo>
                  <a:lnTo>
                    <a:pt x="1125" y="54"/>
                  </a:lnTo>
                  <a:lnTo>
                    <a:pt x="1127" y="56"/>
                  </a:lnTo>
                  <a:lnTo>
                    <a:pt x="1130" y="60"/>
                  </a:lnTo>
                  <a:lnTo>
                    <a:pt x="1136" y="66"/>
                  </a:lnTo>
                  <a:lnTo>
                    <a:pt x="1145" y="75"/>
                  </a:lnTo>
                  <a:lnTo>
                    <a:pt x="1150" y="79"/>
                  </a:lnTo>
                  <a:lnTo>
                    <a:pt x="1158" y="85"/>
                  </a:lnTo>
                  <a:lnTo>
                    <a:pt x="1168" y="96"/>
                  </a:lnTo>
                  <a:lnTo>
                    <a:pt x="1180" y="110"/>
                  </a:lnTo>
                  <a:lnTo>
                    <a:pt x="1183" y="118"/>
                  </a:lnTo>
                  <a:lnTo>
                    <a:pt x="1185" y="125"/>
                  </a:lnTo>
                  <a:lnTo>
                    <a:pt x="1182" y="127"/>
                  </a:lnTo>
                  <a:lnTo>
                    <a:pt x="1179" y="128"/>
                  </a:lnTo>
                  <a:lnTo>
                    <a:pt x="1174" y="129"/>
                  </a:lnTo>
                  <a:lnTo>
                    <a:pt x="1169" y="130"/>
                  </a:lnTo>
                  <a:lnTo>
                    <a:pt x="1139" y="135"/>
                  </a:lnTo>
                  <a:lnTo>
                    <a:pt x="1106" y="142"/>
                  </a:lnTo>
                  <a:lnTo>
                    <a:pt x="1068" y="148"/>
                  </a:lnTo>
                  <a:lnTo>
                    <a:pt x="1028" y="155"/>
                  </a:lnTo>
                  <a:lnTo>
                    <a:pt x="985" y="165"/>
                  </a:lnTo>
                  <a:lnTo>
                    <a:pt x="938" y="173"/>
                  </a:lnTo>
                  <a:lnTo>
                    <a:pt x="887" y="184"/>
                  </a:lnTo>
                  <a:lnTo>
                    <a:pt x="834" y="195"/>
                  </a:lnTo>
                  <a:lnTo>
                    <a:pt x="846" y="201"/>
                  </a:lnTo>
                  <a:lnTo>
                    <a:pt x="858" y="206"/>
                  </a:lnTo>
                  <a:lnTo>
                    <a:pt x="869" y="212"/>
                  </a:lnTo>
                  <a:lnTo>
                    <a:pt x="882" y="216"/>
                  </a:lnTo>
                  <a:lnTo>
                    <a:pt x="895" y="220"/>
                  </a:lnTo>
                  <a:lnTo>
                    <a:pt x="907" y="224"/>
                  </a:lnTo>
                  <a:lnTo>
                    <a:pt x="921" y="227"/>
                  </a:lnTo>
                  <a:lnTo>
                    <a:pt x="935" y="230"/>
                  </a:lnTo>
                  <a:lnTo>
                    <a:pt x="925" y="237"/>
                  </a:lnTo>
                  <a:lnTo>
                    <a:pt x="913" y="249"/>
                  </a:lnTo>
                  <a:lnTo>
                    <a:pt x="898" y="265"/>
                  </a:lnTo>
                  <a:lnTo>
                    <a:pt x="880" y="285"/>
                  </a:lnTo>
                  <a:lnTo>
                    <a:pt x="862" y="306"/>
                  </a:lnTo>
                  <a:lnTo>
                    <a:pt x="846" y="326"/>
                  </a:lnTo>
                  <a:lnTo>
                    <a:pt x="830" y="344"/>
                  </a:lnTo>
                  <a:lnTo>
                    <a:pt x="814" y="360"/>
                  </a:lnTo>
                  <a:lnTo>
                    <a:pt x="841" y="354"/>
                  </a:lnTo>
                  <a:lnTo>
                    <a:pt x="866" y="346"/>
                  </a:lnTo>
                  <a:lnTo>
                    <a:pt x="889" y="340"/>
                  </a:lnTo>
                  <a:lnTo>
                    <a:pt x="911" y="332"/>
                  </a:lnTo>
                  <a:lnTo>
                    <a:pt x="931" y="325"/>
                  </a:lnTo>
                  <a:lnTo>
                    <a:pt x="949" y="316"/>
                  </a:lnTo>
                  <a:lnTo>
                    <a:pt x="965" y="308"/>
                  </a:lnTo>
                  <a:lnTo>
                    <a:pt x="979" y="299"/>
                  </a:lnTo>
                  <a:lnTo>
                    <a:pt x="994" y="310"/>
                  </a:lnTo>
                  <a:lnTo>
                    <a:pt x="1009" y="320"/>
                  </a:lnTo>
                  <a:lnTo>
                    <a:pt x="1026" y="328"/>
                  </a:lnTo>
                  <a:lnTo>
                    <a:pt x="1043" y="336"/>
                  </a:lnTo>
                  <a:lnTo>
                    <a:pt x="1062" y="342"/>
                  </a:lnTo>
                  <a:lnTo>
                    <a:pt x="1081" y="347"/>
                  </a:lnTo>
                  <a:lnTo>
                    <a:pt x="1102" y="351"/>
                  </a:lnTo>
                  <a:lnTo>
                    <a:pt x="1125" y="355"/>
                  </a:lnTo>
                  <a:lnTo>
                    <a:pt x="1120" y="359"/>
                  </a:lnTo>
                  <a:lnTo>
                    <a:pt x="1117" y="365"/>
                  </a:lnTo>
                  <a:lnTo>
                    <a:pt x="1114" y="373"/>
                  </a:lnTo>
                  <a:lnTo>
                    <a:pt x="1112" y="382"/>
                  </a:lnTo>
                  <a:lnTo>
                    <a:pt x="1107" y="404"/>
                  </a:lnTo>
                  <a:lnTo>
                    <a:pt x="1103" y="434"/>
                  </a:lnTo>
                  <a:lnTo>
                    <a:pt x="1100" y="469"/>
                  </a:lnTo>
                  <a:lnTo>
                    <a:pt x="1099" y="509"/>
                  </a:lnTo>
                  <a:lnTo>
                    <a:pt x="1099" y="557"/>
                  </a:lnTo>
                  <a:lnTo>
                    <a:pt x="1099" y="610"/>
                  </a:lnTo>
                  <a:lnTo>
                    <a:pt x="1100" y="642"/>
                  </a:lnTo>
                  <a:lnTo>
                    <a:pt x="1101" y="670"/>
                  </a:lnTo>
                  <a:lnTo>
                    <a:pt x="1102" y="697"/>
                  </a:lnTo>
                  <a:lnTo>
                    <a:pt x="1102" y="721"/>
                  </a:lnTo>
                  <a:lnTo>
                    <a:pt x="1102" y="744"/>
                  </a:lnTo>
                  <a:lnTo>
                    <a:pt x="1101" y="763"/>
                  </a:lnTo>
                  <a:lnTo>
                    <a:pt x="1100" y="781"/>
                  </a:lnTo>
                  <a:lnTo>
                    <a:pt x="1099" y="795"/>
                  </a:lnTo>
                  <a:lnTo>
                    <a:pt x="1097" y="802"/>
                  </a:lnTo>
                  <a:lnTo>
                    <a:pt x="1095" y="807"/>
                  </a:lnTo>
                  <a:lnTo>
                    <a:pt x="1092" y="812"/>
                  </a:lnTo>
                  <a:lnTo>
                    <a:pt x="1090" y="816"/>
                  </a:lnTo>
                  <a:lnTo>
                    <a:pt x="1084" y="815"/>
                  </a:lnTo>
                  <a:lnTo>
                    <a:pt x="1078" y="811"/>
                  </a:lnTo>
                  <a:lnTo>
                    <a:pt x="1072" y="807"/>
                  </a:lnTo>
                  <a:lnTo>
                    <a:pt x="1064" y="800"/>
                  </a:lnTo>
                  <a:lnTo>
                    <a:pt x="1059" y="794"/>
                  </a:lnTo>
                  <a:lnTo>
                    <a:pt x="1050" y="786"/>
                  </a:lnTo>
                  <a:lnTo>
                    <a:pt x="1041" y="776"/>
                  </a:lnTo>
                  <a:lnTo>
                    <a:pt x="1029" y="765"/>
                  </a:lnTo>
                  <a:lnTo>
                    <a:pt x="1008" y="746"/>
                  </a:lnTo>
                  <a:lnTo>
                    <a:pt x="992" y="730"/>
                  </a:lnTo>
                  <a:lnTo>
                    <a:pt x="983" y="720"/>
                  </a:lnTo>
                  <a:lnTo>
                    <a:pt x="979" y="715"/>
                  </a:lnTo>
                  <a:lnTo>
                    <a:pt x="981" y="710"/>
                  </a:lnTo>
                  <a:lnTo>
                    <a:pt x="982" y="704"/>
                  </a:lnTo>
                  <a:lnTo>
                    <a:pt x="985" y="697"/>
                  </a:lnTo>
                  <a:lnTo>
                    <a:pt x="989" y="691"/>
                  </a:lnTo>
                  <a:lnTo>
                    <a:pt x="994" y="682"/>
                  </a:lnTo>
                  <a:lnTo>
                    <a:pt x="997" y="675"/>
                  </a:lnTo>
                  <a:lnTo>
                    <a:pt x="999" y="667"/>
                  </a:lnTo>
                  <a:lnTo>
                    <a:pt x="1000" y="660"/>
                  </a:lnTo>
                  <a:lnTo>
                    <a:pt x="1000" y="642"/>
                  </a:lnTo>
                  <a:lnTo>
                    <a:pt x="1000" y="623"/>
                  </a:lnTo>
                  <a:lnTo>
                    <a:pt x="1000" y="602"/>
                  </a:lnTo>
                  <a:lnTo>
                    <a:pt x="1000" y="580"/>
                  </a:lnTo>
                  <a:lnTo>
                    <a:pt x="1001" y="542"/>
                  </a:lnTo>
                  <a:lnTo>
                    <a:pt x="1001" y="506"/>
                  </a:lnTo>
                  <a:lnTo>
                    <a:pt x="999" y="470"/>
                  </a:lnTo>
                  <a:lnTo>
                    <a:pt x="994" y="435"/>
                  </a:lnTo>
                  <a:lnTo>
                    <a:pt x="993" y="418"/>
                  </a:lnTo>
                  <a:lnTo>
                    <a:pt x="991" y="404"/>
                  </a:lnTo>
                  <a:lnTo>
                    <a:pt x="989" y="393"/>
                  </a:lnTo>
                  <a:lnTo>
                    <a:pt x="987" y="383"/>
                  </a:lnTo>
                  <a:lnTo>
                    <a:pt x="985" y="377"/>
                  </a:lnTo>
                  <a:lnTo>
                    <a:pt x="982" y="372"/>
                  </a:lnTo>
                  <a:lnTo>
                    <a:pt x="979" y="370"/>
                  </a:lnTo>
                  <a:lnTo>
                    <a:pt x="978" y="369"/>
                  </a:lnTo>
                  <a:lnTo>
                    <a:pt x="976" y="369"/>
                  </a:lnTo>
                  <a:lnTo>
                    <a:pt x="974" y="369"/>
                  </a:lnTo>
                  <a:lnTo>
                    <a:pt x="959" y="374"/>
                  </a:lnTo>
                  <a:lnTo>
                    <a:pt x="939" y="379"/>
                  </a:lnTo>
                  <a:lnTo>
                    <a:pt x="915" y="385"/>
                  </a:lnTo>
                  <a:lnTo>
                    <a:pt x="884" y="395"/>
                  </a:lnTo>
                  <a:lnTo>
                    <a:pt x="839" y="407"/>
                  </a:lnTo>
                  <a:lnTo>
                    <a:pt x="799" y="416"/>
                  </a:lnTo>
                  <a:lnTo>
                    <a:pt x="768" y="423"/>
                  </a:lnTo>
                  <a:lnTo>
                    <a:pt x="744" y="430"/>
                  </a:lnTo>
                  <a:lnTo>
                    <a:pt x="724" y="404"/>
                  </a:lnTo>
                  <a:lnTo>
                    <a:pt x="724" y="418"/>
                  </a:lnTo>
                  <a:lnTo>
                    <a:pt x="724" y="435"/>
                  </a:lnTo>
                  <a:lnTo>
                    <a:pt x="724" y="453"/>
                  </a:lnTo>
                  <a:lnTo>
                    <a:pt x="724" y="474"/>
                  </a:lnTo>
                  <a:lnTo>
                    <a:pt x="724" y="499"/>
                  </a:lnTo>
                  <a:lnTo>
                    <a:pt x="724" y="525"/>
                  </a:lnTo>
                  <a:lnTo>
                    <a:pt x="724" y="554"/>
                  </a:lnTo>
                  <a:lnTo>
                    <a:pt x="724" y="585"/>
                  </a:lnTo>
                  <a:lnTo>
                    <a:pt x="723" y="620"/>
                  </a:lnTo>
                  <a:lnTo>
                    <a:pt x="722" y="652"/>
                  </a:lnTo>
                  <a:lnTo>
                    <a:pt x="721" y="682"/>
                  </a:lnTo>
                  <a:lnTo>
                    <a:pt x="721" y="709"/>
                  </a:lnTo>
                  <a:lnTo>
                    <a:pt x="720" y="733"/>
                  </a:lnTo>
                  <a:lnTo>
                    <a:pt x="720" y="755"/>
                  </a:lnTo>
                  <a:lnTo>
                    <a:pt x="720" y="774"/>
                  </a:lnTo>
                  <a:lnTo>
                    <a:pt x="720" y="790"/>
                  </a:lnTo>
                  <a:lnTo>
                    <a:pt x="719" y="796"/>
                  </a:lnTo>
                  <a:lnTo>
                    <a:pt x="717" y="802"/>
                  </a:lnTo>
                  <a:lnTo>
                    <a:pt x="716" y="803"/>
                  </a:lnTo>
                  <a:lnTo>
                    <a:pt x="714" y="804"/>
                  </a:lnTo>
                  <a:lnTo>
                    <a:pt x="712" y="805"/>
                  </a:lnTo>
                  <a:lnTo>
                    <a:pt x="709" y="805"/>
                  </a:lnTo>
                  <a:lnTo>
                    <a:pt x="706" y="807"/>
                  </a:lnTo>
                  <a:lnTo>
                    <a:pt x="703" y="806"/>
                  </a:lnTo>
                  <a:lnTo>
                    <a:pt x="699" y="804"/>
                  </a:lnTo>
                  <a:lnTo>
                    <a:pt x="695" y="800"/>
                  </a:lnTo>
                  <a:close/>
                  <a:moveTo>
                    <a:pt x="414" y="170"/>
                  </a:moveTo>
                  <a:lnTo>
                    <a:pt x="445" y="180"/>
                  </a:lnTo>
                  <a:lnTo>
                    <a:pt x="473" y="189"/>
                  </a:lnTo>
                  <a:lnTo>
                    <a:pt x="499" y="199"/>
                  </a:lnTo>
                  <a:lnTo>
                    <a:pt x="523" y="208"/>
                  </a:lnTo>
                  <a:lnTo>
                    <a:pt x="545" y="218"/>
                  </a:lnTo>
                  <a:lnTo>
                    <a:pt x="565" y="226"/>
                  </a:lnTo>
                  <a:lnTo>
                    <a:pt x="583" y="236"/>
                  </a:lnTo>
                  <a:lnTo>
                    <a:pt x="599" y="244"/>
                  </a:lnTo>
                  <a:lnTo>
                    <a:pt x="601" y="252"/>
                  </a:lnTo>
                  <a:lnTo>
                    <a:pt x="603" y="259"/>
                  </a:lnTo>
                  <a:lnTo>
                    <a:pt x="605" y="269"/>
                  </a:lnTo>
                  <a:lnTo>
                    <a:pt x="606" y="279"/>
                  </a:lnTo>
                  <a:lnTo>
                    <a:pt x="606" y="305"/>
                  </a:lnTo>
                  <a:lnTo>
                    <a:pt x="605" y="334"/>
                  </a:lnTo>
                  <a:lnTo>
                    <a:pt x="602" y="341"/>
                  </a:lnTo>
                  <a:lnTo>
                    <a:pt x="600" y="345"/>
                  </a:lnTo>
                  <a:lnTo>
                    <a:pt x="598" y="348"/>
                  </a:lnTo>
                  <a:lnTo>
                    <a:pt x="594" y="351"/>
                  </a:lnTo>
                  <a:lnTo>
                    <a:pt x="591" y="352"/>
                  </a:lnTo>
                  <a:lnTo>
                    <a:pt x="585" y="352"/>
                  </a:lnTo>
                  <a:lnTo>
                    <a:pt x="580" y="351"/>
                  </a:lnTo>
                  <a:lnTo>
                    <a:pt x="574" y="349"/>
                  </a:lnTo>
                  <a:lnTo>
                    <a:pt x="548" y="329"/>
                  </a:lnTo>
                  <a:lnTo>
                    <a:pt x="524" y="308"/>
                  </a:lnTo>
                  <a:lnTo>
                    <a:pt x="501" y="288"/>
                  </a:lnTo>
                  <a:lnTo>
                    <a:pt x="480" y="269"/>
                  </a:lnTo>
                  <a:lnTo>
                    <a:pt x="458" y="250"/>
                  </a:lnTo>
                  <a:lnTo>
                    <a:pt x="439" y="231"/>
                  </a:lnTo>
                  <a:lnTo>
                    <a:pt x="421" y="213"/>
                  </a:lnTo>
                  <a:lnTo>
                    <a:pt x="404" y="195"/>
                  </a:lnTo>
                  <a:lnTo>
                    <a:pt x="378" y="259"/>
                  </a:lnTo>
                  <a:lnTo>
                    <a:pt x="350" y="321"/>
                  </a:lnTo>
                  <a:lnTo>
                    <a:pt x="324" y="380"/>
                  </a:lnTo>
                  <a:lnTo>
                    <a:pt x="295" y="435"/>
                  </a:lnTo>
                  <a:lnTo>
                    <a:pt x="268" y="487"/>
                  </a:lnTo>
                  <a:lnTo>
                    <a:pt x="238" y="536"/>
                  </a:lnTo>
                  <a:lnTo>
                    <a:pt x="224" y="559"/>
                  </a:lnTo>
                  <a:lnTo>
                    <a:pt x="209" y="582"/>
                  </a:lnTo>
                  <a:lnTo>
                    <a:pt x="195" y="604"/>
                  </a:lnTo>
                  <a:lnTo>
                    <a:pt x="180" y="625"/>
                  </a:lnTo>
                  <a:lnTo>
                    <a:pt x="170" y="638"/>
                  </a:lnTo>
                  <a:lnTo>
                    <a:pt x="160" y="650"/>
                  </a:lnTo>
                  <a:lnTo>
                    <a:pt x="150" y="661"/>
                  </a:lnTo>
                  <a:lnTo>
                    <a:pt x="140" y="670"/>
                  </a:lnTo>
                  <a:lnTo>
                    <a:pt x="129" y="678"/>
                  </a:lnTo>
                  <a:lnTo>
                    <a:pt x="118" y="685"/>
                  </a:lnTo>
                  <a:lnTo>
                    <a:pt x="108" y="691"/>
                  </a:lnTo>
                  <a:lnTo>
                    <a:pt x="97" y="695"/>
                  </a:lnTo>
                  <a:lnTo>
                    <a:pt x="86" y="698"/>
                  </a:lnTo>
                  <a:lnTo>
                    <a:pt x="74" y="700"/>
                  </a:lnTo>
                  <a:lnTo>
                    <a:pt x="62" y="701"/>
                  </a:lnTo>
                  <a:lnTo>
                    <a:pt x="50" y="700"/>
                  </a:lnTo>
                  <a:lnTo>
                    <a:pt x="38" y="698"/>
                  </a:lnTo>
                  <a:lnTo>
                    <a:pt x="25" y="695"/>
                  </a:lnTo>
                  <a:lnTo>
                    <a:pt x="12" y="691"/>
                  </a:lnTo>
                  <a:lnTo>
                    <a:pt x="0" y="685"/>
                  </a:lnTo>
                  <a:lnTo>
                    <a:pt x="24" y="664"/>
                  </a:lnTo>
                  <a:lnTo>
                    <a:pt x="48" y="642"/>
                  </a:lnTo>
                  <a:lnTo>
                    <a:pt x="72" y="618"/>
                  </a:lnTo>
                  <a:lnTo>
                    <a:pt x="95" y="594"/>
                  </a:lnTo>
                  <a:lnTo>
                    <a:pt x="117" y="568"/>
                  </a:lnTo>
                  <a:lnTo>
                    <a:pt x="138" y="540"/>
                  </a:lnTo>
                  <a:lnTo>
                    <a:pt x="160" y="510"/>
                  </a:lnTo>
                  <a:lnTo>
                    <a:pt x="181" y="480"/>
                  </a:lnTo>
                  <a:lnTo>
                    <a:pt x="201" y="448"/>
                  </a:lnTo>
                  <a:lnTo>
                    <a:pt x="220" y="415"/>
                  </a:lnTo>
                  <a:lnTo>
                    <a:pt x="239" y="380"/>
                  </a:lnTo>
                  <a:lnTo>
                    <a:pt x="257" y="344"/>
                  </a:lnTo>
                  <a:lnTo>
                    <a:pt x="275" y="306"/>
                  </a:lnTo>
                  <a:lnTo>
                    <a:pt x="292" y="267"/>
                  </a:lnTo>
                  <a:lnTo>
                    <a:pt x="308" y="226"/>
                  </a:lnTo>
                  <a:lnTo>
                    <a:pt x="324" y="185"/>
                  </a:lnTo>
                  <a:lnTo>
                    <a:pt x="332" y="151"/>
                  </a:lnTo>
                  <a:lnTo>
                    <a:pt x="339" y="120"/>
                  </a:lnTo>
                  <a:lnTo>
                    <a:pt x="344" y="93"/>
                  </a:lnTo>
                  <a:lnTo>
                    <a:pt x="348" y="68"/>
                  </a:lnTo>
                  <a:lnTo>
                    <a:pt x="350" y="46"/>
                  </a:lnTo>
                  <a:lnTo>
                    <a:pt x="351" y="28"/>
                  </a:lnTo>
                  <a:lnTo>
                    <a:pt x="351" y="12"/>
                  </a:lnTo>
                  <a:lnTo>
                    <a:pt x="349" y="0"/>
                  </a:lnTo>
                  <a:lnTo>
                    <a:pt x="361" y="8"/>
                  </a:lnTo>
                  <a:lnTo>
                    <a:pt x="375" y="15"/>
                  </a:lnTo>
                  <a:lnTo>
                    <a:pt x="390" y="23"/>
                  </a:lnTo>
                  <a:lnTo>
                    <a:pt x="405" y="29"/>
                  </a:lnTo>
                  <a:lnTo>
                    <a:pt x="423" y="36"/>
                  </a:lnTo>
                  <a:lnTo>
                    <a:pt x="442" y="41"/>
                  </a:lnTo>
                  <a:lnTo>
                    <a:pt x="463" y="45"/>
                  </a:lnTo>
                  <a:lnTo>
                    <a:pt x="484" y="49"/>
                  </a:lnTo>
                  <a:lnTo>
                    <a:pt x="474" y="61"/>
                  </a:lnTo>
                  <a:lnTo>
                    <a:pt x="465" y="74"/>
                  </a:lnTo>
                  <a:lnTo>
                    <a:pt x="455" y="88"/>
                  </a:lnTo>
                  <a:lnTo>
                    <a:pt x="447" y="102"/>
                  </a:lnTo>
                  <a:lnTo>
                    <a:pt x="438" y="117"/>
                  </a:lnTo>
                  <a:lnTo>
                    <a:pt x="430" y="134"/>
                  </a:lnTo>
                  <a:lnTo>
                    <a:pt x="422" y="151"/>
                  </a:lnTo>
                  <a:lnTo>
                    <a:pt x="414" y="170"/>
                  </a:lnTo>
                  <a:close/>
                  <a:moveTo>
                    <a:pt x="799" y="460"/>
                  </a:moveTo>
                  <a:lnTo>
                    <a:pt x="818" y="467"/>
                  </a:lnTo>
                  <a:lnTo>
                    <a:pt x="838" y="472"/>
                  </a:lnTo>
                  <a:lnTo>
                    <a:pt x="855" y="478"/>
                  </a:lnTo>
                  <a:lnTo>
                    <a:pt x="870" y="481"/>
                  </a:lnTo>
                  <a:lnTo>
                    <a:pt x="886" y="484"/>
                  </a:lnTo>
                  <a:lnTo>
                    <a:pt x="900" y="485"/>
                  </a:lnTo>
                  <a:lnTo>
                    <a:pt x="913" y="486"/>
                  </a:lnTo>
                  <a:lnTo>
                    <a:pt x="924" y="485"/>
                  </a:lnTo>
                  <a:lnTo>
                    <a:pt x="919" y="497"/>
                  </a:lnTo>
                  <a:lnTo>
                    <a:pt x="915" y="509"/>
                  </a:lnTo>
                  <a:lnTo>
                    <a:pt x="911" y="522"/>
                  </a:lnTo>
                  <a:lnTo>
                    <a:pt x="906" y="536"/>
                  </a:lnTo>
                  <a:lnTo>
                    <a:pt x="900" y="567"/>
                  </a:lnTo>
                  <a:lnTo>
                    <a:pt x="895" y="599"/>
                  </a:lnTo>
                  <a:lnTo>
                    <a:pt x="891" y="635"/>
                  </a:lnTo>
                  <a:lnTo>
                    <a:pt x="884" y="669"/>
                  </a:lnTo>
                  <a:lnTo>
                    <a:pt x="878" y="703"/>
                  </a:lnTo>
                  <a:lnTo>
                    <a:pt x="870" y="734"/>
                  </a:lnTo>
                  <a:lnTo>
                    <a:pt x="862" y="765"/>
                  </a:lnTo>
                  <a:lnTo>
                    <a:pt x="851" y="793"/>
                  </a:lnTo>
                  <a:lnTo>
                    <a:pt x="841" y="821"/>
                  </a:lnTo>
                  <a:lnTo>
                    <a:pt x="828" y="847"/>
                  </a:lnTo>
                  <a:lnTo>
                    <a:pt x="814" y="873"/>
                  </a:lnTo>
                  <a:lnTo>
                    <a:pt x="800" y="896"/>
                  </a:lnTo>
                  <a:lnTo>
                    <a:pt x="785" y="918"/>
                  </a:lnTo>
                  <a:lnTo>
                    <a:pt x="768" y="940"/>
                  </a:lnTo>
                  <a:lnTo>
                    <a:pt x="750" y="960"/>
                  </a:lnTo>
                  <a:lnTo>
                    <a:pt x="731" y="978"/>
                  </a:lnTo>
                  <a:lnTo>
                    <a:pt x="710" y="995"/>
                  </a:lnTo>
                  <a:lnTo>
                    <a:pt x="689" y="1011"/>
                  </a:lnTo>
                  <a:lnTo>
                    <a:pt x="675" y="1021"/>
                  </a:lnTo>
                  <a:lnTo>
                    <a:pt x="662" y="1030"/>
                  </a:lnTo>
                  <a:lnTo>
                    <a:pt x="648" y="1038"/>
                  </a:lnTo>
                  <a:lnTo>
                    <a:pt x="634" y="1044"/>
                  </a:lnTo>
                  <a:lnTo>
                    <a:pt x="621" y="1050"/>
                  </a:lnTo>
                  <a:lnTo>
                    <a:pt x="608" y="1053"/>
                  </a:lnTo>
                  <a:lnTo>
                    <a:pt x="594" y="1055"/>
                  </a:lnTo>
                  <a:lnTo>
                    <a:pt x="580" y="1056"/>
                  </a:lnTo>
                  <a:lnTo>
                    <a:pt x="567" y="1056"/>
                  </a:lnTo>
                  <a:lnTo>
                    <a:pt x="554" y="1054"/>
                  </a:lnTo>
                  <a:lnTo>
                    <a:pt x="540" y="1051"/>
                  </a:lnTo>
                  <a:lnTo>
                    <a:pt x="527" y="1047"/>
                  </a:lnTo>
                  <a:lnTo>
                    <a:pt x="513" y="1041"/>
                  </a:lnTo>
                  <a:lnTo>
                    <a:pt x="501" y="1034"/>
                  </a:lnTo>
                  <a:lnTo>
                    <a:pt x="487" y="1025"/>
                  </a:lnTo>
                  <a:lnTo>
                    <a:pt x="474" y="1015"/>
                  </a:lnTo>
                  <a:lnTo>
                    <a:pt x="494" y="1009"/>
                  </a:lnTo>
                  <a:lnTo>
                    <a:pt x="513" y="1002"/>
                  </a:lnTo>
                  <a:lnTo>
                    <a:pt x="531" y="996"/>
                  </a:lnTo>
                  <a:lnTo>
                    <a:pt x="549" y="988"/>
                  </a:lnTo>
                  <a:lnTo>
                    <a:pt x="567" y="980"/>
                  </a:lnTo>
                  <a:lnTo>
                    <a:pt x="584" y="971"/>
                  </a:lnTo>
                  <a:lnTo>
                    <a:pt x="600" y="963"/>
                  </a:lnTo>
                  <a:lnTo>
                    <a:pt x="616" y="954"/>
                  </a:lnTo>
                  <a:lnTo>
                    <a:pt x="631" y="945"/>
                  </a:lnTo>
                  <a:lnTo>
                    <a:pt x="646" y="934"/>
                  </a:lnTo>
                  <a:lnTo>
                    <a:pt x="660" y="924"/>
                  </a:lnTo>
                  <a:lnTo>
                    <a:pt x="672" y="913"/>
                  </a:lnTo>
                  <a:lnTo>
                    <a:pt x="686" y="901"/>
                  </a:lnTo>
                  <a:lnTo>
                    <a:pt x="698" y="890"/>
                  </a:lnTo>
                  <a:lnTo>
                    <a:pt x="709" y="878"/>
                  </a:lnTo>
                  <a:lnTo>
                    <a:pt x="721" y="865"/>
                  </a:lnTo>
                  <a:lnTo>
                    <a:pt x="731" y="853"/>
                  </a:lnTo>
                  <a:lnTo>
                    <a:pt x="741" y="839"/>
                  </a:lnTo>
                  <a:lnTo>
                    <a:pt x="751" y="825"/>
                  </a:lnTo>
                  <a:lnTo>
                    <a:pt x="759" y="810"/>
                  </a:lnTo>
                  <a:lnTo>
                    <a:pt x="768" y="795"/>
                  </a:lnTo>
                  <a:lnTo>
                    <a:pt x="775" y="781"/>
                  </a:lnTo>
                  <a:lnTo>
                    <a:pt x="782" y="765"/>
                  </a:lnTo>
                  <a:lnTo>
                    <a:pt x="789" y="749"/>
                  </a:lnTo>
                  <a:lnTo>
                    <a:pt x="794" y="733"/>
                  </a:lnTo>
                  <a:lnTo>
                    <a:pt x="799" y="716"/>
                  </a:lnTo>
                  <a:lnTo>
                    <a:pt x="805" y="698"/>
                  </a:lnTo>
                  <a:lnTo>
                    <a:pt x="809" y="680"/>
                  </a:lnTo>
                  <a:lnTo>
                    <a:pt x="812" y="662"/>
                  </a:lnTo>
                  <a:lnTo>
                    <a:pt x="815" y="644"/>
                  </a:lnTo>
                  <a:lnTo>
                    <a:pt x="817" y="625"/>
                  </a:lnTo>
                  <a:lnTo>
                    <a:pt x="820" y="605"/>
                  </a:lnTo>
                  <a:lnTo>
                    <a:pt x="822" y="582"/>
                  </a:lnTo>
                  <a:lnTo>
                    <a:pt x="822" y="560"/>
                  </a:lnTo>
                  <a:lnTo>
                    <a:pt x="822" y="540"/>
                  </a:lnTo>
                  <a:lnTo>
                    <a:pt x="820" y="521"/>
                  </a:lnTo>
                  <a:lnTo>
                    <a:pt x="816" y="504"/>
                  </a:lnTo>
                  <a:lnTo>
                    <a:pt x="812" y="488"/>
                  </a:lnTo>
                  <a:lnTo>
                    <a:pt x="807" y="473"/>
                  </a:lnTo>
                  <a:lnTo>
                    <a:pt x="799" y="460"/>
                  </a:lnTo>
                  <a:close/>
                  <a:moveTo>
                    <a:pt x="294" y="760"/>
                  </a:moveTo>
                  <a:lnTo>
                    <a:pt x="297" y="763"/>
                  </a:lnTo>
                  <a:lnTo>
                    <a:pt x="302" y="765"/>
                  </a:lnTo>
                  <a:lnTo>
                    <a:pt x="307" y="768"/>
                  </a:lnTo>
                  <a:lnTo>
                    <a:pt x="314" y="770"/>
                  </a:lnTo>
                  <a:lnTo>
                    <a:pt x="321" y="773"/>
                  </a:lnTo>
                  <a:lnTo>
                    <a:pt x="332" y="778"/>
                  </a:lnTo>
                  <a:lnTo>
                    <a:pt x="346" y="786"/>
                  </a:lnTo>
                  <a:lnTo>
                    <a:pt x="364" y="795"/>
                  </a:lnTo>
                  <a:lnTo>
                    <a:pt x="379" y="769"/>
                  </a:lnTo>
                  <a:lnTo>
                    <a:pt x="393" y="745"/>
                  </a:lnTo>
                  <a:lnTo>
                    <a:pt x="405" y="720"/>
                  </a:lnTo>
                  <a:lnTo>
                    <a:pt x="418" y="696"/>
                  </a:lnTo>
                  <a:lnTo>
                    <a:pt x="430" y="674"/>
                  </a:lnTo>
                  <a:lnTo>
                    <a:pt x="440" y="651"/>
                  </a:lnTo>
                  <a:lnTo>
                    <a:pt x="450" y="630"/>
                  </a:lnTo>
                  <a:lnTo>
                    <a:pt x="459" y="610"/>
                  </a:lnTo>
                  <a:lnTo>
                    <a:pt x="434" y="616"/>
                  </a:lnTo>
                  <a:lnTo>
                    <a:pt x="410" y="624"/>
                  </a:lnTo>
                  <a:lnTo>
                    <a:pt x="384" y="631"/>
                  </a:lnTo>
                  <a:lnTo>
                    <a:pt x="360" y="640"/>
                  </a:lnTo>
                  <a:lnTo>
                    <a:pt x="334" y="649"/>
                  </a:lnTo>
                  <a:lnTo>
                    <a:pt x="309" y="659"/>
                  </a:lnTo>
                  <a:lnTo>
                    <a:pt x="285" y="669"/>
                  </a:lnTo>
                  <a:lnTo>
                    <a:pt x="259" y="680"/>
                  </a:lnTo>
                  <a:lnTo>
                    <a:pt x="244" y="666"/>
                  </a:lnTo>
                  <a:lnTo>
                    <a:pt x="229" y="651"/>
                  </a:lnTo>
                  <a:lnTo>
                    <a:pt x="212" y="634"/>
                  </a:lnTo>
                  <a:lnTo>
                    <a:pt x="195" y="615"/>
                  </a:lnTo>
                  <a:lnTo>
                    <a:pt x="235" y="610"/>
                  </a:lnTo>
                  <a:lnTo>
                    <a:pt x="273" y="605"/>
                  </a:lnTo>
                  <a:lnTo>
                    <a:pt x="309" y="596"/>
                  </a:lnTo>
                  <a:lnTo>
                    <a:pt x="344" y="588"/>
                  </a:lnTo>
                  <a:lnTo>
                    <a:pt x="361" y="582"/>
                  </a:lnTo>
                  <a:lnTo>
                    <a:pt x="377" y="577"/>
                  </a:lnTo>
                  <a:lnTo>
                    <a:pt x="393" y="571"/>
                  </a:lnTo>
                  <a:lnTo>
                    <a:pt x="408" y="564"/>
                  </a:lnTo>
                  <a:lnTo>
                    <a:pt x="422" y="558"/>
                  </a:lnTo>
                  <a:lnTo>
                    <a:pt x="437" y="551"/>
                  </a:lnTo>
                  <a:lnTo>
                    <a:pt x="451" y="543"/>
                  </a:lnTo>
                  <a:lnTo>
                    <a:pt x="465" y="535"/>
                  </a:lnTo>
                  <a:lnTo>
                    <a:pt x="480" y="550"/>
                  </a:lnTo>
                  <a:lnTo>
                    <a:pt x="495" y="563"/>
                  </a:lnTo>
                  <a:lnTo>
                    <a:pt x="512" y="576"/>
                  </a:lnTo>
                  <a:lnTo>
                    <a:pt x="529" y="588"/>
                  </a:lnTo>
                  <a:lnTo>
                    <a:pt x="547" y="598"/>
                  </a:lnTo>
                  <a:lnTo>
                    <a:pt x="565" y="608"/>
                  </a:lnTo>
                  <a:lnTo>
                    <a:pt x="584" y="617"/>
                  </a:lnTo>
                  <a:lnTo>
                    <a:pt x="605" y="625"/>
                  </a:lnTo>
                  <a:lnTo>
                    <a:pt x="576" y="648"/>
                  </a:lnTo>
                  <a:lnTo>
                    <a:pt x="547" y="670"/>
                  </a:lnTo>
                  <a:lnTo>
                    <a:pt x="520" y="694"/>
                  </a:lnTo>
                  <a:lnTo>
                    <a:pt x="493" y="717"/>
                  </a:lnTo>
                  <a:lnTo>
                    <a:pt x="467" y="741"/>
                  </a:lnTo>
                  <a:lnTo>
                    <a:pt x="440" y="766"/>
                  </a:lnTo>
                  <a:lnTo>
                    <a:pt x="415" y="790"/>
                  </a:lnTo>
                  <a:lnTo>
                    <a:pt x="390" y="816"/>
                  </a:lnTo>
                  <a:lnTo>
                    <a:pt x="413" y="827"/>
                  </a:lnTo>
                  <a:lnTo>
                    <a:pt x="434" y="840"/>
                  </a:lnTo>
                  <a:lnTo>
                    <a:pt x="453" y="853"/>
                  </a:lnTo>
                  <a:lnTo>
                    <a:pt x="469" y="865"/>
                  </a:lnTo>
                  <a:lnTo>
                    <a:pt x="471" y="870"/>
                  </a:lnTo>
                  <a:lnTo>
                    <a:pt x="472" y="876"/>
                  </a:lnTo>
                  <a:lnTo>
                    <a:pt x="472" y="884"/>
                  </a:lnTo>
                  <a:lnTo>
                    <a:pt x="472" y="895"/>
                  </a:lnTo>
                  <a:lnTo>
                    <a:pt x="470" y="908"/>
                  </a:lnTo>
                  <a:lnTo>
                    <a:pt x="468" y="922"/>
                  </a:lnTo>
                  <a:lnTo>
                    <a:pt x="464" y="937"/>
                  </a:lnTo>
                  <a:lnTo>
                    <a:pt x="459" y="955"/>
                  </a:lnTo>
                  <a:lnTo>
                    <a:pt x="457" y="961"/>
                  </a:lnTo>
                  <a:lnTo>
                    <a:pt x="455" y="965"/>
                  </a:lnTo>
                  <a:lnTo>
                    <a:pt x="452" y="968"/>
                  </a:lnTo>
                  <a:lnTo>
                    <a:pt x="448" y="970"/>
                  </a:lnTo>
                  <a:lnTo>
                    <a:pt x="444" y="971"/>
                  </a:lnTo>
                  <a:lnTo>
                    <a:pt x="438" y="970"/>
                  </a:lnTo>
                  <a:lnTo>
                    <a:pt x="432" y="968"/>
                  </a:lnTo>
                  <a:lnTo>
                    <a:pt x="424" y="965"/>
                  </a:lnTo>
                  <a:lnTo>
                    <a:pt x="405" y="946"/>
                  </a:lnTo>
                  <a:lnTo>
                    <a:pt x="387" y="926"/>
                  </a:lnTo>
                  <a:lnTo>
                    <a:pt x="368" y="905"/>
                  </a:lnTo>
                  <a:lnTo>
                    <a:pt x="350" y="881"/>
                  </a:lnTo>
                  <a:lnTo>
                    <a:pt x="332" y="858"/>
                  </a:lnTo>
                  <a:lnTo>
                    <a:pt x="314" y="833"/>
                  </a:lnTo>
                  <a:lnTo>
                    <a:pt x="296" y="807"/>
                  </a:lnTo>
                  <a:lnTo>
                    <a:pt x="279" y="781"/>
                  </a:lnTo>
                  <a:lnTo>
                    <a:pt x="275" y="773"/>
                  </a:lnTo>
                  <a:lnTo>
                    <a:pt x="273" y="768"/>
                  </a:lnTo>
                  <a:lnTo>
                    <a:pt x="273" y="764"/>
                  </a:lnTo>
                  <a:lnTo>
                    <a:pt x="274" y="760"/>
                  </a:lnTo>
                  <a:lnTo>
                    <a:pt x="277" y="758"/>
                  </a:lnTo>
                  <a:lnTo>
                    <a:pt x="281" y="757"/>
                  </a:lnTo>
                  <a:lnTo>
                    <a:pt x="288" y="758"/>
                  </a:lnTo>
                  <a:lnTo>
                    <a:pt x="294" y="760"/>
                  </a:lnTo>
                  <a:close/>
                  <a:moveTo>
                    <a:pt x="900" y="800"/>
                  </a:moveTo>
                  <a:lnTo>
                    <a:pt x="936" y="816"/>
                  </a:lnTo>
                  <a:lnTo>
                    <a:pt x="970" y="830"/>
                  </a:lnTo>
                  <a:lnTo>
                    <a:pt x="1003" y="845"/>
                  </a:lnTo>
                  <a:lnTo>
                    <a:pt x="1034" y="860"/>
                  </a:lnTo>
                  <a:lnTo>
                    <a:pt x="1061" y="875"/>
                  </a:lnTo>
                  <a:lnTo>
                    <a:pt x="1088" y="890"/>
                  </a:lnTo>
                  <a:lnTo>
                    <a:pt x="1112" y="906"/>
                  </a:lnTo>
                  <a:lnTo>
                    <a:pt x="1134" y="920"/>
                  </a:lnTo>
                  <a:lnTo>
                    <a:pt x="1138" y="927"/>
                  </a:lnTo>
                  <a:lnTo>
                    <a:pt x="1140" y="935"/>
                  </a:lnTo>
                  <a:lnTo>
                    <a:pt x="1143" y="945"/>
                  </a:lnTo>
                  <a:lnTo>
                    <a:pt x="1144" y="957"/>
                  </a:lnTo>
                  <a:lnTo>
                    <a:pt x="1144" y="969"/>
                  </a:lnTo>
                  <a:lnTo>
                    <a:pt x="1143" y="983"/>
                  </a:lnTo>
                  <a:lnTo>
                    <a:pt x="1142" y="999"/>
                  </a:lnTo>
                  <a:lnTo>
                    <a:pt x="1139" y="1015"/>
                  </a:lnTo>
                  <a:lnTo>
                    <a:pt x="1137" y="1026"/>
                  </a:lnTo>
                  <a:lnTo>
                    <a:pt x="1134" y="1035"/>
                  </a:lnTo>
                  <a:lnTo>
                    <a:pt x="1132" y="1041"/>
                  </a:lnTo>
                  <a:lnTo>
                    <a:pt x="1130" y="1046"/>
                  </a:lnTo>
                  <a:lnTo>
                    <a:pt x="1127" y="1047"/>
                  </a:lnTo>
                  <a:lnTo>
                    <a:pt x="1125" y="1047"/>
                  </a:lnTo>
                  <a:lnTo>
                    <a:pt x="1121" y="1047"/>
                  </a:lnTo>
                  <a:lnTo>
                    <a:pt x="1118" y="1046"/>
                  </a:lnTo>
                  <a:lnTo>
                    <a:pt x="1112" y="1041"/>
                  </a:lnTo>
                  <a:lnTo>
                    <a:pt x="1104" y="1035"/>
                  </a:lnTo>
                  <a:lnTo>
                    <a:pt x="1072" y="1007"/>
                  </a:lnTo>
                  <a:lnTo>
                    <a:pt x="1040" y="981"/>
                  </a:lnTo>
                  <a:lnTo>
                    <a:pt x="1010" y="954"/>
                  </a:lnTo>
                  <a:lnTo>
                    <a:pt x="982" y="928"/>
                  </a:lnTo>
                  <a:lnTo>
                    <a:pt x="955" y="901"/>
                  </a:lnTo>
                  <a:lnTo>
                    <a:pt x="930" y="876"/>
                  </a:lnTo>
                  <a:lnTo>
                    <a:pt x="906" y="851"/>
                  </a:lnTo>
                  <a:lnTo>
                    <a:pt x="884" y="825"/>
                  </a:lnTo>
                  <a:lnTo>
                    <a:pt x="878" y="818"/>
                  </a:lnTo>
                  <a:lnTo>
                    <a:pt x="875" y="811"/>
                  </a:lnTo>
                  <a:lnTo>
                    <a:pt x="874" y="808"/>
                  </a:lnTo>
                  <a:lnTo>
                    <a:pt x="874" y="805"/>
                  </a:lnTo>
                  <a:lnTo>
                    <a:pt x="874" y="803"/>
                  </a:lnTo>
                  <a:lnTo>
                    <a:pt x="875" y="800"/>
                  </a:lnTo>
                  <a:lnTo>
                    <a:pt x="876" y="798"/>
                  </a:lnTo>
                  <a:lnTo>
                    <a:pt x="878" y="796"/>
                  </a:lnTo>
                  <a:lnTo>
                    <a:pt x="880" y="795"/>
                  </a:lnTo>
                  <a:lnTo>
                    <a:pt x="883" y="795"/>
                  </a:lnTo>
                  <a:lnTo>
                    <a:pt x="891" y="796"/>
                  </a:lnTo>
                  <a:lnTo>
                    <a:pt x="900" y="800"/>
                  </a:lnTo>
                  <a:close/>
                  <a:moveTo>
                    <a:pt x="364" y="369"/>
                  </a:moveTo>
                  <a:lnTo>
                    <a:pt x="398" y="378"/>
                  </a:lnTo>
                  <a:lnTo>
                    <a:pt x="428" y="387"/>
                  </a:lnTo>
                  <a:lnTo>
                    <a:pt x="442" y="393"/>
                  </a:lnTo>
                  <a:lnTo>
                    <a:pt x="455" y="398"/>
                  </a:lnTo>
                  <a:lnTo>
                    <a:pt x="468" y="403"/>
                  </a:lnTo>
                  <a:lnTo>
                    <a:pt x="480" y="410"/>
                  </a:lnTo>
                  <a:lnTo>
                    <a:pt x="482" y="416"/>
                  </a:lnTo>
                  <a:lnTo>
                    <a:pt x="483" y="423"/>
                  </a:lnTo>
                  <a:lnTo>
                    <a:pt x="484" y="432"/>
                  </a:lnTo>
                  <a:lnTo>
                    <a:pt x="485" y="441"/>
                  </a:lnTo>
                  <a:lnTo>
                    <a:pt x="483" y="462"/>
                  </a:lnTo>
                  <a:lnTo>
                    <a:pt x="480" y="485"/>
                  </a:lnTo>
                  <a:lnTo>
                    <a:pt x="480" y="491"/>
                  </a:lnTo>
                  <a:lnTo>
                    <a:pt x="478" y="498"/>
                  </a:lnTo>
                  <a:lnTo>
                    <a:pt x="476" y="502"/>
                  </a:lnTo>
                  <a:lnTo>
                    <a:pt x="474" y="505"/>
                  </a:lnTo>
                  <a:lnTo>
                    <a:pt x="470" y="504"/>
                  </a:lnTo>
                  <a:lnTo>
                    <a:pt x="466" y="502"/>
                  </a:lnTo>
                  <a:lnTo>
                    <a:pt x="463" y="500"/>
                  </a:lnTo>
                  <a:lnTo>
                    <a:pt x="459" y="494"/>
                  </a:lnTo>
                  <a:lnTo>
                    <a:pt x="445" y="484"/>
                  </a:lnTo>
                  <a:lnTo>
                    <a:pt x="430" y="472"/>
                  </a:lnTo>
                  <a:lnTo>
                    <a:pt x="416" y="460"/>
                  </a:lnTo>
                  <a:lnTo>
                    <a:pt x="403" y="447"/>
                  </a:lnTo>
                  <a:lnTo>
                    <a:pt x="391" y="435"/>
                  </a:lnTo>
                  <a:lnTo>
                    <a:pt x="378" y="421"/>
                  </a:lnTo>
                  <a:lnTo>
                    <a:pt x="366" y="409"/>
                  </a:lnTo>
                  <a:lnTo>
                    <a:pt x="355" y="395"/>
                  </a:lnTo>
                  <a:lnTo>
                    <a:pt x="350" y="387"/>
                  </a:lnTo>
                  <a:lnTo>
                    <a:pt x="347" y="382"/>
                  </a:lnTo>
                  <a:lnTo>
                    <a:pt x="345" y="378"/>
                  </a:lnTo>
                  <a:lnTo>
                    <a:pt x="344" y="375"/>
                  </a:lnTo>
                  <a:lnTo>
                    <a:pt x="346" y="373"/>
                  </a:lnTo>
                  <a:lnTo>
                    <a:pt x="347" y="370"/>
                  </a:lnTo>
                  <a:lnTo>
                    <a:pt x="349" y="369"/>
                  </a:lnTo>
                  <a:lnTo>
                    <a:pt x="351" y="368"/>
                  </a:lnTo>
                  <a:lnTo>
                    <a:pt x="358" y="368"/>
                  </a:lnTo>
                  <a:lnTo>
                    <a:pt x="364" y="369"/>
                  </a:lnTo>
                  <a:close/>
                </a:path>
              </a:pathLst>
            </a:custGeom>
            <a:solidFill>
              <a:srgbClr val="ffff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00"/>
                </a:solidFill>
                <a:latin typeface="Arial"/>
                <a:ea typeface="宋体"/>
              </a:endParaRPr>
            </a:p>
          </p:txBody>
        </p:sp>
        <p:sp>
          <p:nvSpPr>
            <p:cNvPr id="513" name="Freeform 15"/>
            <p:cNvSpPr/>
            <p:nvPr/>
          </p:nvSpPr>
          <p:spPr>
            <a:xfrm>
              <a:off x="2975400" y="9456120"/>
              <a:ext cx="189720" cy="162360"/>
            </a:xfrm>
            <a:custGeom>
              <a:avLst/>
              <a:gdLst>
                <a:gd name="textAreaLeft" fmla="*/ 0 w 189720"/>
                <a:gd name="textAreaRight" fmla="*/ 190080 w 189720"/>
                <a:gd name="textAreaTop" fmla="*/ 0 h 162360"/>
                <a:gd name="textAreaBottom" fmla="*/ 162720 h 162360"/>
              </a:gdLst>
              <a:ahLst/>
              <a:rect l="textAreaLeft" t="textAreaTop" r="textAreaRight" b="textAreaBottom"/>
              <a:pathLst>
                <a:path w="1196" h="1066">
                  <a:moveTo>
                    <a:pt x="146" y="1066"/>
                  </a:moveTo>
                  <a:lnTo>
                    <a:pt x="137" y="1060"/>
                  </a:lnTo>
                  <a:lnTo>
                    <a:pt x="129" y="1051"/>
                  </a:lnTo>
                  <a:lnTo>
                    <a:pt x="118" y="1040"/>
                  </a:lnTo>
                  <a:lnTo>
                    <a:pt x="105" y="1026"/>
                  </a:lnTo>
                  <a:lnTo>
                    <a:pt x="94" y="1017"/>
                  </a:lnTo>
                  <a:lnTo>
                    <a:pt x="84" y="1010"/>
                  </a:lnTo>
                  <a:lnTo>
                    <a:pt x="77" y="1005"/>
                  </a:lnTo>
                  <a:lnTo>
                    <a:pt x="70" y="1002"/>
                  </a:lnTo>
                  <a:lnTo>
                    <a:pt x="101" y="999"/>
                  </a:lnTo>
                  <a:lnTo>
                    <a:pt x="131" y="998"/>
                  </a:lnTo>
                  <a:lnTo>
                    <a:pt x="160" y="996"/>
                  </a:lnTo>
                  <a:lnTo>
                    <a:pt x="189" y="994"/>
                  </a:lnTo>
                  <a:lnTo>
                    <a:pt x="219" y="991"/>
                  </a:lnTo>
                  <a:lnTo>
                    <a:pt x="248" y="988"/>
                  </a:lnTo>
                  <a:lnTo>
                    <a:pt x="277" y="985"/>
                  </a:lnTo>
                  <a:lnTo>
                    <a:pt x="305" y="981"/>
                  </a:lnTo>
                  <a:lnTo>
                    <a:pt x="305" y="959"/>
                  </a:lnTo>
                  <a:lnTo>
                    <a:pt x="305" y="936"/>
                  </a:lnTo>
                  <a:lnTo>
                    <a:pt x="304" y="914"/>
                  </a:lnTo>
                  <a:lnTo>
                    <a:pt x="303" y="891"/>
                  </a:lnTo>
                  <a:lnTo>
                    <a:pt x="302" y="869"/>
                  </a:lnTo>
                  <a:lnTo>
                    <a:pt x="300" y="846"/>
                  </a:lnTo>
                  <a:lnTo>
                    <a:pt x="298" y="824"/>
                  </a:lnTo>
                  <a:lnTo>
                    <a:pt x="296" y="801"/>
                  </a:lnTo>
                  <a:lnTo>
                    <a:pt x="293" y="777"/>
                  </a:lnTo>
                  <a:lnTo>
                    <a:pt x="290" y="754"/>
                  </a:lnTo>
                  <a:lnTo>
                    <a:pt x="285" y="731"/>
                  </a:lnTo>
                  <a:lnTo>
                    <a:pt x="281" y="711"/>
                  </a:lnTo>
                  <a:lnTo>
                    <a:pt x="276" y="692"/>
                  </a:lnTo>
                  <a:lnTo>
                    <a:pt x="269" y="673"/>
                  </a:lnTo>
                  <a:lnTo>
                    <a:pt x="263" y="656"/>
                  </a:lnTo>
                  <a:lnTo>
                    <a:pt x="256" y="641"/>
                  </a:lnTo>
                  <a:lnTo>
                    <a:pt x="273" y="647"/>
                  </a:lnTo>
                  <a:lnTo>
                    <a:pt x="290" y="652"/>
                  </a:lnTo>
                  <a:lnTo>
                    <a:pt x="307" y="656"/>
                  </a:lnTo>
                  <a:lnTo>
                    <a:pt x="325" y="659"/>
                  </a:lnTo>
                  <a:lnTo>
                    <a:pt x="343" y="662"/>
                  </a:lnTo>
                  <a:lnTo>
                    <a:pt x="362" y="665"/>
                  </a:lnTo>
                  <a:lnTo>
                    <a:pt x="381" y="666"/>
                  </a:lnTo>
                  <a:lnTo>
                    <a:pt x="401" y="666"/>
                  </a:lnTo>
                  <a:lnTo>
                    <a:pt x="397" y="676"/>
                  </a:lnTo>
                  <a:lnTo>
                    <a:pt x="392" y="689"/>
                  </a:lnTo>
                  <a:lnTo>
                    <a:pt x="388" y="702"/>
                  </a:lnTo>
                  <a:lnTo>
                    <a:pt x="386" y="717"/>
                  </a:lnTo>
                  <a:lnTo>
                    <a:pt x="384" y="731"/>
                  </a:lnTo>
                  <a:lnTo>
                    <a:pt x="382" y="748"/>
                  </a:lnTo>
                  <a:lnTo>
                    <a:pt x="381" y="766"/>
                  </a:lnTo>
                  <a:lnTo>
                    <a:pt x="381" y="786"/>
                  </a:lnTo>
                  <a:lnTo>
                    <a:pt x="381" y="798"/>
                  </a:lnTo>
                  <a:lnTo>
                    <a:pt x="381" y="815"/>
                  </a:lnTo>
                  <a:lnTo>
                    <a:pt x="381" y="836"/>
                  </a:lnTo>
                  <a:lnTo>
                    <a:pt x="381" y="862"/>
                  </a:lnTo>
                  <a:lnTo>
                    <a:pt x="383" y="897"/>
                  </a:lnTo>
                  <a:lnTo>
                    <a:pt x="385" y="927"/>
                  </a:lnTo>
                  <a:lnTo>
                    <a:pt x="385" y="954"/>
                  </a:lnTo>
                  <a:lnTo>
                    <a:pt x="386" y="976"/>
                  </a:lnTo>
                  <a:lnTo>
                    <a:pt x="411" y="971"/>
                  </a:lnTo>
                  <a:lnTo>
                    <a:pt x="443" y="967"/>
                  </a:lnTo>
                  <a:lnTo>
                    <a:pt x="481" y="961"/>
                  </a:lnTo>
                  <a:lnTo>
                    <a:pt x="526" y="956"/>
                  </a:lnTo>
                  <a:lnTo>
                    <a:pt x="534" y="956"/>
                  </a:lnTo>
                  <a:lnTo>
                    <a:pt x="541" y="956"/>
                  </a:lnTo>
                  <a:lnTo>
                    <a:pt x="542" y="931"/>
                  </a:lnTo>
                  <a:lnTo>
                    <a:pt x="543" y="902"/>
                  </a:lnTo>
                  <a:lnTo>
                    <a:pt x="544" y="869"/>
                  </a:lnTo>
                  <a:lnTo>
                    <a:pt x="545" y="833"/>
                  </a:lnTo>
                  <a:lnTo>
                    <a:pt x="545" y="794"/>
                  </a:lnTo>
                  <a:lnTo>
                    <a:pt x="546" y="751"/>
                  </a:lnTo>
                  <a:lnTo>
                    <a:pt x="546" y="706"/>
                  </a:lnTo>
                  <a:lnTo>
                    <a:pt x="546" y="656"/>
                  </a:lnTo>
                  <a:lnTo>
                    <a:pt x="544" y="618"/>
                  </a:lnTo>
                  <a:lnTo>
                    <a:pt x="542" y="582"/>
                  </a:lnTo>
                  <a:lnTo>
                    <a:pt x="538" y="549"/>
                  </a:lnTo>
                  <a:lnTo>
                    <a:pt x="534" y="519"/>
                  </a:lnTo>
                  <a:lnTo>
                    <a:pt x="530" y="493"/>
                  </a:lnTo>
                  <a:lnTo>
                    <a:pt x="524" y="470"/>
                  </a:lnTo>
                  <a:lnTo>
                    <a:pt x="517" y="448"/>
                  </a:lnTo>
                  <a:lnTo>
                    <a:pt x="511" y="430"/>
                  </a:lnTo>
                  <a:lnTo>
                    <a:pt x="525" y="436"/>
                  </a:lnTo>
                  <a:lnTo>
                    <a:pt x="541" y="440"/>
                  </a:lnTo>
                  <a:lnTo>
                    <a:pt x="556" y="443"/>
                  </a:lnTo>
                  <a:lnTo>
                    <a:pt x="574" y="446"/>
                  </a:lnTo>
                  <a:lnTo>
                    <a:pt x="594" y="448"/>
                  </a:lnTo>
                  <a:lnTo>
                    <a:pt x="613" y="449"/>
                  </a:lnTo>
                  <a:lnTo>
                    <a:pt x="634" y="451"/>
                  </a:lnTo>
                  <a:lnTo>
                    <a:pt x="656" y="451"/>
                  </a:lnTo>
                  <a:lnTo>
                    <a:pt x="652" y="463"/>
                  </a:lnTo>
                  <a:lnTo>
                    <a:pt x="649" y="477"/>
                  </a:lnTo>
                  <a:lnTo>
                    <a:pt x="645" y="493"/>
                  </a:lnTo>
                  <a:lnTo>
                    <a:pt x="643" y="511"/>
                  </a:lnTo>
                  <a:lnTo>
                    <a:pt x="639" y="552"/>
                  </a:lnTo>
                  <a:lnTo>
                    <a:pt x="636" y="601"/>
                  </a:lnTo>
                  <a:lnTo>
                    <a:pt x="634" y="612"/>
                  </a:lnTo>
                  <a:lnTo>
                    <a:pt x="632" y="622"/>
                  </a:lnTo>
                  <a:lnTo>
                    <a:pt x="631" y="634"/>
                  </a:lnTo>
                  <a:lnTo>
                    <a:pt x="631" y="646"/>
                  </a:lnTo>
                  <a:lnTo>
                    <a:pt x="643" y="644"/>
                  </a:lnTo>
                  <a:lnTo>
                    <a:pt x="660" y="641"/>
                  </a:lnTo>
                  <a:lnTo>
                    <a:pt x="707" y="632"/>
                  </a:lnTo>
                  <a:lnTo>
                    <a:pt x="747" y="622"/>
                  </a:lnTo>
                  <a:lnTo>
                    <a:pt x="780" y="614"/>
                  </a:lnTo>
                  <a:lnTo>
                    <a:pt x="805" y="606"/>
                  </a:lnTo>
                  <a:lnTo>
                    <a:pt x="816" y="614"/>
                  </a:lnTo>
                  <a:lnTo>
                    <a:pt x="824" y="622"/>
                  </a:lnTo>
                  <a:lnTo>
                    <a:pt x="834" y="632"/>
                  </a:lnTo>
                  <a:lnTo>
                    <a:pt x="842" y="641"/>
                  </a:lnTo>
                  <a:lnTo>
                    <a:pt x="850" y="651"/>
                  </a:lnTo>
                  <a:lnTo>
                    <a:pt x="857" y="662"/>
                  </a:lnTo>
                  <a:lnTo>
                    <a:pt x="865" y="674"/>
                  </a:lnTo>
                  <a:lnTo>
                    <a:pt x="871" y="686"/>
                  </a:lnTo>
                  <a:lnTo>
                    <a:pt x="846" y="689"/>
                  </a:lnTo>
                  <a:lnTo>
                    <a:pt x="815" y="692"/>
                  </a:lnTo>
                  <a:lnTo>
                    <a:pt x="778" y="696"/>
                  </a:lnTo>
                  <a:lnTo>
                    <a:pt x="735" y="701"/>
                  </a:lnTo>
                  <a:lnTo>
                    <a:pt x="705" y="704"/>
                  </a:lnTo>
                  <a:lnTo>
                    <a:pt x="677" y="706"/>
                  </a:lnTo>
                  <a:lnTo>
                    <a:pt x="653" y="708"/>
                  </a:lnTo>
                  <a:lnTo>
                    <a:pt x="631" y="711"/>
                  </a:lnTo>
                  <a:lnTo>
                    <a:pt x="630" y="743"/>
                  </a:lnTo>
                  <a:lnTo>
                    <a:pt x="629" y="775"/>
                  </a:lnTo>
                  <a:lnTo>
                    <a:pt x="627" y="806"/>
                  </a:lnTo>
                  <a:lnTo>
                    <a:pt x="627" y="835"/>
                  </a:lnTo>
                  <a:lnTo>
                    <a:pt x="626" y="864"/>
                  </a:lnTo>
                  <a:lnTo>
                    <a:pt x="626" y="892"/>
                  </a:lnTo>
                  <a:lnTo>
                    <a:pt x="625" y="920"/>
                  </a:lnTo>
                  <a:lnTo>
                    <a:pt x="625" y="946"/>
                  </a:lnTo>
                  <a:lnTo>
                    <a:pt x="640" y="943"/>
                  </a:lnTo>
                  <a:lnTo>
                    <a:pt x="658" y="941"/>
                  </a:lnTo>
                  <a:lnTo>
                    <a:pt x="680" y="939"/>
                  </a:lnTo>
                  <a:lnTo>
                    <a:pt x="706" y="936"/>
                  </a:lnTo>
                  <a:lnTo>
                    <a:pt x="744" y="933"/>
                  </a:lnTo>
                  <a:lnTo>
                    <a:pt x="780" y="930"/>
                  </a:lnTo>
                  <a:lnTo>
                    <a:pt x="814" y="926"/>
                  </a:lnTo>
                  <a:lnTo>
                    <a:pt x="846" y="923"/>
                  </a:lnTo>
                  <a:lnTo>
                    <a:pt x="876" y="921"/>
                  </a:lnTo>
                  <a:lnTo>
                    <a:pt x="905" y="919"/>
                  </a:lnTo>
                  <a:lnTo>
                    <a:pt x="931" y="918"/>
                  </a:lnTo>
                  <a:lnTo>
                    <a:pt x="956" y="916"/>
                  </a:lnTo>
                  <a:lnTo>
                    <a:pt x="962" y="916"/>
                  </a:lnTo>
                  <a:lnTo>
                    <a:pt x="967" y="916"/>
                  </a:lnTo>
                  <a:lnTo>
                    <a:pt x="973" y="916"/>
                  </a:lnTo>
                  <a:lnTo>
                    <a:pt x="978" y="918"/>
                  </a:lnTo>
                  <a:lnTo>
                    <a:pt x="983" y="920"/>
                  </a:lnTo>
                  <a:lnTo>
                    <a:pt x="988" y="923"/>
                  </a:lnTo>
                  <a:lnTo>
                    <a:pt x="992" y="926"/>
                  </a:lnTo>
                  <a:lnTo>
                    <a:pt x="996" y="932"/>
                  </a:lnTo>
                  <a:lnTo>
                    <a:pt x="999" y="935"/>
                  </a:lnTo>
                  <a:lnTo>
                    <a:pt x="1005" y="942"/>
                  </a:lnTo>
                  <a:lnTo>
                    <a:pt x="1012" y="953"/>
                  </a:lnTo>
                  <a:lnTo>
                    <a:pt x="1020" y="967"/>
                  </a:lnTo>
                  <a:lnTo>
                    <a:pt x="1033" y="984"/>
                  </a:lnTo>
                  <a:lnTo>
                    <a:pt x="1041" y="996"/>
                  </a:lnTo>
                  <a:lnTo>
                    <a:pt x="1045" y="998"/>
                  </a:lnTo>
                  <a:lnTo>
                    <a:pt x="1047" y="1001"/>
                  </a:lnTo>
                  <a:lnTo>
                    <a:pt x="1048" y="1001"/>
                  </a:lnTo>
                  <a:lnTo>
                    <a:pt x="1046" y="1002"/>
                  </a:lnTo>
                  <a:lnTo>
                    <a:pt x="1043" y="1004"/>
                  </a:lnTo>
                  <a:lnTo>
                    <a:pt x="1037" y="1005"/>
                  </a:lnTo>
                  <a:lnTo>
                    <a:pt x="1030" y="1006"/>
                  </a:lnTo>
                  <a:lnTo>
                    <a:pt x="1020" y="1006"/>
                  </a:lnTo>
                  <a:lnTo>
                    <a:pt x="971" y="1005"/>
                  </a:lnTo>
                  <a:lnTo>
                    <a:pt x="920" y="1005"/>
                  </a:lnTo>
                  <a:lnTo>
                    <a:pt x="868" y="1005"/>
                  </a:lnTo>
                  <a:lnTo>
                    <a:pt x="816" y="1006"/>
                  </a:lnTo>
                  <a:lnTo>
                    <a:pt x="763" y="1008"/>
                  </a:lnTo>
                  <a:lnTo>
                    <a:pt x="710" y="1010"/>
                  </a:lnTo>
                  <a:lnTo>
                    <a:pt x="656" y="1013"/>
                  </a:lnTo>
                  <a:lnTo>
                    <a:pt x="602" y="1016"/>
                  </a:lnTo>
                  <a:lnTo>
                    <a:pt x="547" y="1021"/>
                  </a:lnTo>
                  <a:lnTo>
                    <a:pt x="492" y="1025"/>
                  </a:lnTo>
                  <a:lnTo>
                    <a:pt x="436" y="1030"/>
                  </a:lnTo>
                  <a:lnTo>
                    <a:pt x="379" y="1037"/>
                  </a:lnTo>
                  <a:lnTo>
                    <a:pt x="321" y="1043"/>
                  </a:lnTo>
                  <a:lnTo>
                    <a:pt x="263" y="1050"/>
                  </a:lnTo>
                  <a:lnTo>
                    <a:pt x="205" y="1058"/>
                  </a:lnTo>
                  <a:lnTo>
                    <a:pt x="146" y="1066"/>
                  </a:lnTo>
                  <a:close/>
                  <a:moveTo>
                    <a:pt x="500" y="0"/>
                  </a:moveTo>
                  <a:lnTo>
                    <a:pt x="515" y="11"/>
                  </a:lnTo>
                  <a:lnTo>
                    <a:pt x="530" y="21"/>
                  </a:lnTo>
                  <a:lnTo>
                    <a:pt x="545" y="30"/>
                  </a:lnTo>
                  <a:lnTo>
                    <a:pt x="560" y="38"/>
                  </a:lnTo>
                  <a:lnTo>
                    <a:pt x="573" y="45"/>
                  </a:lnTo>
                  <a:lnTo>
                    <a:pt x="588" y="51"/>
                  </a:lnTo>
                  <a:lnTo>
                    <a:pt x="602" y="56"/>
                  </a:lnTo>
                  <a:lnTo>
                    <a:pt x="616" y="61"/>
                  </a:lnTo>
                  <a:lnTo>
                    <a:pt x="597" y="81"/>
                  </a:lnTo>
                  <a:lnTo>
                    <a:pt x="581" y="101"/>
                  </a:lnTo>
                  <a:lnTo>
                    <a:pt x="567" y="121"/>
                  </a:lnTo>
                  <a:lnTo>
                    <a:pt x="555" y="141"/>
                  </a:lnTo>
                  <a:lnTo>
                    <a:pt x="583" y="161"/>
                  </a:lnTo>
                  <a:lnTo>
                    <a:pt x="616" y="188"/>
                  </a:lnTo>
                  <a:lnTo>
                    <a:pt x="653" y="222"/>
                  </a:lnTo>
                  <a:lnTo>
                    <a:pt x="696" y="261"/>
                  </a:lnTo>
                  <a:lnTo>
                    <a:pt x="734" y="297"/>
                  </a:lnTo>
                  <a:lnTo>
                    <a:pt x="771" y="329"/>
                  </a:lnTo>
                  <a:lnTo>
                    <a:pt x="805" y="357"/>
                  </a:lnTo>
                  <a:lnTo>
                    <a:pt x="837" y="382"/>
                  </a:lnTo>
                  <a:lnTo>
                    <a:pt x="867" y="403"/>
                  </a:lnTo>
                  <a:lnTo>
                    <a:pt x="893" y="421"/>
                  </a:lnTo>
                  <a:lnTo>
                    <a:pt x="906" y="428"/>
                  </a:lnTo>
                  <a:lnTo>
                    <a:pt x="919" y="436"/>
                  </a:lnTo>
                  <a:lnTo>
                    <a:pt x="930" y="441"/>
                  </a:lnTo>
                  <a:lnTo>
                    <a:pt x="941" y="445"/>
                  </a:lnTo>
                  <a:lnTo>
                    <a:pt x="973" y="458"/>
                  </a:lnTo>
                  <a:lnTo>
                    <a:pt x="1003" y="472"/>
                  </a:lnTo>
                  <a:lnTo>
                    <a:pt x="1033" y="484"/>
                  </a:lnTo>
                  <a:lnTo>
                    <a:pt x="1061" y="498"/>
                  </a:lnTo>
                  <a:lnTo>
                    <a:pt x="1088" y="512"/>
                  </a:lnTo>
                  <a:lnTo>
                    <a:pt x="1114" y="527"/>
                  </a:lnTo>
                  <a:lnTo>
                    <a:pt x="1138" y="541"/>
                  </a:lnTo>
                  <a:lnTo>
                    <a:pt x="1161" y="555"/>
                  </a:lnTo>
                  <a:lnTo>
                    <a:pt x="1176" y="566"/>
                  </a:lnTo>
                  <a:lnTo>
                    <a:pt x="1187" y="575"/>
                  </a:lnTo>
                  <a:lnTo>
                    <a:pt x="1191" y="579"/>
                  </a:lnTo>
                  <a:lnTo>
                    <a:pt x="1194" y="583"/>
                  </a:lnTo>
                  <a:lnTo>
                    <a:pt x="1195" y="587"/>
                  </a:lnTo>
                  <a:lnTo>
                    <a:pt x="1196" y="590"/>
                  </a:lnTo>
                  <a:lnTo>
                    <a:pt x="1195" y="595"/>
                  </a:lnTo>
                  <a:lnTo>
                    <a:pt x="1193" y="598"/>
                  </a:lnTo>
                  <a:lnTo>
                    <a:pt x="1190" y="600"/>
                  </a:lnTo>
                  <a:lnTo>
                    <a:pt x="1186" y="602"/>
                  </a:lnTo>
                  <a:lnTo>
                    <a:pt x="1180" y="604"/>
                  </a:lnTo>
                  <a:lnTo>
                    <a:pt x="1174" y="605"/>
                  </a:lnTo>
                  <a:lnTo>
                    <a:pt x="1166" y="605"/>
                  </a:lnTo>
                  <a:lnTo>
                    <a:pt x="1156" y="606"/>
                  </a:lnTo>
                  <a:lnTo>
                    <a:pt x="1108" y="605"/>
                  </a:lnTo>
                  <a:lnTo>
                    <a:pt x="1066" y="604"/>
                  </a:lnTo>
                  <a:lnTo>
                    <a:pt x="1029" y="602"/>
                  </a:lnTo>
                  <a:lnTo>
                    <a:pt x="997" y="599"/>
                  </a:lnTo>
                  <a:lnTo>
                    <a:pt x="971" y="595"/>
                  </a:lnTo>
                  <a:lnTo>
                    <a:pt x="948" y="589"/>
                  </a:lnTo>
                  <a:lnTo>
                    <a:pt x="940" y="586"/>
                  </a:lnTo>
                  <a:lnTo>
                    <a:pt x="932" y="583"/>
                  </a:lnTo>
                  <a:lnTo>
                    <a:pt x="926" y="580"/>
                  </a:lnTo>
                  <a:lnTo>
                    <a:pt x="921" y="576"/>
                  </a:lnTo>
                  <a:lnTo>
                    <a:pt x="903" y="563"/>
                  </a:lnTo>
                  <a:lnTo>
                    <a:pt x="882" y="545"/>
                  </a:lnTo>
                  <a:lnTo>
                    <a:pt x="856" y="522"/>
                  </a:lnTo>
                  <a:lnTo>
                    <a:pt x="829" y="495"/>
                  </a:lnTo>
                  <a:lnTo>
                    <a:pt x="797" y="463"/>
                  </a:lnTo>
                  <a:lnTo>
                    <a:pt x="761" y="427"/>
                  </a:lnTo>
                  <a:lnTo>
                    <a:pt x="723" y="386"/>
                  </a:lnTo>
                  <a:lnTo>
                    <a:pt x="680" y="340"/>
                  </a:lnTo>
                  <a:lnTo>
                    <a:pt x="633" y="288"/>
                  </a:lnTo>
                  <a:lnTo>
                    <a:pt x="592" y="246"/>
                  </a:lnTo>
                  <a:lnTo>
                    <a:pt x="560" y="213"/>
                  </a:lnTo>
                  <a:lnTo>
                    <a:pt x="536" y="191"/>
                  </a:lnTo>
                  <a:lnTo>
                    <a:pt x="518" y="223"/>
                  </a:lnTo>
                  <a:lnTo>
                    <a:pt x="501" y="254"/>
                  </a:lnTo>
                  <a:lnTo>
                    <a:pt x="484" y="284"/>
                  </a:lnTo>
                  <a:lnTo>
                    <a:pt x="466" y="314"/>
                  </a:lnTo>
                  <a:lnTo>
                    <a:pt x="448" y="343"/>
                  </a:lnTo>
                  <a:lnTo>
                    <a:pt x="429" y="371"/>
                  </a:lnTo>
                  <a:lnTo>
                    <a:pt x="411" y="399"/>
                  </a:lnTo>
                  <a:lnTo>
                    <a:pt x="392" y="425"/>
                  </a:lnTo>
                  <a:lnTo>
                    <a:pt x="373" y="451"/>
                  </a:lnTo>
                  <a:lnTo>
                    <a:pt x="353" y="475"/>
                  </a:lnTo>
                  <a:lnTo>
                    <a:pt x="334" y="498"/>
                  </a:lnTo>
                  <a:lnTo>
                    <a:pt x="314" y="522"/>
                  </a:lnTo>
                  <a:lnTo>
                    <a:pt x="293" y="544"/>
                  </a:lnTo>
                  <a:lnTo>
                    <a:pt x="273" y="565"/>
                  </a:lnTo>
                  <a:lnTo>
                    <a:pt x="251" y="586"/>
                  </a:lnTo>
                  <a:lnTo>
                    <a:pt x="230" y="606"/>
                  </a:lnTo>
                  <a:lnTo>
                    <a:pt x="218" y="617"/>
                  </a:lnTo>
                  <a:lnTo>
                    <a:pt x="205" y="626"/>
                  </a:lnTo>
                  <a:lnTo>
                    <a:pt x="192" y="635"/>
                  </a:lnTo>
                  <a:lnTo>
                    <a:pt x="178" y="642"/>
                  </a:lnTo>
                  <a:lnTo>
                    <a:pt x="166" y="648"/>
                  </a:lnTo>
                  <a:lnTo>
                    <a:pt x="152" y="653"/>
                  </a:lnTo>
                  <a:lnTo>
                    <a:pt x="137" y="657"/>
                  </a:lnTo>
                  <a:lnTo>
                    <a:pt x="123" y="659"/>
                  </a:lnTo>
                  <a:lnTo>
                    <a:pt x="108" y="661"/>
                  </a:lnTo>
                  <a:lnTo>
                    <a:pt x="94" y="661"/>
                  </a:lnTo>
                  <a:lnTo>
                    <a:pt x="79" y="661"/>
                  </a:lnTo>
                  <a:lnTo>
                    <a:pt x="64" y="659"/>
                  </a:lnTo>
                  <a:lnTo>
                    <a:pt x="48" y="656"/>
                  </a:lnTo>
                  <a:lnTo>
                    <a:pt x="32" y="652"/>
                  </a:lnTo>
                  <a:lnTo>
                    <a:pt x="16" y="648"/>
                  </a:lnTo>
                  <a:lnTo>
                    <a:pt x="0" y="641"/>
                  </a:lnTo>
                  <a:lnTo>
                    <a:pt x="33" y="624"/>
                  </a:lnTo>
                  <a:lnTo>
                    <a:pt x="65" y="605"/>
                  </a:lnTo>
                  <a:lnTo>
                    <a:pt x="97" y="586"/>
                  </a:lnTo>
                  <a:lnTo>
                    <a:pt x="128" y="565"/>
                  </a:lnTo>
                  <a:lnTo>
                    <a:pt x="157" y="542"/>
                  </a:lnTo>
                  <a:lnTo>
                    <a:pt x="187" y="518"/>
                  </a:lnTo>
                  <a:lnTo>
                    <a:pt x="215" y="493"/>
                  </a:lnTo>
                  <a:lnTo>
                    <a:pt x="243" y="465"/>
                  </a:lnTo>
                  <a:lnTo>
                    <a:pt x="270" y="438"/>
                  </a:lnTo>
                  <a:lnTo>
                    <a:pt x="297" y="408"/>
                  </a:lnTo>
                  <a:lnTo>
                    <a:pt x="322" y="377"/>
                  </a:lnTo>
                  <a:lnTo>
                    <a:pt x="348" y="345"/>
                  </a:lnTo>
                  <a:lnTo>
                    <a:pt x="372" y="311"/>
                  </a:lnTo>
                  <a:lnTo>
                    <a:pt x="395" y="276"/>
                  </a:lnTo>
                  <a:lnTo>
                    <a:pt x="419" y="239"/>
                  </a:lnTo>
                  <a:lnTo>
                    <a:pt x="441" y="200"/>
                  </a:lnTo>
                  <a:lnTo>
                    <a:pt x="455" y="171"/>
                  </a:lnTo>
                  <a:lnTo>
                    <a:pt x="466" y="143"/>
                  </a:lnTo>
                  <a:lnTo>
                    <a:pt x="477" y="116"/>
                  </a:lnTo>
                  <a:lnTo>
                    <a:pt x="486" y="90"/>
                  </a:lnTo>
                  <a:lnTo>
                    <a:pt x="492" y="66"/>
                  </a:lnTo>
                  <a:lnTo>
                    <a:pt x="497" y="43"/>
                  </a:lnTo>
                  <a:lnTo>
                    <a:pt x="499" y="21"/>
                  </a:lnTo>
                  <a:lnTo>
                    <a:pt x="500" y="0"/>
                  </a:lnTo>
                  <a:close/>
                </a:path>
              </a:pathLst>
            </a:custGeom>
            <a:solidFill>
              <a:srgbClr val="ffff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00"/>
                </a:solidFill>
                <a:latin typeface="Arial"/>
                <a:ea typeface="宋体"/>
              </a:endParaRPr>
            </a:p>
          </p:txBody>
        </p:sp>
        <p:sp>
          <p:nvSpPr>
            <p:cNvPr id="514" name="Freeform 16"/>
            <p:cNvSpPr/>
            <p:nvPr/>
          </p:nvSpPr>
          <p:spPr>
            <a:xfrm>
              <a:off x="3174480" y="9464760"/>
              <a:ext cx="176400" cy="144360"/>
            </a:xfrm>
            <a:custGeom>
              <a:avLst/>
              <a:gdLst>
                <a:gd name="textAreaLeft" fmla="*/ 0 w 176400"/>
                <a:gd name="textAreaRight" fmla="*/ 176760 w 176400"/>
                <a:gd name="textAreaTop" fmla="*/ 0 h 144360"/>
                <a:gd name="textAreaBottom" fmla="*/ 144720 h 144360"/>
              </a:gdLst>
              <a:ahLst/>
              <a:rect l="textAreaLeft" t="textAreaTop" r="textAreaRight" b="textAreaBottom"/>
              <a:pathLst>
                <a:path w="1104" h="947">
                  <a:moveTo>
                    <a:pt x="708" y="35"/>
                  </a:moveTo>
                  <a:lnTo>
                    <a:pt x="701" y="55"/>
                  </a:lnTo>
                  <a:lnTo>
                    <a:pt x="696" y="79"/>
                  </a:lnTo>
                  <a:lnTo>
                    <a:pt x="691" y="104"/>
                  </a:lnTo>
                  <a:lnTo>
                    <a:pt x="688" y="133"/>
                  </a:lnTo>
                  <a:lnTo>
                    <a:pt x="683" y="165"/>
                  </a:lnTo>
                  <a:lnTo>
                    <a:pt x="681" y="198"/>
                  </a:lnTo>
                  <a:lnTo>
                    <a:pt x="679" y="236"/>
                  </a:lnTo>
                  <a:lnTo>
                    <a:pt x="677" y="276"/>
                  </a:lnTo>
                  <a:lnTo>
                    <a:pt x="677" y="313"/>
                  </a:lnTo>
                  <a:lnTo>
                    <a:pt x="677" y="349"/>
                  </a:lnTo>
                  <a:lnTo>
                    <a:pt x="677" y="385"/>
                  </a:lnTo>
                  <a:lnTo>
                    <a:pt x="677" y="420"/>
                  </a:lnTo>
                  <a:lnTo>
                    <a:pt x="677" y="454"/>
                  </a:lnTo>
                  <a:lnTo>
                    <a:pt x="677" y="487"/>
                  </a:lnTo>
                  <a:lnTo>
                    <a:pt x="677" y="520"/>
                  </a:lnTo>
                  <a:lnTo>
                    <a:pt x="677" y="551"/>
                  </a:lnTo>
                  <a:lnTo>
                    <a:pt x="695" y="531"/>
                  </a:lnTo>
                  <a:lnTo>
                    <a:pt x="713" y="511"/>
                  </a:lnTo>
                  <a:lnTo>
                    <a:pt x="729" y="492"/>
                  </a:lnTo>
                  <a:lnTo>
                    <a:pt x="745" y="472"/>
                  </a:lnTo>
                  <a:lnTo>
                    <a:pt x="760" y="453"/>
                  </a:lnTo>
                  <a:lnTo>
                    <a:pt x="773" y="435"/>
                  </a:lnTo>
                  <a:lnTo>
                    <a:pt x="786" y="416"/>
                  </a:lnTo>
                  <a:lnTo>
                    <a:pt x="799" y="397"/>
                  </a:lnTo>
                  <a:lnTo>
                    <a:pt x="809" y="379"/>
                  </a:lnTo>
                  <a:lnTo>
                    <a:pt x="820" y="361"/>
                  </a:lnTo>
                  <a:lnTo>
                    <a:pt x="830" y="343"/>
                  </a:lnTo>
                  <a:lnTo>
                    <a:pt x="838" y="325"/>
                  </a:lnTo>
                  <a:lnTo>
                    <a:pt x="845" y="308"/>
                  </a:lnTo>
                  <a:lnTo>
                    <a:pt x="852" y="290"/>
                  </a:lnTo>
                  <a:lnTo>
                    <a:pt x="857" y="273"/>
                  </a:lnTo>
                  <a:lnTo>
                    <a:pt x="862" y="256"/>
                  </a:lnTo>
                  <a:lnTo>
                    <a:pt x="875" y="268"/>
                  </a:lnTo>
                  <a:lnTo>
                    <a:pt x="892" y="285"/>
                  </a:lnTo>
                  <a:lnTo>
                    <a:pt x="905" y="301"/>
                  </a:lnTo>
                  <a:lnTo>
                    <a:pt x="916" y="315"/>
                  </a:lnTo>
                  <a:lnTo>
                    <a:pt x="929" y="328"/>
                  </a:lnTo>
                  <a:lnTo>
                    <a:pt x="941" y="339"/>
                  </a:lnTo>
                  <a:lnTo>
                    <a:pt x="952" y="349"/>
                  </a:lnTo>
                  <a:lnTo>
                    <a:pt x="964" y="358"/>
                  </a:lnTo>
                  <a:lnTo>
                    <a:pt x="976" y="365"/>
                  </a:lnTo>
                  <a:lnTo>
                    <a:pt x="987" y="371"/>
                  </a:lnTo>
                  <a:lnTo>
                    <a:pt x="975" y="376"/>
                  </a:lnTo>
                  <a:lnTo>
                    <a:pt x="962" y="383"/>
                  </a:lnTo>
                  <a:lnTo>
                    <a:pt x="949" y="390"/>
                  </a:lnTo>
                  <a:lnTo>
                    <a:pt x="937" y="400"/>
                  </a:lnTo>
                  <a:lnTo>
                    <a:pt x="923" y="409"/>
                  </a:lnTo>
                  <a:lnTo>
                    <a:pt x="909" y="421"/>
                  </a:lnTo>
                  <a:lnTo>
                    <a:pt x="896" y="433"/>
                  </a:lnTo>
                  <a:lnTo>
                    <a:pt x="882" y="445"/>
                  </a:lnTo>
                  <a:lnTo>
                    <a:pt x="858" y="468"/>
                  </a:lnTo>
                  <a:lnTo>
                    <a:pt x="834" y="490"/>
                  </a:lnTo>
                  <a:lnTo>
                    <a:pt x="808" y="511"/>
                  </a:lnTo>
                  <a:lnTo>
                    <a:pt x="783" y="531"/>
                  </a:lnTo>
                  <a:lnTo>
                    <a:pt x="758" y="550"/>
                  </a:lnTo>
                  <a:lnTo>
                    <a:pt x="731" y="569"/>
                  </a:lnTo>
                  <a:lnTo>
                    <a:pt x="705" y="588"/>
                  </a:lnTo>
                  <a:lnTo>
                    <a:pt x="677" y="606"/>
                  </a:lnTo>
                  <a:lnTo>
                    <a:pt x="677" y="807"/>
                  </a:lnTo>
                  <a:lnTo>
                    <a:pt x="702" y="804"/>
                  </a:lnTo>
                  <a:lnTo>
                    <a:pt x="733" y="800"/>
                  </a:lnTo>
                  <a:lnTo>
                    <a:pt x="770" y="796"/>
                  </a:lnTo>
                  <a:lnTo>
                    <a:pt x="813" y="791"/>
                  </a:lnTo>
                  <a:lnTo>
                    <a:pt x="845" y="788"/>
                  </a:lnTo>
                  <a:lnTo>
                    <a:pt x="876" y="784"/>
                  </a:lnTo>
                  <a:lnTo>
                    <a:pt x="905" y="781"/>
                  </a:lnTo>
                  <a:lnTo>
                    <a:pt x="931" y="779"/>
                  </a:lnTo>
                  <a:lnTo>
                    <a:pt x="956" y="776"/>
                  </a:lnTo>
                  <a:lnTo>
                    <a:pt x="978" y="774"/>
                  </a:lnTo>
                  <a:lnTo>
                    <a:pt x="999" y="773"/>
                  </a:lnTo>
                  <a:lnTo>
                    <a:pt x="1017" y="771"/>
                  </a:lnTo>
                  <a:lnTo>
                    <a:pt x="1024" y="772"/>
                  </a:lnTo>
                  <a:lnTo>
                    <a:pt x="1032" y="773"/>
                  </a:lnTo>
                  <a:lnTo>
                    <a:pt x="1038" y="774"/>
                  </a:lnTo>
                  <a:lnTo>
                    <a:pt x="1043" y="776"/>
                  </a:lnTo>
                  <a:lnTo>
                    <a:pt x="1049" y="779"/>
                  </a:lnTo>
                  <a:lnTo>
                    <a:pt x="1054" y="782"/>
                  </a:lnTo>
                  <a:lnTo>
                    <a:pt x="1058" y="787"/>
                  </a:lnTo>
                  <a:lnTo>
                    <a:pt x="1063" y="791"/>
                  </a:lnTo>
                  <a:lnTo>
                    <a:pt x="1074" y="811"/>
                  </a:lnTo>
                  <a:lnTo>
                    <a:pt x="1084" y="829"/>
                  </a:lnTo>
                  <a:lnTo>
                    <a:pt x="1091" y="846"/>
                  </a:lnTo>
                  <a:lnTo>
                    <a:pt x="1098" y="861"/>
                  </a:lnTo>
                  <a:lnTo>
                    <a:pt x="1102" y="872"/>
                  </a:lnTo>
                  <a:lnTo>
                    <a:pt x="1104" y="881"/>
                  </a:lnTo>
                  <a:lnTo>
                    <a:pt x="1104" y="887"/>
                  </a:lnTo>
                  <a:lnTo>
                    <a:pt x="1103" y="891"/>
                  </a:lnTo>
                  <a:lnTo>
                    <a:pt x="1101" y="894"/>
                  </a:lnTo>
                  <a:lnTo>
                    <a:pt x="1098" y="895"/>
                  </a:lnTo>
                  <a:lnTo>
                    <a:pt x="1091" y="896"/>
                  </a:lnTo>
                  <a:lnTo>
                    <a:pt x="1083" y="897"/>
                  </a:lnTo>
                  <a:lnTo>
                    <a:pt x="1041" y="891"/>
                  </a:lnTo>
                  <a:lnTo>
                    <a:pt x="997" y="887"/>
                  </a:lnTo>
                  <a:lnTo>
                    <a:pt x="950" y="884"/>
                  </a:lnTo>
                  <a:lnTo>
                    <a:pt x="900" y="883"/>
                  </a:lnTo>
                  <a:lnTo>
                    <a:pt x="849" y="882"/>
                  </a:lnTo>
                  <a:lnTo>
                    <a:pt x="794" y="882"/>
                  </a:lnTo>
                  <a:lnTo>
                    <a:pt x="736" y="884"/>
                  </a:lnTo>
                  <a:lnTo>
                    <a:pt x="676" y="886"/>
                  </a:lnTo>
                  <a:lnTo>
                    <a:pt x="613" y="890"/>
                  </a:lnTo>
                  <a:lnTo>
                    <a:pt x="548" y="895"/>
                  </a:lnTo>
                  <a:lnTo>
                    <a:pt x="479" y="901"/>
                  </a:lnTo>
                  <a:lnTo>
                    <a:pt x="408" y="907"/>
                  </a:lnTo>
                  <a:lnTo>
                    <a:pt x="335" y="916"/>
                  </a:lnTo>
                  <a:lnTo>
                    <a:pt x="258" y="924"/>
                  </a:lnTo>
                  <a:lnTo>
                    <a:pt x="179" y="935"/>
                  </a:lnTo>
                  <a:lnTo>
                    <a:pt x="97" y="947"/>
                  </a:lnTo>
                  <a:lnTo>
                    <a:pt x="90" y="946"/>
                  </a:lnTo>
                  <a:lnTo>
                    <a:pt x="83" y="942"/>
                  </a:lnTo>
                  <a:lnTo>
                    <a:pt x="73" y="938"/>
                  </a:lnTo>
                  <a:lnTo>
                    <a:pt x="64" y="933"/>
                  </a:lnTo>
                  <a:lnTo>
                    <a:pt x="52" y="924"/>
                  </a:lnTo>
                  <a:lnTo>
                    <a:pt x="39" y="915"/>
                  </a:lnTo>
                  <a:lnTo>
                    <a:pt x="27" y="904"/>
                  </a:lnTo>
                  <a:lnTo>
                    <a:pt x="12" y="891"/>
                  </a:lnTo>
                  <a:lnTo>
                    <a:pt x="5" y="884"/>
                  </a:lnTo>
                  <a:lnTo>
                    <a:pt x="2" y="879"/>
                  </a:lnTo>
                  <a:lnTo>
                    <a:pt x="1" y="877"/>
                  </a:lnTo>
                  <a:lnTo>
                    <a:pt x="0" y="875"/>
                  </a:lnTo>
                  <a:lnTo>
                    <a:pt x="1" y="872"/>
                  </a:lnTo>
                  <a:lnTo>
                    <a:pt x="2" y="871"/>
                  </a:lnTo>
                  <a:lnTo>
                    <a:pt x="2" y="870"/>
                  </a:lnTo>
                  <a:lnTo>
                    <a:pt x="3" y="869"/>
                  </a:lnTo>
                  <a:lnTo>
                    <a:pt x="4" y="869"/>
                  </a:lnTo>
                  <a:lnTo>
                    <a:pt x="7" y="869"/>
                  </a:lnTo>
                  <a:lnTo>
                    <a:pt x="13" y="869"/>
                  </a:lnTo>
                  <a:lnTo>
                    <a:pt x="22" y="871"/>
                  </a:lnTo>
                  <a:lnTo>
                    <a:pt x="61" y="868"/>
                  </a:lnTo>
                  <a:lnTo>
                    <a:pt x="101" y="865"/>
                  </a:lnTo>
                  <a:lnTo>
                    <a:pt x="142" y="862"/>
                  </a:lnTo>
                  <a:lnTo>
                    <a:pt x="186" y="859"/>
                  </a:lnTo>
                  <a:lnTo>
                    <a:pt x="231" y="854"/>
                  </a:lnTo>
                  <a:lnTo>
                    <a:pt x="278" y="850"/>
                  </a:lnTo>
                  <a:lnTo>
                    <a:pt x="326" y="846"/>
                  </a:lnTo>
                  <a:lnTo>
                    <a:pt x="377" y="842"/>
                  </a:lnTo>
                  <a:lnTo>
                    <a:pt x="377" y="793"/>
                  </a:lnTo>
                  <a:lnTo>
                    <a:pt x="377" y="747"/>
                  </a:lnTo>
                  <a:lnTo>
                    <a:pt x="377" y="704"/>
                  </a:lnTo>
                  <a:lnTo>
                    <a:pt x="377" y="665"/>
                  </a:lnTo>
                  <a:lnTo>
                    <a:pt x="377" y="628"/>
                  </a:lnTo>
                  <a:lnTo>
                    <a:pt x="377" y="595"/>
                  </a:lnTo>
                  <a:lnTo>
                    <a:pt x="377" y="564"/>
                  </a:lnTo>
                  <a:lnTo>
                    <a:pt x="377" y="535"/>
                  </a:lnTo>
                  <a:lnTo>
                    <a:pt x="377" y="505"/>
                  </a:lnTo>
                  <a:lnTo>
                    <a:pt x="377" y="475"/>
                  </a:lnTo>
                  <a:lnTo>
                    <a:pt x="376" y="445"/>
                  </a:lnTo>
                  <a:lnTo>
                    <a:pt x="376" y="416"/>
                  </a:lnTo>
                  <a:lnTo>
                    <a:pt x="375" y="387"/>
                  </a:lnTo>
                  <a:lnTo>
                    <a:pt x="374" y="359"/>
                  </a:lnTo>
                  <a:lnTo>
                    <a:pt x="373" y="332"/>
                  </a:lnTo>
                  <a:lnTo>
                    <a:pt x="372" y="305"/>
                  </a:lnTo>
                  <a:lnTo>
                    <a:pt x="371" y="273"/>
                  </a:lnTo>
                  <a:lnTo>
                    <a:pt x="368" y="241"/>
                  </a:lnTo>
                  <a:lnTo>
                    <a:pt x="365" y="211"/>
                  </a:lnTo>
                  <a:lnTo>
                    <a:pt x="359" y="184"/>
                  </a:lnTo>
                  <a:lnTo>
                    <a:pt x="354" y="156"/>
                  </a:lnTo>
                  <a:lnTo>
                    <a:pt x="348" y="132"/>
                  </a:lnTo>
                  <a:lnTo>
                    <a:pt x="340" y="107"/>
                  </a:lnTo>
                  <a:lnTo>
                    <a:pt x="332" y="86"/>
                  </a:lnTo>
                  <a:lnTo>
                    <a:pt x="345" y="91"/>
                  </a:lnTo>
                  <a:lnTo>
                    <a:pt x="360" y="97"/>
                  </a:lnTo>
                  <a:lnTo>
                    <a:pt x="376" y="102"/>
                  </a:lnTo>
                  <a:lnTo>
                    <a:pt x="394" y="107"/>
                  </a:lnTo>
                  <a:lnTo>
                    <a:pt x="414" y="112"/>
                  </a:lnTo>
                  <a:lnTo>
                    <a:pt x="436" y="115"/>
                  </a:lnTo>
                  <a:lnTo>
                    <a:pt x="458" y="118"/>
                  </a:lnTo>
                  <a:lnTo>
                    <a:pt x="482" y="121"/>
                  </a:lnTo>
                  <a:lnTo>
                    <a:pt x="476" y="141"/>
                  </a:lnTo>
                  <a:lnTo>
                    <a:pt x="470" y="163"/>
                  </a:lnTo>
                  <a:lnTo>
                    <a:pt x="466" y="190"/>
                  </a:lnTo>
                  <a:lnTo>
                    <a:pt x="462" y="219"/>
                  </a:lnTo>
                  <a:lnTo>
                    <a:pt x="459" y="249"/>
                  </a:lnTo>
                  <a:lnTo>
                    <a:pt x="456" y="284"/>
                  </a:lnTo>
                  <a:lnTo>
                    <a:pt x="454" y="321"/>
                  </a:lnTo>
                  <a:lnTo>
                    <a:pt x="452" y="361"/>
                  </a:lnTo>
                  <a:lnTo>
                    <a:pt x="454" y="382"/>
                  </a:lnTo>
                  <a:lnTo>
                    <a:pt x="455" y="405"/>
                  </a:lnTo>
                  <a:lnTo>
                    <a:pt x="456" y="432"/>
                  </a:lnTo>
                  <a:lnTo>
                    <a:pt x="456" y="459"/>
                  </a:lnTo>
                  <a:lnTo>
                    <a:pt x="457" y="490"/>
                  </a:lnTo>
                  <a:lnTo>
                    <a:pt x="457" y="523"/>
                  </a:lnTo>
                  <a:lnTo>
                    <a:pt x="457" y="559"/>
                  </a:lnTo>
                  <a:lnTo>
                    <a:pt x="457" y="596"/>
                  </a:lnTo>
                  <a:lnTo>
                    <a:pt x="457" y="633"/>
                  </a:lnTo>
                  <a:lnTo>
                    <a:pt x="457" y="667"/>
                  </a:lnTo>
                  <a:lnTo>
                    <a:pt x="457" y="700"/>
                  </a:lnTo>
                  <a:lnTo>
                    <a:pt x="457" y="729"/>
                  </a:lnTo>
                  <a:lnTo>
                    <a:pt x="457" y="758"/>
                  </a:lnTo>
                  <a:lnTo>
                    <a:pt x="457" y="784"/>
                  </a:lnTo>
                  <a:lnTo>
                    <a:pt x="457" y="809"/>
                  </a:lnTo>
                  <a:lnTo>
                    <a:pt x="457" y="831"/>
                  </a:lnTo>
                  <a:lnTo>
                    <a:pt x="491" y="827"/>
                  </a:lnTo>
                  <a:lnTo>
                    <a:pt x="524" y="823"/>
                  </a:lnTo>
                  <a:lnTo>
                    <a:pt x="560" y="819"/>
                  </a:lnTo>
                  <a:lnTo>
                    <a:pt x="598" y="816"/>
                  </a:lnTo>
                  <a:lnTo>
                    <a:pt x="597" y="745"/>
                  </a:lnTo>
                  <a:lnTo>
                    <a:pt x="597" y="674"/>
                  </a:lnTo>
                  <a:lnTo>
                    <a:pt x="595" y="601"/>
                  </a:lnTo>
                  <a:lnTo>
                    <a:pt x="594" y="527"/>
                  </a:lnTo>
                  <a:lnTo>
                    <a:pt x="593" y="453"/>
                  </a:lnTo>
                  <a:lnTo>
                    <a:pt x="591" y="376"/>
                  </a:lnTo>
                  <a:lnTo>
                    <a:pt x="589" y="299"/>
                  </a:lnTo>
                  <a:lnTo>
                    <a:pt x="587" y="221"/>
                  </a:lnTo>
                  <a:lnTo>
                    <a:pt x="588" y="183"/>
                  </a:lnTo>
                  <a:lnTo>
                    <a:pt x="587" y="146"/>
                  </a:lnTo>
                  <a:lnTo>
                    <a:pt x="585" y="115"/>
                  </a:lnTo>
                  <a:lnTo>
                    <a:pt x="582" y="86"/>
                  </a:lnTo>
                  <a:lnTo>
                    <a:pt x="577" y="60"/>
                  </a:lnTo>
                  <a:lnTo>
                    <a:pt x="572" y="36"/>
                  </a:lnTo>
                  <a:lnTo>
                    <a:pt x="569" y="27"/>
                  </a:lnTo>
                  <a:lnTo>
                    <a:pt x="566" y="17"/>
                  </a:lnTo>
                  <a:lnTo>
                    <a:pt x="562" y="9"/>
                  </a:lnTo>
                  <a:lnTo>
                    <a:pt x="557" y="0"/>
                  </a:lnTo>
                  <a:lnTo>
                    <a:pt x="570" y="7"/>
                  </a:lnTo>
                  <a:lnTo>
                    <a:pt x="585" y="12"/>
                  </a:lnTo>
                  <a:lnTo>
                    <a:pt x="602" y="17"/>
                  </a:lnTo>
                  <a:lnTo>
                    <a:pt x="620" y="21"/>
                  </a:lnTo>
                  <a:lnTo>
                    <a:pt x="639" y="26"/>
                  </a:lnTo>
                  <a:lnTo>
                    <a:pt x="660" y="30"/>
                  </a:lnTo>
                  <a:lnTo>
                    <a:pt x="683" y="33"/>
                  </a:lnTo>
                  <a:lnTo>
                    <a:pt x="708" y="35"/>
                  </a:lnTo>
                  <a:close/>
                  <a:moveTo>
                    <a:pt x="137" y="410"/>
                  </a:moveTo>
                  <a:lnTo>
                    <a:pt x="171" y="429"/>
                  </a:lnTo>
                  <a:lnTo>
                    <a:pt x="200" y="446"/>
                  </a:lnTo>
                  <a:lnTo>
                    <a:pt x="227" y="462"/>
                  </a:lnTo>
                  <a:lnTo>
                    <a:pt x="251" y="477"/>
                  </a:lnTo>
                  <a:lnTo>
                    <a:pt x="271" y="491"/>
                  </a:lnTo>
                  <a:lnTo>
                    <a:pt x="288" y="504"/>
                  </a:lnTo>
                  <a:lnTo>
                    <a:pt x="302" y="515"/>
                  </a:lnTo>
                  <a:lnTo>
                    <a:pt x="312" y="526"/>
                  </a:lnTo>
                  <a:lnTo>
                    <a:pt x="313" y="534"/>
                  </a:lnTo>
                  <a:lnTo>
                    <a:pt x="313" y="544"/>
                  </a:lnTo>
                  <a:lnTo>
                    <a:pt x="311" y="557"/>
                  </a:lnTo>
                  <a:lnTo>
                    <a:pt x="308" y="569"/>
                  </a:lnTo>
                  <a:lnTo>
                    <a:pt x="304" y="585"/>
                  </a:lnTo>
                  <a:lnTo>
                    <a:pt x="300" y="602"/>
                  </a:lnTo>
                  <a:lnTo>
                    <a:pt x="294" y="620"/>
                  </a:lnTo>
                  <a:lnTo>
                    <a:pt x="287" y="641"/>
                  </a:lnTo>
                  <a:lnTo>
                    <a:pt x="282" y="652"/>
                  </a:lnTo>
                  <a:lnTo>
                    <a:pt x="279" y="659"/>
                  </a:lnTo>
                  <a:lnTo>
                    <a:pt x="275" y="665"/>
                  </a:lnTo>
                  <a:lnTo>
                    <a:pt x="272" y="666"/>
                  </a:lnTo>
                  <a:lnTo>
                    <a:pt x="267" y="665"/>
                  </a:lnTo>
                  <a:lnTo>
                    <a:pt x="262" y="663"/>
                  </a:lnTo>
                  <a:lnTo>
                    <a:pt x="257" y="657"/>
                  </a:lnTo>
                  <a:lnTo>
                    <a:pt x="252" y="651"/>
                  </a:lnTo>
                  <a:lnTo>
                    <a:pt x="243" y="638"/>
                  </a:lnTo>
                  <a:lnTo>
                    <a:pt x="232" y="621"/>
                  </a:lnTo>
                  <a:lnTo>
                    <a:pt x="220" y="602"/>
                  </a:lnTo>
                  <a:lnTo>
                    <a:pt x="207" y="579"/>
                  </a:lnTo>
                  <a:lnTo>
                    <a:pt x="193" y="551"/>
                  </a:lnTo>
                  <a:lnTo>
                    <a:pt x="177" y="522"/>
                  </a:lnTo>
                  <a:lnTo>
                    <a:pt x="160" y="488"/>
                  </a:lnTo>
                  <a:lnTo>
                    <a:pt x="142" y="451"/>
                  </a:lnTo>
                  <a:lnTo>
                    <a:pt x="134" y="434"/>
                  </a:lnTo>
                  <a:lnTo>
                    <a:pt x="127" y="421"/>
                  </a:lnTo>
                  <a:lnTo>
                    <a:pt x="125" y="416"/>
                  </a:lnTo>
                  <a:lnTo>
                    <a:pt x="124" y="410"/>
                  </a:lnTo>
                  <a:lnTo>
                    <a:pt x="124" y="407"/>
                  </a:lnTo>
                  <a:lnTo>
                    <a:pt x="124" y="406"/>
                  </a:lnTo>
                  <a:lnTo>
                    <a:pt x="126" y="405"/>
                  </a:lnTo>
                  <a:lnTo>
                    <a:pt x="129" y="406"/>
                  </a:lnTo>
                  <a:lnTo>
                    <a:pt x="133" y="407"/>
                  </a:lnTo>
                  <a:lnTo>
                    <a:pt x="137" y="410"/>
                  </a:lnTo>
                  <a:close/>
                </a:path>
              </a:pathLst>
            </a:custGeom>
            <a:solidFill>
              <a:srgbClr val="ffff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00"/>
                </a:solidFill>
                <a:latin typeface="Arial"/>
                <a:ea typeface="宋体"/>
              </a:endParaRPr>
            </a:p>
          </p:txBody>
        </p:sp>
        <p:sp>
          <p:nvSpPr>
            <p:cNvPr id="515" name="Freeform 17"/>
            <p:cNvSpPr/>
            <p:nvPr/>
          </p:nvSpPr>
          <p:spPr>
            <a:xfrm>
              <a:off x="3377880" y="9449640"/>
              <a:ext cx="165240" cy="182520"/>
            </a:xfrm>
            <a:custGeom>
              <a:avLst/>
              <a:gdLst>
                <a:gd name="textAreaLeft" fmla="*/ 0 w 165240"/>
                <a:gd name="textAreaRight" fmla="*/ 165600 w 165240"/>
                <a:gd name="textAreaTop" fmla="*/ 0 h 182520"/>
                <a:gd name="textAreaBottom" fmla="*/ 182880 h 182520"/>
              </a:gdLst>
              <a:ahLst/>
              <a:rect l="textAreaLeft" t="textAreaTop" r="textAreaRight" b="textAreaBottom"/>
              <a:pathLst>
                <a:path w="1037" h="1206">
                  <a:moveTo>
                    <a:pt x="246" y="560"/>
                  </a:moveTo>
                  <a:lnTo>
                    <a:pt x="263" y="566"/>
                  </a:lnTo>
                  <a:lnTo>
                    <a:pt x="282" y="573"/>
                  </a:lnTo>
                  <a:lnTo>
                    <a:pt x="303" y="580"/>
                  </a:lnTo>
                  <a:lnTo>
                    <a:pt x="326" y="590"/>
                  </a:lnTo>
                  <a:lnTo>
                    <a:pt x="335" y="594"/>
                  </a:lnTo>
                  <a:lnTo>
                    <a:pt x="341" y="595"/>
                  </a:lnTo>
                  <a:lnTo>
                    <a:pt x="389" y="588"/>
                  </a:lnTo>
                  <a:lnTo>
                    <a:pt x="432" y="579"/>
                  </a:lnTo>
                  <a:lnTo>
                    <a:pt x="470" y="572"/>
                  </a:lnTo>
                  <a:lnTo>
                    <a:pt x="504" y="563"/>
                  </a:lnTo>
                  <a:lnTo>
                    <a:pt x="533" y="555"/>
                  </a:lnTo>
                  <a:lnTo>
                    <a:pt x="557" y="548"/>
                  </a:lnTo>
                  <a:lnTo>
                    <a:pt x="568" y="543"/>
                  </a:lnTo>
                  <a:lnTo>
                    <a:pt x="576" y="539"/>
                  </a:lnTo>
                  <a:lnTo>
                    <a:pt x="585" y="534"/>
                  </a:lnTo>
                  <a:lnTo>
                    <a:pt x="591" y="530"/>
                  </a:lnTo>
                  <a:lnTo>
                    <a:pt x="607" y="541"/>
                  </a:lnTo>
                  <a:lnTo>
                    <a:pt x="624" y="551"/>
                  </a:lnTo>
                  <a:lnTo>
                    <a:pt x="642" y="560"/>
                  </a:lnTo>
                  <a:lnTo>
                    <a:pt x="661" y="569"/>
                  </a:lnTo>
                  <a:lnTo>
                    <a:pt x="682" y="576"/>
                  </a:lnTo>
                  <a:lnTo>
                    <a:pt x="705" y="584"/>
                  </a:lnTo>
                  <a:lnTo>
                    <a:pt x="727" y="590"/>
                  </a:lnTo>
                  <a:lnTo>
                    <a:pt x="751" y="595"/>
                  </a:lnTo>
                  <a:lnTo>
                    <a:pt x="738" y="601"/>
                  </a:lnTo>
                  <a:lnTo>
                    <a:pt x="726" y="609"/>
                  </a:lnTo>
                  <a:lnTo>
                    <a:pt x="713" y="620"/>
                  </a:lnTo>
                  <a:lnTo>
                    <a:pt x="699" y="631"/>
                  </a:lnTo>
                  <a:lnTo>
                    <a:pt x="686" y="645"/>
                  </a:lnTo>
                  <a:lnTo>
                    <a:pt x="671" y="662"/>
                  </a:lnTo>
                  <a:lnTo>
                    <a:pt x="657" y="680"/>
                  </a:lnTo>
                  <a:lnTo>
                    <a:pt x="642" y="700"/>
                  </a:lnTo>
                  <a:lnTo>
                    <a:pt x="651" y="705"/>
                  </a:lnTo>
                  <a:lnTo>
                    <a:pt x="658" y="711"/>
                  </a:lnTo>
                  <a:lnTo>
                    <a:pt x="665" y="717"/>
                  </a:lnTo>
                  <a:lnTo>
                    <a:pt x="673" y="723"/>
                  </a:lnTo>
                  <a:lnTo>
                    <a:pt x="679" y="731"/>
                  </a:lnTo>
                  <a:lnTo>
                    <a:pt x="686" y="738"/>
                  </a:lnTo>
                  <a:lnTo>
                    <a:pt x="692" y="747"/>
                  </a:lnTo>
                  <a:lnTo>
                    <a:pt x="697" y="755"/>
                  </a:lnTo>
                  <a:lnTo>
                    <a:pt x="658" y="757"/>
                  </a:lnTo>
                  <a:lnTo>
                    <a:pt x="619" y="761"/>
                  </a:lnTo>
                  <a:lnTo>
                    <a:pt x="577" y="765"/>
                  </a:lnTo>
                  <a:lnTo>
                    <a:pt x="535" y="769"/>
                  </a:lnTo>
                  <a:lnTo>
                    <a:pt x="492" y="773"/>
                  </a:lnTo>
                  <a:lnTo>
                    <a:pt x="446" y="779"/>
                  </a:lnTo>
                  <a:lnTo>
                    <a:pt x="400" y="784"/>
                  </a:lnTo>
                  <a:lnTo>
                    <a:pt x="352" y="790"/>
                  </a:lnTo>
                  <a:lnTo>
                    <a:pt x="352" y="895"/>
                  </a:lnTo>
                  <a:lnTo>
                    <a:pt x="415" y="886"/>
                  </a:lnTo>
                  <a:lnTo>
                    <a:pt x="472" y="876"/>
                  </a:lnTo>
                  <a:lnTo>
                    <a:pt x="520" y="868"/>
                  </a:lnTo>
                  <a:lnTo>
                    <a:pt x="562" y="859"/>
                  </a:lnTo>
                  <a:lnTo>
                    <a:pt x="595" y="851"/>
                  </a:lnTo>
                  <a:lnTo>
                    <a:pt x="622" y="843"/>
                  </a:lnTo>
                  <a:lnTo>
                    <a:pt x="631" y="840"/>
                  </a:lnTo>
                  <a:lnTo>
                    <a:pt x="640" y="837"/>
                  </a:lnTo>
                  <a:lnTo>
                    <a:pt x="647" y="834"/>
                  </a:lnTo>
                  <a:lnTo>
                    <a:pt x="652" y="830"/>
                  </a:lnTo>
                  <a:lnTo>
                    <a:pt x="671" y="844"/>
                  </a:lnTo>
                  <a:lnTo>
                    <a:pt x="691" y="857"/>
                  </a:lnTo>
                  <a:lnTo>
                    <a:pt x="711" y="869"/>
                  </a:lnTo>
                  <a:lnTo>
                    <a:pt x="732" y="878"/>
                  </a:lnTo>
                  <a:lnTo>
                    <a:pt x="753" y="886"/>
                  </a:lnTo>
                  <a:lnTo>
                    <a:pt x="776" y="892"/>
                  </a:lnTo>
                  <a:lnTo>
                    <a:pt x="798" y="897"/>
                  </a:lnTo>
                  <a:lnTo>
                    <a:pt x="821" y="900"/>
                  </a:lnTo>
                  <a:lnTo>
                    <a:pt x="813" y="905"/>
                  </a:lnTo>
                  <a:lnTo>
                    <a:pt x="803" y="910"/>
                  </a:lnTo>
                  <a:lnTo>
                    <a:pt x="795" y="915"/>
                  </a:lnTo>
                  <a:lnTo>
                    <a:pt x="786" y="922"/>
                  </a:lnTo>
                  <a:lnTo>
                    <a:pt x="778" y="928"/>
                  </a:lnTo>
                  <a:lnTo>
                    <a:pt x="770" y="935"/>
                  </a:lnTo>
                  <a:lnTo>
                    <a:pt x="763" y="943"/>
                  </a:lnTo>
                  <a:lnTo>
                    <a:pt x="755" y="950"/>
                  </a:lnTo>
                  <a:lnTo>
                    <a:pt x="742" y="967"/>
                  </a:lnTo>
                  <a:lnTo>
                    <a:pt x="729" y="986"/>
                  </a:lnTo>
                  <a:lnTo>
                    <a:pt x="717" y="1007"/>
                  </a:lnTo>
                  <a:lnTo>
                    <a:pt x="707" y="1031"/>
                  </a:lnTo>
                  <a:lnTo>
                    <a:pt x="715" y="1036"/>
                  </a:lnTo>
                  <a:lnTo>
                    <a:pt x="724" y="1041"/>
                  </a:lnTo>
                  <a:lnTo>
                    <a:pt x="731" y="1048"/>
                  </a:lnTo>
                  <a:lnTo>
                    <a:pt x="740" y="1054"/>
                  </a:lnTo>
                  <a:lnTo>
                    <a:pt x="747" y="1061"/>
                  </a:lnTo>
                  <a:lnTo>
                    <a:pt x="753" y="1069"/>
                  </a:lnTo>
                  <a:lnTo>
                    <a:pt x="761" y="1076"/>
                  </a:lnTo>
                  <a:lnTo>
                    <a:pt x="767" y="1085"/>
                  </a:lnTo>
                  <a:lnTo>
                    <a:pt x="722" y="1086"/>
                  </a:lnTo>
                  <a:lnTo>
                    <a:pt x="675" y="1087"/>
                  </a:lnTo>
                  <a:lnTo>
                    <a:pt x="626" y="1088"/>
                  </a:lnTo>
                  <a:lnTo>
                    <a:pt x="575" y="1090"/>
                  </a:lnTo>
                  <a:lnTo>
                    <a:pt x="522" y="1093"/>
                  </a:lnTo>
                  <a:lnTo>
                    <a:pt x="467" y="1096"/>
                  </a:lnTo>
                  <a:lnTo>
                    <a:pt x="410" y="1101"/>
                  </a:lnTo>
                  <a:lnTo>
                    <a:pt x="352" y="1105"/>
                  </a:lnTo>
                  <a:lnTo>
                    <a:pt x="351" y="1113"/>
                  </a:lnTo>
                  <a:lnTo>
                    <a:pt x="350" y="1122"/>
                  </a:lnTo>
                  <a:lnTo>
                    <a:pt x="349" y="1130"/>
                  </a:lnTo>
                  <a:lnTo>
                    <a:pt x="347" y="1140"/>
                  </a:lnTo>
                  <a:lnTo>
                    <a:pt x="346" y="1171"/>
                  </a:lnTo>
                  <a:lnTo>
                    <a:pt x="344" y="1192"/>
                  </a:lnTo>
                  <a:lnTo>
                    <a:pt x="342" y="1198"/>
                  </a:lnTo>
                  <a:lnTo>
                    <a:pt x="341" y="1203"/>
                  </a:lnTo>
                  <a:lnTo>
                    <a:pt x="340" y="1205"/>
                  </a:lnTo>
                  <a:lnTo>
                    <a:pt x="339" y="1206"/>
                  </a:lnTo>
                  <a:lnTo>
                    <a:pt x="338" y="1206"/>
                  </a:lnTo>
                  <a:lnTo>
                    <a:pt x="336" y="1206"/>
                  </a:lnTo>
                  <a:lnTo>
                    <a:pt x="326" y="1197"/>
                  </a:lnTo>
                  <a:lnTo>
                    <a:pt x="316" y="1189"/>
                  </a:lnTo>
                  <a:lnTo>
                    <a:pt x="305" y="1179"/>
                  </a:lnTo>
                  <a:lnTo>
                    <a:pt x="296" y="1167"/>
                  </a:lnTo>
                  <a:lnTo>
                    <a:pt x="273" y="1143"/>
                  </a:lnTo>
                  <a:lnTo>
                    <a:pt x="251" y="1116"/>
                  </a:lnTo>
                  <a:lnTo>
                    <a:pt x="258" y="1090"/>
                  </a:lnTo>
                  <a:lnTo>
                    <a:pt x="263" y="1057"/>
                  </a:lnTo>
                  <a:lnTo>
                    <a:pt x="267" y="1019"/>
                  </a:lnTo>
                  <a:lnTo>
                    <a:pt x="270" y="976"/>
                  </a:lnTo>
                  <a:lnTo>
                    <a:pt x="273" y="925"/>
                  </a:lnTo>
                  <a:lnTo>
                    <a:pt x="275" y="868"/>
                  </a:lnTo>
                  <a:lnTo>
                    <a:pt x="276" y="804"/>
                  </a:lnTo>
                  <a:lnTo>
                    <a:pt x="277" y="735"/>
                  </a:lnTo>
                  <a:lnTo>
                    <a:pt x="276" y="711"/>
                  </a:lnTo>
                  <a:lnTo>
                    <a:pt x="275" y="686"/>
                  </a:lnTo>
                  <a:lnTo>
                    <a:pt x="272" y="663"/>
                  </a:lnTo>
                  <a:lnTo>
                    <a:pt x="269" y="641"/>
                  </a:lnTo>
                  <a:lnTo>
                    <a:pt x="265" y="620"/>
                  </a:lnTo>
                  <a:lnTo>
                    <a:pt x="260" y="599"/>
                  </a:lnTo>
                  <a:lnTo>
                    <a:pt x="253" y="579"/>
                  </a:lnTo>
                  <a:lnTo>
                    <a:pt x="246" y="560"/>
                  </a:lnTo>
                  <a:close/>
                  <a:moveTo>
                    <a:pt x="416" y="314"/>
                  </a:moveTo>
                  <a:lnTo>
                    <a:pt x="460" y="320"/>
                  </a:lnTo>
                  <a:lnTo>
                    <a:pt x="494" y="325"/>
                  </a:lnTo>
                  <a:lnTo>
                    <a:pt x="519" y="329"/>
                  </a:lnTo>
                  <a:lnTo>
                    <a:pt x="536" y="335"/>
                  </a:lnTo>
                  <a:lnTo>
                    <a:pt x="539" y="339"/>
                  </a:lnTo>
                  <a:lnTo>
                    <a:pt x="541" y="345"/>
                  </a:lnTo>
                  <a:lnTo>
                    <a:pt x="543" y="353"/>
                  </a:lnTo>
                  <a:lnTo>
                    <a:pt x="544" y="361"/>
                  </a:lnTo>
                  <a:lnTo>
                    <a:pt x="546" y="382"/>
                  </a:lnTo>
                  <a:lnTo>
                    <a:pt x="547" y="410"/>
                  </a:lnTo>
                  <a:lnTo>
                    <a:pt x="547" y="411"/>
                  </a:lnTo>
                  <a:lnTo>
                    <a:pt x="547" y="415"/>
                  </a:lnTo>
                  <a:lnTo>
                    <a:pt x="611" y="403"/>
                  </a:lnTo>
                  <a:lnTo>
                    <a:pt x="669" y="394"/>
                  </a:lnTo>
                  <a:lnTo>
                    <a:pt x="718" y="384"/>
                  </a:lnTo>
                  <a:lnTo>
                    <a:pt x="761" y="375"/>
                  </a:lnTo>
                  <a:lnTo>
                    <a:pt x="795" y="366"/>
                  </a:lnTo>
                  <a:lnTo>
                    <a:pt x="821" y="359"/>
                  </a:lnTo>
                  <a:lnTo>
                    <a:pt x="832" y="355"/>
                  </a:lnTo>
                  <a:lnTo>
                    <a:pt x="840" y="351"/>
                  </a:lnTo>
                  <a:lnTo>
                    <a:pt x="847" y="348"/>
                  </a:lnTo>
                  <a:lnTo>
                    <a:pt x="852" y="345"/>
                  </a:lnTo>
                  <a:lnTo>
                    <a:pt x="871" y="364"/>
                  </a:lnTo>
                  <a:lnTo>
                    <a:pt x="891" y="382"/>
                  </a:lnTo>
                  <a:lnTo>
                    <a:pt x="913" y="400"/>
                  </a:lnTo>
                  <a:lnTo>
                    <a:pt x="935" y="416"/>
                  </a:lnTo>
                  <a:lnTo>
                    <a:pt x="959" y="431"/>
                  </a:lnTo>
                  <a:lnTo>
                    <a:pt x="984" y="445"/>
                  </a:lnTo>
                  <a:lnTo>
                    <a:pt x="1010" y="458"/>
                  </a:lnTo>
                  <a:lnTo>
                    <a:pt x="1037" y="470"/>
                  </a:lnTo>
                  <a:lnTo>
                    <a:pt x="1002" y="488"/>
                  </a:lnTo>
                  <a:lnTo>
                    <a:pt x="969" y="505"/>
                  </a:lnTo>
                  <a:lnTo>
                    <a:pt x="937" y="520"/>
                  </a:lnTo>
                  <a:lnTo>
                    <a:pt x="906" y="535"/>
                  </a:lnTo>
                  <a:lnTo>
                    <a:pt x="875" y="548"/>
                  </a:lnTo>
                  <a:lnTo>
                    <a:pt x="847" y="560"/>
                  </a:lnTo>
                  <a:lnTo>
                    <a:pt x="819" y="571"/>
                  </a:lnTo>
                  <a:lnTo>
                    <a:pt x="791" y="579"/>
                  </a:lnTo>
                  <a:lnTo>
                    <a:pt x="771" y="584"/>
                  </a:lnTo>
                  <a:lnTo>
                    <a:pt x="762" y="585"/>
                  </a:lnTo>
                  <a:lnTo>
                    <a:pt x="760" y="581"/>
                  </a:lnTo>
                  <a:lnTo>
                    <a:pt x="761" y="576"/>
                  </a:lnTo>
                  <a:lnTo>
                    <a:pt x="763" y="569"/>
                  </a:lnTo>
                  <a:lnTo>
                    <a:pt x="767" y="560"/>
                  </a:lnTo>
                  <a:lnTo>
                    <a:pt x="788" y="521"/>
                  </a:lnTo>
                  <a:lnTo>
                    <a:pt x="806" y="486"/>
                  </a:lnTo>
                  <a:lnTo>
                    <a:pt x="823" y="454"/>
                  </a:lnTo>
                  <a:lnTo>
                    <a:pt x="837" y="425"/>
                  </a:lnTo>
                  <a:lnTo>
                    <a:pt x="791" y="433"/>
                  </a:lnTo>
                  <a:lnTo>
                    <a:pt x="736" y="442"/>
                  </a:lnTo>
                  <a:lnTo>
                    <a:pt x="671" y="452"/>
                  </a:lnTo>
                  <a:lnTo>
                    <a:pt x="594" y="464"/>
                  </a:lnTo>
                  <a:lnTo>
                    <a:pt x="508" y="475"/>
                  </a:lnTo>
                  <a:lnTo>
                    <a:pt x="411" y="489"/>
                  </a:lnTo>
                  <a:lnTo>
                    <a:pt x="304" y="504"/>
                  </a:lnTo>
                  <a:lnTo>
                    <a:pt x="187" y="520"/>
                  </a:lnTo>
                  <a:lnTo>
                    <a:pt x="167" y="500"/>
                  </a:lnTo>
                  <a:lnTo>
                    <a:pt x="163" y="527"/>
                  </a:lnTo>
                  <a:lnTo>
                    <a:pt x="160" y="554"/>
                  </a:lnTo>
                  <a:lnTo>
                    <a:pt x="156" y="580"/>
                  </a:lnTo>
                  <a:lnTo>
                    <a:pt x="152" y="606"/>
                  </a:lnTo>
                  <a:lnTo>
                    <a:pt x="146" y="631"/>
                  </a:lnTo>
                  <a:lnTo>
                    <a:pt x="140" y="657"/>
                  </a:lnTo>
                  <a:lnTo>
                    <a:pt x="134" y="681"/>
                  </a:lnTo>
                  <a:lnTo>
                    <a:pt x="126" y="705"/>
                  </a:lnTo>
                  <a:lnTo>
                    <a:pt x="114" y="697"/>
                  </a:lnTo>
                  <a:lnTo>
                    <a:pt x="101" y="688"/>
                  </a:lnTo>
                  <a:lnTo>
                    <a:pt x="87" y="681"/>
                  </a:lnTo>
                  <a:lnTo>
                    <a:pt x="72" y="674"/>
                  </a:lnTo>
                  <a:lnTo>
                    <a:pt x="58" y="667"/>
                  </a:lnTo>
                  <a:lnTo>
                    <a:pt x="43" y="661"/>
                  </a:lnTo>
                  <a:lnTo>
                    <a:pt x="28" y="656"/>
                  </a:lnTo>
                  <a:lnTo>
                    <a:pt x="12" y="650"/>
                  </a:lnTo>
                  <a:lnTo>
                    <a:pt x="7" y="648"/>
                  </a:lnTo>
                  <a:lnTo>
                    <a:pt x="3" y="646"/>
                  </a:lnTo>
                  <a:lnTo>
                    <a:pt x="1" y="644"/>
                  </a:lnTo>
                  <a:lnTo>
                    <a:pt x="0" y="641"/>
                  </a:lnTo>
                  <a:lnTo>
                    <a:pt x="0" y="638"/>
                  </a:lnTo>
                  <a:lnTo>
                    <a:pt x="1" y="634"/>
                  </a:lnTo>
                  <a:lnTo>
                    <a:pt x="3" y="630"/>
                  </a:lnTo>
                  <a:lnTo>
                    <a:pt x="7" y="625"/>
                  </a:lnTo>
                  <a:lnTo>
                    <a:pt x="26" y="606"/>
                  </a:lnTo>
                  <a:lnTo>
                    <a:pt x="44" y="584"/>
                  </a:lnTo>
                  <a:lnTo>
                    <a:pt x="63" y="561"/>
                  </a:lnTo>
                  <a:lnTo>
                    <a:pt x="82" y="536"/>
                  </a:lnTo>
                  <a:lnTo>
                    <a:pt x="100" y="509"/>
                  </a:lnTo>
                  <a:lnTo>
                    <a:pt x="119" y="482"/>
                  </a:lnTo>
                  <a:lnTo>
                    <a:pt x="138" y="451"/>
                  </a:lnTo>
                  <a:lnTo>
                    <a:pt x="156" y="419"/>
                  </a:lnTo>
                  <a:lnTo>
                    <a:pt x="159" y="415"/>
                  </a:lnTo>
                  <a:lnTo>
                    <a:pt x="161" y="412"/>
                  </a:lnTo>
                  <a:lnTo>
                    <a:pt x="164" y="411"/>
                  </a:lnTo>
                  <a:lnTo>
                    <a:pt x="167" y="410"/>
                  </a:lnTo>
                  <a:lnTo>
                    <a:pt x="169" y="413"/>
                  </a:lnTo>
                  <a:lnTo>
                    <a:pt x="171" y="416"/>
                  </a:lnTo>
                  <a:lnTo>
                    <a:pt x="171" y="420"/>
                  </a:lnTo>
                  <a:lnTo>
                    <a:pt x="172" y="425"/>
                  </a:lnTo>
                  <a:lnTo>
                    <a:pt x="172" y="433"/>
                  </a:lnTo>
                  <a:lnTo>
                    <a:pt x="172" y="443"/>
                  </a:lnTo>
                  <a:lnTo>
                    <a:pt x="172" y="453"/>
                  </a:lnTo>
                  <a:lnTo>
                    <a:pt x="172" y="465"/>
                  </a:lnTo>
                  <a:lnTo>
                    <a:pt x="221" y="458"/>
                  </a:lnTo>
                  <a:lnTo>
                    <a:pt x="268" y="452"/>
                  </a:lnTo>
                  <a:lnTo>
                    <a:pt x="313" y="447"/>
                  </a:lnTo>
                  <a:lnTo>
                    <a:pt x="356" y="440"/>
                  </a:lnTo>
                  <a:lnTo>
                    <a:pt x="398" y="435"/>
                  </a:lnTo>
                  <a:lnTo>
                    <a:pt x="438" y="430"/>
                  </a:lnTo>
                  <a:lnTo>
                    <a:pt x="476" y="425"/>
                  </a:lnTo>
                  <a:lnTo>
                    <a:pt x="512" y="419"/>
                  </a:lnTo>
                  <a:lnTo>
                    <a:pt x="479" y="396"/>
                  </a:lnTo>
                  <a:lnTo>
                    <a:pt x="451" y="374"/>
                  </a:lnTo>
                  <a:lnTo>
                    <a:pt x="440" y="363"/>
                  </a:lnTo>
                  <a:lnTo>
                    <a:pt x="429" y="354"/>
                  </a:lnTo>
                  <a:lnTo>
                    <a:pt x="420" y="344"/>
                  </a:lnTo>
                  <a:lnTo>
                    <a:pt x="411" y="335"/>
                  </a:lnTo>
                  <a:lnTo>
                    <a:pt x="407" y="328"/>
                  </a:lnTo>
                  <a:lnTo>
                    <a:pt x="404" y="322"/>
                  </a:lnTo>
                  <a:lnTo>
                    <a:pt x="403" y="318"/>
                  </a:lnTo>
                  <a:lnTo>
                    <a:pt x="402" y="314"/>
                  </a:lnTo>
                  <a:lnTo>
                    <a:pt x="405" y="312"/>
                  </a:lnTo>
                  <a:lnTo>
                    <a:pt x="408" y="312"/>
                  </a:lnTo>
                  <a:lnTo>
                    <a:pt x="412" y="312"/>
                  </a:lnTo>
                  <a:lnTo>
                    <a:pt x="416" y="314"/>
                  </a:lnTo>
                  <a:close/>
                  <a:moveTo>
                    <a:pt x="462" y="130"/>
                  </a:moveTo>
                  <a:lnTo>
                    <a:pt x="470" y="138"/>
                  </a:lnTo>
                  <a:lnTo>
                    <a:pt x="486" y="154"/>
                  </a:lnTo>
                  <a:lnTo>
                    <a:pt x="491" y="159"/>
                  </a:lnTo>
                  <a:lnTo>
                    <a:pt x="492" y="160"/>
                  </a:lnTo>
                  <a:lnTo>
                    <a:pt x="494" y="163"/>
                  </a:lnTo>
                  <a:lnTo>
                    <a:pt x="495" y="166"/>
                  </a:lnTo>
                  <a:lnTo>
                    <a:pt x="495" y="169"/>
                  </a:lnTo>
                  <a:lnTo>
                    <a:pt x="494" y="172"/>
                  </a:lnTo>
                  <a:lnTo>
                    <a:pt x="493" y="174"/>
                  </a:lnTo>
                  <a:lnTo>
                    <a:pt x="490" y="177"/>
                  </a:lnTo>
                  <a:lnTo>
                    <a:pt x="486" y="178"/>
                  </a:lnTo>
                  <a:lnTo>
                    <a:pt x="482" y="180"/>
                  </a:lnTo>
                  <a:lnTo>
                    <a:pt x="446" y="189"/>
                  </a:lnTo>
                  <a:lnTo>
                    <a:pt x="414" y="197"/>
                  </a:lnTo>
                  <a:lnTo>
                    <a:pt x="386" y="204"/>
                  </a:lnTo>
                  <a:lnTo>
                    <a:pt x="361" y="209"/>
                  </a:lnTo>
                  <a:lnTo>
                    <a:pt x="341" y="214"/>
                  </a:lnTo>
                  <a:lnTo>
                    <a:pt x="324" y="217"/>
                  </a:lnTo>
                  <a:lnTo>
                    <a:pt x="311" y="219"/>
                  </a:lnTo>
                  <a:lnTo>
                    <a:pt x="301" y="220"/>
                  </a:lnTo>
                  <a:lnTo>
                    <a:pt x="289" y="219"/>
                  </a:lnTo>
                  <a:lnTo>
                    <a:pt x="277" y="216"/>
                  </a:lnTo>
                  <a:lnTo>
                    <a:pt x="264" y="212"/>
                  </a:lnTo>
                  <a:lnTo>
                    <a:pt x="251" y="204"/>
                  </a:lnTo>
                  <a:lnTo>
                    <a:pt x="228" y="250"/>
                  </a:lnTo>
                  <a:lnTo>
                    <a:pt x="207" y="287"/>
                  </a:lnTo>
                  <a:lnTo>
                    <a:pt x="197" y="303"/>
                  </a:lnTo>
                  <a:lnTo>
                    <a:pt x="188" y="315"/>
                  </a:lnTo>
                  <a:lnTo>
                    <a:pt x="179" y="326"/>
                  </a:lnTo>
                  <a:lnTo>
                    <a:pt x="172" y="335"/>
                  </a:lnTo>
                  <a:lnTo>
                    <a:pt x="165" y="341"/>
                  </a:lnTo>
                  <a:lnTo>
                    <a:pt x="159" y="347"/>
                  </a:lnTo>
                  <a:lnTo>
                    <a:pt x="153" y="353"/>
                  </a:lnTo>
                  <a:lnTo>
                    <a:pt x="145" y="357"/>
                  </a:lnTo>
                  <a:lnTo>
                    <a:pt x="138" y="360"/>
                  </a:lnTo>
                  <a:lnTo>
                    <a:pt x="129" y="363"/>
                  </a:lnTo>
                  <a:lnTo>
                    <a:pt x="121" y="364"/>
                  </a:lnTo>
                  <a:lnTo>
                    <a:pt x="111" y="366"/>
                  </a:lnTo>
                  <a:lnTo>
                    <a:pt x="102" y="366"/>
                  </a:lnTo>
                  <a:lnTo>
                    <a:pt x="91" y="366"/>
                  </a:lnTo>
                  <a:lnTo>
                    <a:pt x="81" y="365"/>
                  </a:lnTo>
                  <a:lnTo>
                    <a:pt x="70" y="364"/>
                  </a:lnTo>
                  <a:lnTo>
                    <a:pt x="58" y="361"/>
                  </a:lnTo>
                  <a:lnTo>
                    <a:pt x="47" y="358"/>
                  </a:lnTo>
                  <a:lnTo>
                    <a:pt x="34" y="355"/>
                  </a:lnTo>
                  <a:lnTo>
                    <a:pt x="21" y="349"/>
                  </a:lnTo>
                  <a:lnTo>
                    <a:pt x="44" y="335"/>
                  </a:lnTo>
                  <a:lnTo>
                    <a:pt x="64" y="320"/>
                  </a:lnTo>
                  <a:lnTo>
                    <a:pt x="83" y="304"/>
                  </a:lnTo>
                  <a:lnTo>
                    <a:pt x="101" y="287"/>
                  </a:lnTo>
                  <a:lnTo>
                    <a:pt x="118" y="269"/>
                  </a:lnTo>
                  <a:lnTo>
                    <a:pt x="134" y="251"/>
                  </a:lnTo>
                  <a:lnTo>
                    <a:pt x="147" y="232"/>
                  </a:lnTo>
                  <a:lnTo>
                    <a:pt x="160" y="212"/>
                  </a:lnTo>
                  <a:lnTo>
                    <a:pt x="172" y="191"/>
                  </a:lnTo>
                  <a:lnTo>
                    <a:pt x="182" y="170"/>
                  </a:lnTo>
                  <a:lnTo>
                    <a:pt x="191" y="149"/>
                  </a:lnTo>
                  <a:lnTo>
                    <a:pt x="198" y="127"/>
                  </a:lnTo>
                  <a:lnTo>
                    <a:pt x="205" y="103"/>
                  </a:lnTo>
                  <a:lnTo>
                    <a:pt x="210" y="79"/>
                  </a:lnTo>
                  <a:lnTo>
                    <a:pt x="214" y="55"/>
                  </a:lnTo>
                  <a:lnTo>
                    <a:pt x="216" y="29"/>
                  </a:lnTo>
                  <a:lnTo>
                    <a:pt x="229" y="39"/>
                  </a:lnTo>
                  <a:lnTo>
                    <a:pt x="242" y="47"/>
                  </a:lnTo>
                  <a:lnTo>
                    <a:pt x="255" y="55"/>
                  </a:lnTo>
                  <a:lnTo>
                    <a:pt x="269" y="61"/>
                  </a:lnTo>
                  <a:lnTo>
                    <a:pt x="283" y="65"/>
                  </a:lnTo>
                  <a:lnTo>
                    <a:pt x="297" y="70"/>
                  </a:lnTo>
                  <a:lnTo>
                    <a:pt x="312" y="73"/>
                  </a:lnTo>
                  <a:lnTo>
                    <a:pt x="326" y="75"/>
                  </a:lnTo>
                  <a:lnTo>
                    <a:pt x="317" y="85"/>
                  </a:lnTo>
                  <a:lnTo>
                    <a:pt x="307" y="97"/>
                  </a:lnTo>
                  <a:lnTo>
                    <a:pt x="299" y="109"/>
                  </a:lnTo>
                  <a:lnTo>
                    <a:pt x="291" y="120"/>
                  </a:lnTo>
                  <a:lnTo>
                    <a:pt x="284" y="133"/>
                  </a:lnTo>
                  <a:lnTo>
                    <a:pt x="278" y="145"/>
                  </a:lnTo>
                  <a:lnTo>
                    <a:pt x="271" y="158"/>
                  </a:lnTo>
                  <a:lnTo>
                    <a:pt x="266" y="169"/>
                  </a:lnTo>
                  <a:lnTo>
                    <a:pt x="266" y="171"/>
                  </a:lnTo>
                  <a:lnTo>
                    <a:pt x="265" y="173"/>
                  </a:lnTo>
                  <a:lnTo>
                    <a:pt x="264" y="174"/>
                  </a:lnTo>
                  <a:lnTo>
                    <a:pt x="262" y="174"/>
                  </a:lnTo>
                  <a:lnTo>
                    <a:pt x="279" y="171"/>
                  </a:lnTo>
                  <a:lnTo>
                    <a:pt x="300" y="166"/>
                  </a:lnTo>
                  <a:lnTo>
                    <a:pt x="326" y="159"/>
                  </a:lnTo>
                  <a:lnTo>
                    <a:pt x="356" y="150"/>
                  </a:lnTo>
                  <a:lnTo>
                    <a:pt x="380" y="143"/>
                  </a:lnTo>
                  <a:lnTo>
                    <a:pt x="401" y="137"/>
                  </a:lnTo>
                  <a:lnTo>
                    <a:pt x="418" y="133"/>
                  </a:lnTo>
                  <a:lnTo>
                    <a:pt x="431" y="130"/>
                  </a:lnTo>
                  <a:lnTo>
                    <a:pt x="441" y="126"/>
                  </a:lnTo>
                  <a:lnTo>
                    <a:pt x="449" y="125"/>
                  </a:lnTo>
                  <a:lnTo>
                    <a:pt x="452" y="125"/>
                  </a:lnTo>
                  <a:lnTo>
                    <a:pt x="456" y="126"/>
                  </a:lnTo>
                  <a:lnTo>
                    <a:pt x="459" y="128"/>
                  </a:lnTo>
                  <a:lnTo>
                    <a:pt x="462" y="130"/>
                  </a:lnTo>
                  <a:close/>
                  <a:moveTo>
                    <a:pt x="881" y="95"/>
                  </a:moveTo>
                  <a:lnTo>
                    <a:pt x="885" y="95"/>
                  </a:lnTo>
                  <a:lnTo>
                    <a:pt x="888" y="97"/>
                  </a:lnTo>
                  <a:lnTo>
                    <a:pt x="892" y="100"/>
                  </a:lnTo>
                  <a:lnTo>
                    <a:pt x="896" y="105"/>
                  </a:lnTo>
                  <a:lnTo>
                    <a:pt x="906" y="113"/>
                  </a:lnTo>
                  <a:lnTo>
                    <a:pt x="911" y="119"/>
                  </a:lnTo>
                  <a:lnTo>
                    <a:pt x="914" y="125"/>
                  </a:lnTo>
                  <a:lnTo>
                    <a:pt x="915" y="130"/>
                  </a:lnTo>
                  <a:lnTo>
                    <a:pt x="916" y="134"/>
                  </a:lnTo>
                  <a:lnTo>
                    <a:pt x="916" y="140"/>
                  </a:lnTo>
                  <a:lnTo>
                    <a:pt x="914" y="142"/>
                  </a:lnTo>
                  <a:lnTo>
                    <a:pt x="910" y="143"/>
                  </a:lnTo>
                  <a:lnTo>
                    <a:pt x="906" y="144"/>
                  </a:lnTo>
                  <a:lnTo>
                    <a:pt x="902" y="145"/>
                  </a:lnTo>
                  <a:lnTo>
                    <a:pt x="893" y="147"/>
                  </a:lnTo>
                  <a:lnTo>
                    <a:pt x="881" y="149"/>
                  </a:lnTo>
                  <a:lnTo>
                    <a:pt x="868" y="152"/>
                  </a:lnTo>
                  <a:lnTo>
                    <a:pt x="852" y="154"/>
                  </a:lnTo>
                  <a:lnTo>
                    <a:pt x="820" y="161"/>
                  </a:lnTo>
                  <a:lnTo>
                    <a:pt x="791" y="165"/>
                  </a:lnTo>
                  <a:lnTo>
                    <a:pt x="766" y="170"/>
                  </a:lnTo>
                  <a:lnTo>
                    <a:pt x="744" y="173"/>
                  </a:lnTo>
                  <a:lnTo>
                    <a:pt x="726" y="176"/>
                  </a:lnTo>
                  <a:lnTo>
                    <a:pt x="711" y="178"/>
                  </a:lnTo>
                  <a:lnTo>
                    <a:pt x="699" y="179"/>
                  </a:lnTo>
                  <a:lnTo>
                    <a:pt x="692" y="180"/>
                  </a:lnTo>
                  <a:lnTo>
                    <a:pt x="683" y="179"/>
                  </a:lnTo>
                  <a:lnTo>
                    <a:pt x="675" y="179"/>
                  </a:lnTo>
                  <a:lnTo>
                    <a:pt x="668" y="177"/>
                  </a:lnTo>
                  <a:lnTo>
                    <a:pt x="660" y="174"/>
                  </a:lnTo>
                  <a:lnTo>
                    <a:pt x="654" y="171"/>
                  </a:lnTo>
                  <a:lnTo>
                    <a:pt x="647" y="168"/>
                  </a:lnTo>
                  <a:lnTo>
                    <a:pt x="642" y="164"/>
                  </a:lnTo>
                  <a:lnTo>
                    <a:pt x="637" y="160"/>
                  </a:lnTo>
                  <a:lnTo>
                    <a:pt x="630" y="176"/>
                  </a:lnTo>
                  <a:lnTo>
                    <a:pt x="623" y="190"/>
                  </a:lnTo>
                  <a:lnTo>
                    <a:pt x="616" y="205"/>
                  </a:lnTo>
                  <a:lnTo>
                    <a:pt x="608" y="218"/>
                  </a:lnTo>
                  <a:lnTo>
                    <a:pt x="600" y="231"/>
                  </a:lnTo>
                  <a:lnTo>
                    <a:pt x="590" y="243"/>
                  </a:lnTo>
                  <a:lnTo>
                    <a:pt x="582" y="254"/>
                  </a:lnTo>
                  <a:lnTo>
                    <a:pt x="572" y="265"/>
                  </a:lnTo>
                  <a:lnTo>
                    <a:pt x="566" y="273"/>
                  </a:lnTo>
                  <a:lnTo>
                    <a:pt x="559" y="280"/>
                  </a:lnTo>
                  <a:lnTo>
                    <a:pt x="553" y="287"/>
                  </a:lnTo>
                  <a:lnTo>
                    <a:pt x="547" y="292"/>
                  </a:lnTo>
                  <a:lnTo>
                    <a:pt x="539" y="297"/>
                  </a:lnTo>
                  <a:lnTo>
                    <a:pt x="532" y="301"/>
                  </a:lnTo>
                  <a:lnTo>
                    <a:pt x="523" y="304"/>
                  </a:lnTo>
                  <a:lnTo>
                    <a:pt x="515" y="306"/>
                  </a:lnTo>
                  <a:lnTo>
                    <a:pt x="507" y="307"/>
                  </a:lnTo>
                  <a:lnTo>
                    <a:pt x="498" y="307"/>
                  </a:lnTo>
                  <a:lnTo>
                    <a:pt x="488" y="307"/>
                  </a:lnTo>
                  <a:lnTo>
                    <a:pt x="479" y="305"/>
                  </a:lnTo>
                  <a:lnTo>
                    <a:pt x="468" y="303"/>
                  </a:lnTo>
                  <a:lnTo>
                    <a:pt x="459" y="300"/>
                  </a:lnTo>
                  <a:lnTo>
                    <a:pt x="447" y="295"/>
                  </a:lnTo>
                  <a:lnTo>
                    <a:pt x="437" y="290"/>
                  </a:lnTo>
                  <a:lnTo>
                    <a:pt x="457" y="274"/>
                  </a:lnTo>
                  <a:lnTo>
                    <a:pt x="475" y="259"/>
                  </a:lnTo>
                  <a:lnTo>
                    <a:pt x="493" y="243"/>
                  </a:lnTo>
                  <a:lnTo>
                    <a:pt x="509" y="226"/>
                  </a:lnTo>
                  <a:lnTo>
                    <a:pt x="523" y="209"/>
                  </a:lnTo>
                  <a:lnTo>
                    <a:pt x="537" y="193"/>
                  </a:lnTo>
                  <a:lnTo>
                    <a:pt x="549" y="176"/>
                  </a:lnTo>
                  <a:lnTo>
                    <a:pt x="561" y="158"/>
                  </a:lnTo>
                  <a:lnTo>
                    <a:pt x="570" y="138"/>
                  </a:lnTo>
                  <a:lnTo>
                    <a:pt x="579" y="120"/>
                  </a:lnTo>
                  <a:lnTo>
                    <a:pt x="585" y="101"/>
                  </a:lnTo>
                  <a:lnTo>
                    <a:pt x="591" y="81"/>
                  </a:lnTo>
                  <a:lnTo>
                    <a:pt x="595" y="61"/>
                  </a:lnTo>
                  <a:lnTo>
                    <a:pt x="599" y="41"/>
                  </a:lnTo>
                  <a:lnTo>
                    <a:pt x="601" y="21"/>
                  </a:lnTo>
                  <a:lnTo>
                    <a:pt x="602" y="0"/>
                  </a:lnTo>
                  <a:lnTo>
                    <a:pt x="610" y="8"/>
                  </a:lnTo>
                  <a:lnTo>
                    <a:pt x="621" y="16"/>
                  </a:lnTo>
                  <a:lnTo>
                    <a:pt x="633" y="22"/>
                  </a:lnTo>
                  <a:lnTo>
                    <a:pt x="644" y="28"/>
                  </a:lnTo>
                  <a:lnTo>
                    <a:pt x="657" y="34"/>
                  </a:lnTo>
                  <a:lnTo>
                    <a:pt x="671" y="38"/>
                  </a:lnTo>
                  <a:lnTo>
                    <a:pt x="686" y="41"/>
                  </a:lnTo>
                  <a:lnTo>
                    <a:pt x="701" y="44"/>
                  </a:lnTo>
                  <a:lnTo>
                    <a:pt x="687" y="63"/>
                  </a:lnTo>
                  <a:lnTo>
                    <a:pt x="673" y="84"/>
                  </a:lnTo>
                  <a:lnTo>
                    <a:pt x="659" y="108"/>
                  </a:lnTo>
                  <a:lnTo>
                    <a:pt x="646" y="134"/>
                  </a:lnTo>
                  <a:lnTo>
                    <a:pt x="671" y="131"/>
                  </a:lnTo>
                  <a:lnTo>
                    <a:pt x="702" y="125"/>
                  </a:lnTo>
                  <a:lnTo>
                    <a:pt x="743" y="116"/>
                  </a:lnTo>
                  <a:lnTo>
                    <a:pt x="791" y="105"/>
                  </a:lnTo>
                  <a:lnTo>
                    <a:pt x="810" y="100"/>
                  </a:lnTo>
                  <a:lnTo>
                    <a:pt x="826" y="96"/>
                  </a:lnTo>
                  <a:lnTo>
                    <a:pt x="840" y="92"/>
                  </a:lnTo>
                  <a:lnTo>
                    <a:pt x="852" y="90"/>
                  </a:lnTo>
                  <a:lnTo>
                    <a:pt x="859" y="88"/>
                  </a:lnTo>
                  <a:lnTo>
                    <a:pt x="866" y="89"/>
                  </a:lnTo>
                  <a:lnTo>
                    <a:pt x="871" y="91"/>
                  </a:lnTo>
                  <a:lnTo>
                    <a:pt x="876" y="95"/>
                  </a:lnTo>
                  <a:lnTo>
                    <a:pt x="877" y="93"/>
                  </a:lnTo>
                  <a:lnTo>
                    <a:pt x="878" y="92"/>
                  </a:lnTo>
                  <a:lnTo>
                    <a:pt x="879" y="93"/>
                  </a:lnTo>
                  <a:lnTo>
                    <a:pt x="881" y="95"/>
                  </a:lnTo>
                  <a:close/>
                  <a:moveTo>
                    <a:pt x="352" y="950"/>
                  </a:moveTo>
                  <a:lnTo>
                    <a:pt x="352" y="977"/>
                  </a:lnTo>
                  <a:lnTo>
                    <a:pt x="352" y="1003"/>
                  </a:lnTo>
                  <a:lnTo>
                    <a:pt x="352" y="1028"/>
                  </a:lnTo>
                  <a:lnTo>
                    <a:pt x="352" y="1050"/>
                  </a:lnTo>
                  <a:lnTo>
                    <a:pt x="366" y="1048"/>
                  </a:lnTo>
                  <a:lnTo>
                    <a:pt x="384" y="1047"/>
                  </a:lnTo>
                  <a:lnTo>
                    <a:pt x="406" y="1046"/>
                  </a:lnTo>
                  <a:lnTo>
                    <a:pt x="431" y="1046"/>
                  </a:lnTo>
                  <a:lnTo>
                    <a:pt x="466" y="1042"/>
                  </a:lnTo>
                  <a:lnTo>
                    <a:pt x="498" y="1040"/>
                  </a:lnTo>
                  <a:lnTo>
                    <a:pt x="527" y="1038"/>
                  </a:lnTo>
                  <a:lnTo>
                    <a:pt x="553" y="1035"/>
                  </a:lnTo>
                  <a:lnTo>
                    <a:pt x="575" y="1033"/>
                  </a:lnTo>
                  <a:lnTo>
                    <a:pt x="595" y="1030"/>
                  </a:lnTo>
                  <a:lnTo>
                    <a:pt x="612" y="1028"/>
                  </a:lnTo>
                  <a:lnTo>
                    <a:pt x="626" y="1025"/>
                  </a:lnTo>
                  <a:lnTo>
                    <a:pt x="629" y="1007"/>
                  </a:lnTo>
                  <a:lnTo>
                    <a:pt x="634" y="987"/>
                  </a:lnTo>
                  <a:lnTo>
                    <a:pt x="640" y="967"/>
                  </a:lnTo>
                  <a:lnTo>
                    <a:pt x="646" y="945"/>
                  </a:lnTo>
                  <a:lnTo>
                    <a:pt x="649" y="933"/>
                  </a:lnTo>
                  <a:lnTo>
                    <a:pt x="652" y="923"/>
                  </a:lnTo>
                  <a:lnTo>
                    <a:pt x="654" y="913"/>
                  </a:lnTo>
                  <a:lnTo>
                    <a:pt x="657" y="906"/>
                  </a:lnTo>
                  <a:lnTo>
                    <a:pt x="629" y="909"/>
                  </a:lnTo>
                  <a:lnTo>
                    <a:pt x="599" y="914"/>
                  </a:lnTo>
                  <a:lnTo>
                    <a:pt x="565" y="918"/>
                  </a:lnTo>
                  <a:lnTo>
                    <a:pt x="528" y="924"/>
                  </a:lnTo>
                  <a:lnTo>
                    <a:pt x="488" y="930"/>
                  </a:lnTo>
                  <a:lnTo>
                    <a:pt x="445" y="936"/>
                  </a:lnTo>
                  <a:lnTo>
                    <a:pt x="400" y="943"/>
                  </a:lnTo>
                  <a:lnTo>
                    <a:pt x="352" y="950"/>
                  </a:lnTo>
                  <a:close/>
                  <a:moveTo>
                    <a:pt x="352" y="640"/>
                  </a:moveTo>
                  <a:lnTo>
                    <a:pt x="352" y="745"/>
                  </a:lnTo>
                  <a:lnTo>
                    <a:pt x="360" y="743"/>
                  </a:lnTo>
                  <a:lnTo>
                    <a:pt x="370" y="740"/>
                  </a:lnTo>
                  <a:lnTo>
                    <a:pt x="383" y="737"/>
                  </a:lnTo>
                  <a:lnTo>
                    <a:pt x="396" y="735"/>
                  </a:lnTo>
                  <a:lnTo>
                    <a:pt x="414" y="731"/>
                  </a:lnTo>
                  <a:lnTo>
                    <a:pt x="433" y="728"/>
                  </a:lnTo>
                  <a:lnTo>
                    <a:pt x="452" y="723"/>
                  </a:lnTo>
                  <a:lnTo>
                    <a:pt x="473" y="720"/>
                  </a:lnTo>
                  <a:lnTo>
                    <a:pt x="494" y="716"/>
                  </a:lnTo>
                  <a:lnTo>
                    <a:pt x="516" y="713"/>
                  </a:lnTo>
                  <a:lnTo>
                    <a:pt x="538" y="709"/>
                  </a:lnTo>
                  <a:lnTo>
                    <a:pt x="562" y="705"/>
                  </a:lnTo>
                  <a:lnTo>
                    <a:pt x="565" y="694"/>
                  </a:lnTo>
                  <a:lnTo>
                    <a:pt x="568" y="681"/>
                  </a:lnTo>
                  <a:lnTo>
                    <a:pt x="572" y="666"/>
                  </a:lnTo>
                  <a:lnTo>
                    <a:pt x="576" y="650"/>
                  </a:lnTo>
                  <a:lnTo>
                    <a:pt x="581" y="633"/>
                  </a:lnTo>
                  <a:lnTo>
                    <a:pt x="584" y="620"/>
                  </a:lnTo>
                  <a:lnTo>
                    <a:pt x="586" y="609"/>
                  </a:lnTo>
                  <a:lnTo>
                    <a:pt x="587" y="599"/>
                  </a:lnTo>
                  <a:lnTo>
                    <a:pt x="579" y="601"/>
                  </a:lnTo>
                  <a:lnTo>
                    <a:pt x="568" y="603"/>
                  </a:lnTo>
                  <a:lnTo>
                    <a:pt x="555" y="606"/>
                  </a:lnTo>
                  <a:lnTo>
                    <a:pt x="541" y="610"/>
                  </a:lnTo>
                  <a:lnTo>
                    <a:pt x="511" y="614"/>
                  </a:lnTo>
                  <a:lnTo>
                    <a:pt x="483" y="620"/>
                  </a:lnTo>
                  <a:lnTo>
                    <a:pt x="456" y="624"/>
                  </a:lnTo>
                  <a:lnTo>
                    <a:pt x="431" y="627"/>
                  </a:lnTo>
                  <a:lnTo>
                    <a:pt x="409" y="631"/>
                  </a:lnTo>
                  <a:lnTo>
                    <a:pt x="388" y="634"/>
                  </a:lnTo>
                  <a:lnTo>
                    <a:pt x="369" y="638"/>
                  </a:lnTo>
                  <a:lnTo>
                    <a:pt x="352" y="640"/>
                  </a:lnTo>
                  <a:close/>
                  <a:moveTo>
                    <a:pt x="642" y="230"/>
                  </a:moveTo>
                  <a:lnTo>
                    <a:pt x="639" y="226"/>
                  </a:lnTo>
                  <a:lnTo>
                    <a:pt x="638" y="223"/>
                  </a:lnTo>
                  <a:lnTo>
                    <a:pt x="637" y="219"/>
                  </a:lnTo>
                  <a:lnTo>
                    <a:pt x="637" y="215"/>
                  </a:lnTo>
                  <a:lnTo>
                    <a:pt x="637" y="213"/>
                  </a:lnTo>
                  <a:lnTo>
                    <a:pt x="639" y="213"/>
                  </a:lnTo>
                  <a:lnTo>
                    <a:pt x="642" y="213"/>
                  </a:lnTo>
                  <a:lnTo>
                    <a:pt x="646" y="215"/>
                  </a:lnTo>
                  <a:lnTo>
                    <a:pt x="653" y="215"/>
                  </a:lnTo>
                  <a:lnTo>
                    <a:pt x="661" y="215"/>
                  </a:lnTo>
                  <a:lnTo>
                    <a:pt x="698" y="220"/>
                  </a:lnTo>
                  <a:lnTo>
                    <a:pt x="728" y="224"/>
                  </a:lnTo>
                  <a:lnTo>
                    <a:pt x="751" y="230"/>
                  </a:lnTo>
                  <a:lnTo>
                    <a:pt x="767" y="235"/>
                  </a:lnTo>
                  <a:lnTo>
                    <a:pt x="768" y="236"/>
                  </a:lnTo>
                  <a:lnTo>
                    <a:pt x="769" y="239"/>
                  </a:lnTo>
                  <a:lnTo>
                    <a:pt x="769" y="245"/>
                  </a:lnTo>
                  <a:lnTo>
                    <a:pt x="770" y="253"/>
                  </a:lnTo>
                  <a:lnTo>
                    <a:pt x="771" y="277"/>
                  </a:lnTo>
                  <a:lnTo>
                    <a:pt x="771" y="310"/>
                  </a:lnTo>
                  <a:lnTo>
                    <a:pt x="771" y="316"/>
                  </a:lnTo>
                  <a:lnTo>
                    <a:pt x="770" y="322"/>
                  </a:lnTo>
                  <a:lnTo>
                    <a:pt x="769" y="326"/>
                  </a:lnTo>
                  <a:lnTo>
                    <a:pt x="767" y="329"/>
                  </a:lnTo>
                  <a:lnTo>
                    <a:pt x="764" y="331"/>
                  </a:lnTo>
                  <a:lnTo>
                    <a:pt x="761" y="331"/>
                  </a:lnTo>
                  <a:lnTo>
                    <a:pt x="756" y="329"/>
                  </a:lnTo>
                  <a:lnTo>
                    <a:pt x="751" y="325"/>
                  </a:lnTo>
                  <a:lnTo>
                    <a:pt x="720" y="300"/>
                  </a:lnTo>
                  <a:lnTo>
                    <a:pt x="692" y="276"/>
                  </a:lnTo>
                  <a:lnTo>
                    <a:pt x="665" y="253"/>
                  </a:lnTo>
                  <a:lnTo>
                    <a:pt x="642" y="230"/>
                  </a:lnTo>
                  <a:close/>
                  <a:moveTo>
                    <a:pt x="246" y="255"/>
                  </a:moveTo>
                  <a:lnTo>
                    <a:pt x="243" y="245"/>
                  </a:lnTo>
                  <a:lnTo>
                    <a:pt x="242" y="240"/>
                  </a:lnTo>
                  <a:lnTo>
                    <a:pt x="244" y="237"/>
                  </a:lnTo>
                  <a:lnTo>
                    <a:pt x="248" y="236"/>
                  </a:lnTo>
                  <a:lnTo>
                    <a:pt x="252" y="235"/>
                  </a:lnTo>
                  <a:lnTo>
                    <a:pt x="257" y="235"/>
                  </a:lnTo>
                  <a:lnTo>
                    <a:pt x="285" y="242"/>
                  </a:lnTo>
                  <a:lnTo>
                    <a:pt x="313" y="250"/>
                  </a:lnTo>
                  <a:lnTo>
                    <a:pt x="338" y="257"/>
                  </a:lnTo>
                  <a:lnTo>
                    <a:pt x="361" y="265"/>
                  </a:lnTo>
                  <a:lnTo>
                    <a:pt x="364" y="269"/>
                  </a:lnTo>
                  <a:lnTo>
                    <a:pt x="366" y="275"/>
                  </a:lnTo>
                  <a:lnTo>
                    <a:pt x="366" y="283"/>
                  </a:lnTo>
                  <a:lnTo>
                    <a:pt x="367" y="291"/>
                  </a:lnTo>
                  <a:lnTo>
                    <a:pt x="366" y="312"/>
                  </a:lnTo>
                  <a:lnTo>
                    <a:pt x="361" y="340"/>
                  </a:lnTo>
                  <a:lnTo>
                    <a:pt x="361" y="346"/>
                  </a:lnTo>
                  <a:lnTo>
                    <a:pt x="360" y="353"/>
                  </a:lnTo>
                  <a:lnTo>
                    <a:pt x="358" y="357"/>
                  </a:lnTo>
                  <a:lnTo>
                    <a:pt x="356" y="360"/>
                  </a:lnTo>
                  <a:lnTo>
                    <a:pt x="352" y="361"/>
                  </a:lnTo>
                  <a:lnTo>
                    <a:pt x="347" y="361"/>
                  </a:lnTo>
                  <a:lnTo>
                    <a:pt x="341" y="359"/>
                  </a:lnTo>
                  <a:lnTo>
                    <a:pt x="336" y="355"/>
                  </a:lnTo>
                  <a:lnTo>
                    <a:pt x="320" y="339"/>
                  </a:lnTo>
                  <a:lnTo>
                    <a:pt x="299" y="318"/>
                  </a:lnTo>
                  <a:lnTo>
                    <a:pt x="275" y="289"/>
                  </a:lnTo>
                  <a:lnTo>
                    <a:pt x="246" y="255"/>
                  </a:lnTo>
                  <a:close/>
                </a:path>
              </a:pathLst>
            </a:custGeom>
            <a:solidFill>
              <a:srgbClr val="ffff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00"/>
                </a:solidFill>
                <a:latin typeface="Arial"/>
                <a:ea typeface="宋体"/>
              </a:endParaRPr>
            </a:p>
          </p:txBody>
        </p:sp>
        <p:sp>
          <p:nvSpPr>
            <p:cNvPr id="516" name="Freeform 18"/>
            <p:cNvSpPr/>
            <p:nvPr/>
          </p:nvSpPr>
          <p:spPr>
            <a:xfrm>
              <a:off x="3557880" y="9466920"/>
              <a:ext cx="185400" cy="142200"/>
            </a:xfrm>
            <a:custGeom>
              <a:avLst/>
              <a:gdLst>
                <a:gd name="textAreaLeft" fmla="*/ 0 w 185400"/>
                <a:gd name="textAreaRight" fmla="*/ 185760 w 185400"/>
                <a:gd name="textAreaTop" fmla="*/ 0 h 142200"/>
                <a:gd name="textAreaBottom" fmla="*/ 142560 h 142200"/>
              </a:gdLst>
              <a:ahLst/>
              <a:rect l="textAreaLeft" t="textAreaTop" r="textAreaRight" b="textAreaBottom"/>
              <a:pathLst>
                <a:path w="1167" h="933">
                  <a:moveTo>
                    <a:pt x="1090" y="796"/>
                  </a:moveTo>
                  <a:lnTo>
                    <a:pt x="1098" y="797"/>
                  </a:lnTo>
                  <a:lnTo>
                    <a:pt x="1105" y="800"/>
                  </a:lnTo>
                  <a:lnTo>
                    <a:pt x="1112" y="804"/>
                  </a:lnTo>
                  <a:lnTo>
                    <a:pt x="1120" y="811"/>
                  </a:lnTo>
                  <a:lnTo>
                    <a:pt x="1125" y="815"/>
                  </a:lnTo>
                  <a:lnTo>
                    <a:pt x="1131" y="821"/>
                  </a:lnTo>
                  <a:lnTo>
                    <a:pt x="1138" y="830"/>
                  </a:lnTo>
                  <a:lnTo>
                    <a:pt x="1145" y="842"/>
                  </a:lnTo>
                  <a:lnTo>
                    <a:pt x="1158" y="858"/>
                  </a:lnTo>
                  <a:lnTo>
                    <a:pt x="1165" y="871"/>
                  </a:lnTo>
                  <a:lnTo>
                    <a:pt x="1167" y="879"/>
                  </a:lnTo>
                  <a:lnTo>
                    <a:pt x="1167" y="884"/>
                  </a:lnTo>
                  <a:lnTo>
                    <a:pt x="1167" y="889"/>
                  </a:lnTo>
                  <a:lnTo>
                    <a:pt x="1166" y="893"/>
                  </a:lnTo>
                  <a:lnTo>
                    <a:pt x="1164" y="897"/>
                  </a:lnTo>
                  <a:lnTo>
                    <a:pt x="1160" y="900"/>
                  </a:lnTo>
                  <a:lnTo>
                    <a:pt x="1156" y="901"/>
                  </a:lnTo>
                  <a:lnTo>
                    <a:pt x="1150" y="901"/>
                  </a:lnTo>
                  <a:lnTo>
                    <a:pt x="1119" y="898"/>
                  </a:lnTo>
                  <a:lnTo>
                    <a:pt x="1084" y="896"/>
                  </a:lnTo>
                  <a:lnTo>
                    <a:pt x="1046" y="893"/>
                  </a:lnTo>
                  <a:lnTo>
                    <a:pt x="1005" y="892"/>
                  </a:lnTo>
                  <a:lnTo>
                    <a:pt x="961" y="892"/>
                  </a:lnTo>
                  <a:lnTo>
                    <a:pt x="914" y="892"/>
                  </a:lnTo>
                  <a:lnTo>
                    <a:pt x="863" y="894"/>
                  </a:lnTo>
                  <a:lnTo>
                    <a:pt x="810" y="897"/>
                  </a:lnTo>
                  <a:lnTo>
                    <a:pt x="753" y="899"/>
                  </a:lnTo>
                  <a:lnTo>
                    <a:pt x="698" y="902"/>
                  </a:lnTo>
                  <a:lnTo>
                    <a:pt x="645" y="906"/>
                  </a:lnTo>
                  <a:lnTo>
                    <a:pt x="593" y="910"/>
                  </a:lnTo>
                  <a:lnTo>
                    <a:pt x="544" y="915"/>
                  </a:lnTo>
                  <a:lnTo>
                    <a:pt x="496" y="920"/>
                  </a:lnTo>
                  <a:lnTo>
                    <a:pt x="449" y="925"/>
                  </a:lnTo>
                  <a:lnTo>
                    <a:pt x="405" y="932"/>
                  </a:lnTo>
                  <a:lnTo>
                    <a:pt x="397" y="933"/>
                  </a:lnTo>
                  <a:lnTo>
                    <a:pt x="389" y="933"/>
                  </a:lnTo>
                  <a:lnTo>
                    <a:pt x="379" y="931"/>
                  </a:lnTo>
                  <a:lnTo>
                    <a:pt x="370" y="926"/>
                  </a:lnTo>
                  <a:lnTo>
                    <a:pt x="350" y="906"/>
                  </a:lnTo>
                  <a:lnTo>
                    <a:pt x="334" y="889"/>
                  </a:lnTo>
                  <a:lnTo>
                    <a:pt x="322" y="875"/>
                  </a:lnTo>
                  <a:lnTo>
                    <a:pt x="315" y="866"/>
                  </a:lnTo>
                  <a:lnTo>
                    <a:pt x="362" y="864"/>
                  </a:lnTo>
                  <a:lnTo>
                    <a:pt x="409" y="861"/>
                  </a:lnTo>
                  <a:lnTo>
                    <a:pt x="456" y="857"/>
                  </a:lnTo>
                  <a:lnTo>
                    <a:pt x="502" y="853"/>
                  </a:lnTo>
                  <a:lnTo>
                    <a:pt x="549" y="850"/>
                  </a:lnTo>
                  <a:lnTo>
                    <a:pt x="594" y="846"/>
                  </a:lnTo>
                  <a:lnTo>
                    <a:pt x="640" y="842"/>
                  </a:lnTo>
                  <a:lnTo>
                    <a:pt x="684" y="836"/>
                  </a:lnTo>
                  <a:lnTo>
                    <a:pt x="684" y="825"/>
                  </a:lnTo>
                  <a:lnTo>
                    <a:pt x="684" y="809"/>
                  </a:lnTo>
                  <a:lnTo>
                    <a:pt x="684" y="790"/>
                  </a:lnTo>
                  <a:lnTo>
                    <a:pt x="684" y="766"/>
                  </a:lnTo>
                  <a:lnTo>
                    <a:pt x="688" y="743"/>
                  </a:lnTo>
                  <a:lnTo>
                    <a:pt x="689" y="723"/>
                  </a:lnTo>
                  <a:lnTo>
                    <a:pt x="690" y="705"/>
                  </a:lnTo>
                  <a:lnTo>
                    <a:pt x="690" y="691"/>
                  </a:lnTo>
                  <a:lnTo>
                    <a:pt x="674" y="691"/>
                  </a:lnTo>
                  <a:lnTo>
                    <a:pt x="656" y="692"/>
                  </a:lnTo>
                  <a:lnTo>
                    <a:pt x="637" y="694"/>
                  </a:lnTo>
                  <a:lnTo>
                    <a:pt x="615" y="696"/>
                  </a:lnTo>
                  <a:lnTo>
                    <a:pt x="589" y="701"/>
                  </a:lnTo>
                  <a:lnTo>
                    <a:pt x="570" y="703"/>
                  </a:lnTo>
                  <a:lnTo>
                    <a:pt x="564" y="703"/>
                  </a:lnTo>
                  <a:lnTo>
                    <a:pt x="558" y="703"/>
                  </a:lnTo>
                  <a:lnTo>
                    <a:pt x="556" y="702"/>
                  </a:lnTo>
                  <a:lnTo>
                    <a:pt x="555" y="702"/>
                  </a:lnTo>
                  <a:lnTo>
                    <a:pt x="549" y="700"/>
                  </a:lnTo>
                  <a:lnTo>
                    <a:pt x="541" y="695"/>
                  </a:lnTo>
                  <a:lnTo>
                    <a:pt x="534" y="691"/>
                  </a:lnTo>
                  <a:lnTo>
                    <a:pt x="527" y="685"/>
                  </a:lnTo>
                  <a:lnTo>
                    <a:pt x="518" y="677"/>
                  </a:lnTo>
                  <a:lnTo>
                    <a:pt x="509" y="668"/>
                  </a:lnTo>
                  <a:lnTo>
                    <a:pt x="500" y="658"/>
                  </a:lnTo>
                  <a:lnTo>
                    <a:pt x="490" y="647"/>
                  </a:lnTo>
                  <a:lnTo>
                    <a:pt x="509" y="645"/>
                  </a:lnTo>
                  <a:lnTo>
                    <a:pt x="529" y="644"/>
                  </a:lnTo>
                  <a:lnTo>
                    <a:pt x="551" y="642"/>
                  </a:lnTo>
                  <a:lnTo>
                    <a:pt x="575" y="640"/>
                  </a:lnTo>
                  <a:lnTo>
                    <a:pt x="601" y="636"/>
                  </a:lnTo>
                  <a:lnTo>
                    <a:pt x="628" y="632"/>
                  </a:lnTo>
                  <a:lnTo>
                    <a:pt x="658" y="626"/>
                  </a:lnTo>
                  <a:lnTo>
                    <a:pt x="690" y="621"/>
                  </a:lnTo>
                  <a:lnTo>
                    <a:pt x="691" y="607"/>
                  </a:lnTo>
                  <a:lnTo>
                    <a:pt x="691" y="591"/>
                  </a:lnTo>
                  <a:lnTo>
                    <a:pt x="693" y="572"/>
                  </a:lnTo>
                  <a:lnTo>
                    <a:pt x="695" y="551"/>
                  </a:lnTo>
                  <a:lnTo>
                    <a:pt x="695" y="528"/>
                  </a:lnTo>
                  <a:lnTo>
                    <a:pt x="695" y="509"/>
                  </a:lnTo>
                  <a:lnTo>
                    <a:pt x="695" y="493"/>
                  </a:lnTo>
                  <a:lnTo>
                    <a:pt x="695" y="481"/>
                  </a:lnTo>
                  <a:lnTo>
                    <a:pt x="669" y="483"/>
                  </a:lnTo>
                  <a:lnTo>
                    <a:pt x="642" y="488"/>
                  </a:lnTo>
                  <a:lnTo>
                    <a:pt x="618" y="491"/>
                  </a:lnTo>
                  <a:lnTo>
                    <a:pt x="594" y="496"/>
                  </a:lnTo>
                  <a:lnTo>
                    <a:pt x="594" y="513"/>
                  </a:lnTo>
                  <a:lnTo>
                    <a:pt x="593" y="526"/>
                  </a:lnTo>
                  <a:lnTo>
                    <a:pt x="593" y="530"/>
                  </a:lnTo>
                  <a:lnTo>
                    <a:pt x="592" y="533"/>
                  </a:lnTo>
                  <a:lnTo>
                    <a:pt x="591" y="535"/>
                  </a:lnTo>
                  <a:lnTo>
                    <a:pt x="590" y="536"/>
                  </a:lnTo>
                  <a:lnTo>
                    <a:pt x="582" y="532"/>
                  </a:lnTo>
                  <a:lnTo>
                    <a:pt x="573" y="526"/>
                  </a:lnTo>
                  <a:lnTo>
                    <a:pt x="565" y="519"/>
                  </a:lnTo>
                  <a:lnTo>
                    <a:pt x="555" y="511"/>
                  </a:lnTo>
                  <a:lnTo>
                    <a:pt x="534" y="491"/>
                  </a:lnTo>
                  <a:lnTo>
                    <a:pt x="510" y="465"/>
                  </a:lnTo>
                  <a:lnTo>
                    <a:pt x="505" y="406"/>
                  </a:lnTo>
                  <a:lnTo>
                    <a:pt x="499" y="350"/>
                  </a:lnTo>
                  <a:lnTo>
                    <a:pt x="495" y="323"/>
                  </a:lnTo>
                  <a:lnTo>
                    <a:pt x="491" y="297"/>
                  </a:lnTo>
                  <a:lnTo>
                    <a:pt x="486" y="271"/>
                  </a:lnTo>
                  <a:lnTo>
                    <a:pt x="481" y="247"/>
                  </a:lnTo>
                  <a:lnTo>
                    <a:pt x="476" y="224"/>
                  </a:lnTo>
                  <a:lnTo>
                    <a:pt x="469" y="200"/>
                  </a:lnTo>
                  <a:lnTo>
                    <a:pt x="463" y="178"/>
                  </a:lnTo>
                  <a:lnTo>
                    <a:pt x="457" y="157"/>
                  </a:lnTo>
                  <a:lnTo>
                    <a:pt x="449" y="137"/>
                  </a:lnTo>
                  <a:lnTo>
                    <a:pt x="442" y="118"/>
                  </a:lnTo>
                  <a:lnTo>
                    <a:pt x="433" y="99"/>
                  </a:lnTo>
                  <a:lnTo>
                    <a:pt x="425" y="81"/>
                  </a:lnTo>
                  <a:lnTo>
                    <a:pt x="437" y="81"/>
                  </a:lnTo>
                  <a:lnTo>
                    <a:pt x="450" y="82"/>
                  </a:lnTo>
                  <a:lnTo>
                    <a:pt x="466" y="84"/>
                  </a:lnTo>
                  <a:lnTo>
                    <a:pt x="485" y="86"/>
                  </a:lnTo>
                  <a:lnTo>
                    <a:pt x="501" y="88"/>
                  </a:lnTo>
                  <a:lnTo>
                    <a:pt x="514" y="89"/>
                  </a:lnTo>
                  <a:lnTo>
                    <a:pt x="523" y="90"/>
                  </a:lnTo>
                  <a:lnTo>
                    <a:pt x="530" y="90"/>
                  </a:lnTo>
                  <a:lnTo>
                    <a:pt x="563" y="88"/>
                  </a:lnTo>
                  <a:lnTo>
                    <a:pt x="594" y="85"/>
                  </a:lnTo>
                  <a:lnTo>
                    <a:pt x="625" y="82"/>
                  </a:lnTo>
                  <a:lnTo>
                    <a:pt x="655" y="77"/>
                  </a:lnTo>
                  <a:lnTo>
                    <a:pt x="682" y="73"/>
                  </a:lnTo>
                  <a:lnTo>
                    <a:pt x="709" y="69"/>
                  </a:lnTo>
                  <a:lnTo>
                    <a:pt x="734" y="64"/>
                  </a:lnTo>
                  <a:lnTo>
                    <a:pt x="758" y="58"/>
                  </a:lnTo>
                  <a:lnTo>
                    <a:pt x="780" y="52"/>
                  </a:lnTo>
                  <a:lnTo>
                    <a:pt x="801" y="46"/>
                  </a:lnTo>
                  <a:lnTo>
                    <a:pt x="821" y="39"/>
                  </a:lnTo>
                  <a:lnTo>
                    <a:pt x="839" y="33"/>
                  </a:lnTo>
                  <a:lnTo>
                    <a:pt x="857" y="26"/>
                  </a:lnTo>
                  <a:lnTo>
                    <a:pt x="872" y="17"/>
                  </a:lnTo>
                  <a:lnTo>
                    <a:pt x="887" y="10"/>
                  </a:lnTo>
                  <a:lnTo>
                    <a:pt x="900" y="0"/>
                  </a:lnTo>
                  <a:lnTo>
                    <a:pt x="920" y="19"/>
                  </a:lnTo>
                  <a:lnTo>
                    <a:pt x="940" y="35"/>
                  </a:lnTo>
                  <a:lnTo>
                    <a:pt x="962" y="51"/>
                  </a:lnTo>
                  <a:lnTo>
                    <a:pt x="985" y="65"/>
                  </a:lnTo>
                  <a:lnTo>
                    <a:pt x="1010" y="76"/>
                  </a:lnTo>
                  <a:lnTo>
                    <a:pt x="1035" y="88"/>
                  </a:lnTo>
                  <a:lnTo>
                    <a:pt x="1061" y="98"/>
                  </a:lnTo>
                  <a:lnTo>
                    <a:pt x="1090" y="106"/>
                  </a:lnTo>
                  <a:lnTo>
                    <a:pt x="1085" y="111"/>
                  </a:lnTo>
                  <a:lnTo>
                    <a:pt x="1078" y="119"/>
                  </a:lnTo>
                  <a:lnTo>
                    <a:pt x="1072" y="127"/>
                  </a:lnTo>
                  <a:lnTo>
                    <a:pt x="1067" y="138"/>
                  </a:lnTo>
                  <a:lnTo>
                    <a:pt x="1053" y="163"/>
                  </a:lnTo>
                  <a:lnTo>
                    <a:pt x="1040" y="194"/>
                  </a:lnTo>
                  <a:lnTo>
                    <a:pt x="1025" y="232"/>
                  </a:lnTo>
                  <a:lnTo>
                    <a:pt x="1012" y="276"/>
                  </a:lnTo>
                  <a:lnTo>
                    <a:pt x="996" y="325"/>
                  </a:lnTo>
                  <a:lnTo>
                    <a:pt x="980" y="381"/>
                  </a:lnTo>
                  <a:lnTo>
                    <a:pt x="962" y="438"/>
                  </a:lnTo>
                  <a:lnTo>
                    <a:pt x="947" y="478"/>
                  </a:lnTo>
                  <a:lnTo>
                    <a:pt x="942" y="493"/>
                  </a:lnTo>
                  <a:lnTo>
                    <a:pt x="937" y="502"/>
                  </a:lnTo>
                  <a:lnTo>
                    <a:pt x="933" y="509"/>
                  </a:lnTo>
                  <a:lnTo>
                    <a:pt x="930" y="511"/>
                  </a:lnTo>
                  <a:lnTo>
                    <a:pt x="926" y="510"/>
                  </a:lnTo>
                  <a:lnTo>
                    <a:pt x="922" y="508"/>
                  </a:lnTo>
                  <a:lnTo>
                    <a:pt x="916" y="503"/>
                  </a:lnTo>
                  <a:lnTo>
                    <a:pt x="911" y="498"/>
                  </a:lnTo>
                  <a:lnTo>
                    <a:pt x="899" y="482"/>
                  </a:lnTo>
                  <a:lnTo>
                    <a:pt x="885" y="461"/>
                  </a:lnTo>
                  <a:lnTo>
                    <a:pt x="855" y="465"/>
                  </a:lnTo>
                  <a:lnTo>
                    <a:pt x="824" y="468"/>
                  </a:lnTo>
                  <a:lnTo>
                    <a:pt x="792" y="471"/>
                  </a:lnTo>
                  <a:lnTo>
                    <a:pt x="760" y="471"/>
                  </a:lnTo>
                  <a:lnTo>
                    <a:pt x="760" y="506"/>
                  </a:lnTo>
                  <a:lnTo>
                    <a:pt x="760" y="541"/>
                  </a:lnTo>
                  <a:lnTo>
                    <a:pt x="760" y="576"/>
                  </a:lnTo>
                  <a:lnTo>
                    <a:pt x="760" y="610"/>
                  </a:lnTo>
                  <a:lnTo>
                    <a:pt x="799" y="604"/>
                  </a:lnTo>
                  <a:lnTo>
                    <a:pt x="835" y="597"/>
                  </a:lnTo>
                  <a:lnTo>
                    <a:pt x="869" y="591"/>
                  </a:lnTo>
                  <a:lnTo>
                    <a:pt x="900" y="586"/>
                  </a:lnTo>
                  <a:lnTo>
                    <a:pt x="909" y="586"/>
                  </a:lnTo>
                  <a:lnTo>
                    <a:pt x="917" y="588"/>
                  </a:lnTo>
                  <a:lnTo>
                    <a:pt x="925" y="591"/>
                  </a:lnTo>
                  <a:lnTo>
                    <a:pt x="930" y="596"/>
                  </a:lnTo>
                  <a:lnTo>
                    <a:pt x="940" y="604"/>
                  </a:lnTo>
                  <a:lnTo>
                    <a:pt x="949" y="614"/>
                  </a:lnTo>
                  <a:lnTo>
                    <a:pt x="958" y="624"/>
                  </a:lnTo>
                  <a:lnTo>
                    <a:pt x="965" y="636"/>
                  </a:lnTo>
                  <a:lnTo>
                    <a:pt x="969" y="640"/>
                  </a:lnTo>
                  <a:lnTo>
                    <a:pt x="971" y="644"/>
                  </a:lnTo>
                  <a:lnTo>
                    <a:pt x="971" y="649"/>
                  </a:lnTo>
                  <a:lnTo>
                    <a:pt x="970" y="651"/>
                  </a:lnTo>
                  <a:lnTo>
                    <a:pt x="969" y="653"/>
                  </a:lnTo>
                  <a:lnTo>
                    <a:pt x="967" y="655"/>
                  </a:lnTo>
                  <a:lnTo>
                    <a:pt x="964" y="656"/>
                  </a:lnTo>
                  <a:lnTo>
                    <a:pt x="960" y="656"/>
                  </a:lnTo>
                  <a:lnTo>
                    <a:pt x="946" y="657"/>
                  </a:lnTo>
                  <a:lnTo>
                    <a:pt x="929" y="659"/>
                  </a:lnTo>
                  <a:lnTo>
                    <a:pt x="909" y="662"/>
                  </a:lnTo>
                  <a:lnTo>
                    <a:pt x="885" y="665"/>
                  </a:lnTo>
                  <a:lnTo>
                    <a:pt x="858" y="668"/>
                  </a:lnTo>
                  <a:lnTo>
                    <a:pt x="828" y="672"/>
                  </a:lnTo>
                  <a:lnTo>
                    <a:pt x="796" y="676"/>
                  </a:lnTo>
                  <a:lnTo>
                    <a:pt x="760" y="681"/>
                  </a:lnTo>
                  <a:lnTo>
                    <a:pt x="760" y="827"/>
                  </a:lnTo>
                  <a:lnTo>
                    <a:pt x="801" y="821"/>
                  </a:lnTo>
                  <a:lnTo>
                    <a:pt x="842" y="817"/>
                  </a:lnTo>
                  <a:lnTo>
                    <a:pt x="884" y="813"/>
                  </a:lnTo>
                  <a:lnTo>
                    <a:pt x="925" y="809"/>
                  </a:lnTo>
                  <a:lnTo>
                    <a:pt x="966" y="805"/>
                  </a:lnTo>
                  <a:lnTo>
                    <a:pt x="1007" y="801"/>
                  </a:lnTo>
                  <a:lnTo>
                    <a:pt x="1049" y="799"/>
                  </a:lnTo>
                  <a:lnTo>
                    <a:pt x="1090" y="796"/>
                  </a:lnTo>
                  <a:close/>
                  <a:moveTo>
                    <a:pt x="430" y="410"/>
                  </a:moveTo>
                  <a:lnTo>
                    <a:pt x="393" y="419"/>
                  </a:lnTo>
                  <a:lnTo>
                    <a:pt x="357" y="426"/>
                  </a:lnTo>
                  <a:lnTo>
                    <a:pt x="323" y="434"/>
                  </a:lnTo>
                  <a:lnTo>
                    <a:pt x="290" y="441"/>
                  </a:lnTo>
                  <a:lnTo>
                    <a:pt x="290" y="456"/>
                  </a:lnTo>
                  <a:lnTo>
                    <a:pt x="290" y="475"/>
                  </a:lnTo>
                  <a:lnTo>
                    <a:pt x="290" y="498"/>
                  </a:lnTo>
                  <a:lnTo>
                    <a:pt x="290" y="526"/>
                  </a:lnTo>
                  <a:lnTo>
                    <a:pt x="287" y="556"/>
                  </a:lnTo>
                  <a:lnTo>
                    <a:pt x="286" y="584"/>
                  </a:lnTo>
                  <a:lnTo>
                    <a:pt x="285" y="606"/>
                  </a:lnTo>
                  <a:lnTo>
                    <a:pt x="285" y="626"/>
                  </a:lnTo>
                  <a:lnTo>
                    <a:pt x="323" y="612"/>
                  </a:lnTo>
                  <a:lnTo>
                    <a:pt x="360" y="596"/>
                  </a:lnTo>
                  <a:lnTo>
                    <a:pt x="393" y="581"/>
                  </a:lnTo>
                  <a:lnTo>
                    <a:pt x="425" y="566"/>
                  </a:lnTo>
                  <a:lnTo>
                    <a:pt x="434" y="564"/>
                  </a:lnTo>
                  <a:lnTo>
                    <a:pt x="441" y="565"/>
                  </a:lnTo>
                  <a:lnTo>
                    <a:pt x="444" y="566"/>
                  </a:lnTo>
                  <a:lnTo>
                    <a:pt x="446" y="567"/>
                  </a:lnTo>
                  <a:lnTo>
                    <a:pt x="448" y="568"/>
                  </a:lnTo>
                  <a:lnTo>
                    <a:pt x="450" y="571"/>
                  </a:lnTo>
                  <a:lnTo>
                    <a:pt x="450" y="574"/>
                  </a:lnTo>
                  <a:lnTo>
                    <a:pt x="451" y="578"/>
                  </a:lnTo>
                  <a:lnTo>
                    <a:pt x="450" y="582"/>
                  </a:lnTo>
                  <a:lnTo>
                    <a:pt x="450" y="585"/>
                  </a:lnTo>
                  <a:lnTo>
                    <a:pt x="448" y="588"/>
                  </a:lnTo>
                  <a:lnTo>
                    <a:pt x="446" y="590"/>
                  </a:lnTo>
                  <a:lnTo>
                    <a:pt x="443" y="594"/>
                  </a:lnTo>
                  <a:lnTo>
                    <a:pt x="440" y="596"/>
                  </a:lnTo>
                  <a:lnTo>
                    <a:pt x="377" y="636"/>
                  </a:lnTo>
                  <a:lnTo>
                    <a:pt x="320" y="673"/>
                  </a:lnTo>
                  <a:lnTo>
                    <a:pt x="269" y="708"/>
                  </a:lnTo>
                  <a:lnTo>
                    <a:pt x="223" y="740"/>
                  </a:lnTo>
                  <a:lnTo>
                    <a:pt x="181" y="769"/>
                  </a:lnTo>
                  <a:lnTo>
                    <a:pt x="145" y="796"/>
                  </a:lnTo>
                  <a:lnTo>
                    <a:pt x="115" y="820"/>
                  </a:lnTo>
                  <a:lnTo>
                    <a:pt x="90" y="842"/>
                  </a:lnTo>
                  <a:lnTo>
                    <a:pt x="84" y="830"/>
                  </a:lnTo>
                  <a:lnTo>
                    <a:pt x="76" y="817"/>
                  </a:lnTo>
                  <a:lnTo>
                    <a:pt x="68" y="803"/>
                  </a:lnTo>
                  <a:lnTo>
                    <a:pt x="57" y="790"/>
                  </a:lnTo>
                  <a:lnTo>
                    <a:pt x="45" y="775"/>
                  </a:lnTo>
                  <a:lnTo>
                    <a:pt x="32" y="760"/>
                  </a:lnTo>
                  <a:lnTo>
                    <a:pt x="16" y="743"/>
                  </a:lnTo>
                  <a:lnTo>
                    <a:pt x="0" y="726"/>
                  </a:lnTo>
                  <a:lnTo>
                    <a:pt x="17" y="723"/>
                  </a:lnTo>
                  <a:lnTo>
                    <a:pt x="38" y="718"/>
                  </a:lnTo>
                  <a:lnTo>
                    <a:pt x="62" y="711"/>
                  </a:lnTo>
                  <a:lnTo>
                    <a:pt x="87" y="703"/>
                  </a:lnTo>
                  <a:lnTo>
                    <a:pt x="117" y="692"/>
                  </a:lnTo>
                  <a:lnTo>
                    <a:pt x="147" y="680"/>
                  </a:lnTo>
                  <a:lnTo>
                    <a:pt x="182" y="667"/>
                  </a:lnTo>
                  <a:lnTo>
                    <a:pt x="219" y="651"/>
                  </a:lnTo>
                  <a:lnTo>
                    <a:pt x="219" y="621"/>
                  </a:lnTo>
                  <a:lnTo>
                    <a:pt x="219" y="591"/>
                  </a:lnTo>
                  <a:lnTo>
                    <a:pt x="219" y="565"/>
                  </a:lnTo>
                  <a:lnTo>
                    <a:pt x="218" y="539"/>
                  </a:lnTo>
                  <a:lnTo>
                    <a:pt x="218" y="516"/>
                  </a:lnTo>
                  <a:lnTo>
                    <a:pt x="217" y="494"/>
                  </a:lnTo>
                  <a:lnTo>
                    <a:pt x="216" y="474"/>
                  </a:lnTo>
                  <a:lnTo>
                    <a:pt x="215" y="456"/>
                  </a:lnTo>
                  <a:lnTo>
                    <a:pt x="207" y="458"/>
                  </a:lnTo>
                  <a:lnTo>
                    <a:pt x="196" y="461"/>
                  </a:lnTo>
                  <a:lnTo>
                    <a:pt x="183" y="463"/>
                  </a:lnTo>
                  <a:lnTo>
                    <a:pt x="170" y="465"/>
                  </a:lnTo>
                  <a:lnTo>
                    <a:pt x="147" y="470"/>
                  </a:lnTo>
                  <a:lnTo>
                    <a:pt x="133" y="472"/>
                  </a:lnTo>
                  <a:lnTo>
                    <a:pt x="127" y="473"/>
                  </a:lnTo>
                  <a:lnTo>
                    <a:pt x="123" y="473"/>
                  </a:lnTo>
                  <a:lnTo>
                    <a:pt x="121" y="472"/>
                  </a:lnTo>
                  <a:lnTo>
                    <a:pt x="120" y="471"/>
                  </a:lnTo>
                  <a:lnTo>
                    <a:pt x="111" y="466"/>
                  </a:lnTo>
                  <a:lnTo>
                    <a:pt x="103" y="462"/>
                  </a:lnTo>
                  <a:lnTo>
                    <a:pt x="96" y="457"/>
                  </a:lnTo>
                  <a:lnTo>
                    <a:pt x="87" y="450"/>
                  </a:lnTo>
                  <a:lnTo>
                    <a:pt x="80" y="444"/>
                  </a:lnTo>
                  <a:lnTo>
                    <a:pt x="73" y="437"/>
                  </a:lnTo>
                  <a:lnTo>
                    <a:pt x="66" y="429"/>
                  </a:lnTo>
                  <a:lnTo>
                    <a:pt x="60" y="421"/>
                  </a:lnTo>
                  <a:lnTo>
                    <a:pt x="96" y="416"/>
                  </a:lnTo>
                  <a:lnTo>
                    <a:pt x="134" y="408"/>
                  </a:lnTo>
                  <a:lnTo>
                    <a:pt x="173" y="401"/>
                  </a:lnTo>
                  <a:lnTo>
                    <a:pt x="215" y="391"/>
                  </a:lnTo>
                  <a:lnTo>
                    <a:pt x="213" y="365"/>
                  </a:lnTo>
                  <a:lnTo>
                    <a:pt x="212" y="339"/>
                  </a:lnTo>
                  <a:lnTo>
                    <a:pt x="210" y="315"/>
                  </a:lnTo>
                  <a:lnTo>
                    <a:pt x="208" y="294"/>
                  </a:lnTo>
                  <a:lnTo>
                    <a:pt x="205" y="272"/>
                  </a:lnTo>
                  <a:lnTo>
                    <a:pt x="201" y="253"/>
                  </a:lnTo>
                  <a:lnTo>
                    <a:pt x="198" y="236"/>
                  </a:lnTo>
                  <a:lnTo>
                    <a:pt x="195" y="221"/>
                  </a:lnTo>
                  <a:lnTo>
                    <a:pt x="181" y="221"/>
                  </a:lnTo>
                  <a:lnTo>
                    <a:pt x="166" y="222"/>
                  </a:lnTo>
                  <a:lnTo>
                    <a:pt x="148" y="224"/>
                  </a:lnTo>
                  <a:lnTo>
                    <a:pt x="129" y="226"/>
                  </a:lnTo>
                  <a:lnTo>
                    <a:pt x="110" y="229"/>
                  </a:lnTo>
                  <a:lnTo>
                    <a:pt x="100" y="231"/>
                  </a:lnTo>
                  <a:lnTo>
                    <a:pt x="93" y="228"/>
                  </a:lnTo>
                  <a:lnTo>
                    <a:pt x="87" y="224"/>
                  </a:lnTo>
                  <a:lnTo>
                    <a:pt x="80" y="218"/>
                  </a:lnTo>
                  <a:lnTo>
                    <a:pt x="72" y="213"/>
                  </a:lnTo>
                  <a:lnTo>
                    <a:pt x="56" y="198"/>
                  </a:lnTo>
                  <a:lnTo>
                    <a:pt x="39" y="180"/>
                  </a:lnTo>
                  <a:lnTo>
                    <a:pt x="61" y="177"/>
                  </a:lnTo>
                  <a:lnTo>
                    <a:pt x="85" y="173"/>
                  </a:lnTo>
                  <a:lnTo>
                    <a:pt x="112" y="168"/>
                  </a:lnTo>
                  <a:lnTo>
                    <a:pt x="145" y="160"/>
                  </a:lnTo>
                  <a:lnTo>
                    <a:pt x="180" y="153"/>
                  </a:lnTo>
                  <a:lnTo>
                    <a:pt x="219" y="143"/>
                  </a:lnTo>
                  <a:lnTo>
                    <a:pt x="263" y="133"/>
                  </a:lnTo>
                  <a:lnTo>
                    <a:pt x="309" y="121"/>
                  </a:lnTo>
                  <a:lnTo>
                    <a:pt x="331" y="116"/>
                  </a:lnTo>
                  <a:lnTo>
                    <a:pt x="349" y="111"/>
                  </a:lnTo>
                  <a:lnTo>
                    <a:pt x="363" y="108"/>
                  </a:lnTo>
                  <a:lnTo>
                    <a:pt x="375" y="106"/>
                  </a:lnTo>
                  <a:lnTo>
                    <a:pt x="380" y="109"/>
                  </a:lnTo>
                  <a:lnTo>
                    <a:pt x="386" y="113"/>
                  </a:lnTo>
                  <a:lnTo>
                    <a:pt x="393" y="120"/>
                  </a:lnTo>
                  <a:lnTo>
                    <a:pt x="400" y="127"/>
                  </a:lnTo>
                  <a:lnTo>
                    <a:pt x="416" y="146"/>
                  </a:lnTo>
                  <a:lnTo>
                    <a:pt x="434" y="171"/>
                  </a:lnTo>
                  <a:lnTo>
                    <a:pt x="427" y="172"/>
                  </a:lnTo>
                  <a:lnTo>
                    <a:pt x="415" y="176"/>
                  </a:lnTo>
                  <a:lnTo>
                    <a:pt x="387" y="181"/>
                  </a:lnTo>
                  <a:lnTo>
                    <a:pt x="360" y="188"/>
                  </a:lnTo>
                  <a:lnTo>
                    <a:pt x="336" y="192"/>
                  </a:lnTo>
                  <a:lnTo>
                    <a:pt x="313" y="197"/>
                  </a:lnTo>
                  <a:lnTo>
                    <a:pt x="290" y="201"/>
                  </a:lnTo>
                  <a:lnTo>
                    <a:pt x="270" y="205"/>
                  </a:lnTo>
                  <a:lnTo>
                    <a:pt x="252" y="208"/>
                  </a:lnTo>
                  <a:lnTo>
                    <a:pt x="235" y="211"/>
                  </a:lnTo>
                  <a:lnTo>
                    <a:pt x="254" y="215"/>
                  </a:lnTo>
                  <a:lnTo>
                    <a:pt x="272" y="218"/>
                  </a:lnTo>
                  <a:lnTo>
                    <a:pt x="289" y="221"/>
                  </a:lnTo>
                  <a:lnTo>
                    <a:pt x="305" y="221"/>
                  </a:lnTo>
                  <a:lnTo>
                    <a:pt x="302" y="243"/>
                  </a:lnTo>
                  <a:lnTo>
                    <a:pt x="299" y="276"/>
                  </a:lnTo>
                  <a:lnTo>
                    <a:pt x="295" y="318"/>
                  </a:lnTo>
                  <a:lnTo>
                    <a:pt x="290" y="371"/>
                  </a:lnTo>
                  <a:lnTo>
                    <a:pt x="312" y="364"/>
                  </a:lnTo>
                  <a:lnTo>
                    <a:pt x="334" y="357"/>
                  </a:lnTo>
                  <a:lnTo>
                    <a:pt x="355" y="351"/>
                  </a:lnTo>
                  <a:lnTo>
                    <a:pt x="375" y="346"/>
                  </a:lnTo>
                  <a:lnTo>
                    <a:pt x="383" y="351"/>
                  </a:lnTo>
                  <a:lnTo>
                    <a:pt x="390" y="357"/>
                  </a:lnTo>
                  <a:lnTo>
                    <a:pt x="396" y="365"/>
                  </a:lnTo>
                  <a:lnTo>
                    <a:pt x="404" y="372"/>
                  </a:lnTo>
                  <a:lnTo>
                    <a:pt x="410" y="381"/>
                  </a:lnTo>
                  <a:lnTo>
                    <a:pt x="418" y="390"/>
                  </a:lnTo>
                  <a:lnTo>
                    <a:pt x="424" y="400"/>
                  </a:lnTo>
                  <a:lnTo>
                    <a:pt x="430" y="410"/>
                  </a:lnTo>
                  <a:close/>
                  <a:moveTo>
                    <a:pt x="930" y="86"/>
                  </a:moveTo>
                  <a:lnTo>
                    <a:pt x="900" y="89"/>
                  </a:lnTo>
                  <a:lnTo>
                    <a:pt x="871" y="93"/>
                  </a:lnTo>
                  <a:lnTo>
                    <a:pt x="840" y="99"/>
                  </a:lnTo>
                  <a:lnTo>
                    <a:pt x="808" y="103"/>
                  </a:lnTo>
                  <a:lnTo>
                    <a:pt x="777" y="108"/>
                  </a:lnTo>
                  <a:lnTo>
                    <a:pt x="744" y="113"/>
                  </a:lnTo>
                  <a:lnTo>
                    <a:pt x="710" y="120"/>
                  </a:lnTo>
                  <a:lnTo>
                    <a:pt x="675" y="126"/>
                  </a:lnTo>
                  <a:lnTo>
                    <a:pt x="687" y="130"/>
                  </a:lnTo>
                  <a:lnTo>
                    <a:pt x="699" y="135"/>
                  </a:lnTo>
                  <a:lnTo>
                    <a:pt x="712" y="138"/>
                  </a:lnTo>
                  <a:lnTo>
                    <a:pt x="726" y="141"/>
                  </a:lnTo>
                  <a:lnTo>
                    <a:pt x="741" y="143"/>
                  </a:lnTo>
                  <a:lnTo>
                    <a:pt x="756" y="144"/>
                  </a:lnTo>
                  <a:lnTo>
                    <a:pt x="773" y="145"/>
                  </a:lnTo>
                  <a:lnTo>
                    <a:pt x="790" y="145"/>
                  </a:lnTo>
                  <a:lnTo>
                    <a:pt x="783" y="165"/>
                  </a:lnTo>
                  <a:lnTo>
                    <a:pt x="777" y="188"/>
                  </a:lnTo>
                  <a:lnTo>
                    <a:pt x="770" y="215"/>
                  </a:lnTo>
                  <a:lnTo>
                    <a:pt x="765" y="246"/>
                  </a:lnTo>
                  <a:lnTo>
                    <a:pt x="780" y="241"/>
                  </a:lnTo>
                  <a:lnTo>
                    <a:pt x="795" y="237"/>
                  </a:lnTo>
                  <a:lnTo>
                    <a:pt x="810" y="233"/>
                  </a:lnTo>
                  <a:lnTo>
                    <a:pt x="825" y="231"/>
                  </a:lnTo>
                  <a:lnTo>
                    <a:pt x="828" y="230"/>
                  </a:lnTo>
                  <a:lnTo>
                    <a:pt x="833" y="229"/>
                  </a:lnTo>
                  <a:lnTo>
                    <a:pt x="836" y="230"/>
                  </a:lnTo>
                  <a:lnTo>
                    <a:pt x="839" y="231"/>
                  </a:lnTo>
                  <a:lnTo>
                    <a:pt x="842" y="232"/>
                  </a:lnTo>
                  <a:lnTo>
                    <a:pt x="844" y="234"/>
                  </a:lnTo>
                  <a:lnTo>
                    <a:pt x="848" y="237"/>
                  </a:lnTo>
                  <a:lnTo>
                    <a:pt x="850" y="241"/>
                  </a:lnTo>
                  <a:lnTo>
                    <a:pt x="857" y="249"/>
                  </a:lnTo>
                  <a:lnTo>
                    <a:pt x="866" y="260"/>
                  </a:lnTo>
                  <a:lnTo>
                    <a:pt x="873" y="271"/>
                  </a:lnTo>
                  <a:lnTo>
                    <a:pt x="880" y="286"/>
                  </a:lnTo>
                  <a:lnTo>
                    <a:pt x="851" y="289"/>
                  </a:lnTo>
                  <a:lnTo>
                    <a:pt x="821" y="294"/>
                  </a:lnTo>
                  <a:lnTo>
                    <a:pt x="792" y="299"/>
                  </a:lnTo>
                  <a:lnTo>
                    <a:pt x="765" y="305"/>
                  </a:lnTo>
                  <a:lnTo>
                    <a:pt x="765" y="330"/>
                  </a:lnTo>
                  <a:lnTo>
                    <a:pt x="764" y="356"/>
                  </a:lnTo>
                  <a:lnTo>
                    <a:pt x="762" y="385"/>
                  </a:lnTo>
                  <a:lnTo>
                    <a:pt x="760" y="416"/>
                  </a:lnTo>
                  <a:lnTo>
                    <a:pt x="789" y="411"/>
                  </a:lnTo>
                  <a:lnTo>
                    <a:pt x="819" y="407"/>
                  </a:lnTo>
                  <a:lnTo>
                    <a:pt x="848" y="404"/>
                  </a:lnTo>
                  <a:lnTo>
                    <a:pt x="875" y="401"/>
                  </a:lnTo>
                  <a:lnTo>
                    <a:pt x="879" y="379"/>
                  </a:lnTo>
                  <a:lnTo>
                    <a:pt x="884" y="355"/>
                  </a:lnTo>
                  <a:lnTo>
                    <a:pt x="889" y="329"/>
                  </a:lnTo>
                  <a:lnTo>
                    <a:pt x="894" y="300"/>
                  </a:lnTo>
                  <a:lnTo>
                    <a:pt x="899" y="267"/>
                  </a:lnTo>
                  <a:lnTo>
                    <a:pt x="906" y="233"/>
                  </a:lnTo>
                  <a:lnTo>
                    <a:pt x="913" y="195"/>
                  </a:lnTo>
                  <a:lnTo>
                    <a:pt x="920" y="156"/>
                  </a:lnTo>
                  <a:lnTo>
                    <a:pt x="923" y="130"/>
                  </a:lnTo>
                  <a:lnTo>
                    <a:pt x="925" y="110"/>
                  </a:lnTo>
                  <a:lnTo>
                    <a:pt x="928" y="95"/>
                  </a:lnTo>
                  <a:lnTo>
                    <a:pt x="930" y="86"/>
                  </a:lnTo>
                  <a:close/>
                  <a:moveTo>
                    <a:pt x="580" y="281"/>
                  </a:moveTo>
                  <a:lnTo>
                    <a:pt x="591" y="280"/>
                  </a:lnTo>
                  <a:lnTo>
                    <a:pt x="605" y="276"/>
                  </a:lnTo>
                  <a:lnTo>
                    <a:pt x="618" y="275"/>
                  </a:lnTo>
                  <a:lnTo>
                    <a:pt x="638" y="272"/>
                  </a:lnTo>
                  <a:lnTo>
                    <a:pt x="663" y="267"/>
                  </a:lnTo>
                  <a:lnTo>
                    <a:pt x="695" y="261"/>
                  </a:lnTo>
                  <a:lnTo>
                    <a:pt x="690" y="221"/>
                  </a:lnTo>
                  <a:lnTo>
                    <a:pt x="682" y="186"/>
                  </a:lnTo>
                  <a:lnTo>
                    <a:pt x="678" y="170"/>
                  </a:lnTo>
                  <a:lnTo>
                    <a:pt x="675" y="156"/>
                  </a:lnTo>
                  <a:lnTo>
                    <a:pt x="670" y="142"/>
                  </a:lnTo>
                  <a:lnTo>
                    <a:pt x="665" y="130"/>
                  </a:lnTo>
                  <a:lnTo>
                    <a:pt x="654" y="134"/>
                  </a:lnTo>
                  <a:lnTo>
                    <a:pt x="640" y="136"/>
                  </a:lnTo>
                  <a:lnTo>
                    <a:pt x="624" y="138"/>
                  </a:lnTo>
                  <a:lnTo>
                    <a:pt x="605" y="141"/>
                  </a:lnTo>
                  <a:lnTo>
                    <a:pt x="593" y="145"/>
                  </a:lnTo>
                  <a:lnTo>
                    <a:pt x="583" y="148"/>
                  </a:lnTo>
                  <a:lnTo>
                    <a:pt x="573" y="151"/>
                  </a:lnTo>
                  <a:lnTo>
                    <a:pt x="565" y="151"/>
                  </a:lnTo>
                  <a:lnTo>
                    <a:pt x="545" y="126"/>
                  </a:lnTo>
                  <a:lnTo>
                    <a:pt x="546" y="137"/>
                  </a:lnTo>
                  <a:lnTo>
                    <a:pt x="548" y="151"/>
                  </a:lnTo>
                  <a:lnTo>
                    <a:pt x="551" y="166"/>
                  </a:lnTo>
                  <a:lnTo>
                    <a:pt x="555" y="186"/>
                  </a:lnTo>
                  <a:lnTo>
                    <a:pt x="559" y="227"/>
                  </a:lnTo>
                  <a:lnTo>
                    <a:pt x="565" y="265"/>
                  </a:lnTo>
                  <a:lnTo>
                    <a:pt x="569" y="301"/>
                  </a:lnTo>
                  <a:lnTo>
                    <a:pt x="572" y="335"/>
                  </a:lnTo>
                  <a:lnTo>
                    <a:pt x="576" y="365"/>
                  </a:lnTo>
                  <a:lnTo>
                    <a:pt x="580" y="393"/>
                  </a:lnTo>
                  <a:lnTo>
                    <a:pt x="583" y="419"/>
                  </a:lnTo>
                  <a:lnTo>
                    <a:pt x="585" y="441"/>
                  </a:lnTo>
                  <a:lnTo>
                    <a:pt x="610" y="437"/>
                  </a:lnTo>
                  <a:lnTo>
                    <a:pt x="638" y="432"/>
                  </a:lnTo>
                  <a:lnTo>
                    <a:pt x="665" y="428"/>
                  </a:lnTo>
                  <a:lnTo>
                    <a:pt x="695" y="426"/>
                  </a:lnTo>
                  <a:lnTo>
                    <a:pt x="695" y="316"/>
                  </a:lnTo>
                  <a:lnTo>
                    <a:pt x="683" y="317"/>
                  </a:lnTo>
                  <a:lnTo>
                    <a:pt x="670" y="321"/>
                  </a:lnTo>
                  <a:lnTo>
                    <a:pt x="661" y="321"/>
                  </a:lnTo>
                  <a:lnTo>
                    <a:pt x="654" y="322"/>
                  </a:lnTo>
                  <a:lnTo>
                    <a:pt x="648" y="323"/>
                  </a:lnTo>
                  <a:lnTo>
                    <a:pt x="645" y="325"/>
                  </a:lnTo>
                  <a:lnTo>
                    <a:pt x="640" y="325"/>
                  </a:lnTo>
                  <a:lnTo>
                    <a:pt x="634" y="323"/>
                  </a:lnTo>
                  <a:lnTo>
                    <a:pt x="626" y="319"/>
                  </a:lnTo>
                  <a:lnTo>
                    <a:pt x="619" y="315"/>
                  </a:lnTo>
                  <a:lnTo>
                    <a:pt x="610" y="308"/>
                  </a:lnTo>
                  <a:lnTo>
                    <a:pt x="601" y="300"/>
                  </a:lnTo>
                  <a:lnTo>
                    <a:pt x="591" y="292"/>
                  </a:lnTo>
                  <a:lnTo>
                    <a:pt x="580" y="281"/>
                  </a:lnTo>
                  <a:close/>
                </a:path>
              </a:pathLst>
            </a:custGeom>
            <a:solidFill>
              <a:srgbClr val="ffff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00"/>
                </a:solidFill>
                <a:latin typeface="Arial"/>
                <a:ea typeface="宋体"/>
              </a:endParaRPr>
            </a:p>
          </p:txBody>
        </p:sp>
        <p:sp>
          <p:nvSpPr>
            <p:cNvPr id="517" name="Freeform 19"/>
            <p:cNvSpPr/>
            <p:nvPr/>
          </p:nvSpPr>
          <p:spPr>
            <a:xfrm>
              <a:off x="3762720" y="9456120"/>
              <a:ext cx="177480" cy="168840"/>
            </a:xfrm>
            <a:custGeom>
              <a:avLst/>
              <a:gdLst>
                <a:gd name="textAreaLeft" fmla="*/ 0 w 177480"/>
                <a:gd name="textAreaRight" fmla="*/ 177840 w 177480"/>
                <a:gd name="textAreaTop" fmla="*/ 0 h 168840"/>
                <a:gd name="textAreaBottom" fmla="*/ 169200 h 168840"/>
              </a:gdLst>
              <a:ahLst/>
              <a:rect l="textAreaLeft" t="textAreaTop" r="textAreaRight" b="textAreaBottom"/>
              <a:pathLst>
                <a:path w="1111" h="1116">
                  <a:moveTo>
                    <a:pt x="767" y="1015"/>
                  </a:moveTo>
                  <a:lnTo>
                    <a:pt x="730" y="1018"/>
                  </a:lnTo>
                  <a:lnTo>
                    <a:pt x="688" y="1021"/>
                  </a:lnTo>
                  <a:lnTo>
                    <a:pt x="643" y="1025"/>
                  </a:lnTo>
                  <a:lnTo>
                    <a:pt x="591" y="1029"/>
                  </a:lnTo>
                  <a:lnTo>
                    <a:pt x="535" y="1034"/>
                  </a:lnTo>
                  <a:lnTo>
                    <a:pt x="473" y="1038"/>
                  </a:lnTo>
                  <a:lnTo>
                    <a:pt x="408" y="1045"/>
                  </a:lnTo>
                  <a:lnTo>
                    <a:pt x="336" y="1050"/>
                  </a:lnTo>
                  <a:lnTo>
                    <a:pt x="336" y="1059"/>
                  </a:lnTo>
                  <a:lnTo>
                    <a:pt x="336" y="1067"/>
                  </a:lnTo>
                  <a:lnTo>
                    <a:pt x="336" y="1076"/>
                  </a:lnTo>
                  <a:lnTo>
                    <a:pt x="336" y="1085"/>
                  </a:lnTo>
                  <a:lnTo>
                    <a:pt x="338" y="1099"/>
                  </a:lnTo>
                  <a:lnTo>
                    <a:pt x="339" y="1108"/>
                  </a:lnTo>
                  <a:lnTo>
                    <a:pt x="339" y="1112"/>
                  </a:lnTo>
                  <a:lnTo>
                    <a:pt x="338" y="1114"/>
                  </a:lnTo>
                  <a:lnTo>
                    <a:pt x="338" y="1115"/>
                  </a:lnTo>
                  <a:lnTo>
                    <a:pt x="336" y="1116"/>
                  </a:lnTo>
                  <a:lnTo>
                    <a:pt x="333" y="1116"/>
                  </a:lnTo>
                  <a:lnTo>
                    <a:pt x="327" y="1114"/>
                  </a:lnTo>
                  <a:lnTo>
                    <a:pt x="320" y="1110"/>
                  </a:lnTo>
                  <a:lnTo>
                    <a:pt x="310" y="1105"/>
                  </a:lnTo>
                  <a:lnTo>
                    <a:pt x="285" y="1089"/>
                  </a:lnTo>
                  <a:lnTo>
                    <a:pt x="251" y="1065"/>
                  </a:lnTo>
                  <a:lnTo>
                    <a:pt x="252" y="1044"/>
                  </a:lnTo>
                  <a:lnTo>
                    <a:pt x="253" y="1021"/>
                  </a:lnTo>
                  <a:lnTo>
                    <a:pt x="252" y="1000"/>
                  </a:lnTo>
                  <a:lnTo>
                    <a:pt x="252" y="979"/>
                  </a:lnTo>
                  <a:lnTo>
                    <a:pt x="250" y="959"/>
                  </a:lnTo>
                  <a:lnTo>
                    <a:pt x="248" y="938"/>
                  </a:lnTo>
                  <a:lnTo>
                    <a:pt x="246" y="918"/>
                  </a:lnTo>
                  <a:lnTo>
                    <a:pt x="242" y="897"/>
                  </a:lnTo>
                  <a:lnTo>
                    <a:pt x="238" y="877"/>
                  </a:lnTo>
                  <a:lnTo>
                    <a:pt x="234" y="858"/>
                  </a:lnTo>
                  <a:lnTo>
                    <a:pt x="230" y="838"/>
                  </a:lnTo>
                  <a:lnTo>
                    <a:pt x="224" y="819"/>
                  </a:lnTo>
                  <a:lnTo>
                    <a:pt x="218" y="800"/>
                  </a:lnTo>
                  <a:lnTo>
                    <a:pt x="212" y="782"/>
                  </a:lnTo>
                  <a:lnTo>
                    <a:pt x="204" y="763"/>
                  </a:lnTo>
                  <a:lnTo>
                    <a:pt x="196" y="745"/>
                  </a:lnTo>
                  <a:lnTo>
                    <a:pt x="204" y="747"/>
                  </a:lnTo>
                  <a:lnTo>
                    <a:pt x="215" y="750"/>
                  </a:lnTo>
                  <a:lnTo>
                    <a:pt x="228" y="752"/>
                  </a:lnTo>
                  <a:lnTo>
                    <a:pt x="241" y="755"/>
                  </a:lnTo>
                  <a:lnTo>
                    <a:pt x="262" y="760"/>
                  </a:lnTo>
                  <a:lnTo>
                    <a:pt x="278" y="764"/>
                  </a:lnTo>
                  <a:lnTo>
                    <a:pt x="292" y="767"/>
                  </a:lnTo>
                  <a:lnTo>
                    <a:pt x="301" y="770"/>
                  </a:lnTo>
                  <a:lnTo>
                    <a:pt x="366" y="763"/>
                  </a:lnTo>
                  <a:lnTo>
                    <a:pt x="426" y="755"/>
                  </a:lnTo>
                  <a:lnTo>
                    <a:pt x="479" y="747"/>
                  </a:lnTo>
                  <a:lnTo>
                    <a:pt x="525" y="737"/>
                  </a:lnTo>
                  <a:lnTo>
                    <a:pt x="545" y="732"/>
                  </a:lnTo>
                  <a:lnTo>
                    <a:pt x="566" y="727"/>
                  </a:lnTo>
                  <a:lnTo>
                    <a:pt x="582" y="722"/>
                  </a:lnTo>
                  <a:lnTo>
                    <a:pt x="598" y="715"/>
                  </a:lnTo>
                  <a:lnTo>
                    <a:pt x="613" y="710"/>
                  </a:lnTo>
                  <a:lnTo>
                    <a:pt x="626" y="704"/>
                  </a:lnTo>
                  <a:lnTo>
                    <a:pt x="636" y="697"/>
                  </a:lnTo>
                  <a:lnTo>
                    <a:pt x="646" y="690"/>
                  </a:lnTo>
                  <a:lnTo>
                    <a:pt x="664" y="704"/>
                  </a:lnTo>
                  <a:lnTo>
                    <a:pt x="683" y="716"/>
                  </a:lnTo>
                  <a:lnTo>
                    <a:pt x="703" y="728"/>
                  </a:lnTo>
                  <a:lnTo>
                    <a:pt x="727" y="739"/>
                  </a:lnTo>
                  <a:lnTo>
                    <a:pt x="751" y="749"/>
                  </a:lnTo>
                  <a:lnTo>
                    <a:pt x="777" y="759"/>
                  </a:lnTo>
                  <a:lnTo>
                    <a:pt x="806" y="767"/>
                  </a:lnTo>
                  <a:lnTo>
                    <a:pt x="837" y="776"/>
                  </a:lnTo>
                  <a:lnTo>
                    <a:pt x="828" y="781"/>
                  </a:lnTo>
                  <a:lnTo>
                    <a:pt x="819" y="788"/>
                  </a:lnTo>
                  <a:lnTo>
                    <a:pt x="811" y="796"/>
                  </a:lnTo>
                  <a:lnTo>
                    <a:pt x="803" y="803"/>
                  </a:lnTo>
                  <a:lnTo>
                    <a:pt x="794" y="813"/>
                  </a:lnTo>
                  <a:lnTo>
                    <a:pt x="787" y="822"/>
                  </a:lnTo>
                  <a:lnTo>
                    <a:pt x="778" y="833"/>
                  </a:lnTo>
                  <a:lnTo>
                    <a:pt x="771" y="843"/>
                  </a:lnTo>
                  <a:lnTo>
                    <a:pt x="756" y="869"/>
                  </a:lnTo>
                  <a:lnTo>
                    <a:pt x="742" y="896"/>
                  </a:lnTo>
                  <a:lnTo>
                    <a:pt x="730" y="927"/>
                  </a:lnTo>
                  <a:lnTo>
                    <a:pt x="717" y="960"/>
                  </a:lnTo>
                  <a:lnTo>
                    <a:pt x="731" y="975"/>
                  </a:lnTo>
                  <a:lnTo>
                    <a:pt x="743" y="989"/>
                  </a:lnTo>
                  <a:lnTo>
                    <a:pt x="756" y="1002"/>
                  </a:lnTo>
                  <a:lnTo>
                    <a:pt x="767" y="1015"/>
                  </a:lnTo>
                  <a:close/>
                  <a:moveTo>
                    <a:pt x="546" y="289"/>
                  </a:moveTo>
                  <a:lnTo>
                    <a:pt x="559" y="298"/>
                  </a:lnTo>
                  <a:lnTo>
                    <a:pt x="572" y="305"/>
                  </a:lnTo>
                  <a:lnTo>
                    <a:pt x="586" y="313"/>
                  </a:lnTo>
                  <a:lnTo>
                    <a:pt x="598" y="319"/>
                  </a:lnTo>
                  <a:lnTo>
                    <a:pt x="613" y="324"/>
                  </a:lnTo>
                  <a:lnTo>
                    <a:pt x="627" y="328"/>
                  </a:lnTo>
                  <a:lnTo>
                    <a:pt x="642" y="332"/>
                  </a:lnTo>
                  <a:lnTo>
                    <a:pt x="657" y="335"/>
                  </a:lnTo>
                  <a:lnTo>
                    <a:pt x="642" y="351"/>
                  </a:lnTo>
                  <a:lnTo>
                    <a:pt x="629" y="368"/>
                  </a:lnTo>
                  <a:lnTo>
                    <a:pt x="617" y="386"/>
                  </a:lnTo>
                  <a:lnTo>
                    <a:pt x="607" y="405"/>
                  </a:lnTo>
                  <a:lnTo>
                    <a:pt x="614" y="410"/>
                  </a:lnTo>
                  <a:lnTo>
                    <a:pt x="624" y="417"/>
                  </a:lnTo>
                  <a:lnTo>
                    <a:pt x="634" y="426"/>
                  </a:lnTo>
                  <a:lnTo>
                    <a:pt x="646" y="434"/>
                  </a:lnTo>
                  <a:lnTo>
                    <a:pt x="683" y="459"/>
                  </a:lnTo>
                  <a:lnTo>
                    <a:pt x="718" y="480"/>
                  </a:lnTo>
                  <a:lnTo>
                    <a:pt x="751" y="499"/>
                  </a:lnTo>
                  <a:lnTo>
                    <a:pt x="782" y="516"/>
                  </a:lnTo>
                  <a:lnTo>
                    <a:pt x="810" y="531"/>
                  </a:lnTo>
                  <a:lnTo>
                    <a:pt x="838" y="542"/>
                  </a:lnTo>
                  <a:lnTo>
                    <a:pt x="863" y="552"/>
                  </a:lnTo>
                  <a:lnTo>
                    <a:pt x="886" y="559"/>
                  </a:lnTo>
                  <a:lnTo>
                    <a:pt x="914" y="569"/>
                  </a:lnTo>
                  <a:lnTo>
                    <a:pt x="940" y="579"/>
                  </a:lnTo>
                  <a:lnTo>
                    <a:pt x="966" y="588"/>
                  </a:lnTo>
                  <a:lnTo>
                    <a:pt x="991" y="599"/>
                  </a:lnTo>
                  <a:lnTo>
                    <a:pt x="1016" y="609"/>
                  </a:lnTo>
                  <a:lnTo>
                    <a:pt x="1040" y="621"/>
                  </a:lnTo>
                  <a:lnTo>
                    <a:pt x="1063" y="633"/>
                  </a:lnTo>
                  <a:lnTo>
                    <a:pt x="1087" y="645"/>
                  </a:lnTo>
                  <a:lnTo>
                    <a:pt x="1097" y="650"/>
                  </a:lnTo>
                  <a:lnTo>
                    <a:pt x="1106" y="655"/>
                  </a:lnTo>
                  <a:lnTo>
                    <a:pt x="1108" y="658"/>
                  </a:lnTo>
                  <a:lnTo>
                    <a:pt x="1110" y="660"/>
                  </a:lnTo>
                  <a:lnTo>
                    <a:pt x="1111" y="662"/>
                  </a:lnTo>
                  <a:lnTo>
                    <a:pt x="1111" y="665"/>
                  </a:lnTo>
                  <a:lnTo>
                    <a:pt x="1111" y="668"/>
                  </a:lnTo>
                  <a:lnTo>
                    <a:pt x="1110" y="670"/>
                  </a:lnTo>
                  <a:lnTo>
                    <a:pt x="1108" y="672"/>
                  </a:lnTo>
                  <a:lnTo>
                    <a:pt x="1106" y="674"/>
                  </a:lnTo>
                  <a:lnTo>
                    <a:pt x="1097" y="677"/>
                  </a:lnTo>
                  <a:lnTo>
                    <a:pt x="1087" y="680"/>
                  </a:lnTo>
                  <a:lnTo>
                    <a:pt x="1075" y="682"/>
                  </a:lnTo>
                  <a:lnTo>
                    <a:pt x="1061" y="684"/>
                  </a:lnTo>
                  <a:lnTo>
                    <a:pt x="1044" y="687"/>
                  </a:lnTo>
                  <a:lnTo>
                    <a:pt x="1024" y="688"/>
                  </a:lnTo>
                  <a:lnTo>
                    <a:pt x="1001" y="689"/>
                  </a:lnTo>
                  <a:lnTo>
                    <a:pt x="975" y="690"/>
                  </a:lnTo>
                  <a:lnTo>
                    <a:pt x="948" y="690"/>
                  </a:lnTo>
                  <a:lnTo>
                    <a:pt x="916" y="690"/>
                  </a:lnTo>
                  <a:lnTo>
                    <a:pt x="898" y="690"/>
                  </a:lnTo>
                  <a:lnTo>
                    <a:pt x="881" y="688"/>
                  </a:lnTo>
                  <a:lnTo>
                    <a:pt x="865" y="686"/>
                  </a:lnTo>
                  <a:lnTo>
                    <a:pt x="850" y="682"/>
                  </a:lnTo>
                  <a:lnTo>
                    <a:pt x="837" y="678"/>
                  </a:lnTo>
                  <a:lnTo>
                    <a:pt x="824" y="673"/>
                  </a:lnTo>
                  <a:lnTo>
                    <a:pt x="812" y="668"/>
                  </a:lnTo>
                  <a:lnTo>
                    <a:pt x="802" y="660"/>
                  </a:lnTo>
                  <a:lnTo>
                    <a:pt x="782" y="644"/>
                  </a:lnTo>
                  <a:lnTo>
                    <a:pt x="756" y="621"/>
                  </a:lnTo>
                  <a:lnTo>
                    <a:pt x="727" y="591"/>
                  </a:lnTo>
                  <a:lnTo>
                    <a:pt x="692" y="555"/>
                  </a:lnTo>
                  <a:lnTo>
                    <a:pt x="659" y="520"/>
                  </a:lnTo>
                  <a:lnTo>
                    <a:pt x="629" y="491"/>
                  </a:lnTo>
                  <a:lnTo>
                    <a:pt x="604" y="467"/>
                  </a:lnTo>
                  <a:lnTo>
                    <a:pt x="581" y="449"/>
                  </a:lnTo>
                  <a:lnTo>
                    <a:pt x="557" y="491"/>
                  </a:lnTo>
                  <a:lnTo>
                    <a:pt x="533" y="529"/>
                  </a:lnTo>
                  <a:lnTo>
                    <a:pt x="508" y="564"/>
                  </a:lnTo>
                  <a:lnTo>
                    <a:pt x="484" y="597"/>
                  </a:lnTo>
                  <a:lnTo>
                    <a:pt x="471" y="611"/>
                  </a:lnTo>
                  <a:lnTo>
                    <a:pt x="459" y="625"/>
                  </a:lnTo>
                  <a:lnTo>
                    <a:pt x="446" y="639"/>
                  </a:lnTo>
                  <a:lnTo>
                    <a:pt x="433" y="652"/>
                  </a:lnTo>
                  <a:lnTo>
                    <a:pt x="420" y="663"/>
                  </a:lnTo>
                  <a:lnTo>
                    <a:pt x="408" y="675"/>
                  </a:lnTo>
                  <a:lnTo>
                    <a:pt x="394" y="686"/>
                  </a:lnTo>
                  <a:lnTo>
                    <a:pt x="381" y="695"/>
                  </a:lnTo>
                  <a:lnTo>
                    <a:pt x="371" y="701"/>
                  </a:lnTo>
                  <a:lnTo>
                    <a:pt x="360" y="707"/>
                  </a:lnTo>
                  <a:lnTo>
                    <a:pt x="349" y="711"/>
                  </a:lnTo>
                  <a:lnTo>
                    <a:pt x="339" y="715"/>
                  </a:lnTo>
                  <a:lnTo>
                    <a:pt x="327" y="717"/>
                  </a:lnTo>
                  <a:lnTo>
                    <a:pt x="317" y="718"/>
                  </a:lnTo>
                  <a:lnTo>
                    <a:pt x="306" y="719"/>
                  </a:lnTo>
                  <a:lnTo>
                    <a:pt x="295" y="718"/>
                  </a:lnTo>
                  <a:lnTo>
                    <a:pt x="284" y="717"/>
                  </a:lnTo>
                  <a:lnTo>
                    <a:pt x="273" y="715"/>
                  </a:lnTo>
                  <a:lnTo>
                    <a:pt x="262" y="712"/>
                  </a:lnTo>
                  <a:lnTo>
                    <a:pt x="251" y="707"/>
                  </a:lnTo>
                  <a:lnTo>
                    <a:pt x="239" y="701"/>
                  </a:lnTo>
                  <a:lnTo>
                    <a:pt x="229" y="695"/>
                  </a:lnTo>
                  <a:lnTo>
                    <a:pt x="217" y="689"/>
                  </a:lnTo>
                  <a:lnTo>
                    <a:pt x="206" y="680"/>
                  </a:lnTo>
                  <a:lnTo>
                    <a:pt x="231" y="671"/>
                  </a:lnTo>
                  <a:lnTo>
                    <a:pt x="255" y="661"/>
                  </a:lnTo>
                  <a:lnTo>
                    <a:pt x="277" y="650"/>
                  </a:lnTo>
                  <a:lnTo>
                    <a:pt x="301" y="638"/>
                  </a:lnTo>
                  <a:lnTo>
                    <a:pt x="322" y="625"/>
                  </a:lnTo>
                  <a:lnTo>
                    <a:pt x="343" y="611"/>
                  </a:lnTo>
                  <a:lnTo>
                    <a:pt x="363" y="597"/>
                  </a:lnTo>
                  <a:lnTo>
                    <a:pt x="382" y="581"/>
                  </a:lnTo>
                  <a:lnTo>
                    <a:pt x="401" y="565"/>
                  </a:lnTo>
                  <a:lnTo>
                    <a:pt x="419" y="548"/>
                  </a:lnTo>
                  <a:lnTo>
                    <a:pt x="436" y="530"/>
                  </a:lnTo>
                  <a:lnTo>
                    <a:pt x="453" y="510"/>
                  </a:lnTo>
                  <a:lnTo>
                    <a:pt x="469" y="491"/>
                  </a:lnTo>
                  <a:lnTo>
                    <a:pt x="484" y="469"/>
                  </a:lnTo>
                  <a:lnTo>
                    <a:pt x="498" y="447"/>
                  </a:lnTo>
                  <a:lnTo>
                    <a:pt x="512" y="425"/>
                  </a:lnTo>
                  <a:lnTo>
                    <a:pt x="521" y="406"/>
                  </a:lnTo>
                  <a:lnTo>
                    <a:pt x="528" y="388"/>
                  </a:lnTo>
                  <a:lnTo>
                    <a:pt x="535" y="371"/>
                  </a:lnTo>
                  <a:lnTo>
                    <a:pt x="540" y="354"/>
                  </a:lnTo>
                  <a:lnTo>
                    <a:pt x="543" y="337"/>
                  </a:lnTo>
                  <a:lnTo>
                    <a:pt x="546" y="321"/>
                  </a:lnTo>
                  <a:lnTo>
                    <a:pt x="546" y="305"/>
                  </a:lnTo>
                  <a:lnTo>
                    <a:pt x="546" y="289"/>
                  </a:lnTo>
                  <a:close/>
                  <a:moveTo>
                    <a:pt x="767" y="129"/>
                  </a:moveTo>
                  <a:lnTo>
                    <a:pt x="788" y="147"/>
                  </a:lnTo>
                  <a:lnTo>
                    <a:pt x="809" y="164"/>
                  </a:lnTo>
                  <a:lnTo>
                    <a:pt x="830" y="180"/>
                  </a:lnTo>
                  <a:lnTo>
                    <a:pt x="852" y="194"/>
                  </a:lnTo>
                  <a:lnTo>
                    <a:pt x="873" y="205"/>
                  </a:lnTo>
                  <a:lnTo>
                    <a:pt x="894" y="217"/>
                  </a:lnTo>
                  <a:lnTo>
                    <a:pt x="915" y="227"/>
                  </a:lnTo>
                  <a:lnTo>
                    <a:pt x="936" y="235"/>
                  </a:lnTo>
                  <a:lnTo>
                    <a:pt x="912" y="249"/>
                  </a:lnTo>
                  <a:lnTo>
                    <a:pt x="882" y="266"/>
                  </a:lnTo>
                  <a:lnTo>
                    <a:pt x="849" y="286"/>
                  </a:lnTo>
                  <a:lnTo>
                    <a:pt x="811" y="309"/>
                  </a:lnTo>
                  <a:lnTo>
                    <a:pt x="786" y="326"/>
                  </a:lnTo>
                  <a:lnTo>
                    <a:pt x="763" y="340"/>
                  </a:lnTo>
                  <a:lnTo>
                    <a:pt x="743" y="351"/>
                  </a:lnTo>
                  <a:lnTo>
                    <a:pt x="727" y="360"/>
                  </a:lnTo>
                  <a:lnTo>
                    <a:pt x="719" y="361"/>
                  </a:lnTo>
                  <a:lnTo>
                    <a:pt x="713" y="362"/>
                  </a:lnTo>
                  <a:lnTo>
                    <a:pt x="706" y="361"/>
                  </a:lnTo>
                  <a:lnTo>
                    <a:pt x="701" y="360"/>
                  </a:lnTo>
                  <a:lnTo>
                    <a:pt x="700" y="359"/>
                  </a:lnTo>
                  <a:lnTo>
                    <a:pt x="700" y="358"/>
                  </a:lnTo>
                  <a:lnTo>
                    <a:pt x="700" y="356"/>
                  </a:lnTo>
                  <a:lnTo>
                    <a:pt x="702" y="352"/>
                  </a:lnTo>
                  <a:lnTo>
                    <a:pt x="706" y="344"/>
                  </a:lnTo>
                  <a:lnTo>
                    <a:pt x="713" y="333"/>
                  </a:lnTo>
                  <a:lnTo>
                    <a:pt x="721" y="315"/>
                  </a:lnTo>
                  <a:lnTo>
                    <a:pt x="741" y="279"/>
                  </a:lnTo>
                  <a:lnTo>
                    <a:pt x="756" y="249"/>
                  </a:lnTo>
                  <a:lnTo>
                    <a:pt x="763" y="236"/>
                  </a:lnTo>
                  <a:lnTo>
                    <a:pt x="767" y="226"/>
                  </a:lnTo>
                  <a:lnTo>
                    <a:pt x="770" y="217"/>
                  </a:lnTo>
                  <a:lnTo>
                    <a:pt x="771" y="210"/>
                  </a:lnTo>
                  <a:lnTo>
                    <a:pt x="750" y="216"/>
                  </a:lnTo>
                  <a:lnTo>
                    <a:pt x="728" y="222"/>
                  </a:lnTo>
                  <a:lnTo>
                    <a:pt x="702" y="230"/>
                  </a:lnTo>
                  <a:lnTo>
                    <a:pt x="675" y="237"/>
                  </a:lnTo>
                  <a:lnTo>
                    <a:pt x="646" y="245"/>
                  </a:lnTo>
                  <a:lnTo>
                    <a:pt x="615" y="253"/>
                  </a:lnTo>
                  <a:lnTo>
                    <a:pt x="581" y="261"/>
                  </a:lnTo>
                  <a:lnTo>
                    <a:pt x="546" y="270"/>
                  </a:lnTo>
                  <a:lnTo>
                    <a:pt x="538" y="266"/>
                  </a:lnTo>
                  <a:lnTo>
                    <a:pt x="528" y="258"/>
                  </a:lnTo>
                  <a:lnTo>
                    <a:pt x="518" y="248"/>
                  </a:lnTo>
                  <a:lnTo>
                    <a:pt x="506" y="235"/>
                  </a:lnTo>
                  <a:lnTo>
                    <a:pt x="498" y="251"/>
                  </a:lnTo>
                  <a:lnTo>
                    <a:pt x="487" y="268"/>
                  </a:lnTo>
                  <a:lnTo>
                    <a:pt x="475" y="288"/>
                  </a:lnTo>
                  <a:lnTo>
                    <a:pt x="462" y="309"/>
                  </a:lnTo>
                  <a:lnTo>
                    <a:pt x="459" y="317"/>
                  </a:lnTo>
                  <a:lnTo>
                    <a:pt x="456" y="322"/>
                  </a:lnTo>
                  <a:lnTo>
                    <a:pt x="453" y="326"/>
                  </a:lnTo>
                  <a:lnTo>
                    <a:pt x="451" y="329"/>
                  </a:lnTo>
                  <a:lnTo>
                    <a:pt x="446" y="338"/>
                  </a:lnTo>
                  <a:lnTo>
                    <a:pt x="439" y="344"/>
                  </a:lnTo>
                  <a:lnTo>
                    <a:pt x="433" y="351"/>
                  </a:lnTo>
                  <a:lnTo>
                    <a:pt x="426" y="356"/>
                  </a:lnTo>
                  <a:lnTo>
                    <a:pt x="418" y="360"/>
                  </a:lnTo>
                  <a:lnTo>
                    <a:pt x="411" y="364"/>
                  </a:lnTo>
                  <a:lnTo>
                    <a:pt x="402" y="368"/>
                  </a:lnTo>
                  <a:lnTo>
                    <a:pt x="394" y="370"/>
                  </a:lnTo>
                  <a:lnTo>
                    <a:pt x="384" y="371"/>
                  </a:lnTo>
                  <a:lnTo>
                    <a:pt x="376" y="372"/>
                  </a:lnTo>
                  <a:lnTo>
                    <a:pt x="365" y="372"/>
                  </a:lnTo>
                  <a:lnTo>
                    <a:pt x="356" y="371"/>
                  </a:lnTo>
                  <a:lnTo>
                    <a:pt x="345" y="370"/>
                  </a:lnTo>
                  <a:lnTo>
                    <a:pt x="335" y="367"/>
                  </a:lnTo>
                  <a:lnTo>
                    <a:pt x="323" y="363"/>
                  </a:lnTo>
                  <a:lnTo>
                    <a:pt x="311" y="360"/>
                  </a:lnTo>
                  <a:lnTo>
                    <a:pt x="331" y="342"/>
                  </a:lnTo>
                  <a:lnTo>
                    <a:pt x="351" y="323"/>
                  </a:lnTo>
                  <a:lnTo>
                    <a:pt x="367" y="304"/>
                  </a:lnTo>
                  <a:lnTo>
                    <a:pt x="384" y="285"/>
                  </a:lnTo>
                  <a:lnTo>
                    <a:pt x="399" y="265"/>
                  </a:lnTo>
                  <a:lnTo>
                    <a:pt x="414" y="244"/>
                  </a:lnTo>
                  <a:lnTo>
                    <a:pt x="427" y="221"/>
                  </a:lnTo>
                  <a:lnTo>
                    <a:pt x="438" y="199"/>
                  </a:lnTo>
                  <a:lnTo>
                    <a:pt x="449" y="177"/>
                  </a:lnTo>
                  <a:lnTo>
                    <a:pt x="459" y="154"/>
                  </a:lnTo>
                  <a:lnTo>
                    <a:pt x="467" y="129"/>
                  </a:lnTo>
                  <a:lnTo>
                    <a:pt x="474" y="105"/>
                  </a:lnTo>
                  <a:lnTo>
                    <a:pt x="481" y="79"/>
                  </a:lnTo>
                  <a:lnTo>
                    <a:pt x="485" y="53"/>
                  </a:lnTo>
                  <a:lnTo>
                    <a:pt x="489" y="26"/>
                  </a:lnTo>
                  <a:lnTo>
                    <a:pt x="491" y="0"/>
                  </a:lnTo>
                  <a:lnTo>
                    <a:pt x="506" y="8"/>
                  </a:lnTo>
                  <a:lnTo>
                    <a:pt x="521" y="17"/>
                  </a:lnTo>
                  <a:lnTo>
                    <a:pt x="536" y="24"/>
                  </a:lnTo>
                  <a:lnTo>
                    <a:pt x="550" y="30"/>
                  </a:lnTo>
                  <a:lnTo>
                    <a:pt x="564" y="34"/>
                  </a:lnTo>
                  <a:lnTo>
                    <a:pt x="578" y="37"/>
                  </a:lnTo>
                  <a:lnTo>
                    <a:pt x="592" y="39"/>
                  </a:lnTo>
                  <a:lnTo>
                    <a:pt x="607" y="39"/>
                  </a:lnTo>
                  <a:lnTo>
                    <a:pt x="600" y="45"/>
                  </a:lnTo>
                  <a:lnTo>
                    <a:pt x="593" y="53"/>
                  </a:lnTo>
                  <a:lnTo>
                    <a:pt x="587" y="62"/>
                  </a:lnTo>
                  <a:lnTo>
                    <a:pt x="580" y="74"/>
                  </a:lnTo>
                  <a:lnTo>
                    <a:pt x="573" y="88"/>
                  </a:lnTo>
                  <a:lnTo>
                    <a:pt x="566" y="103"/>
                  </a:lnTo>
                  <a:lnTo>
                    <a:pt x="559" y="121"/>
                  </a:lnTo>
                  <a:lnTo>
                    <a:pt x="552" y="140"/>
                  </a:lnTo>
                  <a:lnTo>
                    <a:pt x="549" y="145"/>
                  </a:lnTo>
                  <a:lnTo>
                    <a:pt x="545" y="154"/>
                  </a:lnTo>
                  <a:lnTo>
                    <a:pt x="541" y="163"/>
                  </a:lnTo>
                  <a:lnTo>
                    <a:pt x="536" y="175"/>
                  </a:lnTo>
                  <a:lnTo>
                    <a:pt x="530" y="186"/>
                  </a:lnTo>
                  <a:lnTo>
                    <a:pt x="524" y="197"/>
                  </a:lnTo>
                  <a:lnTo>
                    <a:pt x="520" y="207"/>
                  </a:lnTo>
                  <a:lnTo>
                    <a:pt x="517" y="215"/>
                  </a:lnTo>
                  <a:lnTo>
                    <a:pt x="563" y="207"/>
                  </a:lnTo>
                  <a:lnTo>
                    <a:pt x="605" y="198"/>
                  </a:lnTo>
                  <a:lnTo>
                    <a:pt x="643" y="189"/>
                  </a:lnTo>
                  <a:lnTo>
                    <a:pt x="677" y="178"/>
                  </a:lnTo>
                  <a:lnTo>
                    <a:pt x="692" y="173"/>
                  </a:lnTo>
                  <a:lnTo>
                    <a:pt x="705" y="167"/>
                  </a:lnTo>
                  <a:lnTo>
                    <a:pt x="718" y="161"/>
                  </a:lnTo>
                  <a:lnTo>
                    <a:pt x="730" y="156"/>
                  </a:lnTo>
                  <a:lnTo>
                    <a:pt x="740" y="149"/>
                  </a:lnTo>
                  <a:lnTo>
                    <a:pt x="751" y="143"/>
                  </a:lnTo>
                  <a:lnTo>
                    <a:pt x="759" y="137"/>
                  </a:lnTo>
                  <a:lnTo>
                    <a:pt x="767" y="129"/>
                  </a:lnTo>
                  <a:close/>
                  <a:moveTo>
                    <a:pt x="317" y="830"/>
                  </a:moveTo>
                  <a:lnTo>
                    <a:pt x="320" y="855"/>
                  </a:lnTo>
                  <a:lnTo>
                    <a:pt x="323" y="878"/>
                  </a:lnTo>
                  <a:lnTo>
                    <a:pt x="325" y="902"/>
                  </a:lnTo>
                  <a:lnTo>
                    <a:pt x="327" y="924"/>
                  </a:lnTo>
                  <a:lnTo>
                    <a:pt x="329" y="945"/>
                  </a:lnTo>
                  <a:lnTo>
                    <a:pt x="330" y="966"/>
                  </a:lnTo>
                  <a:lnTo>
                    <a:pt x="331" y="987"/>
                  </a:lnTo>
                  <a:lnTo>
                    <a:pt x="331" y="1006"/>
                  </a:lnTo>
                  <a:lnTo>
                    <a:pt x="346" y="1003"/>
                  </a:lnTo>
                  <a:lnTo>
                    <a:pt x="364" y="1001"/>
                  </a:lnTo>
                  <a:lnTo>
                    <a:pt x="385" y="999"/>
                  </a:lnTo>
                  <a:lnTo>
                    <a:pt x="409" y="996"/>
                  </a:lnTo>
                  <a:lnTo>
                    <a:pt x="435" y="993"/>
                  </a:lnTo>
                  <a:lnTo>
                    <a:pt x="464" y="990"/>
                  </a:lnTo>
                  <a:lnTo>
                    <a:pt x="497" y="985"/>
                  </a:lnTo>
                  <a:lnTo>
                    <a:pt x="532" y="980"/>
                  </a:lnTo>
                  <a:lnTo>
                    <a:pt x="563" y="976"/>
                  </a:lnTo>
                  <a:lnTo>
                    <a:pt x="590" y="972"/>
                  </a:lnTo>
                  <a:lnTo>
                    <a:pt x="611" y="968"/>
                  </a:lnTo>
                  <a:lnTo>
                    <a:pt x="626" y="965"/>
                  </a:lnTo>
                  <a:lnTo>
                    <a:pt x="629" y="946"/>
                  </a:lnTo>
                  <a:lnTo>
                    <a:pt x="632" y="925"/>
                  </a:lnTo>
                  <a:lnTo>
                    <a:pt x="636" y="902"/>
                  </a:lnTo>
                  <a:lnTo>
                    <a:pt x="642" y="875"/>
                  </a:lnTo>
                  <a:lnTo>
                    <a:pt x="646" y="855"/>
                  </a:lnTo>
                  <a:lnTo>
                    <a:pt x="649" y="838"/>
                  </a:lnTo>
                  <a:lnTo>
                    <a:pt x="651" y="823"/>
                  </a:lnTo>
                  <a:lnTo>
                    <a:pt x="652" y="812"/>
                  </a:lnTo>
                  <a:lnTo>
                    <a:pt x="652" y="802"/>
                  </a:lnTo>
                  <a:lnTo>
                    <a:pt x="651" y="796"/>
                  </a:lnTo>
                  <a:lnTo>
                    <a:pt x="650" y="793"/>
                  </a:lnTo>
                  <a:lnTo>
                    <a:pt x="649" y="792"/>
                  </a:lnTo>
                  <a:lnTo>
                    <a:pt x="648" y="790"/>
                  </a:lnTo>
                  <a:lnTo>
                    <a:pt x="646" y="790"/>
                  </a:lnTo>
                  <a:lnTo>
                    <a:pt x="642" y="789"/>
                  </a:lnTo>
                  <a:lnTo>
                    <a:pt x="635" y="788"/>
                  </a:lnTo>
                  <a:lnTo>
                    <a:pt x="627" y="788"/>
                  </a:lnTo>
                  <a:lnTo>
                    <a:pt x="616" y="788"/>
                  </a:lnTo>
                  <a:lnTo>
                    <a:pt x="588" y="792"/>
                  </a:lnTo>
                  <a:lnTo>
                    <a:pt x="552" y="795"/>
                  </a:lnTo>
                  <a:lnTo>
                    <a:pt x="506" y="801"/>
                  </a:lnTo>
                  <a:lnTo>
                    <a:pt x="451" y="808"/>
                  </a:lnTo>
                  <a:lnTo>
                    <a:pt x="389" y="819"/>
                  </a:lnTo>
                  <a:lnTo>
                    <a:pt x="317" y="830"/>
                  </a:lnTo>
                  <a:close/>
                  <a:moveTo>
                    <a:pt x="71" y="705"/>
                  </a:moveTo>
                  <a:lnTo>
                    <a:pt x="60" y="689"/>
                  </a:lnTo>
                  <a:lnTo>
                    <a:pt x="47" y="669"/>
                  </a:lnTo>
                  <a:lnTo>
                    <a:pt x="30" y="646"/>
                  </a:lnTo>
                  <a:lnTo>
                    <a:pt x="12" y="620"/>
                  </a:lnTo>
                  <a:lnTo>
                    <a:pt x="7" y="617"/>
                  </a:lnTo>
                  <a:lnTo>
                    <a:pt x="6" y="615"/>
                  </a:lnTo>
                  <a:lnTo>
                    <a:pt x="3" y="610"/>
                  </a:lnTo>
                  <a:lnTo>
                    <a:pt x="1" y="606"/>
                  </a:lnTo>
                  <a:lnTo>
                    <a:pt x="0" y="602"/>
                  </a:lnTo>
                  <a:lnTo>
                    <a:pt x="0" y="599"/>
                  </a:lnTo>
                  <a:lnTo>
                    <a:pt x="1" y="595"/>
                  </a:lnTo>
                  <a:lnTo>
                    <a:pt x="3" y="593"/>
                  </a:lnTo>
                  <a:lnTo>
                    <a:pt x="6" y="591"/>
                  </a:lnTo>
                  <a:lnTo>
                    <a:pt x="12" y="590"/>
                  </a:lnTo>
                  <a:lnTo>
                    <a:pt x="53" y="573"/>
                  </a:lnTo>
                  <a:lnTo>
                    <a:pt x="94" y="555"/>
                  </a:lnTo>
                  <a:lnTo>
                    <a:pt x="137" y="535"/>
                  </a:lnTo>
                  <a:lnTo>
                    <a:pt x="179" y="515"/>
                  </a:lnTo>
                  <a:lnTo>
                    <a:pt x="221" y="493"/>
                  </a:lnTo>
                  <a:lnTo>
                    <a:pt x="265" y="469"/>
                  </a:lnTo>
                  <a:lnTo>
                    <a:pt x="308" y="445"/>
                  </a:lnTo>
                  <a:lnTo>
                    <a:pt x="352" y="420"/>
                  </a:lnTo>
                  <a:lnTo>
                    <a:pt x="357" y="418"/>
                  </a:lnTo>
                  <a:lnTo>
                    <a:pt x="362" y="420"/>
                  </a:lnTo>
                  <a:lnTo>
                    <a:pt x="365" y="421"/>
                  </a:lnTo>
                  <a:lnTo>
                    <a:pt x="369" y="423"/>
                  </a:lnTo>
                  <a:lnTo>
                    <a:pt x="371" y="425"/>
                  </a:lnTo>
                  <a:lnTo>
                    <a:pt x="372" y="429"/>
                  </a:lnTo>
                  <a:lnTo>
                    <a:pt x="372" y="434"/>
                  </a:lnTo>
                  <a:lnTo>
                    <a:pt x="372" y="440"/>
                  </a:lnTo>
                  <a:lnTo>
                    <a:pt x="354" y="455"/>
                  </a:lnTo>
                  <a:lnTo>
                    <a:pt x="331" y="475"/>
                  </a:lnTo>
                  <a:lnTo>
                    <a:pt x="304" y="500"/>
                  </a:lnTo>
                  <a:lnTo>
                    <a:pt x="271" y="530"/>
                  </a:lnTo>
                  <a:lnTo>
                    <a:pt x="234" y="564"/>
                  </a:lnTo>
                  <a:lnTo>
                    <a:pt x="200" y="593"/>
                  </a:lnTo>
                  <a:lnTo>
                    <a:pt x="170" y="620"/>
                  </a:lnTo>
                  <a:lnTo>
                    <a:pt x="144" y="643"/>
                  </a:lnTo>
                  <a:lnTo>
                    <a:pt x="121" y="664"/>
                  </a:lnTo>
                  <a:lnTo>
                    <a:pt x="101" y="681"/>
                  </a:lnTo>
                  <a:lnTo>
                    <a:pt x="85" y="695"/>
                  </a:lnTo>
                  <a:lnTo>
                    <a:pt x="71" y="705"/>
                  </a:lnTo>
                  <a:close/>
                  <a:moveTo>
                    <a:pt x="111" y="195"/>
                  </a:moveTo>
                  <a:lnTo>
                    <a:pt x="143" y="200"/>
                  </a:lnTo>
                  <a:lnTo>
                    <a:pt x="172" y="207"/>
                  </a:lnTo>
                  <a:lnTo>
                    <a:pt x="197" y="212"/>
                  </a:lnTo>
                  <a:lnTo>
                    <a:pt x="219" y="217"/>
                  </a:lnTo>
                  <a:lnTo>
                    <a:pt x="237" y="222"/>
                  </a:lnTo>
                  <a:lnTo>
                    <a:pt x="252" y="227"/>
                  </a:lnTo>
                  <a:lnTo>
                    <a:pt x="264" y="231"/>
                  </a:lnTo>
                  <a:lnTo>
                    <a:pt x="271" y="235"/>
                  </a:lnTo>
                  <a:lnTo>
                    <a:pt x="273" y="242"/>
                  </a:lnTo>
                  <a:lnTo>
                    <a:pt x="275" y="250"/>
                  </a:lnTo>
                  <a:lnTo>
                    <a:pt x="276" y="261"/>
                  </a:lnTo>
                  <a:lnTo>
                    <a:pt x="277" y="272"/>
                  </a:lnTo>
                  <a:lnTo>
                    <a:pt x="277" y="300"/>
                  </a:lnTo>
                  <a:lnTo>
                    <a:pt x="276" y="335"/>
                  </a:lnTo>
                  <a:lnTo>
                    <a:pt x="274" y="341"/>
                  </a:lnTo>
                  <a:lnTo>
                    <a:pt x="272" y="346"/>
                  </a:lnTo>
                  <a:lnTo>
                    <a:pt x="269" y="351"/>
                  </a:lnTo>
                  <a:lnTo>
                    <a:pt x="265" y="352"/>
                  </a:lnTo>
                  <a:lnTo>
                    <a:pt x="260" y="353"/>
                  </a:lnTo>
                  <a:lnTo>
                    <a:pt x="255" y="352"/>
                  </a:lnTo>
                  <a:lnTo>
                    <a:pt x="249" y="349"/>
                  </a:lnTo>
                  <a:lnTo>
                    <a:pt x="241" y="344"/>
                  </a:lnTo>
                  <a:lnTo>
                    <a:pt x="227" y="336"/>
                  </a:lnTo>
                  <a:lnTo>
                    <a:pt x="212" y="325"/>
                  </a:lnTo>
                  <a:lnTo>
                    <a:pt x="196" y="313"/>
                  </a:lnTo>
                  <a:lnTo>
                    <a:pt x="179" y="299"/>
                  </a:lnTo>
                  <a:lnTo>
                    <a:pt x="161" y="282"/>
                  </a:lnTo>
                  <a:lnTo>
                    <a:pt x="142" y="263"/>
                  </a:lnTo>
                  <a:lnTo>
                    <a:pt x="122" y="243"/>
                  </a:lnTo>
                  <a:lnTo>
                    <a:pt x="102" y="219"/>
                  </a:lnTo>
                  <a:lnTo>
                    <a:pt x="97" y="213"/>
                  </a:lnTo>
                  <a:lnTo>
                    <a:pt x="94" y="207"/>
                  </a:lnTo>
                  <a:lnTo>
                    <a:pt x="92" y="202"/>
                  </a:lnTo>
                  <a:lnTo>
                    <a:pt x="91" y="200"/>
                  </a:lnTo>
                  <a:lnTo>
                    <a:pt x="93" y="197"/>
                  </a:lnTo>
                  <a:lnTo>
                    <a:pt x="94" y="196"/>
                  </a:lnTo>
                  <a:lnTo>
                    <a:pt x="96" y="194"/>
                  </a:lnTo>
                  <a:lnTo>
                    <a:pt x="98" y="193"/>
                  </a:lnTo>
                  <a:lnTo>
                    <a:pt x="105" y="193"/>
                  </a:lnTo>
                  <a:lnTo>
                    <a:pt x="111" y="195"/>
                  </a:lnTo>
                  <a:close/>
                </a:path>
              </a:pathLst>
            </a:custGeom>
            <a:solidFill>
              <a:srgbClr val="ffff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00"/>
                </a:solidFill>
                <a:latin typeface="Arial"/>
                <a:ea typeface="宋体"/>
              </a:endParaRPr>
            </a:p>
          </p:txBody>
        </p:sp>
        <p:sp>
          <p:nvSpPr>
            <p:cNvPr id="518" name="Freeform 20"/>
            <p:cNvSpPr/>
            <p:nvPr/>
          </p:nvSpPr>
          <p:spPr>
            <a:xfrm>
              <a:off x="3945960" y="9453960"/>
              <a:ext cx="178560" cy="168840"/>
            </a:xfrm>
            <a:custGeom>
              <a:avLst/>
              <a:gdLst>
                <a:gd name="textAreaLeft" fmla="*/ 0 w 178560"/>
                <a:gd name="textAreaRight" fmla="*/ 178920 w 178560"/>
                <a:gd name="textAreaTop" fmla="*/ 0 h 168840"/>
                <a:gd name="textAreaBottom" fmla="*/ 169200 h 168840"/>
              </a:gdLst>
              <a:ahLst/>
              <a:rect l="textAreaLeft" t="textAreaTop" r="textAreaRight" b="textAreaBottom"/>
              <a:pathLst>
                <a:path w="1116" h="1113">
                  <a:moveTo>
                    <a:pt x="706" y="0"/>
                  </a:moveTo>
                  <a:lnTo>
                    <a:pt x="715" y="10"/>
                  </a:lnTo>
                  <a:lnTo>
                    <a:pt x="727" y="18"/>
                  </a:lnTo>
                  <a:lnTo>
                    <a:pt x="740" y="27"/>
                  </a:lnTo>
                  <a:lnTo>
                    <a:pt x="754" y="34"/>
                  </a:lnTo>
                  <a:lnTo>
                    <a:pt x="771" y="42"/>
                  </a:lnTo>
                  <a:lnTo>
                    <a:pt x="789" y="50"/>
                  </a:lnTo>
                  <a:lnTo>
                    <a:pt x="809" y="58"/>
                  </a:lnTo>
                  <a:lnTo>
                    <a:pt x="831" y="66"/>
                  </a:lnTo>
                  <a:lnTo>
                    <a:pt x="821" y="72"/>
                  </a:lnTo>
                  <a:lnTo>
                    <a:pt x="812" y="82"/>
                  </a:lnTo>
                  <a:lnTo>
                    <a:pt x="801" y="91"/>
                  </a:lnTo>
                  <a:lnTo>
                    <a:pt x="793" y="103"/>
                  </a:lnTo>
                  <a:lnTo>
                    <a:pt x="783" y="117"/>
                  </a:lnTo>
                  <a:lnTo>
                    <a:pt x="773" y="131"/>
                  </a:lnTo>
                  <a:lnTo>
                    <a:pt x="765" y="147"/>
                  </a:lnTo>
                  <a:lnTo>
                    <a:pt x="755" y="165"/>
                  </a:lnTo>
                  <a:lnTo>
                    <a:pt x="742" y="193"/>
                  </a:lnTo>
                  <a:lnTo>
                    <a:pt x="725" y="225"/>
                  </a:lnTo>
                  <a:lnTo>
                    <a:pt x="705" y="261"/>
                  </a:lnTo>
                  <a:lnTo>
                    <a:pt x="680" y="301"/>
                  </a:lnTo>
                  <a:lnTo>
                    <a:pt x="672" y="313"/>
                  </a:lnTo>
                  <a:lnTo>
                    <a:pt x="664" y="322"/>
                  </a:lnTo>
                  <a:lnTo>
                    <a:pt x="659" y="330"/>
                  </a:lnTo>
                  <a:lnTo>
                    <a:pt x="656" y="336"/>
                  </a:lnTo>
                  <a:lnTo>
                    <a:pt x="710" y="332"/>
                  </a:lnTo>
                  <a:lnTo>
                    <a:pt x="760" y="326"/>
                  </a:lnTo>
                  <a:lnTo>
                    <a:pt x="805" y="320"/>
                  </a:lnTo>
                  <a:lnTo>
                    <a:pt x="847" y="312"/>
                  </a:lnTo>
                  <a:lnTo>
                    <a:pt x="867" y="307"/>
                  </a:lnTo>
                  <a:lnTo>
                    <a:pt x="885" y="303"/>
                  </a:lnTo>
                  <a:lnTo>
                    <a:pt x="902" y="299"/>
                  </a:lnTo>
                  <a:lnTo>
                    <a:pt x="918" y="294"/>
                  </a:lnTo>
                  <a:lnTo>
                    <a:pt x="932" y="288"/>
                  </a:lnTo>
                  <a:lnTo>
                    <a:pt x="946" y="283"/>
                  </a:lnTo>
                  <a:lnTo>
                    <a:pt x="959" y="277"/>
                  </a:lnTo>
                  <a:lnTo>
                    <a:pt x="970" y="270"/>
                  </a:lnTo>
                  <a:lnTo>
                    <a:pt x="985" y="285"/>
                  </a:lnTo>
                  <a:lnTo>
                    <a:pt x="1000" y="297"/>
                  </a:lnTo>
                  <a:lnTo>
                    <a:pt x="1017" y="308"/>
                  </a:lnTo>
                  <a:lnTo>
                    <a:pt x="1035" y="317"/>
                  </a:lnTo>
                  <a:lnTo>
                    <a:pt x="1053" y="324"/>
                  </a:lnTo>
                  <a:lnTo>
                    <a:pt x="1073" y="330"/>
                  </a:lnTo>
                  <a:lnTo>
                    <a:pt x="1094" y="334"/>
                  </a:lnTo>
                  <a:lnTo>
                    <a:pt x="1116" y="336"/>
                  </a:lnTo>
                  <a:lnTo>
                    <a:pt x="1110" y="343"/>
                  </a:lnTo>
                  <a:lnTo>
                    <a:pt x="1104" y="352"/>
                  </a:lnTo>
                  <a:lnTo>
                    <a:pt x="1099" y="361"/>
                  </a:lnTo>
                  <a:lnTo>
                    <a:pt x="1093" y="372"/>
                  </a:lnTo>
                  <a:lnTo>
                    <a:pt x="1089" y="385"/>
                  </a:lnTo>
                  <a:lnTo>
                    <a:pt x="1085" y="397"/>
                  </a:lnTo>
                  <a:lnTo>
                    <a:pt x="1081" y="411"/>
                  </a:lnTo>
                  <a:lnTo>
                    <a:pt x="1077" y="427"/>
                  </a:lnTo>
                  <a:lnTo>
                    <a:pt x="1071" y="461"/>
                  </a:lnTo>
                  <a:lnTo>
                    <a:pt x="1066" y="500"/>
                  </a:lnTo>
                  <a:lnTo>
                    <a:pt x="1063" y="543"/>
                  </a:lnTo>
                  <a:lnTo>
                    <a:pt x="1061" y="591"/>
                  </a:lnTo>
                  <a:lnTo>
                    <a:pt x="1059" y="609"/>
                  </a:lnTo>
                  <a:lnTo>
                    <a:pt x="1058" y="631"/>
                  </a:lnTo>
                  <a:lnTo>
                    <a:pt x="1057" y="653"/>
                  </a:lnTo>
                  <a:lnTo>
                    <a:pt x="1056" y="678"/>
                  </a:lnTo>
                  <a:lnTo>
                    <a:pt x="1054" y="706"/>
                  </a:lnTo>
                  <a:lnTo>
                    <a:pt x="1053" y="735"/>
                  </a:lnTo>
                  <a:lnTo>
                    <a:pt x="1052" y="767"/>
                  </a:lnTo>
                  <a:lnTo>
                    <a:pt x="1051" y="801"/>
                  </a:lnTo>
                  <a:lnTo>
                    <a:pt x="1047" y="879"/>
                  </a:lnTo>
                  <a:lnTo>
                    <a:pt x="1044" y="944"/>
                  </a:lnTo>
                  <a:lnTo>
                    <a:pt x="1039" y="999"/>
                  </a:lnTo>
                  <a:lnTo>
                    <a:pt x="1036" y="1044"/>
                  </a:lnTo>
                  <a:lnTo>
                    <a:pt x="1032" y="1077"/>
                  </a:lnTo>
                  <a:lnTo>
                    <a:pt x="1029" y="1099"/>
                  </a:lnTo>
                  <a:lnTo>
                    <a:pt x="1027" y="1106"/>
                  </a:lnTo>
                  <a:lnTo>
                    <a:pt x="1024" y="1111"/>
                  </a:lnTo>
                  <a:lnTo>
                    <a:pt x="1023" y="1112"/>
                  </a:lnTo>
                  <a:lnTo>
                    <a:pt x="1022" y="1113"/>
                  </a:lnTo>
                  <a:lnTo>
                    <a:pt x="1021" y="1113"/>
                  </a:lnTo>
                  <a:lnTo>
                    <a:pt x="1021" y="1112"/>
                  </a:lnTo>
                  <a:lnTo>
                    <a:pt x="1011" y="1111"/>
                  </a:lnTo>
                  <a:lnTo>
                    <a:pt x="1001" y="1110"/>
                  </a:lnTo>
                  <a:lnTo>
                    <a:pt x="990" y="1106"/>
                  </a:lnTo>
                  <a:lnTo>
                    <a:pt x="978" y="1103"/>
                  </a:lnTo>
                  <a:lnTo>
                    <a:pt x="965" y="1099"/>
                  </a:lnTo>
                  <a:lnTo>
                    <a:pt x="951" y="1093"/>
                  </a:lnTo>
                  <a:lnTo>
                    <a:pt x="938" y="1086"/>
                  </a:lnTo>
                  <a:lnTo>
                    <a:pt x="924" y="1079"/>
                  </a:lnTo>
                  <a:lnTo>
                    <a:pt x="892" y="1061"/>
                  </a:lnTo>
                  <a:lnTo>
                    <a:pt x="858" y="1039"/>
                  </a:lnTo>
                  <a:lnTo>
                    <a:pt x="821" y="1012"/>
                  </a:lnTo>
                  <a:lnTo>
                    <a:pt x="781" y="981"/>
                  </a:lnTo>
                  <a:lnTo>
                    <a:pt x="775" y="972"/>
                  </a:lnTo>
                  <a:lnTo>
                    <a:pt x="769" y="965"/>
                  </a:lnTo>
                  <a:lnTo>
                    <a:pt x="767" y="960"/>
                  </a:lnTo>
                  <a:lnTo>
                    <a:pt x="766" y="956"/>
                  </a:lnTo>
                  <a:lnTo>
                    <a:pt x="767" y="954"/>
                  </a:lnTo>
                  <a:lnTo>
                    <a:pt x="769" y="952"/>
                  </a:lnTo>
                  <a:lnTo>
                    <a:pt x="772" y="951"/>
                  </a:lnTo>
                  <a:lnTo>
                    <a:pt x="776" y="950"/>
                  </a:lnTo>
                  <a:lnTo>
                    <a:pt x="784" y="950"/>
                  </a:lnTo>
                  <a:lnTo>
                    <a:pt x="796" y="952"/>
                  </a:lnTo>
                  <a:lnTo>
                    <a:pt x="818" y="954"/>
                  </a:lnTo>
                  <a:lnTo>
                    <a:pt x="843" y="955"/>
                  </a:lnTo>
                  <a:lnTo>
                    <a:pt x="873" y="956"/>
                  </a:lnTo>
                  <a:lnTo>
                    <a:pt x="906" y="956"/>
                  </a:lnTo>
                  <a:lnTo>
                    <a:pt x="914" y="955"/>
                  </a:lnTo>
                  <a:lnTo>
                    <a:pt x="921" y="952"/>
                  </a:lnTo>
                  <a:lnTo>
                    <a:pt x="927" y="948"/>
                  </a:lnTo>
                  <a:lnTo>
                    <a:pt x="932" y="944"/>
                  </a:lnTo>
                  <a:lnTo>
                    <a:pt x="936" y="938"/>
                  </a:lnTo>
                  <a:lnTo>
                    <a:pt x="939" y="932"/>
                  </a:lnTo>
                  <a:lnTo>
                    <a:pt x="940" y="924"/>
                  </a:lnTo>
                  <a:lnTo>
                    <a:pt x="941" y="917"/>
                  </a:lnTo>
                  <a:lnTo>
                    <a:pt x="943" y="891"/>
                  </a:lnTo>
                  <a:lnTo>
                    <a:pt x="946" y="859"/>
                  </a:lnTo>
                  <a:lnTo>
                    <a:pt x="949" y="820"/>
                  </a:lnTo>
                  <a:lnTo>
                    <a:pt x="952" y="774"/>
                  </a:lnTo>
                  <a:lnTo>
                    <a:pt x="956" y="720"/>
                  </a:lnTo>
                  <a:lnTo>
                    <a:pt x="959" y="659"/>
                  </a:lnTo>
                  <a:lnTo>
                    <a:pt x="962" y="591"/>
                  </a:lnTo>
                  <a:lnTo>
                    <a:pt x="966" y="516"/>
                  </a:lnTo>
                  <a:lnTo>
                    <a:pt x="968" y="469"/>
                  </a:lnTo>
                  <a:lnTo>
                    <a:pt x="970" y="429"/>
                  </a:lnTo>
                  <a:lnTo>
                    <a:pt x="974" y="396"/>
                  </a:lnTo>
                  <a:lnTo>
                    <a:pt x="976" y="371"/>
                  </a:lnTo>
                  <a:lnTo>
                    <a:pt x="977" y="366"/>
                  </a:lnTo>
                  <a:lnTo>
                    <a:pt x="977" y="362"/>
                  </a:lnTo>
                  <a:lnTo>
                    <a:pt x="976" y="359"/>
                  </a:lnTo>
                  <a:lnTo>
                    <a:pt x="975" y="357"/>
                  </a:lnTo>
                  <a:lnTo>
                    <a:pt x="973" y="355"/>
                  </a:lnTo>
                  <a:lnTo>
                    <a:pt x="969" y="355"/>
                  </a:lnTo>
                  <a:lnTo>
                    <a:pt x="965" y="355"/>
                  </a:lnTo>
                  <a:lnTo>
                    <a:pt x="961" y="356"/>
                  </a:lnTo>
                  <a:lnTo>
                    <a:pt x="932" y="358"/>
                  </a:lnTo>
                  <a:lnTo>
                    <a:pt x="903" y="362"/>
                  </a:lnTo>
                  <a:lnTo>
                    <a:pt x="871" y="367"/>
                  </a:lnTo>
                  <a:lnTo>
                    <a:pt x="838" y="372"/>
                  </a:lnTo>
                  <a:lnTo>
                    <a:pt x="804" y="378"/>
                  </a:lnTo>
                  <a:lnTo>
                    <a:pt x="767" y="385"/>
                  </a:lnTo>
                  <a:lnTo>
                    <a:pt x="730" y="392"/>
                  </a:lnTo>
                  <a:lnTo>
                    <a:pt x="691" y="401"/>
                  </a:lnTo>
                  <a:lnTo>
                    <a:pt x="682" y="394"/>
                  </a:lnTo>
                  <a:lnTo>
                    <a:pt x="671" y="385"/>
                  </a:lnTo>
                  <a:lnTo>
                    <a:pt x="657" y="372"/>
                  </a:lnTo>
                  <a:lnTo>
                    <a:pt x="641" y="356"/>
                  </a:lnTo>
                  <a:lnTo>
                    <a:pt x="626" y="375"/>
                  </a:lnTo>
                  <a:lnTo>
                    <a:pt x="609" y="397"/>
                  </a:lnTo>
                  <a:lnTo>
                    <a:pt x="589" y="423"/>
                  </a:lnTo>
                  <a:lnTo>
                    <a:pt x="566" y="450"/>
                  </a:lnTo>
                  <a:lnTo>
                    <a:pt x="562" y="458"/>
                  </a:lnTo>
                  <a:lnTo>
                    <a:pt x="561" y="461"/>
                  </a:lnTo>
                  <a:lnTo>
                    <a:pt x="553" y="468"/>
                  </a:lnTo>
                  <a:lnTo>
                    <a:pt x="546" y="475"/>
                  </a:lnTo>
                  <a:lnTo>
                    <a:pt x="537" y="480"/>
                  </a:lnTo>
                  <a:lnTo>
                    <a:pt x="530" y="485"/>
                  </a:lnTo>
                  <a:lnTo>
                    <a:pt x="521" y="491"/>
                  </a:lnTo>
                  <a:lnTo>
                    <a:pt x="513" y="495"/>
                  </a:lnTo>
                  <a:lnTo>
                    <a:pt x="504" y="498"/>
                  </a:lnTo>
                  <a:lnTo>
                    <a:pt x="496" y="500"/>
                  </a:lnTo>
                  <a:lnTo>
                    <a:pt x="511" y="504"/>
                  </a:lnTo>
                  <a:lnTo>
                    <a:pt x="526" y="509"/>
                  </a:lnTo>
                  <a:lnTo>
                    <a:pt x="540" y="514"/>
                  </a:lnTo>
                  <a:lnTo>
                    <a:pt x="556" y="520"/>
                  </a:lnTo>
                  <a:lnTo>
                    <a:pt x="585" y="516"/>
                  </a:lnTo>
                  <a:lnTo>
                    <a:pt x="610" y="510"/>
                  </a:lnTo>
                  <a:lnTo>
                    <a:pt x="635" y="504"/>
                  </a:lnTo>
                  <a:lnTo>
                    <a:pt x="656" y="498"/>
                  </a:lnTo>
                  <a:lnTo>
                    <a:pt x="675" y="492"/>
                  </a:lnTo>
                  <a:lnTo>
                    <a:pt x="691" y="485"/>
                  </a:lnTo>
                  <a:lnTo>
                    <a:pt x="705" y="478"/>
                  </a:lnTo>
                  <a:lnTo>
                    <a:pt x="716" y="471"/>
                  </a:lnTo>
                  <a:lnTo>
                    <a:pt x="730" y="481"/>
                  </a:lnTo>
                  <a:lnTo>
                    <a:pt x="744" y="491"/>
                  </a:lnTo>
                  <a:lnTo>
                    <a:pt x="759" y="499"/>
                  </a:lnTo>
                  <a:lnTo>
                    <a:pt x="775" y="507"/>
                  </a:lnTo>
                  <a:lnTo>
                    <a:pt x="790" y="513"/>
                  </a:lnTo>
                  <a:lnTo>
                    <a:pt x="806" y="518"/>
                  </a:lnTo>
                  <a:lnTo>
                    <a:pt x="823" y="522"/>
                  </a:lnTo>
                  <a:lnTo>
                    <a:pt x="840" y="526"/>
                  </a:lnTo>
                  <a:lnTo>
                    <a:pt x="835" y="537"/>
                  </a:lnTo>
                  <a:lnTo>
                    <a:pt x="830" y="549"/>
                  </a:lnTo>
                  <a:lnTo>
                    <a:pt x="825" y="562"/>
                  </a:lnTo>
                  <a:lnTo>
                    <a:pt x="822" y="574"/>
                  </a:lnTo>
                  <a:lnTo>
                    <a:pt x="819" y="588"/>
                  </a:lnTo>
                  <a:lnTo>
                    <a:pt x="817" y="602"/>
                  </a:lnTo>
                  <a:lnTo>
                    <a:pt x="816" y="616"/>
                  </a:lnTo>
                  <a:lnTo>
                    <a:pt x="816" y="631"/>
                  </a:lnTo>
                  <a:lnTo>
                    <a:pt x="815" y="650"/>
                  </a:lnTo>
                  <a:lnTo>
                    <a:pt x="814" y="670"/>
                  </a:lnTo>
                  <a:lnTo>
                    <a:pt x="813" y="691"/>
                  </a:lnTo>
                  <a:lnTo>
                    <a:pt x="812" y="712"/>
                  </a:lnTo>
                  <a:lnTo>
                    <a:pt x="812" y="734"/>
                  </a:lnTo>
                  <a:lnTo>
                    <a:pt x="812" y="758"/>
                  </a:lnTo>
                  <a:lnTo>
                    <a:pt x="811" y="781"/>
                  </a:lnTo>
                  <a:lnTo>
                    <a:pt x="811" y="806"/>
                  </a:lnTo>
                  <a:lnTo>
                    <a:pt x="808" y="832"/>
                  </a:lnTo>
                  <a:lnTo>
                    <a:pt x="807" y="855"/>
                  </a:lnTo>
                  <a:lnTo>
                    <a:pt x="806" y="874"/>
                  </a:lnTo>
                  <a:lnTo>
                    <a:pt x="805" y="891"/>
                  </a:lnTo>
                  <a:lnTo>
                    <a:pt x="805" y="898"/>
                  </a:lnTo>
                  <a:lnTo>
                    <a:pt x="804" y="904"/>
                  </a:lnTo>
                  <a:lnTo>
                    <a:pt x="803" y="908"/>
                  </a:lnTo>
                  <a:lnTo>
                    <a:pt x="801" y="911"/>
                  </a:lnTo>
                  <a:lnTo>
                    <a:pt x="796" y="912"/>
                  </a:lnTo>
                  <a:lnTo>
                    <a:pt x="790" y="912"/>
                  </a:lnTo>
                  <a:lnTo>
                    <a:pt x="786" y="910"/>
                  </a:lnTo>
                  <a:lnTo>
                    <a:pt x="781" y="906"/>
                  </a:lnTo>
                  <a:lnTo>
                    <a:pt x="775" y="902"/>
                  </a:lnTo>
                  <a:lnTo>
                    <a:pt x="768" y="897"/>
                  </a:lnTo>
                  <a:lnTo>
                    <a:pt x="762" y="890"/>
                  </a:lnTo>
                  <a:lnTo>
                    <a:pt x="754" y="884"/>
                  </a:lnTo>
                  <a:lnTo>
                    <a:pt x="741" y="867"/>
                  </a:lnTo>
                  <a:lnTo>
                    <a:pt x="726" y="846"/>
                  </a:lnTo>
                  <a:lnTo>
                    <a:pt x="711" y="847"/>
                  </a:lnTo>
                  <a:lnTo>
                    <a:pt x="693" y="848"/>
                  </a:lnTo>
                  <a:lnTo>
                    <a:pt x="672" y="849"/>
                  </a:lnTo>
                  <a:lnTo>
                    <a:pt x="645" y="851"/>
                  </a:lnTo>
                  <a:lnTo>
                    <a:pt x="620" y="851"/>
                  </a:lnTo>
                  <a:lnTo>
                    <a:pt x="599" y="852"/>
                  </a:lnTo>
                  <a:lnTo>
                    <a:pt x="580" y="854"/>
                  </a:lnTo>
                  <a:lnTo>
                    <a:pt x="566" y="856"/>
                  </a:lnTo>
                  <a:lnTo>
                    <a:pt x="566" y="891"/>
                  </a:lnTo>
                  <a:lnTo>
                    <a:pt x="566" y="901"/>
                  </a:lnTo>
                  <a:lnTo>
                    <a:pt x="565" y="907"/>
                  </a:lnTo>
                  <a:lnTo>
                    <a:pt x="563" y="912"/>
                  </a:lnTo>
                  <a:lnTo>
                    <a:pt x="561" y="917"/>
                  </a:lnTo>
                  <a:lnTo>
                    <a:pt x="557" y="918"/>
                  </a:lnTo>
                  <a:lnTo>
                    <a:pt x="554" y="918"/>
                  </a:lnTo>
                  <a:lnTo>
                    <a:pt x="550" y="916"/>
                  </a:lnTo>
                  <a:lnTo>
                    <a:pt x="546" y="911"/>
                  </a:lnTo>
                  <a:lnTo>
                    <a:pt x="525" y="894"/>
                  </a:lnTo>
                  <a:lnTo>
                    <a:pt x="507" y="879"/>
                  </a:lnTo>
                  <a:lnTo>
                    <a:pt x="492" y="865"/>
                  </a:lnTo>
                  <a:lnTo>
                    <a:pt x="481" y="851"/>
                  </a:lnTo>
                  <a:lnTo>
                    <a:pt x="483" y="848"/>
                  </a:lnTo>
                  <a:lnTo>
                    <a:pt x="485" y="844"/>
                  </a:lnTo>
                  <a:lnTo>
                    <a:pt x="487" y="837"/>
                  </a:lnTo>
                  <a:lnTo>
                    <a:pt x="490" y="830"/>
                  </a:lnTo>
                  <a:lnTo>
                    <a:pt x="493" y="810"/>
                  </a:lnTo>
                  <a:lnTo>
                    <a:pt x="496" y="785"/>
                  </a:lnTo>
                  <a:lnTo>
                    <a:pt x="498" y="753"/>
                  </a:lnTo>
                  <a:lnTo>
                    <a:pt x="499" y="717"/>
                  </a:lnTo>
                  <a:lnTo>
                    <a:pt x="500" y="674"/>
                  </a:lnTo>
                  <a:lnTo>
                    <a:pt x="501" y="626"/>
                  </a:lnTo>
                  <a:lnTo>
                    <a:pt x="499" y="614"/>
                  </a:lnTo>
                  <a:lnTo>
                    <a:pt x="496" y="596"/>
                  </a:lnTo>
                  <a:lnTo>
                    <a:pt x="495" y="581"/>
                  </a:lnTo>
                  <a:lnTo>
                    <a:pt x="495" y="566"/>
                  </a:lnTo>
                  <a:lnTo>
                    <a:pt x="494" y="553"/>
                  </a:lnTo>
                  <a:lnTo>
                    <a:pt x="492" y="540"/>
                  </a:lnTo>
                  <a:lnTo>
                    <a:pt x="490" y="530"/>
                  </a:lnTo>
                  <a:lnTo>
                    <a:pt x="487" y="521"/>
                  </a:lnTo>
                  <a:lnTo>
                    <a:pt x="484" y="513"/>
                  </a:lnTo>
                  <a:lnTo>
                    <a:pt x="481" y="506"/>
                  </a:lnTo>
                  <a:lnTo>
                    <a:pt x="472" y="506"/>
                  </a:lnTo>
                  <a:lnTo>
                    <a:pt x="462" y="504"/>
                  </a:lnTo>
                  <a:lnTo>
                    <a:pt x="453" y="503"/>
                  </a:lnTo>
                  <a:lnTo>
                    <a:pt x="442" y="501"/>
                  </a:lnTo>
                  <a:lnTo>
                    <a:pt x="420" y="495"/>
                  </a:lnTo>
                  <a:lnTo>
                    <a:pt x="395" y="485"/>
                  </a:lnTo>
                  <a:lnTo>
                    <a:pt x="417" y="471"/>
                  </a:lnTo>
                  <a:lnTo>
                    <a:pt x="438" y="454"/>
                  </a:lnTo>
                  <a:lnTo>
                    <a:pt x="458" y="437"/>
                  </a:lnTo>
                  <a:lnTo>
                    <a:pt x="477" y="419"/>
                  </a:lnTo>
                  <a:lnTo>
                    <a:pt x="496" y="400"/>
                  </a:lnTo>
                  <a:lnTo>
                    <a:pt x="515" y="380"/>
                  </a:lnTo>
                  <a:lnTo>
                    <a:pt x="533" y="359"/>
                  </a:lnTo>
                  <a:lnTo>
                    <a:pt x="551" y="338"/>
                  </a:lnTo>
                  <a:lnTo>
                    <a:pt x="568" y="316"/>
                  </a:lnTo>
                  <a:lnTo>
                    <a:pt x="585" y="292"/>
                  </a:lnTo>
                  <a:lnTo>
                    <a:pt x="601" y="269"/>
                  </a:lnTo>
                  <a:lnTo>
                    <a:pt x="617" y="244"/>
                  </a:lnTo>
                  <a:lnTo>
                    <a:pt x="633" y="218"/>
                  </a:lnTo>
                  <a:lnTo>
                    <a:pt x="647" y="192"/>
                  </a:lnTo>
                  <a:lnTo>
                    <a:pt x="662" y="164"/>
                  </a:lnTo>
                  <a:lnTo>
                    <a:pt x="676" y="136"/>
                  </a:lnTo>
                  <a:lnTo>
                    <a:pt x="683" y="116"/>
                  </a:lnTo>
                  <a:lnTo>
                    <a:pt x="691" y="98"/>
                  </a:lnTo>
                  <a:lnTo>
                    <a:pt x="696" y="79"/>
                  </a:lnTo>
                  <a:lnTo>
                    <a:pt x="700" y="61"/>
                  </a:lnTo>
                  <a:lnTo>
                    <a:pt x="704" y="46"/>
                  </a:lnTo>
                  <a:lnTo>
                    <a:pt x="706" y="30"/>
                  </a:lnTo>
                  <a:lnTo>
                    <a:pt x="707" y="15"/>
                  </a:lnTo>
                  <a:lnTo>
                    <a:pt x="706" y="0"/>
                  </a:lnTo>
                  <a:close/>
                  <a:moveTo>
                    <a:pt x="320" y="571"/>
                  </a:moveTo>
                  <a:lnTo>
                    <a:pt x="320" y="583"/>
                  </a:lnTo>
                  <a:lnTo>
                    <a:pt x="319" y="600"/>
                  </a:lnTo>
                  <a:lnTo>
                    <a:pt x="318" y="621"/>
                  </a:lnTo>
                  <a:lnTo>
                    <a:pt x="316" y="645"/>
                  </a:lnTo>
                  <a:lnTo>
                    <a:pt x="312" y="679"/>
                  </a:lnTo>
                  <a:lnTo>
                    <a:pt x="308" y="710"/>
                  </a:lnTo>
                  <a:lnTo>
                    <a:pt x="305" y="739"/>
                  </a:lnTo>
                  <a:lnTo>
                    <a:pt x="303" y="764"/>
                  </a:lnTo>
                  <a:lnTo>
                    <a:pt x="301" y="786"/>
                  </a:lnTo>
                  <a:lnTo>
                    <a:pt x="299" y="805"/>
                  </a:lnTo>
                  <a:lnTo>
                    <a:pt x="297" y="822"/>
                  </a:lnTo>
                  <a:lnTo>
                    <a:pt x="296" y="836"/>
                  </a:lnTo>
                  <a:lnTo>
                    <a:pt x="310" y="828"/>
                  </a:lnTo>
                  <a:lnTo>
                    <a:pt x="329" y="818"/>
                  </a:lnTo>
                  <a:lnTo>
                    <a:pt x="350" y="808"/>
                  </a:lnTo>
                  <a:lnTo>
                    <a:pt x="375" y="796"/>
                  </a:lnTo>
                  <a:lnTo>
                    <a:pt x="388" y="790"/>
                  </a:lnTo>
                  <a:lnTo>
                    <a:pt x="399" y="783"/>
                  </a:lnTo>
                  <a:lnTo>
                    <a:pt x="407" y="779"/>
                  </a:lnTo>
                  <a:lnTo>
                    <a:pt x="415" y="776"/>
                  </a:lnTo>
                  <a:lnTo>
                    <a:pt x="425" y="771"/>
                  </a:lnTo>
                  <a:lnTo>
                    <a:pt x="433" y="768"/>
                  </a:lnTo>
                  <a:lnTo>
                    <a:pt x="441" y="765"/>
                  </a:lnTo>
                  <a:lnTo>
                    <a:pt x="448" y="763"/>
                  </a:lnTo>
                  <a:lnTo>
                    <a:pt x="454" y="763"/>
                  </a:lnTo>
                  <a:lnTo>
                    <a:pt x="459" y="763"/>
                  </a:lnTo>
                  <a:lnTo>
                    <a:pt x="463" y="764"/>
                  </a:lnTo>
                  <a:lnTo>
                    <a:pt x="466" y="766"/>
                  </a:lnTo>
                  <a:lnTo>
                    <a:pt x="466" y="770"/>
                  </a:lnTo>
                  <a:lnTo>
                    <a:pt x="466" y="775"/>
                  </a:lnTo>
                  <a:lnTo>
                    <a:pt x="464" y="780"/>
                  </a:lnTo>
                  <a:lnTo>
                    <a:pt x="462" y="785"/>
                  </a:lnTo>
                  <a:lnTo>
                    <a:pt x="458" y="791"/>
                  </a:lnTo>
                  <a:lnTo>
                    <a:pt x="454" y="797"/>
                  </a:lnTo>
                  <a:lnTo>
                    <a:pt x="447" y="804"/>
                  </a:lnTo>
                  <a:lnTo>
                    <a:pt x="441" y="811"/>
                  </a:lnTo>
                  <a:lnTo>
                    <a:pt x="411" y="837"/>
                  </a:lnTo>
                  <a:lnTo>
                    <a:pt x="383" y="864"/>
                  </a:lnTo>
                  <a:lnTo>
                    <a:pt x="355" y="890"/>
                  </a:lnTo>
                  <a:lnTo>
                    <a:pt x="328" y="917"/>
                  </a:lnTo>
                  <a:lnTo>
                    <a:pt x="302" y="942"/>
                  </a:lnTo>
                  <a:lnTo>
                    <a:pt x="278" y="969"/>
                  </a:lnTo>
                  <a:lnTo>
                    <a:pt x="253" y="995"/>
                  </a:lnTo>
                  <a:lnTo>
                    <a:pt x="230" y="1022"/>
                  </a:lnTo>
                  <a:lnTo>
                    <a:pt x="224" y="1004"/>
                  </a:lnTo>
                  <a:lnTo>
                    <a:pt x="216" y="986"/>
                  </a:lnTo>
                  <a:lnTo>
                    <a:pt x="208" y="970"/>
                  </a:lnTo>
                  <a:lnTo>
                    <a:pt x="199" y="955"/>
                  </a:lnTo>
                  <a:lnTo>
                    <a:pt x="190" y="941"/>
                  </a:lnTo>
                  <a:lnTo>
                    <a:pt x="179" y="928"/>
                  </a:lnTo>
                  <a:lnTo>
                    <a:pt x="168" y="917"/>
                  </a:lnTo>
                  <a:lnTo>
                    <a:pt x="156" y="906"/>
                  </a:lnTo>
                  <a:lnTo>
                    <a:pt x="170" y="894"/>
                  </a:lnTo>
                  <a:lnTo>
                    <a:pt x="182" y="882"/>
                  </a:lnTo>
                  <a:lnTo>
                    <a:pt x="193" y="868"/>
                  </a:lnTo>
                  <a:lnTo>
                    <a:pt x="203" y="852"/>
                  </a:lnTo>
                  <a:lnTo>
                    <a:pt x="211" y="836"/>
                  </a:lnTo>
                  <a:lnTo>
                    <a:pt x="217" y="819"/>
                  </a:lnTo>
                  <a:lnTo>
                    <a:pt x="223" y="800"/>
                  </a:lnTo>
                  <a:lnTo>
                    <a:pt x="226" y="781"/>
                  </a:lnTo>
                  <a:lnTo>
                    <a:pt x="231" y="721"/>
                  </a:lnTo>
                  <a:lnTo>
                    <a:pt x="236" y="667"/>
                  </a:lnTo>
                  <a:lnTo>
                    <a:pt x="241" y="617"/>
                  </a:lnTo>
                  <a:lnTo>
                    <a:pt x="244" y="572"/>
                  </a:lnTo>
                  <a:lnTo>
                    <a:pt x="247" y="533"/>
                  </a:lnTo>
                  <a:lnTo>
                    <a:pt x="249" y="499"/>
                  </a:lnTo>
                  <a:lnTo>
                    <a:pt x="250" y="469"/>
                  </a:lnTo>
                  <a:lnTo>
                    <a:pt x="250" y="446"/>
                  </a:lnTo>
                  <a:lnTo>
                    <a:pt x="231" y="455"/>
                  </a:lnTo>
                  <a:lnTo>
                    <a:pt x="207" y="466"/>
                  </a:lnTo>
                  <a:lnTo>
                    <a:pt x="178" y="480"/>
                  </a:lnTo>
                  <a:lnTo>
                    <a:pt x="145" y="496"/>
                  </a:lnTo>
                  <a:lnTo>
                    <a:pt x="122" y="508"/>
                  </a:lnTo>
                  <a:lnTo>
                    <a:pt x="102" y="517"/>
                  </a:lnTo>
                  <a:lnTo>
                    <a:pt x="85" y="525"/>
                  </a:lnTo>
                  <a:lnTo>
                    <a:pt x="70" y="531"/>
                  </a:lnTo>
                  <a:lnTo>
                    <a:pt x="53" y="510"/>
                  </a:lnTo>
                  <a:lnTo>
                    <a:pt x="35" y="490"/>
                  </a:lnTo>
                  <a:lnTo>
                    <a:pt x="18" y="472"/>
                  </a:lnTo>
                  <a:lnTo>
                    <a:pt x="0" y="456"/>
                  </a:lnTo>
                  <a:lnTo>
                    <a:pt x="47" y="449"/>
                  </a:lnTo>
                  <a:lnTo>
                    <a:pt x="89" y="441"/>
                  </a:lnTo>
                  <a:lnTo>
                    <a:pt x="108" y="436"/>
                  </a:lnTo>
                  <a:lnTo>
                    <a:pt x="127" y="430"/>
                  </a:lnTo>
                  <a:lnTo>
                    <a:pt x="144" y="425"/>
                  </a:lnTo>
                  <a:lnTo>
                    <a:pt x="160" y="420"/>
                  </a:lnTo>
                  <a:lnTo>
                    <a:pt x="176" y="413"/>
                  </a:lnTo>
                  <a:lnTo>
                    <a:pt x="190" y="407"/>
                  </a:lnTo>
                  <a:lnTo>
                    <a:pt x="203" y="401"/>
                  </a:lnTo>
                  <a:lnTo>
                    <a:pt x="214" y="393"/>
                  </a:lnTo>
                  <a:lnTo>
                    <a:pt x="225" y="386"/>
                  </a:lnTo>
                  <a:lnTo>
                    <a:pt x="234" y="377"/>
                  </a:lnTo>
                  <a:lnTo>
                    <a:pt x="243" y="369"/>
                  </a:lnTo>
                  <a:lnTo>
                    <a:pt x="250" y="360"/>
                  </a:lnTo>
                  <a:lnTo>
                    <a:pt x="265" y="371"/>
                  </a:lnTo>
                  <a:lnTo>
                    <a:pt x="280" y="380"/>
                  </a:lnTo>
                  <a:lnTo>
                    <a:pt x="296" y="389"/>
                  </a:lnTo>
                  <a:lnTo>
                    <a:pt x="312" y="395"/>
                  </a:lnTo>
                  <a:lnTo>
                    <a:pt x="330" y="402"/>
                  </a:lnTo>
                  <a:lnTo>
                    <a:pt x="348" y="406"/>
                  </a:lnTo>
                  <a:lnTo>
                    <a:pt x="366" y="409"/>
                  </a:lnTo>
                  <a:lnTo>
                    <a:pt x="386" y="411"/>
                  </a:lnTo>
                  <a:lnTo>
                    <a:pt x="373" y="426"/>
                  </a:lnTo>
                  <a:lnTo>
                    <a:pt x="361" y="443"/>
                  </a:lnTo>
                  <a:lnTo>
                    <a:pt x="351" y="461"/>
                  </a:lnTo>
                  <a:lnTo>
                    <a:pt x="342" y="481"/>
                  </a:lnTo>
                  <a:lnTo>
                    <a:pt x="335" y="501"/>
                  </a:lnTo>
                  <a:lnTo>
                    <a:pt x="329" y="524"/>
                  </a:lnTo>
                  <a:lnTo>
                    <a:pt x="323" y="547"/>
                  </a:lnTo>
                  <a:lnTo>
                    <a:pt x="320" y="571"/>
                  </a:lnTo>
                  <a:close/>
                  <a:moveTo>
                    <a:pt x="566" y="711"/>
                  </a:moveTo>
                  <a:lnTo>
                    <a:pt x="566" y="816"/>
                  </a:lnTo>
                  <a:lnTo>
                    <a:pt x="579" y="815"/>
                  </a:lnTo>
                  <a:lnTo>
                    <a:pt x="596" y="811"/>
                  </a:lnTo>
                  <a:lnTo>
                    <a:pt x="624" y="806"/>
                  </a:lnTo>
                  <a:lnTo>
                    <a:pt x="653" y="801"/>
                  </a:lnTo>
                  <a:lnTo>
                    <a:pt x="683" y="796"/>
                  </a:lnTo>
                  <a:lnTo>
                    <a:pt x="716" y="792"/>
                  </a:lnTo>
                  <a:lnTo>
                    <a:pt x="716" y="788"/>
                  </a:lnTo>
                  <a:lnTo>
                    <a:pt x="716" y="781"/>
                  </a:lnTo>
                  <a:lnTo>
                    <a:pt x="718" y="776"/>
                  </a:lnTo>
                  <a:lnTo>
                    <a:pt x="719" y="771"/>
                  </a:lnTo>
                  <a:lnTo>
                    <a:pt x="721" y="766"/>
                  </a:lnTo>
                  <a:lnTo>
                    <a:pt x="721" y="761"/>
                  </a:lnTo>
                  <a:lnTo>
                    <a:pt x="723" y="735"/>
                  </a:lnTo>
                  <a:lnTo>
                    <a:pt x="725" y="710"/>
                  </a:lnTo>
                  <a:lnTo>
                    <a:pt x="726" y="685"/>
                  </a:lnTo>
                  <a:lnTo>
                    <a:pt x="726" y="658"/>
                  </a:lnTo>
                  <a:lnTo>
                    <a:pt x="726" y="632"/>
                  </a:lnTo>
                  <a:lnTo>
                    <a:pt x="725" y="605"/>
                  </a:lnTo>
                  <a:lnTo>
                    <a:pt x="723" y="579"/>
                  </a:lnTo>
                  <a:lnTo>
                    <a:pt x="721" y="551"/>
                  </a:lnTo>
                  <a:lnTo>
                    <a:pt x="717" y="545"/>
                  </a:lnTo>
                  <a:lnTo>
                    <a:pt x="713" y="539"/>
                  </a:lnTo>
                  <a:lnTo>
                    <a:pt x="711" y="538"/>
                  </a:lnTo>
                  <a:lnTo>
                    <a:pt x="708" y="537"/>
                  </a:lnTo>
                  <a:lnTo>
                    <a:pt x="705" y="536"/>
                  </a:lnTo>
                  <a:lnTo>
                    <a:pt x="700" y="536"/>
                  </a:lnTo>
                  <a:lnTo>
                    <a:pt x="670" y="544"/>
                  </a:lnTo>
                  <a:lnTo>
                    <a:pt x="637" y="551"/>
                  </a:lnTo>
                  <a:lnTo>
                    <a:pt x="602" y="558"/>
                  </a:lnTo>
                  <a:lnTo>
                    <a:pt x="566" y="566"/>
                  </a:lnTo>
                  <a:lnTo>
                    <a:pt x="566" y="661"/>
                  </a:lnTo>
                  <a:lnTo>
                    <a:pt x="585" y="658"/>
                  </a:lnTo>
                  <a:lnTo>
                    <a:pt x="607" y="654"/>
                  </a:lnTo>
                  <a:lnTo>
                    <a:pt x="633" y="648"/>
                  </a:lnTo>
                  <a:lnTo>
                    <a:pt x="661" y="641"/>
                  </a:lnTo>
                  <a:lnTo>
                    <a:pt x="673" y="637"/>
                  </a:lnTo>
                  <a:lnTo>
                    <a:pt x="680" y="636"/>
                  </a:lnTo>
                  <a:lnTo>
                    <a:pt x="684" y="641"/>
                  </a:lnTo>
                  <a:lnTo>
                    <a:pt x="692" y="652"/>
                  </a:lnTo>
                  <a:lnTo>
                    <a:pt x="703" y="669"/>
                  </a:lnTo>
                  <a:lnTo>
                    <a:pt x="716" y="691"/>
                  </a:lnTo>
                  <a:lnTo>
                    <a:pt x="707" y="691"/>
                  </a:lnTo>
                  <a:lnTo>
                    <a:pt x="691" y="691"/>
                  </a:lnTo>
                  <a:lnTo>
                    <a:pt x="653" y="696"/>
                  </a:lnTo>
                  <a:lnTo>
                    <a:pt x="620" y="700"/>
                  </a:lnTo>
                  <a:lnTo>
                    <a:pt x="590" y="706"/>
                  </a:lnTo>
                  <a:lnTo>
                    <a:pt x="566" y="711"/>
                  </a:lnTo>
                  <a:close/>
                  <a:moveTo>
                    <a:pt x="281" y="75"/>
                  </a:moveTo>
                  <a:lnTo>
                    <a:pt x="344" y="96"/>
                  </a:lnTo>
                  <a:lnTo>
                    <a:pt x="392" y="113"/>
                  </a:lnTo>
                  <a:lnTo>
                    <a:pt x="409" y="120"/>
                  </a:lnTo>
                  <a:lnTo>
                    <a:pt x="422" y="126"/>
                  </a:lnTo>
                  <a:lnTo>
                    <a:pt x="431" y="131"/>
                  </a:lnTo>
                  <a:lnTo>
                    <a:pt x="436" y="136"/>
                  </a:lnTo>
                  <a:lnTo>
                    <a:pt x="438" y="140"/>
                  </a:lnTo>
                  <a:lnTo>
                    <a:pt x="439" y="147"/>
                  </a:lnTo>
                  <a:lnTo>
                    <a:pt x="440" y="156"/>
                  </a:lnTo>
                  <a:lnTo>
                    <a:pt x="440" y="166"/>
                  </a:lnTo>
                  <a:lnTo>
                    <a:pt x="437" y="195"/>
                  </a:lnTo>
                  <a:lnTo>
                    <a:pt x="430" y="231"/>
                  </a:lnTo>
                  <a:lnTo>
                    <a:pt x="428" y="242"/>
                  </a:lnTo>
                  <a:lnTo>
                    <a:pt x="425" y="249"/>
                  </a:lnTo>
                  <a:lnTo>
                    <a:pt x="423" y="252"/>
                  </a:lnTo>
                  <a:lnTo>
                    <a:pt x="421" y="254"/>
                  </a:lnTo>
                  <a:lnTo>
                    <a:pt x="418" y="255"/>
                  </a:lnTo>
                  <a:lnTo>
                    <a:pt x="415" y="255"/>
                  </a:lnTo>
                  <a:lnTo>
                    <a:pt x="414" y="256"/>
                  </a:lnTo>
                  <a:lnTo>
                    <a:pt x="412" y="256"/>
                  </a:lnTo>
                  <a:lnTo>
                    <a:pt x="410" y="256"/>
                  </a:lnTo>
                  <a:lnTo>
                    <a:pt x="408" y="255"/>
                  </a:lnTo>
                  <a:lnTo>
                    <a:pt x="403" y="252"/>
                  </a:lnTo>
                  <a:lnTo>
                    <a:pt x="395" y="246"/>
                  </a:lnTo>
                  <a:lnTo>
                    <a:pt x="376" y="230"/>
                  </a:lnTo>
                  <a:lnTo>
                    <a:pt x="357" y="214"/>
                  </a:lnTo>
                  <a:lnTo>
                    <a:pt x="338" y="196"/>
                  </a:lnTo>
                  <a:lnTo>
                    <a:pt x="321" y="178"/>
                  </a:lnTo>
                  <a:lnTo>
                    <a:pt x="303" y="159"/>
                  </a:lnTo>
                  <a:lnTo>
                    <a:pt x="287" y="139"/>
                  </a:lnTo>
                  <a:lnTo>
                    <a:pt x="271" y="118"/>
                  </a:lnTo>
                  <a:lnTo>
                    <a:pt x="256" y="95"/>
                  </a:lnTo>
                  <a:lnTo>
                    <a:pt x="249" y="85"/>
                  </a:lnTo>
                  <a:lnTo>
                    <a:pt x="246" y="76"/>
                  </a:lnTo>
                  <a:lnTo>
                    <a:pt x="245" y="74"/>
                  </a:lnTo>
                  <a:lnTo>
                    <a:pt x="244" y="72"/>
                  </a:lnTo>
                  <a:lnTo>
                    <a:pt x="245" y="71"/>
                  </a:lnTo>
                  <a:lnTo>
                    <a:pt x="246" y="71"/>
                  </a:lnTo>
                  <a:lnTo>
                    <a:pt x="246" y="70"/>
                  </a:lnTo>
                  <a:lnTo>
                    <a:pt x="248" y="69"/>
                  </a:lnTo>
                  <a:lnTo>
                    <a:pt x="250" y="69"/>
                  </a:lnTo>
                  <a:lnTo>
                    <a:pt x="254" y="69"/>
                  </a:lnTo>
                  <a:lnTo>
                    <a:pt x="265" y="71"/>
                  </a:lnTo>
                  <a:lnTo>
                    <a:pt x="281" y="75"/>
                  </a:lnTo>
                  <a:close/>
                </a:path>
              </a:pathLst>
            </a:custGeom>
            <a:solidFill>
              <a:srgbClr val="ffff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00"/>
                </a:solidFill>
                <a:latin typeface="Arial"/>
                <a:ea typeface="宋体"/>
              </a:endParaRPr>
            </a:p>
          </p:txBody>
        </p:sp>
        <p:sp>
          <p:nvSpPr>
            <p:cNvPr id="519" name="Freeform 21"/>
            <p:cNvSpPr/>
            <p:nvPr/>
          </p:nvSpPr>
          <p:spPr>
            <a:xfrm>
              <a:off x="4142880" y="9450720"/>
              <a:ext cx="186480" cy="177120"/>
            </a:xfrm>
            <a:custGeom>
              <a:avLst/>
              <a:gdLst>
                <a:gd name="textAreaLeft" fmla="*/ 0 w 186480"/>
                <a:gd name="textAreaRight" fmla="*/ 186840 w 186480"/>
                <a:gd name="textAreaTop" fmla="*/ 0 h 177120"/>
                <a:gd name="textAreaBottom" fmla="*/ 177480 h 177120"/>
              </a:gdLst>
              <a:ahLst/>
              <a:rect l="textAreaLeft" t="textAreaTop" r="textAreaRight" b="textAreaBottom"/>
              <a:pathLst>
                <a:path w="1175" h="1166">
                  <a:moveTo>
                    <a:pt x="1135" y="165"/>
                  </a:moveTo>
                  <a:lnTo>
                    <a:pt x="1149" y="186"/>
                  </a:lnTo>
                  <a:lnTo>
                    <a:pt x="1158" y="202"/>
                  </a:lnTo>
                  <a:lnTo>
                    <a:pt x="1166" y="213"/>
                  </a:lnTo>
                  <a:lnTo>
                    <a:pt x="1170" y="221"/>
                  </a:lnTo>
                  <a:lnTo>
                    <a:pt x="1173" y="227"/>
                  </a:lnTo>
                  <a:lnTo>
                    <a:pt x="1175" y="232"/>
                  </a:lnTo>
                  <a:lnTo>
                    <a:pt x="1175" y="236"/>
                  </a:lnTo>
                  <a:lnTo>
                    <a:pt x="1174" y="241"/>
                  </a:lnTo>
                  <a:lnTo>
                    <a:pt x="1171" y="244"/>
                  </a:lnTo>
                  <a:lnTo>
                    <a:pt x="1167" y="247"/>
                  </a:lnTo>
                  <a:lnTo>
                    <a:pt x="1162" y="249"/>
                  </a:lnTo>
                  <a:lnTo>
                    <a:pt x="1155" y="250"/>
                  </a:lnTo>
                  <a:lnTo>
                    <a:pt x="1095" y="251"/>
                  </a:lnTo>
                  <a:lnTo>
                    <a:pt x="1031" y="253"/>
                  </a:lnTo>
                  <a:lnTo>
                    <a:pt x="963" y="257"/>
                  </a:lnTo>
                  <a:lnTo>
                    <a:pt x="889" y="262"/>
                  </a:lnTo>
                  <a:lnTo>
                    <a:pt x="811" y="268"/>
                  </a:lnTo>
                  <a:lnTo>
                    <a:pt x="728" y="276"/>
                  </a:lnTo>
                  <a:lnTo>
                    <a:pt x="642" y="285"/>
                  </a:lnTo>
                  <a:lnTo>
                    <a:pt x="551" y="296"/>
                  </a:lnTo>
                  <a:lnTo>
                    <a:pt x="541" y="316"/>
                  </a:lnTo>
                  <a:lnTo>
                    <a:pt x="533" y="336"/>
                  </a:lnTo>
                  <a:lnTo>
                    <a:pt x="522" y="355"/>
                  </a:lnTo>
                  <a:lnTo>
                    <a:pt x="512" y="375"/>
                  </a:lnTo>
                  <a:lnTo>
                    <a:pt x="503" y="395"/>
                  </a:lnTo>
                  <a:lnTo>
                    <a:pt x="492" y="416"/>
                  </a:lnTo>
                  <a:lnTo>
                    <a:pt x="482" y="436"/>
                  </a:lnTo>
                  <a:lnTo>
                    <a:pt x="470" y="456"/>
                  </a:lnTo>
                  <a:lnTo>
                    <a:pt x="475" y="456"/>
                  </a:lnTo>
                  <a:lnTo>
                    <a:pt x="481" y="457"/>
                  </a:lnTo>
                  <a:lnTo>
                    <a:pt x="485" y="459"/>
                  </a:lnTo>
                  <a:lnTo>
                    <a:pt x="490" y="461"/>
                  </a:lnTo>
                  <a:lnTo>
                    <a:pt x="499" y="461"/>
                  </a:lnTo>
                  <a:lnTo>
                    <a:pt x="505" y="461"/>
                  </a:lnTo>
                  <a:lnTo>
                    <a:pt x="552" y="455"/>
                  </a:lnTo>
                  <a:lnTo>
                    <a:pt x="595" y="447"/>
                  </a:lnTo>
                  <a:lnTo>
                    <a:pt x="634" y="439"/>
                  </a:lnTo>
                  <a:lnTo>
                    <a:pt x="669" y="430"/>
                  </a:lnTo>
                  <a:lnTo>
                    <a:pt x="700" y="422"/>
                  </a:lnTo>
                  <a:lnTo>
                    <a:pt x="727" y="412"/>
                  </a:lnTo>
                  <a:lnTo>
                    <a:pt x="739" y="407"/>
                  </a:lnTo>
                  <a:lnTo>
                    <a:pt x="751" y="402"/>
                  </a:lnTo>
                  <a:lnTo>
                    <a:pt x="761" y="397"/>
                  </a:lnTo>
                  <a:lnTo>
                    <a:pt x="770" y="391"/>
                  </a:lnTo>
                  <a:lnTo>
                    <a:pt x="784" y="401"/>
                  </a:lnTo>
                  <a:lnTo>
                    <a:pt x="798" y="408"/>
                  </a:lnTo>
                  <a:lnTo>
                    <a:pt x="815" y="416"/>
                  </a:lnTo>
                  <a:lnTo>
                    <a:pt x="834" y="422"/>
                  </a:lnTo>
                  <a:lnTo>
                    <a:pt x="855" y="427"/>
                  </a:lnTo>
                  <a:lnTo>
                    <a:pt x="876" y="431"/>
                  </a:lnTo>
                  <a:lnTo>
                    <a:pt x="900" y="434"/>
                  </a:lnTo>
                  <a:lnTo>
                    <a:pt x="925" y="436"/>
                  </a:lnTo>
                  <a:lnTo>
                    <a:pt x="919" y="447"/>
                  </a:lnTo>
                  <a:lnTo>
                    <a:pt x="914" y="461"/>
                  </a:lnTo>
                  <a:lnTo>
                    <a:pt x="910" y="477"/>
                  </a:lnTo>
                  <a:lnTo>
                    <a:pt x="905" y="496"/>
                  </a:lnTo>
                  <a:lnTo>
                    <a:pt x="902" y="517"/>
                  </a:lnTo>
                  <a:lnTo>
                    <a:pt x="899" y="541"/>
                  </a:lnTo>
                  <a:lnTo>
                    <a:pt x="897" y="567"/>
                  </a:lnTo>
                  <a:lnTo>
                    <a:pt x="895" y="596"/>
                  </a:lnTo>
                  <a:lnTo>
                    <a:pt x="895" y="628"/>
                  </a:lnTo>
                  <a:lnTo>
                    <a:pt x="894" y="660"/>
                  </a:lnTo>
                  <a:lnTo>
                    <a:pt x="895" y="697"/>
                  </a:lnTo>
                  <a:lnTo>
                    <a:pt x="895" y="736"/>
                  </a:lnTo>
                  <a:lnTo>
                    <a:pt x="899" y="821"/>
                  </a:lnTo>
                  <a:lnTo>
                    <a:pt x="905" y="916"/>
                  </a:lnTo>
                  <a:lnTo>
                    <a:pt x="905" y="972"/>
                  </a:lnTo>
                  <a:lnTo>
                    <a:pt x="905" y="1020"/>
                  </a:lnTo>
                  <a:lnTo>
                    <a:pt x="903" y="1062"/>
                  </a:lnTo>
                  <a:lnTo>
                    <a:pt x="900" y="1096"/>
                  </a:lnTo>
                  <a:lnTo>
                    <a:pt x="898" y="1111"/>
                  </a:lnTo>
                  <a:lnTo>
                    <a:pt x="896" y="1125"/>
                  </a:lnTo>
                  <a:lnTo>
                    <a:pt x="893" y="1135"/>
                  </a:lnTo>
                  <a:lnTo>
                    <a:pt x="891" y="1145"/>
                  </a:lnTo>
                  <a:lnTo>
                    <a:pt x="887" y="1153"/>
                  </a:lnTo>
                  <a:lnTo>
                    <a:pt x="883" y="1160"/>
                  </a:lnTo>
                  <a:lnTo>
                    <a:pt x="880" y="1164"/>
                  </a:lnTo>
                  <a:lnTo>
                    <a:pt x="876" y="1166"/>
                  </a:lnTo>
                  <a:lnTo>
                    <a:pt x="867" y="1165"/>
                  </a:lnTo>
                  <a:lnTo>
                    <a:pt x="858" y="1162"/>
                  </a:lnTo>
                  <a:lnTo>
                    <a:pt x="848" y="1158"/>
                  </a:lnTo>
                  <a:lnTo>
                    <a:pt x="839" y="1154"/>
                  </a:lnTo>
                  <a:lnTo>
                    <a:pt x="816" y="1144"/>
                  </a:lnTo>
                  <a:lnTo>
                    <a:pt x="793" y="1129"/>
                  </a:lnTo>
                  <a:lnTo>
                    <a:pt x="767" y="1111"/>
                  </a:lnTo>
                  <a:lnTo>
                    <a:pt x="738" y="1090"/>
                  </a:lnTo>
                  <a:lnTo>
                    <a:pt x="707" y="1064"/>
                  </a:lnTo>
                  <a:lnTo>
                    <a:pt x="676" y="1037"/>
                  </a:lnTo>
                  <a:lnTo>
                    <a:pt x="667" y="1025"/>
                  </a:lnTo>
                  <a:lnTo>
                    <a:pt x="662" y="1016"/>
                  </a:lnTo>
                  <a:lnTo>
                    <a:pt x="660" y="1013"/>
                  </a:lnTo>
                  <a:lnTo>
                    <a:pt x="660" y="1010"/>
                  </a:lnTo>
                  <a:lnTo>
                    <a:pt x="660" y="1008"/>
                  </a:lnTo>
                  <a:lnTo>
                    <a:pt x="660" y="1006"/>
                  </a:lnTo>
                  <a:lnTo>
                    <a:pt x="661" y="1004"/>
                  </a:lnTo>
                  <a:lnTo>
                    <a:pt x="662" y="1002"/>
                  </a:lnTo>
                  <a:lnTo>
                    <a:pt x="664" y="1001"/>
                  </a:lnTo>
                  <a:lnTo>
                    <a:pt x="666" y="999"/>
                  </a:lnTo>
                  <a:lnTo>
                    <a:pt x="674" y="999"/>
                  </a:lnTo>
                  <a:lnTo>
                    <a:pt x="685" y="1002"/>
                  </a:lnTo>
                  <a:lnTo>
                    <a:pt x="713" y="1004"/>
                  </a:lnTo>
                  <a:lnTo>
                    <a:pt x="737" y="1005"/>
                  </a:lnTo>
                  <a:lnTo>
                    <a:pt x="748" y="1005"/>
                  </a:lnTo>
                  <a:lnTo>
                    <a:pt x="757" y="1004"/>
                  </a:lnTo>
                  <a:lnTo>
                    <a:pt x="766" y="1003"/>
                  </a:lnTo>
                  <a:lnTo>
                    <a:pt x="773" y="1002"/>
                  </a:lnTo>
                  <a:lnTo>
                    <a:pt x="779" y="999"/>
                  </a:lnTo>
                  <a:lnTo>
                    <a:pt x="785" y="996"/>
                  </a:lnTo>
                  <a:lnTo>
                    <a:pt x="789" y="993"/>
                  </a:lnTo>
                  <a:lnTo>
                    <a:pt x="792" y="990"/>
                  </a:lnTo>
                  <a:lnTo>
                    <a:pt x="794" y="986"/>
                  </a:lnTo>
                  <a:lnTo>
                    <a:pt x="795" y="981"/>
                  </a:lnTo>
                  <a:lnTo>
                    <a:pt x="796" y="976"/>
                  </a:lnTo>
                  <a:lnTo>
                    <a:pt x="795" y="971"/>
                  </a:lnTo>
                  <a:lnTo>
                    <a:pt x="797" y="904"/>
                  </a:lnTo>
                  <a:lnTo>
                    <a:pt x="798" y="839"/>
                  </a:lnTo>
                  <a:lnTo>
                    <a:pt x="798" y="776"/>
                  </a:lnTo>
                  <a:lnTo>
                    <a:pt x="797" y="713"/>
                  </a:lnTo>
                  <a:lnTo>
                    <a:pt x="796" y="653"/>
                  </a:lnTo>
                  <a:lnTo>
                    <a:pt x="793" y="594"/>
                  </a:lnTo>
                  <a:lnTo>
                    <a:pt x="790" y="536"/>
                  </a:lnTo>
                  <a:lnTo>
                    <a:pt x="786" y="480"/>
                  </a:lnTo>
                  <a:lnTo>
                    <a:pt x="785" y="477"/>
                  </a:lnTo>
                  <a:lnTo>
                    <a:pt x="784" y="474"/>
                  </a:lnTo>
                  <a:lnTo>
                    <a:pt x="782" y="472"/>
                  </a:lnTo>
                  <a:lnTo>
                    <a:pt x="780" y="470"/>
                  </a:lnTo>
                  <a:lnTo>
                    <a:pt x="777" y="468"/>
                  </a:lnTo>
                  <a:lnTo>
                    <a:pt x="774" y="466"/>
                  </a:lnTo>
                  <a:lnTo>
                    <a:pt x="770" y="466"/>
                  </a:lnTo>
                  <a:lnTo>
                    <a:pt x="766" y="465"/>
                  </a:lnTo>
                  <a:lnTo>
                    <a:pt x="732" y="472"/>
                  </a:lnTo>
                  <a:lnTo>
                    <a:pt x="700" y="478"/>
                  </a:lnTo>
                  <a:lnTo>
                    <a:pt x="670" y="486"/>
                  </a:lnTo>
                  <a:lnTo>
                    <a:pt x="642" y="492"/>
                  </a:lnTo>
                  <a:lnTo>
                    <a:pt x="614" y="499"/>
                  </a:lnTo>
                  <a:lnTo>
                    <a:pt x="588" y="506"/>
                  </a:lnTo>
                  <a:lnTo>
                    <a:pt x="563" y="513"/>
                  </a:lnTo>
                  <a:lnTo>
                    <a:pt x="540" y="521"/>
                  </a:lnTo>
                  <a:lnTo>
                    <a:pt x="537" y="521"/>
                  </a:lnTo>
                  <a:lnTo>
                    <a:pt x="533" y="519"/>
                  </a:lnTo>
                  <a:lnTo>
                    <a:pt x="528" y="517"/>
                  </a:lnTo>
                  <a:lnTo>
                    <a:pt x="524" y="514"/>
                  </a:lnTo>
                  <a:lnTo>
                    <a:pt x="515" y="507"/>
                  </a:lnTo>
                  <a:lnTo>
                    <a:pt x="505" y="496"/>
                  </a:lnTo>
                  <a:lnTo>
                    <a:pt x="503" y="519"/>
                  </a:lnTo>
                  <a:lnTo>
                    <a:pt x="502" y="550"/>
                  </a:lnTo>
                  <a:lnTo>
                    <a:pt x="501" y="587"/>
                  </a:lnTo>
                  <a:lnTo>
                    <a:pt x="500" y="631"/>
                  </a:lnTo>
                  <a:lnTo>
                    <a:pt x="515" y="630"/>
                  </a:lnTo>
                  <a:lnTo>
                    <a:pt x="534" y="628"/>
                  </a:lnTo>
                  <a:lnTo>
                    <a:pt x="557" y="622"/>
                  </a:lnTo>
                  <a:lnTo>
                    <a:pt x="585" y="616"/>
                  </a:lnTo>
                  <a:lnTo>
                    <a:pt x="627" y="607"/>
                  </a:lnTo>
                  <a:lnTo>
                    <a:pt x="663" y="600"/>
                  </a:lnTo>
                  <a:lnTo>
                    <a:pt x="692" y="595"/>
                  </a:lnTo>
                  <a:lnTo>
                    <a:pt x="715" y="590"/>
                  </a:lnTo>
                  <a:lnTo>
                    <a:pt x="719" y="594"/>
                  </a:lnTo>
                  <a:lnTo>
                    <a:pt x="726" y="602"/>
                  </a:lnTo>
                  <a:lnTo>
                    <a:pt x="737" y="616"/>
                  </a:lnTo>
                  <a:lnTo>
                    <a:pt x="750" y="636"/>
                  </a:lnTo>
                  <a:lnTo>
                    <a:pt x="753" y="638"/>
                  </a:lnTo>
                  <a:lnTo>
                    <a:pt x="754" y="641"/>
                  </a:lnTo>
                  <a:lnTo>
                    <a:pt x="755" y="643"/>
                  </a:lnTo>
                  <a:lnTo>
                    <a:pt x="755" y="646"/>
                  </a:lnTo>
                  <a:lnTo>
                    <a:pt x="732" y="651"/>
                  </a:lnTo>
                  <a:lnTo>
                    <a:pt x="700" y="656"/>
                  </a:lnTo>
                  <a:lnTo>
                    <a:pt x="662" y="661"/>
                  </a:lnTo>
                  <a:lnTo>
                    <a:pt x="615" y="666"/>
                  </a:lnTo>
                  <a:lnTo>
                    <a:pt x="578" y="673"/>
                  </a:lnTo>
                  <a:lnTo>
                    <a:pt x="545" y="678"/>
                  </a:lnTo>
                  <a:lnTo>
                    <a:pt x="518" y="683"/>
                  </a:lnTo>
                  <a:lnTo>
                    <a:pt x="495" y="686"/>
                  </a:lnTo>
                  <a:lnTo>
                    <a:pt x="495" y="710"/>
                  </a:lnTo>
                  <a:lnTo>
                    <a:pt x="495" y="736"/>
                  </a:lnTo>
                  <a:lnTo>
                    <a:pt x="495" y="765"/>
                  </a:lnTo>
                  <a:lnTo>
                    <a:pt x="495" y="796"/>
                  </a:lnTo>
                  <a:lnTo>
                    <a:pt x="509" y="793"/>
                  </a:lnTo>
                  <a:lnTo>
                    <a:pt x="527" y="790"/>
                  </a:lnTo>
                  <a:lnTo>
                    <a:pt x="549" y="785"/>
                  </a:lnTo>
                  <a:lnTo>
                    <a:pt x="575" y="781"/>
                  </a:lnTo>
                  <a:lnTo>
                    <a:pt x="623" y="772"/>
                  </a:lnTo>
                  <a:lnTo>
                    <a:pt x="664" y="764"/>
                  </a:lnTo>
                  <a:lnTo>
                    <a:pt x="700" y="759"/>
                  </a:lnTo>
                  <a:lnTo>
                    <a:pt x="731" y="756"/>
                  </a:lnTo>
                  <a:lnTo>
                    <a:pt x="735" y="759"/>
                  </a:lnTo>
                  <a:lnTo>
                    <a:pt x="740" y="763"/>
                  </a:lnTo>
                  <a:lnTo>
                    <a:pt x="745" y="770"/>
                  </a:lnTo>
                  <a:lnTo>
                    <a:pt x="750" y="776"/>
                  </a:lnTo>
                  <a:lnTo>
                    <a:pt x="755" y="784"/>
                  </a:lnTo>
                  <a:lnTo>
                    <a:pt x="760" y="794"/>
                  </a:lnTo>
                  <a:lnTo>
                    <a:pt x="766" y="805"/>
                  </a:lnTo>
                  <a:lnTo>
                    <a:pt x="770" y="816"/>
                  </a:lnTo>
                  <a:lnTo>
                    <a:pt x="753" y="818"/>
                  </a:lnTo>
                  <a:lnTo>
                    <a:pt x="733" y="821"/>
                  </a:lnTo>
                  <a:lnTo>
                    <a:pt x="708" y="824"/>
                  </a:lnTo>
                  <a:lnTo>
                    <a:pt x="680" y="826"/>
                  </a:lnTo>
                  <a:lnTo>
                    <a:pt x="648" y="830"/>
                  </a:lnTo>
                  <a:lnTo>
                    <a:pt x="618" y="833"/>
                  </a:lnTo>
                  <a:lnTo>
                    <a:pt x="591" y="836"/>
                  </a:lnTo>
                  <a:lnTo>
                    <a:pt x="566" y="838"/>
                  </a:lnTo>
                  <a:lnTo>
                    <a:pt x="544" y="841"/>
                  </a:lnTo>
                  <a:lnTo>
                    <a:pt x="525" y="843"/>
                  </a:lnTo>
                  <a:lnTo>
                    <a:pt x="509" y="845"/>
                  </a:lnTo>
                  <a:lnTo>
                    <a:pt x="495" y="846"/>
                  </a:lnTo>
                  <a:lnTo>
                    <a:pt x="493" y="884"/>
                  </a:lnTo>
                  <a:lnTo>
                    <a:pt x="491" y="922"/>
                  </a:lnTo>
                  <a:lnTo>
                    <a:pt x="490" y="961"/>
                  </a:lnTo>
                  <a:lnTo>
                    <a:pt x="490" y="1002"/>
                  </a:lnTo>
                  <a:lnTo>
                    <a:pt x="487" y="1027"/>
                  </a:lnTo>
                  <a:lnTo>
                    <a:pt x="485" y="1049"/>
                  </a:lnTo>
                  <a:lnTo>
                    <a:pt x="482" y="1069"/>
                  </a:lnTo>
                  <a:lnTo>
                    <a:pt x="478" y="1085"/>
                  </a:lnTo>
                  <a:lnTo>
                    <a:pt x="475" y="1098"/>
                  </a:lnTo>
                  <a:lnTo>
                    <a:pt x="472" y="1108"/>
                  </a:lnTo>
                  <a:lnTo>
                    <a:pt x="470" y="1111"/>
                  </a:lnTo>
                  <a:lnTo>
                    <a:pt x="469" y="1113"/>
                  </a:lnTo>
                  <a:lnTo>
                    <a:pt x="467" y="1115"/>
                  </a:lnTo>
                  <a:lnTo>
                    <a:pt x="465" y="1116"/>
                  </a:lnTo>
                  <a:lnTo>
                    <a:pt x="449" y="1107"/>
                  </a:lnTo>
                  <a:lnTo>
                    <a:pt x="435" y="1096"/>
                  </a:lnTo>
                  <a:lnTo>
                    <a:pt x="421" y="1085"/>
                  </a:lnTo>
                  <a:lnTo>
                    <a:pt x="409" y="1075"/>
                  </a:lnTo>
                  <a:lnTo>
                    <a:pt x="398" y="1064"/>
                  </a:lnTo>
                  <a:lnTo>
                    <a:pt x="387" y="1054"/>
                  </a:lnTo>
                  <a:lnTo>
                    <a:pt x="378" y="1043"/>
                  </a:lnTo>
                  <a:lnTo>
                    <a:pt x="370" y="1031"/>
                  </a:lnTo>
                  <a:lnTo>
                    <a:pt x="376" y="1024"/>
                  </a:lnTo>
                  <a:lnTo>
                    <a:pt x="382" y="1013"/>
                  </a:lnTo>
                  <a:lnTo>
                    <a:pt x="387" y="1001"/>
                  </a:lnTo>
                  <a:lnTo>
                    <a:pt x="393" y="986"/>
                  </a:lnTo>
                  <a:lnTo>
                    <a:pt x="397" y="968"/>
                  </a:lnTo>
                  <a:lnTo>
                    <a:pt x="401" y="948"/>
                  </a:lnTo>
                  <a:lnTo>
                    <a:pt x="405" y="924"/>
                  </a:lnTo>
                  <a:lnTo>
                    <a:pt x="409" y="899"/>
                  </a:lnTo>
                  <a:lnTo>
                    <a:pt x="412" y="870"/>
                  </a:lnTo>
                  <a:lnTo>
                    <a:pt x="415" y="839"/>
                  </a:lnTo>
                  <a:lnTo>
                    <a:pt x="417" y="807"/>
                  </a:lnTo>
                  <a:lnTo>
                    <a:pt x="420" y="771"/>
                  </a:lnTo>
                  <a:lnTo>
                    <a:pt x="423" y="691"/>
                  </a:lnTo>
                  <a:lnTo>
                    <a:pt x="426" y="601"/>
                  </a:lnTo>
                  <a:lnTo>
                    <a:pt x="426" y="593"/>
                  </a:lnTo>
                  <a:lnTo>
                    <a:pt x="426" y="576"/>
                  </a:lnTo>
                  <a:lnTo>
                    <a:pt x="423" y="564"/>
                  </a:lnTo>
                  <a:lnTo>
                    <a:pt x="421" y="554"/>
                  </a:lnTo>
                  <a:lnTo>
                    <a:pt x="420" y="547"/>
                  </a:lnTo>
                  <a:lnTo>
                    <a:pt x="420" y="541"/>
                  </a:lnTo>
                  <a:lnTo>
                    <a:pt x="398" y="572"/>
                  </a:lnTo>
                  <a:lnTo>
                    <a:pt x="377" y="603"/>
                  </a:lnTo>
                  <a:lnTo>
                    <a:pt x="354" y="633"/>
                  </a:lnTo>
                  <a:lnTo>
                    <a:pt x="330" y="664"/>
                  </a:lnTo>
                  <a:lnTo>
                    <a:pt x="306" y="693"/>
                  </a:lnTo>
                  <a:lnTo>
                    <a:pt x="281" y="723"/>
                  </a:lnTo>
                  <a:lnTo>
                    <a:pt x="256" y="753"/>
                  </a:lnTo>
                  <a:lnTo>
                    <a:pt x="230" y="781"/>
                  </a:lnTo>
                  <a:lnTo>
                    <a:pt x="216" y="795"/>
                  </a:lnTo>
                  <a:lnTo>
                    <a:pt x="202" y="808"/>
                  </a:lnTo>
                  <a:lnTo>
                    <a:pt x="188" y="819"/>
                  </a:lnTo>
                  <a:lnTo>
                    <a:pt x="175" y="829"/>
                  </a:lnTo>
                  <a:lnTo>
                    <a:pt x="161" y="837"/>
                  </a:lnTo>
                  <a:lnTo>
                    <a:pt x="146" y="845"/>
                  </a:lnTo>
                  <a:lnTo>
                    <a:pt x="132" y="850"/>
                  </a:lnTo>
                  <a:lnTo>
                    <a:pt x="117" y="853"/>
                  </a:lnTo>
                  <a:lnTo>
                    <a:pt x="102" y="856"/>
                  </a:lnTo>
                  <a:lnTo>
                    <a:pt x="89" y="856"/>
                  </a:lnTo>
                  <a:lnTo>
                    <a:pt x="74" y="856"/>
                  </a:lnTo>
                  <a:lnTo>
                    <a:pt x="59" y="854"/>
                  </a:lnTo>
                  <a:lnTo>
                    <a:pt x="44" y="851"/>
                  </a:lnTo>
                  <a:lnTo>
                    <a:pt x="29" y="846"/>
                  </a:lnTo>
                  <a:lnTo>
                    <a:pt x="15" y="839"/>
                  </a:lnTo>
                  <a:lnTo>
                    <a:pt x="0" y="831"/>
                  </a:lnTo>
                  <a:lnTo>
                    <a:pt x="36" y="807"/>
                  </a:lnTo>
                  <a:lnTo>
                    <a:pt x="72" y="780"/>
                  </a:lnTo>
                  <a:lnTo>
                    <a:pt x="106" y="754"/>
                  </a:lnTo>
                  <a:lnTo>
                    <a:pt x="138" y="725"/>
                  </a:lnTo>
                  <a:lnTo>
                    <a:pt x="170" y="696"/>
                  </a:lnTo>
                  <a:lnTo>
                    <a:pt x="201" y="667"/>
                  </a:lnTo>
                  <a:lnTo>
                    <a:pt x="232" y="635"/>
                  </a:lnTo>
                  <a:lnTo>
                    <a:pt x="260" y="603"/>
                  </a:lnTo>
                  <a:lnTo>
                    <a:pt x="288" y="570"/>
                  </a:lnTo>
                  <a:lnTo>
                    <a:pt x="314" y="536"/>
                  </a:lnTo>
                  <a:lnTo>
                    <a:pt x="340" y="501"/>
                  </a:lnTo>
                  <a:lnTo>
                    <a:pt x="364" y="465"/>
                  </a:lnTo>
                  <a:lnTo>
                    <a:pt x="387" y="428"/>
                  </a:lnTo>
                  <a:lnTo>
                    <a:pt x="410" y="390"/>
                  </a:lnTo>
                  <a:lnTo>
                    <a:pt x="430" y="351"/>
                  </a:lnTo>
                  <a:lnTo>
                    <a:pt x="450" y="311"/>
                  </a:lnTo>
                  <a:lnTo>
                    <a:pt x="415" y="316"/>
                  </a:lnTo>
                  <a:lnTo>
                    <a:pt x="380" y="321"/>
                  </a:lnTo>
                  <a:lnTo>
                    <a:pt x="344" y="328"/>
                  </a:lnTo>
                  <a:lnTo>
                    <a:pt x="309" y="333"/>
                  </a:lnTo>
                  <a:lnTo>
                    <a:pt x="273" y="339"/>
                  </a:lnTo>
                  <a:lnTo>
                    <a:pt x="237" y="347"/>
                  </a:lnTo>
                  <a:lnTo>
                    <a:pt x="201" y="353"/>
                  </a:lnTo>
                  <a:lnTo>
                    <a:pt x="165" y="360"/>
                  </a:lnTo>
                  <a:lnTo>
                    <a:pt x="147" y="347"/>
                  </a:lnTo>
                  <a:lnTo>
                    <a:pt x="129" y="331"/>
                  </a:lnTo>
                  <a:lnTo>
                    <a:pt x="110" y="312"/>
                  </a:lnTo>
                  <a:lnTo>
                    <a:pt x="90" y="291"/>
                  </a:lnTo>
                  <a:lnTo>
                    <a:pt x="86" y="286"/>
                  </a:lnTo>
                  <a:lnTo>
                    <a:pt x="83" y="282"/>
                  </a:lnTo>
                  <a:lnTo>
                    <a:pt x="83" y="279"/>
                  </a:lnTo>
                  <a:lnTo>
                    <a:pt x="86" y="276"/>
                  </a:lnTo>
                  <a:lnTo>
                    <a:pt x="86" y="274"/>
                  </a:lnTo>
                  <a:lnTo>
                    <a:pt x="88" y="271"/>
                  </a:lnTo>
                  <a:lnTo>
                    <a:pt x="91" y="271"/>
                  </a:lnTo>
                  <a:lnTo>
                    <a:pt x="95" y="270"/>
                  </a:lnTo>
                  <a:lnTo>
                    <a:pt x="140" y="268"/>
                  </a:lnTo>
                  <a:lnTo>
                    <a:pt x="185" y="264"/>
                  </a:lnTo>
                  <a:lnTo>
                    <a:pt x="232" y="260"/>
                  </a:lnTo>
                  <a:lnTo>
                    <a:pt x="280" y="255"/>
                  </a:lnTo>
                  <a:lnTo>
                    <a:pt x="329" y="248"/>
                  </a:lnTo>
                  <a:lnTo>
                    <a:pt x="380" y="242"/>
                  </a:lnTo>
                  <a:lnTo>
                    <a:pt x="432" y="234"/>
                  </a:lnTo>
                  <a:lnTo>
                    <a:pt x="485" y="226"/>
                  </a:lnTo>
                  <a:lnTo>
                    <a:pt x="489" y="216"/>
                  </a:lnTo>
                  <a:lnTo>
                    <a:pt x="490" y="211"/>
                  </a:lnTo>
                  <a:lnTo>
                    <a:pt x="504" y="175"/>
                  </a:lnTo>
                  <a:lnTo>
                    <a:pt x="516" y="141"/>
                  </a:lnTo>
                  <a:lnTo>
                    <a:pt x="524" y="110"/>
                  </a:lnTo>
                  <a:lnTo>
                    <a:pt x="531" y="83"/>
                  </a:lnTo>
                  <a:lnTo>
                    <a:pt x="536" y="58"/>
                  </a:lnTo>
                  <a:lnTo>
                    <a:pt x="538" y="36"/>
                  </a:lnTo>
                  <a:lnTo>
                    <a:pt x="538" y="26"/>
                  </a:lnTo>
                  <a:lnTo>
                    <a:pt x="538" y="17"/>
                  </a:lnTo>
                  <a:lnTo>
                    <a:pt x="537" y="9"/>
                  </a:lnTo>
                  <a:lnTo>
                    <a:pt x="535" y="0"/>
                  </a:lnTo>
                  <a:lnTo>
                    <a:pt x="548" y="9"/>
                  </a:lnTo>
                  <a:lnTo>
                    <a:pt x="562" y="17"/>
                  </a:lnTo>
                  <a:lnTo>
                    <a:pt x="578" y="23"/>
                  </a:lnTo>
                  <a:lnTo>
                    <a:pt x="595" y="31"/>
                  </a:lnTo>
                  <a:lnTo>
                    <a:pt x="613" y="36"/>
                  </a:lnTo>
                  <a:lnTo>
                    <a:pt x="632" y="42"/>
                  </a:lnTo>
                  <a:lnTo>
                    <a:pt x="653" y="47"/>
                  </a:lnTo>
                  <a:lnTo>
                    <a:pt x="676" y="50"/>
                  </a:lnTo>
                  <a:lnTo>
                    <a:pt x="665" y="61"/>
                  </a:lnTo>
                  <a:lnTo>
                    <a:pt x="654" y="74"/>
                  </a:lnTo>
                  <a:lnTo>
                    <a:pt x="643" y="90"/>
                  </a:lnTo>
                  <a:lnTo>
                    <a:pt x="631" y="109"/>
                  </a:lnTo>
                  <a:lnTo>
                    <a:pt x="619" y="132"/>
                  </a:lnTo>
                  <a:lnTo>
                    <a:pt x="607" y="156"/>
                  </a:lnTo>
                  <a:lnTo>
                    <a:pt x="594" y="185"/>
                  </a:lnTo>
                  <a:lnTo>
                    <a:pt x="580" y="215"/>
                  </a:lnTo>
                  <a:lnTo>
                    <a:pt x="598" y="213"/>
                  </a:lnTo>
                  <a:lnTo>
                    <a:pt x="619" y="210"/>
                  </a:lnTo>
                  <a:lnTo>
                    <a:pt x="643" y="207"/>
                  </a:lnTo>
                  <a:lnTo>
                    <a:pt x="668" y="203"/>
                  </a:lnTo>
                  <a:lnTo>
                    <a:pt x="695" y="199"/>
                  </a:lnTo>
                  <a:lnTo>
                    <a:pt x="724" y="195"/>
                  </a:lnTo>
                  <a:lnTo>
                    <a:pt x="756" y="191"/>
                  </a:lnTo>
                  <a:lnTo>
                    <a:pt x="790" y="186"/>
                  </a:lnTo>
                  <a:lnTo>
                    <a:pt x="841" y="178"/>
                  </a:lnTo>
                  <a:lnTo>
                    <a:pt x="887" y="172"/>
                  </a:lnTo>
                  <a:lnTo>
                    <a:pt x="930" y="165"/>
                  </a:lnTo>
                  <a:lnTo>
                    <a:pt x="969" y="160"/>
                  </a:lnTo>
                  <a:lnTo>
                    <a:pt x="1004" y="156"/>
                  </a:lnTo>
                  <a:lnTo>
                    <a:pt x="1035" y="152"/>
                  </a:lnTo>
                  <a:lnTo>
                    <a:pt x="1062" y="149"/>
                  </a:lnTo>
                  <a:lnTo>
                    <a:pt x="1085" y="145"/>
                  </a:lnTo>
                  <a:lnTo>
                    <a:pt x="1092" y="145"/>
                  </a:lnTo>
                  <a:lnTo>
                    <a:pt x="1098" y="146"/>
                  </a:lnTo>
                  <a:lnTo>
                    <a:pt x="1104" y="149"/>
                  </a:lnTo>
                  <a:lnTo>
                    <a:pt x="1110" y="151"/>
                  </a:lnTo>
                  <a:lnTo>
                    <a:pt x="1116" y="154"/>
                  </a:lnTo>
                  <a:lnTo>
                    <a:pt x="1122" y="157"/>
                  </a:lnTo>
                  <a:lnTo>
                    <a:pt x="1129" y="161"/>
                  </a:lnTo>
                  <a:lnTo>
                    <a:pt x="1135" y="165"/>
                  </a:lnTo>
                  <a:close/>
                </a:path>
              </a:pathLst>
            </a:custGeom>
            <a:solidFill>
              <a:srgbClr val="ffff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00"/>
                </a:solidFill>
                <a:latin typeface="Arial"/>
                <a:ea typeface="宋体"/>
              </a:endParaRPr>
            </a:p>
          </p:txBody>
        </p:sp>
        <p:sp>
          <p:nvSpPr>
            <p:cNvPr id="520" name="Freeform 22"/>
            <p:cNvSpPr/>
            <p:nvPr/>
          </p:nvSpPr>
          <p:spPr>
            <a:xfrm>
              <a:off x="4351680" y="9464760"/>
              <a:ext cx="178560" cy="154800"/>
            </a:xfrm>
            <a:custGeom>
              <a:avLst/>
              <a:gdLst>
                <a:gd name="textAreaLeft" fmla="*/ 0 w 178560"/>
                <a:gd name="textAreaRight" fmla="*/ 178920 w 178560"/>
                <a:gd name="textAreaTop" fmla="*/ 0 h 154800"/>
                <a:gd name="textAreaBottom" fmla="*/ 155160 h 154800"/>
              </a:gdLst>
              <a:ahLst/>
              <a:rect l="textAreaLeft" t="textAreaTop" r="textAreaRight" b="textAreaBottom"/>
              <a:pathLst>
                <a:path w="1122" h="1023">
                  <a:moveTo>
                    <a:pt x="736" y="451"/>
                  </a:moveTo>
                  <a:lnTo>
                    <a:pt x="733" y="449"/>
                  </a:lnTo>
                  <a:lnTo>
                    <a:pt x="725" y="441"/>
                  </a:lnTo>
                  <a:lnTo>
                    <a:pt x="712" y="431"/>
                  </a:lnTo>
                  <a:lnTo>
                    <a:pt x="701" y="421"/>
                  </a:lnTo>
                  <a:lnTo>
                    <a:pt x="667" y="423"/>
                  </a:lnTo>
                  <a:lnTo>
                    <a:pt x="635" y="426"/>
                  </a:lnTo>
                  <a:lnTo>
                    <a:pt x="607" y="429"/>
                  </a:lnTo>
                  <a:lnTo>
                    <a:pt x="580" y="432"/>
                  </a:lnTo>
                  <a:lnTo>
                    <a:pt x="557" y="435"/>
                  </a:lnTo>
                  <a:lnTo>
                    <a:pt x="536" y="439"/>
                  </a:lnTo>
                  <a:lnTo>
                    <a:pt x="517" y="442"/>
                  </a:lnTo>
                  <a:lnTo>
                    <a:pt x="501" y="445"/>
                  </a:lnTo>
                  <a:lnTo>
                    <a:pt x="501" y="480"/>
                  </a:lnTo>
                  <a:lnTo>
                    <a:pt x="514" y="488"/>
                  </a:lnTo>
                  <a:lnTo>
                    <a:pt x="530" y="497"/>
                  </a:lnTo>
                  <a:lnTo>
                    <a:pt x="546" y="508"/>
                  </a:lnTo>
                  <a:lnTo>
                    <a:pt x="566" y="521"/>
                  </a:lnTo>
                  <a:lnTo>
                    <a:pt x="587" y="535"/>
                  </a:lnTo>
                  <a:lnTo>
                    <a:pt x="609" y="552"/>
                  </a:lnTo>
                  <a:lnTo>
                    <a:pt x="634" y="570"/>
                  </a:lnTo>
                  <a:lnTo>
                    <a:pt x="661" y="591"/>
                  </a:lnTo>
                  <a:lnTo>
                    <a:pt x="692" y="568"/>
                  </a:lnTo>
                  <a:lnTo>
                    <a:pt x="720" y="547"/>
                  </a:lnTo>
                  <a:lnTo>
                    <a:pt x="747" y="525"/>
                  </a:lnTo>
                  <a:lnTo>
                    <a:pt x="771" y="504"/>
                  </a:lnTo>
                  <a:lnTo>
                    <a:pt x="792" y="482"/>
                  </a:lnTo>
                  <a:lnTo>
                    <a:pt x="810" y="461"/>
                  </a:lnTo>
                  <a:lnTo>
                    <a:pt x="827" y="441"/>
                  </a:lnTo>
                  <a:lnTo>
                    <a:pt x="841" y="421"/>
                  </a:lnTo>
                  <a:lnTo>
                    <a:pt x="852" y="433"/>
                  </a:lnTo>
                  <a:lnTo>
                    <a:pt x="864" y="444"/>
                  </a:lnTo>
                  <a:lnTo>
                    <a:pt x="876" y="456"/>
                  </a:lnTo>
                  <a:lnTo>
                    <a:pt x="889" y="465"/>
                  </a:lnTo>
                  <a:lnTo>
                    <a:pt x="901" y="476"/>
                  </a:lnTo>
                  <a:lnTo>
                    <a:pt x="914" y="485"/>
                  </a:lnTo>
                  <a:lnTo>
                    <a:pt x="927" y="493"/>
                  </a:lnTo>
                  <a:lnTo>
                    <a:pt x="941" y="500"/>
                  </a:lnTo>
                  <a:lnTo>
                    <a:pt x="926" y="506"/>
                  </a:lnTo>
                  <a:lnTo>
                    <a:pt x="906" y="513"/>
                  </a:lnTo>
                  <a:lnTo>
                    <a:pt x="880" y="525"/>
                  </a:lnTo>
                  <a:lnTo>
                    <a:pt x="850" y="541"/>
                  </a:lnTo>
                  <a:lnTo>
                    <a:pt x="826" y="553"/>
                  </a:lnTo>
                  <a:lnTo>
                    <a:pt x="803" y="564"/>
                  </a:lnTo>
                  <a:lnTo>
                    <a:pt x="782" y="575"/>
                  </a:lnTo>
                  <a:lnTo>
                    <a:pt x="760" y="583"/>
                  </a:lnTo>
                  <a:lnTo>
                    <a:pt x="741" y="592"/>
                  </a:lnTo>
                  <a:lnTo>
                    <a:pt x="723" y="599"/>
                  </a:lnTo>
                  <a:lnTo>
                    <a:pt x="706" y="605"/>
                  </a:lnTo>
                  <a:lnTo>
                    <a:pt x="691" y="611"/>
                  </a:lnTo>
                  <a:lnTo>
                    <a:pt x="723" y="637"/>
                  </a:lnTo>
                  <a:lnTo>
                    <a:pt x="755" y="662"/>
                  </a:lnTo>
                  <a:lnTo>
                    <a:pt x="785" y="683"/>
                  </a:lnTo>
                  <a:lnTo>
                    <a:pt x="813" y="702"/>
                  </a:lnTo>
                  <a:lnTo>
                    <a:pt x="840" y="719"/>
                  </a:lnTo>
                  <a:lnTo>
                    <a:pt x="865" y="734"/>
                  </a:lnTo>
                  <a:lnTo>
                    <a:pt x="889" y="746"/>
                  </a:lnTo>
                  <a:lnTo>
                    <a:pt x="911" y="756"/>
                  </a:lnTo>
                  <a:lnTo>
                    <a:pt x="945" y="771"/>
                  </a:lnTo>
                  <a:lnTo>
                    <a:pt x="975" y="786"/>
                  </a:lnTo>
                  <a:lnTo>
                    <a:pt x="1004" y="799"/>
                  </a:lnTo>
                  <a:lnTo>
                    <a:pt x="1029" y="812"/>
                  </a:lnTo>
                  <a:lnTo>
                    <a:pt x="1053" y="826"/>
                  </a:lnTo>
                  <a:lnTo>
                    <a:pt x="1073" y="837"/>
                  </a:lnTo>
                  <a:lnTo>
                    <a:pt x="1091" y="850"/>
                  </a:lnTo>
                  <a:lnTo>
                    <a:pt x="1106" y="861"/>
                  </a:lnTo>
                  <a:lnTo>
                    <a:pt x="1114" y="868"/>
                  </a:lnTo>
                  <a:lnTo>
                    <a:pt x="1120" y="875"/>
                  </a:lnTo>
                  <a:lnTo>
                    <a:pt x="1121" y="878"/>
                  </a:lnTo>
                  <a:lnTo>
                    <a:pt x="1122" y="881"/>
                  </a:lnTo>
                  <a:lnTo>
                    <a:pt x="1122" y="884"/>
                  </a:lnTo>
                  <a:lnTo>
                    <a:pt x="1121" y="886"/>
                  </a:lnTo>
                  <a:lnTo>
                    <a:pt x="1121" y="888"/>
                  </a:lnTo>
                  <a:lnTo>
                    <a:pt x="1120" y="890"/>
                  </a:lnTo>
                  <a:lnTo>
                    <a:pt x="1117" y="893"/>
                  </a:lnTo>
                  <a:lnTo>
                    <a:pt x="1115" y="895"/>
                  </a:lnTo>
                  <a:lnTo>
                    <a:pt x="1110" y="898"/>
                  </a:lnTo>
                  <a:lnTo>
                    <a:pt x="1100" y="901"/>
                  </a:lnTo>
                  <a:lnTo>
                    <a:pt x="1076" y="901"/>
                  </a:lnTo>
                  <a:lnTo>
                    <a:pt x="1053" y="901"/>
                  </a:lnTo>
                  <a:lnTo>
                    <a:pt x="1029" y="901"/>
                  </a:lnTo>
                  <a:lnTo>
                    <a:pt x="1008" y="900"/>
                  </a:lnTo>
                  <a:lnTo>
                    <a:pt x="987" y="899"/>
                  </a:lnTo>
                  <a:lnTo>
                    <a:pt x="967" y="899"/>
                  </a:lnTo>
                  <a:lnTo>
                    <a:pt x="949" y="898"/>
                  </a:lnTo>
                  <a:lnTo>
                    <a:pt x="931" y="897"/>
                  </a:lnTo>
                  <a:lnTo>
                    <a:pt x="917" y="895"/>
                  </a:lnTo>
                  <a:lnTo>
                    <a:pt x="905" y="891"/>
                  </a:lnTo>
                  <a:lnTo>
                    <a:pt x="892" y="888"/>
                  </a:lnTo>
                  <a:lnTo>
                    <a:pt x="879" y="884"/>
                  </a:lnTo>
                  <a:lnTo>
                    <a:pt x="867" y="878"/>
                  </a:lnTo>
                  <a:lnTo>
                    <a:pt x="857" y="871"/>
                  </a:lnTo>
                  <a:lnTo>
                    <a:pt x="846" y="864"/>
                  </a:lnTo>
                  <a:lnTo>
                    <a:pt x="836" y="857"/>
                  </a:lnTo>
                  <a:lnTo>
                    <a:pt x="817" y="837"/>
                  </a:lnTo>
                  <a:lnTo>
                    <a:pt x="790" y="811"/>
                  </a:lnTo>
                  <a:lnTo>
                    <a:pt x="757" y="777"/>
                  </a:lnTo>
                  <a:lnTo>
                    <a:pt x="716" y="736"/>
                  </a:lnTo>
                  <a:lnTo>
                    <a:pt x="678" y="695"/>
                  </a:lnTo>
                  <a:lnTo>
                    <a:pt x="644" y="659"/>
                  </a:lnTo>
                  <a:lnTo>
                    <a:pt x="612" y="628"/>
                  </a:lnTo>
                  <a:lnTo>
                    <a:pt x="585" y="600"/>
                  </a:lnTo>
                  <a:lnTo>
                    <a:pt x="559" y="576"/>
                  </a:lnTo>
                  <a:lnTo>
                    <a:pt x="537" y="557"/>
                  </a:lnTo>
                  <a:lnTo>
                    <a:pt x="517" y="542"/>
                  </a:lnTo>
                  <a:lnTo>
                    <a:pt x="501" y="531"/>
                  </a:lnTo>
                  <a:lnTo>
                    <a:pt x="501" y="545"/>
                  </a:lnTo>
                  <a:lnTo>
                    <a:pt x="500" y="561"/>
                  </a:lnTo>
                  <a:lnTo>
                    <a:pt x="500" y="579"/>
                  </a:lnTo>
                  <a:lnTo>
                    <a:pt x="499" y="599"/>
                  </a:lnTo>
                  <a:lnTo>
                    <a:pt x="499" y="621"/>
                  </a:lnTo>
                  <a:lnTo>
                    <a:pt x="498" y="646"/>
                  </a:lnTo>
                  <a:lnTo>
                    <a:pt x="497" y="672"/>
                  </a:lnTo>
                  <a:lnTo>
                    <a:pt x="496" y="701"/>
                  </a:lnTo>
                  <a:lnTo>
                    <a:pt x="496" y="754"/>
                  </a:lnTo>
                  <a:lnTo>
                    <a:pt x="496" y="797"/>
                  </a:lnTo>
                  <a:lnTo>
                    <a:pt x="496" y="831"/>
                  </a:lnTo>
                  <a:lnTo>
                    <a:pt x="496" y="857"/>
                  </a:lnTo>
                  <a:lnTo>
                    <a:pt x="504" y="850"/>
                  </a:lnTo>
                  <a:lnTo>
                    <a:pt x="517" y="844"/>
                  </a:lnTo>
                  <a:lnTo>
                    <a:pt x="532" y="835"/>
                  </a:lnTo>
                  <a:lnTo>
                    <a:pt x="551" y="826"/>
                  </a:lnTo>
                  <a:lnTo>
                    <a:pt x="578" y="812"/>
                  </a:lnTo>
                  <a:lnTo>
                    <a:pt x="602" y="800"/>
                  </a:lnTo>
                  <a:lnTo>
                    <a:pt x="621" y="790"/>
                  </a:lnTo>
                  <a:lnTo>
                    <a:pt x="635" y="781"/>
                  </a:lnTo>
                  <a:lnTo>
                    <a:pt x="658" y="771"/>
                  </a:lnTo>
                  <a:lnTo>
                    <a:pt x="676" y="763"/>
                  </a:lnTo>
                  <a:lnTo>
                    <a:pt x="682" y="761"/>
                  </a:lnTo>
                  <a:lnTo>
                    <a:pt x="688" y="760"/>
                  </a:lnTo>
                  <a:lnTo>
                    <a:pt x="693" y="760"/>
                  </a:lnTo>
                  <a:lnTo>
                    <a:pt x="696" y="761"/>
                  </a:lnTo>
                  <a:lnTo>
                    <a:pt x="696" y="764"/>
                  </a:lnTo>
                  <a:lnTo>
                    <a:pt x="696" y="767"/>
                  </a:lnTo>
                  <a:lnTo>
                    <a:pt x="694" y="772"/>
                  </a:lnTo>
                  <a:lnTo>
                    <a:pt x="691" y="777"/>
                  </a:lnTo>
                  <a:lnTo>
                    <a:pt x="681" y="790"/>
                  </a:lnTo>
                  <a:lnTo>
                    <a:pt x="665" y="807"/>
                  </a:lnTo>
                  <a:lnTo>
                    <a:pt x="638" y="831"/>
                  </a:lnTo>
                  <a:lnTo>
                    <a:pt x="610" y="858"/>
                  </a:lnTo>
                  <a:lnTo>
                    <a:pt x="581" y="883"/>
                  </a:lnTo>
                  <a:lnTo>
                    <a:pt x="553" y="909"/>
                  </a:lnTo>
                  <a:lnTo>
                    <a:pt x="524" y="937"/>
                  </a:lnTo>
                  <a:lnTo>
                    <a:pt x="495" y="965"/>
                  </a:lnTo>
                  <a:lnTo>
                    <a:pt x="465" y="993"/>
                  </a:lnTo>
                  <a:lnTo>
                    <a:pt x="435" y="1022"/>
                  </a:lnTo>
                  <a:lnTo>
                    <a:pt x="426" y="1005"/>
                  </a:lnTo>
                  <a:lnTo>
                    <a:pt x="416" y="989"/>
                  </a:lnTo>
                  <a:lnTo>
                    <a:pt x="406" y="976"/>
                  </a:lnTo>
                  <a:lnTo>
                    <a:pt x="397" y="964"/>
                  </a:lnTo>
                  <a:lnTo>
                    <a:pt x="388" y="953"/>
                  </a:lnTo>
                  <a:lnTo>
                    <a:pt x="378" y="944"/>
                  </a:lnTo>
                  <a:lnTo>
                    <a:pt x="370" y="937"/>
                  </a:lnTo>
                  <a:lnTo>
                    <a:pt x="360" y="932"/>
                  </a:lnTo>
                  <a:lnTo>
                    <a:pt x="367" y="925"/>
                  </a:lnTo>
                  <a:lnTo>
                    <a:pt x="375" y="919"/>
                  </a:lnTo>
                  <a:lnTo>
                    <a:pt x="381" y="912"/>
                  </a:lnTo>
                  <a:lnTo>
                    <a:pt x="387" y="903"/>
                  </a:lnTo>
                  <a:lnTo>
                    <a:pt x="393" y="895"/>
                  </a:lnTo>
                  <a:lnTo>
                    <a:pt x="398" y="885"/>
                  </a:lnTo>
                  <a:lnTo>
                    <a:pt x="402" y="875"/>
                  </a:lnTo>
                  <a:lnTo>
                    <a:pt x="407" y="864"/>
                  </a:lnTo>
                  <a:lnTo>
                    <a:pt x="411" y="852"/>
                  </a:lnTo>
                  <a:lnTo>
                    <a:pt x="414" y="840"/>
                  </a:lnTo>
                  <a:lnTo>
                    <a:pt x="417" y="827"/>
                  </a:lnTo>
                  <a:lnTo>
                    <a:pt x="419" y="813"/>
                  </a:lnTo>
                  <a:lnTo>
                    <a:pt x="424" y="783"/>
                  </a:lnTo>
                  <a:lnTo>
                    <a:pt x="426" y="752"/>
                  </a:lnTo>
                  <a:lnTo>
                    <a:pt x="430" y="685"/>
                  </a:lnTo>
                  <a:lnTo>
                    <a:pt x="433" y="617"/>
                  </a:lnTo>
                  <a:lnTo>
                    <a:pt x="435" y="549"/>
                  </a:lnTo>
                  <a:lnTo>
                    <a:pt x="436" y="479"/>
                  </a:lnTo>
                  <a:lnTo>
                    <a:pt x="436" y="410"/>
                  </a:lnTo>
                  <a:lnTo>
                    <a:pt x="436" y="339"/>
                  </a:lnTo>
                  <a:lnTo>
                    <a:pt x="434" y="267"/>
                  </a:lnTo>
                  <a:lnTo>
                    <a:pt x="430" y="195"/>
                  </a:lnTo>
                  <a:lnTo>
                    <a:pt x="428" y="174"/>
                  </a:lnTo>
                  <a:lnTo>
                    <a:pt x="424" y="153"/>
                  </a:lnTo>
                  <a:lnTo>
                    <a:pt x="419" y="133"/>
                  </a:lnTo>
                  <a:lnTo>
                    <a:pt x="414" y="113"/>
                  </a:lnTo>
                  <a:lnTo>
                    <a:pt x="408" y="95"/>
                  </a:lnTo>
                  <a:lnTo>
                    <a:pt x="401" y="78"/>
                  </a:lnTo>
                  <a:lnTo>
                    <a:pt x="394" y="61"/>
                  </a:lnTo>
                  <a:lnTo>
                    <a:pt x="385" y="46"/>
                  </a:lnTo>
                  <a:lnTo>
                    <a:pt x="417" y="49"/>
                  </a:lnTo>
                  <a:lnTo>
                    <a:pt x="448" y="54"/>
                  </a:lnTo>
                  <a:lnTo>
                    <a:pt x="478" y="62"/>
                  </a:lnTo>
                  <a:lnTo>
                    <a:pt x="505" y="70"/>
                  </a:lnTo>
                  <a:lnTo>
                    <a:pt x="545" y="64"/>
                  </a:lnTo>
                  <a:lnTo>
                    <a:pt x="581" y="56"/>
                  </a:lnTo>
                  <a:lnTo>
                    <a:pt x="615" y="49"/>
                  </a:lnTo>
                  <a:lnTo>
                    <a:pt x="645" y="41"/>
                  </a:lnTo>
                  <a:lnTo>
                    <a:pt x="673" y="31"/>
                  </a:lnTo>
                  <a:lnTo>
                    <a:pt x="697" y="21"/>
                  </a:lnTo>
                  <a:lnTo>
                    <a:pt x="718" y="12"/>
                  </a:lnTo>
                  <a:lnTo>
                    <a:pt x="736" y="0"/>
                  </a:lnTo>
                  <a:lnTo>
                    <a:pt x="750" y="14"/>
                  </a:lnTo>
                  <a:lnTo>
                    <a:pt x="765" y="26"/>
                  </a:lnTo>
                  <a:lnTo>
                    <a:pt x="781" y="37"/>
                  </a:lnTo>
                  <a:lnTo>
                    <a:pt x="796" y="47"/>
                  </a:lnTo>
                  <a:lnTo>
                    <a:pt x="814" y="55"/>
                  </a:lnTo>
                  <a:lnTo>
                    <a:pt x="832" y="64"/>
                  </a:lnTo>
                  <a:lnTo>
                    <a:pt x="850" y="70"/>
                  </a:lnTo>
                  <a:lnTo>
                    <a:pt x="871" y="75"/>
                  </a:lnTo>
                  <a:lnTo>
                    <a:pt x="863" y="83"/>
                  </a:lnTo>
                  <a:lnTo>
                    <a:pt x="856" y="90"/>
                  </a:lnTo>
                  <a:lnTo>
                    <a:pt x="849" y="100"/>
                  </a:lnTo>
                  <a:lnTo>
                    <a:pt x="843" y="110"/>
                  </a:lnTo>
                  <a:lnTo>
                    <a:pt x="837" y="122"/>
                  </a:lnTo>
                  <a:lnTo>
                    <a:pt x="831" y="136"/>
                  </a:lnTo>
                  <a:lnTo>
                    <a:pt x="826" y="150"/>
                  </a:lnTo>
                  <a:lnTo>
                    <a:pt x="821" y="166"/>
                  </a:lnTo>
                  <a:lnTo>
                    <a:pt x="817" y="185"/>
                  </a:lnTo>
                  <a:lnTo>
                    <a:pt x="812" y="206"/>
                  </a:lnTo>
                  <a:lnTo>
                    <a:pt x="807" y="229"/>
                  </a:lnTo>
                  <a:lnTo>
                    <a:pt x="802" y="255"/>
                  </a:lnTo>
                  <a:lnTo>
                    <a:pt x="796" y="282"/>
                  </a:lnTo>
                  <a:lnTo>
                    <a:pt x="790" y="313"/>
                  </a:lnTo>
                  <a:lnTo>
                    <a:pt x="783" y="346"/>
                  </a:lnTo>
                  <a:lnTo>
                    <a:pt x="775" y="381"/>
                  </a:lnTo>
                  <a:lnTo>
                    <a:pt x="773" y="400"/>
                  </a:lnTo>
                  <a:lnTo>
                    <a:pt x="771" y="416"/>
                  </a:lnTo>
                  <a:lnTo>
                    <a:pt x="768" y="429"/>
                  </a:lnTo>
                  <a:lnTo>
                    <a:pt x="766" y="441"/>
                  </a:lnTo>
                  <a:lnTo>
                    <a:pt x="763" y="450"/>
                  </a:lnTo>
                  <a:lnTo>
                    <a:pt x="760" y="456"/>
                  </a:lnTo>
                  <a:lnTo>
                    <a:pt x="758" y="460"/>
                  </a:lnTo>
                  <a:lnTo>
                    <a:pt x="755" y="461"/>
                  </a:lnTo>
                  <a:lnTo>
                    <a:pt x="754" y="462"/>
                  </a:lnTo>
                  <a:lnTo>
                    <a:pt x="752" y="462"/>
                  </a:lnTo>
                  <a:lnTo>
                    <a:pt x="751" y="462"/>
                  </a:lnTo>
                  <a:lnTo>
                    <a:pt x="748" y="461"/>
                  </a:lnTo>
                  <a:lnTo>
                    <a:pt x="742" y="457"/>
                  </a:lnTo>
                  <a:lnTo>
                    <a:pt x="736" y="451"/>
                  </a:lnTo>
                  <a:close/>
                  <a:moveTo>
                    <a:pt x="240" y="110"/>
                  </a:moveTo>
                  <a:lnTo>
                    <a:pt x="105" y="151"/>
                  </a:lnTo>
                  <a:lnTo>
                    <a:pt x="105" y="842"/>
                  </a:lnTo>
                  <a:lnTo>
                    <a:pt x="105" y="886"/>
                  </a:lnTo>
                  <a:lnTo>
                    <a:pt x="105" y="925"/>
                  </a:lnTo>
                  <a:lnTo>
                    <a:pt x="104" y="958"/>
                  </a:lnTo>
                  <a:lnTo>
                    <a:pt x="103" y="984"/>
                  </a:lnTo>
                  <a:lnTo>
                    <a:pt x="102" y="1003"/>
                  </a:lnTo>
                  <a:lnTo>
                    <a:pt x="100" y="1015"/>
                  </a:lnTo>
                  <a:lnTo>
                    <a:pt x="98" y="1020"/>
                  </a:lnTo>
                  <a:lnTo>
                    <a:pt x="97" y="1022"/>
                  </a:lnTo>
                  <a:lnTo>
                    <a:pt x="96" y="1023"/>
                  </a:lnTo>
                  <a:lnTo>
                    <a:pt x="95" y="1022"/>
                  </a:lnTo>
                  <a:lnTo>
                    <a:pt x="80" y="1013"/>
                  </a:lnTo>
                  <a:lnTo>
                    <a:pt x="67" y="1005"/>
                  </a:lnTo>
                  <a:lnTo>
                    <a:pt x="54" y="995"/>
                  </a:lnTo>
                  <a:lnTo>
                    <a:pt x="41" y="985"/>
                  </a:lnTo>
                  <a:lnTo>
                    <a:pt x="30" y="974"/>
                  </a:lnTo>
                  <a:lnTo>
                    <a:pt x="19" y="962"/>
                  </a:lnTo>
                  <a:lnTo>
                    <a:pt x="9" y="950"/>
                  </a:lnTo>
                  <a:lnTo>
                    <a:pt x="0" y="936"/>
                  </a:lnTo>
                  <a:lnTo>
                    <a:pt x="4" y="919"/>
                  </a:lnTo>
                  <a:lnTo>
                    <a:pt x="8" y="900"/>
                  </a:lnTo>
                  <a:lnTo>
                    <a:pt x="13" y="880"/>
                  </a:lnTo>
                  <a:lnTo>
                    <a:pt x="16" y="858"/>
                  </a:lnTo>
                  <a:lnTo>
                    <a:pt x="22" y="809"/>
                  </a:lnTo>
                  <a:lnTo>
                    <a:pt x="26" y="754"/>
                  </a:lnTo>
                  <a:lnTo>
                    <a:pt x="31" y="691"/>
                  </a:lnTo>
                  <a:lnTo>
                    <a:pt x="33" y="622"/>
                  </a:lnTo>
                  <a:lnTo>
                    <a:pt x="35" y="548"/>
                  </a:lnTo>
                  <a:lnTo>
                    <a:pt x="35" y="465"/>
                  </a:lnTo>
                  <a:lnTo>
                    <a:pt x="35" y="396"/>
                  </a:lnTo>
                  <a:lnTo>
                    <a:pt x="33" y="331"/>
                  </a:lnTo>
                  <a:lnTo>
                    <a:pt x="31" y="274"/>
                  </a:lnTo>
                  <a:lnTo>
                    <a:pt x="26" y="222"/>
                  </a:lnTo>
                  <a:lnTo>
                    <a:pt x="22" y="177"/>
                  </a:lnTo>
                  <a:lnTo>
                    <a:pt x="16" y="138"/>
                  </a:lnTo>
                  <a:lnTo>
                    <a:pt x="13" y="121"/>
                  </a:lnTo>
                  <a:lnTo>
                    <a:pt x="8" y="106"/>
                  </a:lnTo>
                  <a:lnTo>
                    <a:pt x="4" y="92"/>
                  </a:lnTo>
                  <a:lnTo>
                    <a:pt x="0" y="81"/>
                  </a:lnTo>
                  <a:lnTo>
                    <a:pt x="13" y="84"/>
                  </a:lnTo>
                  <a:lnTo>
                    <a:pt x="27" y="88"/>
                  </a:lnTo>
                  <a:lnTo>
                    <a:pt x="48" y="94"/>
                  </a:lnTo>
                  <a:lnTo>
                    <a:pt x="70" y="101"/>
                  </a:lnTo>
                  <a:lnTo>
                    <a:pt x="90" y="108"/>
                  </a:lnTo>
                  <a:lnTo>
                    <a:pt x="101" y="110"/>
                  </a:lnTo>
                  <a:lnTo>
                    <a:pt x="125" y="102"/>
                  </a:lnTo>
                  <a:lnTo>
                    <a:pt x="147" y="92"/>
                  </a:lnTo>
                  <a:lnTo>
                    <a:pt x="167" y="83"/>
                  </a:lnTo>
                  <a:lnTo>
                    <a:pt x="185" y="73"/>
                  </a:lnTo>
                  <a:lnTo>
                    <a:pt x="202" y="63"/>
                  </a:lnTo>
                  <a:lnTo>
                    <a:pt x="217" y="52"/>
                  </a:lnTo>
                  <a:lnTo>
                    <a:pt x="230" y="42"/>
                  </a:lnTo>
                  <a:lnTo>
                    <a:pt x="240" y="31"/>
                  </a:lnTo>
                  <a:lnTo>
                    <a:pt x="253" y="41"/>
                  </a:lnTo>
                  <a:lnTo>
                    <a:pt x="267" y="50"/>
                  </a:lnTo>
                  <a:lnTo>
                    <a:pt x="282" y="60"/>
                  </a:lnTo>
                  <a:lnTo>
                    <a:pt x="297" y="68"/>
                  </a:lnTo>
                  <a:lnTo>
                    <a:pt x="312" y="77"/>
                  </a:lnTo>
                  <a:lnTo>
                    <a:pt x="329" y="85"/>
                  </a:lnTo>
                  <a:lnTo>
                    <a:pt x="347" y="92"/>
                  </a:lnTo>
                  <a:lnTo>
                    <a:pt x="365" y="101"/>
                  </a:lnTo>
                  <a:lnTo>
                    <a:pt x="347" y="117"/>
                  </a:lnTo>
                  <a:lnTo>
                    <a:pt x="329" y="136"/>
                  </a:lnTo>
                  <a:lnTo>
                    <a:pt x="310" y="158"/>
                  </a:lnTo>
                  <a:lnTo>
                    <a:pt x="291" y="181"/>
                  </a:lnTo>
                  <a:lnTo>
                    <a:pt x="272" y="209"/>
                  </a:lnTo>
                  <a:lnTo>
                    <a:pt x="252" y="239"/>
                  </a:lnTo>
                  <a:lnTo>
                    <a:pt x="232" y="270"/>
                  </a:lnTo>
                  <a:lnTo>
                    <a:pt x="211" y="305"/>
                  </a:lnTo>
                  <a:lnTo>
                    <a:pt x="233" y="319"/>
                  </a:lnTo>
                  <a:lnTo>
                    <a:pt x="254" y="334"/>
                  </a:lnTo>
                  <a:lnTo>
                    <a:pt x="272" y="349"/>
                  </a:lnTo>
                  <a:lnTo>
                    <a:pt x="289" y="365"/>
                  </a:lnTo>
                  <a:lnTo>
                    <a:pt x="304" y="381"/>
                  </a:lnTo>
                  <a:lnTo>
                    <a:pt x="317" y="397"/>
                  </a:lnTo>
                  <a:lnTo>
                    <a:pt x="327" y="414"/>
                  </a:lnTo>
                  <a:lnTo>
                    <a:pt x="336" y="431"/>
                  </a:lnTo>
                  <a:lnTo>
                    <a:pt x="342" y="454"/>
                  </a:lnTo>
                  <a:lnTo>
                    <a:pt x="346" y="475"/>
                  </a:lnTo>
                  <a:lnTo>
                    <a:pt x="348" y="494"/>
                  </a:lnTo>
                  <a:lnTo>
                    <a:pt x="349" y="512"/>
                  </a:lnTo>
                  <a:lnTo>
                    <a:pt x="348" y="521"/>
                  </a:lnTo>
                  <a:lnTo>
                    <a:pt x="347" y="528"/>
                  </a:lnTo>
                  <a:lnTo>
                    <a:pt x="346" y="535"/>
                  </a:lnTo>
                  <a:lnTo>
                    <a:pt x="344" y="543"/>
                  </a:lnTo>
                  <a:lnTo>
                    <a:pt x="341" y="549"/>
                  </a:lnTo>
                  <a:lnTo>
                    <a:pt x="338" y="556"/>
                  </a:lnTo>
                  <a:lnTo>
                    <a:pt x="335" y="561"/>
                  </a:lnTo>
                  <a:lnTo>
                    <a:pt x="330" y="566"/>
                  </a:lnTo>
                  <a:lnTo>
                    <a:pt x="318" y="564"/>
                  </a:lnTo>
                  <a:lnTo>
                    <a:pt x="303" y="560"/>
                  </a:lnTo>
                  <a:lnTo>
                    <a:pt x="286" y="554"/>
                  </a:lnTo>
                  <a:lnTo>
                    <a:pt x="266" y="547"/>
                  </a:lnTo>
                  <a:lnTo>
                    <a:pt x="243" y="539"/>
                  </a:lnTo>
                  <a:lnTo>
                    <a:pt x="218" y="528"/>
                  </a:lnTo>
                  <a:lnTo>
                    <a:pt x="191" y="515"/>
                  </a:lnTo>
                  <a:lnTo>
                    <a:pt x="160" y="500"/>
                  </a:lnTo>
                  <a:lnTo>
                    <a:pt x="154" y="496"/>
                  </a:lnTo>
                  <a:lnTo>
                    <a:pt x="149" y="492"/>
                  </a:lnTo>
                  <a:lnTo>
                    <a:pt x="146" y="489"/>
                  </a:lnTo>
                  <a:lnTo>
                    <a:pt x="145" y="486"/>
                  </a:lnTo>
                  <a:lnTo>
                    <a:pt x="146" y="483"/>
                  </a:lnTo>
                  <a:lnTo>
                    <a:pt x="150" y="481"/>
                  </a:lnTo>
                  <a:lnTo>
                    <a:pt x="157" y="478"/>
                  </a:lnTo>
                  <a:lnTo>
                    <a:pt x="165" y="476"/>
                  </a:lnTo>
                  <a:lnTo>
                    <a:pt x="185" y="475"/>
                  </a:lnTo>
                  <a:lnTo>
                    <a:pt x="205" y="473"/>
                  </a:lnTo>
                  <a:lnTo>
                    <a:pt x="226" y="471"/>
                  </a:lnTo>
                  <a:lnTo>
                    <a:pt x="246" y="465"/>
                  </a:lnTo>
                  <a:lnTo>
                    <a:pt x="250" y="464"/>
                  </a:lnTo>
                  <a:lnTo>
                    <a:pt x="253" y="462"/>
                  </a:lnTo>
                  <a:lnTo>
                    <a:pt x="256" y="459"/>
                  </a:lnTo>
                  <a:lnTo>
                    <a:pt x="258" y="455"/>
                  </a:lnTo>
                  <a:lnTo>
                    <a:pt x="258" y="450"/>
                  </a:lnTo>
                  <a:lnTo>
                    <a:pt x="258" y="444"/>
                  </a:lnTo>
                  <a:lnTo>
                    <a:pt x="257" y="438"/>
                  </a:lnTo>
                  <a:lnTo>
                    <a:pt x="255" y="431"/>
                  </a:lnTo>
                  <a:lnTo>
                    <a:pt x="252" y="423"/>
                  </a:lnTo>
                  <a:lnTo>
                    <a:pt x="248" y="412"/>
                  </a:lnTo>
                  <a:lnTo>
                    <a:pt x="241" y="401"/>
                  </a:lnTo>
                  <a:lnTo>
                    <a:pt x="234" y="388"/>
                  </a:lnTo>
                  <a:lnTo>
                    <a:pt x="215" y="357"/>
                  </a:lnTo>
                  <a:lnTo>
                    <a:pt x="191" y="320"/>
                  </a:lnTo>
                  <a:lnTo>
                    <a:pt x="185" y="312"/>
                  </a:lnTo>
                  <a:lnTo>
                    <a:pt x="180" y="305"/>
                  </a:lnTo>
                  <a:lnTo>
                    <a:pt x="192" y="277"/>
                  </a:lnTo>
                  <a:lnTo>
                    <a:pt x="201" y="248"/>
                  </a:lnTo>
                  <a:lnTo>
                    <a:pt x="210" y="222"/>
                  </a:lnTo>
                  <a:lnTo>
                    <a:pt x="218" y="197"/>
                  </a:lnTo>
                  <a:lnTo>
                    <a:pt x="225" y="173"/>
                  </a:lnTo>
                  <a:lnTo>
                    <a:pt x="231" y="151"/>
                  </a:lnTo>
                  <a:lnTo>
                    <a:pt x="236" y="130"/>
                  </a:lnTo>
                  <a:lnTo>
                    <a:pt x="240" y="110"/>
                  </a:lnTo>
                  <a:close/>
                  <a:moveTo>
                    <a:pt x="501" y="116"/>
                  </a:moveTo>
                  <a:lnTo>
                    <a:pt x="501" y="236"/>
                  </a:lnTo>
                  <a:lnTo>
                    <a:pt x="522" y="230"/>
                  </a:lnTo>
                  <a:lnTo>
                    <a:pt x="545" y="225"/>
                  </a:lnTo>
                  <a:lnTo>
                    <a:pt x="572" y="217"/>
                  </a:lnTo>
                  <a:lnTo>
                    <a:pt x="601" y="211"/>
                  </a:lnTo>
                  <a:lnTo>
                    <a:pt x="616" y="206"/>
                  </a:lnTo>
                  <a:lnTo>
                    <a:pt x="630" y="202"/>
                  </a:lnTo>
                  <a:lnTo>
                    <a:pt x="642" y="198"/>
                  </a:lnTo>
                  <a:lnTo>
                    <a:pt x="650" y="195"/>
                  </a:lnTo>
                  <a:lnTo>
                    <a:pt x="664" y="208"/>
                  </a:lnTo>
                  <a:lnTo>
                    <a:pt x="676" y="221"/>
                  </a:lnTo>
                  <a:lnTo>
                    <a:pt x="684" y="233"/>
                  </a:lnTo>
                  <a:lnTo>
                    <a:pt x="691" y="246"/>
                  </a:lnTo>
                  <a:lnTo>
                    <a:pt x="677" y="248"/>
                  </a:lnTo>
                  <a:lnTo>
                    <a:pt x="658" y="250"/>
                  </a:lnTo>
                  <a:lnTo>
                    <a:pt x="637" y="254"/>
                  </a:lnTo>
                  <a:lnTo>
                    <a:pt x="611" y="256"/>
                  </a:lnTo>
                  <a:lnTo>
                    <a:pt x="574" y="263"/>
                  </a:lnTo>
                  <a:lnTo>
                    <a:pt x="543" y="268"/>
                  </a:lnTo>
                  <a:lnTo>
                    <a:pt x="519" y="273"/>
                  </a:lnTo>
                  <a:lnTo>
                    <a:pt x="501" y="276"/>
                  </a:lnTo>
                  <a:lnTo>
                    <a:pt x="501" y="396"/>
                  </a:lnTo>
                  <a:lnTo>
                    <a:pt x="513" y="393"/>
                  </a:lnTo>
                  <a:lnTo>
                    <a:pt x="526" y="391"/>
                  </a:lnTo>
                  <a:lnTo>
                    <a:pt x="544" y="388"/>
                  </a:lnTo>
                  <a:lnTo>
                    <a:pt x="566" y="386"/>
                  </a:lnTo>
                  <a:lnTo>
                    <a:pt x="608" y="379"/>
                  </a:lnTo>
                  <a:lnTo>
                    <a:pt x="643" y="373"/>
                  </a:lnTo>
                  <a:lnTo>
                    <a:pt x="673" y="369"/>
                  </a:lnTo>
                  <a:lnTo>
                    <a:pt x="696" y="366"/>
                  </a:lnTo>
                  <a:lnTo>
                    <a:pt x="700" y="333"/>
                  </a:lnTo>
                  <a:lnTo>
                    <a:pt x="705" y="298"/>
                  </a:lnTo>
                  <a:lnTo>
                    <a:pt x="710" y="263"/>
                  </a:lnTo>
                  <a:lnTo>
                    <a:pt x="714" y="227"/>
                  </a:lnTo>
                  <a:lnTo>
                    <a:pt x="718" y="190"/>
                  </a:lnTo>
                  <a:lnTo>
                    <a:pt x="722" y="151"/>
                  </a:lnTo>
                  <a:lnTo>
                    <a:pt x="727" y="112"/>
                  </a:lnTo>
                  <a:lnTo>
                    <a:pt x="731" y="70"/>
                  </a:lnTo>
                  <a:lnTo>
                    <a:pt x="721" y="73"/>
                  </a:lnTo>
                  <a:lnTo>
                    <a:pt x="706" y="77"/>
                  </a:lnTo>
                  <a:lnTo>
                    <a:pt x="688" y="81"/>
                  </a:lnTo>
                  <a:lnTo>
                    <a:pt x="665" y="86"/>
                  </a:lnTo>
                  <a:lnTo>
                    <a:pt x="637" y="90"/>
                  </a:lnTo>
                  <a:lnTo>
                    <a:pt x="610" y="95"/>
                  </a:lnTo>
                  <a:lnTo>
                    <a:pt x="586" y="99"/>
                  </a:lnTo>
                  <a:lnTo>
                    <a:pt x="565" y="103"/>
                  </a:lnTo>
                  <a:lnTo>
                    <a:pt x="544" y="106"/>
                  </a:lnTo>
                  <a:lnTo>
                    <a:pt x="527" y="109"/>
                  </a:lnTo>
                  <a:lnTo>
                    <a:pt x="513" y="113"/>
                  </a:lnTo>
                  <a:lnTo>
                    <a:pt x="501" y="116"/>
                  </a:lnTo>
                  <a:close/>
                </a:path>
              </a:pathLst>
            </a:custGeom>
            <a:solidFill>
              <a:srgbClr val="ffff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00"/>
                </a:solidFill>
                <a:latin typeface="Arial"/>
                <a:ea typeface="宋体"/>
              </a:endParaRPr>
            </a:p>
          </p:txBody>
        </p:sp>
        <p:sp>
          <p:nvSpPr>
            <p:cNvPr id="521" name="Freeform 23"/>
            <p:cNvSpPr/>
            <p:nvPr/>
          </p:nvSpPr>
          <p:spPr>
            <a:xfrm>
              <a:off x="4534200" y="9465840"/>
              <a:ext cx="189720" cy="147600"/>
            </a:xfrm>
            <a:custGeom>
              <a:avLst/>
              <a:gdLst>
                <a:gd name="textAreaLeft" fmla="*/ 0 w 189720"/>
                <a:gd name="textAreaRight" fmla="*/ 190080 w 189720"/>
                <a:gd name="textAreaTop" fmla="*/ 0 h 147600"/>
                <a:gd name="textAreaBottom" fmla="*/ 147960 h 147600"/>
              </a:gdLst>
              <a:ahLst/>
              <a:rect l="textAreaLeft" t="textAreaTop" r="textAreaRight" b="textAreaBottom"/>
              <a:pathLst>
                <a:path w="1185" h="971">
                  <a:moveTo>
                    <a:pt x="660" y="675"/>
                  </a:moveTo>
                  <a:lnTo>
                    <a:pt x="694" y="698"/>
                  </a:lnTo>
                  <a:lnTo>
                    <a:pt x="724" y="720"/>
                  </a:lnTo>
                  <a:lnTo>
                    <a:pt x="754" y="740"/>
                  </a:lnTo>
                  <a:lnTo>
                    <a:pt x="780" y="760"/>
                  </a:lnTo>
                  <a:lnTo>
                    <a:pt x="804" y="778"/>
                  </a:lnTo>
                  <a:lnTo>
                    <a:pt x="825" y="795"/>
                  </a:lnTo>
                  <a:lnTo>
                    <a:pt x="844" y="811"/>
                  </a:lnTo>
                  <a:lnTo>
                    <a:pt x="860" y="825"/>
                  </a:lnTo>
                  <a:lnTo>
                    <a:pt x="863" y="834"/>
                  </a:lnTo>
                  <a:lnTo>
                    <a:pt x="865" y="844"/>
                  </a:lnTo>
                  <a:lnTo>
                    <a:pt x="865" y="856"/>
                  </a:lnTo>
                  <a:lnTo>
                    <a:pt x="865" y="869"/>
                  </a:lnTo>
                  <a:lnTo>
                    <a:pt x="863" y="884"/>
                  </a:lnTo>
                  <a:lnTo>
                    <a:pt x="860" y="901"/>
                  </a:lnTo>
                  <a:lnTo>
                    <a:pt x="856" y="919"/>
                  </a:lnTo>
                  <a:lnTo>
                    <a:pt x="849" y="941"/>
                  </a:lnTo>
                  <a:lnTo>
                    <a:pt x="848" y="947"/>
                  </a:lnTo>
                  <a:lnTo>
                    <a:pt x="846" y="953"/>
                  </a:lnTo>
                  <a:lnTo>
                    <a:pt x="845" y="959"/>
                  </a:lnTo>
                  <a:lnTo>
                    <a:pt x="842" y="963"/>
                  </a:lnTo>
                  <a:lnTo>
                    <a:pt x="840" y="966"/>
                  </a:lnTo>
                  <a:lnTo>
                    <a:pt x="837" y="968"/>
                  </a:lnTo>
                  <a:lnTo>
                    <a:pt x="834" y="970"/>
                  </a:lnTo>
                  <a:lnTo>
                    <a:pt x="830" y="970"/>
                  </a:lnTo>
                  <a:lnTo>
                    <a:pt x="827" y="971"/>
                  </a:lnTo>
                  <a:lnTo>
                    <a:pt x="825" y="971"/>
                  </a:lnTo>
                  <a:lnTo>
                    <a:pt x="822" y="970"/>
                  </a:lnTo>
                  <a:lnTo>
                    <a:pt x="819" y="968"/>
                  </a:lnTo>
                  <a:lnTo>
                    <a:pt x="812" y="961"/>
                  </a:lnTo>
                  <a:lnTo>
                    <a:pt x="805" y="950"/>
                  </a:lnTo>
                  <a:lnTo>
                    <a:pt x="797" y="944"/>
                  </a:lnTo>
                  <a:lnTo>
                    <a:pt x="788" y="936"/>
                  </a:lnTo>
                  <a:lnTo>
                    <a:pt x="778" y="926"/>
                  </a:lnTo>
                  <a:lnTo>
                    <a:pt x="768" y="913"/>
                  </a:lnTo>
                  <a:lnTo>
                    <a:pt x="744" y="881"/>
                  </a:lnTo>
                  <a:lnTo>
                    <a:pt x="715" y="840"/>
                  </a:lnTo>
                  <a:lnTo>
                    <a:pt x="643" y="853"/>
                  </a:lnTo>
                  <a:lnTo>
                    <a:pt x="574" y="866"/>
                  </a:lnTo>
                  <a:lnTo>
                    <a:pt x="507" y="880"/>
                  </a:lnTo>
                  <a:lnTo>
                    <a:pt x="445" y="894"/>
                  </a:lnTo>
                  <a:lnTo>
                    <a:pt x="386" y="909"/>
                  </a:lnTo>
                  <a:lnTo>
                    <a:pt x="328" y="924"/>
                  </a:lnTo>
                  <a:lnTo>
                    <a:pt x="275" y="940"/>
                  </a:lnTo>
                  <a:lnTo>
                    <a:pt x="225" y="955"/>
                  </a:lnTo>
                  <a:lnTo>
                    <a:pt x="225" y="941"/>
                  </a:lnTo>
                  <a:lnTo>
                    <a:pt x="223" y="926"/>
                  </a:lnTo>
                  <a:lnTo>
                    <a:pt x="222" y="912"/>
                  </a:lnTo>
                  <a:lnTo>
                    <a:pt x="219" y="898"/>
                  </a:lnTo>
                  <a:lnTo>
                    <a:pt x="217" y="884"/>
                  </a:lnTo>
                  <a:lnTo>
                    <a:pt x="214" y="871"/>
                  </a:lnTo>
                  <a:lnTo>
                    <a:pt x="210" y="858"/>
                  </a:lnTo>
                  <a:lnTo>
                    <a:pt x="204" y="845"/>
                  </a:lnTo>
                  <a:lnTo>
                    <a:pt x="221" y="841"/>
                  </a:lnTo>
                  <a:lnTo>
                    <a:pt x="237" y="836"/>
                  </a:lnTo>
                  <a:lnTo>
                    <a:pt x="253" y="828"/>
                  </a:lnTo>
                  <a:lnTo>
                    <a:pt x="269" y="820"/>
                  </a:lnTo>
                  <a:lnTo>
                    <a:pt x="284" y="811"/>
                  </a:lnTo>
                  <a:lnTo>
                    <a:pt x="300" y="800"/>
                  </a:lnTo>
                  <a:lnTo>
                    <a:pt x="315" y="788"/>
                  </a:lnTo>
                  <a:lnTo>
                    <a:pt x="329" y="775"/>
                  </a:lnTo>
                  <a:lnTo>
                    <a:pt x="345" y="756"/>
                  </a:lnTo>
                  <a:lnTo>
                    <a:pt x="361" y="737"/>
                  </a:lnTo>
                  <a:lnTo>
                    <a:pt x="375" y="718"/>
                  </a:lnTo>
                  <a:lnTo>
                    <a:pt x="389" y="698"/>
                  </a:lnTo>
                  <a:lnTo>
                    <a:pt x="401" y="679"/>
                  </a:lnTo>
                  <a:lnTo>
                    <a:pt x="413" y="659"/>
                  </a:lnTo>
                  <a:lnTo>
                    <a:pt x="425" y="639"/>
                  </a:lnTo>
                  <a:lnTo>
                    <a:pt x="435" y="617"/>
                  </a:lnTo>
                  <a:lnTo>
                    <a:pt x="445" y="597"/>
                  </a:lnTo>
                  <a:lnTo>
                    <a:pt x="453" y="576"/>
                  </a:lnTo>
                  <a:lnTo>
                    <a:pt x="462" y="555"/>
                  </a:lnTo>
                  <a:lnTo>
                    <a:pt x="468" y="533"/>
                  </a:lnTo>
                  <a:lnTo>
                    <a:pt x="476" y="511"/>
                  </a:lnTo>
                  <a:lnTo>
                    <a:pt x="481" y="489"/>
                  </a:lnTo>
                  <a:lnTo>
                    <a:pt x="486" y="467"/>
                  </a:lnTo>
                  <a:lnTo>
                    <a:pt x="490" y="445"/>
                  </a:lnTo>
                  <a:lnTo>
                    <a:pt x="513" y="461"/>
                  </a:lnTo>
                  <a:lnTo>
                    <a:pt x="534" y="474"/>
                  </a:lnTo>
                  <a:lnTo>
                    <a:pt x="554" y="486"/>
                  </a:lnTo>
                  <a:lnTo>
                    <a:pt x="572" y="497"/>
                  </a:lnTo>
                  <a:lnTo>
                    <a:pt x="589" y="505"/>
                  </a:lnTo>
                  <a:lnTo>
                    <a:pt x="604" y="511"/>
                  </a:lnTo>
                  <a:lnTo>
                    <a:pt x="618" y="517"/>
                  </a:lnTo>
                  <a:lnTo>
                    <a:pt x="630" y="520"/>
                  </a:lnTo>
                  <a:lnTo>
                    <a:pt x="616" y="527"/>
                  </a:lnTo>
                  <a:lnTo>
                    <a:pt x="604" y="537"/>
                  </a:lnTo>
                  <a:lnTo>
                    <a:pt x="592" y="546"/>
                  </a:lnTo>
                  <a:lnTo>
                    <a:pt x="581" y="556"/>
                  </a:lnTo>
                  <a:lnTo>
                    <a:pt x="571" y="568"/>
                  </a:lnTo>
                  <a:lnTo>
                    <a:pt x="561" y="579"/>
                  </a:lnTo>
                  <a:lnTo>
                    <a:pt x="553" y="592"/>
                  </a:lnTo>
                  <a:lnTo>
                    <a:pt x="544" y="605"/>
                  </a:lnTo>
                  <a:lnTo>
                    <a:pt x="525" y="633"/>
                  </a:lnTo>
                  <a:lnTo>
                    <a:pt x="506" y="662"/>
                  </a:lnTo>
                  <a:lnTo>
                    <a:pt x="486" y="689"/>
                  </a:lnTo>
                  <a:lnTo>
                    <a:pt x="466" y="718"/>
                  </a:lnTo>
                  <a:lnTo>
                    <a:pt x="445" y="745"/>
                  </a:lnTo>
                  <a:lnTo>
                    <a:pt x="424" y="772"/>
                  </a:lnTo>
                  <a:lnTo>
                    <a:pt x="402" y="799"/>
                  </a:lnTo>
                  <a:lnTo>
                    <a:pt x="380" y="825"/>
                  </a:lnTo>
                  <a:lnTo>
                    <a:pt x="690" y="790"/>
                  </a:lnTo>
                  <a:lnTo>
                    <a:pt x="687" y="787"/>
                  </a:lnTo>
                  <a:lnTo>
                    <a:pt x="685" y="783"/>
                  </a:lnTo>
                  <a:lnTo>
                    <a:pt x="682" y="777"/>
                  </a:lnTo>
                  <a:lnTo>
                    <a:pt x="680" y="770"/>
                  </a:lnTo>
                  <a:lnTo>
                    <a:pt x="669" y="754"/>
                  </a:lnTo>
                  <a:lnTo>
                    <a:pt x="660" y="735"/>
                  </a:lnTo>
                  <a:lnTo>
                    <a:pt x="650" y="714"/>
                  </a:lnTo>
                  <a:lnTo>
                    <a:pt x="640" y="690"/>
                  </a:lnTo>
                  <a:lnTo>
                    <a:pt x="636" y="681"/>
                  </a:lnTo>
                  <a:lnTo>
                    <a:pt x="633" y="674"/>
                  </a:lnTo>
                  <a:lnTo>
                    <a:pt x="633" y="668"/>
                  </a:lnTo>
                  <a:lnTo>
                    <a:pt x="634" y="665"/>
                  </a:lnTo>
                  <a:lnTo>
                    <a:pt x="637" y="664"/>
                  </a:lnTo>
                  <a:lnTo>
                    <a:pt x="639" y="664"/>
                  </a:lnTo>
                  <a:lnTo>
                    <a:pt x="641" y="664"/>
                  </a:lnTo>
                  <a:lnTo>
                    <a:pt x="644" y="665"/>
                  </a:lnTo>
                  <a:lnTo>
                    <a:pt x="650" y="669"/>
                  </a:lnTo>
                  <a:lnTo>
                    <a:pt x="660" y="675"/>
                  </a:lnTo>
                  <a:close/>
                  <a:moveTo>
                    <a:pt x="550" y="9"/>
                  </a:moveTo>
                  <a:lnTo>
                    <a:pt x="567" y="23"/>
                  </a:lnTo>
                  <a:lnTo>
                    <a:pt x="586" y="39"/>
                  </a:lnTo>
                  <a:lnTo>
                    <a:pt x="606" y="59"/>
                  </a:lnTo>
                  <a:lnTo>
                    <a:pt x="629" y="82"/>
                  </a:lnTo>
                  <a:lnTo>
                    <a:pt x="652" y="109"/>
                  </a:lnTo>
                  <a:lnTo>
                    <a:pt x="678" y="139"/>
                  </a:lnTo>
                  <a:lnTo>
                    <a:pt x="705" y="172"/>
                  </a:lnTo>
                  <a:lnTo>
                    <a:pt x="735" y="209"/>
                  </a:lnTo>
                  <a:lnTo>
                    <a:pt x="767" y="249"/>
                  </a:lnTo>
                  <a:lnTo>
                    <a:pt x="795" y="285"/>
                  </a:lnTo>
                  <a:lnTo>
                    <a:pt x="823" y="315"/>
                  </a:lnTo>
                  <a:lnTo>
                    <a:pt x="848" y="342"/>
                  </a:lnTo>
                  <a:lnTo>
                    <a:pt x="872" y="365"/>
                  </a:lnTo>
                  <a:lnTo>
                    <a:pt x="893" y="384"/>
                  </a:lnTo>
                  <a:lnTo>
                    <a:pt x="903" y="392"/>
                  </a:lnTo>
                  <a:lnTo>
                    <a:pt x="913" y="399"/>
                  </a:lnTo>
                  <a:lnTo>
                    <a:pt x="921" y="405"/>
                  </a:lnTo>
                  <a:lnTo>
                    <a:pt x="930" y="410"/>
                  </a:lnTo>
                  <a:lnTo>
                    <a:pt x="965" y="429"/>
                  </a:lnTo>
                  <a:lnTo>
                    <a:pt x="999" y="447"/>
                  </a:lnTo>
                  <a:lnTo>
                    <a:pt x="1030" y="464"/>
                  </a:lnTo>
                  <a:lnTo>
                    <a:pt x="1059" y="481"/>
                  </a:lnTo>
                  <a:lnTo>
                    <a:pt x="1086" y="498"/>
                  </a:lnTo>
                  <a:lnTo>
                    <a:pt x="1111" y="514"/>
                  </a:lnTo>
                  <a:lnTo>
                    <a:pt x="1134" y="529"/>
                  </a:lnTo>
                  <a:lnTo>
                    <a:pt x="1156" y="545"/>
                  </a:lnTo>
                  <a:lnTo>
                    <a:pt x="1163" y="551"/>
                  </a:lnTo>
                  <a:lnTo>
                    <a:pt x="1170" y="557"/>
                  </a:lnTo>
                  <a:lnTo>
                    <a:pt x="1176" y="562"/>
                  </a:lnTo>
                  <a:lnTo>
                    <a:pt x="1180" y="568"/>
                  </a:lnTo>
                  <a:lnTo>
                    <a:pt x="1183" y="573"/>
                  </a:lnTo>
                  <a:lnTo>
                    <a:pt x="1185" y="577"/>
                  </a:lnTo>
                  <a:lnTo>
                    <a:pt x="1185" y="581"/>
                  </a:lnTo>
                  <a:lnTo>
                    <a:pt x="1185" y="585"/>
                  </a:lnTo>
                  <a:lnTo>
                    <a:pt x="1183" y="590"/>
                  </a:lnTo>
                  <a:lnTo>
                    <a:pt x="1180" y="593"/>
                  </a:lnTo>
                  <a:lnTo>
                    <a:pt x="1176" y="596"/>
                  </a:lnTo>
                  <a:lnTo>
                    <a:pt x="1170" y="598"/>
                  </a:lnTo>
                  <a:lnTo>
                    <a:pt x="1163" y="600"/>
                  </a:lnTo>
                  <a:lnTo>
                    <a:pt x="1156" y="600"/>
                  </a:lnTo>
                  <a:lnTo>
                    <a:pt x="1146" y="600"/>
                  </a:lnTo>
                  <a:lnTo>
                    <a:pt x="1135" y="600"/>
                  </a:lnTo>
                  <a:lnTo>
                    <a:pt x="1090" y="597"/>
                  </a:lnTo>
                  <a:lnTo>
                    <a:pt x="1048" y="593"/>
                  </a:lnTo>
                  <a:lnTo>
                    <a:pt x="1010" y="588"/>
                  </a:lnTo>
                  <a:lnTo>
                    <a:pt x="977" y="581"/>
                  </a:lnTo>
                  <a:lnTo>
                    <a:pt x="961" y="578"/>
                  </a:lnTo>
                  <a:lnTo>
                    <a:pt x="946" y="574"/>
                  </a:lnTo>
                  <a:lnTo>
                    <a:pt x="933" y="570"/>
                  </a:lnTo>
                  <a:lnTo>
                    <a:pt x="920" y="565"/>
                  </a:lnTo>
                  <a:lnTo>
                    <a:pt x="909" y="560"/>
                  </a:lnTo>
                  <a:lnTo>
                    <a:pt x="898" y="556"/>
                  </a:lnTo>
                  <a:lnTo>
                    <a:pt x="889" y="551"/>
                  </a:lnTo>
                  <a:lnTo>
                    <a:pt x="880" y="545"/>
                  </a:lnTo>
                  <a:lnTo>
                    <a:pt x="866" y="532"/>
                  </a:lnTo>
                  <a:lnTo>
                    <a:pt x="851" y="514"/>
                  </a:lnTo>
                  <a:lnTo>
                    <a:pt x="834" y="492"/>
                  </a:lnTo>
                  <a:lnTo>
                    <a:pt x="813" y="466"/>
                  </a:lnTo>
                  <a:lnTo>
                    <a:pt x="792" y="436"/>
                  </a:lnTo>
                  <a:lnTo>
                    <a:pt x="768" y="401"/>
                  </a:lnTo>
                  <a:lnTo>
                    <a:pt x="742" y="363"/>
                  </a:lnTo>
                  <a:lnTo>
                    <a:pt x="715" y="320"/>
                  </a:lnTo>
                  <a:lnTo>
                    <a:pt x="677" y="263"/>
                  </a:lnTo>
                  <a:lnTo>
                    <a:pt x="642" y="213"/>
                  </a:lnTo>
                  <a:lnTo>
                    <a:pt x="609" y="167"/>
                  </a:lnTo>
                  <a:lnTo>
                    <a:pt x="578" y="127"/>
                  </a:lnTo>
                  <a:lnTo>
                    <a:pt x="551" y="92"/>
                  </a:lnTo>
                  <a:lnTo>
                    <a:pt x="524" y="63"/>
                  </a:lnTo>
                  <a:lnTo>
                    <a:pt x="513" y="50"/>
                  </a:lnTo>
                  <a:lnTo>
                    <a:pt x="501" y="39"/>
                  </a:lnTo>
                  <a:lnTo>
                    <a:pt x="490" y="28"/>
                  </a:lnTo>
                  <a:lnTo>
                    <a:pt x="480" y="20"/>
                  </a:lnTo>
                  <a:lnTo>
                    <a:pt x="482" y="15"/>
                  </a:lnTo>
                  <a:lnTo>
                    <a:pt x="484" y="11"/>
                  </a:lnTo>
                  <a:lnTo>
                    <a:pt x="487" y="8"/>
                  </a:lnTo>
                  <a:lnTo>
                    <a:pt x="490" y="6"/>
                  </a:lnTo>
                  <a:lnTo>
                    <a:pt x="494" y="4"/>
                  </a:lnTo>
                  <a:lnTo>
                    <a:pt x="497" y="2"/>
                  </a:lnTo>
                  <a:lnTo>
                    <a:pt x="501" y="1"/>
                  </a:lnTo>
                  <a:lnTo>
                    <a:pt x="505" y="0"/>
                  </a:lnTo>
                  <a:lnTo>
                    <a:pt x="515" y="0"/>
                  </a:lnTo>
                  <a:lnTo>
                    <a:pt x="525" y="1"/>
                  </a:lnTo>
                  <a:lnTo>
                    <a:pt x="537" y="4"/>
                  </a:lnTo>
                  <a:lnTo>
                    <a:pt x="550" y="9"/>
                  </a:lnTo>
                  <a:close/>
                  <a:moveTo>
                    <a:pt x="380" y="165"/>
                  </a:moveTo>
                  <a:lnTo>
                    <a:pt x="392" y="174"/>
                  </a:lnTo>
                  <a:lnTo>
                    <a:pt x="404" y="184"/>
                  </a:lnTo>
                  <a:lnTo>
                    <a:pt x="417" y="193"/>
                  </a:lnTo>
                  <a:lnTo>
                    <a:pt x="431" y="202"/>
                  </a:lnTo>
                  <a:lnTo>
                    <a:pt x="446" y="210"/>
                  </a:lnTo>
                  <a:lnTo>
                    <a:pt x="462" y="219"/>
                  </a:lnTo>
                  <a:lnTo>
                    <a:pt x="478" y="227"/>
                  </a:lnTo>
                  <a:lnTo>
                    <a:pt x="495" y="235"/>
                  </a:lnTo>
                  <a:lnTo>
                    <a:pt x="484" y="244"/>
                  </a:lnTo>
                  <a:lnTo>
                    <a:pt x="473" y="255"/>
                  </a:lnTo>
                  <a:lnTo>
                    <a:pt x="464" y="266"/>
                  </a:lnTo>
                  <a:lnTo>
                    <a:pt x="454" y="276"/>
                  </a:lnTo>
                  <a:lnTo>
                    <a:pt x="446" y="287"/>
                  </a:lnTo>
                  <a:lnTo>
                    <a:pt x="438" y="297"/>
                  </a:lnTo>
                  <a:lnTo>
                    <a:pt x="431" y="309"/>
                  </a:lnTo>
                  <a:lnTo>
                    <a:pt x="425" y="320"/>
                  </a:lnTo>
                  <a:lnTo>
                    <a:pt x="394" y="376"/>
                  </a:lnTo>
                  <a:lnTo>
                    <a:pt x="363" y="428"/>
                  </a:lnTo>
                  <a:lnTo>
                    <a:pt x="348" y="451"/>
                  </a:lnTo>
                  <a:lnTo>
                    <a:pt x="334" y="473"/>
                  </a:lnTo>
                  <a:lnTo>
                    <a:pt x="319" y="494"/>
                  </a:lnTo>
                  <a:lnTo>
                    <a:pt x="305" y="515"/>
                  </a:lnTo>
                  <a:lnTo>
                    <a:pt x="290" y="534"/>
                  </a:lnTo>
                  <a:lnTo>
                    <a:pt x="276" y="552"/>
                  </a:lnTo>
                  <a:lnTo>
                    <a:pt x="263" y="568"/>
                  </a:lnTo>
                  <a:lnTo>
                    <a:pt x="249" y="582"/>
                  </a:lnTo>
                  <a:lnTo>
                    <a:pt x="235" y="596"/>
                  </a:lnTo>
                  <a:lnTo>
                    <a:pt x="221" y="609"/>
                  </a:lnTo>
                  <a:lnTo>
                    <a:pt x="208" y="619"/>
                  </a:lnTo>
                  <a:lnTo>
                    <a:pt x="195" y="630"/>
                  </a:lnTo>
                  <a:lnTo>
                    <a:pt x="183" y="639"/>
                  </a:lnTo>
                  <a:lnTo>
                    <a:pt x="172" y="645"/>
                  </a:lnTo>
                  <a:lnTo>
                    <a:pt x="161" y="651"/>
                  </a:lnTo>
                  <a:lnTo>
                    <a:pt x="149" y="657"/>
                  </a:lnTo>
                  <a:lnTo>
                    <a:pt x="137" y="661"/>
                  </a:lnTo>
                  <a:lnTo>
                    <a:pt x="125" y="664"/>
                  </a:lnTo>
                  <a:lnTo>
                    <a:pt x="113" y="665"/>
                  </a:lnTo>
                  <a:lnTo>
                    <a:pt x="101" y="666"/>
                  </a:lnTo>
                  <a:lnTo>
                    <a:pt x="89" y="666"/>
                  </a:lnTo>
                  <a:lnTo>
                    <a:pt x="76" y="665"/>
                  </a:lnTo>
                  <a:lnTo>
                    <a:pt x="64" y="663"/>
                  </a:lnTo>
                  <a:lnTo>
                    <a:pt x="51" y="659"/>
                  </a:lnTo>
                  <a:lnTo>
                    <a:pt x="38" y="654"/>
                  </a:lnTo>
                  <a:lnTo>
                    <a:pt x="25" y="649"/>
                  </a:lnTo>
                  <a:lnTo>
                    <a:pt x="13" y="643"/>
                  </a:lnTo>
                  <a:lnTo>
                    <a:pt x="0" y="635"/>
                  </a:lnTo>
                  <a:lnTo>
                    <a:pt x="36" y="616"/>
                  </a:lnTo>
                  <a:lnTo>
                    <a:pt x="70" y="596"/>
                  </a:lnTo>
                  <a:lnTo>
                    <a:pt x="103" y="574"/>
                  </a:lnTo>
                  <a:lnTo>
                    <a:pt x="135" y="552"/>
                  </a:lnTo>
                  <a:lnTo>
                    <a:pt x="149" y="539"/>
                  </a:lnTo>
                  <a:lnTo>
                    <a:pt x="164" y="526"/>
                  </a:lnTo>
                  <a:lnTo>
                    <a:pt x="178" y="514"/>
                  </a:lnTo>
                  <a:lnTo>
                    <a:pt x="192" y="501"/>
                  </a:lnTo>
                  <a:lnTo>
                    <a:pt x="204" y="487"/>
                  </a:lnTo>
                  <a:lnTo>
                    <a:pt x="218" y="473"/>
                  </a:lnTo>
                  <a:lnTo>
                    <a:pt x="230" y="459"/>
                  </a:lnTo>
                  <a:lnTo>
                    <a:pt x="243" y="445"/>
                  </a:lnTo>
                  <a:lnTo>
                    <a:pt x="254" y="430"/>
                  </a:lnTo>
                  <a:lnTo>
                    <a:pt x="265" y="415"/>
                  </a:lnTo>
                  <a:lnTo>
                    <a:pt x="276" y="399"/>
                  </a:lnTo>
                  <a:lnTo>
                    <a:pt x="286" y="383"/>
                  </a:lnTo>
                  <a:lnTo>
                    <a:pt x="297" y="367"/>
                  </a:lnTo>
                  <a:lnTo>
                    <a:pt x="306" y="350"/>
                  </a:lnTo>
                  <a:lnTo>
                    <a:pt x="316" y="333"/>
                  </a:lnTo>
                  <a:lnTo>
                    <a:pt x="324" y="316"/>
                  </a:lnTo>
                  <a:lnTo>
                    <a:pt x="341" y="280"/>
                  </a:lnTo>
                  <a:lnTo>
                    <a:pt x="355" y="243"/>
                  </a:lnTo>
                  <a:lnTo>
                    <a:pt x="369" y="204"/>
                  </a:lnTo>
                  <a:lnTo>
                    <a:pt x="380" y="165"/>
                  </a:lnTo>
                  <a:close/>
                </a:path>
              </a:pathLst>
            </a:custGeom>
            <a:solidFill>
              <a:srgbClr val="ffff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00"/>
                </a:solidFill>
                <a:latin typeface="Arial"/>
                <a:ea typeface="宋体"/>
              </a:endParaRPr>
            </a:p>
          </p:txBody>
        </p:sp>
        <p:sp>
          <p:nvSpPr>
            <p:cNvPr id="522" name="Freeform 24"/>
            <p:cNvSpPr/>
            <p:nvPr/>
          </p:nvSpPr>
          <p:spPr>
            <a:xfrm>
              <a:off x="4749840" y="9459360"/>
              <a:ext cx="135000" cy="162360"/>
            </a:xfrm>
            <a:custGeom>
              <a:avLst/>
              <a:gdLst>
                <a:gd name="textAreaLeft" fmla="*/ 0 w 135000"/>
                <a:gd name="textAreaRight" fmla="*/ 135360 w 135000"/>
                <a:gd name="textAreaTop" fmla="*/ 0 h 162360"/>
                <a:gd name="textAreaBottom" fmla="*/ 162720 h 162360"/>
              </a:gdLst>
              <a:ahLst/>
              <a:rect l="textAreaLeft" t="textAreaTop" r="textAreaRight" b="textAreaBottom"/>
              <a:pathLst>
                <a:path w="846" h="1072">
                  <a:moveTo>
                    <a:pt x="651" y="0"/>
                  </a:moveTo>
                  <a:lnTo>
                    <a:pt x="671" y="13"/>
                  </a:lnTo>
                  <a:lnTo>
                    <a:pt x="692" y="25"/>
                  </a:lnTo>
                  <a:lnTo>
                    <a:pt x="715" y="35"/>
                  </a:lnTo>
                  <a:lnTo>
                    <a:pt x="739" y="45"/>
                  </a:lnTo>
                  <a:lnTo>
                    <a:pt x="764" y="52"/>
                  </a:lnTo>
                  <a:lnTo>
                    <a:pt x="791" y="58"/>
                  </a:lnTo>
                  <a:lnTo>
                    <a:pt x="817" y="63"/>
                  </a:lnTo>
                  <a:lnTo>
                    <a:pt x="846" y="66"/>
                  </a:lnTo>
                  <a:lnTo>
                    <a:pt x="841" y="71"/>
                  </a:lnTo>
                  <a:lnTo>
                    <a:pt x="837" y="78"/>
                  </a:lnTo>
                  <a:lnTo>
                    <a:pt x="834" y="85"/>
                  </a:lnTo>
                  <a:lnTo>
                    <a:pt x="831" y="94"/>
                  </a:lnTo>
                  <a:lnTo>
                    <a:pt x="825" y="116"/>
                  </a:lnTo>
                  <a:lnTo>
                    <a:pt x="819" y="142"/>
                  </a:lnTo>
                  <a:lnTo>
                    <a:pt x="815" y="173"/>
                  </a:lnTo>
                  <a:lnTo>
                    <a:pt x="811" y="210"/>
                  </a:lnTo>
                  <a:lnTo>
                    <a:pt x="808" y="251"/>
                  </a:lnTo>
                  <a:lnTo>
                    <a:pt x="805" y="297"/>
                  </a:lnTo>
                  <a:lnTo>
                    <a:pt x="804" y="348"/>
                  </a:lnTo>
                  <a:lnTo>
                    <a:pt x="803" y="404"/>
                  </a:lnTo>
                  <a:lnTo>
                    <a:pt x="803" y="464"/>
                  </a:lnTo>
                  <a:lnTo>
                    <a:pt x="804" y="530"/>
                  </a:lnTo>
                  <a:lnTo>
                    <a:pt x="805" y="600"/>
                  </a:lnTo>
                  <a:lnTo>
                    <a:pt x="809" y="675"/>
                  </a:lnTo>
                  <a:lnTo>
                    <a:pt x="812" y="756"/>
                  </a:lnTo>
                  <a:lnTo>
                    <a:pt x="815" y="842"/>
                  </a:lnTo>
                  <a:lnTo>
                    <a:pt x="816" y="890"/>
                  </a:lnTo>
                  <a:lnTo>
                    <a:pt x="816" y="934"/>
                  </a:lnTo>
                  <a:lnTo>
                    <a:pt x="814" y="972"/>
                  </a:lnTo>
                  <a:lnTo>
                    <a:pt x="812" y="1004"/>
                  </a:lnTo>
                  <a:lnTo>
                    <a:pt x="810" y="1018"/>
                  </a:lnTo>
                  <a:lnTo>
                    <a:pt x="808" y="1029"/>
                  </a:lnTo>
                  <a:lnTo>
                    <a:pt x="805" y="1040"/>
                  </a:lnTo>
                  <a:lnTo>
                    <a:pt x="803" y="1049"/>
                  </a:lnTo>
                  <a:lnTo>
                    <a:pt x="800" y="1057"/>
                  </a:lnTo>
                  <a:lnTo>
                    <a:pt x="797" y="1063"/>
                  </a:lnTo>
                  <a:lnTo>
                    <a:pt x="794" y="1068"/>
                  </a:lnTo>
                  <a:lnTo>
                    <a:pt x="791" y="1072"/>
                  </a:lnTo>
                  <a:lnTo>
                    <a:pt x="779" y="1068"/>
                  </a:lnTo>
                  <a:lnTo>
                    <a:pt x="766" y="1064"/>
                  </a:lnTo>
                  <a:lnTo>
                    <a:pt x="754" y="1060"/>
                  </a:lnTo>
                  <a:lnTo>
                    <a:pt x="741" y="1054"/>
                  </a:lnTo>
                  <a:lnTo>
                    <a:pt x="727" y="1047"/>
                  </a:lnTo>
                  <a:lnTo>
                    <a:pt x="712" y="1040"/>
                  </a:lnTo>
                  <a:lnTo>
                    <a:pt x="697" y="1030"/>
                  </a:lnTo>
                  <a:lnTo>
                    <a:pt x="682" y="1021"/>
                  </a:lnTo>
                  <a:lnTo>
                    <a:pt x="649" y="1000"/>
                  </a:lnTo>
                  <a:lnTo>
                    <a:pt x="613" y="974"/>
                  </a:lnTo>
                  <a:lnTo>
                    <a:pt x="576" y="944"/>
                  </a:lnTo>
                  <a:lnTo>
                    <a:pt x="535" y="912"/>
                  </a:lnTo>
                  <a:lnTo>
                    <a:pt x="527" y="904"/>
                  </a:lnTo>
                  <a:lnTo>
                    <a:pt x="521" y="898"/>
                  </a:lnTo>
                  <a:lnTo>
                    <a:pt x="516" y="892"/>
                  </a:lnTo>
                  <a:lnTo>
                    <a:pt x="515" y="886"/>
                  </a:lnTo>
                  <a:lnTo>
                    <a:pt x="517" y="884"/>
                  </a:lnTo>
                  <a:lnTo>
                    <a:pt x="519" y="882"/>
                  </a:lnTo>
                  <a:lnTo>
                    <a:pt x="522" y="881"/>
                  </a:lnTo>
                  <a:lnTo>
                    <a:pt x="526" y="880"/>
                  </a:lnTo>
                  <a:lnTo>
                    <a:pt x="534" y="880"/>
                  </a:lnTo>
                  <a:lnTo>
                    <a:pt x="545" y="881"/>
                  </a:lnTo>
                  <a:lnTo>
                    <a:pt x="584" y="886"/>
                  </a:lnTo>
                  <a:lnTo>
                    <a:pt x="616" y="889"/>
                  </a:lnTo>
                  <a:lnTo>
                    <a:pt x="631" y="889"/>
                  </a:lnTo>
                  <a:lnTo>
                    <a:pt x="643" y="889"/>
                  </a:lnTo>
                  <a:lnTo>
                    <a:pt x="654" y="888"/>
                  </a:lnTo>
                  <a:lnTo>
                    <a:pt x="665" y="887"/>
                  </a:lnTo>
                  <a:lnTo>
                    <a:pt x="672" y="885"/>
                  </a:lnTo>
                  <a:lnTo>
                    <a:pt x="679" y="883"/>
                  </a:lnTo>
                  <a:lnTo>
                    <a:pt x="685" y="880"/>
                  </a:lnTo>
                  <a:lnTo>
                    <a:pt x="689" y="877"/>
                  </a:lnTo>
                  <a:lnTo>
                    <a:pt x="691" y="872"/>
                  </a:lnTo>
                  <a:lnTo>
                    <a:pt x="692" y="867"/>
                  </a:lnTo>
                  <a:lnTo>
                    <a:pt x="692" y="862"/>
                  </a:lnTo>
                  <a:lnTo>
                    <a:pt x="690" y="857"/>
                  </a:lnTo>
                  <a:lnTo>
                    <a:pt x="691" y="827"/>
                  </a:lnTo>
                  <a:lnTo>
                    <a:pt x="692" y="793"/>
                  </a:lnTo>
                  <a:lnTo>
                    <a:pt x="693" y="755"/>
                  </a:lnTo>
                  <a:lnTo>
                    <a:pt x="694" y="713"/>
                  </a:lnTo>
                  <a:lnTo>
                    <a:pt x="694" y="668"/>
                  </a:lnTo>
                  <a:lnTo>
                    <a:pt x="695" y="618"/>
                  </a:lnTo>
                  <a:lnTo>
                    <a:pt x="695" y="564"/>
                  </a:lnTo>
                  <a:lnTo>
                    <a:pt x="695" y="506"/>
                  </a:lnTo>
                  <a:lnTo>
                    <a:pt x="695" y="441"/>
                  </a:lnTo>
                  <a:lnTo>
                    <a:pt x="694" y="382"/>
                  </a:lnTo>
                  <a:lnTo>
                    <a:pt x="694" y="326"/>
                  </a:lnTo>
                  <a:lnTo>
                    <a:pt x="693" y="275"/>
                  </a:lnTo>
                  <a:lnTo>
                    <a:pt x="691" y="227"/>
                  </a:lnTo>
                  <a:lnTo>
                    <a:pt x="690" y="184"/>
                  </a:lnTo>
                  <a:lnTo>
                    <a:pt x="688" y="145"/>
                  </a:lnTo>
                  <a:lnTo>
                    <a:pt x="686" y="110"/>
                  </a:lnTo>
                  <a:lnTo>
                    <a:pt x="685" y="107"/>
                  </a:lnTo>
                  <a:lnTo>
                    <a:pt x="685" y="104"/>
                  </a:lnTo>
                  <a:lnTo>
                    <a:pt x="684" y="101"/>
                  </a:lnTo>
                  <a:lnTo>
                    <a:pt x="682" y="99"/>
                  </a:lnTo>
                  <a:lnTo>
                    <a:pt x="679" y="98"/>
                  </a:lnTo>
                  <a:lnTo>
                    <a:pt x="677" y="97"/>
                  </a:lnTo>
                  <a:lnTo>
                    <a:pt x="674" y="96"/>
                  </a:lnTo>
                  <a:lnTo>
                    <a:pt x="671" y="96"/>
                  </a:lnTo>
                  <a:lnTo>
                    <a:pt x="612" y="103"/>
                  </a:lnTo>
                  <a:lnTo>
                    <a:pt x="552" y="112"/>
                  </a:lnTo>
                  <a:lnTo>
                    <a:pt x="492" y="121"/>
                  </a:lnTo>
                  <a:lnTo>
                    <a:pt x="432" y="131"/>
                  </a:lnTo>
                  <a:lnTo>
                    <a:pt x="371" y="141"/>
                  </a:lnTo>
                  <a:lnTo>
                    <a:pt x="310" y="152"/>
                  </a:lnTo>
                  <a:lnTo>
                    <a:pt x="247" y="163"/>
                  </a:lnTo>
                  <a:lnTo>
                    <a:pt x="185" y="176"/>
                  </a:lnTo>
                  <a:lnTo>
                    <a:pt x="175" y="169"/>
                  </a:lnTo>
                  <a:lnTo>
                    <a:pt x="165" y="161"/>
                  </a:lnTo>
                  <a:lnTo>
                    <a:pt x="155" y="152"/>
                  </a:lnTo>
                  <a:lnTo>
                    <a:pt x="146" y="142"/>
                  </a:lnTo>
                  <a:lnTo>
                    <a:pt x="135" y="131"/>
                  </a:lnTo>
                  <a:lnTo>
                    <a:pt x="125" y="118"/>
                  </a:lnTo>
                  <a:lnTo>
                    <a:pt x="115" y="105"/>
                  </a:lnTo>
                  <a:lnTo>
                    <a:pt x="105" y="90"/>
                  </a:lnTo>
                  <a:lnTo>
                    <a:pt x="157" y="88"/>
                  </a:lnTo>
                  <a:lnTo>
                    <a:pt x="208" y="85"/>
                  </a:lnTo>
                  <a:lnTo>
                    <a:pt x="256" y="81"/>
                  </a:lnTo>
                  <a:lnTo>
                    <a:pt x="300" y="78"/>
                  </a:lnTo>
                  <a:lnTo>
                    <a:pt x="344" y="73"/>
                  </a:lnTo>
                  <a:lnTo>
                    <a:pt x="384" y="68"/>
                  </a:lnTo>
                  <a:lnTo>
                    <a:pt x="421" y="64"/>
                  </a:lnTo>
                  <a:lnTo>
                    <a:pt x="457" y="58"/>
                  </a:lnTo>
                  <a:lnTo>
                    <a:pt x="490" y="52"/>
                  </a:lnTo>
                  <a:lnTo>
                    <a:pt x="519" y="46"/>
                  </a:lnTo>
                  <a:lnTo>
                    <a:pt x="548" y="39"/>
                  </a:lnTo>
                  <a:lnTo>
                    <a:pt x="573" y="32"/>
                  </a:lnTo>
                  <a:lnTo>
                    <a:pt x="596" y="25"/>
                  </a:lnTo>
                  <a:lnTo>
                    <a:pt x="617" y="17"/>
                  </a:lnTo>
                  <a:lnTo>
                    <a:pt x="635" y="9"/>
                  </a:lnTo>
                  <a:lnTo>
                    <a:pt x="651" y="0"/>
                  </a:lnTo>
                  <a:close/>
                  <a:moveTo>
                    <a:pt x="410" y="431"/>
                  </a:moveTo>
                  <a:lnTo>
                    <a:pt x="427" y="446"/>
                  </a:lnTo>
                  <a:lnTo>
                    <a:pt x="445" y="461"/>
                  </a:lnTo>
                  <a:lnTo>
                    <a:pt x="464" y="475"/>
                  </a:lnTo>
                  <a:lnTo>
                    <a:pt x="486" y="489"/>
                  </a:lnTo>
                  <a:lnTo>
                    <a:pt x="507" y="500"/>
                  </a:lnTo>
                  <a:lnTo>
                    <a:pt x="530" y="511"/>
                  </a:lnTo>
                  <a:lnTo>
                    <a:pt x="554" y="522"/>
                  </a:lnTo>
                  <a:lnTo>
                    <a:pt x="581" y="531"/>
                  </a:lnTo>
                  <a:lnTo>
                    <a:pt x="565" y="544"/>
                  </a:lnTo>
                  <a:lnTo>
                    <a:pt x="550" y="559"/>
                  </a:lnTo>
                  <a:lnTo>
                    <a:pt x="535" y="576"/>
                  </a:lnTo>
                  <a:lnTo>
                    <a:pt x="521" y="596"/>
                  </a:lnTo>
                  <a:lnTo>
                    <a:pt x="506" y="618"/>
                  </a:lnTo>
                  <a:lnTo>
                    <a:pt x="490" y="644"/>
                  </a:lnTo>
                  <a:lnTo>
                    <a:pt x="475" y="671"/>
                  </a:lnTo>
                  <a:lnTo>
                    <a:pt x="460" y="701"/>
                  </a:lnTo>
                  <a:lnTo>
                    <a:pt x="460" y="704"/>
                  </a:lnTo>
                  <a:lnTo>
                    <a:pt x="461" y="706"/>
                  </a:lnTo>
                  <a:lnTo>
                    <a:pt x="463" y="708"/>
                  </a:lnTo>
                  <a:lnTo>
                    <a:pt x="465" y="711"/>
                  </a:lnTo>
                  <a:lnTo>
                    <a:pt x="479" y="727"/>
                  </a:lnTo>
                  <a:lnTo>
                    <a:pt x="489" y="741"/>
                  </a:lnTo>
                  <a:lnTo>
                    <a:pt x="496" y="753"/>
                  </a:lnTo>
                  <a:lnTo>
                    <a:pt x="500" y="761"/>
                  </a:lnTo>
                  <a:lnTo>
                    <a:pt x="476" y="764"/>
                  </a:lnTo>
                  <a:lnTo>
                    <a:pt x="444" y="768"/>
                  </a:lnTo>
                  <a:lnTo>
                    <a:pt x="404" y="772"/>
                  </a:lnTo>
                  <a:lnTo>
                    <a:pt x="355" y="776"/>
                  </a:lnTo>
                  <a:lnTo>
                    <a:pt x="316" y="779"/>
                  </a:lnTo>
                  <a:lnTo>
                    <a:pt x="280" y="783"/>
                  </a:lnTo>
                  <a:lnTo>
                    <a:pt x="248" y="786"/>
                  </a:lnTo>
                  <a:lnTo>
                    <a:pt x="220" y="789"/>
                  </a:lnTo>
                  <a:lnTo>
                    <a:pt x="195" y="791"/>
                  </a:lnTo>
                  <a:lnTo>
                    <a:pt x="175" y="793"/>
                  </a:lnTo>
                  <a:lnTo>
                    <a:pt x="158" y="795"/>
                  </a:lnTo>
                  <a:lnTo>
                    <a:pt x="146" y="796"/>
                  </a:lnTo>
                  <a:lnTo>
                    <a:pt x="147" y="816"/>
                  </a:lnTo>
                  <a:lnTo>
                    <a:pt x="147" y="833"/>
                  </a:lnTo>
                  <a:lnTo>
                    <a:pt x="146" y="841"/>
                  </a:lnTo>
                  <a:lnTo>
                    <a:pt x="145" y="847"/>
                  </a:lnTo>
                  <a:lnTo>
                    <a:pt x="142" y="852"/>
                  </a:lnTo>
                  <a:lnTo>
                    <a:pt x="140" y="857"/>
                  </a:lnTo>
                  <a:lnTo>
                    <a:pt x="135" y="855"/>
                  </a:lnTo>
                  <a:lnTo>
                    <a:pt x="129" y="853"/>
                  </a:lnTo>
                  <a:lnTo>
                    <a:pt x="121" y="850"/>
                  </a:lnTo>
                  <a:lnTo>
                    <a:pt x="114" y="846"/>
                  </a:lnTo>
                  <a:lnTo>
                    <a:pt x="105" y="841"/>
                  </a:lnTo>
                  <a:lnTo>
                    <a:pt x="96" y="833"/>
                  </a:lnTo>
                  <a:lnTo>
                    <a:pt x="86" y="826"/>
                  </a:lnTo>
                  <a:lnTo>
                    <a:pt x="76" y="816"/>
                  </a:lnTo>
                  <a:lnTo>
                    <a:pt x="69" y="754"/>
                  </a:lnTo>
                  <a:lnTo>
                    <a:pt x="63" y="699"/>
                  </a:lnTo>
                  <a:lnTo>
                    <a:pt x="56" y="649"/>
                  </a:lnTo>
                  <a:lnTo>
                    <a:pt x="46" y="604"/>
                  </a:lnTo>
                  <a:lnTo>
                    <a:pt x="42" y="585"/>
                  </a:lnTo>
                  <a:lnTo>
                    <a:pt x="36" y="567"/>
                  </a:lnTo>
                  <a:lnTo>
                    <a:pt x="31" y="550"/>
                  </a:lnTo>
                  <a:lnTo>
                    <a:pt x="26" y="535"/>
                  </a:lnTo>
                  <a:lnTo>
                    <a:pt x="20" y="522"/>
                  </a:lnTo>
                  <a:lnTo>
                    <a:pt x="13" y="510"/>
                  </a:lnTo>
                  <a:lnTo>
                    <a:pt x="7" y="499"/>
                  </a:lnTo>
                  <a:lnTo>
                    <a:pt x="0" y="491"/>
                  </a:lnTo>
                  <a:lnTo>
                    <a:pt x="29" y="494"/>
                  </a:lnTo>
                  <a:lnTo>
                    <a:pt x="57" y="497"/>
                  </a:lnTo>
                  <a:lnTo>
                    <a:pt x="82" y="502"/>
                  </a:lnTo>
                  <a:lnTo>
                    <a:pt x="105" y="506"/>
                  </a:lnTo>
                  <a:lnTo>
                    <a:pt x="163" y="499"/>
                  </a:lnTo>
                  <a:lnTo>
                    <a:pt x="214" y="492"/>
                  </a:lnTo>
                  <a:lnTo>
                    <a:pt x="261" y="484"/>
                  </a:lnTo>
                  <a:lnTo>
                    <a:pt x="301" y="475"/>
                  </a:lnTo>
                  <a:lnTo>
                    <a:pt x="320" y="470"/>
                  </a:lnTo>
                  <a:lnTo>
                    <a:pt x="337" y="464"/>
                  </a:lnTo>
                  <a:lnTo>
                    <a:pt x="352" y="459"/>
                  </a:lnTo>
                  <a:lnTo>
                    <a:pt x="367" y="454"/>
                  </a:lnTo>
                  <a:lnTo>
                    <a:pt x="380" y="449"/>
                  </a:lnTo>
                  <a:lnTo>
                    <a:pt x="391" y="443"/>
                  </a:lnTo>
                  <a:lnTo>
                    <a:pt x="402" y="437"/>
                  </a:lnTo>
                  <a:lnTo>
                    <a:pt x="410" y="431"/>
                  </a:lnTo>
                  <a:close/>
                  <a:moveTo>
                    <a:pt x="410" y="526"/>
                  </a:moveTo>
                  <a:lnTo>
                    <a:pt x="407" y="525"/>
                  </a:lnTo>
                  <a:lnTo>
                    <a:pt x="400" y="525"/>
                  </a:lnTo>
                  <a:lnTo>
                    <a:pt x="389" y="526"/>
                  </a:lnTo>
                  <a:lnTo>
                    <a:pt x="374" y="527"/>
                  </a:lnTo>
                  <a:lnTo>
                    <a:pt x="332" y="532"/>
                  </a:lnTo>
                  <a:lnTo>
                    <a:pt x="275" y="541"/>
                  </a:lnTo>
                  <a:lnTo>
                    <a:pt x="248" y="546"/>
                  </a:lnTo>
                  <a:lnTo>
                    <a:pt x="224" y="550"/>
                  </a:lnTo>
                  <a:lnTo>
                    <a:pt x="201" y="553"/>
                  </a:lnTo>
                  <a:lnTo>
                    <a:pt x="181" y="557"/>
                  </a:lnTo>
                  <a:lnTo>
                    <a:pt x="161" y="560"/>
                  </a:lnTo>
                  <a:lnTo>
                    <a:pt x="143" y="563"/>
                  </a:lnTo>
                  <a:lnTo>
                    <a:pt x="129" y="564"/>
                  </a:lnTo>
                  <a:lnTo>
                    <a:pt x="115" y="566"/>
                  </a:lnTo>
                  <a:lnTo>
                    <a:pt x="119" y="585"/>
                  </a:lnTo>
                  <a:lnTo>
                    <a:pt x="122" y="605"/>
                  </a:lnTo>
                  <a:lnTo>
                    <a:pt x="125" y="626"/>
                  </a:lnTo>
                  <a:lnTo>
                    <a:pt x="129" y="647"/>
                  </a:lnTo>
                  <a:lnTo>
                    <a:pt x="132" y="670"/>
                  </a:lnTo>
                  <a:lnTo>
                    <a:pt x="135" y="692"/>
                  </a:lnTo>
                  <a:lnTo>
                    <a:pt x="137" y="717"/>
                  </a:lnTo>
                  <a:lnTo>
                    <a:pt x="140" y="741"/>
                  </a:lnTo>
                  <a:lnTo>
                    <a:pt x="186" y="733"/>
                  </a:lnTo>
                  <a:lnTo>
                    <a:pt x="226" y="725"/>
                  </a:lnTo>
                  <a:lnTo>
                    <a:pt x="263" y="719"/>
                  </a:lnTo>
                  <a:lnTo>
                    <a:pt x="295" y="713"/>
                  </a:lnTo>
                  <a:lnTo>
                    <a:pt x="324" y="709"/>
                  </a:lnTo>
                  <a:lnTo>
                    <a:pt x="347" y="705"/>
                  </a:lnTo>
                  <a:lnTo>
                    <a:pt x="366" y="703"/>
                  </a:lnTo>
                  <a:lnTo>
                    <a:pt x="381" y="701"/>
                  </a:lnTo>
                  <a:lnTo>
                    <a:pt x="387" y="671"/>
                  </a:lnTo>
                  <a:lnTo>
                    <a:pt x="393" y="644"/>
                  </a:lnTo>
                  <a:lnTo>
                    <a:pt x="399" y="618"/>
                  </a:lnTo>
                  <a:lnTo>
                    <a:pt x="403" y="595"/>
                  </a:lnTo>
                  <a:lnTo>
                    <a:pt x="406" y="574"/>
                  </a:lnTo>
                  <a:lnTo>
                    <a:pt x="408" y="556"/>
                  </a:lnTo>
                  <a:lnTo>
                    <a:pt x="409" y="540"/>
                  </a:lnTo>
                  <a:lnTo>
                    <a:pt x="410" y="526"/>
                  </a:lnTo>
                  <a:close/>
                  <a:moveTo>
                    <a:pt x="76" y="316"/>
                  </a:moveTo>
                  <a:lnTo>
                    <a:pt x="93" y="314"/>
                  </a:lnTo>
                  <a:lnTo>
                    <a:pt x="114" y="312"/>
                  </a:lnTo>
                  <a:lnTo>
                    <a:pt x="137" y="309"/>
                  </a:lnTo>
                  <a:lnTo>
                    <a:pt x="163" y="304"/>
                  </a:lnTo>
                  <a:lnTo>
                    <a:pt x="192" y="300"/>
                  </a:lnTo>
                  <a:lnTo>
                    <a:pt x="223" y="294"/>
                  </a:lnTo>
                  <a:lnTo>
                    <a:pt x="258" y="287"/>
                  </a:lnTo>
                  <a:lnTo>
                    <a:pt x="295" y="281"/>
                  </a:lnTo>
                  <a:lnTo>
                    <a:pt x="321" y="276"/>
                  </a:lnTo>
                  <a:lnTo>
                    <a:pt x="347" y="272"/>
                  </a:lnTo>
                  <a:lnTo>
                    <a:pt x="370" y="267"/>
                  </a:lnTo>
                  <a:lnTo>
                    <a:pt x="391" y="263"/>
                  </a:lnTo>
                  <a:lnTo>
                    <a:pt x="411" y="260"/>
                  </a:lnTo>
                  <a:lnTo>
                    <a:pt x="429" y="257"/>
                  </a:lnTo>
                  <a:lnTo>
                    <a:pt x="445" y="254"/>
                  </a:lnTo>
                  <a:lnTo>
                    <a:pt x="460" y="250"/>
                  </a:lnTo>
                  <a:lnTo>
                    <a:pt x="468" y="249"/>
                  </a:lnTo>
                  <a:lnTo>
                    <a:pt x="475" y="249"/>
                  </a:lnTo>
                  <a:lnTo>
                    <a:pt x="482" y="251"/>
                  </a:lnTo>
                  <a:lnTo>
                    <a:pt x="490" y="256"/>
                  </a:lnTo>
                  <a:lnTo>
                    <a:pt x="492" y="257"/>
                  </a:lnTo>
                  <a:lnTo>
                    <a:pt x="495" y="261"/>
                  </a:lnTo>
                  <a:lnTo>
                    <a:pt x="509" y="276"/>
                  </a:lnTo>
                  <a:lnTo>
                    <a:pt x="521" y="291"/>
                  </a:lnTo>
                  <a:lnTo>
                    <a:pt x="525" y="298"/>
                  </a:lnTo>
                  <a:lnTo>
                    <a:pt x="529" y="305"/>
                  </a:lnTo>
                  <a:lnTo>
                    <a:pt x="532" y="313"/>
                  </a:lnTo>
                  <a:lnTo>
                    <a:pt x="535" y="320"/>
                  </a:lnTo>
                  <a:lnTo>
                    <a:pt x="522" y="322"/>
                  </a:lnTo>
                  <a:lnTo>
                    <a:pt x="505" y="325"/>
                  </a:lnTo>
                  <a:lnTo>
                    <a:pt x="486" y="327"/>
                  </a:lnTo>
                  <a:lnTo>
                    <a:pt x="464" y="330"/>
                  </a:lnTo>
                  <a:lnTo>
                    <a:pt x="440" y="333"/>
                  </a:lnTo>
                  <a:lnTo>
                    <a:pt x="412" y="336"/>
                  </a:lnTo>
                  <a:lnTo>
                    <a:pt x="383" y="340"/>
                  </a:lnTo>
                  <a:lnTo>
                    <a:pt x="350" y="346"/>
                  </a:lnTo>
                  <a:lnTo>
                    <a:pt x="302" y="353"/>
                  </a:lnTo>
                  <a:lnTo>
                    <a:pt x="259" y="358"/>
                  </a:lnTo>
                  <a:lnTo>
                    <a:pt x="223" y="364"/>
                  </a:lnTo>
                  <a:lnTo>
                    <a:pt x="191" y="368"/>
                  </a:lnTo>
                  <a:lnTo>
                    <a:pt x="167" y="371"/>
                  </a:lnTo>
                  <a:lnTo>
                    <a:pt x="147" y="374"/>
                  </a:lnTo>
                  <a:lnTo>
                    <a:pt x="133" y="375"/>
                  </a:lnTo>
                  <a:lnTo>
                    <a:pt x="125" y="375"/>
                  </a:lnTo>
                  <a:lnTo>
                    <a:pt x="108" y="366"/>
                  </a:lnTo>
                  <a:lnTo>
                    <a:pt x="94" y="354"/>
                  </a:lnTo>
                  <a:lnTo>
                    <a:pt x="81" y="343"/>
                  </a:lnTo>
                  <a:lnTo>
                    <a:pt x="70" y="331"/>
                  </a:lnTo>
                  <a:lnTo>
                    <a:pt x="68" y="328"/>
                  </a:lnTo>
                  <a:lnTo>
                    <a:pt x="66" y="326"/>
                  </a:lnTo>
                  <a:lnTo>
                    <a:pt x="65" y="323"/>
                  </a:lnTo>
                  <a:lnTo>
                    <a:pt x="65" y="320"/>
                  </a:lnTo>
                  <a:lnTo>
                    <a:pt x="66" y="318"/>
                  </a:lnTo>
                  <a:lnTo>
                    <a:pt x="67" y="317"/>
                  </a:lnTo>
                  <a:lnTo>
                    <a:pt x="70" y="316"/>
                  </a:lnTo>
                  <a:lnTo>
                    <a:pt x="76" y="316"/>
                  </a:lnTo>
                  <a:close/>
                </a:path>
              </a:pathLst>
            </a:custGeom>
            <a:solidFill>
              <a:srgbClr val="ffff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00"/>
                </a:solidFill>
                <a:latin typeface="Arial"/>
                <a:ea typeface="宋体"/>
              </a:endParaRPr>
            </a:p>
          </p:txBody>
        </p:sp>
        <p:sp>
          <p:nvSpPr>
            <p:cNvPr id="523" name="Freeform 25"/>
            <p:cNvSpPr/>
            <p:nvPr/>
          </p:nvSpPr>
          <p:spPr>
            <a:xfrm>
              <a:off x="2196000" y="9661320"/>
              <a:ext cx="37800" cy="48600"/>
            </a:xfrm>
            <a:custGeom>
              <a:avLst/>
              <a:gdLst>
                <a:gd name="textAreaLeft" fmla="*/ 0 w 37800"/>
                <a:gd name="textAreaRight" fmla="*/ 38160 w 37800"/>
                <a:gd name="textAreaTop" fmla="*/ 0 h 48600"/>
                <a:gd name="textAreaBottom" fmla="*/ 48960 h 48600"/>
              </a:gdLst>
              <a:ahLst/>
              <a:rect l="textAreaLeft" t="textAreaTop" r="textAreaRight" b="textAreaBottom"/>
              <a:pathLst>
                <a:path w="240" h="320">
                  <a:moveTo>
                    <a:pt x="0" y="320"/>
                  </a:moveTo>
                  <a:lnTo>
                    <a:pt x="0" y="281"/>
                  </a:lnTo>
                  <a:lnTo>
                    <a:pt x="156" y="75"/>
                  </a:lnTo>
                  <a:lnTo>
                    <a:pt x="164" y="65"/>
                  </a:lnTo>
                  <a:lnTo>
                    <a:pt x="171" y="55"/>
                  </a:lnTo>
                  <a:lnTo>
                    <a:pt x="180" y="46"/>
                  </a:lnTo>
                  <a:lnTo>
                    <a:pt x="187" y="37"/>
                  </a:lnTo>
                  <a:lnTo>
                    <a:pt x="17" y="37"/>
                  </a:lnTo>
                  <a:lnTo>
                    <a:pt x="17" y="0"/>
                  </a:lnTo>
                  <a:lnTo>
                    <a:pt x="235" y="0"/>
                  </a:lnTo>
                  <a:lnTo>
                    <a:pt x="235" y="37"/>
                  </a:lnTo>
                  <a:lnTo>
                    <a:pt x="64" y="260"/>
                  </a:lnTo>
                  <a:lnTo>
                    <a:pt x="46" y="282"/>
                  </a:lnTo>
                  <a:lnTo>
                    <a:pt x="240" y="282"/>
                  </a:lnTo>
                  <a:lnTo>
                    <a:pt x="240" y="320"/>
                  </a:lnTo>
                  <a:lnTo>
                    <a:pt x="0" y="320"/>
                  </a:lnTo>
                  <a:close/>
                </a:path>
              </a:pathLst>
            </a:custGeom>
            <a:solidFill>
              <a:srgbClr val="ffff00"/>
            </a:solidFill>
            <a:ln w="0">
              <a:noFill/>
            </a:ln>
          </p:spPr>
          <p:style>
            <a:lnRef idx="0"/>
            <a:fillRef idx="0"/>
            <a:effectRef idx="0"/>
            <a:fontRef idx="minor"/>
          </p:style>
          <p:txBody>
            <a:bodyPr lIns="90000" rIns="90000" tIns="3960" bIns="3960" anchor="t">
              <a:noAutofit/>
            </a:bodyPr>
            <a:p>
              <a:pPr>
                <a:lnSpc>
                  <a:spcPct val="100000"/>
                </a:lnSpc>
              </a:pPr>
              <a:endParaRPr b="0" lang="en-US" sz="1800" spc="-1" strike="noStrike">
                <a:solidFill>
                  <a:srgbClr val="ffff00"/>
                </a:solidFill>
                <a:latin typeface="Arial"/>
                <a:ea typeface="宋体"/>
              </a:endParaRPr>
            </a:p>
          </p:txBody>
        </p:sp>
        <p:sp>
          <p:nvSpPr>
            <p:cNvPr id="524" name="Freeform 26"/>
            <p:cNvSpPr/>
            <p:nvPr/>
          </p:nvSpPr>
          <p:spPr>
            <a:xfrm>
              <a:off x="2245320" y="9661320"/>
              <a:ext cx="37800" cy="48600"/>
            </a:xfrm>
            <a:custGeom>
              <a:avLst/>
              <a:gdLst>
                <a:gd name="textAreaLeft" fmla="*/ 0 w 37800"/>
                <a:gd name="textAreaRight" fmla="*/ 38160 w 37800"/>
                <a:gd name="textAreaTop" fmla="*/ 0 h 48600"/>
                <a:gd name="textAreaBottom" fmla="*/ 48960 h 48600"/>
              </a:gdLst>
              <a:ahLst/>
              <a:rect l="textAreaLeft" t="textAreaTop" r="textAreaRight" b="textAreaBottom"/>
              <a:pathLst>
                <a:path w="239" h="320">
                  <a:moveTo>
                    <a:pt x="0" y="320"/>
                  </a:moveTo>
                  <a:lnTo>
                    <a:pt x="0" y="0"/>
                  </a:lnTo>
                  <a:lnTo>
                    <a:pt x="40" y="0"/>
                  </a:lnTo>
                  <a:lnTo>
                    <a:pt x="40" y="131"/>
                  </a:lnTo>
                  <a:lnTo>
                    <a:pt x="198" y="131"/>
                  </a:lnTo>
                  <a:lnTo>
                    <a:pt x="198" y="0"/>
                  </a:lnTo>
                  <a:lnTo>
                    <a:pt x="239" y="0"/>
                  </a:lnTo>
                  <a:lnTo>
                    <a:pt x="239" y="320"/>
                  </a:lnTo>
                  <a:lnTo>
                    <a:pt x="198" y="320"/>
                  </a:lnTo>
                  <a:lnTo>
                    <a:pt x="198" y="169"/>
                  </a:lnTo>
                  <a:lnTo>
                    <a:pt x="40" y="169"/>
                  </a:lnTo>
                  <a:lnTo>
                    <a:pt x="40" y="320"/>
                  </a:lnTo>
                  <a:lnTo>
                    <a:pt x="0" y="320"/>
                  </a:lnTo>
                  <a:close/>
                </a:path>
              </a:pathLst>
            </a:custGeom>
            <a:solidFill>
              <a:srgbClr val="ffff00"/>
            </a:solidFill>
            <a:ln w="0">
              <a:noFill/>
            </a:ln>
          </p:spPr>
          <p:style>
            <a:lnRef idx="0"/>
            <a:fillRef idx="0"/>
            <a:effectRef idx="0"/>
            <a:fontRef idx="minor"/>
          </p:style>
          <p:txBody>
            <a:bodyPr lIns="90000" rIns="90000" tIns="3960" bIns="3960" anchor="t">
              <a:noAutofit/>
            </a:bodyPr>
            <a:p>
              <a:pPr>
                <a:lnSpc>
                  <a:spcPct val="100000"/>
                </a:lnSpc>
              </a:pPr>
              <a:endParaRPr b="0" lang="en-US" sz="1800" spc="-1" strike="noStrike">
                <a:solidFill>
                  <a:srgbClr val="ffff00"/>
                </a:solidFill>
                <a:latin typeface="Arial"/>
                <a:ea typeface="宋体"/>
              </a:endParaRPr>
            </a:p>
          </p:txBody>
        </p:sp>
        <p:sp>
          <p:nvSpPr>
            <p:cNvPr id="525" name="Freeform 27"/>
            <p:cNvSpPr/>
            <p:nvPr/>
          </p:nvSpPr>
          <p:spPr>
            <a:xfrm>
              <a:off x="2298960" y="9661320"/>
              <a:ext cx="37800" cy="48600"/>
            </a:xfrm>
            <a:custGeom>
              <a:avLst/>
              <a:gdLst>
                <a:gd name="textAreaLeft" fmla="*/ 0 w 37800"/>
                <a:gd name="textAreaRight" fmla="*/ 38160 w 37800"/>
                <a:gd name="textAreaTop" fmla="*/ 0 h 48600"/>
                <a:gd name="textAreaBottom" fmla="*/ 48960 h 48600"/>
              </a:gdLst>
              <a:ahLst/>
              <a:rect l="textAreaLeft" t="textAreaTop" r="textAreaRight" b="textAreaBottom"/>
              <a:pathLst>
                <a:path w="239" h="325">
                  <a:moveTo>
                    <a:pt x="199" y="0"/>
                  </a:moveTo>
                  <a:lnTo>
                    <a:pt x="239" y="0"/>
                  </a:lnTo>
                  <a:lnTo>
                    <a:pt x="239" y="184"/>
                  </a:lnTo>
                  <a:lnTo>
                    <a:pt x="238" y="208"/>
                  </a:lnTo>
                  <a:lnTo>
                    <a:pt x="236" y="228"/>
                  </a:lnTo>
                  <a:lnTo>
                    <a:pt x="233" y="246"/>
                  </a:lnTo>
                  <a:lnTo>
                    <a:pt x="229" y="261"/>
                  </a:lnTo>
                  <a:lnTo>
                    <a:pt x="225" y="268"/>
                  </a:lnTo>
                  <a:lnTo>
                    <a:pt x="222" y="275"/>
                  </a:lnTo>
                  <a:lnTo>
                    <a:pt x="218" y="281"/>
                  </a:lnTo>
                  <a:lnTo>
                    <a:pt x="214" y="287"/>
                  </a:lnTo>
                  <a:lnTo>
                    <a:pt x="208" y="293"/>
                  </a:lnTo>
                  <a:lnTo>
                    <a:pt x="203" y="298"/>
                  </a:lnTo>
                  <a:lnTo>
                    <a:pt x="198" y="303"/>
                  </a:lnTo>
                  <a:lnTo>
                    <a:pt x="192" y="307"/>
                  </a:lnTo>
                  <a:lnTo>
                    <a:pt x="184" y="312"/>
                  </a:lnTo>
                  <a:lnTo>
                    <a:pt x="177" y="315"/>
                  </a:lnTo>
                  <a:lnTo>
                    <a:pt x="168" y="318"/>
                  </a:lnTo>
                  <a:lnTo>
                    <a:pt x="160" y="321"/>
                  </a:lnTo>
                  <a:lnTo>
                    <a:pt x="150" y="322"/>
                  </a:lnTo>
                  <a:lnTo>
                    <a:pt x="141" y="324"/>
                  </a:lnTo>
                  <a:lnTo>
                    <a:pt x="130" y="324"/>
                  </a:lnTo>
                  <a:lnTo>
                    <a:pt x="120" y="325"/>
                  </a:lnTo>
                  <a:lnTo>
                    <a:pt x="109" y="325"/>
                  </a:lnTo>
                  <a:lnTo>
                    <a:pt x="99" y="324"/>
                  </a:lnTo>
                  <a:lnTo>
                    <a:pt x="90" y="323"/>
                  </a:lnTo>
                  <a:lnTo>
                    <a:pt x="81" y="321"/>
                  </a:lnTo>
                  <a:lnTo>
                    <a:pt x="73" y="319"/>
                  </a:lnTo>
                  <a:lnTo>
                    <a:pt x="64" y="317"/>
                  </a:lnTo>
                  <a:lnTo>
                    <a:pt x="57" y="314"/>
                  </a:lnTo>
                  <a:lnTo>
                    <a:pt x="50" y="309"/>
                  </a:lnTo>
                  <a:lnTo>
                    <a:pt x="43" y="305"/>
                  </a:lnTo>
                  <a:lnTo>
                    <a:pt x="37" y="301"/>
                  </a:lnTo>
                  <a:lnTo>
                    <a:pt x="32" y="296"/>
                  </a:lnTo>
                  <a:lnTo>
                    <a:pt x="26" y="290"/>
                  </a:lnTo>
                  <a:lnTo>
                    <a:pt x="22" y="285"/>
                  </a:lnTo>
                  <a:lnTo>
                    <a:pt x="18" y="279"/>
                  </a:lnTo>
                  <a:lnTo>
                    <a:pt x="14" y="272"/>
                  </a:lnTo>
                  <a:lnTo>
                    <a:pt x="11" y="265"/>
                  </a:lnTo>
                  <a:lnTo>
                    <a:pt x="6" y="249"/>
                  </a:lnTo>
                  <a:lnTo>
                    <a:pt x="2" y="230"/>
                  </a:lnTo>
                  <a:lnTo>
                    <a:pt x="0" y="209"/>
                  </a:lnTo>
                  <a:lnTo>
                    <a:pt x="0" y="184"/>
                  </a:lnTo>
                  <a:lnTo>
                    <a:pt x="0" y="0"/>
                  </a:lnTo>
                  <a:lnTo>
                    <a:pt x="40" y="0"/>
                  </a:lnTo>
                  <a:lnTo>
                    <a:pt x="40" y="184"/>
                  </a:lnTo>
                  <a:lnTo>
                    <a:pt x="40" y="204"/>
                  </a:lnTo>
                  <a:lnTo>
                    <a:pt x="41" y="220"/>
                  </a:lnTo>
                  <a:lnTo>
                    <a:pt x="43" y="234"/>
                  </a:lnTo>
                  <a:lnTo>
                    <a:pt x="47" y="246"/>
                  </a:lnTo>
                  <a:lnTo>
                    <a:pt x="52" y="255"/>
                  </a:lnTo>
                  <a:lnTo>
                    <a:pt x="57" y="263"/>
                  </a:lnTo>
                  <a:lnTo>
                    <a:pt x="64" y="270"/>
                  </a:lnTo>
                  <a:lnTo>
                    <a:pt x="72" y="277"/>
                  </a:lnTo>
                  <a:lnTo>
                    <a:pt x="81" y="281"/>
                  </a:lnTo>
                  <a:lnTo>
                    <a:pt x="92" y="284"/>
                  </a:lnTo>
                  <a:lnTo>
                    <a:pt x="104" y="286"/>
                  </a:lnTo>
                  <a:lnTo>
                    <a:pt x="116" y="287"/>
                  </a:lnTo>
                  <a:lnTo>
                    <a:pt x="127" y="286"/>
                  </a:lnTo>
                  <a:lnTo>
                    <a:pt x="136" y="286"/>
                  </a:lnTo>
                  <a:lnTo>
                    <a:pt x="146" y="284"/>
                  </a:lnTo>
                  <a:lnTo>
                    <a:pt x="154" y="282"/>
                  </a:lnTo>
                  <a:lnTo>
                    <a:pt x="162" y="279"/>
                  </a:lnTo>
                  <a:lnTo>
                    <a:pt x="168" y="276"/>
                  </a:lnTo>
                  <a:lnTo>
                    <a:pt x="175" y="270"/>
                  </a:lnTo>
                  <a:lnTo>
                    <a:pt x="180" y="266"/>
                  </a:lnTo>
                  <a:lnTo>
                    <a:pt x="184" y="260"/>
                  </a:lnTo>
                  <a:lnTo>
                    <a:pt x="188" y="252"/>
                  </a:lnTo>
                  <a:lnTo>
                    <a:pt x="192" y="245"/>
                  </a:lnTo>
                  <a:lnTo>
                    <a:pt x="194" y="235"/>
                  </a:lnTo>
                  <a:lnTo>
                    <a:pt x="196" y="224"/>
                  </a:lnTo>
                  <a:lnTo>
                    <a:pt x="198" y="212"/>
                  </a:lnTo>
                  <a:lnTo>
                    <a:pt x="198" y="199"/>
                  </a:lnTo>
                  <a:lnTo>
                    <a:pt x="199" y="184"/>
                  </a:lnTo>
                  <a:lnTo>
                    <a:pt x="199" y="0"/>
                  </a:lnTo>
                  <a:close/>
                </a:path>
              </a:pathLst>
            </a:custGeom>
            <a:solidFill>
              <a:srgbClr val="ffff00"/>
            </a:solidFill>
            <a:ln w="0">
              <a:noFill/>
            </a:ln>
          </p:spPr>
          <p:style>
            <a:lnRef idx="0"/>
            <a:fillRef idx="0"/>
            <a:effectRef idx="0"/>
            <a:fontRef idx="minor"/>
          </p:style>
          <p:txBody>
            <a:bodyPr lIns="90000" rIns="90000" tIns="3960" bIns="3960" anchor="t">
              <a:noAutofit/>
            </a:bodyPr>
            <a:p>
              <a:pPr>
                <a:lnSpc>
                  <a:spcPct val="100000"/>
                </a:lnSpc>
              </a:pPr>
              <a:endParaRPr b="0" lang="en-US" sz="1800" spc="-1" strike="noStrike">
                <a:solidFill>
                  <a:srgbClr val="ffff00"/>
                </a:solidFill>
                <a:latin typeface="Arial"/>
                <a:ea typeface="宋体"/>
              </a:endParaRPr>
            </a:p>
          </p:txBody>
        </p:sp>
        <p:sp>
          <p:nvSpPr>
            <p:cNvPr id="526" name="Freeform 28"/>
            <p:cNvSpPr/>
            <p:nvPr/>
          </p:nvSpPr>
          <p:spPr>
            <a:xfrm>
              <a:off x="2351520" y="9661320"/>
              <a:ext cx="38880" cy="48600"/>
            </a:xfrm>
            <a:custGeom>
              <a:avLst/>
              <a:gdLst>
                <a:gd name="textAreaLeft" fmla="*/ 0 w 38880"/>
                <a:gd name="textAreaRight" fmla="*/ 39240 w 38880"/>
                <a:gd name="textAreaTop" fmla="*/ 0 h 48600"/>
                <a:gd name="textAreaBottom" fmla="*/ 48960 h 48600"/>
              </a:gdLst>
              <a:ahLst/>
              <a:rect l="textAreaLeft" t="textAreaTop" r="textAreaRight" b="textAreaBottom"/>
              <a:pathLst>
                <a:path w="239" h="320">
                  <a:moveTo>
                    <a:pt x="0" y="320"/>
                  </a:moveTo>
                  <a:lnTo>
                    <a:pt x="0" y="0"/>
                  </a:lnTo>
                  <a:lnTo>
                    <a:pt x="41" y="0"/>
                  </a:lnTo>
                  <a:lnTo>
                    <a:pt x="41" y="131"/>
                  </a:lnTo>
                  <a:lnTo>
                    <a:pt x="199" y="131"/>
                  </a:lnTo>
                  <a:lnTo>
                    <a:pt x="199" y="0"/>
                  </a:lnTo>
                  <a:lnTo>
                    <a:pt x="239" y="0"/>
                  </a:lnTo>
                  <a:lnTo>
                    <a:pt x="239" y="320"/>
                  </a:lnTo>
                  <a:lnTo>
                    <a:pt x="199" y="320"/>
                  </a:lnTo>
                  <a:lnTo>
                    <a:pt x="199" y="169"/>
                  </a:lnTo>
                  <a:lnTo>
                    <a:pt x="41" y="169"/>
                  </a:lnTo>
                  <a:lnTo>
                    <a:pt x="41" y="320"/>
                  </a:lnTo>
                  <a:lnTo>
                    <a:pt x="0" y="320"/>
                  </a:lnTo>
                  <a:close/>
                </a:path>
              </a:pathLst>
            </a:custGeom>
            <a:solidFill>
              <a:srgbClr val="ffff00"/>
            </a:solidFill>
            <a:ln w="0">
              <a:noFill/>
            </a:ln>
          </p:spPr>
          <p:style>
            <a:lnRef idx="0"/>
            <a:fillRef idx="0"/>
            <a:effectRef idx="0"/>
            <a:fontRef idx="minor"/>
          </p:style>
          <p:txBody>
            <a:bodyPr lIns="90000" rIns="90000" tIns="3960" bIns="3960" anchor="t">
              <a:noAutofit/>
            </a:bodyPr>
            <a:p>
              <a:pPr>
                <a:lnSpc>
                  <a:spcPct val="100000"/>
                </a:lnSpc>
              </a:pPr>
              <a:endParaRPr b="0" lang="en-US" sz="1800" spc="-1" strike="noStrike">
                <a:solidFill>
                  <a:srgbClr val="ffff00"/>
                </a:solidFill>
                <a:latin typeface="Arial"/>
                <a:ea typeface="宋体"/>
              </a:endParaRPr>
            </a:p>
          </p:txBody>
        </p:sp>
        <p:sp>
          <p:nvSpPr>
            <p:cNvPr id="527" name="Freeform 29"/>
            <p:cNvSpPr/>
            <p:nvPr/>
          </p:nvSpPr>
          <p:spPr>
            <a:xfrm>
              <a:off x="2399760" y="9661320"/>
              <a:ext cx="45360" cy="48600"/>
            </a:xfrm>
            <a:custGeom>
              <a:avLst/>
              <a:gdLst>
                <a:gd name="textAreaLeft" fmla="*/ 0 w 45360"/>
                <a:gd name="textAreaRight" fmla="*/ 45720 w 45360"/>
                <a:gd name="textAreaTop" fmla="*/ 0 h 48600"/>
                <a:gd name="textAreaBottom" fmla="*/ 48960 h 48600"/>
              </a:gdLst>
              <a:ahLst/>
              <a:rect l="textAreaLeft" t="textAreaTop" r="textAreaRight" b="textAreaBottom"/>
              <a:pathLst>
                <a:path w="285" h="320">
                  <a:moveTo>
                    <a:pt x="0" y="320"/>
                  </a:moveTo>
                  <a:lnTo>
                    <a:pt x="118" y="0"/>
                  </a:lnTo>
                  <a:lnTo>
                    <a:pt x="161" y="0"/>
                  </a:lnTo>
                  <a:lnTo>
                    <a:pt x="285" y="320"/>
                  </a:lnTo>
                  <a:lnTo>
                    <a:pt x="239" y="320"/>
                  </a:lnTo>
                  <a:lnTo>
                    <a:pt x="205" y="223"/>
                  </a:lnTo>
                  <a:lnTo>
                    <a:pt x="76" y="223"/>
                  </a:lnTo>
                  <a:lnTo>
                    <a:pt x="44" y="320"/>
                  </a:lnTo>
                  <a:lnTo>
                    <a:pt x="0" y="320"/>
                  </a:lnTo>
                  <a:close/>
                  <a:moveTo>
                    <a:pt x="88" y="189"/>
                  </a:moveTo>
                  <a:lnTo>
                    <a:pt x="192" y="189"/>
                  </a:lnTo>
                  <a:lnTo>
                    <a:pt x="160" y="100"/>
                  </a:lnTo>
                  <a:lnTo>
                    <a:pt x="153" y="81"/>
                  </a:lnTo>
                  <a:lnTo>
                    <a:pt x="147" y="63"/>
                  </a:lnTo>
                  <a:lnTo>
                    <a:pt x="142" y="48"/>
                  </a:lnTo>
                  <a:lnTo>
                    <a:pt x="138" y="33"/>
                  </a:lnTo>
                  <a:lnTo>
                    <a:pt x="135" y="49"/>
                  </a:lnTo>
                  <a:lnTo>
                    <a:pt x="131" y="64"/>
                  </a:lnTo>
                  <a:lnTo>
                    <a:pt x="127" y="80"/>
                  </a:lnTo>
                  <a:lnTo>
                    <a:pt x="122" y="94"/>
                  </a:lnTo>
                  <a:lnTo>
                    <a:pt x="88" y="189"/>
                  </a:lnTo>
                  <a:close/>
                </a:path>
              </a:pathLst>
            </a:custGeom>
            <a:solidFill>
              <a:srgbClr val="ffff00"/>
            </a:solidFill>
            <a:ln w="0">
              <a:noFill/>
            </a:ln>
          </p:spPr>
          <p:style>
            <a:lnRef idx="0"/>
            <a:fillRef idx="0"/>
            <a:effectRef idx="0"/>
            <a:fontRef idx="minor"/>
          </p:style>
          <p:txBody>
            <a:bodyPr lIns="90000" rIns="90000" tIns="3960" bIns="3960" anchor="t">
              <a:noAutofit/>
            </a:bodyPr>
            <a:p>
              <a:pPr>
                <a:lnSpc>
                  <a:spcPct val="100000"/>
                </a:lnSpc>
              </a:pPr>
              <a:endParaRPr b="0" lang="en-US" sz="1800" spc="-1" strike="noStrike">
                <a:solidFill>
                  <a:srgbClr val="ffff00"/>
                </a:solidFill>
                <a:latin typeface="Arial"/>
                <a:ea typeface="宋体"/>
              </a:endParaRPr>
            </a:p>
          </p:txBody>
        </p:sp>
        <p:sp>
          <p:nvSpPr>
            <p:cNvPr id="528" name="Rectangle 30"/>
            <p:cNvSpPr/>
            <p:nvPr/>
          </p:nvSpPr>
          <p:spPr>
            <a:xfrm>
              <a:off x="2455560" y="9661320"/>
              <a:ext cx="6480" cy="48600"/>
            </a:xfrm>
            <a:prstGeom prst="rect">
              <a:avLst/>
            </a:prstGeom>
            <a:solidFill>
              <a:srgbClr val="ffff00"/>
            </a:solidFill>
            <a:ln w="0">
              <a:noFill/>
            </a:ln>
          </p:spPr>
          <p:style>
            <a:lnRef idx="0"/>
            <a:fillRef idx="0"/>
            <a:effectRef idx="0"/>
            <a:fontRef idx="minor"/>
          </p:style>
          <p:txBody>
            <a:bodyPr lIns="90000" rIns="90000" tIns="3960" bIns="3960" anchor="t">
              <a:noAutofit/>
            </a:bodyPr>
            <a:p>
              <a:pPr>
                <a:lnSpc>
                  <a:spcPct val="100000"/>
                </a:lnSpc>
              </a:pPr>
              <a:endParaRPr b="0" lang="en-US" sz="1800" spc="-1" strike="noStrike">
                <a:solidFill>
                  <a:srgbClr val="ffff00"/>
                </a:solidFill>
                <a:latin typeface="Arial"/>
                <a:ea typeface="宋体"/>
              </a:endParaRPr>
            </a:p>
          </p:txBody>
        </p:sp>
        <p:sp>
          <p:nvSpPr>
            <p:cNvPr id="529" name="Freeform 31"/>
            <p:cNvSpPr/>
            <p:nvPr/>
          </p:nvSpPr>
          <p:spPr>
            <a:xfrm>
              <a:off x="2505960" y="9660240"/>
              <a:ext cx="45360" cy="49680"/>
            </a:xfrm>
            <a:custGeom>
              <a:avLst/>
              <a:gdLst>
                <a:gd name="textAreaLeft" fmla="*/ 0 w 45360"/>
                <a:gd name="textAreaRight" fmla="*/ 45720 w 45360"/>
                <a:gd name="textAreaTop" fmla="*/ 0 h 49680"/>
                <a:gd name="textAreaBottom" fmla="*/ 50040 h 49680"/>
              </a:gdLst>
              <a:ahLst/>
              <a:rect l="textAreaLeft" t="textAreaTop" r="textAreaRight" b="textAreaBottom"/>
              <a:pathLst>
                <a:path w="282" h="330">
                  <a:moveTo>
                    <a:pt x="153" y="199"/>
                  </a:moveTo>
                  <a:lnTo>
                    <a:pt x="153" y="162"/>
                  </a:lnTo>
                  <a:lnTo>
                    <a:pt x="282" y="162"/>
                  </a:lnTo>
                  <a:lnTo>
                    <a:pt x="282" y="281"/>
                  </a:lnTo>
                  <a:lnTo>
                    <a:pt x="267" y="292"/>
                  </a:lnTo>
                  <a:lnTo>
                    <a:pt x="251" y="302"/>
                  </a:lnTo>
                  <a:lnTo>
                    <a:pt x="237" y="310"/>
                  </a:lnTo>
                  <a:lnTo>
                    <a:pt x="221" y="318"/>
                  </a:lnTo>
                  <a:lnTo>
                    <a:pt x="205" y="323"/>
                  </a:lnTo>
                  <a:lnTo>
                    <a:pt x="189" y="327"/>
                  </a:lnTo>
                  <a:lnTo>
                    <a:pt x="172" y="329"/>
                  </a:lnTo>
                  <a:lnTo>
                    <a:pt x="156" y="330"/>
                  </a:lnTo>
                  <a:lnTo>
                    <a:pt x="145" y="329"/>
                  </a:lnTo>
                  <a:lnTo>
                    <a:pt x="134" y="329"/>
                  </a:lnTo>
                  <a:lnTo>
                    <a:pt x="123" y="327"/>
                  </a:lnTo>
                  <a:lnTo>
                    <a:pt x="113" y="325"/>
                  </a:lnTo>
                  <a:lnTo>
                    <a:pt x="103" y="322"/>
                  </a:lnTo>
                  <a:lnTo>
                    <a:pt x="93" y="319"/>
                  </a:lnTo>
                  <a:lnTo>
                    <a:pt x="83" y="314"/>
                  </a:lnTo>
                  <a:lnTo>
                    <a:pt x="75" y="310"/>
                  </a:lnTo>
                  <a:lnTo>
                    <a:pt x="65" y="305"/>
                  </a:lnTo>
                  <a:lnTo>
                    <a:pt x="57" y="299"/>
                  </a:lnTo>
                  <a:lnTo>
                    <a:pt x="49" y="292"/>
                  </a:lnTo>
                  <a:lnTo>
                    <a:pt x="42" y="285"/>
                  </a:lnTo>
                  <a:lnTo>
                    <a:pt x="35" y="277"/>
                  </a:lnTo>
                  <a:lnTo>
                    <a:pt x="29" y="270"/>
                  </a:lnTo>
                  <a:lnTo>
                    <a:pt x="24" y="260"/>
                  </a:lnTo>
                  <a:lnTo>
                    <a:pt x="18" y="252"/>
                  </a:lnTo>
                  <a:lnTo>
                    <a:pt x="14" y="242"/>
                  </a:lnTo>
                  <a:lnTo>
                    <a:pt x="10" y="232"/>
                  </a:lnTo>
                  <a:lnTo>
                    <a:pt x="7" y="221"/>
                  </a:lnTo>
                  <a:lnTo>
                    <a:pt x="5" y="212"/>
                  </a:lnTo>
                  <a:lnTo>
                    <a:pt x="3" y="200"/>
                  </a:lnTo>
                  <a:lnTo>
                    <a:pt x="2" y="189"/>
                  </a:lnTo>
                  <a:lnTo>
                    <a:pt x="0" y="178"/>
                  </a:lnTo>
                  <a:lnTo>
                    <a:pt x="0" y="166"/>
                  </a:lnTo>
                  <a:lnTo>
                    <a:pt x="0" y="154"/>
                  </a:lnTo>
                  <a:lnTo>
                    <a:pt x="2" y="143"/>
                  </a:lnTo>
                  <a:lnTo>
                    <a:pt x="3" y="132"/>
                  </a:lnTo>
                  <a:lnTo>
                    <a:pt x="5" y="122"/>
                  </a:lnTo>
                  <a:lnTo>
                    <a:pt x="7" y="110"/>
                  </a:lnTo>
                  <a:lnTo>
                    <a:pt x="10" y="99"/>
                  </a:lnTo>
                  <a:lnTo>
                    <a:pt x="14" y="90"/>
                  </a:lnTo>
                  <a:lnTo>
                    <a:pt x="18" y="79"/>
                  </a:lnTo>
                  <a:lnTo>
                    <a:pt x="24" y="70"/>
                  </a:lnTo>
                  <a:lnTo>
                    <a:pt x="29" y="60"/>
                  </a:lnTo>
                  <a:lnTo>
                    <a:pt x="34" y="52"/>
                  </a:lnTo>
                  <a:lnTo>
                    <a:pt x="42" y="44"/>
                  </a:lnTo>
                  <a:lnTo>
                    <a:pt x="48" y="37"/>
                  </a:lnTo>
                  <a:lnTo>
                    <a:pt x="56" y="30"/>
                  </a:lnTo>
                  <a:lnTo>
                    <a:pt x="64" y="24"/>
                  </a:lnTo>
                  <a:lnTo>
                    <a:pt x="72" y="19"/>
                  </a:lnTo>
                  <a:lnTo>
                    <a:pt x="81" y="15"/>
                  </a:lnTo>
                  <a:lnTo>
                    <a:pt x="90" y="10"/>
                  </a:lnTo>
                  <a:lnTo>
                    <a:pt x="100" y="7"/>
                  </a:lnTo>
                  <a:lnTo>
                    <a:pt x="110" y="4"/>
                  </a:lnTo>
                  <a:lnTo>
                    <a:pt x="120" y="2"/>
                  </a:lnTo>
                  <a:lnTo>
                    <a:pt x="131" y="1"/>
                  </a:lnTo>
                  <a:lnTo>
                    <a:pt x="141" y="0"/>
                  </a:lnTo>
                  <a:lnTo>
                    <a:pt x="153" y="0"/>
                  </a:lnTo>
                  <a:lnTo>
                    <a:pt x="169" y="0"/>
                  </a:lnTo>
                  <a:lnTo>
                    <a:pt x="184" y="2"/>
                  </a:lnTo>
                  <a:lnTo>
                    <a:pt x="199" y="6"/>
                  </a:lnTo>
                  <a:lnTo>
                    <a:pt x="212" y="10"/>
                  </a:lnTo>
                  <a:lnTo>
                    <a:pt x="225" y="17"/>
                  </a:lnTo>
                  <a:lnTo>
                    <a:pt x="237" y="24"/>
                  </a:lnTo>
                  <a:lnTo>
                    <a:pt x="246" y="33"/>
                  </a:lnTo>
                  <a:lnTo>
                    <a:pt x="255" y="42"/>
                  </a:lnTo>
                  <a:lnTo>
                    <a:pt x="261" y="53"/>
                  </a:lnTo>
                  <a:lnTo>
                    <a:pt x="267" y="65"/>
                  </a:lnTo>
                  <a:lnTo>
                    <a:pt x="273" y="79"/>
                  </a:lnTo>
                  <a:lnTo>
                    <a:pt x="277" y="94"/>
                  </a:lnTo>
                  <a:lnTo>
                    <a:pt x="241" y="105"/>
                  </a:lnTo>
                  <a:lnTo>
                    <a:pt x="238" y="93"/>
                  </a:lnTo>
                  <a:lnTo>
                    <a:pt x="233" y="82"/>
                  </a:lnTo>
                  <a:lnTo>
                    <a:pt x="229" y="74"/>
                  </a:lnTo>
                  <a:lnTo>
                    <a:pt x="224" y="67"/>
                  </a:lnTo>
                  <a:lnTo>
                    <a:pt x="219" y="60"/>
                  </a:lnTo>
                  <a:lnTo>
                    <a:pt x="211" y="54"/>
                  </a:lnTo>
                  <a:lnTo>
                    <a:pt x="204" y="48"/>
                  </a:lnTo>
                  <a:lnTo>
                    <a:pt x="194" y="44"/>
                  </a:lnTo>
                  <a:lnTo>
                    <a:pt x="185" y="40"/>
                  </a:lnTo>
                  <a:lnTo>
                    <a:pt x="175" y="38"/>
                  </a:lnTo>
                  <a:lnTo>
                    <a:pt x="164" y="36"/>
                  </a:lnTo>
                  <a:lnTo>
                    <a:pt x="153" y="36"/>
                  </a:lnTo>
                  <a:lnTo>
                    <a:pt x="139" y="36"/>
                  </a:lnTo>
                  <a:lnTo>
                    <a:pt x="126" y="38"/>
                  </a:lnTo>
                  <a:lnTo>
                    <a:pt x="116" y="41"/>
                  </a:lnTo>
                  <a:lnTo>
                    <a:pt x="105" y="44"/>
                  </a:lnTo>
                  <a:lnTo>
                    <a:pt x="96" y="50"/>
                  </a:lnTo>
                  <a:lnTo>
                    <a:pt x="86" y="55"/>
                  </a:lnTo>
                  <a:lnTo>
                    <a:pt x="79" y="61"/>
                  </a:lnTo>
                  <a:lnTo>
                    <a:pt x="72" y="68"/>
                  </a:lnTo>
                  <a:lnTo>
                    <a:pt x="66" y="75"/>
                  </a:lnTo>
                  <a:lnTo>
                    <a:pt x="62" y="82"/>
                  </a:lnTo>
                  <a:lnTo>
                    <a:pt x="57" y="91"/>
                  </a:lnTo>
                  <a:lnTo>
                    <a:pt x="53" y="99"/>
                  </a:lnTo>
                  <a:lnTo>
                    <a:pt x="48" y="114"/>
                  </a:lnTo>
                  <a:lnTo>
                    <a:pt x="45" y="130"/>
                  </a:lnTo>
                  <a:lnTo>
                    <a:pt x="43" y="147"/>
                  </a:lnTo>
                  <a:lnTo>
                    <a:pt x="42" y="164"/>
                  </a:lnTo>
                  <a:lnTo>
                    <a:pt x="43" y="184"/>
                  </a:lnTo>
                  <a:lnTo>
                    <a:pt x="45" y="203"/>
                  </a:lnTo>
                  <a:lnTo>
                    <a:pt x="47" y="212"/>
                  </a:lnTo>
                  <a:lnTo>
                    <a:pt x="49" y="220"/>
                  </a:lnTo>
                  <a:lnTo>
                    <a:pt x="52" y="228"/>
                  </a:lnTo>
                  <a:lnTo>
                    <a:pt x="56" y="235"/>
                  </a:lnTo>
                  <a:lnTo>
                    <a:pt x="60" y="242"/>
                  </a:lnTo>
                  <a:lnTo>
                    <a:pt x="63" y="249"/>
                  </a:lnTo>
                  <a:lnTo>
                    <a:pt x="68" y="255"/>
                  </a:lnTo>
                  <a:lnTo>
                    <a:pt x="72" y="260"/>
                  </a:lnTo>
                  <a:lnTo>
                    <a:pt x="78" y="266"/>
                  </a:lnTo>
                  <a:lnTo>
                    <a:pt x="84" y="270"/>
                  </a:lnTo>
                  <a:lnTo>
                    <a:pt x="90" y="274"/>
                  </a:lnTo>
                  <a:lnTo>
                    <a:pt x="97" y="278"/>
                  </a:lnTo>
                  <a:lnTo>
                    <a:pt x="110" y="284"/>
                  </a:lnTo>
                  <a:lnTo>
                    <a:pt x="124" y="288"/>
                  </a:lnTo>
                  <a:lnTo>
                    <a:pt x="138" y="291"/>
                  </a:lnTo>
                  <a:lnTo>
                    <a:pt x="153" y="292"/>
                  </a:lnTo>
                  <a:lnTo>
                    <a:pt x="167" y="291"/>
                  </a:lnTo>
                  <a:lnTo>
                    <a:pt x="179" y="289"/>
                  </a:lnTo>
                  <a:lnTo>
                    <a:pt x="192" y="286"/>
                  </a:lnTo>
                  <a:lnTo>
                    <a:pt x="205" y="282"/>
                  </a:lnTo>
                  <a:lnTo>
                    <a:pt x="217" y="276"/>
                  </a:lnTo>
                  <a:lnTo>
                    <a:pt x="226" y="270"/>
                  </a:lnTo>
                  <a:lnTo>
                    <a:pt x="236" y="265"/>
                  </a:lnTo>
                  <a:lnTo>
                    <a:pt x="242" y="258"/>
                  </a:lnTo>
                  <a:lnTo>
                    <a:pt x="242" y="199"/>
                  </a:lnTo>
                  <a:lnTo>
                    <a:pt x="153" y="199"/>
                  </a:lnTo>
                  <a:close/>
                </a:path>
              </a:pathLst>
            </a:custGeom>
            <a:solidFill>
              <a:srgbClr val="ffff00"/>
            </a:solidFill>
            <a:ln w="0">
              <a:noFill/>
            </a:ln>
          </p:spPr>
          <p:style>
            <a:lnRef idx="0"/>
            <a:fillRef idx="0"/>
            <a:effectRef idx="0"/>
            <a:fontRef idx="minor"/>
          </p:style>
          <p:txBody>
            <a:bodyPr lIns="90000" rIns="90000" tIns="5040" bIns="5040" anchor="t">
              <a:noAutofit/>
            </a:bodyPr>
            <a:p>
              <a:pPr>
                <a:lnSpc>
                  <a:spcPct val="100000"/>
                </a:lnSpc>
              </a:pPr>
              <a:endParaRPr b="0" lang="en-US" sz="1800" spc="-1" strike="noStrike">
                <a:solidFill>
                  <a:srgbClr val="ffff00"/>
                </a:solidFill>
                <a:latin typeface="Arial"/>
                <a:ea typeface="宋体"/>
              </a:endParaRPr>
            </a:p>
          </p:txBody>
        </p:sp>
        <p:sp>
          <p:nvSpPr>
            <p:cNvPr id="530" name="Freeform 32"/>
            <p:cNvSpPr/>
            <p:nvPr/>
          </p:nvSpPr>
          <p:spPr>
            <a:xfrm>
              <a:off x="2562840" y="9660240"/>
              <a:ext cx="46440" cy="49680"/>
            </a:xfrm>
            <a:custGeom>
              <a:avLst/>
              <a:gdLst>
                <a:gd name="textAreaLeft" fmla="*/ 0 w 46440"/>
                <a:gd name="textAreaRight" fmla="*/ 46800 w 46440"/>
                <a:gd name="textAreaTop" fmla="*/ 0 h 49680"/>
                <a:gd name="textAreaBottom" fmla="*/ 50040 h 49680"/>
              </a:gdLst>
              <a:ahLst/>
              <a:rect l="textAreaLeft" t="textAreaTop" r="textAreaRight" b="textAreaBottom"/>
              <a:pathLst>
                <a:path w="293" h="331">
                  <a:moveTo>
                    <a:pt x="0" y="170"/>
                  </a:moveTo>
                  <a:lnTo>
                    <a:pt x="1" y="150"/>
                  </a:lnTo>
                  <a:lnTo>
                    <a:pt x="3" y="132"/>
                  </a:lnTo>
                  <a:lnTo>
                    <a:pt x="7" y="115"/>
                  </a:lnTo>
                  <a:lnTo>
                    <a:pt x="11" y="99"/>
                  </a:lnTo>
                  <a:lnTo>
                    <a:pt x="16" y="83"/>
                  </a:lnTo>
                  <a:lnTo>
                    <a:pt x="24" y="70"/>
                  </a:lnTo>
                  <a:lnTo>
                    <a:pt x="32" y="57"/>
                  </a:lnTo>
                  <a:lnTo>
                    <a:pt x="42" y="45"/>
                  </a:lnTo>
                  <a:lnTo>
                    <a:pt x="52" y="35"/>
                  </a:lnTo>
                  <a:lnTo>
                    <a:pt x="64" y="25"/>
                  </a:lnTo>
                  <a:lnTo>
                    <a:pt x="75" y="18"/>
                  </a:lnTo>
                  <a:lnTo>
                    <a:pt x="88" y="11"/>
                  </a:lnTo>
                  <a:lnTo>
                    <a:pt x="102" y="6"/>
                  </a:lnTo>
                  <a:lnTo>
                    <a:pt x="116" y="3"/>
                  </a:lnTo>
                  <a:lnTo>
                    <a:pt x="131" y="1"/>
                  </a:lnTo>
                  <a:lnTo>
                    <a:pt x="146" y="0"/>
                  </a:lnTo>
                  <a:lnTo>
                    <a:pt x="157" y="1"/>
                  </a:lnTo>
                  <a:lnTo>
                    <a:pt x="168" y="2"/>
                  </a:lnTo>
                  <a:lnTo>
                    <a:pt x="177" y="3"/>
                  </a:lnTo>
                  <a:lnTo>
                    <a:pt x="187" y="5"/>
                  </a:lnTo>
                  <a:lnTo>
                    <a:pt x="196" y="8"/>
                  </a:lnTo>
                  <a:lnTo>
                    <a:pt x="206" y="12"/>
                  </a:lnTo>
                  <a:lnTo>
                    <a:pt x="214" y="17"/>
                  </a:lnTo>
                  <a:lnTo>
                    <a:pt x="223" y="21"/>
                  </a:lnTo>
                  <a:lnTo>
                    <a:pt x="231" y="27"/>
                  </a:lnTo>
                  <a:lnTo>
                    <a:pt x="239" y="33"/>
                  </a:lnTo>
                  <a:lnTo>
                    <a:pt x="246" y="40"/>
                  </a:lnTo>
                  <a:lnTo>
                    <a:pt x="252" y="46"/>
                  </a:lnTo>
                  <a:lnTo>
                    <a:pt x="259" y="55"/>
                  </a:lnTo>
                  <a:lnTo>
                    <a:pt x="264" y="62"/>
                  </a:lnTo>
                  <a:lnTo>
                    <a:pt x="269" y="71"/>
                  </a:lnTo>
                  <a:lnTo>
                    <a:pt x="275" y="80"/>
                  </a:lnTo>
                  <a:lnTo>
                    <a:pt x="279" y="90"/>
                  </a:lnTo>
                  <a:lnTo>
                    <a:pt x="282" y="100"/>
                  </a:lnTo>
                  <a:lnTo>
                    <a:pt x="285" y="110"/>
                  </a:lnTo>
                  <a:lnTo>
                    <a:pt x="287" y="120"/>
                  </a:lnTo>
                  <a:lnTo>
                    <a:pt x="289" y="131"/>
                  </a:lnTo>
                  <a:lnTo>
                    <a:pt x="290" y="143"/>
                  </a:lnTo>
                  <a:lnTo>
                    <a:pt x="292" y="154"/>
                  </a:lnTo>
                  <a:lnTo>
                    <a:pt x="293" y="166"/>
                  </a:lnTo>
                  <a:lnTo>
                    <a:pt x="292" y="178"/>
                  </a:lnTo>
                  <a:lnTo>
                    <a:pt x="290" y="189"/>
                  </a:lnTo>
                  <a:lnTo>
                    <a:pt x="289" y="201"/>
                  </a:lnTo>
                  <a:lnTo>
                    <a:pt x="287" y="213"/>
                  </a:lnTo>
                  <a:lnTo>
                    <a:pt x="285" y="223"/>
                  </a:lnTo>
                  <a:lnTo>
                    <a:pt x="282" y="234"/>
                  </a:lnTo>
                  <a:lnTo>
                    <a:pt x="278" y="243"/>
                  </a:lnTo>
                  <a:lnTo>
                    <a:pt x="273" y="253"/>
                  </a:lnTo>
                  <a:lnTo>
                    <a:pt x="268" y="262"/>
                  </a:lnTo>
                  <a:lnTo>
                    <a:pt x="263" y="271"/>
                  </a:lnTo>
                  <a:lnTo>
                    <a:pt x="258" y="279"/>
                  </a:lnTo>
                  <a:lnTo>
                    <a:pt x="251" y="287"/>
                  </a:lnTo>
                  <a:lnTo>
                    <a:pt x="244" y="294"/>
                  </a:lnTo>
                  <a:lnTo>
                    <a:pt x="236" y="301"/>
                  </a:lnTo>
                  <a:lnTo>
                    <a:pt x="229" y="306"/>
                  </a:lnTo>
                  <a:lnTo>
                    <a:pt x="221" y="311"/>
                  </a:lnTo>
                  <a:lnTo>
                    <a:pt x="212" y="315"/>
                  </a:lnTo>
                  <a:lnTo>
                    <a:pt x="203" y="320"/>
                  </a:lnTo>
                  <a:lnTo>
                    <a:pt x="194" y="323"/>
                  </a:lnTo>
                  <a:lnTo>
                    <a:pt x="185" y="326"/>
                  </a:lnTo>
                  <a:lnTo>
                    <a:pt x="175" y="328"/>
                  </a:lnTo>
                  <a:lnTo>
                    <a:pt x="165" y="330"/>
                  </a:lnTo>
                  <a:lnTo>
                    <a:pt x="156" y="330"/>
                  </a:lnTo>
                  <a:lnTo>
                    <a:pt x="146" y="331"/>
                  </a:lnTo>
                  <a:lnTo>
                    <a:pt x="136" y="330"/>
                  </a:lnTo>
                  <a:lnTo>
                    <a:pt x="125" y="329"/>
                  </a:lnTo>
                  <a:lnTo>
                    <a:pt x="116" y="328"/>
                  </a:lnTo>
                  <a:lnTo>
                    <a:pt x="106" y="326"/>
                  </a:lnTo>
                  <a:lnTo>
                    <a:pt x="97" y="323"/>
                  </a:lnTo>
                  <a:lnTo>
                    <a:pt x="87" y="319"/>
                  </a:lnTo>
                  <a:lnTo>
                    <a:pt x="79" y="314"/>
                  </a:lnTo>
                  <a:lnTo>
                    <a:pt x="69" y="309"/>
                  </a:lnTo>
                  <a:lnTo>
                    <a:pt x="62" y="304"/>
                  </a:lnTo>
                  <a:lnTo>
                    <a:pt x="53" y="297"/>
                  </a:lnTo>
                  <a:lnTo>
                    <a:pt x="47" y="291"/>
                  </a:lnTo>
                  <a:lnTo>
                    <a:pt x="39" y="284"/>
                  </a:lnTo>
                  <a:lnTo>
                    <a:pt x="33" y="276"/>
                  </a:lnTo>
                  <a:lnTo>
                    <a:pt x="28" y="268"/>
                  </a:lnTo>
                  <a:lnTo>
                    <a:pt x="22" y="259"/>
                  </a:lnTo>
                  <a:lnTo>
                    <a:pt x="18" y="250"/>
                  </a:lnTo>
                  <a:lnTo>
                    <a:pt x="14" y="240"/>
                  </a:lnTo>
                  <a:lnTo>
                    <a:pt x="11" y="231"/>
                  </a:lnTo>
                  <a:lnTo>
                    <a:pt x="8" y="221"/>
                  </a:lnTo>
                  <a:lnTo>
                    <a:pt x="6" y="211"/>
                  </a:lnTo>
                  <a:lnTo>
                    <a:pt x="3" y="201"/>
                  </a:lnTo>
                  <a:lnTo>
                    <a:pt x="1" y="190"/>
                  </a:lnTo>
                  <a:lnTo>
                    <a:pt x="1" y="180"/>
                  </a:lnTo>
                  <a:lnTo>
                    <a:pt x="0" y="170"/>
                  </a:lnTo>
                  <a:close/>
                  <a:moveTo>
                    <a:pt x="43" y="170"/>
                  </a:moveTo>
                  <a:lnTo>
                    <a:pt x="43" y="185"/>
                  </a:lnTo>
                  <a:lnTo>
                    <a:pt x="44" y="198"/>
                  </a:lnTo>
                  <a:lnTo>
                    <a:pt x="47" y="211"/>
                  </a:lnTo>
                  <a:lnTo>
                    <a:pt x="50" y="222"/>
                  </a:lnTo>
                  <a:lnTo>
                    <a:pt x="54" y="233"/>
                  </a:lnTo>
                  <a:lnTo>
                    <a:pt x="58" y="243"/>
                  </a:lnTo>
                  <a:lnTo>
                    <a:pt x="65" y="253"/>
                  </a:lnTo>
                  <a:lnTo>
                    <a:pt x="72" y="261"/>
                  </a:lnTo>
                  <a:lnTo>
                    <a:pt x="80" y="270"/>
                  </a:lnTo>
                  <a:lnTo>
                    <a:pt x="88" y="276"/>
                  </a:lnTo>
                  <a:lnTo>
                    <a:pt x="97" y="282"/>
                  </a:lnTo>
                  <a:lnTo>
                    <a:pt x="105" y="287"/>
                  </a:lnTo>
                  <a:lnTo>
                    <a:pt x="115" y="290"/>
                  </a:lnTo>
                  <a:lnTo>
                    <a:pt x="125" y="293"/>
                  </a:lnTo>
                  <a:lnTo>
                    <a:pt x="135" y="294"/>
                  </a:lnTo>
                  <a:lnTo>
                    <a:pt x="146" y="295"/>
                  </a:lnTo>
                  <a:lnTo>
                    <a:pt x="157" y="294"/>
                  </a:lnTo>
                  <a:lnTo>
                    <a:pt x="168" y="293"/>
                  </a:lnTo>
                  <a:lnTo>
                    <a:pt x="178" y="290"/>
                  </a:lnTo>
                  <a:lnTo>
                    <a:pt x="188" y="287"/>
                  </a:lnTo>
                  <a:lnTo>
                    <a:pt x="197" y="282"/>
                  </a:lnTo>
                  <a:lnTo>
                    <a:pt x="206" y="276"/>
                  </a:lnTo>
                  <a:lnTo>
                    <a:pt x="213" y="269"/>
                  </a:lnTo>
                  <a:lnTo>
                    <a:pt x="222" y="261"/>
                  </a:lnTo>
                  <a:lnTo>
                    <a:pt x="228" y="253"/>
                  </a:lnTo>
                  <a:lnTo>
                    <a:pt x="234" y="242"/>
                  </a:lnTo>
                  <a:lnTo>
                    <a:pt x="239" y="232"/>
                  </a:lnTo>
                  <a:lnTo>
                    <a:pt x="243" y="221"/>
                  </a:lnTo>
                  <a:lnTo>
                    <a:pt x="246" y="208"/>
                  </a:lnTo>
                  <a:lnTo>
                    <a:pt x="249" y="195"/>
                  </a:lnTo>
                  <a:lnTo>
                    <a:pt x="250" y="181"/>
                  </a:lnTo>
                  <a:lnTo>
                    <a:pt x="250" y="166"/>
                  </a:lnTo>
                  <a:lnTo>
                    <a:pt x="250" y="147"/>
                  </a:lnTo>
                  <a:lnTo>
                    <a:pt x="247" y="129"/>
                  </a:lnTo>
                  <a:lnTo>
                    <a:pt x="244" y="113"/>
                  </a:lnTo>
                  <a:lnTo>
                    <a:pt x="237" y="98"/>
                  </a:lnTo>
                  <a:lnTo>
                    <a:pt x="231" y="84"/>
                  </a:lnTo>
                  <a:lnTo>
                    <a:pt x="223" y="72"/>
                  </a:lnTo>
                  <a:lnTo>
                    <a:pt x="217" y="66"/>
                  </a:lnTo>
                  <a:lnTo>
                    <a:pt x="212" y="61"/>
                  </a:lnTo>
                  <a:lnTo>
                    <a:pt x="207" y="57"/>
                  </a:lnTo>
                  <a:lnTo>
                    <a:pt x="201" y="53"/>
                  </a:lnTo>
                  <a:lnTo>
                    <a:pt x="189" y="45"/>
                  </a:lnTo>
                  <a:lnTo>
                    <a:pt x="175" y="41"/>
                  </a:lnTo>
                  <a:lnTo>
                    <a:pt x="161" y="38"/>
                  </a:lnTo>
                  <a:lnTo>
                    <a:pt x="146" y="37"/>
                  </a:lnTo>
                  <a:lnTo>
                    <a:pt x="136" y="37"/>
                  </a:lnTo>
                  <a:lnTo>
                    <a:pt x="126" y="39"/>
                  </a:lnTo>
                  <a:lnTo>
                    <a:pt x="117" y="41"/>
                  </a:lnTo>
                  <a:lnTo>
                    <a:pt x="107" y="44"/>
                  </a:lnTo>
                  <a:lnTo>
                    <a:pt x="98" y="48"/>
                  </a:lnTo>
                  <a:lnTo>
                    <a:pt x="89" y="54"/>
                  </a:lnTo>
                  <a:lnTo>
                    <a:pt x="81" y="60"/>
                  </a:lnTo>
                  <a:lnTo>
                    <a:pt x="73" y="68"/>
                  </a:lnTo>
                  <a:lnTo>
                    <a:pt x="66" y="76"/>
                  </a:lnTo>
                  <a:lnTo>
                    <a:pt x="60" y="86"/>
                  </a:lnTo>
                  <a:lnTo>
                    <a:pt x="54" y="96"/>
                  </a:lnTo>
                  <a:lnTo>
                    <a:pt x="50" y="109"/>
                  </a:lnTo>
                  <a:lnTo>
                    <a:pt x="47" y="123"/>
                  </a:lnTo>
                  <a:lnTo>
                    <a:pt x="45" y="137"/>
                  </a:lnTo>
                  <a:lnTo>
                    <a:pt x="43" y="153"/>
                  </a:lnTo>
                  <a:lnTo>
                    <a:pt x="43" y="170"/>
                  </a:lnTo>
                  <a:close/>
                </a:path>
              </a:pathLst>
            </a:custGeom>
            <a:solidFill>
              <a:srgbClr val="ffff00"/>
            </a:solidFill>
            <a:ln w="0">
              <a:noFill/>
            </a:ln>
          </p:spPr>
          <p:style>
            <a:lnRef idx="0"/>
            <a:fillRef idx="0"/>
            <a:effectRef idx="0"/>
            <a:fontRef idx="minor"/>
          </p:style>
          <p:txBody>
            <a:bodyPr lIns="90000" rIns="90000" tIns="5040" bIns="5040" anchor="t">
              <a:noAutofit/>
            </a:bodyPr>
            <a:p>
              <a:pPr>
                <a:lnSpc>
                  <a:spcPct val="100000"/>
                </a:lnSpc>
              </a:pPr>
              <a:endParaRPr b="0" lang="en-US" sz="1800" spc="-1" strike="noStrike">
                <a:solidFill>
                  <a:srgbClr val="ffff00"/>
                </a:solidFill>
                <a:latin typeface="Arial"/>
                <a:ea typeface="宋体"/>
              </a:endParaRPr>
            </a:p>
          </p:txBody>
        </p:sp>
        <p:sp>
          <p:nvSpPr>
            <p:cNvPr id="531" name="Freeform 33"/>
            <p:cNvSpPr/>
            <p:nvPr/>
          </p:nvSpPr>
          <p:spPr>
            <a:xfrm>
              <a:off x="2622240" y="9661320"/>
              <a:ext cx="29880" cy="48600"/>
            </a:xfrm>
            <a:custGeom>
              <a:avLst/>
              <a:gdLst>
                <a:gd name="textAreaLeft" fmla="*/ 0 w 29880"/>
                <a:gd name="textAreaRight" fmla="*/ 30240 w 29880"/>
                <a:gd name="textAreaTop" fmla="*/ 0 h 48600"/>
                <a:gd name="textAreaBottom" fmla="*/ 48960 h 48600"/>
              </a:gdLst>
              <a:ahLst/>
              <a:rect l="textAreaLeft" t="textAreaTop" r="textAreaRight" b="textAreaBottom"/>
              <a:pathLst>
                <a:path w="190" h="320">
                  <a:moveTo>
                    <a:pt x="0" y="320"/>
                  </a:moveTo>
                  <a:lnTo>
                    <a:pt x="0" y="0"/>
                  </a:lnTo>
                  <a:lnTo>
                    <a:pt x="40" y="0"/>
                  </a:lnTo>
                  <a:lnTo>
                    <a:pt x="40" y="282"/>
                  </a:lnTo>
                  <a:lnTo>
                    <a:pt x="190" y="282"/>
                  </a:lnTo>
                  <a:lnTo>
                    <a:pt x="190" y="320"/>
                  </a:lnTo>
                  <a:lnTo>
                    <a:pt x="0" y="320"/>
                  </a:lnTo>
                  <a:close/>
                </a:path>
              </a:pathLst>
            </a:custGeom>
            <a:solidFill>
              <a:srgbClr val="ffff00"/>
            </a:solidFill>
            <a:ln w="0">
              <a:noFill/>
            </a:ln>
          </p:spPr>
          <p:style>
            <a:lnRef idx="0"/>
            <a:fillRef idx="0"/>
            <a:effectRef idx="0"/>
            <a:fontRef idx="minor"/>
          </p:style>
          <p:txBody>
            <a:bodyPr lIns="90000" rIns="90000" tIns="3960" bIns="3960" anchor="t">
              <a:noAutofit/>
            </a:bodyPr>
            <a:p>
              <a:pPr>
                <a:lnSpc>
                  <a:spcPct val="100000"/>
                </a:lnSpc>
              </a:pPr>
              <a:endParaRPr b="0" lang="en-US" sz="1800" spc="-1" strike="noStrike">
                <a:solidFill>
                  <a:srgbClr val="ffff00"/>
                </a:solidFill>
                <a:latin typeface="Arial"/>
                <a:ea typeface="宋体"/>
              </a:endParaRPr>
            </a:p>
          </p:txBody>
        </p:sp>
        <p:sp>
          <p:nvSpPr>
            <p:cNvPr id="532" name="Freeform 34"/>
            <p:cNvSpPr/>
            <p:nvPr/>
          </p:nvSpPr>
          <p:spPr>
            <a:xfrm>
              <a:off x="2663640" y="9661320"/>
              <a:ext cx="39960" cy="48600"/>
            </a:xfrm>
            <a:custGeom>
              <a:avLst/>
              <a:gdLst>
                <a:gd name="textAreaLeft" fmla="*/ 0 w 39960"/>
                <a:gd name="textAreaRight" fmla="*/ 40320 w 39960"/>
                <a:gd name="textAreaTop" fmla="*/ 0 h 48600"/>
                <a:gd name="textAreaBottom" fmla="*/ 48960 h 48600"/>
              </a:gdLst>
              <a:ahLst/>
              <a:rect l="textAreaLeft" t="textAreaTop" r="textAreaRight" b="textAreaBottom"/>
              <a:pathLst>
                <a:path w="251" h="320">
                  <a:moveTo>
                    <a:pt x="0" y="320"/>
                  </a:moveTo>
                  <a:lnTo>
                    <a:pt x="0" y="0"/>
                  </a:lnTo>
                  <a:lnTo>
                    <a:pt x="104" y="0"/>
                  </a:lnTo>
                  <a:lnTo>
                    <a:pt x="120" y="0"/>
                  </a:lnTo>
                  <a:lnTo>
                    <a:pt x="135" y="1"/>
                  </a:lnTo>
                  <a:lnTo>
                    <a:pt x="148" y="2"/>
                  </a:lnTo>
                  <a:lnTo>
                    <a:pt x="158" y="4"/>
                  </a:lnTo>
                  <a:lnTo>
                    <a:pt x="171" y="9"/>
                  </a:lnTo>
                  <a:lnTo>
                    <a:pt x="183" y="14"/>
                  </a:lnTo>
                  <a:lnTo>
                    <a:pt x="193" y="20"/>
                  </a:lnTo>
                  <a:lnTo>
                    <a:pt x="203" y="28"/>
                  </a:lnTo>
                  <a:lnTo>
                    <a:pt x="215" y="39"/>
                  </a:lnTo>
                  <a:lnTo>
                    <a:pt x="224" y="52"/>
                  </a:lnTo>
                  <a:lnTo>
                    <a:pt x="233" y="66"/>
                  </a:lnTo>
                  <a:lnTo>
                    <a:pt x="239" y="82"/>
                  </a:lnTo>
                  <a:lnTo>
                    <a:pt x="244" y="100"/>
                  </a:lnTo>
                  <a:lnTo>
                    <a:pt x="248" y="118"/>
                  </a:lnTo>
                  <a:lnTo>
                    <a:pt x="251" y="137"/>
                  </a:lnTo>
                  <a:lnTo>
                    <a:pt x="251" y="158"/>
                  </a:lnTo>
                  <a:lnTo>
                    <a:pt x="251" y="176"/>
                  </a:lnTo>
                  <a:lnTo>
                    <a:pt x="250" y="192"/>
                  </a:lnTo>
                  <a:lnTo>
                    <a:pt x="246" y="208"/>
                  </a:lnTo>
                  <a:lnTo>
                    <a:pt x="243" y="223"/>
                  </a:lnTo>
                  <a:lnTo>
                    <a:pt x="239" y="236"/>
                  </a:lnTo>
                  <a:lnTo>
                    <a:pt x="234" y="248"/>
                  </a:lnTo>
                  <a:lnTo>
                    <a:pt x="228" y="260"/>
                  </a:lnTo>
                  <a:lnTo>
                    <a:pt x="222" y="269"/>
                  </a:lnTo>
                  <a:lnTo>
                    <a:pt x="216" y="278"/>
                  </a:lnTo>
                  <a:lnTo>
                    <a:pt x="209" y="286"/>
                  </a:lnTo>
                  <a:lnTo>
                    <a:pt x="202" y="293"/>
                  </a:lnTo>
                  <a:lnTo>
                    <a:pt x="194" y="298"/>
                  </a:lnTo>
                  <a:lnTo>
                    <a:pt x="186" y="303"/>
                  </a:lnTo>
                  <a:lnTo>
                    <a:pt x="178" y="307"/>
                  </a:lnTo>
                  <a:lnTo>
                    <a:pt x="168" y="312"/>
                  </a:lnTo>
                  <a:lnTo>
                    <a:pt x="158" y="314"/>
                  </a:lnTo>
                  <a:lnTo>
                    <a:pt x="147" y="317"/>
                  </a:lnTo>
                  <a:lnTo>
                    <a:pt x="135" y="318"/>
                  </a:lnTo>
                  <a:lnTo>
                    <a:pt x="122" y="319"/>
                  </a:lnTo>
                  <a:lnTo>
                    <a:pt x="109" y="320"/>
                  </a:lnTo>
                  <a:lnTo>
                    <a:pt x="0" y="320"/>
                  </a:lnTo>
                  <a:close/>
                  <a:moveTo>
                    <a:pt x="40" y="282"/>
                  </a:moveTo>
                  <a:lnTo>
                    <a:pt x="104" y="282"/>
                  </a:lnTo>
                  <a:lnTo>
                    <a:pt x="119" y="282"/>
                  </a:lnTo>
                  <a:lnTo>
                    <a:pt x="131" y="281"/>
                  </a:lnTo>
                  <a:lnTo>
                    <a:pt x="143" y="279"/>
                  </a:lnTo>
                  <a:lnTo>
                    <a:pt x="152" y="276"/>
                  </a:lnTo>
                  <a:lnTo>
                    <a:pt x="159" y="272"/>
                  </a:lnTo>
                  <a:lnTo>
                    <a:pt x="167" y="269"/>
                  </a:lnTo>
                  <a:lnTo>
                    <a:pt x="173" y="265"/>
                  </a:lnTo>
                  <a:lnTo>
                    <a:pt x="180" y="260"/>
                  </a:lnTo>
                  <a:lnTo>
                    <a:pt x="186" y="251"/>
                  </a:lnTo>
                  <a:lnTo>
                    <a:pt x="192" y="242"/>
                  </a:lnTo>
                  <a:lnTo>
                    <a:pt x="198" y="231"/>
                  </a:lnTo>
                  <a:lnTo>
                    <a:pt x="202" y="219"/>
                  </a:lnTo>
                  <a:lnTo>
                    <a:pt x="205" y="206"/>
                  </a:lnTo>
                  <a:lnTo>
                    <a:pt x="207" y="191"/>
                  </a:lnTo>
                  <a:lnTo>
                    <a:pt x="209" y="175"/>
                  </a:lnTo>
                  <a:lnTo>
                    <a:pt x="209" y="157"/>
                  </a:lnTo>
                  <a:lnTo>
                    <a:pt x="209" y="145"/>
                  </a:lnTo>
                  <a:lnTo>
                    <a:pt x="208" y="134"/>
                  </a:lnTo>
                  <a:lnTo>
                    <a:pt x="207" y="123"/>
                  </a:lnTo>
                  <a:lnTo>
                    <a:pt x="206" y="113"/>
                  </a:lnTo>
                  <a:lnTo>
                    <a:pt x="203" y="104"/>
                  </a:lnTo>
                  <a:lnTo>
                    <a:pt x="201" y="95"/>
                  </a:lnTo>
                  <a:lnTo>
                    <a:pt x="198" y="87"/>
                  </a:lnTo>
                  <a:lnTo>
                    <a:pt x="193" y="81"/>
                  </a:lnTo>
                  <a:lnTo>
                    <a:pt x="186" y="68"/>
                  </a:lnTo>
                  <a:lnTo>
                    <a:pt x="176" y="57"/>
                  </a:lnTo>
                  <a:lnTo>
                    <a:pt x="171" y="53"/>
                  </a:lnTo>
                  <a:lnTo>
                    <a:pt x="167" y="50"/>
                  </a:lnTo>
                  <a:lnTo>
                    <a:pt x="162" y="47"/>
                  </a:lnTo>
                  <a:lnTo>
                    <a:pt x="155" y="45"/>
                  </a:lnTo>
                  <a:lnTo>
                    <a:pt x="147" y="41"/>
                  </a:lnTo>
                  <a:lnTo>
                    <a:pt x="134" y="39"/>
                  </a:lnTo>
                  <a:lnTo>
                    <a:pt x="120" y="38"/>
                  </a:lnTo>
                  <a:lnTo>
                    <a:pt x="103" y="37"/>
                  </a:lnTo>
                  <a:lnTo>
                    <a:pt x="40" y="37"/>
                  </a:lnTo>
                  <a:lnTo>
                    <a:pt x="40" y="282"/>
                  </a:lnTo>
                  <a:close/>
                </a:path>
              </a:pathLst>
            </a:custGeom>
            <a:solidFill>
              <a:srgbClr val="ffff00"/>
            </a:solidFill>
            <a:ln w="0">
              <a:noFill/>
            </a:ln>
          </p:spPr>
          <p:style>
            <a:lnRef idx="0"/>
            <a:fillRef idx="0"/>
            <a:effectRef idx="0"/>
            <a:fontRef idx="minor"/>
          </p:style>
          <p:txBody>
            <a:bodyPr lIns="90000" rIns="90000" tIns="3960" bIns="3960" anchor="t">
              <a:noAutofit/>
            </a:bodyPr>
            <a:p>
              <a:pPr>
                <a:lnSpc>
                  <a:spcPct val="100000"/>
                </a:lnSpc>
              </a:pPr>
              <a:endParaRPr b="0" lang="en-US" sz="1800" spc="-1" strike="noStrike">
                <a:solidFill>
                  <a:srgbClr val="ffff00"/>
                </a:solidFill>
                <a:latin typeface="Arial"/>
                <a:ea typeface="宋体"/>
              </a:endParaRPr>
            </a:p>
          </p:txBody>
        </p:sp>
        <p:sp>
          <p:nvSpPr>
            <p:cNvPr id="533" name="Freeform 35"/>
            <p:cNvSpPr/>
            <p:nvPr/>
          </p:nvSpPr>
          <p:spPr>
            <a:xfrm>
              <a:off x="2734920" y="9660240"/>
              <a:ext cx="43200" cy="49680"/>
            </a:xfrm>
            <a:custGeom>
              <a:avLst/>
              <a:gdLst>
                <a:gd name="textAreaLeft" fmla="*/ 0 w 43200"/>
                <a:gd name="textAreaRight" fmla="*/ 43560 w 43200"/>
                <a:gd name="textAreaTop" fmla="*/ 0 h 49680"/>
                <a:gd name="textAreaBottom" fmla="*/ 50040 h 49680"/>
              </a:gdLst>
              <a:ahLst/>
              <a:rect l="textAreaLeft" t="textAreaTop" r="textAreaRight" b="textAreaBottom"/>
              <a:pathLst>
                <a:path w="269" h="330">
                  <a:moveTo>
                    <a:pt x="228" y="213"/>
                  </a:moveTo>
                  <a:lnTo>
                    <a:pt x="269" y="223"/>
                  </a:lnTo>
                  <a:lnTo>
                    <a:pt x="265" y="236"/>
                  </a:lnTo>
                  <a:lnTo>
                    <a:pt x="261" y="248"/>
                  </a:lnTo>
                  <a:lnTo>
                    <a:pt x="257" y="258"/>
                  </a:lnTo>
                  <a:lnTo>
                    <a:pt x="252" y="269"/>
                  </a:lnTo>
                  <a:lnTo>
                    <a:pt x="245" y="278"/>
                  </a:lnTo>
                  <a:lnTo>
                    <a:pt x="239" y="288"/>
                  </a:lnTo>
                  <a:lnTo>
                    <a:pt x="232" y="295"/>
                  </a:lnTo>
                  <a:lnTo>
                    <a:pt x="223" y="303"/>
                  </a:lnTo>
                  <a:lnTo>
                    <a:pt x="215" y="309"/>
                  </a:lnTo>
                  <a:lnTo>
                    <a:pt x="206" y="314"/>
                  </a:lnTo>
                  <a:lnTo>
                    <a:pt x="197" y="320"/>
                  </a:lnTo>
                  <a:lnTo>
                    <a:pt x="187" y="323"/>
                  </a:lnTo>
                  <a:lnTo>
                    <a:pt x="176" y="326"/>
                  </a:lnTo>
                  <a:lnTo>
                    <a:pt x="166" y="328"/>
                  </a:lnTo>
                  <a:lnTo>
                    <a:pt x="154" y="329"/>
                  </a:lnTo>
                  <a:lnTo>
                    <a:pt x="143" y="330"/>
                  </a:lnTo>
                  <a:lnTo>
                    <a:pt x="131" y="329"/>
                  </a:lnTo>
                  <a:lnTo>
                    <a:pt x="119" y="329"/>
                  </a:lnTo>
                  <a:lnTo>
                    <a:pt x="109" y="327"/>
                  </a:lnTo>
                  <a:lnTo>
                    <a:pt x="98" y="325"/>
                  </a:lnTo>
                  <a:lnTo>
                    <a:pt x="89" y="322"/>
                  </a:lnTo>
                  <a:lnTo>
                    <a:pt x="79" y="319"/>
                  </a:lnTo>
                  <a:lnTo>
                    <a:pt x="71" y="314"/>
                  </a:lnTo>
                  <a:lnTo>
                    <a:pt x="63" y="309"/>
                  </a:lnTo>
                  <a:lnTo>
                    <a:pt x="55" y="304"/>
                  </a:lnTo>
                  <a:lnTo>
                    <a:pt x="48" y="298"/>
                  </a:lnTo>
                  <a:lnTo>
                    <a:pt x="42" y="290"/>
                  </a:lnTo>
                  <a:lnTo>
                    <a:pt x="36" y="284"/>
                  </a:lnTo>
                  <a:lnTo>
                    <a:pt x="30" y="275"/>
                  </a:lnTo>
                  <a:lnTo>
                    <a:pt x="25" y="267"/>
                  </a:lnTo>
                  <a:lnTo>
                    <a:pt x="20" y="257"/>
                  </a:lnTo>
                  <a:lnTo>
                    <a:pt x="15" y="248"/>
                  </a:lnTo>
                  <a:lnTo>
                    <a:pt x="12" y="238"/>
                  </a:lnTo>
                  <a:lnTo>
                    <a:pt x="9" y="228"/>
                  </a:lnTo>
                  <a:lnTo>
                    <a:pt x="6" y="217"/>
                  </a:lnTo>
                  <a:lnTo>
                    <a:pt x="4" y="206"/>
                  </a:lnTo>
                  <a:lnTo>
                    <a:pt x="2" y="196"/>
                  </a:lnTo>
                  <a:lnTo>
                    <a:pt x="1" y="185"/>
                  </a:lnTo>
                  <a:lnTo>
                    <a:pt x="0" y="174"/>
                  </a:lnTo>
                  <a:lnTo>
                    <a:pt x="0" y="162"/>
                  </a:lnTo>
                  <a:lnTo>
                    <a:pt x="0" y="150"/>
                  </a:lnTo>
                  <a:lnTo>
                    <a:pt x="1" y="139"/>
                  </a:lnTo>
                  <a:lnTo>
                    <a:pt x="2" y="127"/>
                  </a:lnTo>
                  <a:lnTo>
                    <a:pt x="4" y="115"/>
                  </a:lnTo>
                  <a:lnTo>
                    <a:pt x="7" y="105"/>
                  </a:lnTo>
                  <a:lnTo>
                    <a:pt x="10" y="95"/>
                  </a:lnTo>
                  <a:lnTo>
                    <a:pt x="13" y="85"/>
                  </a:lnTo>
                  <a:lnTo>
                    <a:pt x="18" y="75"/>
                  </a:lnTo>
                  <a:lnTo>
                    <a:pt x="23" y="67"/>
                  </a:lnTo>
                  <a:lnTo>
                    <a:pt x="28" y="58"/>
                  </a:lnTo>
                  <a:lnTo>
                    <a:pt x="33" y="50"/>
                  </a:lnTo>
                  <a:lnTo>
                    <a:pt x="40" y="42"/>
                  </a:lnTo>
                  <a:lnTo>
                    <a:pt x="46" y="36"/>
                  </a:lnTo>
                  <a:lnTo>
                    <a:pt x="54" y="29"/>
                  </a:lnTo>
                  <a:lnTo>
                    <a:pt x="61" y="24"/>
                  </a:lnTo>
                  <a:lnTo>
                    <a:pt x="70" y="19"/>
                  </a:lnTo>
                  <a:lnTo>
                    <a:pt x="78" y="15"/>
                  </a:lnTo>
                  <a:lnTo>
                    <a:pt x="86" y="10"/>
                  </a:lnTo>
                  <a:lnTo>
                    <a:pt x="96" y="7"/>
                  </a:lnTo>
                  <a:lnTo>
                    <a:pt x="104" y="4"/>
                  </a:lnTo>
                  <a:lnTo>
                    <a:pt x="114" y="2"/>
                  </a:lnTo>
                  <a:lnTo>
                    <a:pt x="124" y="1"/>
                  </a:lnTo>
                  <a:lnTo>
                    <a:pt x="133" y="0"/>
                  </a:lnTo>
                  <a:lnTo>
                    <a:pt x="144" y="0"/>
                  </a:lnTo>
                  <a:lnTo>
                    <a:pt x="154" y="0"/>
                  </a:lnTo>
                  <a:lnTo>
                    <a:pt x="165" y="1"/>
                  </a:lnTo>
                  <a:lnTo>
                    <a:pt x="175" y="3"/>
                  </a:lnTo>
                  <a:lnTo>
                    <a:pt x="185" y="5"/>
                  </a:lnTo>
                  <a:lnTo>
                    <a:pt x="194" y="9"/>
                  </a:lnTo>
                  <a:lnTo>
                    <a:pt x="204" y="14"/>
                  </a:lnTo>
                  <a:lnTo>
                    <a:pt x="212" y="18"/>
                  </a:lnTo>
                  <a:lnTo>
                    <a:pt x="220" y="24"/>
                  </a:lnTo>
                  <a:lnTo>
                    <a:pt x="227" y="30"/>
                  </a:lnTo>
                  <a:lnTo>
                    <a:pt x="235" y="37"/>
                  </a:lnTo>
                  <a:lnTo>
                    <a:pt x="241" y="45"/>
                  </a:lnTo>
                  <a:lnTo>
                    <a:pt x="246" y="53"/>
                  </a:lnTo>
                  <a:lnTo>
                    <a:pt x="252" y="62"/>
                  </a:lnTo>
                  <a:lnTo>
                    <a:pt x="256" y="72"/>
                  </a:lnTo>
                  <a:lnTo>
                    <a:pt x="260" y="81"/>
                  </a:lnTo>
                  <a:lnTo>
                    <a:pt x="263" y="93"/>
                  </a:lnTo>
                  <a:lnTo>
                    <a:pt x="224" y="103"/>
                  </a:lnTo>
                  <a:lnTo>
                    <a:pt x="218" y="86"/>
                  </a:lnTo>
                  <a:lnTo>
                    <a:pt x="211" y="72"/>
                  </a:lnTo>
                  <a:lnTo>
                    <a:pt x="207" y="67"/>
                  </a:lnTo>
                  <a:lnTo>
                    <a:pt x="203" y="61"/>
                  </a:lnTo>
                  <a:lnTo>
                    <a:pt x="198" y="56"/>
                  </a:lnTo>
                  <a:lnTo>
                    <a:pt x="193" y="52"/>
                  </a:lnTo>
                  <a:lnTo>
                    <a:pt x="188" y="47"/>
                  </a:lnTo>
                  <a:lnTo>
                    <a:pt x="183" y="44"/>
                  </a:lnTo>
                  <a:lnTo>
                    <a:pt x="176" y="42"/>
                  </a:lnTo>
                  <a:lnTo>
                    <a:pt x="170" y="40"/>
                  </a:lnTo>
                  <a:lnTo>
                    <a:pt x="164" y="38"/>
                  </a:lnTo>
                  <a:lnTo>
                    <a:pt x="157" y="37"/>
                  </a:lnTo>
                  <a:lnTo>
                    <a:pt x="150" y="36"/>
                  </a:lnTo>
                  <a:lnTo>
                    <a:pt x="143" y="36"/>
                  </a:lnTo>
                  <a:lnTo>
                    <a:pt x="134" y="36"/>
                  </a:lnTo>
                  <a:lnTo>
                    <a:pt x="126" y="37"/>
                  </a:lnTo>
                  <a:lnTo>
                    <a:pt x="118" y="38"/>
                  </a:lnTo>
                  <a:lnTo>
                    <a:pt x="111" y="40"/>
                  </a:lnTo>
                  <a:lnTo>
                    <a:pt x="103" y="42"/>
                  </a:lnTo>
                  <a:lnTo>
                    <a:pt x="96" y="45"/>
                  </a:lnTo>
                  <a:lnTo>
                    <a:pt x="90" y="50"/>
                  </a:lnTo>
                  <a:lnTo>
                    <a:pt x="84" y="53"/>
                  </a:lnTo>
                  <a:lnTo>
                    <a:pt x="78" y="58"/>
                  </a:lnTo>
                  <a:lnTo>
                    <a:pt x="73" y="63"/>
                  </a:lnTo>
                  <a:lnTo>
                    <a:pt x="68" y="69"/>
                  </a:lnTo>
                  <a:lnTo>
                    <a:pt x="64" y="74"/>
                  </a:lnTo>
                  <a:lnTo>
                    <a:pt x="60" y="80"/>
                  </a:lnTo>
                  <a:lnTo>
                    <a:pt x="57" y="87"/>
                  </a:lnTo>
                  <a:lnTo>
                    <a:pt x="54" y="93"/>
                  </a:lnTo>
                  <a:lnTo>
                    <a:pt x="50" y="100"/>
                  </a:lnTo>
                  <a:lnTo>
                    <a:pt x="46" y="115"/>
                  </a:lnTo>
                  <a:lnTo>
                    <a:pt x="43" y="131"/>
                  </a:lnTo>
                  <a:lnTo>
                    <a:pt x="42" y="146"/>
                  </a:lnTo>
                  <a:lnTo>
                    <a:pt x="41" y="162"/>
                  </a:lnTo>
                  <a:lnTo>
                    <a:pt x="42" y="182"/>
                  </a:lnTo>
                  <a:lnTo>
                    <a:pt x="44" y="200"/>
                  </a:lnTo>
                  <a:lnTo>
                    <a:pt x="47" y="217"/>
                  </a:lnTo>
                  <a:lnTo>
                    <a:pt x="53" y="233"/>
                  </a:lnTo>
                  <a:lnTo>
                    <a:pt x="56" y="240"/>
                  </a:lnTo>
                  <a:lnTo>
                    <a:pt x="59" y="248"/>
                  </a:lnTo>
                  <a:lnTo>
                    <a:pt x="63" y="254"/>
                  </a:lnTo>
                  <a:lnTo>
                    <a:pt x="67" y="260"/>
                  </a:lnTo>
                  <a:lnTo>
                    <a:pt x="72" y="266"/>
                  </a:lnTo>
                  <a:lnTo>
                    <a:pt x="77" y="270"/>
                  </a:lnTo>
                  <a:lnTo>
                    <a:pt x="82" y="275"/>
                  </a:lnTo>
                  <a:lnTo>
                    <a:pt x="88" y="278"/>
                  </a:lnTo>
                  <a:lnTo>
                    <a:pt x="100" y="286"/>
                  </a:lnTo>
                  <a:lnTo>
                    <a:pt x="113" y="290"/>
                  </a:lnTo>
                  <a:lnTo>
                    <a:pt x="126" y="293"/>
                  </a:lnTo>
                  <a:lnTo>
                    <a:pt x="139" y="294"/>
                  </a:lnTo>
                  <a:lnTo>
                    <a:pt x="148" y="293"/>
                  </a:lnTo>
                  <a:lnTo>
                    <a:pt x="155" y="292"/>
                  </a:lnTo>
                  <a:lnTo>
                    <a:pt x="164" y="291"/>
                  </a:lnTo>
                  <a:lnTo>
                    <a:pt x="171" y="289"/>
                  </a:lnTo>
                  <a:lnTo>
                    <a:pt x="178" y="286"/>
                  </a:lnTo>
                  <a:lnTo>
                    <a:pt x="184" y="283"/>
                  </a:lnTo>
                  <a:lnTo>
                    <a:pt x="190" y="278"/>
                  </a:lnTo>
                  <a:lnTo>
                    <a:pt x="197" y="273"/>
                  </a:lnTo>
                  <a:lnTo>
                    <a:pt x="202" y="268"/>
                  </a:lnTo>
                  <a:lnTo>
                    <a:pt x="207" y="261"/>
                  </a:lnTo>
                  <a:lnTo>
                    <a:pt x="212" y="255"/>
                  </a:lnTo>
                  <a:lnTo>
                    <a:pt x="217" y="248"/>
                  </a:lnTo>
                  <a:lnTo>
                    <a:pt x="220" y="240"/>
                  </a:lnTo>
                  <a:lnTo>
                    <a:pt x="223" y="232"/>
                  </a:lnTo>
                  <a:lnTo>
                    <a:pt x="226" y="222"/>
                  </a:lnTo>
                  <a:lnTo>
                    <a:pt x="228" y="213"/>
                  </a:lnTo>
                  <a:close/>
                </a:path>
              </a:pathLst>
            </a:custGeom>
            <a:solidFill>
              <a:srgbClr val="ffff00"/>
            </a:solidFill>
            <a:ln w="0">
              <a:noFill/>
            </a:ln>
          </p:spPr>
          <p:style>
            <a:lnRef idx="0"/>
            <a:fillRef idx="0"/>
            <a:effectRef idx="0"/>
            <a:fontRef idx="minor"/>
          </p:style>
          <p:txBody>
            <a:bodyPr lIns="90000" rIns="90000" tIns="5040" bIns="5040" anchor="t">
              <a:noAutofit/>
            </a:bodyPr>
            <a:p>
              <a:pPr>
                <a:lnSpc>
                  <a:spcPct val="100000"/>
                </a:lnSpc>
              </a:pPr>
              <a:endParaRPr b="0" lang="en-US" sz="1800" spc="-1" strike="noStrike">
                <a:solidFill>
                  <a:srgbClr val="ffff00"/>
                </a:solidFill>
                <a:latin typeface="Arial"/>
                <a:ea typeface="宋体"/>
              </a:endParaRPr>
            </a:p>
          </p:txBody>
        </p:sp>
        <p:sp>
          <p:nvSpPr>
            <p:cNvPr id="534" name="Freeform 36"/>
            <p:cNvSpPr/>
            <p:nvPr/>
          </p:nvSpPr>
          <p:spPr>
            <a:xfrm>
              <a:off x="2788560" y="9660240"/>
              <a:ext cx="45360" cy="49680"/>
            </a:xfrm>
            <a:custGeom>
              <a:avLst/>
              <a:gdLst>
                <a:gd name="textAreaLeft" fmla="*/ 0 w 45360"/>
                <a:gd name="textAreaRight" fmla="*/ 45720 w 45360"/>
                <a:gd name="textAreaTop" fmla="*/ 0 h 49680"/>
                <a:gd name="textAreaBottom" fmla="*/ 50040 h 49680"/>
              </a:gdLst>
              <a:ahLst/>
              <a:rect l="textAreaLeft" t="textAreaTop" r="textAreaRight" b="textAreaBottom"/>
              <a:pathLst>
                <a:path w="291" h="331">
                  <a:moveTo>
                    <a:pt x="0" y="170"/>
                  </a:moveTo>
                  <a:lnTo>
                    <a:pt x="0" y="150"/>
                  </a:lnTo>
                  <a:lnTo>
                    <a:pt x="2" y="132"/>
                  </a:lnTo>
                  <a:lnTo>
                    <a:pt x="5" y="115"/>
                  </a:lnTo>
                  <a:lnTo>
                    <a:pt x="10" y="99"/>
                  </a:lnTo>
                  <a:lnTo>
                    <a:pt x="16" y="83"/>
                  </a:lnTo>
                  <a:lnTo>
                    <a:pt x="22" y="70"/>
                  </a:lnTo>
                  <a:lnTo>
                    <a:pt x="31" y="57"/>
                  </a:lnTo>
                  <a:lnTo>
                    <a:pt x="40" y="45"/>
                  </a:lnTo>
                  <a:lnTo>
                    <a:pt x="51" y="35"/>
                  </a:lnTo>
                  <a:lnTo>
                    <a:pt x="63" y="25"/>
                  </a:lnTo>
                  <a:lnTo>
                    <a:pt x="74" y="18"/>
                  </a:lnTo>
                  <a:lnTo>
                    <a:pt x="87" y="11"/>
                  </a:lnTo>
                  <a:lnTo>
                    <a:pt x="101" y="6"/>
                  </a:lnTo>
                  <a:lnTo>
                    <a:pt x="116" y="3"/>
                  </a:lnTo>
                  <a:lnTo>
                    <a:pt x="130" y="1"/>
                  </a:lnTo>
                  <a:lnTo>
                    <a:pt x="146" y="0"/>
                  </a:lnTo>
                  <a:lnTo>
                    <a:pt x="156" y="1"/>
                  </a:lnTo>
                  <a:lnTo>
                    <a:pt x="166" y="2"/>
                  </a:lnTo>
                  <a:lnTo>
                    <a:pt x="176" y="3"/>
                  </a:lnTo>
                  <a:lnTo>
                    <a:pt x="186" y="5"/>
                  </a:lnTo>
                  <a:lnTo>
                    <a:pt x="195" y="8"/>
                  </a:lnTo>
                  <a:lnTo>
                    <a:pt x="205" y="12"/>
                  </a:lnTo>
                  <a:lnTo>
                    <a:pt x="213" y="17"/>
                  </a:lnTo>
                  <a:lnTo>
                    <a:pt x="222" y="21"/>
                  </a:lnTo>
                  <a:lnTo>
                    <a:pt x="230" y="27"/>
                  </a:lnTo>
                  <a:lnTo>
                    <a:pt x="237" y="33"/>
                  </a:lnTo>
                  <a:lnTo>
                    <a:pt x="245" y="40"/>
                  </a:lnTo>
                  <a:lnTo>
                    <a:pt x="252" y="46"/>
                  </a:lnTo>
                  <a:lnTo>
                    <a:pt x="258" y="55"/>
                  </a:lnTo>
                  <a:lnTo>
                    <a:pt x="264" y="62"/>
                  </a:lnTo>
                  <a:lnTo>
                    <a:pt x="269" y="71"/>
                  </a:lnTo>
                  <a:lnTo>
                    <a:pt x="273" y="80"/>
                  </a:lnTo>
                  <a:lnTo>
                    <a:pt x="278" y="90"/>
                  </a:lnTo>
                  <a:lnTo>
                    <a:pt x="281" y="100"/>
                  </a:lnTo>
                  <a:lnTo>
                    <a:pt x="284" y="110"/>
                  </a:lnTo>
                  <a:lnTo>
                    <a:pt x="287" y="120"/>
                  </a:lnTo>
                  <a:lnTo>
                    <a:pt x="289" y="131"/>
                  </a:lnTo>
                  <a:lnTo>
                    <a:pt x="290" y="143"/>
                  </a:lnTo>
                  <a:lnTo>
                    <a:pt x="291" y="154"/>
                  </a:lnTo>
                  <a:lnTo>
                    <a:pt x="291" y="166"/>
                  </a:lnTo>
                  <a:lnTo>
                    <a:pt x="291" y="178"/>
                  </a:lnTo>
                  <a:lnTo>
                    <a:pt x="290" y="189"/>
                  </a:lnTo>
                  <a:lnTo>
                    <a:pt x="288" y="201"/>
                  </a:lnTo>
                  <a:lnTo>
                    <a:pt x="287" y="213"/>
                  </a:lnTo>
                  <a:lnTo>
                    <a:pt x="284" y="223"/>
                  </a:lnTo>
                  <a:lnTo>
                    <a:pt x="281" y="234"/>
                  </a:lnTo>
                  <a:lnTo>
                    <a:pt x="277" y="243"/>
                  </a:lnTo>
                  <a:lnTo>
                    <a:pt x="272" y="253"/>
                  </a:lnTo>
                  <a:lnTo>
                    <a:pt x="268" y="262"/>
                  </a:lnTo>
                  <a:lnTo>
                    <a:pt x="263" y="271"/>
                  </a:lnTo>
                  <a:lnTo>
                    <a:pt x="257" y="279"/>
                  </a:lnTo>
                  <a:lnTo>
                    <a:pt x="250" y="287"/>
                  </a:lnTo>
                  <a:lnTo>
                    <a:pt x="243" y="294"/>
                  </a:lnTo>
                  <a:lnTo>
                    <a:pt x="236" y="301"/>
                  </a:lnTo>
                  <a:lnTo>
                    <a:pt x="228" y="306"/>
                  </a:lnTo>
                  <a:lnTo>
                    <a:pt x="219" y="311"/>
                  </a:lnTo>
                  <a:lnTo>
                    <a:pt x="211" y="315"/>
                  </a:lnTo>
                  <a:lnTo>
                    <a:pt x="202" y="320"/>
                  </a:lnTo>
                  <a:lnTo>
                    <a:pt x="193" y="323"/>
                  </a:lnTo>
                  <a:lnTo>
                    <a:pt x="184" y="326"/>
                  </a:lnTo>
                  <a:lnTo>
                    <a:pt x="175" y="328"/>
                  </a:lnTo>
                  <a:lnTo>
                    <a:pt x="165" y="330"/>
                  </a:lnTo>
                  <a:lnTo>
                    <a:pt x="156" y="330"/>
                  </a:lnTo>
                  <a:lnTo>
                    <a:pt x="145" y="331"/>
                  </a:lnTo>
                  <a:lnTo>
                    <a:pt x="135" y="330"/>
                  </a:lnTo>
                  <a:lnTo>
                    <a:pt x="125" y="329"/>
                  </a:lnTo>
                  <a:lnTo>
                    <a:pt x="115" y="328"/>
                  </a:lnTo>
                  <a:lnTo>
                    <a:pt x="105" y="326"/>
                  </a:lnTo>
                  <a:lnTo>
                    <a:pt x="96" y="323"/>
                  </a:lnTo>
                  <a:lnTo>
                    <a:pt x="86" y="319"/>
                  </a:lnTo>
                  <a:lnTo>
                    <a:pt x="78" y="314"/>
                  </a:lnTo>
                  <a:lnTo>
                    <a:pt x="69" y="309"/>
                  </a:lnTo>
                  <a:lnTo>
                    <a:pt x="61" y="304"/>
                  </a:lnTo>
                  <a:lnTo>
                    <a:pt x="53" y="297"/>
                  </a:lnTo>
                  <a:lnTo>
                    <a:pt x="46" y="291"/>
                  </a:lnTo>
                  <a:lnTo>
                    <a:pt x="39" y="284"/>
                  </a:lnTo>
                  <a:lnTo>
                    <a:pt x="33" y="276"/>
                  </a:lnTo>
                  <a:lnTo>
                    <a:pt x="28" y="268"/>
                  </a:lnTo>
                  <a:lnTo>
                    <a:pt x="22" y="259"/>
                  </a:lnTo>
                  <a:lnTo>
                    <a:pt x="17" y="250"/>
                  </a:lnTo>
                  <a:lnTo>
                    <a:pt x="13" y="240"/>
                  </a:lnTo>
                  <a:lnTo>
                    <a:pt x="10" y="231"/>
                  </a:lnTo>
                  <a:lnTo>
                    <a:pt x="7" y="221"/>
                  </a:lnTo>
                  <a:lnTo>
                    <a:pt x="4" y="211"/>
                  </a:lnTo>
                  <a:lnTo>
                    <a:pt x="2" y="201"/>
                  </a:lnTo>
                  <a:lnTo>
                    <a:pt x="1" y="190"/>
                  </a:lnTo>
                  <a:lnTo>
                    <a:pt x="0" y="180"/>
                  </a:lnTo>
                  <a:lnTo>
                    <a:pt x="0" y="170"/>
                  </a:lnTo>
                  <a:close/>
                  <a:moveTo>
                    <a:pt x="41" y="170"/>
                  </a:moveTo>
                  <a:lnTo>
                    <a:pt x="43" y="185"/>
                  </a:lnTo>
                  <a:lnTo>
                    <a:pt x="44" y="198"/>
                  </a:lnTo>
                  <a:lnTo>
                    <a:pt x="46" y="211"/>
                  </a:lnTo>
                  <a:lnTo>
                    <a:pt x="49" y="222"/>
                  </a:lnTo>
                  <a:lnTo>
                    <a:pt x="53" y="233"/>
                  </a:lnTo>
                  <a:lnTo>
                    <a:pt x="58" y="243"/>
                  </a:lnTo>
                  <a:lnTo>
                    <a:pt x="64" y="253"/>
                  </a:lnTo>
                  <a:lnTo>
                    <a:pt x="71" y="261"/>
                  </a:lnTo>
                  <a:lnTo>
                    <a:pt x="79" y="270"/>
                  </a:lnTo>
                  <a:lnTo>
                    <a:pt x="87" y="276"/>
                  </a:lnTo>
                  <a:lnTo>
                    <a:pt x="96" y="282"/>
                  </a:lnTo>
                  <a:lnTo>
                    <a:pt x="105" y="287"/>
                  </a:lnTo>
                  <a:lnTo>
                    <a:pt x="115" y="290"/>
                  </a:lnTo>
                  <a:lnTo>
                    <a:pt x="124" y="293"/>
                  </a:lnTo>
                  <a:lnTo>
                    <a:pt x="135" y="294"/>
                  </a:lnTo>
                  <a:lnTo>
                    <a:pt x="145" y="295"/>
                  </a:lnTo>
                  <a:lnTo>
                    <a:pt x="157" y="294"/>
                  </a:lnTo>
                  <a:lnTo>
                    <a:pt x="168" y="293"/>
                  </a:lnTo>
                  <a:lnTo>
                    <a:pt x="177" y="290"/>
                  </a:lnTo>
                  <a:lnTo>
                    <a:pt x="187" y="287"/>
                  </a:lnTo>
                  <a:lnTo>
                    <a:pt x="196" y="282"/>
                  </a:lnTo>
                  <a:lnTo>
                    <a:pt x="205" y="276"/>
                  </a:lnTo>
                  <a:lnTo>
                    <a:pt x="213" y="269"/>
                  </a:lnTo>
                  <a:lnTo>
                    <a:pt x="220" y="261"/>
                  </a:lnTo>
                  <a:lnTo>
                    <a:pt x="227" y="253"/>
                  </a:lnTo>
                  <a:lnTo>
                    <a:pt x="233" y="242"/>
                  </a:lnTo>
                  <a:lnTo>
                    <a:pt x="238" y="232"/>
                  </a:lnTo>
                  <a:lnTo>
                    <a:pt x="243" y="221"/>
                  </a:lnTo>
                  <a:lnTo>
                    <a:pt x="246" y="208"/>
                  </a:lnTo>
                  <a:lnTo>
                    <a:pt x="248" y="195"/>
                  </a:lnTo>
                  <a:lnTo>
                    <a:pt x="249" y="181"/>
                  </a:lnTo>
                  <a:lnTo>
                    <a:pt x="250" y="166"/>
                  </a:lnTo>
                  <a:lnTo>
                    <a:pt x="249" y="147"/>
                  </a:lnTo>
                  <a:lnTo>
                    <a:pt x="247" y="129"/>
                  </a:lnTo>
                  <a:lnTo>
                    <a:pt x="243" y="113"/>
                  </a:lnTo>
                  <a:lnTo>
                    <a:pt x="237" y="98"/>
                  </a:lnTo>
                  <a:lnTo>
                    <a:pt x="230" y="84"/>
                  </a:lnTo>
                  <a:lnTo>
                    <a:pt x="222" y="72"/>
                  </a:lnTo>
                  <a:lnTo>
                    <a:pt x="217" y="66"/>
                  </a:lnTo>
                  <a:lnTo>
                    <a:pt x="212" y="61"/>
                  </a:lnTo>
                  <a:lnTo>
                    <a:pt x="207" y="57"/>
                  </a:lnTo>
                  <a:lnTo>
                    <a:pt x="200" y="53"/>
                  </a:lnTo>
                  <a:lnTo>
                    <a:pt x="188" y="45"/>
                  </a:lnTo>
                  <a:lnTo>
                    <a:pt x="175" y="41"/>
                  </a:lnTo>
                  <a:lnTo>
                    <a:pt x="161" y="38"/>
                  </a:lnTo>
                  <a:lnTo>
                    <a:pt x="146" y="37"/>
                  </a:lnTo>
                  <a:lnTo>
                    <a:pt x="136" y="37"/>
                  </a:lnTo>
                  <a:lnTo>
                    <a:pt x="125" y="39"/>
                  </a:lnTo>
                  <a:lnTo>
                    <a:pt x="116" y="41"/>
                  </a:lnTo>
                  <a:lnTo>
                    <a:pt x="106" y="44"/>
                  </a:lnTo>
                  <a:lnTo>
                    <a:pt x="98" y="48"/>
                  </a:lnTo>
                  <a:lnTo>
                    <a:pt x="88" y="54"/>
                  </a:lnTo>
                  <a:lnTo>
                    <a:pt x="81" y="60"/>
                  </a:lnTo>
                  <a:lnTo>
                    <a:pt x="72" y="68"/>
                  </a:lnTo>
                  <a:lnTo>
                    <a:pt x="65" y="76"/>
                  </a:lnTo>
                  <a:lnTo>
                    <a:pt x="58" y="86"/>
                  </a:lnTo>
                  <a:lnTo>
                    <a:pt x="53" y="96"/>
                  </a:lnTo>
                  <a:lnTo>
                    <a:pt x="49" y="109"/>
                  </a:lnTo>
                  <a:lnTo>
                    <a:pt x="46" y="123"/>
                  </a:lnTo>
                  <a:lnTo>
                    <a:pt x="44" y="137"/>
                  </a:lnTo>
                  <a:lnTo>
                    <a:pt x="43" y="153"/>
                  </a:lnTo>
                  <a:lnTo>
                    <a:pt x="41" y="170"/>
                  </a:lnTo>
                  <a:close/>
                </a:path>
              </a:pathLst>
            </a:custGeom>
            <a:solidFill>
              <a:srgbClr val="ffff00"/>
            </a:solidFill>
            <a:ln w="0">
              <a:noFill/>
            </a:ln>
          </p:spPr>
          <p:style>
            <a:lnRef idx="0"/>
            <a:fillRef idx="0"/>
            <a:effectRef idx="0"/>
            <a:fontRef idx="minor"/>
          </p:style>
          <p:txBody>
            <a:bodyPr lIns="90000" rIns="90000" tIns="5040" bIns="5040" anchor="t">
              <a:noAutofit/>
            </a:bodyPr>
            <a:p>
              <a:pPr>
                <a:lnSpc>
                  <a:spcPct val="100000"/>
                </a:lnSpc>
              </a:pPr>
              <a:endParaRPr b="0" lang="en-US" sz="1800" spc="-1" strike="noStrike">
                <a:solidFill>
                  <a:srgbClr val="ffff00"/>
                </a:solidFill>
                <a:latin typeface="Arial"/>
                <a:ea typeface="宋体"/>
              </a:endParaRPr>
            </a:p>
          </p:txBody>
        </p:sp>
        <p:sp>
          <p:nvSpPr>
            <p:cNvPr id="535" name="Freeform 37"/>
            <p:cNvSpPr/>
            <p:nvPr/>
          </p:nvSpPr>
          <p:spPr>
            <a:xfrm>
              <a:off x="2846880" y="9661320"/>
              <a:ext cx="29880" cy="48600"/>
            </a:xfrm>
            <a:custGeom>
              <a:avLst/>
              <a:gdLst>
                <a:gd name="textAreaLeft" fmla="*/ 0 w 29880"/>
                <a:gd name="textAreaRight" fmla="*/ 30240 w 29880"/>
                <a:gd name="textAreaTop" fmla="*/ 0 h 48600"/>
                <a:gd name="textAreaBottom" fmla="*/ 48960 h 48600"/>
              </a:gdLst>
              <a:ahLst/>
              <a:rect l="textAreaLeft" t="textAreaTop" r="textAreaRight" b="textAreaBottom"/>
              <a:pathLst>
                <a:path w="189" h="320">
                  <a:moveTo>
                    <a:pt x="0" y="320"/>
                  </a:moveTo>
                  <a:lnTo>
                    <a:pt x="0" y="0"/>
                  </a:lnTo>
                  <a:lnTo>
                    <a:pt x="40" y="0"/>
                  </a:lnTo>
                  <a:lnTo>
                    <a:pt x="40" y="282"/>
                  </a:lnTo>
                  <a:lnTo>
                    <a:pt x="189" y="282"/>
                  </a:lnTo>
                  <a:lnTo>
                    <a:pt x="189" y="320"/>
                  </a:lnTo>
                  <a:lnTo>
                    <a:pt x="0" y="320"/>
                  </a:lnTo>
                  <a:close/>
                </a:path>
              </a:pathLst>
            </a:custGeom>
            <a:solidFill>
              <a:srgbClr val="ffff00"/>
            </a:solidFill>
            <a:ln w="0">
              <a:noFill/>
            </a:ln>
          </p:spPr>
          <p:style>
            <a:lnRef idx="0"/>
            <a:fillRef idx="0"/>
            <a:effectRef idx="0"/>
            <a:fontRef idx="minor"/>
          </p:style>
          <p:txBody>
            <a:bodyPr lIns="90000" rIns="90000" tIns="3960" bIns="3960" anchor="t">
              <a:noAutofit/>
            </a:bodyPr>
            <a:p>
              <a:pPr>
                <a:lnSpc>
                  <a:spcPct val="100000"/>
                </a:lnSpc>
              </a:pPr>
              <a:endParaRPr b="0" lang="en-US" sz="1800" spc="-1" strike="noStrike">
                <a:solidFill>
                  <a:srgbClr val="ffff00"/>
                </a:solidFill>
                <a:latin typeface="Arial"/>
                <a:ea typeface="宋体"/>
              </a:endParaRPr>
            </a:p>
          </p:txBody>
        </p:sp>
        <p:sp>
          <p:nvSpPr>
            <p:cNvPr id="536" name="Freeform 38"/>
            <p:cNvSpPr/>
            <p:nvPr/>
          </p:nvSpPr>
          <p:spPr>
            <a:xfrm>
              <a:off x="2889360" y="9661320"/>
              <a:ext cx="29880" cy="48600"/>
            </a:xfrm>
            <a:custGeom>
              <a:avLst/>
              <a:gdLst>
                <a:gd name="textAreaLeft" fmla="*/ 0 w 29880"/>
                <a:gd name="textAreaRight" fmla="*/ 30240 w 29880"/>
                <a:gd name="textAreaTop" fmla="*/ 0 h 48600"/>
                <a:gd name="textAreaBottom" fmla="*/ 48960 h 48600"/>
              </a:gdLst>
              <a:ahLst/>
              <a:rect l="textAreaLeft" t="textAreaTop" r="textAreaRight" b="textAreaBottom"/>
              <a:pathLst>
                <a:path w="191" h="320">
                  <a:moveTo>
                    <a:pt x="0" y="320"/>
                  </a:moveTo>
                  <a:lnTo>
                    <a:pt x="0" y="0"/>
                  </a:lnTo>
                  <a:lnTo>
                    <a:pt x="42" y="0"/>
                  </a:lnTo>
                  <a:lnTo>
                    <a:pt x="42" y="282"/>
                  </a:lnTo>
                  <a:lnTo>
                    <a:pt x="191" y="282"/>
                  </a:lnTo>
                  <a:lnTo>
                    <a:pt x="191" y="320"/>
                  </a:lnTo>
                  <a:lnTo>
                    <a:pt x="0" y="320"/>
                  </a:lnTo>
                  <a:close/>
                </a:path>
              </a:pathLst>
            </a:custGeom>
            <a:solidFill>
              <a:srgbClr val="ffff00"/>
            </a:solidFill>
            <a:ln w="0">
              <a:noFill/>
            </a:ln>
          </p:spPr>
          <p:style>
            <a:lnRef idx="0"/>
            <a:fillRef idx="0"/>
            <a:effectRef idx="0"/>
            <a:fontRef idx="minor"/>
          </p:style>
          <p:txBody>
            <a:bodyPr lIns="90000" rIns="90000" tIns="3960" bIns="3960" anchor="t">
              <a:noAutofit/>
            </a:bodyPr>
            <a:p>
              <a:pPr>
                <a:lnSpc>
                  <a:spcPct val="100000"/>
                </a:lnSpc>
              </a:pPr>
              <a:endParaRPr b="0" lang="en-US" sz="1800" spc="-1" strike="noStrike">
                <a:solidFill>
                  <a:srgbClr val="ffff00"/>
                </a:solidFill>
                <a:latin typeface="Arial"/>
                <a:ea typeface="宋体"/>
              </a:endParaRPr>
            </a:p>
          </p:txBody>
        </p:sp>
        <p:sp>
          <p:nvSpPr>
            <p:cNvPr id="537" name="Freeform 39"/>
            <p:cNvSpPr/>
            <p:nvPr/>
          </p:nvSpPr>
          <p:spPr>
            <a:xfrm>
              <a:off x="2926080" y="9661320"/>
              <a:ext cx="44280" cy="48600"/>
            </a:xfrm>
            <a:custGeom>
              <a:avLst/>
              <a:gdLst>
                <a:gd name="textAreaLeft" fmla="*/ 0 w 44280"/>
                <a:gd name="textAreaRight" fmla="*/ 44640 w 44280"/>
                <a:gd name="textAreaTop" fmla="*/ 0 h 48600"/>
                <a:gd name="textAreaBottom" fmla="*/ 48960 h 48600"/>
              </a:gdLst>
              <a:ahLst/>
              <a:rect l="textAreaLeft" t="textAreaTop" r="textAreaRight" b="textAreaBottom"/>
              <a:pathLst>
                <a:path w="285" h="320">
                  <a:moveTo>
                    <a:pt x="0" y="320"/>
                  </a:moveTo>
                  <a:lnTo>
                    <a:pt x="118" y="0"/>
                  </a:lnTo>
                  <a:lnTo>
                    <a:pt x="161" y="0"/>
                  </a:lnTo>
                  <a:lnTo>
                    <a:pt x="285" y="320"/>
                  </a:lnTo>
                  <a:lnTo>
                    <a:pt x="240" y="320"/>
                  </a:lnTo>
                  <a:lnTo>
                    <a:pt x="204" y="223"/>
                  </a:lnTo>
                  <a:lnTo>
                    <a:pt x="77" y="223"/>
                  </a:lnTo>
                  <a:lnTo>
                    <a:pt x="44" y="320"/>
                  </a:lnTo>
                  <a:lnTo>
                    <a:pt x="0" y="320"/>
                  </a:lnTo>
                  <a:close/>
                  <a:moveTo>
                    <a:pt x="88" y="189"/>
                  </a:moveTo>
                  <a:lnTo>
                    <a:pt x="192" y="189"/>
                  </a:lnTo>
                  <a:lnTo>
                    <a:pt x="160" y="100"/>
                  </a:lnTo>
                  <a:lnTo>
                    <a:pt x="153" y="81"/>
                  </a:lnTo>
                  <a:lnTo>
                    <a:pt x="147" y="63"/>
                  </a:lnTo>
                  <a:lnTo>
                    <a:pt x="142" y="48"/>
                  </a:lnTo>
                  <a:lnTo>
                    <a:pt x="138" y="33"/>
                  </a:lnTo>
                  <a:lnTo>
                    <a:pt x="135" y="49"/>
                  </a:lnTo>
                  <a:lnTo>
                    <a:pt x="132" y="64"/>
                  </a:lnTo>
                  <a:lnTo>
                    <a:pt x="126" y="80"/>
                  </a:lnTo>
                  <a:lnTo>
                    <a:pt x="122" y="94"/>
                  </a:lnTo>
                  <a:lnTo>
                    <a:pt x="88" y="189"/>
                  </a:lnTo>
                  <a:close/>
                </a:path>
              </a:pathLst>
            </a:custGeom>
            <a:solidFill>
              <a:srgbClr val="ffff00"/>
            </a:solidFill>
            <a:ln w="0">
              <a:noFill/>
            </a:ln>
          </p:spPr>
          <p:style>
            <a:lnRef idx="0"/>
            <a:fillRef idx="0"/>
            <a:effectRef idx="0"/>
            <a:fontRef idx="minor"/>
          </p:style>
          <p:txBody>
            <a:bodyPr lIns="90000" rIns="90000" tIns="3960" bIns="3960" anchor="t">
              <a:noAutofit/>
            </a:bodyPr>
            <a:p>
              <a:pPr>
                <a:lnSpc>
                  <a:spcPct val="100000"/>
                </a:lnSpc>
              </a:pPr>
              <a:endParaRPr b="0" lang="en-US" sz="1800" spc="-1" strike="noStrike">
                <a:solidFill>
                  <a:srgbClr val="ffff00"/>
                </a:solidFill>
                <a:latin typeface="Arial"/>
                <a:ea typeface="宋体"/>
              </a:endParaRPr>
            </a:p>
          </p:txBody>
        </p:sp>
        <p:sp>
          <p:nvSpPr>
            <p:cNvPr id="538" name="Freeform 40"/>
            <p:cNvSpPr/>
            <p:nvPr/>
          </p:nvSpPr>
          <p:spPr>
            <a:xfrm>
              <a:off x="2981160" y="9661320"/>
              <a:ext cx="42120" cy="48600"/>
            </a:xfrm>
            <a:custGeom>
              <a:avLst/>
              <a:gdLst>
                <a:gd name="textAreaLeft" fmla="*/ 0 w 42120"/>
                <a:gd name="textAreaRight" fmla="*/ 42480 w 42120"/>
                <a:gd name="textAreaTop" fmla="*/ 0 h 48600"/>
                <a:gd name="textAreaBottom" fmla="*/ 48960 h 48600"/>
              </a:gdLst>
              <a:ahLst/>
              <a:rect l="textAreaLeft" t="textAreaTop" r="textAreaRight" b="textAreaBottom"/>
              <a:pathLst>
                <a:path w="268" h="320">
                  <a:moveTo>
                    <a:pt x="0" y="320"/>
                  </a:moveTo>
                  <a:lnTo>
                    <a:pt x="0" y="0"/>
                  </a:lnTo>
                  <a:lnTo>
                    <a:pt x="135" y="0"/>
                  </a:lnTo>
                  <a:lnTo>
                    <a:pt x="154" y="0"/>
                  </a:lnTo>
                  <a:lnTo>
                    <a:pt x="171" y="2"/>
                  </a:lnTo>
                  <a:lnTo>
                    <a:pt x="186" y="4"/>
                  </a:lnTo>
                  <a:lnTo>
                    <a:pt x="197" y="9"/>
                  </a:lnTo>
                  <a:lnTo>
                    <a:pt x="207" y="14"/>
                  </a:lnTo>
                  <a:lnTo>
                    <a:pt x="217" y="20"/>
                  </a:lnTo>
                  <a:lnTo>
                    <a:pt x="224" y="29"/>
                  </a:lnTo>
                  <a:lnTo>
                    <a:pt x="231" y="39"/>
                  </a:lnTo>
                  <a:lnTo>
                    <a:pt x="237" y="50"/>
                  </a:lnTo>
                  <a:lnTo>
                    <a:pt x="241" y="62"/>
                  </a:lnTo>
                  <a:lnTo>
                    <a:pt x="243" y="74"/>
                  </a:lnTo>
                  <a:lnTo>
                    <a:pt x="244" y="87"/>
                  </a:lnTo>
                  <a:lnTo>
                    <a:pt x="243" y="95"/>
                  </a:lnTo>
                  <a:lnTo>
                    <a:pt x="242" y="104"/>
                  </a:lnTo>
                  <a:lnTo>
                    <a:pt x="241" y="111"/>
                  </a:lnTo>
                  <a:lnTo>
                    <a:pt x="239" y="119"/>
                  </a:lnTo>
                  <a:lnTo>
                    <a:pt x="236" y="125"/>
                  </a:lnTo>
                  <a:lnTo>
                    <a:pt x="231" y="133"/>
                  </a:lnTo>
                  <a:lnTo>
                    <a:pt x="227" y="139"/>
                  </a:lnTo>
                  <a:lnTo>
                    <a:pt x="223" y="144"/>
                  </a:lnTo>
                  <a:lnTo>
                    <a:pt x="217" y="151"/>
                  </a:lnTo>
                  <a:lnTo>
                    <a:pt x="211" y="155"/>
                  </a:lnTo>
                  <a:lnTo>
                    <a:pt x="204" y="160"/>
                  </a:lnTo>
                  <a:lnTo>
                    <a:pt x="196" y="163"/>
                  </a:lnTo>
                  <a:lnTo>
                    <a:pt x="188" y="167"/>
                  </a:lnTo>
                  <a:lnTo>
                    <a:pt x="178" y="170"/>
                  </a:lnTo>
                  <a:lnTo>
                    <a:pt x="169" y="173"/>
                  </a:lnTo>
                  <a:lnTo>
                    <a:pt x="158" y="174"/>
                  </a:lnTo>
                  <a:lnTo>
                    <a:pt x="172" y="182"/>
                  </a:lnTo>
                  <a:lnTo>
                    <a:pt x="183" y="190"/>
                  </a:lnTo>
                  <a:lnTo>
                    <a:pt x="191" y="199"/>
                  </a:lnTo>
                  <a:lnTo>
                    <a:pt x="200" y="209"/>
                  </a:lnTo>
                  <a:lnTo>
                    <a:pt x="208" y="220"/>
                  </a:lnTo>
                  <a:lnTo>
                    <a:pt x="215" y="232"/>
                  </a:lnTo>
                  <a:lnTo>
                    <a:pt x="268" y="320"/>
                  </a:lnTo>
                  <a:lnTo>
                    <a:pt x="218" y="320"/>
                  </a:lnTo>
                  <a:lnTo>
                    <a:pt x="177" y="253"/>
                  </a:lnTo>
                  <a:lnTo>
                    <a:pt x="169" y="240"/>
                  </a:lnTo>
                  <a:lnTo>
                    <a:pt x="161" y="228"/>
                  </a:lnTo>
                  <a:lnTo>
                    <a:pt x="155" y="217"/>
                  </a:lnTo>
                  <a:lnTo>
                    <a:pt x="149" y="209"/>
                  </a:lnTo>
                  <a:lnTo>
                    <a:pt x="142" y="202"/>
                  </a:lnTo>
                  <a:lnTo>
                    <a:pt x="138" y="196"/>
                  </a:lnTo>
                  <a:lnTo>
                    <a:pt x="133" y="191"/>
                  </a:lnTo>
                  <a:lnTo>
                    <a:pt x="128" y="188"/>
                  </a:lnTo>
                  <a:lnTo>
                    <a:pt x="119" y="182"/>
                  </a:lnTo>
                  <a:lnTo>
                    <a:pt x="110" y="179"/>
                  </a:lnTo>
                  <a:lnTo>
                    <a:pt x="101" y="178"/>
                  </a:lnTo>
                  <a:lnTo>
                    <a:pt x="87" y="178"/>
                  </a:lnTo>
                  <a:lnTo>
                    <a:pt x="41" y="178"/>
                  </a:lnTo>
                  <a:lnTo>
                    <a:pt x="41" y="320"/>
                  </a:lnTo>
                  <a:lnTo>
                    <a:pt x="0" y="320"/>
                  </a:lnTo>
                  <a:close/>
                  <a:moveTo>
                    <a:pt x="41" y="141"/>
                  </a:moveTo>
                  <a:lnTo>
                    <a:pt x="128" y="141"/>
                  </a:lnTo>
                  <a:lnTo>
                    <a:pt x="140" y="141"/>
                  </a:lnTo>
                  <a:lnTo>
                    <a:pt x="152" y="140"/>
                  </a:lnTo>
                  <a:lnTo>
                    <a:pt x="161" y="138"/>
                  </a:lnTo>
                  <a:lnTo>
                    <a:pt x="170" y="135"/>
                  </a:lnTo>
                  <a:lnTo>
                    <a:pt x="177" y="131"/>
                  </a:lnTo>
                  <a:lnTo>
                    <a:pt x="184" y="127"/>
                  </a:lnTo>
                  <a:lnTo>
                    <a:pt x="189" y="122"/>
                  </a:lnTo>
                  <a:lnTo>
                    <a:pt x="194" y="116"/>
                  </a:lnTo>
                  <a:lnTo>
                    <a:pt x="197" y="109"/>
                  </a:lnTo>
                  <a:lnTo>
                    <a:pt x="200" y="102"/>
                  </a:lnTo>
                  <a:lnTo>
                    <a:pt x="202" y="94"/>
                  </a:lnTo>
                  <a:lnTo>
                    <a:pt x="202" y="87"/>
                  </a:lnTo>
                  <a:lnTo>
                    <a:pt x="201" y="76"/>
                  </a:lnTo>
                  <a:lnTo>
                    <a:pt x="199" y="67"/>
                  </a:lnTo>
                  <a:lnTo>
                    <a:pt x="196" y="62"/>
                  </a:lnTo>
                  <a:lnTo>
                    <a:pt x="193" y="57"/>
                  </a:lnTo>
                  <a:lnTo>
                    <a:pt x="190" y="54"/>
                  </a:lnTo>
                  <a:lnTo>
                    <a:pt x="187" y="50"/>
                  </a:lnTo>
                  <a:lnTo>
                    <a:pt x="183" y="47"/>
                  </a:lnTo>
                  <a:lnTo>
                    <a:pt x="177" y="43"/>
                  </a:lnTo>
                  <a:lnTo>
                    <a:pt x="172" y="41"/>
                  </a:lnTo>
                  <a:lnTo>
                    <a:pt x="166" y="39"/>
                  </a:lnTo>
                  <a:lnTo>
                    <a:pt x="153" y="36"/>
                  </a:lnTo>
                  <a:lnTo>
                    <a:pt x="137" y="35"/>
                  </a:lnTo>
                  <a:lnTo>
                    <a:pt x="41" y="35"/>
                  </a:lnTo>
                  <a:lnTo>
                    <a:pt x="41" y="141"/>
                  </a:lnTo>
                  <a:close/>
                </a:path>
              </a:pathLst>
            </a:custGeom>
            <a:solidFill>
              <a:srgbClr val="ffff00"/>
            </a:solidFill>
            <a:ln w="0">
              <a:noFill/>
            </a:ln>
          </p:spPr>
          <p:style>
            <a:lnRef idx="0"/>
            <a:fillRef idx="0"/>
            <a:effectRef idx="0"/>
            <a:fontRef idx="minor"/>
          </p:style>
          <p:txBody>
            <a:bodyPr lIns="90000" rIns="90000" tIns="3960" bIns="3960" anchor="t">
              <a:noAutofit/>
            </a:bodyPr>
            <a:p>
              <a:pPr>
                <a:lnSpc>
                  <a:spcPct val="100000"/>
                </a:lnSpc>
              </a:pPr>
              <a:endParaRPr b="0" lang="en-US" sz="1800" spc="-1" strike="noStrike">
                <a:solidFill>
                  <a:srgbClr val="ffff00"/>
                </a:solidFill>
                <a:latin typeface="Arial"/>
                <a:ea typeface="宋体"/>
              </a:endParaRPr>
            </a:p>
          </p:txBody>
        </p:sp>
        <p:sp>
          <p:nvSpPr>
            <p:cNvPr id="539" name="Freeform 41"/>
            <p:cNvSpPr/>
            <p:nvPr/>
          </p:nvSpPr>
          <p:spPr>
            <a:xfrm>
              <a:off x="3054960" y="9661320"/>
              <a:ext cx="35280" cy="48600"/>
            </a:xfrm>
            <a:custGeom>
              <a:avLst/>
              <a:gdLst>
                <a:gd name="textAreaLeft" fmla="*/ 0 w 35280"/>
                <a:gd name="textAreaRight" fmla="*/ 35640 w 35280"/>
                <a:gd name="textAreaTop" fmla="*/ 0 h 48600"/>
                <a:gd name="textAreaBottom" fmla="*/ 48960 h 48600"/>
              </a:gdLst>
              <a:ahLst/>
              <a:rect l="textAreaLeft" t="textAreaTop" r="textAreaRight" b="textAreaBottom"/>
              <a:pathLst>
                <a:path w="228" h="320">
                  <a:moveTo>
                    <a:pt x="0" y="320"/>
                  </a:moveTo>
                  <a:lnTo>
                    <a:pt x="0" y="0"/>
                  </a:lnTo>
                  <a:lnTo>
                    <a:pt x="220" y="0"/>
                  </a:lnTo>
                  <a:lnTo>
                    <a:pt x="220" y="37"/>
                  </a:lnTo>
                  <a:lnTo>
                    <a:pt x="40" y="37"/>
                  </a:lnTo>
                  <a:lnTo>
                    <a:pt x="40" y="136"/>
                  </a:lnTo>
                  <a:lnTo>
                    <a:pt x="209" y="136"/>
                  </a:lnTo>
                  <a:lnTo>
                    <a:pt x="209" y="173"/>
                  </a:lnTo>
                  <a:lnTo>
                    <a:pt x="40" y="173"/>
                  </a:lnTo>
                  <a:lnTo>
                    <a:pt x="40" y="282"/>
                  </a:lnTo>
                  <a:lnTo>
                    <a:pt x="228" y="282"/>
                  </a:lnTo>
                  <a:lnTo>
                    <a:pt x="228" y="320"/>
                  </a:lnTo>
                  <a:lnTo>
                    <a:pt x="0" y="320"/>
                  </a:lnTo>
                  <a:close/>
                </a:path>
              </a:pathLst>
            </a:custGeom>
            <a:solidFill>
              <a:srgbClr val="ffff00"/>
            </a:solidFill>
            <a:ln w="0">
              <a:noFill/>
            </a:ln>
          </p:spPr>
          <p:style>
            <a:lnRef idx="0"/>
            <a:fillRef idx="0"/>
            <a:effectRef idx="0"/>
            <a:fontRef idx="minor"/>
          </p:style>
          <p:txBody>
            <a:bodyPr lIns="90000" rIns="90000" tIns="3960" bIns="3960" anchor="t">
              <a:noAutofit/>
            </a:bodyPr>
            <a:p>
              <a:pPr>
                <a:lnSpc>
                  <a:spcPct val="100000"/>
                </a:lnSpc>
              </a:pPr>
              <a:endParaRPr b="0" lang="en-US" sz="1800" spc="-1" strike="noStrike">
                <a:solidFill>
                  <a:srgbClr val="ffff00"/>
                </a:solidFill>
                <a:latin typeface="Arial"/>
                <a:ea typeface="宋体"/>
              </a:endParaRPr>
            </a:p>
          </p:txBody>
        </p:sp>
        <p:sp>
          <p:nvSpPr>
            <p:cNvPr id="540" name="Freeform 42"/>
            <p:cNvSpPr/>
            <p:nvPr/>
          </p:nvSpPr>
          <p:spPr>
            <a:xfrm>
              <a:off x="3103920" y="9661320"/>
              <a:ext cx="37800" cy="48600"/>
            </a:xfrm>
            <a:custGeom>
              <a:avLst/>
              <a:gdLst>
                <a:gd name="textAreaLeft" fmla="*/ 0 w 37800"/>
                <a:gd name="textAreaRight" fmla="*/ 38160 w 37800"/>
                <a:gd name="textAreaTop" fmla="*/ 0 h 48600"/>
                <a:gd name="textAreaBottom" fmla="*/ 48960 h 48600"/>
              </a:gdLst>
              <a:ahLst/>
              <a:rect l="textAreaLeft" t="textAreaTop" r="textAreaRight" b="textAreaBottom"/>
              <a:pathLst>
                <a:path w="241" h="320">
                  <a:moveTo>
                    <a:pt x="0" y="320"/>
                  </a:moveTo>
                  <a:lnTo>
                    <a:pt x="0" y="0"/>
                  </a:lnTo>
                  <a:lnTo>
                    <a:pt x="42" y="0"/>
                  </a:lnTo>
                  <a:lnTo>
                    <a:pt x="202" y="251"/>
                  </a:lnTo>
                  <a:lnTo>
                    <a:pt x="202" y="0"/>
                  </a:lnTo>
                  <a:lnTo>
                    <a:pt x="241" y="0"/>
                  </a:lnTo>
                  <a:lnTo>
                    <a:pt x="241" y="320"/>
                  </a:lnTo>
                  <a:lnTo>
                    <a:pt x="200" y="320"/>
                  </a:lnTo>
                  <a:lnTo>
                    <a:pt x="40" y="68"/>
                  </a:lnTo>
                  <a:lnTo>
                    <a:pt x="40" y="320"/>
                  </a:lnTo>
                  <a:lnTo>
                    <a:pt x="0" y="320"/>
                  </a:lnTo>
                  <a:close/>
                </a:path>
              </a:pathLst>
            </a:custGeom>
            <a:solidFill>
              <a:srgbClr val="ffff00"/>
            </a:solidFill>
            <a:ln w="0">
              <a:noFill/>
            </a:ln>
          </p:spPr>
          <p:style>
            <a:lnRef idx="0"/>
            <a:fillRef idx="0"/>
            <a:effectRef idx="0"/>
            <a:fontRef idx="minor"/>
          </p:style>
          <p:txBody>
            <a:bodyPr lIns="90000" rIns="90000" tIns="3960" bIns="3960" anchor="t">
              <a:noAutofit/>
            </a:bodyPr>
            <a:p>
              <a:pPr>
                <a:lnSpc>
                  <a:spcPct val="100000"/>
                </a:lnSpc>
              </a:pPr>
              <a:endParaRPr b="0" lang="en-US" sz="1800" spc="-1" strike="noStrike">
                <a:solidFill>
                  <a:srgbClr val="ffff00"/>
                </a:solidFill>
                <a:latin typeface="Arial"/>
                <a:ea typeface="宋体"/>
              </a:endParaRPr>
            </a:p>
          </p:txBody>
        </p:sp>
        <p:sp>
          <p:nvSpPr>
            <p:cNvPr id="541" name="Freeform 43"/>
            <p:cNvSpPr/>
            <p:nvPr/>
          </p:nvSpPr>
          <p:spPr>
            <a:xfrm>
              <a:off x="3153240" y="9661320"/>
              <a:ext cx="38880" cy="48600"/>
            </a:xfrm>
            <a:custGeom>
              <a:avLst/>
              <a:gdLst>
                <a:gd name="textAreaLeft" fmla="*/ 0 w 38880"/>
                <a:gd name="textAreaRight" fmla="*/ 39240 w 38880"/>
                <a:gd name="textAreaTop" fmla="*/ 0 h 48600"/>
                <a:gd name="textAreaBottom" fmla="*/ 48960 h 48600"/>
              </a:gdLst>
              <a:ahLst/>
              <a:rect l="textAreaLeft" t="textAreaTop" r="textAreaRight" b="textAreaBottom"/>
              <a:pathLst>
                <a:path w="241" h="320">
                  <a:moveTo>
                    <a:pt x="99" y="320"/>
                  </a:moveTo>
                  <a:lnTo>
                    <a:pt x="99" y="37"/>
                  </a:lnTo>
                  <a:lnTo>
                    <a:pt x="0" y="37"/>
                  </a:lnTo>
                  <a:lnTo>
                    <a:pt x="0" y="0"/>
                  </a:lnTo>
                  <a:lnTo>
                    <a:pt x="241" y="0"/>
                  </a:lnTo>
                  <a:lnTo>
                    <a:pt x="241" y="37"/>
                  </a:lnTo>
                  <a:lnTo>
                    <a:pt x="140" y="37"/>
                  </a:lnTo>
                  <a:lnTo>
                    <a:pt x="140" y="320"/>
                  </a:lnTo>
                  <a:lnTo>
                    <a:pt x="99" y="320"/>
                  </a:lnTo>
                  <a:close/>
                </a:path>
              </a:pathLst>
            </a:custGeom>
            <a:solidFill>
              <a:srgbClr val="ffff00"/>
            </a:solidFill>
            <a:ln w="0">
              <a:noFill/>
            </a:ln>
          </p:spPr>
          <p:style>
            <a:lnRef idx="0"/>
            <a:fillRef idx="0"/>
            <a:effectRef idx="0"/>
            <a:fontRef idx="minor"/>
          </p:style>
          <p:txBody>
            <a:bodyPr lIns="90000" rIns="90000" tIns="3960" bIns="3960" anchor="t">
              <a:noAutofit/>
            </a:bodyPr>
            <a:p>
              <a:pPr>
                <a:lnSpc>
                  <a:spcPct val="100000"/>
                </a:lnSpc>
              </a:pPr>
              <a:endParaRPr b="0" lang="en-US" sz="1800" spc="-1" strike="noStrike">
                <a:solidFill>
                  <a:srgbClr val="ffff00"/>
                </a:solidFill>
                <a:latin typeface="Arial"/>
                <a:ea typeface="宋体"/>
              </a:endParaRPr>
            </a:p>
          </p:txBody>
        </p:sp>
        <p:sp>
          <p:nvSpPr>
            <p:cNvPr id="542" name="Freeform 44"/>
            <p:cNvSpPr/>
            <p:nvPr/>
          </p:nvSpPr>
          <p:spPr>
            <a:xfrm>
              <a:off x="3202560" y="9661320"/>
              <a:ext cx="36360" cy="48600"/>
            </a:xfrm>
            <a:custGeom>
              <a:avLst/>
              <a:gdLst>
                <a:gd name="textAreaLeft" fmla="*/ 0 w 36360"/>
                <a:gd name="textAreaRight" fmla="*/ 36720 w 36360"/>
                <a:gd name="textAreaTop" fmla="*/ 0 h 48600"/>
                <a:gd name="textAreaBottom" fmla="*/ 48960 h 48600"/>
              </a:gdLst>
              <a:ahLst/>
              <a:rect l="textAreaLeft" t="textAreaTop" r="textAreaRight" b="textAreaBottom"/>
              <a:pathLst>
                <a:path w="227" h="320">
                  <a:moveTo>
                    <a:pt x="0" y="320"/>
                  </a:moveTo>
                  <a:lnTo>
                    <a:pt x="0" y="0"/>
                  </a:lnTo>
                  <a:lnTo>
                    <a:pt x="220" y="0"/>
                  </a:lnTo>
                  <a:lnTo>
                    <a:pt x="220" y="37"/>
                  </a:lnTo>
                  <a:lnTo>
                    <a:pt x="40" y="37"/>
                  </a:lnTo>
                  <a:lnTo>
                    <a:pt x="40" y="136"/>
                  </a:lnTo>
                  <a:lnTo>
                    <a:pt x="209" y="136"/>
                  </a:lnTo>
                  <a:lnTo>
                    <a:pt x="209" y="173"/>
                  </a:lnTo>
                  <a:lnTo>
                    <a:pt x="40" y="173"/>
                  </a:lnTo>
                  <a:lnTo>
                    <a:pt x="40" y="282"/>
                  </a:lnTo>
                  <a:lnTo>
                    <a:pt x="227" y="282"/>
                  </a:lnTo>
                  <a:lnTo>
                    <a:pt x="227" y="320"/>
                  </a:lnTo>
                  <a:lnTo>
                    <a:pt x="0" y="320"/>
                  </a:lnTo>
                  <a:close/>
                </a:path>
              </a:pathLst>
            </a:custGeom>
            <a:solidFill>
              <a:srgbClr val="ffff00"/>
            </a:solidFill>
            <a:ln w="0">
              <a:noFill/>
            </a:ln>
          </p:spPr>
          <p:style>
            <a:lnRef idx="0"/>
            <a:fillRef idx="0"/>
            <a:effectRef idx="0"/>
            <a:fontRef idx="minor"/>
          </p:style>
          <p:txBody>
            <a:bodyPr lIns="90000" rIns="90000" tIns="3960" bIns="3960" anchor="t">
              <a:noAutofit/>
            </a:bodyPr>
            <a:p>
              <a:pPr>
                <a:lnSpc>
                  <a:spcPct val="100000"/>
                </a:lnSpc>
              </a:pPr>
              <a:endParaRPr b="0" lang="en-US" sz="1800" spc="-1" strike="noStrike">
                <a:solidFill>
                  <a:srgbClr val="ffff00"/>
                </a:solidFill>
                <a:latin typeface="Arial"/>
                <a:ea typeface="宋体"/>
              </a:endParaRPr>
            </a:p>
          </p:txBody>
        </p:sp>
        <p:sp>
          <p:nvSpPr>
            <p:cNvPr id="543" name="Freeform 45"/>
            <p:cNvSpPr/>
            <p:nvPr/>
          </p:nvSpPr>
          <p:spPr>
            <a:xfrm>
              <a:off x="3251520" y="9661320"/>
              <a:ext cx="43200" cy="48600"/>
            </a:xfrm>
            <a:custGeom>
              <a:avLst/>
              <a:gdLst>
                <a:gd name="textAreaLeft" fmla="*/ 0 w 43200"/>
                <a:gd name="textAreaRight" fmla="*/ 43560 w 43200"/>
                <a:gd name="textAreaTop" fmla="*/ 0 h 48600"/>
                <a:gd name="textAreaBottom" fmla="*/ 48960 h 48600"/>
              </a:gdLst>
              <a:ahLst/>
              <a:rect l="textAreaLeft" t="textAreaTop" r="textAreaRight" b="textAreaBottom"/>
              <a:pathLst>
                <a:path w="268" h="320">
                  <a:moveTo>
                    <a:pt x="0" y="320"/>
                  </a:moveTo>
                  <a:lnTo>
                    <a:pt x="0" y="0"/>
                  </a:lnTo>
                  <a:lnTo>
                    <a:pt x="135" y="0"/>
                  </a:lnTo>
                  <a:lnTo>
                    <a:pt x="154" y="0"/>
                  </a:lnTo>
                  <a:lnTo>
                    <a:pt x="171" y="2"/>
                  </a:lnTo>
                  <a:lnTo>
                    <a:pt x="186" y="4"/>
                  </a:lnTo>
                  <a:lnTo>
                    <a:pt x="197" y="9"/>
                  </a:lnTo>
                  <a:lnTo>
                    <a:pt x="207" y="14"/>
                  </a:lnTo>
                  <a:lnTo>
                    <a:pt x="216" y="20"/>
                  </a:lnTo>
                  <a:lnTo>
                    <a:pt x="224" y="29"/>
                  </a:lnTo>
                  <a:lnTo>
                    <a:pt x="231" y="39"/>
                  </a:lnTo>
                  <a:lnTo>
                    <a:pt x="237" y="50"/>
                  </a:lnTo>
                  <a:lnTo>
                    <a:pt x="241" y="62"/>
                  </a:lnTo>
                  <a:lnTo>
                    <a:pt x="243" y="74"/>
                  </a:lnTo>
                  <a:lnTo>
                    <a:pt x="244" y="87"/>
                  </a:lnTo>
                  <a:lnTo>
                    <a:pt x="243" y="95"/>
                  </a:lnTo>
                  <a:lnTo>
                    <a:pt x="242" y="104"/>
                  </a:lnTo>
                  <a:lnTo>
                    <a:pt x="241" y="111"/>
                  </a:lnTo>
                  <a:lnTo>
                    <a:pt x="239" y="119"/>
                  </a:lnTo>
                  <a:lnTo>
                    <a:pt x="235" y="125"/>
                  </a:lnTo>
                  <a:lnTo>
                    <a:pt x="232" y="133"/>
                  </a:lnTo>
                  <a:lnTo>
                    <a:pt x="228" y="139"/>
                  </a:lnTo>
                  <a:lnTo>
                    <a:pt x="223" y="144"/>
                  </a:lnTo>
                  <a:lnTo>
                    <a:pt x="217" y="151"/>
                  </a:lnTo>
                  <a:lnTo>
                    <a:pt x="211" y="155"/>
                  </a:lnTo>
                  <a:lnTo>
                    <a:pt x="204" y="160"/>
                  </a:lnTo>
                  <a:lnTo>
                    <a:pt x="196" y="163"/>
                  </a:lnTo>
                  <a:lnTo>
                    <a:pt x="188" y="167"/>
                  </a:lnTo>
                  <a:lnTo>
                    <a:pt x="178" y="170"/>
                  </a:lnTo>
                  <a:lnTo>
                    <a:pt x="169" y="173"/>
                  </a:lnTo>
                  <a:lnTo>
                    <a:pt x="158" y="174"/>
                  </a:lnTo>
                  <a:lnTo>
                    <a:pt x="172" y="182"/>
                  </a:lnTo>
                  <a:lnTo>
                    <a:pt x="183" y="190"/>
                  </a:lnTo>
                  <a:lnTo>
                    <a:pt x="191" y="199"/>
                  </a:lnTo>
                  <a:lnTo>
                    <a:pt x="199" y="209"/>
                  </a:lnTo>
                  <a:lnTo>
                    <a:pt x="208" y="220"/>
                  </a:lnTo>
                  <a:lnTo>
                    <a:pt x="215" y="232"/>
                  </a:lnTo>
                  <a:lnTo>
                    <a:pt x="268" y="320"/>
                  </a:lnTo>
                  <a:lnTo>
                    <a:pt x="217" y="320"/>
                  </a:lnTo>
                  <a:lnTo>
                    <a:pt x="177" y="253"/>
                  </a:lnTo>
                  <a:lnTo>
                    <a:pt x="169" y="240"/>
                  </a:lnTo>
                  <a:lnTo>
                    <a:pt x="161" y="228"/>
                  </a:lnTo>
                  <a:lnTo>
                    <a:pt x="155" y="217"/>
                  </a:lnTo>
                  <a:lnTo>
                    <a:pt x="149" y="209"/>
                  </a:lnTo>
                  <a:lnTo>
                    <a:pt x="143" y="202"/>
                  </a:lnTo>
                  <a:lnTo>
                    <a:pt x="138" y="196"/>
                  </a:lnTo>
                  <a:lnTo>
                    <a:pt x="133" y="191"/>
                  </a:lnTo>
                  <a:lnTo>
                    <a:pt x="129" y="188"/>
                  </a:lnTo>
                  <a:lnTo>
                    <a:pt x="119" y="182"/>
                  </a:lnTo>
                  <a:lnTo>
                    <a:pt x="109" y="179"/>
                  </a:lnTo>
                  <a:lnTo>
                    <a:pt x="101" y="178"/>
                  </a:lnTo>
                  <a:lnTo>
                    <a:pt x="87" y="178"/>
                  </a:lnTo>
                  <a:lnTo>
                    <a:pt x="41" y="178"/>
                  </a:lnTo>
                  <a:lnTo>
                    <a:pt x="41" y="320"/>
                  </a:lnTo>
                  <a:lnTo>
                    <a:pt x="0" y="320"/>
                  </a:lnTo>
                  <a:close/>
                  <a:moveTo>
                    <a:pt x="41" y="141"/>
                  </a:moveTo>
                  <a:lnTo>
                    <a:pt x="127" y="141"/>
                  </a:lnTo>
                  <a:lnTo>
                    <a:pt x="140" y="141"/>
                  </a:lnTo>
                  <a:lnTo>
                    <a:pt x="152" y="140"/>
                  </a:lnTo>
                  <a:lnTo>
                    <a:pt x="161" y="138"/>
                  </a:lnTo>
                  <a:lnTo>
                    <a:pt x="170" y="135"/>
                  </a:lnTo>
                  <a:lnTo>
                    <a:pt x="177" y="131"/>
                  </a:lnTo>
                  <a:lnTo>
                    <a:pt x="184" y="127"/>
                  </a:lnTo>
                  <a:lnTo>
                    <a:pt x="190" y="122"/>
                  </a:lnTo>
                  <a:lnTo>
                    <a:pt x="194" y="116"/>
                  </a:lnTo>
                  <a:lnTo>
                    <a:pt x="197" y="109"/>
                  </a:lnTo>
                  <a:lnTo>
                    <a:pt x="201" y="102"/>
                  </a:lnTo>
                  <a:lnTo>
                    <a:pt x="202" y="94"/>
                  </a:lnTo>
                  <a:lnTo>
                    <a:pt x="202" y="87"/>
                  </a:lnTo>
                  <a:lnTo>
                    <a:pt x="202" y="76"/>
                  </a:lnTo>
                  <a:lnTo>
                    <a:pt x="198" y="67"/>
                  </a:lnTo>
                  <a:lnTo>
                    <a:pt x="196" y="62"/>
                  </a:lnTo>
                  <a:lnTo>
                    <a:pt x="193" y="57"/>
                  </a:lnTo>
                  <a:lnTo>
                    <a:pt x="190" y="54"/>
                  </a:lnTo>
                  <a:lnTo>
                    <a:pt x="187" y="50"/>
                  </a:lnTo>
                  <a:lnTo>
                    <a:pt x="183" y="47"/>
                  </a:lnTo>
                  <a:lnTo>
                    <a:pt x="177" y="43"/>
                  </a:lnTo>
                  <a:lnTo>
                    <a:pt x="172" y="41"/>
                  </a:lnTo>
                  <a:lnTo>
                    <a:pt x="167" y="39"/>
                  </a:lnTo>
                  <a:lnTo>
                    <a:pt x="153" y="36"/>
                  </a:lnTo>
                  <a:lnTo>
                    <a:pt x="137" y="35"/>
                  </a:lnTo>
                  <a:lnTo>
                    <a:pt x="41" y="35"/>
                  </a:lnTo>
                  <a:lnTo>
                    <a:pt x="41" y="141"/>
                  </a:lnTo>
                  <a:close/>
                </a:path>
              </a:pathLst>
            </a:custGeom>
            <a:solidFill>
              <a:srgbClr val="ffff00"/>
            </a:solidFill>
            <a:ln w="0">
              <a:noFill/>
            </a:ln>
          </p:spPr>
          <p:style>
            <a:lnRef idx="0"/>
            <a:fillRef idx="0"/>
            <a:effectRef idx="0"/>
            <a:fontRef idx="minor"/>
          </p:style>
          <p:txBody>
            <a:bodyPr lIns="90000" rIns="90000" tIns="3960" bIns="3960" anchor="t">
              <a:noAutofit/>
            </a:bodyPr>
            <a:p>
              <a:pPr>
                <a:lnSpc>
                  <a:spcPct val="100000"/>
                </a:lnSpc>
              </a:pPr>
              <a:endParaRPr b="0" lang="en-US" sz="1800" spc="-1" strike="noStrike">
                <a:solidFill>
                  <a:srgbClr val="ffff00"/>
                </a:solidFill>
                <a:latin typeface="Arial"/>
                <a:ea typeface="宋体"/>
              </a:endParaRPr>
            </a:p>
          </p:txBody>
        </p:sp>
        <p:sp>
          <p:nvSpPr>
            <p:cNvPr id="544" name="Freeform 46"/>
            <p:cNvSpPr/>
            <p:nvPr/>
          </p:nvSpPr>
          <p:spPr>
            <a:xfrm>
              <a:off x="3305160" y="9661320"/>
              <a:ext cx="36360" cy="48600"/>
            </a:xfrm>
            <a:custGeom>
              <a:avLst/>
              <a:gdLst>
                <a:gd name="textAreaLeft" fmla="*/ 0 w 36360"/>
                <a:gd name="textAreaRight" fmla="*/ 36720 w 36360"/>
                <a:gd name="textAreaTop" fmla="*/ 0 h 48600"/>
                <a:gd name="textAreaBottom" fmla="*/ 48960 h 48600"/>
              </a:gdLst>
              <a:ahLst/>
              <a:rect l="textAreaLeft" t="textAreaTop" r="textAreaRight" b="textAreaBottom"/>
              <a:pathLst>
                <a:path w="232" h="320">
                  <a:moveTo>
                    <a:pt x="0" y="320"/>
                  </a:moveTo>
                  <a:lnTo>
                    <a:pt x="0" y="0"/>
                  </a:lnTo>
                  <a:lnTo>
                    <a:pt x="114" y="0"/>
                  </a:lnTo>
                  <a:lnTo>
                    <a:pt x="129" y="0"/>
                  </a:lnTo>
                  <a:lnTo>
                    <a:pt x="141" y="1"/>
                  </a:lnTo>
                  <a:lnTo>
                    <a:pt x="151" y="1"/>
                  </a:lnTo>
                  <a:lnTo>
                    <a:pt x="161" y="3"/>
                  </a:lnTo>
                  <a:lnTo>
                    <a:pt x="172" y="5"/>
                  </a:lnTo>
                  <a:lnTo>
                    <a:pt x="181" y="9"/>
                  </a:lnTo>
                  <a:lnTo>
                    <a:pt x="191" y="13"/>
                  </a:lnTo>
                  <a:lnTo>
                    <a:pt x="198" y="18"/>
                  </a:lnTo>
                  <a:lnTo>
                    <a:pt x="205" y="24"/>
                  </a:lnTo>
                  <a:lnTo>
                    <a:pt x="212" y="31"/>
                  </a:lnTo>
                  <a:lnTo>
                    <a:pt x="218" y="39"/>
                  </a:lnTo>
                  <a:lnTo>
                    <a:pt x="223" y="49"/>
                  </a:lnTo>
                  <a:lnTo>
                    <a:pt x="227" y="58"/>
                  </a:lnTo>
                  <a:lnTo>
                    <a:pt x="230" y="70"/>
                  </a:lnTo>
                  <a:lnTo>
                    <a:pt x="232" y="81"/>
                  </a:lnTo>
                  <a:lnTo>
                    <a:pt x="232" y="92"/>
                  </a:lnTo>
                  <a:lnTo>
                    <a:pt x="232" y="103"/>
                  </a:lnTo>
                  <a:lnTo>
                    <a:pt x="231" y="112"/>
                  </a:lnTo>
                  <a:lnTo>
                    <a:pt x="229" y="121"/>
                  </a:lnTo>
                  <a:lnTo>
                    <a:pt x="226" y="130"/>
                  </a:lnTo>
                  <a:lnTo>
                    <a:pt x="222" y="139"/>
                  </a:lnTo>
                  <a:lnTo>
                    <a:pt x="218" y="146"/>
                  </a:lnTo>
                  <a:lnTo>
                    <a:pt x="213" y="154"/>
                  </a:lnTo>
                  <a:lnTo>
                    <a:pt x="208" y="161"/>
                  </a:lnTo>
                  <a:lnTo>
                    <a:pt x="200" y="169"/>
                  </a:lnTo>
                  <a:lnTo>
                    <a:pt x="193" y="174"/>
                  </a:lnTo>
                  <a:lnTo>
                    <a:pt x="183" y="179"/>
                  </a:lnTo>
                  <a:lnTo>
                    <a:pt x="173" y="182"/>
                  </a:lnTo>
                  <a:lnTo>
                    <a:pt x="161" y="185"/>
                  </a:lnTo>
                  <a:lnTo>
                    <a:pt x="148" y="188"/>
                  </a:lnTo>
                  <a:lnTo>
                    <a:pt x="133" y="190"/>
                  </a:lnTo>
                  <a:lnTo>
                    <a:pt x="119" y="190"/>
                  </a:lnTo>
                  <a:lnTo>
                    <a:pt x="40" y="190"/>
                  </a:lnTo>
                  <a:lnTo>
                    <a:pt x="40" y="320"/>
                  </a:lnTo>
                  <a:lnTo>
                    <a:pt x="0" y="320"/>
                  </a:lnTo>
                  <a:close/>
                  <a:moveTo>
                    <a:pt x="40" y="152"/>
                  </a:moveTo>
                  <a:lnTo>
                    <a:pt x="119" y="152"/>
                  </a:lnTo>
                  <a:lnTo>
                    <a:pt x="128" y="152"/>
                  </a:lnTo>
                  <a:lnTo>
                    <a:pt x="137" y="151"/>
                  </a:lnTo>
                  <a:lnTo>
                    <a:pt x="145" y="149"/>
                  </a:lnTo>
                  <a:lnTo>
                    <a:pt x="152" y="148"/>
                  </a:lnTo>
                  <a:lnTo>
                    <a:pt x="159" y="146"/>
                  </a:lnTo>
                  <a:lnTo>
                    <a:pt x="164" y="143"/>
                  </a:lnTo>
                  <a:lnTo>
                    <a:pt x="169" y="140"/>
                  </a:lnTo>
                  <a:lnTo>
                    <a:pt x="175" y="137"/>
                  </a:lnTo>
                  <a:lnTo>
                    <a:pt x="178" y="133"/>
                  </a:lnTo>
                  <a:lnTo>
                    <a:pt x="181" y="128"/>
                  </a:lnTo>
                  <a:lnTo>
                    <a:pt x="184" y="123"/>
                  </a:lnTo>
                  <a:lnTo>
                    <a:pt x="186" y="119"/>
                  </a:lnTo>
                  <a:lnTo>
                    <a:pt x="188" y="112"/>
                  </a:lnTo>
                  <a:lnTo>
                    <a:pt x="190" y="107"/>
                  </a:lnTo>
                  <a:lnTo>
                    <a:pt x="191" y="101"/>
                  </a:lnTo>
                  <a:lnTo>
                    <a:pt x="191" y="93"/>
                  </a:lnTo>
                  <a:lnTo>
                    <a:pt x="190" y="84"/>
                  </a:lnTo>
                  <a:lnTo>
                    <a:pt x="188" y="75"/>
                  </a:lnTo>
                  <a:lnTo>
                    <a:pt x="185" y="67"/>
                  </a:lnTo>
                  <a:lnTo>
                    <a:pt x="181" y="59"/>
                  </a:lnTo>
                  <a:lnTo>
                    <a:pt x="176" y="53"/>
                  </a:lnTo>
                  <a:lnTo>
                    <a:pt x="169" y="48"/>
                  </a:lnTo>
                  <a:lnTo>
                    <a:pt x="163" y="43"/>
                  </a:lnTo>
                  <a:lnTo>
                    <a:pt x="156" y="40"/>
                  </a:lnTo>
                  <a:lnTo>
                    <a:pt x="149" y="39"/>
                  </a:lnTo>
                  <a:lnTo>
                    <a:pt x="141" y="38"/>
                  </a:lnTo>
                  <a:lnTo>
                    <a:pt x="130" y="38"/>
                  </a:lnTo>
                  <a:lnTo>
                    <a:pt x="118" y="37"/>
                  </a:lnTo>
                  <a:lnTo>
                    <a:pt x="40" y="37"/>
                  </a:lnTo>
                  <a:lnTo>
                    <a:pt x="40" y="152"/>
                  </a:lnTo>
                  <a:close/>
                </a:path>
              </a:pathLst>
            </a:custGeom>
            <a:solidFill>
              <a:srgbClr val="ffff00"/>
            </a:solidFill>
            <a:ln w="0">
              <a:noFill/>
            </a:ln>
          </p:spPr>
          <p:style>
            <a:lnRef idx="0"/>
            <a:fillRef idx="0"/>
            <a:effectRef idx="0"/>
            <a:fontRef idx="minor"/>
          </p:style>
          <p:txBody>
            <a:bodyPr lIns="90000" rIns="90000" tIns="3960" bIns="3960" anchor="t">
              <a:noAutofit/>
            </a:bodyPr>
            <a:p>
              <a:pPr>
                <a:lnSpc>
                  <a:spcPct val="100000"/>
                </a:lnSpc>
              </a:pPr>
              <a:endParaRPr b="0" lang="en-US" sz="1800" spc="-1" strike="noStrike">
                <a:solidFill>
                  <a:srgbClr val="ffff00"/>
                </a:solidFill>
                <a:latin typeface="Arial"/>
                <a:ea typeface="宋体"/>
              </a:endParaRPr>
            </a:p>
          </p:txBody>
        </p:sp>
        <p:sp>
          <p:nvSpPr>
            <p:cNvPr id="545" name="Freeform 47"/>
            <p:cNvSpPr/>
            <p:nvPr/>
          </p:nvSpPr>
          <p:spPr>
            <a:xfrm>
              <a:off x="3354480" y="9661320"/>
              <a:ext cx="43200" cy="48600"/>
            </a:xfrm>
            <a:custGeom>
              <a:avLst/>
              <a:gdLst>
                <a:gd name="textAreaLeft" fmla="*/ 0 w 43200"/>
                <a:gd name="textAreaRight" fmla="*/ 43560 w 43200"/>
                <a:gd name="textAreaTop" fmla="*/ 0 h 48600"/>
                <a:gd name="textAreaBottom" fmla="*/ 48960 h 48600"/>
              </a:gdLst>
              <a:ahLst/>
              <a:rect l="textAreaLeft" t="textAreaTop" r="textAreaRight" b="textAreaBottom"/>
              <a:pathLst>
                <a:path w="268" h="320">
                  <a:moveTo>
                    <a:pt x="0" y="320"/>
                  </a:moveTo>
                  <a:lnTo>
                    <a:pt x="0" y="0"/>
                  </a:lnTo>
                  <a:lnTo>
                    <a:pt x="135" y="0"/>
                  </a:lnTo>
                  <a:lnTo>
                    <a:pt x="154" y="0"/>
                  </a:lnTo>
                  <a:lnTo>
                    <a:pt x="171" y="2"/>
                  </a:lnTo>
                  <a:lnTo>
                    <a:pt x="185" y="4"/>
                  </a:lnTo>
                  <a:lnTo>
                    <a:pt x="197" y="9"/>
                  </a:lnTo>
                  <a:lnTo>
                    <a:pt x="207" y="14"/>
                  </a:lnTo>
                  <a:lnTo>
                    <a:pt x="216" y="20"/>
                  </a:lnTo>
                  <a:lnTo>
                    <a:pt x="224" y="29"/>
                  </a:lnTo>
                  <a:lnTo>
                    <a:pt x="231" y="39"/>
                  </a:lnTo>
                  <a:lnTo>
                    <a:pt x="236" y="50"/>
                  </a:lnTo>
                  <a:lnTo>
                    <a:pt x="241" y="62"/>
                  </a:lnTo>
                  <a:lnTo>
                    <a:pt x="243" y="74"/>
                  </a:lnTo>
                  <a:lnTo>
                    <a:pt x="244" y="87"/>
                  </a:lnTo>
                  <a:lnTo>
                    <a:pt x="243" y="95"/>
                  </a:lnTo>
                  <a:lnTo>
                    <a:pt x="242" y="104"/>
                  </a:lnTo>
                  <a:lnTo>
                    <a:pt x="241" y="111"/>
                  </a:lnTo>
                  <a:lnTo>
                    <a:pt x="239" y="119"/>
                  </a:lnTo>
                  <a:lnTo>
                    <a:pt x="235" y="125"/>
                  </a:lnTo>
                  <a:lnTo>
                    <a:pt x="231" y="133"/>
                  </a:lnTo>
                  <a:lnTo>
                    <a:pt x="227" y="139"/>
                  </a:lnTo>
                  <a:lnTo>
                    <a:pt x="223" y="144"/>
                  </a:lnTo>
                  <a:lnTo>
                    <a:pt x="216" y="151"/>
                  </a:lnTo>
                  <a:lnTo>
                    <a:pt x="210" y="155"/>
                  </a:lnTo>
                  <a:lnTo>
                    <a:pt x="204" y="160"/>
                  </a:lnTo>
                  <a:lnTo>
                    <a:pt x="195" y="163"/>
                  </a:lnTo>
                  <a:lnTo>
                    <a:pt x="187" y="167"/>
                  </a:lnTo>
                  <a:lnTo>
                    <a:pt x="178" y="170"/>
                  </a:lnTo>
                  <a:lnTo>
                    <a:pt x="168" y="173"/>
                  </a:lnTo>
                  <a:lnTo>
                    <a:pt x="157" y="174"/>
                  </a:lnTo>
                  <a:lnTo>
                    <a:pt x="172" y="182"/>
                  </a:lnTo>
                  <a:lnTo>
                    <a:pt x="181" y="190"/>
                  </a:lnTo>
                  <a:lnTo>
                    <a:pt x="191" y="199"/>
                  </a:lnTo>
                  <a:lnTo>
                    <a:pt x="199" y="209"/>
                  </a:lnTo>
                  <a:lnTo>
                    <a:pt x="207" y="220"/>
                  </a:lnTo>
                  <a:lnTo>
                    <a:pt x="215" y="232"/>
                  </a:lnTo>
                  <a:lnTo>
                    <a:pt x="268" y="320"/>
                  </a:lnTo>
                  <a:lnTo>
                    <a:pt x="217" y="320"/>
                  </a:lnTo>
                  <a:lnTo>
                    <a:pt x="177" y="253"/>
                  </a:lnTo>
                  <a:lnTo>
                    <a:pt x="169" y="240"/>
                  </a:lnTo>
                  <a:lnTo>
                    <a:pt x="161" y="228"/>
                  </a:lnTo>
                  <a:lnTo>
                    <a:pt x="154" y="217"/>
                  </a:lnTo>
                  <a:lnTo>
                    <a:pt x="149" y="209"/>
                  </a:lnTo>
                  <a:lnTo>
                    <a:pt x="142" y="202"/>
                  </a:lnTo>
                  <a:lnTo>
                    <a:pt x="137" y="196"/>
                  </a:lnTo>
                  <a:lnTo>
                    <a:pt x="133" y="191"/>
                  </a:lnTo>
                  <a:lnTo>
                    <a:pt x="127" y="188"/>
                  </a:lnTo>
                  <a:lnTo>
                    <a:pt x="119" y="182"/>
                  </a:lnTo>
                  <a:lnTo>
                    <a:pt x="109" y="179"/>
                  </a:lnTo>
                  <a:lnTo>
                    <a:pt x="100" y="178"/>
                  </a:lnTo>
                  <a:lnTo>
                    <a:pt x="87" y="178"/>
                  </a:lnTo>
                  <a:lnTo>
                    <a:pt x="41" y="178"/>
                  </a:lnTo>
                  <a:lnTo>
                    <a:pt x="41" y="320"/>
                  </a:lnTo>
                  <a:lnTo>
                    <a:pt x="0" y="320"/>
                  </a:lnTo>
                  <a:close/>
                  <a:moveTo>
                    <a:pt x="41" y="141"/>
                  </a:moveTo>
                  <a:lnTo>
                    <a:pt x="126" y="141"/>
                  </a:lnTo>
                  <a:lnTo>
                    <a:pt x="140" y="141"/>
                  </a:lnTo>
                  <a:lnTo>
                    <a:pt x="152" y="140"/>
                  </a:lnTo>
                  <a:lnTo>
                    <a:pt x="161" y="138"/>
                  </a:lnTo>
                  <a:lnTo>
                    <a:pt x="170" y="135"/>
                  </a:lnTo>
                  <a:lnTo>
                    <a:pt x="177" y="131"/>
                  </a:lnTo>
                  <a:lnTo>
                    <a:pt x="184" y="127"/>
                  </a:lnTo>
                  <a:lnTo>
                    <a:pt x="189" y="122"/>
                  </a:lnTo>
                  <a:lnTo>
                    <a:pt x="194" y="116"/>
                  </a:lnTo>
                  <a:lnTo>
                    <a:pt x="197" y="109"/>
                  </a:lnTo>
                  <a:lnTo>
                    <a:pt x="199" y="102"/>
                  </a:lnTo>
                  <a:lnTo>
                    <a:pt x="202" y="94"/>
                  </a:lnTo>
                  <a:lnTo>
                    <a:pt x="202" y="87"/>
                  </a:lnTo>
                  <a:lnTo>
                    <a:pt x="200" y="76"/>
                  </a:lnTo>
                  <a:lnTo>
                    <a:pt x="198" y="67"/>
                  </a:lnTo>
                  <a:lnTo>
                    <a:pt x="195" y="62"/>
                  </a:lnTo>
                  <a:lnTo>
                    <a:pt x="193" y="57"/>
                  </a:lnTo>
                  <a:lnTo>
                    <a:pt x="190" y="54"/>
                  </a:lnTo>
                  <a:lnTo>
                    <a:pt x="186" y="50"/>
                  </a:lnTo>
                  <a:lnTo>
                    <a:pt x="181" y="47"/>
                  </a:lnTo>
                  <a:lnTo>
                    <a:pt x="177" y="43"/>
                  </a:lnTo>
                  <a:lnTo>
                    <a:pt x="172" y="41"/>
                  </a:lnTo>
                  <a:lnTo>
                    <a:pt x="166" y="39"/>
                  </a:lnTo>
                  <a:lnTo>
                    <a:pt x="153" y="36"/>
                  </a:lnTo>
                  <a:lnTo>
                    <a:pt x="137" y="35"/>
                  </a:lnTo>
                  <a:lnTo>
                    <a:pt x="41" y="35"/>
                  </a:lnTo>
                  <a:lnTo>
                    <a:pt x="41" y="141"/>
                  </a:lnTo>
                  <a:close/>
                </a:path>
              </a:pathLst>
            </a:custGeom>
            <a:solidFill>
              <a:srgbClr val="ffff00"/>
            </a:solidFill>
            <a:ln w="0">
              <a:noFill/>
            </a:ln>
          </p:spPr>
          <p:style>
            <a:lnRef idx="0"/>
            <a:fillRef idx="0"/>
            <a:effectRef idx="0"/>
            <a:fontRef idx="minor"/>
          </p:style>
          <p:txBody>
            <a:bodyPr lIns="90000" rIns="90000" tIns="3960" bIns="3960" anchor="t">
              <a:noAutofit/>
            </a:bodyPr>
            <a:p>
              <a:pPr>
                <a:lnSpc>
                  <a:spcPct val="100000"/>
                </a:lnSpc>
              </a:pPr>
              <a:endParaRPr b="0" lang="en-US" sz="1800" spc="-1" strike="noStrike">
                <a:solidFill>
                  <a:srgbClr val="ffff00"/>
                </a:solidFill>
                <a:latin typeface="Arial"/>
                <a:ea typeface="宋体"/>
              </a:endParaRPr>
            </a:p>
          </p:txBody>
        </p:sp>
        <p:sp>
          <p:nvSpPr>
            <p:cNvPr id="546" name="Rectangle 48"/>
            <p:cNvSpPr/>
            <p:nvPr/>
          </p:nvSpPr>
          <p:spPr>
            <a:xfrm>
              <a:off x="3409200" y="9661320"/>
              <a:ext cx="5400" cy="48600"/>
            </a:xfrm>
            <a:prstGeom prst="rect">
              <a:avLst/>
            </a:prstGeom>
            <a:solidFill>
              <a:srgbClr val="ffff00"/>
            </a:solidFill>
            <a:ln w="0">
              <a:noFill/>
            </a:ln>
          </p:spPr>
          <p:style>
            <a:lnRef idx="0"/>
            <a:fillRef idx="0"/>
            <a:effectRef idx="0"/>
            <a:fontRef idx="minor"/>
          </p:style>
          <p:txBody>
            <a:bodyPr lIns="90000" rIns="90000" tIns="3960" bIns="3960" anchor="t">
              <a:noAutofit/>
            </a:bodyPr>
            <a:p>
              <a:pPr>
                <a:lnSpc>
                  <a:spcPct val="100000"/>
                </a:lnSpc>
              </a:pPr>
              <a:endParaRPr b="0" lang="en-US" sz="1800" spc="-1" strike="noStrike">
                <a:solidFill>
                  <a:srgbClr val="ffff00"/>
                </a:solidFill>
                <a:latin typeface="Arial"/>
                <a:ea typeface="宋体"/>
              </a:endParaRPr>
            </a:p>
          </p:txBody>
        </p:sp>
        <p:sp>
          <p:nvSpPr>
            <p:cNvPr id="547" name="Freeform 49"/>
            <p:cNvSpPr/>
            <p:nvPr/>
          </p:nvSpPr>
          <p:spPr>
            <a:xfrm>
              <a:off x="3428280" y="9660240"/>
              <a:ext cx="38880" cy="49680"/>
            </a:xfrm>
            <a:custGeom>
              <a:avLst/>
              <a:gdLst>
                <a:gd name="textAreaLeft" fmla="*/ 0 w 38880"/>
                <a:gd name="textAreaRight" fmla="*/ 39240 w 38880"/>
                <a:gd name="textAreaTop" fmla="*/ 0 h 49680"/>
                <a:gd name="textAreaBottom" fmla="*/ 50040 h 49680"/>
              </a:gdLst>
              <a:ahLst/>
              <a:rect l="textAreaLeft" t="textAreaTop" r="textAreaRight" b="textAreaBottom"/>
              <a:pathLst>
                <a:path w="243" h="330">
                  <a:moveTo>
                    <a:pt x="0" y="222"/>
                  </a:moveTo>
                  <a:lnTo>
                    <a:pt x="38" y="218"/>
                  </a:lnTo>
                  <a:lnTo>
                    <a:pt x="40" y="230"/>
                  </a:lnTo>
                  <a:lnTo>
                    <a:pt x="44" y="240"/>
                  </a:lnTo>
                  <a:lnTo>
                    <a:pt x="47" y="250"/>
                  </a:lnTo>
                  <a:lnTo>
                    <a:pt x="51" y="257"/>
                  </a:lnTo>
                  <a:lnTo>
                    <a:pt x="56" y="265"/>
                  </a:lnTo>
                  <a:lnTo>
                    <a:pt x="64" y="272"/>
                  </a:lnTo>
                  <a:lnTo>
                    <a:pt x="72" y="277"/>
                  </a:lnTo>
                  <a:lnTo>
                    <a:pt x="82" y="283"/>
                  </a:lnTo>
                  <a:lnTo>
                    <a:pt x="92" y="287"/>
                  </a:lnTo>
                  <a:lnTo>
                    <a:pt x="104" y="290"/>
                  </a:lnTo>
                  <a:lnTo>
                    <a:pt x="116" y="291"/>
                  </a:lnTo>
                  <a:lnTo>
                    <a:pt x="128" y="292"/>
                  </a:lnTo>
                  <a:lnTo>
                    <a:pt x="140" y="291"/>
                  </a:lnTo>
                  <a:lnTo>
                    <a:pt x="150" y="290"/>
                  </a:lnTo>
                  <a:lnTo>
                    <a:pt x="160" y="288"/>
                  </a:lnTo>
                  <a:lnTo>
                    <a:pt x="170" y="285"/>
                  </a:lnTo>
                  <a:lnTo>
                    <a:pt x="177" y="281"/>
                  </a:lnTo>
                  <a:lnTo>
                    <a:pt x="184" y="276"/>
                  </a:lnTo>
                  <a:lnTo>
                    <a:pt x="191" y="271"/>
                  </a:lnTo>
                  <a:lnTo>
                    <a:pt x="196" y="266"/>
                  </a:lnTo>
                  <a:lnTo>
                    <a:pt x="199" y="258"/>
                  </a:lnTo>
                  <a:lnTo>
                    <a:pt x="202" y="252"/>
                  </a:lnTo>
                  <a:lnTo>
                    <a:pt x="203" y="246"/>
                  </a:lnTo>
                  <a:lnTo>
                    <a:pt x="205" y="238"/>
                  </a:lnTo>
                  <a:lnTo>
                    <a:pt x="203" y="231"/>
                  </a:lnTo>
                  <a:lnTo>
                    <a:pt x="202" y="223"/>
                  </a:lnTo>
                  <a:lnTo>
                    <a:pt x="199" y="217"/>
                  </a:lnTo>
                  <a:lnTo>
                    <a:pt x="196" y="212"/>
                  </a:lnTo>
                  <a:lnTo>
                    <a:pt x="191" y="206"/>
                  </a:lnTo>
                  <a:lnTo>
                    <a:pt x="184" y="201"/>
                  </a:lnTo>
                  <a:lnTo>
                    <a:pt x="177" y="197"/>
                  </a:lnTo>
                  <a:lnTo>
                    <a:pt x="168" y="193"/>
                  </a:lnTo>
                  <a:lnTo>
                    <a:pt x="160" y="189"/>
                  </a:lnTo>
                  <a:lnTo>
                    <a:pt x="148" y="186"/>
                  </a:lnTo>
                  <a:lnTo>
                    <a:pt x="134" y="182"/>
                  </a:lnTo>
                  <a:lnTo>
                    <a:pt x="114" y="177"/>
                  </a:lnTo>
                  <a:lnTo>
                    <a:pt x="94" y="171"/>
                  </a:lnTo>
                  <a:lnTo>
                    <a:pt x="78" y="167"/>
                  </a:lnTo>
                  <a:lnTo>
                    <a:pt x="66" y="162"/>
                  </a:lnTo>
                  <a:lnTo>
                    <a:pt x="55" y="157"/>
                  </a:lnTo>
                  <a:lnTo>
                    <a:pt x="46" y="151"/>
                  </a:lnTo>
                  <a:lnTo>
                    <a:pt x="36" y="144"/>
                  </a:lnTo>
                  <a:lnTo>
                    <a:pt x="29" y="135"/>
                  </a:lnTo>
                  <a:lnTo>
                    <a:pt x="22" y="127"/>
                  </a:lnTo>
                  <a:lnTo>
                    <a:pt x="18" y="118"/>
                  </a:lnTo>
                  <a:lnTo>
                    <a:pt x="15" y="109"/>
                  </a:lnTo>
                  <a:lnTo>
                    <a:pt x="13" y="98"/>
                  </a:lnTo>
                  <a:lnTo>
                    <a:pt x="12" y="88"/>
                  </a:lnTo>
                  <a:lnTo>
                    <a:pt x="13" y="76"/>
                  </a:lnTo>
                  <a:lnTo>
                    <a:pt x="15" y="64"/>
                  </a:lnTo>
                  <a:lnTo>
                    <a:pt x="19" y="53"/>
                  </a:lnTo>
                  <a:lnTo>
                    <a:pt x="26" y="42"/>
                  </a:lnTo>
                  <a:lnTo>
                    <a:pt x="33" y="33"/>
                  </a:lnTo>
                  <a:lnTo>
                    <a:pt x="41" y="24"/>
                  </a:lnTo>
                  <a:lnTo>
                    <a:pt x="52" y="17"/>
                  </a:lnTo>
                  <a:lnTo>
                    <a:pt x="64" y="10"/>
                  </a:lnTo>
                  <a:lnTo>
                    <a:pt x="76" y="5"/>
                  </a:lnTo>
                  <a:lnTo>
                    <a:pt x="90" y="2"/>
                  </a:lnTo>
                  <a:lnTo>
                    <a:pt x="104" y="0"/>
                  </a:lnTo>
                  <a:lnTo>
                    <a:pt x="120" y="0"/>
                  </a:lnTo>
                  <a:lnTo>
                    <a:pt x="136" y="0"/>
                  </a:lnTo>
                  <a:lnTo>
                    <a:pt x="152" y="2"/>
                  </a:lnTo>
                  <a:lnTo>
                    <a:pt x="165" y="6"/>
                  </a:lnTo>
                  <a:lnTo>
                    <a:pt x="179" y="10"/>
                  </a:lnTo>
                  <a:lnTo>
                    <a:pt x="192" y="18"/>
                  </a:lnTo>
                  <a:lnTo>
                    <a:pt x="202" y="25"/>
                  </a:lnTo>
                  <a:lnTo>
                    <a:pt x="211" y="34"/>
                  </a:lnTo>
                  <a:lnTo>
                    <a:pt x="219" y="44"/>
                  </a:lnTo>
                  <a:lnTo>
                    <a:pt x="225" y="56"/>
                  </a:lnTo>
                  <a:lnTo>
                    <a:pt x="230" y="69"/>
                  </a:lnTo>
                  <a:lnTo>
                    <a:pt x="232" y="81"/>
                  </a:lnTo>
                  <a:lnTo>
                    <a:pt x="234" y="95"/>
                  </a:lnTo>
                  <a:lnTo>
                    <a:pt x="195" y="98"/>
                  </a:lnTo>
                  <a:lnTo>
                    <a:pt x="194" y="91"/>
                  </a:lnTo>
                  <a:lnTo>
                    <a:pt x="193" y="83"/>
                  </a:lnTo>
                  <a:lnTo>
                    <a:pt x="191" y="77"/>
                  </a:lnTo>
                  <a:lnTo>
                    <a:pt x="189" y="72"/>
                  </a:lnTo>
                  <a:lnTo>
                    <a:pt x="185" y="65"/>
                  </a:lnTo>
                  <a:lnTo>
                    <a:pt x="182" y="61"/>
                  </a:lnTo>
                  <a:lnTo>
                    <a:pt x="178" y="56"/>
                  </a:lnTo>
                  <a:lnTo>
                    <a:pt x="174" y="52"/>
                  </a:lnTo>
                  <a:lnTo>
                    <a:pt x="170" y="48"/>
                  </a:lnTo>
                  <a:lnTo>
                    <a:pt x="164" y="45"/>
                  </a:lnTo>
                  <a:lnTo>
                    <a:pt x="158" y="43"/>
                  </a:lnTo>
                  <a:lnTo>
                    <a:pt x="152" y="41"/>
                  </a:lnTo>
                  <a:lnTo>
                    <a:pt x="145" y="39"/>
                  </a:lnTo>
                  <a:lnTo>
                    <a:pt x="138" y="38"/>
                  </a:lnTo>
                  <a:lnTo>
                    <a:pt x="129" y="37"/>
                  </a:lnTo>
                  <a:lnTo>
                    <a:pt x="121" y="37"/>
                  </a:lnTo>
                  <a:lnTo>
                    <a:pt x="104" y="38"/>
                  </a:lnTo>
                  <a:lnTo>
                    <a:pt x="89" y="40"/>
                  </a:lnTo>
                  <a:lnTo>
                    <a:pt x="83" y="42"/>
                  </a:lnTo>
                  <a:lnTo>
                    <a:pt x="77" y="44"/>
                  </a:lnTo>
                  <a:lnTo>
                    <a:pt x="72" y="47"/>
                  </a:lnTo>
                  <a:lnTo>
                    <a:pt x="68" y="51"/>
                  </a:lnTo>
                  <a:lnTo>
                    <a:pt x="60" y="58"/>
                  </a:lnTo>
                  <a:lnTo>
                    <a:pt x="55" y="67"/>
                  </a:lnTo>
                  <a:lnTo>
                    <a:pt x="53" y="71"/>
                  </a:lnTo>
                  <a:lnTo>
                    <a:pt x="52" y="75"/>
                  </a:lnTo>
                  <a:lnTo>
                    <a:pt x="51" y="80"/>
                  </a:lnTo>
                  <a:lnTo>
                    <a:pt x="51" y="85"/>
                  </a:lnTo>
                  <a:lnTo>
                    <a:pt x="52" y="93"/>
                  </a:lnTo>
                  <a:lnTo>
                    <a:pt x="54" y="100"/>
                  </a:lnTo>
                  <a:lnTo>
                    <a:pt x="57" y="107"/>
                  </a:lnTo>
                  <a:lnTo>
                    <a:pt x="63" y="113"/>
                  </a:lnTo>
                  <a:lnTo>
                    <a:pt x="67" y="116"/>
                  </a:lnTo>
                  <a:lnTo>
                    <a:pt x="71" y="118"/>
                  </a:lnTo>
                  <a:lnTo>
                    <a:pt x="76" y="122"/>
                  </a:lnTo>
                  <a:lnTo>
                    <a:pt x="84" y="125"/>
                  </a:lnTo>
                  <a:lnTo>
                    <a:pt x="102" y="130"/>
                  </a:lnTo>
                  <a:lnTo>
                    <a:pt x="124" y="135"/>
                  </a:lnTo>
                  <a:lnTo>
                    <a:pt x="146" y="142"/>
                  </a:lnTo>
                  <a:lnTo>
                    <a:pt x="165" y="147"/>
                  </a:lnTo>
                  <a:lnTo>
                    <a:pt x="180" y="151"/>
                  </a:lnTo>
                  <a:lnTo>
                    <a:pt x="191" y="157"/>
                  </a:lnTo>
                  <a:lnTo>
                    <a:pt x="203" y="163"/>
                  </a:lnTo>
                  <a:lnTo>
                    <a:pt x="214" y="170"/>
                  </a:lnTo>
                  <a:lnTo>
                    <a:pt x="224" y="180"/>
                  </a:lnTo>
                  <a:lnTo>
                    <a:pt x="230" y="188"/>
                  </a:lnTo>
                  <a:lnTo>
                    <a:pt x="236" y="199"/>
                  </a:lnTo>
                  <a:lnTo>
                    <a:pt x="239" y="211"/>
                  </a:lnTo>
                  <a:lnTo>
                    <a:pt x="243" y="222"/>
                  </a:lnTo>
                  <a:lnTo>
                    <a:pt x="243" y="234"/>
                  </a:lnTo>
                  <a:lnTo>
                    <a:pt x="243" y="247"/>
                  </a:lnTo>
                  <a:lnTo>
                    <a:pt x="239" y="259"/>
                  </a:lnTo>
                  <a:lnTo>
                    <a:pt x="235" y="271"/>
                  </a:lnTo>
                  <a:lnTo>
                    <a:pt x="229" y="283"/>
                  </a:lnTo>
                  <a:lnTo>
                    <a:pt x="221" y="293"/>
                  </a:lnTo>
                  <a:lnTo>
                    <a:pt x="212" y="303"/>
                  </a:lnTo>
                  <a:lnTo>
                    <a:pt x="201" y="310"/>
                  </a:lnTo>
                  <a:lnTo>
                    <a:pt x="189" y="318"/>
                  </a:lnTo>
                  <a:lnTo>
                    <a:pt x="176" y="323"/>
                  </a:lnTo>
                  <a:lnTo>
                    <a:pt x="161" y="327"/>
                  </a:lnTo>
                  <a:lnTo>
                    <a:pt x="146" y="329"/>
                  </a:lnTo>
                  <a:lnTo>
                    <a:pt x="130" y="330"/>
                  </a:lnTo>
                  <a:lnTo>
                    <a:pt x="110" y="329"/>
                  </a:lnTo>
                  <a:lnTo>
                    <a:pt x="92" y="327"/>
                  </a:lnTo>
                  <a:lnTo>
                    <a:pt x="76" y="323"/>
                  </a:lnTo>
                  <a:lnTo>
                    <a:pt x="62" y="318"/>
                  </a:lnTo>
                  <a:lnTo>
                    <a:pt x="54" y="314"/>
                  </a:lnTo>
                  <a:lnTo>
                    <a:pt x="48" y="310"/>
                  </a:lnTo>
                  <a:lnTo>
                    <a:pt x="41" y="306"/>
                  </a:lnTo>
                  <a:lnTo>
                    <a:pt x="36" y="302"/>
                  </a:lnTo>
                  <a:lnTo>
                    <a:pt x="31" y="296"/>
                  </a:lnTo>
                  <a:lnTo>
                    <a:pt x="26" y="291"/>
                  </a:lnTo>
                  <a:lnTo>
                    <a:pt x="21" y="286"/>
                  </a:lnTo>
                  <a:lnTo>
                    <a:pt x="17" y="280"/>
                  </a:lnTo>
                  <a:lnTo>
                    <a:pt x="11" y="267"/>
                  </a:lnTo>
                  <a:lnTo>
                    <a:pt x="5" y="252"/>
                  </a:lnTo>
                  <a:lnTo>
                    <a:pt x="2" y="237"/>
                  </a:lnTo>
                  <a:lnTo>
                    <a:pt x="0" y="222"/>
                  </a:lnTo>
                  <a:close/>
                </a:path>
              </a:pathLst>
            </a:custGeom>
            <a:solidFill>
              <a:srgbClr val="ffff00"/>
            </a:solidFill>
            <a:ln w="0">
              <a:noFill/>
            </a:ln>
          </p:spPr>
          <p:style>
            <a:lnRef idx="0"/>
            <a:fillRef idx="0"/>
            <a:effectRef idx="0"/>
            <a:fontRef idx="minor"/>
          </p:style>
          <p:txBody>
            <a:bodyPr lIns="90000" rIns="90000" tIns="5040" bIns="5040" anchor="t">
              <a:noAutofit/>
            </a:bodyPr>
            <a:p>
              <a:pPr>
                <a:lnSpc>
                  <a:spcPct val="100000"/>
                </a:lnSpc>
              </a:pPr>
              <a:endParaRPr b="0" lang="en-US" sz="1800" spc="-1" strike="noStrike">
                <a:solidFill>
                  <a:srgbClr val="ffff00"/>
                </a:solidFill>
                <a:latin typeface="Arial"/>
                <a:ea typeface="宋体"/>
              </a:endParaRPr>
            </a:p>
          </p:txBody>
        </p:sp>
        <p:sp>
          <p:nvSpPr>
            <p:cNvPr id="548" name="Freeform 50"/>
            <p:cNvSpPr/>
            <p:nvPr/>
          </p:nvSpPr>
          <p:spPr>
            <a:xfrm>
              <a:off x="3480840" y="9661320"/>
              <a:ext cx="35280" cy="48600"/>
            </a:xfrm>
            <a:custGeom>
              <a:avLst/>
              <a:gdLst>
                <a:gd name="textAreaLeft" fmla="*/ 0 w 35280"/>
                <a:gd name="textAreaRight" fmla="*/ 35640 w 35280"/>
                <a:gd name="textAreaTop" fmla="*/ 0 h 48600"/>
                <a:gd name="textAreaBottom" fmla="*/ 48960 h 48600"/>
              </a:gdLst>
              <a:ahLst/>
              <a:rect l="textAreaLeft" t="textAreaTop" r="textAreaRight" b="textAreaBottom"/>
              <a:pathLst>
                <a:path w="228" h="320">
                  <a:moveTo>
                    <a:pt x="0" y="320"/>
                  </a:moveTo>
                  <a:lnTo>
                    <a:pt x="0" y="0"/>
                  </a:lnTo>
                  <a:lnTo>
                    <a:pt x="221" y="0"/>
                  </a:lnTo>
                  <a:lnTo>
                    <a:pt x="221" y="37"/>
                  </a:lnTo>
                  <a:lnTo>
                    <a:pt x="40" y="37"/>
                  </a:lnTo>
                  <a:lnTo>
                    <a:pt x="40" y="136"/>
                  </a:lnTo>
                  <a:lnTo>
                    <a:pt x="210" y="136"/>
                  </a:lnTo>
                  <a:lnTo>
                    <a:pt x="210" y="173"/>
                  </a:lnTo>
                  <a:lnTo>
                    <a:pt x="40" y="173"/>
                  </a:lnTo>
                  <a:lnTo>
                    <a:pt x="40" y="282"/>
                  </a:lnTo>
                  <a:lnTo>
                    <a:pt x="228" y="282"/>
                  </a:lnTo>
                  <a:lnTo>
                    <a:pt x="228" y="320"/>
                  </a:lnTo>
                  <a:lnTo>
                    <a:pt x="0" y="320"/>
                  </a:lnTo>
                  <a:close/>
                </a:path>
              </a:pathLst>
            </a:custGeom>
            <a:solidFill>
              <a:srgbClr val="ffff00"/>
            </a:solidFill>
            <a:ln w="0">
              <a:noFill/>
            </a:ln>
          </p:spPr>
          <p:style>
            <a:lnRef idx="0"/>
            <a:fillRef idx="0"/>
            <a:effectRef idx="0"/>
            <a:fontRef idx="minor"/>
          </p:style>
          <p:txBody>
            <a:bodyPr lIns="90000" rIns="90000" tIns="3960" bIns="3960" anchor="t">
              <a:noAutofit/>
            </a:bodyPr>
            <a:p>
              <a:pPr>
                <a:lnSpc>
                  <a:spcPct val="100000"/>
                </a:lnSpc>
              </a:pPr>
              <a:endParaRPr b="0" lang="en-US" sz="1800" spc="-1" strike="noStrike">
                <a:solidFill>
                  <a:srgbClr val="ffff00"/>
                </a:solidFill>
                <a:latin typeface="Arial"/>
                <a:ea typeface="宋体"/>
              </a:endParaRPr>
            </a:p>
          </p:txBody>
        </p:sp>
        <p:sp>
          <p:nvSpPr>
            <p:cNvPr id="549" name="Freeform 51"/>
            <p:cNvSpPr/>
            <p:nvPr/>
          </p:nvSpPr>
          <p:spPr>
            <a:xfrm>
              <a:off x="3550320" y="9661320"/>
              <a:ext cx="45360" cy="48600"/>
            </a:xfrm>
            <a:custGeom>
              <a:avLst/>
              <a:gdLst>
                <a:gd name="textAreaLeft" fmla="*/ 0 w 45360"/>
                <a:gd name="textAreaRight" fmla="*/ 45720 w 45360"/>
                <a:gd name="textAreaTop" fmla="*/ 0 h 48600"/>
                <a:gd name="textAreaBottom" fmla="*/ 48960 h 48600"/>
              </a:gdLst>
              <a:ahLst/>
              <a:rect l="textAreaLeft" t="textAreaTop" r="textAreaRight" b="textAreaBottom"/>
              <a:pathLst>
                <a:path w="290" h="320">
                  <a:moveTo>
                    <a:pt x="0" y="320"/>
                  </a:moveTo>
                  <a:lnTo>
                    <a:pt x="0" y="0"/>
                  </a:lnTo>
                  <a:lnTo>
                    <a:pt x="60" y="0"/>
                  </a:lnTo>
                  <a:lnTo>
                    <a:pt x="132" y="226"/>
                  </a:lnTo>
                  <a:lnTo>
                    <a:pt x="136" y="241"/>
                  </a:lnTo>
                  <a:lnTo>
                    <a:pt x="140" y="254"/>
                  </a:lnTo>
                  <a:lnTo>
                    <a:pt x="144" y="265"/>
                  </a:lnTo>
                  <a:lnTo>
                    <a:pt x="147" y="273"/>
                  </a:lnTo>
                  <a:lnTo>
                    <a:pt x="150" y="264"/>
                  </a:lnTo>
                  <a:lnTo>
                    <a:pt x="153" y="252"/>
                  </a:lnTo>
                  <a:lnTo>
                    <a:pt x="157" y="238"/>
                  </a:lnTo>
                  <a:lnTo>
                    <a:pt x="163" y="223"/>
                  </a:lnTo>
                  <a:lnTo>
                    <a:pt x="236" y="0"/>
                  </a:lnTo>
                  <a:lnTo>
                    <a:pt x="290" y="0"/>
                  </a:lnTo>
                  <a:lnTo>
                    <a:pt x="290" y="320"/>
                  </a:lnTo>
                  <a:lnTo>
                    <a:pt x="251" y="320"/>
                  </a:lnTo>
                  <a:lnTo>
                    <a:pt x="251" y="52"/>
                  </a:lnTo>
                  <a:lnTo>
                    <a:pt x="163" y="320"/>
                  </a:lnTo>
                  <a:lnTo>
                    <a:pt x="127" y="320"/>
                  </a:lnTo>
                  <a:lnTo>
                    <a:pt x="38" y="48"/>
                  </a:lnTo>
                  <a:lnTo>
                    <a:pt x="38" y="320"/>
                  </a:lnTo>
                  <a:lnTo>
                    <a:pt x="0" y="320"/>
                  </a:lnTo>
                  <a:close/>
                </a:path>
              </a:pathLst>
            </a:custGeom>
            <a:solidFill>
              <a:srgbClr val="ffff00"/>
            </a:solidFill>
            <a:ln w="0">
              <a:noFill/>
            </a:ln>
          </p:spPr>
          <p:style>
            <a:lnRef idx="0"/>
            <a:fillRef idx="0"/>
            <a:effectRef idx="0"/>
            <a:fontRef idx="minor"/>
          </p:style>
          <p:txBody>
            <a:bodyPr lIns="90000" rIns="90000" tIns="3960" bIns="3960" anchor="t">
              <a:noAutofit/>
            </a:bodyPr>
            <a:p>
              <a:pPr>
                <a:lnSpc>
                  <a:spcPct val="100000"/>
                </a:lnSpc>
              </a:pPr>
              <a:endParaRPr b="0" lang="en-US" sz="1800" spc="-1" strike="noStrike">
                <a:solidFill>
                  <a:srgbClr val="ffff00"/>
                </a:solidFill>
                <a:latin typeface="Arial"/>
                <a:ea typeface="宋体"/>
              </a:endParaRPr>
            </a:p>
          </p:txBody>
        </p:sp>
        <p:sp>
          <p:nvSpPr>
            <p:cNvPr id="550" name="Freeform 52"/>
            <p:cNvSpPr/>
            <p:nvPr/>
          </p:nvSpPr>
          <p:spPr>
            <a:xfrm>
              <a:off x="3605040" y="9661320"/>
              <a:ext cx="45360" cy="48600"/>
            </a:xfrm>
            <a:custGeom>
              <a:avLst/>
              <a:gdLst>
                <a:gd name="textAreaLeft" fmla="*/ 0 w 45360"/>
                <a:gd name="textAreaRight" fmla="*/ 45720 w 45360"/>
                <a:gd name="textAreaTop" fmla="*/ 0 h 48600"/>
                <a:gd name="textAreaBottom" fmla="*/ 48960 h 48600"/>
              </a:gdLst>
              <a:ahLst/>
              <a:rect l="textAreaLeft" t="textAreaTop" r="textAreaRight" b="textAreaBottom"/>
              <a:pathLst>
                <a:path w="285" h="320">
                  <a:moveTo>
                    <a:pt x="0" y="320"/>
                  </a:moveTo>
                  <a:lnTo>
                    <a:pt x="118" y="0"/>
                  </a:lnTo>
                  <a:lnTo>
                    <a:pt x="161" y="0"/>
                  </a:lnTo>
                  <a:lnTo>
                    <a:pt x="285" y="320"/>
                  </a:lnTo>
                  <a:lnTo>
                    <a:pt x="239" y="320"/>
                  </a:lnTo>
                  <a:lnTo>
                    <a:pt x="204" y="223"/>
                  </a:lnTo>
                  <a:lnTo>
                    <a:pt x="76" y="223"/>
                  </a:lnTo>
                  <a:lnTo>
                    <a:pt x="43" y="320"/>
                  </a:lnTo>
                  <a:lnTo>
                    <a:pt x="0" y="320"/>
                  </a:lnTo>
                  <a:close/>
                  <a:moveTo>
                    <a:pt x="88" y="189"/>
                  </a:moveTo>
                  <a:lnTo>
                    <a:pt x="192" y="189"/>
                  </a:lnTo>
                  <a:lnTo>
                    <a:pt x="160" y="100"/>
                  </a:lnTo>
                  <a:lnTo>
                    <a:pt x="152" y="81"/>
                  </a:lnTo>
                  <a:lnTo>
                    <a:pt x="147" y="63"/>
                  </a:lnTo>
                  <a:lnTo>
                    <a:pt x="142" y="48"/>
                  </a:lnTo>
                  <a:lnTo>
                    <a:pt x="138" y="33"/>
                  </a:lnTo>
                  <a:lnTo>
                    <a:pt x="134" y="49"/>
                  </a:lnTo>
                  <a:lnTo>
                    <a:pt x="131" y="64"/>
                  </a:lnTo>
                  <a:lnTo>
                    <a:pt x="127" y="80"/>
                  </a:lnTo>
                  <a:lnTo>
                    <a:pt x="122" y="94"/>
                  </a:lnTo>
                  <a:lnTo>
                    <a:pt x="88" y="189"/>
                  </a:lnTo>
                  <a:close/>
                </a:path>
              </a:pathLst>
            </a:custGeom>
            <a:solidFill>
              <a:srgbClr val="ffff00"/>
            </a:solidFill>
            <a:ln w="0">
              <a:noFill/>
            </a:ln>
          </p:spPr>
          <p:style>
            <a:lnRef idx="0"/>
            <a:fillRef idx="0"/>
            <a:effectRef idx="0"/>
            <a:fontRef idx="minor"/>
          </p:style>
          <p:txBody>
            <a:bodyPr lIns="90000" rIns="90000" tIns="3960" bIns="3960" anchor="t">
              <a:noAutofit/>
            </a:bodyPr>
            <a:p>
              <a:pPr>
                <a:lnSpc>
                  <a:spcPct val="100000"/>
                </a:lnSpc>
              </a:pPr>
              <a:endParaRPr b="0" lang="en-US" sz="1800" spc="-1" strike="noStrike">
                <a:solidFill>
                  <a:srgbClr val="ffff00"/>
                </a:solidFill>
                <a:latin typeface="Arial"/>
                <a:ea typeface="宋体"/>
              </a:endParaRPr>
            </a:p>
          </p:txBody>
        </p:sp>
        <p:sp>
          <p:nvSpPr>
            <p:cNvPr id="551" name="Freeform 53"/>
            <p:cNvSpPr/>
            <p:nvPr/>
          </p:nvSpPr>
          <p:spPr>
            <a:xfrm>
              <a:off x="3659760" y="9661320"/>
              <a:ext cx="38880" cy="48600"/>
            </a:xfrm>
            <a:custGeom>
              <a:avLst/>
              <a:gdLst>
                <a:gd name="textAreaLeft" fmla="*/ 0 w 38880"/>
                <a:gd name="textAreaRight" fmla="*/ 39240 w 38880"/>
                <a:gd name="textAreaTop" fmla="*/ 0 h 48600"/>
                <a:gd name="textAreaBottom" fmla="*/ 48960 h 48600"/>
              </a:gdLst>
              <a:ahLst/>
              <a:rect l="textAreaLeft" t="textAreaTop" r="textAreaRight" b="textAreaBottom"/>
              <a:pathLst>
                <a:path w="239" h="320">
                  <a:moveTo>
                    <a:pt x="0" y="320"/>
                  </a:moveTo>
                  <a:lnTo>
                    <a:pt x="0" y="0"/>
                  </a:lnTo>
                  <a:lnTo>
                    <a:pt x="41" y="0"/>
                  </a:lnTo>
                  <a:lnTo>
                    <a:pt x="201" y="251"/>
                  </a:lnTo>
                  <a:lnTo>
                    <a:pt x="201" y="0"/>
                  </a:lnTo>
                  <a:lnTo>
                    <a:pt x="239" y="0"/>
                  </a:lnTo>
                  <a:lnTo>
                    <a:pt x="239" y="320"/>
                  </a:lnTo>
                  <a:lnTo>
                    <a:pt x="198" y="320"/>
                  </a:lnTo>
                  <a:lnTo>
                    <a:pt x="38" y="68"/>
                  </a:lnTo>
                  <a:lnTo>
                    <a:pt x="38" y="320"/>
                  </a:lnTo>
                  <a:lnTo>
                    <a:pt x="0" y="320"/>
                  </a:lnTo>
                  <a:close/>
                </a:path>
              </a:pathLst>
            </a:custGeom>
            <a:solidFill>
              <a:srgbClr val="ffff00"/>
            </a:solidFill>
            <a:ln w="0">
              <a:noFill/>
            </a:ln>
          </p:spPr>
          <p:style>
            <a:lnRef idx="0"/>
            <a:fillRef idx="0"/>
            <a:effectRef idx="0"/>
            <a:fontRef idx="minor"/>
          </p:style>
          <p:txBody>
            <a:bodyPr lIns="90000" rIns="90000" tIns="3960" bIns="3960" anchor="t">
              <a:noAutofit/>
            </a:bodyPr>
            <a:p>
              <a:pPr>
                <a:lnSpc>
                  <a:spcPct val="100000"/>
                </a:lnSpc>
              </a:pPr>
              <a:endParaRPr b="0" lang="en-US" sz="1800" spc="-1" strike="noStrike">
                <a:solidFill>
                  <a:srgbClr val="ffff00"/>
                </a:solidFill>
                <a:latin typeface="Arial"/>
                <a:ea typeface="宋体"/>
              </a:endParaRPr>
            </a:p>
          </p:txBody>
        </p:sp>
        <p:sp>
          <p:nvSpPr>
            <p:cNvPr id="552" name="Freeform 54"/>
            <p:cNvSpPr/>
            <p:nvPr/>
          </p:nvSpPr>
          <p:spPr>
            <a:xfrm>
              <a:off x="3707640" y="9661320"/>
              <a:ext cx="45360" cy="48600"/>
            </a:xfrm>
            <a:custGeom>
              <a:avLst/>
              <a:gdLst>
                <a:gd name="textAreaLeft" fmla="*/ 0 w 45360"/>
                <a:gd name="textAreaRight" fmla="*/ 45720 w 45360"/>
                <a:gd name="textAreaTop" fmla="*/ 0 h 48600"/>
                <a:gd name="textAreaBottom" fmla="*/ 48960 h 48600"/>
              </a:gdLst>
              <a:ahLst/>
              <a:rect l="textAreaLeft" t="textAreaTop" r="textAreaRight" b="textAreaBottom"/>
              <a:pathLst>
                <a:path w="285" h="320">
                  <a:moveTo>
                    <a:pt x="0" y="320"/>
                  </a:moveTo>
                  <a:lnTo>
                    <a:pt x="116" y="0"/>
                  </a:lnTo>
                  <a:lnTo>
                    <a:pt x="160" y="0"/>
                  </a:lnTo>
                  <a:lnTo>
                    <a:pt x="285" y="320"/>
                  </a:lnTo>
                  <a:lnTo>
                    <a:pt x="239" y="320"/>
                  </a:lnTo>
                  <a:lnTo>
                    <a:pt x="203" y="223"/>
                  </a:lnTo>
                  <a:lnTo>
                    <a:pt x="76" y="223"/>
                  </a:lnTo>
                  <a:lnTo>
                    <a:pt x="42" y="320"/>
                  </a:lnTo>
                  <a:lnTo>
                    <a:pt x="0" y="320"/>
                  </a:lnTo>
                  <a:close/>
                  <a:moveTo>
                    <a:pt x="88" y="189"/>
                  </a:moveTo>
                  <a:lnTo>
                    <a:pt x="192" y="189"/>
                  </a:lnTo>
                  <a:lnTo>
                    <a:pt x="159" y="100"/>
                  </a:lnTo>
                  <a:lnTo>
                    <a:pt x="152" y="81"/>
                  </a:lnTo>
                  <a:lnTo>
                    <a:pt x="147" y="63"/>
                  </a:lnTo>
                  <a:lnTo>
                    <a:pt x="142" y="48"/>
                  </a:lnTo>
                  <a:lnTo>
                    <a:pt x="138" y="33"/>
                  </a:lnTo>
                  <a:lnTo>
                    <a:pt x="134" y="49"/>
                  </a:lnTo>
                  <a:lnTo>
                    <a:pt x="130" y="64"/>
                  </a:lnTo>
                  <a:lnTo>
                    <a:pt x="126" y="80"/>
                  </a:lnTo>
                  <a:lnTo>
                    <a:pt x="122" y="94"/>
                  </a:lnTo>
                  <a:lnTo>
                    <a:pt x="88" y="189"/>
                  </a:lnTo>
                  <a:close/>
                </a:path>
              </a:pathLst>
            </a:custGeom>
            <a:solidFill>
              <a:srgbClr val="ffff00"/>
            </a:solidFill>
            <a:ln w="0">
              <a:noFill/>
            </a:ln>
          </p:spPr>
          <p:style>
            <a:lnRef idx="0"/>
            <a:fillRef idx="0"/>
            <a:effectRef idx="0"/>
            <a:fontRef idx="minor"/>
          </p:style>
          <p:txBody>
            <a:bodyPr lIns="90000" rIns="90000" tIns="3960" bIns="3960" anchor="t">
              <a:noAutofit/>
            </a:bodyPr>
            <a:p>
              <a:pPr>
                <a:lnSpc>
                  <a:spcPct val="100000"/>
                </a:lnSpc>
              </a:pPr>
              <a:endParaRPr b="0" lang="en-US" sz="1800" spc="-1" strike="noStrike">
                <a:solidFill>
                  <a:srgbClr val="ffff00"/>
                </a:solidFill>
                <a:latin typeface="Arial"/>
                <a:ea typeface="宋体"/>
              </a:endParaRPr>
            </a:p>
          </p:txBody>
        </p:sp>
        <p:sp>
          <p:nvSpPr>
            <p:cNvPr id="553" name="Freeform 55"/>
            <p:cNvSpPr/>
            <p:nvPr/>
          </p:nvSpPr>
          <p:spPr>
            <a:xfrm>
              <a:off x="3761640" y="9660240"/>
              <a:ext cx="44280" cy="49680"/>
            </a:xfrm>
            <a:custGeom>
              <a:avLst/>
              <a:gdLst>
                <a:gd name="textAreaLeft" fmla="*/ 0 w 44280"/>
                <a:gd name="textAreaRight" fmla="*/ 44640 w 44280"/>
                <a:gd name="textAreaTop" fmla="*/ 0 h 49680"/>
                <a:gd name="textAreaBottom" fmla="*/ 50040 h 49680"/>
              </a:gdLst>
              <a:ahLst/>
              <a:rect l="textAreaLeft" t="textAreaTop" r="textAreaRight" b="textAreaBottom"/>
              <a:pathLst>
                <a:path w="282" h="330">
                  <a:moveTo>
                    <a:pt x="154" y="199"/>
                  </a:moveTo>
                  <a:lnTo>
                    <a:pt x="154" y="162"/>
                  </a:lnTo>
                  <a:lnTo>
                    <a:pt x="282" y="162"/>
                  </a:lnTo>
                  <a:lnTo>
                    <a:pt x="282" y="281"/>
                  </a:lnTo>
                  <a:lnTo>
                    <a:pt x="267" y="292"/>
                  </a:lnTo>
                  <a:lnTo>
                    <a:pt x="253" y="302"/>
                  </a:lnTo>
                  <a:lnTo>
                    <a:pt x="237" y="310"/>
                  </a:lnTo>
                  <a:lnTo>
                    <a:pt x="221" y="318"/>
                  </a:lnTo>
                  <a:lnTo>
                    <a:pt x="205" y="323"/>
                  </a:lnTo>
                  <a:lnTo>
                    <a:pt x="189" y="327"/>
                  </a:lnTo>
                  <a:lnTo>
                    <a:pt x="173" y="329"/>
                  </a:lnTo>
                  <a:lnTo>
                    <a:pt x="156" y="330"/>
                  </a:lnTo>
                  <a:lnTo>
                    <a:pt x="146" y="329"/>
                  </a:lnTo>
                  <a:lnTo>
                    <a:pt x="135" y="329"/>
                  </a:lnTo>
                  <a:lnTo>
                    <a:pt x="124" y="327"/>
                  </a:lnTo>
                  <a:lnTo>
                    <a:pt x="114" y="325"/>
                  </a:lnTo>
                  <a:lnTo>
                    <a:pt x="103" y="322"/>
                  </a:lnTo>
                  <a:lnTo>
                    <a:pt x="94" y="319"/>
                  </a:lnTo>
                  <a:lnTo>
                    <a:pt x="84" y="314"/>
                  </a:lnTo>
                  <a:lnTo>
                    <a:pt x="75" y="310"/>
                  </a:lnTo>
                  <a:lnTo>
                    <a:pt x="66" y="305"/>
                  </a:lnTo>
                  <a:lnTo>
                    <a:pt x="58" y="299"/>
                  </a:lnTo>
                  <a:lnTo>
                    <a:pt x="50" y="292"/>
                  </a:lnTo>
                  <a:lnTo>
                    <a:pt x="43" y="285"/>
                  </a:lnTo>
                  <a:lnTo>
                    <a:pt x="36" y="277"/>
                  </a:lnTo>
                  <a:lnTo>
                    <a:pt x="30" y="270"/>
                  </a:lnTo>
                  <a:lnTo>
                    <a:pt x="25" y="260"/>
                  </a:lnTo>
                  <a:lnTo>
                    <a:pt x="20" y="252"/>
                  </a:lnTo>
                  <a:lnTo>
                    <a:pt x="15" y="242"/>
                  </a:lnTo>
                  <a:lnTo>
                    <a:pt x="11" y="232"/>
                  </a:lnTo>
                  <a:lnTo>
                    <a:pt x="8" y="221"/>
                  </a:lnTo>
                  <a:lnTo>
                    <a:pt x="6" y="212"/>
                  </a:lnTo>
                  <a:lnTo>
                    <a:pt x="4" y="200"/>
                  </a:lnTo>
                  <a:lnTo>
                    <a:pt x="2" y="189"/>
                  </a:lnTo>
                  <a:lnTo>
                    <a:pt x="2" y="178"/>
                  </a:lnTo>
                  <a:lnTo>
                    <a:pt x="0" y="166"/>
                  </a:lnTo>
                  <a:lnTo>
                    <a:pt x="2" y="154"/>
                  </a:lnTo>
                  <a:lnTo>
                    <a:pt x="2" y="143"/>
                  </a:lnTo>
                  <a:lnTo>
                    <a:pt x="4" y="132"/>
                  </a:lnTo>
                  <a:lnTo>
                    <a:pt x="6" y="122"/>
                  </a:lnTo>
                  <a:lnTo>
                    <a:pt x="8" y="110"/>
                  </a:lnTo>
                  <a:lnTo>
                    <a:pt x="11" y="99"/>
                  </a:lnTo>
                  <a:lnTo>
                    <a:pt x="15" y="90"/>
                  </a:lnTo>
                  <a:lnTo>
                    <a:pt x="20" y="79"/>
                  </a:lnTo>
                  <a:lnTo>
                    <a:pt x="24" y="70"/>
                  </a:lnTo>
                  <a:lnTo>
                    <a:pt x="30" y="60"/>
                  </a:lnTo>
                  <a:lnTo>
                    <a:pt x="35" y="52"/>
                  </a:lnTo>
                  <a:lnTo>
                    <a:pt x="42" y="44"/>
                  </a:lnTo>
                  <a:lnTo>
                    <a:pt x="49" y="37"/>
                  </a:lnTo>
                  <a:lnTo>
                    <a:pt x="57" y="30"/>
                  </a:lnTo>
                  <a:lnTo>
                    <a:pt x="64" y="24"/>
                  </a:lnTo>
                  <a:lnTo>
                    <a:pt x="72" y="19"/>
                  </a:lnTo>
                  <a:lnTo>
                    <a:pt x="82" y="15"/>
                  </a:lnTo>
                  <a:lnTo>
                    <a:pt x="90" y="10"/>
                  </a:lnTo>
                  <a:lnTo>
                    <a:pt x="100" y="7"/>
                  </a:lnTo>
                  <a:lnTo>
                    <a:pt x="111" y="4"/>
                  </a:lnTo>
                  <a:lnTo>
                    <a:pt x="120" y="2"/>
                  </a:lnTo>
                  <a:lnTo>
                    <a:pt x="131" y="1"/>
                  </a:lnTo>
                  <a:lnTo>
                    <a:pt x="142" y="0"/>
                  </a:lnTo>
                  <a:lnTo>
                    <a:pt x="153" y="0"/>
                  </a:lnTo>
                  <a:lnTo>
                    <a:pt x="170" y="0"/>
                  </a:lnTo>
                  <a:lnTo>
                    <a:pt x="185" y="2"/>
                  </a:lnTo>
                  <a:lnTo>
                    <a:pt x="200" y="6"/>
                  </a:lnTo>
                  <a:lnTo>
                    <a:pt x="213" y="10"/>
                  </a:lnTo>
                  <a:lnTo>
                    <a:pt x="226" y="17"/>
                  </a:lnTo>
                  <a:lnTo>
                    <a:pt x="237" y="24"/>
                  </a:lnTo>
                  <a:lnTo>
                    <a:pt x="246" y="33"/>
                  </a:lnTo>
                  <a:lnTo>
                    <a:pt x="255" y="42"/>
                  </a:lnTo>
                  <a:lnTo>
                    <a:pt x="262" y="53"/>
                  </a:lnTo>
                  <a:lnTo>
                    <a:pt x="268" y="65"/>
                  </a:lnTo>
                  <a:lnTo>
                    <a:pt x="274" y="79"/>
                  </a:lnTo>
                  <a:lnTo>
                    <a:pt x="278" y="94"/>
                  </a:lnTo>
                  <a:lnTo>
                    <a:pt x="242" y="105"/>
                  </a:lnTo>
                  <a:lnTo>
                    <a:pt x="238" y="93"/>
                  </a:lnTo>
                  <a:lnTo>
                    <a:pt x="233" y="82"/>
                  </a:lnTo>
                  <a:lnTo>
                    <a:pt x="229" y="74"/>
                  </a:lnTo>
                  <a:lnTo>
                    <a:pt x="225" y="67"/>
                  </a:lnTo>
                  <a:lnTo>
                    <a:pt x="219" y="60"/>
                  </a:lnTo>
                  <a:lnTo>
                    <a:pt x="212" y="54"/>
                  </a:lnTo>
                  <a:lnTo>
                    <a:pt x="205" y="48"/>
                  </a:lnTo>
                  <a:lnTo>
                    <a:pt x="195" y="44"/>
                  </a:lnTo>
                  <a:lnTo>
                    <a:pt x="186" y="40"/>
                  </a:lnTo>
                  <a:lnTo>
                    <a:pt x="175" y="38"/>
                  </a:lnTo>
                  <a:lnTo>
                    <a:pt x="165" y="36"/>
                  </a:lnTo>
                  <a:lnTo>
                    <a:pt x="154" y="36"/>
                  </a:lnTo>
                  <a:lnTo>
                    <a:pt x="140" y="36"/>
                  </a:lnTo>
                  <a:lnTo>
                    <a:pt x="128" y="38"/>
                  </a:lnTo>
                  <a:lnTo>
                    <a:pt x="116" y="41"/>
                  </a:lnTo>
                  <a:lnTo>
                    <a:pt x="105" y="44"/>
                  </a:lnTo>
                  <a:lnTo>
                    <a:pt x="96" y="50"/>
                  </a:lnTo>
                  <a:lnTo>
                    <a:pt x="87" y="55"/>
                  </a:lnTo>
                  <a:lnTo>
                    <a:pt x="80" y="61"/>
                  </a:lnTo>
                  <a:lnTo>
                    <a:pt x="74" y="68"/>
                  </a:lnTo>
                  <a:lnTo>
                    <a:pt x="67" y="75"/>
                  </a:lnTo>
                  <a:lnTo>
                    <a:pt x="62" y="82"/>
                  </a:lnTo>
                  <a:lnTo>
                    <a:pt x="58" y="91"/>
                  </a:lnTo>
                  <a:lnTo>
                    <a:pt x="53" y="99"/>
                  </a:lnTo>
                  <a:lnTo>
                    <a:pt x="49" y="114"/>
                  </a:lnTo>
                  <a:lnTo>
                    <a:pt x="45" y="130"/>
                  </a:lnTo>
                  <a:lnTo>
                    <a:pt x="43" y="147"/>
                  </a:lnTo>
                  <a:lnTo>
                    <a:pt x="43" y="164"/>
                  </a:lnTo>
                  <a:lnTo>
                    <a:pt x="43" y="184"/>
                  </a:lnTo>
                  <a:lnTo>
                    <a:pt x="46" y="203"/>
                  </a:lnTo>
                  <a:lnTo>
                    <a:pt x="48" y="212"/>
                  </a:lnTo>
                  <a:lnTo>
                    <a:pt x="50" y="220"/>
                  </a:lnTo>
                  <a:lnTo>
                    <a:pt x="53" y="228"/>
                  </a:lnTo>
                  <a:lnTo>
                    <a:pt x="57" y="235"/>
                  </a:lnTo>
                  <a:lnTo>
                    <a:pt x="60" y="242"/>
                  </a:lnTo>
                  <a:lnTo>
                    <a:pt x="64" y="249"/>
                  </a:lnTo>
                  <a:lnTo>
                    <a:pt x="68" y="255"/>
                  </a:lnTo>
                  <a:lnTo>
                    <a:pt x="74" y="260"/>
                  </a:lnTo>
                  <a:lnTo>
                    <a:pt x="79" y="266"/>
                  </a:lnTo>
                  <a:lnTo>
                    <a:pt x="84" y="270"/>
                  </a:lnTo>
                  <a:lnTo>
                    <a:pt x="90" y="274"/>
                  </a:lnTo>
                  <a:lnTo>
                    <a:pt x="97" y="278"/>
                  </a:lnTo>
                  <a:lnTo>
                    <a:pt x="111" y="284"/>
                  </a:lnTo>
                  <a:lnTo>
                    <a:pt x="124" y="288"/>
                  </a:lnTo>
                  <a:lnTo>
                    <a:pt x="139" y="291"/>
                  </a:lnTo>
                  <a:lnTo>
                    <a:pt x="154" y="292"/>
                  </a:lnTo>
                  <a:lnTo>
                    <a:pt x="167" y="291"/>
                  </a:lnTo>
                  <a:lnTo>
                    <a:pt x="181" y="289"/>
                  </a:lnTo>
                  <a:lnTo>
                    <a:pt x="192" y="286"/>
                  </a:lnTo>
                  <a:lnTo>
                    <a:pt x="205" y="282"/>
                  </a:lnTo>
                  <a:lnTo>
                    <a:pt x="217" y="276"/>
                  </a:lnTo>
                  <a:lnTo>
                    <a:pt x="227" y="270"/>
                  </a:lnTo>
                  <a:lnTo>
                    <a:pt x="236" y="265"/>
                  </a:lnTo>
                  <a:lnTo>
                    <a:pt x="243" y="258"/>
                  </a:lnTo>
                  <a:lnTo>
                    <a:pt x="243" y="199"/>
                  </a:lnTo>
                  <a:lnTo>
                    <a:pt x="154" y="199"/>
                  </a:lnTo>
                  <a:close/>
                </a:path>
              </a:pathLst>
            </a:custGeom>
            <a:solidFill>
              <a:srgbClr val="ffff00"/>
            </a:solidFill>
            <a:ln w="0">
              <a:noFill/>
            </a:ln>
          </p:spPr>
          <p:style>
            <a:lnRef idx="0"/>
            <a:fillRef idx="0"/>
            <a:effectRef idx="0"/>
            <a:fontRef idx="minor"/>
          </p:style>
          <p:txBody>
            <a:bodyPr lIns="90000" rIns="90000" tIns="5040" bIns="5040" anchor="t">
              <a:noAutofit/>
            </a:bodyPr>
            <a:p>
              <a:pPr>
                <a:lnSpc>
                  <a:spcPct val="100000"/>
                </a:lnSpc>
              </a:pPr>
              <a:endParaRPr b="0" lang="en-US" sz="1800" spc="-1" strike="noStrike">
                <a:solidFill>
                  <a:srgbClr val="ffff00"/>
                </a:solidFill>
                <a:latin typeface="Arial"/>
                <a:ea typeface="宋体"/>
              </a:endParaRPr>
            </a:p>
          </p:txBody>
        </p:sp>
        <p:sp>
          <p:nvSpPr>
            <p:cNvPr id="554" name="Freeform 56"/>
            <p:cNvSpPr/>
            <p:nvPr/>
          </p:nvSpPr>
          <p:spPr>
            <a:xfrm>
              <a:off x="3819600" y="9661320"/>
              <a:ext cx="36360" cy="48600"/>
            </a:xfrm>
            <a:custGeom>
              <a:avLst/>
              <a:gdLst>
                <a:gd name="textAreaLeft" fmla="*/ 0 w 36360"/>
                <a:gd name="textAreaRight" fmla="*/ 36720 w 36360"/>
                <a:gd name="textAreaTop" fmla="*/ 0 h 48600"/>
                <a:gd name="textAreaBottom" fmla="*/ 48960 h 48600"/>
              </a:gdLst>
              <a:ahLst/>
              <a:rect l="textAreaLeft" t="textAreaTop" r="textAreaRight" b="textAreaBottom"/>
              <a:pathLst>
                <a:path w="227" h="320">
                  <a:moveTo>
                    <a:pt x="0" y="320"/>
                  </a:moveTo>
                  <a:lnTo>
                    <a:pt x="0" y="0"/>
                  </a:lnTo>
                  <a:lnTo>
                    <a:pt x="219" y="0"/>
                  </a:lnTo>
                  <a:lnTo>
                    <a:pt x="219" y="37"/>
                  </a:lnTo>
                  <a:lnTo>
                    <a:pt x="40" y="37"/>
                  </a:lnTo>
                  <a:lnTo>
                    <a:pt x="40" y="136"/>
                  </a:lnTo>
                  <a:lnTo>
                    <a:pt x="209" y="136"/>
                  </a:lnTo>
                  <a:lnTo>
                    <a:pt x="209" y="173"/>
                  </a:lnTo>
                  <a:lnTo>
                    <a:pt x="40" y="173"/>
                  </a:lnTo>
                  <a:lnTo>
                    <a:pt x="40" y="282"/>
                  </a:lnTo>
                  <a:lnTo>
                    <a:pt x="227" y="282"/>
                  </a:lnTo>
                  <a:lnTo>
                    <a:pt x="227" y="320"/>
                  </a:lnTo>
                  <a:lnTo>
                    <a:pt x="0" y="320"/>
                  </a:lnTo>
                  <a:close/>
                </a:path>
              </a:pathLst>
            </a:custGeom>
            <a:solidFill>
              <a:srgbClr val="ffff00"/>
            </a:solidFill>
            <a:ln w="0">
              <a:noFill/>
            </a:ln>
          </p:spPr>
          <p:style>
            <a:lnRef idx="0"/>
            <a:fillRef idx="0"/>
            <a:effectRef idx="0"/>
            <a:fontRef idx="minor"/>
          </p:style>
          <p:txBody>
            <a:bodyPr lIns="90000" rIns="90000" tIns="3960" bIns="3960" anchor="t">
              <a:noAutofit/>
            </a:bodyPr>
            <a:p>
              <a:pPr>
                <a:lnSpc>
                  <a:spcPct val="100000"/>
                </a:lnSpc>
              </a:pPr>
              <a:endParaRPr b="0" lang="en-US" sz="1800" spc="-1" strike="noStrike">
                <a:solidFill>
                  <a:srgbClr val="ffff00"/>
                </a:solidFill>
                <a:latin typeface="Arial"/>
                <a:ea typeface="宋体"/>
              </a:endParaRPr>
            </a:p>
          </p:txBody>
        </p:sp>
        <p:sp>
          <p:nvSpPr>
            <p:cNvPr id="555" name="Freeform 57"/>
            <p:cNvSpPr/>
            <p:nvPr/>
          </p:nvSpPr>
          <p:spPr>
            <a:xfrm>
              <a:off x="3868920" y="9661320"/>
              <a:ext cx="46440" cy="48600"/>
            </a:xfrm>
            <a:custGeom>
              <a:avLst/>
              <a:gdLst>
                <a:gd name="textAreaLeft" fmla="*/ 0 w 46440"/>
                <a:gd name="textAreaRight" fmla="*/ 46800 w 46440"/>
                <a:gd name="textAreaTop" fmla="*/ 0 h 48600"/>
                <a:gd name="textAreaBottom" fmla="*/ 48960 h 48600"/>
              </a:gdLst>
              <a:ahLst/>
              <a:rect l="textAreaLeft" t="textAreaTop" r="textAreaRight" b="textAreaBottom"/>
              <a:pathLst>
                <a:path w="290" h="320">
                  <a:moveTo>
                    <a:pt x="0" y="320"/>
                  </a:moveTo>
                  <a:lnTo>
                    <a:pt x="0" y="0"/>
                  </a:lnTo>
                  <a:lnTo>
                    <a:pt x="61" y="0"/>
                  </a:lnTo>
                  <a:lnTo>
                    <a:pt x="133" y="226"/>
                  </a:lnTo>
                  <a:lnTo>
                    <a:pt x="138" y="241"/>
                  </a:lnTo>
                  <a:lnTo>
                    <a:pt x="141" y="254"/>
                  </a:lnTo>
                  <a:lnTo>
                    <a:pt x="144" y="265"/>
                  </a:lnTo>
                  <a:lnTo>
                    <a:pt x="147" y="273"/>
                  </a:lnTo>
                  <a:lnTo>
                    <a:pt x="151" y="264"/>
                  </a:lnTo>
                  <a:lnTo>
                    <a:pt x="154" y="252"/>
                  </a:lnTo>
                  <a:lnTo>
                    <a:pt x="158" y="238"/>
                  </a:lnTo>
                  <a:lnTo>
                    <a:pt x="163" y="223"/>
                  </a:lnTo>
                  <a:lnTo>
                    <a:pt x="236" y="0"/>
                  </a:lnTo>
                  <a:lnTo>
                    <a:pt x="290" y="0"/>
                  </a:lnTo>
                  <a:lnTo>
                    <a:pt x="290" y="320"/>
                  </a:lnTo>
                  <a:lnTo>
                    <a:pt x="252" y="320"/>
                  </a:lnTo>
                  <a:lnTo>
                    <a:pt x="252" y="52"/>
                  </a:lnTo>
                  <a:lnTo>
                    <a:pt x="163" y="320"/>
                  </a:lnTo>
                  <a:lnTo>
                    <a:pt x="127" y="320"/>
                  </a:lnTo>
                  <a:lnTo>
                    <a:pt x="39" y="48"/>
                  </a:lnTo>
                  <a:lnTo>
                    <a:pt x="39" y="320"/>
                  </a:lnTo>
                  <a:lnTo>
                    <a:pt x="0" y="320"/>
                  </a:lnTo>
                  <a:close/>
                </a:path>
              </a:pathLst>
            </a:custGeom>
            <a:solidFill>
              <a:srgbClr val="ffff00"/>
            </a:solidFill>
            <a:ln w="0">
              <a:noFill/>
            </a:ln>
          </p:spPr>
          <p:style>
            <a:lnRef idx="0"/>
            <a:fillRef idx="0"/>
            <a:effectRef idx="0"/>
            <a:fontRef idx="minor"/>
          </p:style>
          <p:txBody>
            <a:bodyPr lIns="90000" rIns="90000" tIns="3960" bIns="3960" anchor="t">
              <a:noAutofit/>
            </a:bodyPr>
            <a:p>
              <a:pPr>
                <a:lnSpc>
                  <a:spcPct val="100000"/>
                </a:lnSpc>
              </a:pPr>
              <a:endParaRPr b="0" lang="en-US" sz="1800" spc="-1" strike="noStrike">
                <a:solidFill>
                  <a:srgbClr val="ffff00"/>
                </a:solidFill>
                <a:latin typeface="Arial"/>
                <a:ea typeface="宋体"/>
              </a:endParaRPr>
            </a:p>
          </p:txBody>
        </p:sp>
        <p:sp>
          <p:nvSpPr>
            <p:cNvPr id="556" name="Freeform 58"/>
            <p:cNvSpPr/>
            <p:nvPr/>
          </p:nvSpPr>
          <p:spPr>
            <a:xfrm>
              <a:off x="3930120" y="9661320"/>
              <a:ext cx="35280" cy="48600"/>
            </a:xfrm>
            <a:custGeom>
              <a:avLst/>
              <a:gdLst>
                <a:gd name="textAreaLeft" fmla="*/ 0 w 35280"/>
                <a:gd name="textAreaRight" fmla="*/ 35640 w 35280"/>
                <a:gd name="textAreaTop" fmla="*/ 0 h 48600"/>
                <a:gd name="textAreaBottom" fmla="*/ 48960 h 48600"/>
              </a:gdLst>
              <a:ahLst/>
              <a:rect l="textAreaLeft" t="textAreaTop" r="textAreaRight" b="textAreaBottom"/>
              <a:pathLst>
                <a:path w="227" h="320">
                  <a:moveTo>
                    <a:pt x="0" y="320"/>
                  </a:moveTo>
                  <a:lnTo>
                    <a:pt x="0" y="0"/>
                  </a:lnTo>
                  <a:lnTo>
                    <a:pt x="220" y="0"/>
                  </a:lnTo>
                  <a:lnTo>
                    <a:pt x="220" y="37"/>
                  </a:lnTo>
                  <a:lnTo>
                    <a:pt x="40" y="37"/>
                  </a:lnTo>
                  <a:lnTo>
                    <a:pt x="40" y="136"/>
                  </a:lnTo>
                  <a:lnTo>
                    <a:pt x="208" y="136"/>
                  </a:lnTo>
                  <a:lnTo>
                    <a:pt x="208" y="173"/>
                  </a:lnTo>
                  <a:lnTo>
                    <a:pt x="40" y="173"/>
                  </a:lnTo>
                  <a:lnTo>
                    <a:pt x="40" y="282"/>
                  </a:lnTo>
                  <a:lnTo>
                    <a:pt x="227" y="282"/>
                  </a:lnTo>
                  <a:lnTo>
                    <a:pt x="227" y="320"/>
                  </a:lnTo>
                  <a:lnTo>
                    <a:pt x="0" y="320"/>
                  </a:lnTo>
                  <a:close/>
                </a:path>
              </a:pathLst>
            </a:custGeom>
            <a:solidFill>
              <a:srgbClr val="ffff00"/>
            </a:solidFill>
            <a:ln w="0">
              <a:noFill/>
            </a:ln>
          </p:spPr>
          <p:style>
            <a:lnRef idx="0"/>
            <a:fillRef idx="0"/>
            <a:effectRef idx="0"/>
            <a:fontRef idx="minor"/>
          </p:style>
          <p:txBody>
            <a:bodyPr lIns="90000" rIns="90000" tIns="3960" bIns="3960" anchor="t">
              <a:noAutofit/>
            </a:bodyPr>
            <a:p>
              <a:pPr>
                <a:lnSpc>
                  <a:spcPct val="100000"/>
                </a:lnSpc>
              </a:pPr>
              <a:endParaRPr b="0" lang="en-US" sz="1800" spc="-1" strike="noStrike">
                <a:solidFill>
                  <a:srgbClr val="ffff00"/>
                </a:solidFill>
                <a:latin typeface="Arial"/>
                <a:ea typeface="宋体"/>
              </a:endParaRPr>
            </a:p>
          </p:txBody>
        </p:sp>
        <p:sp>
          <p:nvSpPr>
            <p:cNvPr id="557" name="Freeform 59"/>
            <p:cNvSpPr/>
            <p:nvPr/>
          </p:nvSpPr>
          <p:spPr>
            <a:xfrm>
              <a:off x="3979440" y="9661320"/>
              <a:ext cx="37800" cy="48600"/>
            </a:xfrm>
            <a:custGeom>
              <a:avLst/>
              <a:gdLst>
                <a:gd name="textAreaLeft" fmla="*/ 0 w 37800"/>
                <a:gd name="textAreaRight" fmla="*/ 38160 w 37800"/>
                <a:gd name="textAreaTop" fmla="*/ 0 h 48600"/>
                <a:gd name="textAreaBottom" fmla="*/ 48960 h 48600"/>
              </a:gdLst>
              <a:ahLst/>
              <a:rect l="textAreaLeft" t="textAreaTop" r="textAreaRight" b="textAreaBottom"/>
              <a:pathLst>
                <a:path w="240" h="320">
                  <a:moveTo>
                    <a:pt x="0" y="320"/>
                  </a:moveTo>
                  <a:lnTo>
                    <a:pt x="0" y="0"/>
                  </a:lnTo>
                  <a:lnTo>
                    <a:pt x="41" y="0"/>
                  </a:lnTo>
                  <a:lnTo>
                    <a:pt x="201" y="251"/>
                  </a:lnTo>
                  <a:lnTo>
                    <a:pt x="201" y="0"/>
                  </a:lnTo>
                  <a:lnTo>
                    <a:pt x="240" y="0"/>
                  </a:lnTo>
                  <a:lnTo>
                    <a:pt x="240" y="320"/>
                  </a:lnTo>
                  <a:lnTo>
                    <a:pt x="199" y="320"/>
                  </a:lnTo>
                  <a:lnTo>
                    <a:pt x="38" y="68"/>
                  </a:lnTo>
                  <a:lnTo>
                    <a:pt x="38" y="320"/>
                  </a:lnTo>
                  <a:lnTo>
                    <a:pt x="0" y="320"/>
                  </a:lnTo>
                  <a:close/>
                </a:path>
              </a:pathLst>
            </a:custGeom>
            <a:solidFill>
              <a:srgbClr val="ffff00"/>
            </a:solidFill>
            <a:ln w="0">
              <a:noFill/>
            </a:ln>
          </p:spPr>
          <p:style>
            <a:lnRef idx="0"/>
            <a:fillRef idx="0"/>
            <a:effectRef idx="0"/>
            <a:fontRef idx="minor"/>
          </p:style>
          <p:txBody>
            <a:bodyPr lIns="90000" rIns="90000" tIns="3960" bIns="3960" anchor="t">
              <a:noAutofit/>
            </a:bodyPr>
            <a:p>
              <a:pPr>
                <a:lnSpc>
                  <a:spcPct val="100000"/>
                </a:lnSpc>
              </a:pPr>
              <a:endParaRPr b="0" lang="en-US" sz="1800" spc="-1" strike="noStrike">
                <a:solidFill>
                  <a:srgbClr val="ffff00"/>
                </a:solidFill>
                <a:latin typeface="Arial"/>
                <a:ea typeface="宋体"/>
              </a:endParaRPr>
            </a:p>
          </p:txBody>
        </p:sp>
        <p:sp>
          <p:nvSpPr>
            <p:cNvPr id="558" name="Freeform 60"/>
            <p:cNvSpPr/>
            <p:nvPr/>
          </p:nvSpPr>
          <p:spPr>
            <a:xfrm>
              <a:off x="4028760" y="9661320"/>
              <a:ext cx="38880" cy="48600"/>
            </a:xfrm>
            <a:custGeom>
              <a:avLst/>
              <a:gdLst>
                <a:gd name="textAreaLeft" fmla="*/ 0 w 38880"/>
                <a:gd name="textAreaRight" fmla="*/ 39240 w 38880"/>
                <a:gd name="textAreaTop" fmla="*/ 0 h 48600"/>
                <a:gd name="textAreaBottom" fmla="*/ 48960 h 48600"/>
              </a:gdLst>
              <a:ahLst/>
              <a:rect l="textAreaLeft" t="textAreaTop" r="textAreaRight" b="textAreaBottom"/>
              <a:pathLst>
                <a:path w="242" h="320">
                  <a:moveTo>
                    <a:pt x="101" y="320"/>
                  </a:moveTo>
                  <a:lnTo>
                    <a:pt x="101" y="37"/>
                  </a:lnTo>
                  <a:lnTo>
                    <a:pt x="0" y="37"/>
                  </a:lnTo>
                  <a:lnTo>
                    <a:pt x="0" y="0"/>
                  </a:lnTo>
                  <a:lnTo>
                    <a:pt x="242" y="0"/>
                  </a:lnTo>
                  <a:lnTo>
                    <a:pt x="242" y="37"/>
                  </a:lnTo>
                  <a:lnTo>
                    <a:pt x="141" y="37"/>
                  </a:lnTo>
                  <a:lnTo>
                    <a:pt x="141" y="320"/>
                  </a:lnTo>
                  <a:lnTo>
                    <a:pt x="101" y="320"/>
                  </a:lnTo>
                  <a:close/>
                </a:path>
              </a:pathLst>
            </a:custGeom>
            <a:solidFill>
              <a:srgbClr val="ffff00"/>
            </a:solidFill>
            <a:ln w="0">
              <a:noFill/>
            </a:ln>
          </p:spPr>
          <p:style>
            <a:lnRef idx="0"/>
            <a:fillRef idx="0"/>
            <a:effectRef idx="0"/>
            <a:fontRef idx="minor"/>
          </p:style>
          <p:txBody>
            <a:bodyPr lIns="90000" rIns="90000" tIns="3960" bIns="3960" anchor="t">
              <a:noAutofit/>
            </a:bodyPr>
            <a:p>
              <a:pPr>
                <a:lnSpc>
                  <a:spcPct val="100000"/>
                </a:lnSpc>
              </a:pPr>
              <a:endParaRPr b="0" lang="en-US" sz="1800" spc="-1" strike="noStrike">
                <a:solidFill>
                  <a:srgbClr val="ffff00"/>
                </a:solidFill>
                <a:latin typeface="Arial"/>
                <a:ea typeface="宋体"/>
              </a:endParaRPr>
            </a:p>
          </p:txBody>
        </p:sp>
        <p:sp>
          <p:nvSpPr>
            <p:cNvPr id="559" name="Freeform 61"/>
            <p:cNvSpPr/>
            <p:nvPr/>
          </p:nvSpPr>
          <p:spPr>
            <a:xfrm>
              <a:off x="4096800" y="9660240"/>
              <a:ext cx="42120" cy="49680"/>
            </a:xfrm>
            <a:custGeom>
              <a:avLst/>
              <a:gdLst>
                <a:gd name="textAreaLeft" fmla="*/ 0 w 42120"/>
                <a:gd name="textAreaRight" fmla="*/ 42480 w 42120"/>
                <a:gd name="textAreaTop" fmla="*/ 0 h 49680"/>
                <a:gd name="textAreaBottom" fmla="*/ 50040 h 49680"/>
              </a:gdLst>
              <a:ahLst/>
              <a:rect l="textAreaLeft" t="textAreaTop" r="textAreaRight" b="textAreaBottom"/>
              <a:pathLst>
                <a:path w="270" h="330">
                  <a:moveTo>
                    <a:pt x="230" y="213"/>
                  </a:moveTo>
                  <a:lnTo>
                    <a:pt x="270" y="223"/>
                  </a:lnTo>
                  <a:lnTo>
                    <a:pt x="266" y="236"/>
                  </a:lnTo>
                  <a:lnTo>
                    <a:pt x="262" y="248"/>
                  </a:lnTo>
                  <a:lnTo>
                    <a:pt x="257" y="258"/>
                  </a:lnTo>
                  <a:lnTo>
                    <a:pt x="252" y="269"/>
                  </a:lnTo>
                  <a:lnTo>
                    <a:pt x="246" y="278"/>
                  </a:lnTo>
                  <a:lnTo>
                    <a:pt x="239" y="288"/>
                  </a:lnTo>
                  <a:lnTo>
                    <a:pt x="232" y="295"/>
                  </a:lnTo>
                  <a:lnTo>
                    <a:pt x="224" y="303"/>
                  </a:lnTo>
                  <a:lnTo>
                    <a:pt x="216" y="309"/>
                  </a:lnTo>
                  <a:lnTo>
                    <a:pt x="206" y="314"/>
                  </a:lnTo>
                  <a:lnTo>
                    <a:pt x="197" y="320"/>
                  </a:lnTo>
                  <a:lnTo>
                    <a:pt x="187" y="323"/>
                  </a:lnTo>
                  <a:lnTo>
                    <a:pt x="177" y="326"/>
                  </a:lnTo>
                  <a:lnTo>
                    <a:pt x="166" y="328"/>
                  </a:lnTo>
                  <a:lnTo>
                    <a:pt x="156" y="329"/>
                  </a:lnTo>
                  <a:lnTo>
                    <a:pt x="144" y="330"/>
                  </a:lnTo>
                  <a:lnTo>
                    <a:pt x="131" y="329"/>
                  </a:lnTo>
                  <a:lnTo>
                    <a:pt x="120" y="329"/>
                  </a:lnTo>
                  <a:lnTo>
                    <a:pt x="109" y="327"/>
                  </a:lnTo>
                  <a:lnTo>
                    <a:pt x="98" y="325"/>
                  </a:lnTo>
                  <a:lnTo>
                    <a:pt x="89" y="322"/>
                  </a:lnTo>
                  <a:lnTo>
                    <a:pt x="80" y="319"/>
                  </a:lnTo>
                  <a:lnTo>
                    <a:pt x="71" y="314"/>
                  </a:lnTo>
                  <a:lnTo>
                    <a:pt x="63" y="309"/>
                  </a:lnTo>
                  <a:lnTo>
                    <a:pt x="56" y="304"/>
                  </a:lnTo>
                  <a:lnTo>
                    <a:pt x="49" y="298"/>
                  </a:lnTo>
                  <a:lnTo>
                    <a:pt x="42" y="290"/>
                  </a:lnTo>
                  <a:lnTo>
                    <a:pt x="36" y="284"/>
                  </a:lnTo>
                  <a:lnTo>
                    <a:pt x="31" y="275"/>
                  </a:lnTo>
                  <a:lnTo>
                    <a:pt x="25" y="267"/>
                  </a:lnTo>
                  <a:lnTo>
                    <a:pt x="21" y="257"/>
                  </a:lnTo>
                  <a:lnTo>
                    <a:pt x="17" y="248"/>
                  </a:lnTo>
                  <a:lnTo>
                    <a:pt x="13" y="238"/>
                  </a:lnTo>
                  <a:lnTo>
                    <a:pt x="9" y="228"/>
                  </a:lnTo>
                  <a:lnTo>
                    <a:pt x="6" y="217"/>
                  </a:lnTo>
                  <a:lnTo>
                    <a:pt x="4" y="206"/>
                  </a:lnTo>
                  <a:lnTo>
                    <a:pt x="3" y="196"/>
                  </a:lnTo>
                  <a:lnTo>
                    <a:pt x="1" y="185"/>
                  </a:lnTo>
                  <a:lnTo>
                    <a:pt x="1" y="174"/>
                  </a:lnTo>
                  <a:lnTo>
                    <a:pt x="0" y="162"/>
                  </a:lnTo>
                  <a:lnTo>
                    <a:pt x="1" y="150"/>
                  </a:lnTo>
                  <a:lnTo>
                    <a:pt x="1" y="139"/>
                  </a:lnTo>
                  <a:lnTo>
                    <a:pt x="3" y="127"/>
                  </a:lnTo>
                  <a:lnTo>
                    <a:pt x="5" y="115"/>
                  </a:lnTo>
                  <a:lnTo>
                    <a:pt x="7" y="105"/>
                  </a:lnTo>
                  <a:lnTo>
                    <a:pt x="10" y="95"/>
                  </a:lnTo>
                  <a:lnTo>
                    <a:pt x="15" y="85"/>
                  </a:lnTo>
                  <a:lnTo>
                    <a:pt x="19" y="75"/>
                  </a:lnTo>
                  <a:lnTo>
                    <a:pt x="23" y="67"/>
                  </a:lnTo>
                  <a:lnTo>
                    <a:pt x="28" y="58"/>
                  </a:lnTo>
                  <a:lnTo>
                    <a:pt x="34" y="50"/>
                  </a:lnTo>
                  <a:lnTo>
                    <a:pt x="40" y="42"/>
                  </a:lnTo>
                  <a:lnTo>
                    <a:pt x="47" y="36"/>
                  </a:lnTo>
                  <a:lnTo>
                    <a:pt x="54" y="29"/>
                  </a:lnTo>
                  <a:lnTo>
                    <a:pt x="62" y="24"/>
                  </a:lnTo>
                  <a:lnTo>
                    <a:pt x="70" y="19"/>
                  </a:lnTo>
                  <a:lnTo>
                    <a:pt x="78" y="15"/>
                  </a:lnTo>
                  <a:lnTo>
                    <a:pt x="88" y="10"/>
                  </a:lnTo>
                  <a:lnTo>
                    <a:pt x="96" y="7"/>
                  </a:lnTo>
                  <a:lnTo>
                    <a:pt x="106" y="4"/>
                  </a:lnTo>
                  <a:lnTo>
                    <a:pt x="114" y="2"/>
                  </a:lnTo>
                  <a:lnTo>
                    <a:pt x="125" y="1"/>
                  </a:lnTo>
                  <a:lnTo>
                    <a:pt x="134" y="0"/>
                  </a:lnTo>
                  <a:lnTo>
                    <a:pt x="144" y="0"/>
                  </a:lnTo>
                  <a:lnTo>
                    <a:pt x="156" y="0"/>
                  </a:lnTo>
                  <a:lnTo>
                    <a:pt x="166" y="1"/>
                  </a:lnTo>
                  <a:lnTo>
                    <a:pt x="177" y="3"/>
                  </a:lnTo>
                  <a:lnTo>
                    <a:pt x="186" y="5"/>
                  </a:lnTo>
                  <a:lnTo>
                    <a:pt x="196" y="9"/>
                  </a:lnTo>
                  <a:lnTo>
                    <a:pt x="204" y="14"/>
                  </a:lnTo>
                  <a:lnTo>
                    <a:pt x="213" y="18"/>
                  </a:lnTo>
                  <a:lnTo>
                    <a:pt x="221" y="24"/>
                  </a:lnTo>
                  <a:lnTo>
                    <a:pt x="229" y="30"/>
                  </a:lnTo>
                  <a:lnTo>
                    <a:pt x="235" y="37"/>
                  </a:lnTo>
                  <a:lnTo>
                    <a:pt x="241" y="45"/>
                  </a:lnTo>
                  <a:lnTo>
                    <a:pt x="248" y="53"/>
                  </a:lnTo>
                  <a:lnTo>
                    <a:pt x="253" y="62"/>
                  </a:lnTo>
                  <a:lnTo>
                    <a:pt x="257" y="72"/>
                  </a:lnTo>
                  <a:lnTo>
                    <a:pt x="261" y="81"/>
                  </a:lnTo>
                  <a:lnTo>
                    <a:pt x="265" y="93"/>
                  </a:lnTo>
                  <a:lnTo>
                    <a:pt x="224" y="103"/>
                  </a:lnTo>
                  <a:lnTo>
                    <a:pt x="219" y="86"/>
                  </a:lnTo>
                  <a:lnTo>
                    <a:pt x="212" y="72"/>
                  </a:lnTo>
                  <a:lnTo>
                    <a:pt x="207" y="67"/>
                  </a:lnTo>
                  <a:lnTo>
                    <a:pt x="203" y="61"/>
                  </a:lnTo>
                  <a:lnTo>
                    <a:pt x="199" y="56"/>
                  </a:lnTo>
                  <a:lnTo>
                    <a:pt x="194" y="52"/>
                  </a:lnTo>
                  <a:lnTo>
                    <a:pt x="188" y="47"/>
                  </a:lnTo>
                  <a:lnTo>
                    <a:pt x="183" y="44"/>
                  </a:lnTo>
                  <a:lnTo>
                    <a:pt x="178" y="42"/>
                  </a:lnTo>
                  <a:lnTo>
                    <a:pt x="171" y="40"/>
                  </a:lnTo>
                  <a:lnTo>
                    <a:pt x="165" y="38"/>
                  </a:lnTo>
                  <a:lnTo>
                    <a:pt x="158" y="37"/>
                  </a:lnTo>
                  <a:lnTo>
                    <a:pt x="150" y="36"/>
                  </a:lnTo>
                  <a:lnTo>
                    <a:pt x="143" y="36"/>
                  </a:lnTo>
                  <a:lnTo>
                    <a:pt x="134" y="36"/>
                  </a:lnTo>
                  <a:lnTo>
                    <a:pt x="126" y="37"/>
                  </a:lnTo>
                  <a:lnTo>
                    <a:pt x="118" y="38"/>
                  </a:lnTo>
                  <a:lnTo>
                    <a:pt x="111" y="40"/>
                  </a:lnTo>
                  <a:lnTo>
                    <a:pt x="104" y="42"/>
                  </a:lnTo>
                  <a:lnTo>
                    <a:pt x="97" y="45"/>
                  </a:lnTo>
                  <a:lnTo>
                    <a:pt x="91" y="50"/>
                  </a:lnTo>
                  <a:lnTo>
                    <a:pt x="85" y="53"/>
                  </a:lnTo>
                  <a:lnTo>
                    <a:pt x="79" y="58"/>
                  </a:lnTo>
                  <a:lnTo>
                    <a:pt x="74" y="63"/>
                  </a:lnTo>
                  <a:lnTo>
                    <a:pt x="69" y="69"/>
                  </a:lnTo>
                  <a:lnTo>
                    <a:pt x="64" y="74"/>
                  </a:lnTo>
                  <a:lnTo>
                    <a:pt x="60" y="80"/>
                  </a:lnTo>
                  <a:lnTo>
                    <a:pt x="57" y="87"/>
                  </a:lnTo>
                  <a:lnTo>
                    <a:pt x="54" y="93"/>
                  </a:lnTo>
                  <a:lnTo>
                    <a:pt x="52" y="100"/>
                  </a:lnTo>
                  <a:lnTo>
                    <a:pt x="47" y="115"/>
                  </a:lnTo>
                  <a:lnTo>
                    <a:pt x="44" y="131"/>
                  </a:lnTo>
                  <a:lnTo>
                    <a:pt x="42" y="146"/>
                  </a:lnTo>
                  <a:lnTo>
                    <a:pt x="42" y="162"/>
                  </a:lnTo>
                  <a:lnTo>
                    <a:pt x="42" y="182"/>
                  </a:lnTo>
                  <a:lnTo>
                    <a:pt x="44" y="200"/>
                  </a:lnTo>
                  <a:lnTo>
                    <a:pt x="49" y="217"/>
                  </a:lnTo>
                  <a:lnTo>
                    <a:pt x="53" y="233"/>
                  </a:lnTo>
                  <a:lnTo>
                    <a:pt x="56" y="240"/>
                  </a:lnTo>
                  <a:lnTo>
                    <a:pt x="59" y="248"/>
                  </a:lnTo>
                  <a:lnTo>
                    <a:pt x="63" y="254"/>
                  </a:lnTo>
                  <a:lnTo>
                    <a:pt x="68" y="260"/>
                  </a:lnTo>
                  <a:lnTo>
                    <a:pt x="72" y="266"/>
                  </a:lnTo>
                  <a:lnTo>
                    <a:pt x="77" y="270"/>
                  </a:lnTo>
                  <a:lnTo>
                    <a:pt x="82" y="275"/>
                  </a:lnTo>
                  <a:lnTo>
                    <a:pt x="89" y="278"/>
                  </a:lnTo>
                  <a:lnTo>
                    <a:pt x="100" y="286"/>
                  </a:lnTo>
                  <a:lnTo>
                    <a:pt x="113" y="290"/>
                  </a:lnTo>
                  <a:lnTo>
                    <a:pt x="127" y="293"/>
                  </a:lnTo>
                  <a:lnTo>
                    <a:pt x="140" y="294"/>
                  </a:lnTo>
                  <a:lnTo>
                    <a:pt x="148" y="293"/>
                  </a:lnTo>
                  <a:lnTo>
                    <a:pt x="157" y="292"/>
                  </a:lnTo>
                  <a:lnTo>
                    <a:pt x="164" y="291"/>
                  </a:lnTo>
                  <a:lnTo>
                    <a:pt x="171" y="289"/>
                  </a:lnTo>
                  <a:lnTo>
                    <a:pt x="179" y="286"/>
                  </a:lnTo>
                  <a:lnTo>
                    <a:pt x="185" y="283"/>
                  </a:lnTo>
                  <a:lnTo>
                    <a:pt x="192" y="278"/>
                  </a:lnTo>
                  <a:lnTo>
                    <a:pt x="198" y="273"/>
                  </a:lnTo>
                  <a:lnTo>
                    <a:pt x="203" y="268"/>
                  </a:lnTo>
                  <a:lnTo>
                    <a:pt x="208" y="261"/>
                  </a:lnTo>
                  <a:lnTo>
                    <a:pt x="213" y="255"/>
                  </a:lnTo>
                  <a:lnTo>
                    <a:pt x="217" y="248"/>
                  </a:lnTo>
                  <a:lnTo>
                    <a:pt x="221" y="240"/>
                  </a:lnTo>
                  <a:lnTo>
                    <a:pt x="224" y="232"/>
                  </a:lnTo>
                  <a:lnTo>
                    <a:pt x="226" y="222"/>
                  </a:lnTo>
                  <a:lnTo>
                    <a:pt x="230" y="213"/>
                  </a:lnTo>
                  <a:close/>
                </a:path>
              </a:pathLst>
            </a:custGeom>
            <a:solidFill>
              <a:srgbClr val="ffff00"/>
            </a:solidFill>
            <a:ln w="0">
              <a:noFill/>
            </a:ln>
          </p:spPr>
          <p:style>
            <a:lnRef idx="0"/>
            <a:fillRef idx="0"/>
            <a:effectRef idx="0"/>
            <a:fontRef idx="minor"/>
          </p:style>
          <p:txBody>
            <a:bodyPr lIns="90000" rIns="90000" tIns="5040" bIns="5040" anchor="t">
              <a:noAutofit/>
            </a:bodyPr>
            <a:p>
              <a:pPr>
                <a:lnSpc>
                  <a:spcPct val="100000"/>
                </a:lnSpc>
              </a:pPr>
              <a:endParaRPr b="0" lang="en-US" sz="1800" spc="-1" strike="noStrike">
                <a:solidFill>
                  <a:srgbClr val="ffff00"/>
                </a:solidFill>
                <a:latin typeface="Arial"/>
                <a:ea typeface="宋体"/>
              </a:endParaRPr>
            </a:p>
          </p:txBody>
        </p:sp>
        <p:sp>
          <p:nvSpPr>
            <p:cNvPr id="560" name="Freeform 62"/>
            <p:cNvSpPr/>
            <p:nvPr/>
          </p:nvSpPr>
          <p:spPr>
            <a:xfrm>
              <a:off x="4149360" y="9660240"/>
              <a:ext cx="46440" cy="49680"/>
            </a:xfrm>
            <a:custGeom>
              <a:avLst/>
              <a:gdLst>
                <a:gd name="textAreaLeft" fmla="*/ 0 w 46440"/>
                <a:gd name="textAreaRight" fmla="*/ 46800 w 46440"/>
                <a:gd name="textAreaTop" fmla="*/ 0 h 49680"/>
                <a:gd name="textAreaBottom" fmla="*/ 50040 h 49680"/>
              </a:gdLst>
              <a:ahLst/>
              <a:rect l="textAreaLeft" t="textAreaTop" r="textAreaRight" b="textAreaBottom"/>
              <a:pathLst>
                <a:path w="292" h="331">
                  <a:moveTo>
                    <a:pt x="0" y="170"/>
                  </a:moveTo>
                  <a:lnTo>
                    <a:pt x="1" y="150"/>
                  </a:lnTo>
                  <a:lnTo>
                    <a:pt x="4" y="132"/>
                  </a:lnTo>
                  <a:lnTo>
                    <a:pt x="7" y="115"/>
                  </a:lnTo>
                  <a:lnTo>
                    <a:pt x="11" y="99"/>
                  </a:lnTo>
                  <a:lnTo>
                    <a:pt x="16" y="83"/>
                  </a:lnTo>
                  <a:lnTo>
                    <a:pt x="24" y="70"/>
                  </a:lnTo>
                  <a:lnTo>
                    <a:pt x="32" y="57"/>
                  </a:lnTo>
                  <a:lnTo>
                    <a:pt x="42" y="45"/>
                  </a:lnTo>
                  <a:lnTo>
                    <a:pt x="52" y="35"/>
                  </a:lnTo>
                  <a:lnTo>
                    <a:pt x="63" y="25"/>
                  </a:lnTo>
                  <a:lnTo>
                    <a:pt x="76" y="18"/>
                  </a:lnTo>
                  <a:lnTo>
                    <a:pt x="88" y="11"/>
                  </a:lnTo>
                  <a:lnTo>
                    <a:pt x="102" y="6"/>
                  </a:lnTo>
                  <a:lnTo>
                    <a:pt x="116" y="3"/>
                  </a:lnTo>
                  <a:lnTo>
                    <a:pt x="131" y="1"/>
                  </a:lnTo>
                  <a:lnTo>
                    <a:pt x="147" y="0"/>
                  </a:lnTo>
                  <a:lnTo>
                    <a:pt x="157" y="1"/>
                  </a:lnTo>
                  <a:lnTo>
                    <a:pt x="167" y="2"/>
                  </a:lnTo>
                  <a:lnTo>
                    <a:pt x="177" y="3"/>
                  </a:lnTo>
                  <a:lnTo>
                    <a:pt x="187" y="5"/>
                  </a:lnTo>
                  <a:lnTo>
                    <a:pt x="196" y="8"/>
                  </a:lnTo>
                  <a:lnTo>
                    <a:pt x="205" y="12"/>
                  </a:lnTo>
                  <a:lnTo>
                    <a:pt x="214" y="17"/>
                  </a:lnTo>
                  <a:lnTo>
                    <a:pt x="223" y="21"/>
                  </a:lnTo>
                  <a:lnTo>
                    <a:pt x="231" y="27"/>
                  </a:lnTo>
                  <a:lnTo>
                    <a:pt x="239" y="33"/>
                  </a:lnTo>
                  <a:lnTo>
                    <a:pt x="246" y="40"/>
                  </a:lnTo>
                  <a:lnTo>
                    <a:pt x="252" y="46"/>
                  </a:lnTo>
                  <a:lnTo>
                    <a:pt x="259" y="55"/>
                  </a:lnTo>
                  <a:lnTo>
                    <a:pt x="264" y="62"/>
                  </a:lnTo>
                  <a:lnTo>
                    <a:pt x="269" y="71"/>
                  </a:lnTo>
                  <a:lnTo>
                    <a:pt x="275" y="80"/>
                  </a:lnTo>
                  <a:lnTo>
                    <a:pt x="279" y="90"/>
                  </a:lnTo>
                  <a:lnTo>
                    <a:pt x="282" y="100"/>
                  </a:lnTo>
                  <a:lnTo>
                    <a:pt x="285" y="110"/>
                  </a:lnTo>
                  <a:lnTo>
                    <a:pt x="287" y="120"/>
                  </a:lnTo>
                  <a:lnTo>
                    <a:pt x="290" y="131"/>
                  </a:lnTo>
                  <a:lnTo>
                    <a:pt x="291" y="143"/>
                  </a:lnTo>
                  <a:lnTo>
                    <a:pt x="292" y="154"/>
                  </a:lnTo>
                  <a:lnTo>
                    <a:pt x="292" y="166"/>
                  </a:lnTo>
                  <a:lnTo>
                    <a:pt x="292" y="178"/>
                  </a:lnTo>
                  <a:lnTo>
                    <a:pt x="291" y="189"/>
                  </a:lnTo>
                  <a:lnTo>
                    <a:pt x="290" y="201"/>
                  </a:lnTo>
                  <a:lnTo>
                    <a:pt x="287" y="213"/>
                  </a:lnTo>
                  <a:lnTo>
                    <a:pt x="284" y="223"/>
                  </a:lnTo>
                  <a:lnTo>
                    <a:pt x="281" y="234"/>
                  </a:lnTo>
                  <a:lnTo>
                    <a:pt x="278" y="243"/>
                  </a:lnTo>
                  <a:lnTo>
                    <a:pt x="274" y="253"/>
                  </a:lnTo>
                  <a:lnTo>
                    <a:pt x="268" y="262"/>
                  </a:lnTo>
                  <a:lnTo>
                    <a:pt x="263" y="271"/>
                  </a:lnTo>
                  <a:lnTo>
                    <a:pt x="257" y="279"/>
                  </a:lnTo>
                  <a:lnTo>
                    <a:pt x="250" y="287"/>
                  </a:lnTo>
                  <a:lnTo>
                    <a:pt x="244" y="294"/>
                  </a:lnTo>
                  <a:lnTo>
                    <a:pt x="237" y="301"/>
                  </a:lnTo>
                  <a:lnTo>
                    <a:pt x="229" y="306"/>
                  </a:lnTo>
                  <a:lnTo>
                    <a:pt x="221" y="311"/>
                  </a:lnTo>
                  <a:lnTo>
                    <a:pt x="211" y="315"/>
                  </a:lnTo>
                  <a:lnTo>
                    <a:pt x="203" y="320"/>
                  </a:lnTo>
                  <a:lnTo>
                    <a:pt x="194" y="323"/>
                  </a:lnTo>
                  <a:lnTo>
                    <a:pt x="185" y="326"/>
                  </a:lnTo>
                  <a:lnTo>
                    <a:pt x="175" y="328"/>
                  </a:lnTo>
                  <a:lnTo>
                    <a:pt x="166" y="330"/>
                  </a:lnTo>
                  <a:lnTo>
                    <a:pt x="156" y="330"/>
                  </a:lnTo>
                  <a:lnTo>
                    <a:pt x="147" y="331"/>
                  </a:lnTo>
                  <a:lnTo>
                    <a:pt x="136" y="330"/>
                  </a:lnTo>
                  <a:lnTo>
                    <a:pt x="125" y="329"/>
                  </a:lnTo>
                  <a:lnTo>
                    <a:pt x="116" y="328"/>
                  </a:lnTo>
                  <a:lnTo>
                    <a:pt x="105" y="326"/>
                  </a:lnTo>
                  <a:lnTo>
                    <a:pt x="96" y="323"/>
                  </a:lnTo>
                  <a:lnTo>
                    <a:pt x="87" y="319"/>
                  </a:lnTo>
                  <a:lnTo>
                    <a:pt x="78" y="314"/>
                  </a:lnTo>
                  <a:lnTo>
                    <a:pt x="69" y="309"/>
                  </a:lnTo>
                  <a:lnTo>
                    <a:pt x="61" y="304"/>
                  </a:lnTo>
                  <a:lnTo>
                    <a:pt x="53" y="297"/>
                  </a:lnTo>
                  <a:lnTo>
                    <a:pt x="46" y="291"/>
                  </a:lnTo>
                  <a:lnTo>
                    <a:pt x="40" y="284"/>
                  </a:lnTo>
                  <a:lnTo>
                    <a:pt x="33" y="276"/>
                  </a:lnTo>
                  <a:lnTo>
                    <a:pt x="28" y="268"/>
                  </a:lnTo>
                  <a:lnTo>
                    <a:pt x="23" y="259"/>
                  </a:lnTo>
                  <a:lnTo>
                    <a:pt x="18" y="250"/>
                  </a:lnTo>
                  <a:lnTo>
                    <a:pt x="14" y="240"/>
                  </a:lnTo>
                  <a:lnTo>
                    <a:pt x="11" y="231"/>
                  </a:lnTo>
                  <a:lnTo>
                    <a:pt x="8" y="221"/>
                  </a:lnTo>
                  <a:lnTo>
                    <a:pt x="5" y="211"/>
                  </a:lnTo>
                  <a:lnTo>
                    <a:pt x="4" y="201"/>
                  </a:lnTo>
                  <a:lnTo>
                    <a:pt x="1" y="190"/>
                  </a:lnTo>
                  <a:lnTo>
                    <a:pt x="1" y="180"/>
                  </a:lnTo>
                  <a:lnTo>
                    <a:pt x="0" y="170"/>
                  </a:lnTo>
                  <a:close/>
                  <a:moveTo>
                    <a:pt x="43" y="170"/>
                  </a:moveTo>
                  <a:lnTo>
                    <a:pt x="43" y="185"/>
                  </a:lnTo>
                  <a:lnTo>
                    <a:pt x="44" y="198"/>
                  </a:lnTo>
                  <a:lnTo>
                    <a:pt x="46" y="211"/>
                  </a:lnTo>
                  <a:lnTo>
                    <a:pt x="49" y="222"/>
                  </a:lnTo>
                  <a:lnTo>
                    <a:pt x="53" y="233"/>
                  </a:lnTo>
                  <a:lnTo>
                    <a:pt x="59" y="243"/>
                  </a:lnTo>
                  <a:lnTo>
                    <a:pt x="65" y="253"/>
                  </a:lnTo>
                  <a:lnTo>
                    <a:pt x="71" y="261"/>
                  </a:lnTo>
                  <a:lnTo>
                    <a:pt x="80" y="270"/>
                  </a:lnTo>
                  <a:lnTo>
                    <a:pt x="87" y="276"/>
                  </a:lnTo>
                  <a:lnTo>
                    <a:pt x="96" y="282"/>
                  </a:lnTo>
                  <a:lnTo>
                    <a:pt x="105" y="287"/>
                  </a:lnTo>
                  <a:lnTo>
                    <a:pt x="115" y="290"/>
                  </a:lnTo>
                  <a:lnTo>
                    <a:pt x="124" y="293"/>
                  </a:lnTo>
                  <a:lnTo>
                    <a:pt x="135" y="294"/>
                  </a:lnTo>
                  <a:lnTo>
                    <a:pt x="147" y="295"/>
                  </a:lnTo>
                  <a:lnTo>
                    <a:pt x="157" y="294"/>
                  </a:lnTo>
                  <a:lnTo>
                    <a:pt x="168" y="293"/>
                  </a:lnTo>
                  <a:lnTo>
                    <a:pt x="178" y="290"/>
                  </a:lnTo>
                  <a:lnTo>
                    <a:pt x="188" y="287"/>
                  </a:lnTo>
                  <a:lnTo>
                    <a:pt x="196" y="282"/>
                  </a:lnTo>
                  <a:lnTo>
                    <a:pt x="206" y="276"/>
                  </a:lnTo>
                  <a:lnTo>
                    <a:pt x="213" y="269"/>
                  </a:lnTo>
                  <a:lnTo>
                    <a:pt x="221" y="261"/>
                  </a:lnTo>
                  <a:lnTo>
                    <a:pt x="228" y="253"/>
                  </a:lnTo>
                  <a:lnTo>
                    <a:pt x="233" y="242"/>
                  </a:lnTo>
                  <a:lnTo>
                    <a:pt x="239" y="232"/>
                  </a:lnTo>
                  <a:lnTo>
                    <a:pt x="243" y="221"/>
                  </a:lnTo>
                  <a:lnTo>
                    <a:pt x="246" y="208"/>
                  </a:lnTo>
                  <a:lnTo>
                    <a:pt x="248" y="195"/>
                  </a:lnTo>
                  <a:lnTo>
                    <a:pt x="250" y="181"/>
                  </a:lnTo>
                  <a:lnTo>
                    <a:pt x="250" y="166"/>
                  </a:lnTo>
                  <a:lnTo>
                    <a:pt x="249" y="147"/>
                  </a:lnTo>
                  <a:lnTo>
                    <a:pt x="247" y="129"/>
                  </a:lnTo>
                  <a:lnTo>
                    <a:pt x="243" y="113"/>
                  </a:lnTo>
                  <a:lnTo>
                    <a:pt x="238" y="98"/>
                  </a:lnTo>
                  <a:lnTo>
                    <a:pt x="231" y="84"/>
                  </a:lnTo>
                  <a:lnTo>
                    <a:pt x="223" y="72"/>
                  </a:lnTo>
                  <a:lnTo>
                    <a:pt x="218" y="66"/>
                  </a:lnTo>
                  <a:lnTo>
                    <a:pt x="212" y="61"/>
                  </a:lnTo>
                  <a:lnTo>
                    <a:pt x="207" y="57"/>
                  </a:lnTo>
                  <a:lnTo>
                    <a:pt x="202" y="53"/>
                  </a:lnTo>
                  <a:lnTo>
                    <a:pt x="189" y="45"/>
                  </a:lnTo>
                  <a:lnTo>
                    <a:pt x="175" y="41"/>
                  </a:lnTo>
                  <a:lnTo>
                    <a:pt x="161" y="38"/>
                  </a:lnTo>
                  <a:lnTo>
                    <a:pt x="147" y="37"/>
                  </a:lnTo>
                  <a:lnTo>
                    <a:pt x="136" y="37"/>
                  </a:lnTo>
                  <a:lnTo>
                    <a:pt x="126" y="39"/>
                  </a:lnTo>
                  <a:lnTo>
                    <a:pt x="116" y="41"/>
                  </a:lnTo>
                  <a:lnTo>
                    <a:pt x="107" y="44"/>
                  </a:lnTo>
                  <a:lnTo>
                    <a:pt x="98" y="48"/>
                  </a:lnTo>
                  <a:lnTo>
                    <a:pt x="89" y="54"/>
                  </a:lnTo>
                  <a:lnTo>
                    <a:pt x="81" y="60"/>
                  </a:lnTo>
                  <a:lnTo>
                    <a:pt x="73" y="68"/>
                  </a:lnTo>
                  <a:lnTo>
                    <a:pt x="66" y="76"/>
                  </a:lnTo>
                  <a:lnTo>
                    <a:pt x="60" y="86"/>
                  </a:lnTo>
                  <a:lnTo>
                    <a:pt x="54" y="96"/>
                  </a:lnTo>
                  <a:lnTo>
                    <a:pt x="50" y="109"/>
                  </a:lnTo>
                  <a:lnTo>
                    <a:pt x="47" y="123"/>
                  </a:lnTo>
                  <a:lnTo>
                    <a:pt x="44" y="137"/>
                  </a:lnTo>
                  <a:lnTo>
                    <a:pt x="43" y="153"/>
                  </a:lnTo>
                  <a:lnTo>
                    <a:pt x="43" y="170"/>
                  </a:lnTo>
                  <a:close/>
                </a:path>
              </a:pathLst>
            </a:custGeom>
            <a:solidFill>
              <a:srgbClr val="ffff00"/>
            </a:solidFill>
            <a:ln w="0">
              <a:noFill/>
            </a:ln>
          </p:spPr>
          <p:style>
            <a:lnRef idx="0"/>
            <a:fillRef idx="0"/>
            <a:effectRef idx="0"/>
            <a:fontRef idx="minor"/>
          </p:style>
          <p:txBody>
            <a:bodyPr lIns="90000" rIns="90000" tIns="5040" bIns="5040" anchor="t">
              <a:noAutofit/>
            </a:bodyPr>
            <a:p>
              <a:pPr>
                <a:lnSpc>
                  <a:spcPct val="100000"/>
                </a:lnSpc>
              </a:pPr>
              <a:endParaRPr b="0" lang="en-US" sz="1800" spc="-1" strike="noStrike">
                <a:solidFill>
                  <a:srgbClr val="ffff00"/>
                </a:solidFill>
                <a:latin typeface="Arial"/>
                <a:ea typeface="宋体"/>
              </a:endParaRPr>
            </a:p>
          </p:txBody>
        </p:sp>
        <p:sp>
          <p:nvSpPr>
            <p:cNvPr id="561" name="Freeform 63"/>
            <p:cNvSpPr/>
            <p:nvPr/>
          </p:nvSpPr>
          <p:spPr>
            <a:xfrm>
              <a:off x="4208760" y="9661320"/>
              <a:ext cx="37800" cy="48600"/>
            </a:xfrm>
            <a:custGeom>
              <a:avLst/>
              <a:gdLst>
                <a:gd name="textAreaLeft" fmla="*/ 0 w 37800"/>
                <a:gd name="textAreaRight" fmla="*/ 38160 w 37800"/>
                <a:gd name="textAreaTop" fmla="*/ 0 h 48600"/>
                <a:gd name="textAreaBottom" fmla="*/ 48960 h 48600"/>
              </a:gdLst>
              <a:ahLst/>
              <a:rect l="textAreaLeft" t="textAreaTop" r="textAreaRight" b="textAreaBottom"/>
              <a:pathLst>
                <a:path w="240" h="320">
                  <a:moveTo>
                    <a:pt x="0" y="320"/>
                  </a:moveTo>
                  <a:lnTo>
                    <a:pt x="0" y="0"/>
                  </a:lnTo>
                  <a:lnTo>
                    <a:pt x="41" y="0"/>
                  </a:lnTo>
                  <a:lnTo>
                    <a:pt x="201" y="251"/>
                  </a:lnTo>
                  <a:lnTo>
                    <a:pt x="201" y="0"/>
                  </a:lnTo>
                  <a:lnTo>
                    <a:pt x="240" y="0"/>
                  </a:lnTo>
                  <a:lnTo>
                    <a:pt x="240" y="320"/>
                  </a:lnTo>
                  <a:lnTo>
                    <a:pt x="199" y="320"/>
                  </a:lnTo>
                  <a:lnTo>
                    <a:pt x="39" y="68"/>
                  </a:lnTo>
                  <a:lnTo>
                    <a:pt x="39" y="320"/>
                  </a:lnTo>
                  <a:lnTo>
                    <a:pt x="0" y="320"/>
                  </a:lnTo>
                  <a:close/>
                </a:path>
              </a:pathLst>
            </a:custGeom>
            <a:solidFill>
              <a:srgbClr val="ffff00"/>
            </a:solidFill>
            <a:ln w="0">
              <a:noFill/>
            </a:ln>
          </p:spPr>
          <p:style>
            <a:lnRef idx="0"/>
            <a:fillRef idx="0"/>
            <a:effectRef idx="0"/>
            <a:fontRef idx="minor"/>
          </p:style>
          <p:txBody>
            <a:bodyPr lIns="90000" rIns="90000" tIns="3960" bIns="3960" anchor="t">
              <a:noAutofit/>
            </a:bodyPr>
            <a:p>
              <a:pPr>
                <a:lnSpc>
                  <a:spcPct val="100000"/>
                </a:lnSpc>
              </a:pPr>
              <a:endParaRPr b="0" lang="en-US" sz="1800" spc="-1" strike="noStrike">
                <a:solidFill>
                  <a:srgbClr val="ffff00"/>
                </a:solidFill>
                <a:latin typeface="Arial"/>
                <a:ea typeface="宋体"/>
              </a:endParaRPr>
            </a:p>
          </p:txBody>
        </p:sp>
        <p:sp>
          <p:nvSpPr>
            <p:cNvPr id="562" name="Freeform 64"/>
            <p:cNvSpPr/>
            <p:nvPr/>
          </p:nvSpPr>
          <p:spPr>
            <a:xfrm>
              <a:off x="4260240" y="9660240"/>
              <a:ext cx="37800" cy="49680"/>
            </a:xfrm>
            <a:custGeom>
              <a:avLst/>
              <a:gdLst>
                <a:gd name="textAreaLeft" fmla="*/ 0 w 37800"/>
                <a:gd name="textAreaRight" fmla="*/ 38160 w 37800"/>
                <a:gd name="textAreaTop" fmla="*/ 0 h 49680"/>
                <a:gd name="textAreaBottom" fmla="*/ 50040 h 49680"/>
              </a:gdLst>
              <a:ahLst/>
              <a:rect l="textAreaLeft" t="textAreaTop" r="textAreaRight" b="textAreaBottom"/>
              <a:pathLst>
                <a:path w="242" h="330">
                  <a:moveTo>
                    <a:pt x="0" y="222"/>
                  </a:moveTo>
                  <a:lnTo>
                    <a:pt x="38" y="218"/>
                  </a:lnTo>
                  <a:lnTo>
                    <a:pt x="40" y="230"/>
                  </a:lnTo>
                  <a:lnTo>
                    <a:pt x="42" y="240"/>
                  </a:lnTo>
                  <a:lnTo>
                    <a:pt x="46" y="250"/>
                  </a:lnTo>
                  <a:lnTo>
                    <a:pt x="51" y="257"/>
                  </a:lnTo>
                  <a:lnTo>
                    <a:pt x="56" y="265"/>
                  </a:lnTo>
                  <a:lnTo>
                    <a:pt x="63" y="272"/>
                  </a:lnTo>
                  <a:lnTo>
                    <a:pt x="72" y="277"/>
                  </a:lnTo>
                  <a:lnTo>
                    <a:pt x="81" y="283"/>
                  </a:lnTo>
                  <a:lnTo>
                    <a:pt x="92" y="287"/>
                  </a:lnTo>
                  <a:lnTo>
                    <a:pt x="104" y="290"/>
                  </a:lnTo>
                  <a:lnTo>
                    <a:pt x="115" y="291"/>
                  </a:lnTo>
                  <a:lnTo>
                    <a:pt x="128" y="292"/>
                  </a:lnTo>
                  <a:lnTo>
                    <a:pt x="140" y="291"/>
                  </a:lnTo>
                  <a:lnTo>
                    <a:pt x="150" y="290"/>
                  </a:lnTo>
                  <a:lnTo>
                    <a:pt x="160" y="288"/>
                  </a:lnTo>
                  <a:lnTo>
                    <a:pt x="168" y="285"/>
                  </a:lnTo>
                  <a:lnTo>
                    <a:pt x="177" y="281"/>
                  </a:lnTo>
                  <a:lnTo>
                    <a:pt x="184" y="276"/>
                  </a:lnTo>
                  <a:lnTo>
                    <a:pt x="191" y="271"/>
                  </a:lnTo>
                  <a:lnTo>
                    <a:pt x="195" y="266"/>
                  </a:lnTo>
                  <a:lnTo>
                    <a:pt x="199" y="258"/>
                  </a:lnTo>
                  <a:lnTo>
                    <a:pt x="201" y="252"/>
                  </a:lnTo>
                  <a:lnTo>
                    <a:pt x="203" y="246"/>
                  </a:lnTo>
                  <a:lnTo>
                    <a:pt x="204" y="238"/>
                  </a:lnTo>
                  <a:lnTo>
                    <a:pt x="203" y="231"/>
                  </a:lnTo>
                  <a:lnTo>
                    <a:pt x="202" y="223"/>
                  </a:lnTo>
                  <a:lnTo>
                    <a:pt x="199" y="217"/>
                  </a:lnTo>
                  <a:lnTo>
                    <a:pt x="196" y="212"/>
                  </a:lnTo>
                  <a:lnTo>
                    <a:pt x="191" y="206"/>
                  </a:lnTo>
                  <a:lnTo>
                    <a:pt x="184" y="201"/>
                  </a:lnTo>
                  <a:lnTo>
                    <a:pt x="177" y="197"/>
                  </a:lnTo>
                  <a:lnTo>
                    <a:pt x="168" y="193"/>
                  </a:lnTo>
                  <a:lnTo>
                    <a:pt x="160" y="189"/>
                  </a:lnTo>
                  <a:lnTo>
                    <a:pt x="148" y="186"/>
                  </a:lnTo>
                  <a:lnTo>
                    <a:pt x="133" y="182"/>
                  </a:lnTo>
                  <a:lnTo>
                    <a:pt x="114" y="177"/>
                  </a:lnTo>
                  <a:lnTo>
                    <a:pt x="94" y="171"/>
                  </a:lnTo>
                  <a:lnTo>
                    <a:pt x="78" y="167"/>
                  </a:lnTo>
                  <a:lnTo>
                    <a:pt x="64" y="162"/>
                  </a:lnTo>
                  <a:lnTo>
                    <a:pt x="55" y="157"/>
                  </a:lnTo>
                  <a:lnTo>
                    <a:pt x="44" y="151"/>
                  </a:lnTo>
                  <a:lnTo>
                    <a:pt x="36" y="144"/>
                  </a:lnTo>
                  <a:lnTo>
                    <a:pt x="28" y="135"/>
                  </a:lnTo>
                  <a:lnTo>
                    <a:pt x="22" y="127"/>
                  </a:lnTo>
                  <a:lnTo>
                    <a:pt x="18" y="118"/>
                  </a:lnTo>
                  <a:lnTo>
                    <a:pt x="15" y="109"/>
                  </a:lnTo>
                  <a:lnTo>
                    <a:pt x="13" y="98"/>
                  </a:lnTo>
                  <a:lnTo>
                    <a:pt x="12" y="88"/>
                  </a:lnTo>
                  <a:lnTo>
                    <a:pt x="13" y="76"/>
                  </a:lnTo>
                  <a:lnTo>
                    <a:pt x="15" y="64"/>
                  </a:lnTo>
                  <a:lnTo>
                    <a:pt x="19" y="53"/>
                  </a:lnTo>
                  <a:lnTo>
                    <a:pt x="25" y="42"/>
                  </a:lnTo>
                  <a:lnTo>
                    <a:pt x="32" y="33"/>
                  </a:lnTo>
                  <a:lnTo>
                    <a:pt x="41" y="24"/>
                  </a:lnTo>
                  <a:lnTo>
                    <a:pt x="51" y="17"/>
                  </a:lnTo>
                  <a:lnTo>
                    <a:pt x="63" y="10"/>
                  </a:lnTo>
                  <a:lnTo>
                    <a:pt x="76" y="5"/>
                  </a:lnTo>
                  <a:lnTo>
                    <a:pt x="90" y="2"/>
                  </a:lnTo>
                  <a:lnTo>
                    <a:pt x="104" y="0"/>
                  </a:lnTo>
                  <a:lnTo>
                    <a:pt x="119" y="0"/>
                  </a:lnTo>
                  <a:lnTo>
                    <a:pt x="135" y="0"/>
                  </a:lnTo>
                  <a:lnTo>
                    <a:pt x="151" y="2"/>
                  </a:lnTo>
                  <a:lnTo>
                    <a:pt x="165" y="6"/>
                  </a:lnTo>
                  <a:lnTo>
                    <a:pt x="179" y="10"/>
                  </a:lnTo>
                  <a:lnTo>
                    <a:pt x="191" y="18"/>
                  </a:lnTo>
                  <a:lnTo>
                    <a:pt x="201" y="25"/>
                  </a:lnTo>
                  <a:lnTo>
                    <a:pt x="211" y="34"/>
                  </a:lnTo>
                  <a:lnTo>
                    <a:pt x="218" y="44"/>
                  </a:lnTo>
                  <a:lnTo>
                    <a:pt x="224" y="56"/>
                  </a:lnTo>
                  <a:lnTo>
                    <a:pt x="230" y="69"/>
                  </a:lnTo>
                  <a:lnTo>
                    <a:pt x="232" y="81"/>
                  </a:lnTo>
                  <a:lnTo>
                    <a:pt x="234" y="95"/>
                  </a:lnTo>
                  <a:lnTo>
                    <a:pt x="195" y="98"/>
                  </a:lnTo>
                  <a:lnTo>
                    <a:pt x="194" y="91"/>
                  </a:lnTo>
                  <a:lnTo>
                    <a:pt x="193" y="83"/>
                  </a:lnTo>
                  <a:lnTo>
                    <a:pt x="191" y="77"/>
                  </a:lnTo>
                  <a:lnTo>
                    <a:pt x="188" y="72"/>
                  </a:lnTo>
                  <a:lnTo>
                    <a:pt x="185" y="65"/>
                  </a:lnTo>
                  <a:lnTo>
                    <a:pt x="182" y="61"/>
                  </a:lnTo>
                  <a:lnTo>
                    <a:pt x="178" y="56"/>
                  </a:lnTo>
                  <a:lnTo>
                    <a:pt x="174" y="52"/>
                  </a:lnTo>
                  <a:lnTo>
                    <a:pt x="169" y="48"/>
                  </a:lnTo>
                  <a:lnTo>
                    <a:pt x="164" y="45"/>
                  </a:lnTo>
                  <a:lnTo>
                    <a:pt x="158" y="43"/>
                  </a:lnTo>
                  <a:lnTo>
                    <a:pt x="151" y="41"/>
                  </a:lnTo>
                  <a:lnTo>
                    <a:pt x="145" y="39"/>
                  </a:lnTo>
                  <a:lnTo>
                    <a:pt x="138" y="38"/>
                  </a:lnTo>
                  <a:lnTo>
                    <a:pt x="129" y="37"/>
                  </a:lnTo>
                  <a:lnTo>
                    <a:pt x="121" y="37"/>
                  </a:lnTo>
                  <a:lnTo>
                    <a:pt x="104" y="38"/>
                  </a:lnTo>
                  <a:lnTo>
                    <a:pt x="89" y="40"/>
                  </a:lnTo>
                  <a:lnTo>
                    <a:pt x="82" y="42"/>
                  </a:lnTo>
                  <a:lnTo>
                    <a:pt x="77" y="44"/>
                  </a:lnTo>
                  <a:lnTo>
                    <a:pt x="72" y="47"/>
                  </a:lnTo>
                  <a:lnTo>
                    <a:pt x="68" y="51"/>
                  </a:lnTo>
                  <a:lnTo>
                    <a:pt x="60" y="58"/>
                  </a:lnTo>
                  <a:lnTo>
                    <a:pt x="55" y="67"/>
                  </a:lnTo>
                  <a:lnTo>
                    <a:pt x="53" y="71"/>
                  </a:lnTo>
                  <a:lnTo>
                    <a:pt x="52" y="75"/>
                  </a:lnTo>
                  <a:lnTo>
                    <a:pt x="51" y="80"/>
                  </a:lnTo>
                  <a:lnTo>
                    <a:pt x="51" y="85"/>
                  </a:lnTo>
                  <a:lnTo>
                    <a:pt x="52" y="93"/>
                  </a:lnTo>
                  <a:lnTo>
                    <a:pt x="54" y="100"/>
                  </a:lnTo>
                  <a:lnTo>
                    <a:pt x="57" y="107"/>
                  </a:lnTo>
                  <a:lnTo>
                    <a:pt x="62" y="113"/>
                  </a:lnTo>
                  <a:lnTo>
                    <a:pt x="66" y="116"/>
                  </a:lnTo>
                  <a:lnTo>
                    <a:pt x="71" y="118"/>
                  </a:lnTo>
                  <a:lnTo>
                    <a:pt x="76" y="122"/>
                  </a:lnTo>
                  <a:lnTo>
                    <a:pt x="84" y="125"/>
                  </a:lnTo>
                  <a:lnTo>
                    <a:pt x="100" y="130"/>
                  </a:lnTo>
                  <a:lnTo>
                    <a:pt x="123" y="135"/>
                  </a:lnTo>
                  <a:lnTo>
                    <a:pt x="146" y="142"/>
                  </a:lnTo>
                  <a:lnTo>
                    <a:pt x="165" y="147"/>
                  </a:lnTo>
                  <a:lnTo>
                    <a:pt x="180" y="151"/>
                  </a:lnTo>
                  <a:lnTo>
                    <a:pt x="191" y="157"/>
                  </a:lnTo>
                  <a:lnTo>
                    <a:pt x="203" y="163"/>
                  </a:lnTo>
                  <a:lnTo>
                    <a:pt x="214" y="170"/>
                  </a:lnTo>
                  <a:lnTo>
                    <a:pt x="222" y="180"/>
                  </a:lnTo>
                  <a:lnTo>
                    <a:pt x="230" y="188"/>
                  </a:lnTo>
                  <a:lnTo>
                    <a:pt x="235" y="199"/>
                  </a:lnTo>
                  <a:lnTo>
                    <a:pt x="239" y="211"/>
                  </a:lnTo>
                  <a:lnTo>
                    <a:pt x="241" y="222"/>
                  </a:lnTo>
                  <a:lnTo>
                    <a:pt x="242" y="234"/>
                  </a:lnTo>
                  <a:lnTo>
                    <a:pt x="241" y="247"/>
                  </a:lnTo>
                  <a:lnTo>
                    <a:pt x="239" y="259"/>
                  </a:lnTo>
                  <a:lnTo>
                    <a:pt x="235" y="271"/>
                  </a:lnTo>
                  <a:lnTo>
                    <a:pt x="229" y="283"/>
                  </a:lnTo>
                  <a:lnTo>
                    <a:pt x="221" y="293"/>
                  </a:lnTo>
                  <a:lnTo>
                    <a:pt x="212" y="303"/>
                  </a:lnTo>
                  <a:lnTo>
                    <a:pt x="201" y="310"/>
                  </a:lnTo>
                  <a:lnTo>
                    <a:pt x="188" y="318"/>
                  </a:lnTo>
                  <a:lnTo>
                    <a:pt x="176" y="323"/>
                  </a:lnTo>
                  <a:lnTo>
                    <a:pt x="161" y="327"/>
                  </a:lnTo>
                  <a:lnTo>
                    <a:pt x="146" y="329"/>
                  </a:lnTo>
                  <a:lnTo>
                    <a:pt x="130" y="330"/>
                  </a:lnTo>
                  <a:lnTo>
                    <a:pt x="110" y="329"/>
                  </a:lnTo>
                  <a:lnTo>
                    <a:pt x="92" y="327"/>
                  </a:lnTo>
                  <a:lnTo>
                    <a:pt x="75" y="323"/>
                  </a:lnTo>
                  <a:lnTo>
                    <a:pt x="60" y="318"/>
                  </a:lnTo>
                  <a:lnTo>
                    <a:pt x="54" y="314"/>
                  </a:lnTo>
                  <a:lnTo>
                    <a:pt x="48" y="310"/>
                  </a:lnTo>
                  <a:lnTo>
                    <a:pt x="41" y="306"/>
                  </a:lnTo>
                  <a:lnTo>
                    <a:pt x="36" y="302"/>
                  </a:lnTo>
                  <a:lnTo>
                    <a:pt x="31" y="296"/>
                  </a:lnTo>
                  <a:lnTo>
                    <a:pt x="25" y="291"/>
                  </a:lnTo>
                  <a:lnTo>
                    <a:pt x="21" y="286"/>
                  </a:lnTo>
                  <a:lnTo>
                    <a:pt x="17" y="280"/>
                  </a:lnTo>
                  <a:lnTo>
                    <a:pt x="9" y="267"/>
                  </a:lnTo>
                  <a:lnTo>
                    <a:pt x="5" y="252"/>
                  </a:lnTo>
                  <a:lnTo>
                    <a:pt x="1" y="237"/>
                  </a:lnTo>
                  <a:lnTo>
                    <a:pt x="0" y="222"/>
                  </a:lnTo>
                  <a:close/>
                </a:path>
              </a:pathLst>
            </a:custGeom>
            <a:solidFill>
              <a:srgbClr val="ffff00"/>
            </a:solidFill>
            <a:ln w="0">
              <a:noFill/>
            </a:ln>
          </p:spPr>
          <p:style>
            <a:lnRef idx="0"/>
            <a:fillRef idx="0"/>
            <a:effectRef idx="0"/>
            <a:fontRef idx="minor"/>
          </p:style>
          <p:txBody>
            <a:bodyPr lIns="90000" rIns="90000" tIns="5040" bIns="5040" anchor="t">
              <a:noAutofit/>
            </a:bodyPr>
            <a:p>
              <a:pPr>
                <a:lnSpc>
                  <a:spcPct val="100000"/>
                </a:lnSpc>
              </a:pPr>
              <a:endParaRPr b="0" lang="en-US" sz="1800" spc="-1" strike="noStrike">
                <a:solidFill>
                  <a:srgbClr val="ffff00"/>
                </a:solidFill>
                <a:latin typeface="Arial"/>
                <a:ea typeface="宋体"/>
              </a:endParaRPr>
            </a:p>
          </p:txBody>
        </p:sp>
        <p:sp>
          <p:nvSpPr>
            <p:cNvPr id="563" name="Freeform 65"/>
            <p:cNvSpPr/>
            <p:nvPr/>
          </p:nvSpPr>
          <p:spPr>
            <a:xfrm>
              <a:off x="4311720" y="9661320"/>
              <a:ext cx="37800" cy="48600"/>
            </a:xfrm>
            <a:custGeom>
              <a:avLst/>
              <a:gdLst>
                <a:gd name="textAreaLeft" fmla="*/ 0 w 37800"/>
                <a:gd name="textAreaRight" fmla="*/ 38160 w 37800"/>
                <a:gd name="textAreaTop" fmla="*/ 0 h 48600"/>
                <a:gd name="textAreaBottom" fmla="*/ 48960 h 48600"/>
              </a:gdLst>
              <a:ahLst/>
              <a:rect l="textAreaLeft" t="textAreaTop" r="textAreaRight" b="textAreaBottom"/>
              <a:pathLst>
                <a:path w="239" h="325">
                  <a:moveTo>
                    <a:pt x="199" y="0"/>
                  </a:moveTo>
                  <a:lnTo>
                    <a:pt x="239" y="0"/>
                  </a:lnTo>
                  <a:lnTo>
                    <a:pt x="239" y="184"/>
                  </a:lnTo>
                  <a:lnTo>
                    <a:pt x="239" y="208"/>
                  </a:lnTo>
                  <a:lnTo>
                    <a:pt x="237" y="228"/>
                  </a:lnTo>
                  <a:lnTo>
                    <a:pt x="234" y="246"/>
                  </a:lnTo>
                  <a:lnTo>
                    <a:pt x="229" y="261"/>
                  </a:lnTo>
                  <a:lnTo>
                    <a:pt x="227" y="268"/>
                  </a:lnTo>
                  <a:lnTo>
                    <a:pt x="223" y="275"/>
                  </a:lnTo>
                  <a:lnTo>
                    <a:pt x="219" y="281"/>
                  </a:lnTo>
                  <a:lnTo>
                    <a:pt x="215" y="287"/>
                  </a:lnTo>
                  <a:lnTo>
                    <a:pt x="210" y="293"/>
                  </a:lnTo>
                  <a:lnTo>
                    <a:pt x="204" y="298"/>
                  </a:lnTo>
                  <a:lnTo>
                    <a:pt x="198" y="303"/>
                  </a:lnTo>
                  <a:lnTo>
                    <a:pt x="192" y="307"/>
                  </a:lnTo>
                  <a:lnTo>
                    <a:pt x="184" y="312"/>
                  </a:lnTo>
                  <a:lnTo>
                    <a:pt x="177" y="315"/>
                  </a:lnTo>
                  <a:lnTo>
                    <a:pt x="169" y="318"/>
                  </a:lnTo>
                  <a:lnTo>
                    <a:pt x="160" y="321"/>
                  </a:lnTo>
                  <a:lnTo>
                    <a:pt x="151" y="322"/>
                  </a:lnTo>
                  <a:lnTo>
                    <a:pt x="142" y="324"/>
                  </a:lnTo>
                  <a:lnTo>
                    <a:pt x="131" y="324"/>
                  </a:lnTo>
                  <a:lnTo>
                    <a:pt x="121" y="325"/>
                  </a:lnTo>
                  <a:lnTo>
                    <a:pt x="110" y="325"/>
                  </a:lnTo>
                  <a:lnTo>
                    <a:pt x="101" y="324"/>
                  </a:lnTo>
                  <a:lnTo>
                    <a:pt x="91" y="323"/>
                  </a:lnTo>
                  <a:lnTo>
                    <a:pt x="82" y="321"/>
                  </a:lnTo>
                  <a:lnTo>
                    <a:pt x="73" y="319"/>
                  </a:lnTo>
                  <a:lnTo>
                    <a:pt x="65" y="317"/>
                  </a:lnTo>
                  <a:lnTo>
                    <a:pt x="57" y="314"/>
                  </a:lnTo>
                  <a:lnTo>
                    <a:pt x="51" y="309"/>
                  </a:lnTo>
                  <a:lnTo>
                    <a:pt x="44" y="305"/>
                  </a:lnTo>
                  <a:lnTo>
                    <a:pt x="38" y="301"/>
                  </a:lnTo>
                  <a:lnTo>
                    <a:pt x="33" y="296"/>
                  </a:lnTo>
                  <a:lnTo>
                    <a:pt x="28" y="290"/>
                  </a:lnTo>
                  <a:lnTo>
                    <a:pt x="22" y="285"/>
                  </a:lnTo>
                  <a:lnTo>
                    <a:pt x="18" y="279"/>
                  </a:lnTo>
                  <a:lnTo>
                    <a:pt x="15" y="272"/>
                  </a:lnTo>
                  <a:lnTo>
                    <a:pt x="12" y="265"/>
                  </a:lnTo>
                  <a:lnTo>
                    <a:pt x="6" y="249"/>
                  </a:lnTo>
                  <a:lnTo>
                    <a:pt x="3" y="230"/>
                  </a:lnTo>
                  <a:lnTo>
                    <a:pt x="1" y="209"/>
                  </a:lnTo>
                  <a:lnTo>
                    <a:pt x="0" y="184"/>
                  </a:lnTo>
                  <a:lnTo>
                    <a:pt x="0" y="0"/>
                  </a:lnTo>
                  <a:lnTo>
                    <a:pt x="40" y="0"/>
                  </a:lnTo>
                  <a:lnTo>
                    <a:pt x="40" y="184"/>
                  </a:lnTo>
                  <a:lnTo>
                    <a:pt x="41" y="204"/>
                  </a:lnTo>
                  <a:lnTo>
                    <a:pt x="42" y="220"/>
                  </a:lnTo>
                  <a:lnTo>
                    <a:pt x="44" y="234"/>
                  </a:lnTo>
                  <a:lnTo>
                    <a:pt x="48" y="246"/>
                  </a:lnTo>
                  <a:lnTo>
                    <a:pt x="52" y="255"/>
                  </a:lnTo>
                  <a:lnTo>
                    <a:pt x="58" y="263"/>
                  </a:lnTo>
                  <a:lnTo>
                    <a:pt x="65" y="270"/>
                  </a:lnTo>
                  <a:lnTo>
                    <a:pt x="73" y="277"/>
                  </a:lnTo>
                  <a:lnTo>
                    <a:pt x="83" y="281"/>
                  </a:lnTo>
                  <a:lnTo>
                    <a:pt x="93" y="284"/>
                  </a:lnTo>
                  <a:lnTo>
                    <a:pt x="105" y="286"/>
                  </a:lnTo>
                  <a:lnTo>
                    <a:pt x="116" y="287"/>
                  </a:lnTo>
                  <a:lnTo>
                    <a:pt x="128" y="286"/>
                  </a:lnTo>
                  <a:lnTo>
                    <a:pt x="138" y="286"/>
                  </a:lnTo>
                  <a:lnTo>
                    <a:pt x="147" y="284"/>
                  </a:lnTo>
                  <a:lnTo>
                    <a:pt x="155" y="282"/>
                  </a:lnTo>
                  <a:lnTo>
                    <a:pt x="163" y="279"/>
                  </a:lnTo>
                  <a:lnTo>
                    <a:pt x="169" y="276"/>
                  </a:lnTo>
                  <a:lnTo>
                    <a:pt x="176" y="270"/>
                  </a:lnTo>
                  <a:lnTo>
                    <a:pt x="180" y="266"/>
                  </a:lnTo>
                  <a:lnTo>
                    <a:pt x="185" y="260"/>
                  </a:lnTo>
                  <a:lnTo>
                    <a:pt x="189" y="252"/>
                  </a:lnTo>
                  <a:lnTo>
                    <a:pt x="192" y="245"/>
                  </a:lnTo>
                  <a:lnTo>
                    <a:pt x="195" y="235"/>
                  </a:lnTo>
                  <a:lnTo>
                    <a:pt x="197" y="224"/>
                  </a:lnTo>
                  <a:lnTo>
                    <a:pt x="198" y="212"/>
                  </a:lnTo>
                  <a:lnTo>
                    <a:pt x="199" y="199"/>
                  </a:lnTo>
                  <a:lnTo>
                    <a:pt x="199" y="184"/>
                  </a:lnTo>
                  <a:lnTo>
                    <a:pt x="199" y="0"/>
                  </a:lnTo>
                  <a:close/>
                </a:path>
              </a:pathLst>
            </a:custGeom>
            <a:solidFill>
              <a:srgbClr val="ffff00"/>
            </a:solidFill>
            <a:ln w="0">
              <a:noFill/>
            </a:ln>
          </p:spPr>
          <p:style>
            <a:lnRef idx="0"/>
            <a:fillRef idx="0"/>
            <a:effectRef idx="0"/>
            <a:fontRef idx="minor"/>
          </p:style>
          <p:txBody>
            <a:bodyPr lIns="90000" rIns="90000" tIns="3960" bIns="3960" anchor="t">
              <a:noAutofit/>
            </a:bodyPr>
            <a:p>
              <a:pPr>
                <a:lnSpc>
                  <a:spcPct val="100000"/>
                </a:lnSpc>
              </a:pPr>
              <a:endParaRPr b="0" lang="en-US" sz="1800" spc="-1" strike="noStrike">
                <a:solidFill>
                  <a:srgbClr val="ffff00"/>
                </a:solidFill>
                <a:latin typeface="Arial"/>
                <a:ea typeface="宋体"/>
              </a:endParaRPr>
            </a:p>
          </p:txBody>
        </p:sp>
        <p:sp>
          <p:nvSpPr>
            <p:cNvPr id="564" name="Freeform 66"/>
            <p:cNvSpPr/>
            <p:nvPr/>
          </p:nvSpPr>
          <p:spPr>
            <a:xfrm>
              <a:off x="4364280" y="9661320"/>
              <a:ext cx="29880" cy="48600"/>
            </a:xfrm>
            <a:custGeom>
              <a:avLst/>
              <a:gdLst>
                <a:gd name="textAreaLeft" fmla="*/ 0 w 29880"/>
                <a:gd name="textAreaRight" fmla="*/ 30240 w 29880"/>
                <a:gd name="textAreaTop" fmla="*/ 0 h 48600"/>
                <a:gd name="textAreaBottom" fmla="*/ 48960 h 48600"/>
              </a:gdLst>
              <a:ahLst/>
              <a:rect l="textAreaLeft" t="textAreaTop" r="textAreaRight" b="textAreaBottom"/>
              <a:pathLst>
                <a:path w="191" h="320">
                  <a:moveTo>
                    <a:pt x="0" y="320"/>
                  </a:moveTo>
                  <a:lnTo>
                    <a:pt x="0" y="0"/>
                  </a:lnTo>
                  <a:lnTo>
                    <a:pt x="41" y="0"/>
                  </a:lnTo>
                  <a:lnTo>
                    <a:pt x="41" y="282"/>
                  </a:lnTo>
                  <a:lnTo>
                    <a:pt x="191" y="282"/>
                  </a:lnTo>
                  <a:lnTo>
                    <a:pt x="191" y="320"/>
                  </a:lnTo>
                  <a:lnTo>
                    <a:pt x="0" y="320"/>
                  </a:lnTo>
                  <a:close/>
                </a:path>
              </a:pathLst>
            </a:custGeom>
            <a:solidFill>
              <a:srgbClr val="ffff00"/>
            </a:solidFill>
            <a:ln w="0">
              <a:noFill/>
            </a:ln>
          </p:spPr>
          <p:style>
            <a:lnRef idx="0"/>
            <a:fillRef idx="0"/>
            <a:effectRef idx="0"/>
            <a:fontRef idx="minor"/>
          </p:style>
          <p:txBody>
            <a:bodyPr lIns="90000" rIns="90000" tIns="3960" bIns="3960" anchor="t">
              <a:noAutofit/>
            </a:bodyPr>
            <a:p>
              <a:pPr>
                <a:lnSpc>
                  <a:spcPct val="100000"/>
                </a:lnSpc>
              </a:pPr>
              <a:endParaRPr b="0" lang="en-US" sz="1800" spc="-1" strike="noStrike">
                <a:solidFill>
                  <a:srgbClr val="ffff00"/>
                </a:solidFill>
                <a:latin typeface="Arial"/>
                <a:ea typeface="宋体"/>
              </a:endParaRPr>
            </a:p>
          </p:txBody>
        </p:sp>
        <p:sp>
          <p:nvSpPr>
            <p:cNvPr id="565" name="Freeform 67"/>
            <p:cNvSpPr/>
            <p:nvPr/>
          </p:nvSpPr>
          <p:spPr>
            <a:xfrm>
              <a:off x="4397760" y="9661320"/>
              <a:ext cx="38880" cy="48600"/>
            </a:xfrm>
            <a:custGeom>
              <a:avLst/>
              <a:gdLst>
                <a:gd name="textAreaLeft" fmla="*/ 0 w 38880"/>
                <a:gd name="textAreaRight" fmla="*/ 39240 w 38880"/>
                <a:gd name="textAreaTop" fmla="*/ 0 h 48600"/>
                <a:gd name="textAreaBottom" fmla="*/ 48960 h 48600"/>
              </a:gdLst>
              <a:ahLst/>
              <a:rect l="textAreaLeft" t="textAreaTop" r="textAreaRight" b="textAreaBottom"/>
              <a:pathLst>
                <a:path w="242" h="320">
                  <a:moveTo>
                    <a:pt x="101" y="320"/>
                  </a:moveTo>
                  <a:lnTo>
                    <a:pt x="101" y="37"/>
                  </a:lnTo>
                  <a:lnTo>
                    <a:pt x="0" y="37"/>
                  </a:lnTo>
                  <a:lnTo>
                    <a:pt x="0" y="0"/>
                  </a:lnTo>
                  <a:lnTo>
                    <a:pt x="242" y="0"/>
                  </a:lnTo>
                  <a:lnTo>
                    <a:pt x="242" y="37"/>
                  </a:lnTo>
                  <a:lnTo>
                    <a:pt x="141" y="37"/>
                  </a:lnTo>
                  <a:lnTo>
                    <a:pt x="141" y="320"/>
                  </a:lnTo>
                  <a:lnTo>
                    <a:pt x="101" y="320"/>
                  </a:lnTo>
                  <a:close/>
                </a:path>
              </a:pathLst>
            </a:custGeom>
            <a:solidFill>
              <a:srgbClr val="ffff00"/>
            </a:solidFill>
            <a:ln w="0">
              <a:noFill/>
            </a:ln>
          </p:spPr>
          <p:style>
            <a:lnRef idx="0"/>
            <a:fillRef idx="0"/>
            <a:effectRef idx="0"/>
            <a:fontRef idx="minor"/>
          </p:style>
          <p:txBody>
            <a:bodyPr lIns="90000" rIns="90000" tIns="3960" bIns="3960" anchor="t">
              <a:noAutofit/>
            </a:bodyPr>
            <a:p>
              <a:pPr>
                <a:lnSpc>
                  <a:spcPct val="100000"/>
                </a:lnSpc>
              </a:pPr>
              <a:endParaRPr b="0" lang="en-US" sz="1800" spc="-1" strike="noStrike">
                <a:solidFill>
                  <a:srgbClr val="ffff00"/>
                </a:solidFill>
                <a:latin typeface="Arial"/>
                <a:ea typeface="宋体"/>
              </a:endParaRPr>
            </a:p>
          </p:txBody>
        </p:sp>
        <p:sp>
          <p:nvSpPr>
            <p:cNvPr id="566" name="Rectangle 68"/>
            <p:cNvSpPr/>
            <p:nvPr/>
          </p:nvSpPr>
          <p:spPr>
            <a:xfrm>
              <a:off x="4447800" y="9661320"/>
              <a:ext cx="6480" cy="48600"/>
            </a:xfrm>
            <a:prstGeom prst="rect">
              <a:avLst/>
            </a:prstGeom>
            <a:solidFill>
              <a:srgbClr val="ffff00"/>
            </a:solidFill>
            <a:ln w="0">
              <a:noFill/>
            </a:ln>
          </p:spPr>
          <p:style>
            <a:lnRef idx="0"/>
            <a:fillRef idx="0"/>
            <a:effectRef idx="0"/>
            <a:fontRef idx="minor"/>
          </p:style>
          <p:txBody>
            <a:bodyPr lIns="90000" rIns="90000" tIns="3960" bIns="3960" anchor="t">
              <a:noAutofit/>
            </a:bodyPr>
            <a:p>
              <a:pPr>
                <a:lnSpc>
                  <a:spcPct val="100000"/>
                </a:lnSpc>
              </a:pPr>
              <a:endParaRPr b="0" lang="en-US" sz="1800" spc="-1" strike="noStrike">
                <a:solidFill>
                  <a:srgbClr val="ffff00"/>
                </a:solidFill>
                <a:latin typeface="Arial"/>
                <a:ea typeface="宋体"/>
              </a:endParaRPr>
            </a:p>
          </p:txBody>
        </p:sp>
        <p:sp>
          <p:nvSpPr>
            <p:cNvPr id="567" name="Freeform 69"/>
            <p:cNvSpPr/>
            <p:nvPr/>
          </p:nvSpPr>
          <p:spPr>
            <a:xfrm>
              <a:off x="4470480" y="9661320"/>
              <a:ext cx="37800" cy="48600"/>
            </a:xfrm>
            <a:custGeom>
              <a:avLst/>
              <a:gdLst>
                <a:gd name="textAreaLeft" fmla="*/ 0 w 37800"/>
                <a:gd name="textAreaRight" fmla="*/ 38160 w 37800"/>
                <a:gd name="textAreaTop" fmla="*/ 0 h 48600"/>
                <a:gd name="textAreaBottom" fmla="*/ 48960 h 48600"/>
              </a:gdLst>
              <a:ahLst/>
              <a:rect l="textAreaLeft" t="textAreaTop" r="textAreaRight" b="textAreaBottom"/>
              <a:pathLst>
                <a:path w="241" h="320">
                  <a:moveTo>
                    <a:pt x="0" y="320"/>
                  </a:moveTo>
                  <a:lnTo>
                    <a:pt x="0" y="0"/>
                  </a:lnTo>
                  <a:lnTo>
                    <a:pt x="42" y="0"/>
                  </a:lnTo>
                  <a:lnTo>
                    <a:pt x="202" y="251"/>
                  </a:lnTo>
                  <a:lnTo>
                    <a:pt x="202" y="0"/>
                  </a:lnTo>
                  <a:lnTo>
                    <a:pt x="241" y="0"/>
                  </a:lnTo>
                  <a:lnTo>
                    <a:pt x="241" y="320"/>
                  </a:lnTo>
                  <a:lnTo>
                    <a:pt x="200" y="320"/>
                  </a:lnTo>
                  <a:lnTo>
                    <a:pt x="40" y="68"/>
                  </a:lnTo>
                  <a:lnTo>
                    <a:pt x="40" y="320"/>
                  </a:lnTo>
                  <a:lnTo>
                    <a:pt x="0" y="320"/>
                  </a:lnTo>
                  <a:close/>
                </a:path>
              </a:pathLst>
            </a:custGeom>
            <a:solidFill>
              <a:srgbClr val="ffff00"/>
            </a:solidFill>
            <a:ln w="0">
              <a:noFill/>
            </a:ln>
          </p:spPr>
          <p:style>
            <a:lnRef idx="0"/>
            <a:fillRef idx="0"/>
            <a:effectRef idx="0"/>
            <a:fontRef idx="minor"/>
          </p:style>
          <p:txBody>
            <a:bodyPr lIns="90000" rIns="90000" tIns="3960" bIns="3960" anchor="t">
              <a:noAutofit/>
            </a:bodyPr>
            <a:p>
              <a:pPr>
                <a:lnSpc>
                  <a:spcPct val="100000"/>
                </a:lnSpc>
              </a:pPr>
              <a:endParaRPr b="0" lang="en-US" sz="1800" spc="-1" strike="noStrike">
                <a:solidFill>
                  <a:srgbClr val="ffff00"/>
                </a:solidFill>
                <a:latin typeface="Arial"/>
                <a:ea typeface="宋体"/>
              </a:endParaRPr>
            </a:p>
          </p:txBody>
        </p:sp>
        <p:sp>
          <p:nvSpPr>
            <p:cNvPr id="568" name="Freeform 70"/>
            <p:cNvSpPr/>
            <p:nvPr/>
          </p:nvSpPr>
          <p:spPr>
            <a:xfrm>
              <a:off x="4521600" y="9660240"/>
              <a:ext cx="44280" cy="49680"/>
            </a:xfrm>
            <a:custGeom>
              <a:avLst/>
              <a:gdLst>
                <a:gd name="textAreaLeft" fmla="*/ 0 w 44280"/>
                <a:gd name="textAreaRight" fmla="*/ 44640 w 44280"/>
                <a:gd name="textAreaTop" fmla="*/ 0 h 49680"/>
                <a:gd name="textAreaBottom" fmla="*/ 50040 h 49680"/>
              </a:gdLst>
              <a:ahLst/>
              <a:rect l="textAreaLeft" t="textAreaTop" r="textAreaRight" b="textAreaBottom"/>
              <a:pathLst>
                <a:path w="282" h="330">
                  <a:moveTo>
                    <a:pt x="154" y="199"/>
                  </a:moveTo>
                  <a:lnTo>
                    <a:pt x="154" y="162"/>
                  </a:lnTo>
                  <a:lnTo>
                    <a:pt x="282" y="162"/>
                  </a:lnTo>
                  <a:lnTo>
                    <a:pt x="282" y="281"/>
                  </a:lnTo>
                  <a:lnTo>
                    <a:pt x="267" y="292"/>
                  </a:lnTo>
                  <a:lnTo>
                    <a:pt x="253" y="302"/>
                  </a:lnTo>
                  <a:lnTo>
                    <a:pt x="237" y="310"/>
                  </a:lnTo>
                  <a:lnTo>
                    <a:pt x="222" y="318"/>
                  </a:lnTo>
                  <a:lnTo>
                    <a:pt x="206" y="323"/>
                  </a:lnTo>
                  <a:lnTo>
                    <a:pt x="189" y="327"/>
                  </a:lnTo>
                  <a:lnTo>
                    <a:pt x="173" y="329"/>
                  </a:lnTo>
                  <a:lnTo>
                    <a:pt x="156" y="330"/>
                  </a:lnTo>
                  <a:lnTo>
                    <a:pt x="146" y="329"/>
                  </a:lnTo>
                  <a:lnTo>
                    <a:pt x="135" y="329"/>
                  </a:lnTo>
                  <a:lnTo>
                    <a:pt x="124" y="327"/>
                  </a:lnTo>
                  <a:lnTo>
                    <a:pt x="114" y="325"/>
                  </a:lnTo>
                  <a:lnTo>
                    <a:pt x="103" y="322"/>
                  </a:lnTo>
                  <a:lnTo>
                    <a:pt x="94" y="319"/>
                  </a:lnTo>
                  <a:lnTo>
                    <a:pt x="84" y="314"/>
                  </a:lnTo>
                  <a:lnTo>
                    <a:pt x="75" y="310"/>
                  </a:lnTo>
                  <a:lnTo>
                    <a:pt x="66" y="305"/>
                  </a:lnTo>
                  <a:lnTo>
                    <a:pt x="58" y="299"/>
                  </a:lnTo>
                  <a:lnTo>
                    <a:pt x="50" y="292"/>
                  </a:lnTo>
                  <a:lnTo>
                    <a:pt x="43" y="285"/>
                  </a:lnTo>
                  <a:lnTo>
                    <a:pt x="37" y="277"/>
                  </a:lnTo>
                  <a:lnTo>
                    <a:pt x="30" y="270"/>
                  </a:lnTo>
                  <a:lnTo>
                    <a:pt x="25" y="260"/>
                  </a:lnTo>
                  <a:lnTo>
                    <a:pt x="20" y="252"/>
                  </a:lnTo>
                  <a:lnTo>
                    <a:pt x="15" y="242"/>
                  </a:lnTo>
                  <a:lnTo>
                    <a:pt x="11" y="232"/>
                  </a:lnTo>
                  <a:lnTo>
                    <a:pt x="8" y="221"/>
                  </a:lnTo>
                  <a:lnTo>
                    <a:pt x="6" y="212"/>
                  </a:lnTo>
                  <a:lnTo>
                    <a:pt x="4" y="200"/>
                  </a:lnTo>
                  <a:lnTo>
                    <a:pt x="2" y="189"/>
                  </a:lnTo>
                  <a:lnTo>
                    <a:pt x="2" y="178"/>
                  </a:lnTo>
                  <a:lnTo>
                    <a:pt x="0" y="166"/>
                  </a:lnTo>
                  <a:lnTo>
                    <a:pt x="2" y="154"/>
                  </a:lnTo>
                  <a:lnTo>
                    <a:pt x="2" y="143"/>
                  </a:lnTo>
                  <a:lnTo>
                    <a:pt x="4" y="132"/>
                  </a:lnTo>
                  <a:lnTo>
                    <a:pt x="6" y="122"/>
                  </a:lnTo>
                  <a:lnTo>
                    <a:pt x="8" y="110"/>
                  </a:lnTo>
                  <a:lnTo>
                    <a:pt x="11" y="99"/>
                  </a:lnTo>
                  <a:lnTo>
                    <a:pt x="15" y="90"/>
                  </a:lnTo>
                  <a:lnTo>
                    <a:pt x="20" y="79"/>
                  </a:lnTo>
                  <a:lnTo>
                    <a:pt x="25" y="70"/>
                  </a:lnTo>
                  <a:lnTo>
                    <a:pt x="30" y="60"/>
                  </a:lnTo>
                  <a:lnTo>
                    <a:pt x="35" y="52"/>
                  </a:lnTo>
                  <a:lnTo>
                    <a:pt x="42" y="44"/>
                  </a:lnTo>
                  <a:lnTo>
                    <a:pt x="49" y="37"/>
                  </a:lnTo>
                  <a:lnTo>
                    <a:pt x="57" y="30"/>
                  </a:lnTo>
                  <a:lnTo>
                    <a:pt x="64" y="24"/>
                  </a:lnTo>
                  <a:lnTo>
                    <a:pt x="73" y="19"/>
                  </a:lnTo>
                  <a:lnTo>
                    <a:pt x="82" y="15"/>
                  </a:lnTo>
                  <a:lnTo>
                    <a:pt x="92" y="10"/>
                  </a:lnTo>
                  <a:lnTo>
                    <a:pt x="101" y="7"/>
                  </a:lnTo>
                  <a:lnTo>
                    <a:pt x="111" y="4"/>
                  </a:lnTo>
                  <a:lnTo>
                    <a:pt x="121" y="2"/>
                  </a:lnTo>
                  <a:lnTo>
                    <a:pt x="132" y="1"/>
                  </a:lnTo>
                  <a:lnTo>
                    <a:pt x="142" y="0"/>
                  </a:lnTo>
                  <a:lnTo>
                    <a:pt x="153" y="0"/>
                  </a:lnTo>
                  <a:lnTo>
                    <a:pt x="170" y="0"/>
                  </a:lnTo>
                  <a:lnTo>
                    <a:pt x="185" y="2"/>
                  </a:lnTo>
                  <a:lnTo>
                    <a:pt x="200" y="6"/>
                  </a:lnTo>
                  <a:lnTo>
                    <a:pt x="213" y="10"/>
                  </a:lnTo>
                  <a:lnTo>
                    <a:pt x="226" y="17"/>
                  </a:lnTo>
                  <a:lnTo>
                    <a:pt x="237" y="24"/>
                  </a:lnTo>
                  <a:lnTo>
                    <a:pt x="246" y="33"/>
                  </a:lnTo>
                  <a:lnTo>
                    <a:pt x="255" y="42"/>
                  </a:lnTo>
                  <a:lnTo>
                    <a:pt x="262" y="53"/>
                  </a:lnTo>
                  <a:lnTo>
                    <a:pt x="268" y="65"/>
                  </a:lnTo>
                  <a:lnTo>
                    <a:pt x="274" y="79"/>
                  </a:lnTo>
                  <a:lnTo>
                    <a:pt x="278" y="94"/>
                  </a:lnTo>
                  <a:lnTo>
                    <a:pt x="242" y="105"/>
                  </a:lnTo>
                  <a:lnTo>
                    <a:pt x="238" y="93"/>
                  </a:lnTo>
                  <a:lnTo>
                    <a:pt x="234" y="82"/>
                  </a:lnTo>
                  <a:lnTo>
                    <a:pt x="229" y="74"/>
                  </a:lnTo>
                  <a:lnTo>
                    <a:pt x="225" y="67"/>
                  </a:lnTo>
                  <a:lnTo>
                    <a:pt x="219" y="60"/>
                  </a:lnTo>
                  <a:lnTo>
                    <a:pt x="212" y="54"/>
                  </a:lnTo>
                  <a:lnTo>
                    <a:pt x="205" y="48"/>
                  </a:lnTo>
                  <a:lnTo>
                    <a:pt x="195" y="44"/>
                  </a:lnTo>
                  <a:lnTo>
                    <a:pt x="186" y="40"/>
                  </a:lnTo>
                  <a:lnTo>
                    <a:pt x="175" y="38"/>
                  </a:lnTo>
                  <a:lnTo>
                    <a:pt x="165" y="36"/>
                  </a:lnTo>
                  <a:lnTo>
                    <a:pt x="154" y="36"/>
                  </a:lnTo>
                  <a:lnTo>
                    <a:pt x="140" y="36"/>
                  </a:lnTo>
                  <a:lnTo>
                    <a:pt x="128" y="38"/>
                  </a:lnTo>
                  <a:lnTo>
                    <a:pt x="116" y="41"/>
                  </a:lnTo>
                  <a:lnTo>
                    <a:pt x="105" y="44"/>
                  </a:lnTo>
                  <a:lnTo>
                    <a:pt x="96" y="50"/>
                  </a:lnTo>
                  <a:lnTo>
                    <a:pt x="87" y="55"/>
                  </a:lnTo>
                  <a:lnTo>
                    <a:pt x="80" y="61"/>
                  </a:lnTo>
                  <a:lnTo>
                    <a:pt x="74" y="68"/>
                  </a:lnTo>
                  <a:lnTo>
                    <a:pt x="67" y="75"/>
                  </a:lnTo>
                  <a:lnTo>
                    <a:pt x="62" y="82"/>
                  </a:lnTo>
                  <a:lnTo>
                    <a:pt x="58" y="91"/>
                  </a:lnTo>
                  <a:lnTo>
                    <a:pt x="55" y="99"/>
                  </a:lnTo>
                  <a:lnTo>
                    <a:pt x="49" y="114"/>
                  </a:lnTo>
                  <a:lnTo>
                    <a:pt x="45" y="130"/>
                  </a:lnTo>
                  <a:lnTo>
                    <a:pt x="43" y="147"/>
                  </a:lnTo>
                  <a:lnTo>
                    <a:pt x="43" y="164"/>
                  </a:lnTo>
                  <a:lnTo>
                    <a:pt x="43" y="184"/>
                  </a:lnTo>
                  <a:lnTo>
                    <a:pt x="46" y="203"/>
                  </a:lnTo>
                  <a:lnTo>
                    <a:pt x="48" y="212"/>
                  </a:lnTo>
                  <a:lnTo>
                    <a:pt x="50" y="220"/>
                  </a:lnTo>
                  <a:lnTo>
                    <a:pt x="53" y="228"/>
                  </a:lnTo>
                  <a:lnTo>
                    <a:pt x="57" y="235"/>
                  </a:lnTo>
                  <a:lnTo>
                    <a:pt x="60" y="242"/>
                  </a:lnTo>
                  <a:lnTo>
                    <a:pt x="64" y="249"/>
                  </a:lnTo>
                  <a:lnTo>
                    <a:pt x="68" y="255"/>
                  </a:lnTo>
                  <a:lnTo>
                    <a:pt x="74" y="260"/>
                  </a:lnTo>
                  <a:lnTo>
                    <a:pt x="79" y="266"/>
                  </a:lnTo>
                  <a:lnTo>
                    <a:pt x="85" y="270"/>
                  </a:lnTo>
                  <a:lnTo>
                    <a:pt x="91" y="274"/>
                  </a:lnTo>
                  <a:lnTo>
                    <a:pt x="97" y="278"/>
                  </a:lnTo>
                  <a:lnTo>
                    <a:pt x="111" y="284"/>
                  </a:lnTo>
                  <a:lnTo>
                    <a:pt x="124" y="288"/>
                  </a:lnTo>
                  <a:lnTo>
                    <a:pt x="139" y="291"/>
                  </a:lnTo>
                  <a:lnTo>
                    <a:pt x="154" y="292"/>
                  </a:lnTo>
                  <a:lnTo>
                    <a:pt x="167" y="291"/>
                  </a:lnTo>
                  <a:lnTo>
                    <a:pt x="181" y="289"/>
                  </a:lnTo>
                  <a:lnTo>
                    <a:pt x="193" y="286"/>
                  </a:lnTo>
                  <a:lnTo>
                    <a:pt x="205" y="282"/>
                  </a:lnTo>
                  <a:lnTo>
                    <a:pt x="217" y="276"/>
                  </a:lnTo>
                  <a:lnTo>
                    <a:pt x="227" y="270"/>
                  </a:lnTo>
                  <a:lnTo>
                    <a:pt x="236" y="265"/>
                  </a:lnTo>
                  <a:lnTo>
                    <a:pt x="243" y="258"/>
                  </a:lnTo>
                  <a:lnTo>
                    <a:pt x="243" y="199"/>
                  </a:lnTo>
                  <a:lnTo>
                    <a:pt x="154" y="199"/>
                  </a:lnTo>
                  <a:close/>
                </a:path>
              </a:pathLst>
            </a:custGeom>
            <a:solidFill>
              <a:srgbClr val="ffff00"/>
            </a:solidFill>
            <a:ln w="0">
              <a:noFill/>
            </a:ln>
          </p:spPr>
          <p:style>
            <a:lnRef idx="0"/>
            <a:fillRef idx="0"/>
            <a:effectRef idx="0"/>
            <a:fontRef idx="minor"/>
          </p:style>
          <p:txBody>
            <a:bodyPr lIns="90000" rIns="90000" tIns="5040" bIns="5040" anchor="t">
              <a:noAutofit/>
            </a:bodyPr>
            <a:p>
              <a:pPr>
                <a:lnSpc>
                  <a:spcPct val="100000"/>
                </a:lnSpc>
              </a:pPr>
              <a:endParaRPr b="0" lang="en-US" sz="1800" spc="-1" strike="noStrike">
                <a:solidFill>
                  <a:srgbClr val="ffff00"/>
                </a:solidFill>
                <a:latin typeface="Arial"/>
                <a:ea typeface="宋体"/>
              </a:endParaRPr>
            </a:p>
          </p:txBody>
        </p:sp>
        <p:sp>
          <p:nvSpPr>
            <p:cNvPr id="569" name="Freeform 71"/>
            <p:cNvSpPr/>
            <p:nvPr/>
          </p:nvSpPr>
          <p:spPr>
            <a:xfrm>
              <a:off x="4599000" y="9660240"/>
              <a:ext cx="42120" cy="49680"/>
            </a:xfrm>
            <a:custGeom>
              <a:avLst/>
              <a:gdLst>
                <a:gd name="textAreaLeft" fmla="*/ 0 w 42120"/>
                <a:gd name="textAreaRight" fmla="*/ 42480 w 42120"/>
                <a:gd name="textAreaTop" fmla="*/ 0 h 49680"/>
                <a:gd name="textAreaBottom" fmla="*/ 50040 h 49680"/>
              </a:gdLst>
              <a:ahLst/>
              <a:rect l="textAreaLeft" t="textAreaTop" r="textAreaRight" b="textAreaBottom"/>
              <a:pathLst>
                <a:path w="270" h="330">
                  <a:moveTo>
                    <a:pt x="229" y="213"/>
                  </a:moveTo>
                  <a:lnTo>
                    <a:pt x="270" y="223"/>
                  </a:lnTo>
                  <a:lnTo>
                    <a:pt x="266" y="236"/>
                  </a:lnTo>
                  <a:lnTo>
                    <a:pt x="262" y="248"/>
                  </a:lnTo>
                  <a:lnTo>
                    <a:pt x="257" y="258"/>
                  </a:lnTo>
                  <a:lnTo>
                    <a:pt x="252" y="269"/>
                  </a:lnTo>
                  <a:lnTo>
                    <a:pt x="246" y="278"/>
                  </a:lnTo>
                  <a:lnTo>
                    <a:pt x="239" y="288"/>
                  </a:lnTo>
                  <a:lnTo>
                    <a:pt x="231" y="295"/>
                  </a:lnTo>
                  <a:lnTo>
                    <a:pt x="224" y="303"/>
                  </a:lnTo>
                  <a:lnTo>
                    <a:pt x="216" y="309"/>
                  </a:lnTo>
                  <a:lnTo>
                    <a:pt x="207" y="314"/>
                  </a:lnTo>
                  <a:lnTo>
                    <a:pt x="197" y="320"/>
                  </a:lnTo>
                  <a:lnTo>
                    <a:pt x="187" y="323"/>
                  </a:lnTo>
                  <a:lnTo>
                    <a:pt x="177" y="326"/>
                  </a:lnTo>
                  <a:lnTo>
                    <a:pt x="166" y="328"/>
                  </a:lnTo>
                  <a:lnTo>
                    <a:pt x="155" y="329"/>
                  </a:lnTo>
                  <a:lnTo>
                    <a:pt x="143" y="330"/>
                  </a:lnTo>
                  <a:lnTo>
                    <a:pt x="131" y="329"/>
                  </a:lnTo>
                  <a:lnTo>
                    <a:pt x="120" y="329"/>
                  </a:lnTo>
                  <a:lnTo>
                    <a:pt x="109" y="327"/>
                  </a:lnTo>
                  <a:lnTo>
                    <a:pt x="99" y="325"/>
                  </a:lnTo>
                  <a:lnTo>
                    <a:pt x="89" y="322"/>
                  </a:lnTo>
                  <a:lnTo>
                    <a:pt x="80" y="319"/>
                  </a:lnTo>
                  <a:lnTo>
                    <a:pt x="71" y="314"/>
                  </a:lnTo>
                  <a:lnTo>
                    <a:pt x="63" y="309"/>
                  </a:lnTo>
                  <a:lnTo>
                    <a:pt x="56" y="304"/>
                  </a:lnTo>
                  <a:lnTo>
                    <a:pt x="49" y="298"/>
                  </a:lnTo>
                  <a:lnTo>
                    <a:pt x="42" y="290"/>
                  </a:lnTo>
                  <a:lnTo>
                    <a:pt x="36" y="284"/>
                  </a:lnTo>
                  <a:lnTo>
                    <a:pt x="30" y="275"/>
                  </a:lnTo>
                  <a:lnTo>
                    <a:pt x="25" y="267"/>
                  </a:lnTo>
                  <a:lnTo>
                    <a:pt x="21" y="257"/>
                  </a:lnTo>
                  <a:lnTo>
                    <a:pt x="16" y="248"/>
                  </a:lnTo>
                  <a:lnTo>
                    <a:pt x="12" y="238"/>
                  </a:lnTo>
                  <a:lnTo>
                    <a:pt x="9" y="228"/>
                  </a:lnTo>
                  <a:lnTo>
                    <a:pt x="7" y="217"/>
                  </a:lnTo>
                  <a:lnTo>
                    <a:pt x="5" y="206"/>
                  </a:lnTo>
                  <a:lnTo>
                    <a:pt x="3" y="196"/>
                  </a:lnTo>
                  <a:lnTo>
                    <a:pt x="2" y="185"/>
                  </a:lnTo>
                  <a:lnTo>
                    <a:pt x="0" y="174"/>
                  </a:lnTo>
                  <a:lnTo>
                    <a:pt x="0" y="162"/>
                  </a:lnTo>
                  <a:lnTo>
                    <a:pt x="0" y="150"/>
                  </a:lnTo>
                  <a:lnTo>
                    <a:pt x="2" y="139"/>
                  </a:lnTo>
                  <a:lnTo>
                    <a:pt x="3" y="127"/>
                  </a:lnTo>
                  <a:lnTo>
                    <a:pt x="5" y="115"/>
                  </a:lnTo>
                  <a:lnTo>
                    <a:pt x="7" y="105"/>
                  </a:lnTo>
                  <a:lnTo>
                    <a:pt x="10" y="95"/>
                  </a:lnTo>
                  <a:lnTo>
                    <a:pt x="14" y="85"/>
                  </a:lnTo>
                  <a:lnTo>
                    <a:pt x="18" y="75"/>
                  </a:lnTo>
                  <a:lnTo>
                    <a:pt x="23" y="67"/>
                  </a:lnTo>
                  <a:lnTo>
                    <a:pt x="28" y="58"/>
                  </a:lnTo>
                  <a:lnTo>
                    <a:pt x="34" y="50"/>
                  </a:lnTo>
                  <a:lnTo>
                    <a:pt x="41" y="42"/>
                  </a:lnTo>
                  <a:lnTo>
                    <a:pt x="47" y="36"/>
                  </a:lnTo>
                  <a:lnTo>
                    <a:pt x="55" y="29"/>
                  </a:lnTo>
                  <a:lnTo>
                    <a:pt x="62" y="24"/>
                  </a:lnTo>
                  <a:lnTo>
                    <a:pt x="70" y="19"/>
                  </a:lnTo>
                  <a:lnTo>
                    <a:pt x="79" y="15"/>
                  </a:lnTo>
                  <a:lnTo>
                    <a:pt x="87" y="10"/>
                  </a:lnTo>
                  <a:lnTo>
                    <a:pt x="96" y="7"/>
                  </a:lnTo>
                  <a:lnTo>
                    <a:pt x="105" y="4"/>
                  </a:lnTo>
                  <a:lnTo>
                    <a:pt x="115" y="2"/>
                  </a:lnTo>
                  <a:lnTo>
                    <a:pt x="124" y="1"/>
                  </a:lnTo>
                  <a:lnTo>
                    <a:pt x="134" y="0"/>
                  </a:lnTo>
                  <a:lnTo>
                    <a:pt x="143" y="0"/>
                  </a:lnTo>
                  <a:lnTo>
                    <a:pt x="155" y="0"/>
                  </a:lnTo>
                  <a:lnTo>
                    <a:pt x="166" y="1"/>
                  </a:lnTo>
                  <a:lnTo>
                    <a:pt x="176" y="3"/>
                  </a:lnTo>
                  <a:lnTo>
                    <a:pt x="186" y="5"/>
                  </a:lnTo>
                  <a:lnTo>
                    <a:pt x="195" y="9"/>
                  </a:lnTo>
                  <a:lnTo>
                    <a:pt x="204" y="14"/>
                  </a:lnTo>
                  <a:lnTo>
                    <a:pt x="212" y="18"/>
                  </a:lnTo>
                  <a:lnTo>
                    <a:pt x="221" y="24"/>
                  </a:lnTo>
                  <a:lnTo>
                    <a:pt x="228" y="30"/>
                  </a:lnTo>
                  <a:lnTo>
                    <a:pt x="236" y="37"/>
                  </a:lnTo>
                  <a:lnTo>
                    <a:pt x="242" y="45"/>
                  </a:lnTo>
                  <a:lnTo>
                    <a:pt x="247" y="53"/>
                  </a:lnTo>
                  <a:lnTo>
                    <a:pt x="253" y="62"/>
                  </a:lnTo>
                  <a:lnTo>
                    <a:pt x="257" y="72"/>
                  </a:lnTo>
                  <a:lnTo>
                    <a:pt x="261" y="81"/>
                  </a:lnTo>
                  <a:lnTo>
                    <a:pt x="264" y="93"/>
                  </a:lnTo>
                  <a:lnTo>
                    <a:pt x="225" y="103"/>
                  </a:lnTo>
                  <a:lnTo>
                    <a:pt x="219" y="86"/>
                  </a:lnTo>
                  <a:lnTo>
                    <a:pt x="211" y="72"/>
                  </a:lnTo>
                  <a:lnTo>
                    <a:pt x="208" y="67"/>
                  </a:lnTo>
                  <a:lnTo>
                    <a:pt x="203" y="61"/>
                  </a:lnTo>
                  <a:lnTo>
                    <a:pt x="199" y="56"/>
                  </a:lnTo>
                  <a:lnTo>
                    <a:pt x="194" y="52"/>
                  </a:lnTo>
                  <a:lnTo>
                    <a:pt x="189" y="47"/>
                  </a:lnTo>
                  <a:lnTo>
                    <a:pt x="183" y="44"/>
                  </a:lnTo>
                  <a:lnTo>
                    <a:pt x="177" y="42"/>
                  </a:lnTo>
                  <a:lnTo>
                    <a:pt x="171" y="40"/>
                  </a:lnTo>
                  <a:lnTo>
                    <a:pt x="165" y="38"/>
                  </a:lnTo>
                  <a:lnTo>
                    <a:pt x="157" y="37"/>
                  </a:lnTo>
                  <a:lnTo>
                    <a:pt x="151" y="36"/>
                  </a:lnTo>
                  <a:lnTo>
                    <a:pt x="143" y="36"/>
                  </a:lnTo>
                  <a:lnTo>
                    <a:pt x="135" y="36"/>
                  </a:lnTo>
                  <a:lnTo>
                    <a:pt x="127" y="37"/>
                  </a:lnTo>
                  <a:lnTo>
                    <a:pt x="118" y="38"/>
                  </a:lnTo>
                  <a:lnTo>
                    <a:pt x="111" y="40"/>
                  </a:lnTo>
                  <a:lnTo>
                    <a:pt x="103" y="42"/>
                  </a:lnTo>
                  <a:lnTo>
                    <a:pt x="97" y="45"/>
                  </a:lnTo>
                  <a:lnTo>
                    <a:pt x="91" y="50"/>
                  </a:lnTo>
                  <a:lnTo>
                    <a:pt x="84" y="53"/>
                  </a:lnTo>
                  <a:lnTo>
                    <a:pt x="79" y="58"/>
                  </a:lnTo>
                  <a:lnTo>
                    <a:pt x="74" y="63"/>
                  </a:lnTo>
                  <a:lnTo>
                    <a:pt x="68" y="69"/>
                  </a:lnTo>
                  <a:lnTo>
                    <a:pt x="64" y="74"/>
                  </a:lnTo>
                  <a:lnTo>
                    <a:pt x="61" y="80"/>
                  </a:lnTo>
                  <a:lnTo>
                    <a:pt x="57" y="87"/>
                  </a:lnTo>
                  <a:lnTo>
                    <a:pt x="53" y="93"/>
                  </a:lnTo>
                  <a:lnTo>
                    <a:pt x="51" y="100"/>
                  </a:lnTo>
                  <a:lnTo>
                    <a:pt x="47" y="115"/>
                  </a:lnTo>
                  <a:lnTo>
                    <a:pt x="44" y="131"/>
                  </a:lnTo>
                  <a:lnTo>
                    <a:pt x="42" y="146"/>
                  </a:lnTo>
                  <a:lnTo>
                    <a:pt x="42" y="162"/>
                  </a:lnTo>
                  <a:lnTo>
                    <a:pt x="43" y="182"/>
                  </a:lnTo>
                  <a:lnTo>
                    <a:pt x="45" y="200"/>
                  </a:lnTo>
                  <a:lnTo>
                    <a:pt x="48" y="217"/>
                  </a:lnTo>
                  <a:lnTo>
                    <a:pt x="53" y="233"/>
                  </a:lnTo>
                  <a:lnTo>
                    <a:pt x="56" y="240"/>
                  </a:lnTo>
                  <a:lnTo>
                    <a:pt x="60" y="248"/>
                  </a:lnTo>
                  <a:lnTo>
                    <a:pt x="63" y="254"/>
                  </a:lnTo>
                  <a:lnTo>
                    <a:pt x="67" y="260"/>
                  </a:lnTo>
                  <a:lnTo>
                    <a:pt x="73" y="266"/>
                  </a:lnTo>
                  <a:lnTo>
                    <a:pt x="77" y="270"/>
                  </a:lnTo>
                  <a:lnTo>
                    <a:pt x="82" y="275"/>
                  </a:lnTo>
                  <a:lnTo>
                    <a:pt x="88" y="278"/>
                  </a:lnTo>
                  <a:lnTo>
                    <a:pt x="100" y="286"/>
                  </a:lnTo>
                  <a:lnTo>
                    <a:pt x="113" y="290"/>
                  </a:lnTo>
                  <a:lnTo>
                    <a:pt x="127" y="293"/>
                  </a:lnTo>
                  <a:lnTo>
                    <a:pt x="140" y="294"/>
                  </a:lnTo>
                  <a:lnTo>
                    <a:pt x="149" y="293"/>
                  </a:lnTo>
                  <a:lnTo>
                    <a:pt x="156" y="292"/>
                  </a:lnTo>
                  <a:lnTo>
                    <a:pt x="164" y="291"/>
                  </a:lnTo>
                  <a:lnTo>
                    <a:pt x="171" y="289"/>
                  </a:lnTo>
                  <a:lnTo>
                    <a:pt x="178" y="286"/>
                  </a:lnTo>
                  <a:lnTo>
                    <a:pt x="185" y="283"/>
                  </a:lnTo>
                  <a:lnTo>
                    <a:pt x="191" y="278"/>
                  </a:lnTo>
                  <a:lnTo>
                    <a:pt x="197" y="273"/>
                  </a:lnTo>
                  <a:lnTo>
                    <a:pt x="203" y="268"/>
                  </a:lnTo>
                  <a:lnTo>
                    <a:pt x="208" y="261"/>
                  </a:lnTo>
                  <a:lnTo>
                    <a:pt x="212" y="255"/>
                  </a:lnTo>
                  <a:lnTo>
                    <a:pt x="217" y="248"/>
                  </a:lnTo>
                  <a:lnTo>
                    <a:pt x="221" y="240"/>
                  </a:lnTo>
                  <a:lnTo>
                    <a:pt x="224" y="232"/>
                  </a:lnTo>
                  <a:lnTo>
                    <a:pt x="227" y="222"/>
                  </a:lnTo>
                  <a:lnTo>
                    <a:pt x="229" y="213"/>
                  </a:lnTo>
                  <a:close/>
                </a:path>
              </a:pathLst>
            </a:custGeom>
            <a:solidFill>
              <a:srgbClr val="ffff00"/>
            </a:solidFill>
            <a:ln w="0">
              <a:noFill/>
            </a:ln>
          </p:spPr>
          <p:style>
            <a:lnRef idx="0"/>
            <a:fillRef idx="0"/>
            <a:effectRef idx="0"/>
            <a:fontRef idx="minor"/>
          </p:style>
          <p:txBody>
            <a:bodyPr lIns="90000" rIns="90000" tIns="5040" bIns="5040" anchor="t">
              <a:noAutofit/>
            </a:bodyPr>
            <a:p>
              <a:pPr>
                <a:lnSpc>
                  <a:spcPct val="100000"/>
                </a:lnSpc>
              </a:pPr>
              <a:endParaRPr b="0" lang="en-US" sz="1800" spc="-1" strike="noStrike">
                <a:solidFill>
                  <a:srgbClr val="ffff00"/>
                </a:solidFill>
                <a:latin typeface="Arial"/>
                <a:ea typeface="宋体"/>
              </a:endParaRPr>
            </a:p>
          </p:txBody>
        </p:sp>
        <p:sp>
          <p:nvSpPr>
            <p:cNvPr id="570" name="Freeform 72"/>
            <p:cNvSpPr/>
            <p:nvPr/>
          </p:nvSpPr>
          <p:spPr>
            <a:xfrm>
              <a:off x="4651560" y="9660240"/>
              <a:ext cx="46440" cy="49680"/>
            </a:xfrm>
            <a:custGeom>
              <a:avLst/>
              <a:gdLst>
                <a:gd name="textAreaLeft" fmla="*/ 0 w 46440"/>
                <a:gd name="textAreaRight" fmla="*/ 46800 w 46440"/>
                <a:gd name="textAreaTop" fmla="*/ 0 h 49680"/>
                <a:gd name="textAreaBottom" fmla="*/ 50040 h 49680"/>
              </a:gdLst>
              <a:ahLst/>
              <a:rect l="textAreaLeft" t="textAreaTop" r="textAreaRight" b="textAreaBottom"/>
              <a:pathLst>
                <a:path w="291" h="331">
                  <a:moveTo>
                    <a:pt x="0" y="170"/>
                  </a:moveTo>
                  <a:lnTo>
                    <a:pt x="0" y="150"/>
                  </a:lnTo>
                  <a:lnTo>
                    <a:pt x="2" y="132"/>
                  </a:lnTo>
                  <a:lnTo>
                    <a:pt x="5" y="115"/>
                  </a:lnTo>
                  <a:lnTo>
                    <a:pt x="10" y="99"/>
                  </a:lnTo>
                  <a:lnTo>
                    <a:pt x="16" y="83"/>
                  </a:lnTo>
                  <a:lnTo>
                    <a:pt x="22" y="70"/>
                  </a:lnTo>
                  <a:lnTo>
                    <a:pt x="31" y="57"/>
                  </a:lnTo>
                  <a:lnTo>
                    <a:pt x="40" y="45"/>
                  </a:lnTo>
                  <a:lnTo>
                    <a:pt x="51" y="35"/>
                  </a:lnTo>
                  <a:lnTo>
                    <a:pt x="63" y="25"/>
                  </a:lnTo>
                  <a:lnTo>
                    <a:pt x="74" y="18"/>
                  </a:lnTo>
                  <a:lnTo>
                    <a:pt x="87" y="11"/>
                  </a:lnTo>
                  <a:lnTo>
                    <a:pt x="101" y="6"/>
                  </a:lnTo>
                  <a:lnTo>
                    <a:pt x="114" y="3"/>
                  </a:lnTo>
                  <a:lnTo>
                    <a:pt x="129" y="1"/>
                  </a:lnTo>
                  <a:lnTo>
                    <a:pt x="145" y="0"/>
                  </a:lnTo>
                  <a:lnTo>
                    <a:pt x="156" y="1"/>
                  </a:lnTo>
                  <a:lnTo>
                    <a:pt x="166" y="2"/>
                  </a:lnTo>
                  <a:lnTo>
                    <a:pt x="176" y="3"/>
                  </a:lnTo>
                  <a:lnTo>
                    <a:pt x="185" y="5"/>
                  </a:lnTo>
                  <a:lnTo>
                    <a:pt x="195" y="8"/>
                  </a:lnTo>
                  <a:lnTo>
                    <a:pt x="204" y="12"/>
                  </a:lnTo>
                  <a:lnTo>
                    <a:pt x="213" y="17"/>
                  </a:lnTo>
                  <a:lnTo>
                    <a:pt x="221" y="21"/>
                  </a:lnTo>
                  <a:lnTo>
                    <a:pt x="230" y="27"/>
                  </a:lnTo>
                  <a:lnTo>
                    <a:pt x="237" y="33"/>
                  </a:lnTo>
                  <a:lnTo>
                    <a:pt x="245" y="40"/>
                  </a:lnTo>
                  <a:lnTo>
                    <a:pt x="251" y="46"/>
                  </a:lnTo>
                  <a:lnTo>
                    <a:pt x="257" y="55"/>
                  </a:lnTo>
                  <a:lnTo>
                    <a:pt x="264" y="62"/>
                  </a:lnTo>
                  <a:lnTo>
                    <a:pt x="268" y="71"/>
                  </a:lnTo>
                  <a:lnTo>
                    <a:pt x="273" y="80"/>
                  </a:lnTo>
                  <a:lnTo>
                    <a:pt x="278" y="90"/>
                  </a:lnTo>
                  <a:lnTo>
                    <a:pt x="281" y="100"/>
                  </a:lnTo>
                  <a:lnTo>
                    <a:pt x="284" y="110"/>
                  </a:lnTo>
                  <a:lnTo>
                    <a:pt x="286" y="120"/>
                  </a:lnTo>
                  <a:lnTo>
                    <a:pt x="288" y="131"/>
                  </a:lnTo>
                  <a:lnTo>
                    <a:pt x="290" y="143"/>
                  </a:lnTo>
                  <a:lnTo>
                    <a:pt x="290" y="154"/>
                  </a:lnTo>
                  <a:lnTo>
                    <a:pt x="291" y="166"/>
                  </a:lnTo>
                  <a:lnTo>
                    <a:pt x="290" y="178"/>
                  </a:lnTo>
                  <a:lnTo>
                    <a:pt x="290" y="189"/>
                  </a:lnTo>
                  <a:lnTo>
                    <a:pt x="288" y="201"/>
                  </a:lnTo>
                  <a:lnTo>
                    <a:pt x="286" y="213"/>
                  </a:lnTo>
                  <a:lnTo>
                    <a:pt x="284" y="223"/>
                  </a:lnTo>
                  <a:lnTo>
                    <a:pt x="281" y="234"/>
                  </a:lnTo>
                  <a:lnTo>
                    <a:pt x="277" y="243"/>
                  </a:lnTo>
                  <a:lnTo>
                    <a:pt x="272" y="253"/>
                  </a:lnTo>
                  <a:lnTo>
                    <a:pt x="267" y="262"/>
                  </a:lnTo>
                  <a:lnTo>
                    <a:pt x="262" y="271"/>
                  </a:lnTo>
                  <a:lnTo>
                    <a:pt x="256" y="279"/>
                  </a:lnTo>
                  <a:lnTo>
                    <a:pt x="250" y="287"/>
                  </a:lnTo>
                  <a:lnTo>
                    <a:pt x="243" y="294"/>
                  </a:lnTo>
                  <a:lnTo>
                    <a:pt x="235" y="301"/>
                  </a:lnTo>
                  <a:lnTo>
                    <a:pt x="228" y="306"/>
                  </a:lnTo>
                  <a:lnTo>
                    <a:pt x="219" y="311"/>
                  </a:lnTo>
                  <a:lnTo>
                    <a:pt x="211" y="315"/>
                  </a:lnTo>
                  <a:lnTo>
                    <a:pt x="201" y="320"/>
                  </a:lnTo>
                  <a:lnTo>
                    <a:pt x="193" y="323"/>
                  </a:lnTo>
                  <a:lnTo>
                    <a:pt x="183" y="326"/>
                  </a:lnTo>
                  <a:lnTo>
                    <a:pt x="174" y="328"/>
                  </a:lnTo>
                  <a:lnTo>
                    <a:pt x="165" y="330"/>
                  </a:lnTo>
                  <a:lnTo>
                    <a:pt x="155" y="330"/>
                  </a:lnTo>
                  <a:lnTo>
                    <a:pt x="145" y="331"/>
                  </a:lnTo>
                  <a:lnTo>
                    <a:pt x="135" y="330"/>
                  </a:lnTo>
                  <a:lnTo>
                    <a:pt x="124" y="329"/>
                  </a:lnTo>
                  <a:lnTo>
                    <a:pt x="114" y="328"/>
                  </a:lnTo>
                  <a:lnTo>
                    <a:pt x="105" y="326"/>
                  </a:lnTo>
                  <a:lnTo>
                    <a:pt x="95" y="323"/>
                  </a:lnTo>
                  <a:lnTo>
                    <a:pt x="86" y="319"/>
                  </a:lnTo>
                  <a:lnTo>
                    <a:pt x="77" y="314"/>
                  </a:lnTo>
                  <a:lnTo>
                    <a:pt x="69" y="309"/>
                  </a:lnTo>
                  <a:lnTo>
                    <a:pt x="60" y="304"/>
                  </a:lnTo>
                  <a:lnTo>
                    <a:pt x="52" y="297"/>
                  </a:lnTo>
                  <a:lnTo>
                    <a:pt x="46" y="291"/>
                  </a:lnTo>
                  <a:lnTo>
                    <a:pt x="38" y="284"/>
                  </a:lnTo>
                  <a:lnTo>
                    <a:pt x="33" y="276"/>
                  </a:lnTo>
                  <a:lnTo>
                    <a:pt x="27" y="268"/>
                  </a:lnTo>
                  <a:lnTo>
                    <a:pt x="21" y="259"/>
                  </a:lnTo>
                  <a:lnTo>
                    <a:pt x="17" y="250"/>
                  </a:lnTo>
                  <a:lnTo>
                    <a:pt x="13" y="240"/>
                  </a:lnTo>
                  <a:lnTo>
                    <a:pt x="10" y="231"/>
                  </a:lnTo>
                  <a:lnTo>
                    <a:pt x="6" y="221"/>
                  </a:lnTo>
                  <a:lnTo>
                    <a:pt x="4" y="211"/>
                  </a:lnTo>
                  <a:lnTo>
                    <a:pt x="2" y="201"/>
                  </a:lnTo>
                  <a:lnTo>
                    <a:pt x="1" y="190"/>
                  </a:lnTo>
                  <a:lnTo>
                    <a:pt x="0" y="180"/>
                  </a:lnTo>
                  <a:lnTo>
                    <a:pt x="0" y="170"/>
                  </a:lnTo>
                  <a:close/>
                  <a:moveTo>
                    <a:pt x="41" y="170"/>
                  </a:moveTo>
                  <a:lnTo>
                    <a:pt x="41" y="185"/>
                  </a:lnTo>
                  <a:lnTo>
                    <a:pt x="43" y="198"/>
                  </a:lnTo>
                  <a:lnTo>
                    <a:pt x="46" y="211"/>
                  </a:lnTo>
                  <a:lnTo>
                    <a:pt x="49" y="222"/>
                  </a:lnTo>
                  <a:lnTo>
                    <a:pt x="53" y="233"/>
                  </a:lnTo>
                  <a:lnTo>
                    <a:pt x="57" y="243"/>
                  </a:lnTo>
                  <a:lnTo>
                    <a:pt x="64" y="253"/>
                  </a:lnTo>
                  <a:lnTo>
                    <a:pt x="71" y="261"/>
                  </a:lnTo>
                  <a:lnTo>
                    <a:pt x="78" y="270"/>
                  </a:lnTo>
                  <a:lnTo>
                    <a:pt x="87" y="276"/>
                  </a:lnTo>
                  <a:lnTo>
                    <a:pt x="95" y="282"/>
                  </a:lnTo>
                  <a:lnTo>
                    <a:pt x="104" y="287"/>
                  </a:lnTo>
                  <a:lnTo>
                    <a:pt x="113" y="290"/>
                  </a:lnTo>
                  <a:lnTo>
                    <a:pt x="124" y="293"/>
                  </a:lnTo>
                  <a:lnTo>
                    <a:pt x="135" y="294"/>
                  </a:lnTo>
                  <a:lnTo>
                    <a:pt x="145" y="295"/>
                  </a:lnTo>
                  <a:lnTo>
                    <a:pt x="156" y="294"/>
                  </a:lnTo>
                  <a:lnTo>
                    <a:pt x="166" y="293"/>
                  </a:lnTo>
                  <a:lnTo>
                    <a:pt x="177" y="290"/>
                  </a:lnTo>
                  <a:lnTo>
                    <a:pt x="186" y="287"/>
                  </a:lnTo>
                  <a:lnTo>
                    <a:pt x="196" y="282"/>
                  </a:lnTo>
                  <a:lnTo>
                    <a:pt x="204" y="276"/>
                  </a:lnTo>
                  <a:lnTo>
                    <a:pt x="212" y="269"/>
                  </a:lnTo>
                  <a:lnTo>
                    <a:pt x="220" y="261"/>
                  </a:lnTo>
                  <a:lnTo>
                    <a:pt x="227" y="253"/>
                  </a:lnTo>
                  <a:lnTo>
                    <a:pt x="233" y="242"/>
                  </a:lnTo>
                  <a:lnTo>
                    <a:pt x="238" y="232"/>
                  </a:lnTo>
                  <a:lnTo>
                    <a:pt x="242" y="221"/>
                  </a:lnTo>
                  <a:lnTo>
                    <a:pt x="245" y="208"/>
                  </a:lnTo>
                  <a:lnTo>
                    <a:pt x="248" y="195"/>
                  </a:lnTo>
                  <a:lnTo>
                    <a:pt x="249" y="181"/>
                  </a:lnTo>
                  <a:lnTo>
                    <a:pt x="249" y="166"/>
                  </a:lnTo>
                  <a:lnTo>
                    <a:pt x="249" y="147"/>
                  </a:lnTo>
                  <a:lnTo>
                    <a:pt x="246" y="129"/>
                  </a:lnTo>
                  <a:lnTo>
                    <a:pt x="243" y="113"/>
                  </a:lnTo>
                  <a:lnTo>
                    <a:pt x="237" y="98"/>
                  </a:lnTo>
                  <a:lnTo>
                    <a:pt x="230" y="84"/>
                  </a:lnTo>
                  <a:lnTo>
                    <a:pt x="221" y="72"/>
                  </a:lnTo>
                  <a:lnTo>
                    <a:pt x="216" y="66"/>
                  </a:lnTo>
                  <a:lnTo>
                    <a:pt x="212" y="61"/>
                  </a:lnTo>
                  <a:lnTo>
                    <a:pt x="206" y="57"/>
                  </a:lnTo>
                  <a:lnTo>
                    <a:pt x="200" y="53"/>
                  </a:lnTo>
                  <a:lnTo>
                    <a:pt x="188" y="45"/>
                  </a:lnTo>
                  <a:lnTo>
                    <a:pt x="175" y="41"/>
                  </a:lnTo>
                  <a:lnTo>
                    <a:pt x="160" y="38"/>
                  </a:lnTo>
                  <a:lnTo>
                    <a:pt x="146" y="37"/>
                  </a:lnTo>
                  <a:lnTo>
                    <a:pt x="136" y="37"/>
                  </a:lnTo>
                  <a:lnTo>
                    <a:pt x="125" y="39"/>
                  </a:lnTo>
                  <a:lnTo>
                    <a:pt x="116" y="41"/>
                  </a:lnTo>
                  <a:lnTo>
                    <a:pt x="106" y="44"/>
                  </a:lnTo>
                  <a:lnTo>
                    <a:pt x="96" y="48"/>
                  </a:lnTo>
                  <a:lnTo>
                    <a:pt x="88" y="54"/>
                  </a:lnTo>
                  <a:lnTo>
                    <a:pt x="80" y="60"/>
                  </a:lnTo>
                  <a:lnTo>
                    <a:pt x="72" y="68"/>
                  </a:lnTo>
                  <a:lnTo>
                    <a:pt x="65" y="76"/>
                  </a:lnTo>
                  <a:lnTo>
                    <a:pt x="58" y="86"/>
                  </a:lnTo>
                  <a:lnTo>
                    <a:pt x="53" y="96"/>
                  </a:lnTo>
                  <a:lnTo>
                    <a:pt x="49" y="109"/>
                  </a:lnTo>
                  <a:lnTo>
                    <a:pt x="46" y="123"/>
                  </a:lnTo>
                  <a:lnTo>
                    <a:pt x="43" y="137"/>
                  </a:lnTo>
                  <a:lnTo>
                    <a:pt x="41" y="153"/>
                  </a:lnTo>
                  <a:lnTo>
                    <a:pt x="41" y="170"/>
                  </a:lnTo>
                  <a:close/>
                </a:path>
              </a:pathLst>
            </a:custGeom>
            <a:solidFill>
              <a:srgbClr val="ffff00"/>
            </a:solidFill>
            <a:ln w="0">
              <a:noFill/>
            </a:ln>
          </p:spPr>
          <p:style>
            <a:lnRef idx="0"/>
            <a:fillRef idx="0"/>
            <a:effectRef idx="0"/>
            <a:fontRef idx="minor"/>
          </p:style>
          <p:txBody>
            <a:bodyPr lIns="90000" rIns="90000" tIns="5040" bIns="5040" anchor="t">
              <a:noAutofit/>
            </a:bodyPr>
            <a:p>
              <a:pPr>
                <a:lnSpc>
                  <a:spcPct val="100000"/>
                </a:lnSpc>
              </a:pPr>
              <a:endParaRPr b="0" lang="en-US" sz="1800" spc="-1" strike="noStrike">
                <a:solidFill>
                  <a:srgbClr val="ffff00"/>
                </a:solidFill>
                <a:latin typeface="Arial"/>
                <a:ea typeface="宋体"/>
              </a:endParaRPr>
            </a:p>
          </p:txBody>
        </p:sp>
        <p:sp>
          <p:nvSpPr>
            <p:cNvPr id="571" name="Freeform 73"/>
            <p:cNvSpPr/>
            <p:nvPr/>
          </p:nvSpPr>
          <p:spPr>
            <a:xfrm>
              <a:off x="4768920" y="9661320"/>
              <a:ext cx="29880" cy="48600"/>
            </a:xfrm>
            <a:custGeom>
              <a:avLst/>
              <a:gdLst>
                <a:gd name="textAreaLeft" fmla="*/ 0 w 29880"/>
                <a:gd name="textAreaRight" fmla="*/ 30240 w 29880"/>
                <a:gd name="textAreaTop" fmla="*/ 0 h 48600"/>
                <a:gd name="textAreaBottom" fmla="*/ 48960 h 48600"/>
              </a:gdLst>
              <a:ahLst/>
              <a:rect l="textAreaLeft" t="textAreaTop" r="textAreaRight" b="textAreaBottom"/>
              <a:pathLst>
                <a:path w="191" h="320">
                  <a:moveTo>
                    <a:pt x="0" y="320"/>
                  </a:moveTo>
                  <a:lnTo>
                    <a:pt x="0" y="0"/>
                  </a:lnTo>
                  <a:lnTo>
                    <a:pt x="40" y="0"/>
                  </a:lnTo>
                  <a:lnTo>
                    <a:pt x="40" y="282"/>
                  </a:lnTo>
                  <a:lnTo>
                    <a:pt x="191" y="282"/>
                  </a:lnTo>
                  <a:lnTo>
                    <a:pt x="191" y="320"/>
                  </a:lnTo>
                  <a:lnTo>
                    <a:pt x="0" y="320"/>
                  </a:lnTo>
                  <a:close/>
                </a:path>
              </a:pathLst>
            </a:custGeom>
            <a:solidFill>
              <a:srgbClr val="ffff00"/>
            </a:solidFill>
            <a:ln w="0">
              <a:noFill/>
            </a:ln>
          </p:spPr>
          <p:style>
            <a:lnRef idx="0"/>
            <a:fillRef idx="0"/>
            <a:effectRef idx="0"/>
            <a:fontRef idx="minor"/>
          </p:style>
          <p:txBody>
            <a:bodyPr lIns="90000" rIns="90000" tIns="3960" bIns="3960" anchor="t">
              <a:noAutofit/>
            </a:bodyPr>
            <a:p>
              <a:pPr>
                <a:lnSpc>
                  <a:spcPct val="100000"/>
                </a:lnSpc>
              </a:pPr>
              <a:endParaRPr b="0" lang="en-US" sz="1800" spc="-1" strike="noStrike">
                <a:solidFill>
                  <a:srgbClr val="ffff00"/>
                </a:solidFill>
                <a:latin typeface="Arial"/>
                <a:ea typeface="宋体"/>
              </a:endParaRPr>
            </a:p>
          </p:txBody>
        </p:sp>
        <p:sp>
          <p:nvSpPr>
            <p:cNvPr id="572" name="Freeform 74"/>
            <p:cNvSpPr/>
            <p:nvPr/>
          </p:nvSpPr>
          <p:spPr>
            <a:xfrm>
              <a:off x="4802400" y="9661320"/>
              <a:ext cx="37800" cy="48600"/>
            </a:xfrm>
            <a:custGeom>
              <a:avLst/>
              <a:gdLst>
                <a:gd name="textAreaLeft" fmla="*/ 0 w 37800"/>
                <a:gd name="textAreaRight" fmla="*/ 38160 w 37800"/>
                <a:gd name="textAreaTop" fmla="*/ 0 h 48600"/>
                <a:gd name="textAreaBottom" fmla="*/ 48960 h 48600"/>
              </a:gdLst>
              <a:ahLst/>
              <a:rect l="textAreaLeft" t="textAreaTop" r="textAreaRight" b="textAreaBottom"/>
              <a:pathLst>
                <a:path w="241" h="320">
                  <a:moveTo>
                    <a:pt x="100" y="320"/>
                  </a:moveTo>
                  <a:lnTo>
                    <a:pt x="100" y="37"/>
                  </a:lnTo>
                  <a:lnTo>
                    <a:pt x="0" y="37"/>
                  </a:lnTo>
                  <a:lnTo>
                    <a:pt x="0" y="0"/>
                  </a:lnTo>
                  <a:lnTo>
                    <a:pt x="241" y="0"/>
                  </a:lnTo>
                  <a:lnTo>
                    <a:pt x="241" y="37"/>
                  </a:lnTo>
                  <a:lnTo>
                    <a:pt x="141" y="37"/>
                  </a:lnTo>
                  <a:lnTo>
                    <a:pt x="141" y="320"/>
                  </a:lnTo>
                  <a:lnTo>
                    <a:pt x="100" y="320"/>
                  </a:lnTo>
                  <a:close/>
                </a:path>
              </a:pathLst>
            </a:custGeom>
            <a:solidFill>
              <a:srgbClr val="ffff00"/>
            </a:solidFill>
            <a:ln w="0">
              <a:noFill/>
            </a:ln>
          </p:spPr>
          <p:style>
            <a:lnRef idx="0"/>
            <a:fillRef idx="0"/>
            <a:effectRef idx="0"/>
            <a:fontRef idx="minor"/>
          </p:style>
          <p:txBody>
            <a:bodyPr lIns="90000" rIns="90000" tIns="3960" bIns="3960" anchor="t">
              <a:noAutofit/>
            </a:bodyPr>
            <a:p>
              <a:pPr>
                <a:lnSpc>
                  <a:spcPct val="100000"/>
                </a:lnSpc>
              </a:pPr>
              <a:endParaRPr b="0" lang="en-US" sz="1800" spc="-1" strike="noStrike">
                <a:solidFill>
                  <a:srgbClr val="ffff00"/>
                </a:solidFill>
                <a:latin typeface="Arial"/>
                <a:ea typeface="宋体"/>
              </a:endParaRPr>
            </a:p>
          </p:txBody>
        </p:sp>
        <p:sp>
          <p:nvSpPr>
            <p:cNvPr id="573" name="Freeform 75"/>
            <p:cNvSpPr/>
            <p:nvPr/>
          </p:nvSpPr>
          <p:spPr>
            <a:xfrm>
              <a:off x="4851720" y="9661320"/>
              <a:ext cx="39960" cy="48600"/>
            </a:xfrm>
            <a:custGeom>
              <a:avLst/>
              <a:gdLst>
                <a:gd name="textAreaLeft" fmla="*/ 0 w 39960"/>
                <a:gd name="textAreaRight" fmla="*/ 40320 w 39960"/>
                <a:gd name="textAreaTop" fmla="*/ 0 h 48600"/>
                <a:gd name="textAreaBottom" fmla="*/ 48960 h 48600"/>
              </a:gdLst>
              <a:ahLst/>
              <a:rect l="textAreaLeft" t="textAreaTop" r="textAreaRight" b="textAreaBottom"/>
              <a:pathLst>
                <a:path w="252" h="320">
                  <a:moveTo>
                    <a:pt x="0" y="320"/>
                  </a:moveTo>
                  <a:lnTo>
                    <a:pt x="0" y="0"/>
                  </a:lnTo>
                  <a:lnTo>
                    <a:pt x="105" y="0"/>
                  </a:lnTo>
                  <a:lnTo>
                    <a:pt x="122" y="0"/>
                  </a:lnTo>
                  <a:lnTo>
                    <a:pt x="137" y="1"/>
                  </a:lnTo>
                  <a:lnTo>
                    <a:pt x="149" y="2"/>
                  </a:lnTo>
                  <a:lnTo>
                    <a:pt x="159" y="4"/>
                  </a:lnTo>
                  <a:lnTo>
                    <a:pt x="172" y="9"/>
                  </a:lnTo>
                  <a:lnTo>
                    <a:pt x="183" y="14"/>
                  </a:lnTo>
                  <a:lnTo>
                    <a:pt x="194" y="20"/>
                  </a:lnTo>
                  <a:lnTo>
                    <a:pt x="204" y="28"/>
                  </a:lnTo>
                  <a:lnTo>
                    <a:pt x="215" y="39"/>
                  </a:lnTo>
                  <a:lnTo>
                    <a:pt x="226" y="52"/>
                  </a:lnTo>
                  <a:lnTo>
                    <a:pt x="233" y="66"/>
                  </a:lnTo>
                  <a:lnTo>
                    <a:pt x="240" y="82"/>
                  </a:lnTo>
                  <a:lnTo>
                    <a:pt x="246" y="100"/>
                  </a:lnTo>
                  <a:lnTo>
                    <a:pt x="249" y="118"/>
                  </a:lnTo>
                  <a:lnTo>
                    <a:pt x="251" y="137"/>
                  </a:lnTo>
                  <a:lnTo>
                    <a:pt x="252" y="158"/>
                  </a:lnTo>
                  <a:lnTo>
                    <a:pt x="252" y="176"/>
                  </a:lnTo>
                  <a:lnTo>
                    <a:pt x="250" y="192"/>
                  </a:lnTo>
                  <a:lnTo>
                    <a:pt x="248" y="208"/>
                  </a:lnTo>
                  <a:lnTo>
                    <a:pt x="244" y="223"/>
                  </a:lnTo>
                  <a:lnTo>
                    <a:pt x="239" y="236"/>
                  </a:lnTo>
                  <a:lnTo>
                    <a:pt x="235" y="248"/>
                  </a:lnTo>
                  <a:lnTo>
                    <a:pt x="229" y="260"/>
                  </a:lnTo>
                  <a:lnTo>
                    <a:pt x="223" y="269"/>
                  </a:lnTo>
                  <a:lnTo>
                    <a:pt x="217" y="278"/>
                  </a:lnTo>
                  <a:lnTo>
                    <a:pt x="210" y="286"/>
                  </a:lnTo>
                  <a:lnTo>
                    <a:pt x="202" y="293"/>
                  </a:lnTo>
                  <a:lnTo>
                    <a:pt x="195" y="298"/>
                  </a:lnTo>
                  <a:lnTo>
                    <a:pt x="187" y="303"/>
                  </a:lnTo>
                  <a:lnTo>
                    <a:pt x="179" y="307"/>
                  </a:lnTo>
                  <a:lnTo>
                    <a:pt x="169" y="312"/>
                  </a:lnTo>
                  <a:lnTo>
                    <a:pt x="159" y="314"/>
                  </a:lnTo>
                  <a:lnTo>
                    <a:pt x="148" y="317"/>
                  </a:lnTo>
                  <a:lnTo>
                    <a:pt x="137" y="318"/>
                  </a:lnTo>
                  <a:lnTo>
                    <a:pt x="124" y="319"/>
                  </a:lnTo>
                  <a:lnTo>
                    <a:pt x="110" y="320"/>
                  </a:lnTo>
                  <a:lnTo>
                    <a:pt x="0" y="320"/>
                  </a:lnTo>
                  <a:close/>
                  <a:moveTo>
                    <a:pt x="40" y="282"/>
                  </a:moveTo>
                  <a:lnTo>
                    <a:pt x="106" y="282"/>
                  </a:lnTo>
                  <a:lnTo>
                    <a:pt x="120" y="282"/>
                  </a:lnTo>
                  <a:lnTo>
                    <a:pt x="132" y="281"/>
                  </a:lnTo>
                  <a:lnTo>
                    <a:pt x="143" y="279"/>
                  </a:lnTo>
                  <a:lnTo>
                    <a:pt x="152" y="276"/>
                  </a:lnTo>
                  <a:lnTo>
                    <a:pt x="161" y="272"/>
                  </a:lnTo>
                  <a:lnTo>
                    <a:pt x="168" y="269"/>
                  </a:lnTo>
                  <a:lnTo>
                    <a:pt x="175" y="265"/>
                  </a:lnTo>
                  <a:lnTo>
                    <a:pt x="180" y="260"/>
                  </a:lnTo>
                  <a:lnTo>
                    <a:pt x="186" y="251"/>
                  </a:lnTo>
                  <a:lnTo>
                    <a:pt x="193" y="242"/>
                  </a:lnTo>
                  <a:lnTo>
                    <a:pt x="198" y="231"/>
                  </a:lnTo>
                  <a:lnTo>
                    <a:pt x="202" y="219"/>
                  </a:lnTo>
                  <a:lnTo>
                    <a:pt x="205" y="206"/>
                  </a:lnTo>
                  <a:lnTo>
                    <a:pt x="209" y="191"/>
                  </a:lnTo>
                  <a:lnTo>
                    <a:pt x="210" y="175"/>
                  </a:lnTo>
                  <a:lnTo>
                    <a:pt x="211" y="157"/>
                  </a:lnTo>
                  <a:lnTo>
                    <a:pt x="210" y="145"/>
                  </a:lnTo>
                  <a:lnTo>
                    <a:pt x="210" y="134"/>
                  </a:lnTo>
                  <a:lnTo>
                    <a:pt x="209" y="123"/>
                  </a:lnTo>
                  <a:lnTo>
                    <a:pt x="206" y="113"/>
                  </a:lnTo>
                  <a:lnTo>
                    <a:pt x="204" y="104"/>
                  </a:lnTo>
                  <a:lnTo>
                    <a:pt x="201" y="95"/>
                  </a:lnTo>
                  <a:lnTo>
                    <a:pt x="198" y="87"/>
                  </a:lnTo>
                  <a:lnTo>
                    <a:pt x="195" y="81"/>
                  </a:lnTo>
                  <a:lnTo>
                    <a:pt x="186" y="68"/>
                  </a:lnTo>
                  <a:lnTo>
                    <a:pt x="178" y="57"/>
                  </a:lnTo>
                  <a:lnTo>
                    <a:pt x="173" y="53"/>
                  </a:lnTo>
                  <a:lnTo>
                    <a:pt x="167" y="50"/>
                  </a:lnTo>
                  <a:lnTo>
                    <a:pt x="162" y="47"/>
                  </a:lnTo>
                  <a:lnTo>
                    <a:pt x="157" y="45"/>
                  </a:lnTo>
                  <a:lnTo>
                    <a:pt x="147" y="41"/>
                  </a:lnTo>
                  <a:lnTo>
                    <a:pt x="135" y="39"/>
                  </a:lnTo>
                  <a:lnTo>
                    <a:pt x="121" y="38"/>
                  </a:lnTo>
                  <a:lnTo>
                    <a:pt x="105" y="37"/>
                  </a:lnTo>
                  <a:lnTo>
                    <a:pt x="40" y="37"/>
                  </a:lnTo>
                  <a:lnTo>
                    <a:pt x="40" y="282"/>
                  </a:lnTo>
                  <a:close/>
                </a:path>
              </a:pathLst>
            </a:custGeom>
            <a:solidFill>
              <a:srgbClr val="ffff00"/>
            </a:solidFill>
            <a:ln w="0">
              <a:noFill/>
            </a:ln>
          </p:spPr>
          <p:style>
            <a:lnRef idx="0"/>
            <a:fillRef idx="0"/>
            <a:effectRef idx="0"/>
            <a:fontRef idx="minor"/>
          </p:style>
          <p:txBody>
            <a:bodyPr lIns="90000" rIns="90000" tIns="3960" bIns="3960" anchor="t">
              <a:noAutofit/>
            </a:bodyPr>
            <a:p>
              <a:pPr>
                <a:lnSpc>
                  <a:spcPct val="100000"/>
                </a:lnSpc>
              </a:pPr>
              <a:endParaRPr b="0" lang="en-US" sz="1800" spc="-1" strike="noStrike">
                <a:solidFill>
                  <a:srgbClr val="ffff00"/>
                </a:solidFill>
                <a:latin typeface="Arial"/>
                <a:ea typeface="宋体"/>
              </a:endParaRPr>
            </a:p>
          </p:txBody>
        </p:sp>
        <p:sp>
          <p:nvSpPr>
            <p:cNvPr id="574" name="Freeform 76"/>
            <p:cNvSpPr/>
            <p:nvPr/>
          </p:nvSpPr>
          <p:spPr>
            <a:xfrm>
              <a:off x="4709520" y="9701640"/>
              <a:ext cx="8640" cy="7200"/>
            </a:xfrm>
            <a:custGeom>
              <a:avLst/>
              <a:gdLst>
                <a:gd name="textAreaLeft" fmla="*/ 0 w 8640"/>
                <a:gd name="textAreaRight" fmla="*/ 9000 w 8640"/>
                <a:gd name="textAreaTop" fmla="*/ 0 h 7200"/>
                <a:gd name="textAreaBottom" fmla="*/ 7560 h 7200"/>
              </a:gdLst>
              <a:ahLst/>
              <a:rect l="textAreaLeft" t="textAreaTop" r="textAreaRight" b="textAreaBottom"/>
              <a:pathLst>
                <a:path w="50" h="52">
                  <a:moveTo>
                    <a:pt x="25" y="52"/>
                  </a:moveTo>
                  <a:lnTo>
                    <a:pt x="21" y="52"/>
                  </a:lnTo>
                  <a:lnTo>
                    <a:pt x="15" y="50"/>
                  </a:lnTo>
                  <a:lnTo>
                    <a:pt x="11" y="48"/>
                  </a:lnTo>
                  <a:lnTo>
                    <a:pt x="8" y="45"/>
                  </a:lnTo>
                  <a:lnTo>
                    <a:pt x="5" y="41"/>
                  </a:lnTo>
                  <a:lnTo>
                    <a:pt x="1" y="37"/>
                  </a:lnTo>
                  <a:lnTo>
                    <a:pt x="0" y="32"/>
                  </a:lnTo>
                  <a:lnTo>
                    <a:pt x="0" y="25"/>
                  </a:lnTo>
                  <a:lnTo>
                    <a:pt x="0" y="20"/>
                  </a:lnTo>
                  <a:lnTo>
                    <a:pt x="1" y="15"/>
                  </a:lnTo>
                  <a:lnTo>
                    <a:pt x="5" y="11"/>
                  </a:lnTo>
                  <a:lnTo>
                    <a:pt x="8" y="6"/>
                  </a:lnTo>
                  <a:lnTo>
                    <a:pt x="11" y="3"/>
                  </a:lnTo>
                  <a:lnTo>
                    <a:pt x="15" y="1"/>
                  </a:lnTo>
                  <a:lnTo>
                    <a:pt x="21" y="0"/>
                  </a:lnTo>
                  <a:lnTo>
                    <a:pt x="25" y="0"/>
                  </a:lnTo>
                  <a:lnTo>
                    <a:pt x="30" y="0"/>
                  </a:lnTo>
                  <a:lnTo>
                    <a:pt x="34" y="1"/>
                  </a:lnTo>
                  <a:lnTo>
                    <a:pt x="39" y="4"/>
                  </a:lnTo>
                  <a:lnTo>
                    <a:pt x="43" y="7"/>
                  </a:lnTo>
                  <a:lnTo>
                    <a:pt x="46" y="12"/>
                  </a:lnTo>
                  <a:lnTo>
                    <a:pt x="48" y="16"/>
                  </a:lnTo>
                  <a:lnTo>
                    <a:pt x="49" y="21"/>
                  </a:lnTo>
                  <a:lnTo>
                    <a:pt x="50" y="25"/>
                  </a:lnTo>
                  <a:lnTo>
                    <a:pt x="49" y="32"/>
                  </a:lnTo>
                  <a:lnTo>
                    <a:pt x="48" y="37"/>
                  </a:lnTo>
                  <a:lnTo>
                    <a:pt x="46" y="41"/>
                  </a:lnTo>
                  <a:lnTo>
                    <a:pt x="43" y="45"/>
                  </a:lnTo>
                  <a:lnTo>
                    <a:pt x="39" y="48"/>
                  </a:lnTo>
                  <a:lnTo>
                    <a:pt x="34" y="50"/>
                  </a:lnTo>
                  <a:lnTo>
                    <a:pt x="30" y="52"/>
                  </a:lnTo>
                  <a:lnTo>
                    <a:pt x="25" y="52"/>
                  </a:lnTo>
                  <a:close/>
                </a:path>
              </a:pathLst>
            </a:custGeom>
            <a:solidFill>
              <a:srgbClr val="ffff00"/>
            </a:solidFill>
            <a:ln w="0">
              <a:noFill/>
            </a:ln>
          </p:spPr>
          <p:style>
            <a:lnRef idx="0"/>
            <a:fillRef idx="0"/>
            <a:effectRef idx="0"/>
            <a:fontRef idx="minor"/>
          </p:style>
          <p:txBody>
            <a:bodyPr lIns="90000" rIns="90000" tIns="-37440" bIns="-37440" anchor="t">
              <a:noAutofit/>
            </a:bodyPr>
            <a:p>
              <a:pPr>
                <a:lnSpc>
                  <a:spcPct val="100000"/>
                </a:lnSpc>
              </a:pPr>
              <a:endParaRPr b="0" lang="en-US" sz="1800" spc="-1" strike="noStrike">
                <a:solidFill>
                  <a:srgbClr val="ffff00"/>
                </a:solidFill>
                <a:latin typeface="Arial"/>
                <a:ea typeface="宋体"/>
              </a:endParaRPr>
            </a:p>
          </p:txBody>
        </p:sp>
        <p:sp>
          <p:nvSpPr>
            <p:cNvPr id="575" name="Freeform 77"/>
            <p:cNvSpPr/>
            <p:nvPr/>
          </p:nvSpPr>
          <p:spPr>
            <a:xfrm>
              <a:off x="4731840" y="9700560"/>
              <a:ext cx="9720" cy="16560"/>
            </a:xfrm>
            <a:custGeom>
              <a:avLst/>
              <a:gdLst>
                <a:gd name="textAreaLeft" fmla="*/ 0 w 9720"/>
                <a:gd name="textAreaRight" fmla="*/ 10080 w 9720"/>
                <a:gd name="textAreaTop" fmla="*/ 0 h 16560"/>
                <a:gd name="textAreaBottom" fmla="*/ 16920 h 16560"/>
              </a:gdLst>
              <a:ahLst/>
              <a:rect l="textAreaLeft" t="textAreaTop" r="textAreaRight" b="textAreaBottom"/>
              <a:pathLst>
                <a:path w="58" h="111">
                  <a:moveTo>
                    <a:pt x="7" y="20"/>
                  </a:moveTo>
                  <a:lnTo>
                    <a:pt x="8" y="17"/>
                  </a:lnTo>
                  <a:lnTo>
                    <a:pt x="9" y="14"/>
                  </a:lnTo>
                  <a:lnTo>
                    <a:pt x="10" y="9"/>
                  </a:lnTo>
                  <a:lnTo>
                    <a:pt x="13" y="6"/>
                  </a:lnTo>
                  <a:lnTo>
                    <a:pt x="16" y="3"/>
                  </a:lnTo>
                  <a:lnTo>
                    <a:pt x="20" y="1"/>
                  </a:lnTo>
                  <a:lnTo>
                    <a:pt x="25" y="0"/>
                  </a:lnTo>
                  <a:lnTo>
                    <a:pt x="30" y="0"/>
                  </a:lnTo>
                  <a:lnTo>
                    <a:pt x="36" y="0"/>
                  </a:lnTo>
                  <a:lnTo>
                    <a:pt x="41" y="2"/>
                  </a:lnTo>
                  <a:lnTo>
                    <a:pt x="47" y="6"/>
                  </a:lnTo>
                  <a:lnTo>
                    <a:pt x="51" y="10"/>
                  </a:lnTo>
                  <a:lnTo>
                    <a:pt x="54" y="17"/>
                  </a:lnTo>
                  <a:lnTo>
                    <a:pt x="56" y="22"/>
                  </a:lnTo>
                  <a:lnTo>
                    <a:pt x="58" y="28"/>
                  </a:lnTo>
                  <a:lnTo>
                    <a:pt x="58" y="35"/>
                  </a:lnTo>
                  <a:lnTo>
                    <a:pt x="57" y="46"/>
                  </a:lnTo>
                  <a:lnTo>
                    <a:pt x="55" y="58"/>
                  </a:lnTo>
                  <a:lnTo>
                    <a:pt x="51" y="69"/>
                  </a:lnTo>
                  <a:lnTo>
                    <a:pt x="45" y="79"/>
                  </a:lnTo>
                  <a:lnTo>
                    <a:pt x="37" y="90"/>
                  </a:lnTo>
                  <a:lnTo>
                    <a:pt x="29" y="98"/>
                  </a:lnTo>
                  <a:lnTo>
                    <a:pt x="18" y="105"/>
                  </a:lnTo>
                  <a:lnTo>
                    <a:pt x="7" y="111"/>
                  </a:lnTo>
                  <a:lnTo>
                    <a:pt x="0" y="103"/>
                  </a:lnTo>
                  <a:lnTo>
                    <a:pt x="8" y="97"/>
                  </a:lnTo>
                  <a:lnTo>
                    <a:pt x="15" y="92"/>
                  </a:lnTo>
                  <a:lnTo>
                    <a:pt x="20" y="86"/>
                  </a:lnTo>
                  <a:lnTo>
                    <a:pt x="26" y="80"/>
                  </a:lnTo>
                  <a:lnTo>
                    <a:pt x="29" y="75"/>
                  </a:lnTo>
                  <a:lnTo>
                    <a:pt x="31" y="69"/>
                  </a:lnTo>
                  <a:lnTo>
                    <a:pt x="33" y="63"/>
                  </a:lnTo>
                  <a:lnTo>
                    <a:pt x="33" y="57"/>
                  </a:lnTo>
                  <a:lnTo>
                    <a:pt x="33" y="53"/>
                  </a:lnTo>
                  <a:lnTo>
                    <a:pt x="30" y="48"/>
                  </a:lnTo>
                  <a:lnTo>
                    <a:pt x="26" y="45"/>
                  </a:lnTo>
                  <a:lnTo>
                    <a:pt x="20" y="41"/>
                  </a:lnTo>
                  <a:lnTo>
                    <a:pt x="14" y="37"/>
                  </a:lnTo>
                  <a:lnTo>
                    <a:pt x="10" y="33"/>
                  </a:lnTo>
                  <a:lnTo>
                    <a:pt x="8" y="27"/>
                  </a:lnTo>
                  <a:lnTo>
                    <a:pt x="7" y="20"/>
                  </a:lnTo>
                  <a:close/>
                </a:path>
              </a:pathLst>
            </a:custGeom>
            <a:solidFill>
              <a:srgbClr val="ffff00"/>
            </a:solidFill>
            <a:ln w="0">
              <a:noFill/>
            </a:ln>
          </p:spPr>
          <p:style>
            <a:lnRef idx="0"/>
            <a:fillRef idx="0"/>
            <a:effectRef idx="0"/>
            <a:fontRef idx="minor"/>
          </p:style>
          <p:txBody>
            <a:bodyPr lIns="90000" rIns="90000" tIns="-28080" bIns="-28080" anchor="t">
              <a:noAutofit/>
            </a:bodyPr>
            <a:p>
              <a:pPr>
                <a:lnSpc>
                  <a:spcPct val="100000"/>
                </a:lnSpc>
              </a:pPr>
              <a:endParaRPr b="0" lang="en-US" sz="1800" spc="-1" strike="noStrike">
                <a:solidFill>
                  <a:srgbClr val="ffff00"/>
                </a:solidFill>
                <a:latin typeface="Arial"/>
                <a:ea typeface="宋体"/>
              </a:endParaRPr>
            </a:p>
          </p:txBody>
        </p:sp>
      </p:grpSp>
      <p:sp>
        <p:nvSpPr>
          <p:cNvPr id="576" name="矩形 12"/>
          <p:cNvSpPr/>
          <p:nvPr/>
        </p:nvSpPr>
        <p:spPr>
          <a:xfrm>
            <a:off x="218880" y="86727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ffffff"/>
              </a:solidFill>
              <a:latin typeface="Arial"/>
            </a:endParaRPr>
          </a:p>
        </p:txBody>
      </p:sp>
    </p:spTree>
  </p:cSld>
  <p:transition spd="slow" advTm="5000">
    <p:push dir="r"/>
  </p:transition>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withEffect" fill="hold" presetClass="entr" presetID="22" presetSubtype="8">
                                  <p:stCondLst>
                                    <p:cond delay="0"/>
                                  </p:stCondLst>
                                  <p:childTnLst>
                                    <p:set>
                                      <p:cBhvr>
                                        <p:cTn id="197" dur="1" fill="hold">
                                          <p:stCondLst>
                                            <p:cond delay="0"/>
                                          </p:stCondLst>
                                        </p:cTn>
                                        <p:tgtEl>
                                          <p:spTgt spid="506"/>
                                        </p:tgtEl>
                                        <p:attrNameLst>
                                          <p:attrName>style.visibility</p:attrName>
                                        </p:attrNameLst>
                                      </p:cBhvr>
                                      <p:to>
                                        <p:strVal val="visible"/>
                                      </p:to>
                                    </p:set>
                                    <p:animEffect filter="wipe(left)" transition="in">
                                      <p:cBhvr additive="repl">
                                        <p:cTn id="198" dur="1000"/>
                                        <p:tgtEl>
                                          <p:spTgt spid="506"/>
                                        </p:tgtEl>
                                      </p:cBhvr>
                                    </p:animEffect>
                                  </p:childTnLst>
                                </p:cTn>
                              </p:par>
                            </p:childTnLst>
                          </p:cTn>
                        </p:par>
                        <p:par>
                          <p:cTn id="199" fill="hold">
                            <p:stCondLst>
                              <p:cond delay="1000"/>
                            </p:stCondLst>
                            <p:childTnLst>
                              <p:par>
                                <p:cTn id="200" nodeType="afterEffect" fill="hold" presetClass="entr" presetID="41">
                                  <p:stCondLst>
                                    <p:cond delay="0"/>
                                  </p:stCondLst>
                                  <p:iterate type="wd">
                                    <p:tmAbs val="100"/>
                                  </p:iterate>
                                  <p:childTnLst>
                                    <p:set>
                                      <p:cBhvr>
                                        <p:cTn id="201" dur="1" fill="hold">
                                          <p:stCondLst>
                                            <p:cond delay="0"/>
                                          </p:stCondLst>
                                        </p:cTn>
                                        <p:tgtEl>
                                          <p:spTgt spid="493"/>
                                        </p:tgtEl>
                                        <p:attrNameLst>
                                          <p:attrName>style.visibility</p:attrName>
                                        </p:attrNameLst>
                                      </p:cBhvr>
                                      <p:to>
                                        <p:strVal val="visible"/>
                                      </p:to>
                                    </p:set>
                                    <p:anim calcmode="lin" valueType="num">
                                      <p:cBhvr additive="repl">
                                        <p:cTn id="202" dur="1000" fill="hold"/>
                                        <p:tgtEl>
                                          <p:spTgt spid="493"/>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3" dur="1000" fill="hold"/>
                                        <p:tgtEl>
                                          <p:spTgt spid="493"/>
                                        </p:tgtEl>
                                        <p:attrNameLst>
                                          <p:attrName>ppt_y</p:attrName>
                                        </p:attrNameLst>
                                      </p:cBhvr>
                                      <p:tavLst>
                                        <p:tav tm="0">
                                          <p:val>
                                            <p:strVal val="#ppt_y"/>
                                          </p:val>
                                        </p:tav>
                                        <p:tav tm="100000">
                                          <p:val>
                                            <p:strVal val="#ppt_y"/>
                                          </p:val>
                                        </p:tav>
                                      </p:tavLst>
                                    </p:anim>
                                    <p:anim calcmode="lin" valueType="num">
                                      <p:cBhvr additive="repl">
                                        <p:cTn id="204" dur="1000" fill="hold"/>
                                        <p:tgtEl>
                                          <p:spTgt spid="49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5" dur="1000" fill="hold"/>
                                        <p:tgtEl>
                                          <p:spTgt spid="49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6" dur="1000"/>
                                        <p:tgtEl>
                                          <p:spTgt spid="4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默认设计模板">
  <a:themeElements>
    <a:clrScheme name="默认设计模板 1">
      <a:dk1>
        <a:srgbClr val="000000"/>
      </a:dk1>
      <a:lt1>
        <a:srgbClr val="ffffff"/>
      </a:lt1>
      <a:dk2>
        <a:srgbClr val="000000"/>
      </a:dk2>
      <a:lt2>
        <a:srgbClr val="808080"/>
      </a:lt2>
      <a:accent1>
        <a:srgbClr val="cfdef3"/>
      </a:accent1>
      <a:accent2>
        <a:srgbClr val="333399"/>
      </a:accent2>
      <a:accent3>
        <a:srgbClr val="ffffff"/>
      </a:accent3>
      <a:accent4>
        <a:srgbClr val="000000"/>
      </a:accent4>
      <a:accent5>
        <a:srgbClr val="e4ecf8"/>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默认设计模板">
  <a:themeElements>
    <a:clrScheme name="默认设计模板 1">
      <a:dk1>
        <a:srgbClr val="000000"/>
      </a:dk1>
      <a:lt1>
        <a:srgbClr val="ffffff"/>
      </a:lt1>
      <a:dk2>
        <a:srgbClr val="000000"/>
      </a:dk2>
      <a:lt2>
        <a:srgbClr val="808080"/>
      </a:lt2>
      <a:accent1>
        <a:srgbClr val="cfdef3"/>
      </a:accent1>
      <a:accent2>
        <a:srgbClr val="333399"/>
      </a:accent2>
      <a:accent3>
        <a:srgbClr val="ffffff"/>
      </a:accent3>
      <a:accent4>
        <a:srgbClr val="000000"/>
      </a:accent4>
      <a:accent5>
        <a:srgbClr val="e4ecf8"/>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3</TotalTime>
  <Application>LibreOffice/7.4.7.2$Linux_X86_64 LibreOffice_project/40$Build-2</Application>
  <AppVersion>15.0000</AppVersion>
  <Pages>0</Pages>
  <Words>1597</Words>
  <Characters>0</Characters>
  <CharactersWithSpaces>0</CharactersWithSpaces>
  <Paragraphs>131</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Sweet</dc:creator>
  <dc:description/>
  <dc:language>en-US</dc:language>
  <cp:lastModifiedBy>王玉清</cp:lastModifiedBy>
  <dcterms:modified xsi:type="dcterms:W3CDTF">2016-02-16T09:01:26Z</dcterms:modified>
  <cp:revision>95</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567</vt:lpwstr>
  </property>
  <property fmtid="{D5CDD505-2E9C-101B-9397-08002B2CF9AE}" pid="3" name="PresentationFormat">
    <vt:lpwstr>A4 纸张(210x297 毫米)</vt:lpwstr>
  </property>
  <property fmtid="{D5CDD505-2E9C-101B-9397-08002B2CF9AE}" pid="4" name="Slides">
    <vt:r8>14</vt:r8>
  </property>
</Properties>
</file>