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CE87-2D3F-40D5-82B3-B559FA663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E7A4-84B7-4008-BEAB-8B8708889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389A-2BBB-47FF-8758-13E9C5367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418E-4F4E-499D-8651-3750C7491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778F-FC63-4D49-BA57-81BE1F735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72D6-3451-492A-9848-A077675D6A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5892-1E84-4863-A1B4-B15FA6A68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2369-838F-4A16-A532-CBB4F2590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9777-5736-44F4-8962-CB4855B26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0EBA-0EDF-4EC0-887C-BD70D2F93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280E-944C-4861-835B-9700FE4B0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E240-A360-460D-AD99-F00DFCDAF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851280" y="6524280"/>
            <a:ext cx="144000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657AFFD-E66B-41AC-8ABE-68C9C19381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g4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4f791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8360" y="237312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1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F5FC449-DF6E-48BC-9065-4FF398D200E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黑体"/>
              </a:rPr>
              <a:t>LOGO</a:t>
            </a: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删除与替换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84360" y="377028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依次点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进入模板视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695160" y="1365120"/>
            <a:ext cx="2306160" cy="2305080"/>
            <a:chOff x="695160" y="1365120"/>
            <a:chExt cx="2306160" cy="2305080"/>
          </a:xfrm>
        </p:grpSpPr>
        <p:sp>
          <p:nvSpPr>
            <p:cNvPr id="127" name="Rectangle 5"/>
            <p:cNvSpPr/>
            <p:nvPr/>
          </p:nvSpPr>
          <p:spPr>
            <a:xfrm>
              <a:off x="695160" y="136512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 rot="5400000">
              <a:off x="2796480" y="244440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7" descr=""/>
            <p:cNvPicPr/>
            <p:nvPr/>
          </p:nvPicPr>
          <p:blipFill>
            <a:blip r:embed="rId1"/>
            <a:stretch/>
          </p:blipFill>
          <p:spPr>
            <a:xfrm>
              <a:off x="728640" y="142236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8"/>
          <p:cNvGrpSpPr/>
          <p:nvPr/>
        </p:nvGrpSpPr>
        <p:grpSpPr>
          <a:xfrm>
            <a:off x="3344760" y="1365120"/>
            <a:ext cx="2306160" cy="2305080"/>
            <a:chOff x="3344760" y="1365120"/>
            <a:chExt cx="2306160" cy="2305080"/>
          </a:xfrm>
        </p:grpSpPr>
        <p:sp>
          <p:nvSpPr>
            <p:cNvPr id="131" name="Rectangle 9"/>
            <p:cNvSpPr/>
            <p:nvPr/>
          </p:nvSpPr>
          <p:spPr>
            <a:xfrm>
              <a:off x="3344760" y="136512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0"/>
            <p:cNvSpPr/>
            <p:nvPr/>
          </p:nvSpPr>
          <p:spPr>
            <a:xfrm rot="5400000">
              <a:off x="5446080" y="244440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11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0148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12"/>
          <p:cNvGrpSpPr/>
          <p:nvPr/>
        </p:nvGrpSpPr>
        <p:grpSpPr>
          <a:xfrm>
            <a:off x="6002280" y="1365120"/>
            <a:ext cx="2160720" cy="2305080"/>
            <a:chOff x="6002280" y="1365120"/>
            <a:chExt cx="2160720" cy="2305080"/>
          </a:xfrm>
        </p:grpSpPr>
        <p:sp>
          <p:nvSpPr>
            <p:cNvPr id="135" name="Rectangle 13"/>
            <p:cNvSpPr/>
            <p:nvPr/>
          </p:nvSpPr>
          <p:spPr>
            <a:xfrm>
              <a:off x="6002280" y="136512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4" descr=""/>
            <p:cNvPicPr/>
            <p:nvPr/>
          </p:nvPicPr>
          <p:blipFill>
            <a:blip r:embed="rId3"/>
            <a:stretch/>
          </p:blipFill>
          <p:spPr>
            <a:xfrm>
              <a:off x="6122880" y="216216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15"/>
          <p:cNvSpPr/>
          <p:nvPr/>
        </p:nvSpPr>
        <p:spPr>
          <a:xfrm>
            <a:off x="3297240" y="377028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选择母板内的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图标进行删除和替换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12000" y="377028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编辑完成后点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关闭母板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返回幻灯片视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3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BAA2B9C-0932-46BA-8977-136EEA8245C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2627280" y="155736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观赏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08000" y="6381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1600" spc="-1" strike="noStrike" u="sng">
                <a:solidFill>
                  <a:srgbClr val="26420a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Administrator</dc:creator>
  <dc:description/>
  <dc:language>en-US</dc:language>
  <cp:lastModifiedBy>王玉清</cp:lastModifiedBy>
  <cp:lastPrinted>1899-12-30T00:00:00Z</cp:lastPrinted>
  <dcterms:modified xsi:type="dcterms:W3CDTF">2016-02-22T02:55:10Z</dcterms:modified>
  <cp:revision>269</cp:revision>
  <dc:subject/>
  <dc:title>单击此处添加标题文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11</vt:lpwstr>
  </property>
</Properties>
</file>