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38EFFB-3919-407D-B939-43FD90A2E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A951A9-5F4F-4AA6-A5CD-E5563E190BF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4721EA-8D7E-47EA-A975-9A56CF2075D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C380-84BD-4CB3-89B4-52AAC0F9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7FDD-E2D5-4888-94AC-463A26AF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225-9ACE-4F89-A4E5-48B3C43A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0C6-50F1-4975-B426-C4DC15C2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7A26-37A6-49DD-8F7F-A73D63DB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C3E5-1434-40E2-BBEB-B1FB818C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58DB-2BC9-4A64-BD38-26834BFD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4EEB-E9EB-438D-9FAC-33638B0B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8776-1981-4164-BF85-015BB5D0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23E5-8CBC-40A7-A017-A2D2AE2C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F9CE-2FA9-446B-B240-269961B8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968E-656B-4BF4-B8DD-28CBE096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502E-4CE9-470B-9832-1C12256F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2567-4530-4417-ACC9-80E3E9BF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8BA4-DC33-4DD8-A455-34BF4546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D589-2FB6-4C42-A1CE-84265B8B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71A6-A8F1-495B-A139-B7E5321B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273C2-5DB2-43C4-8CE0-08223980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3F833-6626-45C3-A2DF-4B600AED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B6601-AAA6-4749-B2D4-B76E6DDE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E1923-5727-46D5-A14D-065D9944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DC512-32BC-4837-BFA3-E281809C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1ADB-6BEA-4BC7-998D-A3042606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CB6C9-688E-4821-9807-30EE86AE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88EBA-3FC4-40E9-95FD-04330E8E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6EBEE-A8AA-4AE8-90CD-8C246883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33F7F-9024-4CF5-A791-5C1747F5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8D432-C1A8-4B0B-9FF3-78108C92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681B2-5D2A-4092-BBE8-A0D660CC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87707-C97D-47FA-B24A-0C59489E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E158-5814-4BC0-8830-911C9A77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675C-9159-44E1-8D15-6E0B4352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9EC-2779-4C48-92F2-4BE5D6D0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836A-5D68-4371-8604-D99E6CD1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BBC1-F9CC-4D71-8784-51E4442D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2F09-2163-4412-84D1-F2A018DC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E454C6-D56E-4BB2-8B5C-2350C6487E5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8A7AA9-5D0A-48FC-B2A5-79C94211359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4B9D79-FC52-4EA6-A2A9-6F3A9964ED3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圆角矩形 1027"/>
          <p:cNvSpPr/>
          <p:nvPr/>
        </p:nvSpPr>
        <p:spPr>
          <a:xfrm>
            <a:off x="0" y="1484280"/>
            <a:ext cx="9143640" cy="3960360"/>
          </a:xfrm>
          <a:prstGeom prst="roundRect">
            <a:avLst>
              <a:gd name="adj" fmla="val 0"/>
            </a:avLst>
          </a:prstGeom>
          <a:solidFill>
            <a:srgbClr val="e8121a">
              <a:alpha val="51000"/>
            </a:srgbClr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TextBox 23"/>
          <p:cNvSpPr/>
          <p:nvPr/>
        </p:nvSpPr>
        <p:spPr>
          <a:xfrm>
            <a:off x="1540800" y="5141160"/>
            <a:ext cx="13665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张志 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24"/>
          <p:cNvSpPr/>
          <p:nvPr/>
        </p:nvSpPr>
        <p:spPr>
          <a:xfrm rot="16200">
            <a:off x="3865320" y="1088280"/>
            <a:ext cx="2233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不是人生导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26"/>
          <p:cNvSpPr/>
          <p:nvPr/>
        </p:nvSpPr>
        <p:spPr>
          <a:xfrm rot="21550800">
            <a:off x="1577520" y="1104840"/>
            <a:ext cx="2158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没有标准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27"/>
          <p:cNvSpPr/>
          <p:nvPr/>
        </p:nvSpPr>
        <p:spPr>
          <a:xfrm rot="15000">
            <a:off x="6227280" y="1093680"/>
            <a:ext cx="223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不是心灵鸡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1024"/>
          <p:cNvSpPr/>
          <p:nvPr/>
        </p:nvSpPr>
        <p:spPr>
          <a:xfrm>
            <a:off x="3716640" y="3357720"/>
            <a:ext cx="28666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一本真正帮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大学生</a:t>
            </a:r>
            <a:r>
              <a:rPr b="1" lang="zh-CN" sz="2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成长</a:t>
            </a:r>
            <a:r>
              <a:rPr b="1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的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1032"/>
          <p:cNvSpPr/>
          <p:nvPr/>
        </p:nvSpPr>
        <p:spPr>
          <a:xfrm>
            <a:off x="1280880" y="1123200"/>
            <a:ext cx="431280" cy="211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ffffff"/>
                </a:solidFill>
                <a:latin typeface="Calibri"/>
                <a:ea typeface="宋体"/>
              </a:rPr>
              <a:t>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42"/>
          <p:cNvSpPr/>
          <p:nvPr/>
        </p:nvSpPr>
        <p:spPr>
          <a:xfrm>
            <a:off x="5960880" y="1123200"/>
            <a:ext cx="433080" cy="211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ffffff"/>
                </a:solidFill>
                <a:latin typeface="Calibri"/>
                <a:ea typeface="宋体"/>
              </a:rPr>
              <a:t>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43"/>
          <p:cNvSpPr/>
          <p:nvPr/>
        </p:nvSpPr>
        <p:spPr>
          <a:xfrm>
            <a:off x="3620880" y="1123200"/>
            <a:ext cx="431280" cy="211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ffffff"/>
                </a:solidFill>
                <a:latin typeface="Calibri"/>
                <a:ea typeface="宋体"/>
              </a:rPr>
              <a:t>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图片 18" descr="图片1.png"/>
          <p:cNvPicPr/>
          <p:nvPr/>
        </p:nvPicPr>
        <p:blipFill>
          <a:blip r:embed="rId1"/>
          <a:stretch/>
        </p:blipFill>
        <p:spPr>
          <a:xfrm rot="20625600">
            <a:off x="427320" y="1233720"/>
            <a:ext cx="2855880" cy="372888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139" name="TextBox 24"/>
          <p:cNvSpPr/>
          <p:nvPr/>
        </p:nvSpPr>
        <p:spPr>
          <a:xfrm>
            <a:off x="1587240" y="5484960"/>
            <a:ext cx="2233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江苏文艺出版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矩形 1"/>
          <p:cNvSpPr/>
          <p:nvPr/>
        </p:nvSpPr>
        <p:spPr>
          <a:xfrm>
            <a:off x="2177280" y="43848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不要等到毕业以后通用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14" descr="003.JPG"/>
          <p:cNvPicPr/>
          <p:nvPr/>
        </p:nvPicPr>
        <p:blipFill>
          <a:blip r:embed="rId1"/>
          <a:stretch/>
        </p:blipFill>
        <p:spPr>
          <a:xfrm rot="-20182200">
            <a:off x="7444440" y="844560"/>
            <a:ext cx="1099800" cy="16282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24" name="图片 15" descr="4c4cee11jw1dva0fenv9vj.jpg"/>
          <p:cNvPicPr/>
          <p:nvPr/>
        </p:nvPicPr>
        <p:blipFill>
          <a:blip r:embed="rId2"/>
          <a:stretch/>
        </p:blipFill>
        <p:spPr>
          <a:xfrm rot="-20941200">
            <a:off x="5376600" y="4929840"/>
            <a:ext cx="1330920" cy="17722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25" name="图片 16" descr="008.JPG"/>
          <p:cNvPicPr/>
          <p:nvPr/>
        </p:nvPicPr>
        <p:blipFill>
          <a:blip r:embed="rId3"/>
          <a:stretch/>
        </p:blipFill>
        <p:spPr>
          <a:xfrm rot="-20488800">
            <a:off x="3259440" y="246600"/>
            <a:ext cx="941400" cy="14122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26" name="图片 17" descr="013.JPG"/>
          <p:cNvPicPr/>
          <p:nvPr/>
        </p:nvPicPr>
        <p:blipFill>
          <a:blip r:embed="rId4"/>
          <a:stretch/>
        </p:blipFill>
        <p:spPr>
          <a:xfrm rot="-20784600">
            <a:off x="7620480" y="3889080"/>
            <a:ext cx="1037520" cy="15562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27" name="图片 18" descr="016.JPG"/>
          <p:cNvPicPr/>
          <p:nvPr/>
        </p:nvPicPr>
        <p:blipFill>
          <a:blip r:embed="rId5"/>
          <a:stretch/>
        </p:blipFill>
        <p:spPr>
          <a:xfrm>
            <a:off x="6012000" y="1124640"/>
            <a:ext cx="959760" cy="143964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28" name="图片 20" descr="017.JPG"/>
          <p:cNvPicPr/>
          <p:nvPr/>
        </p:nvPicPr>
        <p:blipFill>
          <a:blip r:embed="rId6"/>
          <a:stretch/>
        </p:blipFill>
        <p:spPr>
          <a:xfrm>
            <a:off x="611280" y="1700640"/>
            <a:ext cx="1247760" cy="187200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29" name="图片 22" descr="019.JPG"/>
          <p:cNvPicPr/>
          <p:nvPr/>
        </p:nvPicPr>
        <p:blipFill>
          <a:blip r:embed="rId7"/>
          <a:stretch/>
        </p:blipFill>
        <p:spPr>
          <a:xfrm rot="-1315800">
            <a:off x="1791720" y="4464720"/>
            <a:ext cx="1295640" cy="194400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30" name="图片 23" descr="023.JPG"/>
          <p:cNvPicPr/>
          <p:nvPr/>
        </p:nvPicPr>
        <p:blipFill>
          <a:blip r:embed="rId8"/>
          <a:stretch/>
        </p:blipFill>
        <p:spPr>
          <a:xfrm>
            <a:off x="3635640" y="2060640"/>
            <a:ext cx="1853640" cy="278064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sp>
        <p:nvSpPr>
          <p:cNvPr id="231" name="矩形 12"/>
          <p:cNvSpPr/>
          <p:nvPr/>
        </p:nvSpPr>
        <p:spPr>
          <a:xfrm>
            <a:off x="0" y="2280240"/>
            <a:ext cx="9143640" cy="2228400"/>
          </a:xfrm>
          <a:prstGeom prst="rect">
            <a:avLst/>
          </a:prstGeom>
          <a:solidFill>
            <a:schemeClr val="tx1">
              <a:alpha val="2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2" name="TextBox 14"/>
          <p:cNvSpPr/>
          <p:nvPr/>
        </p:nvSpPr>
        <p:spPr>
          <a:xfrm>
            <a:off x="1875240" y="2411280"/>
            <a:ext cx="210420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作者简介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原名：张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俗称：秋叶大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大号：</a:t>
            </a:r>
            <a:r>
              <a:rPr b="0" lang="en-US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Q</a:t>
            </a: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人生信条：组织内</a:t>
            </a:r>
            <a:r>
              <a:rPr b="0" lang="en-US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U</a:t>
            </a: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盘化生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19"/>
          <p:cNvSpPr/>
          <p:nvPr/>
        </p:nvSpPr>
        <p:spPr>
          <a:xfrm>
            <a:off x="4601880" y="3851280"/>
            <a:ext cx="2410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制作：</a:t>
            </a:r>
            <a:r>
              <a:rPr b="0" lang="en-US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@wm_</a:t>
            </a: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知易行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4" name="肘形连接符 21"/>
          <p:cNvCxnSpPr/>
          <p:nvPr/>
        </p:nvCxnSpPr>
        <p:spPr>
          <a:xfrm>
            <a:off x="1476360" y="3850920"/>
            <a:ext cx="5675400" cy="319680"/>
          </a:xfrm>
          <a:prstGeom prst="bentConnector2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35" name="TextBox 24"/>
          <p:cNvSpPr/>
          <p:nvPr/>
        </p:nvSpPr>
        <p:spPr>
          <a:xfrm>
            <a:off x="7277400" y="41403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谢谢观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956360" y="2421000"/>
            <a:ext cx="1368000" cy="2060280"/>
          </a:xfrm>
          <a:prstGeom prst="rect">
            <a:avLst/>
          </a:prstGeom>
          <a:ln w="9525">
            <a:noFill/>
          </a:ln>
        </p:spPr>
      </p:pic>
      <p:pic>
        <p:nvPicPr>
          <p:cNvPr id="237" name="图片 7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9320" y="2305800"/>
            <a:ext cx="1474560" cy="2204640"/>
          </a:xfrm>
          <a:prstGeom prst="rect">
            <a:avLst/>
          </a:prstGeom>
          <a:ln w="9525">
            <a:noFill/>
          </a:ln>
        </p:spPr>
      </p:pic>
      <p:pic>
        <p:nvPicPr>
          <p:cNvPr id="238" name="图片 6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3303720" y="980640"/>
            <a:ext cx="2534760" cy="4163760"/>
          </a:xfrm>
          <a:prstGeom prst="rect">
            <a:avLst/>
          </a:prstGeom>
          <a:ln w="9525">
            <a:noFill/>
          </a:ln>
        </p:spPr>
      </p:pic>
      <p:sp>
        <p:nvSpPr>
          <p:cNvPr id="239" name="矩形 12"/>
          <p:cNvSpPr/>
          <p:nvPr/>
        </p:nvSpPr>
        <p:spPr>
          <a:xfrm>
            <a:off x="0" y="2280240"/>
            <a:ext cx="9143640" cy="2228400"/>
          </a:xfrm>
          <a:prstGeom prst="rect">
            <a:avLst/>
          </a:prstGeom>
          <a:solidFill>
            <a:schemeClr val="tx1">
              <a:alpha val="2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240" name="图片 5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7164360" y="547560"/>
            <a:ext cx="1155240" cy="1728360"/>
          </a:xfrm>
          <a:prstGeom prst="rect">
            <a:avLst/>
          </a:prstGeom>
          <a:ln w="9525">
            <a:noFill/>
          </a:ln>
        </p:spPr>
      </p:pic>
      <p:pic>
        <p:nvPicPr>
          <p:cNvPr id="241" name="图片 8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1619280" y="406440"/>
            <a:ext cx="1393560" cy="2085480"/>
          </a:xfrm>
          <a:prstGeom prst="rect">
            <a:avLst/>
          </a:prstGeom>
          <a:ln w="9525">
            <a:noFill/>
          </a:ln>
        </p:spPr>
      </p:pic>
      <p:pic>
        <p:nvPicPr>
          <p:cNvPr id="242" name="图片 9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5796000" y="4392720"/>
            <a:ext cx="1512360" cy="2491920"/>
          </a:xfrm>
          <a:prstGeom prst="rect">
            <a:avLst/>
          </a:prstGeom>
          <a:ln w="9525">
            <a:noFill/>
          </a:ln>
        </p:spPr>
      </p:pic>
      <p:pic>
        <p:nvPicPr>
          <p:cNvPr id="243" name="图片 10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5435640" y="765000"/>
            <a:ext cx="1009440" cy="1510920"/>
          </a:xfrm>
          <a:prstGeom prst="rect">
            <a:avLst/>
          </a:prstGeom>
          <a:ln w="9525">
            <a:noFill/>
          </a:ln>
        </p:spPr>
      </p:pic>
      <p:pic>
        <p:nvPicPr>
          <p:cNvPr id="244" name="图片 11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1547640" y="5024520"/>
            <a:ext cx="1223640" cy="1860120"/>
          </a:xfrm>
          <a:prstGeom prst="rect">
            <a:avLst/>
          </a:prstGeom>
          <a:ln w="9525">
            <a:noFill/>
          </a:ln>
        </p:spPr>
      </p:pic>
      <p:sp>
        <p:nvSpPr>
          <p:cNvPr id="245" name="TextBox 14"/>
          <p:cNvSpPr/>
          <p:nvPr/>
        </p:nvSpPr>
        <p:spPr>
          <a:xfrm>
            <a:off x="1875240" y="2411280"/>
            <a:ext cx="210420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作者简介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原名：张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俗称：秋叶大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大号：</a:t>
            </a:r>
            <a:r>
              <a:rPr b="0" lang="en-US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Q</a:t>
            </a: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人生信条：组织内</a:t>
            </a:r>
            <a:r>
              <a:rPr b="0" lang="en-US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U</a:t>
            </a: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盘化生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19"/>
          <p:cNvSpPr/>
          <p:nvPr/>
        </p:nvSpPr>
        <p:spPr>
          <a:xfrm>
            <a:off x="4601880" y="3851280"/>
            <a:ext cx="2410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制作：</a:t>
            </a:r>
            <a:r>
              <a:rPr b="0" lang="en-US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@wm_</a:t>
            </a: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知易行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肘形连接符 21"/>
          <p:cNvCxnSpPr/>
          <p:nvPr/>
        </p:nvCxnSpPr>
        <p:spPr>
          <a:xfrm>
            <a:off x="1476360" y="3850920"/>
            <a:ext cx="5675400" cy="319680"/>
          </a:xfrm>
          <a:prstGeom prst="bentConnector2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48" name="TextBox 24"/>
          <p:cNvSpPr/>
          <p:nvPr/>
        </p:nvSpPr>
        <p:spPr>
          <a:xfrm>
            <a:off x="7277400" y="41403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谢谢观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00000" y="907920"/>
            <a:ext cx="3058920" cy="4292280"/>
          </a:xfrm>
          <a:prstGeom prst="rect">
            <a:avLst/>
          </a:prstGeom>
          <a:ln w="9525">
            <a:noFill/>
          </a:ln>
        </p:spPr>
      </p:pic>
      <p:sp>
        <p:nvSpPr>
          <p:cNvPr id="143" name="TextBox 27"/>
          <p:cNvSpPr/>
          <p:nvPr/>
        </p:nvSpPr>
        <p:spPr>
          <a:xfrm>
            <a:off x="3564000" y="981000"/>
            <a:ext cx="3744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000" spc="-1" strike="noStrike">
                <a:solidFill>
                  <a:srgbClr val="bfbfbf"/>
                </a:solidFill>
                <a:latin typeface="造字工房悦黑体验版常规体"/>
                <a:ea typeface="造字工房悦黑体验版常规体"/>
              </a:rPr>
              <a:t>专业和职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矩形 2048"/>
          <p:cNvSpPr/>
          <p:nvPr/>
        </p:nvSpPr>
        <p:spPr>
          <a:xfrm>
            <a:off x="2411280" y="2243160"/>
            <a:ext cx="4571640" cy="25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了解自己的专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要学会独立学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培养兴趣很重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专业好不一定就业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2058"/>
          <p:cNvSpPr/>
          <p:nvPr/>
        </p:nvSpPr>
        <p:spPr>
          <a:xfrm>
            <a:off x="4805640" y="5589360"/>
            <a:ext cx="2256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fbfbf"/>
                </a:solidFill>
                <a:latin typeface="造字工房悦黑体验版常规体"/>
                <a:ea typeface="造字工房悦黑体验版常规体"/>
              </a:rPr>
              <a:t>推荐书籍：</a:t>
            </a:r>
            <a:r>
              <a:rPr b="0" lang="zh-CN" sz="1800" spc="-1" strike="noStrike">
                <a:solidFill>
                  <a:srgbClr val="bfbfbf"/>
                </a:solidFill>
                <a:latin typeface="造字工房悦黑体验版常规体"/>
                <a:ea typeface="造字工房悦黑体验版常规体"/>
              </a:rPr>
              <a:t>《思维导图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fbfbf"/>
                </a:solidFill>
                <a:latin typeface="造字工房悦黑体验版常规体"/>
                <a:ea typeface="造字工房悦黑体验版常规体"/>
              </a:rPr>
              <a:t>推荐人物：  </a:t>
            </a:r>
            <a:r>
              <a:rPr b="0" lang="en-US" sz="1800" spc="-1" strike="noStrike">
                <a:solidFill>
                  <a:srgbClr val="bfbfbf"/>
                </a:solidFill>
                <a:latin typeface="造字工房悦黑体验版常规体"/>
                <a:ea typeface="造字工房悦黑体验版常规体"/>
              </a:rPr>
              <a:t>@</a:t>
            </a:r>
            <a:r>
              <a:rPr b="0" lang="zh-CN" sz="1800" spc="-1" strike="noStrike">
                <a:solidFill>
                  <a:srgbClr val="bfbfbf"/>
                </a:solidFill>
                <a:latin typeface="造字工房悦黑体验版常规体"/>
                <a:ea typeface="造字工房悦黑体验版常规体"/>
              </a:rPr>
              <a:t>小巴</a:t>
            </a:r>
            <a:r>
              <a:rPr b="0" lang="en-US" sz="1800" spc="-1" strike="noStrike">
                <a:solidFill>
                  <a:srgbClr val="bfbfbf"/>
                </a:solidFill>
                <a:latin typeface="造字工房悦黑体验版常规体"/>
                <a:ea typeface="造字工房悦黑体验版常规体"/>
              </a:rPr>
              <a:t>_19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47"/>
          <p:cNvSpPr/>
          <p:nvPr/>
        </p:nvSpPr>
        <p:spPr>
          <a:xfrm>
            <a:off x="1835280" y="5591160"/>
            <a:ext cx="1584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肘形连接符 48"/>
          <p:cNvCxnSpPr/>
          <p:nvPr/>
        </p:nvCxnSpPr>
        <p:spPr>
          <a:xfrm flipV="1">
            <a:off x="3203280" y="971280"/>
            <a:ext cx="4321800" cy="5112360"/>
          </a:xfrm>
          <a:prstGeom prst="bentConnector2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48" name="Rectangle 2"/>
          <p:cNvSpPr/>
          <p:nvPr/>
        </p:nvSpPr>
        <p:spPr>
          <a:xfrm>
            <a:off x="6942600" y="224964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6942600" y="285768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6942600" y="346392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6942600" y="407052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986440" y="1268280"/>
            <a:ext cx="2787120" cy="3951000"/>
          </a:xfrm>
          <a:prstGeom prst="rect">
            <a:avLst/>
          </a:prstGeom>
          <a:ln w="9525">
            <a:noFill/>
          </a:ln>
        </p:spPr>
      </p:pic>
      <p:sp>
        <p:nvSpPr>
          <p:cNvPr id="153" name="TextBox 5"/>
          <p:cNvSpPr/>
          <p:nvPr/>
        </p:nvSpPr>
        <p:spPr>
          <a:xfrm>
            <a:off x="1689120" y="1400040"/>
            <a:ext cx="281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0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读书和学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矩形 6"/>
          <p:cNvSpPr/>
          <p:nvPr/>
        </p:nvSpPr>
        <p:spPr>
          <a:xfrm>
            <a:off x="2124000" y="2343240"/>
            <a:ext cx="4571640" cy="25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学会自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好书一定要精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写好论文写好长微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天才</a:t>
            </a:r>
            <a:r>
              <a:rPr b="0" lang="en-US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=</a:t>
            </a: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科学训练</a:t>
            </a:r>
            <a:r>
              <a:rPr b="0" lang="en-US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10000</a:t>
            </a: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个小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2364120" y="5591160"/>
            <a:ext cx="2326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书籍：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《如何阅读一本书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人物：  </a:t>
            </a:r>
            <a:r>
              <a:rPr b="0" lang="en-US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@Dandoli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16"/>
          <p:cNvSpPr/>
          <p:nvPr/>
        </p:nvSpPr>
        <p:spPr>
          <a:xfrm>
            <a:off x="6318360" y="5735520"/>
            <a:ext cx="1584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肘形连接符 17"/>
          <p:cNvCxnSpPr/>
          <p:nvPr/>
        </p:nvCxnSpPr>
        <p:spPr>
          <a:xfrm rot="10800000">
            <a:off x="1692000" y="1368360"/>
            <a:ext cx="4555080" cy="4869000"/>
          </a:xfrm>
          <a:prstGeom prst="bentConnector2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58" name="Rectangle 2"/>
          <p:cNvSpPr/>
          <p:nvPr/>
        </p:nvSpPr>
        <p:spPr>
          <a:xfrm>
            <a:off x="1868040" y="236844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868040" y="297180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1868040" y="357516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868040" y="417996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109520" y="1328760"/>
            <a:ext cx="2242800" cy="3358800"/>
          </a:xfrm>
          <a:prstGeom prst="rect">
            <a:avLst/>
          </a:prstGeom>
          <a:ln w="9525">
            <a:noFill/>
          </a:ln>
        </p:spPr>
      </p:pic>
      <p:sp>
        <p:nvSpPr>
          <p:cNvPr id="163" name="TextBox 2"/>
          <p:cNvSpPr/>
          <p:nvPr/>
        </p:nvSpPr>
        <p:spPr>
          <a:xfrm>
            <a:off x="1619280" y="5591160"/>
            <a:ext cx="1584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肘形连接符 3"/>
          <p:cNvCxnSpPr/>
          <p:nvPr/>
        </p:nvCxnSpPr>
        <p:spPr>
          <a:xfrm flipV="1">
            <a:off x="2987640" y="971280"/>
            <a:ext cx="4321440" cy="5112360"/>
          </a:xfrm>
          <a:prstGeom prst="bentConnector2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65" name="TextBox 4"/>
          <p:cNvSpPr/>
          <p:nvPr/>
        </p:nvSpPr>
        <p:spPr>
          <a:xfrm>
            <a:off x="4356000" y="981000"/>
            <a:ext cx="280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社团和实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2195640" y="1989000"/>
            <a:ext cx="4571640" cy="222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利用碎片时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培养能力是思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选择社团的理由很重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独立完成事情才是工作经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5331960" y="5591160"/>
            <a:ext cx="1397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书籍：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《公正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人物：  陈维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6726600" y="198900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6726600" y="259560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6726600" y="320184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6726600" y="380988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931000" y="738360"/>
            <a:ext cx="2145960" cy="3211200"/>
          </a:xfrm>
          <a:prstGeom prst="rect">
            <a:avLst/>
          </a:prstGeom>
          <a:ln w="9525">
            <a:noFill/>
          </a:ln>
        </p:spPr>
      </p:pic>
      <p:sp>
        <p:nvSpPr>
          <p:cNvPr id="173" name="TextBox 2"/>
          <p:cNvSpPr/>
          <p:nvPr/>
        </p:nvSpPr>
        <p:spPr>
          <a:xfrm>
            <a:off x="6516720" y="5735520"/>
            <a:ext cx="1584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4" name="肘形连接符 3"/>
          <p:cNvCxnSpPr/>
          <p:nvPr/>
        </p:nvCxnSpPr>
        <p:spPr>
          <a:xfrm rot="10800000">
            <a:off x="1888920" y="1368360"/>
            <a:ext cx="4555080" cy="4869000"/>
          </a:xfrm>
          <a:prstGeom prst="bentConnector2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75" name="TextBox 4"/>
          <p:cNvSpPr/>
          <p:nvPr/>
        </p:nvSpPr>
        <p:spPr>
          <a:xfrm>
            <a:off x="1692360" y="1352520"/>
            <a:ext cx="302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0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友情和爱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2303640" y="2249640"/>
            <a:ext cx="3420720" cy="3138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和名人微博互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学会和异性搭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学会欣赏别人的优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爱情是人生的宝贵经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2586960" y="5591160"/>
            <a:ext cx="1712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书籍：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《象与骑象人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人物：  </a:t>
            </a:r>
            <a:r>
              <a:rPr b="0" lang="en-US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@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刘健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2007720" y="225900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2007720" y="286236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2007720" y="346716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2007720" y="407052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63680" y="828720"/>
            <a:ext cx="2528640" cy="4163760"/>
          </a:xfrm>
          <a:prstGeom prst="rect">
            <a:avLst/>
          </a:prstGeom>
          <a:ln w="9525">
            <a:noFill/>
          </a:ln>
        </p:spPr>
      </p:pic>
      <p:sp>
        <p:nvSpPr>
          <p:cNvPr id="183" name="TextBox 3"/>
          <p:cNvSpPr/>
          <p:nvPr/>
        </p:nvSpPr>
        <p:spPr>
          <a:xfrm>
            <a:off x="1619280" y="5591160"/>
            <a:ext cx="1584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5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肘形连接符 4"/>
          <p:cNvCxnSpPr/>
          <p:nvPr/>
        </p:nvCxnSpPr>
        <p:spPr>
          <a:xfrm flipV="1">
            <a:off x="2987640" y="971280"/>
            <a:ext cx="4321440" cy="5112360"/>
          </a:xfrm>
          <a:prstGeom prst="bentConnector2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85" name="TextBox 5"/>
          <p:cNvSpPr/>
          <p:nvPr/>
        </p:nvSpPr>
        <p:spPr>
          <a:xfrm>
            <a:off x="3348000" y="981000"/>
            <a:ext cx="3744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0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考研和就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2195640" y="1989000"/>
            <a:ext cx="4571640" cy="222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考研决策因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考研风险评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公务员的利弊分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考研就业只是走向目标的两条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4056120" y="5591160"/>
            <a:ext cx="2282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书籍：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《有了博士学位还不够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人物：  </a:t>
            </a:r>
            <a:r>
              <a:rPr b="0" lang="en-US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@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曹将</a:t>
            </a:r>
            <a:r>
              <a:rPr b="0" lang="en-US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PPTa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6706080" y="198900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6706080" y="259560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706080" y="320184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6706080" y="380988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291360" y="1530360"/>
            <a:ext cx="2858760" cy="3796920"/>
          </a:xfrm>
          <a:prstGeom prst="rect">
            <a:avLst/>
          </a:prstGeom>
          <a:ln w="9525">
            <a:noFill/>
          </a:ln>
        </p:spPr>
      </p:pic>
      <p:sp>
        <p:nvSpPr>
          <p:cNvPr id="193" name="TextBox 8"/>
          <p:cNvSpPr/>
          <p:nvPr/>
        </p:nvSpPr>
        <p:spPr>
          <a:xfrm>
            <a:off x="6516720" y="5735520"/>
            <a:ext cx="1584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6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4" name="肘形连接符 9"/>
          <p:cNvCxnSpPr/>
          <p:nvPr/>
        </p:nvCxnSpPr>
        <p:spPr>
          <a:xfrm rot="10800000">
            <a:off x="1888920" y="1368360"/>
            <a:ext cx="4555080" cy="4869000"/>
          </a:xfrm>
          <a:prstGeom prst="bentConnector2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95" name="TextBox 10"/>
          <p:cNvSpPr/>
          <p:nvPr/>
        </p:nvSpPr>
        <p:spPr>
          <a:xfrm>
            <a:off x="971640" y="1341360"/>
            <a:ext cx="3744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0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求职和创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矩形 11"/>
          <p:cNvSpPr/>
          <p:nvPr/>
        </p:nvSpPr>
        <p:spPr>
          <a:xfrm>
            <a:off x="2376360" y="2249640"/>
            <a:ext cx="4571640" cy="28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写好简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了解面试公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学习商务礼仪知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创业不是一件容易的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12"/>
          <p:cNvSpPr/>
          <p:nvPr/>
        </p:nvSpPr>
        <p:spPr>
          <a:xfrm>
            <a:off x="2704680" y="5591160"/>
            <a:ext cx="212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书籍：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《创业的</a:t>
            </a:r>
            <a:r>
              <a:rPr b="0" lang="en-US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36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条军规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人物：  </a:t>
            </a:r>
            <a:r>
              <a:rPr b="0" lang="en-US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@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请叫我许胖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2079000" y="225900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079000" y="286236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2079000" y="346716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2079000" y="407052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240" y="1292400"/>
            <a:ext cx="2809440" cy="3858840"/>
          </a:xfrm>
          <a:prstGeom prst="rect">
            <a:avLst/>
          </a:prstGeom>
          <a:ln w="9525">
            <a:noFill/>
          </a:ln>
        </p:spPr>
      </p:pic>
      <p:sp>
        <p:nvSpPr>
          <p:cNvPr id="203" name="TextBox 2"/>
          <p:cNvSpPr/>
          <p:nvPr/>
        </p:nvSpPr>
        <p:spPr>
          <a:xfrm>
            <a:off x="1619280" y="5591160"/>
            <a:ext cx="1584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7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4" name="肘形连接符 3"/>
          <p:cNvCxnSpPr/>
          <p:nvPr/>
        </p:nvCxnSpPr>
        <p:spPr>
          <a:xfrm flipV="1">
            <a:off x="2987640" y="971280"/>
            <a:ext cx="4321440" cy="5112360"/>
          </a:xfrm>
          <a:prstGeom prst="bentConnector2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205" name="TextBox 4"/>
          <p:cNvSpPr/>
          <p:nvPr/>
        </p:nvSpPr>
        <p:spPr>
          <a:xfrm>
            <a:off x="3348000" y="981000"/>
            <a:ext cx="3744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0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生活和习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2195640" y="1989000"/>
            <a:ext cx="4571640" cy="222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击败拖延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培养专注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学会记账培养理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留住你的好奇心和观察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4670280" y="5591160"/>
            <a:ext cx="177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书籍：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《思考，快与慢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人物：  </a:t>
            </a:r>
            <a:r>
              <a:rPr b="0" lang="en-US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@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谷月</a:t>
            </a:r>
            <a:r>
              <a:rPr b="0" lang="en-US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6706080" y="198900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6706080" y="259560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6706080" y="320184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6706080" y="3809880"/>
            <a:ext cx="31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894280" y="1316160"/>
            <a:ext cx="3225600" cy="4425480"/>
          </a:xfrm>
          <a:prstGeom prst="rect">
            <a:avLst/>
          </a:prstGeom>
          <a:ln w="9525">
            <a:noFill/>
          </a:ln>
        </p:spPr>
      </p:pic>
      <p:sp>
        <p:nvSpPr>
          <p:cNvPr id="214" name="TextBox 2"/>
          <p:cNvSpPr/>
          <p:nvPr/>
        </p:nvSpPr>
        <p:spPr>
          <a:xfrm>
            <a:off x="6516720" y="5735520"/>
            <a:ext cx="1584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8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5" name="肘形连接符 3"/>
          <p:cNvCxnSpPr/>
          <p:nvPr/>
        </p:nvCxnSpPr>
        <p:spPr>
          <a:xfrm rot="10800000">
            <a:off x="1888920" y="1368360"/>
            <a:ext cx="4555080" cy="4869000"/>
          </a:xfrm>
          <a:prstGeom prst="bentConnector2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216" name="TextBox 4"/>
          <p:cNvSpPr/>
          <p:nvPr/>
        </p:nvSpPr>
        <p:spPr>
          <a:xfrm>
            <a:off x="1114560" y="1352520"/>
            <a:ext cx="3744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0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个人和社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矩形 5"/>
          <p:cNvSpPr/>
          <p:nvPr/>
        </p:nvSpPr>
        <p:spPr>
          <a:xfrm>
            <a:off x="2448000" y="2249640"/>
            <a:ext cx="4571640" cy="25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请拥抱社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寻找身边正能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做一个合格的公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请学会养成独立思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2648520" y="5591160"/>
            <a:ext cx="2072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书籍：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《重新发现社会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推荐人物：  </a:t>
            </a:r>
            <a:r>
              <a:rPr b="0" lang="en-US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@Dian</a:t>
            </a:r>
            <a:r>
              <a:rPr b="0" lang="zh-CN" sz="1800" spc="-1" strike="noStrike">
                <a:solidFill>
                  <a:srgbClr val="b2b2b2"/>
                </a:solidFill>
                <a:latin typeface="造字工房悦黑体验版常规体"/>
                <a:ea typeface="造字工房悦黑体验版常规体"/>
              </a:rPr>
              <a:t>小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2171160" y="227664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2171160" y="288144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2171160" y="348444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2171160" y="4087800"/>
            <a:ext cx="35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  <Words>467</Words>
  <Paragraphs>150</Paragraphs>
  <Company>Toshib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5:04:55Z</dcterms:created>
  <dc:creator>wm</dc:creator>
  <dc:description/>
  <dc:language>en-US</dc:language>
  <cp:lastModifiedBy>王玉清</cp:lastModifiedBy>
  <dcterms:modified xsi:type="dcterms:W3CDTF">2016-03-01T06:59:40Z</dcterms:modified>
  <cp:revision>9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11</vt:r8>
  </property>
</Properties>
</file>