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5DA-6EF8-463C-B7B6-84165708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A91-E1AA-417B-B4BC-EC22A994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B10-1CC9-4A5D-ADF0-D00AA8B1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05B-D5BF-4BAB-B1F2-5D8F74D5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919-4BEB-40ED-9B58-496D9386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D0AA-CFEB-4A7C-ADC7-D4B800C7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AF73-C573-4C9B-869B-3D9EDB4F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097C-D2F0-459C-8D93-7D7476F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29A8-F3C9-48A2-A183-30BE2DC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9D1D-ABFF-4C04-8BF8-9B01299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A7FD-B039-4017-A45F-106F863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F9-4931-4BB4-8BA6-3F514DC4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3DA2-D94D-4757-9119-425CB163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0017-30D6-4CB7-8F66-7E32801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690D-0AA6-45C2-AC55-15033B7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CACA-C79F-4519-80A2-EA65D0F1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0264-913E-4395-997F-6524CA89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755-94B2-4AAE-A7C5-84CD57E1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7DC-7084-477D-B09F-EFED743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97B-A30D-4FAB-A556-22E0BE9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B28-C244-4484-913F-254C13C1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BF4-64C0-4301-BAAE-1818F9F5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D35-B5F7-4F4A-AFEE-5D0387D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AD8-DDEF-4DE0-8D30-6C9E1200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773-D968-4DFC-A0A5-63FD3FF5FE25}" type="slidenum">
              <a:rPr b="0" lang="zh-CN" sz="10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8939-80A9-4657-8157-328192CD219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达坏消息商务管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的问题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坏消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清楚，不要试图掩盖问题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种问题是如何发生的？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有相关的历史、事实或策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再有效的原始假设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考虑的备选课程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演示备选的操作课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讨每个课程的优缺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推荐或决定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推荐的操作或决定课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讨推荐如何解决问题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讨计划如何解决操作导致的困难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的未来构想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重申您的目标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定对未来的期望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定预期结果的时间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24000" y="6546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记住的要点（将为听众带来信心或鼓舞士气）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17:47Z</dcterms:created>
  <dc:creator>ppt宝藏</dc:creator>
  <dc:description/>
  <dc:language>en-US</dc:language>
  <cp:lastModifiedBy>a</cp:lastModifiedBy>
  <dcterms:modified xsi:type="dcterms:W3CDTF">2015-07-25T06:42:15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0582052</vt:lpwstr>
  </property>
</Properties>
</file>