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move the slide</a:t>
            </a:r>
            <a:endParaRPr b="1" lang="en-US" sz="3200" spc="-1" strike="noStrike">
              <a:solidFill>
                <a:srgbClr val="000000"/>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F5CC-C1CF-4417-97CB-65807847AB77}"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5A9DB-8AEE-4B60-81C9-95B77C8371A0}"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E175-6CA0-42A2-A8EA-7DD78B68CA02}"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20F5-31F0-4658-9971-56C539DE0299}"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5D5DA-EB9E-4CAC-A8EE-5B420BB80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0332D-379C-4394-BA74-5E0688C46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8ADC9-7F79-4B36-8F3B-88E35F069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FC391-E30C-4B36-BCEC-DBA10F2E0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A7E50-7CC1-4A42-B87A-A09E6E845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C9B60-E2FC-411D-A6C6-CE7E61436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09713-EF79-4D60-9684-6CACE63E8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4D2C0-BE1F-40C4-B5EC-ABA7335FB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E0E35-7F51-4374-986D-AFCCA732D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5D26C-1532-4ED0-AAC5-C706207D5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E3B9C-BC76-4F27-BD26-E57E5EDCF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3D492-40FD-41AB-BFB4-7FA1ED9EE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69FD4-966D-4BA9-89C7-EDEE0A138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994F9-9DB5-4E44-8206-F08990206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B3484-C1E6-41C6-BD2E-C847EC32A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928072-40CC-4CEC-AFEF-0883A3D41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8BE516-61DA-48E0-9E9F-9144FF429C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D6FF8-7CE7-4BCE-AC46-45B7F5AD7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7C20A-0CB0-4A83-A53C-032023094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05967-0882-4573-A457-B96A95ABD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D111D-5134-4518-B78A-11A9F8EF9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26F75-CFB7-47C0-BACB-7D1559547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D40F6-77AA-4CB5-A30C-5E410C31D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E295B-103B-4928-BAB4-E58D29E57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DFE1-0E37-4545-9700-35DFEB4E4467}"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0084-8C50-473C-85C0-AEC1ACE52210}"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5478120"/>
            <a:ext cx="73152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成功合作商务</a:t>
            </a:r>
            <a:r>
              <a:rPr b="1" lang="en-US" sz="4000" spc="-1" strike="noStrike">
                <a:solidFill>
                  <a:srgbClr val="000000"/>
                </a:solidFill>
                <a:latin typeface="Tahoma"/>
                <a:ea typeface="宋体"/>
              </a:rPr>
              <a:t>PPT</a:t>
            </a:r>
            <a:r>
              <a:rPr b="1" lang="zh-CN" sz="4000" spc="-1" strike="noStrike">
                <a:solidFill>
                  <a:srgbClr val="000000"/>
                </a:solidFill>
                <a:latin typeface="Tahoma"/>
                <a:ea typeface="宋体"/>
              </a:rPr>
              <a:t>模板在线下载</a:t>
            </a:r>
            <a:endParaRPr b="1" lang="en-US" sz="4000" spc="-1" strike="noStrike">
              <a:solidFill>
                <a:srgbClr val="000000"/>
              </a:solidFill>
              <a:latin typeface="Tahoma"/>
            </a:endParaRPr>
          </a:p>
        </p:txBody>
      </p:sp>
      <p:sp>
        <p:nvSpPr>
          <p:cNvPr id="90" name="PlaceHolder 2"/>
          <p:cNvSpPr>
            <a:spLocks noGrp="1"/>
          </p:cNvSpPr>
          <p:nvPr>
            <p:ph type="subTitle"/>
          </p:nvPr>
        </p:nvSpPr>
        <p:spPr>
          <a:xfrm>
            <a:off x="2057400" y="6248160"/>
            <a:ext cx="5029200" cy="609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d0d0d"/>
              </a:solidFill>
              <a:latin typeface="Arial"/>
              <a:ea typeface="宋体"/>
            </a:endParaRPr>
          </a:p>
        </p:txBody>
      </p:sp>
      <p:sp>
        <p:nvSpPr>
          <p:cNvPr id="91" name="矩形 12"/>
          <p:cNvSpPr/>
          <p:nvPr/>
        </p:nvSpPr>
        <p:spPr>
          <a:xfrm>
            <a:off x="206280" y="65530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80520" y="990360"/>
            <a:ext cx="6782040" cy="5135400"/>
          </a:xfrm>
          <a:prstGeom prst="rect">
            <a:avLst/>
          </a:prstGeom>
          <a:noFill/>
          <a:ln w="0">
            <a:noFill/>
          </a:ln>
        </p:spPr>
        <p:txBody>
          <a:bodyPr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1"/>
          <p:cNvSpPr>
            <a:spLocks noGrp="1"/>
          </p:cNvSpPr>
          <p:nvPr>
            <p:ph type="title"/>
          </p:nvPr>
        </p:nvSpPr>
        <p:spPr>
          <a:xfrm>
            <a:off x="380520" y="147240"/>
            <a:ext cx="67820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Slide Master</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rint Master</a:t>
            </a:r>
            <a:endParaRPr b="1" lang="en-US" sz="3200" spc="-1" strike="noStrike">
              <a:solidFill>
                <a:srgbClr val="000000"/>
              </a:solidFill>
              <a:latin typeface="Tahoma"/>
            </a:endParaRPr>
          </a:p>
        </p:txBody>
      </p:sp>
      <p:sp>
        <p:nvSpPr>
          <p:cNvPr id="95" name=""/>
          <p:cNvSpPr txBox="1"/>
          <p:nvPr/>
        </p:nvSpPr>
        <p:spPr>
          <a:xfrm>
            <a:off x="1980720" y="1600200"/>
            <a:ext cx="67057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ppt宝藏</dc:creator>
  <dc:description/>
  <dc:language>en-US</dc:language>
  <cp:lastModifiedBy>a</cp:lastModifiedBy>
  <dcterms:modified xsi:type="dcterms:W3CDTF">2015-07-25T12:30:26Z</dcterms:modified>
  <cp:revision>34</cp:revision>
  <dc:subject/>
  <dc:title>www.pptbz.com</dc:title>
</cp:coreProperties>
</file>