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EED-4ACC-464A-94A1-D4C01D3B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487-1367-4B3D-B74F-730DDCD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D5F-6BE9-45C6-B24A-59866A8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4DA-C6B3-45A1-8A4B-8BBE6ADE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BF27-A8EA-4B7D-88BC-687B2AF0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0CE8-4196-489B-A5E9-E0AC04D7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D27B-5915-4E9B-B66F-57DE717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66EB-79AB-4D2C-821E-A5591F9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7D28-8B3A-43D2-9263-A55FA4F8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E579-ADEE-449A-80E2-C5EEEDDD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4E89-E11D-4B19-8B15-1939A251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CF4-7F61-4665-B115-B644E826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7068-34D7-4DD0-846E-D21140F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E029-AF1C-4A42-8E11-264ACE77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697A-2249-4C7B-A934-D38B1AD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47B-C397-4D6A-8A29-423BD9EA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1C16-6A2C-45C9-BD20-C1086A57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AF1-184A-44C5-A0A2-0085826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AEB-9442-4AE0-BF31-8330B19B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C79-B46D-4A05-B782-C588FCA3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D40-6CA7-4FE7-B846-8357B570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A97-1A6B-4B7E-B81C-DAA507A9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F0F-74A1-46D9-A601-D282EB2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3D3-140B-4CCC-B45A-F5022DB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F2801B-B1E8-4F1F-BDBE-12FCB7785C5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0509FA-8D12-4BED-BBD7-E9CEC7C8DA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733920"/>
            <a:ext cx="793908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Gulim"/>
              </a:rPr>
              <a:t>彩色蝴蝶通用</a:t>
            </a:r>
            <a:r>
              <a:rPr b="0" lang="en-US" sz="4000" spc="-1" strike="noStrike">
                <a:solidFill>
                  <a:srgbClr val="ffffff"/>
                </a:solidFill>
                <a:latin typeface="Gulim"/>
                <a:ea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Gulim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01956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29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Gulim"/>
                <a:ea typeface="Gulim"/>
              </a:rPr>
              <a:t>Text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769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Gulim"/>
                <a:ea typeface="Gulim"/>
              </a:rPr>
              <a:t>Print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48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蝴蝶ppt模板-www.51pptmoban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蝴蝶ppt模板-www.51pptmoban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蝴蝶ppt模板-www.51pptmoban.com</Template>
  <TotalTime>1</TotalTime>
  <Application>LibreOffice/7.4.7.2$Linux_X86_64 LibreOffice_project/40$Build-2</Application>
  <AppVersion>15.0000</AppVersion>
  <Words>100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2:31:02Z</dcterms:created>
  <dc:creator>for_yang@qq.com</dc:creator>
  <dc:description/>
  <dc:language>en-US</dc:language>
  <cp:lastModifiedBy>王玉清</cp:lastModifiedBy>
  <dcterms:modified xsi:type="dcterms:W3CDTF">2016-03-02T10:30:19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