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BAB1-5CEC-470F-BDCD-A58EF1FCE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E394-6F0E-42F2-94D6-FD129FFE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C11-B51D-4714-A3CB-70A7C720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C23-BB87-4E78-BBF5-D7DB19DE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892-F9F7-4687-999E-5AA4D796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F1F-3FAD-47F5-822F-B267781B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63A-85AE-499D-AE77-47AB67C8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06C-62F6-433A-A35A-42D8DC58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342-5840-4EDF-894A-BC8243C8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4FE-C93C-4E4E-8DA8-694F3EB7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CEF-2AB5-4AF1-A237-BD1D0914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7CF-A220-4D32-8CA5-A58561F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89b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PPT模版\素材\背景和图片\landscape\sky\cloud2.png"/>
          <p:cNvPicPr/>
          <p:nvPr/>
        </p:nvPicPr>
        <p:blipFill>
          <a:blip r:embed="rId2"/>
          <a:srcRect l="82814" t="53663" r="0" b="0"/>
          <a:stretch/>
        </p:blipFill>
        <p:spPr>
          <a:xfrm>
            <a:off x="7572240" y="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D:\PPT模版\素材\背景和图片\landscape\buildings\building6.png"/>
          <p:cNvPicPr/>
          <p:nvPr/>
        </p:nvPicPr>
        <p:blipFill>
          <a:blip r:embed="rId3"/>
          <a:stretch/>
        </p:blipFill>
        <p:spPr>
          <a:xfrm>
            <a:off x="5407200" y="225360"/>
            <a:ext cx="3760560" cy="2292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D:\PPT模版\素材\背景和图片\landscape\buildings\building1.png"/>
          <p:cNvPicPr/>
          <p:nvPr/>
        </p:nvPicPr>
        <p:blipFill>
          <a:blip r:embed="rId4"/>
          <a:stretch/>
        </p:blipFill>
        <p:spPr>
          <a:xfrm>
            <a:off x="-20520" y="781200"/>
            <a:ext cx="971280" cy="1206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D:\PPT模版\素材\背景和图片\landscape\sky\sun.png"/>
          <p:cNvPicPr/>
          <p:nvPr/>
        </p:nvPicPr>
        <p:blipFill>
          <a:blip r:embed="rId5"/>
          <a:stretch/>
        </p:blipFill>
        <p:spPr>
          <a:xfrm>
            <a:off x="230040" y="-20520"/>
            <a:ext cx="1070280" cy="78264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图片3.png"/>
          <p:cNvPicPr/>
          <p:nvPr/>
        </p:nvPicPr>
        <p:blipFill>
          <a:blip r:embed="rId6"/>
          <a:stretch/>
        </p:blipFill>
        <p:spPr>
          <a:xfrm>
            <a:off x="420840" y="654120"/>
            <a:ext cx="1822320" cy="105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6815-B0C3-49C1-AD2A-3BC082655D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矩形 13" descr=""/>
          <p:cNvPicPr/>
          <p:nvPr/>
        </p:nvPicPr>
        <p:blipFill>
          <a:blip r:embed="rId7"/>
          <a:stretch/>
        </p:blipFill>
        <p:spPr>
          <a:xfrm>
            <a:off x="7924680" y="6175440"/>
            <a:ext cx="11336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289bc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D:\PPT模版\素材\背景和图片\landscape\sky\cloud2.png"/>
          <p:cNvPicPr/>
          <p:nvPr/>
        </p:nvPicPr>
        <p:blipFill>
          <a:blip r:embed="rId2"/>
          <a:srcRect l="82814" t="53663" r="0" b="0"/>
          <a:stretch/>
        </p:blipFill>
        <p:spPr>
          <a:xfrm>
            <a:off x="7572240" y="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D:\PPT模版\素材\背景和图片\landscape\buildings\building6.png"/>
          <p:cNvPicPr/>
          <p:nvPr/>
        </p:nvPicPr>
        <p:blipFill>
          <a:blip r:embed="rId3"/>
          <a:stretch/>
        </p:blipFill>
        <p:spPr>
          <a:xfrm>
            <a:off x="5407200" y="225360"/>
            <a:ext cx="3760560" cy="2292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:\PPT模版\素材\背景和图片\landscape\buildings\building1.png"/>
          <p:cNvPicPr/>
          <p:nvPr/>
        </p:nvPicPr>
        <p:blipFill>
          <a:blip r:embed="rId4"/>
          <a:stretch/>
        </p:blipFill>
        <p:spPr>
          <a:xfrm>
            <a:off x="-20520" y="781200"/>
            <a:ext cx="971280" cy="120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:\PPT模版\素材\背景和图片\landscape\sky\sun.png"/>
          <p:cNvPicPr/>
          <p:nvPr/>
        </p:nvPicPr>
        <p:blipFill>
          <a:blip r:embed="rId5"/>
          <a:stretch/>
        </p:blipFill>
        <p:spPr>
          <a:xfrm>
            <a:off x="230040" y="-20520"/>
            <a:ext cx="1070280" cy="7826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图片3.png"/>
          <p:cNvPicPr/>
          <p:nvPr/>
        </p:nvPicPr>
        <p:blipFill>
          <a:blip r:embed="rId6"/>
          <a:stretch/>
        </p:blipFill>
        <p:spPr>
          <a:xfrm>
            <a:off x="420840" y="654120"/>
            <a:ext cx="1822320" cy="1058760"/>
          </a:xfrm>
          <a:prstGeom prst="rect">
            <a:avLst/>
          </a:prstGeom>
          <a:ln w="0">
            <a:noFill/>
          </a:ln>
        </p:spPr>
      </p:pic>
      <p:pic>
        <p:nvPicPr>
          <p:cNvPr id="95" name="矩形 13" descr=""/>
          <p:cNvPicPr/>
          <p:nvPr/>
        </p:nvPicPr>
        <p:blipFill>
          <a:blip r:embed="rId7"/>
          <a:stretch/>
        </p:blipFill>
        <p:spPr>
          <a:xfrm>
            <a:off x="7924680" y="6175440"/>
            <a:ext cx="1133640" cy="530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城市精英商务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2477520" y="1737360"/>
            <a:ext cx="4419360" cy="4558680"/>
            <a:chOff x="2477520" y="1737360"/>
            <a:chExt cx="4419360" cy="4558680"/>
          </a:xfrm>
        </p:grpSpPr>
        <p:grpSp>
          <p:nvGrpSpPr>
            <p:cNvPr id="383" name="Group 4"/>
            <p:cNvGrpSpPr/>
            <p:nvPr/>
          </p:nvGrpSpPr>
          <p:grpSpPr>
            <a:xfrm>
              <a:off x="2477520" y="1737360"/>
              <a:ext cx="4419360" cy="4558680"/>
              <a:chOff x="2477520" y="1737360"/>
              <a:chExt cx="4419360" cy="4558680"/>
            </a:xfrm>
          </p:grpSpPr>
          <p:sp>
            <p:nvSpPr>
              <p:cNvPr id="384" name="椭圆 2"/>
              <p:cNvSpPr/>
              <p:nvPr/>
            </p:nvSpPr>
            <p:spPr>
              <a:xfrm>
                <a:off x="2701800" y="1973160"/>
                <a:ext cx="389304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椭圆 11"/>
              <p:cNvSpPr/>
              <p:nvPr/>
            </p:nvSpPr>
            <p:spPr>
              <a:xfrm flipH="1">
                <a:off x="2534400" y="2707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椭圆 12"/>
              <p:cNvSpPr/>
              <p:nvPr/>
            </p:nvSpPr>
            <p:spPr>
              <a:xfrm flipH="1">
                <a:off x="6219360" y="2679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椭圆 13"/>
              <p:cNvSpPr/>
              <p:nvPr/>
            </p:nvSpPr>
            <p:spPr>
              <a:xfrm flipH="1">
                <a:off x="4390200" y="56865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" name="Group 9"/>
              <p:cNvGrpSpPr/>
              <p:nvPr/>
            </p:nvGrpSpPr>
            <p:grpSpPr>
              <a:xfrm>
                <a:off x="2477520" y="1737360"/>
                <a:ext cx="4419360" cy="4404960"/>
                <a:chOff x="2477520" y="1737360"/>
                <a:chExt cx="4419360" cy="4404960"/>
              </a:xfrm>
            </p:grpSpPr>
            <p:grpSp>
              <p:nvGrpSpPr>
                <p:cNvPr id="389" name="Group 10"/>
                <p:cNvGrpSpPr/>
                <p:nvPr/>
              </p:nvGrpSpPr>
              <p:grpSpPr>
                <a:xfrm>
                  <a:off x="3062160" y="2304720"/>
                  <a:ext cx="3183120" cy="3184560"/>
                  <a:chOff x="3062160" y="2304720"/>
                  <a:chExt cx="3183120" cy="3184560"/>
                </a:xfrm>
              </p:grpSpPr>
              <p:sp>
                <p:nvSpPr>
                  <p:cNvPr id="390" name="饼形 7"/>
                  <p:cNvSpPr/>
                  <p:nvPr/>
                </p:nvSpPr>
                <p:spPr>
                  <a:xfrm>
                    <a:off x="3062160" y="2304720"/>
                    <a:ext cx="3183120" cy="3184560"/>
                  </a:xfrm>
                  <a:custGeom>
                    <a:avLst/>
                    <a:gdLst>
                      <a:gd name="textAreaLeft" fmla="*/ 466200 w 3183120"/>
                      <a:gd name="textAreaRight" fmla="*/ 2716920 w 3183120"/>
                      <a:gd name="textAreaTop" fmla="*/ 466200 h 3184560"/>
                      <a:gd name="textAreaBottom" fmla="*/ 2718360 h 3184560"/>
                    </a:gdLst>
                    <a:ahLst/>
                    <a:rect l="textAreaLeft" t="textAreaTop" r="textAreaRight" b="textAreaBottom"/>
                    <a:pathLst>
                      <a:path w="3183472" h="3184419">
                        <a:moveTo>
                          <a:pt x="184991" y="2337208"/>
                        </a:moveTo>
                        <a:lnTo>
                          <a:pt x="184991" y="2337207"/>
                        </a:lnTo>
                        <a:cubicBezTo>
                          <a:pt x="63509" y="2107682"/>
                          <a:pt x="0" y="1851917"/>
                          <a:pt x="0" y="1592209"/>
                        </a:cubicBezTo>
                        <a:cubicBezTo>
                          <a:pt x="0" y="712855"/>
                          <a:pt x="712644" y="-1"/>
                          <a:pt x="1591736" y="-1"/>
                        </a:cubicBezTo>
                        <a:cubicBezTo>
                          <a:pt x="1591736" y="-2"/>
                          <a:pt x="1591737" y="-1"/>
                          <a:pt x="1591737" y="-1"/>
                        </a:cubicBezTo>
                        <a:lnTo>
                          <a:pt x="1591736" y="1592210"/>
                        </a:lnTo>
                        <a:lnTo>
                          <a:pt x="184991" y="2337208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饼形 8"/>
                  <p:cNvSpPr/>
                  <p:nvPr/>
                </p:nvSpPr>
                <p:spPr>
                  <a:xfrm>
                    <a:off x="3554280" y="2782440"/>
                    <a:ext cx="2251440" cy="2252880"/>
                  </a:xfrm>
                  <a:custGeom>
                    <a:avLst/>
                    <a:gdLst>
                      <a:gd name="textAreaLeft" fmla="*/ 329760 w 2251440"/>
                      <a:gd name="textAreaRight" fmla="*/ 1921680 w 2251440"/>
                      <a:gd name="textAreaTop" fmla="*/ 329760 h 2252880"/>
                      <a:gd name="textAreaBottom" fmla="*/ 192312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4"/>
                        </a:moveTo>
                        <a:lnTo>
                          <a:pt x="130787" y="1653203"/>
                        </a:lnTo>
                        <a:cubicBezTo>
                          <a:pt x="44900" y="1490864"/>
                          <a:pt x="0" y="1309972"/>
                          <a:pt x="0" y="1126293"/>
                        </a:cubicBezTo>
                        <a:cubicBezTo>
                          <a:pt x="0" y="504257"/>
                          <a:pt x="504005" y="-1"/>
                          <a:pt x="1125727" y="-1"/>
                        </a:cubicBezTo>
                        <a:cubicBezTo>
                          <a:pt x="1125727" y="-2"/>
                          <a:pt x="1125727" y="-1"/>
                          <a:pt x="1125727" y="-1"/>
                        </a:cubicBezTo>
                        <a:lnTo>
                          <a:pt x="1125727" y="1126294"/>
                        </a:lnTo>
                        <a:lnTo>
                          <a:pt x="130787" y="16532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Group 13"/>
                <p:cNvGrpSpPr/>
                <p:nvPr/>
              </p:nvGrpSpPr>
              <p:grpSpPr>
                <a:xfrm>
                  <a:off x="2550600" y="1737360"/>
                  <a:ext cx="4346280" cy="4347000"/>
                  <a:chOff x="2550600" y="1737360"/>
                  <a:chExt cx="4346280" cy="4347000"/>
                </a:xfrm>
              </p:grpSpPr>
              <p:sp>
                <p:nvSpPr>
                  <p:cNvPr id="393" name="饼形 21"/>
                  <p:cNvSpPr/>
                  <p:nvPr/>
                </p:nvSpPr>
                <p:spPr>
                  <a:xfrm rot="7192200">
                    <a:off x="3131280" y="2319120"/>
                    <a:ext cx="3184560" cy="3183120"/>
                  </a:xfrm>
                  <a:custGeom>
                    <a:avLst/>
                    <a:gdLst>
                      <a:gd name="textAreaLeft" fmla="*/ 466200 w 3184560"/>
                      <a:gd name="textAreaRight" fmla="*/ 2718360 w 31845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4419" h="3183472">
                        <a:moveTo>
                          <a:pt x="185230" y="2336859"/>
                        </a:moveTo>
                        <a:lnTo>
                          <a:pt x="185229" y="2336859"/>
                        </a:lnTo>
                        <a:cubicBezTo>
                          <a:pt x="63593" y="2107315"/>
                          <a:pt x="0" y="1851499"/>
                          <a:pt x="0" y="1591736"/>
                        </a:cubicBezTo>
                        <a:cubicBezTo>
                          <a:pt x="0" y="712644"/>
                          <a:pt x="712856" y="0"/>
                          <a:pt x="1592210" y="0"/>
                        </a:cubicBezTo>
                        <a:cubicBezTo>
                          <a:pt x="1592210" y="-1"/>
                          <a:pt x="1592211" y="0"/>
                          <a:pt x="1592211" y="0"/>
                        </a:cubicBezTo>
                        <a:lnTo>
                          <a:pt x="1592210" y="1591736"/>
                        </a:lnTo>
                        <a:lnTo>
                          <a:pt x="185230" y="2336859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饼形 22"/>
                  <p:cNvSpPr/>
                  <p:nvPr/>
                </p:nvSpPr>
                <p:spPr>
                  <a:xfrm rot="7192200">
                    <a:off x="3568680" y="279612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5" y="1788908"/>
                        </a:moveTo>
                        <a:lnTo>
                          <a:pt x="217114" y="1788908"/>
                        </a:lnTo>
                        <a:cubicBezTo>
                          <a:pt x="76038" y="1596199"/>
                          <a:pt x="0" y="1363660"/>
                          <a:pt x="0" y="1124932"/>
                        </a:cubicBezTo>
                        <a:cubicBezTo>
                          <a:pt x="0" y="503648"/>
                          <a:pt x="504258" y="-1"/>
                          <a:pt x="1126294" y="-1"/>
                        </a:cubicBezTo>
                        <a:cubicBezTo>
                          <a:pt x="1126294" y="-2"/>
                          <a:pt x="1126295" y="-1"/>
                          <a:pt x="1126295" y="-1"/>
                        </a:cubicBezTo>
                        <a:lnTo>
                          <a:pt x="1126294" y="1124933"/>
                        </a:lnTo>
                        <a:lnTo>
                          <a:pt x="217115" y="178890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Group 16"/>
                <p:cNvGrpSpPr/>
                <p:nvPr/>
              </p:nvGrpSpPr>
              <p:grpSpPr>
                <a:xfrm>
                  <a:off x="2477520" y="1788840"/>
                  <a:ext cx="4352400" cy="4353480"/>
                  <a:chOff x="2477520" y="1788840"/>
                  <a:chExt cx="4352400" cy="4353480"/>
                </a:xfrm>
              </p:grpSpPr>
              <p:sp>
                <p:nvSpPr>
                  <p:cNvPr id="396" name="饼形 19"/>
                  <p:cNvSpPr/>
                  <p:nvPr/>
                </p:nvSpPr>
                <p:spPr>
                  <a:xfrm rot="14392200">
                    <a:off x="3060360" y="2373840"/>
                    <a:ext cx="3186360" cy="3183120"/>
                  </a:xfrm>
                  <a:custGeom>
                    <a:avLst/>
                    <a:gdLst>
                      <a:gd name="textAreaLeft" fmla="*/ 466560 w 3186360"/>
                      <a:gd name="textAreaRight" fmla="*/ 2719800 w 31863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6006" h="3183472">
                        <a:moveTo>
                          <a:pt x="185476" y="2337149"/>
                        </a:moveTo>
                        <a:lnTo>
                          <a:pt x="185475" y="2337149"/>
                        </a:lnTo>
                        <a:cubicBezTo>
                          <a:pt x="63679" y="2107532"/>
                          <a:pt x="0" y="1851610"/>
                          <a:pt x="0" y="1591736"/>
                        </a:cubicBezTo>
                        <a:cubicBezTo>
                          <a:pt x="0" y="712644"/>
                          <a:pt x="713211" y="0"/>
                          <a:pt x="1593003" y="0"/>
                        </a:cubicBezTo>
                        <a:cubicBezTo>
                          <a:pt x="1593003" y="-1"/>
                          <a:pt x="1593004" y="0"/>
                          <a:pt x="1593004" y="0"/>
                        </a:cubicBezTo>
                        <a:lnTo>
                          <a:pt x="1593003" y="1591736"/>
                        </a:lnTo>
                        <a:lnTo>
                          <a:pt x="185476" y="2337149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饼形 15"/>
                  <p:cNvSpPr/>
                  <p:nvPr/>
                </p:nvSpPr>
                <p:spPr>
                  <a:xfrm rot="14392200">
                    <a:off x="3522240" y="280908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6">
                        <a:moveTo>
                          <a:pt x="131226" y="1651911"/>
                        </a:moveTo>
                        <a:lnTo>
                          <a:pt x="131226" y="1651910"/>
                        </a:lnTo>
                        <a:cubicBezTo>
                          <a:pt x="45054" y="1489590"/>
                          <a:pt x="0" y="1308659"/>
                          <a:pt x="0" y="1124933"/>
                        </a:cubicBezTo>
                        <a:cubicBezTo>
                          <a:pt x="0" y="503649"/>
                          <a:pt x="504258" y="0"/>
                          <a:pt x="1126294" y="0"/>
                        </a:cubicBezTo>
                        <a:cubicBezTo>
                          <a:pt x="1126294" y="-1"/>
                          <a:pt x="1126294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8" name="椭圆 15"/>
              <p:cNvSpPr/>
              <p:nvPr/>
            </p:nvSpPr>
            <p:spPr>
              <a:xfrm>
                <a:off x="4003560" y="323352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9" name="矩形 4" descr=""/>
            <p:cNvPicPr/>
            <p:nvPr/>
          </p:nvPicPr>
          <p:blipFill>
            <a:blip r:embed="rId1"/>
            <a:stretch/>
          </p:blipFill>
          <p:spPr>
            <a:xfrm>
              <a:off x="3938040" y="2407680"/>
              <a:ext cx="2316600" cy="24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矩形 5" descr=""/>
            <p:cNvPicPr/>
            <p:nvPr/>
          </p:nvPicPr>
          <p:blipFill>
            <a:blip r:embed="rId2"/>
            <a:stretch/>
          </p:blipFill>
          <p:spPr>
            <a:xfrm>
              <a:off x="3608640" y="3639240"/>
              <a:ext cx="20361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矩形 6" descr=""/>
            <p:cNvPicPr/>
            <p:nvPr/>
          </p:nvPicPr>
          <p:blipFill>
            <a:blip r:embed="rId3"/>
            <a:stretch/>
          </p:blipFill>
          <p:spPr>
            <a:xfrm>
              <a:off x="3102480" y="2310120"/>
              <a:ext cx="2383560" cy="24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506840" y="57736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50320" y="27943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315840" y="277344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5" name="TextBox 25"/>
          <p:cNvSpPr/>
          <p:nvPr/>
        </p:nvSpPr>
        <p:spPr>
          <a:xfrm>
            <a:off x="23508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26"/>
          <p:cNvSpPr/>
          <p:nvPr/>
        </p:nvSpPr>
        <p:spPr>
          <a:xfrm>
            <a:off x="678816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7"/>
          <p:cNvSpPr/>
          <p:nvPr/>
        </p:nvSpPr>
        <p:spPr>
          <a:xfrm>
            <a:off x="5029200" y="621180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右箭头 2"/>
          <p:cNvSpPr/>
          <p:nvPr/>
        </p:nvSpPr>
        <p:spPr>
          <a:xfrm>
            <a:off x="1758960" y="2992320"/>
            <a:ext cx="3614760" cy="2760840"/>
          </a:xfrm>
          <a:prstGeom prst="rightArrow">
            <a:avLst>
              <a:gd name="adj1" fmla="val 61213"/>
              <a:gd name="adj2" fmla="val 49995"/>
            </a:avLst>
          </a:prstGeom>
          <a:gradFill rotWithShape="0">
            <a:gsLst>
              <a:gs pos="0">
                <a:srgbClr val="bcbcbc">
                  <a:alpha val="69019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17600" y="2496960"/>
            <a:ext cx="1639800" cy="3648240"/>
            <a:chOff x="417600" y="2496960"/>
            <a:chExt cx="1639800" cy="3648240"/>
          </a:xfrm>
        </p:grpSpPr>
        <p:sp>
          <p:nvSpPr>
            <p:cNvPr id="411" name="矩形 4"/>
            <p:cNvSpPr/>
            <p:nvPr/>
          </p:nvSpPr>
          <p:spPr>
            <a:xfrm>
              <a:off x="1143720" y="3739680"/>
              <a:ext cx="154440" cy="10112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Group 6"/>
            <p:cNvGrpSpPr/>
            <p:nvPr/>
          </p:nvGrpSpPr>
          <p:grpSpPr>
            <a:xfrm>
              <a:off x="428040" y="2496960"/>
              <a:ext cx="1626480" cy="1635840"/>
              <a:chOff x="428040" y="2496960"/>
              <a:chExt cx="1626480" cy="1635840"/>
            </a:xfrm>
          </p:grpSpPr>
          <p:sp>
            <p:nvSpPr>
              <p:cNvPr id="413" name="椭圆 11"/>
              <p:cNvSpPr/>
              <p:nvPr/>
            </p:nvSpPr>
            <p:spPr>
              <a:xfrm>
                <a:off x="428040" y="2496960"/>
                <a:ext cx="1626480" cy="1635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椭圆 3"/>
              <p:cNvSpPr/>
              <p:nvPr/>
            </p:nvSpPr>
            <p:spPr>
              <a:xfrm>
                <a:off x="495720" y="2565000"/>
                <a:ext cx="1491120" cy="149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椭圆 13"/>
              <p:cNvSpPr/>
              <p:nvPr/>
            </p:nvSpPr>
            <p:spPr>
              <a:xfrm>
                <a:off x="532080" y="2601360"/>
                <a:ext cx="1418400" cy="142668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6" name="组合 47" descr=""/>
            <p:cNvPicPr/>
            <p:nvPr/>
          </p:nvPicPr>
          <p:blipFill>
            <a:blip r:embed="rId1"/>
            <a:stretch/>
          </p:blipFill>
          <p:spPr>
            <a:xfrm>
              <a:off x="417600" y="4495680"/>
              <a:ext cx="163980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矩形 7"/>
            <p:cNvSpPr/>
            <p:nvPr/>
          </p:nvSpPr>
          <p:spPr>
            <a:xfrm flipV="1">
              <a:off x="1045800" y="4259520"/>
              <a:ext cx="34956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圆角矩形 14"/>
          <p:cNvSpPr/>
          <p:nvPr/>
        </p:nvSpPr>
        <p:spPr>
          <a:xfrm>
            <a:off x="5433840" y="282564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57"/>
          <p:cNvSpPr/>
          <p:nvPr/>
        </p:nvSpPr>
        <p:spPr>
          <a:xfrm>
            <a:off x="5907240" y="2963880"/>
            <a:ext cx="2500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58"/>
          <p:cNvSpPr/>
          <p:nvPr/>
        </p:nvSpPr>
        <p:spPr>
          <a:xfrm>
            <a:off x="5761080" y="437040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7"/>
          <p:cNvSpPr/>
          <p:nvPr/>
        </p:nvSpPr>
        <p:spPr>
          <a:xfrm flipV="1">
            <a:off x="5664240" y="4271760"/>
            <a:ext cx="2865240" cy="27000"/>
          </a:xfrm>
          <a:prstGeom prst="line">
            <a:avLst/>
          </a:prstGeom>
          <a:ln w="76320">
            <a:solidFill>
              <a:srgbClr val="897dc1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63"/>
          <p:cNvSpPr/>
          <p:nvPr/>
        </p:nvSpPr>
        <p:spPr>
          <a:xfrm>
            <a:off x="477720" y="16095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64"/>
          <p:cNvSpPr/>
          <p:nvPr/>
        </p:nvSpPr>
        <p:spPr>
          <a:xfrm>
            <a:off x="2293920" y="393552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TextBox 49"/>
          <p:cNvSpPr/>
          <p:nvPr/>
        </p:nvSpPr>
        <p:spPr>
          <a:xfrm>
            <a:off x="2759040" y="21477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0"/>
          <p:cNvSpPr/>
          <p:nvPr/>
        </p:nvSpPr>
        <p:spPr>
          <a:xfrm>
            <a:off x="4545000" y="5133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1"/>
          <p:cNvSpPr/>
          <p:nvPr/>
        </p:nvSpPr>
        <p:spPr>
          <a:xfrm>
            <a:off x="988920" y="5133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52"/>
          <p:cNvSpPr/>
          <p:nvPr/>
        </p:nvSpPr>
        <p:spPr>
          <a:xfrm>
            <a:off x="6551640" y="20541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4"/>
          <p:cNvSpPr/>
          <p:nvPr/>
        </p:nvSpPr>
        <p:spPr>
          <a:xfrm>
            <a:off x="841320" y="16351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8"/>
          <p:cNvGrpSpPr/>
          <p:nvPr/>
        </p:nvGrpSpPr>
        <p:grpSpPr>
          <a:xfrm>
            <a:off x="763560" y="3013200"/>
            <a:ext cx="7645320" cy="2265120"/>
            <a:chOff x="763560" y="3013200"/>
            <a:chExt cx="7645320" cy="2265120"/>
          </a:xfrm>
        </p:grpSpPr>
        <p:grpSp>
          <p:nvGrpSpPr>
            <p:cNvPr id="431" name="Group 9"/>
            <p:cNvGrpSpPr/>
            <p:nvPr/>
          </p:nvGrpSpPr>
          <p:grpSpPr>
            <a:xfrm>
              <a:off x="4676400" y="3459240"/>
              <a:ext cx="1511280" cy="1784520"/>
              <a:chOff x="4676400" y="3459240"/>
              <a:chExt cx="1511280" cy="1784520"/>
            </a:xfrm>
          </p:grpSpPr>
          <p:sp>
            <p:nvSpPr>
              <p:cNvPr id="432" name="矩形 9"/>
              <p:cNvSpPr/>
              <p:nvPr/>
            </p:nvSpPr>
            <p:spPr>
              <a:xfrm>
                <a:off x="5302080" y="4570920"/>
                <a:ext cx="111240" cy="48456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流程图: 决策 36"/>
              <p:cNvSpPr/>
              <p:nvPr/>
            </p:nvSpPr>
            <p:spPr>
              <a:xfrm>
                <a:off x="5646960" y="3950640"/>
                <a:ext cx="540720" cy="35964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4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6400" y="3459240"/>
                <a:ext cx="1312200" cy="130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椭圆 7"/>
              <p:cNvSpPr/>
              <p:nvPr/>
            </p:nvSpPr>
            <p:spPr>
              <a:xfrm>
                <a:off x="5208120" y="4935240"/>
                <a:ext cx="310320" cy="3085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Group 14"/>
            <p:cNvGrpSpPr/>
            <p:nvPr/>
          </p:nvGrpSpPr>
          <p:grpSpPr>
            <a:xfrm>
              <a:off x="2928240" y="3013200"/>
              <a:ext cx="1512000" cy="1762920"/>
              <a:chOff x="2928240" y="3013200"/>
              <a:chExt cx="1512000" cy="1762920"/>
            </a:xfrm>
          </p:grpSpPr>
          <p:sp>
            <p:nvSpPr>
              <p:cNvPr id="437" name="矩形 28"/>
              <p:cNvSpPr/>
              <p:nvPr/>
            </p:nvSpPr>
            <p:spPr>
              <a:xfrm>
                <a:off x="3529080" y="3246840"/>
                <a:ext cx="111960" cy="48780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流程图: 决策 15"/>
              <p:cNvSpPr/>
              <p:nvPr/>
            </p:nvSpPr>
            <p:spPr>
              <a:xfrm>
                <a:off x="3895560" y="3968280"/>
                <a:ext cx="544680" cy="36216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9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8240" y="3487320"/>
                <a:ext cx="1303560" cy="12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椭圆 31"/>
              <p:cNvSpPr/>
              <p:nvPr/>
            </p:nvSpPr>
            <p:spPr>
              <a:xfrm>
                <a:off x="3434400" y="3013200"/>
                <a:ext cx="312480" cy="31032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1" name="组合 22" descr=""/>
            <p:cNvPicPr/>
            <p:nvPr/>
          </p:nvPicPr>
          <p:blipFill>
            <a:blip r:embed="rId3"/>
            <a:stretch/>
          </p:blipFill>
          <p:spPr>
            <a:xfrm>
              <a:off x="1085040" y="3470760"/>
              <a:ext cx="1523880" cy="180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Group 20"/>
            <p:cNvGrpSpPr/>
            <p:nvPr/>
          </p:nvGrpSpPr>
          <p:grpSpPr>
            <a:xfrm>
              <a:off x="6602760" y="3030480"/>
              <a:ext cx="1604160" cy="1896840"/>
              <a:chOff x="6602760" y="3030480"/>
              <a:chExt cx="1604160" cy="1896840"/>
            </a:xfrm>
          </p:grpSpPr>
          <p:pic>
            <p:nvPicPr>
              <p:cNvPr id="443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02760" y="3317040"/>
                <a:ext cx="1604160" cy="16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4" name="椭圆 17"/>
              <p:cNvSpPr/>
              <p:nvPr/>
            </p:nvSpPr>
            <p:spPr>
              <a:xfrm>
                <a:off x="7209720" y="3030480"/>
                <a:ext cx="380520" cy="38196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直接连接符 12"/>
            <p:cNvSpPr/>
            <p:nvPr/>
          </p:nvSpPr>
          <p:spPr>
            <a:xfrm>
              <a:off x="763560" y="5073840"/>
              <a:ext cx="1950840" cy="1224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直接连接符 13"/>
            <p:cNvSpPr/>
            <p:nvPr/>
          </p:nvSpPr>
          <p:spPr>
            <a:xfrm>
              <a:off x="2593800" y="315324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直接连接符 14"/>
            <p:cNvSpPr/>
            <p:nvPr/>
          </p:nvSpPr>
          <p:spPr>
            <a:xfrm>
              <a:off x="4314600" y="510228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15"/>
            <p:cNvSpPr/>
            <p:nvPr/>
          </p:nvSpPr>
          <p:spPr>
            <a:xfrm>
              <a:off x="6458040" y="31939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2604960" y="2058840"/>
            <a:ext cx="3809160" cy="3903120"/>
            <a:chOff x="2604960" y="2058840"/>
            <a:chExt cx="3809160" cy="3903120"/>
          </a:xfrm>
        </p:grpSpPr>
        <p:sp>
          <p:nvSpPr>
            <p:cNvPr id="450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52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55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10"/>
            <p:cNvGrpSpPr/>
            <p:nvPr/>
          </p:nvGrpSpPr>
          <p:grpSpPr>
            <a:xfrm>
              <a:off x="5077800" y="3324960"/>
              <a:ext cx="1336320" cy="479520"/>
              <a:chOff x="5077800" y="3324960"/>
              <a:chExt cx="1336320" cy="479520"/>
            </a:xfrm>
          </p:grpSpPr>
          <p:sp>
            <p:nvSpPr>
              <p:cNvPr id="458" name="直接连接符 21"/>
              <p:cNvSpPr/>
              <p:nvPr/>
            </p:nvSpPr>
            <p:spPr>
              <a:xfrm flipH="1">
                <a:off x="5077800" y="3549600"/>
                <a:ext cx="1018800" cy="25488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椭圆 22"/>
              <p:cNvSpPr/>
              <p:nvPr/>
            </p:nvSpPr>
            <p:spPr>
              <a:xfrm rot="2982600">
                <a:off x="6113160" y="3373560"/>
                <a:ext cx="246600" cy="25596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61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16"/>
            <p:cNvGrpSpPr/>
            <p:nvPr/>
          </p:nvGrpSpPr>
          <p:grpSpPr>
            <a:xfrm>
              <a:off x="4901400" y="4513320"/>
              <a:ext cx="996840" cy="812520"/>
              <a:chOff x="4901400" y="4513320"/>
              <a:chExt cx="996840" cy="812520"/>
            </a:xfrm>
          </p:grpSpPr>
          <p:sp>
            <p:nvSpPr>
              <p:cNvPr id="464" name="直接连接符 28"/>
              <p:cNvSpPr/>
              <p:nvPr/>
            </p:nvSpPr>
            <p:spPr>
              <a:xfrm flipH="1" flipV="1">
                <a:off x="4901400" y="451332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椭圆 29"/>
              <p:cNvSpPr/>
              <p:nvPr/>
            </p:nvSpPr>
            <p:spPr>
              <a:xfrm rot="5864400">
                <a:off x="5617800" y="504540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Group 19"/>
            <p:cNvGrpSpPr/>
            <p:nvPr/>
          </p:nvGrpSpPr>
          <p:grpSpPr>
            <a:xfrm>
              <a:off x="4643640" y="4784400"/>
              <a:ext cx="597240" cy="1177560"/>
              <a:chOff x="4643640" y="4784400"/>
              <a:chExt cx="597240" cy="1177560"/>
            </a:xfrm>
          </p:grpSpPr>
          <p:sp>
            <p:nvSpPr>
              <p:cNvPr id="467" name="椭圆 33"/>
              <p:cNvSpPr/>
              <p:nvPr/>
            </p:nvSpPr>
            <p:spPr>
              <a:xfrm rot="7615200">
                <a:off x="5005080" y="572724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直接连接符 34"/>
              <p:cNvSpPr/>
              <p:nvPr/>
            </p:nvSpPr>
            <p:spPr>
              <a:xfrm flipH="1" flipV="1">
                <a:off x="4643640" y="478440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>
                <a:gd name="textAreaLeft" fmla="*/ 1289520 w 1982880"/>
                <a:gd name="textAreaRight" fmla="*/ 1983240 w 1982880"/>
                <a:gd name="textAreaTop" fmla="*/ 45720 h 1982880"/>
                <a:gd name="textAreaBottom" fmla="*/ 1933920 h 1982880"/>
              </a:gdLst>
              <a:ahLst/>
              <a:rect l="textAreaLeft" t="textAreaTop" r="textAreaRight" b="textAreaBottom"/>
              <a:pathLst>
                <a:path stroke="0" w="1983178" h="1983114">
                  <a:moveTo>
                    <a:pt x="1289829" y="45912"/>
                  </a:moveTo>
                  <a:lnTo>
                    <a:pt x="1289828" y="45912"/>
                  </a:lnTo>
                  <a:cubicBezTo>
                    <a:pt x="1702540" y="176065"/>
                    <a:pt x="1983178" y="558821"/>
                    <a:pt x="1983178" y="991557"/>
                  </a:cubicBezTo>
                  <a:cubicBezTo>
                    <a:pt x="1983178" y="1420453"/>
                    <a:pt x="1707414" y="1800732"/>
                    <a:pt x="1299741" y="1934018"/>
                  </a:cubicBezTo>
                  <a:lnTo>
                    <a:pt x="991589" y="991557"/>
                  </a:lnTo>
                  <a:lnTo>
                    <a:pt x="1289829" y="45912"/>
                  </a:lnTo>
                  <a:close/>
                </a:path>
                <a:path fill="none" w="1983178" h="1983114">
                  <a:moveTo>
                    <a:pt x="1289829" y="45912"/>
                  </a:moveTo>
                  <a:lnTo>
                    <a:pt x="1289828" y="45912"/>
                  </a:lnTo>
                  <a:cubicBezTo>
                    <a:pt x="1702540" y="176065"/>
                    <a:pt x="1983178" y="558821"/>
                    <a:pt x="1983178" y="991557"/>
                  </a:cubicBezTo>
                  <a:cubicBezTo>
                    <a:pt x="1983178" y="1420453"/>
                    <a:pt x="1707414" y="1800732"/>
                    <a:pt x="1299741" y="1934018"/>
                  </a:cubicBezTo>
                </a:path>
              </a:pathLst>
            </a:cu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87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7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92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12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97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7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502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585720 w 3198960"/>
              <a:gd name="textAreaRight" fmla="*/ 2613240 w 319896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lnTo>
                  <a:pt x="1885767" y="186575"/>
                </a:lnTo>
                <a:cubicBezTo>
                  <a:pt x="2325820" y="250756"/>
                  <a:pt x="2698394" y="458763"/>
                  <a:pt x="2892342" y="748544"/>
                </a:cubicBezTo>
                <a:lnTo>
                  <a:pt x="3051955" y="726522"/>
                </a:lnTo>
                <a:lnTo>
                  <a:pt x="2962122" y="1003420"/>
                </a:lnTo>
                <a:lnTo>
                  <a:pt x="2634055" y="784175"/>
                </a:lnTo>
                <a:lnTo>
                  <a:pt x="2793121" y="762230"/>
                </a:lnTo>
                <a:lnTo>
                  <a:pt x="2793121" y="762229"/>
                </a:lnTo>
                <a:cubicBezTo>
                  <a:pt x="2605400" y="509079"/>
                  <a:pt x="2262232" y="329295"/>
                  <a:pt x="1860895" y="273841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588960 w 3220920"/>
              <a:gd name="textAreaRight" fmla="*/ 2631960 w 322092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lnTo>
                  <a:pt x="1896968" y="186267"/>
                </a:lnTo>
                <a:cubicBezTo>
                  <a:pt x="2339801" y="249864"/>
                  <a:pt x="2715218" y="456873"/>
                  <a:pt x="2911572" y="745730"/>
                </a:cubicBezTo>
                <a:lnTo>
                  <a:pt x="3071032" y="723728"/>
                </a:lnTo>
                <a:lnTo>
                  <a:pt x="2983735" y="1001971"/>
                </a:lnTo>
                <a:lnTo>
                  <a:pt x="2653133" y="781381"/>
                </a:lnTo>
                <a:lnTo>
                  <a:pt x="2812028" y="759460"/>
                </a:lnTo>
                <a:lnTo>
                  <a:pt x="2812028" y="759459"/>
                </a:lnTo>
                <a:cubicBezTo>
                  <a:pt x="2621920" y="507261"/>
                  <a:pt x="2276046" y="328461"/>
                  <a:pt x="1872088" y="273557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0" name="Group 26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511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516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>
                <a:gd name="textAreaLeft" fmla="*/ 115560 w 846360"/>
                <a:gd name="textAreaRight" fmla="*/ 730800 w 846360"/>
                <a:gd name="textAreaTop" fmla="*/ 9468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lnTo>
                    <a:pt x="0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>
                <a:gd name="textAreaLeft" fmla="*/ 25200 w 943200"/>
                <a:gd name="textAreaRight" fmla="*/ 918000 w 943200"/>
                <a:gd name="textAreaTop" fmla="*/ 504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lnTo>
                    <a:pt x="0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8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522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>
                <a:gd name="textAreaLeft" fmla="*/ 177840 w 1067040"/>
                <a:gd name="textAreaRight" fmla="*/ 889200 w 1067040"/>
                <a:gd name="textAreaTop" fmla="*/ 21888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lnTo>
                    <a:pt x="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>
                <a:gd name="textAreaLeft" fmla="*/ 84960 w 774720"/>
                <a:gd name="textAreaRight" fmla="*/ 689760 w 774720"/>
                <a:gd name="textAreaTop" fmla="*/ 5616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lnTo>
                    <a:pt x="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4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528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>
                <a:gd name="textAreaLeft" fmla="*/ 175320 w 1052640"/>
                <a:gd name="textAreaRight" fmla="*/ 877320 w 1052640"/>
                <a:gd name="textAreaTop" fmla="*/ 18936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lnTo>
                    <a:pt x="0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梯形 12"/>
            <p:cNvSpPr/>
            <p:nvPr/>
          </p:nvSpPr>
          <p:spPr>
            <a:xfrm rot="10800000">
              <a:off x="5432040" y="3048120"/>
              <a:ext cx="709560" cy="387360"/>
            </a:xfrm>
            <a:custGeom>
              <a:avLst/>
              <a:gdLst>
                <a:gd name="textAreaLeft" fmla="*/ 45000 w 709560"/>
                <a:gd name="textAreaRight" fmla="*/ 664560 w 709560"/>
                <a:gd name="textAreaTop" fmla="*/ 2448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09613" h="387461">
                  <a:moveTo>
                    <a:pt x="0" y="387461"/>
                  </a:moveTo>
                  <a:lnTo>
                    <a:pt x="67639" y="0"/>
                  </a:lnTo>
                  <a:lnTo>
                    <a:pt x="641974" y="0"/>
                  </a:lnTo>
                  <a:lnTo>
                    <a:pt x="709613" y="387461"/>
                  </a:lnTo>
                  <a:lnTo>
                    <a:pt x="0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0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534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>
                <a:gd name="textAreaLeft" fmla="*/ 141840 w 825480"/>
                <a:gd name="textAreaRight" fmla="*/ 683640 w 825480"/>
                <a:gd name="textAreaTop" fmla="*/ 8964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lnTo>
                    <a:pt x="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梯形 15"/>
            <p:cNvSpPr/>
            <p:nvPr/>
          </p:nvSpPr>
          <p:spPr>
            <a:xfrm rot="10800000">
              <a:off x="5445000" y="5251680"/>
              <a:ext cx="636480" cy="388800"/>
            </a:xfrm>
            <a:custGeom>
              <a:avLst/>
              <a:gdLst>
                <a:gd name="textAreaLeft" fmla="*/ 41760 w 636480"/>
                <a:gd name="textAreaRight" fmla="*/ 594720 w 636480"/>
                <a:gd name="textAreaTop" fmla="*/ 2556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636588" h="388955">
                  <a:moveTo>
                    <a:pt x="0" y="388955"/>
                  </a:moveTo>
                  <a:lnTo>
                    <a:pt x="63011" y="0"/>
                  </a:lnTo>
                  <a:lnTo>
                    <a:pt x="573577" y="0"/>
                  </a:lnTo>
                  <a:lnTo>
                    <a:pt x="636588" y="388955"/>
                  </a:lnTo>
                  <a:lnTo>
                    <a:pt x="0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lnTo>
                    <a:pt x="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2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49" name="Group 3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50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7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54" name="Group 8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55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直角三角形 10"/>
              <p:cNvSpPr/>
              <p:nvPr/>
            </p:nvSpPr>
            <p:spPr>
              <a:xfrm flipV="1" rot="5400000">
                <a:off x="6318000" y="204660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8" name="组合 21" descr=""/>
          <p:cNvPicPr/>
          <p:nvPr/>
        </p:nvPicPr>
        <p:blipFill>
          <a:blip r:embed="rId1"/>
          <a:stretch/>
        </p:blipFill>
        <p:spPr>
          <a:xfrm>
            <a:off x="2571840" y="3676680"/>
            <a:ext cx="2182680" cy="1687320"/>
          </a:xfrm>
          <a:prstGeom prst="rect">
            <a:avLst/>
          </a:prstGeom>
          <a:ln w="0">
            <a:noFill/>
          </a:ln>
        </p:spPr>
      </p:pic>
      <p:grpSp>
        <p:nvGrpSpPr>
          <p:cNvPr id="559" name="Group 13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60" name="Group 14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61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D:\PPT模版\素材\png素材\easy weather\veeqi_Sticker_Weather_Icons_015.png"/>
          <p:cNvPicPr/>
          <p:nvPr/>
        </p:nvPicPr>
        <p:blipFill>
          <a:blip r:embed="rId2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D:\PPT模版\素材\png素材\easy weather\veeqi_Sticker_Weather_Icons_027.png"/>
          <p:cNvPicPr/>
          <p:nvPr/>
        </p:nvPicPr>
        <p:blipFill>
          <a:blip r:embed="rId3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D:\PPT模版\素材\png素材\easy weather\veeqi_Sticker_Weather_Icons_033.png"/>
          <p:cNvPicPr/>
          <p:nvPr/>
        </p:nvPicPr>
        <p:blipFill>
          <a:blip r:embed="rId4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D:\PPT模版\素材\png素材\easy weather\veeqi_Sticker_Weather_Icons_041.png"/>
          <p:cNvPicPr/>
          <p:nvPr/>
        </p:nvPicPr>
        <p:blipFill>
          <a:blip r:embed="rId5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488880" y="1739880"/>
            <a:ext cx="8185320" cy="8344080"/>
            <a:chOff x="488880" y="1739880"/>
            <a:chExt cx="8185320" cy="8344080"/>
          </a:xfrm>
        </p:grpSpPr>
        <p:grpSp>
          <p:nvGrpSpPr>
            <p:cNvPr id="577" name="Group 4"/>
            <p:cNvGrpSpPr/>
            <p:nvPr/>
          </p:nvGrpSpPr>
          <p:grpSpPr>
            <a:xfrm>
              <a:off x="488880" y="1739880"/>
              <a:ext cx="8185320" cy="8344080"/>
              <a:chOff x="488880" y="1739880"/>
              <a:chExt cx="8185320" cy="8344080"/>
            </a:xfrm>
          </p:grpSpPr>
          <p:sp>
            <p:nvSpPr>
              <p:cNvPr id="578" name="饼形 4"/>
              <p:cNvSpPr/>
              <p:nvPr/>
            </p:nvSpPr>
            <p:spPr>
              <a:xfrm rot="5400000">
                <a:off x="854640" y="2514960"/>
                <a:ext cx="7567920" cy="7569360"/>
              </a:xfrm>
              <a:custGeom>
                <a:avLst/>
                <a:gdLst>
                  <a:gd name="textAreaLeft" fmla="*/ 1108080 w 7567920"/>
                  <a:gd name="textAreaRight" fmla="*/ 6459840 w 7567920"/>
                  <a:gd name="textAreaTop" fmla="*/ 1108440 h 7569360"/>
                  <a:gd name="textAreaBottom" fmla="*/ 6460920 h 7569360"/>
                </a:gdLst>
                <a:ahLst/>
                <a:rect l="textAreaLeft" t="textAreaTop" r="textAreaRight" b="textAreaBottom"/>
                <a:pathLst>
                  <a:path w="7568144" h="7569110">
                    <a:moveTo>
                      <a:pt x="3792023" y="7569102"/>
                    </a:moveTo>
                    <a:lnTo>
                      <a:pt x="3792022" y="7569101"/>
                    </a:lnTo>
                    <a:cubicBezTo>
                      <a:pt x="3789372" y="7569107"/>
                      <a:pt x="3786722" y="7569109"/>
                      <a:pt x="3784072" y="7569110"/>
                    </a:cubicBezTo>
                    <a:cubicBezTo>
                      <a:pt x="1694186" y="7569110"/>
                      <a:pt x="0" y="5874707"/>
                      <a:pt x="0" y="3784555"/>
                    </a:cubicBezTo>
                    <a:cubicBezTo>
                      <a:pt x="0" y="1694402"/>
                      <a:pt x="1694186" y="0"/>
                      <a:pt x="3784072" y="0"/>
                    </a:cubicBezTo>
                    <a:cubicBezTo>
                      <a:pt x="3784073" y="-1"/>
                      <a:pt x="3784075" y="0"/>
                      <a:pt x="3784076" y="0"/>
                    </a:cubicBezTo>
                    <a:lnTo>
                      <a:pt x="3784072" y="3784555"/>
                    </a:lnTo>
                    <a:lnTo>
                      <a:pt x="3792023" y="7569102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饼形 5"/>
              <p:cNvSpPr/>
              <p:nvPr/>
            </p:nvSpPr>
            <p:spPr>
              <a:xfrm rot="5400000">
                <a:off x="1185480" y="2803320"/>
                <a:ext cx="6945480" cy="7018560"/>
              </a:xfrm>
              <a:custGeom>
                <a:avLst/>
                <a:gdLst>
                  <a:gd name="textAreaLeft" fmla="*/ 1017000 w 6945480"/>
                  <a:gd name="textAreaRight" fmla="*/ 5928480 w 6945480"/>
                  <a:gd name="textAreaTop" fmla="*/ 1027800 h 7018560"/>
                  <a:gd name="textAreaBottom" fmla="*/ 5990760 h 7018560"/>
                </a:gdLst>
                <a:ahLst/>
                <a:rect l="textAreaLeft" t="textAreaTop" r="textAreaRight" b="textAreaBottom"/>
                <a:pathLst>
                  <a:path w="6945801" h="7018255">
                    <a:moveTo>
                      <a:pt x="3480272" y="7018247"/>
                    </a:moveTo>
                    <a:lnTo>
                      <a:pt x="3480272" y="7018247"/>
                    </a:lnTo>
                    <a:cubicBezTo>
                      <a:pt x="3477814" y="7018252"/>
                      <a:pt x="3475357" y="7018254"/>
                      <a:pt x="3472900" y="7018255"/>
                    </a:cubicBezTo>
                    <a:cubicBezTo>
                      <a:pt x="1554869" y="7018255"/>
                      <a:pt x="-1" y="5447164"/>
                      <a:pt x="-1" y="3509127"/>
                    </a:cubicBezTo>
                    <a:cubicBezTo>
                      <a:pt x="-1" y="1571089"/>
                      <a:pt x="1554869" y="-1"/>
                      <a:pt x="3472900" y="-1"/>
                    </a:cubicBezTo>
                    <a:cubicBezTo>
                      <a:pt x="3472901" y="-2"/>
                      <a:pt x="3472902" y="-1"/>
                      <a:pt x="3472903" y="-1"/>
                    </a:cubicBezTo>
                    <a:lnTo>
                      <a:pt x="3472901" y="3509128"/>
                    </a:lnTo>
                    <a:lnTo>
                      <a:pt x="3480272" y="7018247"/>
                    </a:ln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饼形 6"/>
              <p:cNvSpPr/>
              <p:nvPr/>
            </p:nvSpPr>
            <p:spPr>
              <a:xfrm rot="5400000">
                <a:off x="2263680" y="3950280"/>
                <a:ext cx="4751640" cy="4753080"/>
              </a:xfrm>
              <a:custGeom>
                <a:avLst/>
                <a:gdLst>
                  <a:gd name="textAreaLeft" fmla="*/ 695880 w 4751640"/>
                  <a:gd name="textAreaRight" fmla="*/ 4055760 w 4751640"/>
                  <a:gd name="textAreaTop" fmla="*/ 695880 h 4753080"/>
                  <a:gd name="textAreaBottom" fmla="*/ 4057200 h 4753080"/>
                </a:gdLst>
                <a:ahLst/>
                <a:rect l="textAreaLeft" t="textAreaTop" r="textAreaRight" b="textAreaBottom"/>
                <a:pathLst>
                  <a:path w="4751721" h="4752919">
                    <a:moveTo>
                      <a:pt x="2380853" y="4752914"/>
                    </a:moveTo>
                    <a:lnTo>
                      <a:pt x="2380852" y="4752913"/>
                    </a:lnTo>
                    <a:cubicBezTo>
                      <a:pt x="2379189" y="4752917"/>
                      <a:pt x="2377525" y="4752918"/>
                      <a:pt x="2375861" y="4752919"/>
                    </a:cubicBezTo>
                    <a:cubicBezTo>
                      <a:pt x="1063709" y="4752919"/>
                      <a:pt x="0" y="3688941"/>
                      <a:pt x="0" y="2376459"/>
                    </a:cubicBezTo>
                    <a:cubicBezTo>
                      <a:pt x="0" y="1063976"/>
                      <a:pt x="1063709" y="-1"/>
                      <a:pt x="2375861" y="-1"/>
                    </a:cubicBezTo>
                    <a:cubicBezTo>
                      <a:pt x="2375861" y="-2"/>
                      <a:pt x="2375862" y="-1"/>
                      <a:pt x="2375862" y="-1"/>
                    </a:cubicBezTo>
                    <a:lnTo>
                      <a:pt x="2375861" y="2376460"/>
                    </a:lnTo>
                    <a:lnTo>
                      <a:pt x="2380853" y="4752914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饼形 7"/>
              <p:cNvSpPr/>
              <p:nvPr/>
            </p:nvSpPr>
            <p:spPr>
              <a:xfrm rot="5400000">
                <a:off x="2430360" y="4102560"/>
                <a:ext cx="4442040" cy="4443480"/>
              </a:xfrm>
              <a:custGeom>
                <a:avLst/>
                <a:gdLst>
                  <a:gd name="textAreaLeft" fmla="*/ 650520 w 4442040"/>
                  <a:gd name="textAreaRight" fmla="*/ 3791520 w 4442040"/>
                  <a:gd name="textAreaTop" fmla="*/ 650520 h 4443480"/>
                  <a:gd name="textAreaBottom" fmla="*/ 3792960 h 4443480"/>
                </a:gdLst>
                <a:ahLst/>
                <a:rect l="textAreaLeft" t="textAreaTop" r="textAreaRight" b="textAreaBottom"/>
                <a:pathLst>
                  <a:path w="4442137" h="4443359">
                    <a:moveTo>
                      <a:pt x="2225736" y="4443354"/>
                    </a:moveTo>
                    <a:lnTo>
                      <a:pt x="2225736" y="4443354"/>
                    </a:lnTo>
                    <a:cubicBezTo>
                      <a:pt x="2224180" y="4443357"/>
                      <a:pt x="2222624" y="4443358"/>
                      <a:pt x="2221069" y="4443359"/>
                    </a:cubicBezTo>
                    <a:cubicBezTo>
                      <a:pt x="994406" y="4443359"/>
                      <a:pt x="0" y="3448678"/>
                      <a:pt x="0" y="2221679"/>
                    </a:cubicBezTo>
                    <a:cubicBezTo>
                      <a:pt x="0" y="994679"/>
                      <a:pt x="994406" y="-1"/>
                      <a:pt x="2221069" y="-1"/>
                    </a:cubicBezTo>
                    <a:cubicBezTo>
                      <a:pt x="2221069" y="-2"/>
                      <a:pt x="2221070" y="-1"/>
                      <a:pt x="2221070" y="-1"/>
                    </a:cubicBezTo>
                    <a:lnTo>
                      <a:pt x="2221069" y="2221680"/>
                    </a:lnTo>
                    <a:lnTo>
                      <a:pt x="2225736" y="4443354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上箭头 8"/>
              <p:cNvSpPr/>
              <p:nvPr/>
            </p:nvSpPr>
            <p:spPr>
              <a:xfrm rot="17587200">
                <a:off x="1895400" y="503244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上箭头 9"/>
              <p:cNvSpPr/>
              <p:nvPr/>
            </p:nvSpPr>
            <p:spPr>
              <a:xfrm rot="19066800">
                <a:off x="2722320" y="38210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上箭头 10"/>
              <p:cNvSpPr/>
              <p:nvPr/>
            </p:nvSpPr>
            <p:spPr>
              <a:xfrm>
                <a:off x="4478400" y="3354120"/>
                <a:ext cx="376200" cy="1092240"/>
              </a:xfrm>
              <a:prstGeom prst="upArrow">
                <a:avLst>
                  <a:gd name="adj1" fmla="val 25259"/>
                  <a:gd name="adj2" fmla="val 9935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上箭头 11"/>
              <p:cNvSpPr/>
              <p:nvPr/>
            </p:nvSpPr>
            <p:spPr>
              <a:xfrm rot="2426400">
                <a:off x="6122880" y="37461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上箭头 12"/>
              <p:cNvSpPr/>
              <p:nvPr/>
            </p:nvSpPr>
            <p:spPr>
              <a:xfrm rot="4413000">
                <a:off x="6894720" y="499572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椭圆 13"/>
              <p:cNvSpPr/>
              <p:nvPr/>
            </p:nvSpPr>
            <p:spPr>
              <a:xfrm>
                <a:off x="488880" y="4583160"/>
                <a:ext cx="1027080" cy="10270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椭圆 14"/>
              <p:cNvSpPr/>
              <p:nvPr/>
            </p:nvSpPr>
            <p:spPr>
              <a:xfrm>
                <a:off x="1738080" y="2894040"/>
                <a:ext cx="1027080" cy="10252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15"/>
              <p:cNvSpPr/>
              <p:nvPr/>
            </p:nvSpPr>
            <p:spPr>
              <a:xfrm>
                <a:off x="6566040" y="292104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椭圆 16"/>
              <p:cNvSpPr/>
              <p:nvPr/>
            </p:nvSpPr>
            <p:spPr>
              <a:xfrm>
                <a:off x="7647120" y="462132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1" name="Group 18"/>
              <p:cNvGrpSpPr/>
              <p:nvPr/>
            </p:nvGrpSpPr>
            <p:grpSpPr>
              <a:xfrm>
                <a:off x="3865320" y="1739880"/>
                <a:ext cx="1559160" cy="1558800"/>
                <a:chOff x="3865320" y="1739880"/>
                <a:chExt cx="1559160" cy="1558800"/>
              </a:xfrm>
            </p:grpSpPr>
            <p:sp>
              <p:nvSpPr>
                <p:cNvPr id="592" name="椭圆 18"/>
                <p:cNvSpPr/>
                <p:nvPr/>
              </p:nvSpPr>
              <p:spPr>
                <a:xfrm>
                  <a:off x="3865320" y="173988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椭圆 17"/>
                <p:cNvSpPr/>
                <p:nvPr/>
              </p:nvSpPr>
              <p:spPr>
                <a:xfrm>
                  <a:off x="4003200" y="1849320"/>
                  <a:ext cx="1311480" cy="131112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4" name="TextBox 21"/>
            <p:cNvSpPr/>
            <p:nvPr/>
          </p:nvSpPr>
          <p:spPr>
            <a:xfrm>
              <a:off x="3169440" y="5080320"/>
              <a:ext cx="3231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出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关于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owerPoint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efox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indows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个人博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22"/>
            <p:cNvSpPr/>
            <p:nvPr/>
          </p:nvSpPr>
          <p:spPr>
            <a:xfrm>
              <a:off x="1418760" y="44334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23"/>
            <p:cNvSpPr/>
            <p:nvPr/>
          </p:nvSpPr>
          <p:spPr>
            <a:xfrm>
              <a:off x="2891160" y="328284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24"/>
            <p:cNvSpPr/>
            <p:nvPr/>
          </p:nvSpPr>
          <p:spPr>
            <a:xfrm>
              <a:off x="4862880" y="3296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25"/>
            <p:cNvSpPr/>
            <p:nvPr/>
          </p:nvSpPr>
          <p:spPr>
            <a:xfrm>
              <a:off x="6353280" y="44308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Box 26"/>
          <p:cNvSpPr/>
          <p:nvPr/>
        </p:nvSpPr>
        <p:spPr>
          <a:xfrm>
            <a:off x="5614920" y="197172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7"/>
          <p:cNvSpPr/>
          <p:nvPr/>
        </p:nvSpPr>
        <p:spPr>
          <a:xfrm>
            <a:off x="689040" y="1932120"/>
            <a:ext cx="323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alife@qq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1015920" y="2701800"/>
            <a:ext cx="2772000" cy="3616560"/>
            <a:chOff x="1015920" y="2701800"/>
            <a:chExt cx="2772000" cy="3616560"/>
          </a:xfrm>
        </p:grpSpPr>
        <p:sp>
          <p:nvSpPr>
            <p:cNvPr id="603" name="矩形 3"/>
            <p:cNvSpPr/>
            <p:nvPr/>
          </p:nvSpPr>
          <p:spPr>
            <a:xfrm>
              <a:off x="1015920" y="2974680"/>
              <a:ext cx="2772000" cy="33436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4"/>
            <p:cNvSpPr/>
            <p:nvPr/>
          </p:nvSpPr>
          <p:spPr>
            <a:xfrm>
              <a:off x="1055520" y="2701800"/>
              <a:ext cx="2692800" cy="2584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5"/>
            <p:cNvSpPr/>
            <p:nvPr/>
          </p:nvSpPr>
          <p:spPr>
            <a:xfrm>
              <a:off x="1098360" y="308412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8"/>
            <p:cNvSpPr/>
            <p:nvPr/>
          </p:nvSpPr>
          <p:spPr>
            <a:xfrm>
              <a:off x="1099800" y="419112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9"/>
            <p:cNvSpPr/>
            <p:nvPr/>
          </p:nvSpPr>
          <p:spPr>
            <a:xfrm>
              <a:off x="1126800" y="528336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9"/>
          <p:cNvGrpSpPr/>
          <p:nvPr/>
        </p:nvGrpSpPr>
        <p:grpSpPr>
          <a:xfrm>
            <a:off x="5587920" y="2690640"/>
            <a:ext cx="2772000" cy="3616560"/>
            <a:chOff x="5587920" y="2690640"/>
            <a:chExt cx="2772000" cy="3616560"/>
          </a:xfrm>
        </p:grpSpPr>
        <p:sp>
          <p:nvSpPr>
            <p:cNvPr id="609" name="矩形 12"/>
            <p:cNvSpPr/>
            <p:nvPr/>
          </p:nvSpPr>
          <p:spPr>
            <a:xfrm>
              <a:off x="5587920" y="2963520"/>
              <a:ext cx="2772000" cy="33436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3"/>
            <p:cNvSpPr/>
            <p:nvPr/>
          </p:nvSpPr>
          <p:spPr>
            <a:xfrm>
              <a:off x="5627520" y="2690640"/>
              <a:ext cx="2692800" cy="2584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4"/>
            <p:cNvSpPr/>
            <p:nvPr/>
          </p:nvSpPr>
          <p:spPr>
            <a:xfrm>
              <a:off x="5682960" y="307296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5"/>
            <p:cNvSpPr/>
            <p:nvPr/>
          </p:nvSpPr>
          <p:spPr>
            <a:xfrm>
              <a:off x="5671800" y="417996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16"/>
            <p:cNvSpPr/>
            <p:nvPr/>
          </p:nvSpPr>
          <p:spPr>
            <a:xfrm>
              <a:off x="5698800" y="527220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左右箭头 18"/>
          <p:cNvSpPr/>
          <p:nvPr/>
        </p:nvSpPr>
        <p:spPr>
          <a:xfrm>
            <a:off x="3876840" y="3821040"/>
            <a:ext cx="158256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19"/>
          <p:cNvSpPr/>
          <p:nvPr/>
        </p:nvSpPr>
        <p:spPr>
          <a:xfrm>
            <a:off x="1749600" y="1627200"/>
            <a:ext cx="497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1508040" y="2232000"/>
            <a:ext cx="5753160" cy="815400"/>
            <a:chOff x="1508040" y="2232000"/>
            <a:chExt cx="5753160" cy="815400"/>
          </a:xfrm>
        </p:grpSpPr>
        <p:grpSp>
          <p:nvGrpSpPr>
            <p:cNvPr id="177" name="Group 4"/>
            <p:cNvGrpSpPr/>
            <p:nvPr/>
          </p:nvGrpSpPr>
          <p:grpSpPr>
            <a:xfrm>
              <a:off x="1508040" y="2232000"/>
              <a:ext cx="5753160" cy="815400"/>
              <a:chOff x="1508040" y="2232000"/>
              <a:chExt cx="5753160" cy="815400"/>
            </a:xfrm>
          </p:grpSpPr>
          <p:sp>
            <p:nvSpPr>
              <p:cNvPr id="178" name="圆角矩形 31"/>
              <p:cNvSpPr/>
              <p:nvPr/>
            </p:nvSpPr>
            <p:spPr>
              <a:xfrm>
                <a:off x="2511360" y="2232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f9fd4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"/>
              <p:cNvSpPr/>
              <p:nvPr/>
            </p:nvSpPr>
            <p:spPr>
              <a:xfrm>
                <a:off x="1508040" y="2295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9"/>
              <p:cNvSpPr/>
              <p:nvPr/>
            </p:nvSpPr>
            <p:spPr>
              <a:xfrm>
                <a:off x="3133440" y="274032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8"/>
            <p:cNvGrpSpPr/>
            <p:nvPr/>
          </p:nvGrpSpPr>
          <p:grpSpPr>
            <a:xfrm>
              <a:off x="2694240" y="2304000"/>
              <a:ext cx="249840" cy="243720"/>
              <a:chOff x="2694240" y="2304000"/>
              <a:chExt cx="249840" cy="243720"/>
            </a:xfrm>
          </p:grpSpPr>
          <p:pic>
            <p:nvPicPr>
              <p:cNvPr id="182" name="椭圆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4240" y="230400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Text Box 10"/>
              <p:cNvSpPr/>
              <p:nvPr/>
            </p:nvSpPr>
            <p:spPr>
              <a:xfrm>
                <a:off x="2746080" y="2352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Group 11"/>
          <p:cNvGrpSpPr/>
          <p:nvPr/>
        </p:nvGrpSpPr>
        <p:grpSpPr>
          <a:xfrm>
            <a:off x="1521000" y="3159000"/>
            <a:ext cx="5752800" cy="815400"/>
            <a:chOff x="1521000" y="3159000"/>
            <a:chExt cx="5752800" cy="815400"/>
          </a:xfrm>
        </p:grpSpPr>
        <p:grpSp>
          <p:nvGrpSpPr>
            <p:cNvPr id="185" name="Group 12"/>
            <p:cNvGrpSpPr/>
            <p:nvPr/>
          </p:nvGrpSpPr>
          <p:grpSpPr>
            <a:xfrm>
              <a:off x="1521000" y="3159000"/>
              <a:ext cx="5752800" cy="815400"/>
              <a:chOff x="1521000" y="3159000"/>
              <a:chExt cx="5752800" cy="815400"/>
            </a:xfrm>
          </p:grpSpPr>
          <p:sp>
            <p:nvSpPr>
              <p:cNvPr id="186" name="圆角矩形 37"/>
              <p:cNvSpPr/>
              <p:nvPr/>
            </p:nvSpPr>
            <p:spPr>
              <a:xfrm>
                <a:off x="2523960" y="3159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34b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Box 14"/>
              <p:cNvSpPr/>
              <p:nvPr/>
            </p:nvSpPr>
            <p:spPr>
              <a:xfrm>
                <a:off x="1521000" y="3222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5"/>
              <p:cNvSpPr/>
              <p:nvPr/>
            </p:nvSpPr>
            <p:spPr>
              <a:xfrm>
                <a:off x="3146400" y="36673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6"/>
            <p:cNvGrpSpPr/>
            <p:nvPr/>
          </p:nvGrpSpPr>
          <p:grpSpPr>
            <a:xfrm>
              <a:off x="2706480" y="3230640"/>
              <a:ext cx="249840" cy="243720"/>
              <a:chOff x="2706480" y="3230640"/>
              <a:chExt cx="249840" cy="243720"/>
            </a:xfrm>
          </p:grpSpPr>
          <p:pic>
            <p:nvPicPr>
              <p:cNvPr id="190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6480" y="323064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18"/>
              <p:cNvSpPr/>
              <p:nvPr/>
            </p:nvSpPr>
            <p:spPr>
              <a:xfrm>
                <a:off x="2758680" y="3279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" name="Group 19"/>
          <p:cNvGrpSpPr/>
          <p:nvPr/>
        </p:nvGrpSpPr>
        <p:grpSpPr>
          <a:xfrm>
            <a:off x="1521000" y="4098960"/>
            <a:ext cx="5752800" cy="822960"/>
            <a:chOff x="1521000" y="4098960"/>
            <a:chExt cx="5752800" cy="822960"/>
          </a:xfrm>
        </p:grpSpPr>
        <p:grpSp>
          <p:nvGrpSpPr>
            <p:cNvPr id="193" name="Group 20"/>
            <p:cNvGrpSpPr/>
            <p:nvPr/>
          </p:nvGrpSpPr>
          <p:grpSpPr>
            <a:xfrm>
              <a:off x="1521000" y="4098960"/>
              <a:ext cx="5752800" cy="822960"/>
              <a:chOff x="1521000" y="4098960"/>
              <a:chExt cx="5752800" cy="822960"/>
            </a:xfrm>
          </p:grpSpPr>
          <p:grpSp>
            <p:nvGrpSpPr>
              <p:cNvPr id="194" name="Group 21"/>
              <p:cNvGrpSpPr/>
              <p:nvPr/>
            </p:nvGrpSpPr>
            <p:grpSpPr>
              <a:xfrm>
                <a:off x="2502720" y="4098960"/>
                <a:ext cx="4771080" cy="434160"/>
                <a:chOff x="2502720" y="4098960"/>
                <a:chExt cx="4771080" cy="434160"/>
              </a:xfrm>
            </p:grpSpPr>
            <p:pic>
              <p:nvPicPr>
                <p:cNvPr id="195" name="圆角矩形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2720" y="4098960"/>
                  <a:ext cx="4771080" cy="43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" name="Text Box 23"/>
                <p:cNvSpPr/>
                <p:nvPr/>
              </p:nvSpPr>
              <p:spPr>
                <a:xfrm>
                  <a:off x="2580480" y="4177080"/>
                  <a:ext cx="461700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Box 20"/>
              <p:cNvSpPr/>
              <p:nvPr/>
            </p:nvSpPr>
            <p:spPr>
              <a:xfrm>
                <a:off x="1521000" y="4181040"/>
                <a:ext cx="87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21"/>
              <p:cNvSpPr/>
              <p:nvPr/>
            </p:nvSpPr>
            <p:spPr>
              <a:xfrm>
                <a:off x="3141720" y="4614840"/>
                <a:ext cx="345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6"/>
            <p:cNvGrpSpPr/>
            <p:nvPr/>
          </p:nvGrpSpPr>
          <p:grpSpPr>
            <a:xfrm>
              <a:off x="2706480" y="4169520"/>
              <a:ext cx="249840" cy="243720"/>
              <a:chOff x="2706480" y="4169520"/>
              <a:chExt cx="249840" cy="243720"/>
            </a:xfrm>
          </p:grpSpPr>
          <p:pic>
            <p:nvPicPr>
              <p:cNvPr id="200" name="椭圆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6480" y="416952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Text Box 28"/>
              <p:cNvSpPr/>
              <p:nvPr/>
            </p:nvSpPr>
            <p:spPr>
              <a:xfrm>
                <a:off x="2758680" y="42192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29"/>
          <p:cNvGrpSpPr/>
          <p:nvPr/>
        </p:nvGrpSpPr>
        <p:grpSpPr>
          <a:xfrm>
            <a:off x="1521000" y="5038560"/>
            <a:ext cx="5752800" cy="815400"/>
            <a:chOff x="1521000" y="5038560"/>
            <a:chExt cx="5752800" cy="815400"/>
          </a:xfrm>
        </p:grpSpPr>
        <p:grpSp>
          <p:nvGrpSpPr>
            <p:cNvPr id="203" name="Group 30"/>
            <p:cNvGrpSpPr/>
            <p:nvPr/>
          </p:nvGrpSpPr>
          <p:grpSpPr>
            <a:xfrm>
              <a:off x="1521000" y="5038560"/>
              <a:ext cx="5752800" cy="815400"/>
              <a:chOff x="1521000" y="5038560"/>
              <a:chExt cx="5752800" cy="815400"/>
            </a:xfrm>
          </p:grpSpPr>
          <p:sp>
            <p:nvSpPr>
              <p:cNvPr id="204" name="圆角矩形 49"/>
              <p:cNvSpPr/>
              <p:nvPr/>
            </p:nvSpPr>
            <p:spPr>
              <a:xfrm>
                <a:off x="2523960" y="503856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b093"/>
                  </a:gs>
                  <a:gs pos="100000">
                    <a:srgbClr val="ffffff"/>
                  </a:gs>
                </a:gsLst>
                <a:lin ang="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26"/>
              <p:cNvSpPr/>
              <p:nvPr/>
            </p:nvSpPr>
            <p:spPr>
              <a:xfrm>
                <a:off x="1521000" y="510192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27"/>
              <p:cNvSpPr/>
              <p:nvPr/>
            </p:nvSpPr>
            <p:spPr>
              <a:xfrm>
                <a:off x="3146400" y="554688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34"/>
            <p:cNvGrpSpPr/>
            <p:nvPr/>
          </p:nvGrpSpPr>
          <p:grpSpPr>
            <a:xfrm>
              <a:off x="2706480" y="5108040"/>
              <a:ext cx="249840" cy="249840"/>
              <a:chOff x="2706480" y="5108040"/>
              <a:chExt cx="249840" cy="249840"/>
            </a:xfrm>
          </p:grpSpPr>
          <p:pic>
            <p:nvPicPr>
              <p:cNvPr id="208" name="椭圆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5108040"/>
                <a:ext cx="24984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Text Box 36"/>
              <p:cNvSpPr/>
              <p:nvPr/>
            </p:nvSpPr>
            <p:spPr>
              <a:xfrm>
                <a:off x="2758680" y="51588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组合 5" descr=""/>
          <p:cNvPicPr/>
          <p:nvPr/>
        </p:nvPicPr>
        <p:blipFill>
          <a:blip r:embed="rId1"/>
          <a:stretch/>
        </p:blipFill>
        <p:spPr>
          <a:xfrm>
            <a:off x="530280" y="2955960"/>
            <a:ext cx="4937040" cy="2695680"/>
          </a:xfrm>
          <a:prstGeom prst="rect">
            <a:avLst/>
          </a:prstGeom>
          <a:ln w="0">
            <a:noFill/>
          </a:ln>
        </p:spPr>
      </p:pic>
      <p:pic>
        <p:nvPicPr>
          <p:cNvPr id="212" name="组合 6" descr=""/>
          <p:cNvPicPr/>
          <p:nvPr/>
        </p:nvPicPr>
        <p:blipFill>
          <a:blip r:embed="rId2"/>
          <a:stretch/>
        </p:blipFill>
        <p:spPr>
          <a:xfrm>
            <a:off x="3578400" y="2676600"/>
            <a:ext cx="4937040" cy="2693880"/>
          </a:xfrm>
          <a:prstGeom prst="rect">
            <a:avLst/>
          </a:prstGeom>
          <a:ln w="0">
            <a:noFill/>
          </a:ln>
        </p:spPr>
      </p:pic>
      <p:sp>
        <p:nvSpPr>
          <p:cNvPr id="213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6715080" y="4429080"/>
            <a:ext cx="1785960" cy="1807560"/>
            <a:chOff x="6715080" y="4429080"/>
            <a:chExt cx="1785960" cy="1807560"/>
          </a:xfrm>
        </p:grpSpPr>
        <p:sp>
          <p:nvSpPr>
            <p:cNvPr id="223" name="上箭头 6"/>
            <p:cNvSpPr/>
            <p:nvPr/>
          </p:nvSpPr>
          <p:spPr>
            <a:xfrm>
              <a:off x="6715080" y="4429080"/>
              <a:ext cx="1785960" cy="128592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6851880" y="5779080"/>
              <a:ext cx="1512000" cy="298440"/>
              <a:chOff x="6851880" y="5779080"/>
              <a:chExt cx="1512000" cy="298440"/>
            </a:xfrm>
          </p:grpSpPr>
          <p:pic>
            <p:nvPicPr>
              <p:cNvPr id="225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18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 Box 7"/>
              <p:cNvSpPr/>
              <p:nvPr/>
            </p:nvSpPr>
            <p:spPr>
              <a:xfrm>
                <a:off x="685764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TextBox 14"/>
            <p:cNvSpPr/>
            <p:nvPr/>
          </p:nvSpPr>
          <p:spPr>
            <a:xfrm>
              <a:off x="7000560" y="50720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8"/>
            <p:cNvSpPr/>
            <p:nvPr/>
          </p:nvSpPr>
          <p:spPr>
            <a:xfrm>
              <a:off x="7429320" y="471492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9"/>
            <p:cNvSpPr/>
            <p:nvPr/>
          </p:nvSpPr>
          <p:spPr>
            <a:xfrm>
              <a:off x="700056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4643280" y="3857760"/>
            <a:ext cx="1928880" cy="2378880"/>
            <a:chOff x="4643280" y="3857760"/>
            <a:chExt cx="1928880" cy="2378880"/>
          </a:xfrm>
        </p:grpSpPr>
        <p:sp>
          <p:nvSpPr>
            <p:cNvPr id="231" name="上箭头 5"/>
            <p:cNvSpPr/>
            <p:nvPr/>
          </p:nvSpPr>
          <p:spPr>
            <a:xfrm>
              <a:off x="4643280" y="385776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3"/>
            <p:cNvGrpSpPr/>
            <p:nvPr/>
          </p:nvGrpSpPr>
          <p:grpSpPr>
            <a:xfrm>
              <a:off x="4852080" y="5779080"/>
              <a:ext cx="1512000" cy="298440"/>
              <a:chOff x="4852080" y="5779080"/>
              <a:chExt cx="1512000" cy="298440"/>
            </a:xfrm>
          </p:grpSpPr>
          <p:pic>
            <p:nvPicPr>
              <p:cNvPr id="233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20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Text Box 15"/>
              <p:cNvSpPr/>
              <p:nvPr/>
            </p:nvSpPr>
            <p:spPr>
              <a:xfrm>
                <a:off x="485712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Box 13"/>
            <p:cNvSpPr/>
            <p:nvPr/>
          </p:nvSpPr>
          <p:spPr>
            <a:xfrm>
              <a:off x="5071680" y="48578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17"/>
            <p:cNvSpPr/>
            <p:nvPr/>
          </p:nvSpPr>
          <p:spPr>
            <a:xfrm>
              <a:off x="5429160" y="4214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20"/>
            <p:cNvSpPr/>
            <p:nvPr/>
          </p:nvSpPr>
          <p:spPr>
            <a:xfrm>
              <a:off x="500040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9"/>
          <p:cNvGrpSpPr/>
          <p:nvPr/>
        </p:nvGrpSpPr>
        <p:grpSpPr>
          <a:xfrm>
            <a:off x="2643120" y="3214800"/>
            <a:ext cx="1928880" cy="3021840"/>
            <a:chOff x="2643120" y="3214800"/>
            <a:chExt cx="1928880" cy="3021840"/>
          </a:xfrm>
        </p:grpSpPr>
        <p:sp>
          <p:nvSpPr>
            <p:cNvPr id="239" name="上箭头 4"/>
            <p:cNvSpPr/>
            <p:nvPr/>
          </p:nvSpPr>
          <p:spPr>
            <a:xfrm>
              <a:off x="2643120" y="3214800"/>
              <a:ext cx="1928880" cy="2500560"/>
            </a:xfrm>
            <a:prstGeom prst="upArrow">
              <a:avLst>
                <a:gd name="adj1" fmla="val 76815"/>
                <a:gd name="adj2" fmla="val 50006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21"/>
            <p:cNvGrpSpPr/>
            <p:nvPr/>
          </p:nvGrpSpPr>
          <p:grpSpPr>
            <a:xfrm>
              <a:off x="2852640" y="5779080"/>
              <a:ext cx="1512000" cy="298440"/>
              <a:chOff x="2852640" y="5779080"/>
              <a:chExt cx="1512000" cy="298440"/>
            </a:xfrm>
          </p:grpSpPr>
          <p:pic>
            <p:nvPicPr>
              <p:cNvPr id="241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264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Text Box 23"/>
              <p:cNvSpPr/>
              <p:nvPr/>
            </p:nvSpPr>
            <p:spPr>
              <a:xfrm>
                <a:off x="285696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TextBox 12"/>
            <p:cNvSpPr/>
            <p:nvPr/>
          </p:nvSpPr>
          <p:spPr>
            <a:xfrm>
              <a:off x="3000240" y="435780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3429000" y="371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21"/>
            <p:cNvSpPr/>
            <p:nvPr/>
          </p:nvSpPr>
          <p:spPr>
            <a:xfrm>
              <a:off x="30002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7"/>
          <p:cNvGrpSpPr/>
          <p:nvPr/>
        </p:nvGrpSpPr>
        <p:grpSpPr>
          <a:xfrm>
            <a:off x="714240" y="2000160"/>
            <a:ext cx="1928880" cy="4236480"/>
            <a:chOff x="714240" y="2000160"/>
            <a:chExt cx="1928880" cy="4236480"/>
          </a:xfrm>
        </p:grpSpPr>
        <p:sp>
          <p:nvSpPr>
            <p:cNvPr id="247" name="上箭头 3"/>
            <p:cNvSpPr/>
            <p:nvPr/>
          </p:nvSpPr>
          <p:spPr>
            <a:xfrm>
              <a:off x="714240" y="2000160"/>
              <a:ext cx="1928880" cy="3715200"/>
            </a:xfrm>
            <a:prstGeom prst="upArrow">
              <a:avLst>
                <a:gd name="adj1" fmla="val 76815"/>
                <a:gd name="adj2" fmla="val 5000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Box 7"/>
            <p:cNvSpPr/>
            <p:nvPr/>
          </p:nvSpPr>
          <p:spPr>
            <a:xfrm>
              <a:off x="1071360" y="335736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30"/>
            <p:cNvGrpSpPr/>
            <p:nvPr/>
          </p:nvGrpSpPr>
          <p:grpSpPr>
            <a:xfrm>
              <a:off x="920160" y="5779080"/>
              <a:ext cx="1512000" cy="298440"/>
              <a:chOff x="920160" y="5779080"/>
              <a:chExt cx="1512000" cy="298440"/>
            </a:xfrm>
          </p:grpSpPr>
          <p:pic>
            <p:nvPicPr>
              <p:cNvPr id="250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016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Text Box 32"/>
              <p:cNvSpPr/>
              <p:nvPr/>
            </p:nvSpPr>
            <p:spPr>
              <a:xfrm>
                <a:off x="92808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TextBox 15"/>
            <p:cNvSpPr/>
            <p:nvPr/>
          </p:nvSpPr>
          <p:spPr>
            <a:xfrm>
              <a:off x="1500120" y="24285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Box 22"/>
            <p:cNvSpPr/>
            <p:nvPr/>
          </p:nvSpPr>
          <p:spPr>
            <a:xfrm>
              <a:off x="11426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24"/>
          <p:cNvSpPr/>
          <p:nvPr/>
        </p:nvSpPr>
        <p:spPr>
          <a:xfrm>
            <a:off x="5857920" y="235728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作品系作者习作，仅供学习交流之用，请勿用于任何商业用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5"/>
          <p:cNvSpPr/>
          <p:nvPr/>
        </p:nvSpPr>
        <p:spPr>
          <a:xfrm>
            <a:off x="5786280" y="18572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7" name="Group 3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58" name="Group 4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59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圆角矩形 4"/>
              <p:cNvSpPr/>
              <p:nvPr/>
            </p:nvSpPr>
            <p:spPr>
              <a:xfrm>
                <a:off x="91116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5"/>
              <p:cNvSpPr/>
              <p:nvPr/>
            </p:nvSpPr>
            <p:spPr>
              <a:xfrm>
                <a:off x="90324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9"/>
            <p:cNvSpPr/>
            <p:nvPr/>
          </p:nvSpPr>
          <p:spPr>
            <a:xfrm>
              <a:off x="96336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1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66" name="Group 12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67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圆角矩形 17"/>
              <p:cNvSpPr/>
              <p:nvPr/>
            </p:nvSpPr>
            <p:spPr>
              <a:xfrm>
                <a:off x="293688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18"/>
              <p:cNvSpPr/>
              <p:nvPr/>
            </p:nvSpPr>
            <p:spPr>
              <a:xfrm>
                <a:off x="292896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5"/>
            <p:cNvSpPr/>
            <p:nvPr/>
          </p:nvSpPr>
          <p:spPr>
            <a:xfrm>
              <a:off x="298908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74" name="Group 20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75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圆角矩形 25"/>
              <p:cNvSpPr/>
              <p:nvPr/>
            </p:nvSpPr>
            <p:spPr>
              <a:xfrm>
                <a:off x="486720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26"/>
              <p:cNvSpPr/>
              <p:nvPr/>
            </p:nvSpPr>
            <p:spPr>
              <a:xfrm>
                <a:off x="485928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3"/>
            <p:cNvSpPr/>
            <p:nvPr/>
          </p:nvSpPr>
          <p:spPr>
            <a:xfrm>
              <a:off x="491940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27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82" name="Group 28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83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圆角矩形 33"/>
              <p:cNvSpPr/>
              <p:nvPr/>
            </p:nvSpPr>
            <p:spPr>
              <a:xfrm>
                <a:off x="685152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34"/>
              <p:cNvSpPr/>
              <p:nvPr/>
            </p:nvSpPr>
            <p:spPr>
              <a:xfrm>
                <a:off x="684360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1"/>
            <p:cNvSpPr/>
            <p:nvPr/>
          </p:nvSpPr>
          <p:spPr>
            <a:xfrm>
              <a:off x="690372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490680" y="2048040"/>
            <a:ext cx="8189640" cy="3717720"/>
            <a:chOff x="490680" y="2048040"/>
            <a:chExt cx="8189640" cy="3717720"/>
          </a:xfrm>
        </p:grpSpPr>
        <p:sp>
          <p:nvSpPr>
            <p:cNvPr id="298" name="椭圆 4"/>
            <p:cNvSpPr/>
            <p:nvPr/>
          </p:nvSpPr>
          <p:spPr>
            <a:xfrm>
              <a:off x="2712960" y="2048040"/>
              <a:ext cx="3717720" cy="37177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5"/>
            <p:cNvSpPr/>
            <p:nvPr/>
          </p:nvSpPr>
          <p:spPr>
            <a:xfrm>
              <a:off x="3906720" y="3243240"/>
              <a:ext cx="1330200" cy="133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6"/>
            <p:cNvGrpSpPr/>
            <p:nvPr/>
          </p:nvGrpSpPr>
          <p:grpSpPr>
            <a:xfrm>
              <a:off x="490680" y="3313080"/>
              <a:ext cx="3429360" cy="1149840"/>
              <a:chOff x="490680" y="3313080"/>
              <a:chExt cx="3429360" cy="1149840"/>
            </a:xfrm>
          </p:grpSpPr>
          <p:sp>
            <p:nvSpPr>
              <p:cNvPr id="301" name="椭圆 6"/>
              <p:cNvSpPr/>
              <p:nvPr/>
            </p:nvSpPr>
            <p:spPr>
              <a:xfrm>
                <a:off x="2770560" y="3313080"/>
                <a:ext cx="114948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线形标注 2(带强调线) 9"/>
              <p:cNvSpPr/>
              <p:nvPr/>
            </p:nvSpPr>
            <p:spPr>
              <a:xfrm flipH="1">
                <a:off x="490680" y="3702240"/>
                <a:ext cx="1338480" cy="35568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椭圆 10"/>
              <p:cNvSpPr/>
              <p:nvPr/>
            </p:nvSpPr>
            <p:spPr>
              <a:xfrm flipV="1">
                <a:off x="2716560" y="3845880"/>
                <a:ext cx="45720" cy="457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10"/>
            <p:cNvGrpSpPr/>
            <p:nvPr/>
          </p:nvGrpSpPr>
          <p:grpSpPr>
            <a:xfrm>
              <a:off x="1256760" y="4569120"/>
              <a:ext cx="3620880" cy="1166040"/>
              <a:chOff x="1256760" y="4569120"/>
              <a:chExt cx="3620880" cy="1166040"/>
            </a:xfrm>
          </p:grpSpPr>
          <p:sp>
            <p:nvSpPr>
              <p:cNvPr id="305" name="椭圆 13"/>
              <p:cNvSpPr/>
              <p:nvPr/>
            </p:nvSpPr>
            <p:spPr>
              <a:xfrm>
                <a:off x="3711240" y="4569120"/>
                <a:ext cx="1166400" cy="1166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线形标注 2(带强调线) 14"/>
              <p:cNvSpPr/>
              <p:nvPr/>
            </p:nvSpPr>
            <p:spPr>
              <a:xfrm flipH="1">
                <a:off x="1256400" y="5316480"/>
                <a:ext cx="1338120" cy="35532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15"/>
              <p:cNvSpPr/>
              <p:nvPr/>
            </p:nvSpPr>
            <p:spPr>
              <a:xfrm>
                <a:off x="3681000" y="5311800"/>
                <a:ext cx="120600" cy="1220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4"/>
            <p:cNvGrpSpPr/>
            <p:nvPr/>
          </p:nvGrpSpPr>
          <p:grpSpPr>
            <a:xfrm>
              <a:off x="978480" y="2119680"/>
              <a:ext cx="3593160" cy="1224360"/>
              <a:chOff x="978480" y="2119680"/>
              <a:chExt cx="3593160" cy="1224360"/>
            </a:xfrm>
          </p:grpSpPr>
          <p:sp>
            <p:nvSpPr>
              <p:cNvPr id="309" name="椭圆 17"/>
              <p:cNvSpPr/>
              <p:nvPr/>
            </p:nvSpPr>
            <p:spPr>
              <a:xfrm>
                <a:off x="3405240" y="2178360"/>
                <a:ext cx="116640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线形标注 2(带强调线) 18"/>
              <p:cNvSpPr/>
              <p:nvPr/>
            </p:nvSpPr>
            <p:spPr>
              <a:xfrm flipH="1">
                <a:off x="978480" y="2119680"/>
                <a:ext cx="1337760" cy="35532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椭圆 19"/>
              <p:cNvSpPr/>
              <p:nvPr/>
            </p:nvSpPr>
            <p:spPr>
              <a:xfrm flipV="1">
                <a:off x="3397320" y="2359800"/>
                <a:ext cx="150480" cy="16164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8"/>
            <p:cNvGrpSpPr/>
            <p:nvPr/>
          </p:nvGrpSpPr>
          <p:grpSpPr>
            <a:xfrm>
              <a:off x="5194800" y="3710520"/>
              <a:ext cx="3485520" cy="1149840"/>
              <a:chOff x="5194800" y="3710520"/>
              <a:chExt cx="3485520" cy="1149840"/>
            </a:xfrm>
          </p:grpSpPr>
          <p:sp>
            <p:nvSpPr>
              <p:cNvPr id="313" name="椭圆 21"/>
              <p:cNvSpPr/>
              <p:nvPr/>
            </p:nvSpPr>
            <p:spPr>
              <a:xfrm flipH="1">
                <a:off x="5194440" y="371052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3a2c7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线形标注 2(带强调线) 22"/>
              <p:cNvSpPr/>
              <p:nvPr/>
            </p:nvSpPr>
            <p:spPr>
              <a:xfrm>
                <a:off x="7320240" y="4100760"/>
                <a:ext cx="1360080" cy="353520"/>
              </a:xfrm>
              <a:noFill/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椭圆 23"/>
              <p:cNvSpPr/>
              <p:nvPr/>
            </p:nvSpPr>
            <p:spPr>
              <a:xfrm flipH="1" flipV="1">
                <a:off x="6305400" y="4179960"/>
                <a:ext cx="112680" cy="109440"/>
              </a:xfrm>
              <a:prstGeom prst="ellipse">
                <a:avLst/>
              </a:prstGeom>
              <a:solidFill>
                <a:srgbClr val="b3a2c7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22"/>
            <p:cNvGrpSpPr/>
            <p:nvPr/>
          </p:nvGrpSpPr>
          <p:grpSpPr>
            <a:xfrm>
              <a:off x="4814640" y="2334240"/>
              <a:ext cx="3485520" cy="1149840"/>
              <a:chOff x="4814640" y="2334240"/>
              <a:chExt cx="3485520" cy="1149840"/>
            </a:xfrm>
          </p:grpSpPr>
          <p:sp>
            <p:nvSpPr>
              <p:cNvPr id="317" name="椭圆 25"/>
              <p:cNvSpPr/>
              <p:nvPr/>
            </p:nvSpPr>
            <p:spPr>
              <a:xfrm flipH="1">
                <a:off x="4814280" y="233424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线形标注 2(带强调线) 26"/>
              <p:cNvSpPr/>
              <p:nvPr/>
            </p:nvSpPr>
            <p:spPr>
              <a:xfrm>
                <a:off x="6940080" y="2724480"/>
                <a:ext cx="1360080" cy="35352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椭圆 27"/>
              <p:cNvSpPr/>
              <p:nvPr/>
            </p:nvSpPr>
            <p:spPr>
              <a:xfrm flipH="1" flipV="1">
                <a:off x="5925240" y="2803680"/>
                <a:ext cx="112680" cy="10944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322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组合 16" descr=""/>
          <p:cNvPicPr/>
          <p:nvPr/>
        </p:nvPicPr>
        <p:blipFill>
          <a:blip r:embed="rId1"/>
          <a:stretch/>
        </p:blipFill>
        <p:spPr>
          <a:xfrm>
            <a:off x="3365640" y="3498840"/>
            <a:ext cx="26938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326" name="Group 8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327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-243000" y="656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6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337" name="组合 5" descr=""/>
            <p:cNvPicPr/>
            <p:nvPr/>
          </p:nvPicPr>
          <p:blipFill>
            <a:blip r:embed="rId1"/>
            <a:stretch/>
          </p:blipFill>
          <p:spPr>
            <a:xfrm>
              <a:off x="384120" y="33076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椭圆 4"/>
            <p:cNvSpPr/>
            <p:nvPr/>
          </p:nvSpPr>
          <p:spPr>
            <a:xfrm>
              <a:off x="1608480" y="3790080"/>
              <a:ext cx="255240" cy="25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直接连接符 5"/>
            <p:cNvSpPr/>
            <p:nvPr/>
          </p:nvSpPr>
          <p:spPr>
            <a:xfrm>
              <a:off x="1970280" y="3953160"/>
              <a:ext cx="1895400" cy="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6"/>
            <p:cNvSpPr/>
            <p:nvPr/>
          </p:nvSpPr>
          <p:spPr>
            <a:xfrm flipV="1">
              <a:off x="4113360" y="3354480"/>
              <a:ext cx="2097000" cy="1548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7"/>
            <p:cNvSpPr/>
            <p:nvPr/>
          </p:nvSpPr>
          <p:spPr>
            <a:xfrm flipV="1">
              <a:off x="6294600" y="2809800"/>
              <a:ext cx="1621080" cy="1548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8"/>
            <p:cNvSpPr/>
            <p:nvPr/>
          </p:nvSpPr>
          <p:spPr>
            <a:xfrm flipV="1">
              <a:off x="3894480" y="3422880"/>
              <a:ext cx="188640" cy="51912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直接连接符 9"/>
            <p:cNvSpPr/>
            <p:nvPr/>
          </p:nvSpPr>
          <p:spPr>
            <a:xfrm flipV="1">
              <a:off x="6172560" y="2822760"/>
              <a:ext cx="133200" cy="574560"/>
            </a:xfrm>
            <a:prstGeom prst="line">
              <a:avLst/>
            </a:prstGeom>
            <a:ln w="76320">
              <a:solidFill>
                <a:srgbClr val="897dc1">
                  <a:alpha val="46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等腰三角形 10"/>
            <p:cNvSpPr/>
            <p:nvPr/>
          </p:nvSpPr>
          <p:spPr>
            <a:xfrm rot="1814400">
              <a:off x="7985520" y="2449440"/>
              <a:ext cx="667800" cy="571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5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49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Group 18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52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21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55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4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58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7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61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3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64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1336680" y="4367160"/>
            <a:ext cx="6638760" cy="1933560"/>
            <a:chOff x="1336680" y="4367160"/>
            <a:chExt cx="6638760" cy="1933560"/>
          </a:xfrm>
        </p:grpSpPr>
        <p:sp>
          <p:nvSpPr>
            <p:cNvPr id="368" name="圆角矩形 3"/>
            <p:cNvSpPr/>
            <p:nvPr/>
          </p:nvSpPr>
          <p:spPr>
            <a:xfrm>
              <a:off x="1336680" y="4964040"/>
              <a:ext cx="6638760" cy="133668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椭圆 4"/>
            <p:cNvSpPr/>
            <p:nvPr/>
          </p:nvSpPr>
          <p:spPr>
            <a:xfrm>
              <a:off x="1773000" y="5105160"/>
              <a:ext cx="1039680" cy="1039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椭圆 5"/>
            <p:cNvSpPr/>
            <p:nvPr/>
          </p:nvSpPr>
          <p:spPr>
            <a:xfrm>
              <a:off x="3317760" y="5087880"/>
              <a:ext cx="103968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椭圆 6"/>
            <p:cNvSpPr/>
            <p:nvPr/>
          </p:nvSpPr>
          <p:spPr>
            <a:xfrm>
              <a:off x="4892760" y="5116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椭圆 7"/>
            <p:cNvSpPr/>
            <p:nvPr/>
          </p:nvSpPr>
          <p:spPr>
            <a:xfrm>
              <a:off x="6383160" y="5102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上箭头 8"/>
            <p:cNvSpPr/>
            <p:nvPr/>
          </p:nvSpPr>
          <p:spPr>
            <a:xfrm>
              <a:off x="3016080" y="4367160"/>
              <a:ext cx="3220920" cy="58716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0"/>
          <p:cNvGrpSpPr/>
          <p:nvPr/>
        </p:nvGrpSpPr>
        <p:grpSpPr>
          <a:xfrm>
            <a:off x="1333440" y="2298600"/>
            <a:ext cx="6640560" cy="2032200"/>
            <a:chOff x="1333440" y="2298600"/>
            <a:chExt cx="6640560" cy="2032200"/>
          </a:xfrm>
        </p:grpSpPr>
        <p:sp>
          <p:nvSpPr>
            <p:cNvPr id="375" name="圆角矩形 10"/>
            <p:cNvSpPr/>
            <p:nvPr/>
          </p:nvSpPr>
          <p:spPr>
            <a:xfrm>
              <a:off x="1333440" y="2566800"/>
              <a:ext cx="6640560" cy="176400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圆角矩形 11"/>
            <p:cNvSpPr/>
            <p:nvPr/>
          </p:nvSpPr>
          <p:spPr>
            <a:xfrm>
              <a:off x="1771560" y="281448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圆角矩形 13"/>
            <p:cNvSpPr/>
            <p:nvPr/>
          </p:nvSpPr>
          <p:spPr>
            <a:xfrm>
              <a:off x="1741320" y="329076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圆角矩形 14"/>
            <p:cNvSpPr/>
            <p:nvPr/>
          </p:nvSpPr>
          <p:spPr>
            <a:xfrm>
              <a:off x="1769760" y="3756240"/>
              <a:ext cx="5740560" cy="365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圆角矩形 15"/>
            <p:cNvSpPr/>
            <p:nvPr/>
          </p:nvSpPr>
          <p:spPr>
            <a:xfrm>
              <a:off x="2811240" y="2298600"/>
              <a:ext cx="3767040" cy="36648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&amp;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Box 16"/>
          <p:cNvSpPr/>
          <p:nvPr/>
        </p:nvSpPr>
        <p:spPr>
          <a:xfrm>
            <a:off x="1886040" y="1662120"/>
            <a:ext cx="537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6:07:16Z</dcterms:created>
  <dc:creator>ppt宝藏</dc:creator>
  <dc:description/>
  <cp:keywords/>
  <dc:language>en-US</dc:language>
  <cp:lastModifiedBy>a</cp:lastModifiedBy>
  <cp:lastPrinted>1899-12-30T00:00:00Z</cp:lastPrinted>
  <dcterms:modified xsi:type="dcterms:W3CDTF">2015-07-25T12:39:20Z</dcterms:modified>
  <cp:revision>2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