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70c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b0f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b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92d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50555137"/>
        <c:axId val="5574659"/>
      </c:barChart>
      <c:catAx>
        <c:axId val="5055513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5574659"/>
        <c:crosses val="autoZero"/>
        <c:auto val="1"/>
        <c:lblAlgn val="ctr"/>
        <c:lblOffset val="100"/>
        <c:noMultiLvlLbl val="0"/>
      </c:catAx>
      <c:valAx>
        <c:axId val="5574659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50555137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70c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b0f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b05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92d05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17"/>
        <c:overlap val="-18"/>
        <c:axId val="35870293"/>
        <c:axId val="3977341"/>
      </c:barChart>
      <c:catAx>
        <c:axId val="3587029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3977341"/>
        <c:crosses val="autoZero"/>
        <c:auto val="1"/>
        <c:lblAlgn val="ctr"/>
        <c:lblOffset val="100"/>
        <c:noMultiLvlLbl val="0"/>
      </c:catAx>
      <c:valAx>
        <c:axId val="3977341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35870293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50162778376601"/>
          <c:h val="0.0930768623861897"/>
        </c:manualLayout>
      </c:layout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lineChart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5696"/>
            </a:solidFill>
            <a:ln w="57240">
              <a:solidFill>
                <a:srgbClr val="005696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79ca"/>
            </a:solidFill>
            <a:ln w="57240">
              <a:solidFill>
                <a:srgbClr val="0079c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7774"/>
            </a:solidFill>
            <a:ln w="57240">
              <a:solidFill>
                <a:srgbClr val="007774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  <c:smooth val="0"/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00d19a"/>
            </a:solidFill>
            <a:ln w="57240">
              <a:solidFill>
                <a:srgbClr val="00d19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  <c:smooth val="0"/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96300"/>
            </a:solidFill>
            <a:ln w="57240">
              <a:solidFill>
                <a:srgbClr val="f963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  <c:smooth val="0"/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99500"/>
            </a:solidFill>
            <a:ln w="57240">
              <a:solidFill>
                <a:srgbClr val="f995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86415277"/>
        <c:axId val="41963158"/>
      </c:lineChart>
      <c:catAx>
        <c:axId val="8641527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41963158"/>
        <c:crosses val="autoZero"/>
        <c:auto val="1"/>
        <c:lblAlgn val="ctr"/>
        <c:lblOffset val="100"/>
        <c:noMultiLvlLbl val="0"/>
      </c:catAx>
      <c:valAx>
        <c:axId val="41963158"/>
        <c:scaling>
          <c:orientation val="minMax"/>
        </c:scaling>
        <c:delete val="0"/>
        <c:axPos val="l"/>
        <c:majorGridlines>
          <c:spPr>
            <a:ln w="9360">
              <a:solidFill>
                <a:srgbClr val="5f5f5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86415277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78005005754791"/>
          <c:h val="0.0930768623861897"/>
        </c:manualLayout>
      </c:layout>
      <c:overlay val="0"/>
      <c:spPr>
        <a:noFill/>
        <a:ln w="0">
          <a:solidFill>
            <a:srgbClr val="5f5f5f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70c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b0f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b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92d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13304987"/>
        <c:axId val="9493929"/>
      </c:barChart>
      <c:catAx>
        <c:axId val="1330498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9493929"/>
        <c:crosses val="autoZero"/>
        <c:auto val="1"/>
        <c:lblAlgn val="ctr"/>
        <c:lblOffset val="100"/>
        <c:noMultiLvlLbl val="0"/>
      </c:catAx>
      <c:valAx>
        <c:axId val="9493929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13304987"/>
        <c:crosses val="autoZero"/>
        <c:crossBetween val="between"/>
      </c:valAx>
      <c:spPr>
        <a:noFill/>
        <a:ln w="0">
          <a:noFill/>
        </a:ln>
      </c:spPr>
    </c:plotArea>
    <c:legend>
      <c:legendPos val="t"/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4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3ACC6A0D-5AFA-43D3-924D-E42FFE9D8403}" type="doc">
      <dgm:prSet loTypeId="urn:microsoft.com/office/officeart/2005/8/layout/vList5" loCatId="list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87F80FA7-1FDC-4687-87AF-749CE58D823F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1</a:t>
          </a:r>
          <a:endParaRPr lang="zh-CN" altLang="en-US" dirty="0">
            <a:solidFill>
              <a:srgbClr val="FFFFFF"/>
            </a:solidFill>
          </a:endParaRPr>
        </a:p>
      </dgm:t>
    </dgm:pt>
    <dgm:pt modelId="{418358B0-A534-4E2B-B5ED-BE9E02895AFC}" type="par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538F9D4A-8D14-42DB-88B8-D587CD58C2C0}" type="sib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9830C3A0-5D2B-4241-A3F9-9654D05F7988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ED54D61-6AFD-425F-90A5-2213E9AE5F47}" type="par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72823120-D897-48FB-B508-EBE1716B7D64}" type="sib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802793A6-CBD1-4C70-9D1B-CC7A314A119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B94CFE1-91A4-46F6-B695-4FF57B7DD47A}" type="par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FF49B0E6-18CB-42E6-9C2D-0F363079C3AE}" type="sib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4F49577A-6322-459E-8FF2-C71A85FB8A10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3</a:t>
          </a:r>
          <a:endParaRPr lang="zh-CN" altLang="en-US" dirty="0">
            <a:solidFill>
              <a:srgbClr val="FFFFFF"/>
            </a:solidFill>
          </a:endParaRPr>
        </a:p>
      </dgm:t>
    </dgm:pt>
    <dgm:pt modelId="{142BD9C9-83BE-4B75-AE86-264CF15FBC3C}" type="par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AF9E0CEE-D2CF-45C5-AE87-D6B2D0D49884}" type="sib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57C62713-E7DE-48EE-AE67-2B709CE47F3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B43B843D-AEAB-4997-90B5-5567A02135F6}" type="par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8750A376-8D60-4389-A8DF-AB7B9284A5E0}" type="sib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EEFA96A0-7DBF-42F5-9760-1B682C978D9E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4</a:t>
          </a:r>
          <a:endParaRPr lang="zh-CN" altLang="en-US" dirty="0">
            <a:solidFill>
              <a:srgbClr val="FFFFFF"/>
            </a:solidFill>
          </a:endParaRPr>
        </a:p>
      </dgm:t>
    </dgm:pt>
    <dgm:pt modelId="{0340630C-B312-4000-B364-5E57002B64CE}" type="par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D021868A-5F15-426D-9BF9-38BC4141536B}" type="sib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0792B64B-B93F-4639-B6ED-F80F72A777A6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5</a:t>
          </a:r>
          <a:endParaRPr lang="zh-CN" altLang="en-US" dirty="0">
            <a:solidFill>
              <a:srgbClr val="FFFFFF"/>
            </a:solidFill>
          </a:endParaRPr>
        </a:p>
      </dgm:t>
    </dgm:pt>
    <dgm:pt modelId="{A1B428BC-E51F-4292-848B-FB24C49792EB}" type="par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E1890F18-DC2F-4720-A639-7AE3593F91FB}" type="sib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A8FB4687-FD80-4075-A598-C4CEC64A7889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6</a:t>
          </a:r>
          <a:endParaRPr lang="zh-CN" altLang="en-US" dirty="0">
            <a:solidFill>
              <a:srgbClr val="FFFFFF"/>
            </a:solidFill>
          </a:endParaRPr>
        </a:p>
      </dgm:t>
    </dgm:pt>
    <dgm:pt modelId="{46A2DBB9-9CF0-4049-A796-CFDBBA9AB286}" type="par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04546DC9-3C9C-47BD-93C8-60591690DE8B}" type="sib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325D6113-F116-48D7-A58B-2FFC16FE4BC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32DD3F3C-B898-4650-BAE3-FD965789C780}" type="par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3A33BEEF-CE83-4A03-AEA5-5D1EFCE5EDE3}" type="sib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850919D4-F313-498A-89A2-6006B4A28CAC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762BBC97-ADCC-4F67-B4ED-DA5A66392793}" type="par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662F3B96-4A79-4EA8-894C-3D8579647F30}" type="sib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0EAEA40A-AFEE-4FED-833C-B31C910692E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C157DD3-C8F5-4DFE-9A24-5B43BBD37E38}" type="par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3FD43985-5A2B-4076-9AA0-7DC1E78D6825}" type="sib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BF9FE8BE-983E-41F9-B317-D7015F6F36FA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2</a:t>
          </a:r>
          <a:endParaRPr lang="zh-CN" altLang="en-US" dirty="0">
            <a:solidFill>
              <a:srgbClr val="FFFFFF"/>
            </a:solidFill>
          </a:endParaRPr>
        </a:p>
      </dgm:t>
    </dgm:pt>
    <dgm:pt modelId="{6A4C0EF0-ECC4-4E5F-9FF7-030BF8FA6E52}" type="sib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922601CA-F814-4FB6-A426-5608D1BEDA51}" type="par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78AD1182-6711-44B6-95D9-0543DA065073}" type="pres">
      <dgm:prSet presAssocID="{3ACC6A0D-5AFA-43D3-924D-E42FFE9D8403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A5E051B-36E3-4708-B8E0-CEA45E5AFCA3}" type="pres">
      <dgm:prSet presAssocID="{87F80FA7-1FDC-4687-87AF-749CE58D823F}" presName="linNode" presStyleCnt="0"/>
      <dgm:spPr/>
    </dgm:pt>
    <dgm:pt modelId="{2381FA19-2733-48ED-ABAA-7EDFAF30A094}" type="pres">
      <dgm:prSet presAssocID="{87F80FA7-1FDC-4687-87AF-749CE58D823F}" presName="parentText" presStyleLbl="node1" presStyleIdx="0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86239680-3CB0-4DF4-8F4D-801C589137CD}" type="pres">
      <dgm:prSet presAssocID="{87F80FA7-1FDC-4687-87AF-749CE58D823F}" presName="descendantText" presStyleLbl="alignAccFollowNode1" presStyleIdx="0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BBE333D-B468-4E16-8BE4-A0D75FB74CE7}" type="pres">
      <dgm:prSet presAssocID="{538F9D4A-8D14-42DB-88B8-D587CD58C2C0}" presName="sp" presStyleCnt="0"/>
      <dgm:spPr/>
    </dgm:pt>
    <dgm:pt modelId="{FC592209-34A7-4F86-B4A3-CD2205180153}" type="pres">
      <dgm:prSet presAssocID="{BF9FE8BE-983E-41F9-B317-D7015F6F36FA}" presName="linNode" presStyleCnt="0"/>
      <dgm:spPr/>
    </dgm:pt>
    <dgm:pt modelId="{4CE170C5-6DE4-49AE-85C4-BB9332B44101}" type="pres">
      <dgm:prSet presAssocID="{BF9FE8BE-983E-41F9-B317-D7015F6F36FA}" presName="parentText" presStyleLbl="node1" presStyleIdx="1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A0313DD0-A4E1-4D7E-AE20-031718C5CEC6}" type="pres">
      <dgm:prSet presAssocID="{BF9FE8BE-983E-41F9-B317-D7015F6F36FA}" presName="descendantText" presStyleLbl="alignAccFollowNode1" presStyleIdx="1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05DB555-4FD6-4E60-96BE-FE4E2F0D0366}" type="pres">
      <dgm:prSet presAssocID="{6A4C0EF0-ECC4-4E5F-9FF7-030BF8FA6E52}" presName="sp" presStyleCnt="0"/>
      <dgm:spPr/>
    </dgm:pt>
    <dgm:pt modelId="{A840535B-423A-4CFC-984F-80427C872268}" type="pres">
      <dgm:prSet presAssocID="{4F49577A-6322-459E-8FF2-C71A85FB8A10}" presName="linNode" presStyleCnt="0"/>
      <dgm:spPr/>
    </dgm:pt>
    <dgm:pt modelId="{E8A2056D-40E3-46C3-8DEB-F711CFFDABE5}" type="pres">
      <dgm:prSet presAssocID="{4F49577A-6322-459E-8FF2-C71A85FB8A10}" presName="parentText" presStyleLbl="node1" presStyleIdx="2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DAE57B0-4386-42CD-B7BF-2EB7D32E6BF2}" type="pres">
      <dgm:prSet presAssocID="{4F49577A-6322-459E-8FF2-C71A85FB8A10}" presName="descendantText" presStyleLbl="alignAccFollowNode1" presStyleIdx="2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09C91ECF-E223-47CE-8844-FAF1D92E1460}" type="pres">
      <dgm:prSet presAssocID="{AF9E0CEE-D2CF-45C5-AE87-D6B2D0D49884}" presName="sp" presStyleCnt="0"/>
      <dgm:spPr/>
    </dgm:pt>
    <dgm:pt modelId="{B17E93F9-934D-4D5F-9E95-33F5971E5037}" type="pres">
      <dgm:prSet presAssocID="{EEFA96A0-7DBF-42F5-9760-1B682C978D9E}" presName="linNode" presStyleCnt="0"/>
      <dgm:spPr/>
    </dgm:pt>
    <dgm:pt modelId="{5E94653F-6E3A-466B-866E-C0149A07CA40}" type="pres">
      <dgm:prSet presAssocID="{EEFA96A0-7DBF-42F5-9760-1B682C978D9E}" presName="parentText" presStyleLbl="node1" presStyleIdx="3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FAD5F7D-A880-40A0-AE9E-17C80DAA362D}" type="pres">
      <dgm:prSet presAssocID="{EEFA96A0-7DBF-42F5-9760-1B682C978D9E}" presName="descendantText" presStyleLbl="alignAccFollowNode1" presStyleIdx="3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EDC8629-9024-4F5C-B802-AB54DBB1889A}" type="pres">
      <dgm:prSet presAssocID="{D021868A-5F15-426D-9BF9-38BC4141536B}" presName="sp" presStyleCnt="0"/>
      <dgm:spPr/>
    </dgm:pt>
    <dgm:pt modelId="{7DFBF7FF-DDB7-4FCB-ADDD-51784835003D}" type="pres">
      <dgm:prSet presAssocID="{0792B64B-B93F-4639-B6ED-F80F72A777A6}" presName="linNode" presStyleCnt="0"/>
      <dgm:spPr/>
    </dgm:pt>
    <dgm:pt modelId="{39A22D0B-8CB7-4C90-A0BE-B94049266003}" type="pres">
      <dgm:prSet presAssocID="{0792B64B-B93F-4639-B6ED-F80F72A777A6}" presName="parentText" presStyleLbl="node1" presStyleIdx="4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A256C4D-C145-46CA-A9D9-95A8600A7020}" type="pres">
      <dgm:prSet presAssocID="{0792B64B-B93F-4639-B6ED-F80F72A777A6}" presName="descendantText" presStyleLbl="alignAccFollowNode1" presStyleIdx="4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B9FE353-43A4-471F-82C5-03BA0CE22989}" type="pres">
      <dgm:prSet presAssocID="{E1890F18-DC2F-4720-A639-7AE3593F91FB}" presName="sp" presStyleCnt="0"/>
      <dgm:spPr/>
    </dgm:pt>
    <dgm:pt modelId="{274086F3-377D-4FBA-AECF-C98CF16E075D}" type="pres">
      <dgm:prSet presAssocID="{A8FB4687-FD80-4075-A598-C4CEC64A7889}" presName="linNode" presStyleCnt="0"/>
      <dgm:spPr/>
    </dgm:pt>
    <dgm:pt modelId="{F889E688-BCE4-4A0E-8C7D-7E9E48AB2095}" type="pres">
      <dgm:prSet presAssocID="{A8FB4687-FD80-4075-A598-C4CEC64A7889}" presName="parentText" presStyleLbl="node1" presStyleIdx="5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845FE83-ED04-40F4-B057-95E666072AD5}" type="pres">
      <dgm:prSet presAssocID="{A8FB4687-FD80-4075-A598-C4CEC64A7889}" presName="descendantText" presStyleLbl="alignAccFollowNode1" presStyleIdx="5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497DC11A-0F73-48E1-B090-ACFE1B881109}" type="presOf" srcId="{3ACC6A0D-5AFA-43D3-924D-E42FFE9D8403}" destId="{78AD1182-6711-44B6-95D9-0543DA065073}" srcOrd="0" destOrd="0" presId="urn:microsoft.com/office/officeart/2005/8/layout/vList5"/>
    <dgm:cxn modelId="{2DD4CCAF-9B13-4F3F-8BC5-B4A8C96D14CF}" srcId="{3ACC6A0D-5AFA-43D3-924D-E42FFE9D8403}" destId="{A8FB4687-FD80-4075-A598-C4CEC64A7889}" srcOrd="5" destOrd="0" parTransId="{46A2DBB9-9CF0-4049-A796-CFDBBA9AB286}" sibTransId="{04546DC9-3C9C-47BD-93C8-60591690DE8B}"/>
    <dgm:cxn modelId="{E7C6FD22-8EDA-4EDB-8AFB-D621880A30C4}" type="presOf" srcId="{BF9FE8BE-983E-41F9-B317-D7015F6F36FA}" destId="{4CE170C5-6DE4-49AE-85C4-BB9332B44101}" srcOrd="0" destOrd="0" presId="urn:microsoft.com/office/officeart/2005/8/layout/vList5"/>
    <dgm:cxn modelId="{52AF3023-D549-4D9E-B224-0F61AD712855}" srcId="{BF9FE8BE-983E-41F9-B317-D7015F6F36FA}" destId="{802793A6-CBD1-4C70-9D1B-CC7A314A1196}" srcOrd="0" destOrd="0" parTransId="{FB94CFE1-91A4-46F6-B695-4FF57B7DD47A}" sibTransId="{FF49B0E6-18CB-42E6-9C2D-0F363079C3AE}"/>
    <dgm:cxn modelId="{F16C09AB-58F0-4B3A-834A-F3DB59015817}" srcId="{3ACC6A0D-5AFA-43D3-924D-E42FFE9D8403}" destId="{0792B64B-B93F-4639-B6ED-F80F72A777A6}" srcOrd="4" destOrd="0" parTransId="{A1B428BC-E51F-4292-848B-FB24C49792EB}" sibTransId="{E1890F18-DC2F-4720-A639-7AE3593F91FB}"/>
    <dgm:cxn modelId="{2C041A71-AB07-447E-934C-E0C2BB486159}" type="presOf" srcId="{4F49577A-6322-459E-8FF2-C71A85FB8A10}" destId="{E8A2056D-40E3-46C3-8DEB-F711CFFDABE5}" srcOrd="0" destOrd="0" presId="urn:microsoft.com/office/officeart/2005/8/layout/vList5"/>
    <dgm:cxn modelId="{E45095AD-C91B-4C34-B930-D52B64ED8DF0}" type="presOf" srcId="{EEFA96A0-7DBF-42F5-9760-1B682C978D9E}" destId="{5E94653F-6E3A-466B-866E-C0149A07CA40}" srcOrd="0" destOrd="0" presId="urn:microsoft.com/office/officeart/2005/8/layout/vList5"/>
    <dgm:cxn modelId="{9DE2AB10-A4BD-4727-8E58-75E05B6C78C8}" type="presOf" srcId="{325D6113-F116-48D7-A58B-2FFC16FE4BC9}" destId="{E845FE83-ED04-40F4-B057-95E666072AD5}" srcOrd="0" destOrd="0" presId="urn:microsoft.com/office/officeart/2005/8/layout/vList5"/>
    <dgm:cxn modelId="{3A42D998-0D0A-4F60-8D6C-0966A7EAA112}" srcId="{A8FB4687-FD80-4075-A598-C4CEC64A7889}" destId="{325D6113-F116-48D7-A58B-2FFC16FE4BC9}" srcOrd="0" destOrd="0" parTransId="{32DD3F3C-B898-4650-BAE3-FD965789C780}" sibTransId="{3A33BEEF-CE83-4A03-AEA5-5D1EFCE5EDE3}"/>
    <dgm:cxn modelId="{CF9C2DC7-88C4-45B0-A89A-801D719A067F}" type="presOf" srcId="{0792B64B-B93F-4639-B6ED-F80F72A777A6}" destId="{39A22D0B-8CB7-4C90-A0BE-B94049266003}" srcOrd="0" destOrd="0" presId="urn:microsoft.com/office/officeart/2005/8/layout/vList5"/>
    <dgm:cxn modelId="{D3A38692-6C6B-4C66-B9C8-4A2DAB9485FC}" type="presOf" srcId="{A8FB4687-FD80-4075-A598-C4CEC64A7889}" destId="{F889E688-BCE4-4A0E-8C7D-7E9E48AB2095}" srcOrd="0" destOrd="0" presId="urn:microsoft.com/office/officeart/2005/8/layout/vList5"/>
    <dgm:cxn modelId="{24A3A7E8-31EE-4979-B841-407105CED411}" srcId="{0792B64B-B93F-4639-B6ED-F80F72A777A6}" destId="{850919D4-F313-498A-89A2-6006B4A28CAC}" srcOrd="0" destOrd="0" parTransId="{762BBC97-ADCC-4F67-B4ED-DA5A66392793}" sibTransId="{662F3B96-4A79-4EA8-894C-3D8579647F30}"/>
    <dgm:cxn modelId="{191A9748-9762-441A-9CE2-D63D6FAA3FAE}" type="presOf" srcId="{9830C3A0-5D2B-4241-A3F9-9654D05F7988}" destId="{86239680-3CB0-4DF4-8F4D-801C589137CD}" srcOrd="0" destOrd="0" presId="urn:microsoft.com/office/officeart/2005/8/layout/vList5"/>
    <dgm:cxn modelId="{AED4E61E-7E72-47B1-8B51-EB7A0CF43226}" type="presOf" srcId="{802793A6-CBD1-4C70-9D1B-CC7A314A1196}" destId="{A0313DD0-A4E1-4D7E-AE20-031718C5CEC6}" srcOrd="0" destOrd="0" presId="urn:microsoft.com/office/officeart/2005/8/layout/vList5"/>
    <dgm:cxn modelId="{774D1A83-6A90-40BA-97C7-8837E561B206}" type="presOf" srcId="{87F80FA7-1FDC-4687-87AF-749CE58D823F}" destId="{2381FA19-2733-48ED-ABAA-7EDFAF30A094}" srcOrd="0" destOrd="0" presId="urn:microsoft.com/office/officeart/2005/8/layout/vList5"/>
    <dgm:cxn modelId="{953531F8-CCD4-46A6-B490-DB68D2FBDC8C}" srcId="{3ACC6A0D-5AFA-43D3-924D-E42FFE9D8403}" destId="{BF9FE8BE-983E-41F9-B317-D7015F6F36FA}" srcOrd="1" destOrd="0" parTransId="{922601CA-F814-4FB6-A426-5608D1BEDA51}" sibTransId="{6A4C0EF0-ECC4-4E5F-9FF7-030BF8FA6E52}"/>
    <dgm:cxn modelId="{FD88F8C1-8797-4801-BFA6-E63CDAA92CD2}" type="presOf" srcId="{0EAEA40A-AFEE-4FED-833C-B31C910692E6}" destId="{FFAD5F7D-A880-40A0-AE9E-17C80DAA362D}" srcOrd="0" destOrd="0" presId="urn:microsoft.com/office/officeart/2005/8/layout/vList5"/>
    <dgm:cxn modelId="{3278421F-133D-421B-83BC-75074B864EE6}" srcId="{4F49577A-6322-459E-8FF2-C71A85FB8A10}" destId="{57C62713-E7DE-48EE-AE67-2B709CE47F37}" srcOrd="0" destOrd="0" parTransId="{B43B843D-AEAB-4997-90B5-5567A02135F6}" sibTransId="{8750A376-8D60-4389-A8DF-AB7B9284A5E0}"/>
    <dgm:cxn modelId="{A6EA2CB6-999A-4FCA-831D-A56F705233C2}" type="presOf" srcId="{850919D4-F313-498A-89A2-6006B4A28CAC}" destId="{4A256C4D-C145-46CA-A9D9-95A8600A7020}" srcOrd="0" destOrd="0" presId="urn:microsoft.com/office/officeart/2005/8/layout/vList5"/>
    <dgm:cxn modelId="{FC362A2E-8681-40D2-9789-5D39FFD036F0}" srcId="{EEFA96A0-7DBF-42F5-9760-1B682C978D9E}" destId="{0EAEA40A-AFEE-4FED-833C-B31C910692E6}" srcOrd="0" destOrd="0" parTransId="{FC157DD3-C8F5-4DFE-9A24-5B43BBD37E38}" sibTransId="{3FD43985-5A2B-4076-9AA0-7DC1E78D6825}"/>
    <dgm:cxn modelId="{4675E0D5-18A4-4064-A6A4-F7DD8FC83BA7}" srcId="{87F80FA7-1FDC-4687-87AF-749CE58D823F}" destId="{9830C3A0-5D2B-4241-A3F9-9654D05F7988}" srcOrd="0" destOrd="0" parTransId="{FED54D61-6AFD-425F-90A5-2213E9AE5F47}" sibTransId="{72823120-D897-48FB-B508-EBE1716B7D64}"/>
    <dgm:cxn modelId="{3F9EA91B-B68F-4C62-903F-27D5B23C46AE}" srcId="{3ACC6A0D-5AFA-43D3-924D-E42FFE9D8403}" destId="{87F80FA7-1FDC-4687-87AF-749CE58D823F}" srcOrd="0" destOrd="0" parTransId="{418358B0-A534-4E2B-B5ED-BE9E02895AFC}" sibTransId="{538F9D4A-8D14-42DB-88B8-D587CD58C2C0}"/>
    <dgm:cxn modelId="{AD978664-7D93-4B8B-A41D-83319AAECAA5}" srcId="{3ACC6A0D-5AFA-43D3-924D-E42FFE9D8403}" destId="{4F49577A-6322-459E-8FF2-C71A85FB8A10}" srcOrd="2" destOrd="0" parTransId="{142BD9C9-83BE-4B75-AE86-264CF15FBC3C}" sibTransId="{AF9E0CEE-D2CF-45C5-AE87-D6B2D0D49884}"/>
    <dgm:cxn modelId="{B9BABDB1-5FF1-4867-93E9-7B04558D9BBC}" srcId="{3ACC6A0D-5AFA-43D3-924D-E42FFE9D8403}" destId="{EEFA96A0-7DBF-42F5-9760-1B682C978D9E}" srcOrd="3" destOrd="0" parTransId="{0340630C-B312-4000-B364-5E57002B64CE}" sibTransId="{D021868A-5F15-426D-9BF9-38BC4141536B}"/>
    <dgm:cxn modelId="{9D58267A-CB26-4766-A03F-2C7A3EC9AADB}" type="presOf" srcId="{57C62713-E7DE-48EE-AE67-2B709CE47F37}" destId="{3DAE57B0-4386-42CD-B7BF-2EB7D32E6BF2}" srcOrd="0" destOrd="0" presId="urn:microsoft.com/office/officeart/2005/8/layout/vList5"/>
    <dgm:cxn modelId="{46452B60-CD31-46AF-BED9-5443B302F3EC}" type="presParOf" srcId="{78AD1182-6711-44B6-95D9-0543DA065073}" destId="{0A5E051B-36E3-4708-B8E0-CEA45E5AFCA3}" srcOrd="0" destOrd="0" presId="urn:microsoft.com/office/officeart/2005/8/layout/vList5"/>
    <dgm:cxn modelId="{F1C62FDE-1451-459B-A390-3FEC7FE07AF0}" type="presParOf" srcId="{0A5E051B-36E3-4708-B8E0-CEA45E5AFCA3}" destId="{2381FA19-2733-48ED-ABAA-7EDFAF30A094}" srcOrd="0" destOrd="0" presId="urn:microsoft.com/office/officeart/2005/8/layout/vList5"/>
    <dgm:cxn modelId="{73C4BECF-A77D-41DA-8FAD-702443A0F923}" type="presParOf" srcId="{0A5E051B-36E3-4708-B8E0-CEA45E5AFCA3}" destId="{86239680-3CB0-4DF4-8F4D-801C589137CD}" srcOrd="1" destOrd="0" presId="urn:microsoft.com/office/officeart/2005/8/layout/vList5"/>
    <dgm:cxn modelId="{B82B1C7A-B215-45AA-B395-069BD681A35E}" type="presParOf" srcId="{78AD1182-6711-44B6-95D9-0543DA065073}" destId="{4BBE333D-B468-4E16-8BE4-A0D75FB74CE7}" srcOrd="1" destOrd="0" presId="urn:microsoft.com/office/officeart/2005/8/layout/vList5"/>
    <dgm:cxn modelId="{CF30DA5E-5541-4B05-924C-8C79CA11C8AC}" type="presParOf" srcId="{78AD1182-6711-44B6-95D9-0543DA065073}" destId="{FC592209-34A7-4F86-B4A3-CD2205180153}" srcOrd="2" destOrd="0" presId="urn:microsoft.com/office/officeart/2005/8/layout/vList5"/>
    <dgm:cxn modelId="{1444768D-C6A7-4BC7-883D-3DC32ECD14F3}" type="presParOf" srcId="{FC592209-34A7-4F86-B4A3-CD2205180153}" destId="{4CE170C5-6DE4-49AE-85C4-BB9332B44101}" srcOrd="0" destOrd="0" presId="urn:microsoft.com/office/officeart/2005/8/layout/vList5"/>
    <dgm:cxn modelId="{E7AD5787-0900-40F4-97B7-DF2E354E8568}" type="presParOf" srcId="{FC592209-34A7-4F86-B4A3-CD2205180153}" destId="{A0313DD0-A4E1-4D7E-AE20-031718C5CEC6}" srcOrd="1" destOrd="0" presId="urn:microsoft.com/office/officeart/2005/8/layout/vList5"/>
    <dgm:cxn modelId="{E26D5C62-5E71-4BD5-A15E-4B3F72A684B8}" type="presParOf" srcId="{78AD1182-6711-44B6-95D9-0543DA065073}" destId="{C05DB555-4FD6-4E60-96BE-FE4E2F0D0366}" srcOrd="3" destOrd="0" presId="urn:microsoft.com/office/officeart/2005/8/layout/vList5"/>
    <dgm:cxn modelId="{71ECA4CB-FDAC-431D-B170-1FBDE0C824AF}" type="presParOf" srcId="{78AD1182-6711-44B6-95D9-0543DA065073}" destId="{A840535B-423A-4CFC-984F-80427C872268}" srcOrd="4" destOrd="0" presId="urn:microsoft.com/office/officeart/2005/8/layout/vList5"/>
    <dgm:cxn modelId="{1EFEA873-D6C2-41DF-BA26-45998B6C6608}" type="presParOf" srcId="{A840535B-423A-4CFC-984F-80427C872268}" destId="{E8A2056D-40E3-46C3-8DEB-F711CFFDABE5}" srcOrd="0" destOrd="0" presId="urn:microsoft.com/office/officeart/2005/8/layout/vList5"/>
    <dgm:cxn modelId="{33D4613E-E7CC-495A-934A-81CCD9686720}" type="presParOf" srcId="{A840535B-423A-4CFC-984F-80427C872268}" destId="{3DAE57B0-4386-42CD-B7BF-2EB7D32E6BF2}" srcOrd="1" destOrd="0" presId="urn:microsoft.com/office/officeart/2005/8/layout/vList5"/>
    <dgm:cxn modelId="{6EC39E70-E772-4226-ADBA-5D2B3F216F45}" type="presParOf" srcId="{78AD1182-6711-44B6-95D9-0543DA065073}" destId="{09C91ECF-E223-47CE-8844-FAF1D92E1460}" srcOrd="5" destOrd="0" presId="urn:microsoft.com/office/officeart/2005/8/layout/vList5"/>
    <dgm:cxn modelId="{84719BF9-D21B-4835-9F3A-2B6582D2EAA7}" type="presParOf" srcId="{78AD1182-6711-44B6-95D9-0543DA065073}" destId="{B17E93F9-934D-4D5F-9E95-33F5971E5037}" srcOrd="6" destOrd="0" presId="urn:microsoft.com/office/officeart/2005/8/layout/vList5"/>
    <dgm:cxn modelId="{BEFDBAD9-723D-43B2-A9E8-36FDB31F052D}" type="presParOf" srcId="{B17E93F9-934D-4D5F-9E95-33F5971E5037}" destId="{5E94653F-6E3A-466B-866E-C0149A07CA40}" srcOrd="0" destOrd="0" presId="urn:microsoft.com/office/officeart/2005/8/layout/vList5"/>
    <dgm:cxn modelId="{6109E9B3-3EEE-4BAF-94BD-F27176C8AFE5}" type="presParOf" srcId="{B17E93F9-934D-4D5F-9E95-33F5971E5037}" destId="{FFAD5F7D-A880-40A0-AE9E-17C80DAA362D}" srcOrd="1" destOrd="0" presId="urn:microsoft.com/office/officeart/2005/8/layout/vList5"/>
    <dgm:cxn modelId="{9B2FD3F8-DB78-470E-AF2E-D591EF5BED24}" type="presParOf" srcId="{78AD1182-6711-44B6-95D9-0543DA065073}" destId="{FEDC8629-9024-4F5C-B802-AB54DBB1889A}" srcOrd="7" destOrd="0" presId="urn:microsoft.com/office/officeart/2005/8/layout/vList5"/>
    <dgm:cxn modelId="{33066991-C055-488C-9A42-8F8FD602ACCB}" type="presParOf" srcId="{78AD1182-6711-44B6-95D9-0543DA065073}" destId="{7DFBF7FF-DDB7-4FCB-ADDD-51784835003D}" srcOrd="8" destOrd="0" presId="urn:microsoft.com/office/officeart/2005/8/layout/vList5"/>
    <dgm:cxn modelId="{40182359-D39B-4F2C-97F9-9EA36F4298E2}" type="presParOf" srcId="{7DFBF7FF-DDB7-4FCB-ADDD-51784835003D}" destId="{39A22D0B-8CB7-4C90-A0BE-B94049266003}" srcOrd="0" destOrd="0" presId="urn:microsoft.com/office/officeart/2005/8/layout/vList5"/>
    <dgm:cxn modelId="{9EDC2253-61D1-41C3-95A2-BADBAF5D9F67}" type="presParOf" srcId="{7DFBF7FF-DDB7-4FCB-ADDD-51784835003D}" destId="{4A256C4D-C145-46CA-A9D9-95A8600A7020}" srcOrd="1" destOrd="0" presId="urn:microsoft.com/office/officeart/2005/8/layout/vList5"/>
    <dgm:cxn modelId="{C36C86AC-092E-4FBD-A6B6-5ADD522010D0}" type="presParOf" srcId="{78AD1182-6711-44B6-95D9-0543DA065073}" destId="{1B9FE353-43A4-471F-82C5-03BA0CE22989}" srcOrd="9" destOrd="0" presId="urn:microsoft.com/office/officeart/2005/8/layout/vList5"/>
    <dgm:cxn modelId="{F7295532-5450-4B26-B3FC-C159A174D6B4}" type="presParOf" srcId="{78AD1182-6711-44B6-95D9-0543DA065073}" destId="{274086F3-377D-4FBA-AECF-C98CF16E075D}" srcOrd="10" destOrd="0" presId="urn:microsoft.com/office/officeart/2005/8/layout/vList5"/>
    <dgm:cxn modelId="{2A0AF696-B77E-4E65-8D83-1A6CA3E18D15}" type="presParOf" srcId="{274086F3-377D-4FBA-AECF-C98CF16E075D}" destId="{F889E688-BCE4-4A0E-8C7D-7E9E48AB2095}" srcOrd="0" destOrd="0" presId="urn:microsoft.com/office/officeart/2005/8/layout/vList5"/>
    <dgm:cxn modelId="{74AC2D61-4877-40E9-BE18-DD3508D77F88}" type="presParOf" srcId="{274086F3-377D-4FBA-AECF-C98CF16E075D}" destId="{E845FE83-ED04-40F4-B057-95E666072AD5}" srcOrd="1" destOrd="0" presId="urn:microsoft.com/office/officeart/2005/8/layout/vList5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7E8238E3-0F58-4E66-BA3B-9DB6BE6DD35F}" type="doc">
      <dgm:prSet loTypeId="urn:microsoft.com/office/officeart/2005/8/layout/hProcess4" loCatId="process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7B5AE738-93C7-43C8-9DB6-5F01C0495DE4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E82CA1AC-9DD4-4F43-B8BE-187C5E36B814}" type="par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0A42F8B8-4764-4BB2-B0E7-5D5E32EC3C23}" type="sib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AFBFCE69-D95F-465E-B5DB-FDE90EFCA14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FE1BBF74-839A-4F92-81C7-C1EB3E1819FB}" type="par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FF90C5F3-FB4D-4EC1-9360-BC8A9E605B54}" type="sib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58E8784C-7D25-4E38-B433-0589E390C7F2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33771138-F664-4865-B2DF-B1CD146F78C6}" type="par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1152C29E-82D7-4BD6-9611-91B4B7F178AD}" type="sib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50D1D4AE-6284-4639-B39D-7107C967DE93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F883ABD2-DD0E-40DD-BD0F-C33D93DB3A0A}" type="par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6B680945-A323-4172-9DE0-35B7D7CE503D}" type="sib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07F363F8-5443-4D43-B030-85B1BD2F4B9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E7B1A53C-508A-4D5A-9F51-A19F7262204D}" type="par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0633A044-18CC-4725-89A3-47F862423F3F}" type="sib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D4E36BDB-ED9C-4A17-9C54-DDAABEBAA0C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CCEB54FF-A86E-4955-8AFB-A0D14C23EECB}" type="par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93B68759-73F1-4353-B2CE-F76969E25009}" type="sib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A92D798B-F514-4C55-9637-4ECD7BC618AD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6D1221F9-81B4-4EF1-B42A-472C601797C8}" type="par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FAA4E5DD-8388-4257-B651-89A2FA4D0752}" type="sib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44E8B082-45DE-4A7F-A9F8-53876133B0D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162AAEE-0187-4161-83E1-503EB3717844}" type="par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A484B21F-1807-4F86-8D1E-82F2DDAE378C}" type="sib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15F083AA-252A-41A8-89D3-11577292F09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F12FFEF-D862-449C-A761-74908986020A}" type="par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26A358A-8FA9-47CE-83DF-59DE45A3E86A}" type="sib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3CD69FF-FD1C-4504-8A75-E4046CC7747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7A547490-4E03-45BC-822F-DD6C17AF415A}" type="par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E8774291-54BC-4300-9C4C-7B5D5FD254CC}" type="sib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B6995644-517B-45D6-B7BA-085598E66BAD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20DA8E9B-7E02-452E-A66C-5E28257D8E8A}" type="par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6BF4D947-0573-468D-9983-5B29E7C8D42A}" type="sib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360B5EF4-3E84-4A37-A2B1-28AB7C1043B3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9C3B186-A829-4DF9-8B5F-E586C258C321}" type="par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DCEBF7DE-09C9-4542-A881-76B0231B05CC}" type="sib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99E50B6F-CDEF-4513-B3B6-C75FA17A2E12}" type="pres">
      <dgm:prSet presAssocID="{7E8238E3-0F58-4E66-BA3B-9DB6BE6DD35F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66ED8938-C4F5-455A-B0C4-2FE0DA5BF18E}" type="pres">
      <dgm:prSet presAssocID="{7E8238E3-0F58-4E66-BA3B-9DB6BE6DD35F}" presName="tSp" presStyleCnt="0"/>
      <dgm:spPr/>
    </dgm:pt>
    <dgm:pt modelId="{2E111DA8-6F33-4A9B-9F89-8E0BA97EEB40}" type="pres">
      <dgm:prSet presAssocID="{7E8238E3-0F58-4E66-BA3B-9DB6BE6DD35F}" presName="bSp" presStyleCnt="0"/>
      <dgm:spPr/>
    </dgm:pt>
    <dgm:pt modelId="{51C00026-C4D5-49C4-8079-60A70CC9A993}" type="pres">
      <dgm:prSet presAssocID="{7E8238E3-0F58-4E66-BA3B-9DB6BE6DD35F}" presName="process" presStyleCnt="0"/>
      <dgm:spPr/>
    </dgm:pt>
    <dgm:pt modelId="{AB571A68-42A2-4F7C-BD6D-A65EF0A79D57}" type="pres">
      <dgm:prSet presAssocID="{7B5AE738-93C7-43C8-9DB6-5F01C0495DE4}" presName="composite1" presStyleCnt="0"/>
      <dgm:spPr/>
    </dgm:pt>
    <dgm:pt modelId="{8D83914C-F646-47C9-86D3-46B2B8A75942}" type="pres">
      <dgm:prSet presAssocID="{7B5AE738-93C7-43C8-9DB6-5F01C0495DE4}" presName="dummyNode1" presStyleLbl="node1" presStyleIdx="0" presStyleCnt="3"/>
      <dgm:spPr/>
    </dgm:pt>
    <dgm:pt modelId="{3A56968A-E0A1-4472-A81F-33AF83D89196}" type="pres">
      <dgm:prSet presAssocID="{7B5AE738-93C7-43C8-9DB6-5F01C0495DE4}" presName="childNode1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85351F3-A84E-4E77-8FAE-5FE9A70E5BD1}" type="pres">
      <dgm:prSet presAssocID="{7B5AE738-93C7-43C8-9DB6-5F01C0495DE4}" presName="childNode1tx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6614-B449-443A-B0F1-95E91921E9D8}" type="pres">
      <dgm:prSet presAssocID="{7B5AE738-93C7-43C8-9DB6-5F01C0495DE4}" presName="parentNode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C101A1B-316F-4708-8B9D-3719DC1F7B01}" type="pres">
      <dgm:prSet presAssocID="{7B5AE738-93C7-43C8-9DB6-5F01C0495DE4}" presName="connSite1" presStyleCnt="0"/>
      <dgm:spPr/>
    </dgm:pt>
    <dgm:pt modelId="{806460DA-3BDB-4235-8F83-5E07F6F8F17D}" type="pres">
      <dgm:prSet presAssocID="{0A42F8B8-4764-4BB2-B0E7-5D5E32EC3C23}" presName="Name9" presStyleLbl="sibTrans2D1" presStyleIdx="0" presStyleCnt="2"/>
      <dgm:spPr/>
      <dgm:t>
        <a:bodyPr/>
        <a:lstStyle/>
        <a:p>
          <a:endParaRPr lang="zh-CN" altLang="en-US"/>
        </a:p>
      </dgm:t>
    </dgm:pt>
    <dgm:pt modelId="{F4DA058E-0EB1-48CF-9C37-9A410B6031B6}" type="pres">
      <dgm:prSet presAssocID="{50D1D4AE-6284-4639-B39D-7107C967DE93}" presName="composite2" presStyleCnt="0"/>
      <dgm:spPr/>
    </dgm:pt>
    <dgm:pt modelId="{285D0E3D-AB51-41D0-B8A1-D4D22AB6E7BF}" type="pres">
      <dgm:prSet presAssocID="{50D1D4AE-6284-4639-B39D-7107C967DE93}" presName="dummyNode2" presStyleLbl="node1" presStyleIdx="0" presStyleCnt="3"/>
      <dgm:spPr/>
    </dgm:pt>
    <dgm:pt modelId="{8D87B9EB-96F2-4066-86EF-89D7AFAEA69E}" type="pres">
      <dgm:prSet presAssocID="{50D1D4AE-6284-4639-B39D-7107C967DE93}" presName="childNode2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47749D9-95A7-4758-A1D5-44C0C97D642A}" type="pres">
      <dgm:prSet presAssocID="{50D1D4AE-6284-4639-B39D-7107C967DE93}" presName="childNode2tx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35B912B-C3EC-41D4-A7E3-1B2F9D15219C}" type="pres">
      <dgm:prSet presAssocID="{50D1D4AE-6284-4639-B39D-7107C967DE93}" presName="parentNode2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262FE74-7744-4C35-8542-96856CB5F4D2}" type="pres">
      <dgm:prSet presAssocID="{50D1D4AE-6284-4639-B39D-7107C967DE93}" presName="connSite2" presStyleCnt="0"/>
      <dgm:spPr/>
    </dgm:pt>
    <dgm:pt modelId="{511FCBE0-7C2E-46E5-B1C1-B7E2BD5EB0F5}" type="pres">
      <dgm:prSet presAssocID="{6B680945-A323-4172-9DE0-35B7D7CE503D}" presName="Name18" presStyleLbl="sibTrans2D1" presStyleIdx="1" presStyleCnt="2"/>
      <dgm:spPr/>
      <dgm:t>
        <a:bodyPr/>
        <a:lstStyle/>
        <a:p>
          <a:endParaRPr lang="zh-CN" altLang="en-US"/>
        </a:p>
      </dgm:t>
    </dgm:pt>
    <dgm:pt modelId="{EFC49B28-E7A3-4C69-A7AD-B42CEEBD2192}" type="pres">
      <dgm:prSet presAssocID="{A92D798B-F514-4C55-9637-4ECD7BC618AD}" presName="composite1" presStyleCnt="0"/>
      <dgm:spPr/>
    </dgm:pt>
    <dgm:pt modelId="{CFE5C617-7C03-4756-9AE2-C062FC0BF34F}" type="pres">
      <dgm:prSet presAssocID="{A92D798B-F514-4C55-9637-4ECD7BC618AD}" presName="dummyNode1" presStyleLbl="node1" presStyleIdx="1" presStyleCnt="3"/>
      <dgm:spPr/>
    </dgm:pt>
    <dgm:pt modelId="{D627A842-D3B2-492A-BCBB-66750577F7BE}" type="pres">
      <dgm:prSet presAssocID="{A92D798B-F514-4C55-9637-4ECD7BC618AD}" presName="childNode1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ABC0C0E-391E-48E1-B23C-66A1E1642A9F}" type="pres">
      <dgm:prSet presAssocID="{A92D798B-F514-4C55-9637-4ECD7BC618AD}" presName="childNode1tx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AE40-C757-43FB-8D9F-7736A07938F3}" type="pres">
      <dgm:prSet presAssocID="{A92D798B-F514-4C55-9637-4ECD7BC618AD}" presName="parentNode1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D51103C7-D87B-4778-B101-1BB33A337979}" type="pres">
      <dgm:prSet presAssocID="{A92D798B-F514-4C55-9637-4ECD7BC618AD}" presName="connSite1" presStyleCnt="0"/>
      <dgm:spPr/>
    </dgm:pt>
  </dgm:ptLst>
  <dgm:cxnLst>
    <dgm:cxn modelId="{9ABBA5AC-73D7-4D97-AE80-114721F87C49}" type="presOf" srcId="{0A42F8B8-4764-4BB2-B0E7-5D5E32EC3C23}" destId="{806460DA-3BDB-4235-8F83-5E07F6F8F17D}" srcOrd="0" destOrd="0" presId="urn:microsoft.com/office/officeart/2005/8/layout/hProcess4"/>
    <dgm:cxn modelId="{6E256C9E-1278-4C22-B513-BE6F49E87AE9}" srcId="{7E8238E3-0F58-4E66-BA3B-9DB6BE6DD35F}" destId="{50D1D4AE-6284-4639-B39D-7107C967DE93}" srcOrd="1" destOrd="0" parTransId="{F883ABD2-DD0E-40DD-BD0F-C33D93DB3A0A}" sibTransId="{6B680945-A323-4172-9DE0-35B7D7CE503D}"/>
    <dgm:cxn modelId="{F808B9DC-EB96-49E8-A43A-8A8E695A3405}" srcId="{A92D798B-F514-4C55-9637-4ECD7BC618AD}" destId="{15F083AA-252A-41A8-89D3-11577292F094}" srcOrd="1" destOrd="0" parTransId="{BF12FFEF-D862-449C-A761-74908986020A}" sibTransId="{C26A358A-8FA9-47CE-83DF-59DE45A3E86A}"/>
    <dgm:cxn modelId="{F36D0357-D7BE-4F44-AC06-3249C1CFC12B}" type="presOf" srcId="{50D1D4AE-6284-4639-B39D-7107C967DE93}" destId="{C35B912B-C3EC-41D4-A7E3-1B2F9D15219C}" srcOrd="0" destOrd="0" presId="urn:microsoft.com/office/officeart/2005/8/layout/hProcess4"/>
    <dgm:cxn modelId="{989A94CB-4C25-4D43-8883-02BACBCD972E}" type="presOf" srcId="{58E8784C-7D25-4E38-B433-0589E390C7F2}" destId="{F85351F3-A84E-4E77-8FAE-5FE9A70E5BD1}" srcOrd="1" destOrd="1" presId="urn:microsoft.com/office/officeart/2005/8/layout/hProcess4"/>
    <dgm:cxn modelId="{ECFFA45D-FD60-4B86-9C2F-EC05E7307511}" srcId="{7B5AE738-93C7-43C8-9DB6-5F01C0495DE4}" destId="{AFBFCE69-D95F-465E-B5DB-FDE90EFCA149}" srcOrd="0" destOrd="0" parTransId="{FE1BBF74-839A-4F92-81C7-C1EB3E1819FB}" sibTransId="{FF90C5F3-FB4D-4EC1-9360-BC8A9E605B54}"/>
    <dgm:cxn modelId="{2518D619-B753-45E5-A63B-8F578F9309B0}" type="presOf" srcId="{B6995644-517B-45D6-B7BA-085598E66BAD}" destId="{8D87B9EB-96F2-4066-86EF-89D7AFAEA69E}" srcOrd="0" destOrd="2" presId="urn:microsoft.com/office/officeart/2005/8/layout/hProcess4"/>
    <dgm:cxn modelId="{C8A68DAB-1BDE-41B0-A962-E54FC8FE6D08}" type="presOf" srcId="{AFBFCE69-D95F-465E-B5DB-FDE90EFCA149}" destId="{F85351F3-A84E-4E77-8FAE-5FE9A70E5BD1}" srcOrd="1" destOrd="0" presId="urn:microsoft.com/office/officeart/2005/8/layout/hProcess4"/>
    <dgm:cxn modelId="{82110C48-0069-4B0B-B776-C56C1FA5DF83}" srcId="{7B5AE738-93C7-43C8-9DB6-5F01C0495DE4}" destId="{58E8784C-7D25-4E38-B433-0589E390C7F2}" srcOrd="1" destOrd="0" parTransId="{33771138-F664-4865-B2DF-B1CD146F78C6}" sibTransId="{1152C29E-82D7-4BD6-9611-91B4B7F178AD}"/>
    <dgm:cxn modelId="{337E6B6B-2B8D-484D-8F5B-7700F2A1911F}" srcId="{7B5AE738-93C7-43C8-9DB6-5F01C0495DE4}" destId="{C3CD69FF-FD1C-4504-8A75-E4046CC77477}" srcOrd="2" destOrd="0" parTransId="{7A547490-4E03-45BC-822F-DD6C17AF415A}" sibTransId="{E8774291-54BC-4300-9C4C-7B5D5FD254CC}"/>
    <dgm:cxn modelId="{C3998091-B095-4ED5-B869-2BFD31AAA32C}" type="presOf" srcId="{360B5EF4-3E84-4A37-A2B1-28AB7C1043B3}" destId="{D627A842-D3B2-492A-BCBB-66750577F7BE}" srcOrd="0" destOrd="2" presId="urn:microsoft.com/office/officeart/2005/8/layout/hProcess4"/>
    <dgm:cxn modelId="{51474DB5-5479-4366-993C-F742398C6851}" type="presOf" srcId="{6B680945-A323-4172-9DE0-35B7D7CE503D}" destId="{511FCBE0-7C2E-46E5-B1C1-B7E2BD5EB0F5}" srcOrd="0" destOrd="0" presId="urn:microsoft.com/office/officeart/2005/8/layout/hProcess4"/>
    <dgm:cxn modelId="{0EDA5F9B-C6AE-47DA-A4D0-019147F31461}" type="presOf" srcId="{D4E36BDB-ED9C-4A17-9C54-DDAABEBAA0C4}" destId="{8D87B9EB-96F2-4066-86EF-89D7AFAEA69E}" srcOrd="0" destOrd="1" presId="urn:microsoft.com/office/officeart/2005/8/layout/hProcess4"/>
    <dgm:cxn modelId="{A2E090A9-4B38-4EDE-9288-803013A6B0F6}" type="presOf" srcId="{7B5AE738-93C7-43C8-9DB6-5F01C0495DE4}" destId="{93246614-B449-443A-B0F1-95E91921E9D8}" srcOrd="0" destOrd="0" presId="urn:microsoft.com/office/officeart/2005/8/layout/hProcess4"/>
    <dgm:cxn modelId="{7A77D7F9-A012-4264-8060-ABEB881DF896}" srcId="{7E8238E3-0F58-4E66-BA3B-9DB6BE6DD35F}" destId="{A92D798B-F514-4C55-9637-4ECD7BC618AD}" srcOrd="2" destOrd="0" parTransId="{6D1221F9-81B4-4EF1-B42A-472C601797C8}" sibTransId="{FAA4E5DD-8388-4257-B651-89A2FA4D0752}"/>
    <dgm:cxn modelId="{1D273547-2F5E-4174-8313-B4C99B54C320}" type="presOf" srcId="{15F083AA-252A-41A8-89D3-11577292F094}" destId="{D627A842-D3B2-492A-BCBB-66750577F7BE}" srcOrd="0" destOrd="1" presId="urn:microsoft.com/office/officeart/2005/8/layout/hProcess4"/>
    <dgm:cxn modelId="{610F59BF-98AB-4665-A021-D9D13DE7FA2D}" type="presOf" srcId="{C3CD69FF-FD1C-4504-8A75-E4046CC77477}" destId="{3A56968A-E0A1-4472-A81F-33AF83D89196}" srcOrd="0" destOrd="2" presId="urn:microsoft.com/office/officeart/2005/8/layout/hProcess4"/>
    <dgm:cxn modelId="{18AC0EDF-ED4C-444C-AE69-3AD6CB51956D}" type="presOf" srcId="{15F083AA-252A-41A8-89D3-11577292F094}" destId="{1ABC0C0E-391E-48E1-B23C-66A1E1642A9F}" srcOrd="1" destOrd="1" presId="urn:microsoft.com/office/officeart/2005/8/layout/hProcess4"/>
    <dgm:cxn modelId="{A1687DCF-E272-416A-98BC-D6721C524472}" srcId="{A92D798B-F514-4C55-9637-4ECD7BC618AD}" destId="{360B5EF4-3E84-4A37-A2B1-28AB7C1043B3}" srcOrd="2" destOrd="0" parTransId="{B9C3B186-A829-4DF9-8B5F-E586C258C321}" sibTransId="{DCEBF7DE-09C9-4542-A881-76B0231B05CC}"/>
    <dgm:cxn modelId="{D744D89F-8F00-49B8-A9CF-23175566DA43}" srcId="{50D1D4AE-6284-4639-B39D-7107C967DE93}" destId="{07F363F8-5443-4D43-B030-85B1BD2F4B99}" srcOrd="0" destOrd="0" parTransId="{E7B1A53C-508A-4D5A-9F51-A19F7262204D}" sibTransId="{0633A044-18CC-4725-89A3-47F862423F3F}"/>
    <dgm:cxn modelId="{4B6E2C4A-E6CC-483E-94D8-3BE65FBC6E0D}" type="presOf" srcId="{58E8784C-7D25-4E38-B433-0589E390C7F2}" destId="{3A56968A-E0A1-4472-A81F-33AF83D89196}" srcOrd="0" destOrd="1" presId="urn:microsoft.com/office/officeart/2005/8/layout/hProcess4"/>
    <dgm:cxn modelId="{D34498A7-5852-407C-BB93-0C28FCA3F2CF}" type="presOf" srcId="{44E8B082-45DE-4A7F-A9F8-53876133B0D6}" destId="{D627A842-D3B2-492A-BCBB-66750577F7BE}" srcOrd="0" destOrd="0" presId="urn:microsoft.com/office/officeart/2005/8/layout/hProcess4"/>
    <dgm:cxn modelId="{5DE159EB-2966-4454-9BF0-EF2DA3E2E351}" type="presOf" srcId="{44E8B082-45DE-4A7F-A9F8-53876133B0D6}" destId="{1ABC0C0E-391E-48E1-B23C-66A1E1642A9F}" srcOrd="1" destOrd="0" presId="urn:microsoft.com/office/officeart/2005/8/layout/hProcess4"/>
    <dgm:cxn modelId="{FF72021B-D31A-47A8-8C40-46C422E58AD9}" srcId="{50D1D4AE-6284-4639-B39D-7107C967DE93}" destId="{B6995644-517B-45D6-B7BA-085598E66BAD}" srcOrd="2" destOrd="0" parTransId="{20DA8E9B-7E02-452E-A66C-5E28257D8E8A}" sibTransId="{6BF4D947-0573-468D-9983-5B29E7C8D42A}"/>
    <dgm:cxn modelId="{BAF316E5-D79F-40E8-BFA2-2950C5E579CB}" srcId="{50D1D4AE-6284-4639-B39D-7107C967DE93}" destId="{D4E36BDB-ED9C-4A17-9C54-DDAABEBAA0C4}" srcOrd="1" destOrd="0" parTransId="{CCEB54FF-A86E-4955-8AFB-A0D14C23EECB}" sibTransId="{93B68759-73F1-4353-B2CE-F76969E25009}"/>
    <dgm:cxn modelId="{8ECEADA3-C94D-449D-870C-6B75FF1028CE}" srcId="{A92D798B-F514-4C55-9637-4ECD7BC618AD}" destId="{44E8B082-45DE-4A7F-A9F8-53876133B0D6}" srcOrd="0" destOrd="0" parTransId="{B162AAEE-0187-4161-83E1-503EB3717844}" sibTransId="{A484B21F-1807-4F86-8D1E-82F2DDAE378C}"/>
    <dgm:cxn modelId="{4EAB57E0-C1F9-4AF6-934F-330A231C78F7}" type="presOf" srcId="{B6995644-517B-45D6-B7BA-085598E66BAD}" destId="{547749D9-95A7-4758-A1D5-44C0C97D642A}" srcOrd="1" destOrd="2" presId="urn:microsoft.com/office/officeart/2005/8/layout/hProcess4"/>
    <dgm:cxn modelId="{A4DE0448-E80C-42DF-A370-9DF064D635F2}" type="presOf" srcId="{C3CD69FF-FD1C-4504-8A75-E4046CC77477}" destId="{F85351F3-A84E-4E77-8FAE-5FE9A70E5BD1}" srcOrd="1" destOrd="2" presId="urn:microsoft.com/office/officeart/2005/8/layout/hProcess4"/>
    <dgm:cxn modelId="{E07FB800-A752-4BCB-9FD9-47BCE31D11CA}" type="presOf" srcId="{AFBFCE69-D95F-465E-B5DB-FDE90EFCA149}" destId="{3A56968A-E0A1-4472-A81F-33AF83D89196}" srcOrd="0" destOrd="0" presId="urn:microsoft.com/office/officeart/2005/8/layout/hProcess4"/>
    <dgm:cxn modelId="{BAFEE022-592F-4394-9C84-F95F7AB32F78}" type="presOf" srcId="{D4E36BDB-ED9C-4A17-9C54-DDAABEBAA0C4}" destId="{547749D9-95A7-4758-A1D5-44C0C97D642A}" srcOrd="1" destOrd="1" presId="urn:microsoft.com/office/officeart/2005/8/layout/hProcess4"/>
    <dgm:cxn modelId="{B602405C-175D-402B-A0CB-743B528C1A38}" srcId="{7E8238E3-0F58-4E66-BA3B-9DB6BE6DD35F}" destId="{7B5AE738-93C7-43C8-9DB6-5F01C0495DE4}" srcOrd="0" destOrd="0" parTransId="{E82CA1AC-9DD4-4F43-B8BE-187C5E36B814}" sibTransId="{0A42F8B8-4764-4BB2-B0E7-5D5E32EC3C23}"/>
    <dgm:cxn modelId="{26572915-FE25-4770-AD8E-FC03D7FAA275}" type="presOf" srcId="{A92D798B-F514-4C55-9637-4ECD7BC618AD}" destId="{9324AE40-C757-43FB-8D9F-7736A07938F3}" srcOrd="0" destOrd="0" presId="urn:microsoft.com/office/officeart/2005/8/layout/hProcess4"/>
    <dgm:cxn modelId="{366F33E4-77C0-4CBA-9863-0A15096CAD6B}" type="presOf" srcId="{07F363F8-5443-4D43-B030-85B1BD2F4B99}" destId="{8D87B9EB-96F2-4066-86EF-89D7AFAEA69E}" srcOrd="0" destOrd="0" presId="urn:microsoft.com/office/officeart/2005/8/layout/hProcess4"/>
    <dgm:cxn modelId="{25387A67-DB3D-4EC9-A128-44E28D70BF44}" type="presOf" srcId="{07F363F8-5443-4D43-B030-85B1BD2F4B99}" destId="{547749D9-95A7-4758-A1D5-44C0C97D642A}" srcOrd="1" destOrd="0" presId="urn:microsoft.com/office/officeart/2005/8/layout/hProcess4"/>
    <dgm:cxn modelId="{713E7F94-99F6-4FCC-A4AC-DD621A33C61D}" type="presOf" srcId="{360B5EF4-3E84-4A37-A2B1-28AB7C1043B3}" destId="{1ABC0C0E-391E-48E1-B23C-66A1E1642A9F}" srcOrd="1" destOrd="2" presId="urn:microsoft.com/office/officeart/2005/8/layout/hProcess4"/>
    <dgm:cxn modelId="{16C6B39C-F253-4D02-B344-B352A54006E6}" type="presOf" srcId="{7E8238E3-0F58-4E66-BA3B-9DB6BE6DD35F}" destId="{99E50B6F-CDEF-4513-B3B6-C75FA17A2E12}" srcOrd="0" destOrd="0" presId="urn:microsoft.com/office/officeart/2005/8/layout/hProcess4"/>
    <dgm:cxn modelId="{520EC497-2A0F-4D25-86EC-8C02A20DE52C}" type="presParOf" srcId="{99E50B6F-CDEF-4513-B3B6-C75FA17A2E12}" destId="{66ED8938-C4F5-455A-B0C4-2FE0DA5BF18E}" srcOrd="0" destOrd="0" presId="urn:microsoft.com/office/officeart/2005/8/layout/hProcess4"/>
    <dgm:cxn modelId="{9705BB94-0179-4F8B-ABC6-7E346BCE3791}" type="presParOf" srcId="{99E50B6F-CDEF-4513-B3B6-C75FA17A2E12}" destId="{2E111DA8-6F33-4A9B-9F89-8E0BA97EEB40}" srcOrd="1" destOrd="0" presId="urn:microsoft.com/office/officeart/2005/8/layout/hProcess4"/>
    <dgm:cxn modelId="{77CA78CF-F0CC-4595-8033-3E5300E22C72}" type="presParOf" srcId="{99E50B6F-CDEF-4513-B3B6-C75FA17A2E12}" destId="{51C00026-C4D5-49C4-8079-60A70CC9A993}" srcOrd="2" destOrd="0" presId="urn:microsoft.com/office/officeart/2005/8/layout/hProcess4"/>
    <dgm:cxn modelId="{723750B0-D504-4923-AB3B-B1F3CF7AD26D}" type="presParOf" srcId="{51C00026-C4D5-49C4-8079-60A70CC9A993}" destId="{AB571A68-42A2-4F7C-BD6D-A65EF0A79D57}" srcOrd="0" destOrd="0" presId="urn:microsoft.com/office/officeart/2005/8/layout/hProcess4"/>
    <dgm:cxn modelId="{E89BF73B-3D45-4F17-AD4F-65CD424809EA}" type="presParOf" srcId="{AB571A68-42A2-4F7C-BD6D-A65EF0A79D57}" destId="{8D83914C-F646-47C9-86D3-46B2B8A75942}" srcOrd="0" destOrd="0" presId="urn:microsoft.com/office/officeart/2005/8/layout/hProcess4"/>
    <dgm:cxn modelId="{F46A9E60-E15C-4463-915F-ED158F63E5F6}" type="presParOf" srcId="{AB571A68-42A2-4F7C-BD6D-A65EF0A79D57}" destId="{3A56968A-E0A1-4472-A81F-33AF83D89196}" srcOrd="1" destOrd="0" presId="urn:microsoft.com/office/officeart/2005/8/layout/hProcess4"/>
    <dgm:cxn modelId="{AC3A1D4C-2097-47FD-934B-D7B8E0B087AD}" type="presParOf" srcId="{AB571A68-42A2-4F7C-BD6D-A65EF0A79D57}" destId="{F85351F3-A84E-4E77-8FAE-5FE9A70E5BD1}" srcOrd="2" destOrd="0" presId="urn:microsoft.com/office/officeart/2005/8/layout/hProcess4"/>
    <dgm:cxn modelId="{3971555C-5EAF-4D8F-BC1F-2C221D775AFB}" type="presParOf" srcId="{AB571A68-42A2-4F7C-BD6D-A65EF0A79D57}" destId="{93246614-B449-443A-B0F1-95E91921E9D8}" srcOrd="3" destOrd="0" presId="urn:microsoft.com/office/officeart/2005/8/layout/hProcess4"/>
    <dgm:cxn modelId="{19ABFE20-60B1-40EC-8EEA-EB8DC9D44221}" type="presParOf" srcId="{AB571A68-42A2-4F7C-BD6D-A65EF0A79D57}" destId="{3C101A1B-316F-4708-8B9D-3719DC1F7B01}" srcOrd="4" destOrd="0" presId="urn:microsoft.com/office/officeart/2005/8/layout/hProcess4"/>
    <dgm:cxn modelId="{E163D761-8E92-40CB-BF0A-6B8B396833B4}" type="presParOf" srcId="{51C00026-C4D5-49C4-8079-60A70CC9A993}" destId="{806460DA-3BDB-4235-8F83-5E07F6F8F17D}" srcOrd="1" destOrd="0" presId="urn:microsoft.com/office/officeart/2005/8/layout/hProcess4"/>
    <dgm:cxn modelId="{995C8E6A-EB75-4C47-B057-121BCF30880D}" type="presParOf" srcId="{51C00026-C4D5-49C4-8079-60A70CC9A993}" destId="{F4DA058E-0EB1-48CF-9C37-9A410B6031B6}" srcOrd="2" destOrd="0" presId="urn:microsoft.com/office/officeart/2005/8/layout/hProcess4"/>
    <dgm:cxn modelId="{65BE34D0-F89F-41EB-96CD-D09308963885}" type="presParOf" srcId="{F4DA058E-0EB1-48CF-9C37-9A410B6031B6}" destId="{285D0E3D-AB51-41D0-B8A1-D4D22AB6E7BF}" srcOrd="0" destOrd="0" presId="urn:microsoft.com/office/officeart/2005/8/layout/hProcess4"/>
    <dgm:cxn modelId="{A0485BC8-0A7B-4364-A3B1-67CBA1BC5A55}" type="presParOf" srcId="{F4DA058E-0EB1-48CF-9C37-9A410B6031B6}" destId="{8D87B9EB-96F2-4066-86EF-89D7AFAEA69E}" srcOrd="1" destOrd="0" presId="urn:microsoft.com/office/officeart/2005/8/layout/hProcess4"/>
    <dgm:cxn modelId="{76B370E1-B88E-4168-9BC9-3A9AB548535F}" type="presParOf" srcId="{F4DA058E-0EB1-48CF-9C37-9A410B6031B6}" destId="{547749D9-95A7-4758-A1D5-44C0C97D642A}" srcOrd="2" destOrd="0" presId="urn:microsoft.com/office/officeart/2005/8/layout/hProcess4"/>
    <dgm:cxn modelId="{B4830896-B0FF-48F2-8ADE-DF43CEA26C8B}" type="presParOf" srcId="{F4DA058E-0EB1-48CF-9C37-9A410B6031B6}" destId="{C35B912B-C3EC-41D4-A7E3-1B2F9D15219C}" srcOrd="3" destOrd="0" presId="urn:microsoft.com/office/officeart/2005/8/layout/hProcess4"/>
    <dgm:cxn modelId="{AA24EA7C-E921-44AB-AA4D-BE3A81B36A37}" type="presParOf" srcId="{F4DA058E-0EB1-48CF-9C37-9A410B6031B6}" destId="{4262FE74-7744-4C35-8542-96856CB5F4D2}" srcOrd="4" destOrd="0" presId="urn:microsoft.com/office/officeart/2005/8/layout/hProcess4"/>
    <dgm:cxn modelId="{54A2BCD8-1C6C-499A-8A24-A2517EF7E4C6}" type="presParOf" srcId="{51C00026-C4D5-49C4-8079-60A70CC9A993}" destId="{511FCBE0-7C2E-46E5-B1C1-B7E2BD5EB0F5}" srcOrd="3" destOrd="0" presId="urn:microsoft.com/office/officeart/2005/8/layout/hProcess4"/>
    <dgm:cxn modelId="{6F72D1DB-EA53-4A99-B909-487E6F81A803}" type="presParOf" srcId="{51C00026-C4D5-49C4-8079-60A70CC9A993}" destId="{EFC49B28-E7A3-4C69-A7AD-B42CEEBD2192}" srcOrd="4" destOrd="0" presId="urn:microsoft.com/office/officeart/2005/8/layout/hProcess4"/>
    <dgm:cxn modelId="{31D45E01-51BF-460F-8C9D-5E29E8A6EE86}" type="presParOf" srcId="{EFC49B28-E7A3-4C69-A7AD-B42CEEBD2192}" destId="{CFE5C617-7C03-4756-9AE2-C062FC0BF34F}" srcOrd="0" destOrd="0" presId="urn:microsoft.com/office/officeart/2005/8/layout/hProcess4"/>
    <dgm:cxn modelId="{FF308440-E117-4EF7-9DDB-AB47585B6D7F}" type="presParOf" srcId="{EFC49B28-E7A3-4C69-A7AD-B42CEEBD2192}" destId="{D627A842-D3B2-492A-BCBB-66750577F7BE}" srcOrd="1" destOrd="0" presId="urn:microsoft.com/office/officeart/2005/8/layout/hProcess4"/>
    <dgm:cxn modelId="{3D35C389-E388-4407-9E5B-6D44C845A68C}" type="presParOf" srcId="{EFC49B28-E7A3-4C69-A7AD-B42CEEBD2192}" destId="{1ABC0C0E-391E-48E1-B23C-66A1E1642A9F}" srcOrd="2" destOrd="0" presId="urn:microsoft.com/office/officeart/2005/8/layout/hProcess4"/>
    <dgm:cxn modelId="{856B6EBB-9D99-4E76-B8A2-49C1B41ABC59}" type="presParOf" srcId="{EFC49B28-E7A3-4C69-A7AD-B42CEEBD2192}" destId="{9324AE40-C757-43FB-8D9F-7736A07938F3}" srcOrd="3" destOrd="0" presId="urn:microsoft.com/office/officeart/2005/8/layout/hProcess4"/>
    <dgm:cxn modelId="{F01E9A17-4BF5-4015-B221-7F147A3F64BF}" type="presParOf" srcId="{EFC49B28-E7A3-4C69-A7AD-B42CEEBD2192}" destId="{D51103C7-D87B-4778-B101-1BB33A337979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6239680-3CB0-4DF4-8F4D-801C589137CD}">
      <dsp:nvSpPr>
        <dsp:cNvPr id="0" name=""/>
        <dsp:cNvSpPr/>
      </dsp:nvSpPr>
      <dsp:spPr>
        <a:xfrm rot="5400000">
          <a:off x="4682714" y="-2303224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103778"/>
        <a:ext cx="5317402" cy="532188"/>
      </dsp:txXfrm>
    </dsp:sp>
    <dsp:sp modelId="{2381FA19-2733-48ED-ABAA-7EDFAF30A094}">
      <dsp:nvSpPr>
        <dsp:cNvPr id="0" name=""/>
        <dsp:cNvSpPr/>
      </dsp:nvSpPr>
      <dsp:spPr>
        <a:xfrm>
          <a:off x="702730" y="1266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1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37254"/>
        <a:ext cx="1529796" cy="665234"/>
      </dsp:txXfrm>
    </dsp:sp>
    <dsp:sp modelId="{A0313DD0-A4E1-4D7E-AE20-031718C5CEC6}">
      <dsp:nvSpPr>
        <dsp:cNvPr id="0" name=""/>
        <dsp:cNvSpPr/>
      </dsp:nvSpPr>
      <dsp:spPr>
        <a:xfrm rot="5400000">
          <a:off x="4682714" y="-1529153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877849"/>
        <a:ext cx="5317402" cy="532188"/>
      </dsp:txXfrm>
    </dsp:sp>
    <dsp:sp modelId="{4CE170C5-6DE4-49AE-85C4-BB9332B44101}">
      <dsp:nvSpPr>
        <dsp:cNvPr id="0" name=""/>
        <dsp:cNvSpPr/>
      </dsp:nvSpPr>
      <dsp:spPr>
        <a:xfrm>
          <a:off x="702730" y="775337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2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811325"/>
        <a:ext cx="1529796" cy="665234"/>
      </dsp:txXfrm>
    </dsp:sp>
    <dsp:sp modelId="{3DAE57B0-4386-42CD-B7BF-2EB7D32E6BF2}">
      <dsp:nvSpPr>
        <dsp:cNvPr id="0" name=""/>
        <dsp:cNvSpPr/>
      </dsp:nvSpPr>
      <dsp:spPr>
        <a:xfrm rot="5400000">
          <a:off x="4682714" y="-755081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1651921"/>
        <a:ext cx="5317402" cy="532188"/>
      </dsp:txXfrm>
    </dsp:sp>
    <dsp:sp modelId="{E8A2056D-40E3-46C3-8DEB-F711CFFDABE5}">
      <dsp:nvSpPr>
        <dsp:cNvPr id="0" name=""/>
        <dsp:cNvSpPr/>
      </dsp:nvSpPr>
      <dsp:spPr>
        <a:xfrm>
          <a:off x="702730" y="1549408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3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1585396"/>
        <a:ext cx="1529796" cy="665234"/>
      </dsp:txXfrm>
    </dsp:sp>
    <dsp:sp modelId="{FFAD5F7D-A880-40A0-AE9E-17C80DAA362D}">
      <dsp:nvSpPr>
        <dsp:cNvPr id="0" name=""/>
        <dsp:cNvSpPr/>
      </dsp:nvSpPr>
      <dsp:spPr>
        <a:xfrm rot="5400000">
          <a:off x="4682714" y="18989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2425991"/>
        <a:ext cx="5317402" cy="532188"/>
      </dsp:txXfrm>
    </dsp:sp>
    <dsp:sp modelId="{5E94653F-6E3A-466B-866E-C0149A07CA40}">
      <dsp:nvSpPr>
        <dsp:cNvPr id="0" name=""/>
        <dsp:cNvSpPr/>
      </dsp:nvSpPr>
      <dsp:spPr>
        <a:xfrm>
          <a:off x="702730" y="2323480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4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2359468"/>
        <a:ext cx="1529796" cy="665234"/>
      </dsp:txXfrm>
    </dsp:sp>
    <dsp:sp modelId="{4A256C4D-C145-46CA-A9D9-95A8600A7020}">
      <dsp:nvSpPr>
        <dsp:cNvPr id="0" name=""/>
        <dsp:cNvSpPr/>
      </dsp:nvSpPr>
      <dsp:spPr>
        <a:xfrm rot="5400000">
          <a:off x="4682714" y="793061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3200063"/>
        <a:ext cx="5317402" cy="532188"/>
      </dsp:txXfrm>
    </dsp:sp>
    <dsp:sp modelId="{39A22D0B-8CB7-4C90-A0BE-B94049266003}">
      <dsp:nvSpPr>
        <dsp:cNvPr id="0" name=""/>
        <dsp:cNvSpPr/>
      </dsp:nvSpPr>
      <dsp:spPr>
        <a:xfrm>
          <a:off x="702730" y="3097551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5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3133539"/>
        <a:ext cx="1529796" cy="665234"/>
      </dsp:txXfrm>
    </dsp:sp>
    <dsp:sp modelId="{E845FE83-ED04-40F4-B057-95E666072AD5}">
      <dsp:nvSpPr>
        <dsp:cNvPr id="0" name=""/>
        <dsp:cNvSpPr/>
      </dsp:nvSpPr>
      <dsp:spPr>
        <a:xfrm rot="5400000">
          <a:off x="4682714" y="1567132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3974134"/>
        <a:ext cx="5317402" cy="532188"/>
      </dsp:txXfrm>
    </dsp:sp>
    <dsp:sp modelId="{F889E688-BCE4-4A0E-8C7D-7E9E48AB2095}">
      <dsp:nvSpPr>
        <dsp:cNvPr id="0" name=""/>
        <dsp:cNvSpPr/>
      </dsp:nvSpPr>
      <dsp:spPr>
        <a:xfrm>
          <a:off x="702730" y="3871622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6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3907610"/>
        <a:ext cx="1529796" cy="665234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dt" idx="2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8A3524-6949-4DB6-A5B9-53D3D2FE3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552600" y="971640"/>
            <a:ext cx="5756040" cy="43160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49360" y="5508000"/>
            <a:ext cx="575892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34"/>
          </p:nvPr>
        </p:nvSpPr>
        <p:spPr>
          <a:xfrm>
            <a:off x="3884760" y="8748720"/>
            <a:ext cx="2423880" cy="28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第 </a:t>
            </a:r>
            <a:fld id="{A5B3AFCE-3A8B-449B-9C08-EC4CA9014A8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552600" y="971640"/>
            <a:ext cx="5756040" cy="43160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49360" y="5508000"/>
            <a:ext cx="575892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sldNum" idx="35"/>
          </p:nvPr>
        </p:nvSpPr>
        <p:spPr>
          <a:xfrm>
            <a:off x="3884760" y="8748720"/>
            <a:ext cx="2423880" cy="28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第 </a:t>
            </a:r>
            <a:fld id="{5B6C4DD0-7346-467F-86D5-E77E3B69D5F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2BEB-AA14-412E-88E0-8B639209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26A9-F3F3-4E3F-B729-358E77CC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16A0-9895-450C-8532-B231DBDF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1696-98B2-4C93-A888-84729DDE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BE2F-997E-4464-B9BE-02D349D5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4044-1C79-4B8D-A9DE-7624DC93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DC93-52B5-4596-8E0F-E2B962BA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E84C-19E2-4C87-89B8-5259E253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4004-98F3-42A0-BB8E-1B568E1C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556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D5A6-92D4-4DC4-91FC-0BF8F27E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4457-97CB-4439-9734-F295C3CD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FE88-7A5D-4C93-A815-D2E534C8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E860-4F99-4402-9462-BE21C4B6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5025-4826-4E3F-B17A-80B6F846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3D86-FDE8-430F-A440-A5943A9B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13BB-F22A-4296-95D8-C903AA35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FB60-EC6D-4680-8E81-4F699546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0FF19-D61F-4AB6-B872-717BD308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08134-85AF-449D-802D-25A09003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F8938-2B4C-4C6B-923C-CE707952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F4CBD-7316-428B-A5D2-0598D254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07037-5580-486E-8BDF-FAD6221B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91F1-45E5-42BD-B529-A08849D9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95280" y="1556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24123-D24E-4F84-B2BB-290B1E85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820C6-6FD9-4DB3-A5A7-8E9CE50E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A5E80-7292-4712-9603-794F462E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1FDCB-DE5C-428F-98B3-EE638EE9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78A80-3DCE-4F08-8ADE-7FF5ACB2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2CEFA-8C06-4334-8DF5-2BEAF51C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4F26E-3B77-4F5E-9014-C14ED796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5B3AF-5C5D-4ADB-B0F4-D35F34DC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C0B31-81D9-47E0-B196-00D92665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2DFE3-C637-443B-9AA4-8798491E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407C-E171-4BFD-9397-0CDC5A4B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D2BA0-7753-429F-9A11-219E3218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21D3E-FC20-462D-9760-21E72077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95280" y="1556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0E1A2-9D4C-4F7E-A498-42D0E6EF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C0365-8B9B-4322-AC72-FF335226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9E059-E53A-4A57-A741-4FC4C78A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4DC6E-7C98-4F58-A3EA-DB427712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9D194-B995-43C8-9540-D03CA72A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5896C-732C-4CBE-BC88-95B43288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F8FA4-CD60-4D71-810B-B6D142CB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D137F-07A4-4EED-B191-F8138BE5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D111-2B64-423F-A285-8DD6E207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FC5E7-26BB-4958-AFFA-426C027F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1E84D-608F-4C26-86D9-95343FB1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0402A-8D1B-460E-A275-078C2F3A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7E9A0-C367-4BA1-81AB-D0D74A65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95280" y="1556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C3A88-5E55-4470-BBFC-365E001A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5EFD7-6F18-4C70-988A-7CCC294C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0BD1A-098A-41FB-A9E0-99F29823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D3D4C-1954-4AC5-A013-9712335D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DC791-FE69-4E19-AC61-1FEF7E0E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A4321-8363-43F9-9A00-6A823215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556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BE75-B4A0-44D4-A131-C71EB2BB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49E13-B82A-4602-993B-539C8969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84AAA-FF54-4539-90AC-9FB66C2B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F4CAF-552B-4D0F-93C6-0CA3335C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8132A-752C-43A7-A83A-36BCB576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18E76-F2CF-4F3D-A4E7-CB93602A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5064D-30BB-47D4-96A8-2DCF5049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95280" y="1556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C41DD-54EB-4D5F-AFB9-EE4864DA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3307F-CD33-4B7F-B477-254A3CFC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CF41B-812A-43BC-ACC7-F70AC983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10805-943A-4F38-A1BB-FB76E6C1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F1C8-03B7-4727-A130-E480D496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16CB3-A1F6-41F5-95C2-40630D3D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380FD-FD9F-4C08-97CC-586214D0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494C0-C1BD-49BE-B8C6-913888A39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084CB-E8A8-44D1-8C90-1D8752E1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74207-D94A-41E5-8C7A-E0BE0CC7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A8AD2-4905-407A-92F7-705B484C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56CBD-468D-44ED-8A53-318AE554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587E9-D4BE-43D1-9D78-2B108D54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95280" y="1556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EBD6B-12F1-4A62-A991-64E4691B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5A908-ECAE-4FD9-BB0B-44C1AA61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77C6-4102-4190-B8F5-79452989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1A32F-3C5B-4019-9E41-F47EB826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A511B-F6A2-4154-85B2-541F0504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6175E-B71B-4A74-9E50-96F397C5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60EEA-C626-453A-B1DE-74F1DF4F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772B2-EFE9-43B5-B8A6-855F7E823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4F229-559A-49B4-9676-1B95E092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36248-9C78-4C0C-B1F5-A2713520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6502D-4E8B-403A-9F5E-5D3384FA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F9C91-AFE3-41B4-9DDC-2FBA4B41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913ED-B9D2-41AB-8436-E528F4D0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D686-9A1E-470B-970C-D97CAAA0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95280" y="1556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A3A41-201B-40A8-8B2C-FC7A79B8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77500-807D-4555-9862-E59D32CE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8DE7E-4E96-4BB4-B68D-7922433B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AD0A7-5814-4D79-BA99-82A9AE5F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80649-005D-42DB-A542-6C28BCC0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9FF91-0242-46C1-A6D6-6CCF5124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FA3E6-E3E8-48FC-880C-97B9175A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SLIDEtoME\TP模板\新建文件夹 (16)\bg13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2" descr="D:\SLIDEtoME\TP模板\新建文件夹 (16)\bg14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" name="矩形 9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5C82505-6DFD-4486-ABD3-9CE552212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SLIDEtoME\TP模板\新建文件夹 (16)\bg13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6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FD4289-AA7D-4F4A-85CA-405C8C2A9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:\SLIDEtoME\TP模板\新建文件夹 (16)\bg13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D:\SLIDEtoME\TP模板\新建文件夹 (16)\bg14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DBF66BF-DAD9-455F-AC86-93283F31D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395280" y="217476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395280" y="177264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:\SLIDEtoME\TP模板\新建文件夹 (16)\bg13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4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395640" y="1125360"/>
            <a:ext cx="5173200" cy="518292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body"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10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2F47E4-11CE-422F-B410-1ADD6E283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:\SLIDEtoME\TP模板\新建文件夹 (16)\bg13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8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16F08D5-E282-4D8D-89EB-B84C138F9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D:\SLIDEtoME\TP模板\新建文件夹 (16)\bg13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body"/>
          </p:nvPr>
        </p:nvSpPr>
        <p:spPr>
          <a:xfrm>
            <a:off x="4643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dt" idx="16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7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8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67889A9-9BDF-44DC-B4A9-4E80416C8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D:\SLIDEtoME\TP模板\新建文件夹 (16)\bg13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65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8353080" cy="374328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"/>
                <a:ea typeface="微软雅黑"/>
              </a:rPr>
              <a:t>单击图标添加图片</a:t>
            </a:r>
            <a:endParaRPr b="1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body"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dt" idx="19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7B6864-FC50-4973-BCF7-D92736915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D:\SLIDEtoME\TP模板\新建文件夹 (16)\bg13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0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D:\SLIDEtoME\TP模板\新建文件夹 (16)\bg14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3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4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8A658DD-B98B-4BD3-B88B-11CEF1311E85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slideLayout" Target="../slideLayouts/slideLayout6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抽象城市建筑通用</a:t>
            </a:r>
            <a:r>
              <a:rPr b="1" lang="en-US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模板下载</a:t>
            </a:r>
            <a:endParaRPr b="0" lang="en-US" sz="4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395280" y="227700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点击此处添加幻灯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12"/>
          <p:cNvSpPr/>
          <p:nvPr/>
        </p:nvSpPr>
        <p:spPr>
          <a:xfrm>
            <a:off x="209160" y="64904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132F-D332-4797-83D5-700B491E10D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3193C-0B0D-4354-A699-E1E6C676D8D0}" type="datetime1">
              <a:rPr lang="en-US"/>
              <a:t>07/28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矩形 2"/>
          <p:cNvSpPr/>
          <p:nvPr/>
        </p:nvSpPr>
        <p:spPr>
          <a:xfrm>
            <a:off x="2875680" y="3259800"/>
            <a:ext cx="339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Arial"/>
                <a:ea typeface="微软雅黑"/>
              </a:rPr>
              <a:t>模板下载：</a:t>
            </a:r>
            <a:r>
              <a:rPr b="0" lang="en-US" sz="1600" spc="-1" strike="noStrike" u="sng">
                <a:solidFill>
                  <a:srgbClr val="0e0e0e"/>
                </a:solidFill>
                <a:uFillTx/>
                <a:latin typeface="Arial"/>
                <a:ea typeface="微软雅黑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Arial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33" name="图片占位符 11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080" cy="37432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959E99F-0FDD-4C80-8946-AB83917FE8FC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28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082D62-D3F4-42A1-AAB6-F5ED6E543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64"/>
          <p:cNvGrpSpPr/>
          <p:nvPr/>
        </p:nvGrpSpPr>
        <p:grpSpPr>
          <a:xfrm>
            <a:off x="480600" y="1632240"/>
            <a:ext cx="8341200" cy="3236760"/>
            <a:chOff x="480600" y="1632240"/>
            <a:chExt cx="8341200" cy="3236760"/>
          </a:xfrm>
        </p:grpSpPr>
        <p:sp>
          <p:nvSpPr>
            <p:cNvPr id="439" name="Freeform 65"/>
            <p:cNvSpPr/>
            <p:nvPr/>
          </p:nvSpPr>
          <p:spPr>
            <a:xfrm>
              <a:off x="676800" y="1632240"/>
              <a:ext cx="4841640" cy="1862280"/>
            </a:xfrm>
            <a:custGeom>
              <a:avLst/>
              <a:gdLst>
                <a:gd name="textAreaLeft" fmla="*/ 0 w 4841640"/>
                <a:gd name="textAreaRight" fmla="*/ 4842000 w 4841640"/>
                <a:gd name="textAreaTop" fmla="*/ 0 h 1862280"/>
                <a:gd name="textAreaBottom" fmla="*/ 1862640 h 1862280"/>
              </a:gdLst>
              <a:ahLst/>
              <a:rect l="textAreaLeft" t="textAreaTop" r="textAreaRight" b="textAreaBottom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0" name="Freeform 66"/>
            <p:cNvSpPr/>
            <p:nvPr/>
          </p:nvSpPr>
          <p:spPr>
            <a:xfrm>
              <a:off x="4050000" y="2204640"/>
              <a:ext cx="558360" cy="57024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1" name="Freeform 67"/>
            <p:cNvSpPr/>
            <p:nvPr/>
          </p:nvSpPr>
          <p:spPr>
            <a:xfrm>
              <a:off x="480600" y="2619000"/>
              <a:ext cx="1681200" cy="176256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1762560"/>
                <a:gd name="textAreaBottom" fmla="*/ 1762920 h 1762560"/>
              </a:gdLst>
              <a:ahLst/>
              <a:rect l="textAreaLeft" t="textAreaTop" r="textAreaRight" b="textAreaBottom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2" name="Freeform 68"/>
            <p:cNvSpPr/>
            <p:nvPr/>
          </p:nvSpPr>
          <p:spPr>
            <a:xfrm>
              <a:off x="3627360" y="3769200"/>
              <a:ext cx="1011600" cy="694080"/>
            </a:xfrm>
            <a:custGeom>
              <a:avLst/>
              <a:gdLst>
                <a:gd name="textAreaLeft" fmla="*/ 0 w 1011600"/>
                <a:gd name="textAreaRight" fmla="*/ 1011960 w 101160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3" name="Freeform 69"/>
            <p:cNvSpPr/>
            <p:nvPr/>
          </p:nvSpPr>
          <p:spPr>
            <a:xfrm>
              <a:off x="5547600" y="1710000"/>
              <a:ext cx="3274200" cy="3159000"/>
            </a:xfrm>
            <a:custGeom>
              <a:avLst/>
              <a:gdLst>
                <a:gd name="textAreaLeft" fmla="*/ 0 w 3274200"/>
                <a:gd name="textAreaRight" fmla="*/ 3274560 w 3274200"/>
                <a:gd name="textAreaTop" fmla="*/ 0 h 3159000"/>
                <a:gd name="textAreaBottom" fmla="*/ 3159360 h 3159000"/>
              </a:gdLst>
              <a:ahLst/>
              <a:rect l="textAreaLeft" t="textAreaTop" r="textAreaRight" b="textAreaBottom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4" name="Freeform 70"/>
            <p:cNvSpPr/>
            <p:nvPr/>
          </p:nvSpPr>
          <p:spPr>
            <a:xfrm>
              <a:off x="659520" y="2084040"/>
              <a:ext cx="299520" cy="22752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5" name="Freeform 71"/>
            <p:cNvSpPr/>
            <p:nvPr/>
          </p:nvSpPr>
          <p:spPr>
            <a:xfrm>
              <a:off x="1950840" y="3810960"/>
              <a:ext cx="187200" cy="3276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6" name="Freeform 72"/>
            <p:cNvSpPr/>
            <p:nvPr/>
          </p:nvSpPr>
          <p:spPr>
            <a:xfrm>
              <a:off x="3203280" y="3378960"/>
              <a:ext cx="785160" cy="4093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7" name="Freeform 73"/>
            <p:cNvSpPr/>
            <p:nvPr/>
          </p:nvSpPr>
          <p:spPr>
            <a:xfrm>
              <a:off x="3547440" y="3351960"/>
              <a:ext cx="416880" cy="31716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8" name="Freeform 74"/>
            <p:cNvSpPr/>
            <p:nvPr/>
          </p:nvSpPr>
          <p:spPr>
            <a:xfrm>
              <a:off x="3957840" y="3463920"/>
              <a:ext cx="671040" cy="32760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9" name="Freeform 75"/>
            <p:cNvSpPr/>
            <p:nvPr/>
          </p:nvSpPr>
          <p:spPr>
            <a:xfrm>
              <a:off x="3738240" y="3052440"/>
              <a:ext cx="238320" cy="34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0" name="Freeform 76"/>
            <p:cNvSpPr/>
            <p:nvPr/>
          </p:nvSpPr>
          <p:spPr>
            <a:xfrm>
              <a:off x="4404240" y="4481640"/>
              <a:ext cx="111960" cy="1008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1" name="Freeform 77"/>
            <p:cNvSpPr/>
            <p:nvPr/>
          </p:nvSpPr>
          <p:spPr>
            <a:xfrm>
              <a:off x="4920480" y="4347720"/>
              <a:ext cx="318240" cy="31572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2" name="Freeform 78"/>
            <p:cNvSpPr/>
            <p:nvPr/>
          </p:nvSpPr>
          <p:spPr>
            <a:xfrm>
              <a:off x="7583400" y="2955600"/>
              <a:ext cx="456120" cy="151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3" name="Oval 79"/>
            <p:cNvSpPr/>
            <p:nvPr/>
          </p:nvSpPr>
          <p:spPr>
            <a:xfrm>
              <a:off x="3642840" y="2943720"/>
              <a:ext cx="38880" cy="33840"/>
            </a:xfrm>
            <a:prstGeom prst="ellipse">
              <a:avLst/>
            </a:pr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5" name="矩形 7"/>
          <p:cNvSpPr/>
          <p:nvPr/>
        </p:nvSpPr>
        <p:spPr>
          <a:xfrm>
            <a:off x="6314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8"/>
          <p:cNvSpPr/>
          <p:nvPr/>
        </p:nvSpPr>
        <p:spPr>
          <a:xfrm>
            <a:off x="26827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9"/>
          <p:cNvSpPr/>
          <p:nvPr/>
        </p:nvSpPr>
        <p:spPr>
          <a:xfrm>
            <a:off x="47336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10"/>
          <p:cNvSpPr/>
          <p:nvPr/>
        </p:nvSpPr>
        <p:spPr>
          <a:xfrm>
            <a:off x="67849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18"/>
          <p:cNvSpPr/>
          <p:nvPr/>
        </p:nvSpPr>
        <p:spPr>
          <a:xfrm>
            <a:off x="6314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19"/>
          <p:cNvSpPr/>
          <p:nvPr/>
        </p:nvSpPr>
        <p:spPr>
          <a:xfrm>
            <a:off x="26827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20"/>
          <p:cNvSpPr/>
          <p:nvPr/>
        </p:nvSpPr>
        <p:spPr>
          <a:xfrm>
            <a:off x="47336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21"/>
          <p:cNvSpPr/>
          <p:nvPr/>
        </p:nvSpPr>
        <p:spPr>
          <a:xfrm>
            <a:off x="67849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3"/>
          <p:cNvSpPr/>
          <p:nvPr/>
        </p:nvSpPr>
        <p:spPr>
          <a:xfrm>
            <a:off x="6314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4"/>
          <p:cNvSpPr/>
          <p:nvPr/>
        </p:nvSpPr>
        <p:spPr>
          <a:xfrm>
            <a:off x="26827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5"/>
          <p:cNvSpPr/>
          <p:nvPr/>
        </p:nvSpPr>
        <p:spPr>
          <a:xfrm>
            <a:off x="47336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6"/>
          <p:cNvSpPr/>
          <p:nvPr/>
        </p:nvSpPr>
        <p:spPr>
          <a:xfrm>
            <a:off x="67849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8"/>
          <p:cNvSpPr/>
          <p:nvPr/>
        </p:nvSpPr>
        <p:spPr>
          <a:xfrm>
            <a:off x="6314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29"/>
          <p:cNvSpPr/>
          <p:nvPr/>
        </p:nvSpPr>
        <p:spPr>
          <a:xfrm>
            <a:off x="26827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30"/>
          <p:cNvSpPr/>
          <p:nvPr/>
        </p:nvSpPr>
        <p:spPr>
          <a:xfrm>
            <a:off x="47336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31"/>
          <p:cNvSpPr/>
          <p:nvPr/>
        </p:nvSpPr>
        <p:spPr>
          <a:xfrm>
            <a:off x="67849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标题 6"/>
          <p:cNvSpPr/>
          <p:nvPr/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占位符 8"/>
          <p:cNvSpPr/>
          <p:nvPr/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489600" y="64828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F44B-D28F-4662-A5CF-E42437E7CBA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D7E97A0-9337-4EBF-BE96-82C429E8CA77}" type="datetime1">
              <a:rPr lang="en-US"/>
              <a:t>07/28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感谢观映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395280" y="234900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公司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8980F-7E65-465E-904E-D68E0BDAEC1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fld id="{59A7F1F4-3AD4-4354-84C3-26690283A5E2}" type="datetime1">
              <a:rPr lang="en-US"/>
              <a:t>07/28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使用说明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dt" idx="28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FFE6951-E83F-40DB-A60B-CB856251B204}" type="datetime1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07/28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29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30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C9EB30-89A1-428D-9055-181570246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矩形 5"/>
          <p:cNvSpPr/>
          <p:nvPr/>
        </p:nvSpPr>
        <p:spPr>
          <a:xfrm>
            <a:off x="395280" y="1564920"/>
            <a:ext cx="696600" cy="3841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7" name="矩形 12"/>
          <p:cNvSpPr/>
          <p:nvPr/>
        </p:nvSpPr>
        <p:spPr>
          <a:xfrm>
            <a:off x="1092240" y="1564920"/>
            <a:ext cx="696600" cy="38412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8" name="矩形 13"/>
          <p:cNvSpPr/>
          <p:nvPr/>
        </p:nvSpPr>
        <p:spPr>
          <a:xfrm>
            <a:off x="1789200" y="1564920"/>
            <a:ext cx="696600" cy="38412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9" name="矩形 14"/>
          <p:cNvSpPr/>
          <p:nvPr/>
        </p:nvSpPr>
        <p:spPr>
          <a:xfrm>
            <a:off x="2482920" y="1564920"/>
            <a:ext cx="696600" cy="38412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0" name="矩形 16"/>
          <p:cNvSpPr/>
          <p:nvPr/>
        </p:nvSpPr>
        <p:spPr>
          <a:xfrm>
            <a:off x="3179880" y="1564920"/>
            <a:ext cx="696600" cy="38412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1" name="矩形 17"/>
          <p:cNvSpPr/>
          <p:nvPr/>
        </p:nvSpPr>
        <p:spPr>
          <a:xfrm>
            <a:off x="3876840" y="1564920"/>
            <a:ext cx="683280" cy="38412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2" name="矩形 18"/>
          <p:cNvSpPr/>
          <p:nvPr/>
        </p:nvSpPr>
        <p:spPr>
          <a:xfrm>
            <a:off x="4560480" y="1564920"/>
            <a:ext cx="709920" cy="38412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3" name="矩形 19"/>
          <p:cNvSpPr/>
          <p:nvPr/>
        </p:nvSpPr>
        <p:spPr>
          <a:xfrm>
            <a:off x="5267160" y="1564920"/>
            <a:ext cx="696600" cy="384120"/>
          </a:xfrm>
          <a:prstGeom prst="rect">
            <a:avLst/>
          </a:prstGeom>
          <a:solidFill>
            <a:schemeClr val="accent4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4" name="矩形 22"/>
          <p:cNvSpPr/>
          <p:nvPr/>
        </p:nvSpPr>
        <p:spPr>
          <a:xfrm>
            <a:off x="5964120" y="1564920"/>
            <a:ext cx="696600" cy="384120"/>
          </a:xfrm>
          <a:prstGeom prst="rect">
            <a:avLst/>
          </a:prstGeom>
          <a:solidFill>
            <a:schemeClr val="accent5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5" name="矩形 23"/>
          <p:cNvSpPr/>
          <p:nvPr/>
        </p:nvSpPr>
        <p:spPr>
          <a:xfrm>
            <a:off x="6661440" y="1564920"/>
            <a:ext cx="696600" cy="384120"/>
          </a:xfrm>
          <a:prstGeom prst="rect">
            <a:avLst/>
          </a:prstGeom>
          <a:solidFill>
            <a:schemeClr val="accent6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6" name="矩形 24"/>
          <p:cNvSpPr/>
          <p:nvPr/>
        </p:nvSpPr>
        <p:spPr>
          <a:xfrm>
            <a:off x="7358400" y="1564920"/>
            <a:ext cx="696600" cy="384120"/>
          </a:xfrm>
          <a:prstGeom prst="rect">
            <a:avLst/>
          </a:prstGeom>
          <a:solidFill>
            <a:srgbClr val="373737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7" name="矩形 25"/>
          <p:cNvSpPr/>
          <p:nvPr/>
        </p:nvSpPr>
        <p:spPr>
          <a:xfrm>
            <a:off x="8051760" y="1564920"/>
            <a:ext cx="696600" cy="384120"/>
          </a:xfrm>
          <a:prstGeom prst="rect">
            <a:avLst/>
          </a:prstGeom>
          <a:solidFill>
            <a:srgbClr val="6e6e6e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378" name="直接连接符 31"/>
          <p:cNvCxnSpPr/>
          <p:nvPr/>
        </p:nvCxnSpPr>
        <p:spPr>
          <a:xfrm>
            <a:off x="395280" y="1564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79" name="TextBox 2057"/>
          <p:cNvSpPr/>
          <p:nvPr/>
        </p:nvSpPr>
        <p:spPr>
          <a:xfrm>
            <a:off x="518400" y="2226600"/>
            <a:ext cx="932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背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15"/>
          <p:cNvSpPr/>
          <p:nvPr/>
        </p:nvSpPr>
        <p:spPr>
          <a:xfrm>
            <a:off x="3264840" y="2226600"/>
            <a:ext cx="424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填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16"/>
          <p:cNvSpPr/>
          <p:nvPr/>
        </p:nvSpPr>
        <p:spPr>
          <a:xfrm>
            <a:off x="7484760" y="2226600"/>
            <a:ext cx="546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超链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17"/>
          <p:cNvSpPr/>
          <p:nvPr/>
        </p:nvSpPr>
        <p:spPr>
          <a:xfrm>
            <a:off x="448920" y="1964880"/>
            <a:ext cx="615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  <a:ea typeface="微软雅黑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深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4"/>
          <p:cNvSpPr/>
          <p:nvPr/>
        </p:nvSpPr>
        <p:spPr>
          <a:xfrm>
            <a:off x="3393360" y="1964880"/>
            <a:ext cx="321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一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744552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未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26"/>
          <p:cNvSpPr/>
          <p:nvPr/>
        </p:nvSpPr>
        <p:spPr>
          <a:xfrm>
            <a:off x="468432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二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27"/>
          <p:cNvSpPr/>
          <p:nvPr/>
        </p:nvSpPr>
        <p:spPr>
          <a:xfrm>
            <a:off x="608004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三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28"/>
          <p:cNvSpPr/>
          <p:nvPr/>
        </p:nvSpPr>
        <p:spPr>
          <a:xfrm>
            <a:off x="813888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已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直接连接符 133"/>
          <p:cNvCxnSpPr/>
          <p:nvPr/>
        </p:nvCxnSpPr>
        <p:spPr>
          <a:xfrm flipV="1">
            <a:off x="874836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89" name="直接连接符 134"/>
          <p:cNvCxnSpPr/>
          <p:nvPr/>
        </p:nvCxnSpPr>
        <p:spPr>
          <a:xfrm flipV="1">
            <a:off x="3952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0" name="直接连接符 132"/>
          <p:cNvCxnSpPr/>
          <p:nvPr/>
        </p:nvCxnSpPr>
        <p:spPr>
          <a:xfrm>
            <a:off x="395280" y="2563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1" name="直接连接符 141"/>
          <p:cNvCxnSpPr/>
          <p:nvPr/>
        </p:nvCxnSpPr>
        <p:spPr>
          <a:xfrm>
            <a:off x="395280" y="219780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2" name="直接连接符 145"/>
          <p:cNvCxnSpPr/>
          <p:nvPr/>
        </p:nvCxnSpPr>
        <p:spPr>
          <a:xfrm flipV="1">
            <a:off x="31798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3" name="直接连接符 146"/>
          <p:cNvCxnSpPr/>
          <p:nvPr/>
        </p:nvCxnSpPr>
        <p:spPr>
          <a:xfrm flipV="1">
            <a:off x="735804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4" name="直接连接符 142"/>
          <p:cNvCxnSpPr/>
          <p:nvPr/>
        </p:nvCxnSpPr>
        <p:spPr>
          <a:xfrm flipV="1">
            <a:off x="456048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5" name="直接连接符 147"/>
          <p:cNvCxnSpPr/>
          <p:nvPr/>
        </p:nvCxnSpPr>
        <p:spPr>
          <a:xfrm flipV="1">
            <a:off x="596412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6" name="直接连接符 152"/>
          <p:cNvCxnSpPr/>
          <p:nvPr/>
        </p:nvCxnSpPr>
        <p:spPr>
          <a:xfrm flipV="1">
            <a:off x="805140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97" name="TextBox 135"/>
          <p:cNvSpPr/>
          <p:nvPr/>
        </p:nvSpPr>
        <p:spPr>
          <a:xfrm>
            <a:off x="2509560" y="196488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描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2061"/>
          <p:cNvSpPr/>
          <p:nvPr/>
        </p:nvSpPr>
        <p:spPr>
          <a:xfrm>
            <a:off x="403560" y="3370320"/>
            <a:ext cx="2082600" cy="379080"/>
          </a:xfrm>
          <a:prstGeom prst="rect">
            <a:avLst/>
          </a:prstGeom>
          <a:solidFill>
            <a:srgbClr val="0070c0"/>
          </a:solidFill>
          <a:ln w="9525">
            <a:solidFill>
              <a:srgbClr val="0070c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55"/>
          <p:cNvSpPr/>
          <p:nvPr/>
        </p:nvSpPr>
        <p:spPr>
          <a:xfrm>
            <a:off x="403560" y="3821760"/>
            <a:ext cx="2082600" cy="379080"/>
          </a:xfrm>
          <a:prstGeom prst="rect">
            <a:avLst/>
          </a:prstGeom>
          <a:solidFill>
            <a:schemeClr val="accent3"/>
          </a:solidFill>
          <a:ln w="9525">
            <a:solidFill>
              <a:srgbClr val="00b05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56"/>
          <p:cNvSpPr/>
          <p:nvPr/>
        </p:nvSpPr>
        <p:spPr>
          <a:xfrm>
            <a:off x="403560" y="4272840"/>
            <a:ext cx="2082600" cy="379080"/>
          </a:xfrm>
          <a:prstGeom prst="rect">
            <a:avLst/>
          </a:prstGeom>
          <a:solidFill>
            <a:schemeClr val="accent5"/>
          </a:solidFill>
          <a:ln w="9525">
            <a:solidFill>
              <a:srgbClr val="ff66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57"/>
          <p:cNvSpPr/>
          <p:nvPr/>
        </p:nvSpPr>
        <p:spPr>
          <a:xfrm>
            <a:off x="403560" y="4724280"/>
            <a:ext cx="2082600" cy="379080"/>
          </a:xfrm>
          <a:prstGeom prst="rect">
            <a:avLst/>
          </a:prstGeom>
          <a:solidFill>
            <a:schemeClr val="bg2"/>
          </a:solidFill>
          <a:ln w="9525">
            <a:solidFill>
              <a:srgbClr val="b2b2b2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158"/>
          <p:cNvSpPr/>
          <p:nvPr/>
        </p:nvSpPr>
        <p:spPr>
          <a:xfrm>
            <a:off x="403560" y="5175360"/>
            <a:ext cx="1385640" cy="379080"/>
          </a:xfrm>
          <a:prstGeom prst="rect">
            <a:avLst/>
          </a:prstGeom>
          <a:solidFill>
            <a:schemeClr val="tx2"/>
          </a:solidFill>
          <a:ln w="9525">
            <a:solidFill>
              <a:srgbClr val="777777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61"/>
          <p:cNvSpPr/>
          <p:nvPr/>
        </p:nvSpPr>
        <p:spPr>
          <a:xfrm>
            <a:off x="7762680" y="537552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注释文字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2063"/>
          <p:cNvSpPr/>
          <p:nvPr/>
        </p:nvSpPr>
        <p:spPr>
          <a:xfrm>
            <a:off x="554760" y="12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配色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63"/>
          <p:cNvSpPr/>
          <p:nvPr/>
        </p:nvSpPr>
        <p:spPr>
          <a:xfrm>
            <a:off x="596160" y="3000960"/>
            <a:ext cx="1301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填充样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164"/>
          <p:cNvSpPr/>
          <p:nvPr/>
        </p:nvSpPr>
        <p:spPr>
          <a:xfrm>
            <a:off x="3369240" y="30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数据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内容占位符 6"/>
          <p:cNvGraphicFramePr/>
          <p:nvPr/>
        </p:nvGraphicFramePr>
        <p:xfrm>
          <a:off x="3180240" y="3331440"/>
          <a:ext cx="5568120" cy="20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408" name="直接连接符 149"/>
          <p:cNvCxnSpPr/>
          <p:nvPr/>
        </p:nvCxnSpPr>
        <p:spPr>
          <a:xfrm flipV="1">
            <a:off x="248256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409" name="直接连接符 150"/>
          <p:cNvCxnSpPr/>
          <p:nvPr/>
        </p:nvCxnSpPr>
        <p:spPr>
          <a:xfrm>
            <a:off x="395280" y="194400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410" name="矩形 2053"/>
          <p:cNvSpPr/>
          <p:nvPr/>
        </p:nvSpPr>
        <p:spPr>
          <a:xfrm>
            <a:off x="1947600" y="5209560"/>
            <a:ext cx="5011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" action="ppaction://hlinkshowjump?jump=firstslide"/>
              </a:rPr>
              <a:t>超链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217476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111111"/>
                </a:solidFill>
                <a:latin typeface="Arial Black"/>
                <a:ea typeface="微软雅黑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95280" y="177264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0F858-B983-4FEF-9B31-5610B01F1E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6231FA7B-10DE-4B19-9B0B-79F5206B995E}" type="datetime1">
              <a:rPr lang="en-US"/>
              <a:t>07/28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14" name="内容占位符 8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000" cy="51148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6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489600" y="64828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1D459-8921-488A-B544-A37674D5B9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fld id="{67B78EC8-BCA3-4333-99D4-C102254909A1}" type="datetime1">
              <a:rPr lang="en-US"/>
              <a:t>07/28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阵列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910458826"/>
              </p:ext>
            </p:extLst>
          </p:nvPr>
        </p:nvGraphicFramePr>
        <p:xfrm>
          <a:off x="395280" y="1339200"/>
          <a:ext cx="8353080" cy="4609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BA968-AFF6-4E89-91D3-D94977D486A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A5F8E125-0CF1-4C9E-9477-517C952430A3}" type="datetime1">
              <a:rPr lang="en-US"/>
              <a:t>07/28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流程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989723090"/>
              </p:ext>
            </p:extLst>
          </p:nvPr>
        </p:nvGraphicFramePr>
        <p:xfrm>
          <a:off x="906120" y="1340640"/>
          <a:ext cx="7331760" cy="4486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D1F3A-A968-4BC2-A128-7E3893DB6FD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E989C5DF-4D48-4EDF-A84F-BB2632E6F9FD}" type="datetime1">
              <a:rPr lang="en-US"/>
              <a:t>07/28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21" name="内容占位符 9"/>
          <p:cNvGraphicFramePr/>
          <p:nvPr/>
        </p:nvGraphicFramePr>
        <p:xfrm>
          <a:off x="395280" y="1412640"/>
          <a:ext cx="8353080" cy="4392720"/>
        </p:xfrm>
        <a:graphic>
          <a:graphicData uri="http://schemas.openxmlformats.org/drawingml/2006/table">
            <a:tbl>
              <a:tblPr/>
              <a:tblGrid>
                <a:gridCol w="1670400"/>
                <a:gridCol w="1670400"/>
                <a:gridCol w="1670400"/>
                <a:gridCol w="1670400"/>
                <a:gridCol w="1670400"/>
              </a:tblGrid>
              <a:tr h="520920">
                <a:tc>
                  <a:txBody>
                    <a:bodyPr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422" name="TextBox 10"/>
          <p:cNvSpPr/>
          <p:nvPr/>
        </p:nvSpPr>
        <p:spPr>
          <a:xfrm>
            <a:off x="7338960" y="5819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49735-ED5B-46C0-843C-C26431AC3E1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66FF70FF-74F7-455F-B3BD-10F80CD85736}" type="datetime1">
              <a:rPr lang="en-US"/>
              <a:t>07/28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8"/>
          <p:cNvSpPr/>
          <p:nvPr/>
        </p:nvSpPr>
        <p:spPr>
          <a:xfrm>
            <a:off x="3090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内容占位符 6"/>
          <p:cNvGraphicFramePr/>
          <p:nvPr/>
        </p:nvGraphicFramePr>
        <p:xfrm>
          <a:off x="3952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27" name="内容占位符 6"/>
          <p:cNvGraphicFramePr/>
          <p:nvPr/>
        </p:nvGraphicFramePr>
        <p:xfrm>
          <a:off x="46360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D5181-6B83-4CA1-98C7-CBF79AF2403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fld id="{5D11FA71-8436-4A58-8249-20CF2FE914C2}" type="datetime1">
              <a:rPr lang="en-US"/>
              <a:t>07/28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31176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数据图表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29" name="内容占位符 6"/>
          <p:cNvGraphicFramePr/>
          <p:nvPr/>
        </p:nvGraphicFramePr>
        <p:xfrm>
          <a:off x="395280" y="1197000"/>
          <a:ext cx="8353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30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C8F36-0FD9-4099-8B19-4AE01176436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079149FC-4464-48C0-A09D-C8A2030273E5}" type="datetime1">
              <a:rPr lang="en-US"/>
              <a:t>07/28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PPT素材夹_0082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PT素材夹_0082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PPT素材夹_0082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PPT素材夹_0082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PPT素材夹_0082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PPT素材夹_0082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PPT素材夹_0082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PPT素材夹_0082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PT素材夹_0082</Template>
  <TotalTime>1</TotalTime>
  <Application>LibreOffice/7.4.7.2$Linux_X86_64 LibreOffice_project/40$Build-2</Application>
  <AppVersion>15.0000</AppVersion>
  <Words>538</Words>
  <Paragraphs>17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</cp:category>
  <dcterms:created xsi:type="dcterms:W3CDTF">2013-02-28T00:32:45Z</dcterms:created>
  <dc:creator>lenovo</dc:creator>
  <dc:description>我爱PPT中文网</dc:description>
  <cp:keywords>XS-普屏 4：3 SC-淡蓝色 BG-浅色 DH-静态 XJ-二级</cp:keywords>
  <dc:language>en-US</dc:language>
  <cp:lastModifiedBy>王玉清</cp:lastModifiedBy>
  <dcterms:modified xsi:type="dcterms:W3CDTF">2016-02-21T04:09:05Z</dcterms:modified>
  <cp:revision>3</cp:revision>
  <dc:subject>TP-商务公关</dc:subject>
  <dc:title>点击此处添加幻灯主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4:3)</vt:lpwstr>
  </property>
  <property fmtid="{D5CDD505-2E9C-101B-9397-08002B2CF9AE}" pid="4" name="Slides">
    <vt:r8>12</vt:r8>
  </property>
</Properties>
</file>