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4C2-3CBC-473A-8BA9-975A9B49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314-6ADB-40AC-A52E-A1B7DA27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E15-4941-4035-960F-F395D293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F08-D753-4CCF-B592-601B0FC6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520C-0C14-4367-BB21-5F34088C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99FE-3C08-4BD0-AAFB-3DA36C71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E31F-68D5-4313-8A86-3236FC16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BF4D-1BCD-41A9-A9B2-9CAFCC26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302E-E977-4820-BF8E-0D8C58A2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6FB4-DCEC-47DC-A890-CE9224C9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CD40-E587-4396-BD97-F501A765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2D9-B6AF-4FDB-ABE5-B1811550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521C-3216-46A4-8DD0-23C927BC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6EC6-A039-48F7-8FED-0C769EDB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A1DF-48EF-4FEF-BFEA-8ACDDAF0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1DDD-9D87-4498-A944-75D83473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92DF-188D-499B-93CF-4ACBB6CC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154-0C59-4747-8222-1A4FE2B4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B28-77C2-4BDB-B7DB-4AB027E1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504-A4A5-40D9-9215-1DFBEACB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713-9109-4FC5-B5FF-EE2B2B1D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9E5F-1C73-41B4-9983-0B8E254B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D568-B197-445C-91C7-4C3EDB2A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5E1-69AF-4FE0-BE02-FD402F21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F3DB-C488-4B60-B646-9F146B6ED5F2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7365-EFBB-458E-9589-2B67EAD850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51pptmoban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84360" y="2205000"/>
            <a:ext cx="8459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抽象方块背景轻松工作动感商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508840" y="789300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www.pptbz.com</dc:creator>
  <dc:description/>
  <cp:keywords>ppt宝藏</cp:keywords>
  <dc:language>en-US</dc:language>
  <cp:lastModifiedBy>a</cp:lastModifiedBy>
  <dcterms:modified xsi:type="dcterms:W3CDTF">2015-07-25T08:14:12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