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0800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5916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0800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5916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70A-A59B-4F03-A526-8D47F1FA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17E-A1C8-42A0-907A-6A52FFA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FCA-9EF1-475B-983B-EB5F11BC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7C2-851E-40D9-8C03-F3F83D76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F67-7D49-4BC3-9105-F610BAF1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60280"/>
            <a:ext cx="69534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4A0-6A83-43C0-A63A-F183215C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B00-06BA-4034-A2DA-F52CB84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8A7-45D3-4AFD-82B7-3A7A94E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0A3-B30E-45BB-859A-C8384F6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B2D-07B6-497C-80B3-C56C4B9A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8D0-74D6-45B8-92C2-075E96B6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0800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9160" y="174096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80800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159160" y="4146120"/>
            <a:ext cx="223884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A6E-D9F3-4441-A2EC-21AD0040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60280"/>
            <a:ext cx="69534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19760" y="414612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9760" y="1740960"/>
            <a:ext cx="33930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6953400" cy="21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1" descr="jackson-pollack-001-1"/>
          <p:cNvPicPr/>
          <p:nvPr/>
        </p:nvPicPr>
        <p:blipFill>
          <a:blip r:embed="rId2"/>
          <a:srcRect l="5383" t="0" r="22007" b="1720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75E2-7373-4B40-8842-D996F40B27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72880" y="4187520"/>
            <a:ext cx="6529320" cy="8427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PMingLiU"/>
              </a:rPr>
              <a:t>Your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72880" y="1611000"/>
            <a:ext cx="6716520" cy="195084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斑点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 Bullet Point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69534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Colour sche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671920" y="278748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747960" y="2787480"/>
            <a:ext cx="827280" cy="611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19280" y="4402080"/>
            <a:ext cx="826920" cy="61128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687760" y="4402080"/>
            <a:ext cx="826920" cy="611280"/>
          </a:xfrm>
          <a:prstGeom prst="rect">
            <a:avLst/>
          </a:prstGeom>
          <a:solidFill>
            <a:srgbClr val="125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755880" y="4402080"/>
            <a:ext cx="827280" cy="611280"/>
          </a:xfrm>
          <a:prstGeom prst="rect">
            <a:avLst/>
          </a:prstGeom>
          <a:solidFill>
            <a:srgbClr val="d90e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826160" y="4402080"/>
            <a:ext cx="826920" cy="611280"/>
          </a:xfrm>
          <a:prstGeom prst="rect">
            <a:avLst/>
          </a:prstGeom>
          <a:solidFill>
            <a:srgbClr val="f62b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808520" y="278748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60344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38528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7036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65364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93452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6184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70936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64356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472464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Sample Graph (3 colour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30320" y="1989000"/>
          <a:ext cx="67323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989000"/>
                    <a:ext cx="67323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Pictur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0960"/>
            <a:ext cx="34034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Bulle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Bulle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water 060"/>
          <p:cNvPicPr/>
          <p:nvPr/>
        </p:nvPicPr>
        <p:blipFill>
          <a:blip r:embed="rId1"/>
          <a:stretch/>
        </p:blipFill>
        <p:spPr>
          <a:xfrm>
            <a:off x="3260880" y="3139920"/>
            <a:ext cx="3241440" cy="3205440"/>
          </a:xfrm>
          <a:prstGeom prst="rect">
            <a:avLst/>
          </a:prstGeom>
          <a:ln w="57240">
            <a:solidFill>
              <a:srgbClr val="f62b26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PMingLiU"/>
              </a:rPr>
              <a:t>Process Fl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31880" y="311616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266920" y="311616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776760" y="311616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284800" y="311616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796080" y="311616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8"/>
          <p:cNvSpPr/>
          <p:nvPr/>
        </p:nvSpPr>
        <p:spPr>
          <a:xfrm>
            <a:off x="2266920" y="1643040"/>
            <a:ext cx="1854360" cy="12700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9"/>
          <p:cNvSpPr/>
          <p:nvPr/>
        </p:nvSpPr>
        <p:spPr>
          <a:xfrm>
            <a:off x="731880" y="1643040"/>
            <a:ext cx="1898640" cy="12700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3776760" y="1643040"/>
            <a:ext cx="1854000" cy="127008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5284800" y="1643040"/>
            <a:ext cx="1857240" cy="12700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2"/>
          <p:cNvSpPr/>
          <p:nvPr/>
        </p:nvSpPr>
        <p:spPr>
          <a:xfrm>
            <a:off x="6796080" y="1643040"/>
            <a:ext cx="1854360" cy="12700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918520" y="2095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034640" y="20937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49240" y="209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5960880" y="2093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7368480" y="2095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 of a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36800" y="2063880"/>
          <a:ext cx="6256080" cy="3278160"/>
        </p:xfrm>
        <a:graphic>
          <a:graphicData uri="http://schemas.openxmlformats.org/drawingml/2006/table">
            <a:tbl>
              <a:tblPr/>
              <a:tblGrid>
                <a:gridCol w="3128760"/>
                <a:gridCol w="31273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1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21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9"/>
          <p:cNvSpPr/>
          <p:nvPr/>
        </p:nvSpPr>
        <p:spPr>
          <a:xfrm>
            <a:off x="2630520" y="547380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Note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4936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90e0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6953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Examples of default sty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40960"/>
            <a:ext cx="396252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PMingLiU"/>
              </a:rPr>
              <a:t>Text and lines are lik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73520" y="1925640"/>
          <a:ext cx="2679840" cy="1643040"/>
        </p:xfrm>
        <a:graphic>
          <a:graphicData uri="http://schemas.openxmlformats.org/drawingml/2006/table">
            <a:tbl>
              <a:tblPr/>
              <a:tblGrid>
                <a:gridCol w="1339920"/>
                <a:gridCol w="1339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5"/>
          <p:cNvSpPr/>
          <p:nvPr/>
        </p:nvSpPr>
        <p:spPr>
          <a:xfrm>
            <a:off x="1577880" y="4824360"/>
            <a:ext cx="2232000" cy="136836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457880" y="4824360"/>
            <a:ext cx="2232000" cy="1368360"/>
          </a:xfrm>
          <a:prstGeom prst="rect">
            <a:avLst/>
          </a:prstGeom>
          <a:solidFill>
            <a:srgbClr val="fff21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PMingLiU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Administrator</dc:creator>
  <dc:description/>
  <cp:keywords/>
  <dc:language>en-US</dc:language>
  <cp:lastModifiedBy>王玉清</cp:lastModifiedBy>
  <dcterms:modified xsi:type="dcterms:W3CDTF">2016-02-19T07:13:22Z</dcterms:modified>
  <cp:revision>49</cp:revision>
  <dc:subject/>
  <dc:title>Jackson Pollock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