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E6D-7DCE-47A8-B32C-D661846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16F-47DB-4CDA-96C4-2D23987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43F-9E61-4587-AFC6-DA02433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4DB-31DF-414C-A0F4-7B36716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ED8-A219-4008-951D-27E0423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529-1B24-42C5-A331-B3695DB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655-85B0-44D0-B002-27D3CFC5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A19-EF03-4E85-A083-D36E40C8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C1D-4504-4D2D-B306-CB7432FD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2A7-BF0D-475A-87BB-57A0721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C24-6EA1-441F-9F84-F2312494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D47-4533-48D5-9E35-D0DCB47C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7F4F-3B4A-4F4C-9F5C-5C776A7A2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底图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封面风筝"/>
          <p:cNvPicPr/>
          <p:nvPr/>
        </p:nvPicPr>
        <p:blipFill>
          <a:blip r:embed="rId2"/>
          <a:stretch/>
        </p:blipFill>
        <p:spPr>
          <a:xfrm>
            <a:off x="401760" y="552600"/>
            <a:ext cx="8742240" cy="6305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324160" y="2335320"/>
            <a:ext cx="3024000" cy="50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KITE-FLY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587840" y="25192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381400" y="3503520"/>
            <a:ext cx="4248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亲爱的。。我害怕你会离开，就像风筝断了线。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不会再回来了。。你。会吗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封面-标题"/>
          <p:cNvPicPr/>
          <p:nvPr/>
        </p:nvPicPr>
        <p:blipFill>
          <a:blip r:embed="rId3"/>
          <a:stretch/>
        </p:blipFill>
        <p:spPr>
          <a:xfrm>
            <a:off x="2371680" y="2867040"/>
            <a:ext cx="486252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391120" y="16574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风筝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内页底图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内页风筝"/>
          <p:cNvPicPr/>
          <p:nvPr/>
        </p:nvPicPr>
        <p:blipFill>
          <a:blip r:embed="rId2"/>
          <a:stretch/>
        </p:blipFill>
        <p:spPr>
          <a:xfrm>
            <a:off x="3240" y="-82440"/>
            <a:ext cx="19429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内页-标题"/>
          <p:cNvPicPr/>
          <p:nvPr/>
        </p:nvPicPr>
        <p:blipFill>
          <a:blip r:embed="rId3"/>
          <a:stretch/>
        </p:blipFill>
        <p:spPr>
          <a:xfrm>
            <a:off x="1019160" y="1920960"/>
            <a:ext cx="246240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内页-标头标题"/>
          <p:cNvPicPr/>
          <p:nvPr/>
        </p:nvPicPr>
        <p:blipFill>
          <a:blip r:embed="rId4"/>
          <a:stretch/>
        </p:blipFill>
        <p:spPr>
          <a:xfrm>
            <a:off x="2176560" y="266760"/>
            <a:ext cx="360972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990720" y="2473200"/>
            <a:ext cx="718956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亲爱的。。我害怕你会离开，就像风筝断了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不会再回来了。。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我，给不了你什么。就像“</a:t>
            </a:r>
            <a:r>
              <a:rPr b="1" lang="en-US" sz="1600" spc="-1" strike="noStrike">
                <a:solidFill>
                  <a:srgbClr val="07548b"/>
                </a:solidFill>
                <a:latin typeface="宋体"/>
              </a:rPr>
              <a:t>I MISS YOU”</a:t>
            </a: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中写到的“除了爱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除了思念、除了关心、体贴和祝福</a:t>
            </a:r>
            <a:r>
              <a:rPr b="1" lang="en-US" sz="1600" spc="-1" strike="noStrike">
                <a:solidFill>
                  <a:srgbClr val="07548b"/>
                </a:solidFill>
                <a:latin typeface="宋体"/>
              </a:rPr>
              <a:t>...</a:t>
            </a: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我。还有什么可以给你呢。。。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3.7037E-007 L 2.77778E-006 3.7037E-007 E">
                                      <p:cBhvr>
                                        <p:cTn id="3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31:36Z</dcterms:created>
  <dc:creator>YE</dc:creator>
  <dc:description/>
  <dc:language>en-US</dc:language>
  <cp:lastModifiedBy>王玉清</cp:lastModifiedBy>
  <dcterms:modified xsi:type="dcterms:W3CDTF">2016-02-24T04:09:06Z</dcterms:modified>
  <cp:revision>22</cp:revision>
  <dc:subject/>
  <dc:title>幻灯片 1</dc:title>
</cp:coreProperties>
</file>