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35A-A6B2-43B8-8729-6CB2298C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0CE-0D5B-47E3-A04D-4238F97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21E-F97A-47D3-B865-83387B4C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A6D-579F-40EF-AF91-240D99CB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1D0-172B-4205-8899-86435BDF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7A4-ECA8-4EE4-98A7-F760E36F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920-6511-4277-A966-FCE66DD9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5C4-97B2-416E-B42F-AE1D5B1C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134-7020-438D-9D2E-DBB1B99E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BEF-F5A7-4AFE-B8EC-DAE42D64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204-E107-4B36-9029-5C0F931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A8C-63EE-4CAF-948C-CFB7876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9D56-3AE6-4A74-B434-AAAAE4B7F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94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公路条纹商务</a:t>
            </a:r>
            <a:r>
              <a:rPr b="1" lang="en-US" sz="4000" spc="-1" strike="noStrike">
                <a:solidFill>
                  <a:srgbClr val="3366cc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219320" y="251460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40:44Z</dcterms:created>
  <dc:creator>ppt宝藏</dc:creator>
  <dc:description/>
  <dc:language>en-US</dc:language>
  <cp:lastModifiedBy>a</cp:lastModifiedBy>
  <dcterms:modified xsi:type="dcterms:W3CDTF">2015-07-25T06:55:56Z</dcterms:modified>
  <cp:revision>4</cp:revision>
  <dc:subject/>
  <dc:title>www.pptbz.com</dc:title>
</cp:coreProperties>
</file>