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dt" idx="6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ftr" idx="6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 type="sldNum" idx="6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3A2E-D218-4127-A052-BBB3B52D68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0EF3-79F3-475F-83A0-D019DA3525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AEDAD-DB75-49F0-A9FE-E00C9F36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9862D-0DBA-42F1-99F2-02AE603C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E7346-03FA-472F-AE32-7CF3F652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D6EC4-1B36-4DAA-AD46-CB5FAFFD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8FF10-740B-42D1-8DCB-297DF793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E1778-E285-46A7-8528-70A88A14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CC960-5736-44F2-920F-6C64464B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F4B10-C19E-409B-A2D3-D8A47044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FCF4D-CFB4-4C70-B117-02C25694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21F52-1CB4-4A23-A463-56B11DA3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C7565-A59E-4CD3-A4E9-E50DDE39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97510-2678-40D4-8284-23CD5839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7F6AD-AF46-4EE4-9755-5C1CAAD0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B51D6-9332-4E37-B68C-FAF3A2A2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2C0AB-237C-4E1A-8275-28EB1260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CEFE0-B6A1-4624-8298-C38C6B64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0AE1B-4776-465D-B782-7C297C73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98276-4A6A-47D0-899E-9C320E5A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83240-4832-4C7B-AB59-C109D9AA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34FA6-E07F-4C63-A48D-F1D050F8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8979F-DF93-45AF-BC1E-1C3150DB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2E572-13C7-4406-AAE2-5971A5B3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FD846-3622-40C3-9630-F91390AA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4153D-2109-4BD2-99D5-14334B12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EA011-5FA7-46AF-BC37-C8D5748E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22D25-76CB-4132-9F89-CE273FE6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48E82-AF43-41F1-9096-8973B622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7233E-D6BB-4532-B19A-060D0667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B221B-9D45-4777-958B-A41C7E2F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6868E-EAA3-40FE-A324-44C9BEC0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9C9F4-0649-4A4E-833E-D39E3E16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5FFC5-EEB3-4C2F-8309-056F2B5C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CD8C3-C5C1-4333-8827-5DB0710E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A3E95-49BE-4693-9A72-3959A471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AE209-7E2D-4974-85B0-02B0003F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38F6F-220F-48B8-9A88-169DA933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56F8D-B3AC-4701-86C8-3A045F35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2D598-6916-4C11-8C9C-ACACF2FA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41ECC-07C9-4FD5-9B51-E877BCF8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2D081-860A-4DB3-86F6-1CFF3D6A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75375-7D00-4BD8-977A-80EBE42C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60A9B-FCB7-47C3-A562-2F745601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6C18E-1821-421F-8647-42CEB3A5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29DAD-7DFD-40B5-83F8-F9A06228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33BD1-1528-4F97-9931-B8B0EAD8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9F2D4-BAE7-4AC6-AA48-67A3E965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AD05E-CF34-48EC-A41A-FB01DE0F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CAB2E-604B-42BE-9355-49EEA68E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99B07-1679-4964-8F1A-5AB75B74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1AAAE-41E2-44F7-9A58-56FAE453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12824-7642-4D60-A1E5-A9047548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26587-429C-4438-AAF4-DA65E46F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9A3C0-1D6C-470D-B61C-34189F9C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9318C-0F50-462E-8041-908BF40C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110DF-ED83-4A19-BCC5-1B263A0F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67346-DF91-479E-9700-13D4C23A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72A33-A7B7-46C6-84B6-F753704B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CFDD7-2CAA-45A6-932D-B22F3BCE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D58D2-21B7-444E-908D-9CBDB959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78C6E-C211-4E69-AB18-F18CCDDC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F0A01-6826-4144-A8D3-578E716A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D617B-AA94-499E-BE0E-D2DA627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CF6CD-CA12-4DF5-A4A3-E5CEA833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BE5BD-6655-4109-8356-C84353BD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4B726-D122-47FA-9894-4FD3848A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FEB34-C0CF-441F-9951-041A73F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E3CDC-3D83-4FA8-AE33-C4F37B1B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8175C-C84D-437F-9265-F21F5BAD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B25C9-A4C4-4A4E-B90F-1A46E8D9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1DD58-B6E0-4524-991C-D821566E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66465-D308-4F6E-9C15-4F071E17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52F24-B915-4B01-8ACA-E265C8B4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4BC84-620E-4B48-AC97-D17DBCA2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285D3-8B6B-43F4-9BE6-AC744BD6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A497E-1115-4293-9728-23AFBB23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F1950-20AF-448B-9F1A-92A36F4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899A1-97EC-401D-B070-3ED8DD17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15D6C-13DD-445A-87E6-E930EBBF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C88A4-9F64-469D-902C-D913D268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44DB5-CF4D-4DC8-B35F-AB657788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EAF75-B00A-43DE-A345-A75B6127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390C3-B546-4F0F-B1A2-731D0DBB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14A73-EEE1-489C-8F4C-70B6E3BB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2551A-38E7-4FF4-B497-90FBF7BB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719D0-6485-4B65-A69D-A118FE16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2F95F-1AB3-435D-B54B-1078E190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E9BED-8642-402A-A7DF-530316D6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B116E-D657-4CEF-BF5A-A6CA29E3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BE39B-7A1D-4BDC-9A3C-2BBA5A19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DE0E6-CA6F-4D00-A20E-7F7F126C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6A2CA-5CCA-4F4A-8154-A5572CF6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6E5A7-9D77-4C2D-9578-1C6B1811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03D69-49DA-44C2-8A4E-723AA984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8A2AF-F2CD-4030-B236-791FA8F2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1D78E-B89B-4BE0-B0AC-CA3B0C1B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B5698-DBD8-43D3-86CA-C61FB0D5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99CB3-EE54-4D0D-B1E6-C884F917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EE559-4789-4940-B789-A7C0BF5B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6DB4D-742E-48F9-AE4E-A4E22390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AC387-3868-455C-9E16-9E74A9D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066C6-E995-4A51-ABB8-AAC5AB3A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3A09C-BC29-4B51-826A-273BB450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92EB4-A1E0-4CFC-84A1-C81CDC81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28D18-D4A4-4A65-9C42-D34501ED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E936F-4FFD-4EB0-B6B1-66DA6C1A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9705E-3ADB-463F-87A8-C3CB111E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2634E-90F0-4363-B34F-2CD8B408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60769-DBBA-4F71-A3C1-7A8C5F1D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8ADBA-70A7-4947-8200-663825F6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0B9F2-FE24-45E0-A576-FB981FC4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80768-4F92-43BC-A6E5-E15AFB38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86C5B-3986-4C0B-B302-CBD2F4CF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306B1F-85A9-41A7-8BF0-8315AF3F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102C6-B689-42F3-A59A-3F521B8D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7EE24-8138-4E20-8037-40C79834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11C0E-7E78-4050-8A16-8131DC52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4555C-331D-4603-BF5B-0A7359AE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9E28C-E186-4FB8-A1B1-5FD62848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48BDF-2D8A-4B54-B03E-7C0412CA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53950-7EAD-4EE2-98D3-924314E0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5340E-2F1A-4AFD-AF98-AE810947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8FE4A-8E60-4399-901F-15A026C4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011AA-BA91-435D-BCF3-C654C75F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EA5A6-FBBC-4DEE-8C44-A502A1AA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94714-930B-4CE8-B8BC-873FF1CC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5F73B-03AF-41E5-8AA0-64F5D0E9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61D73-3203-49EE-982A-24D09C21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774CC-CFEB-4AB0-AB1E-92083B11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7CF25-E438-4C71-B68D-D9126B45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5C725-602E-4534-BEDA-0FCD4E84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B9BFA-0352-472C-B3A3-86A9E150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00151-78F8-4262-9174-261FAE03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7DD4B-2F5C-4553-B114-196BD61D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4F4D42-DF5B-47B3-9952-08B4421D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5A68E8-ADE2-431C-9115-85A83DF4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6B3B0-C3D5-4A08-B2A7-D07B1ABB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4B029-8D01-49C6-B5EF-CCF092A4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04567-693A-4813-A394-03F12E82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DD2EE-0C9A-465C-B5DC-8C0312E6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F92AA1-E0A0-4013-A02E-88BCB19E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ECF09-E92E-40FF-9DA0-0B1A95F2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B5045-D9E6-460E-86F0-D775F094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2F9148-A45B-4728-A086-09B1E57B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DDB7F4-8824-4CF0-AF63-EF0EF878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50A06-91FE-432F-9B7A-B1C0B605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1705A3-DF27-4306-A9FE-831DD7D2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A6379-1F9D-445D-B5C7-E179C3E9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D0338E-3F0E-432D-90C5-B5812694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7CC616-35DE-4450-A811-DE705F08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A5C83-E0C0-49B7-BB45-1C0D9BFC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68B13-5684-4D21-926E-7633D4E9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C7FFF-7734-4442-8900-40D47482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E55A71-1F40-466D-8542-EC114118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6252BB-E38A-4F8B-AB41-2453E37E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721AA-BF22-47DD-8772-0651596A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9E1FB2-4535-419D-ADD8-741EADE4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4EE936-F368-4240-A95A-CB5DE217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EF3C76-2EA2-4081-895B-E8736E49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9F9BC6-014F-44EF-8B52-0574ABA2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F8755-863B-4B4E-A644-48E66CA3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825D06-625B-4953-836A-0A27EC3C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7106E-5D7E-41D3-88BD-8697810E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19A1C-50CA-46D7-84F1-AB6366C6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8E719D-5386-44C6-AB3D-A8E99262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E9817E-8D7D-4C4E-A107-336BA28C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559E9D-5BE8-49B5-91DE-D2F91599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0F77DB-E687-46E0-B457-C2489761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F044F0-1056-46F7-9463-3A469628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C6DB85-5E59-4040-94D8-8527219B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3A4EC2-E35C-4EE7-B2D8-8AD775E3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5AC9C-5CAD-40D6-BEF7-E32B30AD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912EEE-46CD-4A15-9CF9-752ECF8A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F66560-A76D-4323-8079-E6109ECB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2203C0-EAC5-4517-9371-305BD620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6C4D35-4759-4D4A-A485-922C363F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A60A9D-D158-49A7-A053-FBA0D474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604A2D-FE4D-4DE7-9B7D-8BB912A9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C11BC3-71EE-4EC8-B811-B906D2CC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C7D725-2A05-4FB3-A098-F0330241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D90391-925F-4986-82BD-61C57630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CF5BF7-B003-4D49-80DF-D05CD994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11619-F5D1-4873-AF9B-A5552935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BEE50-582E-4A7F-A5FA-D2B4E15F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AB260E-E1F8-446E-AB3B-486EAE7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D63237-0F3F-4BF3-9C81-1EFE17D5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9FA3C4-41FD-455B-9750-3FA10985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831597-C6F6-4AB0-8A17-76D0D316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636935-2BFD-408C-B381-701B8586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A4D2AF-1639-4998-8B7E-E1ECE7A5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75BF62-430F-4ED2-A970-EAAB0BA8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31D28E-DAA0-41E4-9FD5-28238201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BAA6A-8940-4B61-B0AC-2BF33354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75A8F6-9F3D-4296-A5B0-6627BC0E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01E18D-8104-4610-98CC-7BDECBBB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F04153-253D-4B87-9613-4503048A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BAA31-FB3E-4997-A499-A80E1838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960C9B-DBC0-4112-B3E4-DF0CEB08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2853C-851C-4A14-856C-325C6C85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F11E98-DDB9-437D-A142-80F7A17D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E2F811-EA59-40B8-AE2A-F341E706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719811-DEFB-48FB-8B9D-23CAD1EE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49B5D8-FBC3-47C5-A591-150B84CD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33F53F-8348-4C7C-8FC0-A693F8C4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085226-10BC-4FE3-A728-E1643BE1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61AB31-AC72-4ADE-BBD9-8804D7DA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85D930-A63E-424C-8873-91D4FAC6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E18B37-6A71-41A7-B64B-897D640F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897036-E21E-4A08-AAB6-B3A4C3A0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2222F4-CC29-4B1B-8979-266CECF3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C43345-F8C5-4734-B720-9B82AFC6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D31CF4-A196-43F6-B0CD-F3A29407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F4F1D4-60A8-4A6F-9855-6B5F96E3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B91838-4329-44BB-B191-0199C682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DFA-4DD9-4CFA-AED5-A437AF56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473-F80A-4662-8C24-AE4F536D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B69-AD1C-43BE-8695-854954F8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D52-D782-4EC7-838E-F3BDB723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AA9-A7B1-4BC1-8C3A-6F8B2FF8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F4C-E951-4DCE-BAEF-EB64AE90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3B6-5E29-4496-9F87-EB6BC274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600-70D7-45C8-B0BD-CB58EDC4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46A-7379-4B81-9883-812EB846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107-DBCE-47C6-A56E-A0ABA4B7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2B4-6602-4B1F-B514-14E86B95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104-9D71-42F5-91D3-470D7AAC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63CF-554C-429E-978C-F2F229C9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D9A5-2245-4704-BC81-4A50F944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9E60-918A-4713-B898-010F62D9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CA8F-4789-4CFE-94A7-969246F3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1E96-86AD-4AAE-8169-C3D22A2E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0B17-6AF2-43A6-B0BB-CBAEB40E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47EE-4058-4EB3-B700-BEE36E8D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52DB-08A5-4433-B3D5-15E53C05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9622-1045-4FA3-9C0B-A6E0DFA7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600C-65D1-492F-BDCA-2E13AEB8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0020-8C05-4A4E-BFE6-2164969E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47D5-194A-4078-88B0-42F840E1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3351-754B-4A61-8D17-30B03AA0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A81A-C7B6-4E9F-BAAC-E889EEBD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4F07-4FB5-4A93-8ECC-F1A6F2BF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04F0E-244B-4EF4-8204-376ABF20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17B6-AC6F-42A5-8554-F1BD6D8A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A785-BEE8-467D-8AA7-30AB53BD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E005-6879-4CB2-9674-D6A1EF2A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566E-A005-4CA7-B262-0258F688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731F-14C7-44D5-B035-C72E5B93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0C152-5FE9-47BD-8134-0A6F3A7F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1E7FB-A6AB-4178-920B-28ABE900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EFE3A-FDA0-4CDC-92DB-23B2AA11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BE18D-9B7F-49D4-98FE-9AC8DA35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82CF-7051-4CB5-950E-06F8AF2B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7298A-5A33-4C7F-A0F3-F91DE15C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ACD5-D1E0-4C22-AE17-AE9D38C2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DC0E2-1761-483D-BE8F-0601256D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8F651-113A-4FB3-A366-14D7D5E0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68FD7-796B-409A-A80A-59344B40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177FD-727A-499D-A842-1E72E6F0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9D179-F151-470C-865B-93384A4B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F8A84-4A4F-4E1F-BCBB-C8CEB77A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4DA4E-A5B0-447C-8BB3-56EA278E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3AAE2-D802-4CD5-B776-30345FA8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01901-E864-463E-A409-5B0D93BF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F048C-5FEA-4DB7-B2B7-009C52B5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7C3EB-A35C-4384-B6C1-273FD06E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fd69b9d27aa40bf2a8ec9a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E8E1-7960-41B8-8D24-1408679BF5AD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6F7-A9AA-4639-BAD8-2A4196DA5025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B716-D50A-4898-A833-FECE0537A9D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70FC-6C70-4FA2-B9E3-30BB438FED4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3837-FAA5-4BDB-86DC-3AF6B9420D0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B0E9-A4A1-4BFC-A151-862059A48B1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7BC7-D17B-487A-A885-E99A9066B94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8A20-A63F-4301-B0CC-95A952B59246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BE9C-FD25-431D-9916-1F3F84D2751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971D-5898-4D2A-85FD-CB443FC2B85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圆角矩形 8"/>
          <p:cNvSpPr/>
          <p:nvPr/>
        </p:nvSpPr>
        <p:spPr>
          <a:xfrm>
            <a:off x="500040" y="1143000"/>
            <a:ext cx="7715160" cy="5000760"/>
          </a:xfrm>
          <a:prstGeom prst="roundRect">
            <a:avLst>
              <a:gd name="adj" fmla="val 16667"/>
            </a:avLst>
          </a:prstGeom>
          <a:solidFill>
            <a:srgbClr val="ffffff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直接连接符 10"/>
          <p:cNvSpPr/>
          <p:nvPr/>
        </p:nvSpPr>
        <p:spPr>
          <a:xfrm>
            <a:off x="785880" y="1143000"/>
            <a:ext cx="5715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直接连接符 14"/>
          <p:cNvSpPr/>
          <p:nvPr/>
        </p:nvSpPr>
        <p:spPr>
          <a:xfrm>
            <a:off x="4786200" y="6143760"/>
            <a:ext cx="4357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6EA8-2722-46C7-8534-6AAB8A67897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8B85-A8ED-41B6-8BF1-36237894E41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4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45A3-3BB7-4D14-B37E-6D22C6A426A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BF0F-630F-4347-976A-6CB67E23B9E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E768-DF67-4919-A386-1F143B45C3E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4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EA13-8527-4910-A1EA-AA34E7A9A18E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4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3463-5F33-401B-BEF9-66096D7BE0EE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293D-6B18-4F98-98D8-881B15E919F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1428-31B5-4DD9-9731-8939FE14D32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74C9-7359-46EF-8B3C-02B381F79E0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EAAF-1163-4706-A1C0-F00A4BADA64D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DB87-FF82-485E-A803-9918BE06F91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标题 2" descr=""/>
          <p:cNvPicPr/>
          <p:nvPr/>
        </p:nvPicPr>
        <p:blipFill>
          <a:blip r:embed="rId1"/>
          <a:stretch/>
        </p:blipFill>
        <p:spPr>
          <a:xfrm>
            <a:off x="615960" y="2419200"/>
            <a:ext cx="7772400" cy="800280"/>
          </a:xfrm>
          <a:prstGeom prst="rect">
            <a:avLst/>
          </a:prstGeom>
          <a:ln w="0">
            <a:noFill/>
          </a:ln>
        </p:spPr>
      </p:pic>
      <p:sp>
        <p:nvSpPr>
          <p:cNvPr id="10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60436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模板使用说明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矩形 3"/>
          <p:cNvSpPr/>
          <p:nvPr/>
        </p:nvSpPr>
        <p:spPr>
          <a:xfrm>
            <a:off x="357120" y="6143760"/>
            <a:ext cx="135756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L O G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4"/>
          <p:cNvSpPr/>
          <p:nvPr/>
        </p:nvSpPr>
        <p:spPr>
          <a:xfrm>
            <a:off x="714240" y="1428840"/>
            <a:ext cx="72867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标题 2" descr=""/>
          <p:cNvPicPr/>
          <p:nvPr/>
        </p:nvPicPr>
        <p:blipFill>
          <a:blip r:embed="rId1"/>
          <a:stretch/>
        </p:blipFill>
        <p:spPr>
          <a:xfrm>
            <a:off x="689040" y="2011320"/>
            <a:ext cx="77724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2T03:09:58Z</dcterms:modified>
  <cp:revision>13</cp:revision>
  <dc:subject/>
  <dc:title>幻灯片 1</dc:title>
</cp:coreProperties>
</file>