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EE5659-BCDC-41C0-9580-9B5C6BF0C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040" cy="3085920"/>
          </a:xfrm>
          <a:prstGeom prst="rect">
            <a:avLst/>
          </a:prstGeom>
          <a:ln w="0">
            <a:noFill/>
          </a:ln>
        </p:spPr>
      </p:sp>
      <p:sp>
        <p:nvSpPr>
          <p:cNvPr id="510"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lnSpc>
                <a:spcPct val="100000"/>
              </a:lnSpc>
              <a:buNone/>
            </a:pPr>
            <a:r>
              <a:rPr b="0" lang="zh-CN" sz="2000" spc="-1" strike="noStrike">
                <a:solidFill>
                  <a:srgbClr val="000000"/>
                </a:solidFill>
                <a:latin typeface="Arial"/>
              </a:rPr>
              <a:t>模板来自于 </a:t>
            </a:r>
            <a:r>
              <a:rPr b="0" lang="en-US" sz="2000" spc="-1" strike="noStrike">
                <a:solidFill>
                  <a:srgbClr val="000000"/>
                </a:solidFill>
                <a:latin typeface="Arial"/>
              </a:rPr>
              <a:t>http://docer.wps.cn</a:t>
            </a:r>
            <a:endParaRPr b="0" lang="en-US" sz="2000" spc="-1" strike="noStrike">
              <a:solidFill>
                <a:srgbClr val="000000"/>
              </a:solidFill>
              <a:latin typeface="Arial"/>
            </a:endParaRPr>
          </a:p>
        </p:txBody>
      </p:sp>
      <p:sp>
        <p:nvSpPr>
          <p:cNvPr id="511"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A12F0AA-B04D-423F-9A7F-F2812449E48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040" cy="3085920"/>
          </a:xfrm>
          <a:prstGeom prst="rect">
            <a:avLst/>
          </a:prstGeom>
          <a:ln w="0">
            <a:noFill/>
          </a:ln>
        </p:spPr>
      </p:sp>
      <p:sp>
        <p:nvSpPr>
          <p:cNvPr id="513"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lnSpc>
                <a:spcPct val="100000"/>
              </a:lnSpc>
              <a:buNone/>
            </a:pPr>
            <a:r>
              <a:rPr b="0" lang="zh-CN" sz="2000" spc="-1" strike="noStrike">
                <a:solidFill>
                  <a:srgbClr val="000000"/>
                </a:solidFill>
                <a:latin typeface="Arial"/>
              </a:rPr>
              <a:t>模板来自于 </a:t>
            </a:r>
            <a:r>
              <a:rPr b="0" lang="en-US" sz="2000" spc="-1" strike="noStrike">
                <a:solidFill>
                  <a:srgbClr val="000000"/>
                </a:solidFill>
                <a:latin typeface="Arial"/>
              </a:rPr>
              <a:t>http://docer.wps.cn</a:t>
            </a:r>
            <a:endParaRPr b="0" lang="en-US" sz="2000" spc="-1" strike="noStrike">
              <a:solidFill>
                <a:srgbClr val="000000"/>
              </a:solidFill>
              <a:latin typeface="Arial"/>
            </a:endParaRPr>
          </a:p>
        </p:txBody>
      </p:sp>
      <p:sp>
        <p:nvSpPr>
          <p:cNvPr id="514"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CA5A2D9-4F4E-4991-BF71-DF0C8877471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040" cy="3085920"/>
          </a:xfrm>
          <a:prstGeom prst="rect">
            <a:avLst/>
          </a:prstGeom>
          <a:ln w="0">
            <a:noFill/>
          </a:ln>
        </p:spPr>
      </p:sp>
      <p:sp>
        <p:nvSpPr>
          <p:cNvPr id="507"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lnSpc>
                <a:spcPct val="100000"/>
              </a:lnSpc>
              <a:buNone/>
            </a:pPr>
            <a:r>
              <a:rPr b="0" lang="zh-CN" sz="2000" spc="-1" strike="noStrike">
                <a:solidFill>
                  <a:srgbClr val="000000"/>
                </a:solidFill>
                <a:latin typeface="Arial"/>
              </a:rPr>
              <a:t>模板来自于 </a:t>
            </a:r>
            <a:r>
              <a:rPr b="0" lang="en-US" sz="2000" spc="-1" strike="noStrike">
                <a:solidFill>
                  <a:srgbClr val="000000"/>
                </a:solidFill>
                <a:latin typeface="Arial"/>
              </a:rPr>
              <a:t>http://docer.wps.cn</a:t>
            </a:r>
            <a:endParaRPr b="0" lang="en-US" sz="2000" spc="-1" strike="noStrike">
              <a:solidFill>
                <a:srgbClr val="000000"/>
              </a:solidFill>
              <a:latin typeface="Arial"/>
            </a:endParaRPr>
          </a:p>
        </p:txBody>
      </p:sp>
      <p:sp>
        <p:nvSpPr>
          <p:cNvPr id="508"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0536C54-7F14-4BDA-B590-4343C67DF74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EB3A-470E-4099-A312-B1E1A2BD3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2327-5860-435E-9811-A0A37A40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9F0EB-DD92-4CEE-B9A2-4CEC14C88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10FF-2E31-4FB6-BBE0-F1A91504D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C14F6-0C49-452B-AF79-95A04C480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8B4C3-E57A-4324-A948-F91EF9CFB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56F83-7EBD-408F-BE08-DC0764AF0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AE4E0-FAAE-4911-BA90-6305D5808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98520-FAC7-4B6F-B932-9A80B32C2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B9975-F959-4A13-A4AE-459178752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CB1F6-B563-4F92-95CC-FA2F5206C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F794-86B6-4716-9139-6B0943EE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E9986-C6A7-4DF1-8315-AA647B23F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7CC1E-F505-4506-A81F-B436F5BD1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22D60-39AE-4F55-ACD9-906D7BC97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B59FD-A2C9-4928-94CA-12E3EEF4E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856DD-1D4B-4382-B71F-EB68CA2AE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36928C-A1FE-48BB-ABCB-E55C8E757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4F1BB8-52C7-4847-84C8-B89E6C04C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FEE38-7BBD-486D-A753-E4D2886F7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ABFE4-73B7-41D2-A690-7648F4EDC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9087DD-DB78-4F5C-898B-C14459020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EBFE-E4A3-4EC8-A8C8-AA8479291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E5693-A260-42E8-A48A-E53130319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874AF-15B0-4022-A8EE-A814FE2D1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07A3E-846F-4FDA-949D-62E1F324F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6E646-330C-4861-82D6-8A29A7262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C17C2-9973-4FB2-8470-2D5C9D5FE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60002-CBBF-47C8-BB13-96A3F5297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46DF0-2971-4B39-8B6F-DBF13CF6F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B09B6-53E5-4FFB-904F-1BE7BDFD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58BC-39EF-48BB-98D2-285C5678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6E82-0D3E-480C-976B-59518FFE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4324-72C8-42C3-964B-FFD05205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3F21-07A7-4C3C-B4C2-43831B56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C06F4-45EF-4A8E-ACF8-ED8C696CF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9F3908F-18BD-43A1-BC6F-F4D4A38D0D9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F342D4E-8C28-4E6B-8585-DB319BDEC3F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F37EF72-98A4-40D4-A7C7-62F22BC43F5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eeppt.com/moban/" TargetMode="External"/><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1270080" y="2394720"/>
            <a:ext cx="9237960" cy="2234880"/>
          </a:xfrm>
          <a:prstGeom prst="rect">
            <a:avLst/>
          </a:prstGeom>
          <a:solidFill>
            <a:schemeClr val="bg1">
              <a:lumMod val="50000"/>
              <a:alpha val="3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文本框 2"/>
          <p:cNvSpPr/>
          <p:nvPr/>
        </p:nvSpPr>
        <p:spPr>
          <a:xfrm>
            <a:off x="1969560" y="1079640"/>
            <a:ext cx="365112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ffffff"/>
                </a:solidFill>
                <a:latin typeface="华文行楷"/>
                <a:ea typeface="华文行楷"/>
              </a:rPr>
              <a:t>企业口号 企业文化</a:t>
            </a:r>
            <a:endParaRPr b="0" lang="en-US" sz="5400" spc="-1" strike="noStrike">
              <a:solidFill>
                <a:srgbClr val="000000"/>
              </a:solidFill>
              <a:latin typeface="Arial"/>
            </a:endParaRPr>
          </a:p>
        </p:txBody>
      </p:sp>
      <p:sp>
        <p:nvSpPr>
          <p:cNvPr id="131" name="矩形 3"/>
          <p:cNvSpPr/>
          <p:nvPr/>
        </p:nvSpPr>
        <p:spPr>
          <a:xfrm>
            <a:off x="994320" y="2394720"/>
            <a:ext cx="151920" cy="2234880"/>
          </a:xfrm>
          <a:prstGeom prst="rect">
            <a:avLst/>
          </a:prstGeom>
          <a:solidFill>
            <a:schemeClr val="tx1">
              <a:alpha val="48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2" name="矩形 4"/>
          <p:cNvSpPr/>
          <p:nvPr/>
        </p:nvSpPr>
        <p:spPr>
          <a:xfrm>
            <a:off x="906840" y="1764360"/>
            <a:ext cx="5480280" cy="470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500" spc="-1" strike="noStrike">
                <a:solidFill>
                  <a:srgbClr val="ffffff"/>
                </a:solidFill>
                <a:latin typeface="Britannic Bold"/>
              </a:rPr>
              <a:t>Corporate slogan Corporate culture</a:t>
            </a:r>
            <a:endParaRPr b="0" lang="en-US" sz="2500" spc="-1" strike="noStrike">
              <a:solidFill>
                <a:srgbClr val="000000"/>
              </a:solidFill>
              <a:latin typeface="Arial"/>
            </a:endParaRPr>
          </a:p>
        </p:txBody>
      </p:sp>
      <p:sp>
        <p:nvSpPr>
          <p:cNvPr id="133" name="文本框 5"/>
          <p:cNvSpPr/>
          <p:nvPr/>
        </p:nvSpPr>
        <p:spPr>
          <a:xfrm>
            <a:off x="4145400" y="3097080"/>
            <a:ext cx="62326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工作汇报年终总结海滩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下载</a:t>
            </a:r>
            <a:endParaRPr b="0" lang="en-US" sz="4000" spc="-1" strike="noStrike">
              <a:solidFill>
                <a:srgbClr val="000000"/>
              </a:solidFill>
              <a:latin typeface="Arial"/>
            </a:endParaRPr>
          </a:p>
        </p:txBody>
      </p:sp>
      <p:sp>
        <p:nvSpPr>
          <p:cNvPr id="134" name="KSO_Shape"/>
          <p:cNvSpPr/>
          <p:nvPr/>
        </p:nvSpPr>
        <p:spPr>
          <a:xfrm>
            <a:off x="1669320" y="3147840"/>
            <a:ext cx="710640" cy="729000"/>
          </a:xfrm>
          <a:custGeom>
            <a:avLst/>
            <a:gdLst>
              <a:gd name="textAreaLeft" fmla="*/ 0 w 710640"/>
              <a:gd name="textAreaRight" fmla="*/ 711000 w 710640"/>
              <a:gd name="textAreaTop" fmla="*/ 0 h 729000"/>
              <a:gd name="textAreaBottom" fmla="*/ 729360 h 729000"/>
            </a:gdLst>
            <a:ahLst/>
            <a:rect l="textAreaLeft" t="textAreaTop" r="textAreaRight" b="textAreaBottom"/>
            <a:pathLst>
              <a:path w="2482850" h="2544763">
                <a:moveTo>
                  <a:pt x="86902" y="1822450"/>
                </a:moveTo>
                <a:lnTo>
                  <a:pt x="91667" y="1822450"/>
                </a:lnTo>
                <a:lnTo>
                  <a:pt x="370523" y="1822450"/>
                </a:lnTo>
                <a:lnTo>
                  <a:pt x="375061" y="1822450"/>
                </a:lnTo>
                <a:lnTo>
                  <a:pt x="379826" y="1822903"/>
                </a:lnTo>
                <a:lnTo>
                  <a:pt x="384137" y="1823583"/>
                </a:lnTo>
                <a:lnTo>
                  <a:pt x="388902" y="1824262"/>
                </a:lnTo>
                <a:lnTo>
                  <a:pt x="393213" y="1825395"/>
                </a:lnTo>
                <a:lnTo>
                  <a:pt x="397524" y="1826527"/>
                </a:lnTo>
                <a:lnTo>
                  <a:pt x="401835" y="1827886"/>
                </a:lnTo>
                <a:lnTo>
                  <a:pt x="405919" y="1829472"/>
                </a:lnTo>
                <a:lnTo>
                  <a:pt x="409777" y="1831284"/>
                </a:lnTo>
                <a:lnTo>
                  <a:pt x="414088" y="1833322"/>
                </a:lnTo>
                <a:lnTo>
                  <a:pt x="417718" y="1835587"/>
                </a:lnTo>
                <a:lnTo>
                  <a:pt x="421575" y="1838079"/>
                </a:lnTo>
                <a:lnTo>
                  <a:pt x="425206" y="1840344"/>
                </a:lnTo>
                <a:lnTo>
                  <a:pt x="428609" y="1843062"/>
                </a:lnTo>
                <a:lnTo>
                  <a:pt x="432013" y="1846006"/>
                </a:lnTo>
                <a:lnTo>
                  <a:pt x="434962" y="1848951"/>
                </a:lnTo>
                <a:lnTo>
                  <a:pt x="438139" y="1852122"/>
                </a:lnTo>
                <a:lnTo>
                  <a:pt x="441088" y="1855293"/>
                </a:lnTo>
                <a:lnTo>
                  <a:pt x="443584" y="1858691"/>
                </a:lnTo>
                <a:lnTo>
                  <a:pt x="446307" y="1862315"/>
                </a:lnTo>
                <a:lnTo>
                  <a:pt x="448803" y="1865939"/>
                </a:lnTo>
                <a:lnTo>
                  <a:pt x="450845" y="1869789"/>
                </a:lnTo>
                <a:lnTo>
                  <a:pt x="452887" y="1873640"/>
                </a:lnTo>
                <a:lnTo>
                  <a:pt x="454702" y="1877490"/>
                </a:lnTo>
                <a:lnTo>
                  <a:pt x="456291" y="1881794"/>
                </a:lnTo>
                <a:lnTo>
                  <a:pt x="457879" y="1885871"/>
                </a:lnTo>
                <a:lnTo>
                  <a:pt x="459240" y="1890401"/>
                </a:lnTo>
                <a:lnTo>
                  <a:pt x="460148" y="1894704"/>
                </a:lnTo>
                <a:lnTo>
                  <a:pt x="461055" y="1899008"/>
                </a:lnTo>
                <a:lnTo>
                  <a:pt x="461509" y="1903538"/>
                </a:lnTo>
                <a:lnTo>
                  <a:pt x="461736" y="1908068"/>
                </a:lnTo>
                <a:lnTo>
                  <a:pt x="461963" y="1912824"/>
                </a:lnTo>
                <a:lnTo>
                  <a:pt x="461736" y="1917581"/>
                </a:lnTo>
                <a:lnTo>
                  <a:pt x="461509" y="1922111"/>
                </a:lnTo>
                <a:lnTo>
                  <a:pt x="461055" y="1926641"/>
                </a:lnTo>
                <a:lnTo>
                  <a:pt x="460148" y="1930945"/>
                </a:lnTo>
                <a:lnTo>
                  <a:pt x="459240" y="1935248"/>
                </a:lnTo>
                <a:lnTo>
                  <a:pt x="457879" y="1939778"/>
                </a:lnTo>
                <a:lnTo>
                  <a:pt x="456291" y="1943855"/>
                </a:lnTo>
                <a:lnTo>
                  <a:pt x="454702" y="1947932"/>
                </a:lnTo>
                <a:lnTo>
                  <a:pt x="452887" y="1952009"/>
                </a:lnTo>
                <a:lnTo>
                  <a:pt x="450845" y="1955860"/>
                </a:lnTo>
                <a:lnTo>
                  <a:pt x="448803" y="1959710"/>
                </a:lnTo>
                <a:lnTo>
                  <a:pt x="446307" y="1963334"/>
                </a:lnTo>
                <a:lnTo>
                  <a:pt x="443584" y="1966958"/>
                </a:lnTo>
                <a:lnTo>
                  <a:pt x="441088" y="1970356"/>
                </a:lnTo>
                <a:lnTo>
                  <a:pt x="438139" y="1973753"/>
                </a:lnTo>
                <a:lnTo>
                  <a:pt x="434962" y="1976698"/>
                </a:lnTo>
                <a:lnTo>
                  <a:pt x="432013" y="1979643"/>
                </a:lnTo>
                <a:lnTo>
                  <a:pt x="428609" y="1982587"/>
                </a:lnTo>
                <a:lnTo>
                  <a:pt x="425206" y="1985305"/>
                </a:lnTo>
                <a:lnTo>
                  <a:pt x="421575" y="1988023"/>
                </a:lnTo>
                <a:lnTo>
                  <a:pt x="417718" y="1990288"/>
                </a:lnTo>
                <a:lnTo>
                  <a:pt x="414088" y="1992327"/>
                </a:lnTo>
                <a:lnTo>
                  <a:pt x="409777" y="1994365"/>
                </a:lnTo>
                <a:lnTo>
                  <a:pt x="405919" y="1996177"/>
                </a:lnTo>
                <a:lnTo>
                  <a:pt x="401835" y="1997763"/>
                </a:lnTo>
                <a:lnTo>
                  <a:pt x="397524" y="1999348"/>
                </a:lnTo>
                <a:lnTo>
                  <a:pt x="393213" y="2000254"/>
                </a:lnTo>
                <a:lnTo>
                  <a:pt x="388902" y="2001387"/>
                </a:lnTo>
                <a:lnTo>
                  <a:pt x="384137" y="2002066"/>
                </a:lnTo>
                <a:lnTo>
                  <a:pt x="379826" y="2002972"/>
                </a:lnTo>
                <a:lnTo>
                  <a:pt x="375061" y="2003199"/>
                </a:lnTo>
                <a:lnTo>
                  <a:pt x="370523" y="2003425"/>
                </a:lnTo>
                <a:lnTo>
                  <a:pt x="91667" y="2003425"/>
                </a:lnTo>
                <a:lnTo>
                  <a:pt x="86902" y="2003199"/>
                </a:lnTo>
                <a:lnTo>
                  <a:pt x="82364" y="2002972"/>
                </a:lnTo>
                <a:lnTo>
                  <a:pt x="77599" y="2002066"/>
                </a:lnTo>
                <a:lnTo>
                  <a:pt x="73288" y="2001387"/>
                </a:lnTo>
                <a:lnTo>
                  <a:pt x="68750" y="2000254"/>
                </a:lnTo>
                <a:lnTo>
                  <a:pt x="64439" y="1999348"/>
                </a:lnTo>
                <a:lnTo>
                  <a:pt x="60128" y="1997763"/>
                </a:lnTo>
                <a:lnTo>
                  <a:pt x="56044" y="1996177"/>
                </a:lnTo>
                <a:lnTo>
                  <a:pt x="51959" y="1994365"/>
                </a:lnTo>
                <a:lnTo>
                  <a:pt x="48102" y="1992327"/>
                </a:lnTo>
                <a:lnTo>
                  <a:pt x="44245" y="1990288"/>
                </a:lnTo>
                <a:lnTo>
                  <a:pt x="40615" y="1988023"/>
                </a:lnTo>
                <a:lnTo>
                  <a:pt x="36757" y="1985305"/>
                </a:lnTo>
                <a:lnTo>
                  <a:pt x="33581" y="1982587"/>
                </a:lnTo>
                <a:lnTo>
                  <a:pt x="30177" y="1979643"/>
                </a:lnTo>
                <a:lnTo>
                  <a:pt x="26774" y="1976698"/>
                </a:lnTo>
                <a:lnTo>
                  <a:pt x="23824" y="1973753"/>
                </a:lnTo>
                <a:lnTo>
                  <a:pt x="21101" y="1970356"/>
                </a:lnTo>
                <a:lnTo>
                  <a:pt x="18152" y="1966958"/>
                </a:lnTo>
                <a:lnTo>
                  <a:pt x="15656" y="1963334"/>
                </a:lnTo>
                <a:lnTo>
                  <a:pt x="13160" y="1959710"/>
                </a:lnTo>
                <a:lnTo>
                  <a:pt x="11118" y="1955860"/>
                </a:lnTo>
                <a:lnTo>
                  <a:pt x="9076" y="1952009"/>
                </a:lnTo>
                <a:lnTo>
                  <a:pt x="7261" y="1947932"/>
                </a:lnTo>
                <a:lnTo>
                  <a:pt x="5446" y="1943855"/>
                </a:lnTo>
                <a:lnTo>
                  <a:pt x="4084" y="1939778"/>
                </a:lnTo>
                <a:lnTo>
                  <a:pt x="2950" y="1935248"/>
                </a:lnTo>
                <a:lnTo>
                  <a:pt x="1815" y="1930945"/>
                </a:lnTo>
                <a:lnTo>
                  <a:pt x="1134" y="1926641"/>
                </a:lnTo>
                <a:lnTo>
                  <a:pt x="454" y="1922111"/>
                </a:lnTo>
                <a:lnTo>
                  <a:pt x="0" y="1917581"/>
                </a:lnTo>
                <a:lnTo>
                  <a:pt x="0" y="1912824"/>
                </a:lnTo>
                <a:lnTo>
                  <a:pt x="0" y="1908068"/>
                </a:lnTo>
                <a:lnTo>
                  <a:pt x="454" y="1903538"/>
                </a:lnTo>
                <a:lnTo>
                  <a:pt x="1134" y="1899008"/>
                </a:lnTo>
                <a:lnTo>
                  <a:pt x="1815" y="1894704"/>
                </a:lnTo>
                <a:lnTo>
                  <a:pt x="2950" y="1890401"/>
                </a:lnTo>
                <a:lnTo>
                  <a:pt x="4084" y="1885871"/>
                </a:lnTo>
                <a:lnTo>
                  <a:pt x="5446" y="1881794"/>
                </a:lnTo>
                <a:lnTo>
                  <a:pt x="7261" y="1877490"/>
                </a:lnTo>
                <a:lnTo>
                  <a:pt x="9076" y="1873640"/>
                </a:lnTo>
                <a:lnTo>
                  <a:pt x="11118" y="1869789"/>
                </a:lnTo>
                <a:lnTo>
                  <a:pt x="13160" y="1865939"/>
                </a:lnTo>
                <a:lnTo>
                  <a:pt x="15656" y="1862315"/>
                </a:lnTo>
                <a:lnTo>
                  <a:pt x="18152" y="1858691"/>
                </a:lnTo>
                <a:lnTo>
                  <a:pt x="21101" y="1855293"/>
                </a:lnTo>
                <a:lnTo>
                  <a:pt x="23824" y="1852122"/>
                </a:lnTo>
                <a:lnTo>
                  <a:pt x="26774" y="1848951"/>
                </a:lnTo>
                <a:lnTo>
                  <a:pt x="30177" y="1846006"/>
                </a:lnTo>
                <a:lnTo>
                  <a:pt x="33581" y="1843062"/>
                </a:lnTo>
                <a:lnTo>
                  <a:pt x="36757" y="1840344"/>
                </a:lnTo>
                <a:lnTo>
                  <a:pt x="40615" y="1838079"/>
                </a:lnTo>
                <a:lnTo>
                  <a:pt x="44245" y="1835587"/>
                </a:lnTo>
                <a:lnTo>
                  <a:pt x="48102" y="1833322"/>
                </a:lnTo>
                <a:lnTo>
                  <a:pt x="51959" y="1831284"/>
                </a:lnTo>
                <a:lnTo>
                  <a:pt x="56044" y="1829472"/>
                </a:lnTo>
                <a:lnTo>
                  <a:pt x="60128" y="1827886"/>
                </a:lnTo>
                <a:lnTo>
                  <a:pt x="64439" y="1826527"/>
                </a:lnTo>
                <a:lnTo>
                  <a:pt x="68750" y="1825395"/>
                </a:lnTo>
                <a:lnTo>
                  <a:pt x="73288" y="1824262"/>
                </a:lnTo>
                <a:lnTo>
                  <a:pt x="77599" y="1823583"/>
                </a:lnTo>
                <a:lnTo>
                  <a:pt x="82364" y="1822903"/>
                </a:lnTo>
                <a:lnTo>
                  <a:pt x="86902" y="1822450"/>
                </a:lnTo>
                <a:close/>
                <a:moveTo>
                  <a:pt x="2282825" y="1685925"/>
                </a:moveTo>
                <a:lnTo>
                  <a:pt x="2412173" y="1745797"/>
                </a:lnTo>
                <a:lnTo>
                  <a:pt x="2422140" y="1750786"/>
                </a:lnTo>
                <a:lnTo>
                  <a:pt x="2426897" y="1753281"/>
                </a:lnTo>
                <a:lnTo>
                  <a:pt x="2431201" y="1756002"/>
                </a:lnTo>
                <a:lnTo>
                  <a:pt x="2435732" y="1758724"/>
                </a:lnTo>
                <a:lnTo>
                  <a:pt x="2439583" y="1761445"/>
                </a:lnTo>
                <a:lnTo>
                  <a:pt x="2443434" y="1764166"/>
                </a:lnTo>
                <a:lnTo>
                  <a:pt x="2447058" y="1767115"/>
                </a:lnTo>
                <a:lnTo>
                  <a:pt x="2450456" y="1769836"/>
                </a:lnTo>
                <a:lnTo>
                  <a:pt x="2453628" y="1773011"/>
                </a:lnTo>
                <a:lnTo>
                  <a:pt x="2456799" y="1775959"/>
                </a:lnTo>
                <a:lnTo>
                  <a:pt x="2459518" y="1778907"/>
                </a:lnTo>
                <a:lnTo>
                  <a:pt x="2462236" y="1782082"/>
                </a:lnTo>
                <a:lnTo>
                  <a:pt x="2464501" y="1785257"/>
                </a:lnTo>
                <a:lnTo>
                  <a:pt x="2466766" y="1788432"/>
                </a:lnTo>
                <a:lnTo>
                  <a:pt x="2468805" y="1791607"/>
                </a:lnTo>
                <a:lnTo>
                  <a:pt x="2470617" y="1794782"/>
                </a:lnTo>
                <a:lnTo>
                  <a:pt x="2472430" y="1798184"/>
                </a:lnTo>
                <a:lnTo>
                  <a:pt x="2474015" y="1801813"/>
                </a:lnTo>
                <a:lnTo>
                  <a:pt x="2475601" y="1805215"/>
                </a:lnTo>
                <a:lnTo>
                  <a:pt x="2477866" y="1812245"/>
                </a:lnTo>
                <a:lnTo>
                  <a:pt x="2479905" y="1819502"/>
                </a:lnTo>
                <a:lnTo>
                  <a:pt x="2481264" y="1826986"/>
                </a:lnTo>
                <a:lnTo>
                  <a:pt x="2482397" y="1834697"/>
                </a:lnTo>
                <a:lnTo>
                  <a:pt x="2482850" y="1842861"/>
                </a:lnTo>
                <a:lnTo>
                  <a:pt x="2482850" y="1851025"/>
                </a:lnTo>
                <a:lnTo>
                  <a:pt x="2482850" y="2068286"/>
                </a:lnTo>
                <a:lnTo>
                  <a:pt x="2482850" y="2076677"/>
                </a:lnTo>
                <a:lnTo>
                  <a:pt x="2482397" y="2084388"/>
                </a:lnTo>
                <a:lnTo>
                  <a:pt x="2481264" y="2092326"/>
                </a:lnTo>
                <a:lnTo>
                  <a:pt x="2479905" y="2099810"/>
                </a:lnTo>
                <a:lnTo>
                  <a:pt x="2477866" y="2107067"/>
                </a:lnTo>
                <a:lnTo>
                  <a:pt x="2475601" y="2114324"/>
                </a:lnTo>
                <a:lnTo>
                  <a:pt x="2474015" y="2117726"/>
                </a:lnTo>
                <a:lnTo>
                  <a:pt x="2472430" y="2121127"/>
                </a:lnTo>
                <a:lnTo>
                  <a:pt x="2470617" y="2124302"/>
                </a:lnTo>
                <a:lnTo>
                  <a:pt x="2468805" y="2127704"/>
                </a:lnTo>
                <a:lnTo>
                  <a:pt x="2466766" y="2130879"/>
                </a:lnTo>
                <a:lnTo>
                  <a:pt x="2464501" y="2134281"/>
                </a:lnTo>
                <a:lnTo>
                  <a:pt x="2462236" y="2137456"/>
                </a:lnTo>
                <a:lnTo>
                  <a:pt x="2459518" y="2140404"/>
                </a:lnTo>
                <a:lnTo>
                  <a:pt x="2456799" y="2143352"/>
                </a:lnTo>
                <a:lnTo>
                  <a:pt x="2453628" y="2146527"/>
                </a:lnTo>
                <a:lnTo>
                  <a:pt x="2450456" y="2149249"/>
                </a:lnTo>
                <a:lnTo>
                  <a:pt x="2447058" y="2152197"/>
                </a:lnTo>
                <a:lnTo>
                  <a:pt x="2443434" y="2154919"/>
                </a:lnTo>
                <a:lnTo>
                  <a:pt x="2439583" y="2157867"/>
                </a:lnTo>
                <a:lnTo>
                  <a:pt x="2435732" y="2160588"/>
                </a:lnTo>
                <a:lnTo>
                  <a:pt x="2431201" y="2163310"/>
                </a:lnTo>
                <a:lnTo>
                  <a:pt x="2426897" y="2165804"/>
                </a:lnTo>
                <a:lnTo>
                  <a:pt x="2422140" y="2168526"/>
                </a:lnTo>
                <a:lnTo>
                  <a:pt x="2412173" y="2173742"/>
                </a:lnTo>
                <a:lnTo>
                  <a:pt x="2282825" y="2233613"/>
                </a:lnTo>
                <a:lnTo>
                  <a:pt x="2282825" y="1685925"/>
                </a:lnTo>
                <a:close/>
                <a:moveTo>
                  <a:pt x="1216535" y="1436687"/>
                </a:moveTo>
                <a:lnTo>
                  <a:pt x="1274253" y="1436687"/>
                </a:lnTo>
                <a:lnTo>
                  <a:pt x="1303338" y="1492629"/>
                </a:lnTo>
                <a:lnTo>
                  <a:pt x="1283046" y="1513778"/>
                </a:lnTo>
                <a:lnTo>
                  <a:pt x="1301534" y="1642262"/>
                </a:lnTo>
                <a:lnTo>
                  <a:pt x="1245394" y="1852612"/>
                </a:lnTo>
                <a:lnTo>
                  <a:pt x="1189254" y="1642262"/>
                </a:lnTo>
                <a:lnTo>
                  <a:pt x="1207516" y="1513778"/>
                </a:lnTo>
                <a:lnTo>
                  <a:pt x="1187450" y="1492629"/>
                </a:lnTo>
                <a:lnTo>
                  <a:pt x="1216535" y="1436687"/>
                </a:lnTo>
                <a:close/>
                <a:moveTo>
                  <a:pt x="1389519" y="1379537"/>
                </a:moveTo>
                <a:lnTo>
                  <a:pt x="1401785" y="1384753"/>
                </a:lnTo>
                <a:lnTo>
                  <a:pt x="1434494" y="1399267"/>
                </a:lnTo>
                <a:lnTo>
                  <a:pt x="1456754" y="1409246"/>
                </a:lnTo>
                <a:lnTo>
                  <a:pt x="1481740" y="1420358"/>
                </a:lnTo>
                <a:lnTo>
                  <a:pt x="1508543" y="1432831"/>
                </a:lnTo>
                <a:lnTo>
                  <a:pt x="1536709" y="1446212"/>
                </a:lnTo>
                <a:lnTo>
                  <a:pt x="1565557" y="1460273"/>
                </a:lnTo>
                <a:lnTo>
                  <a:pt x="1593950" y="1474560"/>
                </a:lnTo>
                <a:lnTo>
                  <a:pt x="1607578" y="1481818"/>
                </a:lnTo>
                <a:lnTo>
                  <a:pt x="1621207" y="1489075"/>
                </a:lnTo>
                <a:lnTo>
                  <a:pt x="1634154" y="1496105"/>
                </a:lnTo>
                <a:lnTo>
                  <a:pt x="1646647" y="1503362"/>
                </a:lnTo>
                <a:lnTo>
                  <a:pt x="1658232" y="1509939"/>
                </a:lnTo>
                <a:lnTo>
                  <a:pt x="1669589" y="1516743"/>
                </a:lnTo>
                <a:lnTo>
                  <a:pt x="1679584" y="1523546"/>
                </a:lnTo>
                <a:lnTo>
                  <a:pt x="1688669" y="1529669"/>
                </a:lnTo>
                <a:lnTo>
                  <a:pt x="1697074" y="1536019"/>
                </a:lnTo>
                <a:lnTo>
                  <a:pt x="1704115" y="1541689"/>
                </a:lnTo>
                <a:lnTo>
                  <a:pt x="1707068" y="1544410"/>
                </a:lnTo>
                <a:lnTo>
                  <a:pt x="1709794" y="1547132"/>
                </a:lnTo>
                <a:lnTo>
                  <a:pt x="1712292" y="1549853"/>
                </a:lnTo>
                <a:lnTo>
                  <a:pt x="1714337" y="1552348"/>
                </a:lnTo>
                <a:lnTo>
                  <a:pt x="1716154" y="1554843"/>
                </a:lnTo>
                <a:lnTo>
                  <a:pt x="1717971" y="1558018"/>
                </a:lnTo>
                <a:lnTo>
                  <a:pt x="1721833" y="1565048"/>
                </a:lnTo>
                <a:lnTo>
                  <a:pt x="1726148" y="1573666"/>
                </a:lnTo>
                <a:lnTo>
                  <a:pt x="1730237" y="1583191"/>
                </a:lnTo>
                <a:lnTo>
                  <a:pt x="1734326" y="1593850"/>
                </a:lnTo>
                <a:lnTo>
                  <a:pt x="1738869" y="1605416"/>
                </a:lnTo>
                <a:lnTo>
                  <a:pt x="1742957" y="1618116"/>
                </a:lnTo>
                <a:lnTo>
                  <a:pt x="1747500" y="1631269"/>
                </a:lnTo>
                <a:lnTo>
                  <a:pt x="1751816" y="1645330"/>
                </a:lnTo>
                <a:lnTo>
                  <a:pt x="1755904" y="1659844"/>
                </a:lnTo>
                <a:lnTo>
                  <a:pt x="1764536" y="1690460"/>
                </a:lnTo>
                <a:lnTo>
                  <a:pt x="1773168" y="1722210"/>
                </a:lnTo>
                <a:lnTo>
                  <a:pt x="1781118" y="1753960"/>
                </a:lnTo>
                <a:lnTo>
                  <a:pt x="1788613" y="1785030"/>
                </a:lnTo>
                <a:lnTo>
                  <a:pt x="1795428" y="1814966"/>
                </a:lnTo>
                <a:lnTo>
                  <a:pt x="1801561" y="1842180"/>
                </a:lnTo>
                <a:lnTo>
                  <a:pt x="1807012" y="1866446"/>
                </a:lnTo>
                <a:lnTo>
                  <a:pt x="1814962" y="1902505"/>
                </a:lnTo>
                <a:lnTo>
                  <a:pt x="1817688" y="1916112"/>
                </a:lnTo>
                <a:lnTo>
                  <a:pt x="1244600" y="1916112"/>
                </a:lnTo>
                <a:lnTo>
                  <a:pt x="1389519" y="1379537"/>
                </a:lnTo>
                <a:close/>
                <a:moveTo>
                  <a:pt x="1100083" y="1379537"/>
                </a:moveTo>
                <a:lnTo>
                  <a:pt x="1244600" y="1916112"/>
                </a:lnTo>
                <a:lnTo>
                  <a:pt x="673100" y="1916112"/>
                </a:lnTo>
                <a:lnTo>
                  <a:pt x="676045" y="1902505"/>
                </a:lnTo>
                <a:lnTo>
                  <a:pt x="683520" y="1866446"/>
                </a:lnTo>
                <a:lnTo>
                  <a:pt x="688956" y="1842180"/>
                </a:lnTo>
                <a:lnTo>
                  <a:pt x="695072" y="1814966"/>
                </a:lnTo>
                <a:lnTo>
                  <a:pt x="702094" y="1785030"/>
                </a:lnTo>
                <a:lnTo>
                  <a:pt x="709569" y="1753960"/>
                </a:lnTo>
                <a:lnTo>
                  <a:pt x="717724" y="1722210"/>
                </a:lnTo>
                <a:lnTo>
                  <a:pt x="725878" y="1690460"/>
                </a:lnTo>
                <a:lnTo>
                  <a:pt x="734486" y="1659844"/>
                </a:lnTo>
                <a:lnTo>
                  <a:pt x="739016" y="1645330"/>
                </a:lnTo>
                <a:lnTo>
                  <a:pt x="743320" y="1631269"/>
                </a:lnTo>
                <a:lnTo>
                  <a:pt x="747397" y="1618116"/>
                </a:lnTo>
                <a:lnTo>
                  <a:pt x="751928" y="1605416"/>
                </a:lnTo>
                <a:lnTo>
                  <a:pt x="756005" y="1593850"/>
                </a:lnTo>
                <a:lnTo>
                  <a:pt x="760082" y="1583191"/>
                </a:lnTo>
                <a:lnTo>
                  <a:pt x="764386" y="1573666"/>
                </a:lnTo>
                <a:lnTo>
                  <a:pt x="768463" y="1565048"/>
                </a:lnTo>
                <a:lnTo>
                  <a:pt x="772314" y="1558018"/>
                </a:lnTo>
                <a:lnTo>
                  <a:pt x="774353" y="1554843"/>
                </a:lnTo>
                <a:lnTo>
                  <a:pt x="776165" y="1552348"/>
                </a:lnTo>
                <a:lnTo>
                  <a:pt x="778203" y="1549853"/>
                </a:lnTo>
                <a:lnTo>
                  <a:pt x="780695" y="1547132"/>
                </a:lnTo>
                <a:lnTo>
                  <a:pt x="783413" y="1544410"/>
                </a:lnTo>
                <a:lnTo>
                  <a:pt x="786358" y="1541689"/>
                </a:lnTo>
                <a:lnTo>
                  <a:pt x="793607" y="1536019"/>
                </a:lnTo>
                <a:lnTo>
                  <a:pt x="801535" y="1529669"/>
                </a:lnTo>
                <a:lnTo>
                  <a:pt x="810822" y="1523546"/>
                </a:lnTo>
                <a:lnTo>
                  <a:pt x="821015" y="1516743"/>
                </a:lnTo>
                <a:lnTo>
                  <a:pt x="831888" y="1509939"/>
                </a:lnTo>
                <a:lnTo>
                  <a:pt x="843893" y="1503362"/>
                </a:lnTo>
                <a:lnTo>
                  <a:pt x="855898" y="1496105"/>
                </a:lnTo>
                <a:lnTo>
                  <a:pt x="869263" y="1489075"/>
                </a:lnTo>
                <a:lnTo>
                  <a:pt x="882401" y="1481818"/>
                </a:lnTo>
                <a:lnTo>
                  <a:pt x="896445" y="1474560"/>
                </a:lnTo>
                <a:lnTo>
                  <a:pt x="924533" y="1460273"/>
                </a:lnTo>
                <a:lnTo>
                  <a:pt x="953074" y="1446212"/>
                </a:lnTo>
                <a:lnTo>
                  <a:pt x="981388" y="1432831"/>
                </a:lnTo>
                <a:lnTo>
                  <a:pt x="1008117" y="1420358"/>
                </a:lnTo>
                <a:lnTo>
                  <a:pt x="1033034" y="1409246"/>
                </a:lnTo>
                <a:lnTo>
                  <a:pt x="1055006" y="1399267"/>
                </a:lnTo>
                <a:lnTo>
                  <a:pt x="1088077" y="1384753"/>
                </a:lnTo>
                <a:lnTo>
                  <a:pt x="1100083" y="1379537"/>
                </a:lnTo>
                <a:close/>
                <a:moveTo>
                  <a:pt x="2282825" y="1227137"/>
                </a:moveTo>
                <a:lnTo>
                  <a:pt x="2412173" y="1287064"/>
                </a:lnTo>
                <a:lnTo>
                  <a:pt x="2422140" y="1292285"/>
                </a:lnTo>
                <a:lnTo>
                  <a:pt x="2426897" y="1294782"/>
                </a:lnTo>
                <a:lnTo>
                  <a:pt x="2431201" y="1297505"/>
                </a:lnTo>
                <a:lnTo>
                  <a:pt x="2435732" y="1300002"/>
                </a:lnTo>
                <a:lnTo>
                  <a:pt x="2439583" y="1302953"/>
                </a:lnTo>
                <a:lnTo>
                  <a:pt x="2443434" y="1305677"/>
                </a:lnTo>
                <a:lnTo>
                  <a:pt x="2447058" y="1308628"/>
                </a:lnTo>
                <a:lnTo>
                  <a:pt x="2450456" y="1311352"/>
                </a:lnTo>
                <a:lnTo>
                  <a:pt x="2453628" y="1314303"/>
                </a:lnTo>
                <a:lnTo>
                  <a:pt x="2456799" y="1317481"/>
                </a:lnTo>
                <a:lnTo>
                  <a:pt x="2459518" y="1320205"/>
                </a:lnTo>
                <a:lnTo>
                  <a:pt x="2462236" y="1323383"/>
                </a:lnTo>
                <a:lnTo>
                  <a:pt x="2464501" y="1326561"/>
                </a:lnTo>
                <a:lnTo>
                  <a:pt x="2466766" y="1329966"/>
                </a:lnTo>
                <a:lnTo>
                  <a:pt x="2468805" y="1332917"/>
                </a:lnTo>
                <a:lnTo>
                  <a:pt x="2470617" y="1336322"/>
                </a:lnTo>
                <a:lnTo>
                  <a:pt x="2472430" y="1339727"/>
                </a:lnTo>
                <a:lnTo>
                  <a:pt x="2474015" y="1343132"/>
                </a:lnTo>
                <a:lnTo>
                  <a:pt x="2475601" y="1346537"/>
                </a:lnTo>
                <a:lnTo>
                  <a:pt x="2477866" y="1353800"/>
                </a:lnTo>
                <a:lnTo>
                  <a:pt x="2479905" y="1361064"/>
                </a:lnTo>
                <a:lnTo>
                  <a:pt x="2481264" y="1368555"/>
                </a:lnTo>
                <a:lnTo>
                  <a:pt x="2482397" y="1376273"/>
                </a:lnTo>
                <a:lnTo>
                  <a:pt x="2482850" y="1384445"/>
                </a:lnTo>
                <a:lnTo>
                  <a:pt x="2482850" y="1392390"/>
                </a:lnTo>
                <a:lnTo>
                  <a:pt x="2482850" y="1609852"/>
                </a:lnTo>
                <a:lnTo>
                  <a:pt x="2482850" y="1618251"/>
                </a:lnTo>
                <a:lnTo>
                  <a:pt x="2482397" y="1626196"/>
                </a:lnTo>
                <a:lnTo>
                  <a:pt x="2481264" y="1634141"/>
                </a:lnTo>
                <a:lnTo>
                  <a:pt x="2479905" y="1641632"/>
                </a:lnTo>
                <a:lnTo>
                  <a:pt x="2477866" y="1648895"/>
                </a:lnTo>
                <a:lnTo>
                  <a:pt x="2475601" y="1655932"/>
                </a:lnTo>
                <a:lnTo>
                  <a:pt x="2474015" y="1659337"/>
                </a:lnTo>
                <a:lnTo>
                  <a:pt x="2472430" y="1662969"/>
                </a:lnTo>
                <a:lnTo>
                  <a:pt x="2470617" y="1666147"/>
                </a:lnTo>
                <a:lnTo>
                  <a:pt x="2468805" y="1669325"/>
                </a:lnTo>
                <a:lnTo>
                  <a:pt x="2466766" y="1672730"/>
                </a:lnTo>
                <a:lnTo>
                  <a:pt x="2464501" y="1675908"/>
                </a:lnTo>
                <a:lnTo>
                  <a:pt x="2462236" y="1678859"/>
                </a:lnTo>
                <a:lnTo>
                  <a:pt x="2459518" y="1682037"/>
                </a:lnTo>
                <a:lnTo>
                  <a:pt x="2456799" y="1685215"/>
                </a:lnTo>
                <a:lnTo>
                  <a:pt x="2453628" y="1687939"/>
                </a:lnTo>
                <a:lnTo>
                  <a:pt x="2450456" y="1691117"/>
                </a:lnTo>
                <a:lnTo>
                  <a:pt x="2447058" y="1694068"/>
                </a:lnTo>
                <a:lnTo>
                  <a:pt x="2443434" y="1696792"/>
                </a:lnTo>
                <a:lnTo>
                  <a:pt x="2439583" y="1699743"/>
                </a:lnTo>
                <a:lnTo>
                  <a:pt x="2435732" y="1702240"/>
                </a:lnTo>
                <a:lnTo>
                  <a:pt x="2431201" y="1705190"/>
                </a:lnTo>
                <a:lnTo>
                  <a:pt x="2426897" y="1707687"/>
                </a:lnTo>
                <a:lnTo>
                  <a:pt x="2422140" y="1710411"/>
                </a:lnTo>
                <a:lnTo>
                  <a:pt x="2412173" y="1715178"/>
                </a:lnTo>
                <a:lnTo>
                  <a:pt x="2406963" y="1717675"/>
                </a:lnTo>
                <a:lnTo>
                  <a:pt x="2282825" y="1660018"/>
                </a:lnTo>
                <a:lnTo>
                  <a:pt x="2282825" y="1227137"/>
                </a:lnTo>
                <a:close/>
                <a:moveTo>
                  <a:pt x="91667" y="1182687"/>
                </a:moveTo>
                <a:lnTo>
                  <a:pt x="370523" y="1182687"/>
                </a:lnTo>
                <a:lnTo>
                  <a:pt x="375061" y="1182913"/>
                </a:lnTo>
                <a:lnTo>
                  <a:pt x="379826" y="1183140"/>
                </a:lnTo>
                <a:lnTo>
                  <a:pt x="384137" y="1183593"/>
                </a:lnTo>
                <a:lnTo>
                  <a:pt x="388902" y="1184499"/>
                </a:lnTo>
                <a:lnTo>
                  <a:pt x="393213" y="1185405"/>
                </a:lnTo>
                <a:lnTo>
                  <a:pt x="397524" y="1186764"/>
                </a:lnTo>
                <a:lnTo>
                  <a:pt x="401835" y="1188349"/>
                </a:lnTo>
                <a:lnTo>
                  <a:pt x="405919" y="1189935"/>
                </a:lnTo>
                <a:lnTo>
                  <a:pt x="409777" y="1191747"/>
                </a:lnTo>
                <a:lnTo>
                  <a:pt x="414088" y="1193785"/>
                </a:lnTo>
                <a:lnTo>
                  <a:pt x="417718" y="1195824"/>
                </a:lnTo>
                <a:lnTo>
                  <a:pt x="421575" y="1198089"/>
                </a:lnTo>
                <a:lnTo>
                  <a:pt x="425206" y="1200807"/>
                </a:lnTo>
                <a:lnTo>
                  <a:pt x="428609" y="1203298"/>
                </a:lnTo>
                <a:lnTo>
                  <a:pt x="432013" y="1206243"/>
                </a:lnTo>
                <a:lnTo>
                  <a:pt x="434962" y="1209187"/>
                </a:lnTo>
                <a:lnTo>
                  <a:pt x="438139" y="1212358"/>
                </a:lnTo>
                <a:lnTo>
                  <a:pt x="441088" y="1215756"/>
                </a:lnTo>
                <a:lnTo>
                  <a:pt x="443584" y="1219154"/>
                </a:lnTo>
                <a:lnTo>
                  <a:pt x="446307" y="1222778"/>
                </a:lnTo>
                <a:lnTo>
                  <a:pt x="448803" y="1226402"/>
                </a:lnTo>
                <a:lnTo>
                  <a:pt x="450845" y="1230026"/>
                </a:lnTo>
                <a:lnTo>
                  <a:pt x="452887" y="1233876"/>
                </a:lnTo>
                <a:lnTo>
                  <a:pt x="454702" y="1237953"/>
                </a:lnTo>
                <a:lnTo>
                  <a:pt x="456291" y="1242257"/>
                </a:lnTo>
                <a:lnTo>
                  <a:pt x="457879" y="1246334"/>
                </a:lnTo>
                <a:lnTo>
                  <a:pt x="459240" y="1250411"/>
                </a:lnTo>
                <a:lnTo>
                  <a:pt x="460148" y="1254941"/>
                </a:lnTo>
                <a:lnTo>
                  <a:pt x="461055" y="1259471"/>
                </a:lnTo>
                <a:lnTo>
                  <a:pt x="461509" y="1264001"/>
                </a:lnTo>
                <a:lnTo>
                  <a:pt x="461736" y="1268531"/>
                </a:lnTo>
                <a:lnTo>
                  <a:pt x="461963" y="1273061"/>
                </a:lnTo>
                <a:lnTo>
                  <a:pt x="461736" y="1277591"/>
                </a:lnTo>
                <a:lnTo>
                  <a:pt x="461509" y="1282348"/>
                </a:lnTo>
                <a:lnTo>
                  <a:pt x="461055" y="1286651"/>
                </a:lnTo>
                <a:lnTo>
                  <a:pt x="460148" y="1291408"/>
                </a:lnTo>
                <a:lnTo>
                  <a:pt x="459240" y="1295485"/>
                </a:lnTo>
                <a:lnTo>
                  <a:pt x="457879" y="1300015"/>
                </a:lnTo>
                <a:lnTo>
                  <a:pt x="456291" y="1304092"/>
                </a:lnTo>
                <a:lnTo>
                  <a:pt x="454702" y="1308169"/>
                </a:lnTo>
                <a:lnTo>
                  <a:pt x="452887" y="1312246"/>
                </a:lnTo>
                <a:lnTo>
                  <a:pt x="450845" y="1316323"/>
                </a:lnTo>
                <a:lnTo>
                  <a:pt x="448803" y="1319947"/>
                </a:lnTo>
                <a:lnTo>
                  <a:pt x="446307" y="1323571"/>
                </a:lnTo>
                <a:lnTo>
                  <a:pt x="443584" y="1327195"/>
                </a:lnTo>
                <a:lnTo>
                  <a:pt x="441088" y="1330366"/>
                </a:lnTo>
                <a:lnTo>
                  <a:pt x="438139" y="1333764"/>
                </a:lnTo>
                <a:lnTo>
                  <a:pt x="434962" y="1336935"/>
                </a:lnTo>
                <a:lnTo>
                  <a:pt x="432013" y="1340106"/>
                </a:lnTo>
                <a:lnTo>
                  <a:pt x="428609" y="1342824"/>
                </a:lnTo>
                <a:lnTo>
                  <a:pt x="425206" y="1345542"/>
                </a:lnTo>
                <a:lnTo>
                  <a:pt x="421575" y="1348033"/>
                </a:lnTo>
                <a:lnTo>
                  <a:pt x="417718" y="1350525"/>
                </a:lnTo>
                <a:lnTo>
                  <a:pt x="414088" y="1352563"/>
                </a:lnTo>
                <a:lnTo>
                  <a:pt x="409777" y="1354602"/>
                </a:lnTo>
                <a:lnTo>
                  <a:pt x="405919" y="1356414"/>
                </a:lnTo>
                <a:lnTo>
                  <a:pt x="401835" y="1357999"/>
                </a:lnTo>
                <a:lnTo>
                  <a:pt x="397524" y="1359585"/>
                </a:lnTo>
                <a:lnTo>
                  <a:pt x="393213" y="1360717"/>
                </a:lnTo>
                <a:lnTo>
                  <a:pt x="388902" y="1361850"/>
                </a:lnTo>
                <a:lnTo>
                  <a:pt x="384137" y="1362529"/>
                </a:lnTo>
                <a:lnTo>
                  <a:pt x="379826" y="1363209"/>
                </a:lnTo>
                <a:lnTo>
                  <a:pt x="375061" y="1363435"/>
                </a:lnTo>
                <a:lnTo>
                  <a:pt x="370523" y="1363662"/>
                </a:lnTo>
                <a:lnTo>
                  <a:pt x="91667" y="1363662"/>
                </a:lnTo>
                <a:lnTo>
                  <a:pt x="86902" y="1363435"/>
                </a:lnTo>
                <a:lnTo>
                  <a:pt x="82364" y="1363209"/>
                </a:lnTo>
                <a:lnTo>
                  <a:pt x="77599" y="1362529"/>
                </a:lnTo>
                <a:lnTo>
                  <a:pt x="73288" y="1361850"/>
                </a:lnTo>
                <a:lnTo>
                  <a:pt x="68750" y="1360717"/>
                </a:lnTo>
                <a:lnTo>
                  <a:pt x="64439" y="1359585"/>
                </a:lnTo>
                <a:lnTo>
                  <a:pt x="60128" y="1357999"/>
                </a:lnTo>
                <a:lnTo>
                  <a:pt x="56044" y="1356414"/>
                </a:lnTo>
                <a:lnTo>
                  <a:pt x="51959" y="1354602"/>
                </a:lnTo>
                <a:lnTo>
                  <a:pt x="48102" y="1352563"/>
                </a:lnTo>
                <a:lnTo>
                  <a:pt x="44245" y="1350525"/>
                </a:lnTo>
                <a:lnTo>
                  <a:pt x="40615" y="1348033"/>
                </a:lnTo>
                <a:lnTo>
                  <a:pt x="36757" y="1345542"/>
                </a:lnTo>
                <a:lnTo>
                  <a:pt x="33581" y="1342824"/>
                </a:lnTo>
                <a:lnTo>
                  <a:pt x="30177" y="1340106"/>
                </a:lnTo>
                <a:lnTo>
                  <a:pt x="26774" y="1336935"/>
                </a:lnTo>
                <a:lnTo>
                  <a:pt x="23824" y="1333764"/>
                </a:lnTo>
                <a:lnTo>
                  <a:pt x="21101" y="1330366"/>
                </a:lnTo>
                <a:lnTo>
                  <a:pt x="18152" y="1327195"/>
                </a:lnTo>
                <a:lnTo>
                  <a:pt x="15656" y="1323571"/>
                </a:lnTo>
                <a:lnTo>
                  <a:pt x="13160" y="1319947"/>
                </a:lnTo>
                <a:lnTo>
                  <a:pt x="11118" y="1316323"/>
                </a:lnTo>
                <a:lnTo>
                  <a:pt x="9076" y="1312246"/>
                </a:lnTo>
                <a:lnTo>
                  <a:pt x="7261" y="1308169"/>
                </a:lnTo>
                <a:lnTo>
                  <a:pt x="5446" y="1304092"/>
                </a:lnTo>
                <a:lnTo>
                  <a:pt x="4084" y="1300015"/>
                </a:lnTo>
                <a:lnTo>
                  <a:pt x="2950" y="1295485"/>
                </a:lnTo>
                <a:lnTo>
                  <a:pt x="1815" y="1291408"/>
                </a:lnTo>
                <a:lnTo>
                  <a:pt x="1134" y="1286651"/>
                </a:lnTo>
                <a:lnTo>
                  <a:pt x="454" y="1282348"/>
                </a:lnTo>
                <a:lnTo>
                  <a:pt x="0" y="1277591"/>
                </a:lnTo>
                <a:lnTo>
                  <a:pt x="0" y="1273061"/>
                </a:lnTo>
                <a:lnTo>
                  <a:pt x="0" y="1268531"/>
                </a:lnTo>
                <a:lnTo>
                  <a:pt x="454" y="1264001"/>
                </a:lnTo>
                <a:lnTo>
                  <a:pt x="1134" y="1259471"/>
                </a:lnTo>
                <a:lnTo>
                  <a:pt x="1815" y="1254941"/>
                </a:lnTo>
                <a:lnTo>
                  <a:pt x="2950" y="1250411"/>
                </a:lnTo>
                <a:lnTo>
                  <a:pt x="4084" y="1246334"/>
                </a:lnTo>
                <a:lnTo>
                  <a:pt x="5446" y="1242257"/>
                </a:lnTo>
                <a:lnTo>
                  <a:pt x="7261" y="1237953"/>
                </a:lnTo>
                <a:lnTo>
                  <a:pt x="9076" y="1233876"/>
                </a:lnTo>
                <a:lnTo>
                  <a:pt x="11118" y="1230026"/>
                </a:lnTo>
                <a:lnTo>
                  <a:pt x="13160" y="1226402"/>
                </a:lnTo>
                <a:lnTo>
                  <a:pt x="15656" y="1222778"/>
                </a:lnTo>
                <a:lnTo>
                  <a:pt x="18152" y="1219154"/>
                </a:lnTo>
                <a:lnTo>
                  <a:pt x="21101" y="1215756"/>
                </a:lnTo>
                <a:lnTo>
                  <a:pt x="23824" y="1212358"/>
                </a:lnTo>
                <a:lnTo>
                  <a:pt x="26774" y="1209187"/>
                </a:lnTo>
                <a:lnTo>
                  <a:pt x="30177" y="1206243"/>
                </a:lnTo>
                <a:lnTo>
                  <a:pt x="33581" y="1203298"/>
                </a:lnTo>
                <a:lnTo>
                  <a:pt x="36757" y="1200807"/>
                </a:lnTo>
                <a:lnTo>
                  <a:pt x="40615" y="1198089"/>
                </a:lnTo>
                <a:lnTo>
                  <a:pt x="44245" y="1195824"/>
                </a:lnTo>
                <a:lnTo>
                  <a:pt x="48102" y="1193785"/>
                </a:lnTo>
                <a:lnTo>
                  <a:pt x="51959" y="1191747"/>
                </a:lnTo>
                <a:lnTo>
                  <a:pt x="56044" y="1189935"/>
                </a:lnTo>
                <a:lnTo>
                  <a:pt x="60128" y="1188349"/>
                </a:lnTo>
                <a:lnTo>
                  <a:pt x="64439" y="1186764"/>
                </a:lnTo>
                <a:lnTo>
                  <a:pt x="68750" y="1185405"/>
                </a:lnTo>
                <a:lnTo>
                  <a:pt x="73288" y="1184499"/>
                </a:lnTo>
                <a:lnTo>
                  <a:pt x="77599" y="1183593"/>
                </a:lnTo>
                <a:lnTo>
                  <a:pt x="82364" y="1183140"/>
                </a:lnTo>
                <a:lnTo>
                  <a:pt x="86902" y="1182913"/>
                </a:lnTo>
                <a:lnTo>
                  <a:pt x="91667" y="1182687"/>
                </a:lnTo>
                <a:close/>
                <a:moveTo>
                  <a:pt x="1390308" y="782637"/>
                </a:moveTo>
                <a:lnTo>
                  <a:pt x="1396663" y="786039"/>
                </a:lnTo>
                <a:lnTo>
                  <a:pt x="1402564" y="789894"/>
                </a:lnTo>
                <a:lnTo>
                  <a:pt x="1408238" y="793749"/>
                </a:lnTo>
                <a:lnTo>
                  <a:pt x="1413458" y="797831"/>
                </a:lnTo>
                <a:lnTo>
                  <a:pt x="1418225" y="802140"/>
                </a:lnTo>
                <a:lnTo>
                  <a:pt x="1422764" y="806449"/>
                </a:lnTo>
                <a:lnTo>
                  <a:pt x="1426849" y="811439"/>
                </a:lnTo>
                <a:lnTo>
                  <a:pt x="1430935" y="816428"/>
                </a:lnTo>
                <a:lnTo>
                  <a:pt x="1434112" y="821417"/>
                </a:lnTo>
                <a:lnTo>
                  <a:pt x="1437516" y="826860"/>
                </a:lnTo>
                <a:lnTo>
                  <a:pt x="1440694" y="832303"/>
                </a:lnTo>
                <a:lnTo>
                  <a:pt x="1443644" y="837973"/>
                </a:lnTo>
                <a:lnTo>
                  <a:pt x="1446141" y="843869"/>
                </a:lnTo>
                <a:lnTo>
                  <a:pt x="1448411" y="849765"/>
                </a:lnTo>
                <a:lnTo>
                  <a:pt x="1450907" y="856115"/>
                </a:lnTo>
                <a:lnTo>
                  <a:pt x="1452723" y="862465"/>
                </a:lnTo>
                <a:lnTo>
                  <a:pt x="1454766" y="869042"/>
                </a:lnTo>
                <a:lnTo>
                  <a:pt x="1456581" y="875846"/>
                </a:lnTo>
                <a:lnTo>
                  <a:pt x="1459759" y="889680"/>
                </a:lnTo>
                <a:lnTo>
                  <a:pt x="1462709" y="904648"/>
                </a:lnTo>
                <a:lnTo>
                  <a:pt x="1465433" y="919842"/>
                </a:lnTo>
                <a:lnTo>
                  <a:pt x="1471107" y="952499"/>
                </a:lnTo>
                <a:lnTo>
                  <a:pt x="1474284" y="969735"/>
                </a:lnTo>
                <a:lnTo>
                  <a:pt x="1477462" y="987424"/>
                </a:lnTo>
                <a:lnTo>
                  <a:pt x="1483363" y="988785"/>
                </a:lnTo>
                <a:lnTo>
                  <a:pt x="1489037" y="990146"/>
                </a:lnTo>
                <a:lnTo>
                  <a:pt x="1494484" y="992187"/>
                </a:lnTo>
                <a:lnTo>
                  <a:pt x="1499704" y="994228"/>
                </a:lnTo>
                <a:lnTo>
                  <a:pt x="1504470" y="996949"/>
                </a:lnTo>
                <a:lnTo>
                  <a:pt x="1509237" y="999671"/>
                </a:lnTo>
                <a:lnTo>
                  <a:pt x="1513549" y="1003073"/>
                </a:lnTo>
                <a:lnTo>
                  <a:pt x="1517407" y="1006474"/>
                </a:lnTo>
                <a:lnTo>
                  <a:pt x="1521493" y="1010330"/>
                </a:lnTo>
                <a:lnTo>
                  <a:pt x="1525124" y="1014185"/>
                </a:lnTo>
                <a:lnTo>
                  <a:pt x="1528075" y="1018721"/>
                </a:lnTo>
                <a:lnTo>
                  <a:pt x="1530798" y="1023030"/>
                </a:lnTo>
                <a:lnTo>
                  <a:pt x="1533068" y="1027792"/>
                </a:lnTo>
                <a:lnTo>
                  <a:pt x="1535110" y="1032555"/>
                </a:lnTo>
                <a:lnTo>
                  <a:pt x="1536472" y="1037771"/>
                </a:lnTo>
                <a:lnTo>
                  <a:pt x="1537607" y="1043214"/>
                </a:lnTo>
                <a:lnTo>
                  <a:pt x="1538288" y="1048657"/>
                </a:lnTo>
                <a:lnTo>
                  <a:pt x="1538288" y="1054326"/>
                </a:lnTo>
                <a:lnTo>
                  <a:pt x="1537834" y="1060223"/>
                </a:lnTo>
                <a:lnTo>
                  <a:pt x="1536699" y="1066119"/>
                </a:lnTo>
                <a:lnTo>
                  <a:pt x="1535110" y="1072016"/>
                </a:lnTo>
                <a:lnTo>
                  <a:pt x="1533068" y="1078366"/>
                </a:lnTo>
                <a:lnTo>
                  <a:pt x="1530117" y="1084489"/>
                </a:lnTo>
                <a:lnTo>
                  <a:pt x="1526940" y="1091066"/>
                </a:lnTo>
                <a:lnTo>
                  <a:pt x="1522854" y="1097416"/>
                </a:lnTo>
                <a:lnTo>
                  <a:pt x="1518315" y="1103766"/>
                </a:lnTo>
                <a:lnTo>
                  <a:pt x="1512868" y="1110342"/>
                </a:lnTo>
                <a:lnTo>
                  <a:pt x="1506967" y="1116919"/>
                </a:lnTo>
                <a:lnTo>
                  <a:pt x="1500158" y="1123496"/>
                </a:lnTo>
                <a:lnTo>
                  <a:pt x="1492668" y="1129846"/>
                </a:lnTo>
                <a:lnTo>
                  <a:pt x="1484271" y="1136650"/>
                </a:lnTo>
                <a:lnTo>
                  <a:pt x="1474965" y="1143000"/>
                </a:lnTo>
                <a:lnTo>
                  <a:pt x="1472696" y="1155019"/>
                </a:lnTo>
                <a:lnTo>
                  <a:pt x="1469745" y="1167266"/>
                </a:lnTo>
                <a:lnTo>
                  <a:pt x="1466568" y="1179059"/>
                </a:lnTo>
                <a:lnTo>
                  <a:pt x="1462936" y="1190851"/>
                </a:lnTo>
                <a:lnTo>
                  <a:pt x="1459078" y="1202417"/>
                </a:lnTo>
                <a:lnTo>
                  <a:pt x="1454993" y="1213984"/>
                </a:lnTo>
                <a:lnTo>
                  <a:pt x="1450680" y="1225323"/>
                </a:lnTo>
                <a:lnTo>
                  <a:pt x="1445687" y="1236435"/>
                </a:lnTo>
                <a:lnTo>
                  <a:pt x="1440467" y="1247321"/>
                </a:lnTo>
                <a:lnTo>
                  <a:pt x="1435020" y="1257980"/>
                </a:lnTo>
                <a:lnTo>
                  <a:pt x="1429346" y="1268412"/>
                </a:lnTo>
                <a:lnTo>
                  <a:pt x="1423218" y="1278391"/>
                </a:lnTo>
                <a:lnTo>
                  <a:pt x="1416863" y="1288369"/>
                </a:lnTo>
                <a:lnTo>
                  <a:pt x="1410281" y="1297894"/>
                </a:lnTo>
                <a:lnTo>
                  <a:pt x="1403245" y="1307193"/>
                </a:lnTo>
                <a:lnTo>
                  <a:pt x="1395982" y="1316037"/>
                </a:lnTo>
                <a:lnTo>
                  <a:pt x="1388719" y="1324655"/>
                </a:lnTo>
                <a:lnTo>
                  <a:pt x="1381003" y="1332593"/>
                </a:lnTo>
                <a:lnTo>
                  <a:pt x="1373059" y="1340077"/>
                </a:lnTo>
                <a:lnTo>
                  <a:pt x="1364661" y="1347334"/>
                </a:lnTo>
                <a:lnTo>
                  <a:pt x="1356037" y="1354364"/>
                </a:lnTo>
                <a:lnTo>
                  <a:pt x="1347639" y="1360714"/>
                </a:lnTo>
                <a:lnTo>
                  <a:pt x="1338561" y="1366610"/>
                </a:lnTo>
                <a:lnTo>
                  <a:pt x="1329028" y="1371827"/>
                </a:lnTo>
                <a:lnTo>
                  <a:pt x="1319723" y="1376816"/>
                </a:lnTo>
                <a:lnTo>
                  <a:pt x="1310190" y="1380898"/>
                </a:lnTo>
                <a:lnTo>
                  <a:pt x="1300431" y="1384527"/>
                </a:lnTo>
                <a:lnTo>
                  <a:pt x="1295211" y="1386341"/>
                </a:lnTo>
                <a:lnTo>
                  <a:pt x="1290218" y="1387702"/>
                </a:lnTo>
                <a:lnTo>
                  <a:pt x="1284997" y="1389062"/>
                </a:lnTo>
                <a:lnTo>
                  <a:pt x="1279777" y="1390196"/>
                </a:lnTo>
                <a:lnTo>
                  <a:pt x="1274557" y="1391330"/>
                </a:lnTo>
                <a:lnTo>
                  <a:pt x="1269110" y="1392010"/>
                </a:lnTo>
                <a:lnTo>
                  <a:pt x="1264117" y="1392691"/>
                </a:lnTo>
                <a:lnTo>
                  <a:pt x="1258670" y="1393371"/>
                </a:lnTo>
                <a:lnTo>
                  <a:pt x="1253223" y="1393825"/>
                </a:lnTo>
                <a:lnTo>
                  <a:pt x="1247776" y="1393825"/>
                </a:lnTo>
                <a:lnTo>
                  <a:pt x="1242328" y="1393825"/>
                </a:lnTo>
                <a:lnTo>
                  <a:pt x="1236881" y="1393371"/>
                </a:lnTo>
                <a:lnTo>
                  <a:pt x="1231661" y="1392691"/>
                </a:lnTo>
                <a:lnTo>
                  <a:pt x="1226214" y="1392010"/>
                </a:lnTo>
                <a:lnTo>
                  <a:pt x="1220994" y="1391330"/>
                </a:lnTo>
                <a:lnTo>
                  <a:pt x="1215774" y="1390196"/>
                </a:lnTo>
                <a:lnTo>
                  <a:pt x="1210554" y="1389062"/>
                </a:lnTo>
                <a:lnTo>
                  <a:pt x="1205333" y="1387702"/>
                </a:lnTo>
                <a:lnTo>
                  <a:pt x="1200113" y="1386341"/>
                </a:lnTo>
                <a:lnTo>
                  <a:pt x="1195347" y="1384527"/>
                </a:lnTo>
                <a:lnTo>
                  <a:pt x="1185361" y="1380898"/>
                </a:lnTo>
                <a:lnTo>
                  <a:pt x="1175828" y="1376816"/>
                </a:lnTo>
                <a:lnTo>
                  <a:pt x="1166296" y="1371827"/>
                </a:lnTo>
                <a:lnTo>
                  <a:pt x="1157217" y="1366610"/>
                </a:lnTo>
                <a:lnTo>
                  <a:pt x="1148139" y="1360714"/>
                </a:lnTo>
                <a:lnTo>
                  <a:pt x="1139514" y="1354364"/>
                </a:lnTo>
                <a:lnTo>
                  <a:pt x="1130890" y="1347334"/>
                </a:lnTo>
                <a:lnTo>
                  <a:pt x="1122492" y="1340077"/>
                </a:lnTo>
                <a:lnTo>
                  <a:pt x="1114548" y="1332593"/>
                </a:lnTo>
                <a:lnTo>
                  <a:pt x="1106832" y="1324655"/>
                </a:lnTo>
                <a:lnTo>
                  <a:pt x="1099569" y="1316037"/>
                </a:lnTo>
                <a:lnTo>
                  <a:pt x="1092306" y="1307193"/>
                </a:lnTo>
                <a:lnTo>
                  <a:pt x="1085270" y="1297894"/>
                </a:lnTo>
                <a:lnTo>
                  <a:pt x="1078688" y="1288369"/>
                </a:lnTo>
                <a:lnTo>
                  <a:pt x="1072333" y="1278391"/>
                </a:lnTo>
                <a:lnTo>
                  <a:pt x="1066205" y="1268412"/>
                </a:lnTo>
                <a:lnTo>
                  <a:pt x="1060531" y="1257980"/>
                </a:lnTo>
                <a:lnTo>
                  <a:pt x="1055084" y="1247321"/>
                </a:lnTo>
                <a:lnTo>
                  <a:pt x="1049864" y="1236435"/>
                </a:lnTo>
                <a:lnTo>
                  <a:pt x="1045098" y="1225323"/>
                </a:lnTo>
                <a:lnTo>
                  <a:pt x="1040558" y="1213984"/>
                </a:lnTo>
                <a:lnTo>
                  <a:pt x="1036473" y="1202417"/>
                </a:lnTo>
                <a:lnTo>
                  <a:pt x="1032615" y="1190851"/>
                </a:lnTo>
                <a:lnTo>
                  <a:pt x="1028983" y="1179059"/>
                </a:lnTo>
                <a:lnTo>
                  <a:pt x="1025806" y="1167266"/>
                </a:lnTo>
                <a:lnTo>
                  <a:pt x="1022855" y="1155019"/>
                </a:lnTo>
                <a:lnTo>
                  <a:pt x="1020586" y="1143000"/>
                </a:lnTo>
                <a:lnTo>
                  <a:pt x="1011507" y="1136650"/>
                </a:lnTo>
                <a:lnTo>
                  <a:pt x="1003336" y="1129846"/>
                </a:lnTo>
                <a:lnTo>
                  <a:pt x="995620" y="1123496"/>
                </a:lnTo>
                <a:lnTo>
                  <a:pt x="988811" y="1116919"/>
                </a:lnTo>
                <a:lnTo>
                  <a:pt x="982683" y="1110342"/>
                </a:lnTo>
                <a:lnTo>
                  <a:pt x="977236" y="1103766"/>
                </a:lnTo>
                <a:lnTo>
                  <a:pt x="972696" y="1097416"/>
                </a:lnTo>
                <a:lnTo>
                  <a:pt x="968838" y="1091066"/>
                </a:lnTo>
                <a:lnTo>
                  <a:pt x="965434" y="1084489"/>
                </a:lnTo>
                <a:lnTo>
                  <a:pt x="962483" y="1078366"/>
                </a:lnTo>
                <a:lnTo>
                  <a:pt x="960440" y="1072016"/>
                </a:lnTo>
                <a:lnTo>
                  <a:pt x="958852" y="1066119"/>
                </a:lnTo>
                <a:lnTo>
                  <a:pt x="957944" y="1060223"/>
                </a:lnTo>
                <a:lnTo>
                  <a:pt x="957263" y="1054326"/>
                </a:lnTo>
                <a:lnTo>
                  <a:pt x="957263" y="1048657"/>
                </a:lnTo>
                <a:lnTo>
                  <a:pt x="958171" y="1043214"/>
                </a:lnTo>
                <a:lnTo>
                  <a:pt x="959079" y="1037771"/>
                </a:lnTo>
                <a:lnTo>
                  <a:pt x="960440" y="1032555"/>
                </a:lnTo>
                <a:lnTo>
                  <a:pt x="962483" y="1027792"/>
                </a:lnTo>
                <a:lnTo>
                  <a:pt x="964753" y="1023030"/>
                </a:lnTo>
                <a:lnTo>
                  <a:pt x="967476" y="1018721"/>
                </a:lnTo>
                <a:lnTo>
                  <a:pt x="970654" y="1014185"/>
                </a:lnTo>
                <a:lnTo>
                  <a:pt x="974285" y="1010330"/>
                </a:lnTo>
                <a:lnTo>
                  <a:pt x="978144" y="1006474"/>
                </a:lnTo>
                <a:lnTo>
                  <a:pt x="982002" y="1003073"/>
                </a:lnTo>
                <a:lnTo>
                  <a:pt x="986541" y="999671"/>
                </a:lnTo>
                <a:lnTo>
                  <a:pt x="991307" y="996949"/>
                </a:lnTo>
                <a:lnTo>
                  <a:pt x="996301" y="994228"/>
                </a:lnTo>
                <a:lnTo>
                  <a:pt x="1001521" y="992187"/>
                </a:lnTo>
                <a:lnTo>
                  <a:pt x="1006514" y="990146"/>
                </a:lnTo>
                <a:lnTo>
                  <a:pt x="1012415" y="988785"/>
                </a:lnTo>
                <a:lnTo>
                  <a:pt x="1018089" y="987424"/>
                </a:lnTo>
                <a:lnTo>
                  <a:pt x="1022401" y="964292"/>
                </a:lnTo>
                <a:lnTo>
                  <a:pt x="1026260" y="941840"/>
                </a:lnTo>
                <a:lnTo>
                  <a:pt x="1029891" y="920523"/>
                </a:lnTo>
                <a:lnTo>
                  <a:pt x="1033749" y="900339"/>
                </a:lnTo>
                <a:lnTo>
                  <a:pt x="1035792" y="890587"/>
                </a:lnTo>
                <a:lnTo>
                  <a:pt x="1037835" y="881289"/>
                </a:lnTo>
                <a:lnTo>
                  <a:pt x="1040104" y="872217"/>
                </a:lnTo>
                <a:lnTo>
                  <a:pt x="1042374" y="863373"/>
                </a:lnTo>
                <a:lnTo>
                  <a:pt x="1045325" y="854981"/>
                </a:lnTo>
                <a:lnTo>
                  <a:pt x="1048048" y="846817"/>
                </a:lnTo>
                <a:lnTo>
                  <a:pt x="1051453" y="838880"/>
                </a:lnTo>
                <a:lnTo>
                  <a:pt x="1055311" y="831396"/>
                </a:lnTo>
                <a:lnTo>
                  <a:pt x="1062574" y="834117"/>
                </a:lnTo>
                <a:lnTo>
                  <a:pt x="1072787" y="837065"/>
                </a:lnTo>
                <a:lnTo>
                  <a:pt x="1085270" y="840467"/>
                </a:lnTo>
                <a:lnTo>
                  <a:pt x="1092306" y="842281"/>
                </a:lnTo>
                <a:lnTo>
                  <a:pt x="1100023" y="843869"/>
                </a:lnTo>
                <a:lnTo>
                  <a:pt x="1108420" y="845456"/>
                </a:lnTo>
                <a:lnTo>
                  <a:pt x="1116818" y="847044"/>
                </a:lnTo>
                <a:lnTo>
                  <a:pt x="1126123" y="848178"/>
                </a:lnTo>
                <a:lnTo>
                  <a:pt x="1135883" y="849539"/>
                </a:lnTo>
                <a:lnTo>
                  <a:pt x="1145869" y="850673"/>
                </a:lnTo>
                <a:lnTo>
                  <a:pt x="1156309" y="851126"/>
                </a:lnTo>
                <a:lnTo>
                  <a:pt x="1167204" y="851580"/>
                </a:lnTo>
                <a:lnTo>
                  <a:pt x="1178552" y="851806"/>
                </a:lnTo>
                <a:lnTo>
                  <a:pt x="1190354" y="851580"/>
                </a:lnTo>
                <a:lnTo>
                  <a:pt x="1202156" y="851126"/>
                </a:lnTo>
                <a:lnTo>
                  <a:pt x="1214412" y="849992"/>
                </a:lnTo>
                <a:lnTo>
                  <a:pt x="1226895" y="848631"/>
                </a:lnTo>
                <a:lnTo>
                  <a:pt x="1239605" y="846364"/>
                </a:lnTo>
                <a:lnTo>
                  <a:pt x="1252542" y="844096"/>
                </a:lnTo>
                <a:lnTo>
                  <a:pt x="1265933" y="840921"/>
                </a:lnTo>
                <a:lnTo>
                  <a:pt x="1279323" y="837292"/>
                </a:lnTo>
                <a:lnTo>
                  <a:pt x="1292714" y="832983"/>
                </a:lnTo>
                <a:lnTo>
                  <a:pt x="1306559" y="827994"/>
                </a:lnTo>
                <a:lnTo>
                  <a:pt x="1313368" y="825499"/>
                </a:lnTo>
                <a:lnTo>
                  <a:pt x="1320404" y="822551"/>
                </a:lnTo>
                <a:lnTo>
                  <a:pt x="1327212" y="819603"/>
                </a:lnTo>
                <a:lnTo>
                  <a:pt x="1334248" y="816201"/>
                </a:lnTo>
                <a:lnTo>
                  <a:pt x="1341057" y="812799"/>
                </a:lnTo>
                <a:lnTo>
                  <a:pt x="1348093" y="809171"/>
                </a:lnTo>
                <a:lnTo>
                  <a:pt x="1355129" y="805315"/>
                </a:lnTo>
                <a:lnTo>
                  <a:pt x="1362165" y="801006"/>
                </a:lnTo>
                <a:lnTo>
                  <a:pt x="1369201" y="796924"/>
                </a:lnTo>
                <a:lnTo>
                  <a:pt x="1376463" y="792389"/>
                </a:lnTo>
                <a:lnTo>
                  <a:pt x="1383272" y="787626"/>
                </a:lnTo>
                <a:lnTo>
                  <a:pt x="1390308" y="782637"/>
                </a:lnTo>
                <a:close/>
                <a:moveTo>
                  <a:pt x="2282825" y="769937"/>
                </a:moveTo>
                <a:lnTo>
                  <a:pt x="2412173" y="829864"/>
                </a:lnTo>
                <a:lnTo>
                  <a:pt x="2422140" y="834858"/>
                </a:lnTo>
                <a:lnTo>
                  <a:pt x="2426897" y="837355"/>
                </a:lnTo>
                <a:lnTo>
                  <a:pt x="2431201" y="840078"/>
                </a:lnTo>
                <a:lnTo>
                  <a:pt x="2435732" y="842802"/>
                </a:lnTo>
                <a:lnTo>
                  <a:pt x="2439583" y="845526"/>
                </a:lnTo>
                <a:lnTo>
                  <a:pt x="2443434" y="848250"/>
                </a:lnTo>
                <a:lnTo>
                  <a:pt x="2447058" y="851201"/>
                </a:lnTo>
                <a:lnTo>
                  <a:pt x="2450456" y="853925"/>
                </a:lnTo>
                <a:lnTo>
                  <a:pt x="2453628" y="857103"/>
                </a:lnTo>
                <a:lnTo>
                  <a:pt x="2456799" y="860054"/>
                </a:lnTo>
                <a:lnTo>
                  <a:pt x="2459518" y="863005"/>
                </a:lnTo>
                <a:lnTo>
                  <a:pt x="2462236" y="866183"/>
                </a:lnTo>
                <a:lnTo>
                  <a:pt x="2464501" y="869361"/>
                </a:lnTo>
                <a:lnTo>
                  <a:pt x="2466766" y="872539"/>
                </a:lnTo>
                <a:lnTo>
                  <a:pt x="2468805" y="875717"/>
                </a:lnTo>
                <a:lnTo>
                  <a:pt x="2470617" y="878895"/>
                </a:lnTo>
                <a:lnTo>
                  <a:pt x="2472430" y="882300"/>
                </a:lnTo>
                <a:lnTo>
                  <a:pt x="2474015" y="885932"/>
                </a:lnTo>
                <a:lnTo>
                  <a:pt x="2475601" y="889337"/>
                </a:lnTo>
                <a:lnTo>
                  <a:pt x="2477866" y="896373"/>
                </a:lnTo>
                <a:lnTo>
                  <a:pt x="2479905" y="903637"/>
                </a:lnTo>
                <a:lnTo>
                  <a:pt x="2481264" y="911128"/>
                </a:lnTo>
                <a:lnTo>
                  <a:pt x="2482397" y="918846"/>
                </a:lnTo>
                <a:lnTo>
                  <a:pt x="2482850" y="927018"/>
                </a:lnTo>
                <a:lnTo>
                  <a:pt x="2482850" y="935190"/>
                </a:lnTo>
                <a:lnTo>
                  <a:pt x="2482850" y="1152652"/>
                </a:lnTo>
                <a:lnTo>
                  <a:pt x="2482850" y="1160824"/>
                </a:lnTo>
                <a:lnTo>
                  <a:pt x="2482397" y="1168768"/>
                </a:lnTo>
                <a:lnTo>
                  <a:pt x="2481264" y="1176486"/>
                </a:lnTo>
                <a:lnTo>
                  <a:pt x="2479905" y="1184204"/>
                </a:lnTo>
                <a:lnTo>
                  <a:pt x="2477866" y="1191468"/>
                </a:lnTo>
                <a:lnTo>
                  <a:pt x="2475601" y="1198732"/>
                </a:lnTo>
                <a:lnTo>
                  <a:pt x="2474015" y="1202137"/>
                </a:lnTo>
                <a:lnTo>
                  <a:pt x="2472430" y="1205315"/>
                </a:lnTo>
                <a:lnTo>
                  <a:pt x="2470617" y="1208720"/>
                </a:lnTo>
                <a:lnTo>
                  <a:pt x="2468805" y="1212125"/>
                </a:lnTo>
                <a:lnTo>
                  <a:pt x="2466766" y="1215303"/>
                </a:lnTo>
                <a:lnTo>
                  <a:pt x="2464501" y="1218708"/>
                </a:lnTo>
                <a:lnTo>
                  <a:pt x="2462236" y="1221658"/>
                </a:lnTo>
                <a:lnTo>
                  <a:pt x="2459518" y="1224836"/>
                </a:lnTo>
                <a:lnTo>
                  <a:pt x="2456799" y="1227787"/>
                </a:lnTo>
                <a:lnTo>
                  <a:pt x="2453628" y="1230738"/>
                </a:lnTo>
                <a:lnTo>
                  <a:pt x="2450456" y="1233689"/>
                </a:lnTo>
                <a:lnTo>
                  <a:pt x="2447058" y="1236640"/>
                </a:lnTo>
                <a:lnTo>
                  <a:pt x="2443434" y="1239364"/>
                </a:lnTo>
                <a:lnTo>
                  <a:pt x="2439583" y="1242315"/>
                </a:lnTo>
                <a:lnTo>
                  <a:pt x="2435732" y="1245039"/>
                </a:lnTo>
                <a:lnTo>
                  <a:pt x="2431201" y="1247763"/>
                </a:lnTo>
                <a:lnTo>
                  <a:pt x="2426897" y="1250260"/>
                </a:lnTo>
                <a:lnTo>
                  <a:pt x="2422140" y="1252984"/>
                </a:lnTo>
                <a:lnTo>
                  <a:pt x="2412173" y="1257978"/>
                </a:lnTo>
                <a:lnTo>
                  <a:pt x="2406963" y="1260475"/>
                </a:lnTo>
                <a:lnTo>
                  <a:pt x="2282825" y="1202818"/>
                </a:lnTo>
                <a:lnTo>
                  <a:pt x="2282825" y="769937"/>
                </a:lnTo>
                <a:close/>
                <a:moveTo>
                  <a:pt x="1247774" y="628650"/>
                </a:moveTo>
                <a:lnTo>
                  <a:pt x="1262265" y="628876"/>
                </a:lnTo>
                <a:lnTo>
                  <a:pt x="1276302" y="629556"/>
                </a:lnTo>
                <a:lnTo>
                  <a:pt x="1290113" y="631143"/>
                </a:lnTo>
                <a:lnTo>
                  <a:pt x="1303472" y="632956"/>
                </a:lnTo>
                <a:lnTo>
                  <a:pt x="1316830" y="635222"/>
                </a:lnTo>
                <a:lnTo>
                  <a:pt x="1329282" y="638169"/>
                </a:lnTo>
                <a:lnTo>
                  <a:pt x="1341282" y="641569"/>
                </a:lnTo>
                <a:lnTo>
                  <a:pt x="1353056" y="645195"/>
                </a:lnTo>
                <a:lnTo>
                  <a:pt x="1363923" y="649274"/>
                </a:lnTo>
                <a:lnTo>
                  <a:pt x="1374338" y="654034"/>
                </a:lnTo>
                <a:lnTo>
                  <a:pt x="1378866" y="656300"/>
                </a:lnTo>
                <a:lnTo>
                  <a:pt x="1383847" y="658794"/>
                </a:lnTo>
                <a:lnTo>
                  <a:pt x="1388149" y="661513"/>
                </a:lnTo>
                <a:lnTo>
                  <a:pt x="1392677" y="664006"/>
                </a:lnTo>
                <a:lnTo>
                  <a:pt x="1396753" y="666953"/>
                </a:lnTo>
                <a:lnTo>
                  <a:pt x="1400602" y="669672"/>
                </a:lnTo>
                <a:lnTo>
                  <a:pt x="1404451" y="672619"/>
                </a:lnTo>
                <a:lnTo>
                  <a:pt x="1407847" y="675565"/>
                </a:lnTo>
                <a:lnTo>
                  <a:pt x="1411243" y="678512"/>
                </a:lnTo>
                <a:lnTo>
                  <a:pt x="1414413" y="681685"/>
                </a:lnTo>
                <a:lnTo>
                  <a:pt x="1417130" y="685084"/>
                </a:lnTo>
                <a:lnTo>
                  <a:pt x="1419847" y="688257"/>
                </a:lnTo>
                <a:lnTo>
                  <a:pt x="1425507" y="688484"/>
                </a:lnTo>
                <a:lnTo>
                  <a:pt x="1430941" y="689164"/>
                </a:lnTo>
                <a:lnTo>
                  <a:pt x="1436148" y="690297"/>
                </a:lnTo>
                <a:lnTo>
                  <a:pt x="1441356" y="691430"/>
                </a:lnTo>
                <a:lnTo>
                  <a:pt x="1446110" y="693017"/>
                </a:lnTo>
                <a:lnTo>
                  <a:pt x="1450865" y="694830"/>
                </a:lnTo>
                <a:lnTo>
                  <a:pt x="1455167" y="697323"/>
                </a:lnTo>
                <a:lnTo>
                  <a:pt x="1459695" y="699816"/>
                </a:lnTo>
                <a:lnTo>
                  <a:pt x="1463544" y="702763"/>
                </a:lnTo>
                <a:lnTo>
                  <a:pt x="1467619" y="705709"/>
                </a:lnTo>
                <a:lnTo>
                  <a:pt x="1471242" y="708882"/>
                </a:lnTo>
                <a:lnTo>
                  <a:pt x="1474865" y="712508"/>
                </a:lnTo>
                <a:lnTo>
                  <a:pt x="1478261" y="716361"/>
                </a:lnTo>
                <a:lnTo>
                  <a:pt x="1481657" y="720668"/>
                </a:lnTo>
                <a:lnTo>
                  <a:pt x="1484827" y="724747"/>
                </a:lnTo>
                <a:lnTo>
                  <a:pt x="1487544" y="729053"/>
                </a:lnTo>
                <a:lnTo>
                  <a:pt x="1490487" y="733813"/>
                </a:lnTo>
                <a:lnTo>
                  <a:pt x="1492977" y="738799"/>
                </a:lnTo>
                <a:lnTo>
                  <a:pt x="1495468" y="743785"/>
                </a:lnTo>
                <a:lnTo>
                  <a:pt x="1497732" y="748998"/>
                </a:lnTo>
                <a:lnTo>
                  <a:pt x="1499996" y="754211"/>
                </a:lnTo>
                <a:lnTo>
                  <a:pt x="1502034" y="759877"/>
                </a:lnTo>
                <a:lnTo>
                  <a:pt x="1503845" y="765543"/>
                </a:lnTo>
                <a:lnTo>
                  <a:pt x="1505656" y="771436"/>
                </a:lnTo>
                <a:lnTo>
                  <a:pt x="1509053" y="783222"/>
                </a:lnTo>
                <a:lnTo>
                  <a:pt x="1511996" y="795460"/>
                </a:lnTo>
                <a:lnTo>
                  <a:pt x="1514260" y="808153"/>
                </a:lnTo>
                <a:lnTo>
                  <a:pt x="1516071" y="821071"/>
                </a:lnTo>
                <a:lnTo>
                  <a:pt x="1517656" y="833990"/>
                </a:lnTo>
                <a:lnTo>
                  <a:pt x="1519015" y="846909"/>
                </a:lnTo>
                <a:lnTo>
                  <a:pt x="1519694" y="860281"/>
                </a:lnTo>
                <a:lnTo>
                  <a:pt x="1520147" y="873200"/>
                </a:lnTo>
                <a:lnTo>
                  <a:pt x="1520826" y="886118"/>
                </a:lnTo>
                <a:lnTo>
                  <a:pt x="1520826" y="898584"/>
                </a:lnTo>
                <a:lnTo>
                  <a:pt x="1520373" y="910823"/>
                </a:lnTo>
                <a:lnTo>
                  <a:pt x="1520147" y="922608"/>
                </a:lnTo>
                <a:lnTo>
                  <a:pt x="1519241" y="945046"/>
                </a:lnTo>
                <a:lnTo>
                  <a:pt x="1517883" y="964311"/>
                </a:lnTo>
                <a:lnTo>
                  <a:pt x="1516524" y="981083"/>
                </a:lnTo>
                <a:lnTo>
                  <a:pt x="1514939" y="993321"/>
                </a:lnTo>
                <a:lnTo>
                  <a:pt x="1511996" y="991508"/>
                </a:lnTo>
                <a:lnTo>
                  <a:pt x="1508600" y="990148"/>
                </a:lnTo>
                <a:lnTo>
                  <a:pt x="1505204" y="988562"/>
                </a:lnTo>
                <a:lnTo>
                  <a:pt x="1501808" y="987202"/>
                </a:lnTo>
                <a:lnTo>
                  <a:pt x="1498185" y="985842"/>
                </a:lnTo>
                <a:lnTo>
                  <a:pt x="1494562" y="984936"/>
                </a:lnTo>
                <a:lnTo>
                  <a:pt x="1490713" y="983802"/>
                </a:lnTo>
                <a:lnTo>
                  <a:pt x="1487091" y="983349"/>
                </a:lnTo>
                <a:lnTo>
                  <a:pt x="1481657" y="946859"/>
                </a:lnTo>
                <a:lnTo>
                  <a:pt x="1479166" y="929408"/>
                </a:lnTo>
                <a:lnTo>
                  <a:pt x="1476223" y="912636"/>
                </a:lnTo>
                <a:lnTo>
                  <a:pt x="1473280" y="896544"/>
                </a:lnTo>
                <a:lnTo>
                  <a:pt x="1469657" y="881132"/>
                </a:lnTo>
                <a:lnTo>
                  <a:pt x="1467846" y="873653"/>
                </a:lnTo>
                <a:lnTo>
                  <a:pt x="1465808" y="866400"/>
                </a:lnTo>
                <a:lnTo>
                  <a:pt x="1463770" y="859374"/>
                </a:lnTo>
                <a:lnTo>
                  <a:pt x="1461506" y="852802"/>
                </a:lnTo>
                <a:lnTo>
                  <a:pt x="1459242" y="846002"/>
                </a:lnTo>
                <a:lnTo>
                  <a:pt x="1456299" y="839430"/>
                </a:lnTo>
                <a:lnTo>
                  <a:pt x="1453356" y="833310"/>
                </a:lnTo>
                <a:lnTo>
                  <a:pt x="1450412" y="826964"/>
                </a:lnTo>
                <a:lnTo>
                  <a:pt x="1447242" y="821071"/>
                </a:lnTo>
                <a:lnTo>
                  <a:pt x="1443620" y="815405"/>
                </a:lnTo>
                <a:lnTo>
                  <a:pt x="1439771" y="809966"/>
                </a:lnTo>
                <a:lnTo>
                  <a:pt x="1435922" y="804526"/>
                </a:lnTo>
                <a:lnTo>
                  <a:pt x="1431394" y="799313"/>
                </a:lnTo>
                <a:lnTo>
                  <a:pt x="1426865" y="794780"/>
                </a:lnTo>
                <a:lnTo>
                  <a:pt x="1421884" y="789794"/>
                </a:lnTo>
                <a:lnTo>
                  <a:pt x="1416677" y="785261"/>
                </a:lnTo>
                <a:lnTo>
                  <a:pt x="1411017" y="781182"/>
                </a:lnTo>
                <a:lnTo>
                  <a:pt x="1405130" y="777102"/>
                </a:lnTo>
                <a:lnTo>
                  <a:pt x="1398791" y="773249"/>
                </a:lnTo>
                <a:lnTo>
                  <a:pt x="1391998" y="769623"/>
                </a:lnTo>
                <a:lnTo>
                  <a:pt x="1384753" y="774609"/>
                </a:lnTo>
                <a:lnTo>
                  <a:pt x="1377508" y="779595"/>
                </a:lnTo>
                <a:lnTo>
                  <a:pt x="1370263" y="784355"/>
                </a:lnTo>
                <a:lnTo>
                  <a:pt x="1363018" y="788661"/>
                </a:lnTo>
                <a:lnTo>
                  <a:pt x="1355772" y="793194"/>
                </a:lnTo>
                <a:lnTo>
                  <a:pt x="1348301" y="797047"/>
                </a:lnTo>
                <a:lnTo>
                  <a:pt x="1341056" y="800900"/>
                </a:lnTo>
                <a:lnTo>
                  <a:pt x="1334037" y="804526"/>
                </a:lnTo>
                <a:lnTo>
                  <a:pt x="1326792" y="807926"/>
                </a:lnTo>
                <a:lnTo>
                  <a:pt x="1319547" y="811326"/>
                </a:lnTo>
                <a:lnTo>
                  <a:pt x="1312302" y="814045"/>
                </a:lnTo>
                <a:lnTo>
                  <a:pt x="1305283" y="816992"/>
                </a:lnTo>
                <a:lnTo>
                  <a:pt x="1298038" y="819711"/>
                </a:lnTo>
                <a:lnTo>
                  <a:pt x="1291245" y="822205"/>
                </a:lnTo>
                <a:lnTo>
                  <a:pt x="1277208" y="826511"/>
                </a:lnTo>
                <a:lnTo>
                  <a:pt x="1263397" y="830364"/>
                </a:lnTo>
                <a:lnTo>
                  <a:pt x="1249812" y="833537"/>
                </a:lnTo>
                <a:lnTo>
                  <a:pt x="1236454" y="836030"/>
                </a:lnTo>
                <a:lnTo>
                  <a:pt x="1223322" y="838296"/>
                </a:lnTo>
                <a:lnTo>
                  <a:pt x="1210417" y="839656"/>
                </a:lnTo>
                <a:lnTo>
                  <a:pt x="1197964" y="840789"/>
                </a:lnTo>
                <a:lnTo>
                  <a:pt x="1185511" y="841469"/>
                </a:lnTo>
                <a:lnTo>
                  <a:pt x="1173738" y="841469"/>
                </a:lnTo>
                <a:lnTo>
                  <a:pt x="1162191" y="841469"/>
                </a:lnTo>
                <a:lnTo>
                  <a:pt x="1151097" y="841016"/>
                </a:lnTo>
                <a:lnTo>
                  <a:pt x="1140229" y="840336"/>
                </a:lnTo>
                <a:lnTo>
                  <a:pt x="1129814" y="839203"/>
                </a:lnTo>
                <a:lnTo>
                  <a:pt x="1120079" y="837843"/>
                </a:lnTo>
                <a:lnTo>
                  <a:pt x="1110796" y="836710"/>
                </a:lnTo>
                <a:lnTo>
                  <a:pt x="1101739" y="835123"/>
                </a:lnTo>
                <a:lnTo>
                  <a:pt x="1093362" y="833310"/>
                </a:lnTo>
                <a:lnTo>
                  <a:pt x="1085438" y="831724"/>
                </a:lnTo>
                <a:lnTo>
                  <a:pt x="1078193" y="829910"/>
                </a:lnTo>
                <a:lnTo>
                  <a:pt x="1065514" y="826284"/>
                </a:lnTo>
                <a:lnTo>
                  <a:pt x="1055099" y="823111"/>
                </a:lnTo>
                <a:lnTo>
                  <a:pt x="1047401" y="820391"/>
                </a:lnTo>
                <a:lnTo>
                  <a:pt x="1043552" y="828097"/>
                </a:lnTo>
                <a:lnTo>
                  <a:pt x="1040156" y="836483"/>
                </a:lnTo>
                <a:lnTo>
                  <a:pt x="1036986" y="844869"/>
                </a:lnTo>
                <a:lnTo>
                  <a:pt x="1034043" y="853708"/>
                </a:lnTo>
                <a:lnTo>
                  <a:pt x="1031552" y="862774"/>
                </a:lnTo>
                <a:lnTo>
                  <a:pt x="1029288" y="872520"/>
                </a:lnTo>
                <a:lnTo>
                  <a:pt x="1027024" y="882265"/>
                </a:lnTo>
                <a:lnTo>
                  <a:pt x="1024986" y="892464"/>
                </a:lnTo>
                <a:lnTo>
                  <a:pt x="1021137" y="913316"/>
                </a:lnTo>
                <a:lnTo>
                  <a:pt x="1017288" y="935527"/>
                </a:lnTo>
                <a:lnTo>
                  <a:pt x="1013213" y="958871"/>
                </a:lnTo>
                <a:lnTo>
                  <a:pt x="1011175" y="970884"/>
                </a:lnTo>
                <a:lnTo>
                  <a:pt x="1008458" y="983349"/>
                </a:lnTo>
                <a:lnTo>
                  <a:pt x="1004609" y="984029"/>
                </a:lnTo>
                <a:lnTo>
                  <a:pt x="1000760" y="984936"/>
                </a:lnTo>
                <a:lnTo>
                  <a:pt x="997138" y="985842"/>
                </a:lnTo>
                <a:lnTo>
                  <a:pt x="993515" y="987202"/>
                </a:lnTo>
                <a:lnTo>
                  <a:pt x="989892" y="988789"/>
                </a:lnTo>
                <a:lnTo>
                  <a:pt x="986496" y="990375"/>
                </a:lnTo>
                <a:lnTo>
                  <a:pt x="983100" y="991962"/>
                </a:lnTo>
                <a:lnTo>
                  <a:pt x="979704" y="993775"/>
                </a:lnTo>
                <a:lnTo>
                  <a:pt x="977666" y="979723"/>
                </a:lnTo>
                <a:lnTo>
                  <a:pt x="976761" y="970657"/>
                </a:lnTo>
                <a:lnTo>
                  <a:pt x="975402" y="960458"/>
                </a:lnTo>
                <a:lnTo>
                  <a:pt x="974496" y="949352"/>
                </a:lnTo>
                <a:lnTo>
                  <a:pt x="973817" y="937340"/>
                </a:lnTo>
                <a:lnTo>
                  <a:pt x="973364" y="924421"/>
                </a:lnTo>
                <a:lnTo>
                  <a:pt x="973138" y="911049"/>
                </a:lnTo>
                <a:lnTo>
                  <a:pt x="973364" y="896771"/>
                </a:lnTo>
                <a:lnTo>
                  <a:pt x="974044" y="882039"/>
                </a:lnTo>
                <a:lnTo>
                  <a:pt x="975402" y="866854"/>
                </a:lnTo>
                <a:lnTo>
                  <a:pt x="977213" y="851442"/>
                </a:lnTo>
                <a:lnTo>
                  <a:pt x="978119" y="843736"/>
                </a:lnTo>
                <a:lnTo>
                  <a:pt x="979704" y="835577"/>
                </a:lnTo>
                <a:lnTo>
                  <a:pt x="981062" y="827871"/>
                </a:lnTo>
                <a:lnTo>
                  <a:pt x="982874" y="819711"/>
                </a:lnTo>
                <a:lnTo>
                  <a:pt x="984911" y="812006"/>
                </a:lnTo>
                <a:lnTo>
                  <a:pt x="986949" y="804073"/>
                </a:lnTo>
                <a:lnTo>
                  <a:pt x="989440" y="796140"/>
                </a:lnTo>
                <a:lnTo>
                  <a:pt x="991930" y="788208"/>
                </a:lnTo>
                <a:lnTo>
                  <a:pt x="994873" y="780502"/>
                </a:lnTo>
                <a:lnTo>
                  <a:pt x="997817" y="772569"/>
                </a:lnTo>
                <a:lnTo>
                  <a:pt x="1001213" y="765090"/>
                </a:lnTo>
                <a:lnTo>
                  <a:pt x="1004836" y="757384"/>
                </a:lnTo>
                <a:lnTo>
                  <a:pt x="1008685" y="749905"/>
                </a:lnTo>
                <a:lnTo>
                  <a:pt x="1012986" y="742652"/>
                </a:lnTo>
                <a:lnTo>
                  <a:pt x="1017288" y="735400"/>
                </a:lnTo>
                <a:lnTo>
                  <a:pt x="1022043" y="728147"/>
                </a:lnTo>
                <a:lnTo>
                  <a:pt x="1027024" y="721121"/>
                </a:lnTo>
                <a:lnTo>
                  <a:pt x="1032458" y="714095"/>
                </a:lnTo>
                <a:lnTo>
                  <a:pt x="1038118" y="707522"/>
                </a:lnTo>
                <a:lnTo>
                  <a:pt x="1044231" y="701176"/>
                </a:lnTo>
                <a:lnTo>
                  <a:pt x="1050344" y="694603"/>
                </a:lnTo>
                <a:lnTo>
                  <a:pt x="1057136" y="688711"/>
                </a:lnTo>
                <a:lnTo>
                  <a:pt x="1064382" y="682818"/>
                </a:lnTo>
                <a:lnTo>
                  <a:pt x="1071627" y="676925"/>
                </a:lnTo>
                <a:lnTo>
                  <a:pt x="1079778" y="671486"/>
                </a:lnTo>
                <a:lnTo>
                  <a:pt x="1087702" y="666726"/>
                </a:lnTo>
                <a:lnTo>
                  <a:pt x="1096306" y="661740"/>
                </a:lnTo>
                <a:lnTo>
                  <a:pt x="1105362" y="656980"/>
                </a:lnTo>
                <a:lnTo>
                  <a:pt x="1114645" y="652674"/>
                </a:lnTo>
                <a:lnTo>
                  <a:pt x="1124380" y="648821"/>
                </a:lnTo>
                <a:lnTo>
                  <a:pt x="1134795" y="645195"/>
                </a:lnTo>
                <a:lnTo>
                  <a:pt x="1145437" y="641795"/>
                </a:lnTo>
                <a:lnTo>
                  <a:pt x="1156531" y="638622"/>
                </a:lnTo>
                <a:lnTo>
                  <a:pt x="1168304" y="636129"/>
                </a:lnTo>
                <a:lnTo>
                  <a:pt x="1180304" y="634089"/>
                </a:lnTo>
                <a:lnTo>
                  <a:pt x="1192757" y="631823"/>
                </a:lnTo>
                <a:lnTo>
                  <a:pt x="1205662" y="630690"/>
                </a:lnTo>
                <a:lnTo>
                  <a:pt x="1219247" y="629330"/>
                </a:lnTo>
                <a:lnTo>
                  <a:pt x="1233058" y="628876"/>
                </a:lnTo>
                <a:lnTo>
                  <a:pt x="1247774" y="628650"/>
                </a:lnTo>
                <a:close/>
                <a:moveTo>
                  <a:pt x="91667" y="541337"/>
                </a:moveTo>
                <a:lnTo>
                  <a:pt x="370523" y="541337"/>
                </a:lnTo>
                <a:lnTo>
                  <a:pt x="375061" y="541563"/>
                </a:lnTo>
                <a:lnTo>
                  <a:pt x="379826" y="542015"/>
                </a:lnTo>
                <a:lnTo>
                  <a:pt x="384137" y="542468"/>
                </a:lnTo>
                <a:lnTo>
                  <a:pt x="388902" y="543373"/>
                </a:lnTo>
                <a:lnTo>
                  <a:pt x="393213" y="544278"/>
                </a:lnTo>
                <a:lnTo>
                  <a:pt x="397524" y="545635"/>
                </a:lnTo>
                <a:lnTo>
                  <a:pt x="401835" y="546992"/>
                </a:lnTo>
                <a:lnTo>
                  <a:pt x="405919" y="548576"/>
                </a:lnTo>
                <a:lnTo>
                  <a:pt x="409777" y="550386"/>
                </a:lnTo>
                <a:lnTo>
                  <a:pt x="414088" y="552421"/>
                </a:lnTo>
                <a:lnTo>
                  <a:pt x="417718" y="554684"/>
                </a:lnTo>
                <a:lnTo>
                  <a:pt x="421575" y="556946"/>
                </a:lnTo>
                <a:lnTo>
                  <a:pt x="425206" y="559434"/>
                </a:lnTo>
                <a:lnTo>
                  <a:pt x="428609" y="562149"/>
                </a:lnTo>
                <a:lnTo>
                  <a:pt x="432013" y="564864"/>
                </a:lnTo>
                <a:lnTo>
                  <a:pt x="434962" y="568031"/>
                </a:lnTo>
                <a:lnTo>
                  <a:pt x="438139" y="571198"/>
                </a:lnTo>
                <a:lnTo>
                  <a:pt x="441088" y="574591"/>
                </a:lnTo>
                <a:lnTo>
                  <a:pt x="443584" y="577984"/>
                </a:lnTo>
                <a:lnTo>
                  <a:pt x="446307" y="581604"/>
                </a:lnTo>
                <a:lnTo>
                  <a:pt x="448803" y="585223"/>
                </a:lnTo>
                <a:lnTo>
                  <a:pt x="450845" y="589069"/>
                </a:lnTo>
                <a:lnTo>
                  <a:pt x="452887" y="592915"/>
                </a:lnTo>
                <a:lnTo>
                  <a:pt x="454702" y="596760"/>
                </a:lnTo>
                <a:lnTo>
                  <a:pt x="456291" y="600832"/>
                </a:lnTo>
                <a:lnTo>
                  <a:pt x="457879" y="605130"/>
                </a:lnTo>
                <a:lnTo>
                  <a:pt x="459240" y="609429"/>
                </a:lnTo>
                <a:lnTo>
                  <a:pt x="460148" y="613727"/>
                </a:lnTo>
                <a:lnTo>
                  <a:pt x="461055" y="618251"/>
                </a:lnTo>
                <a:lnTo>
                  <a:pt x="461509" y="622549"/>
                </a:lnTo>
                <a:lnTo>
                  <a:pt x="461736" y="627300"/>
                </a:lnTo>
                <a:lnTo>
                  <a:pt x="461963" y="631824"/>
                </a:lnTo>
                <a:lnTo>
                  <a:pt x="461736" y="636575"/>
                </a:lnTo>
                <a:lnTo>
                  <a:pt x="461509" y="641099"/>
                </a:lnTo>
                <a:lnTo>
                  <a:pt x="461055" y="645624"/>
                </a:lnTo>
                <a:lnTo>
                  <a:pt x="460148" y="650148"/>
                </a:lnTo>
                <a:lnTo>
                  <a:pt x="459240" y="654446"/>
                </a:lnTo>
                <a:lnTo>
                  <a:pt x="457879" y="658518"/>
                </a:lnTo>
                <a:lnTo>
                  <a:pt x="456291" y="662816"/>
                </a:lnTo>
                <a:lnTo>
                  <a:pt x="454702" y="666888"/>
                </a:lnTo>
                <a:lnTo>
                  <a:pt x="452887" y="670960"/>
                </a:lnTo>
                <a:lnTo>
                  <a:pt x="450845" y="674806"/>
                </a:lnTo>
                <a:lnTo>
                  <a:pt x="448803" y="678652"/>
                </a:lnTo>
                <a:lnTo>
                  <a:pt x="446307" y="682271"/>
                </a:lnTo>
                <a:lnTo>
                  <a:pt x="443584" y="685664"/>
                </a:lnTo>
                <a:lnTo>
                  <a:pt x="441088" y="689284"/>
                </a:lnTo>
                <a:lnTo>
                  <a:pt x="438139" y="692451"/>
                </a:lnTo>
                <a:lnTo>
                  <a:pt x="434962" y="695618"/>
                </a:lnTo>
                <a:lnTo>
                  <a:pt x="432013" y="698559"/>
                </a:lnTo>
                <a:lnTo>
                  <a:pt x="428609" y="701500"/>
                </a:lnTo>
                <a:lnTo>
                  <a:pt x="425206" y="703988"/>
                </a:lnTo>
                <a:lnTo>
                  <a:pt x="421575" y="706703"/>
                </a:lnTo>
                <a:lnTo>
                  <a:pt x="417718" y="708965"/>
                </a:lnTo>
                <a:lnTo>
                  <a:pt x="414088" y="711227"/>
                </a:lnTo>
                <a:lnTo>
                  <a:pt x="409777" y="713489"/>
                </a:lnTo>
                <a:lnTo>
                  <a:pt x="405919" y="715299"/>
                </a:lnTo>
                <a:lnTo>
                  <a:pt x="401835" y="716883"/>
                </a:lnTo>
                <a:lnTo>
                  <a:pt x="397524" y="718014"/>
                </a:lnTo>
                <a:lnTo>
                  <a:pt x="393213" y="719371"/>
                </a:lnTo>
                <a:lnTo>
                  <a:pt x="388902" y="720502"/>
                </a:lnTo>
                <a:lnTo>
                  <a:pt x="384137" y="721181"/>
                </a:lnTo>
                <a:lnTo>
                  <a:pt x="379826" y="721633"/>
                </a:lnTo>
                <a:lnTo>
                  <a:pt x="375061" y="722312"/>
                </a:lnTo>
                <a:lnTo>
                  <a:pt x="370523" y="722312"/>
                </a:lnTo>
                <a:lnTo>
                  <a:pt x="91667" y="722312"/>
                </a:lnTo>
                <a:lnTo>
                  <a:pt x="86902" y="722312"/>
                </a:lnTo>
                <a:lnTo>
                  <a:pt x="82364" y="721633"/>
                </a:lnTo>
                <a:lnTo>
                  <a:pt x="77599" y="721181"/>
                </a:lnTo>
                <a:lnTo>
                  <a:pt x="73288" y="720502"/>
                </a:lnTo>
                <a:lnTo>
                  <a:pt x="68750" y="719371"/>
                </a:lnTo>
                <a:lnTo>
                  <a:pt x="64439" y="718014"/>
                </a:lnTo>
                <a:lnTo>
                  <a:pt x="60128" y="716883"/>
                </a:lnTo>
                <a:lnTo>
                  <a:pt x="56044" y="715299"/>
                </a:lnTo>
                <a:lnTo>
                  <a:pt x="51959" y="713489"/>
                </a:lnTo>
                <a:lnTo>
                  <a:pt x="48102" y="711227"/>
                </a:lnTo>
                <a:lnTo>
                  <a:pt x="44245" y="708965"/>
                </a:lnTo>
                <a:lnTo>
                  <a:pt x="40615" y="706703"/>
                </a:lnTo>
                <a:lnTo>
                  <a:pt x="36757" y="703988"/>
                </a:lnTo>
                <a:lnTo>
                  <a:pt x="33581" y="701500"/>
                </a:lnTo>
                <a:lnTo>
                  <a:pt x="30177" y="698559"/>
                </a:lnTo>
                <a:lnTo>
                  <a:pt x="26774" y="695618"/>
                </a:lnTo>
                <a:lnTo>
                  <a:pt x="23824" y="692451"/>
                </a:lnTo>
                <a:lnTo>
                  <a:pt x="21101" y="689284"/>
                </a:lnTo>
                <a:lnTo>
                  <a:pt x="18152" y="685664"/>
                </a:lnTo>
                <a:lnTo>
                  <a:pt x="15656" y="682271"/>
                </a:lnTo>
                <a:lnTo>
                  <a:pt x="13160" y="678652"/>
                </a:lnTo>
                <a:lnTo>
                  <a:pt x="11118" y="674806"/>
                </a:lnTo>
                <a:lnTo>
                  <a:pt x="9076" y="670960"/>
                </a:lnTo>
                <a:lnTo>
                  <a:pt x="7261" y="666888"/>
                </a:lnTo>
                <a:lnTo>
                  <a:pt x="5446" y="662816"/>
                </a:lnTo>
                <a:lnTo>
                  <a:pt x="4084" y="658518"/>
                </a:lnTo>
                <a:lnTo>
                  <a:pt x="2950" y="654446"/>
                </a:lnTo>
                <a:lnTo>
                  <a:pt x="1815" y="650148"/>
                </a:lnTo>
                <a:lnTo>
                  <a:pt x="1134" y="645624"/>
                </a:lnTo>
                <a:lnTo>
                  <a:pt x="454" y="641099"/>
                </a:lnTo>
                <a:lnTo>
                  <a:pt x="0" y="636575"/>
                </a:lnTo>
                <a:lnTo>
                  <a:pt x="0" y="631824"/>
                </a:lnTo>
                <a:lnTo>
                  <a:pt x="0" y="627300"/>
                </a:lnTo>
                <a:lnTo>
                  <a:pt x="454" y="622549"/>
                </a:lnTo>
                <a:lnTo>
                  <a:pt x="1134" y="618251"/>
                </a:lnTo>
                <a:lnTo>
                  <a:pt x="1815" y="613727"/>
                </a:lnTo>
                <a:lnTo>
                  <a:pt x="2950" y="609429"/>
                </a:lnTo>
                <a:lnTo>
                  <a:pt x="4084" y="605130"/>
                </a:lnTo>
                <a:lnTo>
                  <a:pt x="5446" y="600832"/>
                </a:lnTo>
                <a:lnTo>
                  <a:pt x="7261" y="596760"/>
                </a:lnTo>
                <a:lnTo>
                  <a:pt x="9076" y="592915"/>
                </a:lnTo>
                <a:lnTo>
                  <a:pt x="11118" y="589069"/>
                </a:lnTo>
                <a:lnTo>
                  <a:pt x="13160" y="585223"/>
                </a:lnTo>
                <a:lnTo>
                  <a:pt x="15656" y="581604"/>
                </a:lnTo>
                <a:lnTo>
                  <a:pt x="18152" y="577984"/>
                </a:lnTo>
                <a:lnTo>
                  <a:pt x="21101" y="574591"/>
                </a:lnTo>
                <a:lnTo>
                  <a:pt x="23824" y="571198"/>
                </a:lnTo>
                <a:lnTo>
                  <a:pt x="26774" y="568031"/>
                </a:lnTo>
                <a:lnTo>
                  <a:pt x="30177" y="564864"/>
                </a:lnTo>
                <a:lnTo>
                  <a:pt x="33581" y="562149"/>
                </a:lnTo>
                <a:lnTo>
                  <a:pt x="36757" y="559434"/>
                </a:lnTo>
                <a:lnTo>
                  <a:pt x="40615" y="556946"/>
                </a:lnTo>
                <a:lnTo>
                  <a:pt x="44245" y="554684"/>
                </a:lnTo>
                <a:lnTo>
                  <a:pt x="48102" y="552421"/>
                </a:lnTo>
                <a:lnTo>
                  <a:pt x="51959" y="550386"/>
                </a:lnTo>
                <a:lnTo>
                  <a:pt x="56044" y="548576"/>
                </a:lnTo>
                <a:lnTo>
                  <a:pt x="60128" y="546992"/>
                </a:lnTo>
                <a:lnTo>
                  <a:pt x="64439" y="545635"/>
                </a:lnTo>
                <a:lnTo>
                  <a:pt x="68750" y="544278"/>
                </a:lnTo>
                <a:lnTo>
                  <a:pt x="73288" y="543373"/>
                </a:lnTo>
                <a:lnTo>
                  <a:pt x="77599" y="542468"/>
                </a:lnTo>
                <a:lnTo>
                  <a:pt x="82364" y="542015"/>
                </a:lnTo>
                <a:lnTo>
                  <a:pt x="86902" y="541563"/>
                </a:lnTo>
                <a:lnTo>
                  <a:pt x="91667" y="541337"/>
                </a:lnTo>
                <a:close/>
                <a:moveTo>
                  <a:pt x="2282825" y="312737"/>
                </a:moveTo>
                <a:lnTo>
                  <a:pt x="2412173" y="372470"/>
                </a:lnTo>
                <a:lnTo>
                  <a:pt x="2422140" y="377674"/>
                </a:lnTo>
                <a:lnTo>
                  <a:pt x="2426897" y="380163"/>
                </a:lnTo>
                <a:lnTo>
                  <a:pt x="2431201" y="382878"/>
                </a:lnTo>
                <a:lnTo>
                  <a:pt x="2435732" y="385367"/>
                </a:lnTo>
                <a:lnTo>
                  <a:pt x="2439583" y="388308"/>
                </a:lnTo>
                <a:lnTo>
                  <a:pt x="2443434" y="391023"/>
                </a:lnTo>
                <a:lnTo>
                  <a:pt x="2447058" y="393964"/>
                </a:lnTo>
                <a:lnTo>
                  <a:pt x="2450456" y="396680"/>
                </a:lnTo>
                <a:lnTo>
                  <a:pt x="2453628" y="399621"/>
                </a:lnTo>
                <a:lnTo>
                  <a:pt x="2456799" y="402562"/>
                </a:lnTo>
                <a:lnTo>
                  <a:pt x="2459518" y="405504"/>
                </a:lnTo>
                <a:lnTo>
                  <a:pt x="2462236" y="408671"/>
                </a:lnTo>
                <a:lnTo>
                  <a:pt x="2464501" y="411839"/>
                </a:lnTo>
                <a:lnTo>
                  <a:pt x="2466766" y="415233"/>
                </a:lnTo>
                <a:lnTo>
                  <a:pt x="2468805" y="418174"/>
                </a:lnTo>
                <a:lnTo>
                  <a:pt x="2470617" y="421568"/>
                </a:lnTo>
                <a:lnTo>
                  <a:pt x="2472430" y="424962"/>
                </a:lnTo>
                <a:lnTo>
                  <a:pt x="2474015" y="428356"/>
                </a:lnTo>
                <a:lnTo>
                  <a:pt x="2475601" y="431750"/>
                </a:lnTo>
                <a:lnTo>
                  <a:pt x="2477866" y="438990"/>
                </a:lnTo>
                <a:lnTo>
                  <a:pt x="2479905" y="446231"/>
                </a:lnTo>
                <a:lnTo>
                  <a:pt x="2481264" y="453697"/>
                </a:lnTo>
                <a:lnTo>
                  <a:pt x="2482397" y="461390"/>
                </a:lnTo>
                <a:lnTo>
                  <a:pt x="2482850" y="469536"/>
                </a:lnTo>
                <a:lnTo>
                  <a:pt x="2482850" y="477455"/>
                </a:lnTo>
                <a:lnTo>
                  <a:pt x="2482850" y="694213"/>
                </a:lnTo>
                <a:lnTo>
                  <a:pt x="2482850" y="702584"/>
                </a:lnTo>
                <a:lnTo>
                  <a:pt x="2482397" y="710504"/>
                </a:lnTo>
                <a:lnTo>
                  <a:pt x="2481264" y="718423"/>
                </a:lnTo>
                <a:lnTo>
                  <a:pt x="2479905" y="725889"/>
                </a:lnTo>
                <a:lnTo>
                  <a:pt x="2477866" y="733130"/>
                </a:lnTo>
                <a:lnTo>
                  <a:pt x="2475601" y="740144"/>
                </a:lnTo>
                <a:lnTo>
                  <a:pt x="2474015" y="743311"/>
                </a:lnTo>
                <a:lnTo>
                  <a:pt x="2472430" y="746932"/>
                </a:lnTo>
                <a:lnTo>
                  <a:pt x="2470617" y="750326"/>
                </a:lnTo>
                <a:lnTo>
                  <a:pt x="2468805" y="753493"/>
                </a:lnTo>
                <a:lnTo>
                  <a:pt x="2466766" y="756887"/>
                </a:lnTo>
                <a:lnTo>
                  <a:pt x="2464501" y="760055"/>
                </a:lnTo>
                <a:lnTo>
                  <a:pt x="2462236" y="762996"/>
                </a:lnTo>
                <a:lnTo>
                  <a:pt x="2459518" y="766164"/>
                </a:lnTo>
                <a:lnTo>
                  <a:pt x="2456799" y="769331"/>
                </a:lnTo>
                <a:lnTo>
                  <a:pt x="2453628" y="772047"/>
                </a:lnTo>
                <a:lnTo>
                  <a:pt x="2450456" y="775214"/>
                </a:lnTo>
                <a:lnTo>
                  <a:pt x="2447058" y="778156"/>
                </a:lnTo>
                <a:lnTo>
                  <a:pt x="2443434" y="780871"/>
                </a:lnTo>
                <a:lnTo>
                  <a:pt x="2439583" y="783812"/>
                </a:lnTo>
                <a:lnTo>
                  <a:pt x="2435732" y="786301"/>
                </a:lnTo>
                <a:lnTo>
                  <a:pt x="2431201" y="789242"/>
                </a:lnTo>
                <a:lnTo>
                  <a:pt x="2426897" y="791731"/>
                </a:lnTo>
                <a:lnTo>
                  <a:pt x="2422140" y="794446"/>
                </a:lnTo>
                <a:lnTo>
                  <a:pt x="2412173" y="799198"/>
                </a:lnTo>
                <a:lnTo>
                  <a:pt x="2406963" y="801687"/>
                </a:lnTo>
                <a:lnTo>
                  <a:pt x="2282825" y="744216"/>
                </a:lnTo>
                <a:lnTo>
                  <a:pt x="2282825" y="312737"/>
                </a:lnTo>
                <a:close/>
                <a:moveTo>
                  <a:pt x="458964" y="22907"/>
                </a:moveTo>
                <a:lnTo>
                  <a:pt x="448307" y="23134"/>
                </a:lnTo>
                <a:lnTo>
                  <a:pt x="438104" y="24041"/>
                </a:lnTo>
                <a:lnTo>
                  <a:pt x="427674" y="25175"/>
                </a:lnTo>
                <a:lnTo>
                  <a:pt x="417471" y="26990"/>
                </a:lnTo>
                <a:lnTo>
                  <a:pt x="407722" y="29485"/>
                </a:lnTo>
                <a:lnTo>
                  <a:pt x="397745" y="32206"/>
                </a:lnTo>
                <a:lnTo>
                  <a:pt x="388222" y="35382"/>
                </a:lnTo>
                <a:lnTo>
                  <a:pt x="378926" y="39237"/>
                </a:lnTo>
                <a:lnTo>
                  <a:pt x="369857" y="43320"/>
                </a:lnTo>
                <a:lnTo>
                  <a:pt x="361014" y="47856"/>
                </a:lnTo>
                <a:lnTo>
                  <a:pt x="352171" y="52846"/>
                </a:lnTo>
                <a:lnTo>
                  <a:pt x="344009" y="58289"/>
                </a:lnTo>
                <a:lnTo>
                  <a:pt x="335847" y="63959"/>
                </a:lnTo>
                <a:lnTo>
                  <a:pt x="328138" y="70083"/>
                </a:lnTo>
                <a:lnTo>
                  <a:pt x="320655" y="76660"/>
                </a:lnTo>
                <a:lnTo>
                  <a:pt x="313626" y="83238"/>
                </a:lnTo>
                <a:lnTo>
                  <a:pt x="306598" y="90722"/>
                </a:lnTo>
                <a:lnTo>
                  <a:pt x="300022" y="98207"/>
                </a:lnTo>
                <a:lnTo>
                  <a:pt x="294127" y="105918"/>
                </a:lnTo>
                <a:lnTo>
                  <a:pt x="288232" y="113856"/>
                </a:lnTo>
                <a:lnTo>
                  <a:pt x="283017" y="122248"/>
                </a:lnTo>
                <a:lnTo>
                  <a:pt x="278029" y="130867"/>
                </a:lnTo>
                <a:lnTo>
                  <a:pt x="273494" y="139939"/>
                </a:lnTo>
                <a:lnTo>
                  <a:pt x="269186" y="149011"/>
                </a:lnTo>
                <a:lnTo>
                  <a:pt x="265559" y="158310"/>
                </a:lnTo>
                <a:lnTo>
                  <a:pt x="262158" y="167836"/>
                </a:lnTo>
                <a:lnTo>
                  <a:pt x="259664" y="177589"/>
                </a:lnTo>
                <a:lnTo>
                  <a:pt x="257396" y="187568"/>
                </a:lnTo>
                <a:lnTo>
                  <a:pt x="255582" y="197775"/>
                </a:lnTo>
                <a:lnTo>
                  <a:pt x="254222" y="207754"/>
                </a:lnTo>
                <a:lnTo>
                  <a:pt x="253542" y="218414"/>
                </a:lnTo>
                <a:lnTo>
                  <a:pt x="253088" y="229074"/>
                </a:lnTo>
                <a:lnTo>
                  <a:pt x="253088" y="495117"/>
                </a:lnTo>
                <a:lnTo>
                  <a:pt x="369630" y="495117"/>
                </a:lnTo>
                <a:lnTo>
                  <a:pt x="376659" y="495344"/>
                </a:lnTo>
                <a:lnTo>
                  <a:pt x="383461" y="496024"/>
                </a:lnTo>
                <a:lnTo>
                  <a:pt x="390263" y="496705"/>
                </a:lnTo>
                <a:lnTo>
                  <a:pt x="397065" y="498066"/>
                </a:lnTo>
                <a:lnTo>
                  <a:pt x="403867" y="499653"/>
                </a:lnTo>
                <a:lnTo>
                  <a:pt x="410216" y="501468"/>
                </a:lnTo>
                <a:lnTo>
                  <a:pt x="416791" y="503509"/>
                </a:lnTo>
                <a:lnTo>
                  <a:pt x="422913" y="505777"/>
                </a:lnTo>
                <a:lnTo>
                  <a:pt x="428808" y="508726"/>
                </a:lnTo>
                <a:lnTo>
                  <a:pt x="434930" y="511674"/>
                </a:lnTo>
                <a:lnTo>
                  <a:pt x="440598" y="514849"/>
                </a:lnTo>
                <a:lnTo>
                  <a:pt x="446266" y="518478"/>
                </a:lnTo>
                <a:lnTo>
                  <a:pt x="451481" y="522334"/>
                </a:lnTo>
                <a:lnTo>
                  <a:pt x="456923" y="526190"/>
                </a:lnTo>
                <a:lnTo>
                  <a:pt x="461911" y="530726"/>
                </a:lnTo>
                <a:lnTo>
                  <a:pt x="466446" y="535035"/>
                </a:lnTo>
                <a:lnTo>
                  <a:pt x="471207" y="539798"/>
                </a:lnTo>
                <a:lnTo>
                  <a:pt x="475289" y="545015"/>
                </a:lnTo>
                <a:lnTo>
                  <a:pt x="479370" y="549777"/>
                </a:lnTo>
                <a:lnTo>
                  <a:pt x="483451" y="555221"/>
                </a:lnTo>
                <a:lnTo>
                  <a:pt x="487079" y="560664"/>
                </a:lnTo>
                <a:lnTo>
                  <a:pt x="490026" y="566561"/>
                </a:lnTo>
                <a:lnTo>
                  <a:pt x="493201" y="572458"/>
                </a:lnTo>
                <a:lnTo>
                  <a:pt x="496148" y="578355"/>
                </a:lnTo>
                <a:lnTo>
                  <a:pt x="498416" y="584706"/>
                </a:lnTo>
                <a:lnTo>
                  <a:pt x="500683" y="591056"/>
                </a:lnTo>
                <a:lnTo>
                  <a:pt x="502497" y="597407"/>
                </a:lnTo>
                <a:lnTo>
                  <a:pt x="504084" y="603984"/>
                </a:lnTo>
                <a:lnTo>
                  <a:pt x="505218" y="610788"/>
                </a:lnTo>
                <a:lnTo>
                  <a:pt x="506125" y="617592"/>
                </a:lnTo>
                <a:lnTo>
                  <a:pt x="506578" y="624623"/>
                </a:lnTo>
                <a:lnTo>
                  <a:pt x="506578" y="631428"/>
                </a:lnTo>
                <a:lnTo>
                  <a:pt x="506578" y="638459"/>
                </a:lnTo>
                <a:lnTo>
                  <a:pt x="506125" y="645263"/>
                </a:lnTo>
                <a:lnTo>
                  <a:pt x="505218" y="652294"/>
                </a:lnTo>
                <a:lnTo>
                  <a:pt x="504084" y="659098"/>
                </a:lnTo>
                <a:lnTo>
                  <a:pt x="502497" y="665449"/>
                </a:lnTo>
                <a:lnTo>
                  <a:pt x="500683" y="672026"/>
                </a:lnTo>
                <a:lnTo>
                  <a:pt x="498416" y="678150"/>
                </a:lnTo>
                <a:lnTo>
                  <a:pt x="496148" y="684500"/>
                </a:lnTo>
                <a:lnTo>
                  <a:pt x="493201" y="690397"/>
                </a:lnTo>
                <a:lnTo>
                  <a:pt x="490026" y="696294"/>
                </a:lnTo>
                <a:lnTo>
                  <a:pt x="487079" y="701964"/>
                </a:lnTo>
                <a:lnTo>
                  <a:pt x="483451" y="707861"/>
                </a:lnTo>
                <a:lnTo>
                  <a:pt x="479370" y="712851"/>
                </a:lnTo>
                <a:lnTo>
                  <a:pt x="475289" y="718067"/>
                </a:lnTo>
                <a:lnTo>
                  <a:pt x="471207" y="723057"/>
                </a:lnTo>
                <a:lnTo>
                  <a:pt x="466446" y="727820"/>
                </a:lnTo>
                <a:lnTo>
                  <a:pt x="461911" y="732356"/>
                </a:lnTo>
                <a:lnTo>
                  <a:pt x="456923" y="736666"/>
                </a:lnTo>
                <a:lnTo>
                  <a:pt x="451481" y="740748"/>
                </a:lnTo>
                <a:lnTo>
                  <a:pt x="446266" y="744604"/>
                </a:lnTo>
                <a:lnTo>
                  <a:pt x="440598" y="748006"/>
                </a:lnTo>
                <a:lnTo>
                  <a:pt x="434930" y="751408"/>
                </a:lnTo>
                <a:lnTo>
                  <a:pt x="428808" y="754356"/>
                </a:lnTo>
                <a:lnTo>
                  <a:pt x="422913" y="757078"/>
                </a:lnTo>
                <a:lnTo>
                  <a:pt x="416791" y="759573"/>
                </a:lnTo>
                <a:lnTo>
                  <a:pt x="410216" y="761614"/>
                </a:lnTo>
                <a:lnTo>
                  <a:pt x="403867" y="763429"/>
                </a:lnTo>
                <a:lnTo>
                  <a:pt x="397065" y="765016"/>
                </a:lnTo>
                <a:lnTo>
                  <a:pt x="390263" y="766377"/>
                </a:lnTo>
                <a:lnTo>
                  <a:pt x="383461" y="767058"/>
                </a:lnTo>
                <a:lnTo>
                  <a:pt x="376659" y="767738"/>
                </a:lnTo>
                <a:lnTo>
                  <a:pt x="369630" y="767965"/>
                </a:lnTo>
                <a:lnTo>
                  <a:pt x="253088" y="767965"/>
                </a:lnTo>
                <a:lnTo>
                  <a:pt x="253088" y="1135844"/>
                </a:lnTo>
                <a:lnTo>
                  <a:pt x="369630" y="1135844"/>
                </a:lnTo>
                <a:lnTo>
                  <a:pt x="376659" y="1136071"/>
                </a:lnTo>
                <a:lnTo>
                  <a:pt x="383461" y="1136751"/>
                </a:lnTo>
                <a:lnTo>
                  <a:pt x="390263" y="1137659"/>
                </a:lnTo>
                <a:lnTo>
                  <a:pt x="397065" y="1138793"/>
                </a:lnTo>
                <a:lnTo>
                  <a:pt x="403867" y="1140380"/>
                </a:lnTo>
                <a:lnTo>
                  <a:pt x="410216" y="1142195"/>
                </a:lnTo>
                <a:lnTo>
                  <a:pt x="416791" y="1144236"/>
                </a:lnTo>
                <a:lnTo>
                  <a:pt x="422913" y="1146731"/>
                </a:lnTo>
                <a:lnTo>
                  <a:pt x="428808" y="1149452"/>
                </a:lnTo>
                <a:lnTo>
                  <a:pt x="434930" y="1152401"/>
                </a:lnTo>
                <a:lnTo>
                  <a:pt x="440598" y="1155803"/>
                </a:lnTo>
                <a:lnTo>
                  <a:pt x="446266" y="1159205"/>
                </a:lnTo>
                <a:lnTo>
                  <a:pt x="451481" y="1163061"/>
                </a:lnTo>
                <a:lnTo>
                  <a:pt x="456923" y="1167370"/>
                </a:lnTo>
                <a:lnTo>
                  <a:pt x="461911" y="1171453"/>
                </a:lnTo>
                <a:lnTo>
                  <a:pt x="466446" y="1175989"/>
                </a:lnTo>
                <a:lnTo>
                  <a:pt x="471207" y="1180752"/>
                </a:lnTo>
                <a:lnTo>
                  <a:pt x="475289" y="1185741"/>
                </a:lnTo>
                <a:lnTo>
                  <a:pt x="479370" y="1190958"/>
                </a:lnTo>
                <a:lnTo>
                  <a:pt x="483451" y="1196401"/>
                </a:lnTo>
                <a:lnTo>
                  <a:pt x="487079" y="1201845"/>
                </a:lnTo>
                <a:lnTo>
                  <a:pt x="490026" y="1207515"/>
                </a:lnTo>
                <a:lnTo>
                  <a:pt x="493201" y="1213412"/>
                </a:lnTo>
                <a:lnTo>
                  <a:pt x="496148" y="1219309"/>
                </a:lnTo>
                <a:lnTo>
                  <a:pt x="498416" y="1225659"/>
                </a:lnTo>
                <a:lnTo>
                  <a:pt x="500683" y="1231783"/>
                </a:lnTo>
                <a:lnTo>
                  <a:pt x="502497" y="1238360"/>
                </a:lnTo>
                <a:lnTo>
                  <a:pt x="504084" y="1245165"/>
                </a:lnTo>
                <a:lnTo>
                  <a:pt x="505218" y="1251742"/>
                </a:lnTo>
                <a:lnTo>
                  <a:pt x="506125" y="1258546"/>
                </a:lnTo>
                <a:lnTo>
                  <a:pt x="506578" y="1265350"/>
                </a:lnTo>
                <a:lnTo>
                  <a:pt x="506578" y="1272381"/>
                </a:lnTo>
                <a:lnTo>
                  <a:pt x="506578" y="1279639"/>
                </a:lnTo>
                <a:lnTo>
                  <a:pt x="506125" y="1286216"/>
                </a:lnTo>
                <a:lnTo>
                  <a:pt x="505218" y="1293021"/>
                </a:lnTo>
                <a:lnTo>
                  <a:pt x="504084" y="1299825"/>
                </a:lnTo>
                <a:lnTo>
                  <a:pt x="502497" y="1306629"/>
                </a:lnTo>
                <a:lnTo>
                  <a:pt x="500683" y="1312980"/>
                </a:lnTo>
                <a:lnTo>
                  <a:pt x="498416" y="1319330"/>
                </a:lnTo>
                <a:lnTo>
                  <a:pt x="496148" y="1325454"/>
                </a:lnTo>
                <a:lnTo>
                  <a:pt x="493201" y="1331351"/>
                </a:lnTo>
                <a:lnTo>
                  <a:pt x="490026" y="1337475"/>
                </a:lnTo>
                <a:lnTo>
                  <a:pt x="487079" y="1343145"/>
                </a:lnTo>
                <a:lnTo>
                  <a:pt x="483451" y="1348588"/>
                </a:lnTo>
                <a:lnTo>
                  <a:pt x="479370" y="1354031"/>
                </a:lnTo>
                <a:lnTo>
                  <a:pt x="475289" y="1359248"/>
                </a:lnTo>
                <a:lnTo>
                  <a:pt x="471207" y="1364011"/>
                </a:lnTo>
                <a:lnTo>
                  <a:pt x="466446" y="1368774"/>
                </a:lnTo>
                <a:lnTo>
                  <a:pt x="461911" y="1373537"/>
                </a:lnTo>
                <a:lnTo>
                  <a:pt x="456923" y="1377619"/>
                </a:lnTo>
                <a:lnTo>
                  <a:pt x="451481" y="1381702"/>
                </a:lnTo>
                <a:lnTo>
                  <a:pt x="446266" y="1385557"/>
                </a:lnTo>
                <a:lnTo>
                  <a:pt x="440598" y="1388960"/>
                </a:lnTo>
                <a:lnTo>
                  <a:pt x="434930" y="1392362"/>
                </a:lnTo>
                <a:lnTo>
                  <a:pt x="428808" y="1395537"/>
                </a:lnTo>
                <a:lnTo>
                  <a:pt x="422913" y="1398032"/>
                </a:lnTo>
                <a:lnTo>
                  <a:pt x="416791" y="1400300"/>
                </a:lnTo>
                <a:lnTo>
                  <a:pt x="410216" y="1402795"/>
                </a:lnTo>
                <a:lnTo>
                  <a:pt x="403867" y="1404609"/>
                </a:lnTo>
                <a:lnTo>
                  <a:pt x="397065" y="1406197"/>
                </a:lnTo>
                <a:lnTo>
                  <a:pt x="390263" y="1407104"/>
                </a:lnTo>
                <a:lnTo>
                  <a:pt x="383461" y="1408238"/>
                </a:lnTo>
                <a:lnTo>
                  <a:pt x="376659" y="1408692"/>
                </a:lnTo>
                <a:lnTo>
                  <a:pt x="369630" y="1408692"/>
                </a:lnTo>
                <a:lnTo>
                  <a:pt x="253088" y="1408692"/>
                </a:lnTo>
                <a:lnTo>
                  <a:pt x="253088" y="1777025"/>
                </a:lnTo>
                <a:lnTo>
                  <a:pt x="369630" y="1777025"/>
                </a:lnTo>
                <a:lnTo>
                  <a:pt x="376659" y="1777252"/>
                </a:lnTo>
                <a:lnTo>
                  <a:pt x="383461" y="1777705"/>
                </a:lnTo>
                <a:lnTo>
                  <a:pt x="390263" y="1778386"/>
                </a:lnTo>
                <a:lnTo>
                  <a:pt x="397065" y="1779747"/>
                </a:lnTo>
                <a:lnTo>
                  <a:pt x="403867" y="1781334"/>
                </a:lnTo>
                <a:lnTo>
                  <a:pt x="410216" y="1783149"/>
                </a:lnTo>
                <a:lnTo>
                  <a:pt x="416791" y="1785190"/>
                </a:lnTo>
                <a:lnTo>
                  <a:pt x="422913" y="1787912"/>
                </a:lnTo>
                <a:lnTo>
                  <a:pt x="428808" y="1790407"/>
                </a:lnTo>
                <a:lnTo>
                  <a:pt x="434930" y="1793582"/>
                </a:lnTo>
                <a:lnTo>
                  <a:pt x="440598" y="1796984"/>
                </a:lnTo>
                <a:lnTo>
                  <a:pt x="446266" y="1800159"/>
                </a:lnTo>
                <a:lnTo>
                  <a:pt x="451481" y="1804242"/>
                </a:lnTo>
                <a:lnTo>
                  <a:pt x="456923" y="1808324"/>
                </a:lnTo>
                <a:lnTo>
                  <a:pt x="461911" y="1812407"/>
                </a:lnTo>
                <a:lnTo>
                  <a:pt x="466446" y="1817170"/>
                </a:lnTo>
                <a:lnTo>
                  <a:pt x="471207" y="1821706"/>
                </a:lnTo>
                <a:lnTo>
                  <a:pt x="475289" y="1826695"/>
                </a:lnTo>
                <a:lnTo>
                  <a:pt x="479370" y="1831912"/>
                </a:lnTo>
                <a:lnTo>
                  <a:pt x="483451" y="1837129"/>
                </a:lnTo>
                <a:lnTo>
                  <a:pt x="487079" y="1842799"/>
                </a:lnTo>
                <a:lnTo>
                  <a:pt x="490026" y="1848469"/>
                </a:lnTo>
                <a:lnTo>
                  <a:pt x="493201" y="1854139"/>
                </a:lnTo>
                <a:lnTo>
                  <a:pt x="496148" y="1860490"/>
                </a:lnTo>
                <a:lnTo>
                  <a:pt x="498416" y="1866613"/>
                </a:lnTo>
                <a:lnTo>
                  <a:pt x="500683" y="1872964"/>
                </a:lnTo>
                <a:lnTo>
                  <a:pt x="502497" y="1879314"/>
                </a:lnTo>
                <a:lnTo>
                  <a:pt x="504084" y="1885892"/>
                </a:lnTo>
                <a:lnTo>
                  <a:pt x="505218" y="1892696"/>
                </a:lnTo>
                <a:lnTo>
                  <a:pt x="506125" y="1899273"/>
                </a:lnTo>
                <a:lnTo>
                  <a:pt x="506578" y="1906304"/>
                </a:lnTo>
                <a:lnTo>
                  <a:pt x="506578" y="1913335"/>
                </a:lnTo>
                <a:lnTo>
                  <a:pt x="506578" y="1920366"/>
                </a:lnTo>
                <a:lnTo>
                  <a:pt x="506125" y="1927397"/>
                </a:lnTo>
                <a:lnTo>
                  <a:pt x="505218" y="1933975"/>
                </a:lnTo>
                <a:lnTo>
                  <a:pt x="504084" y="1940779"/>
                </a:lnTo>
                <a:lnTo>
                  <a:pt x="502497" y="1947356"/>
                </a:lnTo>
                <a:lnTo>
                  <a:pt x="500683" y="1953707"/>
                </a:lnTo>
                <a:lnTo>
                  <a:pt x="498416" y="1960284"/>
                </a:lnTo>
                <a:lnTo>
                  <a:pt x="496148" y="1966408"/>
                </a:lnTo>
                <a:lnTo>
                  <a:pt x="493201" y="1972532"/>
                </a:lnTo>
                <a:lnTo>
                  <a:pt x="490026" y="1978429"/>
                </a:lnTo>
                <a:lnTo>
                  <a:pt x="487079" y="1984099"/>
                </a:lnTo>
                <a:lnTo>
                  <a:pt x="483451" y="1989542"/>
                </a:lnTo>
                <a:lnTo>
                  <a:pt x="479370" y="1994986"/>
                </a:lnTo>
                <a:lnTo>
                  <a:pt x="475289" y="1999975"/>
                </a:lnTo>
                <a:lnTo>
                  <a:pt x="471207" y="2004965"/>
                </a:lnTo>
                <a:lnTo>
                  <a:pt x="466446" y="2009728"/>
                </a:lnTo>
                <a:lnTo>
                  <a:pt x="461911" y="2014264"/>
                </a:lnTo>
                <a:lnTo>
                  <a:pt x="456923" y="2018573"/>
                </a:lnTo>
                <a:lnTo>
                  <a:pt x="451481" y="2022429"/>
                </a:lnTo>
                <a:lnTo>
                  <a:pt x="446266" y="2026285"/>
                </a:lnTo>
                <a:lnTo>
                  <a:pt x="440598" y="2029914"/>
                </a:lnTo>
                <a:lnTo>
                  <a:pt x="434930" y="2033089"/>
                </a:lnTo>
                <a:lnTo>
                  <a:pt x="428808" y="2036264"/>
                </a:lnTo>
                <a:lnTo>
                  <a:pt x="422913" y="2038759"/>
                </a:lnTo>
                <a:lnTo>
                  <a:pt x="416791" y="2041481"/>
                </a:lnTo>
                <a:lnTo>
                  <a:pt x="410216" y="2043522"/>
                </a:lnTo>
                <a:lnTo>
                  <a:pt x="403867" y="2045336"/>
                </a:lnTo>
                <a:lnTo>
                  <a:pt x="397065" y="2046924"/>
                </a:lnTo>
                <a:lnTo>
                  <a:pt x="390263" y="2048285"/>
                </a:lnTo>
                <a:lnTo>
                  <a:pt x="383461" y="2048965"/>
                </a:lnTo>
                <a:lnTo>
                  <a:pt x="376659" y="2049419"/>
                </a:lnTo>
                <a:lnTo>
                  <a:pt x="369630" y="2049646"/>
                </a:lnTo>
                <a:lnTo>
                  <a:pt x="253088" y="2049646"/>
                </a:lnTo>
                <a:lnTo>
                  <a:pt x="253088" y="2315689"/>
                </a:lnTo>
                <a:lnTo>
                  <a:pt x="253542" y="2326349"/>
                </a:lnTo>
                <a:lnTo>
                  <a:pt x="254222" y="2336782"/>
                </a:lnTo>
                <a:lnTo>
                  <a:pt x="255582" y="2347215"/>
                </a:lnTo>
                <a:lnTo>
                  <a:pt x="257396" y="2357195"/>
                </a:lnTo>
                <a:lnTo>
                  <a:pt x="259664" y="2367401"/>
                </a:lnTo>
                <a:lnTo>
                  <a:pt x="262158" y="2376927"/>
                </a:lnTo>
                <a:lnTo>
                  <a:pt x="265559" y="2386679"/>
                </a:lnTo>
                <a:lnTo>
                  <a:pt x="269186" y="2395978"/>
                </a:lnTo>
                <a:lnTo>
                  <a:pt x="273494" y="2405051"/>
                </a:lnTo>
                <a:lnTo>
                  <a:pt x="278029" y="2414123"/>
                </a:lnTo>
                <a:lnTo>
                  <a:pt x="283017" y="2422515"/>
                </a:lnTo>
                <a:lnTo>
                  <a:pt x="288232" y="2430907"/>
                </a:lnTo>
                <a:lnTo>
                  <a:pt x="294127" y="2439072"/>
                </a:lnTo>
                <a:lnTo>
                  <a:pt x="300022" y="2446783"/>
                </a:lnTo>
                <a:lnTo>
                  <a:pt x="306598" y="2454268"/>
                </a:lnTo>
                <a:lnTo>
                  <a:pt x="313626" y="2461525"/>
                </a:lnTo>
                <a:lnTo>
                  <a:pt x="320655" y="2468330"/>
                </a:lnTo>
                <a:lnTo>
                  <a:pt x="328138" y="2474680"/>
                </a:lnTo>
                <a:lnTo>
                  <a:pt x="335847" y="2481031"/>
                </a:lnTo>
                <a:lnTo>
                  <a:pt x="344009" y="2486701"/>
                </a:lnTo>
                <a:lnTo>
                  <a:pt x="352171" y="2492144"/>
                </a:lnTo>
                <a:lnTo>
                  <a:pt x="361014" y="2497134"/>
                </a:lnTo>
                <a:lnTo>
                  <a:pt x="369857" y="2501443"/>
                </a:lnTo>
                <a:lnTo>
                  <a:pt x="378926" y="2505526"/>
                </a:lnTo>
                <a:lnTo>
                  <a:pt x="388222" y="2509608"/>
                </a:lnTo>
                <a:lnTo>
                  <a:pt x="397745" y="2512557"/>
                </a:lnTo>
                <a:lnTo>
                  <a:pt x="407722" y="2515505"/>
                </a:lnTo>
                <a:lnTo>
                  <a:pt x="417471" y="2517773"/>
                </a:lnTo>
                <a:lnTo>
                  <a:pt x="427674" y="2519588"/>
                </a:lnTo>
                <a:lnTo>
                  <a:pt x="438104" y="2520948"/>
                </a:lnTo>
                <a:lnTo>
                  <a:pt x="448307" y="2521629"/>
                </a:lnTo>
                <a:lnTo>
                  <a:pt x="458964" y="2521856"/>
                </a:lnTo>
                <a:lnTo>
                  <a:pt x="2030011" y="2521856"/>
                </a:lnTo>
                <a:lnTo>
                  <a:pt x="2040667" y="2521629"/>
                </a:lnTo>
                <a:lnTo>
                  <a:pt x="2051324" y="2520948"/>
                </a:lnTo>
                <a:lnTo>
                  <a:pt x="2061527" y="2519588"/>
                </a:lnTo>
                <a:lnTo>
                  <a:pt x="2071503" y="2517773"/>
                </a:lnTo>
                <a:lnTo>
                  <a:pt x="2081706" y="2515505"/>
                </a:lnTo>
                <a:lnTo>
                  <a:pt x="2091456" y="2512557"/>
                </a:lnTo>
                <a:lnTo>
                  <a:pt x="2100752" y="2509608"/>
                </a:lnTo>
                <a:lnTo>
                  <a:pt x="2110502" y="2505526"/>
                </a:lnTo>
                <a:lnTo>
                  <a:pt x="2119571" y="2501443"/>
                </a:lnTo>
                <a:lnTo>
                  <a:pt x="2128187" y="2497134"/>
                </a:lnTo>
                <a:lnTo>
                  <a:pt x="2136803" y="2492144"/>
                </a:lnTo>
                <a:lnTo>
                  <a:pt x="2145192" y="2486701"/>
                </a:lnTo>
                <a:lnTo>
                  <a:pt x="2153354" y="2481031"/>
                </a:lnTo>
                <a:lnTo>
                  <a:pt x="2161290" y="2474680"/>
                </a:lnTo>
                <a:lnTo>
                  <a:pt x="2168546" y="2468330"/>
                </a:lnTo>
                <a:lnTo>
                  <a:pt x="2175801" y="2461525"/>
                </a:lnTo>
                <a:lnTo>
                  <a:pt x="2182376" y="2454268"/>
                </a:lnTo>
                <a:lnTo>
                  <a:pt x="2188952" y="2446783"/>
                </a:lnTo>
                <a:lnTo>
                  <a:pt x="2195074" y="2439072"/>
                </a:lnTo>
                <a:lnTo>
                  <a:pt x="2200969" y="2430907"/>
                </a:lnTo>
                <a:lnTo>
                  <a:pt x="2206410" y="2422515"/>
                </a:lnTo>
                <a:lnTo>
                  <a:pt x="2211172" y="2414123"/>
                </a:lnTo>
                <a:lnTo>
                  <a:pt x="2215933" y="2405051"/>
                </a:lnTo>
                <a:lnTo>
                  <a:pt x="2219788" y="2395978"/>
                </a:lnTo>
                <a:lnTo>
                  <a:pt x="2223642" y="2386679"/>
                </a:lnTo>
                <a:lnTo>
                  <a:pt x="2226817" y="2376927"/>
                </a:lnTo>
                <a:lnTo>
                  <a:pt x="2229538" y="2367401"/>
                </a:lnTo>
                <a:lnTo>
                  <a:pt x="2232032" y="2357195"/>
                </a:lnTo>
                <a:lnTo>
                  <a:pt x="2233845" y="2347215"/>
                </a:lnTo>
                <a:lnTo>
                  <a:pt x="2235206" y="2336782"/>
                </a:lnTo>
                <a:lnTo>
                  <a:pt x="2235886" y="2326349"/>
                </a:lnTo>
                <a:lnTo>
                  <a:pt x="2236113" y="2315689"/>
                </a:lnTo>
                <a:lnTo>
                  <a:pt x="2236113" y="229074"/>
                </a:lnTo>
                <a:lnTo>
                  <a:pt x="2235886" y="218414"/>
                </a:lnTo>
                <a:lnTo>
                  <a:pt x="2235206" y="207754"/>
                </a:lnTo>
                <a:lnTo>
                  <a:pt x="2233845" y="197775"/>
                </a:lnTo>
                <a:lnTo>
                  <a:pt x="2232032" y="187568"/>
                </a:lnTo>
                <a:lnTo>
                  <a:pt x="2229538" y="177589"/>
                </a:lnTo>
                <a:lnTo>
                  <a:pt x="2226817" y="167836"/>
                </a:lnTo>
                <a:lnTo>
                  <a:pt x="2223642" y="158310"/>
                </a:lnTo>
                <a:lnTo>
                  <a:pt x="2219788" y="149011"/>
                </a:lnTo>
                <a:lnTo>
                  <a:pt x="2215933" y="139939"/>
                </a:lnTo>
                <a:lnTo>
                  <a:pt x="2211172" y="130867"/>
                </a:lnTo>
                <a:lnTo>
                  <a:pt x="2206410" y="122248"/>
                </a:lnTo>
                <a:lnTo>
                  <a:pt x="2200969" y="113856"/>
                </a:lnTo>
                <a:lnTo>
                  <a:pt x="2195074" y="105918"/>
                </a:lnTo>
                <a:lnTo>
                  <a:pt x="2188952" y="98207"/>
                </a:lnTo>
                <a:lnTo>
                  <a:pt x="2182376" y="90722"/>
                </a:lnTo>
                <a:lnTo>
                  <a:pt x="2175801" y="83238"/>
                </a:lnTo>
                <a:lnTo>
                  <a:pt x="2168546" y="76660"/>
                </a:lnTo>
                <a:lnTo>
                  <a:pt x="2161290" y="70083"/>
                </a:lnTo>
                <a:lnTo>
                  <a:pt x="2153354" y="63959"/>
                </a:lnTo>
                <a:lnTo>
                  <a:pt x="2145192" y="58289"/>
                </a:lnTo>
                <a:lnTo>
                  <a:pt x="2136803" y="52846"/>
                </a:lnTo>
                <a:lnTo>
                  <a:pt x="2128187" y="47856"/>
                </a:lnTo>
                <a:lnTo>
                  <a:pt x="2119571" y="43320"/>
                </a:lnTo>
                <a:lnTo>
                  <a:pt x="2110502" y="39237"/>
                </a:lnTo>
                <a:lnTo>
                  <a:pt x="2100752" y="35382"/>
                </a:lnTo>
                <a:lnTo>
                  <a:pt x="2091456" y="32206"/>
                </a:lnTo>
                <a:lnTo>
                  <a:pt x="2081706" y="29485"/>
                </a:lnTo>
                <a:lnTo>
                  <a:pt x="2071503" y="26990"/>
                </a:lnTo>
                <a:lnTo>
                  <a:pt x="2061527" y="25175"/>
                </a:lnTo>
                <a:lnTo>
                  <a:pt x="2051324" y="24041"/>
                </a:lnTo>
                <a:lnTo>
                  <a:pt x="2040667" y="23134"/>
                </a:lnTo>
                <a:lnTo>
                  <a:pt x="2030011" y="22907"/>
                </a:lnTo>
                <a:lnTo>
                  <a:pt x="458964" y="22907"/>
                </a:lnTo>
                <a:close/>
                <a:moveTo>
                  <a:pt x="458964" y="0"/>
                </a:moveTo>
                <a:lnTo>
                  <a:pt x="2030011" y="0"/>
                </a:lnTo>
                <a:lnTo>
                  <a:pt x="2042028" y="453"/>
                </a:lnTo>
                <a:lnTo>
                  <a:pt x="2053364" y="1134"/>
                </a:lnTo>
                <a:lnTo>
                  <a:pt x="2064701" y="2722"/>
                </a:lnTo>
                <a:lnTo>
                  <a:pt x="2076265" y="4763"/>
                </a:lnTo>
                <a:lnTo>
                  <a:pt x="2087148" y="7258"/>
                </a:lnTo>
                <a:lnTo>
                  <a:pt x="2098031" y="10433"/>
                </a:lnTo>
                <a:lnTo>
                  <a:pt x="2108688" y="14062"/>
                </a:lnTo>
                <a:lnTo>
                  <a:pt x="2118891" y="18371"/>
                </a:lnTo>
                <a:lnTo>
                  <a:pt x="2129094" y="22680"/>
                </a:lnTo>
                <a:lnTo>
                  <a:pt x="2138843" y="27897"/>
                </a:lnTo>
                <a:lnTo>
                  <a:pt x="2148593" y="33340"/>
                </a:lnTo>
                <a:lnTo>
                  <a:pt x="2157889" y="39237"/>
                </a:lnTo>
                <a:lnTo>
                  <a:pt x="2166959" y="45815"/>
                </a:lnTo>
                <a:lnTo>
                  <a:pt x="2175574" y="52392"/>
                </a:lnTo>
                <a:lnTo>
                  <a:pt x="2183737" y="59650"/>
                </a:lnTo>
                <a:lnTo>
                  <a:pt x="2191899" y="67361"/>
                </a:lnTo>
                <a:lnTo>
                  <a:pt x="2199382" y="75299"/>
                </a:lnTo>
                <a:lnTo>
                  <a:pt x="2206637" y="83691"/>
                </a:lnTo>
                <a:lnTo>
                  <a:pt x="2213212" y="92083"/>
                </a:lnTo>
                <a:lnTo>
                  <a:pt x="2219788" y="101155"/>
                </a:lnTo>
                <a:lnTo>
                  <a:pt x="2225683" y="110681"/>
                </a:lnTo>
                <a:lnTo>
                  <a:pt x="2231125" y="120207"/>
                </a:lnTo>
                <a:lnTo>
                  <a:pt x="2236340" y="129960"/>
                </a:lnTo>
                <a:lnTo>
                  <a:pt x="2241101" y="140166"/>
                </a:lnTo>
                <a:lnTo>
                  <a:pt x="2244955" y="150599"/>
                </a:lnTo>
                <a:lnTo>
                  <a:pt x="2248583" y="161032"/>
                </a:lnTo>
                <a:lnTo>
                  <a:pt x="2251758" y="172145"/>
                </a:lnTo>
                <a:lnTo>
                  <a:pt x="2254252" y="183032"/>
                </a:lnTo>
                <a:lnTo>
                  <a:pt x="2256292" y="194372"/>
                </a:lnTo>
                <a:lnTo>
                  <a:pt x="2257879" y="205713"/>
                </a:lnTo>
                <a:lnTo>
                  <a:pt x="2258786" y="217053"/>
                </a:lnTo>
                <a:lnTo>
                  <a:pt x="2259013" y="229074"/>
                </a:lnTo>
                <a:lnTo>
                  <a:pt x="2259013" y="2315689"/>
                </a:lnTo>
                <a:lnTo>
                  <a:pt x="2258786" y="2327483"/>
                </a:lnTo>
                <a:lnTo>
                  <a:pt x="2257879" y="2339050"/>
                </a:lnTo>
                <a:lnTo>
                  <a:pt x="2256292" y="2350617"/>
                </a:lnTo>
                <a:lnTo>
                  <a:pt x="2254252" y="2361958"/>
                </a:lnTo>
                <a:lnTo>
                  <a:pt x="2251758" y="2372844"/>
                </a:lnTo>
                <a:lnTo>
                  <a:pt x="2248583" y="2383731"/>
                </a:lnTo>
                <a:lnTo>
                  <a:pt x="2244955" y="2394391"/>
                </a:lnTo>
                <a:lnTo>
                  <a:pt x="2241101" y="2404824"/>
                </a:lnTo>
                <a:lnTo>
                  <a:pt x="2236340" y="2414803"/>
                </a:lnTo>
                <a:lnTo>
                  <a:pt x="2231125" y="2424783"/>
                </a:lnTo>
                <a:lnTo>
                  <a:pt x="2225683" y="2434309"/>
                </a:lnTo>
                <a:lnTo>
                  <a:pt x="2219788" y="2443608"/>
                </a:lnTo>
                <a:lnTo>
                  <a:pt x="2213212" y="2452680"/>
                </a:lnTo>
                <a:lnTo>
                  <a:pt x="2206637" y="2461299"/>
                </a:lnTo>
                <a:lnTo>
                  <a:pt x="2199382" y="2469464"/>
                </a:lnTo>
                <a:lnTo>
                  <a:pt x="2191899" y="2477629"/>
                </a:lnTo>
                <a:lnTo>
                  <a:pt x="2183737" y="2485113"/>
                </a:lnTo>
                <a:lnTo>
                  <a:pt x="2175574" y="2492371"/>
                </a:lnTo>
                <a:lnTo>
                  <a:pt x="2166959" y="2499175"/>
                </a:lnTo>
                <a:lnTo>
                  <a:pt x="2157889" y="2505526"/>
                </a:lnTo>
                <a:lnTo>
                  <a:pt x="2148593" y="2511649"/>
                </a:lnTo>
                <a:lnTo>
                  <a:pt x="2138843" y="2517093"/>
                </a:lnTo>
                <a:lnTo>
                  <a:pt x="2129094" y="2522309"/>
                </a:lnTo>
                <a:lnTo>
                  <a:pt x="2118891" y="2526619"/>
                </a:lnTo>
                <a:lnTo>
                  <a:pt x="2108688" y="2530701"/>
                </a:lnTo>
                <a:lnTo>
                  <a:pt x="2098031" y="2534330"/>
                </a:lnTo>
                <a:lnTo>
                  <a:pt x="2087148" y="2537505"/>
                </a:lnTo>
                <a:lnTo>
                  <a:pt x="2076265" y="2540000"/>
                </a:lnTo>
                <a:lnTo>
                  <a:pt x="2064701" y="2542268"/>
                </a:lnTo>
                <a:lnTo>
                  <a:pt x="2053364" y="2543402"/>
                </a:lnTo>
                <a:lnTo>
                  <a:pt x="2042028" y="2544536"/>
                </a:lnTo>
                <a:lnTo>
                  <a:pt x="2030011" y="2544763"/>
                </a:lnTo>
                <a:lnTo>
                  <a:pt x="458964" y="2544763"/>
                </a:lnTo>
                <a:lnTo>
                  <a:pt x="447400" y="2544536"/>
                </a:lnTo>
                <a:lnTo>
                  <a:pt x="435610" y="2543402"/>
                </a:lnTo>
                <a:lnTo>
                  <a:pt x="424273" y="2542268"/>
                </a:lnTo>
                <a:lnTo>
                  <a:pt x="413163" y="2540000"/>
                </a:lnTo>
                <a:lnTo>
                  <a:pt x="402053" y="2537505"/>
                </a:lnTo>
                <a:lnTo>
                  <a:pt x="391170" y="2534330"/>
                </a:lnTo>
                <a:lnTo>
                  <a:pt x="380513" y="2530701"/>
                </a:lnTo>
                <a:lnTo>
                  <a:pt x="370084" y="2526619"/>
                </a:lnTo>
                <a:lnTo>
                  <a:pt x="359880" y="2522309"/>
                </a:lnTo>
                <a:lnTo>
                  <a:pt x="350131" y="2517093"/>
                </a:lnTo>
                <a:lnTo>
                  <a:pt x="340608" y="2511649"/>
                </a:lnTo>
                <a:lnTo>
                  <a:pt x="331085" y="2505526"/>
                </a:lnTo>
                <a:lnTo>
                  <a:pt x="322469" y="2499175"/>
                </a:lnTo>
                <a:lnTo>
                  <a:pt x="313626" y="2492371"/>
                </a:lnTo>
                <a:lnTo>
                  <a:pt x="305237" y="2485113"/>
                </a:lnTo>
                <a:lnTo>
                  <a:pt x="297528" y="2477629"/>
                </a:lnTo>
                <a:lnTo>
                  <a:pt x="289819" y="2469464"/>
                </a:lnTo>
                <a:lnTo>
                  <a:pt x="282564" y="2461299"/>
                </a:lnTo>
                <a:lnTo>
                  <a:pt x="275762" y="2452680"/>
                </a:lnTo>
                <a:lnTo>
                  <a:pt x="269413" y="2443608"/>
                </a:lnTo>
                <a:lnTo>
                  <a:pt x="263518" y="2434309"/>
                </a:lnTo>
                <a:lnTo>
                  <a:pt x="257850" y="2424783"/>
                </a:lnTo>
                <a:lnTo>
                  <a:pt x="252862" y="2414803"/>
                </a:lnTo>
                <a:lnTo>
                  <a:pt x="248327" y="2404824"/>
                </a:lnTo>
                <a:lnTo>
                  <a:pt x="244019" y="2394391"/>
                </a:lnTo>
                <a:lnTo>
                  <a:pt x="240391" y="2383731"/>
                </a:lnTo>
                <a:lnTo>
                  <a:pt x="237444" y="2372844"/>
                </a:lnTo>
                <a:lnTo>
                  <a:pt x="234723" y="2361958"/>
                </a:lnTo>
                <a:lnTo>
                  <a:pt x="232682" y="2350617"/>
                </a:lnTo>
                <a:lnTo>
                  <a:pt x="231322" y="2339050"/>
                </a:lnTo>
                <a:lnTo>
                  <a:pt x="230415" y="2327483"/>
                </a:lnTo>
                <a:lnTo>
                  <a:pt x="230188" y="2315689"/>
                </a:lnTo>
                <a:lnTo>
                  <a:pt x="230188" y="2026965"/>
                </a:lnTo>
                <a:lnTo>
                  <a:pt x="369630" y="2026965"/>
                </a:lnTo>
                <a:lnTo>
                  <a:pt x="375298" y="2026738"/>
                </a:lnTo>
                <a:lnTo>
                  <a:pt x="381194" y="2026285"/>
                </a:lnTo>
                <a:lnTo>
                  <a:pt x="386862" y="2025604"/>
                </a:lnTo>
                <a:lnTo>
                  <a:pt x="392530" y="2024470"/>
                </a:lnTo>
                <a:lnTo>
                  <a:pt x="397972" y="2023336"/>
                </a:lnTo>
                <a:lnTo>
                  <a:pt x="403414" y="2021749"/>
                </a:lnTo>
                <a:lnTo>
                  <a:pt x="408628" y="2019934"/>
                </a:lnTo>
                <a:lnTo>
                  <a:pt x="413843" y="2017893"/>
                </a:lnTo>
                <a:lnTo>
                  <a:pt x="419058" y="2015852"/>
                </a:lnTo>
                <a:lnTo>
                  <a:pt x="424046" y="2013130"/>
                </a:lnTo>
                <a:lnTo>
                  <a:pt x="428581" y="2010408"/>
                </a:lnTo>
                <a:lnTo>
                  <a:pt x="433343" y="2007460"/>
                </a:lnTo>
                <a:lnTo>
                  <a:pt x="438104" y="2004285"/>
                </a:lnTo>
                <a:lnTo>
                  <a:pt x="442185" y="2000882"/>
                </a:lnTo>
                <a:lnTo>
                  <a:pt x="446266" y="1997254"/>
                </a:lnTo>
                <a:lnTo>
                  <a:pt x="450348" y="1993398"/>
                </a:lnTo>
                <a:lnTo>
                  <a:pt x="453975" y="1989542"/>
                </a:lnTo>
                <a:lnTo>
                  <a:pt x="457603" y="1985460"/>
                </a:lnTo>
                <a:lnTo>
                  <a:pt x="461004" y="1981377"/>
                </a:lnTo>
                <a:lnTo>
                  <a:pt x="464405" y="1976841"/>
                </a:lnTo>
                <a:lnTo>
                  <a:pt x="467353" y="1972305"/>
                </a:lnTo>
                <a:lnTo>
                  <a:pt x="470074" y="1967315"/>
                </a:lnTo>
                <a:lnTo>
                  <a:pt x="472794" y="1962552"/>
                </a:lnTo>
                <a:lnTo>
                  <a:pt x="474835" y="1957336"/>
                </a:lnTo>
                <a:lnTo>
                  <a:pt x="476876" y="1952119"/>
                </a:lnTo>
                <a:lnTo>
                  <a:pt x="478690" y="1947129"/>
                </a:lnTo>
                <a:lnTo>
                  <a:pt x="480277" y="1941686"/>
                </a:lnTo>
                <a:lnTo>
                  <a:pt x="481637" y="1936243"/>
                </a:lnTo>
                <a:lnTo>
                  <a:pt x="482544" y="1930799"/>
                </a:lnTo>
                <a:lnTo>
                  <a:pt x="483451" y="1924902"/>
                </a:lnTo>
                <a:lnTo>
                  <a:pt x="483904" y="1919232"/>
                </a:lnTo>
                <a:lnTo>
                  <a:pt x="483904" y="1913335"/>
                </a:lnTo>
                <a:lnTo>
                  <a:pt x="483904" y="1907665"/>
                </a:lnTo>
                <a:lnTo>
                  <a:pt x="483451" y="1901768"/>
                </a:lnTo>
                <a:lnTo>
                  <a:pt x="482544" y="1896325"/>
                </a:lnTo>
                <a:lnTo>
                  <a:pt x="481637" y="1890428"/>
                </a:lnTo>
                <a:lnTo>
                  <a:pt x="480277" y="1884985"/>
                </a:lnTo>
                <a:lnTo>
                  <a:pt x="478690" y="1879541"/>
                </a:lnTo>
                <a:lnTo>
                  <a:pt x="476876" y="1874325"/>
                </a:lnTo>
                <a:lnTo>
                  <a:pt x="474835" y="1869335"/>
                </a:lnTo>
                <a:lnTo>
                  <a:pt x="472794" y="1864345"/>
                </a:lnTo>
                <a:lnTo>
                  <a:pt x="470074" y="1859356"/>
                </a:lnTo>
                <a:lnTo>
                  <a:pt x="467353" y="1854366"/>
                </a:lnTo>
                <a:lnTo>
                  <a:pt x="464405" y="1850056"/>
                </a:lnTo>
                <a:lnTo>
                  <a:pt x="461004" y="1845747"/>
                </a:lnTo>
                <a:lnTo>
                  <a:pt x="457603" y="1841211"/>
                </a:lnTo>
                <a:lnTo>
                  <a:pt x="453975" y="1837129"/>
                </a:lnTo>
                <a:lnTo>
                  <a:pt x="450348" y="1833273"/>
                </a:lnTo>
                <a:lnTo>
                  <a:pt x="446266" y="1829417"/>
                </a:lnTo>
                <a:lnTo>
                  <a:pt x="442185" y="1826015"/>
                </a:lnTo>
                <a:lnTo>
                  <a:pt x="438104" y="1822613"/>
                </a:lnTo>
                <a:lnTo>
                  <a:pt x="433343" y="1819211"/>
                </a:lnTo>
                <a:lnTo>
                  <a:pt x="428581" y="1816262"/>
                </a:lnTo>
                <a:lnTo>
                  <a:pt x="424046" y="1813541"/>
                </a:lnTo>
                <a:lnTo>
                  <a:pt x="419058" y="1811273"/>
                </a:lnTo>
                <a:lnTo>
                  <a:pt x="413843" y="1808778"/>
                </a:lnTo>
                <a:lnTo>
                  <a:pt x="408628" y="1806737"/>
                </a:lnTo>
                <a:lnTo>
                  <a:pt x="403414" y="1804922"/>
                </a:lnTo>
                <a:lnTo>
                  <a:pt x="397972" y="1803334"/>
                </a:lnTo>
                <a:lnTo>
                  <a:pt x="392530" y="1801974"/>
                </a:lnTo>
                <a:lnTo>
                  <a:pt x="386862" y="1801293"/>
                </a:lnTo>
                <a:lnTo>
                  <a:pt x="381194" y="1800613"/>
                </a:lnTo>
                <a:lnTo>
                  <a:pt x="375298" y="1799932"/>
                </a:lnTo>
                <a:lnTo>
                  <a:pt x="369630" y="1799932"/>
                </a:lnTo>
                <a:lnTo>
                  <a:pt x="230188" y="1799932"/>
                </a:lnTo>
                <a:lnTo>
                  <a:pt x="230188" y="1385784"/>
                </a:lnTo>
                <a:lnTo>
                  <a:pt x="369630" y="1385784"/>
                </a:lnTo>
                <a:lnTo>
                  <a:pt x="375298" y="1385557"/>
                </a:lnTo>
                <a:lnTo>
                  <a:pt x="381194" y="1385331"/>
                </a:lnTo>
                <a:lnTo>
                  <a:pt x="386862" y="1384650"/>
                </a:lnTo>
                <a:lnTo>
                  <a:pt x="392530" y="1383516"/>
                </a:lnTo>
                <a:lnTo>
                  <a:pt x="397972" y="1382155"/>
                </a:lnTo>
                <a:lnTo>
                  <a:pt x="403414" y="1380795"/>
                </a:lnTo>
                <a:lnTo>
                  <a:pt x="408628" y="1378980"/>
                </a:lnTo>
                <a:lnTo>
                  <a:pt x="413843" y="1376712"/>
                </a:lnTo>
                <a:lnTo>
                  <a:pt x="419058" y="1374671"/>
                </a:lnTo>
                <a:lnTo>
                  <a:pt x="424046" y="1372176"/>
                </a:lnTo>
                <a:lnTo>
                  <a:pt x="428581" y="1369227"/>
                </a:lnTo>
                <a:lnTo>
                  <a:pt x="433343" y="1366506"/>
                </a:lnTo>
                <a:lnTo>
                  <a:pt x="438104" y="1363331"/>
                </a:lnTo>
                <a:lnTo>
                  <a:pt x="442185" y="1359928"/>
                </a:lnTo>
                <a:lnTo>
                  <a:pt x="446266" y="1356300"/>
                </a:lnTo>
                <a:lnTo>
                  <a:pt x="450348" y="1352671"/>
                </a:lnTo>
                <a:lnTo>
                  <a:pt x="453975" y="1348588"/>
                </a:lnTo>
                <a:lnTo>
                  <a:pt x="457603" y="1344732"/>
                </a:lnTo>
                <a:lnTo>
                  <a:pt x="461004" y="1340196"/>
                </a:lnTo>
                <a:lnTo>
                  <a:pt x="464405" y="1335887"/>
                </a:lnTo>
                <a:lnTo>
                  <a:pt x="467353" y="1331124"/>
                </a:lnTo>
                <a:lnTo>
                  <a:pt x="470074" y="1326588"/>
                </a:lnTo>
                <a:lnTo>
                  <a:pt x="472794" y="1321598"/>
                </a:lnTo>
                <a:lnTo>
                  <a:pt x="474835" y="1316608"/>
                </a:lnTo>
                <a:lnTo>
                  <a:pt x="476876" y="1311392"/>
                </a:lnTo>
                <a:lnTo>
                  <a:pt x="478690" y="1305949"/>
                </a:lnTo>
                <a:lnTo>
                  <a:pt x="480277" y="1300732"/>
                </a:lnTo>
                <a:lnTo>
                  <a:pt x="481637" y="1295289"/>
                </a:lnTo>
                <a:lnTo>
                  <a:pt x="482544" y="1289619"/>
                </a:lnTo>
                <a:lnTo>
                  <a:pt x="483451" y="1283948"/>
                </a:lnTo>
                <a:lnTo>
                  <a:pt x="483904" y="1278278"/>
                </a:lnTo>
                <a:lnTo>
                  <a:pt x="483904" y="1272381"/>
                </a:lnTo>
                <a:lnTo>
                  <a:pt x="483904" y="1266711"/>
                </a:lnTo>
                <a:lnTo>
                  <a:pt x="483451" y="1260814"/>
                </a:lnTo>
                <a:lnTo>
                  <a:pt x="482544" y="1255144"/>
                </a:lnTo>
                <a:lnTo>
                  <a:pt x="481637" y="1249474"/>
                </a:lnTo>
                <a:lnTo>
                  <a:pt x="480277" y="1244031"/>
                </a:lnTo>
                <a:lnTo>
                  <a:pt x="478690" y="1238814"/>
                </a:lnTo>
                <a:lnTo>
                  <a:pt x="476876" y="1233371"/>
                </a:lnTo>
                <a:lnTo>
                  <a:pt x="474835" y="1228154"/>
                </a:lnTo>
                <a:lnTo>
                  <a:pt x="472794" y="1223391"/>
                </a:lnTo>
                <a:lnTo>
                  <a:pt x="470074" y="1218401"/>
                </a:lnTo>
                <a:lnTo>
                  <a:pt x="467353" y="1213639"/>
                </a:lnTo>
                <a:lnTo>
                  <a:pt x="464405" y="1209102"/>
                </a:lnTo>
                <a:lnTo>
                  <a:pt x="461004" y="1204566"/>
                </a:lnTo>
                <a:lnTo>
                  <a:pt x="457603" y="1200257"/>
                </a:lnTo>
                <a:lnTo>
                  <a:pt x="453975" y="1196175"/>
                </a:lnTo>
                <a:lnTo>
                  <a:pt x="450348" y="1192092"/>
                </a:lnTo>
                <a:lnTo>
                  <a:pt x="446266" y="1188463"/>
                </a:lnTo>
                <a:lnTo>
                  <a:pt x="442185" y="1184834"/>
                </a:lnTo>
                <a:lnTo>
                  <a:pt x="438104" y="1181659"/>
                </a:lnTo>
                <a:lnTo>
                  <a:pt x="433343" y="1178484"/>
                </a:lnTo>
                <a:lnTo>
                  <a:pt x="428581" y="1175308"/>
                </a:lnTo>
                <a:lnTo>
                  <a:pt x="424046" y="1172813"/>
                </a:lnTo>
                <a:lnTo>
                  <a:pt x="419058" y="1170092"/>
                </a:lnTo>
                <a:lnTo>
                  <a:pt x="413843" y="1167824"/>
                </a:lnTo>
                <a:lnTo>
                  <a:pt x="408628" y="1165783"/>
                </a:lnTo>
                <a:lnTo>
                  <a:pt x="403414" y="1164195"/>
                </a:lnTo>
                <a:lnTo>
                  <a:pt x="397972" y="1162607"/>
                </a:lnTo>
                <a:lnTo>
                  <a:pt x="392530" y="1161246"/>
                </a:lnTo>
                <a:lnTo>
                  <a:pt x="386862" y="1160339"/>
                </a:lnTo>
                <a:lnTo>
                  <a:pt x="381194" y="1159432"/>
                </a:lnTo>
                <a:lnTo>
                  <a:pt x="375298" y="1158978"/>
                </a:lnTo>
                <a:lnTo>
                  <a:pt x="369630" y="1158978"/>
                </a:lnTo>
                <a:lnTo>
                  <a:pt x="230188" y="1158978"/>
                </a:lnTo>
                <a:lnTo>
                  <a:pt x="230188" y="744831"/>
                </a:lnTo>
                <a:lnTo>
                  <a:pt x="369630" y="744831"/>
                </a:lnTo>
                <a:lnTo>
                  <a:pt x="375298" y="744831"/>
                </a:lnTo>
                <a:lnTo>
                  <a:pt x="381194" y="744377"/>
                </a:lnTo>
                <a:lnTo>
                  <a:pt x="386862" y="743470"/>
                </a:lnTo>
                <a:lnTo>
                  <a:pt x="392530" y="742563"/>
                </a:lnTo>
                <a:lnTo>
                  <a:pt x="397972" y="741429"/>
                </a:lnTo>
                <a:lnTo>
                  <a:pt x="403414" y="739841"/>
                </a:lnTo>
                <a:lnTo>
                  <a:pt x="408628" y="738026"/>
                </a:lnTo>
                <a:lnTo>
                  <a:pt x="413843" y="735985"/>
                </a:lnTo>
                <a:lnTo>
                  <a:pt x="419058" y="733717"/>
                </a:lnTo>
                <a:lnTo>
                  <a:pt x="424046" y="731222"/>
                </a:lnTo>
                <a:lnTo>
                  <a:pt x="428581" y="728501"/>
                </a:lnTo>
                <a:lnTo>
                  <a:pt x="433343" y="725325"/>
                </a:lnTo>
                <a:lnTo>
                  <a:pt x="438104" y="722377"/>
                </a:lnTo>
                <a:lnTo>
                  <a:pt x="442185" y="718975"/>
                </a:lnTo>
                <a:lnTo>
                  <a:pt x="446266" y="715573"/>
                </a:lnTo>
                <a:lnTo>
                  <a:pt x="450348" y="711717"/>
                </a:lnTo>
                <a:lnTo>
                  <a:pt x="453975" y="707861"/>
                </a:lnTo>
                <a:lnTo>
                  <a:pt x="457603" y="703552"/>
                </a:lnTo>
                <a:lnTo>
                  <a:pt x="461004" y="699243"/>
                </a:lnTo>
                <a:lnTo>
                  <a:pt x="464405" y="694706"/>
                </a:lnTo>
                <a:lnTo>
                  <a:pt x="467353" y="690170"/>
                </a:lnTo>
                <a:lnTo>
                  <a:pt x="470074" y="685407"/>
                </a:lnTo>
                <a:lnTo>
                  <a:pt x="472794" y="680645"/>
                </a:lnTo>
                <a:lnTo>
                  <a:pt x="474835" y="675655"/>
                </a:lnTo>
                <a:lnTo>
                  <a:pt x="476876" y="670438"/>
                </a:lnTo>
                <a:lnTo>
                  <a:pt x="478690" y="665222"/>
                </a:lnTo>
                <a:lnTo>
                  <a:pt x="480277" y="659778"/>
                </a:lnTo>
                <a:lnTo>
                  <a:pt x="481637" y="654335"/>
                </a:lnTo>
                <a:lnTo>
                  <a:pt x="482544" y="648665"/>
                </a:lnTo>
                <a:lnTo>
                  <a:pt x="483451" y="642995"/>
                </a:lnTo>
                <a:lnTo>
                  <a:pt x="483904" y="637325"/>
                </a:lnTo>
                <a:lnTo>
                  <a:pt x="483904" y="631428"/>
                </a:lnTo>
                <a:lnTo>
                  <a:pt x="483904" y="625531"/>
                </a:lnTo>
                <a:lnTo>
                  <a:pt x="483451" y="619861"/>
                </a:lnTo>
                <a:lnTo>
                  <a:pt x="482544" y="614190"/>
                </a:lnTo>
                <a:lnTo>
                  <a:pt x="481637" y="608747"/>
                </a:lnTo>
                <a:lnTo>
                  <a:pt x="480277" y="603077"/>
                </a:lnTo>
                <a:lnTo>
                  <a:pt x="478690" y="597860"/>
                </a:lnTo>
                <a:lnTo>
                  <a:pt x="476876" y="592417"/>
                </a:lnTo>
                <a:lnTo>
                  <a:pt x="474835" y="587427"/>
                </a:lnTo>
                <a:lnTo>
                  <a:pt x="472794" y="582211"/>
                </a:lnTo>
                <a:lnTo>
                  <a:pt x="470074" y="577448"/>
                </a:lnTo>
                <a:lnTo>
                  <a:pt x="467353" y="572685"/>
                </a:lnTo>
                <a:lnTo>
                  <a:pt x="464405" y="567922"/>
                </a:lnTo>
                <a:lnTo>
                  <a:pt x="461004" y="563613"/>
                </a:lnTo>
                <a:lnTo>
                  <a:pt x="457603" y="559530"/>
                </a:lnTo>
                <a:lnTo>
                  <a:pt x="453975" y="555221"/>
                </a:lnTo>
                <a:lnTo>
                  <a:pt x="450348" y="551138"/>
                </a:lnTo>
                <a:lnTo>
                  <a:pt x="446266" y="547509"/>
                </a:lnTo>
                <a:lnTo>
                  <a:pt x="442185" y="543881"/>
                </a:lnTo>
                <a:lnTo>
                  <a:pt x="438104" y="540478"/>
                </a:lnTo>
                <a:lnTo>
                  <a:pt x="433343" y="537303"/>
                </a:lnTo>
                <a:lnTo>
                  <a:pt x="428581" y="534581"/>
                </a:lnTo>
                <a:lnTo>
                  <a:pt x="424046" y="531633"/>
                </a:lnTo>
                <a:lnTo>
                  <a:pt x="419058" y="529138"/>
                </a:lnTo>
                <a:lnTo>
                  <a:pt x="413843" y="527097"/>
                </a:lnTo>
                <a:lnTo>
                  <a:pt x="408628" y="525056"/>
                </a:lnTo>
                <a:lnTo>
                  <a:pt x="403414" y="523241"/>
                </a:lnTo>
                <a:lnTo>
                  <a:pt x="397972" y="521654"/>
                </a:lnTo>
                <a:lnTo>
                  <a:pt x="392530" y="520293"/>
                </a:lnTo>
                <a:lnTo>
                  <a:pt x="386862" y="519159"/>
                </a:lnTo>
                <a:lnTo>
                  <a:pt x="381194" y="518478"/>
                </a:lnTo>
                <a:lnTo>
                  <a:pt x="375298" y="518251"/>
                </a:lnTo>
                <a:lnTo>
                  <a:pt x="369630" y="518025"/>
                </a:lnTo>
                <a:lnTo>
                  <a:pt x="230188" y="518025"/>
                </a:lnTo>
                <a:lnTo>
                  <a:pt x="230188" y="229074"/>
                </a:lnTo>
                <a:lnTo>
                  <a:pt x="230415" y="217053"/>
                </a:lnTo>
                <a:lnTo>
                  <a:pt x="231322" y="205713"/>
                </a:lnTo>
                <a:lnTo>
                  <a:pt x="232682" y="194372"/>
                </a:lnTo>
                <a:lnTo>
                  <a:pt x="234723" y="183032"/>
                </a:lnTo>
                <a:lnTo>
                  <a:pt x="237444" y="172145"/>
                </a:lnTo>
                <a:lnTo>
                  <a:pt x="240391" y="161032"/>
                </a:lnTo>
                <a:lnTo>
                  <a:pt x="244019" y="150599"/>
                </a:lnTo>
                <a:lnTo>
                  <a:pt x="248327" y="140166"/>
                </a:lnTo>
                <a:lnTo>
                  <a:pt x="252862" y="129960"/>
                </a:lnTo>
                <a:lnTo>
                  <a:pt x="257850" y="120207"/>
                </a:lnTo>
                <a:lnTo>
                  <a:pt x="263518" y="110681"/>
                </a:lnTo>
                <a:lnTo>
                  <a:pt x="269413" y="101155"/>
                </a:lnTo>
                <a:lnTo>
                  <a:pt x="275762" y="92083"/>
                </a:lnTo>
                <a:lnTo>
                  <a:pt x="282564" y="83691"/>
                </a:lnTo>
                <a:lnTo>
                  <a:pt x="289819" y="75299"/>
                </a:lnTo>
                <a:lnTo>
                  <a:pt x="297528" y="67361"/>
                </a:lnTo>
                <a:lnTo>
                  <a:pt x="305237" y="59650"/>
                </a:lnTo>
                <a:lnTo>
                  <a:pt x="313626" y="52392"/>
                </a:lnTo>
                <a:lnTo>
                  <a:pt x="322469" y="45815"/>
                </a:lnTo>
                <a:lnTo>
                  <a:pt x="331085" y="39237"/>
                </a:lnTo>
                <a:lnTo>
                  <a:pt x="340608" y="33340"/>
                </a:lnTo>
                <a:lnTo>
                  <a:pt x="350131" y="27897"/>
                </a:lnTo>
                <a:lnTo>
                  <a:pt x="359880" y="22680"/>
                </a:lnTo>
                <a:lnTo>
                  <a:pt x="370084" y="18371"/>
                </a:lnTo>
                <a:lnTo>
                  <a:pt x="380513" y="14062"/>
                </a:lnTo>
                <a:lnTo>
                  <a:pt x="391170" y="10433"/>
                </a:lnTo>
                <a:lnTo>
                  <a:pt x="402053" y="7258"/>
                </a:lnTo>
                <a:lnTo>
                  <a:pt x="413163" y="4763"/>
                </a:lnTo>
                <a:lnTo>
                  <a:pt x="424273" y="2722"/>
                </a:lnTo>
                <a:lnTo>
                  <a:pt x="435610" y="1134"/>
                </a:lnTo>
                <a:lnTo>
                  <a:pt x="447400" y="453"/>
                </a:lnTo>
                <a:lnTo>
                  <a:pt x="458964" y="0"/>
                </a:lnTo>
                <a:close/>
              </a:path>
            </a:pathLst>
          </a:custGeom>
          <a:solidFill>
            <a:schemeClr val="bg1"/>
          </a:solidFill>
          <a:ln w="0">
            <a:no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cxnSp>
        <p:nvCxnSpPr>
          <p:cNvPr id="135" name="直接连接符 8"/>
          <p:cNvCxnSpPr/>
          <p:nvPr/>
        </p:nvCxnSpPr>
        <p:spPr>
          <a:xfrm>
            <a:off x="2568960" y="3082320"/>
            <a:ext cx="5225400" cy="360"/>
          </a:xfrm>
          <a:prstGeom prst="straightConnector1">
            <a:avLst/>
          </a:prstGeom>
          <a:ln w="25400">
            <a:solidFill>
              <a:srgbClr val="ffffff">
                <a:lumMod val="65000"/>
                <a:alpha val="37000"/>
              </a:srgbClr>
            </a:solidFill>
          </a:ln>
        </p:spPr>
      </p:cxnSp>
      <p:sp>
        <p:nvSpPr>
          <p:cNvPr id="136" name="文本框 10"/>
          <p:cNvSpPr/>
          <p:nvPr/>
        </p:nvSpPr>
        <p:spPr>
          <a:xfrm>
            <a:off x="2945160" y="2687400"/>
            <a:ext cx="127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通用实用模板系列</a:t>
            </a:r>
            <a:endParaRPr b="0" lang="en-US" sz="1800" spc="-1" strike="noStrike">
              <a:solidFill>
                <a:srgbClr val="000000"/>
              </a:solidFill>
              <a:latin typeface="Arial"/>
            </a:endParaRPr>
          </a:p>
        </p:txBody>
      </p:sp>
      <p:sp>
        <p:nvSpPr>
          <p:cNvPr id="13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1273680" y="0"/>
            <a:ext cx="1306080" cy="232380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6" name="矩形 2"/>
          <p:cNvSpPr/>
          <p:nvPr/>
        </p:nvSpPr>
        <p:spPr>
          <a:xfrm>
            <a:off x="1273680" y="4174560"/>
            <a:ext cx="1306080" cy="268308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文本框 3"/>
          <p:cNvSpPr/>
          <p:nvPr/>
        </p:nvSpPr>
        <p:spPr>
          <a:xfrm>
            <a:off x="1273680" y="2572920"/>
            <a:ext cx="95364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5000" spc="-1" strike="noStrike">
                <a:solidFill>
                  <a:srgbClr val="2c77ca"/>
                </a:solidFill>
                <a:latin typeface="黑体"/>
                <a:ea typeface="黑体"/>
              </a:rPr>
              <a:t>目录</a:t>
            </a:r>
            <a:endParaRPr b="0" lang="en-US" sz="5000" spc="-1" strike="noStrike">
              <a:solidFill>
                <a:srgbClr val="000000"/>
              </a:solidFill>
              <a:latin typeface="Arial"/>
            </a:endParaRPr>
          </a:p>
        </p:txBody>
      </p:sp>
      <p:sp>
        <p:nvSpPr>
          <p:cNvPr id="278" name="文本框 4"/>
          <p:cNvSpPr/>
          <p:nvPr/>
        </p:nvSpPr>
        <p:spPr>
          <a:xfrm>
            <a:off x="1981440" y="2589840"/>
            <a:ext cx="492120" cy="13406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2000" spc="-1" strike="noStrike">
                <a:solidFill>
                  <a:srgbClr val="2c77ca"/>
                </a:solidFill>
                <a:latin typeface="Britannic Bold"/>
              </a:rPr>
              <a:t> </a:t>
            </a:r>
            <a:r>
              <a:rPr b="0" lang="en-US" sz="2000" spc="-1" strike="noStrike">
                <a:solidFill>
                  <a:srgbClr val="2c77ca"/>
                </a:solidFill>
                <a:latin typeface="Britannic Bold"/>
              </a:rPr>
              <a:t>CONTENTS</a:t>
            </a:r>
            <a:endParaRPr b="0" lang="en-US" sz="2000" spc="-1" strike="noStrike">
              <a:solidFill>
                <a:srgbClr val="000000"/>
              </a:solidFill>
              <a:latin typeface="Arial"/>
            </a:endParaRPr>
          </a:p>
        </p:txBody>
      </p:sp>
      <p:grpSp>
        <p:nvGrpSpPr>
          <p:cNvPr id="279" name="组合 14"/>
          <p:cNvGrpSpPr/>
          <p:nvPr/>
        </p:nvGrpSpPr>
        <p:grpSpPr>
          <a:xfrm>
            <a:off x="4593600" y="1350000"/>
            <a:ext cx="4822200" cy="816120"/>
            <a:chOff x="4593600" y="1350000"/>
            <a:chExt cx="4822200" cy="816120"/>
          </a:xfrm>
        </p:grpSpPr>
        <p:sp>
          <p:nvSpPr>
            <p:cNvPr id="280" name="矩形 5"/>
            <p:cNvSpPr/>
            <p:nvPr/>
          </p:nvSpPr>
          <p:spPr>
            <a:xfrm>
              <a:off x="5344920" y="145872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前期工作总体概述</a:t>
              </a:r>
              <a:endParaRPr b="0" lang="en-US" sz="1800" spc="-1" strike="noStrike">
                <a:solidFill>
                  <a:srgbClr val="000000"/>
                </a:solidFill>
                <a:latin typeface="Arial"/>
              </a:endParaRPr>
            </a:p>
          </p:txBody>
        </p:sp>
        <p:sp>
          <p:nvSpPr>
            <p:cNvPr id="281" name="圆角矩形 11"/>
            <p:cNvSpPr/>
            <p:nvPr/>
          </p:nvSpPr>
          <p:spPr>
            <a:xfrm>
              <a:off x="4593600" y="135000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1</a:t>
              </a:r>
              <a:endParaRPr b="0" lang="en-US" sz="3200" spc="-1" strike="noStrike">
                <a:solidFill>
                  <a:srgbClr val="000000"/>
                </a:solidFill>
                <a:latin typeface="Arial"/>
              </a:endParaRPr>
            </a:p>
          </p:txBody>
        </p:sp>
      </p:grpSp>
      <p:grpSp>
        <p:nvGrpSpPr>
          <p:cNvPr id="282" name="组合 15"/>
          <p:cNvGrpSpPr/>
          <p:nvPr/>
        </p:nvGrpSpPr>
        <p:grpSpPr>
          <a:xfrm>
            <a:off x="4593600" y="2215080"/>
            <a:ext cx="4822200" cy="816120"/>
            <a:chOff x="4593600" y="2215080"/>
            <a:chExt cx="4822200" cy="816120"/>
          </a:xfrm>
        </p:grpSpPr>
        <p:sp>
          <p:nvSpPr>
            <p:cNvPr id="283" name="矩形 16"/>
            <p:cNvSpPr/>
            <p:nvPr/>
          </p:nvSpPr>
          <p:spPr>
            <a:xfrm>
              <a:off x="5344920" y="2324160"/>
              <a:ext cx="4070880" cy="598320"/>
            </a:xfrm>
            <a:prstGeom prst="rect">
              <a:avLst/>
            </a:prstGeom>
            <a:solidFill>
              <a:srgbClr val="869b2b"/>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ffffff"/>
                  </a:solidFill>
                  <a:latin typeface="黑体"/>
                  <a:ea typeface="黑体"/>
                </a:rPr>
                <a:t>工作具体完成情况</a:t>
              </a:r>
              <a:endParaRPr b="0" lang="en-US" sz="1800" spc="-1" strike="noStrike">
                <a:solidFill>
                  <a:srgbClr val="000000"/>
                </a:solidFill>
                <a:latin typeface="Arial"/>
              </a:endParaRPr>
            </a:p>
          </p:txBody>
        </p:sp>
        <p:sp>
          <p:nvSpPr>
            <p:cNvPr id="284" name="圆角矩形 17"/>
            <p:cNvSpPr/>
            <p:nvPr/>
          </p:nvSpPr>
          <p:spPr>
            <a:xfrm>
              <a:off x="4593600" y="221508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2</a:t>
              </a:r>
              <a:endParaRPr b="0" lang="en-US" sz="3200" spc="-1" strike="noStrike">
                <a:solidFill>
                  <a:srgbClr val="000000"/>
                </a:solidFill>
                <a:latin typeface="Arial"/>
              </a:endParaRPr>
            </a:p>
          </p:txBody>
        </p:sp>
      </p:grpSp>
      <p:grpSp>
        <p:nvGrpSpPr>
          <p:cNvPr id="285" name="组合 18"/>
          <p:cNvGrpSpPr/>
          <p:nvPr/>
        </p:nvGrpSpPr>
        <p:grpSpPr>
          <a:xfrm>
            <a:off x="4593600" y="3140640"/>
            <a:ext cx="4822200" cy="816120"/>
            <a:chOff x="4593600" y="3140640"/>
            <a:chExt cx="4822200" cy="816120"/>
          </a:xfrm>
        </p:grpSpPr>
        <p:sp>
          <p:nvSpPr>
            <p:cNvPr id="286" name="矩形 19"/>
            <p:cNvSpPr/>
            <p:nvPr/>
          </p:nvSpPr>
          <p:spPr>
            <a:xfrm>
              <a:off x="5344920" y="32493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中存在的不足</a:t>
              </a:r>
              <a:endParaRPr b="0" lang="en-US" sz="1800" spc="-1" strike="noStrike">
                <a:solidFill>
                  <a:srgbClr val="000000"/>
                </a:solidFill>
                <a:latin typeface="Arial"/>
              </a:endParaRPr>
            </a:p>
          </p:txBody>
        </p:sp>
        <p:sp>
          <p:nvSpPr>
            <p:cNvPr id="287" name="圆角矩形 20"/>
            <p:cNvSpPr/>
            <p:nvPr/>
          </p:nvSpPr>
          <p:spPr>
            <a:xfrm>
              <a:off x="4593600" y="31406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3</a:t>
              </a:r>
              <a:endParaRPr b="0" lang="en-US" sz="3200" spc="-1" strike="noStrike">
                <a:solidFill>
                  <a:srgbClr val="000000"/>
                </a:solidFill>
                <a:latin typeface="Arial"/>
              </a:endParaRPr>
            </a:p>
          </p:txBody>
        </p:sp>
      </p:grpSp>
      <p:grpSp>
        <p:nvGrpSpPr>
          <p:cNvPr id="288" name="组合 21"/>
          <p:cNvGrpSpPr/>
          <p:nvPr/>
        </p:nvGrpSpPr>
        <p:grpSpPr>
          <a:xfrm>
            <a:off x="4593600" y="4065840"/>
            <a:ext cx="4822200" cy="816120"/>
            <a:chOff x="4593600" y="4065840"/>
            <a:chExt cx="4822200" cy="816120"/>
          </a:xfrm>
        </p:grpSpPr>
        <p:sp>
          <p:nvSpPr>
            <p:cNvPr id="289" name="矩形 22"/>
            <p:cNvSpPr/>
            <p:nvPr/>
          </p:nvSpPr>
          <p:spPr>
            <a:xfrm>
              <a:off x="5344920" y="41745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明年其他工作计划</a:t>
              </a:r>
              <a:endParaRPr b="0" lang="en-US" sz="1800" spc="-1" strike="noStrike">
                <a:solidFill>
                  <a:srgbClr val="000000"/>
                </a:solidFill>
                <a:latin typeface="Arial"/>
              </a:endParaRPr>
            </a:p>
          </p:txBody>
        </p:sp>
        <p:sp>
          <p:nvSpPr>
            <p:cNvPr id="290" name="圆角矩形 23"/>
            <p:cNvSpPr/>
            <p:nvPr/>
          </p:nvSpPr>
          <p:spPr>
            <a:xfrm>
              <a:off x="4593600" y="40658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2"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具体完成情况</a:t>
            </a:r>
            <a:endParaRPr b="0" lang="en-US" sz="2800" spc="-1" strike="noStrike">
              <a:solidFill>
                <a:srgbClr val="000000"/>
              </a:solidFill>
              <a:latin typeface="Arial"/>
            </a:endParaRPr>
          </a:p>
        </p:txBody>
      </p:sp>
      <p:cxnSp>
        <p:nvCxnSpPr>
          <p:cNvPr id="293" name="直接连接符 3"/>
          <p:cNvCxnSpPr/>
          <p:nvPr/>
        </p:nvCxnSpPr>
        <p:spPr>
          <a:xfrm>
            <a:off x="0" y="1105200"/>
            <a:ext cx="11694240" cy="360"/>
          </a:xfrm>
          <a:prstGeom prst="straightConnector1">
            <a:avLst/>
          </a:prstGeom>
          <a:ln w="25400">
            <a:solidFill>
              <a:srgbClr val="2c77ca"/>
            </a:solidFill>
          </a:ln>
        </p:spPr>
      </p:cxnSp>
      <p:sp>
        <p:nvSpPr>
          <p:cNvPr id="294" name="MH_Other_1"/>
          <p:cNvSpPr/>
          <p:nvPr/>
        </p:nvSpPr>
        <p:spPr>
          <a:xfrm>
            <a:off x="4848120" y="2649240"/>
            <a:ext cx="1507680" cy="709920"/>
          </a:xfrm>
          <a:custGeom>
            <a:avLst/>
            <a:gdLst>
              <a:gd name="textAreaLeft" fmla="*/ 0 w 1507680"/>
              <a:gd name="textAreaRight" fmla="*/ 1508040 w 1507680"/>
              <a:gd name="textAreaTop" fmla="*/ 0 h 709920"/>
              <a:gd name="textAreaBottom" fmla="*/ 710280 h 709920"/>
            </a:gdLst>
            <a:ahLst/>
            <a:rect l="textAreaLeft" t="textAreaTop" r="textAreaRight" b="textAreaBottom"/>
            <a:pathLst>
              <a:path w="1133856" h="534010">
                <a:moveTo>
                  <a:pt x="0" y="0"/>
                </a:moveTo>
                <a:lnTo>
                  <a:pt x="1133856" y="0"/>
                </a:lnTo>
                <a:lnTo>
                  <a:pt x="804672" y="534010"/>
                </a:lnTo>
                <a:lnTo>
                  <a:pt x="351129" y="534010"/>
                </a:lnTo>
                <a:lnTo>
                  <a:pt x="0" y="0"/>
                </a:lnTo>
                <a:close/>
              </a:path>
            </a:pathLst>
          </a:custGeom>
          <a:solidFill>
            <a:srgbClr val="1283c1"/>
          </a:solidFill>
          <a:ln w="38100">
            <a:noFill/>
          </a:ln>
          <a:scene3d>
            <a:camera prst="orthographicFront"/>
            <a:lightRig dir="t" rig="threePt"/>
          </a:scene3d>
        </p:spPr>
        <p:style>
          <a:lnRef idx="0"/>
          <a:fillRef idx="0"/>
          <a:effectRef idx="0"/>
          <a:fontRef idx="minor"/>
        </p:style>
        <p:txBody>
          <a:bodyPr lIns="0" rIns="0" tIns="0" bIns="0" anchor="ctr">
            <a:noAutofit/>
          </a:bodyPr>
          <a:p>
            <a:pPr algn="ctr">
              <a:lnSpc>
                <a:spcPct val="100000"/>
              </a:lnSpc>
            </a:pPr>
            <a:r>
              <a:rPr b="0" lang="en-US" sz="2400" spc="-1" strike="noStrike">
                <a:solidFill>
                  <a:srgbClr val="ffffff"/>
                </a:solidFill>
                <a:latin typeface="Britannic Bold"/>
                <a:ea typeface="微软雅黑"/>
              </a:rPr>
              <a:t>01</a:t>
            </a:r>
            <a:endParaRPr b="0" lang="en-US" sz="2400" spc="-1" strike="noStrike">
              <a:solidFill>
                <a:srgbClr val="000000"/>
              </a:solidFill>
              <a:latin typeface="Arial"/>
            </a:endParaRPr>
          </a:p>
        </p:txBody>
      </p:sp>
      <p:sp>
        <p:nvSpPr>
          <p:cNvPr id="295" name="MH_Other_2"/>
          <p:cNvSpPr/>
          <p:nvPr/>
        </p:nvSpPr>
        <p:spPr>
          <a:xfrm>
            <a:off x="5996160" y="2697840"/>
            <a:ext cx="1167120" cy="1225440"/>
          </a:xfrm>
          <a:custGeom>
            <a:avLst/>
            <a:gdLst>
              <a:gd name="textAreaLeft" fmla="*/ 0 w 1167120"/>
              <a:gd name="textAreaRight" fmla="*/ 1167480 w 1167120"/>
              <a:gd name="textAreaTop" fmla="*/ 0 h 1225440"/>
              <a:gd name="textAreaBottom" fmla="*/ 1225800 h 1225440"/>
            </a:gdLst>
            <a:ahLst/>
            <a:rect l="textAreaLeft" t="textAreaTop" r="textAreaRight" b="textAreaBottom"/>
            <a:pathLst>
              <a:path w="877823" h="921716">
                <a:moveTo>
                  <a:pt x="329183" y="0"/>
                </a:moveTo>
                <a:lnTo>
                  <a:pt x="877823" y="921716"/>
                </a:lnTo>
                <a:lnTo>
                  <a:pt x="212140" y="914400"/>
                </a:lnTo>
                <a:lnTo>
                  <a:pt x="0" y="526695"/>
                </a:lnTo>
                <a:lnTo>
                  <a:pt x="329183" y="0"/>
                </a:lnTo>
                <a:close/>
              </a:path>
            </a:pathLst>
          </a:custGeom>
          <a:solidFill>
            <a:srgbClr val="869b2b"/>
          </a:solidFill>
          <a:ln w="38100">
            <a:noFill/>
          </a:ln>
          <a:scene3d>
            <a:camera prst="orthographicFront"/>
            <a:lightRig dir="t" rig="threePt"/>
          </a:scene3d>
        </p:spPr>
        <p:style>
          <a:lnRef idx="0"/>
          <a:fillRef idx="0"/>
          <a:effectRef idx="0"/>
          <a:fontRef idx="minor"/>
        </p:style>
        <p:txBody>
          <a:bodyPr lIns="0" rIns="180000" tIns="288000" bIns="0" anchor="ctr">
            <a:noAutofit/>
          </a:bodyPr>
          <a:p>
            <a:pPr algn="ctr">
              <a:lnSpc>
                <a:spcPct val="100000"/>
              </a:lnSpc>
            </a:pPr>
            <a:r>
              <a:rPr b="0" lang="en-US" sz="2400" spc="-1" strike="noStrike">
                <a:solidFill>
                  <a:srgbClr val="ffffff"/>
                </a:solidFill>
                <a:latin typeface="Britannic Bold"/>
                <a:ea typeface="微软雅黑"/>
              </a:rPr>
              <a:t>02</a:t>
            </a:r>
            <a:endParaRPr b="0" lang="en-US" sz="2400" spc="-1" strike="noStrike">
              <a:solidFill>
                <a:srgbClr val="000000"/>
              </a:solidFill>
              <a:latin typeface="Arial"/>
            </a:endParaRPr>
          </a:p>
        </p:txBody>
      </p:sp>
      <p:sp>
        <p:nvSpPr>
          <p:cNvPr id="296" name="MH_Other_3"/>
          <p:cNvSpPr/>
          <p:nvPr/>
        </p:nvSpPr>
        <p:spPr>
          <a:xfrm>
            <a:off x="4060080" y="2707560"/>
            <a:ext cx="1167120" cy="1225440"/>
          </a:xfrm>
          <a:custGeom>
            <a:avLst/>
            <a:gdLst>
              <a:gd name="textAreaLeft" fmla="*/ 0 w 1167120"/>
              <a:gd name="textAreaRight" fmla="*/ 1167480 w 1167120"/>
              <a:gd name="textAreaTop" fmla="*/ 0 h 1225440"/>
              <a:gd name="textAreaBottom" fmla="*/ 1225800 h 1225440"/>
            </a:gdLst>
            <a:ahLst/>
            <a:rect l="textAreaLeft" t="textAreaTop" r="textAreaRight" b="textAreaBottom"/>
            <a:pathLst>
              <a:path w="877824" h="921715">
                <a:moveTo>
                  <a:pt x="541324" y="0"/>
                </a:moveTo>
                <a:lnTo>
                  <a:pt x="877824" y="526694"/>
                </a:lnTo>
                <a:lnTo>
                  <a:pt x="658368" y="907084"/>
                </a:lnTo>
                <a:lnTo>
                  <a:pt x="0" y="921715"/>
                </a:lnTo>
                <a:lnTo>
                  <a:pt x="541324" y="0"/>
                </a:lnTo>
                <a:close/>
              </a:path>
            </a:pathLst>
          </a:custGeom>
          <a:solidFill>
            <a:schemeClr val="accent4"/>
          </a:solidFill>
          <a:ln w="38100">
            <a:noFill/>
          </a:ln>
          <a:scene3d>
            <a:camera prst="orthographicFront"/>
            <a:lightRig dir="t" rig="threePt"/>
          </a:scene3d>
        </p:spPr>
        <p:style>
          <a:lnRef idx="0"/>
          <a:fillRef idx="0"/>
          <a:effectRef idx="0"/>
          <a:fontRef idx="minor"/>
        </p:style>
        <p:txBody>
          <a:bodyPr lIns="180000" rIns="0" tIns="288000" bIns="0" anchor="ctr">
            <a:noAutofit/>
          </a:bodyPr>
          <a:p>
            <a:pPr algn="ctr">
              <a:lnSpc>
                <a:spcPct val="80000"/>
              </a:lnSpc>
            </a:pPr>
            <a:r>
              <a:rPr b="0" lang="en-US" sz="2400" spc="-1" strike="noStrike">
                <a:solidFill>
                  <a:srgbClr val="ffffff"/>
                </a:solidFill>
                <a:latin typeface="Britannic Bold"/>
                <a:ea typeface="微软雅黑"/>
              </a:rPr>
              <a:t>06</a:t>
            </a:r>
            <a:endParaRPr b="0" lang="en-US" sz="2400" spc="-1" strike="noStrike">
              <a:solidFill>
                <a:srgbClr val="000000"/>
              </a:solidFill>
              <a:latin typeface="Arial"/>
            </a:endParaRPr>
          </a:p>
        </p:txBody>
      </p:sp>
      <p:sp>
        <p:nvSpPr>
          <p:cNvPr id="297" name="MH_Other_4"/>
          <p:cNvSpPr/>
          <p:nvPr/>
        </p:nvSpPr>
        <p:spPr>
          <a:xfrm>
            <a:off x="6005880" y="4030920"/>
            <a:ext cx="1147680" cy="1206000"/>
          </a:xfrm>
          <a:custGeom>
            <a:avLst/>
            <a:gdLst>
              <a:gd name="textAreaLeft" fmla="*/ 0 w 1147680"/>
              <a:gd name="textAreaRight" fmla="*/ 1148040 w 1147680"/>
              <a:gd name="textAreaTop" fmla="*/ 0 h 1206000"/>
              <a:gd name="textAreaBottom" fmla="*/ 1206360 h 1206000"/>
            </a:gdLst>
            <a:ahLst/>
            <a:rect l="textAreaLeft" t="textAreaTop" r="textAreaRight" b="textAreaBottom"/>
            <a:pathLst>
              <a:path w="863193" h="907085">
                <a:moveTo>
                  <a:pt x="234086" y="0"/>
                </a:moveTo>
                <a:lnTo>
                  <a:pt x="0" y="373075"/>
                </a:lnTo>
                <a:lnTo>
                  <a:pt x="314553" y="907085"/>
                </a:lnTo>
                <a:lnTo>
                  <a:pt x="863193" y="14630"/>
                </a:lnTo>
                <a:lnTo>
                  <a:pt x="234086" y="0"/>
                </a:lnTo>
                <a:close/>
              </a:path>
            </a:pathLst>
          </a:custGeom>
          <a:solidFill>
            <a:schemeClr val="accent4"/>
          </a:solidFill>
          <a:ln w="38100">
            <a:noFill/>
          </a:ln>
          <a:scene3d>
            <a:camera prst="orthographicFront"/>
            <a:lightRig dir="t" rig="threePt"/>
          </a:scene3d>
        </p:spPr>
        <p:style>
          <a:lnRef idx="0"/>
          <a:fillRef idx="0"/>
          <a:effectRef idx="0"/>
          <a:fontRef idx="minor"/>
        </p:style>
        <p:txBody>
          <a:bodyPr lIns="0" rIns="144000" tIns="0" bIns="252000" anchor="ctr">
            <a:noAutofit/>
          </a:bodyPr>
          <a:p>
            <a:pPr algn="ctr">
              <a:lnSpc>
                <a:spcPct val="80000"/>
              </a:lnSpc>
            </a:pPr>
            <a:r>
              <a:rPr b="0" lang="en-US" sz="2400" spc="-1" strike="noStrike">
                <a:solidFill>
                  <a:srgbClr val="ffffff"/>
                </a:solidFill>
                <a:latin typeface="Britannic Bold"/>
                <a:ea typeface="微软雅黑"/>
              </a:rPr>
              <a:t>03</a:t>
            </a:r>
            <a:endParaRPr b="0" lang="en-US" sz="2400" spc="-1" strike="noStrike">
              <a:solidFill>
                <a:srgbClr val="000000"/>
              </a:solidFill>
              <a:latin typeface="Arial"/>
            </a:endParaRPr>
          </a:p>
        </p:txBody>
      </p:sp>
      <p:sp>
        <p:nvSpPr>
          <p:cNvPr id="298" name="MH_Other_5"/>
          <p:cNvSpPr/>
          <p:nvPr/>
        </p:nvSpPr>
        <p:spPr>
          <a:xfrm>
            <a:off x="4906440" y="4585680"/>
            <a:ext cx="1420200" cy="719640"/>
          </a:xfrm>
          <a:custGeom>
            <a:avLst/>
            <a:gdLst>
              <a:gd name="textAreaLeft" fmla="*/ 0 w 1420200"/>
              <a:gd name="textAreaRight" fmla="*/ 1420560 w 1420200"/>
              <a:gd name="textAreaTop" fmla="*/ 0 h 719640"/>
              <a:gd name="textAreaBottom" fmla="*/ 720000 h 719640"/>
            </a:gdLst>
            <a:ahLst/>
            <a:rect l="textAreaLeft" t="textAreaTop" r="textAreaRight" b="textAreaBottom"/>
            <a:pathLst>
              <a:path w="1068019" h="541325">
                <a:moveTo>
                  <a:pt x="307238" y="0"/>
                </a:moveTo>
                <a:lnTo>
                  <a:pt x="746150" y="0"/>
                </a:lnTo>
                <a:lnTo>
                  <a:pt x="1068019" y="541325"/>
                </a:lnTo>
                <a:lnTo>
                  <a:pt x="0" y="541325"/>
                </a:lnTo>
                <a:lnTo>
                  <a:pt x="307238" y="0"/>
                </a:lnTo>
                <a:close/>
              </a:path>
            </a:pathLst>
          </a:custGeom>
          <a:solidFill>
            <a:srgbClr val="1283c1"/>
          </a:solidFill>
          <a:ln w="38100">
            <a:noFill/>
          </a:ln>
          <a:scene3d>
            <a:camera prst="orthographicFront"/>
            <a:lightRig dir="t" rig="threePt"/>
          </a:scene3d>
        </p:spPr>
        <p:style>
          <a:lnRef idx="0"/>
          <a:fillRef idx="0"/>
          <a:effectRef idx="0"/>
          <a:fontRef idx="minor"/>
        </p:style>
        <p:txBody>
          <a:bodyPr lIns="0" rIns="0" tIns="0" bIns="0" anchor="ctr">
            <a:noAutofit/>
          </a:bodyPr>
          <a:p>
            <a:pPr algn="ctr">
              <a:lnSpc>
                <a:spcPct val="100000"/>
              </a:lnSpc>
            </a:pPr>
            <a:r>
              <a:rPr b="0" lang="en-US" sz="2400" spc="-1" strike="noStrike">
                <a:solidFill>
                  <a:srgbClr val="ffffff"/>
                </a:solidFill>
                <a:latin typeface="Britannic Bold"/>
                <a:ea typeface="微软雅黑"/>
              </a:rPr>
              <a:t>04</a:t>
            </a:r>
            <a:endParaRPr b="0" lang="en-US" sz="2400" spc="-1" strike="noStrike">
              <a:solidFill>
                <a:srgbClr val="000000"/>
              </a:solidFill>
              <a:latin typeface="Arial"/>
            </a:endParaRPr>
          </a:p>
        </p:txBody>
      </p:sp>
      <p:sp>
        <p:nvSpPr>
          <p:cNvPr id="299" name="MH_Other_6"/>
          <p:cNvSpPr/>
          <p:nvPr/>
        </p:nvSpPr>
        <p:spPr>
          <a:xfrm>
            <a:off x="4040640" y="4030920"/>
            <a:ext cx="1167120" cy="1225440"/>
          </a:xfrm>
          <a:custGeom>
            <a:avLst/>
            <a:gdLst>
              <a:gd name="textAreaLeft" fmla="*/ 0 w 1167120"/>
              <a:gd name="textAreaRight" fmla="*/ 1167480 w 1167120"/>
              <a:gd name="textAreaTop" fmla="*/ 0 h 1225440"/>
              <a:gd name="textAreaBottom" fmla="*/ 1225800 h 1225440"/>
            </a:gdLst>
            <a:ahLst/>
            <a:rect l="textAreaLeft" t="textAreaTop" r="textAreaRight" b="textAreaBottom"/>
            <a:pathLst>
              <a:path w="877824" h="921715">
                <a:moveTo>
                  <a:pt x="658368" y="0"/>
                </a:moveTo>
                <a:lnTo>
                  <a:pt x="877824" y="387705"/>
                </a:lnTo>
                <a:lnTo>
                  <a:pt x="563271" y="921715"/>
                </a:lnTo>
                <a:lnTo>
                  <a:pt x="0" y="7315"/>
                </a:lnTo>
                <a:lnTo>
                  <a:pt x="658368" y="0"/>
                </a:lnTo>
                <a:close/>
              </a:path>
            </a:pathLst>
          </a:custGeom>
          <a:solidFill>
            <a:srgbClr val="869b2b"/>
          </a:solidFill>
          <a:ln w="38100">
            <a:noFill/>
          </a:ln>
          <a:scene3d>
            <a:camera prst="orthographicFront"/>
            <a:lightRig dir="t" rig="threePt"/>
          </a:scene3d>
        </p:spPr>
        <p:style>
          <a:lnRef idx="0"/>
          <a:fillRef idx="0"/>
          <a:effectRef idx="0"/>
          <a:fontRef idx="minor"/>
        </p:style>
        <p:txBody>
          <a:bodyPr lIns="144000" rIns="0" tIns="0" bIns="324000" anchor="ctr">
            <a:noAutofit/>
          </a:bodyPr>
          <a:p>
            <a:pPr algn="ctr">
              <a:lnSpc>
                <a:spcPct val="100000"/>
              </a:lnSpc>
            </a:pPr>
            <a:r>
              <a:rPr b="0" lang="en-US" sz="2400" spc="-1" strike="noStrike">
                <a:solidFill>
                  <a:srgbClr val="ffffff"/>
                </a:solidFill>
                <a:latin typeface="Britannic Bold"/>
                <a:ea typeface="微软雅黑"/>
              </a:rPr>
              <a:t>05</a:t>
            </a:r>
            <a:endParaRPr b="0" lang="en-US" sz="2400" spc="-1" strike="noStrike">
              <a:solidFill>
                <a:srgbClr val="000000"/>
              </a:solidFill>
              <a:latin typeface="Arial"/>
            </a:endParaRPr>
          </a:p>
        </p:txBody>
      </p:sp>
      <p:sp>
        <p:nvSpPr>
          <p:cNvPr id="300" name="MH_Other_7"/>
          <p:cNvSpPr/>
          <p:nvPr/>
        </p:nvSpPr>
        <p:spPr>
          <a:xfrm>
            <a:off x="5004000" y="3456720"/>
            <a:ext cx="1206000" cy="1021320"/>
          </a:xfrm>
          <a:custGeom>
            <a:avLst/>
            <a:gdLst>
              <a:gd name="textAreaLeft" fmla="*/ 0 w 1206000"/>
              <a:gd name="textAreaRight" fmla="*/ 1206360 w 1206000"/>
              <a:gd name="textAreaTop" fmla="*/ 0 h 1021320"/>
              <a:gd name="textAreaBottom" fmla="*/ 1021680 h 1021320"/>
            </a:gdLst>
            <a:ahLst/>
            <a:rect l="textAreaLeft" t="textAreaTop" r="textAreaRight" b="textAreaBottom"/>
            <a:pathLst>
              <a:path w="907085" h="768096">
                <a:moveTo>
                  <a:pt x="226771" y="0"/>
                </a:moveTo>
                <a:lnTo>
                  <a:pt x="21946" y="365760"/>
                </a:lnTo>
                <a:lnTo>
                  <a:pt x="0" y="416966"/>
                </a:lnTo>
                <a:lnTo>
                  <a:pt x="219456" y="768096"/>
                </a:lnTo>
                <a:lnTo>
                  <a:pt x="680314" y="768096"/>
                </a:lnTo>
                <a:lnTo>
                  <a:pt x="907085" y="395021"/>
                </a:lnTo>
                <a:lnTo>
                  <a:pt x="687628" y="7316"/>
                </a:lnTo>
                <a:lnTo>
                  <a:pt x="226771" y="0"/>
                </a:lnTo>
                <a:close/>
              </a:path>
            </a:pathLst>
          </a:custGeom>
          <a:solidFill>
            <a:srgbClr val="dddddd"/>
          </a:solidFill>
          <a:ln w="3175">
            <a:noFill/>
          </a:ln>
          <a:scene3d>
            <a:camera prst="orthographicFront"/>
            <a:lightRig dir="t" rig="threePt"/>
          </a:scene3d>
        </p:spPr>
        <p:style>
          <a:lnRef idx="0"/>
          <a:fillRef idx="0"/>
          <a:effectRef idx="0"/>
          <a:fontRef idx="minor"/>
        </p:style>
        <p:txBody>
          <a:bodyPr wrap="none" lIns="90000" rIns="90000" tIns="45000" bIns="45000" anchor="ctr">
            <a:noAutofit/>
          </a:bodyPr>
          <a:p>
            <a:pPr algn="ctr">
              <a:lnSpc>
                <a:spcPct val="75000"/>
              </a:lnSpc>
            </a:pPr>
            <a:endParaRPr b="0" lang="en-US" sz="1300" spc="-1" strike="noStrike">
              <a:solidFill>
                <a:srgbClr val="ffffff"/>
              </a:solidFill>
              <a:latin typeface="Britannic Bold"/>
              <a:ea typeface="微软雅黑"/>
            </a:endParaRPr>
          </a:p>
        </p:txBody>
      </p:sp>
      <p:sp>
        <p:nvSpPr>
          <p:cNvPr id="301" name="MH_Other_8"/>
          <p:cNvSpPr/>
          <p:nvPr/>
        </p:nvSpPr>
        <p:spPr>
          <a:xfrm rot="4528800">
            <a:off x="4140720" y="3044520"/>
            <a:ext cx="435960" cy="435960"/>
          </a:xfrm>
          <a:prstGeom prst="rtTriangle">
            <a:avLst/>
          </a:prstGeom>
          <a:solidFill>
            <a:schemeClr val="accent4"/>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80000"/>
              </a:lnSpc>
            </a:pPr>
            <a:endParaRPr b="0" lang="en-US" sz="1600" spc="-1" strike="noStrike">
              <a:solidFill>
                <a:srgbClr val="ffffff"/>
              </a:solidFill>
              <a:latin typeface="Britannic Bold"/>
              <a:ea typeface="微软雅黑"/>
            </a:endParaRPr>
          </a:p>
        </p:txBody>
      </p:sp>
      <p:sp>
        <p:nvSpPr>
          <p:cNvPr id="302" name="MH_Other_9"/>
          <p:cNvSpPr/>
          <p:nvPr/>
        </p:nvSpPr>
        <p:spPr>
          <a:xfrm rot="8054400">
            <a:off x="5441400" y="2349360"/>
            <a:ext cx="435960" cy="435960"/>
          </a:xfrm>
          <a:prstGeom prst="rtTriangle">
            <a:avLst/>
          </a:prstGeom>
          <a:solidFill>
            <a:srgbClr val="1283c1"/>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Britannic Bold"/>
              <a:ea typeface="微软雅黑"/>
            </a:endParaRPr>
          </a:p>
        </p:txBody>
      </p:sp>
      <p:sp>
        <p:nvSpPr>
          <p:cNvPr id="303" name="MH_Other_10"/>
          <p:cNvSpPr/>
          <p:nvPr/>
        </p:nvSpPr>
        <p:spPr>
          <a:xfrm rot="11612400">
            <a:off x="6656040" y="3032280"/>
            <a:ext cx="435960" cy="435960"/>
          </a:xfrm>
          <a:prstGeom prst="rtTriangle">
            <a:avLst/>
          </a:prstGeom>
          <a:solidFill>
            <a:srgbClr val="869b2b"/>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Britannic Bold"/>
              <a:ea typeface="微软雅黑"/>
            </a:endParaRPr>
          </a:p>
        </p:txBody>
      </p:sp>
      <p:sp>
        <p:nvSpPr>
          <p:cNvPr id="304" name="MH_Other_11"/>
          <p:cNvSpPr/>
          <p:nvPr/>
        </p:nvSpPr>
        <p:spPr>
          <a:xfrm rot="856800">
            <a:off x="4145760" y="4525200"/>
            <a:ext cx="435960" cy="435960"/>
          </a:xfrm>
          <a:prstGeom prst="rtTriangle">
            <a:avLst/>
          </a:prstGeom>
          <a:solidFill>
            <a:srgbClr val="869b2b"/>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Britannic Bold"/>
              <a:ea typeface="微软雅黑"/>
            </a:endParaRPr>
          </a:p>
        </p:txBody>
      </p:sp>
      <p:sp>
        <p:nvSpPr>
          <p:cNvPr id="305" name="MH_Other_12"/>
          <p:cNvSpPr/>
          <p:nvPr/>
        </p:nvSpPr>
        <p:spPr>
          <a:xfrm rot="18867600">
            <a:off x="5398200" y="5154120"/>
            <a:ext cx="435960" cy="435960"/>
          </a:xfrm>
          <a:prstGeom prst="rtTriangle">
            <a:avLst/>
          </a:prstGeom>
          <a:solidFill>
            <a:srgbClr val="1283c1"/>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306" name="MH_Other_13"/>
          <p:cNvSpPr/>
          <p:nvPr/>
        </p:nvSpPr>
        <p:spPr>
          <a:xfrm rot="15353400">
            <a:off x="6625440" y="4493160"/>
            <a:ext cx="435960" cy="435960"/>
          </a:xfrm>
          <a:prstGeom prst="rtTriangle">
            <a:avLst/>
          </a:prstGeom>
          <a:solidFill>
            <a:schemeClr val="accent4"/>
          </a:solidFill>
          <a:ln w="38100">
            <a:noFill/>
          </a:ln>
          <a:scene3d>
            <a:camera prst="orthographicFront"/>
            <a:lightRig dir="t" rig="flat">
              <a:rot lat="0" lon="0" rev="5400000"/>
            </a:lightRig>
          </a:scene3d>
        </p:spPr>
        <p:style>
          <a:lnRef idx="0"/>
          <a:fillRef idx="0"/>
          <a:effectRef idx="0"/>
          <a:fontRef idx="minor"/>
        </p:style>
        <p:txBody>
          <a:bodyPr lIns="90000" rIns="90000" tIns="45000" bIns="45000" anchor="ctr">
            <a:noAutofit/>
          </a:bodyPr>
          <a:p>
            <a:pPr algn="ctr">
              <a:lnSpc>
                <a:spcPct val="80000"/>
              </a:lnSpc>
            </a:pPr>
            <a:endParaRPr b="0" lang="en-US" sz="1600" spc="-1" strike="noStrike">
              <a:solidFill>
                <a:srgbClr val="ffffff"/>
              </a:solidFill>
              <a:latin typeface="Britannic Bold"/>
              <a:ea typeface="微软雅黑"/>
            </a:endParaRPr>
          </a:p>
        </p:txBody>
      </p:sp>
      <p:sp>
        <p:nvSpPr>
          <p:cNvPr id="307" name="MH_SubTitle_1"/>
          <p:cNvSpPr/>
          <p:nvPr/>
        </p:nvSpPr>
        <p:spPr>
          <a:xfrm>
            <a:off x="4496760" y="1384560"/>
            <a:ext cx="2337120" cy="776160"/>
          </a:xfrm>
          <a:prstGeom prst="rect">
            <a:avLst/>
          </a:prstGeom>
          <a:noFill/>
          <a:ln w="0">
            <a:noFill/>
          </a:ln>
        </p:spPr>
        <p:style>
          <a:lnRef idx="0"/>
          <a:fillRef idx="0"/>
          <a:effectRef idx="0"/>
          <a:fontRef idx="minor"/>
        </p:style>
        <p:txBody>
          <a:bodyPr lIns="90000" rIns="90000" tIns="45000" bIns="45000" anchor="ctr">
            <a:normAutofit/>
          </a:bodyPr>
          <a:p>
            <a:pPr algn="ct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gn="ct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
        <p:nvSpPr>
          <p:cNvPr id="308" name="MH_SubTitle_4"/>
          <p:cNvSpPr/>
          <p:nvPr/>
        </p:nvSpPr>
        <p:spPr>
          <a:xfrm>
            <a:off x="4496760" y="5760720"/>
            <a:ext cx="2337120" cy="776160"/>
          </a:xfrm>
          <a:prstGeom prst="rect">
            <a:avLst/>
          </a:prstGeom>
          <a:noFill/>
          <a:ln w="0">
            <a:noFill/>
          </a:ln>
        </p:spPr>
        <p:style>
          <a:lnRef idx="0"/>
          <a:fillRef idx="0"/>
          <a:effectRef idx="0"/>
          <a:fontRef idx="minor"/>
        </p:style>
        <p:txBody>
          <a:bodyPr lIns="90000" rIns="90000" tIns="45000" bIns="45000" anchor="ctr">
            <a:normAutofit/>
          </a:bodyPr>
          <a:p>
            <a:pPr algn="ct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gn="ct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
        <p:nvSpPr>
          <p:cNvPr id="309" name="MH_SubTitle_2"/>
          <p:cNvSpPr/>
          <p:nvPr/>
        </p:nvSpPr>
        <p:spPr>
          <a:xfrm>
            <a:off x="7164360" y="2473920"/>
            <a:ext cx="2337120" cy="776160"/>
          </a:xfrm>
          <a:prstGeom prst="rect">
            <a:avLst/>
          </a:prstGeom>
          <a:noFill/>
          <a:ln w="0">
            <a:noFill/>
          </a:ln>
        </p:spPr>
        <p:style>
          <a:lnRef idx="0"/>
          <a:fillRef idx="0"/>
          <a:effectRef idx="0"/>
          <a:fontRef idx="minor"/>
        </p:style>
        <p:txBody>
          <a:bodyPr lIns="90000" rIns="90000" tIns="45000" bIns="45000" anchor="ctr">
            <a:normAutofit/>
          </a:bodyPr>
          <a:p>
            <a:pP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
        <p:nvSpPr>
          <p:cNvPr id="310" name="MH_SubTitle_3"/>
          <p:cNvSpPr/>
          <p:nvPr/>
        </p:nvSpPr>
        <p:spPr>
          <a:xfrm>
            <a:off x="7164360" y="4675320"/>
            <a:ext cx="2337120" cy="776160"/>
          </a:xfrm>
          <a:prstGeom prst="rect">
            <a:avLst/>
          </a:prstGeom>
          <a:noFill/>
          <a:ln w="0">
            <a:noFill/>
          </a:ln>
        </p:spPr>
        <p:style>
          <a:lnRef idx="0"/>
          <a:fillRef idx="0"/>
          <a:effectRef idx="0"/>
          <a:fontRef idx="minor"/>
        </p:style>
        <p:txBody>
          <a:bodyPr lIns="90000" rIns="90000" tIns="45000" bIns="45000" anchor="ctr">
            <a:normAutofit/>
          </a:bodyPr>
          <a:p>
            <a:pP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
        <p:nvSpPr>
          <p:cNvPr id="311" name="MH_SubTitle_6"/>
          <p:cNvSpPr/>
          <p:nvPr/>
        </p:nvSpPr>
        <p:spPr>
          <a:xfrm>
            <a:off x="1695600" y="2473920"/>
            <a:ext cx="2337120" cy="776160"/>
          </a:xfrm>
          <a:prstGeom prst="rect">
            <a:avLst/>
          </a:prstGeom>
          <a:noFill/>
          <a:ln w="0">
            <a:noFill/>
          </a:ln>
        </p:spPr>
        <p:style>
          <a:lnRef idx="0"/>
          <a:fillRef idx="0"/>
          <a:effectRef idx="0"/>
          <a:fontRef idx="minor"/>
        </p:style>
        <p:txBody>
          <a:bodyPr lIns="90000" rIns="90000" tIns="45000" bIns="45000" anchor="ctr">
            <a:normAutofit/>
          </a:bodyPr>
          <a:p>
            <a:pPr algn="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gn="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
        <p:nvSpPr>
          <p:cNvPr id="312" name="MH_SubTitle_5"/>
          <p:cNvSpPr/>
          <p:nvPr/>
        </p:nvSpPr>
        <p:spPr>
          <a:xfrm>
            <a:off x="1695600" y="4675320"/>
            <a:ext cx="2337120" cy="776160"/>
          </a:xfrm>
          <a:prstGeom prst="rect">
            <a:avLst/>
          </a:prstGeom>
          <a:noFill/>
          <a:ln w="0">
            <a:noFill/>
          </a:ln>
        </p:spPr>
        <p:style>
          <a:lnRef idx="0"/>
          <a:fillRef idx="0"/>
          <a:effectRef idx="0"/>
          <a:fontRef idx="minor"/>
        </p:style>
        <p:txBody>
          <a:bodyPr lIns="90000" rIns="90000" tIns="45000" bIns="45000" anchor="ctr">
            <a:normAutofit/>
          </a:bodyPr>
          <a:p>
            <a:pPr algn="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a:p>
            <a:pPr algn="r">
              <a:lnSpc>
                <a:spcPct val="120000"/>
              </a:lnSpc>
            </a:pPr>
            <a:r>
              <a:rPr b="0" lang="zh-CN" sz="1800" spc="-1" strike="noStrike">
                <a:solidFill>
                  <a:srgbClr val="000000"/>
                </a:solidFill>
                <a:latin typeface="微软雅黑"/>
                <a:ea typeface="微软雅黑"/>
              </a:rPr>
              <a:t>此处输入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MH_SubTitle_1"/>
          <p:cNvSpPr/>
          <p:nvPr/>
        </p:nvSpPr>
        <p:spPr>
          <a:xfrm>
            <a:off x="1917720" y="1872000"/>
            <a:ext cx="2610720" cy="3829680"/>
          </a:xfrm>
          <a:prstGeom prst="rect">
            <a:avLst/>
          </a:prstGeom>
          <a:solidFill>
            <a:schemeClr val="accent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50000"/>
              </a:lnSpc>
            </a:pPr>
            <a:r>
              <a:rPr b="0" lang="zh-CN" sz="1600" spc="-1" strike="noStrike">
                <a:solidFill>
                  <a:srgbClr val="515151"/>
                </a:solidFill>
                <a:latin typeface="微软雅黑"/>
                <a:ea typeface="微软雅黑"/>
              </a:rPr>
              <a:t>填入工作具体完成度情况</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p:txBody>
      </p:sp>
      <p:sp>
        <p:nvSpPr>
          <p:cNvPr id="314" name="MH_Other_1"/>
          <p:cNvSpPr/>
          <p:nvPr/>
        </p:nvSpPr>
        <p:spPr>
          <a:xfrm>
            <a:off x="2184480" y="1862280"/>
            <a:ext cx="2077200" cy="825840"/>
          </a:xfrm>
          <a:custGeom>
            <a:avLst/>
            <a:gdLst>
              <a:gd name="textAreaLeft" fmla="*/ 0 w 2077200"/>
              <a:gd name="textAreaRight" fmla="*/ 2077560 w 2077200"/>
              <a:gd name="textAreaTop" fmla="*/ 0 h 825840"/>
              <a:gd name="textAreaBottom" fmla="*/ 826200 h 825840"/>
            </a:gdLst>
            <a:ahLst/>
            <a:rect l="textAreaLeft" t="textAreaTop" r="textAreaRight" b="textAreaBottom"/>
            <a:pathLst>
              <a:path w="1717941" h="684076">
                <a:moveTo>
                  <a:pt x="0" y="0"/>
                </a:moveTo>
                <a:lnTo>
                  <a:pt x="1717941" y="0"/>
                </a:lnTo>
                <a:cubicBezTo>
                  <a:pt x="1628774" y="391908"/>
                  <a:pt x="1277992" y="684076"/>
                  <a:pt x="858970" y="684076"/>
                </a:cubicBezTo>
                <a:cubicBezTo>
                  <a:pt x="439949" y="684076"/>
                  <a:pt x="89166" y="391908"/>
                  <a:pt x="0" y="0"/>
                </a:cubicBezTo>
                <a:close/>
              </a:path>
            </a:pathLst>
          </a:custGeom>
          <a:solidFill>
            <a:srgbClr val="1283c1"/>
          </a:solidFill>
          <a:ln w="190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rPr>
              <a:t>1</a:t>
            </a:r>
            <a:endParaRPr b="0" lang="en-US" sz="3600" spc="-1" strike="noStrike">
              <a:solidFill>
                <a:srgbClr val="000000"/>
              </a:solidFill>
              <a:latin typeface="Arial"/>
            </a:endParaRPr>
          </a:p>
        </p:txBody>
      </p:sp>
      <p:sp>
        <p:nvSpPr>
          <p:cNvPr id="315" name="MH_SubTitle_2"/>
          <p:cNvSpPr/>
          <p:nvPr/>
        </p:nvSpPr>
        <p:spPr>
          <a:xfrm>
            <a:off x="4703040" y="1872000"/>
            <a:ext cx="2610720" cy="3829680"/>
          </a:xfrm>
          <a:prstGeom prst="rect">
            <a:avLst/>
          </a:prstGeom>
          <a:solidFill>
            <a:schemeClr val="accent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50000"/>
              </a:lnSpc>
            </a:pPr>
            <a:r>
              <a:rPr b="0" lang="zh-CN" sz="1600" spc="-1" strike="noStrike">
                <a:solidFill>
                  <a:srgbClr val="515151"/>
                </a:solidFill>
                <a:latin typeface="微软雅黑"/>
                <a:ea typeface="微软雅黑"/>
              </a:rPr>
              <a:t>填入工作具体完成度情况</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p:txBody>
      </p:sp>
      <p:sp>
        <p:nvSpPr>
          <p:cNvPr id="316" name="MH_Other_2"/>
          <p:cNvSpPr/>
          <p:nvPr/>
        </p:nvSpPr>
        <p:spPr>
          <a:xfrm>
            <a:off x="4969800" y="1862280"/>
            <a:ext cx="2077200" cy="825840"/>
          </a:xfrm>
          <a:custGeom>
            <a:avLst/>
            <a:gdLst>
              <a:gd name="textAreaLeft" fmla="*/ 0 w 2077200"/>
              <a:gd name="textAreaRight" fmla="*/ 2077560 w 2077200"/>
              <a:gd name="textAreaTop" fmla="*/ 0 h 825840"/>
              <a:gd name="textAreaBottom" fmla="*/ 826200 h 825840"/>
            </a:gdLst>
            <a:ahLst/>
            <a:rect l="textAreaLeft" t="textAreaTop" r="textAreaRight" b="textAreaBottom"/>
            <a:pathLst>
              <a:path w="1717941" h="684076">
                <a:moveTo>
                  <a:pt x="0" y="0"/>
                </a:moveTo>
                <a:lnTo>
                  <a:pt x="1717941" y="0"/>
                </a:lnTo>
                <a:cubicBezTo>
                  <a:pt x="1628774" y="391908"/>
                  <a:pt x="1277992" y="684076"/>
                  <a:pt x="858970" y="684076"/>
                </a:cubicBezTo>
                <a:cubicBezTo>
                  <a:pt x="439949" y="684076"/>
                  <a:pt x="89166" y="391908"/>
                  <a:pt x="0" y="0"/>
                </a:cubicBezTo>
                <a:close/>
              </a:path>
            </a:pathLst>
          </a:custGeom>
          <a:solidFill>
            <a:srgbClr val="1283c1"/>
          </a:solidFill>
          <a:ln w="190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rPr>
              <a:t>2</a:t>
            </a:r>
            <a:endParaRPr b="0" lang="en-US" sz="3600" spc="-1" strike="noStrike">
              <a:solidFill>
                <a:srgbClr val="000000"/>
              </a:solidFill>
              <a:latin typeface="Arial"/>
            </a:endParaRPr>
          </a:p>
        </p:txBody>
      </p:sp>
      <p:sp>
        <p:nvSpPr>
          <p:cNvPr id="317" name="MH_SubTitle_3"/>
          <p:cNvSpPr/>
          <p:nvPr/>
        </p:nvSpPr>
        <p:spPr>
          <a:xfrm>
            <a:off x="7488360" y="1872000"/>
            <a:ext cx="2610720" cy="3829680"/>
          </a:xfrm>
          <a:prstGeom prst="rect">
            <a:avLst/>
          </a:prstGeom>
          <a:solidFill>
            <a:schemeClr val="accent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50000"/>
              </a:lnSpc>
            </a:pPr>
            <a:r>
              <a:rPr b="0" lang="zh-CN" sz="1600" spc="-1" strike="noStrike">
                <a:solidFill>
                  <a:srgbClr val="515151"/>
                </a:solidFill>
                <a:latin typeface="微软雅黑"/>
                <a:ea typeface="微软雅黑"/>
              </a:rPr>
              <a:t>填入工作具体完成度情况</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a:p>
            <a:pPr algn="ctr">
              <a:lnSpc>
                <a:spcPct val="150000"/>
              </a:lnSpc>
            </a:pPr>
            <a:r>
              <a:rPr b="0" lang="zh-CN" sz="1600" spc="-1" strike="noStrike">
                <a:solidFill>
                  <a:srgbClr val="515151"/>
                </a:solidFill>
                <a:latin typeface="微软雅黑"/>
                <a:ea typeface="微软雅黑"/>
              </a:rPr>
              <a:t>输入文字内容</a:t>
            </a:r>
            <a:endParaRPr b="0" lang="en-US" sz="1600" spc="-1" strike="noStrike">
              <a:solidFill>
                <a:srgbClr val="000000"/>
              </a:solidFill>
              <a:latin typeface="Arial"/>
            </a:endParaRPr>
          </a:p>
        </p:txBody>
      </p:sp>
      <p:sp>
        <p:nvSpPr>
          <p:cNvPr id="318" name="MH_Other_3"/>
          <p:cNvSpPr/>
          <p:nvPr/>
        </p:nvSpPr>
        <p:spPr>
          <a:xfrm>
            <a:off x="7755120" y="1862280"/>
            <a:ext cx="2077200" cy="825840"/>
          </a:xfrm>
          <a:custGeom>
            <a:avLst/>
            <a:gdLst>
              <a:gd name="textAreaLeft" fmla="*/ 0 w 2077200"/>
              <a:gd name="textAreaRight" fmla="*/ 2077560 w 2077200"/>
              <a:gd name="textAreaTop" fmla="*/ 0 h 825840"/>
              <a:gd name="textAreaBottom" fmla="*/ 826200 h 825840"/>
            </a:gdLst>
            <a:ahLst/>
            <a:rect l="textAreaLeft" t="textAreaTop" r="textAreaRight" b="textAreaBottom"/>
            <a:pathLst>
              <a:path w="1717941" h="684076">
                <a:moveTo>
                  <a:pt x="0" y="0"/>
                </a:moveTo>
                <a:lnTo>
                  <a:pt x="1717941" y="0"/>
                </a:lnTo>
                <a:cubicBezTo>
                  <a:pt x="1628774" y="391908"/>
                  <a:pt x="1277992" y="684076"/>
                  <a:pt x="858970" y="684076"/>
                </a:cubicBezTo>
                <a:cubicBezTo>
                  <a:pt x="439949" y="684076"/>
                  <a:pt x="89166" y="391908"/>
                  <a:pt x="0" y="0"/>
                </a:cubicBezTo>
                <a:close/>
              </a:path>
            </a:pathLst>
          </a:custGeom>
          <a:solidFill>
            <a:srgbClr val="1283c1"/>
          </a:solidFill>
          <a:ln w="190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rPr>
              <a:t>3</a:t>
            </a:r>
            <a:endParaRPr b="0" lang="en-US" sz="3600" spc="-1" strike="noStrike">
              <a:solidFill>
                <a:srgbClr val="000000"/>
              </a:solidFill>
              <a:latin typeface="Arial"/>
            </a:endParaRPr>
          </a:p>
        </p:txBody>
      </p:sp>
      <p:sp>
        <p:nvSpPr>
          <p:cNvPr id="319" name="MH_Other_4"/>
          <p:cNvSpPr/>
          <p:nvPr/>
        </p:nvSpPr>
        <p:spPr>
          <a:xfrm rot="9860400">
            <a:off x="4358520" y="2708280"/>
            <a:ext cx="17208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20" name="MH_Other_5"/>
          <p:cNvSpPr/>
          <p:nvPr/>
        </p:nvSpPr>
        <p:spPr>
          <a:xfrm rot="9860400">
            <a:off x="4735440" y="2708280"/>
            <a:ext cx="14184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21" name="MH_Other_6"/>
          <p:cNvSpPr/>
          <p:nvPr/>
        </p:nvSpPr>
        <p:spPr>
          <a:xfrm rot="10841400">
            <a:off x="4379400" y="272412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22" name="MH_Other_7"/>
          <p:cNvSpPr/>
          <p:nvPr/>
        </p:nvSpPr>
        <p:spPr>
          <a:xfrm rot="10841400">
            <a:off x="4744440" y="272412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23" name="MH_Other_8"/>
          <p:cNvSpPr/>
          <p:nvPr/>
        </p:nvSpPr>
        <p:spPr>
          <a:xfrm rot="10841400">
            <a:off x="4410360" y="2716560"/>
            <a:ext cx="386640" cy="41760"/>
          </a:xfrm>
          <a:prstGeom prst="rect">
            <a:avLst/>
          </a:prstGeom>
          <a:gradFill rotWithShape="0">
            <a:gsLst>
              <a:gs pos="0">
                <a:srgbClr val="262626"/>
              </a:gs>
              <a:gs pos="100000">
                <a:srgbClr val="262626"/>
              </a:gs>
            </a:gsLst>
            <a:path path="rect">
              <a:fillToRect l="0" t="100000" r="100000" b="0"/>
            </a:path>
          </a:gradFill>
          <a:ln>
            <a:noFill/>
          </a:ln>
        </p:spPr>
        <p:style>
          <a:lnRef idx="2">
            <a:schemeClr val="accent1">
              <a:shade val="50000"/>
            </a:schemeClr>
          </a:lnRef>
          <a:fillRef idx="1">
            <a:schemeClr val="accent1"/>
          </a:fillRef>
          <a:effectRef idx="0">
            <a:schemeClr val="accent1"/>
          </a:effectRef>
          <a:fontRef idx="minor"/>
        </p:style>
        <p:txBody>
          <a:bodyPr lIns="68760" rIns="68760" tIns="20880" bIns="20880" anchor="ctr">
            <a:noAutofit/>
          </a:bodyPr>
          <a:p>
            <a:pPr algn="ctr">
              <a:lnSpc>
                <a:spcPct val="100000"/>
              </a:lnSpc>
            </a:pPr>
            <a:endParaRPr b="0" lang="en-US" sz="1350" spc="-1" strike="noStrike">
              <a:solidFill>
                <a:schemeClr val="lt1"/>
              </a:solidFill>
              <a:latin typeface="Arial"/>
            </a:endParaRPr>
          </a:p>
        </p:txBody>
      </p:sp>
      <p:sp>
        <p:nvSpPr>
          <p:cNvPr id="324" name="MH_Other_9"/>
          <p:cNvSpPr/>
          <p:nvPr/>
        </p:nvSpPr>
        <p:spPr>
          <a:xfrm rot="9860400">
            <a:off x="4358520" y="4918320"/>
            <a:ext cx="17208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25" name="MH_Other_10"/>
          <p:cNvSpPr/>
          <p:nvPr/>
        </p:nvSpPr>
        <p:spPr>
          <a:xfrm rot="9860400">
            <a:off x="4735440" y="4918320"/>
            <a:ext cx="14184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26" name="MH_Other_11"/>
          <p:cNvSpPr/>
          <p:nvPr/>
        </p:nvSpPr>
        <p:spPr>
          <a:xfrm rot="10841400">
            <a:off x="4379400" y="493380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27" name="MH_Other_12"/>
          <p:cNvSpPr/>
          <p:nvPr/>
        </p:nvSpPr>
        <p:spPr>
          <a:xfrm rot="10841400">
            <a:off x="4744440" y="493380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28" name="MH_Other_13"/>
          <p:cNvSpPr/>
          <p:nvPr/>
        </p:nvSpPr>
        <p:spPr>
          <a:xfrm rot="10841400">
            <a:off x="4410360" y="4926240"/>
            <a:ext cx="386640" cy="41760"/>
          </a:xfrm>
          <a:prstGeom prst="rect">
            <a:avLst/>
          </a:prstGeom>
          <a:gradFill rotWithShape="0">
            <a:gsLst>
              <a:gs pos="0">
                <a:srgbClr val="262626"/>
              </a:gs>
              <a:gs pos="100000">
                <a:srgbClr val="262626"/>
              </a:gs>
            </a:gsLst>
            <a:path path="rect">
              <a:fillToRect l="0" t="100000" r="100000" b="0"/>
            </a:path>
          </a:gradFill>
          <a:ln>
            <a:noFill/>
          </a:ln>
        </p:spPr>
        <p:style>
          <a:lnRef idx="2">
            <a:schemeClr val="accent1">
              <a:shade val="50000"/>
            </a:schemeClr>
          </a:lnRef>
          <a:fillRef idx="1">
            <a:schemeClr val="accent1"/>
          </a:fillRef>
          <a:effectRef idx="0">
            <a:schemeClr val="accent1"/>
          </a:effectRef>
          <a:fontRef idx="minor"/>
        </p:style>
        <p:txBody>
          <a:bodyPr lIns="68760" rIns="68760" tIns="20880" bIns="20880" anchor="ctr">
            <a:noAutofit/>
          </a:bodyPr>
          <a:p>
            <a:pPr algn="ctr">
              <a:lnSpc>
                <a:spcPct val="100000"/>
              </a:lnSpc>
            </a:pPr>
            <a:endParaRPr b="0" lang="en-US" sz="1350" spc="-1" strike="noStrike">
              <a:solidFill>
                <a:schemeClr val="lt1"/>
              </a:solidFill>
              <a:latin typeface="Arial"/>
            </a:endParaRPr>
          </a:p>
        </p:txBody>
      </p:sp>
      <p:sp>
        <p:nvSpPr>
          <p:cNvPr id="329" name="MH_Other_14"/>
          <p:cNvSpPr/>
          <p:nvPr/>
        </p:nvSpPr>
        <p:spPr>
          <a:xfrm rot="9860400">
            <a:off x="7123680" y="2708280"/>
            <a:ext cx="17208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30" name="MH_Other_15"/>
          <p:cNvSpPr/>
          <p:nvPr/>
        </p:nvSpPr>
        <p:spPr>
          <a:xfrm rot="9860400">
            <a:off x="7500960" y="2708280"/>
            <a:ext cx="14184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31" name="MH_Other_16"/>
          <p:cNvSpPr/>
          <p:nvPr/>
        </p:nvSpPr>
        <p:spPr>
          <a:xfrm rot="10841400">
            <a:off x="7144560" y="272412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32" name="MH_Other_17"/>
          <p:cNvSpPr/>
          <p:nvPr/>
        </p:nvSpPr>
        <p:spPr>
          <a:xfrm rot="10841400">
            <a:off x="7509960" y="272412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33" name="MH_Other_18"/>
          <p:cNvSpPr/>
          <p:nvPr/>
        </p:nvSpPr>
        <p:spPr>
          <a:xfrm rot="10841400">
            <a:off x="7175880" y="2716560"/>
            <a:ext cx="386640" cy="41760"/>
          </a:xfrm>
          <a:prstGeom prst="rect">
            <a:avLst/>
          </a:prstGeom>
          <a:gradFill rotWithShape="0">
            <a:gsLst>
              <a:gs pos="0">
                <a:srgbClr val="262626"/>
              </a:gs>
              <a:gs pos="100000">
                <a:srgbClr val="262626"/>
              </a:gs>
            </a:gsLst>
            <a:path path="rect">
              <a:fillToRect l="0" t="100000" r="100000" b="0"/>
            </a:path>
          </a:gradFill>
          <a:ln>
            <a:noFill/>
          </a:ln>
        </p:spPr>
        <p:style>
          <a:lnRef idx="2">
            <a:schemeClr val="accent1">
              <a:shade val="50000"/>
            </a:schemeClr>
          </a:lnRef>
          <a:fillRef idx="1">
            <a:schemeClr val="accent1"/>
          </a:fillRef>
          <a:effectRef idx="0">
            <a:schemeClr val="accent1"/>
          </a:effectRef>
          <a:fontRef idx="minor"/>
        </p:style>
        <p:txBody>
          <a:bodyPr lIns="68760" rIns="68760" tIns="20880" bIns="20880" anchor="ctr">
            <a:noAutofit/>
          </a:bodyPr>
          <a:p>
            <a:pPr algn="ctr">
              <a:lnSpc>
                <a:spcPct val="100000"/>
              </a:lnSpc>
            </a:pPr>
            <a:endParaRPr b="0" lang="en-US" sz="3600" spc="-1" strike="noStrike">
              <a:solidFill>
                <a:schemeClr val="lt1"/>
              </a:solidFill>
              <a:latin typeface="Arial"/>
            </a:endParaRPr>
          </a:p>
        </p:txBody>
      </p:sp>
      <p:sp>
        <p:nvSpPr>
          <p:cNvPr id="334" name="MH_Other_19"/>
          <p:cNvSpPr/>
          <p:nvPr/>
        </p:nvSpPr>
        <p:spPr>
          <a:xfrm rot="9860400">
            <a:off x="7123680" y="4918320"/>
            <a:ext cx="17208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35" name="MH_Other_20"/>
          <p:cNvSpPr/>
          <p:nvPr/>
        </p:nvSpPr>
        <p:spPr>
          <a:xfrm rot="9860400">
            <a:off x="7500960" y="4918320"/>
            <a:ext cx="141840" cy="1220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Arial"/>
            </a:endParaRPr>
          </a:p>
        </p:txBody>
      </p:sp>
      <p:sp>
        <p:nvSpPr>
          <p:cNvPr id="336" name="MH_Other_21"/>
          <p:cNvSpPr/>
          <p:nvPr/>
        </p:nvSpPr>
        <p:spPr>
          <a:xfrm rot="10841400">
            <a:off x="7144560" y="493380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37" name="MH_Other_22"/>
          <p:cNvSpPr/>
          <p:nvPr/>
        </p:nvSpPr>
        <p:spPr>
          <a:xfrm rot="10841400">
            <a:off x="7509960" y="4933800"/>
            <a:ext cx="103320" cy="89280"/>
          </a:xfrm>
          <a:prstGeom prst="ellipse">
            <a:avLst/>
          </a:prstGeom>
          <a:gradFill rotWithShape="0">
            <a:gsLst>
              <a:gs pos="0">
                <a:srgbClr val="a6a6a6"/>
              </a:gs>
              <a:gs pos="100000">
                <a:srgbClr val="808080"/>
              </a:gs>
            </a:gsLst>
            <a:lin ang="2700000"/>
          </a:grad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68760" rIns="68760" tIns="31680" bIns="31680" anchor="ctr">
            <a:noAutofit/>
          </a:bodyPr>
          <a:p>
            <a:pPr algn="ctr">
              <a:lnSpc>
                <a:spcPct val="100000"/>
              </a:lnSpc>
            </a:pPr>
            <a:endParaRPr b="0" lang="en-US" sz="1350" spc="-1" strike="noStrike">
              <a:solidFill>
                <a:schemeClr val="lt1"/>
              </a:solidFill>
              <a:latin typeface="Arial"/>
            </a:endParaRPr>
          </a:p>
        </p:txBody>
      </p:sp>
      <p:sp>
        <p:nvSpPr>
          <p:cNvPr id="338" name="MH_Other_23"/>
          <p:cNvSpPr/>
          <p:nvPr/>
        </p:nvSpPr>
        <p:spPr>
          <a:xfrm rot="10841400">
            <a:off x="7175880" y="4926240"/>
            <a:ext cx="386640" cy="41760"/>
          </a:xfrm>
          <a:prstGeom prst="rect">
            <a:avLst/>
          </a:prstGeom>
          <a:gradFill rotWithShape="0">
            <a:gsLst>
              <a:gs pos="0">
                <a:srgbClr val="262626"/>
              </a:gs>
              <a:gs pos="100000">
                <a:srgbClr val="262626"/>
              </a:gs>
            </a:gsLst>
            <a:path path="rect">
              <a:fillToRect l="0" t="100000" r="100000" b="0"/>
            </a:path>
          </a:gradFill>
          <a:ln>
            <a:noFill/>
          </a:ln>
        </p:spPr>
        <p:style>
          <a:lnRef idx="2">
            <a:schemeClr val="accent1">
              <a:shade val="50000"/>
            </a:schemeClr>
          </a:lnRef>
          <a:fillRef idx="1">
            <a:schemeClr val="accent1"/>
          </a:fillRef>
          <a:effectRef idx="0">
            <a:schemeClr val="accent1"/>
          </a:effectRef>
          <a:fontRef idx="minor"/>
        </p:style>
        <p:txBody>
          <a:bodyPr lIns="68760" rIns="68760" tIns="20880" bIns="20880" anchor="ctr">
            <a:noAutofit/>
          </a:bodyPr>
          <a:p>
            <a:pPr algn="ctr">
              <a:lnSpc>
                <a:spcPct val="100000"/>
              </a:lnSpc>
            </a:pPr>
            <a:endParaRPr b="0" lang="en-US" sz="1350" spc="-1" strike="noStrike">
              <a:solidFill>
                <a:schemeClr val="lt1"/>
              </a:solidFill>
              <a:latin typeface="Arial"/>
            </a:endParaRPr>
          </a:p>
        </p:txBody>
      </p:sp>
      <p:sp>
        <p:nvSpPr>
          <p:cNvPr id="339"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340" name="矩形 30"/>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具体完成情况</a:t>
            </a:r>
            <a:endParaRPr b="0" lang="en-US" sz="2800" spc="-1" strike="noStrike">
              <a:solidFill>
                <a:srgbClr val="000000"/>
              </a:solidFill>
              <a:latin typeface="Arial"/>
            </a:endParaRPr>
          </a:p>
        </p:txBody>
      </p:sp>
      <p:cxnSp>
        <p:nvCxnSpPr>
          <p:cNvPr id="341" name="直接连接符 31"/>
          <p:cNvCxnSpPr/>
          <p:nvPr/>
        </p:nvCxnSpPr>
        <p:spPr>
          <a:xfrm>
            <a:off x="0" y="1105200"/>
            <a:ext cx="11694240" cy="360"/>
          </a:xfrm>
          <a:prstGeom prst="straightConnector1">
            <a:avLst/>
          </a:prstGeom>
          <a:ln w="25400">
            <a:solidFill>
              <a:srgbClr val="2c77ca"/>
            </a:solidFill>
          </a:ln>
        </p:spPr>
      </p:cxnSp>
      <p:sp>
        <p:nvSpPr>
          <p:cNvPr id="342" name="矩形 3"/>
          <p:cNvSpPr/>
          <p:nvPr/>
        </p:nvSpPr>
        <p:spPr>
          <a:xfrm>
            <a:off x="2390400" y="33739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矩形 34"/>
          <p:cNvSpPr/>
          <p:nvPr/>
        </p:nvSpPr>
        <p:spPr>
          <a:xfrm>
            <a:off x="2390400" y="374760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4" name="矩形 35"/>
          <p:cNvSpPr/>
          <p:nvPr/>
        </p:nvSpPr>
        <p:spPr>
          <a:xfrm>
            <a:off x="2390400" y="412596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5" name="矩形 36"/>
          <p:cNvSpPr/>
          <p:nvPr/>
        </p:nvSpPr>
        <p:spPr>
          <a:xfrm>
            <a:off x="2392920" y="45043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矩形 37"/>
          <p:cNvSpPr/>
          <p:nvPr/>
        </p:nvSpPr>
        <p:spPr>
          <a:xfrm>
            <a:off x="5162040" y="33739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7" name="矩形 38"/>
          <p:cNvSpPr/>
          <p:nvPr/>
        </p:nvSpPr>
        <p:spPr>
          <a:xfrm>
            <a:off x="5162040" y="374760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8" name="矩形 39"/>
          <p:cNvSpPr/>
          <p:nvPr/>
        </p:nvSpPr>
        <p:spPr>
          <a:xfrm>
            <a:off x="5162040" y="412596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9" name="矩形 40"/>
          <p:cNvSpPr/>
          <p:nvPr/>
        </p:nvSpPr>
        <p:spPr>
          <a:xfrm>
            <a:off x="5164920" y="45043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0" name="矩形 41"/>
          <p:cNvSpPr/>
          <p:nvPr/>
        </p:nvSpPr>
        <p:spPr>
          <a:xfrm>
            <a:off x="7972200" y="33739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1" name="矩形 42"/>
          <p:cNvSpPr/>
          <p:nvPr/>
        </p:nvSpPr>
        <p:spPr>
          <a:xfrm>
            <a:off x="7972200" y="374760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2" name="矩形 43"/>
          <p:cNvSpPr/>
          <p:nvPr/>
        </p:nvSpPr>
        <p:spPr>
          <a:xfrm>
            <a:off x="7972200" y="412596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矩形 44"/>
          <p:cNvSpPr/>
          <p:nvPr/>
        </p:nvSpPr>
        <p:spPr>
          <a:xfrm>
            <a:off x="7974720" y="4504320"/>
            <a:ext cx="142920" cy="1429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355"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具体完成情况</a:t>
            </a:r>
            <a:endParaRPr b="0" lang="en-US" sz="2800" spc="-1" strike="noStrike">
              <a:solidFill>
                <a:srgbClr val="000000"/>
              </a:solidFill>
              <a:latin typeface="Arial"/>
            </a:endParaRPr>
          </a:p>
        </p:txBody>
      </p:sp>
      <p:cxnSp>
        <p:nvCxnSpPr>
          <p:cNvPr id="356" name="直接连接符 3"/>
          <p:cNvCxnSpPr/>
          <p:nvPr/>
        </p:nvCxnSpPr>
        <p:spPr>
          <a:xfrm>
            <a:off x="0" y="1105200"/>
            <a:ext cx="11694240" cy="360"/>
          </a:xfrm>
          <a:prstGeom prst="straightConnector1">
            <a:avLst/>
          </a:prstGeom>
          <a:ln w="25400">
            <a:solidFill>
              <a:srgbClr val="2c77ca"/>
            </a:solidFill>
          </a:ln>
        </p:spPr>
      </p:cxnSp>
      <p:sp>
        <p:nvSpPr>
          <p:cNvPr id="357" name="MH_Other_1"/>
          <p:cNvSpPr/>
          <p:nvPr/>
        </p:nvSpPr>
        <p:spPr>
          <a:xfrm>
            <a:off x="4821840" y="1868760"/>
            <a:ext cx="1668960" cy="1676160"/>
          </a:xfrm>
          <a:prstGeom prst="heart">
            <a:avLst/>
          </a:prstGeom>
          <a:solidFill>
            <a:srgbClr val="eaeaea"/>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ffff"/>
              </a:solidFill>
              <a:latin typeface="Britannic Bold"/>
              <a:ea typeface="微软雅黑"/>
            </a:endParaRPr>
          </a:p>
        </p:txBody>
      </p:sp>
      <p:sp>
        <p:nvSpPr>
          <p:cNvPr id="358" name="MH_Other_2"/>
          <p:cNvSpPr/>
          <p:nvPr/>
        </p:nvSpPr>
        <p:spPr>
          <a:xfrm>
            <a:off x="4909320" y="2046240"/>
            <a:ext cx="1512360" cy="1406160"/>
          </a:xfrm>
          <a:custGeom>
            <a:avLst/>
            <a:gdLst>
              <a:gd name="textAreaLeft" fmla="*/ 0 w 1512360"/>
              <a:gd name="textAreaRight" fmla="*/ 1512720 w 1512360"/>
              <a:gd name="textAreaTop" fmla="*/ 0 h 1406160"/>
              <a:gd name="textAreaBottom" fmla="*/ 1406520 h 1406160"/>
            </a:gdLst>
            <a:ahLst/>
            <a:rect l="textAreaLeft" t="textAreaTop" r="textAreaRight" b="textAreaBottom"/>
            <a:pathLst>
              <a:path w="1044386" h="968822">
                <a:moveTo>
                  <a:pt x="515433" y="321988"/>
                </a:moveTo>
                <a:cubicBezTo>
                  <a:pt x="771309" y="-392387"/>
                  <a:pt x="1565564" y="197297"/>
                  <a:pt x="515433" y="968822"/>
                </a:cubicBezTo>
                <a:cubicBezTo>
                  <a:pt x="-534698" y="197297"/>
                  <a:pt x="311512" y="-361215"/>
                  <a:pt x="515433" y="321988"/>
                </a:cubicBezTo>
                <a:close/>
              </a:path>
            </a:pathLst>
          </a:cu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108000" bIns="45000" anchor="ctr">
            <a:noAutofit/>
          </a:bodyPr>
          <a:p>
            <a:pPr algn="ctr">
              <a:lnSpc>
                <a:spcPct val="100000"/>
              </a:lnSpc>
            </a:pPr>
            <a:r>
              <a:rPr b="0" lang="en-US" sz="3200" spc="-1" strike="noStrike">
                <a:solidFill>
                  <a:srgbClr val="ffffff"/>
                </a:solidFill>
                <a:latin typeface="Britannic Bold"/>
                <a:ea typeface="微软雅黑"/>
              </a:rPr>
              <a:t>01</a:t>
            </a:r>
            <a:endParaRPr b="0" lang="en-US" sz="3200" spc="-1" strike="noStrike">
              <a:solidFill>
                <a:srgbClr val="000000"/>
              </a:solidFill>
              <a:latin typeface="Arial"/>
            </a:endParaRPr>
          </a:p>
        </p:txBody>
      </p:sp>
      <p:sp>
        <p:nvSpPr>
          <p:cNvPr id="359" name="MH_Other_3"/>
          <p:cNvSpPr/>
          <p:nvPr/>
        </p:nvSpPr>
        <p:spPr>
          <a:xfrm rot="5400000">
            <a:off x="5811840" y="2776320"/>
            <a:ext cx="1676160" cy="1668960"/>
          </a:xfrm>
          <a:prstGeom prst="heart">
            <a:avLst/>
          </a:prstGeom>
          <a:solidFill>
            <a:srgbClr val="eaeaea"/>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ffff"/>
              </a:solidFill>
              <a:latin typeface="Britannic Bold"/>
              <a:ea typeface="微软雅黑"/>
            </a:endParaRPr>
          </a:p>
        </p:txBody>
      </p:sp>
      <p:sp>
        <p:nvSpPr>
          <p:cNvPr id="360" name="MH_Other_4"/>
          <p:cNvSpPr/>
          <p:nvPr/>
        </p:nvSpPr>
        <p:spPr>
          <a:xfrm rot="10800000">
            <a:off x="4822200" y="3677040"/>
            <a:ext cx="1668960" cy="1676160"/>
          </a:xfrm>
          <a:prstGeom prst="heart">
            <a:avLst/>
          </a:prstGeom>
          <a:solidFill>
            <a:srgbClr val="eaeaea"/>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ffff"/>
              </a:solidFill>
              <a:latin typeface="Britannic Bold"/>
              <a:ea typeface="微软雅黑"/>
            </a:endParaRPr>
          </a:p>
        </p:txBody>
      </p:sp>
      <p:sp>
        <p:nvSpPr>
          <p:cNvPr id="361" name="MH_Other_5"/>
          <p:cNvSpPr/>
          <p:nvPr/>
        </p:nvSpPr>
        <p:spPr>
          <a:xfrm rot="16200000">
            <a:off x="3825000" y="2776680"/>
            <a:ext cx="1676160" cy="1668960"/>
          </a:xfrm>
          <a:prstGeom prst="heart">
            <a:avLst/>
          </a:prstGeom>
          <a:solidFill>
            <a:srgbClr val="eaeaea"/>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200" spc="-1" strike="noStrike">
              <a:solidFill>
                <a:srgbClr val="ffffff"/>
              </a:solidFill>
              <a:latin typeface="Britannic Bold"/>
              <a:ea typeface="微软雅黑"/>
            </a:endParaRPr>
          </a:p>
        </p:txBody>
      </p:sp>
      <p:sp>
        <p:nvSpPr>
          <p:cNvPr id="362" name="MH_Other_8"/>
          <p:cNvSpPr/>
          <p:nvPr/>
        </p:nvSpPr>
        <p:spPr>
          <a:xfrm>
            <a:off x="4005720" y="2841840"/>
            <a:ext cx="1402200" cy="1517040"/>
          </a:xfrm>
          <a:custGeom>
            <a:avLst/>
            <a:gdLst>
              <a:gd name="textAreaLeft" fmla="*/ 0 w 1402200"/>
              <a:gd name="textAreaRight" fmla="*/ 1402560 w 1402200"/>
              <a:gd name="textAreaTop" fmla="*/ 0 h 1517040"/>
              <a:gd name="textAreaBottom" fmla="*/ 1517400 h 1517040"/>
            </a:gdLst>
            <a:ahLst/>
            <a:rect l="textAreaLeft" t="textAreaTop" r="textAreaRight" b="textAreaBottom"/>
            <a:pathLst>
              <a:path w="968823" h="1044385">
                <a:moveTo>
                  <a:pt x="236751" y="2"/>
                </a:moveTo>
                <a:cubicBezTo>
                  <a:pt x="415751" y="721"/>
                  <a:pt x="679501" y="135154"/>
                  <a:pt x="968823" y="528953"/>
                </a:cubicBezTo>
                <a:cubicBezTo>
                  <a:pt x="197298" y="1579084"/>
                  <a:pt x="-361214" y="732874"/>
                  <a:pt x="321989" y="528953"/>
                </a:cubicBezTo>
                <a:cubicBezTo>
                  <a:pt x="-124495" y="369030"/>
                  <a:pt x="-61582" y="-1196"/>
                  <a:pt x="236751" y="2"/>
                </a:cubicBezTo>
                <a:close/>
              </a:path>
            </a:pathLst>
          </a:cu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216000" rIns="90000" tIns="45000" bIns="45000" anchor="ctr">
            <a:noAutofit/>
          </a:bodyPr>
          <a:p>
            <a:pPr algn="ctr">
              <a:lnSpc>
                <a:spcPct val="100000"/>
              </a:lnSpc>
            </a:pPr>
            <a:r>
              <a:rPr b="0" lang="en-US" sz="3200" spc="-1" strike="noStrike">
                <a:solidFill>
                  <a:srgbClr val="ffffff"/>
                </a:solidFill>
                <a:latin typeface="Britannic Bold"/>
                <a:ea typeface="微软雅黑"/>
              </a:rPr>
              <a:t>04</a:t>
            </a:r>
            <a:endParaRPr b="0" lang="en-US" sz="3200" spc="-1" strike="noStrike">
              <a:solidFill>
                <a:srgbClr val="000000"/>
              </a:solidFill>
              <a:latin typeface="Arial"/>
            </a:endParaRPr>
          </a:p>
        </p:txBody>
      </p:sp>
      <p:sp>
        <p:nvSpPr>
          <p:cNvPr id="363" name="MH_Other_9"/>
          <p:cNvSpPr/>
          <p:nvPr/>
        </p:nvSpPr>
        <p:spPr>
          <a:xfrm>
            <a:off x="4890960" y="3766680"/>
            <a:ext cx="1512360" cy="1408680"/>
          </a:xfrm>
          <a:custGeom>
            <a:avLst/>
            <a:gdLst>
              <a:gd name="textAreaLeft" fmla="*/ 0 w 1512360"/>
              <a:gd name="textAreaRight" fmla="*/ 1512720 w 1512360"/>
              <a:gd name="textAreaTop" fmla="*/ 0 h 1408680"/>
              <a:gd name="textAreaBottom" fmla="*/ 1409040 h 1408680"/>
            </a:gdLst>
            <a:ahLst/>
            <a:rect l="textAreaLeft" t="textAreaTop" r="textAreaRight" b="textAreaBottom"/>
            <a:pathLst>
              <a:path w="1044385" h="968822">
                <a:moveTo>
                  <a:pt x="528953" y="0"/>
                </a:moveTo>
                <a:cubicBezTo>
                  <a:pt x="1579084" y="771525"/>
                  <a:pt x="732874" y="1330037"/>
                  <a:pt x="528953" y="646834"/>
                </a:cubicBezTo>
                <a:cubicBezTo>
                  <a:pt x="273077" y="1361209"/>
                  <a:pt x="-521178" y="771525"/>
                  <a:pt x="528953" y="0"/>
                </a:cubicBez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108000" anchor="ctr">
            <a:noAutofit/>
          </a:bodyPr>
          <a:p>
            <a:pPr algn="ctr">
              <a:lnSpc>
                <a:spcPct val="100000"/>
              </a:lnSpc>
            </a:pPr>
            <a:r>
              <a:rPr b="0" lang="en-US" sz="3200" spc="-1" strike="noStrike">
                <a:solidFill>
                  <a:srgbClr val="ffffff"/>
                </a:solidFill>
                <a:latin typeface="Britannic Bold"/>
                <a:ea typeface="微软雅黑"/>
              </a:rPr>
              <a:t>03</a:t>
            </a:r>
            <a:endParaRPr b="0" lang="en-US" sz="3200" spc="-1" strike="noStrike">
              <a:solidFill>
                <a:srgbClr val="000000"/>
              </a:solidFill>
              <a:latin typeface="Arial"/>
            </a:endParaRPr>
          </a:p>
        </p:txBody>
      </p:sp>
      <p:sp>
        <p:nvSpPr>
          <p:cNvPr id="364" name="MH_Other_10"/>
          <p:cNvSpPr/>
          <p:nvPr/>
        </p:nvSpPr>
        <p:spPr>
          <a:xfrm>
            <a:off x="5904720" y="2862720"/>
            <a:ext cx="1402200" cy="1514520"/>
          </a:xfrm>
          <a:custGeom>
            <a:avLst/>
            <a:gdLst>
              <a:gd name="textAreaLeft" fmla="*/ 0 w 1402200"/>
              <a:gd name="textAreaRight" fmla="*/ 1402560 w 1402200"/>
              <a:gd name="textAreaTop" fmla="*/ 0 h 1514520"/>
              <a:gd name="textAreaBottom" fmla="*/ 1514880 h 1514520"/>
            </a:gdLst>
            <a:ahLst/>
            <a:rect l="textAreaLeft" t="textAreaTop" r="textAreaRight" b="textAreaBottom"/>
            <a:pathLst>
              <a:path w="968822" h="1044385">
                <a:moveTo>
                  <a:pt x="723853" y="181"/>
                </a:moveTo>
                <a:cubicBezTo>
                  <a:pt x="1015793" y="9637"/>
                  <a:pt x="1073836" y="387981"/>
                  <a:pt x="646834" y="515432"/>
                </a:cubicBezTo>
                <a:cubicBezTo>
                  <a:pt x="1361209" y="771308"/>
                  <a:pt x="771525" y="1565563"/>
                  <a:pt x="0" y="515432"/>
                </a:cubicBezTo>
                <a:cubicBezTo>
                  <a:pt x="289322" y="121633"/>
                  <a:pt x="548689" y="-5493"/>
                  <a:pt x="723853" y="181"/>
                </a:cubicBezTo>
                <a:close/>
              </a:path>
            </a:pathLst>
          </a:custGeom>
          <a:solidFill>
            <a:srgbClr val="869b2b"/>
          </a:solidFill>
          <a:ln>
            <a:noFill/>
          </a:ln>
        </p:spPr>
        <p:style>
          <a:lnRef idx="2">
            <a:schemeClr val="accent1">
              <a:shade val="50000"/>
            </a:schemeClr>
          </a:lnRef>
          <a:fillRef idx="1">
            <a:schemeClr val="accent1"/>
          </a:fillRef>
          <a:effectRef idx="0">
            <a:schemeClr val="accent1"/>
          </a:effectRef>
          <a:fontRef idx="minor"/>
        </p:style>
        <p:txBody>
          <a:bodyPr lIns="90000" rIns="216000" tIns="45000" bIns="45000" anchor="ctr">
            <a:noAutofit/>
          </a:bodyPr>
          <a:p>
            <a:pPr algn="ctr">
              <a:lnSpc>
                <a:spcPct val="100000"/>
              </a:lnSpc>
            </a:pPr>
            <a:r>
              <a:rPr b="0" lang="en-US" sz="3200" spc="-1" strike="noStrike">
                <a:solidFill>
                  <a:srgbClr val="ffffff"/>
                </a:solidFill>
                <a:latin typeface="Britannic Bold"/>
                <a:ea typeface="微软雅黑"/>
              </a:rPr>
              <a:t>02</a:t>
            </a:r>
            <a:endParaRPr b="0" lang="en-US" sz="3200" spc="-1" strike="noStrike">
              <a:solidFill>
                <a:srgbClr val="000000"/>
              </a:solidFill>
              <a:latin typeface="Arial"/>
            </a:endParaRPr>
          </a:p>
        </p:txBody>
      </p:sp>
      <p:cxnSp>
        <p:nvCxnSpPr>
          <p:cNvPr id="365" name="直接连接符 5"/>
          <p:cNvCxnSpPr/>
          <p:nvPr/>
        </p:nvCxnSpPr>
        <p:spPr>
          <a:xfrm>
            <a:off x="6517800" y="2067120"/>
            <a:ext cx="2905920" cy="360"/>
          </a:xfrm>
          <a:prstGeom prst="straightConnector1">
            <a:avLst/>
          </a:prstGeom>
          <a:ln w="25400">
            <a:solidFill>
              <a:srgbClr val="1283c1"/>
            </a:solidFill>
            <a:prstDash val="dash"/>
          </a:ln>
        </p:spPr>
      </p:cxnSp>
      <p:cxnSp>
        <p:nvCxnSpPr>
          <p:cNvPr id="366" name="直接连接符 7"/>
          <p:cNvCxnSpPr/>
          <p:nvPr/>
        </p:nvCxnSpPr>
        <p:spPr>
          <a:xfrm>
            <a:off x="7484040" y="4190760"/>
            <a:ext cx="2193480" cy="360"/>
          </a:xfrm>
          <a:prstGeom prst="straightConnector1">
            <a:avLst/>
          </a:prstGeom>
          <a:ln w="25400">
            <a:solidFill>
              <a:srgbClr val="1283c1"/>
            </a:solidFill>
            <a:prstDash val="dash"/>
          </a:ln>
        </p:spPr>
      </p:cxnSp>
      <p:cxnSp>
        <p:nvCxnSpPr>
          <p:cNvPr id="367" name="直接连接符 9"/>
          <p:cNvCxnSpPr/>
          <p:nvPr/>
        </p:nvCxnSpPr>
        <p:spPr>
          <a:xfrm flipH="1">
            <a:off x="1587600" y="2862360"/>
            <a:ext cx="2418480" cy="360"/>
          </a:xfrm>
          <a:prstGeom prst="straightConnector1">
            <a:avLst/>
          </a:prstGeom>
          <a:ln w="25400">
            <a:solidFill>
              <a:srgbClr val="1283c1"/>
            </a:solidFill>
            <a:prstDash val="dash"/>
          </a:ln>
        </p:spPr>
      </p:cxnSp>
      <p:cxnSp>
        <p:nvCxnSpPr>
          <p:cNvPr id="368" name="直接连接符 11"/>
          <p:cNvCxnSpPr/>
          <p:nvPr/>
        </p:nvCxnSpPr>
        <p:spPr>
          <a:xfrm flipH="1">
            <a:off x="2064600" y="5004000"/>
            <a:ext cx="2757600" cy="360"/>
          </a:xfrm>
          <a:prstGeom prst="straightConnector1">
            <a:avLst/>
          </a:prstGeom>
          <a:ln w="25400">
            <a:solidFill>
              <a:srgbClr val="1283c1"/>
            </a:solidFill>
            <a:prstDash val="dash"/>
          </a:ln>
        </p:spPr>
      </p:cxnSp>
      <p:sp>
        <p:nvSpPr>
          <p:cNvPr id="369" name="文本框 14"/>
          <p:cNvSpPr/>
          <p:nvPr/>
        </p:nvSpPr>
        <p:spPr>
          <a:xfrm>
            <a:off x="6895080" y="16808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1283c1"/>
                </a:solidFill>
                <a:latin typeface="微软雅黑"/>
                <a:ea typeface="微软雅黑"/>
              </a:rPr>
              <a:t>标题</a:t>
            </a:r>
            <a:endParaRPr b="0" lang="en-US" sz="1800" spc="-1" strike="noStrike">
              <a:solidFill>
                <a:srgbClr val="000000"/>
              </a:solidFill>
              <a:latin typeface="Arial"/>
            </a:endParaRPr>
          </a:p>
        </p:txBody>
      </p:sp>
      <p:sp>
        <p:nvSpPr>
          <p:cNvPr id="370" name="文本框 19"/>
          <p:cNvSpPr/>
          <p:nvPr/>
        </p:nvSpPr>
        <p:spPr>
          <a:xfrm>
            <a:off x="7307280" y="2131560"/>
            <a:ext cx="2592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输入内容文本，说明情况。本段作者请输入相应的内容</a:t>
            </a:r>
            <a:endParaRPr b="0" lang="en-US" sz="1600" spc="-1" strike="noStrike">
              <a:solidFill>
                <a:srgbClr val="000000"/>
              </a:solidFill>
              <a:latin typeface="Arial"/>
            </a:endParaRPr>
          </a:p>
        </p:txBody>
      </p:sp>
      <p:sp>
        <p:nvSpPr>
          <p:cNvPr id="371" name="文本框 20"/>
          <p:cNvSpPr/>
          <p:nvPr/>
        </p:nvSpPr>
        <p:spPr>
          <a:xfrm>
            <a:off x="7619400" y="37692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1283c1"/>
                </a:solidFill>
                <a:latin typeface="微软雅黑"/>
                <a:ea typeface="微软雅黑"/>
              </a:rPr>
              <a:t>标题</a:t>
            </a:r>
            <a:endParaRPr b="0" lang="en-US" sz="1800" spc="-1" strike="noStrike">
              <a:solidFill>
                <a:srgbClr val="000000"/>
              </a:solidFill>
              <a:latin typeface="Arial"/>
            </a:endParaRPr>
          </a:p>
        </p:txBody>
      </p:sp>
      <p:sp>
        <p:nvSpPr>
          <p:cNvPr id="372" name="文本框 21"/>
          <p:cNvSpPr/>
          <p:nvPr/>
        </p:nvSpPr>
        <p:spPr>
          <a:xfrm>
            <a:off x="7574040" y="4179960"/>
            <a:ext cx="2592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输入内容文本，说明情况。本段作者请输入相应的内容</a:t>
            </a:r>
            <a:endParaRPr b="0" lang="en-US" sz="1600" spc="-1" strike="noStrike">
              <a:solidFill>
                <a:srgbClr val="000000"/>
              </a:solidFill>
              <a:latin typeface="Arial"/>
            </a:endParaRPr>
          </a:p>
        </p:txBody>
      </p:sp>
      <p:sp>
        <p:nvSpPr>
          <p:cNvPr id="373" name="文本框 22"/>
          <p:cNvSpPr/>
          <p:nvPr/>
        </p:nvSpPr>
        <p:spPr>
          <a:xfrm>
            <a:off x="2180520" y="45954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1283c1"/>
                </a:solidFill>
                <a:latin typeface="微软雅黑"/>
                <a:ea typeface="微软雅黑"/>
              </a:rPr>
              <a:t>标题</a:t>
            </a:r>
            <a:endParaRPr b="0" lang="en-US" sz="1800" spc="-1" strike="noStrike">
              <a:solidFill>
                <a:srgbClr val="000000"/>
              </a:solidFill>
              <a:latin typeface="Arial"/>
            </a:endParaRPr>
          </a:p>
        </p:txBody>
      </p:sp>
      <p:sp>
        <p:nvSpPr>
          <p:cNvPr id="374" name="文本框 24"/>
          <p:cNvSpPr/>
          <p:nvPr/>
        </p:nvSpPr>
        <p:spPr>
          <a:xfrm>
            <a:off x="2045520" y="5072760"/>
            <a:ext cx="2592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输入内容文本，说明情况。本段作者请输入相应的内容</a:t>
            </a:r>
            <a:endParaRPr b="0" lang="en-US" sz="1600" spc="-1" strike="noStrike">
              <a:solidFill>
                <a:srgbClr val="000000"/>
              </a:solidFill>
              <a:latin typeface="Arial"/>
            </a:endParaRPr>
          </a:p>
        </p:txBody>
      </p:sp>
      <p:sp>
        <p:nvSpPr>
          <p:cNvPr id="375" name="文本框 26"/>
          <p:cNvSpPr/>
          <p:nvPr/>
        </p:nvSpPr>
        <p:spPr>
          <a:xfrm>
            <a:off x="2180520" y="24606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1283c1"/>
                </a:solidFill>
                <a:latin typeface="微软雅黑"/>
                <a:ea typeface="微软雅黑"/>
              </a:rPr>
              <a:t>标题</a:t>
            </a:r>
            <a:endParaRPr b="0" lang="en-US" sz="1800" spc="-1" strike="noStrike">
              <a:solidFill>
                <a:srgbClr val="000000"/>
              </a:solidFill>
              <a:latin typeface="Arial"/>
            </a:endParaRPr>
          </a:p>
        </p:txBody>
      </p:sp>
      <p:sp>
        <p:nvSpPr>
          <p:cNvPr id="376" name="文本框 27"/>
          <p:cNvSpPr/>
          <p:nvPr/>
        </p:nvSpPr>
        <p:spPr>
          <a:xfrm>
            <a:off x="1435320" y="2903040"/>
            <a:ext cx="2592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输入内容文本，说明情况。本段作者请输入相应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378" name="矩形 26"/>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具体完成情况</a:t>
            </a:r>
            <a:endParaRPr b="0" lang="en-US" sz="2800" spc="-1" strike="noStrike">
              <a:solidFill>
                <a:srgbClr val="000000"/>
              </a:solidFill>
              <a:latin typeface="Arial"/>
            </a:endParaRPr>
          </a:p>
        </p:txBody>
      </p:sp>
      <p:cxnSp>
        <p:nvCxnSpPr>
          <p:cNvPr id="379" name="直接连接符 27"/>
          <p:cNvCxnSpPr/>
          <p:nvPr/>
        </p:nvCxnSpPr>
        <p:spPr>
          <a:xfrm>
            <a:off x="0" y="1105200"/>
            <a:ext cx="11694240" cy="360"/>
          </a:xfrm>
          <a:prstGeom prst="straightConnector1">
            <a:avLst/>
          </a:prstGeom>
          <a:ln w="25400">
            <a:solidFill>
              <a:srgbClr val="2c77ca"/>
            </a:solidFill>
          </a:ln>
        </p:spPr>
      </p:cxnSp>
      <p:cxnSp>
        <p:nvCxnSpPr>
          <p:cNvPr id="380" name="MH_Other_1"/>
          <p:cNvCxnSpPr/>
          <p:nvPr/>
        </p:nvCxnSpPr>
        <p:spPr>
          <a:xfrm>
            <a:off x="1217520" y="2957400"/>
            <a:ext cx="4320000" cy="360"/>
          </a:xfrm>
          <a:prstGeom prst="straightConnector1">
            <a:avLst/>
          </a:prstGeom>
          <a:ln>
            <a:solidFill>
              <a:srgbClr val="ffffff">
                <a:lumMod val="85000"/>
              </a:srgbClr>
            </a:solidFill>
            <a:prstDash val="sysDash"/>
          </a:ln>
        </p:spPr>
      </p:cxnSp>
      <p:cxnSp>
        <p:nvCxnSpPr>
          <p:cNvPr id="381" name="MH_Other_2"/>
          <p:cNvCxnSpPr/>
          <p:nvPr/>
        </p:nvCxnSpPr>
        <p:spPr>
          <a:xfrm>
            <a:off x="1217520" y="3582720"/>
            <a:ext cx="4320000" cy="360"/>
          </a:xfrm>
          <a:prstGeom prst="straightConnector1">
            <a:avLst/>
          </a:prstGeom>
          <a:ln>
            <a:solidFill>
              <a:srgbClr val="ffffff">
                <a:lumMod val="85000"/>
              </a:srgbClr>
            </a:solidFill>
            <a:prstDash val="sysDash"/>
          </a:ln>
        </p:spPr>
      </p:cxnSp>
      <p:cxnSp>
        <p:nvCxnSpPr>
          <p:cNvPr id="382" name="MH_Other_3"/>
          <p:cNvCxnSpPr/>
          <p:nvPr/>
        </p:nvCxnSpPr>
        <p:spPr>
          <a:xfrm>
            <a:off x="1217520" y="4208400"/>
            <a:ext cx="4320000" cy="360"/>
          </a:xfrm>
          <a:prstGeom prst="straightConnector1">
            <a:avLst/>
          </a:prstGeom>
          <a:ln>
            <a:solidFill>
              <a:srgbClr val="ffffff">
                <a:lumMod val="85000"/>
              </a:srgbClr>
            </a:solidFill>
            <a:prstDash val="sysDash"/>
          </a:ln>
        </p:spPr>
      </p:cxnSp>
      <p:cxnSp>
        <p:nvCxnSpPr>
          <p:cNvPr id="383" name="MH_Other_4"/>
          <p:cNvCxnSpPr/>
          <p:nvPr/>
        </p:nvCxnSpPr>
        <p:spPr>
          <a:xfrm>
            <a:off x="1217520" y="4833720"/>
            <a:ext cx="4320000" cy="360"/>
          </a:xfrm>
          <a:prstGeom prst="straightConnector1">
            <a:avLst/>
          </a:prstGeom>
          <a:ln>
            <a:solidFill>
              <a:srgbClr val="ffffff">
                <a:lumMod val="85000"/>
              </a:srgbClr>
            </a:solidFill>
            <a:prstDash val="sysDash"/>
          </a:ln>
        </p:spPr>
      </p:cxnSp>
      <p:cxnSp>
        <p:nvCxnSpPr>
          <p:cNvPr id="384" name="MH_Other_5"/>
          <p:cNvCxnSpPr/>
          <p:nvPr/>
        </p:nvCxnSpPr>
        <p:spPr>
          <a:xfrm>
            <a:off x="1217520" y="5459400"/>
            <a:ext cx="4320000" cy="360"/>
          </a:xfrm>
          <a:prstGeom prst="straightConnector1">
            <a:avLst/>
          </a:prstGeom>
          <a:ln>
            <a:solidFill>
              <a:srgbClr val="ffffff">
                <a:lumMod val="85000"/>
              </a:srgbClr>
            </a:solidFill>
            <a:prstDash val="sysDash"/>
          </a:ln>
        </p:spPr>
      </p:cxnSp>
      <p:sp>
        <p:nvSpPr>
          <p:cNvPr id="385" name="MH_Text_1"/>
          <p:cNvSpPr/>
          <p:nvPr/>
        </p:nvSpPr>
        <p:spPr>
          <a:xfrm>
            <a:off x="1587600" y="2338560"/>
            <a:ext cx="647280" cy="623520"/>
          </a:xfrm>
          <a:custGeom>
            <a:avLst/>
            <a:gdLst>
              <a:gd name="textAreaLeft" fmla="*/ 0 w 647280"/>
              <a:gd name="textAreaRight" fmla="*/ 647640 w 647280"/>
              <a:gd name="textAreaTop" fmla="*/ 0 h 623520"/>
              <a:gd name="textAreaBottom" fmla="*/ 623880 h 623520"/>
            </a:gdLst>
            <a:ahLst/>
            <a:rect l="textAreaLeft" t="textAreaTop" r="textAreaRight" b="textAreaBottom"/>
            <a:pathLst>
              <a:path w="720080" h="2304256">
                <a:moveTo>
                  <a:pt x="0" y="0"/>
                </a:moveTo>
                <a:lnTo>
                  <a:pt x="720080" y="0"/>
                </a:lnTo>
                <a:lnTo>
                  <a:pt x="720080" y="2184240"/>
                </a:lnTo>
                <a:cubicBezTo>
                  <a:pt x="720080" y="2250523"/>
                  <a:pt x="666347" y="2304256"/>
                  <a:pt x="600064" y="2304256"/>
                </a:cubicBezTo>
                <a:lnTo>
                  <a:pt x="120016" y="2304256"/>
                </a:lnTo>
                <a:cubicBezTo>
                  <a:pt x="53733" y="2304256"/>
                  <a:pt x="0" y="2250523"/>
                  <a:pt x="0" y="2184240"/>
                </a:cubicBezTo>
                <a:lnTo>
                  <a:pt x="0" y="0"/>
                </a:lnTo>
                <a:close/>
              </a:path>
            </a:pathLst>
          </a:cu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0" rIns="0" tIns="0" bIns="144000" anchor="b">
            <a:noAutofit/>
          </a:bodyPr>
          <a:p>
            <a:pPr algn="ctr">
              <a:lnSpc>
                <a:spcPct val="100000"/>
              </a:lnSpc>
            </a:pPr>
            <a:r>
              <a:rPr b="1" lang="en-US" sz="2000" spc="-1" strike="noStrike">
                <a:solidFill>
                  <a:srgbClr val="ffffff"/>
                </a:solidFill>
                <a:latin typeface="Calibri"/>
                <a:ea typeface="Verdana"/>
              </a:rPr>
              <a:t>20</a:t>
            </a:r>
            <a:r>
              <a:rPr b="1" lang="en-US" sz="1400" spc="-1" strike="noStrike">
                <a:solidFill>
                  <a:srgbClr val="ffffff"/>
                </a:solidFill>
                <a:latin typeface="Calibri"/>
                <a:ea typeface="Verdana"/>
              </a:rPr>
              <a:t>%</a:t>
            </a:r>
            <a:endParaRPr b="0" lang="en-US" sz="1400" spc="-1" strike="noStrike">
              <a:solidFill>
                <a:srgbClr val="000000"/>
              </a:solidFill>
              <a:latin typeface="Arial"/>
            </a:endParaRPr>
          </a:p>
        </p:txBody>
      </p:sp>
      <p:sp>
        <p:nvSpPr>
          <p:cNvPr id="386" name="MH_Text_2"/>
          <p:cNvSpPr/>
          <p:nvPr/>
        </p:nvSpPr>
        <p:spPr>
          <a:xfrm>
            <a:off x="2595600" y="2338560"/>
            <a:ext cx="647280" cy="1232640"/>
          </a:xfrm>
          <a:custGeom>
            <a:avLst/>
            <a:gdLst>
              <a:gd name="textAreaLeft" fmla="*/ 0 w 647280"/>
              <a:gd name="textAreaRight" fmla="*/ 647640 w 647280"/>
              <a:gd name="textAreaTop" fmla="*/ 0 h 1232640"/>
              <a:gd name="textAreaBottom" fmla="*/ 1233000 h 1232640"/>
            </a:gdLst>
            <a:ahLst/>
            <a:rect l="textAreaLeft" t="textAreaTop" r="textAreaRight" b="textAreaBottom"/>
            <a:pathLst>
              <a:path w="720080" h="2304256">
                <a:moveTo>
                  <a:pt x="0" y="0"/>
                </a:moveTo>
                <a:lnTo>
                  <a:pt x="720080" y="0"/>
                </a:lnTo>
                <a:lnTo>
                  <a:pt x="720080" y="2184240"/>
                </a:lnTo>
                <a:cubicBezTo>
                  <a:pt x="720080" y="2250523"/>
                  <a:pt x="666347" y="2304256"/>
                  <a:pt x="600064" y="2304256"/>
                </a:cubicBezTo>
                <a:lnTo>
                  <a:pt x="120016" y="2304256"/>
                </a:lnTo>
                <a:cubicBezTo>
                  <a:pt x="53733" y="2304256"/>
                  <a:pt x="0" y="2250523"/>
                  <a:pt x="0" y="2184240"/>
                </a:cubicBezTo>
                <a:lnTo>
                  <a:pt x="0" y="0"/>
                </a:lnTo>
                <a:close/>
              </a:path>
            </a:pathLst>
          </a:cu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0" rIns="0" tIns="0" bIns="144000" anchor="b">
            <a:noAutofit/>
          </a:bodyPr>
          <a:p>
            <a:pPr algn="ctr">
              <a:lnSpc>
                <a:spcPct val="100000"/>
              </a:lnSpc>
            </a:pPr>
            <a:endParaRPr b="1" lang="en-US" sz="2000" spc="-1" strike="noStrike">
              <a:solidFill>
                <a:srgbClr val="ffffff"/>
              </a:solidFill>
              <a:latin typeface="Calibri"/>
              <a:ea typeface="楷体"/>
            </a:endParaRPr>
          </a:p>
        </p:txBody>
      </p:sp>
      <p:sp>
        <p:nvSpPr>
          <p:cNvPr id="387" name="MH_Text_3"/>
          <p:cNvSpPr/>
          <p:nvPr/>
        </p:nvSpPr>
        <p:spPr>
          <a:xfrm>
            <a:off x="3603960" y="2338560"/>
            <a:ext cx="647280" cy="1869840"/>
          </a:xfrm>
          <a:custGeom>
            <a:avLst/>
            <a:gdLst>
              <a:gd name="textAreaLeft" fmla="*/ 0 w 647280"/>
              <a:gd name="textAreaRight" fmla="*/ 647640 w 647280"/>
              <a:gd name="textAreaTop" fmla="*/ 0 h 1869840"/>
              <a:gd name="textAreaBottom" fmla="*/ 1870200 h 1869840"/>
            </a:gdLst>
            <a:ahLst/>
            <a:rect l="textAreaLeft" t="textAreaTop" r="textAreaRight" b="textAreaBottom"/>
            <a:pathLst>
              <a:path w="720080" h="2304256">
                <a:moveTo>
                  <a:pt x="0" y="0"/>
                </a:moveTo>
                <a:lnTo>
                  <a:pt x="720080" y="0"/>
                </a:lnTo>
                <a:lnTo>
                  <a:pt x="720080" y="2184240"/>
                </a:lnTo>
                <a:cubicBezTo>
                  <a:pt x="720080" y="2250523"/>
                  <a:pt x="666347" y="2304256"/>
                  <a:pt x="600064" y="2304256"/>
                </a:cubicBezTo>
                <a:lnTo>
                  <a:pt x="120016" y="2304256"/>
                </a:lnTo>
                <a:cubicBezTo>
                  <a:pt x="53733" y="2304256"/>
                  <a:pt x="0" y="2250523"/>
                  <a:pt x="0" y="2184240"/>
                </a:cubicBezTo>
                <a:lnTo>
                  <a:pt x="0" y="0"/>
                </a:lnTo>
                <a:close/>
              </a:path>
            </a:pathLst>
          </a:cu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144000" anchor="b">
            <a:noAutofit/>
          </a:bodyPr>
          <a:p>
            <a:pPr algn="ctr">
              <a:lnSpc>
                <a:spcPct val="100000"/>
              </a:lnSpc>
            </a:pPr>
            <a:endParaRPr b="1" lang="en-US" sz="2000" spc="-1" strike="noStrike">
              <a:solidFill>
                <a:srgbClr val="ffffff"/>
              </a:solidFill>
              <a:latin typeface="Calibri"/>
              <a:ea typeface="楷体"/>
            </a:endParaRPr>
          </a:p>
        </p:txBody>
      </p:sp>
      <p:sp>
        <p:nvSpPr>
          <p:cNvPr id="388" name="MH_Text_4"/>
          <p:cNvSpPr/>
          <p:nvPr/>
        </p:nvSpPr>
        <p:spPr>
          <a:xfrm>
            <a:off x="4611960" y="2338560"/>
            <a:ext cx="647280" cy="2495160"/>
          </a:xfrm>
          <a:custGeom>
            <a:avLst/>
            <a:gdLst>
              <a:gd name="textAreaLeft" fmla="*/ 0 w 647280"/>
              <a:gd name="textAreaRight" fmla="*/ 647640 w 647280"/>
              <a:gd name="textAreaTop" fmla="*/ 0 h 2495160"/>
              <a:gd name="textAreaBottom" fmla="*/ 2495520 h 2495160"/>
            </a:gdLst>
            <a:ahLst/>
            <a:rect l="textAreaLeft" t="textAreaTop" r="textAreaRight" b="textAreaBottom"/>
            <a:pathLst>
              <a:path w="720080" h="2304256">
                <a:moveTo>
                  <a:pt x="0" y="0"/>
                </a:moveTo>
                <a:lnTo>
                  <a:pt x="720080" y="0"/>
                </a:lnTo>
                <a:lnTo>
                  <a:pt x="720080" y="2184240"/>
                </a:lnTo>
                <a:cubicBezTo>
                  <a:pt x="720080" y="2250523"/>
                  <a:pt x="666347" y="2304256"/>
                  <a:pt x="600064" y="2304256"/>
                </a:cubicBezTo>
                <a:lnTo>
                  <a:pt x="120016" y="2304256"/>
                </a:lnTo>
                <a:cubicBezTo>
                  <a:pt x="53733" y="2304256"/>
                  <a:pt x="0" y="2250523"/>
                  <a:pt x="0" y="2184240"/>
                </a:cubicBezTo>
                <a:lnTo>
                  <a:pt x="0" y="0"/>
                </a:lnTo>
                <a:close/>
              </a:path>
            </a:pathLst>
          </a:custGeom>
          <a:solidFill>
            <a:srgbClr val="869b2b"/>
          </a:solidFill>
          <a:ln>
            <a:noFill/>
          </a:ln>
        </p:spPr>
        <p:style>
          <a:lnRef idx="2">
            <a:schemeClr val="accent1">
              <a:shade val="50000"/>
            </a:schemeClr>
          </a:lnRef>
          <a:fillRef idx="1">
            <a:schemeClr val="accent1"/>
          </a:fillRef>
          <a:effectRef idx="0">
            <a:schemeClr val="accent1"/>
          </a:effectRef>
          <a:fontRef idx="minor"/>
        </p:style>
        <p:txBody>
          <a:bodyPr lIns="0" rIns="0" tIns="0" bIns="144000" anchor="b">
            <a:noAutofit/>
          </a:bodyPr>
          <a:p>
            <a:pPr algn="ctr">
              <a:lnSpc>
                <a:spcPct val="100000"/>
              </a:lnSpc>
            </a:pPr>
            <a:r>
              <a:rPr b="1" lang="en-US" sz="2000" spc="-1" strike="noStrike">
                <a:solidFill>
                  <a:srgbClr val="ffffff"/>
                </a:solidFill>
                <a:latin typeface="Calibri"/>
                <a:ea typeface="Verdana"/>
              </a:rPr>
              <a:t>80</a:t>
            </a:r>
            <a:r>
              <a:rPr b="1" lang="en-US" sz="1400" spc="-1" strike="noStrike">
                <a:solidFill>
                  <a:srgbClr val="ffffff"/>
                </a:solidFill>
                <a:latin typeface="Calibri"/>
                <a:ea typeface="Verdana"/>
              </a:rPr>
              <a:t>%</a:t>
            </a:r>
            <a:endParaRPr b="0" lang="en-US" sz="1400" spc="-1" strike="noStrike">
              <a:solidFill>
                <a:srgbClr val="000000"/>
              </a:solidFill>
              <a:latin typeface="Arial"/>
            </a:endParaRPr>
          </a:p>
        </p:txBody>
      </p:sp>
      <p:sp>
        <p:nvSpPr>
          <p:cNvPr id="389" name="MH_SubTitle_1"/>
          <p:cNvSpPr/>
          <p:nvPr/>
        </p:nvSpPr>
        <p:spPr>
          <a:xfrm>
            <a:off x="1587600" y="1714680"/>
            <a:ext cx="647280" cy="6282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000000"/>
                </a:solidFill>
                <a:latin typeface="Britannic Bold"/>
              </a:rPr>
              <a:t>A</a:t>
            </a:r>
            <a:endParaRPr b="0" lang="en-US" sz="2000" spc="-1" strike="noStrike">
              <a:solidFill>
                <a:srgbClr val="000000"/>
              </a:solidFill>
              <a:latin typeface="Arial"/>
            </a:endParaRPr>
          </a:p>
        </p:txBody>
      </p:sp>
      <p:sp>
        <p:nvSpPr>
          <p:cNvPr id="390" name="MH_SubTitle_2"/>
          <p:cNvSpPr/>
          <p:nvPr/>
        </p:nvSpPr>
        <p:spPr>
          <a:xfrm>
            <a:off x="2595600" y="1714680"/>
            <a:ext cx="647280" cy="6282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000000"/>
                </a:solidFill>
                <a:latin typeface="Britannic Bold"/>
              </a:rPr>
              <a:t>B</a:t>
            </a:r>
            <a:endParaRPr b="0" lang="en-US" sz="2000" spc="-1" strike="noStrike">
              <a:solidFill>
                <a:srgbClr val="000000"/>
              </a:solidFill>
              <a:latin typeface="Arial"/>
            </a:endParaRPr>
          </a:p>
        </p:txBody>
      </p:sp>
      <p:sp>
        <p:nvSpPr>
          <p:cNvPr id="391" name="MH_SubTitle_3"/>
          <p:cNvSpPr/>
          <p:nvPr/>
        </p:nvSpPr>
        <p:spPr>
          <a:xfrm>
            <a:off x="3603960" y="1714680"/>
            <a:ext cx="647280" cy="6282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000000"/>
                </a:solidFill>
                <a:latin typeface="Britannic Bold"/>
              </a:rPr>
              <a:t>C</a:t>
            </a:r>
            <a:endParaRPr b="0" lang="en-US" sz="2000" spc="-1" strike="noStrike">
              <a:solidFill>
                <a:srgbClr val="000000"/>
              </a:solidFill>
              <a:latin typeface="Arial"/>
            </a:endParaRPr>
          </a:p>
        </p:txBody>
      </p:sp>
      <p:sp>
        <p:nvSpPr>
          <p:cNvPr id="392" name="MH_SubTitle_4"/>
          <p:cNvSpPr/>
          <p:nvPr/>
        </p:nvSpPr>
        <p:spPr>
          <a:xfrm>
            <a:off x="4611960" y="1714680"/>
            <a:ext cx="647280" cy="6282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000000"/>
                </a:solidFill>
                <a:latin typeface="Britannic Bold"/>
              </a:rPr>
              <a:t>D</a:t>
            </a:r>
            <a:endParaRPr b="0" lang="en-US" sz="2000" spc="-1" strike="noStrike">
              <a:solidFill>
                <a:srgbClr val="000000"/>
              </a:solidFill>
              <a:latin typeface="Arial"/>
            </a:endParaRPr>
          </a:p>
        </p:txBody>
      </p:sp>
      <p:cxnSp>
        <p:nvCxnSpPr>
          <p:cNvPr id="393" name="MH_Other_6"/>
          <p:cNvCxnSpPr/>
          <p:nvPr/>
        </p:nvCxnSpPr>
        <p:spPr>
          <a:xfrm>
            <a:off x="1217520" y="2338200"/>
            <a:ext cx="5183640" cy="360"/>
          </a:xfrm>
          <a:prstGeom prst="straightConnector1">
            <a:avLst/>
          </a:prstGeom>
          <a:ln w="38100">
            <a:solidFill>
              <a:srgbClr val="000000">
                <a:lumMod val="65000"/>
                <a:lumOff val="35000"/>
              </a:srgbClr>
            </a:solidFill>
          </a:ln>
        </p:spPr>
      </p:cxnSp>
      <p:sp>
        <p:nvSpPr>
          <p:cNvPr id="394" name="矩形 5"/>
          <p:cNvSpPr/>
          <p:nvPr/>
        </p:nvSpPr>
        <p:spPr>
          <a:xfrm>
            <a:off x="2601360" y="307980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Calibri"/>
                <a:ea typeface="Verdana"/>
              </a:rPr>
              <a:t>40%</a:t>
            </a:r>
            <a:endParaRPr b="0" lang="en-US" sz="2000" spc="-1" strike="noStrike">
              <a:solidFill>
                <a:srgbClr val="000000"/>
              </a:solidFill>
              <a:latin typeface="Arial"/>
            </a:endParaRPr>
          </a:p>
        </p:txBody>
      </p:sp>
      <p:sp>
        <p:nvSpPr>
          <p:cNvPr id="395" name="矩形 49"/>
          <p:cNvSpPr/>
          <p:nvPr/>
        </p:nvSpPr>
        <p:spPr>
          <a:xfrm>
            <a:off x="3627000" y="371556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ffff"/>
                </a:solidFill>
                <a:latin typeface="Calibri"/>
                <a:ea typeface="Verdana"/>
              </a:rPr>
              <a:t>60%</a:t>
            </a:r>
            <a:endParaRPr b="0" lang="en-US" sz="2000" spc="-1" strike="noStrike">
              <a:solidFill>
                <a:srgbClr val="000000"/>
              </a:solidFill>
              <a:latin typeface="Arial"/>
            </a:endParaRPr>
          </a:p>
        </p:txBody>
      </p:sp>
      <p:cxnSp>
        <p:nvCxnSpPr>
          <p:cNvPr id="396" name="直接连接符 10"/>
          <p:cNvCxnSpPr/>
          <p:nvPr/>
        </p:nvCxnSpPr>
        <p:spPr>
          <a:xfrm>
            <a:off x="6400800" y="2338200"/>
            <a:ext cx="360" cy="3121560"/>
          </a:xfrm>
          <a:prstGeom prst="straightConnector1">
            <a:avLst/>
          </a:prstGeom>
          <a:ln w="38100">
            <a:solidFill>
              <a:srgbClr val="000000">
                <a:lumMod val="65000"/>
                <a:lumOff val="35000"/>
              </a:srgbClr>
            </a:solidFill>
            <a:prstDash val="dash"/>
          </a:ln>
        </p:spPr>
      </p:cxnSp>
      <p:sp>
        <p:nvSpPr>
          <p:cNvPr id="397" name="矩形 11"/>
          <p:cNvSpPr/>
          <p:nvPr/>
        </p:nvSpPr>
        <p:spPr>
          <a:xfrm>
            <a:off x="6753600" y="2329920"/>
            <a:ext cx="4673160" cy="3120840"/>
          </a:xfrm>
          <a:prstGeom prst="rect">
            <a:avLst/>
          </a:prstGeom>
          <a:pattFill prst="wdUpDiag">
            <a:fgClr>
              <a:srgbClr val="bfbfbf"/>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8" name="文本框 12"/>
          <p:cNvSpPr/>
          <p:nvPr/>
        </p:nvSpPr>
        <p:spPr>
          <a:xfrm>
            <a:off x="6937920" y="2511720"/>
            <a:ext cx="43045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微软雅黑"/>
                <a:ea typeface="微软雅黑"/>
              </a:rPr>
              <a:t>完成工作情况介绍</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微软雅黑"/>
                <a:ea typeface="微软雅黑"/>
              </a:rPr>
              <a:t>小米百科是小米公司推出的一部汇集小米公司与小米公司所有产品完整资料的百科全书，旨在为广大米粉提供一个全面了解小米公司、小米公司大事记和小米公司产品的信息平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矩形 1"/>
          <p:cNvSpPr/>
          <p:nvPr/>
        </p:nvSpPr>
        <p:spPr>
          <a:xfrm>
            <a:off x="1273680" y="0"/>
            <a:ext cx="1306080" cy="232380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0" name="矩形 2"/>
          <p:cNvSpPr/>
          <p:nvPr/>
        </p:nvSpPr>
        <p:spPr>
          <a:xfrm>
            <a:off x="1273680" y="4174560"/>
            <a:ext cx="1306080" cy="268308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文本框 3"/>
          <p:cNvSpPr/>
          <p:nvPr/>
        </p:nvSpPr>
        <p:spPr>
          <a:xfrm>
            <a:off x="1273680" y="2572920"/>
            <a:ext cx="95364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5000" spc="-1" strike="noStrike">
                <a:solidFill>
                  <a:srgbClr val="2c77ca"/>
                </a:solidFill>
                <a:latin typeface="黑体"/>
                <a:ea typeface="黑体"/>
              </a:rPr>
              <a:t>目录</a:t>
            </a:r>
            <a:endParaRPr b="0" lang="en-US" sz="5000" spc="-1" strike="noStrike">
              <a:solidFill>
                <a:srgbClr val="000000"/>
              </a:solidFill>
              <a:latin typeface="Arial"/>
            </a:endParaRPr>
          </a:p>
        </p:txBody>
      </p:sp>
      <p:sp>
        <p:nvSpPr>
          <p:cNvPr id="402" name="文本框 4"/>
          <p:cNvSpPr/>
          <p:nvPr/>
        </p:nvSpPr>
        <p:spPr>
          <a:xfrm>
            <a:off x="1981440" y="2589840"/>
            <a:ext cx="492120" cy="13406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2000" spc="-1" strike="noStrike">
                <a:solidFill>
                  <a:srgbClr val="2c77ca"/>
                </a:solidFill>
                <a:latin typeface="Britannic Bold"/>
              </a:rPr>
              <a:t> </a:t>
            </a:r>
            <a:r>
              <a:rPr b="0" lang="en-US" sz="2000" spc="-1" strike="noStrike">
                <a:solidFill>
                  <a:srgbClr val="2c77ca"/>
                </a:solidFill>
                <a:latin typeface="Britannic Bold"/>
              </a:rPr>
              <a:t>CONTENTS</a:t>
            </a:r>
            <a:endParaRPr b="0" lang="en-US" sz="2000" spc="-1" strike="noStrike">
              <a:solidFill>
                <a:srgbClr val="000000"/>
              </a:solidFill>
              <a:latin typeface="Arial"/>
            </a:endParaRPr>
          </a:p>
        </p:txBody>
      </p:sp>
      <p:grpSp>
        <p:nvGrpSpPr>
          <p:cNvPr id="403" name="组合 14"/>
          <p:cNvGrpSpPr/>
          <p:nvPr/>
        </p:nvGrpSpPr>
        <p:grpSpPr>
          <a:xfrm>
            <a:off x="4593600" y="1350000"/>
            <a:ext cx="4822200" cy="816120"/>
            <a:chOff x="4593600" y="1350000"/>
            <a:chExt cx="4822200" cy="816120"/>
          </a:xfrm>
        </p:grpSpPr>
        <p:sp>
          <p:nvSpPr>
            <p:cNvPr id="404" name="矩形 5"/>
            <p:cNvSpPr/>
            <p:nvPr/>
          </p:nvSpPr>
          <p:spPr>
            <a:xfrm>
              <a:off x="5344920" y="145872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前期工作总体概述</a:t>
              </a:r>
              <a:endParaRPr b="0" lang="en-US" sz="1800" spc="-1" strike="noStrike">
                <a:solidFill>
                  <a:srgbClr val="000000"/>
                </a:solidFill>
                <a:latin typeface="Arial"/>
              </a:endParaRPr>
            </a:p>
          </p:txBody>
        </p:sp>
        <p:sp>
          <p:nvSpPr>
            <p:cNvPr id="405" name="圆角矩形 11"/>
            <p:cNvSpPr/>
            <p:nvPr/>
          </p:nvSpPr>
          <p:spPr>
            <a:xfrm>
              <a:off x="4593600" y="135000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1</a:t>
              </a:r>
              <a:endParaRPr b="0" lang="en-US" sz="3200" spc="-1" strike="noStrike">
                <a:solidFill>
                  <a:srgbClr val="000000"/>
                </a:solidFill>
                <a:latin typeface="Arial"/>
              </a:endParaRPr>
            </a:p>
          </p:txBody>
        </p:sp>
      </p:grpSp>
      <p:grpSp>
        <p:nvGrpSpPr>
          <p:cNvPr id="406" name="组合 15"/>
          <p:cNvGrpSpPr/>
          <p:nvPr/>
        </p:nvGrpSpPr>
        <p:grpSpPr>
          <a:xfrm>
            <a:off x="4593600" y="2215080"/>
            <a:ext cx="4822200" cy="816120"/>
            <a:chOff x="4593600" y="2215080"/>
            <a:chExt cx="4822200" cy="816120"/>
          </a:xfrm>
        </p:grpSpPr>
        <p:sp>
          <p:nvSpPr>
            <p:cNvPr id="407" name="矩形 16"/>
            <p:cNvSpPr/>
            <p:nvPr/>
          </p:nvSpPr>
          <p:spPr>
            <a:xfrm>
              <a:off x="5344920" y="23241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具体完成情况</a:t>
              </a:r>
              <a:endParaRPr b="0" lang="en-US" sz="1800" spc="-1" strike="noStrike">
                <a:solidFill>
                  <a:srgbClr val="000000"/>
                </a:solidFill>
                <a:latin typeface="Arial"/>
              </a:endParaRPr>
            </a:p>
          </p:txBody>
        </p:sp>
        <p:sp>
          <p:nvSpPr>
            <p:cNvPr id="408" name="圆角矩形 17"/>
            <p:cNvSpPr/>
            <p:nvPr/>
          </p:nvSpPr>
          <p:spPr>
            <a:xfrm>
              <a:off x="4593600" y="221508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2</a:t>
              </a:r>
              <a:endParaRPr b="0" lang="en-US" sz="3200" spc="-1" strike="noStrike">
                <a:solidFill>
                  <a:srgbClr val="000000"/>
                </a:solidFill>
                <a:latin typeface="Arial"/>
              </a:endParaRPr>
            </a:p>
          </p:txBody>
        </p:sp>
      </p:grpSp>
      <p:grpSp>
        <p:nvGrpSpPr>
          <p:cNvPr id="409" name="组合 18"/>
          <p:cNvGrpSpPr/>
          <p:nvPr/>
        </p:nvGrpSpPr>
        <p:grpSpPr>
          <a:xfrm>
            <a:off x="4593600" y="3140640"/>
            <a:ext cx="4822200" cy="816120"/>
            <a:chOff x="4593600" y="3140640"/>
            <a:chExt cx="4822200" cy="816120"/>
          </a:xfrm>
        </p:grpSpPr>
        <p:sp>
          <p:nvSpPr>
            <p:cNvPr id="410" name="矩形 19"/>
            <p:cNvSpPr/>
            <p:nvPr/>
          </p:nvSpPr>
          <p:spPr>
            <a:xfrm>
              <a:off x="5344920" y="3249360"/>
              <a:ext cx="4070880" cy="598320"/>
            </a:xfrm>
            <a:prstGeom prst="rect">
              <a:avLst/>
            </a:prstGeom>
            <a:solidFill>
              <a:srgbClr val="869b2b"/>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ffffff"/>
                  </a:solidFill>
                  <a:latin typeface="黑体"/>
                  <a:ea typeface="黑体"/>
                </a:rPr>
                <a:t>工作中存在的不足</a:t>
              </a:r>
              <a:endParaRPr b="0" lang="en-US" sz="1800" spc="-1" strike="noStrike">
                <a:solidFill>
                  <a:srgbClr val="000000"/>
                </a:solidFill>
                <a:latin typeface="Arial"/>
              </a:endParaRPr>
            </a:p>
          </p:txBody>
        </p:sp>
        <p:sp>
          <p:nvSpPr>
            <p:cNvPr id="411" name="圆角矩形 20"/>
            <p:cNvSpPr/>
            <p:nvPr/>
          </p:nvSpPr>
          <p:spPr>
            <a:xfrm>
              <a:off x="4593600" y="31406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3</a:t>
              </a:r>
              <a:endParaRPr b="0" lang="en-US" sz="3200" spc="-1" strike="noStrike">
                <a:solidFill>
                  <a:srgbClr val="000000"/>
                </a:solidFill>
                <a:latin typeface="Arial"/>
              </a:endParaRPr>
            </a:p>
          </p:txBody>
        </p:sp>
      </p:grpSp>
      <p:grpSp>
        <p:nvGrpSpPr>
          <p:cNvPr id="412" name="组合 21"/>
          <p:cNvGrpSpPr/>
          <p:nvPr/>
        </p:nvGrpSpPr>
        <p:grpSpPr>
          <a:xfrm>
            <a:off x="4593600" y="4065840"/>
            <a:ext cx="4822200" cy="816120"/>
            <a:chOff x="4593600" y="4065840"/>
            <a:chExt cx="4822200" cy="816120"/>
          </a:xfrm>
        </p:grpSpPr>
        <p:sp>
          <p:nvSpPr>
            <p:cNvPr id="413" name="矩形 22"/>
            <p:cNvSpPr/>
            <p:nvPr/>
          </p:nvSpPr>
          <p:spPr>
            <a:xfrm>
              <a:off x="5344920" y="41745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明年其他工作计划</a:t>
              </a:r>
              <a:endParaRPr b="0" lang="en-US" sz="1800" spc="-1" strike="noStrike">
                <a:solidFill>
                  <a:srgbClr val="000000"/>
                </a:solidFill>
                <a:latin typeface="Arial"/>
              </a:endParaRPr>
            </a:p>
          </p:txBody>
        </p:sp>
        <p:sp>
          <p:nvSpPr>
            <p:cNvPr id="414" name="圆角矩形 23"/>
            <p:cNvSpPr/>
            <p:nvPr/>
          </p:nvSpPr>
          <p:spPr>
            <a:xfrm>
              <a:off x="4593600" y="40658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16"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中存在的不足</a:t>
            </a:r>
            <a:endParaRPr b="0" lang="en-US" sz="2800" spc="-1" strike="noStrike">
              <a:solidFill>
                <a:srgbClr val="000000"/>
              </a:solidFill>
              <a:latin typeface="Arial"/>
            </a:endParaRPr>
          </a:p>
        </p:txBody>
      </p:sp>
      <p:cxnSp>
        <p:nvCxnSpPr>
          <p:cNvPr id="417" name="直接连接符 3"/>
          <p:cNvCxnSpPr/>
          <p:nvPr/>
        </p:nvCxnSpPr>
        <p:spPr>
          <a:xfrm>
            <a:off x="0" y="1105200"/>
            <a:ext cx="11694240" cy="360"/>
          </a:xfrm>
          <a:prstGeom prst="straightConnector1">
            <a:avLst/>
          </a:prstGeom>
          <a:ln w="25400">
            <a:solidFill>
              <a:srgbClr val="2c77ca"/>
            </a:solidFill>
          </a:ln>
        </p:spPr>
      </p:cxnSp>
      <p:sp>
        <p:nvSpPr>
          <p:cNvPr id="418" name="MH_Other_2"/>
          <p:cNvSpPr/>
          <p:nvPr/>
        </p:nvSpPr>
        <p:spPr>
          <a:xfrm>
            <a:off x="5559480" y="2940120"/>
            <a:ext cx="1168200" cy="142524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19" name="MH_Text_1"/>
          <p:cNvSpPr/>
          <p:nvPr/>
        </p:nvSpPr>
        <p:spPr>
          <a:xfrm>
            <a:off x="1741320" y="2124000"/>
            <a:ext cx="3819240" cy="815760"/>
          </a:xfrm>
          <a:prstGeom prst="rect">
            <a:avLst/>
          </a:prstGeom>
          <a:noFill/>
          <a:ln w="0">
            <a:noFill/>
          </a:ln>
        </p:spPr>
        <p:style>
          <a:lnRef idx="0"/>
          <a:fillRef idx="0"/>
          <a:effectRef idx="0"/>
          <a:fontRef idx="minor"/>
        </p:style>
        <p:txBody>
          <a:bodyPr lIns="90000" rIns="90000" tIns="45000" bIns="45000" anchor="t">
            <a:normAutofit/>
          </a:bodyPr>
          <a:p>
            <a:pPr>
              <a:lnSpc>
                <a:spcPct val="150000"/>
              </a:lnSpc>
            </a:pPr>
            <a:r>
              <a:rPr b="0" lang="en-US" sz="1600" spc="-1" strike="noStrike">
                <a:solidFill>
                  <a:srgbClr val="000000"/>
                </a:solidFill>
                <a:latin typeface="Britannic Bold"/>
              </a:rPr>
              <a:t>1 </a:t>
            </a:r>
            <a:r>
              <a:rPr b="0" lang="zh-CN" sz="1600" spc="-1" strike="noStrike">
                <a:solidFill>
                  <a:srgbClr val="000000"/>
                </a:solidFill>
                <a:latin typeface="微软雅黑"/>
                <a:ea typeface="微软雅黑"/>
              </a:rPr>
              <a:t>工作中存在的一些不足详细说明情况第一点是这样的等等 </a:t>
            </a:r>
            <a:endParaRPr b="0" lang="en-US" sz="1600" spc="-1" strike="noStrike">
              <a:solidFill>
                <a:srgbClr val="000000"/>
              </a:solidFill>
              <a:latin typeface="Arial"/>
            </a:endParaRPr>
          </a:p>
        </p:txBody>
      </p:sp>
      <p:sp>
        <p:nvSpPr>
          <p:cNvPr id="420" name="MH_Text_2"/>
          <p:cNvSpPr/>
          <p:nvPr/>
        </p:nvSpPr>
        <p:spPr>
          <a:xfrm>
            <a:off x="7340760" y="1644480"/>
            <a:ext cx="2069640" cy="1294920"/>
          </a:xfrm>
          <a:prstGeom prst="rect">
            <a:avLst/>
          </a:prstGeom>
          <a:noFill/>
          <a:ln w="0">
            <a:noFill/>
          </a:ln>
        </p:spPr>
        <p:style>
          <a:lnRef idx="0"/>
          <a:fillRef idx="0"/>
          <a:effectRef idx="0"/>
          <a:fontRef idx="minor"/>
        </p:style>
        <p:txBody>
          <a:bodyPr lIns="90000" rIns="90000" tIns="45000" bIns="45000" anchor="t">
            <a:normAutofit/>
          </a:bodyPr>
          <a:p>
            <a:pPr>
              <a:lnSpc>
                <a:spcPct val="150000"/>
              </a:lnSpc>
            </a:pPr>
            <a:r>
              <a:rPr b="0" lang="en-US" sz="1600" spc="-1" strike="noStrike">
                <a:solidFill>
                  <a:srgbClr val="000000"/>
                </a:solidFill>
                <a:latin typeface="Britannic Bold"/>
                <a:ea typeface="宋体"/>
              </a:rPr>
              <a:t>2 </a:t>
            </a:r>
            <a:r>
              <a:rPr b="0" lang="zh-CN" sz="1600" spc="-1" strike="noStrike">
                <a:solidFill>
                  <a:srgbClr val="000000"/>
                </a:solidFill>
                <a:latin typeface="微软雅黑"/>
                <a:ea typeface="微软雅黑"/>
              </a:rPr>
              <a:t>工作中存在的一些不足详细说明情况第一点是这样的等等 </a:t>
            </a:r>
            <a:endParaRPr b="0" lang="en-US" sz="1600" spc="-1" strike="noStrike">
              <a:solidFill>
                <a:srgbClr val="000000"/>
              </a:solidFill>
              <a:latin typeface="Arial"/>
            </a:endParaRPr>
          </a:p>
        </p:txBody>
      </p:sp>
      <p:sp>
        <p:nvSpPr>
          <p:cNvPr id="421" name="MH_Text_3"/>
          <p:cNvSpPr/>
          <p:nvPr/>
        </p:nvSpPr>
        <p:spPr>
          <a:xfrm>
            <a:off x="6186600" y="4494240"/>
            <a:ext cx="3223800" cy="1294920"/>
          </a:xfrm>
          <a:prstGeom prst="rect">
            <a:avLst/>
          </a:prstGeom>
          <a:noFill/>
          <a:ln w="0">
            <a:noFill/>
          </a:ln>
        </p:spPr>
        <p:style>
          <a:lnRef idx="0"/>
          <a:fillRef idx="0"/>
          <a:effectRef idx="0"/>
          <a:fontRef idx="minor"/>
        </p:style>
        <p:txBody>
          <a:bodyPr lIns="90000" rIns="90000" tIns="45000" bIns="45000" anchor="t">
            <a:normAutofit/>
          </a:bodyPr>
          <a:p>
            <a:pPr>
              <a:lnSpc>
                <a:spcPct val="150000"/>
              </a:lnSpc>
            </a:pPr>
            <a:r>
              <a:rPr b="0" lang="en-US" sz="1600" spc="-1" strike="noStrike">
                <a:solidFill>
                  <a:srgbClr val="000000"/>
                </a:solidFill>
                <a:latin typeface="Britannic Bold"/>
                <a:ea typeface="宋体"/>
              </a:rPr>
              <a:t>4 </a:t>
            </a:r>
            <a:r>
              <a:rPr b="0" lang="zh-CN" sz="1600" spc="-1" strike="noStrike">
                <a:solidFill>
                  <a:srgbClr val="000000"/>
                </a:solidFill>
                <a:latin typeface="微软雅黑"/>
                <a:ea typeface="微软雅黑"/>
              </a:rPr>
              <a:t>工作中存在的一些不足详细说明情况第一点是这样的等等 </a:t>
            </a:r>
            <a:endParaRPr b="0" lang="en-US" sz="1600" spc="-1" strike="noStrike">
              <a:solidFill>
                <a:srgbClr val="000000"/>
              </a:solidFill>
              <a:latin typeface="Arial"/>
            </a:endParaRPr>
          </a:p>
        </p:txBody>
      </p:sp>
      <p:sp>
        <p:nvSpPr>
          <p:cNvPr id="422" name="MH_Text_4"/>
          <p:cNvSpPr/>
          <p:nvPr/>
        </p:nvSpPr>
        <p:spPr>
          <a:xfrm>
            <a:off x="1703520" y="4494240"/>
            <a:ext cx="2696760" cy="1294920"/>
          </a:xfrm>
          <a:prstGeom prst="rect">
            <a:avLst/>
          </a:prstGeom>
          <a:noFill/>
          <a:ln w="0">
            <a:noFill/>
          </a:ln>
        </p:spPr>
        <p:style>
          <a:lnRef idx="0"/>
          <a:fillRef idx="0"/>
          <a:effectRef idx="0"/>
          <a:fontRef idx="minor"/>
        </p:style>
        <p:txBody>
          <a:bodyPr lIns="90000" rIns="90000" tIns="45000" bIns="45000" anchor="t">
            <a:normAutofit/>
          </a:bodyPr>
          <a:p>
            <a:pPr>
              <a:lnSpc>
                <a:spcPct val="150000"/>
              </a:lnSpc>
            </a:pPr>
            <a:r>
              <a:rPr b="0" lang="en-US" sz="1600" spc="-1" strike="noStrike">
                <a:solidFill>
                  <a:srgbClr val="000000"/>
                </a:solidFill>
                <a:latin typeface="Britannic Bold"/>
                <a:ea typeface="宋体"/>
              </a:rPr>
              <a:t>3 </a:t>
            </a:r>
            <a:r>
              <a:rPr b="0" lang="zh-CN" sz="1600" spc="-1" strike="noStrike">
                <a:solidFill>
                  <a:srgbClr val="000000"/>
                </a:solidFill>
                <a:latin typeface="微软雅黑"/>
                <a:ea typeface="微软雅黑"/>
              </a:rPr>
              <a:t>工作中存在的一些不足详细说明情况第一点是这样的等等 </a:t>
            </a:r>
            <a:endParaRPr b="0" lang="en-US" sz="1600" spc="-1" strike="noStrike">
              <a:solidFill>
                <a:srgbClr val="000000"/>
              </a:solidFill>
              <a:latin typeface="Arial"/>
            </a:endParaRPr>
          </a:p>
        </p:txBody>
      </p:sp>
      <p:sp>
        <p:nvSpPr>
          <p:cNvPr id="423" name="MH_Other_1"/>
          <p:cNvSpPr/>
          <p:nvPr/>
        </p:nvSpPr>
        <p:spPr>
          <a:xfrm>
            <a:off x="4653000" y="2937600"/>
            <a:ext cx="1059480" cy="142524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24" name="MH_Other_1"/>
          <p:cNvSpPr/>
          <p:nvPr/>
        </p:nvSpPr>
        <p:spPr>
          <a:xfrm>
            <a:off x="1741320" y="2937600"/>
            <a:ext cx="1401120" cy="142524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pic>
        <p:nvPicPr>
          <p:cNvPr id="425" name="图片 26" descr=""/>
          <p:cNvPicPr/>
          <p:nvPr/>
        </p:nvPicPr>
        <p:blipFill>
          <a:blip r:embed="rId1"/>
          <a:stretch/>
        </p:blipFill>
        <p:spPr>
          <a:xfrm>
            <a:off x="4653000" y="4365000"/>
            <a:ext cx="1541160" cy="1422720"/>
          </a:xfrm>
          <a:prstGeom prst="rect">
            <a:avLst/>
          </a:prstGeom>
          <a:ln w="0">
            <a:noFill/>
          </a:ln>
        </p:spPr>
      </p:pic>
      <p:pic>
        <p:nvPicPr>
          <p:cNvPr id="426" name="图片 27" descr=""/>
          <p:cNvPicPr/>
          <p:nvPr/>
        </p:nvPicPr>
        <p:blipFill>
          <a:blip r:embed="rId2"/>
          <a:stretch/>
        </p:blipFill>
        <p:spPr>
          <a:xfrm>
            <a:off x="3103560" y="2937600"/>
            <a:ext cx="1541160" cy="1422720"/>
          </a:xfrm>
          <a:prstGeom prst="rect">
            <a:avLst/>
          </a:prstGeom>
          <a:ln w="0">
            <a:noFill/>
          </a:ln>
        </p:spPr>
      </p:pic>
      <p:pic>
        <p:nvPicPr>
          <p:cNvPr id="427" name="图片 28" descr=""/>
          <p:cNvPicPr/>
          <p:nvPr/>
        </p:nvPicPr>
        <p:blipFill>
          <a:blip r:embed="rId3"/>
          <a:stretch/>
        </p:blipFill>
        <p:spPr>
          <a:xfrm>
            <a:off x="6727680" y="2930400"/>
            <a:ext cx="1541160" cy="1422720"/>
          </a:xfrm>
          <a:prstGeom prst="rect">
            <a:avLst/>
          </a:prstGeom>
          <a:ln w="0">
            <a:noFill/>
          </a:ln>
        </p:spPr>
      </p:pic>
      <p:pic>
        <p:nvPicPr>
          <p:cNvPr id="428" name="图片 29" descr=""/>
          <p:cNvPicPr/>
          <p:nvPr/>
        </p:nvPicPr>
        <p:blipFill>
          <a:blip r:embed="rId4"/>
          <a:stretch/>
        </p:blipFill>
        <p:spPr>
          <a:xfrm>
            <a:off x="5696640" y="1519200"/>
            <a:ext cx="1541160" cy="1422720"/>
          </a:xfrm>
          <a:prstGeom prst="rect">
            <a:avLst/>
          </a:prstGeom>
          <a:ln w="0">
            <a:noFill/>
          </a:ln>
        </p:spPr>
      </p:pic>
      <p:sp>
        <p:nvSpPr>
          <p:cNvPr id="429" name="MH_Other_1"/>
          <p:cNvSpPr/>
          <p:nvPr/>
        </p:nvSpPr>
        <p:spPr>
          <a:xfrm>
            <a:off x="8246880" y="2937600"/>
            <a:ext cx="1163520" cy="142524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430" name="Text Box 6"/>
          <p:cNvSpPr/>
          <p:nvPr/>
        </p:nvSpPr>
        <p:spPr>
          <a:xfrm>
            <a:off x="432720" y="6523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5"/>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32"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工作中存在的不足</a:t>
            </a:r>
            <a:endParaRPr b="0" lang="en-US" sz="2800" spc="-1" strike="noStrike">
              <a:solidFill>
                <a:srgbClr val="000000"/>
              </a:solidFill>
              <a:latin typeface="Arial"/>
            </a:endParaRPr>
          </a:p>
        </p:txBody>
      </p:sp>
      <p:cxnSp>
        <p:nvCxnSpPr>
          <p:cNvPr id="433" name="直接连接符 3"/>
          <p:cNvCxnSpPr/>
          <p:nvPr/>
        </p:nvCxnSpPr>
        <p:spPr>
          <a:xfrm>
            <a:off x="0" y="1105200"/>
            <a:ext cx="11694240" cy="360"/>
          </a:xfrm>
          <a:prstGeom prst="straightConnector1">
            <a:avLst/>
          </a:prstGeom>
          <a:ln w="25400">
            <a:solidFill>
              <a:srgbClr val="2c77ca"/>
            </a:solidFill>
          </a:ln>
        </p:spPr>
      </p:cxnSp>
      <p:sp>
        <p:nvSpPr>
          <p:cNvPr id="434" name="MH_Other_1"/>
          <p:cNvSpPr/>
          <p:nvPr/>
        </p:nvSpPr>
        <p:spPr>
          <a:xfrm>
            <a:off x="4487760" y="1973160"/>
            <a:ext cx="1582200" cy="1582200"/>
          </a:xfrm>
          <a:custGeom>
            <a:avLst/>
            <a:gdLst>
              <a:gd name="textAreaLeft" fmla="*/ 0 w 1582200"/>
              <a:gd name="textAreaRight" fmla="*/ 1582560 w 1582200"/>
              <a:gd name="textAreaTop" fmla="*/ 0 h 1582200"/>
              <a:gd name="textAreaBottom" fmla="*/ 1582560 h 1582200"/>
            </a:gdLst>
            <a:ahLst/>
            <a:rect l="textAreaLeft" t="textAreaTop" r="textAreaRight" b="textAreaBottom"/>
            <a:pathLst>
              <a:path w="1583559" h="1583558">
                <a:moveTo>
                  <a:pt x="1583559" y="0"/>
                </a:moveTo>
                <a:lnTo>
                  <a:pt x="1583559" y="1583558"/>
                </a:lnTo>
                <a:lnTo>
                  <a:pt x="0" y="1583558"/>
                </a:lnTo>
                <a:cubicBezTo>
                  <a:pt x="0" y="708983"/>
                  <a:pt x="708984" y="0"/>
                  <a:pt x="1583559" y="0"/>
                </a:cubicBezTo>
                <a:close/>
              </a:path>
            </a:pathLst>
          </a:cu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rPr>
              <a:t>A</a:t>
            </a:r>
            <a:endParaRPr b="0" lang="en-US" sz="3600" spc="-1" strike="noStrike">
              <a:solidFill>
                <a:srgbClr val="000000"/>
              </a:solidFill>
              <a:latin typeface="Arial"/>
            </a:endParaRPr>
          </a:p>
        </p:txBody>
      </p:sp>
      <p:sp>
        <p:nvSpPr>
          <p:cNvPr id="435" name="MH_Other_2"/>
          <p:cNvSpPr/>
          <p:nvPr/>
        </p:nvSpPr>
        <p:spPr>
          <a:xfrm>
            <a:off x="6191280" y="1973160"/>
            <a:ext cx="1584000" cy="1582200"/>
          </a:xfrm>
          <a:custGeom>
            <a:avLst/>
            <a:gdLst>
              <a:gd name="textAreaLeft" fmla="*/ 0 w 1584000"/>
              <a:gd name="textAreaRight" fmla="*/ 1584360 w 1584000"/>
              <a:gd name="textAreaTop" fmla="*/ 0 h 1582200"/>
              <a:gd name="textAreaBottom" fmla="*/ 1582560 h 1582200"/>
            </a:gdLst>
            <a:ahLst/>
            <a:rect l="textAreaLeft" t="textAreaTop" r="textAreaRight" b="textAreaBottom"/>
            <a:pathLst>
              <a:path w="1583559" h="1583558">
                <a:moveTo>
                  <a:pt x="0" y="0"/>
                </a:moveTo>
                <a:cubicBezTo>
                  <a:pt x="874575" y="0"/>
                  <a:pt x="1583559" y="708983"/>
                  <a:pt x="1583559" y="1583558"/>
                </a:cubicBezTo>
                <a:lnTo>
                  <a:pt x="0" y="1583558"/>
                </a:lnTo>
                <a:close/>
              </a:path>
            </a:pathLst>
          </a:custGeom>
          <a:solidFill>
            <a:srgbClr val="d4d5d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rPr>
              <a:t>D</a:t>
            </a:r>
            <a:endParaRPr b="0" lang="en-US" sz="3600" spc="-1" strike="noStrike">
              <a:solidFill>
                <a:srgbClr val="000000"/>
              </a:solidFill>
              <a:latin typeface="Arial"/>
            </a:endParaRPr>
          </a:p>
        </p:txBody>
      </p:sp>
      <p:sp>
        <p:nvSpPr>
          <p:cNvPr id="436" name="MH_Other_3"/>
          <p:cNvSpPr/>
          <p:nvPr/>
        </p:nvSpPr>
        <p:spPr>
          <a:xfrm>
            <a:off x="6191280" y="3672000"/>
            <a:ext cx="1584000" cy="1582200"/>
          </a:xfrm>
          <a:custGeom>
            <a:avLst/>
            <a:gdLst>
              <a:gd name="textAreaLeft" fmla="*/ 0 w 1584000"/>
              <a:gd name="textAreaRight" fmla="*/ 1584360 w 1584000"/>
              <a:gd name="textAreaTop" fmla="*/ 0 h 1582200"/>
              <a:gd name="textAreaBottom" fmla="*/ 1582560 h 1582200"/>
            </a:gdLst>
            <a:ahLst/>
            <a:rect l="textAreaLeft" t="textAreaTop" r="textAreaRight" b="textAreaBottom"/>
            <a:pathLst>
              <a:path w="1583559" h="1583558">
                <a:moveTo>
                  <a:pt x="0" y="0"/>
                </a:moveTo>
                <a:lnTo>
                  <a:pt x="1583559" y="0"/>
                </a:lnTo>
                <a:cubicBezTo>
                  <a:pt x="1583559" y="874575"/>
                  <a:pt x="874575" y="1583558"/>
                  <a:pt x="0" y="1583558"/>
                </a:cubicBezTo>
                <a:close/>
              </a:path>
            </a:pathLst>
          </a:cu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ea typeface="PMingLiU"/>
              </a:rPr>
              <a:t>C</a:t>
            </a:r>
            <a:endParaRPr b="0" lang="en-US" sz="3600" spc="-1" strike="noStrike">
              <a:solidFill>
                <a:srgbClr val="000000"/>
              </a:solidFill>
              <a:latin typeface="Arial"/>
            </a:endParaRPr>
          </a:p>
        </p:txBody>
      </p:sp>
      <p:sp>
        <p:nvSpPr>
          <p:cNvPr id="437" name="MH_Other_4"/>
          <p:cNvSpPr/>
          <p:nvPr/>
        </p:nvSpPr>
        <p:spPr>
          <a:xfrm flipH="1">
            <a:off x="4487040" y="3672000"/>
            <a:ext cx="1582200" cy="1582200"/>
          </a:xfrm>
          <a:custGeom>
            <a:avLst/>
            <a:gdLst>
              <a:gd name="textAreaLeft" fmla="*/ -360 w 1582200"/>
              <a:gd name="textAreaRight" fmla="*/ 1582200 w 1582200"/>
              <a:gd name="textAreaTop" fmla="*/ 0 h 1582200"/>
              <a:gd name="textAreaBottom" fmla="*/ 1582560 h 1582200"/>
            </a:gdLst>
            <a:ahLst/>
            <a:rect l="textAreaLeft" t="textAreaTop" r="textAreaRight" b="textAreaBottom"/>
            <a:pathLst>
              <a:path w="1583553" h="1583440">
                <a:moveTo>
                  <a:pt x="1583553" y="0"/>
                </a:moveTo>
                <a:lnTo>
                  <a:pt x="0" y="0"/>
                </a:lnTo>
                <a:lnTo>
                  <a:pt x="0" y="1583440"/>
                </a:lnTo>
                <a:cubicBezTo>
                  <a:pt x="819914" y="1583440"/>
                  <a:pt x="1494289" y="960311"/>
                  <a:pt x="1575383" y="161792"/>
                </a:cubicBezTo>
                <a:close/>
              </a:path>
            </a:pathLst>
          </a:custGeom>
          <a:solidFill>
            <a:srgbClr val="869b2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ffffff"/>
                </a:solidFill>
                <a:latin typeface="Britannic Bold"/>
                <a:ea typeface="PMingLiU"/>
              </a:rPr>
              <a:t>B</a:t>
            </a:r>
            <a:endParaRPr b="0" lang="en-US" sz="3600" spc="-1" strike="noStrike">
              <a:solidFill>
                <a:srgbClr val="000000"/>
              </a:solidFill>
              <a:latin typeface="Arial"/>
            </a:endParaRPr>
          </a:p>
        </p:txBody>
      </p:sp>
      <p:sp>
        <p:nvSpPr>
          <p:cNvPr id="438" name="MH_Title_1"/>
          <p:cNvSpPr/>
          <p:nvPr/>
        </p:nvSpPr>
        <p:spPr>
          <a:xfrm>
            <a:off x="5299200" y="2789280"/>
            <a:ext cx="1650600" cy="1649160"/>
          </a:xfrm>
          <a:prstGeom prst="ellipse">
            <a:avLst/>
          </a:prstGeom>
          <a:solidFill>
            <a:srgbClr val="ffffff"/>
          </a:solidFill>
          <a:ln w="38100">
            <a:noFill/>
          </a:ln>
          <a:effectLst>
            <a:outerShdw algn="ctr" blurRad="63360" rotWithShape="0" sx="102000" sy="102000">
              <a:schemeClr val="tx1">
                <a:lumMod val="60000"/>
                <a:lumOff val="40000"/>
                <a:alpha val="40000"/>
              </a:schemeClr>
            </a:outerShdw>
          </a:effectLst>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1" lang="zh-CN" sz="2800" spc="-1" strike="noStrike">
                <a:solidFill>
                  <a:srgbClr val="1283c1"/>
                </a:solidFill>
                <a:latin typeface="微软雅黑"/>
                <a:ea typeface="微软雅黑"/>
              </a:rPr>
              <a:t>需要</a:t>
            </a:r>
            <a:endParaRPr b="0" lang="en-US" sz="2800" spc="-1" strike="noStrike">
              <a:solidFill>
                <a:srgbClr val="000000"/>
              </a:solidFill>
              <a:latin typeface="Arial"/>
            </a:endParaRPr>
          </a:p>
          <a:p>
            <a:pPr algn="ctr">
              <a:lnSpc>
                <a:spcPct val="100000"/>
              </a:lnSpc>
            </a:pPr>
            <a:r>
              <a:rPr b="1" lang="zh-CN" sz="2800" spc="-1" strike="noStrike">
                <a:solidFill>
                  <a:srgbClr val="1283c1"/>
                </a:solidFill>
                <a:latin typeface="微软雅黑"/>
                <a:ea typeface="微软雅黑"/>
              </a:rPr>
              <a:t>改进</a:t>
            </a:r>
            <a:endParaRPr b="0" lang="en-US" sz="2800" spc="-1" strike="noStrike">
              <a:solidFill>
                <a:srgbClr val="000000"/>
              </a:solidFill>
              <a:latin typeface="Arial"/>
            </a:endParaRPr>
          </a:p>
        </p:txBody>
      </p:sp>
      <p:sp>
        <p:nvSpPr>
          <p:cNvPr id="439" name="MH_SubTitle_1"/>
          <p:cNvSpPr/>
          <p:nvPr/>
        </p:nvSpPr>
        <p:spPr>
          <a:xfrm>
            <a:off x="2249640" y="1838160"/>
            <a:ext cx="2171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1283c1"/>
                </a:solidFill>
                <a:latin typeface="微软雅黑"/>
                <a:ea typeface="微软雅黑"/>
              </a:rPr>
              <a:t>工作一</a:t>
            </a:r>
            <a:endParaRPr b="0" lang="en-US" sz="1800" spc="-1" strike="noStrike">
              <a:solidFill>
                <a:srgbClr val="000000"/>
              </a:solidFill>
              <a:latin typeface="Arial"/>
            </a:endParaRPr>
          </a:p>
        </p:txBody>
      </p:sp>
      <p:sp>
        <p:nvSpPr>
          <p:cNvPr id="440" name="MH_Other_5"/>
          <p:cNvSpPr/>
          <p:nvPr/>
        </p:nvSpPr>
        <p:spPr>
          <a:xfrm>
            <a:off x="2346480" y="2211480"/>
            <a:ext cx="2123640" cy="45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080" bIns="1080" anchor="ctr">
            <a:noAutofit/>
          </a:bodyPr>
          <a:p>
            <a:pPr algn="ctr">
              <a:lnSpc>
                <a:spcPct val="100000"/>
              </a:lnSpc>
            </a:pPr>
            <a:endParaRPr b="0" lang="en-US" sz="1800" spc="-1" strike="noStrike">
              <a:solidFill>
                <a:srgbClr val="7c233e"/>
              </a:solidFill>
              <a:latin typeface="Calibri"/>
              <a:ea typeface="PMingLiU"/>
            </a:endParaRPr>
          </a:p>
        </p:txBody>
      </p:sp>
      <p:sp>
        <p:nvSpPr>
          <p:cNvPr id="441" name="MH_Text_2"/>
          <p:cNvSpPr/>
          <p:nvPr/>
        </p:nvSpPr>
        <p:spPr>
          <a:xfrm>
            <a:off x="2249640" y="4686480"/>
            <a:ext cx="2115720" cy="12855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1500" spc="-1" strike="noStrike">
                <a:solidFill>
                  <a:srgbClr val="000000"/>
                </a:solidFill>
                <a:latin typeface="微软雅黑"/>
                <a:ea typeface="微软雅黑"/>
              </a:rPr>
              <a:t>工作中存在的不足，市场需要开拓，客户需要发展。明年计划需要拟定。</a:t>
            </a:r>
            <a:endParaRPr b="0" lang="en-US" sz="1500" spc="-1" strike="noStrike">
              <a:solidFill>
                <a:srgbClr val="000000"/>
              </a:solidFill>
              <a:latin typeface="Arial"/>
            </a:endParaRPr>
          </a:p>
        </p:txBody>
      </p:sp>
      <p:sp>
        <p:nvSpPr>
          <p:cNvPr id="442" name="MH_SubTitle_2"/>
          <p:cNvSpPr/>
          <p:nvPr/>
        </p:nvSpPr>
        <p:spPr>
          <a:xfrm>
            <a:off x="2249640" y="4253040"/>
            <a:ext cx="2171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869b2b"/>
                </a:solidFill>
                <a:latin typeface="微软雅黑"/>
                <a:ea typeface="微软雅黑"/>
              </a:rPr>
              <a:t>工作二</a:t>
            </a:r>
            <a:endParaRPr b="0" lang="en-US" sz="1800" spc="-1" strike="noStrike">
              <a:solidFill>
                <a:srgbClr val="000000"/>
              </a:solidFill>
              <a:latin typeface="Arial"/>
            </a:endParaRPr>
          </a:p>
        </p:txBody>
      </p:sp>
      <p:sp>
        <p:nvSpPr>
          <p:cNvPr id="443" name="MH_Other_6"/>
          <p:cNvSpPr/>
          <p:nvPr/>
        </p:nvSpPr>
        <p:spPr>
          <a:xfrm>
            <a:off x="2346480" y="4635360"/>
            <a:ext cx="2123640" cy="45720"/>
          </a:xfrm>
          <a:prstGeom prst="rect">
            <a:avLst/>
          </a:prstGeom>
          <a:solidFill>
            <a:srgbClr val="869b2b"/>
          </a:solidFill>
          <a:ln>
            <a:noFill/>
          </a:ln>
        </p:spPr>
        <p:style>
          <a:lnRef idx="2">
            <a:schemeClr val="accent1">
              <a:shade val="50000"/>
            </a:schemeClr>
          </a:lnRef>
          <a:fillRef idx="1">
            <a:schemeClr val="accent1"/>
          </a:fillRef>
          <a:effectRef idx="0">
            <a:schemeClr val="accent1"/>
          </a:effectRef>
          <a:fontRef idx="minor"/>
        </p:style>
        <p:txBody>
          <a:bodyPr lIns="90000" rIns="90000" tIns="1080" bIns="1080" anchor="ctr">
            <a:noAutofit/>
          </a:bodyPr>
          <a:p>
            <a:pPr algn="ctr">
              <a:lnSpc>
                <a:spcPct val="100000"/>
              </a:lnSpc>
            </a:pPr>
            <a:endParaRPr b="0" lang="en-US" sz="1800" spc="-1" strike="noStrike">
              <a:solidFill>
                <a:srgbClr val="7c233e"/>
              </a:solidFill>
              <a:latin typeface="Calibri"/>
              <a:ea typeface="PMingLiU"/>
            </a:endParaRPr>
          </a:p>
        </p:txBody>
      </p:sp>
      <p:sp>
        <p:nvSpPr>
          <p:cNvPr id="444" name="MH_Text_1"/>
          <p:cNvSpPr/>
          <p:nvPr/>
        </p:nvSpPr>
        <p:spPr>
          <a:xfrm>
            <a:off x="2249640" y="2270160"/>
            <a:ext cx="2228400" cy="12855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1500" spc="-1" strike="noStrike">
                <a:solidFill>
                  <a:srgbClr val="000000"/>
                </a:solidFill>
                <a:latin typeface="微软雅黑"/>
                <a:ea typeface="微软雅黑"/>
              </a:rPr>
              <a:t>工作中存在的不足，市场需要开拓，客户需要发展。明年计划需要拟定。</a:t>
            </a:r>
            <a:endParaRPr b="0" lang="en-US" sz="1500" spc="-1" strike="noStrike">
              <a:solidFill>
                <a:srgbClr val="000000"/>
              </a:solidFill>
              <a:latin typeface="Arial"/>
            </a:endParaRPr>
          </a:p>
        </p:txBody>
      </p:sp>
      <p:sp>
        <p:nvSpPr>
          <p:cNvPr id="445" name="MH_Text_4"/>
          <p:cNvSpPr/>
          <p:nvPr/>
        </p:nvSpPr>
        <p:spPr>
          <a:xfrm>
            <a:off x="7693200" y="4686480"/>
            <a:ext cx="2246040" cy="12855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1500" spc="-1" strike="noStrike">
                <a:solidFill>
                  <a:srgbClr val="000000"/>
                </a:solidFill>
                <a:latin typeface="微软雅黑"/>
                <a:ea typeface="微软雅黑"/>
              </a:rPr>
              <a:t>工作中存在的不足，市场需要开拓，客户需要发展。明年计划需要拟定。</a:t>
            </a:r>
            <a:endParaRPr b="0" lang="en-US" sz="1500" spc="-1" strike="noStrike">
              <a:solidFill>
                <a:srgbClr val="000000"/>
              </a:solidFill>
              <a:latin typeface="Arial"/>
            </a:endParaRPr>
          </a:p>
        </p:txBody>
      </p:sp>
      <p:sp>
        <p:nvSpPr>
          <p:cNvPr id="446" name="MH_SubTitle_4"/>
          <p:cNvSpPr/>
          <p:nvPr/>
        </p:nvSpPr>
        <p:spPr>
          <a:xfrm>
            <a:off x="7693200" y="4253040"/>
            <a:ext cx="2171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chemeClr val="accent4"/>
                </a:solidFill>
                <a:latin typeface="微软雅黑"/>
                <a:ea typeface="微软雅黑"/>
              </a:rPr>
              <a:t>工作三</a:t>
            </a:r>
            <a:endParaRPr b="0" lang="en-US" sz="1800" spc="-1" strike="noStrike">
              <a:solidFill>
                <a:srgbClr val="000000"/>
              </a:solidFill>
              <a:latin typeface="Arial"/>
            </a:endParaRPr>
          </a:p>
        </p:txBody>
      </p:sp>
      <p:sp>
        <p:nvSpPr>
          <p:cNvPr id="447" name="MH_Other_7"/>
          <p:cNvSpPr/>
          <p:nvPr/>
        </p:nvSpPr>
        <p:spPr>
          <a:xfrm>
            <a:off x="7783560" y="4633920"/>
            <a:ext cx="2123640" cy="457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1080" bIns="1080" anchor="ctr">
            <a:noAutofit/>
          </a:bodyPr>
          <a:p>
            <a:pPr algn="ctr">
              <a:lnSpc>
                <a:spcPct val="100000"/>
              </a:lnSpc>
            </a:pPr>
            <a:endParaRPr b="0" lang="en-US" sz="1800" spc="-1" strike="noStrike">
              <a:solidFill>
                <a:srgbClr val="7c233e"/>
              </a:solidFill>
              <a:latin typeface="Calibri"/>
              <a:ea typeface="PMingLiU"/>
            </a:endParaRPr>
          </a:p>
        </p:txBody>
      </p:sp>
      <p:sp>
        <p:nvSpPr>
          <p:cNvPr id="448" name="MH_Text_3"/>
          <p:cNvSpPr/>
          <p:nvPr/>
        </p:nvSpPr>
        <p:spPr>
          <a:xfrm>
            <a:off x="7693200" y="2270160"/>
            <a:ext cx="2246040" cy="12855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1500" spc="-1" strike="noStrike">
                <a:solidFill>
                  <a:srgbClr val="000000"/>
                </a:solidFill>
                <a:latin typeface="微软雅黑"/>
                <a:ea typeface="微软雅黑"/>
              </a:rPr>
              <a:t>工作中存在的不足，市场需要开拓，客户需要发展。明年计划需要拟定。</a:t>
            </a:r>
            <a:endParaRPr b="0" lang="en-US" sz="1500" spc="-1" strike="noStrike">
              <a:solidFill>
                <a:srgbClr val="000000"/>
              </a:solidFill>
              <a:latin typeface="Arial"/>
            </a:endParaRPr>
          </a:p>
        </p:txBody>
      </p:sp>
      <p:sp>
        <p:nvSpPr>
          <p:cNvPr id="449" name="MH_SubTitle_3"/>
          <p:cNvSpPr/>
          <p:nvPr/>
        </p:nvSpPr>
        <p:spPr>
          <a:xfrm>
            <a:off x="7693200" y="1838160"/>
            <a:ext cx="2171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a6a6a6"/>
                </a:solidFill>
                <a:latin typeface="微软雅黑"/>
                <a:ea typeface="微软雅黑"/>
              </a:rPr>
              <a:t>工作四</a:t>
            </a:r>
            <a:endParaRPr b="0" lang="en-US" sz="1800" spc="-1" strike="noStrike">
              <a:solidFill>
                <a:srgbClr val="000000"/>
              </a:solidFill>
              <a:latin typeface="Arial"/>
            </a:endParaRPr>
          </a:p>
        </p:txBody>
      </p:sp>
      <p:sp>
        <p:nvSpPr>
          <p:cNvPr id="450" name="MH_Other_8"/>
          <p:cNvSpPr/>
          <p:nvPr/>
        </p:nvSpPr>
        <p:spPr>
          <a:xfrm>
            <a:off x="7791480" y="2211480"/>
            <a:ext cx="2123640" cy="45720"/>
          </a:xfrm>
          <a:prstGeom prst="rect">
            <a:avLst/>
          </a:prstGeom>
          <a:solidFill>
            <a:schemeClr val="tx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080" bIns="1080" anchor="ctr">
            <a:noAutofit/>
          </a:bodyPr>
          <a:p>
            <a:pPr algn="ctr">
              <a:lnSpc>
                <a:spcPct val="100000"/>
              </a:lnSpc>
            </a:pPr>
            <a:endParaRPr b="0" lang="en-US" sz="1800" spc="-1" strike="noStrike">
              <a:solidFill>
                <a:srgbClr val="00b050"/>
              </a:solidFill>
              <a:latin typeface="Calibri"/>
              <a:ea typeface="PMingLiU"/>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1"/>
          <p:cNvSpPr/>
          <p:nvPr/>
        </p:nvSpPr>
        <p:spPr>
          <a:xfrm>
            <a:off x="1273680" y="0"/>
            <a:ext cx="1306080" cy="232380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2" name="矩形 2"/>
          <p:cNvSpPr/>
          <p:nvPr/>
        </p:nvSpPr>
        <p:spPr>
          <a:xfrm>
            <a:off x="1273680" y="4174560"/>
            <a:ext cx="1306080" cy="268308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3" name="文本框 3"/>
          <p:cNvSpPr/>
          <p:nvPr/>
        </p:nvSpPr>
        <p:spPr>
          <a:xfrm>
            <a:off x="1273680" y="2572920"/>
            <a:ext cx="95364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5000" spc="-1" strike="noStrike">
                <a:solidFill>
                  <a:srgbClr val="2c77ca"/>
                </a:solidFill>
                <a:latin typeface="黑体"/>
                <a:ea typeface="黑体"/>
              </a:rPr>
              <a:t>目录</a:t>
            </a:r>
            <a:endParaRPr b="0" lang="en-US" sz="5000" spc="-1" strike="noStrike">
              <a:solidFill>
                <a:srgbClr val="000000"/>
              </a:solidFill>
              <a:latin typeface="Arial"/>
            </a:endParaRPr>
          </a:p>
        </p:txBody>
      </p:sp>
      <p:sp>
        <p:nvSpPr>
          <p:cNvPr id="454" name="文本框 4"/>
          <p:cNvSpPr/>
          <p:nvPr/>
        </p:nvSpPr>
        <p:spPr>
          <a:xfrm>
            <a:off x="1981440" y="2589840"/>
            <a:ext cx="492120" cy="13406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2000" spc="-1" strike="noStrike">
                <a:solidFill>
                  <a:srgbClr val="2c77ca"/>
                </a:solidFill>
                <a:latin typeface="Britannic Bold"/>
              </a:rPr>
              <a:t> </a:t>
            </a:r>
            <a:r>
              <a:rPr b="0" lang="en-US" sz="2000" spc="-1" strike="noStrike">
                <a:solidFill>
                  <a:srgbClr val="2c77ca"/>
                </a:solidFill>
                <a:latin typeface="Britannic Bold"/>
              </a:rPr>
              <a:t>CONTENTS</a:t>
            </a:r>
            <a:endParaRPr b="0" lang="en-US" sz="2000" spc="-1" strike="noStrike">
              <a:solidFill>
                <a:srgbClr val="000000"/>
              </a:solidFill>
              <a:latin typeface="Arial"/>
            </a:endParaRPr>
          </a:p>
        </p:txBody>
      </p:sp>
      <p:grpSp>
        <p:nvGrpSpPr>
          <p:cNvPr id="455" name="组合 14"/>
          <p:cNvGrpSpPr/>
          <p:nvPr/>
        </p:nvGrpSpPr>
        <p:grpSpPr>
          <a:xfrm>
            <a:off x="4593600" y="1350000"/>
            <a:ext cx="4822200" cy="816120"/>
            <a:chOff x="4593600" y="1350000"/>
            <a:chExt cx="4822200" cy="816120"/>
          </a:xfrm>
        </p:grpSpPr>
        <p:sp>
          <p:nvSpPr>
            <p:cNvPr id="456" name="矩形 5"/>
            <p:cNvSpPr/>
            <p:nvPr/>
          </p:nvSpPr>
          <p:spPr>
            <a:xfrm>
              <a:off x="5344920" y="145872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前期工作总体概述</a:t>
              </a:r>
              <a:endParaRPr b="0" lang="en-US" sz="1800" spc="-1" strike="noStrike">
                <a:solidFill>
                  <a:srgbClr val="000000"/>
                </a:solidFill>
                <a:latin typeface="Arial"/>
              </a:endParaRPr>
            </a:p>
          </p:txBody>
        </p:sp>
        <p:sp>
          <p:nvSpPr>
            <p:cNvPr id="457" name="圆角矩形 11"/>
            <p:cNvSpPr/>
            <p:nvPr/>
          </p:nvSpPr>
          <p:spPr>
            <a:xfrm>
              <a:off x="4593600" y="135000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1</a:t>
              </a:r>
              <a:endParaRPr b="0" lang="en-US" sz="3200" spc="-1" strike="noStrike">
                <a:solidFill>
                  <a:srgbClr val="000000"/>
                </a:solidFill>
                <a:latin typeface="Arial"/>
              </a:endParaRPr>
            </a:p>
          </p:txBody>
        </p:sp>
      </p:grpSp>
      <p:grpSp>
        <p:nvGrpSpPr>
          <p:cNvPr id="458" name="组合 15"/>
          <p:cNvGrpSpPr/>
          <p:nvPr/>
        </p:nvGrpSpPr>
        <p:grpSpPr>
          <a:xfrm>
            <a:off x="4593600" y="2215080"/>
            <a:ext cx="4822200" cy="816120"/>
            <a:chOff x="4593600" y="2215080"/>
            <a:chExt cx="4822200" cy="816120"/>
          </a:xfrm>
        </p:grpSpPr>
        <p:sp>
          <p:nvSpPr>
            <p:cNvPr id="459" name="矩形 16"/>
            <p:cNvSpPr/>
            <p:nvPr/>
          </p:nvSpPr>
          <p:spPr>
            <a:xfrm>
              <a:off x="5344920" y="23241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具体完成情况</a:t>
              </a:r>
              <a:endParaRPr b="0" lang="en-US" sz="1800" spc="-1" strike="noStrike">
                <a:solidFill>
                  <a:srgbClr val="000000"/>
                </a:solidFill>
                <a:latin typeface="Arial"/>
              </a:endParaRPr>
            </a:p>
          </p:txBody>
        </p:sp>
        <p:sp>
          <p:nvSpPr>
            <p:cNvPr id="460" name="圆角矩形 17"/>
            <p:cNvSpPr/>
            <p:nvPr/>
          </p:nvSpPr>
          <p:spPr>
            <a:xfrm>
              <a:off x="4593600" y="221508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2</a:t>
              </a:r>
              <a:endParaRPr b="0" lang="en-US" sz="3200" spc="-1" strike="noStrike">
                <a:solidFill>
                  <a:srgbClr val="000000"/>
                </a:solidFill>
                <a:latin typeface="Arial"/>
              </a:endParaRPr>
            </a:p>
          </p:txBody>
        </p:sp>
      </p:grpSp>
      <p:grpSp>
        <p:nvGrpSpPr>
          <p:cNvPr id="461" name="组合 18"/>
          <p:cNvGrpSpPr/>
          <p:nvPr/>
        </p:nvGrpSpPr>
        <p:grpSpPr>
          <a:xfrm>
            <a:off x="4593600" y="3140640"/>
            <a:ext cx="4822200" cy="816120"/>
            <a:chOff x="4593600" y="3140640"/>
            <a:chExt cx="4822200" cy="816120"/>
          </a:xfrm>
        </p:grpSpPr>
        <p:sp>
          <p:nvSpPr>
            <p:cNvPr id="462" name="矩形 19"/>
            <p:cNvSpPr/>
            <p:nvPr/>
          </p:nvSpPr>
          <p:spPr>
            <a:xfrm>
              <a:off x="5344920" y="32493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中存在的不足</a:t>
              </a:r>
              <a:endParaRPr b="0" lang="en-US" sz="1800" spc="-1" strike="noStrike">
                <a:solidFill>
                  <a:srgbClr val="000000"/>
                </a:solidFill>
                <a:latin typeface="Arial"/>
              </a:endParaRPr>
            </a:p>
          </p:txBody>
        </p:sp>
        <p:sp>
          <p:nvSpPr>
            <p:cNvPr id="463" name="圆角矩形 20"/>
            <p:cNvSpPr/>
            <p:nvPr/>
          </p:nvSpPr>
          <p:spPr>
            <a:xfrm>
              <a:off x="4593600" y="31406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3</a:t>
              </a:r>
              <a:endParaRPr b="0" lang="en-US" sz="3200" spc="-1" strike="noStrike">
                <a:solidFill>
                  <a:srgbClr val="000000"/>
                </a:solidFill>
                <a:latin typeface="Arial"/>
              </a:endParaRPr>
            </a:p>
          </p:txBody>
        </p:sp>
      </p:grpSp>
      <p:grpSp>
        <p:nvGrpSpPr>
          <p:cNvPr id="464" name="组合 21"/>
          <p:cNvGrpSpPr/>
          <p:nvPr/>
        </p:nvGrpSpPr>
        <p:grpSpPr>
          <a:xfrm>
            <a:off x="4593600" y="4065840"/>
            <a:ext cx="4822200" cy="816120"/>
            <a:chOff x="4593600" y="4065840"/>
            <a:chExt cx="4822200" cy="816120"/>
          </a:xfrm>
        </p:grpSpPr>
        <p:sp>
          <p:nvSpPr>
            <p:cNvPr id="465" name="矩形 22"/>
            <p:cNvSpPr/>
            <p:nvPr/>
          </p:nvSpPr>
          <p:spPr>
            <a:xfrm>
              <a:off x="5344920" y="4174560"/>
              <a:ext cx="4070880" cy="598320"/>
            </a:xfrm>
            <a:prstGeom prst="rect">
              <a:avLst/>
            </a:prstGeom>
            <a:solidFill>
              <a:srgbClr val="869b2b"/>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ffffff"/>
                  </a:solidFill>
                  <a:latin typeface="黑体"/>
                  <a:ea typeface="黑体"/>
                </a:rPr>
                <a:t>明年其他工作计划</a:t>
              </a:r>
              <a:endParaRPr b="0" lang="en-US" sz="1800" spc="-1" strike="noStrike">
                <a:solidFill>
                  <a:srgbClr val="000000"/>
                </a:solidFill>
                <a:latin typeface="Arial"/>
              </a:endParaRPr>
            </a:p>
          </p:txBody>
        </p:sp>
        <p:sp>
          <p:nvSpPr>
            <p:cNvPr id="466" name="圆角矩形 23"/>
            <p:cNvSpPr/>
            <p:nvPr/>
          </p:nvSpPr>
          <p:spPr>
            <a:xfrm>
              <a:off x="4593600" y="40658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68"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明年其他工作计划</a:t>
            </a:r>
            <a:endParaRPr b="0" lang="en-US" sz="2800" spc="-1" strike="noStrike">
              <a:solidFill>
                <a:srgbClr val="000000"/>
              </a:solidFill>
              <a:latin typeface="Arial"/>
            </a:endParaRPr>
          </a:p>
        </p:txBody>
      </p:sp>
      <p:cxnSp>
        <p:nvCxnSpPr>
          <p:cNvPr id="469" name="直接连接符 3"/>
          <p:cNvCxnSpPr/>
          <p:nvPr/>
        </p:nvCxnSpPr>
        <p:spPr>
          <a:xfrm>
            <a:off x="0" y="1105200"/>
            <a:ext cx="11694240" cy="360"/>
          </a:xfrm>
          <a:prstGeom prst="straightConnector1">
            <a:avLst/>
          </a:prstGeom>
          <a:ln w="25400">
            <a:solidFill>
              <a:srgbClr val="2c77ca"/>
            </a:solidFill>
          </a:ln>
        </p:spPr>
      </p:cxnSp>
      <p:sp>
        <p:nvSpPr>
          <p:cNvPr id="470" name="MH_SubTitle_1"/>
          <p:cNvSpPr/>
          <p:nvPr/>
        </p:nvSpPr>
        <p:spPr>
          <a:xfrm>
            <a:off x="2319480" y="1801800"/>
            <a:ext cx="1447560" cy="1447560"/>
          </a:xfrm>
          <a:prstGeom prst="ellipse">
            <a:avLst/>
          </a:prstGeom>
          <a:solidFill>
            <a:srgbClr val="1283c1"/>
          </a:solidFill>
          <a:ln w="3175">
            <a:solidFill>
              <a:srgbClr val="fe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r>
              <a:rPr b="1" lang="zh-CN" sz="1800" spc="-1" strike="noStrike">
                <a:solidFill>
                  <a:srgbClr val="feffff"/>
                </a:solidFill>
                <a:latin typeface="微软雅黑"/>
                <a:ea typeface="微软雅黑"/>
              </a:rPr>
              <a:t>项目一</a:t>
            </a:r>
            <a:endParaRPr b="0" lang="en-US" sz="1800" spc="-1" strike="noStrike">
              <a:solidFill>
                <a:srgbClr val="000000"/>
              </a:solidFill>
              <a:latin typeface="Arial"/>
            </a:endParaRPr>
          </a:p>
        </p:txBody>
      </p:sp>
      <p:sp>
        <p:nvSpPr>
          <p:cNvPr id="471" name="MH_SubTitle_4"/>
          <p:cNvSpPr/>
          <p:nvPr/>
        </p:nvSpPr>
        <p:spPr>
          <a:xfrm>
            <a:off x="8043840" y="1801800"/>
            <a:ext cx="1447560" cy="1447560"/>
          </a:xfrm>
          <a:prstGeom prst="ellipse">
            <a:avLst/>
          </a:prstGeom>
          <a:solidFill>
            <a:schemeClr val="accent3"/>
          </a:solidFill>
          <a:ln w="3175">
            <a:solidFill>
              <a:srgbClr val="fe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r>
              <a:rPr b="1" lang="zh-CN" sz="1800" spc="-1" strike="noStrike">
                <a:solidFill>
                  <a:srgbClr val="feffff"/>
                </a:solidFill>
                <a:latin typeface="微软雅黑"/>
                <a:ea typeface="微软雅黑"/>
              </a:rPr>
              <a:t>项目四</a:t>
            </a:r>
            <a:endParaRPr b="0" lang="en-US" sz="1800" spc="-1" strike="noStrike">
              <a:solidFill>
                <a:srgbClr val="000000"/>
              </a:solidFill>
              <a:latin typeface="Arial"/>
            </a:endParaRPr>
          </a:p>
        </p:txBody>
      </p:sp>
      <p:sp>
        <p:nvSpPr>
          <p:cNvPr id="472" name="MH_SubTitle_3"/>
          <p:cNvSpPr/>
          <p:nvPr/>
        </p:nvSpPr>
        <p:spPr>
          <a:xfrm>
            <a:off x="6135840" y="1801800"/>
            <a:ext cx="1447560" cy="1447560"/>
          </a:xfrm>
          <a:prstGeom prst="ellipse">
            <a:avLst/>
          </a:prstGeom>
          <a:solidFill>
            <a:schemeClr val="accent4"/>
          </a:solidFill>
          <a:ln w="3175">
            <a:solidFill>
              <a:srgbClr val="fe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r>
              <a:rPr b="1" lang="zh-CN" sz="1800" spc="-1" strike="noStrike">
                <a:solidFill>
                  <a:srgbClr val="feffff"/>
                </a:solidFill>
                <a:latin typeface="微软雅黑"/>
                <a:ea typeface="微软雅黑"/>
              </a:rPr>
              <a:t>项目三</a:t>
            </a:r>
            <a:endParaRPr b="0" lang="en-US" sz="1800" spc="-1" strike="noStrike">
              <a:solidFill>
                <a:srgbClr val="000000"/>
              </a:solidFill>
              <a:latin typeface="Arial"/>
            </a:endParaRPr>
          </a:p>
        </p:txBody>
      </p:sp>
      <p:sp>
        <p:nvSpPr>
          <p:cNvPr id="473" name="MH_SubTitle_2"/>
          <p:cNvSpPr/>
          <p:nvPr/>
        </p:nvSpPr>
        <p:spPr>
          <a:xfrm>
            <a:off x="4227480" y="1801800"/>
            <a:ext cx="1447560" cy="1447560"/>
          </a:xfrm>
          <a:prstGeom prst="ellipse">
            <a:avLst/>
          </a:prstGeom>
          <a:solidFill>
            <a:srgbClr val="869b2b"/>
          </a:solidFill>
          <a:ln w="3175">
            <a:solidFill>
              <a:srgbClr val="fe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rmAutofit/>
          </a:bodyPr>
          <a:p>
            <a:pPr algn="ctr">
              <a:lnSpc>
                <a:spcPct val="100000"/>
              </a:lnSpc>
            </a:pPr>
            <a:r>
              <a:rPr b="1" lang="zh-CN" sz="1800" spc="-1" strike="noStrike">
                <a:solidFill>
                  <a:srgbClr val="feffff"/>
                </a:solidFill>
                <a:latin typeface="微软雅黑"/>
                <a:ea typeface="微软雅黑"/>
              </a:rPr>
              <a:t>项目二</a:t>
            </a:r>
            <a:endParaRPr b="0" lang="en-US" sz="1800" spc="-1" strike="noStrike">
              <a:solidFill>
                <a:srgbClr val="000000"/>
              </a:solidFill>
              <a:latin typeface="Arial"/>
            </a:endParaRPr>
          </a:p>
        </p:txBody>
      </p:sp>
      <p:sp>
        <p:nvSpPr>
          <p:cNvPr id="474" name="KSO_Shape"/>
          <p:cNvSpPr/>
          <p:nvPr/>
        </p:nvSpPr>
        <p:spPr>
          <a:xfrm>
            <a:off x="3843000" y="2373840"/>
            <a:ext cx="384120" cy="303120"/>
          </a:xfrm>
          <a:custGeom>
            <a:avLst/>
            <a:gdLst>
              <a:gd name="textAreaLeft" fmla="*/ 0 w 384120"/>
              <a:gd name="textAreaRight" fmla="*/ 384480 w 384120"/>
              <a:gd name="textAreaTop" fmla="*/ 0 h 303120"/>
              <a:gd name="textAreaBottom" fmla="*/ 303480 h 303120"/>
            </a:gdLst>
            <a:ahLst/>
            <a:rect l="textAreaLeft" t="textAreaTop" r="textAreaRight" b="textAreaBottom"/>
            <a:pathLst>
              <a:path w="5616" h="4433">
                <a:moveTo>
                  <a:pt x="1854" y="1391"/>
                </a:moveTo>
                <a:lnTo>
                  <a:pt x="0" y="983"/>
                </a:lnTo>
                <a:lnTo>
                  <a:pt x="346" y="2217"/>
                </a:lnTo>
                <a:lnTo>
                  <a:pt x="0" y="3451"/>
                </a:lnTo>
                <a:lnTo>
                  <a:pt x="1854" y="3043"/>
                </a:lnTo>
                <a:lnTo>
                  <a:pt x="2116" y="2217"/>
                </a:lnTo>
                <a:lnTo>
                  <a:pt x="1854" y="1391"/>
                </a:lnTo>
                <a:close/>
                <a:moveTo>
                  <a:pt x="5616" y="2217"/>
                </a:moveTo>
                <a:lnTo>
                  <a:pt x="1777" y="0"/>
                </a:lnTo>
                <a:lnTo>
                  <a:pt x="2481" y="2217"/>
                </a:lnTo>
                <a:lnTo>
                  <a:pt x="1777" y="4433"/>
                </a:lnTo>
                <a:lnTo>
                  <a:pt x="5616" y="2217"/>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75" name="KSO_Shape"/>
          <p:cNvSpPr/>
          <p:nvPr/>
        </p:nvSpPr>
        <p:spPr>
          <a:xfrm>
            <a:off x="5713200" y="2373840"/>
            <a:ext cx="384120" cy="303120"/>
          </a:xfrm>
          <a:custGeom>
            <a:avLst/>
            <a:gdLst>
              <a:gd name="textAreaLeft" fmla="*/ 0 w 384120"/>
              <a:gd name="textAreaRight" fmla="*/ 384480 w 384120"/>
              <a:gd name="textAreaTop" fmla="*/ 0 h 303120"/>
              <a:gd name="textAreaBottom" fmla="*/ 303480 h 303120"/>
            </a:gdLst>
            <a:ahLst/>
            <a:rect l="textAreaLeft" t="textAreaTop" r="textAreaRight" b="textAreaBottom"/>
            <a:pathLst>
              <a:path w="5616" h="4433">
                <a:moveTo>
                  <a:pt x="1854" y="1391"/>
                </a:moveTo>
                <a:lnTo>
                  <a:pt x="0" y="983"/>
                </a:lnTo>
                <a:lnTo>
                  <a:pt x="346" y="2217"/>
                </a:lnTo>
                <a:lnTo>
                  <a:pt x="0" y="3451"/>
                </a:lnTo>
                <a:lnTo>
                  <a:pt x="1854" y="3043"/>
                </a:lnTo>
                <a:lnTo>
                  <a:pt x="2116" y="2217"/>
                </a:lnTo>
                <a:lnTo>
                  <a:pt x="1854" y="1391"/>
                </a:lnTo>
                <a:close/>
                <a:moveTo>
                  <a:pt x="5616" y="2217"/>
                </a:moveTo>
                <a:lnTo>
                  <a:pt x="1777" y="0"/>
                </a:lnTo>
                <a:lnTo>
                  <a:pt x="2481" y="2217"/>
                </a:lnTo>
                <a:lnTo>
                  <a:pt x="1777" y="4433"/>
                </a:lnTo>
                <a:lnTo>
                  <a:pt x="5616" y="2217"/>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76" name="KSO_Shape"/>
          <p:cNvSpPr/>
          <p:nvPr/>
        </p:nvSpPr>
        <p:spPr>
          <a:xfrm>
            <a:off x="7621560" y="2373840"/>
            <a:ext cx="384120" cy="303120"/>
          </a:xfrm>
          <a:custGeom>
            <a:avLst/>
            <a:gdLst>
              <a:gd name="textAreaLeft" fmla="*/ 0 w 384120"/>
              <a:gd name="textAreaRight" fmla="*/ 384480 w 384120"/>
              <a:gd name="textAreaTop" fmla="*/ 0 h 303120"/>
              <a:gd name="textAreaBottom" fmla="*/ 303480 h 303120"/>
            </a:gdLst>
            <a:ahLst/>
            <a:rect l="textAreaLeft" t="textAreaTop" r="textAreaRight" b="textAreaBottom"/>
            <a:pathLst>
              <a:path w="5616" h="4433">
                <a:moveTo>
                  <a:pt x="1854" y="1391"/>
                </a:moveTo>
                <a:lnTo>
                  <a:pt x="0" y="983"/>
                </a:lnTo>
                <a:lnTo>
                  <a:pt x="346" y="2217"/>
                </a:lnTo>
                <a:lnTo>
                  <a:pt x="0" y="3451"/>
                </a:lnTo>
                <a:lnTo>
                  <a:pt x="1854" y="3043"/>
                </a:lnTo>
                <a:lnTo>
                  <a:pt x="2116" y="2217"/>
                </a:lnTo>
                <a:lnTo>
                  <a:pt x="1854" y="1391"/>
                </a:lnTo>
                <a:close/>
                <a:moveTo>
                  <a:pt x="5616" y="2217"/>
                </a:moveTo>
                <a:lnTo>
                  <a:pt x="1777" y="0"/>
                </a:lnTo>
                <a:lnTo>
                  <a:pt x="2481" y="2217"/>
                </a:lnTo>
                <a:lnTo>
                  <a:pt x="1777" y="4433"/>
                </a:lnTo>
                <a:lnTo>
                  <a:pt x="5616" y="2217"/>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77" name="矩形 27"/>
          <p:cNvSpPr/>
          <p:nvPr/>
        </p:nvSpPr>
        <p:spPr>
          <a:xfrm>
            <a:off x="2162160" y="3581280"/>
            <a:ext cx="7467120" cy="2180880"/>
          </a:xfrm>
          <a:prstGeom prst="rect">
            <a:avLst/>
          </a:prstGeom>
          <a:solidFill>
            <a:srgbClr val="1283c1">
              <a:alpha val="97000"/>
            </a:srgbClr>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78" name="直接连接符 35"/>
          <p:cNvCxnSpPr>
            <a:stCxn id="470" idx="4"/>
          </p:cNvCxnSpPr>
          <p:nvPr/>
        </p:nvCxnSpPr>
        <p:spPr>
          <a:xfrm flipH="1">
            <a:off x="3038400" y="3249360"/>
            <a:ext cx="5040" cy="665640"/>
          </a:xfrm>
          <a:prstGeom prst="straightConnector1">
            <a:avLst/>
          </a:prstGeom>
          <a:ln w="25400">
            <a:solidFill>
              <a:srgbClr val="ffc000"/>
            </a:solidFill>
            <a:prstDash val="dash"/>
          </a:ln>
        </p:spPr>
      </p:cxnSp>
      <p:cxnSp>
        <p:nvCxnSpPr>
          <p:cNvPr id="479" name="直接连接符 36"/>
          <p:cNvCxnSpPr/>
          <p:nvPr/>
        </p:nvCxnSpPr>
        <p:spPr>
          <a:xfrm>
            <a:off x="4951080" y="3249360"/>
            <a:ext cx="360" cy="1422720"/>
          </a:xfrm>
          <a:prstGeom prst="straightConnector1">
            <a:avLst/>
          </a:prstGeom>
          <a:ln w="25400">
            <a:solidFill>
              <a:srgbClr val="ffc000"/>
            </a:solidFill>
            <a:prstDash val="dash"/>
          </a:ln>
        </p:spPr>
      </p:cxnSp>
      <p:cxnSp>
        <p:nvCxnSpPr>
          <p:cNvPr id="480" name="直接连接符 41"/>
          <p:cNvCxnSpPr/>
          <p:nvPr/>
        </p:nvCxnSpPr>
        <p:spPr>
          <a:xfrm flipH="1">
            <a:off x="6856920" y="3277440"/>
            <a:ext cx="5400" cy="665640"/>
          </a:xfrm>
          <a:prstGeom prst="straightConnector1">
            <a:avLst/>
          </a:prstGeom>
          <a:ln w="25400">
            <a:solidFill>
              <a:srgbClr val="ffc000"/>
            </a:solidFill>
            <a:prstDash val="dash"/>
          </a:ln>
        </p:spPr>
      </p:cxnSp>
      <p:cxnSp>
        <p:nvCxnSpPr>
          <p:cNvPr id="481" name="直接连接符 42"/>
          <p:cNvCxnSpPr/>
          <p:nvPr/>
        </p:nvCxnSpPr>
        <p:spPr>
          <a:xfrm>
            <a:off x="8775360" y="3277440"/>
            <a:ext cx="360" cy="1422720"/>
          </a:xfrm>
          <a:prstGeom prst="straightConnector1">
            <a:avLst/>
          </a:prstGeom>
          <a:ln w="25400">
            <a:solidFill>
              <a:srgbClr val="ffc000"/>
            </a:solidFill>
            <a:prstDash val="dash"/>
          </a:ln>
        </p:spPr>
      </p:cxnSp>
      <p:sp>
        <p:nvSpPr>
          <p:cNvPr id="482" name="文本框 43"/>
          <p:cNvSpPr/>
          <p:nvPr/>
        </p:nvSpPr>
        <p:spPr>
          <a:xfrm>
            <a:off x="2484000" y="3914640"/>
            <a:ext cx="1107000" cy="10486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p:txBody>
      </p:sp>
      <p:sp>
        <p:nvSpPr>
          <p:cNvPr id="483" name="文本框 44"/>
          <p:cNvSpPr/>
          <p:nvPr/>
        </p:nvSpPr>
        <p:spPr>
          <a:xfrm>
            <a:off x="4384440" y="4622400"/>
            <a:ext cx="1107000" cy="10486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p:txBody>
      </p:sp>
      <p:sp>
        <p:nvSpPr>
          <p:cNvPr id="484" name="文本框 45"/>
          <p:cNvSpPr/>
          <p:nvPr/>
        </p:nvSpPr>
        <p:spPr>
          <a:xfrm>
            <a:off x="6305760" y="3914640"/>
            <a:ext cx="1107000" cy="10486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p:txBody>
      </p:sp>
      <p:sp>
        <p:nvSpPr>
          <p:cNvPr id="485" name="文本框 46"/>
          <p:cNvSpPr/>
          <p:nvPr/>
        </p:nvSpPr>
        <p:spPr>
          <a:xfrm>
            <a:off x="8213760" y="4692240"/>
            <a:ext cx="1107000" cy="10486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a:p>
            <a:pPr marL="285840" indent="-285840">
              <a:lnSpc>
                <a:spcPct val="150000"/>
              </a:lnSpc>
              <a:buClr>
                <a:srgbClr val="ffffff"/>
              </a:buClr>
              <a:buFont typeface="Wingdings" charset="2"/>
              <a:buChar char=""/>
            </a:pPr>
            <a:r>
              <a:rPr b="0" lang="zh-CN" sz="1400" spc="-1" strike="noStrike">
                <a:solidFill>
                  <a:srgbClr val="ffffff"/>
                </a:solidFill>
                <a:latin typeface="微软雅黑"/>
                <a:ea typeface="微软雅黑"/>
              </a:rPr>
              <a:t>输入项目情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矩形 4"/>
          <p:cNvSpPr/>
          <p:nvPr/>
        </p:nvSpPr>
        <p:spPr>
          <a:xfrm>
            <a:off x="1231920" y="1695600"/>
            <a:ext cx="9492840" cy="3580920"/>
          </a:xfrm>
          <a:prstGeom prst="rect">
            <a:avLst/>
          </a:prstGeom>
          <a:solidFill>
            <a:schemeClr val="bg1">
              <a:lumMod val="50000"/>
              <a:alpha val="3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矩形 5"/>
          <p:cNvSpPr/>
          <p:nvPr/>
        </p:nvSpPr>
        <p:spPr>
          <a:xfrm>
            <a:off x="1650960" y="1282680"/>
            <a:ext cx="1917360" cy="825120"/>
          </a:xfrm>
          <a:prstGeom prst="rect">
            <a:avLst/>
          </a:prstGeom>
          <a:solidFill>
            <a:srgbClr val="2c77ca"/>
          </a:solidFill>
          <a:ln>
            <a:noFill/>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3600" spc="-1" strike="noStrike">
                <a:solidFill>
                  <a:schemeClr val="lt1"/>
                </a:solidFill>
                <a:latin typeface="黑体"/>
                <a:ea typeface="黑体"/>
              </a:rPr>
              <a:t>前言</a:t>
            </a:r>
            <a:endParaRPr b="0" lang="en-US" sz="3600" spc="-1" strike="noStrike">
              <a:solidFill>
                <a:srgbClr val="000000"/>
              </a:solidFill>
              <a:latin typeface="Arial"/>
            </a:endParaRPr>
          </a:p>
        </p:txBody>
      </p:sp>
      <p:sp>
        <p:nvSpPr>
          <p:cNvPr id="140" name="文本框 9"/>
          <p:cNvSpPr/>
          <p:nvPr/>
        </p:nvSpPr>
        <p:spPr>
          <a:xfrm>
            <a:off x="1924560" y="2593440"/>
            <a:ext cx="810720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ffffff"/>
                </a:solidFill>
                <a:latin typeface="微软雅黑"/>
                <a:ea typeface="微软雅黑"/>
              </a:rPr>
              <a:t>企业介绍：是全球最大的中文搜索引擎、最大的中文网站。</a:t>
            </a:r>
            <a:r>
              <a:rPr b="0" lang="en-US" sz="2200" spc="-1" strike="noStrike">
                <a:solidFill>
                  <a:srgbClr val="ffffff"/>
                </a:solidFill>
                <a:latin typeface="微软雅黑"/>
                <a:ea typeface="微软雅黑"/>
              </a:rPr>
              <a:t>2000</a:t>
            </a:r>
            <a:r>
              <a:rPr b="0" lang="zh-CN" sz="2200" spc="-1" strike="noStrike">
                <a:solidFill>
                  <a:srgbClr val="ffffff"/>
                </a:solidFill>
                <a:latin typeface="微软雅黑"/>
                <a:ea typeface="微软雅黑"/>
              </a:rPr>
              <a:t>年</a:t>
            </a:r>
            <a:r>
              <a:rPr b="0" lang="en-US" sz="2200" spc="-1" strike="noStrike">
                <a:solidFill>
                  <a:srgbClr val="ffffff"/>
                </a:solidFill>
                <a:latin typeface="微软雅黑"/>
                <a:ea typeface="微软雅黑"/>
              </a:rPr>
              <a:t>1</a:t>
            </a:r>
            <a:r>
              <a:rPr b="0" lang="zh-CN" sz="2200" spc="-1" strike="noStrike">
                <a:solidFill>
                  <a:srgbClr val="ffffff"/>
                </a:solidFill>
                <a:latin typeface="微软雅黑"/>
                <a:ea typeface="微软雅黑"/>
              </a:rPr>
              <a:t>月由李彦宏创立于北京中关村，致力于向人们提供“简单，可依赖”的信息获取方式。“百度”二字源于中国宋朝词人辛弃疾的《青玉案</a:t>
            </a:r>
            <a:r>
              <a:rPr b="0" lang="en-US" sz="2200" spc="-1" strike="noStrike">
                <a:solidFill>
                  <a:srgbClr val="ffffff"/>
                </a:solidFill>
                <a:latin typeface="微软雅黑"/>
                <a:ea typeface="微软雅黑"/>
              </a:rPr>
              <a:t>·</a:t>
            </a:r>
            <a:r>
              <a:rPr b="0" lang="zh-CN" sz="2200" spc="-1" strike="noStrike">
                <a:solidFill>
                  <a:srgbClr val="ffffff"/>
                </a:solidFill>
                <a:latin typeface="微软雅黑"/>
                <a:ea typeface="微软雅黑"/>
              </a:rPr>
              <a:t>元夕》词句“众里寻他千百度”，象征着百度对中文信息检索技术的执著追求。</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487"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明年其他工作计划</a:t>
            </a:r>
            <a:endParaRPr b="0" lang="en-US" sz="2800" spc="-1" strike="noStrike">
              <a:solidFill>
                <a:srgbClr val="000000"/>
              </a:solidFill>
              <a:latin typeface="Arial"/>
            </a:endParaRPr>
          </a:p>
        </p:txBody>
      </p:sp>
      <p:cxnSp>
        <p:nvCxnSpPr>
          <p:cNvPr id="488" name="直接连接符 3"/>
          <p:cNvCxnSpPr/>
          <p:nvPr/>
        </p:nvCxnSpPr>
        <p:spPr>
          <a:xfrm>
            <a:off x="0" y="1105200"/>
            <a:ext cx="11694240" cy="360"/>
          </a:xfrm>
          <a:prstGeom prst="straightConnector1">
            <a:avLst/>
          </a:prstGeom>
          <a:ln w="25400">
            <a:solidFill>
              <a:srgbClr val="2c77ca"/>
            </a:solidFill>
          </a:ln>
        </p:spPr>
      </p:cxnSp>
      <p:sp>
        <p:nvSpPr>
          <p:cNvPr id="489" name="MH_Other_1"/>
          <p:cNvSpPr/>
          <p:nvPr/>
        </p:nvSpPr>
        <p:spPr>
          <a:xfrm rot="19141200">
            <a:off x="2508840" y="1937160"/>
            <a:ext cx="5202720" cy="3104640"/>
          </a:xfrm>
          <a:custGeom>
            <a:avLst/>
            <a:gdLst>
              <a:gd name="textAreaLeft" fmla="*/ 0 w 5202720"/>
              <a:gd name="textAreaRight" fmla="*/ 5203080 w 5202720"/>
              <a:gd name="textAreaTop" fmla="*/ 0 h 3104640"/>
              <a:gd name="textAreaBottom" fmla="*/ 3105000 h 3104640"/>
            </a:gdLst>
            <a:ahLst/>
            <a:rect l="textAreaLeft" t="textAreaTop" r="textAreaRight" b="textAreaBottom"/>
            <a:pathLst>
              <a:path w="3688696" h="2201002">
                <a:moveTo>
                  <a:pt x="3169785" y="1202409"/>
                </a:moveTo>
                <a:lnTo>
                  <a:pt x="3688696" y="1682092"/>
                </a:lnTo>
                <a:lnTo>
                  <a:pt x="3209014" y="2201002"/>
                </a:lnTo>
                <a:lnTo>
                  <a:pt x="3197223" y="1900860"/>
                </a:lnTo>
                <a:lnTo>
                  <a:pt x="1861911" y="1953317"/>
                </a:lnTo>
                <a:lnTo>
                  <a:pt x="1862000" y="1957217"/>
                </a:lnTo>
                <a:lnTo>
                  <a:pt x="1622857" y="1962708"/>
                </a:lnTo>
                <a:lnTo>
                  <a:pt x="1465992" y="1968871"/>
                </a:lnTo>
                <a:lnTo>
                  <a:pt x="1465892" y="1966313"/>
                </a:lnTo>
                <a:cubicBezTo>
                  <a:pt x="1459845" y="1966451"/>
                  <a:pt x="1453799" y="1966591"/>
                  <a:pt x="1447751" y="1966729"/>
                </a:cubicBezTo>
                <a:lnTo>
                  <a:pt x="1422359" y="860958"/>
                </a:lnTo>
                <a:lnTo>
                  <a:pt x="682728" y="860957"/>
                </a:lnTo>
                <a:lnTo>
                  <a:pt x="682729" y="446600"/>
                </a:lnTo>
                <a:lnTo>
                  <a:pt x="683410" y="414358"/>
                </a:lnTo>
                <a:lnTo>
                  <a:pt x="0" y="414358"/>
                </a:lnTo>
                <a:lnTo>
                  <a:pt x="0" y="0"/>
                </a:lnTo>
                <a:lnTo>
                  <a:pt x="1115183" y="0"/>
                </a:lnTo>
                <a:lnTo>
                  <a:pt x="1115183" y="8263"/>
                </a:lnTo>
                <a:lnTo>
                  <a:pt x="1116346" y="8272"/>
                </a:lnTo>
                <a:lnTo>
                  <a:pt x="1115183" y="165101"/>
                </a:lnTo>
                <a:lnTo>
                  <a:pt x="1115183" y="414358"/>
                </a:lnTo>
                <a:lnTo>
                  <a:pt x="1113335" y="414358"/>
                </a:lnTo>
                <a:lnTo>
                  <a:pt x="1113096" y="446600"/>
                </a:lnTo>
                <a:lnTo>
                  <a:pt x="1777099" y="446600"/>
                </a:lnTo>
                <a:cubicBezTo>
                  <a:pt x="1793828" y="446216"/>
                  <a:pt x="1810557" y="445831"/>
                  <a:pt x="1827286" y="445447"/>
                </a:cubicBezTo>
                <a:lnTo>
                  <a:pt x="1852759" y="1554754"/>
                </a:lnTo>
                <a:lnTo>
                  <a:pt x="3181576" y="1502552"/>
                </a:lnTo>
                <a:close/>
              </a:path>
            </a:pathLst>
          </a:custGeom>
          <a:gradFill rotWithShape="0">
            <a:gsLst>
              <a:gs pos="0">
                <a:srgbClr val="bdd7ee"/>
              </a:gs>
              <a:gs pos="100000">
                <a:srgbClr val="2c77ca"/>
              </a:gs>
            </a:gsLst>
            <a:lin ang="1914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10" spc="-1" strike="noStrike">
              <a:solidFill>
                <a:schemeClr val="lt1"/>
              </a:solidFill>
              <a:latin typeface="Calibri"/>
            </a:endParaRPr>
          </a:p>
        </p:txBody>
      </p:sp>
      <p:sp>
        <p:nvSpPr>
          <p:cNvPr id="490" name="MH_Other_2"/>
          <p:cNvSpPr/>
          <p:nvPr/>
        </p:nvSpPr>
        <p:spPr>
          <a:xfrm>
            <a:off x="2378880" y="3913920"/>
            <a:ext cx="323640" cy="323640"/>
          </a:xfrm>
          <a:prstGeom prst="ellipse">
            <a:avLst/>
          </a:prstGeom>
          <a:solidFill>
            <a:srgbClr val="fcfcf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333333"/>
                </a:solidFill>
                <a:latin typeface="Britannic Bold"/>
              </a:rPr>
              <a:t>1</a:t>
            </a:r>
            <a:endParaRPr b="0" lang="en-US" sz="2400" spc="-1" strike="noStrike">
              <a:solidFill>
                <a:srgbClr val="000000"/>
              </a:solidFill>
              <a:latin typeface="Arial"/>
            </a:endParaRPr>
          </a:p>
        </p:txBody>
      </p:sp>
      <p:sp>
        <p:nvSpPr>
          <p:cNvPr id="491" name="MH_SubTitle_1"/>
          <p:cNvSpPr/>
          <p:nvPr/>
        </p:nvSpPr>
        <p:spPr>
          <a:xfrm>
            <a:off x="1399320" y="4510800"/>
            <a:ext cx="1958760" cy="1120320"/>
          </a:xfrm>
          <a:prstGeom prst="rect">
            <a:avLst/>
          </a:prstGeom>
          <a:noFill/>
          <a:ln w="0">
            <a:noFill/>
          </a:ln>
        </p:spPr>
        <p:style>
          <a:lnRef idx="0"/>
          <a:fillRef idx="0"/>
          <a:effectRef idx="0"/>
          <a:fontRef idx="minor"/>
        </p:style>
        <p:txBody>
          <a:bodyPr lIns="90000" rIns="90000" tIns="45000" bIns="45000" anchor="t">
            <a:normAutofit/>
          </a:bodyPr>
          <a:p>
            <a:pPr algn="just">
              <a:lnSpc>
                <a:spcPct val="130000"/>
              </a:lnSpc>
            </a:pPr>
            <a:r>
              <a:rPr b="0" lang="zh-CN" sz="1400" spc="-1" strike="noStrike">
                <a:solidFill>
                  <a:srgbClr val="000000"/>
                </a:solidFill>
                <a:latin typeface="微软雅黑"/>
                <a:ea typeface="微软雅黑"/>
              </a:rPr>
              <a:t>第一阶段的任务应该是提高产品的知名度，增加产品的销量。</a:t>
            </a:r>
            <a:endParaRPr b="0" lang="en-US" sz="1400" spc="-1" strike="noStrike">
              <a:solidFill>
                <a:srgbClr val="000000"/>
              </a:solidFill>
              <a:latin typeface="Arial"/>
            </a:endParaRPr>
          </a:p>
        </p:txBody>
      </p:sp>
      <p:sp>
        <p:nvSpPr>
          <p:cNvPr id="492" name="MH_Other_2"/>
          <p:cNvSpPr/>
          <p:nvPr/>
        </p:nvSpPr>
        <p:spPr>
          <a:xfrm>
            <a:off x="4296600" y="2934360"/>
            <a:ext cx="323640" cy="323640"/>
          </a:xfrm>
          <a:prstGeom prst="ellipse">
            <a:avLst/>
          </a:prstGeom>
          <a:solidFill>
            <a:srgbClr val="fcfcf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333333"/>
                </a:solidFill>
                <a:latin typeface="Britannic Bold"/>
              </a:rPr>
              <a:t>2</a:t>
            </a:r>
            <a:endParaRPr b="0" lang="en-US" sz="2400" spc="-1" strike="noStrike">
              <a:solidFill>
                <a:srgbClr val="000000"/>
              </a:solidFill>
              <a:latin typeface="Arial"/>
            </a:endParaRPr>
          </a:p>
        </p:txBody>
      </p:sp>
      <p:sp>
        <p:nvSpPr>
          <p:cNvPr id="493" name="MH_Other_2"/>
          <p:cNvSpPr/>
          <p:nvPr/>
        </p:nvSpPr>
        <p:spPr>
          <a:xfrm>
            <a:off x="5401800" y="4284000"/>
            <a:ext cx="323640" cy="323640"/>
          </a:xfrm>
          <a:prstGeom prst="ellipse">
            <a:avLst/>
          </a:prstGeom>
          <a:solidFill>
            <a:srgbClr val="fcfcf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333333"/>
                </a:solidFill>
                <a:latin typeface="Britannic Bold"/>
              </a:rPr>
              <a:t>3</a:t>
            </a:r>
            <a:endParaRPr b="0" lang="en-US" sz="2400" spc="-1" strike="noStrike">
              <a:solidFill>
                <a:srgbClr val="000000"/>
              </a:solidFill>
              <a:latin typeface="Arial"/>
            </a:endParaRPr>
          </a:p>
        </p:txBody>
      </p:sp>
      <p:sp>
        <p:nvSpPr>
          <p:cNvPr id="494" name="MH_Other_2"/>
          <p:cNvSpPr/>
          <p:nvPr/>
        </p:nvSpPr>
        <p:spPr>
          <a:xfrm>
            <a:off x="7201080" y="2493360"/>
            <a:ext cx="323640" cy="323640"/>
          </a:xfrm>
          <a:prstGeom prst="ellipse">
            <a:avLst/>
          </a:prstGeom>
          <a:solidFill>
            <a:srgbClr val="fcfcf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333333"/>
                </a:solidFill>
                <a:latin typeface="Britannic Bold"/>
              </a:rPr>
              <a:t>4</a:t>
            </a:r>
            <a:endParaRPr b="0" lang="en-US" sz="2400" spc="-1" strike="noStrike">
              <a:solidFill>
                <a:srgbClr val="000000"/>
              </a:solidFill>
              <a:latin typeface="Arial"/>
            </a:endParaRPr>
          </a:p>
        </p:txBody>
      </p:sp>
      <p:sp>
        <p:nvSpPr>
          <p:cNvPr id="495" name="MH_SubTitle_1"/>
          <p:cNvSpPr/>
          <p:nvPr/>
        </p:nvSpPr>
        <p:spPr>
          <a:xfrm>
            <a:off x="3479040" y="1827720"/>
            <a:ext cx="1958760" cy="1120320"/>
          </a:xfrm>
          <a:prstGeom prst="rect">
            <a:avLst/>
          </a:prstGeom>
          <a:noFill/>
          <a:ln w="0">
            <a:noFill/>
          </a:ln>
        </p:spPr>
        <p:style>
          <a:lnRef idx="0"/>
          <a:fillRef idx="0"/>
          <a:effectRef idx="0"/>
          <a:fontRef idx="minor"/>
        </p:style>
        <p:txBody>
          <a:bodyPr lIns="90000" rIns="90000" tIns="45000" bIns="45000" anchor="t">
            <a:normAutofit/>
          </a:bodyPr>
          <a:p>
            <a:pPr algn="just">
              <a:lnSpc>
                <a:spcPct val="130000"/>
              </a:lnSpc>
            </a:pPr>
            <a:r>
              <a:rPr b="0" lang="zh-CN" sz="1400" spc="-1" strike="noStrike">
                <a:solidFill>
                  <a:srgbClr val="000000"/>
                </a:solidFill>
                <a:latin typeface="微软雅黑"/>
                <a:ea typeface="微软雅黑"/>
              </a:rPr>
              <a:t>第二阶段的任务应该是提高产品的知名度，增加产品的销量。</a:t>
            </a:r>
            <a:endParaRPr b="0" lang="en-US" sz="1400" spc="-1" strike="noStrike">
              <a:solidFill>
                <a:srgbClr val="000000"/>
              </a:solidFill>
              <a:latin typeface="Arial"/>
            </a:endParaRPr>
          </a:p>
        </p:txBody>
      </p:sp>
      <p:sp>
        <p:nvSpPr>
          <p:cNvPr id="496" name="MH_SubTitle_1"/>
          <p:cNvSpPr/>
          <p:nvPr/>
        </p:nvSpPr>
        <p:spPr>
          <a:xfrm>
            <a:off x="4507200" y="4835880"/>
            <a:ext cx="1958760" cy="1120320"/>
          </a:xfrm>
          <a:prstGeom prst="rect">
            <a:avLst/>
          </a:prstGeom>
          <a:noFill/>
          <a:ln w="0">
            <a:noFill/>
          </a:ln>
        </p:spPr>
        <p:style>
          <a:lnRef idx="0"/>
          <a:fillRef idx="0"/>
          <a:effectRef idx="0"/>
          <a:fontRef idx="minor"/>
        </p:style>
        <p:txBody>
          <a:bodyPr lIns="90000" rIns="90000" tIns="45000" bIns="45000" anchor="t">
            <a:normAutofit/>
          </a:bodyPr>
          <a:p>
            <a:pPr algn="just">
              <a:lnSpc>
                <a:spcPct val="130000"/>
              </a:lnSpc>
            </a:pPr>
            <a:r>
              <a:rPr b="0" lang="zh-CN" sz="1400" spc="-1" strike="noStrike">
                <a:solidFill>
                  <a:srgbClr val="000000"/>
                </a:solidFill>
                <a:latin typeface="微软雅黑"/>
                <a:ea typeface="微软雅黑"/>
              </a:rPr>
              <a:t>第三阶段的任务应该是提高产品的知名度，增加产品的销量。</a:t>
            </a:r>
            <a:endParaRPr b="0" lang="en-US" sz="1400" spc="-1" strike="noStrike">
              <a:solidFill>
                <a:srgbClr val="000000"/>
              </a:solidFill>
              <a:latin typeface="Arial"/>
            </a:endParaRPr>
          </a:p>
        </p:txBody>
      </p:sp>
      <p:sp>
        <p:nvSpPr>
          <p:cNvPr id="497" name="MH_SubTitle_1"/>
          <p:cNvSpPr/>
          <p:nvPr/>
        </p:nvSpPr>
        <p:spPr>
          <a:xfrm>
            <a:off x="6848280" y="1372680"/>
            <a:ext cx="1958760" cy="1120320"/>
          </a:xfrm>
          <a:prstGeom prst="rect">
            <a:avLst/>
          </a:prstGeom>
          <a:noFill/>
          <a:ln w="0">
            <a:noFill/>
          </a:ln>
        </p:spPr>
        <p:style>
          <a:lnRef idx="0"/>
          <a:fillRef idx="0"/>
          <a:effectRef idx="0"/>
          <a:fontRef idx="minor"/>
        </p:style>
        <p:txBody>
          <a:bodyPr lIns="90000" rIns="90000" tIns="45000" bIns="45000" anchor="t">
            <a:normAutofit/>
          </a:bodyPr>
          <a:p>
            <a:pPr algn="just">
              <a:lnSpc>
                <a:spcPct val="130000"/>
              </a:lnSpc>
            </a:pPr>
            <a:r>
              <a:rPr b="0" lang="zh-CN" sz="1400" spc="-1" strike="noStrike">
                <a:solidFill>
                  <a:srgbClr val="000000"/>
                </a:solidFill>
                <a:latin typeface="微软雅黑"/>
                <a:ea typeface="微软雅黑"/>
              </a:rPr>
              <a:t>最终的任务应该是提高产品的知名度，增加产品的销量。</a:t>
            </a:r>
            <a:endParaRPr b="0" lang="en-US" sz="1400" spc="-1" strike="noStrike">
              <a:solidFill>
                <a:srgbClr val="000000"/>
              </a:solidFill>
              <a:latin typeface="Arial"/>
            </a:endParaRPr>
          </a:p>
        </p:txBody>
      </p:sp>
      <p:grpSp>
        <p:nvGrpSpPr>
          <p:cNvPr id="498" name="组合 32"/>
          <p:cNvGrpSpPr/>
          <p:nvPr/>
        </p:nvGrpSpPr>
        <p:grpSpPr>
          <a:xfrm>
            <a:off x="7965720" y="3983040"/>
            <a:ext cx="3094560" cy="1568520"/>
            <a:chOff x="7965720" y="3983040"/>
            <a:chExt cx="3094560" cy="1568520"/>
          </a:xfrm>
        </p:grpSpPr>
        <p:sp>
          <p:nvSpPr>
            <p:cNvPr id="499" name="MH_SubTitle_1"/>
            <p:cNvSpPr/>
            <p:nvPr/>
          </p:nvSpPr>
          <p:spPr>
            <a:xfrm>
              <a:off x="7991640" y="4005360"/>
              <a:ext cx="3068640" cy="1545840"/>
            </a:xfrm>
            <a:prstGeom prst="rect">
              <a:avLst/>
            </a:prstGeom>
            <a:noFill/>
            <a:ln w="0">
              <a:noFill/>
            </a:ln>
          </p:spPr>
          <p:style>
            <a:lnRef idx="0"/>
            <a:fillRef idx="0"/>
            <a:effectRef idx="0"/>
            <a:fontRef idx="minor"/>
          </p:style>
          <p:txBody>
            <a:bodyPr lIns="90000" rIns="90000" tIns="45000" bIns="45000" anchor="t">
              <a:normAutofit/>
            </a:bodyPr>
            <a:p>
              <a:pPr algn="just">
                <a:lnSpc>
                  <a:spcPct val="130000"/>
                </a:lnSpc>
              </a:pPr>
              <a:r>
                <a:rPr b="0" lang="zh-CN" sz="1200" spc="-1" strike="noStrike">
                  <a:solidFill>
                    <a:srgbClr val="000000"/>
                  </a:solidFill>
                  <a:latin typeface="微软雅黑"/>
                  <a:ea typeface="微软雅黑"/>
                </a:rPr>
                <a:t>这里输入相应的说明的任务应该是提高产品的知名度，增加产品的销量。这里输入相应的说明的任务应该是提高产品的知名度，增加产品的销量。</a:t>
              </a:r>
              <a:endParaRPr b="0" lang="en-US" sz="1200" spc="-1" strike="noStrike">
                <a:solidFill>
                  <a:srgbClr val="000000"/>
                </a:solidFill>
                <a:latin typeface="Arial"/>
              </a:endParaRPr>
            </a:p>
            <a:p>
              <a:pPr algn="just">
                <a:lnSpc>
                  <a:spcPct val="130000"/>
                </a:lnSpc>
              </a:pPr>
              <a:r>
                <a:rPr b="0" lang="zh-CN" sz="1200" spc="-1" strike="noStrike">
                  <a:solidFill>
                    <a:srgbClr val="000000"/>
                  </a:solidFill>
                  <a:latin typeface="微软雅黑"/>
                  <a:ea typeface="微软雅黑"/>
                </a:rPr>
                <a:t>这里输入相应的说明的任务应该是提高产品的知名度，增加产品的销量。</a:t>
              </a:r>
              <a:endParaRPr b="0" lang="en-US" sz="1200" spc="-1" strike="noStrike">
                <a:solidFill>
                  <a:srgbClr val="000000"/>
                </a:solidFill>
                <a:latin typeface="Arial"/>
              </a:endParaRPr>
            </a:p>
          </p:txBody>
        </p:sp>
        <p:cxnSp>
          <p:nvCxnSpPr>
            <p:cNvPr id="500" name="直接连接符 22"/>
            <p:cNvCxnSpPr/>
            <p:nvPr/>
          </p:nvCxnSpPr>
          <p:spPr>
            <a:xfrm>
              <a:off x="7965720" y="3988440"/>
              <a:ext cx="831600" cy="360"/>
            </a:xfrm>
            <a:prstGeom prst="straightConnector1">
              <a:avLst/>
            </a:prstGeom>
            <a:ln w="19050">
              <a:solidFill>
                <a:srgbClr val="5b9bd5"/>
              </a:solidFill>
            </a:ln>
          </p:spPr>
        </p:cxnSp>
        <p:cxnSp>
          <p:nvCxnSpPr>
            <p:cNvPr id="501" name="直接连接符 24"/>
            <p:cNvCxnSpPr/>
            <p:nvPr/>
          </p:nvCxnSpPr>
          <p:spPr>
            <a:xfrm>
              <a:off x="7971120" y="3983040"/>
              <a:ext cx="360" cy="358200"/>
            </a:xfrm>
            <a:prstGeom prst="straightConnector1">
              <a:avLst/>
            </a:prstGeom>
            <a:ln w="19050">
              <a:solidFill>
                <a:srgbClr val="5b9bd5"/>
              </a:solidFill>
            </a:ln>
          </p:spPr>
        </p:cxnSp>
        <p:cxnSp>
          <p:nvCxnSpPr>
            <p:cNvPr id="502" name="直接连接符 30"/>
            <p:cNvCxnSpPr/>
            <p:nvPr/>
          </p:nvCxnSpPr>
          <p:spPr>
            <a:xfrm>
              <a:off x="10229040" y="5551560"/>
              <a:ext cx="831600" cy="360"/>
            </a:xfrm>
            <a:prstGeom prst="straightConnector1">
              <a:avLst/>
            </a:prstGeom>
            <a:ln w="19050">
              <a:solidFill>
                <a:srgbClr val="5b9bd5"/>
              </a:solidFill>
            </a:ln>
          </p:spPr>
        </p:cxnSp>
        <p:cxnSp>
          <p:nvCxnSpPr>
            <p:cNvPr id="503" name="直接连接符 31"/>
            <p:cNvCxnSpPr/>
            <p:nvPr/>
          </p:nvCxnSpPr>
          <p:spPr>
            <a:xfrm>
              <a:off x="11060280" y="5193360"/>
              <a:ext cx="360" cy="358560"/>
            </a:xfrm>
            <a:prstGeom prst="straightConnector1">
              <a:avLst/>
            </a:prstGeom>
            <a:ln w="19050">
              <a:solidFill>
                <a:srgbClr val="5b9bd5"/>
              </a:solidFill>
            </a:ln>
          </p:spPr>
        </p:cxnSp>
      </p:grpSp>
      <p:sp>
        <p:nvSpPr>
          <p:cNvPr id="504" name="Text Box 6"/>
          <p:cNvSpPr/>
          <p:nvPr/>
        </p:nvSpPr>
        <p:spPr>
          <a:xfrm>
            <a:off x="432720" y="6523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文本框 1"/>
          <p:cNvSpPr/>
          <p:nvPr/>
        </p:nvSpPr>
        <p:spPr>
          <a:xfrm>
            <a:off x="1027800" y="2467440"/>
            <a:ext cx="5815440" cy="1186920"/>
          </a:xfrm>
          <a:prstGeom prst="rect">
            <a:avLst/>
          </a:prstGeom>
          <a:noFill/>
          <a:ln w="0">
            <a:noFill/>
          </a:ln>
          <a:effectLst>
            <a:reflection algn="bl" blurRad="6350" dir="5400000" endA="300" endPos="55000" rotWithShape="0" stA="50000" sy="-100000"/>
          </a:effectLst>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ffffff"/>
                </a:solidFill>
                <a:latin typeface="Britannic Bold"/>
              </a:rPr>
              <a:t>THANK YOU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1"/>
          <p:cNvSpPr/>
          <p:nvPr/>
        </p:nvSpPr>
        <p:spPr>
          <a:xfrm>
            <a:off x="1273680" y="0"/>
            <a:ext cx="1306080" cy="232380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矩形 2"/>
          <p:cNvSpPr/>
          <p:nvPr/>
        </p:nvSpPr>
        <p:spPr>
          <a:xfrm>
            <a:off x="1273680" y="4174560"/>
            <a:ext cx="1306080" cy="268308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文本框 3"/>
          <p:cNvSpPr/>
          <p:nvPr/>
        </p:nvSpPr>
        <p:spPr>
          <a:xfrm>
            <a:off x="1273680" y="2572920"/>
            <a:ext cx="95364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5000" spc="-1" strike="noStrike">
                <a:solidFill>
                  <a:srgbClr val="2c77ca"/>
                </a:solidFill>
                <a:latin typeface="黑体"/>
                <a:ea typeface="黑体"/>
              </a:rPr>
              <a:t>目录</a:t>
            </a:r>
            <a:endParaRPr b="0" lang="en-US" sz="5000" spc="-1" strike="noStrike">
              <a:solidFill>
                <a:srgbClr val="000000"/>
              </a:solidFill>
              <a:latin typeface="Arial"/>
            </a:endParaRPr>
          </a:p>
        </p:txBody>
      </p:sp>
      <p:sp>
        <p:nvSpPr>
          <p:cNvPr id="144" name="文本框 4"/>
          <p:cNvSpPr/>
          <p:nvPr/>
        </p:nvSpPr>
        <p:spPr>
          <a:xfrm>
            <a:off x="1981440" y="2589840"/>
            <a:ext cx="492120" cy="13406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2000" spc="-1" strike="noStrike">
                <a:solidFill>
                  <a:srgbClr val="2c77ca"/>
                </a:solidFill>
                <a:latin typeface="Britannic Bold"/>
              </a:rPr>
              <a:t> </a:t>
            </a:r>
            <a:r>
              <a:rPr b="0" lang="en-US" sz="2000" spc="-1" strike="noStrike">
                <a:solidFill>
                  <a:srgbClr val="2c77ca"/>
                </a:solidFill>
                <a:latin typeface="Britannic Bold"/>
              </a:rPr>
              <a:t>CONTENTS</a:t>
            </a:r>
            <a:endParaRPr b="0" lang="en-US" sz="2000" spc="-1" strike="noStrike">
              <a:solidFill>
                <a:srgbClr val="000000"/>
              </a:solidFill>
              <a:latin typeface="Arial"/>
            </a:endParaRPr>
          </a:p>
        </p:txBody>
      </p:sp>
      <p:grpSp>
        <p:nvGrpSpPr>
          <p:cNvPr id="145" name="组合 14"/>
          <p:cNvGrpSpPr/>
          <p:nvPr/>
        </p:nvGrpSpPr>
        <p:grpSpPr>
          <a:xfrm>
            <a:off x="4593600" y="1350000"/>
            <a:ext cx="4822200" cy="816120"/>
            <a:chOff x="4593600" y="1350000"/>
            <a:chExt cx="4822200" cy="816120"/>
          </a:xfrm>
        </p:grpSpPr>
        <p:sp>
          <p:nvSpPr>
            <p:cNvPr id="146" name="矩形 5"/>
            <p:cNvSpPr/>
            <p:nvPr/>
          </p:nvSpPr>
          <p:spPr>
            <a:xfrm>
              <a:off x="5344920" y="145872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前期工作总体概述</a:t>
              </a:r>
              <a:endParaRPr b="0" lang="en-US" sz="1800" spc="-1" strike="noStrike">
                <a:solidFill>
                  <a:srgbClr val="000000"/>
                </a:solidFill>
                <a:latin typeface="Arial"/>
              </a:endParaRPr>
            </a:p>
          </p:txBody>
        </p:sp>
        <p:sp>
          <p:nvSpPr>
            <p:cNvPr id="147" name="圆角矩形 11"/>
            <p:cNvSpPr/>
            <p:nvPr/>
          </p:nvSpPr>
          <p:spPr>
            <a:xfrm>
              <a:off x="4593600" y="135000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1</a:t>
              </a:r>
              <a:endParaRPr b="0" lang="en-US" sz="3200" spc="-1" strike="noStrike">
                <a:solidFill>
                  <a:srgbClr val="000000"/>
                </a:solidFill>
                <a:latin typeface="Arial"/>
              </a:endParaRPr>
            </a:p>
          </p:txBody>
        </p:sp>
      </p:grpSp>
      <p:grpSp>
        <p:nvGrpSpPr>
          <p:cNvPr id="148" name="组合 15"/>
          <p:cNvGrpSpPr/>
          <p:nvPr/>
        </p:nvGrpSpPr>
        <p:grpSpPr>
          <a:xfrm>
            <a:off x="4593600" y="2215080"/>
            <a:ext cx="4822200" cy="816120"/>
            <a:chOff x="4593600" y="2215080"/>
            <a:chExt cx="4822200" cy="816120"/>
          </a:xfrm>
        </p:grpSpPr>
        <p:sp>
          <p:nvSpPr>
            <p:cNvPr id="149" name="矩形 16"/>
            <p:cNvSpPr/>
            <p:nvPr/>
          </p:nvSpPr>
          <p:spPr>
            <a:xfrm>
              <a:off x="5344920" y="23241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具体完成情况</a:t>
              </a:r>
              <a:endParaRPr b="0" lang="en-US" sz="1800" spc="-1" strike="noStrike">
                <a:solidFill>
                  <a:srgbClr val="000000"/>
                </a:solidFill>
                <a:latin typeface="Arial"/>
              </a:endParaRPr>
            </a:p>
          </p:txBody>
        </p:sp>
        <p:sp>
          <p:nvSpPr>
            <p:cNvPr id="150" name="圆角矩形 17"/>
            <p:cNvSpPr/>
            <p:nvPr/>
          </p:nvSpPr>
          <p:spPr>
            <a:xfrm>
              <a:off x="4593600" y="221508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2</a:t>
              </a:r>
              <a:endParaRPr b="0" lang="en-US" sz="3200" spc="-1" strike="noStrike">
                <a:solidFill>
                  <a:srgbClr val="000000"/>
                </a:solidFill>
                <a:latin typeface="Arial"/>
              </a:endParaRPr>
            </a:p>
          </p:txBody>
        </p:sp>
      </p:grpSp>
      <p:grpSp>
        <p:nvGrpSpPr>
          <p:cNvPr id="151" name="组合 18"/>
          <p:cNvGrpSpPr/>
          <p:nvPr/>
        </p:nvGrpSpPr>
        <p:grpSpPr>
          <a:xfrm>
            <a:off x="4593600" y="3140640"/>
            <a:ext cx="4822200" cy="816120"/>
            <a:chOff x="4593600" y="3140640"/>
            <a:chExt cx="4822200" cy="816120"/>
          </a:xfrm>
        </p:grpSpPr>
        <p:sp>
          <p:nvSpPr>
            <p:cNvPr id="152" name="矩形 19"/>
            <p:cNvSpPr/>
            <p:nvPr/>
          </p:nvSpPr>
          <p:spPr>
            <a:xfrm>
              <a:off x="5344920" y="32493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中存在的不足</a:t>
              </a:r>
              <a:endParaRPr b="0" lang="en-US" sz="1800" spc="-1" strike="noStrike">
                <a:solidFill>
                  <a:srgbClr val="000000"/>
                </a:solidFill>
                <a:latin typeface="Arial"/>
              </a:endParaRPr>
            </a:p>
          </p:txBody>
        </p:sp>
        <p:sp>
          <p:nvSpPr>
            <p:cNvPr id="153" name="圆角矩形 20"/>
            <p:cNvSpPr/>
            <p:nvPr/>
          </p:nvSpPr>
          <p:spPr>
            <a:xfrm>
              <a:off x="4593600" y="31406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3</a:t>
              </a:r>
              <a:endParaRPr b="0" lang="en-US" sz="3200" spc="-1" strike="noStrike">
                <a:solidFill>
                  <a:srgbClr val="000000"/>
                </a:solidFill>
                <a:latin typeface="Arial"/>
              </a:endParaRPr>
            </a:p>
          </p:txBody>
        </p:sp>
      </p:grpSp>
      <p:grpSp>
        <p:nvGrpSpPr>
          <p:cNvPr id="154" name="组合 21"/>
          <p:cNvGrpSpPr/>
          <p:nvPr/>
        </p:nvGrpSpPr>
        <p:grpSpPr>
          <a:xfrm>
            <a:off x="4593600" y="4065840"/>
            <a:ext cx="4822200" cy="816120"/>
            <a:chOff x="4593600" y="4065840"/>
            <a:chExt cx="4822200" cy="816120"/>
          </a:xfrm>
        </p:grpSpPr>
        <p:sp>
          <p:nvSpPr>
            <p:cNvPr id="155" name="矩形 22"/>
            <p:cNvSpPr/>
            <p:nvPr/>
          </p:nvSpPr>
          <p:spPr>
            <a:xfrm>
              <a:off x="5344920" y="41745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明年其他工作计划</a:t>
              </a:r>
              <a:endParaRPr b="0" lang="en-US" sz="1800" spc="-1" strike="noStrike">
                <a:solidFill>
                  <a:srgbClr val="000000"/>
                </a:solidFill>
                <a:latin typeface="Arial"/>
              </a:endParaRPr>
            </a:p>
          </p:txBody>
        </p:sp>
        <p:sp>
          <p:nvSpPr>
            <p:cNvPr id="156" name="圆角矩形 23"/>
            <p:cNvSpPr/>
            <p:nvPr/>
          </p:nvSpPr>
          <p:spPr>
            <a:xfrm>
              <a:off x="4593600" y="40658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1"/>
          <p:cNvSpPr/>
          <p:nvPr/>
        </p:nvSpPr>
        <p:spPr>
          <a:xfrm>
            <a:off x="1273680" y="0"/>
            <a:ext cx="1306080" cy="232380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2"/>
          <p:cNvSpPr/>
          <p:nvPr/>
        </p:nvSpPr>
        <p:spPr>
          <a:xfrm>
            <a:off x="1273680" y="4174560"/>
            <a:ext cx="1306080" cy="2683080"/>
          </a:xfrm>
          <a:prstGeom prst="rect">
            <a:avLst/>
          </a:prstGeom>
          <a:solidFill>
            <a:srgbClr val="2c77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3"/>
          <p:cNvSpPr/>
          <p:nvPr/>
        </p:nvSpPr>
        <p:spPr>
          <a:xfrm>
            <a:off x="1273680" y="2572920"/>
            <a:ext cx="95364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5000" spc="-1" strike="noStrike">
                <a:solidFill>
                  <a:srgbClr val="2c77ca"/>
                </a:solidFill>
                <a:latin typeface="黑体"/>
                <a:ea typeface="黑体"/>
              </a:rPr>
              <a:t>目录</a:t>
            </a:r>
            <a:endParaRPr b="0" lang="en-US" sz="5000" spc="-1" strike="noStrike">
              <a:solidFill>
                <a:srgbClr val="000000"/>
              </a:solidFill>
              <a:latin typeface="Arial"/>
            </a:endParaRPr>
          </a:p>
        </p:txBody>
      </p:sp>
      <p:sp>
        <p:nvSpPr>
          <p:cNvPr id="160" name="文本框 4"/>
          <p:cNvSpPr/>
          <p:nvPr/>
        </p:nvSpPr>
        <p:spPr>
          <a:xfrm>
            <a:off x="1981440" y="2589840"/>
            <a:ext cx="492120" cy="13406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2000" spc="-1" strike="noStrike">
                <a:solidFill>
                  <a:srgbClr val="2c77ca"/>
                </a:solidFill>
                <a:latin typeface="Britannic Bold"/>
              </a:rPr>
              <a:t> </a:t>
            </a:r>
            <a:r>
              <a:rPr b="0" lang="en-US" sz="2000" spc="-1" strike="noStrike">
                <a:solidFill>
                  <a:srgbClr val="2c77ca"/>
                </a:solidFill>
                <a:latin typeface="Britannic Bold"/>
              </a:rPr>
              <a:t>CONTENTS</a:t>
            </a:r>
            <a:endParaRPr b="0" lang="en-US" sz="2000" spc="-1" strike="noStrike">
              <a:solidFill>
                <a:srgbClr val="000000"/>
              </a:solidFill>
              <a:latin typeface="Arial"/>
            </a:endParaRPr>
          </a:p>
        </p:txBody>
      </p:sp>
      <p:grpSp>
        <p:nvGrpSpPr>
          <p:cNvPr id="161" name="组合 14"/>
          <p:cNvGrpSpPr/>
          <p:nvPr/>
        </p:nvGrpSpPr>
        <p:grpSpPr>
          <a:xfrm>
            <a:off x="4593600" y="1350000"/>
            <a:ext cx="4822200" cy="816120"/>
            <a:chOff x="4593600" y="1350000"/>
            <a:chExt cx="4822200" cy="816120"/>
          </a:xfrm>
        </p:grpSpPr>
        <p:sp>
          <p:nvSpPr>
            <p:cNvPr id="162" name="矩形 5"/>
            <p:cNvSpPr/>
            <p:nvPr/>
          </p:nvSpPr>
          <p:spPr>
            <a:xfrm>
              <a:off x="5344920" y="1458720"/>
              <a:ext cx="4070880" cy="598320"/>
            </a:xfrm>
            <a:prstGeom prst="rect">
              <a:avLst/>
            </a:prstGeom>
            <a:solidFill>
              <a:srgbClr val="869b2b"/>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ffffff"/>
                  </a:solidFill>
                  <a:latin typeface="黑体"/>
                  <a:ea typeface="黑体"/>
                </a:rPr>
                <a:t>前期工作总体概述</a:t>
              </a:r>
              <a:endParaRPr b="0" lang="en-US" sz="1800" spc="-1" strike="noStrike">
                <a:solidFill>
                  <a:srgbClr val="000000"/>
                </a:solidFill>
                <a:latin typeface="Arial"/>
              </a:endParaRPr>
            </a:p>
          </p:txBody>
        </p:sp>
        <p:sp>
          <p:nvSpPr>
            <p:cNvPr id="163" name="圆角矩形 11"/>
            <p:cNvSpPr/>
            <p:nvPr/>
          </p:nvSpPr>
          <p:spPr>
            <a:xfrm>
              <a:off x="4593600" y="135000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1</a:t>
              </a:r>
              <a:endParaRPr b="0" lang="en-US" sz="3200" spc="-1" strike="noStrike">
                <a:solidFill>
                  <a:srgbClr val="000000"/>
                </a:solidFill>
                <a:latin typeface="Arial"/>
              </a:endParaRPr>
            </a:p>
          </p:txBody>
        </p:sp>
      </p:grpSp>
      <p:grpSp>
        <p:nvGrpSpPr>
          <p:cNvPr id="164" name="组合 15"/>
          <p:cNvGrpSpPr/>
          <p:nvPr/>
        </p:nvGrpSpPr>
        <p:grpSpPr>
          <a:xfrm>
            <a:off x="4593600" y="2215080"/>
            <a:ext cx="4822200" cy="816120"/>
            <a:chOff x="4593600" y="2215080"/>
            <a:chExt cx="4822200" cy="816120"/>
          </a:xfrm>
        </p:grpSpPr>
        <p:sp>
          <p:nvSpPr>
            <p:cNvPr id="165" name="矩形 16"/>
            <p:cNvSpPr/>
            <p:nvPr/>
          </p:nvSpPr>
          <p:spPr>
            <a:xfrm>
              <a:off x="5344920" y="23241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具体完成情况</a:t>
              </a:r>
              <a:endParaRPr b="0" lang="en-US" sz="1800" spc="-1" strike="noStrike">
                <a:solidFill>
                  <a:srgbClr val="000000"/>
                </a:solidFill>
                <a:latin typeface="Arial"/>
              </a:endParaRPr>
            </a:p>
          </p:txBody>
        </p:sp>
        <p:sp>
          <p:nvSpPr>
            <p:cNvPr id="166" name="圆角矩形 17"/>
            <p:cNvSpPr/>
            <p:nvPr/>
          </p:nvSpPr>
          <p:spPr>
            <a:xfrm>
              <a:off x="4593600" y="221508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2</a:t>
              </a:r>
              <a:endParaRPr b="0" lang="en-US" sz="3200" spc="-1" strike="noStrike">
                <a:solidFill>
                  <a:srgbClr val="000000"/>
                </a:solidFill>
                <a:latin typeface="Arial"/>
              </a:endParaRPr>
            </a:p>
          </p:txBody>
        </p:sp>
      </p:grpSp>
      <p:grpSp>
        <p:nvGrpSpPr>
          <p:cNvPr id="167" name="组合 18"/>
          <p:cNvGrpSpPr/>
          <p:nvPr/>
        </p:nvGrpSpPr>
        <p:grpSpPr>
          <a:xfrm>
            <a:off x="4593600" y="3140640"/>
            <a:ext cx="4822200" cy="816120"/>
            <a:chOff x="4593600" y="3140640"/>
            <a:chExt cx="4822200" cy="816120"/>
          </a:xfrm>
        </p:grpSpPr>
        <p:sp>
          <p:nvSpPr>
            <p:cNvPr id="168" name="矩形 19"/>
            <p:cNvSpPr/>
            <p:nvPr/>
          </p:nvSpPr>
          <p:spPr>
            <a:xfrm>
              <a:off x="5344920" y="32493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工作中存在的不足</a:t>
              </a:r>
              <a:endParaRPr b="0" lang="en-US" sz="1800" spc="-1" strike="noStrike">
                <a:solidFill>
                  <a:srgbClr val="000000"/>
                </a:solidFill>
                <a:latin typeface="Arial"/>
              </a:endParaRPr>
            </a:p>
          </p:txBody>
        </p:sp>
        <p:sp>
          <p:nvSpPr>
            <p:cNvPr id="169" name="圆角矩形 20"/>
            <p:cNvSpPr/>
            <p:nvPr/>
          </p:nvSpPr>
          <p:spPr>
            <a:xfrm>
              <a:off x="4593600" y="31406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3</a:t>
              </a:r>
              <a:endParaRPr b="0" lang="en-US" sz="3200" spc="-1" strike="noStrike">
                <a:solidFill>
                  <a:srgbClr val="000000"/>
                </a:solidFill>
                <a:latin typeface="Arial"/>
              </a:endParaRPr>
            </a:p>
          </p:txBody>
        </p:sp>
      </p:grpSp>
      <p:grpSp>
        <p:nvGrpSpPr>
          <p:cNvPr id="170" name="组合 21"/>
          <p:cNvGrpSpPr/>
          <p:nvPr/>
        </p:nvGrpSpPr>
        <p:grpSpPr>
          <a:xfrm>
            <a:off x="4593600" y="4065840"/>
            <a:ext cx="4822200" cy="816120"/>
            <a:chOff x="4593600" y="4065840"/>
            <a:chExt cx="4822200" cy="816120"/>
          </a:xfrm>
        </p:grpSpPr>
        <p:sp>
          <p:nvSpPr>
            <p:cNvPr id="171" name="矩形 22"/>
            <p:cNvSpPr/>
            <p:nvPr/>
          </p:nvSpPr>
          <p:spPr>
            <a:xfrm>
              <a:off x="5344920" y="4174560"/>
              <a:ext cx="4070880" cy="598320"/>
            </a:xfrm>
            <a:prstGeom prst="rect">
              <a:avLst/>
            </a:prstGeom>
            <a:solidFill>
              <a:schemeClr val="bg1"/>
            </a:solidFill>
            <a:ln>
              <a:solidFill>
                <a:srgbClr val="ffffff">
                  <a:lumMod val="50000"/>
                </a:srgbClr>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黑体"/>
                  <a:ea typeface="黑体"/>
                </a:rPr>
                <a:t>明年其他工作计划</a:t>
              </a:r>
              <a:endParaRPr b="0" lang="en-US" sz="1800" spc="-1" strike="noStrike">
                <a:solidFill>
                  <a:srgbClr val="000000"/>
                </a:solidFill>
                <a:latin typeface="Arial"/>
              </a:endParaRPr>
            </a:p>
          </p:txBody>
        </p:sp>
        <p:sp>
          <p:nvSpPr>
            <p:cNvPr id="172" name="圆角矩形 23"/>
            <p:cNvSpPr/>
            <p:nvPr/>
          </p:nvSpPr>
          <p:spPr>
            <a:xfrm>
              <a:off x="4593600" y="4065840"/>
              <a:ext cx="903240" cy="816120"/>
            </a:xfrm>
            <a:prstGeom prst="roundRect">
              <a:avLst>
                <a:gd name="adj" fmla="val 16667"/>
              </a:avLst>
            </a:prstGeom>
            <a:solidFill>
              <a:srgbClr val="2c77ca"/>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Britannic Bold"/>
                </a:rPr>
                <a:t>0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4"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前期工作总体概述</a:t>
            </a:r>
            <a:endParaRPr b="0" lang="en-US" sz="2800" spc="-1" strike="noStrike">
              <a:solidFill>
                <a:srgbClr val="000000"/>
              </a:solidFill>
              <a:latin typeface="Arial"/>
            </a:endParaRPr>
          </a:p>
        </p:txBody>
      </p:sp>
      <p:grpSp>
        <p:nvGrpSpPr>
          <p:cNvPr id="175" name="组合 12"/>
          <p:cNvGrpSpPr/>
          <p:nvPr/>
        </p:nvGrpSpPr>
        <p:grpSpPr>
          <a:xfrm>
            <a:off x="1082160" y="1691640"/>
            <a:ext cx="5287680" cy="4221000"/>
            <a:chOff x="1082160" y="1691640"/>
            <a:chExt cx="5287680" cy="4221000"/>
          </a:xfrm>
        </p:grpSpPr>
        <p:sp>
          <p:nvSpPr>
            <p:cNvPr id="176" name="任意多边形 13"/>
            <p:cNvSpPr/>
            <p:nvPr/>
          </p:nvSpPr>
          <p:spPr>
            <a:xfrm>
              <a:off x="1082160" y="1691640"/>
              <a:ext cx="4494600" cy="1266120"/>
            </a:xfrm>
            <a:custGeom>
              <a:avLst/>
              <a:gdLst>
                <a:gd name="textAreaLeft" fmla="*/ 0 w 4494600"/>
                <a:gd name="textAreaRight" fmla="*/ 4494960 w 4494600"/>
                <a:gd name="textAreaTop" fmla="*/ 0 h 1266120"/>
                <a:gd name="textAreaBottom" fmla="*/ 1266480 h 1266120"/>
              </a:gdLst>
              <a:ahLst/>
              <a:rect l="textAreaLeft" t="textAreaTop" r="textAreaRight" b="textAreaBottom"/>
              <a:pathLst>
                <a:path w="4495038" h="1266444">
                  <a:moveTo>
                    <a:pt x="0" y="126644"/>
                  </a:moveTo>
                  <a:cubicBezTo>
                    <a:pt x="0" y="56700"/>
                    <a:pt x="56700" y="0"/>
                    <a:pt x="126644" y="0"/>
                  </a:cubicBezTo>
                  <a:lnTo>
                    <a:pt x="4368394" y="0"/>
                  </a:lnTo>
                  <a:cubicBezTo>
                    <a:pt x="4438338" y="0"/>
                    <a:pt x="4495038" y="56700"/>
                    <a:pt x="4495038" y="126644"/>
                  </a:cubicBezTo>
                  <a:lnTo>
                    <a:pt x="4495038" y="1139800"/>
                  </a:lnTo>
                  <a:cubicBezTo>
                    <a:pt x="4495038" y="1209744"/>
                    <a:pt x="4438338" y="1266444"/>
                    <a:pt x="4368394" y="1266444"/>
                  </a:cubicBezTo>
                  <a:lnTo>
                    <a:pt x="126644" y="1266444"/>
                  </a:lnTo>
                  <a:cubicBezTo>
                    <a:pt x="56700" y="1266444"/>
                    <a:pt x="0" y="1209744"/>
                    <a:pt x="0" y="1139800"/>
                  </a:cubicBezTo>
                  <a:lnTo>
                    <a:pt x="0" y="126644"/>
                  </a:lnTo>
                  <a:close/>
                </a:path>
              </a:pathLst>
            </a:custGeom>
            <a:solidFill>
              <a:srgbClr val="2c77ca"/>
            </a:solidFill>
            <a:ln>
              <a:solidFill>
                <a:srgbClr val="ffffff"/>
              </a:solidFill>
            </a:ln>
          </p:spPr>
          <p:style>
            <a:lnRef idx="2">
              <a:schemeClr val="lt1">
                <a:hueOff val="0"/>
                <a:satOff val="0"/>
                <a:lumOff val="0"/>
                <a:alphaOff val="0"/>
              </a:schemeClr>
            </a:lnRef>
            <a:fillRef idx="0"/>
            <a:effectRef idx="0">
              <a:schemeClr val="accent1">
                <a:hueOff val="0"/>
                <a:satOff val="0"/>
                <a:lumOff val="0"/>
                <a:alphaOff val="0"/>
              </a:schemeClr>
            </a:effectRef>
            <a:fontRef idx="minor"/>
          </p:style>
          <p:txBody>
            <a:bodyPr numCol="1" spcCol="1440" lIns="113400" rIns="1405800" tIns="113400" bIns="113400" anchor="ctr">
              <a:noAutofit/>
            </a:bodyPr>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p:txBody>
        </p:sp>
        <p:sp>
          <p:nvSpPr>
            <p:cNvPr id="177" name="任意多边形 14"/>
            <p:cNvSpPr/>
            <p:nvPr/>
          </p:nvSpPr>
          <p:spPr>
            <a:xfrm>
              <a:off x="1478520" y="3169080"/>
              <a:ext cx="4494600" cy="1266120"/>
            </a:xfrm>
            <a:custGeom>
              <a:avLst/>
              <a:gdLst>
                <a:gd name="textAreaLeft" fmla="*/ 0 w 4494600"/>
                <a:gd name="textAreaRight" fmla="*/ 4494960 w 4494600"/>
                <a:gd name="textAreaTop" fmla="*/ 0 h 1266120"/>
                <a:gd name="textAreaBottom" fmla="*/ 1266480 h 1266120"/>
              </a:gdLst>
              <a:ahLst/>
              <a:rect l="textAreaLeft" t="textAreaTop" r="textAreaRight" b="textAreaBottom"/>
              <a:pathLst>
                <a:path w="4495038" h="1266444">
                  <a:moveTo>
                    <a:pt x="0" y="126644"/>
                  </a:moveTo>
                  <a:cubicBezTo>
                    <a:pt x="0" y="56700"/>
                    <a:pt x="56700" y="0"/>
                    <a:pt x="126644" y="0"/>
                  </a:cubicBezTo>
                  <a:lnTo>
                    <a:pt x="4368394" y="0"/>
                  </a:lnTo>
                  <a:cubicBezTo>
                    <a:pt x="4438338" y="0"/>
                    <a:pt x="4495038" y="56700"/>
                    <a:pt x="4495038" y="126644"/>
                  </a:cubicBezTo>
                  <a:lnTo>
                    <a:pt x="4495038" y="1139800"/>
                  </a:lnTo>
                  <a:cubicBezTo>
                    <a:pt x="4495038" y="1209744"/>
                    <a:pt x="4438338" y="1266444"/>
                    <a:pt x="4368394" y="1266444"/>
                  </a:cubicBezTo>
                  <a:lnTo>
                    <a:pt x="126644" y="1266444"/>
                  </a:lnTo>
                  <a:cubicBezTo>
                    <a:pt x="56700" y="1266444"/>
                    <a:pt x="0" y="1209744"/>
                    <a:pt x="0" y="1139800"/>
                  </a:cubicBezTo>
                  <a:lnTo>
                    <a:pt x="0" y="126644"/>
                  </a:lnTo>
                  <a:close/>
                </a:path>
              </a:pathLst>
            </a:custGeom>
            <a:solidFill>
              <a:srgbClr val="2c77ca"/>
            </a:solidFill>
            <a:ln>
              <a:solidFill>
                <a:srgbClr val="ffffff"/>
              </a:solidFill>
            </a:ln>
          </p:spPr>
          <p:style>
            <a:lnRef idx="2">
              <a:schemeClr val="lt1">
                <a:hueOff val="0"/>
                <a:satOff val="0"/>
                <a:lumOff val="0"/>
                <a:alphaOff val="0"/>
              </a:schemeClr>
            </a:lnRef>
            <a:fillRef idx="0"/>
            <a:effectRef idx="0">
              <a:schemeClr val="accent1">
                <a:hueOff val="0"/>
                <a:satOff val="0"/>
                <a:lumOff val="0"/>
                <a:alphaOff val="0"/>
              </a:schemeClr>
            </a:effectRef>
            <a:fontRef idx="minor"/>
          </p:style>
          <p:txBody>
            <a:bodyPr numCol="1" spcCol="1440" lIns="181800" rIns="1401840" tIns="181800" bIns="181800" anchor="ctr">
              <a:noAutofit/>
            </a:bodyPr>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p:txBody>
        </p:sp>
        <p:sp>
          <p:nvSpPr>
            <p:cNvPr id="178" name="任意多边形 15"/>
            <p:cNvSpPr/>
            <p:nvPr/>
          </p:nvSpPr>
          <p:spPr>
            <a:xfrm>
              <a:off x="1875240" y="4646520"/>
              <a:ext cx="4494600" cy="1266120"/>
            </a:xfrm>
            <a:custGeom>
              <a:avLst/>
              <a:gdLst>
                <a:gd name="textAreaLeft" fmla="*/ 0 w 4494600"/>
                <a:gd name="textAreaRight" fmla="*/ 4494960 w 4494600"/>
                <a:gd name="textAreaTop" fmla="*/ 0 h 1266120"/>
                <a:gd name="textAreaBottom" fmla="*/ 1266480 h 1266120"/>
              </a:gdLst>
              <a:ahLst/>
              <a:rect l="textAreaLeft" t="textAreaTop" r="textAreaRight" b="textAreaBottom"/>
              <a:pathLst>
                <a:path w="4495038" h="1266444">
                  <a:moveTo>
                    <a:pt x="0" y="126644"/>
                  </a:moveTo>
                  <a:cubicBezTo>
                    <a:pt x="0" y="56700"/>
                    <a:pt x="56700" y="0"/>
                    <a:pt x="126644" y="0"/>
                  </a:cubicBezTo>
                  <a:lnTo>
                    <a:pt x="4368394" y="0"/>
                  </a:lnTo>
                  <a:cubicBezTo>
                    <a:pt x="4438338" y="0"/>
                    <a:pt x="4495038" y="56700"/>
                    <a:pt x="4495038" y="126644"/>
                  </a:cubicBezTo>
                  <a:lnTo>
                    <a:pt x="4495038" y="1139800"/>
                  </a:lnTo>
                  <a:cubicBezTo>
                    <a:pt x="4495038" y="1209744"/>
                    <a:pt x="4438338" y="1266444"/>
                    <a:pt x="4368394" y="1266444"/>
                  </a:cubicBezTo>
                  <a:lnTo>
                    <a:pt x="126644" y="1266444"/>
                  </a:lnTo>
                  <a:cubicBezTo>
                    <a:pt x="56700" y="1266444"/>
                    <a:pt x="0" y="1209744"/>
                    <a:pt x="0" y="1139800"/>
                  </a:cubicBezTo>
                  <a:lnTo>
                    <a:pt x="0" y="126644"/>
                  </a:lnTo>
                  <a:close/>
                </a:path>
              </a:pathLst>
            </a:custGeom>
            <a:solidFill>
              <a:srgbClr val="2c77ca"/>
            </a:solidFill>
            <a:ln>
              <a:solidFill>
                <a:srgbClr val="ffffff"/>
              </a:solidFill>
            </a:ln>
          </p:spPr>
          <p:style>
            <a:lnRef idx="2">
              <a:schemeClr val="lt1">
                <a:hueOff val="0"/>
                <a:satOff val="0"/>
                <a:lumOff val="0"/>
                <a:alphaOff val="0"/>
              </a:schemeClr>
            </a:lnRef>
            <a:fillRef idx="0"/>
            <a:effectRef idx="0">
              <a:schemeClr val="accent1">
                <a:hueOff val="0"/>
                <a:satOff val="0"/>
                <a:lumOff val="0"/>
                <a:alphaOff val="0"/>
              </a:schemeClr>
            </a:effectRef>
            <a:fontRef idx="minor"/>
          </p:style>
          <p:txBody>
            <a:bodyPr numCol="1" spcCol="1440" lIns="181800" rIns="1401840" tIns="181800" bIns="181800" anchor="ctr">
              <a:noAutofit/>
            </a:bodyPr>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a:p>
              <a:pPr algn="ctr">
                <a:lnSpc>
                  <a:spcPct val="90000"/>
                </a:lnSpc>
                <a:spcAft>
                  <a:spcPts val="700"/>
                </a:spcAft>
              </a:pPr>
              <a:r>
                <a:rPr b="0" lang="zh-CN" sz="2000" spc="-1" strike="noStrike">
                  <a:solidFill>
                    <a:schemeClr val="lt1"/>
                  </a:solidFill>
                  <a:latin typeface="微软雅黑"/>
                  <a:ea typeface="微软雅黑"/>
                </a:rPr>
                <a:t>业务数据情况说明</a:t>
              </a:r>
              <a:endParaRPr b="0" lang="en-US" sz="2000" spc="-1" strike="noStrike">
                <a:solidFill>
                  <a:srgbClr val="000000"/>
                </a:solidFill>
                <a:latin typeface="Arial"/>
              </a:endParaRPr>
            </a:p>
          </p:txBody>
        </p:sp>
        <p:sp>
          <p:nvSpPr>
            <p:cNvPr id="179" name="任意多边形 16"/>
            <p:cNvSpPr/>
            <p:nvPr/>
          </p:nvSpPr>
          <p:spPr>
            <a:xfrm>
              <a:off x="4753800" y="2652120"/>
              <a:ext cx="822960" cy="822960"/>
            </a:xfrm>
            <a:custGeom>
              <a:avLst/>
              <a:gdLst>
                <a:gd name="textAreaLeft" fmla="*/ 0 w 822960"/>
                <a:gd name="textAreaRight" fmla="*/ 823320 w 822960"/>
                <a:gd name="textAreaTop" fmla="*/ 0 h 822960"/>
                <a:gd name="textAreaBottom" fmla="*/ 823320 h 822960"/>
              </a:gdLst>
              <a:ahLst/>
              <a:rect l="textAreaLeft" t="textAreaTop" r="textAreaRight" b="textAreaBottom"/>
              <a:pathLst>
                <a:path w="823188" h="823188">
                  <a:moveTo>
                    <a:pt x="0" y="452753"/>
                  </a:moveTo>
                  <a:lnTo>
                    <a:pt x="185217" y="452753"/>
                  </a:lnTo>
                  <a:lnTo>
                    <a:pt x="185217" y="0"/>
                  </a:lnTo>
                  <a:lnTo>
                    <a:pt x="637971" y="0"/>
                  </a:lnTo>
                  <a:lnTo>
                    <a:pt x="637971" y="452753"/>
                  </a:lnTo>
                  <a:lnTo>
                    <a:pt x="823188" y="452753"/>
                  </a:lnTo>
                  <a:lnTo>
                    <a:pt x="411594" y="823188"/>
                  </a:lnTo>
                  <a:lnTo>
                    <a:pt x="0" y="452753"/>
                  </a:lnTo>
                  <a:close/>
                </a:path>
              </a:pathLst>
            </a:custGeom>
            <a:solidFill>
              <a:srgbClr val="d1deef"/>
            </a:solidFill>
            <a:ln>
              <a:solidFill>
                <a:srgbClr val="d1deef"/>
              </a:solid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230760" rIns="230760" bIns="249480" anchor="ctr">
              <a:noAutofit/>
            </a:bodyPr>
            <a:p>
              <a:pPr algn="ctr">
                <a:lnSpc>
                  <a:spcPct val="90000"/>
                </a:lnSpc>
                <a:spcAft>
                  <a:spcPts val="1261"/>
                </a:spcAft>
              </a:pPr>
              <a:endParaRPr b="0" lang="en-US" sz="3600" spc="-1" strike="noStrike">
                <a:solidFill>
                  <a:schemeClr val="dk1"/>
                </a:solidFill>
                <a:latin typeface="Calibri"/>
              </a:endParaRPr>
            </a:p>
          </p:txBody>
        </p:sp>
        <p:sp>
          <p:nvSpPr>
            <p:cNvPr id="180" name="任意多边形 17"/>
            <p:cNvSpPr/>
            <p:nvPr/>
          </p:nvSpPr>
          <p:spPr>
            <a:xfrm>
              <a:off x="5150520" y="4121280"/>
              <a:ext cx="822960" cy="822960"/>
            </a:xfrm>
            <a:custGeom>
              <a:avLst/>
              <a:gdLst>
                <a:gd name="textAreaLeft" fmla="*/ 0 w 822960"/>
                <a:gd name="textAreaRight" fmla="*/ 823320 w 822960"/>
                <a:gd name="textAreaTop" fmla="*/ 0 h 822960"/>
                <a:gd name="textAreaBottom" fmla="*/ 823320 h 822960"/>
              </a:gdLst>
              <a:ahLst/>
              <a:rect l="textAreaLeft" t="textAreaTop" r="textAreaRight" b="textAreaBottom"/>
              <a:pathLst>
                <a:path w="823188" h="823188">
                  <a:moveTo>
                    <a:pt x="0" y="452753"/>
                  </a:moveTo>
                  <a:lnTo>
                    <a:pt x="185217" y="452753"/>
                  </a:lnTo>
                  <a:lnTo>
                    <a:pt x="185217" y="0"/>
                  </a:lnTo>
                  <a:lnTo>
                    <a:pt x="637971" y="0"/>
                  </a:lnTo>
                  <a:lnTo>
                    <a:pt x="637971" y="452753"/>
                  </a:lnTo>
                  <a:lnTo>
                    <a:pt x="823188" y="452753"/>
                  </a:lnTo>
                  <a:lnTo>
                    <a:pt x="411594" y="823188"/>
                  </a:lnTo>
                  <a:lnTo>
                    <a:pt x="0" y="452753"/>
                  </a:lnTo>
                  <a:close/>
                </a:path>
              </a:pathLst>
            </a:custGeom>
            <a:solidFill>
              <a:srgbClr val="d1deef"/>
            </a:solidFill>
            <a:ln>
              <a:solidFill>
                <a:srgbClr val="d1deef"/>
              </a:solid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230760" rIns="230760" bIns="249480" anchor="ctr">
              <a:noAutofit/>
            </a:bodyPr>
            <a:p>
              <a:pPr algn="ctr">
                <a:lnSpc>
                  <a:spcPct val="90000"/>
                </a:lnSpc>
                <a:spcAft>
                  <a:spcPts val="1261"/>
                </a:spcAft>
              </a:pPr>
              <a:endParaRPr b="0" lang="en-US" sz="3600" spc="-1" strike="noStrike">
                <a:solidFill>
                  <a:schemeClr val="dk1"/>
                </a:solidFill>
                <a:latin typeface="Calibri"/>
              </a:endParaRPr>
            </a:p>
          </p:txBody>
        </p:sp>
      </p:grpSp>
      <p:sp>
        <p:nvSpPr>
          <p:cNvPr id="181" name="矩形 7"/>
          <p:cNvSpPr/>
          <p:nvPr/>
        </p:nvSpPr>
        <p:spPr>
          <a:xfrm>
            <a:off x="6568560" y="1570320"/>
            <a:ext cx="146520" cy="4404240"/>
          </a:xfrm>
          <a:prstGeom prst="rect">
            <a:avLst/>
          </a:prstGeom>
          <a:solidFill>
            <a:srgbClr val="34aed0">
              <a:alpha val="46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2" name="矩形 11"/>
          <p:cNvSpPr/>
          <p:nvPr/>
        </p:nvSpPr>
        <p:spPr>
          <a:xfrm>
            <a:off x="6719040" y="1570320"/>
            <a:ext cx="4597560" cy="4404240"/>
          </a:xfrm>
          <a:prstGeom prst="rect">
            <a:avLst/>
          </a:prstGeom>
          <a:solidFill>
            <a:schemeClr val="bg1">
              <a:lumMod val="50000"/>
              <a:alpha val="1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矩形 19"/>
          <p:cNvSpPr/>
          <p:nvPr/>
        </p:nvSpPr>
        <p:spPr>
          <a:xfrm>
            <a:off x="6964920" y="1920600"/>
            <a:ext cx="4197960" cy="23756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百度创始人、董事长兼</a:t>
            </a:r>
            <a:r>
              <a:rPr b="0" lang="en-US" sz="2000" spc="-1" strike="noStrike">
                <a:solidFill>
                  <a:srgbClr val="000000"/>
                </a:solidFill>
                <a:latin typeface="微软雅黑"/>
                <a:ea typeface="微软雅黑"/>
              </a:rPr>
              <a:t>CEO</a:t>
            </a:r>
            <a:r>
              <a:rPr b="0" lang="zh-CN" sz="2000" spc="-1" strike="noStrike">
                <a:solidFill>
                  <a:srgbClr val="000000"/>
                </a:solidFill>
                <a:latin typeface="微软雅黑"/>
                <a:ea typeface="微软雅黑"/>
              </a:rPr>
              <a:t>李彦宏在百度</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会暨十五周年庆典上发表的主题演讲中表示，十五年来，百度坚持相信技术的力量，始终把简单可依赖的文化和人才成长机制当成最宝贵的财富，他号召百度全体员工，向连接人与服务的战略目标发起进攻</a:t>
            </a:r>
            <a:endParaRPr b="0" lang="en-US" sz="2000" spc="-1" strike="noStrike">
              <a:solidFill>
                <a:srgbClr val="000000"/>
              </a:solidFill>
              <a:latin typeface="Arial"/>
            </a:endParaRPr>
          </a:p>
        </p:txBody>
      </p:sp>
      <p:cxnSp>
        <p:nvCxnSpPr>
          <p:cNvPr id="184" name="直接连接符 20"/>
          <p:cNvCxnSpPr/>
          <p:nvPr/>
        </p:nvCxnSpPr>
        <p:spPr>
          <a:xfrm>
            <a:off x="0" y="1105200"/>
            <a:ext cx="11694240" cy="360"/>
          </a:xfrm>
          <a:prstGeom prst="straightConnector1">
            <a:avLst/>
          </a:prstGeom>
          <a:ln w="25400">
            <a:solidFill>
              <a:srgbClr val="2c77ca"/>
            </a:solidFill>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1"/>
          <p:cNvSpPr/>
          <p:nvPr/>
        </p:nvSpPr>
        <p:spPr>
          <a:xfrm>
            <a:off x="885960" y="1398240"/>
            <a:ext cx="1674000" cy="2243880"/>
          </a:xfrm>
          <a:prstGeom prst="rect">
            <a:avLst/>
          </a:prstGeom>
          <a:solidFill>
            <a:schemeClr val="bg1">
              <a:lumMod val="50000"/>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86"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 name="矩形 2"/>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前期工作总体概述</a:t>
            </a:r>
            <a:endParaRPr b="0" lang="en-US" sz="2800" spc="-1" strike="noStrike">
              <a:solidFill>
                <a:srgbClr val="000000"/>
              </a:solidFill>
              <a:latin typeface="Arial"/>
            </a:endParaRPr>
          </a:p>
        </p:txBody>
      </p:sp>
      <p:sp>
        <p:nvSpPr>
          <p:cNvPr id="188" name="矩形 4"/>
          <p:cNvSpPr/>
          <p:nvPr/>
        </p:nvSpPr>
        <p:spPr>
          <a:xfrm>
            <a:off x="1371600" y="3772080"/>
            <a:ext cx="9200880" cy="11412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矩形 5"/>
          <p:cNvSpPr/>
          <p:nvPr/>
        </p:nvSpPr>
        <p:spPr>
          <a:xfrm>
            <a:off x="1166760" y="3769200"/>
            <a:ext cx="151200" cy="116640"/>
          </a:xfrm>
          <a:prstGeom prst="rect">
            <a:avLst/>
          </a:prstGeom>
          <a:solidFill>
            <a:srgbClr val="1283c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矩形 6"/>
          <p:cNvSpPr/>
          <p:nvPr/>
        </p:nvSpPr>
        <p:spPr>
          <a:xfrm>
            <a:off x="1002600" y="3769200"/>
            <a:ext cx="110880" cy="116640"/>
          </a:xfrm>
          <a:prstGeom prst="rect">
            <a:avLst/>
          </a:prstGeom>
          <a:solidFill>
            <a:srgbClr val="1283c1">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矩形 7"/>
          <p:cNvSpPr/>
          <p:nvPr/>
        </p:nvSpPr>
        <p:spPr>
          <a:xfrm>
            <a:off x="855360" y="3769200"/>
            <a:ext cx="93960" cy="116640"/>
          </a:xfrm>
          <a:prstGeom prst="rect">
            <a:avLst/>
          </a:prstGeom>
          <a:solidFill>
            <a:srgbClr val="1283c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92" name="组合 12"/>
          <p:cNvGrpSpPr/>
          <p:nvPr/>
        </p:nvGrpSpPr>
        <p:grpSpPr>
          <a:xfrm>
            <a:off x="1401480" y="3479400"/>
            <a:ext cx="705240" cy="363960"/>
            <a:chOff x="1401480" y="3479400"/>
            <a:chExt cx="705240" cy="363960"/>
          </a:xfrm>
        </p:grpSpPr>
        <p:sp>
          <p:nvSpPr>
            <p:cNvPr id="193" name="圆角矩形 8"/>
            <p:cNvSpPr/>
            <p:nvPr/>
          </p:nvSpPr>
          <p:spPr>
            <a:xfrm>
              <a:off x="1415880" y="3500280"/>
              <a:ext cx="643320" cy="32688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chemeClr val="lt1"/>
                </a:solidFill>
                <a:latin typeface="Britannic Bold"/>
              </a:endParaRPr>
            </a:p>
          </p:txBody>
        </p:sp>
        <p:sp>
          <p:nvSpPr>
            <p:cNvPr id="194" name="矩形 9"/>
            <p:cNvSpPr/>
            <p:nvPr/>
          </p:nvSpPr>
          <p:spPr>
            <a:xfrm>
              <a:off x="1401480" y="3479400"/>
              <a:ext cx="705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Britannic Bold"/>
                </a:rPr>
                <a:t>2011</a:t>
              </a:r>
              <a:endParaRPr b="0" lang="en-US" sz="1800" spc="-1" strike="noStrike">
                <a:solidFill>
                  <a:srgbClr val="000000"/>
                </a:solidFill>
                <a:latin typeface="Arial"/>
              </a:endParaRPr>
            </a:p>
          </p:txBody>
        </p:sp>
      </p:grpSp>
      <p:grpSp>
        <p:nvGrpSpPr>
          <p:cNvPr id="195" name="组合 13"/>
          <p:cNvGrpSpPr/>
          <p:nvPr/>
        </p:nvGrpSpPr>
        <p:grpSpPr>
          <a:xfrm>
            <a:off x="3137760" y="3769200"/>
            <a:ext cx="705240" cy="363960"/>
            <a:chOff x="3137760" y="3769200"/>
            <a:chExt cx="705240" cy="363960"/>
          </a:xfrm>
        </p:grpSpPr>
        <p:sp>
          <p:nvSpPr>
            <p:cNvPr id="196" name="圆角矩形 14"/>
            <p:cNvSpPr/>
            <p:nvPr/>
          </p:nvSpPr>
          <p:spPr>
            <a:xfrm>
              <a:off x="3152520" y="3790080"/>
              <a:ext cx="643320" cy="32688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chemeClr val="lt1"/>
                </a:solidFill>
                <a:latin typeface="Britannic Bold"/>
              </a:endParaRPr>
            </a:p>
          </p:txBody>
        </p:sp>
        <p:sp>
          <p:nvSpPr>
            <p:cNvPr id="197" name="矩形 15"/>
            <p:cNvSpPr/>
            <p:nvPr/>
          </p:nvSpPr>
          <p:spPr>
            <a:xfrm>
              <a:off x="3137760" y="3769200"/>
              <a:ext cx="705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Britannic Bold"/>
                </a:rPr>
                <a:t>2012</a:t>
              </a:r>
              <a:endParaRPr b="0" lang="en-US" sz="1800" spc="-1" strike="noStrike">
                <a:solidFill>
                  <a:srgbClr val="000000"/>
                </a:solidFill>
                <a:latin typeface="Arial"/>
              </a:endParaRPr>
            </a:p>
          </p:txBody>
        </p:sp>
      </p:grpSp>
      <p:sp>
        <p:nvSpPr>
          <p:cNvPr id="198" name="矩形 16"/>
          <p:cNvSpPr/>
          <p:nvPr/>
        </p:nvSpPr>
        <p:spPr>
          <a:xfrm>
            <a:off x="2653560" y="3986640"/>
            <a:ext cx="1674000" cy="2243880"/>
          </a:xfrm>
          <a:prstGeom prst="rect">
            <a:avLst/>
          </a:prstGeom>
          <a:solidFill>
            <a:schemeClr val="bg1">
              <a:lumMod val="50000"/>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199" name="组合 22"/>
          <p:cNvGrpSpPr/>
          <p:nvPr/>
        </p:nvGrpSpPr>
        <p:grpSpPr>
          <a:xfrm>
            <a:off x="4874400" y="3479400"/>
            <a:ext cx="705240" cy="363960"/>
            <a:chOff x="4874400" y="3479400"/>
            <a:chExt cx="705240" cy="363960"/>
          </a:xfrm>
        </p:grpSpPr>
        <p:sp>
          <p:nvSpPr>
            <p:cNvPr id="200" name="圆角矩形 23"/>
            <p:cNvSpPr/>
            <p:nvPr/>
          </p:nvSpPr>
          <p:spPr>
            <a:xfrm>
              <a:off x="4888800" y="3500280"/>
              <a:ext cx="643320" cy="32688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chemeClr val="lt1"/>
                </a:solidFill>
                <a:latin typeface="Britannic Bold"/>
              </a:endParaRPr>
            </a:p>
          </p:txBody>
        </p:sp>
        <p:sp>
          <p:nvSpPr>
            <p:cNvPr id="201" name="矩形 24"/>
            <p:cNvSpPr/>
            <p:nvPr/>
          </p:nvSpPr>
          <p:spPr>
            <a:xfrm>
              <a:off x="4874400" y="3479400"/>
              <a:ext cx="705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Britannic Bold"/>
                </a:rPr>
                <a:t>2013</a:t>
              </a:r>
              <a:endParaRPr b="0" lang="en-US" sz="1800" spc="-1" strike="noStrike">
                <a:solidFill>
                  <a:srgbClr val="000000"/>
                </a:solidFill>
                <a:latin typeface="Arial"/>
              </a:endParaRPr>
            </a:p>
          </p:txBody>
        </p:sp>
      </p:grpSp>
      <p:grpSp>
        <p:nvGrpSpPr>
          <p:cNvPr id="202" name="组合 25"/>
          <p:cNvGrpSpPr/>
          <p:nvPr/>
        </p:nvGrpSpPr>
        <p:grpSpPr>
          <a:xfrm>
            <a:off x="6610680" y="3775680"/>
            <a:ext cx="705240" cy="363960"/>
            <a:chOff x="6610680" y="3775680"/>
            <a:chExt cx="705240" cy="363960"/>
          </a:xfrm>
        </p:grpSpPr>
        <p:sp>
          <p:nvSpPr>
            <p:cNvPr id="203" name="圆角矩形 26"/>
            <p:cNvSpPr/>
            <p:nvPr/>
          </p:nvSpPr>
          <p:spPr>
            <a:xfrm>
              <a:off x="6625080" y="3796560"/>
              <a:ext cx="643320" cy="32688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chemeClr val="lt1"/>
                </a:solidFill>
                <a:latin typeface="Britannic Bold"/>
              </a:endParaRPr>
            </a:p>
          </p:txBody>
        </p:sp>
        <p:sp>
          <p:nvSpPr>
            <p:cNvPr id="204" name="矩形 27"/>
            <p:cNvSpPr/>
            <p:nvPr/>
          </p:nvSpPr>
          <p:spPr>
            <a:xfrm>
              <a:off x="6610680" y="3775680"/>
              <a:ext cx="705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Britannic Bold"/>
                </a:rPr>
                <a:t>2014</a:t>
              </a:r>
              <a:endParaRPr b="0" lang="en-US" sz="1800" spc="-1" strike="noStrike">
                <a:solidFill>
                  <a:srgbClr val="000000"/>
                </a:solidFill>
                <a:latin typeface="Arial"/>
              </a:endParaRPr>
            </a:p>
          </p:txBody>
        </p:sp>
      </p:grpSp>
      <p:grpSp>
        <p:nvGrpSpPr>
          <p:cNvPr id="205" name="组合 28"/>
          <p:cNvGrpSpPr/>
          <p:nvPr/>
        </p:nvGrpSpPr>
        <p:grpSpPr>
          <a:xfrm>
            <a:off x="8346960" y="3483000"/>
            <a:ext cx="705240" cy="363960"/>
            <a:chOff x="8346960" y="3483000"/>
            <a:chExt cx="705240" cy="363960"/>
          </a:xfrm>
        </p:grpSpPr>
        <p:sp>
          <p:nvSpPr>
            <p:cNvPr id="206" name="圆角矩形 29"/>
            <p:cNvSpPr/>
            <p:nvPr/>
          </p:nvSpPr>
          <p:spPr>
            <a:xfrm>
              <a:off x="8361360" y="3504240"/>
              <a:ext cx="643320" cy="32688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chemeClr val="lt1"/>
                </a:solidFill>
                <a:latin typeface="Britannic Bold"/>
              </a:endParaRPr>
            </a:p>
          </p:txBody>
        </p:sp>
        <p:sp>
          <p:nvSpPr>
            <p:cNvPr id="207" name="矩形 30"/>
            <p:cNvSpPr/>
            <p:nvPr/>
          </p:nvSpPr>
          <p:spPr>
            <a:xfrm>
              <a:off x="8346960" y="3483000"/>
              <a:ext cx="7052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Britannic Bold"/>
                </a:rPr>
                <a:t>2015</a:t>
              </a:r>
              <a:endParaRPr b="0" lang="en-US" sz="1800" spc="-1" strike="noStrike">
                <a:solidFill>
                  <a:srgbClr val="000000"/>
                </a:solidFill>
                <a:latin typeface="Arial"/>
              </a:endParaRPr>
            </a:p>
          </p:txBody>
        </p:sp>
      </p:grpSp>
      <p:sp>
        <p:nvSpPr>
          <p:cNvPr id="208" name="矩形 31"/>
          <p:cNvSpPr/>
          <p:nvPr/>
        </p:nvSpPr>
        <p:spPr>
          <a:xfrm>
            <a:off x="4376520" y="1416960"/>
            <a:ext cx="1674000" cy="2243880"/>
          </a:xfrm>
          <a:prstGeom prst="rect">
            <a:avLst/>
          </a:prstGeom>
          <a:solidFill>
            <a:schemeClr val="bg1">
              <a:lumMod val="50000"/>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209" name="矩形 32"/>
          <p:cNvSpPr/>
          <p:nvPr/>
        </p:nvSpPr>
        <p:spPr>
          <a:xfrm>
            <a:off x="7833240" y="1410840"/>
            <a:ext cx="1674000" cy="2243880"/>
          </a:xfrm>
          <a:prstGeom prst="rect">
            <a:avLst/>
          </a:prstGeom>
          <a:solidFill>
            <a:schemeClr val="bg1">
              <a:lumMod val="50000"/>
              <a:alpha val="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210" name="矩形 33"/>
          <p:cNvSpPr/>
          <p:nvPr/>
        </p:nvSpPr>
        <p:spPr>
          <a:xfrm>
            <a:off x="6109560" y="3985200"/>
            <a:ext cx="1674000" cy="2243880"/>
          </a:xfrm>
          <a:prstGeom prst="rect">
            <a:avLst/>
          </a:prstGeom>
          <a:solidFill>
            <a:schemeClr val="bg1">
              <a:lumMod val="50000"/>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a:p>
            <a:pPr marL="285840" indent="-285840" algn="ctr">
              <a:lnSpc>
                <a:spcPct val="150000"/>
              </a:lnSpc>
              <a:buClr>
                <a:srgbClr val="000000"/>
              </a:buClr>
              <a:buFont typeface="Wingdings" charset="2"/>
              <a:buChar char=""/>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211" name="矩形 34"/>
          <p:cNvSpPr/>
          <p:nvPr/>
        </p:nvSpPr>
        <p:spPr>
          <a:xfrm>
            <a:off x="10652400" y="3769200"/>
            <a:ext cx="151200" cy="116640"/>
          </a:xfrm>
          <a:prstGeom prst="rect">
            <a:avLst/>
          </a:prstGeom>
          <a:solidFill>
            <a:srgbClr val="1283c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矩形 35"/>
          <p:cNvSpPr/>
          <p:nvPr/>
        </p:nvSpPr>
        <p:spPr>
          <a:xfrm>
            <a:off x="10879560" y="3769200"/>
            <a:ext cx="123120" cy="116640"/>
          </a:xfrm>
          <a:prstGeom prst="rect">
            <a:avLst/>
          </a:prstGeom>
          <a:solidFill>
            <a:srgbClr val="1283c1">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矩形 36"/>
          <p:cNvSpPr/>
          <p:nvPr/>
        </p:nvSpPr>
        <p:spPr>
          <a:xfrm>
            <a:off x="11078640" y="3769200"/>
            <a:ext cx="84240" cy="116640"/>
          </a:xfrm>
          <a:prstGeom prst="rect">
            <a:avLst/>
          </a:prstGeom>
          <a:solidFill>
            <a:srgbClr val="1283c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4" name="直接连接符 37"/>
          <p:cNvCxnSpPr/>
          <p:nvPr/>
        </p:nvCxnSpPr>
        <p:spPr>
          <a:xfrm>
            <a:off x="0" y="1105200"/>
            <a:ext cx="11694240" cy="360"/>
          </a:xfrm>
          <a:prstGeom prst="straightConnector1">
            <a:avLst/>
          </a:prstGeom>
          <a:ln w="25400">
            <a:solidFill>
              <a:srgbClr val="2c77ca"/>
            </a:solidFill>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 name="矩形 13"/>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前期工作总体概述</a:t>
            </a:r>
            <a:endParaRPr b="0" lang="en-US" sz="2800" spc="-1" strike="noStrike">
              <a:solidFill>
                <a:srgbClr val="000000"/>
              </a:solidFill>
              <a:latin typeface="Arial"/>
            </a:endParaRPr>
          </a:p>
        </p:txBody>
      </p:sp>
      <p:cxnSp>
        <p:nvCxnSpPr>
          <p:cNvPr id="217" name="直接连接符 15"/>
          <p:cNvCxnSpPr/>
          <p:nvPr/>
        </p:nvCxnSpPr>
        <p:spPr>
          <a:xfrm>
            <a:off x="0" y="1105200"/>
            <a:ext cx="11694240" cy="360"/>
          </a:xfrm>
          <a:prstGeom prst="straightConnector1">
            <a:avLst/>
          </a:prstGeom>
          <a:ln w="25400">
            <a:solidFill>
              <a:srgbClr val="2c77ca"/>
            </a:solidFill>
          </a:ln>
        </p:spPr>
      </p:cxnSp>
      <p:cxnSp>
        <p:nvCxnSpPr>
          <p:cNvPr id="218" name="直接连接符 3"/>
          <p:cNvCxnSpPr/>
          <p:nvPr/>
        </p:nvCxnSpPr>
        <p:spPr>
          <a:xfrm flipH="1" flipV="1">
            <a:off x="2381040" y="2666880"/>
            <a:ext cx="10080" cy="1152720"/>
          </a:xfrm>
          <a:prstGeom prst="straightConnector1">
            <a:avLst/>
          </a:prstGeom>
          <a:ln>
            <a:solidFill>
              <a:srgbClr val="ffffff"/>
            </a:solidFill>
          </a:ln>
        </p:spPr>
      </p:cxnSp>
      <p:cxnSp>
        <p:nvCxnSpPr>
          <p:cNvPr id="219" name="直接连接符 17"/>
          <p:cNvCxnSpPr/>
          <p:nvPr/>
        </p:nvCxnSpPr>
        <p:spPr>
          <a:xfrm flipV="1">
            <a:off x="2390760" y="3314520"/>
            <a:ext cx="955800" cy="505080"/>
          </a:xfrm>
          <a:prstGeom prst="straightConnector1">
            <a:avLst/>
          </a:prstGeom>
          <a:ln>
            <a:solidFill>
              <a:srgbClr val="ffffff"/>
            </a:solidFill>
          </a:ln>
        </p:spPr>
      </p:cxnSp>
      <p:sp>
        <p:nvSpPr>
          <p:cNvPr id="220" name="任意多边形 35"/>
          <p:cNvSpPr/>
          <p:nvPr/>
        </p:nvSpPr>
        <p:spPr>
          <a:xfrm>
            <a:off x="849240" y="2007000"/>
            <a:ext cx="3082680" cy="3120120"/>
          </a:xfrm>
          <a:custGeom>
            <a:avLst/>
            <a:gdLst>
              <a:gd name="textAreaLeft" fmla="*/ 0 w 3082680"/>
              <a:gd name="textAreaRight" fmla="*/ 3083040 w 3082680"/>
              <a:gd name="textAreaTop" fmla="*/ 0 h 3120120"/>
              <a:gd name="textAreaBottom" fmla="*/ 3120480 h 3120120"/>
            </a:gdLst>
            <a:ahLst/>
            <a:rect l="textAreaLeft" t="textAreaTop" r="textAreaRight" b="textAreaBottom"/>
            <a:pathLst>
              <a:path w="3082981" h="3120572">
                <a:moveTo>
                  <a:pt x="1560286" y="0"/>
                </a:moveTo>
                <a:cubicBezTo>
                  <a:pt x="1937290" y="0"/>
                  <a:pt x="2283064" y="133710"/>
                  <a:pt x="2552773" y="356294"/>
                </a:cubicBezTo>
                <a:lnTo>
                  <a:pt x="2600340" y="399526"/>
                </a:lnTo>
                <a:lnTo>
                  <a:pt x="1559000" y="1590695"/>
                </a:lnTo>
                <a:lnTo>
                  <a:pt x="3082981" y="1897650"/>
                </a:lnTo>
                <a:lnTo>
                  <a:pt x="3050425" y="2024268"/>
                </a:lnTo>
                <a:cubicBezTo>
                  <a:pt x="2852875" y="2659411"/>
                  <a:pt x="2260435" y="3120572"/>
                  <a:pt x="1560286" y="3120572"/>
                </a:cubicBezTo>
                <a:cubicBezTo>
                  <a:pt x="698564" y="3120572"/>
                  <a:pt x="0" y="2422008"/>
                  <a:pt x="0" y="1560286"/>
                </a:cubicBezTo>
                <a:cubicBezTo>
                  <a:pt x="0" y="698564"/>
                  <a:pt x="698564" y="0"/>
                  <a:pt x="1560286" y="0"/>
                </a:cubicBezTo>
                <a:close/>
              </a:path>
            </a:pathLst>
          </a:custGeom>
          <a:solidFill>
            <a:srgbClr val="1283c1"/>
          </a:solidFill>
          <a:ln>
            <a:noFill/>
          </a:ln>
          <a:scene3d>
            <a:camera prst="orthographicFront">
              <a:rot lat="19800000" lon="20040000" rev="0"/>
            </a:camera>
            <a:lightRig dir="t" rig="threePt"/>
          </a:scene3d>
          <a:sp3d contourW="12700" prstMaterial="matte">
            <a:bevelT w="19050" h="520700"/>
            <a:bevelB w="31750"/>
            <a:contourClr>
              <a:srgbClr val="34aed0"/>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任意多边形 37"/>
          <p:cNvSpPr/>
          <p:nvPr/>
        </p:nvSpPr>
        <p:spPr>
          <a:xfrm rot="15076200">
            <a:off x="2808720" y="2586960"/>
            <a:ext cx="1573560" cy="1571400"/>
          </a:xfrm>
          <a:custGeom>
            <a:avLst/>
            <a:gdLst>
              <a:gd name="textAreaLeft" fmla="*/ 0 w 1573560"/>
              <a:gd name="textAreaRight" fmla="*/ 1573920 w 1573560"/>
              <a:gd name="textAreaTop" fmla="*/ 0 h 1571400"/>
              <a:gd name="textAreaBottom" fmla="*/ 1571760 h 1571400"/>
            </a:gdLst>
            <a:ahLst/>
            <a:rect l="textAreaLeft" t="textAreaTop" r="textAreaRight" b="textAreaBottom"/>
            <a:pathLst>
              <a:path w="1573769" h="1571690">
                <a:moveTo>
                  <a:pt x="1573769" y="1368629"/>
                </a:moveTo>
                <a:lnTo>
                  <a:pt x="1499039" y="1410066"/>
                </a:lnTo>
                <a:cubicBezTo>
                  <a:pt x="1140981" y="1586829"/>
                  <a:pt x="715491" y="1626997"/>
                  <a:pt x="307438" y="1488674"/>
                </a:cubicBezTo>
                <a:cubicBezTo>
                  <a:pt x="205424" y="1454093"/>
                  <a:pt x="109329" y="1409994"/>
                  <a:pt x="19807" y="1357702"/>
                </a:cubicBezTo>
                <a:lnTo>
                  <a:pt x="0" y="1344766"/>
                </a:lnTo>
                <a:lnTo>
                  <a:pt x="779964" y="0"/>
                </a:lnTo>
                <a:close/>
              </a:path>
            </a:pathLst>
          </a:custGeom>
          <a:solidFill>
            <a:srgbClr val="34aed0"/>
          </a:solidFill>
          <a:ln>
            <a:noFill/>
          </a:ln>
          <a:scene3d>
            <a:camera prst="orthographicFront">
              <a:rot lat="1265196" lon="21266327" rev="21013054"/>
            </a:camera>
            <a:lightRig dir="t" rig="threePt"/>
          </a:scene3d>
          <a:sp3d extrusionH="76200" contourW="12700" prstMaterial="matte">
            <a:bevelT w="19050" h="520700"/>
            <a:bevelB w="31750"/>
            <a:extrusionClr>
              <a:srgbClr val="34aed0"/>
            </a:extrusionClr>
            <a:contourClr>
              <a:srgbClr val="34aed0"/>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22" name="直接连接符 2051"/>
          <p:cNvCxnSpPr/>
          <p:nvPr/>
        </p:nvCxnSpPr>
        <p:spPr>
          <a:xfrm flipV="1">
            <a:off x="4107240" y="2006640"/>
            <a:ext cx="537840" cy="794880"/>
          </a:xfrm>
          <a:prstGeom prst="straightConnector1">
            <a:avLst/>
          </a:prstGeom>
          <a:ln w="25400">
            <a:solidFill>
              <a:srgbClr val="1283c1"/>
            </a:solidFill>
            <a:prstDash val="dash"/>
          </a:ln>
        </p:spPr>
      </p:cxnSp>
      <p:cxnSp>
        <p:nvCxnSpPr>
          <p:cNvPr id="223" name="直接连接符 2053"/>
          <p:cNvCxnSpPr/>
          <p:nvPr/>
        </p:nvCxnSpPr>
        <p:spPr>
          <a:xfrm>
            <a:off x="4644720" y="2006640"/>
            <a:ext cx="464400" cy="360"/>
          </a:xfrm>
          <a:prstGeom prst="straightConnector1">
            <a:avLst/>
          </a:prstGeom>
          <a:ln w="25400">
            <a:solidFill>
              <a:srgbClr val="1283c1"/>
            </a:solidFill>
            <a:prstDash val="dash"/>
          </a:ln>
        </p:spPr>
      </p:cxnSp>
      <p:cxnSp>
        <p:nvCxnSpPr>
          <p:cNvPr id="224" name="直接连接符 2055"/>
          <p:cNvCxnSpPr/>
          <p:nvPr/>
        </p:nvCxnSpPr>
        <p:spPr>
          <a:xfrm>
            <a:off x="3221640" y="5005080"/>
            <a:ext cx="1371240" cy="1023840"/>
          </a:xfrm>
          <a:prstGeom prst="straightConnector1">
            <a:avLst/>
          </a:prstGeom>
          <a:ln w="25400">
            <a:solidFill>
              <a:srgbClr val="1283c1"/>
            </a:solidFill>
            <a:prstDash val="dash"/>
          </a:ln>
        </p:spPr>
      </p:cxnSp>
      <p:cxnSp>
        <p:nvCxnSpPr>
          <p:cNvPr id="225" name="直接连接符 2061"/>
          <p:cNvCxnSpPr/>
          <p:nvPr/>
        </p:nvCxnSpPr>
        <p:spPr>
          <a:xfrm>
            <a:off x="4592520" y="6028560"/>
            <a:ext cx="516600" cy="360"/>
          </a:xfrm>
          <a:prstGeom prst="straightConnector1">
            <a:avLst/>
          </a:prstGeom>
          <a:ln w="25400">
            <a:solidFill>
              <a:srgbClr val="1283c1"/>
            </a:solidFill>
            <a:prstDash val="dash"/>
          </a:ln>
        </p:spPr>
      </p:cxnSp>
      <p:sp>
        <p:nvSpPr>
          <p:cNvPr id="226" name="矩形 2063"/>
          <p:cNvSpPr/>
          <p:nvPr/>
        </p:nvSpPr>
        <p:spPr>
          <a:xfrm>
            <a:off x="5096160" y="1681200"/>
            <a:ext cx="6079680" cy="1976040"/>
          </a:xfrm>
          <a:prstGeom prst="rect">
            <a:avLst/>
          </a:prstGeom>
          <a:solidFill>
            <a:schemeClr val="bg1">
              <a:lumMod val="50000"/>
              <a:alpha val="1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1800" spc="-1" strike="noStrike">
                <a:solidFill>
                  <a:srgbClr val="000000"/>
                </a:solidFill>
                <a:latin typeface="微软雅黑"/>
                <a:ea typeface="微软雅黑"/>
              </a:rPr>
              <a:t>百度拥有数千名研发工程师，这是中国乃至全球最为优秀的技术团队，这支队伍掌握着世界上最为先进的搜索引擎技术，使百度成为中国掌握世界尖端科学核心技术的中国高科技企业。</a:t>
            </a:r>
            <a:endParaRPr b="0" lang="en-US" sz="1800" spc="-1" strike="noStrike">
              <a:solidFill>
                <a:srgbClr val="000000"/>
              </a:solidFill>
              <a:latin typeface="Arial"/>
            </a:endParaRPr>
          </a:p>
        </p:txBody>
      </p:sp>
      <p:sp>
        <p:nvSpPr>
          <p:cNvPr id="227" name="矩形 53"/>
          <p:cNvSpPr/>
          <p:nvPr/>
        </p:nvSpPr>
        <p:spPr>
          <a:xfrm>
            <a:off x="5096160" y="4633920"/>
            <a:ext cx="6079680" cy="1976040"/>
          </a:xfrm>
          <a:prstGeom prst="rect">
            <a:avLst/>
          </a:prstGeom>
          <a:solidFill>
            <a:schemeClr val="bg1">
              <a:lumMod val="50000"/>
              <a:alpha val="1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1800" spc="-1" strike="noStrike">
                <a:solidFill>
                  <a:srgbClr val="000000"/>
                </a:solidFill>
                <a:latin typeface="微软雅黑"/>
                <a:ea typeface="微软雅黑"/>
              </a:rPr>
              <a:t>百度拥有数千名研发工程师，这是中国乃至全球最为优秀的技术团队，这支队伍掌握着世界上最为先进的搜索引擎技术，使百度成为中国掌握世界尖端科学核心技术的中国高科技企业。</a:t>
            </a:r>
            <a:endParaRPr b="0" lang="en-US" sz="1800" spc="-1" strike="noStrike">
              <a:solidFill>
                <a:srgbClr val="000000"/>
              </a:solidFill>
              <a:latin typeface="Arial"/>
            </a:endParaRPr>
          </a:p>
        </p:txBody>
      </p:sp>
      <p:sp>
        <p:nvSpPr>
          <p:cNvPr id="228" name="圆角矩形 2064"/>
          <p:cNvSpPr/>
          <p:nvPr/>
        </p:nvSpPr>
        <p:spPr>
          <a:xfrm>
            <a:off x="4646520" y="2262960"/>
            <a:ext cx="510480" cy="63864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itannic Bold"/>
              </a:rPr>
              <a:t>1</a:t>
            </a:r>
            <a:endParaRPr b="0" lang="en-US" sz="3600" spc="-1" strike="noStrike">
              <a:solidFill>
                <a:srgbClr val="000000"/>
              </a:solidFill>
              <a:latin typeface="Arial"/>
            </a:endParaRPr>
          </a:p>
        </p:txBody>
      </p:sp>
      <p:sp>
        <p:nvSpPr>
          <p:cNvPr id="229" name="圆角矩形 55"/>
          <p:cNvSpPr/>
          <p:nvPr/>
        </p:nvSpPr>
        <p:spPr>
          <a:xfrm>
            <a:off x="4646520" y="5348880"/>
            <a:ext cx="510480" cy="63864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itannic Bold"/>
              </a:rPr>
              <a:t>2</a:t>
            </a:r>
            <a:endParaRPr b="0" lang="en-US" sz="3600" spc="-1" strike="noStrike">
              <a:solidFill>
                <a:srgbClr val="000000"/>
              </a:solidFill>
              <a:latin typeface="Arial"/>
            </a:endParaRPr>
          </a:p>
        </p:txBody>
      </p:sp>
      <p:sp>
        <p:nvSpPr>
          <p:cNvPr id="230" name="Text Box 6"/>
          <p:cNvSpPr/>
          <p:nvPr/>
        </p:nvSpPr>
        <p:spPr>
          <a:xfrm>
            <a:off x="432720" y="6523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 name="矩形 33"/>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前期工作总体概述</a:t>
            </a:r>
            <a:endParaRPr b="0" lang="en-US" sz="2800" spc="-1" strike="noStrike">
              <a:solidFill>
                <a:srgbClr val="000000"/>
              </a:solidFill>
              <a:latin typeface="Arial"/>
            </a:endParaRPr>
          </a:p>
        </p:txBody>
      </p:sp>
      <p:cxnSp>
        <p:nvCxnSpPr>
          <p:cNvPr id="233" name="直接连接符 34"/>
          <p:cNvCxnSpPr/>
          <p:nvPr/>
        </p:nvCxnSpPr>
        <p:spPr>
          <a:xfrm>
            <a:off x="0" y="1105200"/>
            <a:ext cx="11694240" cy="360"/>
          </a:xfrm>
          <a:prstGeom prst="straightConnector1">
            <a:avLst/>
          </a:prstGeom>
          <a:ln w="25400">
            <a:solidFill>
              <a:srgbClr val="2c77ca"/>
            </a:solidFill>
          </a:ln>
        </p:spPr>
      </p:cxnSp>
      <p:grpSp>
        <p:nvGrpSpPr>
          <p:cNvPr id="234" name="组合 51"/>
          <p:cNvGrpSpPr/>
          <p:nvPr/>
        </p:nvGrpSpPr>
        <p:grpSpPr>
          <a:xfrm>
            <a:off x="322200" y="2151360"/>
            <a:ext cx="3780360" cy="3361680"/>
            <a:chOff x="322200" y="2151360"/>
            <a:chExt cx="3780360" cy="3361680"/>
          </a:xfrm>
        </p:grpSpPr>
        <p:sp>
          <p:nvSpPr>
            <p:cNvPr id="235" name="任意多边形 37"/>
            <p:cNvSpPr/>
            <p:nvPr/>
          </p:nvSpPr>
          <p:spPr>
            <a:xfrm rot="216600">
              <a:off x="2280240" y="2538720"/>
              <a:ext cx="1300680" cy="918000"/>
            </a:xfrm>
            <a:custGeom>
              <a:avLst/>
              <a:gdLst>
                <a:gd name="textAreaLeft" fmla="*/ 0 w 1300680"/>
                <a:gd name="textAreaRight" fmla="*/ 1301040 w 1300680"/>
                <a:gd name="textAreaTop" fmla="*/ 0 h 918000"/>
                <a:gd name="textAreaBottom" fmla="*/ 918360 h 918000"/>
              </a:gdLst>
              <a:ahLst/>
              <a:rect l="textAreaLeft" t="textAreaTop" r="textAreaRight" b="textAreaBottom"/>
              <a:pathLst>
                <a:path w="1300959" h="918180">
                  <a:moveTo>
                    <a:pt x="914360" y="0"/>
                  </a:moveTo>
                  <a:lnTo>
                    <a:pt x="923350" y="8170"/>
                  </a:lnTo>
                  <a:cubicBezTo>
                    <a:pt x="1128128" y="212948"/>
                    <a:pt x="1264550" y="486080"/>
                    <a:pt x="1295456" y="790406"/>
                  </a:cubicBezTo>
                  <a:lnTo>
                    <a:pt x="1300959" y="899383"/>
                  </a:lnTo>
                  <a:lnTo>
                    <a:pt x="0" y="918180"/>
                  </a:lnTo>
                  <a:close/>
                </a:path>
              </a:pathLst>
            </a:custGeom>
            <a:solidFill>
              <a:srgbClr val="34aed0"/>
            </a:solidFill>
            <a:ln>
              <a:noFill/>
            </a:ln>
            <a:scene3d>
              <a:camera prst="orthographicFront">
                <a:rot lat="20625032" lon="20432519" rev="1344583"/>
              </a:camera>
              <a:lightRig dir="t" rig="threePt"/>
            </a:scene3d>
            <a:sp3d prstMaterial="matte">
              <a:bevelT w="19050" h="520700"/>
              <a:bevelB w="317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任意多边形 55"/>
            <p:cNvSpPr/>
            <p:nvPr/>
          </p:nvSpPr>
          <p:spPr>
            <a:xfrm rot="-2560200">
              <a:off x="2175840" y="3440880"/>
              <a:ext cx="1774080" cy="1295280"/>
            </a:xfrm>
            <a:custGeom>
              <a:avLst/>
              <a:gdLst>
                <a:gd name="textAreaLeft" fmla="*/ 0 w 1774080"/>
                <a:gd name="textAreaRight" fmla="*/ 1774440 w 1774080"/>
                <a:gd name="textAreaTop" fmla="*/ 0 h 1295280"/>
                <a:gd name="textAreaBottom" fmla="*/ 1295640 h 1295280"/>
              </a:gdLst>
              <a:ahLst/>
              <a:rect l="textAreaLeft" t="textAreaTop" r="textAreaRight" b="textAreaBottom"/>
              <a:pathLst>
                <a:path w="1774596" h="1295477">
                  <a:moveTo>
                    <a:pt x="1774596" y="821566"/>
                  </a:moveTo>
                  <a:lnTo>
                    <a:pt x="1765195" y="833979"/>
                  </a:lnTo>
                  <a:cubicBezTo>
                    <a:pt x="1334529" y="1346707"/>
                    <a:pt x="590638" y="1441120"/>
                    <a:pt x="48694" y="1072403"/>
                  </a:cubicBezTo>
                  <a:lnTo>
                    <a:pt x="0" y="1035526"/>
                  </a:lnTo>
                  <a:lnTo>
                    <a:pt x="771708" y="0"/>
                  </a:lnTo>
                  <a:close/>
                </a:path>
              </a:pathLst>
            </a:custGeom>
            <a:solidFill>
              <a:srgbClr val="869b2b"/>
            </a:solidFill>
            <a:ln>
              <a:noFill/>
            </a:ln>
            <a:scene3d>
              <a:camera prst="orthographicFront">
                <a:rot lat="21223740" lon="20541664" rev="740176"/>
              </a:camera>
              <a:lightRig dir="t" rig="threePt"/>
            </a:scene3d>
            <a:sp3d prstMaterial="matte">
              <a:bevelT w="19050" h="5207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任意多边形 52"/>
            <p:cNvSpPr/>
            <p:nvPr/>
          </p:nvSpPr>
          <p:spPr>
            <a:xfrm>
              <a:off x="772920" y="2511360"/>
              <a:ext cx="2289960" cy="2641320"/>
            </a:xfrm>
            <a:custGeom>
              <a:avLst/>
              <a:gdLst>
                <a:gd name="textAreaLeft" fmla="*/ 0 w 2289960"/>
                <a:gd name="textAreaRight" fmla="*/ 2290320 w 2289960"/>
                <a:gd name="textAreaTop" fmla="*/ 0 h 2641320"/>
                <a:gd name="textAreaBottom" fmla="*/ 2641680 h 2641320"/>
              </a:gdLst>
              <a:ahLst/>
              <a:rect l="textAreaLeft" t="textAreaTop" r="textAreaRight" b="textAreaBottom"/>
              <a:pathLst>
                <a:path w="2290496" h="2641600">
                  <a:moveTo>
                    <a:pt x="1320800" y="0"/>
                  </a:moveTo>
                  <a:cubicBezTo>
                    <a:pt x="1685529" y="0"/>
                    <a:pt x="2015729" y="147836"/>
                    <a:pt x="2254747" y="386853"/>
                  </a:cubicBezTo>
                  <a:lnTo>
                    <a:pt x="2290496" y="426187"/>
                  </a:lnTo>
                  <a:lnTo>
                    <a:pt x="1330804" y="1329375"/>
                  </a:lnTo>
                  <a:lnTo>
                    <a:pt x="1370725" y="2639079"/>
                  </a:lnTo>
                  <a:lnTo>
                    <a:pt x="1320800" y="2641600"/>
                  </a:lnTo>
                  <a:cubicBezTo>
                    <a:pt x="591342" y="2641600"/>
                    <a:pt x="0" y="2050258"/>
                    <a:pt x="0" y="1320800"/>
                  </a:cubicBezTo>
                  <a:cubicBezTo>
                    <a:pt x="0" y="591342"/>
                    <a:pt x="591342" y="0"/>
                    <a:pt x="1320800" y="0"/>
                  </a:cubicBezTo>
                  <a:close/>
                </a:path>
              </a:pathLst>
            </a:custGeom>
            <a:solidFill>
              <a:srgbClr val="1283c1"/>
            </a:solidFill>
            <a:ln>
              <a:noFill/>
            </a:ln>
            <a:scene3d>
              <a:camera prst="orthographicFront">
                <a:rot lat="19799999" lon="20040000" rev="1500000"/>
              </a:camera>
              <a:lightRig dir="t" rig="threePt"/>
            </a:scene3d>
            <a:sp3d prstMaterial="matte">
              <a:bevelT w="19050" h="520700"/>
              <a:bevelB w="317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238" name="直接连接符 54"/>
          <p:cNvCxnSpPr/>
          <p:nvPr/>
        </p:nvCxnSpPr>
        <p:spPr>
          <a:xfrm flipV="1">
            <a:off x="2147760" y="1741680"/>
            <a:ext cx="479520" cy="1045080"/>
          </a:xfrm>
          <a:prstGeom prst="straightConnector1">
            <a:avLst/>
          </a:prstGeom>
          <a:ln w="25400">
            <a:solidFill>
              <a:srgbClr val="1283c1"/>
            </a:solidFill>
            <a:prstDash val="dash"/>
          </a:ln>
        </p:spPr>
      </p:cxnSp>
      <p:cxnSp>
        <p:nvCxnSpPr>
          <p:cNvPr id="239" name="直接连接符 57"/>
          <p:cNvCxnSpPr/>
          <p:nvPr/>
        </p:nvCxnSpPr>
        <p:spPr>
          <a:xfrm>
            <a:off x="2626920" y="1741680"/>
            <a:ext cx="1867320" cy="360"/>
          </a:xfrm>
          <a:prstGeom prst="straightConnector1">
            <a:avLst/>
          </a:prstGeom>
          <a:ln w="25400">
            <a:solidFill>
              <a:srgbClr val="1283c1"/>
            </a:solidFill>
            <a:prstDash val="dash"/>
          </a:ln>
        </p:spPr>
      </p:cxnSp>
      <p:cxnSp>
        <p:nvCxnSpPr>
          <p:cNvPr id="240" name="直接连接符 59"/>
          <p:cNvCxnSpPr/>
          <p:nvPr/>
        </p:nvCxnSpPr>
        <p:spPr>
          <a:xfrm>
            <a:off x="3632400" y="3340080"/>
            <a:ext cx="791280" cy="318600"/>
          </a:xfrm>
          <a:prstGeom prst="straightConnector1">
            <a:avLst/>
          </a:prstGeom>
          <a:ln w="25400">
            <a:solidFill>
              <a:srgbClr val="1283c1"/>
            </a:solidFill>
            <a:prstDash val="dash"/>
          </a:ln>
        </p:spPr>
      </p:cxnSp>
      <p:cxnSp>
        <p:nvCxnSpPr>
          <p:cNvPr id="241" name="直接连接符 3071"/>
          <p:cNvCxnSpPr/>
          <p:nvPr/>
        </p:nvCxnSpPr>
        <p:spPr>
          <a:xfrm>
            <a:off x="3116160" y="5167440"/>
            <a:ext cx="621360" cy="899640"/>
          </a:xfrm>
          <a:prstGeom prst="straightConnector1">
            <a:avLst/>
          </a:prstGeom>
          <a:ln w="25400">
            <a:solidFill>
              <a:srgbClr val="1283c1"/>
            </a:solidFill>
            <a:prstDash val="dash"/>
          </a:ln>
        </p:spPr>
      </p:cxnSp>
      <p:cxnSp>
        <p:nvCxnSpPr>
          <p:cNvPr id="242" name="直接连接符 3073"/>
          <p:cNvCxnSpPr/>
          <p:nvPr/>
        </p:nvCxnSpPr>
        <p:spPr>
          <a:xfrm>
            <a:off x="3708360" y="6066720"/>
            <a:ext cx="756720" cy="360"/>
          </a:xfrm>
          <a:prstGeom prst="straightConnector1">
            <a:avLst/>
          </a:prstGeom>
          <a:ln w="25400">
            <a:solidFill>
              <a:srgbClr val="1283c1"/>
            </a:solidFill>
            <a:prstDash val="dash"/>
          </a:ln>
        </p:spPr>
      </p:cxnSp>
      <p:sp>
        <p:nvSpPr>
          <p:cNvPr id="243" name="矩形 76"/>
          <p:cNvSpPr/>
          <p:nvPr/>
        </p:nvSpPr>
        <p:spPr>
          <a:xfrm>
            <a:off x="4520520" y="1445040"/>
            <a:ext cx="6079680" cy="1565280"/>
          </a:xfrm>
          <a:prstGeom prst="rect">
            <a:avLst/>
          </a:prstGeom>
          <a:solidFill>
            <a:schemeClr val="bg1">
              <a:lumMod val="50000"/>
              <a:alpha val="1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1800" spc="-1" strike="noStrike">
                <a:solidFill>
                  <a:srgbClr val="000000"/>
                </a:solidFill>
                <a:latin typeface="微软雅黑"/>
                <a:ea typeface="微软雅黑"/>
              </a:rPr>
              <a:t>百度拥有数千名研发工程师，这是中国乃至全球最为优秀的技术团队，这支队伍掌握着世界上最为先进的搜索引擎技术。</a:t>
            </a:r>
            <a:endParaRPr b="0" lang="en-US" sz="1800" spc="-1" strike="noStrike">
              <a:solidFill>
                <a:srgbClr val="000000"/>
              </a:solidFill>
              <a:latin typeface="Arial"/>
            </a:endParaRPr>
          </a:p>
        </p:txBody>
      </p:sp>
      <p:sp>
        <p:nvSpPr>
          <p:cNvPr id="244" name="圆角矩形 77"/>
          <p:cNvSpPr/>
          <p:nvPr/>
        </p:nvSpPr>
        <p:spPr>
          <a:xfrm>
            <a:off x="4817880" y="1174680"/>
            <a:ext cx="697320" cy="47556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itannic Bold"/>
              </a:rPr>
              <a:t>1</a:t>
            </a:r>
            <a:endParaRPr b="0" lang="en-US" sz="3600" spc="-1" strike="noStrike">
              <a:solidFill>
                <a:srgbClr val="000000"/>
              </a:solidFill>
              <a:latin typeface="Arial"/>
            </a:endParaRPr>
          </a:p>
        </p:txBody>
      </p:sp>
      <p:sp>
        <p:nvSpPr>
          <p:cNvPr id="245" name="矩形 80"/>
          <p:cNvSpPr/>
          <p:nvPr/>
        </p:nvSpPr>
        <p:spPr>
          <a:xfrm>
            <a:off x="4520520" y="3441600"/>
            <a:ext cx="6079680" cy="1565280"/>
          </a:xfrm>
          <a:prstGeom prst="rect">
            <a:avLst/>
          </a:prstGeom>
          <a:solidFill>
            <a:schemeClr val="bg1">
              <a:lumMod val="50000"/>
              <a:alpha val="1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1800" spc="-1" strike="noStrike">
                <a:solidFill>
                  <a:srgbClr val="000000"/>
                </a:solidFill>
                <a:latin typeface="微软雅黑"/>
                <a:ea typeface="微软雅黑"/>
              </a:rPr>
              <a:t>百度拥有数千名研发工程师，这是中国乃至全球最为优秀的技术团队，这支队伍掌握着世界上最为先进的搜索引擎技术。</a:t>
            </a:r>
            <a:endParaRPr b="0" lang="en-US" sz="1800" spc="-1" strike="noStrike">
              <a:solidFill>
                <a:srgbClr val="000000"/>
              </a:solidFill>
              <a:latin typeface="Arial"/>
            </a:endParaRPr>
          </a:p>
        </p:txBody>
      </p:sp>
      <p:sp>
        <p:nvSpPr>
          <p:cNvPr id="246" name="圆角矩形 81"/>
          <p:cNvSpPr/>
          <p:nvPr/>
        </p:nvSpPr>
        <p:spPr>
          <a:xfrm>
            <a:off x="4817880" y="3171240"/>
            <a:ext cx="697320" cy="47556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itannic Bold"/>
              </a:rPr>
              <a:t>2</a:t>
            </a:r>
            <a:endParaRPr b="0" lang="en-US" sz="3600" spc="-1" strike="noStrike">
              <a:solidFill>
                <a:srgbClr val="000000"/>
              </a:solidFill>
              <a:latin typeface="Arial"/>
            </a:endParaRPr>
          </a:p>
        </p:txBody>
      </p:sp>
      <p:sp>
        <p:nvSpPr>
          <p:cNvPr id="247" name="矩形 82"/>
          <p:cNvSpPr/>
          <p:nvPr/>
        </p:nvSpPr>
        <p:spPr>
          <a:xfrm>
            <a:off x="4520520" y="5451120"/>
            <a:ext cx="6079680" cy="1565280"/>
          </a:xfrm>
          <a:prstGeom prst="rect">
            <a:avLst/>
          </a:prstGeom>
          <a:solidFill>
            <a:schemeClr val="bg1">
              <a:lumMod val="50000"/>
              <a:alpha val="1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1800" spc="-1" strike="noStrike">
                <a:solidFill>
                  <a:srgbClr val="000000"/>
                </a:solidFill>
                <a:latin typeface="微软雅黑"/>
                <a:ea typeface="微软雅黑"/>
              </a:rPr>
              <a:t>百度拥有数千名研发工程师，这是中国乃至全球最为优秀的技术团队，这支队伍掌握着世界上最为先进的搜索引擎技术。</a:t>
            </a:r>
            <a:endParaRPr b="0" lang="en-US" sz="1800" spc="-1" strike="noStrike">
              <a:solidFill>
                <a:srgbClr val="000000"/>
              </a:solidFill>
              <a:latin typeface="Arial"/>
            </a:endParaRPr>
          </a:p>
        </p:txBody>
      </p:sp>
      <p:sp>
        <p:nvSpPr>
          <p:cNvPr id="248" name="圆角矩形 83"/>
          <p:cNvSpPr/>
          <p:nvPr/>
        </p:nvSpPr>
        <p:spPr>
          <a:xfrm>
            <a:off x="4817880" y="5180400"/>
            <a:ext cx="697320" cy="475560"/>
          </a:xfrm>
          <a:prstGeom prst="roundRect">
            <a:avLst>
              <a:gd name="adj" fmla="val 16667"/>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itannic Bold"/>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KSO_Shape"/>
          <p:cNvSpPr/>
          <p:nvPr/>
        </p:nvSpPr>
        <p:spPr>
          <a:xfrm>
            <a:off x="657000" y="455400"/>
            <a:ext cx="930600" cy="563400"/>
          </a:xfrm>
          <a:custGeom>
            <a:avLst/>
            <a:gdLst>
              <a:gd name="textAreaLeft" fmla="*/ 0 w 930600"/>
              <a:gd name="textAreaRight" fmla="*/ 930960 w 930600"/>
              <a:gd name="textAreaTop" fmla="*/ 0 h 563400"/>
              <a:gd name="textAreaBottom" fmla="*/ 563760 h 563400"/>
            </a:gdLst>
            <a:ahLst/>
            <a:rect l="textAreaLeft" t="textAreaTop" r="textAreaRight" b="textAreaBottom"/>
            <a:pathLst>
              <a:path w="13050" h="8154">
                <a:moveTo>
                  <a:pt x="6088" y="6471"/>
                </a:moveTo>
                <a:lnTo>
                  <a:pt x="6088" y="1683"/>
                </a:lnTo>
                <a:lnTo>
                  <a:pt x="8972" y="1683"/>
                </a:lnTo>
                <a:lnTo>
                  <a:pt x="8972" y="0"/>
                </a:lnTo>
                <a:lnTo>
                  <a:pt x="9089" y="0"/>
                </a:lnTo>
                <a:lnTo>
                  <a:pt x="9129" y="86"/>
                </a:lnTo>
                <a:lnTo>
                  <a:pt x="9168" y="171"/>
                </a:lnTo>
                <a:lnTo>
                  <a:pt x="9208" y="256"/>
                </a:lnTo>
                <a:lnTo>
                  <a:pt x="9249" y="340"/>
                </a:lnTo>
                <a:lnTo>
                  <a:pt x="9292" y="425"/>
                </a:lnTo>
                <a:lnTo>
                  <a:pt x="9335" y="507"/>
                </a:lnTo>
                <a:lnTo>
                  <a:pt x="9378" y="589"/>
                </a:lnTo>
                <a:lnTo>
                  <a:pt x="9422" y="670"/>
                </a:lnTo>
                <a:lnTo>
                  <a:pt x="9468" y="750"/>
                </a:lnTo>
                <a:lnTo>
                  <a:pt x="9514" y="830"/>
                </a:lnTo>
                <a:lnTo>
                  <a:pt x="9560" y="909"/>
                </a:lnTo>
                <a:lnTo>
                  <a:pt x="9608" y="986"/>
                </a:lnTo>
                <a:lnTo>
                  <a:pt x="9656" y="1063"/>
                </a:lnTo>
                <a:lnTo>
                  <a:pt x="9704" y="1141"/>
                </a:lnTo>
                <a:lnTo>
                  <a:pt x="9754" y="1217"/>
                </a:lnTo>
                <a:lnTo>
                  <a:pt x="9804" y="1291"/>
                </a:lnTo>
                <a:lnTo>
                  <a:pt x="9855" y="1365"/>
                </a:lnTo>
                <a:lnTo>
                  <a:pt x="9907" y="1439"/>
                </a:lnTo>
                <a:lnTo>
                  <a:pt x="9960" y="1511"/>
                </a:lnTo>
                <a:lnTo>
                  <a:pt x="10013" y="1584"/>
                </a:lnTo>
                <a:lnTo>
                  <a:pt x="10066" y="1655"/>
                </a:lnTo>
                <a:lnTo>
                  <a:pt x="10121" y="1725"/>
                </a:lnTo>
                <a:lnTo>
                  <a:pt x="10176" y="1794"/>
                </a:lnTo>
                <a:lnTo>
                  <a:pt x="10232" y="1864"/>
                </a:lnTo>
                <a:lnTo>
                  <a:pt x="10288" y="1931"/>
                </a:lnTo>
                <a:lnTo>
                  <a:pt x="10346" y="1999"/>
                </a:lnTo>
                <a:lnTo>
                  <a:pt x="10403" y="2066"/>
                </a:lnTo>
                <a:lnTo>
                  <a:pt x="10461" y="2132"/>
                </a:lnTo>
                <a:lnTo>
                  <a:pt x="10521" y="2196"/>
                </a:lnTo>
                <a:lnTo>
                  <a:pt x="10579" y="2261"/>
                </a:lnTo>
                <a:lnTo>
                  <a:pt x="10640" y="2324"/>
                </a:lnTo>
                <a:lnTo>
                  <a:pt x="10701" y="2387"/>
                </a:lnTo>
                <a:lnTo>
                  <a:pt x="10764" y="2450"/>
                </a:lnTo>
                <a:lnTo>
                  <a:pt x="10826" y="2511"/>
                </a:lnTo>
                <a:lnTo>
                  <a:pt x="10889" y="2572"/>
                </a:lnTo>
                <a:lnTo>
                  <a:pt x="10954" y="2631"/>
                </a:lnTo>
                <a:lnTo>
                  <a:pt x="11019" y="2691"/>
                </a:lnTo>
                <a:lnTo>
                  <a:pt x="11085" y="2750"/>
                </a:lnTo>
                <a:lnTo>
                  <a:pt x="11152" y="2808"/>
                </a:lnTo>
                <a:lnTo>
                  <a:pt x="11218" y="2865"/>
                </a:lnTo>
                <a:lnTo>
                  <a:pt x="11286" y="2923"/>
                </a:lnTo>
                <a:lnTo>
                  <a:pt x="11355" y="2978"/>
                </a:lnTo>
                <a:lnTo>
                  <a:pt x="11425" y="3034"/>
                </a:lnTo>
                <a:lnTo>
                  <a:pt x="11495" y="3088"/>
                </a:lnTo>
                <a:lnTo>
                  <a:pt x="11565" y="3143"/>
                </a:lnTo>
                <a:lnTo>
                  <a:pt x="11638" y="3197"/>
                </a:lnTo>
                <a:lnTo>
                  <a:pt x="11709" y="3250"/>
                </a:lnTo>
                <a:lnTo>
                  <a:pt x="11783" y="3301"/>
                </a:lnTo>
                <a:lnTo>
                  <a:pt x="11856" y="3353"/>
                </a:lnTo>
                <a:lnTo>
                  <a:pt x="11931" y="3404"/>
                </a:lnTo>
                <a:lnTo>
                  <a:pt x="12006" y="3453"/>
                </a:lnTo>
                <a:lnTo>
                  <a:pt x="12082" y="3503"/>
                </a:lnTo>
                <a:lnTo>
                  <a:pt x="12158" y="3552"/>
                </a:lnTo>
                <a:lnTo>
                  <a:pt x="12236" y="3601"/>
                </a:lnTo>
                <a:lnTo>
                  <a:pt x="12315" y="3648"/>
                </a:lnTo>
                <a:lnTo>
                  <a:pt x="12393" y="3694"/>
                </a:lnTo>
                <a:lnTo>
                  <a:pt x="12472" y="3741"/>
                </a:lnTo>
                <a:lnTo>
                  <a:pt x="12553" y="3786"/>
                </a:lnTo>
                <a:lnTo>
                  <a:pt x="12634" y="3831"/>
                </a:lnTo>
                <a:lnTo>
                  <a:pt x="12715" y="3875"/>
                </a:lnTo>
                <a:lnTo>
                  <a:pt x="12798" y="3918"/>
                </a:lnTo>
                <a:lnTo>
                  <a:pt x="12881" y="3961"/>
                </a:lnTo>
                <a:lnTo>
                  <a:pt x="12965" y="4003"/>
                </a:lnTo>
                <a:lnTo>
                  <a:pt x="13050" y="4044"/>
                </a:lnTo>
                <a:lnTo>
                  <a:pt x="13050" y="4149"/>
                </a:lnTo>
                <a:lnTo>
                  <a:pt x="12968" y="4188"/>
                </a:lnTo>
                <a:lnTo>
                  <a:pt x="12885" y="4227"/>
                </a:lnTo>
                <a:lnTo>
                  <a:pt x="12803" y="4267"/>
                </a:lnTo>
                <a:lnTo>
                  <a:pt x="12722" y="4309"/>
                </a:lnTo>
                <a:lnTo>
                  <a:pt x="12642" y="4350"/>
                </a:lnTo>
                <a:lnTo>
                  <a:pt x="12562" y="4393"/>
                </a:lnTo>
                <a:lnTo>
                  <a:pt x="12483" y="4437"/>
                </a:lnTo>
                <a:lnTo>
                  <a:pt x="12404" y="4480"/>
                </a:lnTo>
                <a:lnTo>
                  <a:pt x="12326" y="4525"/>
                </a:lnTo>
                <a:lnTo>
                  <a:pt x="12249" y="4570"/>
                </a:lnTo>
                <a:lnTo>
                  <a:pt x="12173" y="4616"/>
                </a:lnTo>
                <a:lnTo>
                  <a:pt x="12097" y="4663"/>
                </a:lnTo>
                <a:lnTo>
                  <a:pt x="12022" y="4711"/>
                </a:lnTo>
                <a:lnTo>
                  <a:pt x="11947" y="4759"/>
                </a:lnTo>
                <a:lnTo>
                  <a:pt x="11874" y="4808"/>
                </a:lnTo>
                <a:lnTo>
                  <a:pt x="11800" y="4858"/>
                </a:lnTo>
                <a:lnTo>
                  <a:pt x="11729" y="4909"/>
                </a:lnTo>
                <a:lnTo>
                  <a:pt x="11656" y="4960"/>
                </a:lnTo>
                <a:lnTo>
                  <a:pt x="11585" y="5012"/>
                </a:lnTo>
                <a:lnTo>
                  <a:pt x="11514" y="5064"/>
                </a:lnTo>
                <a:lnTo>
                  <a:pt x="11445" y="5118"/>
                </a:lnTo>
                <a:lnTo>
                  <a:pt x="11376" y="5172"/>
                </a:lnTo>
                <a:lnTo>
                  <a:pt x="11308" y="5227"/>
                </a:lnTo>
                <a:lnTo>
                  <a:pt x="11240" y="5283"/>
                </a:lnTo>
                <a:lnTo>
                  <a:pt x="11174" y="5339"/>
                </a:lnTo>
                <a:lnTo>
                  <a:pt x="11108" y="5396"/>
                </a:lnTo>
                <a:lnTo>
                  <a:pt x="11042" y="5454"/>
                </a:lnTo>
                <a:lnTo>
                  <a:pt x="10978" y="5512"/>
                </a:lnTo>
                <a:lnTo>
                  <a:pt x="10914" y="5572"/>
                </a:lnTo>
                <a:lnTo>
                  <a:pt x="10851" y="5632"/>
                </a:lnTo>
                <a:lnTo>
                  <a:pt x="10789" y="5693"/>
                </a:lnTo>
                <a:lnTo>
                  <a:pt x="10727" y="5754"/>
                </a:lnTo>
                <a:lnTo>
                  <a:pt x="10666" y="5816"/>
                </a:lnTo>
                <a:lnTo>
                  <a:pt x="10606" y="5879"/>
                </a:lnTo>
                <a:lnTo>
                  <a:pt x="10546" y="5942"/>
                </a:lnTo>
                <a:lnTo>
                  <a:pt x="10487" y="6007"/>
                </a:lnTo>
                <a:lnTo>
                  <a:pt x="10429" y="6072"/>
                </a:lnTo>
                <a:lnTo>
                  <a:pt x="10371" y="6139"/>
                </a:lnTo>
                <a:lnTo>
                  <a:pt x="10313" y="6206"/>
                </a:lnTo>
                <a:lnTo>
                  <a:pt x="10257" y="6275"/>
                </a:lnTo>
                <a:lnTo>
                  <a:pt x="10201" y="6343"/>
                </a:lnTo>
                <a:lnTo>
                  <a:pt x="10145" y="6413"/>
                </a:lnTo>
                <a:lnTo>
                  <a:pt x="10090" y="6483"/>
                </a:lnTo>
                <a:lnTo>
                  <a:pt x="10036" y="6555"/>
                </a:lnTo>
                <a:lnTo>
                  <a:pt x="9982" y="6627"/>
                </a:lnTo>
                <a:lnTo>
                  <a:pt x="9929" y="6700"/>
                </a:lnTo>
                <a:lnTo>
                  <a:pt x="9877" y="6774"/>
                </a:lnTo>
                <a:lnTo>
                  <a:pt x="9825" y="6848"/>
                </a:lnTo>
                <a:lnTo>
                  <a:pt x="9773" y="6924"/>
                </a:lnTo>
                <a:lnTo>
                  <a:pt x="9724" y="7000"/>
                </a:lnTo>
                <a:lnTo>
                  <a:pt x="9673" y="7077"/>
                </a:lnTo>
                <a:lnTo>
                  <a:pt x="9625" y="7156"/>
                </a:lnTo>
                <a:lnTo>
                  <a:pt x="9576" y="7234"/>
                </a:lnTo>
                <a:lnTo>
                  <a:pt x="9528" y="7313"/>
                </a:lnTo>
                <a:lnTo>
                  <a:pt x="9481" y="7394"/>
                </a:lnTo>
                <a:lnTo>
                  <a:pt x="9435" y="7476"/>
                </a:lnTo>
                <a:lnTo>
                  <a:pt x="9390" y="7558"/>
                </a:lnTo>
                <a:lnTo>
                  <a:pt x="9344" y="7640"/>
                </a:lnTo>
                <a:lnTo>
                  <a:pt x="9300" y="7724"/>
                </a:lnTo>
                <a:lnTo>
                  <a:pt x="9256" y="7809"/>
                </a:lnTo>
                <a:lnTo>
                  <a:pt x="9214" y="7894"/>
                </a:lnTo>
                <a:lnTo>
                  <a:pt x="9171" y="7980"/>
                </a:lnTo>
                <a:lnTo>
                  <a:pt x="9130" y="8066"/>
                </a:lnTo>
                <a:lnTo>
                  <a:pt x="9089" y="8154"/>
                </a:lnTo>
                <a:lnTo>
                  <a:pt x="8972" y="8154"/>
                </a:lnTo>
                <a:lnTo>
                  <a:pt x="8972" y="6471"/>
                </a:lnTo>
                <a:lnTo>
                  <a:pt x="6088" y="6471"/>
                </a:lnTo>
                <a:close/>
                <a:moveTo>
                  <a:pt x="4515" y="6471"/>
                </a:moveTo>
                <a:lnTo>
                  <a:pt x="4515" y="1683"/>
                </a:lnTo>
                <a:lnTo>
                  <a:pt x="5762" y="1683"/>
                </a:lnTo>
                <a:lnTo>
                  <a:pt x="5762" y="6471"/>
                </a:lnTo>
                <a:lnTo>
                  <a:pt x="4515" y="6471"/>
                </a:lnTo>
                <a:close/>
                <a:moveTo>
                  <a:pt x="2988" y="6471"/>
                </a:moveTo>
                <a:lnTo>
                  <a:pt x="2988" y="1683"/>
                </a:lnTo>
                <a:lnTo>
                  <a:pt x="3915" y="1683"/>
                </a:lnTo>
                <a:lnTo>
                  <a:pt x="3915" y="6471"/>
                </a:lnTo>
                <a:lnTo>
                  <a:pt x="2988" y="6471"/>
                </a:lnTo>
                <a:close/>
                <a:moveTo>
                  <a:pt x="1520" y="6471"/>
                </a:moveTo>
                <a:lnTo>
                  <a:pt x="1520" y="1683"/>
                </a:lnTo>
                <a:lnTo>
                  <a:pt x="2121" y="1683"/>
                </a:lnTo>
                <a:lnTo>
                  <a:pt x="2121" y="6471"/>
                </a:lnTo>
                <a:lnTo>
                  <a:pt x="1520" y="6471"/>
                </a:lnTo>
                <a:close/>
                <a:moveTo>
                  <a:pt x="0" y="6471"/>
                </a:moveTo>
                <a:lnTo>
                  <a:pt x="0" y="1683"/>
                </a:lnTo>
                <a:lnTo>
                  <a:pt x="437" y="1683"/>
                </a:lnTo>
                <a:lnTo>
                  <a:pt x="437" y="6471"/>
                </a:lnTo>
                <a:lnTo>
                  <a:pt x="0" y="6471"/>
                </a:lnTo>
                <a:close/>
              </a:path>
            </a:pathLst>
          </a:custGeom>
          <a:solidFill>
            <a:srgbClr val="1283c1"/>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0" name="矩形 5"/>
          <p:cNvSpPr/>
          <p:nvPr/>
        </p:nvSpPr>
        <p:spPr>
          <a:xfrm>
            <a:off x="2171880" y="455400"/>
            <a:ext cx="1887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2c77ca"/>
                </a:solidFill>
                <a:latin typeface="黑体"/>
                <a:ea typeface="黑体"/>
              </a:rPr>
              <a:t>前期工作总体概述</a:t>
            </a:r>
            <a:endParaRPr b="0" lang="en-US" sz="2800" spc="-1" strike="noStrike">
              <a:solidFill>
                <a:srgbClr val="000000"/>
              </a:solidFill>
              <a:latin typeface="Arial"/>
            </a:endParaRPr>
          </a:p>
        </p:txBody>
      </p:sp>
      <p:cxnSp>
        <p:nvCxnSpPr>
          <p:cNvPr id="251" name="直接连接符 6"/>
          <p:cNvCxnSpPr/>
          <p:nvPr/>
        </p:nvCxnSpPr>
        <p:spPr>
          <a:xfrm>
            <a:off x="0" y="1105200"/>
            <a:ext cx="11694240" cy="360"/>
          </a:xfrm>
          <a:prstGeom prst="straightConnector1">
            <a:avLst/>
          </a:prstGeom>
          <a:ln w="25400">
            <a:solidFill>
              <a:srgbClr val="2c77ca"/>
            </a:solidFill>
          </a:ln>
        </p:spPr>
      </p:cxnSp>
      <p:grpSp>
        <p:nvGrpSpPr>
          <p:cNvPr id="252" name="组合 29"/>
          <p:cNvGrpSpPr/>
          <p:nvPr/>
        </p:nvGrpSpPr>
        <p:grpSpPr>
          <a:xfrm>
            <a:off x="5846760" y="1817640"/>
            <a:ext cx="4704480" cy="4369320"/>
            <a:chOff x="5846760" y="1817640"/>
            <a:chExt cx="4704480" cy="4369320"/>
          </a:xfrm>
        </p:grpSpPr>
        <p:sp>
          <p:nvSpPr>
            <p:cNvPr id="253" name="MH_Other_1"/>
            <p:cNvSpPr/>
            <p:nvPr/>
          </p:nvSpPr>
          <p:spPr>
            <a:xfrm flipH="1" rot="5400000">
              <a:off x="6161040" y="4907160"/>
              <a:ext cx="692640" cy="1322280"/>
            </a:xfrm>
            <a:prstGeom prst="rect">
              <a:avLst/>
            </a:prstGeom>
            <a:solidFill>
              <a:srgbClr val="34aed0">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MH_Other_2"/>
            <p:cNvSpPr/>
            <p:nvPr/>
          </p:nvSpPr>
          <p:spPr>
            <a:xfrm flipH="1" rot="5400000">
              <a:off x="8065440" y="5007600"/>
              <a:ext cx="692640" cy="1666080"/>
            </a:xfrm>
            <a:prstGeom prst="rect">
              <a:avLst/>
            </a:prstGeom>
            <a:solidFill>
              <a:srgbClr val="34aed0">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MH_Other_3"/>
            <p:cNvSpPr/>
            <p:nvPr/>
          </p:nvSpPr>
          <p:spPr>
            <a:xfrm flipH="1" flipV="1" rot="5400000">
              <a:off x="6891120" y="5499720"/>
              <a:ext cx="964800" cy="408600"/>
            </a:xfrm>
            <a:prstGeom prst="parallelogram">
              <a:avLst>
                <a:gd name="adj" fmla="val 69097"/>
              </a:avLst>
            </a:prstGeom>
            <a:solidFill>
              <a:srgbClr val="34ae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MH_Other_4"/>
            <p:cNvSpPr/>
            <p:nvPr/>
          </p:nvSpPr>
          <p:spPr>
            <a:xfrm flipH="1" rot="5400000">
              <a:off x="6161040" y="4057200"/>
              <a:ext cx="692640" cy="132228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MH_Other_5"/>
            <p:cNvSpPr/>
            <p:nvPr/>
          </p:nvSpPr>
          <p:spPr>
            <a:xfrm flipH="1" rot="5400000">
              <a:off x="7727760" y="4494240"/>
              <a:ext cx="692640" cy="9925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MH_Other_6"/>
            <p:cNvSpPr/>
            <p:nvPr/>
          </p:nvSpPr>
          <p:spPr>
            <a:xfrm flipH="1" flipV="1" rot="5400000">
              <a:off x="6891120" y="4649760"/>
              <a:ext cx="964800" cy="408600"/>
            </a:xfrm>
            <a:prstGeom prst="parallelogram">
              <a:avLst>
                <a:gd name="adj" fmla="val 69097"/>
              </a:avLst>
            </a:prstGeom>
            <a:solidFill>
              <a:schemeClr val="accent4">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9" name="MH_Other_7"/>
            <p:cNvSpPr/>
            <p:nvPr/>
          </p:nvSpPr>
          <p:spPr>
            <a:xfrm flipH="1" rot="5400000">
              <a:off x="6161040" y="3205080"/>
              <a:ext cx="692640" cy="132228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0" name="MH_Other_8"/>
            <p:cNvSpPr/>
            <p:nvPr/>
          </p:nvSpPr>
          <p:spPr>
            <a:xfrm flipH="1" rot="5400000">
              <a:off x="8148960" y="3220920"/>
              <a:ext cx="692640" cy="18349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MH_Other_9"/>
            <p:cNvSpPr/>
            <p:nvPr/>
          </p:nvSpPr>
          <p:spPr>
            <a:xfrm flipH="1" flipV="1" rot="5400000">
              <a:off x="6891120" y="3797640"/>
              <a:ext cx="964800" cy="408600"/>
            </a:xfrm>
            <a:prstGeom prst="parallelogram">
              <a:avLst>
                <a:gd name="adj" fmla="val 69097"/>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0000"/>
                </a:solidFill>
                <a:latin typeface="Calibri"/>
              </a:endParaRPr>
            </a:p>
          </p:txBody>
        </p:sp>
        <p:sp>
          <p:nvSpPr>
            <p:cNvPr id="262" name="MH_Other_10"/>
            <p:cNvSpPr/>
            <p:nvPr/>
          </p:nvSpPr>
          <p:spPr>
            <a:xfrm flipH="1" rot="5400000">
              <a:off x="6161040" y="2351160"/>
              <a:ext cx="692640" cy="1322280"/>
            </a:xfrm>
            <a:prstGeom prst="rect">
              <a:avLst/>
            </a:prstGeom>
            <a:solidFill>
              <a:srgbClr val="869b2b">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MH_Other_11"/>
            <p:cNvSpPr/>
            <p:nvPr/>
          </p:nvSpPr>
          <p:spPr>
            <a:xfrm flipH="1" rot="5400000">
              <a:off x="7914240" y="2606400"/>
              <a:ext cx="690840" cy="1362240"/>
            </a:xfrm>
            <a:prstGeom prst="rect">
              <a:avLst/>
            </a:prstGeom>
            <a:solidFill>
              <a:srgbClr val="869b2b">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MH_Other_12"/>
            <p:cNvSpPr/>
            <p:nvPr/>
          </p:nvSpPr>
          <p:spPr>
            <a:xfrm flipH="1" flipV="1" rot="5400000">
              <a:off x="6892200" y="2946240"/>
              <a:ext cx="963000" cy="408600"/>
            </a:xfrm>
            <a:prstGeom prst="parallelogram">
              <a:avLst>
                <a:gd name="adj" fmla="val 69097"/>
              </a:avLst>
            </a:prstGeom>
            <a:solidFill>
              <a:srgbClr val="869b2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MH_Other_13"/>
            <p:cNvSpPr/>
            <p:nvPr/>
          </p:nvSpPr>
          <p:spPr>
            <a:xfrm flipH="1" rot="5400000">
              <a:off x="6161040" y="1503360"/>
              <a:ext cx="692640" cy="132228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MH_Other_14"/>
            <p:cNvSpPr/>
            <p:nvPr/>
          </p:nvSpPr>
          <p:spPr>
            <a:xfrm flipH="1" rot="5400000">
              <a:off x="8360280" y="1308240"/>
              <a:ext cx="692640" cy="2255760"/>
            </a:xfrm>
            <a:prstGeom prst="rect">
              <a:avLst/>
            </a:prstGeom>
            <a:solidFill>
              <a:srgbClr val="128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MH_Other_15"/>
            <p:cNvSpPr/>
            <p:nvPr/>
          </p:nvSpPr>
          <p:spPr>
            <a:xfrm flipH="1" flipV="1" rot="5400000">
              <a:off x="6891120" y="2095560"/>
              <a:ext cx="964800" cy="408600"/>
            </a:xfrm>
            <a:prstGeom prst="parallelogram">
              <a:avLst>
                <a:gd name="adj" fmla="val 69097"/>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8" name="MH_Text_1"/>
            <p:cNvSpPr/>
            <p:nvPr/>
          </p:nvSpPr>
          <p:spPr>
            <a:xfrm>
              <a:off x="9899280" y="2224800"/>
              <a:ext cx="651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8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69" name="MH_Text_2"/>
            <p:cNvSpPr/>
            <p:nvPr/>
          </p:nvSpPr>
          <p:spPr>
            <a:xfrm>
              <a:off x="8877600" y="3076920"/>
              <a:ext cx="651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5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70" name="MH_Text_3"/>
            <p:cNvSpPr/>
            <p:nvPr/>
          </p:nvSpPr>
          <p:spPr>
            <a:xfrm>
              <a:off x="9319680" y="3927960"/>
              <a:ext cx="651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7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71" name="MH_Text_4"/>
            <p:cNvSpPr/>
            <p:nvPr/>
          </p:nvSpPr>
          <p:spPr>
            <a:xfrm>
              <a:off x="8608320" y="4741200"/>
              <a:ext cx="651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4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72" name="MH_Text_5"/>
            <p:cNvSpPr/>
            <p:nvPr/>
          </p:nvSpPr>
          <p:spPr>
            <a:xfrm>
              <a:off x="9249840" y="5610960"/>
              <a:ext cx="651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60</a:t>
              </a:r>
              <a:r>
                <a:rPr b="0" lang="en-US" sz="1800" spc="-1" strike="noStrike">
                  <a:solidFill>
                    <a:srgbClr val="000000"/>
                  </a:solidFill>
                  <a:latin typeface="Calibri"/>
                </a:rPr>
                <a:t>%</a:t>
              </a:r>
              <a:endParaRPr b="0" lang="en-US" sz="1800" spc="-1" strike="noStrike">
                <a:solidFill>
                  <a:srgbClr val="000000"/>
                </a:solidFill>
                <a:latin typeface="Arial"/>
              </a:endParaRPr>
            </a:p>
          </p:txBody>
        </p:sp>
      </p:grpSp>
      <p:sp>
        <p:nvSpPr>
          <p:cNvPr id="273" name="MH_Desc_1"/>
          <p:cNvSpPr/>
          <p:nvPr/>
        </p:nvSpPr>
        <p:spPr>
          <a:xfrm>
            <a:off x="1587600" y="2121840"/>
            <a:ext cx="3323520" cy="3860640"/>
          </a:xfrm>
          <a:prstGeom prst="rect">
            <a:avLst/>
          </a:prstGeom>
          <a:noFill/>
          <a:ln w="0">
            <a:noFill/>
          </a:ln>
        </p:spPr>
        <p:style>
          <a:lnRef idx="0"/>
          <a:fillRef idx="0"/>
          <a:effectRef idx="0"/>
          <a:fontRef idx="minor"/>
        </p:style>
        <p:txBody>
          <a:bodyPr lIns="90000" rIns="90000" tIns="45000" bIns="45000" anchor="t">
            <a:normAutofit/>
          </a:bodyPr>
          <a:p>
            <a:pPr algn="just">
              <a:lnSpc>
                <a:spcPct val="150000"/>
              </a:lnSpc>
              <a:spcBef>
                <a:spcPts val="601"/>
              </a:spcBef>
              <a:spcAft>
                <a:spcPts val="601"/>
              </a:spcAft>
            </a:pPr>
            <a:r>
              <a:rPr b="0" lang="zh-CN" sz="1800" spc="-1" strike="noStrike">
                <a:solidFill>
                  <a:srgbClr val="000000"/>
                </a:solidFill>
                <a:latin typeface="微软雅黑"/>
                <a:ea typeface="微软雅黑"/>
              </a:rPr>
              <a:t>请在此处输入您的文本或者复制您的文本粘贴到此处</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请在此处输入您的文本或者复制您的文本粘贴到此处。</a:t>
            </a:r>
            <a:endParaRPr b="0" lang="en-US" sz="1800" spc="-1" strike="noStrike">
              <a:solidFill>
                <a:srgbClr val="000000"/>
              </a:solidFill>
              <a:latin typeface="Arial"/>
            </a:endParaRPr>
          </a:p>
          <a:p>
            <a:pPr algn="just">
              <a:lnSpc>
                <a:spcPct val="150000"/>
              </a:lnSpc>
              <a:spcBef>
                <a:spcPts val="601"/>
              </a:spcBef>
              <a:spcAft>
                <a:spcPts val="601"/>
              </a:spcAft>
            </a:pPr>
            <a:r>
              <a:rPr b="0" lang="zh-CN" sz="1800" spc="-1" strike="noStrike">
                <a:solidFill>
                  <a:srgbClr val="000000"/>
                </a:solidFill>
                <a:latin typeface="微软雅黑"/>
                <a:ea typeface="微软雅黑"/>
              </a:rPr>
              <a:t>请在此处输入您的文本或者复制您的文本粘贴到此处</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请在此处输入您的文本或者复制您的文本粘贴到此处。</a:t>
            </a:r>
            <a:endParaRPr b="0" lang="en-US" sz="1800" spc="-1" strike="noStrike">
              <a:solidFill>
                <a:srgbClr val="000000"/>
              </a:solidFill>
              <a:latin typeface="Arial"/>
            </a:endParaRPr>
          </a:p>
          <a:p>
            <a:pPr algn="just">
              <a:lnSpc>
                <a:spcPct val="150000"/>
              </a:lnSpc>
              <a:spcBef>
                <a:spcPts val="601"/>
              </a:spcBef>
              <a:spcAft>
                <a:spcPts val="601"/>
              </a:spcAft>
            </a:pPr>
            <a:endParaRPr b="0" lang="en-US" sz="1800" spc="-1" strike="noStrike">
              <a:solidFill>
                <a:srgbClr val="000000"/>
              </a:solidFill>
              <a:latin typeface="Arial"/>
            </a:endParaRPr>
          </a:p>
        </p:txBody>
      </p:sp>
      <p:cxnSp>
        <p:nvCxnSpPr>
          <p:cNvPr id="274" name="MH_Other_16"/>
          <p:cNvCxnSpPr/>
          <p:nvPr/>
        </p:nvCxnSpPr>
        <p:spPr>
          <a:xfrm>
            <a:off x="5344920" y="1819800"/>
            <a:ext cx="360" cy="4274280"/>
          </a:xfrm>
          <a:prstGeom prst="straightConnector1">
            <a:avLst/>
          </a:prstGeom>
          <a:ln w="50800">
            <a:solidFill>
              <a:srgbClr val="34aed0"/>
            </a:solidFill>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Words>1310</Words>
  <Paragraphs>2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7T08:15:08Z</dcterms:created>
  <dc:creator>qipeng yu</dc:creator>
  <dc:description/>
  <dc:language>en-US</dc:language>
  <cp:lastModifiedBy>王玉清</cp:lastModifiedBy>
  <dcterms:modified xsi:type="dcterms:W3CDTF">2016-03-07T02:51:16Z</dcterms:modified>
  <cp:revision>2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宽屏</vt:lpwstr>
  </property>
  <property fmtid="{D5CDD505-2E9C-101B-9397-08002B2CF9AE}" pid="4" name="Slides">
    <vt:r8>21</vt:r8>
  </property>
</Properties>
</file>