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45D-6CFF-4144-B36A-5BCE3E11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56B-0A22-4368-BB4D-CFCCEBBC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8FA-2A26-4CEB-BD8A-061653DA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623-6229-42EB-B042-FADC62D9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AEB-B529-4E06-86D5-0A25B763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95B-FAD5-4D57-948D-9D548A8C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654-530C-416E-BEBE-36FD172B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386-D9B0-4643-8E02-707E1EBB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789-C4F4-47B1-B327-2C48726F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C38-87D7-4562-A860-29E04B6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F23-3E05-465B-9A23-9CAE1B4D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793-7787-4690-BE7C-DF240D57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F1FD-1F12-4B8F-B745-F26B49369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380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环环相扣商务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2809800"/>
            <a:ext cx="6400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7:36:04Z</dcterms:created>
  <dc:creator>ppt宝藏</dc:creator>
  <dc:description/>
  <dc:language>en-US</dc:language>
  <cp:lastModifiedBy>a</cp:lastModifiedBy>
  <dcterms:modified xsi:type="dcterms:W3CDTF">2015-07-25T06:58:37Z</dcterms:modified>
  <cp:revision>4</cp:revision>
  <dc:subject/>
  <dc:title>www.pptbz.com</dc:title>
</cp:coreProperties>
</file>