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40B-4497-464D-B0CC-F0EFB085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B52-0FF0-44B9-BE34-683E645C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0592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C71-6D14-4749-89F4-57F840A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6088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6456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6088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6456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D25-079D-417C-AF42-039A6812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25E5-8E39-4355-8F66-BDA7C58E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A6B1-912D-414D-8DC0-0DA8D07E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6F94-5675-4806-9985-073F03B3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2410-D170-40DF-8492-9F7AE5E3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6E21-0725-4723-A7A4-5DE8DDEC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333360"/>
            <a:ext cx="69231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5DF3-E0ED-4DD4-8F8E-12CD8E60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A583-7705-4F88-9725-052162C4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7CF-00A2-4F00-96E8-E44B12F1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0592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8DEE-62ED-446C-8A4C-57136452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08DC-9E6E-4E24-A737-A49FC5AD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7986-2330-4CEF-8D4E-E7F4FFA6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0592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EDE6-906E-4AF9-91A0-9D1BF24A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088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64560" y="137160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088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64560" y="3958560"/>
            <a:ext cx="26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2C83-4E6B-44C8-91A2-EDDC96BD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8C5-6192-484D-B46A-10D7D49A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E71-0B6B-4136-8251-381C43F4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F0B-860E-478B-8760-9D2B1CD1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6840" y="333360"/>
            <a:ext cx="692316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918-7606-4067-B028-6751A5C1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E3B-4641-407C-B3F9-D17A4CF7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05920" y="395856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83A-5990-4763-B6ED-0EF3F89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05920" y="1371600"/>
            <a:ext cx="4046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13D-B4DD-462A-BF05-130ECD3A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48"/>
          <p:cNvSpPr/>
          <p:nvPr/>
        </p:nvSpPr>
        <p:spPr>
          <a:xfrm>
            <a:off x="419040" y="0"/>
            <a:ext cx="76320" cy="380880"/>
          </a:xfrm>
          <a:prstGeom prst="rect">
            <a:avLst/>
          </a:prstGeom>
          <a:solidFill>
            <a:srgbClr val="ffb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9"/>
          <p:cNvSpPr/>
          <p:nvPr/>
        </p:nvSpPr>
        <p:spPr>
          <a:xfrm>
            <a:off x="952560" y="0"/>
            <a:ext cx="7632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0"/>
          <p:cNvSpPr/>
          <p:nvPr/>
        </p:nvSpPr>
        <p:spPr>
          <a:xfrm>
            <a:off x="1486080" y="0"/>
            <a:ext cx="75960" cy="380880"/>
          </a:xfrm>
          <a:prstGeom prst="rect">
            <a:avLst/>
          </a:prstGeom>
          <a:solidFill>
            <a:srgbClr val="467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51"/>
          <p:cNvSpPr/>
          <p:nvPr/>
        </p:nvSpPr>
        <p:spPr>
          <a:xfrm>
            <a:off x="0" y="108576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52"/>
          <p:cNvSpPr/>
          <p:nvPr/>
        </p:nvSpPr>
        <p:spPr>
          <a:xfrm>
            <a:off x="0" y="338040"/>
            <a:ext cx="9144000" cy="736560"/>
          </a:xfrm>
          <a:prstGeom prst="rect">
            <a:avLst/>
          </a:prstGeom>
          <a:gradFill rotWithShape="0">
            <a:gsLst>
              <a:gs pos="0">
                <a:srgbClr val="4678ba"/>
              </a:gs>
              <a:gs pos="100000">
                <a:srgbClr val="375f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53"/>
          <p:cNvGrpSpPr/>
          <p:nvPr/>
        </p:nvGrpSpPr>
        <p:grpSpPr>
          <a:xfrm>
            <a:off x="139680" y="343080"/>
            <a:ext cx="1295280" cy="685800"/>
            <a:chOff x="139680" y="343080"/>
            <a:chExt cx="1295280" cy="685800"/>
          </a:xfrm>
        </p:grpSpPr>
        <p:sp>
          <p:nvSpPr>
            <p:cNvPr id="7" name="Oval 54"/>
            <p:cNvSpPr/>
            <p:nvPr/>
          </p:nvSpPr>
          <p:spPr>
            <a:xfrm>
              <a:off x="139680" y="343080"/>
              <a:ext cx="1295280" cy="6858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55"/>
            <p:cNvSpPr/>
            <p:nvPr/>
          </p:nvSpPr>
          <p:spPr>
            <a:xfrm>
              <a:off x="339840" y="420480"/>
              <a:ext cx="845640" cy="5061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56"/>
            <p:cNvSpPr/>
            <p:nvPr/>
          </p:nvSpPr>
          <p:spPr>
            <a:xfrm>
              <a:off x="496440" y="528480"/>
              <a:ext cx="498240" cy="2887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Group 57"/>
          <p:cNvGrpSpPr/>
          <p:nvPr/>
        </p:nvGrpSpPr>
        <p:grpSpPr>
          <a:xfrm>
            <a:off x="0" y="914040"/>
            <a:ext cx="9144000" cy="219600"/>
            <a:chOff x="0" y="914040"/>
            <a:chExt cx="9144000" cy="219600"/>
          </a:xfrm>
        </p:grpSpPr>
        <p:sp>
          <p:nvSpPr>
            <p:cNvPr id="11" name="Rectangle 58"/>
            <p:cNvSpPr/>
            <p:nvPr/>
          </p:nvSpPr>
          <p:spPr>
            <a:xfrm flipH="1" flipV="1">
              <a:off x="0" y="1057320"/>
              <a:ext cx="9144000" cy="76320"/>
            </a:xfrm>
            <a:prstGeom prst="rect">
              <a:avLst/>
            </a:prstGeom>
            <a:solidFill>
              <a:srgbClr val="ffb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 flipH="1" flipV="1">
              <a:off x="7391520" y="913680"/>
              <a:ext cx="1752480" cy="152280"/>
            </a:xfrm>
            <a:prstGeom prst="rect">
              <a:avLst/>
            </a:prstGeom>
            <a:solidFill>
              <a:srgbClr val="ffb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60"/>
            <p:cNvSpPr/>
            <p:nvPr/>
          </p:nvSpPr>
          <p:spPr>
            <a:xfrm flipH="1" flipV="1">
              <a:off x="7238880" y="913680"/>
              <a:ext cx="152640" cy="1522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b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Line 61"/>
          <p:cNvSpPr/>
          <p:nvPr/>
        </p:nvSpPr>
        <p:spPr>
          <a:xfrm>
            <a:off x="11160" y="105084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Line 62"/>
          <p:cNvSpPr/>
          <p:nvPr/>
        </p:nvSpPr>
        <p:spPr>
          <a:xfrm>
            <a:off x="7391520" y="914400"/>
            <a:ext cx="174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Rectangle 63"/>
          <p:cNvSpPr/>
          <p:nvPr/>
        </p:nvSpPr>
        <p:spPr>
          <a:xfrm>
            <a:off x="7238880" y="3816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제목돋움체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3ce4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3ce4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7380000" y="907560"/>
            <a:ext cx="176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  <a:ea typeface="굴림"/>
              </a:rPr>
              <a:t>www.themegallery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C76F-AC6A-4EA2-A439-4A5583F2E678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1"/>
          <p:cNvSpPr/>
          <p:nvPr/>
        </p:nvSpPr>
        <p:spPr>
          <a:xfrm>
            <a:off x="1905120" y="0"/>
            <a:ext cx="7238880" cy="1447920"/>
          </a:xfrm>
          <a:prstGeom prst="rect">
            <a:avLst/>
          </a:prstGeom>
          <a:gradFill rotWithShape="0">
            <a:gsLst>
              <a:gs pos="0">
                <a:srgbClr val="4678ba"/>
              </a:gs>
              <a:gs pos="100000">
                <a:srgbClr val="33578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33"/>
          <p:cNvGrpSpPr/>
          <p:nvPr/>
        </p:nvGrpSpPr>
        <p:grpSpPr>
          <a:xfrm>
            <a:off x="7391520" y="0"/>
            <a:ext cx="1143000" cy="304920"/>
            <a:chOff x="7391520" y="0"/>
            <a:chExt cx="1143000" cy="304920"/>
          </a:xfrm>
        </p:grpSpPr>
        <p:sp>
          <p:nvSpPr>
            <p:cNvPr id="61" name="Rectangle 34"/>
            <p:cNvSpPr/>
            <p:nvPr/>
          </p:nvSpPr>
          <p:spPr>
            <a:xfrm>
              <a:off x="7391520" y="0"/>
              <a:ext cx="76320" cy="304920"/>
            </a:xfrm>
            <a:prstGeom prst="rect">
              <a:avLst/>
            </a:prstGeom>
            <a:solidFill>
              <a:srgbClr val="ffb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5"/>
            <p:cNvSpPr/>
            <p:nvPr/>
          </p:nvSpPr>
          <p:spPr>
            <a:xfrm>
              <a:off x="7925040" y="0"/>
              <a:ext cx="76320" cy="30492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36"/>
            <p:cNvSpPr/>
            <p:nvPr/>
          </p:nvSpPr>
          <p:spPr>
            <a:xfrm>
              <a:off x="8458560" y="0"/>
              <a:ext cx="75960" cy="304920"/>
            </a:xfrm>
            <a:prstGeom prst="rect">
              <a:avLst/>
            </a:prstGeom>
            <a:solidFill>
              <a:srgbClr val="467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Rectangle 37"/>
          <p:cNvSpPr/>
          <p:nvPr/>
        </p:nvSpPr>
        <p:spPr>
          <a:xfrm>
            <a:off x="-9360" y="152280"/>
            <a:ext cx="2209680" cy="1067040"/>
          </a:xfrm>
          <a:prstGeom prst="rect">
            <a:avLst/>
          </a:prstGeom>
          <a:solidFill>
            <a:srgbClr val="467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152280" y="0"/>
            <a:ext cx="1981440" cy="1447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39"/>
          <p:cNvSpPr/>
          <p:nvPr/>
        </p:nvSpPr>
        <p:spPr>
          <a:xfrm>
            <a:off x="457200" y="165240"/>
            <a:ext cx="1295280" cy="1066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698400" y="393840"/>
            <a:ext cx="76212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0" y="1371600"/>
            <a:ext cx="914400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0" y="1219320"/>
            <a:ext cx="9144000" cy="228600"/>
          </a:xfrm>
          <a:prstGeom prst="rect">
            <a:avLst/>
          </a:prstGeom>
          <a:solidFill>
            <a:srgbClr val="ffb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3124080" y="2133720"/>
            <a:ext cx="1981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0" y="0"/>
            <a:ext cx="2209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2057400" y="6629400"/>
            <a:ext cx="7086600" cy="228600"/>
          </a:xfrm>
          <a:prstGeom prst="rect">
            <a:avLst/>
          </a:prstGeom>
          <a:gradFill rotWithShape="0">
            <a:gsLst>
              <a:gs pos="0">
                <a:srgbClr val="4678ba"/>
              </a:gs>
              <a:gs pos="100000">
                <a:srgbClr val="31548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6"/>
          <p:cNvGrpSpPr/>
          <p:nvPr/>
        </p:nvGrpSpPr>
        <p:grpSpPr>
          <a:xfrm>
            <a:off x="0" y="6629400"/>
            <a:ext cx="2590560" cy="228600"/>
            <a:chOff x="0" y="6629400"/>
            <a:chExt cx="2590560" cy="228600"/>
          </a:xfrm>
        </p:grpSpPr>
        <p:sp>
          <p:nvSpPr>
            <p:cNvPr id="74" name="Rectangle 47"/>
            <p:cNvSpPr/>
            <p:nvPr/>
          </p:nvSpPr>
          <p:spPr>
            <a:xfrm>
              <a:off x="0" y="6629400"/>
              <a:ext cx="2382480" cy="228600"/>
            </a:xfrm>
            <a:prstGeom prst="rect">
              <a:avLst/>
            </a:prstGeom>
            <a:solidFill>
              <a:srgbClr val="93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48"/>
            <p:cNvSpPr/>
            <p:nvPr/>
          </p:nvSpPr>
          <p:spPr>
            <a:xfrm>
              <a:off x="2382480" y="6629400"/>
              <a:ext cx="208080" cy="2286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3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Rectangle 49"/>
          <p:cNvSpPr/>
          <p:nvPr/>
        </p:nvSpPr>
        <p:spPr>
          <a:xfrm>
            <a:off x="380880" y="304920"/>
            <a:ext cx="152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제목돋움체"/>
              </a:rPr>
              <a:t>Compan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제목돋움체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제목돋움체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3ce4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3ce4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0" y="6597360"/>
            <a:ext cx="241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F476-83D4-4316-AF08-06F593B9EA7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2360" y="2852640"/>
            <a:ext cx="81532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黄兰色背景商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7636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3ce4c"/>
              </a:solidFill>
              <a:latin typeface="Arial"/>
              <a:ea typeface="宋体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385560" y="5694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Click to add tit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678b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69231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Click to add tit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6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ce4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3906720" y="1341360"/>
          <a:ext cx="46548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720" y="1341360"/>
                    <a:ext cx="46548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41:10Z</dcterms:created>
  <dc:creator>ppt宝藏</dc:creator>
  <dc:description/>
  <dc:language>en-US</dc:language>
  <cp:lastModifiedBy>a</cp:lastModifiedBy>
  <dcterms:modified xsi:type="dcterms:W3CDTF">2015-07-25T12:41:05Z</dcterms:modified>
  <cp:revision>3</cp:revision>
  <dc:subject/>
  <dc:title>www.pptbz.com</dc:title>
</cp:coreProperties>
</file>