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777777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b2b2b2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46442120"/>
        <c:axId val="32721563"/>
      </c:barChart>
      <c:catAx>
        <c:axId val="4644212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32721563"/>
        <c:crosses val="autoZero"/>
        <c:auto val="1"/>
        <c:lblAlgn val="ctr"/>
        <c:lblOffset val="100"/>
        <c:noMultiLvlLbl val="0"/>
      </c:catAx>
      <c:valAx>
        <c:axId val="32721563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46442120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777777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b2b2b2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31809551"/>
        <c:axId val="16673045"/>
      </c:barChart>
      <c:catAx>
        <c:axId val="3180955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16673045"/>
        <c:crosses val="autoZero"/>
        <c:auto val="1"/>
        <c:lblAlgn val="ctr"/>
        <c:lblOffset val="100"/>
        <c:noMultiLvlLbl val="0"/>
      </c:catAx>
      <c:valAx>
        <c:axId val="16673045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31809551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7"/>
        </c:manualLayout>
      </c:layout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52607865"/>
        <c:axId val="21940426"/>
      </c:lineChart>
      <c:catAx>
        <c:axId val="5260786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21940426"/>
        <c:crosses val="autoZero"/>
        <c:auto val="1"/>
        <c:lblAlgn val="ctr"/>
        <c:lblOffset val="100"/>
        <c:noMultiLvlLbl val="0"/>
      </c:catAx>
      <c:valAx>
        <c:axId val="21940426"/>
        <c:scaling>
          <c:orientation val="minMax"/>
        </c:scaling>
        <c:delete val="0"/>
        <c:axPos val="l"/>
        <c:majorGridlines>
          <c:spPr>
            <a:ln w="9360">
              <a:solidFill>
                <a:srgbClr val="5f5f5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52607865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78005005754791"/>
          <c:h val="0.0930768623861897"/>
        </c:manualLayout>
      </c:layout>
      <c:overlay val="0"/>
      <c:spPr>
        <a:noFill/>
        <a:ln w="0">
          <a:solidFill>
            <a:srgbClr val="5f5f5f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777777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b2b2b2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85111831"/>
        <c:axId val="52384063"/>
      </c:barChart>
      <c:catAx>
        <c:axId val="8511183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52384063"/>
        <c:crosses val="autoZero"/>
        <c:auto val="1"/>
        <c:lblAlgn val="ctr"/>
        <c:lblOffset val="100"/>
        <c:noMultiLvlLbl val="0"/>
      </c:catAx>
      <c:valAx>
        <c:axId val="52384063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85111831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4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6239680-3CB0-4DF4-8F4D-801C589137CD}">
      <dsp:nvSpPr>
        <dsp:cNvPr id="0" name=""/>
        <dsp:cNvSpPr/>
      </dsp:nvSpPr>
      <dsp:spPr>
        <a:xfrm rot="5400000">
          <a:off x="4682714" y="-2303224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103778"/>
        <a:ext cx="5317402" cy="532188"/>
      </dsp:txXfrm>
    </dsp:sp>
    <dsp:sp modelId="{2381FA19-2733-48ED-ABAA-7EDFAF30A094}">
      <dsp:nvSpPr>
        <dsp:cNvPr id="0" name=""/>
        <dsp:cNvSpPr/>
      </dsp:nvSpPr>
      <dsp:spPr>
        <a:xfrm>
          <a:off x="702730" y="1266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1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7254"/>
        <a:ext cx="1529796" cy="665234"/>
      </dsp:txXfrm>
    </dsp:sp>
    <dsp:sp modelId="{A0313DD0-A4E1-4D7E-AE20-031718C5CEC6}">
      <dsp:nvSpPr>
        <dsp:cNvPr id="0" name=""/>
        <dsp:cNvSpPr/>
      </dsp:nvSpPr>
      <dsp:spPr>
        <a:xfrm rot="5400000">
          <a:off x="4682714" y="-1529153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877849"/>
        <a:ext cx="5317402" cy="532188"/>
      </dsp:txXfrm>
    </dsp:sp>
    <dsp:sp modelId="{4CE170C5-6DE4-49AE-85C4-BB9332B44101}">
      <dsp:nvSpPr>
        <dsp:cNvPr id="0" name=""/>
        <dsp:cNvSpPr/>
      </dsp:nvSpPr>
      <dsp:spPr>
        <a:xfrm>
          <a:off x="702730" y="775337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2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811325"/>
        <a:ext cx="1529796" cy="665234"/>
      </dsp:txXfrm>
    </dsp:sp>
    <dsp:sp modelId="{3DAE57B0-4386-42CD-B7BF-2EB7D32E6BF2}">
      <dsp:nvSpPr>
        <dsp:cNvPr id="0" name=""/>
        <dsp:cNvSpPr/>
      </dsp:nvSpPr>
      <dsp:spPr>
        <a:xfrm rot="5400000">
          <a:off x="4682714" y="-755081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1651921"/>
        <a:ext cx="5317402" cy="532188"/>
      </dsp:txXfrm>
    </dsp:sp>
    <dsp:sp modelId="{E8A2056D-40E3-46C3-8DEB-F711CFFDABE5}">
      <dsp:nvSpPr>
        <dsp:cNvPr id="0" name=""/>
        <dsp:cNvSpPr/>
      </dsp:nvSpPr>
      <dsp:spPr>
        <a:xfrm>
          <a:off x="702730" y="1549408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3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1585396"/>
        <a:ext cx="1529796" cy="665234"/>
      </dsp:txXfrm>
    </dsp:sp>
    <dsp:sp modelId="{FFAD5F7D-A880-40A0-AE9E-17C80DAA362D}">
      <dsp:nvSpPr>
        <dsp:cNvPr id="0" name=""/>
        <dsp:cNvSpPr/>
      </dsp:nvSpPr>
      <dsp:spPr>
        <a:xfrm rot="5400000">
          <a:off x="4682714" y="18989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2425991"/>
        <a:ext cx="5317402" cy="532188"/>
      </dsp:txXfrm>
    </dsp:sp>
    <dsp:sp modelId="{5E94653F-6E3A-466B-866E-C0149A07CA40}">
      <dsp:nvSpPr>
        <dsp:cNvPr id="0" name=""/>
        <dsp:cNvSpPr/>
      </dsp:nvSpPr>
      <dsp:spPr>
        <a:xfrm>
          <a:off x="702730" y="2323480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4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2359468"/>
        <a:ext cx="1529796" cy="665234"/>
      </dsp:txXfrm>
    </dsp:sp>
    <dsp:sp modelId="{4A256C4D-C145-46CA-A9D9-95A8600A7020}">
      <dsp:nvSpPr>
        <dsp:cNvPr id="0" name=""/>
        <dsp:cNvSpPr/>
      </dsp:nvSpPr>
      <dsp:spPr>
        <a:xfrm rot="5400000">
          <a:off x="4682714" y="793061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3200063"/>
        <a:ext cx="5317402" cy="532188"/>
      </dsp:txXfrm>
    </dsp:sp>
    <dsp:sp modelId="{39A22D0B-8CB7-4C90-A0BE-B94049266003}">
      <dsp:nvSpPr>
        <dsp:cNvPr id="0" name=""/>
        <dsp:cNvSpPr/>
      </dsp:nvSpPr>
      <dsp:spPr>
        <a:xfrm>
          <a:off x="702730" y="3097551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5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133539"/>
        <a:ext cx="1529796" cy="665234"/>
      </dsp:txXfrm>
    </dsp:sp>
    <dsp:sp modelId="{E845FE83-ED04-40F4-B057-95E666072AD5}">
      <dsp:nvSpPr>
        <dsp:cNvPr id="0" name=""/>
        <dsp:cNvSpPr/>
      </dsp:nvSpPr>
      <dsp:spPr>
        <a:xfrm rot="5400000">
          <a:off x="4682714" y="1567132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3974134"/>
        <a:ext cx="5317402" cy="532188"/>
      </dsp:txXfrm>
    </dsp:sp>
    <dsp:sp modelId="{F889E688-BCE4-4A0E-8C7D-7E9E48AB2095}">
      <dsp:nvSpPr>
        <dsp:cNvPr id="0" name=""/>
        <dsp:cNvSpPr/>
      </dsp:nvSpPr>
      <dsp:spPr>
        <a:xfrm>
          <a:off x="702730" y="3871622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6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907610"/>
        <a:ext cx="1529796" cy="665234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A56968A-E0A1-4472-A81F-33AF83D89196}">
      <dsp:nvSpPr>
        <dsp:cNvPr id="0" name=""/>
        <dsp:cNvSpPr/>
      </dsp:nvSpPr>
      <dsp:spPr>
        <a:xfrm>
          <a:off x="2810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41348" y="1444583"/>
        <a:ext cx="1953300" cy="1238709"/>
      </dsp:txXfrm>
    </dsp:sp>
    <dsp:sp modelId="{806460DA-3BDB-4235-8F83-5E07F6F8F17D}">
      <dsp:nvSpPr>
        <dsp:cNvPr id="0" name=""/>
        <dsp:cNvSpPr/>
      </dsp:nvSpPr>
      <dsp:spPr>
        <a:xfrm>
          <a:off x="1161097" y="1866913"/>
          <a:ext cx="2147504" cy="2147504"/>
        </a:xfrm>
        <a:prstGeom prst="leftCircularArrow">
          <a:avLst>
            <a:gd name="adj1" fmla="val 2731"/>
            <a:gd name="adj2" fmla="val 332723"/>
            <a:gd name="adj3" fmla="val 2108234"/>
            <a:gd name="adj4" fmla="val 9024489"/>
            <a:gd name="adj5" fmla="val 3186"/>
          </a:avLst>
        </a:prstGeom>
        <a:gradFill rotWithShape="0">
          <a:gsLst>
            <a:gs pos="0">
              <a:schemeClr val="accent1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93246614-B449-443A-B0F1-95E91921E9D8}">
      <dsp:nvSpPr>
        <dsp:cNvPr id="0" name=""/>
        <dsp:cNvSpPr/>
      </dsp:nvSpPr>
      <dsp:spPr>
        <a:xfrm>
          <a:off x="454005" y="2721831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475026" y="2742852"/>
        <a:ext cx="1762737" cy="675659"/>
      </dsp:txXfrm>
    </dsp:sp>
    <dsp:sp modelId="{8D87B9EB-96F2-4066-86EF-89D7AFAEA69E}">
      <dsp:nvSpPr>
        <dsp:cNvPr id="0" name=""/>
        <dsp:cNvSpPr/>
      </dsp:nvSpPr>
      <dsp:spPr>
        <a:xfrm>
          <a:off x="2538031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2576569" y="1803434"/>
        <a:ext cx="1953300" cy="1238709"/>
      </dsp:txXfrm>
    </dsp:sp>
    <dsp:sp modelId="{511FCBE0-7C2E-46E5-B1C1-B7E2BD5EB0F5}">
      <dsp:nvSpPr>
        <dsp:cNvPr id="0" name=""/>
        <dsp:cNvSpPr/>
      </dsp:nvSpPr>
      <dsp:spPr>
        <a:xfrm>
          <a:off x="3679399" y="406648"/>
          <a:ext cx="2406941" cy="2406941"/>
        </a:xfrm>
        <a:prstGeom prst="circularArrow">
          <a:avLst>
            <a:gd name="adj1" fmla="val 2436"/>
            <a:gd name="adj2" fmla="val 294837"/>
            <a:gd name="adj3" fmla="val 19529653"/>
            <a:gd name="adj4" fmla="val 12575511"/>
            <a:gd name="adj5" fmla="val 2842"/>
          </a:avLst>
        </a:prstGeom>
        <a:gradFill rotWithShape="0">
          <a:gsLst>
            <a:gs pos="0">
              <a:schemeClr val="accent1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C35B912B-C3EC-41D4-A7E3-1B2F9D15219C}">
      <dsp:nvSpPr>
        <dsp:cNvPr id="0" name=""/>
        <dsp:cNvSpPr/>
      </dsp:nvSpPr>
      <dsp:spPr>
        <a:xfrm>
          <a:off x="2989226" y="1047195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3010247" y="1068216"/>
        <a:ext cx="1762737" cy="675659"/>
      </dsp:txXfrm>
    </dsp:sp>
    <dsp:sp modelId="{D627A842-D3B2-492A-BCBB-66750577F7BE}">
      <dsp:nvSpPr>
        <dsp:cNvPr id="0" name=""/>
        <dsp:cNvSpPr/>
      </dsp:nvSpPr>
      <dsp:spPr>
        <a:xfrm>
          <a:off x="5073253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5111791" y="1444583"/>
        <a:ext cx="1953300" cy="1238709"/>
      </dsp:txXfrm>
    </dsp:sp>
    <dsp:sp modelId="{9324AE40-C757-43FB-8D9F-7736A07938F3}">
      <dsp:nvSpPr>
        <dsp:cNvPr id="0" name=""/>
        <dsp:cNvSpPr/>
      </dsp:nvSpPr>
      <dsp:spPr>
        <a:xfrm>
          <a:off x="5524448" y="2721831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5545469" y="2742852"/>
        <a:ext cx="1762737" cy="67565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62E76A-AB98-4EE6-8EEF-33A1B5E76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34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FF553E2F-E82A-449D-8B7A-A020D085C52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C07-3CF3-4FB5-85FC-9E54B1D9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20E-C308-4959-89B3-5E7CA094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717-F0BA-4BB1-B75E-7CB29991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D31-E47F-47D3-BEB3-3EC2FC76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89AF-2359-4F5E-887F-C461B7D4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B2A6-BD4E-4959-BAD3-11FD76CF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2C4C-E8B3-4056-9299-6C32E091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47DF-BAF3-4DFB-A53E-65CA24D4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D5A1-9D2F-407E-B2BD-B3B47787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700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D01E-1425-46DC-920F-E297F03D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BC0D-B8EB-4FC0-B4B8-E273B297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478-6DEB-4D2D-8078-7A44F9E6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A9E4-31A4-4C85-900B-1973DF31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F5BD-2D54-4B92-8B35-5B990AB4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07F3-8BD0-4C49-B48B-6C9DA446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5ECA-B863-49D8-B44A-33DC7040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AAF9-CA03-4A5B-8F12-FD2B6393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1303D-B892-4961-BB52-E327C73F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87548-662F-427C-BAB1-32CE5AEC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F585D-03C1-43E5-9255-F6587791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BAF95-FB72-43DC-A0BD-D88757CB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71793-CC10-457C-B0E2-51EF8D4E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2EA7-3E6E-44BD-B150-33C92403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5280" y="1700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C5386-43B4-42F6-AFB9-E04DD012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7AAAF-6F9F-4EC4-8C7C-91762A1C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ED85C-8765-4F0E-92B1-2F113236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24D42-4745-4653-97D9-E5709DB9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12BE3-9140-40FA-8588-777477CC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07514-A939-4109-AAE4-4BD2F7D6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86B41-B402-4B98-B8C6-0C98B6B6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A32B8-3F6B-41D8-A142-E9D07DAD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FEFFF-C3F4-49B1-BCE8-81C5E45D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6C639-24AB-4A55-9C8C-05409CC2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5D24-9031-4DBE-BFF8-291E3D40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0464B-267A-49F7-B5FF-7E95F4C8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0D4FC-2069-469B-B3D4-2230D2D7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5280" y="1700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67613-7D7A-4C10-9110-5FEDC869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C5D75-A0E7-463F-8C77-46602F75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234B2-C6F9-466B-8673-BCFFF701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18881-C203-447E-BFDE-ADC8DCFF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5F1A2-3225-4F6B-BF0E-1FBF5A3D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E8B50-F382-43CB-AB2D-DDCBDB7A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C68AA-DB9F-40A4-8042-DD75E35E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17DA4-C401-410C-B3B6-09055066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FFA-65F7-4F4D-AFB7-65D6F85D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21576-4C1D-4E52-85A2-5BD2DDCE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D706C-A34E-42DA-9236-2F565ABE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B61C7-D2CC-46A0-B2CF-7D627C6E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AE190-2165-4899-B070-F6A66358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1700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32E92-EEB7-4A13-A4AC-665234B4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8454B-C4A0-4E8A-BA41-F24DB2DF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42769-2E44-4934-AF93-48D0A628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486AD-DA69-4E27-9A53-8D7FD119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9EFFF-D1C7-4834-9A82-7B9FE821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47AF6-BC2B-46FC-9A18-CBC87E12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700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084-535B-483C-927C-764C0027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656A6-A691-4D22-B1CF-8F970CA8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4C70E-8E9D-47A5-92FB-80E779B8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1AD79-6010-4E5B-8F3B-0664F1E1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33B7C-497D-483A-A4A3-730FBCCC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FDB6C-9B93-409A-9B02-65B35B1D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FD26C-60CD-4C84-989A-0069C21D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1700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6D8CF-7B26-431A-8FC7-FE7300F3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495AB-2A7E-4D2F-AAE6-2679DCAC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AE2F7-B319-437C-8310-44F5ADCB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56DCC-A14F-4A12-864E-49423590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1FB-FA5F-49AC-857E-43FCDEE9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B7544-E7FC-4488-A3D0-95E4A78E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F0C10-BE5B-489E-A31E-1B105307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CD83E-B457-4E81-8C25-3D7CDAD1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BABA9-B905-43F0-B19E-7D4F0C21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0F038-3815-4DD7-B6EF-A11987B1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28711-7355-4B76-8CFC-8301A708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517A0-7241-483A-BB2C-57C7193B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3D0D1-466A-4BA0-9CEB-2F9B05AE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1700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0AF17-2292-4F0F-A364-5B105015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E5E17-EF8F-45A8-8B78-9872CC69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33B8-E5A3-4A78-8A11-93E5C222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D4503-72D6-4CF1-A4C3-0E056362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4C172-5137-4535-B823-694A7F18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9BBEA-7372-4F4D-9E83-16148F05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49105-9B2E-4179-B0D5-E34ACBD8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BE399-D79D-4609-9B3F-D1BB9BA5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8FB8C-7C3E-4FBA-A00E-6DC9C47A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619F9-E21A-4C81-B0F6-8031F707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D4037-3789-4F6F-82F6-63848C39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D3375-8C78-4E49-8B33-6E238E84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13315-4DD4-438A-A594-99366D5E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A80-2756-4ADC-A54E-F471FBF1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95280" y="1700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135FB-FB34-4B2A-BACA-7391F218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A3F24-9973-4F24-9F8C-67316C34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3A309-16F0-4556-BF32-F88561DE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873C1-4C30-46D3-B06E-7EDA5AAE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6F9A7-ED06-4F14-9097-3333D0B3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6A3CA-025F-4549-9E9E-91EACBF5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27102-187A-45FF-B31A-ED4CBC3F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新建文件夹 (3)\bg8.jpg"/>
          <p:cNvPicPr/>
          <p:nvPr/>
        </p:nvPicPr>
        <p:blipFill>
          <a:blip r:embed="rId2"/>
          <a:stretch/>
        </p:blipFill>
        <p:spPr>
          <a:xfrm>
            <a:off x="-5040" y="-360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" descr="D:\SLIDEtoME\TP模板\新建文件夹 (3)\bg8.jpg"/>
          <p:cNvPicPr/>
          <p:nvPr/>
        </p:nvPicPr>
        <p:blipFill>
          <a:blip r:embed="rId3"/>
          <a:stretch/>
        </p:blipFill>
        <p:spPr>
          <a:xfrm>
            <a:off x="-5040" y="-360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C046256-46B6-463F-9AD4-86AEEEDBA8ED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SLIDEtoME\TP模板\新建文件夹 (3)\bg8.jpg"/>
          <p:cNvPicPr/>
          <p:nvPr/>
        </p:nvPicPr>
        <p:blipFill>
          <a:blip r:embed="rId2"/>
          <a:stretch/>
        </p:blipFill>
        <p:spPr>
          <a:xfrm>
            <a:off x="-5040" y="-360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4AF866-93D3-4096-94FF-F60799627076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SLIDEtoME\TP模板\新建文件夹 (3)\bg8.jpg"/>
          <p:cNvPicPr/>
          <p:nvPr/>
        </p:nvPicPr>
        <p:blipFill>
          <a:blip r:embed="rId2"/>
          <a:stretch/>
        </p:blipFill>
        <p:spPr>
          <a:xfrm>
            <a:off x="-5040" y="-360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8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SLIDEtoME\TP模板\新建文件夹 (3)\bg8.jpg"/>
          <p:cNvPicPr/>
          <p:nvPr/>
        </p:nvPicPr>
        <p:blipFill>
          <a:blip r:embed="rId3"/>
          <a:stretch/>
        </p:blipFill>
        <p:spPr>
          <a:xfrm>
            <a:off x="-5040" y="-360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678CCA4-AC32-4099-805A-4A67F2B09BC1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395280" y="3254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395280" y="285300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SLIDEtoME\TP模板\新建文件夹 (3)\bg8.jpg"/>
          <p:cNvPicPr/>
          <p:nvPr/>
        </p:nvPicPr>
        <p:blipFill>
          <a:blip r:embed="rId2"/>
          <a:stretch/>
        </p:blipFill>
        <p:spPr>
          <a:xfrm>
            <a:off x="-5040" y="-360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13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27207B-0B07-4C87-A1A3-C6E0523A2BBE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:\SLIDEtoME\TP模板\新建文件夹 (3)\bg8.jpg"/>
          <p:cNvPicPr/>
          <p:nvPr/>
        </p:nvPicPr>
        <p:blipFill>
          <a:blip r:embed="rId2"/>
          <a:stretch/>
        </p:blipFill>
        <p:spPr>
          <a:xfrm>
            <a:off x="-5040" y="-360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178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0D58FB1-94B6-4D4E-B98D-E5017E5F4105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D:\SLIDEtoME\TP模板\新建文件夹 (3)\bg8.jpg"/>
          <p:cNvPicPr/>
          <p:nvPr/>
        </p:nvPicPr>
        <p:blipFill>
          <a:blip r:embed="rId2"/>
          <a:stretch/>
        </p:blipFill>
        <p:spPr>
          <a:xfrm>
            <a:off x="-5040" y="-360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986C155-FF34-45B2-9940-344D9039C15B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D:\SLIDEtoME\TP模板\新建文件夹 (3)\bg8.jpg"/>
          <p:cNvPicPr/>
          <p:nvPr/>
        </p:nvPicPr>
        <p:blipFill>
          <a:blip r:embed="rId2"/>
          <a:stretch/>
        </p:blipFill>
        <p:spPr>
          <a:xfrm>
            <a:off x="-5040" y="-360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26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34E299-9E93-48DF-A23B-8320F636CDF8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D:\SLIDEtoME\TP模板\新建文件夹 (3)\bg8.jpg"/>
          <p:cNvPicPr/>
          <p:nvPr/>
        </p:nvPicPr>
        <p:blipFill>
          <a:blip r:embed="rId2"/>
          <a:stretch/>
        </p:blipFill>
        <p:spPr>
          <a:xfrm>
            <a:off x="-5040" y="-360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0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D:\SLIDEtoME\TP模板\新建文件夹 (3)\bg8.jpg"/>
          <p:cNvPicPr/>
          <p:nvPr/>
        </p:nvPicPr>
        <p:blipFill>
          <a:blip r:embed="rId3"/>
          <a:stretch/>
        </p:blipFill>
        <p:spPr>
          <a:xfrm>
            <a:off x="-5040" y="-360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37B691C-94A6-4E81-AC1B-52C59EC1D079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灰色符号通用</a:t>
            </a:r>
            <a:r>
              <a:rPr b="1" lang="en-US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模板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95280" y="2277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12"/>
          <p:cNvSpPr/>
          <p:nvPr/>
        </p:nvSpPr>
        <p:spPr>
          <a:xfrm>
            <a:off x="209160" y="64904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41EA-8CCA-4220-B0CF-71E5A478C2F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225AC-6078-4C58-974E-2E83130FB37E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2"/>
          <p:cNvSpPr/>
          <p:nvPr/>
        </p:nvSpPr>
        <p:spPr>
          <a:xfrm>
            <a:off x="2875680" y="3259800"/>
            <a:ext cx="339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  <a:ea typeface="微软雅黑"/>
              </a:rPr>
              <a:t>模板下载：</a:t>
            </a:r>
            <a:r>
              <a:rPr b="0" lang="en-US" sz="1600" spc="-1" strike="noStrike" u="sng">
                <a:solidFill>
                  <a:srgbClr val="0e0e0e"/>
                </a:solidFill>
                <a:uFillTx/>
                <a:latin typeface="Arial"/>
                <a:ea typeface="微软雅黑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33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A6CB347-223D-4A04-9BB4-8BCC80B890CF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363BFF-3DED-4554-933B-C95B87626CA6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39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0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1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2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3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4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5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6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7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8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9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0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1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2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3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5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641880" y="64533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1323-6EDF-4332-838F-7C9BEB8003D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307FF93-1110-47B1-B6BB-5A2F541D5420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95280" y="2493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公司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7C800-D969-407D-BDDF-1C8DBFBE71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5451601E-0B0A-4190-90D8-0E368C67BBB2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8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C355CC4-6D8A-476D-B748-2A7D19CE6B0D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9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30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7E0E1F-34EF-4AA5-9115-96D54389A24A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7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8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9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0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1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2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3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4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5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6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373737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6e6e6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78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79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89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0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1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2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3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4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5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6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97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777777"/>
          </a:solidFill>
          <a:ln w="9525">
            <a:solidFill>
              <a:srgbClr val="777777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742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b2b2b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777777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408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09" name="直接连接符 150"/>
          <p:cNvCxnSpPr/>
          <p:nvPr/>
        </p:nvCxnSpPr>
        <p:spPr>
          <a:xfrm>
            <a:off x="395280" y="19393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410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3254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5280" y="285300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85A91-CCCD-44E2-9A37-352F8C24AA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A72AF633-E238-4AD2-B82F-0A6E5B711D25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14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000" cy="51148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9EF5F-32BA-4605-B853-A5666ACBAB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E6097763-CF3D-4D2F-B622-C7F40E330CA0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722299705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18" name="Text Box 6"/>
          <p:cNvSpPr/>
          <p:nvPr/>
        </p:nvSpPr>
        <p:spPr>
          <a:xfrm>
            <a:off x="1043640" y="63864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17148-8842-4066-B1A9-50731018D04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D2FA566A-7951-4D1D-B2CB-CDF3F98216FA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942613062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3AF94-64E2-48DB-BE1D-8AA0CF0772A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B61BE747-7BC8-46AB-A07C-15D0830993A0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1" name="内容占位符 9"/>
          <p:cNvGraphicFramePr/>
          <p:nvPr/>
        </p:nvGraphicFramePr>
        <p:xfrm>
          <a:off x="395280" y="1125360"/>
          <a:ext cx="8353080" cy="482400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95220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22" name="TextBox 10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15300-3A4C-4375-8AA5-0FF8A55B30A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60FE9BC8-6F77-48E9-B471-AB7EDAD36C36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7" name="内容占位符 6"/>
          <p:cNvGraphicFramePr/>
          <p:nvPr/>
        </p:nvGraphicFramePr>
        <p:xfrm>
          <a:off x="46360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C65AD-D390-4A0B-BF4F-D31F5EFA3FD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7FA94024-59E5-400D-BACC-3BA70AFE18C0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9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30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2774D-7DDA-43FC-9545-E7BD7F9D965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E1B7C575-FDDD-45A6-9035-46F658CBF7F0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素材夹_0087">
  <a:themeElements>
    <a:clrScheme name="www.slideto.Me gary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777777"/>
      </a:accent1>
      <a:accent2>
        <a:srgbClr val="b2b2b2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素材夹_0087">
  <a:themeElements>
    <a:clrScheme name="www.slideto.Me gary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777777"/>
      </a:accent1>
      <a:accent2>
        <a:srgbClr val="b2b2b2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素材夹_0087">
  <a:themeElements>
    <a:clrScheme name="www.slideto.Me gary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777777"/>
      </a:accent1>
      <a:accent2>
        <a:srgbClr val="b2b2b2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素材夹_0087">
  <a:themeElements>
    <a:clrScheme name="www.slideto.Me gary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777777"/>
      </a:accent1>
      <a:accent2>
        <a:srgbClr val="b2b2b2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PPT素材夹_0087">
  <a:themeElements>
    <a:clrScheme name="www.slideto.Me gary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777777"/>
      </a:accent1>
      <a:accent2>
        <a:srgbClr val="b2b2b2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PPT素材夹_0087">
  <a:themeElements>
    <a:clrScheme name="www.slideto.Me gary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777777"/>
      </a:accent1>
      <a:accent2>
        <a:srgbClr val="b2b2b2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PPT素材夹_0087">
  <a:themeElements>
    <a:clrScheme name="www.slideto.Me gary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777777"/>
      </a:accent1>
      <a:accent2>
        <a:srgbClr val="b2b2b2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PPT素材夹_0087">
  <a:themeElements>
    <a:clrScheme name="www.slideto.Me gary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777777"/>
      </a:accent1>
      <a:accent2>
        <a:srgbClr val="b2b2b2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7777"/>
      </a:dk2>
      <a:lt2>
        <a:srgbClr val="b2b2b2"/>
      </a:lt2>
      <a:accent1>
        <a:srgbClr val="777777"/>
      </a:accent1>
      <a:accent2>
        <a:srgbClr val="b2b2b2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素材夹_0087</Template>
  <TotalTime>1</TotalTime>
  <Application>LibreOffice/7.4.7.2$Linux_X86_64 LibreOffice_project/40$Build-2</Application>
  <AppVersion>15.0000</AppVersion>
  <Words>530</Words>
  <Paragraphs>1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3-02-28T02:42:40Z</dcterms:created>
  <dc:creator>lenovo</dc:creator>
  <dc:description>我爱PPT中文网</dc:description>
  <cp:keywords>XS-普屏 4：3 SC-淡灰色 BG-浅色 DH-静态 XJ-二级</cp:keywords>
  <dc:language>en-US</dc:language>
  <cp:lastModifiedBy>王玉清</cp:lastModifiedBy>
  <dcterms:modified xsi:type="dcterms:W3CDTF">2016-02-21T04:08:29Z</dcterms:modified>
  <cp:revision>5</cp:revision>
  <dc:subject>TP-金融保险</dc:subject>
  <dc:title>点击此处添加幻灯主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2</vt:r8>
  </property>
</Properties>
</file>