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8999538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7DC92-F629-4ADC-B0D6-52919626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D4136-3DD3-4BE8-9DC8-55621E1F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A2559-1130-4887-BAE7-4BCBAB67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829E2-232D-4276-BE90-2DBDABBE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DB795-01F3-425D-901E-5E93D9D1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21E71-6259-4086-B10C-8CE3A856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94040-4DB4-4247-914B-D996CB89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C5D2B-E59F-4332-8CF2-B32226591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AFA2B-8D1C-4704-A7B1-46051168C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720A3-A404-4F9C-A746-1F2530CD7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D161F-820E-48AB-8710-11A67A8D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48B79-7CB2-4D9C-B159-63BF1F9F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56612-67DE-4E14-96DF-B604FE68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C39B4-45AC-4269-A2C1-620991C7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B6647-D484-4A66-9A5E-A5CC73E2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80472D-384E-437F-ABA6-2BB88657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CFCD2-7489-48DA-B07C-7387B040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27943-F6DE-4795-8B01-E2AF3592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A8130-270E-4199-AEF1-955B6DA2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99965-E273-4256-B04C-2EA72952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1F3A8-04C5-47F0-896E-C4995FEA4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CF6363-FF48-476E-AC66-8A90D9CB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94F20-1C41-400C-A00C-B108C03F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E8003-BB79-4F8B-B8EE-5AA916BE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79A91-52AF-4260-B133-95349B35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E7290F-9492-46C3-838A-3A4732D5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E66E3-895F-44C6-8012-09A48826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3CAA76-24B5-4813-AC7E-20026948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B29CC-8837-44D5-8C59-DB166A20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E0C72-8365-4D15-A22F-5CA6FF4B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F166-1AAD-4930-980B-75557979E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786B49-08F7-4146-BC14-672EDA8A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CDE57-E44F-4623-A6FB-679DF4921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B364B-C895-4178-837F-EBCFD15A7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6B731-A8C0-4A74-8DDA-EF1D25494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60277-5D96-482F-BDC6-24968DD5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B5E8C-E827-400A-A38D-D6258745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ED09D-5FF2-480F-82BD-E9E178A0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98888-8F1A-4EAB-AA21-F635C436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838B9-B7D2-41EF-A65D-F98EFC32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499A8-B89A-4001-AB6E-CA4E3FBB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DFFB-9902-4227-BF8F-ABAEAD7D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FE021-3796-46FF-BD68-3F28E927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62E97-0C4F-4029-8B6F-0AE08CE7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02C45-AFDA-4631-AB1B-4FBE7C1B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134E5-D7CA-4D08-B123-299AF328F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E21BF-8975-400D-AE74-3ADEB3777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33C0-1A32-4A36-8C72-4E725BE0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252B-4620-4275-807C-43F346C2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7BD6-58AA-4321-9F26-52D8017B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CB58-210E-4825-AA51-C8816B65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9EEA-1293-44D1-BE48-55DD4700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D91D-58A1-4D80-BA2B-ACC88290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2BC0-4333-48DB-BEA7-9A23FDBA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1F65-69DC-4219-92ED-B9D294F6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F53F-41F4-4247-8948-142B738E8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B81D-F1DA-4DC7-AC4E-A3051953C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0407-7724-461B-9D13-ADD0ADD5C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1D86-0342-46F6-84A6-B21564B8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FF47-C57A-4463-9AA4-658976DC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D3B2-C72B-490D-8299-3753B4C8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581E-AB6B-4E94-8206-038A53E6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ACE8-2002-4F3F-BD35-443271D8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0045-3F69-4C9D-8BD6-8C174346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6F19-0006-4517-84A2-ED3AE1C1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286C-2ED2-42F9-B100-BB85B85D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3417-E98E-4CD0-8391-4F53B0E1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4EB0-87F5-4DF5-85F1-C183F0C00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62BF-9013-4752-A176-8B1B712E2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BFD98-0987-4039-95D4-F004D5EB7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E2A3B-75B7-420F-9CE5-52A0CFF0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D14EE-8F77-43B4-B82C-FAD6F01C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38F56-8D44-4E96-8AA2-54E50E87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34A21-845F-4DE2-8A8D-0BB1DEC3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48779-3AC1-47D2-92B4-A29ADE99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01B2A-BA35-4D72-9B12-95AC907B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830E7-1ECE-4AF2-9E35-8DDBB376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F5C72-ACDE-40A6-AFE3-A2A0DFBD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5028F-F17F-4FA9-8C63-CAAEC827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64D4E-062C-493A-9B9C-A2E106137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8CDBF-C5E8-4CC3-8EFF-96E3C761B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0444A-268C-41D9-836A-144EA348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77E3D-3ED4-40A7-B28A-1EC962CD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99EFE-D2C8-47B7-9858-DF05B0A8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3BF8F-2892-4481-B3EC-8E8ECFAE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16F38-4465-479A-B21B-419178C7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81BD2-3775-4FBF-9158-06435A8E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475A1-46D5-4A85-BA37-D11A4E71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862B8-7645-4FBE-A95D-8AC898D1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89489-BF70-4320-8C1B-ECC643B3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72CAA-CF16-4F40-ABD3-3A1C2090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CFFBB-9916-4D45-8810-414798D73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96DA5-6CB2-498D-A727-AEBC22E84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867BD-75F7-4128-A79D-143B53BC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3ACD7-6566-4546-A21B-61BA9DE8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5303E-0C6A-4749-81AB-D273FD46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CE6CF-A118-4FD8-A6FA-2D7027EE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DDFAC-C78B-4251-A70D-A2674A72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4C686-352B-47D9-BF84-0E4BEFE2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2547C-54CA-4798-B89D-0E50D229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02272-9D00-42CB-952F-C9E77FA4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376EA-85CD-477C-9E63-4FF74F29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88DAA-D2B8-4C94-A4F4-313B54C0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FAE4E-B4DD-44D3-AB27-FED5B65F1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C8F51-F383-41ED-BF49-3DF6F90FF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1923E-E79C-4A59-A197-543454180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06ABE-BB4A-4438-AF24-B6C9B5DF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79B48-76FE-41F7-8F48-F03D783A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F94CE-8396-4FD2-BEF2-06A44EF0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464A5-3E05-492B-9299-29F4380E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6A4C1-DB0C-4DCE-B5F3-1FA93DF9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00DFC-E8B9-44B0-ADF8-FFAF7A6A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1F890-76C9-47A6-AFF2-FD4A952A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C32C9-6B87-4F51-916A-F836BAA3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57847-981F-4034-993B-70D914E2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FE583-73DC-449B-8B31-60F0A10CE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7CF1E-1A76-4F0F-9AF1-AB5926A1B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4370C-35CE-428B-96EE-20F2B0B65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1DE31-21E6-4514-9AC8-B5927915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905BB-186C-4889-A829-7C6348AB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8DC44-C6E5-4FA3-93C4-BB50D713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C0DE3-B823-45D6-AEB8-F91A535F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8FB68-54A6-4A03-BB88-F822FE95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0E2BC-6686-46DB-844C-0F57B969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9FDAF-368A-431F-B778-319DE6FD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8FCE3-EEFB-429E-99F7-E16BC9F8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7E6A6-AE6F-4857-91C4-7A18EFF7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C4E49-FC94-43CD-B8DA-6E7F1CE6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BA239-5F2E-4B16-8292-B330B074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55630-CE64-438C-A832-4CD294FC0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2A7FF-F540-4B6E-86AD-D448A023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08DCA-310F-404C-9636-A624C170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D13001\Desktop\修图\音乐盒子 - 副本.jpg音乐盒子 - 副本"/>
          <p:cNvPicPr/>
          <p:nvPr/>
        </p:nvPicPr>
        <p:blipFill>
          <a:blip r:embed="rId2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C:\Users\D13001\Desktop\修图\音乐盒子 - 副本.jpg音乐盒子 - 副本"/>
          <p:cNvPicPr/>
          <p:nvPr/>
        </p:nvPicPr>
        <p:blipFill>
          <a:blip r:embed="rId2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6652-4E9F-4AC6-94D8-C26E3AD099F5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0670-152D-4C12-BD20-A2C2C5F7750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C:\Users\D13001\Desktop\修图\音乐盒子 - 副本.jpg音乐盒子 - 副本"/>
          <p:cNvPicPr/>
          <p:nvPr/>
        </p:nvPicPr>
        <p:blipFill>
          <a:blip r:embed="rId2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80FA-AEE0-4F6F-AB38-272192DED9FC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98A6-CC66-4CE4-B540-28129949EF3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C:\Users\D13001\Desktop\修图\音乐盒子 - 副本.jpg音乐盒子 - 副本"/>
          <p:cNvPicPr/>
          <p:nvPr/>
        </p:nvPicPr>
        <p:blipFill>
          <a:blip r:embed="rId2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1421-AB20-4EF9-ABCB-8E7EE1295A62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359C-1811-412B-B253-DE3B4E9B87E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C:\Users\D13001\Desktop\修图\音乐盒子 - 副本.jpg音乐盒子 - 副本"/>
          <p:cNvPicPr/>
          <p:nvPr/>
        </p:nvPicPr>
        <p:blipFill>
          <a:blip r:embed="rId2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10C6-0B65-48F2-B327-A9134897C163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8C7D-3FA1-4DA4-A08F-7B8625BE383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Users\D13001\Desktop\修图\音乐盒子 - 副本.jpg音乐盒子 - 副本"/>
          <p:cNvPicPr/>
          <p:nvPr/>
        </p:nvPicPr>
        <p:blipFill>
          <a:blip r:embed="rId2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4E53-7017-4193-A8CA-D7FAFE674B5B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A06C-EF89-46D7-9838-FF33C183E65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Users\D13001\Desktop\修图\音乐盒子 - 副本.jpg音乐盒子 - 副本"/>
          <p:cNvPicPr/>
          <p:nvPr/>
        </p:nvPicPr>
        <p:blipFill>
          <a:blip r:embed="rId2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7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8AC2-8491-4B4D-BA9B-3A0FCCF96289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8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9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3965-6A2D-4154-9F06-FAF77BF8776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Users\D13001\Desktop\修图\音乐盒子 - 副本.jpg音乐盒子 - 副本"/>
          <p:cNvPicPr/>
          <p:nvPr/>
        </p:nvPicPr>
        <p:blipFill>
          <a:blip r:embed="rId2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10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84C9-0ABD-498F-9EB4-EABEAE17E93A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11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2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B2D2-99F5-4D8B-8DB9-1381495C3A9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Users\D13001\Desktop\修图\音乐盒子 - 副本.jpg音乐盒子 - 副本"/>
          <p:cNvPicPr/>
          <p:nvPr/>
        </p:nvPicPr>
        <p:blipFill>
          <a:blip r:embed="rId2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3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DAFD-2C71-4D8A-A145-03C5A62E56D6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4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5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B5D5-01E6-4242-951B-DD043F8191B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Users\D13001\Desktop\修图\音乐盒子 - 副本.jpg音乐盒子 - 副本"/>
          <p:cNvPicPr/>
          <p:nvPr/>
        </p:nvPicPr>
        <p:blipFill>
          <a:blip r:embed="rId2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6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A9BA-CB4C-4EDD-BFD6-6B738AE922C6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7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8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77AF-66CD-450E-A39B-3815116C533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C:\Users\D13001\Desktop\修图\音乐盒子 - 副本.jpg音乐盒子 - 副本"/>
          <p:cNvPicPr/>
          <p:nvPr/>
        </p:nvPicPr>
        <p:blipFill>
          <a:blip r:embed="rId2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9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09D0-E013-4B92-9C80-40B47FDB7682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20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21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D8B9-83AD-4F80-AB4E-925BB46AEDB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body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3120" indent="-303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5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2680" indent="-2030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417680" indent="-2034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22320" indent="-2030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22320" indent="-2030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22320" indent="-2030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C:\Users\D13001\Desktop\修图\音乐盒子 - 副本.jpg音乐盒子 - 副本"/>
          <p:cNvPicPr/>
          <p:nvPr/>
        </p:nvPicPr>
        <p:blipFill>
          <a:blip r:embed="rId2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5A26-D9A6-479F-AC63-07FE8B7292D2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9D45-F3DF-4FE6-92B6-802303B673A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文本框 1"/>
          <p:cNvSpPr/>
          <p:nvPr/>
        </p:nvSpPr>
        <p:spPr>
          <a:xfrm>
            <a:off x="743040" y="900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》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前必读哦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2"/>
          <p:cNvSpPr/>
          <p:nvPr/>
        </p:nvSpPr>
        <p:spPr>
          <a:xfrm>
            <a:off x="1174680" y="1471680"/>
            <a:ext cx="6408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模板适用于多种场合，主要用于分类较多的情况，一个标题，</a:t>
            </a: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分项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Group 4"/>
          <p:cNvGrpSpPr/>
          <p:nvPr/>
        </p:nvGrpSpPr>
        <p:grpSpPr>
          <a:xfrm>
            <a:off x="1255680" y="1905120"/>
            <a:ext cx="398520" cy="398520"/>
            <a:chOff x="1255680" y="1905120"/>
            <a:chExt cx="398520" cy="398520"/>
          </a:xfrm>
        </p:grpSpPr>
        <p:pic>
          <p:nvPicPr>
            <p:cNvPr id="482" name="Picture 11" descr="home">
              <a:hlinkClick r:id="" action="ppaction://hlinkshowjump?jump=firstslide"/>
            </p:cNvPr>
            <p:cNvPicPr/>
            <p:nvPr/>
          </p:nvPicPr>
          <p:blipFill>
            <a:blip r:embed="rId1">
              <a:lum bright="42000"/>
            </a:blip>
            <a:stretch/>
          </p:blipFill>
          <p:spPr>
            <a:xfrm>
              <a:off x="1311120" y="1959120"/>
              <a:ext cx="289080" cy="2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AutoShape 12"/>
            <p:cNvSpPr/>
            <p:nvPr/>
          </p:nvSpPr>
          <p:spPr>
            <a:xfrm>
              <a:off x="1255680" y="1905120"/>
              <a:ext cx="398520" cy="398520"/>
            </a:xfrm>
            <a:custGeom>
              <a:avLst/>
              <a:gdLst>
                <a:gd name="textAreaLeft" fmla="*/ 58320 w 398520"/>
                <a:gd name="textAreaRight" fmla="*/ 340200 w 398520"/>
                <a:gd name="textAreaTop" fmla="*/ 58320 h 398520"/>
                <a:gd name="textAreaBottom" fmla="*/ 340200 h 39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78" y="10800"/>
                  </a:moveTo>
                  <a:cubicBezTo>
                    <a:pt x="378" y="16556"/>
                    <a:pt x="5044" y="21222"/>
                    <a:pt x="10800" y="21222"/>
                  </a:cubicBezTo>
                  <a:cubicBezTo>
                    <a:pt x="16556" y="21222"/>
                    <a:pt x="21222" y="16556"/>
                    <a:pt x="21222" y="10800"/>
                  </a:cubicBezTo>
                  <a:cubicBezTo>
                    <a:pt x="21222" y="5044"/>
                    <a:pt x="16556" y="378"/>
                    <a:pt x="10800" y="378"/>
                  </a:cubicBezTo>
                  <a:cubicBezTo>
                    <a:pt x="5044" y="378"/>
                    <a:pt x="378" y="5044"/>
                    <a:pt x="378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文本框 6"/>
          <p:cNvSpPr/>
          <p:nvPr/>
        </p:nvSpPr>
        <p:spPr>
          <a:xfrm>
            <a:off x="1738440" y="1959120"/>
            <a:ext cx="5570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面左上角的这个标志代表回到主页，记得在它上面点击哦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8"/>
          <p:cNvGrpSpPr/>
          <p:nvPr/>
        </p:nvGrpSpPr>
        <p:grpSpPr>
          <a:xfrm>
            <a:off x="1239840" y="2536920"/>
            <a:ext cx="930240" cy="1019160"/>
            <a:chOff x="1239840" y="2536920"/>
            <a:chExt cx="930240" cy="1019160"/>
          </a:xfrm>
        </p:grpSpPr>
        <p:sp>
          <p:nvSpPr>
            <p:cNvPr id="486" name="矩形 3"/>
            <p:cNvSpPr/>
            <p:nvPr/>
          </p:nvSpPr>
          <p:spPr>
            <a:xfrm>
              <a:off x="1239840" y="2536920"/>
              <a:ext cx="930240" cy="10191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文本框 12"/>
            <p:cNvSpPr/>
            <p:nvPr/>
          </p:nvSpPr>
          <p:spPr>
            <a:xfrm>
              <a:off x="1336320" y="3174840"/>
              <a:ext cx="710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记录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8" name="图片 24" descr=""/>
            <p:cNvPicPr/>
            <p:nvPr/>
          </p:nvPicPr>
          <p:blipFill>
            <a:blip r:embed="rId2"/>
            <a:srcRect l="0" t="0" r="87759" b="0"/>
            <a:stretch/>
          </p:blipFill>
          <p:spPr>
            <a:xfrm>
              <a:off x="1411920" y="2536920"/>
              <a:ext cx="642600" cy="66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文本框 11"/>
          <p:cNvSpPr/>
          <p:nvPr/>
        </p:nvSpPr>
        <p:spPr>
          <a:xfrm>
            <a:off x="2195640" y="2481120"/>
            <a:ext cx="5964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是分项，文字、图片可替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点来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首页的分项，单击会自动切换到相应的页面哦，记得要在它的上面单击才有效哦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12"/>
          <p:cNvSpPr/>
          <p:nvPr/>
        </p:nvSpPr>
        <p:spPr>
          <a:xfrm>
            <a:off x="6083280" y="4210200"/>
            <a:ext cx="22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》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赶紧试试吧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13"/>
          <p:cNvSpPr/>
          <p:nvPr/>
        </p:nvSpPr>
        <p:spPr>
          <a:xfrm>
            <a:off x="1116000" y="3705120"/>
            <a:ext cx="6997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后一个分项内容页就不要点击回到首页啦，直接在页面点击就可以到结束页了</a:t>
            </a: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~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1"/>
          <p:cNvSpPr/>
          <p:nvPr/>
        </p:nvSpPr>
        <p:spPr>
          <a:xfrm>
            <a:off x="1856520" y="106200"/>
            <a:ext cx="58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交互类极简小清新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12"/>
          <p:cNvSpPr/>
          <p:nvPr/>
        </p:nvSpPr>
        <p:spPr>
          <a:xfrm>
            <a:off x="469800" y="4986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图片 11" descr=""/>
          <p:cNvPicPr/>
          <p:nvPr/>
        </p:nvPicPr>
        <p:blipFill>
          <a:blip r:embed="rId1"/>
          <a:stretch/>
        </p:blipFill>
        <p:spPr>
          <a:xfrm>
            <a:off x="2406600" y="2924280"/>
            <a:ext cx="4465800" cy="56664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3"/>
          <p:cNvSpPr/>
          <p:nvPr/>
        </p:nvSpPr>
        <p:spPr>
          <a:xfrm>
            <a:off x="2263680" y="1619280"/>
            <a:ext cx="468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 </a:t>
            </a:r>
            <a:r>
              <a:rPr b="1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端显示效果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4"/>
          <p:cNvSpPr/>
          <p:nvPr/>
        </p:nvSpPr>
        <p:spPr>
          <a:xfrm>
            <a:off x="2263680" y="1619280"/>
            <a:ext cx="4680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5"/>
          <p:cNvSpPr/>
          <p:nvPr/>
        </p:nvSpPr>
        <p:spPr>
          <a:xfrm>
            <a:off x="2263680" y="2198520"/>
            <a:ext cx="468000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6"/>
          <p:cNvSpPr/>
          <p:nvPr/>
        </p:nvSpPr>
        <p:spPr>
          <a:xfrm flipV="1">
            <a:off x="4782960" y="1187280"/>
            <a:ext cx="50508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7"/>
          <p:cNvSpPr/>
          <p:nvPr/>
        </p:nvSpPr>
        <p:spPr>
          <a:xfrm flipV="1">
            <a:off x="3848040" y="2198520"/>
            <a:ext cx="50472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8" hidden="1"/>
          <p:cNvSpPr/>
          <p:nvPr/>
        </p:nvSpPr>
        <p:spPr>
          <a:xfrm>
            <a:off x="4351320" y="2843280"/>
            <a:ext cx="503280" cy="50472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9" hidden="1"/>
          <p:cNvSpPr/>
          <p:nvPr/>
        </p:nvSpPr>
        <p:spPr>
          <a:xfrm rot="16200000">
            <a:off x="4423320" y="2804400"/>
            <a:ext cx="36504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12"/>
          <p:cNvSpPr/>
          <p:nvPr/>
        </p:nvSpPr>
        <p:spPr>
          <a:xfrm>
            <a:off x="2344680" y="3600360"/>
            <a:ext cx="60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记录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25"/>
          <p:cNvSpPr/>
          <p:nvPr/>
        </p:nvSpPr>
        <p:spPr>
          <a:xfrm>
            <a:off x="3321000" y="3600360"/>
            <a:ext cx="60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办公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26"/>
          <p:cNvSpPr/>
          <p:nvPr/>
        </p:nvSpPr>
        <p:spPr>
          <a:xfrm>
            <a:off x="4297320" y="3600360"/>
            <a:ext cx="60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阅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27"/>
          <p:cNvSpPr/>
          <p:nvPr/>
        </p:nvSpPr>
        <p:spPr>
          <a:xfrm>
            <a:off x="5273640" y="3600360"/>
            <a:ext cx="60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置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文本框 28"/>
          <p:cNvSpPr/>
          <p:nvPr/>
        </p:nvSpPr>
        <p:spPr>
          <a:xfrm>
            <a:off x="6249960" y="3600360"/>
            <a:ext cx="60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下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椭圆 21"/>
          <p:cNvSpPr/>
          <p:nvPr/>
        </p:nvSpPr>
        <p:spPr>
          <a:xfrm>
            <a:off x="4395960" y="4519440"/>
            <a:ext cx="420480" cy="420840"/>
          </a:xfrm>
          <a:prstGeom prst="ellipse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椭圆 1"/>
          <p:cNvSpPr/>
          <p:nvPr/>
        </p:nvSpPr>
        <p:spPr>
          <a:xfrm>
            <a:off x="4444920" y="4562640"/>
            <a:ext cx="322200" cy="334800"/>
          </a:xfrm>
          <a:prstGeom prst="ellipse">
            <a:avLst/>
          </a:pr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椭圆 22"/>
          <p:cNvSpPr/>
          <p:nvPr/>
        </p:nvSpPr>
        <p:spPr>
          <a:xfrm>
            <a:off x="4511520" y="4635360"/>
            <a:ext cx="187560" cy="189000"/>
          </a:xfrm>
          <a:prstGeom prst="ellipse">
            <a:avLst/>
          </a:prstGeom>
          <a:solidFill>
            <a:srgbClr val="ffffff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椭圆 2"/>
          <p:cNvSpPr/>
          <p:nvPr/>
        </p:nvSpPr>
        <p:spPr>
          <a:xfrm>
            <a:off x="1332000" y="466560"/>
            <a:ext cx="647640" cy="865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3"/>
          <p:cNvSpPr/>
          <p:nvPr/>
        </p:nvSpPr>
        <p:spPr>
          <a:xfrm>
            <a:off x="2263680" y="2771640"/>
            <a:ext cx="790560" cy="86364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矩形 13"/>
          <p:cNvSpPr/>
          <p:nvPr/>
        </p:nvSpPr>
        <p:spPr>
          <a:xfrm>
            <a:off x="3236760" y="2771640"/>
            <a:ext cx="792360" cy="86364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矩形 14"/>
          <p:cNvSpPr/>
          <p:nvPr/>
        </p:nvSpPr>
        <p:spPr>
          <a:xfrm>
            <a:off x="4210200" y="2771640"/>
            <a:ext cx="792000" cy="86364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矩形 15"/>
          <p:cNvSpPr/>
          <p:nvPr/>
        </p:nvSpPr>
        <p:spPr>
          <a:xfrm>
            <a:off x="5183280" y="2771640"/>
            <a:ext cx="792000" cy="86364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矩形 16"/>
          <p:cNvSpPr/>
          <p:nvPr/>
        </p:nvSpPr>
        <p:spPr>
          <a:xfrm>
            <a:off x="6156360" y="2771640"/>
            <a:ext cx="792000" cy="86364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25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625" autoRev="1" fill="hold"/>
                                        <p:tgtEl>
                                          <p:spTgt spid="5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35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35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5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35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35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5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5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35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5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" dur="35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5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" dur="35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35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" dur="35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5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" dur="35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42">
                                  <p:stCondLst>
                                    <p:cond delay="350"/>
                                  </p:stCondLst>
                                  <p:childTnLst>
                                    <p:animMotion origin="layout" path="M -2.28612E-006 -4.89562E-006 L -2.28612E-006 0.05293 E">
                                      <p:cBhvr>
                                        <p:cTn id="41" dur="350" fill="hold"/>
                                        <p:tgtEl>
                                          <p:spTgt spid="5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4.51579E-007 -4.89562E-006 L 4.51579E-007 0.05293 E">
                                      <p:cBhvr>
                                        <p:cTn id="43" dur="35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42">
                                  <p:stCondLst>
                                    <p:cond delay="450"/>
                                  </p:stCondLst>
                                  <p:childTnLst>
                                    <p:animMotion origin="layout" path="M -4.12771E-007 -4.89562E-006 L -4.12771E-007 0.05293 E">
                                      <p:cBhvr>
                                        <p:cTn id="45" dur="350" fill="hold"/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27712E-006 -4.89562E-006 L -1.27712E-006 0.05293 E">
                                      <p:cBhvr>
                                        <p:cTn id="47" dur="350" fill="hold"/>
                                        <p:tgtEl>
                                          <p:spTgt spid="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2.14147E-006 -4.89562E-006 L -2.14147E-006 0.05293 E">
                                      <p:cBhvr>
                                        <p:cTn id="49" dur="35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2" presetSubtype="4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5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" dur="35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4.7698E-006 -2.95795E-006 L -4.7698E-006 0.02764 E">
                                      <p:cBhvr>
                                        <p:cTn id="55" dur="25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2" presetSubtype="4">
                                  <p:stCondLst>
                                    <p:cond delay="115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5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" dur="35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5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" dur="35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5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" dur="35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5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35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2" presetSubtype="4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5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" dur="35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26" repeatCount="indefinite">
                                  <p:stCondLst>
                                    <p:cond delay="1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125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625" autoRev="1" fill="hold"/>
                                        <p:tgtEl>
                                          <p:spTgt spid="5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26" repeatCount="indefinite">
                                  <p:stCondLst>
                                    <p:cond delay="1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125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625" autoRev="1" fill="hold"/>
                                        <p:tgtEl>
                                          <p:spTgt spid="5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26" repeatCount="indefinite">
                                  <p:stCondLst>
                                    <p:cond delay="18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125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625" autoRev="1" fill="hold"/>
                                        <p:tgtEl>
                                          <p:spTgt spid="5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2"/>
          <p:cNvGrpSpPr/>
          <p:nvPr/>
        </p:nvGrpSpPr>
        <p:grpSpPr>
          <a:xfrm>
            <a:off x="1341360" y="1179360"/>
            <a:ext cx="792360" cy="863640"/>
            <a:chOff x="1341360" y="1179360"/>
            <a:chExt cx="792360" cy="863640"/>
          </a:xfrm>
        </p:grpSpPr>
        <p:sp>
          <p:nvSpPr>
            <p:cNvPr id="517" name="矩形 3"/>
            <p:cNvSpPr/>
            <p:nvPr/>
          </p:nvSpPr>
          <p:spPr>
            <a:xfrm>
              <a:off x="1341360" y="1179360"/>
              <a:ext cx="792360" cy="86364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文本框 12"/>
            <p:cNvSpPr/>
            <p:nvPr/>
          </p:nvSpPr>
          <p:spPr>
            <a:xfrm>
              <a:off x="1423440" y="1720080"/>
              <a:ext cx="605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记录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9" name="图片 24" descr=""/>
            <p:cNvPicPr/>
            <p:nvPr/>
          </p:nvPicPr>
          <p:blipFill>
            <a:blip r:embed="rId1"/>
            <a:srcRect l="0" t="0" r="87759" b="0"/>
            <a:stretch/>
          </p:blipFill>
          <p:spPr>
            <a:xfrm>
              <a:off x="1523160" y="1179360"/>
              <a:ext cx="547200" cy="566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0" name="图片 1" descr=""/>
          <p:cNvPicPr/>
          <p:nvPr/>
        </p:nvPicPr>
        <p:blipFill>
          <a:blip r:embed="rId2"/>
          <a:stretch/>
        </p:blipFill>
        <p:spPr>
          <a:xfrm>
            <a:off x="0" y="3240"/>
            <a:ext cx="8999640" cy="5392800"/>
          </a:xfrm>
          <a:prstGeom prst="rect">
            <a:avLst/>
          </a:prstGeom>
          <a:ln w="0">
            <a:noFill/>
          </a:ln>
        </p:spPr>
      </p:pic>
      <p:sp>
        <p:nvSpPr>
          <p:cNvPr id="521" name="矩形 8"/>
          <p:cNvSpPr/>
          <p:nvPr/>
        </p:nvSpPr>
        <p:spPr>
          <a:xfrm>
            <a:off x="2235240" y="1179360"/>
            <a:ext cx="5545080" cy="863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31"/>
          <p:cNvSpPr/>
          <p:nvPr/>
        </p:nvSpPr>
        <p:spPr>
          <a:xfrm>
            <a:off x="1341360" y="2124000"/>
            <a:ext cx="6438960" cy="2222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文本框 9"/>
          <p:cNvSpPr/>
          <p:nvPr/>
        </p:nvSpPr>
        <p:spPr>
          <a:xfrm>
            <a:off x="2919240" y="135900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11" descr="home">
            <a:hlinkClick r:id="" action="ppaction://hlinkshowjump?jump=firstslide"/>
          </p:cNvPr>
          <p:cNvPicPr/>
          <p:nvPr/>
        </p:nvPicPr>
        <p:blipFill>
          <a:blip r:embed="rId3">
            <a:lum bright="42000"/>
          </a:blip>
          <a:stretch/>
        </p:blipFill>
        <p:spPr>
          <a:xfrm>
            <a:off x="487440" y="36684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25" name="AutoShape 12"/>
          <p:cNvSpPr/>
          <p:nvPr/>
        </p:nvSpPr>
        <p:spPr>
          <a:xfrm>
            <a:off x="431640" y="312840"/>
            <a:ext cx="398520" cy="398520"/>
          </a:xfrm>
          <a:custGeom>
            <a:avLst/>
            <a:gdLst>
              <a:gd name="textAreaLeft" fmla="*/ 58320 w 398520"/>
              <a:gd name="textAreaRight" fmla="*/ 340200 w 398520"/>
              <a:gd name="textAreaTop" fmla="*/ 58320 h 398520"/>
              <a:gd name="textAreaBottom" fmla="*/ 34020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8" y="10800"/>
                </a:moveTo>
                <a:cubicBezTo>
                  <a:pt x="378" y="16556"/>
                  <a:pt x="5044" y="21222"/>
                  <a:pt x="10800" y="21222"/>
                </a:cubicBezTo>
                <a:cubicBezTo>
                  <a:pt x="16556" y="21222"/>
                  <a:pt x="21222" y="16556"/>
                  <a:pt x="21222" y="10800"/>
                </a:cubicBezTo>
                <a:cubicBezTo>
                  <a:pt x="21222" y="5044"/>
                  <a:pt x="16556" y="378"/>
                  <a:pt x="10800" y="378"/>
                </a:cubicBezTo>
                <a:cubicBezTo>
                  <a:pt x="5044" y="378"/>
                  <a:pt x="378" y="5044"/>
                  <a:pt x="378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文本框 11"/>
          <p:cNvSpPr/>
          <p:nvPr/>
        </p:nvSpPr>
        <p:spPr>
          <a:xfrm>
            <a:off x="1555920" y="2344680"/>
            <a:ext cx="5929200" cy="18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Here Adds the 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Here Adds the 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Here Adds the 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Here Adds the 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Here Adds the 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图片 1" descr=""/>
          <p:cNvPicPr/>
          <p:nvPr/>
        </p:nvPicPr>
        <p:blipFill>
          <a:blip r:embed="rId1"/>
          <a:stretch/>
        </p:blipFill>
        <p:spPr>
          <a:xfrm>
            <a:off x="0" y="3240"/>
            <a:ext cx="8999640" cy="5392800"/>
          </a:xfrm>
          <a:prstGeom prst="rect">
            <a:avLst/>
          </a:prstGeom>
          <a:ln w="0">
            <a:noFill/>
          </a:ln>
        </p:spPr>
      </p:pic>
      <p:sp>
        <p:nvSpPr>
          <p:cNvPr id="528" name="矩形 8"/>
          <p:cNvSpPr/>
          <p:nvPr/>
        </p:nvSpPr>
        <p:spPr>
          <a:xfrm>
            <a:off x="2235240" y="1179360"/>
            <a:ext cx="5545080" cy="863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31"/>
          <p:cNvSpPr/>
          <p:nvPr/>
        </p:nvSpPr>
        <p:spPr>
          <a:xfrm>
            <a:off x="1341360" y="2124000"/>
            <a:ext cx="6438960" cy="2222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Group 5"/>
          <p:cNvGrpSpPr/>
          <p:nvPr/>
        </p:nvGrpSpPr>
        <p:grpSpPr>
          <a:xfrm>
            <a:off x="1341360" y="1177920"/>
            <a:ext cx="792360" cy="865080"/>
            <a:chOff x="1341360" y="1177920"/>
            <a:chExt cx="792360" cy="865080"/>
          </a:xfrm>
        </p:grpSpPr>
        <p:sp>
          <p:nvSpPr>
            <p:cNvPr id="531" name="矩形 10"/>
            <p:cNvSpPr/>
            <p:nvPr/>
          </p:nvSpPr>
          <p:spPr>
            <a:xfrm>
              <a:off x="1341360" y="1177920"/>
              <a:ext cx="792360" cy="86508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文本框 11"/>
            <p:cNvSpPr/>
            <p:nvPr/>
          </p:nvSpPr>
          <p:spPr>
            <a:xfrm>
              <a:off x="1429200" y="1719360"/>
              <a:ext cx="605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阅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3" name="图片 13" descr=""/>
            <p:cNvPicPr/>
            <p:nvPr/>
          </p:nvPicPr>
          <p:blipFill>
            <a:blip r:embed="rId2"/>
            <a:srcRect l="43274" t="0" r="43830" b="0"/>
            <a:stretch/>
          </p:blipFill>
          <p:spPr>
            <a:xfrm>
              <a:off x="1458000" y="1186920"/>
              <a:ext cx="576360" cy="56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4" name="文本框 14"/>
          <p:cNvSpPr/>
          <p:nvPr/>
        </p:nvSpPr>
        <p:spPr>
          <a:xfrm>
            <a:off x="2919240" y="135900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11" descr="home">
            <a:hlinkClick r:id="" action="ppaction://hlinkshowjump?jump=firstslide"/>
          </p:cNvPr>
          <p:cNvPicPr/>
          <p:nvPr/>
        </p:nvPicPr>
        <p:blipFill>
          <a:blip r:embed="rId3">
            <a:lum bright="42000"/>
          </a:blip>
          <a:stretch/>
        </p:blipFill>
        <p:spPr>
          <a:xfrm>
            <a:off x="487440" y="36684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36" name="AutoShape 12"/>
          <p:cNvSpPr/>
          <p:nvPr/>
        </p:nvSpPr>
        <p:spPr>
          <a:xfrm>
            <a:off x="431640" y="312840"/>
            <a:ext cx="398520" cy="398520"/>
          </a:xfrm>
          <a:custGeom>
            <a:avLst/>
            <a:gdLst>
              <a:gd name="textAreaLeft" fmla="*/ 58320 w 398520"/>
              <a:gd name="textAreaRight" fmla="*/ 340200 w 398520"/>
              <a:gd name="textAreaTop" fmla="*/ 58320 h 398520"/>
              <a:gd name="textAreaBottom" fmla="*/ 34020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8" y="10800"/>
                </a:moveTo>
                <a:cubicBezTo>
                  <a:pt x="378" y="16556"/>
                  <a:pt x="5044" y="21222"/>
                  <a:pt x="10800" y="21222"/>
                </a:cubicBezTo>
                <a:cubicBezTo>
                  <a:pt x="16556" y="21222"/>
                  <a:pt x="21222" y="16556"/>
                  <a:pt x="21222" y="10800"/>
                </a:cubicBezTo>
                <a:cubicBezTo>
                  <a:pt x="21222" y="5044"/>
                  <a:pt x="16556" y="378"/>
                  <a:pt x="10800" y="378"/>
                </a:cubicBezTo>
                <a:cubicBezTo>
                  <a:pt x="5044" y="378"/>
                  <a:pt x="378" y="5044"/>
                  <a:pt x="378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1"/>
          <p:cNvSpPr/>
          <p:nvPr/>
        </p:nvSpPr>
        <p:spPr>
          <a:xfrm>
            <a:off x="1555920" y="2344680"/>
            <a:ext cx="5929200" cy="18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Here Adds the 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Here Adds the 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Here Adds the 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Here Adds the 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Here Adds the 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图片 1" descr=""/>
          <p:cNvPicPr/>
          <p:nvPr/>
        </p:nvPicPr>
        <p:blipFill>
          <a:blip r:embed="rId1"/>
          <a:stretch/>
        </p:blipFill>
        <p:spPr>
          <a:xfrm>
            <a:off x="0" y="3240"/>
            <a:ext cx="8999640" cy="5392800"/>
          </a:xfrm>
          <a:prstGeom prst="rect">
            <a:avLst/>
          </a:prstGeom>
          <a:ln w="0">
            <a:noFill/>
          </a:ln>
        </p:spPr>
      </p:pic>
      <p:sp>
        <p:nvSpPr>
          <p:cNvPr id="539" name="矩形 8"/>
          <p:cNvSpPr/>
          <p:nvPr/>
        </p:nvSpPr>
        <p:spPr>
          <a:xfrm>
            <a:off x="2235240" y="1179360"/>
            <a:ext cx="5545080" cy="863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31"/>
          <p:cNvSpPr/>
          <p:nvPr/>
        </p:nvSpPr>
        <p:spPr>
          <a:xfrm>
            <a:off x="1341360" y="2124000"/>
            <a:ext cx="6438960" cy="2222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Group 5"/>
          <p:cNvGrpSpPr/>
          <p:nvPr/>
        </p:nvGrpSpPr>
        <p:grpSpPr>
          <a:xfrm>
            <a:off x="1341360" y="1179360"/>
            <a:ext cx="792360" cy="863640"/>
            <a:chOff x="1341360" y="1179360"/>
            <a:chExt cx="792360" cy="863640"/>
          </a:xfrm>
        </p:grpSpPr>
        <p:sp>
          <p:nvSpPr>
            <p:cNvPr id="542" name="矩形 10"/>
            <p:cNvSpPr/>
            <p:nvPr/>
          </p:nvSpPr>
          <p:spPr>
            <a:xfrm>
              <a:off x="1341360" y="1179360"/>
              <a:ext cx="792360" cy="86364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文本框 11"/>
            <p:cNvSpPr/>
            <p:nvPr/>
          </p:nvSpPr>
          <p:spPr>
            <a:xfrm>
              <a:off x="1432080" y="1720080"/>
              <a:ext cx="605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置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4" name="图片 13" descr=""/>
            <p:cNvPicPr/>
            <p:nvPr/>
          </p:nvPicPr>
          <p:blipFill>
            <a:blip r:embed="rId2"/>
            <a:srcRect l="64435" t="0" r="21054" b="0"/>
            <a:stretch/>
          </p:blipFill>
          <p:spPr>
            <a:xfrm>
              <a:off x="1438920" y="1188360"/>
              <a:ext cx="648360" cy="56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5" name="文本框 14"/>
          <p:cNvSpPr/>
          <p:nvPr/>
        </p:nvSpPr>
        <p:spPr>
          <a:xfrm>
            <a:off x="2919240" y="135900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1" descr="home">
            <a:hlinkClick r:id="" action="ppaction://hlinkshowjump?jump=firstslide"/>
          </p:cNvPr>
          <p:cNvPicPr/>
          <p:nvPr/>
        </p:nvPicPr>
        <p:blipFill>
          <a:blip r:embed="rId3">
            <a:lum bright="42000"/>
          </a:blip>
          <a:stretch/>
        </p:blipFill>
        <p:spPr>
          <a:xfrm>
            <a:off x="487440" y="36684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47" name="AutoShape 12"/>
          <p:cNvSpPr/>
          <p:nvPr/>
        </p:nvSpPr>
        <p:spPr>
          <a:xfrm>
            <a:off x="431640" y="312840"/>
            <a:ext cx="398520" cy="398520"/>
          </a:xfrm>
          <a:custGeom>
            <a:avLst/>
            <a:gdLst>
              <a:gd name="textAreaLeft" fmla="*/ 58320 w 398520"/>
              <a:gd name="textAreaRight" fmla="*/ 340200 w 398520"/>
              <a:gd name="textAreaTop" fmla="*/ 58320 h 398520"/>
              <a:gd name="textAreaBottom" fmla="*/ 34020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8" y="10800"/>
                </a:moveTo>
                <a:cubicBezTo>
                  <a:pt x="378" y="16556"/>
                  <a:pt x="5044" y="21222"/>
                  <a:pt x="10800" y="21222"/>
                </a:cubicBezTo>
                <a:cubicBezTo>
                  <a:pt x="16556" y="21222"/>
                  <a:pt x="21222" y="16556"/>
                  <a:pt x="21222" y="10800"/>
                </a:cubicBezTo>
                <a:cubicBezTo>
                  <a:pt x="21222" y="5044"/>
                  <a:pt x="16556" y="378"/>
                  <a:pt x="10800" y="378"/>
                </a:cubicBezTo>
                <a:cubicBezTo>
                  <a:pt x="5044" y="378"/>
                  <a:pt x="378" y="5044"/>
                  <a:pt x="378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1"/>
          <p:cNvSpPr/>
          <p:nvPr/>
        </p:nvSpPr>
        <p:spPr>
          <a:xfrm>
            <a:off x="1555920" y="2344680"/>
            <a:ext cx="5929200" cy="18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Here Adds the 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Here Adds the 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Here Adds the 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Here Adds the 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Here Adds the 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图片 1" descr=""/>
          <p:cNvPicPr/>
          <p:nvPr/>
        </p:nvPicPr>
        <p:blipFill>
          <a:blip r:embed="rId1"/>
          <a:stretch/>
        </p:blipFill>
        <p:spPr>
          <a:xfrm>
            <a:off x="0" y="3240"/>
            <a:ext cx="8999640" cy="5392800"/>
          </a:xfrm>
          <a:prstGeom prst="rect">
            <a:avLst/>
          </a:prstGeom>
          <a:ln w="0">
            <a:noFill/>
          </a:ln>
        </p:spPr>
      </p:pic>
      <p:sp>
        <p:nvSpPr>
          <p:cNvPr id="550" name="矩形 8"/>
          <p:cNvSpPr/>
          <p:nvPr/>
        </p:nvSpPr>
        <p:spPr>
          <a:xfrm>
            <a:off x="2235240" y="1179360"/>
            <a:ext cx="5545080" cy="863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31"/>
          <p:cNvSpPr/>
          <p:nvPr/>
        </p:nvSpPr>
        <p:spPr>
          <a:xfrm>
            <a:off x="1341360" y="2124000"/>
            <a:ext cx="6438960" cy="2222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Group 5"/>
          <p:cNvGrpSpPr/>
          <p:nvPr/>
        </p:nvGrpSpPr>
        <p:grpSpPr>
          <a:xfrm>
            <a:off x="1341360" y="1170000"/>
            <a:ext cx="792360" cy="873000"/>
            <a:chOff x="1341360" y="1170000"/>
            <a:chExt cx="792360" cy="873000"/>
          </a:xfrm>
        </p:grpSpPr>
        <p:sp>
          <p:nvSpPr>
            <p:cNvPr id="553" name="矩形 10"/>
            <p:cNvSpPr/>
            <p:nvPr/>
          </p:nvSpPr>
          <p:spPr>
            <a:xfrm>
              <a:off x="1341360" y="1177920"/>
              <a:ext cx="792360" cy="86508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4" name="图片 11" descr=""/>
            <p:cNvPicPr/>
            <p:nvPr/>
          </p:nvPicPr>
          <p:blipFill>
            <a:blip r:embed="rId2"/>
            <a:srcRect l="84789" t="0" r="0" b="0"/>
            <a:stretch/>
          </p:blipFill>
          <p:spPr>
            <a:xfrm>
              <a:off x="1381320" y="1170000"/>
              <a:ext cx="679680" cy="56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文本框 13"/>
            <p:cNvSpPr/>
            <p:nvPr/>
          </p:nvSpPr>
          <p:spPr>
            <a:xfrm>
              <a:off x="1434960" y="1719720"/>
              <a:ext cx="605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下载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文本框 14"/>
          <p:cNvSpPr/>
          <p:nvPr/>
        </p:nvSpPr>
        <p:spPr>
          <a:xfrm>
            <a:off x="2919240" y="135900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11" descr="home">
            <a:hlinkClick r:id="" action="ppaction://hlinkshowjump?jump=firstslide"/>
          </p:cNvPr>
          <p:cNvPicPr/>
          <p:nvPr/>
        </p:nvPicPr>
        <p:blipFill>
          <a:blip r:embed="rId3">
            <a:lum bright="42000"/>
          </a:blip>
          <a:stretch/>
        </p:blipFill>
        <p:spPr>
          <a:xfrm>
            <a:off x="487440" y="36684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58" name="AutoShape 12"/>
          <p:cNvSpPr/>
          <p:nvPr/>
        </p:nvSpPr>
        <p:spPr>
          <a:xfrm>
            <a:off x="431640" y="312840"/>
            <a:ext cx="398520" cy="398520"/>
          </a:xfrm>
          <a:custGeom>
            <a:avLst/>
            <a:gdLst>
              <a:gd name="textAreaLeft" fmla="*/ 58320 w 398520"/>
              <a:gd name="textAreaRight" fmla="*/ 340200 w 398520"/>
              <a:gd name="textAreaTop" fmla="*/ 58320 h 398520"/>
              <a:gd name="textAreaBottom" fmla="*/ 34020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8" y="10800"/>
                </a:moveTo>
                <a:cubicBezTo>
                  <a:pt x="378" y="16556"/>
                  <a:pt x="5044" y="21222"/>
                  <a:pt x="10800" y="21222"/>
                </a:cubicBezTo>
                <a:cubicBezTo>
                  <a:pt x="16556" y="21222"/>
                  <a:pt x="21222" y="16556"/>
                  <a:pt x="21222" y="10800"/>
                </a:cubicBezTo>
                <a:cubicBezTo>
                  <a:pt x="21222" y="5044"/>
                  <a:pt x="16556" y="378"/>
                  <a:pt x="10800" y="378"/>
                </a:cubicBezTo>
                <a:cubicBezTo>
                  <a:pt x="5044" y="378"/>
                  <a:pt x="378" y="5044"/>
                  <a:pt x="378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11"/>
          <p:cNvSpPr/>
          <p:nvPr/>
        </p:nvSpPr>
        <p:spPr>
          <a:xfrm>
            <a:off x="1555920" y="2344680"/>
            <a:ext cx="5929200" cy="18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Here Adds the 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Here Adds the 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Here Adds the 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Here Adds the 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Here Adds the 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12"/>
          <p:cNvSpPr/>
          <p:nvPr/>
        </p:nvSpPr>
        <p:spPr>
          <a:xfrm>
            <a:off x="8172360" y="4788000"/>
            <a:ext cx="398520" cy="398520"/>
          </a:xfrm>
          <a:custGeom>
            <a:avLst/>
            <a:gdLst>
              <a:gd name="textAreaLeft" fmla="*/ 58320 w 398520"/>
              <a:gd name="textAreaRight" fmla="*/ 340200 w 398520"/>
              <a:gd name="textAreaTop" fmla="*/ 58320 h 398520"/>
              <a:gd name="textAreaBottom" fmla="*/ 34020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8" y="10800"/>
                </a:moveTo>
                <a:cubicBezTo>
                  <a:pt x="378" y="16556"/>
                  <a:pt x="5044" y="21222"/>
                  <a:pt x="10800" y="21222"/>
                </a:cubicBezTo>
                <a:cubicBezTo>
                  <a:pt x="16556" y="21222"/>
                  <a:pt x="21222" y="16556"/>
                  <a:pt x="21222" y="10800"/>
                </a:cubicBezTo>
                <a:cubicBezTo>
                  <a:pt x="21222" y="5044"/>
                  <a:pt x="16556" y="378"/>
                  <a:pt x="10800" y="378"/>
                </a:cubicBezTo>
                <a:cubicBezTo>
                  <a:pt x="5044" y="378"/>
                  <a:pt x="378" y="5044"/>
                  <a:pt x="378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4"/>
          <p:cNvSpPr/>
          <p:nvPr/>
        </p:nvSpPr>
        <p:spPr>
          <a:xfrm>
            <a:off x="8118360" y="4842000"/>
            <a:ext cx="5749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12"/>
          <p:cNvSpPr/>
          <p:nvPr/>
        </p:nvSpPr>
        <p:spPr>
          <a:xfrm>
            <a:off x="469800" y="4986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文本框 1"/>
          <p:cNvSpPr/>
          <p:nvPr/>
        </p:nvSpPr>
        <p:spPr>
          <a:xfrm>
            <a:off x="3708360" y="212400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直接连接符 3"/>
          <p:cNvSpPr/>
          <p:nvPr/>
        </p:nvSpPr>
        <p:spPr>
          <a:xfrm>
            <a:off x="4680000" y="2816280"/>
            <a:ext cx="13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直接连接符 4"/>
          <p:cNvSpPr/>
          <p:nvPr/>
        </p:nvSpPr>
        <p:spPr>
          <a:xfrm>
            <a:off x="3203640" y="1962000"/>
            <a:ext cx="13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椭圆 5"/>
          <p:cNvSpPr/>
          <p:nvPr/>
        </p:nvSpPr>
        <p:spPr>
          <a:xfrm>
            <a:off x="4522680" y="190800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椭圆 6"/>
          <p:cNvSpPr/>
          <p:nvPr/>
        </p:nvSpPr>
        <p:spPr>
          <a:xfrm>
            <a:off x="4675320" y="2771640"/>
            <a:ext cx="10764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WMQ</dc:creator>
  <dc:description/>
  <cp:keywords/>
  <dc:language>en-US</dc:language>
  <cp:lastModifiedBy>王玉清</cp:lastModifiedBy>
  <dcterms:modified xsi:type="dcterms:W3CDTF">2016-02-24T02:57:27Z</dcterms:modified>
  <cp:revision>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80</vt:lpwstr>
  </property>
</Properties>
</file>