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285-99D0-4D60-AD52-426FB63C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E04-7600-4F0E-89D0-AD21BB77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E4A-29F3-4D44-AB66-BE71DD08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772-6B5A-4C60-804D-42090EFC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5BFA-9B84-4F3A-88A3-4E92B64E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BEE9-9B9F-4C17-81D7-241B3CD4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08A5-7A9B-4892-8F82-F28440D2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21AB-2664-40B9-8146-1DD41AC7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2B14-FEF6-4CD3-8535-89360448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3222-8E4D-4A0B-A388-14D753BD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DE15-FB50-48C2-A149-10552DC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90DF-BDDF-4F3E-B97D-424343CE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245B-F8C6-4278-90A5-1914A07C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0D49-FB6D-42A0-AF52-217A464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56C-C285-465B-AF36-D0E61DC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509-7076-40CE-B7F8-A4BD800C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EA91-E5EC-4FB4-95F0-DD278EE1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DD5-19C5-45C4-B981-E3E7A8CA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2DA-787C-4FB9-9265-F27D0668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B00-B9E1-46D1-8C32-52657F4C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6A4-B96F-4F92-A659-19499B64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FEE-D79B-4896-B74C-A5EC9CF2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C04-4B9F-4A05-A545-89683532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78B-F697-45D4-939C-3E4B9DC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17B-4DB9-448D-8732-5DC39026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454C-DDFF-4982-A48C-5F899043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780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68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京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最主要的戏曲剧种，流行于全国各地，其前身是徽调和汉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京剧后定为我国国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的形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原有南方演出的三庆、四喜、春台、和春四大微调班社进入北京，同来自湖北的汉调艺人合作，接受了其他剧种的表演方法，演变，而形成早期京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有的京剧是有许多的表演艺术家经过不断的创作丰富而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音乐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音乐属于皮黄腔系，唱腔以徽调的二黄和汉调的西皮为主所以叫“皮黄腔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腔伴奏乐器以京胡、京二胡、月琴、三弦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78680" y="5565600"/>
            <a:ext cx="11653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表演角色分类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人物男、女、老、少、俊、丑、正、雅分成生、旦、净、丑四大角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种角色都有其不同的脸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22800" y="4560840"/>
            <a:ext cx="3121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京剧欣赏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-----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《智斗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智斗》选自《沙家浜》（现代京剧）第四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容介词：新四军家属阿庆嫂，在沙家浜以开茶馆为名从事党的地下交通站工作，原是土匪头子的胡传魁，曾因抗日被日本鬼子追击得走投无路，阿庆嫂因其抗日而掩护他，救了他的命。不料后来胡传魁投降日寇，成为伪军“忠义救国军”的司令，驻扎到沙家浜专事围剿新四军伤病员。日寇为了他，给他派了个参谋长——本地豪绅刁老太爷的儿子汉奸翻泽官刁德一为控制这支军队，执行围剿任务。来到了茶馆，刁德一看到胡传魁与阿庆嫂这么热情打招呼，顿生疑心，就旁敲侧击地盘误码阿庆嫂打听有关新四军伤病员的消息。可是阿庆嫂察颜观色、严密防备、机智伶俐、以守为攻，说出来的话无懈可击、滴水不漏，使刁德一一无所获，讨了个没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2590920"/>
            <a:ext cx="7524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剧中人物各有哪些特点（从语言中提炼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当时社会历史背景（人物所处环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6666"/>
                </a:solidFill>
                <a:latin typeface="Times New Roman"/>
              </a:rPr>
              <a:t>、京剧音乐唱腔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0840" y="9907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Times New Roman"/>
              </a:rPr>
              <a:t>问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595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254-E3B5-4BD8-AAF3-5F2F54856C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8:54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1:39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