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7ED-4869-46DB-AC07-375BE5F0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6E3-00E6-4692-9F1A-76EF7749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2D3-95A7-4195-A9E2-794F2FE3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D1B-02F7-426B-A6D4-107F6456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878-AABC-489E-82D9-DA1B5DB4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C69-966A-4E56-AF96-A4C373D0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D28-6EE9-4BFF-88C7-B42E47AC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447-D8C6-4385-950E-C8CA5E7F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39F-18CD-40B5-831C-9D200B15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706-7636-4E3D-9D86-B6C1A82F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07A-15CA-43C3-A40D-2EBA29DA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604-F3E2-4B79-B849-9943907C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ndara"/>
                <a:ea typeface="华文细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C4BB-836E-4861-ADF7-29A76B5A2C4F}" type="datetime">
              <a:rPr b="0" lang="zh-CN" sz="1200" spc="-1" strike="noStrike">
                <a:solidFill>
                  <a:srgbClr val="ffffff"/>
                </a:solidFill>
                <a:latin typeface="Candara"/>
                <a:ea typeface="华文细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ndara"/>
                <a:ea typeface="华文细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54E7-1044-421B-BF9D-A12807AB6D6A}" type="slidenum">
              <a:rPr b="0" lang="zh-CN" sz="1200" spc="-1" strike="noStrike">
                <a:solidFill>
                  <a:srgbClr val="ffffff"/>
                </a:solidFill>
                <a:latin typeface="Candara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16000" y="222264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25520" y="4762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竞聘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3186000" y="2133720"/>
            <a:ext cx="27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WHA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HOW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4284720" y="285264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华文细黑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3924360" y="4048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ndara"/>
                <a:ea typeface="华文细黑"/>
              </a:rPr>
              <a:t>电子数据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635280" y="2421000"/>
            <a:ext cx="18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  <a:ea typeface="华文细黑"/>
              </a:rPr>
              <a:t>专业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3851280" y="1052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ndara"/>
                <a:ea typeface="华文细黑"/>
              </a:rPr>
              <a:t>定期培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左大括号 7"/>
          <p:cNvSpPr/>
          <p:nvPr/>
        </p:nvSpPr>
        <p:spPr>
          <a:xfrm>
            <a:off x="3132000" y="1341360"/>
            <a:ext cx="360360" cy="29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8640 h 2951280"/>
              <a:gd name="textAreaBottom" fmla="*/ 294264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"/>
                  <a:pt x="10800" y="210"/>
                </a:cubicBezTo>
                <a:lnTo>
                  <a:pt x="10800" y="10590"/>
                </a:lnTo>
                <a:cubicBezTo>
                  <a:pt x="10800" y="10695"/>
                  <a:pt x="5400" y="10800"/>
                  <a:pt x="0" y="10800"/>
                </a:cubicBezTo>
                <a:cubicBezTo>
                  <a:pt x="5400" y="10800"/>
                  <a:pt x="10800" y="10905"/>
                  <a:pt x="10800" y="11010"/>
                </a:cubicBezTo>
                <a:lnTo>
                  <a:pt x="10800" y="21390"/>
                </a:lnTo>
                <a:cubicBezTo>
                  <a:pt x="10800" y="2149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580000" y="9828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部员分组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\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邀请家教中心宣传组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\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6084720" y="3645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共享资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6084720" y="458136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内部资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左大括号 11"/>
          <p:cNvSpPr/>
          <p:nvPr/>
        </p:nvSpPr>
        <p:spPr>
          <a:xfrm>
            <a:off x="5651640" y="3860640"/>
            <a:ext cx="288720" cy="86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9"/>
                  <a:pt x="10800" y="578"/>
                </a:cubicBezTo>
                <a:lnTo>
                  <a:pt x="10800" y="10222"/>
                </a:lnTo>
                <a:cubicBezTo>
                  <a:pt x="10800" y="10511"/>
                  <a:pt x="5400" y="10800"/>
                  <a:pt x="0" y="10800"/>
                </a:cubicBezTo>
                <a:cubicBezTo>
                  <a:pt x="5400" y="10800"/>
                  <a:pt x="10800" y="11089"/>
                  <a:pt x="10800" y="11378"/>
                </a:cubicBezTo>
                <a:lnTo>
                  <a:pt x="10800" y="21022"/>
                </a:lnTo>
                <a:cubicBezTo>
                  <a:pt x="10800" y="2131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3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9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4067280" y="42022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完善制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3672000" y="2708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ndara"/>
                <a:ea typeface="华文细黑"/>
              </a:rPr>
              <a:t>规范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067280" y="1998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写你所做，做你所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4067280" y="2813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完善</a:t>
            </a:r>
            <a:r>
              <a:rPr b="0" lang="en-US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VI</a:t>
            </a: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系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4067280" y="14842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ISO</a:t>
            </a: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标准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左大括号 6"/>
          <p:cNvSpPr/>
          <p:nvPr/>
        </p:nvSpPr>
        <p:spPr>
          <a:xfrm>
            <a:off x="3419640" y="1700280"/>
            <a:ext cx="288720" cy="2808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808360"/>
              <a:gd name="textAreaBottom" fmla="*/ 280116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"/>
                  <a:pt x="10800" y="177"/>
                </a:cubicBezTo>
                <a:lnTo>
                  <a:pt x="10800" y="10623"/>
                </a:lnTo>
                <a:cubicBezTo>
                  <a:pt x="10800" y="10712"/>
                  <a:pt x="5400" y="10800"/>
                  <a:pt x="0" y="10800"/>
                </a:cubicBezTo>
                <a:cubicBezTo>
                  <a:pt x="5400" y="10800"/>
                  <a:pt x="10800" y="10889"/>
                  <a:pt x="10800" y="10977"/>
                </a:cubicBezTo>
                <a:lnTo>
                  <a:pt x="10800" y="21423"/>
                </a:lnTo>
                <a:cubicBezTo>
                  <a:pt x="10800" y="2151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4140360" y="3429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标志、标准字组合规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4140360" y="3789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制作桌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530208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7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8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1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2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1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2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3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5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6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7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9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0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1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indefinite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5" dur="indefinite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6" dur="indefinite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203640" y="209232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华文细黑"/>
              </a:rPr>
              <a:t>Well , my speech is 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879640" y="2565360"/>
            <a:ext cx="37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华文细黑"/>
              </a:rPr>
              <a:t>One last thing , I want to tell yo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403280" y="3068640"/>
            <a:ext cx="633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谢谢大家一年来的照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♥ </a:t>
            </a:r>
            <a:r>
              <a:rPr b="0" lang="en-US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love you all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 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THANK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6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6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6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203640" y="209232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华文细黑"/>
              </a:rPr>
              <a:t>Well , my speech is 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879640" y="2565360"/>
            <a:ext cx="37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华文细黑"/>
              </a:rPr>
              <a:t>One last thing , I want to tell yo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403280" y="3068640"/>
            <a:ext cx="633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谢谢大家一年来的照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♥ </a:t>
            </a:r>
            <a:r>
              <a:rPr b="0" lang="en-US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love you all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 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THANK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6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6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6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F55-BADA-4849-B41A-B9705DD601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627280" y="1427040"/>
            <a:ext cx="1692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3708360" y="206064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种风格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组合 7"/>
          <p:cNvGrpSpPr/>
          <p:nvPr/>
        </p:nvGrpSpPr>
        <p:grpSpPr>
          <a:xfrm>
            <a:off x="3850920" y="3068280"/>
            <a:ext cx="2376360" cy="1008360"/>
            <a:chOff x="3850920" y="3068280"/>
            <a:chExt cx="2376360" cy="1008360"/>
          </a:xfrm>
        </p:grpSpPr>
        <p:sp>
          <p:nvSpPr>
            <p:cNvPr id="47" name="矩形 5"/>
            <p:cNvSpPr/>
            <p:nvPr/>
          </p:nvSpPr>
          <p:spPr>
            <a:xfrm flipH="1" flipV="1">
              <a:off x="3850560" y="3648240"/>
              <a:ext cx="23763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矩形 3"/>
            <p:cNvSpPr/>
            <p:nvPr/>
          </p:nvSpPr>
          <p:spPr>
            <a:xfrm flipH="1" flipV="1">
              <a:off x="3850560" y="3428280"/>
              <a:ext cx="2376360" cy="40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矩形 4"/>
            <p:cNvSpPr/>
            <p:nvPr/>
          </p:nvSpPr>
          <p:spPr>
            <a:xfrm flipH="1" flipV="1">
              <a:off x="3850560" y="3213000"/>
              <a:ext cx="2376360" cy="54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矩形 6"/>
            <p:cNvSpPr/>
            <p:nvPr/>
          </p:nvSpPr>
          <p:spPr>
            <a:xfrm flipH="1" flipV="1">
              <a:off x="3850560" y="3067920"/>
              <a:ext cx="2376360" cy="431640"/>
            </a:xfrm>
            <a:prstGeom prst="rect">
              <a:avLst/>
            </a:prstGeom>
            <a:solidFill>
              <a:srgbClr val="1e0b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627280" y="2060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有始有终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C:\Users\Gin.Gin-PC\AppData\Local\Microsoft\Windows\Temporary Internet Files\Content.IE5\VDY2ADMX\MC900023467[1].wmf"/>
          <p:cNvPicPr/>
          <p:nvPr/>
        </p:nvPicPr>
        <p:blipFill>
          <a:blip r:embed="rId1">
            <a:lum bright="88000"/>
          </a:blip>
          <a:stretch/>
        </p:blipFill>
        <p:spPr>
          <a:xfrm>
            <a:off x="3716280" y="3500280"/>
            <a:ext cx="171144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023920" y="2496960"/>
            <a:ext cx="5096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ndara"/>
                <a:ea typeface="华文细黑"/>
              </a:rPr>
              <a:t>办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Candara"/>
                <a:ea typeface="华文细黑"/>
              </a:rPr>
              <a:t>总</a:t>
            </a:r>
            <a:r>
              <a:rPr b="0" lang="zh-CN" sz="4000" spc="-1" strike="noStrike">
                <a:solidFill>
                  <a:srgbClr val="ffffff"/>
                </a:solidFill>
                <a:latin typeface="Candara"/>
                <a:ea typeface="华文细黑"/>
              </a:rPr>
              <a:t>比困难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图片 3" descr="20120923121625550_easyicon_cn_256.png"/>
          <p:cNvPicPr/>
          <p:nvPr/>
        </p:nvPicPr>
        <p:blipFill>
          <a:blip r:embed="rId1"/>
          <a:stretch/>
        </p:blipFill>
        <p:spPr>
          <a:xfrm>
            <a:off x="4932360" y="2316240"/>
            <a:ext cx="1003320" cy="100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340000" y="400536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懂得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倾听</a:t>
            </a: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别人的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忠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C:\Users\Gin.Gin-PC\AppData\Local\Microsoft\Windows\Temporary Internet Files\Content.IE5\ZIBP3TT4\MC900078738[1].wmf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3887640" y="2048040"/>
            <a:ext cx="1368720" cy="1452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2268360" y="1236600"/>
            <a:ext cx="46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专心</a:t>
            </a:r>
            <a:r>
              <a:rPr b="0" lang="zh-CN" sz="3600" spc="-1" strike="noStrike">
                <a:solidFill>
                  <a:srgbClr val="ffffff"/>
                </a:solidFill>
                <a:latin typeface="Candara"/>
                <a:ea typeface="华文细黑"/>
              </a:rPr>
              <a:t>地</a:t>
            </a:r>
            <a:r>
              <a:rPr b="0" lang="zh-CN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工作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尽情</a:t>
            </a:r>
            <a:r>
              <a:rPr b="0" lang="zh-CN" sz="3600" spc="-1" strike="noStrike">
                <a:solidFill>
                  <a:srgbClr val="ffffff"/>
                </a:solidFill>
                <a:latin typeface="Candara"/>
                <a:ea typeface="华文细黑"/>
              </a:rPr>
              <a:t>地</a:t>
            </a:r>
            <a:r>
              <a:rPr b="0" lang="zh-CN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 rot="19123800">
            <a:off x="4784760" y="2534760"/>
            <a:ext cx="57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Kozuka Gothic Pro R"/>
                <a:ea typeface="Kozuka Gothic Pro R"/>
              </a:rPr>
              <a:t>&amp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763640" y="1413000"/>
            <a:ext cx="56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一个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人</a:t>
            </a: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的努力，是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加</a:t>
            </a: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法效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一个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团队</a:t>
            </a: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的努力，是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乘</a:t>
            </a: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法效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图片 7" descr="iconmonstr-user-14-icon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932360" y="3284640"/>
            <a:ext cx="2735280" cy="27367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8" descr="iconmonstr-user-11-icon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4226040"/>
            <a:ext cx="1069920" cy="1069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9" descr="iconmonstr-user-icon.pn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717640" y="422100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63" name="不等于号 5"/>
          <p:cNvSpPr/>
          <p:nvPr/>
        </p:nvSpPr>
        <p:spPr>
          <a:xfrm>
            <a:off x="3753000" y="4653000"/>
            <a:ext cx="1223640" cy="43164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519280" y="465300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今天的工作都是在为明天的工作做准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3311640" y="37162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  <a:ea typeface="华文细黑"/>
              </a:rPr>
              <a:t>工作规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3" descr="C:\Users\Gin.Gin-PC\AppData\Local\Microsoft\Windows\Temporary Internet Files\Content.IE5\PVZAIK6M\MC900434804[1].png"/>
          <p:cNvPicPr/>
          <p:nvPr/>
        </p:nvPicPr>
        <p:blipFill>
          <a:blip r:embed="rId1"/>
          <a:stretch/>
        </p:blipFill>
        <p:spPr>
          <a:xfrm>
            <a:off x="3635280" y="17445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2448000" y="3044880"/>
            <a:ext cx="26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ndara"/>
                <a:ea typeface="华文细黑"/>
              </a:rPr>
              <a:t>发展方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5796000" y="1268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ndara"/>
                <a:ea typeface="华文细黑"/>
              </a:rPr>
              <a:t>专业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5796000" y="49417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ndara"/>
                <a:ea typeface="华文细黑"/>
              </a:rPr>
              <a:t>规范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左大括号 5"/>
          <p:cNvSpPr/>
          <p:nvPr/>
        </p:nvSpPr>
        <p:spPr>
          <a:xfrm>
            <a:off x="5003640" y="1628640"/>
            <a:ext cx="216000" cy="360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 h 3600720"/>
              <a:gd name="textAreaBottom" fmla="*/ 359568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"/>
                  <a:pt x="10800" y="103"/>
                </a:cubicBezTo>
                <a:lnTo>
                  <a:pt x="10800" y="10697"/>
                </a:lnTo>
                <a:cubicBezTo>
                  <a:pt x="10800" y="10749"/>
                  <a:pt x="5400" y="10800"/>
                  <a:pt x="0" y="10800"/>
                </a:cubicBezTo>
                <a:cubicBezTo>
                  <a:pt x="5400" y="10800"/>
                  <a:pt x="10800" y="10852"/>
                  <a:pt x="10800" y="10903"/>
                </a:cubicBezTo>
                <a:lnTo>
                  <a:pt x="10800" y="21497"/>
                </a:lnTo>
                <a:cubicBezTo>
                  <a:pt x="10800" y="215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3469E-006 L -0.10833 2.53469E-006 E">
                                      <p:cBhvr>
                                        <p:cTn id="6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09:1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52:04Z</dcterms:modified>
  <cp:revision>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