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B03-6560-4C41-B587-9D445601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CDC-47C3-4ED3-BEA7-459DBFD7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856-0164-4294-86FD-2E1466BE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1C2-F34F-4EFA-8766-26EE9D5E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A6E-6834-4FFF-956F-AFD1C00B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8AF-7E75-4F28-9D09-262A225D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73A-AB67-47C7-ABAB-1D9A47F5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369-BAC3-49AD-B487-EB7F2F8A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514-033E-4996-BB4F-B6DA38C8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FD4-A9A0-4265-B88C-B57A5FC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81E-4194-460F-B532-A0534CD9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BA1-55C7-4FB5-A767-5A14166A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D731-AFD2-4CE2-9257-07BE94F0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36440" y="3808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的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29000" y="1362240"/>
            <a:ext cx="5715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C46-BF6E-4816-B65F-5B0A44BD79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2075040"/>
            <a:ext cx="556272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29000" y="2790720"/>
            <a:ext cx="57150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9000" y="2867040"/>
            <a:ext cx="5715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94360" y="1938240"/>
            <a:ext cx="40496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2371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9000" y="2171880"/>
            <a:ext cx="57150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79760" y="1752480"/>
            <a:ext cx="476424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162864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8:42:1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11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