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FA8-67CE-4A15-AEA1-8664C7A5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A12-B8C3-4726-8386-4FD2FC3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8E1-4D45-46BA-B59D-1EE7BB9A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ECF-E82C-4CA8-84F7-7583C6ED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FC36-520D-40EE-9911-383D3F35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296B-8506-40B3-84B5-A769F363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F7DB-E69D-4476-8B5B-3F400FB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4F5A-C0E6-44F2-91FC-D899BD9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FD28-9A3D-4F09-8527-C401203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0D5E-E782-46A5-A4ED-C41AB517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F36-ED27-4A28-B7B7-77D4702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CA2-24E5-4046-B793-6044F1E7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9D2F-97F4-49EF-8EE2-7090877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0D7B-3537-4CA3-8061-C77E689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95F3-3E77-4087-AABC-015D2E2A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1AB9-2C35-4BCE-97FB-E09AFF87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47A5-5016-4BC2-8705-453D020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021-DA71-46BD-AE5A-C308834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B8E-D50B-471D-B09A-6BAC704C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C04-5E67-427B-A92F-EF1F144B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181-6413-4346-8CC1-5DBA853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020-C5D0-4557-A6A4-22199F2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2A4-EC3C-4518-BE2D-8A933C1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303-4E20-4794-B254-342F9276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b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AD26-AF71-422E-BEBE-C19B7EA31D5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4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403848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0" descr="232_a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F49F-A9AB-4E5C-BA42-7519C9DF97ED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2356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科幻电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5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6"/>
              <p:cNvSpPr/>
              <p:nvPr/>
            </p:nvSpPr>
            <p:spPr>
              <a:xfrm>
                <a:off x="1873080" y="1792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1652d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Line 11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Group 7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1" name="AutoShape 8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9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0"/>
              <p:cNvSpPr/>
              <p:nvPr/>
            </p:nvSpPr>
            <p:spPr>
              <a:xfrm>
                <a:off x="1873080" y="27064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Line 14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19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20"/>
              <p:cNvSpPr/>
              <p:nvPr/>
            </p:nvSpPr>
            <p:spPr>
              <a:xfrm>
                <a:off x="1873080" y="3598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1652d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Line 25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26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27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34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Group 21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7" name="AutoShape 22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23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AutoShape 24"/>
              <p:cNvSpPr/>
              <p:nvPr/>
            </p:nvSpPr>
            <p:spPr>
              <a:xfrm>
                <a:off x="1873080" y="4513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Line 28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9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849320"/>
          <a:ext cx="7620120" cy="37209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23"/>
          <p:cNvGrpSpPr/>
          <p:nvPr/>
        </p:nvGrpSpPr>
        <p:grpSpPr>
          <a:xfrm>
            <a:off x="1086120" y="1420200"/>
            <a:ext cx="6667920" cy="4675320"/>
            <a:chOff x="1086120" y="1420200"/>
            <a:chExt cx="6667920" cy="4675320"/>
          </a:xfrm>
        </p:grpSpPr>
        <p:sp>
          <p:nvSpPr>
            <p:cNvPr id="128" name="Oval 4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rc 6"/>
            <p:cNvSpPr/>
            <p:nvPr/>
          </p:nvSpPr>
          <p:spPr>
            <a:xfrm rot="20601600">
              <a:off x="4101840" y="223308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rc 7"/>
            <p:cNvSpPr/>
            <p:nvPr/>
          </p:nvSpPr>
          <p:spPr>
            <a:xfrm flipH="1" rot="20602200">
              <a:off x="1508040" y="354600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rc 8"/>
            <p:cNvSpPr/>
            <p:nvPr/>
          </p:nvSpPr>
          <p:spPr>
            <a:xfrm rot="20601600">
              <a:off x="3346560" y="196164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rc 9"/>
            <p:cNvSpPr/>
            <p:nvPr/>
          </p:nvSpPr>
          <p:spPr>
            <a:xfrm flipH="1" rot="20602200">
              <a:off x="1307880" y="261396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 rot="20601600">
              <a:off x="2914920" y="286992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413532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6237360" y="316836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rc 15"/>
            <p:cNvSpPr/>
            <p:nvPr/>
          </p:nvSpPr>
          <p:spPr>
            <a:xfrm rot="20539200">
              <a:off x="4635360" y="317448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7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8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9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49260"/>
                </a:gs>
                <a:gs pos="100000">
                  <a:srgbClr val="11442c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3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042C-E6DC-4061-824A-A8E6FEA461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8:19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09:4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