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1B6-F311-40F6-8C6E-ADC640D9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1C0-14BC-4F69-9806-DE804DB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72F03-9CA7-41C6-B73D-70D44F12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7D73-92C6-4837-A1C4-B9C54B8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91124-F71E-4E96-80BC-EF504C7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B6388-86F4-473B-A2EC-42E7389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75528-8F5F-483C-9ACD-6795C90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D264C-BD98-4B80-ACE0-04F41A4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8EBE-D02E-47D9-9359-D09B4B6B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15723-40A6-44DD-A9A7-22532950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6BB69-BC16-4EE9-A954-69A618F7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D4B5C-6E92-4D9F-8DC6-A987C1E7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241-8F97-471F-8002-188CF8F1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5C49F-3A55-4A6A-83B2-2FFF3591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313BC-64ED-4204-9BFC-885F7E6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BA227-9342-482A-94C0-F87F79D9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622B0-57E9-4A17-966A-BDF771B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7DBEE-15C7-4A5A-8F9B-96EAF80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CD562-DE5D-4080-8DF0-93A18BF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971F8-7609-413C-97D6-C6DC372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B9D5-5445-4A4E-8CBE-7B69C32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3785-184F-421C-8796-A407E2C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5DE43-8780-4CFA-B80C-F98EABA9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9B2-0E4B-413E-BEAF-71496CD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770CB-5BA5-481B-B8D5-08BABD6C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4FC83-2017-4A37-A95D-6CD3A8C5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AAC62-6150-421E-91CA-32C2788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1DAA9-A321-499A-A651-13E6ED01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439A-22CA-47A5-8BE7-DC1ACC9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A087-7EB6-4FC2-859B-2DEE12C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D73CC-57B2-4462-96EB-12F4AC8A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B445-E63F-42A4-A8E2-438DC72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D4207-8410-4D90-A552-D048AF6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F26B5-AD11-47B2-B6E9-7E9E8AC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A73-ADB0-41D0-858C-D78A56D8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E1CE-C845-451E-978A-36EA4FC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1F653-4B37-4F76-8DE6-73E112E2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1C5B-07E6-4748-8752-2D2CF6E2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05DF3-1ECD-4EEA-8D19-BE22E245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219DA-09F8-45BC-92A4-232C49E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4F6BC-3AED-45B4-8EEF-86256F8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118EF-1EE0-408F-BC57-C347B83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85352-7BAB-40EB-99B8-E560487B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ACA5D-C991-4410-969C-1432FFD6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B71B8-380E-41EB-A2BB-B8F00CE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ED2-3983-4C00-A909-42D5DF4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A60D3-4DE8-4BA0-B718-D1D9364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56AE-8A00-42BA-B98C-04A99EA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31D5D-57C6-4627-8501-3417C9B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F3FA1-93B7-4F20-970D-86C2C371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69EDC-A7AE-4274-99BB-D4D846A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C3A4-9D01-4E0C-9BBE-2F56C17F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59AF-B0C7-43AF-84EA-857B413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57D2-5520-48A6-8F03-401CA72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7824-3D49-4706-A067-7069B6F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F4F-0AD3-42A5-A4E2-C407652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F3B-8387-482C-A462-F94C2A8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360D-06D9-42DA-95D1-674A803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342-87AF-4589-868F-2677776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31F-C0C0-4D94-827D-CB2069AA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49E-ED17-48B6-88D0-4FEB0BA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B1B-85CF-4B9B-9C35-D6BDCBB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F717-6A33-4813-A484-6B4A2FA4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FE29-1CAE-4676-9CED-2A458D0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21FF-C6D6-47A9-A489-828981C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F9E5-B94B-4C75-9E7E-CED5D7B3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DFF1-D938-4622-AAF0-D43EE27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6FB-62C8-4679-9DFE-3CDB14D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F016-542A-4284-AB54-5DEF376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1958-90D8-484F-9594-4218F32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F466-964A-4F6A-AD55-A65508A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6367-0000-4905-81DD-C7966D86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8FCD-BACD-4277-AEF8-2489FFA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F577-0AD6-472C-8E5A-F7548AC5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E283-37BD-4C0D-9809-C0656640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4464-5805-4CFF-8D7D-C76B1FD5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6EB2-CB79-4C97-8B24-A942251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EB2D-39D0-4F63-A12B-B2A1CF3A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66D-096B-4FF2-BC0D-A146BF8D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24BB-0977-4715-82FA-D0FA92F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AF36-4ED0-4A97-BFFB-9F70F75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D959-2B63-48FD-8D6E-10329D7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BE12-FBD0-4C66-B0D8-204B1FD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B0077-F10E-47E7-8F1A-E8DEE0B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5E77-7216-4D32-B9FF-8F627BBA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1AE7-2AE6-4F47-BCA8-96A4A11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981F-3DCD-4316-AC4E-7D105EE7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960F-6248-4914-AF3B-E8AA9280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C8D7-65B0-4503-BD07-7AAA0F7B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422-2A56-4059-BD15-D31E906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9580-D559-4742-B141-8E57FE8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357E4-A964-49DC-907D-567FDF1D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1A96-2FA5-4976-9A16-59A648E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E8D1-3078-44AA-90AE-C442966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7D63-5AA2-4575-848F-B2ED642D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850E-2A9A-4BC3-AADC-8F3BC667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35CE-E4AD-43B2-9141-F74FA63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1255D-C163-44E6-AB24-812D45D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DD49-2C6F-43DB-B148-782DD5D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D344-D678-40E1-AB02-A628B5E0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B5-BE1A-434F-90A4-BE027674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F537-D1A4-4FF3-AC5A-A74A3267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4017-EEC4-4B35-8565-001903D8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0AFE-9FBD-4FFF-9E5A-E7178A29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26C5-4F79-4BAA-B5B6-8FE4CE7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8016B-983C-447E-B9D5-8710AD64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18A1-CDD2-4703-A51B-A3B812B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E0B6-B674-4BEB-BF63-32409DE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5496-821B-41BA-8497-6277800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9039-7BF1-4B69-8EE3-8EC136AA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3CB8-74B4-4D74-9E2E-948A639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E84-7A89-4DDE-971A-30E28AB2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D2B9-577E-4BA1-AA00-DAC6C485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00E4-BAED-42F8-A931-76B55939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16EE1-714E-41A4-A909-C2BA23F1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AEB5-611F-4566-B8C0-C71E2561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F5C6-B754-49D6-AC7C-414D33A1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75002-C0F6-41C6-A53D-37798237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1D689-AE70-41DC-B31B-D78AA4FF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5A014-F85C-4D65-BD47-E3D9BEF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266C-9D19-4F8F-8D15-83B3C2EF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64EC-5C2D-4765-8520-5F58E37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18F-CAB7-4682-958A-625BEC2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EB135-D891-4C49-91E5-B7E22A4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E808B-3DC6-4F50-99D3-82B33C8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ECDA-F61B-47E6-884D-07951823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94EC-639F-4D6B-B563-4E659BF5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19CA-8694-4707-9CDC-F39DFD67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7E4B-3F01-4531-9180-116362C5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CD472-8F32-4BF5-AC9F-2042B50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CA09-D633-46E5-B0E9-AAB2D12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F1590-948F-4421-BE60-BA295E3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136D-086D-4DE3-ADF9-4E3B3BA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8C9-4781-4091-9598-738EDA0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387D9-1765-4A94-9DCE-AEC96B4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5293-A843-4C62-94F0-18ACBFD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26D2C-5FEE-4A14-9617-6197049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340D1-B123-48CE-AEE2-DE5250C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4036-8949-4FB9-9F00-E7E2EB9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2871A-DB28-4646-B9E7-3C929655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547B-BAE9-4005-8DE3-BCD2F553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F623-EE79-4B30-ABD3-AAF44795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B59FB-106C-4363-B6A6-5A83B6F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5D1DE-4AAD-4F96-97F3-CC23741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043-7AC2-41FF-BCFB-9D50F645FA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6F8-AAC3-43F7-9370-607A2512FC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5C43-FD79-4E07-A700-A777FBB123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E5C-3E28-4066-8524-07564D5E7A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100-28E8-491B-9031-9F4647D67B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D06C-6401-4D3C-9A3A-D709EAF3AD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72E-222B-4610-B8FD-548906E08C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BFD-C169-4F4D-80BF-46C0F5EFE5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D892-6042-43BB-A4E0-0FBBF0DF6B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1BEA-1B05-4113-B227-5221202450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A73-353E-4786-BDB2-624057A190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DBF3-5089-40BA-BAE2-F950839447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0B0-EBD4-46F5-BCA5-BBDB28C35D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E9C-3B6F-4104-AFC4-4DB7D39A9B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613-C195-4C3A-A4AA-EE9C8CCFFC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AF2-7955-4B03-A766-7EF0D512DE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923-7497-4C7C-8256-36EF92D0D2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978-3D5A-467A-AEE0-814879D9F7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C272-2C6C-4EFB-ACEA-619A0C80DC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F5E6-8639-4173-BBCE-2CAD453FB5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B6F-4A3C-440B-A254-C2F3F99373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D7D-FCEE-48E9-BD5F-2535FA9D9E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9807-BA6D-4D77-AE7D-6CFE69329A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9B4-1662-4829-A979-67C4B4AAE8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915480" y="906480"/>
            <a:ext cx="3855600" cy="4865760"/>
            <a:chOff x="915480" y="906480"/>
            <a:chExt cx="3855600" cy="4865760"/>
          </a:xfrm>
        </p:grpSpPr>
        <p:grpSp>
          <p:nvGrpSpPr>
            <p:cNvPr id="493" name="Group 3"/>
            <p:cNvGrpSpPr/>
            <p:nvPr/>
          </p:nvGrpSpPr>
          <p:grpSpPr>
            <a:xfrm>
              <a:off x="3854520" y="5098320"/>
              <a:ext cx="347760" cy="284040"/>
              <a:chOff x="3854520" y="5098320"/>
              <a:chExt cx="347760" cy="284040"/>
            </a:xfrm>
          </p:grpSpPr>
          <p:sp>
            <p:nvSpPr>
              <p:cNvPr id="494" name="椭圆 7"/>
              <p:cNvSpPr/>
              <p:nvPr/>
            </p:nvSpPr>
            <p:spPr>
              <a:xfrm rot="837600">
                <a:off x="4011480" y="5115600"/>
                <a:ext cx="169560" cy="1947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直接连接符 9"/>
              <p:cNvSpPr/>
              <p:nvPr/>
            </p:nvSpPr>
            <p:spPr>
              <a:xfrm flipH="1">
                <a:off x="3854520" y="5265720"/>
                <a:ext cx="166680" cy="116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椭圆 25"/>
            <p:cNvSpPr/>
            <p:nvPr/>
          </p:nvSpPr>
          <p:spPr>
            <a:xfrm>
              <a:off x="1941120" y="3599640"/>
              <a:ext cx="1783440" cy="217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10"/>
            <p:cNvGrpSpPr/>
            <p:nvPr/>
          </p:nvGrpSpPr>
          <p:grpSpPr>
            <a:xfrm>
              <a:off x="915480" y="906480"/>
              <a:ext cx="3855600" cy="2956680"/>
              <a:chOff x="915480" y="906480"/>
              <a:chExt cx="3855600" cy="2956680"/>
            </a:xfrm>
          </p:grpSpPr>
          <p:sp>
            <p:nvSpPr>
              <p:cNvPr id="498" name="椭圆 55"/>
              <p:cNvSpPr/>
              <p:nvPr/>
            </p:nvSpPr>
            <p:spPr>
              <a:xfrm>
                <a:off x="2216520" y="9280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56"/>
              <p:cNvSpPr/>
              <p:nvPr/>
            </p:nvSpPr>
            <p:spPr>
              <a:xfrm>
                <a:off x="2869200" y="9064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57"/>
              <p:cNvSpPr/>
              <p:nvPr/>
            </p:nvSpPr>
            <p:spPr>
              <a:xfrm>
                <a:off x="2660400" y="1687320"/>
                <a:ext cx="417600" cy="560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6"/>
              <p:cNvGrpSpPr/>
              <p:nvPr/>
            </p:nvGrpSpPr>
            <p:grpSpPr>
              <a:xfrm>
                <a:off x="915480" y="1786320"/>
                <a:ext cx="1246680" cy="1202760"/>
                <a:chOff x="915480" y="1786320"/>
                <a:chExt cx="1246680" cy="1202760"/>
              </a:xfrm>
            </p:grpSpPr>
            <p:sp>
              <p:nvSpPr>
                <p:cNvPr id="502" name="直接连接符 58"/>
                <p:cNvSpPr/>
                <p:nvPr/>
              </p:nvSpPr>
              <p:spPr>
                <a:xfrm flipH="1" flipV="1">
                  <a:off x="978120" y="1786320"/>
                  <a:ext cx="118404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直接连接符 61"/>
                <p:cNvSpPr/>
                <p:nvPr/>
              </p:nvSpPr>
              <p:spPr>
                <a:xfrm flipH="1" flipV="1">
                  <a:off x="915480" y="2372040"/>
                  <a:ext cx="1184040" cy="10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直接连接符 63"/>
                <p:cNvSpPr/>
                <p:nvPr/>
              </p:nvSpPr>
              <p:spPr>
                <a:xfrm flipH="1">
                  <a:off x="994320" y="2801520"/>
                  <a:ext cx="109584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20"/>
              <p:cNvGrpSpPr/>
              <p:nvPr/>
            </p:nvGrpSpPr>
            <p:grpSpPr>
              <a:xfrm>
                <a:off x="3508920" y="1746000"/>
                <a:ext cx="1262160" cy="1184400"/>
                <a:chOff x="3508920" y="1746000"/>
                <a:chExt cx="1262160" cy="1184400"/>
              </a:xfrm>
            </p:grpSpPr>
            <p:sp>
              <p:nvSpPr>
                <p:cNvPr id="506" name="直接连接符 68"/>
                <p:cNvSpPr/>
                <p:nvPr/>
              </p:nvSpPr>
              <p:spPr>
                <a:xfrm>
                  <a:off x="3543840" y="2765160"/>
                  <a:ext cx="1227240" cy="165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直接连接符 69"/>
                <p:cNvSpPr/>
                <p:nvPr/>
              </p:nvSpPr>
              <p:spPr>
                <a:xfrm flipV="1">
                  <a:off x="3551760" y="2342160"/>
                  <a:ext cx="1185840" cy="84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直接连接符 70"/>
                <p:cNvSpPr/>
                <p:nvPr/>
              </p:nvSpPr>
              <p:spPr>
                <a:xfrm flipV="1">
                  <a:off x="3508920" y="1746000"/>
                  <a:ext cx="1050480" cy="36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直接连接符 72"/>
              <p:cNvSpPr/>
              <p:nvPr/>
            </p:nvSpPr>
            <p:spPr>
              <a:xfrm>
                <a:off x="2876400" y="2247480"/>
                <a:ext cx="6840" cy="106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直接连接符 81"/>
              <p:cNvSpPr/>
              <p:nvPr/>
            </p:nvSpPr>
            <p:spPr>
              <a:xfrm flipH="1">
                <a:off x="2625120" y="3306960"/>
                <a:ext cx="71280" cy="55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29"/>
            <p:cNvGrpSpPr/>
            <p:nvPr/>
          </p:nvGrpSpPr>
          <p:grpSpPr>
            <a:xfrm>
              <a:off x="2716200" y="3858840"/>
              <a:ext cx="265320" cy="369720"/>
              <a:chOff x="2716200" y="3858840"/>
              <a:chExt cx="265320" cy="369720"/>
            </a:xfrm>
          </p:grpSpPr>
          <p:sp>
            <p:nvSpPr>
              <p:cNvPr id="512" name="椭圆 42"/>
              <p:cNvSpPr/>
              <p:nvPr/>
            </p:nvSpPr>
            <p:spPr>
              <a:xfrm>
                <a:off x="2716200" y="3858840"/>
                <a:ext cx="265320" cy="36972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直接连接符 43"/>
              <p:cNvSpPr/>
              <p:nvPr/>
            </p:nvSpPr>
            <p:spPr>
              <a:xfrm>
                <a:off x="2716200" y="4043520"/>
                <a:ext cx="265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直接连接符 44"/>
              <p:cNvSpPr/>
              <p:nvPr/>
            </p:nvSpPr>
            <p:spPr>
              <a:xfrm flipV="1">
                <a:off x="2849040" y="4112640"/>
                <a:ext cx="0" cy="11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45"/>
              <p:cNvSpPr/>
              <p:nvPr/>
            </p:nvSpPr>
            <p:spPr>
              <a:xfrm>
                <a:off x="2818800" y="4061520"/>
                <a:ext cx="604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1630440" y="3976200"/>
              <a:ext cx="1487160" cy="1554120"/>
              <a:chOff x="1630440" y="3976200"/>
              <a:chExt cx="1487160" cy="1554120"/>
            </a:xfrm>
          </p:grpSpPr>
          <p:sp>
            <p:nvSpPr>
              <p:cNvPr id="517" name="椭圆 5"/>
              <p:cNvSpPr/>
              <p:nvPr/>
            </p:nvSpPr>
            <p:spPr>
              <a:xfrm rot="8281800">
                <a:off x="2060280" y="3989880"/>
                <a:ext cx="627120" cy="152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7"/>
            <p:cNvGrpSpPr/>
            <p:nvPr/>
          </p:nvGrpSpPr>
          <p:grpSpPr>
            <a:xfrm>
              <a:off x="2604240" y="4029480"/>
              <a:ext cx="1419120" cy="1419120"/>
              <a:chOff x="2604240" y="4029480"/>
              <a:chExt cx="1419120" cy="1419120"/>
            </a:xfrm>
          </p:grpSpPr>
          <p:sp>
            <p:nvSpPr>
              <p:cNvPr id="519" name="椭圆 90"/>
              <p:cNvSpPr/>
              <p:nvPr/>
            </p:nvSpPr>
            <p:spPr>
              <a:xfrm rot="13500000">
                <a:off x="2984760" y="4064040"/>
                <a:ext cx="657720" cy="134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椭圆 91"/>
            <p:cNvSpPr/>
            <p:nvPr/>
          </p:nvSpPr>
          <p:spPr>
            <a:xfrm>
              <a:off x="2683800" y="1760760"/>
              <a:ext cx="185400" cy="2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椭圆 92"/>
            <p:cNvSpPr/>
            <p:nvPr/>
          </p:nvSpPr>
          <p:spPr>
            <a:xfrm>
              <a:off x="254268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94"/>
            <p:cNvSpPr/>
            <p:nvPr/>
          </p:nvSpPr>
          <p:spPr>
            <a:xfrm>
              <a:off x="301212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椭圆 95"/>
            <p:cNvSpPr/>
            <p:nvPr/>
          </p:nvSpPr>
          <p:spPr>
            <a:xfrm>
              <a:off x="2596320" y="139788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96"/>
            <p:cNvSpPr/>
            <p:nvPr/>
          </p:nvSpPr>
          <p:spPr>
            <a:xfrm>
              <a:off x="3044880" y="137952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Box 98"/>
          <p:cNvSpPr/>
          <p:nvPr/>
        </p:nvSpPr>
        <p:spPr>
          <a:xfrm>
            <a:off x="5488560" y="284472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找看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该送你们什么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"/>
          <p:cNvSpPr/>
          <p:nvPr/>
        </p:nvSpPr>
        <p:spPr>
          <a:xfrm>
            <a:off x="2399040" y="122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卡通创意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2752200" y="1500120"/>
            <a:ext cx="3623040" cy="3308400"/>
            <a:chOff x="2752200" y="1500120"/>
            <a:chExt cx="3623040" cy="3308400"/>
          </a:xfrm>
        </p:grpSpPr>
        <p:sp>
          <p:nvSpPr>
            <p:cNvPr id="631" name="椭圆 15"/>
            <p:cNvSpPr/>
            <p:nvPr/>
          </p:nvSpPr>
          <p:spPr>
            <a:xfrm>
              <a:off x="2774880" y="2182320"/>
              <a:ext cx="1713600" cy="2582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16"/>
            <p:cNvSpPr/>
            <p:nvPr/>
          </p:nvSpPr>
          <p:spPr>
            <a:xfrm>
              <a:off x="4661640" y="2138400"/>
              <a:ext cx="1713600" cy="267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18"/>
            <p:cNvSpPr/>
            <p:nvPr/>
          </p:nvSpPr>
          <p:spPr>
            <a:xfrm>
              <a:off x="334908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19"/>
            <p:cNvSpPr/>
            <p:nvPr/>
          </p:nvSpPr>
          <p:spPr>
            <a:xfrm>
              <a:off x="523584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新月形 20"/>
            <p:cNvSpPr/>
            <p:nvPr/>
          </p:nvSpPr>
          <p:spPr>
            <a:xfrm rot="5400000">
              <a:off x="32824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新月形 21"/>
            <p:cNvSpPr/>
            <p:nvPr/>
          </p:nvSpPr>
          <p:spPr>
            <a:xfrm rot="5400000">
              <a:off x="52588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矩形 3"/>
          <p:cNvSpPr/>
          <p:nvPr/>
        </p:nvSpPr>
        <p:spPr>
          <a:xfrm>
            <a:off x="-12600" y="5148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"/>
          <p:cNvSpPr/>
          <p:nvPr/>
        </p:nvSpPr>
        <p:spPr>
          <a:xfrm>
            <a:off x="-12600" y="600228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"/>
          <p:cNvSpPr/>
          <p:nvPr/>
        </p:nvSpPr>
        <p:spPr>
          <a:xfrm>
            <a:off x="-12600" y="3421080"/>
            <a:ext cx="915660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6"/>
          <p:cNvSpPr/>
          <p:nvPr/>
        </p:nvSpPr>
        <p:spPr>
          <a:xfrm>
            <a:off x="-12600" y="4292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"/>
          <p:cNvSpPr/>
          <p:nvPr/>
        </p:nvSpPr>
        <p:spPr>
          <a:xfrm>
            <a:off x="-12600" y="1709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8"/>
          <p:cNvSpPr/>
          <p:nvPr/>
        </p:nvSpPr>
        <p:spPr>
          <a:xfrm>
            <a:off x="-12600" y="2565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9"/>
          <p:cNvSpPr/>
          <p:nvPr/>
        </p:nvSpPr>
        <p:spPr>
          <a:xfrm>
            <a:off x="-12600" y="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0"/>
          <p:cNvSpPr/>
          <p:nvPr/>
        </p:nvSpPr>
        <p:spPr>
          <a:xfrm>
            <a:off x="-12600" y="85572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4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4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4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2">
                                  <p:stCondLst>
                                    <p:cond delay="3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爆炸形 2 15"/>
          <p:cNvSpPr/>
          <p:nvPr/>
        </p:nvSpPr>
        <p:spPr>
          <a:xfrm>
            <a:off x="-509760" y="-1909800"/>
            <a:ext cx="10653840" cy="106538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爆炸形 2 14"/>
          <p:cNvSpPr/>
          <p:nvPr/>
        </p:nvSpPr>
        <p:spPr>
          <a:xfrm>
            <a:off x="-536400" y="-1895400"/>
            <a:ext cx="10653480" cy="1065348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爆炸形 2 13"/>
          <p:cNvSpPr/>
          <p:nvPr/>
        </p:nvSpPr>
        <p:spPr>
          <a:xfrm>
            <a:off x="-509760" y="-1909800"/>
            <a:ext cx="10653840" cy="106538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5"/>
          <p:cNvGrpSpPr/>
          <p:nvPr/>
        </p:nvGrpSpPr>
        <p:grpSpPr>
          <a:xfrm>
            <a:off x="1475640" y="1413000"/>
            <a:ext cx="5112360" cy="4156560"/>
            <a:chOff x="1475640" y="1413000"/>
            <a:chExt cx="5112360" cy="4156560"/>
          </a:xfrm>
        </p:grpSpPr>
        <p:grpSp>
          <p:nvGrpSpPr>
            <p:cNvPr id="532" name="Group 6"/>
            <p:cNvGrpSpPr/>
            <p:nvPr/>
          </p:nvGrpSpPr>
          <p:grpSpPr>
            <a:xfrm>
              <a:off x="1475640" y="2157120"/>
              <a:ext cx="2755440" cy="3412440"/>
              <a:chOff x="1475640" y="2157120"/>
              <a:chExt cx="2755440" cy="3412440"/>
            </a:xfrm>
          </p:grpSpPr>
          <p:sp>
            <p:nvSpPr>
              <p:cNvPr id="533" name="椭圆 5"/>
              <p:cNvSpPr/>
              <p:nvPr/>
            </p:nvSpPr>
            <p:spPr>
              <a:xfrm rot="716400">
                <a:off x="1765080" y="2349360"/>
                <a:ext cx="2176200" cy="302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流程图: 过程 8"/>
            <p:cNvSpPr/>
            <p:nvPr/>
          </p:nvSpPr>
          <p:spPr>
            <a:xfrm>
              <a:off x="3636000" y="1413000"/>
              <a:ext cx="2952000" cy="1800360"/>
            </a:xfrm>
            <a:prstGeom prst="flowChartProcess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9"/>
            <p:cNvSpPr/>
            <p:nvPr/>
          </p:nvSpPr>
          <p:spPr>
            <a:xfrm>
              <a:off x="5624640" y="2515680"/>
              <a:ext cx="95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2f2f2"/>
                  </a:solidFill>
                  <a:latin typeface="Calibri"/>
                </a:rPr>
                <a:t>VI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0"/>
            <p:cNvSpPr/>
            <p:nvPr/>
          </p:nvSpPr>
          <p:spPr>
            <a:xfrm>
              <a:off x="4674960" y="2925360"/>
              <a:ext cx="120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Calibri"/>
                </a:rPr>
                <a:t>No</a:t>
              </a:r>
              <a:r>
                <a:rPr b="0" lang="zh-CN" sz="1000" spc="-1" strike="noStrike">
                  <a:solidFill>
                    <a:srgbClr val="f2f2f2"/>
                  </a:solidFill>
                  <a:latin typeface="Calibri"/>
                </a:rPr>
                <a:t>：</a:t>
              </a:r>
              <a:r>
                <a:rPr b="0" lang="en-US" sz="1000" spc="-1" strike="noStrike">
                  <a:solidFill>
                    <a:srgbClr val="f2f2f2"/>
                  </a:solidFill>
                  <a:latin typeface="Calibri"/>
                </a:rPr>
                <a:t>1234560AAA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1"/>
            <p:cNvSpPr/>
            <p:nvPr/>
          </p:nvSpPr>
          <p:spPr>
            <a:xfrm>
              <a:off x="4236120" y="17283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末日方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0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4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3"/>
          <p:cNvSpPr/>
          <p:nvPr/>
        </p:nvSpPr>
        <p:spPr>
          <a:xfrm>
            <a:off x="2376360" y="1940040"/>
            <a:ext cx="43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带的换页方式不好玩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咱自己做呗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4"/>
          <p:cNvSpPr/>
          <p:nvPr/>
        </p:nvSpPr>
        <p:spPr>
          <a:xfrm>
            <a:off x="-974880" y="-730080"/>
            <a:ext cx="11096640" cy="832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"/>
          <p:cNvSpPr/>
          <p:nvPr/>
        </p:nvSpPr>
        <p:spPr>
          <a:xfrm>
            <a:off x="2931120" y="187020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无阿弥陀佛 变变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椭圆 5"/>
          <p:cNvSpPr/>
          <p:nvPr/>
        </p:nvSpPr>
        <p:spPr>
          <a:xfrm>
            <a:off x="3419640" y="1339920"/>
            <a:ext cx="2520720" cy="25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6"/>
          <p:cNvSpPr/>
          <p:nvPr/>
        </p:nvSpPr>
        <p:spPr>
          <a:xfrm>
            <a:off x="3060720" y="49680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7"/>
          <p:cNvSpPr/>
          <p:nvPr/>
        </p:nvSpPr>
        <p:spPr>
          <a:xfrm>
            <a:off x="5256360" y="65736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624120" y="437184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当当当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~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老鼠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"/>
          <p:cNvSpPr/>
          <p:nvPr/>
        </p:nvSpPr>
        <p:spPr>
          <a:xfrm>
            <a:off x="-955800" y="-730080"/>
            <a:ext cx="11096640" cy="832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椭圆 1"/>
          <p:cNvSpPr/>
          <p:nvPr/>
        </p:nvSpPr>
        <p:spPr>
          <a:xfrm>
            <a:off x="1403280" y="907920"/>
            <a:ext cx="50472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2"/>
          <p:cNvSpPr/>
          <p:nvPr/>
        </p:nvSpPr>
        <p:spPr>
          <a:xfrm>
            <a:off x="5292720" y="76500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新月形 10"/>
          <p:cNvSpPr/>
          <p:nvPr/>
        </p:nvSpPr>
        <p:spPr>
          <a:xfrm rot="16200000">
            <a:off x="3394080" y="4800600"/>
            <a:ext cx="66672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1"/>
          <p:cNvSpPr/>
          <p:nvPr/>
        </p:nvSpPr>
        <p:spPr>
          <a:xfrm>
            <a:off x="287280" y="15840"/>
            <a:ext cx="2232000" cy="223200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2"/>
          <p:cNvSpPr/>
          <p:nvPr/>
        </p:nvSpPr>
        <p:spPr>
          <a:xfrm>
            <a:off x="3995640" y="-95400"/>
            <a:ext cx="2232000" cy="222912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9"/>
          <p:cNvSpPr/>
          <p:nvPr/>
        </p:nvSpPr>
        <p:spPr>
          <a:xfrm>
            <a:off x="3438360" y="2313000"/>
            <a:ext cx="223236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3000000" y="3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等腰三角形 4"/>
          <p:cNvSpPr/>
          <p:nvPr/>
        </p:nvSpPr>
        <p:spPr>
          <a:xfrm>
            <a:off x="1260360" y="1484280"/>
            <a:ext cx="125280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等腰三角形 5"/>
          <p:cNvSpPr/>
          <p:nvPr/>
        </p:nvSpPr>
        <p:spPr>
          <a:xfrm>
            <a:off x="6732720" y="1484280"/>
            <a:ext cx="125244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新月形 6"/>
          <p:cNvSpPr/>
          <p:nvPr/>
        </p:nvSpPr>
        <p:spPr>
          <a:xfrm rot="16200000">
            <a:off x="3931560" y="4245480"/>
            <a:ext cx="124596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3"/>
          <p:cNvSpPr/>
          <p:nvPr/>
        </p:nvSpPr>
        <p:spPr>
          <a:xfrm>
            <a:off x="-3181320" y="-4308480"/>
            <a:ext cx="15478200" cy="154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椭圆 4"/>
          <p:cNvSpPr/>
          <p:nvPr/>
        </p:nvSpPr>
        <p:spPr>
          <a:xfrm>
            <a:off x="1763640" y="1700280"/>
            <a:ext cx="107964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5364000" y="1339920"/>
            <a:ext cx="2735280" cy="392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7"/>
          <p:cNvSpPr/>
          <p:nvPr/>
        </p:nvSpPr>
        <p:spPr>
          <a:xfrm>
            <a:off x="1476360" y="3139920"/>
            <a:ext cx="29512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8"/>
          <p:cNvSpPr/>
          <p:nvPr/>
        </p:nvSpPr>
        <p:spPr>
          <a:xfrm>
            <a:off x="1368360" y="371808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9"/>
          <p:cNvSpPr/>
          <p:nvPr/>
        </p:nvSpPr>
        <p:spPr>
          <a:xfrm>
            <a:off x="1368360" y="436572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10"/>
          <p:cNvSpPr/>
          <p:nvPr/>
        </p:nvSpPr>
        <p:spPr>
          <a:xfrm>
            <a:off x="1368360" y="5210280"/>
            <a:ext cx="295128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右箭头 53"/>
          <p:cNvSpPr/>
          <p:nvPr/>
        </p:nvSpPr>
        <p:spPr>
          <a:xfrm>
            <a:off x="4432320" y="1184400"/>
            <a:ext cx="3044880" cy="2587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2"/>
          <p:cNvSpPr/>
          <p:nvPr/>
        </p:nvSpPr>
        <p:spPr>
          <a:xfrm>
            <a:off x="4392720" y="3772080"/>
            <a:ext cx="2681280" cy="268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1"/>
          <p:cNvSpPr/>
          <p:nvPr/>
        </p:nvSpPr>
        <p:spPr>
          <a:xfrm>
            <a:off x="990720" y="833400"/>
            <a:ext cx="2938320" cy="293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椭圆 3"/>
          <p:cNvSpPr/>
          <p:nvPr/>
        </p:nvSpPr>
        <p:spPr>
          <a:xfrm>
            <a:off x="-870120" y="4667400"/>
            <a:ext cx="1895760" cy="1900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4"/>
          <p:cNvSpPr/>
          <p:nvPr/>
        </p:nvSpPr>
        <p:spPr>
          <a:xfrm>
            <a:off x="5940360" y="1860480"/>
            <a:ext cx="936720" cy="936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5"/>
          <p:cNvSpPr/>
          <p:nvPr/>
        </p:nvSpPr>
        <p:spPr>
          <a:xfrm>
            <a:off x="5356080" y="2465280"/>
            <a:ext cx="3322800" cy="332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6"/>
          <p:cNvSpPr/>
          <p:nvPr/>
        </p:nvSpPr>
        <p:spPr>
          <a:xfrm>
            <a:off x="822240" y="492444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7"/>
          <p:cNvSpPr/>
          <p:nvPr/>
        </p:nvSpPr>
        <p:spPr>
          <a:xfrm>
            <a:off x="1249200" y="2514600"/>
            <a:ext cx="332280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8"/>
          <p:cNvSpPr/>
          <p:nvPr/>
        </p:nvSpPr>
        <p:spPr>
          <a:xfrm>
            <a:off x="96840" y="394344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椭圆 9"/>
          <p:cNvSpPr/>
          <p:nvPr/>
        </p:nvSpPr>
        <p:spPr>
          <a:xfrm>
            <a:off x="-2438280" y="343548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-436680" y="3368520"/>
            <a:ext cx="158112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11280" y="273996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12"/>
          <p:cNvSpPr/>
          <p:nvPr/>
        </p:nvSpPr>
        <p:spPr>
          <a:xfrm>
            <a:off x="-939960" y="511200"/>
            <a:ext cx="332136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13"/>
          <p:cNvSpPr/>
          <p:nvPr/>
        </p:nvSpPr>
        <p:spPr>
          <a:xfrm>
            <a:off x="2892600" y="1244520"/>
            <a:ext cx="1841400" cy="1841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14"/>
          <p:cNvSpPr/>
          <p:nvPr/>
        </p:nvSpPr>
        <p:spPr>
          <a:xfrm>
            <a:off x="-471600" y="5591160"/>
            <a:ext cx="1987560" cy="1989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15"/>
          <p:cNvSpPr/>
          <p:nvPr/>
        </p:nvSpPr>
        <p:spPr>
          <a:xfrm>
            <a:off x="-1084320" y="5908680"/>
            <a:ext cx="1033560" cy="10335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16"/>
          <p:cNvSpPr/>
          <p:nvPr/>
        </p:nvSpPr>
        <p:spPr>
          <a:xfrm>
            <a:off x="4432320" y="2602080"/>
            <a:ext cx="1584360" cy="1584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17"/>
          <p:cNvSpPr/>
          <p:nvPr/>
        </p:nvSpPr>
        <p:spPr>
          <a:xfrm>
            <a:off x="191772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18"/>
          <p:cNvSpPr/>
          <p:nvPr/>
        </p:nvSpPr>
        <p:spPr>
          <a:xfrm>
            <a:off x="2514600" y="4384800"/>
            <a:ext cx="3322800" cy="3322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19"/>
          <p:cNvSpPr/>
          <p:nvPr/>
        </p:nvSpPr>
        <p:spPr>
          <a:xfrm>
            <a:off x="5505480" y="577224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椭圆 20"/>
          <p:cNvSpPr/>
          <p:nvPr/>
        </p:nvSpPr>
        <p:spPr>
          <a:xfrm>
            <a:off x="4033800" y="3394080"/>
            <a:ext cx="15130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21"/>
          <p:cNvSpPr/>
          <p:nvPr/>
        </p:nvSpPr>
        <p:spPr>
          <a:xfrm>
            <a:off x="6748560" y="567864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22"/>
          <p:cNvSpPr/>
          <p:nvPr/>
        </p:nvSpPr>
        <p:spPr>
          <a:xfrm>
            <a:off x="6556320" y="6046920"/>
            <a:ext cx="920880" cy="9205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23"/>
          <p:cNvSpPr/>
          <p:nvPr/>
        </p:nvSpPr>
        <p:spPr>
          <a:xfrm>
            <a:off x="414324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4"/>
          <p:cNvSpPr/>
          <p:nvPr/>
        </p:nvSpPr>
        <p:spPr>
          <a:xfrm>
            <a:off x="5257800" y="555480"/>
            <a:ext cx="1617840" cy="1617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5"/>
          <p:cNvSpPr/>
          <p:nvPr/>
        </p:nvSpPr>
        <p:spPr>
          <a:xfrm>
            <a:off x="6477120" y="1343160"/>
            <a:ext cx="12571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6"/>
          <p:cNvSpPr/>
          <p:nvPr/>
        </p:nvSpPr>
        <p:spPr>
          <a:xfrm>
            <a:off x="5546880" y="1860480"/>
            <a:ext cx="674640" cy="674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27"/>
          <p:cNvSpPr/>
          <p:nvPr/>
        </p:nvSpPr>
        <p:spPr>
          <a:xfrm>
            <a:off x="1539720" y="0"/>
            <a:ext cx="1839960" cy="1838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28"/>
          <p:cNvSpPr/>
          <p:nvPr/>
        </p:nvSpPr>
        <p:spPr>
          <a:xfrm>
            <a:off x="-471600" y="-915840"/>
            <a:ext cx="2668680" cy="2666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29"/>
          <p:cNvSpPr/>
          <p:nvPr/>
        </p:nvSpPr>
        <p:spPr>
          <a:xfrm>
            <a:off x="2727360" y="-231840"/>
            <a:ext cx="2208240" cy="2205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30"/>
          <p:cNvSpPr/>
          <p:nvPr/>
        </p:nvSpPr>
        <p:spPr>
          <a:xfrm>
            <a:off x="1943280" y="-625320"/>
            <a:ext cx="1258560" cy="12556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31"/>
          <p:cNvSpPr/>
          <p:nvPr/>
        </p:nvSpPr>
        <p:spPr>
          <a:xfrm>
            <a:off x="8142120" y="21384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32"/>
          <p:cNvSpPr/>
          <p:nvPr/>
        </p:nvSpPr>
        <p:spPr>
          <a:xfrm>
            <a:off x="7858080" y="8287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33"/>
          <p:cNvSpPr/>
          <p:nvPr/>
        </p:nvSpPr>
        <p:spPr>
          <a:xfrm>
            <a:off x="4092480" y="2898720"/>
            <a:ext cx="536760" cy="536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椭圆 34"/>
          <p:cNvSpPr/>
          <p:nvPr/>
        </p:nvSpPr>
        <p:spPr>
          <a:xfrm>
            <a:off x="3808440" y="158760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椭圆 35"/>
          <p:cNvSpPr/>
          <p:nvPr/>
        </p:nvSpPr>
        <p:spPr>
          <a:xfrm>
            <a:off x="5614920" y="25146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36"/>
          <p:cNvSpPr/>
          <p:nvPr/>
        </p:nvSpPr>
        <p:spPr>
          <a:xfrm>
            <a:off x="5332320" y="12049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椭圆 37"/>
          <p:cNvSpPr/>
          <p:nvPr/>
        </p:nvSpPr>
        <p:spPr>
          <a:xfrm>
            <a:off x="5045040" y="2004840"/>
            <a:ext cx="92088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椭圆 38"/>
          <p:cNvSpPr/>
          <p:nvPr/>
        </p:nvSpPr>
        <p:spPr>
          <a:xfrm>
            <a:off x="4896000" y="397836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椭圆 39"/>
          <p:cNvSpPr/>
          <p:nvPr/>
        </p:nvSpPr>
        <p:spPr>
          <a:xfrm>
            <a:off x="5702400" y="5130720"/>
            <a:ext cx="92052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椭圆 40"/>
          <p:cNvSpPr/>
          <p:nvPr/>
        </p:nvSpPr>
        <p:spPr>
          <a:xfrm>
            <a:off x="3881520" y="2430360"/>
            <a:ext cx="1512720" cy="1513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41"/>
          <p:cNvSpPr/>
          <p:nvPr/>
        </p:nvSpPr>
        <p:spPr>
          <a:xfrm>
            <a:off x="6016680" y="519444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 42"/>
          <p:cNvSpPr/>
          <p:nvPr/>
        </p:nvSpPr>
        <p:spPr>
          <a:xfrm>
            <a:off x="4392720" y="185436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43"/>
          <p:cNvSpPr/>
          <p:nvPr/>
        </p:nvSpPr>
        <p:spPr>
          <a:xfrm>
            <a:off x="7074000" y="4740120"/>
            <a:ext cx="26096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 44"/>
          <p:cNvSpPr/>
          <p:nvPr/>
        </p:nvSpPr>
        <p:spPr>
          <a:xfrm>
            <a:off x="7734240" y="3095640"/>
            <a:ext cx="26114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椭圆 45"/>
          <p:cNvSpPr/>
          <p:nvPr/>
        </p:nvSpPr>
        <p:spPr>
          <a:xfrm>
            <a:off x="8077320" y="76212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椭圆 46"/>
          <p:cNvSpPr/>
          <p:nvPr/>
        </p:nvSpPr>
        <p:spPr>
          <a:xfrm>
            <a:off x="6556320" y="40176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椭圆 47"/>
          <p:cNvSpPr/>
          <p:nvPr/>
        </p:nvSpPr>
        <p:spPr>
          <a:xfrm>
            <a:off x="8172360" y="-158760"/>
            <a:ext cx="1258920" cy="12556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48"/>
          <p:cNvSpPr/>
          <p:nvPr/>
        </p:nvSpPr>
        <p:spPr>
          <a:xfrm>
            <a:off x="4848120" y="-69840"/>
            <a:ext cx="125892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49"/>
          <p:cNvSpPr/>
          <p:nvPr/>
        </p:nvSpPr>
        <p:spPr>
          <a:xfrm>
            <a:off x="7149960" y="1433520"/>
            <a:ext cx="2610000" cy="2611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50"/>
          <p:cNvSpPr/>
          <p:nvPr/>
        </p:nvSpPr>
        <p:spPr>
          <a:xfrm>
            <a:off x="4414680" y="-1747800"/>
            <a:ext cx="4267440" cy="4263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3" presetSubtype="32">
                                  <p:stCondLst>
                                    <p:cond delay="1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13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3270240" y="1836720"/>
            <a:ext cx="2589120" cy="1941480"/>
            <a:chOff x="3270240" y="1836720"/>
            <a:chExt cx="2589120" cy="1941480"/>
          </a:xfrm>
        </p:grpSpPr>
        <p:sp>
          <p:nvSpPr>
            <p:cNvPr id="616" name="椭圆 15"/>
            <p:cNvSpPr/>
            <p:nvPr/>
          </p:nvSpPr>
          <p:spPr>
            <a:xfrm>
              <a:off x="3270240" y="2438640"/>
              <a:ext cx="2589120" cy="133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8"/>
            <p:cNvSpPr/>
            <p:nvPr/>
          </p:nvSpPr>
          <p:spPr>
            <a:xfrm>
              <a:off x="336564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9"/>
            <p:cNvSpPr/>
            <p:nvPr/>
          </p:nvSpPr>
          <p:spPr>
            <a:xfrm>
              <a:off x="475740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21"/>
            <p:cNvSpPr/>
            <p:nvPr/>
          </p:nvSpPr>
          <p:spPr>
            <a:xfrm>
              <a:off x="3365640" y="234612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22"/>
            <p:cNvSpPr/>
            <p:nvPr/>
          </p:nvSpPr>
          <p:spPr>
            <a:xfrm>
              <a:off x="4757400" y="233244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5"/>
          <p:cNvSpPr/>
          <p:nvPr/>
        </p:nvSpPr>
        <p:spPr>
          <a:xfrm>
            <a:off x="-12600" y="5148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6"/>
          <p:cNvSpPr/>
          <p:nvPr/>
        </p:nvSpPr>
        <p:spPr>
          <a:xfrm>
            <a:off x="-12600" y="600228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7"/>
          <p:cNvSpPr/>
          <p:nvPr/>
        </p:nvSpPr>
        <p:spPr>
          <a:xfrm>
            <a:off x="-12600" y="3421080"/>
            <a:ext cx="915660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8"/>
          <p:cNvSpPr/>
          <p:nvPr/>
        </p:nvSpPr>
        <p:spPr>
          <a:xfrm>
            <a:off x="-12600" y="4292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9"/>
          <p:cNvSpPr/>
          <p:nvPr/>
        </p:nvSpPr>
        <p:spPr>
          <a:xfrm>
            <a:off x="-12600" y="1709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0"/>
          <p:cNvSpPr/>
          <p:nvPr/>
        </p:nvSpPr>
        <p:spPr>
          <a:xfrm>
            <a:off x="-12600" y="2565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1"/>
          <p:cNvSpPr/>
          <p:nvPr/>
        </p:nvSpPr>
        <p:spPr>
          <a:xfrm>
            <a:off x="-12600" y="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2"/>
          <p:cNvSpPr/>
          <p:nvPr/>
        </p:nvSpPr>
        <p:spPr>
          <a:xfrm>
            <a:off x="-12600" y="85572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1:53:00Z</dcterms:created>
  <dc:creator>www.pptbz.com</dc:creator>
  <dc:description/>
  <cp:keywords>ppt宝藏</cp:keywords>
  <dc:language>en-US</dc:language>
  <cp:lastModifiedBy>王玉清</cp:lastModifiedBy>
  <dcterms:modified xsi:type="dcterms:W3CDTF">2016-02-16T07:19:4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