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A0C6-6DEB-4139-9DAB-45E904D1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14E-C64A-465A-85D3-DB7FFC03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894AB-B01E-45A7-A335-BE30D369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92BF1-5F43-4595-BDCD-E378ECE9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32E03-9F98-4DFD-98E0-04C1DDD9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F5000-F298-45C9-8E20-CF948ABB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8FBB1-2378-4D94-80A4-42AFB684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4036C-849C-4BD0-A466-0E7982DC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8438A-CE1A-4D3C-8BF7-CA69803F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BA0E2-5396-47ED-9B5A-C62E5070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4AB01-A787-4FCC-88E1-7E1FD034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77A81-6FEA-4053-B89E-2AED3BFE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408E-0FFD-4D2D-9A49-97A6FE40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79797-8B7F-4091-BACB-082A6C2E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C39E2-6005-4A8E-85D3-703973E1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45CF4-DE2C-4235-BC28-21FC1197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350B0-7442-46A8-8AE4-A74AB74F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49BC2-1EAF-4068-8A35-BB920A3C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8DDE2-6C98-4EE3-B44D-81FC2698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2EF17-3A99-4713-8EF1-ED42FCAA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8B46D-A371-4B77-B144-6133FB4D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849C1-F0E6-4327-ABEE-CEB43568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68B08-C7E1-47E2-B072-EEB477BD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6706-CC0F-48B0-AF4F-017A576F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F237D-84D6-4579-919A-29C971FD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5BCD1-007F-49B5-896C-D77F0175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8FCAD-0002-4B34-842F-E072FA3C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14521-2DF4-4126-85F9-D2B2050F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9ECC5-FAC0-469E-82AC-92D2BF76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5E592-FFE6-4A79-8429-7DFFD54F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D64AF-5857-4C61-917A-9BA06BB1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BF2D0-D006-4A07-B5BB-C8C9ADFC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9AB12-7B5C-4A4A-9542-06F4D063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2448C-22DF-4C86-ACCB-61856146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C456-7621-428D-8B12-92F09778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FE522-9E9F-4B23-9B27-C5D0AEA3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68C6E-535A-4937-8BDC-8DCEABEC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0339D-C9FA-4DC9-8995-241F1E6D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B2C7D-1416-4B29-88B5-4DBDAC6B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4C56C-8053-414C-B687-DF6E8374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DC12C-8F7A-4EB8-9D07-7C0803D8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C769E-DDDD-4F89-8A0E-C762733B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FD794-90E7-4402-9A8C-91466B25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96D01-1CBE-4E83-B2FB-5B778FD9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EFBE8-4ED1-4B69-BDA4-826355B7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524B-931C-4CAF-A7F9-1A616C32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66BCA-0DDC-4428-B71C-991A01FF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809D6-22E7-4A6E-A316-76C85E92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19B76-F418-4869-86D3-949FD3D7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EF849-DB9A-4DD0-ABDC-E7406E80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2BBF7-0C1A-42A4-94D5-F5421869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D9FA-5941-4B9C-B1B0-9D8E1A20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CD6B-E922-4A11-866C-034A5301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98BC-1761-473D-A0C4-86BD6ABF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E30A-9555-4EA6-997A-5E0E2E67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6356-9581-4285-8DF8-118AA18D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1E9-F68B-4250-8DB4-DFF8FD41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0B7A-3C16-4468-A39E-FEBBCF27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2723-EA40-4665-9C5E-EEBC4EB0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C8F9-4886-4DF5-BCE0-7245C7C4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9A93-03E3-405B-A138-40266793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0030-6695-407E-9F39-191B62E1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F11AD-0AE5-44D2-9186-F72F67A2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86A8D-8087-4D19-A7AB-F875E03F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974F7-815F-46B5-8FB1-84518B92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89FF9-8321-45D9-B566-55B960B9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2ADC1-2C80-457C-B179-EABD1186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DED-B2A9-40B4-9E5C-2094F3E3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77BE2-3B18-460B-BD9D-ABA31314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95A2C-971E-4E92-9C3B-A6B512B4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02BC3-770E-4340-9D80-FC194527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1C9D1-6BB0-45BC-A12A-E8227D47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5F3D8-92B9-49E0-8C4D-F4906426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23D6F-682C-4D7A-9F3F-2546CC04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2ADE8-ED56-453A-BC59-E202DBE9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29011-8235-4C5D-9B86-C6069308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F7791-3492-47CF-B14D-2F4E5B7E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EA167-7C46-4B7F-9C1A-6A7F798C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74C-F0A4-40DC-8718-FACD13E1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0A862-49BB-458D-A65D-1C7DD90F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42D1D-6FB6-4154-A4A0-44DDEA01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69897-E8FD-49D1-84C9-18271977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FA13F-3817-4EC3-A385-C75DC3A6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F33B5-C2F5-494E-B60C-998EC863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7A24D-833E-4F36-965A-99149116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BD457-FD02-46D4-86C0-6DC54A68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0C419-F93F-4C5F-9FA2-A0B7AA2B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B34A6-BFD7-4517-BA15-0EFEE96D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DCA84-EBFC-4A66-BC56-4A18FC1B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F33-77CD-4FEF-BC93-9D361A65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5A243-3A79-45E3-9D88-65F634E7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74F95-15A8-49CA-A26C-B0D1CBBC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9D808-CAC1-495E-A6B6-D9189293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38289-4541-4025-A784-FE39C323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67365-F29D-4514-A43F-82CD6D16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6C901-4CF7-4F4E-B99D-5318B018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03E88-E24F-41C1-8918-CA4C6CB0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E0DCD-4C8C-45ED-ADF3-B28DD9B5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53DEB-6713-446B-A09E-CAED05DB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3417A-ADA4-4994-B5F1-0EBAD8FD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7513-12E7-48C1-A037-92A52A59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E241F-A3FD-477F-8A5C-2A827E53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0EC95-1E01-48B5-BF39-848E7CAC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42530-3A37-4E9C-B382-1C93DD5E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87938-ED9F-42A3-B2B9-61515FFE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19C70-8A2A-4C16-A3AF-2181A6D0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A827D-D19E-44AE-B8D1-D22A4EF5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B8EF1-E3D8-479F-8A5C-C1D288E3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6B0BE-1001-4671-81C8-FC229F2D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14C82-36E6-40E8-BB2A-B56BA99C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D0630-69E7-4942-AA01-1784D24B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9C7-8454-410B-B4D8-3E2F54DD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E410B-0ABE-41AB-8CAD-C0113168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42D49-3F60-40AC-AD15-F15CE3A0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AB437-18EE-4A1A-8101-426FCC6F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C9649-307A-4F83-9482-ADC5F1BA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087CE-A9D2-471D-984F-371D110D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1206D-36C6-4CAA-BB24-97FCF068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BBF33-CC70-4EFF-903C-5479FF43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A3F13-E5C3-43FD-90CF-A4205C24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719A2-543D-4C4D-9F6A-45969E39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2B419-1F5D-4C34-A16A-7580FB6D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0006-8A0A-4654-BA80-0F25D1DB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8CB53-8868-43B8-BFC6-A01BF2B4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019CF-DB1D-4456-9DCD-4A22B566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23E76-7474-4689-A699-64C8798C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32AB1-6488-49E0-8BF2-9965DC85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16572-4BA4-4B19-8081-2F7C92F6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ADD27-AE8C-4D77-B209-AE907386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3BB46-6F66-4C7A-B481-BE13A9C5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79432-2E27-43B2-92F3-B52E76A4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68E53-307A-430F-AE3E-70209CB6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8A3A8-6E6E-4ECD-80DA-C51896B4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582-BE5C-486A-B60F-8B906EE5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4E33E-B6E6-4561-B96A-54917211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B1F35-7C74-422C-BB4D-F5A78334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B4D74-A997-4645-9888-10637C78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90D28-0497-495E-ACB9-916972A5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91277-CCBD-495B-9AEF-26C4E4DC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F8C62-A499-4E69-9800-F7E7B6DF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B570B-CF34-43F4-ABFE-F1825FC2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53C21-4827-4353-B73F-E99BD09A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CF7FA-3FEF-4E4C-84EE-DB9B6BAB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857EE-E4C9-4308-ACD3-D9756A80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52E3-2665-4248-9DB4-052D4F0F54A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A65C-73BE-4DE8-9DA2-275D10F2B2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876F-62EE-4084-842C-4C0506364E5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448D-3B89-4387-AAEE-9B3681C28B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4CF9-D71A-4A45-A7D7-DA5EFBB7BFA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0205-E656-4789-9334-5AFFA1E770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2E8D-5BDF-4ABC-8F83-AD261740DAA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7163-61B6-4C7D-A03F-1CE6979784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7C95-6447-408B-BA7C-B4CF8EBB95C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B942-671C-49A1-AFBB-AA8BEB1FBE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295E-944D-4CDC-BEDC-DF4CA867827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8352-124D-47E2-BFC1-771AA4AD18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767E-C943-4B80-B5EF-F9A1E71AEA9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811C-C60E-4734-B9A9-220358E228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CF08-527B-4D51-BAF1-7C5F0B524B2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BA0F-1A06-4CF6-B672-33E01C11BC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27D0-2DA7-48AF-B1B6-ED5289AAF02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FD92-3F64-4954-874A-AF5C6F49FA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2BE8-9129-48C6-9462-CA830712E0B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A259-4802-4548-AE1F-01E55D0E66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BA19-D699-4B1D-B4F7-F56E3FE08F1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712C-0152-47E1-A9EB-44F3404C8D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987B-C2F9-4F50-96CE-266CEFE93E3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0FCB-69AE-4F9C-A08D-67E1AA4D26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8"/>
          <p:cNvSpPr/>
          <p:nvPr/>
        </p:nvSpPr>
        <p:spPr>
          <a:xfrm>
            <a:off x="8531280" y="0"/>
            <a:ext cx="6127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风暴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S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矢量素材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AE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视频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Flash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素材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图片素材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PS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插件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1136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卡通雪人创意动态</a:t>
            </a:r>
            <a:r>
              <a:rPr b="0" lang="en-US" sz="40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5640" y="4142880"/>
            <a:ext cx="53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1T23:36:00Z</dcterms:created>
  <dc:creator>for_yang@qq.com</dc:creator>
  <dc:description>Made by Moyea Software. To find more free PowerPoint templates, please visit http://www.dvd-ppt-slideshow.com/powerpoint-knowledge/powerpoint-templates.html</dc:description>
  <cp:keywords>Christmas free PowerPoint template download PPT template PowerPoint templates slideshow template POT POTX Power Point template slide show template</cp:keywords>
  <dc:language>en-US</dc:language>
  <cp:lastModifiedBy>王玉清</cp:lastModifiedBy>
  <dcterms:modified xsi:type="dcterms:W3CDTF">2016-02-16T08:52:34Z</dcterms:modified>
  <cp:revision>11</cp:revision>
  <dc:subject>Christmas PowerPoint Template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