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3EA-A423-4577-B5CD-1537CA19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895-80DC-4A57-8AF6-31EFFCDD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AAC-8820-4CAF-A93A-10000D9E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A65-5DF4-46AC-A25D-2DF86E9D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B65-6987-4579-A501-7915D657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36A-50BE-4B4D-89D6-560E5EC0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E7A-4EE8-4A61-81FA-375A8E8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CE4-9225-4EDE-96DC-6A0C3193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2A9-B59B-4E13-B8DD-7D7368B8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E4A-CD98-428B-9DB0-05D2065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EA5-032C-441B-8A2C-A5BD08E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420-AB36-4637-BED7-EDD2124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4F3-34BA-4DE9-9C0F-39FE59D6C3D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3" descr=""/>
          <p:cNvPicPr/>
          <p:nvPr/>
        </p:nvPicPr>
        <p:blipFill>
          <a:blip r:embed="rId1"/>
          <a:stretch/>
        </p:blipFill>
        <p:spPr>
          <a:xfrm>
            <a:off x="1189080" y="835200"/>
            <a:ext cx="7107120" cy="70776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eeee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eeee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eeee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31"/>
          <p:cNvSpPr/>
          <p:nvPr/>
        </p:nvSpPr>
        <p:spPr>
          <a:xfrm>
            <a:off x="-2989440" y="-1108080"/>
            <a:ext cx="15122880" cy="10728360"/>
          </a:xfrm>
          <a:prstGeom prst="ellipse">
            <a:avLst/>
          </a:prstGeom>
          <a:gradFill rotWithShape="0">
            <a:gsLst>
              <a:gs pos="0">
                <a:srgbClr val="e8cd98">
                  <a:alpha val="85098"/>
                </a:srgbClr>
              </a:gs>
              <a:gs pos="100000">
                <a:srgbClr val="6b5f4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32"/>
          <p:cNvSpPr txBox="1"/>
          <p:nvPr/>
        </p:nvSpPr>
        <p:spPr>
          <a:xfrm>
            <a:off x="684360" y="4869000"/>
            <a:ext cx="777528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6633">
                      <a:alpha val="50000"/>
                    </a:srgbClr>
                  </a:outerShdw>
                </a:effectLst>
                <a:latin typeface="Vivaldi"/>
              </a:rPr>
              <a:t>Congratulations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6633">
                    <a:alpha val="50000"/>
                  </a:srgbClr>
                </a:outerShdw>
              </a:effectLst>
              <a:latin typeface="Vivaldi"/>
              <a:ea typeface="Vivaldi"/>
            </a:endParaRPr>
          </a:p>
        </p:txBody>
      </p:sp>
      <p:grpSp>
        <p:nvGrpSpPr>
          <p:cNvPr id="47" name="Group 9"/>
          <p:cNvGrpSpPr/>
          <p:nvPr/>
        </p:nvGrpSpPr>
        <p:grpSpPr>
          <a:xfrm>
            <a:off x="5838840" y="-1280880"/>
            <a:ext cx="995760" cy="995400"/>
            <a:chOff x="5838840" y="-1280880"/>
            <a:chExt cx="995760" cy="995400"/>
          </a:xfrm>
        </p:grpSpPr>
        <p:sp>
          <p:nvSpPr>
            <p:cNvPr id="48" name="AutoShape 7"/>
            <p:cNvSpPr/>
            <p:nvPr/>
          </p:nvSpPr>
          <p:spPr>
            <a:xfrm rot="1062000">
              <a:off x="5940360" y="-1179000"/>
              <a:ext cx="792360" cy="792000"/>
            </a:xfrm>
            <a:custGeom>
              <a:avLst/>
              <a:gdLst>
                <a:gd name="textAreaLeft" fmla="*/ 183960 w 792360"/>
                <a:gd name="textAreaRight" fmla="*/ 606600 w 792360"/>
                <a:gd name="textAreaTop" fmla="*/ 83880 h 792000"/>
                <a:gd name="textAreaBottom" fmla="*/ 50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 rot="1062000">
              <a:off x="6082920" y="-1035000"/>
              <a:ext cx="504720" cy="50472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53640 h 504720"/>
                <a:gd name="textAreaBottom" fmla="*/ 3189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4"/>
          <p:cNvGrpSpPr/>
          <p:nvPr/>
        </p:nvGrpSpPr>
        <p:grpSpPr>
          <a:xfrm>
            <a:off x="7666560" y="-1359360"/>
            <a:ext cx="866520" cy="864360"/>
            <a:chOff x="7666560" y="-1359360"/>
            <a:chExt cx="866520" cy="864360"/>
          </a:xfrm>
        </p:grpSpPr>
        <p:sp>
          <p:nvSpPr>
            <p:cNvPr id="51" name="Rectangle 12"/>
            <p:cNvSpPr/>
            <p:nvPr/>
          </p:nvSpPr>
          <p:spPr>
            <a:xfrm rot="18886200">
              <a:off x="7883640" y="-1323360"/>
              <a:ext cx="431640" cy="79236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rot="18886200">
              <a:off x="7960680" y="-1178640"/>
              <a:ext cx="274320" cy="50328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28"/>
          <p:cNvSpPr/>
          <p:nvPr/>
        </p:nvSpPr>
        <p:spPr>
          <a:xfrm rot="19741200">
            <a:off x="3094200" y="-509760"/>
            <a:ext cx="502920" cy="503280"/>
          </a:xfrm>
          <a:custGeom>
            <a:avLst/>
            <a:gdLst>
              <a:gd name="textAreaLeft" fmla="*/ 117360 w 502920"/>
              <a:gd name="textAreaRight" fmla="*/ 385560 w 50292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6633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4"/>
          <p:cNvSpPr/>
          <p:nvPr/>
        </p:nvSpPr>
        <p:spPr>
          <a:xfrm rot="1062000">
            <a:off x="2987280" y="-747360"/>
            <a:ext cx="149400" cy="27288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5"/>
          <p:cNvSpPr/>
          <p:nvPr/>
        </p:nvSpPr>
        <p:spPr>
          <a:xfrm rot="1062000">
            <a:off x="-303120" y="-447480"/>
            <a:ext cx="387360" cy="382680"/>
          </a:xfrm>
          <a:custGeom>
            <a:avLst/>
            <a:gdLst>
              <a:gd name="textAreaLeft" fmla="*/ 90360 w 387360"/>
              <a:gd name="textAreaRight" fmla="*/ 297000 w 387360"/>
              <a:gd name="textAreaTop" fmla="*/ 40320 h 382680"/>
              <a:gd name="textAreaBottom" fmla="*/ 242280 h 382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 rot="19102800">
            <a:off x="1650600" y="-766440"/>
            <a:ext cx="331920" cy="3380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7122600" y="-1653480"/>
            <a:ext cx="410040" cy="407880"/>
            <a:chOff x="7122600" y="-1653480"/>
            <a:chExt cx="410040" cy="407880"/>
          </a:xfrm>
        </p:grpSpPr>
        <p:sp>
          <p:nvSpPr>
            <p:cNvPr id="58" name="AutoShape 38"/>
            <p:cNvSpPr/>
            <p:nvPr/>
          </p:nvSpPr>
          <p:spPr>
            <a:xfrm rot="1062000">
              <a:off x="7164000" y="-1611360"/>
              <a:ext cx="326880" cy="324000"/>
            </a:xfrm>
            <a:custGeom>
              <a:avLst/>
              <a:gdLst>
                <a:gd name="textAreaLeft" fmla="*/ 75960 w 326880"/>
                <a:gd name="textAreaRight" fmla="*/ 250200 w 326880"/>
                <a:gd name="textAreaTop" fmla="*/ 34200 h 324000"/>
                <a:gd name="textAreaBottom" fmla="*/ 20520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9"/>
            <p:cNvSpPr/>
            <p:nvPr/>
          </p:nvSpPr>
          <p:spPr>
            <a:xfrm rot="1062000">
              <a:off x="7223040" y="-1551600"/>
              <a:ext cx="207720" cy="206280"/>
            </a:xfrm>
            <a:custGeom>
              <a:avLst/>
              <a:gdLst>
                <a:gd name="textAreaLeft" fmla="*/ 48240 w 207720"/>
                <a:gd name="textAreaRight" fmla="*/ 159480 w 207720"/>
                <a:gd name="textAreaTop" fmla="*/ 21960 h 206280"/>
                <a:gd name="textAreaBottom" fmla="*/ 13032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996633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"/>
          <p:cNvGrpSpPr/>
          <p:nvPr/>
        </p:nvGrpSpPr>
        <p:grpSpPr>
          <a:xfrm>
            <a:off x="6639120" y="-1875240"/>
            <a:ext cx="363960" cy="273960"/>
            <a:chOff x="6639120" y="-1875240"/>
            <a:chExt cx="363960" cy="273960"/>
          </a:xfrm>
        </p:grpSpPr>
        <p:sp>
          <p:nvSpPr>
            <p:cNvPr id="61" name="Rectangle 41"/>
            <p:cNvSpPr/>
            <p:nvPr/>
          </p:nvSpPr>
          <p:spPr>
            <a:xfrm rot="15055800">
              <a:off x="6732000" y="-1899720"/>
              <a:ext cx="177840" cy="32364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2"/>
            <p:cNvSpPr/>
            <p:nvPr/>
          </p:nvSpPr>
          <p:spPr>
            <a:xfrm rot="15055800">
              <a:off x="6764760" y="-1841040"/>
              <a:ext cx="110880" cy="20628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43"/>
          <p:cNvSpPr/>
          <p:nvPr/>
        </p:nvSpPr>
        <p:spPr>
          <a:xfrm rot="19741200">
            <a:off x="1179360" y="-950760"/>
            <a:ext cx="287640" cy="285480"/>
          </a:xfrm>
          <a:custGeom>
            <a:avLst/>
            <a:gdLst>
              <a:gd name="textAreaLeft" fmla="*/ 66960 w 287640"/>
              <a:gd name="textAreaRight" fmla="*/ 220680 w 287640"/>
              <a:gd name="textAreaTop" fmla="*/ 29880 h 285480"/>
              <a:gd name="textAreaBottom" fmla="*/ 180720 h 285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 rot="19168800">
            <a:off x="5076360" y="-747720"/>
            <a:ext cx="314280" cy="57636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5"/>
          <p:cNvSpPr/>
          <p:nvPr/>
        </p:nvSpPr>
        <p:spPr>
          <a:xfrm rot="1062000">
            <a:off x="8583120" y="-747360"/>
            <a:ext cx="560520" cy="5666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6"/>
          <p:cNvGrpSpPr/>
          <p:nvPr/>
        </p:nvGrpSpPr>
        <p:grpSpPr>
          <a:xfrm>
            <a:off x="3678480" y="-1497240"/>
            <a:ext cx="995400" cy="995400"/>
            <a:chOff x="3678480" y="-1497240"/>
            <a:chExt cx="995400" cy="995400"/>
          </a:xfrm>
        </p:grpSpPr>
        <p:sp>
          <p:nvSpPr>
            <p:cNvPr id="67" name="AutoShape 47"/>
            <p:cNvSpPr/>
            <p:nvPr/>
          </p:nvSpPr>
          <p:spPr>
            <a:xfrm rot="17262000">
              <a:off x="3780000" y="-1395360"/>
              <a:ext cx="792000" cy="792000"/>
            </a:xfrm>
            <a:custGeom>
              <a:avLst/>
              <a:gdLst>
                <a:gd name="textAreaLeft" fmla="*/ 183960 w 792000"/>
                <a:gd name="textAreaRight" fmla="*/ 606240 w 792000"/>
                <a:gd name="textAreaTop" fmla="*/ 83880 h 792000"/>
                <a:gd name="textAreaBottom" fmla="*/ 50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48"/>
            <p:cNvSpPr/>
            <p:nvPr/>
          </p:nvSpPr>
          <p:spPr>
            <a:xfrm rot="17262000">
              <a:off x="3927600" y="-1250280"/>
              <a:ext cx="504360" cy="50472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53640 h 504720"/>
                <a:gd name="textAreaBottom" fmla="*/ 3189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49"/>
          <p:cNvGrpSpPr/>
          <p:nvPr/>
        </p:nvGrpSpPr>
        <p:grpSpPr>
          <a:xfrm>
            <a:off x="3495960" y="-1784520"/>
            <a:ext cx="855000" cy="563040"/>
            <a:chOff x="3495960" y="-1784520"/>
            <a:chExt cx="855000" cy="563040"/>
          </a:xfrm>
        </p:grpSpPr>
        <p:sp>
          <p:nvSpPr>
            <p:cNvPr id="70" name="Rectangle 50"/>
            <p:cNvSpPr/>
            <p:nvPr/>
          </p:nvSpPr>
          <p:spPr>
            <a:xfrm rot="4800000">
              <a:off x="3707280" y="-1899000"/>
              <a:ext cx="432000" cy="79200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1"/>
            <p:cNvSpPr/>
            <p:nvPr/>
          </p:nvSpPr>
          <p:spPr>
            <a:xfrm rot="4800000">
              <a:off x="3789000" y="-1751400"/>
              <a:ext cx="274680" cy="50328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52"/>
          <p:cNvSpPr/>
          <p:nvPr/>
        </p:nvSpPr>
        <p:spPr>
          <a:xfrm rot="19741200">
            <a:off x="8027640" y="-1611000"/>
            <a:ext cx="398520" cy="398520"/>
          </a:xfrm>
          <a:custGeom>
            <a:avLst/>
            <a:gdLst>
              <a:gd name="textAreaLeft" fmla="*/ 92880 w 398520"/>
              <a:gd name="textAreaRight" fmla="*/ 305640 w 398520"/>
              <a:gd name="textAreaTop" fmla="*/ 41760 h 398520"/>
              <a:gd name="textAreaBottom" fmla="*/ 252360 h 398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3"/>
          <p:cNvSpPr/>
          <p:nvPr/>
        </p:nvSpPr>
        <p:spPr>
          <a:xfrm rot="1062000">
            <a:off x="297000" y="-676080"/>
            <a:ext cx="269640" cy="266760"/>
          </a:xfrm>
          <a:custGeom>
            <a:avLst/>
            <a:gdLst>
              <a:gd name="textAreaLeft" fmla="*/ 62640 w 269640"/>
              <a:gd name="textAreaRight" fmla="*/ 206640 w 269640"/>
              <a:gd name="textAreaTop" fmla="*/ 28080 h 266760"/>
              <a:gd name="textAreaBottom" fmla="*/ 168840 h 266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 rot="1062000">
            <a:off x="2273400" y="-960480"/>
            <a:ext cx="187200" cy="1904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8"/>
          <p:cNvSpPr/>
          <p:nvPr/>
        </p:nvSpPr>
        <p:spPr>
          <a:xfrm rot="19741200">
            <a:off x="1618920" y="-1539360"/>
            <a:ext cx="482400" cy="479160"/>
          </a:xfrm>
          <a:custGeom>
            <a:avLst/>
            <a:gdLst>
              <a:gd name="textAreaLeft" fmla="*/ 112320 w 482400"/>
              <a:gd name="textAreaRight" fmla="*/ 369720 w 482400"/>
              <a:gd name="textAreaTop" fmla="*/ 50400 h 479160"/>
              <a:gd name="textAreaBottom" fmla="*/ 303480 h 479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0"/>
          <p:cNvSpPr/>
          <p:nvPr/>
        </p:nvSpPr>
        <p:spPr>
          <a:xfrm rot="20646600">
            <a:off x="6186600" y="-1584000"/>
            <a:ext cx="347400" cy="35100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1"/>
          <p:cNvGrpSpPr/>
          <p:nvPr/>
        </p:nvGrpSpPr>
        <p:grpSpPr>
          <a:xfrm>
            <a:off x="4497840" y="-2332800"/>
            <a:ext cx="724320" cy="724320"/>
            <a:chOff x="4497840" y="-2332800"/>
            <a:chExt cx="724320" cy="724320"/>
          </a:xfrm>
        </p:grpSpPr>
        <p:sp>
          <p:nvSpPr>
            <p:cNvPr id="78" name="AutoShape 62"/>
            <p:cNvSpPr/>
            <p:nvPr/>
          </p:nvSpPr>
          <p:spPr>
            <a:xfrm rot="1062000">
              <a:off x="4571640" y="-2258640"/>
              <a:ext cx="576360" cy="576360"/>
            </a:xfrm>
            <a:custGeom>
              <a:avLst/>
              <a:gdLst>
                <a:gd name="textAreaLeft" fmla="*/ 133920 w 576360"/>
                <a:gd name="textAreaRight" fmla="*/ 441360 w 576360"/>
                <a:gd name="textAreaTop" fmla="*/ 61200 h 576360"/>
                <a:gd name="textAreaBottom" fmla="*/ 3650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63"/>
            <p:cNvSpPr/>
            <p:nvPr/>
          </p:nvSpPr>
          <p:spPr>
            <a:xfrm rot="1062000">
              <a:off x="4674600" y="-2153520"/>
              <a:ext cx="367920" cy="368640"/>
            </a:xfrm>
            <a:custGeom>
              <a:avLst/>
              <a:gdLst>
                <a:gd name="textAreaLeft" fmla="*/ 85320 w 367920"/>
                <a:gd name="textAreaRight" fmla="*/ 282600 w 367920"/>
                <a:gd name="textAreaTop" fmla="*/ 39240 h 368640"/>
                <a:gd name="textAreaBottom" fmla="*/ 233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64"/>
          <p:cNvGrpSpPr/>
          <p:nvPr/>
        </p:nvGrpSpPr>
        <p:grpSpPr>
          <a:xfrm>
            <a:off x="7617240" y="-2056320"/>
            <a:ext cx="483480" cy="460080"/>
            <a:chOff x="7617240" y="-2056320"/>
            <a:chExt cx="483480" cy="460080"/>
          </a:xfrm>
        </p:grpSpPr>
        <p:sp>
          <p:nvSpPr>
            <p:cNvPr id="81" name="Rectangle 65"/>
            <p:cNvSpPr/>
            <p:nvPr/>
          </p:nvSpPr>
          <p:spPr>
            <a:xfrm flipH="1" rot="7814400">
              <a:off x="7740360" y="-2042640"/>
              <a:ext cx="236520" cy="43308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6"/>
            <p:cNvSpPr/>
            <p:nvPr/>
          </p:nvSpPr>
          <p:spPr>
            <a:xfrm flipH="1" rot="7814400">
              <a:off x="7783200" y="-1962720"/>
              <a:ext cx="150480" cy="27432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67"/>
          <p:cNvSpPr/>
          <p:nvPr/>
        </p:nvSpPr>
        <p:spPr>
          <a:xfrm rot="1062000">
            <a:off x="1042560" y="-382320"/>
            <a:ext cx="387360" cy="382680"/>
          </a:xfrm>
          <a:custGeom>
            <a:avLst/>
            <a:gdLst>
              <a:gd name="textAreaLeft" fmla="*/ 90360 w 387360"/>
              <a:gd name="textAreaRight" fmla="*/ 297000 w 387360"/>
              <a:gd name="textAreaTop" fmla="*/ 40320 h 382680"/>
              <a:gd name="textAreaBottom" fmla="*/ 242280 h 382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8cd98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8"/>
          <p:cNvSpPr/>
          <p:nvPr/>
        </p:nvSpPr>
        <p:spPr>
          <a:xfrm rot="1062000">
            <a:off x="5580000" y="-531720"/>
            <a:ext cx="331920" cy="3380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2"/>
          <p:cNvSpPr/>
          <p:nvPr/>
        </p:nvSpPr>
        <p:spPr>
          <a:xfrm rot="19741200">
            <a:off x="4572000" y="-1539360"/>
            <a:ext cx="287280" cy="285480"/>
          </a:xfrm>
          <a:custGeom>
            <a:avLst/>
            <a:gdLst>
              <a:gd name="textAreaLeft" fmla="*/ 66960 w 287280"/>
              <a:gd name="textAreaRight" fmla="*/ 220320 w 287280"/>
              <a:gd name="textAreaTop" fmla="*/ 29880 h 285480"/>
              <a:gd name="textAreaBottom" fmla="*/ 180720 h 285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3"/>
          <p:cNvSpPr/>
          <p:nvPr/>
        </p:nvSpPr>
        <p:spPr>
          <a:xfrm rot="1062000">
            <a:off x="7020000" y="-819000"/>
            <a:ext cx="314280" cy="57600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4"/>
          <p:cNvSpPr/>
          <p:nvPr/>
        </p:nvSpPr>
        <p:spPr>
          <a:xfrm rot="1062000">
            <a:off x="3708360" y="-2403000"/>
            <a:ext cx="419040" cy="42372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5469840" y="-2152440"/>
            <a:ext cx="916560" cy="916560"/>
            <a:chOff x="5469840" y="-2152440"/>
            <a:chExt cx="916560" cy="916560"/>
          </a:xfrm>
        </p:grpSpPr>
        <p:sp>
          <p:nvSpPr>
            <p:cNvPr id="89" name="AutoShape 76"/>
            <p:cNvSpPr/>
            <p:nvPr/>
          </p:nvSpPr>
          <p:spPr>
            <a:xfrm rot="13709400">
              <a:off x="5603400" y="-2018520"/>
              <a:ext cx="649440" cy="649080"/>
            </a:xfrm>
            <a:custGeom>
              <a:avLst/>
              <a:gdLst>
                <a:gd name="textAreaLeft" fmla="*/ 150840 w 649440"/>
                <a:gd name="textAreaRight" fmla="*/ 497160 w 649440"/>
                <a:gd name="textAreaTop" fmla="*/ 68760 h 649080"/>
                <a:gd name="textAreaBottom" fmla="*/ 41112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7"/>
            <p:cNvSpPr/>
            <p:nvPr/>
          </p:nvSpPr>
          <p:spPr>
            <a:xfrm rot="13709400">
              <a:off x="5724360" y="-1903680"/>
              <a:ext cx="412200" cy="412200"/>
            </a:xfrm>
            <a:custGeom>
              <a:avLst/>
              <a:gdLst>
                <a:gd name="textAreaLeft" fmla="*/ 96120 w 412200"/>
                <a:gd name="textAreaRight" fmla="*/ 316080 w 412200"/>
                <a:gd name="textAreaTop" fmla="*/ 42840 h 412200"/>
                <a:gd name="textAreaBottom" fmla="*/ 261360 h 4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b08332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79"/>
          <p:cNvSpPr/>
          <p:nvPr/>
        </p:nvSpPr>
        <p:spPr>
          <a:xfrm rot="1062000">
            <a:off x="0" y="-1827000"/>
            <a:ext cx="270000" cy="266760"/>
          </a:xfrm>
          <a:custGeom>
            <a:avLst/>
            <a:gdLst>
              <a:gd name="textAreaLeft" fmla="*/ 63000 w 270000"/>
              <a:gd name="textAreaRight" fmla="*/ 207000 w 270000"/>
              <a:gd name="textAreaTop" fmla="*/ 28080 h 266760"/>
              <a:gd name="textAreaBottom" fmla="*/ 168840 h 266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0"/>
          <p:cNvSpPr/>
          <p:nvPr/>
        </p:nvSpPr>
        <p:spPr>
          <a:xfrm rot="1062000">
            <a:off x="5364000" y="-1251000"/>
            <a:ext cx="187560" cy="1904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4"/>
          <p:cNvSpPr/>
          <p:nvPr/>
        </p:nvSpPr>
        <p:spPr>
          <a:xfrm rot="19741200">
            <a:off x="2050560" y="-2403360"/>
            <a:ext cx="482760" cy="479160"/>
          </a:xfrm>
          <a:custGeom>
            <a:avLst/>
            <a:gdLst>
              <a:gd name="textAreaLeft" fmla="*/ 112320 w 482760"/>
              <a:gd name="textAreaRight" fmla="*/ 370080 w 482760"/>
              <a:gd name="textAreaTop" fmla="*/ 50400 h 479160"/>
              <a:gd name="textAreaBottom" fmla="*/ 303480 h 479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8"/>
          <p:cNvSpPr/>
          <p:nvPr/>
        </p:nvSpPr>
        <p:spPr>
          <a:xfrm>
            <a:off x="2087640" y="1628640"/>
            <a:ext cx="4968720" cy="4962600"/>
          </a:xfrm>
          <a:prstGeom prst="ellipse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89"/>
          <p:cNvSpPr/>
          <p:nvPr/>
        </p:nvSpPr>
        <p:spPr>
          <a:xfrm>
            <a:off x="3097080" y="2533680"/>
            <a:ext cx="2987640" cy="2979720"/>
          </a:xfrm>
          <a:prstGeom prst="ellipse">
            <a:avLst/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1"/>
          <p:cNvSpPr/>
          <p:nvPr/>
        </p:nvSpPr>
        <p:spPr>
          <a:xfrm>
            <a:off x="1036440" y="115920"/>
            <a:ext cx="2331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2"/>
          <p:cNvSpPr/>
          <p:nvPr/>
        </p:nvSpPr>
        <p:spPr>
          <a:xfrm>
            <a:off x="4208400" y="115920"/>
            <a:ext cx="73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3"/>
          <p:cNvSpPr/>
          <p:nvPr/>
        </p:nvSpPr>
        <p:spPr>
          <a:xfrm>
            <a:off x="5789520" y="115920"/>
            <a:ext cx="2331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4"/>
          <p:cNvSpPr/>
          <p:nvPr/>
        </p:nvSpPr>
        <p:spPr>
          <a:xfrm>
            <a:off x="2089080" y="1162080"/>
            <a:ext cx="49662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On Your 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Wedding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4" descr="rings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3456000" y="3209760"/>
            <a:ext cx="2184480" cy="170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32" descr="ring1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3459240" y="3208320"/>
            <a:ext cx="1520640" cy="130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3" descr="ring2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4464000" y="3354480"/>
            <a:ext cx="1163520" cy="1549440"/>
          </a:xfrm>
          <a:prstGeom prst="rect">
            <a:avLst/>
          </a:prstGeom>
          <a:ln w="0">
            <a:noFill/>
          </a:ln>
        </p:spPr>
      </p:pic>
      <p:sp>
        <p:nvSpPr>
          <p:cNvPr id="103" name="Oval 300"/>
          <p:cNvSpPr/>
          <p:nvPr/>
        </p:nvSpPr>
        <p:spPr>
          <a:xfrm>
            <a:off x="3078000" y="2637000"/>
            <a:ext cx="2988000" cy="2979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 rot="20010600">
            <a:off x="250560" y="-1107720"/>
            <a:ext cx="431640" cy="79200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5"/>
          <p:cNvGrpSpPr/>
          <p:nvPr/>
        </p:nvGrpSpPr>
        <p:grpSpPr>
          <a:xfrm>
            <a:off x="2946240" y="-1221480"/>
            <a:ext cx="410040" cy="407880"/>
            <a:chOff x="2946240" y="-1221480"/>
            <a:chExt cx="410040" cy="407880"/>
          </a:xfrm>
        </p:grpSpPr>
        <p:sp>
          <p:nvSpPr>
            <p:cNvPr id="106" name="AutoShape 56"/>
            <p:cNvSpPr/>
            <p:nvPr/>
          </p:nvSpPr>
          <p:spPr>
            <a:xfrm rot="1062000">
              <a:off x="2987280" y="-1179360"/>
              <a:ext cx="327240" cy="323640"/>
            </a:xfrm>
            <a:custGeom>
              <a:avLst/>
              <a:gdLst>
                <a:gd name="textAreaLeft" fmla="*/ 75960 w 327240"/>
                <a:gd name="textAreaRight" fmla="*/ 250560 w 327240"/>
                <a:gd name="textAreaTop" fmla="*/ 34200 h 323640"/>
                <a:gd name="textAreaBottom" fmla="*/ 204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57"/>
            <p:cNvSpPr/>
            <p:nvPr/>
          </p:nvSpPr>
          <p:spPr>
            <a:xfrm rot="1062000">
              <a:off x="3046680" y="-1119960"/>
              <a:ext cx="207720" cy="206280"/>
            </a:xfrm>
            <a:custGeom>
              <a:avLst/>
              <a:gdLst>
                <a:gd name="textAreaLeft" fmla="*/ 48240 w 207720"/>
                <a:gd name="textAreaRight" fmla="*/ 159480 w 207720"/>
                <a:gd name="textAreaTop" fmla="*/ 21960 h 206280"/>
                <a:gd name="textAreaBottom" fmla="*/ 13032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85"/>
          <p:cNvGrpSpPr/>
          <p:nvPr/>
        </p:nvGrpSpPr>
        <p:grpSpPr>
          <a:xfrm>
            <a:off x="7582320" y="-484560"/>
            <a:ext cx="348840" cy="228600"/>
            <a:chOff x="7582320" y="-484560"/>
            <a:chExt cx="348840" cy="228600"/>
          </a:xfrm>
        </p:grpSpPr>
        <p:sp>
          <p:nvSpPr>
            <p:cNvPr id="109" name="Rectangle 186"/>
            <p:cNvSpPr/>
            <p:nvPr/>
          </p:nvSpPr>
          <p:spPr>
            <a:xfrm rot="16773000">
              <a:off x="7668000" y="-532080"/>
              <a:ext cx="177480" cy="32400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87"/>
            <p:cNvSpPr/>
            <p:nvPr/>
          </p:nvSpPr>
          <p:spPr>
            <a:xfrm rot="16773000">
              <a:off x="7696800" y="-472320"/>
              <a:ext cx="112320" cy="20664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40"/>
          <p:cNvSpPr/>
          <p:nvPr/>
        </p:nvSpPr>
        <p:spPr>
          <a:xfrm>
            <a:off x="1150920" y="3395520"/>
            <a:ext cx="6840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ivaldi"/>
                <a:ea typeface="宋体"/>
              </a:rPr>
              <a:t>With Warmest Wi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1"/>
          <p:cNvSpPr/>
          <p:nvPr/>
        </p:nvSpPr>
        <p:spPr>
          <a:xfrm>
            <a:off x="1116000" y="4046400"/>
            <a:ext cx="6840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ivaldi"/>
                <a:ea typeface="宋体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99"/>
          <p:cNvSpPr/>
          <p:nvPr/>
        </p:nvSpPr>
        <p:spPr>
          <a:xfrm>
            <a:off x="3249720" y="5092560"/>
            <a:ext cx="2641320" cy="1216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Company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 rot="1287000">
            <a:off x="539640" y="-1971360"/>
            <a:ext cx="560520" cy="5666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1"/>
          <p:cNvGrpSpPr/>
          <p:nvPr/>
        </p:nvGrpSpPr>
        <p:grpSpPr>
          <a:xfrm>
            <a:off x="3809880" y="-573840"/>
            <a:ext cx="409680" cy="407880"/>
            <a:chOff x="3809880" y="-573840"/>
            <a:chExt cx="409680" cy="407880"/>
          </a:xfrm>
        </p:grpSpPr>
        <p:sp>
          <p:nvSpPr>
            <p:cNvPr id="116" name="AutoShape 82"/>
            <p:cNvSpPr/>
            <p:nvPr/>
          </p:nvSpPr>
          <p:spPr>
            <a:xfrm rot="1062000">
              <a:off x="3850920" y="-531720"/>
              <a:ext cx="326880" cy="323640"/>
            </a:xfrm>
            <a:custGeom>
              <a:avLst/>
              <a:gdLst>
                <a:gd name="textAreaLeft" fmla="*/ 75960 w 326880"/>
                <a:gd name="textAreaRight" fmla="*/ 250200 w 326880"/>
                <a:gd name="textAreaTop" fmla="*/ 34200 h 323640"/>
                <a:gd name="textAreaBottom" fmla="*/ 204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83"/>
            <p:cNvSpPr/>
            <p:nvPr/>
          </p:nvSpPr>
          <p:spPr>
            <a:xfrm rot="1062000">
              <a:off x="3909960" y="-472320"/>
              <a:ext cx="207720" cy="206280"/>
            </a:xfrm>
            <a:custGeom>
              <a:avLst/>
              <a:gdLst>
                <a:gd name="textAreaLeft" fmla="*/ 48240 w 207720"/>
                <a:gd name="textAreaRight" fmla="*/ 159480 w 207720"/>
                <a:gd name="textAreaTop" fmla="*/ 21960 h 206280"/>
                <a:gd name="textAreaBottom" fmla="*/ 13032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5"/>
          <p:cNvSpPr/>
          <p:nvPr/>
        </p:nvSpPr>
        <p:spPr>
          <a:xfrm rot="1062000">
            <a:off x="2411280" y="-1899720"/>
            <a:ext cx="792360" cy="792000"/>
          </a:xfrm>
          <a:custGeom>
            <a:avLst/>
            <a:gdLst>
              <a:gd name="textAreaLeft" fmla="*/ 184680 w 792360"/>
              <a:gd name="textAreaRight" fmla="*/ 607320 w 792360"/>
              <a:gd name="textAreaTop" fmla="*/ 83520 h 792000"/>
              <a:gd name="textAreaBottom" fmla="*/ 501480 h 79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01"/>
          <p:cNvGrpSpPr/>
          <p:nvPr/>
        </p:nvGrpSpPr>
        <p:grpSpPr>
          <a:xfrm>
            <a:off x="2864160" y="-2416680"/>
            <a:ext cx="483480" cy="460080"/>
            <a:chOff x="2864160" y="-2416680"/>
            <a:chExt cx="483480" cy="460080"/>
          </a:xfrm>
        </p:grpSpPr>
        <p:sp>
          <p:nvSpPr>
            <p:cNvPr id="120" name="Rectangle 302"/>
            <p:cNvSpPr/>
            <p:nvPr/>
          </p:nvSpPr>
          <p:spPr>
            <a:xfrm flipH="1" rot="7814400">
              <a:off x="2987280" y="-2403000"/>
              <a:ext cx="236520" cy="43308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03"/>
            <p:cNvSpPr/>
            <p:nvPr/>
          </p:nvSpPr>
          <p:spPr>
            <a:xfrm flipH="1" rot="7814400">
              <a:off x="3030120" y="-2323080"/>
              <a:ext cx="150480" cy="27432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09"/>
          <p:cNvGrpSpPr/>
          <p:nvPr/>
        </p:nvGrpSpPr>
        <p:grpSpPr>
          <a:xfrm>
            <a:off x="5045040" y="4332240"/>
            <a:ext cx="568080" cy="568440"/>
            <a:chOff x="5045040" y="4332240"/>
            <a:chExt cx="568080" cy="568440"/>
          </a:xfrm>
        </p:grpSpPr>
        <p:sp>
          <p:nvSpPr>
            <p:cNvPr id="123" name="Rectangle 307"/>
            <p:cNvSpPr/>
            <p:nvPr/>
          </p:nvSpPr>
          <p:spPr>
            <a:xfrm>
              <a:off x="5076720" y="4365720"/>
              <a:ext cx="505080" cy="501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8"/>
            <p:cNvSpPr/>
            <p:nvPr/>
          </p:nvSpPr>
          <p:spPr>
            <a:xfrm rot="18859200">
              <a:off x="5128920" y="4414680"/>
              <a:ext cx="400320" cy="403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10"/>
          <p:cNvGrpSpPr/>
          <p:nvPr/>
        </p:nvGrpSpPr>
        <p:grpSpPr>
          <a:xfrm>
            <a:off x="4287600" y="3144600"/>
            <a:ext cx="568080" cy="568080"/>
            <a:chOff x="4287600" y="3144600"/>
            <a:chExt cx="568080" cy="568080"/>
          </a:xfrm>
        </p:grpSpPr>
        <p:sp>
          <p:nvSpPr>
            <p:cNvPr id="126" name="Rectangle 311"/>
            <p:cNvSpPr/>
            <p:nvPr/>
          </p:nvSpPr>
          <p:spPr>
            <a:xfrm>
              <a:off x="4319640" y="3178080"/>
              <a:ext cx="504720" cy="501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12"/>
            <p:cNvSpPr/>
            <p:nvPr/>
          </p:nvSpPr>
          <p:spPr>
            <a:xfrm rot="18859200">
              <a:off x="4371120" y="3227040"/>
              <a:ext cx="400320" cy="402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Wedding card music.mp3" descr=""/>
          <p:cNvPicPr/>
          <p:nvPr/>
        </p:nvPicPr>
        <p:blipFill>
          <a:blip r:embed="rId4"/>
          <a:stretch/>
        </p:blipFill>
        <p:spPr>
          <a:xfrm>
            <a:off x="-61272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18 2.44218E-006 C -0.00191 0.00439 -0.00452 0.0074 -0.00643 0.01156 C -0.01077 0.02127 -0.01094 0.03399 -0.01528 0.04348 C -0.01702 0.05111 -0.01754 0.0592 -0.0191 0.06776 C -0.01979 0.07146 -0.02153 0.07886 -0.02153 0.07909 C -0.02066 0.09505 -0.02049 0.1117 -0.0191 0.12858 C -0.01823 0.13783 -0.00938 0.15078 -0.00504 0.15657 C 0.00451 0.16975 0.01649 0.17877 0.02621 0.19195 C 0.03368 0.20143 0.04149 0.21161 0.05017 0.21808 C 0.05486 0.22433 0.05885 0.22988 0.06441 0.23312 C 0.06771 0.24098 0.07274 0.2419 0.07656 0.24815 C 0.08489 0.25994 0.07847 0.25578 0.08593 0.25925 C 0.08698 0.26249 0.08784 0.26596 0.08958 0.2685 C 0.09045 0.27081 0.0934 0.27151 0.09461 0.27428 C 0.09583 0.27613 0.09479 0.27914 0.096 0.28168 C 0.09687 0.28376 0.09791 0.28538 0.1 0.287 C 0.10086 0.29139 0.10208 0.29602 0.10347 0.30018 C 0.10468 0.30342 0.10573 0.3062 0.10659 0.30966 C 0.11007 0.31915 0.11093 0.32701 0.11493 0.3358 C 0.11649 0.34644 0.11961 0.35499 0.12083 0.3654 C 0.12066 0.3883 0.12083 0.41119 0.11215 0.43108 C 0.11007 0.44195 0.10468 0.4549 0.1 0.46276 C 0.09705 0.47248 0.08889 0.48173 0.08194 0.48497 C 0.07725 0.49583 0.06632 0.50185 0.06198 0.5111 C 0.0559 0.52428 0.04461 0.54047 0.03646 0.55041 C 0.03125 0.56198 0.03489 0.55411 0.02517 0.57285 C 0.02291 0.57724 0.02014 0.58742 0.02014 0.58788 C 0.01857 0.59713 0.0151 0.60453 0.01267 0.61355 C 0.00989 0.63598 0.00972 0.64616 0.01267 0.6716 C 0.01389 0.6827 0.03142 0.67275 0.03281 0.71161 C 0.03524 0.75694 0.01666 0.74792 0.01389 0.76295 C 0.01146 0.77266 -0.01893 0.79579 -0.01771 0.83464 C -0.00712 0.85615 0.02725 0.89361 0.05069 0.90888 C 0.07413 0.92414 0.10781 0.89662 0.12257 0.92576 C 0.14878 0.96739 0.13368 1.0666 0.13923 1.08418 C 0.14288 1.09759 0.03437 1.10152 0.04305 1.11031 C 0.05017 1.12534 0.04635 1.11956 0.05295 1.12881 C 0.05486 1.13922 0.05955 1.14616 0.06319 1.15495 C 0.06562 1.16836 0.07152 1.18085 0.0783 1.19056 E">
                                      <p:cBhvr>
                                        <p:cTn id="12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1.75763E-007 C -0.00052 0.00509 -0.00156 0.00833 -0.00225 0.01318 C -0.00399 0.02405 -0.00399 0.03839 -0.00572 0.04903 C -0.00642 0.05759 -0.00659 0.0666 -0.00711 0.07632 C -0.00746 0.08048 -0.00798 0.08881 -0.00798 0.08904 C -0.00781 0.10685 -0.00763 0.12558 -0.00711 0.14454 C -0.00677 0.15495 -0.00347 0.16952 -0.00173 0.17599 C 0.00191 0.1908 0.00643 0.20097 0.01007 0.21577 C 0.01303 0.22618 0.01598 0.23751 0.01928 0.24491 C 0.02101 0.25185 0.02257 0.25809 0.02466 0.26179 C 0.02587 0.27058 0.02796 0.27174 0.02934 0.27868 C 0.03247 0.29186 0.03004 0.28723 0.03282 0.29117 C 0.03334 0.29487 0.03369 0.29857 0.03421 0.30157 C 0.03455 0.30412 0.03577 0.30481 0.03629 0.30805 C 0.03664 0.31013 0.03629 0.31337 0.03681 0.31637 C 0.03716 0.31869 0.0375 0.32054 0.0382 0.32239 C 0.03855 0.32724 0.03907 0.33233 0.03959 0.33719 C 0.04011 0.34066 0.04046 0.34389 0.0408 0.34783 C 0.04202 0.35846 0.04237 0.36725 0.04393 0.3772 C 0.04462 0.38899 0.04566 0.3987 0.04619 0.41027 C 0.04619 0.43617 0.04619 0.46184 0.04289 0.48404 C 0.04202 0.4963 0.04011 0.51087 0.0382 0.51966 C 0.03716 0.53076 0.03403 0.54093 0.03143 0.54463 C 0.02952 0.55689 0.02535 0.5636 0.02379 0.57401 C 0.02153 0.58881 0.01719 0.60708 0.01407 0.61818 C 0.01198 0.63113 0.01337 0.62234 0.00973 0.64339 C 0.00886 0.64824 0.00782 0.65981 0.00782 0.66027 C 0.0073 0.67068 0.00591 0.679 0.00504 0.68918 C 0.004 0.71438 0.00382 0.72572 0.00504 0.75439 C 0.00539 0.76688 0.01216 0.75555 0.01268 0.79926 C 0.01355 0.85014 0.00643 0.83996 0.00539 0.85685 C 0.00452 0.86795 -0.00711 0.89385 -0.00659 0.93756 C -0.0026 0.96161 0.01059 1.0037 0.01945 1.02081 C 0.02848 1.03793 0.04132 1.00717 0.04688 1.03978 C 0.05695 1.08649 0.05105 1.19796 0.0533 1.21785 C 0.05469 1.23289 0.0132 1.23728 0.0165 1.24722 C 0.01928 1.26411 0.01789 1.25763 0.02032 1.26804 C 0.02101 1.2796 0.02292 1.28747 0.02431 1.29741 C 0.02518 1.31244 0.02744 1.32632 0.03004 1.33742 E">
                                      <p:cBhvr>
                                        <p:cTn id="24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32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8.33333E-007 -7.67808E-007 C 0.00104 0.00439 0.0026 0.0074 0.00382 0.01156 C 0.00642 0.02128 0.0066 0.034 0.00903 0.04348 C 0.01007 0.05111 0.01042 0.05921 0.01128 0.06776 C 0.01163 0.07146 0.01302 0.07886 0.01302 0.07909 C 0.01233 0.09505 0.01215 0.1117 0.01128 0.12859 C 0.01076 0.13784 0.00538 0.15079 0.00295 0.15657 C -0.00295 0.16975 -0.0099 0.17877 -0.0158 0.19195 C -0.02031 0.20143 -0.025 0.21161 -0.03021 0.21809 C -0.03299 0.22433 -0.03542 0.22988 -0.03872 0.23312 C -0.04063 0.24098 -0.04375 0.24191 -0.04601 0.24815 C -0.05104 0.25995 -0.04722 0.25578 -0.05156 0.25925 C -0.05226 0.26249 -0.05278 0.26596 -0.05382 0.2685 C -0.05417 0.27081 -0.05608 0.27151 -0.05677 0.27428 C -0.05747 0.27613 -0.05695 0.27914 -0.05764 0.28168 C -0.05816 0.28377 -0.05868 0.28538 -0.06007 0.287 C -0.06042 0.2914 -0.06129 0.29602 -0.06215 0.30019 C -0.06285 0.30342 -0.06354 0.3062 -0.06389 0.30967 C -0.06597 0.31915 -0.06667 0.32701 -0.06892 0.3358 C -0.06997 0.34644 -0.0717 0.355 -0.07257 0.3654 C -0.0724 0.3883 -0.07257 0.41119 -0.06736 0.43108 C -0.06597 0.44195 -0.06285 0.4549 -0.06007 0.46277 C -0.05833 0.47248 -0.05347 0.48173 -0.04931 0.48497 C -0.04635 0.49584 -0.03976 0.50185 -0.03715 0.5111 C -0.03351 0.52428 -0.02674 0.54047 -0.02188 0.55042 C -0.01875 0.56198 -0.02101 0.55412 -0.01528 0.57285 C -0.01389 0.57724 -0.01233 0.58742 -0.01233 0.58788 C -0.01111 0.59713 -0.0092 0.60453 -0.00764 0.61355 C -0.00608 0.63599 -0.00608 0.64616 -0.00764 0.6716 C -0.00833 0.6827 -0.01892 0.67276 -0.01979 0.71161 C -0.02118 0.75694 -0.01007 0.74792 -0.00833 0.76295 C -0.00695 0.77266 0.01128 0.79579 0.01059 0.83464 C 0.00417 0.85615 -0.01632 0.89362 -0.03056 0.90888 C -0.04445 0.92415 -0.06476 0.89662 -0.07361 0.92576 C -0.08906 0.96739 -0.08021 1.06661 -0.08351 1.08418 C -0.08576 1.0976 -0.02066 1.10153 -0.02587 1.11032 C -0.03021 1.12535 -0.02778 1.11957 -0.03177 1.12882 C -0.03299 1.13922 -0.03594 1.14616 -0.03802 1.15495 C -0.03941 1.16836 -0.04288 1.18085 -0.04705 1.19057 E">
                                      <p:cBhvr>
                                        <p:cTn id="44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46" dur="4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47" dur="4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48" dur="4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5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6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44218E-006 C -0.00191 0.00439 -0.00452 0.0074 -0.00643 0.01156 C -0.01077 0.02127 -0.01094 0.03399 -0.01528 0.04348 C -0.01702 0.05111 -0.01754 0.0592 -0.0191 0.06776 C -0.01979 0.07146 -0.02153 0.07886 -0.02153 0.07909 C -0.02066 0.09505 -0.02049 0.1117 -0.0191 0.12858 C -0.01823 0.13783 -0.00938 0.15078 -0.00504 0.15657 C 0.00451 0.16975 0.01649 0.17877 0.02621 0.19195 C 0.03368 0.20143 0.04149 0.21161 0.05017 0.21808 C 0.05486 0.22433 0.05885 0.22988 0.06441 0.23312 C 0.06771 0.24098 0.07274 0.2419 0.07656 0.24815 C 0.08489 0.25994 0.07847 0.25578 0.08593 0.25925 C 0.08698 0.26249 0.08784 0.26596 0.08958 0.2685 C 0.09045 0.27081 0.0934 0.27151 0.09461 0.27428 C 0.09583 0.27613 0.09479 0.27914 0.096 0.28168 C 0.09687 0.28376 0.09791 0.28538 0.1 0.287 C 0.10086 0.29139 0.10208 0.29602 0.10347 0.30018 C 0.10468 0.30342 0.10573 0.3062 0.10659 0.30966 C 0.11007 0.31915 0.11093 0.32701 0.11493 0.3358 C 0.11649 0.34644 0.11961 0.35499 0.12083 0.3654 C 0.12066 0.3883 0.12083 0.41119 0.11215 0.43108 C 0.11007 0.44195 0.10468 0.4549 0.1 0.46276 C 0.09705 0.47248 0.08889 0.48173 0.08194 0.48497 C 0.07725 0.49583 0.06632 0.50185 0.06198 0.5111 C 0.0559 0.52428 0.04461 0.54047 0.03646 0.55041 C 0.03125 0.56198 0.03489 0.55411 0.02517 0.57285 C 0.02291 0.57724 0.02014 0.58742 0.02014 0.58788 C 0.01857 0.59713 0.0151 0.60453 0.01267 0.61355 C 0.00989 0.63598 0.00972 0.64616 0.01267 0.6716 C 0.01389 0.6827 0.03142 0.67275 0.03281 0.71161 C 0.03524 0.75694 0.01666 0.74792 0.01389 0.76295 C 0.01146 0.77266 -0.01893 0.79579 -0.01771 0.83464 C -0.00712 0.85615 0.02725 0.89361 0.05069 0.90888 C 0.07413 0.92414 0.10781 0.89662 0.12257 0.92576 C 0.14878 0.96739 0.13368 1.0666 0.13923 1.08418 C 0.14288 1.09759 0.03437 1.10152 0.04305 1.11031 C 0.05017 1.12534 0.04635 1.11956 0.05295 1.12881 C 0.05486 1.13922 0.05955 1.14616 0.06319 1.15495 C 0.06562 1.16836 0.07152 1.18085 0.0783 1.19056 E">
                                      <p:cBhvr>
                                        <p:cTn id="7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7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96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91397E-006 C 0.00104 0.00532 0.0026 0.00879 0.00382 0.01365 C 0.00642 0.02521 0.0066 0.04001 0.00903 0.05088 C 0.01007 0.0599 0.01042 0.06961 0.01128 0.07956 C 0.01163 0.08372 0.01302 0.09251 0.01302 0.09274 C 0.01233 0.11147 0.01215 0.1309 0.01128 0.15079 C 0.01076 0.16143 0.00538 0.17646 0.00295 0.1834 C -0.00295 0.19889 -0.0099 0.2093 -0.0158 0.22433 C -0.02031 0.2352 -0.025 0.24723 -0.03021 0.25486 C -0.03299 0.26203 -0.03542 0.2685 -0.03872 0.27244 C -0.04063 0.28169 -0.04375 0.28261 -0.04601 0.28978 C -0.05104 0.30389 -0.04722 0.2988 -0.05156 0.30296 C -0.05226 0.30666 -0.05278 0.31083 -0.05382 0.3136 C -0.05417 0.31638 -0.05608 0.31753 -0.05677 0.32054 C -0.05747 0.32262 -0.05695 0.32632 -0.05764 0.32933 C -0.05816 0.33164 -0.05868 0.33349 -0.06007 0.33557 C -0.06042 0.34043 -0.06129 0.34598 -0.06215 0.35084 C -0.06285 0.35454 -0.06354 0.35777 -0.06389 0.36194 C -0.06597 0.37304 -0.06667 0.38229 -0.06892 0.39269 C -0.06997 0.40495 -0.0717 0.4149 -0.07257 0.42715 C -0.0724 0.45398 -0.07257 0.48058 -0.06736 0.50393 C -0.06597 0.51665 -0.06285 0.53169 -0.06007 0.54094 C -0.05833 0.55227 -0.05347 0.56337 -0.04931 0.56707 C -0.04636 0.57956 -0.03976 0.58673 -0.03715 0.5976 C -0.03351 0.61286 -0.02674 0.63206 -0.02188 0.64339 C -0.01875 0.65703 -0.02101 0.64778 -0.01528 0.66975 C -0.01389 0.67484 -0.01233 0.68687 -0.01233 0.68733 C -0.01111 0.6982 -0.0092 0.70699 -0.00764 0.71739 C -0.00608 0.74353 -0.00608 0.75555 -0.00764 0.78539 C -0.00833 0.79811 -0.01892 0.78654 -0.01979 0.83187 C -0.02118 0.88506 -0.01007 0.87466 -0.00833 0.892 C -0.00695 0.90333 0.01128 0.93039 0.01059 0.97572 C 0.00417 1.00116 -0.01632 1.0451 -0.03056 1.06268 C -0.04445 1.08048 -0.06476 1.04857 -0.07361 1.08257 C -0.08906 1.13113 -0.08021 1.24723 -0.08351 1.26781 C -0.08576 1.28354 -0.02066 1.28816 -0.02587 1.29834 C -0.03021 1.31591 -0.02778 1.30921 -0.03177 1.31985 C -0.03299 1.3321 -0.03594 1.3402 -0.03802 1.3506 C -0.03941 1.36633 -0.04288 1.3809 -0.04705 1.39246 E">
                                      <p:cBhvr>
                                        <p:cTn id="104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106" dur="4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07" dur="4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08" dur="4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5312 -2.25717E-006 C 0.05156 0.00509 0.04843 0.00856 0.0467 0.01318 C 0.04132 0.02429 0.04132 0.03862 0.03611 0.04926 C 0.03402 0.05805 0.0335 0.06707 0.03177 0.07678 C 0.03073 0.08095 0.02968 0.0895 0.02968 0.08973 C 0.02968 0.10777 0.03021 0.12651 0.03177 0.1457 C 0.03298 0.15611 0.04288 0.17068 0.04791 0.17715 C 0.05902 0.19195 0.07222 0.20213 0.08298 0.21716 C 0.09201 0.22803 0.10052 0.23936 0.11059 0.24676 C 0.11597 0.25393 0.12031 0.26018 0.12656 0.26388 C 0.13038 0.27267 0.13628 0.27382 0.14045 0.28076 C 0.15 0.29417 0.14271 0.28955 0.15104 0.29348 C 0.1526 0.29695 0.1533 0.30088 0.15486 0.30389 C 0.1559 0.30643 0.15972 0.30713 0.16128 0.31036 C 0.16232 0.31244 0.16128 0.31591 0.16284 0.31869 C 0.16389 0.32123 0.16493 0.32285 0.16701 0.3247 C 0.16805 0.32979 0.16979 0.33511 0.17083 0.33973 C 0.17257 0.34343 0.17361 0.34644 0.17465 0.35037 C 0.1783 0.36124 0.17934 0.37003 0.1842 0.37997 C 0.18628 0.392 0.18906 0.40148 0.19062 0.41351 C 0.19062 0.43895 0.19062 0.46531 0.1809 0.48798 C 0.1783 0.50023 0.17257 0.5148 0.16701 0.52382 C 0.16389 0.53469 0.15434 0.54533 0.14687 0.5488 C 0.14097 0.56129 0.12882 0.56799 0.12396 0.5784 C 0.11753 0.59343 0.10434 0.6117 0.09514 0.62304 C 0.08889 0.63599 0.09305 0.6272 0.08229 0.64848 C 0.07968 0.65333 0.07656 0.6649 0.07656 0.66536 C 0.075 0.676 0.07066 0.68432 0.06805 0.6945 C 0.06493 0.71994 0.06475 0.73081 0.06805 0.76018 C 0.06909 0.77267 0.08941 0.76157 0.09097 0.80551 C 0.09357 0.85662 0.07222 0.84598 0.06909 0.86355 C 0.06649 0.87466 0.03177 0.90079 0.0335 0.94473 C 0.04566 0.96901 0.08455 1.01157 0.11111 1.02891 C 0.13784 1.04602 0.17621 1.01503 0.19271 1.04787 C 0.22309 1.09505 0.20538 1.20745 0.21198 1.22734 C 0.21614 1.24237 0.09253 1.247 0.10225 1.25694 C 0.11059 1.27382 0.10642 1.26735 0.11389 1.27775 C 0.11597 1.28955 0.12135 1.29741 0.12552 1.30736 C 0.1283 1.32262 0.13507 1.33673 0.14271 1.34783 E">
                                      <p:cBhvr>
                                        <p:cTn id="11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19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20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128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44218E-006 C -0.00191 0.00439 -0.00452 0.0074 -0.00643 0.01156 C -0.01077 0.02127 -0.01094 0.03399 -0.01528 0.04348 C -0.01702 0.05111 -0.01754 0.0592 -0.0191 0.06776 C -0.01979 0.07146 -0.02153 0.07886 -0.02153 0.07909 C -0.02066 0.09505 -0.02049 0.1117 -0.0191 0.12858 C -0.01823 0.13783 -0.00938 0.15078 -0.00504 0.15657 C 0.00451 0.16975 0.01649 0.17877 0.02621 0.19195 C 0.03368 0.20143 0.04149 0.21161 0.05017 0.21808 C 0.05486 0.22433 0.05885 0.22988 0.06441 0.23312 C 0.06771 0.24098 0.07274 0.2419 0.07656 0.24815 C 0.08489 0.25994 0.07847 0.25578 0.08593 0.25925 C 0.08698 0.26249 0.08784 0.26596 0.08958 0.2685 C 0.09045 0.27081 0.0934 0.27151 0.09461 0.27428 C 0.09583 0.27613 0.09479 0.27914 0.096 0.28168 C 0.09687 0.28376 0.09791 0.28538 0.1 0.287 C 0.10086 0.29139 0.10208 0.29602 0.10347 0.30018 C 0.10468 0.30342 0.10573 0.3062 0.10659 0.30966 C 0.11007 0.31915 0.11093 0.32701 0.11493 0.3358 C 0.11649 0.34644 0.11961 0.35499 0.12083 0.3654 C 0.12066 0.3883 0.12083 0.41119 0.11215 0.43108 C 0.11007 0.44195 0.10468 0.4549 0.1 0.46276 C 0.09705 0.47248 0.08889 0.48173 0.08194 0.48497 C 0.07725 0.49583 0.06632 0.50185 0.06198 0.5111 C 0.0559 0.52428 0.04461 0.54047 0.03646 0.55041 C 0.03125 0.56198 0.03489 0.55411 0.02517 0.57285 C 0.02291 0.57724 0.02014 0.58742 0.02014 0.58788 C 0.01857 0.59713 0.0151 0.60453 0.01267 0.61355 C 0.00989 0.63598 0.00972 0.64616 0.01267 0.6716 C 0.01389 0.6827 0.03142 0.67275 0.03281 0.71161 C 0.03524 0.75694 0.01666 0.74792 0.01389 0.76295 C 0.01146 0.77266 -0.01893 0.79579 -0.01771 0.83464 C -0.00712 0.85615 0.02725 0.89361 0.05069 0.90888 C 0.07413 0.92414 0.10781 0.89662 0.12257 0.92576 C 0.14878 0.96739 0.13368 1.0666 0.13923 1.08418 C 0.14288 1.09759 0.03437 1.10152 0.04305 1.11031 C 0.05017 1.12534 0.04635 1.11956 0.05295 1.12881 C 0.05486 1.13922 0.05955 1.14616 0.06319 1.15495 C 0.06562 1.16836 0.07152 1.18085 0.0783 1.19056 E">
                                      <p:cBhvr>
                                        <p:cTn id="136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40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01684 6.47549E-008 C -0.01319 0.00439 -0.00764 0.0074 -0.00364 0.01156 C 0.00504 0.02128 0.00556 0.034 0.01424 0.04348 C 0.01754 0.05111 0.01875 0.0592 0.02205 0.06776 C 0.02309 0.07146 0.02743 0.07886 0.02743 0.07909 C 0.02517 0.09505 0.02448 0.1117 0.02205 0.12858 C 0.02014 0.13784 0.00191 0.15079 -0.0066 0.15657 C -0.02639 0.16975 -0.05052 0.17877 -0.07031 0.19195 C -0.08542 0.20143 -0.10174 0.21161 -0.11927 0.21809 C -0.12882 0.22433 -0.13698 0.22988 -0.14809 0.23312 C -0.15451 0.24098 -0.16528 0.24191 -0.17274 0.24815 C -0.1901 0.25994 -0.17691 0.25578 -0.19201 0.25925 C -0.1941 0.26249 -0.19601 0.26596 -0.19965 0.2685 C -0.20104 0.27081 -0.20712 0.27151 -0.20972 0.27428 C -0.21215 0.27613 -0.21024 0.27914 -0.21285 0.28168 C -0.21424 0.28376 -0.21614 0.28538 -0.22083 0.287 C -0.22222 0.2914 -0.22483 0.29602 -0.22795 0.30018 C -0.23038 0.30342 -0.23246 0.3062 -0.23403 0.30967 C -0.24114 0.31915 -0.24305 0.32701 -0.25121 0.3358 C -0.25417 0.34644 -0.26059 0.355 -0.26319 0.3654 C -0.26285 0.3883 -0.26319 0.41119 -0.24549 0.43108 C -0.24114 0.44195 -0.23038 0.4549 -0.22083 0.46277 C -0.21476 0.47248 -0.19826 0.48173 -0.18403 0.48497 C -0.17448 0.49584 -0.15208 0.50185 -0.14305 0.5111 C -0.13073 0.52428 -0.10764 0.54047 -0.09097 0.55042 C -0.08038 0.56198 -0.08802 0.55412 -0.0684 0.57285 C -0.06354 0.57724 -0.05833 0.58742 -0.05833 0.58788 C -0.05469 0.59713 -0.04774 0.60453 -0.04271 0.61355 C -0.03698 0.63599 -0.03698 0.64616 -0.04271 0.6716 C -0.04514 0.6827 -0.0809 0.67276 -0.08403 0.71161 C -0.08854 0.75694 -0.05104 0.74792 -0.04514 0.76295 C -0.04045 0.77266 0.0217 0.79579 0.01927 0.83464 C -0.0026 0.85615 -0.07222 0.89362 -0.12049 0.90888 C -0.16771 0.92414 -0.23663 0.89662 -0.26684 0.92576 C -0.31962 0.96739 -0.28941 1.0666 -0.30069 1.08418 C -0.30816 1.09759 -0.0868 1.10153 -0.10469 1.11031 C -0.11927 1.12535 -0.11111 1.11957 -0.12483 1.12882 C -0.12882 1.13922 -0.13854 1.14616 -0.14566 1.15495 C -0.15069 1.16836 -0.16267 1.18085 -0.17639 1.19056 E">
                                      <p:cBhvr>
                                        <p:cTn id="14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5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52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3.05556E-006 4.23682E-006 C 0.00104 0.00508 0.0026 0.00855 0.00382 0.01341 C 0.00642 0.02451 0.00659 0.03931 0.00902 0.05018 C 0.01007 0.05897 0.01041 0.06822 0.01128 0.07793 C 0.01163 0.08233 0.01302 0.09088 0.01302 0.09112 C 0.01232 0.10939 0.01215 0.12858 0.01128 0.14801 C 0.01076 0.15865 0.00538 0.17345 0.00295 0.18015 C -0.00295 0.19519 -0.0099 0.20559 -0.0158 0.22086 C -0.02032 0.23173 -0.025 0.24329 -0.03021 0.25069 C -0.03299 0.25786 -0.03542 0.2641 -0.03872 0.2678 C -0.04063 0.27705 -0.04375 0.27798 -0.04601 0.28515 C -0.05104 0.29879 -0.04723 0.29394 -0.05157 0.29787 C -0.05226 0.30157 -0.05278 0.30573 -0.05382 0.30851 C -0.05417 0.31128 -0.05608 0.31198 -0.05677 0.31521 C -0.05747 0.31729 -0.05695 0.32076 -0.05764 0.32377 C -0.05816 0.32608 -0.05868 0.32793 -0.06007 0.32978 C -0.06042 0.33487 -0.06146 0.34019 -0.06216 0.34505 C -0.06285 0.34875 -0.06354 0.35198 -0.06389 0.35592 C -0.06598 0.36679 -0.06667 0.37581 -0.06893 0.38598 C -0.06997 0.39824 -0.0717 0.40795 -0.07257 0.41998 C -0.0724 0.44634 -0.07257 0.47271 -0.06736 0.4956 C -0.06598 0.50809 -0.06285 0.52289 -0.06007 0.53191 C -0.05834 0.54301 -0.05348 0.55365 -0.04931 0.55758 C -0.04636 0.57007 -0.03976 0.57678 -0.03716 0.58741 C -0.03368 0.60268 -0.02674 0.62141 -0.02188 0.63274 C -0.01893 0.64593 -0.02101 0.63691 -0.01528 0.65841 C -0.01389 0.6635 -0.01233 0.6753 -0.01233 0.67576 C -0.01111 0.6864 -0.0092 0.69495 -0.00764 0.70536 C -0.00608 0.73103 -0.00608 0.74283 -0.00764 0.77197 C -0.00834 0.78492 -0.01893 0.77335 -0.01997 0.81799 C -0.02118 0.87025 -0.01007 0.85985 -0.00834 0.87719 C -0.00695 0.88829 0.01128 0.91489 0.01059 0.95952 C 0.00416 0.98427 -0.01632 1.02729 -0.03056 1.04486 C -0.04445 1.06244 -0.06476 1.03075 -0.07361 1.06429 C -0.08907 1.11216 -0.08021 1.22618 -0.08351 1.24653 C -0.08577 1.26179 -0.02066 1.26642 -0.02587 1.27659 C -0.03021 1.29371 -0.02795 1.28723 -0.03177 1.29787 C -0.03299 1.30966 -0.03594 1.31776 -0.03802 1.3277 C -0.03941 1.3432 -0.04288 1.35754 -0.04705 1.36887 E">
                                      <p:cBhvr>
                                        <p:cTn id="160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162" dur="4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63" dur="4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64" dur="4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172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7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76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77778E-006 -3.33025E-006 C -0.00052 0.00486 -0.00156 0.00833 -0.00225 0.01249 C -0.00399 0.02313 -0.00399 0.03654 -0.00573 0.04672 C -0.00642 0.05481 -0.00659 0.0636 -0.00712 0.07262 C -0.00746 0.07655 -0.00798 0.08465 -0.00798 0.08488 C -0.00781 0.10176 -0.00764 0.11934 -0.00712 0.13761 C -0.00677 0.14732 -0.00347 0.1612 -0.00173 0.16744 C 0.00191 0.18155 0.00643 0.19126 0.01007 0.20514 C 0.01302 0.21485 0.01598 0.22595 0.01927 0.23266 C 0.02101 0.23937 0.02257 0.24515 0.02466 0.24885 C 0.02587 0.25717 0.02795 0.2581 0.02934 0.2648 C 0.03247 0.27729 0.03004 0.2729 0.03282 0.2766 C 0.03334 0.28007 0.03368 0.28377 0.0342 0.28654 C 0.03455 0.28909 0.03577 0.28978 0.03629 0.29256 C 0.03663 0.29464 0.03629 0.29788 0.03681 0.30042 C 0.03716 0.30296 0.0375 0.30458 0.0382 0.3062 C 0.03854 0.31106 0.03907 0.31615 0.03959 0.32031 C 0.04011 0.32401 0.04045 0.32678 0.0408 0.33048 C 0.04202 0.34066 0.04236 0.34899 0.04393 0.35847 C 0.04462 0.3698 0.04566 0.37882 0.04618 0.38992 C 0.04618 0.41467 0.04618 0.43895 0.04288 0.46023 C 0.04202 0.47179 0.04011 0.48566 0.0382 0.49399 C 0.03716 0.5044 0.03403 0.51434 0.03143 0.51758 C 0.02952 0.52937 0.02535 0.53585 0.02379 0.54556 C 0.02153 0.55967 0.01719 0.57702 0.01407 0.58765 C 0.01198 0.59991 0.01337 0.59159 0.00973 0.61171 C 0.00886 0.6161 0.00782 0.6272 0.00782 0.62766 C 0.00729 0.63738 0.00591 0.64524 0.00504 0.65518 C 0.004 0.679 0.00382 0.68987 0.00504 0.71716 C 0.00538 0.72873 0.01216 0.71832 0.01268 0.75995 C 0.01354 0.80828 0.00643 0.79857 0.00538 0.81453 C 0.00452 0.82493 -0.00712 0.84945 -0.00659 0.89108 C -0.0026 0.9142 0.01059 0.95398 0.01945 0.97063 C 0.02848 0.98682 0.04132 0.95745 0.04688 0.98844 C 0.05695 1.03307 0.05104 1.139 0.0533 1.1575 C 0.05469 1.17183 0.0132 1.17623 0.0165 1.18548 C 0.01927 1.20167 0.01788 1.19542 0.02032 1.20537 C 0.02101 1.21647 0.02292 1.22387 0.02431 1.23312 C 0.02518 1.24746 0.02743 1.26087 0.03004 1.27151 E">
                                      <p:cBhvr>
                                        <p:cTn id="184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192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200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1.11111E-006 -2.91397E-006 C 0.00104 0.00532 0.0026 0.00879 0.00382 0.01365 C 0.00642 0.02521 0.0066 0.04001 0.00903 0.05088 C 0.01007 0.0599 0.01042 0.06961 0.01128 0.07956 C 0.01163 0.08372 0.01302 0.09251 0.01302 0.09274 C 0.01233 0.11147 0.01215 0.1309 0.01128 0.15079 C 0.01076 0.16143 0.00538 0.17646 0.00295 0.1834 C -0.00295 0.19889 -0.0099 0.2093 -0.0158 0.22433 C -0.02031 0.2352 -0.025 0.24723 -0.03021 0.25486 C -0.03299 0.26203 -0.03542 0.2685 -0.03872 0.27244 C -0.04063 0.28169 -0.04375 0.28261 -0.04601 0.28978 C -0.05104 0.30389 -0.04722 0.2988 -0.05156 0.30296 C -0.05226 0.30666 -0.05278 0.31083 -0.05382 0.3136 C -0.05417 0.31638 -0.05608 0.31753 -0.05677 0.32054 C -0.05747 0.32262 -0.05695 0.32632 -0.05764 0.32933 C -0.05816 0.33164 -0.05868 0.33349 -0.06007 0.33557 C -0.06042 0.34043 -0.06129 0.34598 -0.06215 0.35084 C -0.06285 0.35454 -0.06354 0.35777 -0.06389 0.36194 C -0.06597 0.37304 -0.06667 0.38229 -0.06892 0.39269 C -0.06997 0.40495 -0.0717 0.4149 -0.07257 0.42715 C -0.0724 0.45398 -0.07257 0.48058 -0.06736 0.50393 C -0.06597 0.51665 -0.06285 0.53169 -0.06007 0.54094 C -0.05833 0.55227 -0.05347 0.56337 -0.04931 0.56707 C -0.04636 0.57956 -0.03976 0.58673 -0.03715 0.5976 C -0.03351 0.61286 -0.02674 0.63206 -0.02188 0.64339 C -0.01875 0.65703 -0.02101 0.64778 -0.01528 0.66975 C -0.01389 0.67484 -0.01233 0.68687 -0.01233 0.68733 C -0.01111 0.6982 -0.0092 0.70699 -0.00764 0.71739 C -0.00608 0.74353 -0.00608 0.75555 -0.00764 0.78539 C -0.00833 0.79811 -0.01892 0.78654 -0.01979 0.83187 C -0.02118 0.88506 -0.01007 0.87466 -0.00833 0.892 C -0.00695 0.90333 0.01128 0.93039 0.01059 0.97572 C 0.00417 1.00116 -0.01632 1.0451 -0.03056 1.06268 C -0.04445 1.08048 -0.06476 1.04857 -0.07361 1.08257 C -0.08906 1.13113 -0.08021 1.24723 -0.08351 1.26781 C -0.08576 1.28354 -0.02066 1.28816 -0.02587 1.29834 C -0.03021 1.31591 -0.02778 1.30921 -0.03177 1.31985 C -0.03299 1.3321 -0.03594 1.3402 -0.03802 1.3506 C -0.03941 1.36633 -0.04288 1.3809 -0.04705 1.39246 E">
                                      <p:cBhvr>
                                        <p:cTn id="216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218" dur="4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19" dur="4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20" dur="4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22222E-006 -2.0444E-006 C -0.00052 0.00555 -0.00156 0.00925 -0.00225 0.01434 C -0.00399 0.02614 -0.00399 0.04163 -0.00573 0.05319 C -0.00642 0.06268 -0.00659 0.07239 -0.00712 0.0828 C -0.00746 0.08742 -0.00798 0.09644 -0.00798 0.09667 C -0.00781 0.11633 -0.00764 0.13668 -0.00712 0.15726 C -0.00677 0.1686 -0.00347 0.18432 -0.00173 0.19126 C 0.00191 0.20722 0.00643 0.21832 0.01007 0.23451 C 0.01302 0.24607 0.01597 0.25833 0.01927 0.26642 C 0.02101 0.27405 0.02257 0.28076 0.02466 0.28469 C 0.02587 0.29441 0.02795 0.29556 0.02934 0.30319 C 0.03247 0.31753 0.03004 0.31244 0.03281 0.31661 C 0.03334 0.32054 0.03368 0.32493 0.0342 0.32794 C 0.03455 0.33071 0.03577 0.33164 0.03629 0.33511 C 0.03663 0.33719 0.03629 0.34089 0.03681 0.34413 C 0.03716 0.34667 0.0375 0.34852 0.0382 0.3506 C 0.03854 0.35592 0.03906 0.36147 0.03959 0.36656 C 0.04011 0.37072 0.04045 0.37396 0.0408 0.37836 C 0.04202 0.38992 0.04236 0.3994 0.04393 0.41027 C 0.04462 0.42322 0.04566 0.43363 0.04618 0.44635 C 0.04618 0.47433 0.04618 0.50231 0.04288 0.5266 C 0.04202 0.53978 0.04011 0.55574 0.0382 0.56522 C 0.03716 0.57725 0.03403 0.58858 0.03143 0.59251 C 0.02952 0.60569 0.02535 0.61309 0.02379 0.62442 C 0.02153 0.64038 0.01719 0.66027 0.01406 0.6723 C 0.01198 0.68663 0.01337 0.67692 0.00972 0.69982 C 0.00886 0.70514 0.00781 0.71762 0.00781 0.71809 C 0.00729 0.72942 0.00591 0.73844 0.00504 0.74954 C 0.004 0.77706 0.00382 0.78932 0.00504 0.82054 C 0.00538 0.83395 0.01216 0.82193 0.01268 0.86934 C 0.01354 0.92484 0.00643 0.91374 0.00538 0.93201 C 0.00452 0.94404 -0.00712 0.97225 -0.00659 1.01966 C -0.0026 1.04602 0.01059 1.09182 0.01945 1.11032 C 0.02847 1.12905 0.04132 1.09552 0.04688 1.13113 C 0.05695 1.18178 0.05104 1.30319 0.0533 1.32447 C 0.05469 1.34089 0.0132 1.34575 0.0165 1.35662 C 0.01927 1.37489 0.01788 1.36772 0.02031 1.37905 C 0.02101 1.39177 0.02292 1.40033 0.02431 1.41096 C 0.02518 1.42738 0.02743 1.44265 0.03004 1.45467 E">
                                      <p:cBhvr>
                                        <p:cTn id="224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3.88889E-006 4.13506E-006 C 0.00225 0.00508 0.00573 0.00832 0.00816 0.01318 C 0.01354 0.02382 0.01389 0.03792 0.01927 0.04856 C 0.02135 0.05689 0.02204 0.06591 0.02413 0.07539 C 0.02482 0.07978 0.02743 0.08811 0.02743 0.08834 C 0.02604 0.10592 0.02569 0.12442 0.02413 0.14315 C 0.02291 0.15333 0.01163 0.1679 0.00642 0.17414 C -0.00591 0.18894 -0.02084 0.19889 -0.03316 0.21299 C -0.04254 0.22386 -0.05261 0.23519 -0.06355 0.24213 C -0.06945 0.24907 -0.07448 0.25532 -0.08143 0.25878 C -0.08542 0.26757 -0.09202 0.26873 -0.09671 0.27567 C -0.10747 0.28862 -0.09931 0.28422 -0.10868 0.28792 C -0.1099 0.29139 -0.11111 0.29556 -0.11337 0.29833 C -0.11424 0.30064 -0.11806 0.3018 -0.11962 0.30481 C -0.12118 0.30666 -0.11997 0.30989 -0.12153 0.3129 C -0.1224 0.31521 -0.12361 0.31706 -0.12657 0.31868 C -0.12743 0.32377 -0.129 0.32886 -0.13091 0.33348 C -0.13247 0.33695 -0.13368 0.33996 -0.13473 0.34412 C -0.13907 0.35453 -0.14028 0.36332 -0.14532 0.37303 C -0.14723 0.38482 -0.15122 0.39431 -0.15278 0.40587 C -0.15261 0.43154 -0.15278 0.45675 -0.14184 0.47895 C -0.13907 0.49098 -0.13247 0.50532 -0.12657 0.5141 C -0.12275 0.52497 -0.1125 0.53538 -0.10365 0.53885 C -0.09775 0.55087 -0.08386 0.55781 -0.0783 0.56799 C -0.07066 0.58256 -0.05625 0.6006 -0.04601 0.61147 C -0.03941 0.62465 -0.0441 0.61586 -0.03195 0.63667 C -0.029 0.6413 -0.0257 0.65286 -0.0257 0.65333 C -0.02344 0.66373 -0.0191 0.67183 -0.01598 0.682 C -0.0125 0.70675 -0.0125 0.71808 -0.01598 0.7463 C -0.01754 0.75855 -0.03976 0.74768 -0.04167 0.79093 C -0.04445 0.84135 -0.02118 0.83117 -0.01754 0.84805 C -0.01459 0.85869 0.02395 0.88436 0.02239 0.92761 C 0.00885 0.95143 -0.03438 0.99329 -0.06424 1.01017 C -0.09358 1.02705 -0.13629 0.99653 -0.15504 1.0289 C -0.18785 1.07516 -0.1691 1.18547 -0.17605 1.2049 C -0.18073 1.21993 -0.04341 1.22433 -0.05452 1.23404 C -0.06355 1.25069 -0.05851 1.24421 -0.06702 1.25462 C -0.06945 1.26642 -0.07552 1.27382 -0.07986 1.28353 C -0.08299 1.29856 -0.09046 1.31244 -0.09896 1.32354 E">
                                      <p:cBhvr>
                                        <p:cTn id="232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1.94444E-006 -4.81036E-007 C 0.00104 0.00555 0.00261 0.00902 0.00382 0.01411 C 0.00643 0.0259 0.0066 0.0414 0.00903 0.05273 C 0.01007 0.06198 0.01042 0.07192 0.01129 0.0821 C 0.01163 0.08673 0.01302 0.09575 0.01302 0.09598 C 0.01233 0.11517 0.01215 0.13552 0.01129 0.15587 C 0.01077 0.16698 0.00538 0.18247 0.00295 0.18964 C -0.00295 0.2056 -0.00989 0.21647 -0.0158 0.23242 C -0.02031 0.24399 -0.025 0.25624 -0.03021 0.26411 C -0.03298 0.27174 -0.03541 0.27845 -0.03871 0.28238 C -0.04062 0.29186 -0.04375 0.29302 -0.046 0.30042 C -0.05104 0.31476 -0.04722 0.30967 -0.05156 0.31383 C -0.05225 0.31776 -0.05278 0.32216 -0.05382 0.32516 C -0.05416 0.32794 -0.05607 0.32886 -0.05677 0.3321 C -0.05746 0.33441 -0.05694 0.33811 -0.05764 0.34112 C -0.05816 0.34366 -0.05868 0.34551 -0.06007 0.3476 C -0.06041 0.35291 -0.06128 0.35846 -0.06215 0.36355 C -0.06285 0.36748 -0.06354 0.37072 -0.06389 0.37488 C -0.06597 0.38645 -0.06666 0.39593 -0.06892 0.40657 C -0.06996 0.41952 -0.0717 0.42993 -0.07257 0.44241 C -0.07239 0.47017 -0.07257 0.49792 -0.06736 0.52197 C -0.06597 0.53515 -0.06285 0.55088 -0.06007 0.56036 C -0.05833 0.57216 -0.05347 0.58349 -0.0493 0.58742 C -0.04635 0.6006 -0.03975 0.60777 -0.03715 0.6191 C -0.0335 0.63506 -0.02673 0.65449 -0.02187 0.66651 C -0.01875 0.68062 -0.021 0.67114 -0.01528 0.6938 C -0.01389 0.69912 -0.01232 0.71138 -0.01232 0.71207 C -0.01111 0.72317 -0.0092 0.73219 -0.00764 0.74306 C -0.00607 0.77035 -0.00607 0.78261 -0.00764 0.81337 C -0.00833 0.82678 -0.01892 0.81476 -0.01979 0.86193 C -0.02118 0.91674 -0.01007 0.90587 -0.00833 0.92414 C -0.00694 0.93594 0.01129 0.96392 0.01059 1.01087 C 0.00417 1.037 -0.01632 1.08233 -0.03055 1.10083 C -0.04444 1.11933 -0.06475 1.08603 -0.07361 1.12142 C -0.08906 1.17183 -0.08021 1.29186 -0.0835 1.31314 C -0.08576 1.32956 -0.02066 1.33418 -0.02587 1.34482 C -0.03021 1.36309 -0.02778 1.35615 -0.03177 1.36725 C -0.03298 1.37997 -0.03594 1.3883 -0.03802 1.39894 C -0.03941 1.41513 -0.04288 1.43039 -0.04705 1.44218 E">
                                      <p:cBhvr>
                                        <p:cTn id="244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246" dur="4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47" dur="4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48" dur="4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256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60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268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276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-4.73636E-006 C -0.00052 0.00486 -0.00157 0.00787 -0.00226 0.01226 C -0.00399 0.02267 -0.00399 0.03608 -0.00572 0.04603 C -0.00643 0.05412 -0.0066 0.06268 -0.00712 0.0717 C -0.00747 0.07563 -0.00798 0.08349 -0.00798 0.08372 C -0.00782 0.10061 -0.00763 0.11818 -0.00712 0.13599 C -0.00677 0.14593 -0.00348 0.15958 -0.00173 0.16559 C 0.0019 0.1797 0.00643 0.18918 0.01007 0.20306 C 0.01303 0.213 0.01598 0.22364 0.01928 0.23058 C 0.02101 0.23705 0.02257 0.24307 0.02466 0.2463 C 0.02587 0.25463 0.02795 0.25579 0.02935 0.26226 C 0.03247 0.27475 0.03004 0.27036 0.03282 0.27406 C 0.03334 0.27753 0.03369 0.28123 0.03421 0.28377 C 0.03455 0.28631 0.03577 0.28701 0.03629 0.29001 C 0.03664 0.29186 0.03629 0.2951 0.03681 0.29788 C 0.03716 0.29996 0.03751 0.30158 0.0382 0.30343 C 0.03855 0.30805 0.03907 0.31291 0.03959 0.3173 C 0.04011 0.32077 0.04046 0.32378 0.0408 0.32725 C 0.04202 0.33742 0.04237 0.34575 0.04393 0.355 C 0.04462 0.36633 0.04566 0.37535 0.04619 0.38622 C 0.04619 0.4105 0.04619 0.43479 0.04288 0.45583 C 0.04202 0.46716 0.04011 0.48104 0.0382 0.48937 C 0.03716 0.49954 0.03403 0.50926 0.03143 0.51272 C 0.02952 0.52429 0.02535 0.53053 0.02378 0.54048 C 0.02153 0.55435 0.01719 0.57147 0.01407 0.58187 C 0.01198 0.59413 0.01337 0.5858 0.00972 0.60569 C 0.00885 0.61032 0.00782 0.62119 0.00782 0.62165 C 0.0073 0.63136 0.0059 0.63923 0.00504 0.64871 C 0.004 0.67253 0.00382 0.68317 0.00504 0.71 C 0.00538 0.72179 0.01216 0.71138 0.01268 0.75232 C 0.01355 0.80042 0.00643 0.79071 0.00538 0.80667 C 0.00452 0.81707 -0.00712 0.84136 -0.0066 0.88252 C -0.0026 0.90519 0.0106 0.94496 0.01945 0.96092 C 0.02848 0.97711 0.04132 0.94797 0.04688 0.97896 C 0.05695 1.0229 0.05105 1.1279 0.0533 1.1464 C 0.05469 1.1605 0.0132 1.16467 0.0165 1.17415 C 0.01928 1.18988 0.01788 1.18386 0.02032 1.19358 C 0.02101 1.20468 0.02292 1.21185 0.02431 1.22133 C 0.02518 1.23543 0.02744 1.24862 0.03004 1.25902 E">
                                      <p:cBhvr>
                                        <p:cTn id="288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4.56059E-006 C 0.00034 0.00439 0.00086 0.0074 0.00138 0.01156 C 0.00225 0.02127 0.00243 0.03399 0.00329 0.04347 C 0.00381 0.05111 0.00381 0.0592 0.00416 0.06776 C 0.00434 0.07146 0.00486 0.07886 0.00486 0.07909 C 0.00451 0.09505 0.00451 0.1117 0.00416 0.12858 C 0.00399 0.13783 0.00208 0.15078 0.00104 0.15656 C -0.00105 0.16975 -0.00382 0.17877 -0.00608 0.19195 C -0.00764 0.20143 -0.00938 0.21161 -0.01146 0.21808 C -0.0125 0.22432 -0.01337 0.22988 -0.01459 0.23311 C -0.01528 0.24098 -0.0165 0.2419 -0.01737 0.24815 C -0.01928 0.25994 -0.01771 0.25578 -0.01945 0.25925 C -0.01962 0.26248 -0.0198 0.26595 -0.02032 0.2685 C -0.02049 0.27081 -0.02119 0.2715 -0.02136 0.27428 C -0.02171 0.27613 -0.02153 0.27914 -0.02171 0.28168 C -0.02188 0.28376 -0.02205 0.28538 -0.02257 0.287 C -0.02275 0.29139 -0.02309 0.29602 -0.02344 0.30018 C -0.02362 0.30342 -0.02396 0.30619 -0.02414 0.30966 C -0.02483 0.31914 -0.02518 0.32701 -0.02605 0.3358 C -0.02639 0.34643 -0.02709 0.35499 -0.02726 0.3654 C -0.02726 0.38829 -0.02726 0.41119 -0.02535 0.43108 C -0.02483 0.44195 -0.02362 0.4549 -0.02257 0.46276 C -0.02205 0.47247 -0.02014 0.48173 -0.01858 0.48496 C -0.01754 0.49583 -0.01511 0.50185 -0.01407 0.5111 C -0.01268 0.52428 -0.01007 0.54047 -0.00834 0.55041 C -0.00712 0.56198 -0.00799 0.55411 -0.00573 0.57284 C -0.00521 0.57724 -0.00469 0.58741 -0.00469 0.58788 C -0.00434 0.59713 -0.00348 0.60453 -0.00296 0.61355 C -0.00226 0.63598 -0.00226 0.64616 -0.00296 0.6716 C -0.00313 0.6827 -0.00712 0.67275 -0.00747 0.71161 C -0.00799 0.75693 -0.00382 0.74791 -0.00313 0.76295 C -0.00261 0.77266 0.00416 0.79579 0.00399 0.83464 C 0.00156 0.85615 -0.00625 0.89361 -0.01146 0.90888 C -0.01684 0.92414 -0.02431 0.89662 -0.02778 0.92576 C -0.03351 0.96739 -0.03021 1.0666 -0.03143 1.08418 C -0.0323 1.09759 -0.00782 1.10152 -0.00973 1.11031 C -0.01146 1.12534 -0.01059 1.11956 -0.01198 1.12881 C -0.0125 1.13922 -0.01355 1.14616 -0.01441 1.15494 C -0.01494 1.16836 -0.01615 1.18085 -0.01771 1.19056 E">
                                      <p:cBhvr>
                                        <p:cTn id="29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99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00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 repeatCount="indefinite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7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10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12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 repeatCount="indefinite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5E-006 -2.03515E-006 C 0.00226 0.00532 0.00573 0.00902 0.00816 0.01411 C 0.01355 0.02567 0.01389 0.04117 0.01928 0.0525 C 0.02136 0.06175 0.02205 0.07146 0.02414 0.08187 C 0.02483 0.08626 0.02744 0.09528 0.02744 0.09552 C 0.02605 0.11471 0.0257 0.13483 0.02414 0.15518 C 0.02292 0.16628 0.01164 0.18178 0.00643 0.18895 C -0.0059 0.20467 -0.02084 0.21554 -0.03315 0.2315 C -0.04253 0.24306 -0.0526 0.25532 -0.06354 0.26295 C -0.06944 0.27058 -0.07448 0.27729 -0.08143 0.28122 C -0.08541 0.29071 -0.09201 0.29163 -0.0967 0.29926 C -0.10747 0.31337 -0.0993 0.30828 -0.10869 0.31244 C -0.1099 0.31638 -0.11112 0.32054 -0.11337 0.32355 C -0.11424 0.32632 -0.11806 0.32725 -0.11962 0.33048 C -0.12119 0.3328 -0.11997 0.3365 -0.12153 0.3395 C -0.1224 0.34205 -0.12362 0.3439 -0.12657 0.34598 C -0.12744 0.35107 -0.129 0.35685 -0.13091 0.3617 C -0.13247 0.36564 -0.13369 0.3691 -0.13473 0.37327 C -0.13907 0.3846 -0.14028 0.39408 -0.14532 0.40472 C -0.14723 0.41744 -0.15122 0.42785 -0.15278 0.44034 C -0.15261 0.46809 -0.15278 0.49561 -0.14185 0.51966 C -0.13907 0.53261 -0.13247 0.54834 -0.12657 0.55782 C -0.12275 0.56938 -0.1125 0.58071 -0.10365 0.58441 C -0.09774 0.5976 -0.08385 0.60477 -0.07829 0.6161 C -0.07065 0.63182 -0.05624 0.65148 -0.046 0.66351 C -0.0394 0.67738 -0.04409 0.6679 -0.03194 0.69057 C -0.02899 0.69565 -0.0257 0.70814 -0.0257 0.70861 C -0.02344 0.71971 -0.0191 0.72873 -0.01598 0.7396 C -0.0125 0.76665 -0.0125 0.77891 -0.01598 0.80944 C -0.01754 0.82285 -0.03975 0.81083 -0.04166 0.85777 C -0.04444 0.91235 -0.02118 0.90148 -0.01754 0.91952 C -0.01459 0.93132 0.02396 0.9593 0.0224 1.00601 C 0.00886 1.03192 -0.03437 1.07725 -0.06423 1.09552 C -0.09357 1.11402 -0.13629 1.08071 -0.15504 1.11587 C -0.18785 1.16605 -0.1691 1.28562 -0.17605 1.30689 C -0.18073 1.32308 -0.0434 1.32771 -0.05451 1.33835 C -0.06354 1.35662 -0.0585 1.34945 -0.06701 1.36078 C -0.06944 1.37327 -0.07552 1.38159 -0.07987 1.39223 C -0.08299 1.40842 -0.09045 1.42345 -0.09895 1.43525 E">
                                      <p:cBhvr>
                                        <p:cTn id="320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22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23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24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139 0.00509 C -0.00034 0.01018 0.00122 0.01365 0.00243 0.01827 C 0.00504 0.02937 0.00521 0.04371 0.00764 0.05435 C 0.00868 0.06314 0.00903 0.07216 0.0099 0.08187 C 0.01025 0.08603 0.01163 0.09459 0.01163 0.09482 C 0.01094 0.11286 0.01077 0.13159 0.0099 0.15079 C 0.00938 0.1612 0.004 0.176 0.00156 0.18247 C -0.00434 0.19727 -0.01128 0.20768 -0.01719 0.22248 C -0.0217 0.23335 -0.02639 0.24468 -0.03159 0.25208 C -0.03437 0.25925 -0.0368 0.2655 -0.0401 0.2692 C -0.04201 0.27799 -0.04514 0.27914 -0.04739 0.28608 C -0.05243 0.29949 -0.04861 0.29487 -0.05295 0.2988 C -0.05364 0.30227 -0.05416 0.3062 -0.05521 0.30898 C -0.05555 0.31152 -0.05746 0.31244 -0.05816 0.31545 C -0.05885 0.31753 -0.05833 0.321 -0.05903 0.32378 C -0.05955 0.32632 -0.06007 0.32794 -0.06146 0.32979 C -0.0618 0.33488 -0.06284 0.3402 -0.06354 0.34482 C -0.06423 0.34852 -0.06493 0.35153 -0.06528 0.35546 C -0.06736 0.36633 -0.06805 0.37512 -0.07031 0.38506 C -0.07135 0.39709 -0.07309 0.40657 -0.07396 0.4186 C -0.07378 0.44427 -0.07396 0.4704 -0.06875 0.49306 C -0.06736 0.50532 -0.06423 0.51989 -0.06146 0.52891 C -0.05972 0.53978 -0.05486 0.55042 -0.05069 0.55389 C -0.04774 0.56638 -0.04114 0.57308 -0.03854 0.58349 C -0.03507 0.59852 -0.02812 0.61679 -0.02326 0.62812 C -0.02031 0.64108 -0.02239 0.63229 -0.01666 0.65356 C -0.01528 0.65842 -0.01371 0.66998 -0.01371 0.67045 C -0.0125 0.68109 -0.01059 0.68941 -0.00903 0.69959 C -0.00746 0.72503 -0.00746 0.73636 -0.00903 0.76527 C -0.00972 0.77775 -0.02031 0.76665 -0.02135 0.81059 C -0.02257 0.8617 -0.01146 0.85153 -0.00972 0.86864 C -0.00833 0.87974 0.0099 0.90588 0.0092 0.94982 C 0.00278 0.9741 -0.01771 1.01665 -0.03194 1.034 C -0.04583 1.05111 -0.06614 1.02012 -0.075 1.05296 C -0.09045 1.10014 -0.08159 1.21254 -0.08489 1.23243 C -0.08715 1.24746 -0.02205 1.25208 -0.02725 1.26203 C -0.03159 1.27891 -0.02934 1.27244 -0.03316 1.28284 C -0.03437 1.29464 -0.03732 1.3025 -0.03941 1.31244 C -0.0408 1.32771 -0.04427 1.34182 -0.04844 1.35292 E">
                                      <p:cBhvr>
                                        <p:cTn id="33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334" dur="4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35" dur="4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36" dur="4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3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9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05556E-006 2.25717E-006 C -0.00052 0.00509 -0.00157 0.00855 -0.00226 0.01318 C -0.004 0.02428 -0.004 0.03885 -0.00573 0.04949 C -0.00643 0.05828 -0.0066 0.06753 -0.00712 0.07724 C -0.00747 0.0814 -0.00799 0.08996 -0.00799 0.09019 C -0.00782 0.10823 -0.00764 0.12719 -0.00712 0.14639 C -0.00677 0.15703 -0.00348 0.1716 -0.00174 0.1783 C 0.00191 0.19334 0.00642 0.20351 0.01007 0.21855 C 0.01302 0.22941 0.01597 0.24098 0.01909 0.24815 C 0.02083 0.25509 0.02257 0.26156 0.02465 0.26526 C 0.02587 0.27405 0.02795 0.27521 0.02934 0.28214 C 0.03246 0.29579 0.03003 0.29093 0.03281 0.29486 C 0.03333 0.29856 0.03368 0.3025 0.0342 0.3055 C 0.03455 0.30805 0.03576 0.30874 0.03628 0.31198 C 0.03663 0.31406 0.03628 0.31753 0.0368 0.3203 C 0.03715 0.32285 0.03732 0.3247 0.03819 0.32655 C 0.03854 0.3314 0.03906 0.33672 0.03958 0.34158 C 0.0401 0.34505 0.04045 0.34829 0.0408 0.35222 C 0.04201 0.36309 0.04236 0.37211 0.04392 0.38205 C 0.04444 0.39408 0.04566 0.40379 0.04618 0.41559 C 0.04618 0.44172 0.04618 0.46785 0.04271 0.49052 C 0.04201 0.50277 0.0401 0.51757 0.03819 0.52636 C 0.03715 0.53746 0.03402 0.5481 0.03142 0.5518 C 0.02951 0.56406 0.02517 0.571 0.02361 0.5814 C 0.02152 0.59644 0.01718 0.61494 0.01406 0.62627 C 0.01198 0.63945 0.01337 0.63043 0.00972 0.65171 C 0.00885 0.6568 0.00781 0.66836 0.00781 0.66882 C 0.00729 0.67946 0.0059 0.68779 0.00503 0.69796 C 0.00399 0.72363 0.00364 0.7352 0.00503 0.76411 C 0.00538 0.77682 0.01215 0.76549 0.01267 0.80966 C 0.01354 0.86124 0.00642 0.85106 0.00538 0.86794 C 0.00451 0.87904 -0.00712 0.90541 -0.0066 0.94958 C -0.00261 0.9741 0.01059 1.01665 0.01944 1.03423 C 0.0283 1.05157 0.04132 1.02012 0.04687 1.05342 C 0.05677 1.1006 0.05104 1.21369 0.0533 1.23358 C 0.05468 1.24884 0.01319 1.25324 0.01632 1.26341 C 0.01909 1.28053 0.01788 1.27382 0.02031 1.28446 C 0.02083 1.29625 0.02274 1.30411 0.0243 1.31406 C 0.025 1.32932 0.02725 1.34366 0.03003 1.35476 E">
                                      <p:cBhvr>
                                        <p:cTn id="34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 repeatCount="indefinite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352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5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5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 repeatCount="indefinite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1.11111E-006 -2.91397E-006 C 0.00104 0.00532 0.0026 0.00879 0.00382 0.01365 C 0.00642 0.02521 0.0066 0.04001 0.00903 0.05088 C 0.01007 0.0599 0.01042 0.06961 0.01128 0.07956 C 0.01163 0.08372 0.01302 0.09251 0.01302 0.09274 C 0.01233 0.11147 0.01215 0.1309 0.01128 0.15079 C 0.01076 0.16143 0.00538 0.17646 0.00295 0.1834 C -0.00295 0.19889 -0.0099 0.2093 -0.0158 0.22433 C -0.02031 0.2352 -0.025 0.24723 -0.03021 0.25486 C -0.03299 0.26203 -0.03542 0.2685 -0.03872 0.27244 C -0.04063 0.28169 -0.04375 0.28261 -0.04601 0.28978 C -0.05104 0.30389 -0.04722 0.2988 -0.05156 0.30296 C -0.05226 0.30666 -0.05278 0.31083 -0.05382 0.3136 C -0.05417 0.31638 -0.05608 0.31753 -0.05677 0.32054 C -0.05747 0.32262 -0.05695 0.32632 -0.05764 0.32933 C -0.05816 0.33164 -0.05868 0.33349 -0.06007 0.33557 C -0.06042 0.34043 -0.06129 0.34598 -0.06215 0.35084 C -0.06285 0.35454 -0.06354 0.35777 -0.06389 0.36194 C -0.06597 0.37304 -0.06667 0.38229 -0.06892 0.39269 C -0.06997 0.40495 -0.0717 0.4149 -0.07257 0.42715 C -0.0724 0.45398 -0.07257 0.48058 -0.06736 0.50393 C -0.06597 0.51665 -0.06285 0.53169 -0.06007 0.54094 C -0.05833 0.55227 -0.05347 0.56337 -0.04931 0.56707 C -0.04636 0.57956 -0.03976 0.58673 -0.03715 0.5976 C -0.03351 0.61286 -0.02674 0.63206 -0.02188 0.64339 C -0.01875 0.65703 -0.02101 0.64778 -0.01528 0.66975 C -0.01389 0.67484 -0.01233 0.68687 -0.01233 0.68733 C -0.01111 0.6982 -0.0092 0.70699 -0.00764 0.71739 C -0.00608 0.74353 -0.00608 0.75555 -0.00764 0.78539 C -0.00833 0.79811 -0.01892 0.78654 -0.01979 0.83187 C -0.02118 0.88506 -0.01007 0.87466 -0.00833 0.892 C -0.00695 0.90333 0.01128 0.93039 0.01059 0.97572 C 0.00417 1.00116 -0.01632 1.0451 -0.03056 1.06268 C -0.04445 1.08048 -0.06476 1.04857 -0.07361 1.08257 C -0.08906 1.13113 -0.08021 1.24723 -0.08351 1.26781 C -0.08576 1.28354 -0.02066 1.28816 -0.02587 1.29834 C -0.03021 1.31591 -0.02778 1.30921 -0.03177 1.31985 C -0.03299 1.3321 -0.03594 1.3402 -0.03802 1.3506 C -0.03941 1.36633 -0.04288 1.3809 -0.04705 1.39246 E">
                                      <p:cBhvr>
                                        <p:cTn id="368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370" dur="4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71" dur="4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72" dur="4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3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2.22222E-006 2.67345E-006 C -0.00052 0.00532 -0.00156 0.00879 -0.00225 0.01364 C -0.00399 0.02521 -0.00399 0.04024 -0.00573 0.05134 C -0.00642 0.06036 -0.00659 0.06984 -0.00712 0.08002 C -0.00746 0.08418 -0.00798 0.09297 -0.00798 0.0932 C -0.00781 0.11216 -0.00764 0.13159 -0.00712 0.15148 C -0.00677 0.16235 -0.00347 0.17761 -0.00173 0.18455 C 0.00191 0.20004 0.00643 0.21068 0.01007 0.22618 C 0.01302 0.23728 0.01597 0.2493 0.01927 0.2567 C 0.02101 0.2641 0.02257 0.27058 0.02466 0.27451 C 0.02587 0.28376 0.02795 0.28469 0.02934 0.29209 C 0.03247 0.30596 0.03004 0.30111 0.03281 0.30527 C 0.03334 0.30897 0.03368 0.31313 0.0342 0.31614 C 0.03455 0.31891 0.03577 0.31961 0.03629 0.32285 C 0.03663 0.32516 0.03629 0.32863 0.03681 0.33163 C 0.03716 0.33418 0.0375 0.33603 0.0382 0.33788 C 0.03854 0.34297 0.03906 0.34852 0.03959 0.35337 C 0.04011 0.35731 0.04045 0.36054 0.0408 0.36447 C 0.04202 0.37581 0.04236 0.38506 0.04393 0.39546 C 0.04462 0.40795 0.04566 0.4179 0.04618 0.43015 C 0.04618 0.45721 0.04618 0.48427 0.04288 0.50763 C 0.04202 0.52035 0.04011 0.53561 0.0382 0.54486 C 0.03716 0.55643 0.03403 0.5673 0.03143 0.571 C 0.02952 0.58395 0.02535 0.59089 0.02379 0.60175 C 0.02153 0.61725 0.01719 0.63645 0.01406 0.64824 C 0.01198 0.66165 0.01337 0.6524 0.00972 0.6746 C 0.00886 0.67969 0.00781 0.69172 0.00781 0.69218 C 0.00729 0.70305 0.00591 0.71184 0.00504 0.72248 C 0.004 0.74884 0.00382 0.76087 0.00504 0.79093 C 0.00538 0.80388 0.01216 0.79232 0.01268 0.83788 C 0.01354 0.8913 0.00643 0.88066 0.00538 0.89847 C 0.00452 0.9098 -0.00712 0.93709 -0.00659 0.98288 C -0.0026 1.00809 0.01059 1.05226 0.01945 1.0703 C 0.02847 1.08834 0.04132 1.05596 0.04688 1.09019 C 0.05695 1.13922 0.05104 1.25601 0.0533 1.27682 C 0.05469 1.29255 0.0132 1.29718 0.0165 1.30758 C 0.01927 1.32516 0.01788 1.31845 0.02031 1.32932 C 0.02101 1.34158 0.02292 1.34967 0.02431 1.36008 C 0.02518 1.37581 0.02743 1.39061 0.03004 1.40217 E">
                                      <p:cBhvr>
                                        <p:cTn id="380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5.55556E-007 2.20167E-006 C -0.00104 0.00509 -0.00347 0.00855 -0.00469 0.01318 C -0.00851 0.02428 -0.00851 0.03862 -0.01233 0.04926 C -0.01372 0.05805 -0.01424 0.06707 -0.01528 0.07678 C -0.01615 0.08094 -0.01684 0.0895 -0.01684 0.0895 C -0.01684 0.10754 -0.01649 0.1265 -0.01528 0.1457 C -0.01458 0.1561 -0.00729 0.17067 -0.00382 0.17715 C 0.00417 0.19195 0.01389 0.20213 0.02153 0.21716 C 0.02812 0.22803 0.0342 0.23936 0.04149 0.24676 C 0.04531 0.25393 0.04844 0.26017 0.05295 0.26387 C 0.05573 0.27266 0.0599 0.27382 0.06302 0.28076 C 0.06996 0.29417 0.06458 0.28954 0.07066 0.29348 C 0.07187 0.29695 0.07222 0.30088 0.07344 0.30388 C 0.07413 0.30643 0.07691 0.30712 0.07795 0.31036 C 0.07882 0.31244 0.07795 0.31591 0.07917 0.31868 C 0.07986 0.32123 0.08073 0.32285 0.08212 0.3247 C 0.08299 0.32979 0.08403 0.3351 0.0849 0.33973 C 0.08611 0.34343 0.08681 0.34644 0.08767 0.35037 C 0.09028 0.36124 0.09097 0.37003 0.09444 0.37997 C 0.09601 0.392 0.09792 0.40148 0.09913 0.4135 C 0.09913 0.43894 0.09913 0.46531 0.09219 0.48797 C 0.09028 0.50023 0.08611 0.5148 0.08212 0.52382 C 0.07986 0.53469 0.07309 0.54533 0.06753 0.5488 C 0.06337 0.56128 0.05451 0.56799 0.05104 0.5784 C 0.04653 0.59343 0.03698 0.6117 0.03038 0.62303 C 0.02569 0.63598 0.02882 0.62719 0.02118 0.64847 C 0.01927 0.65333 0.01684 0.66489 0.01684 0.66535 C 0.0158 0.67599 0.01267 0.68432 0.01076 0.69449 C 0.00851 0.71993 0.00851 0.7308 0.01076 0.76017 C 0.01163 0.77266 0.02621 0.76156 0.02726 0.8055 C 0.02917 0.85661 0.01389 0.84597 0.01163 0.86355 C 0.00972 0.87465 -0.01528 0.90078 -0.01424 0.94472 C -0.00538 0.96901 0.02274 1.01156 0.04184 1.02891 C 0.06111 1.04602 0.08871 1.01503 0.10069 1.04787 C 0.12257 1.09505 0.1099 1.20744 0.11441 1.22733 C 0.11753 1.24237 0.02847 1.24699 0.03542 1.25694 C 0.04149 1.27382 0.03837 1.26734 0.04375 1.27775 C 0.04531 1.28954 0.04913 1.29741 0.05226 1.30735 C 0.05417 1.32262 0.0592 1.33672 0.06458 1.34782 E">
                                      <p:cBhvr>
                                        <p:cTn id="392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394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95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96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9" presetSubtype="10" repeatCount="1000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5.55556E-007 3.45976E-006 L 0.60573 0.00254 E">
                                      <p:cBhvr>
                                        <p:cTn id="42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9" presetSubtype="10" repeatCount="1000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60573 -0.00254 L -1.94444E-006 -7.9556E-007 E">
                                      <p:cBhvr>
                                        <p:cTn id="434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3" presetSubtype="16">
                                  <p:stCondLst>
                                    <p:cond delay="1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3" presetSubtype="16">
                                  <p:stCondLst>
                                    <p:cond delay="1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54:37Z</dcterms:created>
  <dc:creator>www.pptbz.com</dc:creator>
  <dc:description/>
  <dc:language>en-US</dc:language>
  <cp:lastModifiedBy>王玉清</cp:lastModifiedBy>
  <dcterms:modified xsi:type="dcterms:W3CDTF">2016-02-16T08:54:20Z</dcterms:modified>
  <cp:revision>18</cp:revision>
  <dc:subject/>
  <dc:title>Slide 1</dc:title>
</cp:coreProperties>
</file>