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6d92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2AA407-2A3C-4D2B-A7A1-32D2903C3A4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E7550E-FFE8-46EA-810E-887C11794AF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D1C5E4-18D2-4D9A-8621-95DCCFF009B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D96206-A4D8-4E48-AE4C-16A0D028D69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535360-43E6-48A6-ACAE-E80B05F56DA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1C0948-23B9-4BC5-86DB-5AE917ADC59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FC8BB8-68E7-4968-838F-3E18BEE08DE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28E7FB-0296-45F3-AE6B-EC90D8D35F6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FBD0A4-A254-43CD-BCC1-C786895DBC3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19141F-2BB5-4E12-98F8-C358D2A1BAF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CB8ADB-3B6B-4EFB-8D16-D2F95A3D8C2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112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0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86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112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0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4280" y="622440"/>
            <a:ext cx="851544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112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0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86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112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0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622440"/>
            <a:ext cx="851544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6d9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576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rPr>
              <a:t>  Page </a:t>
            </a:r>
            <a:fld id="{F475038E-4943-43B5-A785-26473383783D}" type="slidenum">
              <a: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6361200" y="6350040"/>
            <a:ext cx="2463840" cy="30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Unbenannt-2"/>
          <p:cNvPicPr/>
          <p:nvPr/>
        </p:nvPicPr>
        <p:blipFill>
          <a:blip r:embed="rId3"/>
          <a:stretch/>
        </p:blipFill>
        <p:spPr>
          <a:xfrm>
            <a:off x="7097760" y="2887560"/>
            <a:ext cx="1380960" cy="21369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3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5516640" y="6005520"/>
            <a:ext cx="3225600" cy="40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6d9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639440"/>
            <a:ext cx="752004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白风格箭头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80840" y="2547720"/>
            <a:ext cx="608796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54FB8510-62A0-481A-A6DB-4F1913E471C3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546440" y="1790640"/>
          <a:ext cx="4280040" cy="40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6440" y="1790640"/>
                    <a:ext cx="428004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33660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3840" y="65325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4797b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3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C1A49316-7E14-4D17-B219-E750431450CA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960" y="1879560"/>
            <a:ext cx="85154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1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57E44712-CE17-4BE4-92E7-21DACE7361CA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blue"/>
          <p:cNvPicPr/>
          <p:nvPr/>
        </p:nvPicPr>
        <p:blipFill>
          <a:blip r:embed="rId1"/>
          <a:srcRect l="0" t="0" r="0" b="10303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„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best thing about the future is that it comes only one day at a time</a:t>
            </a:r>
            <a:r>
              <a:rPr b="1" lang="de-DE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05400" y="3862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braham Lincoln (1809-18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Unbenannt-2"/>
          <p:cNvPicPr/>
          <p:nvPr/>
        </p:nvPicPr>
        <p:blipFill>
          <a:blip r:embed="rId2"/>
          <a:stretch/>
        </p:blipFill>
        <p:spPr>
          <a:xfrm>
            <a:off x="7612200" y="4487760"/>
            <a:ext cx="8856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800360" y="828720"/>
            <a:ext cx="4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80F346DC-0C77-4819-96CD-E13F25C678C7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.</a:t>
            </a:r>
            <a:br>
              <a:rPr sz="2400"/>
            </a:b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It is also possible to have 2 lines of text.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600" y="2060640"/>
            <a:ext cx="41864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7320" y="2060640"/>
            <a:ext cx="41864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26880" y="14796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3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4691B51B-DB0B-485B-960A-3ECD45DB9EC6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45960" y="1871640"/>
            <a:ext cx="8488440" cy="376200"/>
          </a:xfrm>
          <a:prstGeom prst="rect">
            <a:avLst/>
          </a:prstGeom>
          <a:gradFill rotWithShape="0">
            <a:gsLst>
              <a:gs pos="0">
                <a:srgbClr val="2c6d92"/>
              </a:gs>
              <a:gs pos="100000">
                <a:srgbClr val="65c3e3"/>
              </a:gs>
            </a:gsLst>
            <a:lin ang="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848016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5960" y="3868560"/>
            <a:ext cx="8488440" cy="376560"/>
          </a:xfrm>
          <a:prstGeom prst="rect">
            <a:avLst/>
          </a:prstGeom>
          <a:gradFill rotWithShape="0">
            <a:gsLst>
              <a:gs pos="0">
                <a:srgbClr val="2c6d92"/>
              </a:gs>
              <a:gs pos="100000">
                <a:srgbClr val="65c3e3"/>
              </a:gs>
            </a:gsLst>
            <a:lin ang="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43080" y="4321080"/>
            <a:ext cx="8480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3840" y="65325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4797b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169F1933-F86F-436A-88B5-42DA6B394C16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0d3d65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1c4c74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be000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65c3e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4797b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2c6d92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6880" y="1903320"/>
            <a:ext cx="43056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73EC1D98-E579-41A3-858E-5551D6FC1684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pic>
        <p:nvPicPr>
          <p:cNvPr id="127" name="Picture 3" descr="Schach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38040" y="1860480"/>
            <a:ext cx="399744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8" name="Rectangle 5"/>
          <p:cNvSpPr/>
          <p:nvPr/>
        </p:nvSpPr>
        <p:spPr>
          <a:xfrm>
            <a:off x="471024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47ED361D-163B-45D5-A017-942808D66000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pic>
        <p:nvPicPr>
          <p:cNvPr id="132" name="Picture 3" descr="Schach"/>
          <p:cNvPicPr/>
          <p:nvPr/>
        </p:nvPicPr>
        <p:blipFill>
          <a:blip r:embed="rId1">
            <a:grayscl/>
          </a:blip>
          <a:srcRect l="0" t="0" r="5497" b="0"/>
          <a:stretch/>
        </p:blipFill>
        <p:spPr>
          <a:xfrm>
            <a:off x="349200" y="1881360"/>
            <a:ext cx="233856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3" name="Picture 4" descr="Schach"/>
          <p:cNvPicPr/>
          <p:nvPr/>
        </p:nvPicPr>
        <p:blipFill>
          <a:blip r:embed="rId2">
            <a:grayscl/>
          </a:blip>
          <a:srcRect l="0" t="0" r="5497" b="0"/>
          <a:stretch/>
        </p:blipFill>
        <p:spPr>
          <a:xfrm>
            <a:off x="349200" y="3862440"/>
            <a:ext cx="233856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4" name="Rectangle 6"/>
          <p:cNvSpPr/>
          <p:nvPr/>
        </p:nvSpPr>
        <p:spPr>
          <a:xfrm>
            <a:off x="2935440" y="177948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935440" y="3795840"/>
            <a:ext cx="587052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A2788299-67A3-49AD-94DF-BD0EE9132B46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155520" y="174132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74132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5"/>
          <p:cNvSpPr/>
          <p:nvPr/>
        </p:nvSpPr>
        <p:spPr>
          <a:xfrm>
            <a:off x="499896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王玉清</cp:lastModifiedBy>
  <cp:lastPrinted>2005-03-15T07:48:11Z</cp:lastPrinted>
  <dcterms:modified xsi:type="dcterms:W3CDTF">2016-02-29T07:49:22Z</dcterms:modified>
  <cp:revision>506</cp:revision>
  <dc:subject/>
  <dc:title>Blue screen</dc:title>
</cp:coreProperties>
</file>