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8E7-7D77-4DA9-88DA-22FF2A9D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48D-32BA-4546-8296-4957D47E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412-9412-41CA-958C-94982CD0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1FE-A148-4874-B2F7-B961760D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CFA-AE74-4798-BED0-11750065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052-2277-4AC2-A464-898EA763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60F-1D5F-44AA-B4B4-A33F868C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CFB-A1CA-4005-89E7-6C8A3DD0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06B-7ABC-4F81-9A8A-314EF941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EAE-1740-4C5B-A17A-8DC81FDC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DE8-2185-40DB-933B-AA6792AD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E05-FB77-4F44-83FC-314F2863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5C30-6C54-4825-ACF7-CAA5CE9A1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6196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蓝白灰背景商务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600200" y="3505320"/>
            <a:ext cx="6400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cc"/>
                </a:solidFill>
                <a:latin typeface="Times New Roman"/>
              </a:rPr>
              <a:t>Business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7317000" y="61722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7:40:05Z</dcterms:created>
  <dc:creator>ppt宝藏</dc:creator>
  <dc:description/>
  <dc:language>en-US</dc:language>
  <cp:lastModifiedBy>a</cp:lastModifiedBy>
  <dcterms:modified xsi:type="dcterms:W3CDTF">2015-07-25T06:56:27Z</dcterms:modified>
  <cp:revision>4</cp:revision>
  <dc:subject/>
  <dc:title>www.pptbz.com</dc:title>
</cp:coreProperties>
</file>