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175-B1E3-465C-ADA1-75332015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ED7-6B7C-4F4A-A54F-5FB0EFFB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267-4E58-41E0-8559-6DCC3A9A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118-559F-4A2D-8C9F-E6DE70D8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E0D-3CE0-4FC7-9961-F5BD43FD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681-564B-4C2B-9C8A-33369BF4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338-EA38-4593-BE73-B529C0B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B2E-C2BD-480A-8D4C-F5EA63D5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3D6-FA9B-4173-B899-4627CD93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AD7-EE22-4E46-ACAC-EAA787B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BAC-371A-4BAD-9BD3-EBAD167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92A-96A5-4A20-A18F-034CC83D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任意多边形 8"/>
          <p:cNvSpPr/>
          <p:nvPr/>
        </p:nvSpPr>
        <p:spPr>
          <a:xfrm>
            <a:off x="-23760" y="131760"/>
            <a:ext cx="9175680" cy="682560"/>
          </a:xfrm>
          <a:custGeom>
            <a:avLst/>
            <a:gdLst/>
            <a:ahLst/>
            <a:rect l="l" t="t" r="r" b="b"/>
            <a:pathLst>
              <a:path w="9177867" h="681277">
                <a:moveTo>
                  <a:pt x="0" y="434930"/>
                </a:moveTo>
                <a:cubicBezTo>
                  <a:pt x="210961" y="295229"/>
                  <a:pt x="421922" y="155529"/>
                  <a:pt x="787400" y="138596"/>
                </a:cubicBezTo>
                <a:cubicBezTo>
                  <a:pt x="1152878" y="121663"/>
                  <a:pt x="1491545" y="355908"/>
                  <a:pt x="2192867" y="333330"/>
                </a:cubicBezTo>
                <a:cubicBezTo>
                  <a:pt x="2894189" y="310752"/>
                  <a:pt x="4085166" y="-36381"/>
                  <a:pt x="4995333" y="3130"/>
                </a:cubicBezTo>
                <a:cubicBezTo>
                  <a:pt x="5905500" y="42641"/>
                  <a:pt x="7065434" y="499841"/>
                  <a:pt x="7653867" y="570396"/>
                </a:cubicBezTo>
                <a:cubicBezTo>
                  <a:pt x="8242300" y="640951"/>
                  <a:pt x="8338255" y="408119"/>
                  <a:pt x="8525933" y="426463"/>
                </a:cubicBezTo>
                <a:cubicBezTo>
                  <a:pt x="8713611" y="444807"/>
                  <a:pt x="8671277" y="697396"/>
                  <a:pt x="8779933" y="680463"/>
                </a:cubicBezTo>
                <a:cubicBezTo>
                  <a:pt x="8888589" y="663530"/>
                  <a:pt x="9033228" y="494196"/>
                  <a:pt x="9177867" y="32486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心形 9"/>
          <p:cNvSpPr/>
          <p:nvPr/>
        </p:nvSpPr>
        <p:spPr>
          <a:xfrm>
            <a:off x="250920" y="274680"/>
            <a:ext cx="288720" cy="24912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心形 10"/>
          <p:cNvSpPr/>
          <p:nvPr/>
        </p:nvSpPr>
        <p:spPr>
          <a:xfrm>
            <a:off x="1547640" y="2890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心形 11"/>
          <p:cNvSpPr/>
          <p:nvPr/>
        </p:nvSpPr>
        <p:spPr>
          <a:xfrm>
            <a:off x="4067280" y="108000"/>
            <a:ext cx="217440" cy="1857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心形 12"/>
          <p:cNvSpPr/>
          <p:nvPr/>
        </p:nvSpPr>
        <p:spPr>
          <a:xfrm>
            <a:off x="8172360" y="479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心形 13"/>
          <p:cNvSpPr/>
          <p:nvPr/>
        </p:nvSpPr>
        <p:spPr>
          <a:xfrm>
            <a:off x="8532720" y="533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心形 14"/>
          <p:cNvSpPr/>
          <p:nvPr/>
        </p:nvSpPr>
        <p:spPr>
          <a:xfrm>
            <a:off x="5219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心形 15"/>
          <p:cNvSpPr/>
          <p:nvPr/>
        </p:nvSpPr>
        <p:spPr>
          <a:xfrm>
            <a:off x="1835280" y="4255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心形 16"/>
          <p:cNvSpPr/>
          <p:nvPr/>
        </p:nvSpPr>
        <p:spPr>
          <a:xfrm>
            <a:off x="128520" y="41292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心形 17"/>
          <p:cNvSpPr/>
          <p:nvPr/>
        </p:nvSpPr>
        <p:spPr>
          <a:xfrm>
            <a:off x="5435640" y="16812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心形 18"/>
          <p:cNvSpPr/>
          <p:nvPr/>
        </p:nvSpPr>
        <p:spPr>
          <a:xfrm>
            <a:off x="5003640" y="1270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心形 19"/>
          <p:cNvSpPr/>
          <p:nvPr/>
        </p:nvSpPr>
        <p:spPr>
          <a:xfrm>
            <a:off x="8317080" y="439560"/>
            <a:ext cx="215640" cy="18756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任意多边形 20"/>
          <p:cNvSpPr/>
          <p:nvPr/>
        </p:nvSpPr>
        <p:spPr>
          <a:xfrm>
            <a:off x="36360" y="6273720"/>
            <a:ext cx="9144000" cy="441360"/>
          </a:xfrm>
          <a:custGeom>
            <a:avLst/>
            <a:gdLst/>
            <a:ahLst/>
            <a:rect l="l" t="t" r="r" b="b"/>
            <a:pathLst>
              <a:path w="9144000" h="440755">
                <a:moveTo>
                  <a:pt x="0" y="279400"/>
                </a:moveTo>
                <a:cubicBezTo>
                  <a:pt x="443794" y="366889"/>
                  <a:pt x="887589" y="454378"/>
                  <a:pt x="1481667" y="423333"/>
                </a:cubicBezTo>
                <a:cubicBezTo>
                  <a:pt x="2075745" y="392289"/>
                  <a:pt x="2593623" y="90311"/>
                  <a:pt x="3564467" y="93133"/>
                </a:cubicBezTo>
                <a:cubicBezTo>
                  <a:pt x="4535311" y="95955"/>
                  <a:pt x="6376811" y="455789"/>
                  <a:pt x="7306733" y="440267"/>
                </a:cubicBezTo>
                <a:cubicBezTo>
                  <a:pt x="8236655" y="424745"/>
                  <a:pt x="8690327" y="212372"/>
                  <a:pt x="914400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心形 21"/>
          <p:cNvSpPr/>
          <p:nvPr/>
        </p:nvSpPr>
        <p:spPr>
          <a:xfrm>
            <a:off x="8136000" y="6494400"/>
            <a:ext cx="288720" cy="249480"/>
          </a:xfrm>
          <a:custGeom>
            <a:avLst/>
            <a:gdLst/>
            <a:ahLst/>
            <a:rect l="l" t="t" r="r" b="b"/>
            <a:pathLst>
              <a:path w="288032" h="249504">
                <a:moveTo>
                  <a:pt x="144016" y="62376"/>
                </a:moveTo>
                <a:cubicBezTo>
                  <a:pt x="204023" y="-83168"/>
                  <a:pt x="438049" y="62376"/>
                  <a:pt x="144016" y="249504"/>
                </a:cubicBezTo>
                <a:cubicBezTo>
                  <a:pt x="-150017" y="62376"/>
                  <a:pt x="84009" y="-83168"/>
                  <a:pt x="144016" y="623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心形 22"/>
          <p:cNvSpPr/>
          <p:nvPr/>
        </p:nvSpPr>
        <p:spPr>
          <a:xfrm>
            <a:off x="3851280" y="627228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心形 23"/>
          <p:cNvSpPr/>
          <p:nvPr/>
        </p:nvSpPr>
        <p:spPr>
          <a:xfrm>
            <a:off x="1906560" y="6519960"/>
            <a:ext cx="216000" cy="187200"/>
          </a:xfrm>
          <a:custGeom>
            <a:avLst/>
            <a:gdLst/>
            <a:ahLst/>
            <a:rect l="l" t="t" r="r" b="b"/>
            <a:pathLst>
              <a:path w="216024" h="187128">
                <a:moveTo>
                  <a:pt x="108012" y="46782"/>
                </a:moveTo>
                <a:cubicBezTo>
                  <a:pt x="153017" y="-62376"/>
                  <a:pt x="328537" y="46782"/>
                  <a:pt x="108012" y="187128"/>
                </a:cubicBezTo>
                <a:cubicBezTo>
                  <a:pt x="-112512" y="46782"/>
                  <a:pt x="63007" y="-62376"/>
                  <a:pt x="108012" y="4678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心形 24"/>
          <p:cNvSpPr/>
          <p:nvPr/>
        </p:nvSpPr>
        <p:spPr>
          <a:xfrm>
            <a:off x="4122720" y="63658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心形 25"/>
          <p:cNvSpPr/>
          <p:nvPr/>
        </p:nvSpPr>
        <p:spPr>
          <a:xfrm>
            <a:off x="17748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心形 26"/>
          <p:cNvSpPr/>
          <p:nvPr/>
        </p:nvSpPr>
        <p:spPr>
          <a:xfrm>
            <a:off x="236520" y="65660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心形 27"/>
          <p:cNvSpPr/>
          <p:nvPr/>
        </p:nvSpPr>
        <p:spPr>
          <a:xfrm>
            <a:off x="39528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心形 28"/>
          <p:cNvSpPr/>
          <p:nvPr/>
        </p:nvSpPr>
        <p:spPr>
          <a:xfrm>
            <a:off x="1601640" y="661356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心形 29"/>
          <p:cNvSpPr/>
          <p:nvPr/>
        </p:nvSpPr>
        <p:spPr>
          <a:xfrm>
            <a:off x="2195640" y="6524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心形 30"/>
          <p:cNvSpPr/>
          <p:nvPr/>
        </p:nvSpPr>
        <p:spPr>
          <a:xfrm>
            <a:off x="8493120" y="6472080"/>
            <a:ext cx="108000" cy="9396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心形 31"/>
          <p:cNvSpPr/>
          <p:nvPr/>
        </p:nvSpPr>
        <p:spPr>
          <a:xfrm>
            <a:off x="8028000" y="66182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心形 32"/>
          <p:cNvSpPr/>
          <p:nvPr/>
        </p:nvSpPr>
        <p:spPr>
          <a:xfrm>
            <a:off x="8748720" y="617868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心形 33"/>
          <p:cNvSpPr/>
          <p:nvPr/>
        </p:nvSpPr>
        <p:spPr>
          <a:xfrm>
            <a:off x="8802720" y="6362640"/>
            <a:ext cx="108000" cy="93600"/>
          </a:xfrm>
          <a:custGeom>
            <a:avLst/>
            <a:gdLst/>
            <a:ahLst/>
            <a:rect l="l" t="t" r="r" b="b"/>
            <a:pathLst>
              <a:path w="108012" h="93564">
                <a:moveTo>
                  <a:pt x="54006" y="23391"/>
                </a:moveTo>
                <a:cubicBezTo>
                  <a:pt x="76509" y="-31188"/>
                  <a:pt x="164268" y="23391"/>
                  <a:pt x="54006" y="93564"/>
                </a:cubicBezTo>
                <a:cubicBezTo>
                  <a:pt x="-56256" y="23391"/>
                  <a:pt x="31504" y="-31188"/>
                  <a:pt x="54006" y="233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F70-23EB-4F57-9681-81766989B1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jieri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684360" y="1268280"/>
            <a:ext cx="3051000" cy="2665440"/>
            <a:chOff x="684360" y="1268280"/>
            <a:chExt cx="3051000" cy="2665440"/>
          </a:xfrm>
        </p:grpSpPr>
        <p:pic>
          <p:nvPicPr>
            <p:cNvPr id="70" name="图片 4" descr=""/>
            <p:cNvPicPr/>
            <p:nvPr/>
          </p:nvPicPr>
          <p:blipFill>
            <a:blip r:embed="rId1"/>
            <a:stretch/>
          </p:blipFill>
          <p:spPr>
            <a:xfrm>
              <a:off x="758520" y="1528920"/>
              <a:ext cx="267912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心形 5"/>
            <p:cNvSpPr/>
            <p:nvPr/>
          </p:nvSpPr>
          <p:spPr>
            <a:xfrm>
              <a:off x="684360" y="1268280"/>
              <a:ext cx="3051000" cy="2665440"/>
            </a:xfrm>
            <a:custGeom>
              <a:avLst/>
              <a:gdLst/>
              <a:ahLst/>
              <a:rect l="l" t="t" r="r" b="b"/>
              <a:pathLst>
                <a:path w="2952328" h="2577032">
                  <a:moveTo>
                    <a:pt x="1476164" y="644258"/>
                  </a:moveTo>
                  <a:cubicBezTo>
                    <a:pt x="2091232" y="-859011"/>
                    <a:pt x="4489999" y="644258"/>
                    <a:pt x="1476164" y="2577032"/>
                  </a:cubicBezTo>
                  <a:cubicBezTo>
                    <a:pt x="-1537671" y="644258"/>
                    <a:pt x="861096" y="-859011"/>
                    <a:pt x="1476164" y="644258"/>
                  </a:cubicBezTo>
                  <a:close/>
                </a:path>
              </a:pathLst>
            </a:custGeom>
            <a:noFill/>
            <a:ln w="63360">
              <a:solidFill>
                <a:srgbClr val="ff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任意多边形 7"/>
          <p:cNvSpPr/>
          <p:nvPr/>
        </p:nvSpPr>
        <p:spPr>
          <a:xfrm>
            <a:off x="2225520" y="3517920"/>
            <a:ext cx="6247080" cy="890640"/>
          </a:xfrm>
          <a:custGeom>
            <a:avLst/>
            <a:gdLst/>
            <a:ahLst/>
            <a:rect l="l" t="t" r="r" b="b"/>
            <a:pathLst>
              <a:path w="6246891" h="891435">
                <a:moveTo>
                  <a:pt x="0" y="438689"/>
                </a:moveTo>
                <a:cubicBezTo>
                  <a:pt x="356857" y="659744"/>
                  <a:pt x="713714" y="880800"/>
                  <a:pt x="1104522" y="809881"/>
                </a:cubicBezTo>
                <a:cubicBezTo>
                  <a:pt x="1495330" y="738962"/>
                  <a:pt x="1911790" y="97675"/>
                  <a:pt x="2344847" y="13176"/>
                </a:cubicBezTo>
                <a:cubicBezTo>
                  <a:pt x="2777905" y="-71323"/>
                  <a:pt x="3174748" y="277236"/>
                  <a:pt x="3702867" y="302887"/>
                </a:cubicBezTo>
                <a:cubicBezTo>
                  <a:pt x="4230986" y="328538"/>
                  <a:pt x="5122752" y="84095"/>
                  <a:pt x="5513560" y="167085"/>
                </a:cubicBezTo>
                <a:cubicBezTo>
                  <a:pt x="5904368" y="250075"/>
                  <a:pt x="5979814" y="683133"/>
                  <a:pt x="6047715" y="800828"/>
                </a:cubicBezTo>
                <a:cubicBezTo>
                  <a:pt x="6115616" y="918523"/>
                  <a:pt x="5887770" y="895890"/>
                  <a:pt x="5920966" y="873256"/>
                </a:cubicBezTo>
                <a:cubicBezTo>
                  <a:pt x="5954162" y="850622"/>
                  <a:pt x="6100526" y="757824"/>
                  <a:pt x="6246891" y="665026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68120" y="4437000"/>
            <a:ext cx="656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Happy Valentine's Da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6077880" y="2349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情人节快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"/>
          <p:cNvSpPr/>
          <p:nvPr/>
        </p:nvSpPr>
        <p:spPr>
          <a:xfrm>
            <a:off x="2351880" y="95076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浪漫粉色情人节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1113120" y="3279600"/>
            <a:ext cx="303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3" descr=""/>
          <p:cNvPicPr/>
          <p:nvPr/>
        </p:nvPicPr>
        <p:blipFill>
          <a:blip r:embed="rId2"/>
          <a:stretch/>
        </p:blipFill>
        <p:spPr>
          <a:xfrm>
            <a:off x="92160" y="1530360"/>
            <a:ext cx="5248080" cy="39560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6722280" y="3249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那一年，我们相爱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656400" y="37083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祝大家情人节快乐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53964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4:04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</dc:description>
  <cp:keywords>浪漫 粉色 情人节 PPT 模板</cp:keywords>
  <dc:language>en-US</dc:language>
  <cp:lastModifiedBy>王玉清</cp:lastModifiedBy>
  <cp:lastPrinted>1899-12-30T00:00:00Z</cp:lastPrinted>
  <dcterms:modified xsi:type="dcterms:W3CDTF">2016-02-20T04:00:31Z</dcterms:modified>
  <cp:revision>11</cp:revision>
  <dc:subject>情人节</dc:subject>
  <dc:title>浪漫粉色情人节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