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304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9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1"/>
              </a:rPr>
              <a:t>www.1ppt.com/moban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行业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2"/>
              </a:rPr>
              <a:t>www.1ppt.com/hangye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节日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3"/>
              </a:rPr>
              <a:t>www.1ppt.com/jieri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     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4"/>
              </a:rPr>
              <a:t>www.1ppt.com/sucai/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5"/>
              </a:rPr>
              <a:t>www.1ppt.com/beijing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6"/>
              </a:rPr>
              <a:t>www.1ppt.com/tubiao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优秀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7"/>
              </a:rPr>
              <a:t>www.1ppt.com/xiazai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  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8"/>
              </a:rPr>
              <a:t>www.1ppt.com/powerpoint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Word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Trebuchet MS"/>
                <a:ea typeface="宋体"/>
                <a:hlinkClick r:id="rId9"/>
              </a:rPr>
              <a:t>www.1ppt.com/word/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              Excel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www.1ppt.com/excel/ 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www.1ppt.com/ziliao/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PPT</a:t>
            </a: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www.1ppt.com/kejian/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4a452a"/>
                </a:solidFill>
                <a:uFillTx/>
                <a:latin typeface="Trebuchet MS"/>
                <a:ea typeface="宋体"/>
              </a:rPr>
              <a:t>www.1ppt.com/fanwen/           </a:t>
            </a:r>
            <a:endParaRPr b="0" lang="en-US" sz="4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  <p:pic>
        <p:nvPicPr>
          <p:cNvPr id="39" name="图片 2" descr=""/>
          <p:cNvPicPr/>
          <p:nvPr/>
        </p:nvPicPr>
        <p:blipFill>
          <a:blip r:embed="rId10"/>
          <a:srcRect l="0" t="4187" r="0" b="2016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" name="未知"/>
          <p:cNvSpPr/>
          <p:nvPr/>
        </p:nvSpPr>
        <p:spPr>
          <a:xfrm>
            <a:off x="0" y="6164280"/>
            <a:ext cx="9144000" cy="69372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  <p:sp>
        <p:nvSpPr>
          <p:cNvPr id="41" name="未知"/>
          <p:cNvSpPr/>
          <p:nvPr/>
        </p:nvSpPr>
        <p:spPr>
          <a:xfrm rot="10800000">
            <a:off x="0" y="-4680"/>
            <a:ext cx="9144000" cy="69048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浪漫鲜花通用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</a:rPr>
              <a:t>模板下载</a:t>
            </a:r>
            <a:endParaRPr b="0" lang="en-US" sz="40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幻灯片之家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0" lang="en-US" sz="16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Pj04387410000[1]"/>
          <p:cNvPicPr/>
          <p:nvPr/>
        </p:nvPicPr>
        <p:blipFill>
          <a:blip r:embed="rId1"/>
          <a:stretch/>
        </p:blipFill>
        <p:spPr>
          <a:xfrm>
            <a:off x="0" y="3581280"/>
            <a:ext cx="4389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304a"/>
                </a:solidFill>
                <a:latin typeface="Trebuchet MS"/>
                <a:ea typeface="宋体"/>
              </a:rPr>
              <a:t>Agenda/Topics to Be Covered</a:t>
            </a: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46" name="未知"/>
          <p:cNvSpPr/>
          <p:nvPr/>
        </p:nvSpPr>
        <p:spPr>
          <a:xfrm>
            <a:off x="0" y="6164280"/>
            <a:ext cx="9144000" cy="69372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Pj04387770000[1]"/>
          <p:cNvPicPr/>
          <p:nvPr/>
        </p:nvPicPr>
        <p:blipFill>
          <a:blip r:embed="rId1"/>
          <a:stretch/>
        </p:blipFill>
        <p:spPr>
          <a:xfrm>
            <a:off x="5116680" y="3962520"/>
            <a:ext cx="4027320" cy="2697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304a"/>
                </a:solidFill>
                <a:latin typeface="Trebuchet MS"/>
                <a:ea typeface="宋体"/>
              </a:rPr>
              <a:t>History of Company</a:t>
            </a: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When was the company founded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Company vision and charter/mission statement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Company products/services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This may take more than one slide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50" name="未知"/>
          <p:cNvSpPr/>
          <p:nvPr/>
        </p:nvSpPr>
        <p:spPr>
          <a:xfrm>
            <a:off x="0" y="6164280"/>
            <a:ext cx="9144000" cy="69372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Pj04392900000[1]"/>
          <p:cNvPicPr/>
          <p:nvPr/>
        </p:nvPicPr>
        <p:blipFill>
          <a:blip r:embed="rId1"/>
          <a:srcRect l="0" t="0" r="5784" b="0"/>
          <a:stretch/>
        </p:blipFill>
        <p:spPr>
          <a:xfrm>
            <a:off x="5600880" y="1066680"/>
            <a:ext cx="3543120" cy="5615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304a"/>
                </a:solidFill>
                <a:latin typeface="Trebuchet MS"/>
                <a:ea typeface="宋体"/>
              </a:rPr>
              <a:t>Who’s Who</a:t>
            </a: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List key company executives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An organization chart might be effective here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54" name="未知"/>
          <p:cNvSpPr/>
          <p:nvPr/>
        </p:nvSpPr>
        <p:spPr>
          <a:xfrm>
            <a:off x="0" y="6164280"/>
            <a:ext cx="9144000" cy="69372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680" y="63928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owerpoin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/moban/</a:t>
            </a:r>
            <a:endParaRPr b="0" lang="en-US" sz="16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MPj04386660000[1]"/>
          <p:cNvPicPr/>
          <p:nvPr/>
        </p:nvPicPr>
        <p:blipFill>
          <a:blip r:embed="rId1"/>
          <a:stretch/>
        </p:blipFill>
        <p:spPr>
          <a:xfrm>
            <a:off x="304920" y="3962520"/>
            <a:ext cx="3098520" cy="245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304a"/>
                </a:solidFill>
                <a:latin typeface="Trebuchet MS"/>
                <a:ea typeface="宋体"/>
              </a:rPr>
              <a:t>Summary</a:t>
            </a:r>
            <a:endParaRPr b="0" lang="en-US" sz="4400" spc="-1" strike="noStrike">
              <a:solidFill>
                <a:srgbClr val="42304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Discuss topics covered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rebuchet MS"/>
                <a:ea typeface="宋体"/>
              </a:rPr>
              <a:t>Reiterate welcome</a:t>
            </a:r>
            <a:endParaRPr b="0" lang="en-US" sz="3200" spc="-1" strike="noStrike">
              <a:solidFill>
                <a:srgbClr val="4d4d4d"/>
              </a:solidFill>
              <a:latin typeface="Trebuchet MS"/>
            </a:endParaRPr>
          </a:p>
        </p:txBody>
      </p:sp>
      <p:sp>
        <p:nvSpPr>
          <p:cNvPr id="59" name="未知"/>
          <p:cNvSpPr/>
          <p:nvPr/>
        </p:nvSpPr>
        <p:spPr>
          <a:xfrm>
            <a:off x="0" y="6164280"/>
            <a:ext cx="9144000" cy="693720"/>
          </a:xfrm>
          <a:custGeom>
            <a:avLst/>
            <a:gdLst/>
            <a:ahLst/>
            <a:rect l="l" t="t" r="r" b="b"/>
            <a:pathLst>
              <a:path w="5761" h="894">
                <a:moveTo>
                  <a:pt x="5760" y="0"/>
                </a:moveTo>
                <a:lnTo>
                  <a:pt x="5761" y="894"/>
                </a:lnTo>
                <a:lnTo>
                  <a:pt x="0" y="894"/>
                </a:lnTo>
                <a:cubicBezTo>
                  <a:pt x="0" y="894"/>
                  <a:pt x="0" y="447"/>
                  <a:pt x="0" y="0"/>
                </a:cubicBezTo>
                <a:cubicBezTo>
                  <a:pt x="387" y="106"/>
                  <a:pt x="657" y="196"/>
                  <a:pt x="1138" y="257"/>
                </a:cubicBezTo>
                <a:cubicBezTo>
                  <a:pt x="1619" y="318"/>
                  <a:pt x="2342" y="361"/>
                  <a:pt x="2888" y="364"/>
                </a:cubicBezTo>
                <a:cubicBezTo>
                  <a:pt x="3434" y="367"/>
                  <a:pt x="3933" y="334"/>
                  <a:pt x="4412" y="273"/>
                </a:cubicBezTo>
                <a:cubicBezTo>
                  <a:pt x="4891" y="212"/>
                  <a:pt x="5479" y="57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9978a8"/>
              </a:gs>
              <a:gs pos="100000">
                <a:srgbClr val="423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Courier New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03:13Z</dcterms:created>
  <dc:creator/>
  <dc:description/>
  <cp:keywords/>
  <dc:language>en-US</dc:language>
  <cp:lastModifiedBy>王玉清</cp:lastModifiedBy>
  <cp:lastPrinted>1899-12-30T00:00:00Z</cp:lastPrinted>
  <dcterms:modified xsi:type="dcterms:W3CDTF">2016-02-20T03:31:57Z</dcterms:modified>
  <cp:revision>28</cp:revision>
  <dc:subject/>
  <dc:title>Acme Company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