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77379356"/>
        <c:axId val="19563018"/>
      </c:barChart>
      <c:catAx>
        <c:axId val="7737935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9563018"/>
        <c:crosses val="autoZero"/>
        <c:auto val="1"/>
        <c:lblAlgn val="ctr"/>
        <c:lblOffset val="100"/>
        <c:noMultiLvlLbl val="0"/>
      </c:catAx>
      <c:valAx>
        <c:axId val="19563018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737935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10499058"/>
        <c:axId val="5228352"/>
      </c:barChart>
      <c:catAx>
        <c:axId val="1049905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228352"/>
        <c:crosses val="autoZero"/>
        <c:auto val="1"/>
        <c:lblAlgn val="ctr"/>
        <c:lblOffset val="100"/>
        <c:noMultiLvlLbl val="0"/>
      </c:catAx>
      <c:valAx>
        <c:axId val="5228352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0499058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41130795"/>
        <c:axId val="35537331"/>
      </c:lineChart>
      <c:catAx>
        <c:axId val="4113079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5537331"/>
        <c:crosses val="autoZero"/>
        <c:auto val="1"/>
        <c:lblAlgn val="ctr"/>
        <c:lblOffset val="100"/>
        <c:noMultiLvlLbl val="0"/>
      </c:catAx>
      <c:valAx>
        <c:axId val="35537331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1130795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88913123"/>
        <c:axId val="84945855"/>
      </c:barChart>
      <c:catAx>
        <c:axId val="8891312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4945855"/>
        <c:crosses val="autoZero"/>
        <c:auto val="1"/>
        <c:lblAlgn val="ctr"/>
        <c:lblOffset val="100"/>
        <c:noMultiLvlLbl val="0"/>
      </c:catAx>
      <c:valAx>
        <c:axId val="84945855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8913123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9C7822-D04E-4D58-8E67-234122847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3F0252A9-08B7-48AE-8B2A-204D1C40D1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4DC-14E5-4C02-9ACA-788FC874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9B3-9D3E-45A4-8027-F4D7E6E9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159-85E0-40F1-8E0F-59951C0F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08D-EA77-4B55-8878-C0F49656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BB9E-CB7A-4625-B75F-EEE32AF9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78DA-9587-4C30-8469-0113A08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C26F-7063-4298-844C-08F8841F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CBEF-AFDC-4739-8698-DBBDEBDF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8651-9267-4CB4-A177-757C5182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D547-AC1E-468C-A093-B66962E8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2367-F59A-45CF-85B9-9F7E8064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A60-7E29-45AE-822A-E09A57B1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9821-1EBB-489B-9CDF-3A12DDBB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D46F-0D3C-4A84-B747-7DA0415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A18-36D1-4B38-9F20-7E2028CB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1739-AD90-455B-AFF4-EF204BF3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12D1-3F2A-4A80-A0F7-170FCE3C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D5C2-0A36-4666-93BE-6AD186AD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7003-5F83-432B-8BFF-74759852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CD19-CBD2-4F81-ADA4-6D7D67CE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964C-C638-494F-B410-BAF4831D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81E4-22BE-4CD5-A3F3-EEAD886A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D23-CA81-40D6-A611-33B30540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65A4-106F-407F-9D4D-120B6581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6A9F-3964-42CA-80BE-1A52DF7F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31AE-D4F4-4AD7-882E-D3A0A7E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BCED-049F-42B2-BF76-3F9823B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B9EB-812A-4790-B182-3636880B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11A8-BB47-4F2A-9EB2-6430A5CE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4C6E-234F-484F-8BE4-BFC33D64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21AE6-9A73-4870-9E94-38974C08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FC707-D44B-4E13-98F3-52E0D1FD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947A-5CB9-469B-9E64-DDD88A6E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609-B181-457C-95EE-265044F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20BB-C115-4556-B8C2-58119877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C121-2923-4B64-BB5F-3CFCC39B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E67C-4304-42FA-A6BD-DC135DC3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5D89-48B6-4CB4-B400-5B745AEA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D0F8-BDB1-4E8E-9D36-2996B183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8DBC-B593-4E66-B120-4A970C03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7B09-2F57-4BF5-9770-5EDD317D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9302-4026-4727-AE3F-84E276C2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1085-1B1D-4741-A911-609573D8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F93AB-5E89-49BA-B335-AA6BDF86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54A-D506-480E-A1D6-52A2B04D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00C22-13F3-4BD0-BFE8-63ED27BF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5D5B7-8173-4931-92A8-38248766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515AD-C712-4E49-A91C-4AA1AE4A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0D702-5D6E-4DA8-8C2A-CC84C9B7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7E3D0-39F5-4D6A-BFDF-3688FFE1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95BF4-559D-4854-8649-CEAB7E1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2A88-F873-4D81-AC1D-A4713F0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BD2CA-5903-4400-B150-D85E2811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5AE3-8898-4C62-AECA-1FC375D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C80BC-B51A-4FBF-9E1C-E27139FC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B47-F6BB-4512-82BF-84DCD7E6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E0A6C-490D-4F8A-BFC7-8699AACE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B34D7-1F05-49A3-B3EA-C80F999C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3A883-7021-40F1-8505-2FA0FA85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C8C21-4F92-4CC9-A864-E9592BC2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0F1CD-FB2E-47B1-B879-4C82D437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3E3EF-4E6D-4FF2-994F-934618A1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FAEF8-0913-4166-BC33-76F0A42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55253-ED7E-4087-8BF7-8549B35C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8A07E-76AF-4C59-88FC-09BEE725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5A99-3992-4572-BEE4-F01FA0CA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AEE-E7F2-4365-8EF0-FF774B1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61A6B-56A8-4B95-B1FB-17EAE3FB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4B8A5-E0EC-4F5D-9CC3-5D5B41EA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FFAB5-8E15-408C-8D5A-83607193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1FB55-3863-499A-85C3-C2E0181D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52C9E-AC0A-4438-B9C6-2DCA820B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E26B-0E38-4F70-B54D-5C53F35D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CFF1B-A780-479D-8981-C03BE0B5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2B2E6-2C4C-4F21-8519-15B594D4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ACBFD-BC28-4ACB-83D5-AB29D3BF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220E8-A3F6-4363-A4E1-07B1D96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6DC-092C-486A-B796-9932EBD1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72E5A-4C3D-4596-89EC-A061435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9E495-9FC3-439C-91F1-A7F17ADC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86D34-15C2-4A25-87D6-19023857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42A8E-0026-47E5-9044-C925299A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BC760-F818-4A9C-BBDE-014C40C7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CF269-9792-4B27-BCE5-AEB9EAA9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9C627-29EC-459A-BB43-6E4AED5E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2E3B-4504-40BE-8AAD-E627D155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787D5-80C2-483C-99C0-7A315A36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1D7DF-384D-4331-857F-062FAFF4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866-5C86-4B52-B5C1-81F921A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C5675-37C7-4AE1-A267-B4F1844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7C11E-B20A-4EAC-A378-DC547CC1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3D87-97C6-45DA-BC56-8BFC2693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6617C-7A87-4270-81F3-67071FB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3AF2F-4685-47C3-B101-4F344A33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9827C-8618-41C0-8456-CD3F4004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D57DF-2EF6-42A2-BBAF-40F93D05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同侧圆角矩形 9" hidden="1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" name="同侧圆角矩形 10" hidden="1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D:\SLIDEtoME\TP模板\新建文件夹 (11)\bg10.jpg"/>
          <p:cNvPicPr/>
          <p:nvPr/>
        </p:nvPicPr>
        <p:blipFill>
          <a:blip r:embed="rId3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5" name="同侧圆角矩形 6"/>
          <p:cNvSpPr/>
          <p:nvPr/>
        </p:nvSpPr>
        <p:spPr>
          <a:xfrm rot="16200000">
            <a:off x="3951720" y="-2071080"/>
            <a:ext cx="16354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A7B1379-A4C5-425B-8F74-10EA1C46C250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0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7776FD-2976-4D53-B004-52A21C8C92AD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同侧圆角矩形 9" hidden="1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5" name="同侧圆角矩形 10" hidden="1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6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SLIDEtoME\TP模板\新建文件夹 (11)\bg10.jpg"/>
          <p:cNvPicPr/>
          <p:nvPr/>
        </p:nvPicPr>
        <p:blipFill>
          <a:blip r:embed="rId3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同侧圆角矩形 10"/>
          <p:cNvSpPr/>
          <p:nvPr/>
        </p:nvSpPr>
        <p:spPr>
          <a:xfrm rot="16200000">
            <a:off x="3689640" y="-1808640"/>
            <a:ext cx="216000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89D4DDE-6AA1-453E-8575-B2F82AE893C0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3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64EFA2-2E64-45BE-BD17-BFB8E500EED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89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B29171A-36DF-4BA3-8044-026DF0A66EA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233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34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3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A3F8A6E-F828-4AC0-8DE0-3FFB83B3F811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279" name="同侧圆角矩形 9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80" name="同侧圆角矩形 10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8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CF8EDD-6271-49EC-9F18-7744CBA47A4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D:\SLIDEtoME\TP模板\新建文件夹 (11)\bg10.jpg"/>
          <p:cNvPicPr/>
          <p:nvPr/>
        </p:nvPicPr>
        <p:blipFill>
          <a:blip r:embed="rId2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325" name="同侧圆角矩形 9" hidden="1"/>
          <p:cNvSpPr/>
          <p:nvPr/>
        </p:nvSpPr>
        <p:spPr>
          <a:xfrm rot="16200000">
            <a:off x="4336200" y="-3747600"/>
            <a:ext cx="8668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6" name="同侧圆角矩形 10" hidden="1"/>
          <p:cNvSpPr/>
          <p:nvPr/>
        </p:nvSpPr>
        <p:spPr>
          <a:xfrm rot="16200000">
            <a:off x="2168280" y="-646920"/>
            <a:ext cx="5202360" cy="8748000"/>
          </a:xfrm>
          <a:prstGeom prst="round2SameRect">
            <a:avLst>
              <a:gd name="adj1" fmla="val 1132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7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D:\SLIDEtoME\TP模板\新建文件夹 (11)\bg10.jpg"/>
          <p:cNvPicPr/>
          <p:nvPr/>
        </p:nvPicPr>
        <p:blipFill>
          <a:blip r:embed="rId3"/>
          <a:stretch/>
        </p:blipFill>
        <p:spPr>
          <a:xfrm>
            <a:off x="0" y="0"/>
            <a:ext cx="9161280" cy="6870600"/>
          </a:xfrm>
          <a:prstGeom prst="rect">
            <a:avLst/>
          </a:prstGeom>
          <a:ln w="0">
            <a:noFill/>
          </a:ln>
        </p:spPr>
      </p:pic>
      <p:sp>
        <p:nvSpPr>
          <p:cNvPr id="329" name="同侧圆角矩形 10"/>
          <p:cNvSpPr/>
          <p:nvPr/>
        </p:nvSpPr>
        <p:spPr>
          <a:xfrm rot="16200000">
            <a:off x="3951720" y="-2071080"/>
            <a:ext cx="1635480" cy="8748000"/>
          </a:xfrm>
          <a:prstGeom prst="round2SameRect">
            <a:avLst>
              <a:gd name="adj1" fmla="val 11628"/>
              <a:gd name="adj2" fmla="val 0"/>
            </a:avLst>
          </a:prstGeom>
          <a:solidFill>
            <a:srgbClr val="ffffff"/>
          </a:solidFill>
          <a:ln w="9525">
            <a:solidFill>
              <a:srgbClr val="dddddd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80203CC-64AA-44EC-A584-45ADA06140A9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绿色光圈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507-4AD3-463B-B5FC-E849F9994B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D800D-F9B6-447B-A8E1-E8A02377FD1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51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6D15C4D-B141-49AF-9EC4-7686B5C9C41E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004204-D02B-44EB-9B6D-CA0D5362A16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57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8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9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0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1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2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3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4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5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6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7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8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69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70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71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3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251640" y="65790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35D5-F68E-4000-95DD-469318D19E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6944BB-CA41-4194-844E-614BED19E07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703D5-1207-495C-877A-B3D362B29A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FB42E6F7-FB5F-4202-B454-4D6946E49BBB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1BD44DE-1E9E-4A07-B74E-10B63D6E4074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685FF1-6993-4D30-93C9-B6FD6B6FB07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6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7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8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9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0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1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2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3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4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5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6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97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8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8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0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1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2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3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4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15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6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b050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742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27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28" name="直接连接符 150"/>
          <p:cNvCxnSpPr/>
          <p:nvPr/>
        </p:nvCxnSpPr>
        <p:spPr>
          <a:xfrm>
            <a:off x="395280" y="19393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29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1B65-1A0D-4C8E-84D4-1585919741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E1614FF-A064-4B09-953B-1A5C63E17A39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内容占位符 8" descr=""/>
          <p:cNvPicPr/>
          <p:nvPr/>
        </p:nvPicPr>
        <p:blipFill>
          <a:blip r:embed="rId1"/>
          <a:stretch/>
        </p:blipFill>
        <p:spPr>
          <a:xfrm>
            <a:off x="539640" y="1245600"/>
            <a:ext cx="4850640" cy="4967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51640" y="65790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E4E3B-9C16-405D-B10B-A318431B13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7F6285EC-8F3C-4661-B0AA-4E97A3EE4B09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501918918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6FCEC-FBFC-4C41-8982-36767D0F6C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0B1F0B02-ECDA-4FA4-8189-ED36A95306E3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555389412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B18FC-7653-4758-AFC4-676B8CA05E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2C43456B-647A-4C13-B775-0072B2256BC6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40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41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3B71B-FDE8-4BD4-B093-CEDF9A4B70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643031E7-5C38-40BC-88C2-95A1CBD97D5D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3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6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3F05-8FE4-49CF-BE15-AB20868878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A3C4A9D3-8112-4E5E-9FFD-292D585ADD17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48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21DC-9AB0-4098-BF8D-99A5ED9FBF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B89DC965-D6D4-4EEC-98BD-5F16AD5A2ABC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ww.iloveppt.org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74</Template>
  <TotalTime>2</TotalTime>
  <Application>LibreOffice/7.4.7.2$Linux_X86_64 LibreOffice_project/40$Build-2</Application>
  <AppVersion>15.0000</AppVersion>
  <Words>527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10:57:51Z</dcterms:created>
  <dc:creator>ppt宝藏</dc:creator>
  <dc:description>我爱PPT中文网</dc:description>
  <dc:language>en-US</dc:language>
  <cp:lastModifiedBy>王玉清</cp:lastModifiedBy>
  <dcterms:modified xsi:type="dcterms:W3CDTF">2016-03-05T09:04:04Z</dcterms:modified>
  <cp:revision>3</cp:revision>
  <dc:subject>TP-图形创意</dc:subject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