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4140-BDF5-4808-8717-B7954600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2C21-DD21-4FE1-9A5E-6433547B9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D165-812E-4BDC-9BC5-D60BC388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4275-052A-41D6-8C20-4BA78D8E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9D93-005E-459A-B279-D08DF643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C73E-5119-463A-8300-4FFAEBC05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EA2B-E4C0-4762-AA98-2D2467FE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319A-98E3-4F69-B5BC-3BB03EE5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305A6-6150-47AF-8F4A-6131E569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CBEC-EE5B-4D6D-BA3F-8E3B18F4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555D-1947-4856-B072-DD4A2452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E3E9-EA81-4692-B9D3-77620829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B4B0-3AAC-4607-9872-AA1EA9FB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FEFA-878E-42B1-AAD4-AC7F3E7C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9DB7-D221-40D7-836F-91604C16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9107-9095-47D2-ADC2-2132AEDE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04F9-94CF-492A-8A6C-AB566009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1B08-EA05-4D11-9FFA-A2313C05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317-A58B-4BFD-BA62-C800FCDE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5F6-4843-4DC1-A58D-83762455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32B0-851E-4120-814A-8C59E66B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3D8-419D-4701-92EC-4E9695F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D40-A0B5-47D2-BA1B-B60071F3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306A-F77D-414C-BE87-1E45856A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251640" y="141264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9" descr=""/>
          <p:cNvPicPr/>
          <p:nvPr/>
        </p:nvPicPr>
        <p:blipFill>
          <a:blip r:embed="rId17"/>
          <a:srcRect l="3953" t="0" r="0" b="4001"/>
          <a:stretch/>
        </p:blipFill>
        <p:spPr>
          <a:xfrm>
            <a:off x="0" y="0"/>
            <a:ext cx="9143640" cy="685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500FCE4-D18B-4027-A916-05BD76724D85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"/>
          <p:cNvPicPr/>
          <p:nvPr/>
        </p:nvPicPr>
        <p:blipFill>
          <a:blip r:embed="rId2"/>
          <a:srcRect l="3953" t="11044" r="0" b="73795"/>
          <a:stretch/>
        </p:blipFill>
        <p:spPr>
          <a:xfrm>
            <a:off x="0" y="0"/>
            <a:ext cx="9143640" cy="1082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  <a:ea typeface="黑体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30EA19-9FD7-4805-AD06-ADC1A9206503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0" y="1052640"/>
            <a:ext cx="9143640" cy="580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9" name="图片 9" descr=""/>
          <p:cNvPicPr/>
          <p:nvPr/>
        </p:nvPicPr>
        <p:blipFill>
          <a:blip r:embed="rId3"/>
          <a:stretch/>
        </p:blipFill>
        <p:spPr>
          <a:xfrm>
            <a:off x="7633440" y="5106240"/>
            <a:ext cx="1186560" cy="1751400"/>
          </a:xfrm>
          <a:prstGeom prst="rect">
            <a:avLst/>
          </a:prstGeom>
          <a:ln w="0">
            <a:noFill/>
          </a:ln>
        </p:spPr>
      </p:pic>
      <p:cxnSp>
        <p:nvCxnSpPr>
          <p:cNvPr id="50" name="直接连接符 12"/>
          <p:cNvCxnSpPr/>
          <p:nvPr/>
        </p:nvCxnSpPr>
        <p:spPr>
          <a:xfrm>
            <a:off x="0" y="1066680"/>
            <a:ext cx="9144360" cy="360"/>
          </a:xfrm>
          <a:prstGeom prst="straightConnector1">
            <a:avLst/>
          </a:prstGeom>
          <a:ln>
            <a:solidFill>
              <a:srgbClr val="006d62"/>
            </a:solidFill>
            <a:round/>
          </a:ln>
        </p:spPr>
      </p:cxn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0404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0404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488360" cy="79164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绿色公益宣传通用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755640" y="1845000"/>
            <a:ext cx="7632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保护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  <a:ea typeface="黑体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683640" y="1986120"/>
            <a:ext cx="7632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很是简洁，欢迎交流学习，对不足之处可提出修改意见，互相提高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7"/>
          <p:cNvGrpSpPr/>
          <p:nvPr/>
        </p:nvGrpSpPr>
        <p:grpSpPr>
          <a:xfrm>
            <a:off x="3069720" y="2421000"/>
            <a:ext cx="3446280" cy="503640"/>
            <a:chOff x="3069720" y="2421000"/>
            <a:chExt cx="3446280" cy="503640"/>
          </a:xfrm>
        </p:grpSpPr>
        <p:sp>
          <p:nvSpPr>
            <p:cNvPr id="95" name="矩形 3"/>
            <p:cNvSpPr/>
            <p:nvPr/>
          </p:nvSpPr>
          <p:spPr>
            <a:xfrm>
              <a:off x="3069720" y="2421000"/>
              <a:ext cx="503640" cy="50364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直接连接符 5"/>
            <p:cNvCxnSpPr/>
            <p:nvPr/>
          </p:nvCxnSpPr>
          <p:spPr>
            <a:xfrm>
              <a:off x="3069720" y="2899440"/>
              <a:ext cx="50436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round/>
            </a:ln>
          </p:spPr>
        </p:cxnSp>
        <p:sp>
          <p:nvSpPr>
            <p:cNvPr id="97" name="TextBox 6"/>
            <p:cNvSpPr/>
            <p:nvPr/>
          </p:nvSpPr>
          <p:spPr>
            <a:xfrm>
              <a:off x="3708000" y="2488320"/>
              <a:ext cx="28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8"/>
          <p:cNvGrpSpPr/>
          <p:nvPr/>
        </p:nvGrpSpPr>
        <p:grpSpPr>
          <a:xfrm>
            <a:off x="3069720" y="3213000"/>
            <a:ext cx="3446280" cy="503640"/>
            <a:chOff x="3069720" y="3213000"/>
            <a:chExt cx="3446280" cy="503640"/>
          </a:xfrm>
        </p:grpSpPr>
        <p:sp>
          <p:nvSpPr>
            <p:cNvPr id="99" name="矩形 9"/>
            <p:cNvSpPr/>
            <p:nvPr/>
          </p:nvSpPr>
          <p:spPr>
            <a:xfrm>
              <a:off x="3069720" y="3213000"/>
              <a:ext cx="503640" cy="50364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直接连接符 10"/>
            <p:cNvCxnSpPr/>
            <p:nvPr/>
          </p:nvCxnSpPr>
          <p:spPr>
            <a:xfrm>
              <a:off x="3069720" y="3691800"/>
              <a:ext cx="50436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round/>
            </a:ln>
          </p:spPr>
        </p:cxnSp>
        <p:sp>
          <p:nvSpPr>
            <p:cNvPr id="101" name="TextBox 11"/>
            <p:cNvSpPr/>
            <p:nvPr/>
          </p:nvSpPr>
          <p:spPr>
            <a:xfrm>
              <a:off x="3708000" y="3280320"/>
              <a:ext cx="28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2"/>
          <p:cNvGrpSpPr/>
          <p:nvPr/>
        </p:nvGrpSpPr>
        <p:grpSpPr>
          <a:xfrm>
            <a:off x="3069720" y="4005000"/>
            <a:ext cx="3446280" cy="503640"/>
            <a:chOff x="3069720" y="4005000"/>
            <a:chExt cx="3446280" cy="503640"/>
          </a:xfrm>
        </p:grpSpPr>
        <p:sp>
          <p:nvSpPr>
            <p:cNvPr id="103" name="矩形 13"/>
            <p:cNvSpPr/>
            <p:nvPr/>
          </p:nvSpPr>
          <p:spPr>
            <a:xfrm>
              <a:off x="3069720" y="4005000"/>
              <a:ext cx="503640" cy="50364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直接连接符 14"/>
            <p:cNvCxnSpPr/>
            <p:nvPr/>
          </p:nvCxnSpPr>
          <p:spPr>
            <a:xfrm>
              <a:off x="3069720" y="4483800"/>
              <a:ext cx="50436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round/>
            </a:ln>
          </p:spPr>
        </p:cxnSp>
        <p:sp>
          <p:nvSpPr>
            <p:cNvPr id="105" name="TextBox 15"/>
            <p:cNvSpPr/>
            <p:nvPr/>
          </p:nvSpPr>
          <p:spPr>
            <a:xfrm>
              <a:off x="3708000" y="4072320"/>
              <a:ext cx="28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6"/>
          <p:cNvGrpSpPr/>
          <p:nvPr/>
        </p:nvGrpSpPr>
        <p:grpSpPr>
          <a:xfrm>
            <a:off x="3069720" y="4797000"/>
            <a:ext cx="3446280" cy="503640"/>
            <a:chOff x="3069720" y="4797000"/>
            <a:chExt cx="3446280" cy="503640"/>
          </a:xfrm>
        </p:grpSpPr>
        <p:sp>
          <p:nvSpPr>
            <p:cNvPr id="107" name="矩形 17"/>
            <p:cNvSpPr/>
            <p:nvPr/>
          </p:nvSpPr>
          <p:spPr>
            <a:xfrm>
              <a:off x="3069720" y="4797000"/>
              <a:ext cx="503640" cy="50364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直接连接符 18"/>
            <p:cNvCxnSpPr/>
            <p:nvPr/>
          </p:nvCxnSpPr>
          <p:spPr>
            <a:xfrm>
              <a:off x="3069720" y="5275800"/>
              <a:ext cx="50436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round/>
            </a:ln>
          </p:spPr>
        </p:cxnSp>
        <p:sp>
          <p:nvSpPr>
            <p:cNvPr id="109" name="TextBox 19"/>
            <p:cNvSpPr/>
            <p:nvPr/>
          </p:nvSpPr>
          <p:spPr>
            <a:xfrm>
              <a:off x="3708000" y="4864680"/>
              <a:ext cx="28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  <a:ea typeface="黑体"/>
              </a:rPr>
              <a:t>点此添加主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茅草">
      <a:dk1>
        <a:srgbClr val="000000"/>
      </a:dk1>
      <a:lt1>
        <a:srgbClr val="ffffff"/>
      </a:lt1>
      <a:dk2>
        <a:srgbClr val="1d3641"/>
      </a:dk2>
      <a:lt2>
        <a:srgbClr val="dfe6d0"/>
      </a:lt2>
      <a:accent1>
        <a:srgbClr val="759aa5"/>
      </a:accent1>
      <a:accent2>
        <a:srgbClr val="cfc60d"/>
      </a:accent2>
      <a:accent3>
        <a:srgbClr val="99987f"/>
      </a:accent3>
      <a:accent4>
        <a:srgbClr val="90ac97"/>
      </a:accent4>
      <a:accent5>
        <a:srgbClr val="ffad1c"/>
      </a:accent5>
      <a:accent6>
        <a:srgbClr val="b9ab6f"/>
      </a:accent6>
      <a:hlink>
        <a:srgbClr val="66aacd"/>
      </a:hlink>
      <a:folHlink>
        <a:srgbClr val="809db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茅草">
      <a:dk1>
        <a:srgbClr val="000000"/>
      </a:dk1>
      <a:lt1>
        <a:srgbClr val="ffffff"/>
      </a:lt1>
      <a:dk2>
        <a:srgbClr val="1d3641"/>
      </a:dk2>
      <a:lt2>
        <a:srgbClr val="dfe6d0"/>
      </a:lt2>
      <a:accent1>
        <a:srgbClr val="759aa5"/>
      </a:accent1>
      <a:accent2>
        <a:srgbClr val="cfc60d"/>
      </a:accent2>
      <a:accent3>
        <a:srgbClr val="99987f"/>
      </a:accent3>
      <a:accent4>
        <a:srgbClr val="90ac97"/>
      </a:accent4>
      <a:accent5>
        <a:srgbClr val="ffad1c"/>
      </a:accent5>
      <a:accent6>
        <a:srgbClr val="b9ab6f"/>
      </a:accent6>
      <a:hlink>
        <a:srgbClr val="66aacd"/>
      </a:hlink>
      <a:folHlink>
        <a:srgbClr val="809db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  <Words>63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4:24:07Z</dcterms:created>
  <dc:creator>王琳</dc:creator>
  <dc:description/>
  <dc:language>en-US</dc:language>
  <cp:lastModifiedBy>王玉清</cp:lastModifiedBy>
  <dcterms:modified xsi:type="dcterms:W3CDTF">2016-02-21T03:46:5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