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128-90DA-414E-96E8-DB337F60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A67-7B3B-44E8-841E-268BF9AB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77A-3AEA-4017-B909-6255410B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4DA-E8C0-477C-B4E8-9470047A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844C-152E-4449-AB58-38D1E06C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24CC-20C8-45BF-9B7E-47480911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9224-349C-42BA-9026-AD784056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FEA8-EF7F-46E1-8C0D-77E1DA30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862D-67CB-4BF6-88C7-CDE7206F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E45A-FDB1-4912-9D29-45CB8BC4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674B-4099-492D-9C4A-A7225329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0AF-1784-4817-ABB6-C3945B62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1667-7088-4C2D-8E1C-B7C1485C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1D51-D88A-42B1-849E-CC8F2909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19FE-40EB-4295-AAC7-C5B9782B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888A-C96C-4C69-922A-E908FD1D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FF2E-7690-4A92-AD12-96C55DC9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8FCD-9DAA-4B4D-8423-9A068094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81C-D634-43B6-AAA1-95A1E027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7A6-3017-4DBA-9040-F4DD00BD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5BC-FBDF-41F6-ACD2-AE109D22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E07-A60B-4B3D-AC66-FF5AFA14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CDE-1C3A-4E7A-B384-8F6AD7A3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01A-AFFD-40AD-B5A0-F5E7700A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05EA-B48E-4C98-8E6E-725F45A33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F57D-99AE-4528-B06F-ABA3BC77D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0600" cy="7313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539640" y="-241200"/>
            <a:ext cx="2808360" cy="24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欢迎</a:t>
            </a:r>
            <a:endParaRPr b="0" lang="en-US" sz="96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6477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179280" y="6597720"/>
            <a:ext cx="46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0880" y="0"/>
            <a:ext cx="312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历史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-24120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、当场训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、粉碎“四人帮”后我国出现了（      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百废俱兴的局面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经济迅速发展的局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拨乱反正的局面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在徘徊中前进的局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、为党的十一届三中全会召开奠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思想基础的是（    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党的整风运动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  “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文革”的结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关于真理标准问题的讨论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实事求是的路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、党的十一届三中全会是伟大的历史转折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其根本之点是（    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确立了实事求是的路线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实行改革开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党和国家工作重心的转移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决定拨乱反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、之所以说真理标准问题的讨论是一次深刻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思想解放运动，主要是因为（       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重新确立了实事求是的原则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认识到毛泽东晚年的错误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纠正了“文革”的错误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肯定了真理标准问题的讨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56000" y="533520"/>
            <a:ext cx="42674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、下列事件，在影响上可归为一类的（      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①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戊戌变法前维新派与顽固派论战 ② 扶清灭洋  ③  革命派与保皇派论战 ④ 新文化运动     ⑤关于真理标准问题的讨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① ② ③ ④ ⑤     B ② ③ ④ ⑤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 ① ③ ④ ⑤     D ① ② ③ ⑤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、下列会议在影响上可归为一类的是（   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①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八七会议 ②遵义会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③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中共八大 ④ 十一届三中全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① ② ③ ④ B ② ③ ④ C ① ②  ④ D ① ② ③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、下列会议在内容上可归为一类的是（    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八七会议 ②遵义会议 ③ 七届二中全会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④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中共八大 ⑤十一届三中全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① ② ③ ④ B ① ②③ ④ C ① ③ ④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、下列关于文革后拨乱反正的说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不正确的是（ 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为受打击、诬陷或迫害的知识分子恢复了名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平反了党历史上最大的冤案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撤销了文革中强加给刘少奇的种种罪名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为右派分子平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80000" y="436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16995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76360" y="27075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37886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24720" y="619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51640" y="3141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51640" y="2059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27280" y="619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场训练二——材料分析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9448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材料一：凡是毛主席作出的决策，我们都要坚决拥护；凡是毛主席的指示，我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都始终不渝的遵循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—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摘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7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《人民日报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材料二：革命导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并不认为自已提出的理论是己经完成了绝对真理的“顶峰”，可以不受实践的检验，并不认为他们作出的结论不管实际情况如何都不能改变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更不用说那些根据个别情况作出的论断。他们处处时时用实践来检验自己的理论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论断、指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他们不容许别人把他们的言论当作“圣经 ”崇拜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摘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7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日《人民日报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根据材料及课文知识回答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材料一的中心观点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材料二的中心观点又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两则材料的根本分歧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针对材料一，材料二在当时有什么重要意义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826920" y="-455760"/>
            <a:ext cx="9751680" cy="7313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635120" y="2625840"/>
            <a:ext cx="610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170028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4360" y="549360"/>
            <a:ext cx="6480000" cy="41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再见</a:t>
            </a:r>
            <a:endParaRPr b="1" lang="en-US" sz="9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5265-87F7-46B9-90E8-39EF631BD7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3703320"/>
            <a:ext cx="7991280" cy="1323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在社会主义建设初期，中共在经济建            设中主要犯了什么错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温故而知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在民主革命时期，中共经受了哪两次严重挫折？又是怎样转危为安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3500280"/>
            <a:ext cx="712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532080" y="609120"/>
            <a:ext cx="967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课题：伟大的历史性转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03480" y="4038480"/>
            <a:ext cx="777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授课人：郭基南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 flipH="1">
            <a:off x="4114800" y="2514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学习目标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7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文革后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7---197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出现两年徘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原因有哪些？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徘徊中的前进，前进的表现有哪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关于真理标准问题的讨论，背景、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、内容、意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十一届三中全会的背景、内容、意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拨乱反正在实践上、理论上的表现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为什么说十一届三中全会是伟大的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史性转折？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66680" y="0"/>
            <a:ext cx="762120" cy="9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前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徘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突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突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457200"/>
            <a:ext cx="2971800" cy="16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号召—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强调—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指出—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恢复—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078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33920" y="1295280"/>
            <a:ext cx="911880" cy="4770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转折的背景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徘徊中前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1219320"/>
            <a:ext cx="380880" cy="5638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146880 h 5638680"/>
              <a:gd name="textAreaBottom" fmla="*/ 5491800 h 563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8632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76720" y="4267080"/>
            <a:ext cx="401400" cy="1600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95280" y="2133720"/>
            <a:ext cx="152640" cy="1752480"/>
          </a:xfrm>
          <a:prstGeom prst="downArrow">
            <a:avLst>
              <a:gd name="adj1" fmla="val 50000"/>
              <a:gd name="adj2" fmla="val 28702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5280" y="52578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0"/>
            <a:ext cx="228600" cy="3733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0"/>
            <a:ext cx="99072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原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措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表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0"/>
            <a:ext cx="2971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邓小平复出，大力整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905120"/>
            <a:ext cx="4114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977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年底恢复高考制度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533520"/>
            <a:ext cx="304560" cy="1904760"/>
          </a:xfrm>
          <a:custGeom>
            <a:avLst/>
            <a:gdLst>
              <a:gd name="textAreaLeft" fmla="*/ 194760 w 304560"/>
              <a:gd name="textAreaRight" fmla="*/ 304920 w 3045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914400"/>
            <a:ext cx="3809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科学技术是生产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1371600"/>
            <a:ext cx="3962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知识分子是工人阶级的一部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457200"/>
            <a:ext cx="3657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尊重知识，尊重人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2819520"/>
            <a:ext cx="4724640" cy="12873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教科文—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国民经济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3505320"/>
            <a:ext cx="3009960" cy="7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较快恢复，某些方面甚至有些发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819520"/>
            <a:ext cx="114120" cy="1090440"/>
          </a:xfrm>
          <a:custGeom>
            <a:avLst/>
            <a:gdLst>
              <a:gd name="textAreaLeft" fmla="*/ 73080 w 114120"/>
              <a:gd name="textAreaRight" fmla="*/ 114480 w 114120"/>
              <a:gd name="textAreaTop" fmla="*/ 28440 h 1090440"/>
              <a:gd name="textAreaBottom" fmla="*/ 1062000 h 109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274320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出现全新面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4267080"/>
            <a:ext cx="4267080" cy="7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文革十年，积累了许多政治问题和社会问题，百业待新任务艰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6248520"/>
            <a:ext cx="2666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关于真理标准问题的讨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为转折奠定思想基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257800"/>
            <a:ext cx="3657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党“左”的指导思想没变，经济建设上又急于求成，出现了在徘徊中前进的局面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05120" y="6400080"/>
            <a:ext cx="952560" cy="152280"/>
          </a:xfrm>
          <a:prstGeom prst="rightArrow">
            <a:avLst>
              <a:gd name="adj1" fmla="val 50000"/>
              <a:gd name="adj2" fmla="val 1563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4952880"/>
            <a:ext cx="1257480" cy="152640"/>
          </a:xfrm>
          <a:prstGeom prst="rightArrow">
            <a:avLst>
              <a:gd name="adj1" fmla="val 50000"/>
              <a:gd name="adj2" fmla="val 20595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200400"/>
            <a:ext cx="0" cy="685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47242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Times New Roman"/>
              </a:rPr>
              <a:t>原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-353160" y="1523880"/>
            <a:ext cx="91188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于真理标准问题的讨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276720"/>
            <a:ext cx="54936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52388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836640"/>
            <a:ext cx="2666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两个凡是”的方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9079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35280" y="836640"/>
            <a:ext cx="1008000" cy="485640"/>
          </a:xfrm>
          <a:prstGeom prst="rightArrow">
            <a:avLst>
              <a:gd name="adj1" fmla="val 50000"/>
              <a:gd name="adj2" fmla="val 518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990720"/>
            <a:ext cx="1447920" cy="533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549360"/>
            <a:ext cx="151308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哲学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教条主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72360" y="9810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51055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404640"/>
            <a:ext cx="21337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左”倾思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4572000"/>
            <a:ext cx="243828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实践是检验真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的唯一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4495680"/>
            <a:ext cx="12193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哲学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实事求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5157720"/>
            <a:ext cx="639720" cy="176400"/>
          </a:xfrm>
          <a:prstGeom prst="rightArrow">
            <a:avLst>
              <a:gd name="adj1" fmla="val 50000"/>
              <a:gd name="adj2" fmla="val 90663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04000" y="4508640"/>
            <a:ext cx="2133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质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解放思想，冲破理论禁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2590920"/>
            <a:ext cx="7391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分歧：如何对待马克思主义毛泽东思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3505320"/>
            <a:ext cx="1600200" cy="1295280"/>
          </a:xfrm>
          <a:prstGeom prst="up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1752480"/>
            <a:ext cx="304920" cy="76212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175248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1752480"/>
            <a:ext cx="304920" cy="76212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20040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67480" y="3200400"/>
            <a:ext cx="228600" cy="824040"/>
          </a:xfrm>
          <a:prstGeom prst="downArrow">
            <a:avLst>
              <a:gd name="adj1" fmla="val 50000"/>
              <a:gd name="adj2" fmla="val 9011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124080"/>
            <a:ext cx="304920" cy="976320"/>
          </a:xfrm>
          <a:prstGeom prst="down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、转折的标志：十一届三中全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时间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地点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主要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43040" y="1981080"/>
            <a:ext cx="4800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意义：伟大的转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完成了—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标志——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开始形成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形成了—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8720" y="134136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十一届三中全会是伟大的历史性转折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280" y="1447920"/>
          <a:ext cx="8991720" cy="5211720"/>
        </p:xfrm>
        <a:graphic>
          <a:graphicData uri="http://schemas.openxmlformats.org/drawingml/2006/table">
            <a:tbl>
              <a:tblPr/>
              <a:tblGrid>
                <a:gridCol w="2523960"/>
                <a:gridCol w="3038760"/>
                <a:gridCol w="34290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十一届三中全会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十一届三中全会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工作重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以阶级斗争为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思想路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左”倾思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经济形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一公有制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度集中的计划经济体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对外政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左”倾思想下的关闭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715000" y="2209680"/>
            <a:ext cx="3429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经济建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或现代化建设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3429000"/>
            <a:ext cx="3429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实事求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4343400"/>
            <a:ext cx="33526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以公有制为主体的多种所有制经济并存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向市场经济过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5791320"/>
            <a:ext cx="33526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外开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三、拨乱反正</a:t>
            </a:r>
            <a:br>
              <a:rPr sz="44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十一届三中全会的实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背景：⑴————     ⑵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表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实践上：①————② ——  ③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理论上：通过《————》，肯定了————，根本否定了—————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意义：———————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7T09:58:3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55:41Z</dcterms:modified>
  <cp:revision>7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