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C5A-6F25-45CE-9C0B-532A761C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974-8BFD-41DC-9413-9C79DEA3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423-D88A-416E-B872-34A65BA9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C18-0AEA-4065-B253-D6DA831B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EE43-ED04-4460-8121-8E5ED610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EE0-5549-407C-A08E-9384368A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3E73-8F18-4816-8710-107F38EF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6776-D07E-492A-B39F-D0B4EAF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0DB5-3A14-497E-B426-7BC36F62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812A-453D-41C7-9196-C0022C2D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9AA3-C465-4637-BE74-1509BB79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A5E-B5FE-4B6B-B692-4913A8D7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D90D-16BE-47E6-A6D2-A54B448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75B9-3D2B-42C9-8AF9-B4B59066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CC4A-1C64-4DF4-B35D-2C00F5C5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E7B8-A453-4214-905C-3165CB87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CE82-18E7-437F-8AA4-B1FB870C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E50-BE32-401E-93A5-CB89410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9966-84D2-44CF-8970-C20EED0C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915-EF79-4916-B8C2-DD105471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759-47A8-41D7-A469-C1523162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BE5-EAB8-483F-9D90-D56F3A8B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707-F51A-4646-894D-A4631176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7ED-732D-4E3E-9FFA-7295A77C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99A-5174-404D-B145-6DA7FDA2144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4F96-E1DF-4E1C-B41A-F4B8517B94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088720" y="155736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女性时尚爱心树通用</a:t>
            </a:r>
            <a:r>
              <a:rPr b="0" lang="en-US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500720" y="2313000"/>
            <a:ext cx="4176720" cy="360360"/>
          </a:xfrm>
          <a:prstGeom prst="rect">
            <a:avLst/>
          </a:prstGeom>
          <a:solidFill>
            <a:srgbClr val="907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3836880" y="242100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07a8f"/>
                </a:solidFill>
                <a:latin typeface="方正正大黑简体"/>
                <a:ea typeface="方正正大黑简体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539640" y="65930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36003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360036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王玉清</cp:lastModifiedBy>
  <dcterms:modified xsi:type="dcterms:W3CDTF">2016-02-20T03:28:01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