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FF5-80D2-44B0-9EA0-935AF74F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786-1270-49D5-8BE7-C0E1204B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A87-9EF1-444F-B135-FF81FEF8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1CC-5682-41BD-B319-F235B41B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1933-2E23-4524-9449-BCBCA919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7628-52F5-4F4A-819B-8F553912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B7D8-7401-4804-B8C4-8E5A5487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937A-4E73-491F-906A-371B3A77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27A4-DAA8-44A5-A936-E2389E92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BD7D-53D1-4B1A-9BE9-D1EC5EC9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DA80-0726-45AF-9BC2-A37146E1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C3A-F4A1-49A8-9B8C-9A3AFBF1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CA6E-D3B4-4304-999B-80EDBA1E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6526-0FC4-4274-AC96-2A82A49B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42FD-FB2C-4BDF-AAE3-324E1D9B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50D9-F81F-4F79-B3AD-6104B3C1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4AE9-9807-4A16-9316-ACCDBC4A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755-4874-4CB7-A572-E18BD1F5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DF9-8D09-4760-B6E2-9CCE983C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D69-7FE5-47EF-9255-59B221BC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8D3-83C6-4542-897C-DB6C30C0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4123-8E13-4FD8-B9F6-2FDD4F05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41D-7C2A-4557-A113-5BD18AB4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499B-B6C5-42DA-939C-C6F68B36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DFF2-756A-474B-90D9-5BAC848AE43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CC4B-4F68-4514-B52D-B19F1C46C0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08000" y="50864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WPS </a:t>
            </a:r>
            <a:r>
              <a:rPr b="0" i="1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422440" y="5573880"/>
            <a:ext cx="402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你的办公助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4"/>
          <p:cNvCxnSpPr/>
          <p:nvPr/>
        </p:nvCxnSpPr>
        <p:spPr>
          <a:xfrm>
            <a:off x="283680" y="5725800"/>
            <a:ext cx="21279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5" name="AutoShape 5"/>
          <p:cNvCxnSpPr/>
          <p:nvPr/>
        </p:nvCxnSpPr>
        <p:spPr>
          <a:xfrm flipH="1" flipV="1" rot="10800000">
            <a:off x="7956360" y="188640"/>
            <a:ext cx="865800" cy="361080"/>
          </a:xfrm>
          <a:prstGeom prst="bentConnector3">
            <a:avLst>
              <a:gd name="adj1" fmla="val -8277"/>
            </a:avLst>
          </a:prstGeom>
          <a:ln w="9360">
            <a:solidFill>
              <a:srgbClr val="907a8f"/>
            </a:solidFill>
            <a:miter/>
          </a:ln>
        </p:spPr>
      </p:cxnSp>
      <p:sp>
        <p:nvSpPr>
          <p:cNvPr id="86" name="Text Box 6"/>
          <p:cNvSpPr/>
          <p:nvPr/>
        </p:nvSpPr>
        <p:spPr>
          <a:xfrm>
            <a:off x="7956720" y="244440"/>
            <a:ext cx="12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07a8f"/>
                </a:solidFill>
                <a:latin typeface="Arial"/>
                <a:ea typeface="方正细倩简体"/>
              </a:rPr>
              <a:t>女性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2505600" y="253692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女性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78840" y="3068640"/>
            <a:ext cx="21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方正细倩简体"/>
              </a:rPr>
              <a:t>WPS Office 20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方正细倩简体"/>
              </a:rPr>
              <a:t>女性专业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41320" y="3484440"/>
            <a:ext cx="311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611280" y="3139920"/>
            <a:ext cx="160200" cy="160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622440" y="3533760"/>
            <a:ext cx="160200" cy="1587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240" y="3916440"/>
            <a:ext cx="160560" cy="1602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500720" y="2313000"/>
            <a:ext cx="4176720" cy="360360"/>
          </a:xfrm>
          <a:prstGeom prst="rect">
            <a:avLst/>
          </a:prstGeom>
          <a:solidFill>
            <a:srgbClr val="90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047600" y="350532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方正细倩简体"/>
              </a:rPr>
              <a:t>WPS Office 20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方正细倩简体"/>
              </a:rPr>
              <a:t>女性专业版特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118520" y="3916440"/>
            <a:ext cx="259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方正细倩简体"/>
              </a:rPr>
              <a:t>WPS Office 20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方正细倩简体"/>
              </a:rPr>
              <a:t>女性专业版新增功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979720" y="249228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工作平台实现个性定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51280" y="2859120"/>
            <a:ext cx="49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ork platform for the realization of personalized cus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4"/>
          <p:cNvCxnSpPr/>
          <p:nvPr/>
        </p:nvCxnSpPr>
        <p:spPr>
          <a:xfrm>
            <a:off x="3060720" y="2276280"/>
            <a:ext cx="5493600" cy="1080"/>
          </a:xfrm>
          <a:prstGeom prst="straightConnector1">
            <a:avLst/>
          </a:prstGeom>
          <a:ln w="9360">
            <a:solidFill>
              <a:srgbClr val="907a8f"/>
            </a:solidFill>
            <a:miter/>
            <a:tailEnd len="med" type="triangle" w="med"/>
          </a:ln>
        </p:spPr>
      </p:cxnSp>
      <p:sp>
        <p:nvSpPr>
          <p:cNvPr id="100" name="Text Box 5"/>
          <p:cNvSpPr/>
          <p:nvPr/>
        </p:nvSpPr>
        <p:spPr>
          <a:xfrm>
            <a:off x="2631960" y="372744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爱不释手的文字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81080" y="3998880"/>
            <a:ext cx="49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Put the text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箭头 128"/>
          <p:cNvSpPr/>
          <p:nvPr/>
        </p:nvSpPr>
        <p:spPr>
          <a:xfrm>
            <a:off x="108000" y="4654440"/>
            <a:ext cx="4824360" cy="0"/>
          </a:xfrm>
          <a:prstGeom prst="line">
            <a:avLst/>
          </a:prstGeom>
          <a:ln w="9360">
            <a:solidFill>
              <a:srgbClr val="907a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3" name="AutoShape 2"/>
          <p:cNvCxnSpPr/>
          <p:nvPr/>
        </p:nvCxnSpPr>
        <p:spPr>
          <a:xfrm>
            <a:off x="324000" y="907560"/>
            <a:ext cx="5040720" cy="367560"/>
          </a:xfrm>
          <a:prstGeom prst="bentConnector3">
            <a:avLst>
              <a:gd name="adj1" fmla="val 35790"/>
            </a:avLst>
          </a:prstGeom>
          <a:ln w="9360">
            <a:solidFill>
              <a:srgbClr val="907a8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4" name="Text Box 3"/>
          <p:cNvSpPr/>
          <p:nvPr/>
        </p:nvSpPr>
        <p:spPr>
          <a:xfrm>
            <a:off x="2348280" y="90792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 Office 2012</a:t>
            </a:r>
            <a:r>
              <a:rPr b="1" lang="zh-CN" sz="18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女性专业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74560" y="1784520"/>
            <a:ext cx="6772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        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 (Word Processing System),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中文意为文字编辑系统，是金山软件公司的一种办公软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最初出现于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1989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年，在微软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indow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系统出现以前，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DO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系统盛行的年代，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曾是中国最流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的文字处理软件，现在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最近正式推出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2012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女性版。另外，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男性专业版也即将面世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41440" y="2927520"/>
            <a:ext cx="6770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        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 (Word Processing System),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中文意为文字编辑系统，是金山软件公司的一种办公软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最初出现于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1989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年，在微软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indow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系统出现以前，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DO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系统盛行的年代，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曾是中国最流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的文字处理软件，现在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最近正式推出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2012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女性版。另外，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男性专业版也即将面世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6"/>
          <p:cNvCxnSpPr/>
          <p:nvPr/>
        </p:nvCxnSpPr>
        <p:spPr>
          <a:xfrm>
            <a:off x="3876840" y="4460400"/>
            <a:ext cx="5040720" cy="366120"/>
          </a:xfrm>
          <a:prstGeom prst="bentConnector3">
            <a:avLst>
              <a:gd name="adj1" fmla="val 82472"/>
            </a:avLst>
          </a:prstGeom>
          <a:ln w="9360">
            <a:solidFill>
              <a:srgbClr val="907a8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08" name="Picture 7" descr="ZIMU"/>
          <p:cNvPicPr/>
          <p:nvPr/>
        </p:nvPicPr>
        <p:blipFill>
          <a:blip r:embed="rId2"/>
          <a:stretch/>
        </p:blipFill>
        <p:spPr>
          <a:xfrm>
            <a:off x="4356000" y="4487760"/>
            <a:ext cx="3448080" cy="38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252240" y="25909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07a8f"/>
                </a:solidFill>
                <a:latin typeface="Arial"/>
                <a:ea typeface="方正细倩简体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王玉清</cp:lastModifiedBy>
  <dcterms:modified xsi:type="dcterms:W3CDTF">2016-02-24T03:30:3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