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236-E369-453B-BB00-FE234E2E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F3A-3AE1-4E6F-9D7C-903F3583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A13EC-A9B6-4A57-A134-31750620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BB796-5270-40B2-B52C-15D00E78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CECED-8E63-4D2E-A5BB-FF2C5D89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F547A-D2D7-4BBE-ACD5-07D13792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C3275-CF3D-4FF5-BC63-F19BD04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B77A2-9C23-4D33-AD82-60628070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3F536-66D0-49B7-95D2-8B831330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80962-5AD2-4AE5-8B53-9EAEA490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30BE1-B1C0-4777-AD39-5203D165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75333-A704-4B77-BD8A-461C3599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749-5F78-4888-98FD-418F8D21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67594-ACBB-42A0-92DD-9D986667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749FA-FFEF-43AD-8172-7054C44A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B0E83-F694-42BA-9088-A46AC840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9242E-D464-4F56-B899-25663CA0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BF6EB-4E0D-436A-BDF1-06E92AA1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2B7E8-C849-4B5B-9509-4D4D0259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CCF1F-F938-4B2C-AFE1-63260AD6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F219B-6A7A-4140-8672-BF37F09D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83958-36D8-4133-A8F4-EA309E60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BC0B0-0E9D-466F-BA1D-9453E5BC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635-BA8F-4B63-BB56-785852CC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72286-A4EE-4DBA-8CA3-1CDFD3E3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9A783-7CB6-4B6F-B35A-BB65BED9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3165E-5C12-4636-8CF9-97EA2262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FD43C-7754-433E-A49D-9E7BBCBA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17B54-8574-4FD1-AF8C-103503C7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45F61-339D-4E49-973E-B657E07A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0A2B3-33F3-4A3D-983B-BADD26D1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85F4B-6C85-4A37-92F1-4B4353AD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B1B3B-334D-4F57-A612-EB8DAF7C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9C0CD-53FB-49D2-BC81-7AD1C724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FAE5-D3F2-4AC3-A4F4-F27F69B6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4B975-A325-4745-B0F6-D9666930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FD07B-9FF1-419D-88BC-247AB3E9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2C5B8-081D-452E-A5B9-EEE6CCC4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A6CD7-C3EA-4A9D-9496-E622C223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D3482-A943-4203-8730-BD9E0212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41B22-65B1-48D0-AE53-57D4D14C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A8503-08E9-4880-801B-6C81FFFD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C6AF1-E788-492E-9AC3-47F2ADFC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4A1F9-8BE5-4F15-BF36-DFFECD99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5C328-605D-4B82-AF57-4AC79E0B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ED5C-BBEC-4A40-B135-0923F524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61880-2653-4B0D-B56A-47EB476B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16784-1E6D-4CDF-A544-8C1CFF72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CE153-3CA5-4C50-BB92-446BD66F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E82A1-5B83-4AEC-B5B3-2ACE7C1C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6CA21-BA2B-4358-8117-C289B71F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89742-9183-4ADB-88A8-CA7F2929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0BD27-CEE0-46A2-9613-94387D7C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BA7FA-3724-4653-B991-A6FC13CA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FCAF9-7ABA-4F45-ACD0-DEAC62AC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54A41-D56A-4CFE-B946-62D4FBB1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A0AC-DBA4-46B8-8BB9-1F007AC8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A83BD-F77E-4C80-ACB4-631D1043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80669-3637-4D7C-87F7-355D111E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8A569-0E94-44F9-A139-7128B721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CE63A-70D1-43A5-AEF0-0C20038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833DD-9A5D-4801-93ED-F1EAB5A2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C1BAE-DD34-499E-9AEE-8209A56B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2F2D4-7EA5-40E7-902E-B07F7026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FBF0-5893-4862-97AF-6FDBF5D3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507E-106E-4CC5-85CA-910F58BB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F149-6346-401D-BA0C-55BC47CF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C588-4CEA-4AA2-A1D6-DF99AC89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97D-7214-4422-B6B0-9F92E536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795E-A3AE-4135-90C0-5838A0AF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3534-10F0-4330-8550-0CC28878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2788-68C4-49A6-85A0-C43E1A18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FB99-68CD-48C2-979B-3A756156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5743-319E-4337-AAC8-DAFB5035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B750-AEE0-42D1-A417-DC564256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20B3-5E0F-4470-B46A-F2B44925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63F3-AB95-4F4B-9FAF-E21FE6C0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B524C-246E-4B33-A3BF-E09A17EB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9E8C-DCEC-427E-90AB-85C4300A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84D-99FD-44B2-9166-A12A6320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A720-7FCA-4333-8BAE-2CBD591A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07D2-B6AD-40E8-BB2E-60446691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96E5-E062-4E21-B601-4E7E4718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D711-ACA7-400A-AA96-1F42B12D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FFD7-5332-4EC0-9645-7C7316DD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0849-1365-4DB1-B1B7-FF54E722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4CCE1-CAE1-41AD-A911-4E974E52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2713-41ED-4D45-9077-309214C2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14CD-6BCF-477A-8997-292601BA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3F2A-2BE3-41D7-93C6-E68B8C9C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71D-D717-477C-B21B-EFA7BCAD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14421-12EC-4F74-A0BB-8795BE04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66E90-EB5E-476C-84CA-609CCF36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0979-776A-48C5-A755-40EAF502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FA1D-9C46-439E-8901-EE706AAF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29310-44EF-4DEF-9A93-3914F28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C355-9425-4D5B-90BE-DA8AAB7B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B37F-B83D-40D4-96BE-9602C4F3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FD97-CFDB-4DE1-9A0C-E8CF6508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A81A-76DF-419D-BA43-5A6D5A66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D32C1-9F89-4068-8DBD-E70679AF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76A-F1F9-44F2-8EB0-06639A78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89E8-B3FF-4F3A-A585-99EFEBF6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F1B4B-3E83-49B9-8E7F-12385FEA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5FF4-BAA2-4A23-8731-26DB886D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A39F-D270-439D-86EF-9EBFEEBA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6403A-4075-45E8-8CAC-EB024F75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1E23B-F36D-4504-8491-055FF26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2BD49-8172-4E81-9579-25F72FEE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8F9D7-4080-4B26-B2B1-D64336DB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15151-F17C-4824-9819-F2790081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E2DF5-11F4-4955-8695-AC8B922E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8E9-2E60-4D4E-8733-CA72749F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F0E4B-D203-4C58-91D1-33DB4990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A6852-20F1-4E5F-AB43-6E192D13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6DD93-CE0F-4387-99C1-FAD939F3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81958-245F-4D93-BD60-A984B4D5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5B33D-FE1B-4173-A5A8-93D2250E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6989-901B-4A70-B7A0-0180AC6F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9417-08DB-402A-A81C-10765A81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A970F-496E-475D-AFBD-3EEECFEB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D2B43-0711-4B2B-A1C8-D87B450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113B3-DA0B-4543-AC64-56F41CF7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4DE-17BA-4B2D-B4D8-921A2CE5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04DD5-865F-4CD8-862B-035B8042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81EE3-8E10-4AE5-AAAD-AEA68D7F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61D3B-1328-4639-A65C-455D8A3F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94DC-9782-447F-950E-CE89D0C1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0869B-CB8B-4089-9EBD-8091C072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48434-0AD6-4BEA-8EC0-806EDD38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2BB5D-7FA4-4DD1-B14F-9E658E93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B41F1-F6E3-4889-9C7C-5649436C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FCDF4-F369-49C3-A56F-5DE0B39D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325BD-AEE3-4446-9DF6-D8A5CDD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6E4-E644-4B96-91F9-DB5586D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121D-15F5-4AFF-B18F-A0FE77A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55BEB-CA0B-4645-81F4-51CFD88A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A629F-2F39-4ADE-B3FC-9E7FEFB2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4B99C-ED59-40C1-ABE8-C719D558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0A4CC-A214-480C-8591-D5FD29DA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F2CD7-C5D1-42B0-9EDA-ACDCB874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DA55A-DDD3-4D1E-95C4-5D475E3A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1872E-E5E1-4600-B101-2972D6D4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C9493-CC17-49DE-BBF6-6D4C83F2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06266-31BD-42DF-BAF0-1ABA9096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B26-0FD6-4567-AEB4-62E53030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58A6A-2072-4372-9FF0-A5C73207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C4947-02DD-4F80-A663-FCC1D9A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81EFC-205A-43DC-9964-CEFD07A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E0350-6FA6-4ADA-88AF-909502C3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07F9F-9DAF-421A-B38E-9E232625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411F5-A671-4B74-BAFA-DB1AAABA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9F6D-2227-4BC6-96CA-8E76C259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FE6F4-BB6F-462D-82B6-AED38B2F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15593-0583-46FE-8078-62109804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2AF81-9286-4484-8566-60AC757A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2BA8-DB36-49C2-A5D5-CACD284111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206D-C19F-4076-BE4E-D24E47AFEC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C5F-8E69-42F0-8101-7AD8DC377C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AD07-1B0B-4788-875E-11A1CE5755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631D-A533-4C02-8B5D-648DDFB8E7B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3982-1571-44AE-BCE1-D350EC7F77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43C0-4299-461C-AEA5-58DCEAF916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E4D9-CE44-4FD6-BBE9-C97542400E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B8A7-425D-4936-A84B-42EE81F090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23C-3CD1-4513-B380-94CA135112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DF4B-619E-419C-8062-91329FC8B12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B9A1-25EB-468C-859A-DA49DC1771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A4F1-E7BB-423F-91BC-A5581C35EE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D6E0-CC9A-42AE-8665-E74E40A821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9647-FE25-487D-AF2E-17097D938D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8023-092F-463B-A343-B8F419BD6A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1FB9-ACE7-40A2-86C1-FDC01015F0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DB99-E5A4-4490-8370-7D6A70BDB0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021D-126B-4293-AE1D-F15D185C96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1968-14A7-44BE-848C-F84FC2C9D6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B14C-297C-47F6-BD89-7E969212C0A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1A46-A600-4BF3-BA7C-9CF3F06CB1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B3B4-A660-4DF6-B7E0-C5B6B6672C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00D8-7153-4B01-B88D-82262147D2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081D-4C74-4572-8D7C-A69DDB8FA0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6078-4CD9-4CD2-B901-BD067FC434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" Target="slide7.xml"/><Relationship Id="rId8" Type="http://schemas.openxmlformats.org/officeDocument/2006/relationships/image" Target="../media/image2.png"/><Relationship Id="rId9" Type="http://schemas.openxmlformats.org/officeDocument/2006/relationships/slide" Target="slide9.xml"/><Relationship Id="rId10" Type="http://schemas.openxmlformats.org/officeDocument/2006/relationships/image" Target="../media/image3.png"/><Relationship Id="rId11" Type="http://schemas.openxmlformats.org/officeDocument/2006/relationships/slide" Target="slide11.xml"/><Relationship Id="rId12" Type="http://schemas.openxmlformats.org/officeDocument/2006/relationships/image" Target="../media/image4.png"/><Relationship Id="rId13" Type="http://schemas.openxmlformats.org/officeDocument/2006/relationships/slide" Target="slide5.xml"/><Relationship Id="rId14" Type="http://schemas.openxmlformats.org/officeDocument/2006/relationships/image" Target="../media/image5.png"/><Relationship Id="rId15" Type="http://schemas.openxmlformats.org/officeDocument/2006/relationships/slide" Target="slide3.xml"/><Relationship Id="rId16" Type="http://schemas.openxmlformats.org/officeDocument/2006/relationships/image" Target="../media/image6.png"/><Relationship Id="rId17" Type="http://schemas.openxmlformats.org/officeDocument/2006/relationships/slide" Target="slide13.xml"/><Relationship Id="rId18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5.xml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5.png"/><Relationship Id="rId10" Type="http://schemas.openxmlformats.org/officeDocument/2006/relationships/slide" Target="slide3.xml"/><Relationship Id="rId11" Type="http://schemas.openxmlformats.org/officeDocument/2006/relationships/image" Target="../media/image5.png"/><Relationship Id="rId12" Type="http://schemas.openxmlformats.org/officeDocument/2006/relationships/image" Target="../media/image8.jpeg"/><Relationship Id="rId13" Type="http://schemas.openxmlformats.org/officeDocument/2006/relationships/slide" Target="slide1.xml"/><Relationship Id="rId1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8.jpeg"/><Relationship Id="rId4" Type="http://schemas.openxmlformats.org/officeDocument/2006/relationships/slide" Target="slide1.xml"/><Relationship Id="rId5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slide" Target="slide5.xml"/><Relationship Id="rId11" Type="http://schemas.openxmlformats.org/officeDocument/2006/relationships/image" Target="../media/image4.png"/><Relationship Id="rId12" Type="http://schemas.openxmlformats.org/officeDocument/2006/relationships/image" Target="../media/image8.jpeg"/><Relationship Id="rId13" Type="http://schemas.openxmlformats.org/officeDocument/2006/relationships/slide" Target="slide1.xml"/><Relationship Id="rId1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8.jpeg"/><Relationship Id="rId4" Type="http://schemas.openxmlformats.org/officeDocument/2006/relationships/slide" Target="slide1.xml"/><Relationship Id="rId5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image" Target="../media/image1.png"/><Relationship Id="rId10" Type="http://schemas.openxmlformats.org/officeDocument/2006/relationships/slide" Target="slide2.xml"/><Relationship Id="rId11" Type="http://schemas.openxmlformats.org/officeDocument/2006/relationships/image" Target="../media/image1.png"/><Relationship Id="rId12" Type="http://schemas.openxmlformats.org/officeDocument/2006/relationships/image" Target="../media/image8.jpeg"/><Relationship Id="rId13" Type="http://schemas.openxmlformats.org/officeDocument/2006/relationships/slide" Target="slide1.xml"/><Relationship Id="rId1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8.jpeg"/><Relationship Id="rId4" Type="http://schemas.openxmlformats.org/officeDocument/2006/relationships/slide" Target="slide1.xml"/><Relationship Id="rId5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8.jpeg"/><Relationship Id="rId13" Type="http://schemas.openxmlformats.org/officeDocument/2006/relationships/slide" Target="slide1.xml"/><Relationship Id="rId14" Type="http://schemas.openxmlformats.org/officeDocument/2006/relationships/hyperlink" Target="http://www.eeppt.com/moban/" TargetMode="External"/><Relationship Id="rId1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4726080" y="2460600"/>
            <a:ext cx="995400" cy="995400"/>
            <a:chOff x="4726080" y="2460600"/>
            <a:chExt cx="995400" cy="995400"/>
          </a:xfrm>
        </p:grpSpPr>
        <p:sp>
          <p:nvSpPr>
            <p:cNvPr id="534" name="椭圆 29"/>
            <p:cNvSpPr/>
            <p:nvPr/>
          </p:nvSpPr>
          <p:spPr>
            <a:xfrm>
              <a:off x="4726080" y="2460600"/>
              <a:ext cx="995400" cy="995400"/>
            </a:xfrm>
            <a:prstGeom prst="ellipse">
              <a:avLst/>
            </a:prstGeom>
            <a:solidFill>
              <a:srgbClr val="32aed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30"/>
            <p:cNvSpPr/>
            <p:nvPr/>
          </p:nvSpPr>
          <p:spPr>
            <a:xfrm>
              <a:off x="4856400" y="2590920"/>
              <a:ext cx="734400" cy="7344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5"/>
          <p:cNvGrpSpPr/>
          <p:nvPr/>
        </p:nvGrpSpPr>
        <p:grpSpPr>
          <a:xfrm>
            <a:off x="3116160" y="3419640"/>
            <a:ext cx="912960" cy="912600"/>
            <a:chOff x="3116160" y="3419640"/>
            <a:chExt cx="912960" cy="912600"/>
          </a:xfrm>
        </p:grpSpPr>
        <p:sp>
          <p:nvSpPr>
            <p:cNvPr id="537" name="椭圆 32"/>
            <p:cNvSpPr/>
            <p:nvPr/>
          </p:nvSpPr>
          <p:spPr>
            <a:xfrm>
              <a:off x="3116160" y="3419640"/>
              <a:ext cx="912960" cy="912600"/>
            </a:xfrm>
            <a:prstGeom prst="ellipse">
              <a:avLst/>
            </a:prstGeom>
            <a:solidFill>
              <a:srgbClr val="ff96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33"/>
            <p:cNvSpPr/>
            <p:nvPr/>
          </p:nvSpPr>
          <p:spPr>
            <a:xfrm>
              <a:off x="3220200" y="3523680"/>
              <a:ext cx="704880" cy="704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8"/>
          <p:cNvGrpSpPr/>
          <p:nvPr/>
        </p:nvGrpSpPr>
        <p:grpSpPr>
          <a:xfrm>
            <a:off x="4187880" y="939960"/>
            <a:ext cx="930240" cy="931680"/>
            <a:chOff x="4187880" y="939960"/>
            <a:chExt cx="930240" cy="931680"/>
          </a:xfrm>
        </p:grpSpPr>
        <p:sp>
          <p:nvSpPr>
            <p:cNvPr id="540" name="椭圆 35"/>
            <p:cNvSpPr/>
            <p:nvPr/>
          </p:nvSpPr>
          <p:spPr>
            <a:xfrm>
              <a:off x="4187880" y="939960"/>
              <a:ext cx="930240" cy="931680"/>
            </a:xfrm>
            <a:prstGeom prst="ellipse">
              <a:avLst/>
            </a:prstGeom>
            <a:solidFill>
              <a:srgbClr val="f347e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椭圆 36"/>
            <p:cNvSpPr/>
            <p:nvPr/>
          </p:nvSpPr>
          <p:spPr>
            <a:xfrm>
              <a:off x="4304160" y="1056240"/>
              <a:ext cx="697680" cy="6987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11"/>
          <p:cNvGrpSpPr/>
          <p:nvPr/>
        </p:nvGrpSpPr>
        <p:grpSpPr>
          <a:xfrm>
            <a:off x="2389320" y="1852560"/>
            <a:ext cx="934920" cy="934920"/>
            <a:chOff x="2389320" y="1852560"/>
            <a:chExt cx="934920" cy="934920"/>
          </a:xfrm>
        </p:grpSpPr>
        <p:sp>
          <p:nvSpPr>
            <p:cNvPr id="543" name="椭圆 38"/>
            <p:cNvSpPr/>
            <p:nvPr/>
          </p:nvSpPr>
          <p:spPr>
            <a:xfrm>
              <a:off x="2389320" y="1852560"/>
              <a:ext cx="934920" cy="934920"/>
            </a:xfrm>
            <a:prstGeom prst="ellipse">
              <a:avLst/>
            </a:prstGeom>
            <a:solidFill>
              <a:srgbClr val="a9e32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椭圆 39"/>
            <p:cNvSpPr/>
            <p:nvPr/>
          </p:nvSpPr>
          <p:spPr>
            <a:xfrm>
              <a:off x="2533320" y="1996560"/>
              <a:ext cx="646920" cy="6469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4"/>
          <p:cNvGrpSpPr/>
          <p:nvPr/>
        </p:nvGrpSpPr>
        <p:grpSpPr>
          <a:xfrm>
            <a:off x="6140520" y="2060640"/>
            <a:ext cx="928440" cy="928800"/>
            <a:chOff x="6140520" y="2060640"/>
            <a:chExt cx="928440" cy="928800"/>
          </a:xfrm>
        </p:grpSpPr>
        <p:sp>
          <p:nvSpPr>
            <p:cNvPr id="546" name="椭圆 41"/>
            <p:cNvSpPr/>
            <p:nvPr/>
          </p:nvSpPr>
          <p:spPr>
            <a:xfrm>
              <a:off x="6140520" y="2060640"/>
              <a:ext cx="928440" cy="928800"/>
            </a:xfrm>
            <a:prstGeom prst="ellipse">
              <a:avLst/>
            </a:prstGeom>
            <a:solidFill>
              <a:srgbClr val="e0883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椭圆 42"/>
            <p:cNvSpPr/>
            <p:nvPr/>
          </p:nvSpPr>
          <p:spPr>
            <a:xfrm>
              <a:off x="6271920" y="2192040"/>
              <a:ext cx="665280" cy="6656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7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grpSp>
          <p:nvGrpSpPr>
            <p:cNvPr id="549" name="Group 18"/>
            <p:cNvGrpSpPr/>
            <p:nvPr/>
          </p:nvGrpSpPr>
          <p:grpSpPr>
            <a:xfrm>
              <a:off x="1949400" y="2368440"/>
              <a:ext cx="1532160" cy="1532160"/>
              <a:chOff x="1949400" y="2368440"/>
              <a:chExt cx="1532160" cy="1532160"/>
            </a:xfrm>
          </p:grpSpPr>
          <p:sp>
            <p:nvSpPr>
              <p:cNvPr id="550" name="椭圆 6"/>
              <p:cNvSpPr/>
              <p:nvPr/>
            </p:nvSpPr>
            <p:spPr>
              <a:xfrm>
                <a:off x="1949400" y="2368440"/>
                <a:ext cx="1532160" cy="1532160"/>
              </a:xfrm>
              <a:prstGeom prst="ellipse">
                <a:avLst/>
              </a:prstGeom>
              <a:solidFill>
                <a:srgbClr val="32aeda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5">
              <a:hlinkClick r:id="rId7" action="ppaction://hlinksldjump"/>
            </p:cNvPr>
            <p:cNvSpPr/>
            <p:nvPr/>
          </p:nvSpPr>
          <p:spPr>
            <a:xfrm>
              <a:off x="2219760" y="293436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2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554" name="Group 23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555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TextBox 10">
              <a:hlinkClick r:id="rId9" action="ppaction://hlinksldjump"/>
            </p:cNvPr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27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559" name="Group 28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560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TextBox 15">
              <a:hlinkClick r:id="rId11" action="ppaction://hlinksldjump"/>
            </p:cNvPr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2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564" name="Group 33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565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TextBox 20">
              <a:hlinkClick r:id="rId13" action="ppaction://hlinksldjump"/>
            </p:cNvPr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37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569" name="Group 38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570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TextBox 25">
              <a:hlinkClick r:id="rId15" action="ppaction://hlinksldjump"/>
            </p:cNvPr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42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574" name="Group 43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575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TextBox 45">
              <a:hlinkClick r:id="rId17" action="ppaction://hlinksldjump"/>
            </p:cNvPr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Box 51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7"/>
          <p:cNvSpPr/>
          <p:nvPr/>
        </p:nvSpPr>
        <p:spPr>
          <a:xfrm>
            <a:off x="2164680" y="954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彩光圆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2"/>
          <p:cNvSpPr/>
          <p:nvPr/>
        </p:nvSpPr>
        <p:spPr>
          <a:xfrm>
            <a:off x="547560" y="4721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25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5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25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25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5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25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5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25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5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77" dur="150" fill="hold"/>
                                        <p:tgtEl>
                                          <p:spTgt spid="56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85" dur="150" fill="hold"/>
                                        <p:tgtEl>
                                          <p:spTgt spid="54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93" dur="150" fill="hold"/>
                                        <p:tgtEl>
                                          <p:spTgt spid="55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101" dur="150" fill="hold"/>
                                        <p:tgtEl>
                                          <p:spTgt spid="56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109" dur="150" fill="hold"/>
                                        <p:tgtEl>
                                          <p:spTgt spid="55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117" dur="150" fill="hold"/>
                                        <p:tgtEl>
                                          <p:spTgt spid="57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椭圆 33"/>
          <p:cNvSpPr/>
          <p:nvPr/>
        </p:nvSpPr>
        <p:spPr>
          <a:xfrm>
            <a:off x="1593720" y="28440"/>
            <a:ext cx="6594480" cy="6596280"/>
          </a:xfrm>
          <a:prstGeom prst="ellipse">
            <a:avLst/>
          </a:prstGeom>
          <a:solidFill>
            <a:srgbClr val="ff96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椭圆 34"/>
          <p:cNvSpPr/>
          <p:nvPr/>
        </p:nvSpPr>
        <p:spPr>
          <a:xfrm>
            <a:off x="2313000" y="765000"/>
            <a:ext cx="5156280" cy="515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4"/>
          <p:cNvGrpSpPr/>
          <p:nvPr/>
        </p:nvGrpSpPr>
        <p:grpSpPr>
          <a:xfrm>
            <a:off x="6164280" y="1187280"/>
            <a:ext cx="1314360" cy="1314720"/>
            <a:chOff x="6164280" y="1187280"/>
            <a:chExt cx="1314360" cy="1314720"/>
          </a:xfrm>
        </p:grpSpPr>
        <p:sp>
          <p:nvSpPr>
            <p:cNvPr id="771" name="椭圆 36"/>
            <p:cNvSpPr/>
            <p:nvPr/>
          </p:nvSpPr>
          <p:spPr>
            <a:xfrm>
              <a:off x="6164280" y="1187280"/>
              <a:ext cx="1314360" cy="131472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2" name="Picture 2" descr=""/>
            <p:cNvPicPr/>
            <p:nvPr/>
          </p:nvPicPr>
          <p:blipFill>
            <a:blip r:embed="rId2"/>
            <a:srcRect l="16931" t="25812" r="23984" b="3716"/>
            <a:stretch/>
          </p:blipFill>
          <p:spPr>
            <a:xfrm>
              <a:off x="6306120" y="132912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3" name="Group 7"/>
          <p:cNvGrpSpPr/>
          <p:nvPr/>
        </p:nvGrpSpPr>
        <p:grpSpPr>
          <a:xfrm>
            <a:off x="3726000" y="1467000"/>
            <a:ext cx="2330280" cy="867960"/>
            <a:chOff x="3726000" y="1467000"/>
            <a:chExt cx="2330280" cy="867960"/>
          </a:xfrm>
        </p:grpSpPr>
        <p:sp>
          <p:nvSpPr>
            <p:cNvPr id="774" name="TextBox 39"/>
            <p:cNvSpPr/>
            <p:nvPr/>
          </p:nvSpPr>
          <p:spPr>
            <a:xfrm>
              <a:off x="3726000" y="1467000"/>
              <a:ext cx="2330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四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40"/>
            <p:cNvSpPr/>
            <p:nvPr/>
          </p:nvSpPr>
          <p:spPr>
            <a:xfrm>
              <a:off x="5369760" y="20584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矩形 41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">
            <a:hlinkClick r:id="rId3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椭圆 35"/>
          <p:cNvSpPr/>
          <p:nvPr/>
        </p:nvSpPr>
        <p:spPr>
          <a:xfrm>
            <a:off x="5792760" y="2629080"/>
            <a:ext cx="1684440" cy="1684080"/>
          </a:xfrm>
          <a:prstGeom prst="ellipse">
            <a:avLst/>
          </a:prstGeom>
          <a:solidFill>
            <a:srgbClr val="f347e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3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sp>
          <p:nvSpPr>
            <p:cNvPr id="781" name="椭圆 6"/>
            <p:cNvSpPr/>
            <p:nvPr/>
          </p:nvSpPr>
          <p:spPr>
            <a:xfrm>
              <a:off x="1949400" y="2368440"/>
              <a:ext cx="1532160" cy="1532160"/>
            </a:xfrm>
            <a:prstGeom prst="ellipse">
              <a:avLst/>
            </a:prstGeom>
            <a:solidFill>
              <a:srgbClr val="32aed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Group 5"/>
            <p:cNvGrpSpPr/>
            <p:nvPr/>
          </p:nvGrpSpPr>
          <p:grpSpPr>
            <a:xfrm>
              <a:off x="2150280" y="2569320"/>
              <a:ext cx="1130400" cy="1130400"/>
              <a:chOff x="2150280" y="2569320"/>
              <a:chExt cx="1130400" cy="1130400"/>
            </a:xfrm>
          </p:grpSpPr>
          <p:sp>
            <p:nvSpPr>
              <p:cNvPr id="783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Box 5"/>
              <p:cNvSpPr/>
              <p:nvPr/>
            </p:nvSpPr>
            <p:spPr>
              <a:xfrm>
                <a:off x="2219760" y="2934360"/>
                <a:ext cx="99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TEXT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8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786" name="Group 9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787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TextBox 10"/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椭圆 16"/>
          <p:cNvSpPr/>
          <p:nvPr/>
        </p:nvSpPr>
        <p:spPr>
          <a:xfrm>
            <a:off x="5921280" y="2787480"/>
            <a:ext cx="1366920" cy="1365480"/>
          </a:xfrm>
          <a:prstGeom prst="ellipse">
            <a:avLst/>
          </a:prstGeom>
          <a:solidFill>
            <a:srgbClr val="f347e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14"/>
          <p:cNvGrpSpPr/>
          <p:nvPr/>
        </p:nvGrpSpPr>
        <p:grpSpPr>
          <a:xfrm>
            <a:off x="6093000" y="2957400"/>
            <a:ext cx="1023840" cy="1024200"/>
            <a:chOff x="6093000" y="2957400"/>
            <a:chExt cx="1023840" cy="1024200"/>
          </a:xfrm>
        </p:grpSpPr>
        <p:sp>
          <p:nvSpPr>
            <p:cNvPr id="792" name="椭圆 17"/>
            <p:cNvSpPr/>
            <p:nvPr/>
          </p:nvSpPr>
          <p:spPr>
            <a:xfrm>
              <a:off x="6093000" y="2957400"/>
              <a:ext cx="102384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Box 15"/>
            <p:cNvSpPr/>
            <p:nvPr/>
          </p:nvSpPr>
          <p:spPr>
            <a:xfrm>
              <a:off x="6126840" y="3269520"/>
              <a:ext cx="9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17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795" name="Group 18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796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TextBox 20"/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22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800" name="Group 23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801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25"/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4" name="Picture 2" descr=""/>
          <p:cNvPicPr/>
          <p:nvPr/>
        </p:nvPicPr>
        <p:blipFill>
          <a:blip r:embed="rId6"/>
          <a:srcRect l="16932" t="25810" r="23987" b="3719"/>
          <a:stretch/>
        </p:blipFill>
        <p:spPr>
          <a:xfrm>
            <a:off x="5951520" y="2800440"/>
            <a:ext cx="1339920" cy="1339920"/>
          </a:xfrm>
          <a:prstGeom prst="rect">
            <a:avLst/>
          </a:prstGeom>
          <a:ln w="0">
            <a:noFill/>
          </a:ln>
        </p:spPr>
      </p:pic>
      <p:grpSp>
        <p:nvGrpSpPr>
          <p:cNvPr id="805" name="Group 28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806" name="Group 29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807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TextBox 45"/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椭圆 39"/>
          <p:cNvSpPr/>
          <p:nvPr/>
        </p:nvSpPr>
        <p:spPr>
          <a:xfrm>
            <a:off x="1581120" y="57240"/>
            <a:ext cx="6620040" cy="6618240"/>
          </a:xfrm>
          <a:prstGeom prst="ellipse">
            <a:avLst/>
          </a:prstGeom>
          <a:solidFill>
            <a:srgbClr val="f347e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40"/>
          <p:cNvSpPr/>
          <p:nvPr/>
        </p:nvSpPr>
        <p:spPr>
          <a:xfrm>
            <a:off x="2195640" y="669960"/>
            <a:ext cx="5391000" cy="5391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813" name="椭圆 37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4" name="Picture 2" descr=""/>
            <p:cNvPicPr/>
            <p:nvPr/>
          </p:nvPicPr>
          <p:blipFill>
            <a:blip r:embed="rId9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5" name="TextBox 41"/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529" dur="500" fill="hold"/>
                                        <p:tgtEl>
                                          <p:spTgt spid="8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625 0.00741 L -0.18889 -0.025 E">
                                      <p:cBhvr>
                                        <p:cTn id="531" dur="5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781 0.00309 L -0.18698 -0.025 E">
                                      <p:cBhvr>
                                        <p:cTn id="537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4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7" dur="4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557" dur="500" fill="hold"/>
                                        <p:tgtEl>
                                          <p:spTgt spid="7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191 0.00648 L -0.19028 -0.02469 E">
                                      <p:cBhvr>
                                        <p:cTn id="559" dur="5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75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7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7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572" dur="75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582" dur="500" fill="hold"/>
                                        <p:tgtEl>
                                          <p:spTgt spid="8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25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5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1" dur="25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25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5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8" dur="25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1" dur="25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5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25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25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5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2" dur="25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25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椭圆 3"/>
          <p:cNvSpPr/>
          <p:nvPr/>
        </p:nvSpPr>
        <p:spPr>
          <a:xfrm>
            <a:off x="1454040" y="-68400"/>
            <a:ext cx="6873840" cy="6872400"/>
          </a:xfrm>
          <a:prstGeom prst="ellipse">
            <a:avLst/>
          </a:prstGeom>
          <a:solidFill>
            <a:srgbClr val="f347e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4"/>
          <p:cNvSpPr/>
          <p:nvPr/>
        </p:nvSpPr>
        <p:spPr>
          <a:xfrm>
            <a:off x="2195640" y="669960"/>
            <a:ext cx="5391000" cy="5391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4"/>
          <p:cNvGrpSpPr/>
          <p:nvPr/>
        </p:nvGrpSpPr>
        <p:grpSpPr>
          <a:xfrm>
            <a:off x="6164280" y="1187280"/>
            <a:ext cx="1314360" cy="1314720"/>
            <a:chOff x="6164280" y="1187280"/>
            <a:chExt cx="1314360" cy="1314720"/>
          </a:xfrm>
        </p:grpSpPr>
        <p:sp>
          <p:nvSpPr>
            <p:cNvPr id="820" name="椭圆 6"/>
            <p:cNvSpPr/>
            <p:nvPr/>
          </p:nvSpPr>
          <p:spPr>
            <a:xfrm>
              <a:off x="6164280" y="1187280"/>
              <a:ext cx="1314360" cy="131472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1" name="Picture 2" descr=""/>
            <p:cNvPicPr/>
            <p:nvPr/>
          </p:nvPicPr>
          <p:blipFill>
            <a:blip r:embed="rId2"/>
            <a:srcRect l="16931" t="25812" r="23984" b="3716"/>
            <a:stretch/>
          </p:blipFill>
          <p:spPr>
            <a:xfrm>
              <a:off x="6306120" y="132912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2" name="Group 7"/>
          <p:cNvGrpSpPr/>
          <p:nvPr/>
        </p:nvGrpSpPr>
        <p:grpSpPr>
          <a:xfrm>
            <a:off x="3618000" y="1521000"/>
            <a:ext cx="2505240" cy="869040"/>
            <a:chOff x="3618000" y="1521000"/>
            <a:chExt cx="2505240" cy="869040"/>
          </a:xfrm>
        </p:grpSpPr>
        <p:sp>
          <p:nvSpPr>
            <p:cNvPr id="823" name="TextBox 9"/>
            <p:cNvSpPr/>
            <p:nvPr/>
          </p:nvSpPr>
          <p:spPr>
            <a:xfrm>
              <a:off x="3618000" y="1521000"/>
              <a:ext cx="232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矩形 10"/>
            <p:cNvSpPr/>
            <p:nvPr/>
          </p:nvSpPr>
          <p:spPr>
            <a:xfrm>
              <a:off x="5509800" y="211356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矩形 11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2"/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椭圆 34"/>
          <p:cNvSpPr/>
          <p:nvPr/>
        </p:nvSpPr>
        <p:spPr>
          <a:xfrm>
            <a:off x="4119480" y="3090960"/>
            <a:ext cx="1754280" cy="1753920"/>
          </a:xfrm>
          <a:prstGeom prst="ellipse">
            <a:avLst/>
          </a:prstGeom>
          <a:solidFill>
            <a:srgbClr val="3188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3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sp>
          <p:nvSpPr>
            <p:cNvPr id="830" name="椭圆 6"/>
            <p:cNvSpPr/>
            <p:nvPr/>
          </p:nvSpPr>
          <p:spPr>
            <a:xfrm>
              <a:off x="1949400" y="2368440"/>
              <a:ext cx="1532160" cy="1532160"/>
            </a:xfrm>
            <a:prstGeom prst="ellipse">
              <a:avLst/>
            </a:prstGeom>
            <a:solidFill>
              <a:srgbClr val="32aed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Group 5"/>
            <p:cNvGrpSpPr/>
            <p:nvPr/>
          </p:nvGrpSpPr>
          <p:grpSpPr>
            <a:xfrm>
              <a:off x="2150280" y="2569320"/>
              <a:ext cx="1130400" cy="1130400"/>
              <a:chOff x="2150280" y="2569320"/>
              <a:chExt cx="1130400" cy="1130400"/>
            </a:xfrm>
          </p:grpSpPr>
          <p:sp>
            <p:nvSpPr>
              <p:cNvPr id="832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TextBox 5"/>
              <p:cNvSpPr/>
              <p:nvPr/>
            </p:nvSpPr>
            <p:spPr>
              <a:xfrm>
                <a:off x="2219760" y="2934360"/>
                <a:ext cx="99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TEXT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Group 8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835" name="Group 9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836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TextBox 10"/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3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840" name="Group 14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841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TextBox 15"/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18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845" name="Group 19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846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8" name="TextBox 20"/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23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850" name="Group 24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851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TextBox 25"/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椭圆 46"/>
          <p:cNvSpPr/>
          <p:nvPr/>
        </p:nvSpPr>
        <p:spPr>
          <a:xfrm>
            <a:off x="4280040" y="3292560"/>
            <a:ext cx="1361880" cy="1360440"/>
          </a:xfrm>
          <a:prstGeom prst="ellipse">
            <a:avLst/>
          </a:prstGeom>
          <a:solidFill>
            <a:srgbClr val="3188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2" descr=""/>
          <p:cNvPicPr/>
          <p:nvPr/>
        </p:nvPicPr>
        <p:blipFill>
          <a:blip r:embed="rId6"/>
          <a:srcRect l="16932" t="25810" r="23987" b="3719"/>
          <a:stretch/>
        </p:blipFill>
        <p:spPr>
          <a:xfrm>
            <a:off x="4290840" y="3260880"/>
            <a:ext cx="1413000" cy="141444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30"/>
          <p:cNvGrpSpPr/>
          <p:nvPr/>
        </p:nvGrpSpPr>
        <p:grpSpPr>
          <a:xfrm>
            <a:off x="4413240" y="3424320"/>
            <a:ext cx="1168560" cy="1095120"/>
            <a:chOff x="4413240" y="3424320"/>
            <a:chExt cx="1168560" cy="1095120"/>
          </a:xfrm>
        </p:grpSpPr>
        <p:sp>
          <p:nvSpPr>
            <p:cNvPr id="857" name="椭圆 47"/>
            <p:cNvSpPr/>
            <p:nvPr/>
          </p:nvSpPr>
          <p:spPr>
            <a:xfrm>
              <a:off x="4413240" y="3424320"/>
              <a:ext cx="1096560" cy="10951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45"/>
            <p:cNvSpPr/>
            <p:nvPr/>
          </p:nvSpPr>
          <p:spPr>
            <a:xfrm>
              <a:off x="4413240" y="378288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椭圆 39"/>
          <p:cNvSpPr/>
          <p:nvPr/>
        </p:nvSpPr>
        <p:spPr>
          <a:xfrm>
            <a:off x="1677960" y="130320"/>
            <a:ext cx="6426360" cy="6426000"/>
          </a:xfrm>
          <a:prstGeom prst="ellipse">
            <a:avLst/>
          </a:prstGeom>
          <a:solidFill>
            <a:srgbClr val="3188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椭圆 40"/>
          <p:cNvSpPr/>
          <p:nvPr/>
        </p:nvSpPr>
        <p:spPr>
          <a:xfrm>
            <a:off x="2089080" y="541440"/>
            <a:ext cx="5604120" cy="56037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862" name="椭圆 37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3" name="Picture 2" descr=""/>
            <p:cNvPicPr/>
            <p:nvPr/>
          </p:nvPicPr>
          <p:blipFill>
            <a:blip r:embed="rId9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4" name="TextBox 41"/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42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4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4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4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-0.0071 L -0.00729 -0.12264 E">
                                      <p:cBhvr>
                                        <p:cTn id="630" dur="5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643" dur="500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66 0.01421 L -0.01128 -0.12172 E">
                                      <p:cBhvr>
                                        <p:cTn id="645" dur="5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7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75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75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658" dur="75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664" dur="500" fill="hold"/>
                                        <p:tgtEl>
                                          <p:spTgt spid="8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677" dur="500" fill="hold"/>
                                        <p:tgtEl>
                                          <p:spTgt spid="8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35 0.00186 L -0.01128 -0.1216 E">
                                      <p:cBhvr>
                                        <p:cTn id="679" dur="5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" dur="25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25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5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25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25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5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" dur="25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25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5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" dur="25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25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5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" dur="25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25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5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椭圆 3"/>
          <p:cNvSpPr/>
          <p:nvPr/>
        </p:nvSpPr>
        <p:spPr>
          <a:xfrm>
            <a:off x="1538280" y="-7920"/>
            <a:ext cx="6705720" cy="6705720"/>
          </a:xfrm>
          <a:prstGeom prst="ellipse">
            <a:avLst/>
          </a:prstGeom>
          <a:solidFill>
            <a:srgbClr val="3188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4"/>
          <p:cNvSpPr/>
          <p:nvPr/>
        </p:nvSpPr>
        <p:spPr>
          <a:xfrm>
            <a:off x="2089080" y="541440"/>
            <a:ext cx="5604120" cy="5603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4"/>
          <p:cNvGrpSpPr/>
          <p:nvPr/>
        </p:nvGrpSpPr>
        <p:grpSpPr>
          <a:xfrm>
            <a:off x="6164280" y="1187280"/>
            <a:ext cx="1314360" cy="1314720"/>
            <a:chOff x="6164280" y="1187280"/>
            <a:chExt cx="1314360" cy="1314720"/>
          </a:xfrm>
        </p:grpSpPr>
        <p:sp>
          <p:nvSpPr>
            <p:cNvPr id="869" name="椭圆 6"/>
            <p:cNvSpPr/>
            <p:nvPr/>
          </p:nvSpPr>
          <p:spPr>
            <a:xfrm>
              <a:off x="6164280" y="1187280"/>
              <a:ext cx="1314360" cy="131472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0" name="Picture 2" descr=""/>
            <p:cNvPicPr/>
            <p:nvPr/>
          </p:nvPicPr>
          <p:blipFill>
            <a:blip r:embed="rId2"/>
            <a:srcRect l="16931" t="25812" r="23984" b="3716"/>
            <a:stretch/>
          </p:blipFill>
          <p:spPr>
            <a:xfrm>
              <a:off x="6306120" y="132912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1" name="Group 7"/>
          <p:cNvGrpSpPr/>
          <p:nvPr/>
        </p:nvGrpSpPr>
        <p:grpSpPr>
          <a:xfrm>
            <a:off x="3660840" y="1565280"/>
            <a:ext cx="2331000" cy="866880"/>
            <a:chOff x="3660840" y="1565280"/>
            <a:chExt cx="2331000" cy="866880"/>
          </a:xfrm>
        </p:grpSpPr>
        <p:sp>
          <p:nvSpPr>
            <p:cNvPr id="872" name="TextBox 9"/>
            <p:cNvSpPr/>
            <p:nvPr/>
          </p:nvSpPr>
          <p:spPr>
            <a:xfrm>
              <a:off x="3660840" y="1565280"/>
              <a:ext cx="2331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10"/>
            <p:cNvSpPr/>
            <p:nvPr/>
          </p:nvSpPr>
          <p:spPr>
            <a:xfrm>
              <a:off x="5338080" y="21556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矩形 11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2"/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3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487440" y="4500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1"/>
          <p:cNvSpPr/>
          <p:nvPr/>
        </p:nvSpPr>
        <p:spPr>
          <a:xfrm>
            <a:off x="2141640" y="2217600"/>
            <a:ext cx="48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6c09"/>
                </a:solidFill>
                <a:latin typeface="Calibri"/>
              </a:rPr>
              <a:t>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椭圆 52"/>
          <p:cNvSpPr/>
          <p:nvPr/>
        </p:nvSpPr>
        <p:spPr>
          <a:xfrm>
            <a:off x="2465280" y="536400"/>
            <a:ext cx="1662120" cy="1663920"/>
          </a:xfrm>
          <a:prstGeom prst="ellipse">
            <a:avLst/>
          </a:prstGeom>
          <a:solidFill>
            <a:srgbClr val="e0883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3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grpSp>
          <p:nvGrpSpPr>
            <p:cNvPr id="584" name="Group 4"/>
            <p:cNvGrpSpPr/>
            <p:nvPr/>
          </p:nvGrpSpPr>
          <p:grpSpPr>
            <a:xfrm>
              <a:off x="1949400" y="2368440"/>
              <a:ext cx="1532160" cy="1532160"/>
              <a:chOff x="1949400" y="2368440"/>
              <a:chExt cx="1532160" cy="1532160"/>
            </a:xfrm>
          </p:grpSpPr>
          <p:sp>
            <p:nvSpPr>
              <p:cNvPr id="585" name="椭圆 6"/>
              <p:cNvSpPr/>
              <p:nvPr/>
            </p:nvSpPr>
            <p:spPr>
              <a:xfrm>
                <a:off x="1949400" y="2368440"/>
                <a:ext cx="1532160" cy="1532160"/>
              </a:xfrm>
              <a:prstGeom prst="ellipse">
                <a:avLst/>
              </a:prstGeom>
              <a:solidFill>
                <a:srgbClr val="32aeda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Box 5">
              <a:hlinkClick r:id="rId2" action="ppaction://hlinksldjump"/>
            </p:cNvPr>
            <p:cNvSpPr/>
            <p:nvPr/>
          </p:nvSpPr>
          <p:spPr>
            <a:xfrm>
              <a:off x="2219760" y="293436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8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589" name="Group 9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590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TextBox 10"/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3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594" name="Group 14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595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Box 15"/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8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599" name="Group 19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600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Box 20">
              <a:hlinkClick r:id="rId6" action="ppaction://hlinksldjump"/>
            </p:cNvPr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椭圆 26"/>
          <p:cNvSpPr/>
          <p:nvPr/>
        </p:nvSpPr>
        <p:spPr>
          <a:xfrm>
            <a:off x="2668680" y="739800"/>
            <a:ext cx="1255680" cy="1257120"/>
          </a:xfrm>
          <a:prstGeom prst="ellipse">
            <a:avLst/>
          </a:prstGeom>
          <a:solidFill>
            <a:srgbClr val="e0883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24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605" name="Group 25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606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TextBox 45"/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9" name="Picture 2" descr=""/>
          <p:cNvPicPr/>
          <p:nvPr/>
        </p:nvPicPr>
        <p:blipFill>
          <a:blip r:embed="rId8"/>
          <a:srcRect l="16932" t="25810" r="23987" b="3719"/>
          <a:stretch/>
        </p:blipFill>
        <p:spPr>
          <a:xfrm>
            <a:off x="2627280" y="698400"/>
            <a:ext cx="1339920" cy="133992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30"/>
          <p:cNvGrpSpPr/>
          <p:nvPr/>
        </p:nvGrpSpPr>
        <p:grpSpPr>
          <a:xfrm>
            <a:off x="2801880" y="917640"/>
            <a:ext cx="990720" cy="901800"/>
            <a:chOff x="2801880" y="917640"/>
            <a:chExt cx="990720" cy="901800"/>
          </a:xfrm>
        </p:grpSpPr>
        <p:sp>
          <p:nvSpPr>
            <p:cNvPr id="611" name="椭圆 27"/>
            <p:cNvSpPr/>
            <p:nvPr/>
          </p:nvSpPr>
          <p:spPr>
            <a:xfrm>
              <a:off x="2846880" y="917640"/>
              <a:ext cx="900720" cy="9018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25">
              <a:hlinkClick r:id="rId10" action="ppaction://hlinksldjump"/>
            </p:cNvPr>
            <p:cNvSpPr/>
            <p:nvPr/>
          </p:nvSpPr>
          <p:spPr>
            <a:xfrm>
              <a:off x="2801880" y="11826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椭圆 56"/>
          <p:cNvSpPr/>
          <p:nvPr/>
        </p:nvSpPr>
        <p:spPr>
          <a:xfrm>
            <a:off x="1695600" y="142920"/>
            <a:ext cx="6397560" cy="6397560"/>
          </a:xfrm>
          <a:prstGeom prst="ellipse">
            <a:avLst/>
          </a:prstGeom>
          <a:solidFill>
            <a:srgbClr val="e0883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椭圆 57"/>
          <p:cNvSpPr/>
          <p:nvPr/>
        </p:nvSpPr>
        <p:spPr>
          <a:xfrm>
            <a:off x="2120760" y="568440"/>
            <a:ext cx="5548320" cy="554652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616" name="椭圆 65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Picture 2" descr=""/>
            <p:cNvPicPr/>
            <p:nvPr/>
          </p:nvPicPr>
          <p:blipFill>
            <a:blip r:embed="rId12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TextBox 39">
            <a:hlinkClick r:id="rId13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0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25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25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25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5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25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25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25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4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4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-4.93827E-006 L 0.17518 0.38334 E">
                                      <p:cBhvr>
                                        <p:cTn id="169" dur="5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82" dur="500" fill="hold"/>
                                        <p:tgtEl>
                                          <p:spTgt spid="5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018 0.01728 L 0.175 0.38333 E">
                                      <p:cBhvr>
                                        <p:cTn id="184" dur="5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98" dur="500" fill="hold"/>
                                        <p:tgtEl>
                                          <p:spTgt spid="6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07" dur="500" fill="hold"/>
                                        <p:tgtEl>
                                          <p:spTgt spid="6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-4.93827E-006 L 0.17518 0.38334 E">
                                      <p:cBhvr>
                                        <p:cTn id="209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7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7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7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222" dur="75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椭圆 39"/>
          <p:cNvSpPr/>
          <p:nvPr/>
        </p:nvSpPr>
        <p:spPr>
          <a:xfrm>
            <a:off x="1525680" y="-23760"/>
            <a:ext cx="6737400" cy="6735600"/>
          </a:xfrm>
          <a:prstGeom prst="ellipse">
            <a:avLst/>
          </a:prstGeom>
          <a:solidFill>
            <a:srgbClr val="e0883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椭圆 40"/>
          <p:cNvSpPr/>
          <p:nvPr/>
        </p:nvSpPr>
        <p:spPr>
          <a:xfrm>
            <a:off x="2120760" y="568440"/>
            <a:ext cx="5548320" cy="5546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4"/>
          <p:cNvGrpSpPr/>
          <p:nvPr/>
        </p:nvGrpSpPr>
        <p:grpSpPr>
          <a:xfrm>
            <a:off x="6165720" y="1195560"/>
            <a:ext cx="1314720" cy="1314360"/>
            <a:chOff x="6165720" y="1195560"/>
            <a:chExt cx="1314720" cy="1314360"/>
          </a:xfrm>
        </p:grpSpPr>
        <p:sp>
          <p:nvSpPr>
            <p:cNvPr id="623" name="椭圆 53"/>
            <p:cNvSpPr/>
            <p:nvPr/>
          </p:nvSpPr>
          <p:spPr>
            <a:xfrm>
              <a:off x="6165720" y="1195560"/>
              <a:ext cx="131472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Picture 2" descr="">
              <a:hlinkClick r:id="rId2" action="ppaction://hlinksldjump"/>
            </p:cNvPr>
            <p:cNvPicPr/>
            <p:nvPr/>
          </p:nvPicPr>
          <p:blipFill>
            <a:blip r:embed="rId3"/>
            <a:srcRect l="16931" t="25812" r="23984" b="3716"/>
            <a:stretch/>
          </p:blipFill>
          <p:spPr>
            <a:xfrm>
              <a:off x="6307560" y="133740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5" name="Group 7"/>
          <p:cNvGrpSpPr/>
          <p:nvPr/>
        </p:nvGrpSpPr>
        <p:grpSpPr>
          <a:xfrm>
            <a:off x="3159000" y="1468440"/>
            <a:ext cx="2868840" cy="769320"/>
            <a:chOff x="3159000" y="1468440"/>
            <a:chExt cx="2868840" cy="769320"/>
          </a:xfrm>
        </p:grpSpPr>
        <p:sp>
          <p:nvSpPr>
            <p:cNvPr id="626" name="TextBox 65"/>
            <p:cNvSpPr/>
            <p:nvPr/>
          </p:nvSpPr>
          <p:spPr>
            <a:xfrm>
              <a:off x="3159000" y="1468440"/>
              <a:ext cx="2331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矩形 66"/>
            <p:cNvSpPr/>
            <p:nvPr/>
          </p:nvSpPr>
          <p:spPr>
            <a:xfrm>
              <a:off x="5414400" y="19612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矩形 67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2">
            <a:hlinkClick r:id="rId4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51"/>
          <p:cNvSpPr/>
          <p:nvPr/>
        </p:nvSpPr>
        <p:spPr>
          <a:xfrm>
            <a:off x="5238720" y="816120"/>
            <a:ext cx="1549440" cy="1547640"/>
          </a:xfrm>
          <a:prstGeom prst="ellipse">
            <a:avLst/>
          </a:prstGeom>
          <a:solidFill>
            <a:srgbClr val="a9e32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3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grpSp>
          <p:nvGrpSpPr>
            <p:cNvPr id="633" name="Group 4"/>
            <p:cNvGrpSpPr/>
            <p:nvPr/>
          </p:nvGrpSpPr>
          <p:grpSpPr>
            <a:xfrm>
              <a:off x="1949400" y="2368440"/>
              <a:ext cx="1532160" cy="1532160"/>
              <a:chOff x="1949400" y="2368440"/>
              <a:chExt cx="1532160" cy="1532160"/>
            </a:xfrm>
          </p:grpSpPr>
          <p:sp>
            <p:nvSpPr>
              <p:cNvPr id="634" name="椭圆 6"/>
              <p:cNvSpPr/>
              <p:nvPr/>
            </p:nvSpPr>
            <p:spPr>
              <a:xfrm>
                <a:off x="1949400" y="2368440"/>
                <a:ext cx="1532160" cy="1532160"/>
              </a:xfrm>
              <a:prstGeom prst="ellipse">
                <a:avLst/>
              </a:prstGeom>
              <a:solidFill>
                <a:srgbClr val="32aeda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TextBox 5">
              <a:hlinkClick r:id="rId2" action="ppaction://hlinksldjump"/>
            </p:cNvPr>
            <p:cNvSpPr/>
            <p:nvPr/>
          </p:nvSpPr>
          <p:spPr>
            <a:xfrm>
              <a:off x="2219760" y="293436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8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638" name="Group 9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639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TextBox 10"/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3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643" name="Group 14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644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TextBox 15"/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椭圆 21"/>
          <p:cNvSpPr/>
          <p:nvPr/>
        </p:nvSpPr>
        <p:spPr>
          <a:xfrm>
            <a:off x="5378400" y="954000"/>
            <a:ext cx="1270080" cy="1271520"/>
          </a:xfrm>
          <a:prstGeom prst="ellipse">
            <a:avLst/>
          </a:prstGeom>
          <a:solidFill>
            <a:srgbClr val="a9e32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9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649" name="Group 20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650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TextBox 25">
              <a:hlinkClick r:id="rId6" action="ppaction://hlinksldjump"/>
            </p:cNvPr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24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654" name="Group 25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655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Box 45"/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8" name="Picture 2" descr=""/>
          <p:cNvPicPr/>
          <p:nvPr/>
        </p:nvPicPr>
        <p:blipFill>
          <a:blip r:embed="rId8"/>
          <a:srcRect l="16932" t="25810" r="23987" b="3719"/>
          <a:stretch/>
        </p:blipFill>
        <p:spPr>
          <a:xfrm>
            <a:off x="5403960" y="979560"/>
            <a:ext cx="1220760" cy="1220760"/>
          </a:xfrm>
          <a:prstGeom prst="rect">
            <a:avLst/>
          </a:prstGeom>
          <a:ln w="0">
            <a:noFill/>
          </a:ln>
        </p:spPr>
      </p:pic>
      <p:grpSp>
        <p:nvGrpSpPr>
          <p:cNvPr id="659" name="Group 30"/>
          <p:cNvGrpSpPr/>
          <p:nvPr/>
        </p:nvGrpSpPr>
        <p:grpSpPr>
          <a:xfrm>
            <a:off x="5518080" y="1149480"/>
            <a:ext cx="990720" cy="880920"/>
            <a:chOff x="5518080" y="1149480"/>
            <a:chExt cx="990720" cy="880920"/>
          </a:xfrm>
        </p:grpSpPr>
        <p:sp>
          <p:nvSpPr>
            <p:cNvPr id="660" name="椭圆 22"/>
            <p:cNvSpPr/>
            <p:nvPr/>
          </p:nvSpPr>
          <p:spPr>
            <a:xfrm>
              <a:off x="5573160" y="1149480"/>
              <a:ext cx="880560" cy="88092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20">
              <a:hlinkClick r:id="rId10" action="ppaction://hlinksldjump"/>
            </p:cNvPr>
            <p:cNvSpPr/>
            <p:nvPr/>
          </p:nvSpPr>
          <p:spPr>
            <a:xfrm>
              <a:off x="5518080" y="1405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椭圆 55"/>
          <p:cNvSpPr/>
          <p:nvPr/>
        </p:nvSpPr>
        <p:spPr>
          <a:xfrm>
            <a:off x="1776240" y="120600"/>
            <a:ext cx="6442200" cy="6442200"/>
          </a:xfrm>
          <a:prstGeom prst="ellipse">
            <a:avLst/>
          </a:prstGeom>
          <a:solidFill>
            <a:srgbClr val="a9e32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56"/>
          <p:cNvSpPr/>
          <p:nvPr/>
        </p:nvSpPr>
        <p:spPr>
          <a:xfrm>
            <a:off x="2244600" y="625320"/>
            <a:ext cx="5434200" cy="54342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665" name="椭圆 53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2" descr=""/>
            <p:cNvPicPr/>
            <p:nvPr/>
          </p:nvPicPr>
          <p:blipFill>
            <a:blip r:embed="rId12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7" name="TextBox 39">
            <a:hlinkClick r:id="rId13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0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" dur="5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191 0.00123 L -0.12223 0.34074 E">
                                      <p:cBhvr>
                                        <p:cTn id="237" dur="5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4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4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017 0.00309 L -0.12222 0.34074 E">
                                      <p:cBhvr>
                                        <p:cTn id="250" dur="5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573 -0.00771 L -0.1224 0.34032 E">
                                      <p:cBhvr>
                                        <p:cTn id="256" dur="5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" dur="25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25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5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9" dur="25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25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25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2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25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25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25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5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7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304" dur="75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310" dur="5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椭圆 55"/>
          <p:cNvSpPr/>
          <p:nvPr/>
        </p:nvSpPr>
        <p:spPr>
          <a:xfrm>
            <a:off x="1609560" y="-44280"/>
            <a:ext cx="6775560" cy="6775200"/>
          </a:xfrm>
          <a:prstGeom prst="ellipse">
            <a:avLst/>
          </a:prstGeom>
          <a:solidFill>
            <a:srgbClr val="a9e32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椭圆 56"/>
          <p:cNvSpPr/>
          <p:nvPr/>
        </p:nvSpPr>
        <p:spPr>
          <a:xfrm>
            <a:off x="2244600" y="625320"/>
            <a:ext cx="5434200" cy="5434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4"/>
          <p:cNvGrpSpPr/>
          <p:nvPr/>
        </p:nvGrpSpPr>
        <p:grpSpPr>
          <a:xfrm>
            <a:off x="6165720" y="1189080"/>
            <a:ext cx="1314720" cy="1314360"/>
            <a:chOff x="6165720" y="1189080"/>
            <a:chExt cx="1314720" cy="1314360"/>
          </a:xfrm>
        </p:grpSpPr>
        <p:sp>
          <p:nvSpPr>
            <p:cNvPr id="672" name="椭圆 40"/>
            <p:cNvSpPr/>
            <p:nvPr/>
          </p:nvSpPr>
          <p:spPr>
            <a:xfrm>
              <a:off x="6165720" y="1189080"/>
              <a:ext cx="131472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Picture 2" descr="">
              <a:hlinkClick r:id="rId2" action="ppaction://hlinksldjump"/>
            </p:cNvPr>
            <p:cNvPicPr/>
            <p:nvPr/>
          </p:nvPicPr>
          <p:blipFill>
            <a:blip r:embed="rId3"/>
            <a:srcRect l="16931" t="25812" r="23984" b="3716"/>
            <a:stretch/>
          </p:blipFill>
          <p:spPr>
            <a:xfrm>
              <a:off x="6307560" y="133092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7"/>
          <p:cNvGrpSpPr/>
          <p:nvPr/>
        </p:nvGrpSpPr>
        <p:grpSpPr>
          <a:xfrm>
            <a:off x="3486240" y="1460520"/>
            <a:ext cx="2461320" cy="839160"/>
            <a:chOff x="3486240" y="1460520"/>
            <a:chExt cx="2461320" cy="839160"/>
          </a:xfrm>
        </p:grpSpPr>
        <p:sp>
          <p:nvSpPr>
            <p:cNvPr id="675" name="TextBox 60"/>
            <p:cNvSpPr/>
            <p:nvPr/>
          </p:nvSpPr>
          <p:spPr>
            <a:xfrm>
              <a:off x="3486240" y="1460520"/>
              <a:ext cx="2329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矩形 61"/>
            <p:cNvSpPr/>
            <p:nvPr/>
          </p:nvSpPr>
          <p:spPr>
            <a:xfrm>
              <a:off x="5334120" y="20232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矩形 62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">
            <a:hlinkClick r:id="rId4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3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椭圆 39"/>
          <p:cNvSpPr/>
          <p:nvPr/>
        </p:nvSpPr>
        <p:spPr>
          <a:xfrm>
            <a:off x="1684440" y="52560"/>
            <a:ext cx="6441840" cy="6441840"/>
          </a:xfrm>
          <a:prstGeom prst="ellipse">
            <a:avLst/>
          </a:prstGeom>
          <a:solidFill>
            <a:srgbClr val="32aed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椭圆 37"/>
          <p:cNvSpPr/>
          <p:nvPr/>
        </p:nvSpPr>
        <p:spPr>
          <a:xfrm>
            <a:off x="1792440" y="2211480"/>
            <a:ext cx="1846080" cy="1846080"/>
          </a:xfrm>
          <a:prstGeom prst="ellipse">
            <a:avLst/>
          </a:prstGeom>
          <a:solidFill>
            <a:srgbClr val="32aed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椭圆 6"/>
          <p:cNvSpPr/>
          <p:nvPr/>
        </p:nvSpPr>
        <p:spPr>
          <a:xfrm>
            <a:off x="1949400" y="2368440"/>
            <a:ext cx="1532160" cy="1532160"/>
          </a:xfrm>
          <a:prstGeom prst="ellipse">
            <a:avLst/>
          </a:prstGeom>
          <a:solidFill>
            <a:srgbClr val="32aed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684" name="Group 6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685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Box 10"/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10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689" name="Group 11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690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TextBox 15"/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15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694" name="Group 16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695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TextBox 20">
              <a:hlinkClick r:id="rId4" action="ppaction://hlinksldjump"/>
            </p:cNvPr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0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699" name="Group 21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700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TextBox 25">
              <a:hlinkClick r:id="rId6" action="ppaction://hlinksldjump"/>
            </p:cNvPr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25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704" name="Group 26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705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TextBox 45"/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Picture 2" descr=""/>
          <p:cNvPicPr/>
          <p:nvPr/>
        </p:nvPicPr>
        <p:blipFill>
          <a:blip r:embed="rId8"/>
          <a:srcRect l="16931" t="25812" r="23984" b="3716"/>
          <a:stretch/>
        </p:blipFill>
        <p:spPr>
          <a:xfrm>
            <a:off x="1963800" y="2382840"/>
            <a:ext cx="1503360" cy="15033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31"/>
          <p:cNvGrpSpPr/>
          <p:nvPr/>
        </p:nvGrpSpPr>
        <p:grpSpPr>
          <a:xfrm>
            <a:off x="2151000" y="2570040"/>
            <a:ext cx="1128600" cy="1128960"/>
            <a:chOff x="2151000" y="2570040"/>
            <a:chExt cx="1128600" cy="1128960"/>
          </a:xfrm>
        </p:grpSpPr>
        <p:sp>
          <p:nvSpPr>
            <p:cNvPr id="710" name="椭圆 7"/>
            <p:cNvSpPr/>
            <p:nvPr/>
          </p:nvSpPr>
          <p:spPr>
            <a:xfrm>
              <a:off x="2151000" y="2570040"/>
              <a:ext cx="1128600" cy="11289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Box 5">
              <a:hlinkClick r:id="rId10" action="ppaction://hlinksldjump"/>
            </p:cNvPr>
            <p:cNvSpPr/>
            <p:nvPr/>
          </p:nvSpPr>
          <p:spPr>
            <a:xfrm>
              <a:off x="2220480" y="2934360"/>
              <a:ext cx="98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椭圆 38"/>
          <p:cNvSpPr/>
          <p:nvPr/>
        </p:nvSpPr>
        <p:spPr>
          <a:xfrm>
            <a:off x="2052720" y="501480"/>
            <a:ext cx="5684760" cy="568332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714" name="椭圆 34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5" name="Picture 2" descr=""/>
            <p:cNvPicPr/>
            <p:nvPr/>
          </p:nvPicPr>
          <p:blipFill>
            <a:blip r:embed="rId12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TextBox 40">
            <a:hlinkClick r:id="rId13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75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327" dur="75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4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4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35 -0.00031 L 0.2382 0.04012 E">
                                      <p:cBhvr>
                                        <p:cTn id="336" dur="5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349" dur="500" fill="hold"/>
                                        <p:tgtEl>
                                          <p:spTgt spid="7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35 -0.00031 L 0.2382 0.04012 E">
                                      <p:cBhvr>
                                        <p:cTn id="351" dur="5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364" dur="500" fill="hold"/>
                                        <p:tgtEl>
                                          <p:spTgt spid="6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35 -0.00031 L 0.23837 0.04043 E">
                                      <p:cBhvr>
                                        <p:cTn id="366" dur="5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" dur="25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25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25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25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" dur="25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25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3" dur="25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25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5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25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25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15" dur="500" fill="hold"/>
                                        <p:tgtEl>
                                          <p:spTgt spid="6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椭圆 3"/>
          <p:cNvSpPr/>
          <p:nvPr/>
        </p:nvSpPr>
        <p:spPr>
          <a:xfrm>
            <a:off x="1530360" y="-100080"/>
            <a:ext cx="6750000" cy="6750000"/>
          </a:xfrm>
          <a:prstGeom prst="ellipse">
            <a:avLst/>
          </a:prstGeom>
          <a:solidFill>
            <a:srgbClr val="32aed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椭圆 4"/>
          <p:cNvSpPr/>
          <p:nvPr/>
        </p:nvSpPr>
        <p:spPr>
          <a:xfrm>
            <a:off x="2052720" y="501480"/>
            <a:ext cx="5684760" cy="5683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4"/>
          <p:cNvGrpSpPr/>
          <p:nvPr/>
        </p:nvGrpSpPr>
        <p:grpSpPr>
          <a:xfrm>
            <a:off x="6164280" y="1187280"/>
            <a:ext cx="1314360" cy="1314720"/>
            <a:chOff x="6164280" y="1187280"/>
            <a:chExt cx="1314360" cy="1314720"/>
          </a:xfrm>
        </p:grpSpPr>
        <p:sp>
          <p:nvSpPr>
            <p:cNvPr id="721" name="椭圆 9"/>
            <p:cNvSpPr/>
            <p:nvPr/>
          </p:nvSpPr>
          <p:spPr>
            <a:xfrm>
              <a:off x="6164280" y="1187280"/>
              <a:ext cx="1314360" cy="131472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2" name="Picture 2" descr="">
              <a:hlinkClick r:id="rId2" action="ppaction://hlinksldjump"/>
            </p:cNvPr>
            <p:cNvPicPr/>
            <p:nvPr/>
          </p:nvPicPr>
          <p:blipFill>
            <a:blip r:embed="rId3"/>
            <a:srcRect l="16931" t="25812" r="23984" b="3716"/>
            <a:stretch/>
          </p:blipFill>
          <p:spPr>
            <a:xfrm>
              <a:off x="6306120" y="132912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Group 7"/>
          <p:cNvGrpSpPr/>
          <p:nvPr/>
        </p:nvGrpSpPr>
        <p:grpSpPr>
          <a:xfrm>
            <a:off x="3581280" y="1425600"/>
            <a:ext cx="2405520" cy="839160"/>
            <a:chOff x="3581280" y="1425600"/>
            <a:chExt cx="2405520" cy="839160"/>
          </a:xfrm>
        </p:grpSpPr>
        <p:sp>
          <p:nvSpPr>
            <p:cNvPr id="724" name="TextBox 12"/>
            <p:cNvSpPr/>
            <p:nvPr/>
          </p:nvSpPr>
          <p:spPr>
            <a:xfrm>
              <a:off x="3581280" y="1425600"/>
              <a:ext cx="233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矩形 13"/>
            <p:cNvSpPr/>
            <p:nvPr/>
          </p:nvSpPr>
          <p:spPr>
            <a:xfrm>
              <a:off x="5373360" y="19882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矩形 14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5">
            <a:hlinkClick r:id="rId4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6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椭圆 55"/>
          <p:cNvSpPr/>
          <p:nvPr/>
        </p:nvSpPr>
        <p:spPr>
          <a:xfrm>
            <a:off x="3506760" y="1552680"/>
            <a:ext cx="1717560" cy="1717560"/>
          </a:xfrm>
          <a:prstGeom prst="ellipse">
            <a:avLst/>
          </a:prstGeom>
          <a:solidFill>
            <a:srgbClr val="ff96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3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sp>
          <p:nvSpPr>
            <p:cNvPr id="731" name="椭圆 6"/>
            <p:cNvSpPr/>
            <p:nvPr/>
          </p:nvSpPr>
          <p:spPr>
            <a:xfrm>
              <a:off x="1949400" y="2368440"/>
              <a:ext cx="1532160" cy="1532160"/>
            </a:xfrm>
            <a:prstGeom prst="ellipse">
              <a:avLst/>
            </a:prstGeom>
            <a:solidFill>
              <a:srgbClr val="32aed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Group 5"/>
            <p:cNvGrpSpPr/>
            <p:nvPr/>
          </p:nvGrpSpPr>
          <p:grpSpPr>
            <a:xfrm>
              <a:off x="2150280" y="2569320"/>
              <a:ext cx="1130400" cy="1130400"/>
              <a:chOff x="2150280" y="2569320"/>
              <a:chExt cx="1130400" cy="1130400"/>
            </a:xfrm>
          </p:grpSpPr>
          <p:sp>
            <p:nvSpPr>
              <p:cNvPr id="733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Box 5">
                <a:hlinkClick r:id="rId2" action="ppaction://hlinksldjump"/>
              </p:cNvPr>
              <p:cNvSpPr/>
              <p:nvPr/>
            </p:nvSpPr>
            <p:spPr>
              <a:xfrm>
                <a:off x="2219760" y="2934360"/>
                <a:ext cx="99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TEXT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5" name="椭圆 11"/>
          <p:cNvSpPr/>
          <p:nvPr/>
        </p:nvSpPr>
        <p:spPr>
          <a:xfrm>
            <a:off x="3665520" y="1712880"/>
            <a:ext cx="1400040" cy="1398600"/>
          </a:xfrm>
          <a:prstGeom prst="ellipse">
            <a:avLst/>
          </a:prstGeom>
          <a:solidFill>
            <a:srgbClr val="ff96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737" name="Group 10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738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TextBox 15"/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14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742" name="Group 15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743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TextBox 20">
              <a:hlinkClick r:id="rId5" action="ppaction://hlinksldjump"/>
            </p:cNvPr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19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747" name="Group 20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748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TextBox 25">
              <a:hlinkClick r:id="rId7" action="ppaction://hlinksldjump"/>
            </p:cNvPr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24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752" name="Group 25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753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Box 45"/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6" name="Picture 2" descr=""/>
          <p:cNvPicPr/>
          <p:nvPr/>
        </p:nvPicPr>
        <p:blipFill>
          <a:blip r:embed="rId9"/>
          <a:srcRect l="16931" t="25812" r="23984" b="3716"/>
          <a:stretch/>
        </p:blipFill>
        <p:spPr>
          <a:xfrm>
            <a:off x="3673440" y="1720800"/>
            <a:ext cx="1384200" cy="1384200"/>
          </a:xfrm>
          <a:prstGeom prst="rect">
            <a:avLst/>
          </a:prstGeom>
          <a:ln w="0">
            <a:noFill/>
          </a:ln>
        </p:spPr>
      </p:pic>
      <p:grpSp>
        <p:nvGrpSpPr>
          <p:cNvPr id="757" name="Group 30"/>
          <p:cNvGrpSpPr/>
          <p:nvPr/>
        </p:nvGrpSpPr>
        <p:grpSpPr>
          <a:xfrm>
            <a:off x="3825720" y="1871640"/>
            <a:ext cx="1079640" cy="1081080"/>
            <a:chOff x="3825720" y="1871640"/>
            <a:chExt cx="1079640" cy="1081080"/>
          </a:xfrm>
        </p:grpSpPr>
        <p:sp>
          <p:nvSpPr>
            <p:cNvPr id="758" name="椭圆 12"/>
            <p:cNvSpPr/>
            <p:nvPr/>
          </p:nvSpPr>
          <p:spPr>
            <a:xfrm>
              <a:off x="3825720" y="1871640"/>
              <a:ext cx="1079640" cy="108108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Box 10"/>
            <p:cNvSpPr/>
            <p:nvPr/>
          </p:nvSpPr>
          <p:spPr>
            <a:xfrm>
              <a:off x="3870720" y="2227320"/>
              <a:ext cx="9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椭圆 56"/>
          <p:cNvSpPr/>
          <p:nvPr/>
        </p:nvSpPr>
        <p:spPr>
          <a:xfrm>
            <a:off x="1758960" y="193680"/>
            <a:ext cx="6264360" cy="6265800"/>
          </a:xfrm>
          <a:prstGeom prst="ellipse">
            <a:avLst/>
          </a:prstGeom>
          <a:solidFill>
            <a:srgbClr val="ff96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57"/>
          <p:cNvSpPr/>
          <p:nvPr/>
        </p:nvSpPr>
        <p:spPr>
          <a:xfrm>
            <a:off x="2313000" y="765000"/>
            <a:ext cx="5156280" cy="51562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763" name="椭圆 52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4" name="Picture 2" descr=""/>
            <p:cNvPicPr/>
            <p:nvPr/>
          </p:nvPicPr>
          <p:blipFill>
            <a:blip r:embed="rId12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TextBox 39">
            <a:hlinkClick r:id="rId13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40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487440" y="4500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40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" dur="4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87 -0.00061 L 0.05782 0.18087 E">
                                      <p:cBhvr>
                                        <p:cTn id="428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75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75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5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441" dur="75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50" dur="5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17 -0.01142 L 0.05781 0.18086 E">
                                      <p:cBhvr>
                                        <p:cTn id="452" dur="5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65" dur="500" fill="hold"/>
                                        <p:tgtEl>
                                          <p:spTgt spid="7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243 0.00309 L 0.05781 0.18086 E">
                                      <p:cBhvr>
                                        <p:cTn id="467" dur="5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81" dur="500" fill="hold"/>
                                        <p:tgtEl>
                                          <p:spTgt spid="7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25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25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25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5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7" dur="2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25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4" dur="25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25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5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25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5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9:15:00Z</dcterms:created>
  <dc:creator>www.pptbz.com</dc:creator>
  <dc:description/>
  <dc:language>en-US</dc:language>
  <cp:lastModifiedBy>王玉清</cp:lastModifiedBy>
  <cp:lastPrinted>1899-12-30T00:00:00Z</cp:lastPrinted>
  <dcterms:modified xsi:type="dcterms:W3CDTF">2016-03-06T03:37:48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